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45A5-56DC-4E08-9C57-870DB3621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5D1D-F234-448E-91B0-E3542239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6476-D2AA-407E-9B52-C26EE9D3E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AC0D-5E40-490B-8133-CA5786C57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37A6-AD61-4AB8-9D1A-A8144A53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4A11-999A-4D13-8749-72EF08F5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66C5-8018-4932-A21E-972E6937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7329-DAED-4487-9C9B-5206CE2E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473C-9B74-46D1-B940-EB28C19A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57E5-052B-4B7A-BB25-8451705D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45EA-B024-4771-8E42-9089AE95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4713-3ECF-4027-A2F8-4D69A6D7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2DAA-94B3-4F28-8B92-5D2A5ED55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81080" y="304920"/>
            <a:ext cx="4724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dina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10332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4T02:59:08Z</dcterms:created>
  <dc:creator>GROTRNRM3</dc:creator>
  <dc:description/>
  <dc:language>en-US</dc:language>
  <cp:lastModifiedBy>GROTRNRM3</cp:lastModifiedBy>
  <dcterms:modified xsi:type="dcterms:W3CDTF">2004-04-24T02:59:23Z</dcterms:modified>
  <cp:revision>1</cp:revision>
  <dc:subject/>
  <dc:title>Ordinal Numbers</dc:title>
</cp:coreProperties>
</file>