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9B5-4065-493A-81A8-E9ED8B0D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6B3-D09E-4F6F-8D07-4E46E9C7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E6E-EE78-4547-A2C6-4F3A481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ACA-4B3A-48E7-B8DF-94778C1D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0A3-2B53-457A-93CB-7900E6E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765-9845-456F-AAC2-2C0AE881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73A-E02D-4A85-95C5-46045344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115-4055-4A42-A717-EAD02B3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2DD-BA4E-445E-AB29-A4F07C11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CB3-A763-4FE2-9B0F-5BD29B6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BDF-86FD-4187-B559-065E07BE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57D-E85E-4423-AE78-26DDB70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03A9-9E0B-4701-A347-91320FC2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002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6002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16002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6002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6002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1148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1148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114800"/>
            <a:ext cx="1447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11480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4305240" y="-2476080"/>
            <a:ext cx="609840" cy="7238880"/>
          </a:xfrm>
          <a:custGeom>
            <a:avLst/>
            <a:gdLst>
              <a:gd name="textAreaLeft" fmla="*/ 0 w 609840"/>
              <a:gd name="textAreaRight" fmla="*/ 220320 w 60984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80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 dinosa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581280" y="762120"/>
            <a:ext cx="609840" cy="5790960"/>
          </a:xfrm>
          <a:custGeom>
            <a:avLst/>
            <a:gdLst>
              <a:gd name="textAreaLeft" fmla="*/ 0 w 609840"/>
              <a:gd name="textAreaRight" fmla="*/ 220320 w 60984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895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 dinosa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3:34:32Z</dcterms:created>
  <dc:creator>GROTRNRM3</dc:creator>
  <dc:description/>
  <dc:language>en-US</dc:language>
  <cp:lastModifiedBy>GROTRNRM3</cp:lastModifiedBy>
  <dcterms:modified xsi:type="dcterms:W3CDTF">2004-04-24T03:37:06Z</dcterms:modified>
  <cp:revision>1</cp:revision>
  <dc:subject/>
  <dc:title>Slide 1</dc:title>
</cp:coreProperties>
</file>