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8299-3BA8-45BD-AA43-6291E3BE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C19-BE89-4084-90F9-14E05C8E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E66-4772-4120-A044-3CB62D11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5B1-F260-4B07-962E-61752FD7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B06-6ECF-4FC8-8B6D-9CEAE5CC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138-0005-46DB-B195-BF0D9F83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80A-FF4A-4DA9-8A87-EB0352EE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E6C-871F-43D6-AA72-78FFC9FF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3C76-04C1-4CC1-B7E3-8B681A3C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D03C-0665-4AF2-935D-163919FA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771-1B65-49E7-9D96-1018673F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B21-6915-48C9-829D-65843D1C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F73D-25AF-49CB-9B5C-6B5B05462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1171440" cy="1886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38280" y="609480"/>
            <a:ext cx="1171800" cy="1886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114800" y="609480"/>
            <a:ext cx="1171440" cy="1886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715000" y="609480"/>
            <a:ext cx="1171440" cy="1886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238880" y="609480"/>
            <a:ext cx="1171800" cy="1886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350532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5 dinosaurs at the park. 1 dinosaur went    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many </a:t>
            </a:r>
            <a:r>
              <a:rPr b="0" lang="en-GB" sz="2400" spc="-1" strike="noStrike" u="sng">
                <a:solidFill>
                  <a:srgbClr val="006666"/>
                </a:solidFill>
                <a:uFillTx/>
                <a:latin typeface="Comic Sans MS"/>
              </a:rPr>
              <a:t>dinosaur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ef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2743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743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2743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2743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52578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 – 1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5257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5715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swer: 4 </a:t>
            </a:r>
            <a:r>
              <a:rPr b="0" lang="en-GB" sz="2400" spc="-1" strike="noStrike" u="sng">
                <a:solidFill>
                  <a:srgbClr val="006666"/>
                </a:solidFill>
                <a:uFillTx/>
                <a:latin typeface="Comic Sans MS"/>
              </a:rPr>
              <a:t>dinosa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03:15:14Z</dcterms:created>
  <dc:creator>GROTRNRM3</dc:creator>
  <dc:description/>
  <dc:language>en-US</dc:language>
  <cp:lastModifiedBy>GROTRNRM3</cp:lastModifiedBy>
  <dcterms:modified xsi:type="dcterms:W3CDTF">2004-04-24T03:37:24Z</dcterms:modified>
  <cp:revision>2</cp:revision>
  <dc:subject/>
  <dc:title>Slide 1</dc:title>
</cp:coreProperties>
</file>