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905-B210-4893-B165-B4334681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E40-9349-40A2-A662-B69AC9F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189-7D3D-4250-9FB2-3BC40EA7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484-444B-4802-B4B6-F33A99AC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2DF-DEE3-4CA2-B264-D781B546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7E9-E62B-42B1-BAAD-99F60CA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34F-B6B8-4803-A127-E721461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0CA-8E48-4DAE-866E-D517359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76F-D70F-4846-97EB-42C7A5D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495-191E-4664-B147-D1AE274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AD0-D9AA-4196-9C4F-D1CEB26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288-8209-4228-A8E8-EA1FB05D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9D3-2F7A-4678-9E88-42EC32A6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905120"/>
            <a:ext cx="434340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87720" y="20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6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6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3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451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1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51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9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3809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206960" y="2285640"/>
            <a:ext cx="31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57080" y="3854520"/>
            <a:ext cx="762120" cy="1251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6905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26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6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462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6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6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766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371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3:08:21Z</dcterms:created>
  <dc:creator>GROTRNRM3</dc:creator>
  <dc:description/>
  <dc:language>en-US</dc:language>
  <cp:lastModifiedBy>GROTRNRM3</cp:lastModifiedBy>
  <dcterms:modified xsi:type="dcterms:W3CDTF">2004-04-24T03:15:04Z</dcterms:modified>
  <cp:revision>2</cp:revision>
  <dc:subject/>
  <dc:title>Slide 1</dc:title>
</cp:coreProperties>
</file>