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E81-880D-4077-A1EB-9CC1538F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700-B46F-4F95-AD40-8834ECFB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B46-39AA-4250-AC55-80141044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FC5-ECB9-47CE-9282-751A2347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398-D874-494F-AD44-5B063685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F55-ADAC-4593-9C47-93159880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F3C-8ACF-4C08-89A7-7A1F16D4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DF2-0D86-4A2E-BF88-A81DF2A7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903-BB19-40A8-B167-728B9FA5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356-25B0-4C01-8E9C-A81A145B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ED7-C67D-4E70-89D9-E2AE3E95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61D-B885-4197-9870-E8A0C6C9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B724-FBE4-4315-B2F7-C3E2AE53A9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333360"/>
            <a:ext cx="424944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تداخل الضو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628640"/>
            <a:ext cx="8136000" cy="374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تداخل الضو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ظاهرة التداخل في الضوء من الظواهر التي لا يمكن تفسيرها بالنظر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تجسيمية لنيوتن مثلها مثل ظاهرتي الحيود والاستقطا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وعند دراسة التداخل أثبت فرينل الطبيعة الموجية للضو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وبرهن أن الشعاع الضوئي عبارة عن موجات عرض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8560" y="0"/>
            <a:ext cx="7345440" cy="44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لا يحدث التداخل الا مع الموجات المتوافقة زمنيا وأظهرت التجارب أ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شعاع الصادر من مصدرين مختلفين للضو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لا يعطي تداخلا حتى اذا كان المصدران متطابقي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ومن هنا نجد أن الاشعة لا تكون متوافقة زمني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ا اذا كانت صادرة من نفس المصد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ولكي نحصل على تداخل في الضوء يجب أن تكون الأش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آتية من مصدر ضوء واحد وفي اتجاه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مختلفين بعضها على البعض الآخر بواسطة جهاز ضوئي خا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24360" y="3645000"/>
            <a:ext cx="611964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0000"/>
                </a:solidFill>
                <a:latin typeface="Arial"/>
              </a:rPr>
              <a:t>تكون صورة التداخل على الشاشة أكثر وضوح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0000"/>
                </a:solidFill>
                <a:latin typeface="Arial"/>
              </a:rPr>
              <a:t>عندما يصدر المصدر الضوئي اشعاعا وحيد اللو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5157720"/>
            <a:ext cx="6912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0000"/>
                </a:solidFill>
                <a:latin typeface="Arial"/>
              </a:rPr>
              <a:t>ويمكننا الحصول على هذا الشعاع بواسطة مرشحات ضو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0000"/>
                </a:solidFill>
                <a:latin typeface="Arial"/>
              </a:rPr>
              <a:t>المرشحات ضوئي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0000"/>
                </a:solidFill>
                <a:latin typeface="Arial"/>
              </a:rPr>
              <a:t>ـ زجاجات خاصة تسمج بمرور ضوء بلون واحد أي بتردد واحد وطول موجي معي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341360"/>
            <a:ext cx="889308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اذا كان المصدر الضوئي على شكل شق ضيق مضيء وفي مستوى عمودي نشاه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كما في البريمج التالي على الشاشة أشرطة مضيئة ومعتمة بالتناو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بحيث يكون مقابل مصدر الضوء في النقطة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هدب مضيء وتعليل ذلك أنه في هذا الموضع من الشا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تتراكب أشعة متوافقة وفرق الطور بينها صفرا وكلما ابتعدنا عن الهدب المضيء المركزي يزداد فرق المس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بين الموجتين وعندما يبلغ هذا الفرق نصف الطول الموجي يتكون على جانبي الهدب المركزي هدبي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معتمين وعندما يبلغ فرق المسير الطول الموجي يتك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هدبين مضيئين وهكذا وينتج عن هذا أن تكون الصورة على الشاشة كما تظهر في البريم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عبارة عن هدب مضيئة ومعتمة متناوبة يمكن اعتبار المسافة بينها واحدة بصورة تقريب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796000" y="260280"/>
            <a:ext cx="3348000" cy="659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0"/>
            <a:ext cx="2340000" cy="83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0000"/>
                </a:solidFill>
                <a:latin typeface="Arial"/>
              </a:rPr>
              <a:t>ملاحظات هام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265400"/>
            <a:ext cx="8820000" cy="12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المسافة بين هدبين مضيئين أو معتمين متجاورين في حالة تثبيت الجهاز تعتمد على الطول الموجي ـ لامدا 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421000"/>
            <a:ext cx="8424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702440" y="2113200"/>
            <a:ext cx="129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0000"/>
                </a:solidFill>
                <a:latin typeface="Arial"/>
              </a:rPr>
              <a:t>كلما كان الطول الموجي صغيرا كلما كان تغير الفرق في مسير الأشعة بطول موجة كام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على مسافة أصغر على سطح الشاش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WebBrowser1"/>
          <p:cNvGraphicFramePr/>
          <p:nvPr/>
        </p:nvGraphicFramePr>
        <p:xfrm>
          <a:off x="1763640" y="0"/>
          <a:ext cx="7380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WebBrows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0"/>
                    <a:ext cx="7380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0" y="260280"/>
            <a:ext cx="4140360" cy="619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205000"/>
            <a:ext cx="133200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1979640" cy="595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123480"/>
            <a:ext cx="13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في حال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ستعما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ضوء أبي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يتكو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عند النقطة صف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97360"/>
            <a:ext cx="503280" cy="35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07080"/>
            <a:ext cx="97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هدب أبي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وعلى جانبي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هدب ملون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بجمي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ألو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قوس قز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476280"/>
            <a:ext cx="8064720" cy="59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1159200"/>
            <a:ext cx="777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بمعنى أن كل الألوان التي يتكون منها اللون الأب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تظهر وهي ألو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الطيف السبعة التي نجمعها في كلمت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يمثل الحرف منها الحرف الثاني من اسم اللون وهي حرص خز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ــ أحمر برتقالي أصفر أخضر سماوي أزرق بنفسج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أو كما نقول في مصر أحمر برتقالي أصفر أخضر أزرق نيلي بنفسج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3:08:29Z</dcterms:created>
  <dc:creator>h</dc:creator>
  <dc:description/>
  <dc:language>en-US</dc:language>
  <cp:lastModifiedBy>h</cp:lastModifiedBy>
  <dcterms:modified xsi:type="dcterms:W3CDTF">2005-06-26T14:46:26Z</dcterms:modified>
  <cp:revision>19</cp:revision>
  <dc:subject/>
  <dc:title>الشريحة 1</dc:title>
</cp:coreProperties>
</file>