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3CF0-6668-40ED-8745-4A631EE0E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1280" y="4376520"/>
            <a:ext cx="84139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E0D2-5C7D-4104-B91D-B84665B8C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41058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2640" y="2095200"/>
            <a:ext cx="41058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1280" y="4376520"/>
            <a:ext cx="41058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2640" y="4376520"/>
            <a:ext cx="41058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20D5-0011-423C-87AA-216DBB5B5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27090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6000" y="2095200"/>
            <a:ext cx="27090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1080" y="2095200"/>
            <a:ext cx="27090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1280" y="4376520"/>
            <a:ext cx="27090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6000" y="4376520"/>
            <a:ext cx="27090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1080" y="4376520"/>
            <a:ext cx="27090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61FBE-8310-423D-A6C5-7304B5C4F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2cb"/>
              </a:solidFill>
              <a:latin typeface="VonnesTTBookC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410580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2640" y="2095200"/>
            <a:ext cx="410580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8600" y="1101600"/>
            <a:ext cx="8425080" cy="3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2cb"/>
              </a:solidFill>
              <a:latin typeface="VonnesTTBookC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41058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2640" y="2095200"/>
            <a:ext cx="410580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41280" y="4376520"/>
            <a:ext cx="41058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2cb"/>
              </a:solidFill>
              <a:latin typeface="VonnesTTBook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513ED-31A3-42EE-80CC-48DA498A8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410580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2640" y="2095200"/>
            <a:ext cx="41058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52640" y="4376520"/>
            <a:ext cx="41058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41058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2640" y="2095200"/>
            <a:ext cx="41058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1280" y="4376520"/>
            <a:ext cx="84139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1280" y="4376520"/>
            <a:ext cx="84139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41058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2640" y="2095200"/>
            <a:ext cx="41058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1280" y="4376520"/>
            <a:ext cx="41058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52640" y="4376520"/>
            <a:ext cx="41058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27090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6000" y="2095200"/>
            <a:ext cx="27090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31080" y="2095200"/>
            <a:ext cx="27090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41280" y="4376520"/>
            <a:ext cx="27090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6000" y="4376520"/>
            <a:ext cx="27090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31080" y="4376520"/>
            <a:ext cx="27090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5F30-F443-4569-89E2-8711109F9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410580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2640" y="2095200"/>
            <a:ext cx="410580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3583-F407-42C0-AF42-4A8903DB1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8799-6F82-4357-B62B-BBEC6BED5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8600" y="1101600"/>
            <a:ext cx="8425080" cy="3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2cb"/>
              </a:solidFill>
              <a:latin typeface="VonnesTTBook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71C7B-4A2C-4795-9CEE-39BF74B11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41058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2640" y="2095200"/>
            <a:ext cx="410580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1280" y="4376520"/>
            <a:ext cx="41058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497C-216F-43F1-B1B2-CC2A93C1E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410580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2640" y="2095200"/>
            <a:ext cx="41058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2640" y="4376520"/>
            <a:ext cx="41058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0765-2973-495D-8138-DA79579E0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41058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2640" y="2095200"/>
            <a:ext cx="41058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1280" y="4376520"/>
            <a:ext cx="84139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E809-CE7A-4209-8BAA-DE84C4CBF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63880" indent="-26388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1" marL="581400" indent="-21060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2" marL="1012680" indent="-21096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3" marL="2076840" indent="-212400">
              <a:lnSpc>
                <a:spcPct val="85000"/>
              </a:lnSpc>
              <a:spcBef>
                <a:spcPts val="2438"/>
              </a:spcBef>
              <a:buClr>
                <a:srgbClr val="155ba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4" marL="2396160" indent="-212400">
              <a:lnSpc>
                <a:spcPct val="85000"/>
              </a:lnSpc>
              <a:spcBef>
                <a:spcPts val="2438"/>
              </a:spcBef>
              <a:buClr>
                <a:srgbClr val="155ba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5" marL="2396160" indent="-212400">
              <a:lnSpc>
                <a:spcPct val="85000"/>
              </a:lnSpc>
              <a:spcBef>
                <a:spcPts val="2438"/>
              </a:spcBef>
              <a:buClr>
                <a:srgbClr val="474a55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6" marL="2396160" indent="-212400">
              <a:lnSpc>
                <a:spcPct val="85000"/>
              </a:lnSpc>
              <a:spcBef>
                <a:spcPts val="2438"/>
              </a:spcBef>
              <a:buClr>
                <a:srgbClr val="474a55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39000" y="6570360"/>
            <a:ext cx="401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d728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D870-3FF8-4BE5-9FB1-815C71309BA8}" type="slidenum">
              <a:rPr b="0" lang="en-US" sz="1200" spc="-1" strike="noStrike">
                <a:solidFill>
                  <a:srgbClr val="6d7283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6d728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66"/>
                </a:solidFill>
                <a:latin typeface="VonnesTTBold"/>
              </a:rPr>
              <a:t>Click to edit the title text format</a:t>
            </a:r>
            <a:endParaRPr b="1" lang="en-US" sz="3900" spc="-1" strike="noStrike">
              <a:solidFill>
                <a:srgbClr val="003366"/>
              </a:solidFill>
              <a:latin typeface="VonnesTT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2cb"/>
                </a:solidFill>
                <a:latin typeface="VonnesTTBookCond"/>
              </a:rPr>
              <a:t>Click to edit the outline text format</a:t>
            </a:r>
            <a:endParaRPr b="0" lang="en-US" sz="2800" spc="-1" strike="noStrike">
              <a:solidFill>
                <a:srgbClr val="c1c2cb"/>
              </a:solidFill>
              <a:latin typeface="VonnesTTBookCond"/>
            </a:endParaRPr>
          </a:p>
          <a:p>
            <a:pPr lvl="1" marL="398520" indent="0" algn="ctr">
              <a:lnSpc>
                <a:spcPct val="85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2" marL="861840" algn="ctr">
              <a:lnSpc>
                <a:spcPct val="85000"/>
              </a:lnSpc>
              <a:spcBef>
                <a:spcPts val="1001"/>
              </a:spcBef>
              <a:buClr>
                <a:srgbClr val="0066cc"/>
              </a:buClr>
              <a:buFont typeface="courier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0434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40434c"/>
              </a:solidFill>
              <a:latin typeface="Arial"/>
            </a:endParaRPr>
          </a:p>
          <a:p>
            <a:pPr lvl="3" marL="1371600" indent="633240" algn="ctr">
              <a:lnSpc>
                <a:spcPct val="85000"/>
              </a:lnSpc>
              <a:spcBef>
                <a:spcPts val="1624"/>
              </a:spcBef>
              <a:buClr>
                <a:srgbClr val="155ba1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a5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74a55"/>
              </a:solidFill>
              <a:latin typeface="Arial"/>
            </a:endParaRPr>
          </a:p>
          <a:p>
            <a:pPr lvl="4" marL="1828800" indent="519120" algn="ctr">
              <a:lnSpc>
                <a:spcPct val="85000"/>
              </a:lnSpc>
              <a:spcBef>
                <a:spcPts val="1624"/>
              </a:spcBef>
              <a:buClr>
                <a:srgbClr val="155ba1"/>
              </a:buClr>
              <a:buSzPct val="8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a5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74a55"/>
              </a:solidFill>
              <a:latin typeface="Arial"/>
            </a:endParaRPr>
          </a:p>
          <a:p>
            <a:pPr lvl="5" marL="1828800" indent="519120">
              <a:spcBef>
                <a:spcPts val="499"/>
              </a:spcBef>
              <a:buClr>
                <a:srgbClr val="474a55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a5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74a55"/>
              </a:solidFill>
              <a:latin typeface="Arial"/>
            </a:endParaRPr>
          </a:p>
          <a:p>
            <a:pPr lvl="6" marL="1828800" indent="519120">
              <a:spcBef>
                <a:spcPts val="499"/>
              </a:spcBef>
              <a:buClr>
                <a:srgbClr val="474a55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a5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74a5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840" y="753840"/>
            <a:ext cx="781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XML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Path, XSLT, and Beyond</a:t>
            </a:r>
            <a:endParaRPr b="1" lang="en-US" sz="2800" spc="-1" strike="noStrike">
              <a:solidFill>
                <a:srgbClr val="003366"/>
              </a:solidFill>
              <a:latin typeface="VonnesTT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26880" y="2057040"/>
            <a:ext cx="721224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Nate Weiss</a:t>
            </a:r>
            <a:endParaRPr b="0" lang="en-US" sz="2400" spc="-1" strike="noStrike">
              <a:solidFill>
                <a:srgbClr val="c1c2cb"/>
              </a:solidFill>
              <a:latin typeface="VonnesTTBookCond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October 27 - 30, 2002</a:t>
            </a:r>
            <a:endParaRPr b="0" lang="en-US" sz="2400" spc="-1" strike="noStrike">
              <a:solidFill>
                <a:srgbClr val="c1c2cb"/>
              </a:solidFill>
              <a:latin typeface="VonnesTTBookCond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Specifying Elements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/company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/company/location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/company/location/employees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/company/location/employees/person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//person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//employees/person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781680" y="6172200"/>
            <a:ext cx="2103840" cy="459720"/>
            <a:chOff x="6781680" y="6172200"/>
            <a:chExt cx="2103840" cy="459720"/>
          </a:xfrm>
        </p:grpSpPr>
        <p:sp>
          <p:nvSpPr>
            <p:cNvPr id="100" name="Document"/>
            <p:cNvSpPr/>
            <p:nvPr/>
          </p:nvSpPr>
          <p:spPr>
            <a:xfrm>
              <a:off x="6781680" y="6172200"/>
              <a:ext cx="304920" cy="457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74a55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87680" y="6172200"/>
              <a:ext cx="17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74a55"/>
                  </a:solidFill>
                  <a:latin typeface="Times New Roman"/>
                </a:rPr>
                <a:t>company.xml</a:t>
              </a:r>
              <a:endParaRPr b="0" lang="en-US" sz="2400" spc="-1" strike="noStrike">
                <a:solidFill>
                  <a:srgbClr val="474a55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4F87-1550-4AEC-BF05-5B647CF370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Specifying Attributes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Square bracket notation (“predicate”)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Refer to attributes using @ in predicate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/company/location[@name='Newton']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//location[@name='Newton']/employees/person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4D45-BC97-4E62-A1DF-23C913F9FC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Do it with XmlSearch()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Two arguments: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XML Document Object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XPath expression (your criteria)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Returns array of XML Element objects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Would be called a “node-set” in other languages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D839-8A24-40D8-B89B-F5B2C33CD6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XmlSearch() Usage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9800" y="1946160"/>
            <a:ext cx="7772400" cy="4114800"/>
          </a:xfrm>
          <a:prstGeom prst="rect">
            <a:avLst/>
          </a:prstGeom>
          <a:noFill/>
          <a:ln w="12600">
            <a:solidFill>
              <a:srgbClr val="286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22716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&lt;!--- Parse XML into an XML "Object" ---&gt;</a:t>
            </a:r>
            <a:endParaRPr b="0" lang="en-US" sz="1700" spc="-1" strike="noStrike">
              <a:solidFill>
                <a:srgbClr val="474a55"/>
              </a:solidFill>
              <a:latin typeface="Times New Roman"/>
            </a:endParaRPr>
          </a:p>
          <a:p>
            <a:pPr marL="343080" indent="-22716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&lt;CFSET MyXml = XmlParse(MyXmlCode)&gt;</a:t>
            </a:r>
            <a:endParaRPr b="0" lang="en-US" sz="1700" spc="-1" strike="noStrike">
              <a:solidFill>
                <a:srgbClr val="474a55"/>
              </a:solidFill>
              <a:latin typeface="Times New Roman"/>
            </a:endParaRPr>
          </a:p>
          <a:p>
            <a:pPr marL="343080" indent="-22716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74a55"/>
              </a:solidFill>
              <a:latin typeface="Times New Roman"/>
            </a:endParaRPr>
          </a:p>
          <a:p>
            <a:pPr marL="343080" indent="-22716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&lt;!--- Conduct an XPath search for &lt;person&gt; elements ---&gt;</a:t>
            </a:r>
            <a:endParaRPr b="0" lang="en-US" sz="1700" spc="-1" strike="noStrike">
              <a:solidFill>
                <a:srgbClr val="474a55"/>
              </a:solidFill>
              <a:latin typeface="Times New Roman"/>
            </a:endParaRPr>
          </a:p>
          <a:p>
            <a:pPr marL="343080" indent="-22716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&lt;CFSET arPeople = XmlSearch(MyXml, "/company/location/employees/person")&gt;</a:t>
            </a:r>
            <a:endParaRPr b="0" lang="en-US" sz="1700" spc="-1" strike="noStrike">
              <a:solidFill>
                <a:srgbClr val="474a55"/>
              </a:solidFill>
              <a:latin typeface="Times New Roman"/>
            </a:endParaRPr>
          </a:p>
          <a:p>
            <a:pPr marL="343080" indent="-22716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74a55"/>
              </a:solidFill>
              <a:latin typeface="Times New Roman"/>
            </a:endParaRPr>
          </a:p>
          <a:p>
            <a:pPr marL="343080" indent="-22716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&lt;!--- Display the results ---&gt;</a:t>
            </a:r>
            <a:endParaRPr b="0" lang="en-US" sz="1700" spc="-1" strike="noStrike">
              <a:solidFill>
                <a:srgbClr val="474a55"/>
              </a:solidFill>
              <a:latin typeface="Times New Roman"/>
            </a:endParaRPr>
          </a:p>
          <a:p>
            <a:pPr marL="343080" indent="-22716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&lt;CFLOOP FROM="1" TO="#ArrayLen(arPeople)#" INDEX="i"&gt;</a:t>
            </a:r>
            <a:endParaRPr b="0" lang="en-US" sz="1700" spc="-1" strike="noStrike">
              <a:solidFill>
                <a:srgbClr val="474a55"/>
              </a:solidFill>
              <a:latin typeface="Times New Roman"/>
            </a:endParaRPr>
          </a:p>
          <a:p>
            <a:pPr marL="343080" indent="-22716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474a55"/>
              </a:solidFill>
              <a:latin typeface="Times New Roman"/>
            </a:endParaRPr>
          </a:p>
          <a:p>
            <a:pPr marL="343080" indent="-22716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&lt;/CFLOOP&gt;</a:t>
            </a:r>
            <a:endParaRPr b="0" lang="en-US" sz="1700" spc="-1" strike="noStrike">
              <a:solidFill>
                <a:srgbClr val="474a55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842080" y="6229440"/>
            <a:ext cx="2476440" cy="459720"/>
            <a:chOff x="5842080" y="6229440"/>
            <a:chExt cx="2476440" cy="459720"/>
          </a:xfrm>
        </p:grpSpPr>
        <p:sp>
          <p:nvSpPr>
            <p:cNvPr id="109" name="Document"/>
            <p:cNvSpPr/>
            <p:nvPr/>
          </p:nvSpPr>
          <p:spPr>
            <a:xfrm>
              <a:off x="5842080" y="6229440"/>
              <a:ext cx="304560" cy="457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74a55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47360" y="6229440"/>
              <a:ext cx="217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74a55"/>
                  </a:solidFill>
                  <a:latin typeface="Times New Roman"/>
                </a:rPr>
                <a:t>ParseXML3.cfm</a:t>
              </a:r>
              <a:endParaRPr b="0" lang="en-US" sz="2400" spc="-1" strike="noStrike">
                <a:solidFill>
                  <a:srgbClr val="474a55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A442-C18F-4E29-A641-A271FC9AB9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Is This “Advanced?”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EAF4-66F1-4F92-8454-A0A9C7FBA9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Also Allowed in XPath Expressions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Functions, such as: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contains(), substring-before(), substring-after()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Axes, such as: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ancestor, descendant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sibling, preceding-sibling, following-sibling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Other operators (and, or, &gt;, =, !=, …)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70B7-629E-47CD-94AF-85196CC54C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Using XSLT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Problem: Everyone loves XML!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Different people use XML for different things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The same information might be contained in many different XML "vocabularies"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Different devices/readers expect different XML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Need: a standardized way to translate data from one XML vocabulary to another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Solution: XSLT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EDC0-84B3-4E60-9B57-D9F0FEFB4A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What is XSLT?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XML vocabulary for describing transformations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XSLT documents: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often called "Stylesheets"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no relation to CSS Stylesheets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usually have .xsl extension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0B0B-8F3E-4FE0-8587-5E48A1E09D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Basic XSLT Elements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08320" y="2119320"/>
            <a:ext cx="364176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8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a55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95360" y="2154240"/>
          <a:ext cx="8039160" cy="3479760"/>
        </p:xfrm>
        <a:graphic>
          <a:graphicData uri="http://schemas.openxmlformats.org/drawingml/2006/table">
            <a:tbl>
              <a:tblPr/>
              <a:tblGrid>
                <a:gridCol w="3379680"/>
                <a:gridCol w="465948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40434c"/>
                          </a:solidFill>
                          <a:latin typeface="Arial"/>
                        </a:rPr>
                        <a:t>XSLT Element</a:t>
                      </a:r>
                      <a:endParaRPr b="0" lang="en-US" sz="2700" spc="-1" strike="noStrike">
                        <a:solidFill>
                          <a:srgbClr val="474a5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74a55"/>
                      </a:solidFill>
                    </a:lnL>
                    <a:lnR w="5760">
                      <a:solidFill>
                        <a:srgbClr val="474a55"/>
                      </a:solidFill>
                    </a:lnR>
                    <a:lnT w="13680">
                      <a:solidFill>
                        <a:srgbClr val="474a55"/>
                      </a:solidFill>
                    </a:lnT>
                    <a:lnB w="5760">
                      <a:solidFill>
                        <a:srgbClr val="474a5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40434c"/>
                          </a:solidFill>
                          <a:latin typeface="Arial"/>
                        </a:rPr>
                        <a:t>Comparable CF concept</a:t>
                      </a:r>
                      <a:endParaRPr b="0" lang="en-US" sz="2700" spc="-1" strike="noStrike">
                        <a:solidFill>
                          <a:srgbClr val="474a5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74a55"/>
                      </a:solidFill>
                    </a:lnL>
                    <a:lnR w="13680">
                      <a:solidFill>
                        <a:srgbClr val="474a55"/>
                      </a:solidFill>
                    </a:lnR>
                    <a:lnT w="5760">
                      <a:solidFill>
                        <a:srgbClr val="474a55"/>
                      </a:solidFill>
                    </a:lnT>
                    <a:lnB w="5760">
                      <a:solidFill>
                        <a:srgbClr val="474a55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40434c"/>
                          </a:solidFill>
                          <a:latin typeface="Arial"/>
                        </a:rPr>
                        <a:t>&lt;xsl:stylesheet&gt;</a:t>
                      </a:r>
                      <a:endParaRPr b="0" lang="en-US" sz="2700" spc="-1" strike="noStrike">
                        <a:solidFill>
                          <a:srgbClr val="474a5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74a55"/>
                      </a:solidFill>
                    </a:lnL>
                    <a:lnR w="5760">
                      <a:solidFill>
                        <a:srgbClr val="474a55"/>
                      </a:solidFill>
                    </a:lnR>
                    <a:lnT w="5760">
                      <a:solidFill>
                        <a:srgbClr val="474a55"/>
                      </a:solidFill>
                    </a:lnT>
                    <a:lnB w="5760">
                      <a:solidFill>
                        <a:srgbClr val="474a5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40434c"/>
                          </a:solidFill>
                          <a:latin typeface="Arial"/>
                        </a:rPr>
                        <a:t>requested .cfm page</a:t>
                      </a:r>
                      <a:endParaRPr b="0" lang="en-US" sz="2700" spc="-1" strike="noStrike">
                        <a:solidFill>
                          <a:srgbClr val="474a5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74a55"/>
                      </a:solidFill>
                    </a:lnL>
                    <a:lnR w="13680">
                      <a:solidFill>
                        <a:srgbClr val="474a55"/>
                      </a:solidFill>
                    </a:lnR>
                    <a:lnT w="5760">
                      <a:solidFill>
                        <a:srgbClr val="474a55"/>
                      </a:solidFill>
                    </a:lnT>
                    <a:lnB w="5760">
                      <a:solidFill>
                        <a:srgbClr val="474a55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40434c"/>
                          </a:solidFill>
                          <a:latin typeface="Arial"/>
                        </a:rPr>
                        <a:t>&lt;xsl:template&gt;</a:t>
                      </a:r>
                      <a:endParaRPr b="0" lang="en-US" sz="2700" spc="-1" strike="noStrike">
                        <a:solidFill>
                          <a:srgbClr val="474a5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74a55"/>
                      </a:solidFill>
                    </a:lnL>
                    <a:lnR w="5760">
                      <a:solidFill>
                        <a:srgbClr val="474a55"/>
                      </a:solidFill>
                    </a:lnR>
                    <a:lnT w="5760">
                      <a:solidFill>
                        <a:srgbClr val="474a55"/>
                      </a:solidFill>
                    </a:lnT>
                    <a:lnB w="5760">
                      <a:solidFill>
                        <a:srgbClr val="474a5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40434c"/>
                          </a:solidFill>
                          <a:latin typeface="Arial"/>
                        </a:rPr>
                        <a:t>included .cfm page, or UDF</a:t>
                      </a:r>
                      <a:endParaRPr b="0" lang="en-US" sz="2700" spc="-1" strike="noStrike">
                        <a:solidFill>
                          <a:srgbClr val="474a5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74a55"/>
                      </a:solidFill>
                    </a:lnL>
                    <a:lnR w="13680">
                      <a:solidFill>
                        <a:srgbClr val="474a55"/>
                      </a:solidFill>
                    </a:lnR>
                    <a:lnT w="5760">
                      <a:solidFill>
                        <a:srgbClr val="474a55"/>
                      </a:solidFill>
                    </a:lnT>
                    <a:lnB w="5760">
                      <a:solidFill>
                        <a:srgbClr val="474a55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40434c"/>
                          </a:solidFill>
                          <a:latin typeface="Arial"/>
                        </a:rPr>
                        <a:t>&lt;xsl:for-each&gt;</a:t>
                      </a:r>
                      <a:endParaRPr b="0" lang="en-US" sz="2700" spc="-1" strike="noStrike">
                        <a:solidFill>
                          <a:srgbClr val="474a5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74a55"/>
                      </a:solidFill>
                    </a:lnL>
                    <a:lnR w="5760">
                      <a:solidFill>
                        <a:srgbClr val="474a55"/>
                      </a:solidFill>
                    </a:lnR>
                    <a:lnT w="5760">
                      <a:solidFill>
                        <a:srgbClr val="474a55"/>
                      </a:solidFill>
                    </a:lnT>
                    <a:lnB w="5760">
                      <a:solidFill>
                        <a:srgbClr val="474a5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40434c"/>
                          </a:solidFill>
                          <a:latin typeface="Arial"/>
                        </a:rPr>
                        <a:t>&lt;CFLOOP&gt;</a:t>
                      </a:r>
                      <a:endParaRPr b="0" lang="en-US" sz="2700" spc="-1" strike="noStrike">
                        <a:solidFill>
                          <a:srgbClr val="474a5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74a55"/>
                      </a:solidFill>
                    </a:lnL>
                    <a:lnR w="13680">
                      <a:solidFill>
                        <a:srgbClr val="474a55"/>
                      </a:solidFill>
                    </a:lnR>
                    <a:lnT w="5760">
                      <a:solidFill>
                        <a:srgbClr val="474a55"/>
                      </a:solidFill>
                    </a:lnT>
                    <a:lnB w="5760">
                      <a:solidFill>
                        <a:srgbClr val="474a55"/>
                      </a:solidFill>
                    </a:lnB>
                    <a:noFill/>
                  </a:tcPr>
                </a:tc>
              </a:tr>
              <a:tr h="79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40434c"/>
                          </a:solidFill>
                          <a:latin typeface="Arial"/>
                        </a:rPr>
                        <a:t>&lt;xsl:value-of&gt;</a:t>
                      </a:r>
                      <a:endParaRPr b="0" lang="en-US" sz="2700" spc="-1" strike="noStrike">
                        <a:solidFill>
                          <a:srgbClr val="474a5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74a55"/>
                      </a:solidFill>
                    </a:lnL>
                    <a:lnR w="5760">
                      <a:solidFill>
                        <a:srgbClr val="474a55"/>
                      </a:solidFill>
                    </a:lnR>
                    <a:lnT w="5760">
                      <a:solidFill>
                        <a:srgbClr val="474a55"/>
                      </a:solidFill>
                    </a:lnT>
                    <a:lnB w="13680">
                      <a:solidFill>
                        <a:srgbClr val="474a5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40434c"/>
                          </a:solidFill>
                          <a:latin typeface="Arial"/>
                        </a:rPr>
                        <a:t># expression in a &lt;CFOUTPUT&gt; block</a:t>
                      </a:r>
                      <a:endParaRPr b="0" lang="en-US" sz="2700" spc="-1" strike="noStrike">
                        <a:solidFill>
                          <a:srgbClr val="474a5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74a55"/>
                      </a:solidFill>
                    </a:lnL>
                    <a:lnR w="13680">
                      <a:solidFill>
                        <a:srgbClr val="474a55"/>
                      </a:solidFill>
                    </a:lnR>
                    <a:lnT w="5760">
                      <a:solidFill>
                        <a:srgbClr val="474a55"/>
                      </a:solidFill>
                    </a:lnT>
                    <a:lnB w="13680">
                      <a:solidFill>
                        <a:srgbClr val="474a5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6E53D-0CF3-4122-96DE-D672E25ACD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Close ties to XPath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XPath expressions used in XSLT Stylesheets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match” attribute in &lt;xsl:template&gt;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select” attribute in &lt;xsl:for-each&gt;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select” attribute in &lt;xsl:value-of&gt;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XPath expression is relative to current node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Called the “context node”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Use ../ notation to walk backwards (like dir folders)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170320" y="6186600"/>
            <a:ext cx="3358800" cy="459720"/>
            <a:chOff x="5170320" y="6186600"/>
            <a:chExt cx="3358800" cy="459720"/>
          </a:xfrm>
        </p:grpSpPr>
        <p:sp>
          <p:nvSpPr>
            <p:cNvPr id="124" name="Document"/>
            <p:cNvSpPr/>
            <p:nvPr/>
          </p:nvSpPr>
          <p:spPr>
            <a:xfrm>
              <a:off x="5170320" y="6186600"/>
              <a:ext cx="304920" cy="457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74a55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77040" y="6186600"/>
              <a:ext cx="30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74a55"/>
                  </a:solidFill>
                  <a:latin typeface="Times New Roman"/>
                </a:rPr>
                <a:t>TransformCompany.xsl</a:t>
              </a:r>
              <a:endParaRPr b="0" lang="en-US" sz="2400" spc="-1" strike="noStrike">
                <a:solidFill>
                  <a:srgbClr val="474a55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DB1C-B19A-4A96-887E-C40DEA62D7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CFMX XML Sessions at this Conference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"Creating &amp; Reading XML in ColdFusion MX"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Hands-On Workshop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The "basics"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"Advanced XML:XPath, XSLT, and Beyond"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This Session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Assumes some knowledge of XML basics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"XML and Dreamweaver MX"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669D-9C19-4E43-82B8-93858FD23E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Do It With XmlTransform()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Two Arguments: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XML document to transform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XSLT Stylesheet that describes transformation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Result is transformed XML code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Output it with &lt;CFOUTPUT&gt;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Save to disk with &lt;CFFILE&gt;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etc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A34BF-B8AC-4CCC-AD9C-55D07C81E7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XmlTransform() Usage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9800" y="1946160"/>
            <a:ext cx="7772400" cy="4218120"/>
          </a:xfrm>
          <a:prstGeom prst="rect">
            <a:avLst/>
          </a:prstGeom>
          <a:noFill/>
          <a:ln w="12600">
            <a:solidFill>
              <a:srgbClr val="286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21348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&lt;CFFILE </a:t>
            </a:r>
            <a:endParaRPr b="0" lang="en-US" sz="1700" spc="-1" strike="noStrike">
              <a:solidFill>
                <a:srgbClr val="474a55"/>
              </a:solidFill>
              <a:latin typeface="Times New Roman"/>
            </a:endParaRPr>
          </a:p>
          <a:p>
            <a:pPr marL="322200" indent="-21348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ACTION="READ"</a:t>
            </a:r>
            <a:endParaRPr b="0" lang="en-US" sz="1700" spc="-1" strike="noStrike">
              <a:solidFill>
                <a:srgbClr val="474a55"/>
              </a:solidFill>
              <a:latin typeface="Times New Roman"/>
            </a:endParaRPr>
          </a:p>
          <a:p>
            <a:pPr marL="322200" indent="-21348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FILE="#MyXmlFile#"</a:t>
            </a:r>
            <a:endParaRPr b="0" lang="en-US" sz="1700" spc="-1" strike="noStrike">
              <a:solidFill>
                <a:srgbClr val="474a55"/>
              </a:solidFill>
              <a:latin typeface="Times New Roman"/>
            </a:endParaRPr>
          </a:p>
          <a:p>
            <a:pPr marL="322200" indent="-21348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VARIABLE="MyXmlCode"&gt;</a:t>
            </a:r>
            <a:endParaRPr b="0" lang="en-US" sz="1700" spc="-1" strike="noStrike">
              <a:solidFill>
                <a:srgbClr val="474a55"/>
              </a:solidFill>
              <a:latin typeface="Times New Roman"/>
            </a:endParaRPr>
          </a:p>
          <a:p>
            <a:pPr marL="322200" indent="-21348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&lt;CFFILE </a:t>
            </a:r>
            <a:endParaRPr b="0" lang="en-US" sz="1700" spc="-1" strike="noStrike">
              <a:solidFill>
                <a:srgbClr val="474a55"/>
              </a:solidFill>
              <a:latin typeface="Times New Roman"/>
            </a:endParaRPr>
          </a:p>
          <a:p>
            <a:pPr marL="322200" indent="-21348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ACTION="READ"</a:t>
            </a:r>
            <a:endParaRPr b="0" lang="en-US" sz="1700" spc="-1" strike="noStrike">
              <a:solidFill>
                <a:srgbClr val="474a55"/>
              </a:solidFill>
              <a:latin typeface="Times New Roman"/>
            </a:endParaRPr>
          </a:p>
          <a:p>
            <a:pPr marL="322200" indent="-21348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FILE="#MyStylesheet#"</a:t>
            </a:r>
            <a:endParaRPr b="0" lang="en-US" sz="1700" spc="-1" strike="noStrike">
              <a:solidFill>
                <a:srgbClr val="474a55"/>
              </a:solidFill>
              <a:latin typeface="Times New Roman"/>
            </a:endParaRPr>
          </a:p>
          <a:p>
            <a:pPr marL="322200" indent="-21348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VARIABLE="MyXsltCode"&gt;</a:t>
            </a:r>
            <a:endParaRPr b="0" lang="en-US" sz="1700" spc="-1" strike="noStrike">
              <a:solidFill>
                <a:srgbClr val="474a55"/>
              </a:solidFill>
              <a:latin typeface="Times New Roman"/>
            </a:endParaRPr>
          </a:p>
          <a:p>
            <a:pPr marL="322200" indent="-21348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  </a:t>
            </a:r>
            <a:endParaRPr b="0" lang="en-US" sz="1700" spc="-1" strike="noStrike">
              <a:solidFill>
                <a:srgbClr val="474a55"/>
              </a:solidFill>
              <a:latin typeface="Times New Roman"/>
            </a:endParaRPr>
          </a:p>
          <a:p>
            <a:pPr marL="322200" indent="-21348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&lt;!--- Perform the XSLT Stylesheet transformation ---&gt;  </a:t>
            </a:r>
            <a:endParaRPr b="0" lang="en-US" sz="1700" spc="-1" strike="noStrike">
              <a:solidFill>
                <a:srgbClr val="474a55"/>
              </a:solidFill>
              <a:latin typeface="Times New Roman"/>
            </a:endParaRPr>
          </a:p>
          <a:p>
            <a:pPr marL="322200" indent="-21348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34c"/>
                </a:solidFill>
                <a:latin typeface="Courier New"/>
              </a:rPr>
              <a:t>&lt;CFSET TransformedXmlCode = XmlTransform(MyXmlCode, MyXsltCode)&gt;</a:t>
            </a:r>
            <a:endParaRPr b="0" lang="en-US" sz="1700" spc="-1" strike="noStrike">
              <a:solidFill>
                <a:srgbClr val="474a55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081760" y="6357960"/>
            <a:ext cx="3459240" cy="459720"/>
            <a:chOff x="5081760" y="6357960"/>
            <a:chExt cx="3459240" cy="459720"/>
          </a:xfrm>
        </p:grpSpPr>
        <p:sp>
          <p:nvSpPr>
            <p:cNvPr id="131" name="Document"/>
            <p:cNvSpPr/>
            <p:nvPr/>
          </p:nvSpPr>
          <p:spPr>
            <a:xfrm>
              <a:off x="5081760" y="6357960"/>
              <a:ext cx="304560" cy="457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74a55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88480" y="6357960"/>
              <a:ext cx="31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74a55"/>
                  </a:solidFill>
                  <a:latin typeface="Times New Roman"/>
                </a:rPr>
                <a:t>TransformCompany.cfm</a:t>
              </a:r>
              <a:endParaRPr b="0" lang="en-US" sz="2400" spc="-1" strike="noStrike">
                <a:solidFill>
                  <a:srgbClr val="474a55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653D-5BE4-4913-A623-0CC4CE12D7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What is Role of XSLT in CF Apps?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7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Advantages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7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Standards-based, widely deployed/understood 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7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Cleanly isolates presentation logic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7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Can be customized w/o touching CFML code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7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Delivery to multiple devices/formats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7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Disadvantages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7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Trickier syntax in many situations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7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Can't access CFML's power in Stylesheet code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6917-4875-479D-AA73-BB9AD05E19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XSLT Limitations in Today’s CFMX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&lt;xsl:import&gt; and &lt;xsl:include&gt; can’t use relative pathnames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Workaround: use fully-qualified URIs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&lt;xsl:include href="file:///c:/Folder/IncludeMe.xsl"/&gt;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No way to pass values to &lt;xsl:param&gt; parameters in the Stylesheet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2CB9-99F7-4103-BB7E-CC7861269D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Putting it Together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Demo App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356520" y="6229440"/>
            <a:ext cx="2221920" cy="459720"/>
            <a:chOff x="6356520" y="6229440"/>
            <a:chExt cx="2221920" cy="459720"/>
          </a:xfrm>
        </p:grpSpPr>
        <p:sp>
          <p:nvSpPr>
            <p:cNvPr id="140" name="Document"/>
            <p:cNvSpPr/>
            <p:nvPr/>
          </p:nvSpPr>
          <p:spPr>
            <a:xfrm>
              <a:off x="6356520" y="6229440"/>
              <a:ext cx="304920" cy="457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74a55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63240" y="622944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74a55"/>
                  </a:solidFill>
                  <a:latin typeface="Times New Roman"/>
                </a:rPr>
                <a:t>DemoApp.cfm</a:t>
              </a:r>
              <a:endParaRPr b="0" lang="en-US" sz="2400" spc="-1" strike="noStrike">
                <a:solidFill>
                  <a:srgbClr val="474a55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35DA-36EC-43C7-B205-7A55A148EE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Finding Out More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1280" y="2095560"/>
            <a:ext cx="841392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7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Other Session: "Creating &amp; Reading XML"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7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Chapter 30 in CFMX "Developing Apps" Docs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7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My "</a:t>
            </a:r>
            <a:r>
              <a:rPr b="0" lang="en-US" sz="3000" spc="-1" strike="noStrike">
                <a:solidFill>
                  <a:srgbClr val="40434c"/>
                </a:solidFill>
                <a:latin typeface="Arial"/>
                <a:ea typeface="Times New Roman"/>
              </a:rPr>
              <a:t>XML Features In ColdFusion MX</a:t>
            </a: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" article at macromedia.com/desdev/mx/coldfusion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7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XPath, XSLT, and XML in general: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7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www.xml.com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7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xml.apache.org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7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www.w3.org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402BE-CC02-4A1A-8203-A77CAA7B05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Questions and Answers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8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Thanks for coming!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2DC4-5968-4C99-B6C0-153AB994046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What we'll cover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Quick Recap: Basic XML Functionality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Working with XPath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Working with XSLT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Using Native Java APIs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Putting it all together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Q &amp; A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4150-903A-42D4-A15F-BB553D7FB2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Recap: Basic XML Features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Parse Existing XML: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Get XML via form, &lt;CFHTTP&gt;, &lt;CFFILE&gt;, etc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Parse it with XmlParse()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Create New XML: 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&lt;CFXML&gt;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XmlNew()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Result is always an XML Document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B9E1-B566-4AA7-A62F-FAD5F0D4B6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Recap: XML Document Objects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Object is like a structure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Nested structures and arrays represent the DOM tree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Read or change contents using Structure and Array functions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Get XML code with ToString()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6077-28ED-4064-A864-5A9D6D8EBC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Recap: XML Element Structures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XmlAttributes - the element's attributes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XmlChildren - array of nested elements, if any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XmlText - text between element pair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053F-F400-45EF-A2F6-3F9D54C3C7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"Walking the Tree"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Problem: Deeply nested elements/attributes require careful coding to get to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Problem: If exact structure/nesting of elements is unknown, can be tricky to find desired data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Need: a simple way to just "ask" an XML document what it contains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F264E-661E-4369-815D-E3140500A5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Introducing XPath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A way to "query" XML documents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Most commonly used in XSLT stylesheets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Also forms the basis of XQuery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48DE-3E1E-428B-8FC4-D88EC1B767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8600" y="1101600"/>
            <a:ext cx="8425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XPath Expressions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1280" y="2095200"/>
            <a:ext cx="841392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Simple syntax for criteria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Compare to: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SQL SELECT for Databases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Regular Expressions for plain text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2438"/>
              </a:spcBef>
              <a:buClr>
                <a:srgbClr val="0066cc"/>
              </a:buClr>
              <a:buSzPct val="120000"/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34c"/>
                </a:solidFill>
                <a:latin typeface="Arial"/>
              </a:rPr>
              <a:t>Syntax looks like relative paths in URLs</a:t>
            </a:r>
            <a:endParaRPr b="0" lang="en-US" sz="3000" spc="-1" strike="noStrike">
              <a:solidFill>
                <a:srgbClr val="40434c"/>
              </a:solidFill>
              <a:latin typeface="Arial"/>
            </a:endParaRPr>
          </a:p>
          <a:p>
            <a:pPr lvl="1" marL="625320" indent="-226800">
              <a:lnSpc>
                <a:spcPct val="85000"/>
              </a:lnSpc>
              <a:spcBef>
                <a:spcPts val="1789"/>
              </a:spcBef>
              <a:buClr>
                <a:srgbClr val="0066cc"/>
              </a:buClr>
              <a:buFont typeface="courier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34c"/>
                </a:solidFill>
                <a:latin typeface="Arial"/>
              </a:rPr>
              <a:t>use slashes to describes "path" to data you want</a:t>
            </a:r>
            <a:endParaRPr b="0" lang="en-US" sz="2600" spc="-1" strike="noStrike">
              <a:solidFill>
                <a:srgbClr val="4043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9F65-AFCC-4880-99CC-E2348C05DD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19:05:57Z</dcterms:created>
  <dc:creator>Eric Paul</dc:creator>
  <dc:description/>
  <dc:language>en-US</dc:language>
  <cp:lastModifiedBy>Nate</cp:lastModifiedBy>
  <cp:lastPrinted>2002-03-06T21:15:27Z</cp:lastPrinted>
  <dcterms:modified xsi:type="dcterms:W3CDTF">2002-10-28T19:09:12Z</dcterms:modified>
  <cp:revision>232</cp:revision>
  <dc:subject/>
  <dc:title>PowerPoint Presentation</dc:title>
</cp:coreProperties>
</file>