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532-7E9B-4A2F-9D33-E29DDCC0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A7C-872D-4257-B08E-E5DC6FD3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48F-C20C-4726-BF93-B2894C61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405-90F4-43B8-84EE-4F014158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A642-12B6-4571-AAB1-D87C729F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CAE1-B5DF-44AF-BF8D-771E3659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D372-F044-43D7-B25D-499E9835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9427-A379-4EE2-B828-7BC9908A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EF66-E7E0-4AB9-A630-09DFDCA4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A71-A329-4278-BB9C-E9CF8865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E64E-9CCC-41F7-A03B-B862A329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5AB-C4B9-4B69-BE65-B58204C0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EA0-9DCB-4E10-BF85-EAA63EFC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DEBA-F11F-4E9F-9489-0DA5FD93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A7C0-353C-4E79-A026-BA79866A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A45F-8BC5-49C1-8553-D8BAA00C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55B-0D6D-46C4-B602-8115D4EE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9A6-FFF2-40C8-802B-0427A103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892-CC0C-459E-979C-95060C6A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55B-F2AE-4E22-98D3-276D025B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1D1-C100-4B2C-9B3D-7428C126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342-805A-422A-8EEA-FC85CEE4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142-E2E0-4CE6-B269-9E5F028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5C1-14CF-4C98-AFBD-0E03E3A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1AB9-BCFE-4B0C-8330-277B56375A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1B25-244B-4753-9452-44A5C2A2C6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19680" y="736560"/>
            <a:ext cx="498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66"/>
                </a:solidFill>
                <a:latin typeface="Arial"/>
              </a:rPr>
              <a:t>Remote Lo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18480" y="605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8769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505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sign and Implem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3048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he application work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pplication is constructed with various modu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ient and server modules are built separate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ient will just receive input from the user and will pass the data to the serv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ient will also display the front end of the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rver is responsible for spawning a new shell and also to send the output of the shell back to the cl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we used to build thi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TFORM – Red Hat Linux 7.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 used –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I – GTK+ with ZVT ext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ystem Model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0185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ck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for IPC between processes on different syste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 TCP/IP on transport lay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ed using system calls like select(), connect(), listen(), accept() and close(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sockets are u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9051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5909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0384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2767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54100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62485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44956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8862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54100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62485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800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s until connection from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791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71800" y="4648320"/>
            <a:ext cx="2743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1222000">
            <a:off x="342864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l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95480" y="5562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64008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5181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6019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gin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311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251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velopment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 Stage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(Server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Echo server bui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ing process developed on standalone sys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eam pipes used for IP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ule for communication between pseudo terminal and socket develop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rminal emulation added using pseudo termin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364120" y="457200"/>
            <a:ext cx="437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66"/>
                </a:solidFill>
                <a:latin typeface="Arial"/>
              </a:rPr>
              <a:t>Remote login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8760" y="1523880"/>
            <a:ext cx="63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66"/>
                </a:solidFill>
                <a:latin typeface="Arial"/>
              </a:rPr>
              <a:t>Using Socket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047760" cy="2970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92776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029200"/>
            <a:ext cx="26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hwi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ur Sidd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chin Aso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in .B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6400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Guided By Smt N P Kav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velopment Stages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Clien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Echo client develop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to communicate between socket and terminal develop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UI for client developed using GTK+ with zvt exten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rding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057400"/>
            <a:ext cx="1295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205740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209680"/>
            <a:ext cx="1218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342900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464832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5791320"/>
            <a:ext cx="190512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t a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362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74320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276360" y="28954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9718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0040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198108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,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61722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2362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1500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95280" y="3048120"/>
            <a:ext cx="7391520" cy="2514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rding Process with Stream Pi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057400"/>
            <a:ext cx="1295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05740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2057400"/>
            <a:ext cx="1218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342900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64832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4191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 of str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4191120"/>
            <a:ext cx="1600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 of str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791320"/>
            <a:ext cx="190512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t a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362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74320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276360" y="28954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9718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20040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28954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52880" y="289512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495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8672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543800" y="2590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010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2438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962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198108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,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2057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,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seudo Termin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2133720"/>
            <a:ext cx="4876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y master 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pty slave 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48006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y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8006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y 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38280" y="28191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581280" y="5334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48640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4100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95280" y="3048120"/>
            <a:ext cx="7391520" cy="2514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ording Process with Pseudo Terminal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057400"/>
            <a:ext cx="1295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205740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2057400"/>
            <a:ext cx="1218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342900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64832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4191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 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4191120"/>
            <a:ext cx="1600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 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5791320"/>
            <a:ext cx="190512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t a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2362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276360" y="28954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9718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0040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28954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4952880" y="289512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4495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8672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2438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3962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198108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,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2057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,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6172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ing Process withPseudo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320040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39152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543800" y="2590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9246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out,Std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001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tages and Appl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t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servers and clients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 client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can listen on any 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fast server respo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use frontend for novic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s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pplication was tested  first on a stand alone machine using loop back address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pplication was tested on an actual Ethernet 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pplication was tested with multiple clients running on different mach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found instantaneous response from the server in all ca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mitation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1676520"/>
            <a:ext cx="73152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limitation is that it is not possible to login as a super user using this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possible because we use the linux login application. This is only for security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have super user privileges by logging in as any user and then using ‘su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remote login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 Login is a basic application to access resources which are at remote lo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n application which is designed to work on a Client Server net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is application ,we will be able to login to a remote machine and after authentication, we will be able to access all its resour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 login is one of the first few applications that emerged after the client server era star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ical examples of remote login  applications are rlogin and telnet which are bundled with uni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51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ep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 Server Compu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lient server system there is one process called the server, which serves the other proc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rocess which makes use of the services of  the server is called the cli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rver is always running and is waiting for requests from cli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lients can start asynchronously and can also terminate at an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a network, each machine (interface card) is identified by a hierarchical address called an IP address(32 bit in IPv4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data is read and written from ports. Each port is identified by a port number(16 bi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ocket is identified by a ip address, port 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ch socket is associated with a socket descriptor which is similar to a file descript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4T09:38:12Z</dcterms:created>
  <dc:creator>Sachin Asoka</dc:creator>
  <dc:description/>
  <dc:language>en-US</dc:language>
  <cp:lastModifiedBy>Sachin Asoka</cp:lastModifiedBy>
  <dcterms:modified xsi:type="dcterms:W3CDTF">2001-08-04T14:01:01Z</dcterms:modified>
  <cp:revision>33</cp:revision>
  <dc:subject/>
  <dc:title>Slide 1</dc:title>
</cp:coreProperties>
</file>