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8D4-2A5B-4B1C-A48B-F0598DBE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DAD-45DD-42E0-BDB5-DAC2BF1A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10D-2DEA-40ED-A9F4-DA8C8BB5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E97-E40C-4341-9342-7094C98C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FBE-B7E9-4C9B-9D01-5736C703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DA0-9741-4022-B740-3B6D033D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E8B-2981-4D23-91B3-CED5C472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AEE-EFAB-422B-9EA6-F35063C5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9CE-C6CD-4114-91A6-847BA36B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49F-2654-49EF-9E10-A73FF6E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4BA-48EE-428B-80B8-72BF8984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D9C-9124-476F-80E7-7317EEFF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BD6A-0A5D-429F-ADEF-F878877F4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91500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Do European sousliks produce ultrasonic calls?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eliminary study into the vocal communication abilities of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mophilus citellu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3716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min scan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Materials &amp; Methods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reliminary observations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060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752480"/>
          <a:ext cx="8229600" cy="48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371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n instantaneous focal animal samp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Materials &amp; Methods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reliminary observation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060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81080"/>
          <a:ext cx="7372440" cy="46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37244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371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n instantaneous focal animal samp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Materials &amp; Methods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reliminary observation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060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828800"/>
          <a:ext cx="777240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Materials &amp; Methods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9060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609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servations on naturally occurring potential predation episo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59092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 at hill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 in col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ial predator: Long-legged buzzar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eo rufin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shawk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ipiter genti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 calling without obvious threa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Materials &amp; Methods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060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762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85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2193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37160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838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liciting alarm-calling behaviou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86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pproach by observe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me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back of animal cal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ial threat sim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Materials &amp; Methods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060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762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85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37160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57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ound recording of audible alarm calls and play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" y="1676520"/>
            <a:ext cx="6172200" cy="4952880"/>
            <a:chOff x="228600" y="1676520"/>
            <a:chExt cx="6172200" cy="495288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rcRect l="26837" t="25939" r="38695" b="29473"/>
            <a:stretch/>
          </p:blipFill>
          <p:spPr>
            <a:xfrm>
              <a:off x="228600" y="1676520"/>
              <a:ext cx="5105520" cy="4952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4" name=""/>
            <p:cNvSpPr/>
            <p:nvPr/>
          </p:nvSpPr>
          <p:spPr>
            <a:xfrm>
              <a:off x="838080" y="2666880"/>
              <a:ext cx="30492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120" y="220968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8.437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k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800240" y="2666880"/>
              <a:ext cx="304920" cy="99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86200" y="2209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8.359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19112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uration 83.7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6095880" y="60958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5715000" y="1752480"/>
            <a:ext cx="2971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calls reco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Frequen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438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.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455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421,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ime length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1,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04560" y="152280"/>
            <a:ext cx="64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Materials &amp; Methods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ound recording of audible alarm calls and play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057400"/>
            <a:ext cx="6781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of 3 focal animals during the playback of sousliks cal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from non alert (e.g. feeding) to alert behaviour (e.g. rearing / retrea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ll cases there was no alarm calling as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Materials &amp; Methods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9060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762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85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2193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37160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609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Ultrasonic trial recording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6600" r="0" b="10233"/>
          <a:stretch/>
        </p:blipFill>
        <p:spPr>
          <a:xfrm>
            <a:off x="533520" y="1523880"/>
            <a:ext cx="8229600" cy="5133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52680" y="4952880"/>
            <a:ext cx="60984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572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rca 8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onclusion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Materials &amp; Metho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676520"/>
            <a:ext cx="72392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er sousliks present in September (hybernation). Thus occurance of alarm-calling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sliks do alarm call but we could not reliably link it to predator c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rt behaviour could be triggered but not the actual alar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ble alarm calls of at least one individual were recorded which did not vary wid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evidence of ultras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060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287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762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12193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lal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172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V="1">
            <a:off x="609480" y="2208960"/>
            <a:ext cx="2133720" cy="1295640"/>
          </a:xfrm>
          <a:prstGeom prst="wedgeEllipseCallout">
            <a:avLst>
              <a:gd name="adj1" fmla="val 40472"/>
              <a:gd name="adj2" fmla="val 82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2590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286000"/>
            <a:ext cx="7086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s &amp;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&amp;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Materials &amp; Methods -  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hat is alarm call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133720"/>
            <a:ext cx="7696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lising when faced with a 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ed in birds and mamm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ypothes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ing conspecifics ( inclusive fit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raging pre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Materials &amp; Methods -  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hisper calls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1337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67652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son &amp; Hare 2004 – first ever evidence for ultrasonic alarm calls i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animal : Richardson’s ground squirre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rmophillus richardson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4191120" cy="235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406692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Materials &amp; Methods -  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14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aractersitics of “whisper calls“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1337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133720"/>
            <a:ext cx="7315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udible to predators (50 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e quickly over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anta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warning of philopatric kin whi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ing undetected by predato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troducing our study anima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SOUSL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rmophilus citellu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al1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rials &amp; 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rials &amp; 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asic European Souslik fact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09680"/>
            <a:ext cx="807732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urnal social ro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 in colo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nimal occupies a separate bu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e in w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make food stores but store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larm-calls to warn others of d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rials &amp; 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Study are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7524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celovo village border area:  The perfect souslik habit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9150038" descr=""/>
          <p:cNvPicPr/>
          <p:nvPr/>
        </p:nvPicPr>
        <p:blipFill>
          <a:blip r:embed="rId1"/>
          <a:srcRect l="0" t="0" r="0" b="27978"/>
          <a:stretch/>
        </p:blipFill>
        <p:spPr>
          <a:xfrm>
            <a:off x="762120" y="2286000"/>
            <a:ext cx="7619760" cy="4116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 flipH="1">
            <a:off x="2590560" y="3733920"/>
            <a:ext cx="53316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3200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75 m x 37.7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371600"/>
            <a:ext cx="7086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reliminary observations on souslik activity patter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min scan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n instantaneous focal animal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bservations on naturally occurring potential predation epis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sam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liciting alarm-calling behaviou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ound recording of audible alarm calls and play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Recording ultrasoun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rials &amp; 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Results &amp;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thodolog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18:43:28Z</dcterms:created>
  <dc:creator>Alex</dc:creator>
  <dc:description/>
  <dc:language>en-US</dc:language>
  <cp:lastModifiedBy>TABACHKA</cp:lastModifiedBy>
  <dcterms:modified xsi:type="dcterms:W3CDTF">2004-09-18T09:02:40Z</dcterms:modified>
  <cp:revision>38</cp:revision>
  <dc:subject/>
  <dc:title>THE EUROPEAN SOUSLIK   PROJECT  PRESENTATION</dc:title>
</cp:coreProperties>
</file>