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13F8-5925-4A8F-91FD-E49ACEBB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9CA-798B-4E00-8BCA-DDCB1072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79B-3375-4B43-9B76-F9E97D53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53E-0472-4862-99C9-035A3710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208B-5F75-4698-97C5-5D0E40C7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26F6-42EC-4D01-AF8B-2E352BEA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00D-A24E-4F02-BF68-50F368F0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5E52-B1FE-424D-9664-FF2FE22D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7FE-F340-40CE-B8F9-D0D87DE5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725C-734B-49AF-9710-3DCE0621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B171-F101-4BFC-83E4-487CF467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EC75-C6AF-4342-89B2-EDFDE238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CB7D-C4C1-4ACE-95E1-4C872FCB4FD9}" type="slidenum">
              <a:rPr b="0" lang="en-US" sz="26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057400"/>
            <a:ext cx="5791320" cy="1769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DEQUACY OF HEMODI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333080" y="4572000"/>
            <a:ext cx="71179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99"/>
                </a:solidFill>
                <a:latin typeface="Comic Sans MS"/>
              </a:rPr>
              <a:t>     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Suchada  Rojanamethin, M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Division of Nephrology, Department of Medic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Phramongkutklao Hospit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Comic Sans MS"/>
              </a:rPr>
              <a:t>NCDS study 198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1447920"/>
            <a:ext cx="6934320" cy="45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Prospective randomize control trial ~ 160 Pt, duration 48 w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Obj: role of low mol-Wt toxin[TACurea] a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middle mol-Wt toxin [time]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4 groups of Pt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low TAC+long Td -------50, 4.5 h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Hi TAC+ long Td -------- 90, 4.5 h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low TAC+ short Td ------ 50, 3.5 h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Hi TAC+ short Td -------- 90, 3.5 h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Outcome: mortality, PF, Hosp admiss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"/>
          <p:cNvSpPr/>
          <p:nvPr/>
        </p:nvSpPr>
        <p:spPr>
          <a:xfrm>
            <a:off x="5241600" y="627228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Comic Sans MS"/>
              </a:rPr>
              <a:t>NEJM1981;305(20):1176-8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4260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Comic Sans MS"/>
              </a:rPr>
              <a:t>NCDS  198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1355760" y="2332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660680"/>
            <a:ext cx="899136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Lower Hosp-stay &amp; PF in low TAC[Gr1,3]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Time on dialysis not significant affect on outcome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Mortality is not different…too short P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95000"/>
              </a:lnSpc>
              <a:buClr>
                <a:srgbClr val="66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ff"/>
                </a:solidFill>
                <a:uFillTx/>
                <a:latin typeface="Comic Sans MS"/>
              </a:rPr>
              <a:t>Subanalysis of NCDS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In group of nPCR&gt; 0.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PF is lower in low vs Hi TAC (13 vs 52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In Gr.of nPCR &lt; 0.8 : PF is high(75%) regardless of BU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t BUN level that reflex morbidity !!!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 u="sng">
                <a:solidFill>
                  <a:srgbClr val="66ffff"/>
                </a:solidFill>
                <a:uFillTx/>
                <a:latin typeface="Comic Sans MS"/>
              </a:rPr>
              <a:t>Subanalysis of NCDS</a:t>
            </a:r>
            <a:r>
              <a:rPr b="0" lang="th-TH" sz="4400" spc="-1" strike="noStrike">
                <a:solidFill>
                  <a:srgbClr val="66ffff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fig%204(254)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705720" y="1981080"/>
            <a:ext cx="1447560" cy="1447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mic Sans MS"/>
              </a:rPr>
              <a:t>nPCR-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mic Sans MS"/>
              </a:rPr>
              <a:t>TAC-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429000"/>
            <a:ext cx="1524240" cy="13716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mic Sans MS"/>
              </a:rPr>
              <a:t>nPCR-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mic Sans MS"/>
              </a:rPr>
              <a:t>TAC-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1981080"/>
            <a:ext cx="1524240" cy="14479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3429000"/>
            <a:ext cx="14475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mic Sans MS"/>
              </a:rPr>
              <a:t>nPCR-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mic Sans MS"/>
              </a:rPr>
              <a:t>TAC-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1981080"/>
            <a:ext cx="0" cy="281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4290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5395680" y="2157480"/>
            <a:ext cx="9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mic Sans MS"/>
              </a:rPr>
              <a:t>nPCR-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mic Sans MS"/>
              </a:rPr>
              <a:t>TAC-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Comic Sans MS"/>
              </a:rPr>
              <a:t>Subanalysis of NC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762200"/>
            <a:ext cx="876312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Kt/v as a function of nPCR &amp; BUN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(Mechanistic analysis by Gotch &amp; Sargent  198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Kt/v : integration of clearance of BUN and Td  p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volume distribution </a:t>
            </a: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[ Kt/V~ fn(nPCR/TAC)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Low Kt/v &lt; 0.8 asso with high PF irrespective of BUN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or nPC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4 fold PF observed in Kt/v&lt; 0.8 compare to Kt/v 1-1.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Is the better outcome  attained if Kt/v beyond 1 ---???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------ too small sample siz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5057280" y="624852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Comic Sans MS"/>
              </a:rPr>
              <a:t>Kidney Int1985:28(3):526-3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5715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70040" y="6272280"/>
            <a:ext cx="31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Comic Sans MS"/>
              </a:rPr>
              <a:t>Kidney Int1985:28(3):526-3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66ffff"/>
                </a:solidFill>
                <a:latin typeface="Comic Sans MS"/>
              </a:rPr>
              <a:t>Studies during 1990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1050840" y="2287440"/>
            <a:ext cx="73310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During 1990S, a great deal of studies demonstrate benefit in mortality and morbidity as increase Kt/v&gt;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All are non-controlled trail studies,  both- retrospective and prospectiv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The optimal Kt/v is on the wide range among these stud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Comic Sans MS"/>
              </a:rPr>
              <a:t>Studies, 1990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600200"/>
            <a:ext cx="79246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#1992;  CharraB reporte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Non-controlled trail ,445 P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regimen 6-8 hr, 3HD/week </a:t>
            </a: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[Kt/v~1.67]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result: at 6mo, Pt became normotensive without antiHT drug and Hct~2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survival  5 yrs.----- 87%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10 yrs ----- 70%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15 yrs ----- 55%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Better survival than usual report came from higher HD dose and BP control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4798080" y="622620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Comic Sans MS"/>
              </a:rPr>
              <a:t>Kidney Int 1992;41(5): 1286-9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66ffff"/>
                </a:solidFill>
                <a:latin typeface="Comic Sans MS"/>
              </a:rPr>
              <a:t>Studies during,1990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717120" y="1676520"/>
            <a:ext cx="8388720" cy="48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1993,Owen reporte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Retrospective cohort~13400 Pt, duration 1990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Lower URR than 65% are asso with increase of mort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Mortality risk is worse by malnutrition</a:t>
            </a:r>
            <a:r>
              <a:rPr b="1" lang="en-US" sz="2000" spc="-1" strike="noStrike">
                <a:solidFill>
                  <a:srgbClr val="ffff99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551600" y="2971800"/>
            <a:ext cx="1819080" cy="1617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URR       Od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65-69      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55-59       1.2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55          1.3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2971800"/>
            <a:ext cx="2514600" cy="1693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Alb         Od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            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.5-3.9    1.4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3.5        3.1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5165640" y="6272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5311080" y="634824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Comic Sans MS"/>
              </a:rPr>
              <a:t>NEJM1993;329(14):1001-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Comic Sans MS"/>
              </a:rPr>
              <a:t>Topic of adequacy in H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812520" y="1828800"/>
            <a:ext cx="71330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Uremic syndrome &amp; uremic tox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Minimum &amp;optimum dose of H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Method to quantitate dose of HD &amp; UK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Algorithm to correct  low delivery dose of H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Importance of time &amp; frequency in HD regi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Alternative method to quantitate dose of H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KT, EKR, stdKt/v, S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01000" cy="5562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402880" y="6400800"/>
            <a:ext cx="28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Comic Sans MS"/>
              </a:rPr>
              <a:t>NEJM1993;329(14):1001-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Comic Sans MS"/>
              </a:rPr>
              <a:t>Studies, 1990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1299960" y="1523880"/>
            <a:ext cx="6828120" cy="68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1994, Collin reporte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retrospective cohort~ 1800 Pt during 1976-8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Higher Kt/v/v was asso with better surviv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Kt/v 1.2-1.4 was optimal for nonD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Kt/v &gt;1.4 was optimal for D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523880" y="43434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5936760" y="61196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Comic Sans MS"/>
              </a:rPr>
              <a:t>AJKD1994;24(1):15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1681560" y="2590920"/>
            <a:ext cx="4753800" cy="199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t/v           NoDM                 D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-1.2           1                        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2&lt;1.4        0.64                  0.7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1.4           0.67                  0.60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3352680"/>
            <a:ext cx="510552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2590920"/>
            <a:ext cx="0" cy="198108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66ffff"/>
                </a:solidFill>
                <a:latin typeface="Comic Sans MS"/>
              </a:rPr>
              <a:t>Studies, 1990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523880"/>
            <a:ext cx="80010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 u="sng">
                <a:solidFill>
                  <a:srgbClr val="ffffff"/>
                </a:solidFill>
                <a:uFillTx/>
                <a:latin typeface="Comic Sans MS"/>
              </a:rPr>
              <a:t># 1994, Haki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Non-controlled trail 130 Pt, during 1988-9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Outcome:  MR (gross &amp; SMR) and morbidity during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 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increase </a:t>
            </a: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Kt/v~0.82 to 1.3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th-TH" sz="2000" spc="-1" strike="noStrike">
                <a:solidFill>
                  <a:srgbClr val="ffff99"/>
                </a:solidFill>
                <a:latin typeface="Comic Sans MS"/>
              </a:rPr>
              <a:t>[SMR- Std match MR compare to expected death from USRD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99"/>
                </a:solidFill>
                <a:latin typeface="Comic Sans MS"/>
              </a:rPr>
              <a:t>   </a:t>
            </a:r>
            <a:r>
              <a:rPr b="0" lang="th-TH" sz="2000" spc="-1" strike="noStrike">
                <a:solidFill>
                  <a:srgbClr val="ffff99"/>
                </a:solidFill>
                <a:latin typeface="Comic Sans MS"/>
              </a:rPr>
              <a:t>by adjusting dermograpic data &amp; commodity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Lower mortality &amp; Hosp admission was observed wit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increase Kt/v. </a:t>
            </a: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gross-MR from 22.8%…to…9.1%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SMR  from 1.03…to…o.6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5165640" y="6066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5511240" y="6095880"/>
            <a:ext cx="30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Comic Sans MS"/>
              </a:rPr>
              <a:t>Hakim et al,JASN,MAY199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66ffff"/>
                </a:solidFill>
                <a:latin typeface="Comic Sans MS"/>
              </a:rPr>
              <a:t>Studies, 1990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523880"/>
            <a:ext cx="838188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 u="sng">
                <a:solidFill>
                  <a:srgbClr val="ffffff"/>
                </a:solidFill>
                <a:uFillTx/>
                <a:latin typeface="Comic Sans MS"/>
              </a:rPr>
              <a:t>#1996, Held et a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retrospective study 5800Pt from USRDS data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 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during 1994-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MR after adjusting for commodity was inversely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 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relate with Kt/v &amp; URR. But further increase </a:t>
            </a: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URR&gt;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70% and Kt/v &gt; 1.3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wasn’t asso with reduction o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 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MR [J-point phenomenon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4829400" y="5638680"/>
            <a:ext cx="30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Comic Sans MS"/>
              </a:rPr>
              <a:t>Kidney Int1996;50:550-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924680" cy="5486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438880" y="6172200"/>
            <a:ext cx="30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ff"/>
                </a:solidFill>
                <a:latin typeface="Comic Sans MS"/>
              </a:rPr>
              <a:t>Kidney Int1996;50:550-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Comic Sans MS"/>
              </a:rPr>
              <a:t>DOQI recommend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981080"/>
            <a:ext cx="8102880" cy="33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3HD/week, minimum deliver spKt/v= 1.2 or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RR 65% [black or non-black, DM or nonDM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However, URR can be varied as a function of fluid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remov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Prescribe Kt/v, at least, is 1.3 or URR=70%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Optimum dose has not known, awaiting HEMO stu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Method: spKt/v by UKM or Daugirus formul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320" y="457200"/>
            <a:ext cx="7235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 u="sng">
                <a:solidFill>
                  <a:srgbClr val="ffff99"/>
                </a:solidFill>
                <a:uFillTx/>
                <a:latin typeface="Comic Sans MS"/>
              </a:rPr>
              <a:t>Kt/V = URR(diffuse)+ convect(UF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</a:rPr>
              <a:t>Kt/V </a:t>
            </a:r>
            <a:r>
              <a:rPr b="1" lang="th-TH" sz="2000" spc="-1" strike="noStrike" u="sng">
                <a:solidFill>
                  <a:srgbClr val="ffffff"/>
                </a:solidFill>
                <a:uFillTx/>
                <a:latin typeface="Comic Sans MS"/>
              </a:rPr>
              <a:t>1.2+UF</a:t>
            </a:r>
            <a:r>
              <a:rPr b="1" lang="th-TH" sz="20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1" lang="th-TH" sz="2000" spc="-1" strike="noStrike" u="sng">
                <a:solidFill>
                  <a:srgbClr val="ffffff"/>
                </a:solidFill>
                <a:uFillTx/>
                <a:latin typeface="Comic Sans MS"/>
              </a:rPr>
              <a:t>1.1+without UF</a:t>
            </a:r>
            <a:r>
              <a:rPr b="1" lang="th-TH" sz="2000" spc="-1" strike="noStrike">
                <a:solidFill>
                  <a:srgbClr val="ffffff"/>
                </a:solidFill>
                <a:latin typeface="Comic Sans MS"/>
              </a:rPr>
              <a:t> correlated with URR 65%</a:t>
            </a:r>
            <a:r>
              <a:rPr b="1" lang="th-TH" sz="20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696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Comic Sans MS"/>
              </a:rPr>
              <a:t>DOQI: Rationa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828800"/>
            <a:ext cx="807732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Comic Sans MS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ffff"/>
                </a:solidFill>
                <a:latin typeface="Comic Sans MS"/>
              </a:rPr>
              <a:t>  </a:t>
            </a: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NCDS 1985: At least Kt/v =1,  much increase MR i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Kt/v&lt;0.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   </a:t>
            </a:r>
            <a:r>
              <a:rPr b="0" lang="th-TH" sz="2400" spc="-1" strike="noStrike" u="sng">
                <a:solidFill>
                  <a:srgbClr val="ffff99"/>
                </a:solidFill>
                <a:uFillTx/>
                <a:latin typeface="Comic Sans MS"/>
              </a:rPr>
              <a:t>limitation: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- restrict demographic data ( nonDM,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                     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age&lt;70, commodit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                   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- Only mobility difference, not MR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  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----- too short period study?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RPA guideline #1993: minimumspKt/v=1.2</a:t>
            </a:r>
            <a:r>
              <a:rPr b="1" lang="th-TH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and URR</a:t>
            </a:r>
            <a:r>
              <a:rPr b="1" lang="th-TH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65%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Comic Sans MS"/>
              </a:rPr>
              <a:t>DOQI: Rationa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600200"/>
            <a:ext cx="8839080" cy="58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RPA guideline #1993: minimum spKt/v=1.2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URR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65%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From available data in that time, analysis QALE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and lifetime cost ------ yielding cost-effectiveness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dose of HD (QALE ~ life Pt expectancy adjust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with probability to avoid uremia &amp; Rx-complicati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QALE is increase with increase Kt/v to a tes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level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Kt/v from 0.4 to 1.6), but not in stepwise fash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Cost is sharply increase at Kt/v=1.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6248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Comic Sans MS"/>
              </a:rPr>
              <a:t>JASN1993;4:1004-2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Comic Sans MS"/>
              </a:rPr>
              <a:t>Factors determine mobility &amp; mortalit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743200"/>
            <a:ext cx="3581640" cy="2882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10000"/>
                </a:solidFill>
                <a:uFillTx/>
                <a:latin typeface="Comic Sans MS"/>
              </a:rPr>
              <a:t>Patients’ fact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ge &amp; r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od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imary rena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z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ychological fa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2666880"/>
            <a:ext cx="3962160" cy="2913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Comic Sans MS"/>
              </a:rPr>
              <a:t>Dialysis’s fac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mic Sans MS"/>
              </a:rPr>
              <a:t>dose &amp; regi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mic Sans MS"/>
              </a:rPr>
              <a:t>Mem&amp;biocompatibi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mic Sans MS"/>
              </a:rPr>
              <a:t>malnutr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mic Sans MS"/>
              </a:rPr>
              <a:t>inflam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Comic Sans MS"/>
              </a:rPr>
              <a:t>DOQI: Rationa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523880"/>
            <a:ext cx="754380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Comic Sans MS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ll studies, EXCEPT NCDS, though favoring higher Kt/v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are non-R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lack of Std collecting blood samp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broad range of optimal Kt/v, Not all studies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show benefit at Kt/v&gt;1.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Comic Sans M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escribe Kt/v, at least, 1.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Studies suggested only 50% of Pt receiv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minimal delivery Kt/v(1.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NIH-HEMO study: With rigorous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implementation of giving HD dose, 90% CI o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deliver Kt/v is 1.3+/-0.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5320" y="34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Comic Sans MS"/>
              </a:rPr>
              <a:t>HEMO stud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428760" y="1828800"/>
            <a:ext cx="798336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Multicenter prospective control trial~ 900 P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Compare:  1 HD dos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RR 65 vs 75%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pKt/v &gt;1.2(1.21-1.35)  vs  &gt;1.6(1.65-1.8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Kt/v 1.05  vs  1.4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2 membrane &amp; reuse techniq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Outcome:</a:t>
            </a:r>
            <a:r>
              <a:rPr b="0" lang="en-US" sz="2400" spc="-1" strike="noStrike" baseline="30000">
                <a:solidFill>
                  <a:srgbClr val="ffff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ffff99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end point- d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ff99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end point- Hosp admission, serumAl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001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362320"/>
            <a:ext cx="7772400" cy="1828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thod Quantitat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se of H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Comic Sans MS"/>
              </a:rPr>
              <a:t>Quantitating of HD Do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2209680"/>
            <a:ext cx="3352680" cy="36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Blood side meth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TAC and nPC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U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spKt/v &amp; eKt/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K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EKR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standardKt/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4317840" y="2209680"/>
            <a:ext cx="4584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Dialysate side meth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the whole coll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samp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online urea sensor( real tim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Comic Sans MS"/>
              </a:rPr>
              <a:t>Kt/v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2286000"/>
            <a:ext cx="3124440" cy="2800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 u="sng">
                <a:solidFill>
                  <a:srgbClr val="000000"/>
                </a:solidFill>
                <a:uFillTx/>
                <a:latin typeface="Comic Sans MS"/>
              </a:rPr>
              <a:t>Prescribe Kt/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mic Sans MS"/>
              </a:rPr>
              <a:t>KD: correct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Comic Sans MS"/>
              </a:rPr>
              <a:t>KOA, BFR,DF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mic Sans MS"/>
              </a:rPr>
              <a:t>V- anthropomet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mic Sans MS"/>
              </a:rPr>
              <a:t>t- T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3581280"/>
            <a:ext cx="838440" cy="381240"/>
          </a:xfrm>
          <a:prstGeom prst="rightArrow">
            <a:avLst>
              <a:gd name="adj1" fmla="val 50000"/>
              <a:gd name="adj2" fmla="val 54981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1828800"/>
            <a:ext cx="4343400" cy="46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h-TH" sz="2800" spc="-1" strike="noStrike" u="sng">
                <a:solidFill>
                  <a:srgbClr val="000000"/>
                </a:solidFill>
                <a:uFillTx/>
                <a:latin typeface="Comic Sans MS"/>
              </a:rPr>
              <a:t>Delivery Kt/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omic Sans MS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h-TH" sz="2400" spc="-1" strike="noStrike" u="sng">
                <a:solidFill>
                  <a:srgbClr val="000000"/>
                </a:solidFill>
                <a:uFillTx/>
                <a:latin typeface="Comic Sans MS"/>
              </a:rPr>
              <a:t>spKt/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mic Sans MS"/>
              </a:rPr>
              <a:t>UK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mic Sans MS"/>
              </a:rPr>
              <a:t>simplified mathematics(natural log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omic Sans MS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h-TH" sz="2400" spc="-1" strike="noStrike" u="sng">
                <a:solidFill>
                  <a:srgbClr val="000000"/>
                </a:solidFill>
                <a:uFillTx/>
                <a:latin typeface="Comic Sans MS"/>
              </a:rPr>
              <a:t>dpKt/v (eKt/v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mic Sans MS"/>
              </a:rPr>
              <a:t>by collect blood sampling at 30 mi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mic Sans MS"/>
              </a:rPr>
              <a:t>by rate Eq formu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mic Sans MS"/>
              </a:rPr>
              <a:t>eKt/v = Kt/v - 0.6k/v + 0.03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mic Sans MS"/>
              </a:rPr>
              <a:t>        </a:t>
            </a:r>
            <a:r>
              <a:rPr b="0" lang="th-TH" sz="2400" spc="-1" strike="noStrike">
                <a:solidFill>
                  <a:srgbClr val="003366"/>
                </a:solidFill>
                <a:latin typeface="Comic Sans MS"/>
              </a:rPr>
              <a:t>(for AVacces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457200"/>
            <a:ext cx="1828800" cy="1066680"/>
          </a:xfrm>
          <a:prstGeom prst="ellipse">
            <a:avLst/>
          </a:prstGeom>
          <a:noFill/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ffff"/>
                </a:solidFill>
                <a:uFillTx/>
                <a:latin typeface="Comic Sans MS"/>
              </a:rPr>
              <a:t>Kt/v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925200" y="13716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lding tank 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8098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alyzed blood is continuously return to the ta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257800" y="3962520"/>
            <a:ext cx="3400560" cy="2514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600200" y="2133720"/>
            <a:ext cx="0" cy="144756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581280"/>
            <a:ext cx="1676520" cy="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2438280"/>
            <a:ext cx="990720" cy="1143000"/>
          </a:xfrm>
          <a:prstGeom prst="line">
            <a:avLst/>
          </a:prstGeom>
          <a:ln cap="rnd" w="28440">
            <a:solidFill>
              <a:srgbClr val="66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4800600"/>
            <a:ext cx="0" cy="144792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6248520"/>
            <a:ext cx="1676160" cy="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4876920"/>
            <a:ext cx="1371600" cy="1066680"/>
          </a:xfrm>
          <a:custGeom>
            <a:avLst/>
            <a:gdLst/>
            <a:ahLst/>
            <a:rect l="l" t="t" r="r" b="b"/>
            <a:pathLst>
              <a:path w="1104" h="928">
                <a:moveTo>
                  <a:pt x="0" y="0"/>
                </a:moveTo>
                <a:cubicBezTo>
                  <a:pt x="16" y="48"/>
                  <a:pt x="32" y="96"/>
                  <a:pt x="48" y="144"/>
                </a:cubicBezTo>
                <a:cubicBezTo>
                  <a:pt x="64" y="192"/>
                  <a:pt x="80" y="256"/>
                  <a:pt x="96" y="288"/>
                </a:cubicBezTo>
                <a:cubicBezTo>
                  <a:pt x="112" y="320"/>
                  <a:pt x="128" y="312"/>
                  <a:pt x="144" y="336"/>
                </a:cubicBezTo>
                <a:cubicBezTo>
                  <a:pt x="160" y="360"/>
                  <a:pt x="152" y="384"/>
                  <a:pt x="192" y="432"/>
                </a:cubicBezTo>
                <a:cubicBezTo>
                  <a:pt x="232" y="480"/>
                  <a:pt x="328" y="576"/>
                  <a:pt x="384" y="624"/>
                </a:cubicBezTo>
                <a:cubicBezTo>
                  <a:pt x="440" y="672"/>
                  <a:pt x="488" y="696"/>
                  <a:pt x="528" y="720"/>
                </a:cubicBezTo>
                <a:cubicBezTo>
                  <a:pt x="568" y="744"/>
                  <a:pt x="592" y="752"/>
                  <a:pt x="624" y="768"/>
                </a:cubicBezTo>
                <a:cubicBezTo>
                  <a:pt x="656" y="784"/>
                  <a:pt x="656" y="792"/>
                  <a:pt x="720" y="816"/>
                </a:cubicBezTo>
                <a:cubicBezTo>
                  <a:pt x="784" y="840"/>
                  <a:pt x="944" y="896"/>
                  <a:pt x="1008" y="912"/>
                </a:cubicBezTo>
                <a:cubicBezTo>
                  <a:pt x="1072" y="928"/>
                  <a:pt x="1080" y="912"/>
                  <a:pt x="1104" y="912"/>
                </a:cubicBezTo>
              </a:path>
            </a:pathLst>
          </a:custGeom>
          <a:noFill/>
          <a:ln cap="rnd" w="28440">
            <a:solidFill>
              <a:srgbClr val="66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3282840" y="59436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3215880" y="33526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909360" y="213372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Comic Sans MS"/>
              </a:rPr>
              <a:t>BU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985680" y="47242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Comic Sans MS"/>
              </a:rPr>
              <a:t>BU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ffff"/>
                </a:solidFill>
                <a:uFillTx/>
                <a:latin typeface="Comic Sans MS"/>
              </a:rPr>
              <a:t>Kt/v by UM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1523880"/>
            <a:ext cx="7315200" cy="35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th-TH" sz="2400" spc="-1" strike="noStrike" u="sng">
                <a:solidFill>
                  <a:srgbClr val="ffff99"/>
                </a:solidFill>
                <a:uFillTx/>
                <a:latin typeface="Comic Sans MS"/>
              </a:rPr>
              <a:t>dC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 =  -</a:t>
            </a:r>
            <a:r>
              <a:rPr b="0" lang="th-TH" sz="2400" spc="-1" strike="noStrike">
                <a:solidFill>
                  <a:srgbClr val="66ffff"/>
                </a:solidFill>
                <a:latin typeface="Comic Sans MS"/>
              </a:rPr>
              <a:t>k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C   -------k: fractional of urea cha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C    =   Co </a:t>
            </a:r>
            <a:r>
              <a:rPr b="1" lang="th-TH" sz="2000" spc="-1" strike="noStrike">
                <a:solidFill>
                  <a:srgbClr val="ffff99"/>
                </a:solidFill>
                <a:latin typeface="Comic Sans MS"/>
              </a:rPr>
              <a:t>x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e</a:t>
            </a:r>
            <a:r>
              <a:rPr b="1" lang="th-TH" sz="2400" spc="-1" strike="noStrike" baseline="30000">
                <a:solidFill>
                  <a:srgbClr val="ffff99"/>
                </a:solidFill>
                <a:latin typeface="Comic Sans MS"/>
              </a:rPr>
              <a:t>-Kt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---- C: preBUN, Co: postBU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ln </a:t>
            </a:r>
            <a:r>
              <a:rPr b="0" lang="th-TH" sz="2400" spc="-1" strike="noStrike" u="sng">
                <a:solidFill>
                  <a:srgbClr val="ffff99"/>
                </a:solidFill>
                <a:uFillTx/>
                <a:latin typeface="Comic Sans MS"/>
              </a:rPr>
              <a:t>Co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= </a:t>
            </a:r>
            <a:r>
              <a:rPr b="0" lang="th-TH" sz="2400" spc="-1" strike="noStrike">
                <a:solidFill>
                  <a:srgbClr val="66ffff"/>
                </a:solidFill>
                <a:latin typeface="Comic Sans MS"/>
              </a:rPr>
              <a:t> k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t    =  </a:t>
            </a:r>
            <a:r>
              <a:rPr b="0" lang="th-TH" sz="2400" spc="-1" strike="noStrike" u="sng">
                <a:solidFill>
                  <a:srgbClr val="66ffff"/>
                </a:solidFill>
                <a:uFillTx/>
                <a:latin typeface="Comic Sans MS"/>
              </a:rPr>
              <a:t>K</a:t>
            </a:r>
            <a:r>
              <a:rPr b="1" lang="th-TH" sz="3200" spc="-1" strike="noStrike" baseline="-25000">
                <a:solidFill>
                  <a:srgbClr val="66ffff"/>
                </a:solidFill>
                <a:latin typeface="Comic Sans MS"/>
              </a:rPr>
              <a:t>D</a:t>
            </a:r>
            <a:r>
              <a:rPr b="0" lang="th-TH" sz="2400" spc="-1" strike="noStrike" u="sng">
                <a:solidFill>
                  <a:srgbClr val="ffff99"/>
                </a:solidFill>
                <a:uFillTx/>
                <a:latin typeface="Comic Sans MS"/>
              </a:rPr>
              <a:t>t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 ------ no UF, G, RR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  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C                 </a:t>
            </a: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66ffff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3886200"/>
            <a:ext cx="0" cy="190512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57913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4114800"/>
            <a:ext cx="0" cy="1676520"/>
          </a:xfrm>
          <a:prstGeom prst="line">
            <a:avLst/>
          </a:prstGeom>
          <a:ln cap="rnd" w="28440">
            <a:solidFill>
              <a:srgbClr val="f8f8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548640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4572000"/>
            <a:ext cx="0" cy="99072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6400800" y="4876920"/>
            <a:ext cx="0" cy="68580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0" y="5257800"/>
            <a:ext cx="0" cy="30492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5410080"/>
            <a:ext cx="0" cy="15264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5486400"/>
            <a:ext cx="0" cy="15228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5029200"/>
            <a:ext cx="0" cy="53352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5334120"/>
            <a:ext cx="0" cy="22860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5105520"/>
            <a:ext cx="0" cy="45720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4724280"/>
            <a:ext cx="0" cy="83844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5410080"/>
            <a:ext cx="0" cy="15264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5791320" y="3733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Comic Sans MS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7543440" y="518148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7620120" y="5486400"/>
            <a:ext cx="0" cy="304920"/>
          </a:xfrm>
          <a:prstGeom prst="line">
            <a:avLst/>
          </a:prstGeom>
          <a:ln cap="rnd" w="28440">
            <a:solidFill>
              <a:srgbClr val="f8f8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5791320"/>
            <a:ext cx="2361960" cy="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8083440" y="54864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4419720"/>
            <a:ext cx="4191120" cy="101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[V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  =  G - (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Kr)C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 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 rot="9984000">
            <a:off x="5856120" y="1617120"/>
            <a:ext cx="4156200" cy="37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05" y="620"/>
                </a:moveTo>
                <a:arcTo wR="10800" hR="10800" stAng="-4229944" swAng="4229944"/>
                <a:lnTo>
                  <a:pt x="10800" y="10800"/>
                </a:lnTo>
                <a:close/>
              </a:path>
              <a:path fill="none" w="21600" h="21600">
                <a:moveTo>
                  <a:pt x="14405" y="620"/>
                </a:moveTo>
                <a:arcTo wR="10800" hR="10800" stAng="-4229944" swAng="4229944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Kt/V: UM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736640" y="21034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Formulzv%2018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019920" cy="1752480"/>
          </a:xfrm>
          <a:prstGeom prst="rect">
            <a:avLst/>
          </a:prstGeom>
          <a:ln w="0">
            <a:noFill/>
          </a:ln>
        </p:spPr>
      </p:pic>
      <p:pic>
        <p:nvPicPr>
          <p:cNvPr id="194" name="Furmulzv%201,2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6934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ffff"/>
                </a:solidFill>
                <a:uFillTx/>
                <a:latin typeface="Comic Sans MS"/>
              </a:rPr>
              <a:t>Definition of Adq of H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438280"/>
            <a:ext cx="6858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Treatment regimen that minimizes morbidity,  mortality and a provide good quality of life. The regimen also can be routinely deliv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1432080" y="3246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Kt/V: UM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1965240" y="2637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352680"/>
            <a:ext cx="2819520" cy="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133720"/>
            <a:ext cx="152640" cy="6858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990720" y="2057040"/>
            <a:ext cx="761760" cy="762120"/>
          </a:xfrm>
          <a:prstGeom prst="line">
            <a:avLst/>
          </a:prstGeom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2057400"/>
            <a:ext cx="203400" cy="76212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981080" y="2133360"/>
            <a:ext cx="685800" cy="685800"/>
          </a:xfrm>
          <a:prstGeom prst="line">
            <a:avLst/>
          </a:prstGeom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9480" y="1828440"/>
            <a:ext cx="0" cy="160020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597240" y="1828800"/>
            <a:ext cx="4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Comic Sans MS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7432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3218400" y="3276720"/>
            <a:ext cx="2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2362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ffcc"/>
                </a:solidFill>
                <a:uFillTx/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1325880" y="1523880"/>
            <a:ext cx="7264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Comic Sans MS"/>
              </a:rPr>
              <a:t>G-K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914400" y="1905120"/>
            <a:ext cx="533520" cy="533160"/>
          </a:xfrm>
          <a:prstGeom prst="line">
            <a:avLst/>
          </a:prstGeom>
          <a:ln w="1908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1752480"/>
            <a:ext cx="30621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G=6mg/min ---- V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V            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G            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iterativ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2666880"/>
            <a:ext cx="990720" cy="0"/>
          </a:xfrm>
          <a:prstGeom prst="line">
            <a:avLst/>
          </a:prstGeom>
          <a:ln w="190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2971800"/>
            <a:ext cx="914400" cy="0"/>
          </a:xfrm>
          <a:prstGeom prst="line">
            <a:avLst/>
          </a:prstGeom>
          <a:ln w="190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181480" y="3124080"/>
            <a:ext cx="914400" cy="0"/>
          </a:xfrm>
          <a:prstGeom prst="line">
            <a:avLst/>
          </a:prstGeom>
          <a:ln w="190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Furmulzv%201,2" descr=""/>
          <p:cNvPicPr/>
          <p:nvPr/>
        </p:nvPicPr>
        <p:blipFill>
          <a:blip r:embed="rId1"/>
          <a:stretch/>
        </p:blipFill>
        <p:spPr>
          <a:xfrm>
            <a:off x="1066680" y="4038480"/>
            <a:ext cx="6934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Comic Sans MS"/>
              </a:rPr>
              <a:t>Advantage of UK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1402560" y="1828800"/>
            <a:ext cx="49035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calculation include G, K</a:t>
            </a:r>
            <a:r>
              <a:rPr b="0" lang="en-US" sz="2800" spc="-1" strike="noStrike" baseline="-25000">
                <a:solidFill>
                  <a:srgbClr val="ffff99"/>
                </a:solidFill>
                <a:latin typeface="Comic Sans MS"/>
              </a:rPr>
              <a:t>r, </a:t>
            </a: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U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use for prescribe Kt/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check dose error &amp; corr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calculate nPC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1497600" y="4114800"/>
            <a:ext cx="5467320" cy="2507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pKt/v</a:t>
            </a:r>
            <a:r>
              <a:rPr b="0" lang="en-US" sz="2400" spc="-1" strike="noStrike" baseline="-25000">
                <a:solidFill>
                  <a:srgbClr val="f8f8f8"/>
                </a:solidFill>
                <a:latin typeface="Comic Sans MS"/>
              </a:rPr>
              <a:t>ant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        dKt/v = ln{C/Co --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Comic Sans MS"/>
              </a:rPr>
              <a:t>pKt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/v</a:t>
            </a:r>
            <a:r>
              <a:rPr b="0" lang="en-US" sz="2400" spc="-1" strike="noStrike" baseline="-25000">
                <a:solidFill>
                  <a:srgbClr val="f8f8f8"/>
                </a:solidFill>
                <a:latin typeface="Comic Sans MS"/>
              </a:rPr>
              <a:t>ant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&gt; </a:t>
            </a:r>
            <a:r>
              <a:rPr b="0" lang="en-US" sz="2400" spc="-1" strike="noStrike">
                <a:solidFill>
                  <a:srgbClr val="00ffcc"/>
                </a:solidFill>
                <a:latin typeface="Comic Sans MS"/>
              </a:rPr>
              <a:t>dKt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/v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f8f8f8"/>
                </a:solidFill>
                <a:latin typeface="Comic Sans MS"/>
              </a:rPr>
              <a:t>ant  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&lt;  V ----the truth is pKt&gt; dK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V</a:t>
            </a:r>
            <a:r>
              <a:rPr b="1" lang="en-US" sz="2000" spc="-1" strike="noStrike" baseline="-25000">
                <a:solidFill>
                  <a:srgbClr val="f8f8f8"/>
                </a:solidFill>
                <a:latin typeface="Comic Sans MS"/>
              </a:rPr>
              <a:t>ANT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~ from Watson or Hu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3048120" y="4495680"/>
            <a:ext cx="685800" cy="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66ffff"/>
                </a:solidFill>
                <a:latin typeface="Comic Sans MS"/>
              </a:rPr>
              <a:t>Cause of under prescribe dose </a:t>
            </a:r>
            <a:r>
              <a:rPr b="0" lang="th-TH" sz="2800" spc="-1" strike="noStrike">
                <a:solidFill>
                  <a:srgbClr val="66ffff"/>
                </a:solidFill>
                <a:latin typeface="Comic Sans MS"/>
              </a:rPr>
              <a:t>(v</a:t>
            </a:r>
            <a:r>
              <a:rPr b="0" lang="th-TH" sz="2800" spc="-1" strike="noStrike" baseline="-25000">
                <a:solidFill>
                  <a:srgbClr val="66ffff"/>
                </a:solidFill>
                <a:latin typeface="Comic Sans MS"/>
              </a:rPr>
              <a:t>ANT</a:t>
            </a:r>
            <a:r>
              <a:rPr b="0" lang="th-TH" sz="2800" spc="-1" strike="noStrike">
                <a:solidFill>
                  <a:srgbClr val="66ffff"/>
                </a:solidFill>
                <a:latin typeface="Comic Sans MS"/>
              </a:rPr>
              <a:t> &lt; v than 20%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" y="1905120"/>
            <a:ext cx="429840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Low 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1  BF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vascular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small needle &amp; dir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Bl tube &amp; pu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2 DF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3 Ko</a:t>
            </a:r>
            <a:r>
              <a:rPr b="1" lang="en-US" sz="2400" spc="-1" strike="noStrike">
                <a:solidFill>
                  <a:srgbClr val="ffff99"/>
                </a:solidFill>
                <a:latin typeface="Comic Sans MS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vitro&gt; v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clotting, re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4939560" y="1905120"/>
            <a:ext cx="3794040" cy="42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Time err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interrup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Bl sampling err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sampling later&gt;5 m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dilution pre-BU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Actually V&gt;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V</a:t>
            </a:r>
            <a:r>
              <a:rPr b="1" lang="en-US" sz="20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mark ede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ffff"/>
                </a:solidFill>
                <a:uFillTx/>
                <a:latin typeface="Comic Sans MS"/>
              </a:rPr>
              <a:t>Surveillance for non-delivery do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432080" y="1874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1760760" y="2209680"/>
            <a:ext cx="468108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Kt/v        V          B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JAN           1.5           35            6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MARCH      1.3           39            6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MAY          1.0            43            6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JUNE         1.5           35            6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2819520"/>
            <a:ext cx="533412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4343400"/>
            <a:ext cx="487692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6423120" y="4038480"/>
            <a:ext cx="272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Comic Sans MS"/>
              </a:rPr>
              <a:t>Correct recircul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ffff"/>
                </a:solidFill>
                <a:uFillTx/>
                <a:latin typeface="Comic Sans MS"/>
              </a:rPr>
              <a:t>Calculation nPN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2133720"/>
            <a:ext cx="1981080" cy="727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ein   catabol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2133720"/>
            <a:ext cx="1844640" cy="678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ein anabol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1134360" y="3352680"/>
            <a:ext cx="2189520" cy="532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ein intak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4755240" y="3352680"/>
            <a:ext cx="3592800" cy="532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rea+ nonurea N-was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3429000" y="2743200"/>
            <a:ext cx="1828800" cy="38088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362320"/>
            <a:ext cx="1981080" cy="380880"/>
          </a:xfrm>
          <a:prstGeom prst="leftRightArrow">
            <a:avLst>
              <a:gd name="adj1" fmla="val 50000"/>
              <a:gd name="adj2" fmla="val 103545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1432440" y="4176720"/>
            <a:ext cx="64825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ffff"/>
                </a:solidFill>
                <a:latin typeface="Comic Sans MS"/>
              </a:rPr>
              <a:t>nPNA = nPCR …at steady stg..= nPNA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ffff"/>
                </a:solidFill>
                <a:latin typeface="Comic Sans MS"/>
              </a:rPr>
              <a:t>       </a:t>
            </a:r>
            <a:r>
              <a:rPr b="0" lang="th-TH" sz="2800" spc="-1" strike="noStrike">
                <a:solidFill>
                  <a:srgbClr val="ccffff"/>
                </a:solidFill>
                <a:latin typeface="Comic Sans MS"/>
              </a:rPr>
              <a:t>nPNA = 9.35G+0.29V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5000"/>
              </a:lnSpc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8f8f8"/>
                </a:solidFill>
                <a:latin typeface="Comic Sans MS"/>
              </a:rPr>
              <a:t>AS anabolic state : DPI&gt; nP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5000"/>
              </a:lnSpc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8f8f8"/>
                </a:solidFill>
                <a:latin typeface="Comic Sans MS"/>
              </a:rPr>
              <a:t>As catabolic state : DPI&lt; nP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ffff"/>
                </a:solidFill>
                <a:uFillTx/>
                <a:latin typeface="Comic Sans MS"/>
              </a:rPr>
              <a:t>Kt/v natural logarithm formula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1355760" y="2255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1622520" y="2057400"/>
            <a:ext cx="5714280" cy="691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t/v= -ln(R-0.008t)+ [(4-3.5R)UF/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2899440" y="2895480"/>
            <a:ext cx="37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mic Sans MS"/>
              </a:rPr>
              <a:t>Diffusion, G          conv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3505320" y="2133360"/>
            <a:ext cx="152280" cy="152388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6134040" y="194256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371600" y="3809880"/>
          <a:ext cx="617220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9880"/>
                    <a:ext cx="617220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190520" y="5257800"/>
            <a:ext cx="65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Comic Sans MS"/>
              </a:rPr>
              <a:t>(For mid week Kt/V, anuric Pt, 3HD per wee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Double pool Kt/V (eKt/V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1355760" y="17985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 u="sng">
                <a:solidFill>
                  <a:srgbClr val="66ffff"/>
                </a:solidFill>
                <a:uFillTx/>
                <a:latin typeface="Comic Sans MS"/>
              </a:rPr>
              <a:t>dpKt/V from rate Eq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2207160" y="1612800"/>
            <a:ext cx="428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eKt/V = spKt/V-0.6K/V+0.0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= spKt/V(1-0.6/Td)+0.0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1981080" y="3124080"/>
            <a:ext cx="0" cy="281952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943600"/>
            <a:ext cx="426744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6249600" y="58150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T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188720" y="29718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Kt/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5791320"/>
            <a:ext cx="0" cy="2286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2819520" y="5867280"/>
            <a:ext cx="0" cy="15264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2665800" y="594360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2h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5397480" y="594216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0h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 flipV="1" rot="10644000">
            <a:off x="2849400" y="4043520"/>
            <a:ext cx="609732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90829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908294"/>
              </a:path>
            </a:pathLst>
          </a:cu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809880"/>
            <a:ext cx="3124080" cy="0"/>
          </a:xfrm>
          <a:prstGeom prst="line">
            <a:avLst/>
          </a:prstGeom>
          <a:ln w="38160">
            <a:solidFill>
              <a:srgbClr val="ff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3809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3809880"/>
            <a:ext cx="9144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1324440" y="36576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5292360" y="3429000"/>
            <a:ext cx="11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ccff"/>
                </a:solidFill>
                <a:latin typeface="Comic Sans MS"/>
              </a:rPr>
              <a:t>spKt/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5659920" y="393228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66ffff"/>
                </a:solidFill>
                <a:latin typeface="Comic Sans MS"/>
              </a:rPr>
              <a:t>dpKt/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5334120"/>
            <a:ext cx="9144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1326240" y="5181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0.8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5334120"/>
            <a:ext cx="0" cy="6858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2819520" y="3886200"/>
            <a:ext cx="0" cy="1219320"/>
          </a:xfrm>
          <a:prstGeom prst="line">
            <a:avLst/>
          </a:prstGeom>
          <a:ln w="2844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114800" y="441936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980720" y="4419720"/>
            <a:ext cx="20574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3942360" y="5942160"/>
            <a:ext cx="4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5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1219320" y="4191120"/>
            <a:ext cx="7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.0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4038480" y="3886200"/>
            <a:ext cx="0" cy="457200"/>
          </a:xfrm>
          <a:prstGeom prst="line">
            <a:avLst/>
          </a:prstGeom>
          <a:ln w="2844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Comic Sans MS"/>
              </a:rPr>
              <a:t>Cause of rebou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1523880" y="1752480"/>
            <a:ext cx="687384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1. Flow depend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cardiopulmonary recurcula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occur only AV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regional Bl f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risk: highQb, lowCO, PPV d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2  diffusive depend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intra &amp; extra disequilibriu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depend on mol. 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57600" y="838080"/>
            <a:ext cx="15746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mic Sans MS"/>
              </a:rPr>
              <a:t>Adequat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mic Sans MS"/>
              </a:rPr>
              <a:t>solute remov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1303920" y="1655640"/>
            <a:ext cx="2219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mic Sans MS"/>
              </a:rPr>
              <a:t>Water, Ely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mic Sans MS"/>
              </a:rPr>
              <a:t>and A-B bal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730800" y="2971800"/>
            <a:ext cx="14929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mic Sans MS"/>
              </a:rPr>
              <a:t>BP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5209200" y="1579680"/>
            <a:ext cx="2142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mic Sans MS"/>
              </a:rPr>
              <a:t>Correct anem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6636240" y="2170080"/>
            <a:ext cx="20566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mic Sans MS"/>
              </a:rPr>
              <a:t>Good nutri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6464520" y="3048120"/>
            <a:ext cx="2017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mic Sans MS"/>
              </a:rPr>
              <a:t>Biocompat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817000" y="2666880"/>
            <a:ext cx="3338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Comic Sans MS"/>
              </a:rPr>
              <a:t>Dialysis adequa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43400"/>
            <a:ext cx="35812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quality  of lif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fully rehabili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morbidity &amp;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mortality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1676520"/>
            <a:ext cx="0" cy="1218960"/>
          </a:xfrm>
          <a:prstGeom prst="line">
            <a:avLst/>
          </a:prstGeom>
          <a:ln w="2844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267080" y="1981080"/>
            <a:ext cx="1524240" cy="871560"/>
          </a:xfrm>
          <a:prstGeom prst="line">
            <a:avLst/>
          </a:prstGeom>
          <a:ln w="2844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286000"/>
            <a:ext cx="990360" cy="571680"/>
          </a:xfrm>
          <a:prstGeom prst="line">
            <a:avLst/>
          </a:prstGeom>
          <a:ln w="2844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3200400"/>
            <a:ext cx="838080" cy="0"/>
          </a:xfrm>
          <a:prstGeom prst="line">
            <a:avLst/>
          </a:prstGeom>
          <a:ln w="2844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19560" y="3200400"/>
            <a:ext cx="609480" cy="0"/>
          </a:xfrm>
          <a:prstGeom prst="line">
            <a:avLst/>
          </a:prstGeom>
          <a:ln w="2844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3429000"/>
            <a:ext cx="379440" cy="762120"/>
          </a:xfrm>
          <a:prstGeom prst="downArrow">
            <a:avLst>
              <a:gd name="adj1" fmla="val 50000"/>
              <a:gd name="adj2" fmla="val 5021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724280" y="2362320"/>
            <a:ext cx="1981440" cy="530280"/>
          </a:xfrm>
          <a:prstGeom prst="line">
            <a:avLst/>
          </a:prstGeom>
          <a:ln w="2844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me_o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ffff"/>
                </a:solidFill>
                <a:uFillTx/>
                <a:latin typeface="Comic Sans MS"/>
              </a:rPr>
              <a:t>Alt.. Quantitating dose:K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905120"/>
            <a:ext cx="853452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t/V- clearance per Vol distrib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base on assumption that V not alter outcome - not tru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Black, relatively Kt/V &lt; white, has better outc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Black, larger 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than white resulted in lower Kt/V despit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of high K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J curve relation between Kt/V &amp; MR( Kt/V&gt; 1.6 or URR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75%) </a:t>
            </a: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but not KT.</a:t>
            </a: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More severe malnutrition in Gr. of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extreme high Kt/V.</a:t>
            </a: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  </a:t>
            </a:r>
            <a:r>
              <a:rPr b="1" i="1" lang="en-US" sz="2000" spc="-1" strike="noStrike">
                <a:solidFill>
                  <a:srgbClr val="ff9999"/>
                </a:solidFill>
                <a:latin typeface="Comic Sans MS"/>
              </a:rPr>
              <a:t>Chertow et al, Kidney Int 199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ffff"/>
                </a:solidFill>
                <a:uFillTx/>
                <a:latin typeface="Comic Sans MS"/>
              </a:rPr>
              <a:t>Alt.. Quantitating dose:K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1600200"/>
            <a:ext cx="0" cy="19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3581280"/>
            <a:ext cx="2819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1600200"/>
            <a:ext cx="0" cy="19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3581280"/>
            <a:ext cx="2895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 flipV="1" rot="1918200">
            <a:off x="348120" y="-198000"/>
            <a:ext cx="3705840" cy="323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76" y="1040"/>
                </a:moveTo>
                <a:arcTo wR="10800" hR="10800" stAng="-6921061" swAng="5275174"/>
                <a:lnTo>
                  <a:pt x="10800" y="10800"/>
                </a:lnTo>
                <a:close/>
              </a:path>
              <a:path fill="none" w="21600" h="21600">
                <a:moveTo>
                  <a:pt x="6176" y="1040"/>
                </a:moveTo>
                <a:arcTo wR="10800" hR="10800" stAng="-6921061" swAng="5275174"/>
              </a:path>
            </a:pathLst>
          </a:custGeom>
          <a:noFill/>
          <a:ln w="284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3048120"/>
            <a:ext cx="0" cy="457200"/>
          </a:xfrm>
          <a:prstGeom prst="line">
            <a:avLst/>
          </a:prstGeom>
          <a:ln w="2844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2350080" y="358128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mic Sans MS"/>
              </a:rPr>
              <a:t>Kt/V 1.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152388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mic Sans MS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4644360" y="1523880"/>
            <a:ext cx="51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mic Sans MS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4648320" y="2286000"/>
            <a:ext cx="2209680" cy="593640"/>
          </a:xfrm>
          <a:prstGeom prst="line">
            <a:avLst/>
          </a:prstGeom>
          <a:ln w="284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6381000" y="35812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mic Sans MS"/>
              </a:rPr>
              <a:t>Kt=50.7 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2895480"/>
            <a:ext cx="0" cy="762120"/>
          </a:xfrm>
          <a:prstGeom prst="line">
            <a:avLst/>
          </a:prstGeom>
          <a:ln w="2844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449568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 u="sng">
                <a:solidFill>
                  <a:srgbClr val="ccffff"/>
                </a:solidFill>
                <a:uFillTx/>
                <a:latin typeface="Comic Sans MS"/>
              </a:rPr>
              <a:t>J curve relation between Kt/V and M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Pt with low V, more severe malnutrition, who had high MR stayed in high Kt/V G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Higher Kt asso better survival and nutri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ccffff"/>
                </a:solidFill>
                <a:latin typeface="Comic Sans MS"/>
              </a:rPr>
              <a:t>------------ Just X-sectional study ------------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2895480" y="2590920"/>
            <a:ext cx="15264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2057400"/>
            <a:ext cx="16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More malnutri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1351080" y="3962520"/>
            <a:ext cx="58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000" spc="-1" strike="noStrike">
                <a:solidFill>
                  <a:srgbClr val="ff9999"/>
                </a:solidFill>
                <a:latin typeface="Comic Sans MS"/>
              </a:rPr>
              <a:t>Modified from Chertow et al, Kidney Int 199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2933640" y="31240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Q5,34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1638360" y="31240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Q3,40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0" y="2895480"/>
            <a:ext cx="457200" cy="0"/>
          </a:xfrm>
          <a:prstGeom prst="line">
            <a:avLst/>
          </a:prstGeom>
          <a:ln w="284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800600" y="2438280"/>
            <a:ext cx="2362320" cy="533520"/>
          </a:xfrm>
          <a:prstGeom prst="line">
            <a:avLst/>
          </a:prstGeom>
          <a:ln w="3816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7177680" y="20574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V=49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4663800" y="289548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mic Sans MS"/>
              </a:rPr>
              <a:t>V=33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ffff"/>
                </a:solidFill>
                <a:uFillTx/>
                <a:latin typeface="Comic Sans MS"/>
              </a:rPr>
              <a:t>Alt.. Quantitating dose:K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1905120"/>
            <a:ext cx="0" cy="2057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3962520"/>
            <a:ext cx="2819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057400"/>
            <a:ext cx="0" cy="1905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5029200" y="3962520"/>
            <a:ext cx="2819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2438280"/>
            <a:ext cx="1828800" cy="609840"/>
          </a:xfrm>
          <a:prstGeom prst="line">
            <a:avLst/>
          </a:prstGeom>
          <a:ln w="284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3048120"/>
            <a:ext cx="533520" cy="0"/>
          </a:xfrm>
          <a:prstGeom prst="line">
            <a:avLst/>
          </a:prstGeom>
          <a:ln w="284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2666880"/>
            <a:ext cx="1828800" cy="609840"/>
          </a:xfrm>
          <a:prstGeom prst="line">
            <a:avLst/>
          </a:prstGeom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2895480"/>
            <a:ext cx="1828800" cy="6098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3276720"/>
            <a:ext cx="533520" cy="0"/>
          </a:xfrm>
          <a:prstGeom prst="line">
            <a:avLst/>
          </a:prstGeom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895480" y="3505320"/>
            <a:ext cx="533520" cy="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3048120"/>
            <a:ext cx="0" cy="914400"/>
          </a:xfrm>
          <a:prstGeom prst="line">
            <a:avLst/>
          </a:prstGeom>
          <a:ln w="2844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2502360" y="396252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mic Sans MS"/>
              </a:rPr>
              <a:t>Kt/V 1.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970920" y="16747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48920" y="1676520"/>
            <a:ext cx="51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5105520" y="3124080"/>
            <a:ext cx="2057400" cy="3812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7162920" y="3505320"/>
            <a:ext cx="533160" cy="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5105520" y="2895480"/>
            <a:ext cx="1600200" cy="381240"/>
          </a:xfrm>
          <a:prstGeom prst="line">
            <a:avLst/>
          </a:prstGeom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6705720" y="3276720"/>
            <a:ext cx="685800" cy="0"/>
          </a:xfrm>
          <a:prstGeom prst="line">
            <a:avLst/>
          </a:prstGeom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5105520" y="2666880"/>
            <a:ext cx="1371600" cy="457200"/>
          </a:xfrm>
          <a:prstGeom prst="line">
            <a:avLst/>
          </a:prstGeom>
          <a:ln w="284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6477120" y="3124080"/>
            <a:ext cx="685800" cy="0"/>
          </a:xfrm>
          <a:prstGeom prst="line">
            <a:avLst/>
          </a:prstGeom>
          <a:ln w="284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99ff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6705720" y="3276720"/>
            <a:ext cx="0" cy="685800"/>
          </a:xfrm>
          <a:prstGeom prst="line">
            <a:avLst/>
          </a:prstGeom>
          <a:ln w="28440">
            <a:solidFill>
              <a:srgbClr val="ff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505320"/>
            <a:ext cx="0" cy="457200"/>
          </a:xfrm>
          <a:prstGeom prst="line">
            <a:avLst/>
          </a:prstGeom>
          <a:ln w="2844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3361680" y="274320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Comic Sans MS"/>
              </a:rPr>
              <a:t>30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3361680" y="304812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99"/>
                </a:solidFill>
                <a:latin typeface="Comic Sans MS"/>
              </a:rPr>
              <a:t>35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3361680" y="335268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mic Sans MS"/>
              </a:rPr>
              <a:t>40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3285720" y="2438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V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6340320" y="3884760"/>
            <a:ext cx="17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Comic Sans MS"/>
              </a:rPr>
              <a:t>48 </a:t>
            </a:r>
            <a:r>
              <a:rPr b="1" lang="en-US" sz="1800" spc="-1" strike="noStrike">
                <a:solidFill>
                  <a:srgbClr val="ff9999"/>
                </a:solidFill>
                <a:latin typeface="Comic Sans MS"/>
              </a:rPr>
              <a:t>56  </a:t>
            </a:r>
            <a:r>
              <a:rPr b="1" lang="en-US" sz="1800" spc="-1" strike="noStrike">
                <a:solidFill>
                  <a:srgbClr val="ccffff"/>
                </a:solidFill>
                <a:latin typeface="Comic Sans MS"/>
              </a:rPr>
              <a:t>64  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K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838080" y="45720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Or --- Kt/V still be a good quantitative method, but higher MR observed among Pt with low V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Then increase Kt in large Pt will improve outco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Will awaiting HEMO stu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ffff"/>
                </a:solidFill>
                <a:uFillTx/>
                <a:latin typeface="Comic Sans MS"/>
              </a:rPr>
              <a:t>Td and frequency of H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990720" y="1981080"/>
            <a:ext cx="748332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D3/wk ---- min spKt/V= 1.2x3/w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PD ------- min Kt/v= 2/wk !!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Short Td regimen cause more higher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rebound and chance of access recircula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Comic Sans MS"/>
              </a:rPr>
              <a:t>Td(hr)                 spKt/V at eKt/V=1.0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2                                   1.4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3                                   1.28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4                                   1.2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5                                   1.1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6400800"/>
            <a:ext cx="556272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62720" cy="3789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143000" y="5791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Pt membrane-limite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 Dialyzer-limited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Cr, P &gt;&gt; urea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TH,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, M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4572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Short Td result in lesser removal of bigger molec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Comic Sans MS"/>
              </a:rPr>
              <a:t>Uremic syndrome &amp; toxi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1127160" y="2211480"/>
            <a:ext cx="72547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Uremia “ urine in blood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Uremic Synd: syndrome in renal failure resulted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from retention of toxic solute and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Uremic toxi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low molecular weigh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middle &amp; high molecular weigh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828800" y="27432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1980000" y="437040"/>
            <a:ext cx="5945760" cy="476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80" y="21506"/>
                </a:moveTo>
                <a:arcTo wR="10800" hR="10800" stAng="5853432" swAng="4844073"/>
                <a:lnTo>
                  <a:pt x="10800" y="10800"/>
                </a:lnTo>
                <a:close/>
              </a:path>
              <a:path fill="none" w="21600" h="21600">
                <a:moveTo>
                  <a:pt x="9380" y="21506"/>
                </a:moveTo>
                <a:arcTo wR="10800" hR="10800" stAng="5853432" swAng="4844073"/>
              </a:path>
            </a:pathLst>
          </a:cu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1828800" y="5638680"/>
            <a:ext cx="3809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962520"/>
            <a:ext cx="2666880" cy="685800"/>
          </a:xfrm>
          <a:prstGeom prst="line">
            <a:avLst/>
          </a:prstGeom>
          <a:ln w="381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4386240" y="4874760"/>
            <a:ext cx="1530360" cy="136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94" y="21577"/>
                </a:moveTo>
                <a:arcTo wR="10800" hR="10800" stAng="5624992" swAng="3312956"/>
                <a:lnTo>
                  <a:pt x="10800" y="10800"/>
                </a:lnTo>
                <a:close/>
              </a:path>
              <a:path fill="none" w="21600" h="21600">
                <a:moveTo>
                  <a:pt x="10094" y="21577"/>
                </a:moveTo>
                <a:arcTo wR="10800" hR="10800" stAng="5624992" swAng="3312956"/>
              </a:path>
            </a:pathLst>
          </a:cu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5029200" y="4876920"/>
            <a:ext cx="22860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1903680" y="2088720"/>
            <a:ext cx="7622640" cy="344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950" y="20890"/>
                </a:moveTo>
                <a:arcTo wR="10800" hR="10800" stAng="6653221" swAng="4044283"/>
                <a:lnTo>
                  <a:pt x="10800" y="10800"/>
                </a:lnTo>
                <a:close/>
              </a:path>
              <a:path fill="none" w="21600" h="21600">
                <a:moveTo>
                  <a:pt x="6950" y="20890"/>
                </a:moveTo>
                <a:arcTo wR="10800" hR="10800" stAng="6653221" swAng="4044283"/>
              </a:path>
            </a:pathLst>
          </a:cu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4495680" y="4648320"/>
            <a:ext cx="1295640" cy="7617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5644440" y="5380200"/>
            <a:ext cx="3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1583640" y="210348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4860720" y="2209680"/>
            <a:ext cx="3707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Comic Sans MS"/>
              </a:rPr>
              <a:t>MM: dialyzer-limi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cc"/>
                </a:solidFill>
                <a:latin typeface="Comic Sans MS"/>
              </a:rPr>
              <a:t>Cr, P: Pt mem-limi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466200" y="762120"/>
            <a:ext cx="82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Comic Sans MS"/>
              </a:rPr>
              <a:t>Hemodialysis solute kinetics: theori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4419720" y="5410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4267080" y="5410080"/>
            <a:ext cx="2286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4495680" y="4648320"/>
            <a:ext cx="0" cy="11430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4093920" y="566244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66200" y="685800"/>
            <a:ext cx="82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Comic Sans MS"/>
              </a:rPr>
              <a:t>Hemodialysis solute kinetics: theori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663840" y="2057400"/>
            <a:ext cx="804600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Small,less        Small, high          Midd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seclusion          seclusion            molecu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lute                Urea               Cr, P                PTH, amylo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ze                   small               small                    lar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alyzer Cl         not limit          not limit              lim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t clearance       Sl limit            limit                    not lim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cell m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moval by T         ++                  +                        ++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moval by fq        ++                 +++                      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2819520"/>
            <a:ext cx="861048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1981080"/>
            <a:ext cx="861048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6019920"/>
            <a:ext cx="861048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33520" y="5105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33520" y="54860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Comic Sans MS"/>
              </a:rPr>
              <a:t>Td and frequency of H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1828800"/>
            <a:ext cx="853416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For BUN, short Td regimen cau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ance of access recurculation ( non-delivery dos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igher reb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 compartment-diseqiulibrim, regional flow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Short Td lower MM clearance: PTH, amylo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Increase fq HD improve clearance of small bu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high compartmentalized mol:  Cr, 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Increase Td &amp; fq allow better control of BP &amp; salt-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3124080"/>
            <a:ext cx="4267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3808440" y="609480"/>
          <a:ext cx="1525680" cy="1143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440" y="609480"/>
                    <a:ext cx="15256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1562400" y="533520"/>
            <a:ext cx="584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ffff"/>
                </a:solidFill>
                <a:uFillTx/>
                <a:latin typeface="Comic Sans MS"/>
              </a:rPr>
              <a:t>Td and frequency of H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914400" y="1447920"/>
            <a:ext cx="784872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To the degree that less diffusible solute is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important, more fq and/or longer Td regimen wil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offer advantage over convent</a:t>
            </a:r>
            <a:r>
              <a:rPr b="0" lang="en-US" sz="2400" spc="-1" strike="noStrike" baseline="30000">
                <a:solidFill>
                  <a:srgbClr val="ffff99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regim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ventional 4hrs x 3HD/w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ng duration, intermittent, Kt/V 1.6 - Chara 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ort duration daily H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ng duration daily HD ------nocturnal H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udies showing improve MR with longer Td regimen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so had higher Kt/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Increase MM Cl  will improve mortality? ----await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HEMO stu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Comic Sans MS"/>
              </a:rPr>
              <a:t>Alt.. Method: EKR &amp; Std Kt/V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 u="sng">
                <a:solidFill>
                  <a:srgbClr val="66ffff"/>
                </a:solidFill>
                <a:uFillTx/>
                <a:latin typeface="Comic Sans MS"/>
              </a:rPr>
              <a:t>Limitation of Kt/V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845640" y="1447920"/>
            <a:ext cx="7745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Non-comparable for CAPD, HD or native renal fun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Non-comparable among different HD do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ffff"/>
                </a:solidFill>
                <a:uFillTx/>
                <a:latin typeface="Comic Sans MS"/>
              </a:rPr>
              <a:t>EK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1006920" y="2057400"/>
            <a:ext cx="778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99"/>
                </a:solidFill>
                <a:latin typeface="Comic Sans MS"/>
              </a:rPr>
              <a:t>      </a:t>
            </a:r>
            <a:r>
              <a:rPr b="0" lang="th-TH" sz="2800" spc="-1" strike="noStrike">
                <a:solidFill>
                  <a:srgbClr val="ffff99"/>
                </a:solidFill>
                <a:latin typeface="Comic Sans MS"/>
              </a:rPr>
              <a:t>Removal =  Generation…at steady st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99"/>
                </a:solidFill>
                <a:latin typeface="Comic Sans MS"/>
              </a:rPr>
              <a:t>      </a:t>
            </a:r>
            <a:r>
              <a:rPr b="0" lang="th-TH" sz="2800" spc="-1" strike="noStrike">
                <a:solidFill>
                  <a:srgbClr val="ffff99"/>
                </a:solidFill>
                <a:latin typeface="Comic Sans MS"/>
              </a:rPr>
              <a:t>EKRx TACurea =  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99"/>
                </a:solidFill>
                <a:latin typeface="Comic Sans MS"/>
              </a:rPr>
              <a:t>     </a:t>
            </a:r>
            <a:r>
              <a:rPr b="0" lang="th-TH" sz="2800" spc="-1" strike="noStrike">
                <a:solidFill>
                  <a:srgbClr val="ffff99"/>
                </a:solidFill>
                <a:latin typeface="Comic Sans MS"/>
              </a:rPr>
              <a:t>EKR  = G/TAC ----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Casino &amp; Lope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Comic Sans MS"/>
              </a:rPr>
              <a:t>EKR: continuous equivalent of renal clear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Comic Sans MS"/>
              </a:rPr>
              <a:t>TAC: time average urea conc gradien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ffff"/>
                </a:solidFill>
                <a:uFillTx/>
                <a:latin typeface="Comic Sans MS"/>
              </a:rPr>
              <a:t>Problem of EKR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1127160" y="2408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371600"/>
            <a:ext cx="7925040" cy="34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KR/v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of CAPD = Kt/V =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/w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KR/v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of HDx3/wk (spKt/v=3.6) ~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/w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Both have  same survival as different EKR...!!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or different TAC as G is constant Explana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ffect of more compartmentalization solute that is better clearance in continuous di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ffect of peak con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xic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1371600" y="4800600"/>
            <a:ext cx="0" cy="15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0" y="6324480"/>
            <a:ext cx="3581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905120" y="5257440"/>
            <a:ext cx="1143000" cy="76212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3048120" y="5257800"/>
            <a:ext cx="457200" cy="76212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1465200" y="5257440"/>
            <a:ext cx="439920" cy="76212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505320" y="5333760"/>
            <a:ext cx="1143000" cy="68580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1523880" y="5562720"/>
            <a:ext cx="3276720" cy="0"/>
          </a:xfrm>
          <a:prstGeom prst="line">
            <a:avLst/>
          </a:prstGeom>
          <a:ln w="38160">
            <a:solidFill>
              <a:srgbClr val="66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831960" y="4495680"/>
            <a:ext cx="75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4863240" y="541008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Comic Sans MS"/>
              </a:rPr>
              <a:t>TAC of H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1447920" y="5257800"/>
            <a:ext cx="3504960" cy="0"/>
          </a:xfrm>
          <a:prstGeom prst="line">
            <a:avLst/>
          </a:prstGeom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4914360" y="495144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Comic Sans MS"/>
              </a:rPr>
              <a:t>TAC of CAP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table1-4(7)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>
            <a:off x="680400" y="3657600"/>
            <a:ext cx="83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Comic Sans MS"/>
              </a:rPr>
              <a:t>Thanks for your attention and toler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2485800" y="190008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ff6699"/>
                </a:solidFill>
                <a:latin typeface="Dutch801 Rm BT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Comic Sans MS"/>
              </a:rPr>
              <a:t>Urea as a marker of low Mol weight toxi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2133720"/>
            <a:ext cx="8076960" cy="57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Unable to identify single deadly toxic solu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All accumulated solutes are below toxic lev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Since early period of HD, only low-flux available,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uremic synd has been conversed by H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The serious toxin must be low molecular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Uremic synd possibly resulted from accumulation o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0" lang="th-TH" sz="2400" spc="-1" strike="noStrike">
                <a:solidFill>
                  <a:srgbClr val="ffff99"/>
                </a:solidFill>
                <a:latin typeface="Comic Sans MS"/>
              </a:rPr>
              <a:t>subtoxic level of these sol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mic Sans MS"/>
              </a:rPr>
              <a:t>.Urea, itself nontoxic, is a marker of small solu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Comic Sans MS"/>
              </a:rPr>
              <a:t>Ideal marker of toxin removal- Urea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1676520"/>
            <a:ext cx="7391520" cy="49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Ideal mar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tain in renal fail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move by di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n dose related toxicity or its generatio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&amp; elimination represent other tox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sily measu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A lot of studies proof relationship of urea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clearance and outco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At steady state, urea appearance reflex protein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intake, nutri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04:54:30Z</dcterms:created>
  <dc:creator>Nephrology</dc:creator>
  <dc:description/>
  <dc:language>en-US</dc:language>
  <cp:lastModifiedBy>Sud</cp:lastModifiedBy>
  <dcterms:modified xsi:type="dcterms:W3CDTF">2002-02-16T16:37:01Z</dcterms:modified>
  <cp:revision>264</cp:revision>
  <dc:subject/>
  <dc:title>ADEQUACY OF HEMODIALYSIS</dc:title>
</cp:coreProperties>
</file>