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gif" ContentType="image/gif"/>
  <Override PartName="/ppt/media/image12.png" ContentType="image/png"/>
  <Override PartName="/ppt/media/image17.gif" ContentType="image/gif"/>
  <Override PartName="/ppt/media/image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2.png" ContentType="image/png"/>
  <Override PartName="/ppt/media/image9.jpeg" ContentType="image/jpeg"/>
  <Override PartName="/ppt/media/image13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B5D2-66B2-4A1F-96E3-A70FEAC6A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038320" y="5068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D95C-D379-42AB-A3BB-C8B9937C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1828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9F7E-10F6-4437-BD8B-19B1C65B5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0228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6660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03832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20228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6660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0784-DCB5-4CC6-B1CB-DD460D26B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62890-2189-4ACD-BCAB-DA5FABA6A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660F5-0A7A-42EA-9180-BE15E61F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18BE-16A8-4E55-AB46-05411AAD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92AF-BEFE-4F0E-8BDC-8585CBE7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DEFF-19D0-4CAD-BA09-F640EA62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4BF2-BEE1-4E98-9CC4-14551CB8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FF18-57BD-4655-8AA3-C007ACE0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C809-98D9-4FE4-B3BF-41B14660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1828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6FE9F-BB44-4DA0-8F3E-EE432F12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4021-E66B-402B-8FBF-4597C4FA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038320" y="5068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4F1E-9E65-4364-A2F2-3FC89779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1828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0550-E5F9-4200-885D-E68DF5E27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0228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6660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03832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20228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6660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D009-4A80-42C7-8BB6-17507E7A1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DC88-FAD0-4E5B-9D70-9BF85622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4341-20AA-4327-BF8C-74A76AC2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63AA-A153-4E24-A206-778BED12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59E7-5923-49C4-8F18-7E5AD0C1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1B9B-5C4B-4691-B353-8CF9C315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1828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A072-3350-4BBC-A480-A6C1BD79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FA32-8BBB-4BDC-835A-1F4232CF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6399-413F-40E0-8E27-539AB717DD7C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11D9-58FB-4E0C-9A91-00B5C742FB0F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13.xml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a3d7a"/>
                </a:solidFill>
                <a:latin typeface="Times New Roman"/>
              </a:rPr>
              <a:t>Growth Hormone and </a:t>
            </a:r>
            <a:br>
              <a:rPr sz="4800"/>
            </a:br>
            <a:r>
              <a:rPr b="0" lang="en-US" sz="4800" spc="-1" strike="noStrike">
                <a:solidFill>
                  <a:srgbClr val="2a3d7a"/>
                </a:solidFill>
                <a:latin typeface="Times New Roman"/>
              </a:rPr>
              <a:t>Insulin-like Growth Factor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: Growth Disorder in Renal Failur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5067000"/>
            <a:ext cx="6400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Thitisak Kitthaweesin M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3" name="dog9" descr=""/>
          <p:cNvPicPr/>
          <p:nvPr/>
        </p:nvPicPr>
        <p:blipFill>
          <a:blip r:embed="rId1"/>
          <a:stretch/>
        </p:blipFill>
        <p:spPr>
          <a:xfrm>
            <a:off x="2286000" y="6172200"/>
            <a:ext cx="45370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H and IGF-1 Physiolog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5b5249"/>
                </a:solidFill>
                <a:latin typeface="Times New Roman"/>
              </a:rPr>
              <a:t>Somatomedin Hypothesis </a:t>
            </a:r>
            <a:r>
              <a:rPr b="0" i="1" lang="th-TH" sz="3200" spc="-1" strike="noStrike">
                <a:solidFill>
                  <a:srgbClr val="5b5249"/>
                </a:solidFill>
                <a:latin typeface="Times New Roman"/>
              </a:rPr>
              <a:t>(1970s to 1980s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5b5249"/>
                </a:solidFill>
                <a:latin typeface="Times New Roman"/>
              </a:rPr>
              <a:t>IGF-1(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th-TH" sz="2800" spc="-1" strike="noStrike">
                <a:solidFill>
                  <a:srgbClr val="5b5249"/>
                </a:solidFill>
                <a:latin typeface="Times New Roman"/>
              </a:rPr>
              <a:t>omatomedin C)…mediated all of GH effect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5b5249"/>
                </a:solidFill>
                <a:latin typeface="Times New Roman"/>
              </a:rPr>
              <a:t>Liver-generated IGF-1 was proposed to be crucial to the growth promoting effect of GH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5b5249"/>
                </a:solidFill>
                <a:latin typeface="Times New Roman"/>
              </a:rPr>
              <a:t>IGF-1 produced by many tissues, GH receptor occur in many tissues and some of GH effects do not involve generation of IGF-1…modify the somatomedin hypothesi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H and IGF-1 Physiolog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5b5249"/>
                </a:solidFill>
                <a:latin typeface="Times New Roman"/>
              </a:rPr>
              <a:t>Modified Hypothesis </a:t>
            </a:r>
            <a:r>
              <a:rPr b="0" i="1" lang="th-TH" sz="3200" spc="-1" strike="noStrike">
                <a:solidFill>
                  <a:srgbClr val="5b5249"/>
                </a:solidFill>
                <a:latin typeface="Times New Roman"/>
              </a:rPr>
              <a:t>(Isaksson et al. Endocrine Review,1987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5b5249"/>
                </a:solidFill>
                <a:latin typeface="Times New Roman"/>
              </a:rPr>
              <a:t>GH could act directly on many tissues included cartilage and kidneys and produced IGF-1 locally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5b5249"/>
                </a:solidFill>
                <a:latin typeface="Times New Roman"/>
              </a:rPr>
              <a:t>Liver specific IGF-1 knockout mice…low blood level of IGF-1 but are viable and show normal growth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5b5249"/>
                </a:solidFill>
                <a:latin typeface="Times New Roman"/>
              </a:rPr>
              <a:t>Although IGF-1 is essential for normal postnatal growth, liver-generated IGF-1 is not crucial for normal growth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H and IGF-1 Physiolog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5b5249"/>
                </a:solidFill>
                <a:latin typeface="Times New Roman"/>
              </a:rPr>
              <a:t>Most IGF-1 in circulation is bound in a 150-kD complex of IGF-1, IGFBP-3 and the acid-labile subunit (ALS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5b5249"/>
                </a:solidFill>
                <a:latin typeface="Times New Roman"/>
              </a:rPr>
              <a:t>Storage form of IGF in blood, half-life-several hour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5b5249"/>
                </a:solidFill>
                <a:latin typeface="Times New Roman"/>
              </a:rPr>
              <a:t>Bioactive free fraction of IGF-1 …1%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5b5249"/>
                </a:solidFill>
                <a:latin typeface="Times New Roman"/>
              </a:rPr>
              <a:t>Binding of IGF-1 to IGFBP…limit bioactivity of IGF-1 and cannot activate IGF-1 recepto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5b5249"/>
                </a:solidFill>
                <a:latin typeface="Times New Roman"/>
              </a:rPr>
              <a:t>In renal failure, IGF-1 bioactivity in blood is low and circulating concentration of IGFBP-1,2 are elevate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304920" y="6095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H/IGF Axis and The Kidne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2101680"/>
            <a:ext cx="838188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5b5249"/>
                </a:solidFill>
                <a:latin typeface="Times New Roman"/>
              </a:rPr>
              <a:t>GH receptor…expressed in PT and T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5b5249"/>
                </a:solidFill>
                <a:latin typeface="Times New Roman"/>
              </a:rPr>
              <a:t>IGF-1 receptor…predominated in Glomerulus,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th-TH" sz="3200" spc="-1" strike="noStrike">
                <a:solidFill>
                  <a:srgbClr val="5b5249"/>
                </a:solidFill>
                <a:latin typeface="Times New Roman"/>
              </a:rPr>
              <a:t>PT and D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5b5249"/>
                </a:solidFill>
                <a:latin typeface="Times New Roman"/>
              </a:rPr>
              <a:t>Both GH and IGF-1…increase RPF and GF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5b5249"/>
                </a:solidFill>
                <a:latin typeface="Times New Roman"/>
              </a:rPr>
              <a:t>Effects of GH…likely to be mediated by IGF-1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5b5249"/>
                </a:solidFill>
                <a:latin typeface="Times New Roman"/>
              </a:rPr>
              <a:t>Role of IGF-1 in renal development is mino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5b5249"/>
                </a:solidFill>
                <a:latin typeface="Times New Roman"/>
              </a:rPr>
              <a:t>IGF-1:-/- mice…have normal renal morpholog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3792" t="3571" r="8862" b="2385"/>
          <a:stretch/>
        </p:blipFill>
        <p:spPr>
          <a:xfrm>
            <a:off x="3657600" y="990720"/>
            <a:ext cx="5105520" cy="5562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066680" y="1601640"/>
            <a:ext cx="2286000" cy="35067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xpression of GH receptor,</a:t>
            </a: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GF-1,-2 </a:t>
            </a: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nd </a:t>
            </a: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GFBP </a:t>
            </a: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n the nephron</a:t>
            </a: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a3d7a"/>
                </a:solidFill>
                <a:latin typeface="Times New Roman"/>
              </a:rPr>
              <a:t>Changes in GH, IGF and IGFBP during Renal failure</a:t>
            </a:r>
            <a:endParaRPr b="0" lang="en-US" sz="3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2101320"/>
            <a:ext cx="845820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5b5249"/>
                </a:solidFill>
                <a:latin typeface="Times New Roman"/>
              </a:rPr>
              <a:t>Rise in circulating GH concentra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5b5249"/>
                </a:solidFill>
                <a:latin typeface="Times New Roman"/>
              </a:rPr>
              <a:t>Increased pulsatile release of GH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5b5249"/>
                </a:solidFill>
                <a:latin typeface="Times New Roman"/>
              </a:rPr>
              <a:t>Reduced metabolic clearance rate of GH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5b5249"/>
                </a:solidFill>
                <a:latin typeface="Times New Roman"/>
              </a:rPr>
              <a:t>In uremia, IGF-1 synthesis in liver is reduce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5b5249"/>
                </a:solidFill>
                <a:latin typeface="Times New Roman"/>
              </a:rPr>
              <a:t>Results in normal concentration of circulating IGF-1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5b5249"/>
                </a:solidFill>
                <a:latin typeface="Times New Roman"/>
              </a:rPr>
              <a:t>IGF-1 bioactivity is reduced in CRF…as a result of increased plasma level of IGFBP-1,2,4,6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a3d7a"/>
                </a:solidFill>
                <a:latin typeface="Times New Roman"/>
              </a:rPr>
              <a:t>Changes in GH, IGF and IGFBP during Renal failure</a:t>
            </a:r>
            <a:endParaRPr b="0" lang="en-US" sz="3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240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RF…increased low MW IGF-3 fragments and decreased affinity for IGF-1 &gt;&gt;&gt; decreased free IGF-1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Increased levels of IGFBP-1 and 2 in CRF…correlated inversely with residual GFR and heigh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High IGFBP-1 and 2 levels…contribute to the resistance to metabolic and growth-promoting properties of GH, IGF-1 in renal failur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a3d7a"/>
                </a:solidFill>
                <a:latin typeface="Times New Roman"/>
              </a:rPr>
              <a:t>Changes in GH, IGF and IGFBP during Renal failure</a:t>
            </a:r>
            <a:endParaRPr b="0" lang="en-US" sz="3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3047760"/>
            <a:ext cx="77724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nal failure is not a state of GH or IGF-1 deficiency , but a state in which the regulation and bio-availability of components of GH/IGF system are alter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GH-IGF%20axis2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4871880" cy="5791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400800" y="1828800"/>
            <a:ext cx="2225520" cy="180036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GH/IGF Axis </a:t>
            </a: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n</a:t>
            </a: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enal Failure</a:t>
            </a: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533520" y="6172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315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rapeutic Manipulation of the GH/IGF Axis </a:t>
            </a:r>
            <a:br>
              <a:rPr sz="4400"/>
            </a:b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n Renal Failu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3" name="mozzil01" descr=""/>
          <p:cNvPicPr/>
          <p:nvPr/>
        </p:nvPicPr>
        <p:blipFill>
          <a:blip r:embed="rId1"/>
          <a:stretch/>
        </p:blipFill>
        <p:spPr>
          <a:xfrm>
            <a:off x="2819520" y="5867280"/>
            <a:ext cx="5105160" cy="5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rowth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nd result of a complex interplay of nutrition, metabolic and hormonal forc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est method to assess growth is the use of Standard deviation score (SDS) or Z-sco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Z-score = (Patient’s value - mean value)/SD of the mea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gnificant increase in SDS (</a:t>
            </a:r>
            <a:r>
              <a:rPr b="0" lang="en-US" sz="3200" spc="-1" strike="noStrike" u="sng">
                <a:solidFill>
                  <a:srgbClr val="5b5249"/>
                </a:solidFill>
                <a:uFillTx/>
                <a:latin typeface="Times New Roman"/>
              </a:rPr>
              <a:t>&gt;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1 SD)…accelerated or “catch-up” growt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7621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ecombinant human GH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2101320"/>
            <a:ext cx="822960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0160" indent="-228600">
              <a:lnSpc>
                <a:spcPct val="90000"/>
              </a:lnSpc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ies in experimental animals have shown that the relative GH resistance can be overcome by supraphysiologic doses of exogenous GH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observation provided the rationale for the administration of pharmacologic doses of recombinant human GH (rhGH) in an attempt to stimulate growth in children with renal failu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ecombinant human GH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21016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0160" indent="-228600">
              <a:lnSpc>
                <a:spcPct val="90000"/>
              </a:lnSpc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hGH acts in uremia by  several mechanism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rses the hypercatabolism in the uremic milieu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s circulating insulin-like growth factor (IGF) bioactivity … may result from the differential action of rhGH on plasma IGF-I and IGF binding protein-3 concentration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Growth Hormon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2101680"/>
            <a:ext cx="84582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Growt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RhGH is approved for Rx of growth failure in children with CRF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aily dose of 0.05 mg/kg, SC injection, is recommende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Multicenter clinical trials in CRF patients showed rhGH can improve statural growth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560" y="1066680"/>
            <a:ext cx="69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Haettenschweiler"/>
                <a:ea typeface="LilyUPC"/>
              </a:rPr>
              <a:t>Hokken-Koelega et al. Lancet ,199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20 prepubertal children with CRF and growth retard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GH 4 IU/m2/day,SC, 6 month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eight velocity improved significantly with GH Rx (p&lt;0.0001) and placebo (p&lt;0.04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7560" y="9903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Haettenschweiler"/>
                <a:ea typeface="LilyUPC"/>
              </a:rPr>
              <a:t>Hokken-Koelega et al. Lancet ,199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GH-induced height velocity increase &gt; in placebo 2.9 cm /6 month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ositive relationship between pre-study height velocity and height-velocity increas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GH caused a significant increase in IGF-1 and moderate increase in IGF-2 plasma concentr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nal function deterioration did not accelerat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Haettenschweiler"/>
              </a:rPr>
              <a:t>Fine et al. J Pediatrics , 1994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125 prepubertal children with CRF and growth retardation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andomly assigned to receive rhGH or placebo for 2 years at 17 center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tandardized height increased from -2.94 to -1.55 in rhGH group after 24 months and decreased from -2.82 to -2.91 in placebo (p&lt;0.00005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Haettenschweiler"/>
              </a:rPr>
              <a:t>Fine et al. J Pediatrics , 1994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5b5249"/>
                </a:solidFill>
                <a:latin typeface="Times New Roman"/>
              </a:rPr>
              <a:t>RhGH group…greater growth rate during the first year(10.7+/-3.1cm/yr) &gt; second year(7.8+/-2.1cm/yr) and growth rate were significantly greater than in placebo group in both years (p&lt;0.00005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5b5249"/>
                </a:solidFill>
                <a:latin typeface="Times New Roman"/>
              </a:rPr>
              <a:t>No significant difference in the change in Cr clearance over baseline in rhGH group from placebo group after 24 months of study (p=0.63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49" name="rhgh_crf" descr=""/>
          <p:cNvPicPr/>
          <p:nvPr/>
        </p:nvPicPr>
        <p:blipFill>
          <a:blip r:embed="rId1"/>
          <a:srcRect l="0" t="0" r="0" b="26391"/>
          <a:stretch/>
        </p:blipFill>
        <p:spPr>
          <a:xfrm>
            <a:off x="1143000" y="1219320"/>
            <a:ext cx="7467480" cy="4572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820040" y="6045120"/>
            <a:ext cx="419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Fine et al. J Pediatrics, 1994</a:t>
            </a: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Haettenschweiler"/>
              </a:rPr>
              <a:t>Haffner et al. NEJM,2000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llwed 38 prepubertal children with CRF treated with GH (daily SC injection,total weekly dose 1 IU or 0.33mg/kg and control(CRF, no GH Rx), mean time 5.3 years until reached final adult heigh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ean age at start Rx 10.4+/-2.2 y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ean bone age was 7.1+/-2.3 yr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ean height was 3.1+/-1.2 SD below norm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Haettenschweiler"/>
              </a:rPr>
              <a:t>Haffner et al. NEJM,2000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5b5249"/>
                </a:solidFill>
                <a:latin typeface="Times New Roman"/>
              </a:rPr>
              <a:t>GH group had sustained catch-up growth,whereas control group had progressive growth failu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5b5249"/>
                </a:solidFill>
                <a:latin typeface="Times New Roman"/>
              </a:rPr>
              <a:t>Mean final height of GH group…165/156 cm.. in boys/girl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5b5249"/>
                </a:solidFill>
                <a:latin typeface="Times New Roman"/>
              </a:rPr>
              <a:t>Mean final height of GH group was 1.6 +/-1.2 SD below normal…1.4 SD above standardized Ht at baseline (P&lt;0.001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rowth Prior to ESR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fant with renal impairment grow poorl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uring the first 6 months of life may lose 0.4-0.6 height SDS/ month of lif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gnificant catch-up growth is ra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ome report suggest that pubertal growth spurt is normal in ESR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ost authorities believe that peak height velocities are decreased in children with ESR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ow long normal growth rate can be maintained in the face of declining renal function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Haettenschweiler"/>
              </a:rPr>
              <a:t>Haffner et al. NEJM,2000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nal height of control 2.1 +/-1.2 SD below normal,0.6 SD below standardized Ht at baseline (P&lt;0.001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reatment was not associated with a shortening of pubertal growth spur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otal Ht gain was positively associated with the initial target Ht deficit and duration of GH Rx and negatively with percentage of observation period spent receiving dialysis Rx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GH1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467840" cy="50860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041080" y="617220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b5249"/>
                </a:solidFill>
                <a:latin typeface="Times New Roman"/>
              </a:rPr>
              <a:t>Haffner et al.N Eng J Med,2000</a:t>
            </a:r>
            <a:endParaRPr b="0" lang="en-US" sz="2400" spc="-1" strike="noStrike">
              <a:solidFill>
                <a:srgbClr val="5b5249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GH2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772400" cy="46958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041800" y="6248520"/>
            <a:ext cx="410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b5249"/>
                </a:solidFill>
                <a:latin typeface="Times New Roman"/>
              </a:rPr>
              <a:t>Haffner et al.N Eng J Med,2000</a:t>
            </a:r>
            <a:endParaRPr b="0" lang="en-US" sz="2400" spc="-1" strike="noStrike">
              <a:solidFill>
                <a:srgbClr val="5b5249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GH3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7010280" cy="48340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041800" y="6248520"/>
            <a:ext cx="410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b5249"/>
                </a:solidFill>
                <a:latin typeface="Times New Roman"/>
              </a:rPr>
              <a:t>Haffner et al.N Eng J Med,2000</a:t>
            </a:r>
            <a:endParaRPr b="0" lang="en-US" sz="2400" spc="-1" strike="noStrike">
              <a:solidFill>
                <a:srgbClr val="5b5249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studies demonstrate the potential of rhGH to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rmaliz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nal height in children with chronic renal failu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fficac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-360" y="2362320"/>
            <a:ext cx="8839080" cy="38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0160" indent="-22860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H has been shown to stimulate growth in prepubertal children with CRF and Preliminary data suggest that it may also be effective in infants and growth-retarded pubertal children after renal transplant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240" y="914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pubertal children with end-stage renal diseas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2285640"/>
            <a:ext cx="883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0160" indent="-22860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ubertal children with ESRD respond to rhGH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onse is generally less pronounced and less persistent than in children with preterminal CRF due to the greater degree of uremia in ESR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ng-term results of rhGH therapy in children with ESRD are not availabl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47560" y="8377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pubertal children after renal transplantation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360" y="2101680"/>
            <a:ext cx="883908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0160" indent="-22860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cessful KT..reverses the uremic milieu and should  permit normal GH secretion and func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istent growth failure is primarily due to reduced graft function and glucocorticoid therap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catch-up growth cannot be achieved by alternate-day steroid regimen and if discontinuation of steroids is intolerable risk for graft survival, rhGH therapy may be initiate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pubertal children after renal transplantation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883908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0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ogenous GH reverses the catabolic and growth-depressing effects of glucocorticoids in both experimental and clinical setting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hGH can counteract the interference of pharmacological doses of glucocorticoids with the integrity of the GH/IGF-axi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0160" indent="-22860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two rationales for rhGH administration in short children with renal transplant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hGH treatment in individuals with glucocorticoid-induced GH hyposecre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store IGF bioactivity in children who secrete normal amounts of GH but have decreased biologically available IGF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rowth on Dialysi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ean height deficit of children at the start of dialysis…-1.7 S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hildren who start dialysis with better height SDS grow less well than previously and lose S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hildren on HD continue to lose 0.2 height SDS/year of dialysi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fant on CAPD/CCPD …height loss is slightly les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aintaining the same height SDS…associated with slower than average growth velociti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Haettenschweiler"/>
              </a:rPr>
              <a:t>Guest et al. Pediatric Nephrology, 1998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839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pective study in 18 centers, 1991-1993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 KT period at least 12 months in 90 childre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hGH 30 IU/m2/wk in treated and F/U in contro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the first year of treatment, growth velocity in rhGH group was significantly increased (7.7 versus 4.6 cm in the control group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rease in growth velocity with growth 5.9, 5.5, and 5.2 cm at two, three, and four year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data indicate that GH therapy clearly induces catch-up growth, but the effect becomes limited with tim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609120"/>
            <a:ext cx="88390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0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opsy-proven rejection episodes tended to be more frequent during rhGH treatment (20 versus 9 percent)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d to those without rejection, the patients who rejected did not differ in age, initial renal function, or immunosuppressive regime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history of rejection before initiation of rhGH therapy was discriminatory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 of 17 children with two or more rejection episodes had a new rejection during rhGH therapy versus 1 of 22 with none or only one episod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8390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0160" indent="-22860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an change in glomerular filtration rate did not differ between the two groups during the first year of the stud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ute rejection episodes appear to be more frequent during rhGH administration in patients who have a history &gt;1 rejection episod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monitoring of graft function is recommended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hGH appears to be safe in immunological low-risk patients with a history of 0 or 1 acute rejection episod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Haettenschweiler"/>
              </a:rPr>
              <a:t>Fine et al. Journal of Pediatric, 2000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post-transplant outcomes for patients treated with rhGH during CRI…cohort group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from cohort group 102 CRI patients with growth retardation  compared with 4913 primary KT from others (control group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ignificant difference in patient survival or graft survival, incidence of acute rejection or time to first rejec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 Ht z-score in cohort group at baseline and 60 months after KT were –1.92 and –1.9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ta z-score at 60 months was +0.20 compared with contro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fants with chronic renal failur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0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data about rhGH therapy in infant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ecent analysis of children below the age of 2.5 years at enrollment into the North-American multicenter placebo-controlled stud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 Fine et al. Pediatr Nephrol, 1995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lative increase in height was +2.0 SDS in the rhGH group versus -0.2 SDS in the placebo group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y initiation of rhGH therapy in this phase of rapid growth might reverse or prevent the otherwise common irreversible loss of growth potential in infanc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fants with chronic renal failur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-360" y="2101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0160" indent="-22860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y initiation of rhGH therapy in GH-deficient children is an important determinant to reach target height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equate energy intake remains an important factor in infants with chronic renal failur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ubertal childre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0160" indent="-22860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dequate assessment of the effect of rhGH on pubertal growth requires an analysis of the degree and duration of the pubertal growth spur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ffner et a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( NEJM, 2000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monstrated that the total pubertal height gain was similar in control and GH-treated children with renal failure, the gain was 65 percent of that observed in normal children because of a shorter (by 1.6 years) pubertal growth spur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ptimal Time To Initiate RhGH Therapy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0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bservational data indicate that rhGH is more successful in these patients when begun at a younger age and early in the course of the renal failure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ildren with preterminal CRF appear to respond to rhGH better than those on dialysis 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hGH therapy should be initiated at a young age with the goal of restoring the level of growth to a normal genetic percentile, before the need for renal replacement therapy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0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reasonable to offer rhGH to children with the following characteristics: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tient falls below the third percentile for heigh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tient does not show spontaneous catch-up growth even though other factors contributing to uremic growth failure have been adequately stabiliz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ose of RhGH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3059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0160" indent="-228600">
              <a:lnSpc>
                <a:spcPct val="100000"/>
              </a:lnSpc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ptimal dose and route of administration of rhGH have not been sufficiently studied , current recommendations are empirica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timal do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The dose of rhGH currently used in Europe for children with CRF is approximately 4 IU/day per m2BSA, given in daily subcutaneous injection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quivalent dose in the United States is 0.05 mg/kg per da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rowth after Transplant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Growth appear to depend on the presence of well-functioning graft, child chronological +/- bone age at Tx, degree of growth retardation before Tx and dosage of prednisolone us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Growth most likely to occur in children who receive KT before 7 year of ag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Growth least likely to occur in children with bone age &gt; 12 year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de of administration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0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aily SC administration of rhGH is more effective than SC injections x3/week in stimulating growth in children with CRF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This is also true for rhGH therapy of children with GH deficiency or Turner syndrome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traperitoneal rhGH in children on CAPD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ata indicate adequate absorption of rhGH 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growth-promoting efficacy of intraperitoneal GH appears to be less consistent than subcutaneous rhGH 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y increase the risk of peritonitis episode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Predictors for The Growth Response to RhGH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21016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0160" indent="-22860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ers used to predict the growth response to rhGH in the uremic child are unclea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ffner et al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JASN, 1998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udy of 74 children with CRF who treated conservatively and 29 dialysis-dependent patients ,rhGH was administered for up to 5 year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variate regression analysis revealed that age,GFR, target height, and prior growth rates were independent predictors of the response to rhGH in the first and second treatment yea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Goal and Duration of RhGH Therapy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0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ltimate aim of rhGH therapy in children with CRF is …"normalization" of final heigh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herapeutic end-poin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atient's individual target heigh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(ie, the 50th percentile of mid-parental height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ormal population-related final heigh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(ie, greater than the third percentile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atter approach may be economically more acceptabl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0160" indent="-22860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jority of patients require rhGH therapy until the growth rate has fallen below 2 cm/year, which is assumed to be the attainment of final (adult) heigh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iscontinuing rhGH treatment at the time of transplantation does not appear to result in substantive posttransplantation catch-down growth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rowth Hormon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5b5249"/>
                </a:solidFill>
                <a:latin typeface="Times New Roman"/>
              </a:rPr>
              <a:t>GH has been suggested to play a role in the development of glomerulosclerosis in mice </a:t>
            </a:r>
            <a:r>
              <a:rPr b="0" i="1" lang="th-TH" sz="2800" spc="-1" strike="noStrike">
                <a:solidFill>
                  <a:srgbClr val="5b5249"/>
                </a:solidFill>
                <a:latin typeface="Times New Roman"/>
              </a:rPr>
              <a:t>(Doi et al. Am J Pathol,1988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5b5249"/>
                </a:solidFill>
                <a:latin typeface="Times New Roman"/>
              </a:rPr>
              <a:t>There is no proof in children that rhGH has deleterious effects on renal function or graft func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5b5249"/>
                </a:solidFill>
                <a:latin typeface="Times New Roman"/>
              </a:rPr>
              <a:t>RhGH is not an ideal Rx for growth disorders associated with CRF in children because a state of GH excess already exist in CRF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5b5249"/>
                </a:solidFill>
                <a:latin typeface="Times New Roman"/>
              </a:rPr>
              <a:t>Reports of GH Rx after KT…catch-up growth does not occur in up to 75% and tended to increase the number of acute Bx-proven rejec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Anabolic and Cardiovascular Effect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5b5249"/>
                </a:solidFill>
                <a:latin typeface="Times New Roman"/>
              </a:rPr>
              <a:t>Jensen et al. </a:t>
            </a:r>
            <a:r>
              <a:rPr b="0" i="1" lang="th-TH" sz="2800" spc="-1" strike="noStrike">
                <a:solidFill>
                  <a:srgbClr val="5b5249"/>
                </a:solidFill>
                <a:latin typeface="Times New Roman"/>
              </a:rPr>
              <a:t>(Clinical Nephrology, 2000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5b5249"/>
                </a:solidFill>
                <a:latin typeface="Times New Roman"/>
              </a:rPr>
              <a:t>Double-blind, placebo-controlled 6 months study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5b5249"/>
                </a:solidFill>
                <a:latin typeface="Times New Roman"/>
              </a:rPr>
              <a:t>20 adults on HD (9 Rx with single daily SC rhGH 4 IU/m2 and 11 placebo injection)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5b5249"/>
                </a:solidFill>
                <a:latin typeface="Times New Roman"/>
              </a:rPr>
              <a:t>Median LV muscle mass increased significantly from 172 to 220 gm (p=0.03) in treated group and significantly decreased 281 to 200 gm (p=0.03) in placebo group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5b5249"/>
                </a:solidFill>
                <a:latin typeface="Times New Roman"/>
              </a:rPr>
              <a:t>EF…no significant changes in both group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5b5249"/>
                </a:solidFill>
                <a:latin typeface="Times New Roman"/>
              </a:rPr>
              <a:t>Maximal working capacity…slightly decrease in both group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Anabolic and Cardiovascular Effect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5b5249"/>
                </a:solidFill>
                <a:latin typeface="Times New Roman"/>
              </a:rPr>
              <a:t>Hansen et al. </a:t>
            </a:r>
            <a:r>
              <a:rPr b="0" i="1" lang="th-TH" sz="2800" spc="-1" strike="noStrike">
                <a:solidFill>
                  <a:srgbClr val="5b5249"/>
                </a:solidFill>
                <a:latin typeface="Times New Roman"/>
              </a:rPr>
              <a:t>(Clinical Nephrology, 2000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5b5249"/>
                </a:solidFill>
                <a:latin typeface="Times New Roman"/>
              </a:rPr>
              <a:t>Double-blind, randomized, placebo-controlled study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5b5249"/>
                </a:solidFill>
                <a:latin typeface="Times New Roman"/>
              </a:rPr>
              <a:t>20 adults on HD Rx with single daily SC rhGH 4 IU/m2 or placebo for 6 month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5b5249"/>
                </a:solidFill>
                <a:latin typeface="Times New Roman"/>
              </a:rPr>
              <a:t>Soft tissue (lean body mass,fat mass) measured by DXA scan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5b5249"/>
                </a:solidFill>
                <a:latin typeface="Times New Roman"/>
              </a:rPr>
              <a:t>6 months of GH induced total FM reduction 3.050+/-0.75 kg (p&lt;0.001)…25% of total fat mas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5b5249"/>
                </a:solidFill>
                <a:latin typeface="Times New Roman"/>
              </a:rPr>
              <a:t>Total LBM increased by 3.14 +/-0.41 kg (p&lt;0.001) in GH group…regional change in trunk &gt; legs &gt; arm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ustained-Release GH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5b5249"/>
                </a:solidFill>
                <a:latin typeface="Times New Roman"/>
              </a:rPr>
              <a:t>Injectable sustained-release formulation of rhGH in polylactate polyglycolate microspher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5b5249"/>
                </a:solidFill>
                <a:latin typeface="Times New Roman"/>
              </a:rPr>
              <a:t>Two multicenter open-label clinical studies in prepubertal GH def children…this formulation of GH caused significant catch-up growth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5b5249"/>
                </a:solidFill>
                <a:latin typeface="Times New Roman"/>
              </a:rPr>
              <a:t>Sustained-release rhGH has not been studied in pt with renal insufficienc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Adverse Effects of GH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akala et al.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( NEJM, 1999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wo prospective multicenter double-blinded RC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247 Finnish, 285 European pt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ICU 5-7 day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H 0.1+/-0.02 mg/kg/day or placebo,max 21 day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Mortality rate 39 % in GH group and 20% in placebo (Finnish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Mortality rate 44% in GH group and 18% in placebo (other Europe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commended that rhGH not be initiated in patients with acute critical illness and reasonable to cease rhGH Rx in both chidren and adults if an acute illness occur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etabolic or cytokine responses may be involved in adverse effect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ther adverse effect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risk of benign intracranial H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incidence of DM type2 in children 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5b5249"/>
                </a:solidFill>
                <a:latin typeface="Times New Roman"/>
              </a:rPr>
              <a:t>(Cutfield et al. Lancet, 2000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rrelation of growth failure with renal failu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ajor abnormalities associated with growth failure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Energy intak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rotein intak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Acidosi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Renal osteodystroph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Hormonal altera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1294920"/>
            <a:ext cx="7772400" cy="6858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nsulin-like growth factor-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tudies in animal models of CRF…growth response after rhIGF-1 comparable to G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GF-1 effects…stature, anabolic effects and improve renal func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ormal subjects… rhIGF-1increase GFR and RPF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~30%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rcRect l="0" t="0" r="0" b="9198"/>
          <a:stretch/>
        </p:blipFill>
        <p:spPr>
          <a:xfrm>
            <a:off x="1066680" y="762120"/>
            <a:ext cx="4419720" cy="57909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019920" y="1676520"/>
            <a:ext cx="2286000" cy="265356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Comic Sans MS"/>
              </a:rPr>
              <a:t>RhIGF-1 increases</a:t>
            </a: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Comic Sans MS"/>
              </a:rPr>
              <a:t>GFR </a:t>
            </a: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Comic Sans MS"/>
              </a:rPr>
              <a:t>and </a:t>
            </a: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Comic Sans MS"/>
              </a:rPr>
              <a:t>Renal Plasma Flow</a:t>
            </a: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</p:txBody>
      </p:sp>
    </p:spTree>
  </p:cSld>
  <p:transition>
    <p:dissolv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191200" cy="58672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6019920" y="1600200"/>
            <a:ext cx="2666880" cy="265356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Comic Sans MS"/>
              </a:rPr>
              <a:t>Mechanism contributing to </a:t>
            </a: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Comic Sans MS"/>
              </a:rPr>
              <a:t>IGF-1 induced increase in GFR</a:t>
            </a: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IGF-1 and ARF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animal models rhIGF-1 can improve both functional and histologic recovery after renal ischemia and reperfusion damag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rcRect l="0" t="0" r="0" b="14282"/>
          <a:stretch/>
        </p:blipFill>
        <p:spPr>
          <a:xfrm>
            <a:off x="1143000" y="1600200"/>
            <a:ext cx="7772400" cy="52578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219320" y="83808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Mechanisms contribute to acceleration of recovery of renal function in ischemic ARF</a:t>
            </a: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225" name=""/>
          <p:cNvSpPr/>
          <p:nvPr/>
        </p:nvSpPr>
        <p:spPr>
          <a:xfrm>
            <a:off x="4495680" y="1828800"/>
            <a:ext cx="762120" cy="4572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226" name=""/>
          <p:cNvSpPr/>
          <p:nvPr/>
        </p:nvSpPr>
        <p:spPr>
          <a:xfrm>
            <a:off x="3581280" y="5029200"/>
            <a:ext cx="2743200" cy="6858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227" name=""/>
          <p:cNvSpPr/>
          <p:nvPr/>
        </p:nvSpPr>
        <p:spPr>
          <a:xfrm>
            <a:off x="3886200" y="6095880"/>
            <a:ext cx="2209680" cy="4572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228" name=""/>
          <p:cNvSpPr/>
          <p:nvPr/>
        </p:nvSpPr>
        <p:spPr>
          <a:xfrm>
            <a:off x="1600200" y="2133720"/>
            <a:ext cx="990720" cy="45720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229" name=""/>
          <p:cNvSpPr/>
          <p:nvPr/>
        </p:nvSpPr>
        <p:spPr>
          <a:xfrm>
            <a:off x="6934320" y="4114800"/>
            <a:ext cx="1447560" cy="5335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230" name=""/>
          <p:cNvSpPr/>
          <p:nvPr/>
        </p:nvSpPr>
        <p:spPr>
          <a:xfrm>
            <a:off x="5791320" y="3505320"/>
            <a:ext cx="1523880" cy="6094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300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Haettenschweiler"/>
              </a:rPr>
              <a:t>Hirschberg et al. KI.,1999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CT in ICU of 20 teaching hospital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72 ARF(from sepsis,shock) patients randomized to rhIGF-1 (100 mcg/kg) or placebo for maximum 14 days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o difference in GFR, creatinine clearance, urine volume, serum BUN, creatinine, albumin and transferri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IGF-1 and CRF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040" y="2101680"/>
            <a:ext cx="7924680" cy="42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iller et al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.(KI.,1994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nical controlled trial in ESRD 9 cas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hIGF-1.. 100 mcg/kg SC twice a da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ulin clearance increased in 4-13 day but not after th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de effects related to discontinu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IGF-1 and CRF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2120" y="2101680"/>
            <a:ext cx="807696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Vijayan et al.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(Am J Physiol, 1999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rospective open-labeled 24 day trial (n=5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PCT 31 days (n=10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GF-1 dose 50 mcg/kg/day… 4/wk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ulin clearance increased in 3 and 4 week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o discontinuation related to side effect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0666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Combination treatment with GH plus IGF-1 or IGF-1 plus IGFBP-3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ay be advantage in efficacy and safet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nimal studies …combined Rx more effective as a growth promoting agent in uremi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tudy of rhGH plus rhIGF-1in catabolic human…beneficial anabolic effect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mbination of rhIGF-1 plus IGFBP-3 is being tested in humans, but no growth study in pediatric patients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5640" y="1143000"/>
            <a:ext cx="5181480" cy="8380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IGF Displacers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isplacing bound IGF-1 from IGFBP…increase free IGF-1</a:t>
            </a:r>
            <a:r>
              <a:rPr b="0" lang="en-US" sz="3200" spc="-1" strike="noStrike">
                <a:solidFill>
                  <a:srgbClr val="5b524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ctivate IGF receptor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renal failure, free IGF bioactivity is low as a result of elevated IGFBP level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GF displacer peptides seem to be a logical way to increase bioavailability of IGF-1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Normal Regulation of GH axi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5b5249"/>
                </a:solidFill>
                <a:latin typeface="Times New Roman"/>
              </a:rPr>
              <a:t>GH secreted by anterior pituitary gland in pulsatile manne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5b5249"/>
                </a:solidFill>
                <a:latin typeface="Times New Roman"/>
              </a:rPr>
              <a:t>Under acute stimulatory effects of GHRH and inhibitory effects of Somatostati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0" lang="th-TH" sz="2800" spc="-1" strike="noStrike">
                <a:solidFill>
                  <a:srgbClr val="5b5249"/>
                </a:solidFill>
                <a:latin typeface="Times New Roman"/>
              </a:rPr>
              <a:t>Ghrelin”…naturally occurred GH-releasing peptides (GHRP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5b5249"/>
                </a:solidFill>
                <a:latin typeface="Times New Roman"/>
              </a:rPr>
              <a:t>expressed in stomach , hypothalamus and kidney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5b5249"/>
                </a:solidFill>
                <a:latin typeface="Times New Roman"/>
              </a:rPr>
              <a:t>present in blood of rats and human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5b5249"/>
                </a:solidFill>
                <a:latin typeface="Times New Roman"/>
              </a:rPr>
              <a:t>involved in hormonal regulation of GH release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IGF%20displace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8076960" cy="39621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634680" y="1219320"/>
            <a:ext cx="8238240" cy="52056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Comic Sans MS"/>
              </a:rPr>
              <a:t>Mechanism of action of IGF displacer compound</a:t>
            </a: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971440" y="1219320"/>
            <a:ext cx="3505320" cy="7617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GHRH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an induce growth response in rat and human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Multi-center study </a:t>
            </a:r>
            <a:r>
              <a:rPr b="0" i="1" lang="en-US" sz="2800" spc="-1" strike="noStrike">
                <a:solidFill>
                  <a:srgbClr val="5b5249"/>
                </a:solidFill>
                <a:latin typeface="Times New Roman"/>
              </a:rPr>
              <a:t>(Thorner et al.J Clin Endocrinol Metab, 1996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HRH 30 mcg/kg/d in 110 GH-deficient  patients up to 1 yea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Increased height velocity from 4 to 8 cm/y in first 6 mo and 7 cm/y thereafte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Must be given by injec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47560" y="1143000"/>
            <a:ext cx="6629400" cy="8380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GH-Releasing Peptid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HRP or GHS (GH secretagogues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mall synthetic molecules can stimulate release of GH from pituitar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Highly specific for GH releas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More effective than GHRH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ittle effect on GH synthesis and storag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HSreceptor…named ghrelin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HRP can induce more physiologic pulsatile GH secretion and can be given orall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438280" y="1219320"/>
            <a:ext cx="3810240" cy="761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opic Summar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rowth and Renal failur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Normal Regulation of GH axi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H and IGF-1 Physiolog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H/IGF axis and Kidne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hange in GH/IGF during Renal failur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herapeutic manipulation in Renal failure and Clinical evidenc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RhGH, RhIGF-1, IGF displacers, GHRH and GH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51f85"/>
                </a:solidFill>
                <a:latin typeface="Monotype Corsiva"/>
              </a:rPr>
              <a:t>Thank You</a:t>
            </a:r>
            <a:endParaRPr b="0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51" name="elephant1" descr=""/>
          <p:cNvPicPr/>
          <p:nvPr/>
        </p:nvPicPr>
        <p:blipFill>
          <a:blip r:embed="rId1"/>
          <a:stretch/>
        </p:blipFill>
        <p:spPr>
          <a:xfrm>
            <a:off x="7086600" y="5105520"/>
            <a:ext cx="1111320" cy="1218960"/>
          </a:xfrm>
          <a:prstGeom prst="rect">
            <a:avLst/>
          </a:prstGeom>
          <a:ln w="0">
            <a:noFill/>
          </a:ln>
        </p:spPr>
      </p:pic>
      <p:sp>
        <p:nvSpPr>
          <p:cNvPr id="252" name="">
            <a:hlinkClick r:id="" action="ppaction://hlinkshowjump?jump=firstslide"/>
          </p:cNvPr>
          <p:cNvSpPr/>
          <p:nvPr/>
        </p:nvSpPr>
        <p:spPr>
          <a:xfrm>
            <a:off x="7238880" y="55627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10806" y="3837"/>
                </a:moveTo>
                <a:lnTo>
                  <a:pt x="13383" y="6448"/>
                </a:lnTo>
                <a:lnTo>
                  <a:pt x="13383" y="4707"/>
                </a:lnTo>
                <a:lnTo>
                  <a:pt x="15158" y="4707"/>
                </a:lnTo>
                <a:lnTo>
                  <a:pt x="15158" y="8224"/>
                </a:lnTo>
                <a:lnTo>
                  <a:pt x="17769" y="10800"/>
                </a:lnTo>
                <a:lnTo>
                  <a:pt x="16116" y="10800"/>
                </a:lnTo>
                <a:lnTo>
                  <a:pt x="16116" y="17989"/>
                </a:lnTo>
                <a:lnTo>
                  <a:pt x="5497" y="17989"/>
                </a:lnTo>
                <a:lnTo>
                  <a:pt x="5497" y="10800"/>
                </a:lnTo>
                <a:lnTo>
                  <a:pt x="3843" y="10800"/>
                </a:lnTo>
                <a:close/>
              </a:path>
              <a:path fill="darkenLess" w="21613" h="21600">
                <a:moveTo>
                  <a:pt x="13383" y="6448"/>
                </a:moveTo>
                <a:lnTo>
                  <a:pt x="13383" y="4707"/>
                </a:lnTo>
                <a:lnTo>
                  <a:pt x="15158" y="4707"/>
                </a:lnTo>
                <a:lnTo>
                  <a:pt x="15158" y="8224"/>
                </a:lnTo>
                <a:close/>
              </a:path>
              <a:path fill="darkenLess" w="21613" h="21600">
                <a:moveTo>
                  <a:pt x="9884" y="14299"/>
                </a:moveTo>
                <a:lnTo>
                  <a:pt x="11729" y="14299"/>
                </a:lnTo>
                <a:lnTo>
                  <a:pt x="11729" y="17989"/>
                </a:lnTo>
                <a:lnTo>
                  <a:pt x="16116" y="17989"/>
                </a:lnTo>
                <a:lnTo>
                  <a:pt x="16116" y="10800"/>
                </a:lnTo>
                <a:lnTo>
                  <a:pt x="5497" y="10800"/>
                </a:lnTo>
                <a:lnTo>
                  <a:pt x="5497" y="17989"/>
                </a:lnTo>
                <a:lnTo>
                  <a:pt x="9884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Normal Regulation of GH axi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362320"/>
            <a:ext cx="7772400" cy="38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GH…released from pituitary gland…circulates in blood…increased IGF-1 production in tissu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ise in blood IGF-1…long term inhibition of further pituitary GH secre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GH-IGF%20axis1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4876560" cy="5867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400800" y="1828800"/>
            <a:ext cx="2438280" cy="22269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omatotropic Axis </a:t>
            </a: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f GH/IGF </a:t>
            </a: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n Normal Condition</a:t>
            </a: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7696080" y="6172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381880" y="6172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00:59:07Z</dcterms:created>
  <dc:creator>Thitisak Kitthaweesin</dc:creator>
  <dc:description/>
  <dc:language>en-US</dc:language>
  <cp:lastModifiedBy>Spthanom</cp:lastModifiedBy>
  <dcterms:modified xsi:type="dcterms:W3CDTF">2001-12-19T18:23:48Z</dcterms:modified>
  <cp:revision>12</cp:revision>
  <dc:subject>Topic Review in Nephrology</dc:subject>
  <dc:title>GH and IGF in Renal Failure</dc:title>
</cp:coreProperties>
</file>