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E52-18E0-4E5B-BD68-7E5D6E39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356-BBB4-4AC2-85B1-0BD89867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64D-FC7E-4339-A63E-E1550B2F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F44-8F37-4786-9603-9B9AF5C3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223-12CB-4278-9348-4C643D24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075-DE05-42E2-93AD-8410EF22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641-1C62-42C5-A7A8-EFF4281C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E6E-CE7C-479E-B5F6-DB5FB2B2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4F7-6931-4C5E-BCAD-93029A2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56A-3662-4882-BE43-2DFC4CB7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C12-2C34-4AA4-AA55-655F4DB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42E-024B-4638-A641-DCB6794E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CCA2-1C73-4069-A596-EC3740767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date in Heatstro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tisak Kitthaweesin M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pheral vasodilatation results in significant stress on the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ac output rises 3 l/min for each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rise in core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ke volume is reduced in vasodilatation, compensatory rise in HR is required to maintain cardiac outp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lima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from repeated bouts of moderate exercise in a hot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1-4 hours/day for 14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ologic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weating at lower te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igher swea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ncrease in peripheral blood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ecreased NaCl in sweat and urine (Aldostrone secre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End result of physiologic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hear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core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plasma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exercise toleranc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perceived ex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edisposing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Increased internal heat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Increased external heat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Decrease ability to disperse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ased Internal Heat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Most common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hysica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ebrile ill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harmacologic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Physical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erc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ty that involve skeletal muscle contraction…seizure, NMS, drug withdrawal, combative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ased Internal Heat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Febrile ill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ver results from pyrogens derived from activated immu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t thermoregulatory center in hypo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dy will utilize heat-producing mechanisms to maintain new se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Pharmacologic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hetamine, coc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ysergic acid diethylamide(LSD), phencyclidine (P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ased External Heat 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sure to high ambient temperature and high hum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nged exertion in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temperature measurement alone is not adequate in predicting risk of heat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midity and direct radiation must be consi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ccff"/>
                </a:solidFill>
                <a:latin typeface="Times New Roman"/>
              </a:rPr>
              <a:t>Shanks NJ, Papworth G. Occup Med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345 laborers with heatstroke during 3 month summer period in Abu Dha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gnificant predictive association between the maximum daily temperature and/or humidity and the presence of heat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52480" y="152280"/>
            <a:ext cx="5334120" cy="1600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57200"/>
            <a:ext cx="77644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940760" y="380880"/>
            <a:ext cx="5038920" cy="1261440"/>
            <a:chOff x="1940760" y="380880"/>
            <a:chExt cx="5038920" cy="1261440"/>
          </a:xfrm>
        </p:grpSpPr>
        <p:sp>
          <p:nvSpPr>
            <p:cNvPr id="87" name=""/>
            <p:cNvSpPr/>
            <p:nvPr/>
          </p:nvSpPr>
          <p:spPr>
            <a:xfrm>
              <a:off x="2073960" y="401400"/>
              <a:ext cx="46915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The Wet Bulb Globe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1640" y="380880"/>
              <a:ext cx="46915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afd00"/>
                  </a:solidFill>
                  <a:latin typeface="Arial"/>
                </a:rPr>
                <a:t>The Wet Bulb Globe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90160" y="1017360"/>
              <a:ext cx="29833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Temperature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40760" y="996840"/>
              <a:ext cx="50389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afd00"/>
                  </a:solidFill>
                  <a:latin typeface="Arial"/>
                </a:rPr>
                <a:t>Temperature (WBGT)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12720" y="2616120"/>
            <a:ext cx="47196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1840" y="3809880"/>
            <a:ext cx="4223520" cy="1353240"/>
            <a:chOff x="321840" y="3809880"/>
            <a:chExt cx="4223520" cy="1353240"/>
          </a:xfrm>
        </p:grpSpPr>
        <p:sp>
          <p:nvSpPr>
            <p:cNvPr id="93" name=""/>
            <p:cNvSpPr/>
            <p:nvPr/>
          </p:nvSpPr>
          <p:spPr>
            <a:xfrm>
              <a:off x="335880" y="3822480"/>
              <a:ext cx="1166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1840" y="3809880"/>
              <a:ext cx="1166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7160" y="3822480"/>
              <a:ext cx="25045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0000"/>
                  </a:solidFill>
                  <a:uFillTx/>
                  <a:latin typeface="Arial"/>
                </a:rPr>
                <a:t>Shaded Dry Bul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760" y="3809880"/>
              <a:ext cx="25045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ffffff"/>
                  </a:solidFill>
                  <a:uFillTx/>
                  <a:latin typeface="Arial"/>
                </a:rPr>
                <a:t>Shaded Dry Bul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4120" y="3809880"/>
              <a:ext cx="92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9960" y="4287600"/>
              <a:ext cx="2556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(DB temperature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78080" y="3822480"/>
              <a:ext cx="92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3120" y="4608360"/>
              <a:ext cx="38822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The actual air temperatur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4360" y="1482840"/>
            <a:ext cx="77738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1920" y="3311640"/>
            <a:ext cx="52596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560" y="2971800"/>
            <a:ext cx="4905720" cy="801360"/>
            <a:chOff x="304560" y="2971800"/>
            <a:chExt cx="4905720" cy="801360"/>
          </a:xfrm>
        </p:grpSpPr>
        <p:sp>
          <p:nvSpPr>
            <p:cNvPr id="104" name=""/>
            <p:cNvSpPr/>
            <p:nvPr/>
          </p:nvSpPr>
          <p:spPr>
            <a:xfrm>
              <a:off x="318600" y="2984400"/>
              <a:ext cx="116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560" y="2971800"/>
              <a:ext cx="116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" y="2984400"/>
              <a:ext cx="178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0000"/>
                  </a:solidFill>
                  <a:uFillTx/>
                  <a:latin typeface="Arial"/>
                </a:rPr>
                <a:t>Black Glob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5840" y="2971800"/>
              <a:ext cx="178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ffffff"/>
                  </a:solidFill>
                  <a:uFillTx/>
                  <a:latin typeface="Arial"/>
                </a:rPr>
                <a:t>Black Glob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0960" y="3376800"/>
              <a:ext cx="3129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 radiant heat loa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6560" y="3363840"/>
              <a:ext cx="3129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The radiant heat loa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62480" y="2971800"/>
              <a:ext cx="2647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(GT temperature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04560" y="5205240"/>
            <a:ext cx="4503960" cy="1194840"/>
            <a:chOff x="304560" y="5205240"/>
            <a:chExt cx="4503960" cy="1194840"/>
          </a:xfrm>
        </p:grpSpPr>
        <p:sp>
          <p:nvSpPr>
            <p:cNvPr id="112" name=""/>
            <p:cNvSpPr/>
            <p:nvPr/>
          </p:nvSpPr>
          <p:spPr>
            <a:xfrm>
              <a:off x="318600" y="5217840"/>
              <a:ext cx="116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560" y="5205240"/>
              <a:ext cx="116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0960" y="5217840"/>
              <a:ext cx="1343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0000"/>
                  </a:solidFill>
                  <a:uFillTx/>
                  <a:latin typeface="Arial"/>
                </a:rPr>
                <a:t>Wet Bul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6560" y="5205240"/>
              <a:ext cx="1343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ffffff"/>
                  </a:solidFill>
                  <a:uFillTx/>
                  <a:latin typeface="Arial"/>
                </a:rPr>
                <a:t>Wet Bul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0600" y="5611320"/>
              <a:ext cx="3257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atural evaporation o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6200" y="5597280"/>
              <a:ext cx="3257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atural evaporation o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0600" y="6003720"/>
              <a:ext cx="1766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water/swea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6200" y="5990760"/>
              <a:ext cx="1766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water/swea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87280" y="5205240"/>
              <a:ext cx="2721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(WB temperature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>
            <a:lum bright="24000"/>
          </a:blip>
          <a:srcRect l="7235" t="43233" r="52342" b="6770"/>
          <a:stretch/>
        </p:blipFill>
        <p:spPr>
          <a:xfrm>
            <a:off x="5715000" y="3276720"/>
            <a:ext cx="2590920" cy="3352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926240" y="2514600"/>
            <a:ext cx="40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 GT+0.1DB+0.7W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971800"/>
            <a:ext cx="304920" cy="83808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077320" y="2971800"/>
            <a:ext cx="457200" cy="144792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297180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Times New Roman"/>
              </a:rPr>
              <a:t>WBG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BGT greater than 3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…increase the incidence of heat injury and heat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t-bulb temperature is the most significant variable in WBGT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ze the important of humidity in heat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Global 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lobal%20Temp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9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Times New Roman"/>
              </a:rPr>
              <a:t>Heat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ment of how hot it actually feels when relative humidity is combined with air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re is exposure to direct sunlight, heat index should be adjusted by adding 0.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Times New Roman"/>
              </a:rPr>
              <a:t>ดัชนีความร้อน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Heat Inde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280" y="1447920"/>
          <a:ext cx="8839440" cy="47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83944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WUICorner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2743200" cy="1539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34240" y="2066760"/>
            <a:ext cx="5854680" cy="4188960"/>
          </a:xfrm>
          <a:prstGeom prst="rect">
            <a:avLst/>
          </a:prstGeom>
          <a:solidFill>
            <a:srgbClr val="cc0000"/>
          </a:solidFill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3:30 PM ICT on April 22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served at Bangkok, Thaila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mpera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 / 3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at Inde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1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 / 4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umid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7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w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7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 / 2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SW at 13 mph / 20.9 km/h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0760" y="831960"/>
            <a:ext cx="110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for Update Weather, Bangkok, Thai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ngsana New"/>
              </a:rPr>
              <a:t>http://autobrand.wunderground.com/global/stations/48456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rease Ability to Disperse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hyd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es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eme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n diseases…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</a:rPr>
              <a:t>burns, scleroderma, psoriasis, sweat gland dis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rease Ability to Disperse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nticholiner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iur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ympathomim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ntipsychotics…</a:t>
            </a:r>
            <a:r>
              <a:rPr b="0" i="1" lang="en-US" sz="2800" spc="-1" strike="noStrike">
                <a:solidFill>
                  <a:srgbClr val="ccccff"/>
                </a:solidFill>
                <a:latin typeface="Times New Roman"/>
              </a:rPr>
              <a:t>phenothiaz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oh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nhibit ADH, relative dehyd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isruption endorphin response to therm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ack of acclimatiz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ckly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Heat E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Syn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Heat Cr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Tet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Heat Exhau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tstrok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ckly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Times New Roman"/>
              </a:rPr>
              <a:t>Lichen tropicus, miliaria rubra, heat 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uritic maculopapular rash over clothed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inflammation of sweat ducts caused by blockage of sweat pores by macerated stratum corn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cts become dilated and rup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ching is predom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Rx with antihist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Prevented by wearing clean, light and loose clothing and avoid sweat generating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Hea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Edem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d swelling and tightness of hands and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ear within the first few days of exposure to ho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aneous vasodilatation and orthostatic pooling of interstitial fluid in the extrem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dosterone and ADH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d edema and rarely on the ank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Usually resolves in a few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Diuretics are no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Hea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Syn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mulative effect of peripheral vasodilatation, decreased vasomotor tone and relative volume de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 in non-acclimatized person during early stage of hea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al from heat source, oral or IV rehydration, 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patients recover with fl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Hea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r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ful, involuntary, spasmodic contraction of skeletal muscles…calves&gt;&gt;thighs, shou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occur in individuals who are sweat liberally and replace fluid loss with water or hypotonic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 in cool environment, fluid and salt replacement orally or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ax%20temp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Min%20temp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655308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553000" y="632448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ccff"/>
                </a:solidFill>
                <a:latin typeface="Angsana New"/>
              </a:rPr>
              <a:t>ข้อมูลจาก กรมอุตุนิยมวิทย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Hea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t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ventilation resulting in respiratory alkalosis, paresthesia, carpopedal sp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associated with short period of intense heat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al from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ing 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eat Exha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specific symptoms..dizziness, fatigue, light-headedness, nausea, vomiting, myal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al …syncope, orthostatic hypotension, sinus tachycardia, tachypnea,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diaphore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hyperther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 temp..variable from normal to 4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Mental status remains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ation of salt and water de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ed by rest, volume and electrolyte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Heatstrok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assical Triad of core temperature greater than 40.5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, CNS dysfunction and anhid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forms of heat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ff66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Classical or non-exertional heat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ff66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Exertional heat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lassical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Usually occurs during summer heat waves in Wes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More insidious o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Elderly, infant, poor, chronically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Increased exogenous heat gain and diminished heat disp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960" y="83808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xertional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Younger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ncreased endogenous heat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ndividuals who perform labor or exercise in hot humid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erential Diagnosis of Heat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ephalit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in abs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ral mal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ignant hyperther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cohol withdrawal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Thyroid 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Salicylate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Amphetamine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Anticholinergic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Teta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Sep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hidr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sweating does not exclude the diagnosis of heat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heatstroke..marked sweating but eventually develop anhidrosis due to profound volume depletion and sweat gland dysfuncti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NS dys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NS…irritability, bizarre behavior, hallucination, seizure, c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xia…early f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edema is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ular injury depends on maximal temperature reached and time of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xidative stress in heat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stroke is associated with cerebral isch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in heat stress rat(42C)vs.control(24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pid peroxidation in brain and rate of free oxygen radical generation in brain, liver and heart were greater in rat after heatstroke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37040" y="6161040"/>
            <a:ext cx="355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ccff"/>
                </a:solidFill>
                <a:latin typeface="Times New Roman"/>
              </a:rPr>
              <a:t>Yang CY, Lin MT.Stroke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Times New Roman"/>
              </a:rPr>
              <a:t>Heat Shock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SP70 intense staining in rabbit brains of heatstroke group (43C) mainly in hippocampus, cerebral cortex and periventricular area of 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ccccff"/>
                </a:solidFill>
                <a:latin typeface="Times New Roman"/>
              </a:rPr>
              <a:t>(Tan M, Hua X, Qui R., 199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antibody response to heat shock protein 70 in patients with heatstroke     </a:t>
            </a:r>
            <a:r>
              <a:rPr b="0" i="1" lang="en-US" sz="2200" spc="-1" strike="noStrike">
                <a:solidFill>
                  <a:srgbClr val="ccccff"/>
                </a:solidFill>
                <a:latin typeface="Times New Roman"/>
              </a:rPr>
              <a:t>(Wang et al. Am J Med 200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Times New Roman"/>
              </a:rPr>
              <a:t>Heat Shock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Times New Roman"/>
              </a:rPr>
              <a:t>Wu et al. Cell Stress Chaperones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zed the presence and titers of Ab against HSP60,71,90alpha&amp;beta in 42 young male patients who presented with heat injury during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 against HSP71 and 90 alpha was significantly higher among individuals with symptoms of heat-induced i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ters of anti-HSP71 werw higher in severe case and decreased during recover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enters for Disease Control and Prevention. </a:t>
            </a:r>
            <a:r>
              <a:rPr b="0" i="1" lang="en-US" sz="3200" spc="-1" strike="noStrike">
                <a:solidFill>
                  <a:srgbClr val="ccffff"/>
                </a:solidFill>
                <a:latin typeface="Times New Roman"/>
              </a:rPr>
              <a:t>MMWR 199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ween 1979-1995, 390 deaths per year in US (total of 6615 deaths)…effects of heat and excessive heat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ual rate of heat related death is higher in elderly and the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ailand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Nitric Oxide and Heat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spective analysis of nitrite and nitrate levels in 10 heatstrok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 level of NO in HS before cooling was significantly higher than 8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vels were higher in non-survivors and correlated positively with APACHE score but no correlation with BP, rectal temp or cool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6600" y="6019920"/>
            <a:ext cx="479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ccff"/>
                </a:solidFill>
                <a:latin typeface="Times New Roman"/>
              </a:rPr>
              <a:t>Alzeer AH et al.Intensive Care Med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Nitric Oxide and Heat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ther NO contributes to hypotensive state induced by environmental heat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s were exposed to heat (40+/-1C)and MAP decreased to 75 mmHg…induction of heatstr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-NAME (NO synthesis inhibitor) before, during and after heat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ministration of L-NAME at any time point did not prove beneficial in preventing or reversing heatstr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does not mediate hypotension associated with heatstr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35360" y="6172200"/>
            <a:ext cx="412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ccff"/>
                </a:solidFill>
                <a:latin typeface="Times New Roman"/>
              </a:rPr>
              <a:t>Ryan KL et al. J Appl Physiol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eatment of Heat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Initial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ooling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reatment of com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Times New Roman"/>
              </a:rPr>
              <a:t>Initial Resus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supplement, pulse oximetry, cardiac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venous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ey cath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ome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nostic lab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Times New Roman"/>
              </a:rPr>
              <a:t>Cool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pid reduction of core temperature to 4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 is primary goal of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pyretics are no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cool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chnique of choice is evaporative coo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 …shivering and inability of cardiac electrode to adhere to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ling efforts should be discontinued when rectal temperature reaches 4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to avoid “overshoot hypotherm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04920" y="304920"/>
          <a:ext cx="8381880" cy="6445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q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dvantag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Disadvantag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vapora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mple, noninvasive, more rap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Require constant moistening of sk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mers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ninvasive, relative more rap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Shivering, poorly tole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ce pac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ninvasive, readily avail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Shivering, poorly tole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ategic ice pa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ninvasive, available, can be combined with ot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Relatively slower, shivering, poorly tole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d gastric lav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bi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Invasive, experience limi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d PD lav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ry rap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Invasive, experience limi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Times New Roman"/>
              </a:rPr>
              <a:t>Treatment of Co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v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iz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shoot hypother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bound hyperther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monary 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De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kal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calc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uric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ral 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ver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even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tion to environment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limatization for workers, military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 hyd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schedules for those who need to work under advers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ervice care for elderly and the chronically 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Comic Sans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ime%20global%20warm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2655720" cy="3505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00"/>
                </a:solidFill>
                <a:latin typeface="Times New Roman"/>
              </a:rPr>
              <a:t>Hea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th-TH" sz="4000" spc="-1" strike="noStrike">
                <a:solidFill>
                  <a:srgbClr val="ffff00"/>
                </a:solidFill>
                <a:latin typeface="Times New Roman"/>
              </a:rPr>
              <a:t>trok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</a:rPr>
              <a:t>ข้อมูล กวก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</a:rPr>
              <a:t>พบ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</a:rPr>
              <a:t>พศ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</a:rPr>
              <a:t>2533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5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84000" y="1371600"/>
            <a:ext cx="1069632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imes New Roman"/>
                <a:cs typeface="CordiaUPC"/>
              </a:rPr>
              <a:t>ปี พศ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ea typeface="CordiaUPC"/>
              </a:rPr>
              <a:t>.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ea typeface="CordiaUPC"/>
              </a:rPr>
              <a:t>	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cs typeface="CordiaUPC"/>
              </a:rPr>
              <a:t>จำนวนผู้ป่วย      ทภ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ea typeface="CordiaUPC"/>
              </a:rPr>
              <a:t>.1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ea typeface="CordiaUPC"/>
              </a:rPr>
              <a:t>	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ea typeface="CordiaUPC"/>
              </a:rPr>
              <a:t>         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cs typeface="CordiaUPC"/>
              </a:rPr>
              <a:t>ทภ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ea typeface="CordiaUPC"/>
              </a:rPr>
              <a:t>.2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ea typeface="CordiaUPC"/>
              </a:rPr>
              <a:t>	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ea typeface="CordiaUPC"/>
              </a:rPr>
              <a:t>    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cs typeface="CordiaUPC"/>
              </a:rPr>
              <a:t>ทภ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ea typeface="CordiaUPC"/>
              </a:rPr>
              <a:t>.3          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cs typeface="CordiaUPC"/>
              </a:rPr>
              <a:t>ทภ</a:t>
            </a:r>
            <a:r>
              <a:rPr b="1" lang="th-TH" sz="2800" spc="-1" strike="noStrike">
                <a:solidFill>
                  <a:srgbClr val="ffff00"/>
                </a:solidFill>
                <a:latin typeface="Times New Roman"/>
                <a:ea typeface="CordiaUPC"/>
              </a:rPr>
              <a:t>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33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2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14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4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34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33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2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9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35          51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38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1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2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36          21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17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-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37          15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1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-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38          15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14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-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39          16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8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5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40          16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1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6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41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28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15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7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5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athophys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y heat = metabolism+[conduction+radiation+convection-evaporatio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181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181480"/>
            <a:ext cx="403848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419720"/>
            <a:ext cx="762120" cy="761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4495680"/>
            <a:ext cx="990360" cy="685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280" y="54100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eat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2320" y="46483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ea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840" y="53341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Heat disp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hysiologic Response to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enter of thermal control lies in the preoptic nucleus of the anterior 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core temperature rises, activates efferent fibers of ANS…cutaneous vasodilatation and increased rate of sw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dilatation dissipates heat by conv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eat dissipates heat by eva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Physiologic Response to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taneous blood flow increased from 0.2-0.5 L/min in cool temp to 7-8 L/min in hot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eating is stimulated by parasympathetic fibers …recruitment of sweat gland and increase in sweat rate of each 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eat rate can increase from &lt;0.5L/day to 10-15L/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5000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poration of 1 L of sweat consumes 600 kcal of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hydration can predispose to heat illness by inhibiting sw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9:47:47Z</dcterms:created>
  <dc:creator>Thitisak Kitthaweesin</dc:creator>
  <dc:description/>
  <dc:language>en-US</dc:language>
  <cp:lastModifiedBy>Spthanom</cp:lastModifiedBy>
  <dcterms:modified xsi:type="dcterms:W3CDTF">2002-04-17T10:45:59Z</dcterms:modified>
  <cp:revision>19</cp:revision>
  <dc:subject/>
  <dc:title>Update in Heatstroke</dc:title>
</cp:coreProperties>
</file>