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9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237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466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95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923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152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1380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1609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1838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2066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5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523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2752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V="1">
            <a:off x="2981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V="1">
            <a:off x="3209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3438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V="1">
            <a:off x="3666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 flipV="1">
            <a:off x="3895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flipV="1">
            <a:off x="4124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V="1">
            <a:off x="4352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flipV="1">
            <a:off x="4581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flipV="1">
            <a:off x="4809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 flipV="1">
            <a:off x="5038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V="1">
            <a:off x="5267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V="1">
            <a:off x="5495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flipV="1">
            <a:off x="5724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flipV="1">
            <a:off x="5952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 flipV="1">
            <a:off x="6181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 flipV="1">
            <a:off x="6410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 flipV="1">
            <a:off x="6638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 flipV="1">
            <a:off x="6867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 flipV="1">
            <a:off x="7095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 flipV="1">
            <a:off x="7324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 flipV="1">
            <a:off x="7553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 flipV="1">
            <a:off x="7781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 flipV="1">
            <a:off x="8010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 flipV="1">
            <a:off x="8238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 flipV="1">
            <a:off x="8467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 flipV="1">
            <a:off x="8696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V="1">
            <a:off x="89247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 flipV="1">
            <a:off x="91533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flipV="1">
            <a:off x="93819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96105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839160" y="0"/>
            <a:ext cx="0" cy="685656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6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492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778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064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350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636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922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08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494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780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066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352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9638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924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4210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496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782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1068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3354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640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926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0212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498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784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070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9356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642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3928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6214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850080"/>
            <a:ext cx="9848880" cy="0"/>
          </a:xfrm>
          <a:prstGeom prst="line">
            <a:avLst/>
          </a:prstGeom>
          <a:ln w="1260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2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6480" y="22320"/>
            <a:ext cx="253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080" y="22320"/>
            <a:ext cx="253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0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2280" y="22320"/>
            <a:ext cx="24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998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4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040" y="22320"/>
            <a:ext cx="218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5280" y="22320"/>
            <a:ext cx="24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3880" y="22320"/>
            <a:ext cx="27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28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4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86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6880" y="22320"/>
            <a:ext cx="253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080" y="22320"/>
            <a:ext cx="24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0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1640" y="2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9880" y="22320"/>
            <a:ext cx="24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8132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28640" y="223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6600" y="223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556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23800" y="22320"/>
            <a:ext cx="32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24680" y="22320"/>
            <a:ext cx="31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7200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060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9560" y="22320"/>
            <a:ext cx="291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57440" y="22320"/>
            <a:ext cx="32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81000" y="22320"/>
            <a:ext cx="34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0996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3856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77240" y="22320"/>
            <a:ext cx="31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9576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29040" y="22320"/>
            <a:ext cx="32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658360" y="22320"/>
            <a:ext cx="31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881200" y="22320"/>
            <a:ext cx="32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1520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338760" y="22320"/>
            <a:ext cx="331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2040" y="22320"/>
            <a:ext cx="32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20" y="2509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720" y="4795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720" y="7081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720" y="9367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720" y="11653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720" y="13939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720" y="16225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720" y="18511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720" y="2079720"/>
            <a:ext cx="236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440" y="23083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40" y="25369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1440" y="27655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1440" y="29941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440" y="32227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440" y="34513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440" y="36799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440" y="39085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0" y="41371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440" y="43657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440" y="45943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1440" y="48229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1440" y="50515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440" y="52801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440" y="55087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440" y="57373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440" y="59659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440" y="61945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440" y="64231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440" y="6651720"/>
            <a:ext cx="28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-49680" y="12600"/>
            <a:ext cx="307800" cy="150480"/>
            <a:chOff x="-49680" y="12600"/>
            <a:chExt cx="307800" cy="150480"/>
          </a:xfrm>
        </p:grpSpPr>
        <p:sp>
          <p:nvSpPr>
            <p:cNvPr id="146" name=""/>
            <p:cNvSpPr/>
            <p:nvPr/>
          </p:nvSpPr>
          <p:spPr>
            <a:xfrm>
              <a:off x="22320" y="146160"/>
              <a:ext cx="20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49680" y="12600"/>
              <a:ext cx="30780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40 m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0520" y="1267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280" y="1252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2440" y="1754280"/>
            <a:ext cx="2687760" cy="2268360"/>
          </a:xfrm>
          <a:custGeom>
            <a:avLst/>
            <a:gdLst/>
            <a:ahLst/>
            <a:rect l="l" t="t" r="r" b="b"/>
            <a:pathLst>
              <a:path w="1693" h="1429">
                <a:moveTo>
                  <a:pt x="99" y="56"/>
                </a:moveTo>
                <a:cubicBezTo>
                  <a:pt x="196" y="0"/>
                  <a:pt x="515" y="116"/>
                  <a:pt x="626" y="132"/>
                </a:cubicBezTo>
                <a:cubicBezTo>
                  <a:pt x="737" y="148"/>
                  <a:pt x="712" y="129"/>
                  <a:pt x="765" y="155"/>
                </a:cubicBezTo>
                <a:cubicBezTo>
                  <a:pt x="818" y="181"/>
                  <a:pt x="837" y="257"/>
                  <a:pt x="946" y="289"/>
                </a:cubicBezTo>
                <a:cubicBezTo>
                  <a:pt x="1055" y="321"/>
                  <a:pt x="1321" y="320"/>
                  <a:pt x="1419" y="350"/>
                </a:cubicBezTo>
                <a:cubicBezTo>
                  <a:pt x="1517" y="380"/>
                  <a:pt x="1491" y="328"/>
                  <a:pt x="1536" y="467"/>
                </a:cubicBezTo>
                <a:cubicBezTo>
                  <a:pt x="1581" y="606"/>
                  <a:pt x="1681" y="1041"/>
                  <a:pt x="1687" y="1186"/>
                </a:cubicBezTo>
                <a:cubicBezTo>
                  <a:pt x="1693" y="1331"/>
                  <a:pt x="1642" y="1315"/>
                  <a:pt x="1575" y="1338"/>
                </a:cubicBezTo>
                <a:cubicBezTo>
                  <a:pt x="1508" y="1361"/>
                  <a:pt x="1343" y="1315"/>
                  <a:pt x="1283" y="1325"/>
                </a:cubicBezTo>
                <a:cubicBezTo>
                  <a:pt x="1223" y="1335"/>
                  <a:pt x="1257" y="1385"/>
                  <a:pt x="1212" y="1397"/>
                </a:cubicBezTo>
                <a:cubicBezTo>
                  <a:pt x="1167" y="1409"/>
                  <a:pt x="1091" y="1429"/>
                  <a:pt x="1011" y="1399"/>
                </a:cubicBezTo>
                <a:cubicBezTo>
                  <a:pt x="931" y="1369"/>
                  <a:pt x="813" y="1267"/>
                  <a:pt x="735" y="1220"/>
                </a:cubicBezTo>
                <a:cubicBezTo>
                  <a:pt x="657" y="1173"/>
                  <a:pt x="606" y="1187"/>
                  <a:pt x="543" y="1115"/>
                </a:cubicBezTo>
                <a:cubicBezTo>
                  <a:pt x="480" y="1043"/>
                  <a:pt x="437" y="896"/>
                  <a:pt x="354" y="788"/>
                </a:cubicBezTo>
                <a:cubicBezTo>
                  <a:pt x="271" y="680"/>
                  <a:pt x="86" y="589"/>
                  <a:pt x="43" y="467"/>
                </a:cubicBezTo>
                <a:cubicBezTo>
                  <a:pt x="0" y="345"/>
                  <a:pt x="2" y="112"/>
                  <a:pt x="99" y="56"/>
                </a:cubicBezTo>
                <a:close/>
              </a:path>
            </a:pathLst>
          </a:custGeom>
          <a:gradFill rotWithShape="0">
            <a:gsLst>
              <a:gs pos="0">
                <a:srgbClr val="c1aa7d"/>
              </a:gs>
              <a:gs pos="100000">
                <a:srgbClr val="ffe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914400"/>
            <a:ext cx="3638520" cy="1724040"/>
          </a:xfrm>
          <a:custGeom>
            <a:avLst/>
            <a:gdLst/>
            <a:ahLst/>
            <a:rect l="l" t="t" r="r" b="b"/>
            <a:pathLst>
              <a:path w="2292" h="1086">
                <a:moveTo>
                  <a:pt x="0" y="0"/>
                </a:moveTo>
                <a:lnTo>
                  <a:pt x="77" y="16"/>
                </a:lnTo>
                <a:lnTo>
                  <a:pt x="132" y="25"/>
                </a:lnTo>
                <a:lnTo>
                  <a:pt x="186" y="34"/>
                </a:lnTo>
                <a:lnTo>
                  <a:pt x="240" y="44"/>
                </a:lnTo>
                <a:lnTo>
                  <a:pt x="277" y="63"/>
                </a:lnTo>
                <a:lnTo>
                  <a:pt x="304" y="100"/>
                </a:lnTo>
                <a:lnTo>
                  <a:pt x="331" y="119"/>
                </a:lnTo>
                <a:lnTo>
                  <a:pt x="349" y="138"/>
                </a:lnTo>
                <a:lnTo>
                  <a:pt x="367" y="176"/>
                </a:lnTo>
                <a:lnTo>
                  <a:pt x="385" y="213"/>
                </a:lnTo>
                <a:lnTo>
                  <a:pt x="394" y="251"/>
                </a:lnTo>
                <a:lnTo>
                  <a:pt x="431" y="288"/>
                </a:lnTo>
                <a:lnTo>
                  <a:pt x="449" y="317"/>
                </a:lnTo>
                <a:lnTo>
                  <a:pt x="467" y="364"/>
                </a:lnTo>
                <a:lnTo>
                  <a:pt x="594" y="448"/>
                </a:lnTo>
                <a:lnTo>
                  <a:pt x="648" y="458"/>
                </a:lnTo>
                <a:lnTo>
                  <a:pt x="802" y="500"/>
                </a:lnTo>
                <a:lnTo>
                  <a:pt x="947" y="514"/>
                </a:lnTo>
                <a:lnTo>
                  <a:pt x="983" y="514"/>
                </a:lnTo>
                <a:lnTo>
                  <a:pt x="1037" y="524"/>
                </a:lnTo>
                <a:lnTo>
                  <a:pt x="1092" y="533"/>
                </a:lnTo>
                <a:lnTo>
                  <a:pt x="1164" y="543"/>
                </a:lnTo>
                <a:lnTo>
                  <a:pt x="1237" y="590"/>
                </a:lnTo>
                <a:lnTo>
                  <a:pt x="1569" y="723"/>
                </a:lnTo>
                <a:lnTo>
                  <a:pt x="1875" y="801"/>
                </a:lnTo>
                <a:lnTo>
                  <a:pt x="1994" y="781"/>
                </a:lnTo>
                <a:lnTo>
                  <a:pt x="2175" y="858"/>
                </a:lnTo>
                <a:lnTo>
                  <a:pt x="2292" y="1086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697280"/>
            <a:ext cx="2876400" cy="2159280"/>
          </a:xfrm>
          <a:custGeom>
            <a:avLst/>
            <a:gdLst/>
            <a:ahLst/>
            <a:rect l="l" t="t" r="r" b="b"/>
            <a:pathLst>
              <a:path w="1812" h="1360">
                <a:moveTo>
                  <a:pt x="0" y="1360"/>
                </a:moveTo>
                <a:lnTo>
                  <a:pt x="8" y="1281"/>
                </a:lnTo>
                <a:lnTo>
                  <a:pt x="68" y="1221"/>
                </a:lnTo>
                <a:lnTo>
                  <a:pt x="148" y="1161"/>
                </a:lnTo>
                <a:lnTo>
                  <a:pt x="248" y="1081"/>
                </a:lnTo>
                <a:lnTo>
                  <a:pt x="348" y="1061"/>
                </a:lnTo>
                <a:lnTo>
                  <a:pt x="428" y="1041"/>
                </a:lnTo>
                <a:lnTo>
                  <a:pt x="488" y="1031"/>
                </a:lnTo>
                <a:lnTo>
                  <a:pt x="568" y="1011"/>
                </a:lnTo>
                <a:lnTo>
                  <a:pt x="628" y="1001"/>
                </a:lnTo>
                <a:lnTo>
                  <a:pt x="708" y="1001"/>
                </a:lnTo>
                <a:lnTo>
                  <a:pt x="788" y="991"/>
                </a:lnTo>
                <a:lnTo>
                  <a:pt x="848" y="981"/>
                </a:lnTo>
                <a:lnTo>
                  <a:pt x="888" y="951"/>
                </a:lnTo>
                <a:lnTo>
                  <a:pt x="988" y="911"/>
                </a:lnTo>
                <a:lnTo>
                  <a:pt x="1062" y="836"/>
                </a:lnTo>
                <a:lnTo>
                  <a:pt x="1140" y="764"/>
                </a:lnTo>
                <a:lnTo>
                  <a:pt x="1245" y="707"/>
                </a:lnTo>
                <a:lnTo>
                  <a:pt x="1388" y="671"/>
                </a:lnTo>
                <a:lnTo>
                  <a:pt x="1428" y="641"/>
                </a:lnTo>
                <a:lnTo>
                  <a:pt x="1468" y="611"/>
                </a:lnTo>
                <a:lnTo>
                  <a:pt x="1508" y="531"/>
                </a:lnTo>
                <a:lnTo>
                  <a:pt x="1548" y="491"/>
                </a:lnTo>
                <a:lnTo>
                  <a:pt x="1558" y="461"/>
                </a:lnTo>
                <a:lnTo>
                  <a:pt x="1588" y="421"/>
                </a:lnTo>
                <a:lnTo>
                  <a:pt x="1618" y="381"/>
                </a:lnTo>
                <a:lnTo>
                  <a:pt x="1648" y="351"/>
                </a:lnTo>
                <a:lnTo>
                  <a:pt x="1746" y="272"/>
                </a:lnTo>
                <a:lnTo>
                  <a:pt x="1793" y="159"/>
                </a:lnTo>
                <a:lnTo>
                  <a:pt x="1812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32680" y="3730680"/>
            <a:ext cx="3671640" cy="3125880"/>
          </a:xfrm>
          <a:custGeom>
            <a:avLst/>
            <a:gdLst/>
            <a:ahLst/>
            <a:rect l="l" t="t" r="r" b="b"/>
            <a:pathLst>
              <a:path w="2313" h="1969">
                <a:moveTo>
                  <a:pt x="2313" y="1969"/>
                </a:moveTo>
                <a:lnTo>
                  <a:pt x="2294" y="1920"/>
                </a:lnTo>
                <a:lnTo>
                  <a:pt x="2254" y="1840"/>
                </a:lnTo>
                <a:lnTo>
                  <a:pt x="2194" y="1820"/>
                </a:lnTo>
                <a:lnTo>
                  <a:pt x="2134" y="1740"/>
                </a:lnTo>
                <a:lnTo>
                  <a:pt x="2054" y="1720"/>
                </a:lnTo>
                <a:lnTo>
                  <a:pt x="1974" y="1640"/>
                </a:lnTo>
                <a:lnTo>
                  <a:pt x="1874" y="1620"/>
                </a:lnTo>
                <a:lnTo>
                  <a:pt x="1794" y="1560"/>
                </a:lnTo>
                <a:lnTo>
                  <a:pt x="1694" y="1500"/>
                </a:lnTo>
                <a:lnTo>
                  <a:pt x="1634" y="1440"/>
                </a:lnTo>
                <a:lnTo>
                  <a:pt x="1554" y="1380"/>
                </a:lnTo>
                <a:lnTo>
                  <a:pt x="1494" y="1360"/>
                </a:lnTo>
                <a:lnTo>
                  <a:pt x="1474" y="1280"/>
                </a:lnTo>
                <a:lnTo>
                  <a:pt x="1454" y="1200"/>
                </a:lnTo>
                <a:lnTo>
                  <a:pt x="1434" y="1140"/>
                </a:lnTo>
                <a:lnTo>
                  <a:pt x="1424" y="1080"/>
                </a:lnTo>
                <a:lnTo>
                  <a:pt x="1414" y="1020"/>
                </a:lnTo>
                <a:lnTo>
                  <a:pt x="1404" y="940"/>
                </a:lnTo>
                <a:lnTo>
                  <a:pt x="1404" y="880"/>
                </a:lnTo>
                <a:lnTo>
                  <a:pt x="1384" y="820"/>
                </a:lnTo>
                <a:lnTo>
                  <a:pt x="1364" y="760"/>
                </a:lnTo>
                <a:lnTo>
                  <a:pt x="1304" y="700"/>
                </a:lnTo>
                <a:lnTo>
                  <a:pt x="1244" y="640"/>
                </a:lnTo>
                <a:lnTo>
                  <a:pt x="1164" y="560"/>
                </a:lnTo>
                <a:lnTo>
                  <a:pt x="1084" y="500"/>
                </a:lnTo>
                <a:lnTo>
                  <a:pt x="1024" y="440"/>
                </a:lnTo>
                <a:lnTo>
                  <a:pt x="964" y="420"/>
                </a:lnTo>
                <a:lnTo>
                  <a:pt x="904" y="360"/>
                </a:lnTo>
                <a:lnTo>
                  <a:pt x="824" y="340"/>
                </a:lnTo>
                <a:lnTo>
                  <a:pt x="744" y="280"/>
                </a:lnTo>
                <a:lnTo>
                  <a:pt x="584" y="250"/>
                </a:lnTo>
                <a:lnTo>
                  <a:pt x="464" y="190"/>
                </a:lnTo>
                <a:lnTo>
                  <a:pt x="344" y="90"/>
                </a:lnTo>
                <a:lnTo>
                  <a:pt x="152" y="7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2200" y="4035600"/>
            <a:ext cx="3019320" cy="612720"/>
          </a:xfrm>
          <a:custGeom>
            <a:avLst/>
            <a:gdLst/>
            <a:ahLst/>
            <a:rect l="l" t="t" r="r" b="b"/>
            <a:pathLst>
              <a:path w="1902" h="386">
                <a:moveTo>
                  <a:pt x="0" y="386"/>
                </a:moveTo>
                <a:lnTo>
                  <a:pt x="76" y="340"/>
                </a:lnTo>
                <a:lnTo>
                  <a:pt x="156" y="280"/>
                </a:lnTo>
                <a:lnTo>
                  <a:pt x="236" y="220"/>
                </a:lnTo>
                <a:lnTo>
                  <a:pt x="316" y="160"/>
                </a:lnTo>
                <a:lnTo>
                  <a:pt x="376" y="140"/>
                </a:lnTo>
                <a:lnTo>
                  <a:pt x="436" y="120"/>
                </a:lnTo>
                <a:lnTo>
                  <a:pt x="496" y="110"/>
                </a:lnTo>
                <a:lnTo>
                  <a:pt x="576" y="100"/>
                </a:lnTo>
                <a:lnTo>
                  <a:pt x="676" y="90"/>
                </a:lnTo>
                <a:lnTo>
                  <a:pt x="756" y="80"/>
                </a:lnTo>
                <a:lnTo>
                  <a:pt x="856" y="60"/>
                </a:lnTo>
                <a:lnTo>
                  <a:pt x="976" y="60"/>
                </a:lnTo>
                <a:lnTo>
                  <a:pt x="1096" y="40"/>
                </a:lnTo>
                <a:lnTo>
                  <a:pt x="1196" y="40"/>
                </a:lnTo>
                <a:lnTo>
                  <a:pt x="1296" y="20"/>
                </a:lnTo>
                <a:lnTo>
                  <a:pt x="1396" y="20"/>
                </a:lnTo>
                <a:lnTo>
                  <a:pt x="1476" y="0"/>
                </a:lnTo>
                <a:lnTo>
                  <a:pt x="1576" y="0"/>
                </a:lnTo>
                <a:lnTo>
                  <a:pt x="1730" y="14"/>
                </a:lnTo>
                <a:lnTo>
                  <a:pt x="1902" y="106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5320" y="226692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Times New Roman"/>
              </a:rPr>
              <a:t>Gard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06680" y="53974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Times New Roman"/>
              </a:rPr>
              <a:t>Gard Bas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60280" y="5002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Times New Roman"/>
              </a:rPr>
              <a:t>Fi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6400" y="24685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Città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0673000">
            <a:off x="154080" y="403848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ada Carovani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0673000">
            <a:off x="594000" y="5899320"/>
            <a:ext cx="13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ada d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ntee meridion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724400">
            <a:off x="7793640" y="6126120"/>
            <a:ext cx="195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ada delle Contee orien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6880" y="4282920"/>
            <a:ext cx="63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Smeral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2520" y="2697120"/>
            <a:ext cx="61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Centr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89000" y="5057640"/>
            <a:ext cx="64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carova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10120" y="1238400"/>
            <a:ext cx="63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l La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80440" y="355140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di G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451400">
            <a:off x="654840" y="11365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trada per Start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200">
            <a:off x="5648760" y="239400"/>
            <a:ext cx="194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ada delle Contee del n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25920" y="1671480"/>
            <a:ext cx="2678040" cy="2543400"/>
          </a:xfrm>
          <a:custGeom>
            <a:avLst/>
            <a:gdLst/>
            <a:ahLst/>
            <a:rect l="l" t="t" r="r" b="b"/>
            <a:pathLst>
              <a:path w="1687" h="1602">
                <a:moveTo>
                  <a:pt x="0" y="1602"/>
                </a:moveTo>
                <a:lnTo>
                  <a:pt x="127" y="1404"/>
                </a:lnTo>
                <a:lnTo>
                  <a:pt x="227" y="1384"/>
                </a:lnTo>
                <a:lnTo>
                  <a:pt x="327" y="1374"/>
                </a:lnTo>
                <a:lnTo>
                  <a:pt x="447" y="1354"/>
                </a:lnTo>
                <a:lnTo>
                  <a:pt x="527" y="1334"/>
                </a:lnTo>
                <a:lnTo>
                  <a:pt x="607" y="1274"/>
                </a:lnTo>
                <a:lnTo>
                  <a:pt x="687" y="1214"/>
                </a:lnTo>
                <a:lnTo>
                  <a:pt x="787" y="1134"/>
                </a:lnTo>
                <a:lnTo>
                  <a:pt x="867" y="1074"/>
                </a:lnTo>
                <a:lnTo>
                  <a:pt x="967" y="994"/>
                </a:lnTo>
                <a:lnTo>
                  <a:pt x="1087" y="894"/>
                </a:lnTo>
                <a:lnTo>
                  <a:pt x="1167" y="794"/>
                </a:lnTo>
                <a:lnTo>
                  <a:pt x="1287" y="694"/>
                </a:lnTo>
                <a:lnTo>
                  <a:pt x="1407" y="574"/>
                </a:lnTo>
                <a:lnTo>
                  <a:pt x="1507" y="454"/>
                </a:lnTo>
                <a:lnTo>
                  <a:pt x="1607" y="374"/>
                </a:lnTo>
                <a:lnTo>
                  <a:pt x="1687" y="294"/>
                </a:lnTo>
                <a:lnTo>
                  <a:pt x="1675" y="0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51160" y="3143160"/>
            <a:ext cx="127080" cy="693720"/>
          </a:xfrm>
          <a:custGeom>
            <a:avLst/>
            <a:gdLst/>
            <a:ahLst/>
            <a:rect l="l" t="t" r="r" b="b"/>
            <a:pathLst>
              <a:path w="80" h="437">
                <a:moveTo>
                  <a:pt x="0" y="0"/>
                </a:moveTo>
                <a:lnTo>
                  <a:pt x="40" y="238"/>
                </a:lnTo>
                <a:lnTo>
                  <a:pt x="80" y="437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63520"/>
            <a:ext cx="789120" cy="996840"/>
          </a:xfrm>
          <a:custGeom>
            <a:avLst/>
            <a:gdLst/>
            <a:ahLst/>
            <a:rect l="l" t="t" r="r" b="b"/>
            <a:pathLst>
              <a:path w="497" h="628">
                <a:moveTo>
                  <a:pt x="0" y="0"/>
                </a:moveTo>
                <a:lnTo>
                  <a:pt x="139" y="152"/>
                </a:lnTo>
                <a:lnTo>
                  <a:pt x="305" y="258"/>
                </a:lnTo>
                <a:lnTo>
                  <a:pt x="361" y="414"/>
                </a:lnTo>
                <a:lnTo>
                  <a:pt x="497" y="628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86320" y="3086280"/>
            <a:ext cx="509760" cy="466560"/>
          </a:xfrm>
          <a:custGeom>
            <a:avLst/>
            <a:gdLst/>
            <a:ahLst/>
            <a:rect l="l" t="t" r="r" b="b"/>
            <a:pathLst>
              <a:path w="321" h="294">
                <a:moveTo>
                  <a:pt x="0" y="0"/>
                </a:moveTo>
                <a:lnTo>
                  <a:pt x="129" y="122"/>
                </a:lnTo>
                <a:lnTo>
                  <a:pt x="262" y="208"/>
                </a:lnTo>
                <a:lnTo>
                  <a:pt x="321" y="294"/>
                </a:lnTo>
              </a:path>
            </a:pathLst>
          </a:custGeom>
          <a:noFill/>
          <a:ln cap="rnd" w="12600">
            <a:solidFill>
              <a:srgbClr val="000000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8235720" y="210600"/>
            <a:ext cx="1670040" cy="2313000"/>
          </a:xfrm>
          <a:prstGeom prst="rtTriangl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02720" y="209520"/>
            <a:ext cx="1995480" cy="3113280"/>
          </a:xfrm>
          <a:custGeom>
            <a:avLst/>
            <a:gdLst/>
            <a:ahLst/>
            <a:rect l="l" t="t" r="r" b="b"/>
            <a:pathLst>
              <a:path w="1257" h="1961">
                <a:moveTo>
                  <a:pt x="1252" y="1404"/>
                </a:moveTo>
                <a:cubicBezTo>
                  <a:pt x="1248" y="1673"/>
                  <a:pt x="1075" y="1827"/>
                  <a:pt x="1020" y="1894"/>
                </a:cubicBezTo>
                <a:cubicBezTo>
                  <a:pt x="965" y="1961"/>
                  <a:pt x="1001" y="1817"/>
                  <a:pt x="921" y="1808"/>
                </a:cubicBezTo>
                <a:cubicBezTo>
                  <a:pt x="841" y="1799"/>
                  <a:pt x="590" y="1928"/>
                  <a:pt x="537" y="1841"/>
                </a:cubicBezTo>
                <a:cubicBezTo>
                  <a:pt x="484" y="1754"/>
                  <a:pt x="664" y="1449"/>
                  <a:pt x="603" y="1285"/>
                </a:cubicBezTo>
                <a:cubicBezTo>
                  <a:pt x="542" y="1121"/>
                  <a:pt x="271" y="1001"/>
                  <a:pt x="173" y="854"/>
                </a:cubicBezTo>
                <a:cubicBezTo>
                  <a:pt x="75" y="707"/>
                  <a:pt x="28" y="508"/>
                  <a:pt x="14" y="404"/>
                </a:cubicBezTo>
                <a:cubicBezTo>
                  <a:pt x="0" y="300"/>
                  <a:pt x="56" y="298"/>
                  <a:pt x="87" y="232"/>
                </a:cubicBezTo>
                <a:cubicBezTo>
                  <a:pt x="118" y="166"/>
                  <a:pt x="39" y="0"/>
                  <a:pt x="199" y="7"/>
                </a:cubicBezTo>
                <a:cubicBezTo>
                  <a:pt x="359" y="14"/>
                  <a:pt x="871" y="44"/>
                  <a:pt x="1046" y="277"/>
                </a:cubicBezTo>
                <a:cubicBezTo>
                  <a:pt x="1221" y="510"/>
                  <a:pt x="1257" y="1158"/>
                  <a:pt x="1252" y="1404"/>
                </a:cubicBez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78720" y="252360"/>
            <a:ext cx="1039680" cy="1123920"/>
          </a:xfrm>
          <a:custGeom>
            <a:avLst/>
            <a:gdLst/>
            <a:ahLst/>
            <a:rect l="l" t="t" r="r" b="b"/>
            <a:pathLst>
              <a:path w="655" h="708">
                <a:moveTo>
                  <a:pt x="0" y="0"/>
                </a:moveTo>
                <a:lnTo>
                  <a:pt x="72" y="179"/>
                </a:lnTo>
                <a:lnTo>
                  <a:pt x="218" y="371"/>
                </a:lnTo>
                <a:lnTo>
                  <a:pt x="284" y="503"/>
                </a:lnTo>
                <a:lnTo>
                  <a:pt x="655" y="708"/>
                </a:ln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39200" y="17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345600" y="414360"/>
            <a:ext cx="515880" cy="496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385200" y="2517840"/>
            <a:ext cx="473040" cy="2631960"/>
          </a:xfrm>
          <a:custGeom>
            <a:avLst/>
            <a:gdLst/>
            <a:ahLst/>
            <a:rect l="l" t="t" r="r" b="b"/>
            <a:pathLst>
              <a:path w="298" h="1658">
                <a:moveTo>
                  <a:pt x="0" y="0"/>
                </a:moveTo>
                <a:lnTo>
                  <a:pt x="72" y="179"/>
                </a:lnTo>
                <a:lnTo>
                  <a:pt x="100" y="678"/>
                </a:lnTo>
                <a:lnTo>
                  <a:pt x="199" y="1148"/>
                </a:lnTo>
                <a:lnTo>
                  <a:pt x="298" y="1658"/>
                </a:ln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76440" y="12049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Times New Roman"/>
              </a:rPr>
              <a:t>Lago G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732800">
            <a:off x="8793000" y="36986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3333cc"/>
                </a:solidFill>
                <a:latin typeface="Times New Roman"/>
              </a:rPr>
              <a:t>Fiume Regan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030280" y="2044800"/>
            <a:ext cx="248040" cy="250560"/>
            <a:chOff x="5030280" y="2044800"/>
            <a:chExt cx="248040" cy="250560"/>
          </a:xfrm>
        </p:grpSpPr>
        <p:sp>
          <p:nvSpPr>
            <p:cNvPr id="218" name=""/>
            <p:cNvSpPr/>
            <p:nvPr/>
          </p:nvSpPr>
          <p:spPr>
            <a:xfrm rot="16200000">
              <a:off x="5031720" y="2075760"/>
              <a:ext cx="250560" cy="1886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06960" y="2130480"/>
              <a:ext cx="100080" cy="100080"/>
            </a:xfrm>
            <a:prstGeom prst="ellipse">
              <a:avLst/>
            </a:prstGeom>
            <a:gradFill rotWithShape="0">
              <a:gsLst>
                <a:gs pos="0">
                  <a:srgbClr val="c14d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5062680" y="2044800"/>
              <a:ext cx="61920" cy="633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5078520" y="2060640"/>
              <a:ext cx="31680" cy="31680"/>
            </a:xfrm>
            <a:prstGeom prst="rect">
              <a:avLst/>
            </a:prstGeom>
            <a:solidFill>
              <a:srgbClr val="ff66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62680" y="2044800"/>
              <a:ext cx="6192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062680" y="2044800"/>
              <a:ext cx="6192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0800000">
              <a:off x="5187960" y="2044800"/>
              <a:ext cx="63360" cy="633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0800000">
              <a:off x="5203800" y="2060640"/>
              <a:ext cx="31680" cy="31680"/>
            </a:xfrm>
            <a:prstGeom prst="rect">
              <a:avLst/>
            </a:prstGeom>
            <a:solidFill>
              <a:srgbClr val="ff660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7960" y="2044800"/>
              <a:ext cx="6336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187960" y="2044800"/>
              <a:ext cx="6336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030280" y="2109960"/>
              <a:ext cx="63720" cy="125280"/>
              <a:chOff x="5030280" y="2109960"/>
              <a:chExt cx="63720" cy="125280"/>
            </a:xfrm>
          </p:grpSpPr>
          <p:sp>
            <p:nvSpPr>
              <p:cNvPr id="229" name=""/>
              <p:cNvSpPr/>
              <p:nvPr/>
            </p:nvSpPr>
            <p:spPr>
              <a:xfrm flipH="1">
                <a:off x="5029920" y="2109960"/>
                <a:ext cx="63720" cy="1252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da82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5031360" y="2172600"/>
                <a:ext cx="622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214960" y="2112840"/>
              <a:ext cx="63360" cy="125640"/>
              <a:chOff x="5214960" y="2112840"/>
              <a:chExt cx="63360" cy="125640"/>
            </a:xfrm>
          </p:grpSpPr>
          <p:sp>
            <p:nvSpPr>
              <p:cNvPr id="232" name=""/>
              <p:cNvSpPr/>
              <p:nvPr/>
            </p:nvSpPr>
            <p:spPr>
              <a:xfrm>
                <a:off x="5214960" y="2112840"/>
                <a:ext cx="63360" cy="1256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da82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15320" y="2175840"/>
                <a:ext cx="619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6359400" y="4120920"/>
            <a:ext cx="300240" cy="200160"/>
            <a:chOff x="6359400" y="4120920"/>
            <a:chExt cx="300240" cy="200160"/>
          </a:xfrm>
        </p:grpSpPr>
        <p:sp>
          <p:nvSpPr>
            <p:cNvPr id="235" name=""/>
            <p:cNvSpPr/>
            <p:nvPr/>
          </p:nvSpPr>
          <p:spPr>
            <a:xfrm>
              <a:off x="6359400" y="4187880"/>
              <a:ext cx="300240" cy="6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6460200" y="4187520"/>
              <a:ext cx="199800" cy="6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59560" y="4121280"/>
              <a:ext cx="0" cy="19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59400" y="4221000"/>
              <a:ext cx="3002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6200000">
              <a:off x="6526800" y="4187520"/>
              <a:ext cx="66600" cy="6660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6543360" y="4204440"/>
              <a:ext cx="33120" cy="33120"/>
            </a:xfrm>
            <a:prstGeom prst="rect">
              <a:avLst/>
            </a:prstGeom>
            <a:gradFill rotWithShape="0">
              <a:gsLst>
                <a:gs pos="0">
                  <a:srgbClr val="afdbdb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526440" y="418788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26800" y="418788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766600" y="4305240"/>
            <a:ext cx="452520" cy="301680"/>
            <a:chOff x="2766600" y="4305240"/>
            <a:chExt cx="452520" cy="301680"/>
          </a:xfrm>
        </p:grpSpPr>
        <p:sp>
          <p:nvSpPr>
            <p:cNvPr id="244" name=""/>
            <p:cNvSpPr/>
            <p:nvPr/>
          </p:nvSpPr>
          <p:spPr>
            <a:xfrm rot="10800000">
              <a:off x="2766600" y="4356000"/>
              <a:ext cx="452520" cy="2008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a82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766600" y="4456080"/>
              <a:ext cx="452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3017880" y="43560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3030480" y="43686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b00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018240" y="43556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3017880" y="43556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3168720" y="43560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3181320" y="43686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9a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169080" y="43556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3168720" y="43556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3017880" y="45072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3030480" y="45198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b00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018240" y="45068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3017880" y="45068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3168720" y="45072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3181320" y="45198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9a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169080" y="45068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3168720" y="45068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2766600" y="45072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2778840" y="45198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6586a8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766960" y="45068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66600" y="45068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2766600" y="43560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2778840" y="43686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6586a8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766960" y="43556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2766600" y="43556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rot="16200000">
              <a:off x="2893320" y="4480920"/>
              <a:ext cx="98280" cy="1508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288" y="288"/>
                  </a:lnTo>
                  <a:lnTo>
                    <a:pt x="144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10800000"/>
            </a:gra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943000" y="4510440"/>
              <a:ext cx="0" cy="9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893680" y="4281120"/>
              <a:ext cx="98280" cy="1508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288" y="288"/>
                  </a:lnTo>
                  <a:lnTo>
                    <a:pt x="144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10800000"/>
            </a:gra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43000" y="4305240"/>
              <a:ext cx="0" cy="9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2867040" y="4431600"/>
              <a:ext cx="50040" cy="5004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2879640" y="4444200"/>
              <a:ext cx="24840" cy="24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1c19a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867400" y="44312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867040" y="4431240"/>
              <a:ext cx="50040" cy="5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362480" y="4793760"/>
            <a:ext cx="198360" cy="244440"/>
            <a:chOff x="4362480" y="4793760"/>
            <a:chExt cx="198360" cy="244440"/>
          </a:xfrm>
        </p:grpSpPr>
        <p:sp>
          <p:nvSpPr>
            <p:cNvPr id="279" name=""/>
            <p:cNvSpPr/>
            <p:nvPr/>
          </p:nvSpPr>
          <p:spPr>
            <a:xfrm rot="16200000">
              <a:off x="4348800" y="4807440"/>
              <a:ext cx="225720" cy="1983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4386240" y="4851720"/>
              <a:ext cx="150480" cy="11016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6200000">
              <a:off x="4367520" y="4829760"/>
              <a:ext cx="187920" cy="154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4433400" y="4856400"/>
              <a:ext cx="56160" cy="4392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428000" y="5000760"/>
              <a:ext cx="65880" cy="37440"/>
              <a:chOff x="4428000" y="5000760"/>
              <a:chExt cx="65880" cy="37440"/>
            </a:xfrm>
          </p:grpSpPr>
          <p:sp>
            <p:nvSpPr>
              <p:cNvPr id="284" name=""/>
              <p:cNvSpPr/>
              <p:nvPr/>
            </p:nvSpPr>
            <p:spPr>
              <a:xfrm rot="5400000">
                <a:off x="4442040" y="4986360"/>
                <a:ext cx="37440" cy="658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60760" y="5000760"/>
                <a:ext cx="0" cy="367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rot="16200000">
              <a:off x="4413960" y="484992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4413960" y="487296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4413960" y="489636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4413960" y="491940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200000">
              <a:off x="4413960" y="494244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4490280" y="484920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4490280" y="487224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4490280" y="489564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4490280" y="491868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6200000">
              <a:off x="4490280" y="4941720"/>
              <a:ext cx="18720" cy="21960"/>
            </a:xfrm>
            <a:custGeom>
              <a:avLst/>
              <a:gdLst>
                <a:gd name="textAreaLeft" fmla="*/ 4320 w 18720"/>
                <a:gd name="textAreaRight" fmla="*/ 14400 w 18720"/>
                <a:gd name="textAreaTop" fmla="*/ 5040 h 21960"/>
                <a:gd name="textAreaBottom" fmla="*/ 16920 h 2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268600" y="5248440"/>
            <a:ext cx="320760" cy="222120"/>
            <a:chOff x="5268600" y="5248440"/>
            <a:chExt cx="320760" cy="222120"/>
          </a:xfrm>
        </p:grpSpPr>
        <p:sp>
          <p:nvSpPr>
            <p:cNvPr id="297" name=""/>
            <p:cNvSpPr/>
            <p:nvPr/>
          </p:nvSpPr>
          <p:spPr>
            <a:xfrm>
              <a:off x="5293440" y="5248440"/>
              <a:ext cx="295920" cy="2221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42760" y="5297760"/>
              <a:ext cx="197280" cy="1234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18280" y="5272920"/>
              <a:ext cx="246600" cy="172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1760" y="5334840"/>
              <a:ext cx="73800" cy="4932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5268600" y="5321880"/>
              <a:ext cx="49320" cy="73800"/>
              <a:chOff x="5268600" y="5321880"/>
              <a:chExt cx="49320" cy="73800"/>
            </a:xfrm>
          </p:grpSpPr>
          <p:sp>
            <p:nvSpPr>
              <p:cNvPr id="302" name=""/>
              <p:cNvSpPr/>
              <p:nvPr/>
            </p:nvSpPr>
            <p:spPr>
              <a:xfrm rot="10800000">
                <a:off x="5268600" y="5321880"/>
                <a:ext cx="49320" cy="738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269680" y="5358600"/>
                <a:ext cx="4824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5488920" y="530424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58680" y="530424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428080" y="530424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7840" y="530424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67600" y="530424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490000" y="538992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59760" y="538992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9160" y="538992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98920" y="538992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68680" y="5389920"/>
              <a:ext cx="24480" cy="24480"/>
            </a:xfrm>
            <a:custGeom>
              <a:avLst/>
              <a:gdLst>
                <a:gd name="textAreaLeft" fmla="*/ 5400 w 24480"/>
                <a:gd name="textAreaRight" fmla="*/ 19080 w 24480"/>
                <a:gd name="textAreaTop" fmla="*/ 5400 h 24480"/>
                <a:gd name="textAreaBottom" fmla="*/ 19080 h 2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530680" y="2030400"/>
            <a:ext cx="176400" cy="254160"/>
            <a:chOff x="5530680" y="2030400"/>
            <a:chExt cx="176400" cy="254160"/>
          </a:xfrm>
        </p:grpSpPr>
        <p:sp>
          <p:nvSpPr>
            <p:cNvPr id="315" name=""/>
            <p:cNvSpPr/>
            <p:nvPr/>
          </p:nvSpPr>
          <p:spPr>
            <a:xfrm rot="16200000">
              <a:off x="5501520" y="2059560"/>
              <a:ext cx="234720" cy="1764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540040" y="2098440"/>
              <a:ext cx="156600" cy="979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5520960" y="2079360"/>
              <a:ext cx="195480" cy="137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589000" y="2098800"/>
              <a:ext cx="58680" cy="3888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589000" y="2245680"/>
              <a:ext cx="58680" cy="38880"/>
              <a:chOff x="5589000" y="2245680"/>
              <a:chExt cx="58680" cy="38880"/>
            </a:xfrm>
          </p:grpSpPr>
          <p:sp>
            <p:nvSpPr>
              <p:cNvPr id="320" name=""/>
              <p:cNvSpPr/>
              <p:nvPr/>
            </p:nvSpPr>
            <p:spPr>
              <a:xfrm rot="5400000">
                <a:off x="5598720" y="2235600"/>
                <a:ext cx="38880" cy="586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618160" y="2245680"/>
                <a:ext cx="0" cy="3816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 rot="16200000">
              <a:off x="5574960" y="209088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5574960" y="211464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5574960" y="213876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6200000">
              <a:off x="5574960" y="216288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5574960" y="218700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6200000">
              <a:off x="5643000" y="208980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6200000">
              <a:off x="5643000" y="211392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5643000" y="213804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5643000" y="216216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5643000" y="2186280"/>
              <a:ext cx="19440" cy="19440"/>
            </a:xfrm>
            <a:custGeom>
              <a:avLst/>
              <a:gdLst>
                <a:gd name="textAreaLeft" fmla="*/ 4320 w 19440"/>
                <a:gd name="textAreaRight" fmla="*/ 15120 w 19440"/>
                <a:gd name="textAreaTop" fmla="*/ 4320 h 19440"/>
                <a:gd name="textAreaBottom" fmla="*/ 15120 h 1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564080" y="2935440"/>
            <a:ext cx="262080" cy="264960"/>
            <a:chOff x="4564080" y="2935440"/>
            <a:chExt cx="262080" cy="264960"/>
          </a:xfrm>
        </p:grpSpPr>
        <p:sp>
          <p:nvSpPr>
            <p:cNvPr id="333" name=""/>
            <p:cNvSpPr/>
            <p:nvPr/>
          </p:nvSpPr>
          <p:spPr>
            <a:xfrm>
              <a:off x="4564080" y="2935440"/>
              <a:ext cx="262080" cy="227160"/>
            </a:xfrm>
            <a:prstGeom prst="blockArc">
              <a:avLst>
                <a:gd name="adj1" fmla="val 9562668"/>
                <a:gd name="adj2" fmla="val 1237332"/>
                <a:gd name="adj3" fmla="val 3028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9880" y="2973240"/>
              <a:ext cx="149760" cy="15120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800000">
              <a:off x="4568400" y="3086640"/>
              <a:ext cx="20880" cy="756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0800000">
              <a:off x="4799520" y="3086640"/>
              <a:ext cx="20880" cy="756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0800000">
              <a:off x="4582800" y="3067560"/>
              <a:ext cx="224640" cy="1134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57680" y="3031560"/>
              <a:ext cx="74880" cy="385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19880" y="3179160"/>
              <a:ext cx="149760" cy="2124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4582800" y="3124800"/>
              <a:ext cx="224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032440" y="3654000"/>
            <a:ext cx="247680" cy="205920"/>
            <a:chOff x="5032440" y="3654000"/>
            <a:chExt cx="247680" cy="205920"/>
          </a:xfrm>
        </p:grpSpPr>
        <p:sp>
          <p:nvSpPr>
            <p:cNvPr id="342" name=""/>
            <p:cNvSpPr/>
            <p:nvPr/>
          </p:nvSpPr>
          <p:spPr>
            <a:xfrm>
              <a:off x="5032440" y="3697200"/>
              <a:ext cx="247680" cy="123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6586a8"/>
                </a:gs>
                <a:gs pos="100000">
                  <a:srgbClr val="99ccff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32440" y="3759120"/>
              <a:ext cx="247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113440" y="3654000"/>
              <a:ext cx="123840" cy="82440"/>
              <a:chOff x="5113440" y="3654000"/>
              <a:chExt cx="123840" cy="82440"/>
            </a:xfrm>
          </p:grpSpPr>
          <p:sp>
            <p:nvSpPr>
              <p:cNvPr id="345" name=""/>
              <p:cNvSpPr/>
              <p:nvPr/>
            </p:nvSpPr>
            <p:spPr>
              <a:xfrm flipH="1" rot="5400000">
                <a:off x="5133960" y="3633120"/>
                <a:ext cx="82440" cy="1238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6586a8"/>
                  </a:gs>
                  <a:gs pos="100000">
                    <a:srgbClr val="99ccff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75360" y="3655800"/>
                <a:ext cx="0" cy="8064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113440" y="3778200"/>
              <a:ext cx="123840" cy="81720"/>
              <a:chOff x="5113440" y="3778200"/>
              <a:chExt cx="123840" cy="81720"/>
            </a:xfrm>
          </p:grpSpPr>
          <p:sp>
            <p:nvSpPr>
              <p:cNvPr id="348" name=""/>
              <p:cNvSpPr/>
              <p:nvPr/>
            </p:nvSpPr>
            <p:spPr>
              <a:xfrm rot="5400000">
                <a:off x="5135040" y="3756600"/>
                <a:ext cx="80640" cy="1238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6586a8"/>
                  </a:gs>
                  <a:gs pos="100000">
                    <a:srgbClr val="99ccff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175360" y="3781080"/>
                <a:ext cx="0" cy="7884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254160" y="303120"/>
            <a:ext cx="2209680" cy="457200"/>
            <a:chOff x="254160" y="303120"/>
            <a:chExt cx="2209680" cy="457200"/>
          </a:xfrm>
        </p:grpSpPr>
        <p:grpSp>
          <p:nvGrpSpPr>
            <p:cNvPr id="351" name=""/>
            <p:cNvGrpSpPr/>
            <p:nvPr/>
          </p:nvGrpSpPr>
          <p:grpSpPr>
            <a:xfrm>
              <a:off x="254160" y="303120"/>
              <a:ext cx="2209680" cy="457200"/>
              <a:chOff x="254160" y="303120"/>
              <a:chExt cx="2209680" cy="457200"/>
            </a:xfrm>
          </p:grpSpPr>
          <p:sp>
            <p:nvSpPr>
              <p:cNvPr id="352" name=""/>
              <p:cNvSpPr/>
              <p:nvPr/>
            </p:nvSpPr>
            <p:spPr>
              <a:xfrm>
                <a:off x="271800" y="318600"/>
                <a:ext cx="2192040" cy="441720"/>
              </a:xfrm>
              <a:custGeom>
                <a:avLst/>
                <a:gdLst/>
                <a:ahLst/>
                <a:rect l="l" t="t" r="r" b="b"/>
                <a:pathLst>
                  <a:path w="2244" h="342">
                    <a:moveTo>
                      <a:pt x="1920" y="42"/>
                    </a:moveTo>
                    <a:lnTo>
                      <a:pt x="1920" y="48"/>
                    </a:lnTo>
                    <a:lnTo>
                      <a:pt x="1920" y="54"/>
                    </a:lnTo>
                    <a:lnTo>
                      <a:pt x="1926" y="54"/>
                    </a:lnTo>
                    <a:lnTo>
                      <a:pt x="1926" y="60"/>
                    </a:lnTo>
                    <a:lnTo>
                      <a:pt x="1926" y="66"/>
                    </a:lnTo>
                    <a:lnTo>
                      <a:pt x="1926" y="72"/>
                    </a:lnTo>
                    <a:lnTo>
                      <a:pt x="1926" y="78"/>
                    </a:lnTo>
                    <a:lnTo>
                      <a:pt x="1926" y="84"/>
                    </a:lnTo>
                    <a:lnTo>
                      <a:pt x="1926" y="90"/>
                    </a:lnTo>
                    <a:lnTo>
                      <a:pt x="1920" y="96"/>
                    </a:lnTo>
                    <a:lnTo>
                      <a:pt x="1920" y="102"/>
                    </a:lnTo>
                    <a:lnTo>
                      <a:pt x="1920" y="108"/>
                    </a:lnTo>
                    <a:lnTo>
                      <a:pt x="1920" y="114"/>
                    </a:lnTo>
                    <a:lnTo>
                      <a:pt x="1926" y="114"/>
                    </a:lnTo>
                    <a:lnTo>
                      <a:pt x="1938" y="108"/>
                    </a:lnTo>
                    <a:lnTo>
                      <a:pt x="1944" y="108"/>
                    </a:lnTo>
                    <a:lnTo>
                      <a:pt x="1950" y="108"/>
                    </a:lnTo>
                    <a:lnTo>
                      <a:pt x="1956" y="102"/>
                    </a:lnTo>
                    <a:lnTo>
                      <a:pt x="1968" y="102"/>
                    </a:lnTo>
                    <a:lnTo>
                      <a:pt x="1974" y="102"/>
                    </a:lnTo>
                    <a:lnTo>
                      <a:pt x="1980" y="102"/>
                    </a:lnTo>
                    <a:lnTo>
                      <a:pt x="1986" y="102"/>
                    </a:lnTo>
                    <a:lnTo>
                      <a:pt x="1998" y="96"/>
                    </a:lnTo>
                    <a:lnTo>
                      <a:pt x="2004" y="96"/>
                    </a:lnTo>
                    <a:lnTo>
                      <a:pt x="2010" y="96"/>
                    </a:lnTo>
                    <a:lnTo>
                      <a:pt x="2022" y="96"/>
                    </a:lnTo>
                    <a:lnTo>
                      <a:pt x="2028" y="96"/>
                    </a:lnTo>
                    <a:lnTo>
                      <a:pt x="2034" y="96"/>
                    </a:lnTo>
                    <a:lnTo>
                      <a:pt x="2040" y="102"/>
                    </a:lnTo>
                    <a:lnTo>
                      <a:pt x="2052" y="102"/>
                    </a:lnTo>
                    <a:lnTo>
                      <a:pt x="2058" y="102"/>
                    </a:lnTo>
                    <a:lnTo>
                      <a:pt x="2064" y="102"/>
                    </a:lnTo>
                    <a:lnTo>
                      <a:pt x="2076" y="108"/>
                    </a:lnTo>
                    <a:lnTo>
                      <a:pt x="2082" y="108"/>
                    </a:lnTo>
                    <a:lnTo>
                      <a:pt x="2088" y="108"/>
                    </a:lnTo>
                    <a:lnTo>
                      <a:pt x="2094" y="114"/>
                    </a:lnTo>
                    <a:lnTo>
                      <a:pt x="2106" y="114"/>
                    </a:lnTo>
                    <a:lnTo>
                      <a:pt x="2112" y="120"/>
                    </a:lnTo>
                    <a:lnTo>
                      <a:pt x="2118" y="120"/>
                    </a:lnTo>
                    <a:lnTo>
                      <a:pt x="2124" y="126"/>
                    </a:lnTo>
                    <a:lnTo>
                      <a:pt x="2130" y="126"/>
                    </a:lnTo>
                    <a:lnTo>
                      <a:pt x="2142" y="126"/>
                    </a:lnTo>
                    <a:lnTo>
                      <a:pt x="2148" y="132"/>
                    </a:lnTo>
                    <a:lnTo>
                      <a:pt x="2154" y="138"/>
                    </a:lnTo>
                    <a:lnTo>
                      <a:pt x="2160" y="144"/>
                    </a:lnTo>
                    <a:lnTo>
                      <a:pt x="2166" y="150"/>
                    </a:lnTo>
                    <a:lnTo>
                      <a:pt x="2172" y="150"/>
                    </a:lnTo>
                    <a:lnTo>
                      <a:pt x="2172" y="156"/>
                    </a:lnTo>
                    <a:lnTo>
                      <a:pt x="2178" y="162"/>
                    </a:lnTo>
                    <a:lnTo>
                      <a:pt x="2184" y="168"/>
                    </a:lnTo>
                    <a:lnTo>
                      <a:pt x="2196" y="174"/>
                    </a:lnTo>
                    <a:lnTo>
                      <a:pt x="2202" y="186"/>
                    </a:lnTo>
                    <a:lnTo>
                      <a:pt x="2214" y="192"/>
                    </a:lnTo>
                    <a:lnTo>
                      <a:pt x="2226" y="198"/>
                    </a:lnTo>
                    <a:lnTo>
                      <a:pt x="2232" y="198"/>
                    </a:lnTo>
                    <a:lnTo>
                      <a:pt x="2232" y="204"/>
                    </a:lnTo>
                    <a:lnTo>
                      <a:pt x="2238" y="210"/>
                    </a:lnTo>
                    <a:lnTo>
                      <a:pt x="2244" y="216"/>
                    </a:lnTo>
                    <a:lnTo>
                      <a:pt x="2238" y="216"/>
                    </a:lnTo>
                    <a:lnTo>
                      <a:pt x="2238" y="222"/>
                    </a:lnTo>
                    <a:lnTo>
                      <a:pt x="2232" y="222"/>
                    </a:lnTo>
                    <a:lnTo>
                      <a:pt x="2232" y="216"/>
                    </a:lnTo>
                    <a:lnTo>
                      <a:pt x="2226" y="216"/>
                    </a:lnTo>
                    <a:lnTo>
                      <a:pt x="2220" y="216"/>
                    </a:lnTo>
                    <a:lnTo>
                      <a:pt x="2214" y="216"/>
                    </a:lnTo>
                    <a:lnTo>
                      <a:pt x="2208" y="210"/>
                    </a:lnTo>
                    <a:lnTo>
                      <a:pt x="2202" y="210"/>
                    </a:lnTo>
                    <a:lnTo>
                      <a:pt x="2196" y="210"/>
                    </a:lnTo>
                    <a:lnTo>
                      <a:pt x="2190" y="210"/>
                    </a:lnTo>
                    <a:lnTo>
                      <a:pt x="2178" y="210"/>
                    </a:lnTo>
                    <a:lnTo>
                      <a:pt x="2166" y="210"/>
                    </a:lnTo>
                    <a:lnTo>
                      <a:pt x="2160" y="204"/>
                    </a:lnTo>
                    <a:lnTo>
                      <a:pt x="2154" y="204"/>
                    </a:lnTo>
                    <a:lnTo>
                      <a:pt x="2148" y="204"/>
                    </a:lnTo>
                    <a:lnTo>
                      <a:pt x="2142" y="204"/>
                    </a:lnTo>
                    <a:lnTo>
                      <a:pt x="2136" y="210"/>
                    </a:lnTo>
                    <a:lnTo>
                      <a:pt x="2130" y="210"/>
                    </a:lnTo>
                    <a:lnTo>
                      <a:pt x="2124" y="210"/>
                    </a:lnTo>
                    <a:lnTo>
                      <a:pt x="2118" y="210"/>
                    </a:lnTo>
                    <a:lnTo>
                      <a:pt x="2124" y="216"/>
                    </a:lnTo>
                    <a:lnTo>
                      <a:pt x="2130" y="222"/>
                    </a:lnTo>
                    <a:lnTo>
                      <a:pt x="2136" y="222"/>
                    </a:lnTo>
                    <a:lnTo>
                      <a:pt x="2136" y="228"/>
                    </a:lnTo>
                    <a:lnTo>
                      <a:pt x="2142" y="234"/>
                    </a:lnTo>
                    <a:lnTo>
                      <a:pt x="2142" y="240"/>
                    </a:lnTo>
                    <a:lnTo>
                      <a:pt x="2148" y="246"/>
                    </a:lnTo>
                    <a:lnTo>
                      <a:pt x="2154" y="252"/>
                    </a:lnTo>
                    <a:lnTo>
                      <a:pt x="2154" y="264"/>
                    </a:lnTo>
                    <a:lnTo>
                      <a:pt x="2160" y="264"/>
                    </a:lnTo>
                    <a:lnTo>
                      <a:pt x="2160" y="270"/>
                    </a:lnTo>
                    <a:lnTo>
                      <a:pt x="2166" y="270"/>
                    </a:lnTo>
                    <a:lnTo>
                      <a:pt x="2166" y="276"/>
                    </a:lnTo>
                    <a:lnTo>
                      <a:pt x="2172" y="282"/>
                    </a:lnTo>
                    <a:lnTo>
                      <a:pt x="2178" y="288"/>
                    </a:lnTo>
                    <a:lnTo>
                      <a:pt x="2178" y="294"/>
                    </a:lnTo>
                    <a:lnTo>
                      <a:pt x="2178" y="300"/>
                    </a:lnTo>
                    <a:lnTo>
                      <a:pt x="2184" y="300"/>
                    </a:lnTo>
                    <a:lnTo>
                      <a:pt x="2184" y="306"/>
                    </a:lnTo>
                    <a:lnTo>
                      <a:pt x="2184" y="312"/>
                    </a:lnTo>
                    <a:lnTo>
                      <a:pt x="2190" y="318"/>
                    </a:lnTo>
                    <a:lnTo>
                      <a:pt x="2190" y="324"/>
                    </a:lnTo>
                    <a:lnTo>
                      <a:pt x="2190" y="330"/>
                    </a:lnTo>
                    <a:lnTo>
                      <a:pt x="2196" y="336"/>
                    </a:lnTo>
                    <a:lnTo>
                      <a:pt x="2196" y="342"/>
                    </a:lnTo>
                    <a:lnTo>
                      <a:pt x="2190" y="342"/>
                    </a:lnTo>
                    <a:lnTo>
                      <a:pt x="2184" y="342"/>
                    </a:lnTo>
                    <a:lnTo>
                      <a:pt x="2178" y="342"/>
                    </a:lnTo>
                    <a:lnTo>
                      <a:pt x="2178" y="336"/>
                    </a:lnTo>
                    <a:lnTo>
                      <a:pt x="2172" y="336"/>
                    </a:lnTo>
                    <a:lnTo>
                      <a:pt x="2166" y="336"/>
                    </a:lnTo>
                    <a:lnTo>
                      <a:pt x="2160" y="336"/>
                    </a:lnTo>
                    <a:lnTo>
                      <a:pt x="2154" y="336"/>
                    </a:lnTo>
                    <a:lnTo>
                      <a:pt x="2154" y="330"/>
                    </a:lnTo>
                    <a:lnTo>
                      <a:pt x="2154" y="324"/>
                    </a:lnTo>
                    <a:lnTo>
                      <a:pt x="2148" y="324"/>
                    </a:lnTo>
                    <a:lnTo>
                      <a:pt x="2142" y="324"/>
                    </a:lnTo>
                    <a:lnTo>
                      <a:pt x="2136" y="318"/>
                    </a:lnTo>
                    <a:lnTo>
                      <a:pt x="2130" y="318"/>
                    </a:lnTo>
                    <a:lnTo>
                      <a:pt x="2124" y="312"/>
                    </a:lnTo>
                    <a:lnTo>
                      <a:pt x="2118" y="312"/>
                    </a:lnTo>
                    <a:lnTo>
                      <a:pt x="2106" y="306"/>
                    </a:lnTo>
                    <a:lnTo>
                      <a:pt x="2100" y="306"/>
                    </a:lnTo>
                    <a:lnTo>
                      <a:pt x="2088" y="306"/>
                    </a:lnTo>
                    <a:lnTo>
                      <a:pt x="2082" y="300"/>
                    </a:lnTo>
                    <a:lnTo>
                      <a:pt x="2076" y="306"/>
                    </a:lnTo>
                    <a:lnTo>
                      <a:pt x="2070" y="300"/>
                    </a:lnTo>
                    <a:lnTo>
                      <a:pt x="2064" y="300"/>
                    </a:lnTo>
                    <a:lnTo>
                      <a:pt x="2058" y="300"/>
                    </a:lnTo>
                    <a:lnTo>
                      <a:pt x="2046" y="300"/>
                    </a:lnTo>
                    <a:lnTo>
                      <a:pt x="2040" y="294"/>
                    </a:lnTo>
                    <a:lnTo>
                      <a:pt x="2034" y="294"/>
                    </a:lnTo>
                    <a:lnTo>
                      <a:pt x="2028" y="294"/>
                    </a:lnTo>
                    <a:lnTo>
                      <a:pt x="2016" y="294"/>
                    </a:lnTo>
                    <a:lnTo>
                      <a:pt x="2010" y="294"/>
                    </a:lnTo>
                    <a:lnTo>
                      <a:pt x="2004" y="294"/>
                    </a:lnTo>
                    <a:lnTo>
                      <a:pt x="1992" y="288"/>
                    </a:lnTo>
                    <a:lnTo>
                      <a:pt x="1986" y="288"/>
                    </a:lnTo>
                    <a:lnTo>
                      <a:pt x="1980" y="288"/>
                    </a:lnTo>
                    <a:lnTo>
                      <a:pt x="1968" y="288"/>
                    </a:lnTo>
                    <a:lnTo>
                      <a:pt x="1962" y="294"/>
                    </a:lnTo>
                    <a:lnTo>
                      <a:pt x="1956" y="294"/>
                    </a:lnTo>
                    <a:lnTo>
                      <a:pt x="1944" y="294"/>
                    </a:lnTo>
                    <a:lnTo>
                      <a:pt x="1938" y="294"/>
                    </a:lnTo>
                    <a:lnTo>
                      <a:pt x="1932" y="294"/>
                    </a:lnTo>
                    <a:lnTo>
                      <a:pt x="1926" y="294"/>
                    </a:lnTo>
                    <a:lnTo>
                      <a:pt x="1914" y="294"/>
                    </a:lnTo>
                    <a:lnTo>
                      <a:pt x="1908" y="294"/>
                    </a:lnTo>
                    <a:lnTo>
                      <a:pt x="1902" y="294"/>
                    </a:lnTo>
                    <a:lnTo>
                      <a:pt x="1890" y="294"/>
                    </a:lnTo>
                    <a:lnTo>
                      <a:pt x="1884" y="300"/>
                    </a:lnTo>
                    <a:lnTo>
                      <a:pt x="1878" y="300"/>
                    </a:lnTo>
                    <a:lnTo>
                      <a:pt x="1872" y="300"/>
                    </a:lnTo>
                    <a:lnTo>
                      <a:pt x="1866" y="300"/>
                    </a:lnTo>
                    <a:lnTo>
                      <a:pt x="1860" y="300"/>
                    </a:lnTo>
                    <a:lnTo>
                      <a:pt x="1854" y="300"/>
                    </a:lnTo>
                    <a:lnTo>
                      <a:pt x="1848" y="306"/>
                    </a:lnTo>
                    <a:lnTo>
                      <a:pt x="1842" y="306"/>
                    </a:lnTo>
                    <a:lnTo>
                      <a:pt x="1836" y="312"/>
                    </a:lnTo>
                    <a:lnTo>
                      <a:pt x="1830" y="312"/>
                    </a:lnTo>
                    <a:lnTo>
                      <a:pt x="1824" y="312"/>
                    </a:lnTo>
                    <a:lnTo>
                      <a:pt x="1818" y="312"/>
                    </a:lnTo>
                    <a:lnTo>
                      <a:pt x="1812" y="312"/>
                    </a:lnTo>
                    <a:lnTo>
                      <a:pt x="1806" y="318"/>
                    </a:lnTo>
                    <a:lnTo>
                      <a:pt x="1800" y="318"/>
                    </a:lnTo>
                    <a:lnTo>
                      <a:pt x="1782" y="324"/>
                    </a:lnTo>
                    <a:lnTo>
                      <a:pt x="1764" y="330"/>
                    </a:lnTo>
                    <a:lnTo>
                      <a:pt x="1758" y="330"/>
                    </a:lnTo>
                    <a:lnTo>
                      <a:pt x="1752" y="330"/>
                    </a:lnTo>
                    <a:lnTo>
                      <a:pt x="1746" y="336"/>
                    </a:lnTo>
                    <a:lnTo>
                      <a:pt x="1740" y="336"/>
                    </a:lnTo>
                    <a:lnTo>
                      <a:pt x="1734" y="336"/>
                    </a:lnTo>
                    <a:lnTo>
                      <a:pt x="1728" y="336"/>
                    </a:lnTo>
                    <a:lnTo>
                      <a:pt x="1722" y="336"/>
                    </a:lnTo>
                    <a:lnTo>
                      <a:pt x="1716" y="336"/>
                    </a:lnTo>
                    <a:lnTo>
                      <a:pt x="1710" y="336"/>
                    </a:lnTo>
                    <a:lnTo>
                      <a:pt x="1704" y="336"/>
                    </a:lnTo>
                    <a:lnTo>
                      <a:pt x="1698" y="336"/>
                    </a:lnTo>
                    <a:lnTo>
                      <a:pt x="1692" y="336"/>
                    </a:lnTo>
                    <a:lnTo>
                      <a:pt x="1686" y="336"/>
                    </a:lnTo>
                    <a:lnTo>
                      <a:pt x="1680" y="336"/>
                    </a:lnTo>
                    <a:lnTo>
                      <a:pt x="1680" y="330"/>
                    </a:lnTo>
                    <a:lnTo>
                      <a:pt x="1674" y="330"/>
                    </a:lnTo>
                    <a:lnTo>
                      <a:pt x="1668" y="330"/>
                    </a:lnTo>
                    <a:lnTo>
                      <a:pt x="1662" y="330"/>
                    </a:lnTo>
                    <a:lnTo>
                      <a:pt x="1656" y="330"/>
                    </a:lnTo>
                    <a:lnTo>
                      <a:pt x="1650" y="324"/>
                    </a:lnTo>
                    <a:lnTo>
                      <a:pt x="1644" y="324"/>
                    </a:lnTo>
                    <a:lnTo>
                      <a:pt x="1638" y="318"/>
                    </a:lnTo>
                    <a:lnTo>
                      <a:pt x="1632" y="318"/>
                    </a:lnTo>
                    <a:lnTo>
                      <a:pt x="1632" y="312"/>
                    </a:lnTo>
                    <a:lnTo>
                      <a:pt x="1626" y="312"/>
                    </a:lnTo>
                    <a:lnTo>
                      <a:pt x="1620" y="306"/>
                    </a:lnTo>
                    <a:lnTo>
                      <a:pt x="1620" y="300"/>
                    </a:lnTo>
                    <a:lnTo>
                      <a:pt x="1614" y="300"/>
                    </a:lnTo>
                    <a:lnTo>
                      <a:pt x="1614" y="294"/>
                    </a:lnTo>
                    <a:lnTo>
                      <a:pt x="1614" y="288"/>
                    </a:lnTo>
                    <a:lnTo>
                      <a:pt x="1614" y="282"/>
                    </a:lnTo>
                    <a:lnTo>
                      <a:pt x="1614" y="276"/>
                    </a:lnTo>
                    <a:lnTo>
                      <a:pt x="1614" y="270"/>
                    </a:lnTo>
                    <a:lnTo>
                      <a:pt x="1614" y="264"/>
                    </a:lnTo>
                    <a:lnTo>
                      <a:pt x="1614" y="258"/>
                    </a:lnTo>
                    <a:lnTo>
                      <a:pt x="1614" y="252"/>
                    </a:lnTo>
                    <a:lnTo>
                      <a:pt x="1614" y="246"/>
                    </a:lnTo>
                    <a:lnTo>
                      <a:pt x="1608" y="240"/>
                    </a:lnTo>
                    <a:lnTo>
                      <a:pt x="1602" y="240"/>
                    </a:lnTo>
                    <a:lnTo>
                      <a:pt x="1596" y="240"/>
                    </a:lnTo>
                    <a:lnTo>
                      <a:pt x="1590" y="240"/>
                    </a:lnTo>
                    <a:lnTo>
                      <a:pt x="1584" y="240"/>
                    </a:lnTo>
                    <a:lnTo>
                      <a:pt x="1578" y="240"/>
                    </a:lnTo>
                    <a:lnTo>
                      <a:pt x="1566" y="240"/>
                    </a:lnTo>
                    <a:lnTo>
                      <a:pt x="1560" y="240"/>
                    </a:lnTo>
                    <a:lnTo>
                      <a:pt x="1554" y="240"/>
                    </a:lnTo>
                    <a:lnTo>
                      <a:pt x="1548" y="240"/>
                    </a:lnTo>
                    <a:lnTo>
                      <a:pt x="1542" y="240"/>
                    </a:lnTo>
                    <a:lnTo>
                      <a:pt x="1536" y="240"/>
                    </a:lnTo>
                    <a:lnTo>
                      <a:pt x="1530" y="240"/>
                    </a:lnTo>
                    <a:lnTo>
                      <a:pt x="1524" y="240"/>
                    </a:lnTo>
                    <a:lnTo>
                      <a:pt x="1518" y="240"/>
                    </a:lnTo>
                    <a:lnTo>
                      <a:pt x="1512" y="240"/>
                    </a:lnTo>
                    <a:lnTo>
                      <a:pt x="1506" y="240"/>
                    </a:lnTo>
                    <a:lnTo>
                      <a:pt x="1500" y="240"/>
                    </a:lnTo>
                    <a:lnTo>
                      <a:pt x="1500" y="234"/>
                    </a:lnTo>
                    <a:lnTo>
                      <a:pt x="1494" y="240"/>
                    </a:lnTo>
                    <a:lnTo>
                      <a:pt x="1488" y="240"/>
                    </a:lnTo>
                    <a:lnTo>
                      <a:pt x="1482" y="240"/>
                    </a:lnTo>
                    <a:lnTo>
                      <a:pt x="1476" y="240"/>
                    </a:lnTo>
                    <a:lnTo>
                      <a:pt x="1476" y="234"/>
                    </a:lnTo>
                    <a:lnTo>
                      <a:pt x="1470" y="234"/>
                    </a:lnTo>
                    <a:lnTo>
                      <a:pt x="1464" y="234"/>
                    </a:lnTo>
                    <a:lnTo>
                      <a:pt x="1458" y="234"/>
                    </a:lnTo>
                    <a:lnTo>
                      <a:pt x="1446" y="234"/>
                    </a:lnTo>
                    <a:lnTo>
                      <a:pt x="1440" y="240"/>
                    </a:lnTo>
                    <a:lnTo>
                      <a:pt x="1434" y="240"/>
                    </a:lnTo>
                    <a:lnTo>
                      <a:pt x="1428" y="240"/>
                    </a:lnTo>
                    <a:lnTo>
                      <a:pt x="1422" y="240"/>
                    </a:lnTo>
                    <a:lnTo>
                      <a:pt x="1416" y="240"/>
                    </a:lnTo>
                    <a:lnTo>
                      <a:pt x="1410" y="240"/>
                    </a:lnTo>
                    <a:lnTo>
                      <a:pt x="1410" y="234"/>
                    </a:lnTo>
                    <a:lnTo>
                      <a:pt x="1404" y="234"/>
                    </a:lnTo>
                    <a:lnTo>
                      <a:pt x="1398" y="234"/>
                    </a:lnTo>
                    <a:lnTo>
                      <a:pt x="1392" y="234"/>
                    </a:lnTo>
                    <a:lnTo>
                      <a:pt x="1386" y="234"/>
                    </a:lnTo>
                    <a:lnTo>
                      <a:pt x="1380" y="234"/>
                    </a:lnTo>
                    <a:lnTo>
                      <a:pt x="1374" y="234"/>
                    </a:lnTo>
                    <a:lnTo>
                      <a:pt x="1368" y="228"/>
                    </a:lnTo>
                    <a:lnTo>
                      <a:pt x="1368" y="234"/>
                    </a:lnTo>
                    <a:lnTo>
                      <a:pt x="1356" y="234"/>
                    </a:lnTo>
                    <a:lnTo>
                      <a:pt x="1344" y="234"/>
                    </a:lnTo>
                    <a:lnTo>
                      <a:pt x="1338" y="234"/>
                    </a:lnTo>
                    <a:lnTo>
                      <a:pt x="1326" y="234"/>
                    </a:lnTo>
                    <a:lnTo>
                      <a:pt x="1314" y="234"/>
                    </a:lnTo>
                    <a:lnTo>
                      <a:pt x="1302" y="234"/>
                    </a:lnTo>
                    <a:lnTo>
                      <a:pt x="1296" y="234"/>
                    </a:lnTo>
                    <a:lnTo>
                      <a:pt x="1284" y="234"/>
                    </a:lnTo>
                    <a:lnTo>
                      <a:pt x="1272" y="234"/>
                    </a:lnTo>
                    <a:lnTo>
                      <a:pt x="1260" y="234"/>
                    </a:lnTo>
                    <a:lnTo>
                      <a:pt x="1248" y="234"/>
                    </a:lnTo>
                    <a:lnTo>
                      <a:pt x="1242" y="234"/>
                    </a:lnTo>
                    <a:lnTo>
                      <a:pt x="1218" y="234"/>
                    </a:lnTo>
                    <a:lnTo>
                      <a:pt x="1194" y="234"/>
                    </a:lnTo>
                    <a:lnTo>
                      <a:pt x="1176" y="234"/>
                    </a:lnTo>
                    <a:lnTo>
                      <a:pt x="1152" y="234"/>
                    </a:lnTo>
                    <a:lnTo>
                      <a:pt x="1128" y="228"/>
                    </a:lnTo>
                    <a:lnTo>
                      <a:pt x="1110" y="228"/>
                    </a:lnTo>
                    <a:lnTo>
                      <a:pt x="1098" y="228"/>
                    </a:lnTo>
                    <a:lnTo>
                      <a:pt x="1086" y="228"/>
                    </a:lnTo>
                    <a:lnTo>
                      <a:pt x="1074" y="228"/>
                    </a:lnTo>
                    <a:lnTo>
                      <a:pt x="1068" y="228"/>
                    </a:lnTo>
                    <a:lnTo>
                      <a:pt x="1056" y="228"/>
                    </a:lnTo>
                    <a:lnTo>
                      <a:pt x="1044" y="234"/>
                    </a:lnTo>
                    <a:lnTo>
                      <a:pt x="1032" y="234"/>
                    </a:lnTo>
                    <a:lnTo>
                      <a:pt x="1026" y="234"/>
                    </a:lnTo>
                    <a:lnTo>
                      <a:pt x="1020" y="228"/>
                    </a:lnTo>
                    <a:lnTo>
                      <a:pt x="990" y="228"/>
                    </a:lnTo>
                    <a:lnTo>
                      <a:pt x="966" y="228"/>
                    </a:lnTo>
                    <a:lnTo>
                      <a:pt x="936" y="228"/>
                    </a:lnTo>
                    <a:lnTo>
                      <a:pt x="912" y="228"/>
                    </a:lnTo>
                    <a:lnTo>
                      <a:pt x="882" y="228"/>
                    </a:lnTo>
                    <a:lnTo>
                      <a:pt x="858" y="228"/>
                    </a:lnTo>
                    <a:lnTo>
                      <a:pt x="828" y="228"/>
                    </a:lnTo>
                    <a:lnTo>
                      <a:pt x="804" y="228"/>
                    </a:lnTo>
                    <a:lnTo>
                      <a:pt x="798" y="228"/>
                    </a:lnTo>
                    <a:lnTo>
                      <a:pt x="792" y="228"/>
                    </a:lnTo>
                    <a:lnTo>
                      <a:pt x="786" y="228"/>
                    </a:lnTo>
                    <a:lnTo>
                      <a:pt x="780" y="228"/>
                    </a:lnTo>
                    <a:lnTo>
                      <a:pt x="774" y="228"/>
                    </a:lnTo>
                    <a:lnTo>
                      <a:pt x="768" y="228"/>
                    </a:lnTo>
                    <a:lnTo>
                      <a:pt x="762" y="228"/>
                    </a:lnTo>
                    <a:lnTo>
                      <a:pt x="756" y="228"/>
                    </a:lnTo>
                    <a:lnTo>
                      <a:pt x="744" y="228"/>
                    </a:lnTo>
                    <a:lnTo>
                      <a:pt x="732" y="228"/>
                    </a:lnTo>
                    <a:lnTo>
                      <a:pt x="720" y="228"/>
                    </a:lnTo>
                    <a:lnTo>
                      <a:pt x="714" y="228"/>
                    </a:lnTo>
                    <a:lnTo>
                      <a:pt x="702" y="228"/>
                    </a:lnTo>
                    <a:lnTo>
                      <a:pt x="690" y="228"/>
                    </a:lnTo>
                    <a:lnTo>
                      <a:pt x="684" y="228"/>
                    </a:lnTo>
                    <a:lnTo>
                      <a:pt x="672" y="228"/>
                    </a:lnTo>
                    <a:lnTo>
                      <a:pt x="666" y="228"/>
                    </a:lnTo>
                    <a:lnTo>
                      <a:pt x="660" y="228"/>
                    </a:lnTo>
                    <a:lnTo>
                      <a:pt x="654" y="228"/>
                    </a:lnTo>
                    <a:lnTo>
                      <a:pt x="648" y="228"/>
                    </a:lnTo>
                    <a:lnTo>
                      <a:pt x="594" y="228"/>
                    </a:lnTo>
                    <a:lnTo>
                      <a:pt x="594" y="234"/>
                    </a:lnTo>
                    <a:lnTo>
                      <a:pt x="594" y="240"/>
                    </a:lnTo>
                    <a:lnTo>
                      <a:pt x="594" y="246"/>
                    </a:lnTo>
                    <a:lnTo>
                      <a:pt x="594" y="252"/>
                    </a:lnTo>
                    <a:lnTo>
                      <a:pt x="594" y="258"/>
                    </a:lnTo>
                    <a:lnTo>
                      <a:pt x="594" y="264"/>
                    </a:lnTo>
                    <a:lnTo>
                      <a:pt x="594" y="270"/>
                    </a:lnTo>
                    <a:lnTo>
                      <a:pt x="588" y="270"/>
                    </a:lnTo>
                    <a:lnTo>
                      <a:pt x="594" y="276"/>
                    </a:lnTo>
                    <a:lnTo>
                      <a:pt x="594" y="282"/>
                    </a:lnTo>
                    <a:lnTo>
                      <a:pt x="594" y="288"/>
                    </a:lnTo>
                    <a:lnTo>
                      <a:pt x="594" y="294"/>
                    </a:lnTo>
                    <a:lnTo>
                      <a:pt x="594" y="300"/>
                    </a:lnTo>
                    <a:lnTo>
                      <a:pt x="588" y="300"/>
                    </a:lnTo>
                    <a:lnTo>
                      <a:pt x="588" y="306"/>
                    </a:lnTo>
                    <a:lnTo>
                      <a:pt x="588" y="312"/>
                    </a:lnTo>
                    <a:lnTo>
                      <a:pt x="582" y="318"/>
                    </a:lnTo>
                    <a:lnTo>
                      <a:pt x="576" y="324"/>
                    </a:lnTo>
                    <a:lnTo>
                      <a:pt x="570" y="324"/>
                    </a:lnTo>
                    <a:lnTo>
                      <a:pt x="564" y="330"/>
                    </a:lnTo>
                    <a:lnTo>
                      <a:pt x="558" y="330"/>
                    </a:lnTo>
                    <a:lnTo>
                      <a:pt x="552" y="336"/>
                    </a:lnTo>
                    <a:lnTo>
                      <a:pt x="546" y="336"/>
                    </a:lnTo>
                    <a:lnTo>
                      <a:pt x="540" y="336"/>
                    </a:lnTo>
                    <a:lnTo>
                      <a:pt x="534" y="336"/>
                    </a:lnTo>
                    <a:lnTo>
                      <a:pt x="528" y="336"/>
                    </a:lnTo>
                    <a:lnTo>
                      <a:pt x="516" y="336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2" y="336"/>
                    </a:lnTo>
                    <a:lnTo>
                      <a:pt x="486" y="336"/>
                    </a:lnTo>
                    <a:lnTo>
                      <a:pt x="480" y="336"/>
                    </a:lnTo>
                    <a:lnTo>
                      <a:pt x="474" y="336"/>
                    </a:lnTo>
                    <a:lnTo>
                      <a:pt x="468" y="336"/>
                    </a:lnTo>
                    <a:lnTo>
                      <a:pt x="456" y="336"/>
                    </a:lnTo>
                    <a:lnTo>
                      <a:pt x="444" y="336"/>
                    </a:lnTo>
                    <a:lnTo>
                      <a:pt x="432" y="336"/>
                    </a:lnTo>
                    <a:lnTo>
                      <a:pt x="420" y="336"/>
                    </a:lnTo>
                    <a:lnTo>
                      <a:pt x="408" y="336"/>
                    </a:lnTo>
                    <a:lnTo>
                      <a:pt x="402" y="336"/>
                    </a:lnTo>
                    <a:lnTo>
                      <a:pt x="396" y="336"/>
                    </a:lnTo>
                    <a:lnTo>
                      <a:pt x="390" y="336"/>
                    </a:lnTo>
                    <a:lnTo>
                      <a:pt x="384" y="336"/>
                    </a:lnTo>
                    <a:lnTo>
                      <a:pt x="378" y="330"/>
                    </a:lnTo>
                    <a:lnTo>
                      <a:pt x="372" y="330"/>
                    </a:lnTo>
                    <a:lnTo>
                      <a:pt x="366" y="330"/>
                    </a:lnTo>
                    <a:lnTo>
                      <a:pt x="360" y="324"/>
                    </a:lnTo>
                    <a:lnTo>
                      <a:pt x="354" y="324"/>
                    </a:lnTo>
                    <a:lnTo>
                      <a:pt x="348" y="324"/>
                    </a:lnTo>
                    <a:lnTo>
                      <a:pt x="342" y="318"/>
                    </a:lnTo>
                    <a:lnTo>
                      <a:pt x="336" y="318"/>
                    </a:lnTo>
                    <a:lnTo>
                      <a:pt x="324" y="318"/>
                    </a:lnTo>
                    <a:lnTo>
                      <a:pt x="312" y="312"/>
                    </a:lnTo>
                    <a:lnTo>
                      <a:pt x="300" y="312"/>
                    </a:lnTo>
                    <a:lnTo>
                      <a:pt x="288" y="306"/>
                    </a:lnTo>
                    <a:lnTo>
                      <a:pt x="258" y="300"/>
                    </a:lnTo>
                    <a:lnTo>
                      <a:pt x="234" y="300"/>
                    </a:lnTo>
                    <a:lnTo>
                      <a:pt x="222" y="294"/>
                    </a:lnTo>
                    <a:lnTo>
                      <a:pt x="210" y="294"/>
                    </a:lnTo>
                    <a:lnTo>
                      <a:pt x="198" y="288"/>
                    </a:lnTo>
                    <a:lnTo>
                      <a:pt x="186" y="288"/>
                    </a:lnTo>
                    <a:lnTo>
                      <a:pt x="180" y="288"/>
                    </a:lnTo>
                    <a:lnTo>
                      <a:pt x="174" y="288"/>
                    </a:lnTo>
                    <a:lnTo>
                      <a:pt x="168" y="288"/>
                    </a:lnTo>
                    <a:lnTo>
                      <a:pt x="162" y="288"/>
                    </a:lnTo>
                    <a:lnTo>
                      <a:pt x="156" y="288"/>
                    </a:lnTo>
                    <a:lnTo>
                      <a:pt x="150" y="288"/>
                    </a:lnTo>
                    <a:lnTo>
                      <a:pt x="144" y="288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26" y="294"/>
                    </a:lnTo>
                    <a:lnTo>
                      <a:pt x="120" y="300"/>
                    </a:lnTo>
                    <a:lnTo>
                      <a:pt x="114" y="300"/>
                    </a:lnTo>
                    <a:lnTo>
                      <a:pt x="102" y="306"/>
                    </a:lnTo>
                    <a:lnTo>
                      <a:pt x="96" y="306"/>
                    </a:lnTo>
                    <a:lnTo>
                      <a:pt x="90" y="312"/>
                    </a:lnTo>
                    <a:lnTo>
                      <a:pt x="84" y="318"/>
                    </a:lnTo>
                    <a:lnTo>
                      <a:pt x="78" y="318"/>
                    </a:lnTo>
                    <a:lnTo>
                      <a:pt x="72" y="324"/>
                    </a:lnTo>
                    <a:lnTo>
                      <a:pt x="66" y="324"/>
                    </a:lnTo>
                    <a:lnTo>
                      <a:pt x="60" y="324"/>
                    </a:lnTo>
                    <a:lnTo>
                      <a:pt x="60" y="318"/>
                    </a:lnTo>
                    <a:lnTo>
                      <a:pt x="54" y="318"/>
                    </a:lnTo>
                    <a:lnTo>
                      <a:pt x="54" y="312"/>
                    </a:lnTo>
                    <a:lnTo>
                      <a:pt x="54" y="306"/>
                    </a:lnTo>
                    <a:lnTo>
                      <a:pt x="60" y="306"/>
                    </a:lnTo>
                    <a:lnTo>
                      <a:pt x="60" y="300"/>
                    </a:lnTo>
                    <a:lnTo>
                      <a:pt x="60" y="294"/>
                    </a:lnTo>
                    <a:lnTo>
                      <a:pt x="66" y="288"/>
                    </a:lnTo>
                    <a:lnTo>
                      <a:pt x="66" y="282"/>
                    </a:lnTo>
                    <a:lnTo>
                      <a:pt x="72" y="270"/>
                    </a:lnTo>
                    <a:lnTo>
                      <a:pt x="78" y="264"/>
                    </a:lnTo>
                    <a:lnTo>
                      <a:pt x="78" y="258"/>
                    </a:lnTo>
                    <a:lnTo>
                      <a:pt x="84" y="252"/>
                    </a:lnTo>
                    <a:lnTo>
                      <a:pt x="90" y="246"/>
                    </a:lnTo>
                    <a:lnTo>
                      <a:pt x="90" y="240"/>
                    </a:lnTo>
                    <a:lnTo>
                      <a:pt x="96" y="240"/>
                    </a:lnTo>
                    <a:lnTo>
                      <a:pt x="132" y="204"/>
                    </a:lnTo>
                    <a:lnTo>
                      <a:pt x="126" y="204"/>
                    </a:lnTo>
                    <a:lnTo>
                      <a:pt x="120" y="198"/>
                    </a:lnTo>
                    <a:lnTo>
                      <a:pt x="114" y="198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96" y="198"/>
                    </a:lnTo>
                    <a:lnTo>
                      <a:pt x="90" y="198"/>
                    </a:lnTo>
                    <a:lnTo>
                      <a:pt x="84" y="198"/>
                    </a:lnTo>
                    <a:lnTo>
                      <a:pt x="78" y="198"/>
                    </a:lnTo>
                    <a:lnTo>
                      <a:pt x="72" y="198"/>
                    </a:lnTo>
                    <a:lnTo>
                      <a:pt x="66" y="198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30" y="210"/>
                    </a:lnTo>
                    <a:lnTo>
                      <a:pt x="24" y="210"/>
                    </a:lnTo>
                    <a:lnTo>
                      <a:pt x="18" y="216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6" y="198"/>
                    </a:lnTo>
                    <a:lnTo>
                      <a:pt x="12" y="198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24" y="180"/>
                    </a:lnTo>
                    <a:lnTo>
                      <a:pt x="24" y="174"/>
                    </a:lnTo>
                    <a:lnTo>
                      <a:pt x="42" y="156"/>
                    </a:lnTo>
                    <a:lnTo>
                      <a:pt x="48" y="144"/>
                    </a:lnTo>
                    <a:lnTo>
                      <a:pt x="54" y="138"/>
                    </a:lnTo>
                    <a:lnTo>
                      <a:pt x="60" y="138"/>
                    </a:lnTo>
                    <a:lnTo>
                      <a:pt x="72" y="132"/>
                    </a:lnTo>
                    <a:lnTo>
                      <a:pt x="78" y="126"/>
                    </a:lnTo>
                    <a:lnTo>
                      <a:pt x="84" y="126"/>
                    </a:lnTo>
                    <a:lnTo>
                      <a:pt x="90" y="126"/>
                    </a:lnTo>
                    <a:lnTo>
                      <a:pt x="96" y="120"/>
                    </a:lnTo>
                    <a:lnTo>
                      <a:pt x="108" y="120"/>
                    </a:lnTo>
                    <a:lnTo>
                      <a:pt x="114" y="120"/>
                    </a:lnTo>
                    <a:lnTo>
                      <a:pt x="120" y="120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44" y="114"/>
                    </a:lnTo>
                    <a:lnTo>
                      <a:pt x="156" y="114"/>
                    </a:lnTo>
                    <a:lnTo>
                      <a:pt x="162" y="114"/>
                    </a:lnTo>
                    <a:lnTo>
                      <a:pt x="168" y="114"/>
                    </a:lnTo>
                    <a:lnTo>
                      <a:pt x="180" y="114"/>
                    </a:lnTo>
                    <a:lnTo>
                      <a:pt x="186" y="114"/>
                    </a:lnTo>
                    <a:lnTo>
                      <a:pt x="198" y="114"/>
                    </a:lnTo>
                    <a:lnTo>
                      <a:pt x="210" y="120"/>
                    </a:lnTo>
                    <a:lnTo>
                      <a:pt x="228" y="120"/>
                    </a:lnTo>
                    <a:lnTo>
                      <a:pt x="234" y="120"/>
                    </a:lnTo>
                    <a:lnTo>
                      <a:pt x="246" y="120"/>
                    </a:lnTo>
                    <a:lnTo>
                      <a:pt x="252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8" y="120"/>
                    </a:lnTo>
                    <a:lnTo>
                      <a:pt x="294" y="120"/>
                    </a:lnTo>
                    <a:lnTo>
                      <a:pt x="294" y="114"/>
                    </a:lnTo>
                    <a:lnTo>
                      <a:pt x="288" y="108"/>
                    </a:lnTo>
                    <a:lnTo>
                      <a:pt x="288" y="102"/>
                    </a:lnTo>
                    <a:lnTo>
                      <a:pt x="282" y="102"/>
                    </a:lnTo>
                    <a:lnTo>
                      <a:pt x="282" y="96"/>
                    </a:lnTo>
                    <a:lnTo>
                      <a:pt x="276" y="90"/>
                    </a:lnTo>
                    <a:lnTo>
                      <a:pt x="276" y="84"/>
                    </a:lnTo>
                    <a:lnTo>
                      <a:pt x="270" y="78"/>
                    </a:lnTo>
                    <a:lnTo>
                      <a:pt x="270" y="72"/>
                    </a:lnTo>
                    <a:lnTo>
                      <a:pt x="264" y="66"/>
                    </a:lnTo>
                    <a:lnTo>
                      <a:pt x="264" y="60"/>
                    </a:lnTo>
                    <a:lnTo>
                      <a:pt x="264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0" y="36"/>
                    </a:lnTo>
                    <a:lnTo>
                      <a:pt x="276" y="30"/>
                    </a:lnTo>
                    <a:lnTo>
                      <a:pt x="282" y="24"/>
                    </a:lnTo>
                    <a:lnTo>
                      <a:pt x="288" y="18"/>
                    </a:lnTo>
                    <a:lnTo>
                      <a:pt x="294" y="18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72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6"/>
                    </a:lnTo>
                    <a:lnTo>
                      <a:pt x="426" y="6"/>
                    </a:lnTo>
                    <a:lnTo>
                      <a:pt x="438" y="6"/>
                    </a:lnTo>
                    <a:lnTo>
                      <a:pt x="450" y="6"/>
                    </a:lnTo>
                    <a:lnTo>
                      <a:pt x="462" y="6"/>
                    </a:lnTo>
                    <a:lnTo>
                      <a:pt x="474" y="6"/>
                    </a:lnTo>
                    <a:lnTo>
                      <a:pt x="486" y="6"/>
                    </a:lnTo>
                    <a:lnTo>
                      <a:pt x="498" y="6"/>
                    </a:lnTo>
                    <a:lnTo>
                      <a:pt x="510" y="6"/>
                    </a:lnTo>
                    <a:lnTo>
                      <a:pt x="522" y="6"/>
                    </a:lnTo>
                    <a:lnTo>
                      <a:pt x="546" y="6"/>
                    </a:lnTo>
                    <a:lnTo>
                      <a:pt x="570" y="12"/>
                    </a:lnTo>
                    <a:lnTo>
                      <a:pt x="594" y="12"/>
                    </a:lnTo>
                    <a:lnTo>
                      <a:pt x="618" y="12"/>
                    </a:lnTo>
                    <a:lnTo>
                      <a:pt x="642" y="12"/>
                    </a:lnTo>
                    <a:lnTo>
                      <a:pt x="660" y="12"/>
                    </a:lnTo>
                    <a:lnTo>
                      <a:pt x="684" y="12"/>
                    </a:lnTo>
                    <a:lnTo>
                      <a:pt x="708" y="12"/>
                    </a:lnTo>
                    <a:lnTo>
                      <a:pt x="720" y="18"/>
                    </a:lnTo>
                    <a:lnTo>
                      <a:pt x="732" y="18"/>
                    </a:lnTo>
                    <a:lnTo>
                      <a:pt x="744" y="18"/>
                    </a:lnTo>
                    <a:lnTo>
                      <a:pt x="756" y="18"/>
                    </a:lnTo>
                    <a:lnTo>
                      <a:pt x="768" y="18"/>
                    </a:lnTo>
                    <a:lnTo>
                      <a:pt x="780" y="18"/>
                    </a:lnTo>
                    <a:lnTo>
                      <a:pt x="792" y="18"/>
                    </a:lnTo>
                    <a:lnTo>
                      <a:pt x="804" y="12"/>
                    </a:lnTo>
                    <a:lnTo>
                      <a:pt x="822" y="12"/>
                    </a:lnTo>
                    <a:lnTo>
                      <a:pt x="834" y="12"/>
                    </a:lnTo>
                    <a:lnTo>
                      <a:pt x="846" y="12"/>
                    </a:lnTo>
                    <a:lnTo>
                      <a:pt x="864" y="12"/>
                    </a:lnTo>
                    <a:lnTo>
                      <a:pt x="876" y="12"/>
                    </a:lnTo>
                    <a:lnTo>
                      <a:pt x="888" y="12"/>
                    </a:lnTo>
                    <a:lnTo>
                      <a:pt x="906" y="12"/>
                    </a:lnTo>
                    <a:lnTo>
                      <a:pt x="918" y="12"/>
                    </a:lnTo>
                    <a:lnTo>
                      <a:pt x="942" y="18"/>
                    </a:lnTo>
                    <a:lnTo>
                      <a:pt x="972" y="18"/>
                    </a:lnTo>
                    <a:lnTo>
                      <a:pt x="984" y="18"/>
                    </a:lnTo>
                    <a:lnTo>
                      <a:pt x="1002" y="18"/>
                    </a:lnTo>
                    <a:lnTo>
                      <a:pt x="1014" y="18"/>
                    </a:lnTo>
                    <a:lnTo>
                      <a:pt x="1032" y="18"/>
                    </a:lnTo>
                    <a:lnTo>
                      <a:pt x="1038" y="18"/>
                    </a:lnTo>
                    <a:lnTo>
                      <a:pt x="1044" y="18"/>
                    </a:lnTo>
                    <a:lnTo>
                      <a:pt x="1050" y="18"/>
                    </a:lnTo>
                    <a:lnTo>
                      <a:pt x="1056" y="18"/>
                    </a:lnTo>
                    <a:lnTo>
                      <a:pt x="1062" y="18"/>
                    </a:lnTo>
                    <a:lnTo>
                      <a:pt x="1068" y="18"/>
                    </a:lnTo>
                    <a:lnTo>
                      <a:pt x="1074" y="18"/>
                    </a:lnTo>
                    <a:lnTo>
                      <a:pt x="1080" y="18"/>
                    </a:lnTo>
                    <a:lnTo>
                      <a:pt x="1086" y="24"/>
                    </a:lnTo>
                    <a:lnTo>
                      <a:pt x="1086" y="18"/>
                    </a:lnTo>
                    <a:lnTo>
                      <a:pt x="1092" y="18"/>
                    </a:lnTo>
                    <a:lnTo>
                      <a:pt x="1098" y="18"/>
                    </a:lnTo>
                    <a:lnTo>
                      <a:pt x="1104" y="18"/>
                    </a:lnTo>
                    <a:lnTo>
                      <a:pt x="1110" y="18"/>
                    </a:lnTo>
                    <a:lnTo>
                      <a:pt x="1122" y="18"/>
                    </a:lnTo>
                    <a:lnTo>
                      <a:pt x="1128" y="18"/>
                    </a:lnTo>
                    <a:lnTo>
                      <a:pt x="1146" y="18"/>
                    </a:lnTo>
                    <a:lnTo>
                      <a:pt x="1164" y="18"/>
                    </a:lnTo>
                    <a:lnTo>
                      <a:pt x="1182" y="18"/>
                    </a:lnTo>
                    <a:lnTo>
                      <a:pt x="1200" y="18"/>
                    </a:lnTo>
                    <a:lnTo>
                      <a:pt x="1206" y="18"/>
                    </a:lnTo>
                    <a:lnTo>
                      <a:pt x="1218" y="18"/>
                    </a:lnTo>
                    <a:lnTo>
                      <a:pt x="1224" y="18"/>
                    </a:lnTo>
                    <a:lnTo>
                      <a:pt x="1236" y="18"/>
                    </a:lnTo>
                    <a:lnTo>
                      <a:pt x="1230" y="24"/>
                    </a:lnTo>
                    <a:lnTo>
                      <a:pt x="1290" y="24"/>
                    </a:lnTo>
                    <a:lnTo>
                      <a:pt x="1344" y="18"/>
                    </a:lnTo>
                    <a:lnTo>
                      <a:pt x="1374" y="18"/>
                    </a:lnTo>
                    <a:lnTo>
                      <a:pt x="1404" y="18"/>
                    </a:lnTo>
                    <a:lnTo>
                      <a:pt x="1434" y="18"/>
                    </a:lnTo>
                    <a:lnTo>
                      <a:pt x="1464" y="18"/>
                    </a:lnTo>
                    <a:lnTo>
                      <a:pt x="1494" y="18"/>
                    </a:lnTo>
                    <a:lnTo>
                      <a:pt x="1518" y="18"/>
                    </a:lnTo>
                    <a:lnTo>
                      <a:pt x="1536" y="18"/>
                    </a:lnTo>
                    <a:lnTo>
                      <a:pt x="1548" y="18"/>
                    </a:lnTo>
                    <a:lnTo>
                      <a:pt x="1566" y="18"/>
                    </a:lnTo>
                    <a:lnTo>
                      <a:pt x="1578" y="12"/>
                    </a:lnTo>
                    <a:lnTo>
                      <a:pt x="1596" y="12"/>
                    </a:lnTo>
                    <a:lnTo>
                      <a:pt x="1608" y="12"/>
                    </a:lnTo>
                    <a:lnTo>
                      <a:pt x="1620" y="12"/>
                    </a:lnTo>
                    <a:lnTo>
                      <a:pt x="1638" y="12"/>
                    </a:lnTo>
                    <a:lnTo>
                      <a:pt x="1650" y="12"/>
                    </a:lnTo>
                    <a:lnTo>
                      <a:pt x="1668" y="6"/>
                    </a:lnTo>
                    <a:lnTo>
                      <a:pt x="1680" y="6"/>
                    </a:lnTo>
                    <a:lnTo>
                      <a:pt x="1698" y="6"/>
                    </a:lnTo>
                    <a:lnTo>
                      <a:pt x="1704" y="6"/>
                    </a:lnTo>
                    <a:lnTo>
                      <a:pt x="1710" y="6"/>
                    </a:lnTo>
                    <a:lnTo>
                      <a:pt x="1716" y="6"/>
                    </a:lnTo>
                    <a:lnTo>
                      <a:pt x="1722" y="6"/>
                    </a:lnTo>
                    <a:lnTo>
                      <a:pt x="1728" y="6"/>
                    </a:lnTo>
                    <a:lnTo>
                      <a:pt x="1734" y="6"/>
                    </a:lnTo>
                    <a:lnTo>
                      <a:pt x="1740" y="6"/>
                    </a:lnTo>
                    <a:lnTo>
                      <a:pt x="1746" y="6"/>
                    </a:lnTo>
                    <a:lnTo>
                      <a:pt x="1758" y="0"/>
                    </a:lnTo>
                    <a:lnTo>
                      <a:pt x="1764" y="0"/>
                    </a:lnTo>
                    <a:lnTo>
                      <a:pt x="1770" y="0"/>
                    </a:lnTo>
                    <a:lnTo>
                      <a:pt x="1776" y="0"/>
                    </a:lnTo>
                    <a:lnTo>
                      <a:pt x="1782" y="0"/>
                    </a:lnTo>
                    <a:lnTo>
                      <a:pt x="1788" y="0"/>
                    </a:lnTo>
                    <a:lnTo>
                      <a:pt x="1794" y="0"/>
                    </a:lnTo>
                    <a:lnTo>
                      <a:pt x="1806" y="0"/>
                    </a:lnTo>
                    <a:lnTo>
                      <a:pt x="1818" y="0"/>
                    </a:lnTo>
                    <a:lnTo>
                      <a:pt x="1830" y="0"/>
                    </a:lnTo>
                    <a:lnTo>
                      <a:pt x="1836" y="6"/>
                    </a:lnTo>
                    <a:lnTo>
                      <a:pt x="1842" y="6"/>
                    </a:lnTo>
                    <a:lnTo>
                      <a:pt x="1848" y="6"/>
                    </a:lnTo>
                    <a:lnTo>
                      <a:pt x="1854" y="6"/>
                    </a:lnTo>
                    <a:lnTo>
                      <a:pt x="1860" y="6"/>
                    </a:lnTo>
                    <a:lnTo>
                      <a:pt x="1866" y="6"/>
                    </a:lnTo>
                    <a:lnTo>
                      <a:pt x="1872" y="12"/>
                    </a:lnTo>
                    <a:lnTo>
                      <a:pt x="1878" y="12"/>
                    </a:lnTo>
                    <a:lnTo>
                      <a:pt x="1884" y="12"/>
                    </a:lnTo>
                    <a:lnTo>
                      <a:pt x="1890" y="18"/>
                    </a:lnTo>
                    <a:lnTo>
                      <a:pt x="1896" y="24"/>
                    </a:lnTo>
                    <a:lnTo>
                      <a:pt x="1902" y="24"/>
                    </a:lnTo>
                    <a:lnTo>
                      <a:pt x="1908" y="30"/>
                    </a:lnTo>
                    <a:lnTo>
                      <a:pt x="1914" y="36"/>
                    </a:lnTo>
                    <a:lnTo>
                      <a:pt x="19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4160" y="303120"/>
                <a:ext cx="2192040" cy="441720"/>
              </a:xfrm>
              <a:custGeom>
                <a:avLst/>
                <a:gdLst/>
                <a:ahLst/>
                <a:rect l="l" t="t" r="r" b="b"/>
                <a:pathLst>
                  <a:path w="2244" h="342">
                    <a:moveTo>
                      <a:pt x="1920" y="36"/>
                    </a:moveTo>
                    <a:lnTo>
                      <a:pt x="1920" y="42"/>
                    </a:lnTo>
                    <a:lnTo>
                      <a:pt x="1920" y="48"/>
                    </a:lnTo>
                    <a:lnTo>
                      <a:pt x="1926" y="54"/>
                    </a:lnTo>
                    <a:lnTo>
                      <a:pt x="1926" y="60"/>
                    </a:lnTo>
                    <a:lnTo>
                      <a:pt x="1926" y="66"/>
                    </a:lnTo>
                    <a:lnTo>
                      <a:pt x="1926" y="72"/>
                    </a:lnTo>
                    <a:lnTo>
                      <a:pt x="1926" y="78"/>
                    </a:lnTo>
                    <a:lnTo>
                      <a:pt x="1920" y="84"/>
                    </a:lnTo>
                    <a:lnTo>
                      <a:pt x="1920" y="90"/>
                    </a:lnTo>
                    <a:lnTo>
                      <a:pt x="1920" y="96"/>
                    </a:lnTo>
                    <a:lnTo>
                      <a:pt x="1920" y="102"/>
                    </a:lnTo>
                    <a:lnTo>
                      <a:pt x="1920" y="108"/>
                    </a:lnTo>
                    <a:lnTo>
                      <a:pt x="1926" y="108"/>
                    </a:lnTo>
                    <a:lnTo>
                      <a:pt x="1926" y="102"/>
                    </a:lnTo>
                    <a:lnTo>
                      <a:pt x="1932" y="102"/>
                    </a:lnTo>
                    <a:lnTo>
                      <a:pt x="1944" y="102"/>
                    </a:lnTo>
                    <a:lnTo>
                      <a:pt x="1950" y="96"/>
                    </a:lnTo>
                    <a:lnTo>
                      <a:pt x="1956" y="96"/>
                    </a:lnTo>
                    <a:lnTo>
                      <a:pt x="1962" y="96"/>
                    </a:lnTo>
                    <a:lnTo>
                      <a:pt x="1974" y="90"/>
                    </a:lnTo>
                    <a:lnTo>
                      <a:pt x="1980" y="90"/>
                    </a:lnTo>
                    <a:lnTo>
                      <a:pt x="1986" y="90"/>
                    </a:lnTo>
                    <a:lnTo>
                      <a:pt x="1998" y="90"/>
                    </a:lnTo>
                    <a:lnTo>
                      <a:pt x="2004" y="90"/>
                    </a:lnTo>
                    <a:lnTo>
                      <a:pt x="2010" y="90"/>
                    </a:lnTo>
                    <a:lnTo>
                      <a:pt x="2016" y="90"/>
                    </a:lnTo>
                    <a:lnTo>
                      <a:pt x="2028" y="90"/>
                    </a:lnTo>
                    <a:lnTo>
                      <a:pt x="2034" y="90"/>
                    </a:lnTo>
                    <a:lnTo>
                      <a:pt x="2040" y="90"/>
                    </a:lnTo>
                    <a:lnTo>
                      <a:pt x="2052" y="90"/>
                    </a:lnTo>
                    <a:lnTo>
                      <a:pt x="2058" y="90"/>
                    </a:lnTo>
                    <a:lnTo>
                      <a:pt x="2064" y="96"/>
                    </a:lnTo>
                    <a:lnTo>
                      <a:pt x="2076" y="96"/>
                    </a:lnTo>
                    <a:lnTo>
                      <a:pt x="2082" y="96"/>
                    </a:lnTo>
                    <a:lnTo>
                      <a:pt x="2088" y="102"/>
                    </a:lnTo>
                    <a:lnTo>
                      <a:pt x="2094" y="102"/>
                    </a:lnTo>
                    <a:lnTo>
                      <a:pt x="2106" y="108"/>
                    </a:lnTo>
                    <a:lnTo>
                      <a:pt x="2112" y="108"/>
                    </a:lnTo>
                    <a:lnTo>
                      <a:pt x="2118" y="114"/>
                    </a:lnTo>
                    <a:lnTo>
                      <a:pt x="2124" y="114"/>
                    </a:lnTo>
                    <a:lnTo>
                      <a:pt x="2130" y="120"/>
                    </a:lnTo>
                    <a:lnTo>
                      <a:pt x="2136" y="126"/>
                    </a:lnTo>
                    <a:lnTo>
                      <a:pt x="2148" y="126"/>
                    </a:lnTo>
                    <a:lnTo>
                      <a:pt x="2154" y="132"/>
                    </a:lnTo>
                    <a:lnTo>
                      <a:pt x="2160" y="138"/>
                    </a:lnTo>
                    <a:lnTo>
                      <a:pt x="2166" y="138"/>
                    </a:lnTo>
                    <a:lnTo>
                      <a:pt x="2172" y="144"/>
                    </a:lnTo>
                    <a:lnTo>
                      <a:pt x="2172" y="150"/>
                    </a:lnTo>
                    <a:lnTo>
                      <a:pt x="2178" y="150"/>
                    </a:lnTo>
                    <a:lnTo>
                      <a:pt x="2184" y="156"/>
                    </a:lnTo>
                    <a:lnTo>
                      <a:pt x="2196" y="168"/>
                    </a:lnTo>
                    <a:lnTo>
                      <a:pt x="2202" y="174"/>
                    </a:lnTo>
                    <a:lnTo>
                      <a:pt x="2214" y="186"/>
                    </a:lnTo>
                    <a:lnTo>
                      <a:pt x="2226" y="192"/>
                    </a:lnTo>
                    <a:lnTo>
                      <a:pt x="2232" y="198"/>
                    </a:lnTo>
                    <a:lnTo>
                      <a:pt x="2232" y="204"/>
                    </a:lnTo>
                    <a:lnTo>
                      <a:pt x="2238" y="204"/>
                    </a:lnTo>
                    <a:lnTo>
                      <a:pt x="2244" y="210"/>
                    </a:lnTo>
                    <a:lnTo>
                      <a:pt x="2238" y="210"/>
                    </a:lnTo>
                    <a:lnTo>
                      <a:pt x="2232" y="210"/>
                    </a:lnTo>
                    <a:lnTo>
                      <a:pt x="2226" y="210"/>
                    </a:lnTo>
                    <a:lnTo>
                      <a:pt x="2220" y="210"/>
                    </a:lnTo>
                    <a:lnTo>
                      <a:pt x="2214" y="210"/>
                    </a:lnTo>
                    <a:lnTo>
                      <a:pt x="2208" y="210"/>
                    </a:lnTo>
                    <a:lnTo>
                      <a:pt x="2202" y="210"/>
                    </a:lnTo>
                    <a:lnTo>
                      <a:pt x="2196" y="210"/>
                    </a:lnTo>
                    <a:lnTo>
                      <a:pt x="2190" y="210"/>
                    </a:lnTo>
                    <a:lnTo>
                      <a:pt x="2184" y="210"/>
                    </a:lnTo>
                    <a:lnTo>
                      <a:pt x="2172" y="204"/>
                    </a:lnTo>
                    <a:lnTo>
                      <a:pt x="2160" y="204"/>
                    </a:lnTo>
                    <a:lnTo>
                      <a:pt x="2154" y="204"/>
                    </a:lnTo>
                    <a:lnTo>
                      <a:pt x="2148" y="204"/>
                    </a:lnTo>
                    <a:lnTo>
                      <a:pt x="2142" y="204"/>
                    </a:lnTo>
                    <a:lnTo>
                      <a:pt x="2136" y="204"/>
                    </a:lnTo>
                    <a:lnTo>
                      <a:pt x="2130" y="204"/>
                    </a:lnTo>
                    <a:lnTo>
                      <a:pt x="2124" y="204"/>
                    </a:lnTo>
                    <a:lnTo>
                      <a:pt x="2124" y="210"/>
                    </a:lnTo>
                    <a:lnTo>
                      <a:pt x="2118" y="210"/>
                    </a:lnTo>
                    <a:lnTo>
                      <a:pt x="2124" y="210"/>
                    </a:lnTo>
                    <a:lnTo>
                      <a:pt x="2130" y="210"/>
                    </a:lnTo>
                    <a:lnTo>
                      <a:pt x="2130" y="216"/>
                    </a:lnTo>
                    <a:lnTo>
                      <a:pt x="2136" y="216"/>
                    </a:lnTo>
                    <a:lnTo>
                      <a:pt x="2136" y="222"/>
                    </a:lnTo>
                    <a:lnTo>
                      <a:pt x="2142" y="222"/>
                    </a:lnTo>
                    <a:lnTo>
                      <a:pt x="2142" y="228"/>
                    </a:lnTo>
                    <a:lnTo>
                      <a:pt x="2148" y="234"/>
                    </a:lnTo>
                    <a:lnTo>
                      <a:pt x="2148" y="246"/>
                    </a:lnTo>
                    <a:lnTo>
                      <a:pt x="2154" y="252"/>
                    </a:lnTo>
                    <a:lnTo>
                      <a:pt x="2160" y="258"/>
                    </a:lnTo>
                    <a:lnTo>
                      <a:pt x="2160" y="264"/>
                    </a:lnTo>
                    <a:lnTo>
                      <a:pt x="2166" y="264"/>
                    </a:lnTo>
                    <a:lnTo>
                      <a:pt x="2166" y="270"/>
                    </a:lnTo>
                    <a:lnTo>
                      <a:pt x="2172" y="276"/>
                    </a:lnTo>
                    <a:lnTo>
                      <a:pt x="2178" y="282"/>
                    </a:lnTo>
                    <a:lnTo>
                      <a:pt x="2178" y="288"/>
                    </a:lnTo>
                    <a:lnTo>
                      <a:pt x="2184" y="294"/>
                    </a:lnTo>
                    <a:lnTo>
                      <a:pt x="2184" y="300"/>
                    </a:lnTo>
                    <a:lnTo>
                      <a:pt x="2190" y="306"/>
                    </a:lnTo>
                    <a:lnTo>
                      <a:pt x="2190" y="312"/>
                    </a:lnTo>
                    <a:lnTo>
                      <a:pt x="2190" y="318"/>
                    </a:lnTo>
                    <a:lnTo>
                      <a:pt x="2190" y="324"/>
                    </a:lnTo>
                    <a:lnTo>
                      <a:pt x="2196" y="330"/>
                    </a:lnTo>
                    <a:lnTo>
                      <a:pt x="2196" y="336"/>
                    </a:lnTo>
                    <a:lnTo>
                      <a:pt x="2190" y="336"/>
                    </a:lnTo>
                    <a:lnTo>
                      <a:pt x="2190" y="342"/>
                    </a:lnTo>
                    <a:lnTo>
                      <a:pt x="2184" y="342"/>
                    </a:lnTo>
                    <a:lnTo>
                      <a:pt x="2184" y="336"/>
                    </a:lnTo>
                    <a:lnTo>
                      <a:pt x="2178" y="336"/>
                    </a:lnTo>
                    <a:lnTo>
                      <a:pt x="2178" y="330"/>
                    </a:lnTo>
                    <a:lnTo>
                      <a:pt x="2172" y="330"/>
                    </a:lnTo>
                    <a:lnTo>
                      <a:pt x="2166" y="330"/>
                    </a:lnTo>
                    <a:lnTo>
                      <a:pt x="2160" y="330"/>
                    </a:lnTo>
                    <a:lnTo>
                      <a:pt x="2160" y="324"/>
                    </a:lnTo>
                    <a:lnTo>
                      <a:pt x="2154" y="324"/>
                    </a:lnTo>
                    <a:lnTo>
                      <a:pt x="2154" y="318"/>
                    </a:lnTo>
                    <a:lnTo>
                      <a:pt x="2148" y="318"/>
                    </a:lnTo>
                    <a:lnTo>
                      <a:pt x="2148" y="312"/>
                    </a:lnTo>
                    <a:lnTo>
                      <a:pt x="2142" y="312"/>
                    </a:lnTo>
                    <a:lnTo>
                      <a:pt x="2136" y="312"/>
                    </a:lnTo>
                    <a:lnTo>
                      <a:pt x="2130" y="306"/>
                    </a:lnTo>
                    <a:lnTo>
                      <a:pt x="2124" y="306"/>
                    </a:lnTo>
                    <a:lnTo>
                      <a:pt x="2118" y="300"/>
                    </a:lnTo>
                    <a:lnTo>
                      <a:pt x="2106" y="300"/>
                    </a:lnTo>
                    <a:lnTo>
                      <a:pt x="2100" y="300"/>
                    </a:lnTo>
                    <a:lnTo>
                      <a:pt x="2088" y="294"/>
                    </a:lnTo>
                    <a:lnTo>
                      <a:pt x="2082" y="294"/>
                    </a:lnTo>
                    <a:lnTo>
                      <a:pt x="2076" y="294"/>
                    </a:lnTo>
                    <a:lnTo>
                      <a:pt x="2070" y="294"/>
                    </a:lnTo>
                    <a:lnTo>
                      <a:pt x="2064" y="294"/>
                    </a:lnTo>
                    <a:lnTo>
                      <a:pt x="2052" y="288"/>
                    </a:lnTo>
                    <a:lnTo>
                      <a:pt x="2046" y="288"/>
                    </a:lnTo>
                    <a:lnTo>
                      <a:pt x="2040" y="288"/>
                    </a:lnTo>
                    <a:lnTo>
                      <a:pt x="2034" y="288"/>
                    </a:lnTo>
                    <a:lnTo>
                      <a:pt x="2022" y="282"/>
                    </a:lnTo>
                    <a:lnTo>
                      <a:pt x="2016" y="282"/>
                    </a:lnTo>
                    <a:lnTo>
                      <a:pt x="2010" y="282"/>
                    </a:lnTo>
                    <a:lnTo>
                      <a:pt x="2004" y="282"/>
                    </a:lnTo>
                    <a:lnTo>
                      <a:pt x="1992" y="282"/>
                    </a:lnTo>
                    <a:lnTo>
                      <a:pt x="1986" y="282"/>
                    </a:lnTo>
                    <a:lnTo>
                      <a:pt x="1980" y="282"/>
                    </a:lnTo>
                    <a:lnTo>
                      <a:pt x="1968" y="282"/>
                    </a:lnTo>
                    <a:lnTo>
                      <a:pt x="1962" y="282"/>
                    </a:lnTo>
                    <a:lnTo>
                      <a:pt x="1956" y="282"/>
                    </a:lnTo>
                    <a:lnTo>
                      <a:pt x="1944" y="282"/>
                    </a:lnTo>
                    <a:lnTo>
                      <a:pt x="1938" y="282"/>
                    </a:lnTo>
                    <a:lnTo>
                      <a:pt x="1932" y="282"/>
                    </a:lnTo>
                    <a:lnTo>
                      <a:pt x="1926" y="282"/>
                    </a:lnTo>
                    <a:lnTo>
                      <a:pt x="1914" y="288"/>
                    </a:lnTo>
                    <a:lnTo>
                      <a:pt x="1908" y="288"/>
                    </a:lnTo>
                    <a:lnTo>
                      <a:pt x="1902" y="288"/>
                    </a:lnTo>
                    <a:lnTo>
                      <a:pt x="1890" y="288"/>
                    </a:lnTo>
                    <a:lnTo>
                      <a:pt x="1884" y="288"/>
                    </a:lnTo>
                    <a:lnTo>
                      <a:pt x="1878" y="288"/>
                    </a:lnTo>
                    <a:lnTo>
                      <a:pt x="1872" y="288"/>
                    </a:lnTo>
                    <a:lnTo>
                      <a:pt x="1866" y="288"/>
                    </a:lnTo>
                    <a:lnTo>
                      <a:pt x="1866" y="294"/>
                    </a:lnTo>
                    <a:lnTo>
                      <a:pt x="1860" y="294"/>
                    </a:lnTo>
                    <a:lnTo>
                      <a:pt x="1854" y="294"/>
                    </a:lnTo>
                    <a:lnTo>
                      <a:pt x="1848" y="294"/>
                    </a:lnTo>
                    <a:lnTo>
                      <a:pt x="1842" y="300"/>
                    </a:lnTo>
                    <a:lnTo>
                      <a:pt x="1836" y="300"/>
                    </a:lnTo>
                    <a:lnTo>
                      <a:pt x="1830" y="300"/>
                    </a:lnTo>
                    <a:lnTo>
                      <a:pt x="1824" y="306"/>
                    </a:lnTo>
                    <a:lnTo>
                      <a:pt x="1818" y="306"/>
                    </a:lnTo>
                    <a:lnTo>
                      <a:pt x="1812" y="306"/>
                    </a:lnTo>
                    <a:lnTo>
                      <a:pt x="1806" y="306"/>
                    </a:lnTo>
                    <a:lnTo>
                      <a:pt x="1794" y="312"/>
                    </a:lnTo>
                    <a:lnTo>
                      <a:pt x="1776" y="318"/>
                    </a:lnTo>
                    <a:lnTo>
                      <a:pt x="1764" y="318"/>
                    </a:lnTo>
                    <a:lnTo>
                      <a:pt x="1758" y="324"/>
                    </a:lnTo>
                    <a:lnTo>
                      <a:pt x="1752" y="324"/>
                    </a:lnTo>
                    <a:lnTo>
                      <a:pt x="1746" y="324"/>
                    </a:lnTo>
                    <a:lnTo>
                      <a:pt x="1740" y="324"/>
                    </a:lnTo>
                    <a:lnTo>
                      <a:pt x="1734" y="330"/>
                    </a:lnTo>
                    <a:lnTo>
                      <a:pt x="1728" y="330"/>
                    </a:lnTo>
                    <a:lnTo>
                      <a:pt x="1722" y="330"/>
                    </a:lnTo>
                    <a:lnTo>
                      <a:pt x="1716" y="330"/>
                    </a:lnTo>
                    <a:lnTo>
                      <a:pt x="1710" y="330"/>
                    </a:lnTo>
                    <a:lnTo>
                      <a:pt x="1704" y="330"/>
                    </a:lnTo>
                    <a:lnTo>
                      <a:pt x="1698" y="330"/>
                    </a:lnTo>
                    <a:lnTo>
                      <a:pt x="1692" y="330"/>
                    </a:lnTo>
                    <a:lnTo>
                      <a:pt x="1686" y="324"/>
                    </a:lnTo>
                    <a:lnTo>
                      <a:pt x="1680" y="324"/>
                    </a:lnTo>
                    <a:lnTo>
                      <a:pt x="1674" y="324"/>
                    </a:lnTo>
                    <a:lnTo>
                      <a:pt x="1668" y="324"/>
                    </a:lnTo>
                    <a:lnTo>
                      <a:pt x="1662" y="318"/>
                    </a:lnTo>
                    <a:lnTo>
                      <a:pt x="1656" y="318"/>
                    </a:lnTo>
                    <a:lnTo>
                      <a:pt x="1650" y="318"/>
                    </a:lnTo>
                    <a:lnTo>
                      <a:pt x="1644" y="312"/>
                    </a:lnTo>
                    <a:lnTo>
                      <a:pt x="1638" y="312"/>
                    </a:lnTo>
                    <a:lnTo>
                      <a:pt x="1632" y="306"/>
                    </a:lnTo>
                    <a:lnTo>
                      <a:pt x="1626" y="306"/>
                    </a:lnTo>
                    <a:lnTo>
                      <a:pt x="1626" y="300"/>
                    </a:lnTo>
                    <a:lnTo>
                      <a:pt x="1620" y="300"/>
                    </a:lnTo>
                    <a:lnTo>
                      <a:pt x="1620" y="294"/>
                    </a:lnTo>
                    <a:lnTo>
                      <a:pt x="1614" y="294"/>
                    </a:lnTo>
                    <a:lnTo>
                      <a:pt x="1614" y="288"/>
                    </a:lnTo>
                    <a:lnTo>
                      <a:pt x="1614" y="282"/>
                    </a:lnTo>
                    <a:lnTo>
                      <a:pt x="1614" y="276"/>
                    </a:lnTo>
                    <a:lnTo>
                      <a:pt x="1614" y="270"/>
                    </a:lnTo>
                    <a:lnTo>
                      <a:pt x="1614" y="264"/>
                    </a:lnTo>
                    <a:lnTo>
                      <a:pt x="1614" y="258"/>
                    </a:lnTo>
                    <a:lnTo>
                      <a:pt x="1614" y="252"/>
                    </a:lnTo>
                    <a:lnTo>
                      <a:pt x="1608" y="246"/>
                    </a:lnTo>
                    <a:lnTo>
                      <a:pt x="1608" y="240"/>
                    </a:lnTo>
                    <a:lnTo>
                      <a:pt x="1608" y="234"/>
                    </a:lnTo>
                    <a:lnTo>
                      <a:pt x="1608" y="228"/>
                    </a:lnTo>
                    <a:lnTo>
                      <a:pt x="1602" y="228"/>
                    </a:lnTo>
                    <a:lnTo>
                      <a:pt x="1596" y="228"/>
                    </a:lnTo>
                    <a:lnTo>
                      <a:pt x="1590" y="228"/>
                    </a:lnTo>
                    <a:lnTo>
                      <a:pt x="1584" y="228"/>
                    </a:lnTo>
                    <a:lnTo>
                      <a:pt x="1578" y="228"/>
                    </a:lnTo>
                    <a:lnTo>
                      <a:pt x="1566" y="228"/>
                    </a:lnTo>
                    <a:lnTo>
                      <a:pt x="1560" y="228"/>
                    </a:lnTo>
                    <a:lnTo>
                      <a:pt x="1554" y="228"/>
                    </a:lnTo>
                    <a:lnTo>
                      <a:pt x="1548" y="228"/>
                    </a:lnTo>
                    <a:lnTo>
                      <a:pt x="1542" y="228"/>
                    </a:lnTo>
                    <a:lnTo>
                      <a:pt x="1536" y="228"/>
                    </a:lnTo>
                    <a:lnTo>
                      <a:pt x="1530" y="228"/>
                    </a:lnTo>
                    <a:lnTo>
                      <a:pt x="1524" y="228"/>
                    </a:lnTo>
                    <a:lnTo>
                      <a:pt x="1518" y="228"/>
                    </a:lnTo>
                    <a:lnTo>
                      <a:pt x="1512" y="228"/>
                    </a:lnTo>
                    <a:lnTo>
                      <a:pt x="1506" y="228"/>
                    </a:lnTo>
                    <a:lnTo>
                      <a:pt x="1500" y="228"/>
                    </a:lnTo>
                    <a:lnTo>
                      <a:pt x="1494" y="228"/>
                    </a:lnTo>
                    <a:lnTo>
                      <a:pt x="1488" y="228"/>
                    </a:lnTo>
                    <a:lnTo>
                      <a:pt x="1482" y="228"/>
                    </a:lnTo>
                    <a:lnTo>
                      <a:pt x="1476" y="228"/>
                    </a:lnTo>
                    <a:lnTo>
                      <a:pt x="1470" y="228"/>
                    </a:lnTo>
                    <a:lnTo>
                      <a:pt x="1470" y="222"/>
                    </a:lnTo>
                    <a:lnTo>
                      <a:pt x="1464" y="228"/>
                    </a:lnTo>
                    <a:lnTo>
                      <a:pt x="1458" y="228"/>
                    </a:lnTo>
                    <a:lnTo>
                      <a:pt x="1452" y="228"/>
                    </a:lnTo>
                    <a:lnTo>
                      <a:pt x="1446" y="228"/>
                    </a:lnTo>
                    <a:lnTo>
                      <a:pt x="1440" y="228"/>
                    </a:lnTo>
                    <a:lnTo>
                      <a:pt x="1434" y="228"/>
                    </a:lnTo>
                    <a:lnTo>
                      <a:pt x="1428" y="228"/>
                    </a:lnTo>
                    <a:lnTo>
                      <a:pt x="1422" y="228"/>
                    </a:lnTo>
                    <a:lnTo>
                      <a:pt x="1416" y="228"/>
                    </a:lnTo>
                    <a:lnTo>
                      <a:pt x="1410" y="228"/>
                    </a:lnTo>
                    <a:lnTo>
                      <a:pt x="1404" y="228"/>
                    </a:lnTo>
                    <a:lnTo>
                      <a:pt x="1398" y="222"/>
                    </a:lnTo>
                    <a:lnTo>
                      <a:pt x="1392" y="222"/>
                    </a:lnTo>
                    <a:lnTo>
                      <a:pt x="1386" y="222"/>
                    </a:lnTo>
                    <a:lnTo>
                      <a:pt x="1380" y="222"/>
                    </a:lnTo>
                    <a:lnTo>
                      <a:pt x="1374" y="222"/>
                    </a:lnTo>
                    <a:lnTo>
                      <a:pt x="1368" y="222"/>
                    </a:lnTo>
                    <a:lnTo>
                      <a:pt x="1356" y="228"/>
                    </a:lnTo>
                    <a:lnTo>
                      <a:pt x="1344" y="228"/>
                    </a:lnTo>
                    <a:lnTo>
                      <a:pt x="1332" y="228"/>
                    </a:lnTo>
                    <a:lnTo>
                      <a:pt x="1326" y="228"/>
                    </a:lnTo>
                    <a:lnTo>
                      <a:pt x="1314" y="228"/>
                    </a:lnTo>
                    <a:lnTo>
                      <a:pt x="1302" y="228"/>
                    </a:lnTo>
                    <a:lnTo>
                      <a:pt x="1290" y="228"/>
                    </a:lnTo>
                    <a:lnTo>
                      <a:pt x="1284" y="228"/>
                    </a:lnTo>
                    <a:lnTo>
                      <a:pt x="1272" y="228"/>
                    </a:lnTo>
                    <a:lnTo>
                      <a:pt x="1260" y="228"/>
                    </a:lnTo>
                    <a:lnTo>
                      <a:pt x="1248" y="228"/>
                    </a:lnTo>
                    <a:lnTo>
                      <a:pt x="1236" y="228"/>
                    </a:lnTo>
                    <a:lnTo>
                      <a:pt x="1218" y="228"/>
                    </a:lnTo>
                    <a:lnTo>
                      <a:pt x="1194" y="222"/>
                    </a:lnTo>
                    <a:lnTo>
                      <a:pt x="1170" y="222"/>
                    </a:lnTo>
                    <a:lnTo>
                      <a:pt x="1152" y="222"/>
                    </a:lnTo>
                    <a:lnTo>
                      <a:pt x="1128" y="222"/>
                    </a:lnTo>
                    <a:lnTo>
                      <a:pt x="1110" y="222"/>
                    </a:lnTo>
                    <a:lnTo>
                      <a:pt x="1098" y="222"/>
                    </a:lnTo>
                    <a:lnTo>
                      <a:pt x="1086" y="222"/>
                    </a:lnTo>
                    <a:lnTo>
                      <a:pt x="1074" y="222"/>
                    </a:lnTo>
                    <a:lnTo>
                      <a:pt x="1068" y="222"/>
                    </a:lnTo>
                    <a:lnTo>
                      <a:pt x="1056" y="222"/>
                    </a:lnTo>
                    <a:lnTo>
                      <a:pt x="1044" y="222"/>
                    </a:lnTo>
                    <a:lnTo>
                      <a:pt x="1032" y="222"/>
                    </a:lnTo>
                    <a:lnTo>
                      <a:pt x="1026" y="222"/>
                    </a:lnTo>
                    <a:lnTo>
                      <a:pt x="1020" y="222"/>
                    </a:lnTo>
                    <a:lnTo>
                      <a:pt x="990" y="222"/>
                    </a:lnTo>
                    <a:lnTo>
                      <a:pt x="966" y="222"/>
                    </a:lnTo>
                    <a:lnTo>
                      <a:pt x="936" y="222"/>
                    </a:lnTo>
                    <a:lnTo>
                      <a:pt x="912" y="222"/>
                    </a:lnTo>
                    <a:lnTo>
                      <a:pt x="882" y="222"/>
                    </a:lnTo>
                    <a:lnTo>
                      <a:pt x="858" y="222"/>
                    </a:lnTo>
                    <a:lnTo>
                      <a:pt x="828" y="222"/>
                    </a:lnTo>
                    <a:lnTo>
                      <a:pt x="804" y="222"/>
                    </a:lnTo>
                    <a:lnTo>
                      <a:pt x="798" y="222"/>
                    </a:lnTo>
                    <a:lnTo>
                      <a:pt x="792" y="222"/>
                    </a:lnTo>
                    <a:lnTo>
                      <a:pt x="786" y="222"/>
                    </a:lnTo>
                    <a:lnTo>
                      <a:pt x="780" y="222"/>
                    </a:lnTo>
                    <a:lnTo>
                      <a:pt x="774" y="222"/>
                    </a:lnTo>
                    <a:lnTo>
                      <a:pt x="768" y="222"/>
                    </a:lnTo>
                    <a:lnTo>
                      <a:pt x="762" y="222"/>
                    </a:lnTo>
                    <a:lnTo>
                      <a:pt x="750" y="222"/>
                    </a:lnTo>
                    <a:lnTo>
                      <a:pt x="744" y="222"/>
                    </a:lnTo>
                    <a:lnTo>
                      <a:pt x="732" y="222"/>
                    </a:lnTo>
                    <a:lnTo>
                      <a:pt x="720" y="222"/>
                    </a:lnTo>
                    <a:lnTo>
                      <a:pt x="714" y="216"/>
                    </a:lnTo>
                    <a:lnTo>
                      <a:pt x="702" y="216"/>
                    </a:lnTo>
                    <a:lnTo>
                      <a:pt x="690" y="216"/>
                    </a:lnTo>
                    <a:lnTo>
                      <a:pt x="684" y="216"/>
                    </a:lnTo>
                    <a:lnTo>
                      <a:pt x="672" y="216"/>
                    </a:lnTo>
                    <a:lnTo>
                      <a:pt x="666" y="216"/>
                    </a:lnTo>
                    <a:lnTo>
                      <a:pt x="660" y="216"/>
                    </a:lnTo>
                    <a:lnTo>
                      <a:pt x="654" y="216"/>
                    </a:lnTo>
                    <a:lnTo>
                      <a:pt x="648" y="216"/>
                    </a:lnTo>
                    <a:lnTo>
                      <a:pt x="594" y="216"/>
                    </a:lnTo>
                    <a:lnTo>
                      <a:pt x="594" y="222"/>
                    </a:lnTo>
                    <a:lnTo>
                      <a:pt x="594" y="228"/>
                    </a:lnTo>
                    <a:lnTo>
                      <a:pt x="594" y="234"/>
                    </a:lnTo>
                    <a:lnTo>
                      <a:pt x="594" y="240"/>
                    </a:lnTo>
                    <a:lnTo>
                      <a:pt x="594" y="246"/>
                    </a:lnTo>
                    <a:lnTo>
                      <a:pt x="594" y="252"/>
                    </a:lnTo>
                    <a:lnTo>
                      <a:pt x="594" y="258"/>
                    </a:lnTo>
                    <a:lnTo>
                      <a:pt x="594" y="264"/>
                    </a:lnTo>
                    <a:lnTo>
                      <a:pt x="588" y="270"/>
                    </a:lnTo>
                    <a:lnTo>
                      <a:pt x="594" y="270"/>
                    </a:lnTo>
                    <a:lnTo>
                      <a:pt x="594" y="276"/>
                    </a:lnTo>
                    <a:lnTo>
                      <a:pt x="594" y="282"/>
                    </a:lnTo>
                    <a:lnTo>
                      <a:pt x="594" y="288"/>
                    </a:lnTo>
                    <a:lnTo>
                      <a:pt x="588" y="294"/>
                    </a:lnTo>
                    <a:lnTo>
                      <a:pt x="588" y="300"/>
                    </a:lnTo>
                    <a:lnTo>
                      <a:pt x="588" y="306"/>
                    </a:lnTo>
                    <a:lnTo>
                      <a:pt x="582" y="306"/>
                    </a:lnTo>
                    <a:lnTo>
                      <a:pt x="576" y="312"/>
                    </a:lnTo>
                    <a:lnTo>
                      <a:pt x="570" y="318"/>
                    </a:lnTo>
                    <a:lnTo>
                      <a:pt x="564" y="318"/>
                    </a:lnTo>
                    <a:lnTo>
                      <a:pt x="558" y="324"/>
                    </a:lnTo>
                    <a:lnTo>
                      <a:pt x="552" y="324"/>
                    </a:lnTo>
                    <a:lnTo>
                      <a:pt x="546" y="330"/>
                    </a:lnTo>
                    <a:lnTo>
                      <a:pt x="540" y="330"/>
                    </a:lnTo>
                    <a:lnTo>
                      <a:pt x="528" y="330"/>
                    </a:lnTo>
                    <a:lnTo>
                      <a:pt x="522" y="330"/>
                    </a:lnTo>
                    <a:lnTo>
                      <a:pt x="516" y="336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2" y="336"/>
                    </a:lnTo>
                    <a:lnTo>
                      <a:pt x="486" y="336"/>
                    </a:lnTo>
                    <a:lnTo>
                      <a:pt x="480" y="336"/>
                    </a:lnTo>
                    <a:lnTo>
                      <a:pt x="474" y="336"/>
                    </a:lnTo>
                    <a:lnTo>
                      <a:pt x="462" y="336"/>
                    </a:lnTo>
                    <a:lnTo>
                      <a:pt x="456" y="336"/>
                    </a:lnTo>
                    <a:lnTo>
                      <a:pt x="444" y="330"/>
                    </a:lnTo>
                    <a:lnTo>
                      <a:pt x="432" y="330"/>
                    </a:lnTo>
                    <a:lnTo>
                      <a:pt x="420" y="330"/>
                    </a:lnTo>
                    <a:lnTo>
                      <a:pt x="408" y="330"/>
                    </a:lnTo>
                    <a:lnTo>
                      <a:pt x="402" y="324"/>
                    </a:lnTo>
                    <a:lnTo>
                      <a:pt x="396" y="324"/>
                    </a:lnTo>
                    <a:lnTo>
                      <a:pt x="390" y="324"/>
                    </a:lnTo>
                    <a:lnTo>
                      <a:pt x="384" y="324"/>
                    </a:lnTo>
                    <a:lnTo>
                      <a:pt x="378" y="324"/>
                    </a:lnTo>
                    <a:lnTo>
                      <a:pt x="372" y="318"/>
                    </a:lnTo>
                    <a:lnTo>
                      <a:pt x="366" y="318"/>
                    </a:lnTo>
                    <a:lnTo>
                      <a:pt x="360" y="318"/>
                    </a:lnTo>
                    <a:lnTo>
                      <a:pt x="354" y="312"/>
                    </a:lnTo>
                    <a:lnTo>
                      <a:pt x="348" y="312"/>
                    </a:lnTo>
                    <a:lnTo>
                      <a:pt x="342" y="312"/>
                    </a:lnTo>
                    <a:lnTo>
                      <a:pt x="336" y="312"/>
                    </a:lnTo>
                    <a:lnTo>
                      <a:pt x="324" y="306"/>
                    </a:lnTo>
                    <a:lnTo>
                      <a:pt x="312" y="306"/>
                    </a:lnTo>
                    <a:lnTo>
                      <a:pt x="300" y="300"/>
                    </a:lnTo>
                    <a:lnTo>
                      <a:pt x="282" y="300"/>
                    </a:lnTo>
                    <a:lnTo>
                      <a:pt x="258" y="294"/>
                    </a:lnTo>
                    <a:lnTo>
                      <a:pt x="234" y="288"/>
                    </a:lnTo>
                    <a:lnTo>
                      <a:pt x="222" y="288"/>
                    </a:lnTo>
                    <a:lnTo>
                      <a:pt x="210" y="282"/>
                    </a:lnTo>
                    <a:lnTo>
                      <a:pt x="198" y="282"/>
                    </a:lnTo>
                    <a:lnTo>
                      <a:pt x="186" y="282"/>
                    </a:lnTo>
                    <a:lnTo>
                      <a:pt x="180" y="282"/>
                    </a:lnTo>
                    <a:lnTo>
                      <a:pt x="174" y="282"/>
                    </a:lnTo>
                    <a:lnTo>
                      <a:pt x="168" y="282"/>
                    </a:lnTo>
                    <a:lnTo>
                      <a:pt x="162" y="282"/>
                    </a:lnTo>
                    <a:lnTo>
                      <a:pt x="156" y="282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32" y="288"/>
                    </a:lnTo>
                    <a:lnTo>
                      <a:pt x="126" y="288"/>
                    </a:lnTo>
                    <a:lnTo>
                      <a:pt x="120" y="288"/>
                    </a:lnTo>
                    <a:lnTo>
                      <a:pt x="114" y="294"/>
                    </a:lnTo>
                    <a:lnTo>
                      <a:pt x="102" y="294"/>
                    </a:lnTo>
                    <a:lnTo>
                      <a:pt x="96" y="300"/>
                    </a:lnTo>
                    <a:lnTo>
                      <a:pt x="90" y="306"/>
                    </a:lnTo>
                    <a:lnTo>
                      <a:pt x="84" y="306"/>
                    </a:lnTo>
                    <a:lnTo>
                      <a:pt x="78" y="312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54" y="312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60" y="294"/>
                    </a:lnTo>
                    <a:lnTo>
                      <a:pt x="60" y="288"/>
                    </a:lnTo>
                    <a:lnTo>
                      <a:pt x="66" y="282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2" y="258"/>
                    </a:lnTo>
                    <a:lnTo>
                      <a:pt x="78" y="258"/>
                    </a:lnTo>
                    <a:lnTo>
                      <a:pt x="78" y="252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84" y="240"/>
                    </a:lnTo>
                    <a:lnTo>
                      <a:pt x="90" y="234"/>
                    </a:lnTo>
                    <a:lnTo>
                      <a:pt x="96" y="228"/>
                    </a:lnTo>
                    <a:lnTo>
                      <a:pt x="132" y="204"/>
                    </a:lnTo>
                    <a:lnTo>
                      <a:pt x="126" y="198"/>
                    </a:lnTo>
                    <a:lnTo>
                      <a:pt x="120" y="198"/>
                    </a:lnTo>
                    <a:lnTo>
                      <a:pt x="114" y="192"/>
                    </a:lnTo>
                    <a:lnTo>
                      <a:pt x="108" y="192"/>
                    </a:lnTo>
                    <a:lnTo>
                      <a:pt x="102" y="192"/>
                    </a:lnTo>
                    <a:lnTo>
                      <a:pt x="96" y="192"/>
                    </a:lnTo>
                    <a:lnTo>
                      <a:pt x="90" y="192"/>
                    </a:lnTo>
                    <a:lnTo>
                      <a:pt x="84" y="192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10"/>
                    </a:lnTo>
                    <a:lnTo>
                      <a:pt x="18" y="210"/>
                    </a:lnTo>
                    <a:lnTo>
                      <a:pt x="6" y="21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6" y="192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42" y="144"/>
                    </a:lnTo>
                    <a:lnTo>
                      <a:pt x="48" y="138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66" y="126"/>
                    </a:lnTo>
                    <a:lnTo>
                      <a:pt x="78" y="126"/>
                    </a:lnTo>
                    <a:lnTo>
                      <a:pt x="84" y="120"/>
                    </a:lnTo>
                    <a:lnTo>
                      <a:pt x="90" y="114"/>
                    </a:lnTo>
                    <a:lnTo>
                      <a:pt x="96" y="114"/>
                    </a:lnTo>
                    <a:lnTo>
                      <a:pt x="108" y="114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38" y="108"/>
                    </a:lnTo>
                    <a:lnTo>
                      <a:pt x="144" y="108"/>
                    </a:lnTo>
                    <a:lnTo>
                      <a:pt x="156" y="108"/>
                    </a:lnTo>
                    <a:lnTo>
                      <a:pt x="162" y="108"/>
                    </a:lnTo>
                    <a:lnTo>
                      <a:pt x="168" y="108"/>
                    </a:lnTo>
                    <a:lnTo>
                      <a:pt x="180" y="108"/>
                    </a:lnTo>
                    <a:lnTo>
                      <a:pt x="186" y="108"/>
                    </a:lnTo>
                    <a:lnTo>
                      <a:pt x="192" y="108"/>
                    </a:lnTo>
                    <a:lnTo>
                      <a:pt x="210" y="108"/>
                    </a:lnTo>
                    <a:lnTo>
                      <a:pt x="228" y="108"/>
                    </a:lnTo>
                    <a:lnTo>
                      <a:pt x="234" y="108"/>
                    </a:lnTo>
                    <a:lnTo>
                      <a:pt x="246" y="114"/>
                    </a:lnTo>
                    <a:lnTo>
                      <a:pt x="252" y="114"/>
                    </a:lnTo>
                    <a:lnTo>
                      <a:pt x="264" y="114"/>
                    </a:lnTo>
                    <a:lnTo>
                      <a:pt x="270" y="114"/>
                    </a:lnTo>
                    <a:lnTo>
                      <a:pt x="276" y="114"/>
                    </a:lnTo>
                    <a:lnTo>
                      <a:pt x="288" y="114"/>
                    </a:lnTo>
                    <a:lnTo>
                      <a:pt x="294" y="114"/>
                    </a:lnTo>
                    <a:lnTo>
                      <a:pt x="294" y="108"/>
                    </a:lnTo>
                    <a:lnTo>
                      <a:pt x="288" y="108"/>
                    </a:lnTo>
                    <a:lnTo>
                      <a:pt x="288" y="102"/>
                    </a:lnTo>
                    <a:lnTo>
                      <a:pt x="288" y="96"/>
                    </a:lnTo>
                    <a:lnTo>
                      <a:pt x="282" y="90"/>
                    </a:lnTo>
                    <a:lnTo>
                      <a:pt x="282" y="84"/>
                    </a:lnTo>
                    <a:lnTo>
                      <a:pt x="276" y="84"/>
                    </a:lnTo>
                    <a:lnTo>
                      <a:pt x="276" y="78"/>
                    </a:lnTo>
                    <a:lnTo>
                      <a:pt x="276" y="72"/>
                    </a:lnTo>
                    <a:lnTo>
                      <a:pt x="270" y="72"/>
                    </a:lnTo>
                    <a:lnTo>
                      <a:pt x="270" y="66"/>
                    </a:lnTo>
                    <a:lnTo>
                      <a:pt x="264" y="66"/>
                    </a:lnTo>
                    <a:lnTo>
                      <a:pt x="264" y="60"/>
                    </a:lnTo>
                    <a:lnTo>
                      <a:pt x="264" y="54"/>
                    </a:lnTo>
                    <a:lnTo>
                      <a:pt x="264" y="48"/>
                    </a:lnTo>
                    <a:lnTo>
                      <a:pt x="264" y="42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4"/>
                    </a:lnTo>
                    <a:lnTo>
                      <a:pt x="276" y="24"/>
                    </a:lnTo>
                    <a:lnTo>
                      <a:pt x="276" y="18"/>
                    </a:lnTo>
                    <a:lnTo>
                      <a:pt x="282" y="12"/>
                    </a:lnTo>
                    <a:lnTo>
                      <a:pt x="288" y="12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8" y="0"/>
                    </a:lnTo>
                    <a:lnTo>
                      <a:pt x="450" y="0"/>
                    </a:lnTo>
                    <a:lnTo>
                      <a:pt x="462" y="0"/>
                    </a:lnTo>
                    <a:lnTo>
                      <a:pt x="474" y="0"/>
                    </a:lnTo>
                    <a:lnTo>
                      <a:pt x="486" y="0"/>
                    </a:lnTo>
                    <a:lnTo>
                      <a:pt x="498" y="0"/>
                    </a:lnTo>
                    <a:lnTo>
                      <a:pt x="510" y="0"/>
                    </a:lnTo>
                    <a:lnTo>
                      <a:pt x="522" y="0"/>
                    </a:lnTo>
                    <a:lnTo>
                      <a:pt x="546" y="0"/>
                    </a:lnTo>
                    <a:lnTo>
                      <a:pt x="570" y="0"/>
                    </a:lnTo>
                    <a:lnTo>
                      <a:pt x="594" y="0"/>
                    </a:lnTo>
                    <a:lnTo>
                      <a:pt x="618" y="0"/>
                    </a:lnTo>
                    <a:lnTo>
                      <a:pt x="636" y="6"/>
                    </a:lnTo>
                    <a:lnTo>
                      <a:pt x="660" y="6"/>
                    </a:lnTo>
                    <a:lnTo>
                      <a:pt x="684" y="6"/>
                    </a:lnTo>
                    <a:lnTo>
                      <a:pt x="708" y="6"/>
                    </a:lnTo>
                    <a:lnTo>
                      <a:pt x="720" y="6"/>
                    </a:lnTo>
                    <a:lnTo>
                      <a:pt x="732" y="6"/>
                    </a:lnTo>
                    <a:lnTo>
                      <a:pt x="744" y="6"/>
                    </a:lnTo>
                    <a:lnTo>
                      <a:pt x="756" y="6"/>
                    </a:lnTo>
                    <a:lnTo>
                      <a:pt x="768" y="6"/>
                    </a:lnTo>
                    <a:lnTo>
                      <a:pt x="780" y="6"/>
                    </a:lnTo>
                    <a:lnTo>
                      <a:pt x="792" y="6"/>
                    </a:lnTo>
                    <a:lnTo>
                      <a:pt x="804" y="6"/>
                    </a:lnTo>
                    <a:lnTo>
                      <a:pt x="822" y="6"/>
                    </a:lnTo>
                    <a:lnTo>
                      <a:pt x="834" y="6"/>
                    </a:lnTo>
                    <a:lnTo>
                      <a:pt x="846" y="6"/>
                    </a:lnTo>
                    <a:lnTo>
                      <a:pt x="864" y="6"/>
                    </a:lnTo>
                    <a:lnTo>
                      <a:pt x="876" y="6"/>
                    </a:lnTo>
                    <a:lnTo>
                      <a:pt x="888" y="6"/>
                    </a:lnTo>
                    <a:lnTo>
                      <a:pt x="906" y="6"/>
                    </a:lnTo>
                    <a:lnTo>
                      <a:pt x="918" y="6"/>
                    </a:lnTo>
                    <a:lnTo>
                      <a:pt x="942" y="6"/>
                    </a:lnTo>
                    <a:lnTo>
                      <a:pt x="972" y="6"/>
                    </a:lnTo>
                    <a:lnTo>
                      <a:pt x="984" y="6"/>
                    </a:lnTo>
                    <a:lnTo>
                      <a:pt x="1002" y="6"/>
                    </a:lnTo>
                    <a:lnTo>
                      <a:pt x="1014" y="6"/>
                    </a:lnTo>
                    <a:lnTo>
                      <a:pt x="1032" y="6"/>
                    </a:lnTo>
                    <a:lnTo>
                      <a:pt x="1038" y="6"/>
                    </a:lnTo>
                    <a:lnTo>
                      <a:pt x="1044" y="6"/>
                    </a:lnTo>
                    <a:lnTo>
                      <a:pt x="1050" y="12"/>
                    </a:lnTo>
                    <a:lnTo>
                      <a:pt x="1056" y="12"/>
                    </a:lnTo>
                    <a:lnTo>
                      <a:pt x="1062" y="12"/>
                    </a:lnTo>
                    <a:lnTo>
                      <a:pt x="1068" y="12"/>
                    </a:lnTo>
                    <a:lnTo>
                      <a:pt x="1074" y="12"/>
                    </a:lnTo>
                    <a:lnTo>
                      <a:pt x="1080" y="6"/>
                    </a:lnTo>
                    <a:lnTo>
                      <a:pt x="1080" y="12"/>
                    </a:lnTo>
                    <a:lnTo>
                      <a:pt x="1086" y="12"/>
                    </a:lnTo>
                    <a:lnTo>
                      <a:pt x="1092" y="12"/>
                    </a:lnTo>
                    <a:lnTo>
                      <a:pt x="1098" y="12"/>
                    </a:lnTo>
                    <a:lnTo>
                      <a:pt x="1092" y="12"/>
                    </a:lnTo>
                    <a:lnTo>
                      <a:pt x="1104" y="12"/>
                    </a:lnTo>
                    <a:lnTo>
                      <a:pt x="1110" y="12"/>
                    </a:lnTo>
                    <a:lnTo>
                      <a:pt x="1116" y="12"/>
                    </a:lnTo>
                    <a:lnTo>
                      <a:pt x="1128" y="12"/>
                    </a:lnTo>
                    <a:lnTo>
                      <a:pt x="1146" y="12"/>
                    </a:lnTo>
                    <a:lnTo>
                      <a:pt x="1164" y="12"/>
                    </a:lnTo>
                    <a:lnTo>
                      <a:pt x="1182" y="12"/>
                    </a:lnTo>
                    <a:lnTo>
                      <a:pt x="1200" y="12"/>
                    </a:lnTo>
                    <a:lnTo>
                      <a:pt x="1206" y="12"/>
                    </a:lnTo>
                    <a:lnTo>
                      <a:pt x="1218" y="12"/>
                    </a:lnTo>
                    <a:lnTo>
                      <a:pt x="1224" y="12"/>
                    </a:lnTo>
                    <a:lnTo>
                      <a:pt x="1230" y="12"/>
                    </a:lnTo>
                    <a:lnTo>
                      <a:pt x="1290" y="12"/>
                    </a:lnTo>
                    <a:lnTo>
                      <a:pt x="1344" y="12"/>
                    </a:lnTo>
                    <a:lnTo>
                      <a:pt x="1374" y="12"/>
                    </a:lnTo>
                    <a:lnTo>
                      <a:pt x="1404" y="12"/>
                    </a:lnTo>
                    <a:lnTo>
                      <a:pt x="1434" y="12"/>
                    </a:lnTo>
                    <a:lnTo>
                      <a:pt x="1464" y="12"/>
                    </a:lnTo>
                    <a:lnTo>
                      <a:pt x="1488" y="12"/>
                    </a:lnTo>
                    <a:lnTo>
                      <a:pt x="1518" y="6"/>
                    </a:lnTo>
                    <a:lnTo>
                      <a:pt x="1536" y="6"/>
                    </a:lnTo>
                    <a:lnTo>
                      <a:pt x="1548" y="6"/>
                    </a:lnTo>
                    <a:lnTo>
                      <a:pt x="1566" y="6"/>
                    </a:lnTo>
                    <a:lnTo>
                      <a:pt x="1578" y="6"/>
                    </a:lnTo>
                    <a:lnTo>
                      <a:pt x="1590" y="6"/>
                    </a:lnTo>
                    <a:lnTo>
                      <a:pt x="1608" y="6"/>
                    </a:lnTo>
                    <a:lnTo>
                      <a:pt x="1620" y="0"/>
                    </a:lnTo>
                    <a:lnTo>
                      <a:pt x="1638" y="0"/>
                    </a:lnTo>
                    <a:lnTo>
                      <a:pt x="1650" y="0"/>
                    </a:lnTo>
                    <a:lnTo>
                      <a:pt x="1668" y="0"/>
                    </a:lnTo>
                    <a:lnTo>
                      <a:pt x="1680" y="0"/>
                    </a:lnTo>
                    <a:lnTo>
                      <a:pt x="1692" y="0"/>
                    </a:lnTo>
                    <a:lnTo>
                      <a:pt x="1698" y="0"/>
                    </a:lnTo>
                    <a:lnTo>
                      <a:pt x="1704" y="0"/>
                    </a:lnTo>
                    <a:lnTo>
                      <a:pt x="1710" y="0"/>
                    </a:lnTo>
                    <a:lnTo>
                      <a:pt x="1716" y="0"/>
                    </a:lnTo>
                    <a:lnTo>
                      <a:pt x="1722" y="0"/>
                    </a:lnTo>
                    <a:lnTo>
                      <a:pt x="1728" y="0"/>
                    </a:lnTo>
                    <a:lnTo>
                      <a:pt x="1734" y="0"/>
                    </a:lnTo>
                    <a:lnTo>
                      <a:pt x="1740" y="0"/>
                    </a:lnTo>
                    <a:lnTo>
                      <a:pt x="1746" y="0"/>
                    </a:lnTo>
                    <a:lnTo>
                      <a:pt x="1758" y="0"/>
                    </a:lnTo>
                    <a:lnTo>
                      <a:pt x="1764" y="0"/>
                    </a:lnTo>
                    <a:lnTo>
                      <a:pt x="1770" y="0"/>
                    </a:lnTo>
                    <a:lnTo>
                      <a:pt x="1776" y="0"/>
                    </a:lnTo>
                    <a:lnTo>
                      <a:pt x="1782" y="0"/>
                    </a:lnTo>
                    <a:lnTo>
                      <a:pt x="1788" y="0"/>
                    </a:lnTo>
                    <a:lnTo>
                      <a:pt x="1794" y="0"/>
                    </a:lnTo>
                    <a:lnTo>
                      <a:pt x="1806" y="0"/>
                    </a:lnTo>
                    <a:lnTo>
                      <a:pt x="1818" y="0"/>
                    </a:lnTo>
                    <a:lnTo>
                      <a:pt x="1830" y="0"/>
                    </a:lnTo>
                    <a:lnTo>
                      <a:pt x="1836" y="0"/>
                    </a:lnTo>
                    <a:lnTo>
                      <a:pt x="1842" y="0"/>
                    </a:lnTo>
                    <a:lnTo>
                      <a:pt x="1848" y="0"/>
                    </a:lnTo>
                    <a:lnTo>
                      <a:pt x="1854" y="0"/>
                    </a:lnTo>
                    <a:lnTo>
                      <a:pt x="1860" y="0"/>
                    </a:lnTo>
                    <a:lnTo>
                      <a:pt x="1866" y="0"/>
                    </a:lnTo>
                    <a:lnTo>
                      <a:pt x="1872" y="0"/>
                    </a:lnTo>
                    <a:lnTo>
                      <a:pt x="1878" y="6"/>
                    </a:lnTo>
                    <a:lnTo>
                      <a:pt x="1884" y="6"/>
                    </a:lnTo>
                    <a:lnTo>
                      <a:pt x="1890" y="6"/>
                    </a:lnTo>
                    <a:lnTo>
                      <a:pt x="1890" y="12"/>
                    </a:lnTo>
                    <a:lnTo>
                      <a:pt x="1896" y="12"/>
                    </a:lnTo>
                    <a:lnTo>
                      <a:pt x="1902" y="12"/>
                    </a:lnTo>
                    <a:lnTo>
                      <a:pt x="1902" y="18"/>
                    </a:lnTo>
                    <a:lnTo>
                      <a:pt x="1908" y="24"/>
                    </a:lnTo>
                    <a:lnTo>
                      <a:pt x="1914" y="24"/>
                    </a:lnTo>
                    <a:lnTo>
                      <a:pt x="1914" y="30"/>
                    </a:lnTo>
                    <a:lnTo>
                      <a:pt x="192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5320" y="318600"/>
                <a:ext cx="1863720" cy="379440"/>
              </a:xfrm>
              <a:custGeom>
                <a:avLst/>
                <a:gdLst/>
                <a:ahLst/>
                <a:rect l="l" t="t" r="r" b="b"/>
                <a:pathLst>
                  <a:path w="1908" h="294">
                    <a:moveTo>
                      <a:pt x="1614" y="36"/>
                    </a:moveTo>
                    <a:lnTo>
                      <a:pt x="1614" y="42"/>
                    </a:lnTo>
                    <a:lnTo>
                      <a:pt x="1614" y="48"/>
                    </a:lnTo>
                    <a:lnTo>
                      <a:pt x="1614" y="54"/>
                    </a:lnTo>
                    <a:lnTo>
                      <a:pt x="1614" y="60"/>
                    </a:lnTo>
                    <a:lnTo>
                      <a:pt x="1614" y="66"/>
                    </a:lnTo>
                    <a:lnTo>
                      <a:pt x="1614" y="72"/>
                    </a:lnTo>
                    <a:lnTo>
                      <a:pt x="1614" y="78"/>
                    </a:lnTo>
                    <a:lnTo>
                      <a:pt x="1614" y="84"/>
                    </a:lnTo>
                    <a:lnTo>
                      <a:pt x="1614" y="90"/>
                    </a:lnTo>
                    <a:lnTo>
                      <a:pt x="1614" y="96"/>
                    </a:lnTo>
                    <a:lnTo>
                      <a:pt x="1614" y="102"/>
                    </a:lnTo>
                    <a:lnTo>
                      <a:pt x="1614" y="108"/>
                    </a:lnTo>
                    <a:lnTo>
                      <a:pt x="1614" y="114"/>
                    </a:lnTo>
                    <a:lnTo>
                      <a:pt x="1614" y="120"/>
                    </a:lnTo>
                    <a:lnTo>
                      <a:pt x="1620" y="120"/>
                    </a:lnTo>
                    <a:lnTo>
                      <a:pt x="1620" y="126"/>
                    </a:lnTo>
                    <a:lnTo>
                      <a:pt x="1626" y="132"/>
                    </a:lnTo>
                    <a:lnTo>
                      <a:pt x="1626" y="138"/>
                    </a:lnTo>
                    <a:lnTo>
                      <a:pt x="1626" y="144"/>
                    </a:lnTo>
                    <a:lnTo>
                      <a:pt x="1632" y="144"/>
                    </a:lnTo>
                    <a:lnTo>
                      <a:pt x="1632" y="150"/>
                    </a:lnTo>
                    <a:lnTo>
                      <a:pt x="1638" y="150"/>
                    </a:lnTo>
                    <a:lnTo>
                      <a:pt x="1638" y="156"/>
                    </a:lnTo>
                    <a:lnTo>
                      <a:pt x="1644" y="162"/>
                    </a:lnTo>
                    <a:lnTo>
                      <a:pt x="1650" y="168"/>
                    </a:lnTo>
                    <a:lnTo>
                      <a:pt x="1656" y="174"/>
                    </a:lnTo>
                    <a:lnTo>
                      <a:pt x="1656" y="180"/>
                    </a:lnTo>
                    <a:lnTo>
                      <a:pt x="1662" y="180"/>
                    </a:lnTo>
                    <a:lnTo>
                      <a:pt x="1662" y="186"/>
                    </a:lnTo>
                    <a:lnTo>
                      <a:pt x="1668" y="192"/>
                    </a:lnTo>
                    <a:lnTo>
                      <a:pt x="1668" y="198"/>
                    </a:lnTo>
                    <a:lnTo>
                      <a:pt x="1668" y="204"/>
                    </a:lnTo>
                    <a:lnTo>
                      <a:pt x="1668" y="210"/>
                    </a:lnTo>
                    <a:lnTo>
                      <a:pt x="1662" y="210"/>
                    </a:lnTo>
                    <a:lnTo>
                      <a:pt x="1662" y="216"/>
                    </a:lnTo>
                    <a:lnTo>
                      <a:pt x="1656" y="222"/>
                    </a:lnTo>
                    <a:lnTo>
                      <a:pt x="1650" y="222"/>
                    </a:lnTo>
                    <a:lnTo>
                      <a:pt x="1644" y="222"/>
                    </a:lnTo>
                    <a:lnTo>
                      <a:pt x="1632" y="222"/>
                    </a:lnTo>
                    <a:lnTo>
                      <a:pt x="1626" y="216"/>
                    </a:lnTo>
                    <a:lnTo>
                      <a:pt x="1620" y="216"/>
                    </a:lnTo>
                    <a:lnTo>
                      <a:pt x="1614" y="216"/>
                    </a:lnTo>
                    <a:lnTo>
                      <a:pt x="1596" y="216"/>
                    </a:lnTo>
                    <a:lnTo>
                      <a:pt x="1578" y="216"/>
                    </a:lnTo>
                    <a:lnTo>
                      <a:pt x="1566" y="216"/>
                    </a:lnTo>
                    <a:lnTo>
                      <a:pt x="1554" y="216"/>
                    </a:lnTo>
                    <a:lnTo>
                      <a:pt x="1542" y="216"/>
                    </a:lnTo>
                    <a:lnTo>
                      <a:pt x="1530" y="216"/>
                    </a:lnTo>
                    <a:lnTo>
                      <a:pt x="1524" y="216"/>
                    </a:lnTo>
                    <a:lnTo>
                      <a:pt x="1518" y="216"/>
                    </a:lnTo>
                    <a:lnTo>
                      <a:pt x="1512" y="216"/>
                    </a:lnTo>
                    <a:lnTo>
                      <a:pt x="1506" y="216"/>
                    </a:lnTo>
                    <a:lnTo>
                      <a:pt x="1500" y="216"/>
                    </a:lnTo>
                    <a:lnTo>
                      <a:pt x="1494" y="222"/>
                    </a:lnTo>
                    <a:lnTo>
                      <a:pt x="1488" y="222"/>
                    </a:lnTo>
                    <a:lnTo>
                      <a:pt x="1482" y="222"/>
                    </a:lnTo>
                    <a:lnTo>
                      <a:pt x="1476" y="222"/>
                    </a:lnTo>
                    <a:lnTo>
                      <a:pt x="1470" y="222"/>
                    </a:lnTo>
                    <a:lnTo>
                      <a:pt x="1464" y="228"/>
                    </a:lnTo>
                    <a:lnTo>
                      <a:pt x="1458" y="228"/>
                    </a:lnTo>
                    <a:lnTo>
                      <a:pt x="1452" y="228"/>
                    </a:lnTo>
                    <a:lnTo>
                      <a:pt x="1446" y="234"/>
                    </a:lnTo>
                    <a:lnTo>
                      <a:pt x="1440" y="234"/>
                    </a:lnTo>
                    <a:lnTo>
                      <a:pt x="1434" y="234"/>
                    </a:lnTo>
                    <a:lnTo>
                      <a:pt x="1428" y="240"/>
                    </a:lnTo>
                    <a:lnTo>
                      <a:pt x="1422" y="240"/>
                    </a:lnTo>
                    <a:lnTo>
                      <a:pt x="1422" y="246"/>
                    </a:lnTo>
                    <a:lnTo>
                      <a:pt x="1416" y="246"/>
                    </a:lnTo>
                    <a:lnTo>
                      <a:pt x="1410" y="252"/>
                    </a:lnTo>
                    <a:lnTo>
                      <a:pt x="1410" y="258"/>
                    </a:lnTo>
                    <a:lnTo>
                      <a:pt x="1404" y="258"/>
                    </a:lnTo>
                    <a:lnTo>
                      <a:pt x="1404" y="264"/>
                    </a:lnTo>
                    <a:lnTo>
                      <a:pt x="1398" y="264"/>
                    </a:lnTo>
                    <a:lnTo>
                      <a:pt x="1398" y="270"/>
                    </a:lnTo>
                    <a:lnTo>
                      <a:pt x="1404" y="270"/>
                    </a:lnTo>
                    <a:lnTo>
                      <a:pt x="1404" y="276"/>
                    </a:lnTo>
                    <a:lnTo>
                      <a:pt x="1416" y="276"/>
                    </a:lnTo>
                    <a:lnTo>
                      <a:pt x="1422" y="276"/>
                    </a:lnTo>
                    <a:lnTo>
                      <a:pt x="1428" y="276"/>
                    </a:lnTo>
                    <a:lnTo>
                      <a:pt x="1434" y="276"/>
                    </a:lnTo>
                    <a:lnTo>
                      <a:pt x="1440" y="276"/>
                    </a:lnTo>
                    <a:lnTo>
                      <a:pt x="1446" y="276"/>
                    </a:lnTo>
                    <a:lnTo>
                      <a:pt x="1452" y="270"/>
                    </a:lnTo>
                    <a:lnTo>
                      <a:pt x="1458" y="270"/>
                    </a:lnTo>
                    <a:lnTo>
                      <a:pt x="1464" y="270"/>
                    </a:lnTo>
                    <a:lnTo>
                      <a:pt x="1470" y="270"/>
                    </a:lnTo>
                    <a:lnTo>
                      <a:pt x="1476" y="270"/>
                    </a:lnTo>
                    <a:lnTo>
                      <a:pt x="1482" y="270"/>
                    </a:lnTo>
                    <a:lnTo>
                      <a:pt x="1482" y="264"/>
                    </a:lnTo>
                    <a:lnTo>
                      <a:pt x="1476" y="264"/>
                    </a:lnTo>
                    <a:lnTo>
                      <a:pt x="1464" y="264"/>
                    </a:lnTo>
                    <a:lnTo>
                      <a:pt x="1458" y="264"/>
                    </a:lnTo>
                    <a:lnTo>
                      <a:pt x="1452" y="264"/>
                    </a:lnTo>
                    <a:lnTo>
                      <a:pt x="1446" y="264"/>
                    </a:lnTo>
                    <a:lnTo>
                      <a:pt x="1440" y="264"/>
                    </a:lnTo>
                    <a:lnTo>
                      <a:pt x="1440" y="258"/>
                    </a:lnTo>
                    <a:lnTo>
                      <a:pt x="1446" y="258"/>
                    </a:lnTo>
                    <a:lnTo>
                      <a:pt x="1452" y="258"/>
                    </a:lnTo>
                    <a:lnTo>
                      <a:pt x="1458" y="252"/>
                    </a:lnTo>
                    <a:lnTo>
                      <a:pt x="1464" y="252"/>
                    </a:lnTo>
                    <a:lnTo>
                      <a:pt x="1464" y="246"/>
                    </a:lnTo>
                    <a:lnTo>
                      <a:pt x="1470" y="246"/>
                    </a:lnTo>
                    <a:lnTo>
                      <a:pt x="1476" y="240"/>
                    </a:lnTo>
                    <a:lnTo>
                      <a:pt x="1482" y="240"/>
                    </a:lnTo>
                    <a:lnTo>
                      <a:pt x="1488" y="240"/>
                    </a:lnTo>
                    <a:lnTo>
                      <a:pt x="1488" y="234"/>
                    </a:lnTo>
                    <a:lnTo>
                      <a:pt x="1494" y="234"/>
                    </a:lnTo>
                    <a:lnTo>
                      <a:pt x="1500" y="234"/>
                    </a:lnTo>
                    <a:lnTo>
                      <a:pt x="1506" y="234"/>
                    </a:lnTo>
                    <a:lnTo>
                      <a:pt x="1518" y="234"/>
                    </a:lnTo>
                    <a:lnTo>
                      <a:pt x="1536" y="234"/>
                    </a:lnTo>
                    <a:lnTo>
                      <a:pt x="1542" y="234"/>
                    </a:lnTo>
                    <a:lnTo>
                      <a:pt x="1548" y="234"/>
                    </a:lnTo>
                    <a:lnTo>
                      <a:pt x="1554" y="234"/>
                    </a:lnTo>
                    <a:lnTo>
                      <a:pt x="1560" y="228"/>
                    </a:lnTo>
                    <a:lnTo>
                      <a:pt x="1560" y="234"/>
                    </a:lnTo>
                    <a:lnTo>
                      <a:pt x="1566" y="234"/>
                    </a:lnTo>
                    <a:lnTo>
                      <a:pt x="1572" y="234"/>
                    </a:lnTo>
                    <a:lnTo>
                      <a:pt x="1578" y="234"/>
                    </a:lnTo>
                    <a:lnTo>
                      <a:pt x="1584" y="234"/>
                    </a:lnTo>
                    <a:lnTo>
                      <a:pt x="1590" y="234"/>
                    </a:lnTo>
                    <a:lnTo>
                      <a:pt x="1596" y="234"/>
                    </a:lnTo>
                    <a:lnTo>
                      <a:pt x="1602" y="234"/>
                    </a:lnTo>
                    <a:lnTo>
                      <a:pt x="1608" y="234"/>
                    </a:lnTo>
                    <a:lnTo>
                      <a:pt x="1614" y="234"/>
                    </a:lnTo>
                    <a:lnTo>
                      <a:pt x="1614" y="240"/>
                    </a:lnTo>
                    <a:lnTo>
                      <a:pt x="1620" y="240"/>
                    </a:lnTo>
                    <a:lnTo>
                      <a:pt x="1620" y="234"/>
                    </a:lnTo>
                    <a:lnTo>
                      <a:pt x="1626" y="234"/>
                    </a:lnTo>
                    <a:lnTo>
                      <a:pt x="1626" y="240"/>
                    </a:lnTo>
                    <a:lnTo>
                      <a:pt x="1632" y="240"/>
                    </a:lnTo>
                    <a:lnTo>
                      <a:pt x="1638" y="240"/>
                    </a:lnTo>
                    <a:lnTo>
                      <a:pt x="1644" y="240"/>
                    </a:lnTo>
                    <a:lnTo>
                      <a:pt x="1650" y="240"/>
                    </a:lnTo>
                    <a:lnTo>
                      <a:pt x="1656" y="240"/>
                    </a:lnTo>
                    <a:lnTo>
                      <a:pt x="1656" y="234"/>
                    </a:lnTo>
                    <a:lnTo>
                      <a:pt x="1662" y="234"/>
                    </a:lnTo>
                    <a:lnTo>
                      <a:pt x="1668" y="228"/>
                    </a:lnTo>
                    <a:lnTo>
                      <a:pt x="1674" y="228"/>
                    </a:lnTo>
                    <a:lnTo>
                      <a:pt x="1680" y="222"/>
                    </a:lnTo>
                    <a:lnTo>
                      <a:pt x="1686" y="222"/>
                    </a:lnTo>
                    <a:lnTo>
                      <a:pt x="1692" y="222"/>
                    </a:lnTo>
                    <a:lnTo>
                      <a:pt x="1698" y="216"/>
                    </a:lnTo>
                    <a:lnTo>
                      <a:pt x="1704" y="216"/>
                    </a:lnTo>
                    <a:lnTo>
                      <a:pt x="1710" y="216"/>
                    </a:lnTo>
                    <a:lnTo>
                      <a:pt x="1716" y="216"/>
                    </a:lnTo>
                    <a:lnTo>
                      <a:pt x="1722" y="210"/>
                    </a:lnTo>
                    <a:lnTo>
                      <a:pt x="1716" y="204"/>
                    </a:lnTo>
                    <a:lnTo>
                      <a:pt x="1710" y="204"/>
                    </a:lnTo>
                    <a:lnTo>
                      <a:pt x="1704" y="204"/>
                    </a:lnTo>
                    <a:lnTo>
                      <a:pt x="1698" y="210"/>
                    </a:lnTo>
                    <a:lnTo>
                      <a:pt x="1692" y="210"/>
                    </a:lnTo>
                    <a:lnTo>
                      <a:pt x="1698" y="204"/>
                    </a:lnTo>
                    <a:lnTo>
                      <a:pt x="1704" y="204"/>
                    </a:lnTo>
                    <a:lnTo>
                      <a:pt x="1710" y="198"/>
                    </a:lnTo>
                    <a:lnTo>
                      <a:pt x="1716" y="198"/>
                    </a:lnTo>
                    <a:lnTo>
                      <a:pt x="1716" y="192"/>
                    </a:lnTo>
                    <a:lnTo>
                      <a:pt x="1710" y="192"/>
                    </a:lnTo>
                    <a:lnTo>
                      <a:pt x="1704" y="192"/>
                    </a:lnTo>
                    <a:lnTo>
                      <a:pt x="1698" y="192"/>
                    </a:lnTo>
                    <a:lnTo>
                      <a:pt x="1692" y="192"/>
                    </a:lnTo>
                    <a:lnTo>
                      <a:pt x="1692" y="198"/>
                    </a:lnTo>
                    <a:lnTo>
                      <a:pt x="1692" y="192"/>
                    </a:lnTo>
                    <a:lnTo>
                      <a:pt x="1692" y="186"/>
                    </a:lnTo>
                    <a:lnTo>
                      <a:pt x="1698" y="186"/>
                    </a:lnTo>
                    <a:lnTo>
                      <a:pt x="1704" y="186"/>
                    </a:lnTo>
                    <a:lnTo>
                      <a:pt x="1704" y="180"/>
                    </a:lnTo>
                    <a:lnTo>
                      <a:pt x="1710" y="180"/>
                    </a:lnTo>
                    <a:lnTo>
                      <a:pt x="1716" y="180"/>
                    </a:lnTo>
                    <a:lnTo>
                      <a:pt x="1716" y="174"/>
                    </a:lnTo>
                    <a:lnTo>
                      <a:pt x="1722" y="174"/>
                    </a:lnTo>
                    <a:lnTo>
                      <a:pt x="1722" y="168"/>
                    </a:lnTo>
                    <a:lnTo>
                      <a:pt x="1722" y="162"/>
                    </a:lnTo>
                    <a:lnTo>
                      <a:pt x="1716" y="162"/>
                    </a:lnTo>
                    <a:lnTo>
                      <a:pt x="1710" y="162"/>
                    </a:lnTo>
                    <a:lnTo>
                      <a:pt x="1704" y="168"/>
                    </a:lnTo>
                    <a:lnTo>
                      <a:pt x="1698" y="168"/>
                    </a:lnTo>
                    <a:lnTo>
                      <a:pt x="1692" y="174"/>
                    </a:lnTo>
                    <a:lnTo>
                      <a:pt x="1686" y="174"/>
                    </a:lnTo>
                    <a:lnTo>
                      <a:pt x="1680" y="174"/>
                    </a:lnTo>
                    <a:lnTo>
                      <a:pt x="1674" y="174"/>
                    </a:lnTo>
                    <a:lnTo>
                      <a:pt x="1674" y="168"/>
                    </a:lnTo>
                    <a:lnTo>
                      <a:pt x="1674" y="162"/>
                    </a:lnTo>
                    <a:lnTo>
                      <a:pt x="1668" y="162"/>
                    </a:lnTo>
                    <a:lnTo>
                      <a:pt x="1680" y="156"/>
                    </a:lnTo>
                    <a:lnTo>
                      <a:pt x="1686" y="156"/>
                    </a:lnTo>
                    <a:lnTo>
                      <a:pt x="1692" y="156"/>
                    </a:lnTo>
                    <a:lnTo>
                      <a:pt x="1704" y="150"/>
                    </a:lnTo>
                    <a:lnTo>
                      <a:pt x="1710" y="150"/>
                    </a:lnTo>
                    <a:lnTo>
                      <a:pt x="1716" y="150"/>
                    </a:lnTo>
                    <a:lnTo>
                      <a:pt x="1722" y="144"/>
                    </a:lnTo>
                    <a:lnTo>
                      <a:pt x="1728" y="144"/>
                    </a:lnTo>
                    <a:lnTo>
                      <a:pt x="1734" y="144"/>
                    </a:lnTo>
                    <a:lnTo>
                      <a:pt x="1728" y="144"/>
                    </a:lnTo>
                    <a:lnTo>
                      <a:pt x="1722" y="138"/>
                    </a:lnTo>
                    <a:lnTo>
                      <a:pt x="1716" y="138"/>
                    </a:lnTo>
                    <a:lnTo>
                      <a:pt x="1710" y="138"/>
                    </a:lnTo>
                    <a:lnTo>
                      <a:pt x="1704" y="138"/>
                    </a:lnTo>
                    <a:lnTo>
                      <a:pt x="1698" y="144"/>
                    </a:lnTo>
                    <a:lnTo>
                      <a:pt x="1692" y="144"/>
                    </a:lnTo>
                    <a:lnTo>
                      <a:pt x="1686" y="144"/>
                    </a:lnTo>
                    <a:lnTo>
                      <a:pt x="1680" y="144"/>
                    </a:lnTo>
                    <a:lnTo>
                      <a:pt x="1674" y="144"/>
                    </a:lnTo>
                    <a:lnTo>
                      <a:pt x="1668" y="144"/>
                    </a:lnTo>
                    <a:lnTo>
                      <a:pt x="1662" y="144"/>
                    </a:lnTo>
                    <a:lnTo>
                      <a:pt x="1656" y="138"/>
                    </a:lnTo>
                    <a:lnTo>
                      <a:pt x="1662" y="138"/>
                    </a:lnTo>
                    <a:lnTo>
                      <a:pt x="1662" y="132"/>
                    </a:lnTo>
                    <a:lnTo>
                      <a:pt x="1668" y="132"/>
                    </a:lnTo>
                    <a:lnTo>
                      <a:pt x="1674" y="126"/>
                    </a:lnTo>
                    <a:lnTo>
                      <a:pt x="1680" y="126"/>
                    </a:lnTo>
                    <a:lnTo>
                      <a:pt x="1686" y="126"/>
                    </a:lnTo>
                    <a:lnTo>
                      <a:pt x="1692" y="126"/>
                    </a:lnTo>
                    <a:lnTo>
                      <a:pt x="1698" y="126"/>
                    </a:lnTo>
                    <a:lnTo>
                      <a:pt x="1704" y="126"/>
                    </a:lnTo>
                    <a:lnTo>
                      <a:pt x="1704" y="120"/>
                    </a:lnTo>
                    <a:lnTo>
                      <a:pt x="1710" y="120"/>
                    </a:lnTo>
                    <a:lnTo>
                      <a:pt x="1704" y="120"/>
                    </a:lnTo>
                    <a:lnTo>
                      <a:pt x="1698" y="120"/>
                    </a:lnTo>
                    <a:lnTo>
                      <a:pt x="1692" y="120"/>
                    </a:lnTo>
                    <a:lnTo>
                      <a:pt x="1686" y="120"/>
                    </a:lnTo>
                    <a:lnTo>
                      <a:pt x="1680" y="120"/>
                    </a:lnTo>
                    <a:lnTo>
                      <a:pt x="1674" y="120"/>
                    </a:lnTo>
                    <a:lnTo>
                      <a:pt x="1668" y="120"/>
                    </a:lnTo>
                    <a:lnTo>
                      <a:pt x="1662" y="126"/>
                    </a:lnTo>
                    <a:lnTo>
                      <a:pt x="1656" y="126"/>
                    </a:lnTo>
                    <a:lnTo>
                      <a:pt x="1650" y="126"/>
                    </a:lnTo>
                    <a:lnTo>
                      <a:pt x="1644" y="126"/>
                    </a:lnTo>
                    <a:lnTo>
                      <a:pt x="1644" y="120"/>
                    </a:lnTo>
                    <a:lnTo>
                      <a:pt x="1638" y="120"/>
                    </a:lnTo>
                    <a:lnTo>
                      <a:pt x="1638" y="114"/>
                    </a:lnTo>
                    <a:lnTo>
                      <a:pt x="1644" y="114"/>
                    </a:lnTo>
                    <a:lnTo>
                      <a:pt x="1650" y="108"/>
                    </a:lnTo>
                    <a:lnTo>
                      <a:pt x="1656" y="108"/>
                    </a:lnTo>
                    <a:lnTo>
                      <a:pt x="1662" y="102"/>
                    </a:lnTo>
                    <a:lnTo>
                      <a:pt x="1674" y="102"/>
                    </a:lnTo>
                    <a:lnTo>
                      <a:pt x="1686" y="96"/>
                    </a:lnTo>
                    <a:lnTo>
                      <a:pt x="1698" y="96"/>
                    </a:lnTo>
                    <a:lnTo>
                      <a:pt x="1704" y="96"/>
                    </a:lnTo>
                    <a:lnTo>
                      <a:pt x="1710" y="96"/>
                    </a:lnTo>
                    <a:lnTo>
                      <a:pt x="1716" y="96"/>
                    </a:lnTo>
                    <a:lnTo>
                      <a:pt x="1722" y="96"/>
                    </a:lnTo>
                    <a:lnTo>
                      <a:pt x="1728" y="96"/>
                    </a:lnTo>
                    <a:lnTo>
                      <a:pt x="1734" y="96"/>
                    </a:lnTo>
                    <a:lnTo>
                      <a:pt x="1740" y="96"/>
                    </a:lnTo>
                    <a:lnTo>
                      <a:pt x="1746" y="96"/>
                    </a:lnTo>
                    <a:lnTo>
                      <a:pt x="1752" y="96"/>
                    </a:lnTo>
                    <a:lnTo>
                      <a:pt x="1752" y="102"/>
                    </a:lnTo>
                    <a:lnTo>
                      <a:pt x="1758" y="102"/>
                    </a:lnTo>
                    <a:lnTo>
                      <a:pt x="1764" y="102"/>
                    </a:lnTo>
                    <a:lnTo>
                      <a:pt x="1770" y="102"/>
                    </a:lnTo>
                    <a:lnTo>
                      <a:pt x="1770" y="108"/>
                    </a:lnTo>
                    <a:lnTo>
                      <a:pt x="1776" y="108"/>
                    </a:lnTo>
                    <a:lnTo>
                      <a:pt x="1782" y="108"/>
                    </a:lnTo>
                    <a:lnTo>
                      <a:pt x="1788" y="108"/>
                    </a:lnTo>
                    <a:lnTo>
                      <a:pt x="1794" y="114"/>
                    </a:lnTo>
                    <a:lnTo>
                      <a:pt x="1800" y="114"/>
                    </a:lnTo>
                    <a:lnTo>
                      <a:pt x="1806" y="114"/>
                    </a:lnTo>
                    <a:lnTo>
                      <a:pt x="1812" y="120"/>
                    </a:lnTo>
                    <a:lnTo>
                      <a:pt x="1818" y="120"/>
                    </a:lnTo>
                    <a:lnTo>
                      <a:pt x="1824" y="126"/>
                    </a:lnTo>
                    <a:lnTo>
                      <a:pt x="1830" y="126"/>
                    </a:lnTo>
                    <a:lnTo>
                      <a:pt x="1836" y="126"/>
                    </a:lnTo>
                    <a:lnTo>
                      <a:pt x="1842" y="132"/>
                    </a:lnTo>
                    <a:lnTo>
                      <a:pt x="1848" y="132"/>
                    </a:lnTo>
                    <a:lnTo>
                      <a:pt x="1854" y="138"/>
                    </a:lnTo>
                    <a:lnTo>
                      <a:pt x="1860" y="138"/>
                    </a:lnTo>
                    <a:lnTo>
                      <a:pt x="1866" y="144"/>
                    </a:lnTo>
                    <a:lnTo>
                      <a:pt x="1872" y="144"/>
                    </a:lnTo>
                    <a:lnTo>
                      <a:pt x="1878" y="150"/>
                    </a:lnTo>
                    <a:lnTo>
                      <a:pt x="1884" y="156"/>
                    </a:lnTo>
                    <a:lnTo>
                      <a:pt x="1890" y="162"/>
                    </a:lnTo>
                    <a:lnTo>
                      <a:pt x="1896" y="162"/>
                    </a:lnTo>
                    <a:lnTo>
                      <a:pt x="1896" y="168"/>
                    </a:lnTo>
                    <a:lnTo>
                      <a:pt x="1902" y="168"/>
                    </a:lnTo>
                    <a:lnTo>
                      <a:pt x="1902" y="174"/>
                    </a:lnTo>
                    <a:lnTo>
                      <a:pt x="1908" y="174"/>
                    </a:lnTo>
                    <a:lnTo>
                      <a:pt x="1908" y="180"/>
                    </a:lnTo>
                    <a:lnTo>
                      <a:pt x="1902" y="174"/>
                    </a:lnTo>
                    <a:lnTo>
                      <a:pt x="1896" y="174"/>
                    </a:lnTo>
                    <a:lnTo>
                      <a:pt x="1890" y="174"/>
                    </a:lnTo>
                    <a:lnTo>
                      <a:pt x="1884" y="174"/>
                    </a:lnTo>
                    <a:lnTo>
                      <a:pt x="1878" y="168"/>
                    </a:lnTo>
                    <a:lnTo>
                      <a:pt x="1872" y="168"/>
                    </a:lnTo>
                    <a:lnTo>
                      <a:pt x="1866" y="168"/>
                    </a:lnTo>
                    <a:lnTo>
                      <a:pt x="1860" y="168"/>
                    </a:lnTo>
                    <a:lnTo>
                      <a:pt x="1854" y="168"/>
                    </a:lnTo>
                    <a:lnTo>
                      <a:pt x="1848" y="168"/>
                    </a:lnTo>
                    <a:lnTo>
                      <a:pt x="1842" y="168"/>
                    </a:lnTo>
                    <a:lnTo>
                      <a:pt x="1842" y="174"/>
                    </a:lnTo>
                    <a:lnTo>
                      <a:pt x="1836" y="174"/>
                    </a:lnTo>
                    <a:lnTo>
                      <a:pt x="1830" y="174"/>
                    </a:lnTo>
                    <a:lnTo>
                      <a:pt x="1824" y="174"/>
                    </a:lnTo>
                    <a:lnTo>
                      <a:pt x="1824" y="180"/>
                    </a:lnTo>
                    <a:lnTo>
                      <a:pt x="1818" y="174"/>
                    </a:lnTo>
                    <a:lnTo>
                      <a:pt x="1812" y="174"/>
                    </a:lnTo>
                    <a:lnTo>
                      <a:pt x="1812" y="180"/>
                    </a:lnTo>
                    <a:lnTo>
                      <a:pt x="1806" y="180"/>
                    </a:lnTo>
                    <a:lnTo>
                      <a:pt x="1806" y="186"/>
                    </a:lnTo>
                    <a:lnTo>
                      <a:pt x="1800" y="186"/>
                    </a:lnTo>
                    <a:lnTo>
                      <a:pt x="1800" y="192"/>
                    </a:lnTo>
                    <a:lnTo>
                      <a:pt x="1806" y="192"/>
                    </a:lnTo>
                    <a:lnTo>
                      <a:pt x="1806" y="198"/>
                    </a:lnTo>
                    <a:lnTo>
                      <a:pt x="1812" y="198"/>
                    </a:lnTo>
                    <a:lnTo>
                      <a:pt x="1818" y="204"/>
                    </a:lnTo>
                    <a:lnTo>
                      <a:pt x="1824" y="210"/>
                    </a:lnTo>
                    <a:lnTo>
                      <a:pt x="1830" y="216"/>
                    </a:lnTo>
                    <a:lnTo>
                      <a:pt x="1830" y="222"/>
                    </a:lnTo>
                    <a:lnTo>
                      <a:pt x="1836" y="222"/>
                    </a:lnTo>
                    <a:lnTo>
                      <a:pt x="1836" y="228"/>
                    </a:lnTo>
                    <a:lnTo>
                      <a:pt x="1842" y="234"/>
                    </a:lnTo>
                    <a:lnTo>
                      <a:pt x="1842" y="240"/>
                    </a:lnTo>
                    <a:lnTo>
                      <a:pt x="1848" y="240"/>
                    </a:lnTo>
                    <a:lnTo>
                      <a:pt x="1848" y="246"/>
                    </a:lnTo>
                    <a:lnTo>
                      <a:pt x="1854" y="252"/>
                    </a:lnTo>
                    <a:lnTo>
                      <a:pt x="1854" y="258"/>
                    </a:lnTo>
                    <a:lnTo>
                      <a:pt x="1854" y="264"/>
                    </a:lnTo>
                    <a:lnTo>
                      <a:pt x="1860" y="270"/>
                    </a:lnTo>
                    <a:lnTo>
                      <a:pt x="1866" y="276"/>
                    </a:lnTo>
                    <a:lnTo>
                      <a:pt x="1872" y="288"/>
                    </a:lnTo>
                    <a:lnTo>
                      <a:pt x="1866" y="288"/>
                    </a:lnTo>
                    <a:lnTo>
                      <a:pt x="1860" y="288"/>
                    </a:lnTo>
                    <a:lnTo>
                      <a:pt x="1860" y="282"/>
                    </a:lnTo>
                    <a:lnTo>
                      <a:pt x="1848" y="282"/>
                    </a:lnTo>
                    <a:lnTo>
                      <a:pt x="1842" y="276"/>
                    </a:lnTo>
                    <a:lnTo>
                      <a:pt x="1836" y="276"/>
                    </a:lnTo>
                    <a:lnTo>
                      <a:pt x="1830" y="270"/>
                    </a:lnTo>
                    <a:lnTo>
                      <a:pt x="1824" y="270"/>
                    </a:lnTo>
                    <a:lnTo>
                      <a:pt x="1818" y="270"/>
                    </a:lnTo>
                    <a:lnTo>
                      <a:pt x="1806" y="264"/>
                    </a:lnTo>
                    <a:lnTo>
                      <a:pt x="1800" y="264"/>
                    </a:lnTo>
                    <a:lnTo>
                      <a:pt x="1788" y="264"/>
                    </a:lnTo>
                    <a:lnTo>
                      <a:pt x="1782" y="264"/>
                    </a:lnTo>
                    <a:lnTo>
                      <a:pt x="1776" y="264"/>
                    </a:lnTo>
                    <a:lnTo>
                      <a:pt x="1764" y="264"/>
                    </a:lnTo>
                    <a:lnTo>
                      <a:pt x="1758" y="264"/>
                    </a:lnTo>
                    <a:lnTo>
                      <a:pt x="1752" y="258"/>
                    </a:lnTo>
                    <a:lnTo>
                      <a:pt x="1734" y="258"/>
                    </a:lnTo>
                    <a:lnTo>
                      <a:pt x="1722" y="252"/>
                    </a:lnTo>
                    <a:lnTo>
                      <a:pt x="1704" y="252"/>
                    </a:lnTo>
                    <a:lnTo>
                      <a:pt x="1692" y="246"/>
                    </a:lnTo>
                    <a:lnTo>
                      <a:pt x="1680" y="246"/>
                    </a:lnTo>
                    <a:lnTo>
                      <a:pt x="1674" y="246"/>
                    </a:lnTo>
                    <a:lnTo>
                      <a:pt x="1668" y="246"/>
                    </a:lnTo>
                    <a:lnTo>
                      <a:pt x="1662" y="246"/>
                    </a:lnTo>
                    <a:lnTo>
                      <a:pt x="1650" y="246"/>
                    </a:lnTo>
                    <a:lnTo>
                      <a:pt x="1644" y="246"/>
                    </a:lnTo>
                    <a:lnTo>
                      <a:pt x="1638" y="246"/>
                    </a:lnTo>
                    <a:lnTo>
                      <a:pt x="1632" y="246"/>
                    </a:lnTo>
                    <a:lnTo>
                      <a:pt x="1620" y="246"/>
                    </a:lnTo>
                    <a:lnTo>
                      <a:pt x="1614" y="246"/>
                    </a:lnTo>
                    <a:lnTo>
                      <a:pt x="1608" y="246"/>
                    </a:lnTo>
                    <a:lnTo>
                      <a:pt x="1602" y="252"/>
                    </a:lnTo>
                    <a:lnTo>
                      <a:pt x="1590" y="252"/>
                    </a:lnTo>
                    <a:lnTo>
                      <a:pt x="1584" y="252"/>
                    </a:lnTo>
                    <a:lnTo>
                      <a:pt x="1578" y="258"/>
                    </a:lnTo>
                    <a:lnTo>
                      <a:pt x="1566" y="258"/>
                    </a:lnTo>
                    <a:lnTo>
                      <a:pt x="1566" y="264"/>
                    </a:lnTo>
                    <a:lnTo>
                      <a:pt x="1560" y="264"/>
                    </a:lnTo>
                    <a:lnTo>
                      <a:pt x="1554" y="264"/>
                    </a:lnTo>
                    <a:lnTo>
                      <a:pt x="1548" y="270"/>
                    </a:lnTo>
                    <a:lnTo>
                      <a:pt x="1542" y="270"/>
                    </a:lnTo>
                    <a:lnTo>
                      <a:pt x="1536" y="270"/>
                    </a:lnTo>
                    <a:lnTo>
                      <a:pt x="1530" y="270"/>
                    </a:lnTo>
                    <a:lnTo>
                      <a:pt x="1524" y="270"/>
                    </a:lnTo>
                    <a:lnTo>
                      <a:pt x="1518" y="270"/>
                    </a:lnTo>
                    <a:lnTo>
                      <a:pt x="1512" y="270"/>
                    </a:lnTo>
                    <a:lnTo>
                      <a:pt x="1512" y="276"/>
                    </a:lnTo>
                    <a:lnTo>
                      <a:pt x="1506" y="276"/>
                    </a:lnTo>
                    <a:lnTo>
                      <a:pt x="1500" y="276"/>
                    </a:lnTo>
                    <a:lnTo>
                      <a:pt x="1494" y="276"/>
                    </a:lnTo>
                    <a:lnTo>
                      <a:pt x="1488" y="276"/>
                    </a:lnTo>
                    <a:lnTo>
                      <a:pt x="1482" y="282"/>
                    </a:lnTo>
                    <a:lnTo>
                      <a:pt x="1476" y="282"/>
                    </a:lnTo>
                    <a:lnTo>
                      <a:pt x="1470" y="282"/>
                    </a:lnTo>
                    <a:lnTo>
                      <a:pt x="1464" y="282"/>
                    </a:lnTo>
                    <a:lnTo>
                      <a:pt x="1458" y="282"/>
                    </a:lnTo>
                    <a:lnTo>
                      <a:pt x="1452" y="288"/>
                    </a:lnTo>
                    <a:lnTo>
                      <a:pt x="1446" y="288"/>
                    </a:lnTo>
                    <a:lnTo>
                      <a:pt x="1434" y="288"/>
                    </a:lnTo>
                    <a:lnTo>
                      <a:pt x="1422" y="288"/>
                    </a:lnTo>
                    <a:lnTo>
                      <a:pt x="1410" y="288"/>
                    </a:lnTo>
                    <a:lnTo>
                      <a:pt x="1398" y="288"/>
                    </a:lnTo>
                    <a:lnTo>
                      <a:pt x="1398" y="294"/>
                    </a:lnTo>
                    <a:lnTo>
                      <a:pt x="1398" y="288"/>
                    </a:lnTo>
                    <a:lnTo>
                      <a:pt x="1392" y="288"/>
                    </a:lnTo>
                    <a:lnTo>
                      <a:pt x="1386" y="288"/>
                    </a:lnTo>
                    <a:lnTo>
                      <a:pt x="1380" y="288"/>
                    </a:lnTo>
                    <a:lnTo>
                      <a:pt x="1374" y="282"/>
                    </a:lnTo>
                    <a:lnTo>
                      <a:pt x="1368" y="282"/>
                    </a:lnTo>
                    <a:lnTo>
                      <a:pt x="1362" y="282"/>
                    </a:lnTo>
                    <a:lnTo>
                      <a:pt x="1356" y="276"/>
                    </a:lnTo>
                    <a:lnTo>
                      <a:pt x="1350" y="276"/>
                    </a:lnTo>
                    <a:lnTo>
                      <a:pt x="1344" y="270"/>
                    </a:lnTo>
                    <a:lnTo>
                      <a:pt x="1344" y="264"/>
                    </a:lnTo>
                    <a:lnTo>
                      <a:pt x="1344" y="258"/>
                    </a:lnTo>
                    <a:lnTo>
                      <a:pt x="1344" y="246"/>
                    </a:lnTo>
                    <a:lnTo>
                      <a:pt x="1344" y="240"/>
                    </a:lnTo>
                    <a:lnTo>
                      <a:pt x="1344" y="234"/>
                    </a:lnTo>
                    <a:lnTo>
                      <a:pt x="1344" y="228"/>
                    </a:lnTo>
                    <a:lnTo>
                      <a:pt x="1344" y="222"/>
                    </a:lnTo>
                    <a:lnTo>
                      <a:pt x="1344" y="216"/>
                    </a:lnTo>
                    <a:lnTo>
                      <a:pt x="1344" y="210"/>
                    </a:lnTo>
                    <a:lnTo>
                      <a:pt x="1344" y="204"/>
                    </a:lnTo>
                    <a:lnTo>
                      <a:pt x="1356" y="204"/>
                    </a:lnTo>
                    <a:lnTo>
                      <a:pt x="1350" y="204"/>
                    </a:lnTo>
                    <a:lnTo>
                      <a:pt x="1350" y="210"/>
                    </a:lnTo>
                    <a:lnTo>
                      <a:pt x="1350" y="216"/>
                    </a:lnTo>
                    <a:lnTo>
                      <a:pt x="1356" y="216"/>
                    </a:lnTo>
                    <a:lnTo>
                      <a:pt x="1362" y="216"/>
                    </a:lnTo>
                    <a:lnTo>
                      <a:pt x="1368" y="210"/>
                    </a:lnTo>
                    <a:lnTo>
                      <a:pt x="1374" y="210"/>
                    </a:lnTo>
                    <a:lnTo>
                      <a:pt x="1380" y="204"/>
                    </a:lnTo>
                    <a:lnTo>
                      <a:pt x="1386" y="204"/>
                    </a:lnTo>
                    <a:lnTo>
                      <a:pt x="1392" y="204"/>
                    </a:lnTo>
                    <a:lnTo>
                      <a:pt x="1398" y="204"/>
                    </a:lnTo>
                    <a:lnTo>
                      <a:pt x="1404" y="204"/>
                    </a:lnTo>
                    <a:lnTo>
                      <a:pt x="1398" y="204"/>
                    </a:lnTo>
                    <a:lnTo>
                      <a:pt x="1392" y="204"/>
                    </a:lnTo>
                    <a:lnTo>
                      <a:pt x="1392" y="210"/>
                    </a:lnTo>
                    <a:lnTo>
                      <a:pt x="1386" y="210"/>
                    </a:lnTo>
                    <a:lnTo>
                      <a:pt x="1380" y="210"/>
                    </a:lnTo>
                    <a:lnTo>
                      <a:pt x="1374" y="210"/>
                    </a:lnTo>
                    <a:lnTo>
                      <a:pt x="1368" y="216"/>
                    </a:lnTo>
                    <a:lnTo>
                      <a:pt x="1362" y="216"/>
                    </a:lnTo>
                    <a:lnTo>
                      <a:pt x="1362" y="222"/>
                    </a:lnTo>
                    <a:lnTo>
                      <a:pt x="1356" y="222"/>
                    </a:lnTo>
                    <a:lnTo>
                      <a:pt x="1356" y="228"/>
                    </a:lnTo>
                    <a:lnTo>
                      <a:pt x="1356" y="234"/>
                    </a:lnTo>
                    <a:lnTo>
                      <a:pt x="1356" y="240"/>
                    </a:lnTo>
                    <a:lnTo>
                      <a:pt x="1362" y="240"/>
                    </a:lnTo>
                    <a:lnTo>
                      <a:pt x="1368" y="240"/>
                    </a:lnTo>
                    <a:lnTo>
                      <a:pt x="1368" y="234"/>
                    </a:lnTo>
                    <a:lnTo>
                      <a:pt x="1374" y="234"/>
                    </a:lnTo>
                    <a:lnTo>
                      <a:pt x="1380" y="228"/>
                    </a:lnTo>
                    <a:lnTo>
                      <a:pt x="1386" y="222"/>
                    </a:lnTo>
                    <a:lnTo>
                      <a:pt x="1392" y="222"/>
                    </a:lnTo>
                    <a:lnTo>
                      <a:pt x="1398" y="216"/>
                    </a:lnTo>
                    <a:lnTo>
                      <a:pt x="1404" y="216"/>
                    </a:lnTo>
                    <a:lnTo>
                      <a:pt x="1404" y="210"/>
                    </a:lnTo>
                    <a:lnTo>
                      <a:pt x="1410" y="210"/>
                    </a:lnTo>
                    <a:lnTo>
                      <a:pt x="1416" y="210"/>
                    </a:lnTo>
                    <a:lnTo>
                      <a:pt x="1416" y="204"/>
                    </a:lnTo>
                    <a:lnTo>
                      <a:pt x="1422" y="204"/>
                    </a:lnTo>
                    <a:lnTo>
                      <a:pt x="1428" y="204"/>
                    </a:lnTo>
                    <a:lnTo>
                      <a:pt x="1434" y="204"/>
                    </a:lnTo>
                    <a:lnTo>
                      <a:pt x="1440" y="204"/>
                    </a:lnTo>
                    <a:lnTo>
                      <a:pt x="1446" y="204"/>
                    </a:lnTo>
                    <a:lnTo>
                      <a:pt x="1458" y="204"/>
                    </a:lnTo>
                    <a:lnTo>
                      <a:pt x="1464" y="204"/>
                    </a:lnTo>
                    <a:lnTo>
                      <a:pt x="1470" y="204"/>
                    </a:lnTo>
                    <a:lnTo>
                      <a:pt x="1470" y="210"/>
                    </a:lnTo>
                    <a:lnTo>
                      <a:pt x="1476" y="210"/>
                    </a:lnTo>
                    <a:lnTo>
                      <a:pt x="1482" y="210"/>
                    </a:lnTo>
                    <a:lnTo>
                      <a:pt x="1482" y="204"/>
                    </a:lnTo>
                    <a:lnTo>
                      <a:pt x="1488" y="204"/>
                    </a:lnTo>
                    <a:lnTo>
                      <a:pt x="1494" y="204"/>
                    </a:lnTo>
                    <a:lnTo>
                      <a:pt x="1500" y="204"/>
                    </a:lnTo>
                    <a:lnTo>
                      <a:pt x="1506" y="204"/>
                    </a:lnTo>
                    <a:lnTo>
                      <a:pt x="1512" y="204"/>
                    </a:lnTo>
                    <a:lnTo>
                      <a:pt x="1518" y="210"/>
                    </a:lnTo>
                    <a:lnTo>
                      <a:pt x="1524" y="210"/>
                    </a:lnTo>
                    <a:lnTo>
                      <a:pt x="1530" y="210"/>
                    </a:lnTo>
                    <a:lnTo>
                      <a:pt x="1536" y="210"/>
                    </a:lnTo>
                    <a:lnTo>
                      <a:pt x="1536" y="216"/>
                    </a:lnTo>
                    <a:lnTo>
                      <a:pt x="1542" y="216"/>
                    </a:lnTo>
                    <a:lnTo>
                      <a:pt x="1548" y="216"/>
                    </a:lnTo>
                    <a:lnTo>
                      <a:pt x="1554" y="216"/>
                    </a:lnTo>
                    <a:lnTo>
                      <a:pt x="1560" y="210"/>
                    </a:lnTo>
                    <a:lnTo>
                      <a:pt x="1566" y="210"/>
                    </a:lnTo>
                    <a:lnTo>
                      <a:pt x="1572" y="210"/>
                    </a:lnTo>
                    <a:lnTo>
                      <a:pt x="1584" y="204"/>
                    </a:lnTo>
                    <a:lnTo>
                      <a:pt x="1590" y="204"/>
                    </a:lnTo>
                    <a:lnTo>
                      <a:pt x="1596" y="204"/>
                    </a:lnTo>
                    <a:lnTo>
                      <a:pt x="1602" y="198"/>
                    </a:lnTo>
                    <a:lnTo>
                      <a:pt x="1608" y="198"/>
                    </a:lnTo>
                    <a:lnTo>
                      <a:pt x="1620" y="198"/>
                    </a:lnTo>
                    <a:lnTo>
                      <a:pt x="1626" y="198"/>
                    </a:lnTo>
                    <a:lnTo>
                      <a:pt x="1626" y="204"/>
                    </a:lnTo>
                    <a:lnTo>
                      <a:pt x="1626" y="210"/>
                    </a:lnTo>
                    <a:lnTo>
                      <a:pt x="1632" y="210"/>
                    </a:lnTo>
                    <a:lnTo>
                      <a:pt x="1632" y="216"/>
                    </a:lnTo>
                    <a:lnTo>
                      <a:pt x="1638" y="216"/>
                    </a:lnTo>
                    <a:lnTo>
                      <a:pt x="1638" y="210"/>
                    </a:lnTo>
                    <a:lnTo>
                      <a:pt x="1644" y="210"/>
                    </a:lnTo>
                    <a:lnTo>
                      <a:pt x="1644" y="204"/>
                    </a:lnTo>
                    <a:lnTo>
                      <a:pt x="1650" y="204"/>
                    </a:lnTo>
                    <a:lnTo>
                      <a:pt x="1650" y="198"/>
                    </a:lnTo>
                    <a:lnTo>
                      <a:pt x="1644" y="198"/>
                    </a:lnTo>
                    <a:lnTo>
                      <a:pt x="1638" y="198"/>
                    </a:lnTo>
                    <a:lnTo>
                      <a:pt x="1638" y="192"/>
                    </a:lnTo>
                    <a:lnTo>
                      <a:pt x="1632" y="192"/>
                    </a:lnTo>
                    <a:lnTo>
                      <a:pt x="1626" y="186"/>
                    </a:lnTo>
                    <a:lnTo>
                      <a:pt x="1620" y="186"/>
                    </a:lnTo>
                    <a:lnTo>
                      <a:pt x="1614" y="180"/>
                    </a:lnTo>
                    <a:lnTo>
                      <a:pt x="1608" y="180"/>
                    </a:lnTo>
                    <a:lnTo>
                      <a:pt x="1602" y="180"/>
                    </a:lnTo>
                    <a:lnTo>
                      <a:pt x="1602" y="186"/>
                    </a:lnTo>
                    <a:lnTo>
                      <a:pt x="1596" y="186"/>
                    </a:lnTo>
                    <a:lnTo>
                      <a:pt x="1590" y="186"/>
                    </a:lnTo>
                    <a:lnTo>
                      <a:pt x="1590" y="192"/>
                    </a:lnTo>
                    <a:lnTo>
                      <a:pt x="1584" y="192"/>
                    </a:lnTo>
                    <a:lnTo>
                      <a:pt x="1578" y="192"/>
                    </a:lnTo>
                    <a:lnTo>
                      <a:pt x="1572" y="198"/>
                    </a:lnTo>
                    <a:lnTo>
                      <a:pt x="1566" y="198"/>
                    </a:lnTo>
                    <a:lnTo>
                      <a:pt x="1560" y="198"/>
                    </a:lnTo>
                    <a:lnTo>
                      <a:pt x="1554" y="198"/>
                    </a:lnTo>
                    <a:lnTo>
                      <a:pt x="1548" y="198"/>
                    </a:lnTo>
                    <a:lnTo>
                      <a:pt x="1542" y="198"/>
                    </a:lnTo>
                    <a:lnTo>
                      <a:pt x="1536" y="198"/>
                    </a:lnTo>
                    <a:lnTo>
                      <a:pt x="1530" y="198"/>
                    </a:lnTo>
                    <a:lnTo>
                      <a:pt x="1524" y="198"/>
                    </a:lnTo>
                    <a:lnTo>
                      <a:pt x="1518" y="198"/>
                    </a:lnTo>
                    <a:lnTo>
                      <a:pt x="1512" y="198"/>
                    </a:lnTo>
                    <a:lnTo>
                      <a:pt x="1506" y="198"/>
                    </a:lnTo>
                    <a:lnTo>
                      <a:pt x="1506" y="192"/>
                    </a:lnTo>
                    <a:lnTo>
                      <a:pt x="1500" y="192"/>
                    </a:lnTo>
                    <a:lnTo>
                      <a:pt x="1494" y="192"/>
                    </a:lnTo>
                    <a:lnTo>
                      <a:pt x="1482" y="192"/>
                    </a:lnTo>
                    <a:lnTo>
                      <a:pt x="1476" y="186"/>
                    </a:lnTo>
                    <a:lnTo>
                      <a:pt x="1470" y="186"/>
                    </a:lnTo>
                    <a:lnTo>
                      <a:pt x="1464" y="186"/>
                    </a:lnTo>
                    <a:lnTo>
                      <a:pt x="1446" y="186"/>
                    </a:lnTo>
                    <a:lnTo>
                      <a:pt x="1434" y="186"/>
                    </a:lnTo>
                    <a:lnTo>
                      <a:pt x="1416" y="186"/>
                    </a:lnTo>
                    <a:lnTo>
                      <a:pt x="1404" y="186"/>
                    </a:lnTo>
                    <a:lnTo>
                      <a:pt x="1386" y="186"/>
                    </a:lnTo>
                    <a:lnTo>
                      <a:pt x="1374" y="186"/>
                    </a:lnTo>
                    <a:lnTo>
                      <a:pt x="1368" y="186"/>
                    </a:lnTo>
                    <a:lnTo>
                      <a:pt x="1362" y="186"/>
                    </a:lnTo>
                    <a:lnTo>
                      <a:pt x="1356" y="186"/>
                    </a:lnTo>
                    <a:lnTo>
                      <a:pt x="1344" y="192"/>
                    </a:lnTo>
                    <a:lnTo>
                      <a:pt x="1338" y="192"/>
                    </a:lnTo>
                    <a:lnTo>
                      <a:pt x="1332" y="192"/>
                    </a:lnTo>
                    <a:lnTo>
                      <a:pt x="1326" y="192"/>
                    </a:lnTo>
                    <a:lnTo>
                      <a:pt x="1320" y="192"/>
                    </a:lnTo>
                    <a:lnTo>
                      <a:pt x="1314" y="192"/>
                    </a:lnTo>
                    <a:lnTo>
                      <a:pt x="1308" y="192"/>
                    </a:lnTo>
                    <a:lnTo>
                      <a:pt x="1302" y="192"/>
                    </a:lnTo>
                    <a:lnTo>
                      <a:pt x="1296" y="192"/>
                    </a:lnTo>
                    <a:lnTo>
                      <a:pt x="1290" y="192"/>
                    </a:lnTo>
                    <a:lnTo>
                      <a:pt x="1284" y="198"/>
                    </a:lnTo>
                    <a:lnTo>
                      <a:pt x="1278" y="198"/>
                    </a:lnTo>
                    <a:lnTo>
                      <a:pt x="1272" y="198"/>
                    </a:lnTo>
                    <a:lnTo>
                      <a:pt x="1254" y="198"/>
                    </a:lnTo>
                    <a:lnTo>
                      <a:pt x="1242" y="198"/>
                    </a:lnTo>
                    <a:lnTo>
                      <a:pt x="1224" y="198"/>
                    </a:lnTo>
                    <a:lnTo>
                      <a:pt x="1212" y="198"/>
                    </a:lnTo>
                    <a:lnTo>
                      <a:pt x="1194" y="198"/>
                    </a:lnTo>
                    <a:lnTo>
                      <a:pt x="1182" y="198"/>
                    </a:lnTo>
                    <a:lnTo>
                      <a:pt x="1164" y="198"/>
                    </a:lnTo>
                    <a:lnTo>
                      <a:pt x="1152" y="198"/>
                    </a:lnTo>
                    <a:lnTo>
                      <a:pt x="1122" y="198"/>
                    </a:lnTo>
                    <a:lnTo>
                      <a:pt x="1086" y="198"/>
                    </a:lnTo>
                    <a:lnTo>
                      <a:pt x="1056" y="198"/>
                    </a:lnTo>
                    <a:lnTo>
                      <a:pt x="1026" y="198"/>
                    </a:lnTo>
                    <a:lnTo>
                      <a:pt x="966" y="198"/>
                    </a:lnTo>
                    <a:lnTo>
                      <a:pt x="900" y="198"/>
                    </a:lnTo>
                    <a:lnTo>
                      <a:pt x="870" y="198"/>
                    </a:lnTo>
                    <a:lnTo>
                      <a:pt x="840" y="198"/>
                    </a:lnTo>
                    <a:lnTo>
                      <a:pt x="828" y="198"/>
                    </a:lnTo>
                    <a:lnTo>
                      <a:pt x="810" y="198"/>
                    </a:lnTo>
                    <a:lnTo>
                      <a:pt x="798" y="198"/>
                    </a:lnTo>
                    <a:lnTo>
                      <a:pt x="780" y="198"/>
                    </a:lnTo>
                    <a:lnTo>
                      <a:pt x="762" y="198"/>
                    </a:lnTo>
                    <a:lnTo>
                      <a:pt x="744" y="198"/>
                    </a:lnTo>
                    <a:lnTo>
                      <a:pt x="720" y="192"/>
                    </a:lnTo>
                    <a:lnTo>
                      <a:pt x="702" y="192"/>
                    </a:lnTo>
                    <a:lnTo>
                      <a:pt x="666" y="192"/>
                    </a:lnTo>
                    <a:lnTo>
                      <a:pt x="624" y="192"/>
                    </a:lnTo>
                    <a:lnTo>
                      <a:pt x="588" y="192"/>
                    </a:lnTo>
                    <a:lnTo>
                      <a:pt x="546" y="192"/>
                    </a:lnTo>
                    <a:lnTo>
                      <a:pt x="528" y="192"/>
                    </a:lnTo>
                    <a:lnTo>
                      <a:pt x="510" y="192"/>
                    </a:lnTo>
                    <a:lnTo>
                      <a:pt x="492" y="192"/>
                    </a:lnTo>
                    <a:lnTo>
                      <a:pt x="468" y="186"/>
                    </a:lnTo>
                    <a:lnTo>
                      <a:pt x="468" y="192"/>
                    </a:lnTo>
                    <a:lnTo>
                      <a:pt x="462" y="192"/>
                    </a:lnTo>
                    <a:lnTo>
                      <a:pt x="456" y="192"/>
                    </a:lnTo>
                    <a:lnTo>
                      <a:pt x="450" y="192"/>
                    </a:lnTo>
                    <a:lnTo>
                      <a:pt x="438" y="192"/>
                    </a:lnTo>
                    <a:lnTo>
                      <a:pt x="432" y="192"/>
                    </a:lnTo>
                    <a:lnTo>
                      <a:pt x="420" y="192"/>
                    </a:lnTo>
                    <a:lnTo>
                      <a:pt x="408" y="186"/>
                    </a:lnTo>
                    <a:lnTo>
                      <a:pt x="396" y="186"/>
                    </a:lnTo>
                    <a:lnTo>
                      <a:pt x="384" y="186"/>
                    </a:lnTo>
                    <a:lnTo>
                      <a:pt x="378" y="186"/>
                    </a:lnTo>
                    <a:lnTo>
                      <a:pt x="372" y="186"/>
                    </a:lnTo>
                    <a:lnTo>
                      <a:pt x="366" y="186"/>
                    </a:lnTo>
                    <a:lnTo>
                      <a:pt x="360" y="186"/>
                    </a:lnTo>
                    <a:lnTo>
                      <a:pt x="354" y="186"/>
                    </a:lnTo>
                    <a:lnTo>
                      <a:pt x="348" y="186"/>
                    </a:lnTo>
                    <a:lnTo>
                      <a:pt x="336" y="186"/>
                    </a:lnTo>
                    <a:lnTo>
                      <a:pt x="330" y="186"/>
                    </a:lnTo>
                    <a:lnTo>
                      <a:pt x="318" y="186"/>
                    </a:lnTo>
                    <a:lnTo>
                      <a:pt x="306" y="186"/>
                    </a:lnTo>
                    <a:lnTo>
                      <a:pt x="288" y="180"/>
                    </a:lnTo>
                    <a:lnTo>
                      <a:pt x="270" y="180"/>
                    </a:lnTo>
                    <a:lnTo>
                      <a:pt x="246" y="180"/>
                    </a:lnTo>
                    <a:lnTo>
                      <a:pt x="228" y="174"/>
                    </a:lnTo>
                    <a:lnTo>
                      <a:pt x="216" y="174"/>
                    </a:lnTo>
                    <a:lnTo>
                      <a:pt x="204" y="174"/>
                    </a:lnTo>
                    <a:lnTo>
                      <a:pt x="192" y="174"/>
                    </a:lnTo>
                    <a:lnTo>
                      <a:pt x="180" y="174"/>
                    </a:lnTo>
                    <a:lnTo>
                      <a:pt x="168" y="174"/>
                    </a:lnTo>
                    <a:lnTo>
                      <a:pt x="156" y="168"/>
                    </a:lnTo>
                    <a:lnTo>
                      <a:pt x="144" y="168"/>
                    </a:lnTo>
                    <a:lnTo>
                      <a:pt x="138" y="162"/>
                    </a:lnTo>
                    <a:lnTo>
                      <a:pt x="132" y="162"/>
                    </a:lnTo>
                    <a:lnTo>
                      <a:pt x="126" y="162"/>
                    </a:lnTo>
                    <a:lnTo>
                      <a:pt x="120" y="156"/>
                    </a:lnTo>
                    <a:lnTo>
                      <a:pt x="108" y="156"/>
                    </a:lnTo>
                    <a:lnTo>
                      <a:pt x="102" y="156"/>
                    </a:lnTo>
                    <a:lnTo>
                      <a:pt x="96" y="156"/>
                    </a:lnTo>
                    <a:lnTo>
                      <a:pt x="90" y="156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2" y="156"/>
                    </a:lnTo>
                    <a:lnTo>
                      <a:pt x="66" y="156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90" y="156"/>
                    </a:lnTo>
                    <a:lnTo>
                      <a:pt x="96" y="156"/>
                    </a:lnTo>
                    <a:lnTo>
                      <a:pt x="102" y="156"/>
                    </a:lnTo>
                    <a:lnTo>
                      <a:pt x="108" y="156"/>
                    </a:lnTo>
                    <a:lnTo>
                      <a:pt x="114" y="156"/>
                    </a:lnTo>
                    <a:lnTo>
                      <a:pt x="120" y="144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54" y="150"/>
                    </a:lnTo>
                    <a:lnTo>
                      <a:pt x="66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30" y="180"/>
                    </a:lnTo>
                    <a:lnTo>
                      <a:pt x="24" y="180"/>
                    </a:lnTo>
                    <a:lnTo>
                      <a:pt x="24" y="186"/>
                    </a:lnTo>
                    <a:lnTo>
                      <a:pt x="18" y="186"/>
                    </a:lnTo>
                    <a:lnTo>
                      <a:pt x="18" y="192"/>
                    </a:lnTo>
                    <a:lnTo>
                      <a:pt x="18" y="198"/>
                    </a:lnTo>
                    <a:lnTo>
                      <a:pt x="24" y="198"/>
                    </a:lnTo>
                    <a:lnTo>
                      <a:pt x="30" y="204"/>
                    </a:lnTo>
                    <a:lnTo>
                      <a:pt x="36" y="210"/>
                    </a:lnTo>
                    <a:lnTo>
                      <a:pt x="42" y="210"/>
                    </a:lnTo>
                    <a:lnTo>
                      <a:pt x="42" y="216"/>
                    </a:lnTo>
                    <a:lnTo>
                      <a:pt x="48" y="216"/>
                    </a:lnTo>
                    <a:lnTo>
                      <a:pt x="54" y="216"/>
                    </a:lnTo>
                    <a:lnTo>
                      <a:pt x="60" y="216"/>
                    </a:lnTo>
                    <a:lnTo>
                      <a:pt x="66" y="216"/>
                    </a:lnTo>
                    <a:lnTo>
                      <a:pt x="72" y="216"/>
                    </a:lnTo>
                    <a:lnTo>
                      <a:pt x="78" y="216"/>
                    </a:lnTo>
                    <a:lnTo>
                      <a:pt x="84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96" y="210"/>
                    </a:lnTo>
                    <a:lnTo>
                      <a:pt x="102" y="210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84" y="204"/>
                    </a:lnTo>
                    <a:lnTo>
                      <a:pt x="78" y="204"/>
                    </a:lnTo>
                    <a:lnTo>
                      <a:pt x="72" y="204"/>
                    </a:lnTo>
                    <a:lnTo>
                      <a:pt x="66" y="204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42" y="192"/>
                    </a:lnTo>
                    <a:lnTo>
                      <a:pt x="42" y="198"/>
                    </a:lnTo>
                    <a:lnTo>
                      <a:pt x="48" y="198"/>
                    </a:lnTo>
                    <a:lnTo>
                      <a:pt x="54" y="198"/>
                    </a:lnTo>
                    <a:lnTo>
                      <a:pt x="60" y="198"/>
                    </a:lnTo>
                    <a:lnTo>
                      <a:pt x="66" y="198"/>
                    </a:lnTo>
                    <a:lnTo>
                      <a:pt x="72" y="198"/>
                    </a:lnTo>
                    <a:lnTo>
                      <a:pt x="78" y="198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6" y="198"/>
                    </a:lnTo>
                    <a:lnTo>
                      <a:pt x="102" y="198"/>
                    </a:lnTo>
                    <a:lnTo>
                      <a:pt x="102" y="192"/>
                    </a:lnTo>
                    <a:lnTo>
                      <a:pt x="102" y="186"/>
                    </a:lnTo>
                    <a:lnTo>
                      <a:pt x="96" y="186"/>
                    </a:lnTo>
                    <a:lnTo>
                      <a:pt x="90" y="186"/>
                    </a:lnTo>
                    <a:lnTo>
                      <a:pt x="84" y="186"/>
                    </a:lnTo>
                    <a:lnTo>
                      <a:pt x="78" y="186"/>
                    </a:lnTo>
                    <a:lnTo>
                      <a:pt x="72" y="186"/>
                    </a:lnTo>
                    <a:lnTo>
                      <a:pt x="66" y="186"/>
                    </a:lnTo>
                    <a:lnTo>
                      <a:pt x="60" y="186"/>
                    </a:lnTo>
                    <a:lnTo>
                      <a:pt x="54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60" y="180"/>
                    </a:lnTo>
                    <a:lnTo>
                      <a:pt x="66" y="180"/>
                    </a:lnTo>
                    <a:lnTo>
                      <a:pt x="72" y="180"/>
                    </a:lnTo>
                    <a:lnTo>
                      <a:pt x="78" y="186"/>
                    </a:lnTo>
                    <a:lnTo>
                      <a:pt x="84" y="186"/>
                    </a:lnTo>
                    <a:lnTo>
                      <a:pt x="90" y="186"/>
                    </a:lnTo>
                    <a:lnTo>
                      <a:pt x="96" y="186"/>
                    </a:lnTo>
                    <a:lnTo>
                      <a:pt x="96" y="180"/>
                    </a:lnTo>
                    <a:lnTo>
                      <a:pt x="102" y="180"/>
                    </a:lnTo>
                    <a:lnTo>
                      <a:pt x="96" y="174"/>
                    </a:lnTo>
                    <a:lnTo>
                      <a:pt x="102" y="174"/>
                    </a:lnTo>
                    <a:lnTo>
                      <a:pt x="108" y="174"/>
                    </a:lnTo>
                    <a:lnTo>
                      <a:pt x="114" y="180"/>
                    </a:lnTo>
                    <a:lnTo>
                      <a:pt x="120" y="180"/>
                    </a:lnTo>
                    <a:lnTo>
                      <a:pt x="126" y="180"/>
                    </a:lnTo>
                    <a:lnTo>
                      <a:pt x="144" y="186"/>
                    </a:lnTo>
                    <a:lnTo>
                      <a:pt x="162" y="186"/>
                    </a:lnTo>
                    <a:lnTo>
                      <a:pt x="168" y="192"/>
                    </a:lnTo>
                    <a:lnTo>
                      <a:pt x="174" y="192"/>
                    </a:lnTo>
                    <a:lnTo>
                      <a:pt x="186" y="192"/>
                    </a:lnTo>
                    <a:lnTo>
                      <a:pt x="192" y="192"/>
                    </a:lnTo>
                    <a:lnTo>
                      <a:pt x="198" y="192"/>
                    </a:lnTo>
                    <a:lnTo>
                      <a:pt x="204" y="198"/>
                    </a:lnTo>
                    <a:lnTo>
                      <a:pt x="210" y="198"/>
                    </a:lnTo>
                    <a:lnTo>
                      <a:pt x="216" y="198"/>
                    </a:lnTo>
                    <a:lnTo>
                      <a:pt x="222" y="198"/>
                    </a:lnTo>
                    <a:lnTo>
                      <a:pt x="228" y="198"/>
                    </a:lnTo>
                    <a:lnTo>
                      <a:pt x="222" y="198"/>
                    </a:lnTo>
                    <a:lnTo>
                      <a:pt x="216" y="198"/>
                    </a:lnTo>
                    <a:lnTo>
                      <a:pt x="210" y="198"/>
                    </a:lnTo>
                    <a:lnTo>
                      <a:pt x="204" y="198"/>
                    </a:lnTo>
                    <a:lnTo>
                      <a:pt x="198" y="198"/>
                    </a:lnTo>
                    <a:lnTo>
                      <a:pt x="204" y="198"/>
                    </a:lnTo>
                    <a:lnTo>
                      <a:pt x="210" y="198"/>
                    </a:lnTo>
                    <a:lnTo>
                      <a:pt x="210" y="204"/>
                    </a:lnTo>
                    <a:lnTo>
                      <a:pt x="216" y="204"/>
                    </a:lnTo>
                    <a:lnTo>
                      <a:pt x="222" y="204"/>
                    </a:lnTo>
                    <a:lnTo>
                      <a:pt x="228" y="204"/>
                    </a:lnTo>
                    <a:lnTo>
                      <a:pt x="234" y="204"/>
                    </a:lnTo>
                    <a:lnTo>
                      <a:pt x="240" y="204"/>
                    </a:lnTo>
                    <a:lnTo>
                      <a:pt x="246" y="204"/>
                    </a:lnTo>
                    <a:lnTo>
                      <a:pt x="252" y="204"/>
                    </a:lnTo>
                    <a:lnTo>
                      <a:pt x="258" y="210"/>
                    </a:lnTo>
                    <a:lnTo>
                      <a:pt x="264" y="204"/>
                    </a:lnTo>
                    <a:lnTo>
                      <a:pt x="264" y="198"/>
                    </a:lnTo>
                    <a:lnTo>
                      <a:pt x="258" y="198"/>
                    </a:lnTo>
                    <a:lnTo>
                      <a:pt x="264" y="198"/>
                    </a:lnTo>
                    <a:lnTo>
                      <a:pt x="270" y="198"/>
                    </a:lnTo>
                    <a:lnTo>
                      <a:pt x="276" y="204"/>
                    </a:lnTo>
                    <a:lnTo>
                      <a:pt x="276" y="210"/>
                    </a:lnTo>
                    <a:lnTo>
                      <a:pt x="276" y="216"/>
                    </a:lnTo>
                    <a:lnTo>
                      <a:pt x="276" y="222"/>
                    </a:lnTo>
                    <a:lnTo>
                      <a:pt x="276" y="228"/>
                    </a:lnTo>
                    <a:lnTo>
                      <a:pt x="276" y="234"/>
                    </a:lnTo>
                    <a:lnTo>
                      <a:pt x="276" y="240"/>
                    </a:lnTo>
                    <a:lnTo>
                      <a:pt x="270" y="240"/>
                    </a:lnTo>
                    <a:lnTo>
                      <a:pt x="264" y="234"/>
                    </a:lnTo>
                    <a:lnTo>
                      <a:pt x="258" y="234"/>
                    </a:lnTo>
                    <a:lnTo>
                      <a:pt x="252" y="234"/>
                    </a:lnTo>
                    <a:lnTo>
                      <a:pt x="246" y="234"/>
                    </a:lnTo>
                    <a:lnTo>
                      <a:pt x="240" y="228"/>
                    </a:lnTo>
                    <a:lnTo>
                      <a:pt x="234" y="228"/>
                    </a:lnTo>
                    <a:lnTo>
                      <a:pt x="228" y="228"/>
                    </a:lnTo>
                    <a:lnTo>
                      <a:pt x="222" y="228"/>
                    </a:lnTo>
                    <a:lnTo>
                      <a:pt x="216" y="228"/>
                    </a:lnTo>
                    <a:lnTo>
                      <a:pt x="210" y="228"/>
                    </a:lnTo>
                    <a:lnTo>
                      <a:pt x="204" y="228"/>
                    </a:lnTo>
                    <a:lnTo>
                      <a:pt x="198" y="228"/>
                    </a:lnTo>
                    <a:lnTo>
                      <a:pt x="192" y="228"/>
                    </a:lnTo>
                    <a:lnTo>
                      <a:pt x="192" y="222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74" y="222"/>
                    </a:lnTo>
                    <a:lnTo>
                      <a:pt x="168" y="222"/>
                    </a:lnTo>
                    <a:lnTo>
                      <a:pt x="162" y="222"/>
                    </a:lnTo>
                    <a:lnTo>
                      <a:pt x="156" y="222"/>
                    </a:lnTo>
                    <a:lnTo>
                      <a:pt x="150" y="222"/>
                    </a:lnTo>
                    <a:lnTo>
                      <a:pt x="144" y="222"/>
                    </a:lnTo>
                    <a:lnTo>
                      <a:pt x="138" y="222"/>
                    </a:lnTo>
                    <a:lnTo>
                      <a:pt x="132" y="216"/>
                    </a:lnTo>
                    <a:lnTo>
                      <a:pt x="126" y="216"/>
                    </a:lnTo>
                    <a:lnTo>
                      <a:pt x="120" y="216"/>
                    </a:lnTo>
                    <a:lnTo>
                      <a:pt x="114" y="216"/>
                    </a:lnTo>
                    <a:lnTo>
                      <a:pt x="108" y="216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6" y="222"/>
                    </a:lnTo>
                    <a:lnTo>
                      <a:pt x="90" y="222"/>
                    </a:lnTo>
                    <a:lnTo>
                      <a:pt x="84" y="222"/>
                    </a:lnTo>
                    <a:lnTo>
                      <a:pt x="78" y="222"/>
                    </a:lnTo>
                    <a:lnTo>
                      <a:pt x="72" y="222"/>
                    </a:lnTo>
                    <a:lnTo>
                      <a:pt x="66" y="228"/>
                    </a:lnTo>
                    <a:lnTo>
                      <a:pt x="60" y="228"/>
                    </a:lnTo>
                    <a:lnTo>
                      <a:pt x="54" y="228"/>
                    </a:lnTo>
                    <a:lnTo>
                      <a:pt x="54" y="222"/>
                    </a:lnTo>
                    <a:lnTo>
                      <a:pt x="48" y="222"/>
                    </a:lnTo>
                    <a:lnTo>
                      <a:pt x="42" y="222"/>
                    </a:lnTo>
                    <a:lnTo>
                      <a:pt x="36" y="222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24" y="216"/>
                    </a:lnTo>
                    <a:lnTo>
                      <a:pt x="24" y="210"/>
                    </a:lnTo>
                    <a:lnTo>
                      <a:pt x="18" y="210"/>
                    </a:lnTo>
                    <a:lnTo>
                      <a:pt x="12" y="204"/>
                    </a:lnTo>
                    <a:lnTo>
                      <a:pt x="12" y="198"/>
                    </a:lnTo>
                    <a:lnTo>
                      <a:pt x="6" y="198"/>
                    </a:lnTo>
                    <a:lnTo>
                      <a:pt x="6" y="192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8" y="168"/>
                    </a:lnTo>
                    <a:lnTo>
                      <a:pt x="18" y="162"/>
                    </a:lnTo>
                    <a:lnTo>
                      <a:pt x="18" y="156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6" y="126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32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10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40" y="6"/>
                    </a:lnTo>
                    <a:lnTo>
                      <a:pt x="246" y="6"/>
                    </a:lnTo>
                    <a:lnTo>
                      <a:pt x="258" y="6"/>
                    </a:lnTo>
                    <a:lnTo>
                      <a:pt x="276" y="6"/>
                    </a:lnTo>
                    <a:lnTo>
                      <a:pt x="288" y="6"/>
                    </a:lnTo>
                    <a:lnTo>
                      <a:pt x="300" y="6"/>
                    </a:lnTo>
                    <a:lnTo>
                      <a:pt x="318" y="6"/>
                    </a:lnTo>
                    <a:lnTo>
                      <a:pt x="330" y="6"/>
                    </a:lnTo>
                    <a:lnTo>
                      <a:pt x="360" y="6"/>
                    </a:lnTo>
                    <a:lnTo>
                      <a:pt x="390" y="12"/>
                    </a:lnTo>
                    <a:lnTo>
                      <a:pt x="402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6"/>
                    </a:lnTo>
                    <a:lnTo>
                      <a:pt x="462" y="6"/>
                    </a:lnTo>
                    <a:lnTo>
                      <a:pt x="480" y="6"/>
                    </a:lnTo>
                    <a:lnTo>
                      <a:pt x="492" y="6"/>
                    </a:lnTo>
                    <a:lnTo>
                      <a:pt x="510" y="12"/>
                    </a:lnTo>
                    <a:lnTo>
                      <a:pt x="540" y="12"/>
                    </a:lnTo>
                    <a:lnTo>
                      <a:pt x="576" y="12"/>
                    </a:lnTo>
                    <a:lnTo>
                      <a:pt x="588" y="12"/>
                    </a:lnTo>
                    <a:lnTo>
                      <a:pt x="606" y="12"/>
                    </a:lnTo>
                    <a:lnTo>
                      <a:pt x="624" y="12"/>
                    </a:lnTo>
                    <a:lnTo>
                      <a:pt x="642" y="12"/>
                    </a:lnTo>
                    <a:lnTo>
                      <a:pt x="654" y="12"/>
                    </a:lnTo>
                    <a:lnTo>
                      <a:pt x="672" y="12"/>
                    </a:lnTo>
                    <a:lnTo>
                      <a:pt x="690" y="12"/>
                    </a:lnTo>
                    <a:lnTo>
                      <a:pt x="708" y="12"/>
                    </a:lnTo>
                    <a:lnTo>
                      <a:pt x="702" y="12"/>
                    </a:lnTo>
                    <a:lnTo>
                      <a:pt x="708" y="12"/>
                    </a:lnTo>
                    <a:lnTo>
                      <a:pt x="714" y="12"/>
                    </a:lnTo>
                    <a:lnTo>
                      <a:pt x="720" y="12"/>
                    </a:lnTo>
                    <a:lnTo>
                      <a:pt x="726" y="12"/>
                    </a:lnTo>
                    <a:lnTo>
                      <a:pt x="732" y="12"/>
                    </a:lnTo>
                    <a:lnTo>
                      <a:pt x="738" y="12"/>
                    </a:lnTo>
                    <a:lnTo>
                      <a:pt x="744" y="12"/>
                    </a:lnTo>
                    <a:lnTo>
                      <a:pt x="756" y="12"/>
                    </a:lnTo>
                    <a:lnTo>
                      <a:pt x="762" y="12"/>
                    </a:lnTo>
                    <a:lnTo>
                      <a:pt x="774" y="12"/>
                    </a:lnTo>
                    <a:lnTo>
                      <a:pt x="786" y="18"/>
                    </a:lnTo>
                    <a:lnTo>
                      <a:pt x="810" y="18"/>
                    </a:lnTo>
                    <a:lnTo>
                      <a:pt x="834" y="18"/>
                    </a:lnTo>
                    <a:lnTo>
                      <a:pt x="858" y="18"/>
                    </a:lnTo>
                    <a:lnTo>
                      <a:pt x="882" y="18"/>
                    </a:lnTo>
                    <a:lnTo>
                      <a:pt x="906" y="18"/>
                    </a:lnTo>
                    <a:lnTo>
                      <a:pt x="930" y="18"/>
                    </a:lnTo>
                    <a:lnTo>
                      <a:pt x="948" y="18"/>
                    </a:lnTo>
                    <a:lnTo>
                      <a:pt x="966" y="18"/>
                    </a:lnTo>
                    <a:lnTo>
                      <a:pt x="978" y="18"/>
                    </a:lnTo>
                    <a:lnTo>
                      <a:pt x="996" y="18"/>
                    </a:lnTo>
                    <a:lnTo>
                      <a:pt x="1026" y="18"/>
                    </a:lnTo>
                    <a:lnTo>
                      <a:pt x="1050" y="18"/>
                    </a:lnTo>
                    <a:lnTo>
                      <a:pt x="1068" y="18"/>
                    </a:lnTo>
                    <a:lnTo>
                      <a:pt x="1080" y="18"/>
                    </a:lnTo>
                    <a:lnTo>
                      <a:pt x="1098" y="18"/>
                    </a:lnTo>
                    <a:lnTo>
                      <a:pt x="1110" y="18"/>
                    </a:lnTo>
                    <a:lnTo>
                      <a:pt x="1122" y="18"/>
                    </a:lnTo>
                    <a:lnTo>
                      <a:pt x="1140" y="18"/>
                    </a:lnTo>
                    <a:lnTo>
                      <a:pt x="1152" y="18"/>
                    </a:lnTo>
                    <a:lnTo>
                      <a:pt x="1170" y="18"/>
                    </a:lnTo>
                    <a:lnTo>
                      <a:pt x="1170" y="12"/>
                    </a:lnTo>
                    <a:lnTo>
                      <a:pt x="1182" y="12"/>
                    </a:lnTo>
                    <a:lnTo>
                      <a:pt x="1194" y="12"/>
                    </a:lnTo>
                    <a:lnTo>
                      <a:pt x="1200" y="12"/>
                    </a:lnTo>
                    <a:lnTo>
                      <a:pt x="1212" y="12"/>
                    </a:lnTo>
                    <a:lnTo>
                      <a:pt x="1230" y="12"/>
                    </a:lnTo>
                    <a:lnTo>
                      <a:pt x="1248" y="12"/>
                    </a:lnTo>
                    <a:lnTo>
                      <a:pt x="1266" y="12"/>
                    </a:lnTo>
                    <a:lnTo>
                      <a:pt x="1290" y="12"/>
                    </a:lnTo>
                    <a:lnTo>
                      <a:pt x="1296" y="12"/>
                    </a:lnTo>
                    <a:lnTo>
                      <a:pt x="1308" y="6"/>
                    </a:lnTo>
                    <a:lnTo>
                      <a:pt x="1314" y="6"/>
                    </a:lnTo>
                    <a:lnTo>
                      <a:pt x="1326" y="6"/>
                    </a:lnTo>
                    <a:lnTo>
                      <a:pt x="1338" y="6"/>
                    </a:lnTo>
                    <a:lnTo>
                      <a:pt x="1350" y="6"/>
                    </a:lnTo>
                    <a:lnTo>
                      <a:pt x="1362" y="6"/>
                    </a:lnTo>
                    <a:lnTo>
                      <a:pt x="1374" y="6"/>
                    </a:lnTo>
                    <a:lnTo>
                      <a:pt x="1398" y="6"/>
                    </a:lnTo>
                    <a:lnTo>
                      <a:pt x="1428" y="6"/>
                    </a:lnTo>
                    <a:lnTo>
                      <a:pt x="1440" y="6"/>
                    </a:lnTo>
                    <a:lnTo>
                      <a:pt x="1452" y="6"/>
                    </a:lnTo>
                    <a:lnTo>
                      <a:pt x="1464" y="6"/>
                    </a:lnTo>
                    <a:lnTo>
                      <a:pt x="1476" y="6"/>
                    </a:lnTo>
                    <a:lnTo>
                      <a:pt x="1488" y="0"/>
                    </a:lnTo>
                    <a:lnTo>
                      <a:pt x="1500" y="0"/>
                    </a:lnTo>
                    <a:lnTo>
                      <a:pt x="1518" y="0"/>
                    </a:lnTo>
                    <a:lnTo>
                      <a:pt x="1530" y="0"/>
                    </a:lnTo>
                    <a:lnTo>
                      <a:pt x="1536" y="0"/>
                    </a:lnTo>
                    <a:lnTo>
                      <a:pt x="1542" y="0"/>
                    </a:lnTo>
                    <a:lnTo>
                      <a:pt x="1548" y="0"/>
                    </a:lnTo>
                    <a:lnTo>
                      <a:pt x="1554" y="0"/>
                    </a:lnTo>
                    <a:lnTo>
                      <a:pt x="1560" y="0"/>
                    </a:lnTo>
                    <a:lnTo>
                      <a:pt x="1566" y="6"/>
                    </a:lnTo>
                    <a:lnTo>
                      <a:pt x="1572" y="6"/>
                    </a:lnTo>
                    <a:lnTo>
                      <a:pt x="1578" y="6"/>
                    </a:lnTo>
                    <a:lnTo>
                      <a:pt x="1584" y="12"/>
                    </a:lnTo>
                    <a:lnTo>
                      <a:pt x="1590" y="12"/>
                    </a:lnTo>
                    <a:lnTo>
                      <a:pt x="1596" y="12"/>
                    </a:lnTo>
                    <a:lnTo>
                      <a:pt x="1596" y="18"/>
                    </a:lnTo>
                    <a:lnTo>
                      <a:pt x="1602" y="18"/>
                    </a:lnTo>
                    <a:lnTo>
                      <a:pt x="1602" y="24"/>
                    </a:lnTo>
                    <a:lnTo>
                      <a:pt x="1608" y="24"/>
                    </a:lnTo>
                    <a:lnTo>
                      <a:pt x="1614" y="30"/>
                    </a:lnTo>
                    <a:lnTo>
                      <a:pt x="1614" y="36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30040" y="349200"/>
                <a:ext cx="70200" cy="464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12"/>
                    </a:move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2960" y="333720"/>
                <a:ext cx="58320" cy="619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24" y="12"/>
                    </a:move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1920" y="411480"/>
                <a:ext cx="52560" cy="230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54" y="0"/>
                    </a:move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41920" y="450000"/>
                <a:ext cx="58680" cy="234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0"/>
                    </a:move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0600" y="395640"/>
                <a:ext cx="46800" cy="309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6"/>
                    </a:move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59200" y="480960"/>
                <a:ext cx="52920" cy="154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30" y="0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7880" y="419400"/>
                <a:ext cx="75960" cy="3060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78" y="0"/>
                    </a:moveTo>
                    <a:lnTo>
                      <a:pt x="78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71080" y="504360"/>
                <a:ext cx="52560" cy="230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54" y="6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4000" y="45000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2"/>
                    </a:move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06360" y="535320"/>
                <a:ext cx="29160" cy="154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0" y="6"/>
                    </a:move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3320" y="457920"/>
                <a:ext cx="521280" cy="240120"/>
              </a:xfrm>
              <a:custGeom>
                <a:avLst/>
                <a:gdLst/>
                <a:ahLst/>
                <a:rect l="l" t="t" r="r" b="b"/>
                <a:pathLst>
                  <a:path w="534" h="186">
                    <a:moveTo>
                      <a:pt x="264" y="18"/>
                    </a:moveTo>
                    <a:lnTo>
                      <a:pt x="264" y="24"/>
                    </a:lnTo>
                    <a:lnTo>
                      <a:pt x="258" y="24"/>
                    </a:lnTo>
                    <a:lnTo>
                      <a:pt x="252" y="24"/>
                    </a:lnTo>
                    <a:lnTo>
                      <a:pt x="240" y="24"/>
                    </a:lnTo>
                    <a:lnTo>
                      <a:pt x="234" y="18"/>
                    </a:lnTo>
                    <a:lnTo>
                      <a:pt x="228" y="18"/>
                    </a:lnTo>
                    <a:lnTo>
                      <a:pt x="222" y="18"/>
                    </a:lnTo>
                    <a:lnTo>
                      <a:pt x="216" y="24"/>
                    </a:lnTo>
                    <a:lnTo>
                      <a:pt x="210" y="24"/>
                    </a:lnTo>
                    <a:lnTo>
                      <a:pt x="216" y="30"/>
                    </a:lnTo>
                    <a:lnTo>
                      <a:pt x="222" y="30"/>
                    </a:lnTo>
                    <a:lnTo>
                      <a:pt x="228" y="30"/>
                    </a:lnTo>
                    <a:lnTo>
                      <a:pt x="234" y="36"/>
                    </a:lnTo>
                    <a:lnTo>
                      <a:pt x="240" y="36"/>
                    </a:lnTo>
                    <a:lnTo>
                      <a:pt x="246" y="36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58" y="42"/>
                    </a:lnTo>
                    <a:lnTo>
                      <a:pt x="252" y="42"/>
                    </a:lnTo>
                    <a:lnTo>
                      <a:pt x="252" y="48"/>
                    </a:lnTo>
                    <a:lnTo>
                      <a:pt x="246" y="48"/>
                    </a:lnTo>
                    <a:lnTo>
                      <a:pt x="240" y="42"/>
                    </a:lnTo>
                    <a:lnTo>
                      <a:pt x="234" y="42"/>
                    </a:lnTo>
                    <a:lnTo>
                      <a:pt x="228" y="42"/>
                    </a:lnTo>
                    <a:lnTo>
                      <a:pt x="222" y="42"/>
                    </a:lnTo>
                    <a:lnTo>
                      <a:pt x="222" y="48"/>
                    </a:lnTo>
                    <a:lnTo>
                      <a:pt x="216" y="48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10" y="54"/>
                    </a:lnTo>
                    <a:lnTo>
                      <a:pt x="216" y="54"/>
                    </a:lnTo>
                    <a:lnTo>
                      <a:pt x="222" y="54"/>
                    </a:lnTo>
                    <a:lnTo>
                      <a:pt x="228" y="54"/>
                    </a:lnTo>
                    <a:lnTo>
                      <a:pt x="234" y="54"/>
                    </a:lnTo>
                    <a:lnTo>
                      <a:pt x="240" y="54"/>
                    </a:lnTo>
                    <a:lnTo>
                      <a:pt x="240" y="60"/>
                    </a:lnTo>
                    <a:lnTo>
                      <a:pt x="246" y="60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40" y="72"/>
                    </a:lnTo>
                    <a:lnTo>
                      <a:pt x="240" y="66"/>
                    </a:lnTo>
                    <a:lnTo>
                      <a:pt x="234" y="72"/>
                    </a:lnTo>
                    <a:lnTo>
                      <a:pt x="228" y="72"/>
                    </a:lnTo>
                    <a:lnTo>
                      <a:pt x="222" y="72"/>
                    </a:lnTo>
                    <a:lnTo>
                      <a:pt x="222" y="66"/>
                    </a:lnTo>
                    <a:lnTo>
                      <a:pt x="216" y="66"/>
                    </a:lnTo>
                    <a:lnTo>
                      <a:pt x="210" y="66"/>
                    </a:lnTo>
                    <a:lnTo>
                      <a:pt x="210" y="72"/>
                    </a:lnTo>
                    <a:lnTo>
                      <a:pt x="210" y="78"/>
                    </a:lnTo>
                    <a:lnTo>
                      <a:pt x="216" y="78"/>
                    </a:lnTo>
                    <a:lnTo>
                      <a:pt x="222" y="78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84"/>
                    </a:lnTo>
                    <a:lnTo>
                      <a:pt x="246" y="84"/>
                    </a:lnTo>
                    <a:lnTo>
                      <a:pt x="246" y="90"/>
                    </a:lnTo>
                    <a:lnTo>
                      <a:pt x="240" y="90"/>
                    </a:lnTo>
                    <a:lnTo>
                      <a:pt x="234" y="90"/>
                    </a:lnTo>
                    <a:lnTo>
                      <a:pt x="228" y="90"/>
                    </a:lnTo>
                    <a:lnTo>
                      <a:pt x="222" y="90"/>
                    </a:lnTo>
                    <a:lnTo>
                      <a:pt x="210" y="90"/>
                    </a:lnTo>
                    <a:lnTo>
                      <a:pt x="204" y="90"/>
                    </a:lnTo>
                    <a:lnTo>
                      <a:pt x="198" y="90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92" y="102"/>
                    </a:lnTo>
                    <a:lnTo>
                      <a:pt x="198" y="102"/>
                    </a:lnTo>
                    <a:lnTo>
                      <a:pt x="204" y="102"/>
                    </a:lnTo>
                    <a:lnTo>
                      <a:pt x="210" y="102"/>
                    </a:lnTo>
                    <a:lnTo>
                      <a:pt x="216" y="102"/>
                    </a:lnTo>
                    <a:lnTo>
                      <a:pt x="222" y="102"/>
                    </a:lnTo>
                    <a:lnTo>
                      <a:pt x="228" y="102"/>
                    </a:lnTo>
                    <a:lnTo>
                      <a:pt x="234" y="102"/>
                    </a:lnTo>
                    <a:lnTo>
                      <a:pt x="240" y="108"/>
                    </a:lnTo>
                    <a:lnTo>
                      <a:pt x="246" y="108"/>
                    </a:lnTo>
                    <a:lnTo>
                      <a:pt x="252" y="114"/>
                    </a:lnTo>
                    <a:lnTo>
                      <a:pt x="258" y="114"/>
                    </a:lnTo>
                    <a:lnTo>
                      <a:pt x="258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6"/>
                    </a:lnTo>
                    <a:lnTo>
                      <a:pt x="282" y="132"/>
                    </a:lnTo>
                    <a:lnTo>
                      <a:pt x="288" y="132"/>
                    </a:lnTo>
                    <a:lnTo>
                      <a:pt x="288" y="138"/>
                    </a:lnTo>
                    <a:lnTo>
                      <a:pt x="294" y="138"/>
                    </a:lnTo>
                    <a:lnTo>
                      <a:pt x="300" y="138"/>
                    </a:lnTo>
                    <a:lnTo>
                      <a:pt x="306" y="138"/>
                    </a:lnTo>
                    <a:lnTo>
                      <a:pt x="312" y="138"/>
                    </a:lnTo>
                    <a:lnTo>
                      <a:pt x="318" y="138"/>
                    </a:lnTo>
                    <a:lnTo>
                      <a:pt x="324" y="138"/>
                    </a:lnTo>
                    <a:lnTo>
                      <a:pt x="330" y="132"/>
                    </a:lnTo>
                    <a:lnTo>
                      <a:pt x="336" y="132"/>
                    </a:lnTo>
                    <a:lnTo>
                      <a:pt x="342" y="132"/>
                    </a:lnTo>
                    <a:lnTo>
                      <a:pt x="348" y="126"/>
                    </a:lnTo>
                    <a:lnTo>
                      <a:pt x="354" y="126"/>
                    </a:lnTo>
                    <a:lnTo>
                      <a:pt x="360" y="126"/>
                    </a:lnTo>
                    <a:lnTo>
                      <a:pt x="366" y="126"/>
                    </a:lnTo>
                    <a:lnTo>
                      <a:pt x="372" y="126"/>
                    </a:lnTo>
                    <a:lnTo>
                      <a:pt x="384" y="126"/>
                    </a:lnTo>
                    <a:lnTo>
                      <a:pt x="402" y="132"/>
                    </a:lnTo>
                    <a:lnTo>
                      <a:pt x="408" y="132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2"/>
                    </a:lnTo>
                    <a:lnTo>
                      <a:pt x="432" y="132"/>
                    </a:lnTo>
                    <a:lnTo>
                      <a:pt x="438" y="132"/>
                    </a:lnTo>
                    <a:lnTo>
                      <a:pt x="444" y="132"/>
                    </a:lnTo>
                    <a:lnTo>
                      <a:pt x="444" y="138"/>
                    </a:lnTo>
                    <a:lnTo>
                      <a:pt x="450" y="138"/>
                    </a:lnTo>
                    <a:lnTo>
                      <a:pt x="450" y="144"/>
                    </a:lnTo>
                    <a:lnTo>
                      <a:pt x="456" y="144"/>
                    </a:lnTo>
                    <a:lnTo>
                      <a:pt x="462" y="144"/>
                    </a:lnTo>
                    <a:lnTo>
                      <a:pt x="468" y="144"/>
                    </a:lnTo>
                    <a:lnTo>
                      <a:pt x="474" y="144"/>
                    </a:lnTo>
                    <a:lnTo>
                      <a:pt x="480" y="144"/>
                    </a:lnTo>
                    <a:lnTo>
                      <a:pt x="486" y="144"/>
                    </a:lnTo>
                    <a:lnTo>
                      <a:pt x="492" y="144"/>
                    </a:lnTo>
                    <a:lnTo>
                      <a:pt x="498" y="144"/>
                    </a:lnTo>
                    <a:lnTo>
                      <a:pt x="504" y="144"/>
                    </a:lnTo>
                    <a:lnTo>
                      <a:pt x="510" y="150"/>
                    </a:lnTo>
                    <a:lnTo>
                      <a:pt x="504" y="150"/>
                    </a:lnTo>
                    <a:lnTo>
                      <a:pt x="498" y="150"/>
                    </a:lnTo>
                    <a:lnTo>
                      <a:pt x="492" y="150"/>
                    </a:lnTo>
                    <a:lnTo>
                      <a:pt x="486" y="150"/>
                    </a:lnTo>
                    <a:lnTo>
                      <a:pt x="480" y="150"/>
                    </a:lnTo>
                    <a:lnTo>
                      <a:pt x="474" y="150"/>
                    </a:lnTo>
                    <a:lnTo>
                      <a:pt x="468" y="150"/>
                    </a:lnTo>
                    <a:lnTo>
                      <a:pt x="462" y="150"/>
                    </a:lnTo>
                    <a:lnTo>
                      <a:pt x="450" y="150"/>
                    </a:lnTo>
                    <a:lnTo>
                      <a:pt x="444" y="150"/>
                    </a:lnTo>
                    <a:lnTo>
                      <a:pt x="438" y="150"/>
                    </a:lnTo>
                    <a:lnTo>
                      <a:pt x="432" y="150"/>
                    </a:lnTo>
                    <a:lnTo>
                      <a:pt x="432" y="156"/>
                    </a:lnTo>
                    <a:lnTo>
                      <a:pt x="438" y="156"/>
                    </a:lnTo>
                    <a:lnTo>
                      <a:pt x="444" y="162"/>
                    </a:lnTo>
                    <a:lnTo>
                      <a:pt x="450" y="162"/>
                    </a:lnTo>
                    <a:lnTo>
                      <a:pt x="456" y="162"/>
                    </a:lnTo>
                    <a:lnTo>
                      <a:pt x="462" y="162"/>
                    </a:lnTo>
                    <a:lnTo>
                      <a:pt x="468" y="162"/>
                    </a:lnTo>
                    <a:lnTo>
                      <a:pt x="474" y="162"/>
                    </a:lnTo>
                    <a:lnTo>
                      <a:pt x="480" y="162"/>
                    </a:lnTo>
                    <a:lnTo>
                      <a:pt x="486" y="162"/>
                    </a:lnTo>
                    <a:lnTo>
                      <a:pt x="492" y="162"/>
                    </a:lnTo>
                    <a:lnTo>
                      <a:pt x="498" y="162"/>
                    </a:lnTo>
                    <a:lnTo>
                      <a:pt x="504" y="162"/>
                    </a:lnTo>
                    <a:lnTo>
                      <a:pt x="510" y="156"/>
                    </a:lnTo>
                    <a:lnTo>
                      <a:pt x="516" y="156"/>
                    </a:lnTo>
                    <a:lnTo>
                      <a:pt x="522" y="150"/>
                    </a:lnTo>
                    <a:lnTo>
                      <a:pt x="522" y="156"/>
                    </a:lnTo>
                    <a:lnTo>
                      <a:pt x="522" y="162"/>
                    </a:lnTo>
                    <a:lnTo>
                      <a:pt x="516" y="162"/>
                    </a:lnTo>
                    <a:lnTo>
                      <a:pt x="510" y="162"/>
                    </a:lnTo>
                    <a:lnTo>
                      <a:pt x="504" y="162"/>
                    </a:lnTo>
                    <a:lnTo>
                      <a:pt x="498" y="162"/>
                    </a:lnTo>
                    <a:lnTo>
                      <a:pt x="492" y="168"/>
                    </a:lnTo>
                    <a:lnTo>
                      <a:pt x="486" y="168"/>
                    </a:lnTo>
                    <a:lnTo>
                      <a:pt x="480" y="168"/>
                    </a:lnTo>
                    <a:lnTo>
                      <a:pt x="474" y="168"/>
                    </a:lnTo>
                    <a:lnTo>
                      <a:pt x="468" y="168"/>
                    </a:lnTo>
                    <a:lnTo>
                      <a:pt x="462" y="168"/>
                    </a:lnTo>
                    <a:lnTo>
                      <a:pt x="456" y="168"/>
                    </a:lnTo>
                    <a:lnTo>
                      <a:pt x="450" y="168"/>
                    </a:lnTo>
                    <a:lnTo>
                      <a:pt x="432" y="162"/>
                    </a:lnTo>
                    <a:lnTo>
                      <a:pt x="420" y="162"/>
                    </a:lnTo>
                    <a:lnTo>
                      <a:pt x="420" y="168"/>
                    </a:lnTo>
                    <a:lnTo>
                      <a:pt x="426" y="168"/>
                    </a:lnTo>
                    <a:lnTo>
                      <a:pt x="426" y="174"/>
                    </a:lnTo>
                    <a:lnTo>
                      <a:pt x="432" y="174"/>
                    </a:lnTo>
                    <a:lnTo>
                      <a:pt x="438" y="174"/>
                    </a:lnTo>
                    <a:lnTo>
                      <a:pt x="444" y="180"/>
                    </a:lnTo>
                    <a:lnTo>
                      <a:pt x="450" y="180"/>
                    </a:lnTo>
                    <a:lnTo>
                      <a:pt x="456" y="180"/>
                    </a:lnTo>
                    <a:lnTo>
                      <a:pt x="462" y="180"/>
                    </a:lnTo>
                    <a:lnTo>
                      <a:pt x="468" y="180"/>
                    </a:lnTo>
                    <a:lnTo>
                      <a:pt x="474" y="180"/>
                    </a:lnTo>
                    <a:lnTo>
                      <a:pt x="486" y="180"/>
                    </a:lnTo>
                    <a:lnTo>
                      <a:pt x="492" y="180"/>
                    </a:lnTo>
                    <a:lnTo>
                      <a:pt x="498" y="180"/>
                    </a:lnTo>
                    <a:lnTo>
                      <a:pt x="504" y="180"/>
                    </a:lnTo>
                    <a:lnTo>
                      <a:pt x="510" y="180"/>
                    </a:lnTo>
                    <a:lnTo>
                      <a:pt x="516" y="180"/>
                    </a:lnTo>
                    <a:lnTo>
                      <a:pt x="516" y="174"/>
                    </a:lnTo>
                    <a:lnTo>
                      <a:pt x="522" y="174"/>
                    </a:lnTo>
                    <a:lnTo>
                      <a:pt x="528" y="168"/>
                    </a:lnTo>
                    <a:lnTo>
                      <a:pt x="528" y="162"/>
                    </a:lnTo>
                    <a:lnTo>
                      <a:pt x="534" y="162"/>
                    </a:lnTo>
                    <a:lnTo>
                      <a:pt x="534" y="168"/>
                    </a:lnTo>
                    <a:lnTo>
                      <a:pt x="528" y="168"/>
                    </a:lnTo>
                    <a:lnTo>
                      <a:pt x="528" y="174"/>
                    </a:lnTo>
                    <a:lnTo>
                      <a:pt x="522" y="174"/>
                    </a:lnTo>
                    <a:lnTo>
                      <a:pt x="522" y="180"/>
                    </a:lnTo>
                    <a:lnTo>
                      <a:pt x="516" y="180"/>
                    </a:lnTo>
                    <a:lnTo>
                      <a:pt x="510" y="186"/>
                    </a:lnTo>
                    <a:lnTo>
                      <a:pt x="504" y="186"/>
                    </a:lnTo>
                    <a:lnTo>
                      <a:pt x="498" y="186"/>
                    </a:lnTo>
                    <a:lnTo>
                      <a:pt x="492" y="186"/>
                    </a:lnTo>
                    <a:lnTo>
                      <a:pt x="486" y="186"/>
                    </a:lnTo>
                    <a:lnTo>
                      <a:pt x="480" y="186"/>
                    </a:lnTo>
                    <a:lnTo>
                      <a:pt x="474" y="186"/>
                    </a:lnTo>
                    <a:lnTo>
                      <a:pt x="468" y="186"/>
                    </a:lnTo>
                    <a:lnTo>
                      <a:pt x="462" y="186"/>
                    </a:lnTo>
                    <a:lnTo>
                      <a:pt x="444" y="186"/>
                    </a:lnTo>
                    <a:lnTo>
                      <a:pt x="432" y="186"/>
                    </a:lnTo>
                    <a:lnTo>
                      <a:pt x="426" y="180"/>
                    </a:lnTo>
                    <a:lnTo>
                      <a:pt x="420" y="180"/>
                    </a:lnTo>
                    <a:lnTo>
                      <a:pt x="414" y="180"/>
                    </a:lnTo>
                    <a:lnTo>
                      <a:pt x="408" y="180"/>
                    </a:lnTo>
                    <a:lnTo>
                      <a:pt x="402" y="180"/>
                    </a:lnTo>
                    <a:lnTo>
                      <a:pt x="396" y="180"/>
                    </a:lnTo>
                    <a:lnTo>
                      <a:pt x="384" y="180"/>
                    </a:lnTo>
                    <a:lnTo>
                      <a:pt x="378" y="180"/>
                    </a:lnTo>
                    <a:lnTo>
                      <a:pt x="372" y="180"/>
                    </a:lnTo>
                    <a:lnTo>
                      <a:pt x="360" y="174"/>
                    </a:lnTo>
                    <a:lnTo>
                      <a:pt x="354" y="174"/>
                    </a:lnTo>
                    <a:lnTo>
                      <a:pt x="348" y="174"/>
                    </a:lnTo>
                    <a:lnTo>
                      <a:pt x="330" y="174"/>
                    </a:lnTo>
                    <a:lnTo>
                      <a:pt x="318" y="168"/>
                    </a:lnTo>
                    <a:lnTo>
                      <a:pt x="300" y="168"/>
                    </a:lnTo>
                    <a:lnTo>
                      <a:pt x="288" y="162"/>
                    </a:lnTo>
                    <a:lnTo>
                      <a:pt x="258" y="162"/>
                    </a:lnTo>
                    <a:lnTo>
                      <a:pt x="228" y="156"/>
                    </a:lnTo>
                    <a:lnTo>
                      <a:pt x="210" y="150"/>
                    </a:lnTo>
                    <a:lnTo>
                      <a:pt x="192" y="150"/>
                    </a:lnTo>
                    <a:lnTo>
                      <a:pt x="180" y="144"/>
                    </a:lnTo>
                    <a:lnTo>
                      <a:pt x="162" y="144"/>
                    </a:lnTo>
                    <a:lnTo>
                      <a:pt x="156" y="144"/>
                    </a:lnTo>
                    <a:lnTo>
                      <a:pt x="150" y="144"/>
                    </a:lnTo>
                    <a:lnTo>
                      <a:pt x="144" y="144"/>
                    </a:lnTo>
                    <a:lnTo>
                      <a:pt x="138" y="144"/>
                    </a:lnTo>
                    <a:lnTo>
                      <a:pt x="132" y="144"/>
                    </a:lnTo>
                    <a:lnTo>
                      <a:pt x="126" y="144"/>
                    </a:lnTo>
                    <a:lnTo>
                      <a:pt x="120" y="144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96" y="150"/>
                    </a:lnTo>
                    <a:lnTo>
                      <a:pt x="90" y="150"/>
                    </a:lnTo>
                    <a:lnTo>
                      <a:pt x="84" y="150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2" y="156"/>
                    </a:lnTo>
                    <a:lnTo>
                      <a:pt x="72" y="162"/>
                    </a:lnTo>
                    <a:lnTo>
                      <a:pt x="66" y="162"/>
                    </a:lnTo>
                    <a:lnTo>
                      <a:pt x="66" y="156"/>
                    </a:lnTo>
                    <a:lnTo>
                      <a:pt x="66" y="150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78" y="138"/>
                    </a:lnTo>
                    <a:lnTo>
                      <a:pt x="78" y="132"/>
                    </a:lnTo>
                    <a:lnTo>
                      <a:pt x="84" y="132"/>
                    </a:lnTo>
                    <a:lnTo>
                      <a:pt x="84" y="126"/>
                    </a:lnTo>
                    <a:lnTo>
                      <a:pt x="90" y="120"/>
                    </a:lnTo>
                    <a:lnTo>
                      <a:pt x="102" y="114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38" y="78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14" y="60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6" y="12"/>
                    </a:lnTo>
                    <a:lnTo>
                      <a:pt x="252" y="18"/>
                    </a:lnTo>
                    <a:lnTo>
                      <a:pt x="258" y="18"/>
                    </a:lnTo>
                    <a:lnTo>
                      <a:pt x="264" y="18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9760" y="480960"/>
                <a:ext cx="40680" cy="1548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0"/>
                    </a:moveTo>
                    <a:lnTo>
                      <a:pt x="42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65880" y="597240"/>
                <a:ext cx="70200" cy="540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6"/>
                    </a:move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153160" y="65160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65880" y="644040"/>
                <a:ext cx="34920" cy="309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6"/>
                    </a:move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8640" y="581760"/>
                <a:ext cx="64440" cy="309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12"/>
                    </a:moveTo>
                    <a:lnTo>
                      <a:pt x="66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54280" y="32868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lticmd"/>
                </a:rPr>
                <a:t>Selat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38360" y="1457280"/>
            <a:ext cx="88560" cy="93600"/>
            <a:chOff x="738360" y="1457280"/>
            <a:chExt cx="88560" cy="93600"/>
          </a:xfrm>
        </p:grpSpPr>
        <p:sp>
          <p:nvSpPr>
            <p:cNvPr id="373" name=""/>
            <p:cNvSpPr/>
            <p:nvPr/>
          </p:nvSpPr>
          <p:spPr>
            <a:xfrm>
              <a:off x="738360" y="145728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8360" y="153216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82640" y="1457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8360" y="1457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685880" y="1909800"/>
            <a:ext cx="88920" cy="93600"/>
            <a:chOff x="1685880" y="1909800"/>
            <a:chExt cx="88920" cy="93600"/>
          </a:xfrm>
        </p:grpSpPr>
        <p:sp>
          <p:nvSpPr>
            <p:cNvPr id="378" name=""/>
            <p:cNvSpPr/>
            <p:nvPr/>
          </p:nvSpPr>
          <p:spPr>
            <a:xfrm>
              <a:off x="1685880" y="1909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85880" y="1984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0160" y="1909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685880" y="1909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38400" y="1657440"/>
            <a:ext cx="88920" cy="93600"/>
            <a:chOff x="3038400" y="1657440"/>
            <a:chExt cx="88920" cy="93600"/>
          </a:xfrm>
        </p:grpSpPr>
        <p:sp>
          <p:nvSpPr>
            <p:cNvPr id="383" name=""/>
            <p:cNvSpPr/>
            <p:nvPr/>
          </p:nvSpPr>
          <p:spPr>
            <a:xfrm>
              <a:off x="3038400" y="1657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38400" y="1732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2680" y="165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38400" y="165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276720" y="1919160"/>
            <a:ext cx="88920" cy="93960"/>
            <a:chOff x="3276720" y="1919160"/>
            <a:chExt cx="88920" cy="93960"/>
          </a:xfrm>
        </p:grpSpPr>
        <p:sp>
          <p:nvSpPr>
            <p:cNvPr id="388" name=""/>
            <p:cNvSpPr/>
            <p:nvPr/>
          </p:nvSpPr>
          <p:spPr>
            <a:xfrm>
              <a:off x="3276720" y="1919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1994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21000" y="19191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76720" y="19191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514680" y="985680"/>
            <a:ext cx="88920" cy="93960"/>
            <a:chOff x="3514680" y="985680"/>
            <a:chExt cx="88920" cy="93960"/>
          </a:xfrm>
        </p:grpSpPr>
        <p:sp>
          <p:nvSpPr>
            <p:cNvPr id="393" name=""/>
            <p:cNvSpPr/>
            <p:nvPr/>
          </p:nvSpPr>
          <p:spPr>
            <a:xfrm>
              <a:off x="3514680" y="98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14680" y="1060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58960" y="985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14680" y="985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172040" y="1871640"/>
            <a:ext cx="88920" cy="93600"/>
            <a:chOff x="4172040" y="1871640"/>
            <a:chExt cx="88920" cy="93600"/>
          </a:xfrm>
        </p:grpSpPr>
        <p:sp>
          <p:nvSpPr>
            <p:cNvPr id="398" name=""/>
            <p:cNvSpPr/>
            <p:nvPr/>
          </p:nvSpPr>
          <p:spPr>
            <a:xfrm>
              <a:off x="4172040" y="1871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72040" y="19465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6320" y="187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72040" y="187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648320" y="1676520"/>
            <a:ext cx="88920" cy="93600"/>
            <a:chOff x="4648320" y="1676520"/>
            <a:chExt cx="88920" cy="93600"/>
          </a:xfrm>
        </p:grpSpPr>
        <p:sp>
          <p:nvSpPr>
            <p:cNvPr id="403" name=""/>
            <p:cNvSpPr/>
            <p:nvPr/>
          </p:nvSpPr>
          <p:spPr>
            <a:xfrm>
              <a:off x="4648320" y="16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8320" y="175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9260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832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419720" y="1676520"/>
            <a:ext cx="88920" cy="93600"/>
            <a:chOff x="4419720" y="1676520"/>
            <a:chExt cx="88920" cy="93600"/>
          </a:xfrm>
        </p:grpSpPr>
        <p:sp>
          <p:nvSpPr>
            <p:cNvPr id="408" name=""/>
            <p:cNvSpPr/>
            <p:nvPr/>
          </p:nvSpPr>
          <p:spPr>
            <a:xfrm>
              <a:off x="4419720" y="16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19720" y="175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6400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1972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419720" y="2590920"/>
            <a:ext cx="88920" cy="93600"/>
            <a:chOff x="4419720" y="2590920"/>
            <a:chExt cx="88920" cy="93600"/>
          </a:xfrm>
        </p:grpSpPr>
        <p:sp>
          <p:nvSpPr>
            <p:cNvPr id="413" name=""/>
            <p:cNvSpPr/>
            <p:nvPr/>
          </p:nvSpPr>
          <p:spPr>
            <a:xfrm>
              <a:off x="4419720" y="2590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19720" y="2665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64000" y="2590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19720" y="2590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105520" y="1905120"/>
            <a:ext cx="88920" cy="93600"/>
            <a:chOff x="5105520" y="1905120"/>
            <a:chExt cx="88920" cy="93600"/>
          </a:xfrm>
        </p:grpSpPr>
        <p:sp>
          <p:nvSpPr>
            <p:cNvPr id="418" name=""/>
            <p:cNvSpPr/>
            <p:nvPr/>
          </p:nvSpPr>
          <p:spPr>
            <a:xfrm>
              <a:off x="51055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1055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1498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055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334120" y="1905120"/>
            <a:ext cx="88920" cy="93600"/>
            <a:chOff x="5334120" y="1905120"/>
            <a:chExt cx="88920" cy="93600"/>
          </a:xfrm>
        </p:grpSpPr>
        <p:sp>
          <p:nvSpPr>
            <p:cNvPr id="423" name=""/>
            <p:cNvSpPr/>
            <p:nvPr/>
          </p:nvSpPr>
          <p:spPr>
            <a:xfrm>
              <a:off x="53341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84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41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867280" y="1447920"/>
            <a:ext cx="88920" cy="93600"/>
            <a:chOff x="5867280" y="1447920"/>
            <a:chExt cx="88920" cy="93600"/>
          </a:xfrm>
        </p:grpSpPr>
        <p:sp>
          <p:nvSpPr>
            <p:cNvPr id="428" name=""/>
            <p:cNvSpPr/>
            <p:nvPr/>
          </p:nvSpPr>
          <p:spPr>
            <a:xfrm>
              <a:off x="5867280" y="1447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7280" y="1522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1156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6728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791320" y="914400"/>
            <a:ext cx="88920" cy="93600"/>
            <a:chOff x="5791320" y="914400"/>
            <a:chExt cx="88920" cy="93600"/>
          </a:xfrm>
        </p:grpSpPr>
        <p:sp>
          <p:nvSpPr>
            <p:cNvPr id="433" name=""/>
            <p:cNvSpPr/>
            <p:nvPr/>
          </p:nvSpPr>
          <p:spPr>
            <a:xfrm>
              <a:off x="5791320" y="914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91320" y="989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35600" y="91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91320" y="91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067440" y="914400"/>
            <a:ext cx="88920" cy="93600"/>
            <a:chOff x="6067440" y="914400"/>
            <a:chExt cx="88920" cy="93600"/>
          </a:xfrm>
        </p:grpSpPr>
        <p:sp>
          <p:nvSpPr>
            <p:cNvPr id="438" name=""/>
            <p:cNvSpPr/>
            <p:nvPr/>
          </p:nvSpPr>
          <p:spPr>
            <a:xfrm>
              <a:off x="6067440" y="914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67440" y="989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11720" y="91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67440" y="91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696080" y="1371600"/>
            <a:ext cx="88920" cy="93600"/>
            <a:chOff x="7696080" y="1371600"/>
            <a:chExt cx="88920" cy="93600"/>
          </a:xfrm>
        </p:grpSpPr>
        <p:sp>
          <p:nvSpPr>
            <p:cNvPr id="443" name=""/>
            <p:cNvSpPr/>
            <p:nvPr/>
          </p:nvSpPr>
          <p:spPr>
            <a:xfrm>
              <a:off x="7696080" y="1371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96080" y="1446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4036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9608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162920" y="990720"/>
            <a:ext cx="88920" cy="93600"/>
            <a:chOff x="7162920" y="990720"/>
            <a:chExt cx="88920" cy="93600"/>
          </a:xfrm>
        </p:grpSpPr>
        <p:sp>
          <p:nvSpPr>
            <p:cNvPr id="448" name=""/>
            <p:cNvSpPr/>
            <p:nvPr/>
          </p:nvSpPr>
          <p:spPr>
            <a:xfrm>
              <a:off x="71629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629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072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629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7772400" y="2133720"/>
            <a:ext cx="88920" cy="93600"/>
            <a:chOff x="7772400" y="2133720"/>
            <a:chExt cx="88920" cy="93600"/>
          </a:xfrm>
        </p:grpSpPr>
        <p:sp>
          <p:nvSpPr>
            <p:cNvPr id="453" name=""/>
            <p:cNvSpPr/>
            <p:nvPr/>
          </p:nvSpPr>
          <p:spPr>
            <a:xfrm>
              <a:off x="777240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7240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1668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24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934320" y="2133720"/>
            <a:ext cx="88920" cy="93600"/>
            <a:chOff x="6934320" y="2133720"/>
            <a:chExt cx="88920" cy="93600"/>
          </a:xfrm>
        </p:grpSpPr>
        <p:sp>
          <p:nvSpPr>
            <p:cNvPr id="458" name=""/>
            <p:cNvSpPr/>
            <p:nvPr/>
          </p:nvSpPr>
          <p:spPr>
            <a:xfrm>
              <a:off x="693432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3432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786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3432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781680" y="1600200"/>
            <a:ext cx="88920" cy="93600"/>
            <a:chOff x="6781680" y="1600200"/>
            <a:chExt cx="88920" cy="93600"/>
          </a:xfrm>
        </p:grpSpPr>
        <p:sp>
          <p:nvSpPr>
            <p:cNvPr id="463" name=""/>
            <p:cNvSpPr/>
            <p:nvPr/>
          </p:nvSpPr>
          <p:spPr>
            <a:xfrm>
              <a:off x="6781680" y="1600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81680" y="1675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25960" y="160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81680" y="160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934320" y="3048120"/>
            <a:ext cx="88920" cy="93600"/>
            <a:chOff x="6934320" y="3048120"/>
            <a:chExt cx="88920" cy="93600"/>
          </a:xfrm>
        </p:grpSpPr>
        <p:sp>
          <p:nvSpPr>
            <p:cNvPr id="468" name=""/>
            <p:cNvSpPr/>
            <p:nvPr/>
          </p:nvSpPr>
          <p:spPr>
            <a:xfrm>
              <a:off x="6934320" y="3048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34320" y="3123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78600" y="3048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34320" y="3048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248520" y="2819520"/>
            <a:ext cx="88920" cy="93600"/>
            <a:chOff x="6248520" y="2819520"/>
            <a:chExt cx="88920" cy="93600"/>
          </a:xfrm>
        </p:grpSpPr>
        <p:sp>
          <p:nvSpPr>
            <p:cNvPr id="473" name=""/>
            <p:cNvSpPr/>
            <p:nvPr/>
          </p:nvSpPr>
          <p:spPr>
            <a:xfrm>
              <a:off x="6248520" y="2819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8520" y="2894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92800" y="2819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48520" y="2819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019920" y="3048120"/>
            <a:ext cx="88920" cy="93600"/>
            <a:chOff x="6019920" y="3048120"/>
            <a:chExt cx="88920" cy="93600"/>
          </a:xfrm>
        </p:grpSpPr>
        <p:sp>
          <p:nvSpPr>
            <p:cNvPr id="478" name=""/>
            <p:cNvSpPr/>
            <p:nvPr/>
          </p:nvSpPr>
          <p:spPr>
            <a:xfrm>
              <a:off x="6019920" y="3048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019920" y="3123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64200" y="3048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3048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019920" y="3429000"/>
            <a:ext cx="88920" cy="93600"/>
            <a:chOff x="6019920" y="3429000"/>
            <a:chExt cx="88920" cy="93600"/>
          </a:xfrm>
        </p:grpSpPr>
        <p:sp>
          <p:nvSpPr>
            <p:cNvPr id="483" name=""/>
            <p:cNvSpPr/>
            <p:nvPr/>
          </p:nvSpPr>
          <p:spPr>
            <a:xfrm>
              <a:off x="6019920" y="3429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19920" y="3503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64200" y="342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19920" y="342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705720" y="3657600"/>
            <a:ext cx="88920" cy="93600"/>
            <a:chOff x="6705720" y="3657600"/>
            <a:chExt cx="88920" cy="93600"/>
          </a:xfrm>
        </p:grpSpPr>
        <p:sp>
          <p:nvSpPr>
            <p:cNvPr id="488" name=""/>
            <p:cNvSpPr/>
            <p:nvPr/>
          </p:nvSpPr>
          <p:spPr>
            <a:xfrm>
              <a:off x="6705720" y="3657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720" y="3732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50000" y="3657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05720" y="3657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86600" y="4876920"/>
            <a:ext cx="88920" cy="93600"/>
            <a:chOff x="7086600" y="4876920"/>
            <a:chExt cx="88920" cy="93600"/>
          </a:xfrm>
        </p:grpSpPr>
        <p:sp>
          <p:nvSpPr>
            <p:cNvPr id="493" name=""/>
            <p:cNvSpPr/>
            <p:nvPr/>
          </p:nvSpPr>
          <p:spPr>
            <a:xfrm>
              <a:off x="7086600" y="4876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6600" y="4951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13088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8660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7391520" y="4648320"/>
            <a:ext cx="88920" cy="93600"/>
            <a:chOff x="7391520" y="4648320"/>
            <a:chExt cx="88920" cy="93600"/>
          </a:xfrm>
        </p:grpSpPr>
        <p:sp>
          <p:nvSpPr>
            <p:cNvPr id="498" name=""/>
            <p:cNvSpPr/>
            <p:nvPr/>
          </p:nvSpPr>
          <p:spPr>
            <a:xfrm>
              <a:off x="739152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152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358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152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7391520" y="4800600"/>
            <a:ext cx="88920" cy="93600"/>
            <a:chOff x="7391520" y="4800600"/>
            <a:chExt cx="88920" cy="93600"/>
          </a:xfrm>
        </p:grpSpPr>
        <p:sp>
          <p:nvSpPr>
            <p:cNvPr id="503" name=""/>
            <p:cNvSpPr/>
            <p:nvPr/>
          </p:nvSpPr>
          <p:spPr>
            <a:xfrm>
              <a:off x="7391520" y="4800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391520" y="4875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3580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9152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248520" y="5105520"/>
            <a:ext cx="88920" cy="93600"/>
            <a:chOff x="6248520" y="5105520"/>
            <a:chExt cx="88920" cy="93600"/>
          </a:xfrm>
        </p:grpSpPr>
        <p:sp>
          <p:nvSpPr>
            <p:cNvPr id="508" name=""/>
            <p:cNvSpPr/>
            <p:nvPr/>
          </p:nvSpPr>
          <p:spPr>
            <a:xfrm>
              <a:off x="6248520" y="5105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8520" y="5180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9280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24852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626080" y="4630680"/>
            <a:ext cx="88920" cy="93600"/>
            <a:chOff x="5626080" y="4630680"/>
            <a:chExt cx="88920" cy="93600"/>
          </a:xfrm>
        </p:grpSpPr>
        <p:sp>
          <p:nvSpPr>
            <p:cNvPr id="513" name=""/>
            <p:cNvSpPr/>
            <p:nvPr/>
          </p:nvSpPr>
          <p:spPr>
            <a:xfrm>
              <a:off x="5626080" y="4630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26080" y="4705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70360" y="4630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26080" y="4630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334120" y="4191120"/>
            <a:ext cx="88920" cy="93600"/>
            <a:chOff x="5334120" y="4191120"/>
            <a:chExt cx="88920" cy="93600"/>
          </a:xfrm>
        </p:grpSpPr>
        <p:sp>
          <p:nvSpPr>
            <p:cNvPr id="518" name=""/>
            <p:cNvSpPr/>
            <p:nvPr/>
          </p:nvSpPr>
          <p:spPr>
            <a:xfrm>
              <a:off x="5334120" y="419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34120" y="4266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7840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3412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86400" y="4191120"/>
            <a:ext cx="88920" cy="93600"/>
            <a:chOff x="5486400" y="4191120"/>
            <a:chExt cx="88920" cy="93600"/>
          </a:xfrm>
        </p:grpSpPr>
        <p:sp>
          <p:nvSpPr>
            <p:cNvPr id="523" name=""/>
            <p:cNvSpPr/>
            <p:nvPr/>
          </p:nvSpPr>
          <p:spPr>
            <a:xfrm>
              <a:off x="5486400" y="419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86400" y="4266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3068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8640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620120" y="4648320"/>
            <a:ext cx="88920" cy="93600"/>
            <a:chOff x="7620120" y="4648320"/>
            <a:chExt cx="88920" cy="93600"/>
          </a:xfrm>
        </p:grpSpPr>
        <p:sp>
          <p:nvSpPr>
            <p:cNvPr id="528" name=""/>
            <p:cNvSpPr/>
            <p:nvPr/>
          </p:nvSpPr>
          <p:spPr>
            <a:xfrm>
              <a:off x="762012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2012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644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419720" y="5791320"/>
            <a:ext cx="88920" cy="93600"/>
            <a:chOff x="4419720" y="5791320"/>
            <a:chExt cx="88920" cy="93600"/>
          </a:xfrm>
        </p:grpSpPr>
        <p:sp>
          <p:nvSpPr>
            <p:cNvPr id="533" name=""/>
            <p:cNvSpPr/>
            <p:nvPr/>
          </p:nvSpPr>
          <p:spPr>
            <a:xfrm>
              <a:off x="4419720" y="5791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866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6400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72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962520" y="5791320"/>
            <a:ext cx="88920" cy="93600"/>
            <a:chOff x="3962520" y="5791320"/>
            <a:chExt cx="88920" cy="93600"/>
          </a:xfrm>
        </p:grpSpPr>
        <p:sp>
          <p:nvSpPr>
            <p:cNvPr id="538" name=""/>
            <p:cNvSpPr/>
            <p:nvPr/>
          </p:nvSpPr>
          <p:spPr>
            <a:xfrm>
              <a:off x="3962520" y="5791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62520" y="5866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0680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6252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352680" y="5334120"/>
            <a:ext cx="88920" cy="93600"/>
            <a:chOff x="3352680" y="5334120"/>
            <a:chExt cx="88920" cy="93600"/>
          </a:xfrm>
        </p:grpSpPr>
        <p:sp>
          <p:nvSpPr>
            <p:cNvPr id="543" name=""/>
            <p:cNvSpPr/>
            <p:nvPr/>
          </p:nvSpPr>
          <p:spPr>
            <a:xfrm>
              <a:off x="3352680" y="5334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52680" y="540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9696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5268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276720" y="5562720"/>
            <a:ext cx="88920" cy="93600"/>
            <a:chOff x="3276720" y="5562720"/>
            <a:chExt cx="88920" cy="93600"/>
          </a:xfrm>
        </p:grpSpPr>
        <p:sp>
          <p:nvSpPr>
            <p:cNvPr id="548" name=""/>
            <p:cNvSpPr/>
            <p:nvPr/>
          </p:nvSpPr>
          <p:spPr>
            <a:xfrm>
              <a:off x="3276720" y="5562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76720" y="5637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2100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7672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590920" y="4800600"/>
            <a:ext cx="88920" cy="93600"/>
            <a:chOff x="2590920" y="4800600"/>
            <a:chExt cx="88920" cy="93600"/>
          </a:xfrm>
        </p:grpSpPr>
        <p:sp>
          <p:nvSpPr>
            <p:cNvPr id="553" name=""/>
            <p:cNvSpPr/>
            <p:nvPr/>
          </p:nvSpPr>
          <p:spPr>
            <a:xfrm>
              <a:off x="2590920" y="4800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590920" y="4875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63520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9092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590920" y="4419720"/>
            <a:ext cx="88920" cy="93600"/>
            <a:chOff x="2590920" y="4419720"/>
            <a:chExt cx="88920" cy="93600"/>
          </a:xfrm>
        </p:grpSpPr>
        <p:sp>
          <p:nvSpPr>
            <p:cNvPr id="558" name=""/>
            <p:cNvSpPr/>
            <p:nvPr/>
          </p:nvSpPr>
          <p:spPr>
            <a:xfrm>
              <a:off x="2590920" y="4419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590920" y="4494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35200" y="4419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4419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2057400" y="4572000"/>
            <a:ext cx="88920" cy="93600"/>
            <a:chOff x="2057400" y="4572000"/>
            <a:chExt cx="88920" cy="93600"/>
          </a:xfrm>
        </p:grpSpPr>
        <p:sp>
          <p:nvSpPr>
            <p:cNvPr id="563" name=""/>
            <p:cNvSpPr/>
            <p:nvPr/>
          </p:nvSpPr>
          <p:spPr>
            <a:xfrm>
              <a:off x="2057400" y="4572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57400" y="4646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01680" y="4572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57400" y="4572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429000" y="3962520"/>
            <a:ext cx="88920" cy="93600"/>
            <a:chOff x="3429000" y="3962520"/>
            <a:chExt cx="88920" cy="93600"/>
          </a:xfrm>
        </p:grpSpPr>
        <p:sp>
          <p:nvSpPr>
            <p:cNvPr id="568" name=""/>
            <p:cNvSpPr/>
            <p:nvPr/>
          </p:nvSpPr>
          <p:spPr>
            <a:xfrm>
              <a:off x="3429000" y="3962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29000" y="4037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7328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2900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590920" y="3505320"/>
            <a:ext cx="88920" cy="93600"/>
            <a:chOff x="2590920" y="3505320"/>
            <a:chExt cx="88920" cy="93600"/>
          </a:xfrm>
        </p:grpSpPr>
        <p:sp>
          <p:nvSpPr>
            <p:cNvPr id="573" name=""/>
            <p:cNvSpPr/>
            <p:nvPr/>
          </p:nvSpPr>
          <p:spPr>
            <a:xfrm>
              <a:off x="2590920" y="3505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90920" y="3580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35200" y="350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90920" y="350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1676520" y="3733920"/>
            <a:ext cx="88920" cy="93600"/>
            <a:chOff x="1676520" y="3733920"/>
            <a:chExt cx="88920" cy="93600"/>
          </a:xfrm>
        </p:grpSpPr>
        <p:sp>
          <p:nvSpPr>
            <p:cNvPr id="578" name=""/>
            <p:cNvSpPr/>
            <p:nvPr/>
          </p:nvSpPr>
          <p:spPr>
            <a:xfrm>
              <a:off x="1676520" y="3733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76520" y="3808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20800" y="37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76520" y="37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905120" y="3733920"/>
            <a:ext cx="88920" cy="93600"/>
            <a:chOff x="1905120" y="3733920"/>
            <a:chExt cx="88920" cy="93600"/>
          </a:xfrm>
        </p:grpSpPr>
        <p:sp>
          <p:nvSpPr>
            <p:cNvPr id="583" name=""/>
            <p:cNvSpPr/>
            <p:nvPr/>
          </p:nvSpPr>
          <p:spPr>
            <a:xfrm>
              <a:off x="1905120" y="3733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05120" y="3808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49400" y="37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05120" y="37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905120" y="4191120"/>
            <a:ext cx="88920" cy="93600"/>
            <a:chOff x="1905120" y="4191120"/>
            <a:chExt cx="88920" cy="93600"/>
          </a:xfrm>
        </p:grpSpPr>
        <p:sp>
          <p:nvSpPr>
            <p:cNvPr id="588" name=""/>
            <p:cNvSpPr/>
            <p:nvPr/>
          </p:nvSpPr>
          <p:spPr>
            <a:xfrm>
              <a:off x="1905120" y="419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05120" y="4266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4940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0512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962520" y="4648320"/>
            <a:ext cx="88920" cy="93600"/>
            <a:chOff x="3962520" y="4648320"/>
            <a:chExt cx="88920" cy="93600"/>
          </a:xfrm>
        </p:grpSpPr>
        <p:sp>
          <p:nvSpPr>
            <p:cNvPr id="593" name=""/>
            <p:cNvSpPr/>
            <p:nvPr/>
          </p:nvSpPr>
          <p:spPr>
            <a:xfrm>
              <a:off x="396252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6252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068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6252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876920" y="4478400"/>
            <a:ext cx="88920" cy="93600"/>
            <a:chOff x="4876920" y="4478400"/>
            <a:chExt cx="88920" cy="93600"/>
          </a:xfrm>
        </p:grpSpPr>
        <p:sp>
          <p:nvSpPr>
            <p:cNvPr id="598" name=""/>
            <p:cNvSpPr/>
            <p:nvPr/>
          </p:nvSpPr>
          <p:spPr>
            <a:xfrm>
              <a:off x="4876920" y="4478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4553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921200" y="4478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76920" y="4478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419720" y="5105520"/>
            <a:ext cx="88920" cy="93600"/>
            <a:chOff x="4419720" y="5105520"/>
            <a:chExt cx="88920" cy="93600"/>
          </a:xfrm>
        </p:grpSpPr>
        <p:sp>
          <p:nvSpPr>
            <p:cNvPr id="603" name=""/>
            <p:cNvSpPr/>
            <p:nvPr/>
          </p:nvSpPr>
          <p:spPr>
            <a:xfrm>
              <a:off x="4419720" y="5105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419720" y="5180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6400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1972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5791320" y="5562720"/>
            <a:ext cx="95040" cy="97200"/>
            <a:chOff x="5791320" y="5562720"/>
            <a:chExt cx="95040" cy="97200"/>
          </a:xfrm>
        </p:grpSpPr>
        <p:sp>
          <p:nvSpPr>
            <p:cNvPr id="608" name=""/>
            <p:cNvSpPr/>
            <p:nvPr/>
          </p:nvSpPr>
          <p:spPr>
            <a:xfrm>
              <a:off x="5791320" y="5562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91320" y="5659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8840" y="5562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91320" y="5562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648320" y="5105520"/>
            <a:ext cx="95040" cy="97200"/>
            <a:chOff x="4648320" y="5105520"/>
            <a:chExt cx="95040" cy="97200"/>
          </a:xfrm>
        </p:grpSpPr>
        <p:sp>
          <p:nvSpPr>
            <p:cNvPr id="613" name=""/>
            <p:cNvSpPr/>
            <p:nvPr/>
          </p:nvSpPr>
          <p:spPr>
            <a:xfrm>
              <a:off x="4648320" y="5105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48320" y="5202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95840" y="5105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48320" y="5105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91320" y="4419720"/>
            <a:ext cx="95040" cy="97200"/>
            <a:chOff x="5791320" y="4419720"/>
            <a:chExt cx="95040" cy="97200"/>
          </a:xfrm>
        </p:grpSpPr>
        <p:sp>
          <p:nvSpPr>
            <p:cNvPr id="618" name=""/>
            <p:cNvSpPr/>
            <p:nvPr/>
          </p:nvSpPr>
          <p:spPr>
            <a:xfrm>
              <a:off x="5791320" y="4419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91320" y="4516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38840" y="4419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1320" y="4419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943600" y="4191120"/>
            <a:ext cx="95400" cy="97200"/>
            <a:chOff x="5943600" y="4191120"/>
            <a:chExt cx="95400" cy="97200"/>
          </a:xfrm>
        </p:grpSpPr>
        <p:sp>
          <p:nvSpPr>
            <p:cNvPr id="623" name=""/>
            <p:cNvSpPr/>
            <p:nvPr/>
          </p:nvSpPr>
          <p:spPr>
            <a:xfrm>
              <a:off x="5943600" y="4191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943600" y="4287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991480" y="41911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43600" y="41911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391520" y="4419720"/>
            <a:ext cx="95040" cy="97200"/>
            <a:chOff x="7391520" y="4419720"/>
            <a:chExt cx="95040" cy="97200"/>
          </a:xfrm>
        </p:grpSpPr>
        <p:sp>
          <p:nvSpPr>
            <p:cNvPr id="628" name=""/>
            <p:cNvSpPr/>
            <p:nvPr/>
          </p:nvSpPr>
          <p:spPr>
            <a:xfrm>
              <a:off x="7391520" y="4419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1520" y="4516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39040" y="4419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1520" y="4419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77120" y="4572000"/>
            <a:ext cx="95040" cy="97200"/>
            <a:chOff x="6477120" y="4572000"/>
            <a:chExt cx="95040" cy="97200"/>
          </a:xfrm>
        </p:grpSpPr>
        <p:sp>
          <p:nvSpPr>
            <p:cNvPr id="633" name=""/>
            <p:cNvSpPr/>
            <p:nvPr/>
          </p:nvSpPr>
          <p:spPr>
            <a:xfrm>
              <a:off x="6477120" y="4572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77120" y="46688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24640" y="45720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77120" y="4572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648320" y="4191120"/>
            <a:ext cx="95040" cy="97200"/>
            <a:chOff x="4648320" y="4191120"/>
            <a:chExt cx="95040" cy="97200"/>
          </a:xfrm>
        </p:grpSpPr>
        <p:sp>
          <p:nvSpPr>
            <p:cNvPr id="638" name=""/>
            <p:cNvSpPr/>
            <p:nvPr/>
          </p:nvSpPr>
          <p:spPr>
            <a:xfrm>
              <a:off x="4648320" y="4191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48320" y="4287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95840" y="4191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48320" y="4191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419720" y="4419720"/>
            <a:ext cx="95040" cy="97200"/>
            <a:chOff x="4419720" y="4419720"/>
            <a:chExt cx="95040" cy="97200"/>
          </a:xfrm>
        </p:grpSpPr>
        <p:sp>
          <p:nvSpPr>
            <p:cNvPr id="643" name=""/>
            <p:cNvSpPr/>
            <p:nvPr/>
          </p:nvSpPr>
          <p:spPr>
            <a:xfrm>
              <a:off x="4419720" y="4419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19720" y="4516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67240" y="4419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19720" y="4419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962520" y="5334120"/>
            <a:ext cx="95040" cy="97200"/>
            <a:chOff x="3962520" y="5334120"/>
            <a:chExt cx="95040" cy="97200"/>
          </a:xfrm>
        </p:grpSpPr>
        <p:sp>
          <p:nvSpPr>
            <p:cNvPr id="648" name=""/>
            <p:cNvSpPr/>
            <p:nvPr/>
          </p:nvSpPr>
          <p:spPr>
            <a:xfrm>
              <a:off x="3962520" y="5334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430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10040" y="5334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62520" y="5334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934320" y="4191120"/>
            <a:ext cx="95040" cy="97200"/>
            <a:chOff x="6934320" y="4191120"/>
            <a:chExt cx="95040" cy="97200"/>
          </a:xfrm>
        </p:grpSpPr>
        <p:sp>
          <p:nvSpPr>
            <p:cNvPr id="653" name=""/>
            <p:cNvSpPr/>
            <p:nvPr/>
          </p:nvSpPr>
          <p:spPr>
            <a:xfrm>
              <a:off x="6934320" y="4191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934320" y="4287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81840" y="4191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4191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391520" y="3733920"/>
            <a:ext cx="95040" cy="97200"/>
            <a:chOff x="7391520" y="3733920"/>
            <a:chExt cx="95040" cy="97200"/>
          </a:xfrm>
        </p:grpSpPr>
        <p:sp>
          <p:nvSpPr>
            <p:cNvPr id="658" name=""/>
            <p:cNvSpPr/>
            <p:nvPr/>
          </p:nvSpPr>
          <p:spPr>
            <a:xfrm>
              <a:off x="7391520" y="3733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91520" y="3830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39040" y="3733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391520" y="3733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477120" y="3657600"/>
            <a:ext cx="95040" cy="97200"/>
            <a:chOff x="6477120" y="3657600"/>
            <a:chExt cx="95040" cy="97200"/>
          </a:xfrm>
        </p:grpSpPr>
        <p:sp>
          <p:nvSpPr>
            <p:cNvPr id="663" name=""/>
            <p:cNvSpPr/>
            <p:nvPr/>
          </p:nvSpPr>
          <p:spPr>
            <a:xfrm>
              <a:off x="6477120" y="3657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77120" y="3754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24640" y="3657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477120" y="3657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876920" y="5791320"/>
            <a:ext cx="95040" cy="97200"/>
            <a:chOff x="4876920" y="5791320"/>
            <a:chExt cx="95040" cy="97200"/>
          </a:xfrm>
        </p:grpSpPr>
        <p:sp>
          <p:nvSpPr>
            <p:cNvPr id="668" name=""/>
            <p:cNvSpPr/>
            <p:nvPr/>
          </p:nvSpPr>
          <p:spPr>
            <a:xfrm>
              <a:off x="4876920" y="5791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5888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24440" y="5791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5791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962520" y="4191120"/>
            <a:ext cx="95040" cy="97200"/>
            <a:chOff x="3962520" y="4191120"/>
            <a:chExt cx="95040" cy="97200"/>
          </a:xfrm>
        </p:grpSpPr>
        <p:sp>
          <p:nvSpPr>
            <p:cNvPr id="673" name=""/>
            <p:cNvSpPr/>
            <p:nvPr/>
          </p:nvSpPr>
          <p:spPr>
            <a:xfrm>
              <a:off x="3962520" y="4191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62520" y="4287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10040" y="4191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4191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857840" y="4876920"/>
            <a:ext cx="95040" cy="97200"/>
            <a:chOff x="4857840" y="4876920"/>
            <a:chExt cx="95040" cy="97200"/>
          </a:xfrm>
        </p:grpSpPr>
        <p:sp>
          <p:nvSpPr>
            <p:cNvPr id="678" name=""/>
            <p:cNvSpPr/>
            <p:nvPr/>
          </p:nvSpPr>
          <p:spPr>
            <a:xfrm>
              <a:off x="4857840" y="4876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57840" y="4973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05360" y="4876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57840" y="4876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5410080" y="5791320"/>
            <a:ext cx="95400" cy="97200"/>
            <a:chOff x="5410080" y="5791320"/>
            <a:chExt cx="95400" cy="97200"/>
          </a:xfrm>
        </p:grpSpPr>
        <p:sp>
          <p:nvSpPr>
            <p:cNvPr id="683" name=""/>
            <p:cNvSpPr/>
            <p:nvPr/>
          </p:nvSpPr>
          <p:spPr>
            <a:xfrm>
              <a:off x="5410080" y="5791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10080" y="5888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57960" y="57913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10080" y="5791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105520" y="3429000"/>
            <a:ext cx="95040" cy="97200"/>
            <a:chOff x="5105520" y="3429000"/>
            <a:chExt cx="95040" cy="97200"/>
          </a:xfrm>
        </p:grpSpPr>
        <p:sp>
          <p:nvSpPr>
            <p:cNvPr id="688" name=""/>
            <p:cNvSpPr/>
            <p:nvPr/>
          </p:nvSpPr>
          <p:spPr>
            <a:xfrm>
              <a:off x="5105520" y="3429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105520" y="35258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153040" y="34290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05520" y="3429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038480" y="3657600"/>
            <a:ext cx="95400" cy="97200"/>
            <a:chOff x="4038480" y="3657600"/>
            <a:chExt cx="95400" cy="97200"/>
          </a:xfrm>
        </p:grpSpPr>
        <p:sp>
          <p:nvSpPr>
            <p:cNvPr id="693" name=""/>
            <p:cNvSpPr/>
            <p:nvPr/>
          </p:nvSpPr>
          <p:spPr>
            <a:xfrm>
              <a:off x="4038480" y="36576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38480" y="3754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086360" y="3657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38480" y="3657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5105520" y="2514600"/>
            <a:ext cx="95040" cy="97200"/>
            <a:chOff x="5105520" y="2514600"/>
            <a:chExt cx="95040" cy="97200"/>
          </a:xfrm>
        </p:grpSpPr>
        <p:sp>
          <p:nvSpPr>
            <p:cNvPr id="698" name=""/>
            <p:cNvSpPr/>
            <p:nvPr/>
          </p:nvSpPr>
          <p:spPr>
            <a:xfrm>
              <a:off x="5105520" y="2514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05520" y="2611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153040" y="2514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05520" y="2514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191120" y="2133720"/>
            <a:ext cx="95040" cy="97200"/>
            <a:chOff x="4191120" y="2133720"/>
            <a:chExt cx="95040" cy="97200"/>
          </a:xfrm>
        </p:grpSpPr>
        <p:sp>
          <p:nvSpPr>
            <p:cNvPr id="703" name=""/>
            <p:cNvSpPr/>
            <p:nvPr/>
          </p:nvSpPr>
          <p:spPr>
            <a:xfrm>
              <a:off x="4191120" y="2133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91120" y="2230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38640" y="2133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91120" y="2133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876920" y="1371600"/>
            <a:ext cx="95040" cy="97200"/>
            <a:chOff x="4876920" y="1371600"/>
            <a:chExt cx="95040" cy="97200"/>
          </a:xfrm>
        </p:grpSpPr>
        <p:sp>
          <p:nvSpPr>
            <p:cNvPr id="708" name=""/>
            <p:cNvSpPr/>
            <p:nvPr/>
          </p:nvSpPr>
          <p:spPr>
            <a:xfrm>
              <a:off x="4876920" y="1371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1468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24440" y="1371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76920" y="1371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638680" y="1219320"/>
            <a:ext cx="95400" cy="97200"/>
            <a:chOff x="5638680" y="1219320"/>
            <a:chExt cx="95400" cy="97200"/>
          </a:xfrm>
        </p:grpSpPr>
        <p:sp>
          <p:nvSpPr>
            <p:cNvPr id="713" name=""/>
            <p:cNvSpPr/>
            <p:nvPr/>
          </p:nvSpPr>
          <p:spPr>
            <a:xfrm>
              <a:off x="5638680" y="1219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38680" y="131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86560" y="12193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38680" y="1219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934320" y="914400"/>
            <a:ext cx="95040" cy="97200"/>
            <a:chOff x="6934320" y="914400"/>
            <a:chExt cx="95040" cy="97200"/>
          </a:xfrm>
        </p:grpSpPr>
        <p:sp>
          <p:nvSpPr>
            <p:cNvPr id="718" name=""/>
            <p:cNvSpPr/>
            <p:nvPr/>
          </p:nvSpPr>
          <p:spPr>
            <a:xfrm>
              <a:off x="6934320" y="914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34320" y="1011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81840" y="9144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34320" y="914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2133720" y="1676520"/>
            <a:ext cx="95040" cy="97200"/>
            <a:chOff x="2133720" y="1676520"/>
            <a:chExt cx="95040" cy="97200"/>
          </a:xfrm>
        </p:grpSpPr>
        <p:sp>
          <p:nvSpPr>
            <p:cNvPr id="723" name=""/>
            <p:cNvSpPr/>
            <p:nvPr/>
          </p:nvSpPr>
          <p:spPr>
            <a:xfrm>
              <a:off x="2133720" y="1676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3720" y="1773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81240" y="1676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1676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2362320" y="2341440"/>
            <a:ext cx="95040" cy="97200"/>
            <a:chOff x="2362320" y="2341440"/>
            <a:chExt cx="95040" cy="97200"/>
          </a:xfrm>
        </p:grpSpPr>
        <p:sp>
          <p:nvSpPr>
            <p:cNvPr id="728" name=""/>
            <p:cNvSpPr/>
            <p:nvPr/>
          </p:nvSpPr>
          <p:spPr>
            <a:xfrm>
              <a:off x="2362320" y="2341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62320" y="24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09840" y="2341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2320" y="23414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790800" y="2133720"/>
            <a:ext cx="95400" cy="97200"/>
            <a:chOff x="3790800" y="2133720"/>
            <a:chExt cx="95400" cy="97200"/>
          </a:xfrm>
        </p:grpSpPr>
        <p:sp>
          <p:nvSpPr>
            <p:cNvPr id="733" name=""/>
            <p:cNvSpPr/>
            <p:nvPr/>
          </p:nvSpPr>
          <p:spPr>
            <a:xfrm>
              <a:off x="3790800" y="2133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90800" y="2230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838680" y="2133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790800" y="2133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105520" y="1676520"/>
            <a:ext cx="95040" cy="97200"/>
            <a:chOff x="5105520" y="1676520"/>
            <a:chExt cx="95040" cy="97200"/>
          </a:xfrm>
        </p:grpSpPr>
        <p:sp>
          <p:nvSpPr>
            <p:cNvPr id="738" name=""/>
            <p:cNvSpPr/>
            <p:nvPr/>
          </p:nvSpPr>
          <p:spPr>
            <a:xfrm>
              <a:off x="5105520" y="1676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105520" y="1773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53040" y="1676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1676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3733920" y="1447920"/>
            <a:ext cx="95040" cy="97200"/>
            <a:chOff x="3733920" y="1447920"/>
            <a:chExt cx="95040" cy="97200"/>
          </a:xfrm>
        </p:grpSpPr>
        <p:sp>
          <p:nvSpPr>
            <p:cNvPr id="743" name=""/>
            <p:cNvSpPr/>
            <p:nvPr/>
          </p:nvSpPr>
          <p:spPr>
            <a:xfrm>
              <a:off x="3733920" y="1447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33920" y="1544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81440" y="1447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33920" y="1447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5105520" y="2819520"/>
            <a:ext cx="95040" cy="97200"/>
            <a:chOff x="5105520" y="2819520"/>
            <a:chExt cx="95040" cy="97200"/>
          </a:xfrm>
        </p:grpSpPr>
        <p:sp>
          <p:nvSpPr>
            <p:cNvPr id="748" name=""/>
            <p:cNvSpPr/>
            <p:nvPr/>
          </p:nvSpPr>
          <p:spPr>
            <a:xfrm>
              <a:off x="5105520" y="2819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05520" y="2916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53040" y="2819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05520" y="2819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876920" y="3048120"/>
            <a:ext cx="95040" cy="97200"/>
            <a:chOff x="4876920" y="3048120"/>
            <a:chExt cx="95040" cy="97200"/>
          </a:xfrm>
        </p:grpSpPr>
        <p:sp>
          <p:nvSpPr>
            <p:cNvPr id="753" name=""/>
            <p:cNvSpPr/>
            <p:nvPr/>
          </p:nvSpPr>
          <p:spPr>
            <a:xfrm>
              <a:off x="4876920" y="3048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76920" y="3144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24440" y="3048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76920" y="3048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419720" y="3962520"/>
            <a:ext cx="95040" cy="97200"/>
            <a:chOff x="4419720" y="3962520"/>
            <a:chExt cx="95040" cy="97200"/>
          </a:xfrm>
        </p:grpSpPr>
        <p:sp>
          <p:nvSpPr>
            <p:cNvPr id="758" name=""/>
            <p:cNvSpPr/>
            <p:nvPr/>
          </p:nvSpPr>
          <p:spPr>
            <a:xfrm>
              <a:off x="4419720" y="3962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19720" y="4059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467240" y="3962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19720" y="3962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3048120" y="3048120"/>
            <a:ext cx="95040" cy="97200"/>
            <a:chOff x="3048120" y="3048120"/>
            <a:chExt cx="95040" cy="97200"/>
          </a:xfrm>
        </p:grpSpPr>
        <p:sp>
          <p:nvSpPr>
            <p:cNvPr id="763" name=""/>
            <p:cNvSpPr/>
            <p:nvPr/>
          </p:nvSpPr>
          <p:spPr>
            <a:xfrm>
              <a:off x="3048120" y="3048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48120" y="3144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95640" y="3048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3048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200400" y="2895480"/>
            <a:ext cx="95400" cy="97200"/>
            <a:chOff x="3200400" y="2895480"/>
            <a:chExt cx="95400" cy="97200"/>
          </a:xfrm>
        </p:grpSpPr>
        <p:sp>
          <p:nvSpPr>
            <p:cNvPr id="768" name=""/>
            <p:cNvSpPr/>
            <p:nvPr/>
          </p:nvSpPr>
          <p:spPr>
            <a:xfrm>
              <a:off x="3200400" y="2895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00400" y="2992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248280" y="2895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00400" y="2895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191120" y="5334120"/>
            <a:ext cx="95040" cy="97200"/>
            <a:chOff x="4191120" y="5334120"/>
            <a:chExt cx="95040" cy="97200"/>
          </a:xfrm>
        </p:grpSpPr>
        <p:sp>
          <p:nvSpPr>
            <p:cNvPr id="773" name=""/>
            <p:cNvSpPr/>
            <p:nvPr/>
          </p:nvSpPr>
          <p:spPr>
            <a:xfrm>
              <a:off x="4191120" y="5334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91120" y="5430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38640" y="5334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191120" y="5334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019920" y="5334120"/>
            <a:ext cx="95040" cy="97200"/>
            <a:chOff x="6019920" y="5334120"/>
            <a:chExt cx="95040" cy="97200"/>
          </a:xfrm>
        </p:grpSpPr>
        <p:sp>
          <p:nvSpPr>
            <p:cNvPr id="778" name=""/>
            <p:cNvSpPr/>
            <p:nvPr/>
          </p:nvSpPr>
          <p:spPr>
            <a:xfrm>
              <a:off x="6019920" y="5334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019920" y="5430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67440" y="5334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19920" y="5334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019920" y="4876560"/>
            <a:ext cx="93600" cy="88920"/>
            <a:chOff x="6019920" y="4876560"/>
            <a:chExt cx="93600" cy="88920"/>
          </a:xfrm>
        </p:grpSpPr>
        <p:sp>
          <p:nvSpPr>
            <p:cNvPr id="783" name=""/>
            <p:cNvSpPr/>
            <p:nvPr/>
          </p:nvSpPr>
          <p:spPr>
            <a:xfrm rot="16200000">
              <a:off x="5984640" y="4911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00000">
              <a:off x="6059520" y="4911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6044400" y="4852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6200000">
              <a:off x="6044400" y="489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248520" y="4876560"/>
            <a:ext cx="93600" cy="88920"/>
            <a:chOff x="6248520" y="4876560"/>
            <a:chExt cx="93600" cy="88920"/>
          </a:xfrm>
        </p:grpSpPr>
        <p:sp>
          <p:nvSpPr>
            <p:cNvPr id="788" name=""/>
            <p:cNvSpPr/>
            <p:nvPr/>
          </p:nvSpPr>
          <p:spPr>
            <a:xfrm rot="16200000">
              <a:off x="6213240" y="4911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6288120" y="4911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6200000">
              <a:off x="6273000" y="4852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6200000">
              <a:off x="6273000" y="489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6705720" y="4190760"/>
            <a:ext cx="93600" cy="88920"/>
            <a:chOff x="6705720" y="4190760"/>
            <a:chExt cx="93600" cy="88920"/>
          </a:xfrm>
        </p:grpSpPr>
        <p:sp>
          <p:nvSpPr>
            <p:cNvPr id="793" name=""/>
            <p:cNvSpPr/>
            <p:nvPr/>
          </p:nvSpPr>
          <p:spPr>
            <a:xfrm rot="16200000">
              <a:off x="6670440" y="4226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6200000">
              <a:off x="6745320" y="422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6200000">
              <a:off x="6730200" y="4166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6200000">
              <a:off x="6730200" y="4210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848720" y="4647960"/>
            <a:ext cx="93600" cy="88920"/>
            <a:chOff x="7848720" y="4647960"/>
            <a:chExt cx="93600" cy="88920"/>
          </a:xfrm>
        </p:grpSpPr>
        <p:sp>
          <p:nvSpPr>
            <p:cNvPr id="798" name=""/>
            <p:cNvSpPr/>
            <p:nvPr/>
          </p:nvSpPr>
          <p:spPr>
            <a:xfrm rot="16200000">
              <a:off x="7813440" y="4683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6200000">
              <a:off x="7888320" y="4682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6200000">
              <a:off x="7873200" y="4623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6200000">
              <a:off x="7873200" y="4667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4952880" y="3504960"/>
            <a:ext cx="93960" cy="88920"/>
            <a:chOff x="4952880" y="3504960"/>
            <a:chExt cx="93960" cy="88920"/>
          </a:xfrm>
        </p:grpSpPr>
        <p:sp>
          <p:nvSpPr>
            <p:cNvPr id="803" name=""/>
            <p:cNvSpPr/>
            <p:nvPr/>
          </p:nvSpPr>
          <p:spPr>
            <a:xfrm rot="16200000">
              <a:off x="4917600" y="353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16200000">
              <a:off x="4992840" y="353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16200000">
              <a:off x="4977720" y="3480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16200000">
              <a:off x="4977720" y="35247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3276720" y="5790960"/>
            <a:ext cx="93600" cy="88920"/>
            <a:chOff x="3276720" y="5790960"/>
            <a:chExt cx="93600" cy="88920"/>
          </a:xfrm>
        </p:grpSpPr>
        <p:sp>
          <p:nvSpPr>
            <p:cNvPr id="808" name=""/>
            <p:cNvSpPr/>
            <p:nvPr/>
          </p:nvSpPr>
          <p:spPr>
            <a:xfrm rot="16200000">
              <a:off x="3241440" y="5826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16200000">
              <a:off x="3316320" y="5825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16200000">
              <a:off x="3301200" y="5766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3301200" y="5810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344680" y="5714640"/>
            <a:ext cx="93600" cy="88920"/>
            <a:chOff x="2344680" y="5714640"/>
            <a:chExt cx="93600" cy="88920"/>
          </a:xfrm>
        </p:grpSpPr>
        <p:sp>
          <p:nvSpPr>
            <p:cNvPr id="813" name=""/>
            <p:cNvSpPr/>
            <p:nvPr/>
          </p:nvSpPr>
          <p:spPr>
            <a:xfrm rot="16200000">
              <a:off x="2309400" y="574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2384280" y="5749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2369160" y="5690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2369160" y="5734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62320" y="5549400"/>
            <a:ext cx="93600" cy="88920"/>
            <a:chOff x="2362320" y="5549400"/>
            <a:chExt cx="93600" cy="88920"/>
          </a:xfrm>
        </p:grpSpPr>
        <p:sp>
          <p:nvSpPr>
            <p:cNvPr id="818" name=""/>
            <p:cNvSpPr/>
            <p:nvPr/>
          </p:nvSpPr>
          <p:spPr>
            <a:xfrm rot="16200000">
              <a:off x="2327040" y="5584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2401920" y="5584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2386800" y="5524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2386800" y="5569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2514600" y="3885840"/>
            <a:ext cx="93600" cy="88920"/>
            <a:chOff x="2514600" y="3885840"/>
            <a:chExt cx="93600" cy="88920"/>
          </a:xfrm>
        </p:grpSpPr>
        <p:sp>
          <p:nvSpPr>
            <p:cNvPr id="823" name=""/>
            <p:cNvSpPr/>
            <p:nvPr/>
          </p:nvSpPr>
          <p:spPr>
            <a:xfrm rot="16200000">
              <a:off x="2479320" y="392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2554200" y="3920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6200000">
              <a:off x="2539080" y="386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2539080" y="3905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971800" y="2666520"/>
            <a:ext cx="93600" cy="88920"/>
            <a:chOff x="2971800" y="2666520"/>
            <a:chExt cx="93600" cy="88920"/>
          </a:xfrm>
        </p:grpSpPr>
        <p:sp>
          <p:nvSpPr>
            <p:cNvPr id="828" name=""/>
            <p:cNvSpPr/>
            <p:nvPr/>
          </p:nvSpPr>
          <p:spPr>
            <a:xfrm rot="16200000">
              <a:off x="2936520" y="2701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6200000">
              <a:off x="3011400" y="2701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6200000">
              <a:off x="2996280" y="2642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16200000">
              <a:off x="2996280" y="268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62720" y="3962160"/>
            <a:ext cx="93600" cy="88920"/>
            <a:chOff x="5562720" y="3962160"/>
            <a:chExt cx="93600" cy="88920"/>
          </a:xfrm>
        </p:grpSpPr>
        <p:sp>
          <p:nvSpPr>
            <p:cNvPr id="833" name=""/>
            <p:cNvSpPr/>
            <p:nvPr/>
          </p:nvSpPr>
          <p:spPr>
            <a:xfrm rot="16200000">
              <a:off x="5527440" y="3997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16200000">
              <a:off x="5602320" y="399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16200000">
              <a:off x="5587200" y="3937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16200000">
              <a:off x="5587200" y="3981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876920" y="4647960"/>
            <a:ext cx="93600" cy="88920"/>
            <a:chOff x="4876920" y="4647960"/>
            <a:chExt cx="93600" cy="88920"/>
          </a:xfrm>
        </p:grpSpPr>
        <p:sp>
          <p:nvSpPr>
            <p:cNvPr id="838" name=""/>
            <p:cNvSpPr/>
            <p:nvPr/>
          </p:nvSpPr>
          <p:spPr>
            <a:xfrm rot="16200000">
              <a:off x="4841640" y="4683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16200000">
              <a:off x="4916520" y="4682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6200000">
              <a:off x="4901400" y="4623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4901400" y="4667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6934320" y="3504960"/>
            <a:ext cx="93600" cy="88920"/>
            <a:chOff x="6934320" y="3504960"/>
            <a:chExt cx="93600" cy="88920"/>
          </a:xfrm>
        </p:grpSpPr>
        <p:sp>
          <p:nvSpPr>
            <p:cNvPr id="843" name=""/>
            <p:cNvSpPr/>
            <p:nvPr/>
          </p:nvSpPr>
          <p:spPr>
            <a:xfrm rot="16200000">
              <a:off x="6899040" y="3540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973920" y="353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6200000">
              <a:off x="6958800" y="3480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6958800" y="3524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800600" y="5625720"/>
            <a:ext cx="93600" cy="88920"/>
            <a:chOff x="4800600" y="5625720"/>
            <a:chExt cx="93600" cy="88920"/>
          </a:xfrm>
        </p:grpSpPr>
        <p:sp>
          <p:nvSpPr>
            <p:cNvPr id="848" name=""/>
            <p:cNvSpPr/>
            <p:nvPr/>
          </p:nvSpPr>
          <p:spPr>
            <a:xfrm rot="16200000">
              <a:off x="4765320" y="5661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6200000">
              <a:off x="4840200" y="566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6200000">
              <a:off x="4825080" y="5601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16200000">
              <a:off x="4825080" y="564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419720" y="6019560"/>
            <a:ext cx="93600" cy="88920"/>
            <a:chOff x="4419720" y="6019560"/>
            <a:chExt cx="93600" cy="88920"/>
          </a:xfrm>
        </p:grpSpPr>
        <p:sp>
          <p:nvSpPr>
            <p:cNvPr id="853" name=""/>
            <p:cNvSpPr/>
            <p:nvPr/>
          </p:nvSpPr>
          <p:spPr>
            <a:xfrm rot="16200000">
              <a:off x="4384440" y="6054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4459320" y="6054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4444200" y="5995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16200000">
              <a:off x="4444200" y="6039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124080" y="5625720"/>
            <a:ext cx="93960" cy="88920"/>
            <a:chOff x="3124080" y="5625720"/>
            <a:chExt cx="93960" cy="88920"/>
          </a:xfrm>
        </p:grpSpPr>
        <p:sp>
          <p:nvSpPr>
            <p:cNvPr id="858" name=""/>
            <p:cNvSpPr/>
            <p:nvPr/>
          </p:nvSpPr>
          <p:spPr>
            <a:xfrm rot="16200000">
              <a:off x="3088800" y="566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16200000">
              <a:off x="3164040" y="566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3148920" y="5601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16200000">
              <a:off x="3148920" y="56455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878200" y="5943240"/>
            <a:ext cx="93600" cy="88920"/>
            <a:chOff x="2878200" y="5943240"/>
            <a:chExt cx="93600" cy="88920"/>
          </a:xfrm>
        </p:grpSpPr>
        <p:sp>
          <p:nvSpPr>
            <p:cNvPr id="863" name=""/>
            <p:cNvSpPr/>
            <p:nvPr/>
          </p:nvSpPr>
          <p:spPr>
            <a:xfrm rot="16200000">
              <a:off x="2842920" y="5978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6200000">
              <a:off x="2917800" y="5978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6200000">
              <a:off x="2902680" y="5918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6200000">
              <a:off x="2902680" y="5963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905120" y="3949200"/>
            <a:ext cx="93600" cy="88920"/>
            <a:chOff x="1905120" y="3949200"/>
            <a:chExt cx="93600" cy="88920"/>
          </a:xfrm>
        </p:grpSpPr>
        <p:sp>
          <p:nvSpPr>
            <p:cNvPr id="868" name=""/>
            <p:cNvSpPr/>
            <p:nvPr/>
          </p:nvSpPr>
          <p:spPr>
            <a:xfrm rot="16200000">
              <a:off x="1869840" y="39844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6200000">
              <a:off x="1944720" y="3984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16200000">
              <a:off x="1929600" y="3924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6200000">
              <a:off x="1929600" y="396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523880" y="3885840"/>
            <a:ext cx="93960" cy="88920"/>
            <a:chOff x="1523880" y="3885840"/>
            <a:chExt cx="93960" cy="88920"/>
          </a:xfrm>
        </p:grpSpPr>
        <p:sp>
          <p:nvSpPr>
            <p:cNvPr id="873" name=""/>
            <p:cNvSpPr/>
            <p:nvPr/>
          </p:nvSpPr>
          <p:spPr>
            <a:xfrm rot="16200000">
              <a:off x="1488600" y="3920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1563840" y="3920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6200000">
              <a:off x="1548720" y="3861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6200000">
              <a:off x="1548720" y="39056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048120" y="4190760"/>
            <a:ext cx="93600" cy="88920"/>
            <a:chOff x="3048120" y="4190760"/>
            <a:chExt cx="93600" cy="88920"/>
          </a:xfrm>
        </p:grpSpPr>
        <p:sp>
          <p:nvSpPr>
            <p:cNvPr id="878" name=""/>
            <p:cNvSpPr/>
            <p:nvPr/>
          </p:nvSpPr>
          <p:spPr>
            <a:xfrm rot="16200000">
              <a:off x="3012840" y="4226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6200000">
              <a:off x="3087720" y="422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6200000">
              <a:off x="3072600" y="4166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6200000">
              <a:off x="3072600" y="4210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276720" y="3047760"/>
            <a:ext cx="93600" cy="88920"/>
            <a:chOff x="3276720" y="3047760"/>
            <a:chExt cx="93600" cy="88920"/>
          </a:xfrm>
        </p:grpSpPr>
        <p:sp>
          <p:nvSpPr>
            <p:cNvPr id="883" name=""/>
            <p:cNvSpPr/>
            <p:nvPr/>
          </p:nvSpPr>
          <p:spPr>
            <a:xfrm rot="16200000">
              <a:off x="3241440" y="3083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6200000">
              <a:off x="3316320" y="3082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6200000">
              <a:off x="3301200" y="3023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6200000">
              <a:off x="3301200" y="3067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822040" y="2587680"/>
            <a:ext cx="88920" cy="93600"/>
            <a:chOff x="2822040" y="2587680"/>
            <a:chExt cx="88920" cy="93600"/>
          </a:xfrm>
        </p:grpSpPr>
        <p:sp>
          <p:nvSpPr>
            <p:cNvPr id="888" name=""/>
            <p:cNvSpPr/>
            <p:nvPr/>
          </p:nvSpPr>
          <p:spPr>
            <a:xfrm rot="10800000">
              <a:off x="2822040" y="2662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800000">
              <a:off x="2822040" y="2587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0800000">
              <a:off x="2822400" y="2587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0800000">
              <a:off x="2866680" y="2587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587680" y="1679040"/>
            <a:ext cx="93600" cy="88920"/>
            <a:chOff x="2587680" y="1679040"/>
            <a:chExt cx="93600" cy="88920"/>
          </a:xfrm>
        </p:grpSpPr>
        <p:sp>
          <p:nvSpPr>
            <p:cNvPr id="893" name=""/>
            <p:cNvSpPr/>
            <p:nvPr/>
          </p:nvSpPr>
          <p:spPr>
            <a:xfrm rot="16200000">
              <a:off x="2552400" y="1714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6200000">
              <a:off x="2627280" y="1713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16200000">
              <a:off x="2612160" y="1654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16200000">
              <a:off x="2612160" y="1698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5257800" y="990360"/>
            <a:ext cx="93600" cy="88920"/>
            <a:chOff x="5257800" y="990360"/>
            <a:chExt cx="93600" cy="88920"/>
          </a:xfrm>
        </p:grpSpPr>
        <p:sp>
          <p:nvSpPr>
            <p:cNvPr id="898" name=""/>
            <p:cNvSpPr/>
            <p:nvPr/>
          </p:nvSpPr>
          <p:spPr>
            <a:xfrm rot="16200000">
              <a:off x="5222520" y="1025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6200000">
              <a:off x="5297400" y="1025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6200000">
              <a:off x="5282280" y="965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6200000">
              <a:off x="5282280" y="1010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419720" y="1447560"/>
            <a:ext cx="93600" cy="88920"/>
            <a:chOff x="4419720" y="1447560"/>
            <a:chExt cx="93600" cy="88920"/>
          </a:xfrm>
        </p:grpSpPr>
        <p:sp>
          <p:nvSpPr>
            <p:cNvPr id="903" name=""/>
            <p:cNvSpPr/>
            <p:nvPr/>
          </p:nvSpPr>
          <p:spPr>
            <a:xfrm rot="16200000">
              <a:off x="4384440" y="1482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6200000">
              <a:off x="4459320" y="1482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200000">
              <a:off x="4444200" y="1423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6200000">
              <a:off x="4444200" y="146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3733920" y="1218960"/>
            <a:ext cx="93600" cy="88920"/>
            <a:chOff x="3733920" y="1218960"/>
            <a:chExt cx="93600" cy="88920"/>
          </a:xfrm>
        </p:grpSpPr>
        <p:sp>
          <p:nvSpPr>
            <p:cNvPr id="908" name=""/>
            <p:cNvSpPr/>
            <p:nvPr/>
          </p:nvSpPr>
          <p:spPr>
            <a:xfrm rot="16200000">
              <a:off x="3698640" y="1254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6200000">
              <a:off x="3773520" y="1253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6200000">
              <a:off x="3758400" y="1194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6200000">
              <a:off x="3758400" y="1238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276720" y="1676160"/>
            <a:ext cx="93600" cy="88920"/>
            <a:chOff x="3276720" y="1676160"/>
            <a:chExt cx="93600" cy="88920"/>
          </a:xfrm>
        </p:grpSpPr>
        <p:sp>
          <p:nvSpPr>
            <p:cNvPr id="913" name=""/>
            <p:cNvSpPr/>
            <p:nvPr/>
          </p:nvSpPr>
          <p:spPr>
            <a:xfrm rot="16200000">
              <a:off x="3241440" y="1711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00000">
              <a:off x="3316320" y="1711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6200000">
              <a:off x="3301200" y="1651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6200000">
              <a:off x="3301200" y="169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334120" y="1218960"/>
            <a:ext cx="93600" cy="88920"/>
            <a:chOff x="5334120" y="1218960"/>
            <a:chExt cx="93600" cy="88920"/>
          </a:xfrm>
        </p:grpSpPr>
        <p:sp>
          <p:nvSpPr>
            <p:cNvPr id="918" name=""/>
            <p:cNvSpPr/>
            <p:nvPr/>
          </p:nvSpPr>
          <p:spPr>
            <a:xfrm rot="16200000">
              <a:off x="5298840" y="1254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6200000">
              <a:off x="5373720" y="1253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6200000">
              <a:off x="5358600" y="1194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5358600" y="1238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6705720" y="977400"/>
            <a:ext cx="93600" cy="88920"/>
            <a:chOff x="6705720" y="977400"/>
            <a:chExt cx="93600" cy="88920"/>
          </a:xfrm>
        </p:grpSpPr>
        <p:sp>
          <p:nvSpPr>
            <p:cNvPr id="923" name=""/>
            <p:cNvSpPr/>
            <p:nvPr/>
          </p:nvSpPr>
          <p:spPr>
            <a:xfrm rot="16200000">
              <a:off x="6670440" y="1012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6200000">
              <a:off x="6745320" y="1012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6200000">
              <a:off x="6730200" y="952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6200000">
              <a:off x="6730200" y="997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7391520" y="1676160"/>
            <a:ext cx="93600" cy="88920"/>
            <a:chOff x="7391520" y="1676160"/>
            <a:chExt cx="93600" cy="88920"/>
          </a:xfrm>
        </p:grpSpPr>
        <p:sp>
          <p:nvSpPr>
            <p:cNvPr id="928" name=""/>
            <p:cNvSpPr/>
            <p:nvPr/>
          </p:nvSpPr>
          <p:spPr>
            <a:xfrm rot="16200000">
              <a:off x="7356240" y="1711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200000">
              <a:off x="7431120" y="1711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16200000">
              <a:off x="7416000" y="1651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6200000">
              <a:off x="7416000" y="169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7391520" y="1904760"/>
            <a:ext cx="93600" cy="88920"/>
            <a:chOff x="7391520" y="1904760"/>
            <a:chExt cx="93600" cy="88920"/>
          </a:xfrm>
        </p:grpSpPr>
        <p:sp>
          <p:nvSpPr>
            <p:cNvPr id="933" name=""/>
            <p:cNvSpPr/>
            <p:nvPr/>
          </p:nvSpPr>
          <p:spPr>
            <a:xfrm rot="16200000">
              <a:off x="7356240" y="1940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7431120" y="1939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6200000">
              <a:off x="7416000" y="1880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16200000">
              <a:off x="7416000" y="1924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6019920" y="1676160"/>
            <a:ext cx="93600" cy="88920"/>
            <a:chOff x="6019920" y="1676160"/>
            <a:chExt cx="93600" cy="88920"/>
          </a:xfrm>
        </p:grpSpPr>
        <p:sp>
          <p:nvSpPr>
            <p:cNvPr id="938" name=""/>
            <p:cNvSpPr/>
            <p:nvPr/>
          </p:nvSpPr>
          <p:spPr>
            <a:xfrm rot="16200000">
              <a:off x="5984640" y="1711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6200000">
              <a:off x="6059520" y="1711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6200000">
              <a:off x="6044400" y="1651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6200000">
              <a:off x="6044400" y="169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7543800" y="761760"/>
            <a:ext cx="93600" cy="88920"/>
            <a:chOff x="7543800" y="761760"/>
            <a:chExt cx="93600" cy="88920"/>
          </a:xfrm>
        </p:grpSpPr>
        <p:sp>
          <p:nvSpPr>
            <p:cNvPr id="943" name=""/>
            <p:cNvSpPr/>
            <p:nvPr/>
          </p:nvSpPr>
          <p:spPr>
            <a:xfrm rot="16200000">
              <a:off x="7508520" y="797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6200000">
              <a:off x="7583400" y="796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16200000">
              <a:off x="7568280" y="737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7568280" y="781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705720" y="3047760"/>
            <a:ext cx="93600" cy="88920"/>
            <a:chOff x="6705720" y="3047760"/>
            <a:chExt cx="93600" cy="88920"/>
          </a:xfrm>
        </p:grpSpPr>
        <p:sp>
          <p:nvSpPr>
            <p:cNvPr id="948" name=""/>
            <p:cNvSpPr/>
            <p:nvPr/>
          </p:nvSpPr>
          <p:spPr>
            <a:xfrm rot="16200000">
              <a:off x="6670440" y="3083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16200000">
              <a:off x="6745320" y="3082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16200000">
              <a:off x="6730200" y="3023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6200000">
              <a:off x="6730200" y="3067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6248520" y="2590560"/>
            <a:ext cx="93600" cy="88920"/>
            <a:chOff x="6248520" y="2590560"/>
            <a:chExt cx="93600" cy="88920"/>
          </a:xfrm>
        </p:grpSpPr>
        <p:sp>
          <p:nvSpPr>
            <p:cNvPr id="953" name=""/>
            <p:cNvSpPr/>
            <p:nvPr/>
          </p:nvSpPr>
          <p:spPr>
            <a:xfrm rot="16200000">
              <a:off x="6213240" y="2625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6200000">
              <a:off x="6288120" y="2625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6200000">
              <a:off x="6273000" y="2566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16200000">
              <a:off x="6273000" y="2610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6307200" y="2361960"/>
            <a:ext cx="93600" cy="88920"/>
            <a:chOff x="6307200" y="2361960"/>
            <a:chExt cx="93600" cy="88920"/>
          </a:xfrm>
        </p:grpSpPr>
        <p:sp>
          <p:nvSpPr>
            <p:cNvPr id="958" name=""/>
            <p:cNvSpPr/>
            <p:nvPr/>
          </p:nvSpPr>
          <p:spPr>
            <a:xfrm rot="16200000">
              <a:off x="6271920" y="2397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16200000">
              <a:off x="6346800" y="2396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16200000">
              <a:off x="6331680" y="2337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16200000">
              <a:off x="6331680" y="2381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162920" y="1676160"/>
            <a:ext cx="93600" cy="88920"/>
            <a:chOff x="7162920" y="1676160"/>
            <a:chExt cx="93600" cy="88920"/>
          </a:xfrm>
        </p:grpSpPr>
        <p:sp>
          <p:nvSpPr>
            <p:cNvPr id="963" name=""/>
            <p:cNvSpPr/>
            <p:nvPr/>
          </p:nvSpPr>
          <p:spPr>
            <a:xfrm rot="16200000">
              <a:off x="7127640" y="1711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16200000">
              <a:off x="7202520" y="1711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6200000">
              <a:off x="7187400" y="1651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16200000">
              <a:off x="7187400" y="169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"/>
          <p:cNvGrpSpPr/>
          <p:nvPr/>
        </p:nvGrpSpPr>
        <p:grpSpPr>
          <a:xfrm>
            <a:off x="4419720" y="2361960"/>
            <a:ext cx="93600" cy="88920"/>
            <a:chOff x="4419720" y="2361960"/>
            <a:chExt cx="93600" cy="88920"/>
          </a:xfrm>
        </p:grpSpPr>
        <p:sp>
          <p:nvSpPr>
            <p:cNvPr id="968" name=""/>
            <p:cNvSpPr/>
            <p:nvPr/>
          </p:nvSpPr>
          <p:spPr>
            <a:xfrm rot="16200000">
              <a:off x="4384440" y="2397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16200000">
              <a:off x="4459320" y="2396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6200000">
              <a:off x="4444200" y="2337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4444200" y="2381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7848720" y="2590920"/>
            <a:ext cx="97200" cy="95040"/>
            <a:chOff x="7848720" y="2590920"/>
            <a:chExt cx="97200" cy="95040"/>
          </a:xfrm>
        </p:grpSpPr>
        <p:sp>
          <p:nvSpPr>
            <p:cNvPr id="973" name=""/>
            <p:cNvSpPr/>
            <p:nvPr/>
          </p:nvSpPr>
          <p:spPr>
            <a:xfrm rot="16200000">
              <a:off x="780120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rot="16200000">
              <a:off x="789804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16200000">
              <a:off x="7873560" y="2566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7873200" y="2613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7620120" y="2590920"/>
            <a:ext cx="97200" cy="95040"/>
            <a:chOff x="7620120" y="2590920"/>
            <a:chExt cx="97200" cy="95040"/>
          </a:xfrm>
        </p:grpSpPr>
        <p:sp>
          <p:nvSpPr>
            <p:cNvPr id="978" name=""/>
            <p:cNvSpPr/>
            <p:nvPr/>
          </p:nvSpPr>
          <p:spPr>
            <a:xfrm rot="16200000">
              <a:off x="757260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6200000">
              <a:off x="766944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6200000">
              <a:off x="7644960" y="2566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rot="16200000">
              <a:off x="7644600" y="2613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8077320" y="1905120"/>
            <a:ext cx="97200" cy="95040"/>
            <a:chOff x="8077320" y="1905120"/>
            <a:chExt cx="97200" cy="95040"/>
          </a:xfrm>
        </p:grpSpPr>
        <p:sp>
          <p:nvSpPr>
            <p:cNvPr id="983" name=""/>
            <p:cNvSpPr/>
            <p:nvPr/>
          </p:nvSpPr>
          <p:spPr>
            <a:xfrm rot="16200000">
              <a:off x="8029800" y="1952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6200000">
              <a:off x="8126640" y="1952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00000">
              <a:off x="8102160" y="1880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16200000">
              <a:off x="8101800" y="1927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7162920" y="762120"/>
            <a:ext cx="97200" cy="95040"/>
            <a:chOff x="7162920" y="762120"/>
            <a:chExt cx="97200" cy="95040"/>
          </a:xfrm>
        </p:grpSpPr>
        <p:sp>
          <p:nvSpPr>
            <p:cNvPr id="988" name=""/>
            <p:cNvSpPr/>
            <p:nvPr/>
          </p:nvSpPr>
          <p:spPr>
            <a:xfrm rot="16200000">
              <a:off x="7115400" y="80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6200000">
              <a:off x="7212240" y="80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16200000">
              <a:off x="7187760" y="737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16200000">
              <a:off x="7187400" y="784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6477120" y="1219320"/>
            <a:ext cx="97200" cy="95040"/>
            <a:chOff x="6477120" y="1219320"/>
            <a:chExt cx="97200" cy="95040"/>
          </a:xfrm>
        </p:grpSpPr>
        <p:sp>
          <p:nvSpPr>
            <p:cNvPr id="993" name=""/>
            <p:cNvSpPr/>
            <p:nvPr/>
          </p:nvSpPr>
          <p:spPr>
            <a:xfrm rot="16200000">
              <a:off x="6429600" y="1266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6200000">
              <a:off x="6526440" y="1266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6200000">
              <a:off x="6501960" y="1194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6200000">
              <a:off x="6501600" y="1242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477120" y="1371240"/>
            <a:ext cx="97200" cy="95400"/>
            <a:chOff x="6477120" y="1371240"/>
            <a:chExt cx="97200" cy="95400"/>
          </a:xfrm>
        </p:grpSpPr>
        <p:sp>
          <p:nvSpPr>
            <p:cNvPr id="998" name=""/>
            <p:cNvSpPr/>
            <p:nvPr/>
          </p:nvSpPr>
          <p:spPr>
            <a:xfrm rot="16200000">
              <a:off x="6429600" y="1418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16200000">
              <a:off x="6526440" y="1418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16200000">
              <a:off x="6501600" y="1346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6200000">
              <a:off x="6501600" y="1394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7162920" y="2057040"/>
            <a:ext cx="97200" cy="95400"/>
            <a:chOff x="7162920" y="2057040"/>
            <a:chExt cx="97200" cy="95400"/>
          </a:xfrm>
        </p:grpSpPr>
        <p:sp>
          <p:nvSpPr>
            <p:cNvPr id="1003" name=""/>
            <p:cNvSpPr/>
            <p:nvPr/>
          </p:nvSpPr>
          <p:spPr>
            <a:xfrm rot="16200000">
              <a:off x="7115400" y="2104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7212240" y="2104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16200000">
              <a:off x="7187400" y="2032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16200000">
              <a:off x="7187400" y="2080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315200" y="762120"/>
            <a:ext cx="97200" cy="95040"/>
            <a:chOff x="7315200" y="762120"/>
            <a:chExt cx="97200" cy="95040"/>
          </a:xfrm>
        </p:grpSpPr>
        <p:sp>
          <p:nvSpPr>
            <p:cNvPr id="1008" name=""/>
            <p:cNvSpPr/>
            <p:nvPr/>
          </p:nvSpPr>
          <p:spPr>
            <a:xfrm rot="16200000">
              <a:off x="7267680" y="80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16200000">
              <a:off x="7364520" y="80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16200000">
              <a:off x="7340040" y="737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rot="16200000">
              <a:off x="7339680" y="784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705720" y="1905120"/>
            <a:ext cx="97200" cy="95040"/>
            <a:chOff x="6705720" y="1905120"/>
            <a:chExt cx="97200" cy="95040"/>
          </a:xfrm>
        </p:grpSpPr>
        <p:sp>
          <p:nvSpPr>
            <p:cNvPr id="1013" name=""/>
            <p:cNvSpPr/>
            <p:nvPr/>
          </p:nvSpPr>
          <p:spPr>
            <a:xfrm rot="16200000">
              <a:off x="6658200" y="1952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rot="16200000">
              <a:off x="6755040" y="1952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rot="16200000">
              <a:off x="6730560" y="1880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6730200" y="1927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7010280" y="2590920"/>
            <a:ext cx="97200" cy="95040"/>
            <a:chOff x="7010280" y="2590920"/>
            <a:chExt cx="97200" cy="95040"/>
          </a:xfrm>
        </p:grpSpPr>
        <p:sp>
          <p:nvSpPr>
            <p:cNvPr id="1018" name=""/>
            <p:cNvSpPr/>
            <p:nvPr/>
          </p:nvSpPr>
          <p:spPr>
            <a:xfrm rot="16200000">
              <a:off x="696276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16200000">
              <a:off x="705960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16200000">
              <a:off x="7035120" y="2566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6200000">
              <a:off x="7034760" y="2613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019920" y="2819520"/>
            <a:ext cx="97200" cy="95040"/>
            <a:chOff x="6019920" y="2819520"/>
            <a:chExt cx="97200" cy="95040"/>
          </a:xfrm>
        </p:grpSpPr>
        <p:sp>
          <p:nvSpPr>
            <p:cNvPr id="1023" name=""/>
            <p:cNvSpPr/>
            <p:nvPr/>
          </p:nvSpPr>
          <p:spPr>
            <a:xfrm rot="16200000">
              <a:off x="5972400" y="2866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6069240" y="2866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6200000">
              <a:off x="6044760" y="2795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6200000">
              <a:off x="6044400" y="2842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5791320" y="2742840"/>
            <a:ext cx="97200" cy="95400"/>
            <a:chOff x="5791320" y="2742840"/>
            <a:chExt cx="97200" cy="95400"/>
          </a:xfrm>
        </p:grpSpPr>
        <p:sp>
          <p:nvSpPr>
            <p:cNvPr id="1028" name=""/>
            <p:cNvSpPr/>
            <p:nvPr/>
          </p:nvSpPr>
          <p:spPr>
            <a:xfrm rot="16200000">
              <a:off x="5743800" y="2790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rot="16200000">
              <a:off x="5840640" y="2790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rot="16200000">
              <a:off x="5815800" y="2718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rot="16200000">
              <a:off x="5815800" y="2765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705720" y="2133720"/>
            <a:ext cx="97200" cy="95040"/>
            <a:chOff x="6705720" y="2133720"/>
            <a:chExt cx="97200" cy="95040"/>
          </a:xfrm>
        </p:grpSpPr>
        <p:sp>
          <p:nvSpPr>
            <p:cNvPr id="1033" name=""/>
            <p:cNvSpPr/>
            <p:nvPr/>
          </p:nvSpPr>
          <p:spPr>
            <a:xfrm rot="16200000">
              <a:off x="6658200" y="2180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16200000">
              <a:off x="6755040" y="2180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rot="16200000">
              <a:off x="6730560" y="2109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16200000">
              <a:off x="6730200" y="2156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6934320" y="2285640"/>
            <a:ext cx="97200" cy="95400"/>
            <a:chOff x="6934320" y="2285640"/>
            <a:chExt cx="97200" cy="95400"/>
          </a:xfrm>
        </p:grpSpPr>
        <p:sp>
          <p:nvSpPr>
            <p:cNvPr id="1038" name=""/>
            <p:cNvSpPr/>
            <p:nvPr/>
          </p:nvSpPr>
          <p:spPr>
            <a:xfrm rot="16200000">
              <a:off x="6886800" y="2333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rot="16200000">
              <a:off x="6983640" y="2333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6200000">
              <a:off x="6958800" y="2260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6200000">
              <a:off x="6958800" y="2308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6477120" y="3428640"/>
            <a:ext cx="97200" cy="95400"/>
            <a:chOff x="6477120" y="3428640"/>
            <a:chExt cx="97200" cy="95400"/>
          </a:xfrm>
        </p:grpSpPr>
        <p:sp>
          <p:nvSpPr>
            <p:cNvPr id="1043" name=""/>
            <p:cNvSpPr/>
            <p:nvPr/>
          </p:nvSpPr>
          <p:spPr>
            <a:xfrm rot="16200000">
              <a:off x="6429600" y="347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16200000">
              <a:off x="6526440" y="347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16200000">
              <a:off x="6501600" y="3403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6200000">
              <a:off x="6501600" y="3451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6248520" y="3276720"/>
            <a:ext cx="97200" cy="95040"/>
            <a:chOff x="6248520" y="3276720"/>
            <a:chExt cx="97200" cy="95040"/>
          </a:xfrm>
        </p:grpSpPr>
        <p:sp>
          <p:nvSpPr>
            <p:cNvPr id="1048" name=""/>
            <p:cNvSpPr/>
            <p:nvPr/>
          </p:nvSpPr>
          <p:spPr>
            <a:xfrm rot="16200000">
              <a:off x="620100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6200000">
              <a:off x="629784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6200000">
              <a:off x="6273360" y="3252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6200000">
              <a:off x="6273000" y="3299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6075360" y="2514240"/>
            <a:ext cx="97200" cy="95400"/>
            <a:chOff x="6075360" y="2514240"/>
            <a:chExt cx="97200" cy="95400"/>
          </a:xfrm>
        </p:grpSpPr>
        <p:sp>
          <p:nvSpPr>
            <p:cNvPr id="1053" name=""/>
            <p:cNvSpPr/>
            <p:nvPr/>
          </p:nvSpPr>
          <p:spPr>
            <a:xfrm rot="16200000">
              <a:off x="6027840" y="2561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6200000">
              <a:off x="6124680" y="2561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6099840" y="2489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6200000">
              <a:off x="6099840" y="2537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6400800" y="2666520"/>
            <a:ext cx="97200" cy="95400"/>
            <a:chOff x="6400800" y="2666520"/>
            <a:chExt cx="97200" cy="95400"/>
          </a:xfrm>
        </p:grpSpPr>
        <p:sp>
          <p:nvSpPr>
            <p:cNvPr id="1058" name=""/>
            <p:cNvSpPr/>
            <p:nvPr/>
          </p:nvSpPr>
          <p:spPr>
            <a:xfrm rot="16200000">
              <a:off x="6353280" y="2714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rot="16200000">
              <a:off x="6450120" y="2714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16200000">
              <a:off x="6425280" y="26416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16200000">
              <a:off x="6425280" y="2689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7162920" y="3276720"/>
            <a:ext cx="97200" cy="95040"/>
            <a:chOff x="7162920" y="3276720"/>
            <a:chExt cx="97200" cy="95040"/>
          </a:xfrm>
        </p:grpSpPr>
        <p:sp>
          <p:nvSpPr>
            <p:cNvPr id="1063" name=""/>
            <p:cNvSpPr/>
            <p:nvPr/>
          </p:nvSpPr>
          <p:spPr>
            <a:xfrm rot="16200000">
              <a:off x="711540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rot="16200000">
              <a:off x="721224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rot="16200000">
              <a:off x="7187760" y="3252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7187400" y="3299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6705720" y="3428640"/>
            <a:ext cx="97200" cy="95400"/>
            <a:chOff x="6705720" y="3428640"/>
            <a:chExt cx="97200" cy="95400"/>
          </a:xfrm>
        </p:grpSpPr>
        <p:sp>
          <p:nvSpPr>
            <p:cNvPr id="1068" name=""/>
            <p:cNvSpPr/>
            <p:nvPr/>
          </p:nvSpPr>
          <p:spPr>
            <a:xfrm rot="16200000">
              <a:off x="6658200" y="347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rot="16200000">
              <a:off x="6755040" y="347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rot="16200000">
              <a:off x="6730200" y="3403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rot="16200000">
              <a:off x="6730200" y="3451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867280" y="3200040"/>
            <a:ext cx="97200" cy="95400"/>
            <a:chOff x="5867280" y="3200040"/>
            <a:chExt cx="97200" cy="95400"/>
          </a:xfrm>
        </p:grpSpPr>
        <p:sp>
          <p:nvSpPr>
            <p:cNvPr id="1073" name=""/>
            <p:cNvSpPr/>
            <p:nvPr/>
          </p:nvSpPr>
          <p:spPr>
            <a:xfrm rot="16200000">
              <a:off x="5819760" y="324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5916600" y="324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6200000">
              <a:off x="5891760" y="3175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6200000">
              <a:off x="5891760" y="3223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019920" y="1828440"/>
            <a:ext cx="97200" cy="95400"/>
            <a:chOff x="6019920" y="1828440"/>
            <a:chExt cx="97200" cy="95400"/>
          </a:xfrm>
        </p:grpSpPr>
        <p:sp>
          <p:nvSpPr>
            <p:cNvPr id="1078" name=""/>
            <p:cNvSpPr/>
            <p:nvPr/>
          </p:nvSpPr>
          <p:spPr>
            <a:xfrm rot="16200000">
              <a:off x="5972400" y="1875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6200000">
              <a:off x="6069240" y="1875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6044400" y="1803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044400" y="1851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5486400" y="2590920"/>
            <a:ext cx="97200" cy="95040"/>
            <a:chOff x="5486400" y="2590920"/>
            <a:chExt cx="97200" cy="95040"/>
          </a:xfrm>
        </p:grpSpPr>
        <p:sp>
          <p:nvSpPr>
            <p:cNvPr id="1083" name=""/>
            <p:cNvSpPr/>
            <p:nvPr/>
          </p:nvSpPr>
          <p:spPr>
            <a:xfrm rot="16200000">
              <a:off x="543888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6200000">
              <a:off x="553572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6200000">
              <a:off x="5511240" y="2566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6200000">
              <a:off x="5510880" y="2613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5562720" y="2362320"/>
            <a:ext cx="97200" cy="95040"/>
            <a:chOff x="5562720" y="2362320"/>
            <a:chExt cx="97200" cy="95040"/>
          </a:xfrm>
        </p:grpSpPr>
        <p:sp>
          <p:nvSpPr>
            <p:cNvPr id="1088" name=""/>
            <p:cNvSpPr/>
            <p:nvPr/>
          </p:nvSpPr>
          <p:spPr>
            <a:xfrm rot="16200000">
              <a:off x="551520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561204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5587560" y="2337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6200000">
              <a:off x="5587200" y="2385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5486400" y="1447920"/>
            <a:ext cx="97200" cy="95040"/>
            <a:chOff x="5486400" y="1447920"/>
            <a:chExt cx="97200" cy="95040"/>
          </a:xfrm>
        </p:grpSpPr>
        <p:sp>
          <p:nvSpPr>
            <p:cNvPr id="1093" name=""/>
            <p:cNvSpPr/>
            <p:nvPr/>
          </p:nvSpPr>
          <p:spPr>
            <a:xfrm rot="16200000">
              <a:off x="5438880" y="1495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6200000">
              <a:off x="5535720" y="1495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6200000">
              <a:off x="5511240" y="1423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6200000">
              <a:off x="5510880" y="1470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3962520" y="1447920"/>
            <a:ext cx="97200" cy="95040"/>
            <a:chOff x="3962520" y="1447920"/>
            <a:chExt cx="97200" cy="95040"/>
          </a:xfrm>
        </p:grpSpPr>
        <p:sp>
          <p:nvSpPr>
            <p:cNvPr id="1098" name=""/>
            <p:cNvSpPr/>
            <p:nvPr/>
          </p:nvSpPr>
          <p:spPr>
            <a:xfrm rot="16200000">
              <a:off x="3915000" y="1495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6200000">
              <a:off x="4011840" y="1495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6200000">
              <a:off x="3987360" y="1423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6200000">
              <a:off x="3987000" y="1470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648320" y="2590920"/>
            <a:ext cx="97200" cy="95040"/>
            <a:chOff x="4648320" y="2590920"/>
            <a:chExt cx="97200" cy="95040"/>
          </a:xfrm>
        </p:grpSpPr>
        <p:sp>
          <p:nvSpPr>
            <p:cNvPr id="1103" name=""/>
            <p:cNvSpPr/>
            <p:nvPr/>
          </p:nvSpPr>
          <p:spPr>
            <a:xfrm rot="16200000">
              <a:off x="460080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6200000">
              <a:off x="4697640" y="2638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rot="16200000">
              <a:off x="4673160" y="2566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6200000">
              <a:off x="4672800" y="2613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4724280" y="2362320"/>
            <a:ext cx="97200" cy="95040"/>
            <a:chOff x="4724280" y="2362320"/>
            <a:chExt cx="97200" cy="95040"/>
          </a:xfrm>
        </p:grpSpPr>
        <p:sp>
          <p:nvSpPr>
            <p:cNvPr id="1108" name=""/>
            <p:cNvSpPr/>
            <p:nvPr/>
          </p:nvSpPr>
          <p:spPr>
            <a:xfrm rot="16200000">
              <a:off x="467676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6200000">
              <a:off x="477360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6200000">
              <a:off x="4749120" y="2337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rot="16200000">
              <a:off x="4748760" y="2385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3505320" y="1219320"/>
            <a:ext cx="97200" cy="95040"/>
            <a:chOff x="3505320" y="1219320"/>
            <a:chExt cx="97200" cy="95040"/>
          </a:xfrm>
        </p:grpSpPr>
        <p:sp>
          <p:nvSpPr>
            <p:cNvPr id="1113" name=""/>
            <p:cNvSpPr/>
            <p:nvPr/>
          </p:nvSpPr>
          <p:spPr>
            <a:xfrm rot="16200000">
              <a:off x="3457800" y="1266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6200000">
              <a:off x="3554640" y="1266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6200000">
              <a:off x="3530160" y="1194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6200000">
              <a:off x="3529800" y="1242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191120" y="2362320"/>
            <a:ext cx="97200" cy="95040"/>
            <a:chOff x="4191120" y="2362320"/>
            <a:chExt cx="97200" cy="95040"/>
          </a:xfrm>
        </p:grpSpPr>
        <p:sp>
          <p:nvSpPr>
            <p:cNvPr id="1118" name=""/>
            <p:cNvSpPr/>
            <p:nvPr/>
          </p:nvSpPr>
          <p:spPr>
            <a:xfrm rot="16200000">
              <a:off x="414360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6200000">
              <a:off x="424044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6200000">
              <a:off x="4215960" y="2337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6200000">
              <a:off x="4215600" y="2385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5257800" y="456840"/>
            <a:ext cx="97200" cy="95400"/>
            <a:chOff x="5257800" y="456840"/>
            <a:chExt cx="97200" cy="95400"/>
          </a:xfrm>
        </p:grpSpPr>
        <p:sp>
          <p:nvSpPr>
            <p:cNvPr id="1123" name=""/>
            <p:cNvSpPr/>
            <p:nvPr/>
          </p:nvSpPr>
          <p:spPr>
            <a:xfrm rot="16200000">
              <a:off x="5210280" y="504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307120" y="504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6200000">
              <a:off x="5282280" y="432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6200000">
              <a:off x="5282280" y="479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819520" y="1828440"/>
            <a:ext cx="97200" cy="95400"/>
            <a:chOff x="2819520" y="1828440"/>
            <a:chExt cx="97200" cy="95400"/>
          </a:xfrm>
        </p:grpSpPr>
        <p:sp>
          <p:nvSpPr>
            <p:cNvPr id="1128" name=""/>
            <p:cNvSpPr/>
            <p:nvPr/>
          </p:nvSpPr>
          <p:spPr>
            <a:xfrm rot="16200000">
              <a:off x="2772000" y="1875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6200000">
              <a:off x="2868840" y="1875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6200000">
              <a:off x="2844000" y="1803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16200000">
              <a:off x="2844000" y="1851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590920" y="1828440"/>
            <a:ext cx="97200" cy="95400"/>
            <a:chOff x="2590920" y="1828440"/>
            <a:chExt cx="97200" cy="95400"/>
          </a:xfrm>
        </p:grpSpPr>
        <p:sp>
          <p:nvSpPr>
            <p:cNvPr id="1133" name=""/>
            <p:cNvSpPr/>
            <p:nvPr/>
          </p:nvSpPr>
          <p:spPr>
            <a:xfrm rot="16200000">
              <a:off x="2543400" y="1875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6200000">
              <a:off x="2640240" y="1875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6200000">
              <a:off x="2615400" y="1803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6200000">
              <a:off x="2615400" y="1851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2362320" y="3733920"/>
            <a:ext cx="97200" cy="95040"/>
            <a:chOff x="2362320" y="3733920"/>
            <a:chExt cx="97200" cy="95040"/>
          </a:xfrm>
        </p:grpSpPr>
        <p:sp>
          <p:nvSpPr>
            <p:cNvPr id="1138" name=""/>
            <p:cNvSpPr/>
            <p:nvPr/>
          </p:nvSpPr>
          <p:spPr>
            <a:xfrm rot="16200000">
              <a:off x="231480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6200000">
              <a:off x="241164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6200000">
              <a:off x="2387160" y="3709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rot="16200000">
              <a:off x="2386800" y="3756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590920" y="4191120"/>
            <a:ext cx="97200" cy="95040"/>
            <a:chOff x="2590920" y="4191120"/>
            <a:chExt cx="97200" cy="95040"/>
          </a:xfrm>
        </p:grpSpPr>
        <p:sp>
          <p:nvSpPr>
            <p:cNvPr id="1143" name=""/>
            <p:cNvSpPr/>
            <p:nvPr/>
          </p:nvSpPr>
          <p:spPr>
            <a:xfrm rot="16200000">
              <a:off x="254340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16200000">
              <a:off x="264024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rot="16200000">
              <a:off x="2615760" y="4166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6200000">
              <a:off x="2615400" y="4213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590920" y="5562720"/>
            <a:ext cx="97200" cy="95040"/>
            <a:chOff x="2590920" y="5562720"/>
            <a:chExt cx="97200" cy="95040"/>
          </a:xfrm>
        </p:grpSpPr>
        <p:sp>
          <p:nvSpPr>
            <p:cNvPr id="1148" name=""/>
            <p:cNvSpPr/>
            <p:nvPr/>
          </p:nvSpPr>
          <p:spPr>
            <a:xfrm rot="16200000">
              <a:off x="2543400" y="5609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6200000">
              <a:off x="2640240" y="5609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6200000">
              <a:off x="2615760" y="5538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6200000">
              <a:off x="2615400" y="5585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971800" y="5334120"/>
            <a:ext cx="97200" cy="95040"/>
            <a:chOff x="2971800" y="5334120"/>
            <a:chExt cx="97200" cy="95040"/>
          </a:xfrm>
        </p:grpSpPr>
        <p:sp>
          <p:nvSpPr>
            <p:cNvPr id="1153" name=""/>
            <p:cNvSpPr/>
            <p:nvPr/>
          </p:nvSpPr>
          <p:spPr>
            <a:xfrm rot="16200000">
              <a:off x="2924280" y="5381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16200000">
              <a:off x="3021120" y="5381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16200000">
              <a:off x="2996640" y="5309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16200000">
              <a:off x="2996280" y="5356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3962520" y="3962520"/>
            <a:ext cx="97200" cy="95040"/>
            <a:chOff x="3962520" y="3962520"/>
            <a:chExt cx="97200" cy="95040"/>
          </a:xfrm>
        </p:grpSpPr>
        <p:sp>
          <p:nvSpPr>
            <p:cNvPr id="1158" name=""/>
            <p:cNvSpPr/>
            <p:nvPr/>
          </p:nvSpPr>
          <p:spPr>
            <a:xfrm rot="16200000">
              <a:off x="391500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6200000">
              <a:off x="401184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16200000">
              <a:off x="3987360" y="3938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16200000">
              <a:off x="3987000" y="3985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4191120" y="5791320"/>
            <a:ext cx="97200" cy="95040"/>
            <a:chOff x="4191120" y="5791320"/>
            <a:chExt cx="97200" cy="95040"/>
          </a:xfrm>
        </p:grpSpPr>
        <p:sp>
          <p:nvSpPr>
            <p:cNvPr id="1163" name=""/>
            <p:cNvSpPr/>
            <p:nvPr/>
          </p:nvSpPr>
          <p:spPr>
            <a:xfrm rot="16200000">
              <a:off x="414360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424044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16200000">
              <a:off x="4215960" y="5766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16200000">
              <a:off x="4215600" y="5814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1676520" y="3885840"/>
            <a:ext cx="97200" cy="95400"/>
            <a:chOff x="1676520" y="3885840"/>
            <a:chExt cx="97200" cy="95400"/>
          </a:xfrm>
        </p:grpSpPr>
        <p:sp>
          <p:nvSpPr>
            <p:cNvPr id="1168" name=""/>
            <p:cNvSpPr/>
            <p:nvPr/>
          </p:nvSpPr>
          <p:spPr>
            <a:xfrm rot="16200000">
              <a:off x="1629000" y="393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16200000">
              <a:off x="1725840" y="393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16200000">
              <a:off x="1701000" y="3861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6200000">
              <a:off x="1701000" y="3908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2819520" y="4114440"/>
            <a:ext cx="97200" cy="95400"/>
            <a:chOff x="2819520" y="4114440"/>
            <a:chExt cx="97200" cy="95400"/>
          </a:xfrm>
        </p:grpSpPr>
        <p:sp>
          <p:nvSpPr>
            <p:cNvPr id="1173" name=""/>
            <p:cNvSpPr/>
            <p:nvPr/>
          </p:nvSpPr>
          <p:spPr>
            <a:xfrm rot="16200000">
              <a:off x="2772000" y="4161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6200000">
              <a:off x="2868840" y="4161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6200000">
              <a:off x="2844000" y="4089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6200000">
              <a:off x="2844000" y="4137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048120" y="4876920"/>
            <a:ext cx="97200" cy="95040"/>
            <a:chOff x="3048120" y="4876920"/>
            <a:chExt cx="97200" cy="95040"/>
          </a:xfrm>
        </p:grpSpPr>
        <p:sp>
          <p:nvSpPr>
            <p:cNvPr id="1178" name=""/>
            <p:cNvSpPr/>
            <p:nvPr/>
          </p:nvSpPr>
          <p:spPr>
            <a:xfrm rot="16200000">
              <a:off x="300060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rot="16200000">
              <a:off x="309744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rot="16200000">
              <a:off x="3072960" y="4852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16200000">
              <a:off x="3072600" y="4899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3789360" y="4191120"/>
            <a:ext cx="97200" cy="95040"/>
            <a:chOff x="3789360" y="4191120"/>
            <a:chExt cx="97200" cy="95040"/>
          </a:xfrm>
        </p:grpSpPr>
        <p:sp>
          <p:nvSpPr>
            <p:cNvPr id="1183" name=""/>
            <p:cNvSpPr/>
            <p:nvPr/>
          </p:nvSpPr>
          <p:spPr>
            <a:xfrm rot="16200000">
              <a:off x="374184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rot="16200000">
              <a:off x="383868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6200000">
              <a:off x="3814200" y="4166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rot="16200000">
              <a:off x="3813840" y="4213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3962520" y="4419720"/>
            <a:ext cx="97200" cy="95040"/>
            <a:chOff x="3962520" y="4419720"/>
            <a:chExt cx="97200" cy="95040"/>
          </a:xfrm>
        </p:grpSpPr>
        <p:sp>
          <p:nvSpPr>
            <p:cNvPr id="1188" name=""/>
            <p:cNvSpPr/>
            <p:nvPr/>
          </p:nvSpPr>
          <p:spPr>
            <a:xfrm rot="16200000">
              <a:off x="391500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200000">
              <a:off x="401184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16200000">
              <a:off x="3987360" y="4395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rot="16200000">
              <a:off x="3987000" y="4442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648320" y="5791320"/>
            <a:ext cx="97200" cy="95040"/>
            <a:chOff x="4648320" y="5791320"/>
            <a:chExt cx="97200" cy="95040"/>
          </a:xfrm>
        </p:grpSpPr>
        <p:sp>
          <p:nvSpPr>
            <p:cNvPr id="1193" name=""/>
            <p:cNvSpPr/>
            <p:nvPr/>
          </p:nvSpPr>
          <p:spPr>
            <a:xfrm rot="16200000">
              <a:off x="460080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6200000">
              <a:off x="469764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16200000">
              <a:off x="4673160" y="5766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6200000">
              <a:off x="4672800" y="5814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905120" y="1905120"/>
            <a:ext cx="97200" cy="95040"/>
            <a:chOff x="1905120" y="1905120"/>
            <a:chExt cx="97200" cy="95040"/>
          </a:xfrm>
        </p:grpSpPr>
        <p:sp>
          <p:nvSpPr>
            <p:cNvPr id="1198" name=""/>
            <p:cNvSpPr/>
            <p:nvPr/>
          </p:nvSpPr>
          <p:spPr>
            <a:xfrm rot="16200000">
              <a:off x="1857600" y="1952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6200000">
              <a:off x="1954440" y="1952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6200000">
              <a:off x="1929960" y="1880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6200000">
              <a:off x="1929600" y="1927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3276720" y="3962520"/>
            <a:ext cx="97200" cy="95040"/>
            <a:chOff x="3276720" y="3962520"/>
            <a:chExt cx="97200" cy="95040"/>
          </a:xfrm>
        </p:grpSpPr>
        <p:sp>
          <p:nvSpPr>
            <p:cNvPr id="1203" name=""/>
            <p:cNvSpPr/>
            <p:nvPr/>
          </p:nvSpPr>
          <p:spPr>
            <a:xfrm rot="16200000">
              <a:off x="322920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16200000">
              <a:off x="332604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3301560" y="3938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16200000">
              <a:off x="3301200" y="3985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2590920" y="4648320"/>
            <a:ext cx="97200" cy="95040"/>
            <a:chOff x="2590920" y="4648320"/>
            <a:chExt cx="97200" cy="95040"/>
          </a:xfrm>
        </p:grpSpPr>
        <p:sp>
          <p:nvSpPr>
            <p:cNvPr id="1208" name=""/>
            <p:cNvSpPr/>
            <p:nvPr/>
          </p:nvSpPr>
          <p:spPr>
            <a:xfrm rot="16200000">
              <a:off x="254340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16200000">
              <a:off x="26402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16200000">
              <a:off x="261576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16200000">
              <a:off x="261540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819520" y="4648320"/>
            <a:ext cx="97200" cy="95040"/>
            <a:chOff x="2819520" y="4648320"/>
            <a:chExt cx="97200" cy="95040"/>
          </a:xfrm>
        </p:grpSpPr>
        <p:sp>
          <p:nvSpPr>
            <p:cNvPr id="1213" name=""/>
            <p:cNvSpPr/>
            <p:nvPr/>
          </p:nvSpPr>
          <p:spPr>
            <a:xfrm rot="16200000">
              <a:off x="277200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16200000">
              <a:off x="28688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16200000">
              <a:off x="284436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16200000">
              <a:off x="284400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990720" y="6629040"/>
            <a:ext cx="97200" cy="95400"/>
            <a:chOff x="990720" y="6629040"/>
            <a:chExt cx="97200" cy="95400"/>
          </a:xfrm>
        </p:grpSpPr>
        <p:sp>
          <p:nvSpPr>
            <p:cNvPr id="1218" name=""/>
            <p:cNvSpPr/>
            <p:nvPr/>
          </p:nvSpPr>
          <p:spPr>
            <a:xfrm rot="16200000">
              <a:off x="943200" y="6676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16200000">
              <a:off x="1040040" y="6676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16200000">
              <a:off x="1015200" y="6604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6200000">
              <a:off x="1015200" y="6652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590920" y="2362320"/>
            <a:ext cx="97200" cy="95040"/>
            <a:chOff x="2590920" y="2362320"/>
            <a:chExt cx="97200" cy="95040"/>
          </a:xfrm>
        </p:grpSpPr>
        <p:sp>
          <p:nvSpPr>
            <p:cNvPr id="1223" name=""/>
            <p:cNvSpPr/>
            <p:nvPr/>
          </p:nvSpPr>
          <p:spPr>
            <a:xfrm rot="16200000">
              <a:off x="254340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6200000">
              <a:off x="2640240" y="240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2615760" y="2337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200000">
              <a:off x="2615400" y="2385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2590920" y="3276720"/>
            <a:ext cx="97200" cy="95040"/>
            <a:chOff x="2590920" y="3276720"/>
            <a:chExt cx="97200" cy="95040"/>
          </a:xfrm>
        </p:grpSpPr>
        <p:sp>
          <p:nvSpPr>
            <p:cNvPr id="1228" name=""/>
            <p:cNvSpPr/>
            <p:nvPr/>
          </p:nvSpPr>
          <p:spPr>
            <a:xfrm rot="16200000">
              <a:off x="254340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264024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200000">
              <a:off x="2615760" y="3252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200000">
              <a:off x="2615400" y="3299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2819520" y="3276720"/>
            <a:ext cx="97200" cy="95040"/>
            <a:chOff x="2819520" y="3276720"/>
            <a:chExt cx="97200" cy="95040"/>
          </a:xfrm>
        </p:grpSpPr>
        <p:sp>
          <p:nvSpPr>
            <p:cNvPr id="1233" name=""/>
            <p:cNvSpPr/>
            <p:nvPr/>
          </p:nvSpPr>
          <p:spPr>
            <a:xfrm rot="16200000">
              <a:off x="277200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200000">
              <a:off x="286884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200000">
              <a:off x="2844360" y="3252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16200000">
              <a:off x="2844000" y="3299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676520" y="4191120"/>
            <a:ext cx="97200" cy="95040"/>
            <a:chOff x="1676520" y="4191120"/>
            <a:chExt cx="97200" cy="95040"/>
          </a:xfrm>
        </p:grpSpPr>
        <p:sp>
          <p:nvSpPr>
            <p:cNvPr id="1238" name=""/>
            <p:cNvSpPr/>
            <p:nvPr/>
          </p:nvSpPr>
          <p:spPr>
            <a:xfrm rot="16200000">
              <a:off x="162900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200000">
              <a:off x="172584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6200000">
              <a:off x="1701360" y="4166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6200000">
              <a:off x="1701000" y="4213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048120" y="4648320"/>
            <a:ext cx="97200" cy="95040"/>
            <a:chOff x="3048120" y="4648320"/>
            <a:chExt cx="97200" cy="95040"/>
          </a:xfrm>
        </p:grpSpPr>
        <p:sp>
          <p:nvSpPr>
            <p:cNvPr id="1243" name=""/>
            <p:cNvSpPr/>
            <p:nvPr/>
          </p:nvSpPr>
          <p:spPr>
            <a:xfrm rot="16200000">
              <a:off x="300060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6200000">
              <a:off x="30974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6200000">
              <a:off x="307296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rot="16200000">
              <a:off x="307260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962520" y="4857840"/>
            <a:ext cx="97200" cy="95040"/>
            <a:chOff x="3962520" y="4857840"/>
            <a:chExt cx="97200" cy="95040"/>
          </a:xfrm>
        </p:grpSpPr>
        <p:sp>
          <p:nvSpPr>
            <p:cNvPr id="1248" name=""/>
            <p:cNvSpPr/>
            <p:nvPr/>
          </p:nvSpPr>
          <p:spPr>
            <a:xfrm rot="16200000">
              <a:off x="3915000" y="4905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4011840" y="4905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3987360" y="4833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3987000" y="4880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505320" y="5334120"/>
            <a:ext cx="97200" cy="95040"/>
            <a:chOff x="3505320" y="5334120"/>
            <a:chExt cx="97200" cy="95040"/>
          </a:xfrm>
        </p:grpSpPr>
        <p:sp>
          <p:nvSpPr>
            <p:cNvPr id="1253" name=""/>
            <p:cNvSpPr/>
            <p:nvPr/>
          </p:nvSpPr>
          <p:spPr>
            <a:xfrm rot="16200000">
              <a:off x="3457800" y="5381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3554640" y="5381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3530160" y="5309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3529800" y="5356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3733920" y="5334120"/>
            <a:ext cx="97200" cy="95040"/>
            <a:chOff x="3733920" y="5334120"/>
            <a:chExt cx="97200" cy="95040"/>
          </a:xfrm>
        </p:grpSpPr>
        <p:sp>
          <p:nvSpPr>
            <p:cNvPr id="1258" name=""/>
            <p:cNvSpPr/>
            <p:nvPr/>
          </p:nvSpPr>
          <p:spPr>
            <a:xfrm rot="16200000">
              <a:off x="3686400" y="5381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783240" y="5381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758760" y="5309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758400" y="5356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3733920" y="5562720"/>
            <a:ext cx="97200" cy="95040"/>
            <a:chOff x="3733920" y="5562720"/>
            <a:chExt cx="97200" cy="95040"/>
          </a:xfrm>
        </p:grpSpPr>
        <p:sp>
          <p:nvSpPr>
            <p:cNvPr id="1263" name=""/>
            <p:cNvSpPr/>
            <p:nvPr/>
          </p:nvSpPr>
          <p:spPr>
            <a:xfrm rot="16200000">
              <a:off x="3686400" y="5609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3783240" y="5609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3758760" y="5538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3758400" y="5585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5105520" y="5791320"/>
            <a:ext cx="97200" cy="95040"/>
            <a:chOff x="5105520" y="5791320"/>
            <a:chExt cx="97200" cy="95040"/>
          </a:xfrm>
        </p:grpSpPr>
        <p:sp>
          <p:nvSpPr>
            <p:cNvPr id="1268" name=""/>
            <p:cNvSpPr/>
            <p:nvPr/>
          </p:nvSpPr>
          <p:spPr>
            <a:xfrm rot="16200000">
              <a:off x="505800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15484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5130360" y="5766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5130000" y="5814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4419720" y="4571640"/>
            <a:ext cx="97200" cy="95400"/>
            <a:chOff x="4419720" y="4571640"/>
            <a:chExt cx="97200" cy="95400"/>
          </a:xfrm>
        </p:grpSpPr>
        <p:sp>
          <p:nvSpPr>
            <p:cNvPr id="1273" name=""/>
            <p:cNvSpPr/>
            <p:nvPr/>
          </p:nvSpPr>
          <p:spPr>
            <a:xfrm rot="16200000">
              <a:off x="4372200" y="4619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4469040" y="4619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4444200" y="4546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4444200" y="4594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5562720" y="4876920"/>
            <a:ext cx="97200" cy="95040"/>
            <a:chOff x="5562720" y="4876920"/>
            <a:chExt cx="97200" cy="95040"/>
          </a:xfrm>
        </p:grpSpPr>
        <p:sp>
          <p:nvSpPr>
            <p:cNvPr id="1278" name=""/>
            <p:cNvSpPr/>
            <p:nvPr/>
          </p:nvSpPr>
          <p:spPr>
            <a:xfrm rot="16200000">
              <a:off x="551520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rot="16200000">
              <a:off x="561204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6200000">
              <a:off x="5587560" y="4852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rot="16200000">
              <a:off x="5587200" y="4899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5334120" y="4648320"/>
            <a:ext cx="97200" cy="95040"/>
            <a:chOff x="5334120" y="4648320"/>
            <a:chExt cx="97200" cy="95040"/>
          </a:xfrm>
        </p:grpSpPr>
        <p:sp>
          <p:nvSpPr>
            <p:cNvPr id="1283" name=""/>
            <p:cNvSpPr/>
            <p:nvPr/>
          </p:nvSpPr>
          <p:spPr>
            <a:xfrm rot="16200000">
              <a:off x="528660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6200000">
              <a:off x="53834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16200000">
              <a:off x="535896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6200000">
              <a:off x="535860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334120" y="4419720"/>
            <a:ext cx="97200" cy="95040"/>
            <a:chOff x="5334120" y="4419720"/>
            <a:chExt cx="97200" cy="95040"/>
          </a:xfrm>
        </p:grpSpPr>
        <p:sp>
          <p:nvSpPr>
            <p:cNvPr id="1288" name=""/>
            <p:cNvSpPr/>
            <p:nvPr/>
          </p:nvSpPr>
          <p:spPr>
            <a:xfrm rot="16200000">
              <a:off x="528660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16200000">
              <a:off x="538344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6200000">
              <a:off x="5358960" y="4395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rot="16200000">
              <a:off x="5358600" y="4442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5562720" y="4419720"/>
            <a:ext cx="97200" cy="95040"/>
            <a:chOff x="5562720" y="4419720"/>
            <a:chExt cx="97200" cy="95040"/>
          </a:xfrm>
        </p:grpSpPr>
        <p:sp>
          <p:nvSpPr>
            <p:cNvPr id="1293" name=""/>
            <p:cNvSpPr/>
            <p:nvPr/>
          </p:nvSpPr>
          <p:spPr>
            <a:xfrm rot="16200000">
              <a:off x="551520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16200000">
              <a:off x="561204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16200000">
              <a:off x="5587560" y="4395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6200000">
              <a:off x="5587200" y="4442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6019920" y="5105520"/>
            <a:ext cx="97200" cy="95040"/>
            <a:chOff x="6019920" y="5105520"/>
            <a:chExt cx="97200" cy="95040"/>
          </a:xfrm>
        </p:grpSpPr>
        <p:sp>
          <p:nvSpPr>
            <p:cNvPr id="1298" name=""/>
            <p:cNvSpPr/>
            <p:nvPr/>
          </p:nvSpPr>
          <p:spPr>
            <a:xfrm rot="16200000">
              <a:off x="597240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16200000">
              <a:off x="606924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16200000">
              <a:off x="6044760" y="5081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16200000">
              <a:off x="6044400" y="5128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6477120" y="5105520"/>
            <a:ext cx="97200" cy="95040"/>
            <a:chOff x="6477120" y="5105520"/>
            <a:chExt cx="97200" cy="95040"/>
          </a:xfrm>
        </p:grpSpPr>
        <p:sp>
          <p:nvSpPr>
            <p:cNvPr id="1303" name=""/>
            <p:cNvSpPr/>
            <p:nvPr/>
          </p:nvSpPr>
          <p:spPr>
            <a:xfrm rot="16200000">
              <a:off x="642960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16200000">
              <a:off x="652644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16200000">
              <a:off x="6501960" y="5081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16200000">
              <a:off x="6501600" y="5128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848720" y="4876920"/>
            <a:ext cx="97200" cy="95040"/>
            <a:chOff x="7848720" y="4876920"/>
            <a:chExt cx="97200" cy="95040"/>
          </a:xfrm>
        </p:grpSpPr>
        <p:sp>
          <p:nvSpPr>
            <p:cNvPr id="1308" name=""/>
            <p:cNvSpPr/>
            <p:nvPr/>
          </p:nvSpPr>
          <p:spPr>
            <a:xfrm rot="16200000">
              <a:off x="780120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16200000">
              <a:off x="789804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16200000">
              <a:off x="7873560" y="4852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16200000">
              <a:off x="7873200" y="4899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562720" y="3733920"/>
            <a:ext cx="97200" cy="95040"/>
            <a:chOff x="5562720" y="3733920"/>
            <a:chExt cx="97200" cy="95040"/>
          </a:xfrm>
        </p:grpSpPr>
        <p:sp>
          <p:nvSpPr>
            <p:cNvPr id="1313" name=""/>
            <p:cNvSpPr/>
            <p:nvPr/>
          </p:nvSpPr>
          <p:spPr>
            <a:xfrm rot="16200000">
              <a:off x="551520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16200000">
              <a:off x="561204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16200000">
              <a:off x="5587560" y="3709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16200000">
              <a:off x="5587200" y="3756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5181480" y="3962520"/>
            <a:ext cx="97200" cy="95040"/>
            <a:chOff x="5181480" y="3962520"/>
            <a:chExt cx="97200" cy="95040"/>
          </a:xfrm>
        </p:grpSpPr>
        <p:sp>
          <p:nvSpPr>
            <p:cNvPr id="1318" name=""/>
            <p:cNvSpPr/>
            <p:nvPr/>
          </p:nvSpPr>
          <p:spPr>
            <a:xfrm rot="16200000">
              <a:off x="513396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16200000">
              <a:off x="523080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16200000">
              <a:off x="5206320" y="3938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6200000">
              <a:off x="5205960" y="3985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6477120" y="3962520"/>
            <a:ext cx="97200" cy="95040"/>
            <a:chOff x="6477120" y="3962520"/>
            <a:chExt cx="97200" cy="95040"/>
          </a:xfrm>
        </p:grpSpPr>
        <p:sp>
          <p:nvSpPr>
            <p:cNvPr id="1323" name=""/>
            <p:cNvSpPr/>
            <p:nvPr/>
          </p:nvSpPr>
          <p:spPr>
            <a:xfrm rot="16200000">
              <a:off x="642960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16200000">
              <a:off x="6526440" y="40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16200000">
              <a:off x="6501960" y="3938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16200000">
              <a:off x="6501600" y="3985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6989760" y="3733920"/>
            <a:ext cx="97200" cy="95040"/>
            <a:chOff x="6989760" y="3733920"/>
            <a:chExt cx="97200" cy="95040"/>
          </a:xfrm>
        </p:grpSpPr>
        <p:sp>
          <p:nvSpPr>
            <p:cNvPr id="1328" name=""/>
            <p:cNvSpPr/>
            <p:nvPr/>
          </p:nvSpPr>
          <p:spPr>
            <a:xfrm rot="16200000">
              <a:off x="694224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16200000">
              <a:off x="703908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16200000">
              <a:off x="7014600" y="3709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16200000">
              <a:off x="7014240" y="3756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5334120" y="3885840"/>
            <a:ext cx="97200" cy="95400"/>
            <a:chOff x="5334120" y="3885840"/>
            <a:chExt cx="97200" cy="95400"/>
          </a:xfrm>
        </p:grpSpPr>
        <p:sp>
          <p:nvSpPr>
            <p:cNvPr id="1333" name=""/>
            <p:cNvSpPr/>
            <p:nvPr/>
          </p:nvSpPr>
          <p:spPr>
            <a:xfrm rot="16200000">
              <a:off x="5286600" y="393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rot="16200000">
              <a:off x="5383440" y="393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16200000">
              <a:off x="5358600" y="3861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6200000">
              <a:off x="5358600" y="3908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3962520" y="3276720"/>
            <a:ext cx="95040" cy="97200"/>
            <a:chOff x="3962520" y="3276720"/>
            <a:chExt cx="95040" cy="97200"/>
          </a:xfrm>
        </p:grpSpPr>
        <p:sp>
          <p:nvSpPr>
            <p:cNvPr id="1338" name=""/>
            <p:cNvSpPr/>
            <p:nvPr/>
          </p:nvSpPr>
          <p:spPr>
            <a:xfrm>
              <a:off x="3962520" y="3276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962520" y="3373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010040" y="3276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62520" y="3276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4572000" y="3411360"/>
            <a:ext cx="88920" cy="93960"/>
            <a:chOff x="4572000" y="3411360"/>
            <a:chExt cx="88920" cy="93960"/>
          </a:xfrm>
        </p:grpSpPr>
        <p:sp>
          <p:nvSpPr>
            <p:cNvPr id="1343" name=""/>
            <p:cNvSpPr/>
            <p:nvPr/>
          </p:nvSpPr>
          <p:spPr>
            <a:xfrm>
              <a:off x="4572000" y="3411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72000" y="3486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616280" y="3411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572000" y="3411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343400" y="3276720"/>
            <a:ext cx="97200" cy="95040"/>
            <a:chOff x="4343400" y="3276720"/>
            <a:chExt cx="97200" cy="95040"/>
          </a:xfrm>
        </p:grpSpPr>
        <p:sp>
          <p:nvSpPr>
            <p:cNvPr id="1348" name=""/>
            <p:cNvSpPr/>
            <p:nvPr/>
          </p:nvSpPr>
          <p:spPr>
            <a:xfrm rot="16200000">
              <a:off x="429588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rot="16200000">
              <a:off x="4392720" y="332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rot="16200000">
              <a:off x="4368240" y="3252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4367880" y="3299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648320" y="3962160"/>
            <a:ext cx="93600" cy="88920"/>
            <a:chOff x="4648320" y="3962160"/>
            <a:chExt cx="93600" cy="88920"/>
          </a:xfrm>
        </p:grpSpPr>
        <p:sp>
          <p:nvSpPr>
            <p:cNvPr id="1353" name=""/>
            <p:cNvSpPr/>
            <p:nvPr/>
          </p:nvSpPr>
          <p:spPr>
            <a:xfrm rot="16200000">
              <a:off x="4613040" y="3997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rot="16200000">
              <a:off x="4687920" y="399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rot="16200000">
              <a:off x="4672800" y="3937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6200000">
              <a:off x="4672800" y="3981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4876920" y="2819160"/>
            <a:ext cx="93600" cy="88920"/>
            <a:chOff x="4876920" y="2819160"/>
            <a:chExt cx="93600" cy="88920"/>
          </a:xfrm>
        </p:grpSpPr>
        <p:sp>
          <p:nvSpPr>
            <p:cNvPr id="1358" name=""/>
            <p:cNvSpPr/>
            <p:nvPr/>
          </p:nvSpPr>
          <p:spPr>
            <a:xfrm rot="16200000">
              <a:off x="4841640" y="2854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16200000">
              <a:off x="4916520" y="2854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16200000">
              <a:off x="4901400" y="2794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16200000">
              <a:off x="4901400" y="2838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2566800" y="2568240"/>
            <a:ext cx="176040" cy="174600"/>
            <a:chOff x="2566800" y="2568240"/>
            <a:chExt cx="176040" cy="174600"/>
          </a:xfrm>
        </p:grpSpPr>
        <p:sp>
          <p:nvSpPr>
            <p:cNvPr id="1363" name=""/>
            <p:cNvSpPr/>
            <p:nvPr/>
          </p:nvSpPr>
          <p:spPr>
            <a:xfrm rot="10800000">
              <a:off x="2642400" y="2718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10800000">
              <a:off x="2642400" y="2618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10800000">
              <a:off x="2692440" y="2568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10800000">
              <a:off x="2566800" y="2568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10800000">
              <a:off x="2566800" y="2618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10800000">
              <a:off x="2566800" y="2568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"/>
          <p:cNvGrpSpPr/>
          <p:nvPr/>
        </p:nvGrpSpPr>
        <p:grpSpPr>
          <a:xfrm>
            <a:off x="2819160" y="3428640"/>
            <a:ext cx="176040" cy="174600"/>
            <a:chOff x="2819160" y="3428640"/>
            <a:chExt cx="176040" cy="174600"/>
          </a:xfrm>
        </p:grpSpPr>
        <p:sp>
          <p:nvSpPr>
            <p:cNvPr id="1370" name=""/>
            <p:cNvSpPr/>
            <p:nvPr/>
          </p:nvSpPr>
          <p:spPr>
            <a:xfrm rot="10800000">
              <a:off x="2894760" y="3578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10800000">
              <a:off x="2894760" y="34786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10800000">
              <a:off x="2944800" y="34286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0800000">
              <a:off x="2819160" y="34286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0800000">
              <a:off x="2819160" y="34790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10800000">
              <a:off x="2819160" y="34286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6" name=""/>
          <p:cNvGrpSpPr/>
          <p:nvPr/>
        </p:nvGrpSpPr>
        <p:grpSpPr>
          <a:xfrm>
            <a:off x="3047760" y="1371240"/>
            <a:ext cx="176040" cy="174600"/>
            <a:chOff x="3047760" y="1371240"/>
            <a:chExt cx="176040" cy="174600"/>
          </a:xfrm>
        </p:grpSpPr>
        <p:sp>
          <p:nvSpPr>
            <p:cNvPr id="1377" name=""/>
            <p:cNvSpPr/>
            <p:nvPr/>
          </p:nvSpPr>
          <p:spPr>
            <a:xfrm rot="10800000">
              <a:off x="3123360" y="1521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10800000">
              <a:off x="3123360" y="1421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0800000">
              <a:off x="3173400" y="1371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10800000">
              <a:off x="3047760" y="1371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10800000">
              <a:off x="3047760" y="1421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10800000">
              <a:off x="3047760" y="1371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5257440" y="1371240"/>
            <a:ext cx="176040" cy="174600"/>
            <a:chOff x="5257440" y="1371240"/>
            <a:chExt cx="176040" cy="174600"/>
          </a:xfrm>
        </p:grpSpPr>
        <p:sp>
          <p:nvSpPr>
            <p:cNvPr id="1384" name=""/>
            <p:cNvSpPr/>
            <p:nvPr/>
          </p:nvSpPr>
          <p:spPr>
            <a:xfrm rot="10800000">
              <a:off x="5333040" y="1521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10800000">
              <a:off x="5333040" y="1421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10800000">
              <a:off x="5383080" y="1371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10800000">
              <a:off x="5257440" y="1371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10800000">
              <a:off x="5257440" y="1421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10800000">
              <a:off x="5257440" y="1371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224400" y="914040"/>
            <a:ext cx="176040" cy="174600"/>
            <a:chOff x="6224400" y="914040"/>
            <a:chExt cx="176040" cy="174600"/>
          </a:xfrm>
        </p:grpSpPr>
        <p:sp>
          <p:nvSpPr>
            <p:cNvPr id="1391" name=""/>
            <p:cNvSpPr/>
            <p:nvPr/>
          </p:nvSpPr>
          <p:spPr>
            <a:xfrm rot="10800000">
              <a:off x="6300000" y="1063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10800000">
              <a:off x="6300000" y="9640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0800000">
              <a:off x="6350040" y="9140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0800000">
              <a:off x="6224400" y="9140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10800000">
              <a:off x="6224400" y="9644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10800000">
              <a:off x="6224400" y="9140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7619760" y="1599840"/>
            <a:ext cx="176040" cy="174600"/>
            <a:chOff x="7619760" y="1599840"/>
            <a:chExt cx="176040" cy="174600"/>
          </a:xfrm>
        </p:grpSpPr>
        <p:sp>
          <p:nvSpPr>
            <p:cNvPr id="1398" name=""/>
            <p:cNvSpPr/>
            <p:nvPr/>
          </p:nvSpPr>
          <p:spPr>
            <a:xfrm rot="10800000">
              <a:off x="7695360" y="1749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10800000">
              <a:off x="7695360" y="16498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10800000">
              <a:off x="7745400" y="15998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0800000">
              <a:off x="7619760" y="15998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0800000">
              <a:off x="7619760" y="16502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0800000">
              <a:off x="7619760" y="15998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6681600" y="2514240"/>
            <a:ext cx="176040" cy="174600"/>
            <a:chOff x="6681600" y="2514240"/>
            <a:chExt cx="176040" cy="174600"/>
          </a:xfrm>
        </p:grpSpPr>
        <p:sp>
          <p:nvSpPr>
            <p:cNvPr id="1405" name=""/>
            <p:cNvSpPr/>
            <p:nvPr/>
          </p:nvSpPr>
          <p:spPr>
            <a:xfrm rot="10800000">
              <a:off x="6757200" y="2664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10800000">
              <a:off x="6757200" y="2564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10800000">
              <a:off x="6807240" y="2514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0800000">
              <a:off x="6681600" y="2514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rot="10800000">
              <a:off x="6681600" y="2564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rot="10800000">
              <a:off x="6681600" y="2514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538600" y="2971440"/>
            <a:ext cx="176040" cy="174600"/>
            <a:chOff x="5538600" y="2971440"/>
            <a:chExt cx="176040" cy="174600"/>
          </a:xfrm>
        </p:grpSpPr>
        <p:sp>
          <p:nvSpPr>
            <p:cNvPr id="1412" name=""/>
            <p:cNvSpPr/>
            <p:nvPr/>
          </p:nvSpPr>
          <p:spPr>
            <a:xfrm rot="10800000">
              <a:off x="5614200" y="31212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rot="10800000">
              <a:off x="5614200" y="30214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10800000">
              <a:off x="5664240" y="29714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10800000">
              <a:off x="5538600" y="29714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10800000">
              <a:off x="5538600" y="30218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rot="10800000">
              <a:off x="5538600" y="29714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5333760" y="3254040"/>
            <a:ext cx="176040" cy="174600"/>
            <a:chOff x="5333760" y="3254040"/>
            <a:chExt cx="176040" cy="174600"/>
          </a:xfrm>
        </p:grpSpPr>
        <p:sp>
          <p:nvSpPr>
            <p:cNvPr id="1419" name=""/>
            <p:cNvSpPr/>
            <p:nvPr/>
          </p:nvSpPr>
          <p:spPr>
            <a:xfrm rot="10800000">
              <a:off x="5409360" y="3403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0800000">
              <a:off x="5409360" y="33040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10800000">
              <a:off x="5459400" y="32540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10800000">
              <a:off x="5333760" y="32540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10800000">
              <a:off x="5333760" y="33044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10800000">
              <a:off x="5333760" y="32540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5105160" y="4800240"/>
            <a:ext cx="176040" cy="174600"/>
            <a:chOff x="5105160" y="4800240"/>
            <a:chExt cx="176040" cy="174600"/>
          </a:xfrm>
        </p:grpSpPr>
        <p:sp>
          <p:nvSpPr>
            <p:cNvPr id="1426" name=""/>
            <p:cNvSpPr/>
            <p:nvPr/>
          </p:nvSpPr>
          <p:spPr>
            <a:xfrm rot="10800000">
              <a:off x="5180760" y="4950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10800000">
              <a:off x="5180760" y="4850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0800000">
              <a:off x="5230800" y="4800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0800000">
              <a:off x="5105160" y="4800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10800000">
              <a:off x="5105160" y="4850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0800000">
              <a:off x="5105160" y="4800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5562360" y="5028840"/>
            <a:ext cx="176040" cy="174600"/>
            <a:chOff x="5562360" y="5028840"/>
            <a:chExt cx="176040" cy="174600"/>
          </a:xfrm>
        </p:grpSpPr>
        <p:sp>
          <p:nvSpPr>
            <p:cNvPr id="1433" name=""/>
            <p:cNvSpPr/>
            <p:nvPr/>
          </p:nvSpPr>
          <p:spPr>
            <a:xfrm rot="10800000">
              <a:off x="5637960" y="5178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10800000">
              <a:off x="5637960" y="50788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0800000">
              <a:off x="5688000" y="50288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10800000">
              <a:off x="5562360" y="50288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10800000">
              <a:off x="5562360" y="50792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0800000">
              <a:off x="5562360" y="50288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3885840" y="5486040"/>
            <a:ext cx="176040" cy="174600"/>
            <a:chOff x="3885840" y="5486040"/>
            <a:chExt cx="176040" cy="174600"/>
          </a:xfrm>
        </p:grpSpPr>
        <p:sp>
          <p:nvSpPr>
            <p:cNvPr id="1440" name=""/>
            <p:cNvSpPr/>
            <p:nvPr/>
          </p:nvSpPr>
          <p:spPr>
            <a:xfrm rot="10800000">
              <a:off x="3961440" y="5635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10800000">
              <a:off x="3961440" y="55360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10800000">
              <a:off x="4011480" y="54860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10800000">
              <a:off x="3885840" y="54860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rot="10800000">
              <a:off x="3885840" y="55364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rot="10800000">
              <a:off x="3885840" y="54860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3276360" y="4647960"/>
            <a:ext cx="176040" cy="174600"/>
            <a:chOff x="3276360" y="4647960"/>
            <a:chExt cx="176040" cy="174600"/>
          </a:xfrm>
        </p:grpSpPr>
        <p:sp>
          <p:nvSpPr>
            <p:cNvPr id="1447" name=""/>
            <p:cNvSpPr/>
            <p:nvPr/>
          </p:nvSpPr>
          <p:spPr>
            <a:xfrm rot="10800000">
              <a:off x="3351960" y="479772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10800000">
              <a:off x="3351960" y="46980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0800000">
              <a:off x="3402000" y="464796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rot="10800000">
              <a:off x="3276360" y="46479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10800000">
              <a:off x="3276360" y="469836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0800000">
              <a:off x="3276360" y="464796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2590560" y="5943240"/>
            <a:ext cx="176040" cy="174600"/>
            <a:chOff x="2590560" y="5943240"/>
            <a:chExt cx="176040" cy="174600"/>
          </a:xfrm>
        </p:grpSpPr>
        <p:sp>
          <p:nvSpPr>
            <p:cNvPr id="1454" name=""/>
            <p:cNvSpPr/>
            <p:nvPr/>
          </p:nvSpPr>
          <p:spPr>
            <a:xfrm rot="10800000">
              <a:off x="2666160" y="6093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10800000">
              <a:off x="2666160" y="5993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10800000">
              <a:off x="2716200" y="5943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10800000">
              <a:off x="2590560" y="5943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10800000">
              <a:off x="2590560" y="5993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10800000">
              <a:off x="2590560" y="5943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2057040" y="2109960"/>
            <a:ext cx="174600" cy="176040"/>
            <a:chOff x="2057040" y="2109960"/>
            <a:chExt cx="174600" cy="176040"/>
          </a:xfrm>
        </p:grpSpPr>
        <p:sp>
          <p:nvSpPr>
            <p:cNvPr id="1461" name=""/>
            <p:cNvSpPr/>
            <p:nvPr/>
          </p:nvSpPr>
          <p:spPr>
            <a:xfrm rot="5400000">
              <a:off x="2169000" y="214776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5400000">
              <a:off x="2144160" y="212292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5400000">
              <a:off x="2118960" y="20476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5400000">
              <a:off x="2094480" y="22233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rot="5400000">
              <a:off x="2069280" y="219816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5400000">
              <a:off x="1994040" y="217296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3200040" y="1143000"/>
            <a:ext cx="174600" cy="176040"/>
            <a:chOff x="3200040" y="1143000"/>
            <a:chExt cx="174600" cy="176040"/>
          </a:xfrm>
        </p:grpSpPr>
        <p:sp>
          <p:nvSpPr>
            <p:cNvPr id="1468" name=""/>
            <p:cNvSpPr/>
            <p:nvPr/>
          </p:nvSpPr>
          <p:spPr>
            <a:xfrm rot="5400000">
              <a:off x="3312000" y="1180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5400000">
              <a:off x="3287160" y="11559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5400000">
              <a:off x="3261960" y="10807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5400000">
              <a:off x="3237480" y="1256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5400000">
              <a:off x="3212280" y="12312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5400000">
              <a:off x="3137040" y="12060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3733560" y="1828800"/>
            <a:ext cx="174600" cy="176040"/>
            <a:chOff x="3733560" y="1828800"/>
            <a:chExt cx="174600" cy="176040"/>
          </a:xfrm>
        </p:grpSpPr>
        <p:sp>
          <p:nvSpPr>
            <p:cNvPr id="1475" name=""/>
            <p:cNvSpPr/>
            <p:nvPr/>
          </p:nvSpPr>
          <p:spPr>
            <a:xfrm rot="5400000">
              <a:off x="3845520" y="1866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5400000">
              <a:off x="3820680" y="18417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5400000">
              <a:off x="3795480" y="17665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5400000">
              <a:off x="3771000" y="19422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5400000">
              <a:off x="3745800" y="19170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5400000">
              <a:off x="3670560" y="18918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057040" y="1371600"/>
            <a:ext cx="174600" cy="176040"/>
            <a:chOff x="2057040" y="1371600"/>
            <a:chExt cx="174600" cy="176040"/>
          </a:xfrm>
        </p:grpSpPr>
        <p:sp>
          <p:nvSpPr>
            <p:cNvPr id="1482" name=""/>
            <p:cNvSpPr/>
            <p:nvPr/>
          </p:nvSpPr>
          <p:spPr>
            <a:xfrm rot="5400000">
              <a:off x="2169000" y="1409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5400000">
              <a:off x="2144160" y="1384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5400000">
              <a:off x="2118960" y="13093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5400000">
              <a:off x="2094480" y="1485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5400000">
              <a:off x="2069280" y="1459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rot="5400000">
              <a:off x="1994040" y="14346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8" name=""/>
          <p:cNvGrpSpPr/>
          <p:nvPr/>
        </p:nvGrpSpPr>
        <p:grpSpPr>
          <a:xfrm>
            <a:off x="2361960" y="2819520"/>
            <a:ext cx="174600" cy="176040"/>
            <a:chOff x="2361960" y="2819520"/>
            <a:chExt cx="174600" cy="176040"/>
          </a:xfrm>
        </p:grpSpPr>
        <p:sp>
          <p:nvSpPr>
            <p:cNvPr id="1489" name=""/>
            <p:cNvSpPr/>
            <p:nvPr/>
          </p:nvSpPr>
          <p:spPr>
            <a:xfrm rot="5400000">
              <a:off x="2473920" y="285732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5400000">
              <a:off x="2449080" y="28324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5400000">
              <a:off x="2423880" y="2757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5400000">
              <a:off x="2399400" y="293292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2374200" y="290772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5400000">
              <a:off x="2298960" y="288252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5486040" y="1828800"/>
            <a:ext cx="174600" cy="176040"/>
            <a:chOff x="5486040" y="1828800"/>
            <a:chExt cx="174600" cy="176040"/>
          </a:xfrm>
        </p:grpSpPr>
        <p:sp>
          <p:nvSpPr>
            <p:cNvPr id="1496" name=""/>
            <p:cNvSpPr/>
            <p:nvPr/>
          </p:nvSpPr>
          <p:spPr>
            <a:xfrm rot="5400000">
              <a:off x="5598000" y="1866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5400000">
              <a:off x="5573160" y="18417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rot="5400000">
              <a:off x="5547960" y="17665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5400000">
              <a:off x="5523480" y="19422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rot="5400000">
              <a:off x="5498280" y="19170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5400000">
              <a:off x="5423040" y="18918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6857640" y="2743200"/>
            <a:ext cx="174600" cy="176040"/>
            <a:chOff x="6857640" y="2743200"/>
            <a:chExt cx="174600" cy="176040"/>
          </a:xfrm>
        </p:grpSpPr>
        <p:sp>
          <p:nvSpPr>
            <p:cNvPr id="1503" name=""/>
            <p:cNvSpPr/>
            <p:nvPr/>
          </p:nvSpPr>
          <p:spPr>
            <a:xfrm rot="5400000">
              <a:off x="6969600" y="2781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5400000">
              <a:off x="6944760" y="27561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5400000">
              <a:off x="6919560" y="26809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5400000">
              <a:off x="6895080" y="2856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5400000">
              <a:off x="6869880" y="28314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5400000">
              <a:off x="6794640" y="28062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6248160" y="685800"/>
            <a:ext cx="174600" cy="176040"/>
            <a:chOff x="6248160" y="685800"/>
            <a:chExt cx="174600" cy="176040"/>
          </a:xfrm>
        </p:grpSpPr>
        <p:sp>
          <p:nvSpPr>
            <p:cNvPr id="1510" name=""/>
            <p:cNvSpPr/>
            <p:nvPr/>
          </p:nvSpPr>
          <p:spPr>
            <a:xfrm rot="5400000">
              <a:off x="6360120" y="723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5400000">
              <a:off x="6335280" y="6987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5400000">
              <a:off x="6310080" y="6235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5400000">
              <a:off x="6285600" y="7992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5400000">
              <a:off x="6260400" y="7740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5400000">
              <a:off x="6185160" y="7488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7162560" y="5029200"/>
            <a:ext cx="174600" cy="176040"/>
            <a:chOff x="7162560" y="5029200"/>
            <a:chExt cx="174600" cy="176040"/>
          </a:xfrm>
        </p:grpSpPr>
        <p:sp>
          <p:nvSpPr>
            <p:cNvPr id="1517" name=""/>
            <p:cNvSpPr/>
            <p:nvPr/>
          </p:nvSpPr>
          <p:spPr>
            <a:xfrm rot="5400000">
              <a:off x="7274520" y="5067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rot="5400000">
              <a:off x="7249680" y="50421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rot="5400000">
              <a:off x="7224480" y="49669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rot="5400000">
              <a:off x="7200000" y="5142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5400000">
              <a:off x="7174800" y="51174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5400000">
              <a:off x="7099560" y="50922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4647960" y="4800600"/>
            <a:ext cx="174600" cy="176040"/>
            <a:chOff x="4647960" y="4800600"/>
            <a:chExt cx="174600" cy="176040"/>
          </a:xfrm>
        </p:grpSpPr>
        <p:sp>
          <p:nvSpPr>
            <p:cNvPr id="1524" name=""/>
            <p:cNvSpPr/>
            <p:nvPr/>
          </p:nvSpPr>
          <p:spPr>
            <a:xfrm rot="5400000">
              <a:off x="4759920" y="4838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rot="5400000">
              <a:off x="4735080" y="4813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5400000">
              <a:off x="4709880" y="47383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5400000">
              <a:off x="4685400" y="4914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5400000">
              <a:off x="4660200" y="4888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5400000">
              <a:off x="4584960" y="48636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4114440" y="4800600"/>
            <a:ext cx="174600" cy="176040"/>
            <a:chOff x="4114440" y="4800600"/>
            <a:chExt cx="174600" cy="176040"/>
          </a:xfrm>
        </p:grpSpPr>
        <p:sp>
          <p:nvSpPr>
            <p:cNvPr id="1531" name=""/>
            <p:cNvSpPr/>
            <p:nvPr/>
          </p:nvSpPr>
          <p:spPr>
            <a:xfrm rot="5400000">
              <a:off x="4226400" y="4838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5400000">
              <a:off x="4201560" y="4813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5400000">
              <a:off x="4176360" y="47383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5400000">
              <a:off x="4151880" y="4914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5400000">
              <a:off x="4126680" y="4888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5400000">
              <a:off x="4051440" y="48636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2285640" y="4343400"/>
            <a:ext cx="174600" cy="176040"/>
            <a:chOff x="2285640" y="4343400"/>
            <a:chExt cx="174600" cy="176040"/>
          </a:xfrm>
        </p:grpSpPr>
        <p:sp>
          <p:nvSpPr>
            <p:cNvPr id="1538" name=""/>
            <p:cNvSpPr/>
            <p:nvPr/>
          </p:nvSpPr>
          <p:spPr>
            <a:xfrm rot="5400000">
              <a:off x="2397600" y="43812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5400000">
              <a:off x="2372760" y="43563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5400000">
              <a:off x="2347560" y="42811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5400000">
              <a:off x="2323080" y="44568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5400000">
              <a:off x="2297880" y="44316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5400000">
              <a:off x="2222640" y="44064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71800" y="5029200"/>
            <a:ext cx="152280" cy="150840"/>
            <a:chOff x="2971800" y="5029200"/>
            <a:chExt cx="152280" cy="150840"/>
          </a:xfrm>
        </p:grpSpPr>
        <p:sp>
          <p:nvSpPr>
            <p:cNvPr id="1545" name=""/>
            <p:cNvSpPr/>
            <p:nvPr/>
          </p:nvSpPr>
          <p:spPr>
            <a:xfrm>
              <a:off x="2971800" y="50292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015360" y="50292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71800" y="50292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02480" y="50936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015360" y="50936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71800" y="51368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1" name=""/>
          <p:cNvGrpSpPr/>
          <p:nvPr/>
        </p:nvGrpSpPr>
        <p:grpSpPr>
          <a:xfrm>
            <a:off x="4343400" y="5257800"/>
            <a:ext cx="152280" cy="150840"/>
            <a:chOff x="4343400" y="5257800"/>
            <a:chExt cx="152280" cy="150840"/>
          </a:xfrm>
        </p:grpSpPr>
        <p:sp>
          <p:nvSpPr>
            <p:cNvPr id="1552" name=""/>
            <p:cNvSpPr/>
            <p:nvPr/>
          </p:nvSpPr>
          <p:spPr>
            <a:xfrm>
              <a:off x="4343400" y="52578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386960" y="52578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43400" y="52578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474080" y="53222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386960" y="53222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343400" y="53654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876920" y="2362320"/>
            <a:ext cx="152280" cy="150840"/>
            <a:chOff x="4876920" y="2362320"/>
            <a:chExt cx="152280" cy="150840"/>
          </a:xfrm>
        </p:grpSpPr>
        <p:sp>
          <p:nvSpPr>
            <p:cNvPr id="1559" name=""/>
            <p:cNvSpPr/>
            <p:nvPr/>
          </p:nvSpPr>
          <p:spPr>
            <a:xfrm>
              <a:off x="4876920" y="236232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920480" y="23623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76920" y="23623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07600" y="242676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920480" y="242676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876920" y="24699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334120" y="2057400"/>
            <a:ext cx="152280" cy="150840"/>
            <a:chOff x="5334120" y="2057400"/>
            <a:chExt cx="152280" cy="150840"/>
          </a:xfrm>
        </p:grpSpPr>
        <p:sp>
          <p:nvSpPr>
            <p:cNvPr id="1566" name=""/>
            <p:cNvSpPr/>
            <p:nvPr/>
          </p:nvSpPr>
          <p:spPr>
            <a:xfrm>
              <a:off x="5334120" y="20574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377680" y="20574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334120" y="20574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464800" y="21218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77680" y="21218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334120" y="21650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6705720" y="2286000"/>
            <a:ext cx="152280" cy="150840"/>
            <a:chOff x="6705720" y="2286000"/>
            <a:chExt cx="152280" cy="150840"/>
          </a:xfrm>
        </p:grpSpPr>
        <p:sp>
          <p:nvSpPr>
            <p:cNvPr id="1573" name=""/>
            <p:cNvSpPr/>
            <p:nvPr/>
          </p:nvSpPr>
          <p:spPr>
            <a:xfrm>
              <a:off x="6705720" y="22860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749280" y="22860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705720" y="22860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36400" y="23504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749280" y="23504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705720" y="23936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105520" y="4419720"/>
            <a:ext cx="152280" cy="150840"/>
            <a:chOff x="5105520" y="4419720"/>
            <a:chExt cx="152280" cy="150840"/>
          </a:xfrm>
        </p:grpSpPr>
        <p:sp>
          <p:nvSpPr>
            <p:cNvPr id="1580" name=""/>
            <p:cNvSpPr/>
            <p:nvPr/>
          </p:nvSpPr>
          <p:spPr>
            <a:xfrm>
              <a:off x="5105520" y="441972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149080" y="44197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05520" y="44197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36200" y="448416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49080" y="448416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105520" y="45273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6248520" y="4343400"/>
            <a:ext cx="152280" cy="150840"/>
            <a:chOff x="6248520" y="4343400"/>
            <a:chExt cx="152280" cy="150840"/>
          </a:xfrm>
        </p:grpSpPr>
        <p:sp>
          <p:nvSpPr>
            <p:cNvPr id="1587" name=""/>
            <p:cNvSpPr/>
            <p:nvPr/>
          </p:nvSpPr>
          <p:spPr>
            <a:xfrm>
              <a:off x="6248520" y="43434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292080" y="43434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248520" y="43434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379200" y="44078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292080" y="44078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48520" y="44510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715000" y="2285640"/>
            <a:ext cx="174600" cy="176040"/>
            <a:chOff x="5715000" y="2285640"/>
            <a:chExt cx="174600" cy="176040"/>
          </a:xfrm>
        </p:grpSpPr>
        <p:sp>
          <p:nvSpPr>
            <p:cNvPr id="1594" name=""/>
            <p:cNvSpPr/>
            <p:nvPr/>
          </p:nvSpPr>
          <p:spPr>
            <a:xfrm rot="16200000">
              <a:off x="5677200" y="23990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16200000">
              <a:off x="5752080" y="23238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16200000">
              <a:off x="5776920" y="23490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16200000">
              <a:off x="5826960" y="22482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6200000">
              <a:off x="5751360" y="23234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16200000">
              <a:off x="5776560" y="23486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4572000" y="1371240"/>
            <a:ext cx="174600" cy="176040"/>
            <a:chOff x="4572000" y="1371240"/>
            <a:chExt cx="174600" cy="176040"/>
          </a:xfrm>
        </p:grpSpPr>
        <p:sp>
          <p:nvSpPr>
            <p:cNvPr id="1601" name=""/>
            <p:cNvSpPr/>
            <p:nvPr/>
          </p:nvSpPr>
          <p:spPr>
            <a:xfrm rot="16200000">
              <a:off x="4534200" y="14846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16200000">
              <a:off x="4609080" y="14094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16200000">
              <a:off x="4633920" y="14346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16200000">
              <a:off x="4683960" y="13338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16200000">
              <a:off x="4608360" y="14090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16200000">
              <a:off x="4633560" y="1434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3483000" y="1371240"/>
            <a:ext cx="174600" cy="176040"/>
            <a:chOff x="3483000" y="1371240"/>
            <a:chExt cx="174600" cy="176040"/>
          </a:xfrm>
        </p:grpSpPr>
        <p:sp>
          <p:nvSpPr>
            <p:cNvPr id="1608" name=""/>
            <p:cNvSpPr/>
            <p:nvPr/>
          </p:nvSpPr>
          <p:spPr>
            <a:xfrm rot="16200000">
              <a:off x="3445200" y="14846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520080" y="14094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6200000">
              <a:off x="3544920" y="14346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6200000">
              <a:off x="3594960" y="13338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6200000">
              <a:off x="3519360" y="14090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3544560" y="1434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5715000" y="5310000"/>
            <a:ext cx="174600" cy="176040"/>
            <a:chOff x="5715000" y="5310000"/>
            <a:chExt cx="174600" cy="176040"/>
          </a:xfrm>
        </p:grpSpPr>
        <p:sp>
          <p:nvSpPr>
            <p:cNvPr id="1615" name=""/>
            <p:cNvSpPr/>
            <p:nvPr/>
          </p:nvSpPr>
          <p:spPr>
            <a:xfrm rot="16200000">
              <a:off x="5677200" y="5423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rot="16200000">
              <a:off x="5752080" y="53481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rot="16200000">
              <a:off x="5776920" y="537336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16200000">
              <a:off x="5826960" y="52725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6200000">
              <a:off x="5751360" y="5347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16200000">
              <a:off x="5776560" y="53730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1" name=""/>
          <p:cNvGrpSpPr/>
          <p:nvPr/>
        </p:nvGrpSpPr>
        <p:grpSpPr>
          <a:xfrm>
            <a:off x="6019920" y="4343040"/>
            <a:ext cx="174600" cy="176040"/>
            <a:chOff x="6019920" y="4343040"/>
            <a:chExt cx="174600" cy="176040"/>
          </a:xfrm>
        </p:grpSpPr>
        <p:sp>
          <p:nvSpPr>
            <p:cNvPr id="1622" name=""/>
            <p:cNvSpPr/>
            <p:nvPr/>
          </p:nvSpPr>
          <p:spPr>
            <a:xfrm rot="16200000">
              <a:off x="5982120" y="44564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16200000">
              <a:off x="6057000" y="43812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16200000">
              <a:off x="6081840" y="44064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16200000">
              <a:off x="6131880" y="4305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16200000">
              <a:off x="6056280" y="43808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16200000">
              <a:off x="6081480" y="44060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7086600" y="4343040"/>
            <a:ext cx="174600" cy="176040"/>
            <a:chOff x="7086600" y="4343040"/>
            <a:chExt cx="174600" cy="176040"/>
          </a:xfrm>
        </p:grpSpPr>
        <p:sp>
          <p:nvSpPr>
            <p:cNvPr id="1629" name=""/>
            <p:cNvSpPr/>
            <p:nvPr/>
          </p:nvSpPr>
          <p:spPr>
            <a:xfrm rot="16200000">
              <a:off x="7048800" y="44564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16200000">
              <a:off x="7123680" y="43812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rot="16200000">
              <a:off x="7148520" y="44064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6200000">
              <a:off x="7198560" y="4305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16200000">
              <a:off x="7122960" y="43808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16200000">
              <a:off x="7148160" y="44060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4876920" y="3885840"/>
            <a:ext cx="174600" cy="176040"/>
            <a:chOff x="4876920" y="3885840"/>
            <a:chExt cx="174600" cy="176040"/>
          </a:xfrm>
        </p:grpSpPr>
        <p:sp>
          <p:nvSpPr>
            <p:cNvPr id="1636" name=""/>
            <p:cNvSpPr/>
            <p:nvPr/>
          </p:nvSpPr>
          <p:spPr>
            <a:xfrm rot="16200000">
              <a:off x="4839120" y="39992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16200000">
              <a:off x="4914000" y="39240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4938840" y="39492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rot="16200000">
              <a:off x="4988880" y="3848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6200000">
              <a:off x="4913280" y="3923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938480" y="39488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4648320" y="3733560"/>
            <a:ext cx="174600" cy="176040"/>
            <a:chOff x="4648320" y="3733560"/>
            <a:chExt cx="174600" cy="176040"/>
          </a:xfrm>
        </p:grpSpPr>
        <p:sp>
          <p:nvSpPr>
            <p:cNvPr id="1643" name=""/>
            <p:cNvSpPr/>
            <p:nvPr/>
          </p:nvSpPr>
          <p:spPr>
            <a:xfrm rot="16200000">
              <a:off x="4610520" y="384696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4685400" y="377172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16200000">
              <a:off x="4710240" y="37969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16200000">
              <a:off x="4760280" y="369612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16200000">
              <a:off x="4684680" y="377136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16200000">
              <a:off x="4709880" y="379656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7620120" y="4800240"/>
            <a:ext cx="174600" cy="176040"/>
            <a:chOff x="7620120" y="4800240"/>
            <a:chExt cx="174600" cy="176040"/>
          </a:xfrm>
        </p:grpSpPr>
        <p:sp>
          <p:nvSpPr>
            <p:cNvPr id="1650" name=""/>
            <p:cNvSpPr/>
            <p:nvPr/>
          </p:nvSpPr>
          <p:spPr>
            <a:xfrm rot="16200000">
              <a:off x="7582320" y="49136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16200000">
              <a:off x="7657200" y="48384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16200000">
              <a:off x="7682040" y="48636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rot="16200000">
              <a:off x="7732080" y="47628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rot="16200000">
              <a:off x="7656480" y="48380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rot="16200000">
              <a:off x="7681680" y="4863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943600" y="533160"/>
            <a:ext cx="149760" cy="74520"/>
            <a:chOff x="5943600" y="533160"/>
            <a:chExt cx="149760" cy="74520"/>
          </a:xfrm>
        </p:grpSpPr>
        <p:sp>
          <p:nvSpPr>
            <p:cNvPr id="1657" name=""/>
            <p:cNvSpPr/>
            <p:nvPr/>
          </p:nvSpPr>
          <p:spPr>
            <a:xfrm rot="16200000">
              <a:off x="5906520" y="570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16200000">
              <a:off x="6055920" y="570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6200000">
              <a:off x="5999400" y="4770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rot="16200000">
              <a:off x="5999760" y="5144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6937200" y="1447560"/>
            <a:ext cx="149760" cy="74520"/>
            <a:chOff x="6937200" y="1447560"/>
            <a:chExt cx="149760" cy="74520"/>
          </a:xfrm>
        </p:grpSpPr>
        <p:sp>
          <p:nvSpPr>
            <p:cNvPr id="1662" name=""/>
            <p:cNvSpPr/>
            <p:nvPr/>
          </p:nvSpPr>
          <p:spPr>
            <a:xfrm rot="16200000">
              <a:off x="6900120" y="1484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6200000">
              <a:off x="7049520" y="1484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16200000">
              <a:off x="6993000" y="1391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16200000">
              <a:off x="6993360" y="1428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7848720" y="2285640"/>
            <a:ext cx="149400" cy="74520"/>
            <a:chOff x="7848720" y="2285640"/>
            <a:chExt cx="149400" cy="74520"/>
          </a:xfrm>
        </p:grpSpPr>
        <p:sp>
          <p:nvSpPr>
            <p:cNvPr id="1667" name=""/>
            <p:cNvSpPr/>
            <p:nvPr/>
          </p:nvSpPr>
          <p:spPr>
            <a:xfrm rot="16200000">
              <a:off x="7811640" y="2322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16200000">
              <a:off x="7960680" y="2322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16200000">
              <a:off x="7904520" y="22298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rot="16200000">
              <a:off x="7904520" y="22669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5029200" y="1447560"/>
            <a:ext cx="149760" cy="74520"/>
            <a:chOff x="5029200" y="1447560"/>
            <a:chExt cx="149760" cy="74520"/>
          </a:xfrm>
        </p:grpSpPr>
        <p:sp>
          <p:nvSpPr>
            <p:cNvPr id="1672" name=""/>
            <p:cNvSpPr/>
            <p:nvPr/>
          </p:nvSpPr>
          <p:spPr>
            <a:xfrm rot="16200000">
              <a:off x="4992120" y="1484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rot="16200000">
              <a:off x="5141520" y="1484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rot="16200000">
              <a:off x="5085000" y="1391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rot="16200000">
              <a:off x="5085360" y="1428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2743200" y="1447560"/>
            <a:ext cx="149760" cy="74520"/>
            <a:chOff x="2743200" y="1447560"/>
            <a:chExt cx="149760" cy="74520"/>
          </a:xfrm>
        </p:grpSpPr>
        <p:sp>
          <p:nvSpPr>
            <p:cNvPr id="1677" name=""/>
            <p:cNvSpPr/>
            <p:nvPr/>
          </p:nvSpPr>
          <p:spPr>
            <a:xfrm rot="16200000">
              <a:off x="2706120" y="1484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6200000">
              <a:off x="2855520" y="1484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16200000">
              <a:off x="2799000" y="1391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6200000">
              <a:off x="2799360" y="1428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2743200" y="2361960"/>
            <a:ext cx="149760" cy="74520"/>
            <a:chOff x="2743200" y="2361960"/>
            <a:chExt cx="149760" cy="74520"/>
          </a:xfrm>
        </p:grpSpPr>
        <p:sp>
          <p:nvSpPr>
            <p:cNvPr id="1682" name=""/>
            <p:cNvSpPr/>
            <p:nvPr/>
          </p:nvSpPr>
          <p:spPr>
            <a:xfrm rot="16200000">
              <a:off x="2706120" y="2399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rot="16200000">
              <a:off x="2855520" y="2399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rot="16200000">
              <a:off x="2799000" y="2305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16200000">
              <a:off x="2799360" y="2343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2746440" y="3047760"/>
            <a:ext cx="149400" cy="74520"/>
            <a:chOff x="2746440" y="3047760"/>
            <a:chExt cx="149400" cy="74520"/>
          </a:xfrm>
        </p:grpSpPr>
        <p:sp>
          <p:nvSpPr>
            <p:cNvPr id="1687" name=""/>
            <p:cNvSpPr/>
            <p:nvPr/>
          </p:nvSpPr>
          <p:spPr>
            <a:xfrm rot="16200000">
              <a:off x="2709360" y="3084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16200000">
              <a:off x="2858400" y="3084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16200000">
              <a:off x="2802240" y="29919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16200000">
              <a:off x="2802240" y="30290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2057400" y="3733560"/>
            <a:ext cx="149760" cy="74520"/>
            <a:chOff x="2057400" y="3733560"/>
            <a:chExt cx="149760" cy="74520"/>
          </a:xfrm>
        </p:grpSpPr>
        <p:sp>
          <p:nvSpPr>
            <p:cNvPr id="1692" name=""/>
            <p:cNvSpPr/>
            <p:nvPr/>
          </p:nvSpPr>
          <p:spPr>
            <a:xfrm rot="16200000">
              <a:off x="2020320" y="3770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16200000">
              <a:off x="2169720" y="3770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rot="16200000">
              <a:off x="2113200" y="3677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rot="16200000">
              <a:off x="2113560" y="3714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2057400" y="3962160"/>
            <a:ext cx="149760" cy="74520"/>
            <a:chOff x="2057400" y="3962160"/>
            <a:chExt cx="149760" cy="74520"/>
          </a:xfrm>
        </p:grpSpPr>
        <p:sp>
          <p:nvSpPr>
            <p:cNvPr id="1697" name=""/>
            <p:cNvSpPr/>
            <p:nvPr/>
          </p:nvSpPr>
          <p:spPr>
            <a:xfrm rot="16200000">
              <a:off x="2020320" y="3999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rot="16200000">
              <a:off x="2169720" y="3999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rot="16200000">
              <a:off x="2113200" y="39060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16200000">
              <a:off x="2113560" y="39434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2743200" y="4876560"/>
            <a:ext cx="149760" cy="74520"/>
            <a:chOff x="2743200" y="4876560"/>
            <a:chExt cx="149760" cy="74520"/>
          </a:xfrm>
        </p:grpSpPr>
        <p:sp>
          <p:nvSpPr>
            <p:cNvPr id="1702" name=""/>
            <p:cNvSpPr/>
            <p:nvPr/>
          </p:nvSpPr>
          <p:spPr>
            <a:xfrm rot="16200000">
              <a:off x="270612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16200000">
              <a:off x="285552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rot="16200000">
              <a:off x="2799000" y="4820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6200000">
              <a:off x="2799360" y="4857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4191120" y="5562360"/>
            <a:ext cx="149400" cy="74520"/>
            <a:chOff x="4191120" y="5562360"/>
            <a:chExt cx="149400" cy="74520"/>
          </a:xfrm>
        </p:grpSpPr>
        <p:sp>
          <p:nvSpPr>
            <p:cNvPr id="1707" name=""/>
            <p:cNvSpPr/>
            <p:nvPr/>
          </p:nvSpPr>
          <p:spPr>
            <a:xfrm rot="16200000">
              <a:off x="4154040" y="5599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16200000">
              <a:off x="4303080" y="5599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rot="16200000">
              <a:off x="4246920" y="55065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6200000">
              <a:off x="4246920" y="55436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4422600" y="5563800"/>
            <a:ext cx="149760" cy="74520"/>
            <a:chOff x="4422600" y="5563800"/>
            <a:chExt cx="149760" cy="74520"/>
          </a:xfrm>
        </p:grpSpPr>
        <p:sp>
          <p:nvSpPr>
            <p:cNvPr id="1712" name=""/>
            <p:cNvSpPr/>
            <p:nvPr/>
          </p:nvSpPr>
          <p:spPr>
            <a:xfrm rot="16200000">
              <a:off x="4385520" y="56008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rot="16200000">
              <a:off x="4534920" y="56008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rot="16200000">
              <a:off x="4478400" y="550764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rot="16200000">
              <a:off x="4478760" y="554508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5334120" y="4876560"/>
            <a:ext cx="149400" cy="74520"/>
            <a:chOff x="5334120" y="4876560"/>
            <a:chExt cx="149400" cy="74520"/>
          </a:xfrm>
        </p:grpSpPr>
        <p:sp>
          <p:nvSpPr>
            <p:cNvPr id="1717" name=""/>
            <p:cNvSpPr/>
            <p:nvPr/>
          </p:nvSpPr>
          <p:spPr>
            <a:xfrm rot="16200000">
              <a:off x="529704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16200000">
              <a:off x="544608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16200000">
              <a:off x="5389920" y="48207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6200000">
              <a:off x="5389920" y="48578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791320" y="5181480"/>
            <a:ext cx="149400" cy="74880"/>
            <a:chOff x="5791320" y="5181480"/>
            <a:chExt cx="149400" cy="74880"/>
          </a:xfrm>
        </p:grpSpPr>
        <p:sp>
          <p:nvSpPr>
            <p:cNvPr id="1722" name=""/>
            <p:cNvSpPr/>
            <p:nvPr/>
          </p:nvSpPr>
          <p:spPr>
            <a:xfrm rot="16200000">
              <a:off x="5753880" y="52185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16200000">
              <a:off x="5902920" y="52185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16200000">
              <a:off x="5847120" y="51260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16200000">
              <a:off x="5847120" y="51631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6705720" y="4419360"/>
            <a:ext cx="152280" cy="74520"/>
            <a:chOff x="6705720" y="4419360"/>
            <a:chExt cx="152280" cy="74520"/>
          </a:xfrm>
        </p:grpSpPr>
        <p:sp>
          <p:nvSpPr>
            <p:cNvPr id="1727" name=""/>
            <p:cNvSpPr/>
            <p:nvPr/>
          </p:nvSpPr>
          <p:spPr>
            <a:xfrm rot="16200000">
              <a:off x="6683400" y="44413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rot="16200000">
              <a:off x="6805440" y="44413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rot="16200000">
              <a:off x="6763320" y="43621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rot="16200000">
              <a:off x="6763320" y="439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7162920" y="3504960"/>
            <a:ext cx="152280" cy="74520"/>
            <a:chOff x="7162920" y="3504960"/>
            <a:chExt cx="152280" cy="74520"/>
          </a:xfrm>
        </p:grpSpPr>
        <p:sp>
          <p:nvSpPr>
            <p:cNvPr id="1732" name=""/>
            <p:cNvSpPr/>
            <p:nvPr/>
          </p:nvSpPr>
          <p:spPr>
            <a:xfrm rot="16200000">
              <a:off x="7140600" y="35269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rot="16200000">
              <a:off x="7262640" y="3526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6200000">
              <a:off x="7220520" y="3447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rot="16200000">
              <a:off x="7220520" y="3484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6477120" y="3276360"/>
            <a:ext cx="152280" cy="74520"/>
            <a:chOff x="6477120" y="3276360"/>
            <a:chExt cx="152280" cy="74520"/>
          </a:xfrm>
        </p:grpSpPr>
        <p:sp>
          <p:nvSpPr>
            <p:cNvPr id="1737" name=""/>
            <p:cNvSpPr/>
            <p:nvPr/>
          </p:nvSpPr>
          <p:spPr>
            <a:xfrm rot="16200000">
              <a:off x="6454800" y="32983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rot="16200000">
              <a:off x="6576840" y="32983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rot="16200000">
              <a:off x="6534720" y="32191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16200000">
              <a:off x="6534720" y="3256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6629400" y="1447560"/>
            <a:ext cx="152280" cy="74520"/>
            <a:chOff x="6629400" y="1447560"/>
            <a:chExt cx="152280" cy="74520"/>
          </a:xfrm>
        </p:grpSpPr>
        <p:sp>
          <p:nvSpPr>
            <p:cNvPr id="1742" name=""/>
            <p:cNvSpPr/>
            <p:nvPr/>
          </p:nvSpPr>
          <p:spPr>
            <a:xfrm rot="16200000">
              <a:off x="6607080" y="14695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rot="16200000">
              <a:off x="6729120" y="14695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rot="16200000">
              <a:off x="6687000" y="1390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6200000">
              <a:off x="6687000" y="1427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"/>
          <p:cNvGrpSpPr/>
          <p:nvPr/>
        </p:nvGrpSpPr>
        <p:grpSpPr>
          <a:xfrm>
            <a:off x="5791320" y="1142640"/>
            <a:ext cx="152280" cy="74520"/>
            <a:chOff x="5791320" y="1142640"/>
            <a:chExt cx="152280" cy="74520"/>
          </a:xfrm>
        </p:grpSpPr>
        <p:sp>
          <p:nvSpPr>
            <p:cNvPr id="1747" name=""/>
            <p:cNvSpPr/>
            <p:nvPr/>
          </p:nvSpPr>
          <p:spPr>
            <a:xfrm rot="16200000">
              <a:off x="5769000" y="1164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rot="16200000">
              <a:off x="5891040" y="11646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rot="16200000">
              <a:off x="5848920" y="1085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rot="16200000">
              <a:off x="5848920" y="11224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5715000" y="1599840"/>
            <a:ext cx="152280" cy="74520"/>
            <a:chOff x="5715000" y="1599840"/>
            <a:chExt cx="152280" cy="74520"/>
          </a:xfrm>
        </p:grpSpPr>
        <p:sp>
          <p:nvSpPr>
            <p:cNvPr id="1752" name=""/>
            <p:cNvSpPr/>
            <p:nvPr/>
          </p:nvSpPr>
          <p:spPr>
            <a:xfrm rot="16200000">
              <a:off x="5692680" y="1621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16200000">
              <a:off x="5814720" y="1621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16200000">
              <a:off x="5772600" y="1542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16200000">
              <a:off x="5772600" y="1579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5943600" y="2057040"/>
            <a:ext cx="152280" cy="74520"/>
            <a:chOff x="5943600" y="2057040"/>
            <a:chExt cx="152280" cy="74520"/>
          </a:xfrm>
        </p:grpSpPr>
        <p:sp>
          <p:nvSpPr>
            <p:cNvPr id="1757" name=""/>
            <p:cNvSpPr/>
            <p:nvPr/>
          </p:nvSpPr>
          <p:spPr>
            <a:xfrm rot="16200000">
              <a:off x="5921280" y="20790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6200000">
              <a:off x="6043320" y="20790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6200000">
              <a:off x="6001200" y="1999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6200000">
              <a:off x="6001200" y="20368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1" name=""/>
          <p:cNvGrpSpPr/>
          <p:nvPr/>
        </p:nvGrpSpPr>
        <p:grpSpPr>
          <a:xfrm>
            <a:off x="5334120" y="2361960"/>
            <a:ext cx="152280" cy="74520"/>
            <a:chOff x="5334120" y="2361960"/>
            <a:chExt cx="152280" cy="74520"/>
          </a:xfrm>
        </p:grpSpPr>
        <p:sp>
          <p:nvSpPr>
            <p:cNvPr id="1762" name=""/>
            <p:cNvSpPr/>
            <p:nvPr/>
          </p:nvSpPr>
          <p:spPr>
            <a:xfrm rot="16200000">
              <a:off x="5311800" y="23839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rot="16200000">
              <a:off x="5433840" y="2383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6200000">
              <a:off x="5391720" y="2304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6200000">
              <a:off x="5391720" y="2341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4800600" y="1599840"/>
            <a:ext cx="152280" cy="74520"/>
            <a:chOff x="4800600" y="1599840"/>
            <a:chExt cx="152280" cy="74520"/>
          </a:xfrm>
        </p:grpSpPr>
        <p:sp>
          <p:nvSpPr>
            <p:cNvPr id="1767" name=""/>
            <p:cNvSpPr/>
            <p:nvPr/>
          </p:nvSpPr>
          <p:spPr>
            <a:xfrm rot="16200000">
              <a:off x="4778280" y="1621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6200000">
              <a:off x="4900320" y="1621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6200000">
              <a:off x="4858200" y="1542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6200000">
              <a:off x="4858200" y="1579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4114800" y="1752480"/>
            <a:ext cx="152280" cy="74880"/>
            <a:chOff x="4114800" y="1752480"/>
            <a:chExt cx="152280" cy="74880"/>
          </a:xfrm>
        </p:grpSpPr>
        <p:sp>
          <p:nvSpPr>
            <p:cNvPr id="1772" name=""/>
            <p:cNvSpPr/>
            <p:nvPr/>
          </p:nvSpPr>
          <p:spPr>
            <a:xfrm rot="16200000">
              <a:off x="4092480" y="17748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6200000">
              <a:off x="4214160" y="17744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16200000">
              <a:off x="4172040" y="16948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rot="16200000">
              <a:off x="4172040" y="17323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2057400" y="4190760"/>
            <a:ext cx="152280" cy="74520"/>
            <a:chOff x="2057400" y="4190760"/>
            <a:chExt cx="152280" cy="74520"/>
          </a:xfrm>
        </p:grpSpPr>
        <p:sp>
          <p:nvSpPr>
            <p:cNvPr id="1777" name=""/>
            <p:cNvSpPr/>
            <p:nvPr/>
          </p:nvSpPr>
          <p:spPr>
            <a:xfrm rot="16200000">
              <a:off x="2035080" y="4212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rot="16200000">
              <a:off x="2157120" y="4212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16200000">
              <a:off x="2115000" y="4133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6200000">
              <a:off x="2115000" y="4170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1905120" y="4419360"/>
            <a:ext cx="152280" cy="74520"/>
            <a:chOff x="1905120" y="4419360"/>
            <a:chExt cx="152280" cy="74520"/>
          </a:xfrm>
        </p:grpSpPr>
        <p:sp>
          <p:nvSpPr>
            <p:cNvPr id="1782" name=""/>
            <p:cNvSpPr/>
            <p:nvPr/>
          </p:nvSpPr>
          <p:spPr>
            <a:xfrm rot="16200000">
              <a:off x="1882800" y="44413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rot="16200000">
              <a:off x="2004840" y="44413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rot="16200000">
              <a:off x="1962720" y="43621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rot="16200000">
              <a:off x="1962720" y="439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3789360" y="4648320"/>
            <a:ext cx="97200" cy="95040"/>
            <a:chOff x="3789360" y="4648320"/>
            <a:chExt cx="97200" cy="95040"/>
          </a:xfrm>
        </p:grpSpPr>
        <p:sp>
          <p:nvSpPr>
            <p:cNvPr id="1787" name=""/>
            <p:cNvSpPr/>
            <p:nvPr/>
          </p:nvSpPr>
          <p:spPr>
            <a:xfrm rot="16200000">
              <a:off x="37418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rot="16200000">
              <a:off x="383868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rot="16200000">
              <a:off x="381420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rot="16200000">
              <a:off x="381384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2743200" y="5028840"/>
            <a:ext cx="152280" cy="74520"/>
            <a:chOff x="2743200" y="5028840"/>
            <a:chExt cx="152280" cy="74520"/>
          </a:xfrm>
        </p:grpSpPr>
        <p:sp>
          <p:nvSpPr>
            <p:cNvPr id="1792" name=""/>
            <p:cNvSpPr/>
            <p:nvPr/>
          </p:nvSpPr>
          <p:spPr>
            <a:xfrm rot="16200000">
              <a:off x="2720880" y="5050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rot="16200000">
              <a:off x="2842920" y="5050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16200000">
              <a:off x="2800800" y="4971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rot="16200000">
              <a:off x="2800800" y="5008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3505320" y="5486040"/>
            <a:ext cx="152280" cy="74520"/>
            <a:chOff x="3505320" y="5486040"/>
            <a:chExt cx="152280" cy="74520"/>
          </a:xfrm>
        </p:grpSpPr>
        <p:sp>
          <p:nvSpPr>
            <p:cNvPr id="1797" name=""/>
            <p:cNvSpPr/>
            <p:nvPr/>
          </p:nvSpPr>
          <p:spPr>
            <a:xfrm rot="16200000">
              <a:off x="3483000" y="55080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16200000">
              <a:off x="3605040" y="55080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16200000">
              <a:off x="3562920" y="5428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16200000">
              <a:off x="3562920" y="54658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5029200" y="5640120"/>
            <a:ext cx="152280" cy="74520"/>
            <a:chOff x="5029200" y="5640120"/>
            <a:chExt cx="152280" cy="74520"/>
          </a:xfrm>
        </p:grpSpPr>
        <p:sp>
          <p:nvSpPr>
            <p:cNvPr id="1802" name=""/>
            <p:cNvSpPr/>
            <p:nvPr/>
          </p:nvSpPr>
          <p:spPr>
            <a:xfrm rot="16200000">
              <a:off x="5006880" y="56620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rot="16200000">
              <a:off x="5128920" y="56620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rot="16200000">
              <a:off x="5086800" y="55828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6200000">
              <a:off x="5086800" y="56199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257800" y="6019560"/>
            <a:ext cx="152280" cy="74520"/>
            <a:chOff x="5257800" y="6019560"/>
            <a:chExt cx="152280" cy="74520"/>
          </a:xfrm>
        </p:grpSpPr>
        <p:sp>
          <p:nvSpPr>
            <p:cNvPr id="1807" name=""/>
            <p:cNvSpPr/>
            <p:nvPr/>
          </p:nvSpPr>
          <p:spPr>
            <a:xfrm rot="16200000">
              <a:off x="5235480" y="60415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16200000">
              <a:off x="5357520" y="60415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rot="16200000">
              <a:off x="5315400" y="5962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rot="16200000">
              <a:off x="5315400" y="5999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2361960" y="1599840"/>
            <a:ext cx="74520" cy="152280"/>
            <a:chOff x="2361960" y="1599840"/>
            <a:chExt cx="74520" cy="152280"/>
          </a:xfrm>
        </p:grpSpPr>
        <p:sp>
          <p:nvSpPr>
            <p:cNvPr id="1812" name=""/>
            <p:cNvSpPr/>
            <p:nvPr/>
          </p:nvSpPr>
          <p:spPr>
            <a:xfrm rot="10800000">
              <a:off x="2361960" y="17218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10800000">
              <a:off x="2361960" y="15998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rot="10800000">
              <a:off x="2362320" y="15998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rot="10800000">
              <a:off x="2399400" y="15998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3962160" y="2057040"/>
            <a:ext cx="74520" cy="152280"/>
            <a:chOff x="3962160" y="2057040"/>
            <a:chExt cx="74520" cy="152280"/>
          </a:xfrm>
        </p:grpSpPr>
        <p:sp>
          <p:nvSpPr>
            <p:cNvPr id="1817" name=""/>
            <p:cNvSpPr/>
            <p:nvPr/>
          </p:nvSpPr>
          <p:spPr>
            <a:xfrm rot="10800000">
              <a:off x="3962160" y="21790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rot="10800000">
              <a:off x="3962160" y="20570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10800000">
              <a:off x="3962520" y="2057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10800000">
              <a:off x="3999600" y="2057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4419360" y="2057040"/>
            <a:ext cx="74520" cy="152280"/>
            <a:chOff x="4419360" y="2057040"/>
            <a:chExt cx="74520" cy="152280"/>
          </a:xfrm>
        </p:grpSpPr>
        <p:sp>
          <p:nvSpPr>
            <p:cNvPr id="1822" name=""/>
            <p:cNvSpPr/>
            <p:nvPr/>
          </p:nvSpPr>
          <p:spPr>
            <a:xfrm rot="10800000">
              <a:off x="4419360" y="21790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rot="10800000">
              <a:off x="4419360" y="20570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rot="10800000">
              <a:off x="4419720" y="2057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0800000">
              <a:off x="4456800" y="2057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4724280" y="2057040"/>
            <a:ext cx="74880" cy="152280"/>
            <a:chOff x="4724280" y="2057040"/>
            <a:chExt cx="74880" cy="152280"/>
          </a:xfrm>
        </p:grpSpPr>
        <p:sp>
          <p:nvSpPr>
            <p:cNvPr id="1827" name=""/>
            <p:cNvSpPr/>
            <p:nvPr/>
          </p:nvSpPr>
          <p:spPr>
            <a:xfrm rot="10800000">
              <a:off x="4724280" y="217908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10800000">
              <a:off x="4724280" y="20570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0800000">
              <a:off x="4724280" y="205704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10800000">
              <a:off x="4761720" y="205704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5790960" y="1828440"/>
            <a:ext cx="74520" cy="152280"/>
            <a:chOff x="5790960" y="1828440"/>
            <a:chExt cx="74520" cy="152280"/>
          </a:xfrm>
        </p:grpSpPr>
        <p:sp>
          <p:nvSpPr>
            <p:cNvPr id="1832" name=""/>
            <p:cNvSpPr/>
            <p:nvPr/>
          </p:nvSpPr>
          <p:spPr>
            <a:xfrm rot="10800000">
              <a:off x="5790960" y="19504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rot="10800000">
              <a:off x="5790960" y="18284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10800000">
              <a:off x="5791320" y="1828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10800000">
              <a:off x="5828400" y="1828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6476760" y="1828440"/>
            <a:ext cx="74520" cy="152280"/>
            <a:chOff x="6476760" y="1828440"/>
            <a:chExt cx="74520" cy="152280"/>
          </a:xfrm>
        </p:grpSpPr>
        <p:sp>
          <p:nvSpPr>
            <p:cNvPr id="1837" name=""/>
            <p:cNvSpPr/>
            <p:nvPr/>
          </p:nvSpPr>
          <p:spPr>
            <a:xfrm rot="10800000">
              <a:off x="6476760" y="19504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10800000">
              <a:off x="6476760" y="18284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rot="10800000">
              <a:off x="6477120" y="1828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rot="10800000">
              <a:off x="6514200" y="1828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7467480" y="990360"/>
            <a:ext cx="74880" cy="152280"/>
            <a:chOff x="7467480" y="990360"/>
            <a:chExt cx="74880" cy="152280"/>
          </a:xfrm>
        </p:grpSpPr>
        <p:sp>
          <p:nvSpPr>
            <p:cNvPr id="1842" name=""/>
            <p:cNvSpPr/>
            <p:nvPr/>
          </p:nvSpPr>
          <p:spPr>
            <a:xfrm rot="10800000">
              <a:off x="7467480" y="11124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rot="10800000">
              <a:off x="7467480" y="99036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10800000">
              <a:off x="7467480" y="9903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rot="10800000">
              <a:off x="7504920" y="9903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6" name=""/>
          <p:cNvGrpSpPr/>
          <p:nvPr/>
        </p:nvGrpSpPr>
        <p:grpSpPr>
          <a:xfrm>
            <a:off x="6933960" y="3200040"/>
            <a:ext cx="74520" cy="152280"/>
            <a:chOff x="6933960" y="3200040"/>
            <a:chExt cx="74520" cy="152280"/>
          </a:xfrm>
        </p:grpSpPr>
        <p:sp>
          <p:nvSpPr>
            <p:cNvPr id="1847" name=""/>
            <p:cNvSpPr/>
            <p:nvPr/>
          </p:nvSpPr>
          <p:spPr>
            <a:xfrm rot="10800000">
              <a:off x="6933960" y="33220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0800000">
              <a:off x="6933960" y="32000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0800000">
              <a:off x="6934320" y="3200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0800000">
              <a:off x="6971400" y="3200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1" name=""/>
          <p:cNvGrpSpPr/>
          <p:nvPr/>
        </p:nvGrpSpPr>
        <p:grpSpPr>
          <a:xfrm>
            <a:off x="7619760" y="3885840"/>
            <a:ext cx="74520" cy="152280"/>
            <a:chOff x="7619760" y="3885840"/>
            <a:chExt cx="74520" cy="152280"/>
          </a:xfrm>
        </p:grpSpPr>
        <p:sp>
          <p:nvSpPr>
            <p:cNvPr id="1852" name=""/>
            <p:cNvSpPr/>
            <p:nvPr/>
          </p:nvSpPr>
          <p:spPr>
            <a:xfrm rot="10800000">
              <a:off x="7619760" y="40078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0800000">
              <a:off x="7619760" y="38858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0800000">
              <a:off x="7620120" y="38858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0800000">
              <a:off x="7657200" y="38858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5410080" y="3657240"/>
            <a:ext cx="74880" cy="152280"/>
            <a:chOff x="5410080" y="3657240"/>
            <a:chExt cx="74880" cy="152280"/>
          </a:xfrm>
        </p:grpSpPr>
        <p:sp>
          <p:nvSpPr>
            <p:cNvPr id="1857" name=""/>
            <p:cNvSpPr/>
            <p:nvPr/>
          </p:nvSpPr>
          <p:spPr>
            <a:xfrm rot="10800000">
              <a:off x="5410080" y="377928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rot="10800000">
              <a:off x="5410080" y="36572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rot="10800000">
              <a:off x="5410080" y="365724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rot="10800000">
              <a:off x="5447520" y="365724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1" name=""/>
          <p:cNvGrpSpPr/>
          <p:nvPr/>
        </p:nvGrpSpPr>
        <p:grpSpPr>
          <a:xfrm>
            <a:off x="6248160" y="4571640"/>
            <a:ext cx="74520" cy="152280"/>
            <a:chOff x="6248160" y="4571640"/>
            <a:chExt cx="74520" cy="152280"/>
          </a:xfrm>
        </p:grpSpPr>
        <p:sp>
          <p:nvSpPr>
            <p:cNvPr id="1862" name=""/>
            <p:cNvSpPr/>
            <p:nvPr/>
          </p:nvSpPr>
          <p:spPr>
            <a:xfrm rot="10800000">
              <a:off x="6248160" y="46936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rot="10800000">
              <a:off x="6248160" y="45716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rot="10800000">
              <a:off x="6248520" y="4571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rot="10800000">
              <a:off x="6285600" y="4571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6933960" y="4571640"/>
            <a:ext cx="74520" cy="152280"/>
            <a:chOff x="6933960" y="4571640"/>
            <a:chExt cx="74520" cy="152280"/>
          </a:xfrm>
        </p:grpSpPr>
        <p:sp>
          <p:nvSpPr>
            <p:cNvPr id="1867" name=""/>
            <p:cNvSpPr/>
            <p:nvPr/>
          </p:nvSpPr>
          <p:spPr>
            <a:xfrm rot="10800000">
              <a:off x="6933960" y="46936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10800000">
              <a:off x="6933960" y="45716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10800000">
              <a:off x="6934320" y="4571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rot="10800000">
              <a:off x="6971400" y="4571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1" name=""/>
          <p:cNvGrpSpPr/>
          <p:nvPr/>
        </p:nvGrpSpPr>
        <p:grpSpPr>
          <a:xfrm>
            <a:off x="5562360" y="5562360"/>
            <a:ext cx="74520" cy="152280"/>
            <a:chOff x="5562360" y="5562360"/>
            <a:chExt cx="74520" cy="152280"/>
          </a:xfrm>
        </p:grpSpPr>
        <p:sp>
          <p:nvSpPr>
            <p:cNvPr id="1872" name=""/>
            <p:cNvSpPr/>
            <p:nvPr/>
          </p:nvSpPr>
          <p:spPr>
            <a:xfrm rot="10800000">
              <a:off x="5562360" y="56844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10800000">
              <a:off x="5562360" y="55623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10800000">
              <a:off x="5562720" y="55623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rot="10800000">
              <a:off x="5599800" y="55623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6" name=""/>
          <p:cNvGrpSpPr/>
          <p:nvPr/>
        </p:nvGrpSpPr>
        <p:grpSpPr>
          <a:xfrm>
            <a:off x="5410080" y="5562360"/>
            <a:ext cx="74880" cy="152280"/>
            <a:chOff x="5410080" y="5562360"/>
            <a:chExt cx="74880" cy="152280"/>
          </a:xfrm>
        </p:grpSpPr>
        <p:sp>
          <p:nvSpPr>
            <p:cNvPr id="1877" name=""/>
            <p:cNvSpPr/>
            <p:nvPr/>
          </p:nvSpPr>
          <p:spPr>
            <a:xfrm rot="10800000">
              <a:off x="5410080" y="56844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10800000">
              <a:off x="5410080" y="556236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rot="10800000">
              <a:off x="5410080" y="55623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10800000">
              <a:off x="5447520" y="55623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4190760" y="5105160"/>
            <a:ext cx="74520" cy="152280"/>
            <a:chOff x="4190760" y="5105160"/>
            <a:chExt cx="74520" cy="152280"/>
          </a:xfrm>
        </p:grpSpPr>
        <p:sp>
          <p:nvSpPr>
            <p:cNvPr id="1882" name=""/>
            <p:cNvSpPr/>
            <p:nvPr/>
          </p:nvSpPr>
          <p:spPr>
            <a:xfrm rot="10800000">
              <a:off x="4190760" y="52272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rot="10800000">
              <a:off x="4190760" y="51051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rot="10800000">
              <a:off x="4191120" y="51051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0800000">
              <a:off x="4228200" y="51051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4575240" y="4647960"/>
            <a:ext cx="149400" cy="74520"/>
            <a:chOff x="4575240" y="4647960"/>
            <a:chExt cx="149400" cy="74520"/>
          </a:xfrm>
        </p:grpSpPr>
        <p:sp>
          <p:nvSpPr>
            <p:cNvPr id="1887" name=""/>
            <p:cNvSpPr/>
            <p:nvPr/>
          </p:nvSpPr>
          <p:spPr>
            <a:xfrm rot="16200000">
              <a:off x="4538160" y="4685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16200000">
              <a:off x="4687200" y="4685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16200000">
              <a:off x="4631040" y="45921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6200000">
              <a:off x="4631040" y="46292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0040" y="4876560"/>
            <a:ext cx="74520" cy="152280"/>
            <a:chOff x="3200040" y="4876560"/>
            <a:chExt cx="74520" cy="152280"/>
          </a:xfrm>
        </p:grpSpPr>
        <p:sp>
          <p:nvSpPr>
            <p:cNvPr id="1892" name=""/>
            <p:cNvSpPr/>
            <p:nvPr/>
          </p:nvSpPr>
          <p:spPr>
            <a:xfrm rot="10800000">
              <a:off x="3200040" y="4998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10800000">
              <a:off x="3200040" y="48765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10800000">
              <a:off x="3200400" y="48765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rot="10800000">
              <a:off x="3237480" y="48765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3124080" y="5791320"/>
            <a:ext cx="74880" cy="149400"/>
            <a:chOff x="3124080" y="5791320"/>
            <a:chExt cx="74880" cy="149400"/>
          </a:xfrm>
        </p:grpSpPr>
        <p:sp>
          <p:nvSpPr>
            <p:cNvPr id="1897" name=""/>
            <p:cNvSpPr/>
            <p:nvPr/>
          </p:nvSpPr>
          <p:spPr>
            <a:xfrm>
              <a:off x="3124080" y="579132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24080" y="59403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61160" y="57913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124080" y="57913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3809880" y="4800600"/>
            <a:ext cx="74880" cy="149760"/>
            <a:chOff x="3809880" y="4800600"/>
            <a:chExt cx="74880" cy="149760"/>
          </a:xfrm>
        </p:grpSpPr>
        <p:sp>
          <p:nvSpPr>
            <p:cNvPr id="1902" name=""/>
            <p:cNvSpPr/>
            <p:nvPr/>
          </p:nvSpPr>
          <p:spPr>
            <a:xfrm>
              <a:off x="3809880" y="48006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809880" y="49500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846960" y="48006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809880" y="48006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3962520" y="5105520"/>
            <a:ext cx="74520" cy="149400"/>
            <a:chOff x="3962520" y="5105520"/>
            <a:chExt cx="74520" cy="149400"/>
          </a:xfrm>
        </p:grpSpPr>
        <p:sp>
          <p:nvSpPr>
            <p:cNvPr id="1907" name=""/>
            <p:cNvSpPr/>
            <p:nvPr/>
          </p:nvSpPr>
          <p:spPr>
            <a:xfrm>
              <a:off x="3962520" y="5105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962520" y="52545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999600" y="51055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962520" y="51055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4191120" y="4419720"/>
            <a:ext cx="74520" cy="149400"/>
            <a:chOff x="4191120" y="4419720"/>
            <a:chExt cx="74520" cy="149400"/>
          </a:xfrm>
        </p:grpSpPr>
        <p:sp>
          <p:nvSpPr>
            <p:cNvPr id="1912" name=""/>
            <p:cNvSpPr/>
            <p:nvPr/>
          </p:nvSpPr>
          <p:spPr>
            <a:xfrm>
              <a:off x="4191120" y="4419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91120" y="4568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28200" y="44197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191120" y="44197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4572000" y="5257800"/>
            <a:ext cx="74520" cy="149760"/>
            <a:chOff x="4572000" y="5257800"/>
            <a:chExt cx="74520" cy="149760"/>
          </a:xfrm>
        </p:grpSpPr>
        <p:sp>
          <p:nvSpPr>
            <p:cNvPr id="1917" name=""/>
            <p:cNvSpPr/>
            <p:nvPr/>
          </p:nvSpPr>
          <p:spPr>
            <a:xfrm>
              <a:off x="4572000" y="5257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572000" y="5407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609080" y="5257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572000" y="5257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878360" y="4114800"/>
            <a:ext cx="74520" cy="149760"/>
            <a:chOff x="4878360" y="4114800"/>
            <a:chExt cx="74520" cy="149760"/>
          </a:xfrm>
        </p:grpSpPr>
        <p:sp>
          <p:nvSpPr>
            <p:cNvPr id="1922" name=""/>
            <p:cNvSpPr/>
            <p:nvPr/>
          </p:nvSpPr>
          <p:spPr>
            <a:xfrm>
              <a:off x="4878360" y="4114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78360" y="4264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915440" y="4114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78360" y="4114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6" name=""/>
          <p:cNvGrpSpPr/>
          <p:nvPr/>
        </p:nvGrpSpPr>
        <p:grpSpPr>
          <a:xfrm>
            <a:off x="5106960" y="4118040"/>
            <a:ext cx="74520" cy="149400"/>
            <a:chOff x="5106960" y="4118040"/>
            <a:chExt cx="74520" cy="149400"/>
          </a:xfrm>
        </p:grpSpPr>
        <p:sp>
          <p:nvSpPr>
            <p:cNvPr id="1927" name=""/>
            <p:cNvSpPr/>
            <p:nvPr/>
          </p:nvSpPr>
          <p:spPr>
            <a:xfrm>
              <a:off x="5106960" y="4118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106960" y="42670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44040" y="41180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06960" y="41180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5181480" y="4605480"/>
            <a:ext cx="74880" cy="149400"/>
            <a:chOff x="5181480" y="4605480"/>
            <a:chExt cx="74880" cy="149400"/>
          </a:xfrm>
        </p:grpSpPr>
        <p:sp>
          <p:nvSpPr>
            <p:cNvPr id="1932" name=""/>
            <p:cNvSpPr/>
            <p:nvPr/>
          </p:nvSpPr>
          <p:spPr>
            <a:xfrm>
              <a:off x="5181480" y="460548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81480" y="475452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218560" y="46054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181480" y="46054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6" name=""/>
          <p:cNvGrpSpPr/>
          <p:nvPr/>
        </p:nvGrpSpPr>
        <p:grpSpPr>
          <a:xfrm>
            <a:off x="6326280" y="3962520"/>
            <a:ext cx="74520" cy="149400"/>
            <a:chOff x="6326280" y="3962520"/>
            <a:chExt cx="74520" cy="149400"/>
          </a:xfrm>
        </p:grpSpPr>
        <p:sp>
          <p:nvSpPr>
            <p:cNvPr id="1937" name=""/>
            <p:cNvSpPr/>
            <p:nvPr/>
          </p:nvSpPr>
          <p:spPr>
            <a:xfrm>
              <a:off x="6326280" y="3962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26280" y="41115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363360" y="39625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26280" y="39625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5715000" y="4038480"/>
            <a:ext cx="149760" cy="74880"/>
            <a:chOff x="5715000" y="4038480"/>
            <a:chExt cx="149760" cy="74880"/>
          </a:xfrm>
        </p:grpSpPr>
        <p:sp>
          <p:nvSpPr>
            <p:cNvPr id="1942" name=""/>
            <p:cNvSpPr/>
            <p:nvPr/>
          </p:nvSpPr>
          <p:spPr>
            <a:xfrm rot="16200000">
              <a:off x="5677560" y="40755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6200000">
              <a:off x="5826960" y="40755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rot="16200000">
              <a:off x="5770800" y="39826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6200000">
              <a:off x="5771160" y="40201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5486400" y="3506400"/>
            <a:ext cx="152280" cy="74520"/>
            <a:chOff x="5486400" y="3506400"/>
            <a:chExt cx="152280" cy="74520"/>
          </a:xfrm>
        </p:grpSpPr>
        <p:sp>
          <p:nvSpPr>
            <p:cNvPr id="1947" name=""/>
            <p:cNvSpPr/>
            <p:nvPr/>
          </p:nvSpPr>
          <p:spPr>
            <a:xfrm rot="16200000">
              <a:off x="5464080" y="35283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6200000">
              <a:off x="5586120" y="35283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6200000">
              <a:off x="5544000" y="34491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6200000">
              <a:off x="5544000" y="34862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1" name=""/>
          <p:cNvGrpSpPr/>
          <p:nvPr/>
        </p:nvGrpSpPr>
        <p:grpSpPr>
          <a:xfrm>
            <a:off x="6629400" y="4876560"/>
            <a:ext cx="149760" cy="74520"/>
            <a:chOff x="6629400" y="4876560"/>
            <a:chExt cx="149760" cy="74520"/>
          </a:xfrm>
        </p:grpSpPr>
        <p:sp>
          <p:nvSpPr>
            <p:cNvPr id="1952" name=""/>
            <p:cNvSpPr/>
            <p:nvPr/>
          </p:nvSpPr>
          <p:spPr>
            <a:xfrm rot="16200000">
              <a:off x="659232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16200000">
              <a:off x="674172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rot="16200000">
              <a:off x="6685200" y="4820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rot="16200000">
              <a:off x="6685560" y="4857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6705360" y="4571640"/>
            <a:ext cx="74520" cy="152280"/>
            <a:chOff x="6705360" y="4571640"/>
            <a:chExt cx="74520" cy="152280"/>
          </a:xfrm>
        </p:grpSpPr>
        <p:sp>
          <p:nvSpPr>
            <p:cNvPr id="1957" name=""/>
            <p:cNvSpPr/>
            <p:nvPr/>
          </p:nvSpPr>
          <p:spPr>
            <a:xfrm rot="10800000">
              <a:off x="6705360" y="46936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rot="10800000">
              <a:off x="6705360" y="45716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rot="10800000">
              <a:off x="6705720" y="4571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10800000">
              <a:off x="6742800" y="4571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7162920" y="3886200"/>
            <a:ext cx="74520" cy="149760"/>
            <a:chOff x="7162920" y="3886200"/>
            <a:chExt cx="74520" cy="149760"/>
          </a:xfrm>
        </p:grpSpPr>
        <p:sp>
          <p:nvSpPr>
            <p:cNvPr id="1962" name=""/>
            <p:cNvSpPr/>
            <p:nvPr/>
          </p:nvSpPr>
          <p:spPr>
            <a:xfrm>
              <a:off x="7162920" y="3886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162920" y="4035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200000" y="38862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162920" y="38862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5791320" y="2971800"/>
            <a:ext cx="74520" cy="149760"/>
            <a:chOff x="5791320" y="2971800"/>
            <a:chExt cx="74520" cy="149760"/>
          </a:xfrm>
        </p:grpSpPr>
        <p:sp>
          <p:nvSpPr>
            <p:cNvPr id="1967" name=""/>
            <p:cNvSpPr/>
            <p:nvPr/>
          </p:nvSpPr>
          <p:spPr>
            <a:xfrm>
              <a:off x="5791320" y="2971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791320" y="3121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828400" y="2971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791320" y="2971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1" name=""/>
          <p:cNvGrpSpPr/>
          <p:nvPr/>
        </p:nvGrpSpPr>
        <p:grpSpPr>
          <a:xfrm>
            <a:off x="4876920" y="2590920"/>
            <a:ext cx="74520" cy="149400"/>
            <a:chOff x="4876920" y="2590920"/>
            <a:chExt cx="74520" cy="149400"/>
          </a:xfrm>
        </p:grpSpPr>
        <p:sp>
          <p:nvSpPr>
            <p:cNvPr id="1972" name=""/>
            <p:cNvSpPr/>
            <p:nvPr/>
          </p:nvSpPr>
          <p:spPr>
            <a:xfrm>
              <a:off x="4876920" y="2590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876920" y="27399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14000" y="25909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876920" y="25909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4419720" y="2971800"/>
            <a:ext cx="74520" cy="149760"/>
            <a:chOff x="4419720" y="2971800"/>
            <a:chExt cx="74520" cy="149760"/>
          </a:xfrm>
        </p:grpSpPr>
        <p:sp>
          <p:nvSpPr>
            <p:cNvPr id="1977" name=""/>
            <p:cNvSpPr/>
            <p:nvPr/>
          </p:nvSpPr>
          <p:spPr>
            <a:xfrm>
              <a:off x="4419720" y="2971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419720" y="3121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456800" y="2971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419720" y="2971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4876920" y="2057400"/>
            <a:ext cx="74520" cy="149760"/>
            <a:chOff x="4876920" y="2057400"/>
            <a:chExt cx="74520" cy="149760"/>
          </a:xfrm>
        </p:grpSpPr>
        <p:sp>
          <p:nvSpPr>
            <p:cNvPr id="1982" name=""/>
            <p:cNvSpPr/>
            <p:nvPr/>
          </p:nvSpPr>
          <p:spPr>
            <a:xfrm>
              <a:off x="4876920" y="2057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76920" y="2206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914000" y="2057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876920" y="20574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6934320" y="1828800"/>
            <a:ext cx="74520" cy="149760"/>
            <a:chOff x="6934320" y="1828800"/>
            <a:chExt cx="74520" cy="149760"/>
          </a:xfrm>
        </p:grpSpPr>
        <p:sp>
          <p:nvSpPr>
            <p:cNvPr id="1987" name=""/>
            <p:cNvSpPr/>
            <p:nvPr/>
          </p:nvSpPr>
          <p:spPr>
            <a:xfrm>
              <a:off x="6934320" y="1828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934320" y="1978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971400" y="1828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934320" y="1828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7467480" y="1371600"/>
            <a:ext cx="74880" cy="149760"/>
            <a:chOff x="7467480" y="1371600"/>
            <a:chExt cx="74880" cy="149760"/>
          </a:xfrm>
        </p:grpSpPr>
        <p:sp>
          <p:nvSpPr>
            <p:cNvPr id="1992" name=""/>
            <p:cNvSpPr/>
            <p:nvPr/>
          </p:nvSpPr>
          <p:spPr>
            <a:xfrm>
              <a:off x="7467480" y="13716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467480" y="15210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504560" y="13716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467480" y="13716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4343400" y="3428640"/>
            <a:ext cx="149760" cy="74520"/>
            <a:chOff x="4343400" y="3428640"/>
            <a:chExt cx="149760" cy="74520"/>
          </a:xfrm>
        </p:grpSpPr>
        <p:sp>
          <p:nvSpPr>
            <p:cNvPr id="1997" name=""/>
            <p:cNvSpPr/>
            <p:nvPr/>
          </p:nvSpPr>
          <p:spPr>
            <a:xfrm rot="16200000">
              <a:off x="4306320" y="3465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rot="16200000">
              <a:off x="4455720" y="3465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16200000">
              <a:off x="4399200" y="33724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16200000">
              <a:off x="4399560" y="34099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3962160" y="1142640"/>
            <a:ext cx="74520" cy="152280"/>
            <a:chOff x="3962160" y="1142640"/>
            <a:chExt cx="74520" cy="152280"/>
          </a:xfrm>
        </p:grpSpPr>
        <p:sp>
          <p:nvSpPr>
            <p:cNvPr id="2002" name=""/>
            <p:cNvSpPr/>
            <p:nvPr/>
          </p:nvSpPr>
          <p:spPr>
            <a:xfrm rot="10800000">
              <a:off x="3962160" y="12646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10800000">
              <a:off x="3962160" y="11426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rot="10800000">
              <a:off x="3962520" y="1142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rot="10800000">
              <a:off x="3999600" y="11426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3429000" y="1982520"/>
            <a:ext cx="152280" cy="74520"/>
            <a:chOff x="3429000" y="1982520"/>
            <a:chExt cx="152280" cy="74520"/>
          </a:xfrm>
        </p:grpSpPr>
        <p:sp>
          <p:nvSpPr>
            <p:cNvPr id="2007" name=""/>
            <p:cNvSpPr/>
            <p:nvPr/>
          </p:nvSpPr>
          <p:spPr>
            <a:xfrm rot="16200000">
              <a:off x="3406680" y="20044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rot="16200000">
              <a:off x="3528720" y="20044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rot="16200000">
              <a:off x="3486600" y="1925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rot="16200000">
              <a:off x="3486600" y="19623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1" name=""/>
          <p:cNvGrpSpPr/>
          <p:nvPr/>
        </p:nvGrpSpPr>
        <p:grpSpPr>
          <a:xfrm>
            <a:off x="2286000" y="4648320"/>
            <a:ext cx="152280" cy="152280"/>
            <a:chOff x="2286000" y="4648320"/>
            <a:chExt cx="152280" cy="152280"/>
          </a:xfrm>
        </p:grpSpPr>
        <p:sp>
          <p:nvSpPr>
            <p:cNvPr id="2012" name=""/>
            <p:cNvSpPr/>
            <p:nvPr/>
          </p:nvSpPr>
          <p:spPr>
            <a:xfrm>
              <a:off x="2286000" y="46483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286000" y="47700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61960" y="4648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286000" y="4648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505320" y="5791320"/>
            <a:ext cx="152280" cy="152280"/>
            <a:chOff x="3505320" y="5791320"/>
            <a:chExt cx="152280" cy="152280"/>
          </a:xfrm>
        </p:grpSpPr>
        <p:sp>
          <p:nvSpPr>
            <p:cNvPr id="2017" name=""/>
            <p:cNvSpPr/>
            <p:nvPr/>
          </p:nvSpPr>
          <p:spPr>
            <a:xfrm>
              <a:off x="3505320" y="57913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05320" y="59130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581280" y="5791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505320" y="5791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3657600" y="5943600"/>
            <a:ext cx="152280" cy="152280"/>
            <a:chOff x="3657600" y="5943600"/>
            <a:chExt cx="152280" cy="152280"/>
          </a:xfrm>
        </p:grpSpPr>
        <p:sp>
          <p:nvSpPr>
            <p:cNvPr id="2022" name=""/>
            <p:cNvSpPr/>
            <p:nvPr/>
          </p:nvSpPr>
          <p:spPr>
            <a:xfrm>
              <a:off x="3657600" y="59436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657600" y="6065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733560" y="594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57600" y="594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4114800" y="5943600"/>
            <a:ext cx="152280" cy="152280"/>
            <a:chOff x="4114800" y="5943600"/>
            <a:chExt cx="152280" cy="152280"/>
          </a:xfrm>
        </p:grpSpPr>
        <p:sp>
          <p:nvSpPr>
            <p:cNvPr id="2027" name=""/>
            <p:cNvSpPr/>
            <p:nvPr/>
          </p:nvSpPr>
          <p:spPr>
            <a:xfrm>
              <a:off x="4114800" y="59436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14800" y="6065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190760" y="594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114800" y="594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1" name=""/>
          <p:cNvGrpSpPr/>
          <p:nvPr/>
        </p:nvGrpSpPr>
        <p:grpSpPr>
          <a:xfrm>
            <a:off x="3733920" y="5105520"/>
            <a:ext cx="152280" cy="152280"/>
            <a:chOff x="3733920" y="5105520"/>
            <a:chExt cx="152280" cy="152280"/>
          </a:xfrm>
        </p:grpSpPr>
        <p:sp>
          <p:nvSpPr>
            <p:cNvPr id="2032" name=""/>
            <p:cNvSpPr/>
            <p:nvPr/>
          </p:nvSpPr>
          <p:spPr>
            <a:xfrm>
              <a:off x="3733920" y="51055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733920" y="5227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809880" y="5105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733920" y="5105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6" name=""/>
          <p:cNvGrpSpPr/>
          <p:nvPr/>
        </p:nvGrpSpPr>
        <p:grpSpPr>
          <a:xfrm>
            <a:off x="5715000" y="4191120"/>
            <a:ext cx="152280" cy="152280"/>
            <a:chOff x="5715000" y="4191120"/>
            <a:chExt cx="152280" cy="152280"/>
          </a:xfrm>
        </p:grpSpPr>
        <p:sp>
          <p:nvSpPr>
            <p:cNvPr id="2037" name=""/>
            <p:cNvSpPr/>
            <p:nvPr/>
          </p:nvSpPr>
          <p:spPr>
            <a:xfrm>
              <a:off x="5715000" y="41911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715000" y="4312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790960" y="4191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715000" y="4191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1" name=""/>
          <p:cNvGrpSpPr/>
          <p:nvPr/>
        </p:nvGrpSpPr>
        <p:grpSpPr>
          <a:xfrm>
            <a:off x="2286000" y="3200400"/>
            <a:ext cx="152280" cy="152280"/>
            <a:chOff x="2286000" y="3200400"/>
            <a:chExt cx="152280" cy="152280"/>
          </a:xfrm>
        </p:grpSpPr>
        <p:sp>
          <p:nvSpPr>
            <p:cNvPr id="2042" name=""/>
            <p:cNvSpPr/>
            <p:nvPr/>
          </p:nvSpPr>
          <p:spPr>
            <a:xfrm>
              <a:off x="2286000" y="32004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286000" y="3322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361960" y="3200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286000" y="3200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2514600" y="3048120"/>
            <a:ext cx="152280" cy="152280"/>
            <a:chOff x="2514600" y="3048120"/>
            <a:chExt cx="152280" cy="152280"/>
          </a:xfrm>
        </p:grpSpPr>
        <p:sp>
          <p:nvSpPr>
            <p:cNvPr id="2047" name=""/>
            <p:cNvSpPr/>
            <p:nvPr/>
          </p:nvSpPr>
          <p:spPr>
            <a:xfrm>
              <a:off x="2514600" y="30481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514600" y="3169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590560" y="3048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514600" y="3048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2057400" y="2362320"/>
            <a:ext cx="152280" cy="152280"/>
            <a:chOff x="2057400" y="2362320"/>
            <a:chExt cx="152280" cy="152280"/>
          </a:xfrm>
        </p:grpSpPr>
        <p:sp>
          <p:nvSpPr>
            <p:cNvPr id="2052" name=""/>
            <p:cNvSpPr/>
            <p:nvPr/>
          </p:nvSpPr>
          <p:spPr>
            <a:xfrm>
              <a:off x="2057400" y="23623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57400" y="24840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133360" y="2362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057400" y="2362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3048120" y="1828800"/>
            <a:ext cx="152280" cy="152280"/>
            <a:chOff x="3048120" y="1828800"/>
            <a:chExt cx="152280" cy="152280"/>
          </a:xfrm>
        </p:grpSpPr>
        <p:sp>
          <p:nvSpPr>
            <p:cNvPr id="2057" name=""/>
            <p:cNvSpPr/>
            <p:nvPr/>
          </p:nvSpPr>
          <p:spPr>
            <a:xfrm>
              <a:off x="3048120" y="1828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048120" y="1950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124080" y="1828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048120" y="1828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3505320" y="1676520"/>
            <a:ext cx="152280" cy="152280"/>
            <a:chOff x="3505320" y="1676520"/>
            <a:chExt cx="152280" cy="152280"/>
          </a:xfrm>
        </p:grpSpPr>
        <p:sp>
          <p:nvSpPr>
            <p:cNvPr id="2062" name=""/>
            <p:cNvSpPr/>
            <p:nvPr/>
          </p:nvSpPr>
          <p:spPr>
            <a:xfrm>
              <a:off x="3505320" y="16765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05320" y="1798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81280" y="1676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05320" y="1676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6" name=""/>
          <p:cNvGrpSpPr/>
          <p:nvPr/>
        </p:nvGrpSpPr>
        <p:grpSpPr>
          <a:xfrm>
            <a:off x="4419720" y="1828800"/>
            <a:ext cx="152280" cy="152280"/>
            <a:chOff x="4419720" y="1828800"/>
            <a:chExt cx="152280" cy="152280"/>
          </a:xfrm>
        </p:grpSpPr>
        <p:sp>
          <p:nvSpPr>
            <p:cNvPr id="2067" name=""/>
            <p:cNvSpPr/>
            <p:nvPr/>
          </p:nvSpPr>
          <p:spPr>
            <a:xfrm>
              <a:off x="4419720" y="1828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419720" y="1950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495680" y="1828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419720" y="1828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6477120" y="1600200"/>
            <a:ext cx="152280" cy="152280"/>
            <a:chOff x="6477120" y="1600200"/>
            <a:chExt cx="152280" cy="152280"/>
          </a:xfrm>
        </p:grpSpPr>
        <p:sp>
          <p:nvSpPr>
            <p:cNvPr id="2072" name=""/>
            <p:cNvSpPr/>
            <p:nvPr/>
          </p:nvSpPr>
          <p:spPr>
            <a:xfrm>
              <a:off x="6477120" y="1600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477120" y="1721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53080" y="1600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477120" y="1600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7391520" y="2133720"/>
            <a:ext cx="152280" cy="152280"/>
            <a:chOff x="7391520" y="2133720"/>
            <a:chExt cx="152280" cy="152280"/>
          </a:xfrm>
        </p:grpSpPr>
        <p:sp>
          <p:nvSpPr>
            <p:cNvPr id="2077" name=""/>
            <p:cNvSpPr/>
            <p:nvPr/>
          </p:nvSpPr>
          <p:spPr>
            <a:xfrm>
              <a:off x="7391520" y="21337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391520" y="22554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467480" y="21337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391520" y="21337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391520" y="3886200"/>
            <a:ext cx="152280" cy="152280"/>
            <a:chOff x="7391520" y="3886200"/>
            <a:chExt cx="152280" cy="152280"/>
          </a:xfrm>
        </p:grpSpPr>
        <p:sp>
          <p:nvSpPr>
            <p:cNvPr id="2082" name=""/>
            <p:cNvSpPr/>
            <p:nvPr/>
          </p:nvSpPr>
          <p:spPr>
            <a:xfrm>
              <a:off x="7391520" y="3886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91520" y="4007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67480" y="3886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391520" y="3886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"/>
          <p:cNvGrpSpPr/>
          <p:nvPr/>
        </p:nvGrpSpPr>
        <p:grpSpPr>
          <a:xfrm>
            <a:off x="6705720" y="5029200"/>
            <a:ext cx="152280" cy="152280"/>
            <a:chOff x="6705720" y="5029200"/>
            <a:chExt cx="152280" cy="152280"/>
          </a:xfrm>
        </p:grpSpPr>
        <p:sp>
          <p:nvSpPr>
            <p:cNvPr id="2087" name=""/>
            <p:cNvSpPr/>
            <p:nvPr/>
          </p:nvSpPr>
          <p:spPr>
            <a:xfrm>
              <a:off x="6705720" y="5029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05720" y="5150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781680" y="5029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705720" y="5029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5791320" y="4572000"/>
            <a:ext cx="152280" cy="152280"/>
            <a:chOff x="5791320" y="4572000"/>
            <a:chExt cx="152280" cy="152280"/>
          </a:xfrm>
        </p:grpSpPr>
        <p:sp>
          <p:nvSpPr>
            <p:cNvPr id="2092" name=""/>
            <p:cNvSpPr/>
            <p:nvPr/>
          </p:nvSpPr>
          <p:spPr>
            <a:xfrm>
              <a:off x="5791320" y="45720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791320" y="46936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67280" y="4572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791320" y="4572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6" name=""/>
          <p:cNvGrpSpPr/>
          <p:nvPr/>
        </p:nvGrpSpPr>
        <p:grpSpPr>
          <a:xfrm>
            <a:off x="5791320" y="4800240"/>
            <a:ext cx="152640" cy="149400"/>
            <a:chOff x="5791320" y="4800240"/>
            <a:chExt cx="152640" cy="149400"/>
          </a:xfrm>
        </p:grpSpPr>
        <p:sp>
          <p:nvSpPr>
            <p:cNvPr id="2097" name=""/>
            <p:cNvSpPr/>
            <p:nvPr/>
          </p:nvSpPr>
          <p:spPr>
            <a:xfrm rot="16200000">
              <a:off x="571680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16200000">
              <a:off x="586908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16200000">
              <a:off x="5830200" y="47613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16200000">
              <a:off x="5829840" y="4835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4876920" y="5943240"/>
            <a:ext cx="152640" cy="149400"/>
            <a:chOff x="4876920" y="5943240"/>
            <a:chExt cx="152640" cy="149400"/>
          </a:xfrm>
        </p:grpSpPr>
        <p:sp>
          <p:nvSpPr>
            <p:cNvPr id="2102" name=""/>
            <p:cNvSpPr/>
            <p:nvPr/>
          </p:nvSpPr>
          <p:spPr>
            <a:xfrm rot="16200000">
              <a:off x="4802400" y="6017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16200000">
              <a:off x="4954680" y="6017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16200000">
              <a:off x="4915800" y="59043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16200000">
              <a:off x="4915440" y="5978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6" name=""/>
          <p:cNvGrpSpPr/>
          <p:nvPr/>
        </p:nvGrpSpPr>
        <p:grpSpPr>
          <a:xfrm>
            <a:off x="2743200" y="5486040"/>
            <a:ext cx="152640" cy="149400"/>
            <a:chOff x="2743200" y="5486040"/>
            <a:chExt cx="152640" cy="149400"/>
          </a:xfrm>
        </p:grpSpPr>
        <p:sp>
          <p:nvSpPr>
            <p:cNvPr id="2107" name=""/>
            <p:cNvSpPr/>
            <p:nvPr/>
          </p:nvSpPr>
          <p:spPr>
            <a:xfrm rot="16200000">
              <a:off x="2668680" y="5560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16200000">
              <a:off x="2820960" y="5560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16200000">
              <a:off x="2782080" y="54471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rot="16200000">
              <a:off x="2781720" y="55216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1676520" y="4343040"/>
            <a:ext cx="152640" cy="149400"/>
            <a:chOff x="1676520" y="4343040"/>
            <a:chExt cx="152640" cy="149400"/>
          </a:xfrm>
        </p:grpSpPr>
        <p:sp>
          <p:nvSpPr>
            <p:cNvPr id="2112" name=""/>
            <p:cNvSpPr/>
            <p:nvPr/>
          </p:nvSpPr>
          <p:spPr>
            <a:xfrm rot="16200000">
              <a:off x="1602000" y="4417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rot="16200000">
              <a:off x="1754280" y="4417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16200000">
              <a:off x="1715400" y="43041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16200000">
              <a:off x="1715040" y="43786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2743200" y="2822040"/>
            <a:ext cx="152640" cy="149400"/>
            <a:chOff x="2743200" y="2822040"/>
            <a:chExt cx="152640" cy="149400"/>
          </a:xfrm>
        </p:grpSpPr>
        <p:sp>
          <p:nvSpPr>
            <p:cNvPr id="2117" name=""/>
            <p:cNvSpPr/>
            <p:nvPr/>
          </p:nvSpPr>
          <p:spPr>
            <a:xfrm rot="16200000">
              <a:off x="2668680" y="2896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16200000">
              <a:off x="2820960" y="2896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16200000">
              <a:off x="2782080" y="27831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16200000">
              <a:off x="2781720" y="28576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4191120" y="1447920"/>
            <a:ext cx="152640" cy="149040"/>
            <a:chOff x="4191120" y="1447920"/>
            <a:chExt cx="152640" cy="149040"/>
          </a:xfrm>
        </p:grpSpPr>
        <p:sp>
          <p:nvSpPr>
            <p:cNvPr id="2122" name=""/>
            <p:cNvSpPr/>
            <p:nvPr/>
          </p:nvSpPr>
          <p:spPr>
            <a:xfrm rot="16200000">
              <a:off x="4116600" y="15220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16200000">
              <a:off x="4268880" y="15220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16200000">
              <a:off x="4230000" y="14086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16200000">
              <a:off x="4229640" y="14832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562720" y="990720"/>
            <a:ext cx="152640" cy="149040"/>
            <a:chOff x="5562720" y="990720"/>
            <a:chExt cx="152640" cy="149040"/>
          </a:xfrm>
        </p:grpSpPr>
        <p:sp>
          <p:nvSpPr>
            <p:cNvPr id="2127" name=""/>
            <p:cNvSpPr/>
            <p:nvPr/>
          </p:nvSpPr>
          <p:spPr>
            <a:xfrm rot="16200000">
              <a:off x="5488200" y="10648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rot="16200000">
              <a:off x="5640480" y="10648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rot="16200000">
              <a:off x="5601600" y="9514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16200000">
              <a:off x="5601240" y="10260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6858000" y="1142640"/>
            <a:ext cx="152640" cy="149400"/>
            <a:chOff x="6858000" y="1142640"/>
            <a:chExt cx="152640" cy="149400"/>
          </a:xfrm>
        </p:grpSpPr>
        <p:sp>
          <p:nvSpPr>
            <p:cNvPr id="2132" name=""/>
            <p:cNvSpPr/>
            <p:nvPr/>
          </p:nvSpPr>
          <p:spPr>
            <a:xfrm rot="16200000">
              <a:off x="6783480" y="1217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6200000">
              <a:off x="6935760" y="1217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16200000">
              <a:off x="6896880" y="11037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16200000">
              <a:off x="6896520" y="11782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6477120" y="2362320"/>
            <a:ext cx="152640" cy="149040"/>
            <a:chOff x="6477120" y="2362320"/>
            <a:chExt cx="152640" cy="149040"/>
          </a:xfrm>
        </p:grpSpPr>
        <p:sp>
          <p:nvSpPr>
            <p:cNvPr id="2137" name=""/>
            <p:cNvSpPr/>
            <p:nvPr/>
          </p:nvSpPr>
          <p:spPr>
            <a:xfrm rot="16200000">
              <a:off x="6402600" y="2436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16200000">
              <a:off x="6554880" y="2436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16200000">
              <a:off x="6516000" y="23230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16200000">
              <a:off x="6515640" y="23976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5486400" y="761760"/>
            <a:ext cx="152280" cy="152280"/>
            <a:chOff x="5486400" y="761760"/>
            <a:chExt cx="152280" cy="152280"/>
          </a:xfrm>
        </p:grpSpPr>
        <p:sp>
          <p:nvSpPr>
            <p:cNvPr id="2142" name=""/>
            <p:cNvSpPr/>
            <p:nvPr/>
          </p:nvSpPr>
          <p:spPr>
            <a:xfrm rot="16200000">
              <a:off x="5425200" y="8226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rot="16200000">
              <a:off x="5547240" y="8226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rot="16200000">
              <a:off x="5524560" y="723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rot="16200000">
              <a:off x="5524560" y="7999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391520" y="2590560"/>
            <a:ext cx="152280" cy="152280"/>
            <a:chOff x="7391520" y="2590560"/>
            <a:chExt cx="152280" cy="152280"/>
          </a:xfrm>
        </p:grpSpPr>
        <p:sp>
          <p:nvSpPr>
            <p:cNvPr id="2147" name=""/>
            <p:cNvSpPr/>
            <p:nvPr/>
          </p:nvSpPr>
          <p:spPr>
            <a:xfrm rot="16200000">
              <a:off x="7330320" y="26514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rot="16200000">
              <a:off x="7452360" y="26514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16200000">
              <a:off x="7429680" y="2552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rot="16200000">
              <a:off x="7429680" y="26287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6400800" y="2971440"/>
            <a:ext cx="152280" cy="152280"/>
            <a:chOff x="6400800" y="2971440"/>
            <a:chExt cx="152280" cy="152280"/>
          </a:xfrm>
        </p:grpSpPr>
        <p:sp>
          <p:nvSpPr>
            <p:cNvPr id="2152" name=""/>
            <p:cNvSpPr/>
            <p:nvPr/>
          </p:nvSpPr>
          <p:spPr>
            <a:xfrm rot="16200000">
              <a:off x="6339600" y="30322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16200000">
              <a:off x="6461640" y="3032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16200000">
              <a:off x="6438960" y="2933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rot="16200000">
              <a:off x="6438960" y="3009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7086600" y="4647960"/>
            <a:ext cx="152280" cy="152280"/>
            <a:chOff x="7086600" y="4647960"/>
            <a:chExt cx="152280" cy="152280"/>
          </a:xfrm>
        </p:grpSpPr>
        <p:sp>
          <p:nvSpPr>
            <p:cNvPr id="2157" name=""/>
            <p:cNvSpPr/>
            <p:nvPr/>
          </p:nvSpPr>
          <p:spPr>
            <a:xfrm rot="16200000">
              <a:off x="7025400" y="4708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rot="16200000">
              <a:off x="7147440" y="4708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rot="16200000">
              <a:off x="7124760" y="46101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rot="16200000">
              <a:off x="7124760" y="4686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3200400" y="2590560"/>
            <a:ext cx="152280" cy="152280"/>
            <a:chOff x="3200400" y="2590560"/>
            <a:chExt cx="152280" cy="152280"/>
          </a:xfrm>
        </p:grpSpPr>
        <p:sp>
          <p:nvSpPr>
            <p:cNvPr id="2162" name=""/>
            <p:cNvSpPr/>
            <p:nvPr/>
          </p:nvSpPr>
          <p:spPr>
            <a:xfrm rot="16200000">
              <a:off x="3139200" y="26514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rot="16200000">
              <a:off x="3261240" y="26514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rot="16200000">
              <a:off x="3238560" y="2552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rot="16200000">
              <a:off x="3238560" y="26287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3657600" y="457200"/>
            <a:ext cx="152280" cy="152280"/>
            <a:chOff x="3657600" y="457200"/>
            <a:chExt cx="152280" cy="152280"/>
          </a:xfrm>
        </p:grpSpPr>
        <p:sp>
          <p:nvSpPr>
            <p:cNvPr id="2167" name=""/>
            <p:cNvSpPr/>
            <p:nvPr/>
          </p:nvSpPr>
          <p:spPr>
            <a:xfrm>
              <a:off x="3657600" y="457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657600" y="578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733560" y="457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657600" y="457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1" name=""/>
          <p:cNvGrpSpPr/>
          <p:nvPr/>
        </p:nvGrpSpPr>
        <p:grpSpPr>
          <a:xfrm>
            <a:off x="7772040" y="1828080"/>
            <a:ext cx="149400" cy="152640"/>
            <a:chOff x="7772040" y="1828080"/>
            <a:chExt cx="149400" cy="152640"/>
          </a:xfrm>
        </p:grpSpPr>
        <p:sp>
          <p:nvSpPr>
            <p:cNvPr id="2172" name=""/>
            <p:cNvSpPr/>
            <p:nvPr/>
          </p:nvSpPr>
          <p:spPr>
            <a:xfrm rot="10800000">
              <a:off x="7772040" y="1980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10800000">
              <a:off x="7772040" y="182808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10800000">
              <a:off x="7772040" y="182844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10800000">
              <a:off x="7846560" y="18284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6477120" y="913680"/>
            <a:ext cx="149040" cy="152640"/>
            <a:chOff x="6477120" y="913680"/>
            <a:chExt cx="149040" cy="152640"/>
          </a:xfrm>
        </p:grpSpPr>
        <p:sp>
          <p:nvSpPr>
            <p:cNvPr id="2177" name=""/>
            <p:cNvSpPr/>
            <p:nvPr/>
          </p:nvSpPr>
          <p:spPr>
            <a:xfrm rot="10800000">
              <a:off x="6477120" y="106596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rot="10800000">
              <a:off x="6477120" y="9136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rot="10800000">
              <a:off x="6477120" y="91404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rot="10800000">
              <a:off x="6551280" y="9140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533520" y="5028480"/>
            <a:ext cx="149040" cy="152640"/>
            <a:chOff x="533520" y="5028480"/>
            <a:chExt cx="149040" cy="152640"/>
          </a:xfrm>
        </p:grpSpPr>
        <p:sp>
          <p:nvSpPr>
            <p:cNvPr id="2182" name=""/>
            <p:cNvSpPr/>
            <p:nvPr/>
          </p:nvSpPr>
          <p:spPr>
            <a:xfrm rot="10800000">
              <a:off x="533520" y="518076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rot="10800000">
              <a:off x="533520" y="5028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rot="10800000">
              <a:off x="533520" y="502884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rot="10800000">
              <a:off x="607680" y="50288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6" name=""/>
          <p:cNvGrpSpPr/>
          <p:nvPr/>
        </p:nvGrpSpPr>
        <p:grpSpPr>
          <a:xfrm>
            <a:off x="9220320" y="4571640"/>
            <a:ext cx="152280" cy="152280"/>
            <a:chOff x="9220320" y="4571640"/>
            <a:chExt cx="152280" cy="152280"/>
          </a:xfrm>
        </p:grpSpPr>
        <p:sp>
          <p:nvSpPr>
            <p:cNvPr id="2187" name=""/>
            <p:cNvSpPr/>
            <p:nvPr/>
          </p:nvSpPr>
          <p:spPr>
            <a:xfrm rot="16200000">
              <a:off x="9159120" y="46324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rot="16200000">
              <a:off x="9281160" y="4632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rot="16200000">
              <a:off x="9258480" y="4533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rot="16200000">
              <a:off x="9258480" y="4609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1" name=""/>
          <p:cNvSpPr/>
          <p:nvPr/>
        </p:nvSpPr>
        <p:spPr>
          <a:xfrm>
            <a:off x="1523880" y="2057400"/>
            <a:ext cx="2328840" cy="1828800"/>
          </a:xfrm>
          <a:custGeom>
            <a:avLst/>
            <a:gdLst/>
            <a:ahLst/>
            <a:rect l="l" t="t" r="r" b="b"/>
            <a:pathLst>
              <a:path w="1467" h="1152">
                <a:moveTo>
                  <a:pt x="0" y="384"/>
                </a:moveTo>
                <a:lnTo>
                  <a:pt x="0" y="0"/>
                </a:lnTo>
                <a:lnTo>
                  <a:pt x="555" y="0"/>
                </a:lnTo>
                <a:lnTo>
                  <a:pt x="714" y="114"/>
                </a:lnTo>
                <a:lnTo>
                  <a:pt x="1314" y="234"/>
                </a:lnTo>
                <a:lnTo>
                  <a:pt x="1374" y="318"/>
                </a:lnTo>
                <a:lnTo>
                  <a:pt x="1467" y="792"/>
                </a:lnTo>
                <a:lnTo>
                  <a:pt x="1416" y="1122"/>
                </a:lnTo>
                <a:lnTo>
                  <a:pt x="1128" y="1095"/>
                </a:lnTo>
                <a:lnTo>
                  <a:pt x="1014" y="1152"/>
                </a:lnTo>
                <a:lnTo>
                  <a:pt x="926" y="1104"/>
                </a:lnTo>
                <a:lnTo>
                  <a:pt x="615" y="990"/>
                </a:lnTo>
                <a:lnTo>
                  <a:pt x="477" y="870"/>
                </a:lnTo>
                <a:lnTo>
                  <a:pt x="423" y="717"/>
                </a:lnTo>
                <a:lnTo>
                  <a:pt x="174" y="522"/>
                </a:lnTo>
                <a:lnTo>
                  <a:pt x="0" y="384"/>
                </a:lnTo>
                <a:close/>
              </a:path>
            </a:pathLst>
          </a:custGeom>
          <a:noFill/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486080" y="2614680"/>
            <a:ext cx="7452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3" name=""/>
          <p:cNvGrpSpPr/>
          <p:nvPr/>
        </p:nvGrpSpPr>
        <p:grpSpPr>
          <a:xfrm>
            <a:off x="3205080" y="3348000"/>
            <a:ext cx="219240" cy="227160"/>
            <a:chOff x="3205080" y="3348000"/>
            <a:chExt cx="219240" cy="227160"/>
          </a:xfrm>
        </p:grpSpPr>
        <p:sp>
          <p:nvSpPr>
            <p:cNvPr id="2194" name=""/>
            <p:cNvSpPr/>
            <p:nvPr/>
          </p:nvSpPr>
          <p:spPr>
            <a:xfrm>
              <a:off x="3205080" y="3394080"/>
              <a:ext cx="219240" cy="66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205080" y="3460680"/>
              <a:ext cx="219240" cy="66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6" name=""/>
            <p:cNvGrpSpPr/>
            <p:nvPr/>
          </p:nvGrpSpPr>
          <p:grpSpPr>
            <a:xfrm>
              <a:off x="3243960" y="3484440"/>
              <a:ext cx="141480" cy="90720"/>
              <a:chOff x="3243960" y="3484440"/>
              <a:chExt cx="141480" cy="90720"/>
            </a:xfrm>
          </p:grpSpPr>
          <p:sp>
            <p:nvSpPr>
              <p:cNvPr id="2197" name=""/>
              <p:cNvSpPr/>
              <p:nvPr/>
            </p:nvSpPr>
            <p:spPr>
              <a:xfrm rot="5400000">
                <a:off x="3304440" y="3494160"/>
                <a:ext cx="90720" cy="709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V="1" rot="5400000">
                <a:off x="3233880" y="3494160"/>
                <a:ext cx="90720" cy="709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"/>
            <p:cNvGrpSpPr/>
            <p:nvPr/>
          </p:nvGrpSpPr>
          <p:grpSpPr>
            <a:xfrm>
              <a:off x="3243960" y="3348000"/>
              <a:ext cx="141480" cy="90720"/>
              <a:chOff x="3243960" y="3348000"/>
              <a:chExt cx="141480" cy="90720"/>
            </a:xfrm>
          </p:grpSpPr>
          <p:sp>
            <p:nvSpPr>
              <p:cNvPr id="2200" name=""/>
              <p:cNvSpPr/>
              <p:nvPr/>
            </p:nvSpPr>
            <p:spPr>
              <a:xfrm flipH="1" rot="5400000">
                <a:off x="3304080" y="3357720"/>
                <a:ext cx="90720" cy="709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flipV="1" rot="5400000">
                <a:off x="3233520" y="3357720"/>
                <a:ext cx="90720" cy="7092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2" name=""/>
          <p:cNvGrpSpPr/>
          <p:nvPr/>
        </p:nvGrpSpPr>
        <p:grpSpPr>
          <a:xfrm>
            <a:off x="1157400" y="3271680"/>
            <a:ext cx="131760" cy="139680"/>
            <a:chOff x="1157400" y="3271680"/>
            <a:chExt cx="131760" cy="139680"/>
          </a:xfrm>
        </p:grpSpPr>
        <p:sp>
          <p:nvSpPr>
            <p:cNvPr id="2203" name=""/>
            <p:cNvSpPr/>
            <p:nvPr/>
          </p:nvSpPr>
          <p:spPr>
            <a:xfrm>
              <a:off x="1157400" y="3271680"/>
              <a:ext cx="131760" cy="27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157400" y="3383280"/>
              <a:ext cx="131760" cy="2808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223280" y="3271680"/>
              <a:ext cx="65880" cy="1396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157400" y="3271680"/>
              <a:ext cx="65880" cy="1396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1030320" y="3211560"/>
            <a:ext cx="82440" cy="165240"/>
            <a:chOff x="1030320" y="3211560"/>
            <a:chExt cx="82440" cy="165240"/>
          </a:xfrm>
        </p:grpSpPr>
        <p:sp>
          <p:nvSpPr>
            <p:cNvPr id="2208" name=""/>
            <p:cNvSpPr/>
            <p:nvPr/>
          </p:nvSpPr>
          <p:spPr>
            <a:xfrm>
              <a:off x="1030320" y="3211560"/>
              <a:ext cx="8244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030320" y="3376440"/>
              <a:ext cx="8244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071360" y="3211560"/>
              <a:ext cx="41400" cy="1648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030320" y="3211560"/>
              <a:ext cx="41040" cy="1648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2" name=""/>
          <p:cNvSpPr/>
          <p:nvPr/>
        </p:nvSpPr>
        <p:spPr>
          <a:xfrm>
            <a:off x="1481040" y="2014560"/>
            <a:ext cx="114480" cy="12060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3668760" y="3716280"/>
            <a:ext cx="152280" cy="144360"/>
            <a:chOff x="3668760" y="3716280"/>
            <a:chExt cx="152280" cy="144360"/>
          </a:xfrm>
        </p:grpSpPr>
        <p:sp>
          <p:nvSpPr>
            <p:cNvPr id="2214" name=""/>
            <p:cNvSpPr/>
            <p:nvPr/>
          </p:nvSpPr>
          <p:spPr>
            <a:xfrm>
              <a:off x="3678840" y="3724920"/>
              <a:ext cx="132840" cy="126000"/>
            </a:xfrm>
            <a:prstGeom prst="ellipse">
              <a:avLst/>
            </a:prstGeom>
            <a:solidFill>
              <a:srgbClr val="a58f8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72720" y="3722760"/>
              <a:ext cx="126720" cy="130320"/>
            </a:xfrm>
            <a:custGeom>
              <a:avLst/>
              <a:gdLst/>
              <a:ahLst/>
              <a:rect l="l" t="t" r="r" b="b"/>
              <a:pathLst>
                <a:path w="1476" h="1602">
                  <a:moveTo>
                    <a:pt x="678" y="1602"/>
                  </a:moveTo>
                  <a:lnTo>
                    <a:pt x="678" y="1596"/>
                  </a:lnTo>
                  <a:lnTo>
                    <a:pt x="684" y="1578"/>
                  </a:lnTo>
                  <a:lnTo>
                    <a:pt x="684" y="1560"/>
                  </a:lnTo>
                  <a:lnTo>
                    <a:pt x="690" y="1548"/>
                  </a:lnTo>
                  <a:lnTo>
                    <a:pt x="690" y="1536"/>
                  </a:lnTo>
                  <a:lnTo>
                    <a:pt x="696" y="1530"/>
                  </a:lnTo>
                  <a:lnTo>
                    <a:pt x="696" y="1512"/>
                  </a:lnTo>
                  <a:lnTo>
                    <a:pt x="696" y="1494"/>
                  </a:lnTo>
                  <a:lnTo>
                    <a:pt x="702" y="1476"/>
                  </a:lnTo>
                  <a:lnTo>
                    <a:pt x="702" y="1452"/>
                  </a:lnTo>
                  <a:lnTo>
                    <a:pt x="702" y="1428"/>
                  </a:lnTo>
                  <a:lnTo>
                    <a:pt x="702" y="1410"/>
                  </a:lnTo>
                  <a:lnTo>
                    <a:pt x="702" y="1386"/>
                  </a:lnTo>
                  <a:lnTo>
                    <a:pt x="702" y="1374"/>
                  </a:lnTo>
                  <a:lnTo>
                    <a:pt x="702" y="1356"/>
                  </a:lnTo>
                  <a:lnTo>
                    <a:pt x="702" y="1350"/>
                  </a:lnTo>
                  <a:lnTo>
                    <a:pt x="702" y="1332"/>
                  </a:lnTo>
                  <a:lnTo>
                    <a:pt x="702" y="1320"/>
                  </a:lnTo>
                  <a:lnTo>
                    <a:pt x="708" y="1308"/>
                  </a:lnTo>
                  <a:lnTo>
                    <a:pt x="708" y="1290"/>
                  </a:lnTo>
                  <a:lnTo>
                    <a:pt x="708" y="1278"/>
                  </a:lnTo>
                  <a:lnTo>
                    <a:pt x="708" y="1266"/>
                  </a:lnTo>
                  <a:lnTo>
                    <a:pt x="708" y="1254"/>
                  </a:lnTo>
                  <a:lnTo>
                    <a:pt x="714" y="1236"/>
                  </a:lnTo>
                  <a:lnTo>
                    <a:pt x="714" y="1218"/>
                  </a:lnTo>
                  <a:lnTo>
                    <a:pt x="714" y="1200"/>
                  </a:lnTo>
                  <a:lnTo>
                    <a:pt x="714" y="1188"/>
                  </a:lnTo>
                  <a:lnTo>
                    <a:pt x="720" y="1164"/>
                  </a:lnTo>
                  <a:lnTo>
                    <a:pt x="720" y="1134"/>
                  </a:lnTo>
                  <a:lnTo>
                    <a:pt x="720" y="1116"/>
                  </a:lnTo>
                  <a:lnTo>
                    <a:pt x="726" y="1092"/>
                  </a:lnTo>
                  <a:lnTo>
                    <a:pt x="726" y="1074"/>
                  </a:lnTo>
                  <a:lnTo>
                    <a:pt x="732" y="1062"/>
                  </a:lnTo>
                  <a:lnTo>
                    <a:pt x="732" y="1044"/>
                  </a:lnTo>
                  <a:lnTo>
                    <a:pt x="732" y="1032"/>
                  </a:lnTo>
                  <a:lnTo>
                    <a:pt x="732" y="1020"/>
                  </a:lnTo>
                  <a:lnTo>
                    <a:pt x="738" y="1014"/>
                  </a:lnTo>
                  <a:lnTo>
                    <a:pt x="738" y="1002"/>
                  </a:lnTo>
                  <a:lnTo>
                    <a:pt x="738" y="990"/>
                  </a:lnTo>
                  <a:lnTo>
                    <a:pt x="738" y="984"/>
                  </a:lnTo>
                  <a:lnTo>
                    <a:pt x="738" y="972"/>
                  </a:lnTo>
                  <a:lnTo>
                    <a:pt x="738" y="954"/>
                  </a:lnTo>
                  <a:lnTo>
                    <a:pt x="744" y="948"/>
                  </a:lnTo>
                  <a:lnTo>
                    <a:pt x="744" y="936"/>
                  </a:lnTo>
                  <a:lnTo>
                    <a:pt x="744" y="930"/>
                  </a:lnTo>
                  <a:lnTo>
                    <a:pt x="744" y="924"/>
                  </a:lnTo>
                  <a:lnTo>
                    <a:pt x="744" y="918"/>
                  </a:lnTo>
                  <a:lnTo>
                    <a:pt x="744" y="906"/>
                  </a:lnTo>
                  <a:lnTo>
                    <a:pt x="750" y="894"/>
                  </a:lnTo>
                  <a:lnTo>
                    <a:pt x="756" y="882"/>
                  </a:lnTo>
                  <a:lnTo>
                    <a:pt x="756" y="870"/>
                  </a:lnTo>
                  <a:lnTo>
                    <a:pt x="756" y="864"/>
                  </a:lnTo>
                  <a:lnTo>
                    <a:pt x="756" y="852"/>
                  </a:lnTo>
                  <a:lnTo>
                    <a:pt x="762" y="840"/>
                  </a:lnTo>
                  <a:lnTo>
                    <a:pt x="762" y="834"/>
                  </a:lnTo>
                  <a:lnTo>
                    <a:pt x="762" y="822"/>
                  </a:lnTo>
                  <a:lnTo>
                    <a:pt x="768" y="804"/>
                  </a:lnTo>
                  <a:lnTo>
                    <a:pt x="768" y="798"/>
                  </a:lnTo>
                  <a:lnTo>
                    <a:pt x="774" y="780"/>
                  </a:lnTo>
                  <a:lnTo>
                    <a:pt x="780" y="768"/>
                  </a:lnTo>
                  <a:lnTo>
                    <a:pt x="780" y="750"/>
                  </a:lnTo>
                  <a:lnTo>
                    <a:pt x="786" y="744"/>
                  </a:lnTo>
                  <a:lnTo>
                    <a:pt x="786" y="732"/>
                  </a:lnTo>
                  <a:lnTo>
                    <a:pt x="792" y="720"/>
                  </a:lnTo>
                  <a:lnTo>
                    <a:pt x="798" y="708"/>
                  </a:lnTo>
                  <a:lnTo>
                    <a:pt x="798" y="702"/>
                  </a:lnTo>
                  <a:lnTo>
                    <a:pt x="804" y="690"/>
                  </a:lnTo>
                  <a:lnTo>
                    <a:pt x="804" y="684"/>
                  </a:lnTo>
                  <a:lnTo>
                    <a:pt x="810" y="678"/>
                  </a:lnTo>
                  <a:lnTo>
                    <a:pt x="810" y="672"/>
                  </a:lnTo>
                  <a:lnTo>
                    <a:pt x="822" y="672"/>
                  </a:lnTo>
                  <a:lnTo>
                    <a:pt x="840" y="660"/>
                  </a:lnTo>
                  <a:lnTo>
                    <a:pt x="852" y="648"/>
                  </a:lnTo>
                  <a:lnTo>
                    <a:pt x="864" y="642"/>
                  </a:lnTo>
                  <a:lnTo>
                    <a:pt x="876" y="636"/>
                  </a:lnTo>
                  <a:lnTo>
                    <a:pt x="888" y="630"/>
                  </a:lnTo>
                  <a:lnTo>
                    <a:pt x="894" y="624"/>
                  </a:lnTo>
                  <a:lnTo>
                    <a:pt x="900" y="618"/>
                  </a:lnTo>
                  <a:lnTo>
                    <a:pt x="912" y="612"/>
                  </a:lnTo>
                  <a:lnTo>
                    <a:pt x="930" y="600"/>
                  </a:lnTo>
                  <a:lnTo>
                    <a:pt x="942" y="594"/>
                  </a:lnTo>
                  <a:lnTo>
                    <a:pt x="954" y="582"/>
                  </a:lnTo>
                  <a:lnTo>
                    <a:pt x="966" y="576"/>
                  </a:lnTo>
                  <a:lnTo>
                    <a:pt x="984" y="564"/>
                  </a:lnTo>
                  <a:lnTo>
                    <a:pt x="996" y="552"/>
                  </a:lnTo>
                  <a:lnTo>
                    <a:pt x="1008" y="546"/>
                  </a:lnTo>
                  <a:lnTo>
                    <a:pt x="1026" y="534"/>
                  </a:lnTo>
                  <a:lnTo>
                    <a:pt x="1038" y="528"/>
                  </a:lnTo>
                  <a:lnTo>
                    <a:pt x="1056" y="516"/>
                  </a:lnTo>
                  <a:lnTo>
                    <a:pt x="1068" y="510"/>
                  </a:lnTo>
                  <a:lnTo>
                    <a:pt x="1086" y="498"/>
                  </a:lnTo>
                  <a:lnTo>
                    <a:pt x="1104" y="486"/>
                  </a:lnTo>
                  <a:lnTo>
                    <a:pt x="1116" y="474"/>
                  </a:lnTo>
                  <a:lnTo>
                    <a:pt x="1134" y="462"/>
                  </a:lnTo>
                  <a:lnTo>
                    <a:pt x="1146" y="456"/>
                  </a:lnTo>
                  <a:lnTo>
                    <a:pt x="1158" y="444"/>
                  </a:lnTo>
                  <a:lnTo>
                    <a:pt x="1170" y="438"/>
                  </a:lnTo>
                  <a:lnTo>
                    <a:pt x="1182" y="438"/>
                  </a:lnTo>
                  <a:lnTo>
                    <a:pt x="1194" y="432"/>
                  </a:lnTo>
                  <a:lnTo>
                    <a:pt x="1206" y="426"/>
                  </a:lnTo>
                  <a:lnTo>
                    <a:pt x="1212" y="420"/>
                  </a:lnTo>
                  <a:lnTo>
                    <a:pt x="1230" y="420"/>
                  </a:lnTo>
                  <a:lnTo>
                    <a:pt x="1236" y="414"/>
                  </a:lnTo>
                  <a:lnTo>
                    <a:pt x="1242" y="408"/>
                  </a:lnTo>
                  <a:lnTo>
                    <a:pt x="1248" y="402"/>
                  </a:lnTo>
                  <a:lnTo>
                    <a:pt x="1260" y="396"/>
                  </a:lnTo>
                  <a:lnTo>
                    <a:pt x="1272" y="390"/>
                  </a:lnTo>
                  <a:lnTo>
                    <a:pt x="1290" y="384"/>
                  </a:lnTo>
                  <a:lnTo>
                    <a:pt x="1302" y="372"/>
                  </a:lnTo>
                  <a:lnTo>
                    <a:pt x="1320" y="366"/>
                  </a:lnTo>
                  <a:lnTo>
                    <a:pt x="1344" y="354"/>
                  </a:lnTo>
                  <a:lnTo>
                    <a:pt x="1362" y="348"/>
                  </a:lnTo>
                  <a:lnTo>
                    <a:pt x="1386" y="330"/>
                  </a:lnTo>
                  <a:lnTo>
                    <a:pt x="1410" y="324"/>
                  </a:lnTo>
                  <a:lnTo>
                    <a:pt x="1434" y="312"/>
                  </a:lnTo>
                  <a:lnTo>
                    <a:pt x="1446" y="306"/>
                  </a:lnTo>
                  <a:lnTo>
                    <a:pt x="1458" y="300"/>
                  </a:lnTo>
                  <a:lnTo>
                    <a:pt x="1464" y="300"/>
                  </a:lnTo>
                  <a:lnTo>
                    <a:pt x="1470" y="300"/>
                  </a:lnTo>
                  <a:lnTo>
                    <a:pt x="1470" y="294"/>
                  </a:lnTo>
                  <a:lnTo>
                    <a:pt x="1476" y="288"/>
                  </a:lnTo>
                  <a:lnTo>
                    <a:pt x="1470" y="288"/>
                  </a:lnTo>
                  <a:lnTo>
                    <a:pt x="1464" y="288"/>
                  </a:lnTo>
                  <a:lnTo>
                    <a:pt x="1452" y="282"/>
                  </a:lnTo>
                  <a:lnTo>
                    <a:pt x="1446" y="276"/>
                  </a:lnTo>
                  <a:lnTo>
                    <a:pt x="1434" y="264"/>
                  </a:lnTo>
                  <a:lnTo>
                    <a:pt x="1428" y="246"/>
                  </a:lnTo>
                  <a:lnTo>
                    <a:pt x="1422" y="240"/>
                  </a:lnTo>
                  <a:lnTo>
                    <a:pt x="1416" y="234"/>
                  </a:lnTo>
                  <a:lnTo>
                    <a:pt x="1398" y="210"/>
                  </a:lnTo>
                  <a:lnTo>
                    <a:pt x="1386" y="198"/>
                  </a:lnTo>
                  <a:lnTo>
                    <a:pt x="1380" y="192"/>
                  </a:lnTo>
                  <a:lnTo>
                    <a:pt x="1380" y="186"/>
                  </a:lnTo>
                  <a:lnTo>
                    <a:pt x="1368" y="186"/>
                  </a:lnTo>
                  <a:lnTo>
                    <a:pt x="1362" y="180"/>
                  </a:lnTo>
                  <a:lnTo>
                    <a:pt x="1356" y="174"/>
                  </a:lnTo>
                  <a:lnTo>
                    <a:pt x="1344" y="168"/>
                  </a:lnTo>
                  <a:lnTo>
                    <a:pt x="1338" y="162"/>
                  </a:lnTo>
                  <a:lnTo>
                    <a:pt x="1320" y="144"/>
                  </a:lnTo>
                  <a:lnTo>
                    <a:pt x="1314" y="144"/>
                  </a:lnTo>
                  <a:lnTo>
                    <a:pt x="1302" y="132"/>
                  </a:lnTo>
                  <a:lnTo>
                    <a:pt x="1296" y="132"/>
                  </a:lnTo>
                  <a:lnTo>
                    <a:pt x="1272" y="120"/>
                  </a:lnTo>
                  <a:lnTo>
                    <a:pt x="1254" y="108"/>
                  </a:lnTo>
                  <a:lnTo>
                    <a:pt x="1230" y="102"/>
                  </a:lnTo>
                  <a:lnTo>
                    <a:pt x="1212" y="96"/>
                  </a:lnTo>
                  <a:lnTo>
                    <a:pt x="1206" y="96"/>
                  </a:lnTo>
                  <a:lnTo>
                    <a:pt x="1194" y="84"/>
                  </a:lnTo>
                  <a:lnTo>
                    <a:pt x="1170" y="78"/>
                  </a:lnTo>
                  <a:lnTo>
                    <a:pt x="1146" y="78"/>
                  </a:lnTo>
                  <a:lnTo>
                    <a:pt x="1134" y="72"/>
                  </a:lnTo>
                  <a:lnTo>
                    <a:pt x="1122" y="60"/>
                  </a:lnTo>
                  <a:lnTo>
                    <a:pt x="1116" y="60"/>
                  </a:lnTo>
                  <a:lnTo>
                    <a:pt x="1092" y="60"/>
                  </a:lnTo>
                  <a:lnTo>
                    <a:pt x="1068" y="48"/>
                  </a:lnTo>
                  <a:lnTo>
                    <a:pt x="1050" y="42"/>
                  </a:lnTo>
                  <a:lnTo>
                    <a:pt x="1038" y="42"/>
                  </a:lnTo>
                  <a:lnTo>
                    <a:pt x="1026" y="36"/>
                  </a:lnTo>
                  <a:lnTo>
                    <a:pt x="1014" y="36"/>
                  </a:lnTo>
                  <a:lnTo>
                    <a:pt x="1002" y="30"/>
                  </a:lnTo>
                  <a:lnTo>
                    <a:pt x="990" y="30"/>
                  </a:lnTo>
                  <a:lnTo>
                    <a:pt x="978" y="24"/>
                  </a:lnTo>
                  <a:lnTo>
                    <a:pt x="966" y="18"/>
                  </a:lnTo>
                  <a:lnTo>
                    <a:pt x="954" y="18"/>
                  </a:lnTo>
                  <a:lnTo>
                    <a:pt x="942" y="12"/>
                  </a:lnTo>
                  <a:lnTo>
                    <a:pt x="924" y="12"/>
                  </a:lnTo>
                  <a:lnTo>
                    <a:pt x="918" y="12"/>
                  </a:lnTo>
                  <a:lnTo>
                    <a:pt x="906" y="6"/>
                  </a:lnTo>
                  <a:lnTo>
                    <a:pt x="888" y="6"/>
                  </a:lnTo>
                  <a:lnTo>
                    <a:pt x="870" y="6"/>
                  </a:lnTo>
                  <a:lnTo>
                    <a:pt x="840" y="6"/>
                  </a:lnTo>
                  <a:lnTo>
                    <a:pt x="822" y="6"/>
                  </a:lnTo>
                  <a:lnTo>
                    <a:pt x="792" y="6"/>
                  </a:lnTo>
                  <a:lnTo>
                    <a:pt x="762" y="6"/>
                  </a:lnTo>
                  <a:lnTo>
                    <a:pt x="720" y="12"/>
                  </a:lnTo>
                  <a:lnTo>
                    <a:pt x="720" y="0"/>
                  </a:lnTo>
                  <a:lnTo>
                    <a:pt x="714" y="0"/>
                  </a:lnTo>
                  <a:lnTo>
                    <a:pt x="690" y="6"/>
                  </a:lnTo>
                  <a:lnTo>
                    <a:pt x="672" y="12"/>
                  </a:lnTo>
                  <a:lnTo>
                    <a:pt x="642" y="18"/>
                  </a:lnTo>
                  <a:lnTo>
                    <a:pt x="618" y="30"/>
                  </a:lnTo>
                  <a:lnTo>
                    <a:pt x="588" y="36"/>
                  </a:lnTo>
                  <a:lnTo>
                    <a:pt x="570" y="42"/>
                  </a:lnTo>
                  <a:lnTo>
                    <a:pt x="552" y="48"/>
                  </a:lnTo>
                  <a:lnTo>
                    <a:pt x="516" y="60"/>
                  </a:lnTo>
                  <a:lnTo>
                    <a:pt x="492" y="72"/>
                  </a:lnTo>
                  <a:lnTo>
                    <a:pt x="462" y="84"/>
                  </a:lnTo>
                  <a:lnTo>
                    <a:pt x="450" y="90"/>
                  </a:lnTo>
                  <a:lnTo>
                    <a:pt x="438" y="102"/>
                  </a:lnTo>
                  <a:lnTo>
                    <a:pt x="426" y="108"/>
                  </a:lnTo>
                  <a:lnTo>
                    <a:pt x="408" y="120"/>
                  </a:lnTo>
                  <a:lnTo>
                    <a:pt x="396" y="126"/>
                  </a:lnTo>
                  <a:lnTo>
                    <a:pt x="384" y="132"/>
                  </a:lnTo>
                  <a:lnTo>
                    <a:pt x="372" y="144"/>
                  </a:lnTo>
                  <a:lnTo>
                    <a:pt x="348" y="162"/>
                  </a:lnTo>
                  <a:lnTo>
                    <a:pt x="324" y="174"/>
                  </a:lnTo>
                  <a:lnTo>
                    <a:pt x="306" y="192"/>
                  </a:lnTo>
                  <a:lnTo>
                    <a:pt x="288" y="198"/>
                  </a:lnTo>
                  <a:lnTo>
                    <a:pt x="270" y="216"/>
                  </a:lnTo>
                  <a:lnTo>
                    <a:pt x="252" y="228"/>
                  </a:lnTo>
                  <a:lnTo>
                    <a:pt x="228" y="240"/>
                  </a:lnTo>
                  <a:lnTo>
                    <a:pt x="210" y="258"/>
                  </a:lnTo>
                  <a:lnTo>
                    <a:pt x="198" y="264"/>
                  </a:lnTo>
                  <a:lnTo>
                    <a:pt x="192" y="276"/>
                  </a:lnTo>
                  <a:lnTo>
                    <a:pt x="186" y="282"/>
                  </a:lnTo>
                  <a:lnTo>
                    <a:pt x="180" y="288"/>
                  </a:lnTo>
                  <a:lnTo>
                    <a:pt x="174" y="300"/>
                  </a:lnTo>
                  <a:lnTo>
                    <a:pt x="162" y="318"/>
                  </a:lnTo>
                  <a:lnTo>
                    <a:pt x="156" y="330"/>
                  </a:lnTo>
                  <a:lnTo>
                    <a:pt x="150" y="354"/>
                  </a:lnTo>
                  <a:lnTo>
                    <a:pt x="138" y="366"/>
                  </a:lnTo>
                  <a:lnTo>
                    <a:pt x="132" y="384"/>
                  </a:lnTo>
                  <a:lnTo>
                    <a:pt x="126" y="402"/>
                  </a:lnTo>
                  <a:lnTo>
                    <a:pt x="114" y="414"/>
                  </a:lnTo>
                  <a:lnTo>
                    <a:pt x="108" y="444"/>
                  </a:lnTo>
                  <a:lnTo>
                    <a:pt x="90" y="474"/>
                  </a:lnTo>
                  <a:lnTo>
                    <a:pt x="78" y="504"/>
                  </a:lnTo>
                  <a:lnTo>
                    <a:pt x="60" y="534"/>
                  </a:lnTo>
                  <a:lnTo>
                    <a:pt x="48" y="570"/>
                  </a:lnTo>
                  <a:lnTo>
                    <a:pt x="42" y="594"/>
                  </a:lnTo>
                  <a:lnTo>
                    <a:pt x="30" y="618"/>
                  </a:lnTo>
                  <a:lnTo>
                    <a:pt x="24" y="642"/>
                  </a:lnTo>
                  <a:lnTo>
                    <a:pt x="18" y="666"/>
                  </a:lnTo>
                  <a:lnTo>
                    <a:pt x="12" y="690"/>
                  </a:lnTo>
                  <a:lnTo>
                    <a:pt x="12" y="708"/>
                  </a:lnTo>
                  <a:lnTo>
                    <a:pt x="0" y="732"/>
                  </a:lnTo>
                  <a:lnTo>
                    <a:pt x="0" y="756"/>
                  </a:lnTo>
                  <a:lnTo>
                    <a:pt x="0" y="786"/>
                  </a:lnTo>
                  <a:lnTo>
                    <a:pt x="0" y="810"/>
                  </a:lnTo>
                  <a:lnTo>
                    <a:pt x="0" y="840"/>
                  </a:lnTo>
                  <a:lnTo>
                    <a:pt x="0" y="864"/>
                  </a:lnTo>
                  <a:lnTo>
                    <a:pt x="0" y="888"/>
                  </a:lnTo>
                  <a:lnTo>
                    <a:pt x="0" y="918"/>
                  </a:lnTo>
                  <a:lnTo>
                    <a:pt x="0" y="948"/>
                  </a:lnTo>
                  <a:lnTo>
                    <a:pt x="12" y="966"/>
                  </a:lnTo>
                  <a:lnTo>
                    <a:pt x="12" y="978"/>
                  </a:lnTo>
                  <a:lnTo>
                    <a:pt x="18" y="990"/>
                  </a:lnTo>
                  <a:lnTo>
                    <a:pt x="24" y="1008"/>
                  </a:lnTo>
                  <a:lnTo>
                    <a:pt x="24" y="1020"/>
                  </a:lnTo>
                  <a:lnTo>
                    <a:pt x="30" y="1038"/>
                  </a:lnTo>
                  <a:lnTo>
                    <a:pt x="42" y="1062"/>
                  </a:lnTo>
                  <a:lnTo>
                    <a:pt x="42" y="1080"/>
                  </a:lnTo>
                  <a:lnTo>
                    <a:pt x="48" y="1092"/>
                  </a:lnTo>
                  <a:lnTo>
                    <a:pt x="60" y="1116"/>
                  </a:lnTo>
                  <a:lnTo>
                    <a:pt x="72" y="1140"/>
                  </a:lnTo>
                  <a:lnTo>
                    <a:pt x="78" y="1164"/>
                  </a:lnTo>
                  <a:lnTo>
                    <a:pt x="90" y="1188"/>
                  </a:lnTo>
                  <a:lnTo>
                    <a:pt x="102" y="1206"/>
                  </a:lnTo>
                  <a:lnTo>
                    <a:pt x="108" y="1224"/>
                  </a:lnTo>
                  <a:lnTo>
                    <a:pt x="126" y="1242"/>
                  </a:lnTo>
                  <a:lnTo>
                    <a:pt x="150" y="1278"/>
                  </a:lnTo>
                  <a:lnTo>
                    <a:pt x="162" y="1290"/>
                  </a:lnTo>
                  <a:lnTo>
                    <a:pt x="186" y="1314"/>
                  </a:lnTo>
                  <a:lnTo>
                    <a:pt x="204" y="1332"/>
                  </a:lnTo>
                  <a:lnTo>
                    <a:pt x="216" y="1350"/>
                  </a:lnTo>
                  <a:lnTo>
                    <a:pt x="234" y="1374"/>
                  </a:lnTo>
                  <a:lnTo>
                    <a:pt x="252" y="1380"/>
                  </a:lnTo>
                  <a:lnTo>
                    <a:pt x="264" y="1398"/>
                  </a:lnTo>
                  <a:lnTo>
                    <a:pt x="270" y="1404"/>
                  </a:lnTo>
                  <a:lnTo>
                    <a:pt x="282" y="1410"/>
                  </a:lnTo>
                  <a:lnTo>
                    <a:pt x="294" y="1422"/>
                  </a:lnTo>
                  <a:lnTo>
                    <a:pt x="312" y="1434"/>
                  </a:lnTo>
                  <a:lnTo>
                    <a:pt x="330" y="1440"/>
                  </a:lnTo>
                  <a:lnTo>
                    <a:pt x="348" y="1452"/>
                  </a:lnTo>
                  <a:lnTo>
                    <a:pt x="372" y="1470"/>
                  </a:lnTo>
                  <a:lnTo>
                    <a:pt x="378" y="1476"/>
                  </a:lnTo>
                  <a:lnTo>
                    <a:pt x="678" y="160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bf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09880" y="3778560"/>
              <a:ext cx="11160" cy="19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0" y="6"/>
                  </a:moveTo>
                  <a:lnTo>
                    <a:pt x="6" y="60"/>
                  </a:lnTo>
                  <a:lnTo>
                    <a:pt x="0" y="114"/>
                  </a:lnTo>
                  <a:lnTo>
                    <a:pt x="0" y="186"/>
                  </a:lnTo>
                  <a:lnTo>
                    <a:pt x="6" y="240"/>
                  </a:lnTo>
                  <a:lnTo>
                    <a:pt x="66" y="240"/>
                  </a:lnTo>
                  <a:lnTo>
                    <a:pt x="132" y="240"/>
                  </a:lnTo>
                  <a:lnTo>
                    <a:pt x="132" y="180"/>
                  </a:lnTo>
                  <a:lnTo>
                    <a:pt x="132" y="120"/>
                  </a:lnTo>
                  <a:lnTo>
                    <a:pt x="132" y="54"/>
                  </a:lnTo>
                  <a:lnTo>
                    <a:pt x="132" y="0"/>
                  </a:lnTo>
                  <a:lnTo>
                    <a:pt x="7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805200" y="376056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0" y="36"/>
                  </a:moveTo>
                  <a:lnTo>
                    <a:pt x="18" y="84"/>
                  </a:lnTo>
                  <a:lnTo>
                    <a:pt x="30" y="144"/>
                  </a:lnTo>
                  <a:lnTo>
                    <a:pt x="48" y="210"/>
                  </a:lnTo>
                  <a:lnTo>
                    <a:pt x="66" y="258"/>
                  </a:lnTo>
                  <a:lnTo>
                    <a:pt x="126" y="246"/>
                  </a:lnTo>
                  <a:lnTo>
                    <a:pt x="186" y="228"/>
                  </a:lnTo>
                  <a:lnTo>
                    <a:pt x="174" y="174"/>
                  </a:lnTo>
                  <a:lnTo>
                    <a:pt x="156" y="114"/>
                  </a:lnTo>
                  <a:lnTo>
                    <a:pt x="138" y="48"/>
                  </a:lnTo>
                  <a:lnTo>
                    <a:pt x="120" y="0"/>
                  </a:lnTo>
                  <a:lnTo>
                    <a:pt x="66" y="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796560" y="374400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0" y="66"/>
                  </a:moveTo>
                  <a:lnTo>
                    <a:pt x="30" y="114"/>
                  </a:lnTo>
                  <a:lnTo>
                    <a:pt x="54" y="162"/>
                  </a:lnTo>
                  <a:lnTo>
                    <a:pt x="90" y="222"/>
                  </a:lnTo>
                  <a:lnTo>
                    <a:pt x="120" y="270"/>
                  </a:lnTo>
                  <a:lnTo>
                    <a:pt x="174" y="240"/>
                  </a:lnTo>
                  <a:lnTo>
                    <a:pt x="228" y="204"/>
                  </a:lnTo>
                  <a:lnTo>
                    <a:pt x="198" y="156"/>
                  </a:lnTo>
                  <a:lnTo>
                    <a:pt x="168" y="108"/>
                  </a:lnTo>
                  <a:lnTo>
                    <a:pt x="132" y="48"/>
                  </a:lnTo>
                  <a:lnTo>
                    <a:pt x="108" y="0"/>
                  </a:lnTo>
                  <a:lnTo>
                    <a:pt x="60" y="3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783960" y="373068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0" y="90"/>
                  </a:moveTo>
                  <a:lnTo>
                    <a:pt x="36" y="126"/>
                  </a:lnTo>
                  <a:lnTo>
                    <a:pt x="78" y="168"/>
                  </a:lnTo>
                  <a:lnTo>
                    <a:pt x="126" y="216"/>
                  </a:lnTo>
                  <a:lnTo>
                    <a:pt x="168" y="252"/>
                  </a:lnTo>
                  <a:lnTo>
                    <a:pt x="210" y="210"/>
                  </a:lnTo>
                  <a:lnTo>
                    <a:pt x="252" y="168"/>
                  </a:lnTo>
                  <a:lnTo>
                    <a:pt x="216" y="126"/>
                  </a:lnTo>
                  <a:lnTo>
                    <a:pt x="174" y="84"/>
                  </a:lnTo>
                  <a:lnTo>
                    <a:pt x="126" y="36"/>
                  </a:lnTo>
                  <a:lnTo>
                    <a:pt x="84" y="0"/>
                  </a:lnTo>
                  <a:lnTo>
                    <a:pt x="48" y="4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68480" y="372096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0" y="114"/>
                  </a:moveTo>
                  <a:lnTo>
                    <a:pt x="48" y="138"/>
                  </a:lnTo>
                  <a:lnTo>
                    <a:pt x="102" y="168"/>
                  </a:lnTo>
                  <a:lnTo>
                    <a:pt x="156" y="204"/>
                  </a:lnTo>
                  <a:lnTo>
                    <a:pt x="204" y="228"/>
                  </a:lnTo>
                  <a:lnTo>
                    <a:pt x="240" y="174"/>
                  </a:lnTo>
                  <a:lnTo>
                    <a:pt x="270" y="120"/>
                  </a:lnTo>
                  <a:lnTo>
                    <a:pt x="222" y="90"/>
                  </a:lnTo>
                  <a:lnTo>
                    <a:pt x="168" y="60"/>
                  </a:lnTo>
                  <a:lnTo>
                    <a:pt x="108" y="30"/>
                  </a:lnTo>
                  <a:lnTo>
                    <a:pt x="66" y="0"/>
                  </a:lnTo>
                  <a:lnTo>
                    <a:pt x="36" y="5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752280" y="371628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0" y="126"/>
                  </a:moveTo>
                  <a:lnTo>
                    <a:pt x="54" y="138"/>
                  </a:lnTo>
                  <a:lnTo>
                    <a:pt x="108" y="156"/>
                  </a:lnTo>
                  <a:lnTo>
                    <a:pt x="174" y="174"/>
                  </a:lnTo>
                  <a:lnTo>
                    <a:pt x="228" y="186"/>
                  </a:lnTo>
                  <a:lnTo>
                    <a:pt x="246" y="126"/>
                  </a:lnTo>
                  <a:lnTo>
                    <a:pt x="258" y="66"/>
                  </a:lnTo>
                  <a:lnTo>
                    <a:pt x="204" y="48"/>
                  </a:lnTo>
                  <a:lnTo>
                    <a:pt x="150" y="36"/>
                  </a:lnTo>
                  <a:lnTo>
                    <a:pt x="84" y="18"/>
                  </a:lnTo>
                  <a:lnTo>
                    <a:pt x="30" y="0"/>
                  </a:lnTo>
                  <a:lnTo>
                    <a:pt x="18" y="6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734640" y="3716280"/>
              <a:ext cx="20520" cy="1044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6" y="132"/>
                  </a:moveTo>
                  <a:lnTo>
                    <a:pt x="54" y="126"/>
                  </a:lnTo>
                  <a:lnTo>
                    <a:pt x="114" y="132"/>
                  </a:lnTo>
                  <a:lnTo>
                    <a:pt x="186" y="132"/>
                  </a:lnTo>
                  <a:lnTo>
                    <a:pt x="240" y="126"/>
                  </a:lnTo>
                  <a:lnTo>
                    <a:pt x="240" y="66"/>
                  </a:lnTo>
                  <a:lnTo>
                    <a:pt x="240" y="0"/>
                  </a:lnTo>
                  <a:lnTo>
                    <a:pt x="180" y="0"/>
                  </a:lnTo>
                  <a:lnTo>
                    <a:pt x="120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6" y="60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715560" y="371628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36" y="186"/>
                  </a:moveTo>
                  <a:lnTo>
                    <a:pt x="84" y="168"/>
                  </a:lnTo>
                  <a:lnTo>
                    <a:pt x="144" y="156"/>
                  </a:lnTo>
                  <a:lnTo>
                    <a:pt x="210" y="138"/>
                  </a:lnTo>
                  <a:lnTo>
                    <a:pt x="258" y="120"/>
                  </a:lnTo>
                  <a:lnTo>
                    <a:pt x="246" y="60"/>
                  </a:lnTo>
                  <a:lnTo>
                    <a:pt x="228" y="0"/>
                  </a:lnTo>
                  <a:lnTo>
                    <a:pt x="174" y="12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0" y="66"/>
                  </a:lnTo>
                  <a:lnTo>
                    <a:pt x="18" y="120"/>
                  </a:lnTo>
                  <a:lnTo>
                    <a:pt x="36" y="18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697920" y="372096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66" y="228"/>
                  </a:moveTo>
                  <a:lnTo>
                    <a:pt x="108" y="198"/>
                  </a:lnTo>
                  <a:lnTo>
                    <a:pt x="162" y="174"/>
                  </a:lnTo>
                  <a:lnTo>
                    <a:pt x="222" y="138"/>
                  </a:lnTo>
                  <a:lnTo>
                    <a:pt x="270" y="108"/>
                  </a:lnTo>
                  <a:lnTo>
                    <a:pt x="240" y="54"/>
                  </a:lnTo>
                  <a:lnTo>
                    <a:pt x="204" y="0"/>
                  </a:lnTo>
                  <a:lnTo>
                    <a:pt x="156" y="30"/>
                  </a:lnTo>
                  <a:lnTo>
                    <a:pt x="108" y="60"/>
                  </a:lnTo>
                  <a:lnTo>
                    <a:pt x="48" y="96"/>
                  </a:lnTo>
                  <a:lnTo>
                    <a:pt x="0" y="120"/>
                  </a:lnTo>
                  <a:lnTo>
                    <a:pt x="30" y="168"/>
                  </a:lnTo>
                  <a:lnTo>
                    <a:pt x="66" y="228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683880" y="373068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90" y="252"/>
                  </a:moveTo>
                  <a:lnTo>
                    <a:pt x="126" y="216"/>
                  </a:lnTo>
                  <a:lnTo>
                    <a:pt x="168" y="174"/>
                  </a:lnTo>
                  <a:lnTo>
                    <a:pt x="216" y="126"/>
                  </a:lnTo>
                  <a:lnTo>
                    <a:pt x="252" y="90"/>
                  </a:lnTo>
                  <a:lnTo>
                    <a:pt x="210" y="42"/>
                  </a:lnTo>
                  <a:lnTo>
                    <a:pt x="168" y="0"/>
                  </a:lnTo>
                  <a:lnTo>
                    <a:pt x="126" y="36"/>
                  </a:lnTo>
                  <a:lnTo>
                    <a:pt x="84" y="78"/>
                  </a:lnTo>
                  <a:lnTo>
                    <a:pt x="36" y="126"/>
                  </a:lnTo>
                  <a:lnTo>
                    <a:pt x="0" y="168"/>
                  </a:lnTo>
                  <a:lnTo>
                    <a:pt x="42" y="204"/>
                  </a:lnTo>
                  <a:lnTo>
                    <a:pt x="90" y="25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673800" y="374400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114" y="270"/>
                  </a:moveTo>
                  <a:lnTo>
                    <a:pt x="138" y="222"/>
                  </a:lnTo>
                  <a:lnTo>
                    <a:pt x="168" y="168"/>
                  </a:lnTo>
                  <a:lnTo>
                    <a:pt x="204" y="114"/>
                  </a:lnTo>
                  <a:lnTo>
                    <a:pt x="228" y="66"/>
                  </a:lnTo>
                  <a:lnTo>
                    <a:pt x="174" y="30"/>
                  </a:lnTo>
                  <a:lnTo>
                    <a:pt x="120" y="0"/>
                  </a:lnTo>
                  <a:lnTo>
                    <a:pt x="90" y="48"/>
                  </a:lnTo>
                  <a:lnTo>
                    <a:pt x="60" y="102"/>
                  </a:lnTo>
                  <a:lnTo>
                    <a:pt x="30" y="162"/>
                  </a:lnTo>
                  <a:lnTo>
                    <a:pt x="0" y="204"/>
                  </a:lnTo>
                  <a:lnTo>
                    <a:pt x="54" y="234"/>
                  </a:lnTo>
                  <a:lnTo>
                    <a:pt x="114" y="27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668760" y="376056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126" y="258"/>
                  </a:moveTo>
                  <a:lnTo>
                    <a:pt x="138" y="204"/>
                  </a:lnTo>
                  <a:lnTo>
                    <a:pt x="156" y="150"/>
                  </a:lnTo>
                  <a:lnTo>
                    <a:pt x="174" y="84"/>
                  </a:lnTo>
                  <a:lnTo>
                    <a:pt x="186" y="30"/>
                  </a:lnTo>
                  <a:lnTo>
                    <a:pt x="126" y="12"/>
                  </a:lnTo>
                  <a:lnTo>
                    <a:pt x="66" y="0"/>
                  </a:lnTo>
                  <a:lnTo>
                    <a:pt x="48" y="54"/>
                  </a:lnTo>
                  <a:lnTo>
                    <a:pt x="36" y="108"/>
                  </a:lnTo>
                  <a:lnTo>
                    <a:pt x="18" y="180"/>
                  </a:lnTo>
                  <a:lnTo>
                    <a:pt x="0" y="228"/>
                  </a:lnTo>
                  <a:lnTo>
                    <a:pt x="60" y="240"/>
                  </a:lnTo>
                  <a:lnTo>
                    <a:pt x="126" y="258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668760" y="3778560"/>
              <a:ext cx="11160" cy="19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132" y="234"/>
                  </a:moveTo>
                  <a:lnTo>
                    <a:pt x="126" y="186"/>
                  </a:lnTo>
                  <a:lnTo>
                    <a:pt x="132" y="126"/>
                  </a:lnTo>
                  <a:lnTo>
                    <a:pt x="132" y="54"/>
                  </a:lnTo>
                  <a:lnTo>
                    <a:pt x="126" y="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120"/>
                  </a:lnTo>
                  <a:lnTo>
                    <a:pt x="0" y="186"/>
                  </a:lnTo>
                  <a:lnTo>
                    <a:pt x="0" y="240"/>
                  </a:lnTo>
                  <a:lnTo>
                    <a:pt x="60" y="234"/>
                  </a:lnTo>
                  <a:lnTo>
                    <a:pt x="132" y="23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668760" y="379512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186" y="222"/>
                  </a:moveTo>
                  <a:lnTo>
                    <a:pt x="168" y="174"/>
                  </a:lnTo>
                  <a:lnTo>
                    <a:pt x="156" y="114"/>
                  </a:lnTo>
                  <a:lnTo>
                    <a:pt x="138" y="48"/>
                  </a:lnTo>
                  <a:lnTo>
                    <a:pt x="120" y="0"/>
                  </a:lnTo>
                  <a:lnTo>
                    <a:pt x="60" y="12"/>
                  </a:lnTo>
                  <a:lnTo>
                    <a:pt x="0" y="30"/>
                  </a:lnTo>
                  <a:lnTo>
                    <a:pt x="12" y="84"/>
                  </a:lnTo>
                  <a:lnTo>
                    <a:pt x="30" y="144"/>
                  </a:lnTo>
                  <a:lnTo>
                    <a:pt x="48" y="210"/>
                  </a:lnTo>
                  <a:lnTo>
                    <a:pt x="66" y="258"/>
                  </a:lnTo>
                  <a:lnTo>
                    <a:pt x="120" y="240"/>
                  </a:lnTo>
                  <a:lnTo>
                    <a:pt x="186" y="22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673800" y="381096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228" y="204"/>
                  </a:moveTo>
                  <a:lnTo>
                    <a:pt x="198" y="162"/>
                  </a:lnTo>
                  <a:lnTo>
                    <a:pt x="174" y="108"/>
                  </a:lnTo>
                  <a:lnTo>
                    <a:pt x="138" y="48"/>
                  </a:lnTo>
                  <a:lnTo>
                    <a:pt x="108" y="0"/>
                  </a:lnTo>
                  <a:lnTo>
                    <a:pt x="54" y="30"/>
                  </a:lnTo>
                  <a:lnTo>
                    <a:pt x="0" y="66"/>
                  </a:lnTo>
                  <a:lnTo>
                    <a:pt x="30" y="114"/>
                  </a:lnTo>
                  <a:lnTo>
                    <a:pt x="60" y="168"/>
                  </a:lnTo>
                  <a:lnTo>
                    <a:pt x="96" y="222"/>
                  </a:lnTo>
                  <a:lnTo>
                    <a:pt x="120" y="270"/>
                  </a:lnTo>
                  <a:lnTo>
                    <a:pt x="168" y="240"/>
                  </a:lnTo>
                  <a:lnTo>
                    <a:pt x="228" y="20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683880" y="382572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252" y="162"/>
                  </a:moveTo>
                  <a:lnTo>
                    <a:pt x="216" y="126"/>
                  </a:lnTo>
                  <a:lnTo>
                    <a:pt x="174" y="84"/>
                  </a:lnTo>
                  <a:lnTo>
                    <a:pt x="126" y="36"/>
                  </a:lnTo>
                  <a:lnTo>
                    <a:pt x="84" y="0"/>
                  </a:lnTo>
                  <a:lnTo>
                    <a:pt x="42" y="42"/>
                  </a:lnTo>
                  <a:lnTo>
                    <a:pt x="0" y="90"/>
                  </a:lnTo>
                  <a:lnTo>
                    <a:pt x="36" y="132"/>
                  </a:lnTo>
                  <a:lnTo>
                    <a:pt x="78" y="168"/>
                  </a:lnTo>
                  <a:lnTo>
                    <a:pt x="126" y="216"/>
                  </a:lnTo>
                  <a:lnTo>
                    <a:pt x="168" y="252"/>
                  </a:lnTo>
                  <a:lnTo>
                    <a:pt x="204" y="210"/>
                  </a:lnTo>
                  <a:lnTo>
                    <a:pt x="252" y="16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697920" y="383724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70" y="114"/>
                  </a:moveTo>
                  <a:lnTo>
                    <a:pt x="222" y="90"/>
                  </a:lnTo>
                  <a:lnTo>
                    <a:pt x="168" y="60"/>
                  </a:lnTo>
                  <a:lnTo>
                    <a:pt x="114" y="24"/>
                  </a:lnTo>
                  <a:lnTo>
                    <a:pt x="66" y="0"/>
                  </a:lnTo>
                  <a:lnTo>
                    <a:pt x="30" y="54"/>
                  </a:lnTo>
                  <a:lnTo>
                    <a:pt x="0" y="108"/>
                  </a:lnTo>
                  <a:lnTo>
                    <a:pt x="48" y="138"/>
                  </a:lnTo>
                  <a:lnTo>
                    <a:pt x="102" y="168"/>
                  </a:lnTo>
                  <a:lnTo>
                    <a:pt x="162" y="198"/>
                  </a:lnTo>
                  <a:lnTo>
                    <a:pt x="204" y="228"/>
                  </a:lnTo>
                  <a:lnTo>
                    <a:pt x="234" y="174"/>
                  </a:lnTo>
                  <a:lnTo>
                    <a:pt x="270" y="11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15560" y="384552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258" y="60"/>
                  </a:moveTo>
                  <a:lnTo>
                    <a:pt x="204" y="48"/>
                  </a:lnTo>
                  <a:lnTo>
                    <a:pt x="150" y="30"/>
                  </a:lnTo>
                  <a:lnTo>
                    <a:pt x="84" y="12"/>
                  </a:lnTo>
                  <a:lnTo>
                    <a:pt x="30" y="0"/>
                  </a:lnTo>
                  <a:lnTo>
                    <a:pt x="12" y="60"/>
                  </a:lnTo>
                  <a:lnTo>
                    <a:pt x="0" y="126"/>
                  </a:lnTo>
                  <a:lnTo>
                    <a:pt x="54" y="138"/>
                  </a:lnTo>
                  <a:lnTo>
                    <a:pt x="108" y="156"/>
                  </a:lnTo>
                  <a:lnTo>
                    <a:pt x="174" y="168"/>
                  </a:lnTo>
                  <a:lnTo>
                    <a:pt x="228" y="186"/>
                  </a:lnTo>
                  <a:lnTo>
                    <a:pt x="240" y="126"/>
                  </a:lnTo>
                  <a:lnTo>
                    <a:pt x="258" y="6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734640" y="3850200"/>
              <a:ext cx="20520" cy="1044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234" y="0"/>
                  </a:moveTo>
                  <a:lnTo>
                    <a:pt x="186" y="6"/>
                  </a:lnTo>
                  <a:lnTo>
                    <a:pt x="126" y="0"/>
                  </a:lnTo>
                  <a:lnTo>
                    <a:pt x="54" y="0"/>
                  </a:lnTo>
                  <a:lnTo>
                    <a:pt x="0" y="6"/>
                  </a:lnTo>
                  <a:lnTo>
                    <a:pt x="0" y="66"/>
                  </a:lnTo>
                  <a:lnTo>
                    <a:pt x="0" y="132"/>
                  </a:lnTo>
                  <a:lnTo>
                    <a:pt x="60" y="132"/>
                  </a:lnTo>
                  <a:lnTo>
                    <a:pt x="120" y="132"/>
                  </a:lnTo>
                  <a:lnTo>
                    <a:pt x="186" y="132"/>
                  </a:lnTo>
                  <a:lnTo>
                    <a:pt x="240" y="132"/>
                  </a:lnTo>
                  <a:lnTo>
                    <a:pt x="234" y="7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752280" y="384552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222" y="0"/>
                  </a:moveTo>
                  <a:lnTo>
                    <a:pt x="174" y="18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0" y="66"/>
                  </a:lnTo>
                  <a:lnTo>
                    <a:pt x="12" y="126"/>
                  </a:lnTo>
                  <a:lnTo>
                    <a:pt x="30" y="186"/>
                  </a:lnTo>
                  <a:lnTo>
                    <a:pt x="84" y="174"/>
                  </a:lnTo>
                  <a:lnTo>
                    <a:pt x="144" y="156"/>
                  </a:lnTo>
                  <a:lnTo>
                    <a:pt x="210" y="138"/>
                  </a:lnTo>
                  <a:lnTo>
                    <a:pt x="258" y="120"/>
                  </a:lnTo>
                  <a:lnTo>
                    <a:pt x="240" y="66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768480" y="383724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04" y="0"/>
                  </a:moveTo>
                  <a:lnTo>
                    <a:pt x="162" y="30"/>
                  </a:lnTo>
                  <a:lnTo>
                    <a:pt x="108" y="54"/>
                  </a:lnTo>
                  <a:lnTo>
                    <a:pt x="48" y="90"/>
                  </a:lnTo>
                  <a:lnTo>
                    <a:pt x="0" y="120"/>
                  </a:lnTo>
                  <a:lnTo>
                    <a:pt x="30" y="174"/>
                  </a:lnTo>
                  <a:lnTo>
                    <a:pt x="66" y="228"/>
                  </a:lnTo>
                  <a:lnTo>
                    <a:pt x="114" y="198"/>
                  </a:lnTo>
                  <a:lnTo>
                    <a:pt x="162" y="168"/>
                  </a:lnTo>
                  <a:lnTo>
                    <a:pt x="222" y="132"/>
                  </a:lnTo>
                  <a:lnTo>
                    <a:pt x="270" y="108"/>
                  </a:lnTo>
                  <a:lnTo>
                    <a:pt x="240" y="6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783960" y="382572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62" y="0"/>
                  </a:moveTo>
                  <a:lnTo>
                    <a:pt x="126" y="36"/>
                  </a:lnTo>
                  <a:lnTo>
                    <a:pt x="84" y="78"/>
                  </a:lnTo>
                  <a:lnTo>
                    <a:pt x="36" y="126"/>
                  </a:lnTo>
                  <a:lnTo>
                    <a:pt x="0" y="168"/>
                  </a:lnTo>
                  <a:lnTo>
                    <a:pt x="42" y="210"/>
                  </a:lnTo>
                  <a:lnTo>
                    <a:pt x="90" y="252"/>
                  </a:lnTo>
                  <a:lnTo>
                    <a:pt x="126" y="216"/>
                  </a:lnTo>
                  <a:lnTo>
                    <a:pt x="168" y="174"/>
                  </a:lnTo>
                  <a:lnTo>
                    <a:pt x="216" y="126"/>
                  </a:lnTo>
                  <a:lnTo>
                    <a:pt x="252" y="84"/>
                  </a:lnTo>
                  <a:lnTo>
                    <a:pt x="210" y="4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796560" y="381096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114" y="0"/>
                  </a:moveTo>
                  <a:lnTo>
                    <a:pt x="90" y="48"/>
                  </a:lnTo>
                  <a:lnTo>
                    <a:pt x="60" y="102"/>
                  </a:lnTo>
                  <a:lnTo>
                    <a:pt x="24" y="162"/>
                  </a:lnTo>
                  <a:lnTo>
                    <a:pt x="0" y="204"/>
                  </a:lnTo>
                  <a:lnTo>
                    <a:pt x="54" y="240"/>
                  </a:lnTo>
                  <a:lnTo>
                    <a:pt x="108" y="270"/>
                  </a:lnTo>
                  <a:lnTo>
                    <a:pt x="138" y="222"/>
                  </a:lnTo>
                  <a:lnTo>
                    <a:pt x="168" y="168"/>
                  </a:lnTo>
                  <a:lnTo>
                    <a:pt x="198" y="108"/>
                  </a:lnTo>
                  <a:lnTo>
                    <a:pt x="228" y="66"/>
                  </a:lnTo>
                  <a:lnTo>
                    <a:pt x="174" y="36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805200" y="379512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60" y="0"/>
                  </a:moveTo>
                  <a:lnTo>
                    <a:pt x="48" y="54"/>
                  </a:lnTo>
                  <a:lnTo>
                    <a:pt x="30" y="108"/>
                  </a:lnTo>
                  <a:lnTo>
                    <a:pt x="12" y="174"/>
                  </a:lnTo>
                  <a:lnTo>
                    <a:pt x="0" y="228"/>
                  </a:lnTo>
                  <a:lnTo>
                    <a:pt x="60" y="246"/>
                  </a:lnTo>
                  <a:lnTo>
                    <a:pt x="120" y="258"/>
                  </a:lnTo>
                  <a:lnTo>
                    <a:pt x="138" y="204"/>
                  </a:lnTo>
                  <a:lnTo>
                    <a:pt x="150" y="150"/>
                  </a:lnTo>
                  <a:lnTo>
                    <a:pt x="168" y="84"/>
                  </a:lnTo>
                  <a:lnTo>
                    <a:pt x="186" y="30"/>
                  </a:lnTo>
                  <a:lnTo>
                    <a:pt x="126" y="1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3414600" y="2514600"/>
            <a:ext cx="219240" cy="219240"/>
            <a:chOff x="3414600" y="2514600"/>
            <a:chExt cx="219240" cy="219240"/>
          </a:xfrm>
        </p:grpSpPr>
        <p:sp>
          <p:nvSpPr>
            <p:cNvPr id="2241" name=""/>
            <p:cNvSpPr/>
            <p:nvPr/>
          </p:nvSpPr>
          <p:spPr>
            <a:xfrm>
              <a:off x="3450960" y="2550960"/>
              <a:ext cx="36360" cy="1465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342" y="342"/>
                  </a:moveTo>
                  <a:lnTo>
                    <a:pt x="0" y="0"/>
                  </a:lnTo>
                  <a:lnTo>
                    <a:pt x="0" y="1374"/>
                  </a:lnTo>
                  <a:lnTo>
                    <a:pt x="342" y="1032"/>
                  </a:lnTo>
                  <a:lnTo>
                    <a:pt x="342" y="34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414600" y="2514600"/>
              <a:ext cx="36360" cy="21924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0" y="0"/>
                  </a:moveTo>
                  <a:lnTo>
                    <a:pt x="342" y="342"/>
                  </a:lnTo>
                  <a:lnTo>
                    <a:pt x="342" y="1716"/>
                  </a:lnTo>
                  <a:lnTo>
                    <a:pt x="0" y="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450960" y="266112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342" y="0"/>
                  </a:moveTo>
                  <a:lnTo>
                    <a:pt x="0" y="342"/>
                  </a:lnTo>
                  <a:lnTo>
                    <a:pt x="1374" y="342"/>
                  </a:lnTo>
                  <a:lnTo>
                    <a:pt x="103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414600" y="269748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0" y="342"/>
                  </a:moveTo>
                  <a:lnTo>
                    <a:pt x="342" y="0"/>
                  </a:lnTo>
                  <a:lnTo>
                    <a:pt x="1716" y="0"/>
                  </a:lnTo>
                  <a:lnTo>
                    <a:pt x="2058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561120" y="2550960"/>
              <a:ext cx="36360" cy="1465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0" y="1032"/>
                  </a:moveTo>
                  <a:lnTo>
                    <a:pt x="342" y="1374"/>
                  </a:lnTo>
                  <a:lnTo>
                    <a:pt x="342" y="0"/>
                  </a:lnTo>
                  <a:lnTo>
                    <a:pt x="0" y="34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597480" y="2514600"/>
              <a:ext cx="36360" cy="21924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342" y="2058"/>
                  </a:moveTo>
                  <a:lnTo>
                    <a:pt x="0" y="1716"/>
                  </a:lnTo>
                  <a:lnTo>
                    <a:pt x="0" y="342"/>
                  </a:lnTo>
                  <a:lnTo>
                    <a:pt x="342" y="0"/>
                  </a:lnTo>
                  <a:lnTo>
                    <a:pt x="342" y="205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450960" y="255096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1032" y="342"/>
                  </a:moveTo>
                  <a:lnTo>
                    <a:pt x="1374" y="0"/>
                  </a:lnTo>
                  <a:lnTo>
                    <a:pt x="0" y="0"/>
                  </a:lnTo>
                  <a:lnTo>
                    <a:pt x="342" y="342"/>
                  </a:lnTo>
                  <a:lnTo>
                    <a:pt x="1032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414600" y="251460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2058" y="0"/>
                  </a:moveTo>
                  <a:lnTo>
                    <a:pt x="1716" y="342"/>
                  </a:lnTo>
                  <a:lnTo>
                    <a:pt x="342" y="342"/>
                  </a:lnTo>
                  <a:lnTo>
                    <a:pt x="0" y="0"/>
                  </a:lnTo>
                  <a:lnTo>
                    <a:pt x="205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2971440" y="2437920"/>
            <a:ext cx="88920" cy="93960"/>
            <a:chOff x="2971440" y="2437920"/>
            <a:chExt cx="88920" cy="93960"/>
          </a:xfrm>
        </p:grpSpPr>
        <p:sp>
          <p:nvSpPr>
            <p:cNvPr id="2250" name=""/>
            <p:cNvSpPr/>
            <p:nvPr/>
          </p:nvSpPr>
          <p:spPr>
            <a:xfrm rot="10800000">
              <a:off x="2971440" y="2513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rot="10800000">
              <a:off x="2971440" y="2437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rot="10800000">
              <a:off x="2971800" y="24379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rot="10800000">
              <a:off x="3016080" y="24379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3200040" y="2437920"/>
            <a:ext cx="88920" cy="93960"/>
            <a:chOff x="3200040" y="2437920"/>
            <a:chExt cx="88920" cy="93960"/>
          </a:xfrm>
        </p:grpSpPr>
        <p:sp>
          <p:nvSpPr>
            <p:cNvPr id="2255" name=""/>
            <p:cNvSpPr/>
            <p:nvPr/>
          </p:nvSpPr>
          <p:spPr>
            <a:xfrm rot="10800000">
              <a:off x="3200040" y="2513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rot="10800000">
              <a:off x="3200040" y="2437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rot="10800000">
              <a:off x="3200400" y="24379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rot="10800000">
              <a:off x="3244680" y="24379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362320" y="2133720"/>
            <a:ext cx="95040" cy="97200"/>
            <a:chOff x="2362320" y="2133720"/>
            <a:chExt cx="95040" cy="97200"/>
          </a:xfrm>
        </p:grpSpPr>
        <p:sp>
          <p:nvSpPr>
            <p:cNvPr id="2260" name=""/>
            <p:cNvSpPr/>
            <p:nvPr/>
          </p:nvSpPr>
          <p:spPr>
            <a:xfrm>
              <a:off x="2362320" y="2133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362320" y="2230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409840" y="2133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62320" y="2133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1905120" y="2133720"/>
            <a:ext cx="88920" cy="93600"/>
            <a:chOff x="1905120" y="2133720"/>
            <a:chExt cx="88920" cy="93600"/>
          </a:xfrm>
        </p:grpSpPr>
        <p:sp>
          <p:nvSpPr>
            <p:cNvPr id="2265" name=""/>
            <p:cNvSpPr/>
            <p:nvPr/>
          </p:nvSpPr>
          <p:spPr>
            <a:xfrm>
              <a:off x="190512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0512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9494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90512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9" name=""/>
          <p:cNvGrpSpPr/>
          <p:nvPr/>
        </p:nvGrpSpPr>
        <p:grpSpPr>
          <a:xfrm>
            <a:off x="1676520" y="2133720"/>
            <a:ext cx="88920" cy="93600"/>
            <a:chOff x="1676520" y="2133720"/>
            <a:chExt cx="88920" cy="93600"/>
          </a:xfrm>
        </p:grpSpPr>
        <p:sp>
          <p:nvSpPr>
            <p:cNvPr id="2270" name=""/>
            <p:cNvSpPr/>
            <p:nvPr/>
          </p:nvSpPr>
          <p:spPr>
            <a:xfrm>
              <a:off x="167652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67652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7208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67652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1828800" y="2361960"/>
            <a:ext cx="149760" cy="74520"/>
            <a:chOff x="1828800" y="2361960"/>
            <a:chExt cx="149760" cy="74520"/>
          </a:xfrm>
        </p:grpSpPr>
        <p:sp>
          <p:nvSpPr>
            <p:cNvPr id="2275" name=""/>
            <p:cNvSpPr/>
            <p:nvPr/>
          </p:nvSpPr>
          <p:spPr>
            <a:xfrm rot="16200000">
              <a:off x="1791720" y="2399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rot="16200000">
              <a:off x="1941120" y="2399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rot="16200000">
              <a:off x="1884600" y="2305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16200000">
              <a:off x="1884960" y="2343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9" name=""/>
          <p:cNvGrpSpPr/>
          <p:nvPr/>
        </p:nvGrpSpPr>
        <p:grpSpPr>
          <a:xfrm>
            <a:off x="3429000" y="2917800"/>
            <a:ext cx="193680" cy="206280"/>
            <a:chOff x="3429000" y="2917800"/>
            <a:chExt cx="193680" cy="206280"/>
          </a:xfrm>
        </p:grpSpPr>
        <p:sp>
          <p:nvSpPr>
            <p:cNvPr id="2280" name=""/>
            <p:cNvSpPr/>
            <p:nvPr/>
          </p:nvSpPr>
          <p:spPr>
            <a:xfrm>
              <a:off x="3429000" y="291780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03600" y="291780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3429000" y="29178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429000" y="296352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487320" y="309636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487320" y="296424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487320" y="296424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525480" y="29642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8" name=""/>
          <p:cNvSpPr/>
          <p:nvPr/>
        </p:nvSpPr>
        <p:spPr>
          <a:xfrm>
            <a:off x="3124080" y="3276720"/>
            <a:ext cx="457200" cy="380880"/>
          </a:xfrm>
          <a:prstGeom prst="rect">
            <a:avLst/>
          </a:pr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367000" y="2023920"/>
            <a:ext cx="74520" cy="748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619360" y="2205000"/>
            <a:ext cx="7452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548160" y="2395440"/>
            <a:ext cx="74520" cy="748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3749760" y="3435480"/>
            <a:ext cx="152280" cy="144360"/>
            <a:chOff x="3749760" y="3435480"/>
            <a:chExt cx="152280" cy="144360"/>
          </a:xfrm>
        </p:grpSpPr>
        <p:sp>
          <p:nvSpPr>
            <p:cNvPr id="2293" name=""/>
            <p:cNvSpPr/>
            <p:nvPr/>
          </p:nvSpPr>
          <p:spPr>
            <a:xfrm>
              <a:off x="3759840" y="3444120"/>
              <a:ext cx="132840" cy="126000"/>
            </a:xfrm>
            <a:prstGeom prst="ellipse">
              <a:avLst/>
            </a:prstGeom>
            <a:solidFill>
              <a:srgbClr val="a58f8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753720" y="3441960"/>
              <a:ext cx="126720" cy="130320"/>
            </a:xfrm>
            <a:custGeom>
              <a:avLst/>
              <a:gdLst/>
              <a:ahLst/>
              <a:rect l="l" t="t" r="r" b="b"/>
              <a:pathLst>
                <a:path w="1476" h="1602">
                  <a:moveTo>
                    <a:pt x="678" y="1602"/>
                  </a:moveTo>
                  <a:lnTo>
                    <a:pt x="678" y="1596"/>
                  </a:lnTo>
                  <a:lnTo>
                    <a:pt x="684" y="1578"/>
                  </a:lnTo>
                  <a:lnTo>
                    <a:pt x="684" y="1560"/>
                  </a:lnTo>
                  <a:lnTo>
                    <a:pt x="690" y="1548"/>
                  </a:lnTo>
                  <a:lnTo>
                    <a:pt x="690" y="1536"/>
                  </a:lnTo>
                  <a:lnTo>
                    <a:pt x="696" y="1530"/>
                  </a:lnTo>
                  <a:lnTo>
                    <a:pt x="696" y="1512"/>
                  </a:lnTo>
                  <a:lnTo>
                    <a:pt x="696" y="1494"/>
                  </a:lnTo>
                  <a:lnTo>
                    <a:pt x="702" y="1476"/>
                  </a:lnTo>
                  <a:lnTo>
                    <a:pt x="702" y="1452"/>
                  </a:lnTo>
                  <a:lnTo>
                    <a:pt x="702" y="1428"/>
                  </a:lnTo>
                  <a:lnTo>
                    <a:pt x="702" y="1410"/>
                  </a:lnTo>
                  <a:lnTo>
                    <a:pt x="702" y="1386"/>
                  </a:lnTo>
                  <a:lnTo>
                    <a:pt x="702" y="1374"/>
                  </a:lnTo>
                  <a:lnTo>
                    <a:pt x="702" y="1356"/>
                  </a:lnTo>
                  <a:lnTo>
                    <a:pt x="702" y="1350"/>
                  </a:lnTo>
                  <a:lnTo>
                    <a:pt x="702" y="1332"/>
                  </a:lnTo>
                  <a:lnTo>
                    <a:pt x="702" y="1320"/>
                  </a:lnTo>
                  <a:lnTo>
                    <a:pt x="708" y="1308"/>
                  </a:lnTo>
                  <a:lnTo>
                    <a:pt x="708" y="1290"/>
                  </a:lnTo>
                  <a:lnTo>
                    <a:pt x="708" y="1278"/>
                  </a:lnTo>
                  <a:lnTo>
                    <a:pt x="708" y="1266"/>
                  </a:lnTo>
                  <a:lnTo>
                    <a:pt x="708" y="1254"/>
                  </a:lnTo>
                  <a:lnTo>
                    <a:pt x="714" y="1236"/>
                  </a:lnTo>
                  <a:lnTo>
                    <a:pt x="714" y="1218"/>
                  </a:lnTo>
                  <a:lnTo>
                    <a:pt x="714" y="1200"/>
                  </a:lnTo>
                  <a:lnTo>
                    <a:pt x="714" y="1188"/>
                  </a:lnTo>
                  <a:lnTo>
                    <a:pt x="720" y="1164"/>
                  </a:lnTo>
                  <a:lnTo>
                    <a:pt x="720" y="1134"/>
                  </a:lnTo>
                  <a:lnTo>
                    <a:pt x="720" y="1116"/>
                  </a:lnTo>
                  <a:lnTo>
                    <a:pt x="726" y="1092"/>
                  </a:lnTo>
                  <a:lnTo>
                    <a:pt x="726" y="1074"/>
                  </a:lnTo>
                  <a:lnTo>
                    <a:pt x="732" y="1062"/>
                  </a:lnTo>
                  <a:lnTo>
                    <a:pt x="732" y="1044"/>
                  </a:lnTo>
                  <a:lnTo>
                    <a:pt x="732" y="1032"/>
                  </a:lnTo>
                  <a:lnTo>
                    <a:pt x="732" y="1020"/>
                  </a:lnTo>
                  <a:lnTo>
                    <a:pt x="738" y="1014"/>
                  </a:lnTo>
                  <a:lnTo>
                    <a:pt x="738" y="1002"/>
                  </a:lnTo>
                  <a:lnTo>
                    <a:pt x="738" y="990"/>
                  </a:lnTo>
                  <a:lnTo>
                    <a:pt x="738" y="984"/>
                  </a:lnTo>
                  <a:lnTo>
                    <a:pt x="738" y="972"/>
                  </a:lnTo>
                  <a:lnTo>
                    <a:pt x="738" y="954"/>
                  </a:lnTo>
                  <a:lnTo>
                    <a:pt x="744" y="948"/>
                  </a:lnTo>
                  <a:lnTo>
                    <a:pt x="744" y="936"/>
                  </a:lnTo>
                  <a:lnTo>
                    <a:pt x="744" y="930"/>
                  </a:lnTo>
                  <a:lnTo>
                    <a:pt x="744" y="924"/>
                  </a:lnTo>
                  <a:lnTo>
                    <a:pt x="744" y="918"/>
                  </a:lnTo>
                  <a:lnTo>
                    <a:pt x="744" y="906"/>
                  </a:lnTo>
                  <a:lnTo>
                    <a:pt x="750" y="894"/>
                  </a:lnTo>
                  <a:lnTo>
                    <a:pt x="756" y="882"/>
                  </a:lnTo>
                  <a:lnTo>
                    <a:pt x="756" y="870"/>
                  </a:lnTo>
                  <a:lnTo>
                    <a:pt x="756" y="864"/>
                  </a:lnTo>
                  <a:lnTo>
                    <a:pt x="756" y="852"/>
                  </a:lnTo>
                  <a:lnTo>
                    <a:pt x="762" y="840"/>
                  </a:lnTo>
                  <a:lnTo>
                    <a:pt x="762" y="834"/>
                  </a:lnTo>
                  <a:lnTo>
                    <a:pt x="762" y="822"/>
                  </a:lnTo>
                  <a:lnTo>
                    <a:pt x="768" y="804"/>
                  </a:lnTo>
                  <a:lnTo>
                    <a:pt x="768" y="798"/>
                  </a:lnTo>
                  <a:lnTo>
                    <a:pt x="774" y="780"/>
                  </a:lnTo>
                  <a:lnTo>
                    <a:pt x="780" y="768"/>
                  </a:lnTo>
                  <a:lnTo>
                    <a:pt x="780" y="750"/>
                  </a:lnTo>
                  <a:lnTo>
                    <a:pt x="786" y="744"/>
                  </a:lnTo>
                  <a:lnTo>
                    <a:pt x="786" y="732"/>
                  </a:lnTo>
                  <a:lnTo>
                    <a:pt x="792" y="720"/>
                  </a:lnTo>
                  <a:lnTo>
                    <a:pt x="798" y="708"/>
                  </a:lnTo>
                  <a:lnTo>
                    <a:pt x="798" y="702"/>
                  </a:lnTo>
                  <a:lnTo>
                    <a:pt x="804" y="690"/>
                  </a:lnTo>
                  <a:lnTo>
                    <a:pt x="804" y="684"/>
                  </a:lnTo>
                  <a:lnTo>
                    <a:pt x="810" y="678"/>
                  </a:lnTo>
                  <a:lnTo>
                    <a:pt x="810" y="672"/>
                  </a:lnTo>
                  <a:lnTo>
                    <a:pt x="822" y="672"/>
                  </a:lnTo>
                  <a:lnTo>
                    <a:pt x="840" y="660"/>
                  </a:lnTo>
                  <a:lnTo>
                    <a:pt x="852" y="648"/>
                  </a:lnTo>
                  <a:lnTo>
                    <a:pt x="864" y="642"/>
                  </a:lnTo>
                  <a:lnTo>
                    <a:pt x="876" y="636"/>
                  </a:lnTo>
                  <a:lnTo>
                    <a:pt x="888" y="630"/>
                  </a:lnTo>
                  <a:lnTo>
                    <a:pt x="894" y="624"/>
                  </a:lnTo>
                  <a:lnTo>
                    <a:pt x="900" y="618"/>
                  </a:lnTo>
                  <a:lnTo>
                    <a:pt x="912" y="612"/>
                  </a:lnTo>
                  <a:lnTo>
                    <a:pt x="930" y="600"/>
                  </a:lnTo>
                  <a:lnTo>
                    <a:pt x="942" y="594"/>
                  </a:lnTo>
                  <a:lnTo>
                    <a:pt x="954" y="582"/>
                  </a:lnTo>
                  <a:lnTo>
                    <a:pt x="966" y="576"/>
                  </a:lnTo>
                  <a:lnTo>
                    <a:pt x="984" y="564"/>
                  </a:lnTo>
                  <a:lnTo>
                    <a:pt x="996" y="552"/>
                  </a:lnTo>
                  <a:lnTo>
                    <a:pt x="1008" y="546"/>
                  </a:lnTo>
                  <a:lnTo>
                    <a:pt x="1026" y="534"/>
                  </a:lnTo>
                  <a:lnTo>
                    <a:pt x="1038" y="528"/>
                  </a:lnTo>
                  <a:lnTo>
                    <a:pt x="1056" y="516"/>
                  </a:lnTo>
                  <a:lnTo>
                    <a:pt x="1068" y="510"/>
                  </a:lnTo>
                  <a:lnTo>
                    <a:pt x="1086" y="498"/>
                  </a:lnTo>
                  <a:lnTo>
                    <a:pt x="1104" y="486"/>
                  </a:lnTo>
                  <a:lnTo>
                    <a:pt x="1116" y="474"/>
                  </a:lnTo>
                  <a:lnTo>
                    <a:pt x="1134" y="462"/>
                  </a:lnTo>
                  <a:lnTo>
                    <a:pt x="1146" y="456"/>
                  </a:lnTo>
                  <a:lnTo>
                    <a:pt x="1158" y="444"/>
                  </a:lnTo>
                  <a:lnTo>
                    <a:pt x="1170" y="438"/>
                  </a:lnTo>
                  <a:lnTo>
                    <a:pt x="1182" y="438"/>
                  </a:lnTo>
                  <a:lnTo>
                    <a:pt x="1194" y="432"/>
                  </a:lnTo>
                  <a:lnTo>
                    <a:pt x="1206" y="426"/>
                  </a:lnTo>
                  <a:lnTo>
                    <a:pt x="1212" y="420"/>
                  </a:lnTo>
                  <a:lnTo>
                    <a:pt x="1230" y="420"/>
                  </a:lnTo>
                  <a:lnTo>
                    <a:pt x="1236" y="414"/>
                  </a:lnTo>
                  <a:lnTo>
                    <a:pt x="1242" y="408"/>
                  </a:lnTo>
                  <a:lnTo>
                    <a:pt x="1248" y="402"/>
                  </a:lnTo>
                  <a:lnTo>
                    <a:pt x="1260" y="396"/>
                  </a:lnTo>
                  <a:lnTo>
                    <a:pt x="1272" y="390"/>
                  </a:lnTo>
                  <a:lnTo>
                    <a:pt x="1290" y="384"/>
                  </a:lnTo>
                  <a:lnTo>
                    <a:pt x="1302" y="372"/>
                  </a:lnTo>
                  <a:lnTo>
                    <a:pt x="1320" y="366"/>
                  </a:lnTo>
                  <a:lnTo>
                    <a:pt x="1344" y="354"/>
                  </a:lnTo>
                  <a:lnTo>
                    <a:pt x="1362" y="348"/>
                  </a:lnTo>
                  <a:lnTo>
                    <a:pt x="1386" y="330"/>
                  </a:lnTo>
                  <a:lnTo>
                    <a:pt x="1410" y="324"/>
                  </a:lnTo>
                  <a:lnTo>
                    <a:pt x="1434" y="312"/>
                  </a:lnTo>
                  <a:lnTo>
                    <a:pt x="1446" y="306"/>
                  </a:lnTo>
                  <a:lnTo>
                    <a:pt x="1458" y="300"/>
                  </a:lnTo>
                  <a:lnTo>
                    <a:pt x="1464" y="300"/>
                  </a:lnTo>
                  <a:lnTo>
                    <a:pt x="1470" y="300"/>
                  </a:lnTo>
                  <a:lnTo>
                    <a:pt x="1470" y="294"/>
                  </a:lnTo>
                  <a:lnTo>
                    <a:pt x="1476" y="288"/>
                  </a:lnTo>
                  <a:lnTo>
                    <a:pt x="1470" y="288"/>
                  </a:lnTo>
                  <a:lnTo>
                    <a:pt x="1464" y="288"/>
                  </a:lnTo>
                  <a:lnTo>
                    <a:pt x="1452" y="282"/>
                  </a:lnTo>
                  <a:lnTo>
                    <a:pt x="1446" y="276"/>
                  </a:lnTo>
                  <a:lnTo>
                    <a:pt x="1434" y="264"/>
                  </a:lnTo>
                  <a:lnTo>
                    <a:pt x="1428" y="246"/>
                  </a:lnTo>
                  <a:lnTo>
                    <a:pt x="1422" y="240"/>
                  </a:lnTo>
                  <a:lnTo>
                    <a:pt x="1416" y="234"/>
                  </a:lnTo>
                  <a:lnTo>
                    <a:pt x="1398" y="210"/>
                  </a:lnTo>
                  <a:lnTo>
                    <a:pt x="1386" y="198"/>
                  </a:lnTo>
                  <a:lnTo>
                    <a:pt x="1380" y="192"/>
                  </a:lnTo>
                  <a:lnTo>
                    <a:pt x="1380" y="186"/>
                  </a:lnTo>
                  <a:lnTo>
                    <a:pt x="1368" y="186"/>
                  </a:lnTo>
                  <a:lnTo>
                    <a:pt x="1362" y="180"/>
                  </a:lnTo>
                  <a:lnTo>
                    <a:pt x="1356" y="174"/>
                  </a:lnTo>
                  <a:lnTo>
                    <a:pt x="1344" y="168"/>
                  </a:lnTo>
                  <a:lnTo>
                    <a:pt x="1338" y="162"/>
                  </a:lnTo>
                  <a:lnTo>
                    <a:pt x="1320" y="144"/>
                  </a:lnTo>
                  <a:lnTo>
                    <a:pt x="1314" y="144"/>
                  </a:lnTo>
                  <a:lnTo>
                    <a:pt x="1302" y="132"/>
                  </a:lnTo>
                  <a:lnTo>
                    <a:pt x="1296" y="132"/>
                  </a:lnTo>
                  <a:lnTo>
                    <a:pt x="1272" y="120"/>
                  </a:lnTo>
                  <a:lnTo>
                    <a:pt x="1254" y="108"/>
                  </a:lnTo>
                  <a:lnTo>
                    <a:pt x="1230" y="102"/>
                  </a:lnTo>
                  <a:lnTo>
                    <a:pt x="1212" y="96"/>
                  </a:lnTo>
                  <a:lnTo>
                    <a:pt x="1206" y="96"/>
                  </a:lnTo>
                  <a:lnTo>
                    <a:pt x="1194" y="84"/>
                  </a:lnTo>
                  <a:lnTo>
                    <a:pt x="1170" y="78"/>
                  </a:lnTo>
                  <a:lnTo>
                    <a:pt x="1146" y="78"/>
                  </a:lnTo>
                  <a:lnTo>
                    <a:pt x="1134" y="72"/>
                  </a:lnTo>
                  <a:lnTo>
                    <a:pt x="1122" y="60"/>
                  </a:lnTo>
                  <a:lnTo>
                    <a:pt x="1116" y="60"/>
                  </a:lnTo>
                  <a:lnTo>
                    <a:pt x="1092" y="60"/>
                  </a:lnTo>
                  <a:lnTo>
                    <a:pt x="1068" y="48"/>
                  </a:lnTo>
                  <a:lnTo>
                    <a:pt x="1050" y="42"/>
                  </a:lnTo>
                  <a:lnTo>
                    <a:pt x="1038" y="42"/>
                  </a:lnTo>
                  <a:lnTo>
                    <a:pt x="1026" y="36"/>
                  </a:lnTo>
                  <a:lnTo>
                    <a:pt x="1014" y="36"/>
                  </a:lnTo>
                  <a:lnTo>
                    <a:pt x="1002" y="30"/>
                  </a:lnTo>
                  <a:lnTo>
                    <a:pt x="990" y="30"/>
                  </a:lnTo>
                  <a:lnTo>
                    <a:pt x="978" y="24"/>
                  </a:lnTo>
                  <a:lnTo>
                    <a:pt x="966" y="18"/>
                  </a:lnTo>
                  <a:lnTo>
                    <a:pt x="954" y="18"/>
                  </a:lnTo>
                  <a:lnTo>
                    <a:pt x="942" y="12"/>
                  </a:lnTo>
                  <a:lnTo>
                    <a:pt x="924" y="12"/>
                  </a:lnTo>
                  <a:lnTo>
                    <a:pt x="918" y="12"/>
                  </a:lnTo>
                  <a:lnTo>
                    <a:pt x="906" y="6"/>
                  </a:lnTo>
                  <a:lnTo>
                    <a:pt x="888" y="6"/>
                  </a:lnTo>
                  <a:lnTo>
                    <a:pt x="870" y="6"/>
                  </a:lnTo>
                  <a:lnTo>
                    <a:pt x="840" y="6"/>
                  </a:lnTo>
                  <a:lnTo>
                    <a:pt x="822" y="6"/>
                  </a:lnTo>
                  <a:lnTo>
                    <a:pt x="792" y="6"/>
                  </a:lnTo>
                  <a:lnTo>
                    <a:pt x="762" y="6"/>
                  </a:lnTo>
                  <a:lnTo>
                    <a:pt x="720" y="12"/>
                  </a:lnTo>
                  <a:lnTo>
                    <a:pt x="720" y="0"/>
                  </a:lnTo>
                  <a:lnTo>
                    <a:pt x="714" y="0"/>
                  </a:lnTo>
                  <a:lnTo>
                    <a:pt x="690" y="6"/>
                  </a:lnTo>
                  <a:lnTo>
                    <a:pt x="672" y="12"/>
                  </a:lnTo>
                  <a:lnTo>
                    <a:pt x="642" y="18"/>
                  </a:lnTo>
                  <a:lnTo>
                    <a:pt x="618" y="30"/>
                  </a:lnTo>
                  <a:lnTo>
                    <a:pt x="588" y="36"/>
                  </a:lnTo>
                  <a:lnTo>
                    <a:pt x="570" y="42"/>
                  </a:lnTo>
                  <a:lnTo>
                    <a:pt x="552" y="48"/>
                  </a:lnTo>
                  <a:lnTo>
                    <a:pt x="516" y="60"/>
                  </a:lnTo>
                  <a:lnTo>
                    <a:pt x="492" y="72"/>
                  </a:lnTo>
                  <a:lnTo>
                    <a:pt x="462" y="84"/>
                  </a:lnTo>
                  <a:lnTo>
                    <a:pt x="450" y="90"/>
                  </a:lnTo>
                  <a:lnTo>
                    <a:pt x="438" y="102"/>
                  </a:lnTo>
                  <a:lnTo>
                    <a:pt x="426" y="108"/>
                  </a:lnTo>
                  <a:lnTo>
                    <a:pt x="408" y="120"/>
                  </a:lnTo>
                  <a:lnTo>
                    <a:pt x="396" y="126"/>
                  </a:lnTo>
                  <a:lnTo>
                    <a:pt x="384" y="132"/>
                  </a:lnTo>
                  <a:lnTo>
                    <a:pt x="372" y="144"/>
                  </a:lnTo>
                  <a:lnTo>
                    <a:pt x="348" y="162"/>
                  </a:lnTo>
                  <a:lnTo>
                    <a:pt x="324" y="174"/>
                  </a:lnTo>
                  <a:lnTo>
                    <a:pt x="306" y="192"/>
                  </a:lnTo>
                  <a:lnTo>
                    <a:pt x="288" y="198"/>
                  </a:lnTo>
                  <a:lnTo>
                    <a:pt x="270" y="216"/>
                  </a:lnTo>
                  <a:lnTo>
                    <a:pt x="252" y="228"/>
                  </a:lnTo>
                  <a:lnTo>
                    <a:pt x="228" y="240"/>
                  </a:lnTo>
                  <a:lnTo>
                    <a:pt x="210" y="258"/>
                  </a:lnTo>
                  <a:lnTo>
                    <a:pt x="198" y="264"/>
                  </a:lnTo>
                  <a:lnTo>
                    <a:pt x="192" y="276"/>
                  </a:lnTo>
                  <a:lnTo>
                    <a:pt x="186" y="282"/>
                  </a:lnTo>
                  <a:lnTo>
                    <a:pt x="180" y="288"/>
                  </a:lnTo>
                  <a:lnTo>
                    <a:pt x="174" y="300"/>
                  </a:lnTo>
                  <a:lnTo>
                    <a:pt x="162" y="318"/>
                  </a:lnTo>
                  <a:lnTo>
                    <a:pt x="156" y="330"/>
                  </a:lnTo>
                  <a:lnTo>
                    <a:pt x="150" y="354"/>
                  </a:lnTo>
                  <a:lnTo>
                    <a:pt x="138" y="366"/>
                  </a:lnTo>
                  <a:lnTo>
                    <a:pt x="132" y="384"/>
                  </a:lnTo>
                  <a:lnTo>
                    <a:pt x="126" y="402"/>
                  </a:lnTo>
                  <a:lnTo>
                    <a:pt x="114" y="414"/>
                  </a:lnTo>
                  <a:lnTo>
                    <a:pt x="108" y="444"/>
                  </a:lnTo>
                  <a:lnTo>
                    <a:pt x="90" y="474"/>
                  </a:lnTo>
                  <a:lnTo>
                    <a:pt x="78" y="504"/>
                  </a:lnTo>
                  <a:lnTo>
                    <a:pt x="60" y="534"/>
                  </a:lnTo>
                  <a:lnTo>
                    <a:pt x="48" y="570"/>
                  </a:lnTo>
                  <a:lnTo>
                    <a:pt x="42" y="594"/>
                  </a:lnTo>
                  <a:lnTo>
                    <a:pt x="30" y="618"/>
                  </a:lnTo>
                  <a:lnTo>
                    <a:pt x="24" y="642"/>
                  </a:lnTo>
                  <a:lnTo>
                    <a:pt x="18" y="666"/>
                  </a:lnTo>
                  <a:lnTo>
                    <a:pt x="12" y="690"/>
                  </a:lnTo>
                  <a:lnTo>
                    <a:pt x="12" y="708"/>
                  </a:lnTo>
                  <a:lnTo>
                    <a:pt x="0" y="732"/>
                  </a:lnTo>
                  <a:lnTo>
                    <a:pt x="0" y="756"/>
                  </a:lnTo>
                  <a:lnTo>
                    <a:pt x="0" y="786"/>
                  </a:lnTo>
                  <a:lnTo>
                    <a:pt x="0" y="810"/>
                  </a:lnTo>
                  <a:lnTo>
                    <a:pt x="0" y="840"/>
                  </a:lnTo>
                  <a:lnTo>
                    <a:pt x="0" y="864"/>
                  </a:lnTo>
                  <a:lnTo>
                    <a:pt x="0" y="888"/>
                  </a:lnTo>
                  <a:lnTo>
                    <a:pt x="0" y="918"/>
                  </a:lnTo>
                  <a:lnTo>
                    <a:pt x="0" y="948"/>
                  </a:lnTo>
                  <a:lnTo>
                    <a:pt x="12" y="966"/>
                  </a:lnTo>
                  <a:lnTo>
                    <a:pt x="12" y="978"/>
                  </a:lnTo>
                  <a:lnTo>
                    <a:pt x="18" y="990"/>
                  </a:lnTo>
                  <a:lnTo>
                    <a:pt x="24" y="1008"/>
                  </a:lnTo>
                  <a:lnTo>
                    <a:pt x="24" y="1020"/>
                  </a:lnTo>
                  <a:lnTo>
                    <a:pt x="30" y="1038"/>
                  </a:lnTo>
                  <a:lnTo>
                    <a:pt x="42" y="1062"/>
                  </a:lnTo>
                  <a:lnTo>
                    <a:pt x="42" y="1080"/>
                  </a:lnTo>
                  <a:lnTo>
                    <a:pt x="48" y="1092"/>
                  </a:lnTo>
                  <a:lnTo>
                    <a:pt x="60" y="1116"/>
                  </a:lnTo>
                  <a:lnTo>
                    <a:pt x="72" y="1140"/>
                  </a:lnTo>
                  <a:lnTo>
                    <a:pt x="78" y="1164"/>
                  </a:lnTo>
                  <a:lnTo>
                    <a:pt x="90" y="1188"/>
                  </a:lnTo>
                  <a:lnTo>
                    <a:pt x="102" y="1206"/>
                  </a:lnTo>
                  <a:lnTo>
                    <a:pt x="108" y="1224"/>
                  </a:lnTo>
                  <a:lnTo>
                    <a:pt x="126" y="1242"/>
                  </a:lnTo>
                  <a:lnTo>
                    <a:pt x="150" y="1278"/>
                  </a:lnTo>
                  <a:lnTo>
                    <a:pt x="162" y="1290"/>
                  </a:lnTo>
                  <a:lnTo>
                    <a:pt x="186" y="1314"/>
                  </a:lnTo>
                  <a:lnTo>
                    <a:pt x="204" y="1332"/>
                  </a:lnTo>
                  <a:lnTo>
                    <a:pt x="216" y="1350"/>
                  </a:lnTo>
                  <a:lnTo>
                    <a:pt x="234" y="1374"/>
                  </a:lnTo>
                  <a:lnTo>
                    <a:pt x="252" y="1380"/>
                  </a:lnTo>
                  <a:lnTo>
                    <a:pt x="264" y="1398"/>
                  </a:lnTo>
                  <a:lnTo>
                    <a:pt x="270" y="1404"/>
                  </a:lnTo>
                  <a:lnTo>
                    <a:pt x="282" y="1410"/>
                  </a:lnTo>
                  <a:lnTo>
                    <a:pt x="294" y="1422"/>
                  </a:lnTo>
                  <a:lnTo>
                    <a:pt x="312" y="1434"/>
                  </a:lnTo>
                  <a:lnTo>
                    <a:pt x="330" y="1440"/>
                  </a:lnTo>
                  <a:lnTo>
                    <a:pt x="348" y="1452"/>
                  </a:lnTo>
                  <a:lnTo>
                    <a:pt x="372" y="1470"/>
                  </a:lnTo>
                  <a:lnTo>
                    <a:pt x="378" y="1476"/>
                  </a:lnTo>
                  <a:lnTo>
                    <a:pt x="678" y="160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bf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890880" y="3497760"/>
              <a:ext cx="11160" cy="19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0" y="6"/>
                  </a:moveTo>
                  <a:lnTo>
                    <a:pt x="6" y="60"/>
                  </a:lnTo>
                  <a:lnTo>
                    <a:pt x="0" y="114"/>
                  </a:lnTo>
                  <a:lnTo>
                    <a:pt x="0" y="186"/>
                  </a:lnTo>
                  <a:lnTo>
                    <a:pt x="6" y="240"/>
                  </a:lnTo>
                  <a:lnTo>
                    <a:pt x="66" y="240"/>
                  </a:lnTo>
                  <a:lnTo>
                    <a:pt x="132" y="240"/>
                  </a:lnTo>
                  <a:lnTo>
                    <a:pt x="132" y="180"/>
                  </a:lnTo>
                  <a:lnTo>
                    <a:pt x="132" y="120"/>
                  </a:lnTo>
                  <a:lnTo>
                    <a:pt x="132" y="54"/>
                  </a:lnTo>
                  <a:lnTo>
                    <a:pt x="132" y="0"/>
                  </a:lnTo>
                  <a:lnTo>
                    <a:pt x="7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3886200" y="347976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0" y="36"/>
                  </a:moveTo>
                  <a:lnTo>
                    <a:pt x="18" y="84"/>
                  </a:lnTo>
                  <a:lnTo>
                    <a:pt x="30" y="144"/>
                  </a:lnTo>
                  <a:lnTo>
                    <a:pt x="48" y="210"/>
                  </a:lnTo>
                  <a:lnTo>
                    <a:pt x="66" y="258"/>
                  </a:lnTo>
                  <a:lnTo>
                    <a:pt x="126" y="246"/>
                  </a:lnTo>
                  <a:lnTo>
                    <a:pt x="186" y="228"/>
                  </a:lnTo>
                  <a:lnTo>
                    <a:pt x="174" y="174"/>
                  </a:lnTo>
                  <a:lnTo>
                    <a:pt x="156" y="114"/>
                  </a:lnTo>
                  <a:lnTo>
                    <a:pt x="138" y="48"/>
                  </a:lnTo>
                  <a:lnTo>
                    <a:pt x="120" y="0"/>
                  </a:lnTo>
                  <a:lnTo>
                    <a:pt x="66" y="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877560" y="346320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0" y="66"/>
                  </a:moveTo>
                  <a:lnTo>
                    <a:pt x="30" y="114"/>
                  </a:lnTo>
                  <a:lnTo>
                    <a:pt x="54" y="162"/>
                  </a:lnTo>
                  <a:lnTo>
                    <a:pt x="90" y="222"/>
                  </a:lnTo>
                  <a:lnTo>
                    <a:pt x="120" y="270"/>
                  </a:lnTo>
                  <a:lnTo>
                    <a:pt x="174" y="240"/>
                  </a:lnTo>
                  <a:lnTo>
                    <a:pt x="228" y="204"/>
                  </a:lnTo>
                  <a:lnTo>
                    <a:pt x="198" y="156"/>
                  </a:lnTo>
                  <a:lnTo>
                    <a:pt x="168" y="108"/>
                  </a:lnTo>
                  <a:lnTo>
                    <a:pt x="132" y="48"/>
                  </a:lnTo>
                  <a:lnTo>
                    <a:pt x="108" y="0"/>
                  </a:lnTo>
                  <a:lnTo>
                    <a:pt x="60" y="3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3864960" y="344988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0" y="90"/>
                  </a:moveTo>
                  <a:lnTo>
                    <a:pt x="36" y="126"/>
                  </a:lnTo>
                  <a:lnTo>
                    <a:pt x="78" y="168"/>
                  </a:lnTo>
                  <a:lnTo>
                    <a:pt x="126" y="216"/>
                  </a:lnTo>
                  <a:lnTo>
                    <a:pt x="168" y="252"/>
                  </a:lnTo>
                  <a:lnTo>
                    <a:pt x="210" y="210"/>
                  </a:lnTo>
                  <a:lnTo>
                    <a:pt x="252" y="168"/>
                  </a:lnTo>
                  <a:lnTo>
                    <a:pt x="216" y="126"/>
                  </a:lnTo>
                  <a:lnTo>
                    <a:pt x="174" y="84"/>
                  </a:lnTo>
                  <a:lnTo>
                    <a:pt x="126" y="36"/>
                  </a:lnTo>
                  <a:lnTo>
                    <a:pt x="84" y="0"/>
                  </a:lnTo>
                  <a:lnTo>
                    <a:pt x="48" y="4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849480" y="344016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0" y="114"/>
                  </a:moveTo>
                  <a:lnTo>
                    <a:pt x="48" y="138"/>
                  </a:lnTo>
                  <a:lnTo>
                    <a:pt x="102" y="168"/>
                  </a:lnTo>
                  <a:lnTo>
                    <a:pt x="156" y="204"/>
                  </a:lnTo>
                  <a:lnTo>
                    <a:pt x="204" y="228"/>
                  </a:lnTo>
                  <a:lnTo>
                    <a:pt x="240" y="174"/>
                  </a:lnTo>
                  <a:lnTo>
                    <a:pt x="270" y="120"/>
                  </a:lnTo>
                  <a:lnTo>
                    <a:pt x="222" y="90"/>
                  </a:lnTo>
                  <a:lnTo>
                    <a:pt x="168" y="60"/>
                  </a:lnTo>
                  <a:lnTo>
                    <a:pt x="108" y="30"/>
                  </a:lnTo>
                  <a:lnTo>
                    <a:pt x="66" y="0"/>
                  </a:lnTo>
                  <a:lnTo>
                    <a:pt x="36" y="5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833280" y="343548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0" y="126"/>
                  </a:moveTo>
                  <a:lnTo>
                    <a:pt x="54" y="138"/>
                  </a:lnTo>
                  <a:lnTo>
                    <a:pt x="108" y="156"/>
                  </a:lnTo>
                  <a:lnTo>
                    <a:pt x="174" y="174"/>
                  </a:lnTo>
                  <a:lnTo>
                    <a:pt x="228" y="186"/>
                  </a:lnTo>
                  <a:lnTo>
                    <a:pt x="246" y="126"/>
                  </a:lnTo>
                  <a:lnTo>
                    <a:pt x="258" y="66"/>
                  </a:lnTo>
                  <a:lnTo>
                    <a:pt x="204" y="48"/>
                  </a:lnTo>
                  <a:lnTo>
                    <a:pt x="150" y="36"/>
                  </a:lnTo>
                  <a:lnTo>
                    <a:pt x="84" y="18"/>
                  </a:lnTo>
                  <a:lnTo>
                    <a:pt x="30" y="0"/>
                  </a:lnTo>
                  <a:lnTo>
                    <a:pt x="18" y="6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815640" y="3435480"/>
              <a:ext cx="20520" cy="1044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6" y="132"/>
                  </a:moveTo>
                  <a:lnTo>
                    <a:pt x="54" y="126"/>
                  </a:lnTo>
                  <a:lnTo>
                    <a:pt x="114" y="132"/>
                  </a:lnTo>
                  <a:lnTo>
                    <a:pt x="186" y="132"/>
                  </a:lnTo>
                  <a:lnTo>
                    <a:pt x="240" y="126"/>
                  </a:lnTo>
                  <a:lnTo>
                    <a:pt x="240" y="66"/>
                  </a:lnTo>
                  <a:lnTo>
                    <a:pt x="240" y="0"/>
                  </a:lnTo>
                  <a:lnTo>
                    <a:pt x="180" y="0"/>
                  </a:lnTo>
                  <a:lnTo>
                    <a:pt x="120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6" y="60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796560" y="343548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36" y="186"/>
                  </a:moveTo>
                  <a:lnTo>
                    <a:pt x="84" y="168"/>
                  </a:lnTo>
                  <a:lnTo>
                    <a:pt x="144" y="156"/>
                  </a:lnTo>
                  <a:lnTo>
                    <a:pt x="210" y="138"/>
                  </a:lnTo>
                  <a:lnTo>
                    <a:pt x="258" y="120"/>
                  </a:lnTo>
                  <a:lnTo>
                    <a:pt x="246" y="60"/>
                  </a:lnTo>
                  <a:lnTo>
                    <a:pt x="228" y="0"/>
                  </a:lnTo>
                  <a:lnTo>
                    <a:pt x="174" y="12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0" y="66"/>
                  </a:lnTo>
                  <a:lnTo>
                    <a:pt x="18" y="120"/>
                  </a:lnTo>
                  <a:lnTo>
                    <a:pt x="36" y="18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778920" y="344016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66" y="228"/>
                  </a:moveTo>
                  <a:lnTo>
                    <a:pt x="108" y="198"/>
                  </a:lnTo>
                  <a:lnTo>
                    <a:pt x="162" y="174"/>
                  </a:lnTo>
                  <a:lnTo>
                    <a:pt x="222" y="138"/>
                  </a:lnTo>
                  <a:lnTo>
                    <a:pt x="270" y="108"/>
                  </a:lnTo>
                  <a:lnTo>
                    <a:pt x="240" y="54"/>
                  </a:lnTo>
                  <a:lnTo>
                    <a:pt x="204" y="0"/>
                  </a:lnTo>
                  <a:lnTo>
                    <a:pt x="156" y="30"/>
                  </a:lnTo>
                  <a:lnTo>
                    <a:pt x="108" y="60"/>
                  </a:lnTo>
                  <a:lnTo>
                    <a:pt x="48" y="96"/>
                  </a:lnTo>
                  <a:lnTo>
                    <a:pt x="0" y="120"/>
                  </a:lnTo>
                  <a:lnTo>
                    <a:pt x="30" y="168"/>
                  </a:lnTo>
                  <a:lnTo>
                    <a:pt x="66" y="228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764880" y="344988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90" y="252"/>
                  </a:moveTo>
                  <a:lnTo>
                    <a:pt x="126" y="216"/>
                  </a:lnTo>
                  <a:lnTo>
                    <a:pt x="168" y="174"/>
                  </a:lnTo>
                  <a:lnTo>
                    <a:pt x="216" y="126"/>
                  </a:lnTo>
                  <a:lnTo>
                    <a:pt x="252" y="90"/>
                  </a:lnTo>
                  <a:lnTo>
                    <a:pt x="210" y="42"/>
                  </a:lnTo>
                  <a:lnTo>
                    <a:pt x="168" y="0"/>
                  </a:lnTo>
                  <a:lnTo>
                    <a:pt x="126" y="36"/>
                  </a:lnTo>
                  <a:lnTo>
                    <a:pt x="84" y="78"/>
                  </a:lnTo>
                  <a:lnTo>
                    <a:pt x="36" y="126"/>
                  </a:lnTo>
                  <a:lnTo>
                    <a:pt x="0" y="168"/>
                  </a:lnTo>
                  <a:lnTo>
                    <a:pt x="42" y="204"/>
                  </a:lnTo>
                  <a:lnTo>
                    <a:pt x="90" y="25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754800" y="346320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114" y="270"/>
                  </a:moveTo>
                  <a:lnTo>
                    <a:pt x="138" y="222"/>
                  </a:lnTo>
                  <a:lnTo>
                    <a:pt x="168" y="168"/>
                  </a:lnTo>
                  <a:lnTo>
                    <a:pt x="204" y="114"/>
                  </a:lnTo>
                  <a:lnTo>
                    <a:pt x="228" y="66"/>
                  </a:lnTo>
                  <a:lnTo>
                    <a:pt x="174" y="30"/>
                  </a:lnTo>
                  <a:lnTo>
                    <a:pt x="120" y="0"/>
                  </a:lnTo>
                  <a:lnTo>
                    <a:pt x="90" y="48"/>
                  </a:lnTo>
                  <a:lnTo>
                    <a:pt x="60" y="102"/>
                  </a:lnTo>
                  <a:lnTo>
                    <a:pt x="30" y="162"/>
                  </a:lnTo>
                  <a:lnTo>
                    <a:pt x="0" y="204"/>
                  </a:lnTo>
                  <a:lnTo>
                    <a:pt x="54" y="234"/>
                  </a:lnTo>
                  <a:lnTo>
                    <a:pt x="114" y="27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49760" y="347976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126" y="258"/>
                  </a:moveTo>
                  <a:lnTo>
                    <a:pt x="138" y="204"/>
                  </a:lnTo>
                  <a:lnTo>
                    <a:pt x="156" y="150"/>
                  </a:lnTo>
                  <a:lnTo>
                    <a:pt x="174" y="84"/>
                  </a:lnTo>
                  <a:lnTo>
                    <a:pt x="186" y="30"/>
                  </a:lnTo>
                  <a:lnTo>
                    <a:pt x="126" y="12"/>
                  </a:lnTo>
                  <a:lnTo>
                    <a:pt x="66" y="0"/>
                  </a:lnTo>
                  <a:lnTo>
                    <a:pt x="48" y="54"/>
                  </a:lnTo>
                  <a:lnTo>
                    <a:pt x="36" y="108"/>
                  </a:lnTo>
                  <a:lnTo>
                    <a:pt x="18" y="180"/>
                  </a:lnTo>
                  <a:lnTo>
                    <a:pt x="0" y="228"/>
                  </a:lnTo>
                  <a:lnTo>
                    <a:pt x="60" y="240"/>
                  </a:lnTo>
                  <a:lnTo>
                    <a:pt x="126" y="258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749760" y="3497760"/>
              <a:ext cx="11160" cy="19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132" y="234"/>
                  </a:moveTo>
                  <a:lnTo>
                    <a:pt x="126" y="186"/>
                  </a:lnTo>
                  <a:lnTo>
                    <a:pt x="132" y="126"/>
                  </a:lnTo>
                  <a:lnTo>
                    <a:pt x="132" y="54"/>
                  </a:lnTo>
                  <a:lnTo>
                    <a:pt x="126" y="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120"/>
                  </a:lnTo>
                  <a:lnTo>
                    <a:pt x="0" y="186"/>
                  </a:lnTo>
                  <a:lnTo>
                    <a:pt x="0" y="240"/>
                  </a:lnTo>
                  <a:lnTo>
                    <a:pt x="60" y="234"/>
                  </a:lnTo>
                  <a:lnTo>
                    <a:pt x="132" y="23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749760" y="351432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186" y="222"/>
                  </a:moveTo>
                  <a:lnTo>
                    <a:pt x="168" y="174"/>
                  </a:lnTo>
                  <a:lnTo>
                    <a:pt x="156" y="114"/>
                  </a:lnTo>
                  <a:lnTo>
                    <a:pt x="138" y="48"/>
                  </a:lnTo>
                  <a:lnTo>
                    <a:pt x="120" y="0"/>
                  </a:lnTo>
                  <a:lnTo>
                    <a:pt x="60" y="12"/>
                  </a:lnTo>
                  <a:lnTo>
                    <a:pt x="0" y="30"/>
                  </a:lnTo>
                  <a:lnTo>
                    <a:pt x="12" y="84"/>
                  </a:lnTo>
                  <a:lnTo>
                    <a:pt x="30" y="144"/>
                  </a:lnTo>
                  <a:lnTo>
                    <a:pt x="48" y="210"/>
                  </a:lnTo>
                  <a:lnTo>
                    <a:pt x="66" y="258"/>
                  </a:lnTo>
                  <a:lnTo>
                    <a:pt x="120" y="240"/>
                  </a:lnTo>
                  <a:lnTo>
                    <a:pt x="186" y="22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754800" y="353016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228" y="204"/>
                  </a:moveTo>
                  <a:lnTo>
                    <a:pt x="198" y="162"/>
                  </a:lnTo>
                  <a:lnTo>
                    <a:pt x="174" y="108"/>
                  </a:lnTo>
                  <a:lnTo>
                    <a:pt x="138" y="48"/>
                  </a:lnTo>
                  <a:lnTo>
                    <a:pt x="108" y="0"/>
                  </a:lnTo>
                  <a:lnTo>
                    <a:pt x="54" y="30"/>
                  </a:lnTo>
                  <a:lnTo>
                    <a:pt x="0" y="66"/>
                  </a:lnTo>
                  <a:lnTo>
                    <a:pt x="30" y="114"/>
                  </a:lnTo>
                  <a:lnTo>
                    <a:pt x="60" y="168"/>
                  </a:lnTo>
                  <a:lnTo>
                    <a:pt x="96" y="222"/>
                  </a:lnTo>
                  <a:lnTo>
                    <a:pt x="120" y="270"/>
                  </a:lnTo>
                  <a:lnTo>
                    <a:pt x="168" y="240"/>
                  </a:lnTo>
                  <a:lnTo>
                    <a:pt x="228" y="20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764880" y="354492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252" y="162"/>
                  </a:moveTo>
                  <a:lnTo>
                    <a:pt x="216" y="126"/>
                  </a:lnTo>
                  <a:lnTo>
                    <a:pt x="174" y="84"/>
                  </a:lnTo>
                  <a:lnTo>
                    <a:pt x="126" y="36"/>
                  </a:lnTo>
                  <a:lnTo>
                    <a:pt x="84" y="0"/>
                  </a:lnTo>
                  <a:lnTo>
                    <a:pt x="42" y="42"/>
                  </a:lnTo>
                  <a:lnTo>
                    <a:pt x="0" y="90"/>
                  </a:lnTo>
                  <a:lnTo>
                    <a:pt x="36" y="132"/>
                  </a:lnTo>
                  <a:lnTo>
                    <a:pt x="78" y="168"/>
                  </a:lnTo>
                  <a:lnTo>
                    <a:pt x="126" y="216"/>
                  </a:lnTo>
                  <a:lnTo>
                    <a:pt x="168" y="252"/>
                  </a:lnTo>
                  <a:lnTo>
                    <a:pt x="204" y="210"/>
                  </a:lnTo>
                  <a:lnTo>
                    <a:pt x="252" y="16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778920" y="355644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70" y="114"/>
                  </a:moveTo>
                  <a:lnTo>
                    <a:pt x="222" y="90"/>
                  </a:lnTo>
                  <a:lnTo>
                    <a:pt x="168" y="60"/>
                  </a:lnTo>
                  <a:lnTo>
                    <a:pt x="114" y="24"/>
                  </a:lnTo>
                  <a:lnTo>
                    <a:pt x="66" y="0"/>
                  </a:lnTo>
                  <a:lnTo>
                    <a:pt x="30" y="54"/>
                  </a:lnTo>
                  <a:lnTo>
                    <a:pt x="0" y="108"/>
                  </a:lnTo>
                  <a:lnTo>
                    <a:pt x="48" y="138"/>
                  </a:lnTo>
                  <a:lnTo>
                    <a:pt x="102" y="168"/>
                  </a:lnTo>
                  <a:lnTo>
                    <a:pt x="162" y="198"/>
                  </a:lnTo>
                  <a:lnTo>
                    <a:pt x="204" y="228"/>
                  </a:lnTo>
                  <a:lnTo>
                    <a:pt x="234" y="174"/>
                  </a:lnTo>
                  <a:lnTo>
                    <a:pt x="270" y="11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796560" y="356472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258" y="60"/>
                  </a:moveTo>
                  <a:lnTo>
                    <a:pt x="204" y="48"/>
                  </a:lnTo>
                  <a:lnTo>
                    <a:pt x="150" y="30"/>
                  </a:lnTo>
                  <a:lnTo>
                    <a:pt x="84" y="12"/>
                  </a:lnTo>
                  <a:lnTo>
                    <a:pt x="30" y="0"/>
                  </a:lnTo>
                  <a:lnTo>
                    <a:pt x="12" y="60"/>
                  </a:lnTo>
                  <a:lnTo>
                    <a:pt x="0" y="126"/>
                  </a:lnTo>
                  <a:lnTo>
                    <a:pt x="54" y="138"/>
                  </a:lnTo>
                  <a:lnTo>
                    <a:pt x="108" y="156"/>
                  </a:lnTo>
                  <a:lnTo>
                    <a:pt x="174" y="168"/>
                  </a:lnTo>
                  <a:lnTo>
                    <a:pt x="228" y="186"/>
                  </a:lnTo>
                  <a:lnTo>
                    <a:pt x="240" y="126"/>
                  </a:lnTo>
                  <a:lnTo>
                    <a:pt x="258" y="6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815640" y="3569400"/>
              <a:ext cx="20520" cy="1044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234" y="0"/>
                  </a:moveTo>
                  <a:lnTo>
                    <a:pt x="186" y="6"/>
                  </a:lnTo>
                  <a:lnTo>
                    <a:pt x="126" y="0"/>
                  </a:lnTo>
                  <a:lnTo>
                    <a:pt x="54" y="0"/>
                  </a:lnTo>
                  <a:lnTo>
                    <a:pt x="0" y="6"/>
                  </a:lnTo>
                  <a:lnTo>
                    <a:pt x="0" y="66"/>
                  </a:lnTo>
                  <a:lnTo>
                    <a:pt x="0" y="132"/>
                  </a:lnTo>
                  <a:lnTo>
                    <a:pt x="60" y="132"/>
                  </a:lnTo>
                  <a:lnTo>
                    <a:pt x="120" y="132"/>
                  </a:lnTo>
                  <a:lnTo>
                    <a:pt x="186" y="132"/>
                  </a:lnTo>
                  <a:lnTo>
                    <a:pt x="240" y="132"/>
                  </a:lnTo>
                  <a:lnTo>
                    <a:pt x="234" y="7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833280" y="356472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222" y="0"/>
                  </a:moveTo>
                  <a:lnTo>
                    <a:pt x="174" y="18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0" y="66"/>
                  </a:lnTo>
                  <a:lnTo>
                    <a:pt x="12" y="126"/>
                  </a:lnTo>
                  <a:lnTo>
                    <a:pt x="30" y="186"/>
                  </a:lnTo>
                  <a:lnTo>
                    <a:pt x="84" y="174"/>
                  </a:lnTo>
                  <a:lnTo>
                    <a:pt x="144" y="156"/>
                  </a:lnTo>
                  <a:lnTo>
                    <a:pt x="210" y="138"/>
                  </a:lnTo>
                  <a:lnTo>
                    <a:pt x="258" y="120"/>
                  </a:lnTo>
                  <a:lnTo>
                    <a:pt x="240" y="66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849480" y="355644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04" y="0"/>
                  </a:moveTo>
                  <a:lnTo>
                    <a:pt x="162" y="30"/>
                  </a:lnTo>
                  <a:lnTo>
                    <a:pt x="108" y="54"/>
                  </a:lnTo>
                  <a:lnTo>
                    <a:pt x="48" y="90"/>
                  </a:lnTo>
                  <a:lnTo>
                    <a:pt x="0" y="120"/>
                  </a:lnTo>
                  <a:lnTo>
                    <a:pt x="30" y="174"/>
                  </a:lnTo>
                  <a:lnTo>
                    <a:pt x="66" y="228"/>
                  </a:lnTo>
                  <a:lnTo>
                    <a:pt x="114" y="198"/>
                  </a:lnTo>
                  <a:lnTo>
                    <a:pt x="162" y="168"/>
                  </a:lnTo>
                  <a:lnTo>
                    <a:pt x="222" y="132"/>
                  </a:lnTo>
                  <a:lnTo>
                    <a:pt x="270" y="108"/>
                  </a:lnTo>
                  <a:lnTo>
                    <a:pt x="240" y="6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864960" y="354492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62" y="0"/>
                  </a:moveTo>
                  <a:lnTo>
                    <a:pt x="126" y="36"/>
                  </a:lnTo>
                  <a:lnTo>
                    <a:pt x="84" y="78"/>
                  </a:lnTo>
                  <a:lnTo>
                    <a:pt x="36" y="126"/>
                  </a:lnTo>
                  <a:lnTo>
                    <a:pt x="0" y="168"/>
                  </a:lnTo>
                  <a:lnTo>
                    <a:pt x="42" y="210"/>
                  </a:lnTo>
                  <a:lnTo>
                    <a:pt x="90" y="252"/>
                  </a:lnTo>
                  <a:lnTo>
                    <a:pt x="126" y="216"/>
                  </a:lnTo>
                  <a:lnTo>
                    <a:pt x="168" y="174"/>
                  </a:lnTo>
                  <a:lnTo>
                    <a:pt x="216" y="126"/>
                  </a:lnTo>
                  <a:lnTo>
                    <a:pt x="252" y="84"/>
                  </a:lnTo>
                  <a:lnTo>
                    <a:pt x="210" y="4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77560" y="353016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114" y="0"/>
                  </a:moveTo>
                  <a:lnTo>
                    <a:pt x="90" y="48"/>
                  </a:lnTo>
                  <a:lnTo>
                    <a:pt x="60" y="102"/>
                  </a:lnTo>
                  <a:lnTo>
                    <a:pt x="24" y="162"/>
                  </a:lnTo>
                  <a:lnTo>
                    <a:pt x="0" y="204"/>
                  </a:lnTo>
                  <a:lnTo>
                    <a:pt x="54" y="240"/>
                  </a:lnTo>
                  <a:lnTo>
                    <a:pt x="108" y="270"/>
                  </a:lnTo>
                  <a:lnTo>
                    <a:pt x="138" y="222"/>
                  </a:lnTo>
                  <a:lnTo>
                    <a:pt x="168" y="168"/>
                  </a:lnTo>
                  <a:lnTo>
                    <a:pt x="198" y="108"/>
                  </a:lnTo>
                  <a:lnTo>
                    <a:pt x="228" y="66"/>
                  </a:lnTo>
                  <a:lnTo>
                    <a:pt x="174" y="36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886200" y="351432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60" y="0"/>
                  </a:moveTo>
                  <a:lnTo>
                    <a:pt x="48" y="54"/>
                  </a:lnTo>
                  <a:lnTo>
                    <a:pt x="30" y="108"/>
                  </a:lnTo>
                  <a:lnTo>
                    <a:pt x="12" y="174"/>
                  </a:lnTo>
                  <a:lnTo>
                    <a:pt x="0" y="228"/>
                  </a:lnTo>
                  <a:lnTo>
                    <a:pt x="60" y="246"/>
                  </a:lnTo>
                  <a:lnTo>
                    <a:pt x="120" y="258"/>
                  </a:lnTo>
                  <a:lnTo>
                    <a:pt x="138" y="204"/>
                  </a:lnTo>
                  <a:lnTo>
                    <a:pt x="150" y="150"/>
                  </a:lnTo>
                  <a:lnTo>
                    <a:pt x="168" y="84"/>
                  </a:lnTo>
                  <a:lnTo>
                    <a:pt x="186" y="30"/>
                  </a:lnTo>
                  <a:lnTo>
                    <a:pt x="126" y="1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9" name=""/>
          <p:cNvSpPr/>
          <p:nvPr/>
        </p:nvSpPr>
        <p:spPr>
          <a:xfrm>
            <a:off x="2224080" y="3390840"/>
            <a:ext cx="114480" cy="120600"/>
          </a:xfrm>
          <a:prstGeom prst="octagon">
            <a:avLst>
              <a:gd name="adj" fmla="val 29287"/>
            </a:avLst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443320" y="3595680"/>
            <a:ext cx="7452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086280" y="3843360"/>
            <a:ext cx="7452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2" name=""/>
          <p:cNvGrpSpPr/>
          <p:nvPr/>
        </p:nvGrpSpPr>
        <p:grpSpPr>
          <a:xfrm>
            <a:off x="2971800" y="2895120"/>
            <a:ext cx="93600" cy="88920"/>
            <a:chOff x="2971800" y="2895120"/>
            <a:chExt cx="93600" cy="88920"/>
          </a:xfrm>
        </p:grpSpPr>
        <p:sp>
          <p:nvSpPr>
            <p:cNvPr id="2323" name=""/>
            <p:cNvSpPr/>
            <p:nvPr/>
          </p:nvSpPr>
          <p:spPr>
            <a:xfrm rot="16200000">
              <a:off x="2936520" y="2930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6200000">
              <a:off x="3011400" y="29300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6200000">
              <a:off x="2996280" y="287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6200000">
              <a:off x="2996280" y="2914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7" name=""/>
          <p:cNvGrpSpPr/>
          <p:nvPr/>
        </p:nvGrpSpPr>
        <p:grpSpPr>
          <a:xfrm>
            <a:off x="2133720" y="2819160"/>
            <a:ext cx="93600" cy="88920"/>
            <a:chOff x="2133720" y="2819160"/>
            <a:chExt cx="93600" cy="88920"/>
          </a:xfrm>
        </p:grpSpPr>
        <p:sp>
          <p:nvSpPr>
            <p:cNvPr id="2328" name=""/>
            <p:cNvSpPr/>
            <p:nvPr/>
          </p:nvSpPr>
          <p:spPr>
            <a:xfrm rot="16200000">
              <a:off x="2098440" y="2854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rot="16200000">
              <a:off x="2173320" y="2854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rot="16200000">
              <a:off x="2158200" y="2794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rot="16200000">
              <a:off x="2158200" y="2838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2" name=""/>
          <p:cNvSpPr/>
          <p:nvPr/>
        </p:nvSpPr>
        <p:spPr>
          <a:xfrm>
            <a:off x="3089160" y="3232080"/>
            <a:ext cx="7488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532320" y="3230640"/>
            <a:ext cx="7452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087720" y="3618000"/>
            <a:ext cx="74520" cy="74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530520" y="3616200"/>
            <a:ext cx="74520" cy="748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3962520" y="2285640"/>
            <a:ext cx="152280" cy="228600"/>
            <a:chOff x="3962520" y="2285640"/>
            <a:chExt cx="152280" cy="228600"/>
          </a:xfrm>
        </p:grpSpPr>
        <p:sp>
          <p:nvSpPr>
            <p:cNvPr id="2337" name=""/>
            <p:cNvSpPr/>
            <p:nvPr/>
          </p:nvSpPr>
          <p:spPr>
            <a:xfrm rot="16200000">
              <a:off x="3925080" y="2464920"/>
              <a:ext cx="86400" cy="11880"/>
            </a:xfrm>
            <a:custGeom>
              <a:avLst/>
              <a:gdLst/>
              <a:ahLst/>
              <a:rect l="l" t="t" r="r" b="b"/>
              <a:pathLst>
                <a:path w="816" h="138">
                  <a:moveTo>
                    <a:pt x="816" y="0"/>
                  </a:moveTo>
                  <a:lnTo>
                    <a:pt x="0" y="0"/>
                  </a:lnTo>
                  <a:lnTo>
                    <a:pt x="408" y="138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rot="16200000">
              <a:off x="3999240" y="2390760"/>
              <a:ext cx="43200" cy="117000"/>
            </a:xfrm>
            <a:custGeom>
              <a:avLst/>
              <a:gdLst/>
              <a:ahLst/>
              <a:rect l="l" t="t" r="r" b="b"/>
              <a:pathLst>
                <a:path w="408" h="1344">
                  <a:moveTo>
                    <a:pt x="408" y="0"/>
                  </a:moveTo>
                  <a:lnTo>
                    <a:pt x="0" y="138"/>
                  </a:lnTo>
                  <a:lnTo>
                    <a:pt x="0" y="1344"/>
                  </a:lnTo>
                  <a:lnTo>
                    <a:pt x="408" y="936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rot="16200000">
              <a:off x="4016880" y="2416320"/>
              <a:ext cx="43200" cy="152280"/>
            </a:xfrm>
            <a:custGeom>
              <a:avLst/>
              <a:gdLst/>
              <a:ahLst/>
              <a:rect l="l" t="t" r="r" b="b"/>
              <a:pathLst>
                <a:path w="408" h="1752">
                  <a:moveTo>
                    <a:pt x="0" y="0"/>
                  </a:moveTo>
                  <a:lnTo>
                    <a:pt x="408" y="138"/>
                  </a:lnTo>
                  <a:lnTo>
                    <a:pt x="408" y="1344"/>
                  </a:lnTo>
                  <a:lnTo>
                    <a:pt x="0" y="17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rot="16200000">
              <a:off x="3990240" y="2382120"/>
              <a:ext cx="142200" cy="35280"/>
            </a:xfrm>
            <a:custGeom>
              <a:avLst/>
              <a:gdLst/>
              <a:ahLst/>
              <a:rect l="l" t="t" r="r" b="b"/>
              <a:pathLst>
                <a:path w="1344" h="408">
                  <a:moveTo>
                    <a:pt x="408" y="0"/>
                  </a:moveTo>
                  <a:lnTo>
                    <a:pt x="0" y="408"/>
                  </a:lnTo>
                  <a:lnTo>
                    <a:pt x="1344" y="408"/>
                  </a:lnTo>
                  <a:lnTo>
                    <a:pt x="936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rot="16200000">
              <a:off x="3982680" y="2382120"/>
              <a:ext cx="228600" cy="35280"/>
            </a:xfrm>
            <a:custGeom>
              <a:avLst/>
              <a:gdLst/>
              <a:ahLst/>
              <a:rect l="l" t="t" r="r" b="b"/>
              <a:pathLst>
                <a:path w="2160" h="408">
                  <a:moveTo>
                    <a:pt x="0" y="408"/>
                  </a:moveTo>
                  <a:lnTo>
                    <a:pt x="408" y="0"/>
                  </a:lnTo>
                  <a:lnTo>
                    <a:pt x="1752" y="0"/>
                  </a:lnTo>
                  <a:lnTo>
                    <a:pt x="2160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rot="16200000">
              <a:off x="3925080" y="2322720"/>
              <a:ext cx="86400" cy="11880"/>
            </a:xfrm>
            <a:custGeom>
              <a:avLst/>
              <a:gdLst/>
              <a:ahLst/>
              <a:rect l="l" t="t" r="r" b="b"/>
              <a:pathLst>
                <a:path w="816" h="138">
                  <a:moveTo>
                    <a:pt x="0" y="0"/>
                  </a:moveTo>
                  <a:lnTo>
                    <a:pt x="816" y="0"/>
                  </a:lnTo>
                  <a:lnTo>
                    <a:pt x="408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rot="16200000">
              <a:off x="3999240" y="2291760"/>
              <a:ext cx="43200" cy="117000"/>
            </a:xfrm>
            <a:custGeom>
              <a:avLst/>
              <a:gdLst/>
              <a:ahLst/>
              <a:rect l="l" t="t" r="r" b="b"/>
              <a:pathLst>
                <a:path w="408" h="1344">
                  <a:moveTo>
                    <a:pt x="0" y="936"/>
                  </a:moveTo>
                  <a:lnTo>
                    <a:pt x="408" y="1344"/>
                  </a:lnTo>
                  <a:lnTo>
                    <a:pt x="408" y="138"/>
                  </a:lnTo>
                  <a:lnTo>
                    <a:pt x="0" y="0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rot="16200000">
              <a:off x="4016880" y="2230920"/>
              <a:ext cx="43200" cy="152280"/>
            </a:xfrm>
            <a:custGeom>
              <a:avLst/>
              <a:gdLst/>
              <a:ahLst/>
              <a:rect l="l" t="t" r="r" b="b"/>
              <a:pathLst>
                <a:path w="408" h="1752">
                  <a:moveTo>
                    <a:pt x="408" y="1752"/>
                  </a:moveTo>
                  <a:lnTo>
                    <a:pt x="0" y="1344"/>
                  </a:lnTo>
                  <a:lnTo>
                    <a:pt x="0" y="138"/>
                  </a:lnTo>
                  <a:lnTo>
                    <a:pt x="408" y="0"/>
                  </a:lnTo>
                  <a:lnTo>
                    <a:pt x="408" y="175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6477120" y="2057040"/>
            <a:ext cx="152280" cy="152280"/>
            <a:chOff x="6477120" y="2057040"/>
            <a:chExt cx="152280" cy="152280"/>
          </a:xfrm>
        </p:grpSpPr>
        <p:sp>
          <p:nvSpPr>
            <p:cNvPr id="2346" name=""/>
            <p:cNvSpPr/>
            <p:nvPr/>
          </p:nvSpPr>
          <p:spPr>
            <a:xfrm rot="16200000">
              <a:off x="6415920" y="2117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rot="16200000">
              <a:off x="6537960" y="2117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rot="16200000">
              <a:off x="6515280" y="2019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rot="16200000">
              <a:off x="6515280" y="2095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6248520" y="3428640"/>
            <a:ext cx="152280" cy="152280"/>
            <a:chOff x="6248520" y="3428640"/>
            <a:chExt cx="152280" cy="152280"/>
          </a:xfrm>
        </p:grpSpPr>
        <p:sp>
          <p:nvSpPr>
            <p:cNvPr id="2351" name=""/>
            <p:cNvSpPr/>
            <p:nvPr/>
          </p:nvSpPr>
          <p:spPr>
            <a:xfrm rot="16200000">
              <a:off x="6187320" y="34894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rot="16200000">
              <a:off x="6309360" y="3489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rot="16200000">
              <a:off x="6286680" y="3390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16200000">
              <a:off x="6286680" y="3466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6934320" y="5029200"/>
            <a:ext cx="152280" cy="152280"/>
            <a:chOff x="6934320" y="5029200"/>
            <a:chExt cx="152280" cy="152280"/>
          </a:xfrm>
        </p:grpSpPr>
        <p:sp>
          <p:nvSpPr>
            <p:cNvPr id="2356" name=""/>
            <p:cNvSpPr/>
            <p:nvPr/>
          </p:nvSpPr>
          <p:spPr>
            <a:xfrm>
              <a:off x="6934320" y="5029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934320" y="5150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7010280" y="5029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934320" y="5029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0" name=""/>
          <p:cNvGrpSpPr/>
          <p:nvPr/>
        </p:nvGrpSpPr>
        <p:grpSpPr>
          <a:xfrm>
            <a:off x="7848720" y="4114800"/>
            <a:ext cx="74520" cy="149760"/>
            <a:chOff x="7848720" y="4114800"/>
            <a:chExt cx="74520" cy="149760"/>
          </a:xfrm>
        </p:grpSpPr>
        <p:sp>
          <p:nvSpPr>
            <p:cNvPr id="2361" name=""/>
            <p:cNvSpPr/>
            <p:nvPr/>
          </p:nvSpPr>
          <p:spPr>
            <a:xfrm>
              <a:off x="7848720" y="4114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848720" y="4264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885800" y="4114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848720" y="4114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4191120" y="4114800"/>
            <a:ext cx="152280" cy="152280"/>
            <a:chOff x="4191120" y="4114800"/>
            <a:chExt cx="152280" cy="152280"/>
          </a:xfrm>
        </p:grpSpPr>
        <p:sp>
          <p:nvSpPr>
            <p:cNvPr id="2366" name=""/>
            <p:cNvSpPr/>
            <p:nvPr/>
          </p:nvSpPr>
          <p:spPr>
            <a:xfrm>
              <a:off x="4191120" y="4114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1120" y="4236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267080" y="4114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91120" y="4114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0" name=""/>
          <p:cNvGrpSpPr/>
          <p:nvPr/>
        </p:nvGrpSpPr>
        <p:grpSpPr>
          <a:xfrm>
            <a:off x="2211480" y="6172200"/>
            <a:ext cx="74520" cy="149760"/>
            <a:chOff x="2211480" y="6172200"/>
            <a:chExt cx="74520" cy="149760"/>
          </a:xfrm>
        </p:grpSpPr>
        <p:sp>
          <p:nvSpPr>
            <p:cNvPr id="2371" name=""/>
            <p:cNvSpPr/>
            <p:nvPr/>
          </p:nvSpPr>
          <p:spPr>
            <a:xfrm>
              <a:off x="2211480" y="6172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211480" y="6321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248560" y="61722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211480" y="61722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8306280" y="2133720"/>
            <a:ext cx="167400" cy="171000"/>
            <a:chOff x="8306280" y="2133720"/>
            <a:chExt cx="167400" cy="171000"/>
          </a:xfrm>
        </p:grpSpPr>
        <p:grpSp>
          <p:nvGrpSpPr>
            <p:cNvPr id="2376" name=""/>
            <p:cNvGrpSpPr/>
            <p:nvPr/>
          </p:nvGrpSpPr>
          <p:grpSpPr>
            <a:xfrm>
              <a:off x="8394480" y="2178000"/>
              <a:ext cx="79200" cy="75960"/>
              <a:chOff x="8394480" y="2178000"/>
              <a:chExt cx="79200" cy="75960"/>
            </a:xfrm>
          </p:grpSpPr>
          <p:sp>
            <p:nvSpPr>
              <p:cNvPr id="2377" name=""/>
              <p:cNvSpPr/>
              <p:nvPr/>
            </p:nvSpPr>
            <p:spPr>
              <a:xfrm>
                <a:off x="8394480" y="21780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8424360" y="2205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8306280" y="2133720"/>
              <a:ext cx="75960" cy="79200"/>
              <a:chOff x="8306280" y="2133720"/>
              <a:chExt cx="75960" cy="79200"/>
            </a:xfrm>
          </p:grpSpPr>
          <p:sp>
            <p:nvSpPr>
              <p:cNvPr id="2380" name=""/>
              <p:cNvSpPr/>
              <p:nvPr/>
            </p:nvSpPr>
            <p:spPr>
              <a:xfrm rot="16200000">
                <a:off x="8304480" y="21351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8334360" y="21448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8310960" y="2225520"/>
              <a:ext cx="75600" cy="79200"/>
              <a:chOff x="8310960" y="2225520"/>
              <a:chExt cx="75600" cy="79200"/>
            </a:xfrm>
          </p:grpSpPr>
          <p:sp>
            <p:nvSpPr>
              <p:cNvPr id="2383" name=""/>
              <p:cNvSpPr/>
              <p:nvPr/>
            </p:nvSpPr>
            <p:spPr>
              <a:xfrm rot="5400000">
                <a:off x="8309160" y="222732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5400000">
                <a:off x="8321040" y="2255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5" name=""/>
          <p:cNvGrpSpPr/>
          <p:nvPr/>
        </p:nvGrpSpPr>
        <p:grpSpPr>
          <a:xfrm>
            <a:off x="8458200" y="2286000"/>
            <a:ext cx="171000" cy="167400"/>
            <a:chOff x="8458200" y="2286000"/>
            <a:chExt cx="171000" cy="167400"/>
          </a:xfrm>
        </p:grpSpPr>
        <p:grpSp>
          <p:nvGrpSpPr>
            <p:cNvPr id="2386" name=""/>
            <p:cNvGrpSpPr/>
            <p:nvPr/>
          </p:nvGrpSpPr>
          <p:grpSpPr>
            <a:xfrm>
              <a:off x="8502480" y="2286000"/>
              <a:ext cx="75960" cy="79200"/>
              <a:chOff x="8502480" y="2286000"/>
              <a:chExt cx="75960" cy="79200"/>
            </a:xfrm>
          </p:grpSpPr>
          <p:sp>
            <p:nvSpPr>
              <p:cNvPr id="2387" name=""/>
              <p:cNvSpPr/>
              <p:nvPr/>
            </p:nvSpPr>
            <p:spPr>
              <a:xfrm rot="16200000">
                <a:off x="8500680" y="2287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rot="16200000">
                <a:off x="8530560" y="2297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8458200" y="2377440"/>
              <a:ext cx="79200" cy="75960"/>
              <a:chOff x="8458200" y="2377440"/>
              <a:chExt cx="79200" cy="75960"/>
            </a:xfrm>
          </p:grpSpPr>
          <p:sp>
            <p:nvSpPr>
              <p:cNvPr id="2390" name=""/>
              <p:cNvSpPr/>
              <p:nvPr/>
            </p:nvSpPr>
            <p:spPr>
              <a:xfrm rot="10800000">
                <a:off x="8458200" y="2377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rot="10800000">
                <a:off x="8469720" y="2387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8550000" y="2373120"/>
              <a:ext cx="79200" cy="75600"/>
              <a:chOff x="8550000" y="2373120"/>
              <a:chExt cx="79200" cy="75600"/>
            </a:xfrm>
          </p:grpSpPr>
          <p:sp>
            <p:nvSpPr>
              <p:cNvPr id="2393" name=""/>
              <p:cNvSpPr/>
              <p:nvPr/>
            </p:nvSpPr>
            <p:spPr>
              <a:xfrm>
                <a:off x="8550000" y="237312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8579880" y="24004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95" name=""/>
          <p:cNvGrpSpPr/>
          <p:nvPr/>
        </p:nvGrpSpPr>
        <p:grpSpPr>
          <a:xfrm>
            <a:off x="8686800" y="2286000"/>
            <a:ext cx="81000" cy="77760"/>
            <a:chOff x="8686800" y="2286000"/>
            <a:chExt cx="81000" cy="77760"/>
          </a:xfrm>
        </p:grpSpPr>
        <p:sp>
          <p:nvSpPr>
            <p:cNvPr id="2396" name=""/>
            <p:cNvSpPr/>
            <p:nvPr/>
          </p:nvSpPr>
          <p:spPr>
            <a:xfrm>
              <a:off x="8686800" y="2286000"/>
              <a:ext cx="8100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717400" y="231408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8" name=""/>
          <p:cNvGrpSpPr/>
          <p:nvPr/>
        </p:nvGrpSpPr>
        <p:grpSpPr>
          <a:xfrm>
            <a:off x="8229960" y="2362320"/>
            <a:ext cx="167400" cy="171000"/>
            <a:chOff x="8229960" y="2362320"/>
            <a:chExt cx="167400" cy="171000"/>
          </a:xfrm>
        </p:grpSpPr>
        <p:grpSp>
          <p:nvGrpSpPr>
            <p:cNvPr id="2399" name=""/>
            <p:cNvGrpSpPr/>
            <p:nvPr/>
          </p:nvGrpSpPr>
          <p:grpSpPr>
            <a:xfrm>
              <a:off x="8318160" y="2406600"/>
              <a:ext cx="79200" cy="75960"/>
              <a:chOff x="8318160" y="2406600"/>
              <a:chExt cx="79200" cy="75960"/>
            </a:xfrm>
          </p:grpSpPr>
          <p:sp>
            <p:nvSpPr>
              <p:cNvPr id="2400" name=""/>
              <p:cNvSpPr/>
              <p:nvPr/>
            </p:nvSpPr>
            <p:spPr>
              <a:xfrm>
                <a:off x="8318160" y="24066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348040" y="2434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8229960" y="2362320"/>
              <a:ext cx="75960" cy="79200"/>
              <a:chOff x="8229960" y="2362320"/>
              <a:chExt cx="75960" cy="79200"/>
            </a:xfrm>
          </p:grpSpPr>
          <p:sp>
            <p:nvSpPr>
              <p:cNvPr id="2403" name=""/>
              <p:cNvSpPr/>
              <p:nvPr/>
            </p:nvSpPr>
            <p:spPr>
              <a:xfrm rot="16200000">
                <a:off x="8228160" y="23637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rot="16200000">
                <a:off x="8258040" y="23734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8234640" y="2454120"/>
              <a:ext cx="75600" cy="79200"/>
              <a:chOff x="8234640" y="2454120"/>
              <a:chExt cx="75600" cy="79200"/>
            </a:xfrm>
          </p:grpSpPr>
          <p:sp>
            <p:nvSpPr>
              <p:cNvPr id="2406" name=""/>
              <p:cNvSpPr/>
              <p:nvPr/>
            </p:nvSpPr>
            <p:spPr>
              <a:xfrm rot="5400000">
                <a:off x="8232840" y="245592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rot="5400000">
                <a:off x="8244720" y="24836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8" name=""/>
          <p:cNvGrpSpPr/>
          <p:nvPr/>
        </p:nvGrpSpPr>
        <p:grpSpPr>
          <a:xfrm>
            <a:off x="8458560" y="2514600"/>
            <a:ext cx="167400" cy="171000"/>
            <a:chOff x="8458560" y="2514600"/>
            <a:chExt cx="167400" cy="171000"/>
          </a:xfrm>
        </p:grpSpPr>
        <p:grpSp>
          <p:nvGrpSpPr>
            <p:cNvPr id="2409" name=""/>
            <p:cNvGrpSpPr/>
            <p:nvPr/>
          </p:nvGrpSpPr>
          <p:grpSpPr>
            <a:xfrm>
              <a:off x="8546760" y="2558880"/>
              <a:ext cx="79200" cy="75960"/>
              <a:chOff x="8546760" y="2558880"/>
              <a:chExt cx="79200" cy="75960"/>
            </a:xfrm>
          </p:grpSpPr>
          <p:sp>
            <p:nvSpPr>
              <p:cNvPr id="2410" name=""/>
              <p:cNvSpPr/>
              <p:nvPr/>
            </p:nvSpPr>
            <p:spPr>
              <a:xfrm>
                <a:off x="8546760" y="25588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8576640" y="2586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2" name=""/>
            <p:cNvGrpSpPr/>
            <p:nvPr/>
          </p:nvGrpSpPr>
          <p:grpSpPr>
            <a:xfrm>
              <a:off x="8458560" y="2514600"/>
              <a:ext cx="75960" cy="79200"/>
              <a:chOff x="8458560" y="2514600"/>
              <a:chExt cx="75960" cy="79200"/>
            </a:xfrm>
          </p:grpSpPr>
          <p:sp>
            <p:nvSpPr>
              <p:cNvPr id="2413" name=""/>
              <p:cNvSpPr/>
              <p:nvPr/>
            </p:nvSpPr>
            <p:spPr>
              <a:xfrm rot="16200000">
                <a:off x="8456760" y="25160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rot="16200000">
                <a:off x="8486640" y="25257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5" name=""/>
            <p:cNvGrpSpPr/>
            <p:nvPr/>
          </p:nvGrpSpPr>
          <p:grpSpPr>
            <a:xfrm>
              <a:off x="8463240" y="2606400"/>
              <a:ext cx="75600" cy="79200"/>
              <a:chOff x="8463240" y="2606400"/>
              <a:chExt cx="75600" cy="79200"/>
            </a:xfrm>
          </p:grpSpPr>
          <p:sp>
            <p:nvSpPr>
              <p:cNvPr id="2416" name=""/>
              <p:cNvSpPr/>
              <p:nvPr/>
            </p:nvSpPr>
            <p:spPr>
              <a:xfrm rot="5400000">
                <a:off x="8461440" y="260820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rot="5400000">
                <a:off x="8473320" y="26359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8" name=""/>
          <p:cNvGrpSpPr/>
          <p:nvPr/>
        </p:nvGrpSpPr>
        <p:grpSpPr>
          <a:xfrm>
            <a:off x="8534880" y="2743200"/>
            <a:ext cx="167400" cy="171000"/>
            <a:chOff x="8534880" y="2743200"/>
            <a:chExt cx="167400" cy="171000"/>
          </a:xfrm>
        </p:grpSpPr>
        <p:grpSp>
          <p:nvGrpSpPr>
            <p:cNvPr id="2419" name=""/>
            <p:cNvGrpSpPr/>
            <p:nvPr/>
          </p:nvGrpSpPr>
          <p:grpSpPr>
            <a:xfrm>
              <a:off x="8623080" y="2787480"/>
              <a:ext cx="79200" cy="75960"/>
              <a:chOff x="8623080" y="2787480"/>
              <a:chExt cx="79200" cy="75960"/>
            </a:xfrm>
          </p:grpSpPr>
          <p:sp>
            <p:nvSpPr>
              <p:cNvPr id="2420" name=""/>
              <p:cNvSpPr/>
              <p:nvPr/>
            </p:nvSpPr>
            <p:spPr>
              <a:xfrm>
                <a:off x="8623080" y="27874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8652960" y="28152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8534880" y="2743200"/>
              <a:ext cx="75960" cy="79200"/>
              <a:chOff x="8534880" y="2743200"/>
              <a:chExt cx="75960" cy="79200"/>
            </a:xfrm>
          </p:grpSpPr>
          <p:sp>
            <p:nvSpPr>
              <p:cNvPr id="2423" name=""/>
              <p:cNvSpPr/>
              <p:nvPr/>
            </p:nvSpPr>
            <p:spPr>
              <a:xfrm rot="16200000">
                <a:off x="8533080" y="27446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rot="16200000">
                <a:off x="8562960" y="27543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8539560" y="2835000"/>
              <a:ext cx="75600" cy="79200"/>
              <a:chOff x="8539560" y="2835000"/>
              <a:chExt cx="75600" cy="79200"/>
            </a:xfrm>
          </p:grpSpPr>
          <p:sp>
            <p:nvSpPr>
              <p:cNvPr id="2426" name=""/>
              <p:cNvSpPr/>
              <p:nvPr/>
            </p:nvSpPr>
            <p:spPr>
              <a:xfrm rot="5400000">
                <a:off x="8537760" y="283680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5400000">
                <a:off x="8549640" y="28645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8" name=""/>
          <p:cNvGrpSpPr/>
          <p:nvPr/>
        </p:nvGrpSpPr>
        <p:grpSpPr>
          <a:xfrm>
            <a:off x="8306280" y="2666520"/>
            <a:ext cx="167400" cy="172080"/>
            <a:chOff x="8306280" y="2666520"/>
            <a:chExt cx="167400" cy="172080"/>
          </a:xfrm>
        </p:grpSpPr>
        <p:grpSp>
          <p:nvGrpSpPr>
            <p:cNvPr id="2429" name=""/>
            <p:cNvGrpSpPr/>
            <p:nvPr/>
          </p:nvGrpSpPr>
          <p:grpSpPr>
            <a:xfrm>
              <a:off x="8394480" y="2711520"/>
              <a:ext cx="79200" cy="76320"/>
              <a:chOff x="8394480" y="2711520"/>
              <a:chExt cx="79200" cy="76320"/>
            </a:xfrm>
          </p:grpSpPr>
          <p:sp>
            <p:nvSpPr>
              <p:cNvPr id="2430" name=""/>
              <p:cNvSpPr/>
              <p:nvPr/>
            </p:nvSpPr>
            <p:spPr>
              <a:xfrm>
                <a:off x="8394480" y="271152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424360" y="27392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8306280" y="2666520"/>
              <a:ext cx="75960" cy="79560"/>
              <a:chOff x="8306280" y="2666520"/>
              <a:chExt cx="75960" cy="79560"/>
            </a:xfrm>
          </p:grpSpPr>
          <p:sp>
            <p:nvSpPr>
              <p:cNvPr id="2433" name=""/>
              <p:cNvSpPr/>
              <p:nvPr/>
            </p:nvSpPr>
            <p:spPr>
              <a:xfrm rot="16200000">
                <a:off x="8304480" y="26683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rot="16200000">
                <a:off x="8334360" y="2678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8310960" y="2759040"/>
              <a:ext cx="75600" cy="79560"/>
              <a:chOff x="8310960" y="2759040"/>
              <a:chExt cx="75600" cy="79560"/>
            </a:xfrm>
          </p:grpSpPr>
          <p:sp>
            <p:nvSpPr>
              <p:cNvPr id="2436" name=""/>
              <p:cNvSpPr/>
              <p:nvPr/>
            </p:nvSpPr>
            <p:spPr>
              <a:xfrm rot="5400000">
                <a:off x="8308800" y="276084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rot="5400000">
                <a:off x="8321040" y="27885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8" name=""/>
          <p:cNvGrpSpPr/>
          <p:nvPr/>
        </p:nvGrpSpPr>
        <p:grpSpPr>
          <a:xfrm>
            <a:off x="8458560" y="2895120"/>
            <a:ext cx="167400" cy="172080"/>
            <a:chOff x="8458560" y="2895120"/>
            <a:chExt cx="167400" cy="172080"/>
          </a:xfrm>
        </p:grpSpPr>
        <p:grpSp>
          <p:nvGrpSpPr>
            <p:cNvPr id="2439" name=""/>
            <p:cNvGrpSpPr/>
            <p:nvPr/>
          </p:nvGrpSpPr>
          <p:grpSpPr>
            <a:xfrm>
              <a:off x="8546760" y="2940120"/>
              <a:ext cx="79200" cy="76320"/>
              <a:chOff x="8546760" y="2940120"/>
              <a:chExt cx="79200" cy="76320"/>
            </a:xfrm>
          </p:grpSpPr>
          <p:sp>
            <p:nvSpPr>
              <p:cNvPr id="2440" name=""/>
              <p:cNvSpPr/>
              <p:nvPr/>
            </p:nvSpPr>
            <p:spPr>
              <a:xfrm>
                <a:off x="8546760" y="294012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576640" y="2967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2" name=""/>
            <p:cNvGrpSpPr/>
            <p:nvPr/>
          </p:nvGrpSpPr>
          <p:grpSpPr>
            <a:xfrm>
              <a:off x="8458560" y="2895120"/>
              <a:ext cx="75960" cy="79560"/>
              <a:chOff x="8458560" y="2895120"/>
              <a:chExt cx="75960" cy="79560"/>
            </a:xfrm>
          </p:grpSpPr>
          <p:sp>
            <p:nvSpPr>
              <p:cNvPr id="2443" name=""/>
              <p:cNvSpPr/>
              <p:nvPr/>
            </p:nvSpPr>
            <p:spPr>
              <a:xfrm rot="16200000">
                <a:off x="8456760" y="28969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rot="16200000">
                <a:off x="8486640" y="29066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8463240" y="2987640"/>
              <a:ext cx="75600" cy="79560"/>
              <a:chOff x="8463240" y="2987640"/>
              <a:chExt cx="75600" cy="79560"/>
            </a:xfrm>
          </p:grpSpPr>
          <p:sp>
            <p:nvSpPr>
              <p:cNvPr id="2446" name=""/>
              <p:cNvSpPr/>
              <p:nvPr/>
            </p:nvSpPr>
            <p:spPr>
              <a:xfrm rot="5400000">
                <a:off x="8461080" y="298944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rot="5400000">
                <a:off x="8473320" y="3017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8" name=""/>
          <p:cNvGrpSpPr/>
          <p:nvPr/>
        </p:nvGrpSpPr>
        <p:grpSpPr>
          <a:xfrm>
            <a:off x="8534880" y="3123720"/>
            <a:ext cx="167400" cy="172080"/>
            <a:chOff x="8534880" y="3123720"/>
            <a:chExt cx="167400" cy="172080"/>
          </a:xfrm>
        </p:grpSpPr>
        <p:grpSp>
          <p:nvGrpSpPr>
            <p:cNvPr id="2449" name=""/>
            <p:cNvGrpSpPr/>
            <p:nvPr/>
          </p:nvGrpSpPr>
          <p:grpSpPr>
            <a:xfrm>
              <a:off x="8623080" y="3168720"/>
              <a:ext cx="79200" cy="76320"/>
              <a:chOff x="8623080" y="3168720"/>
              <a:chExt cx="79200" cy="76320"/>
            </a:xfrm>
          </p:grpSpPr>
          <p:sp>
            <p:nvSpPr>
              <p:cNvPr id="2450" name=""/>
              <p:cNvSpPr/>
              <p:nvPr/>
            </p:nvSpPr>
            <p:spPr>
              <a:xfrm>
                <a:off x="8623080" y="316872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652960" y="31964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2" name=""/>
            <p:cNvGrpSpPr/>
            <p:nvPr/>
          </p:nvGrpSpPr>
          <p:grpSpPr>
            <a:xfrm>
              <a:off x="8534880" y="3123720"/>
              <a:ext cx="75960" cy="79560"/>
              <a:chOff x="8534880" y="3123720"/>
              <a:chExt cx="75960" cy="79560"/>
            </a:xfrm>
          </p:grpSpPr>
          <p:sp>
            <p:nvSpPr>
              <p:cNvPr id="2453" name=""/>
              <p:cNvSpPr/>
              <p:nvPr/>
            </p:nvSpPr>
            <p:spPr>
              <a:xfrm rot="16200000">
                <a:off x="8533080" y="31255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rot="16200000">
                <a:off x="8562960" y="31352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5" name=""/>
            <p:cNvGrpSpPr/>
            <p:nvPr/>
          </p:nvGrpSpPr>
          <p:grpSpPr>
            <a:xfrm>
              <a:off x="8539560" y="3216240"/>
              <a:ext cx="75600" cy="79560"/>
              <a:chOff x="8539560" y="3216240"/>
              <a:chExt cx="75600" cy="79560"/>
            </a:xfrm>
          </p:grpSpPr>
          <p:sp>
            <p:nvSpPr>
              <p:cNvPr id="2456" name=""/>
              <p:cNvSpPr/>
              <p:nvPr/>
            </p:nvSpPr>
            <p:spPr>
              <a:xfrm rot="5400000">
                <a:off x="8537400" y="321804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rot="5400000">
                <a:off x="8549640" y="32457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8" name=""/>
          <p:cNvGrpSpPr/>
          <p:nvPr/>
        </p:nvGrpSpPr>
        <p:grpSpPr>
          <a:xfrm>
            <a:off x="8534880" y="2057400"/>
            <a:ext cx="167400" cy="171000"/>
            <a:chOff x="8534880" y="2057400"/>
            <a:chExt cx="167400" cy="171000"/>
          </a:xfrm>
        </p:grpSpPr>
        <p:grpSp>
          <p:nvGrpSpPr>
            <p:cNvPr id="2459" name=""/>
            <p:cNvGrpSpPr/>
            <p:nvPr/>
          </p:nvGrpSpPr>
          <p:grpSpPr>
            <a:xfrm>
              <a:off x="8623080" y="2101680"/>
              <a:ext cx="79200" cy="75960"/>
              <a:chOff x="8623080" y="2101680"/>
              <a:chExt cx="7920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8623080" y="21016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652960" y="21294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8534880" y="2057400"/>
              <a:ext cx="75960" cy="79200"/>
              <a:chOff x="8534880" y="2057400"/>
              <a:chExt cx="75960" cy="79200"/>
            </a:xfrm>
          </p:grpSpPr>
          <p:sp>
            <p:nvSpPr>
              <p:cNvPr id="2463" name=""/>
              <p:cNvSpPr/>
              <p:nvPr/>
            </p:nvSpPr>
            <p:spPr>
              <a:xfrm rot="16200000">
                <a:off x="8533080" y="20588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rot="16200000">
                <a:off x="8562960" y="20685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5" name=""/>
            <p:cNvGrpSpPr/>
            <p:nvPr/>
          </p:nvGrpSpPr>
          <p:grpSpPr>
            <a:xfrm>
              <a:off x="8539560" y="2149200"/>
              <a:ext cx="75600" cy="79200"/>
              <a:chOff x="8539560" y="2149200"/>
              <a:chExt cx="75600" cy="79200"/>
            </a:xfrm>
          </p:grpSpPr>
          <p:sp>
            <p:nvSpPr>
              <p:cNvPr id="2466" name=""/>
              <p:cNvSpPr/>
              <p:nvPr/>
            </p:nvSpPr>
            <p:spPr>
              <a:xfrm rot="5400000">
                <a:off x="8537760" y="215100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rot="5400000">
                <a:off x="8549640" y="2178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68" name=""/>
          <p:cNvGrpSpPr/>
          <p:nvPr/>
        </p:nvGrpSpPr>
        <p:grpSpPr>
          <a:xfrm>
            <a:off x="8686800" y="2590920"/>
            <a:ext cx="81000" cy="77760"/>
            <a:chOff x="8686800" y="2590920"/>
            <a:chExt cx="81000" cy="77760"/>
          </a:xfrm>
        </p:grpSpPr>
        <p:sp>
          <p:nvSpPr>
            <p:cNvPr id="2469" name=""/>
            <p:cNvSpPr/>
            <p:nvPr/>
          </p:nvSpPr>
          <p:spPr>
            <a:xfrm>
              <a:off x="8686800" y="2590920"/>
              <a:ext cx="8100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8717400" y="261900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8686800" y="3276720"/>
            <a:ext cx="81000" cy="77760"/>
            <a:chOff x="8686800" y="3276720"/>
            <a:chExt cx="81000" cy="77760"/>
          </a:xfrm>
        </p:grpSpPr>
        <p:sp>
          <p:nvSpPr>
            <p:cNvPr id="2472" name=""/>
            <p:cNvSpPr/>
            <p:nvPr/>
          </p:nvSpPr>
          <p:spPr>
            <a:xfrm>
              <a:off x="8686800" y="3276720"/>
              <a:ext cx="8100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8717400" y="330480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8381880" y="1981080"/>
            <a:ext cx="81000" cy="77760"/>
            <a:chOff x="8381880" y="1981080"/>
            <a:chExt cx="81000" cy="77760"/>
          </a:xfrm>
        </p:grpSpPr>
        <p:sp>
          <p:nvSpPr>
            <p:cNvPr id="2475" name=""/>
            <p:cNvSpPr/>
            <p:nvPr/>
          </p:nvSpPr>
          <p:spPr>
            <a:xfrm>
              <a:off x="8381880" y="1981080"/>
              <a:ext cx="8100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412480" y="200916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8305920" y="1828800"/>
            <a:ext cx="81000" cy="77760"/>
            <a:chOff x="8305920" y="1828800"/>
            <a:chExt cx="81000" cy="77760"/>
          </a:xfrm>
        </p:grpSpPr>
        <p:sp>
          <p:nvSpPr>
            <p:cNvPr id="2478" name=""/>
            <p:cNvSpPr/>
            <p:nvPr/>
          </p:nvSpPr>
          <p:spPr>
            <a:xfrm>
              <a:off x="8305920" y="1828800"/>
              <a:ext cx="8100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8336520" y="185688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0" name=""/>
          <p:cNvSpPr/>
          <p:nvPr/>
        </p:nvSpPr>
        <p:spPr>
          <a:xfrm rot="18900000">
            <a:off x="4807440" y="2952360"/>
            <a:ext cx="72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Via Des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9129240" y="5229360"/>
            <a:ext cx="708120" cy="1081080"/>
            <a:chOff x="9129240" y="5229360"/>
            <a:chExt cx="708120" cy="1081080"/>
          </a:xfrm>
        </p:grpSpPr>
        <p:sp>
          <p:nvSpPr>
            <p:cNvPr id="2482" name=""/>
            <p:cNvSpPr/>
            <p:nvPr/>
          </p:nvSpPr>
          <p:spPr>
            <a:xfrm rot="5400000">
              <a:off x="8942760" y="5415840"/>
              <a:ext cx="1081080" cy="708120"/>
            </a:xfrm>
            <a:prstGeom prst="flowChartDelay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3" name=""/>
            <p:cNvGrpSpPr/>
            <p:nvPr/>
          </p:nvGrpSpPr>
          <p:grpSpPr>
            <a:xfrm>
              <a:off x="9213120" y="5436360"/>
              <a:ext cx="539640" cy="666720"/>
              <a:chOff x="9213120" y="5436360"/>
              <a:chExt cx="539640" cy="666720"/>
            </a:xfrm>
          </p:grpSpPr>
          <p:sp>
            <p:nvSpPr>
              <p:cNvPr id="2484" name=""/>
              <p:cNvSpPr/>
              <p:nvPr/>
            </p:nvSpPr>
            <p:spPr>
              <a:xfrm>
                <a:off x="9213120" y="5436360"/>
                <a:ext cx="539640" cy="666720"/>
              </a:xfrm>
              <a:custGeom>
                <a:avLst/>
                <a:gdLst/>
                <a:ahLst/>
                <a:rect l="l" t="t" r="r" b="b"/>
                <a:pathLst>
                  <a:path w="1746" h="2160">
                    <a:moveTo>
                      <a:pt x="474" y="186"/>
                    </a:moveTo>
                    <a:lnTo>
                      <a:pt x="480" y="174"/>
                    </a:lnTo>
                    <a:lnTo>
                      <a:pt x="492" y="162"/>
                    </a:lnTo>
                    <a:lnTo>
                      <a:pt x="504" y="150"/>
                    </a:lnTo>
                    <a:lnTo>
                      <a:pt x="510" y="138"/>
                    </a:lnTo>
                    <a:lnTo>
                      <a:pt x="516" y="126"/>
                    </a:lnTo>
                    <a:lnTo>
                      <a:pt x="522" y="114"/>
                    </a:lnTo>
                    <a:lnTo>
                      <a:pt x="510" y="96"/>
                    </a:lnTo>
                    <a:lnTo>
                      <a:pt x="504" y="78"/>
                    </a:lnTo>
                    <a:lnTo>
                      <a:pt x="498" y="54"/>
                    </a:lnTo>
                    <a:lnTo>
                      <a:pt x="492" y="36"/>
                    </a:lnTo>
                    <a:lnTo>
                      <a:pt x="480" y="18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6" y="0"/>
                    </a:lnTo>
                    <a:lnTo>
                      <a:pt x="450" y="0"/>
                    </a:lnTo>
                    <a:lnTo>
                      <a:pt x="444" y="0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426" y="0"/>
                    </a:lnTo>
                    <a:lnTo>
                      <a:pt x="432" y="18"/>
                    </a:lnTo>
                    <a:lnTo>
                      <a:pt x="438" y="36"/>
                    </a:lnTo>
                    <a:lnTo>
                      <a:pt x="450" y="48"/>
                    </a:lnTo>
                    <a:lnTo>
                      <a:pt x="456" y="66"/>
                    </a:lnTo>
                    <a:lnTo>
                      <a:pt x="456" y="84"/>
                    </a:lnTo>
                    <a:lnTo>
                      <a:pt x="456" y="96"/>
                    </a:lnTo>
                    <a:lnTo>
                      <a:pt x="456" y="102"/>
                    </a:lnTo>
                    <a:lnTo>
                      <a:pt x="450" y="102"/>
                    </a:lnTo>
                    <a:lnTo>
                      <a:pt x="444" y="102"/>
                    </a:lnTo>
                    <a:lnTo>
                      <a:pt x="444" y="108"/>
                    </a:lnTo>
                    <a:lnTo>
                      <a:pt x="438" y="108"/>
                    </a:lnTo>
                    <a:lnTo>
                      <a:pt x="438" y="114"/>
                    </a:lnTo>
                    <a:lnTo>
                      <a:pt x="432" y="120"/>
                    </a:lnTo>
                    <a:lnTo>
                      <a:pt x="426" y="126"/>
                    </a:lnTo>
                    <a:lnTo>
                      <a:pt x="420" y="108"/>
                    </a:lnTo>
                    <a:lnTo>
                      <a:pt x="414" y="90"/>
                    </a:lnTo>
                    <a:lnTo>
                      <a:pt x="414" y="72"/>
                    </a:lnTo>
                    <a:lnTo>
                      <a:pt x="408" y="48"/>
                    </a:lnTo>
                    <a:lnTo>
                      <a:pt x="396" y="30"/>
                    </a:lnTo>
                    <a:lnTo>
                      <a:pt x="384" y="18"/>
                    </a:lnTo>
                    <a:lnTo>
                      <a:pt x="378" y="12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2" y="12"/>
                    </a:lnTo>
                    <a:lnTo>
                      <a:pt x="330" y="12"/>
                    </a:lnTo>
                    <a:lnTo>
                      <a:pt x="324" y="18"/>
                    </a:lnTo>
                    <a:lnTo>
                      <a:pt x="312" y="24"/>
                    </a:lnTo>
                    <a:lnTo>
                      <a:pt x="300" y="30"/>
                    </a:lnTo>
                    <a:lnTo>
                      <a:pt x="288" y="36"/>
                    </a:lnTo>
                    <a:lnTo>
                      <a:pt x="282" y="48"/>
                    </a:lnTo>
                    <a:lnTo>
                      <a:pt x="276" y="60"/>
                    </a:lnTo>
                    <a:lnTo>
                      <a:pt x="288" y="60"/>
                    </a:lnTo>
                    <a:lnTo>
                      <a:pt x="294" y="66"/>
                    </a:lnTo>
                    <a:lnTo>
                      <a:pt x="306" y="66"/>
                    </a:lnTo>
                    <a:lnTo>
                      <a:pt x="312" y="66"/>
                    </a:lnTo>
                    <a:lnTo>
                      <a:pt x="318" y="60"/>
                    </a:lnTo>
                    <a:lnTo>
                      <a:pt x="330" y="60"/>
                    </a:lnTo>
                    <a:lnTo>
                      <a:pt x="336" y="66"/>
                    </a:lnTo>
                    <a:lnTo>
                      <a:pt x="342" y="66"/>
                    </a:lnTo>
                    <a:lnTo>
                      <a:pt x="342" y="72"/>
                    </a:lnTo>
                    <a:lnTo>
                      <a:pt x="348" y="72"/>
                    </a:lnTo>
                    <a:lnTo>
                      <a:pt x="354" y="78"/>
                    </a:lnTo>
                    <a:lnTo>
                      <a:pt x="348" y="84"/>
                    </a:lnTo>
                    <a:lnTo>
                      <a:pt x="348" y="78"/>
                    </a:lnTo>
                    <a:lnTo>
                      <a:pt x="342" y="78"/>
                    </a:lnTo>
                    <a:lnTo>
                      <a:pt x="336" y="78"/>
                    </a:lnTo>
                    <a:lnTo>
                      <a:pt x="330" y="84"/>
                    </a:lnTo>
                    <a:lnTo>
                      <a:pt x="318" y="90"/>
                    </a:lnTo>
                    <a:lnTo>
                      <a:pt x="318" y="96"/>
                    </a:lnTo>
                    <a:lnTo>
                      <a:pt x="312" y="108"/>
                    </a:lnTo>
                    <a:lnTo>
                      <a:pt x="312" y="120"/>
                    </a:lnTo>
                    <a:lnTo>
                      <a:pt x="312" y="126"/>
                    </a:lnTo>
                    <a:lnTo>
                      <a:pt x="318" y="138"/>
                    </a:lnTo>
                    <a:lnTo>
                      <a:pt x="324" y="144"/>
                    </a:lnTo>
                    <a:lnTo>
                      <a:pt x="330" y="150"/>
                    </a:lnTo>
                    <a:lnTo>
                      <a:pt x="336" y="156"/>
                    </a:lnTo>
                    <a:lnTo>
                      <a:pt x="348" y="162"/>
                    </a:lnTo>
                    <a:lnTo>
                      <a:pt x="354" y="168"/>
                    </a:lnTo>
                    <a:lnTo>
                      <a:pt x="336" y="180"/>
                    </a:lnTo>
                    <a:lnTo>
                      <a:pt x="330" y="174"/>
                    </a:lnTo>
                    <a:lnTo>
                      <a:pt x="324" y="162"/>
                    </a:lnTo>
                    <a:lnTo>
                      <a:pt x="318" y="156"/>
                    </a:lnTo>
                    <a:lnTo>
                      <a:pt x="312" y="150"/>
                    </a:lnTo>
                    <a:lnTo>
                      <a:pt x="300" y="144"/>
                    </a:lnTo>
                    <a:lnTo>
                      <a:pt x="288" y="144"/>
                    </a:lnTo>
                    <a:lnTo>
                      <a:pt x="282" y="150"/>
                    </a:lnTo>
                    <a:lnTo>
                      <a:pt x="276" y="150"/>
                    </a:lnTo>
                    <a:lnTo>
                      <a:pt x="270" y="150"/>
                    </a:lnTo>
                    <a:lnTo>
                      <a:pt x="264" y="156"/>
                    </a:lnTo>
                    <a:lnTo>
                      <a:pt x="264" y="162"/>
                    </a:lnTo>
                    <a:lnTo>
                      <a:pt x="264" y="168"/>
                    </a:lnTo>
                    <a:lnTo>
                      <a:pt x="270" y="168"/>
                    </a:lnTo>
                    <a:lnTo>
                      <a:pt x="276" y="174"/>
                    </a:lnTo>
                    <a:lnTo>
                      <a:pt x="282" y="174"/>
                    </a:lnTo>
                    <a:lnTo>
                      <a:pt x="288" y="174"/>
                    </a:lnTo>
                    <a:lnTo>
                      <a:pt x="288" y="180"/>
                    </a:lnTo>
                    <a:lnTo>
                      <a:pt x="294" y="186"/>
                    </a:lnTo>
                    <a:lnTo>
                      <a:pt x="300" y="192"/>
                    </a:lnTo>
                    <a:lnTo>
                      <a:pt x="300" y="198"/>
                    </a:lnTo>
                    <a:lnTo>
                      <a:pt x="306" y="210"/>
                    </a:lnTo>
                    <a:lnTo>
                      <a:pt x="312" y="222"/>
                    </a:lnTo>
                    <a:lnTo>
                      <a:pt x="324" y="228"/>
                    </a:lnTo>
                    <a:lnTo>
                      <a:pt x="330" y="234"/>
                    </a:lnTo>
                    <a:lnTo>
                      <a:pt x="342" y="234"/>
                    </a:lnTo>
                    <a:lnTo>
                      <a:pt x="354" y="240"/>
                    </a:lnTo>
                    <a:lnTo>
                      <a:pt x="342" y="246"/>
                    </a:lnTo>
                    <a:lnTo>
                      <a:pt x="336" y="252"/>
                    </a:lnTo>
                    <a:lnTo>
                      <a:pt x="324" y="258"/>
                    </a:lnTo>
                    <a:lnTo>
                      <a:pt x="318" y="264"/>
                    </a:lnTo>
                    <a:lnTo>
                      <a:pt x="306" y="264"/>
                    </a:lnTo>
                    <a:lnTo>
                      <a:pt x="294" y="264"/>
                    </a:lnTo>
                    <a:lnTo>
                      <a:pt x="294" y="270"/>
                    </a:lnTo>
                    <a:lnTo>
                      <a:pt x="294" y="276"/>
                    </a:lnTo>
                    <a:lnTo>
                      <a:pt x="294" y="282"/>
                    </a:lnTo>
                    <a:lnTo>
                      <a:pt x="300" y="288"/>
                    </a:lnTo>
                    <a:lnTo>
                      <a:pt x="306" y="294"/>
                    </a:lnTo>
                    <a:lnTo>
                      <a:pt x="312" y="300"/>
                    </a:lnTo>
                    <a:lnTo>
                      <a:pt x="312" y="306"/>
                    </a:lnTo>
                    <a:lnTo>
                      <a:pt x="324" y="306"/>
                    </a:lnTo>
                    <a:lnTo>
                      <a:pt x="330" y="306"/>
                    </a:lnTo>
                    <a:lnTo>
                      <a:pt x="336" y="306"/>
                    </a:lnTo>
                    <a:lnTo>
                      <a:pt x="342" y="306"/>
                    </a:lnTo>
                    <a:lnTo>
                      <a:pt x="354" y="306"/>
                    </a:lnTo>
                    <a:lnTo>
                      <a:pt x="348" y="318"/>
                    </a:lnTo>
                    <a:lnTo>
                      <a:pt x="342" y="324"/>
                    </a:lnTo>
                    <a:lnTo>
                      <a:pt x="342" y="330"/>
                    </a:lnTo>
                    <a:lnTo>
                      <a:pt x="336" y="342"/>
                    </a:lnTo>
                    <a:lnTo>
                      <a:pt x="330" y="348"/>
                    </a:lnTo>
                    <a:lnTo>
                      <a:pt x="330" y="354"/>
                    </a:lnTo>
                    <a:lnTo>
                      <a:pt x="324" y="360"/>
                    </a:lnTo>
                    <a:lnTo>
                      <a:pt x="318" y="360"/>
                    </a:lnTo>
                    <a:lnTo>
                      <a:pt x="312" y="366"/>
                    </a:lnTo>
                    <a:lnTo>
                      <a:pt x="318" y="372"/>
                    </a:lnTo>
                    <a:lnTo>
                      <a:pt x="330" y="372"/>
                    </a:lnTo>
                    <a:lnTo>
                      <a:pt x="336" y="372"/>
                    </a:lnTo>
                    <a:lnTo>
                      <a:pt x="348" y="372"/>
                    </a:lnTo>
                    <a:lnTo>
                      <a:pt x="354" y="366"/>
                    </a:lnTo>
                    <a:lnTo>
                      <a:pt x="360" y="366"/>
                    </a:lnTo>
                    <a:lnTo>
                      <a:pt x="360" y="378"/>
                    </a:lnTo>
                    <a:lnTo>
                      <a:pt x="360" y="384"/>
                    </a:lnTo>
                    <a:lnTo>
                      <a:pt x="360" y="396"/>
                    </a:lnTo>
                    <a:lnTo>
                      <a:pt x="360" y="402"/>
                    </a:lnTo>
                    <a:lnTo>
                      <a:pt x="354" y="414"/>
                    </a:lnTo>
                    <a:lnTo>
                      <a:pt x="348" y="420"/>
                    </a:lnTo>
                    <a:lnTo>
                      <a:pt x="330" y="402"/>
                    </a:lnTo>
                    <a:lnTo>
                      <a:pt x="312" y="384"/>
                    </a:lnTo>
                    <a:lnTo>
                      <a:pt x="294" y="366"/>
                    </a:lnTo>
                    <a:lnTo>
                      <a:pt x="282" y="342"/>
                    </a:lnTo>
                    <a:lnTo>
                      <a:pt x="270" y="324"/>
                    </a:lnTo>
                    <a:lnTo>
                      <a:pt x="252" y="300"/>
                    </a:lnTo>
                    <a:lnTo>
                      <a:pt x="240" y="282"/>
                    </a:lnTo>
                    <a:lnTo>
                      <a:pt x="246" y="264"/>
                    </a:lnTo>
                    <a:lnTo>
                      <a:pt x="252" y="246"/>
                    </a:lnTo>
                    <a:lnTo>
                      <a:pt x="264" y="228"/>
                    </a:lnTo>
                    <a:lnTo>
                      <a:pt x="270" y="210"/>
                    </a:lnTo>
                    <a:lnTo>
                      <a:pt x="270" y="186"/>
                    </a:lnTo>
                    <a:lnTo>
                      <a:pt x="258" y="180"/>
                    </a:lnTo>
                    <a:lnTo>
                      <a:pt x="258" y="168"/>
                    </a:lnTo>
                    <a:lnTo>
                      <a:pt x="252" y="156"/>
                    </a:lnTo>
                    <a:lnTo>
                      <a:pt x="252" y="150"/>
                    </a:lnTo>
                    <a:lnTo>
                      <a:pt x="252" y="138"/>
                    </a:lnTo>
                    <a:lnTo>
                      <a:pt x="246" y="126"/>
                    </a:lnTo>
                    <a:lnTo>
                      <a:pt x="234" y="126"/>
                    </a:lnTo>
                    <a:lnTo>
                      <a:pt x="222" y="114"/>
                    </a:lnTo>
                    <a:lnTo>
                      <a:pt x="204" y="108"/>
                    </a:lnTo>
                    <a:lnTo>
                      <a:pt x="192" y="102"/>
                    </a:lnTo>
                    <a:lnTo>
                      <a:pt x="180" y="102"/>
                    </a:lnTo>
                    <a:lnTo>
                      <a:pt x="168" y="108"/>
                    </a:lnTo>
                    <a:lnTo>
                      <a:pt x="168" y="120"/>
                    </a:lnTo>
                    <a:lnTo>
                      <a:pt x="180" y="132"/>
                    </a:lnTo>
                    <a:lnTo>
                      <a:pt x="186" y="138"/>
                    </a:lnTo>
                    <a:lnTo>
                      <a:pt x="198" y="150"/>
                    </a:lnTo>
                    <a:lnTo>
                      <a:pt x="204" y="162"/>
                    </a:lnTo>
                    <a:lnTo>
                      <a:pt x="204" y="174"/>
                    </a:lnTo>
                    <a:lnTo>
                      <a:pt x="198" y="180"/>
                    </a:lnTo>
                    <a:lnTo>
                      <a:pt x="192" y="192"/>
                    </a:lnTo>
                    <a:lnTo>
                      <a:pt x="192" y="204"/>
                    </a:lnTo>
                    <a:lnTo>
                      <a:pt x="192" y="216"/>
                    </a:lnTo>
                    <a:lnTo>
                      <a:pt x="192" y="228"/>
                    </a:lnTo>
                    <a:lnTo>
                      <a:pt x="192" y="240"/>
                    </a:lnTo>
                    <a:lnTo>
                      <a:pt x="186" y="240"/>
                    </a:lnTo>
                    <a:lnTo>
                      <a:pt x="186" y="234"/>
                    </a:lnTo>
                    <a:lnTo>
                      <a:pt x="186" y="228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80" y="210"/>
                    </a:lnTo>
                    <a:lnTo>
                      <a:pt x="174" y="198"/>
                    </a:lnTo>
                    <a:lnTo>
                      <a:pt x="168" y="186"/>
                    </a:lnTo>
                    <a:lnTo>
                      <a:pt x="168" y="174"/>
                    </a:lnTo>
                    <a:lnTo>
                      <a:pt x="162" y="162"/>
                    </a:lnTo>
                    <a:lnTo>
                      <a:pt x="150" y="156"/>
                    </a:lnTo>
                    <a:lnTo>
                      <a:pt x="138" y="156"/>
                    </a:lnTo>
                    <a:lnTo>
                      <a:pt x="120" y="150"/>
                    </a:lnTo>
                    <a:lnTo>
                      <a:pt x="108" y="144"/>
                    </a:lnTo>
                    <a:lnTo>
                      <a:pt x="96" y="138"/>
                    </a:lnTo>
                    <a:lnTo>
                      <a:pt x="78" y="138"/>
                    </a:lnTo>
                    <a:lnTo>
                      <a:pt x="66" y="138"/>
                    </a:lnTo>
                    <a:lnTo>
                      <a:pt x="42" y="156"/>
                    </a:lnTo>
                    <a:lnTo>
                      <a:pt x="42" y="168"/>
                    </a:lnTo>
                    <a:lnTo>
                      <a:pt x="60" y="168"/>
                    </a:lnTo>
                    <a:lnTo>
                      <a:pt x="78" y="174"/>
                    </a:lnTo>
                    <a:lnTo>
                      <a:pt x="102" y="180"/>
                    </a:lnTo>
                    <a:lnTo>
                      <a:pt x="108" y="192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10"/>
                    </a:lnTo>
                    <a:lnTo>
                      <a:pt x="90" y="216"/>
                    </a:lnTo>
                    <a:lnTo>
                      <a:pt x="90" y="228"/>
                    </a:lnTo>
                    <a:lnTo>
                      <a:pt x="90" y="234"/>
                    </a:lnTo>
                    <a:lnTo>
                      <a:pt x="96" y="246"/>
                    </a:lnTo>
                    <a:lnTo>
                      <a:pt x="102" y="258"/>
                    </a:lnTo>
                    <a:lnTo>
                      <a:pt x="114" y="270"/>
                    </a:lnTo>
                    <a:lnTo>
                      <a:pt x="126" y="276"/>
                    </a:lnTo>
                    <a:lnTo>
                      <a:pt x="138" y="282"/>
                    </a:lnTo>
                    <a:lnTo>
                      <a:pt x="150" y="288"/>
                    </a:lnTo>
                    <a:lnTo>
                      <a:pt x="150" y="294"/>
                    </a:lnTo>
                    <a:lnTo>
                      <a:pt x="144" y="294"/>
                    </a:lnTo>
                    <a:lnTo>
                      <a:pt x="144" y="300"/>
                    </a:lnTo>
                    <a:lnTo>
                      <a:pt x="138" y="300"/>
                    </a:lnTo>
                    <a:lnTo>
                      <a:pt x="126" y="288"/>
                    </a:lnTo>
                    <a:lnTo>
                      <a:pt x="114" y="282"/>
                    </a:lnTo>
                    <a:lnTo>
                      <a:pt x="102" y="270"/>
                    </a:lnTo>
                    <a:lnTo>
                      <a:pt x="96" y="264"/>
                    </a:lnTo>
                    <a:lnTo>
                      <a:pt x="84" y="258"/>
                    </a:lnTo>
                    <a:lnTo>
                      <a:pt x="66" y="258"/>
                    </a:lnTo>
                    <a:lnTo>
                      <a:pt x="54" y="258"/>
                    </a:lnTo>
                    <a:lnTo>
                      <a:pt x="42" y="264"/>
                    </a:lnTo>
                    <a:lnTo>
                      <a:pt x="30" y="270"/>
                    </a:lnTo>
                    <a:lnTo>
                      <a:pt x="18" y="276"/>
                    </a:lnTo>
                    <a:lnTo>
                      <a:pt x="12" y="288"/>
                    </a:lnTo>
                    <a:lnTo>
                      <a:pt x="0" y="300"/>
                    </a:lnTo>
                    <a:lnTo>
                      <a:pt x="0" y="306"/>
                    </a:lnTo>
                    <a:lnTo>
                      <a:pt x="0" y="312"/>
                    </a:lnTo>
                    <a:lnTo>
                      <a:pt x="0" y="324"/>
                    </a:lnTo>
                    <a:lnTo>
                      <a:pt x="0" y="336"/>
                    </a:lnTo>
                    <a:lnTo>
                      <a:pt x="6" y="342"/>
                    </a:lnTo>
                    <a:lnTo>
                      <a:pt x="6" y="354"/>
                    </a:lnTo>
                    <a:lnTo>
                      <a:pt x="6" y="348"/>
                    </a:lnTo>
                    <a:lnTo>
                      <a:pt x="12" y="348"/>
                    </a:lnTo>
                    <a:lnTo>
                      <a:pt x="18" y="342"/>
                    </a:lnTo>
                    <a:lnTo>
                      <a:pt x="24" y="330"/>
                    </a:lnTo>
                    <a:lnTo>
                      <a:pt x="30" y="324"/>
                    </a:lnTo>
                    <a:lnTo>
                      <a:pt x="36" y="318"/>
                    </a:lnTo>
                    <a:lnTo>
                      <a:pt x="48" y="312"/>
                    </a:lnTo>
                    <a:lnTo>
                      <a:pt x="54" y="306"/>
                    </a:lnTo>
                    <a:lnTo>
                      <a:pt x="66" y="330"/>
                    </a:lnTo>
                    <a:lnTo>
                      <a:pt x="72" y="330"/>
                    </a:lnTo>
                    <a:lnTo>
                      <a:pt x="72" y="336"/>
                    </a:lnTo>
                    <a:lnTo>
                      <a:pt x="78" y="342"/>
                    </a:lnTo>
                    <a:lnTo>
                      <a:pt x="78" y="348"/>
                    </a:lnTo>
                    <a:lnTo>
                      <a:pt x="84" y="354"/>
                    </a:lnTo>
                    <a:lnTo>
                      <a:pt x="84" y="360"/>
                    </a:lnTo>
                    <a:lnTo>
                      <a:pt x="90" y="366"/>
                    </a:lnTo>
                    <a:lnTo>
                      <a:pt x="102" y="366"/>
                    </a:lnTo>
                    <a:lnTo>
                      <a:pt x="108" y="366"/>
                    </a:lnTo>
                    <a:lnTo>
                      <a:pt x="114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26" y="378"/>
                    </a:lnTo>
                    <a:lnTo>
                      <a:pt x="126" y="384"/>
                    </a:lnTo>
                    <a:lnTo>
                      <a:pt x="120" y="396"/>
                    </a:lnTo>
                    <a:lnTo>
                      <a:pt x="114" y="402"/>
                    </a:lnTo>
                    <a:lnTo>
                      <a:pt x="114" y="414"/>
                    </a:lnTo>
                    <a:lnTo>
                      <a:pt x="108" y="420"/>
                    </a:lnTo>
                    <a:lnTo>
                      <a:pt x="102" y="420"/>
                    </a:lnTo>
                    <a:lnTo>
                      <a:pt x="96" y="426"/>
                    </a:lnTo>
                    <a:lnTo>
                      <a:pt x="90" y="426"/>
                    </a:lnTo>
                    <a:lnTo>
                      <a:pt x="90" y="420"/>
                    </a:lnTo>
                    <a:lnTo>
                      <a:pt x="84" y="420"/>
                    </a:lnTo>
                    <a:lnTo>
                      <a:pt x="78" y="420"/>
                    </a:lnTo>
                    <a:lnTo>
                      <a:pt x="78" y="426"/>
                    </a:lnTo>
                    <a:lnTo>
                      <a:pt x="84" y="438"/>
                    </a:lnTo>
                    <a:lnTo>
                      <a:pt x="96" y="444"/>
                    </a:lnTo>
                    <a:lnTo>
                      <a:pt x="108" y="456"/>
                    </a:lnTo>
                    <a:lnTo>
                      <a:pt x="120" y="462"/>
                    </a:lnTo>
                    <a:lnTo>
                      <a:pt x="132" y="468"/>
                    </a:lnTo>
                    <a:lnTo>
                      <a:pt x="150" y="468"/>
                    </a:lnTo>
                    <a:lnTo>
                      <a:pt x="150" y="474"/>
                    </a:lnTo>
                    <a:lnTo>
                      <a:pt x="144" y="486"/>
                    </a:lnTo>
                    <a:lnTo>
                      <a:pt x="138" y="486"/>
                    </a:lnTo>
                    <a:lnTo>
                      <a:pt x="132" y="492"/>
                    </a:lnTo>
                    <a:lnTo>
                      <a:pt x="126" y="498"/>
                    </a:lnTo>
                    <a:lnTo>
                      <a:pt x="120" y="504"/>
                    </a:lnTo>
                    <a:lnTo>
                      <a:pt x="120" y="510"/>
                    </a:lnTo>
                    <a:lnTo>
                      <a:pt x="126" y="516"/>
                    </a:lnTo>
                    <a:lnTo>
                      <a:pt x="138" y="522"/>
                    </a:lnTo>
                    <a:lnTo>
                      <a:pt x="150" y="528"/>
                    </a:lnTo>
                    <a:lnTo>
                      <a:pt x="162" y="534"/>
                    </a:lnTo>
                    <a:lnTo>
                      <a:pt x="174" y="534"/>
                    </a:lnTo>
                    <a:lnTo>
                      <a:pt x="186" y="534"/>
                    </a:lnTo>
                    <a:lnTo>
                      <a:pt x="186" y="546"/>
                    </a:lnTo>
                    <a:lnTo>
                      <a:pt x="180" y="552"/>
                    </a:lnTo>
                    <a:lnTo>
                      <a:pt x="174" y="564"/>
                    </a:lnTo>
                    <a:lnTo>
                      <a:pt x="168" y="576"/>
                    </a:lnTo>
                    <a:lnTo>
                      <a:pt x="162" y="582"/>
                    </a:lnTo>
                    <a:lnTo>
                      <a:pt x="150" y="588"/>
                    </a:lnTo>
                    <a:lnTo>
                      <a:pt x="156" y="594"/>
                    </a:lnTo>
                    <a:lnTo>
                      <a:pt x="162" y="600"/>
                    </a:lnTo>
                    <a:lnTo>
                      <a:pt x="174" y="600"/>
                    </a:lnTo>
                    <a:lnTo>
                      <a:pt x="186" y="600"/>
                    </a:lnTo>
                    <a:lnTo>
                      <a:pt x="198" y="600"/>
                    </a:lnTo>
                    <a:lnTo>
                      <a:pt x="204" y="600"/>
                    </a:lnTo>
                    <a:lnTo>
                      <a:pt x="198" y="612"/>
                    </a:lnTo>
                    <a:lnTo>
                      <a:pt x="192" y="618"/>
                    </a:lnTo>
                    <a:lnTo>
                      <a:pt x="186" y="624"/>
                    </a:lnTo>
                    <a:lnTo>
                      <a:pt x="180" y="630"/>
                    </a:lnTo>
                    <a:lnTo>
                      <a:pt x="180" y="642"/>
                    </a:lnTo>
                    <a:lnTo>
                      <a:pt x="180" y="648"/>
                    </a:lnTo>
                    <a:lnTo>
                      <a:pt x="168" y="660"/>
                    </a:lnTo>
                    <a:lnTo>
                      <a:pt x="168" y="672"/>
                    </a:lnTo>
                    <a:lnTo>
                      <a:pt x="168" y="678"/>
                    </a:lnTo>
                    <a:lnTo>
                      <a:pt x="174" y="690"/>
                    </a:lnTo>
                    <a:lnTo>
                      <a:pt x="180" y="702"/>
                    </a:lnTo>
                    <a:lnTo>
                      <a:pt x="186" y="714"/>
                    </a:lnTo>
                    <a:lnTo>
                      <a:pt x="192" y="714"/>
                    </a:lnTo>
                    <a:lnTo>
                      <a:pt x="192" y="708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92" y="690"/>
                    </a:lnTo>
                    <a:lnTo>
                      <a:pt x="198" y="684"/>
                    </a:lnTo>
                    <a:lnTo>
                      <a:pt x="204" y="678"/>
                    </a:lnTo>
                    <a:lnTo>
                      <a:pt x="210" y="672"/>
                    </a:lnTo>
                    <a:lnTo>
                      <a:pt x="216" y="666"/>
                    </a:lnTo>
                    <a:lnTo>
                      <a:pt x="222" y="666"/>
                    </a:lnTo>
                    <a:lnTo>
                      <a:pt x="234" y="666"/>
                    </a:lnTo>
                    <a:lnTo>
                      <a:pt x="222" y="678"/>
                    </a:lnTo>
                    <a:lnTo>
                      <a:pt x="216" y="690"/>
                    </a:lnTo>
                    <a:lnTo>
                      <a:pt x="210" y="702"/>
                    </a:lnTo>
                    <a:lnTo>
                      <a:pt x="210" y="714"/>
                    </a:lnTo>
                    <a:lnTo>
                      <a:pt x="210" y="726"/>
                    </a:lnTo>
                    <a:lnTo>
                      <a:pt x="204" y="738"/>
                    </a:lnTo>
                    <a:lnTo>
                      <a:pt x="216" y="750"/>
                    </a:lnTo>
                    <a:lnTo>
                      <a:pt x="222" y="750"/>
                    </a:lnTo>
                    <a:lnTo>
                      <a:pt x="234" y="744"/>
                    </a:lnTo>
                    <a:lnTo>
                      <a:pt x="246" y="732"/>
                    </a:lnTo>
                    <a:lnTo>
                      <a:pt x="258" y="732"/>
                    </a:lnTo>
                    <a:lnTo>
                      <a:pt x="270" y="738"/>
                    </a:lnTo>
                    <a:lnTo>
                      <a:pt x="264" y="738"/>
                    </a:lnTo>
                    <a:lnTo>
                      <a:pt x="258" y="744"/>
                    </a:lnTo>
                    <a:lnTo>
                      <a:pt x="252" y="744"/>
                    </a:lnTo>
                    <a:lnTo>
                      <a:pt x="246" y="762"/>
                    </a:lnTo>
                    <a:lnTo>
                      <a:pt x="240" y="774"/>
                    </a:lnTo>
                    <a:lnTo>
                      <a:pt x="240" y="792"/>
                    </a:lnTo>
                    <a:lnTo>
                      <a:pt x="240" y="810"/>
                    </a:lnTo>
                    <a:lnTo>
                      <a:pt x="240" y="828"/>
                    </a:lnTo>
                    <a:lnTo>
                      <a:pt x="240" y="840"/>
                    </a:lnTo>
                    <a:lnTo>
                      <a:pt x="246" y="840"/>
                    </a:lnTo>
                    <a:lnTo>
                      <a:pt x="252" y="834"/>
                    </a:lnTo>
                    <a:lnTo>
                      <a:pt x="258" y="822"/>
                    </a:lnTo>
                    <a:lnTo>
                      <a:pt x="258" y="816"/>
                    </a:lnTo>
                    <a:lnTo>
                      <a:pt x="264" y="810"/>
                    </a:lnTo>
                    <a:lnTo>
                      <a:pt x="270" y="804"/>
                    </a:lnTo>
                    <a:lnTo>
                      <a:pt x="276" y="792"/>
                    </a:lnTo>
                    <a:lnTo>
                      <a:pt x="282" y="786"/>
                    </a:lnTo>
                    <a:lnTo>
                      <a:pt x="288" y="786"/>
                    </a:lnTo>
                    <a:lnTo>
                      <a:pt x="294" y="792"/>
                    </a:lnTo>
                    <a:lnTo>
                      <a:pt x="300" y="798"/>
                    </a:lnTo>
                    <a:lnTo>
                      <a:pt x="306" y="798"/>
                    </a:lnTo>
                    <a:lnTo>
                      <a:pt x="312" y="804"/>
                    </a:lnTo>
                    <a:lnTo>
                      <a:pt x="324" y="828"/>
                    </a:lnTo>
                    <a:lnTo>
                      <a:pt x="324" y="846"/>
                    </a:lnTo>
                    <a:lnTo>
                      <a:pt x="318" y="864"/>
                    </a:lnTo>
                    <a:lnTo>
                      <a:pt x="312" y="882"/>
                    </a:lnTo>
                    <a:lnTo>
                      <a:pt x="312" y="900"/>
                    </a:lnTo>
                    <a:lnTo>
                      <a:pt x="318" y="918"/>
                    </a:lnTo>
                    <a:lnTo>
                      <a:pt x="288" y="942"/>
                    </a:lnTo>
                    <a:lnTo>
                      <a:pt x="288" y="948"/>
                    </a:lnTo>
                    <a:lnTo>
                      <a:pt x="294" y="948"/>
                    </a:lnTo>
                    <a:lnTo>
                      <a:pt x="300" y="954"/>
                    </a:lnTo>
                    <a:lnTo>
                      <a:pt x="306" y="954"/>
                    </a:lnTo>
                    <a:lnTo>
                      <a:pt x="312" y="954"/>
                    </a:lnTo>
                    <a:lnTo>
                      <a:pt x="318" y="954"/>
                    </a:lnTo>
                    <a:lnTo>
                      <a:pt x="330" y="954"/>
                    </a:lnTo>
                    <a:lnTo>
                      <a:pt x="342" y="948"/>
                    </a:lnTo>
                    <a:lnTo>
                      <a:pt x="354" y="942"/>
                    </a:lnTo>
                    <a:lnTo>
                      <a:pt x="366" y="930"/>
                    </a:lnTo>
                    <a:lnTo>
                      <a:pt x="372" y="924"/>
                    </a:lnTo>
                    <a:lnTo>
                      <a:pt x="384" y="912"/>
                    </a:lnTo>
                    <a:lnTo>
                      <a:pt x="384" y="924"/>
                    </a:lnTo>
                    <a:lnTo>
                      <a:pt x="384" y="936"/>
                    </a:lnTo>
                    <a:lnTo>
                      <a:pt x="390" y="948"/>
                    </a:lnTo>
                    <a:lnTo>
                      <a:pt x="390" y="954"/>
                    </a:lnTo>
                    <a:lnTo>
                      <a:pt x="384" y="966"/>
                    </a:lnTo>
                    <a:lnTo>
                      <a:pt x="378" y="978"/>
                    </a:lnTo>
                    <a:lnTo>
                      <a:pt x="372" y="978"/>
                    </a:lnTo>
                    <a:lnTo>
                      <a:pt x="366" y="984"/>
                    </a:lnTo>
                    <a:lnTo>
                      <a:pt x="366" y="990"/>
                    </a:lnTo>
                    <a:lnTo>
                      <a:pt x="378" y="990"/>
                    </a:lnTo>
                    <a:lnTo>
                      <a:pt x="390" y="984"/>
                    </a:lnTo>
                    <a:lnTo>
                      <a:pt x="402" y="978"/>
                    </a:lnTo>
                    <a:lnTo>
                      <a:pt x="408" y="966"/>
                    </a:lnTo>
                    <a:lnTo>
                      <a:pt x="420" y="954"/>
                    </a:lnTo>
                    <a:lnTo>
                      <a:pt x="426" y="948"/>
                    </a:lnTo>
                    <a:lnTo>
                      <a:pt x="432" y="942"/>
                    </a:lnTo>
                    <a:lnTo>
                      <a:pt x="438" y="942"/>
                    </a:lnTo>
                    <a:lnTo>
                      <a:pt x="444" y="942"/>
                    </a:lnTo>
                    <a:lnTo>
                      <a:pt x="444" y="936"/>
                    </a:lnTo>
                    <a:lnTo>
                      <a:pt x="450" y="930"/>
                    </a:lnTo>
                    <a:lnTo>
                      <a:pt x="456" y="936"/>
                    </a:lnTo>
                    <a:lnTo>
                      <a:pt x="456" y="948"/>
                    </a:lnTo>
                    <a:lnTo>
                      <a:pt x="456" y="960"/>
                    </a:lnTo>
                    <a:lnTo>
                      <a:pt x="456" y="972"/>
                    </a:lnTo>
                    <a:lnTo>
                      <a:pt x="462" y="984"/>
                    </a:lnTo>
                    <a:lnTo>
                      <a:pt x="462" y="996"/>
                    </a:lnTo>
                    <a:lnTo>
                      <a:pt x="468" y="1008"/>
                    </a:lnTo>
                    <a:lnTo>
                      <a:pt x="474" y="1020"/>
                    </a:lnTo>
                    <a:lnTo>
                      <a:pt x="486" y="1032"/>
                    </a:lnTo>
                    <a:lnTo>
                      <a:pt x="498" y="1044"/>
                    </a:lnTo>
                    <a:lnTo>
                      <a:pt x="504" y="1050"/>
                    </a:lnTo>
                    <a:lnTo>
                      <a:pt x="510" y="1062"/>
                    </a:lnTo>
                    <a:lnTo>
                      <a:pt x="516" y="1062"/>
                    </a:lnTo>
                    <a:lnTo>
                      <a:pt x="522" y="1062"/>
                    </a:lnTo>
                    <a:lnTo>
                      <a:pt x="516" y="1050"/>
                    </a:lnTo>
                    <a:lnTo>
                      <a:pt x="516" y="1032"/>
                    </a:lnTo>
                    <a:lnTo>
                      <a:pt x="516" y="1020"/>
                    </a:lnTo>
                    <a:lnTo>
                      <a:pt x="522" y="1002"/>
                    </a:lnTo>
                    <a:lnTo>
                      <a:pt x="522" y="990"/>
                    </a:lnTo>
                    <a:lnTo>
                      <a:pt x="528" y="972"/>
                    </a:lnTo>
                    <a:lnTo>
                      <a:pt x="534" y="996"/>
                    </a:lnTo>
                    <a:lnTo>
                      <a:pt x="546" y="1014"/>
                    </a:lnTo>
                    <a:lnTo>
                      <a:pt x="552" y="1026"/>
                    </a:lnTo>
                    <a:lnTo>
                      <a:pt x="570" y="1044"/>
                    </a:lnTo>
                    <a:lnTo>
                      <a:pt x="582" y="1056"/>
                    </a:lnTo>
                    <a:lnTo>
                      <a:pt x="594" y="1074"/>
                    </a:lnTo>
                    <a:lnTo>
                      <a:pt x="606" y="1074"/>
                    </a:lnTo>
                    <a:lnTo>
                      <a:pt x="606" y="1062"/>
                    </a:lnTo>
                    <a:lnTo>
                      <a:pt x="606" y="1050"/>
                    </a:lnTo>
                    <a:lnTo>
                      <a:pt x="606" y="1044"/>
                    </a:lnTo>
                    <a:lnTo>
                      <a:pt x="606" y="1032"/>
                    </a:lnTo>
                    <a:lnTo>
                      <a:pt x="612" y="1026"/>
                    </a:lnTo>
                    <a:lnTo>
                      <a:pt x="618" y="1014"/>
                    </a:lnTo>
                    <a:lnTo>
                      <a:pt x="618" y="1020"/>
                    </a:lnTo>
                    <a:lnTo>
                      <a:pt x="618" y="1032"/>
                    </a:lnTo>
                    <a:lnTo>
                      <a:pt x="624" y="1044"/>
                    </a:lnTo>
                    <a:lnTo>
                      <a:pt x="630" y="1056"/>
                    </a:lnTo>
                    <a:lnTo>
                      <a:pt x="636" y="1068"/>
                    </a:lnTo>
                    <a:lnTo>
                      <a:pt x="642" y="1080"/>
                    </a:lnTo>
                    <a:lnTo>
                      <a:pt x="654" y="1092"/>
                    </a:lnTo>
                    <a:lnTo>
                      <a:pt x="660" y="1092"/>
                    </a:lnTo>
                    <a:lnTo>
                      <a:pt x="666" y="1080"/>
                    </a:lnTo>
                    <a:lnTo>
                      <a:pt x="666" y="1074"/>
                    </a:lnTo>
                    <a:lnTo>
                      <a:pt x="672" y="1062"/>
                    </a:lnTo>
                    <a:lnTo>
                      <a:pt x="672" y="1050"/>
                    </a:lnTo>
                    <a:lnTo>
                      <a:pt x="678" y="1044"/>
                    </a:lnTo>
                    <a:lnTo>
                      <a:pt x="678" y="1050"/>
                    </a:lnTo>
                    <a:lnTo>
                      <a:pt x="684" y="1056"/>
                    </a:lnTo>
                    <a:lnTo>
                      <a:pt x="690" y="1068"/>
                    </a:lnTo>
                    <a:lnTo>
                      <a:pt x="690" y="1074"/>
                    </a:lnTo>
                    <a:lnTo>
                      <a:pt x="696" y="1080"/>
                    </a:lnTo>
                    <a:lnTo>
                      <a:pt x="696" y="1092"/>
                    </a:lnTo>
                    <a:lnTo>
                      <a:pt x="702" y="1098"/>
                    </a:lnTo>
                    <a:lnTo>
                      <a:pt x="696" y="1110"/>
                    </a:lnTo>
                    <a:lnTo>
                      <a:pt x="696" y="1116"/>
                    </a:lnTo>
                    <a:lnTo>
                      <a:pt x="690" y="1128"/>
                    </a:lnTo>
                    <a:lnTo>
                      <a:pt x="690" y="1134"/>
                    </a:lnTo>
                    <a:lnTo>
                      <a:pt x="684" y="1146"/>
                    </a:lnTo>
                    <a:lnTo>
                      <a:pt x="696" y="1146"/>
                    </a:lnTo>
                    <a:lnTo>
                      <a:pt x="708" y="1140"/>
                    </a:lnTo>
                    <a:lnTo>
                      <a:pt x="720" y="1134"/>
                    </a:lnTo>
                    <a:lnTo>
                      <a:pt x="726" y="1128"/>
                    </a:lnTo>
                    <a:lnTo>
                      <a:pt x="738" y="1122"/>
                    </a:lnTo>
                    <a:lnTo>
                      <a:pt x="750" y="1116"/>
                    </a:lnTo>
                    <a:lnTo>
                      <a:pt x="750" y="1122"/>
                    </a:lnTo>
                    <a:lnTo>
                      <a:pt x="756" y="1134"/>
                    </a:lnTo>
                    <a:lnTo>
                      <a:pt x="762" y="1146"/>
                    </a:lnTo>
                    <a:lnTo>
                      <a:pt x="762" y="1158"/>
                    </a:lnTo>
                    <a:lnTo>
                      <a:pt x="768" y="1170"/>
                    </a:lnTo>
                    <a:lnTo>
                      <a:pt x="774" y="1182"/>
                    </a:lnTo>
                    <a:lnTo>
                      <a:pt x="816" y="1158"/>
                    </a:lnTo>
                    <a:lnTo>
                      <a:pt x="834" y="1158"/>
                    </a:lnTo>
                    <a:lnTo>
                      <a:pt x="846" y="1164"/>
                    </a:lnTo>
                    <a:lnTo>
                      <a:pt x="858" y="1176"/>
                    </a:lnTo>
                    <a:lnTo>
                      <a:pt x="864" y="1188"/>
                    </a:lnTo>
                    <a:lnTo>
                      <a:pt x="876" y="1200"/>
                    </a:lnTo>
                    <a:lnTo>
                      <a:pt x="888" y="1212"/>
                    </a:lnTo>
                    <a:lnTo>
                      <a:pt x="882" y="1212"/>
                    </a:lnTo>
                    <a:lnTo>
                      <a:pt x="876" y="1212"/>
                    </a:lnTo>
                    <a:lnTo>
                      <a:pt x="870" y="1218"/>
                    </a:lnTo>
                    <a:lnTo>
                      <a:pt x="864" y="1218"/>
                    </a:lnTo>
                    <a:lnTo>
                      <a:pt x="864" y="1224"/>
                    </a:lnTo>
                    <a:lnTo>
                      <a:pt x="858" y="1224"/>
                    </a:lnTo>
                    <a:lnTo>
                      <a:pt x="852" y="1224"/>
                    </a:lnTo>
                    <a:lnTo>
                      <a:pt x="846" y="1224"/>
                    </a:lnTo>
                    <a:lnTo>
                      <a:pt x="840" y="1218"/>
                    </a:lnTo>
                    <a:lnTo>
                      <a:pt x="834" y="1218"/>
                    </a:lnTo>
                    <a:lnTo>
                      <a:pt x="828" y="1218"/>
                    </a:lnTo>
                    <a:lnTo>
                      <a:pt x="828" y="1224"/>
                    </a:lnTo>
                    <a:lnTo>
                      <a:pt x="834" y="1236"/>
                    </a:lnTo>
                    <a:lnTo>
                      <a:pt x="846" y="1242"/>
                    </a:lnTo>
                    <a:lnTo>
                      <a:pt x="858" y="1254"/>
                    </a:lnTo>
                    <a:lnTo>
                      <a:pt x="870" y="1260"/>
                    </a:lnTo>
                    <a:lnTo>
                      <a:pt x="882" y="1272"/>
                    </a:lnTo>
                    <a:lnTo>
                      <a:pt x="888" y="1278"/>
                    </a:lnTo>
                    <a:lnTo>
                      <a:pt x="876" y="1278"/>
                    </a:lnTo>
                    <a:lnTo>
                      <a:pt x="858" y="1284"/>
                    </a:lnTo>
                    <a:lnTo>
                      <a:pt x="846" y="1290"/>
                    </a:lnTo>
                    <a:lnTo>
                      <a:pt x="828" y="1296"/>
                    </a:lnTo>
                    <a:lnTo>
                      <a:pt x="816" y="1302"/>
                    </a:lnTo>
                    <a:lnTo>
                      <a:pt x="798" y="1308"/>
                    </a:lnTo>
                    <a:lnTo>
                      <a:pt x="774" y="1332"/>
                    </a:lnTo>
                    <a:lnTo>
                      <a:pt x="750" y="1362"/>
                    </a:lnTo>
                    <a:lnTo>
                      <a:pt x="726" y="1386"/>
                    </a:lnTo>
                    <a:lnTo>
                      <a:pt x="708" y="1416"/>
                    </a:lnTo>
                    <a:lnTo>
                      <a:pt x="690" y="1446"/>
                    </a:lnTo>
                    <a:lnTo>
                      <a:pt x="684" y="1482"/>
                    </a:lnTo>
                    <a:lnTo>
                      <a:pt x="678" y="1518"/>
                    </a:lnTo>
                    <a:lnTo>
                      <a:pt x="672" y="1554"/>
                    </a:lnTo>
                    <a:lnTo>
                      <a:pt x="672" y="1596"/>
                    </a:lnTo>
                    <a:lnTo>
                      <a:pt x="678" y="1632"/>
                    </a:lnTo>
                    <a:lnTo>
                      <a:pt x="690" y="1668"/>
                    </a:lnTo>
                    <a:lnTo>
                      <a:pt x="708" y="1704"/>
                    </a:lnTo>
                    <a:lnTo>
                      <a:pt x="720" y="1740"/>
                    </a:lnTo>
                    <a:lnTo>
                      <a:pt x="714" y="1770"/>
                    </a:lnTo>
                    <a:lnTo>
                      <a:pt x="696" y="1794"/>
                    </a:lnTo>
                    <a:lnTo>
                      <a:pt x="678" y="1818"/>
                    </a:lnTo>
                    <a:lnTo>
                      <a:pt x="654" y="1842"/>
                    </a:lnTo>
                    <a:lnTo>
                      <a:pt x="636" y="1872"/>
                    </a:lnTo>
                    <a:lnTo>
                      <a:pt x="624" y="1872"/>
                    </a:lnTo>
                    <a:lnTo>
                      <a:pt x="618" y="1884"/>
                    </a:lnTo>
                    <a:lnTo>
                      <a:pt x="612" y="1896"/>
                    </a:lnTo>
                    <a:lnTo>
                      <a:pt x="600" y="1902"/>
                    </a:lnTo>
                    <a:lnTo>
                      <a:pt x="588" y="1908"/>
                    </a:lnTo>
                    <a:lnTo>
                      <a:pt x="576" y="1914"/>
                    </a:lnTo>
                    <a:lnTo>
                      <a:pt x="564" y="1914"/>
                    </a:lnTo>
                    <a:lnTo>
                      <a:pt x="558" y="1908"/>
                    </a:lnTo>
                    <a:lnTo>
                      <a:pt x="558" y="1896"/>
                    </a:lnTo>
                    <a:lnTo>
                      <a:pt x="552" y="1890"/>
                    </a:lnTo>
                    <a:lnTo>
                      <a:pt x="552" y="1884"/>
                    </a:lnTo>
                    <a:lnTo>
                      <a:pt x="546" y="1878"/>
                    </a:lnTo>
                    <a:lnTo>
                      <a:pt x="540" y="1872"/>
                    </a:lnTo>
                    <a:lnTo>
                      <a:pt x="528" y="1866"/>
                    </a:lnTo>
                    <a:lnTo>
                      <a:pt x="522" y="1866"/>
                    </a:lnTo>
                    <a:lnTo>
                      <a:pt x="510" y="1866"/>
                    </a:lnTo>
                    <a:lnTo>
                      <a:pt x="504" y="1866"/>
                    </a:lnTo>
                    <a:lnTo>
                      <a:pt x="492" y="1866"/>
                    </a:lnTo>
                    <a:lnTo>
                      <a:pt x="486" y="1866"/>
                    </a:lnTo>
                    <a:lnTo>
                      <a:pt x="474" y="1872"/>
                    </a:lnTo>
                    <a:lnTo>
                      <a:pt x="462" y="1878"/>
                    </a:lnTo>
                    <a:lnTo>
                      <a:pt x="450" y="1878"/>
                    </a:lnTo>
                    <a:lnTo>
                      <a:pt x="438" y="1878"/>
                    </a:lnTo>
                    <a:lnTo>
                      <a:pt x="426" y="1878"/>
                    </a:lnTo>
                    <a:lnTo>
                      <a:pt x="414" y="1884"/>
                    </a:lnTo>
                    <a:lnTo>
                      <a:pt x="402" y="1884"/>
                    </a:lnTo>
                    <a:lnTo>
                      <a:pt x="396" y="1890"/>
                    </a:lnTo>
                    <a:lnTo>
                      <a:pt x="390" y="1896"/>
                    </a:lnTo>
                    <a:lnTo>
                      <a:pt x="390" y="1908"/>
                    </a:lnTo>
                    <a:lnTo>
                      <a:pt x="384" y="1914"/>
                    </a:lnTo>
                    <a:lnTo>
                      <a:pt x="378" y="1926"/>
                    </a:lnTo>
                    <a:lnTo>
                      <a:pt x="384" y="1926"/>
                    </a:lnTo>
                    <a:lnTo>
                      <a:pt x="396" y="1926"/>
                    </a:lnTo>
                    <a:lnTo>
                      <a:pt x="402" y="1926"/>
                    </a:lnTo>
                    <a:lnTo>
                      <a:pt x="408" y="1920"/>
                    </a:lnTo>
                    <a:lnTo>
                      <a:pt x="414" y="1920"/>
                    </a:lnTo>
                    <a:lnTo>
                      <a:pt x="426" y="1920"/>
                    </a:lnTo>
                    <a:lnTo>
                      <a:pt x="432" y="1920"/>
                    </a:lnTo>
                    <a:lnTo>
                      <a:pt x="438" y="1920"/>
                    </a:lnTo>
                    <a:lnTo>
                      <a:pt x="444" y="1926"/>
                    </a:lnTo>
                    <a:lnTo>
                      <a:pt x="450" y="1932"/>
                    </a:lnTo>
                    <a:lnTo>
                      <a:pt x="456" y="1938"/>
                    </a:lnTo>
                    <a:lnTo>
                      <a:pt x="462" y="1944"/>
                    </a:lnTo>
                    <a:lnTo>
                      <a:pt x="450" y="1944"/>
                    </a:lnTo>
                    <a:lnTo>
                      <a:pt x="438" y="1950"/>
                    </a:lnTo>
                    <a:lnTo>
                      <a:pt x="426" y="1962"/>
                    </a:lnTo>
                    <a:lnTo>
                      <a:pt x="414" y="1968"/>
                    </a:lnTo>
                    <a:lnTo>
                      <a:pt x="408" y="1980"/>
                    </a:lnTo>
                    <a:lnTo>
                      <a:pt x="402" y="1992"/>
                    </a:lnTo>
                    <a:lnTo>
                      <a:pt x="402" y="2004"/>
                    </a:lnTo>
                    <a:lnTo>
                      <a:pt x="402" y="2016"/>
                    </a:lnTo>
                    <a:lnTo>
                      <a:pt x="402" y="2028"/>
                    </a:lnTo>
                    <a:lnTo>
                      <a:pt x="408" y="2040"/>
                    </a:lnTo>
                    <a:lnTo>
                      <a:pt x="414" y="2052"/>
                    </a:lnTo>
                    <a:lnTo>
                      <a:pt x="420" y="2058"/>
                    </a:lnTo>
                    <a:lnTo>
                      <a:pt x="426" y="2058"/>
                    </a:lnTo>
                    <a:lnTo>
                      <a:pt x="426" y="2052"/>
                    </a:lnTo>
                    <a:lnTo>
                      <a:pt x="426" y="2046"/>
                    </a:lnTo>
                    <a:lnTo>
                      <a:pt x="426" y="2040"/>
                    </a:lnTo>
                    <a:lnTo>
                      <a:pt x="432" y="2028"/>
                    </a:lnTo>
                    <a:lnTo>
                      <a:pt x="432" y="2022"/>
                    </a:lnTo>
                    <a:lnTo>
                      <a:pt x="438" y="2016"/>
                    </a:lnTo>
                    <a:lnTo>
                      <a:pt x="444" y="2010"/>
                    </a:lnTo>
                    <a:lnTo>
                      <a:pt x="450" y="2004"/>
                    </a:lnTo>
                    <a:lnTo>
                      <a:pt x="462" y="1998"/>
                    </a:lnTo>
                    <a:lnTo>
                      <a:pt x="468" y="2004"/>
                    </a:lnTo>
                    <a:lnTo>
                      <a:pt x="474" y="2004"/>
                    </a:lnTo>
                    <a:lnTo>
                      <a:pt x="474" y="2010"/>
                    </a:lnTo>
                    <a:lnTo>
                      <a:pt x="480" y="2010"/>
                    </a:lnTo>
                    <a:lnTo>
                      <a:pt x="480" y="2016"/>
                    </a:lnTo>
                    <a:lnTo>
                      <a:pt x="486" y="2022"/>
                    </a:lnTo>
                    <a:lnTo>
                      <a:pt x="486" y="2028"/>
                    </a:lnTo>
                    <a:lnTo>
                      <a:pt x="492" y="2028"/>
                    </a:lnTo>
                    <a:lnTo>
                      <a:pt x="498" y="2034"/>
                    </a:lnTo>
                    <a:lnTo>
                      <a:pt x="504" y="2034"/>
                    </a:lnTo>
                    <a:lnTo>
                      <a:pt x="510" y="2034"/>
                    </a:lnTo>
                    <a:lnTo>
                      <a:pt x="516" y="2034"/>
                    </a:lnTo>
                    <a:lnTo>
                      <a:pt x="522" y="2028"/>
                    </a:lnTo>
                    <a:lnTo>
                      <a:pt x="528" y="2022"/>
                    </a:lnTo>
                    <a:lnTo>
                      <a:pt x="534" y="2016"/>
                    </a:lnTo>
                    <a:lnTo>
                      <a:pt x="540" y="2016"/>
                    </a:lnTo>
                    <a:lnTo>
                      <a:pt x="540" y="2010"/>
                    </a:lnTo>
                    <a:lnTo>
                      <a:pt x="546" y="2010"/>
                    </a:lnTo>
                    <a:lnTo>
                      <a:pt x="546" y="2016"/>
                    </a:lnTo>
                    <a:lnTo>
                      <a:pt x="546" y="2022"/>
                    </a:lnTo>
                    <a:lnTo>
                      <a:pt x="546" y="2028"/>
                    </a:lnTo>
                    <a:lnTo>
                      <a:pt x="540" y="2034"/>
                    </a:lnTo>
                    <a:lnTo>
                      <a:pt x="546" y="2040"/>
                    </a:lnTo>
                    <a:lnTo>
                      <a:pt x="546" y="2046"/>
                    </a:lnTo>
                    <a:lnTo>
                      <a:pt x="552" y="2046"/>
                    </a:lnTo>
                    <a:lnTo>
                      <a:pt x="558" y="2052"/>
                    </a:lnTo>
                    <a:lnTo>
                      <a:pt x="552" y="2064"/>
                    </a:lnTo>
                    <a:lnTo>
                      <a:pt x="552" y="2070"/>
                    </a:lnTo>
                    <a:lnTo>
                      <a:pt x="546" y="2082"/>
                    </a:lnTo>
                    <a:lnTo>
                      <a:pt x="546" y="2088"/>
                    </a:lnTo>
                    <a:lnTo>
                      <a:pt x="552" y="2094"/>
                    </a:lnTo>
                    <a:lnTo>
                      <a:pt x="552" y="2100"/>
                    </a:lnTo>
                    <a:lnTo>
                      <a:pt x="558" y="2106"/>
                    </a:lnTo>
                    <a:lnTo>
                      <a:pt x="564" y="2112"/>
                    </a:lnTo>
                    <a:lnTo>
                      <a:pt x="576" y="2118"/>
                    </a:lnTo>
                    <a:lnTo>
                      <a:pt x="588" y="2124"/>
                    </a:lnTo>
                    <a:lnTo>
                      <a:pt x="600" y="2130"/>
                    </a:lnTo>
                    <a:lnTo>
                      <a:pt x="612" y="2130"/>
                    </a:lnTo>
                    <a:lnTo>
                      <a:pt x="624" y="2130"/>
                    </a:lnTo>
                    <a:lnTo>
                      <a:pt x="630" y="2130"/>
                    </a:lnTo>
                    <a:lnTo>
                      <a:pt x="630" y="2124"/>
                    </a:lnTo>
                    <a:lnTo>
                      <a:pt x="636" y="2124"/>
                    </a:lnTo>
                    <a:lnTo>
                      <a:pt x="636" y="2118"/>
                    </a:lnTo>
                    <a:lnTo>
                      <a:pt x="630" y="2112"/>
                    </a:lnTo>
                    <a:lnTo>
                      <a:pt x="624" y="2106"/>
                    </a:lnTo>
                    <a:lnTo>
                      <a:pt x="618" y="2100"/>
                    </a:lnTo>
                    <a:lnTo>
                      <a:pt x="612" y="2088"/>
                    </a:lnTo>
                    <a:lnTo>
                      <a:pt x="606" y="2082"/>
                    </a:lnTo>
                    <a:lnTo>
                      <a:pt x="600" y="2076"/>
                    </a:lnTo>
                    <a:lnTo>
                      <a:pt x="594" y="2064"/>
                    </a:lnTo>
                    <a:lnTo>
                      <a:pt x="600" y="2064"/>
                    </a:lnTo>
                    <a:lnTo>
                      <a:pt x="606" y="2064"/>
                    </a:lnTo>
                    <a:lnTo>
                      <a:pt x="612" y="2058"/>
                    </a:lnTo>
                    <a:lnTo>
                      <a:pt x="618" y="2058"/>
                    </a:lnTo>
                    <a:lnTo>
                      <a:pt x="624" y="2058"/>
                    </a:lnTo>
                    <a:lnTo>
                      <a:pt x="624" y="2052"/>
                    </a:lnTo>
                    <a:lnTo>
                      <a:pt x="630" y="2052"/>
                    </a:lnTo>
                    <a:lnTo>
                      <a:pt x="642" y="2052"/>
                    </a:lnTo>
                    <a:lnTo>
                      <a:pt x="642" y="2046"/>
                    </a:lnTo>
                    <a:lnTo>
                      <a:pt x="648" y="2034"/>
                    </a:lnTo>
                    <a:lnTo>
                      <a:pt x="648" y="2028"/>
                    </a:lnTo>
                    <a:lnTo>
                      <a:pt x="654" y="2016"/>
                    </a:lnTo>
                    <a:lnTo>
                      <a:pt x="654" y="2010"/>
                    </a:lnTo>
                    <a:lnTo>
                      <a:pt x="666" y="2016"/>
                    </a:lnTo>
                    <a:lnTo>
                      <a:pt x="678" y="2022"/>
                    </a:lnTo>
                    <a:lnTo>
                      <a:pt x="690" y="2028"/>
                    </a:lnTo>
                    <a:lnTo>
                      <a:pt x="702" y="2028"/>
                    </a:lnTo>
                    <a:lnTo>
                      <a:pt x="714" y="2034"/>
                    </a:lnTo>
                    <a:lnTo>
                      <a:pt x="720" y="2034"/>
                    </a:lnTo>
                    <a:lnTo>
                      <a:pt x="726" y="2028"/>
                    </a:lnTo>
                    <a:lnTo>
                      <a:pt x="732" y="2028"/>
                    </a:lnTo>
                    <a:lnTo>
                      <a:pt x="738" y="2028"/>
                    </a:lnTo>
                    <a:lnTo>
                      <a:pt x="744" y="2022"/>
                    </a:lnTo>
                    <a:lnTo>
                      <a:pt x="744" y="2016"/>
                    </a:lnTo>
                    <a:lnTo>
                      <a:pt x="738" y="2010"/>
                    </a:lnTo>
                    <a:lnTo>
                      <a:pt x="738" y="1998"/>
                    </a:lnTo>
                    <a:lnTo>
                      <a:pt x="738" y="1992"/>
                    </a:lnTo>
                    <a:lnTo>
                      <a:pt x="738" y="1980"/>
                    </a:lnTo>
                    <a:lnTo>
                      <a:pt x="744" y="1974"/>
                    </a:lnTo>
                    <a:lnTo>
                      <a:pt x="744" y="1968"/>
                    </a:lnTo>
                    <a:lnTo>
                      <a:pt x="756" y="1974"/>
                    </a:lnTo>
                    <a:lnTo>
                      <a:pt x="762" y="1986"/>
                    </a:lnTo>
                    <a:lnTo>
                      <a:pt x="774" y="1998"/>
                    </a:lnTo>
                    <a:lnTo>
                      <a:pt x="780" y="2004"/>
                    </a:lnTo>
                    <a:lnTo>
                      <a:pt x="792" y="2010"/>
                    </a:lnTo>
                    <a:lnTo>
                      <a:pt x="804" y="2010"/>
                    </a:lnTo>
                    <a:lnTo>
                      <a:pt x="810" y="2010"/>
                    </a:lnTo>
                    <a:lnTo>
                      <a:pt x="810" y="2004"/>
                    </a:lnTo>
                    <a:lnTo>
                      <a:pt x="804" y="1998"/>
                    </a:lnTo>
                    <a:lnTo>
                      <a:pt x="798" y="1992"/>
                    </a:lnTo>
                    <a:lnTo>
                      <a:pt x="798" y="1986"/>
                    </a:lnTo>
                    <a:lnTo>
                      <a:pt x="798" y="1980"/>
                    </a:lnTo>
                    <a:lnTo>
                      <a:pt x="798" y="1968"/>
                    </a:lnTo>
                    <a:lnTo>
                      <a:pt x="798" y="1962"/>
                    </a:lnTo>
                    <a:lnTo>
                      <a:pt x="798" y="1950"/>
                    </a:lnTo>
                    <a:lnTo>
                      <a:pt x="798" y="1944"/>
                    </a:lnTo>
                    <a:lnTo>
                      <a:pt x="804" y="1938"/>
                    </a:lnTo>
                    <a:lnTo>
                      <a:pt x="822" y="1956"/>
                    </a:lnTo>
                    <a:lnTo>
                      <a:pt x="828" y="1956"/>
                    </a:lnTo>
                    <a:lnTo>
                      <a:pt x="834" y="1962"/>
                    </a:lnTo>
                    <a:lnTo>
                      <a:pt x="840" y="1962"/>
                    </a:lnTo>
                    <a:lnTo>
                      <a:pt x="846" y="1962"/>
                    </a:lnTo>
                    <a:lnTo>
                      <a:pt x="846" y="1944"/>
                    </a:lnTo>
                    <a:lnTo>
                      <a:pt x="852" y="1932"/>
                    </a:lnTo>
                    <a:lnTo>
                      <a:pt x="858" y="1920"/>
                    </a:lnTo>
                    <a:lnTo>
                      <a:pt x="864" y="1902"/>
                    </a:lnTo>
                    <a:lnTo>
                      <a:pt x="870" y="1890"/>
                    </a:lnTo>
                    <a:lnTo>
                      <a:pt x="876" y="1878"/>
                    </a:lnTo>
                    <a:lnTo>
                      <a:pt x="894" y="1884"/>
                    </a:lnTo>
                    <a:lnTo>
                      <a:pt x="906" y="1890"/>
                    </a:lnTo>
                    <a:lnTo>
                      <a:pt x="918" y="1890"/>
                    </a:lnTo>
                    <a:lnTo>
                      <a:pt x="936" y="1896"/>
                    </a:lnTo>
                    <a:lnTo>
                      <a:pt x="948" y="1896"/>
                    </a:lnTo>
                    <a:lnTo>
                      <a:pt x="960" y="1908"/>
                    </a:lnTo>
                    <a:lnTo>
                      <a:pt x="966" y="1896"/>
                    </a:lnTo>
                    <a:lnTo>
                      <a:pt x="960" y="1890"/>
                    </a:lnTo>
                    <a:lnTo>
                      <a:pt x="954" y="1878"/>
                    </a:lnTo>
                    <a:lnTo>
                      <a:pt x="948" y="1872"/>
                    </a:lnTo>
                    <a:lnTo>
                      <a:pt x="948" y="1860"/>
                    </a:lnTo>
                    <a:lnTo>
                      <a:pt x="942" y="1848"/>
                    </a:lnTo>
                    <a:lnTo>
                      <a:pt x="960" y="1854"/>
                    </a:lnTo>
                    <a:lnTo>
                      <a:pt x="978" y="1854"/>
                    </a:lnTo>
                    <a:lnTo>
                      <a:pt x="996" y="1860"/>
                    </a:lnTo>
                    <a:lnTo>
                      <a:pt x="1014" y="1860"/>
                    </a:lnTo>
                    <a:lnTo>
                      <a:pt x="1026" y="1854"/>
                    </a:lnTo>
                    <a:lnTo>
                      <a:pt x="1044" y="1848"/>
                    </a:lnTo>
                    <a:lnTo>
                      <a:pt x="1044" y="1842"/>
                    </a:lnTo>
                    <a:lnTo>
                      <a:pt x="1038" y="1830"/>
                    </a:lnTo>
                    <a:lnTo>
                      <a:pt x="1026" y="1824"/>
                    </a:lnTo>
                    <a:lnTo>
                      <a:pt x="1020" y="1824"/>
                    </a:lnTo>
                    <a:lnTo>
                      <a:pt x="1008" y="1818"/>
                    </a:lnTo>
                    <a:lnTo>
                      <a:pt x="1008" y="1806"/>
                    </a:lnTo>
                    <a:lnTo>
                      <a:pt x="1014" y="1806"/>
                    </a:lnTo>
                    <a:lnTo>
                      <a:pt x="1020" y="1806"/>
                    </a:lnTo>
                    <a:lnTo>
                      <a:pt x="1032" y="1806"/>
                    </a:lnTo>
                    <a:lnTo>
                      <a:pt x="1038" y="1800"/>
                    </a:lnTo>
                    <a:lnTo>
                      <a:pt x="1044" y="1800"/>
                    </a:lnTo>
                    <a:lnTo>
                      <a:pt x="1050" y="1794"/>
                    </a:lnTo>
                    <a:lnTo>
                      <a:pt x="1056" y="1788"/>
                    </a:lnTo>
                    <a:lnTo>
                      <a:pt x="1056" y="1782"/>
                    </a:lnTo>
                    <a:lnTo>
                      <a:pt x="1050" y="1782"/>
                    </a:lnTo>
                    <a:lnTo>
                      <a:pt x="1044" y="1776"/>
                    </a:lnTo>
                    <a:lnTo>
                      <a:pt x="1026" y="1770"/>
                    </a:lnTo>
                    <a:lnTo>
                      <a:pt x="1002" y="1758"/>
                    </a:lnTo>
                    <a:lnTo>
                      <a:pt x="984" y="1752"/>
                    </a:lnTo>
                    <a:lnTo>
                      <a:pt x="966" y="1734"/>
                    </a:lnTo>
                    <a:lnTo>
                      <a:pt x="948" y="1722"/>
                    </a:lnTo>
                    <a:lnTo>
                      <a:pt x="930" y="1710"/>
                    </a:lnTo>
                    <a:lnTo>
                      <a:pt x="936" y="1710"/>
                    </a:lnTo>
                    <a:lnTo>
                      <a:pt x="942" y="1710"/>
                    </a:lnTo>
                    <a:lnTo>
                      <a:pt x="948" y="1710"/>
                    </a:lnTo>
                    <a:lnTo>
                      <a:pt x="954" y="1710"/>
                    </a:lnTo>
                    <a:lnTo>
                      <a:pt x="960" y="1710"/>
                    </a:lnTo>
                    <a:lnTo>
                      <a:pt x="966" y="1704"/>
                    </a:lnTo>
                    <a:lnTo>
                      <a:pt x="960" y="1698"/>
                    </a:lnTo>
                    <a:lnTo>
                      <a:pt x="954" y="1686"/>
                    </a:lnTo>
                    <a:lnTo>
                      <a:pt x="948" y="1680"/>
                    </a:lnTo>
                    <a:lnTo>
                      <a:pt x="942" y="1668"/>
                    </a:lnTo>
                    <a:lnTo>
                      <a:pt x="936" y="1656"/>
                    </a:lnTo>
                    <a:lnTo>
                      <a:pt x="930" y="1650"/>
                    </a:lnTo>
                    <a:lnTo>
                      <a:pt x="936" y="1650"/>
                    </a:lnTo>
                    <a:lnTo>
                      <a:pt x="942" y="1650"/>
                    </a:lnTo>
                    <a:lnTo>
                      <a:pt x="948" y="1650"/>
                    </a:lnTo>
                    <a:lnTo>
                      <a:pt x="948" y="1644"/>
                    </a:lnTo>
                    <a:lnTo>
                      <a:pt x="948" y="1638"/>
                    </a:lnTo>
                    <a:lnTo>
                      <a:pt x="954" y="1638"/>
                    </a:lnTo>
                    <a:lnTo>
                      <a:pt x="948" y="1632"/>
                    </a:lnTo>
                    <a:lnTo>
                      <a:pt x="948" y="1626"/>
                    </a:lnTo>
                    <a:lnTo>
                      <a:pt x="942" y="1626"/>
                    </a:lnTo>
                    <a:lnTo>
                      <a:pt x="936" y="1620"/>
                    </a:lnTo>
                    <a:lnTo>
                      <a:pt x="930" y="1614"/>
                    </a:lnTo>
                    <a:lnTo>
                      <a:pt x="930" y="1602"/>
                    </a:lnTo>
                    <a:lnTo>
                      <a:pt x="930" y="1596"/>
                    </a:lnTo>
                    <a:lnTo>
                      <a:pt x="930" y="1584"/>
                    </a:lnTo>
                    <a:lnTo>
                      <a:pt x="930" y="1578"/>
                    </a:lnTo>
                    <a:lnTo>
                      <a:pt x="936" y="1566"/>
                    </a:lnTo>
                    <a:lnTo>
                      <a:pt x="942" y="1560"/>
                    </a:lnTo>
                    <a:lnTo>
                      <a:pt x="954" y="1608"/>
                    </a:lnTo>
                    <a:lnTo>
                      <a:pt x="978" y="1656"/>
                    </a:lnTo>
                    <a:lnTo>
                      <a:pt x="1014" y="1698"/>
                    </a:lnTo>
                    <a:lnTo>
                      <a:pt x="1056" y="1734"/>
                    </a:lnTo>
                    <a:lnTo>
                      <a:pt x="1098" y="1764"/>
                    </a:lnTo>
                    <a:lnTo>
                      <a:pt x="1146" y="1788"/>
                    </a:lnTo>
                    <a:lnTo>
                      <a:pt x="1152" y="1794"/>
                    </a:lnTo>
                    <a:lnTo>
                      <a:pt x="1164" y="1794"/>
                    </a:lnTo>
                    <a:lnTo>
                      <a:pt x="1176" y="1800"/>
                    </a:lnTo>
                    <a:lnTo>
                      <a:pt x="1182" y="1800"/>
                    </a:lnTo>
                    <a:lnTo>
                      <a:pt x="1194" y="1806"/>
                    </a:lnTo>
                    <a:lnTo>
                      <a:pt x="1200" y="1818"/>
                    </a:lnTo>
                    <a:lnTo>
                      <a:pt x="1200" y="1836"/>
                    </a:lnTo>
                    <a:lnTo>
                      <a:pt x="1206" y="1854"/>
                    </a:lnTo>
                    <a:lnTo>
                      <a:pt x="1200" y="1872"/>
                    </a:lnTo>
                    <a:lnTo>
                      <a:pt x="1200" y="1896"/>
                    </a:lnTo>
                    <a:lnTo>
                      <a:pt x="1194" y="1914"/>
                    </a:lnTo>
                    <a:lnTo>
                      <a:pt x="1182" y="1932"/>
                    </a:lnTo>
                    <a:lnTo>
                      <a:pt x="1176" y="1938"/>
                    </a:lnTo>
                    <a:lnTo>
                      <a:pt x="1170" y="1950"/>
                    </a:lnTo>
                    <a:lnTo>
                      <a:pt x="1164" y="1962"/>
                    </a:lnTo>
                    <a:lnTo>
                      <a:pt x="1158" y="1968"/>
                    </a:lnTo>
                    <a:lnTo>
                      <a:pt x="1146" y="1974"/>
                    </a:lnTo>
                    <a:lnTo>
                      <a:pt x="1134" y="1974"/>
                    </a:lnTo>
                    <a:lnTo>
                      <a:pt x="1122" y="1974"/>
                    </a:lnTo>
                    <a:lnTo>
                      <a:pt x="1110" y="1974"/>
                    </a:lnTo>
                    <a:lnTo>
                      <a:pt x="1098" y="1968"/>
                    </a:lnTo>
                    <a:lnTo>
                      <a:pt x="1086" y="1962"/>
                    </a:lnTo>
                    <a:lnTo>
                      <a:pt x="1074" y="1962"/>
                    </a:lnTo>
                    <a:lnTo>
                      <a:pt x="1062" y="1956"/>
                    </a:lnTo>
                    <a:lnTo>
                      <a:pt x="1056" y="1956"/>
                    </a:lnTo>
                    <a:lnTo>
                      <a:pt x="1050" y="1956"/>
                    </a:lnTo>
                    <a:lnTo>
                      <a:pt x="1044" y="1956"/>
                    </a:lnTo>
                    <a:lnTo>
                      <a:pt x="1038" y="1962"/>
                    </a:lnTo>
                    <a:lnTo>
                      <a:pt x="1032" y="1962"/>
                    </a:lnTo>
                    <a:lnTo>
                      <a:pt x="1032" y="1968"/>
                    </a:lnTo>
                    <a:lnTo>
                      <a:pt x="1020" y="1968"/>
                    </a:lnTo>
                    <a:lnTo>
                      <a:pt x="1008" y="1962"/>
                    </a:lnTo>
                    <a:lnTo>
                      <a:pt x="990" y="1962"/>
                    </a:lnTo>
                    <a:lnTo>
                      <a:pt x="978" y="1968"/>
                    </a:lnTo>
                    <a:lnTo>
                      <a:pt x="966" y="1968"/>
                    </a:lnTo>
                    <a:lnTo>
                      <a:pt x="954" y="1974"/>
                    </a:lnTo>
                    <a:lnTo>
                      <a:pt x="948" y="1980"/>
                    </a:lnTo>
                    <a:lnTo>
                      <a:pt x="942" y="1980"/>
                    </a:lnTo>
                    <a:lnTo>
                      <a:pt x="936" y="1986"/>
                    </a:lnTo>
                    <a:lnTo>
                      <a:pt x="930" y="1986"/>
                    </a:lnTo>
                    <a:lnTo>
                      <a:pt x="930" y="1992"/>
                    </a:lnTo>
                    <a:lnTo>
                      <a:pt x="924" y="1992"/>
                    </a:lnTo>
                    <a:lnTo>
                      <a:pt x="918" y="2004"/>
                    </a:lnTo>
                    <a:lnTo>
                      <a:pt x="918" y="2010"/>
                    </a:lnTo>
                    <a:lnTo>
                      <a:pt x="912" y="2016"/>
                    </a:lnTo>
                    <a:lnTo>
                      <a:pt x="912" y="2022"/>
                    </a:lnTo>
                    <a:lnTo>
                      <a:pt x="912" y="2028"/>
                    </a:lnTo>
                    <a:lnTo>
                      <a:pt x="912" y="2040"/>
                    </a:lnTo>
                    <a:lnTo>
                      <a:pt x="930" y="2034"/>
                    </a:lnTo>
                    <a:lnTo>
                      <a:pt x="942" y="2022"/>
                    </a:lnTo>
                    <a:lnTo>
                      <a:pt x="954" y="2016"/>
                    </a:lnTo>
                    <a:lnTo>
                      <a:pt x="972" y="2016"/>
                    </a:lnTo>
                    <a:lnTo>
                      <a:pt x="984" y="2010"/>
                    </a:lnTo>
                    <a:lnTo>
                      <a:pt x="1002" y="2016"/>
                    </a:lnTo>
                    <a:lnTo>
                      <a:pt x="996" y="2016"/>
                    </a:lnTo>
                    <a:lnTo>
                      <a:pt x="990" y="2022"/>
                    </a:lnTo>
                    <a:lnTo>
                      <a:pt x="984" y="2022"/>
                    </a:lnTo>
                    <a:lnTo>
                      <a:pt x="978" y="2028"/>
                    </a:lnTo>
                    <a:lnTo>
                      <a:pt x="978" y="2034"/>
                    </a:lnTo>
                    <a:lnTo>
                      <a:pt x="972" y="2040"/>
                    </a:lnTo>
                    <a:lnTo>
                      <a:pt x="972" y="2046"/>
                    </a:lnTo>
                    <a:lnTo>
                      <a:pt x="972" y="2058"/>
                    </a:lnTo>
                    <a:lnTo>
                      <a:pt x="960" y="2070"/>
                    </a:lnTo>
                    <a:lnTo>
                      <a:pt x="954" y="2076"/>
                    </a:lnTo>
                    <a:lnTo>
                      <a:pt x="954" y="2088"/>
                    </a:lnTo>
                    <a:lnTo>
                      <a:pt x="948" y="2100"/>
                    </a:lnTo>
                    <a:lnTo>
                      <a:pt x="954" y="2112"/>
                    </a:lnTo>
                    <a:lnTo>
                      <a:pt x="960" y="2124"/>
                    </a:lnTo>
                    <a:lnTo>
                      <a:pt x="960" y="2136"/>
                    </a:lnTo>
                    <a:lnTo>
                      <a:pt x="966" y="2148"/>
                    </a:lnTo>
                    <a:lnTo>
                      <a:pt x="972" y="2154"/>
                    </a:lnTo>
                    <a:lnTo>
                      <a:pt x="984" y="2160"/>
                    </a:lnTo>
                    <a:lnTo>
                      <a:pt x="990" y="2148"/>
                    </a:lnTo>
                    <a:lnTo>
                      <a:pt x="996" y="2130"/>
                    </a:lnTo>
                    <a:lnTo>
                      <a:pt x="1002" y="2118"/>
                    </a:lnTo>
                    <a:lnTo>
                      <a:pt x="1008" y="2100"/>
                    </a:lnTo>
                    <a:lnTo>
                      <a:pt x="1014" y="2088"/>
                    </a:lnTo>
                    <a:lnTo>
                      <a:pt x="1026" y="2082"/>
                    </a:lnTo>
                    <a:lnTo>
                      <a:pt x="1032" y="2082"/>
                    </a:lnTo>
                    <a:lnTo>
                      <a:pt x="1038" y="2088"/>
                    </a:lnTo>
                    <a:lnTo>
                      <a:pt x="1038" y="2094"/>
                    </a:lnTo>
                    <a:lnTo>
                      <a:pt x="1044" y="2094"/>
                    </a:lnTo>
                    <a:lnTo>
                      <a:pt x="1050" y="2100"/>
                    </a:lnTo>
                    <a:lnTo>
                      <a:pt x="1056" y="2100"/>
                    </a:lnTo>
                    <a:lnTo>
                      <a:pt x="1062" y="2106"/>
                    </a:lnTo>
                    <a:lnTo>
                      <a:pt x="1074" y="2106"/>
                    </a:lnTo>
                    <a:lnTo>
                      <a:pt x="1080" y="2100"/>
                    </a:lnTo>
                    <a:lnTo>
                      <a:pt x="1092" y="2094"/>
                    </a:lnTo>
                    <a:lnTo>
                      <a:pt x="1098" y="2088"/>
                    </a:lnTo>
                    <a:lnTo>
                      <a:pt x="1104" y="2082"/>
                    </a:lnTo>
                    <a:lnTo>
                      <a:pt x="1110" y="2076"/>
                    </a:lnTo>
                    <a:lnTo>
                      <a:pt x="1110" y="2070"/>
                    </a:lnTo>
                    <a:lnTo>
                      <a:pt x="1116" y="2064"/>
                    </a:lnTo>
                    <a:lnTo>
                      <a:pt x="1116" y="2070"/>
                    </a:lnTo>
                    <a:lnTo>
                      <a:pt x="1116" y="2076"/>
                    </a:lnTo>
                    <a:lnTo>
                      <a:pt x="1116" y="2082"/>
                    </a:lnTo>
                    <a:lnTo>
                      <a:pt x="1122" y="2088"/>
                    </a:lnTo>
                    <a:lnTo>
                      <a:pt x="1128" y="2100"/>
                    </a:lnTo>
                    <a:lnTo>
                      <a:pt x="1140" y="2106"/>
                    </a:lnTo>
                    <a:lnTo>
                      <a:pt x="1146" y="2112"/>
                    </a:lnTo>
                    <a:lnTo>
                      <a:pt x="1158" y="2112"/>
                    </a:lnTo>
                    <a:lnTo>
                      <a:pt x="1164" y="2118"/>
                    </a:lnTo>
                    <a:lnTo>
                      <a:pt x="1176" y="2118"/>
                    </a:lnTo>
                    <a:lnTo>
                      <a:pt x="1182" y="2118"/>
                    </a:lnTo>
                    <a:lnTo>
                      <a:pt x="1188" y="2118"/>
                    </a:lnTo>
                    <a:lnTo>
                      <a:pt x="1194" y="2118"/>
                    </a:lnTo>
                    <a:lnTo>
                      <a:pt x="1206" y="2112"/>
                    </a:lnTo>
                    <a:lnTo>
                      <a:pt x="1212" y="2106"/>
                    </a:lnTo>
                    <a:lnTo>
                      <a:pt x="1218" y="2100"/>
                    </a:lnTo>
                    <a:lnTo>
                      <a:pt x="1224" y="2088"/>
                    </a:lnTo>
                    <a:lnTo>
                      <a:pt x="1218" y="2076"/>
                    </a:lnTo>
                    <a:lnTo>
                      <a:pt x="1218" y="2070"/>
                    </a:lnTo>
                    <a:lnTo>
                      <a:pt x="1212" y="2058"/>
                    </a:lnTo>
                    <a:lnTo>
                      <a:pt x="1206" y="2046"/>
                    </a:lnTo>
                    <a:lnTo>
                      <a:pt x="1212" y="2046"/>
                    </a:lnTo>
                    <a:lnTo>
                      <a:pt x="1218" y="2046"/>
                    </a:lnTo>
                    <a:lnTo>
                      <a:pt x="1224" y="2052"/>
                    </a:lnTo>
                    <a:lnTo>
                      <a:pt x="1230" y="2052"/>
                    </a:lnTo>
                    <a:lnTo>
                      <a:pt x="1236" y="2058"/>
                    </a:lnTo>
                    <a:lnTo>
                      <a:pt x="1242" y="2058"/>
                    </a:lnTo>
                    <a:lnTo>
                      <a:pt x="1254" y="2064"/>
                    </a:lnTo>
                    <a:lnTo>
                      <a:pt x="1260" y="2064"/>
                    </a:lnTo>
                    <a:lnTo>
                      <a:pt x="1266" y="2058"/>
                    </a:lnTo>
                    <a:lnTo>
                      <a:pt x="1272" y="2052"/>
                    </a:lnTo>
                    <a:lnTo>
                      <a:pt x="1278" y="2046"/>
                    </a:lnTo>
                    <a:lnTo>
                      <a:pt x="1284" y="2040"/>
                    </a:lnTo>
                    <a:lnTo>
                      <a:pt x="1290" y="2034"/>
                    </a:lnTo>
                    <a:lnTo>
                      <a:pt x="1290" y="2028"/>
                    </a:lnTo>
                    <a:lnTo>
                      <a:pt x="1296" y="2022"/>
                    </a:lnTo>
                    <a:lnTo>
                      <a:pt x="1296" y="2016"/>
                    </a:lnTo>
                    <a:lnTo>
                      <a:pt x="1308" y="2022"/>
                    </a:lnTo>
                    <a:lnTo>
                      <a:pt x="1320" y="2022"/>
                    </a:lnTo>
                    <a:lnTo>
                      <a:pt x="1326" y="2022"/>
                    </a:lnTo>
                    <a:lnTo>
                      <a:pt x="1338" y="2022"/>
                    </a:lnTo>
                    <a:lnTo>
                      <a:pt x="1350" y="2016"/>
                    </a:lnTo>
                    <a:lnTo>
                      <a:pt x="1362" y="2010"/>
                    </a:lnTo>
                    <a:lnTo>
                      <a:pt x="1362" y="2004"/>
                    </a:lnTo>
                    <a:lnTo>
                      <a:pt x="1356" y="1998"/>
                    </a:lnTo>
                    <a:lnTo>
                      <a:pt x="1356" y="1992"/>
                    </a:lnTo>
                    <a:lnTo>
                      <a:pt x="1350" y="1992"/>
                    </a:lnTo>
                    <a:lnTo>
                      <a:pt x="1344" y="1986"/>
                    </a:lnTo>
                    <a:lnTo>
                      <a:pt x="1338" y="1980"/>
                    </a:lnTo>
                    <a:lnTo>
                      <a:pt x="1350" y="1980"/>
                    </a:lnTo>
                    <a:lnTo>
                      <a:pt x="1356" y="1980"/>
                    </a:lnTo>
                    <a:lnTo>
                      <a:pt x="1368" y="1974"/>
                    </a:lnTo>
                    <a:lnTo>
                      <a:pt x="1380" y="1974"/>
                    </a:lnTo>
                    <a:lnTo>
                      <a:pt x="1386" y="1968"/>
                    </a:lnTo>
                    <a:lnTo>
                      <a:pt x="1398" y="1962"/>
                    </a:lnTo>
                    <a:lnTo>
                      <a:pt x="1392" y="1956"/>
                    </a:lnTo>
                    <a:lnTo>
                      <a:pt x="1392" y="1950"/>
                    </a:lnTo>
                    <a:lnTo>
                      <a:pt x="1386" y="1944"/>
                    </a:lnTo>
                    <a:lnTo>
                      <a:pt x="1380" y="1938"/>
                    </a:lnTo>
                    <a:lnTo>
                      <a:pt x="1374" y="1938"/>
                    </a:lnTo>
                    <a:lnTo>
                      <a:pt x="1368" y="1932"/>
                    </a:lnTo>
                    <a:lnTo>
                      <a:pt x="1380" y="1926"/>
                    </a:lnTo>
                    <a:lnTo>
                      <a:pt x="1392" y="1926"/>
                    </a:lnTo>
                    <a:lnTo>
                      <a:pt x="1398" y="1920"/>
                    </a:lnTo>
                    <a:lnTo>
                      <a:pt x="1410" y="1920"/>
                    </a:lnTo>
                    <a:lnTo>
                      <a:pt x="1416" y="1914"/>
                    </a:lnTo>
                    <a:lnTo>
                      <a:pt x="1422" y="1908"/>
                    </a:lnTo>
                    <a:lnTo>
                      <a:pt x="1422" y="1902"/>
                    </a:lnTo>
                    <a:lnTo>
                      <a:pt x="1422" y="1896"/>
                    </a:lnTo>
                    <a:lnTo>
                      <a:pt x="1422" y="1890"/>
                    </a:lnTo>
                    <a:lnTo>
                      <a:pt x="1422" y="1884"/>
                    </a:lnTo>
                    <a:lnTo>
                      <a:pt x="1416" y="1878"/>
                    </a:lnTo>
                    <a:lnTo>
                      <a:pt x="1410" y="1866"/>
                    </a:lnTo>
                    <a:lnTo>
                      <a:pt x="1386" y="1806"/>
                    </a:lnTo>
                    <a:lnTo>
                      <a:pt x="1398" y="1794"/>
                    </a:lnTo>
                    <a:lnTo>
                      <a:pt x="1410" y="1788"/>
                    </a:lnTo>
                    <a:lnTo>
                      <a:pt x="1422" y="1794"/>
                    </a:lnTo>
                    <a:lnTo>
                      <a:pt x="1434" y="1800"/>
                    </a:lnTo>
                    <a:lnTo>
                      <a:pt x="1452" y="1806"/>
                    </a:lnTo>
                    <a:lnTo>
                      <a:pt x="1464" y="1800"/>
                    </a:lnTo>
                    <a:lnTo>
                      <a:pt x="1470" y="1794"/>
                    </a:lnTo>
                    <a:lnTo>
                      <a:pt x="1482" y="1788"/>
                    </a:lnTo>
                    <a:lnTo>
                      <a:pt x="1488" y="1782"/>
                    </a:lnTo>
                    <a:lnTo>
                      <a:pt x="1494" y="1776"/>
                    </a:lnTo>
                    <a:lnTo>
                      <a:pt x="1500" y="1770"/>
                    </a:lnTo>
                    <a:lnTo>
                      <a:pt x="1500" y="1758"/>
                    </a:lnTo>
                    <a:lnTo>
                      <a:pt x="1500" y="1764"/>
                    </a:lnTo>
                    <a:lnTo>
                      <a:pt x="1494" y="1758"/>
                    </a:lnTo>
                    <a:lnTo>
                      <a:pt x="1488" y="1758"/>
                    </a:lnTo>
                    <a:lnTo>
                      <a:pt x="1482" y="1758"/>
                    </a:lnTo>
                    <a:lnTo>
                      <a:pt x="1476" y="1758"/>
                    </a:lnTo>
                    <a:lnTo>
                      <a:pt x="1470" y="1752"/>
                    </a:lnTo>
                    <a:lnTo>
                      <a:pt x="1464" y="1752"/>
                    </a:lnTo>
                    <a:lnTo>
                      <a:pt x="1458" y="1746"/>
                    </a:lnTo>
                    <a:lnTo>
                      <a:pt x="1452" y="1740"/>
                    </a:lnTo>
                    <a:lnTo>
                      <a:pt x="1446" y="1734"/>
                    </a:lnTo>
                    <a:lnTo>
                      <a:pt x="1446" y="1728"/>
                    </a:lnTo>
                    <a:lnTo>
                      <a:pt x="1440" y="1722"/>
                    </a:lnTo>
                    <a:lnTo>
                      <a:pt x="1440" y="1716"/>
                    </a:lnTo>
                    <a:lnTo>
                      <a:pt x="1452" y="1704"/>
                    </a:lnTo>
                    <a:lnTo>
                      <a:pt x="1458" y="1692"/>
                    </a:lnTo>
                    <a:lnTo>
                      <a:pt x="1464" y="1680"/>
                    </a:lnTo>
                    <a:lnTo>
                      <a:pt x="1476" y="1668"/>
                    </a:lnTo>
                    <a:lnTo>
                      <a:pt x="1476" y="1656"/>
                    </a:lnTo>
                    <a:lnTo>
                      <a:pt x="1482" y="1638"/>
                    </a:lnTo>
                    <a:lnTo>
                      <a:pt x="1482" y="1626"/>
                    </a:lnTo>
                    <a:lnTo>
                      <a:pt x="1482" y="1620"/>
                    </a:lnTo>
                    <a:lnTo>
                      <a:pt x="1482" y="1608"/>
                    </a:lnTo>
                    <a:lnTo>
                      <a:pt x="1476" y="1596"/>
                    </a:lnTo>
                    <a:lnTo>
                      <a:pt x="1476" y="1590"/>
                    </a:lnTo>
                    <a:lnTo>
                      <a:pt x="1470" y="1578"/>
                    </a:lnTo>
                    <a:lnTo>
                      <a:pt x="1464" y="1584"/>
                    </a:lnTo>
                    <a:lnTo>
                      <a:pt x="1464" y="1590"/>
                    </a:lnTo>
                    <a:lnTo>
                      <a:pt x="1458" y="1596"/>
                    </a:lnTo>
                    <a:lnTo>
                      <a:pt x="1458" y="1602"/>
                    </a:lnTo>
                    <a:lnTo>
                      <a:pt x="1446" y="1620"/>
                    </a:lnTo>
                    <a:lnTo>
                      <a:pt x="1428" y="1626"/>
                    </a:lnTo>
                    <a:lnTo>
                      <a:pt x="1410" y="1632"/>
                    </a:lnTo>
                    <a:lnTo>
                      <a:pt x="1392" y="1632"/>
                    </a:lnTo>
                    <a:lnTo>
                      <a:pt x="1374" y="1638"/>
                    </a:lnTo>
                    <a:lnTo>
                      <a:pt x="1356" y="1638"/>
                    </a:lnTo>
                    <a:lnTo>
                      <a:pt x="1362" y="1626"/>
                    </a:lnTo>
                    <a:lnTo>
                      <a:pt x="1368" y="1614"/>
                    </a:lnTo>
                    <a:lnTo>
                      <a:pt x="1380" y="1602"/>
                    </a:lnTo>
                    <a:lnTo>
                      <a:pt x="1386" y="1584"/>
                    </a:lnTo>
                    <a:lnTo>
                      <a:pt x="1386" y="1572"/>
                    </a:lnTo>
                    <a:lnTo>
                      <a:pt x="1386" y="1560"/>
                    </a:lnTo>
                    <a:lnTo>
                      <a:pt x="1374" y="1560"/>
                    </a:lnTo>
                    <a:lnTo>
                      <a:pt x="1368" y="1560"/>
                    </a:lnTo>
                    <a:lnTo>
                      <a:pt x="1362" y="1566"/>
                    </a:lnTo>
                    <a:lnTo>
                      <a:pt x="1356" y="1572"/>
                    </a:lnTo>
                    <a:lnTo>
                      <a:pt x="1350" y="1578"/>
                    </a:lnTo>
                    <a:lnTo>
                      <a:pt x="1344" y="1578"/>
                    </a:lnTo>
                    <a:lnTo>
                      <a:pt x="1338" y="1584"/>
                    </a:lnTo>
                    <a:lnTo>
                      <a:pt x="1332" y="1584"/>
                    </a:lnTo>
                    <a:lnTo>
                      <a:pt x="1320" y="1584"/>
                    </a:lnTo>
                    <a:lnTo>
                      <a:pt x="1314" y="1584"/>
                    </a:lnTo>
                    <a:lnTo>
                      <a:pt x="1308" y="1584"/>
                    </a:lnTo>
                    <a:lnTo>
                      <a:pt x="1302" y="1578"/>
                    </a:lnTo>
                    <a:lnTo>
                      <a:pt x="1308" y="1572"/>
                    </a:lnTo>
                    <a:lnTo>
                      <a:pt x="1320" y="1560"/>
                    </a:lnTo>
                    <a:lnTo>
                      <a:pt x="1326" y="1554"/>
                    </a:lnTo>
                    <a:lnTo>
                      <a:pt x="1332" y="1542"/>
                    </a:lnTo>
                    <a:lnTo>
                      <a:pt x="1338" y="1530"/>
                    </a:lnTo>
                    <a:lnTo>
                      <a:pt x="1338" y="1524"/>
                    </a:lnTo>
                    <a:lnTo>
                      <a:pt x="1326" y="1518"/>
                    </a:lnTo>
                    <a:lnTo>
                      <a:pt x="1314" y="1518"/>
                    </a:lnTo>
                    <a:lnTo>
                      <a:pt x="1302" y="1518"/>
                    </a:lnTo>
                    <a:lnTo>
                      <a:pt x="1290" y="1524"/>
                    </a:lnTo>
                    <a:lnTo>
                      <a:pt x="1272" y="1518"/>
                    </a:lnTo>
                    <a:lnTo>
                      <a:pt x="1260" y="1506"/>
                    </a:lnTo>
                    <a:lnTo>
                      <a:pt x="1272" y="1500"/>
                    </a:lnTo>
                    <a:lnTo>
                      <a:pt x="1278" y="1494"/>
                    </a:lnTo>
                    <a:lnTo>
                      <a:pt x="1284" y="1488"/>
                    </a:lnTo>
                    <a:lnTo>
                      <a:pt x="1290" y="1482"/>
                    </a:lnTo>
                    <a:lnTo>
                      <a:pt x="1296" y="1470"/>
                    </a:lnTo>
                    <a:lnTo>
                      <a:pt x="1302" y="1464"/>
                    </a:lnTo>
                    <a:lnTo>
                      <a:pt x="1296" y="1458"/>
                    </a:lnTo>
                    <a:lnTo>
                      <a:pt x="1284" y="1452"/>
                    </a:lnTo>
                    <a:lnTo>
                      <a:pt x="1272" y="1452"/>
                    </a:lnTo>
                    <a:lnTo>
                      <a:pt x="1266" y="1452"/>
                    </a:lnTo>
                    <a:lnTo>
                      <a:pt x="1254" y="1452"/>
                    </a:lnTo>
                    <a:lnTo>
                      <a:pt x="1242" y="1446"/>
                    </a:lnTo>
                    <a:lnTo>
                      <a:pt x="1248" y="1440"/>
                    </a:lnTo>
                    <a:lnTo>
                      <a:pt x="1254" y="1434"/>
                    </a:lnTo>
                    <a:lnTo>
                      <a:pt x="1260" y="1434"/>
                    </a:lnTo>
                    <a:lnTo>
                      <a:pt x="1266" y="1428"/>
                    </a:lnTo>
                    <a:lnTo>
                      <a:pt x="1266" y="1422"/>
                    </a:lnTo>
                    <a:lnTo>
                      <a:pt x="1266" y="1416"/>
                    </a:lnTo>
                    <a:lnTo>
                      <a:pt x="1260" y="1416"/>
                    </a:lnTo>
                    <a:lnTo>
                      <a:pt x="1248" y="1410"/>
                    </a:lnTo>
                    <a:lnTo>
                      <a:pt x="1242" y="1410"/>
                    </a:lnTo>
                    <a:lnTo>
                      <a:pt x="1236" y="1404"/>
                    </a:lnTo>
                    <a:lnTo>
                      <a:pt x="1236" y="1398"/>
                    </a:lnTo>
                    <a:lnTo>
                      <a:pt x="1230" y="1386"/>
                    </a:lnTo>
                    <a:lnTo>
                      <a:pt x="1224" y="1380"/>
                    </a:lnTo>
                    <a:lnTo>
                      <a:pt x="1224" y="1374"/>
                    </a:lnTo>
                    <a:lnTo>
                      <a:pt x="1218" y="1368"/>
                    </a:lnTo>
                    <a:lnTo>
                      <a:pt x="1224" y="1356"/>
                    </a:lnTo>
                    <a:lnTo>
                      <a:pt x="1230" y="1362"/>
                    </a:lnTo>
                    <a:lnTo>
                      <a:pt x="1236" y="1368"/>
                    </a:lnTo>
                    <a:lnTo>
                      <a:pt x="1242" y="1374"/>
                    </a:lnTo>
                    <a:lnTo>
                      <a:pt x="1248" y="1380"/>
                    </a:lnTo>
                    <a:lnTo>
                      <a:pt x="1260" y="1386"/>
                    </a:lnTo>
                    <a:lnTo>
                      <a:pt x="1266" y="1386"/>
                    </a:lnTo>
                    <a:lnTo>
                      <a:pt x="1290" y="1398"/>
                    </a:lnTo>
                    <a:lnTo>
                      <a:pt x="1314" y="1398"/>
                    </a:lnTo>
                    <a:lnTo>
                      <a:pt x="1338" y="1404"/>
                    </a:lnTo>
                    <a:lnTo>
                      <a:pt x="1362" y="1404"/>
                    </a:lnTo>
                    <a:lnTo>
                      <a:pt x="1386" y="1404"/>
                    </a:lnTo>
                    <a:lnTo>
                      <a:pt x="1410" y="1404"/>
                    </a:lnTo>
                    <a:lnTo>
                      <a:pt x="1428" y="1398"/>
                    </a:lnTo>
                    <a:lnTo>
                      <a:pt x="1452" y="1392"/>
                    </a:lnTo>
                    <a:lnTo>
                      <a:pt x="1470" y="1380"/>
                    </a:lnTo>
                    <a:lnTo>
                      <a:pt x="1488" y="1374"/>
                    </a:lnTo>
                    <a:lnTo>
                      <a:pt x="1506" y="1368"/>
                    </a:lnTo>
                    <a:lnTo>
                      <a:pt x="1524" y="1350"/>
                    </a:lnTo>
                    <a:lnTo>
                      <a:pt x="1560" y="1314"/>
                    </a:lnTo>
                    <a:lnTo>
                      <a:pt x="1590" y="1272"/>
                    </a:lnTo>
                    <a:lnTo>
                      <a:pt x="1608" y="1230"/>
                    </a:lnTo>
                    <a:lnTo>
                      <a:pt x="1620" y="1182"/>
                    </a:lnTo>
                    <a:lnTo>
                      <a:pt x="1632" y="1128"/>
                    </a:lnTo>
                    <a:lnTo>
                      <a:pt x="1644" y="1080"/>
                    </a:lnTo>
                    <a:lnTo>
                      <a:pt x="1650" y="1074"/>
                    </a:lnTo>
                    <a:lnTo>
                      <a:pt x="1656" y="1068"/>
                    </a:lnTo>
                    <a:lnTo>
                      <a:pt x="1662" y="1062"/>
                    </a:lnTo>
                    <a:lnTo>
                      <a:pt x="1668" y="1056"/>
                    </a:lnTo>
                    <a:lnTo>
                      <a:pt x="1674" y="1050"/>
                    </a:lnTo>
                    <a:lnTo>
                      <a:pt x="1680" y="1038"/>
                    </a:lnTo>
                    <a:lnTo>
                      <a:pt x="1662" y="1038"/>
                    </a:lnTo>
                    <a:lnTo>
                      <a:pt x="1650" y="1038"/>
                    </a:lnTo>
                    <a:lnTo>
                      <a:pt x="1632" y="1044"/>
                    </a:lnTo>
                    <a:lnTo>
                      <a:pt x="1620" y="1056"/>
                    </a:lnTo>
                    <a:lnTo>
                      <a:pt x="1608" y="1062"/>
                    </a:lnTo>
                    <a:lnTo>
                      <a:pt x="1596" y="1068"/>
                    </a:lnTo>
                    <a:lnTo>
                      <a:pt x="1590" y="1062"/>
                    </a:lnTo>
                    <a:lnTo>
                      <a:pt x="1590" y="1056"/>
                    </a:lnTo>
                    <a:lnTo>
                      <a:pt x="1584" y="1056"/>
                    </a:lnTo>
                    <a:lnTo>
                      <a:pt x="1584" y="1050"/>
                    </a:lnTo>
                    <a:lnTo>
                      <a:pt x="1596" y="1038"/>
                    </a:lnTo>
                    <a:lnTo>
                      <a:pt x="1608" y="1032"/>
                    </a:lnTo>
                    <a:lnTo>
                      <a:pt x="1620" y="1020"/>
                    </a:lnTo>
                    <a:lnTo>
                      <a:pt x="1632" y="1014"/>
                    </a:lnTo>
                    <a:lnTo>
                      <a:pt x="1644" y="1002"/>
                    </a:lnTo>
                    <a:lnTo>
                      <a:pt x="1656" y="990"/>
                    </a:lnTo>
                    <a:lnTo>
                      <a:pt x="1662" y="972"/>
                    </a:lnTo>
                    <a:lnTo>
                      <a:pt x="1668" y="954"/>
                    </a:lnTo>
                    <a:lnTo>
                      <a:pt x="1674" y="936"/>
                    </a:lnTo>
                    <a:lnTo>
                      <a:pt x="1680" y="918"/>
                    </a:lnTo>
                    <a:lnTo>
                      <a:pt x="1674" y="900"/>
                    </a:lnTo>
                    <a:lnTo>
                      <a:pt x="1674" y="876"/>
                    </a:lnTo>
                    <a:lnTo>
                      <a:pt x="1662" y="870"/>
                    </a:lnTo>
                    <a:lnTo>
                      <a:pt x="1650" y="864"/>
                    </a:lnTo>
                    <a:lnTo>
                      <a:pt x="1638" y="858"/>
                    </a:lnTo>
                    <a:lnTo>
                      <a:pt x="1626" y="858"/>
                    </a:lnTo>
                    <a:lnTo>
                      <a:pt x="1614" y="852"/>
                    </a:lnTo>
                    <a:lnTo>
                      <a:pt x="1602" y="852"/>
                    </a:lnTo>
                    <a:lnTo>
                      <a:pt x="1602" y="858"/>
                    </a:lnTo>
                    <a:lnTo>
                      <a:pt x="1602" y="864"/>
                    </a:lnTo>
                    <a:lnTo>
                      <a:pt x="1608" y="870"/>
                    </a:lnTo>
                    <a:lnTo>
                      <a:pt x="1614" y="876"/>
                    </a:lnTo>
                    <a:lnTo>
                      <a:pt x="1620" y="876"/>
                    </a:lnTo>
                    <a:lnTo>
                      <a:pt x="1626" y="882"/>
                    </a:lnTo>
                    <a:lnTo>
                      <a:pt x="1626" y="894"/>
                    </a:lnTo>
                    <a:lnTo>
                      <a:pt x="1626" y="906"/>
                    </a:lnTo>
                    <a:lnTo>
                      <a:pt x="1626" y="912"/>
                    </a:lnTo>
                    <a:lnTo>
                      <a:pt x="1620" y="924"/>
                    </a:lnTo>
                    <a:lnTo>
                      <a:pt x="1614" y="930"/>
                    </a:lnTo>
                    <a:lnTo>
                      <a:pt x="1608" y="942"/>
                    </a:lnTo>
                    <a:lnTo>
                      <a:pt x="1602" y="948"/>
                    </a:lnTo>
                    <a:lnTo>
                      <a:pt x="1590" y="954"/>
                    </a:lnTo>
                    <a:lnTo>
                      <a:pt x="1578" y="960"/>
                    </a:lnTo>
                    <a:lnTo>
                      <a:pt x="1572" y="972"/>
                    </a:lnTo>
                    <a:lnTo>
                      <a:pt x="1560" y="978"/>
                    </a:lnTo>
                    <a:lnTo>
                      <a:pt x="1548" y="984"/>
                    </a:lnTo>
                    <a:lnTo>
                      <a:pt x="1548" y="966"/>
                    </a:lnTo>
                    <a:lnTo>
                      <a:pt x="1542" y="954"/>
                    </a:lnTo>
                    <a:lnTo>
                      <a:pt x="1536" y="936"/>
                    </a:lnTo>
                    <a:lnTo>
                      <a:pt x="1530" y="924"/>
                    </a:lnTo>
                    <a:lnTo>
                      <a:pt x="1518" y="906"/>
                    </a:lnTo>
                    <a:lnTo>
                      <a:pt x="1506" y="894"/>
                    </a:lnTo>
                    <a:lnTo>
                      <a:pt x="1494" y="864"/>
                    </a:lnTo>
                    <a:lnTo>
                      <a:pt x="1476" y="834"/>
                    </a:lnTo>
                    <a:lnTo>
                      <a:pt x="1458" y="798"/>
                    </a:lnTo>
                    <a:lnTo>
                      <a:pt x="1446" y="768"/>
                    </a:lnTo>
                    <a:lnTo>
                      <a:pt x="1434" y="732"/>
                    </a:lnTo>
                    <a:lnTo>
                      <a:pt x="1434" y="690"/>
                    </a:lnTo>
                    <a:lnTo>
                      <a:pt x="1440" y="678"/>
                    </a:lnTo>
                    <a:lnTo>
                      <a:pt x="1452" y="672"/>
                    </a:lnTo>
                    <a:lnTo>
                      <a:pt x="1464" y="666"/>
                    </a:lnTo>
                    <a:lnTo>
                      <a:pt x="1476" y="666"/>
                    </a:lnTo>
                    <a:lnTo>
                      <a:pt x="1488" y="666"/>
                    </a:lnTo>
                    <a:lnTo>
                      <a:pt x="1500" y="666"/>
                    </a:lnTo>
                    <a:lnTo>
                      <a:pt x="1512" y="672"/>
                    </a:lnTo>
                    <a:lnTo>
                      <a:pt x="1512" y="678"/>
                    </a:lnTo>
                    <a:lnTo>
                      <a:pt x="1518" y="684"/>
                    </a:lnTo>
                    <a:lnTo>
                      <a:pt x="1518" y="690"/>
                    </a:lnTo>
                    <a:lnTo>
                      <a:pt x="1524" y="696"/>
                    </a:lnTo>
                    <a:lnTo>
                      <a:pt x="1530" y="696"/>
                    </a:lnTo>
                    <a:lnTo>
                      <a:pt x="1530" y="654"/>
                    </a:lnTo>
                    <a:lnTo>
                      <a:pt x="1530" y="648"/>
                    </a:lnTo>
                    <a:lnTo>
                      <a:pt x="1524" y="636"/>
                    </a:lnTo>
                    <a:lnTo>
                      <a:pt x="1518" y="630"/>
                    </a:lnTo>
                    <a:lnTo>
                      <a:pt x="1512" y="624"/>
                    </a:lnTo>
                    <a:lnTo>
                      <a:pt x="1506" y="618"/>
                    </a:lnTo>
                    <a:lnTo>
                      <a:pt x="1494" y="612"/>
                    </a:lnTo>
                    <a:lnTo>
                      <a:pt x="1488" y="612"/>
                    </a:lnTo>
                    <a:lnTo>
                      <a:pt x="1482" y="612"/>
                    </a:lnTo>
                    <a:lnTo>
                      <a:pt x="1482" y="606"/>
                    </a:lnTo>
                    <a:lnTo>
                      <a:pt x="1464" y="606"/>
                    </a:lnTo>
                    <a:lnTo>
                      <a:pt x="1446" y="606"/>
                    </a:lnTo>
                    <a:lnTo>
                      <a:pt x="1434" y="612"/>
                    </a:lnTo>
                    <a:lnTo>
                      <a:pt x="1422" y="618"/>
                    </a:lnTo>
                    <a:lnTo>
                      <a:pt x="1404" y="630"/>
                    </a:lnTo>
                    <a:lnTo>
                      <a:pt x="1392" y="642"/>
                    </a:lnTo>
                    <a:lnTo>
                      <a:pt x="1386" y="612"/>
                    </a:lnTo>
                    <a:lnTo>
                      <a:pt x="1380" y="588"/>
                    </a:lnTo>
                    <a:lnTo>
                      <a:pt x="1380" y="558"/>
                    </a:lnTo>
                    <a:lnTo>
                      <a:pt x="1380" y="528"/>
                    </a:lnTo>
                    <a:lnTo>
                      <a:pt x="1386" y="498"/>
                    </a:lnTo>
                    <a:lnTo>
                      <a:pt x="1392" y="474"/>
                    </a:lnTo>
                    <a:lnTo>
                      <a:pt x="1404" y="444"/>
                    </a:lnTo>
                    <a:lnTo>
                      <a:pt x="1422" y="420"/>
                    </a:lnTo>
                    <a:lnTo>
                      <a:pt x="1440" y="390"/>
                    </a:lnTo>
                    <a:lnTo>
                      <a:pt x="1464" y="366"/>
                    </a:lnTo>
                    <a:lnTo>
                      <a:pt x="1488" y="348"/>
                    </a:lnTo>
                    <a:lnTo>
                      <a:pt x="1518" y="330"/>
                    </a:lnTo>
                    <a:lnTo>
                      <a:pt x="1536" y="330"/>
                    </a:lnTo>
                    <a:lnTo>
                      <a:pt x="1548" y="336"/>
                    </a:lnTo>
                    <a:lnTo>
                      <a:pt x="1566" y="342"/>
                    </a:lnTo>
                    <a:lnTo>
                      <a:pt x="1578" y="354"/>
                    </a:lnTo>
                    <a:lnTo>
                      <a:pt x="1590" y="366"/>
                    </a:lnTo>
                    <a:lnTo>
                      <a:pt x="1596" y="378"/>
                    </a:lnTo>
                    <a:lnTo>
                      <a:pt x="1602" y="396"/>
                    </a:lnTo>
                    <a:lnTo>
                      <a:pt x="1602" y="408"/>
                    </a:lnTo>
                    <a:lnTo>
                      <a:pt x="1602" y="420"/>
                    </a:lnTo>
                    <a:lnTo>
                      <a:pt x="1596" y="438"/>
                    </a:lnTo>
                    <a:lnTo>
                      <a:pt x="1590" y="450"/>
                    </a:lnTo>
                    <a:lnTo>
                      <a:pt x="1584" y="462"/>
                    </a:lnTo>
                    <a:lnTo>
                      <a:pt x="1578" y="468"/>
                    </a:lnTo>
                    <a:lnTo>
                      <a:pt x="1572" y="468"/>
                    </a:lnTo>
                    <a:lnTo>
                      <a:pt x="1566" y="468"/>
                    </a:lnTo>
                    <a:lnTo>
                      <a:pt x="1554" y="468"/>
                    </a:lnTo>
                    <a:lnTo>
                      <a:pt x="1548" y="468"/>
                    </a:lnTo>
                    <a:lnTo>
                      <a:pt x="1542" y="474"/>
                    </a:lnTo>
                    <a:lnTo>
                      <a:pt x="1530" y="468"/>
                    </a:lnTo>
                    <a:lnTo>
                      <a:pt x="1524" y="462"/>
                    </a:lnTo>
                    <a:lnTo>
                      <a:pt x="1524" y="450"/>
                    </a:lnTo>
                    <a:lnTo>
                      <a:pt x="1518" y="444"/>
                    </a:lnTo>
                    <a:lnTo>
                      <a:pt x="1518" y="432"/>
                    </a:lnTo>
                    <a:lnTo>
                      <a:pt x="1518" y="426"/>
                    </a:lnTo>
                    <a:lnTo>
                      <a:pt x="1506" y="426"/>
                    </a:lnTo>
                    <a:lnTo>
                      <a:pt x="1500" y="426"/>
                    </a:lnTo>
                    <a:lnTo>
                      <a:pt x="1500" y="432"/>
                    </a:lnTo>
                    <a:lnTo>
                      <a:pt x="1500" y="438"/>
                    </a:lnTo>
                    <a:lnTo>
                      <a:pt x="1494" y="444"/>
                    </a:lnTo>
                    <a:lnTo>
                      <a:pt x="1488" y="450"/>
                    </a:lnTo>
                    <a:lnTo>
                      <a:pt x="1488" y="462"/>
                    </a:lnTo>
                    <a:lnTo>
                      <a:pt x="1488" y="474"/>
                    </a:lnTo>
                    <a:lnTo>
                      <a:pt x="1494" y="480"/>
                    </a:lnTo>
                    <a:lnTo>
                      <a:pt x="1500" y="486"/>
                    </a:lnTo>
                    <a:lnTo>
                      <a:pt x="1506" y="498"/>
                    </a:lnTo>
                    <a:lnTo>
                      <a:pt x="1506" y="504"/>
                    </a:lnTo>
                    <a:lnTo>
                      <a:pt x="1512" y="510"/>
                    </a:lnTo>
                    <a:lnTo>
                      <a:pt x="1524" y="516"/>
                    </a:lnTo>
                    <a:lnTo>
                      <a:pt x="1530" y="516"/>
                    </a:lnTo>
                    <a:lnTo>
                      <a:pt x="1536" y="516"/>
                    </a:lnTo>
                    <a:lnTo>
                      <a:pt x="1542" y="516"/>
                    </a:lnTo>
                    <a:lnTo>
                      <a:pt x="1548" y="516"/>
                    </a:lnTo>
                    <a:lnTo>
                      <a:pt x="1548" y="522"/>
                    </a:lnTo>
                    <a:lnTo>
                      <a:pt x="1548" y="528"/>
                    </a:lnTo>
                    <a:lnTo>
                      <a:pt x="1548" y="534"/>
                    </a:lnTo>
                    <a:lnTo>
                      <a:pt x="1542" y="534"/>
                    </a:lnTo>
                    <a:lnTo>
                      <a:pt x="1542" y="540"/>
                    </a:lnTo>
                    <a:lnTo>
                      <a:pt x="1542" y="552"/>
                    </a:lnTo>
                    <a:lnTo>
                      <a:pt x="1542" y="558"/>
                    </a:lnTo>
                    <a:lnTo>
                      <a:pt x="1548" y="570"/>
                    </a:lnTo>
                    <a:lnTo>
                      <a:pt x="1548" y="576"/>
                    </a:lnTo>
                    <a:lnTo>
                      <a:pt x="1554" y="582"/>
                    </a:lnTo>
                    <a:lnTo>
                      <a:pt x="1566" y="588"/>
                    </a:lnTo>
                    <a:lnTo>
                      <a:pt x="1566" y="594"/>
                    </a:lnTo>
                    <a:lnTo>
                      <a:pt x="1572" y="594"/>
                    </a:lnTo>
                    <a:lnTo>
                      <a:pt x="1578" y="594"/>
                    </a:lnTo>
                    <a:lnTo>
                      <a:pt x="1584" y="594"/>
                    </a:lnTo>
                    <a:lnTo>
                      <a:pt x="1590" y="594"/>
                    </a:lnTo>
                    <a:lnTo>
                      <a:pt x="1590" y="588"/>
                    </a:lnTo>
                    <a:lnTo>
                      <a:pt x="1590" y="582"/>
                    </a:lnTo>
                    <a:lnTo>
                      <a:pt x="1584" y="576"/>
                    </a:lnTo>
                    <a:lnTo>
                      <a:pt x="1584" y="570"/>
                    </a:lnTo>
                    <a:lnTo>
                      <a:pt x="1578" y="570"/>
                    </a:lnTo>
                    <a:lnTo>
                      <a:pt x="1578" y="564"/>
                    </a:lnTo>
                    <a:lnTo>
                      <a:pt x="1590" y="540"/>
                    </a:lnTo>
                    <a:lnTo>
                      <a:pt x="1608" y="522"/>
                    </a:lnTo>
                    <a:lnTo>
                      <a:pt x="1626" y="510"/>
                    </a:lnTo>
                    <a:lnTo>
                      <a:pt x="1650" y="492"/>
                    </a:lnTo>
                    <a:lnTo>
                      <a:pt x="1668" y="474"/>
                    </a:lnTo>
                    <a:lnTo>
                      <a:pt x="1686" y="456"/>
                    </a:lnTo>
                    <a:lnTo>
                      <a:pt x="1692" y="432"/>
                    </a:lnTo>
                    <a:lnTo>
                      <a:pt x="1704" y="414"/>
                    </a:lnTo>
                    <a:lnTo>
                      <a:pt x="1710" y="390"/>
                    </a:lnTo>
                    <a:lnTo>
                      <a:pt x="1710" y="366"/>
                    </a:lnTo>
                    <a:lnTo>
                      <a:pt x="1710" y="342"/>
                    </a:lnTo>
                    <a:lnTo>
                      <a:pt x="1698" y="318"/>
                    </a:lnTo>
                    <a:lnTo>
                      <a:pt x="1686" y="300"/>
                    </a:lnTo>
                    <a:lnTo>
                      <a:pt x="1662" y="282"/>
                    </a:lnTo>
                    <a:lnTo>
                      <a:pt x="1638" y="270"/>
                    </a:lnTo>
                    <a:lnTo>
                      <a:pt x="1614" y="264"/>
                    </a:lnTo>
                    <a:lnTo>
                      <a:pt x="1590" y="258"/>
                    </a:lnTo>
                    <a:lnTo>
                      <a:pt x="1560" y="258"/>
                    </a:lnTo>
                    <a:lnTo>
                      <a:pt x="1572" y="252"/>
                    </a:lnTo>
                    <a:lnTo>
                      <a:pt x="1584" y="246"/>
                    </a:lnTo>
                    <a:lnTo>
                      <a:pt x="1596" y="246"/>
                    </a:lnTo>
                    <a:lnTo>
                      <a:pt x="1608" y="246"/>
                    </a:lnTo>
                    <a:lnTo>
                      <a:pt x="1620" y="246"/>
                    </a:lnTo>
                    <a:lnTo>
                      <a:pt x="1632" y="252"/>
                    </a:lnTo>
                    <a:lnTo>
                      <a:pt x="1650" y="246"/>
                    </a:lnTo>
                    <a:lnTo>
                      <a:pt x="1668" y="246"/>
                    </a:lnTo>
                    <a:lnTo>
                      <a:pt x="1686" y="234"/>
                    </a:lnTo>
                    <a:lnTo>
                      <a:pt x="1698" y="228"/>
                    </a:lnTo>
                    <a:lnTo>
                      <a:pt x="1716" y="216"/>
                    </a:lnTo>
                    <a:lnTo>
                      <a:pt x="1722" y="198"/>
                    </a:lnTo>
                    <a:lnTo>
                      <a:pt x="1728" y="198"/>
                    </a:lnTo>
                    <a:lnTo>
                      <a:pt x="1740" y="174"/>
                    </a:lnTo>
                    <a:lnTo>
                      <a:pt x="1746" y="156"/>
                    </a:lnTo>
                    <a:lnTo>
                      <a:pt x="1746" y="132"/>
                    </a:lnTo>
                    <a:lnTo>
                      <a:pt x="1740" y="114"/>
                    </a:lnTo>
                    <a:lnTo>
                      <a:pt x="1734" y="96"/>
                    </a:lnTo>
                    <a:lnTo>
                      <a:pt x="1728" y="78"/>
                    </a:lnTo>
                    <a:lnTo>
                      <a:pt x="1716" y="60"/>
                    </a:lnTo>
                    <a:lnTo>
                      <a:pt x="1698" y="48"/>
                    </a:lnTo>
                    <a:lnTo>
                      <a:pt x="1686" y="42"/>
                    </a:lnTo>
                    <a:lnTo>
                      <a:pt x="1668" y="36"/>
                    </a:lnTo>
                    <a:lnTo>
                      <a:pt x="1650" y="30"/>
                    </a:lnTo>
                    <a:lnTo>
                      <a:pt x="1632" y="30"/>
                    </a:lnTo>
                    <a:lnTo>
                      <a:pt x="1620" y="30"/>
                    </a:lnTo>
                    <a:lnTo>
                      <a:pt x="1608" y="36"/>
                    </a:lnTo>
                    <a:lnTo>
                      <a:pt x="1602" y="36"/>
                    </a:lnTo>
                    <a:lnTo>
                      <a:pt x="1596" y="42"/>
                    </a:lnTo>
                    <a:lnTo>
                      <a:pt x="1590" y="48"/>
                    </a:lnTo>
                    <a:lnTo>
                      <a:pt x="1584" y="54"/>
                    </a:lnTo>
                    <a:lnTo>
                      <a:pt x="1578" y="60"/>
                    </a:lnTo>
                    <a:lnTo>
                      <a:pt x="1578" y="66"/>
                    </a:lnTo>
                    <a:lnTo>
                      <a:pt x="1578" y="78"/>
                    </a:lnTo>
                    <a:lnTo>
                      <a:pt x="1578" y="84"/>
                    </a:lnTo>
                    <a:lnTo>
                      <a:pt x="1578" y="90"/>
                    </a:lnTo>
                    <a:lnTo>
                      <a:pt x="1584" y="96"/>
                    </a:lnTo>
                    <a:lnTo>
                      <a:pt x="1590" y="102"/>
                    </a:lnTo>
                    <a:lnTo>
                      <a:pt x="1614" y="84"/>
                    </a:lnTo>
                    <a:lnTo>
                      <a:pt x="1620" y="78"/>
                    </a:lnTo>
                    <a:lnTo>
                      <a:pt x="1626" y="78"/>
                    </a:lnTo>
                    <a:lnTo>
                      <a:pt x="1632" y="78"/>
                    </a:lnTo>
                    <a:lnTo>
                      <a:pt x="1638" y="78"/>
                    </a:lnTo>
                    <a:lnTo>
                      <a:pt x="1644" y="84"/>
                    </a:lnTo>
                    <a:lnTo>
                      <a:pt x="1644" y="90"/>
                    </a:lnTo>
                    <a:lnTo>
                      <a:pt x="1650" y="102"/>
                    </a:lnTo>
                    <a:lnTo>
                      <a:pt x="1650" y="108"/>
                    </a:lnTo>
                    <a:lnTo>
                      <a:pt x="1644" y="120"/>
                    </a:lnTo>
                    <a:lnTo>
                      <a:pt x="1644" y="132"/>
                    </a:lnTo>
                    <a:lnTo>
                      <a:pt x="1638" y="138"/>
                    </a:lnTo>
                    <a:lnTo>
                      <a:pt x="1638" y="150"/>
                    </a:lnTo>
                    <a:lnTo>
                      <a:pt x="1620" y="168"/>
                    </a:lnTo>
                    <a:lnTo>
                      <a:pt x="1596" y="174"/>
                    </a:lnTo>
                    <a:lnTo>
                      <a:pt x="1572" y="174"/>
                    </a:lnTo>
                    <a:lnTo>
                      <a:pt x="1548" y="168"/>
                    </a:lnTo>
                    <a:lnTo>
                      <a:pt x="1524" y="168"/>
                    </a:lnTo>
                    <a:lnTo>
                      <a:pt x="1506" y="174"/>
                    </a:lnTo>
                    <a:lnTo>
                      <a:pt x="1506" y="168"/>
                    </a:lnTo>
                    <a:lnTo>
                      <a:pt x="1506" y="162"/>
                    </a:lnTo>
                    <a:lnTo>
                      <a:pt x="1506" y="156"/>
                    </a:lnTo>
                    <a:lnTo>
                      <a:pt x="1500" y="156"/>
                    </a:lnTo>
                    <a:lnTo>
                      <a:pt x="1500" y="150"/>
                    </a:lnTo>
                    <a:lnTo>
                      <a:pt x="1500" y="144"/>
                    </a:lnTo>
                    <a:lnTo>
                      <a:pt x="1500" y="132"/>
                    </a:lnTo>
                    <a:lnTo>
                      <a:pt x="1494" y="132"/>
                    </a:lnTo>
                    <a:lnTo>
                      <a:pt x="1494" y="126"/>
                    </a:lnTo>
                    <a:lnTo>
                      <a:pt x="1488" y="120"/>
                    </a:lnTo>
                    <a:lnTo>
                      <a:pt x="1482" y="108"/>
                    </a:lnTo>
                    <a:lnTo>
                      <a:pt x="1464" y="96"/>
                    </a:lnTo>
                    <a:lnTo>
                      <a:pt x="1440" y="84"/>
                    </a:lnTo>
                    <a:lnTo>
                      <a:pt x="1422" y="84"/>
                    </a:lnTo>
                    <a:lnTo>
                      <a:pt x="1398" y="84"/>
                    </a:lnTo>
                    <a:lnTo>
                      <a:pt x="1374" y="84"/>
                    </a:lnTo>
                    <a:lnTo>
                      <a:pt x="1356" y="90"/>
                    </a:lnTo>
                    <a:lnTo>
                      <a:pt x="1344" y="102"/>
                    </a:lnTo>
                    <a:lnTo>
                      <a:pt x="1332" y="108"/>
                    </a:lnTo>
                    <a:lnTo>
                      <a:pt x="1320" y="120"/>
                    </a:lnTo>
                    <a:lnTo>
                      <a:pt x="1314" y="132"/>
                    </a:lnTo>
                    <a:lnTo>
                      <a:pt x="1308" y="144"/>
                    </a:lnTo>
                    <a:lnTo>
                      <a:pt x="1302" y="156"/>
                    </a:lnTo>
                    <a:lnTo>
                      <a:pt x="1308" y="168"/>
                    </a:lnTo>
                    <a:lnTo>
                      <a:pt x="1308" y="174"/>
                    </a:lnTo>
                    <a:lnTo>
                      <a:pt x="1308" y="180"/>
                    </a:lnTo>
                    <a:lnTo>
                      <a:pt x="1314" y="186"/>
                    </a:lnTo>
                    <a:lnTo>
                      <a:pt x="1314" y="192"/>
                    </a:lnTo>
                    <a:lnTo>
                      <a:pt x="1320" y="198"/>
                    </a:lnTo>
                    <a:lnTo>
                      <a:pt x="1332" y="204"/>
                    </a:lnTo>
                    <a:lnTo>
                      <a:pt x="1338" y="204"/>
                    </a:lnTo>
                    <a:lnTo>
                      <a:pt x="1344" y="210"/>
                    </a:lnTo>
                    <a:lnTo>
                      <a:pt x="1350" y="210"/>
                    </a:lnTo>
                    <a:lnTo>
                      <a:pt x="1356" y="210"/>
                    </a:lnTo>
                    <a:lnTo>
                      <a:pt x="1362" y="210"/>
                    </a:lnTo>
                    <a:lnTo>
                      <a:pt x="1362" y="204"/>
                    </a:lnTo>
                    <a:lnTo>
                      <a:pt x="1362" y="198"/>
                    </a:lnTo>
                    <a:lnTo>
                      <a:pt x="1356" y="198"/>
                    </a:lnTo>
                    <a:lnTo>
                      <a:pt x="1356" y="192"/>
                    </a:lnTo>
                    <a:lnTo>
                      <a:pt x="1356" y="186"/>
                    </a:lnTo>
                    <a:lnTo>
                      <a:pt x="1356" y="180"/>
                    </a:lnTo>
                    <a:lnTo>
                      <a:pt x="1356" y="174"/>
                    </a:lnTo>
                    <a:lnTo>
                      <a:pt x="1362" y="174"/>
                    </a:lnTo>
                    <a:lnTo>
                      <a:pt x="1368" y="168"/>
                    </a:lnTo>
                    <a:lnTo>
                      <a:pt x="1374" y="162"/>
                    </a:lnTo>
                    <a:lnTo>
                      <a:pt x="1380" y="162"/>
                    </a:lnTo>
                    <a:lnTo>
                      <a:pt x="1386" y="168"/>
                    </a:lnTo>
                    <a:lnTo>
                      <a:pt x="1398" y="168"/>
                    </a:lnTo>
                    <a:lnTo>
                      <a:pt x="1404" y="174"/>
                    </a:lnTo>
                    <a:lnTo>
                      <a:pt x="1404" y="186"/>
                    </a:lnTo>
                    <a:lnTo>
                      <a:pt x="1404" y="192"/>
                    </a:lnTo>
                    <a:lnTo>
                      <a:pt x="1410" y="198"/>
                    </a:lnTo>
                    <a:lnTo>
                      <a:pt x="1410" y="204"/>
                    </a:lnTo>
                    <a:lnTo>
                      <a:pt x="1410" y="210"/>
                    </a:lnTo>
                    <a:lnTo>
                      <a:pt x="1410" y="222"/>
                    </a:lnTo>
                    <a:lnTo>
                      <a:pt x="1392" y="258"/>
                    </a:lnTo>
                    <a:lnTo>
                      <a:pt x="1368" y="300"/>
                    </a:lnTo>
                    <a:lnTo>
                      <a:pt x="1350" y="342"/>
                    </a:lnTo>
                    <a:lnTo>
                      <a:pt x="1338" y="384"/>
                    </a:lnTo>
                    <a:lnTo>
                      <a:pt x="1326" y="426"/>
                    </a:lnTo>
                    <a:lnTo>
                      <a:pt x="1314" y="468"/>
                    </a:lnTo>
                    <a:lnTo>
                      <a:pt x="1302" y="534"/>
                    </a:lnTo>
                    <a:lnTo>
                      <a:pt x="1302" y="600"/>
                    </a:lnTo>
                    <a:lnTo>
                      <a:pt x="1314" y="666"/>
                    </a:lnTo>
                    <a:lnTo>
                      <a:pt x="1326" y="732"/>
                    </a:lnTo>
                    <a:lnTo>
                      <a:pt x="1344" y="792"/>
                    </a:lnTo>
                    <a:lnTo>
                      <a:pt x="1356" y="852"/>
                    </a:lnTo>
                    <a:lnTo>
                      <a:pt x="1362" y="870"/>
                    </a:lnTo>
                    <a:lnTo>
                      <a:pt x="1374" y="888"/>
                    </a:lnTo>
                    <a:lnTo>
                      <a:pt x="1386" y="906"/>
                    </a:lnTo>
                    <a:lnTo>
                      <a:pt x="1398" y="924"/>
                    </a:lnTo>
                    <a:lnTo>
                      <a:pt x="1416" y="942"/>
                    </a:lnTo>
                    <a:lnTo>
                      <a:pt x="1422" y="966"/>
                    </a:lnTo>
                    <a:lnTo>
                      <a:pt x="1410" y="966"/>
                    </a:lnTo>
                    <a:lnTo>
                      <a:pt x="1392" y="966"/>
                    </a:lnTo>
                    <a:lnTo>
                      <a:pt x="1380" y="966"/>
                    </a:lnTo>
                    <a:lnTo>
                      <a:pt x="1368" y="966"/>
                    </a:lnTo>
                    <a:lnTo>
                      <a:pt x="1350" y="966"/>
                    </a:lnTo>
                    <a:lnTo>
                      <a:pt x="1338" y="966"/>
                    </a:lnTo>
                    <a:lnTo>
                      <a:pt x="1326" y="960"/>
                    </a:lnTo>
                    <a:lnTo>
                      <a:pt x="1314" y="948"/>
                    </a:lnTo>
                    <a:lnTo>
                      <a:pt x="1308" y="942"/>
                    </a:lnTo>
                    <a:lnTo>
                      <a:pt x="1308" y="930"/>
                    </a:lnTo>
                    <a:lnTo>
                      <a:pt x="1302" y="918"/>
                    </a:lnTo>
                    <a:lnTo>
                      <a:pt x="1302" y="906"/>
                    </a:lnTo>
                    <a:lnTo>
                      <a:pt x="1302" y="900"/>
                    </a:lnTo>
                    <a:lnTo>
                      <a:pt x="1308" y="894"/>
                    </a:lnTo>
                    <a:lnTo>
                      <a:pt x="1314" y="888"/>
                    </a:lnTo>
                    <a:lnTo>
                      <a:pt x="1320" y="882"/>
                    </a:lnTo>
                    <a:lnTo>
                      <a:pt x="1326" y="882"/>
                    </a:lnTo>
                    <a:lnTo>
                      <a:pt x="1332" y="876"/>
                    </a:lnTo>
                    <a:lnTo>
                      <a:pt x="1326" y="870"/>
                    </a:lnTo>
                    <a:lnTo>
                      <a:pt x="1314" y="870"/>
                    </a:lnTo>
                    <a:lnTo>
                      <a:pt x="1302" y="870"/>
                    </a:lnTo>
                    <a:lnTo>
                      <a:pt x="1290" y="870"/>
                    </a:lnTo>
                    <a:lnTo>
                      <a:pt x="1278" y="870"/>
                    </a:lnTo>
                    <a:lnTo>
                      <a:pt x="1266" y="876"/>
                    </a:lnTo>
                    <a:lnTo>
                      <a:pt x="1254" y="882"/>
                    </a:lnTo>
                    <a:lnTo>
                      <a:pt x="1254" y="894"/>
                    </a:lnTo>
                    <a:lnTo>
                      <a:pt x="1248" y="906"/>
                    </a:lnTo>
                    <a:lnTo>
                      <a:pt x="1242" y="924"/>
                    </a:lnTo>
                    <a:lnTo>
                      <a:pt x="1242" y="936"/>
                    </a:lnTo>
                    <a:lnTo>
                      <a:pt x="1242" y="954"/>
                    </a:lnTo>
                    <a:lnTo>
                      <a:pt x="1248" y="966"/>
                    </a:lnTo>
                    <a:lnTo>
                      <a:pt x="1248" y="978"/>
                    </a:lnTo>
                    <a:lnTo>
                      <a:pt x="1254" y="990"/>
                    </a:lnTo>
                    <a:lnTo>
                      <a:pt x="1266" y="996"/>
                    </a:lnTo>
                    <a:lnTo>
                      <a:pt x="1272" y="1008"/>
                    </a:lnTo>
                    <a:lnTo>
                      <a:pt x="1284" y="1014"/>
                    </a:lnTo>
                    <a:lnTo>
                      <a:pt x="1296" y="1014"/>
                    </a:lnTo>
                    <a:lnTo>
                      <a:pt x="1284" y="1020"/>
                    </a:lnTo>
                    <a:lnTo>
                      <a:pt x="1272" y="1020"/>
                    </a:lnTo>
                    <a:lnTo>
                      <a:pt x="1260" y="1020"/>
                    </a:lnTo>
                    <a:lnTo>
                      <a:pt x="1248" y="1026"/>
                    </a:lnTo>
                    <a:lnTo>
                      <a:pt x="1236" y="1026"/>
                    </a:lnTo>
                    <a:lnTo>
                      <a:pt x="1230" y="1026"/>
                    </a:lnTo>
                    <a:lnTo>
                      <a:pt x="1224" y="1032"/>
                    </a:lnTo>
                    <a:lnTo>
                      <a:pt x="1236" y="1044"/>
                    </a:lnTo>
                    <a:lnTo>
                      <a:pt x="1242" y="1050"/>
                    </a:lnTo>
                    <a:lnTo>
                      <a:pt x="1254" y="1056"/>
                    </a:lnTo>
                    <a:lnTo>
                      <a:pt x="1266" y="1062"/>
                    </a:lnTo>
                    <a:lnTo>
                      <a:pt x="1278" y="1068"/>
                    </a:lnTo>
                    <a:lnTo>
                      <a:pt x="1290" y="1068"/>
                    </a:lnTo>
                    <a:lnTo>
                      <a:pt x="1284" y="1074"/>
                    </a:lnTo>
                    <a:lnTo>
                      <a:pt x="1278" y="1080"/>
                    </a:lnTo>
                    <a:lnTo>
                      <a:pt x="1278" y="1086"/>
                    </a:lnTo>
                    <a:lnTo>
                      <a:pt x="1278" y="1092"/>
                    </a:lnTo>
                    <a:lnTo>
                      <a:pt x="1278" y="1098"/>
                    </a:lnTo>
                    <a:lnTo>
                      <a:pt x="1272" y="1104"/>
                    </a:lnTo>
                    <a:lnTo>
                      <a:pt x="1272" y="1122"/>
                    </a:lnTo>
                    <a:lnTo>
                      <a:pt x="1278" y="1140"/>
                    </a:lnTo>
                    <a:lnTo>
                      <a:pt x="1290" y="1152"/>
                    </a:lnTo>
                    <a:lnTo>
                      <a:pt x="1302" y="1164"/>
                    </a:lnTo>
                    <a:lnTo>
                      <a:pt x="1314" y="1176"/>
                    </a:lnTo>
                    <a:lnTo>
                      <a:pt x="1326" y="1182"/>
                    </a:lnTo>
                    <a:lnTo>
                      <a:pt x="1332" y="1188"/>
                    </a:lnTo>
                    <a:lnTo>
                      <a:pt x="1338" y="1188"/>
                    </a:lnTo>
                    <a:lnTo>
                      <a:pt x="1344" y="1188"/>
                    </a:lnTo>
                    <a:lnTo>
                      <a:pt x="1350" y="1188"/>
                    </a:lnTo>
                    <a:lnTo>
                      <a:pt x="1350" y="1194"/>
                    </a:lnTo>
                    <a:lnTo>
                      <a:pt x="1356" y="1194"/>
                    </a:lnTo>
                    <a:lnTo>
                      <a:pt x="1368" y="1194"/>
                    </a:lnTo>
                    <a:lnTo>
                      <a:pt x="1380" y="1188"/>
                    </a:lnTo>
                    <a:lnTo>
                      <a:pt x="1392" y="1182"/>
                    </a:lnTo>
                    <a:lnTo>
                      <a:pt x="1404" y="1176"/>
                    </a:lnTo>
                    <a:lnTo>
                      <a:pt x="1416" y="1164"/>
                    </a:lnTo>
                    <a:lnTo>
                      <a:pt x="1422" y="1152"/>
                    </a:lnTo>
                    <a:lnTo>
                      <a:pt x="1422" y="1146"/>
                    </a:lnTo>
                    <a:lnTo>
                      <a:pt x="1422" y="1140"/>
                    </a:lnTo>
                    <a:lnTo>
                      <a:pt x="1416" y="1134"/>
                    </a:lnTo>
                    <a:lnTo>
                      <a:pt x="1410" y="1134"/>
                    </a:lnTo>
                    <a:lnTo>
                      <a:pt x="1398" y="1140"/>
                    </a:lnTo>
                    <a:lnTo>
                      <a:pt x="1386" y="1140"/>
                    </a:lnTo>
                    <a:lnTo>
                      <a:pt x="1374" y="1146"/>
                    </a:lnTo>
                    <a:lnTo>
                      <a:pt x="1368" y="1146"/>
                    </a:lnTo>
                    <a:lnTo>
                      <a:pt x="1356" y="1140"/>
                    </a:lnTo>
                    <a:lnTo>
                      <a:pt x="1344" y="1140"/>
                    </a:lnTo>
                    <a:lnTo>
                      <a:pt x="1338" y="1128"/>
                    </a:lnTo>
                    <a:lnTo>
                      <a:pt x="1338" y="1122"/>
                    </a:lnTo>
                    <a:lnTo>
                      <a:pt x="1332" y="1116"/>
                    </a:lnTo>
                    <a:lnTo>
                      <a:pt x="1332" y="1110"/>
                    </a:lnTo>
                    <a:lnTo>
                      <a:pt x="1332" y="1104"/>
                    </a:lnTo>
                    <a:lnTo>
                      <a:pt x="1338" y="1098"/>
                    </a:lnTo>
                    <a:lnTo>
                      <a:pt x="1344" y="1086"/>
                    </a:lnTo>
                    <a:lnTo>
                      <a:pt x="1350" y="1080"/>
                    </a:lnTo>
                    <a:lnTo>
                      <a:pt x="1356" y="1074"/>
                    </a:lnTo>
                    <a:lnTo>
                      <a:pt x="1368" y="1068"/>
                    </a:lnTo>
                    <a:lnTo>
                      <a:pt x="1374" y="1062"/>
                    </a:lnTo>
                    <a:lnTo>
                      <a:pt x="1386" y="1056"/>
                    </a:lnTo>
                    <a:lnTo>
                      <a:pt x="1398" y="1056"/>
                    </a:lnTo>
                    <a:lnTo>
                      <a:pt x="1410" y="1056"/>
                    </a:lnTo>
                    <a:lnTo>
                      <a:pt x="1416" y="1062"/>
                    </a:lnTo>
                    <a:lnTo>
                      <a:pt x="1428" y="1068"/>
                    </a:lnTo>
                    <a:lnTo>
                      <a:pt x="1440" y="1068"/>
                    </a:lnTo>
                    <a:lnTo>
                      <a:pt x="1446" y="1074"/>
                    </a:lnTo>
                    <a:lnTo>
                      <a:pt x="1470" y="1092"/>
                    </a:lnTo>
                    <a:lnTo>
                      <a:pt x="1482" y="1110"/>
                    </a:lnTo>
                    <a:lnTo>
                      <a:pt x="1500" y="1134"/>
                    </a:lnTo>
                    <a:lnTo>
                      <a:pt x="1506" y="1158"/>
                    </a:lnTo>
                    <a:lnTo>
                      <a:pt x="1512" y="1182"/>
                    </a:lnTo>
                    <a:lnTo>
                      <a:pt x="1518" y="1206"/>
                    </a:lnTo>
                    <a:lnTo>
                      <a:pt x="1518" y="1218"/>
                    </a:lnTo>
                    <a:lnTo>
                      <a:pt x="1512" y="1230"/>
                    </a:lnTo>
                    <a:lnTo>
                      <a:pt x="1506" y="1236"/>
                    </a:lnTo>
                    <a:lnTo>
                      <a:pt x="1500" y="1248"/>
                    </a:lnTo>
                    <a:lnTo>
                      <a:pt x="1488" y="1254"/>
                    </a:lnTo>
                    <a:lnTo>
                      <a:pt x="1482" y="1266"/>
                    </a:lnTo>
                    <a:lnTo>
                      <a:pt x="1458" y="1290"/>
                    </a:lnTo>
                    <a:lnTo>
                      <a:pt x="1434" y="1302"/>
                    </a:lnTo>
                    <a:lnTo>
                      <a:pt x="1404" y="1308"/>
                    </a:lnTo>
                    <a:lnTo>
                      <a:pt x="1374" y="1314"/>
                    </a:lnTo>
                    <a:lnTo>
                      <a:pt x="1338" y="1314"/>
                    </a:lnTo>
                    <a:lnTo>
                      <a:pt x="1308" y="1308"/>
                    </a:lnTo>
                    <a:lnTo>
                      <a:pt x="1266" y="1302"/>
                    </a:lnTo>
                    <a:lnTo>
                      <a:pt x="1224" y="1278"/>
                    </a:lnTo>
                    <a:lnTo>
                      <a:pt x="1182" y="1248"/>
                    </a:lnTo>
                    <a:lnTo>
                      <a:pt x="1152" y="1212"/>
                    </a:lnTo>
                    <a:lnTo>
                      <a:pt x="1122" y="1170"/>
                    </a:lnTo>
                    <a:lnTo>
                      <a:pt x="1092" y="1134"/>
                    </a:lnTo>
                    <a:lnTo>
                      <a:pt x="1086" y="1104"/>
                    </a:lnTo>
                    <a:lnTo>
                      <a:pt x="1074" y="1080"/>
                    </a:lnTo>
                    <a:lnTo>
                      <a:pt x="1062" y="1056"/>
                    </a:lnTo>
                    <a:lnTo>
                      <a:pt x="1056" y="1026"/>
                    </a:lnTo>
                    <a:lnTo>
                      <a:pt x="1050" y="1002"/>
                    </a:lnTo>
                    <a:lnTo>
                      <a:pt x="1044" y="972"/>
                    </a:lnTo>
                    <a:lnTo>
                      <a:pt x="1044" y="966"/>
                    </a:lnTo>
                    <a:lnTo>
                      <a:pt x="1050" y="966"/>
                    </a:lnTo>
                    <a:lnTo>
                      <a:pt x="1062" y="966"/>
                    </a:lnTo>
                    <a:lnTo>
                      <a:pt x="1068" y="966"/>
                    </a:lnTo>
                    <a:lnTo>
                      <a:pt x="1080" y="966"/>
                    </a:lnTo>
                    <a:lnTo>
                      <a:pt x="1080" y="960"/>
                    </a:lnTo>
                    <a:lnTo>
                      <a:pt x="1080" y="948"/>
                    </a:lnTo>
                    <a:lnTo>
                      <a:pt x="1074" y="942"/>
                    </a:lnTo>
                    <a:lnTo>
                      <a:pt x="1068" y="936"/>
                    </a:lnTo>
                    <a:lnTo>
                      <a:pt x="1068" y="924"/>
                    </a:lnTo>
                    <a:lnTo>
                      <a:pt x="1062" y="918"/>
                    </a:lnTo>
                    <a:lnTo>
                      <a:pt x="1056" y="912"/>
                    </a:lnTo>
                    <a:lnTo>
                      <a:pt x="1050" y="888"/>
                    </a:lnTo>
                    <a:lnTo>
                      <a:pt x="1044" y="864"/>
                    </a:lnTo>
                    <a:lnTo>
                      <a:pt x="1050" y="840"/>
                    </a:lnTo>
                    <a:lnTo>
                      <a:pt x="1056" y="822"/>
                    </a:lnTo>
                    <a:lnTo>
                      <a:pt x="1062" y="798"/>
                    </a:lnTo>
                    <a:lnTo>
                      <a:pt x="1074" y="774"/>
                    </a:lnTo>
                    <a:lnTo>
                      <a:pt x="1086" y="798"/>
                    </a:lnTo>
                    <a:lnTo>
                      <a:pt x="1098" y="804"/>
                    </a:lnTo>
                    <a:lnTo>
                      <a:pt x="1116" y="810"/>
                    </a:lnTo>
                    <a:lnTo>
                      <a:pt x="1128" y="816"/>
                    </a:lnTo>
                    <a:lnTo>
                      <a:pt x="1140" y="816"/>
                    </a:lnTo>
                    <a:lnTo>
                      <a:pt x="1158" y="816"/>
                    </a:lnTo>
                    <a:lnTo>
                      <a:pt x="1170" y="810"/>
                    </a:lnTo>
                    <a:lnTo>
                      <a:pt x="1170" y="792"/>
                    </a:lnTo>
                    <a:lnTo>
                      <a:pt x="1164" y="786"/>
                    </a:lnTo>
                    <a:lnTo>
                      <a:pt x="1152" y="780"/>
                    </a:lnTo>
                    <a:lnTo>
                      <a:pt x="1140" y="780"/>
                    </a:lnTo>
                    <a:lnTo>
                      <a:pt x="1128" y="774"/>
                    </a:lnTo>
                    <a:lnTo>
                      <a:pt x="1122" y="762"/>
                    </a:lnTo>
                    <a:lnTo>
                      <a:pt x="1116" y="756"/>
                    </a:lnTo>
                    <a:lnTo>
                      <a:pt x="1116" y="744"/>
                    </a:lnTo>
                    <a:lnTo>
                      <a:pt x="1116" y="732"/>
                    </a:lnTo>
                    <a:lnTo>
                      <a:pt x="1116" y="720"/>
                    </a:lnTo>
                    <a:lnTo>
                      <a:pt x="1122" y="714"/>
                    </a:lnTo>
                    <a:lnTo>
                      <a:pt x="1122" y="702"/>
                    </a:lnTo>
                    <a:lnTo>
                      <a:pt x="1122" y="690"/>
                    </a:lnTo>
                    <a:lnTo>
                      <a:pt x="1128" y="678"/>
                    </a:lnTo>
                    <a:lnTo>
                      <a:pt x="1128" y="666"/>
                    </a:lnTo>
                    <a:lnTo>
                      <a:pt x="1134" y="648"/>
                    </a:lnTo>
                    <a:lnTo>
                      <a:pt x="1134" y="636"/>
                    </a:lnTo>
                    <a:lnTo>
                      <a:pt x="1140" y="624"/>
                    </a:lnTo>
                    <a:lnTo>
                      <a:pt x="1146" y="630"/>
                    </a:lnTo>
                    <a:lnTo>
                      <a:pt x="1158" y="636"/>
                    </a:lnTo>
                    <a:lnTo>
                      <a:pt x="1170" y="630"/>
                    </a:lnTo>
                    <a:lnTo>
                      <a:pt x="1182" y="630"/>
                    </a:lnTo>
                    <a:lnTo>
                      <a:pt x="1194" y="624"/>
                    </a:lnTo>
                    <a:lnTo>
                      <a:pt x="1200" y="624"/>
                    </a:lnTo>
                    <a:lnTo>
                      <a:pt x="1212" y="618"/>
                    </a:lnTo>
                    <a:lnTo>
                      <a:pt x="1218" y="612"/>
                    </a:lnTo>
                    <a:lnTo>
                      <a:pt x="1230" y="600"/>
                    </a:lnTo>
                    <a:lnTo>
                      <a:pt x="1230" y="588"/>
                    </a:lnTo>
                    <a:lnTo>
                      <a:pt x="1236" y="582"/>
                    </a:lnTo>
                    <a:lnTo>
                      <a:pt x="1236" y="570"/>
                    </a:lnTo>
                    <a:lnTo>
                      <a:pt x="1230" y="570"/>
                    </a:lnTo>
                    <a:lnTo>
                      <a:pt x="1224" y="570"/>
                    </a:lnTo>
                    <a:lnTo>
                      <a:pt x="1224" y="576"/>
                    </a:lnTo>
                    <a:lnTo>
                      <a:pt x="1218" y="576"/>
                    </a:lnTo>
                    <a:lnTo>
                      <a:pt x="1212" y="582"/>
                    </a:lnTo>
                    <a:lnTo>
                      <a:pt x="1200" y="582"/>
                    </a:lnTo>
                    <a:lnTo>
                      <a:pt x="1194" y="576"/>
                    </a:lnTo>
                    <a:lnTo>
                      <a:pt x="1188" y="576"/>
                    </a:lnTo>
                    <a:lnTo>
                      <a:pt x="1176" y="570"/>
                    </a:lnTo>
                    <a:lnTo>
                      <a:pt x="1170" y="552"/>
                    </a:lnTo>
                    <a:lnTo>
                      <a:pt x="1170" y="534"/>
                    </a:lnTo>
                    <a:lnTo>
                      <a:pt x="1170" y="516"/>
                    </a:lnTo>
                    <a:lnTo>
                      <a:pt x="1176" y="498"/>
                    </a:lnTo>
                    <a:lnTo>
                      <a:pt x="1182" y="480"/>
                    </a:lnTo>
                    <a:lnTo>
                      <a:pt x="1194" y="462"/>
                    </a:lnTo>
                    <a:lnTo>
                      <a:pt x="1200" y="468"/>
                    </a:lnTo>
                    <a:lnTo>
                      <a:pt x="1212" y="468"/>
                    </a:lnTo>
                    <a:lnTo>
                      <a:pt x="1218" y="462"/>
                    </a:lnTo>
                    <a:lnTo>
                      <a:pt x="1230" y="462"/>
                    </a:lnTo>
                    <a:lnTo>
                      <a:pt x="1242" y="456"/>
                    </a:lnTo>
                    <a:lnTo>
                      <a:pt x="1248" y="450"/>
                    </a:lnTo>
                    <a:lnTo>
                      <a:pt x="1254" y="444"/>
                    </a:lnTo>
                    <a:lnTo>
                      <a:pt x="1254" y="438"/>
                    </a:lnTo>
                    <a:lnTo>
                      <a:pt x="1260" y="432"/>
                    </a:lnTo>
                    <a:lnTo>
                      <a:pt x="1266" y="420"/>
                    </a:lnTo>
                    <a:lnTo>
                      <a:pt x="1266" y="414"/>
                    </a:lnTo>
                    <a:lnTo>
                      <a:pt x="1266" y="408"/>
                    </a:lnTo>
                    <a:lnTo>
                      <a:pt x="1260" y="402"/>
                    </a:lnTo>
                    <a:lnTo>
                      <a:pt x="1248" y="408"/>
                    </a:lnTo>
                    <a:lnTo>
                      <a:pt x="1242" y="408"/>
                    </a:lnTo>
                    <a:lnTo>
                      <a:pt x="1236" y="414"/>
                    </a:lnTo>
                    <a:lnTo>
                      <a:pt x="1230" y="414"/>
                    </a:lnTo>
                    <a:lnTo>
                      <a:pt x="1224" y="414"/>
                    </a:lnTo>
                    <a:lnTo>
                      <a:pt x="1212" y="408"/>
                    </a:lnTo>
                    <a:lnTo>
                      <a:pt x="1206" y="402"/>
                    </a:lnTo>
                    <a:lnTo>
                      <a:pt x="1194" y="396"/>
                    </a:lnTo>
                    <a:lnTo>
                      <a:pt x="1188" y="384"/>
                    </a:lnTo>
                    <a:lnTo>
                      <a:pt x="1182" y="378"/>
                    </a:lnTo>
                    <a:lnTo>
                      <a:pt x="1176" y="366"/>
                    </a:lnTo>
                    <a:lnTo>
                      <a:pt x="1176" y="354"/>
                    </a:lnTo>
                    <a:lnTo>
                      <a:pt x="1176" y="348"/>
                    </a:lnTo>
                    <a:lnTo>
                      <a:pt x="1176" y="336"/>
                    </a:lnTo>
                    <a:lnTo>
                      <a:pt x="1176" y="330"/>
                    </a:lnTo>
                    <a:lnTo>
                      <a:pt x="1176" y="318"/>
                    </a:lnTo>
                    <a:lnTo>
                      <a:pt x="1176" y="312"/>
                    </a:lnTo>
                    <a:lnTo>
                      <a:pt x="1188" y="312"/>
                    </a:lnTo>
                    <a:lnTo>
                      <a:pt x="1200" y="312"/>
                    </a:lnTo>
                    <a:lnTo>
                      <a:pt x="1212" y="306"/>
                    </a:lnTo>
                    <a:lnTo>
                      <a:pt x="1224" y="300"/>
                    </a:lnTo>
                    <a:lnTo>
                      <a:pt x="1236" y="294"/>
                    </a:lnTo>
                    <a:lnTo>
                      <a:pt x="1242" y="282"/>
                    </a:lnTo>
                    <a:lnTo>
                      <a:pt x="1248" y="276"/>
                    </a:lnTo>
                    <a:lnTo>
                      <a:pt x="1254" y="270"/>
                    </a:lnTo>
                    <a:lnTo>
                      <a:pt x="1254" y="264"/>
                    </a:lnTo>
                    <a:lnTo>
                      <a:pt x="1260" y="252"/>
                    </a:lnTo>
                    <a:lnTo>
                      <a:pt x="1260" y="246"/>
                    </a:lnTo>
                    <a:lnTo>
                      <a:pt x="1254" y="240"/>
                    </a:lnTo>
                    <a:lnTo>
                      <a:pt x="1248" y="240"/>
                    </a:lnTo>
                    <a:lnTo>
                      <a:pt x="1242" y="240"/>
                    </a:lnTo>
                    <a:lnTo>
                      <a:pt x="1236" y="246"/>
                    </a:lnTo>
                    <a:lnTo>
                      <a:pt x="1230" y="252"/>
                    </a:lnTo>
                    <a:lnTo>
                      <a:pt x="1224" y="252"/>
                    </a:lnTo>
                    <a:lnTo>
                      <a:pt x="1218" y="258"/>
                    </a:lnTo>
                    <a:lnTo>
                      <a:pt x="1212" y="258"/>
                    </a:lnTo>
                    <a:lnTo>
                      <a:pt x="1206" y="258"/>
                    </a:lnTo>
                    <a:lnTo>
                      <a:pt x="1200" y="252"/>
                    </a:lnTo>
                    <a:lnTo>
                      <a:pt x="1194" y="252"/>
                    </a:lnTo>
                    <a:lnTo>
                      <a:pt x="1188" y="246"/>
                    </a:lnTo>
                    <a:lnTo>
                      <a:pt x="1188" y="240"/>
                    </a:lnTo>
                    <a:lnTo>
                      <a:pt x="1182" y="228"/>
                    </a:lnTo>
                    <a:lnTo>
                      <a:pt x="1170" y="210"/>
                    </a:lnTo>
                    <a:lnTo>
                      <a:pt x="1164" y="198"/>
                    </a:lnTo>
                    <a:lnTo>
                      <a:pt x="1152" y="186"/>
                    </a:lnTo>
                    <a:lnTo>
                      <a:pt x="1140" y="174"/>
                    </a:lnTo>
                    <a:lnTo>
                      <a:pt x="1134" y="162"/>
                    </a:lnTo>
                    <a:lnTo>
                      <a:pt x="1152" y="144"/>
                    </a:lnTo>
                    <a:lnTo>
                      <a:pt x="1158" y="132"/>
                    </a:lnTo>
                    <a:lnTo>
                      <a:pt x="1164" y="120"/>
                    </a:lnTo>
                    <a:lnTo>
                      <a:pt x="1170" y="108"/>
                    </a:lnTo>
                    <a:lnTo>
                      <a:pt x="1170" y="96"/>
                    </a:lnTo>
                    <a:lnTo>
                      <a:pt x="1170" y="84"/>
                    </a:lnTo>
                    <a:lnTo>
                      <a:pt x="1164" y="72"/>
                    </a:lnTo>
                    <a:lnTo>
                      <a:pt x="1158" y="72"/>
                    </a:lnTo>
                    <a:lnTo>
                      <a:pt x="1152" y="72"/>
                    </a:lnTo>
                    <a:lnTo>
                      <a:pt x="1152" y="78"/>
                    </a:lnTo>
                    <a:lnTo>
                      <a:pt x="1146" y="84"/>
                    </a:lnTo>
                    <a:lnTo>
                      <a:pt x="1134" y="90"/>
                    </a:lnTo>
                    <a:lnTo>
                      <a:pt x="1122" y="90"/>
                    </a:lnTo>
                    <a:lnTo>
                      <a:pt x="1116" y="96"/>
                    </a:lnTo>
                    <a:lnTo>
                      <a:pt x="1104" y="96"/>
                    </a:lnTo>
                    <a:lnTo>
                      <a:pt x="1098" y="96"/>
                    </a:lnTo>
                    <a:lnTo>
                      <a:pt x="1086" y="96"/>
                    </a:lnTo>
                    <a:lnTo>
                      <a:pt x="1092" y="90"/>
                    </a:lnTo>
                    <a:lnTo>
                      <a:pt x="1092" y="84"/>
                    </a:lnTo>
                    <a:lnTo>
                      <a:pt x="1098" y="78"/>
                    </a:lnTo>
                    <a:lnTo>
                      <a:pt x="1104" y="72"/>
                    </a:lnTo>
                    <a:lnTo>
                      <a:pt x="1104" y="66"/>
                    </a:lnTo>
                    <a:lnTo>
                      <a:pt x="1110" y="60"/>
                    </a:lnTo>
                    <a:lnTo>
                      <a:pt x="1110" y="48"/>
                    </a:lnTo>
                    <a:lnTo>
                      <a:pt x="1110" y="42"/>
                    </a:lnTo>
                    <a:lnTo>
                      <a:pt x="1104" y="30"/>
                    </a:lnTo>
                    <a:lnTo>
                      <a:pt x="1104" y="24"/>
                    </a:lnTo>
                    <a:lnTo>
                      <a:pt x="1098" y="18"/>
                    </a:lnTo>
                    <a:lnTo>
                      <a:pt x="1080" y="6"/>
                    </a:lnTo>
                    <a:lnTo>
                      <a:pt x="1068" y="0"/>
                    </a:lnTo>
                    <a:lnTo>
                      <a:pt x="1062" y="0"/>
                    </a:lnTo>
                    <a:lnTo>
                      <a:pt x="1050" y="0"/>
                    </a:lnTo>
                    <a:lnTo>
                      <a:pt x="1044" y="0"/>
                    </a:lnTo>
                    <a:lnTo>
                      <a:pt x="1032" y="0"/>
                    </a:lnTo>
                    <a:lnTo>
                      <a:pt x="1026" y="0"/>
                    </a:lnTo>
                    <a:lnTo>
                      <a:pt x="1026" y="6"/>
                    </a:lnTo>
                    <a:lnTo>
                      <a:pt x="1032" y="12"/>
                    </a:lnTo>
                    <a:lnTo>
                      <a:pt x="1038" y="18"/>
                    </a:lnTo>
                    <a:lnTo>
                      <a:pt x="1044" y="24"/>
                    </a:lnTo>
                    <a:lnTo>
                      <a:pt x="1050" y="30"/>
                    </a:lnTo>
                    <a:lnTo>
                      <a:pt x="1050" y="36"/>
                    </a:lnTo>
                    <a:lnTo>
                      <a:pt x="1044" y="54"/>
                    </a:lnTo>
                    <a:lnTo>
                      <a:pt x="1032" y="54"/>
                    </a:lnTo>
                    <a:lnTo>
                      <a:pt x="1014" y="54"/>
                    </a:lnTo>
                    <a:lnTo>
                      <a:pt x="1002" y="48"/>
                    </a:lnTo>
                    <a:lnTo>
                      <a:pt x="984" y="42"/>
                    </a:lnTo>
                    <a:lnTo>
                      <a:pt x="972" y="42"/>
                    </a:lnTo>
                    <a:lnTo>
                      <a:pt x="972" y="36"/>
                    </a:lnTo>
                    <a:lnTo>
                      <a:pt x="966" y="36"/>
                    </a:lnTo>
                    <a:lnTo>
                      <a:pt x="948" y="42"/>
                    </a:lnTo>
                    <a:lnTo>
                      <a:pt x="930" y="42"/>
                    </a:lnTo>
                    <a:lnTo>
                      <a:pt x="912" y="48"/>
                    </a:lnTo>
                    <a:lnTo>
                      <a:pt x="894" y="48"/>
                    </a:lnTo>
                    <a:lnTo>
                      <a:pt x="882" y="54"/>
                    </a:lnTo>
                    <a:lnTo>
                      <a:pt x="864" y="60"/>
                    </a:lnTo>
                    <a:lnTo>
                      <a:pt x="858" y="66"/>
                    </a:lnTo>
                    <a:lnTo>
                      <a:pt x="846" y="72"/>
                    </a:lnTo>
                    <a:lnTo>
                      <a:pt x="840" y="72"/>
                    </a:lnTo>
                    <a:lnTo>
                      <a:pt x="834" y="78"/>
                    </a:lnTo>
                    <a:lnTo>
                      <a:pt x="822" y="84"/>
                    </a:lnTo>
                    <a:lnTo>
                      <a:pt x="816" y="84"/>
                    </a:lnTo>
                    <a:lnTo>
                      <a:pt x="792" y="96"/>
                    </a:lnTo>
                    <a:lnTo>
                      <a:pt x="768" y="102"/>
                    </a:lnTo>
                    <a:lnTo>
                      <a:pt x="738" y="102"/>
                    </a:lnTo>
                    <a:lnTo>
                      <a:pt x="714" y="102"/>
                    </a:lnTo>
                    <a:lnTo>
                      <a:pt x="690" y="108"/>
                    </a:lnTo>
                    <a:lnTo>
                      <a:pt x="672" y="120"/>
                    </a:lnTo>
                    <a:lnTo>
                      <a:pt x="672" y="132"/>
                    </a:lnTo>
                    <a:lnTo>
                      <a:pt x="678" y="138"/>
                    </a:lnTo>
                    <a:lnTo>
                      <a:pt x="684" y="138"/>
                    </a:lnTo>
                    <a:lnTo>
                      <a:pt x="690" y="138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0" y="156"/>
                    </a:lnTo>
                    <a:lnTo>
                      <a:pt x="684" y="156"/>
                    </a:lnTo>
                    <a:lnTo>
                      <a:pt x="684" y="162"/>
                    </a:lnTo>
                    <a:lnTo>
                      <a:pt x="684" y="168"/>
                    </a:lnTo>
                    <a:lnTo>
                      <a:pt x="684" y="174"/>
                    </a:lnTo>
                    <a:lnTo>
                      <a:pt x="684" y="186"/>
                    </a:lnTo>
                    <a:lnTo>
                      <a:pt x="684" y="192"/>
                    </a:lnTo>
                    <a:lnTo>
                      <a:pt x="690" y="198"/>
                    </a:lnTo>
                    <a:lnTo>
                      <a:pt x="696" y="204"/>
                    </a:lnTo>
                    <a:lnTo>
                      <a:pt x="702" y="210"/>
                    </a:lnTo>
                    <a:lnTo>
                      <a:pt x="708" y="210"/>
                    </a:lnTo>
                    <a:lnTo>
                      <a:pt x="708" y="228"/>
                    </a:lnTo>
                    <a:lnTo>
                      <a:pt x="720" y="234"/>
                    </a:lnTo>
                    <a:lnTo>
                      <a:pt x="732" y="240"/>
                    </a:lnTo>
                    <a:lnTo>
                      <a:pt x="744" y="252"/>
                    </a:lnTo>
                    <a:lnTo>
                      <a:pt x="750" y="258"/>
                    </a:lnTo>
                    <a:lnTo>
                      <a:pt x="756" y="276"/>
                    </a:lnTo>
                    <a:lnTo>
                      <a:pt x="744" y="276"/>
                    </a:lnTo>
                    <a:lnTo>
                      <a:pt x="732" y="276"/>
                    </a:lnTo>
                    <a:lnTo>
                      <a:pt x="720" y="276"/>
                    </a:lnTo>
                    <a:lnTo>
                      <a:pt x="708" y="276"/>
                    </a:lnTo>
                    <a:lnTo>
                      <a:pt x="696" y="270"/>
                    </a:lnTo>
                    <a:lnTo>
                      <a:pt x="690" y="264"/>
                    </a:lnTo>
                    <a:lnTo>
                      <a:pt x="678" y="258"/>
                    </a:lnTo>
                    <a:lnTo>
                      <a:pt x="672" y="252"/>
                    </a:lnTo>
                    <a:lnTo>
                      <a:pt x="666" y="246"/>
                    </a:lnTo>
                    <a:lnTo>
                      <a:pt x="666" y="234"/>
                    </a:lnTo>
                    <a:lnTo>
                      <a:pt x="660" y="228"/>
                    </a:lnTo>
                    <a:lnTo>
                      <a:pt x="648" y="222"/>
                    </a:lnTo>
                    <a:lnTo>
                      <a:pt x="642" y="222"/>
                    </a:lnTo>
                    <a:lnTo>
                      <a:pt x="642" y="228"/>
                    </a:lnTo>
                    <a:lnTo>
                      <a:pt x="636" y="228"/>
                    </a:lnTo>
                    <a:lnTo>
                      <a:pt x="636" y="234"/>
                    </a:lnTo>
                    <a:lnTo>
                      <a:pt x="630" y="240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70"/>
                    </a:lnTo>
                    <a:lnTo>
                      <a:pt x="630" y="276"/>
                    </a:lnTo>
                    <a:lnTo>
                      <a:pt x="630" y="282"/>
                    </a:lnTo>
                    <a:lnTo>
                      <a:pt x="642" y="288"/>
                    </a:lnTo>
                    <a:lnTo>
                      <a:pt x="654" y="300"/>
                    </a:lnTo>
                    <a:lnTo>
                      <a:pt x="672" y="312"/>
                    </a:lnTo>
                    <a:lnTo>
                      <a:pt x="690" y="312"/>
                    </a:lnTo>
                    <a:lnTo>
                      <a:pt x="708" y="318"/>
                    </a:lnTo>
                    <a:lnTo>
                      <a:pt x="726" y="324"/>
                    </a:lnTo>
                    <a:lnTo>
                      <a:pt x="738" y="330"/>
                    </a:lnTo>
                    <a:lnTo>
                      <a:pt x="732" y="330"/>
                    </a:lnTo>
                    <a:lnTo>
                      <a:pt x="732" y="336"/>
                    </a:lnTo>
                    <a:lnTo>
                      <a:pt x="726" y="336"/>
                    </a:lnTo>
                    <a:lnTo>
                      <a:pt x="720" y="342"/>
                    </a:lnTo>
                    <a:lnTo>
                      <a:pt x="714" y="354"/>
                    </a:lnTo>
                    <a:lnTo>
                      <a:pt x="708" y="360"/>
                    </a:lnTo>
                    <a:lnTo>
                      <a:pt x="714" y="372"/>
                    </a:lnTo>
                    <a:lnTo>
                      <a:pt x="714" y="384"/>
                    </a:lnTo>
                    <a:lnTo>
                      <a:pt x="720" y="396"/>
                    </a:lnTo>
                    <a:lnTo>
                      <a:pt x="720" y="408"/>
                    </a:lnTo>
                    <a:lnTo>
                      <a:pt x="720" y="414"/>
                    </a:lnTo>
                    <a:lnTo>
                      <a:pt x="720" y="420"/>
                    </a:lnTo>
                    <a:lnTo>
                      <a:pt x="726" y="420"/>
                    </a:lnTo>
                    <a:lnTo>
                      <a:pt x="726" y="426"/>
                    </a:lnTo>
                    <a:lnTo>
                      <a:pt x="732" y="426"/>
                    </a:lnTo>
                    <a:lnTo>
                      <a:pt x="738" y="426"/>
                    </a:lnTo>
                    <a:lnTo>
                      <a:pt x="750" y="414"/>
                    </a:lnTo>
                    <a:lnTo>
                      <a:pt x="750" y="420"/>
                    </a:lnTo>
                    <a:lnTo>
                      <a:pt x="756" y="426"/>
                    </a:lnTo>
                    <a:lnTo>
                      <a:pt x="756" y="438"/>
                    </a:lnTo>
                    <a:lnTo>
                      <a:pt x="756" y="444"/>
                    </a:lnTo>
                    <a:lnTo>
                      <a:pt x="756" y="450"/>
                    </a:lnTo>
                    <a:lnTo>
                      <a:pt x="768" y="444"/>
                    </a:lnTo>
                    <a:lnTo>
                      <a:pt x="774" y="438"/>
                    </a:lnTo>
                    <a:lnTo>
                      <a:pt x="786" y="432"/>
                    </a:lnTo>
                    <a:lnTo>
                      <a:pt x="792" y="426"/>
                    </a:lnTo>
                    <a:lnTo>
                      <a:pt x="804" y="426"/>
                    </a:lnTo>
                    <a:lnTo>
                      <a:pt x="810" y="426"/>
                    </a:lnTo>
                    <a:lnTo>
                      <a:pt x="816" y="432"/>
                    </a:lnTo>
                    <a:lnTo>
                      <a:pt x="816" y="438"/>
                    </a:lnTo>
                    <a:lnTo>
                      <a:pt x="810" y="444"/>
                    </a:lnTo>
                    <a:lnTo>
                      <a:pt x="810" y="450"/>
                    </a:lnTo>
                    <a:lnTo>
                      <a:pt x="792" y="462"/>
                    </a:lnTo>
                    <a:lnTo>
                      <a:pt x="780" y="474"/>
                    </a:lnTo>
                    <a:lnTo>
                      <a:pt x="768" y="480"/>
                    </a:lnTo>
                    <a:lnTo>
                      <a:pt x="750" y="486"/>
                    </a:lnTo>
                    <a:lnTo>
                      <a:pt x="732" y="486"/>
                    </a:lnTo>
                    <a:lnTo>
                      <a:pt x="714" y="480"/>
                    </a:lnTo>
                    <a:lnTo>
                      <a:pt x="708" y="480"/>
                    </a:lnTo>
                    <a:lnTo>
                      <a:pt x="702" y="480"/>
                    </a:lnTo>
                    <a:lnTo>
                      <a:pt x="696" y="474"/>
                    </a:lnTo>
                    <a:lnTo>
                      <a:pt x="690" y="468"/>
                    </a:lnTo>
                    <a:lnTo>
                      <a:pt x="684" y="456"/>
                    </a:lnTo>
                    <a:lnTo>
                      <a:pt x="684" y="444"/>
                    </a:lnTo>
                    <a:lnTo>
                      <a:pt x="684" y="438"/>
                    </a:lnTo>
                    <a:lnTo>
                      <a:pt x="684" y="426"/>
                    </a:lnTo>
                    <a:lnTo>
                      <a:pt x="684" y="420"/>
                    </a:lnTo>
                    <a:lnTo>
                      <a:pt x="678" y="420"/>
                    </a:lnTo>
                    <a:lnTo>
                      <a:pt x="672" y="426"/>
                    </a:lnTo>
                    <a:lnTo>
                      <a:pt x="666" y="432"/>
                    </a:lnTo>
                    <a:lnTo>
                      <a:pt x="660" y="438"/>
                    </a:lnTo>
                    <a:lnTo>
                      <a:pt x="654" y="444"/>
                    </a:lnTo>
                    <a:lnTo>
                      <a:pt x="648" y="450"/>
                    </a:lnTo>
                    <a:lnTo>
                      <a:pt x="648" y="456"/>
                    </a:lnTo>
                    <a:lnTo>
                      <a:pt x="648" y="468"/>
                    </a:lnTo>
                    <a:lnTo>
                      <a:pt x="648" y="474"/>
                    </a:lnTo>
                    <a:lnTo>
                      <a:pt x="642" y="480"/>
                    </a:lnTo>
                    <a:lnTo>
                      <a:pt x="642" y="492"/>
                    </a:lnTo>
                    <a:lnTo>
                      <a:pt x="636" y="498"/>
                    </a:lnTo>
                    <a:lnTo>
                      <a:pt x="606" y="474"/>
                    </a:lnTo>
                    <a:lnTo>
                      <a:pt x="600" y="468"/>
                    </a:lnTo>
                    <a:lnTo>
                      <a:pt x="594" y="456"/>
                    </a:lnTo>
                    <a:lnTo>
                      <a:pt x="588" y="444"/>
                    </a:lnTo>
                    <a:lnTo>
                      <a:pt x="588" y="432"/>
                    </a:lnTo>
                    <a:lnTo>
                      <a:pt x="588" y="420"/>
                    </a:lnTo>
                    <a:lnTo>
                      <a:pt x="588" y="408"/>
                    </a:lnTo>
                    <a:lnTo>
                      <a:pt x="582" y="402"/>
                    </a:lnTo>
                    <a:lnTo>
                      <a:pt x="564" y="426"/>
                    </a:lnTo>
                    <a:lnTo>
                      <a:pt x="558" y="408"/>
                    </a:lnTo>
                    <a:lnTo>
                      <a:pt x="552" y="390"/>
                    </a:lnTo>
                    <a:lnTo>
                      <a:pt x="546" y="378"/>
                    </a:lnTo>
                    <a:lnTo>
                      <a:pt x="540" y="360"/>
                    </a:lnTo>
                    <a:lnTo>
                      <a:pt x="534" y="342"/>
                    </a:lnTo>
                    <a:lnTo>
                      <a:pt x="522" y="330"/>
                    </a:lnTo>
                    <a:lnTo>
                      <a:pt x="522" y="312"/>
                    </a:lnTo>
                    <a:lnTo>
                      <a:pt x="516" y="300"/>
                    </a:lnTo>
                    <a:lnTo>
                      <a:pt x="510" y="288"/>
                    </a:lnTo>
                    <a:lnTo>
                      <a:pt x="504" y="276"/>
                    </a:lnTo>
                    <a:lnTo>
                      <a:pt x="504" y="264"/>
                    </a:lnTo>
                    <a:lnTo>
                      <a:pt x="498" y="258"/>
                    </a:lnTo>
                    <a:lnTo>
                      <a:pt x="492" y="246"/>
                    </a:lnTo>
                    <a:lnTo>
                      <a:pt x="492" y="240"/>
                    </a:lnTo>
                    <a:lnTo>
                      <a:pt x="486" y="234"/>
                    </a:lnTo>
                    <a:lnTo>
                      <a:pt x="486" y="228"/>
                    </a:lnTo>
                    <a:lnTo>
                      <a:pt x="486" y="222"/>
                    </a:lnTo>
                    <a:lnTo>
                      <a:pt x="486" y="216"/>
                    </a:lnTo>
                    <a:lnTo>
                      <a:pt x="474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9213120" y="5436360"/>
                <a:ext cx="539640" cy="666720"/>
              </a:xfrm>
              <a:custGeom>
                <a:avLst/>
                <a:gdLst/>
                <a:ahLst/>
                <a:rect l="l" t="t" r="r" b="b"/>
                <a:pathLst>
                  <a:path w="1746" h="2160">
                    <a:moveTo>
                      <a:pt x="474" y="186"/>
                    </a:moveTo>
                    <a:lnTo>
                      <a:pt x="480" y="174"/>
                    </a:lnTo>
                    <a:lnTo>
                      <a:pt x="492" y="162"/>
                    </a:lnTo>
                    <a:lnTo>
                      <a:pt x="504" y="150"/>
                    </a:lnTo>
                    <a:lnTo>
                      <a:pt x="510" y="138"/>
                    </a:lnTo>
                    <a:lnTo>
                      <a:pt x="516" y="126"/>
                    </a:lnTo>
                    <a:lnTo>
                      <a:pt x="522" y="114"/>
                    </a:lnTo>
                    <a:lnTo>
                      <a:pt x="510" y="96"/>
                    </a:lnTo>
                    <a:lnTo>
                      <a:pt x="504" y="78"/>
                    </a:lnTo>
                    <a:lnTo>
                      <a:pt x="498" y="54"/>
                    </a:lnTo>
                    <a:lnTo>
                      <a:pt x="492" y="36"/>
                    </a:lnTo>
                    <a:lnTo>
                      <a:pt x="480" y="18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6" y="0"/>
                    </a:lnTo>
                    <a:lnTo>
                      <a:pt x="450" y="0"/>
                    </a:lnTo>
                    <a:lnTo>
                      <a:pt x="444" y="0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426" y="0"/>
                    </a:lnTo>
                    <a:lnTo>
                      <a:pt x="432" y="18"/>
                    </a:lnTo>
                    <a:lnTo>
                      <a:pt x="438" y="36"/>
                    </a:lnTo>
                    <a:lnTo>
                      <a:pt x="450" y="48"/>
                    </a:lnTo>
                    <a:lnTo>
                      <a:pt x="456" y="66"/>
                    </a:lnTo>
                    <a:lnTo>
                      <a:pt x="456" y="84"/>
                    </a:lnTo>
                    <a:lnTo>
                      <a:pt x="456" y="96"/>
                    </a:lnTo>
                    <a:lnTo>
                      <a:pt x="456" y="102"/>
                    </a:lnTo>
                    <a:lnTo>
                      <a:pt x="450" y="102"/>
                    </a:lnTo>
                    <a:lnTo>
                      <a:pt x="444" y="102"/>
                    </a:lnTo>
                    <a:lnTo>
                      <a:pt x="444" y="108"/>
                    </a:lnTo>
                    <a:lnTo>
                      <a:pt x="438" y="108"/>
                    </a:lnTo>
                    <a:lnTo>
                      <a:pt x="438" y="114"/>
                    </a:lnTo>
                    <a:lnTo>
                      <a:pt x="432" y="120"/>
                    </a:lnTo>
                    <a:lnTo>
                      <a:pt x="426" y="126"/>
                    </a:lnTo>
                    <a:lnTo>
                      <a:pt x="420" y="108"/>
                    </a:lnTo>
                    <a:lnTo>
                      <a:pt x="414" y="90"/>
                    </a:lnTo>
                    <a:lnTo>
                      <a:pt x="414" y="72"/>
                    </a:lnTo>
                    <a:lnTo>
                      <a:pt x="408" y="48"/>
                    </a:lnTo>
                    <a:lnTo>
                      <a:pt x="396" y="30"/>
                    </a:lnTo>
                    <a:lnTo>
                      <a:pt x="384" y="18"/>
                    </a:lnTo>
                    <a:lnTo>
                      <a:pt x="378" y="12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2" y="12"/>
                    </a:lnTo>
                    <a:lnTo>
                      <a:pt x="330" y="12"/>
                    </a:lnTo>
                    <a:lnTo>
                      <a:pt x="324" y="18"/>
                    </a:lnTo>
                    <a:lnTo>
                      <a:pt x="312" y="24"/>
                    </a:lnTo>
                    <a:lnTo>
                      <a:pt x="300" y="30"/>
                    </a:lnTo>
                    <a:lnTo>
                      <a:pt x="288" y="36"/>
                    </a:lnTo>
                    <a:lnTo>
                      <a:pt x="282" y="48"/>
                    </a:lnTo>
                    <a:lnTo>
                      <a:pt x="276" y="60"/>
                    </a:lnTo>
                    <a:lnTo>
                      <a:pt x="288" y="60"/>
                    </a:lnTo>
                    <a:lnTo>
                      <a:pt x="294" y="66"/>
                    </a:lnTo>
                    <a:lnTo>
                      <a:pt x="306" y="66"/>
                    </a:lnTo>
                    <a:lnTo>
                      <a:pt x="312" y="66"/>
                    </a:lnTo>
                    <a:lnTo>
                      <a:pt x="318" y="60"/>
                    </a:lnTo>
                    <a:lnTo>
                      <a:pt x="330" y="60"/>
                    </a:lnTo>
                    <a:lnTo>
                      <a:pt x="336" y="66"/>
                    </a:lnTo>
                    <a:lnTo>
                      <a:pt x="342" y="66"/>
                    </a:lnTo>
                    <a:lnTo>
                      <a:pt x="342" y="72"/>
                    </a:lnTo>
                    <a:lnTo>
                      <a:pt x="348" y="72"/>
                    </a:lnTo>
                    <a:lnTo>
                      <a:pt x="354" y="78"/>
                    </a:lnTo>
                    <a:lnTo>
                      <a:pt x="348" y="84"/>
                    </a:lnTo>
                    <a:lnTo>
                      <a:pt x="348" y="78"/>
                    </a:lnTo>
                    <a:lnTo>
                      <a:pt x="342" y="78"/>
                    </a:lnTo>
                    <a:lnTo>
                      <a:pt x="336" y="78"/>
                    </a:lnTo>
                    <a:lnTo>
                      <a:pt x="330" y="84"/>
                    </a:lnTo>
                    <a:lnTo>
                      <a:pt x="318" y="90"/>
                    </a:lnTo>
                    <a:lnTo>
                      <a:pt x="318" y="96"/>
                    </a:lnTo>
                    <a:lnTo>
                      <a:pt x="312" y="108"/>
                    </a:lnTo>
                    <a:lnTo>
                      <a:pt x="312" y="120"/>
                    </a:lnTo>
                    <a:lnTo>
                      <a:pt x="312" y="126"/>
                    </a:lnTo>
                    <a:lnTo>
                      <a:pt x="318" y="138"/>
                    </a:lnTo>
                    <a:lnTo>
                      <a:pt x="324" y="144"/>
                    </a:lnTo>
                    <a:lnTo>
                      <a:pt x="330" y="150"/>
                    </a:lnTo>
                    <a:lnTo>
                      <a:pt x="336" y="156"/>
                    </a:lnTo>
                    <a:lnTo>
                      <a:pt x="348" y="162"/>
                    </a:lnTo>
                    <a:lnTo>
                      <a:pt x="354" y="168"/>
                    </a:lnTo>
                    <a:lnTo>
                      <a:pt x="336" y="180"/>
                    </a:lnTo>
                    <a:lnTo>
                      <a:pt x="330" y="174"/>
                    </a:lnTo>
                    <a:lnTo>
                      <a:pt x="324" y="162"/>
                    </a:lnTo>
                    <a:lnTo>
                      <a:pt x="318" y="156"/>
                    </a:lnTo>
                    <a:lnTo>
                      <a:pt x="312" y="150"/>
                    </a:lnTo>
                    <a:lnTo>
                      <a:pt x="300" y="144"/>
                    </a:lnTo>
                    <a:lnTo>
                      <a:pt x="288" y="144"/>
                    </a:lnTo>
                    <a:lnTo>
                      <a:pt x="282" y="150"/>
                    </a:lnTo>
                    <a:lnTo>
                      <a:pt x="276" y="150"/>
                    </a:lnTo>
                    <a:lnTo>
                      <a:pt x="270" y="150"/>
                    </a:lnTo>
                    <a:lnTo>
                      <a:pt x="264" y="156"/>
                    </a:lnTo>
                    <a:lnTo>
                      <a:pt x="264" y="162"/>
                    </a:lnTo>
                    <a:lnTo>
                      <a:pt x="264" y="168"/>
                    </a:lnTo>
                    <a:lnTo>
                      <a:pt x="270" y="168"/>
                    </a:lnTo>
                    <a:lnTo>
                      <a:pt x="276" y="174"/>
                    </a:lnTo>
                    <a:lnTo>
                      <a:pt x="282" y="174"/>
                    </a:lnTo>
                    <a:lnTo>
                      <a:pt x="288" y="174"/>
                    </a:lnTo>
                    <a:lnTo>
                      <a:pt x="288" y="180"/>
                    </a:lnTo>
                    <a:lnTo>
                      <a:pt x="294" y="186"/>
                    </a:lnTo>
                    <a:lnTo>
                      <a:pt x="300" y="192"/>
                    </a:lnTo>
                    <a:lnTo>
                      <a:pt x="300" y="198"/>
                    </a:lnTo>
                    <a:lnTo>
                      <a:pt x="306" y="210"/>
                    </a:lnTo>
                    <a:lnTo>
                      <a:pt x="312" y="222"/>
                    </a:lnTo>
                    <a:lnTo>
                      <a:pt x="324" y="228"/>
                    </a:lnTo>
                    <a:lnTo>
                      <a:pt x="330" y="234"/>
                    </a:lnTo>
                    <a:lnTo>
                      <a:pt x="342" y="234"/>
                    </a:lnTo>
                    <a:lnTo>
                      <a:pt x="354" y="240"/>
                    </a:lnTo>
                    <a:lnTo>
                      <a:pt x="342" y="246"/>
                    </a:lnTo>
                    <a:lnTo>
                      <a:pt x="336" y="252"/>
                    </a:lnTo>
                    <a:lnTo>
                      <a:pt x="324" y="258"/>
                    </a:lnTo>
                    <a:lnTo>
                      <a:pt x="318" y="264"/>
                    </a:lnTo>
                    <a:lnTo>
                      <a:pt x="306" y="264"/>
                    </a:lnTo>
                    <a:lnTo>
                      <a:pt x="294" y="264"/>
                    </a:lnTo>
                    <a:lnTo>
                      <a:pt x="294" y="270"/>
                    </a:lnTo>
                    <a:lnTo>
                      <a:pt x="294" y="276"/>
                    </a:lnTo>
                    <a:lnTo>
                      <a:pt x="294" y="282"/>
                    </a:lnTo>
                    <a:lnTo>
                      <a:pt x="300" y="288"/>
                    </a:lnTo>
                    <a:lnTo>
                      <a:pt x="306" y="294"/>
                    </a:lnTo>
                    <a:lnTo>
                      <a:pt x="312" y="300"/>
                    </a:lnTo>
                    <a:lnTo>
                      <a:pt x="312" y="306"/>
                    </a:lnTo>
                    <a:lnTo>
                      <a:pt x="324" y="306"/>
                    </a:lnTo>
                    <a:lnTo>
                      <a:pt x="330" y="306"/>
                    </a:lnTo>
                    <a:lnTo>
                      <a:pt x="336" y="306"/>
                    </a:lnTo>
                    <a:lnTo>
                      <a:pt x="342" y="306"/>
                    </a:lnTo>
                    <a:lnTo>
                      <a:pt x="354" y="306"/>
                    </a:lnTo>
                    <a:lnTo>
                      <a:pt x="348" y="318"/>
                    </a:lnTo>
                    <a:lnTo>
                      <a:pt x="342" y="324"/>
                    </a:lnTo>
                    <a:lnTo>
                      <a:pt x="342" y="330"/>
                    </a:lnTo>
                    <a:lnTo>
                      <a:pt x="336" y="342"/>
                    </a:lnTo>
                    <a:lnTo>
                      <a:pt x="330" y="348"/>
                    </a:lnTo>
                    <a:lnTo>
                      <a:pt x="330" y="354"/>
                    </a:lnTo>
                    <a:lnTo>
                      <a:pt x="324" y="360"/>
                    </a:lnTo>
                    <a:lnTo>
                      <a:pt x="318" y="360"/>
                    </a:lnTo>
                    <a:lnTo>
                      <a:pt x="312" y="366"/>
                    </a:lnTo>
                    <a:lnTo>
                      <a:pt x="318" y="372"/>
                    </a:lnTo>
                    <a:lnTo>
                      <a:pt x="330" y="372"/>
                    </a:lnTo>
                    <a:lnTo>
                      <a:pt x="336" y="372"/>
                    </a:lnTo>
                    <a:lnTo>
                      <a:pt x="348" y="372"/>
                    </a:lnTo>
                    <a:lnTo>
                      <a:pt x="354" y="366"/>
                    </a:lnTo>
                    <a:lnTo>
                      <a:pt x="360" y="366"/>
                    </a:lnTo>
                    <a:lnTo>
                      <a:pt x="360" y="378"/>
                    </a:lnTo>
                    <a:lnTo>
                      <a:pt x="360" y="384"/>
                    </a:lnTo>
                    <a:lnTo>
                      <a:pt x="360" y="396"/>
                    </a:lnTo>
                    <a:lnTo>
                      <a:pt x="360" y="402"/>
                    </a:lnTo>
                    <a:lnTo>
                      <a:pt x="354" y="414"/>
                    </a:lnTo>
                    <a:lnTo>
                      <a:pt x="348" y="420"/>
                    </a:lnTo>
                    <a:lnTo>
                      <a:pt x="330" y="402"/>
                    </a:lnTo>
                    <a:lnTo>
                      <a:pt x="312" y="384"/>
                    </a:lnTo>
                    <a:lnTo>
                      <a:pt x="294" y="366"/>
                    </a:lnTo>
                    <a:lnTo>
                      <a:pt x="282" y="342"/>
                    </a:lnTo>
                    <a:lnTo>
                      <a:pt x="270" y="324"/>
                    </a:lnTo>
                    <a:lnTo>
                      <a:pt x="252" y="300"/>
                    </a:lnTo>
                    <a:lnTo>
                      <a:pt x="240" y="282"/>
                    </a:lnTo>
                    <a:lnTo>
                      <a:pt x="246" y="264"/>
                    </a:lnTo>
                    <a:lnTo>
                      <a:pt x="252" y="246"/>
                    </a:lnTo>
                    <a:lnTo>
                      <a:pt x="264" y="228"/>
                    </a:lnTo>
                    <a:lnTo>
                      <a:pt x="270" y="210"/>
                    </a:lnTo>
                    <a:lnTo>
                      <a:pt x="270" y="186"/>
                    </a:lnTo>
                    <a:lnTo>
                      <a:pt x="258" y="180"/>
                    </a:lnTo>
                    <a:lnTo>
                      <a:pt x="258" y="168"/>
                    </a:lnTo>
                    <a:lnTo>
                      <a:pt x="252" y="156"/>
                    </a:lnTo>
                    <a:lnTo>
                      <a:pt x="252" y="150"/>
                    </a:lnTo>
                    <a:lnTo>
                      <a:pt x="252" y="138"/>
                    </a:lnTo>
                    <a:lnTo>
                      <a:pt x="246" y="126"/>
                    </a:lnTo>
                    <a:lnTo>
                      <a:pt x="234" y="126"/>
                    </a:lnTo>
                    <a:lnTo>
                      <a:pt x="222" y="114"/>
                    </a:lnTo>
                    <a:lnTo>
                      <a:pt x="204" y="108"/>
                    </a:lnTo>
                    <a:lnTo>
                      <a:pt x="192" y="102"/>
                    </a:lnTo>
                    <a:lnTo>
                      <a:pt x="180" y="102"/>
                    </a:lnTo>
                    <a:lnTo>
                      <a:pt x="168" y="108"/>
                    </a:lnTo>
                    <a:lnTo>
                      <a:pt x="168" y="120"/>
                    </a:lnTo>
                    <a:lnTo>
                      <a:pt x="180" y="132"/>
                    </a:lnTo>
                    <a:lnTo>
                      <a:pt x="186" y="138"/>
                    </a:lnTo>
                    <a:lnTo>
                      <a:pt x="198" y="150"/>
                    </a:lnTo>
                    <a:lnTo>
                      <a:pt x="204" y="162"/>
                    </a:lnTo>
                    <a:lnTo>
                      <a:pt x="204" y="174"/>
                    </a:lnTo>
                    <a:lnTo>
                      <a:pt x="198" y="180"/>
                    </a:lnTo>
                    <a:lnTo>
                      <a:pt x="192" y="192"/>
                    </a:lnTo>
                    <a:lnTo>
                      <a:pt x="192" y="204"/>
                    </a:lnTo>
                    <a:lnTo>
                      <a:pt x="192" y="216"/>
                    </a:lnTo>
                    <a:lnTo>
                      <a:pt x="192" y="228"/>
                    </a:lnTo>
                    <a:lnTo>
                      <a:pt x="192" y="240"/>
                    </a:lnTo>
                    <a:lnTo>
                      <a:pt x="186" y="240"/>
                    </a:lnTo>
                    <a:lnTo>
                      <a:pt x="186" y="234"/>
                    </a:lnTo>
                    <a:lnTo>
                      <a:pt x="186" y="228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80" y="210"/>
                    </a:lnTo>
                    <a:lnTo>
                      <a:pt x="174" y="198"/>
                    </a:lnTo>
                    <a:lnTo>
                      <a:pt x="168" y="186"/>
                    </a:lnTo>
                    <a:lnTo>
                      <a:pt x="168" y="174"/>
                    </a:lnTo>
                    <a:lnTo>
                      <a:pt x="162" y="162"/>
                    </a:lnTo>
                    <a:lnTo>
                      <a:pt x="150" y="156"/>
                    </a:lnTo>
                    <a:lnTo>
                      <a:pt x="138" y="156"/>
                    </a:lnTo>
                    <a:lnTo>
                      <a:pt x="120" y="150"/>
                    </a:lnTo>
                    <a:lnTo>
                      <a:pt x="108" y="144"/>
                    </a:lnTo>
                    <a:lnTo>
                      <a:pt x="96" y="138"/>
                    </a:lnTo>
                    <a:lnTo>
                      <a:pt x="78" y="138"/>
                    </a:lnTo>
                    <a:lnTo>
                      <a:pt x="66" y="138"/>
                    </a:lnTo>
                    <a:lnTo>
                      <a:pt x="42" y="156"/>
                    </a:lnTo>
                    <a:lnTo>
                      <a:pt x="42" y="168"/>
                    </a:lnTo>
                    <a:lnTo>
                      <a:pt x="60" y="168"/>
                    </a:lnTo>
                    <a:lnTo>
                      <a:pt x="78" y="174"/>
                    </a:lnTo>
                    <a:lnTo>
                      <a:pt x="102" y="180"/>
                    </a:lnTo>
                    <a:lnTo>
                      <a:pt x="108" y="192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10"/>
                    </a:lnTo>
                    <a:lnTo>
                      <a:pt x="90" y="216"/>
                    </a:lnTo>
                    <a:lnTo>
                      <a:pt x="90" y="228"/>
                    </a:lnTo>
                    <a:lnTo>
                      <a:pt x="90" y="234"/>
                    </a:lnTo>
                    <a:lnTo>
                      <a:pt x="96" y="246"/>
                    </a:lnTo>
                    <a:lnTo>
                      <a:pt x="102" y="258"/>
                    </a:lnTo>
                    <a:lnTo>
                      <a:pt x="114" y="270"/>
                    </a:lnTo>
                    <a:lnTo>
                      <a:pt x="126" y="276"/>
                    </a:lnTo>
                    <a:lnTo>
                      <a:pt x="138" y="282"/>
                    </a:lnTo>
                    <a:lnTo>
                      <a:pt x="150" y="288"/>
                    </a:lnTo>
                    <a:lnTo>
                      <a:pt x="150" y="294"/>
                    </a:lnTo>
                    <a:lnTo>
                      <a:pt x="144" y="294"/>
                    </a:lnTo>
                    <a:lnTo>
                      <a:pt x="144" y="300"/>
                    </a:lnTo>
                    <a:lnTo>
                      <a:pt x="138" y="300"/>
                    </a:lnTo>
                    <a:lnTo>
                      <a:pt x="126" y="288"/>
                    </a:lnTo>
                    <a:lnTo>
                      <a:pt x="114" y="282"/>
                    </a:lnTo>
                    <a:lnTo>
                      <a:pt x="102" y="270"/>
                    </a:lnTo>
                    <a:lnTo>
                      <a:pt x="96" y="264"/>
                    </a:lnTo>
                    <a:lnTo>
                      <a:pt x="84" y="258"/>
                    </a:lnTo>
                    <a:lnTo>
                      <a:pt x="66" y="258"/>
                    </a:lnTo>
                    <a:lnTo>
                      <a:pt x="54" y="258"/>
                    </a:lnTo>
                    <a:lnTo>
                      <a:pt x="42" y="264"/>
                    </a:lnTo>
                    <a:lnTo>
                      <a:pt x="30" y="270"/>
                    </a:lnTo>
                    <a:lnTo>
                      <a:pt x="18" y="276"/>
                    </a:lnTo>
                    <a:lnTo>
                      <a:pt x="12" y="288"/>
                    </a:lnTo>
                    <a:lnTo>
                      <a:pt x="0" y="300"/>
                    </a:lnTo>
                    <a:lnTo>
                      <a:pt x="0" y="306"/>
                    </a:lnTo>
                    <a:lnTo>
                      <a:pt x="0" y="312"/>
                    </a:lnTo>
                    <a:lnTo>
                      <a:pt x="0" y="324"/>
                    </a:lnTo>
                    <a:lnTo>
                      <a:pt x="0" y="336"/>
                    </a:lnTo>
                    <a:lnTo>
                      <a:pt x="6" y="342"/>
                    </a:lnTo>
                    <a:lnTo>
                      <a:pt x="6" y="354"/>
                    </a:lnTo>
                    <a:lnTo>
                      <a:pt x="6" y="348"/>
                    </a:lnTo>
                    <a:lnTo>
                      <a:pt x="12" y="348"/>
                    </a:lnTo>
                    <a:lnTo>
                      <a:pt x="18" y="342"/>
                    </a:lnTo>
                    <a:lnTo>
                      <a:pt x="24" y="330"/>
                    </a:lnTo>
                    <a:lnTo>
                      <a:pt x="30" y="324"/>
                    </a:lnTo>
                    <a:lnTo>
                      <a:pt x="36" y="318"/>
                    </a:lnTo>
                    <a:lnTo>
                      <a:pt x="48" y="312"/>
                    </a:lnTo>
                    <a:lnTo>
                      <a:pt x="54" y="306"/>
                    </a:lnTo>
                    <a:lnTo>
                      <a:pt x="66" y="330"/>
                    </a:lnTo>
                    <a:lnTo>
                      <a:pt x="72" y="330"/>
                    </a:lnTo>
                    <a:lnTo>
                      <a:pt x="72" y="336"/>
                    </a:lnTo>
                    <a:lnTo>
                      <a:pt x="78" y="342"/>
                    </a:lnTo>
                    <a:lnTo>
                      <a:pt x="78" y="348"/>
                    </a:lnTo>
                    <a:lnTo>
                      <a:pt x="84" y="354"/>
                    </a:lnTo>
                    <a:lnTo>
                      <a:pt x="84" y="360"/>
                    </a:lnTo>
                    <a:lnTo>
                      <a:pt x="90" y="366"/>
                    </a:lnTo>
                    <a:lnTo>
                      <a:pt x="102" y="366"/>
                    </a:lnTo>
                    <a:lnTo>
                      <a:pt x="108" y="366"/>
                    </a:lnTo>
                    <a:lnTo>
                      <a:pt x="114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26" y="378"/>
                    </a:lnTo>
                    <a:lnTo>
                      <a:pt x="126" y="384"/>
                    </a:lnTo>
                    <a:lnTo>
                      <a:pt x="120" y="396"/>
                    </a:lnTo>
                    <a:lnTo>
                      <a:pt x="114" y="402"/>
                    </a:lnTo>
                    <a:lnTo>
                      <a:pt x="114" y="414"/>
                    </a:lnTo>
                    <a:lnTo>
                      <a:pt x="108" y="420"/>
                    </a:lnTo>
                    <a:lnTo>
                      <a:pt x="102" y="420"/>
                    </a:lnTo>
                    <a:lnTo>
                      <a:pt x="96" y="426"/>
                    </a:lnTo>
                    <a:lnTo>
                      <a:pt x="90" y="426"/>
                    </a:lnTo>
                    <a:lnTo>
                      <a:pt x="90" y="420"/>
                    </a:lnTo>
                    <a:lnTo>
                      <a:pt x="84" y="420"/>
                    </a:lnTo>
                    <a:lnTo>
                      <a:pt x="78" y="420"/>
                    </a:lnTo>
                    <a:lnTo>
                      <a:pt x="78" y="426"/>
                    </a:lnTo>
                    <a:lnTo>
                      <a:pt x="84" y="438"/>
                    </a:lnTo>
                    <a:lnTo>
                      <a:pt x="96" y="444"/>
                    </a:lnTo>
                    <a:lnTo>
                      <a:pt x="108" y="456"/>
                    </a:lnTo>
                    <a:lnTo>
                      <a:pt x="120" y="462"/>
                    </a:lnTo>
                    <a:lnTo>
                      <a:pt x="132" y="468"/>
                    </a:lnTo>
                    <a:lnTo>
                      <a:pt x="150" y="468"/>
                    </a:lnTo>
                    <a:lnTo>
                      <a:pt x="150" y="474"/>
                    </a:lnTo>
                    <a:lnTo>
                      <a:pt x="144" y="486"/>
                    </a:lnTo>
                    <a:lnTo>
                      <a:pt x="138" y="486"/>
                    </a:lnTo>
                    <a:lnTo>
                      <a:pt x="132" y="492"/>
                    </a:lnTo>
                    <a:lnTo>
                      <a:pt x="126" y="498"/>
                    </a:lnTo>
                    <a:lnTo>
                      <a:pt x="120" y="504"/>
                    </a:lnTo>
                    <a:lnTo>
                      <a:pt x="120" y="510"/>
                    </a:lnTo>
                    <a:lnTo>
                      <a:pt x="126" y="516"/>
                    </a:lnTo>
                    <a:lnTo>
                      <a:pt x="138" y="522"/>
                    </a:lnTo>
                    <a:lnTo>
                      <a:pt x="150" y="528"/>
                    </a:lnTo>
                    <a:lnTo>
                      <a:pt x="162" y="534"/>
                    </a:lnTo>
                    <a:lnTo>
                      <a:pt x="174" y="534"/>
                    </a:lnTo>
                    <a:lnTo>
                      <a:pt x="186" y="534"/>
                    </a:lnTo>
                    <a:lnTo>
                      <a:pt x="186" y="546"/>
                    </a:lnTo>
                    <a:lnTo>
                      <a:pt x="180" y="552"/>
                    </a:lnTo>
                    <a:lnTo>
                      <a:pt x="174" y="564"/>
                    </a:lnTo>
                    <a:lnTo>
                      <a:pt x="168" y="576"/>
                    </a:lnTo>
                    <a:lnTo>
                      <a:pt x="162" y="582"/>
                    </a:lnTo>
                    <a:lnTo>
                      <a:pt x="150" y="588"/>
                    </a:lnTo>
                    <a:lnTo>
                      <a:pt x="156" y="594"/>
                    </a:lnTo>
                    <a:lnTo>
                      <a:pt x="162" y="600"/>
                    </a:lnTo>
                    <a:lnTo>
                      <a:pt x="174" y="600"/>
                    </a:lnTo>
                    <a:lnTo>
                      <a:pt x="186" y="600"/>
                    </a:lnTo>
                    <a:lnTo>
                      <a:pt x="198" y="600"/>
                    </a:lnTo>
                    <a:lnTo>
                      <a:pt x="204" y="600"/>
                    </a:lnTo>
                    <a:lnTo>
                      <a:pt x="198" y="612"/>
                    </a:lnTo>
                    <a:lnTo>
                      <a:pt x="192" y="618"/>
                    </a:lnTo>
                    <a:lnTo>
                      <a:pt x="186" y="624"/>
                    </a:lnTo>
                    <a:lnTo>
                      <a:pt x="180" y="630"/>
                    </a:lnTo>
                    <a:lnTo>
                      <a:pt x="180" y="642"/>
                    </a:lnTo>
                    <a:lnTo>
                      <a:pt x="180" y="648"/>
                    </a:lnTo>
                    <a:lnTo>
                      <a:pt x="168" y="660"/>
                    </a:lnTo>
                    <a:lnTo>
                      <a:pt x="168" y="672"/>
                    </a:lnTo>
                    <a:lnTo>
                      <a:pt x="168" y="678"/>
                    </a:lnTo>
                    <a:lnTo>
                      <a:pt x="174" y="690"/>
                    </a:lnTo>
                    <a:lnTo>
                      <a:pt x="180" y="702"/>
                    </a:lnTo>
                    <a:lnTo>
                      <a:pt x="186" y="714"/>
                    </a:lnTo>
                    <a:lnTo>
                      <a:pt x="192" y="714"/>
                    </a:lnTo>
                    <a:lnTo>
                      <a:pt x="192" y="708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92" y="690"/>
                    </a:lnTo>
                    <a:lnTo>
                      <a:pt x="198" y="684"/>
                    </a:lnTo>
                    <a:lnTo>
                      <a:pt x="204" y="678"/>
                    </a:lnTo>
                    <a:lnTo>
                      <a:pt x="210" y="672"/>
                    </a:lnTo>
                    <a:lnTo>
                      <a:pt x="216" y="666"/>
                    </a:lnTo>
                    <a:lnTo>
                      <a:pt x="222" y="666"/>
                    </a:lnTo>
                    <a:lnTo>
                      <a:pt x="234" y="666"/>
                    </a:lnTo>
                    <a:lnTo>
                      <a:pt x="222" y="678"/>
                    </a:lnTo>
                    <a:lnTo>
                      <a:pt x="216" y="690"/>
                    </a:lnTo>
                    <a:lnTo>
                      <a:pt x="210" y="702"/>
                    </a:lnTo>
                    <a:lnTo>
                      <a:pt x="210" y="714"/>
                    </a:lnTo>
                    <a:lnTo>
                      <a:pt x="210" y="726"/>
                    </a:lnTo>
                    <a:lnTo>
                      <a:pt x="204" y="738"/>
                    </a:lnTo>
                    <a:lnTo>
                      <a:pt x="216" y="750"/>
                    </a:lnTo>
                    <a:lnTo>
                      <a:pt x="222" y="750"/>
                    </a:lnTo>
                    <a:lnTo>
                      <a:pt x="234" y="744"/>
                    </a:lnTo>
                    <a:lnTo>
                      <a:pt x="246" y="732"/>
                    </a:lnTo>
                    <a:lnTo>
                      <a:pt x="258" y="732"/>
                    </a:lnTo>
                    <a:lnTo>
                      <a:pt x="270" y="738"/>
                    </a:lnTo>
                    <a:lnTo>
                      <a:pt x="264" y="738"/>
                    </a:lnTo>
                    <a:lnTo>
                      <a:pt x="258" y="744"/>
                    </a:lnTo>
                    <a:lnTo>
                      <a:pt x="252" y="744"/>
                    </a:lnTo>
                    <a:lnTo>
                      <a:pt x="246" y="762"/>
                    </a:lnTo>
                    <a:lnTo>
                      <a:pt x="240" y="774"/>
                    </a:lnTo>
                    <a:lnTo>
                      <a:pt x="240" y="792"/>
                    </a:lnTo>
                    <a:lnTo>
                      <a:pt x="240" y="810"/>
                    </a:lnTo>
                    <a:lnTo>
                      <a:pt x="240" y="828"/>
                    </a:lnTo>
                    <a:lnTo>
                      <a:pt x="240" y="840"/>
                    </a:lnTo>
                    <a:lnTo>
                      <a:pt x="246" y="840"/>
                    </a:lnTo>
                    <a:lnTo>
                      <a:pt x="252" y="834"/>
                    </a:lnTo>
                    <a:lnTo>
                      <a:pt x="258" y="822"/>
                    </a:lnTo>
                    <a:lnTo>
                      <a:pt x="258" y="816"/>
                    </a:lnTo>
                    <a:lnTo>
                      <a:pt x="264" y="810"/>
                    </a:lnTo>
                    <a:lnTo>
                      <a:pt x="270" y="804"/>
                    </a:lnTo>
                    <a:lnTo>
                      <a:pt x="276" y="792"/>
                    </a:lnTo>
                    <a:lnTo>
                      <a:pt x="282" y="786"/>
                    </a:lnTo>
                    <a:lnTo>
                      <a:pt x="288" y="786"/>
                    </a:lnTo>
                    <a:lnTo>
                      <a:pt x="294" y="792"/>
                    </a:lnTo>
                    <a:lnTo>
                      <a:pt x="300" y="798"/>
                    </a:lnTo>
                    <a:lnTo>
                      <a:pt x="306" y="798"/>
                    </a:lnTo>
                    <a:lnTo>
                      <a:pt x="312" y="804"/>
                    </a:lnTo>
                    <a:lnTo>
                      <a:pt x="324" y="828"/>
                    </a:lnTo>
                    <a:lnTo>
                      <a:pt x="324" y="846"/>
                    </a:lnTo>
                    <a:lnTo>
                      <a:pt x="318" y="864"/>
                    </a:lnTo>
                    <a:lnTo>
                      <a:pt x="312" y="882"/>
                    </a:lnTo>
                    <a:lnTo>
                      <a:pt x="312" y="900"/>
                    </a:lnTo>
                    <a:lnTo>
                      <a:pt x="318" y="918"/>
                    </a:lnTo>
                    <a:lnTo>
                      <a:pt x="288" y="942"/>
                    </a:lnTo>
                    <a:lnTo>
                      <a:pt x="288" y="948"/>
                    </a:lnTo>
                    <a:lnTo>
                      <a:pt x="294" y="948"/>
                    </a:lnTo>
                    <a:lnTo>
                      <a:pt x="300" y="954"/>
                    </a:lnTo>
                    <a:lnTo>
                      <a:pt x="306" y="954"/>
                    </a:lnTo>
                    <a:lnTo>
                      <a:pt x="312" y="954"/>
                    </a:lnTo>
                    <a:lnTo>
                      <a:pt x="318" y="954"/>
                    </a:lnTo>
                    <a:lnTo>
                      <a:pt x="330" y="954"/>
                    </a:lnTo>
                    <a:lnTo>
                      <a:pt x="342" y="948"/>
                    </a:lnTo>
                    <a:lnTo>
                      <a:pt x="354" y="942"/>
                    </a:lnTo>
                    <a:lnTo>
                      <a:pt x="366" y="930"/>
                    </a:lnTo>
                    <a:lnTo>
                      <a:pt x="372" y="924"/>
                    </a:lnTo>
                    <a:lnTo>
                      <a:pt x="384" y="912"/>
                    </a:lnTo>
                    <a:lnTo>
                      <a:pt x="384" y="924"/>
                    </a:lnTo>
                    <a:lnTo>
                      <a:pt x="384" y="936"/>
                    </a:lnTo>
                    <a:lnTo>
                      <a:pt x="390" y="948"/>
                    </a:lnTo>
                    <a:lnTo>
                      <a:pt x="390" y="954"/>
                    </a:lnTo>
                    <a:lnTo>
                      <a:pt x="384" y="966"/>
                    </a:lnTo>
                    <a:lnTo>
                      <a:pt x="378" y="978"/>
                    </a:lnTo>
                    <a:lnTo>
                      <a:pt x="372" y="978"/>
                    </a:lnTo>
                    <a:lnTo>
                      <a:pt x="366" y="984"/>
                    </a:lnTo>
                    <a:lnTo>
                      <a:pt x="366" y="990"/>
                    </a:lnTo>
                    <a:lnTo>
                      <a:pt x="378" y="990"/>
                    </a:lnTo>
                    <a:lnTo>
                      <a:pt x="390" y="984"/>
                    </a:lnTo>
                    <a:lnTo>
                      <a:pt x="402" y="978"/>
                    </a:lnTo>
                    <a:lnTo>
                      <a:pt x="408" y="966"/>
                    </a:lnTo>
                    <a:lnTo>
                      <a:pt x="420" y="954"/>
                    </a:lnTo>
                    <a:lnTo>
                      <a:pt x="426" y="948"/>
                    </a:lnTo>
                    <a:lnTo>
                      <a:pt x="432" y="942"/>
                    </a:lnTo>
                    <a:lnTo>
                      <a:pt x="438" y="942"/>
                    </a:lnTo>
                    <a:lnTo>
                      <a:pt x="444" y="942"/>
                    </a:lnTo>
                    <a:lnTo>
                      <a:pt x="444" y="936"/>
                    </a:lnTo>
                    <a:lnTo>
                      <a:pt x="450" y="930"/>
                    </a:lnTo>
                    <a:lnTo>
                      <a:pt x="456" y="936"/>
                    </a:lnTo>
                    <a:lnTo>
                      <a:pt x="456" y="948"/>
                    </a:lnTo>
                    <a:lnTo>
                      <a:pt x="456" y="960"/>
                    </a:lnTo>
                    <a:lnTo>
                      <a:pt x="456" y="972"/>
                    </a:lnTo>
                    <a:lnTo>
                      <a:pt x="462" y="984"/>
                    </a:lnTo>
                    <a:lnTo>
                      <a:pt x="462" y="996"/>
                    </a:lnTo>
                    <a:lnTo>
                      <a:pt x="468" y="1008"/>
                    </a:lnTo>
                    <a:lnTo>
                      <a:pt x="474" y="1020"/>
                    </a:lnTo>
                    <a:lnTo>
                      <a:pt x="486" y="1032"/>
                    </a:lnTo>
                    <a:lnTo>
                      <a:pt x="498" y="1044"/>
                    </a:lnTo>
                    <a:lnTo>
                      <a:pt x="504" y="1050"/>
                    </a:lnTo>
                    <a:lnTo>
                      <a:pt x="510" y="1062"/>
                    </a:lnTo>
                    <a:lnTo>
                      <a:pt x="516" y="1062"/>
                    </a:lnTo>
                    <a:lnTo>
                      <a:pt x="522" y="1062"/>
                    </a:lnTo>
                    <a:lnTo>
                      <a:pt x="516" y="1050"/>
                    </a:lnTo>
                    <a:lnTo>
                      <a:pt x="516" y="1032"/>
                    </a:lnTo>
                    <a:lnTo>
                      <a:pt x="516" y="1020"/>
                    </a:lnTo>
                    <a:lnTo>
                      <a:pt x="522" y="1002"/>
                    </a:lnTo>
                    <a:lnTo>
                      <a:pt x="522" y="990"/>
                    </a:lnTo>
                    <a:lnTo>
                      <a:pt x="528" y="972"/>
                    </a:lnTo>
                    <a:lnTo>
                      <a:pt x="534" y="996"/>
                    </a:lnTo>
                    <a:lnTo>
                      <a:pt x="546" y="1014"/>
                    </a:lnTo>
                    <a:lnTo>
                      <a:pt x="552" y="1026"/>
                    </a:lnTo>
                    <a:lnTo>
                      <a:pt x="570" y="1044"/>
                    </a:lnTo>
                    <a:lnTo>
                      <a:pt x="582" y="1056"/>
                    </a:lnTo>
                    <a:lnTo>
                      <a:pt x="594" y="1074"/>
                    </a:lnTo>
                    <a:lnTo>
                      <a:pt x="606" y="1074"/>
                    </a:lnTo>
                    <a:lnTo>
                      <a:pt x="606" y="1062"/>
                    </a:lnTo>
                    <a:lnTo>
                      <a:pt x="606" y="1050"/>
                    </a:lnTo>
                    <a:lnTo>
                      <a:pt x="606" y="1044"/>
                    </a:lnTo>
                    <a:lnTo>
                      <a:pt x="606" y="1032"/>
                    </a:lnTo>
                    <a:lnTo>
                      <a:pt x="612" y="1026"/>
                    </a:lnTo>
                    <a:lnTo>
                      <a:pt x="618" y="1014"/>
                    </a:lnTo>
                    <a:lnTo>
                      <a:pt x="618" y="1020"/>
                    </a:lnTo>
                    <a:lnTo>
                      <a:pt x="618" y="1032"/>
                    </a:lnTo>
                    <a:lnTo>
                      <a:pt x="624" y="1044"/>
                    </a:lnTo>
                    <a:lnTo>
                      <a:pt x="630" y="1056"/>
                    </a:lnTo>
                    <a:lnTo>
                      <a:pt x="636" y="1068"/>
                    </a:lnTo>
                    <a:lnTo>
                      <a:pt x="642" y="1080"/>
                    </a:lnTo>
                    <a:lnTo>
                      <a:pt x="654" y="1092"/>
                    </a:lnTo>
                    <a:lnTo>
                      <a:pt x="660" y="1092"/>
                    </a:lnTo>
                    <a:lnTo>
                      <a:pt x="666" y="1080"/>
                    </a:lnTo>
                    <a:lnTo>
                      <a:pt x="666" y="1074"/>
                    </a:lnTo>
                    <a:lnTo>
                      <a:pt x="672" y="1062"/>
                    </a:lnTo>
                    <a:lnTo>
                      <a:pt x="672" y="1050"/>
                    </a:lnTo>
                    <a:lnTo>
                      <a:pt x="678" y="1044"/>
                    </a:lnTo>
                    <a:lnTo>
                      <a:pt x="678" y="1050"/>
                    </a:lnTo>
                    <a:lnTo>
                      <a:pt x="684" y="1056"/>
                    </a:lnTo>
                    <a:lnTo>
                      <a:pt x="690" y="1068"/>
                    </a:lnTo>
                    <a:lnTo>
                      <a:pt x="690" y="1074"/>
                    </a:lnTo>
                    <a:lnTo>
                      <a:pt x="696" y="1080"/>
                    </a:lnTo>
                    <a:lnTo>
                      <a:pt x="696" y="1092"/>
                    </a:lnTo>
                    <a:lnTo>
                      <a:pt x="702" y="1098"/>
                    </a:lnTo>
                    <a:lnTo>
                      <a:pt x="696" y="1110"/>
                    </a:lnTo>
                    <a:lnTo>
                      <a:pt x="696" y="1116"/>
                    </a:lnTo>
                    <a:lnTo>
                      <a:pt x="690" y="1128"/>
                    </a:lnTo>
                    <a:lnTo>
                      <a:pt x="690" y="1134"/>
                    </a:lnTo>
                    <a:lnTo>
                      <a:pt x="684" y="1146"/>
                    </a:lnTo>
                    <a:lnTo>
                      <a:pt x="696" y="1146"/>
                    </a:lnTo>
                    <a:lnTo>
                      <a:pt x="708" y="1140"/>
                    </a:lnTo>
                    <a:lnTo>
                      <a:pt x="720" y="1134"/>
                    </a:lnTo>
                    <a:lnTo>
                      <a:pt x="726" y="1128"/>
                    </a:lnTo>
                    <a:lnTo>
                      <a:pt x="738" y="1122"/>
                    </a:lnTo>
                    <a:lnTo>
                      <a:pt x="750" y="1116"/>
                    </a:lnTo>
                    <a:lnTo>
                      <a:pt x="750" y="1122"/>
                    </a:lnTo>
                    <a:lnTo>
                      <a:pt x="756" y="1134"/>
                    </a:lnTo>
                    <a:lnTo>
                      <a:pt x="762" y="1146"/>
                    </a:lnTo>
                    <a:lnTo>
                      <a:pt x="762" y="1158"/>
                    </a:lnTo>
                    <a:lnTo>
                      <a:pt x="768" y="1170"/>
                    </a:lnTo>
                    <a:lnTo>
                      <a:pt x="774" y="1182"/>
                    </a:lnTo>
                    <a:lnTo>
                      <a:pt x="816" y="1158"/>
                    </a:lnTo>
                    <a:lnTo>
                      <a:pt x="834" y="1158"/>
                    </a:lnTo>
                    <a:lnTo>
                      <a:pt x="846" y="1164"/>
                    </a:lnTo>
                    <a:lnTo>
                      <a:pt x="858" y="1176"/>
                    </a:lnTo>
                    <a:lnTo>
                      <a:pt x="864" y="1188"/>
                    </a:lnTo>
                    <a:lnTo>
                      <a:pt x="876" y="1200"/>
                    </a:lnTo>
                    <a:lnTo>
                      <a:pt x="888" y="1212"/>
                    </a:lnTo>
                    <a:lnTo>
                      <a:pt x="882" y="1212"/>
                    </a:lnTo>
                    <a:lnTo>
                      <a:pt x="876" y="1212"/>
                    </a:lnTo>
                    <a:lnTo>
                      <a:pt x="870" y="1218"/>
                    </a:lnTo>
                    <a:lnTo>
                      <a:pt x="864" y="1218"/>
                    </a:lnTo>
                    <a:lnTo>
                      <a:pt x="864" y="1224"/>
                    </a:lnTo>
                    <a:lnTo>
                      <a:pt x="858" y="1224"/>
                    </a:lnTo>
                    <a:lnTo>
                      <a:pt x="852" y="1224"/>
                    </a:lnTo>
                    <a:lnTo>
                      <a:pt x="846" y="1224"/>
                    </a:lnTo>
                    <a:lnTo>
                      <a:pt x="840" y="1218"/>
                    </a:lnTo>
                    <a:lnTo>
                      <a:pt x="834" y="1218"/>
                    </a:lnTo>
                    <a:lnTo>
                      <a:pt x="828" y="1218"/>
                    </a:lnTo>
                    <a:lnTo>
                      <a:pt x="828" y="1224"/>
                    </a:lnTo>
                    <a:lnTo>
                      <a:pt x="834" y="1236"/>
                    </a:lnTo>
                    <a:lnTo>
                      <a:pt x="846" y="1242"/>
                    </a:lnTo>
                    <a:lnTo>
                      <a:pt x="858" y="1254"/>
                    </a:lnTo>
                    <a:lnTo>
                      <a:pt x="870" y="1260"/>
                    </a:lnTo>
                    <a:lnTo>
                      <a:pt x="882" y="1272"/>
                    </a:lnTo>
                    <a:lnTo>
                      <a:pt x="888" y="1278"/>
                    </a:lnTo>
                    <a:lnTo>
                      <a:pt x="876" y="1278"/>
                    </a:lnTo>
                    <a:lnTo>
                      <a:pt x="858" y="1284"/>
                    </a:lnTo>
                    <a:lnTo>
                      <a:pt x="846" y="1290"/>
                    </a:lnTo>
                    <a:lnTo>
                      <a:pt x="828" y="1296"/>
                    </a:lnTo>
                    <a:lnTo>
                      <a:pt x="816" y="1302"/>
                    </a:lnTo>
                    <a:lnTo>
                      <a:pt x="798" y="1308"/>
                    </a:lnTo>
                    <a:lnTo>
                      <a:pt x="774" y="1332"/>
                    </a:lnTo>
                    <a:lnTo>
                      <a:pt x="750" y="1362"/>
                    </a:lnTo>
                    <a:lnTo>
                      <a:pt x="726" y="1386"/>
                    </a:lnTo>
                    <a:lnTo>
                      <a:pt x="708" y="1416"/>
                    </a:lnTo>
                    <a:lnTo>
                      <a:pt x="690" y="1446"/>
                    </a:lnTo>
                    <a:lnTo>
                      <a:pt x="684" y="1482"/>
                    </a:lnTo>
                    <a:lnTo>
                      <a:pt x="678" y="1518"/>
                    </a:lnTo>
                    <a:lnTo>
                      <a:pt x="672" y="1554"/>
                    </a:lnTo>
                    <a:lnTo>
                      <a:pt x="672" y="1596"/>
                    </a:lnTo>
                    <a:lnTo>
                      <a:pt x="678" y="1632"/>
                    </a:lnTo>
                    <a:lnTo>
                      <a:pt x="690" y="1668"/>
                    </a:lnTo>
                    <a:lnTo>
                      <a:pt x="708" y="1704"/>
                    </a:lnTo>
                    <a:lnTo>
                      <a:pt x="720" y="1740"/>
                    </a:lnTo>
                    <a:lnTo>
                      <a:pt x="714" y="1770"/>
                    </a:lnTo>
                    <a:lnTo>
                      <a:pt x="696" y="1794"/>
                    </a:lnTo>
                    <a:lnTo>
                      <a:pt x="678" y="1818"/>
                    </a:lnTo>
                    <a:lnTo>
                      <a:pt x="654" y="1842"/>
                    </a:lnTo>
                    <a:lnTo>
                      <a:pt x="636" y="1872"/>
                    </a:lnTo>
                    <a:lnTo>
                      <a:pt x="624" y="1872"/>
                    </a:lnTo>
                    <a:lnTo>
                      <a:pt x="618" y="1884"/>
                    </a:lnTo>
                    <a:lnTo>
                      <a:pt x="612" y="1896"/>
                    </a:lnTo>
                    <a:lnTo>
                      <a:pt x="600" y="1902"/>
                    </a:lnTo>
                    <a:lnTo>
                      <a:pt x="588" y="1908"/>
                    </a:lnTo>
                    <a:lnTo>
                      <a:pt x="576" y="1914"/>
                    </a:lnTo>
                    <a:lnTo>
                      <a:pt x="564" y="1914"/>
                    </a:lnTo>
                    <a:lnTo>
                      <a:pt x="558" y="1908"/>
                    </a:lnTo>
                    <a:lnTo>
                      <a:pt x="558" y="1896"/>
                    </a:lnTo>
                    <a:lnTo>
                      <a:pt x="552" y="1890"/>
                    </a:lnTo>
                    <a:lnTo>
                      <a:pt x="552" y="1884"/>
                    </a:lnTo>
                    <a:lnTo>
                      <a:pt x="546" y="1878"/>
                    </a:lnTo>
                    <a:lnTo>
                      <a:pt x="540" y="1872"/>
                    </a:lnTo>
                    <a:lnTo>
                      <a:pt x="528" y="1866"/>
                    </a:lnTo>
                    <a:lnTo>
                      <a:pt x="522" y="1866"/>
                    </a:lnTo>
                    <a:lnTo>
                      <a:pt x="510" y="1866"/>
                    </a:lnTo>
                    <a:lnTo>
                      <a:pt x="504" y="1866"/>
                    </a:lnTo>
                    <a:lnTo>
                      <a:pt x="492" y="1866"/>
                    </a:lnTo>
                    <a:lnTo>
                      <a:pt x="486" y="1866"/>
                    </a:lnTo>
                    <a:lnTo>
                      <a:pt x="474" y="1872"/>
                    </a:lnTo>
                    <a:lnTo>
                      <a:pt x="462" y="1878"/>
                    </a:lnTo>
                    <a:lnTo>
                      <a:pt x="450" y="1878"/>
                    </a:lnTo>
                    <a:lnTo>
                      <a:pt x="438" y="1878"/>
                    </a:lnTo>
                    <a:lnTo>
                      <a:pt x="426" y="1878"/>
                    </a:lnTo>
                    <a:lnTo>
                      <a:pt x="414" y="1884"/>
                    </a:lnTo>
                    <a:lnTo>
                      <a:pt x="402" y="1884"/>
                    </a:lnTo>
                    <a:lnTo>
                      <a:pt x="396" y="1890"/>
                    </a:lnTo>
                    <a:lnTo>
                      <a:pt x="390" y="1896"/>
                    </a:lnTo>
                    <a:lnTo>
                      <a:pt x="390" y="1908"/>
                    </a:lnTo>
                    <a:lnTo>
                      <a:pt x="384" y="1914"/>
                    </a:lnTo>
                    <a:lnTo>
                      <a:pt x="378" y="1926"/>
                    </a:lnTo>
                    <a:lnTo>
                      <a:pt x="384" y="1926"/>
                    </a:lnTo>
                    <a:lnTo>
                      <a:pt x="396" y="1926"/>
                    </a:lnTo>
                    <a:lnTo>
                      <a:pt x="402" y="1926"/>
                    </a:lnTo>
                    <a:lnTo>
                      <a:pt x="408" y="1920"/>
                    </a:lnTo>
                    <a:lnTo>
                      <a:pt x="414" y="1920"/>
                    </a:lnTo>
                    <a:lnTo>
                      <a:pt x="426" y="1920"/>
                    </a:lnTo>
                    <a:lnTo>
                      <a:pt x="432" y="1920"/>
                    </a:lnTo>
                    <a:lnTo>
                      <a:pt x="438" y="1920"/>
                    </a:lnTo>
                    <a:lnTo>
                      <a:pt x="444" y="1926"/>
                    </a:lnTo>
                    <a:lnTo>
                      <a:pt x="450" y="1932"/>
                    </a:lnTo>
                    <a:lnTo>
                      <a:pt x="456" y="1938"/>
                    </a:lnTo>
                    <a:lnTo>
                      <a:pt x="462" y="1944"/>
                    </a:lnTo>
                    <a:lnTo>
                      <a:pt x="450" y="1944"/>
                    </a:lnTo>
                    <a:lnTo>
                      <a:pt x="438" y="1950"/>
                    </a:lnTo>
                    <a:lnTo>
                      <a:pt x="426" y="1962"/>
                    </a:lnTo>
                    <a:lnTo>
                      <a:pt x="414" y="1968"/>
                    </a:lnTo>
                    <a:lnTo>
                      <a:pt x="408" y="1980"/>
                    </a:lnTo>
                    <a:lnTo>
                      <a:pt x="402" y="1992"/>
                    </a:lnTo>
                    <a:lnTo>
                      <a:pt x="402" y="2004"/>
                    </a:lnTo>
                    <a:lnTo>
                      <a:pt x="402" y="2016"/>
                    </a:lnTo>
                    <a:lnTo>
                      <a:pt x="402" y="2028"/>
                    </a:lnTo>
                    <a:lnTo>
                      <a:pt x="408" y="2040"/>
                    </a:lnTo>
                    <a:lnTo>
                      <a:pt x="414" y="2052"/>
                    </a:lnTo>
                    <a:lnTo>
                      <a:pt x="420" y="2058"/>
                    </a:lnTo>
                    <a:lnTo>
                      <a:pt x="426" y="2058"/>
                    </a:lnTo>
                    <a:lnTo>
                      <a:pt x="426" y="2052"/>
                    </a:lnTo>
                    <a:lnTo>
                      <a:pt x="426" y="2046"/>
                    </a:lnTo>
                    <a:lnTo>
                      <a:pt x="426" y="2040"/>
                    </a:lnTo>
                    <a:lnTo>
                      <a:pt x="432" y="2028"/>
                    </a:lnTo>
                    <a:lnTo>
                      <a:pt x="432" y="2022"/>
                    </a:lnTo>
                    <a:lnTo>
                      <a:pt x="438" y="2016"/>
                    </a:lnTo>
                    <a:lnTo>
                      <a:pt x="444" y="2010"/>
                    </a:lnTo>
                    <a:lnTo>
                      <a:pt x="450" y="2004"/>
                    </a:lnTo>
                    <a:lnTo>
                      <a:pt x="462" y="1998"/>
                    </a:lnTo>
                    <a:lnTo>
                      <a:pt x="468" y="2004"/>
                    </a:lnTo>
                    <a:lnTo>
                      <a:pt x="474" y="2004"/>
                    </a:lnTo>
                    <a:lnTo>
                      <a:pt x="474" y="2010"/>
                    </a:lnTo>
                    <a:lnTo>
                      <a:pt x="480" y="2010"/>
                    </a:lnTo>
                    <a:lnTo>
                      <a:pt x="480" y="2016"/>
                    </a:lnTo>
                    <a:lnTo>
                      <a:pt x="486" y="2022"/>
                    </a:lnTo>
                    <a:lnTo>
                      <a:pt x="486" y="2028"/>
                    </a:lnTo>
                    <a:lnTo>
                      <a:pt x="492" y="2028"/>
                    </a:lnTo>
                    <a:lnTo>
                      <a:pt x="498" y="2034"/>
                    </a:lnTo>
                    <a:lnTo>
                      <a:pt x="504" y="2034"/>
                    </a:lnTo>
                    <a:lnTo>
                      <a:pt x="510" y="2034"/>
                    </a:lnTo>
                    <a:lnTo>
                      <a:pt x="516" y="2034"/>
                    </a:lnTo>
                    <a:lnTo>
                      <a:pt x="522" y="2028"/>
                    </a:lnTo>
                    <a:lnTo>
                      <a:pt x="528" y="2022"/>
                    </a:lnTo>
                    <a:lnTo>
                      <a:pt x="534" y="2016"/>
                    </a:lnTo>
                    <a:lnTo>
                      <a:pt x="540" y="2016"/>
                    </a:lnTo>
                    <a:lnTo>
                      <a:pt x="540" y="2010"/>
                    </a:lnTo>
                    <a:lnTo>
                      <a:pt x="546" y="2010"/>
                    </a:lnTo>
                    <a:lnTo>
                      <a:pt x="546" y="2016"/>
                    </a:lnTo>
                    <a:lnTo>
                      <a:pt x="546" y="2022"/>
                    </a:lnTo>
                    <a:lnTo>
                      <a:pt x="546" y="2028"/>
                    </a:lnTo>
                    <a:lnTo>
                      <a:pt x="540" y="2034"/>
                    </a:lnTo>
                    <a:lnTo>
                      <a:pt x="546" y="2040"/>
                    </a:lnTo>
                    <a:lnTo>
                      <a:pt x="546" y="2046"/>
                    </a:lnTo>
                    <a:lnTo>
                      <a:pt x="552" y="2046"/>
                    </a:lnTo>
                    <a:lnTo>
                      <a:pt x="558" y="2052"/>
                    </a:lnTo>
                    <a:lnTo>
                      <a:pt x="552" y="2064"/>
                    </a:lnTo>
                    <a:lnTo>
                      <a:pt x="552" y="2070"/>
                    </a:lnTo>
                    <a:lnTo>
                      <a:pt x="546" y="2082"/>
                    </a:lnTo>
                    <a:lnTo>
                      <a:pt x="546" y="2088"/>
                    </a:lnTo>
                    <a:lnTo>
                      <a:pt x="552" y="2094"/>
                    </a:lnTo>
                    <a:lnTo>
                      <a:pt x="552" y="2100"/>
                    </a:lnTo>
                    <a:lnTo>
                      <a:pt x="558" y="2106"/>
                    </a:lnTo>
                    <a:lnTo>
                      <a:pt x="564" y="2112"/>
                    </a:lnTo>
                    <a:lnTo>
                      <a:pt x="576" y="2118"/>
                    </a:lnTo>
                    <a:lnTo>
                      <a:pt x="588" y="2124"/>
                    </a:lnTo>
                    <a:lnTo>
                      <a:pt x="600" y="2130"/>
                    </a:lnTo>
                    <a:lnTo>
                      <a:pt x="612" y="2130"/>
                    </a:lnTo>
                    <a:lnTo>
                      <a:pt x="624" y="2130"/>
                    </a:lnTo>
                    <a:lnTo>
                      <a:pt x="630" y="2130"/>
                    </a:lnTo>
                    <a:lnTo>
                      <a:pt x="630" y="2124"/>
                    </a:lnTo>
                    <a:lnTo>
                      <a:pt x="636" y="2124"/>
                    </a:lnTo>
                    <a:lnTo>
                      <a:pt x="636" y="2118"/>
                    </a:lnTo>
                    <a:lnTo>
                      <a:pt x="630" y="2112"/>
                    </a:lnTo>
                    <a:lnTo>
                      <a:pt x="624" y="2106"/>
                    </a:lnTo>
                    <a:lnTo>
                      <a:pt x="618" y="2100"/>
                    </a:lnTo>
                    <a:lnTo>
                      <a:pt x="612" y="2088"/>
                    </a:lnTo>
                    <a:lnTo>
                      <a:pt x="606" y="2082"/>
                    </a:lnTo>
                    <a:lnTo>
                      <a:pt x="600" y="2076"/>
                    </a:lnTo>
                    <a:lnTo>
                      <a:pt x="594" y="2064"/>
                    </a:lnTo>
                    <a:lnTo>
                      <a:pt x="600" y="2064"/>
                    </a:lnTo>
                    <a:lnTo>
                      <a:pt x="606" y="2064"/>
                    </a:lnTo>
                    <a:lnTo>
                      <a:pt x="612" y="2058"/>
                    </a:lnTo>
                    <a:lnTo>
                      <a:pt x="618" y="2058"/>
                    </a:lnTo>
                    <a:lnTo>
                      <a:pt x="624" y="2058"/>
                    </a:lnTo>
                    <a:lnTo>
                      <a:pt x="624" y="2052"/>
                    </a:lnTo>
                    <a:lnTo>
                      <a:pt x="630" y="2052"/>
                    </a:lnTo>
                    <a:lnTo>
                      <a:pt x="642" y="2052"/>
                    </a:lnTo>
                    <a:lnTo>
                      <a:pt x="642" y="2046"/>
                    </a:lnTo>
                    <a:lnTo>
                      <a:pt x="648" y="2034"/>
                    </a:lnTo>
                    <a:lnTo>
                      <a:pt x="648" y="2028"/>
                    </a:lnTo>
                    <a:lnTo>
                      <a:pt x="654" y="2016"/>
                    </a:lnTo>
                    <a:lnTo>
                      <a:pt x="654" y="2010"/>
                    </a:lnTo>
                    <a:lnTo>
                      <a:pt x="666" y="2016"/>
                    </a:lnTo>
                    <a:lnTo>
                      <a:pt x="678" y="2022"/>
                    </a:lnTo>
                    <a:lnTo>
                      <a:pt x="690" y="2028"/>
                    </a:lnTo>
                    <a:lnTo>
                      <a:pt x="702" y="2028"/>
                    </a:lnTo>
                    <a:lnTo>
                      <a:pt x="714" y="2034"/>
                    </a:lnTo>
                    <a:lnTo>
                      <a:pt x="720" y="2034"/>
                    </a:lnTo>
                    <a:lnTo>
                      <a:pt x="726" y="2028"/>
                    </a:lnTo>
                    <a:lnTo>
                      <a:pt x="732" y="2028"/>
                    </a:lnTo>
                    <a:lnTo>
                      <a:pt x="738" y="2028"/>
                    </a:lnTo>
                    <a:lnTo>
                      <a:pt x="744" y="2022"/>
                    </a:lnTo>
                    <a:lnTo>
                      <a:pt x="744" y="2016"/>
                    </a:lnTo>
                    <a:lnTo>
                      <a:pt x="738" y="2010"/>
                    </a:lnTo>
                    <a:lnTo>
                      <a:pt x="738" y="1998"/>
                    </a:lnTo>
                    <a:lnTo>
                      <a:pt x="738" y="1992"/>
                    </a:lnTo>
                    <a:lnTo>
                      <a:pt x="738" y="1980"/>
                    </a:lnTo>
                    <a:lnTo>
                      <a:pt x="744" y="1974"/>
                    </a:lnTo>
                    <a:lnTo>
                      <a:pt x="744" y="1968"/>
                    </a:lnTo>
                    <a:lnTo>
                      <a:pt x="756" y="1974"/>
                    </a:lnTo>
                    <a:lnTo>
                      <a:pt x="762" y="1986"/>
                    </a:lnTo>
                    <a:lnTo>
                      <a:pt x="774" y="1998"/>
                    </a:lnTo>
                    <a:lnTo>
                      <a:pt x="780" y="2004"/>
                    </a:lnTo>
                    <a:lnTo>
                      <a:pt x="792" y="2010"/>
                    </a:lnTo>
                    <a:lnTo>
                      <a:pt x="804" y="2010"/>
                    </a:lnTo>
                    <a:lnTo>
                      <a:pt x="810" y="2010"/>
                    </a:lnTo>
                    <a:lnTo>
                      <a:pt x="810" y="2004"/>
                    </a:lnTo>
                    <a:lnTo>
                      <a:pt x="804" y="1998"/>
                    </a:lnTo>
                    <a:lnTo>
                      <a:pt x="798" y="1992"/>
                    </a:lnTo>
                    <a:lnTo>
                      <a:pt x="798" y="1986"/>
                    </a:lnTo>
                    <a:lnTo>
                      <a:pt x="798" y="1980"/>
                    </a:lnTo>
                    <a:lnTo>
                      <a:pt x="798" y="1968"/>
                    </a:lnTo>
                    <a:lnTo>
                      <a:pt x="798" y="1962"/>
                    </a:lnTo>
                    <a:lnTo>
                      <a:pt x="798" y="1950"/>
                    </a:lnTo>
                    <a:lnTo>
                      <a:pt x="798" y="1944"/>
                    </a:lnTo>
                    <a:lnTo>
                      <a:pt x="804" y="1938"/>
                    </a:lnTo>
                    <a:lnTo>
                      <a:pt x="822" y="1956"/>
                    </a:lnTo>
                    <a:lnTo>
                      <a:pt x="828" y="1956"/>
                    </a:lnTo>
                    <a:lnTo>
                      <a:pt x="834" y="1962"/>
                    </a:lnTo>
                    <a:lnTo>
                      <a:pt x="840" y="1962"/>
                    </a:lnTo>
                    <a:lnTo>
                      <a:pt x="846" y="1962"/>
                    </a:lnTo>
                    <a:lnTo>
                      <a:pt x="846" y="1944"/>
                    </a:lnTo>
                    <a:lnTo>
                      <a:pt x="852" y="1932"/>
                    </a:lnTo>
                    <a:lnTo>
                      <a:pt x="858" y="1920"/>
                    </a:lnTo>
                    <a:lnTo>
                      <a:pt x="864" y="1902"/>
                    </a:lnTo>
                    <a:lnTo>
                      <a:pt x="870" y="1890"/>
                    </a:lnTo>
                    <a:lnTo>
                      <a:pt x="876" y="1878"/>
                    </a:lnTo>
                    <a:lnTo>
                      <a:pt x="894" y="1884"/>
                    </a:lnTo>
                    <a:lnTo>
                      <a:pt x="906" y="1890"/>
                    </a:lnTo>
                    <a:lnTo>
                      <a:pt x="918" y="1890"/>
                    </a:lnTo>
                    <a:lnTo>
                      <a:pt x="936" y="1896"/>
                    </a:lnTo>
                    <a:lnTo>
                      <a:pt x="948" y="1896"/>
                    </a:lnTo>
                    <a:lnTo>
                      <a:pt x="960" y="1908"/>
                    </a:lnTo>
                    <a:lnTo>
                      <a:pt x="966" y="1896"/>
                    </a:lnTo>
                    <a:lnTo>
                      <a:pt x="960" y="1890"/>
                    </a:lnTo>
                    <a:lnTo>
                      <a:pt x="954" y="1878"/>
                    </a:lnTo>
                    <a:lnTo>
                      <a:pt x="948" y="1872"/>
                    </a:lnTo>
                    <a:lnTo>
                      <a:pt x="948" y="1860"/>
                    </a:lnTo>
                    <a:lnTo>
                      <a:pt x="942" y="1848"/>
                    </a:lnTo>
                    <a:lnTo>
                      <a:pt x="960" y="1854"/>
                    </a:lnTo>
                    <a:lnTo>
                      <a:pt x="978" y="1854"/>
                    </a:lnTo>
                    <a:lnTo>
                      <a:pt x="996" y="1860"/>
                    </a:lnTo>
                    <a:lnTo>
                      <a:pt x="1014" y="1860"/>
                    </a:lnTo>
                    <a:lnTo>
                      <a:pt x="1026" y="1854"/>
                    </a:lnTo>
                    <a:lnTo>
                      <a:pt x="1044" y="1848"/>
                    </a:lnTo>
                    <a:lnTo>
                      <a:pt x="1044" y="1842"/>
                    </a:lnTo>
                    <a:lnTo>
                      <a:pt x="1038" y="1830"/>
                    </a:lnTo>
                    <a:lnTo>
                      <a:pt x="1026" y="1824"/>
                    </a:lnTo>
                    <a:lnTo>
                      <a:pt x="1020" y="1824"/>
                    </a:lnTo>
                    <a:lnTo>
                      <a:pt x="1008" y="1818"/>
                    </a:lnTo>
                    <a:lnTo>
                      <a:pt x="1008" y="1806"/>
                    </a:lnTo>
                    <a:lnTo>
                      <a:pt x="1014" y="1806"/>
                    </a:lnTo>
                    <a:lnTo>
                      <a:pt x="1020" y="1806"/>
                    </a:lnTo>
                    <a:lnTo>
                      <a:pt x="1032" y="1806"/>
                    </a:lnTo>
                    <a:lnTo>
                      <a:pt x="1038" y="1800"/>
                    </a:lnTo>
                    <a:lnTo>
                      <a:pt x="1044" y="1800"/>
                    </a:lnTo>
                    <a:lnTo>
                      <a:pt x="1050" y="1794"/>
                    </a:lnTo>
                    <a:lnTo>
                      <a:pt x="1056" y="1788"/>
                    </a:lnTo>
                    <a:lnTo>
                      <a:pt x="1056" y="1782"/>
                    </a:lnTo>
                    <a:lnTo>
                      <a:pt x="1050" y="1782"/>
                    </a:lnTo>
                    <a:lnTo>
                      <a:pt x="1044" y="1776"/>
                    </a:lnTo>
                    <a:lnTo>
                      <a:pt x="1026" y="1770"/>
                    </a:lnTo>
                    <a:lnTo>
                      <a:pt x="1002" y="1758"/>
                    </a:lnTo>
                    <a:lnTo>
                      <a:pt x="984" y="1752"/>
                    </a:lnTo>
                    <a:lnTo>
                      <a:pt x="966" y="1734"/>
                    </a:lnTo>
                    <a:lnTo>
                      <a:pt x="948" y="1722"/>
                    </a:lnTo>
                    <a:lnTo>
                      <a:pt x="930" y="1710"/>
                    </a:lnTo>
                    <a:lnTo>
                      <a:pt x="936" y="1710"/>
                    </a:lnTo>
                    <a:lnTo>
                      <a:pt x="942" y="1710"/>
                    </a:lnTo>
                    <a:lnTo>
                      <a:pt x="948" y="1710"/>
                    </a:lnTo>
                    <a:lnTo>
                      <a:pt x="954" y="1710"/>
                    </a:lnTo>
                    <a:lnTo>
                      <a:pt x="960" y="1710"/>
                    </a:lnTo>
                    <a:lnTo>
                      <a:pt x="966" y="1704"/>
                    </a:lnTo>
                    <a:lnTo>
                      <a:pt x="960" y="1698"/>
                    </a:lnTo>
                    <a:lnTo>
                      <a:pt x="954" y="1686"/>
                    </a:lnTo>
                    <a:lnTo>
                      <a:pt x="948" y="1680"/>
                    </a:lnTo>
                    <a:lnTo>
                      <a:pt x="942" y="1668"/>
                    </a:lnTo>
                    <a:lnTo>
                      <a:pt x="936" y="1656"/>
                    </a:lnTo>
                    <a:lnTo>
                      <a:pt x="930" y="1650"/>
                    </a:lnTo>
                    <a:lnTo>
                      <a:pt x="936" y="1650"/>
                    </a:lnTo>
                    <a:lnTo>
                      <a:pt x="942" y="1650"/>
                    </a:lnTo>
                    <a:lnTo>
                      <a:pt x="948" y="1650"/>
                    </a:lnTo>
                    <a:lnTo>
                      <a:pt x="948" y="1644"/>
                    </a:lnTo>
                    <a:lnTo>
                      <a:pt x="948" y="1638"/>
                    </a:lnTo>
                    <a:lnTo>
                      <a:pt x="954" y="1638"/>
                    </a:lnTo>
                    <a:lnTo>
                      <a:pt x="948" y="1632"/>
                    </a:lnTo>
                    <a:lnTo>
                      <a:pt x="948" y="1626"/>
                    </a:lnTo>
                    <a:lnTo>
                      <a:pt x="942" y="1626"/>
                    </a:lnTo>
                    <a:lnTo>
                      <a:pt x="936" y="1620"/>
                    </a:lnTo>
                    <a:lnTo>
                      <a:pt x="930" y="1614"/>
                    </a:lnTo>
                    <a:lnTo>
                      <a:pt x="930" y="1602"/>
                    </a:lnTo>
                    <a:lnTo>
                      <a:pt x="930" y="1596"/>
                    </a:lnTo>
                    <a:lnTo>
                      <a:pt x="930" y="1584"/>
                    </a:lnTo>
                    <a:lnTo>
                      <a:pt x="930" y="1578"/>
                    </a:lnTo>
                    <a:lnTo>
                      <a:pt x="936" y="1566"/>
                    </a:lnTo>
                    <a:lnTo>
                      <a:pt x="942" y="1560"/>
                    </a:lnTo>
                    <a:lnTo>
                      <a:pt x="954" y="1608"/>
                    </a:lnTo>
                    <a:lnTo>
                      <a:pt x="978" y="1656"/>
                    </a:lnTo>
                    <a:lnTo>
                      <a:pt x="1014" y="1698"/>
                    </a:lnTo>
                    <a:lnTo>
                      <a:pt x="1056" y="1734"/>
                    </a:lnTo>
                    <a:lnTo>
                      <a:pt x="1098" y="1764"/>
                    </a:lnTo>
                    <a:lnTo>
                      <a:pt x="1146" y="1788"/>
                    </a:lnTo>
                    <a:lnTo>
                      <a:pt x="1152" y="1794"/>
                    </a:lnTo>
                    <a:lnTo>
                      <a:pt x="1164" y="1794"/>
                    </a:lnTo>
                    <a:lnTo>
                      <a:pt x="1176" y="1800"/>
                    </a:lnTo>
                    <a:lnTo>
                      <a:pt x="1182" y="1800"/>
                    </a:lnTo>
                    <a:lnTo>
                      <a:pt x="1194" y="1806"/>
                    </a:lnTo>
                    <a:lnTo>
                      <a:pt x="1200" y="1818"/>
                    </a:lnTo>
                    <a:lnTo>
                      <a:pt x="1200" y="1836"/>
                    </a:lnTo>
                    <a:lnTo>
                      <a:pt x="1206" y="1854"/>
                    </a:lnTo>
                    <a:lnTo>
                      <a:pt x="1200" y="1872"/>
                    </a:lnTo>
                    <a:lnTo>
                      <a:pt x="1200" y="1896"/>
                    </a:lnTo>
                    <a:lnTo>
                      <a:pt x="1194" y="1914"/>
                    </a:lnTo>
                    <a:lnTo>
                      <a:pt x="1182" y="1932"/>
                    </a:lnTo>
                    <a:lnTo>
                      <a:pt x="1176" y="1938"/>
                    </a:lnTo>
                    <a:lnTo>
                      <a:pt x="1170" y="1950"/>
                    </a:lnTo>
                    <a:lnTo>
                      <a:pt x="1164" y="1962"/>
                    </a:lnTo>
                    <a:lnTo>
                      <a:pt x="1158" y="1968"/>
                    </a:lnTo>
                    <a:lnTo>
                      <a:pt x="1146" y="1974"/>
                    </a:lnTo>
                    <a:lnTo>
                      <a:pt x="1134" y="1974"/>
                    </a:lnTo>
                    <a:lnTo>
                      <a:pt x="1122" y="1974"/>
                    </a:lnTo>
                    <a:lnTo>
                      <a:pt x="1110" y="1974"/>
                    </a:lnTo>
                    <a:lnTo>
                      <a:pt x="1098" y="1968"/>
                    </a:lnTo>
                    <a:lnTo>
                      <a:pt x="1086" y="1962"/>
                    </a:lnTo>
                    <a:lnTo>
                      <a:pt x="1074" y="1962"/>
                    </a:lnTo>
                    <a:lnTo>
                      <a:pt x="1062" y="1956"/>
                    </a:lnTo>
                    <a:lnTo>
                      <a:pt x="1056" y="1956"/>
                    </a:lnTo>
                    <a:lnTo>
                      <a:pt x="1050" y="1956"/>
                    </a:lnTo>
                    <a:lnTo>
                      <a:pt x="1044" y="1956"/>
                    </a:lnTo>
                    <a:lnTo>
                      <a:pt x="1038" y="1962"/>
                    </a:lnTo>
                    <a:lnTo>
                      <a:pt x="1032" y="1962"/>
                    </a:lnTo>
                    <a:lnTo>
                      <a:pt x="1032" y="1968"/>
                    </a:lnTo>
                    <a:lnTo>
                      <a:pt x="1020" y="1968"/>
                    </a:lnTo>
                    <a:lnTo>
                      <a:pt x="1008" y="1962"/>
                    </a:lnTo>
                    <a:lnTo>
                      <a:pt x="990" y="1962"/>
                    </a:lnTo>
                    <a:lnTo>
                      <a:pt x="978" y="1968"/>
                    </a:lnTo>
                    <a:lnTo>
                      <a:pt x="966" y="1968"/>
                    </a:lnTo>
                    <a:lnTo>
                      <a:pt x="954" y="1974"/>
                    </a:lnTo>
                    <a:lnTo>
                      <a:pt x="948" y="1980"/>
                    </a:lnTo>
                    <a:lnTo>
                      <a:pt x="942" y="1980"/>
                    </a:lnTo>
                    <a:lnTo>
                      <a:pt x="936" y="1986"/>
                    </a:lnTo>
                    <a:lnTo>
                      <a:pt x="930" y="1986"/>
                    </a:lnTo>
                    <a:lnTo>
                      <a:pt x="930" y="1992"/>
                    </a:lnTo>
                    <a:lnTo>
                      <a:pt x="924" y="1992"/>
                    </a:lnTo>
                    <a:lnTo>
                      <a:pt x="918" y="2004"/>
                    </a:lnTo>
                    <a:lnTo>
                      <a:pt x="918" y="2010"/>
                    </a:lnTo>
                    <a:lnTo>
                      <a:pt x="912" y="2016"/>
                    </a:lnTo>
                    <a:lnTo>
                      <a:pt x="912" y="2022"/>
                    </a:lnTo>
                    <a:lnTo>
                      <a:pt x="912" y="2028"/>
                    </a:lnTo>
                    <a:lnTo>
                      <a:pt x="912" y="2040"/>
                    </a:lnTo>
                    <a:lnTo>
                      <a:pt x="930" y="2034"/>
                    </a:lnTo>
                    <a:lnTo>
                      <a:pt x="942" y="2022"/>
                    </a:lnTo>
                    <a:lnTo>
                      <a:pt x="954" y="2016"/>
                    </a:lnTo>
                    <a:lnTo>
                      <a:pt x="972" y="2016"/>
                    </a:lnTo>
                    <a:lnTo>
                      <a:pt x="984" y="2010"/>
                    </a:lnTo>
                    <a:lnTo>
                      <a:pt x="1002" y="2016"/>
                    </a:lnTo>
                    <a:lnTo>
                      <a:pt x="996" y="2016"/>
                    </a:lnTo>
                    <a:lnTo>
                      <a:pt x="990" y="2022"/>
                    </a:lnTo>
                    <a:lnTo>
                      <a:pt x="984" y="2022"/>
                    </a:lnTo>
                    <a:lnTo>
                      <a:pt x="978" y="2028"/>
                    </a:lnTo>
                    <a:lnTo>
                      <a:pt x="978" y="2034"/>
                    </a:lnTo>
                    <a:lnTo>
                      <a:pt x="972" y="2040"/>
                    </a:lnTo>
                    <a:lnTo>
                      <a:pt x="972" y="2046"/>
                    </a:lnTo>
                    <a:lnTo>
                      <a:pt x="972" y="2058"/>
                    </a:lnTo>
                    <a:lnTo>
                      <a:pt x="960" y="2070"/>
                    </a:lnTo>
                    <a:lnTo>
                      <a:pt x="954" y="2076"/>
                    </a:lnTo>
                    <a:lnTo>
                      <a:pt x="954" y="2088"/>
                    </a:lnTo>
                    <a:lnTo>
                      <a:pt x="948" y="2100"/>
                    </a:lnTo>
                    <a:lnTo>
                      <a:pt x="954" y="2112"/>
                    </a:lnTo>
                    <a:lnTo>
                      <a:pt x="960" y="2124"/>
                    </a:lnTo>
                    <a:lnTo>
                      <a:pt x="960" y="2136"/>
                    </a:lnTo>
                    <a:lnTo>
                      <a:pt x="966" y="2148"/>
                    </a:lnTo>
                    <a:lnTo>
                      <a:pt x="972" y="2154"/>
                    </a:lnTo>
                    <a:lnTo>
                      <a:pt x="984" y="2160"/>
                    </a:lnTo>
                    <a:lnTo>
                      <a:pt x="990" y="2148"/>
                    </a:lnTo>
                    <a:lnTo>
                      <a:pt x="996" y="2130"/>
                    </a:lnTo>
                    <a:lnTo>
                      <a:pt x="1002" y="2118"/>
                    </a:lnTo>
                    <a:lnTo>
                      <a:pt x="1008" y="2100"/>
                    </a:lnTo>
                    <a:lnTo>
                      <a:pt x="1014" y="2088"/>
                    </a:lnTo>
                    <a:lnTo>
                      <a:pt x="1026" y="2082"/>
                    </a:lnTo>
                    <a:lnTo>
                      <a:pt x="1032" y="2082"/>
                    </a:lnTo>
                    <a:lnTo>
                      <a:pt x="1038" y="2088"/>
                    </a:lnTo>
                    <a:lnTo>
                      <a:pt x="1038" y="2094"/>
                    </a:lnTo>
                    <a:lnTo>
                      <a:pt x="1044" y="2094"/>
                    </a:lnTo>
                    <a:lnTo>
                      <a:pt x="1050" y="2100"/>
                    </a:lnTo>
                    <a:lnTo>
                      <a:pt x="1056" y="2100"/>
                    </a:lnTo>
                    <a:lnTo>
                      <a:pt x="1062" y="2106"/>
                    </a:lnTo>
                    <a:lnTo>
                      <a:pt x="1074" y="2106"/>
                    </a:lnTo>
                    <a:lnTo>
                      <a:pt x="1080" y="2100"/>
                    </a:lnTo>
                    <a:lnTo>
                      <a:pt x="1092" y="2094"/>
                    </a:lnTo>
                    <a:lnTo>
                      <a:pt x="1098" y="2088"/>
                    </a:lnTo>
                    <a:lnTo>
                      <a:pt x="1104" y="2082"/>
                    </a:lnTo>
                    <a:lnTo>
                      <a:pt x="1110" y="2076"/>
                    </a:lnTo>
                    <a:lnTo>
                      <a:pt x="1110" y="2070"/>
                    </a:lnTo>
                    <a:lnTo>
                      <a:pt x="1116" y="2064"/>
                    </a:lnTo>
                    <a:lnTo>
                      <a:pt x="1116" y="2070"/>
                    </a:lnTo>
                    <a:lnTo>
                      <a:pt x="1116" y="2076"/>
                    </a:lnTo>
                    <a:lnTo>
                      <a:pt x="1116" y="2082"/>
                    </a:lnTo>
                    <a:lnTo>
                      <a:pt x="1122" y="2088"/>
                    </a:lnTo>
                    <a:lnTo>
                      <a:pt x="1128" y="2100"/>
                    </a:lnTo>
                    <a:lnTo>
                      <a:pt x="1140" y="2106"/>
                    </a:lnTo>
                    <a:lnTo>
                      <a:pt x="1146" y="2112"/>
                    </a:lnTo>
                    <a:lnTo>
                      <a:pt x="1158" y="2112"/>
                    </a:lnTo>
                    <a:lnTo>
                      <a:pt x="1164" y="2118"/>
                    </a:lnTo>
                    <a:lnTo>
                      <a:pt x="1176" y="2118"/>
                    </a:lnTo>
                    <a:lnTo>
                      <a:pt x="1182" y="2118"/>
                    </a:lnTo>
                    <a:lnTo>
                      <a:pt x="1188" y="2118"/>
                    </a:lnTo>
                    <a:lnTo>
                      <a:pt x="1194" y="2118"/>
                    </a:lnTo>
                    <a:lnTo>
                      <a:pt x="1206" y="2112"/>
                    </a:lnTo>
                    <a:lnTo>
                      <a:pt x="1212" y="2106"/>
                    </a:lnTo>
                    <a:lnTo>
                      <a:pt x="1218" y="2100"/>
                    </a:lnTo>
                    <a:lnTo>
                      <a:pt x="1224" y="2088"/>
                    </a:lnTo>
                    <a:lnTo>
                      <a:pt x="1218" y="2076"/>
                    </a:lnTo>
                    <a:lnTo>
                      <a:pt x="1218" y="2070"/>
                    </a:lnTo>
                    <a:lnTo>
                      <a:pt x="1212" y="2058"/>
                    </a:lnTo>
                    <a:lnTo>
                      <a:pt x="1206" y="2046"/>
                    </a:lnTo>
                    <a:lnTo>
                      <a:pt x="1212" y="2046"/>
                    </a:lnTo>
                    <a:lnTo>
                      <a:pt x="1218" y="2046"/>
                    </a:lnTo>
                    <a:lnTo>
                      <a:pt x="1224" y="2052"/>
                    </a:lnTo>
                    <a:lnTo>
                      <a:pt x="1230" y="2052"/>
                    </a:lnTo>
                    <a:lnTo>
                      <a:pt x="1236" y="2058"/>
                    </a:lnTo>
                    <a:lnTo>
                      <a:pt x="1242" y="2058"/>
                    </a:lnTo>
                    <a:lnTo>
                      <a:pt x="1254" y="2064"/>
                    </a:lnTo>
                    <a:lnTo>
                      <a:pt x="1260" y="2064"/>
                    </a:lnTo>
                    <a:lnTo>
                      <a:pt x="1266" y="2058"/>
                    </a:lnTo>
                    <a:lnTo>
                      <a:pt x="1272" y="2052"/>
                    </a:lnTo>
                    <a:lnTo>
                      <a:pt x="1278" y="2046"/>
                    </a:lnTo>
                    <a:lnTo>
                      <a:pt x="1284" y="2040"/>
                    </a:lnTo>
                    <a:lnTo>
                      <a:pt x="1290" y="2034"/>
                    </a:lnTo>
                    <a:lnTo>
                      <a:pt x="1290" y="2028"/>
                    </a:lnTo>
                    <a:lnTo>
                      <a:pt x="1296" y="2022"/>
                    </a:lnTo>
                    <a:lnTo>
                      <a:pt x="1296" y="2016"/>
                    </a:lnTo>
                    <a:lnTo>
                      <a:pt x="1308" y="2022"/>
                    </a:lnTo>
                    <a:lnTo>
                      <a:pt x="1320" y="2022"/>
                    </a:lnTo>
                    <a:lnTo>
                      <a:pt x="1326" y="2022"/>
                    </a:lnTo>
                    <a:lnTo>
                      <a:pt x="1338" y="2022"/>
                    </a:lnTo>
                    <a:lnTo>
                      <a:pt x="1350" y="2016"/>
                    </a:lnTo>
                    <a:lnTo>
                      <a:pt x="1362" y="2010"/>
                    </a:lnTo>
                    <a:lnTo>
                      <a:pt x="1362" y="2004"/>
                    </a:lnTo>
                    <a:lnTo>
                      <a:pt x="1356" y="1998"/>
                    </a:lnTo>
                    <a:lnTo>
                      <a:pt x="1356" y="1992"/>
                    </a:lnTo>
                    <a:lnTo>
                      <a:pt x="1350" y="1992"/>
                    </a:lnTo>
                    <a:lnTo>
                      <a:pt x="1344" y="1986"/>
                    </a:lnTo>
                    <a:lnTo>
                      <a:pt x="1338" y="1980"/>
                    </a:lnTo>
                    <a:lnTo>
                      <a:pt x="1350" y="1980"/>
                    </a:lnTo>
                    <a:lnTo>
                      <a:pt x="1356" y="1980"/>
                    </a:lnTo>
                    <a:lnTo>
                      <a:pt x="1368" y="1974"/>
                    </a:lnTo>
                    <a:lnTo>
                      <a:pt x="1380" y="1974"/>
                    </a:lnTo>
                    <a:lnTo>
                      <a:pt x="1386" y="1968"/>
                    </a:lnTo>
                    <a:lnTo>
                      <a:pt x="1398" y="1962"/>
                    </a:lnTo>
                    <a:lnTo>
                      <a:pt x="1392" y="1956"/>
                    </a:lnTo>
                    <a:lnTo>
                      <a:pt x="1392" y="1950"/>
                    </a:lnTo>
                    <a:lnTo>
                      <a:pt x="1386" y="1944"/>
                    </a:lnTo>
                    <a:lnTo>
                      <a:pt x="1380" y="1938"/>
                    </a:lnTo>
                    <a:lnTo>
                      <a:pt x="1374" y="1938"/>
                    </a:lnTo>
                    <a:lnTo>
                      <a:pt x="1368" y="1932"/>
                    </a:lnTo>
                    <a:lnTo>
                      <a:pt x="1380" y="1926"/>
                    </a:lnTo>
                    <a:lnTo>
                      <a:pt x="1392" y="1926"/>
                    </a:lnTo>
                    <a:lnTo>
                      <a:pt x="1398" y="1920"/>
                    </a:lnTo>
                    <a:lnTo>
                      <a:pt x="1410" y="1920"/>
                    </a:lnTo>
                    <a:lnTo>
                      <a:pt x="1416" y="1914"/>
                    </a:lnTo>
                    <a:lnTo>
                      <a:pt x="1422" y="1908"/>
                    </a:lnTo>
                    <a:lnTo>
                      <a:pt x="1422" y="1902"/>
                    </a:lnTo>
                    <a:lnTo>
                      <a:pt x="1422" y="1896"/>
                    </a:lnTo>
                    <a:lnTo>
                      <a:pt x="1422" y="1890"/>
                    </a:lnTo>
                    <a:lnTo>
                      <a:pt x="1422" y="1884"/>
                    </a:lnTo>
                    <a:lnTo>
                      <a:pt x="1416" y="1878"/>
                    </a:lnTo>
                    <a:lnTo>
                      <a:pt x="1410" y="1866"/>
                    </a:lnTo>
                    <a:lnTo>
                      <a:pt x="1386" y="1806"/>
                    </a:lnTo>
                    <a:lnTo>
                      <a:pt x="1398" y="1794"/>
                    </a:lnTo>
                    <a:lnTo>
                      <a:pt x="1410" y="1788"/>
                    </a:lnTo>
                    <a:lnTo>
                      <a:pt x="1422" y="1794"/>
                    </a:lnTo>
                    <a:lnTo>
                      <a:pt x="1434" y="1800"/>
                    </a:lnTo>
                    <a:lnTo>
                      <a:pt x="1452" y="1806"/>
                    </a:lnTo>
                    <a:lnTo>
                      <a:pt x="1464" y="1800"/>
                    </a:lnTo>
                    <a:lnTo>
                      <a:pt x="1470" y="1794"/>
                    </a:lnTo>
                    <a:lnTo>
                      <a:pt x="1482" y="1788"/>
                    </a:lnTo>
                    <a:lnTo>
                      <a:pt x="1488" y="1782"/>
                    </a:lnTo>
                    <a:lnTo>
                      <a:pt x="1494" y="1776"/>
                    </a:lnTo>
                    <a:lnTo>
                      <a:pt x="1500" y="1770"/>
                    </a:lnTo>
                    <a:lnTo>
                      <a:pt x="1500" y="1758"/>
                    </a:lnTo>
                    <a:lnTo>
                      <a:pt x="1500" y="1764"/>
                    </a:lnTo>
                    <a:lnTo>
                      <a:pt x="1494" y="1758"/>
                    </a:lnTo>
                    <a:lnTo>
                      <a:pt x="1488" y="1758"/>
                    </a:lnTo>
                    <a:lnTo>
                      <a:pt x="1482" y="1758"/>
                    </a:lnTo>
                    <a:lnTo>
                      <a:pt x="1476" y="1758"/>
                    </a:lnTo>
                    <a:lnTo>
                      <a:pt x="1470" y="1752"/>
                    </a:lnTo>
                    <a:lnTo>
                      <a:pt x="1464" y="1752"/>
                    </a:lnTo>
                    <a:lnTo>
                      <a:pt x="1458" y="1746"/>
                    </a:lnTo>
                    <a:lnTo>
                      <a:pt x="1452" y="1740"/>
                    </a:lnTo>
                    <a:lnTo>
                      <a:pt x="1446" y="1734"/>
                    </a:lnTo>
                    <a:lnTo>
                      <a:pt x="1446" y="1728"/>
                    </a:lnTo>
                    <a:lnTo>
                      <a:pt x="1440" y="1722"/>
                    </a:lnTo>
                    <a:lnTo>
                      <a:pt x="1440" y="1716"/>
                    </a:lnTo>
                    <a:lnTo>
                      <a:pt x="1452" y="1704"/>
                    </a:lnTo>
                    <a:lnTo>
                      <a:pt x="1458" y="1692"/>
                    </a:lnTo>
                    <a:lnTo>
                      <a:pt x="1464" y="1680"/>
                    </a:lnTo>
                    <a:lnTo>
                      <a:pt x="1476" y="1668"/>
                    </a:lnTo>
                    <a:lnTo>
                      <a:pt x="1476" y="1656"/>
                    </a:lnTo>
                    <a:lnTo>
                      <a:pt x="1482" y="1638"/>
                    </a:lnTo>
                    <a:lnTo>
                      <a:pt x="1482" y="1626"/>
                    </a:lnTo>
                    <a:lnTo>
                      <a:pt x="1482" y="1620"/>
                    </a:lnTo>
                    <a:lnTo>
                      <a:pt x="1482" y="1608"/>
                    </a:lnTo>
                    <a:lnTo>
                      <a:pt x="1476" y="1596"/>
                    </a:lnTo>
                    <a:lnTo>
                      <a:pt x="1476" y="1590"/>
                    </a:lnTo>
                    <a:lnTo>
                      <a:pt x="1470" y="1578"/>
                    </a:lnTo>
                    <a:lnTo>
                      <a:pt x="1464" y="1584"/>
                    </a:lnTo>
                    <a:lnTo>
                      <a:pt x="1464" y="1590"/>
                    </a:lnTo>
                    <a:lnTo>
                      <a:pt x="1458" y="1596"/>
                    </a:lnTo>
                    <a:lnTo>
                      <a:pt x="1458" y="1602"/>
                    </a:lnTo>
                    <a:lnTo>
                      <a:pt x="1446" y="1620"/>
                    </a:lnTo>
                    <a:lnTo>
                      <a:pt x="1428" y="1626"/>
                    </a:lnTo>
                    <a:lnTo>
                      <a:pt x="1410" y="1632"/>
                    </a:lnTo>
                    <a:lnTo>
                      <a:pt x="1392" y="1632"/>
                    </a:lnTo>
                    <a:lnTo>
                      <a:pt x="1374" y="1638"/>
                    </a:lnTo>
                    <a:lnTo>
                      <a:pt x="1356" y="1638"/>
                    </a:lnTo>
                    <a:lnTo>
                      <a:pt x="1362" y="1626"/>
                    </a:lnTo>
                    <a:lnTo>
                      <a:pt x="1368" y="1614"/>
                    </a:lnTo>
                    <a:lnTo>
                      <a:pt x="1380" y="1602"/>
                    </a:lnTo>
                    <a:lnTo>
                      <a:pt x="1386" y="1584"/>
                    </a:lnTo>
                    <a:lnTo>
                      <a:pt x="1386" y="1572"/>
                    </a:lnTo>
                    <a:lnTo>
                      <a:pt x="1386" y="1560"/>
                    </a:lnTo>
                    <a:lnTo>
                      <a:pt x="1374" y="1560"/>
                    </a:lnTo>
                    <a:lnTo>
                      <a:pt x="1368" y="1560"/>
                    </a:lnTo>
                    <a:lnTo>
                      <a:pt x="1362" y="1566"/>
                    </a:lnTo>
                    <a:lnTo>
                      <a:pt x="1356" y="1572"/>
                    </a:lnTo>
                    <a:lnTo>
                      <a:pt x="1350" y="1578"/>
                    </a:lnTo>
                    <a:lnTo>
                      <a:pt x="1344" y="1578"/>
                    </a:lnTo>
                    <a:lnTo>
                      <a:pt x="1338" y="1584"/>
                    </a:lnTo>
                    <a:lnTo>
                      <a:pt x="1332" y="1584"/>
                    </a:lnTo>
                    <a:lnTo>
                      <a:pt x="1320" y="1584"/>
                    </a:lnTo>
                    <a:lnTo>
                      <a:pt x="1314" y="1584"/>
                    </a:lnTo>
                    <a:lnTo>
                      <a:pt x="1308" y="1584"/>
                    </a:lnTo>
                    <a:lnTo>
                      <a:pt x="1302" y="1578"/>
                    </a:lnTo>
                    <a:lnTo>
                      <a:pt x="1308" y="1572"/>
                    </a:lnTo>
                    <a:lnTo>
                      <a:pt x="1320" y="1560"/>
                    </a:lnTo>
                    <a:lnTo>
                      <a:pt x="1326" y="1554"/>
                    </a:lnTo>
                    <a:lnTo>
                      <a:pt x="1332" y="1542"/>
                    </a:lnTo>
                    <a:lnTo>
                      <a:pt x="1338" y="1530"/>
                    </a:lnTo>
                    <a:lnTo>
                      <a:pt x="1338" y="1524"/>
                    </a:lnTo>
                    <a:lnTo>
                      <a:pt x="1326" y="1518"/>
                    </a:lnTo>
                    <a:lnTo>
                      <a:pt x="1314" y="1518"/>
                    </a:lnTo>
                    <a:lnTo>
                      <a:pt x="1302" y="1518"/>
                    </a:lnTo>
                    <a:lnTo>
                      <a:pt x="1290" y="1524"/>
                    </a:lnTo>
                    <a:lnTo>
                      <a:pt x="1272" y="1518"/>
                    </a:lnTo>
                    <a:lnTo>
                      <a:pt x="1260" y="1506"/>
                    </a:lnTo>
                    <a:lnTo>
                      <a:pt x="1272" y="1500"/>
                    </a:lnTo>
                    <a:lnTo>
                      <a:pt x="1278" y="1494"/>
                    </a:lnTo>
                    <a:lnTo>
                      <a:pt x="1284" y="1488"/>
                    </a:lnTo>
                    <a:lnTo>
                      <a:pt x="1290" y="1482"/>
                    </a:lnTo>
                    <a:lnTo>
                      <a:pt x="1296" y="1470"/>
                    </a:lnTo>
                    <a:lnTo>
                      <a:pt x="1302" y="1464"/>
                    </a:lnTo>
                    <a:lnTo>
                      <a:pt x="1296" y="1458"/>
                    </a:lnTo>
                    <a:lnTo>
                      <a:pt x="1284" y="1452"/>
                    </a:lnTo>
                    <a:lnTo>
                      <a:pt x="1272" y="1452"/>
                    </a:lnTo>
                    <a:lnTo>
                      <a:pt x="1266" y="1452"/>
                    </a:lnTo>
                    <a:lnTo>
                      <a:pt x="1254" y="1452"/>
                    </a:lnTo>
                    <a:lnTo>
                      <a:pt x="1242" y="1446"/>
                    </a:lnTo>
                    <a:lnTo>
                      <a:pt x="1248" y="1440"/>
                    </a:lnTo>
                    <a:lnTo>
                      <a:pt x="1254" y="1434"/>
                    </a:lnTo>
                    <a:lnTo>
                      <a:pt x="1260" y="1434"/>
                    </a:lnTo>
                    <a:lnTo>
                      <a:pt x="1266" y="1428"/>
                    </a:lnTo>
                    <a:lnTo>
                      <a:pt x="1266" y="1422"/>
                    </a:lnTo>
                    <a:lnTo>
                      <a:pt x="1266" y="1416"/>
                    </a:lnTo>
                    <a:lnTo>
                      <a:pt x="1260" y="1416"/>
                    </a:lnTo>
                    <a:lnTo>
                      <a:pt x="1248" y="1410"/>
                    </a:lnTo>
                    <a:lnTo>
                      <a:pt x="1242" y="1410"/>
                    </a:lnTo>
                    <a:lnTo>
                      <a:pt x="1236" y="1404"/>
                    </a:lnTo>
                    <a:lnTo>
                      <a:pt x="1236" y="1398"/>
                    </a:lnTo>
                    <a:lnTo>
                      <a:pt x="1230" y="1386"/>
                    </a:lnTo>
                    <a:lnTo>
                      <a:pt x="1224" y="1380"/>
                    </a:lnTo>
                    <a:lnTo>
                      <a:pt x="1224" y="1374"/>
                    </a:lnTo>
                    <a:lnTo>
                      <a:pt x="1218" y="1368"/>
                    </a:lnTo>
                    <a:lnTo>
                      <a:pt x="1224" y="1356"/>
                    </a:lnTo>
                    <a:lnTo>
                      <a:pt x="1230" y="1362"/>
                    </a:lnTo>
                    <a:lnTo>
                      <a:pt x="1236" y="1368"/>
                    </a:lnTo>
                    <a:lnTo>
                      <a:pt x="1242" y="1374"/>
                    </a:lnTo>
                    <a:lnTo>
                      <a:pt x="1248" y="1380"/>
                    </a:lnTo>
                    <a:lnTo>
                      <a:pt x="1260" y="1386"/>
                    </a:lnTo>
                    <a:lnTo>
                      <a:pt x="1266" y="1386"/>
                    </a:lnTo>
                    <a:lnTo>
                      <a:pt x="1290" y="1398"/>
                    </a:lnTo>
                    <a:lnTo>
                      <a:pt x="1314" y="1398"/>
                    </a:lnTo>
                    <a:lnTo>
                      <a:pt x="1338" y="1404"/>
                    </a:lnTo>
                    <a:lnTo>
                      <a:pt x="1362" y="1404"/>
                    </a:lnTo>
                    <a:lnTo>
                      <a:pt x="1386" y="1404"/>
                    </a:lnTo>
                    <a:lnTo>
                      <a:pt x="1410" y="1404"/>
                    </a:lnTo>
                    <a:lnTo>
                      <a:pt x="1428" y="1398"/>
                    </a:lnTo>
                    <a:lnTo>
                      <a:pt x="1452" y="1392"/>
                    </a:lnTo>
                    <a:lnTo>
                      <a:pt x="1470" y="1380"/>
                    </a:lnTo>
                    <a:lnTo>
                      <a:pt x="1488" y="1374"/>
                    </a:lnTo>
                    <a:lnTo>
                      <a:pt x="1506" y="1368"/>
                    </a:lnTo>
                    <a:lnTo>
                      <a:pt x="1524" y="1350"/>
                    </a:lnTo>
                    <a:lnTo>
                      <a:pt x="1560" y="1314"/>
                    </a:lnTo>
                    <a:lnTo>
                      <a:pt x="1590" y="1272"/>
                    </a:lnTo>
                    <a:lnTo>
                      <a:pt x="1608" y="1230"/>
                    </a:lnTo>
                    <a:lnTo>
                      <a:pt x="1620" y="1182"/>
                    </a:lnTo>
                    <a:lnTo>
                      <a:pt x="1632" y="1128"/>
                    </a:lnTo>
                    <a:lnTo>
                      <a:pt x="1644" y="1080"/>
                    </a:lnTo>
                    <a:lnTo>
                      <a:pt x="1650" y="1074"/>
                    </a:lnTo>
                    <a:lnTo>
                      <a:pt x="1656" y="1068"/>
                    </a:lnTo>
                    <a:lnTo>
                      <a:pt x="1662" y="1062"/>
                    </a:lnTo>
                    <a:lnTo>
                      <a:pt x="1668" y="1056"/>
                    </a:lnTo>
                    <a:lnTo>
                      <a:pt x="1674" y="1050"/>
                    </a:lnTo>
                    <a:lnTo>
                      <a:pt x="1680" y="1038"/>
                    </a:lnTo>
                    <a:lnTo>
                      <a:pt x="1662" y="1038"/>
                    </a:lnTo>
                    <a:lnTo>
                      <a:pt x="1650" y="1038"/>
                    </a:lnTo>
                    <a:lnTo>
                      <a:pt x="1632" y="1044"/>
                    </a:lnTo>
                    <a:lnTo>
                      <a:pt x="1620" y="1056"/>
                    </a:lnTo>
                    <a:lnTo>
                      <a:pt x="1608" y="1062"/>
                    </a:lnTo>
                    <a:lnTo>
                      <a:pt x="1596" y="1068"/>
                    </a:lnTo>
                    <a:lnTo>
                      <a:pt x="1590" y="1062"/>
                    </a:lnTo>
                    <a:lnTo>
                      <a:pt x="1590" y="1056"/>
                    </a:lnTo>
                    <a:lnTo>
                      <a:pt x="1584" y="1056"/>
                    </a:lnTo>
                    <a:lnTo>
                      <a:pt x="1584" y="1050"/>
                    </a:lnTo>
                    <a:lnTo>
                      <a:pt x="1596" y="1038"/>
                    </a:lnTo>
                    <a:lnTo>
                      <a:pt x="1608" y="1032"/>
                    </a:lnTo>
                    <a:lnTo>
                      <a:pt x="1620" y="1020"/>
                    </a:lnTo>
                    <a:lnTo>
                      <a:pt x="1632" y="1014"/>
                    </a:lnTo>
                    <a:lnTo>
                      <a:pt x="1644" y="1002"/>
                    </a:lnTo>
                    <a:lnTo>
                      <a:pt x="1656" y="990"/>
                    </a:lnTo>
                    <a:lnTo>
                      <a:pt x="1662" y="972"/>
                    </a:lnTo>
                    <a:lnTo>
                      <a:pt x="1668" y="954"/>
                    </a:lnTo>
                    <a:lnTo>
                      <a:pt x="1674" y="936"/>
                    </a:lnTo>
                    <a:lnTo>
                      <a:pt x="1680" y="918"/>
                    </a:lnTo>
                    <a:lnTo>
                      <a:pt x="1674" y="900"/>
                    </a:lnTo>
                    <a:lnTo>
                      <a:pt x="1674" y="876"/>
                    </a:lnTo>
                    <a:lnTo>
                      <a:pt x="1662" y="870"/>
                    </a:lnTo>
                    <a:lnTo>
                      <a:pt x="1650" y="864"/>
                    </a:lnTo>
                    <a:lnTo>
                      <a:pt x="1638" y="858"/>
                    </a:lnTo>
                    <a:lnTo>
                      <a:pt x="1626" y="858"/>
                    </a:lnTo>
                    <a:lnTo>
                      <a:pt x="1614" y="852"/>
                    </a:lnTo>
                    <a:lnTo>
                      <a:pt x="1602" y="852"/>
                    </a:lnTo>
                    <a:lnTo>
                      <a:pt x="1602" y="858"/>
                    </a:lnTo>
                    <a:lnTo>
                      <a:pt x="1602" y="864"/>
                    </a:lnTo>
                    <a:lnTo>
                      <a:pt x="1608" y="870"/>
                    </a:lnTo>
                    <a:lnTo>
                      <a:pt x="1614" y="876"/>
                    </a:lnTo>
                    <a:lnTo>
                      <a:pt x="1620" y="876"/>
                    </a:lnTo>
                    <a:lnTo>
                      <a:pt x="1626" y="882"/>
                    </a:lnTo>
                    <a:lnTo>
                      <a:pt x="1626" y="894"/>
                    </a:lnTo>
                    <a:lnTo>
                      <a:pt x="1626" y="906"/>
                    </a:lnTo>
                    <a:lnTo>
                      <a:pt x="1626" y="912"/>
                    </a:lnTo>
                    <a:lnTo>
                      <a:pt x="1620" y="924"/>
                    </a:lnTo>
                    <a:lnTo>
                      <a:pt x="1614" y="930"/>
                    </a:lnTo>
                    <a:lnTo>
                      <a:pt x="1608" y="942"/>
                    </a:lnTo>
                    <a:lnTo>
                      <a:pt x="1602" y="948"/>
                    </a:lnTo>
                    <a:lnTo>
                      <a:pt x="1590" y="954"/>
                    </a:lnTo>
                    <a:lnTo>
                      <a:pt x="1578" y="960"/>
                    </a:lnTo>
                    <a:lnTo>
                      <a:pt x="1572" y="972"/>
                    </a:lnTo>
                    <a:lnTo>
                      <a:pt x="1560" y="978"/>
                    </a:lnTo>
                    <a:lnTo>
                      <a:pt x="1548" y="984"/>
                    </a:lnTo>
                    <a:lnTo>
                      <a:pt x="1548" y="966"/>
                    </a:lnTo>
                    <a:lnTo>
                      <a:pt x="1542" y="954"/>
                    </a:lnTo>
                    <a:lnTo>
                      <a:pt x="1536" y="936"/>
                    </a:lnTo>
                    <a:lnTo>
                      <a:pt x="1530" y="924"/>
                    </a:lnTo>
                    <a:lnTo>
                      <a:pt x="1518" y="906"/>
                    </a:lnTo>
                    <a:lnTo>
                      <a:pt x="1506" y="894"/>
                    </a:lnTo>
                    <a:lnTo>
                      <a:pt x="1494" y="864"/>
                    </a:lnTo>
                    <a:lnTo>
                      <a:pt x="1476" y="834"/>
                    </a:lnTo>
                    <a:lnTo>
                      <a:pt x="1458" y="798"/>
                    </a:lnTo>
                    <a:lnTo>
                      <a:pt x="1446" y="768"/>
                    </a:lnTo>
                    <a:lnTo>
                      <a:pt x="1434" y="732"/>
                    </a:lnTo>
                    <a:lnTo>
                      <a:pt x="1434" y="690"/>
                    </a:lnTo>
                    <a:lnTo>
                      <a:pt x="1440" y="678"/>
                    </a:lnTo>
                    <a:lnTo>
                      <a:pt x="1452" y="672"/>
                    </a:lnTo>
                    <a:lnTo>
                      <a:pt x="1464" y="666"/>
                    </a:lnTo>
                    <a:lnTo>
                      <a:pt x="1476" y="666"/>
                    </a:lnTo>
                    <a:lnTo>
                      <a:pt x="1488" y="666"/>
                    </a:lnTo>
                    <a:lnTo>
                      <a:pt x="1500" y="666"/>
                    </a:lnTo>
                    <a:lnTo>
                      <a:pt x="1512" y="672"/>
                    </a:lnTo>
                    <a:lnTo>
                      <a:pt x="1512" y="678"/>
                    </a:lnTo>
                    <a:lnTo>
                      <a:pt x="1518" y="684"/>
                    </a:lnTo>
                    <a:lnTo>
                      <a:pt x="1518" y="690"/>
                    </a:lnTo>
                    <a:lnTo>
                      <a:pt x="1524" y="696"/>
                    </a:lnTo>
                    <a:lnTo>
                      <a:pt x="1530" y="696"/>
                    </a:lnTo>
                    <a:lnTo>
                      <a:pt x="1530" y="654"/>
                    </a:lnTo>
                    <a:lnTo>
                      <a:pt x="1530" y="648"/>
                    </a:lnTo>
                    <a:lnTo>
                      <a:pt x="1524" y="636"/>
                    </a:lnTo>
                    <a:lnTo>
                      <a:pt x="1518" y="630"/>
                    </a:lnTo>
                    <a:lnTo>
                      <a:pt x="1512" y="624"/>
                    </a:lnTo>
                    <a:lnTo>
                      <a:pt x="1506" y="618"/>
                    </a:lnTo>
                    <a:lnTo>
                      <a:pt x="1494" y="612"/>
                    </a:lnTo>
                    <a:lnTo>
                      <a:pt x="1488" y="612"/>
                    </a:lnTo>
                    <a:lnTo>
                      <a:pt x="1482" y="612"/>
                    </a:lnTo>
                    <a:lnTo>
                      <a:pt x="1482" y="606"/>
                    </a:lnTo>
                    <a:lnTo>
                      <a:pt x="1464" y="606"/>
                    </a:lnTo>
                    <a:lnTo>
                      <a:pt x="1446" y="606"/>
                    </a:lnTo>
                    <a:lnTo>
                      <a:pt x="1434" y="612"/>
                    </a:lnTo>
                    <a:lnTo>
                      <a:pt x="1422" y="618"/>
                    </a:lnTo>
                    <a:lnTo>
                      <a:pt x="1404" y="630"/>
                    </a:lnTo>
                    <a:lnTo>
                      <a:pt x="1392" y="642"/>
                    </a:lnTo>
                    <a:lnTo>
                      <a:pt x="1386" y="612"/>
                    </a:lnTo>
                    <a:lnTo>
                      <a:pt x="1380" y="588"/>
                    </a:lnTo>
                    <a:lnTo>
                      <a:pt x="1380" y="558"/>
                    </a:lnTo>
                    <a:lnTo>
                      <a:pt x="1380" y="528"/>
                    </a:lnTo>
                    <a:lnTo>
                      <a:pt x="1386" y="498"/>
                    </a:lnTo>
                    <a:lnTo>
                      <a:pt x="1392" y="474"/>
                    </a:lnTo>
                    <a:lnTo>
                      <a:pt x="1404" y="444"/>
                    </a:lnTo>
                    <a:lnTo>
                      <a:pt x="1422" y="420"/>
                    </a:lnTo>
                    <a:lnTo>
                      <a:pt x="1440" y="390"/>
                    </a:lnTo>
                    <a:lnTo>
                      <a:pt x="1464" y="366"/>
                    </a:lnTo>
                    <a:lnTo>
                      <a:pt x="1488" y="348"/>
                    </a:lnTo>
                    <a:lnTo>
                      <a:pt x="1518" y="330"/>
                    </a:lnTo>
                    <a:lnTo>
                      <a:pt x="1536" y="330"/>
                    </a:lnTo>
                    <a:lnTo>
                      <a:pt x="1548" y="336"/>
                    </a:lnTo>
                    <a:lnTo>
                      <a:pt x="1566" y="342"/>
                    </a:lnTo>
                    <a:lnTo>
                      <a:pt x="1578" y="354"/>
                    </a:lnTo>
                    <a:lnTo>
                      <a:pt x="1590" y="366"/>
                    </a:lnTo>
                    <a:lnTo>
                      <a:pt x="1596" y="378"/>
                    </a:lnTo>
                    <a:lnTo>
                      <a:pt x="1602" y="396"/>
                    </a:lnTo>
                    <a:lnTo>
                      <a:pt x="1602" y="408"/>
                    </a:lnTo>
                    <a:lnTo>
                      <a:pt x="1602" y="420"/>
                    </a:lnTo>
                    <a:lnTo>
                      <a:pt x="1596" y="438"/>
                    </a:lnTo>
                    <a:lnTo>
                      <a:pt x="1590" y="450"/>
                    </a:lnTo>
                    <a:lnTo>
                      <a:pt x="1584" y="462"/>
                    </a:lnTo>
                    <a:lnTo>
                      <a:pt x="1578" y="468"/>
                    </a:lnTo>
                    <a:lnTo>
                      <a:pt x="1572" y="468"/>
                    </a:lnTo>
                    <a:lnTo>
                      <a:pt x="1566" y="468"/>
                    </a:lnTo>
                    <a:lnTo>
                      <a:pt x="1554" y="468"/>
                    </a:lnTo>
                    <a:lnTo>
                      <a:pt x="1548" y="468"/>
                    </a:lnTo>
                    <a:lnTo>
                      <a:pt x="1542" y="474"/>
                    </a:lnTo>
                    <a:lnTo>
                      <a:pt x="1530" y="468"/>
                    </a:lnTo>
                    <a:lnTo>
                      <a:pt x="1524" y="462"/>
                    </a:lnTo>
                    <a:lnTo>
                      <a:pt x="1524" y="450"/>
                    </a:lnTo>
                    <a:lnTo>
                      <a:pt x="1518" y="444"/>
                    </a:lnTo>
                    <a:lnTo>
                      <a:pt x="1518" y="432"/>
                    </a:lnTo>
                    <a:lnTo>
                      <a:pt x="1518" y="426"/>
                    </a:lnTo>
                    <a:lnTo>
                      <a:pt x="1506" y="426"/>
                    </a:lnTo>
                    <a:lnTo>
                      <a:pt x="1500" y="426"/>
                    </a:lnTo>
                    <a:lnTo>
                      <a:pt x="1500" y="432"/>
                    </a:lnTo>
                    <a:lnTo>
                      <a:pt x="1500" y="438"/>
                    </a:lnTo>
                    <a:lnTo>
                      <a:pt x="1494" y="444"/>
                    </a:lnTo>
                    <a:lnTo>
                      <a:pt x="1488" y="450"/>
                    </a:lnTo>
                    <a:lnTo>
                      <a:pt x="1488" y="462"/>
                    </a:lnTo>
                    <a:lnTo>
                      <a:pt x="1488" y="474"/>
                    </a:lnTo>
                    <a:lnTo>
                      <a:pt x="1494" y="480"/>
                    </a:lnTo>
                    <a:lnTo>
                      <a:pt x="1500" y="486"/>
                    </a:lnTo>
                    <a:lnTo>
                      <a:pt x="1506" y="498"/>
                    </a:lnTo>
                    <a:lnTo>
                      <a:pt x="1506" y="504"/>
                    </a:lnTo>
                    <a:lnTo>
                      <a:pt x="1512" y="510"/>
                    </a:lnTo>
                    <a:lnTo>
                      <a:pt x="1524" y="516"/>
                    </a:lnTo>
                    <a:lnTo>
                      <a:pt x="1530" y="516"/>
                    </a:lnTo>
                    <a:lnTo>
                      <a:pt x="1536" y="516"/>
                    </a:lnTo>
                    <a:lnTo>
                      <a:pt x="1542" y="516"/>
                    </a:lnTo>
                    <a:lnTo>
                      <a:pt x="1548" y="516"/>
                    </a:lnTo>
                    <a:lnTo>
                      <a:pt x="1548" y="522"/>
                    </a:lnTo>
                    <a:lnTo>
                      <a:pt x="1548" y="528"/>
                    </a:lnTo>
                    <a:lnTo>
                      <a:pt x="1548" y="534"/>
                    </a:lnTo>
                    <a:lnTo>
                      <a:pt x="1542" y="534"/>
                    </a:lnTo>
                    <a:lnTo>
                      <a:pt x="1542" y="540"/>
                    </a:lnTo>
                    <a:lnTo>
                      <a:pt x="1542" y="552"/>
                    </a:lnTo>
                    <a:lnTo>
                      <a:pt x="1542" y="558"/>
                    </a:lnTo>
                    <a:lnTo>
                      <a:pt x="1548" y="570"/>
                    </a:lnTo>
                    <a:lnTo>
                      <a:pt x="1548" y="576"/>
                    </a:lnTo>
                    <a:lnTo>
                      <a:pt x="1554" y="582"/>
                    </a:lnTo>
                    <a:lnTo>
                      <a:pt x="1566" y="588"/>
                    </a:lnTo>
                    <a:lnTo>
                      <a:pt x="1566" y="594"/>
                    </a:lnTo>
                    <a:lnTo>
                      <a:pt x="1572" y="594"/>
                    </a:lnTo>
                    <a:lnTo>
                      <a:pt x="1578" y="594"/>
                    </a:lnTo>
                    <a:lnTo>
                      <a:pt x="1584" y="594"/>
                    </a:lnTo>
                    <a:lnTo>
                      <a:pt x="1590" y="594"/>
                    </a:lnTo>
                    <a:lnTo>
                      <a:pt x="1590" y="588"/>
                    </a:lnTo>
                    <a:lnTo>
                      <a:pt x="1590" y="582"/>
                    </a:lnTo>
                    <a:lnTo>
                      <a:pt x="1584" y="576"/>
                    </a:lnTo>
                    <a:lnTo>
                      <a:pt x="1584" y="570"/>
                    </a:lnTo>
                    <a:lnTo>
                      <a:pt x="1578" y="570"/>
                    </a:lnTo>
                    <a:lnTo>
                      <a:pt x="1578" y="564"/>
                    </a:lnTo>
                    <a:lnTo>
                      <a:pt x="1590" y="540"/>
                    </a:lnTo>
                    <a:lnTo>
                      <a:pt x="1608" y="522"/>
                    </a:lnTo>
                    <a:lnTo>
                      <a:pt x="1626" y="510"/>
                    </a:lnTo>
                    <a:lnTo>
                      <a:pt x="1650" y="492"/>
                    </a:lnTo>
                    <a:lnTo>
                      <a:pt x="1668" y="474"/>
                    </a:lnTo>
                    <a:lnTo>
                      <a:pt x="1686" y="456"/>
                    </a:lnTo>
                    <a:lnTo>
                      <a:pt x="1692" y="432"/>
                    </a:lnTo>
                    <a:lnTo>
                      <a:pt x="1704" y="414"/>
                    </a:lnTo>
                    <a:lnTo>
                      <a:pt x="1710" y="390"/>
                    </a:lnTo>
                    <a:lnTo>
                      <a:pt x="1710" y="366"/>
                    </a:lnTo>
                    <a:lnTo>
                      <a:pt x="1710" y="342"/>
                    </a:lnTo>
                    <a:lnTo>
                      <a:pt x="1698" y="318"/>
                    </a:lnTo>
                    <a:lnTo>
                      <a:pt x="1686" y="300"/>
                    </a:lnTo>
                    <a:lnTo>
                      <a:pt x="1662" y="282"/>
                    </a:lnTo>
                    <a:lnTo>
                      <a:pt x="1638" y="270"/>
                    </a:lnTo>
                    <a:lnTo>
                      <a:pt x="1614" y="264"/>
                    </a:lnTo>
                    <a:lnTo>
                      <a:pt x="1590" y="258"/>
                    </a:lnTo>
                    <a:lnTo>
                      <a:pt x="1560" y="258"/>
                    </a:lnTo>
                    <a:lnTo>
                      <a:pt x="1572" y="252"/>
                    </a:lnTo>
                    <a:lnTo>
                      <a:pt x="1584" y="246"/>
                    </a:lnTo>
                    <a:lnTo>
                      <a:pt x="1596" y="246"/>
                    </a:lnTo>
                    <a:lnTo>
                      <a:pt x="1608" y="246"/>
                    </a:lnTo>
                    <a:lnTo>
                      <a:pt x="1620" y="246"/>
                    </a:lnTo>
                    <a:lnTo>
                      <a:pt x="1632" y="252"/>
                    </a:lnTo>
                    <a:lnTo>
                      <a:pt x="1650" y="246"/>
                    </a:lnTo>
                    <a:lnTo>
                      <a:pt x="1668" y="246"/>
                    </a:lnTo>
                    <a:lnTo>
                      <a:pt x="1686" y="234"/>
                    </a:lnTo>
                    <a:lnTo>
                      <a:pt x="1698" y="228"/>
                    </a:lnTo>
                    <a:lnTo>
                      <a:pt x="1716" y="216"/>
                    </a:lnTo>
                    <a:lnTo>
                      <a:pt x="1722" y="198"/>
                    </a:lnTo>
                    <a:lnTo>
                      <a:pt x="1728" y="198"/>
                    </a:lnTo>
                    <a:lnTo>
                      <a:pt x="1740" y="174"/>
                    </a:lnTo>
                    <a:lnTo>
                      <a:pt x="1746" y="156"/>
                    </a:lnTo>
                    <a:lnTo>
                      <a:pt x="1746" y="132"/>
                    </a:lnTo>
                    <a:lnTo>
                      <a:pt x="1740" y="114"/>
                    </a:lnTo>
                    <a:lnTo>
                      <a:pt x="1734" y="96"/>
                    </a:lnTo>
                    <a:lnTo>
                      <a:pt x="1728" y="78"/>
                    </a:lnTo>
                    <a:lnTo>
                      <a:pt x="1716" y="60"/>
                    </a:lnTo>
                    <a:lnTo>
                      <a:pt x="1698" y="48"/>
                    </a:lnTo>
                    <a:lnTo>
                      <a:pt x="1686" y="42"/>
                    </a:lnTo>
                    <a:lnTo>
                      <a:pt x="1668" y="36"/>
                    </a:lnTo>
                    <a:lnTo>
                      <a:pt x="1650" y="30"/>
                    </a:lnTo>
                    <a:lnTo>
                      <a:pt x="1632" y="30"/>
                    </a:lnTo>
                    <a:lnTo>
                      <a:pt x="1620" y="30"/>
                    </a:lnTo>
                    <a:lnTo>
                      <a:pt x="1608" y="36"/>
                    </a:lnTo>
                    <a:lnTo>
                      <a:pt x="1602" y="36"/>
                    </a:lnTo>
                    <a:lnTo>
                      <a:pt x="1596" y="42"/>
                    </a:lnTo>
                    <a:lnTo>
                      <a:pt x="1590" y="48"/>
                    </a:lnTo>
                    <a:lnTo>
                      <a:pt x="1584" y="54"/>
                    </a:lnTo>
                    <a:lnTo>
                      <a:pt x="1578" y="60"/>
                    </a:lnTo>
                    <a:lnTo>
                      <a:pt x="1578" y="66"/>
                    </a:lnTo>
                    <a:lnTo>
                      <a:pt x="1578" y="78"/>
                    </a:lnTo>
                    <a:lnTo>
                      <a:pt x="1578" y="84"/>
                    </a:lnTo>
                    <a:lnTo>
                      <a:pt x="1578" y="90"/>
                    </a:lnTo>
                    <a:lnTo>
                      <a:pt x="1584" y="96"/>
                    </a:lnTo>
                    <a:lnTo>
                      <a:pt x="1590" y="102"/>
                    </a:lnTo>
                    <a:lnTo>
                      <a:pt x="1614" y="84"/>
                    </a:lnTo>
                    <a:lnTo>
                      <a:pt x="1620" y="78"/>
                    </a:lnTo>
                    <a:lnTo>
                      <a:pt x="1626" y="78"/>
                    </a:lnTo>
                    <a:lnTo>
                      <a:pt x="1632" y="78"/>
                    </a:lnTo>
                    <a:lnTo>
                      <a:pt x="1638" y="78"/>
                    </a:lnTo>
                    <a:lnTo>
                      <a:pt x="1644" y="84"/>
                    </a:lnTo>
                    <a:lnTo>
                      <a:pt x="1644" y="90"/>
                    </a:lnTo>
                    <a:lnTo>
                      <a:pt x="1650" y="102"/>
                    </a:lnTo>
                    <a:lnTo>
                      <a:pt x="1650" y="108"/>
                    </a:lnTo>
                    <a:lnTo>
                      <a:pt x="1644" y="120"/>
                    </a:lnTo>
                    <a:lnTo>
                      <a:pt x="1644" y="132"/>
                    </a:lnTo>
                    <a:lnTo>
                      <a:pt x="1638" y="138"/>
                    </a:lnTo>
                    <a:lnTo>
                      <a:pt x="1638" y="150"/>
                    </a:lnTo>
                    <a:lnTo>
                      <a:pt x="1620" y="168"/>
                    </a:lnTo>
                    <a:lnTo>
                      <a:pt x="1596" y="174"/>
                    </a:lnTo>
                    <a:lnTo>
                      <a:pt x="1572" y="174"/>
                    </a:lnTo>
                    <a:lnTo>
                      <a:pt x="1548" y="168"/>
                    </a:lnTo>
                    <a:lnTo>
                      <a:pt x="1524" y="168"/>
                    </a:lnTo>
                    <a:lnTo>
                      <a:pt x="1506" y="174"/>
                    </a:lnTo>
                    <a:lnTo>
                      <a:pt x="1506" y="168"/>
                    </a:lnTo>
                    <a:lnTo>
                      <a:pt x="1506" y="162"/>
                    </a:lnTo>
                    <a:lnTo>
                      <a:pt x="1506" y="156"/>
                    </a:lnTo>
                    <a:lnTo>
                      <a:pt x="1500" y="156"/>
                    </a:lnTo>
                    <a:lnTo>
                      <a:pt x="1500" y="150"/>
                    </a:lnTo>
                    <a:lnTo>
                      <a:pt x="1500" y="144"/>
                    </a:lnTo>
                    <a:lnTo>
                      <a:pt x="1500" y="132"/>
                    </a:lnTo>
                    <a:lnTo>
                      <a:pt x="1494" y="132"/>
                    </a:lnTo>
                    <a:lnTo>
                      <a:pt x="1494" y="126"/>
                    </a:lnTo>
                    <a:lnTo>
                      <a:pt x="1488" y="120"/>
                    </a:lnTo>
                    <a:lnTo>
                      <a:pt x="1482" y="108"/>
                    </a:lnTo>
                    <a:lnTo>
                      <a:pt x="1464" y="96"/>
                    </a:lnTo>
                    <a:lnTo>
                      <a:pt x="1440" y="84"/>
                    </a:lnTo>
                    <a:lnTo>
                      <a:pt x="1422" y="84"/>
                    </a:lnTo>
                    <a:lnTo>
                      <a:pt x="1398" y="84"/>
                    </a:lnTo>
                    <a:lnTo>
                      <a:pt x="1374" y="84"/>
                    </a:lnTo>
                    <a:lnTo>
                      <a:pt x="1356" y="90"/>
                    </a:lnTo>
                    <a:lnTo>
                      <a:pt x="1344" y="102"/>
                    </a:lnTo>
                    <a:lnTo>
                      <a:pt x="1332" y="108"/>
                    </a:lnTo>
                    <a:lnTo>
                      <a:pt x="1320" y="120"/>
                    </a:lnTo>
                    <a:lnTo>
                      <a:pt x="1314" y="132"/>
                    </a:lnTo>
                    <a:lnTo>
                      <a:pt x="1308" y="144"/>
                    </a:lnTo>
                    <a:lnTo>
                      <a:pt x="1302" y="156"/>
                    </a:lnTo>
                    <a:lnTo>
                      <a:pt x="1308" y="168"/>
                    </a:lnTo>
                    <a:lnTo>
                      <a:pt x="1308" y="174"/>
                    </a:lnTo>
                    <a:lnTo>
                      <a:pt x="1308" y="180"/>
                    </a:lnTo>
                    <a:lnTo>
                      <a:pt x="1314" y="186"/>
                    </a:lnTo>
                    <a:lnTo>
                      <a:pt x="1314" y="192"/>
                    </a:lnTo>
                    <a:lnTo>
                      <a:pt x="1320" y="198"/>
                    </a:lnTo>
                    <a:lnTo>
                      <a:pt x="1332" y="204"/>
                    </a:lnTo>
                    <a:lnTo>
                      <a:pt x="1338" y="204"/>
                    </a:lnTo>
                    <a:lnTo>
                      <a:pt x="1344" y="210"/>
                    </a:lnTo>
                    <a:lnTo>
                      <a:pt x="1350" y="210"/>
                    </a:lnTo>
                    <a:lnTo>
                      <a:pt x="1356" y="210"/>
                    </a:lnTo>
                    <a:lnTo>
                      <a:pt x="1362" y="210"/>
                    </a:lnTo>
                    <a:lnTo>
                      <a:pt x="1362" y="204"/>
                    </a:lnTo>
                    <a:lnTo>
                      <a:pt x="1362" y="198"/>
                    </a:lnTo>
                    <a:lnTo>
                      <a:pt x="1356" y="198"/>
                    </a:lnTo>
                    <a:lnTo>
                      <a:pt x="1356" y="192"/>
                    </a:lnTo>
                    <a:lnTo>
                      <a:pt x="1356" y="186"/>
                    </a:lnTo>
                    <a:lnTo>
                      <a:pt x="1356" y="180"/>
                    </a:lnTo>
                    <a:lnTo>
                      <a:pt x="1356" y="174"/>
                    </a:lnTo>
                    <a:lnTo>
                      <a:pt x="1362" y="174"/>
                    </a:lnTo>
                    <a:lnTo>
                      <a:pt x="1368" y="168"/>
                    </a:lnTo>
                    <a:lnTo>
                      <a:pt x="1374" y="162"/>
                    </a:lnTo>
                    <a:lnTo>
                      <a:pt x="1380" y="162"/>
                    </a:lnTo>
                    <a:lnTo>
                      <a:pt x="1386" y="168"/>
                    </a:lnTo>
                    <a:lnTo>
                      <a:pt x="1398" y="168"/>
                    </a:lnTo>
                    <a:lnTo>
                      <a:pt x="1404" y="174"/>
                    </a:lnTo>
                    <a:lnTo>
                      <a:pt x="1404" y="186"/>
                    </a:lnTo>
                    <a:lnTo>
                      <a:pt x="1404" y="192"/>
                    </a:lnTo>
                    <a:lnTo>
                      <a:pt x="1410" y="198"/>
                    </a:lnTo>
                    <a:lnTo>
                      <a:pt x="1410" y="204"/>
                    </a:lnTo>
                    <a:lnTo>
                      <a:pt x="1410" y="210"/>
                    </a:lnTo>
                    <a:lnTo>
                      <a:pt x="1410" y="222"/>
                    </a:lnTo>
                    <a:lnTo>
                      <a:pt x="1392" y="258"/>
                    </a:lnTo>
                    <a:lnTo>
                      <a:pt x="1368" y="300"/>
                    </a:lnTo>
                    <a:lnTo>
                      <a:pt x="1350" y="342"/>
                    </a:lnTo>
                    <a:lnTo>
                      <a:pt x="1338" y="384"/>
                    </a:lnTo>
                    <a:lnTo>
                      <a:pt x="1326" y="426"/>
                    </a:lnTo>
                    <a:lnTo>
                      <a:pt x="1314" y="468"/>
                    </a:lnTo>
                    <a:lnTo>
                      <a:pt x="1302" y="534"/>
                    </a:lnTo>
                    <a:lnTo>
                      <a:pt x="1302" y="600"/>
                    </a:lnTo>
                    <a:lnTo>
                      <a:pt x="1314" y="666"/>
                    </a:lnTo>
                    <a:lnTo>
                      <a:pt x="1326" y="732"/>
                    </a:lnTo>
                    <a:lnTo>
                      <a:pt x="1344" y="792"/>
                    </a:lnTo>
                    <a:lnTo>
                      <a:pt x="1356" y="852"/>
                    </a:lnTo>
                    <a:lnTo>
                      <a:pt x="1362" y="870"/>
                    </a:lnTo>
                    <a:lnTo>
                      <a:pt x="1374" y="888"/>
                    </a:lnTo>
                    <a:lnTo>
                      <a:pt x="1386" y="906"/>
                    </a:lnTo>
                    <a:lnTo>
                      <a:pt x="1398" y="924"/>
                    </a:lnTo>
                    <a:lnTo>
                      <a:pt x="1416" y="942"/>
                    </a:lnTo>
                    <a:lnTo>
                      <a:pt x="1422" y="966"/>
                    </a:lnTo>
                    <a:lnTo>
                      <a:pt x="1410" y="966"/>
                    </a:lnTo>
                    <a:lnTo>
                      <a:pt x="1392" y="966"/>
                    </a:lnTo>
                    <a:lnTo>
                      <a:pt x="1380" y="966"/>
                    </a:lnTo>
                    <a:lnTo>
                      <a:pt x="1368" y="966"/>
                    </a:lnTo>
                    <a:lnTo>
                      <a:pt x="1350" y="966"/>
                    </a:lnTo>
                    <a:lnTo>
                      <a:pt x="1338" y="966"/>
                    </a:lnTo>
                    <a:lnTo>
                      <a:pt x="1326" y="960"/>
                    </a:lnTo>
                    <a:lnTo>
                      <a:pt x="1314" y="948"/>
                    </a:lnTo>
                    <a:lnTo>
                      <a:pt x="1308" y="942"/>
                    </a:lnTo>
                    <a:lnTo>
                      <a:pt x="1308" y="930"/>
                    </a:lnTo>
                    <a:lnTo>
                      <a:pt x="1302" y="918"/>
                    </a:lnTo>
                    <a:lnTo>
                      <a:pt x="1302" y="906"/>
                    </a:lnTo>
                    <a:lnTo>
                      <a:pt x="1302" y="900"/>
                    </a:lnTo>
                    <a:lnTo>
                      <a:pt x="1308" y="894"/>
                    </a:lnTo>
                    <a:lnTo>
                      <a:pt x="1314" y="888"/>
                    </a:lnTo>
                    <a:lnTo>
                      <a:pt x="1320" y="882"/>
                    </a:lnTo>
                    <a:lnTo>
                      <a:pt x="1326" y="882"/>
                    </a:lnTo>
                    <a:lnTo>
                      <a:pt x="1332" y="876"/>
                    </a:lnTo>
                    <a:lnTo>
                      <a:pt x="1326" y="870"/>
                    </a:lnTo>
                    <a:lnTo>
                      <a:pt x="1314" y="870"/>
                    </a:lnTo>
                    <a:lnTo>
                      <a:pt x="1302" y="870"/>
                    </a:lnTo>
                    <a:lnTo>
                      <a:pt x="1290" y="870"/>
                    </a:lnTo>
                    <a:lnTo>
                      <a:pt x="1278" y="870"/>
                    </a:lnTo>
                    <a:lnTo>
                      <a:pt x="1266" y="876"/>
                    </a:lnTo>
                    <a:lnTo>
                      <a:pt x="1254" y="882"/>
                    </a:lnTo>
                    <a:lnTo>
                      <a:pt x="1254" y="894"/>
                    </a:lnTo>
                    <a:lnTo>
                      <a:pt x="1248" y="906"/>
                    </a:lnTo>
                    <a:lnTo>
                      <a:pt x="1242" y="924"/>
                    </a:lnTo>
                    <a:lnTo>
                      <a:pt x="1242" y="936"/>
                    </a:lnTo>
                    <a:lnTo>
                      <a:pt x="1242" y="954"/>
                    </a:lnTo>
                    <a:lnTo>
                      <a:pt x="1248" y="966"/>
                    </a:lnTo>
                    <a:lnTo>
                      <a:pt x="1248" y="978"/>
                    </a:lnTo>
                    <a:lnTo>
                      <a:pt x="1254" y="990"/>
                    </a:lnTo>
                    <a:lnTo>
                      <a:pt x="1266" y="996"/>
                    </a:lnTo>
                    <a:lnTo>
                      <a:pt x="1272" y="1008"/>
                    </a:lnTo>
                    <a:lnTo>
                      <a:pt x="1284" y="1014"/>
                    </a:lnTo>
                    <a:lnTo>
                      <a:pt x="1296" y="1014"/>
                    </a:lnTo>
                    <a:lnTo>
                      <a:pt x="1284" y="1020"/>
                    </a:lnTo>
                    <a:lnTo>
                      <a:pt x="1272" y="1020"/>
                    </a:lnTo>
                    <a:lnTo>
                      <a:pt x="1260" y="1020"/>
                    </a:lnTo>
                    <a:lnTo>
                      <a:pt x="1248" y="1026"/>
                    </a:lnTo>
                    <a:lnTo>
                      <a:pt x="1236" y="1026"/>
                    </a:lnTo>
                    <a:lnTo>
                      <a:pt x="1230" y="1026"/>
                    </a:lnTo>
                    <a:lnTo>
                      <a:pt x="1224" y="1032"/>
                    </a:lnTo>
                    <a:lnTo>
                      <a:pt x="1236" y="1044"/>
                    </a:lnTo>
                    <a:lnTo>
                      <a:pt x="1242" y="1050"/>
                    </a:lnTo>
                    <a:lnTo>
                      <a:pt x="1254" y="1056"/>
                    </a:lnTo>
                    <a:lnTo>
                      <a:pt x="1266" y="1062"/>
                    </a:lnTo>
                    <a:lnTo>
                      <a:pt x="1278" y="1068"/>
                    </a:lnTo>
                    <a:lnTo>
                      <a:pt x="1290" y="1068"/>
                    </a:lnTo>
                    <a:lnTo>
                      <a:pt x="1284" y="1074"/>
                    </a:lnTo>
                    <a:lnTo>
                      <a:pt x="1278" y="1080"/>
                    </a:lnTo>
                    <a:lnTo>
                      <a:pt x="1278" y="1086"/>
                    </a:lnTo>
                    <a:lnTo>
                      <a:pt x="1278" y="1092"/>
                    </a:lnTo>
                    <a:lnTo>
                      <a:pt x="1278" y="1098"/>
                    </a:lnTo>
                    <a:lnTo>
                      <a:pt x="1272" y="1104"/>
                    </a:lnTo>
                    <a:lnTo>
                      <a:pt x="1272" y="1122"/>
                    </a:lnTo>
                    <a:lnTo>
                      <a:pt x="1278" y="1140"/>
                    </a:lnTo>
                    <a:lnTo>
                      <a:pt x="1290" y="1152"/>
                    </a:lnTo>
                    <a:lnTo>
                      <a:pt x="1302" y="1164"/>
                    </a:lnTo>
                    <a:lnTo>
                      <a:pt x="1314" y="1176"/>
                    </a:lnTo>
                    <a:lnTo>
                      <a:pt x="1326" y="1182"/>
                    </a:lnTo>
                    <a:lnTo>
                      <a:pt x="1332" y="1188"/>
                    </a:lnTo>
                    <a:lnTo>
                      <a:pt x="1338" y="1188"/>
                    </a:lnTo>
                    <a:lnTo>
                      <a:pt x="1344" y="1188"/>
                    </a:lnTo>
                    <a:lnTo>
                      <a:pt x="1350" y="1188"/>
                    </a:lnTo>
                    <a:lnTo>
                      <a:pt x="1350" y="1194"/>
                    </a:lnTo>
                    <a:lnTo>
                      <a:pt x="1356" y="1194"/>
                    </a:lnTo>
                    <a:lnTo>
                      <a:pt x="1368" y="1194"/>
                    </a:lnTo>
                    <a:lnTo>
                      <a:pt x="1380" y="1188"/>
                    </a:lnTo>
                    <a:lnTo>
                      <a:pt x="1392" y="1182"/>
                    </a:lnTo>
                    <a:lnTo>
                      <a:pt x="1404" y="1176"/>
                    </a:lnTo>
                    <a:lnTo>
                      <a:pt x="1416" y="1164"/>
                    </a:lnTo>
                    <a:lnTo>
                      <a:pt x="1422" y="1152"/>
                    </a:lnTo>
                    <a:lnTo>
                      <a:pt x="1422" y="1146"/>
                    </a:lnTo>
                    <a:lnTo>
                      <a:pt x="1422" y="1140"/>
                    </a:lnTo>
                    <a:lnTo>
                      <a:pt x="1416" y="1134"/>
                    </a:lnTo>
                    <a:lnTo>
                      <a:pt x="1410" y="1134"/>
                    </a:lnTo>
                    <a:lnTo>
                      <a:pt x="1398" y="1140"/>
                    </a:lnTo>
                    <a:lnTo>
                      <a:pt x="1386" y="1140"/>
                    </a:lnTo>
                    <a:lnTo>
                      <a:pt x="1374" y="1146"/>
                    </a:lnTo>
                    <a:lnTo>
                      <a:pt x="1368" y="1146"/>
                    </a:lnTo>
                    <a:lnTo>
                      <a:pt x="1356" y="1140"/>
                    </a:lnTo>
                    <a:lnTo>
                      <a:pt x="1344" y="1140"/>
                    </a:lnTo>
                    <a:lnTo>
                      <a:pt x="1338" y="1128"/>
                    </a:lnTo>
                    <a:lnTo>
                      <a:pt x="1338" y="1122"/>
                    </a:lnTo>
                    <a:lnTo>
                      <a:pt x="1332" y="1116"/>
                    </a:lnTo>
                    <a:lnTo>
                      <a:pt x="1332" y="1110"/>
                    </a:lnTo>
                    <a:lnTo>
                      <a:pt x="1332" y="1104"/>
                    </a:lnTo>
                    <a:lnTo>
                      <a:pt x="1338" y="1098"/>
                    </a:lnTo>
                    <a:lnTo>
                      <a:pt x="1344" y="1086"/>
                    </a:lnTo>
                    <a:lnTo>
                      <a:pt x="1350" y="1080"/>
                    </a:lnTo>
                    <a:lnTo>
                      <a:pt x="1356" y="1074"/>
                    </a:lnTo>
                    <a:lnTo>
                      <a:pt x="1368" y="1068"/>
                    </a:lnTo>
                    <a:lnTo>
                      <a:pt x="1374" y="1062"/>
                    </a:lnTo>
                    <a:lnTo>
                      <a:pt x="1386" y="1056"/>
                    </a:lnTo>
                    <a:lnTo>
                      <a:pt x="1398" y="1056"/>
                    </a:lnTo>
                    <a:lnTo>
                      <a:pt x="1410" y="1056"/>
                    </a:lnTo>
                    <a:lnTo>
                      <a:pt x="1416" y="1062"/>
                    </a:lnTo>
                    <a:lnTo>
                      <a:pt x="1428" y="1068"/>
                    </a:lnTo>
                    <a:lnTo>
                      <a:pt x="1440" y="1068"/>
                    </a:lnTo>
                    <a:lnTo>
                      <a:pt x="1446" y="1074"/>
                    </a:lnTo>
                    <a:lnTo>
                      <a:pt x="1470" y="1092"/>
                    </a:lnTo>
                    <a:lnTo>
                      <a:pt x="1482" y="1110"/>
                    </a:lnTo>
                    <a:lnTo>
                      <a:pt x="1500" y="1134"/>
                    </a:lnTo>
                    <a:lnTo>
                      <a:pt x="1506" y="1158"/>
                    </a:lnTo>
                    <a:lnTo>
                      <a:pt x="1512" y="1182"/>
                    </a:lnTo>
                    <a:lnTo>
                      <a:pt x="1518" y="1206"/>
                    </a:lnTo>
                    <a:lnTo>
                      <a:pt x="1518" y="1218"/>
                    </a:lnTo>
                    <a:lnTo>
                      <a:pt x="1512" y="1230"/>
                    </a:lnTo>
                    <a:lnTo>
                      <a:pt x="1506" y="1236"/>
                    </a:lnTo>
                    <a:lnTo>
                      <a:pt x="1500" y="1248"/>
                    </a:lnTo>
                    <a:lnTo>
                      <a:pt x="1488" y="1254"/>
                    </a:lnTo>
                    <a:lnTo>
                      <a:pt x="1482" y="1266"/>
                    </a:lnTo>
                    <a:lnTo>
                      <a:pt x="1458" y="1290"/>
                    </a:lnTo>
                    <a:lnTo>
                      <a:pt x="1434" y="1302"/>
                    </a:lnTo>
                    <a:lnTo>
                      <a:pt x="1404" y="1308"/>
                    </a:lnTo>
                    <a:lnTo>
                      <a:pt x="1374" y="1314"/>
                    </a:lnTo>
                    <a:lnTo>
                      <a:pt x="1338" y="1314"/>
                    </a:lnTo>
                    <a:lnTo>
                      <a:pt x="1308" y="1308"/>
                    </a:lnTo>
                    <a:lnTo>
                      <a:pt x="1266" y="1302"/>
                    </a:lnTo>
                    <a:lnTo>
                      <a:pt x="1224" y="1278"/>
                    </a:lnTo>
                    <a:lnTo>
                      <a:pt x="1182" y="1248"/>
                    </a:lnTo>
                    <a:lnTo>
                      <a:pt x="1152" y="1212"/>
                    </a:lnTo>
                    <a:lnTo>
                      <a:pt x="1122" y="1170"/>
                    </a:lnTo>
                    <a:lnTo>
                      <a:pt x="1092" y="1134"/>
                    </a:lnTo>
                    <a:lnTo>
                      <a:pt x="1086" y="1104"/>
                    </a:lnTo>
                    <a:lnTo>
                      <a:pt x="1074" y="1080"/>
                    </a:lnTo>
                    <a:lnTo>
                      <a:pt x="1062" y="1056"/>
                    </a:lnTo>
                    <a:lnTo>
                      <a:pt x="1056" y="1026"/>
                    </a:lnTo>
                    <a:lnTo>
                      <a:pt x="1050" y="1002"/>
                    </a:lnTo>
                    <a:lnTo>
                      <a:pt x="1044" y="972"/>
                    </a:lnTo>
                    <a:lnTo>
                      <a:pt x="1044" y="966"/>
                    </a:lnTo>
                    <a:lnTo>
                      <a:pt x="1050" y="966"/>
                    </a:lnTo>
                    <a:lnTo>
                      <a:pt x="1062" y="966"/>
                    </a:lnTo>
                    <a:lnTo>
                      <a:pt x="1068" y="966"/>
                    </a:lnTo>
                    <a:lnTo>
                      <a:pt x="1080" y="966"/>
                    </a:lnTo>
                    <a:lnTo>
                      <a:pt x="1080" y="960"/>
                    </a:lnTo>
                    <a:lnTo>
                      <a:pt x="1080" y="948"/>
                    </a:lnTo>
                    <a:lnTo>
                      <a:pt x="1074" y="942"/>
                    </a:lnTo>
                    <a:lnTo>
                      <a:pt x="1068" y="936"/>
                    </a:lnTo>
                    <a:lnTo>
                      <a:pt x="1068" y="924"/>
                    </a:lnTo>
                    <a:lnTo>
                      <a:pt x="1062" y="918"/>
                    </a:lnTo>
                    <a:lnTo>
                      <a:pt x="1056" y="912"/>
                    </a:lnTo>
                    <a:lnTo>
                      <a:pt x="1050" y="888"/>
                    </a:lnTo>
                    <a:lnTo>
                      <a:pt x="1044" y="864"/>
                    </a:lnTo>
                    <a:lnTo>
                      <a:pt x="1050" y="840"/>
                    </a:lnTo>
                    <a:lnTo>
                      <a:pt x="1056" y="822"/>
                    </a:lnTo>
                    <a:lnTo>
                      <a:pt x="1062" y="798"/>
                    </a:lnTo>
                    <a:lnTo>
                      <a:pt x="1074" y="774"/>
                    </a:lnTo>
                    <a:lnTo>
                      <a:pt x="1086" y="798"/>
                    </a:lnTo>
                    <a:lnTo>
                      <a:pt x="1098" y="804"/>
                    </a:lnTo>
                    <a:lnTo>
                      <a:pt x="1116" y="810"/>
                    </a:lnTo>
                    <a:lnTo>
                      <a:pt x="1128" y="816"/>
                    </a:lnTo>
                    <a:lnTo>
                      <a:pt x="1140" y="816"/>
                    </a:lnTo>
                    <a:lnTo>
                      <a:pt x="1158" y="816"/>
                    </a:lnTo>
                    <a:lnTo>
                      <a:pt x="1170" y="810"/>
                    </a:lnTo>
                    <a:lnTo>
                      <a:pt x="1170" y="792"/>
                    </a:lnTo>
                    <a:lnTo>
                      <a:pt x="1164" y="786"/>
                    </a:lnTo>
                    <a:lnTo>
                      <a:pt x="1152" y="780"/>
                    </a:lnTo>
                    <a:lnTo>
                      <a:pt x="1140" y="780"/>
                    </a:lnTo>
                    <a:lnTo>
                      <a:pt x="1128" y="774"/>
                    </a:lnTo>
                    <a:lnTo>
                      <a:pt x="1122" y="762"/>
                    </a:lnTo>
                    <a:lnTo>
                      <a:pt x="1116" y="756"/>
                    </a:lnTo>
                    <a:lnTo>
                      <a:pt x="1116" y="744"/>
                    </a:lnTo>
                    <a:lnTo>
                      <a:pt x="1116" y="732"/>
                    </a:lnTo>
                    <a:lnTo>
                      <a:pt x="1116" y="720"/>
                    </a:lnTo>
                    <a:lnTo>
                      <a:pt x="1122" y="714"/>
                    </a:lnTo>
                    <a:lnTo>
                      <a:pt x="1122" y="702"/>
                    </a:lnTo>
                    <a:lnTo>
                      <a:pt x="1122" y="690"/>
                    </a:lnTo>
                    <a:lnTo>
                      <a:pt x="1128" y="678"/>
                    </a:lnTo>
                    <a:lnTo>
                      <a:pt x="1128" y="666"/>
                    </a:lnTo>
                    <a:lnTo>
                      <a:pt x="1134" y="648"/>
                    </a:lnTo>
                    <a:lnTo>
                      <a:pt x="1134" y="636"/>
                    </a:lnTo>
                    <a:lnTo>
                      <a:pt x="1140" y="624"/>
                    </a:lnTo>
                    <a:lnTo>
                      <a:pt x="1146" y="630"/>
                    </a:lnTo>
                    <a:lnTo>
                      <a:pt x="1158" y="636"/>
                    </a:lnTo>
                    <a:lnTo>
                      <a:pt x="1170" y="630"/>
                    </a:lnTo>
                    <a:lnTo>
                      <a:pt x="1182" y="630"/>
                    </a:lnTo>
                    <a:lnTo>
                      <a:pt x="1194" y="624"/>
                    </a:lnTo>
                    <a:lnTo>
                      <a:pt x="1200" y="624"/>
                    </a:lnTo>
                    <a:lnTo>
                      <a:pt x="1212" y="618"/>
                    </a:lnTo>
                    <a:lnTo>
                      <a:pt x="1218" y="612"/>
                    </a:lnTo>
                    <a:lnTo>
                      <a:pt x="1230" y="600"/>
                    </a:lnTo>
                    <a:lnTo>
                      <a:pt x="1230" y="588"/>
                    </a:lnTo>
                    <a:lnTo>
                      <a:pt x="1236" y="582"/>
                    </a:lnTo>
                    <a:lnTo>
                      <a:pt x="1236" y="570"/>
                    </a:lnTo>
                    <a:lnTo>
                      <a:pt x="1230" y="570"/>
                    </a:lnTo>
                    <a:lnTo>
                      <a:pt x="1224" y="570"/>
                    </a:lnTo>
                    <a:lnTo>
                      <a:pt x="1224" y="576"/>
                    </a:lnTo>
                    <a:lnTo>
                      <a:pt x="1218" y="576"/>
                    </a:lnTo>
                    <a:lnTo>
                      <a:pt x="1212" y="582"/>
                    </a:lnTo>
                    <a:lnTo>
                      <a:pt x="1200" y="582"/>
                    </a:lnTo>
                    <a:lnTo>
                      <a:pt x="1194" y="576"/>
                    </a:lnTo>
                    <a:lnTo>
                      <a:pt x="1188" y="576"/>
                    </a:lnTo>
                    <a:lnTo>
                      <a:pt x="1176" y="570"/>
                    </a:lnTo>
                    <a:lnTo>
                      <a:pt x="1170" y="552"/>
                    </a:lnTo>
                    <a:lnTo>
                      <a:pt x="1170" y="534"/>
                    </a:lnTo>
                    <a:lnTo>
                      <a:pt x="1170" y="516"/>
                    </a:lnTo>
                    <a:lnTo>
                      <a:pt x="1176" y="498"/>
                    </a:lnTo>
                    <a:lnTo>
                      <a:pt x="1182" y="480"/>
                    </a:lnTo>
                    <a:lnTo>
                      <a:pt x="1194" y="462"/>
                    </a:lnTo>
                    <a:lnTo>
                      <a:pt x="1200" y="468"/>
                    </a:lnTo>
                    <a:lnTo>
                      <a:pt x="1212" y="468"/>
                    </a:lnTo>
                    <a:lnTo>
                      <a:pt x="1218" y="462"/>
                    </a:lnTo>
                    <a:lnTo>
                      <a:pt x="1230" y="462"/>
                    </a:lnTo>
                    <a:lnTo>
                      <a:pt x="1242" y="456"/>
                    </a:lnTo>
                    <a:lnTo>
                      <a:pt x="1248" y="450"/>
                    </a:lnTo>
                    <a:lnTo>
                      <a:pt x="1254" y="444"/>
                    </a:lnTo>
                    <a:lnTo>
                      <a:pt x="1254" y="438"/>
                    </a:lnTo>
                    <a:lnTo>
                      <a:pt x="1260" y="432"/>
                    </a:lnTo>
                    <a:lnTo>
                      <a:pt x="1266" y="420"/>
                    </a:lnTo>
                    <a:lnTo>
                      <a:pt x="1266" y="414"/>
                    </a:lnTo>
                    <a:lnTo>
                      <a:pt x="1266" y="408"/>
                    </a:lnTo>
                    <a:lnTo>
                      <a:pt x="1260" y="402"/>
                    </a:lnTo>
                    <a:lnTo>
                      <a:pt x="1248" y="408"/>
                    </a:lnTo>
                    <a:lnTo>
                      <a:pt x="1242" y="408"/>
                    </a:lnTo>
                    <a:lnTo>
                      <a:pt x="1236" y="414"/>
                    </a:lnTo>
                    <a:lnTo>
                      <a:pt x="1230" y="414"/>
                    </a:lnTo>
                    <a:lnTo>
                      <a:pt x="1224" y="414"/>
                    </a:lnTo>
                    <a:lnTo>
                      <a:pt x="1212" y="408"/>
                    </a:lnTo>
                    <a:lnTo>
                      <a:pt x="1206" y="402"/>
                    </a:lnTo>
                    <a:lnTo>
                      <a:pt x="1194" y="396"/>
                    </a:lnTo>
                    <a:lnTo>
                      <a:pt x="1188" y="384"/>
                    </a:lnTo>
                    <a:lnTo>
                      <a:pt x="1182" y="378"/>
                    </a:lnTo>
                    <a:lnTo>
                      <a:pt x="1176" y="366"/>
                    </a:lnTo>
                    <a:lnTo>
                      <a:pt x="1176" y="354"/>
                    </a:lnTo>
                    <a:lnTo>
                      <a:pt x="1176" y="348"/>
                    </a:lnTo>
                    <a:lnTo>
                      <a:pt x="1176" y="336"/>
                    </a:lnTo>
                    <a:lnTo>
                      <a:pt x="1176" y="330"/>
                    </a:lnTo>
                    <a:lnTo>
                      <a:pt x="1176" y="318"/>
                    </a:lnTo>
                    <a:lnTo>
                      <a:pt x="1176" y="312"/>
                    </a:lnTo>
                    <a:lnTo>
                      <a:pt x="1188" y="312"/>
                    </a:lnTo>
                    <a:lnTo>
                      <a:pt x="1200" y="312"/>
                    </a:lnTo>
                    <a:lnTo>
                      <a:pt x="1212" y="306"/>
                    </a:lnTo>
                    <a:lnTo>
                      <a:pt x="1224" y="300"/>
                    </a:lnTo>
                    <a:lnTo>
                      <a:pt x="1236" y="294"/>
                    </a:lnTo>
                    <a:lnTo>
                      <a:pt x="1242" y="282"/>
                    </a:lnTo>
                    <a:lnTo>
                      <a:pt x="1248" y="276"/>
                    </a:lnTo>
                    <a:lnTo>
                      <a:pt x="1254" y="270"/>
                    </a:lnTo>
                    <a:lnTo>
                      <a:pt x="1254" y="264"/>
                    </a:lnTo>
                    <a:lnTo>
                      <a:pt x="1260" y="252"/>
                    </a:lnTo>
                    <a:lnTo>
                      <a:pt x="1260" y="246"/>
                    </a:lnTo>
                    <a:lnTo>
                      <a:pt x="1254" y="240"/>
                    </a:lnTo>
                    <a:lnTo>
                      <a:pt x="1248" y="240"/>
                    </a:lnTo>
                    <a:lnTo>
                      <a:pt x="1242" y="240"/>
                    </a:lnTo>
                    <a:lnTo>
                      <a:pt x="1236" y="246"/>
                    </a:lnTo>
                    <a:lnTo>
                      <a:pt x="1230" y="252"/>
                    </a:lnTo>
                    <a:lnTo>
                      <a:pt x="1224" y="252"/>
                    </a:lnTo>
                    <a:lnTo>
                      <a:pt x="1218" y="258"/>
                    </a:lnTo>
                    <a:lnTo>
                      <a:pt x="1212" y="258"/>
                    </a:lnTo>
                    <a:lnTo>
                      <a:pt x="1206" y="258"/>
                    </a:lnTo>
                    <a:lnTo>
                      <a:pt x="1200" y="252"/>
                    </a:lnTo>
                    <a:lnTo>
                      <a:pt x="1194" y="252"/>
                    </a:lnTo>
                    <a:lnTo>
                      <a:pt x="1188" y="246"/>
                    </a:lnTo>
                    <a:lnTo>
                      <a:pt x="1188" y="240"/>
                    </a:lnTo>
                    <a:lnTo>
                      <a:pt x="1182" y="228"/>
                    </a:lnTo>
                    <a:lnTo>
                      <a:pt x="1170" y="210"/>
                    </a:lnTo>
                    <a:lnTo>
                      <a:pt x="1164" y="198"/>
                    </a:lnTo>
                    <a:lnTo>
                      <a:pt x="1152" y="186"/>
                    </a:lnTo>
                    <a:lnTo>
                      <a:pt x="1140" y="174"/>
                    </a:lnTo>
                    <a:lnTo>
                      <a:pt x="1134" y="162"/>
                    </a:lnTo>
                    <a:lnTo>
                      <a:pt x="1152" y="144"/>
                    </a:lnTo>
                    <a:lnTo>
                      <a:pt x="1158" y="132"/>
                    </a:lnTo>
                    <a:lnTo>
                      <a:pt x="1164" y="120"/>
                    </a:lnTo>
                    <a:lnTo>
                      <a:pt x="1170" y="108"/>
                    </a:lnTo>
                    <a:lnTo>
                      <a:pt x="1170" y="96"/>
                    </a:lnTo>
                    <a:lnTo>
                      <a:pt x="1170" y="84"/>
                    </a:lnTo>
                    <a:lnTo>
                      <a:pt x="1164" y="72"/>
                    </a:lnTo>
                    <a:lnTo>
                      <a:pt x="1158" y="72"/>
                    </a:lnTo>
                    <a:lnTo>
                      <a:pt x="1152" y="72"/>
                    </a:lnTo>
                    <a:lnTo>
                      <a:pt x="1152" y="78"/>
                    </a:lnTo>
                    <a:lnTo>
                      <a:pt x="1146" y="84"/>
                    </a:lnTo>
                    <a:lnTo>
                      <a:pt x="1134" y="90"/>
                    </a:lnTo>
                    <a:lnTo>
                      <a:pt x="1122" y="90"/>
                    </a:lnTo>
                    <a:lnTo>
                      <a:pt x="1116" y="96"/>
                    </a:lnTo>
                    <a:lnTo>
                      <a:pt x="1104" y="96"/>
                    </a:lnTo>
                    <a:lnTo>
                      <a:pt x="1098" y="96"/>
                    </a:lnTo>
                    <a:lnTo>
                      <a:pt x="1086" y="96"/>
                    </a:lnTo>
                    <a:lnTo>
                      <a:pt x="1092" y="90"/>
                    </a:lnTo>
                    <a:lnTo>
                      <a:pt x="1092" y="84"/>
                    </a:lnTo>
                    <a:lnTo>
                      <a:pt x="1098" y="78"/>
                    </a:lnTo>
                    <a:lnTo>
                      <a:pt x="1104" y="72"/>
                    </a:lnTo>
                    <a:lnTo>
                      <a:pt x="1104" y="66"/>
                    </a:lnTo>
                    <a:lnTo>
                      <a:pt x="1110" y="60"/>
                    </a:lnTo>
                    <a:lnTo>
                      <a:pt x="1110" y="48"/>
                    </a:lnTo>
                    <a:lnTo>
                      <a:pt x="1110" y="42"/>
                    </a:lnTo>
                    <a:lnTo>
                      <a:pt x="1104" y="30"/>
                    </a:lnTo>
                    <a:lnTo>
                      <a:pt x="1104" y="24"/>
                    </a:lnTo>
                    <a:lnTo>
                      <a:pt x="1098" y="18"/>
                    </a:lnTo>
                    <a:lnTo>
                      <a:pt x="1080" y="6"/>
                    </a:lnTo>
                    <a:lnTo>
                      <a:pt x="1068" y="0"/>
                    </a:lnTo>
                    <a:lnTo>
                      <a:pt x="1062" y="0"/>
                    </a:lnTo>
                    <a:lnTo>
                      <a:pt x="1050" y="0"/>
                    </a:lnTo>
                    <a:lnTo>
                      <a:pt x="1044" y="0"/>
                    </a:lnTo>
                    <a:lnTo>
                      <a:pt x="1032" y="0"/>
                    </a:lnTo>
                    <a:lnTo>
                      <a:pt x="1026" y="0"/>
                    </a:lnTo>
                    <a:lnTo>
                      <a:pt x="1026" y="6"/>
                    </a:lnTo>
                    <a:lnTo>
                      <a:pt x="1032" y="12"/>
                    </a:lnTo>
                    <a:lnTo>
                      <a:pt x="1038" y="18"/>
                    </a:lnTo>
                    <a:lnTo>
                      <a:pt x="1044" y="24"/>
                    </a:lnTo>
                    <a:lnTo>
                      <a:pt x="1050" y="30"/>
                    </a:lnTo>
                    <a:lnTo>
                      <a:pt x="1050" y="36"/>
                    </a:lnTo>
                    <a:lnTo>
                      <a:pt x="1044" y="54"/>
                    </a:lnTo>
                    <a:lnTo>
                      <a:pt x="1032" y="54"/>
                    </a:lnTo>
                    <a:lnTo>
                      <a:pt x="1014" y="54"/>
                    </a:lnTo>
                    <a:lnTo>
                      <a:pt x="1002" y="48"/>
                    </a:lnTo>
                    <a:lnTo>
                      <a:pt x="984" y="42"/>
                    </a:lnTo>
                    <a:lnTo>
                      <a:pt x="972" y="42"/>
                    </a:lnTo>
                    <a:lnTo>
                      <a:pt x="972" y="36"/>
                    </a:lnTo>
                    <a:lnTo>
                      <a:pt x="966" y="36"/>
                    </a:lnTo>
                    <a:lnTo>
                      <a:pt x="948" y="42"/>
                    </a:lnTo>
                    <a:lnTo>
                      <a:pt x="930" y="42"/>
                    </a:lnTo>
                    <a:lnTo>
                      <a:pt x="912" y="48"/>
                    </a:lnTo>
                    <a:lnTo>
                      <a:pt x="894" y="48"/>
                    </a:lnTo>
                    <a:lnTo>
                      <a:pt x="882" y="54"/>
                    </a:lnTo>
                    <a:lnTo>
                      <a:pt x="864" y="60"/>
                    </a:lnTo>
                    <a:lnTo>
                      <a:pt x="858" y="66"/>
                    </a:lnTo>
                    <a:lnTo>
                      <a:pt x="846" y="72"/>
                    </a:lnTo>
                    <a:lnTo>
                      <a:pt x="840" y="72"/>
                    </a:lnTo>
                    <a:lnTo>
                      <a:pt x="834" y="78"/>
                    </a:lnTo>
                    <a:lnTo>
                      <a:pt x="822" y="84"/>
                    </a:lnTo>
                    <a:lnTo>
                      <a:pt x="816" y="84"/>
                    </a:lnTo>
                    <a:lnTo>
                      <a:pt x="792" y="96"/>
                    </a:lnTo>
                    <a:lnTo>
                      <a:pt x="768" y="102"/>
                    </a:lnTo>
                    <a:lnTo>
                      <a:pt x="738" y="102"/>
                    </a:lnTo>
                    <a:lnTo>
                      <a:pt x="714" y="102"/>
                    </a:lnTo>
                    <a:lnTo>
                      <a:pt x="690" y="108"/>
                    </a:lnTo>
                    <a:lnTo>
                      <a:pt x="672" y="120"/>
                    </a:lnTo>
                    <a:lnTo>
                      <a:pt x="672" y="132"/>
                    </a:lnTo>
                    <a:lnTo>
                      <a:pt x="678" y="138"/>
                    </a:lnTo>
                    <a:lnTo>
                      <a:pt x="684" y="138"/>
                    </a:lnTo>
                    <a:lnTo>
                      <a:pt x="690" y="138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0" y="156"/>
                    </a:lnTo>
                    <a:lnTo>
                      <a:pt x="684" y="156"/>
                    </a:lnTo>
                    <a:lnTo>
                      <a:pt x="684" y="162"/>
                    </a:lnTo>
                    <a:lnTo>
                      <a:pt x="684" y="168"/>
                    </a:lnTo>
                    <a:lnTo>
                      <a:pt x="684" y="174"/>
                    </a:lnTo>
                    <a:lnTo>
                      <a:pt x="684" y="186"/>
                    </a:lnTo>
                    <a:lnTo>
                      <a:pt x="684" y="192"/>
                    </a:lnTo>
                    <a:lnTo>
                      <a:pt x="690" y="198"/>
                    </a:lnTo>
                    <a:lnTo>
                      <a:pt x="696" y="204"/>
                    </a:lnTo>
                    <a:lnTo>
                      <a:pt x="702" y="210"/>
                    </a:lnTo>
                    <a:lnTo>
                      <a:pt x="708" y="210"/>
                    </a:lnTo>
                    <a:lnTo>
                      <a:pt x="708" y="228"/>
                    </a:lnTo>
                    <a:lnTo>
                      <a:pt x="720" y="234"/>
                    </a:lnTo>
                    <a:lnTo>
                      <a:pt x="732" y="240"/>
                    </a:lnTo>
                    <a:lnTo>
                      <a:pt x="744" y="252"/>
                    </a:lnTo>
                    <a:lnTo>
                      <a:pt x="750" y="258"/>
                    </a:lnTo>
                    <a:lnTo>
                      <a:pt x="756" y="276"/>
                    </a:lnTo>
                    <a:lnTo>
                      <a:pt x="744" y="276"/>
                    </a:lnTo>
                    <a:lnTo>
                      <a:pt x="732" y="276"/>
                    </a:lnTo>
                    <a:lnTo>
                      <a:pt x="720" y="276"/>
                    </a:lnTo>
                    <a:lnTo>
                      <a:pt x="708" y="276"/>
                    </a:lnTo>
                    <a:lnTo>
                      <a:pt x="696" y="270"/>
                    </a:lnTo>
                    <a:lnTo>
                      <a:pt x="690" y="264"/>
                    </a:lnTo>
                    <a:lnTo>
                      <a:pt x="678" y="258"/>
                    </a:lnTo>
                    <a:lnTo>
                      <a:pt x="672" y="252"/>
                    </a:lnTo>
                    <a:lnTo>
                      <a:pt x="666" y="246"/>
                    </a:lnTo>
                    <a:lnTo>
                      <a:pt x="666" y="234"/>
                    </a:lnTo>
                    <a:lnTo>
                      <a:pt x="660" y="228"/>
                    </a:lnTo>
                    <a:lnTo>
                      <a:pt x="648" y="222"/>
                    </a:lnTo>
                    <a:lnTo>
                      <a:pt x="642" y="222"/>
                    </a:lnTo>
                    <a:lnTo>
                      <a:pt x="642" y="228"/>
                    </a:lnTo>
                    <a:lnTo>
                      <a:pt x="636" y="228"/>
                    </a:lnTo>
                    <a:lnTo>
                      <a:pt x="636" y="234"/>
                    </a:lnTo>
                    <a:lnTo>
                      <a:pt x="630" y="240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70"/>
                    </a:lnTo>
                    <a:lnTo>
                      <a:pt x="630" y="276"/>
                    </a:lnTo>
                    <a:lnTo>
                      <a:pt x="630" y="282"/>
                    </a:lnTo>
                    <a:lnTo>
                      <a:pt x="642" y="288"/>
                    </a:lnTo>
                    <a:lnTo>
                      <a:pt x="654" y="300"/>
                    </a:lnTo>
                    <a:lnTo>
                      <a:pt x="672" y="312"/>
                    </a:lnTo>
                    <a:lnTo>
                      <a:pt x="690" y="312"/>
                    </a:lnTo>
                    <a:lnTo>
                      <a:pt x="708" y="318"/>
                    </a:lnTo>
                    <a:lnTo>
                      <a:pt x="726" y="324"/>
                    </a:lnTo>
                    <a:lnTo>
                      <a:pt x="738" y="330"/>
                    </a:lnTo>
                    <a:lnTo>
                      <a:pt x="732" y="330"/>
                    </a:lnTo>
                    <a:lnTo>
                      <a:pt x="732" y="336"/>
                    </a:lnTo>
                    <a:lnTo>
                      <a:pt x="726" y="336"/>
                    </a:lnTo>
                    <a:lnTo>
                      <a:pt x="720" y="342"/>
                    </a:lnTo>
                    <a:lnTo>
                      <a:pt x="714" y="354"/>
                    </a:lnTo>
                    <a:lnTo>
                      <a:pt x="708" y="360"/>
                    </a:lnTo>
                    <a:lnTo>
                      <a:pt x="714" y="372"/>
                    </a:lnTo>
                    <a:lnTo>
                      <a:pt x="714" y="384"/>
                    </a:lnTo>
                    <a:lnTo>
                      <a:pt x="720" y="396"/>
                    </a:lnTo>
                    <a:lnTo>
                      <a:pt x="720" y="408"/>
                    </a:lnTo>
                    <a:lnTo>
                      <a:pt x="720" y="414"/>
                    </a:lnTo>
                    <a:lnTo>
                      <a:pt x="720" y="420"/>
                    </a:lnTo>
                    <a:lnTo>
                      <a:pt x="726" y="420"/>
                    </a:lnTo>
                    <a:lnTo>
                      <a:pt x="726" y="426"/>
                    </a:lnTo>
                    <a:lnTo>
                      <a:pt x="732" y="426"/>
                    </a:lnTo>
                    <a:lnTo>
                      <a:pt x="738" y="426"/>
                    </a:lnTo>
                    <a:lnTo>
                      <a:pt x="750" y="414"/>
                    </a:lnTo>
                    <a:lnTo>
                      <a:pt x="750" y="420"/>
                    </a:lnTo>
                    <a:lnTo>
                      <a:pt x="756" y="426"/>
                    </a:lnTo>
                    <a:lnTo>
                      <a:pt x="756" y="438"/>
                    </a:lnTo>
                    <a:lnTo>
                      <a:pt x="756" y="444"/>
                    </a:lnTo>
                    <a:lnTo>
                      <a:pt x="756" y="450"/>
                    </a:lnTo>
                    <a:lnTo>
                      <a:pt x="768" y="444"/>
                    </a:lnTo>
                    <a:lnTo>
                      <a:pt x="774" y="438"/>
                    </a:lnTo>
                    <a:lnTo>
                      <a:pt x="786" y="432"/>
                    </a:lnTo>
                    <a:lnTo>
                      <a:pt x="792" y="426"/>
                    </a:lnTo>
                    <a:lnTo>
                      <a:pt x="804" y="426"/>
                    </a:lnTo>
                    <a:lnTo>
                      <a:pt x="810" y="426"/>
                    </a:lnTo>
                    <a:lnTo>
                      <a:pt x="816" y="432"/>
                    </a:lnTo>
                    <a:lnTo>
                      <a:pt x="816" y="438"/>
                    </a:lnTo>
                    <a:lnTo>
                      <a:pt x="810" y="444"/>
                    </a:lnTo>
                    <a:lnTo>
                      <a:pt x="810" y="450"/>
                    </a:lnTo>
                    <a:lnTo>
                      <a:pt x="792" y="462"/>
                    </a:lnTo>
                    <a:lnTo>
                      <a:pt x="780" y="474"/>
                    </a:lnTo>
                    <a:lnTo>
                      <a:pt x="768" y="480"/>
                    </a:lnTo>
                    <a:lnTo>
                      <a:pt x="750" y="486"/>
                    </a:lnTo>
                    <a:lnTo>
                      <a:pt x="732" y="486"/>
                    </a:lnTo>
                    <a:lnTo>
                      <a:pt x="714" y="480"/>
                    </a:lnTo>
                    <a:lnTo>
                      <a:pt x="708" y="480"/>
                    </a:lnTo>
                    <a:lnTo>
                      <a:pt x="702" y="480"/>
                    </a:lnTo>
                    <a:lnTo>
                      <a:pt x="696" y="474"/>
                    </a:lnTo>
                    <a:lnTo>
                      <a:pt x="690" y="468"/>
                    </a:lnTo>
                    <a:lnTo>
                      <a:pt x="684" y="456"/>
                    </a:lnTo>
                    <a:lnTo>
                      <a:pt x="684" y="444"/>
                    </a:lnTo>
                    <a:lnTo>
                      <a:pt x="684" y="438"/>
                    </a:lnTo>
                    <a:lnTo>
                      <a:pt x="684" y="426"/>
                    </a:lnTo>
                    <a:lnTo>
                      <a:pt x="684" y="420"/>
                    </a:lnTo>
                    <a:lnTo>
                      <a:pt x="678" y="420"/>
                    </a:lnTo>
                    <a:lnTo>
                      <a:pt x="672" y="426"/>
                    </a:lnTo>
                    <a:lnTo>
                      <a:pt x="666" y="432"/>
                    </a:lnTo>
                    <a:lnTo>
                      <a:pt x="660" y="438"/>
                    </a:lnTo>
                    <a:lnTo>
                      <a:pt x="654" y="444"/>
                    </a:lnTo>
                    <a:lnTo>
                      <a:pt x="648" y="450"/>
                    </a:lnTo>
                    <a:lnTo>
                      <a:pt x="648" y="456"/>
                    </a:lnTo>
                    <a:lnTo>
                      <a:pt x="648" y="468"/>
                    </a:lnTo>
                    <a:lnTo>
                      <a:pt x="648" y="474"/>
                    </a:lnTo>
                    <a:lnTo>
                      <a:pt x="642" y="480"/>
                    </a:lnTo>
                    <a:lnTo>
                      <a:pt x="642" y="492"/>
                    </a:lnTo>
                    <a:lnTo>
                      <a:pt x="636" y="498"/>
                    </a:lnTo>
                    <a:lnTo>
                      <a:pt x="606" y="474"/>
                    </a:lnTo>
                    <a:lnTo>
                      <a:pt x="600" y="468"/>
                    </a:lnTo>
                    <a:lnTo>
                      <a:pt x="594" y="456"/>
                    </a:lnTo>
                    <a:lnTo>
                      <a:pt x="588" y="444"/>
                    </a:lnTo>
                    <a:lnTo>
                      <a:pt x="588" y="432"/>
                    </a:lnTo>
                    <a:lnTo>
                      <a:pt x="588" y="420"/>
                    </a:lnTo>
                    <a:lnTo>
                      <a:pt x="588" y="408"/>
                    </a:lnTo>
                    <a:lnTo>
                      <a:pt x="582" y="402"/>
                    </a:lnTo>
                    <a:lnTo>
                      <a:pt x="564" y="426"/>
                    </a:lnTo>
                    <a:lnTo>
                      <a:pt x="558" y="408"/>
                    </a:lnTo>
                    <a:lnTo>
                      <a:pt x="552" y="390"/>
                    </a:lnTo>
                    <a:lnTo>
                      <a:pt x="546" y="378"/>
                    </a:lnTo>
                    <a:lnTo>
                      <a:pt x="540" y="360"/>
                    </a:lnTo>
                    <a:lnTo>
                      <a:pt x="534" y="342"/>
                    </a:lnTo>
                    <a:lnTo>
                      <a:pt x="522" y="330"/>
                    </a:lnTo>
                    <a:lnTo>
                      <a:pt x="522" y="312"/>
                    </a:lnTo>
                    <a:lnTo>
                      <a:pt x="516" y="300"/>
                    </a:lnTo>
                    <a:lnTo>
                      <a:pt x="510" y="288"/>
                    </a:lnTo>
                    <a:lnTo>
                      <a:pt x="504" y="276"/>
                    </a:lnTo>
                    <a:lnTo>
                      <a:pt x="504" y="264"/>
                    </a:lnTo>
                    <a:lnTo>
                      <a:pt x="498" y="258"/>
                    </a:lnTo>
                    <a:lnTo>
                      <a:pt x="492" y="246"/>
                    </a:lnTo>
                    <a:lnTo>
                      <a:pt x="492" y="240"/>
                    </a:lnTo>
                    <a:lnTo>
                      <a:pt x="486" y="234"/>
                    </a:lnTo>
                    <a:lnTo>
                      <a:pt x="486" y="228"/>
                    </a:lnTo>
                    <a:lnTo>
                      <a:pt x="486" y="222"/>
                    </a:lnTo>
                    <a:lnTo>
                      <a:pt x="486" y="216"/>
                    </a:lnTo>
                    <a:lnTo>
                      <a:pt x="474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9300240" y="5443560"/>
                <a:ext cx="88920" cy="205560"/>
              </a:xfrm>
              <a:custGeom>
                <a:avLst/>
                <a:gdLst/>
                <a:ahLst/>
                <a:rect l="l" t="t" r="r" b="b"/>
                <a:pathLst>
                  <a:path w="288" h="666">
                    <a:moveTo>
                      <a:pt x="162" y="156"/>
                    </a:moveTo>
                    <a:lnTo>
                      <a:pt x="138" y="132"/>
                    </a:lnTo>
                    <a:lnTo>
                      <a:pt x="132" y="108"/>
                    </a:lnTo>
                    <a:lnTo>
                      <a:pt x="126" y="78"/>
                    </a:lnTo>
                    <a:lnTo>
                      <a:pt x="120" y="48"/>
                    </a:lnTo>
                    <a:lnTo>
                      <a:pt x="108" y="18"/>
                    </a:lnTo>
                    <a:lnTo>
                      <a:pt x="90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6"/>
                    </a:lnTo>
                    <a:lnTo>
                      <a:pt x="24" y="12"/>
                    </a:lnTo>
                    <a:lnTo>
                      <a:pt x="12" y="24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42" y="30"/>
                    </a:lnTo>
                    <a:lnTo>
                      <a:pt x="54" y="30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84"/>
                    </a:lnTo>
                    <a:lnTo>
                      <a:pt x="42" y="90"/>
                    </a:lnTo>
                    <a:lnTo>
                      <a:pt x="42" y="96"/>
                    </a:lnTo>
                    <a:lnTo>
                      <a:pt x="42" y="108"/>
                    </a:lnTo>
                    <a:lnTo>
                      <a:pt x="48" y="114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26"/>
                    </a:lnTo>
                    <a:lnTo>
                      <a:pt x="72" y="126"/>
                    </a:lnTo>
                    <a:lnTo>
                      <a:pt x="78" y="126"/>
                    </a:lnTo>
                    <a:lnTo>
                      <a:pt x="78" y="132"/>
                    </a:lnTo>
                    <a:lnTo>
                      <a:pt x="84" y="132"/>
                    </a:lnTo>
                    <a:lnTo>
                      <a:pt x="84" y="138"/>
                    </a:lnTo>
                    <a:lnTo>
                      <a:pt x="84" y="144"/>
                    </a:lnTo>
                    <a:lnTo>
                      <a:pt x="78" y="150"/>
                    </a:lnTo>
                    <a:lnTo>
                      <a:pt x="72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60" y="174"/>
                    </a:lnTo>
                    <a:lnTo>
                      <a:pt x="48" y="168"/>
                    </a:lnTo>
                    <a:lnTo>
                      <a:pt x="42" y="156"/>
                    </a:lnTo>
                    <a:lnTo>
                      <a:pt x="36" y="150"/>
                    </a:lnTo>
                    <a:lnTo>
                      <a:pt x="24" y="138"/>
                    </a:lnTo>
                    <a:lnTo>
                      <a:pt x="12" y="132"/>
                    </a:lnTo>
                    <a:lnTo>
                      <a:pt x="0" y="138"/>
                    </a:lnTo>
                    <a:lnTo>
                      <a:pt x="18" y="144"/>
                    </a:lnTo>
                    <a:lnTo>
                      <a:pt x="24" y="162"/>
                    </a:lnTo>
                    <a:lnTo>
                      <a:pt x="30" y="174"/>
                    </a:lnTo>
                    <a:lnTo>
                      <a:pt x="42" y="192"/>
                    </a:lnTo>
                    <a:lnTo>
                      <a:pt x="54" y="198"/>
                    </a:lnTo>
                    <a:lnTo>
                      <a:pt x="72" y="204"/>
                    </a:lnTo>
                    <a:lnTo>
                      <a:pt x="90" y="204"/>
                    </a:lnTo>
                    <a:lnTo>
                      <a:pt x="84" y="216"/>
                    </a:lnTo>
                    <a:lnTo>
                      <a:pt x="84" y="222"/>
                    </a:lnTo>
                    <a:lnTo>
                      <a:pt x="72" y="228"/>
                    </a:lnTo>
                    <a:lnTo>
                      <a:pt x="66" y="234"/>
                    </a:lnTo>
                    <a:lnTo>
                      <a:pt x="54" y="240"/>
                    </a:lnTo>
                    <a:lnTo>
                      <a:pt x="48" y="246"/>
                    </a:lnTo>
                    <a:lnTo>
                      <a:pt x="48" y="252"/>
                    </a:lnTo>
                    <a:lnTo>
                      <a:pt x="42" y="252"/>
                    </a:lnTo>
                    <a:lnTo>
                      <a:pt x="36" y="252"/>
                    </a:lnTo>
                    <a:lnTo>
                      <a:pt x="30" y="252"/>
                    </a:lnTo>
                    <a:lnTo>
                      <a:pt x="24" y="252"/>
                    </a:lnTo>
                    <a:lnTo>
                      <a:pt x="30" y="264"/>
                    </a:lnTo>
                    <a:lnTo>
                      <a:pt x="42" y="270"/>
                    </a:lnTo>
                    <a:lnTo>
                      <a:pt x="48" y="270"/>
                    </a:lnTo>
                    <a:lnTo>
                      <a:pt x="54" y="276"/>
                    </a:lnTo>
                    <a:lnTo>
                      <a:pt x="66" y="276"/>
                    </a:lnTo>
                    <a:lnTo>
                      <a:pt x="78" y="270"/>
                    </a:lnTo>
                    <a:lnTo>
                      <a:pt x="78" y="282"/>
                    </a:lnTo>
                    <a:lnTo>
                      <a:pt x="78" y="294"/>
                    </a:lnTo>
                    <a:lnTo>
                      <a:pt x="72" y="306"/>
                    </a:lnTo>
                    <a:lnTo>
                      <a:pt x="66" y="312"/>
                    </a:lnTo>
                    <a:lnTo>
                      <a:pt x="60" y="324"/>
                    </a:lnTo>
                    <a:lnTo>
                      <a:pt x="54" y="336"/>
                    </a:lnTo>
                    <a:lnTo>
                      <a:pt x="60" y="336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84" y="330"/>
                    </a:lnTo>
                    <a:lnTo>
                      <a:pt x="90" y="330"/>
                    </a:lnTo>
                    <a:lnTo>
                      <a:pt x="90" y="342"/>
                    </a:lnTo>
                    <a:lnTo>
                      <a:pt x="96" y="360"/>
                    </a:lnTo>
                    <a:lnTo>
                      <a:pt x="90" y="372"/>
                    </a:lnTo>
                    <a:lnTo>
                      <a:pt x="78" y="390"/>
                    </a:lnTo>
                    <a:lnTo>
                      <a:pt x="72" y="408"/>
                    </a:lnTo>
                    <a:lnTo>
                      <a:pt x="78" y="420"/>
                    </a:lnTo>
                    <a:lnTo>
                      <a:pt x="90" y="438"/>
                    </a:lnTo>
                    <a:lnTo>
                      <a:pt x="108" y="462"/>
                    </a:lnTo>
                    <a:lnTo>
                      <a:pt x="120" y="492"/>
                    </a:lnTo>
                    <a:lnTo>
                      <a:pt x="132" y="522"/>
                    </a:lnTo>
                    <a:lnTo>
                      <a:pt x="138" y="552"/>
                    </a:lnTo>
                    <a:lnTo>
                      <a:pt x="156" y="582"/>
                    </a:lnTo>
                    <a:lnTo>
                      <a:pt x="174" y="606"/>
                    </a:lnTo>
                    <a:lnTo>
                      <a:pt x="240" y="666"/>
                    </a:lnTo>
                    <a:lnTo>
                      <a:pt x="246" y="660"/>
                    </a:lnTo>
                    <a:lnTo>
                      <a:pt x="246" y="654"/>
                    </a:lnTo>
                    <a:lnTo>
                      <a:pt x="252" y="648"/>
                    </a:lnTo>
                    <a:lnTo>
                      <a:pt x="252" y="642"/>
                    </a:lnTo>
                    <a:lnTo>
                      <a:pt x="240" y="636"/>
                    </a:lnTo>
                    <a:lnTo>
                      <a:pt x="234" y="624"/>
                    </a:lnTo>
                    <a:lnTo>
                      <a:pt x="222" y="612"/>
                    </a:lnTo>
                    <a:lnTo>
                      <a:pt x="216" y="600"/>
                    </a:lnTo>
                    <a:lnTo>
                      <a:pt x="210" y="588"/>
                    </a:lnTo>
                    <a:lnTo>
                      <a:pt x="204" y="576"/>
                    </a:lnTo>
                    <a:lnTo>
                      <a:pt x="210" y="576"/>
                    </a:lnTo>
                    <a:lnTo>
                      <a:pt x="210" y="570"/>
                    </a:lnTo>
                    <a:lnTo>
                      <a:pt x="210" y="564"/>
                    </a:lnTo>
                    <a:lnTo>
                      <a:pt x="216" y="558"/>
                    </a:lnTo>
                    <a:lnTo>
                      <a:pt x="222" y="552"/>
                    </a:lnTo>
                    <a:lnTo>
                      <a:pt x="222" y="546"/>
                    </a:lnTo>
                    <a:lnTo>
                      <a:pt x="228" y="546"/>
                    </a:lnTo>
                    <a:lnTo>
                      <a:pt x="234" y="552"/>
                    </a:lnTo>
                    <a:lnTo>
                      <a:pt x="240" y="558"/>
                    </a:lnTo>
                    <a:lnTo>
                      <a:pt x="246" y="564"/>
                    </a:lnTo>
                    <a:lnTo>
                      <a:pt x="252" y="564"/>
                    </a:lnTo>
                    <a:lnTo>
                      <a:pt x="264" y="558"/>
                    </a:lnTo>
                    <a:lnTo>
                      <a:pt x="270" y="552"/>
                    </a:lnTo>
                    <a:lnTo>
                      <a:pt x="276" y="546"/>
                    </a:lnTo>
                    <a:lnTo>
                      <a:pt x="282" y="540"/>
                    </a:lnTo>
                    <a:lnTo>
                      <a:pt x="288" y="534"/>
                    </a:lnTo>
                    <a:lnTo>
                      <a:pt x="276" y="522"/>
                    </a:lnTo>
                    <a:lnTo>
                      <a:pt x="270" y="504"/>
                    </a:lnTo>
                    <a:lnTo>
                      <a:pt x="258" y="486"/>
                    </a:lnTo>
                    <a:lnTo>
                      <a:pt x="258" y="468"/>
                    </a:lnTo>
                    <a:lnTo>
                      <a:pt x="258" y="450"/>
                    </a:lnTo>
                    <a:lnTo>
                      <a:pt x="264" y="432"/>
                    </a:lnTo>
                    <a:lnTo>
                      <a:pt x="270" y="420"/>
                    </a:lnTo>
                    <a:lnTo>
                      <a:pt x="270" y="408"/>
                    </a:lnTo>
                    <a:lnTo>
                      <a:pt x="270" y="396"/>
                    </a:lnTo>
                    <a:lnTo>
                      <a:pt x="270" y="384"/>
                    </a:lnTo>
                    <a:lnTo>
                      <a:pt x="264" y="372"/>
                    </a:lnTo>
                    <a:lnTo>
                      <a:pt x="258" y="366"/>
                    </a:lnTo>
                    <a:lnTo>
                      <a:pt x="252" y="348"/>
                    </a:lnTo>
                    <a:lnTo>
                      <a:pt x="246" y="336"/>
                    </a:lnTo>
                    <a:lnTo>
                      <a:pt x="240" y="324"/>
                    </a:lnTo>
                    <a:lnTo>
                      <a:pt x="234" y="312"/>
                    </a:lnTo>
                    <a:lnTo>
                      <a:pt x="228" y="300"/>
                    </a:lnTo>
                    <a:lnTo>
                      <a:pt x="228" y="282"/>
                    </a:lnTo>
                    <a:lnTo>
                      <a:pt x="222" y="270"/>
                    </a:lnTo>
                    <a:lnTo>
                      <a:pt x="210" y="246"/>
                    </a:lnTo>
                    <a:lnTo>
                      <a:pt x="204" y="222"/>
                    </a:lnTo>
                    <a:lnTo>
                      <a:pt x="192" y="198"/>
                    </a:lnTo>
                    <a:lnTo>
                      <a:pt x="186" y="174"/>
                    </a:lnTo>
                    <a:lnTo>
                      <a:pt x="180" y="162"/>
                    </a:lnTo>
                    <a:lnTo>
                      <a:pt x="162" y="156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9342720" y="5439960"/>
                <a:ext cx="255960" cy="290880"/>
              </a:xfrm>
              <a:custGeom>
                <a:avLst/>
                <a:gdLst/>
                <a:ahLst/>
                <a:rect l="l" t="t" r="r" b="b"/>
                <a:pathLst>
                  <a:path w="828" h="942">
                    <a:moveTo>
                      <a:pt x="672" y="30"/>
                    </a:moveTo>
                    <a:lnTo>
                      <a:pt x="672" y="48"/>
                    </a:lnTo>
                    <a:lnTo>
                      <a:pt x="666" y="60"/>
                    </a:lnTo>
                    <a:lnTo>
                      <a:pt x="654" y="72"/>
                    </a:lnTo>
                    <a:lnTo>
                      <a:pt x="648" y="84"/>
                    </a:lnTo>
                    <a:lnTo>
                      <a:pt x="654" y="90"/>
                    </a:lnTo>
                    <a:lnTo>
                      <a:pt x="672" y="96"/>
                    </a:lnTo>
                    <a:lnTo>
                      <a:pt x="684" y="102"/>
                    </a:lnTo>
                    <a:lnTo>
                      <a:pt x="696" y="96"/>
                    </a:lnTo>
                    <a:lnTo>
                      <a:pt x="702" y="96"/>
                    </a:lnTo>
                    <a:lnTo>
                      <a:pt x="714" y="90"/>
                    </a:lnTo>
                    <a:lnTo>
                      <a:pt x="726" y="90"/>
                    </a:lnTo>
                    <a:lnTo>
                      <a:pt x="738" y="78"/>
                    </a:lnTo>
                    <a:lnTo>
                      <a:pt x="738" y="96"/>
                    </a:lnTo>
                    <a:lnTo>
                      <a:pt x="732" y="108"/>
                    </a:lnTo>
                    <a:lnTo>
                      <a:pt x="726" y="114"/>
                    </a:lnTo>
                    <a:lnTo>
                      <a:pt x="714" y="126"/>
                    </a:lnTo>
                    <a:lnTo>
                      <a:pt x="708" y="138"/>
                    </a:lnTo>
                    <a:lnTo>
                      <a:pt x="696" y="144"/>
                    </a:lnTo>
                    <a:lnTo>
                      <a:pt x="702" y="162"/>
                    </a:lnTo>
                    <a:lnTo>
                      <a:pt x="714" y="174"/>
                    </a:lnTo>
                    <a:lnTo>
                      <a:pt x="726" y="192"/>
                    </a:lnTo>
                    <a:lnTo>
                      <a:pt x="738" y="204"/>
                    </a:lnTo>
                    <a:lnTo>
                      <a:pt x="750" y="216"/>
                    </a:lnTo>
                    <a:lnTo>
                      <a:pt x="756" y="234"/>
                    </a:lnTo>
                    <a:lnTo>
                      <a:pt x="756" y="240"/>
                    </a:lnTo>
                    <a:lnTo>
                      <a:pt x="762" y="246"/>
                    </a:lnTo>
                    <a:lnTo>
                      <a:pt x="768" y="252"/>
                    </a:lnTo>
                    <a:lnTo>
                      <a:pt x="774" y="252"/>
                    </a:lnTo>
                    <a:lnTo>
                      <a:pt x="780" y="258"/>
                    </a:lnTo>
                    <a:lnTo>
                      <a:pt x="786" y="258"/>
                    </a:lnTo>
                    <a:lnTo>
                      <a:pt x="792" y="258"/>
                    </a:lnTo>
                    <a:lnTo>
                      <a:pt x="798" y="258"/>
                    </a:lnTo>
                    <a:lnTo>
                      <a:pt x="804" y="258"/>
                    </a:lnTo>
                    <a:lnTo>
                      <a:pt x="810" y="252"/>
                    </a:lnTo>
                    <a:lnTo>
                      <a:pt x="816" y="252"/>
                    </a:lnTo>
                    <a:lnTo>
                      <a:pt x="822" y="246"/>
                    </a:lnTo>
                    <a:lnTo>
                      <a:pt x="816" y="252"/>
                    </a:lnTo>
                    <a:lnTo>
                      <a:pt x="816" y="258"/>
                    </a:lnTo>
                    <a:lnTo>
                      <a:pt x="810" y="264"/>
                    </a:lnTo>
                    <a:lnTo>
                      <a:pt x="804" y="270"/>
                    </a:lnTo>
                    <a:lnTo>
                      <a:pt x="798" y="276"/>
                    </a:lnTo>
                    <a:lnTo>
                      <a:pt x="792" y="282"/>
                    </a:lnTo>
                    <a:lnTo>
                      <a:pt x="786" y="288"/>
                    </a:lnTo>
                    <a:lnTo>
                      <a:pt x="774" y="288"/>
                    </a:lnTo>
                    <a:lnTo>
                      <a:pt x="768" y="288"/>
                    </a:lnTo>
                    <a:lnTo>
                      <a:pt x="762" y="288"/>
                    </a:lnTo>
                    <a:lnTo>
                      <a:pt x="750" y="288"/>
                    </a:lnTo>
                    <a:lnTo>
                      <a:pt x="744" y="288"/>
                    </a:lnTo>
                    <a:lnTo>
                      <a:pt x="744" y="294"/>
                    </a:lnTo>
                    <a:lnTo>
                      <a:pt x="738" y="312"/>
                    </a:lnTo>
                    <a:lnTo>
                      <a:pt x="738" y="330"/>
                    </a:lnTo>
                    <a:lnTo>
                      <a:pt x="744" y="348"/>
                    </a:lnTo>
                    <a:lnTo>
                      <a:pt x="750" y="366"/>
                    </a:lnTo>
                    <a:lnTo>
                      <a:pt x="756" y="384"/>
                    </a:lnTo>
                    <a:lnTo>
                      <a:pt x="768" y="396"/>
                    </a:lnTo>
                    <a:lnTo>
                      <a:pt x="780" y="402"/>
                    </a:lnTo>
                    <a:lnTo>
                      <a:pt x="786" y="408"/>
                    </a:lnTo>
                    <a:lnTo>
                      <a:pt x="798" y="414"/>
                    </a:lnTo>
                    <a:lnTo>
                      <a:pt x="810" y="414"/>
                    </a:lnTo>
                    <a:lnTo>
                      <a:pt x="816" y="414"/>
                    </a:lnTo>
                    <a:lnTo>
                      <a:pt x="828" y="408"/>
                    </a:lnTo>
                    <a:lnTo>
                      <a:pt x="828" y="414"/>
                    </a:lnTo>
                    <a:lnTo>
                      <a:pt x="822" y="420"/>
                    </a:lnTo>
                    <a:lnTo>
                      <a:pt x="822" y="426"/>
                    </a:lnTo>
                    <a:lnTo>
                      <a:pt x="816" y="432"/>
                    </a:lnTo>
                    <a:lnTo>
                      <a:pt x="810" y="438"/>
                    </a:lnTo>
                    <a:lnTo>
                      <a:pt x="804" y="438"/>
                    </a:lnTo>
                    <a:lnTo>
                      <a:pt x="792" y="444"/>
                    </a:lnTo>
                    <a:lnTo>
                      <a:pt x="786" y="444"/>
                    </a:lnTo>
                    <a:lnTo>
                      <a:pt x="774" y="438"/>
                    </a:lnTo>
                    <a:lnTo>
                      <a:pt x="768" y="438"/>
                    </a:lnTo>
                    <a:lnTo>
                      <a:pt x="762" y="438"/>
                    </a:lnTo>
                    <a:lnTo>
                      <a:pt x="756" y="450"/>
                    </a:lnTo>
                    <a:lnTo>
                      <a:pt x="750" y="474"/>
                    </a:lnTo>
                    <a:lnTo>
                      <a:pt x="744" y="492"/>
                    </a:lnTo>
                    <a:lnTo>
                      <a:pt x="738" y="516"/>
                    </a:lnTo>
                    <a:lnTo>
                      <a:pt x="738" y="534"/>
                    </a:lnTo>
                    <a:lnTo>
                      <a:pt x="744" y="552"/>
                    </a:lnTo>
                    <a:lnTo>
                      <a:pt x="756" y="570"/>
                    </a:lnTo>
                    <a:lnTo>
                      <a:pt x="762" y="576"/>
                    </a:lnTo>
                    <a:lnTo>
                      <a:pt x="768" y="576"/>
                    </a:lnTo>
                    <a:lnTo>
                      <a:pt x="780" y="582"/>
                    </a:lnTo>
                    <a:lnTo>
                      <a:pt x="786" y="582"/>
                    </a:lnTo>
                    <a:lnTo>
                      <a:pt x="792" y="576"/>
                    </a:lnTo>
                    <a:lnTo>
                      <a:pt x="798" y="576"/>
                    </a:lnTo>
                    <a:lnTo>
                      <a:pt x="792" y="588"/>
                    </a:lnTo>
                    <a:lnTo>
                      <a:pt x="786" y="600"/>
                    </a:lnTo>
                    <a:lnTo>
                      <a:pt x="774" y="606"/>
                    </a:lnTo>
                    <a:lnTo>
                      <a:pt x="756" y="606"/>
                    </a:lnTo>
                    <a:lnTo>
                      <a:pt x="744" y="612"/>
                    </a:lnTo>
                    <a:lnTo>
                      <a:pt x="732" y="612"/>
                    </a:lnTo>
                    <a:lnTo>
                      <a:pt x="726" y="606"/>
                    </a:lnTo>
                    <a:lnTo>
                      <a:pt x="720" y="600"/>
                    </a:lnTo>
                    <a:lnTo>
                      <a:pt x="720" y="594"/>
                    </a:lnTo>
                    <a:lnTo>
                      <a:pt x="714" y="594"/>
                    </a:lnTo>
                    <a:lnTo>
                      <a:pt x="708" y="594"/>
                    </a:lnTo>
                    <a:lnTo>
                      <a:pt x="702" y="600"/>
                    </a:lnTo>
                    <a:lnTo>
                      <a:pt x="702" y="606"/>
                    </a:lnTo>
                    <a:lnTo>
                      <a:pt x="702" y="618"/>
                    </a:lnTo>
                    <a:lnTo>
                      <a:pt x="702" y="630"/>
                    </a:lnTo>
                    <a:lnTo>
                      <a:pt x="702" y="636"/>
                    </a:lnTo>
                    <a:lnTo>
                      <a:pt x="702" y="648"/>
                    </a:lnTo>
                    <a:lnTo>
                      <a:pt x="696" y="666"/>
                    </a:lnTo>
                    <a:lnTo>
                      <a:pt x="690" y="684"/>
                    </a:lnTo>
                    <a:lnTo>
                      <a:pt x="684" y="702"/>
                    </a:lnTo>
                    <a:lnTo>
                      <a:pt x="684" y="720"/>
                    </a:lnTo>
                    <a:lnTo>
                      <a:pt x="684" y="744"/>
                    </a:lnTo>
                    <a:lnTo>
                      <a:pt x="690" y="762"/>
                    </a:lnTo>
                    <a:lnTo>
                      <a:pt x="696" y="768"/>
                    </a:lnTo>
                    <a:lnTo>
                      <a:pt x="702" y="774"/>
                    </a:lnTo>
                    <a:lnTo>
                      <a:pt x="714" y="780"/>
                    </a:lnTo>
                    <a:lnTo>
                      <a:pt x="720" y="780"/>
                    </a:lnTo>
                    <a:lnTo>
                      <a:pt x="732" y="786"/>
                    </a:lnTo>
                    <a:lnTo>
                      <a:pt x="738" y="786"/>
                    </a:lnTo>
                    <a:lnTo>
                      <a:pt x="738" y="792"/>
                    </a:lnTo>
                    <a:lnTo>
                      <a:pt x="732" y="792"/>
                    </a:lnTo>
                    <a:lnTo>
                      <a:pt x="726" y="792"/>
                    </a:lnTo>
                    <a:lnTo>
                      <a:pt x="720" y="792"/>
                    </a:lnTo>
                    <a:lnTo>
                      <a:pt x="714" y="798"/>
                    </a:lnTo>
                    <a:lnTo>
                      <a:pt x="702" y="792"/>
                    </a:lnTo>
                    <a:lnTo>
                      <a:pt x="690" y="786"/>
                    </a:lnTo>
                    <a:lnTo>
                      <a:pt x="678" y="780"/>
                    </a:lnTo>
                    <a:lnTo>
                      <a:pt x="672" y="774"/>
                    </a:lnTo>
                    <a:lnTo>
                      <a:pt x="660" y="762"/>
                    </a:lnTo>
                    <a:lnTo>
                      <a:pt x="660" y="750"/>
                    </a:lnTo>
                    <a:lnTo>
                      <a:pt x="648" y="750"/>
                    </a:lnTo>
                    <a:lnTo>
                      <a:pt x="636" y="774"/>
                    </a:lnTo>
                    <a:lnTo>
                      <a:pt x="624" y="798"/>
                    </a:lnTo>
                    <a:lnTo>
                      <a:pt x="618" y="828"/>
                    </a:lnTo>
                    <a:lnTo>
                      <a:pt x="612" y="852"/>
                    </a:lnTo>
                    <a:lnTo>
                      <a:pt x="618" y="882"/>
                    </a:lnTo>
                    <a:lnTo>
                      <a:pt x="624" y="906"/>
                    </a:lnTo>
                    <a:lnTo>
                      <a:pt x="630" y="912"/>
                    </a:lnTo>
                    <a:lnTo>
                      <a:pt x="636" y="918"/>
                    </a:lnTo>
                    <a:lnTo>
                      <a:pt x="636" y="924"/>
                    </a:lnTo>
                    <a:lnTo>
                      <a:pt x="636" y="930"/>
                    </a:lnTo>
                    <a:lnTo>
                      <a:pt x="642" y="936"/>
                    </a:lnTo>
                    <a:lnTo>
                      <a:pt x="642" y="942"/>
                    </a:lnTo>
                    <a:lnTo>
                      <a:pt x="636" y="942"/>
                    </a:lnTo>
                    <a:lnTo>
                      <a:pt x="624" y="942"/>
                    </a:lnTo>
                    <a:lnTo>
                      <a:pt x="612" y="936"/>
                    </a:lnTo>
                    <a:lnTo>
                      <a:pt x="600" y="930"/>
                    </a:lnTo>
                    <a:lnTo>
                      <a:pt x="588" y="924"/>
                    </a:lnTo>
                    <a:lnTo>
                      <a:pt x="576" y="912"/>
                    </a:lnTo>
                    <a:lnTo>
                      <a:pt x="570" y="900"/>
                    </a:lnTo>
                    <a:lnTo>
                      <a:pt x="570" y="882"/>
                    </a:lnTo>
                    <a:lnTo>
                      <a:pt x="570" y="870"/>
                    </a:lnTo>
                    <a:lnTo>
                      <a:pt x="570" y="852"/>
                    </a:lnTo>
                    <a:lnTo>
                      <a:pt x="570" y="834"/>
                    </a:lnTo>
                    <a:lnTo>
                      <a:pt x="570" y="822"/>
                    </a:lnTo>
                    <a:lnTo>
                      <a:pt x="558" y="816"/>
                    </a:lnTo>
                    <a:lnTo>
                      <a:pt x="546" y="816"/>
                    </a:lnTo>
                    <a:lnTo>
                      <a:pt x="540" y="822"/>
                    </a:lnTo>
                    <a:lnTo>
                      <a:pt x="528" y="834"/>
                    </a:lnTo>
                    <a:lnTo>
                      <a:pt x="522" y="840"/>
                    </a:lnTo>
                    <a:lnTo>
                      <a:pt x="510" y="846"/>
                    </a:lnTo>
                    <a:lnTo>
                      <a:pt x="498" y="852"/>
                    </a:lnTo>
                    <a:lnTo>
                      <a:pt x="486" y="858"/>
                    </a:lnTo>
                    <a:lnTo>
                      <a:pt x="480" y="864"/>
                    </a:lnTo>
                    <a:lnTo>
                      <a:pt x="468" y="876"/>
                    </a:lnTo>
                    <a:lnTo>
                      <a:pt x="462" y="888"/>
                    </a:lnTo>
                    <a:lnTo>
                      <a:pt x="456" y="900"/>
                    </a:lnTo>
                    <a:lnTo>
                      <a:pt x="462" y="924"/>
                    </a:lnTo>
                    <a:lnTo>
                      <a:pt x="456" y="924"/>
                    </a:lnTo>
                    <a:lnTo>
                      <a:pt x="444" y="918"/>
                    </a:lnTo>
                    <a:lnTo>
                      <a:pt x="438" y="912"/>
                    </a:lnTo>
                    <a:lnTo>
                      <a:pt x="432" y="906"/>
                    </a:lnTo>
                    <a:lnTo>
                      <a:pt x="426" y="894"/>
                    </a:lnTo>
                    <a:lnTo>
                      <a:pt x="420" y="888"/>
                    </a:lnTo>
                    <a:lnTo>
                      <a:pt x="420" y="876"/>
                    </a:lnTo>
                    <a:lnTo>
                      <a:pt x="420" y="864"/>
                    </a:lnTo>
                    <a:lnTo>
                      <a:pt x="420" y="852"/>
                    </a:lnTo>
                    <a:lnTo>
                      <a:pt x="420" y="840"/>
                    </a:lnTo>
                    <a:lnTo>
                      <a:pt x="420" y="834"/>
                    </a:lnTo>
                    <a:lnTo>
                      <a:pt x="408" y="828"/>
                    </a:lnTo>
                    <a:lnTo>
                      <a:pt x="390" y="828"/>
                    </a:lnTo>
                    <a:lnTo>
                      <a:pt x="378" y="822"/>
                    </a:lnTo>
                    <a:lnTo>
                      <a:pt x="366" y="828"/>
                    </a:lnTo>
                    <a:lnTo>
                      <a:pt x="354" y="828"/>
                    </a:lnTo>
                    <a:lnTo>
                      <a:pt x="342" y="834"/>
                    </a:lnTo>
                    <a:lnTo>
                      <a:pt x="330" y="846"/>
                    </a:lnTo>
                    <a:lnTo>
                      <a:pt x="324" y="858"/>
                    </a:lnTo>
                    <a:lnTo>
                      <a:pt x="318" y="864"/>
                    </a:lnTo>
                    <a:lnTo>
                      <a:pt x="318" y="876"/>
                    </a:lnTo>
                    <a:lnTo>
                      <a:pt x="318" y="888"/>
                    </a:lnTo>
                    <a:lnTo>
                      <a:pt x="324" y="900"/>
                    </a:lnTo>
                    <a:lnTo>
                      <a:pt x="330" y="906"/>
                    </a:lnTo>
                    <a:lnTo>
                      <a:pt x="324" y="906"/>
                    </a:lnTo>
                    <a:lnTo>
                      <a:pt x="318" y="912"/>
                    </a:lnTo>
                    <a:lnTo>
                      <a:pt x="312" y="912"/>
                    </a:lnTo>
                    <a:lnTo>
                      <a:pt x="306" y="912"/>
                    </a:lnTo>
                    <a:lnTo>
                      <a:pt x="306" y="906"/>
                    </a:lnTo>
                    <a:lnTo>
                      <a:pt x="300" y="894"/>
                    </a:lnTo>
                    <a:lnTo>
                      <a:pt x="294" y="888"/>
                    </a:lnTo>
                    <a:lnTo>
                      <a:pt x="294" y="882"/>
                    </a:lnTo>
                    <a:lnTo>
                      <a:pt x="288" y="870"/>
                    </a:lnTo>
                    <a:lnTo>
                      <a:pt x="282" y="864"/>
                    </a:lnTo>
                    <a:lnTo>
                      <a:pt x="288" y="852"/>
                    </a:lnTo>
                    <a:lnTo>
                      <a:pt x="282" y="852"/>
                    </a:lnTo>
                    <a:lnTo>
                      <a:pt x="282" y="846"/>
                    </a:lnTo>
                    <a:lnTo>
                      <a:pt x="276" y="846"/>
                    </a:lnTo>
                    <a:lnTo>
                      <a:pt x="270" y="846"/>
                    </a:lnTo>
                    <a:lnTo>
                      <a:pt x="264" y="852"/>
                    </a:lnTo>
                    <a:lnTo>
                      <a:pt x="258" y="858"/>
                    </a:lnTo>
                    <a:lnTo>
                      <a:pt x="252" y="864"/>
                    </a:lnTo>
                    <a:lnTo>
                      <a:pt x="246" y="870"/>
                    </a:lnTo>
                    <a:lnTo>
                      <a:pt x="240" y="876"/>
                    </a:lnTo>
                    <a:lnTo>
                      <a:pt x="234" y="888"/>
                    </a:lnTo>
                    <a:lnTo>
                      <a:pt x="246" y="912"/>
                    </a:lnTo>
                    <a:lnTo>
                      <a:pt x="234" y="900"/>
                    </a:lnTo>
                    <a:lnTo>
                      <a:pt x="228" y="888"/>
                    </a:lnTo>
                    <a:lnTo>
                      <a:pt x="222" y="876"/>
                    </a:lnTo>
                    <a:lnTo>
                      <a:pt x="222" y="858"/>
                    </a:lnTo>
                    <a:lnTo>
                      <a:pt x="216" y="846"/>
                    </a:lnTo>
                    <a:lnTo>
                      <a:pt x="210" y="834"/>
                    </a:lnTo>
                    <a:lnTo>
                      <a:pt x="204" y="834"/>
                    </a:lnTo>
                    <a:lnTo>
                      <a:pt x="198" y="840"/>
                    </a:lnTo>
                    <a:lnTo>
                      <a:pt x="192" y="840"/>
                    </a:lnTo>
                    <a:lnTo>
                      <a:pt x="192" y="846"/>
                    </a:lnTo>
                    <a:lnTo>
                      <a:pt x="186" y="846"/>
                    </a:lnTo>
                    <a:lnTo>
                      <a:pt x="186" y="852"/>
                    </a:lnTo>
                    <a:lnTo>
                      <a:pt x="168" y="858"/>
                    </a:lnTo>
                    <a:lnTo>
                      <a:pt x="150" y="870"/>
                    </a:lnTo>
                    <a:lnTo>
                      <a:pt x="132" y="876"/>
                    </a:lnTo>
                    <a:lnTo>
                      <a:pt x="108" y="882"/>
                    </a:lnTo>
                    <a:lnTo>
                      <a:pt x="96" y="894"/>
                    </a:lnTo>
                    <a:lnTo>
                      <a:pt x="78" y="906"/>
                    </a:lnTo>
                    <a:lnTo>
                      <a:pt x="90" y="882"/>
                    </a:lnTo>
                    <a:lnTo>
                      <a:pt x="102" y="852"/>
                    </a:lnTo>
                    <a:lnTo>
                      <a:pt x="120" y="828"/>
                    </a:lnTo>
                    <a:lnTo>
                      <a:pt x="144" y="804"/>
                    </a:lnTo>
                    <a:lnTo>
                      <a:pt x="162" y="786"/>
                    </a:lnTo>
                    <a:lnTo>
                      <a:pt x="186" y="768"/>
                    </a:lnTo>
                    <a:lnTo>
                      <a:pt x="192" y="762"/>
                    </a:lnTo>
                    <a:lnTo>
                      <a:pt x="186" y="762"/>
                    </a:lnTo>
                    <a:lnTo>
                      <a:pt x="186" y="756"/>
                    </a:lnTo>
                    <a:lnTo>
                      <a:pt x="180" y="756"/>
                    </a:lnTo>
                    <a:lnTo>
                      <a:pt x="174" y="756"/>
                    </a:lnTo>
                    <a:lnTo>
                      <a:pt x="168" y="750"/>
                    </a:lnTo>
                    <a:lnTo>
                      <a:pt x="162" y="744"/>
                    </a:lnTo>
                    <a:lnTo>
                      <a:pt x="156" y="732"/>
                    </a:lnTo>
                    <a:lnTo>
                      <a:pt x="150" y="720"/>
                    </a:lnTo>
                    <a:lnTo>
                      <a:pt x="150" y="714"/>
                    </a:lnTo>
                    <a:lnTo>
                      <a:pt x="144" y="708"/>
                    </a:lnTo>
                    <a:lnTo>
                      <a:pt x="138" y="708"/>
                    </a:lnTo>
                    <a:lnTo>
                      <a:pt x="132" y="720"/>
                    </a:lnTo>
                    <a:lnTo>
                      <a:pt x="126" y="732"/>
                    </a:lnTo>
                    <a:lnTo>
                      <a:pt x="114" y="738"/>
                    </a:lnTo>
                    <a:lnTo>
                      <a:pt x="102" y="744"/>
                    </a:lnTo>
                    <a:lnTo>
                      <a:pt x="90" y="756"/>
                    </a:lnTo>
                    <a:lnTo>
                      <a:pt x="78" y="762"/>
                    </a:lnTo>
                    <a:lnTo>
                      <a:pt x="66" y="762"/>
                    </a:lnTo>
                    <a:lnTo>
                      <a:pt x="54" y="756"/>
                    </a:lnTo>
                    <a:lnTo>
                      <a:pt x="36" y="750"/>
                    </a:lnTo>
                    <a:lnTo>
                      <a:pt x="24" y="744"/>
                    </a:lnTo>
                    <a:lnTo>
                      <a:pt x="12" y="732"/>
                    </a:lnTo>
                    <a:lnTo>
                      <a:pt x="6" y="720"/>
                    </a:lnTo>
                    <a:lnTo>
                      <a:pt x="0" y="708"/>
                    </a:lnTo>
                    <a:lnTo>
                      <a:pt x="12" y="714"/>
                    </a:lnTo>
                    <a:lnTo>
                      <a:pt x="24" y="720"/>
                    </a:lnTo>
                    <a:lnTo>
                      <a:pt x="36" y="720"/>
                    </a:lnTo>
                    <a:lnTo>
                      <a:pt x="48" y="726"/>
                    </a:lnTo>
                    <a:lnTo>
                      <a:pt x="66" y="726"/>
                    </a:lnTo>
                    <a:lnTo>
                      <a:pt x="78" y="720"/>
                    </a:lnTo>
                    <a:lnTo>
                      <a:pt x="90" y="714"/>
                    </a:lnTo>
                    <a:lnTo>
                      <a:pt x="102" y="702"/>
                    </a:lnTo>
                    <a:lnTo>
                      <a:pt x="114" y="690"/>
                    </a:lnTo>
                    <a:lnTo>
                      <a:pt x="120" y="678"/>
                    </a:lnTo>
                    <a:lnTo>
                      <a:pt x="120" y="660"/>
                    </a:lnTo>
                    <a:lnTo>
                      <a:pt x="120" y="648"/>
                    </a:lnTo>
                    <a:lnTo>
                      <a:pt x="114" y="636"/>
                    </a:lnTo>
                    <a:lnTo>
                      <a:pt x="102" y="630"/>
                    </a:lnTo>
                    <a:lnTo>
                      <a:pt x="96" y="618"/>
                    </a:lnTo>
                    <a:lnTo>
                      <a:pt x="90" y="612"/>
                    </a:lnTo>
                    <a:lnTo>
                      <a:pt x="84" y="600"/>
                    </a:lnTo>
                    <a:lnTo>
                      <a:pt x="78" y="588"/>
                    </a:lnTo>
                    <a:lnTo>
                      <a:pt x="78" y="582"/>
                    </a:lnTo>
                    <a:lnTo>
                      <a:pt x="84" y="582"/>
                    </a:lnTo>
                    <a:lnTo>
                      <a:pt x="84" y="576"/>
                    </a:lnTo>
                    <a:lnTo>
                      <a:pt x="90" y="582"/>
                    </a:lnTo>
                    <a:lnTo>
                      <a:pt x="96" y="582"/>
                    </a:lnTo>
                    <a:lnTo>
                      <a:pt x="102" y="588"/>
                    </a:lnTo>
                    <a:lnTo>
                      <a:pt x="108" y="588"/>
                    </a:lnTo>
                    <a:lnTo>
                      <a:pt x="114" y="582"/>
                    </a:lnTo>
                    <a:lnTo>
                      <a:pt x="120" y="582"/>
                    </a:lnTo>
                    <a:lnTo>
                      <a:pt x="132" y="582"/>
                    </a:lnTo>
                    <a:lnTo>
                      <a:pt x="138" y="576"/>
                    </a:lnTo>
                    <a:lnTo>
                      <a:pt x="144" y="570"/>
                    </a:lnTo>
                    <a:lnTo>
                      <a:pt x="150" y="564"/>
                    </a:lnTo>
                    <a:lnTo>
                      <a:pt x="156" y="558"/>
                    </a:lnTo>
                    <a:lnTo>
                      <a:pt x="162" y="546"/>
                    </a:lnTo>
                    <a:lnTo>
                      <a:pt x="162" y="534"/>
                    </a:lnTo>
                    <a:lnTo>
                      <a:pt x="156" y="528"/>
                    </a:lnTo>
                    <a:lnTo>
                      <a:pt x="144" y="516"/>
                    </a:lnTo>
                    <a:lnTo>
                      <a:pt x="138" y="504"/>
                    </a:lnTo>
                    <a:lnTo>
                      <a:pt x="132" y="492"/>
                    </a:lnTo>
                    <a:lnTo>
                      <a:pt x="132" y="480"/>
                    </a:lnTo>
                    <a:lnTo>
                      <a:pt x="132" y="468"/>
                    </a:lnTo>
                    <a:lnTo>
                      <a:pt x="132" y="456"/>
                    </a:lnTo>
                    <a:lnTo>
                      <a:pt x="138" y="450"/>
                    </a:lnTo>
                    <a:lnTo>
                      <a:pt x="144" y="438"/>
                    </a:lnTo>
                    <a:lnTo>
                      <a:pt x="150" y="426"/>
                    </a:lnTo>
                    <a:lnTo>
                      <a:pt x="156" y="414"/>
                    </a:lnTo>
                    <a:lnTo>
                      <a:pt x="156" y="426"/>
                    </a:lnTo>
                    <a:lnTo>
                      <a:pt x="162" y="444"/>
                    </a:lnTo>
                    <a:lnTo>
                      <a:pt x="168" y="456"/>
                    </a:lnTo>
                    <a:lnTo>
                      <a:pt x="180" y="468"/>
                    </a:lnTo>
                    <a:lnTo>
                      <a:pt x="192" y="480"/>
                    </a:lnTo>
                    <a:lnTo>
                      <a:pt x="204" y="492"/>
                    </a:lnTo>
                    <a:lnTo>
                      <a:pt x="204" y="498"/>
                    </a:lnTo>
                    <a:lnTo>
                      <a:pt x="210" y="498"/>
                    </a:lnTo>
                    <a:lnTo>
                      <a:pt x="216" y="498"/>
                    </a:lnTo>
                    <a:lnTo>
                      <a:pt x="222" y="498"/>
                    </a:lnTo>
                    <a:lnTo>
                      <a:pt x="228" y="492"/>
                    </a:lnTo>
                    <a:lnTo>
                      <a:pt x="228" y="486"/>
                    </a:lnTo>
                    <a:lnTo>
                      <a:pt x="234" y="474"/>
                    </a:lnTo>
                    <a:lnTo>
                      <a:pt x="234" y="462"/>
                    </a:lnTo>
                    <a:lnTo>
                      <a:pt x="240" y="450"/>
                    </a:lnTo>
                    <a:lnTo>
                      <a:pt x="240" y="438"/>
                    </a:lnTo>
                    <a:lnTo>
                      <a:pt x="252" y="426"/>
                    </a:lnTo>
                    <a:lnTo>
                      <a:pt x="252" y="438"/>
                    </a:lnTo>
                    <a:lnTo>
                      <a:pt x="252" y="444"/>
                    </a:lnTo>
                    <a:lnTo>
                      <a:pt x="258" y="456"/>
                    </a:lnTo>
                    <a:lnTo>
                      <a:pt x="258" y="462"/>
                    </a:lnTo>
                    <a:lnTo>
                      <a:pt x="264" y="468"/>
                    </a:lnTo>
                    <a:lnTo>
                      <a:pt x="270" y="474"/>
                    </a:lnTo>
                    <a:lnTo>
                      <a:pt x="294" y="480"/>
                    </a:lnTo>
                    <a:lnTo>
                      <a:pt x="312" y="486"/>
                    </a:lnTo>
                    <a:lnTo>
                      <a:pt x="336" y="480"/>
                    </a:lnTo>
                    <a:lnTo>
                      <a:pt x="360" y="474"/>
                    </a:lnTo>
                    <a:lnTo>
                      <a:pt x="378" y="462"/>
                    </a:lnTo>
                    <a:lnTo>
                      <a:pt x="396" y="450"/>
                    </a:lnTo>
                    <a:lnTo>
                      <a:pt x="402" y="438"/>
                    </a:lnTo>
                    <a:lnTo>
                      <a:pt x="408" y="438"/>
                    </a:lnTo>
                    <a:lnTo>
                      <a:pt x="414" y="438"/>
                    </a:lnTo>
                    <a:lnTo>
                      <a:pt x="420" y="438"/>
                    </a:lnTo>
                    <a:lnTo>
                      <a:pt x="426" y="444"/>
                    </a:lnTo>
                    <a:lnTo>
                      <a:pt x="432" y="444"/>
                    </a:lnTo>
                    <a:lnTo>
                      <a:pt x="438" y="450"/>
                    </a:lnTo>
                    <a:lnTo>
                      <a:pt x="438" y="456"/>
                    </a:lnTo>
                    <a:lnTo>
                      <a:pt x="438" y="462"/>
                    </a:lnTo>
                    <a:lnTo>
                      <a:pt x="438" y="468"/>
                    </a:lnTo>
                    <a:lnTo>
                      <a:pt x="444" y="468"/>
                    </a:lnTo>
                    <a:lnTo>
                      <a:pt x="456" y="462"/>
                    </a:lnTo>
                    <a:lnTo>
                      <a:pt x="462" y="456"/>
                    </a:lnTo>
                    <a:lnTo>
                      <a:pt x="468" y="450"/>
                    </a:lnTo>
                    <a:lnTo>
                      <a:pt x="474" y="444"/>
                    </a:lnTo>
                    <a:lnTo>
                      <a:pt x="486" y="438"/>
                    </a:lnTo>
                    <a:lnTo>
                      <a:pt x="486" y="444"/>
                    </a:lnTo>
                    <a:lnTo>
                      <a:pt x="486" y="450"/>
                    </a:lnTo>
                    <a:lnTo>
                      <a:pt x="492" y="456"/>
                    </a:lnTo>
                    <a:lnTo>
                      <a:pt x="498" y="462"/>
                    </a:lnTo>
                    <a:lnTo>
                      <a:pt x="504" y="468"/>
                    </a:lnTo>
                    <a:lnTo>
                      <a:pt x="510" y="468"/>
                    </a:lnTo>
                    <a:lnTo>
                      <a:pt x="516" y="462"/>
                    </a:lnTo>
                    <a:lnTo>
                      <a:pt x="522" y="456"/>
                    </a:lnTo>
                    <a:lnTo>
                      <a:pt x="528" y="444"/>
                    </a:lnTo>
                    <a:lnTo>
                      <a:pt x="534" y="438"/>
                    </a:lnTo>
                    <a:lnTo>
                      <a:pt x="540" y="432"/>
                    </a:lnTo>
                    <a:lnTo>
                      <a:pt x="552" y="438"/>
                    </a:lnTo>
                    <a:lnTo>
                      <a:pt x="564" y="450"/>
                    </a:lnTo>
                    <a:lnTo>
                      <a:pt x="576" y="456"/>
                    </a:lnTo>
                    <a:lnTo>
                      <a:pt x="582" y="462"/>
                    </a:lnTo>
                    <a:lnTo>
                      <a:pt x="594" y="468"/>
                    </a:lnTo>
                    <a:lnTo>
                      <a:pt x="606" y="468"/>
                    </a:lnTo>
                    <a:lnTo>
                      <a:pt x="618" y="468"/>
                    </a:lnTo>
                    <a:lnTo>
                      <a:pt x="624" y="462"/>
                    </a:lnTo>
                    <a:lnTo>
                      <a:pt x="630" y="462"/>
                    </a:lnTo>
                    <a:lnTo>
                      <a:pt x="642" y="456"/>
                    </a:lnTo>
                    <a:lnTo>
                      <a:pt x="648" y="450"/>
                    </a:lnTo>
                    <a:lnTo>
                      <a:pt x="648" y="444"/>
                    </a:lnTo>
                    <a:lnTo>
                      <a:pt x="642" y="438"/>
                    </a:lnTo>
                    <a:lnTo>
                      <a:pt x="630" y="432"/>
                    </a:lnTo>
                    <a:lnTo>
                      <a:pt x="624" y="426"/>
                    </a:lnTo>
                    <a:lnTo>
                      <a:pt x="618" y="414"/>
                    </a:lnTo>
                    <a:lnTo>
                      <a:pt x="618" y="408"/>
                    </a:lnTo>
                    <a:lnTo>
                      <a:pt x="618" y="396"/>
                    </a:lnTo>
                    <a:lnTo>
                      <a:pt x="624" y="396"/>
                    </a:lnTo>
                    <a:lnTo>
                      <a:pt x="636" y="396"/>
                    </a:lnTo>
                    <a:lnTo>
                      <a:pt x="642" y="396"/>
                    </a:lnTo>
                    <a:lnTo>
                      <a:pt x="654" y="396"/>
                    </a:lnTo>
                    <a:lnTo>
                      <a:pt x="660" y="396"/>
                    </a:lnTo>
                    <a:lnTo>
                      <a:pt x="666" y="390"/>
                    </a:lnTo>
                    <a:lnTo>
                      <a:pt x="666" y="384"/>
                    </a:lnTo>
                    <a:lnTo>
                      <a:pt x="672" y="378"/>
                    </a:lnTo>
                    <a:lnTo>
                      <a:pt x="666" y="372"/>
                    </a:lnTo>
                    <a:lnTo>
                      <a:pt x="666" y="366"/>
                    </a:lnTo>
                    <a:lnTo>
                      <a:pt x="660" y="360"/>
                    </a:lnTo>
                    <a:lnTo>
                      <a:pt x="654" y="354"/>
                    </a:lnTo>
                    <a:lnTo>
                      <a:pt x="648" y="354"/>
                    </a:lnTo>
                    <a:lnTo>
                      <a:pt x="648" y="348"/>
                    </a:lnTo>
                    <a:lnTo>
                      <a:pt x="642" y="348"/>
                    </a:lnTo>
                    <a:lnTo>
                      <a:pt x="648" y="342"/>
                    </a:lnTo>
                    <a:lnTo>
                      <a:pt x="654" y="342"/>
                    </a:lnTo>
                    <a:lnTo>
                      <a:pt x="660" y="342"/>
                    </a:lnTo>
                    <a:lnTo>
                      <a:pt x="666" y="336"/>
                    </a:lnTo>
                    <a:lnTo>
                      <a:pt x="672" y="330"/>
                    </a:lnTo>
                    <a:lnTo>
                      <a:pt x="672" y="318"/>
                    </a:lnTo>
                    <a:lnTo>
                      <a:pt x="666" y="312"/>
                    </a:lnTo>
                    <a:lnTo>
                      <a:pt x="660" y="306"/>
                    </a:lnTo>
                    <a:lnTo>
                      <a:pt x="660" y="300"/>
                    </a:lnTo>
                    <a:lnTo>
                      <a:pt x="654" y="294"/>
                    </a:lnTo>
                    <a:lnTo>
                      <a:pt x="654" y="282"/>
                    </a:lnTo>
                    <a:lnTo>
                      <a:pt x="648" y="282"/>
                    </a:lnTo>
                    <a:lnTo>
                      <a:pt x="648" y="276"/>
                    </a:lnTo>
                    <a:lnTo>
                      <a:pt x="642" y="276"/>
                    </a:lnTo>
                    <a:lnTo>
                      <a:pt x="636" y="270"/>
                    </a:lnTo>
                    <a:lnTo>
                      <a:pt x="630" y="276"/>
                    </a:lnTo>
                    <a:lnTo>
                      <a:pt x="630" y="282"/>
                    </a:lnTo>
                    <a:lnTo>
                      <a:pt x="636" y="288"/>
                    </a:lnTo>
                    <a:lnTo>
                      <a:pt x="636" y="294"/>
                    </a:lnTo>
                    <a:lnTo>
                      <a:pt x="642" y="300"/>
                    </a:lnTo>
                    <a:lnTo>
                      <a:pt x="642" y="306"/>
                    </a:lnTo>
                    <a:lnTo>
                      <a:pt x="654" y="324"/>
                    </a:lnTo>
                    <a:lnTo>
                      <a:pt x="648" y="324"/>
                    </a:lnTo>
                    <a:lnTo>
                      <a:pt x="642" y="330"/>
                    </a:lnTo>
                    <a:lnTo>
                      <a:pt x="636" y="330"/>
                    </a:lnTo>
                    <a:lnTo>
                      <a:pt x="630" y="330"/>
                    </a:lnTo>
                    <a:lnTo>
                      <a:pt x="630" y="336"/>
                    </a:lnTo>
                    <a:lnTo>
                      <a:pt x="624" y="342"/>
                    </a:lnTo>
                    <a:lnTo>
                      <a:pt x="630" y="348"/>
                    </a:lnTo>
                    <a:lnTo>
                      <a:pt x="636" y="354"/>
                    </a:lnTo>
                    <a:lnTo>
                      <a:pt x="642" y="360"/>
                    </a:lnTo>
                    <a:lnTo>
                      <a:pt x="648" y="366"/>
                    </a:lnTo>
                    <a:lnTo>
                      <a:pt x="648" y="372"/>
                    </a:lnTo>
                    <a:lnTo>
                      <a:pt x="654" y="378"/>
                    </a:lnTo>
                    <a:lnTo>
                      <a:pt x="642" y="384"/>
                    </a:lnTo>
                    <a:lnTo>
                      <a:pt x="636" y="384"/>
                    </a:lnTo>
                    <a:lnTo>
                      <a:pt x="630" y="384"/>
                    </a:lnTo>
                    <a:lnTo>
                      <a:pt x="618" y="378"/>
                    </a:lnTo>
                    <a:lnTo>
                      <a:pt x="612" y="378"/>
                    </a:lnTo>
                    <a:lnTo>
                      <a:pt x="606" y="384"/>
                    </a:lnTo>
                    <a:lnTo>
                      <a:pt x="600" y="396"/>
                    </a:lnTo>
                    <a:lnTo>
                      <a:pt x="600" y="408"/>
                    </a:lnTo>
                    <a:lnTo>
                      <a:pt x="606" y="420"/>
                    </a:lnTo>
                    <a:lnTo>
                      <a:pt x="606" y="426"/>
                    </a:lnTo>
                    <a:lnTo>
                      <a:pt x="618" y="438"/>
                    </a:lnTo>
                    <a:lnTo>
                      <a:pt x="630" y="450"/>
                    </a:lnTo>
                    <a:lnTo>
                      <a:pt x="606" y="456"/>
                    </a:lnTo>
                    <a:lnTo>
                      <a:pt x="588" y="450"/>
                    </a:lnTo>
                    <a:lnTo>
                      <a:pt x="576" y="438"/>
                    </a:lnTo>
                    <a:lnTo>
                      <a:pt x="558" y="426"/>
                    </a:lnTo>
                    <a:lnTo>
                      <a:pt x="546" y="420"/>
                    </a:lnTo>
                    <a:lnTo>
                      <a:pt x="528" y="426"/>
                    </a:lnTo>
                    <a:lnTo>
                      <a:pt x="510" y="450"/>
                    </a:lnTo>
                    <a:lnTo>
                      <a:pt x="504" y="450"/>
                    </a:lnTo>
                    <a:lnTo>
                      <a:pt x="504" y="444"/>
                    </a:lnTo>
                    <a:lnTo>
                      <a:pt x="498" y="438"/>
                    </a:lnTo>
                    <a:lnTo>
                      <a:pt x="498" y="426"/>
                    </a:lnTo>
                    <a:lnTo>
                      <a:pt x="492" y="420"/>
                    </a:lnTo>
                    <a:lnTo>
                      <a:pt x="486" y="420"/>
                    </a:lnTo>
                    <a:lnTo>
                      <a:pt x="480" y="420"/>
                    </a:lnTo>
                    <a:lnTo>
                      <a:pt x="474" y="426"/>
                    </a:lnTo>
                    <a:lnTo>
                      <a:pt x="468" y="426"/>
                    </a:lnTo>
                    <a:lnTo>
                      <a:pt x="462" y="432"/>
                    </a:lnTo>
                    <a:lnTo>
                      <a:pt x="456" y="438"/>
                    </a:lnTo>
                    <a:lnTo>
                      <a:pt x="450" y="444"/>
                    </a:lnTo>
                    <a:lnTo>
                      <a:pt x="444" y="432"/>
                    </a:lnTo>
                    <a:lnTo>
                      <a:pt x="438" y="432"/>
                    </a:lnTo>
                    <a:lnTo>
                      <a:pt x="426" y="426"/>
                    </a:lnTo>
                    <a:lnTo>
                      <a:pt x="414" y="426"/>
                    </a:lnTo>
                    <a:lnTo>
                      <a:pt x="408" y="420"/>
                    </a:lnTo>
                    <a:lnTo>
                      <a:pt x="402" y="408"/>
                    </a:lnTo>
                    <a:lnTo>
                      <a:pt x="396" y="408"/>
                    </a:lnTo>
                    <a:lnTo>
                      <a:pt x="390" y="402"/>
                    </a:lnTo>
                    <a:lnTo>
                      <a:pt x="384" y="402"/>
                    </a:lnTo>
                    <a:lnTo>
                      <a:pt x="378" y="402"/>
                    </a:lnTo>
                    <a:lnTo>
                      <a:pt x="372" y="402"/>
                    </a:lnTo>
                    <a:lnTo>
                      <a:pt x="348" y="420"/>
                    </a:lnTo>
                    <a:lnTo>
                      <a:pt x="348" y="414"/>
                    </a:lnTo>
                    <a:lnTo>
                      <a:pt x="348" y="408"/>
                    </a:lnTo>
                    <a:lnTo>
                      <a:pt x="342" y="402"/>
                    </a:lnTo>
                    <a:lnTo>
                      <a:pt x="342" y="396"/>
                    </a:lnTo>
                    <a:lnTo>
                      <a:pt x="336" y="396"/>
                    </a:lnTo>
                    <a:lnTo>
                      <a:pt x="330" y="396"/>
                    </a:lnTo>
                    <a:lnTo>
                      <a:pt x="324" y="396"/>
                    </a:lnTo>
                    <a:lnTo>
                      <a:pt x="318" y="396"/>
                    </a:lnTo>
                    <a:lnTo>
                      <a:pt x="318" y="402"/>
                    </a:lnTo>
                    <a:lnTo>
                      <a:pt x="312" y="396"/>
                    </a:lnTo>
                    <a:lnTo>
                      <a:pt x="312" y="390"/>
                    </a:lnTo>
                    <a:lnTo>
                      <a:pt x="306" y="378"/>
                    </a:lnTo>
                    <a:lnTo>
                      <a:pt x="306" y="366"/>
                    </a:lnTo>
                    <a:lnTo>
                      <a:pt x="300" y="354"/>
                    </a:lnTo>
                    <a:lnTo>
                      <a:pt x="306" y="342"/>
                    </a:lnTo>
                    <a:lnTo>
                      <a:pt x="312" y="336"/>
                    </a:lnTo>
                    <a:lnTo>
                      <a:pt x="318" y="342"/>
                    </a:lnTo>
                    <a:lnTo>
                      <a:pt x="324" y="342"/>
                    </a:lnTo>
                    <a:lnTo>
                      <a:pt x="330" y="348"/>
                    </a:lnTo>
                    <a:lnTo>
                      <a:pt x="336" y="354"/>
                    </a:lnTo>
                    <a:lnTo>
                      <a:pt x="342" y="360"/>
                    </a:lnTo>
                    <a:lnTo>
                      <a:pt x="348" y="360"/>
                    </a:lnTo>
                    <a:lnTo>
                      <a:pt x="354" y="354"/>
                    </a:lnTo>
                    <a:lnTo>
                      <a:pt x="366" y="354"/>
                    </a:lnTo>
                    <a:lnTo>
                      <a:pt x="378" y="354"/>
                    </a:lnTo>
                    <a:lnTo>
                      <a:pt x="384" y="354"/>
                    </a:lnTo>
                    <a:lnTo>
                      <a:pt x="396" y="360"/>
                    </a:lnTo>
                    <a:lnTo>
                      <a:pt x="408" y="360"/>
                    </a:lnTo>
                    <a:lnTo>
                      <a:pt x="414" y="366"/>
                    </a:lnTo>
                    <a:lnTo>
                      <a:pt x="420" y="366"/>
                    </a:lnTo>
                    <a:lnTo>
                      <a:pt x="432" y="366"/>
                    </a:lnTo>
                    <a:lnTo>
                      <a:pt x="438" y="366"/>
                    </a:lnTo>
                    <a:lnTo>
                      <a:pt x="444" y="366"/>
                    </a:lnTo>
                    <a:lnTo>
                      <a:pt x="450" y="360"/>
                    </a:lnTo>
                    <a:lnTo>
                      <a:pt x="462" y="360"/>
                    </a:lnTo>
                    <a:lnTo>
                      <a:pt x="468" y="354"/>
                    </a:lnTo>
                    <a:lnTo>
                      <a:pt x="480" y="348"/>
                    </a:lnTo>
                    <a:lnTo>
                      <a:pt x="486" y="342"/>
                    </a:lnTo>
                    <a:lnTo>
                      <a:pt x="492" y="336"/>
                    </a:lnTo>
                    <a:lnTo>
                      <a:pt x="498" y="324"/>
                    </a:lnTo>
                    <a:lnTo>
                      <a:pt x="492" y="306"/>
                    </a:lnTo>
                    <a:lnTo>
                      <a:pt x="486" y="294"/>
                    </a:lnTo>
                    <a:lnTo>
                      <a:pt x="480" y="276"/>
                    </a:lnTo>
                    <a:lnTo>
                      <a:pt x="468" y="264"/>
                    </a:lnTo>
                    <a:lnTo>
                      <a:pt x="456" y="252"/>
                    </a:lnTo>
                    <a:lnTo>
                      <a:pt x="438" y="246"/>
                    </a:lnTo>
                    <a:lnTo>
                      <a:pt x="420" y="240"/>
                    </a:lnTo>
                    <a:lnTo>
                      <a:pt x="402" y="234"/>
                    </a:lnTo>
                    <a:lnTo>
                      <a:pt x="378" y="222"/>
                    </a:lnTo>
                    <a:lnTo>
                      <a:pt x="360" y="216"/>
                    </a:lnTo>
                    <a:lnTo>
                      <a:pt x="342" y="216"/>
                    </a:lnTo>
                    <a:lnTo>
                      <a:pt x="318" y="216"/>
                    </a:lnTo>
                    <a:lnTo>
                      <a:pt x="312" y="216"/>
                    </a:lnTo>
                    <a:lnTo>
                      <a:pt x="312" y="210"/>
                    </a:lnTo>
                    <a:lnTo>
                      <a:pt x="306" y="210"/>
                    </a:lnTo>
                    <a:lnTo>
                      <a:pt x="306" y="204"/>
                    </a:lnTo>
                    <a:lnTo>
                      <a:pt x="306" y="198"/>
                    </a:lnTo>
                    <a:lnTo>
                      <a:pt x="300" y="192"/>
                    </a:lnTo>
                    <a:lnTo>
                      <a:pt x="300" y="186"/>
                    </a:lnTo>
                    <a:lnTo>
                      <a:pt x="294" y="186"/>
                    </a:lnTo>
                    <a:lnTo>
                      <a:pt x="288" y="180"/>
                    </a:lnTo>
                    <a:lnTo>
                      <a:pt x="282" y="174"/>
                    </a:lnTo>
                    <a:lnTo>
                      <a:pt x="276" y="174"/>
                    </a:lnTo>
                    <a:lnTo>
                      <a:pt x="276" y="168"/>
                    </a:lnTo>
                    <a:lnTo>
                      <a:pt x="276" y="156"/>
                    </a:lnTo>
                    <a:lnTo>
                      <a:pt x="276" y="150"/>
                    </a:lnTo>
                    <a:lnTo>
                      <a:pt x="282" y="144"/>
                    </a:lnTo>
                    <a:lnTo>
                      <a:pt x="288" y="138"/>
                    </a:lnTo>
                    <a:lnTo>
                      <a:pt x="294" y="132"/>
                    </a:lnTo>
                    <a:lnTo>
                      <a:pt x="294" y="126"/>
                    </a:lnTo>
                    <a:lnTo>
                      <a:pt x="270" y="114"/>
                    </a:lnTo>
                    <a:lnTo>
                      <a:pt x="276" y="108"/>
                    </a:lnTo>
                    <a:lnTo>
                      <a:pt x="282" y="102"/>
                    </a:lnTo>
                    <a:lnTo>
                      <a:pt x="294" y="102"/>
                    </a:lnTo>
                    <a:lnTo>
                      <a:pt x="306" y="102"/>
                    </a:lnTo>
                    <a:lnTo>
                      <a:pt x="318" y="102"/>
                    </a:lnTo>
                    <a:lnTo>
                      <a:pt x="324" y="96"/>
                    </a:lnTo>
                    <a:lnTo>
                      <a:pt x="342" y="102"/>
                    </a:lnTo>
                    <a:lnTo>
                      <a:pt x="354" y="96"/>
                    </a:lnTo>
                    <a:lnTo>
                      <a:pt x="366" y="96"/>
                    </a:lnTo>
                    <a:lnTo>
                      <a:pt x="384" y="90"/>
                    </a:lnTo>
                    <a:lnTo>
                      <a:pt x="396" y="84"/>
                    </a:lnTo>
                    <a:lnTo>
                      <a:pt x="414" y="84"/>
                    </a:lnTo>
                    <a:lnTo>
                      <a:pt x="444" y="66"/>
                    </a:lnTo>
                    <a:lnTo>
                      <a:pt x="474" y="48"/>
                    </a:lnTo>
                    <a:lnTo>
                      <a:pt x="510" y="42"/>
                    </a:lnTo>
                    <a:lnTo>
                      <a:pt x="546" y="42"/>
                    </a:lnTo>
                    <a:lnTo>
                      <a:pt x="582" y="48"/>
                    </a:lnTo>
                    <a:lnTo>
                      <a:pt x="618" y="66"/>
                    </a:lnTo>
                    <a:lnTo>
                      <a:pt x="624" y="60"/>
                    </a:lnTo>
                    <a:lnTo>
                      <a:pt x="630" y="60"/>
                    </a:lnTo>
                    <a:lnTo>
                      <a:pt x="630" y="54"/>
                    </a:lnTo>
                    <a:lnTo>
                      <a:pt x="636" y="48"/>
                    </a:lnTo>
                    <a:lnTo>
                      <a:pt x="636" y="42"/>
                    </a:lnTo>
                    <a:lnTo>
                      <a:pt x="642" y="36"/>
                    </a:lnTo>
                    <a:lnTo>
                      <a:pt x="642" y="30"/>
                    </a:lnTo>
                    <a:lnTo>
                      <a:pt x="642" y="24"/>
                    </a:lnTo>
                    <a:lnTo>
                      <a:pt x="642" y="18"/>
                    </a:lnTo>
                    <a:lnTo>
                      <a:pt x="642" y="12"/>
                    </a:lnTo>
                    <a:lnTo>
                      <a:pt x="636" y="6"/>
                    </a:lnTo>
                    <a:lnTo>
                      <a:pt x="636" y="0"/>
                    </a:lnTo>
                    <a:lnTo>
                      <a:pt x="642" y="6"/>
                    </a:lnTo>
                    <a:lnTo>
                      <a:pt x="654" y="6"/>
                    </a:lnTo>
                    <a:lnTo>
                      <a:pt x="660" y="12"/>
                    </a:lnTo>
                    <a:lnTo>
                      <a:pt x="666" y="18"/>
                    </a:lnTo>
                    <a:lnTo>
                      <a:pt x="672" y="24"/>
                    </a:lnTo>
                    <a:lnTo>
                      <a:pt x="672" y="30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9348480" y="544176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42" y="78"/>
                    </a:moveTo>
                    <a:lnTo>
                      <a:pt x="36" y="84"/>
                    </a:lnTo>
                    <a:lnTo>
                      <a:pt x="30" y="90"/>
                    </a:lnTo>
                    <a:lnTo>
                      <a:pt x="24" y="90"/>
                    </a:lnTo>
                    <a:lnTo>
                      <a:pt x="18" y="96"/>
                    </a:lnTo>
                    <a:lnTo>
                      <a:pt x="12" y="102"/>
                    </a:lnTo>
                    <a:lnTo>
                      <a:pt x="6" y="108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6" y="138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24" y="150"/>
                    </a:lnTo>
                    <a:lnTo>
                      <a:pt x="36" y="144"/>
                    </a:lnTo>
                    <a:lnTo>
                      <a:pt x="42" y="132"/>
                    </a:lnTo>
                    <a:lnTo>
                      <a:pt x="54" y="126"/>
                    </a:lnTo>
                    <a:lnTo>
                      <a:pt x="60" y="114"/>
                    </a:lnTo>
                    <a:lnTo>
                      <a:pt x="66" y="108"/>
                    </a:lnTo>
                    <a:lnTo>
                      <a:pt x="72" y="96"/>
                    </a:lnTo>
                    <a:lnTo>
                      <a:pt x="60" y="84"/>
                    </a:lnTo>
                    <a:lnTo>
                      <a:pt x="54" y="60"/>
                    </a:lnTo>
                    <a:lnTo>
                      <a:pt x="48" y="42"/>
                    </a:lnTo>
                    <a:lnTo>
                      <a:pt x="42" y="24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16720" y="5449320"/>
                <a:ext cx="532440" cy="637200"/>
              </a:xfrm>
              <a:custGeom>
                <a:avLst/>
                <a:gdLst/>
                <a:ahLst/>
                <a:rect l="l" t="t" r="r" b="b"/>
                <a:pathLst>
                  <a:path w="1722" h="2064">
                    <a:moveTo>
                      <a:pt x="1722" y="72"/>
                    </a:moveTo>
                    <a:lnTo>
                      <a:pt x="1722" y="96"/>
                    </a:lnTo>
                    <a:lnTo>
                      <a:pt x="1716" y="114"/>
                    </a:lnTo>
                    <a:lnTo>
                      <a:pt x="1710" y="138"/>
                    </a:lnTo>
                    <a:lnTo>
                      <a:pt x="1698" y="156"/>
                    </a:lnTo>
                    <a:lnTo>
                      <a:pt x="1686" y="174"/>
                    </a:lnTo>
                    <a:lnTo>
                      <a:pt x="1668" y="186"/>
                    </a:lnTo>
                    <a:lnTo>
                      <a:pt x="1650" y="198"/>
                    </a:lnTo>
                    <a:lnTo>
                      <a:pt x="1632" y="198"/>
                    </a:lnTo>
                    <a:lnTo>
                      <a:pt x="1614" y="192"/>
                    </a:lnTo>
                    <a:lnTo>
                      <a:pt x="1596" y="192"/>
                    </a:lnTo>
                    <a:lnTo>
                      <a:pt x="1578" y="192"/>
                    </a:lnTo>
                    <a:lnTo>
                      <a:pt x="1554" y="198"/>
                    </a:lnTo>
                    <a:lnTo>
                      <a:pt x="1548" y="204"/>
                    </a:lnTo>
                    <a:lnTo>
                      <a:pt x="1542" y="204"/>
                    </a:lnTo>
                    <a:lnTo>
                      <a:pt x="1530" y="210"/>
                    </a:lnTo>
                    <a:lnTo>
                      <a:pt x="1524" y="216"/>
                    </a:lnTo>
                    <a:lnTo>
                      <a:pt x="1512" y="222"/>
                    </a:lnTo>
                    <a:lnTo>
                      <a:pt x="1506" y="228"/>
                    </a:lnTo>
                    <a:lnTo>
                      <a:pt x="1512" y="234"/>
                    </a:lnTo>
                    <a:lnTo>
                      <a:pt x="1518" y="234"/>
                    </a:lnTo>
                    <a:lnTo>
                      <a:pt x="1524" y="234"/>
                    </a:lnTo>
                    <a:lnTo>
                      <a:pt x="1536" y="228"/>
                    </a:lnTo>
                    <a:lnTo>
                      <a:pt x="1542" y="228"/>
                    </a:lnTo>
                    <a:lnTo>
                      <a:pt x="1554" y="228"/>
                    </a:lnTo>
                    <a:lnTo>
                      <a:pt x="1572" y="228"/>
                    </a:lnTo>
                    <a:lnTo>
                      <a:pt x="1596" y="234"/>
                    </a:lnTo>
                    <a:lnTo>
                      <a:pt x="1620" y="240"/>
                    </a:lnTo>
                    <a:lnTo>
                      <a:pt x="1638" y="246"/>
                    </a:lnTo>
                    <a:lnTo>
                      <a:pt x="1656" y="258"/>
                    </a:lnTo>
                    <a:lnTo>
                      <a:pt x="1674" y="276"/>
                    </a:lnTo>
                    <a:lnTo>
                      <a:pt x="1680" y="300"/>
                    </a:lnTo>
                    <a:lnTo>
                      <a:pt x="1686" y="324"/>
                    </a:lnTo>
                    <a:lnTo>
                      <a:pt x="1680" y="342"/>
                    </a:lnTo>
                    <a:lnTo>
                      <a:pt x="1674" y="366"/>
                    </a:lnTo>
                    <a:lnTo>
                      <a:pt x="1668" y="390"/>
                    </a:lnTo>
                    <a:lnTo>
                      <a:pt x="1656" y="414"/>
                    </a:lnTo>
                    <a:lnTo>
                      <a:pt x="1644" y="432"/>
                    </a:lnTo>
                    <a:lnTo>
                      <a:pt x="1620" y="444"/>
                    </a:lnTo>
                    <a:lnTo>
                      <a:pt x="1602" y="462"/>
                    </a:lnTo>
                    <a:lnTo>
                      <a:pt x="1584" y="474"/>
                    </a:lnTo>
                    <a:lnTo>
                      <a:pt x="1566" y="492"/>
                    </a:lnTo>
                    <a:lnTo>
                      <a:pt x="1554" y="516"/>
                    </a:lnTo>
                    <a:lnTo>
                      <a:pt x="1554" y="522"/>
                    </a:lnTo>
                    <a:lnTo>
                      <a:pt x="1554" y="528"/>
                    </a:lnTo>
                    <a:lnTo>
                      <a:pt x="1554" y="534"/>
                    </a:lnTo>
                    <a:lnTo>
                      <a:pt x="1548" y="528"/>
                    </a:lnTo>
                    <a:lnTo>
                      <a:pt x="1548" y="522"/>
                    </a:lnTo>
                    <a:lnTo>
                      <a:pt x="1548" y="516"/>
                    </a:lnTo>
                    <a:lnTo>
                      <a:pt x="1548" y="510"/>
                    </a:lnTo>
                    <a:lnTo>
                      <a:pt x="1542" y="504"/>
                    </a:lnTo>
                    <a:lnTo>
                      <a:pt x="1548" y="492"/>
                    </a:lnTo>
                    <a:lnTo>
                      <a:pt x="1548" y="486"/>
                    </a:lnTo>
                    <a:lnTo>
                      <a:pt x="1554" y="480"/>
                    </a:lnTo>
                    <a:lnTo>
                      <a:pt x="1560" y="474"/>
                    </a:lnTo>
                    <a:lnTo>
                      <a:pt x="1560" y="468"/>
                    </a:lnTo>
                    <a:lnTo>
                      <a:pt x="1554" y="456"/>
                    </a:lnTo>
                    <a:lnTo>
                      <a:pt x="1512" y="462"/>
                    </a:lnTo>
                    <a:lnTo>
                      <a:pt x="1512" y="456"/>
                    </a:lnTo>
                    <a:lnTo>
                      <a:pt x="1500" y="444"/>
                    </a:lnTo>
                    <a:lnTo>
                      <a:pt x="1494" y="438"/>
                    </a:lnTo>
                    <a:lnTo>
                      <a:pt x="1494" y="426"/>
                    </a:lnTo>
                    <a:lnTo>
                      <a:pt x="1488" y="414"/>
                    </a:lnTo>
                    <a:lnTo>
                      <a:pt x="1494" y="408"/>
                    </a:lnTo>
                    <a:lnTo>
                      <a:pt x="1494" y="414"/>
                    </a:lnTo>
                    <a:lnTo>
                      <a:pt x="1500" y="420"/>
                    </a:lnTo>
                    <a:lnTo>
                      <a:pt x="1506" y="426"/>
                    </a:lnTo>
                    <a:lnTo>
                      <a:pt x="1512" y="432"/>
                    </a:lnTo>
                    <a:lnTo>
                      <a:pt x="1518" y="438"/>
                    </a:lnTo>
                    <a:lnTo>
                      <a:pt x="1524" y="438"/>
                    </a:lnTo>
                    <a:lnTo>
                      <a:pt x="1536" y="438"/>
                    </a:lnTo>
                    <a:lnTo>
                      <a:pt x="1548" y="438"/>
                    </a:lnTo>
                    <a:lnTo>
                      <a:pt x="1554" y="438"/>
                    </a:lnTo>
                    <a:lnTo>
                      <a:pt x="1566" y="438"/>
                    </a:lnTo>
                    <a:lnTo>
                      <a:pt x="1578" y="432"/>
                    </a:lnTo>
                    <a:lnTo>
                      <a:pt x="1584" y="420"/>
                    </a:lnTo>
                    <a:lnTo>
                      <a:pt x="1596" y="408"/>
                    </a:lnTo>
                    <a:lnTo>
                      <a:pt x="1602" y="396"/>
                    </a:lnTo>
                    <a:lnTo>
                      <a:pt x="1602" y="378"/>
                    </a:lnTo>
                    <a:lnTo>
                      <a:pt x="1602" y="360"/>
                    </a:lnTo>
                    <a:lnTo>
                      <a:pt x="1602" y="342"/>
                    </a:lnTo>
                    <a:lnTo>
                      <a:pt x="1596" y="330"/>
                    </a:lnTo>
                    <a:lnTo>
                      <a:pt x="1584" y="318"/>
                    </a:lnTo>
                    <a:lnTo>
                      <a:pt x="1572" y="306"/>
                    </a:lnTo>
                    <a:lnTo>
                      <a:pt x="1554" y="294"/>
                    </a:lnTo>
                    <a:lnTo>
                      <a:pt x="1542" y="282"/>
                    </a:lnTo>
                    <a:lnTo>
                      <a:pt x="1524" y="276"/>
                    </a:lnTo>
                    <a:lnTo>
                      <a:pt x="1506" y="276"/>
                    </a:lnTo>
                    <a:lnTo>
                      <a:pt x="1470" y="300"/>
                    </a:lnTo>
                    <a:lnTo>
                      <a:pt x="1434" y="330"/>
                    </a:lnTo>
                    <a:lnTo>
                      <a:pt x="1404" y="360"/>
                    </a:lnTo>
                    <a:lnTo>
                      <a:pt x="1380" y="402"/>
                    </a:lnTo>
                    <a:lnTo>
                      <a:pt x="1368" y="438"/>
                    </a:lnTo>
                    <a:lnTo>
                      <a:pt x="1356" y="486"/>
                    </a:lnTo>
                    <a:lnTo>
                      <a:pt x="1356" y="510"/>
                    </a:lnTo>
                    <a:lnTo>
                      <a:pt x="1356" y="534"/>
                    </a:lnTo>
                    <a:lnTo>
                      <a:pt x="1356" y="558"/>
                    </a:lnTo>
                    <a:lnTo>
                      <a:pt x="1356" y="576"/>
                    </a:lnTo>
                    <a:lnTo>
                      <a:pt x="1368" y="600"/>
                    </a:lnTo>
                    <a:lnTo>
                      <a:pt x="1380" y="624"/>
                    </a:lnTo>
                    <a:lnTo>
                      <a:pt x="1386" y="624"/>
                    </a:lnTo>
                    <a:lnTo>
                      <a:pt x="1386" y="618"/>
                    </a:lnTo>
                    <a:lnTo>
                      <a:pt x="1392" y="612"/>
                    </a:lnTo>
                    <a:lnTo>
                      <a:pt x="1392" y="606"/>
                    </a:lnTo>
                    <a:lnTo>
                      <a:pt x="1398" y="600"/>
                    </a:lnTo>
                    <a:lnTo>
                      <a:pt x="1404" y="594"/>
                    </a:lnTo>
                    <a:lnTo>
                      <a:pt x="1416" y="588"/>
                    </a:lnTo>
                    <a:lnTo>
                      <a:pt x="1422" y="582"/>
                    </a:lnTo>
                    <a:lnTo>
                      <a:pt x="1434" y="576"/>
                    </a:lnTo>
                    <a:lnTo>
                      <a:pt x="1440" y="576"/>
                    </a:lnTo>
                    <a:lnTo>
                      <a:pt x="1452" y="576"/>
                    </a:lnTo>
                    <a:lnTo>
                      <a:pt x="1464" y="576"/>
                    </a:lnTo>
                    <a:lnTo>
                      <a:pt x="1476" y="582"/>
                    </a:lnTo>
                    <a:lnTo>
                      <a:pt x="1488" y="588"/>
                    </a:lnTo>
                    <a:lnTo>
                      <a:pt x="1494" y="600"/>
                    </a:lnTo>
                    <a:lnTo>
                      <a:pt x="1506" y="606"/>
                    </a:lnTo>
                    <a:lnTo>
                      <a:pt x="1512" y="618"/>
                    </a:lnTo>
                    <a:lnTo>
                      <a:pt x="1512" y="624"/>
                    </a:lnTo>
                    <a:lnTo>
                      <a:pt x="1500" y="618"/>
                    </a:lnTo>
                    <a:lnTo>
                      <a:pt x="1488" y="612"/>
                    </a:lnTo>
                    <a:lnTo>
                      <a:pt x="1476" y="612"/>
                    </a:lnTo>
                    <a:lnTo>
                      <a:pt x="1464" y="612"/>
                    </a:lnTo>
                    <a:lnTo>
                      <a:pt x="1452" y="612"/>
                    </a:lnTo>
                    <a:lnTo>
                      <a:pt x="1440" y="612"/>
                    </a:lnTo>
                    <a:lnTo>
                      <a:pt x="1434" y="618"/>
                    </a:lnTo>
                    <a:lnTo>
                      <a:pt x="1428" y="624"/>
                    </a:lnTo>
                    <a:lnTo>
                      <a:pt x="1422" y="630"/>
                    </a:lnTo>
                    <a:lnTo>
                      <a:pt x="1416" y="636"/>
                    </a:lnTo>
                    <a:lnTo>
                      <a:pt x="1410" y="648"/>
                    </a:lnTo>
                    <a:lnTo>
                      <a:pt x="1410" y="654"/>
                    </a:lnTo>
                    <a:lnTo>
                      <a:pt x="1416" y="708"/>
                    </a:lnTo>
                    <a:lnTo>
                      <a:pt x="1434" y="756"/>
                    </a:lnTo>
                    <a:lnTo>
                      <a:pt x="1452" y="804"/>
                    </a:lnTo>
                    <a:lnTo>
                      <a:pt x="1482" y="852"/>
                    </a:lnTo>
                    <a:lnTo>
                      <a:pt x="1506" y="894"/>
                    </a:lnTo>
                    <a:lnTo>
                      <a:pt x="1530" y="942"/>
                    </a:lnTo>
                    <a:lnTo>
                      <a:pt x="1530" y="948"/>
                    </a:lnTo>
                    <a:lnTo>
                      <a:pt x="1530" y="954"/>
                    </a:lnTo>
                    <a:lnTo>
                      <a:pt x="1530" y="960"/>
                    </a:lnTo>
                    <a:lnTo>
                      <a:pt x="1530" y="966"/>
                    </a:lnTo>
                    <a:lnTo>
                      <a:pt x="1536" y="966"/>
                    </a:lnTo>
                    <a:lnTo>
                      <a:pt x="1542" y="960"/>
                    </a:lnTo>
                    <a:lnTo>
                      <a:pt x="1548" y="954"/>
                    </a:lnTo>
                    <a:lnTo>
                      <a:pt x="1548" y="948"/>
                    </a:lnTo>
                    <a:lnTo>
                      <a:pt x="1554" y="942"/>
                    </a:lnTo>
                    <a:lnTo>
                      <a:pt x="1560" y="942"/>
                    </a:lnTo>
                    <a:lnTo>
                      <a:pt x="1572" y="930"/>
                    </a:lnTo>
                    <a:lnTo>
                      <a:pt x="1590" y="918"/>
                    </a:lnTo>
                    <a:lnTo>
                      <a:pt x="1602" y="906"/>
                    </a:lnTo>
                    <a:lnTo>
                      <a:pt x="1614" y="894"/>
                    </a:lnTo>
                    <a:lnTo>
                      <a:pt x="1626" y="876"/>
                    </a:lnTo>
                    <a:lnTo>
                      <a:pt x="1626" y="864"/>
                    </a:lnTo>
                    <a:lnTo>
                      <a:pt x="1626" y="852"/>
                    </a:lnTo>
                    <a:lnTo>
                      <a:pt x="1626" y="846"/>
                    </a:lnTo>
                    <a:lnTo>
                      <a:pt x="1626" y="840"/>
                    </a:lnTo>
                    <a:lnTo>
                      <a:pt x="1620" y="834"/>
                    </a:lnTo>
                    <a:lnTo>
                      <a:pt x="1620" y="828"/>
                    </a:lnTo>
                    <a:lnTo>
                      <a:pt x="1626" y="828"/>
                    </a:lnTo>
                    <a:lnTo>
                      <a:pt x="1632" y="834"/>
                    </a:lnTo>
                    <a:lnTo>
                      <a:pt x="1638" y="834"/>
                    </a:lnTo>
                    <a:lnTo>
                      <a:pt x="1644" y="840"/>
                    </a:lnTo>
                    <a:lnTo>
                      <a:pt x="1644" y="846"/>
                    </a:lnTo>
                    <a:lnTo>
                      <a:pt x="1650" y="864"/>
                    </a:lnTo>
                    <a:lnTo>
                      <a:pt x="1650" y="882"/>
                    </a:lnTo>
                    <a:lnTo>
                      <a:pt x="1650" y="900"/>
                    </a:lnTo>
                    <a:lnTo>
                      <a:pt x="1644" y="918"/>
                    </a:lnTo>
                    <a:lnTo>
                      <a:pt x="1638" y="930"/>
                    </a:lnTo>
                    <a:lnTo>
                      <a:pt x="1632" y="948"/>
                    </a:lnTo>
                    <a:lnTo>
                      <a:pt x="1620" y="960"/>
                    </a:lnTo>
                    <a:lnTo>
                      <a:pt x="1602" y="972"/>
                    </a:lnTo>
                    <a:lnTo>
                      <a:pt x="1590" y="978"/>
                    </a:lnTo>
                    <a:lnTo>
                      <a:pt x="1572" y="990"/>
                    </a:lnTo>
                    <a:lnTo>
                      <a:pt x="1560" y="1002"/>
                    </a:lnTo>
                    <a:lnTo>
                      <a:pt x="1554" y="1020"/>
                    </a:lnTo>
                    <a:lnTo>
                      <a:pt x="1560" y="1020"/>
                    </a:lnTo>
                    <a:lnTo>
                      <a:pt x="1566" y="1026"/>
                    </a:lnTo>
                    <a:lnTo>
                      <a:pt x="1572" y="1032"/>
                    </a:lnTo>
                    <a:lnTo>
                      <a:pt x="1578" y="1038"/>
                    </a:lnTo>
                    <a:lnTo>
                      <a:pt x="1584" y="1044"/>
                    </a:lnTo>
                    <a:lnTo>
                      <a:pt x="1596" y="1038"/>
                    </a:lnTo>
                    <a:lnTo>
                      <a:pt x="1608" y="1032"/>
                    </a:lnTo>
                    <a:lnTo>
                      <a:pt x="1614" y="1026"/>
                    </a:lnTo>
                    <a:lnTo>
                      <a:pt x="1620" y="1020"/>
                    </a:lnTo>
                    <a:lnTo>
                      <a:pt x="1632" y="1014"/>
                    </a:lnTo>
                    <a:lnTo>
                      <a:pt x="1638" y="1008"/>
                    </a:lnTo>
                    <a:lnTo>
                      <a:pt x="1644" y="1008"/>
                    </a:lnTo>
                    <a:lnTo>
                      <a:pt x="1638" y="1014"/>
                    </a:lnTo>
                    <a:lnTo>
                      <a:pt x="1632" y="1020"/>
                    </a:lnTo>
                    <a:lnTo>
                      <a:pt x="1626" y="1032"/>
                    </a:lnTo>
                    <a:lnTo>
                      <a:pt x="1620" y="1044"/>
                    </a:lnTo>
                    <a:lnTo>
                      <a:pt x="1620" y="1056"/>
                    </a:lnTo>
                    <a:lnTo>
                      <a:pt x="1614" y="1062"/>
                    </a:lnTo>
                    <a:lnTo>
                      <a:pt x="1602" y="1098"/>
                    </a:lnTo>
                    <a:lnTo>
                      <a:pt x="1596" y="1128"/>
                    </a:lnTo>
                    <a:lnTo>
                      <a:pt x="1590" y="1164"/>
                    </a:lnTo>
                    <a:lnTo>
                      <a:pt x="1584" y="1194"/>
                    </a:lnTo>
                    <a:lnTo>
                      <a:pt x="1566" y="1224"/>
                    </a:lnTo>
                    <a:lnTo>
                      <a:pt x="1548" y="1254"/>
                    </a:lnTo>
                    <a:lnTo>
                      <a:pt x="1530" y="1278"/>
                    </a:lnTo>
                    <a:lnTo>
                      <a:pt x="1506" y="1302"/>
                    </a:lnTo>
                    <a:lnTo>
                      <a:pt x="1482" y="1314"/>
                    </a:lnTo>
                    <a:lnTo>
                      <a:pt x="1452" y="1332"/>
                    </a:lnTo>
                    <a:lnTo>
                      <a:pt x="1422" y="1338"/>
                    </a:lnTo>
                    <a:lnTo>
                      <a:pt x="1392" y="1350"/>
                    </a:lnTo>
                    <a:lnTo>
                      <a:pt x="1362" y="1350"/>
                    </a:lnTo>
                    <a:lnTo>
                      <a:pt x="1332" y="1350"/>
                    </a:lnTo>
                    <a:lnTo>
                      <a:pt x="1296" y="1344"/>
                    </a:lnTo>
                    <a:lnTo>
                      <a:pt x="1266" y="1332"/>
                    </a:lnTo>
                    <a:lnTo>
                      <a:pt x="1236" y="1320"/>
                    </a:lnTo>
                    <a:lnTo>
                      <a:pt x="1212" y="1302"/>
                    </a:lnTo>
                    <a:lnTo>
                      <a:pt x="1206" y="1290"/>
                    </a:lnTo>
                    <a:lnTo>
                      <a:pt x="1200" y="1290"/>
                    </a:lnTo>
                    <a:lnTo>
                      <a:pt x="1194" y="1290"/>
                    </a:lnTo>
                    <a:lnTo>
                      <a:pt x="1194" y="1284"/>
                    </a:lnTo>
                    <a:lnTo>
                      <a:pt x="1188" y="1284"/>
                    </a:lnTo>
                    <a:lnTo>
                      <a:pt x="1182" y="1284"/>
                    </a:lnTo>
                    <a:lnTo>
                      <a:pt x="1182" y="1290"/>
                    </a:lnTo>
                    <a:lnTo>
                      <a:pt x="1182" y="1296"/>
                    </a:lnTo>
                    <a:lnTo>
                      <a:pt x="1188" y="1296"/>
                    </a:lnTo>
                    <a:lnTo>
                      <a:pt x="1194" y="1302"/>
                    </a:lnTo>
                    <a:lnTo>
                      <a:pt x="1194" y="1308"/>
                    </a:lnTo>
                    <a:lnTo>
                      <a:pt x="1194" y="1314"/>
                    </a:lnTo>
                    <a:lnTo>
                      <a:pt x="1194" y="1326"/>
                    </a:lnTo>
                    <a:lnTo>
                      <a:pt x="1194" y="1332"/>
                    </a:lnTo>
                    <a:lnTo>
                      <a:pt x="1200" y="1338"/>
                    </a:lnTo>
                    <a:lnTo>
                      <a:pt x="1206" y="1350"/>
                    </a:lnTo>
                    <a:lnTo>
                      <a:pt x="1212" y="1356"/>
                    </a:lnTo>
                    <a:lnTo>
                      <a:pt x="1212" y="1368"/>
                    </a:lnTo>
                    <a:lnTo>
                      <a:pt x="1218" y="1374"/>
                    </a:lnTo>
                    <a:lnTo>
                      <a:pt x="1230" y="1380"/>
                    </a:lnTo>
                    <a:lnTo>
                      <a:pt x="1242" y="1380"/>
                    </a:lnTo>
                    <a:lnTo>
                      <a:pt x="1236" y="1386"/>
                    </a:lnTo>
                    <a:lnTo>
                      <a:pt x="1230" y="1392"/>
                    </a:lnTo>
                    <a:lnTo>
                      <a:pt x="1224" y="1392"/>
                    </a:lnTo>
                    <a:lnTo>
                      <a:pt x="1218" y="1392"/>
                    </a:lnTo>
                    <a:lnTo>
                      <a:pt x="1218" y="1398"/>
                    </a:lnTo>
                    <a:lnTo>
                      <a:pt x="1218" y="1404"/>
                    </a:lnTo>
                    <a:lnTo>
                      <a:pt x="1224" y="1410"/>
                    </a:lnTo>
                    <a:lnTo>
                      <a:pt x="1236" y="1416"/>
                    </a:lnTo>
                    <a:lnTo>
                      <a:pt x="1242" y="1416"/>
                    </a:lnTo>
                    <a:lnTo>
                      <a:pt x="1254" y="1422"/>
                    </a:lnTo>
                    <a:lnTo>
                      <a:pt x="1266" y="1422"/>
                    </a:lnTo>
                    <a:lnTo>
                      <a:pt x="1278" y="1422"/>
                    </a:lnTo>
                    <a:lnTo>
                      <a:pt x="1272" y="1434"/>
                    </a:lnTo>
                    <a:lnTo>
                      <a:pt x="1260" y="1440"/>
                    </a:lnTo>
                    <a:lnTo>
                      <a:pt x="1254" y="1446"/>
                    </a:lnTo>
                    <a:lnTo>
                      <a:pt x="1248" y="1452"/>
                    </a:lnTo>
                    <a:lnTo>
                      <a:pt x="1242" y="1458"/>
                    </a:lnTo>
                    <a:lnTo>
                      <a:pt x="1236" y="1464"/>
                    </a:lnTo>
                    <a:lnTo>
                      <a:pt x="1242" y="1470"/>
                    </a:lnTo>
                    <a:lnTo>
                      <a:pt x="1248" y="1476"/>
                    </a:lnTo>
                    <a:lnTo>
                      <a:pt x="1260" y="1482"/>
                    </a:lnTo>
                    <a:lnTo>
                      <a:pt x="1266" y="1488"/>
                    </a:lnTo>
                    <a:lnTo>
                      <a:pt x="1278" y="1494"/>
                    </a:lnTo>
                    <a:lnTo>
                      <a:pt x="1290" y="1494"/>
                    </a:lnTo>
                    <a:lnTo>
                      <a:pt x="1296" y="1494"/>
                    </a:lnTo>
                    <a:lnTo>
                      <a:pt x="1296" y="1488"/>
                    </a:lnTo>
                    <a:lnTo>
                      <a:pt x="1302" y="1488"/>
                    </a:lnTo>
                    <a:lnTo>
                      <a:pt x="1308" y="1488"/>
                    </a:lnTo>
                    <a:lnTo>
                      <a:pt x="1314" y="1488"/>
                    </a:lnTo>
                    <a:lnTo>
                      <a:pt x="1308" y="1494"/>
                    </a:lnTo>
                    <a:lnTo>
                      <a:pt x="1302" y="1506"/>
                    </a:lnTo>
                    <a:lnTo>
                      <a:pt x="1296" y="1512"/>
                    </a:lnTo>
                    <a:lnTo>
                      <a:pt x="1290" y="1518"/>
                    </a:lnTo>
                    <a:lnTo>
                      <a:pt x="1278" y="1530"/>
                    </a:lnTo>
                    <a:lnTo>
                      <a:pt x="1272" y="1536"/>
                    </a:lnTo>
                    <a:lnTo>
                      <a:pt x="1272" y="1542"/>
                    </a:lnTo>
                    <a:lnTo>
                      <a:pt x="1278" y="1542"/>
                    </a:lnTo>
                    <a:lnTo>
                      <a:pt x="1284" y="1548"/>
                    </a:lnTo>
                    <a:lnTo>
                      <a:pt x="1284" y="1554"/>
                    </a:lnTo>
                    <a:lnTo>
                      <a:pt x="1290" y="1554"/>
                    </a:lnTo>
                    <a:lnTo>
                      <a:pt x="1296" y="1554"/>
                    </a:lnTo>
                    <a:lnTo>
                      <a:pt x="1308" y="1554"/>
                    </a:lnTo>
                    <a:lnTo>
                      <a:pt x="1320" y="1554"/>
                    </a:lnTo>
                    <a:lnTo>
                      <a:pt x="1332" y="1548"/>
                    </a:lnTo>
                    <a:lnTo>
                      <a:pt x="1344" y="1542"/>
                    </a:lnTo>
                    <a:lnTo>
                      <a:pt x="1350" y="1536"/>
                    </a:lnTo>
                    <a:lnTo>
                      <a:pt x="1362" y="1530"/>
                    </a:lnTo>
                    <a:lnTo>
                      <a:pt x="1362" y="1542"/>
                    </a:lnTo>
                    <a:lnTo>
                      <a:pt x="1356" y="1554"/>
                    </a:lnTo>
                    <a:lnTo>
                      <a:pt x="1350" y="1566"/>
                    </a:lnTo>
                    <a:lnTo>
                      <a:pt x="1338" y="1572"/>
                    </a:lnTo>
                    <a:lnTo>
                      <a:pt x="1332" y="1584"/>
                    </a:lnTo>
                    <a:lnTo>
                      <a:pt x="1326" y="1596"/>
                    </a:lnTo>
                    <a:lnTo>
                      <a:pt x="1338" y="1602"/>
                    </a:lnTo>
                    <a:lnTo>
                      <a:pt x="1350" y="1608"/>
                    </a:lnTo>
                    <a:lnTo>
                      <a:pt x="1362" y="1608"/>
                    </a:lnTo>
                    <a:lnTo>
                      <a:pt x="1380" y="1602"/>
                    </a:lnTo>
                    <a:lnTo>
                      <a:pt x="1392" y="1602"/>
                    </a:lnTo>
                    <a:lnTo>
                      <a:pt x="1404" y="1602"/>
                    </a:lnTo>
                    <a:lnTo>
                      <a:pt x="1416" y="1602"/>
                    </a:lnTo>
                    <a:lnTo>
                      <a:pt x="1428" y="1596"/>
                    </a:lnTo>
                    <a:lnTo>
                      <a:pt x="1434" y="1590"/>
                    </a:lnTo>
                    <a:lnTo>
                      <a:pt x="1446" y="1584"/>
                    </a:lnTo>
                    <a:lnTo>
                      <a:pt x="1452" y="1578"/>
                    </a:lnTo>
                    <a:lnTo>
                      <a:pt x="1458" y="1566"/>
                    </a:lnTo>
                    <a:lnTo>
                      <a:pt x="1458" y="1584"/>
                    </a:lnTo>
                    <a:lnTo>
                      <a:pt x="1458" y="1602"/>
                    </a:lnTo>
                    <a:lnTo>
                      <a:pt x="1452" y="1620"/>
                    </a:lnTo>
                    <a:lnTo>
                      <a:pt x="1440" y="1638"/>
                    </a:lnTo>
                    <a:lnTo>
                      <a:pt x="1428" y="1650"/>
                    </a:lnTo>
                    <a:lnTo>
                      <a:pt x="1416" y="1668"/>
                    </a:lnTo>
                    <a:lnTo>
                      <a:pt x="1410" y="1674"/>
                    </a:lnTo>
                    <a:lnTo>
                      <a:pt x="1416" y="1686"/>
                    </a:lnTo>
                    <a:lnTo>
                      <a:pt x="1416" y="1692"/>
                    </a:lnTo>
                    <a:lnTo>
                      <a:pt x="1422" y="1698"/>
                    </a:lnTo>
                    <a:lnTo>
                      <a:pt x="1428" y="1704"/>
                    </a:lnTo>
                    <a:lnTo>
                      <a:pt x="1434" y="1716"/>
                    </a:lnTo>
                    <a:lnTo>
                      <a:pt x="1440" y="1716"/>
                    </a:lnTo>
                    <a:lnTo>
                      <a:pt x="1446" y="1722"/>
                    </a:lnTo>
                    <a:lnTo>
                      <a:pt x="1452" y="1722"/>
                    </a:lnTo>
                    <a:lnTo>
                      <a:pt x="1458" y="1722"/>
                    </a:lnTo>
                    <a:lnTo>
                      <a:pt x="1464" y="1722"/>
                    </a:lnTo>
                    <a:lnTo>
                      <a:pt x="1464" y="1728"/>
                    </a:lnTo>
                    <a:lnTo>
                      <a:pt x="1458" y="1734"/>
                    </a:lnTo>
                    <a:lnTo>
                      <a:pt x="1452" y="1740"/>
                    </a:lnTo>
                    <a:lnTo>
                      <a:pt x="1434" y="1746"/>
                    </a:lnTo>
                    <a:lnTo>
                      <a:pt x="1416" y="1746"/>
                    </a:lnTo>
                    <a:lnTo>
                      <a:pt x="1398" y="1740"/>
                    </a:lnTo>
                    <a:lnTo>
                      <a:pt x="1380" y="1734"/>
                    </a:lnTo>
                    <a:lnTo>
                      <a:pt x="1368" y="1740"/>
                    </a:lnTo>
                    <a:lnTo>
                      <a:pt x="1362" y="1758"/>
                    </a:lnTo>
                    <a:lnTo>
                      <a:pt x="1368" y="1776"/>
                    </a:lnTo>
                    <a:lnTo>
                      <a:pt x="1368" y="1788"/>
                    </a:lnTo>
                    <a:lnTo>
                      <a:pt x="1374" y="1806"/>
                    </a:lnTo>
                    <a:lnTo>
                      <a:pt x="1380" y="1818"/>
                    </a:lnTo>
                    <a:lnTo>
                      <a:pt x="1392" y="1836"/>
                    </a:lnTo>
                    <a:lnTo>
                      <a:pt x="1398" y="1848"/>
                    </a:lnTo>
                    <a:lnTo>
                      <a:pt x="1398" y="1854"/>
                    </a:lnTo>
                    <a:lnTo>
                      <a:pt x="1398" y="1860"/>
                    </a:lnTo>
                    <a:lnTo>
                      <a:pt x="1392" y="1866"/>
                    </a:lnTo>
                    <a:lnTo>
                      <a:pt x="1386" y="1872"/>
                    </a:lnTo>
                    <a:lnTo>
                      <a:pt x="1380" y="1872"/>
                    </a:lnTo>
                    <a:lnTo>
                      <a:pt x="1368" y="1872"/>
                    </a:lnTo>
                    <a:lnTo>
                      <a:pt x="1356" y="1872"/>
                    </a:lnTo>
                    <a:lnTo>
                      <a:pt x="1350" y="1872"/>
                    </a:lnTo>
                    <a:lnTo>
                      <a:pt x="1344" y="1872"/>
                    </a:lnTo>
                    <a:lnTo>
                      <a:pt x="1338" y="1884"/>
                    </a:lnTo>
                    <a:lnTo>
                      <a:pt x="1344" y="1884"/>
                    </a:lnTo>
                    <a:lnTo>
                      <a:pt x="1344" y="1890"/>
                    </a:lnTo>
                    <a:lnTo>
                      <a:pt x="1350" y="1896"/>
                    </a:lnTo>
                    <a:lnTo>
                      <a:pt x="1356" y="1902"/>
                    </a:lnTo>
                    <a:lnTo>
                      <a:pt x="1362" y="1908"/>
                    </a:lnTo>
                    <a:lnTo>
                      <a:pt x="1368" y="1914"/>
                    </a:lnTo>
                    <a:lnTo>
                      <a:pt x="1356" y="1920"/>
                    </a:lnTo>
                    <a:lnTo>
                      <a:pt x="1350" y="1926"/>
                    </a:lnTo>
                    <a:lnTo>
                      <a:pt x="1338" y="1926"/>
                    </a:lnTo>
                    <a:lnTo>
                      <a:pt x="1326" y="1926"/>
                    </a:lnTo>
                    <a:lnTo>
                      <a:pt x="1314" y="1926"/>
                    </a:lnTo>
                    <a:lnTo>
                      <a:pt x="1302" y="1920"/>
                    </a:lnTo>
                    <a:lnTo>
                      <a:pt x="1302" y="1926"/>
                    </a:lnTo>
                    <a:lnTo>
                      <a:pt x="1302" y="1932"/>
                    </a:lnTo>
                    <a:lnTo>
                      <a:pt x="1302" y="1938"/>
                    </a:lnTo>
                    <a:lnTo>
                      <a:pt x="1308" y="1944"/>
                    </a:lnTo>
                    <a:lnTo>
                      <a:pt x="1314" y="1950"/>
                    </a:lnTo>
                    <a:lnTo>
                      <a:pt x="1320" y="1950"/>
                    </a:lnTo>
                    <a:lnTo>
                      <a:pt x="1326" y="1956"/>
                    </a:lnTo>
                    <a:lnTo>
                      <a:pt x="1332" y="1962"/>
                    </a:lnTo>
                    <a:lnTo>
                      <a:pt x="1332" y="1968"/>
                    </a:lnTo>
                    <a:lnTo>
                      <a:pt x="1320" y="1968"/>
                    </a:lnTo>
                    <a:lnTo>
                      <a:pt x="1308" y="1968"/>
                    </a:lnTo>
                    <a:lnTo>
                      <a:pt x="1296" y="1962"/>
                    </a:lnTo>
                    <a:lnTo>
                      <a:pt x="1284" y="1962"/>
                    </a:lnTo>
                    <a:lnTo>
                      <a:pt x="1278" y="1956"/>
                    </a:lnTo>
                    <a:lnTo>
                      <a:pt x="1266" y="1950"/>
                    </a:lnTo>
                    <a:lnTo>
                      <a:pt x="1260" y="1956"/>
                    </a:lnTo>
                    <a:lnTo>
                      <a:pt x="1260" y="1962"/>
                    </a:lnTo>
                    <a:lnTo>
                      <a:pt x="1266" y="1968"/>
                    </a:lnTo>
                    <a:lnTo>
                      <a:pt x="1266" y="1980"/>
                    </a:lnTo>
                    <a:lnTo>
                      <a:pt x="1266" y="1986"/>
                    </a:lnTo>
                    <a:lnTo>
                      <a:pt x="1260" y="1998"/>
                    </a:lnTo>
                    <a:lnTo>
                      <a:pt x="1248" y="2004"/>
                    </a:lnTo>
                    <a:lnTo>
                      <a:pt x="1236" y="2010"/>
                    </a:lnTo>
                    <a:lnTo>
                      <a:pt x="1224" y="2004"/>
                    </a:lnTo>
                    <a:lnTo>
                      <a:pt x="1218" y="1992"/>
                    </a:lnTo>
                    <a:lnTo>
                      <a:pt x="1206" y="1986"/>
                    </a:lnTo>
                    <a:lnTo>
                      <a:pt x="1188" y="1986"/>
                    </a:lnTo>
                    <a:lnTo>
                      <a:pt x="1182" y="1998"/>
                    </a:lnTo>
                    <a:lnTo>
                      <a:pt x="1182" y="2004"/>
                    </a:lnTo>
                    <a:lnTo>
                      <a:pt x="1182" y="2016"/>
                    </a:lnTo>
                    <a:lnTo>
                      <a:pt x="1188" y="2028"/>
                    </a:lnTo>
                    <a:lnTo>
                      <a:pt x="1194" y="2034"/>
                    </a:lnTo>
                    <a:lnTo>
                      <a:pt x="1200" y="2046"/>
                    </a:lnTo>
                    <a:lnTo>
                      <a:pt x="1194" y="2058"/>
                    </a:lnTo>
                    <a:lnTo>
                      <a:pt x="1188" y="2058"/>
                    </a:lnTo>
                    <a:lnTo>
                      <a:pt x="1182" y="2064"/>
                    </a:lnTo>
                    <a:lnTo>
                      <a:pt x="1170" y="2064"/>
                    </a:lnTo>
                    <a:lnTo>
                      <a:pt x="1158" y="2064"/>
                    </a:lnTo>
                    <a:lnTo>
                      <a:pt x="1152" y="2064"/>
                    </a:lnTo>
                    <a:lnTo>
                      <a:pt x="1146" y="2058"/>
                    </a:lnTo>
                    <a:lnTo>
                      <a:pt x="1140" y="2058"/>
                    </a:lnTo>
                    <a:lnTo>
                      <a:pt x="1134" y="2052"/>
                    </a:lnTo>
                    <a:lnTo>
                      <a:pt x="1128" y="2046"/>
                    </a:lnTo>
                    <a:lnTo>
                      <a:pt x="1122" y="2046"/>
                    </a:lnTo>
                    <a:lnTo>
                      <a:pt x="1116" y="2040"/>
                    </a:lnTo>
                    <a:lnTo>
                      <a:pt x="1122" y="2028"/>
                    </a:lnTo>
                    <a:lnTo>
                      <a:pt x="1122" y="2022"/>
                    </a:lnTo>
                    <a:lnTo>
                      <a:pt x="1128" y="2016"/>
                    </a:lnTo>
                    <a:lnTo>
                      <a:pt x="1134" y="2010"/>
                    </a:lnTo>
                    <a:lnTo>
                      <a:pt x="1140" y="2004"/>
                    </a:lnTo>
                    <a:lnTo>
                      <a:pt x="1146" y="1998"/>
                    </a:lnTo>
                    <a:lnTo>
                      <a:pt x="1152" y="1992"/>
                    </a:lnTo>
                    <a:lnTo>
                      <a:pt x="1158" y="1986"/>
                    </a:lnTo>
                    <a:lnTo>
                      <a:pt x="1164" y="1980"/>
                    </a:lnTo>
                    <a:lnTo>
                      <a:pt x="1170" y="1974"/>
                    </a:lnTo>
                    <a:lnTo>
                      <a:pt x="1176" y="1968"/>
                    </a:lnTo>
                    <a:lnTo>
                      <a:pt x="1182" y="1968"/>
                    </a:lnTo>
                    <a:lnTo>
                      <a:pt x="1182" y="1962"/>
                    </a:lnTo>
                    <a:lnTo>
                      <a:pt x="1182" y="1956"/>
                    </a:lnTo>
                    <a:lnTo>
                      <a:pt x="1176" y="1956"/>
                    </a:lnTo>
                    <a:lnTo>
                      <a:pt x="1170" y="1956"/>
                    </a:lnTo>
                    <a:lnTo>
                      <a:pt x="1164" y="1956"/>
                    </a:lnTo>
                    <a:lnTo>
                      <a:pt x="1164" y="1962"/>
                    </a:lnTo>
                    <a:lnTo>
                      <a:pt x="1164" y="1968"/>
                    </a:lnTo>
                    <a:lnTo>
                      <a:pt x="1158" y="1968"/>
                    </a:lnTo>
                    <a:lnTo>
                      <a:pt x="1146" y="1980"/>
                    </a:lnTo>
                    <a:lnTo>
                      <a:pt x="1128" y="1986"/>
                    </a:lnTo>
                    <a:lnTo>
                      <a:pt x="1116" y="1998"/>
                    </a:lnTo>
                    <a:lnTo>
                      <a:pt x="1098" y="2010"/>
                    </a:lnTo>
                    <a:lnTo>
                      <a:pt x="1086" y="2022"/>
                    </a:lnTo>
                    <a:lnTo>
                      <a:pt x="1074" y="2040"/>
                    </a:lnTo>
                    <a:lnTo>
                      <a:pt x="1074" y="2046"/>
                    </a:lnTo>
                    <a:lnTo>
                      <a:pt x="1068" y="2046"/>
                    </a:lnTo>
                    <a:lnTo>
                      <a:pt x="1062" y="2052"/>
                    </a:lnTo>
                    <a:lnTo>
                      <a:pt x="1056" y="2052"/>
                    </a:lnTo>
                    <a:lnTo>
                      <a:pt x="1050" y="2052"/>
                    </a:lnTo>
                    <a:lnTo>
                      <a:pt x="1050" y="2046"/>
                    </a:lnTo>
                    <a:lnTo>
                      <a:pt x="1044" y="2046"/>
                    </a:lnTo>
                    <a:lnTo>
                      <a:pt x="1038" y="2046"/>
                    </a:lnTo>
                    <a:lnTo>
                      <a:pt x="1038" y="2040"/>
                    </a:lnTo>
                    <a:lnTo>
                      <a:pt x="1032" y="2040"/>
                    </a:lnTo>
                    <a:lnTo>
                      <a:pt x="1032" y="2034"/>
                    </a:lnTo>
                    <a:lnTo>
                      <a:pt x="1026" y="2034"/>
                    </a:lnTo>
                    <a:lnTo>
                      <a:pt x="1032" y="2028"/>
                    </a:lnTo>
                    <a:lnTo>
                      <a:pt x="1038" y="2022"/>
                    </a:lnTo>
                    <a:lnTo>
                      <a:pt x="1038" y="2016"/>
                    </a:lnTo>
                    <a:lnTo>
                      <a:pt x="1038" y="2010"/>
                    </a:lnTo>
                    <a:lnTo>
                      <a:pt x="1032" y="2004"/>
                    </a:lnTo>
                    <a:lnTo>
                      <a:pt x="1032" y="1998"/>
                    </a:lnTo>
                    <a:lnTo>
                      <a:pt x="1026" y="1992"/>
                    </a:lnTo>
                    <a:lnTo>
                      <a:pt x="1020" y="1992"/>
                    </a:lnTo>
                    <a:lnTo>
                      <a:pt x="1014" y="1992"/>
                    </a:lnTo>
                    <a:lnTo>
                      <a:pt x="1008" y="1986"/>
                    </a:lnTo>
                    <a:lnTo>
                      <a:pt x="1002" y="1986"/>
                    </a:lnTo>
                    <a:lnTo>
                      <a:pt x="996" y="1986"/>
                    </a:lnTo>
                    <a:lnTo>
                      <a:pt x="1008" y="1986"/>
                    </a:lnTo>
                    <a:lnTo>
                      <a:pt x="1020" y="1986"/>
                    </a:lnTo>
                    <a:lnTo>
                      <a:pt x="1032" y="1980"/>
                    </a:lnTo>
                    <a:lnTo>
                      <a:pt x="1044" y="1974"/>
                    </a:lnTo>
                    <a:lnTo>
                      <a:pt x="1056" y="1974"/>
                    </a:lnTo>
                    <a:lnTo>
                      <a:pt x="1074" y="1968"/>
                    </a:lnTo>
                    <a:lnTo>
                      <a:pt x="1092" y="1968"/>
                    </a:lnTo>
                    <a:lnTo>
                      <a:pt x="1116" y="1962"/>
                    </a:lnTo>
                    <a:lnTo>
                      <a:pt x="1134" y="1950"/>
                    </a:lnTo>
                    <a:lnTo>
                      <a:pt x="1146" y="1938"/>
                    </a:lnTo>
                    <a:lnTo>
                      <a:pt x="1164" y="1920"/>
                    </a:lnTo>
                    <a:lnTo>
                      <a:pt x="1176" y="1908"/>
                    </a:lnTo>
                    <a:lnTo>
                      <a:pt x="1188" y="1884"/>
                    </a:lnTo>
                    <a:lnTo>
                      <a:pt x="1194" y="1860"/>
                    </a:lnTo>
                    <a:lnTo>
                      <a:pt x="1200" y="1830"/>
                    </a:lnTo>
                    <a:lnTo>
                      <a:pt x="1200" y="1806"/>
                    </a:lnTo>
                    <a:lnTo>
                      <a:pt x="1200" y="1782"/>
                    </a:lnTo>
                    <a:lnTo>
                      <a:pt x="1188" y="1758"/>
                    </a:lnTo>
                    <a:lnTo>
                      <a:pt x="1176" y="1746"/>
                    </a:lnTo>
                    <a:lnTo>
                      <a:pt x="1164" y="1746"/>
                    </a:lnTo>
                    <a:lnTo>
                      <a:pt x="1152" y="1740"/>
                    </a:lnTo>
                    <a:lnTo>
                      <a:pt x="1140" y="1734"/>
                    </a:lnTo>
                    <a:lnTo>
                      <a:pt x="1128" y="1728"/>
                    </a:lnTo>
                    <a:lnTo>
                      <a:pt x="1116" y="1716"/>
                    </a:lnTo>
                    <a:lnTo>
                      <a:pt x="1068" y="1698"/>
                    </a:lnTo>
                    <a:lnTo>
                      <a:pt x="1032" y="1668"/>
                    </a:lnTo>
                    <a:lnTo>
                      <a:pt x="996" y="1632"/>
                    </a:lnTo>
                    <a:lnTo>
                      <a:pt x="966" y="1590"/>
                    </a:lnTo>
                    <a:lnTo>
                      <a:pt x="948" y="1542"/>
                    </a:lnTo>
                    <a:lnTo>
                      <a:pt x="936" y="1500"/>
                    </a:lnTo>
                    <a:lnTo>
                      <a:pt x="936" y="1488"/>
                    </a:lnTo>
                    <a:lnTo>
                      <a:pt x="930" y="1482"/>
                    </a:lnTo>
                    <a:lnTo>
                      <a:pt x="930" y="1470"/>
                    </a:lnTo>
                    <a:lnTo>
                      <a:pt x="930" y="1464"/>
                    </a:lnTo>
                    <a:lnTo>
                      <a:pt x="930" y="1452"/>
                    </a:lnTo>
                    <a:lnTo>
                      <a:pt x="930" y="1446"/>
                    </a:lnTo>
                    <a:lnTo>
                      <a:pt x="930" y="1422"/>
                    </a:lnTo>
                    <a:lnTo>
                      <a:pt x="930" y="1398"/>
                    </a:lnTo>
                    <a:lnTo>
                      <a:pt x="924" y="1368"/>
                    </a:lnTo>
                    <a:lnTo>
                      <a:pt x="924" y="1344"/>
                    </a:lnTo>
                    <a:lnTo>
                      <a:pt x="924" y="1320"/>
                    </a:lnTo>
                    <a:lnTo>
                      <a:pt x="930" y="1296"/>
                    </a:lnTo>
                    <a:lnTo>
                      <a:pt x="930" y="1272"/>
                    </a:lnTo>
                    <a:lnTo>
                      <a:pt x="936" y="1248"/>
                    </a:lnTo>
                    <a:lnTo>
                      <a:pt x="942" y="1224"/>
                    </a:lnTo>
                    <a:lnTo>
                      <a:pt x="942" y="1200"/>
                    </a:lnTo>
                    <a:lnTo>
                      <a:pt x="942" y="1176"/>
                    </a:lnTo>
                    <a:lnTo>
                      <a:pt x="930" y="1152"/>
                    </a:lnTo>
                    <a:lnTo>
                      <a:pt x="930" y="1146"/>
                    </a:lnTo>
                    <a:lnTo>
                      <a:pt x="924" y="1140"/>
                    </a:lnTo>
                    <a:lnTo>
                      <a:pt x="924" y="1134"/>
                    </a:lnTo>
                    <a:lnTo>
                      <a:pt x="918" y="1128"/>
                    </a:lnTo>
                    <a:lnTo>
                      <a:pt x="918" y="1122"/>
                    </a:lnTo>
                    <a:lnTo>
                      <a:pt x="918" y="1116"/>
                    </a:lnTo>
                    <a:lnTo>
                      <a:pt x="912" y="1116"/>
                    </a:lnTo>
                    <a:lnTo>
                      <a:pt x="906" y="1116"/>
                    </a:lnTo>
                    <a:lnTo>
                      <a:pt x="906" y="1122"/>
                    </a:lnTo>
                    <a:lnTo>
                      <a:pt x="906" y="1128"/>
                    </a:lnTo>
                    <a:lnTo>
                      <a:pt x="906" y="1134"/>
                    </a:lnTo>
                    <a:lnTo>
                      <a:pt x="912" y="1140"/>
                    </a:lnTo>
                    <a:lnTo>
                      <a:pt x="912" y="1146"/>
                    </a:lnTo>
                    <a:lnTo>
                      <a:pt x="918" y="1152"/>
                    </a:lnTo>
                    <a:lnTo>
                      <a:pt x="924" y="1170"/>
                    </a:lnTo>
                    <a:lnTo>
                      <a:pt x="930" y="1194"/>
                    </a:lnTo>
                    <a:lnTo>
                      <a:pt x="930" y="1218"/>
                    </a:lnTo>
                    <a:lnTo>
                      <a:pt x="924" y="1236"/>
                    </a:lnTo>
                    <a:lnTo>
                      <a:pt x="924" y="1260"/>
                    </a:lnTo>
                    <a:lnTo>
                      <a:pt x="918" y="1284"/>
                    </a:lnTo>
                    <a:lnTo>
                      <a:pt x="918" y="1302"/>
                    </a:lnTo>
                    <a:lnTo>
                      <a:pt x="912" y="1284"/>
                    </a:lnTo>
                    <a:lnTo>
                      <a:pt x="906" y="1260"/>
                    </a:lnTo>
                    <a:lnTo>
                      <a:pt x="894" y="1242"/>
                    </a:lnTo>
                    <a:lnTo>
                      <a:pt x="882" y="1224"/>
                    </a:lnTo>
                    <a:lnTo>
                      <a:pt x="870" y="1206"/>
                    </a:lnTo>
                    <a:lnTo>
                      <a:pt x="852" y="1194"/>
                    </a:lnTo>
                    <a:lnTo>
                      <a:pt x="858" y="1194"/>
                    </a:lnTo>
                    <a:lnTo>
                      <a:pt x="864" y="1188"/>
                    </a:lnTo>
                    <a:lnTo>
                      <a:pt x="870" y="1188"/>
                    </a:lnTo>
                    <a:lnTo>
                      <a:pt x="876" y="1182"/>
                    </a:lnTo>
                    <a:lnTo>
                      <a:pt x="888" y="1176"/>
                    </a:lnTo>
                    <a:lnTo>
                      <a:pt x="894" y="1170"/>
                    </a:lnTo>
                    <a:lnTo>
                      <a:pt x="888" y="1164"/>
                    </a:lnTo>
                    <a:lnTo>
                      <a:pt x="888" y="1158"/>
                    </a:lnTo>
                    <a:lnTo>
                      <a:pt x="882" y="1152"/>
                    </a:lnTo>
                    <a:lnTo>
                      <a:pt x="870" y="1146"/>
                    </a:lnTo>
                    <a:lnTo>
                      <a:pt x="864" y="1140"/>
                    </a:lnTo>
                    <a:lnTo>
                      <a:pt x="858" y="1134"/>
                    </a:lnTo>
                    <a:lnTo>
                      <a:pt x="852" y="1128"/>
                    </a:lnTo>
                    <a:lnTo>
                      <a:pt x="846" y="1116"/>
                    </a:lnTo>
                    <a:lnTo>
                      <a:pt x="840" y="1110"/>
                    </a:lnTo>
                    <a:lnTo>
                      <a:pt x="834" y="1104"/>
                    </a:lnTo>
                    <a:lnTo>
                      <a:pt x="822" y="1098"/>
                    </a:lnTo>
                    <a:lnTo>
                      <a:pt x="816" y="1098"/>
                    </a:lnTo>
                    <a:lnTo>
                      <a:pt x="804" y="1104"/>
                    </a:lnTo>
                    <a:lnTo>
                      <a:pt x="798" y="1104"/>
                    </a:lnTo>
                    <a:lnTo>
                      <a:pt x="792" y="1110"/>
                    </a:lnTo>
                    <a:lnTo>
                      <a:pt x="780" y="1110"/>
                    </a:lnTo>
                    <a:lnTo>
                      <a:pt x="774" y="1116"/>
                    </a:lnTo>
                    <a:lnTo>
                      <a:pt x="768" y="1122"/>
                    </a:lnTo>
                    <a:lnTo>
                      <a:pt x="762" y="1110"/>
                    </a:lnTo>
                    <a:lnTo>
                      <a:pt x="756" y="1098"/>
                    </a:lnTo>
                    <a:lnTo>
                      <a:pt x="756" y="1086"/>
                    </a:lnTo>
                    <a:lnTo>
                      <a:pt x="750" y="1074"/>
                    </a:lnTo>
                    <a:lnTo>
                      <a:pt x="750" y="1062"/>
                    </a:lnTo>
                    <a:lnTo>
                      <a:pt x="744" y="1050"/>
                    </a:lnTo>
                    <a:lnTo>
                      <a:pt x="738" y="1044"/>
                    </a:lnTo>
                    <a:lnTo>
                      <a:pt x="732" y="1050"/>
                    </a:lnTo>
                    <a:lnTo>
                      <a:pt x="732" y="1056"/>
                    </a:lnTo>
                    <a:lnTo>
                      <a:pt x="726" y="1056"/>
                    </a:lnTo>
                    <a:lnTo>
                      <a:pt x="720" y="1062"/>
                    </a:lnTo>
                    <a:lnTo>
                      <a:pt x="720" y="1068"/>
                    </a:lnTo>
                    <a:lnTo>
                      <a:pt x="696" y="1086"/>
                    </a:lnTo>
                    <a:lnTo>
                      <a:pt x="702" y="1062"/>
                    </a:lnTo>
                    <a:lnTo>
                      <a:pt x="696" y="1044"/>
                    </a:lnTo>
                    <a:lnTo>
                      <a:pt x="690" y="1026"/>
                    </a:lnTo>
                    <a:lnTo>
                      <a:pt x="684" y="1008"/>
                    </a:lnTo>
                    <a:lnTo>
                      <a:pt x="672" y="990"/>
                    </a:lnTo>
                    <a:lnTo>
                      <a:pt x="666" y="972"/>
                    </a:lnTo>
                    <a:lnTo>
                      <a:pt x="660" y="972"/>
                    </a:lnTo>
                    <a:lnTo>
                      <a:pt x="654" y="978"/>
                    </a:lnTo>
                    <a:lnTo>
                      <a:pt x="654" y="984"/>
                    </a:lnTo>
                    <a:lnTo>
                      <a:pt x="648" y="990"/>
                    </a:lnTo>
                    <a:lnTo>
                      <a:pt x="648" y="996"/>
                    </a:lnTo>
                    <a:lnTo>
                      <a:pt x="648" y="1008"/>
                    </a:lnTo>
                    <a:lnTo>
                      <a:pt x="642" y="1014"/>
                    </a:lnTo>
                    <a:lnTo>
                      <a:pt x="642" y="1020"/>
                    </a:lnTo>
                    <a:lnTo>
                      <a:pt x="642" y="1026"/>
                    </a:lnTo>
                    <a:lnTo>
                      <a:pt x="630" y="1020"/>
                    </a:lnTo>
                    <a:lnTo>
                      <a:pt x="624" y="1002"/>
                    </a:lnTo>
                    <a:lnTo>
                      <a:pt x="624" y="990"/>
                    </a:lnTo>
                    <a:lnTo>
                      <a:pt x="618" y="978"/>
                    </a:lnTo>
                    <a:lnTo>
                      <a:pt x="612" y="960"/>
                    </a:lnTo>
                    <a:lnTo>
                      <a:pt x="606" y="948"/>
                    </a:lnTo>
                    <a:lnTo>
                      <a:pt x="600" y="954"/>
                    </a:lnTo>
                    <a:lnTo>
                      <a:pt x="594" y="954"/>
                    </a:lnTo>
                    <a:lnTo>
                      <a:pt x="594" y="960"/>
                    </a:lnTo>
                    <a:lnTo>
                      <a:pt x="594" y="966"/>
                    </a:lnTo>
                    <a:lnTo>
                      <a:pt x="588" y="972"/>
                    </a:lnTo>
                    <a:lnTo>
                      <a:pt x="588" y="978"/>
                    </a:lnTo>
                    <a:lnTo>
                      <a:pt x="582" y="984"/>
                    </a:lnTo>
                    <a:lnTo>
                      <a:pt x="582" y="990"/>
                    </a:lnTo>
                    <a:lnTo>
                      <a:pt x="582" y="996"/>
                    </a:lnTo>
                    <a:lnTo>
                      <a:pt x="582" y="1002"/>
                    </a:lnTo>
                    <a:lnTo>
                      <a:pt x="582" y="1008"/>
                    </a:lnTo>
                    <a:lnTo>
                      <a:pt x="576" y="1008"/>
                    </a:lnTo>
                    <a:lnTo>
                      <a:pt x="576" y="1002"/>
                    </a:lnTo>
                    <a:lnTo>
                      <a:pt x="570" y="1002"/>
                    </a:lnTo>
                    <a:lnTo>
                      <a:pt x="564" y="996"/>
                    </a:lnTo>
                    <a:lnTo>
                      <a:pt x="564" y="990"/>
                    </a:lnTo>
                    <a:lnTo>
                      <a:pt x="558" y="984"/>
                    </a:lnTo>
                    <a:lnTo>
                      <a:pt x="552" y="978"/>
                    </a:lnTo>
                    <a:lnTo>
                      <a:pt x="546" y="972"/>
                    </a:lnTo>
                    <a:lnTo>
                      <a:pt x="540" y="960"/>
                    </a:lnTo>
                    <a:lnTo>
                      <a:pt x="534" y="954"/>
                    </a:lnTo>
                    <a:lnTo>
                      <a:pt x="534" y="948"/>
                    </a:lnTo>
                    <a:lnTo>
                      <a:pt x="534" y="936"/>
                    </a:lnTo>
                    <a:lnTo>
                      <a:pt x="528" y="930"/>
                    </a:lnTo>
                    <a:lnTo>
                      <a:pt x="528" y="924"/>
                    </a:lnTo>
                    <a:lnTo>
                      <a:pt x="522" y="918"/>
                    </a:lnTo>
                    <a:lnTo>
                      <a:pt x="516" y="912"/>
                    </a:lnTo>
                    <a:lnTo>
                      <a:pt x="510" y="924"/>
                    </a:lnTo>
                    <a:lnTo>
                      <a:pt x="504" y="936"/>
                    </a:lnTo>
                    <a:lnTo>
                      <a:pt x="498" y="948"/>
                    </a:lnTo>
                    <a:lnTo>
                      <a:pt x="492" y="966"/>
                    </a:lnTo>
                    <a:lnTo>
                      <a:pt x="492" y="978"/>
                    </a:lnTo>
                    <a:lnTo>
                      <a:pt x="492" y="990"/>
                    </a:lnTo>
                    <a:lnTo>
                      <a:pt x="474" y="978"/>
                    </a:lnTo>
                    <a:lnTo>
                      <a:pt x="462" y="954"/>
                    </a:lnTo>
                    <a:lnTo>
                      <a:pt x="462" y="936"/>
                    </a:lnTo>
                    <a:lnTo>
                      <a:pt x="456" y="912"/>
                    </a:lnTo>
                    <a:lnTo>
                      <a:pt x="456" y="888"/>
                    </a:lnTo>
                    <a:lnTo>
                      <a:pt x="444" y="864"/>
                    </a:lnTo>
                    <a:lnTo>
                      <a:pt x="438" y="870"/>
                    </a:lnTo>
                    <a:lnTo>
                      <a:pt x="432" y="876"/>
                    </a:lnTo>
                    <a:lnTo>
                      <a:pt x="426" y="882"/>
                    </a:lnTo>
                    <a:lnTo>
                      <a:pt x="420" y="888"/>
                    </a:lnTo>
                    <a:lnTo>
                      <a:pt x="414" y="888"/>
                    </a:lnTo>
                    <a:lnTo>
                      <a:pt x="408" y="888"/>
                    </a:lnTo>
                    <a:lnTo>
                      <a:pt x="402" y="894"/>
                    </a:lnTo>
                    <a:lnTo>
                      <a:pt x="402" y="900"/>
                    </a:lnTo>
                    <a:lnTo>
                      <a:pt x="396" y="906"/>
                    </a:lnTo>
                    <a:lnTo>
                      <a:pt x="390" y="912"/>
                    </a:lnTo>
                    <a:lnTo>
                      <a:pt x="384" y="918"/>
                    </a:lnTo>
                    <a:lnTo>
                      <a:pt x="390" y="906"/>
                    </a:lnTo>
                    <a:lnTo>
                      <a:pt x="384" y="894"/>
                    </a:lnTo>
                    <a:lnTo>
                      <a:pt x="384" y="888"/>
                    </a:lnTo>
                    <a:lnTo>
                      <a:pt x="384" y="876"/>
                    </a:lnTo>
                    <a:lnTo>
                      <a:pt x="384" y="864"/>
                    </a:lnTo>
                    <a:lnTo>
                      <a:pt x="378" y="852"/>
                    </a:lnTo>
                    <a:lnTo>
                      <a:pt x="372" y="852"/>
                    </a:lnTo>
                    <a:lnTo>
                      <a:pt x="366" y="852"/>
                    </a:lnTo>
                    <a:lnTo>
                      <a:pt x="360" y="858"/>
                    </a:lnTo>
                    <a:lnTo>
                      <a:pt x="354" y="870"/>
                    </a:lnTo>
                    <a:lnTo>
                      <a:pt x="342" y="876"/>
                    </a:lnTo>
                    <a:lnTo>
                      <a:pt x="336" y="888"/>
                    </a:lnTo>
                    <a:lnTo>
                      <a:pt x="330" y="894"/>
                    </a:lnTo>
                    <a:lnTo>
                      <a:pt x="318" y="900"/>
                    </a:lnTo>
                    <a:lnTo>
                      <a:pt x="300" y="900"/>
                    </a:lnTo>
                    <a:lnTo>
                      <a:pt x="300" y="894"/>
                    </a:lnTo>
                    <a:lnTo>
                      <a:pt x="306" y="894"/>
                    </a:lnTo>
                    <a:lnTo>
                      <a:pt x="312" y="888"/>
                    </a:lnTo>
                    <a:lnTo>
                      <a:pt x="318" y="888"/>
                    </a:lnTo>
                    <a:lnTo>
                      <a:pt x="318" y="882"/>
                    </a:lnTo>
                    <a:lnTo>
                      <a:pt x="318" y="876"/>
                    </a:lnTo>
                    <a:lnTo>
                      <a:pt x="318" y="864"/>
                    </a:lnTo>
                    <a:lnTo>
                      <a:pt x="312" y="852"/>
                    </a:lnTo>
                    <a:lnTo>
                      <a:pt x="312" y="840"/>
                    </a:lnTo>
                    <a:lnTo>
                      <a:pt x="312" y="828"/>
                    </a:lnTo>
                    <a:lnTo>
                      <a:pt x="312" y="816"/>
                    </a:lnTo>
                    <a:lnTo>
                      <a:pt x="318" y="810"/>
                    </a:lnTo>
                    <a:lnTo>
                      <a:pt x="324" y="798"/>
                    </a:lnTo>
                    <a:lnTo>
                      <a:pt x="324" y="792"/>
                    </a:lnTo>
                    <a:lnTo>
                      <a:pt x="324" y="780"/>
                    </a:lnTo>
                    <a:lnTo>
                      <a:pt x="318" y="768"/>
                    </a:lnTo>
                    <a:lnTo>
                      <a:pt x="318" y="762"/>
                    </a:lnTo>
                    <a:lnTo>
                      <a:pt x="312" y="750"/>
                    </a:lnTo>
                    <a:lnTo>
                      <a:pt x="306" y="750"/>
                    </a:lnTo>
                    <a:lnTo>
                      <a:pt x="300" y="744"/>
                    </a:lnTo>
                    <a:lnTo>
                      <a:pt x="294" y="738"/>
                    </a:lnTo>
                    <a:lnTo>
                      <a:pt x="288" y="738"/>
                    </a:lnTo>
                    <a:lnTo>
                      <a:pt x="282" y="738"/>
                    </a:lnTo>
                    <a:lnTo>
                      <a:pt x="270" y="738"/>
                    </a:lnTo>
                    <a:lnTo>
                      <a:pt x="264" y="744"/>
                    </a:lnTo>
                    <a:lnTo>
                      <a:pt x="258" y="750"/>
                    </a:lnTo>
                    <a:lnTo>
                      <a:pt x="246" y="756"/>
                    </a:lnTo>
                    <a:lnTo>
                      <a:pt x="240" y="762"/>
                    </a:lnTo>
                    <a:lnTo>
                      <a:pt x="234" y="774"/>
                    </a:lnTo>
                    <a:lnTo>
                      <a:pt x="240" y="762"/>
                    </a:lnTo>
                    <a:lnTo>
                      <a:pt x="240" y="750"/>
                    </a:lnTo>
                    <a:lnTo>
                      <a:pt x="240" y="738"/>
                    </a:lnTo>
                    <a:lnTo>
                      <a:pt x="246" y="726"/>
                    </a:lnTo>
                    <a:lnTo>
                      <a:pt x="252" y="714"/>
                    </a:lnTo>
                    <a:lnTo>
                      <a:pt x="258" y="708"/>
                    </a:lnTo>
                    <a:lnTo>
                      <a:pt x="264" y="708"/>
                    </a:lnTo>
                    <a:lnTo>
                      <a:pt x="270" y="708"/>
                    </a:lnTo>
                    <a:lnTo>
                      <a:pt x="270" y="702"/>
                    </a:lnTo>
                    <a:lnTo>
                      <a:pt x="276" y="702"/>
                    </a:lnTo>
                    <a:lnTo>
                      <a:pt x="270" y="696"/>
                    </a:lnTo>
                    <a:lnTo>
                      <a:pt x="270" y="690"/>
                    </a:lnTo>
                    <a:lnTo>
                      <a:pt x="264" y="684"/>
                    </a:lnTo>
                    <a:lnTo>
                      <a:pt x="258" y="684"/>
                    </a:lnTo>
                    <a:lnTo>
                      <a:pt x="252" y="678"/>
                    </a:lnTo>
                    <a:lnTo>
                      <a:pt x="240" y="678"/>
                    </a:lnTo>
                    <a:lnTo>
                      <a:pt x="234" y="678"/>
                    </a:lnTo>
                    <a:lnTo>
                      <a:pt x="228" y="684"/>
                    </a:lnTo>
                    <a:lnTo>
                      <a:pt x="222" y="690"/>
                    </a:lnTo>
                    <a:lnTo>
                      <a:pt x="210" y="690"/>
                    </a:lnTo>
                    <a:lnTo>
                      <a:pt x="204" y="696"/>
                    </a:lnTo>
                    <a:lnTo>
                      <a:pt x="210" y="678"/>
                    </a:lnTo>
                    <a:lnTo>
                      <a:pt x="210" y="666"/>
                    </a:lnTo>
                    <a:lnTo>
                      <a:pt x="216" y="654"/>
                    </a:lnTo>
                    <a:lnTo>
                      <a:pt x="222" y="642"/>
                    </a:lnTo>
                    <a:lnTo>
                      <a:pt x="228" y="630"/>
                    </a:lnTo>
                    <a:lnTo>
                      <a:pt x="240" y="618"/>
                    </a:lnTo>
                    <a:lnTo>
                      <a:pt x="240" y="612"/>
                    </a:lnTo>
                    <a:lnTo>
                      <a:pt x="234" y="612"/>
                    </a:lnTo>
                    <a:lnTo>
                      <a:pt x="222" y="612"/>
                    </a:lnTo>
                    <a:lnTo>
                      <a:pt x="210" y="612"/>
                    </a:lnTo>
                    <a:lnTo>
                      <a:pt x="198" y="618"/>
                    </a:lnTo>
                    <a:lnTo>
                      <a:pt x="186" y="624"/>
                    </a:lnTo>
                    <a:lnTo>
                      <a:pt x="174" y="630"/>
                    </a:lnTo>
                    <a:lnTo>
                      <a:pt x="168" y="642"/>
                    </a:lnTo>
                    <a:lnTo>
                      <a:pt x="168" y="624"/>
                    </a:lnTo>
                    <a:lnTo>
                      <a:pt x="174" y="606"/>
                    </a:lnTo>
                    <a:lnTo>
                      <a:pt x="186" y="594"/>
                    </a:lnTo>
                    <a:lnTo>
                      <a:pt x="192" y="582"/>
                    </a:lnTo>
                    <a:lnTo>
                      <a:pt x="204" y="570"/>
                    </a:lnTo>
                    <a:lnTo>
                      <a:pt x="210" y="552"/>
                    </a:lnTo>
                    <a:lnTo>
                      <a:pt x="204" y="546"/>
                    </a:lnTo>
                    <a:lnTo>
                      <a:pt x="198" y="546"/>
                    </a:lnTo>
                    <a:lnTo>
                      <a:pt x="186" y="546"/>
                    </a:lnTo>
                    <a:lnTo>
                      <a:pt x="180" y="546"/>
                    </a:lnTo>
                    <a:lnTo>
                      <a:pt x="168" y="546"/>
                    </a:lnTo>
                    <a:lnTo>
                      <a:pt x="162" y="546"/>
                    </a:lnTo>
                    <a:lnTo>
                      <a:pt x="168" y="540"/>
                    </a:lnTo>
                    <a:lnTo>
                      <a:pt x="174" y="528"/>
                    </a:lnTo>
                    <a:lnTo>
                      <a:pt x="180" y="516"/>
                    </a:lnTo>
                    <a:lnTo>
                      <a:pt x="186" y="510"/>
                    </a:lnTo>
                    <a:lnTo>
                      <a:pt x="192" y="498"/>
                    </a:lnTo>
                    <a:lnTo>
                      <a:pt x="192" y="486"/>
                    </a:lnTo>
                    <a:lnTo>
                      <a:pt x="192" y="480"/>
                    </a:lnTo>
                    <a:lnTo>
                      <a:pt x="186" y="480"/>
                    </a:lnTo>
                    <a:lnTo>
                      <a:pt x="186" y="474"/>
                    </a:lnTo>
                    <a:lnTo>
                      <a:pt x="180" y="474"/>
                    </a:lnTo>
                    <a:lnTo>
                      <a:pt x="180" y="480"/>
                    </a:lnTo>
                    <a:lnTo>
                      <a:pt x="168" y="480"/>
                    </a:lnTo>
                    <a:lnTo>
                      <a:pt x="162" y="480"/>
                    </a:lnTo>
                    <a:lnTo>
                      <a:pt x="150" y="480"/>
                    </a:lnTo>
                    <a:lnTo>
                      <a:pt x="138" y="474"/>
                    </a:lnTo>
                    <a:lnTo>
                      <a:pt x="132" y="474"/>
                    </a:lnTo>
                    <a:lnTo>
                      <a:pt x="126" y="468"/>
                    </a:lnTo>
                    <a:lnTo>
                      <a:pt x="132" y="462"/>
                    </a:lnTo>
                    <a:lnTo>
                      <a:pt x="138" y="450"/>
                    </a:lnTo>
                    <a:lnTo>
                      <a:pt x="144" y="444"/>
                    </a:lnTo>
                    <a:lnTo>
                      <a:pt x="150" y="432"/>
                    </a:lnTo>
                    <a:lnTo>
                      <a:pt x="150" y="426"/>
                    </a:lnTo>
                    <a:lnTo>
                      <a:pt x="150" y="414"/>
                    </a:lnTo>
                    <a:lnTo>
                      <a:pt x="144" y="408"/>
                    </a:lnTo>
                    <a:lnTo>
                      <a:pt x="138" y="408"/>
                    </a:lnTo>
                    <a:lnTo>
                      <a:pt x="138" y="414"/>
                    </a:lnTo>
                    <a:lnTo>
                      <a:pt x="132" y="414"/>
                    </a:lnTo>
                    <a:lnTo>
                      <a:pt x="126" y="414"/>
                    </a:lnTo>
                    <a:lnTo>
                      <a:pt x="120" y="414"/>
                    </a:lnTo>
                    <a:lnTo>
                      <a:pt x="96" y="396"/>
                    </a:lnTo>
                    <a:lnTo>
                      <a:pt x="102" y="390"/>
                    </a:lnTo>
                    <a:lnTo>
                      <a:pt x="114" y="378"/>
                    </a:lnTo>
                    <a:lnTo>
                      <a:pt x="120" y="366"/>
                    </a:lnTo>
                    <a:lnTo>
                      <a:pt x="126" y="354"/>
                    </a:lnTo>
                    <a:lnTo>
                      <a:pt x="126" y="342"/>
                    </a:lnTo>
                    <a:lnTo>
                      <a:pt x="132" y="330"/>
                    </a:lnTo>
                    <a:lnTo>
                      <a:pt x="132" y="324"/>
                    </a:lnTo>
                    <a:lnTo>
                      <a:pt x="132" y="318"/>
                    </a:lnTo>
                    <a:lnTo>
                      <a:pt x="126" y="318"/>
                    </a:lnTo>
                    <a:lnTo>
                      <a:pt x="126" y="312"/>
                    </a:lnTo>
                    <a:lnTo>
                      <a:pt x="120" y="312"/>
                    </a:lnTo>
                    <a:lnTo>
                      <a:pt x="114" y="312"/>
                    </a:lnTo>
                    <a:lnTo>
                      <a:pt x="108" y="318"/>
                    </a:lnTo>
                    <a:lnTo>
                      <a:pt x="102" y="318"/>
                    </a:lnTo>
                    <a:lnTo>
                      <a:pt x="96" y="318"/>
                    </a:lnTo>
                    <a:lnTo>
                      <a:pt x="90" y="312"/>
                    </a:lnTo>
                    <a:lnTo>
                      <a:pt x="84" y="312"/>
                    </a:lnTo>
                    <a:lnTo>
                      <a:pt x="84" y="306"/>
                    </a:lnTo>
                    <a:lnTo>
                      <a:pt x="78" y="300"/>
                    </a:lnTo>
                    <a:lnTo>
                      <a:pt x="78" y="294"/>
                    </a:lnTo>
                    <a:lnTo>
                      <a:pt x="72" y="294"/>
                    </a:lnTo>
                    <a:lnTo>
                      <a:pt x="72" y="288"/>
                    </a:lnTo>
                    <a:lnTo>
                      <a:pt x="78" y="282"/>
                    </a:lnTo>
                    <a:lnTo>
                      <a:pt x="84" y="276"/>
                    </a:lnTo>
                    <a:lnTo>
                      <a:pt x="90" y="270"/>
                    </a:lnTo>
                    <a:lnTo>
                      <a:pt x="90" y="264"/>
                    </a:lnTo>
                    <a:lnTo>
                      <a:pt x="90" y="258"/>
                    </a:lnTo>
                    <a:lnTo>
                      <a:pt x="96" y="258"/>
                    </a:lnTo>
                    <a:lnTo>
                      <a:pt x="96" y="252"/>
                    </a:lnTo>
                    <a:lnTo>
                      <a:pt x="90" y="246"/>
                    </a:lnTo>
                    <a:lnTo>
                      <a:pt x="84" y="246"/>
                    </a:lnTo>
                    <a:lnTo>
                      <a:pt x="78" y="258"/>
                    </a:lnTo>
                    <a:lnTo>
                      <a:pt x="78" y="264"/>
                    </a:lnTo>
                    <a:lnTo>
                      <a:pt x="72" y="270"/>
                    </a:lnTo>
                    <a:lnTo>
                      <a:pt x="66" y="276"/>
                    </a:lnTo>
                    <a:lnTo>
                      <a:pt x="60" y="270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48" y="252"/>
                    </a:lnTo>
                    <a:lnTo>
                      <a:pt x="36" y="252"/>
                    </a:lnTo>
                    <a:lnTo>
                      <a:pt x="30" y="258"/>
                    </a:lnTo>
                    <a:lnTo>
                      <a:pt x="24" y="264"/>
                    </a:lnTo>
                    <a:lnTo>
                      <a:pt x="12" y="270"/>
                    </a:lnTo>
                    <a:lnTo>
                      <a:pt x="6" y="282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4"/>
                    </a:lnTo>
                    <a:lnTo>
                      <a:pt x="6" y="252"/>
                    </a:lnTo>
                    <a:lnTo>
                      <a:pt x="12" y="246"/>
                    </a:lnTo>
                    <a:lnTo>
                      <a:pt x="18" y="240"/>
                    </a:lnTo>
                    <a:lnTo>
                      <a:pt x="24" y="234"/>
                    </a:lnTo>
                    <a:lnTo>
                      <a:pt x="36" y="234"/>
                    </a:lnTo>
                    <a:lnTo>
                      <a:pt x="42" y="228"/>
                    </a:lnTo>
                    <a:lnTo>
                      <a:pt x="54" y="228"/>
                    </a:lnTo>
                    <a:lnTo>
                      <a:pt x="60" y="228"/>
                    </a:lnTo>
                    <a:lnTo>
                      <a:pt x="72" y="228"/>
                    </a:lnTo>
                    <a:lnTo>
                      <a:pt x="78" y="234"/>
                    </a:lnTo>
                    <a:lnTo>
                      <a:pt x="90" y="240"/>
                    </a:lnTo>
                    <a:lnTo>
                      <a:pt x="96" y="252"/>
                    </a:lnTo>
                    <a:lnTo>
                      <a:pt x="108" y="258"/>
                    </a:lnTo>
                    <a:lnTo>
                      <a:pt x="114" y="264"/>
                    </a:lnTo>
                    <a:lnTo>
                      <a:pt x="126" y="270"/>
                    </a:lnTo>
                    <a:lnTo>
                      <a:pt x="132" y="264"/>
                    </a:lnTo>
                    <a:lnTo>
                      <a:pt x="138" y="264"/>
                    </a:lnTo>
                    <a:lnTo>
                      <a:pt x="144" y="258"/>
                    </a:lnTo>
                    <a:lnTo>
                      <a:pt x="150" y="252"/>
                    </a:lnTo>
                    <a:lnTo>
                      <a:pt x="144" y="240"/>
                    </a:lnTo>
                    <a:lnTo>
                      <a:pt x="138" y="228"/>
                    </a:lnTo>
                    <a:lnTo>
                      <a:pt x="126" y="222"/>
                    </a:lnTo>
                    <a:lnTo>
                      <a:pt x="114" y="216"/>
                    </a:lnTo>
                    <a:lnTo>
                      <a:pt x="102" y="210"/>
                    </a:lnTo>
                    <a:lnTo>
                      <a:pt x="90" y="198"/>
                    </a:lnTo>
                    <a:lnTo>
                      <a:pt x="90" y="192"/>
                    </a:lnTo>
                    <a:lnTo>
                      <a:pt x="90" y="180"/>
                    </a:lnTo>
                    <a:lnTo>
                      <a:pt x="90" y="174"/>
                    </a:lnTo>
                    <a:lnTo>
                      <a:pt x="96" y="168"/>
                    </a:lnTo>
                    <a:lnTo>
                      <a:pt x="96" y="162"/>
                    </a:lnTo>
                    <a:lnTo>
                      <a:pt x="102" y="162"/>
                    </a:lnTo>
                    <a:lnTo>
                      <a:pt x="108" y="162"/>
                    </a:lnTo>
                    <a:lnTo>
                      <a:pt x="114" y="156"/>
                    </a:lnTo>
                    <a:lnTo>
                      <a:pt x="120" y="156"/>
                    </a:lnTo>
                    <a:lnTo>
                      <a:pt x="126" y="156"/>
                    </a:lnTo>
                    <a:lnTo>
                      <a:pt x="132" y="150"/>
                    </a:lnTo>
                    <a:lnTo>
                      <a:pt x="138" y="144"/>
                    </a:lnTo>
                    <a:lnTo>
                      <a:pt x="132" y="138"/>
                    </a:lnTo>
                    <a:lnTo>
                      <a:pt x="120" y="138"/>
                    </a:lnTo>
                    <a:lnTo>
                      <a:pt x="114" y="138"/>
                    </a:lnTo>
                    <a:lnTo>
                      <a:pt x="108" y="138"/>
                    </a:lnTo>
                    <a:lnTo>
                      <a:pt x="102" y="132"/>
                    </a:lnTo>
                    <a:lnTo>
                      <a:pt x="102" y="120"/>
                    </a:lnTo>
                    <a:lnTo>
                      <a:pt x="90" y="120"/>
                    </a:lnTo>
                    <a:lnTo>
                      <a:pt x="84" y="120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60" y="108"/>
                    </a:lnTo>
                    <a:lnTo>
                      <a:pt x="72" y="108"/>
                    </a:lnTo>
                    <a:lnTo>
                      <a:pt x="90" y="114"/>
                    </a:lnTo>
                    <a:lnTo>
                      <a:pt x="108" y="120"/>
                    </a:lnTo>
                    <a:lnTo>
                      <a:pt x="120" y="126"/>
                    </a:lnTo>
                    <a:lnTo>
                      <a:pt x="138" y="126"/>
                    </a:lnTo>
                    <a:lnTo>
                      <a:pt x="144" y="144"/>
                    </a:lnTo>
                    <a:lnTo>
                      <a:pt x="150" y="156"/>
                    </a:lnTo>
                    <a:lnTo>
                      <a:pt x="156" y="174"/>
                    </a:lnTo>
                    <a:lnTo>
                      <a:pt x="162" y="192"/>
                    </a:lnTo>
                    <a:lnTo>
                      <a:pt x="168" y="204"/>
                    </a:lnTo>
                    <a:lnTo>
                      <a:pt x="180" y="216"/>
                    </a:lnTo>
                    <a:lnTo>
                      <a:pt x="186" y="216"/>
                    </a:lnTo>
                    <a:lnTo>
                      <a:pt x="186" y="210"/>
                    </a:lnTo>
                    <a:lnTo>
                      <a:pt x="192" y="210"/>
                    </a:lnTo>
                    <a:lnTo>
                      <a:pt x="192" y="204"/>
                    </a:lnTo>
                    <a:lnTo>
                      <a:pt x="192" y="192"/>
                    </a:lnTo>
                    <a:lnTo>
                      <a:pt x="192" y="186"/>
                    </a:lnTo>
                    <a:lnTo>
                      <a:pt x="192" y="174"/>
                    </a:lnTo>
                    <a:lnTo>
                      <a:pt x="186" y="168"/>
                    </a:lnTo>
                    <a:lnTo>
                      <a:pt x="192" y="156"/>
                    </a:lnTo>
                    <a:lnTo>
                      <a:pt x="198" y="150"/>
                    </a:lnTo>
                    <a:lnTo>
                      <a:pt x="204" y="150"/>
                    </a:lnTo>
                    <a:lnTo>
                      <a:pt x="210" y="150"/>
                    </a:lnTo>
                    <a:lnTo>
                      <a:pt x="222" y="150"/>
                    </a:lnTo>
                    <a:lnTo>
                      <a:pt x="228" y="150"/>
                    </a:lnTo>
                    <a:lnTo>
                      <a:pt x="234" y="150"/>
                    </a:lnTo>
                    <a:lnTo>
                      <a:pt x="246" y="150"/>
                    </a:lnTo>
                    <a:lnTo>
                      <a:pt x="246" y="168"/>
                    </a:lnTo>
                    <a:lnTo>
                      <a:pt x="234" y="186"/>
                    </a:lnTo>
                    <a:lnTo>
                      <a:pt x="222" y="204"/>
                    </a:lnTo>
                    <a:lnTo>
                      <a:pt x="216" y="222"/>
                    </a:lnTo>
                    <a:lnTo>
                      <a:pt x="216" y="240"/>
                    </a:lnTo>
                    <a:lnTo>
                      <a:pt x="228" y="258"/>
                    </a:lnTo>
                    <a:lnTo>
                      <a:pt x="240" y="282"/>
                    </a:lnTo>
                    <a:lnTo>
                      <a:pt x="252" y="300"/>
                    </a:lnTo>
                    <a:lnTo>
                      <a:pt x="270" y="324"/>
                    </a:lnTo>
                    <a:lnTo>
                      <a:pt x="282" y="342"/>
                    </a:lnTo>
                    <a:lnTo>
                      <a:pt x="300" y="360"/>
                    </a:lnTo>
                    <a:lnTo>
                      <a:pt x="318" y="378"/>
                    </a:lnTo>
                    <a:lnTo>
                      <a:pt x="330" y="396"/>
                    </a:lnTo>
                    <a:lnTo>
                      <a:pt x="348" y="420"/>
                    </a:lnTo>
                    <a:lnTo>
                      <a:pt x="360" y="438"/>
                    </a:lnTo>
                    <a:lnTo>
                      <a:pt x="372" y="462"/>
                    </a:lnTo>
                    <a:lnTo>
                      <a:pt x="384" y="480"/>
                    </a:lnTo>
                    <a:lnTo>
                      <a:pt x="390" y="504"/>
                    </a:lnTo>
                    <a:lnTo>
                      <a:pt x="396" y="540"/>
                    </a:lnTo>
                    <a:lnTo>
                      <a:pt x="414" y="564"/>
                    </a:lnTo>
                    <a:lnTo>
                      <a:pt x="432" y="588"/>
                    </a:lnTo>
                    <a:lnTo>
                      <a:pt x="450" y="612"/>
                    </a:lnTo>
                    <a:lnTo>
                      <a:pt x="474" y="636"/>
                    </a:lnTo>
                    <a:lnTo>
                      <a:pt x="498" y="660"/>
                    </a:lnTo>
                    <a:lnTo>
                      <a:pt x="498" y="666"/>
                    </a:lnTo>
                    <a:lnTo>
                      <a:pt x="492" y="672"/>
                    </a:lnTo>
                    <a:lnTo>
                      <a:pt x="486" y="678"/>
                    </a:lnTo>
                    <a:lnTo>
                      <a:pt x="480" y="678"/>
                    </a:lnTo>
                    <a:lnTo>
                      <a:pt x="474" y="684"/>
                    </a:lnTo>
                    <a:lnTo>
                      <a:pt x="462" y="684"/>
                    </a:lnTo>
                    <a:lnTo>
                      <a:pt x="456" y="684"/>
                    </a:lnTo>
                    <a:lnTo>
                      <a:pt x="444" y="678"/>
                    </a:lnTo>
                    <a:lnTo>
                      <a:pt x="432" y="672"/>
                    </a:lnTo>
                    <a:lnTo>
                      <a:pt x="426" y="666"/>
                    </a:lnTo>
                    <a:lnTo>
                      <a:pt x="414" y="660"/>
                    </a:lnTo>
                    <a:lnTo>
                      <a:pt x="408" y="654"/>
                    </a:lnTo>
                    <a:lnTo>
                      <a:pt x="402" y="654"/>
                    </a:lnTo>
                    <a:lnTo>
                      <a:pt x="396" y="660"/>
                    </a:lnTo>
                    <a:lnTo>
                      <a:pt x="396" y="666"/>
                    </a:lnTo>
                    <a:lnTo>
                      <a:pt x="396" y="678"/>
                    </a:lnTo>
                    <a:lnTo>
                      <a:pt x="396" y="684"/>
                    </a:lnTo>
                    <a:lnTo>
                      <a:pt x="402" y="690"/>
                    </a:lnTo>
                    <a:lnTo>
                      <a:pt x="402" y="702"/>
                    </a:lnTo>
                    <a:lnTo>
                      <a:pt x="414" y="714"/>
                    </a:lnTo>
                    <a:lnTo>
                      <a:pt x="426" y="726"/>
                    </a:lnTo>
                    <a:lnTo>
                      <a:pt x="438" y="732"/>
                    </a:lnTo>
                    <a:lnTo>
                      <a:pt x="456" y="744"/>
                    </a:lnTo>
                    <a:lnTo>
                      <a:pt x="468" y="744"/>
                    </a:lnTo>
                    <a:lnTo>
                      <a:pt x="486" y="744"/>
                    </a:lnTo>
                    <a:lnTo>
                      <a:pt x="498" y="738"/>
                    </a:lnTo>
                    <a:lnTo>
                      <a:pt x="510" y="732"/>
                    </a:lnTo>
                    <a:lnTo>
                      <a:pt x="522" y="726"/>
                    </a:lnTo>
                    <a:lnTo>
                      <a:pt x="534" y="720"/>
                    </a:lnTo>
                    <a:lnTo>
                      <a:pt x="540" y="708"/>
                    </a:lnTo>
                    <a:lnTo>
                      <a:pt x="546" y="702"/>
                    </a:lnTo>
                    <a:lnTo>
                      <a:pt x="552" y="708"/>
                    </a:lnTo>
                    <a:lnTo>
                      <a:pt x="558" y="714"/>
                    </a:lnTo>
                    <a:lnTo>
                      <a:pt x="558" y="720"/>
                    </a:lnTo>
                    <a:lnTo>
                      <a:pt x="564" y="726"/>
                    </a:lnTo>
                    <a:lnTo>
                      <a:pt x="570" y="732"/>
                    </a:lnTo>
                    <a:lnTo>
                      <a:pt x="576" y="738"/>
                    </a:lnTo>
                    <a:lnTo>
                      <a:pt x="552" y="750"/>
                    </a:lnTo>
                    <a:lnTo>
                      <a:pt x="534" y="774"/>
                    </a:lnTo>
                    <a:lnTo>
                      <a:pt x="516" y="792"/>
                    </a:lnTo>
                    <a:lnTo>
                      <a:pt x="504" y="816"/>
                    </a:lnTo>
                    <a:lnTo>
                      <a:pt x="492" y="840"/>
                    </a:lnTo>
                    <a:lnTo>
                      <a:pt x="474" y="864"/>
                    </a:lnTo>
                    <a:lnTo>
                      <a:pt x="474" y="870"/>
                    </a:lnTo>
                    <a:lnTo>
                      <a:pt x="474" y="876"/>
                    </a:lnTo>
                    <a:lnTo>
                      <a:pt x="474" y="882"/>
                    </a:lnTo>
                    <a:lnTo>
                      <a:pt x="474" y="888"/>
                    </a:lnTo>
                    <a:lnTo>
                      <a:pt x="474" y="894"/>
                    </a:lnTo>
                    <a:lnTo>
                      <a:pt x="480" y="900"/>
                    </a:lnTo>
                    <a:lnTo>
                      <a:pt x="486" y="900"/>
                    </a:lnTo>
                    <a:lnTo>
                      <a:pt x="492" y="900"/>
                    </a:lnTo>
                    <a:lnTo>
                      <a:pt x="492" y="894"/>
                    </a:lnTo>
                    <a:lnTo>
                      <a:pt x="498" y="888"/>
                    </a:lnTo>
                    <a:lnTo>
                      <a:pt x="504" y="882"/>
                    </a:lnTo>
                    <a:lnTo>
                      <a:pt x="510" y="876"/>
                    </a:lnTo>
                    <a:lnTo>
                      <a:pt x="522" y="864"/>
                    </a:lnTo>
                    <a:lnTo>
                      <a:pt x="540" y="858"/>
                    </a:lnTo>
                    <a:lnTo>
                      <a:pt x="558" y="852"/>
                    </a:lnTo>
                    <a:lnTo>
                      <a:pt x="576" y="846"/>
                    </a:lnTo>
                    <a:lnTo>
                      <a:pt x="588" y="834"/>
                    </a:lnTo>
                    <a:lnTo>
                      <a:pt x="606" y="828"/>
                    </a:lnTo>
                    <a:lnTo>
                      <a:pt x="612" y="840"/>
                    </a:lnTo>
                    <a:lnTo>
                      <a:pt x="618" y="852"/>
                    </a:lnTo>
                    <a:lnTo>
                      <a:pt x="624" y="870"/>
                    </a:lnTo>
                    <a:lnTo>
                      <a:pt x="636" y="882"/>
                    </a:lnTo>
                    <a:lnTo>
                      <a:pt x="642" y="894"/>
                    </a:lnTo>
                    <a:lnTo>
                      <a:pt x="660" y="900"/>
                    </a:lnTo>
                    <a:lnTo>
                      <a:pt x="666" y="900"/>
                    </a:lnTo>
                    <a:lnTo>
                      <a:pt x="672" y="894"/>
                    </a:lnTo>
                    <a:lnTo>
                      <a:pt x="672" y="888"/>
                    </a:lnTo>
                    <a:lnTo>
                      <a:pt x="666" y="882"/>
                    </a:lnTo>
                    <a:lnTo>
                      <a:pt x="666" y="876"/>
                    </a:lnTo>
                    <a:lnTo>
                      <a:pt x="666" y="864"/>
                    </a:lnTo>
                    <a:lnTo>
                      <a:pt x="660" y="858"/>
                    </a:lnTo>
                    <a:lnTo>
                      <a:pt x="660" y="852"/>
                    </a:lnTo>
                    <a:lnTo>
                      <a:pt x="666" y="840"/>
                    </a:lnTo>
                    <a:lnTo>
                      <a:pt x="678" y="834"/>
                    </a:lnTo>
                    <a:lnTo>
                      <a:pt x="684" y="840"/>
                    </a:lnTo>
                    <a:lnTo>
                      <a:pt x="684" y="846"/>
                    </a:lnTo>
                    <a:lnTo>
                      <a:pt x="684" y="852"/>
                    </a:lnTo>
                    <a:lnTo>
                      <a:pt x="690" y="858"/>
                    </a:lnTo>
                    <a:lnTo>
                      <a:pt x="696" y="864"/>
                    </a:lnTo>
                    <a:lnTo>
                      <a:pt x="696" y="876"/>
                    </a:lnTo>
                    <a:lnTo>
                      <a:pt x="702" y="882"/>
                    </a:lnTo>
                    <a:lnTo>
                      <a:pt x="708" y="888"/>
                    </a:lnTo>
                    <a:lnTo>
                      <a:pt x="714" y="894"/>
                    </a:lnTo>
                    <a:lnTo>
                      <a:pt x="720" y="894"/>
                    </a:lnTo>
                    <a:lnTo>
                      <a:pt x="726" y="894"/>
                    </a:lnTo>
                    <a:lnTo>
                      <a:pt x="732" y="894"/>
                    </a:lnTo>
                    <a:lnTo>
                      <a:pt x="738" y="888"/>
                    </a:lnTo>
                    <a:lnTo>
                      <a:pt x="750" y="888"/>
                    </a:lnTo>
                    <a:lnTo>
                      <a:pt x="756" y="888"/>
                    </a:lnTo>
                    <a:lnTo>
                      <a:pt x="756" y="882"/>
                    </a:lnTo>
                    <a:lnTo>
                      <a:pt x="756" y="876"/>
                    </a:lnTo>
                    <a:lnTo>
                      <a:pt x="750" y="870"/>
                    </a:lnTo>
                    <a:lnTo>
                      <a:pt x="744" y="864"/>
                    </a:lnTo>
                    <a:lnTo>
                      <a:pt x="744" y="858"/>
                    </a:lnTo>
                    <a:lnTo>
                      <a:pt x="744" y="852"/>
                    </a:lnTo>
                    <a:lnTo>
                      <a:pt x="744" y="840"/>
                    </a:lnTo>
                    <a:lnTo>
                      <a:pt x="744" y="834"/>
                    </a:lnTo>
                    <a:lnTo>
                      <a:pt x="744" y="828"/>
                    </a:lnTo>
                    <a:lnTo>
                      <a:pt x="750" y="822"/>
                    </a:lnTo>
                    <a:lnTo>
                      <a:pt x="756" y="816"/>
                    </a:lnTo>
                    <a:lnTo>
                      <a:pt x="762" y="816"/>
                    </a:lnTo>
                    <a:lnTo>
                      <a:pt x="768" y="810"/>
                    </a:lnTo>
                    <a:lnTo>
                      <a:pt x="774" y="810"/>
                    </a:lnTo>
                    <a:lnTo>
                      <a:pt x="816" y="810"/>
                    </a:lnTo>
                    <a:lnTo>
                      <a:pt x="816" y="828"/>
                    </a:lnTo>
                    <a:lnTo>
                      <a:pt x="810" y="840"/>
                    </a:lnTo>
                    <a:lnTo>
                      <a:pt x="816" y="858"/>
                    </a:lnTo>
                    <a:lnTo>
                      <a:pt x="822" y="870"/>
                    </a:lnTo>
                    <a:lnTo>
                      <a:pt x="828" y="882"/>
                    </a:lnTo>
                    <a:lnTo>
                      <a:pt x="834" y="894"/>
                    </a:lnTo>
                    <a:lnTo>
                      <a:pt x="846" y="900"/>
                    </a:lnTo>
                    <a:lnTo>
                      <a:pt x="852" y="906"/>
                    </a:lnTo>
                    <a:lnTo>
                      <a:pt x="858" y="906"/>
                    </a:lnTo>
                    <a:lnTo>
                      <a:pt x="864" y="912"/>
                    </a:lnTo>
                    <a:lnTo>
                      <a:pt x="876" y="912"/>
                    </a:lnTo>
                    <a:lnTo>
                      <a:pt x="882" y="918"/>
                    </a:lnTo>
                    <a:lnTo>
                      <a:pt x="888" y="912"/>
                    </a:lnTo>
                    <a:lnTo>
                      <a:pt x="882" y="906"/>
                    </a:lnTo>
                    <a:lnTo>
                      <a:pt x="882" y="894"/>
                    </a:lnTo>
                    <a:lnTo>
                      <a:pt x="882" y="882"/>
                    </a:lnTo>
                    <a:lnTo>
                      <a:pt x="882" y="870"/>
                    </a:lnTo>
                    <a:lnTo>
                      <a:pt x="882" y="858"/>
                    </a:lnTo>
                    <a:lnTo>
                      <a:pt x="894" y="846"/>
                    </a:lnTo>
                    <a:lnTo>
                      <a:pt x="900" y="840"/>
                    </a:lnTo>
                    <a:lnTo>
                      <a:pt x="912" y="828"/>
                    </a:lnTo>
                    <a:lnTo>
                      <a:pt x="930" y="822"/>
                    </a:lnTo>
                    <a:lnTo>
                      <a:pt x="942" y="816"/>
                    </a:lnTo>
                    <a:lnTo>
                      <a:pt x="954" y="810"/>
                    </a:lnTo>
                    <a:lnTo>
                      <a:pt x="960" y="798"/>
                    </a:lnTo>
                    <a:lnTo>
                      <a:pt x="966" y="822"/>
                    </a:lnTo>
                    <a:lnTo>
                      <a:pt x="966" y="846"/>
                    </a:lnTo>
                    <a:lnTo>
                      <a:pt x="966" y="870"/>
                    </a:lnTo>
                    <a:lnTo>
                      <a:pt x="978" y="894"/>
                    </a:lnTo>
                    <a:lnTo>
                      <a:pt x="990" y="912"/>
                    </a:lnTo>
                    <a:lnTo>
                      <a:pt x="1020" y="924"/>
                    </a:lnTo>
                    <a:lnTo>
                      <a:pt x="1020" y="954"/>
                    </a:lnTo>
                    <a:lnTo>
                      <a:pt x="1032" y="990"/>
                    </a:lnTo>
                    <a:lnTo>
                      <a:pt x="1038" y="1020"/>
                    </a:lnTo>
                    <a:lnTo>
                      <a:pt x="1050" y="1056"/>
                    </a:lnTo>
                    <a:lnTo>
                      <a:pt x="1068" y="1086"/>
                    </a:lnTo>
                    <a:lnTo>
                      <a:pt x="1086" y="1116"/>
                    </a:lnTo>
                    <a:lnTo>
                      <a:pt x="1110" y="1158"/>
                    </a:lnTo>
                    <a:lnTo>
                      <a:pt x="1140" y="1194"/>
                    </a:lnTo>
                    <a:lnTo>
                      <a:pt x="1176" y="1230"/>
                    </a:lnTo>
                    <a:lnTo>
                      <a:pt x="1212" y="1254"/>
                    </a:lnTo>
                    <a:lnTo>
                      <a:pt x="1254" y="1278"/>
                    </a:lnTo>
                    <a:lnTo>
                      <a:pt x="1302" y="1284"/>
                    </a:lnTo>
                    <a:lnTo>
                      <a:pt x="1332" y="1284"/>
                    </a:lnTo>
                    <a:lnTo>
                      <a:pt x="1368" y="1284"/>
                    </a:lnTo>
                    <a:lnTo>
                      <a:pt x="1404" y="1278"/>
                    </a:lnTo>
                    <a:lnTo>
                      <a:pt x="1434" y="1266"/>
                    </a:lnTo>
                    <a:lnTo>
                      <a:pt x="1464" y="1248"/>
                    </a:lnTo>
                    <a:lnTo>
                      <a:pt x="1488" y="1224"/>
                    </a:lnTo>
                    <a:lnTo>
                      <a:pt x="1500" y="1212"/>
                    </a:lnTo>
                    <a:lnTo>
                      <a:pt x="1506" y="1200"/>
                    </a:lnTo>
                    <a:lnTo>
                      <a:pt x="1512" y="1182"/>
                    </a:lnTo>
                    <a:lnTo>
                      <a:pt x="1518" y="1170"/>
                    </a:lnTo>
                    <a:lnTo>
                      <a:pt x="1518" y="1158"/>
                    </a:lnTo>
                    <a:lnTo>
                      <a:pt x="1518" y="1140"/>
                    </a:lnTo>
                    <a:lnTo>
                      <a:pt x="1512" y="1116"/>
                    </a:lnTo>
                    <a:lnTo>
                      <a:pt x="1500" y="1092"/>
                    </a:lnTo>
                    <a:lnTo>
                      <a:pt x="1488" y="1068"/>
                    </a:lnTo>
                    <a:lnTo>
                      <a:pt x="1470" y="1044"/>
                    </a:lnTo>
                    <a:lnTo>
                      <a:pt x="1446" y="1026"/>
                    </a:lnTo>
                    <a:lnTo>
                      <a:pt x="1422" y="1014"/>
                    </a:lnTo>
                    <a:lnTo>
                      <a:pt x="1416" y="1008"/>
                    </a:lnTo>
                    <a:lnTo>
                      <a:pt x="1404" y="1002"/>
                    </a:lnTo>
                    <a:lnTo>
                      <a:pt x="1392" y="1002"/>
                    </a:lnTo>
                    <a:lnTo>
                      <a:pt x="1380" y="1002"/>
                    </a:lnTo>
                    <a:lnTo>
                      <a:pt x="1368" y="1002"/>
                    </a:lnTo>
                    <a:lnTo>
                      <a:pt x="1362" y="1008"/>
                    </a:lnTo>
                    <a:lnTo>
                      <a:pt x="1350" y="1014"/>
                    </a:lnTo>
                    <a:lnTo>
                      <a:pt x="1338" y="1020"/>
                    </a:lnTo>
                    <a:lnTo>
                      <a:pt x="1332" y="1026"/>
                    </a:lnTo>
                    <a:lnTo>
                      <a:pt x="1326" y="1038"/>
                    </a:lnTo>
                    <a:lnTo>
                      <a:pt x="1314" y="1044"/>
                    </a:lnTo>
                    <a:lnTo>
                      <a:pt x="1308" y="1056"/>
                    </a:lnTo>
                    <a:lnTo>
                      <a:pt x="1308" y="1062"/>
                    </a:lnTo>
                    <a:lnTo>
                      <a:pt x="1308" y="1068"/>
                    </a:lnTo>
                    <a:lnTo>
                      <a:pt x="1308" y="1080"/>
                    </a:lnTo>
                    <a:lnTo>
                      <a:pt x="1314" y="1086"/>
                    </a:lnTo>
                    <a:lnTo>
                      <a:pt x="1314" y="1092"/>
                    </a:lnTo>
                    <a:lnTo>
                      <a:pt x="1320" y="1098"/>
                    </a:lnTo>
                    <a:lnTo>
                      <a:pt x="1332" y="1110"/>
                    </a:lnTo>
                    <a:lnTo>
                      <a:pt x="1344" y="1110"/>
                    </a:lnTo>
                    <a:lnTo>
                      <a:pt x="1356" y="1116"/>
                    </a:lnTo>
                    <a:lnTo>
                      <a:pt x="1368" y="1116"/>
                    </a:lnTo>
                    <a:lnTo>
                      <a:pt x="1380" y="1116"/>
                    </a:lnTo>
                    <a:lnTo>
                      <a:pt x="1398" y="1104"/>
                    </a:lnTo>
                    <a:lnTo>
                      <a:pt x="1392" y="1116"/>
                    </a:lnTo>
                    <a:lnTo>
                      <a:pt x="1386" y="1122"/>
                    </a:lnTo>
                    <a:lnTo>
                      <a:pt x="1380" y="1128"/>
                    </a:lnTo>
                    <a:lnTo>
                      <a:pt x="1374" y="1134"/>
                    </a:lnTo>
                    <a:lnTo>
                      <a:pt x="1362" y="1134"/>
                    </a:lnTo>
                    <a:lnTo>
                      <a:pt x="1356" y="1140"/>
                    </a:lnTo>
                    <a:lnTo>
                      <a:pt x="1314" y="1134"/>
                    </a:lnTo>
                    <a:lnTo>
                      <a:pt x="1308" y="1122"/>
                    </a:lnTo>
                    <a:lnTo>
                      <a:pt x="1296" y="1116"/>
                    </a:lnTo>
                    <a:lnTo>
                      <a:pt x="1290" y="1110"/>
                    </a:lnTo>
                    <a:lnTo>
                      <a:pt x="1278" y="1098"/>
                    </a:lnTo>
                    <a:lnTo>
                      <a:pt x="1272" y="1086"/>
                    </a:lnTo>
                    <a:lnTo>
                      <a:pt x="1272" y="1074"/>
                    </a:lnTo>
                    <a:lnTo>
                      <a:pt x="1272" y="1062"/>
                    </a:lnTo>
                    <a:lnTo>
                      <a:pt x="1278" y="1056"/>
                    </a:lnTo>
                    <a:lnTo>
                      <a:pt x="1278" y="1044"/>
                    </a:lnTo>
                    <a:lnTo>
                      <a:pt x="1284" y="1032"/>
                    </a:lnTo>
                    <a:lnTo>
                      <a:pt x="1290" y="1020"/>
                    </a:lnTo>
                    <a:lnTo>
                      <a:pt x="1296" y="1014"/>
                    </a:lnTo>
                    <a:lnTo>
                      <a:pt x="1296" y="1008"/>
                    </a:lnTo>
                    <a:lnTo>
                      <a:pt x="1290" y="1008"/>
                    </a:lnTo>
                    <a:lnTo>
                      <a:pt x="1284" y="1008"/>
                    </a:lnTo>
                    <a:lnTo>
                      <a:pt x="1278" y="1008"/>
                    </a:lnTo>
                    <a:lnTo>
                      <a:pt x="1272" y="1014"/>
                    </a:lnTo>
                    <a:lnTo>
                      <a:pt x="1260" y="1008"/>
                    </a:lnTo>
                    <a:lnTo>
                      <a:pt x="1254" y="1008"/>
                    </a:lnTo>
                    <a:lnTo>
                      <a:pt x="1248" y="1002"/>
                    </a:lnTo>
                    <a:lnTo>
                      <a:pt x="1242" y="996"/>
                    </a:lnTo>
                    <a:lnTo>
                      <a:pt x="1236" y="996"/>
                    </a:lnTo>
                    <a:lnTo>
                      <a:pt x="1248" y="996"/>
                    </a:lnTo>
                    <a:lnTo>
                      <a:pt x="1260" y="990"/>
                    </a:lnTo>
                    <a:lnTo>
                      <a:pt x="1272" y="990"/>
                    </a:lnTo>
                    <a:lnTo>
                      <a:pt x="1284" y="990"/>
                    </a:lnTo>
                    <a:lnTo>
                      <a:pt x="1296" y="984"/>
                    </a:lnTo>
                    <a:lnTo>
                      <a:pt x="1302" y="978"/>
                    </a:lnTo>
                    <a:lnTo>
                      <a:pt x="1296" y="972"/>
                    </a:lnTo>
                    <a:lnTo>
                      <a:pt x="1290" y="966"/>
                    </a:lnTo>
                    <a:lnTo>
                      <a:pt x="1284" y="960"/>
                    </a:lnTo>
                    <a:lnTo>
                      <a:pt x="1278" y="954"/>
                    </a:lnTo>
                    <a:lnTo>
                      <a:pt x="1266" y="954"/>
                    </a:lnTo>
                    <a:lnTo>
                      <a:pt x="1260" y="948"/>
                    </a:lnTo>
                    <a:lnTo>
                      <a:pt x="1254" y="930"/>
                    </a:lnTo>
                    <a:lnTo>
                      <a:pt x="1248" y="918"/>
                    </a:lnTo>
                    <a:lnTo>
                      <a:pt x="1242" y="900"/>
                    </a:lnTo>
                    <a:lnTo>
                      <a:pt x="1242" y="888"/>
                    </a:lnTo>
                    <a:lnTo>
                      <a:pt x="1248" y="870"/>
                    </a:lnTo>
                    <a:lnTo>
                      <a:pt x="1254" y="852"/>
                    </a:lnTo>
                    <a:lnTo>
                      <a:pt x="1254" y="846"/>
                    </a:lnTo>
                    <a:lnTo>
                      <a:pt x="1260" y="840"/>
                    </a:lnTo>
                    <a:lnTo>
                      <a:pt x="1266" y="840"/>
                    </a:lnTo>
                    <a:lnTo>
                      <a:pt x="1272" y="840"/>
                    </a:lnTo>
                    <a:lnTo>
                      <a:pt x="1278" y="840"/>
                    </a:lnTo>
                    <a:lnTo>
                      <a:pt x="1284" y="840"/>
                    </a:lnTo>
                    <a:lnTo>
                      <a:pt x="1290" y="840"/>
                    </a:lnTo>
                    <a:lnTo>
                      <a:pt x="1278" y="846"/>
                    </a:lnTo>
                    <a:lnTo>
                      <a:pt x="1278" y="858"/>
                    </a:lnTo>
                    <a:lnTo>
                      <a:pt x="1278" y="870"/>
                    </a:lnTo>
                    <a:lnTo>
                      <a:pt x="1278" y="882"/>
                    </a:lnTo>
                    <a:lnTo>
                      <a:pt x="1284" y="894"/>
                    </a:lnTo>
                    <a:lnTo>
                      <a:pt x="1284" y="906"/>
                    </a:lnTo>
                    <a:lnTo>
                      <a:pt x="1302" y="918"/>
                    </a:lnTo>
                    <a:lnTo>
                      <a:pt x="1314" y="930"/>
                    </a:lnTo>
                    <a:lnTo>
                      <a:pt x="1332" y="936"/>
                    </a:lnTo>
                    <a:lnTo>
                      <a:pt x="1350" y="936"/>
                    </a:lnTo>
                    <a:lnTo>
                      <a:pt x="1368" y="936"/>
                    </a:lnTo>
                    <a:lnTo>
                      <a:pt x="1386" y="942"/>
                    </a:lnTo>
                    <a:lnTo>
                      <a:pt x="1392" y="936"/>
                    </a:lnTo>
                    <a:lnTo>
                      <a:pt x="1404" y="936"/>
                    </a:lnTo>
                    <a:lnTo>
                      <a:pt x="1410" y="936"/>
                    </a:lnTo>
                    <a:lnTo>
                      <a:pt x="1422" y="936"/>
                    </a:lnTo>
                    <a:lnTo>
                      <a:pt x="1428" y="930"/>
                    </a:lnTo>
                    <a:lnTo>
                      <a:pt x="1434" y="924"/>
                    </a:lnTo>
                    <a:lnTo>
                      <a:pt x="1410" y="894"/>
                    </a:lnTo>
                    <a:lnTo>
                      <a:pt x="1392" y="864"/>
                    </a:lnTo>
                    <a:lnTo>
                      <a:pt x="1374" y="834"/>
                    </a:lnTo>
                    <a:lnTo>
                      <a:pt x="1356" y="804"/>
                    </a:lnTo>
                    <a:lnTo>
                      <a:pt x="1344" y="768"/>
                    </a:lnTo>
                    <a:lnTo>
                      <a:pt x="1338" y="732"/>
                    </a:lnTo>
                    <a:lnTo>
                      <a:pt x="1314" y="642"/>
                    </a:lnTo>
                    <a:lnTo>
                      <a:pt x="1302" y="546"/>
                    </a:lnTo>
                    <a:lnTo>
                      <a:pt x="1308" y="444"/>
                    </a:lnTo>
                    <a:lnTo>
                      <a:pt x="1332" y="354"/>
                    </a:lnTo>
                    <a:lnTo>
                      <a:pt x="1368" y="264"/>
                    </a:lnTo>
                    <a:lnTo>
                      <a:pt x="1410" y="180"/>
                    </a:lnTo>
                    <a:lnTo>
                      <a:pt x="1416" y="168"/>
                    </a:lnTo>
                    <a:lnTo>
                      <a:pt x="1410" y="162"/>
                    </a:lnTo>
                    <a:lnTo>
                      <a:pt x="1410" y="150"/>
                    </a:lnTo>
                    <a:lnTo>
                      <a:pt x="1404" y="144"/>
                    </a:lnTo>
                    <a:lnTo>
                      <a:pt x="1404" y="138"/>
                    </a:lnTo>
                    <a:lnTo>
                      <a:pt x="1398" y="126"/>
                    </a:lnTo>
                    <a:lnTo>
                      <a:pt x="1398" y="120"/>
                    </a:lnTo>
                    <a:lnTo>
                      <a:pt x="1392" y="120"/>
                    </a:lnTo>
                    <a:lnTo>
                      <a:pt x="1386" y="114"/>
                    </a:lnTo>
                    <a:lnTo>
                      <a:pt x="1380" y="108"/>
                    </a:lnTo>
                    <a:lnTo>
                      <a:pt x="1374" y="108"/>
                    </a:lnTo>
                    <a:lnTo>
                      <a:pt x="1362" y="108"/>
                    </a:lnTo>
                    <a:lnTo>
                      <a:pt x="1356" y="108"/>
                    </a:lnTo>
                    <a:lnTo>
                      <a:pt x="1350" y="114"/>
                    </a:lnTo>
                    <a:lnTo>
                      <a:pt x="1344" y="114"/>
                    </a:lnTo>
                    <a:lnTo>
                      <a:pt x="1338" y="120"/>
                    </a:lnTo>
                    <a:lnTo>
                      <a:pt x="1332" y="126"/>
                    </a:lnTo>
                    <a:lnTo>
                      <a:pt x="1326" y="132"/>
                    </a:lnTo>
                    <a:lnTo>
                      <a:pt x="1326" y="150"/>
                    </a:lnTo>
                    <a:lnTo>
                      <a:pt x="1320" y="150"/>
                    </a:lnTo>
                    <a:lnTo>
                      <a:pt x="1314" y="144"/>
                    </a:lnTo>
                    <a:lnTo>
                      <a:pt x="1308" y="138"/>
                    </a:lnTo>
                    <a:lnTo>
                      <a:pt x="1308" y="126"/>
                    </a:lnTo>
                    <a:lnTo>
                      <a:pt x="1302" y="120"/>
                    </a:lnTo>
                    <a:lnTo>
                      <a:pt x="1302" y="108"/>
                    </a:lnTo>
                    <a:lnTo>
                      <a:pt x="1308" y="102"/>
                    </a:lnTo>
                    <a:lnTo>
                      <a:pt x="1308" y="90"/>
                    </a:lnTo>
                    <a:lnTo>
                      <a:pt x="1314" y="84"/>
                    </a:lnTo>
                    <a:lnTo>
                      <a:pt x="1326" y="78"/>
                    </a:lnTo>
                    <a:lnTo>
                      <a:pt x="1332" y="72"/>
                    </a:lnTo>
                    <a:lnTo>
                      <a:pt x="1338" y="66"/>
                    </a:lnTo>
                    <a:lnTo>
                      <a:pt x="1356" y="60"/>
                    </a:lnTo>
                    <a:lnTo>
                      <a:pt x="1380" y="54"/>
                    </a:lnTo>
                    <a:lnTo>
                      <a:pt x="1404" y="54"/>
                    </a:lnTo>
                    <a:lnTo>
                      <a:pt x="1422" y="54"/>
                    </a:lnTo>
                    <a:lnTo>
                      <a:pt x="1440" y="66"/>
                    </a:lnTo>
                    <a:lnTo>
                      <a:pt x="1458" y="78"/>
                    </a:lnTo>
                    <a:lnTo>
                      <a:pt x="1464" y="90"/>
                    </a:lnTo>
                    <a:lnTo>
                      <a:pt x="1470" y="102"/>
                    </a:lnTo>
                    <a:lnTo>
                      <a:pt x="1476" y="114"/>
                    </a:lnTo>
                    <a:lnTo>
                      <a:pt x="1482" y="126"/>
                    </a:lnTo>
                    <a:lnTo>
                      <a:pt x="1482" y="138"/>
                    </a:lnTo>
                    <a:lnTo>
                      <a:pt x="1476" y="156"/>
                    </a:lnTo>
                    <a:lnTo>
                      <a:pt x="1452" y="174"/>
                    </a:lnTo>
                    <a:lnTo>
                      <a:pt x="1458" y="180"/>
                    </a:lnTo>
                    <a:lnTo>
                      <a:pt x="1464" y="180"/>
                    </a:lnTo>
                    <a:lnTo>
                      <a:pt x="1470" y="180"/>
                    </a:lnTo>
                    <a:lnTo>
                      <a:pt x="1476" y="174"/>
                    </a:lnTo>
                    <a:lnTo>
                      <a:pt x="1482" y="162"/>
                    </a:lnTo>
                    <a:lnTo>
                      <a:pt x="1494" y="150"/>
                    </a:lnTo>
                    <a:lnTo>
                      <a:pt x="1500" y="144"/>
                    </a:lnTo>
                    <a:lnTo>
                      <a:pt x="1512" y="138"/>
                    </a:lnTo>
                    <a:lnTo>
                      <a:pt x="1524" y="138"/>
                    </a:lnTo>
                    <a:lnTo>
                      <a:pt x="1536" y="138"/>
                    </a:lnTo>
                    <a:lnTo>
                      <a:pt x="1548" y="138"/>
                    </a:lnTo>
                    <a:lnTo>
                      <a:pt x="1566" y="138"/>
                    </a:lnTo>
                    <a:lnTo>
                      <a:pt x="1578" y="144"/>
                    </a:lnTo>
                    <a:lnTo>
                      <a:pt x="1590" y="144"/>
                    </a:lnTo>
                    <a:lnTo>
                      <a:pt x="1602" y="138"/>
                    </a:lnTo>
                    <a:lnTo>
                      <a:pt x="1620" y="132"/>
                    </a:lnTo>
                    <a:lnTo>
                      <a:pt x="1626" y="120"/>
                    </a:lnTo>
                    <a:lnTo>
                      <a:pt x="1632" y="108"/>
                    </a:lnTo>
                    <a:lnTo>
                      <a:pt x="1638" y="96"/>
                    </a:lnTo>
                    <a:lnTo>
                      <a:pt x="1644" y="84"/>
                    </a:lnTo>
                    <a:lnTo>
                      <a:pt x="1650" y="72"/>
                    </a:lnTo>
                    <a:lnTo>
                      <a:pt x="1650" y="60"/>
                    </a:lnTo>
                    <a:lnTo>
                      <a:pt x="1650" y="54"/>
                    </a:lnTo>
                    <a:lnTo>
                      <a:pt x="1644" y="48"/>
                    </a:lnTo>
                    <a:lnTo>
                      <a:pt x="1644" y="36"/>
                    </a:lnTo>
                    <a:lnTo>
                      <a:pt x="1638" y="30"/>
                    </a:lnTo>
                    <a:lnTo>
                      <a:pt x="1626" y="24"/>
                    </a:lnTo>
                    <a:lnTo>
                      <a:pt x="1620" y="24"/>
                    </a:lnTo>
                    <a:lnTo>
                      <a:pt x="1608" y="24"/>
                    </a:lnTo>
                    <a:lnTo>
                      <a:pt x="1602" y="24"/>
                    </a:lnTo>
                    <a:lnTo>
                      <a:pt x="1590" y="30"/>
                    </a:lnTo>
                    <a:lnTo>
                      <a:pt x="1584" y="30"/>
                    </a:lnTo>
                    <a:lnTo>
                      <a:pt x="1578" y="42"/>
                    </a:lnTo>
                    <a:lnTo>
                      <a:pt x="1578" y="30"/>
                    </a:lnTo>
                    <a:lnTo>
                      <a:pt x="1578" y="24"/>
                    </a:lnTo>
                    <a:lnTo>
                      <a:pt x="1584" y="18"/>
                    </a:lnTo>
                    <a:lnTo>
                      <a:pt x="1590" y="12"/>
                    </a:lnTo>
                    <a:lnTo>
                      <a:pt x="1596" y="6"/>
                    </a:lnTo>
                    <a:lnTo>
                      <a:pt x="1602" y="0"/>
                    </a:lnTo>
                    <a:lnTo>
                      <a:pt x="1626" y="0"/>
                    </a:lnTo>
                    <a:lnTo>
                      <a:pt x="1650" y="0"/>
                    </a:lnTo>
                    <a:lnTo>
                      <a:pt x="1674" y="12"/>
                    </a:lnTo>
                    <a:lnTo>
                      <a:pt x="1692" y="24"/>
                    </a:lnTo>
                    <a:lnTo>
                      <a:pt x="1710" y="48"/>
                    </a:lnTo>
                    <a:lnTo>
                      <a:pt x="1722" y="7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9480240" y="546408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78" y="42"/>
                    </a:moveTo>
                    <a:lnTo>
                      <a:pt x="78" y="48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8" y="60"/>
                    </a:lnTo>
                    <a:lnTo>
                      <a:pt x="66" y="72"/>
                    </a:lnTo>
                    <a:lnTo>
                      <a:pt x="54" y="78"/>
                    </a:lnTo>
                    <a:lnTo>
                      <a:pt x="42" y="78"/>
                    </a:lnTo>
                    <a:lnTo>
                      <a:pt x="30" y="84"/>
                    </a:lnTo>
                    <a:lnTo>
                      <a:pt x="18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66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9483840" y="5471280"/>
                <a:ext cx="16560" cy="12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9270360" y="547128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36"/>
                    </a:moveTo>
                    <a:lnTo>
                      <a:pt x="54" y="60"/>
                    </a:lnTo>
                    <a:lnTo>
                      <a:pt x="36" y="60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9524520" y="5477040"/>
                <a:ext cx="27720" cy="3852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84" y="12"/>
                    </a:moveTo>
                    <a:lnTo>
                      <a:pt x="90" y="30"/>
                    </a:lnTo>
                    <a:lnTo>
                      <a:pt x="90" y="42"/>
                    </a:lnTo>
                    <a:lnTo>
                      <a:pt x="90" y="60"/>
                    </a:lnTo>
                    <a:lnTo>
                      <a:pt x="90" y="78"/>
                    </a:lnTo>
                    <a:lnTo>
                      <a:pt x="90" y="90"/>
                    </a:lnTo>
                    <a:lnTo>
                      <a:pt x="78" y="102"/>
                    </a:lnTo>
                    <a:lnTo>
                      <a:pt x="72" y="114"/>
                    </a:lnTo>
                    <a:lnTo>
                      <a:pt x="66" y="120"/>
                    </a:lnTo>
                    <a:lnTo>
                      <a:pt x="54" y="126"/>
                    </a:lnTo>
                    <a:lnTo>
                      <a:pt x="42" y="126"/>
                    </a:lnTo>
                    <a:lnTo>
                      <a:pt x="36" y="126"/>
                    </a:lnTo>
                    <a:lnTo>
                      <a:pt x="24" y="126"/>
                    </a:lnTo>
                    <a:lnTo>
                      <a:pt x="18" y="126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18" y="96"/>
                    </a:lnTo>
                    <a:lnTo>
                      <a:pt x="12" y="102"/>
                    </a:lnTo>
                    <a:lnTo>
                      <a:pt x="12" y="108"/>
                    </a:lnTo>
                    <a:lnTo>
                      <a:pt x="18" y="108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0" y="108"/>
                    </a:lnTo>
                    <a:lnTo>
                      <a:pt x="66" y="102"/>
                    </a:lnTo>
                    <a:lnTo>
                      <a:pt x="72" y="96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78" y="48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72" y="18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9528480" y="54864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12"/>
                    </a:move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9411480" y="5508360"/>
                <a:ext cx="38880" cy="2592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72" y="54"/>
                    </a:moveTo>
                    <a:lnTo>
                      <a:pt x="84" y="54"/>
                    </a:lnTo>
                    <a:lnTo>
                      <a:pt x="90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20" y="66"/>
                    </a:lnTo>
                    <a:lnTo>
                      <a:pt x="114" y="72"/>
                    </a:lnTo>
                    <a:lnTo>
                      <a:pt x="108" y="78"/>
                    </a:lnTo>
                    <a:lnTo>
                      <a:pt x="102" y="84"/>
                    </a:lnTo>
                    <a:lnTo>
                      <a:pt x="96" y="84"/>
                    </a:lnTo>
                    <a:lnTo>
                      <a:pt x="84" y="72"/>
                    </a:lnTo>
                    <a:lnTo>
                      <a:pt x="72" y="72"/>
                    </a:lnTo>
                    <a:lnTo>
                      <a:pt x="54" y="66"/>
                    </a:lnTo>
                    <a:lnTo>
                      <a:pt x="42" y="66"/>
                    </a:lnTo>
                    <a:lnTo>
                      <a:pt x="24" y="60"/>
                    </a:lnTo>
                    <a:lnTo>
                      <a:pt x="12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18"/>
                    </a:lnTo>
                    <a:lnTo>
                      <a:pt x="24" y="30"/>
                    </a:lnTo>
                    <a:lnTo>
                      <a:pt x="30" y="42"/>
                    </a:lnTo>
                    <a:lnTo>
                      <a:pt x="42" y="48"/>
                    </a:lnTo>
                    <a:lnTo>
                      <a:pt x="54" y="54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e34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9491400" y="5510160"/>
                <a:ext cx="21960" cy="4788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42" y="18"/>
                    </a:moveTo>
                    <a:lnTo>
                      <a:pt x="54" y="30"/>
                    </a:lnTo>
                    <a:lnTo>
                      <a:pt x="66" y="48"/>
                    </a:lnTo>
                    <a:lnTo>
                      <a:pt x="72" y="72"/>
                    </a:lnTo>
                    <a:lnTo>
                      <a:pt x="72" y="90"/>
                    </a:lnTo>
                    <a:lnTo>
                      <a:pt x="72" y="108"/>
                    </a:lnTo>
                    <a:lnTo>
                      <a:pt x="66" y="132"/>
                    </a:lnTo>
                    <a:lnTo>
                      <a:pt x="60" y="138"/>
                    </a:lnTo>
                    <a:lnTo>
                      <a:pt x="54" y="144"/>
                    </a:lnTo>
                    <a:lnTo>
                      <a:pt x="48" y="150"/>
                    </a:lnTo>
                    <a:lnTo>
                      <a:pt x="42" y="156"/>
                    </a:lnTo>
                    <a:lnTo>
                      <a:pt x="36" y="156"/>
                    </a:lnTo>
                    <a:lnTo>
                      <a:pt x="30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38"/>
                    </a:lnTo>
                    <a:lnTo>
                      <a:pt x="54" y="126"/>
                    </a:lnTo>
                    <a:lnTo>
                      <a:pt x="60" y="114"/>
                    </a:lnTo>
                    <a:lnTo>
                      <a:pt x="60" y="102"/>
                    </a:lnTo>
                    <a:lnTo>
                      <a:pt x="60" y="90"/>
                    </a:lnTo>
                    <a:lnTo>
                      <a:pt x="60" y="72"/>
                    </a:lnTo>
                    <a:lnTo>
                      <a:pt x="54" y="60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30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9448560" y="5512320"/>
                <a:ext cx="7200" cy="147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48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9461520" y="5515920"/>
                <a:ext cx="25920" cy="12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72" y="36"/>
                    </a:lnTo>
                    <a:lnTo>
                      <a:pt x="60" y="36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78" y="30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9454320" y="552708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120" y="30"/>
                    </a:moveTo>
                    <a:lnTo>
                      <a:pt x="126" y="42"/>
                    </a:lnTo>
                    <a:lnTo>
                      <a:pt x="126" y="48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02" y="60"/>
                    </a:lnTo>
                    <a:lnTo>
                      <a:pt x="90" y="66"/>
                    </a:lnTo>
                    <a:lnTo>
                      <a:pt x="78" y="66"/>
                    </a:lnTo>
                    <a:lnTo>
                      <a:pt x="66" y="66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24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90" y="18"/>
                    </a:lnTo>
                    <a:lnTo>
                      <a:pt x="108" y="24"/>
                    </a:lnTo>
                    <a:lnTo>
                      <a:pt x="120" y="30"/>
                    </a:lnTo>
                    <a:close/>
                  </a:path>
                </a:pathLst>
              </a:custGeom>
              <a:solidFill>
                <a:srgbClr val="e34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9444960" y="5532480"/>
                <a:ext cx="5400" cy="1476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9340920" y="5834520"/>
                <a:ext cx="192600" cy="235080"/>
              </a:xfrm>
              <a:custGeom>
                <a:avLst/>
                <a:gdLst/>
                <a:ahLst/>
                <a:rect l="l" t="t" r="r" b="b"/>
                <a:pathLst>
                  <a:path w="624" h="762">
                    <a:moveTo>
                      <a:pt x="510" y="72"/>
                    </a:moveTo>
                    <a:lnTo>
                      <a:pt x="510" y="96"/>
                    </a:lnTo>
                    <a:lnTo>
                      <a:pt x="510" y="126"/>
                    </a:lnTo>
                    <a:lnTo>
                      <a:pt x="510" y="156"/>
                    </a:lnTo>
                    <a:lnTo>
                      <a:pt x="510" y="186"/>
                    </a:lnTo>
                    <a:lnTo>
                      <a:pt x="516" y="216"/>
                    </a:lnTo>
                    <a:lnTo>
                      <a:pt x="522" y="246"/>
                    </a:lnTo>
                    <a:lnTo>
                      <a:pt x="516" y="258"/>
                    </a:lnTo>
                    <a:lnTo>
                      <a:pt x="510" y="270"/>
                    </a:lnTo>
                    <a:lnTo>
                      <a:pt x="504" y="276"/>
                    </a:lnTo>
                    <a:lnTo>
                      <a:pt x="498" y="288"/>
                    </a:lnTo>
                    <a:lnTo>
                      <a:pt x="498" y="300"/>
                    </a:lnTo>
                    <a:lnTo>
                      <a:pt x="498" y="312"/>
                    </a:lnTo>
                    <a:lnTo>
                      <a:pt x="504" y="318"/>
                    </a:lnTo>
                    <a:lnTo>
                      <a:pt x="504" y="324"/>
                    </a:lnTo>
                    <a:lnTo>
                      <a:pt x="504" y="330"/>
                    </a:lnTo>
                    <a:lnTo>
                      <a:pt x="510" y="330"/>
                    </a:lnTo>
                    <a:lnTo>
                      <a:pt x="510" y="336"/>
                    </a:lnTo>
                    <a:lnTo>
                      <a:pt x="516" y="342"/>
                    </a:lnTo>
                    <a:lnTo>
                      <a:pt x="510" y="342"/>
                    </a:lnTo>
                    <a:lnTo>
                      <a:pt x="504" y="342"/>
                    </a:lnTo>
                    <a:lnTo>
                      <a:pt x="498" y="342"/>
                    </a:lnTo>
                    <a:lnTo>
                      <a:pt x="492" y="342"/>
                    </a:lnTo>
                    <a:lnTo>
                      <a:pt x="492" y="348"/>
                    </a:lnTo>
                    <a:lnTo>
                      <a:pt x="528" y="402"/>
                    </a:lnTo>
                    <a:lnTo>
                      <a:pt x="522" y="402"/>
                    </a:lnTo>
                    <a:lnTo>
                      <a:pt x="510" y="402"/>
                    </a:lnTo>
                    <a:lnTo>
                      <a:pt x="504" y="396"/>
                    </a:lnTo>
                    <a:lnTo>
                      <a:pt x="492" y="396"/>
                    </a:lnTo>
                    <a:lnTo>
                      <a:pt x="492" y="408"/>
                    </a:lnTo>
                    <a:lnTo>
                      <a:pt x="510" y="432"/>
                    </a:lnTo>
                    <a:lnTo>
                      <a:pt x="528" y="450"/>
                    </a:lnTo>
                    <a:lnTo>
                      <a:pt x="552" y="462"/>
                    </a:lnTo>
                    <a:lnTo>
                      <a:pt x="576" y="474"/>
                    </a:lnTo>
                    <a:lnTo>
                      <a:pt x="600" y="486"/>
                    </a:lnTo>
                    <a:lnTo>
                      <a:pt x="624" y="498"/>
                    </a:lnTo>
                    <a:lnTo>
                      <a:pt x="612" y="504"/>
                    </a:lnTo>
                    <a:lnTo>
                      <a:pt x="606" y="504"/>
                    </a:lnTo>
                    <a:lnTo>
                      <a:pt x="594" y="498"/>
                    </a:lnTo>
                    <a:lnTo>
                      <a:pt x="582" y="498"/>
                    </a:lnTo>
                    <a:lnTo>
                      <a:pt x="570" y="498"/>
                    </a:lnTo>
                    <a:lnTo>
                      <a:pt x="558" y="492"/>
                    </a:lnTo>
                    <a:lnTo>
                      <a:pt x="558" y="504"/>
                    </a:lnTo>
                    <a:lnTo>
                      <a:pt x="612" y="552"/>
                    </a:lnTo>
                    <a:lnTo>
                      <a:pt x="594" y="552"/>
                    </a:lnTo>
                    <a:lnTo>
                      <a:pt x="582" y="552"/>
                    </a:lnTo>
                    <a:lnTo>
                      <a:pt x="564" y="552"/>
                    </a:lnTo>
                    <a:lnTo>
                      <a:pt x="546" y="552"/>
                    </a:lnTo>
                    <a:lnTo>
                      <a:pt x="528" y="546"/>
                    </a:lnTo>
                    <a:lnTo>
                      <a:pt x="516" y="540"/>
                    </a:lnTo>
                    <a:lnTo>
                      <a:pt x="510" y="552"/>
                    </a:lnTo>
                    <a:lnTo>
                      <a:pt x="510" y="558"/>
                    </a:lnTo>
                    <a:lnTo>
                      <a:pt x="516" y="570"/>
                    </a:lnTo>
                    <a:lnTo>
                      <a:pt x="522" y="576"/>
                    </a:lnTo>
                    <a:lnTo>
                      <a:pt x="528" y="588"/>
                    </a:lnTo>
                    <a:lnTo>
                      <a:pt x="528" y="594"/>
                    </a:lnTo>
                    <a:lnTo>
                      <a:pt x="516" y="594"/>
                    </a:lnTo>
                    <a:lnTo>
                      <a:pt x="504" y="588"/>
                    </a:lnTo>
                    <a:lnTo>
                      <a:pt x="492" y="582"/>
                    </a:lnTo>
                    <a:lnTo>
                      <a:pt x="480" y="582"/>
                    </a:lnTo>
                    <a:lnTo>
                      <a:pt x="474" y="576"/>
                    </a:lnTo>
                    <a:lnTo>
                      <a:pt x="462" y="570"/>
                    </a:lnTo>
                    <a:lnTo>
                      <a:pt x="456" y="576"/>
                    </a:lnTo>
                    <a:lnTo>
                      <a:pt x="456" y="582"/>
                    </a:lnTo>
                    <a:lnTo>
                      <a:pt x="450" y="582"/>
                    </a:lnTo>
                    <a:lnTo>
                      <a:pt x="420" y="654"/>
                    </a:lnTo>
                    <a:lnTo>
                      <a:pt x="390" y="624"/>
                    </a:lnTo>
                    <a:lnTo>
                      <a:pt x="384" y="630"/>
                    </a:lnTo>
                    <a:lnTo>
                      <a:pt x="378" y="636"/>
                    </a:lnTo>
                    <a:lnTo>
                      <a:pt x="378" y="642"/>
                    </a:lnTo>
                    <a:lnTo>
                      <a:pt x="372" y="648"/>
                    </a:lnTo>
                    <a:lnTo>
                      <a:pt x="372" y="660"/>
                    </a:lnTo>
                    <a:lnTo>
                      <a:pt x="372" y="666"/>
                    </a:lnTo>
                    <a:lnTo>
                      <a:pt x="372" y="660"/>
                    </a:lnTo>
                    <a:lnTo>
                      <a:pt x="366" y="666"/>
                    </a:lnTo>
                    <a:lnTo>
                      <a:pt x="366" y="672"/>
                    </a:lnTo>
                    <a:lnTo>
                      <a:pt x="366" y="678"/>
                    </a:lnTo>
                    <a:lnTo>
                      <a:pt x="366" y="690"/>
                    </a:lnTo>
                    <a:lnTo>
                      <a:pt x="372" y="696"/>
                    </a:lnTo>
                    <a:lnTo>
                      <a:pt x="372" y="702"/>
                    </a:lnTo>
                    <a:lnTo>
                      <a:pt x="366" y="696"/>
                    </a:lnTo>
                    <a:lnTo>
                      <a:pt x="360" y="690"/>
                    </a:lnTo>
                    <a:lnTo>
                      <a:pt x="354" y="684"/>
                    </a:lnTo>
                    <a:lnTo>
                      <a:pt x="348" y="672"/>
                    </a:lnTo>
                    <a:lnTo>
                      <a:pt x="342" y="666"/>
                    </a:lnTo>
                    <a:lnTo>
                      <a:pt x="342" y="654"/>
                    </a:lnTo>
                    <a:lnTo>
                      <a:pt x="336" y="654"/>
                    </a:lnTo>
                    <a:lnTo>
                      <a:pt x="330" y="654"/>
                    </a:lnTo>
                    <a:lnTo>
                      <a:pt x="324" y="666"/>
                    </a:lnTo>
                    <a:lnTo>
                      <a:pt x="318" y="678"/>
                    </a:lnTo>
                    <a:lnTo>
                      <a:pt x="312" y="690"/>
                    </a:lnTo>
                    <a:lnTo>
                      <a:pt x="312" y="702"/>
                    </a:lnTo>
                    <a:lnTo>
                      <a:pt x="312" y="714"/>
                    </a:lnTo>
                    <a:lnTo>
                      <a:pt x="312" y="726"/>
                    </a:lnTo>
                    <a:lnTo>
                      <a:pt x="300" y="732"/>
                    </a:lnTo>
                    <a:lnTo>
                      <a:pt x="288" y="726"/>
                    </a:lnTo>
                    <a:lnTo>
                      <a:pt x="276" y="726"/>
                    </a:lnTo>
                    <a:lnTo>
                      <a:pt x="264" y="720"/>
                    </a:lnTo>
                    <a:lnTo>
                      <a:pt x="252" y="714"/>
                    </a:lnTo>
                    <a:lnTo>
                      <a:pt x="246" y="708"/>
                    </a:lnTo>
                    <a:lnTo>
                      <a:pt x="246" y="696"/>
                    </a:lnTo>
                    <a:lnTo>
                      <a:pt x="246" y="690"/>
                    </a:lnTo>
                    <a:lnTo>
                      <a:pt x="252" y="678"/>
                    </a:lnTo>
                    <a:lnTo>
                      <a:pt x="252" y="666"/>
                    </a:lnTo>
                    <a:lnTo>
                      <a:pt x="252" y="654"/>
                    </a:lnTo>
                    <a:lnTo>
                      <a:pt x="252" y="648"/>
                    </a:lnTo>
                    <a:lnTo>
                      <a:pt x="246" y="648"/>
                    </a:lnTo>
                    <a:lnTo>
                      <a:pt x="240" y="654"/>
                    </a:lnTo>
                    <a:lnTo>
                      <a:pt x="240" y="666"/>
                    </a:lnTo>
                    <a:lnTo>
                      <a:pt x="234" y="672"/>
                    </a:lnTo>
                    <a:lnTo>
                      <a:pt x="234" y="684"/>
                    </a:lnTo>
                    <a:lnTo>
                      <a:pt x="234" y="690"/>
                    </a:lnTo>
                    <a:lnTo>
                      <a:pt x="228" y="702"/>
                    </a:lnTo>
                    <a:lnTo>
                      <a:pt x="228" y="714"/>
                    </a:lnTo>
                    <a:lnTo>
                      <a:pt x="228" y="732"/>
                    </a:lnTo>
                    <a:lnTo>
                      <a:pt x="222" y="744"/>
                    </a:lnTo>
                    <a:lnTo>
                      <a:pt x="216" y="756"/>
                    </a:lnTo>
                    <a:lnTo>
                      <a:pt x="198" y="762"/>
                    </a:lnTo>
                    <a:lnTo>
                      <a:pt x="192" y="762"/>
                    </a:lnTo>
                    <a:lnTo>
                      <a:pt x="186" y="756"/>
                    </a:lnTo>
                    <a:lnTo>
                      <a:pt x="180" y="756"/>
                    </a:lnTo>
                    <a:lnTo>
                      <a:pt x="180" y="750"/>
                    </a:lnTo>
                    <a:lnTo>
                      <a:pt x="174" y="750"/>
                    </a:lnTo>
                    <a:lnTo>
                      <a:pt x="144" y="744"/>
                    </a:lnTo>
                    <a:lnTo>
                      <a:pt x="150" y="726"/>
                    </a:lnTo>
                    <a:lnTo>
                      <a:pt x="156" y="714"/>
                    </a:lnTo>
                    <a:lnTo>
                      <a:pt x="168" y="708"/>
                    </a:lnTo>
                    <a:lnTo>
                      <a:pt x="186" y="702"/>
                    </a:lnTo>
                    <a:lnTo>
                      <a:pt x="198" y="696"/>
                    </a:lnTo>
                    <a:lnTo>
                      <a:pt x="210" y="684"/>
                    </a:lnTo>
                    <a:lnTo>
                      <a:pt x="210" y="678"/>
                    </a:lnTo>
                    <a:lnTo>
                      <a:pt x="210" y="672"/>
                    </a:lnTo>
                    <a:lnTo>
                      <a:pt x="198" y="678"/>
                    </a:lnTo>
                    <a:lnTo>
                      <a:pt x="180" y="684"/>
                    </a:lnTo>
                    <a:lnTo>
                      <a:pt x="168" y="696"/>
                    </a:lnTo>
                    <a:lnTo>
                      <a:pt x="156" y="702"/>
                    </a:lnTo>
                    <a:lnTo>
                      <a:pt x="144" y="702"/>
                    </a:lnTo>
                    <a:lnTo>
                      <a:pt x="132" y="708"/>
                    </a:lnTo>
                    <a:lnTo>
                      <a:pt x="132" y="702"/>
                    </a:lnTo>
                    <a:lnTo>
                      <a:pt x="132" y="708"/>
                    </a:lnTo>
                    <a:lnTo>
                      <a:pt x="126" y="708"/>
                    </a:lnTo>
                    <a:lnTo>
                      <a:pt x="114" y="714"/>
                    </a:lnTo>
                    <a:lnTo>
                      <a:pt x="108" y="720"/>
                    </a:lnTo>
                    <a:lnTo>
                      <a:pt x="102" y="726"/>
                    </a:lnTo>
                    <a:lnTo>
                      <a:pt x="96" y="726"/>
                    </a:lnTo>
                    <a:lnTo>
                      <a:pt x="90" y="732"/>
                    </a:lnTo>
                    <a:lnTo>
                      <a:pt x="84" y="726"/>
                    </a:lnTo>
                    <a:lnTo>
                      <a:pt x="84" y="720"/>
                    </a:lnTo>
                    <a:lnTo>
                      <a:pt x="78" y="720"/>
                    </a:lnTo>
                    <a:lnTo>
                      <a:pt x="84" y="708"/>
                    </a:lnTo>
                    <a:lnTo>
                      <a:pt x="84" y="696"/>
                    </a:lnTo>
                    <a:lnTo>
                      <a:pt x="84" y="690"/>
                    </a:lnTo>
                    <a:lnTo>
                      <a:pt x="84" y="678"/>
                    </a:lnTo>
                    <a:lnTo>
                      <a:pt x="84" y="666"/>
                    </a:lnTo>
                    <a:lnTo>
                      <a:pt x="84" y="660"/>
                    </a:lnTo>
                    <a:lnTo>
                      <a:pt x="78" y="654"/>
                    </a:lnTo>
                    <a:lnTo>
                      <a:pt x="72" y="654"/>
                    </a:lnTo>
                    <a:lnTo>
                      <a:pt x="66" y="660"/>
                    </a:lnTo>
                    <a:lnTo>
                      <a:pt x="66" y="666"/>
                    </a:lnTo>
                    <a:lnTo>
                      <a:pt x="72" y="678"/>
                    </a:lnTo>
                    <a:lnTo>
                      <a:pt x="72" y="684"/>
                    </a:lnTo>
                    <a:lnTo>
                      <a:pt x="72" y="690"/>
                    </a:lnTo>
                    <a:lnTo>
                      <a:pt x="72" y="702"/>
                    </a:lnTo>
                    <a:lnTo>
                      <a:pt x="60" y="702"/>
                    </a:lnTo>
                    <a:lnTo>
                      <a:pt x="54" y="702"/>
                    </a:lnTo>
                    <a:lnTo>
                      <a:pt x="48" y="702"/>
                    </a:lnTo>
                    <a:lnTo>
                      <a:pt x="36" y="702"/>
                    </a:lnTo>
                    <a:lnTo>
                      <a:pt x="30" y="708"/>
                    </a:lnTo>
                    <a:lnTo>
                      <a:pt x="18" y="708"/>
                    </a:lnTo>
                    <a:lnTo>
                      <a:pt x="18" y="714"/>
                    </a:lnTo>
                    <a:lnTo>
                      <a:pt x="12" y="720"/>
                    </a:lnTo>
                    <a:lnTo>
                      <a:pt x="12" y="726"/>
                    </a:lnTo>
                    <a:lnTo>
                      <a:pt x="6" y="732"/>
                    </a:lnTo>
                    <a:lnTo>
                      <a:pt x="6" y="738"/>
                    </a:lnTo>
                    <a:lnTo>
                      <a:pt x="0" y="744"/>
                    </a:lnTo>
                    <a:lnTo>
                      <a:pt x="0" y="732"/>
                    </a:lnTo>
                    <a:lnTo>
                      <a:pt x="0" y="720"/>
                    </a:lnTo>
                    <a:lnTo>
                      <a:pt x="0" y="714"/>
                    </a:lnTo>
                    <a:lnTo>
                      <a:pt x="0" y="702"/>
                    </a:lnTo>
                    <a:lnTo>
                      <a:pt x="6" y="696"/>
                    </a:lnTo>
                    <a:lnTo>
                      <a:pt x="12" y="684"/>
                    </a:lnTo>
                    <a:lnTo>
                      <a:pt x="24" y="678"/>
                    </a:lnTo>
                    <a:lnTo>
                      <a:pt x="36" y="672"/>
                    </a:lnTo>
                    <a:lnTo>
                      <a:pt x="54" y="666"/>
                    </a:lnTo>
                    <a:lnTo>
                      <a:pt x="66" y="660"/>
                    </a:lnTo>
                    <a:lnTo>
                      <a:pt x="72" y="648"/>
                    </a:lnTo>
                    <a:lnTo>
                      <a:pt x="72" y="630"/>
                    </a:lnTo>
                    <a:lnTo>
                      <a:pt x="78" y="630"/>
                    </a:lnTo>
                    <a:lnTo>
                      <a:pt x="84" y="624"/>
                    </a:lnTo>
                    <a:lnTo>
                      <a:pt x="90" y="624"/>
                    </a:lnTo>
                    <a:lnTo>
                      <a:pt x="96" y="624"/>
                    </a:lnTo>
                    <a:lnTo>
                      <a:pt x="108" y="624"/>
                    </a:lnTo>
                    <a:lnTo>
                      <a:pt x="120" y="630"/>
                    </a:lnTo>
                    <a:lnTo>
                      <a:pt x="138" y="636"/>
                    </a:lnTo>
                    <a:lnTo>
                      <a:pt x="150" y="636"/>
                    </a:lnTo>
                    <a:lnTo>
                      <a:pt x="168" y="636"/>
                    </a:lnTo>
                    <a:lnTo>
                      <a:pt x="180" y="630"/>
                    </a:lnTo>
                    <a:lnTo>
                      <a:pt x="192" y="624"/>
                    </a:lnTo>
                    <a:lnTo>
                      <a:pt x="216" y="600"/>
                    </a:lnTo>
                    <a:lnTo>
                      <a:pt x="234" y="582"/>
                    </a:lnTo>
                    <a:lnTo>
                      <a:pt x="258" y="558"/>
                    </a:lnTo>
                    <a:lnTo>
                      <a:pt x="276" y="534"/>
                    </a:lnTo>
                    <a:lnTo>
                      <a:pt x="294" y="510"/>
                    </a:lnTo>
                    <a:lnTo>
                      <a:pt x="312" y="486"/>
                    </a:lnTo>
                    <a:lnTo>
                      <a:pt x="318" y="474"/>
                    </a:lnTo>
                    <a:lnTo>
                      <a:pt x="318" y="462"/>
                    </a:lnTo>
                    <a:lnTo>
                      <a:pt x="318" y="450"/>
                    </a:lnTo>
                    <a:lnTo>
                      <a:pt x="312" y="438"/>
                    </a:lnTo>
                    <a:lnTo>
                      <a:pt x="306" y="420"/>
                    </a:lnTo>
                    <a:lnTo>
                      <a:pt x="300" y="408"/>
                    </a:lnTo>
                    <a:lnTo>
                      <a:pt x="282" y="354"/>
                    </a:lnTo>
                    <a:lnTo>
                      <a:pt x="276" y="300"/>
                    </a:lnTo>
                    <a:lnTo>
                      <a:pt x="276" y="240"/>
                    </a:lnTo>
                    <a:lnTo>
                      <a:pt x="282" y="180"/>
                    </a:lnTo>
                    <a:lnTo>
                      <a:pt x="306" y="126"/>
                    </a:lnTo>
                    <a:lnTo>
                      <a:pt x="342" y="78"/>
                    </a:lnTo>
                    <a:lnTo>
                      <a:pt x="360" y="66"/>
                    </a:lnTo>
                    <a:lnTo>
                      <a:pt x="378" y="48"/>
                    </a:lnTo>
                    <a:lnTo>
                      <a:pt x="396" y="36"/>
                    </a:lnTo>
                    <a:lnTo>
                      <a:pt x="414" y="24"/>
                    </a:lnTo>
                    <a:lnTo>
                      <a:pt x="432" y="12"/>
                    </a:lnTo>
                    <a:lnTo>
                      <a:pt x="450" y="6"/>
                    </a:lnTo>
                    <a:lnTo>
                      <a:pt x="456" y="6"/>
                    </a:lnTo>
                    <a:lnTo>
                      <a:pt x="462" y="6"/>
                    </a:lnTo>
                    <a:lnTo>
                      <a:pt x="468" y="6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86" y="0"/>
                    </a:lnTo>
                    <a:lnTo>
                      <a:pt x="486" y="12"/>
                    </a:lnTo>
                    <a:lnTo>
                      <a:pt x="492" y="24"/>
                    </a:lnTo>
                    <a:lnTo>
                      <a:pt x="492" y="36"/>
                    </a:lnTo>
                    <a:lnTo>
                      <a:pt x="498" y="48"/>
                    </a:lnTo>
                    <a:lnTo>
                      <a:pt x="504" y="60"/>
                    </a:lnTo>
                    <a:lnTo>
                      <a:pt x="510" y="7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9361440" y="601632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30"/>
                    </a:moveTo>
                    <a:lnTo>
                      <a:pt x="60" y="30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66" y="18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9337320" y="6019920"/>
                <a:ext cx="24120" cy="1080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78" y="18"/>
                    </a:move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0" y="30"/>
                    </a:lnTo>
                    <a:lnTo>
                      <a:pt x="48" y="24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9533880" y="6044040"/>
                <a:ext cx="27720" cy="1080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90" y="24"/>
                    </a:moveTo>
                    <a:lnTo>
                      <a:pt x="78" y="24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54" y="12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90" y="24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9498600" y="6045840"/>
                <a:ext cx="33120" cy="14760"/>
              </a:xfrm>
              <a:custGeom>
                <a:avLst/>
                <a:gdLst/>
                <a:ahLst/>
                <a:rect l="l" t="t" r="r" b="b"/>
                <a:pathLst>
                  <a:path w="108" h="48">
                    <a:moveTo>
                      <a:pt x="108" y="24"/>
                    </a:moveTo>
                    <a:lnTo>
                      <a:pt x="108" y="36"/>
                    </a:lnTo>
                    <a:lnTo>
                      <a:pt x="90" y="30"/>
                    </a:lnTo>
                    <a:lnTo>
                      <a:pt x="78" y="24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24" y="18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18"/>
                    </a:lnTo>
                    <a:lnTo>
                      <a:pt x="108" y="24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9511560" y="6068160"/>
                <a:ext cx="20160" cy="29520"/>
              </a:xfrm>
              <a:custGeom>
                <a:avLst/>
                <a:gdLst/>
                <a:ahLst/>
                <a:rect l="l" t="t" r="r" b="b"/>
                <a:pathLst>
                  <a:path w="66" h="96">
                    <a:moveTo>
                      <a:pt x="66" y="12"/>
                    </a:moveTo>
                    <a:lnTo>
                      <a:pt x="54" y="18"/>
                    </a:lnTo>
                    <a:lnTo>
                      <a:pt x="42" y="30"/>
                    </a:lnTo>
                    <a:lnTo>
                      <a:pt x="30" y="48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9387360" y="6069960"/>
                <a:ext cx="16560" cy="201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24" y="30"/>
                    </a:moveTo>
                    <a:lnTo>
                      <a:pt x="54" y="66"/>
                    </a:lnTo>
                    <a:lnTo>
                      <a:pt x="42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2324160" y="3433680"/>
            <a:ext cx="93600" cy="1652760"/>
          </a:xfrm>
          <a:custGeom>
            <a:avLst/>
            <a:gdLst/>
            <a:ahLst/>
            <a:rect l="l" t="t" r="r" b="b"/>
            <a:pathLst>
              <a:path w="59" h="1041">
                <a:moveTo>
                  <a:pt x="18" y="0"/>
                </a:moveTo>
                <a:cubicBezTo>
                  <a:pt x="22" y="35"/>
                  <a:pt x="42" y="99"/>
                  <a:pt x="48" y="212"/>
                </a:cubicBezTo>
                <a:cubicBezTo>
                  <a:pt x="54" y="325"/>
                  <a:pt x="59" y="543"/>
                  <a:pt x="51" y="681"/>
                </a:cubicBezTo>
                <a:cubicBezTo>
                  <a:pt x="43" y="819"/>
                  <a:pt x="11" y="966"/>
                  <a:pt x="0" y="1041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57200" y="3152880"/>
            <a:ext cx="1790640" cy="615960"/>
          </a:xfrm>
          <a:custGeom>
            <a:avLst/>
            <a:gdLst/>
            <a:ahLst/>
            <a:rect l="l" t="t" r="r" b="b"/>
            <a:pathLst>
              <a:path w="1128" h="388">
                <a:moveTo>
                  <a:pt x="1128" y="388"/>
                </a:moveTo>
                <a:cubicBezTo>
                  <a:pt x="1043" y="333"/>
                  <a:pt x="748" y="114"/>
                  <a:pt x="615" y="57"/>
                </a:cubicBezTo>
                <a:cubicBezTo>
                  <a:pt x="482" y="0"/>
                  <a:pt x="429" y="32"/>
                  <a:pt x="327" y="45"/>
                </a:cubicBezTo>
                <a:cubicBezTo>
                  <a:pt x="225" y="58"/>
                  <a:pt x="68" y="119"/>
                  <a:pt x="0" y="138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048040" y="231840"/>
            <a:ext cx="461880" cy="2620800"/>
          </a:xfrm>
          <a:custGeom>
            <a:avLst/>
            <a:gdLst/>
            <a:ahLst/>
            <a:rect l="l" t="t" r="r" b="b"/>
            <a:pathLst>
              <a:path w="291" h="1651">
                <a:moveTo>
                  <a:pt x="239" y="0"/>
                </a:moveTo>
                <a:cubicBezTo>
                  <a:pt x="244" y="50"/>
                  <a:pt x="265" y="157"/>
                  <a:pt x="268" y="303"/>
                </a:cubicBezTo>
                <a:cubicBezTo>
                  <a:pt x="271" y="449"/>
                  <a:pt x="291" y="748"/>
                  <a:pt x="258" y="874"/>
                </a:cubicBezTo>
                <a:cubicBezTo>
                  <a:pt x="225" y="1000"/>
                  <a:pt x="113" y="993"/>
                  <a:pt x="70" y="1062"/>
                </a:cubicBezTo>
                <a:cubicBezTo>
                  <a:pt x="27" y="1131"/>
                  <a:pt x="2" y="1193"/>
                  <a:pt x="1" y="1291"/>
                </a:cubicBezTo>
                <a:cubicBezTo>
                  <a:pt x="0" y="1389"/>
                  <a:pt x="50" y="1576"/>
                  <a:pt x="63" y="1651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064120" y="3228840"/>
            <a:ext cx="4776840" cy="327240"/>
          </a:xfrm>
          <a:custGeom>
            <a:avLst/>
            <a:gdLst/>
            <a:ahLst/>
            <a:rect l="l" t="t" r="r" b="b"/>
            <a:pathLst>
              <a:path w="3009" h="206">
                <a:moveTo>
                  <a:pt x="3009" y="25"/>
                </a:moveTo>
                <a:cubicBezTo>
                  <a:pt x="2950" y="20"/>
                  <a:pt x="2782" y="0"/>
                  <a:pt x="2656" y="4"/>
                </a:cubicBezTo>
                <a:cubicBezTo>
                  <a:pt x="2530" y="8"/>
                  <a:pt x="2493" y="39"/>
                  <a:pt x="2253" y="47"/>
                </a:cubicBezTo>
                <a:cubicBezTo>
                  <a:pt x="2013" y="55"/>
                  <a:pt x="1549" y="31"/>
                  <a:pt x="1214" y="54"/>
                </a:cubicBezTo>
                <a:cubicBezTo>
                  <a:pt x="879" y="77"/>
                  <a:pt x="447" y="166"/>
                  <a:pt x="245" y="186"/>
                </a:cubicBezTo>
                <a:cubicBezTo>
                  <a:pt x="43" y="206"/>
                  <a:pt x="51" y="177"/>
                  <a:pt x="0" y="175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1781280" y="5500800"/>
            <a:ext cx="428400" cy="1355760"/>
          </a:xfrm>
          <a:custGeom>
            <a:avLst/>
            <a:gdLst/>
            <a:ahLst/>
            <a:rect l="l" t="t" r="r" b="b"/>
            <a:pathLst>
              <a:path w="270" h="854">
                <a:moveTo>
                  <a:pt x="270" y="0"/>
                </a:moveTo>
                <a:cubicBezTo>
                  <a:pt x="246" y="41"/>
                  <a:pt x="168" y="139"/>
                  <a:pt x="126" y="249"/>
                </a:cubicBezTo>
                <a:cubicBezTo>
                  <a:pt x="84" y="359"/>
                  <a:pt x="30" y="558"/>
                  <a:pt x="15" y="659"/>
                </a:cubicBezTo>
                <a:cubicBezTo>
                  <a:pt x="0" y="760"/>
                  <a:pt x="29" y="813"/>
                  <a:pt x="33" y="854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785960" y="6396120"/>
            <a:ext cx="152280" cy="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405160" y="1133640"/>
            <a:ext cx="152280" cy="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9510840" y="3181320"/>
            <a:ext cx="0" cy="15228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9204480" y="2825640"/>
            <a:ext cx="69840" cy="63720"/>
          </a:xfrm>
          <a:prstGeom prst="rect">
            <a:avLst/>
          </a:prstGeom>
          <a:solidFill>
            <a:srgbClr val="ffcc66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772480" y="2635200"/>
            <a:ext cx="69840" cy="63720"/>
          </a:xfrm>
          <a:prstGeom prst="rect">
            <a:avLst/>
          </a:prstGeom>
          <a:solidFill>
            <a:srgbClr val="ffcc66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01080" y="3022560"/>
            <a:ext cx="69840" cy="63720"/>
          </a:xfrm>
          <a:prstGeom prst="rect">
            <a:avLst/>
          </a:prstGeom>
          <a:solidFill>
            <a:srgbClr val="ffcc66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24760" y="2787480"/>
            <a:ext cx="69840" cy="63720"/>
          </a:xfrm>
          <a:prstGeom prst="rect">
            <a:avLst/>
          </a:prstGeom>
          <a:solidFill>
            <a:srgbClr val="ffcc66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25360" y="2441520"/>
            <a:ext cx="9630000" cy="1943280"/>
          </a:xfrm>
          <a:custGeom>
            <a:avLst/>
            <a:gdLst/>
            <a:ahLst/>
            <a:rect l="l" t="t" r="r" b="b"/>
            <a:pathLst>
              <a:path w="6066" h="1224">
                <a:moveTo>
                  <a:pt x="0" y="204"/>
                </a:moveTo>
                <a:cubicBezTo>
                  <a:pt x="77" y="205"/>
                  <a:pt x="274" y="138"/>
                  <a:pt x="462" y="211"/>
                </a:cubicBezTo>
                <a:cubicBezTo>
                  <a:pt x="650" y="284"/>
                  <a:pt x="828" y="483"/>
                  <a:pt x="1131" y="645"/>
                </a:cubicBezTo>
                <a:cubicBezTo>
                  <a:pt x="1434" y="807"/>
                  <a:pt x="1787" y="1148"/>
                  <a:pt x="2283" y="1186"/>
                </a:cubicBezTo>
                <a:cubicBezTo>
                  <a:pt x="2779" y="1224"/>
                  <a:pt x="3704" y="1048"/>
                  <a:pt x="4110" y="873"/>
                </a:cubicBezTo>
                <a:cubicBezTo>
                  <a:pt x="4516" y="698"/>
                  <a:pt x="4396" y="266"/>
                  <a:pt x="4722" y="133"/>
                </a:cubicBezTo>
                <a:cubicBezTo>
                  <a:pt x="5048" y="0"/>
                  <a:pt x="5786" y="88"/>
                  <a:pt x="6066" y="76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57200" y="762120"/>
            <a:ext cx="1852560" cy="1731960"/>
          </a:xfrm>
          <a:custGeom>
            <a:avLst/>
            <a:gdLst/>
            <a:ahLst/>
            <a:rect l="l" t="t" r="r" b="b"/>
            <a:pathLst>
              <a:path w="1167" h="1091">
                <a:moveTo>
                  <a:pt x="0" y="1091"/>
                </a:moveTo>
                <a:cubicBezTo>
                  <a:pt x="0" y="1070"/>
                  <a:pt x="0" y="1050"/>
                  <a:pt x="0" y="1029"/>
                </a:cubicBezTo>
                <a:lnTo>
                  <a:pt x="7" y="486"/>
                </a:lnTo>
                <a:lnTo>
                  <a:pt x="151" y="157"/>
                </a:lnTo>
                <a:lnTo>
                  <a:pt x="576" y="0"/>
                </a:lnTo>
                <a:lnTo>
                  <a:pt x="1167" y="8"/>
                </a:lnTo>
                <a:lnTo>
                  <a:pt x="1165" y="234"/>
                </a:ln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457200" y="2971080"/>
            <a:ext cx="1143000" cy="3429000"/>
          </a:xfrm>
          <a:custGeom>
            <a:avLst/>
            <a:gdLst/>
            <a:ahLst/>
            <a:rect l="l" t="t" r="r" b="b"/>
            <a:pathLst>
              <a:path w="1621" h="995">
                <a:moveTo>
                  <a:pt x="0" y="995"/>
                </a:moveTo>
                <a:cubicBezTo>
                  <a:pt x="0" y="976"/>
                  <a:pt x="0" y="957"/>
                  <a:pt x="0" y="938"/>
                </a:cubicBezTo>
                <a:lnTo>
                  <a:pt x="0" y="0"/>
                </a:lnTo>
                <a:lnTo>
                  <a:pt x="1621" y="0"/>
                </a:ln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695680" y="447840"/>
            <a:ext cx="6819840" cy="2747880"/>
          </a:xfrm>
          <a:custGeom>
            <a:avLst/>
            <a:gdLst/>
            <a:ahLst/>
            <a:rect l="l" t="t" r="r" b="b"/>
            <a:pathLst>
              <a:path w="4296" h="1731">
                <a:moveTo>
                  <a:pt x="4291" y="1731"/>
                </a:moveTo>
                <a:lnTo>
                  <a:pt x="4296" y="0"/>
                </a:lnTo>
                <a:lnTo>
                  <a:pt x="1341" y="0"/>
                </a:lnTo>
                <a:lnTo>
                  <a:pt x="1124" y="102"/>
                </a:lnTo>
                <a:lnTo>
                  <a:pt x="333" y="109"/>
                </a:lnTo>
                <a:lnTo>
                  <a:pt x="332" y="429"/>
                </a:lnTo>
                <a:lnTo>
                  <a:pt x="0" y="429"/>
                </a:ln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057400" y="3328920"/>
            <a:ext cx="7454880" cy="3300480"/>
          </a:xfrm>
          <a:custGeom>
            <a:avLst/>
            <a:gdLst/>
            <a:ahLst/>
            <a:rect l="l" t="t" r="r" b="b"/>
            <a:pathLst>
              <a:path w="4696" h="2079">
                <a:moveTo>
                  <a:pt x="4692" y="0"/>
                </a:moveTo>
                <a:lnTo>
                  <a:pt x="4696" y="2079"/>
                </a:lnTo>
                <a:lnTo>
                  <a:pt x="3326" y="2079"/>
                </a:lnTo>
                <a:lnTo>
                  <a:pt x="2448" y="1921"/>
                </a:lnTo>
                <a:lnTo>
                  <a:pt x="0" y="1921"/>
                </a:ln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600200" y="6324480"/>
            <a:ext cx="195120" cy="15264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924200" y="6324480"/>
            <a:ext cx="209520" cy="15264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04920" y="6248520"/>
            <a:ext cx="304560" cy="22860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5791320" y="6248520"/>
            <a:ext cx="304560" cy="22860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9144000" y="6400800"/>
            <a:ext cx="457200" cy="3049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9448920" y="3071880"/>
            <a:ext cx="123840" cy="128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9448920" y="3300480"/>
            <a:ext cx="123840" cy="1285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9247320" y="320760"/>
            <a:ext cx="396720" cy="32076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116240" y="3124080"/>
            <a:ext cx="89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l Princip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2498760" y="1577880"/>
            <a:ext cx="1950840" cy="1260720"/>
          </a:xfrm>
          <a:custGeom>
            <a:avLst/>
            <a:gdLst/>
            <a:ahLst/>
            <a:rect l="l" t="t" r="r" b="b"/>
            <a:pathLst>
              <a:path w="1229" h="794">
                <a:moveTo>
                  <a:pt x="0" y="0"/>
                </a:moveTo>
                <a:cubicBezTo>
                  <a:pt x="161" y="19"/>
                  <a:pt x="767" y="26"/>
                  <a:pt x="966" y="114"/>
                </a:cubicBezTo>
                <a:cubicBezTo>
                  <a:pt x="1165" y="202"/>
                  <a:pt x="1159" y="417"/>
                  <a:pt x="1194" y="530"/>
                </a:cubicBezTo>
                <a:cubicBezTo>
                  <a:pt x="1229" y="643"/>
                  <a:pt x="1178" y="739"/>
                  <a:pt x="1174" y="794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775480" y="1428840"/>
            <a:ext cx="857160" cy="1912680"/>
          </a:xfrm>
          <a:custGeom>
            <a:avLst/>
            <a:gdLst/>
            <a:ahLst/>
            <a:rect l="l" t="t" r="r" b="b"/>
            <a:pathLst>
              <a:path w="540" h="1205">
                <a:moveTo>
                  <a:pt x="397" y="0"/>
                </a:moveTo>
                <a:cubicBezTo>
                  <a:pt x="346" y="72"/>
                  <a:pt x="143" y="292"/>
                  <a:pt x="89" y="432"/>
                </a:cubicBezTo>
                <a:cubicBezTo>
                  <a:pt x="35" y="572"/>
                  <a:pt x="0" y="713"/>
                  <a:pt x="75" y="842"/>
                </a:cubicBezTo>
                <a:cubicBezTo>
                  <a:pt x="150" y="971"/>
                  <a:pt x="443" y="1130"/>
                  <a:pt x="540" y="1205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419800" y="3338640"/>
            <a:ext cx="3303360" cy="2630520"/>
          </a:xfrm>
          <a:custGeom>
            <a:avLst/>
            <a:gdLst/>
            <a:ahLst/>
            <a:rect l="l" t="t" r="r" b="b"/>
            <a:pathLst>
              <a:path w="2081" h="1657">
                <a:moveTo>
                  <a:pt x="2068" y="0"/>
                </a:moveTo>
                <a:cubicBezTo>
                  <a:pt x="1980" y="128"/>
                  <a:pt x="1582" y="510"/>
                  <a:pt x="1541" y="770"/>
                </a:cubicBezTo>
                <a:cubicBezTo>
                  <a:pt x="1500" y="1030"/>
                  <a:pt x="2081" y="1463"/>
                  <a:pt x="1824" y="1560"/>
                </a:cubicBezTo>
                <a:cubicBezTo>
                  <a:pt x="1567" y="1657"/>
                  <a:pt x="380" y="1396"/>
                  <a:pt x="0" y="1353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981080" y="5508720"/>
            <a:ext cx="2833920" cy="399960"/>
          </a:xfrm>
          <a:custGeom>
            <a:avLst/>
            <a:gdLst/>
            <a:ahLst/>
            <a:rect l="l" t="t" r="r" b="b"/>
            <a:pathLst>
              <a:path w="1785" h="252">
                <a:moveTo>
                  <a:pt x="0" y="252"/>
                </a:moveTo>
                <a:cubicBezTo>
                  <a:pt x="169" y="239"/>
                  <a:pt x="716" y="215"/>
                  <a:pt x="1014" y="173"/>
                </a:cubicBezTo>
                <a:cubicBezTo>
                  <a:pt x="1312" y="131"/>
                  <a:pt x="1624" y="36"/>
                  <a:pt x="1785" y="0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87920" y="117936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Dej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775760" y="5103720"/>
            <a:ext cx="73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lle M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1730880" y="2909880"/>
            <a:ext cx="782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l Castell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934760" y="560088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i Caval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419200" y="2253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Strada di N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8632080" y="3254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Via Per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800000" y="649116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ada delle Terre Lib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564000" y="40464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3333cc"/>
                </a:solidFill>
                <a:latin typeface="Times New Roman"/>
              </a:rPr>
              <a:t>Fiume T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380880" y="2438280"/>
            <a:ext cx="152640" cy="22860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80880" y="2819520"/>
            <a:ext cx="152640" cy="1522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9429840" y="2252520"/>
            <a:ext cx="152280" cy="22860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9429840" y="2633760"/>
            <a:ext cx="152280" cy="1522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03200" y="1565280"/>
            <a:ext cx="141480" cy="29844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54120" y="915840"/>
            <a:ext cx="222120" cy="1969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203560" y="717480"/>
            <a:ext cx="222120" cy="1969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246400" y="1060560"/>
            <a:ext cx="160200" cy="1141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546280" y="1060560"/>
            <a:ext cx="142920" cy="11412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154320" y="566640"/>
            <a:ext cx="142920" cy="11448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768920" y="349200"/>
            <a:ext cx="349200" cy="192240"/>
          </a:xfrm>
          <a:prstGeom prst="rect">
            <a:avLst/>
          </a:prstGeom>
          <a:solidFill>
            <a:srgbClr val="c0c0c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7" name=""/>
          <p:cNvGrpSpPr/>
          <p:nvPr/>
        </p:nvGrpSpPr>
        <p:grpSpPr>
          <a:xfrm>
            <a:off x="9191520" y="6442200"/>
            <a:ext cx="127080" cy="126720"/>
            <a:chOff x="9191520" y="6442200"/>
            <a:chExt cx="127080" cy="126720"/>
          </a:xfrm>
        </p:grpSpPr>
        <p:sp>
          <p:nvSpPr>
            <p:cNvPr id="2558" name=""/>
            <p:cNvSpPr/>
            <p:nvPr/>
          </p:nvSpPr>
          <p:spPr>
            <a:xfrm rot="16200000">
              <a:off x="9191520" y="6441840"/>
              <a:ext cx="126720" cy="1270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9191520" y="6442200"/>
              <a:ext cx="127080" cy="12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9191520" y="6442200"/>
              <a:ext cx="127080" cy="12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9482040" y="3106440"/>
            <a:ext cx="57240" cy="57600"/>
            <a:chOff x="9482040" y="3106440"/>
            <a:chExt cx="57240" cy="57600"/>
          </a:xfrm>
        </p:grpSpPr>
        <p:sp>
          <p:nvSpPr>
            <p:cNvPr id="2562" name=""/>
            <p:cNvSpPr/>
            <p:nvPr/>
          </p:nvSpPr>
          <p:spPr>
            <a:xfrm rot="16200000">
              <a:off x="9482040" y="3106440"/>
              <a:ext cx="57240" cy="572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9482040" y="3106800"/>
              <a:ext cx="5724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9482040" y="3106440"/>
              <a:ext cx="5724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9298080" y="369720"/>
            <a:ext cx="108000" cy="108000"/>
            <a:chOff x="9298080" y="369720"/>
            <a:chExt cx="108000" cy="108000"/>
          </a:xfrm>
        </p:grpSpPr>
        <p:sp>
          <p:nvSpPr>
            <p:cNvPr id="2566" name=""/>
            <p:cNvSpPr/>
            <p:nvPr/>
          </p:nvSpPr>
          <p:spPr>
            <a:xfrm rot="16200000">
              <a:off x="9298080" y="369720"/>
              <a:ext cx="108000" cy="10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9298080" y="369720"/>
              <a:ext cx="108000" cy="10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9298080" y="369720"/>
              <a:ext cx="108000" cy="10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4889520" y="390600"/>
            <a:ext cx="108000" cy="108000"/>
            <a:chOff x="4889520" y="390600"/>
            <a:chExt cx="108000" cy="108000"/>
          </a:xfrm>
        </p:grpSpPr>
        <p:sp>
          <p:nvSpPr>
            <p:cNvPr id="2570" name=""/>
            <p:cNvSpPr/>
            <p:nvPr/>
          </p:nvSpPr>
          <p:spPr>
            <a:xfrm flipV="1" rot="5400000">
              <a:off x="4889520" y="390600"/>
              <a:ext cx="108000" cy="1080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4889520" y="390600"/>
              <a:ext cx="108000" cy="10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889520" y="390600"/>
              <a:ext cx="108000" cy="108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2282760" y="747720"/>
            <a:ext cx="61920" cy="61920"/>
            <a:chOff x="2282760" y="747720"/>
            <a:chExt cx="61920" cy="61920"/>
          </a:xfrm>
        </p:grpSpPr>
        <p:sp>
          <p:nvSpPr>
            <p:cNvPr id="2574" name=""/>
            <p:cNvSpPr/>
            <p:nvPr/>
          </p:nvSpPr>
          <p:spPr>
            <a:xfrm rot="16200000">
              <a:off x="2282760" y="747720"/>
              <a:ext cx="61920" cy="619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282760" y="74772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V="1">
              <a:off x="2282760" y="74772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5910120" y="6329160"/>
            <a:ext cx="66960" cy="66960"/>
            <a:chOff x="5910120" y="6329160"/>
            <a:chExt cx="66960" cy="66960"/>
          </a:xfrm>
        </p:grpSpPr>
        <p:sp>
          <p:nvSpPr>
            <p:cNvPr id="2578" name=""/>
            <p:cNvSpPr/>
            <p:nvPr/>
          </p:nvSpPr>
          <p:spPr>
            <a:xfrm rot="16200000">
              <a:off x="5910120" y="6328800"/>
              <a:ext cx="66600" cy="669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910120" y="6329520"/>
              <a:ext cx="6696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5910120" y="6329160"/>
              <a:ext cx="6696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8534520" y="548640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905120" y="525780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019920" y="149544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219320" y="182880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8505720" y="141912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800600" y="502920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7" name=""/>
          <p:cNvGrpSpPr/>
          <p:nvPr/>
        </p:nvGrpSpPr>
        <p:grpSpPr>
          <a:xfrm>
            <a:off x="2333520" y="3578040"/>
            <a:ext cx="114480" cy="228600"/>
            <a:chOff x="2333520" y="3578040"/>
            <a:chExt cx="114480" cy="228600"/>
          </a:xfrm>
        </p:grpSpPr>
        <p:sp>
          <p:nvSpPr>
            <p:cNvPr id="2588" name=""/>
            <p:cNvSpPr/>
            <p:nvPr/>
          </p:nvSpPr>
          <p:spPr>
            <a:xfrm rot="16200000">
              <a:off x="2275920" y="3654000"/>
              <a:ext cx="228600" cy="763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rot="16200000">
              <a:off x="2419560" y="358740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6200000">
              <a:off x="2419200" y="3625560"/>
              <a:ext cx="3816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rot="16200000">
              <a:off x="2419560" y="366372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rot="16200000">
              <a:off x="2419560" y="370152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16200000">
              <a:off x="2419200" y="3740040"/>
              <a:ext cx="3816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rot="16200000">
              <a:off x="2419560" y="377784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rot="16200000">
              <a:off x="2323800" y="358740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rot="16200000">
              <a:off x="2323800" y="3625920"/>
              <a:ext cx="3816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rot="16200000">
              <a:off x="2323800" y="366372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rot="16200000">
              <a:off x="2323800" y="370152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rot="16200000">
              <a:off x="2323800" y="3740400"/>
              <a:ext cx="3816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rot="16200000">
              <a:off x="2323800" y="377784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7127640" y="3252600"/>
            <a:ext cx="228600" cy="114120"/>
            <a:chOff x="7127640" y="3252600"/>
            <a:chExt cx="228600" cy="114120"/>
          </a:xfrm>
        </p:grpSpPr>
        <p:sp>
          <p:nvSpPr>
            <p:cNvPr id="2602" name=""/>
            <p:cNvSpPr/>
            <p:nvPr/>
          </p:nvSpPr>
          <p:spPr>
            <a:xfrm rot="10800000">
              <a:off x="7127640" y="3272040"/>
              <a:ext cx="228600" cy="75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rot="10800000">
              <a:off x="7127640" y="325260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rot="10800000">
              <a:off x="7165800" y="3252600"/>
              <a:ext cx="3816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rot="10800000">
              <a:off x="7203960" y="325260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rot="10800000">
              <a:off x="7241760" y="325260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rot="10800000">
              <a:off x="7280280" y="3252600"/>
              <a:ext cx="3816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rot="10800000">
              <a:off x="7318080" y="3252600"/>
              <a:ext cx="37800" cy="1908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0800000">
              <a:off x="7127640" y="334800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10800000">
              <a:off x="7165800" y="3348000"/>
              <a:ext cx="3816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rot="10800000">
              <a:off x="7203960" y="334800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rot="10800000">
              <a:off x="7241760" y="334800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rot="10800000">
              <a:off x="7280280" y="3348000"/>
              <a:ext cx="3816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rot="10800000">
              <a:off x="7318080" y="3348000"/>
              <a:ext cx="37800" cy="1872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9431280" y="6443640"/>
            <a:ext cx="127080" cy="126720"/>
            <a:chOff x="9431280" y="6443640"/>
            <a:chExt cx="127080" cy="126720"/>
          </a:xfrm>
        </p:grpSpPr>
        <p:sp>
          <p:nvSpPr>
            <p:cNvPr id="2616" name=""/>
            <p:cNvSpPr/>
            <p:nvPr/>
          </p:nvSpPr>
          <p:spPr>
            <a:xfrm rot="16200000">
              <a:off x="9431280" y="6443280"/>
              <a:ext cx="126720" cy="1270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9431280" y="6443640"/>
              <a:ext cx="127080" cy="12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V="1">
              <a:off x="9431280" y="6443640"/>
              <a:ext cx="127080" cy="12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1676520" y="6366960"/>
            <a:ext cx="66600" cy="66960"/>
            <a:chOff x="1676520" y="6366960"/>
            <a:chExt cx="66600" cy="66960"/>
          </a:xfrm>
        </p:grpSpPr>
        <p:sp>
          <p:nvSpPr>
            <p:cNvPr id="2620" name=""/>
            <p:cNvSpPr/>
            <p:nvPr/>
          </p:nvSpPr>
          <p:spPr>
            <a:xfrm rot="16200000">
              <a:off x="1676520" y="6366960"/>
              <a:ext cx="66600" cy="66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676520" y="636732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1676520" y="636696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1995480" y="6366960"/>
            <a:ext cx="66600" cy="66960"/>
            <a:chOff x="1995480" y="6366960"/>
            <a:chExt cx="66600" cy="66960"/>
          </a:xfrm>
        </p:grpSpPr>
        <p:sp>
          <p:nvSpPr>
            <p:cNvPr id="2624" name=""/>
            <p:cNvSpPr/>
            <p:nvPr/>
          </p:nvSpPr>
          <p:spPr>
            <a:xfrm rot="16200000">
              <a:off x="1995480" y="6366960"/>
              <a:ext cx="66600" cy="66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995480" y="636732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1995480" y="636696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7" name=""/>
          <p:cNvGrpSpPr/>
          <p:nvPr/>
        </p:nvGrpSpPr>
        <p:grpSpPr>
          <a:xfrm>
            <a:off x="380880" y="6324120"/>
            <a:ext cx="142200" cy="66960"/>
            <a:chOff x="380880" y="6324120"/>
            <a:chExt cx="142200" cy="66960"/>
          </a:xfrm>
        </p:grpSpPr>
        <p:sp>
          <p:nvSpPr>
            <p:cNvPr id="2628" name=""/>
            <p:cNvSpPr/>
            <p:nvPr/>
          </p:nvSpPr>
          <p:spPr>
            <a:xfrm rot="16200000">
              <a:off x="418680" y="6286320"/>
              <a:ext cx="66600" cy="1422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0880" y="6324480"/>
              <a:ext cx="1422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380880" y="6324120"/>
              <a:ext cx="1422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1" name=""/>
          <p:cNvGrpSpPr/>
          <p:nvPr/>
        </p:nvGrpSpPr>
        <p:grpSpPr>
          <a:xfrm>
            <a:off x="731880" y="980640"/>
            <a:ext cx="66600" cy="66960"/>
            <a:chOff x="731880" y="980640"/>
            <a:chExt cx="66600" cy="66960"/>
          </a:xfrm>
        </p:grpSpPr>
        <p:sp>
          <p:nvSpPr>
            <p:cNvPr id="2632" name=""/>
            <p:cNvSpPr/>
            <p:nvPr/>
          </p:nvSpPr>
          <p:spPr>
            <a:xfrm rot="16200000">
              <a:off x="731880" y="980640"/>
              <a:ext cx="66600" cy="66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31880" y="98100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V="1">
              <a:off x="731880" y="980640"/>
              <a:ext cx="6660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5" name=""/>
          <p:cNvGrpSpPr/>
          <p:nvPr/>
        </p:nvGrpSpPr>
        <p:grpSpPr>
          <a:xfrm>
            <a:off x="2295360" y="1081080"/>
            <a:ext cx="61920" cy="61920"/>
            <a:chOff x="2295360" y="1081080"/>
            <a:chExt cx="61920" cy="61920"/>
          </a:xfrm>
        </p:grpSpPr>
        <p:sp>
          <p:nvSpPr>
            <p:cNvPr id="2636" name=""/>
            <p:cNvSpPr/>
            <p:nvPr/>
          </p:nvSpPr>
          <p:spPr>
            <a:xfrm rot="16200000">
              <a:off x="2295360" y="1081080"/>
              <a:ext cx="61920" cy="619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295360" y="108108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2295360" y="108108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9" name=""/>
          <p:cNvGrpSpPr/>
          <p:nvPr/>
        </p:nvGrpSpPr>
        <p:grpSpPr>
          <a:xfrm>
            <a:off x="2587680" y="1081080"/>
            <a:ext cx="61920" cy="61920"/>
            <a:chOff x="2587680" y="1081080"/>
            <a:chExt cx="61920" cy="61920"/>
          </a:xfrm>
        </p:grpSpPr>
        <p:sp>
          <p:nvSpPr>
            <p:cNvPr id="2640" name=""/>
            <p:cNvSpPr/>
            <p:nvPr/>
          </p:nvSpPr>
          <p:spPr>
            <a:xfrm rot="16200000">
              <a:off x="2587680" y="1081080"/>
              <a:ext cx="61920" cy="619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587680" y="108108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2587680" y="108108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3195720" y="592200"/>
            <a:ext cx="61920" cy="61920"/>
            <a:chOff x="3195720" y="592200"/>
            <a:chExt cx="61920" cy="61920"/>
          </a:xfrm>
        </p:grpSpPr>
        <p:sp>
          <p:nvSpPr>
            <p:cNvPr id="2644" name=""/>
            <p:cNvSpPr/>
            <p:nvPr/>
          </p:nvSpPr>
          <p:spPr>
            <a:xfrm rot="16200000">
              <a:off x="3195720" y="592200"/>
              <a:ext cx="61920" cy="6192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195720" y="59220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V="1">
              <a:off x="3195720" y="592200"/>
              <a:ext cx="61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7" name=""/>
          <p:cNvGrpSpPr/>
          <p:nvPr/>
        </p:nvGrpSpPr>
        <p:grpSpPr>
          <a:xfrm>
            <a:off x="9482040" y="3336480"/>
            <a:ext cx="57240" cy="57600"/>
            <a:chOff x="9482040" y="3336480"/>
            <a:chExt cx="57240" cy="57600"/>
          </a:xfrm>
        </p:grpSpPr>
        <p:sp>
          <p:nvSpPr>
            <p:cNvPr id="2648" name=""/>
            <p:cNvSpPr/>
            <p:nvPr/>
          </p:nvSpPr>
          <p:spPr>
            <a:xfrm rot="16200000">
              <a:off x="9482040" y="3336480"/>
              <a:ext cx="57240" cy="572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a88665"/>
                </a:gs>
              </a:gsLst>
              <a:path path="rect">
                <a:fillToRect l="50000" t="50000" r="50000" b="50000"/>
              </a:path>
            </a:gradFill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9482040" y="3336840"/>
              <a:ext cx="5724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9482040" y="3336480"/>
              <a:ext cx="5724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1" name=""/>
          <p:cNvSpPr/>
          <p:nvPr/>
        </p:nvSpPr>
        <p:spPr>
          <a:xfrm>
            <a:off x="1527840" y="198108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Città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01360" y="15289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Quartiere degli Ele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346720" y="3645000"/>
            <a:ext cx="25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Quartiere dei           Pescat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658080" y="4264200"/>
            <a:ext cx="129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Città Vecc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6706440" y="5748480"/>
            <a:ext cx="11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Città Nu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4390920" y="4405320"/>
            <a:ext cx="638280" cy="600120"/>
          </a:xfrm>
          <a:custGeom>
            <a:avLst/>
            <a:gdLst/>
            <a:ahLst/>
            <a:rect l="l" t="t" r="r" b="b"/>
            <a:pathLst>
              <a:path w="402" h="378">
                <a:moveTo>
                  <a:pt x="402" y="378"/>
                </a:moveTo>
                <a:cubicBezTo>
                  <a:pt x="368" y="325"/>
                  <a:pt x="265" y="126"/>
                  <a:pt x="198" y="63"/>
                </a:cubicBezTo>
                <a:cubicBezTo>
                  <a:pt x="131" y="0"/>
                  <a:pt x="41" y="14"/>
                  <a:pt x="0" y="1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065560" y="5657760"/>
            <a:ext cx="1800" cy="687600"/>
          </a:xfrm>
          <a:custGeom>
            <a:avLst/>
            <a:gdLst/>
            <a:ahLst/>
            <a:rect l="l" t="t" r="r" b="b"/>
            <a:pathLst>
              <a:path w="1" h="433">
                <a:moveTo>
                  <a:pt x="0" y="433"/>
                </a:moveTo>
                <a:lnTo>
                  <a:pt x="1" y="0"/>
                </a:lnTo>
              </a:path>
            </a:pathLst>
          </a:custGeom>
          <a:noFill/>
          <a:ln w="7632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989360" y="5106960"/>
            <a:ext cx="56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Albar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rot="21192600">
            <a:off x="2829960" y="557172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Via del merc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2789280" y="158760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Via delle 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rot="17939400">
            <a:off x="7377480" y="406728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Via della Leg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565960" y="2462040"/>
            <a:ext cx="67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Via Co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3" name=""/>
          <p:cNvGrpSpPr/>
          <p:nvPr/>
        </p:nvGrpSpPr>
        <p:grpSpPr>
          <a:xfrm>
            <a:off x="8037360" y="2633760"/>
            <a:ext cx="206640" cy="357120"/>
            <a:chOff x="8037360" y="2633760"/>
            <a:chExt cx="206640" cy="357120"/>
          </a:xfrm>
        </p:grpSpPr>
        <p:sp>
          <p:nvSpPr>
            <p:cNvPr id="2664" name=""/>
            <p:cNvSpPr/>
            <p:nvPr/>
          </p:nvSpPr>
          <p:spPr>
            <a:xfrm rot="16200000">
              <a:off x="7962120" y="2709000"/>
              <a:ext cx="357120" cy="206640"/>
            </a:xfrm>
            <a:prstGeom prst="ellipse">
              <a:avLst/>
            </a:prstGeom>
            <a:solidFill>
              <a:srgbClr val="d028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16200000">
              <a:off x="7986240" y="2725920"/>
              <a:ext cx="308520" cy="173520"/>
            </a:xfrm>
            <a:prstGeom prst="ellipse">
              <a:avLst/>
            </a:pr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16200000">
              <a:off x="8001360" y="2736360"/>
              <a:ext cx="279360" cy="153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7" name=""/>
            <p:cNvGrpSpPr/>
            <p:nvPr/>
          </p:nvGrpSpPr>
          <p:grpSpPr>
            <a:xfrm>
              <a:off x="8050680" y="2779920"/>
              <a:ext cx="24480" cy="59040"/>
              <a:chOff x="8050680" y="2779920"/>
              <a:chExt cx="24480" cy="59040"/>
            </a:xfrm>
          </p:grpSpPr>
          <p:sp>
            <p:nvSpPr>
              <p:cNvPr id="2668" name=""/>
              <p:cNvSpPr/>
              <p:nvPr/>
            </p:nvSpPr>
            <p:spPr>
              <a:xfrm rot="16200000">
                <a:off x="8048160" y="2811960"/>
                <a:ext cx="29520" cy="24480"/>
              </a:xfrm>
              <a:prstGeom prst="rect">
                <a:avLst/>
              </a:prstGeom>
              <a:solidFill>
                <a:srgbClr val="d028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rot="16200000">
                <a:off x="8048160" y="2782440"/>
                <a:ext cx="29520" cy="244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0" name=""/>
          <p:cNvGrpSpPr/>
          <p:nvPr/>
        </p:nvGrpSpPr>
        <p:grpSpPr>
          <a:xfrm>
            <a:off x="2871720" y="4284720"/>
            <a:ext cx="676440" cy="452520"/>
            <a:chOff x="2871720" y="4284720"/>
            <a:chExt cx="676440" cy="452520"/>
          </a:xfrm>
        </p:grpSpPr>
        <p:sp>
          <p:nvSpPr>
            <p:cNvPr id="2671" name=""/>
            <p:cNvSpPr/>
            <p:nvPr/>
          </p:nvSpPr>
          <p:spPr>
            <a:xfrm>
              <a:off x="2871720" y="4284720"/>
              <a:ext cx="676440" cy="452520"/>
            </a:xfrm>
            <a:prstGeom prst="ellipse">
              <a:avLst/>
            </a:prstGeom>
            <a:solidFill>
              <a:srgbClr val="d028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916720" y="4321440"/>
              <a:ext cx="584640" cy="379800"/>
            </a:xfrm>
            <a:prstGeom prst="ellipse">
              <a:avLst/>
            </a:pr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944440" y="4344120"/>
              <a:ext cx="529200" cy="3358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4" name=""/>
            <p:cNvGrpSpPr/>
            <p:nvPr/>
          </p:nvGrpSpPr>
          <p:grpSpPr>
            <a:xfrm>
              <a:off x="3159360" y="4314600"/>
              <a:ext cx="111960" cy="53640"/>
              <a:chOff x="3159360" y="4314600"/>
              <a:chExt cx="111960" cy="53640"/>
            </a:xfrm>
          </p:grpSpPr>
          <p:sp>
            <p:nvSpPr>
              <p:cNvPr id="2675" name=""/>
              <p:cNvSpPr/>
              <p:nvPr/>
            </p:nvSpPr>
            <p:spPr>
              <a:xfrm>
                <a:off x="3159360" y="4314600"/>
                <a:ext cx="55800" cy="53640"/>
              </a:xfrm>
              <a:prstGeom prst="rect">
                <a:avLst/>
              </a:prstGeom>
              <a:solidFill>
                <a:srgbClr val="d028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3215160" y="4314600"/>
                <a:ext cx="56160" cy="536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7" name=""/>
          <p:cNvGrpSpPr/>
          <p:nvPr/>
        </p:nvGrpSpPr>
        <p:grpSpPr>
          <a:xfrm>
            <a:off x="6834240" y="874800"/>
            <a:ext cx="449280" cy="314280"/>
            <a:chOff x="6834240" y="874800"/>
            <a:chExt cx="449280" cy="314280"/>
          </a:xfrm>
        </p:grpSpPr>
        <p:sp>
          <p:nvSpPr>
            <p:cNvPr id="2678" name=""/>
            <p:cNvSpPr/>
            <p:nvPr/>
          </p:nvSpPr>
          <p:spPr>
            <a:xfrm>
              <a:off x="6868800" y="874800"/>
              <a:ext cx="414720" cy="3142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937920" y="944280"/>
              <a:ext cx="276480" cy="17460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903360" y="909720"/>
              <a:ext cx="345600" cy="244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076160" y="996840"/>
              <a:ext cx="103680" cy="6948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2" name=""/>
            <p:cNvGrpSpPr/>
            <p:nvPr/>
          </p:nvGrpSpPr>
          <p:grpSpPr>
            <a:xfrm>
              <a:off x="6834240" y="979200"/>
              <a:ext cx="69120" cy="104760"/>
              <a:chOff x="6834240" y="979200"/>
              <a:chExt cx="69120" cy="104760"/>
            </a:xfrm>
          </p:grpSpPr>
          <p:sp>
            <p:nvSpPr>
              <p:cNvPr id="2683" name=""/>
              <p:cNvSpPr/>
              <p:nvPr/>
            </p:nvSpPr>
            <p:spPr>
              <a:xfrm rot="10800000">
                <a:off x="6834240" y="979200"/>
                <a:ext cx="69120" cy="10476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6835680" y="1031400"/>
                <a:ext cx="676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5" name=""/>
            <p:cNvSpPr/>
            <p:nvPr/>
          </p:nvSpPr>
          <p:spPr>
            <a:xfrm>
              <a:off x="7142400" y="954000"/>
              <a:ext cx="34200" cy="34560"/>
            </a:xfrm>
            <a:custGeom>
              <a:avLst/>
              <a:gdLst>
                <a:gd name="textAreaLeft" fmla="*/ 7560 w 34200"/>
                <a:gd name="textAreaRight" fmla="*/ 26640 w 3420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099920" y="954000"/>
              <a:ext cx="34200" cy="34560"/>
            </a:xfrm>
            <a:custGeom>
              <a:avLst/>
              <a:gdLst>
                <a:gd name="textAreaLeft" fmla="*/ 7560 w 34200"/>
                <a:gd name="textAreaRight" fmla="*/ 26640 w 3420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057440" y="954000"/>
              <a:ext cx="34560" cy="34560"/>
            </a:xfrm>
            <a:custGeom>
              <a:avLst/>
              <a:gdLst>
                <a:gd name="textAreaLeft" fmla="*/ 7920 w 34560"/>
                <a:gd name="textAreaRight" fmla="*/ 26640 w 3456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014960" y="954000"/>
              <a:ext cx="34560" cy="34560"/>
            </a:xfrm>
            <a:custGeom>
              <a:avLst/>
              <a:gdLst>
                <a:gd name="textAreaLeft" fmla="*/ 7920 w 34560"/>
                <a:gd name="textAreaRight" fmla="*/ 26640 w 3456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972480" y="954000"/>
              <a:ext cx="34560" cy="34560"/>
            </a:xfrm>
            <a:custGeom>
              <a:avLst/>
              <a:gdLst>
                <a:gd name="textAreaLeft" fmla="*/ 7920 w 34560"/>
                <a:gd name="textAreaRight" fmla="*/ 26640 w 3456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143840" y="1074960"/>
              <a:ext cx="34200" cy="34560"/>
            </a:xfrm>
            <a:custGeom>
              <a:avLst/>
              <a:gdLst>
                <a:gd name="textAreaLeft" fmla="*/ 7560 w 34200"/>
                <a:gd name="textAreaRight" fmla="*/ 26640 w 3420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101360" y="1074960"/>
              <a:ext cx="34560" cy="34560"/>
            </a:xfrm>
            <a:custGeom>
              <a:avLst/>
              <a:gdLst>
                <a:gd name="textAreaLeft" fmla="*/ 7920 w 34560"/>
                <a:gd name="textAreaRight" fmla="*/ 26640 w 3456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058880" y="1074960"/>
              <a:ext cx="34560" cy="34560"/>
            </a:xfrm>
            <a:custGeom>
              <a:avLst/>
              <a:gdLst>
                <a:gd name="textAreaLeft" fmla="*/ 7920 w 34560"/>
                <a:gd name="textAreaRight" fmla="*/ 26640 w 3456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016400" y="1074960"/>
              <a:ext cx="34560" cy="34560"/>
            </a:xfrm>
            <a:custGeom>
              <a:avLst/>
              <a:gdLst>
                <a:gd name="textAreaLeft" fmla="*/ 7920 w 34560"/>
                <a:gd name="textAreaRight" fmla="*/ 26640 w 3456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973920" y="1074960"/>
              <a:ext cx="34200" cy="34560"/>
            </a:xfrm>
            <a:custGeom>
              <a:avLst/>
              <a:gdLst>
                <a:gd name="textAreaLeft" fmla="*/ 7560 w 34200"/>
                <a:gd name="textAreaRight" fmla="*/ 26640 w 34200"/>
                <a:gd name="textAreaTop" fmla="*/ 7920 h 34560"/>
                <a:gd name="textAreaBottom" fmla="*/ 26640 h 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5" name=""/>
          <p:cNvGrpSpPr/>
          <p:nvPr/>
        </p:nvGrpSpPr>
        <p:grpSpPr>
          <a:xfrm>
            <a:off x="7556400" y="3409560"/>
            <a:ext cx="216000" cy="308160"/>
            <a:chOff x="7556400" y="3409560"/>
            <a:chExt cx="216000" cy="308160"/>
          </a:xfrm>
        </p:grpSpPr>
        <p:sp>
          <p:nvSpPr>
            <p:cNvPr id="2696" name=""/>
            <p:cNvSpPr/>
            <p:nvPr/>
          </p:nvSpPr>
          <p:spPr>
            <a:xfrm rot="5400000">
              <a:off x="7522200" y="3467520"/>
              <a:ext cx="284400" cy="21600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rot="5400000">
              <a:off x="7569720" y="3515760"/>
              <a:ext cx="189720" cy="119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rot="5400000">
              <a:off x="7546320" y="3491640"/>
              <a:ext cx="236880" cy="167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rot="5400000">
              <a:off x="7629120" y="3587400"/>
              <a:ext cx="70920" cy="4788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0" name=""/>
            <p:cNvGrpSpPr/>
            <p:nvPr/>
          </p:nvGrpSpPr>
          <p:grpSpPr>
            <a:xfrm>
              <a:off x="7628400" y="3409560"/>
              <a:ext cx="72000" cy="47160"/>
              <a:chOff x="7628400" y="3409560"/>
              <a:chExt cx="72000" cy="47160"/>
            </a:xfrm>
          </p:grpSpPr>
          <p:sp>
            <p:nvSpPr>
              <p:cNvPr id="2701" name=""/>
              <p:cNvSpPr/>
              <p:nvPr/>
            </p:nvSpPr>
            <p:spPr>
              <a:xfrm rot="16200000">
                <a:off x="7640640" y="3396960"/>
                <a:ext cx="47160" cy="720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7664400" y="3410640"/>
                <a:ext cx="0" cy="4608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3" name=""/>
            <p:cNvSpPr/>
            <p:nvPr/>
          </p:nvSpPr>
          <p:spPr>
            <a:xfrm rot="5400000">
              <a:off x="7694280" y="362088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rot="5400000">
              <a:off x="7694280" y="359172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rot="5400000">
              <a:off x="7694280" y="35625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rot="5400000">
              <a:off x="7694280" y="353340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rot="5400000">
              <a:off x="7694280" y="350424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rot="5400000">
              <a:off x="7611120" y="36219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rot="5400000">
              <a:off x="7611120" y="359280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rot="5400000">
              <a:off x="7611120" y="356364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rot="5400000">
              <a:off x="7611120" y="353448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rot="5400000">
              <a:off x="7611120" y="350532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3" name=""/>
          <p:cNvGrpSpPr/>
          <p:nvPr/>
        </p:nvGrpSpPr>
        <p:grpSpPr>
          <a:xfrm>
            <a:off x="2480760" y="5016600"/>
            <a:ext cx="308160" cy="215640"/>
            <a:chOff x="2480760" y="5016600"/>
            <a:chExt cx="308160" cy="215640"/>
          </a:xfrm>
        </p:grpSpPr>
        <p:sp>
          <p:nvSpPr>
            <p:cNvPr id="2714" name=""/>
            <p:cNvSpPr/>
            <p:nvPr/>
          </p:nvSpPr>
          <p:spPr>
            <a:xfrm>
              <a:off x="2504520" y="5016600"/>
              <a:ext cx="284400" cy="2156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552040" y="5064480"/>
              <a:ext cx="189720" cy="11988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528280" y="5040360"/>
              <a:ext cx="236880" cy="167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647080" y="5100480"/>
              <a:ext cx="70920" cy="4788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8" name=""/>
            <p:cNvGrpSpPr/>
            <p:nvPr/>
          </p:nvGrpSpPr>
          <p:grpSpPr>
            <a:xfrm>
              <a:off x="2480760" y="5087880"/>
              <a:ext cx="47160" cy="71640"/>
              <a:chOff x="2480760" y="5087880"/>
              <a:chExt cx="47160" cy="71640"/>
            </a:xfrm>
          </p:grpSpPr>
          <p:sp>
            <p:nvSpPr>
              <p:cNvPr id="2719" name=""/>
              <p:cNvSpPr/>
              <p:nvPr/>
            </p:nvSpPr>
            <p:spPr>
              <a:xfrm rot="10800000">
                <a:off x="2480760" y="5087880"/>
                <a:ext cx="47160" cy="716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H="1">
                <a:off x="2481840" y="5123520"/>
                <a:ext cx="4608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2692440" y="50709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663280" y="50709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634120" y="50709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604960" y="50709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575800" y="50709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693520" y="51537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664360" y="51537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635200" y="51537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606040" y="51537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76880" y="5153760"/>
              <a:ext cx="23400" cy="23760"/>
            </a:xfrm>
            <a:custGeom>
              <a:avLst/>
              <a:gdLst>
                <a:gd name="textAreaLeft" fmla="*/ 5400 w 23400"/>
                <a:gd name="textAreaRight" fmla="*/ 18000 w 23400"/>
                <a:gd name="textAreaTop" fmla="*/ 5400 h 23760"/>
                <a:gd name="textAreaBottom" fmla="*/ 18360 h 2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1107720" y="5680080"/>
            <a:ext cx="304920" cy="299880"/>
            <a:chOff x="1107720" y="5680080"/>
            <a:chExt cx="304920" cy="299880"/>
          </a:xfrm>
        </p:grpSpPr>
        <p:sp>
          <p:nvSpPr>
            <p:cNvPr id="2732" name=""/>
            <p:cNvSpPr/>
            <p:nvPr/>
          </p:nvSpPr>
          <p:spPr>
            <a:xfrm rot="10800000">
              <a:off x="1107720" y="5713560"/>
              <a:ext cx="304920" cy="2282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rot="16200000">
              <a:off x="1212840" y="5767200"/>
              <a:ext cx="120240" cy="120600"/>
            </a:xfrm>
            <a:prstGeom prst="ellipse">
              <a:avLst/>
            </a:prstGeom>
            <a:gradFill rotWithShape="0">
              <a:gsLst>
                <a:gs pos="0">
                  <a:srgbClr val="c173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rot="5400000">
              <a:off x="1108080" y="5865840"/>
              <a:ext cx="75960" cy="7632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rot="5400000">
              <a:off x="1127160" y="5884920"/>
              <a:ext cx="37800" cy="38160"/>
            </a:xfrm>
            <a:prstGeom prst="rect">
              <a:avLst/>
            </a:prstGeom>
            <a:gradFill rotWithShape="0">
              <a:gsLst>
                <a:gs pos="0">
                  <a:srgbClr val="9f6a35"/>
                </a:gs>
                <a:gs pos="100000">
                  <a:srgbClr val="ba7c3e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flipV="1">
              <a:off x="1108080" y="5865840"/>
              <a:ext cx="763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H="1" flipV="1">
              <a:off x="1108080" y="5865840"/>
              <a:ext cx="763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rot="5400000">
              <a:off x="1108080" y="5713560"/>
              <a:ext cx="75960" cy="7632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rot="5400000">
              <a:off x="1127160" y="5732640"/>
              <a:ext cx="37800" cy="38160"/>
            </a:xfrm>
            <a:prstGeom prst="rect">
              <a:avLst/>
            </a:prstGeom>
            <a:gradFill rotWithShape="0">
              <a:gsLst>
                <a:gs pos="0">
                  <a:srgbClr val="9f6a35"/>
                </a:gs>
                <a:gs pos="100000">
                  <a:srgbClr val="ba7c3e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V="1">
              <a:off x="1108080" y="5713560"/>
              <a:ext cx="763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 flipV="1">
              <a:off x="1108080" y="5713560"/>
              <a:ext cx="76320" cy="75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2" name=""/>
            <p:cNvGrpSpPr/>
            <p:nvPr/>
          </p:nvGrpSpPr>
          <p:grpSpPr>
            <a:xfrm>
              <a:off x="1187280" y="5904000"/>
              <a:ext cx="152640" cy="75960"/>
              <a:chOff x="1187280" y="5904000"/>
              <a:chExt cx="152640" cy="75960"/>
            </a:xfrm>
          </p:grpSpPr>
          <p:sp>
            <p:nvSpPr>
              <p:cNvPr id="2743" name=""/>
              <p:cNvSpPr/>
              <p:nvPr/>
            </p:nvSpPr>
            <p:spPr>
              <a:xfrm flipH="1" rot="16200000">
                <a:off x="1225440" y="5865480"/>
                <a:ext cx="75960" cy="1526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da82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263600" y="5904000"/>
                <a:ext cx="0" cy="745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1190520" y="5680080"/>
              <a:ext cx="152640" cy="75960"/>
              <a:chOff x="1190520" y="5680080"/>
              <a:chExt cx="152640" cy="75960"/>
            </a:xfrm>
          </p:grpSpPr>
          <p:sp>
            <p:nvSpPr>
              <p:cNvPr id="2746" name=""/>
              <p:cNvSpPr/>
              <p:nvPr/>
            </p:nvSpPr>
            <p:spPr>
              <a:xfrm rot="16200000">
                <a:off x="1228680" y="5641560"/>
                <a:ext cx="75960" cy="1526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da82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V="1">
                <a:off x="1266840" y="5681520"/>
                <a:ext cx="0" cy="745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8" name=""/>
          <p:cNvGrpSpPr/>
          <p:nvPr/>
        </p:nvGrpSpPr>
        <p:grpSpPr>
          <a:xfrm>
            <a:off x="1542600" y="1754280"/>
            <a:ext cx="490680" cy="326880"/>
            <a:chOff x="1542600" y="1754280"/>
            <a:chExt cx="490680" cy="326880"/>
          </a:xfrm>
        </p:grpSpPr>
        <p:sp>
          <p:nvSpPr>
            <p:cNvPr id="2749" name=""/>
            <p:cNvSpPr/>
            <p:nvPr/>
          </p:nvSpPr>
          <p:spPr>
            <a:xfrm rot="10800000">
              <a:off x="1542600" y="1863360"/>
              <a:ext cx="490680" cy="108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rot="5400000">
              <a:off x="1542240" y="1863000"/>
              <a:ext cx="326880" cy="1090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1706400" y="1754280"/>
              <a:ext cx="0" cy="3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1542600" y="1917720"/>
              <a:ext cx="490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rot="5400000">
              <a:off x="1651320" y="1863000"/>
              <a:ext cx="108720" cy="10908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rot="5400000">
              <a:off x="1678680" y="1890360"/>
              <a:ext cx="54000" cy="54360"/>
            </a:xfrm>
            <a:prstGeom prst="rect">
              <a:avLst/>
            </a:prstGeom>
            <a:gradFill rotWithShape="0">
              <a:gsLst>
                <a:gs pos="0">
                  <a:srgbClr val="afdbdb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1651680" y="1863360"/>
              <a:ext cx="109080" cy="10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 flipV="1">
              <a:off x="1651320" y="1863360"/>
              <a:ext cx="109080" cy="10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686040" y="5266800"/>
            <a:ext cx="300240" cy="304920"/>
            <a:chOff x="3686040" y="5266800"/>
            <a:chExt cx="300240" cy="304920"/>
          </a:xfrm>
        </p:grpSpPr>
        <p:sp>
          <p:nvSpPr>
            <p:cNvPr id="2758" name=""/>
            <p:cNvSpPr/>
            <p:nvPr/>
          </p:nvSpPr>
          <p:spPr>
            <a:xfrm rot="16200000">
              <a:off x="3686040" y="5304960"/>
              <a:ext cx="304920" cy="228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dbaf00"/>
                </a:gs>
                <a:gs pos="100000">
                  <a:srgbClr val="ffcc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3778200" y="5372280"/>
              <a:ext cx="120600" cy="120600"/>
            </a:xfrm>
            <a:prstGeom prst="ellipse">
              <a:avLst/>
            </a:prstGeom>
            <a:gradFill rotWithShape="0">
              <a:gsLst>
                <a:gs pos="0">
                  <a:srgbClr val="c173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3800160" y="5283000"/>
              <a:ext cx="76320" cy="76320"/>
              <a:chOff x="3800160" y="5283000"/>
              <a:chExt cx="76320" cy="76320"/>
            </a:xfrm>
          </p:grpSpPr>
          <p:sp>
            <p:nvSpPr>
              <p:cNvPr id="2761" name=""/>
              <p:cNvSpPr/>
              <p:nvPr/>
            </p:nvSpPr>
            <p:spPr>
              <a:xfrm rot="10800000">
                <a:off x="3800160" y="5283000"/>
                <a:ext cx="75960" cy="75960"/>
              </a:xfrm>
              <a:prstGeom prst="rect">
                <a:avLst/>
              </a:prstGeom>
              <a:solidFill>
                <a:srgbClr val="b2b2b2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rot="10800000">
                <a:off x="3819240" y="5301720"/>
                <a:ext cx="38160" cy="37800"/>
              </a:xfrm>
              <a:prstGeom prst="rect">
                <a:avLst/>
              </a:prstGeom>
              <a:gradFill rotWithShape="0">
                <a:gsLst>
                  <a:gs pos="0">
                    <a:srgbClr val="9f6a35"/>
                  </a:gs>
                  <a:gs pos="100000">
                    <a:srgbClr val="ba7c3e"/>
                  </a:gs>
                </a:gsLst>
                <a:path path="rect">
                  <a:fillToRect l="50000" t="50000" r="50000" b="50000"/>
                </a:path>
              </a:gra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3800520" y="5283360"/>
                <a:ext cx="75960" cy="7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3800520" y="5283000"/>
                <a:ext cx="75960" cy="7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"/>
            <p:cNvGrpSpPr/>
            <p:nvPr/>
          </p:nvGrpSpPr>
          <p:grpSpPr>
            <a:xfrm>
              <a:off x="3686040" y="5346720"/>
              <a:ext cx="76320" cy="152280"/>
              <a:chOff x="3686040" y="5346720"/>
              <a:chExt cx="76320" cy="152280"/>
            </a:xfrm>
          </p:grpSpPr>
          <p:sp>
            <p:nvSpPr>
              <p:cNvPr id="2766" name=""/>
              <p:cNvSpPr/>
              <p:nvPr/>
            </p:nvSpPr>
            <p:spPr>
              <a:xfrm flipH="1">
                <a:off x="3686040" y="5346720"/>
                <a:ext cx="76320" cy="1522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50000">
                    <a:srgbClr val="dbaf00"/>
                  </a:gs>
                  <a:gs pos="100000">
                    <a:srgbClr val="ffcc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>
                <a:off x="3687120" y="5423040"/>
                <a:ext cx="745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8" name=""/>
            <p:cNvGrpSpPr/>
            <p:nvPr/>
          </p:nvGrpSpPr>
          <p:grpSpPr>
            <a:xfrm>
              <a:off x="3909960" y="5349960"/>
              <a:ext cx="76320" cy="152280"/>
              <a:chOff x="3909960" y="5349960"/>
              <a:chExt cx="76320" cy="152280"/>
            </a:xfrm>
          </p:grpSpPr>
          <p:sp>
            <p:nvSpPr>
              <p:cNvPr id="2769" name=""/>
              <p:cNvSpPr/>
              <p:nvPr/>
            </p:nvSpPr>
            <p:spPr>
              <a:xfrm>
                <a:off x="3909960" y="5349960"/>
                <a:ext cx="76320" cy="1522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50000">
                    <a:srgbClr val="dbaf00"/>
                  </a:gs>
                  <a:gs pos="100000">
                    <a:srgbClr val="ffcc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3910680" y="5426280"/>
                <a:ext cx="7452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1" name=""/>
          <p:cNvGrpSpPr/>
          <p:nvPr/>
        </p:nvGrpSpPr>
        <p:grpSpPr>
          <a:xfrm>
            <a:off x="6862680" y="2736360"/>
            <a:ext cx="239760" cy="360360"/>
            <a:chOff x="6862680" y="2736360"/>
            <a:chExt cx="239760" cy="360360"/>
          </a:xfrm>
        </p:grpSpPr>
        <p:sp>
          <p:nvSpPr>
            <p:cNvPr id="2772" name=""/>
            <p:cNvSpPr/>
            <p:nvPr/>
          </p:nvSpPr>
          <p:spPr>
            <a:xfrm rot="16200000">
              <a:off x="6802200" y="2876760"/>
              <a:ext cx="360360" cy="795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rot="10800000">
              <a:off x="6862680" y="2816640"/>
              <a:ext cx="239760" cy="79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862680" y="2856600"/>
              <a:ext cx="239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6982560" y="2736360"/>
              <a:ext cx="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rot="10800000">
              <a:off x="6942240" y="2816640"/>
              <a:ext cx="79560" cy="7992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rot="10800000">
              <a:off x="6962760" y="2836440"/>
              <a:ext cx="39600" cy="39960"/>
            </a:xfrm>
            <a:prstGeom prst="rect">
              <a:avLst/>
            </a:prstGeom>
            <a:gradFill rotWithShape="0">
              <a:gsLst>
                <a:gs pos="0">
                  <a:srgbClr val="afdbdb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942600" y="2816640"/>
              <a:ext cx="79560" cy="7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6942600" y="2816640"/>
              <a:ext cx="79560" cy="7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4502160" y="2487240"/>
            <a:ext cx="390240" cy="586080"/>
            <a:chOff x="4502160" y="2487240"/>
            <a:chExt cx="390240" cy="586080"/>
          </a:xfrm>
        </p:grpSpPr>
        <p:sp>
          <p:nvSpPr>
            <p:cNvPr id="2781" name=""/>
            <p:cNvSpPr/>
            <p:nvPr/>
          </p:nvSpPr>
          <p:spPr>
            <a:xfrm rot="16200000">
              <a:off x="4404240" y="2649960"/>
              <a:ext cx="585720" cy="259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a82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4697280" y="2487240"/>
              <a:ext cx="0" cy="585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rot="10800000">
              <a:off x="4762440" y="2812320"/>
              <a:ext cx="6480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rot="10800000">
              <a:off x="4778640" y="2828880"/>
              <a:ext cx="32040" cy="32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b00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762440" y="281268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762440" y="281232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rot="10800000">
              <a:off x="4762440" y="3007800"/>
              <a:ext cx="6480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rot="10800000">
              <a:off x="4778640" y="3024360"/>
              <a:ext cx="32040" cy="324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9a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62440" y="300816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762440" y="300780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rot="10800000">
              <a:off x="4567320" y="2812320"/>
              <a:ext cx="6480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rot="10800000">
              <a:off x="4583160" y="2828880"/>
              <a:ext cx="32040" cy="324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b00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567320" y="281268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4567320" y="281232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rot="10800000">
              <a:off x="4567320" y="3007800"/>
              <a:ext cx="6480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rot="10800000">
              <a:off x="4583160" y="3024360"/>
              <a:ext cx="32040" cy="324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9a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567320" y="300816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4567320" y="300780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rot="10800000">
              <a:off x="4567320" y="2487240"/>
              <a:ext cx="6480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rot="10800000">
              <a:off x="4583160" y="2503800"/>
              <a:ext cx="32040" cy="32400"/>
            </a:xfrm>
            <a:prstGeom prst="rect">
              <a:avLst/>
            </a:prstGeom>
            <a:gradFill rotWithShape="0">
              <a:gsLst>
                <a:gs pos="0">
                  <a:srgbClr val="6586a8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567320" y="248760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4567320" y="248724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rot="10800000">
              <a:off x="4762440" y="2487240"/>
              <a:ext cx="6480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rot="10800000">
              <a:off x="4778640" y="2503800"/>
              <a:ext cx="32040" cy="32400"/>
            </a:xfrm>
            <a:prstGeom prst="rect">
              <a:avLst/>
            </a:prstGeom>
            <a:gradFill rotWithShape="0">
              <a:gsLst>
                <a:gs pos="0">
                  <a:srgbClr val="6586a8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762440" y="248760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4762440" y="2487240"/>
              <a:ext cx="6480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H="1">
              <a:off x="4503960" y="2617560"/>
              <a:ext cx="127080" cy="195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288" y="288"/>
                  </a:lnTo>
                  <a:lnTo>
                    <a:pt x="144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10800000"/>
            </a:gra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502160" y="2715120"/>
              <a:ext cx="124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762440" y="2617560"/>
              <a:ext cx="127080" cy="1951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288" y="288"/>
                  </a:lnTo>
                  <a:lnTo>
                    <a:pt x="144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10800000"/>
            </a:gra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4767840" y="2715120"/>
              <a:ext cx="1245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rot="10800000">
              <a:off x="4664520" y="2617200"/>
              <a:ext cx="65160" cy="651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0800000">
              <a:off x="4681080" y="2633760"/>
              <a:ext cx="32400" cy="324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1c19a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64880" y="2617560"/>
              <a:ext cx="65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4664880" y="2617200"/>
              <a:ext cx="65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5" name=""/>
          <p:cNvGrpSpPr/>
          <p:nvPr/>
        </p:nvGrpSpPr>
        <p:grpSpPr>
          <a:xfrm>
            <a:off x="5362560" y="2028960"/>
            <a:ext cx="404640" cy="404640"/>
            <a:chOff x="5362560" y="2028960"/>
            <a:chExt cx="404640" cy="404640"/>
          </a:xfrm>
        </p:grpSpPr>
        <p:sp>
          <p:nvSpPr>
            <p:cNvPr id="2816" name=""/>
            <p:cNvSpPr/>
            <p:nvPr/>
          </p:nvSpPr>
          <p:spPr>
            <a:xfrm rot="16200000">
              <a:off x="5333760" y="2057760"/>
              <a:ext cx="404640" cy="347040"/>
            </a:xfrm>
            <a:prstGeom prst="blockArc">
              <a:avLst>
                <a:gd name="adj1" fmla="val 9562668"/>
                <a:gd name="adj2" fmla="val 1237332"/>
                <a:gd name="adj3" fmla="val 3028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6200000">
              <a:off x="5420160" y="2115720"/>
              <a:ext cx="231120" cy="2314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5400000">
              <a:off x="5635080" y="2352600"/>
              <a:ext cx="32400" cy="1155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5400000">
              <a:off x="5635080" y="1995840"/>
              <a:ext cx="32400" cy="1155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5400000">
              <a:off x="5478120" y="2144520"/>
              <a:ext cx="347040" cy="1735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rot="16200000">
              <a:off x="5481000" y="2201760"/>
              <a:ext cx="115560" cy="5904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6200000">
              <a:off x="5635440" y="2215440"/>
              <a:ext cx="231120" cy="3240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652000" y="2057760"/>
              <a:ext cx="0" cy="347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4" name=""/>
          <p:cNvGrpSpPr/>
          <p:nvPr/>
        </p:nvGrpSpPr>
        <p:grpSpPr>
          <a:xfrm>
            <a:off x="228600" y="225360"/>
            <a:ext cx="2209680" cy="457200"/>
            <a:chOff x="228600" y="225360"/>
            <a:chExt cx="2209680" cy="457200"/>
          </a:xfrm>
        </p:grpSpPr>
        <p:grpSp>
          <p:nvGrpSpPr>
            <p:cNvPr id="2825" name=""/>
            <p:cNvGrpSpPr/>
            <p:nvPr/>
          </p:nvGrpSpPr>
          <p:grpSpPr>
            <a:xfrm>
              <a:off x="228600" y="225360"/>
              <a:ext cx="2209680" cy="457200"/>
              <a:chOff x="228600" y="225360"/>
              <a:chExt cx="2209680" cy="457200"/>
            </a:xfrm>
          </p:grpSpPr>
          <p:sp>
            <p:nvSpPr>
              <p:cNvPr id="2826" name=""/>
              <p:cNvSpPr/>
              <p:nvPr/>
            </p:nvSpPr>
            <p:spPr>
              <a:xfrm>
                <a:off x="246240" y="240840"/>
                <a:ext cx="2192040" cy="441720"/>
              </a:xfrm>
              <a:custGeom>
                <a:avLst/>
                <a:gdLst/>
                <a:ahLst/>
                <a:rect l="l" t="t" r="r" b="b"/>
                <a:pathLst>
                  <a:path w="2244" h="342">
                    <a:moveTo>
                      <a:pt x="1920" y="42"/>
                    </a:moveTo>
                    <a:lnTo>
                      <a:pt x="1920" y="48"/>
                    </a:lnTo>
                    <a:lnTo>
                      <a:pt x="1920" y="54"/>
                    </a:lnTo>
                    <a:lnTo>
                      <a:pt x="1926" y="54"/>
                    </a:lnTo>
                    <a:lnTo>
                      <a:pt x="1926" y="60"/>
                    </a:lnTo>
                    <a:lnTo>
                      <a:pt x="1926" y="66"/>
                    </a:lnTo>
                    <a:lnTo>
                      <a:pt x="1926" y="72"/>
                    </a:lnTo>
                    <a:lnTo>
                      <a:pt x="1926" y="78"/>
                    </a:lnTo>
                    <a:lnTo>
                      <a:pt x="1926" y="84"/>
                    </a:lnTo>
                    <a:lnTo>
                      <a:pt x="1926" y="90"/>
                    </a:lnTo>
                    <a:lnTo>
                      <a:pt x="1920" y="96"/>
                    </a:lnTo>
                    <a:lnTo>
                      <a:pt x="1920" y="102"/>
                    </a:lnTo>
                    <a:lnTo>
                      <a:pt x="1920" y="108"/>
                    </a:lnTo>
                    <a:lnTo>
                      <a:pt x="1920" y="114"/>
                    </a:lnTo>
                    <a:lnTo>
                      <a:pt x="1926" y="114"/>
                    </a:lnTo>
                    <a:lnTo>
                      <a:pt x="1938" y="108"/>
                    </a:lnTo>
                    <a:lnTo>
                      <a:pt x="1944" y="108"/>
                    </a:lnTo>
                    <a:lnTo>
                      <a:pt x="1950" y="108"/>
                    </a:lnTo>
                    <a:lnTo>
                      <a:pt x="1956" y="102"/>
                    </a:lnTo>
                    <a:lnTo>
                      <a:pt x="1968" y="102"/>
                    </a:lnTo>
                    <a:lnTo>
                      <a:pt x="1974" y="102"/>
                    </a:lnTo>
                    <a:lnTo>
                      <a:pt x="1980" y="102"/>
                    </a:lnTo>
                    <a:lnTo>
                      <a:pt x="1986" y="102"/>
                    </a:lnTo>
                    <a:lnTo>
                      <a:pt x="1998" y="96"/>
                    </a:lnTo>
                    <a:lnTo>
                      <a:pt x="2004" y="96"/>
                    </a:lnTo>
                    <a:lnTo>
                      <a:pt x="2010" y="96"/>
                    </a:lnTo>
                    <a:lnTo>
                      <a:pt x="2022" y="96"/>
                    </a:lnTo>
                    <a:lnTo>
                      <a:pt x="2028" y="96"/>
                    </a:lnTo>
                    <a:lnTo>
                      <a:pt x="2034" y="96"/>
                    </a:lnTo>
                    <a:lnTo>
                      <a:pt x="2040" y="102"/>
                    </a:lnTo>
                    <a:lnTo>
                      <a:pt x="2052" y="102"/>
                    </a:lnTo>
                    <a:lnTo>
                      <a:pt x="2058" y="102"/>
                    </a:lnTo>
                    <a:lnTo>
                      <a:pt x="2064" y="102"/>
                    </a:lnTo>
                    <a:lnTo>
                      <a:pt x="2076" y="108"/>
                    </a:lnTo>
                    <a:lnTo>
                      <a:pt x="2082" y="108"/>
                    </a:lnTo>
                    <a:lnTo>
                      <a:pt x="2088" y="108"/>
                    </a:lnTo>
                    <a:lnTo>
                      <a:pt x="2094" y="114"/>
                    </a:lnTo>
                    <a:lnTo>
                      <a:pt x="2106" y="114"/>
                    </a:lnTo>
                    <a:lnTo>
                      <a:pt x="2112" y="120"/>
                    </a:lnTo>
                    <a:lnTo>
                      <a:pt x="2118" y="120"/>
                    </a:lnTo>
                    <a:lnTo>
                      <a:pt x="2124" y="126"/>
                    </a:lnTo>
                    <a:lnTo>
                      <a:pt x="2130" y="126"/>
                    </a:lnTo>
                    <a:lnTo>
                      <a:pt x="2142" y="126"/>
                    </a:lnTo>
                    <a:lnTo>
                      <a:pt x="2148" y="132"/>
                    </a:lnTo>
                    <a:lnTo>
                      <a:pt x="2154" y="138"/>
                    </a:lnTo>
                    <a:lnTo>
                      <a:pt x="2160" y="144"/>
                    </a:lnTo>
                    <a:lnTo>
                      <a:pt x="2166" y="150"/>
                    </a:lnTo>
                    <a:lnTo>
                      <a:pt x="2172" y="150"/>
                    </a:lnTo>
                    <a:lnTo>
                      <a:pt x="2172" y="156"/>
                    </a:lnTo>
                    <a:lnTo>
                      <a:pt x="2178" y="162"/>
                    </a:lnTo>
                    <a:lnTo>
                      <a:pt x="2184" y="168"/>
                    </a:lnTo>
                    <a:lnTo>
                      <a:pt x="2196" y="174"/>
                    </a:lnTo>
                    <a:lnTo>
                      <a:pt x="2202" y="186"/>
                    </a:lnTo>
                    <a:lnTo>
                      <a:pt x="2214" y="192"/>
                    </a:lnTo>
                    <a:lnTo>
                      <a:pt x="2226" y="198"/>
                    </a:lnTo>
                    <a:lnTo>
                      <a:pt x="2232" y="198"/>
                    </a:lnTo>
                    <a:lnTo>
                      <a:pt x="2232" y="204"/>
                    </a:lnTo>
                    <a:lnTo>
                      <a:pt x="2238" y="210"/>
                    </a:lnTo>
                    <a:lnTo>
                      <a:pt x="2244" y="216"/>
                    </a:lnTo>
                    <a:lnTo>
                      <a:pt x="2238" y="216"/>
                    </a:lnTo>
                    <a:lnTo>
                      <a:pt x="2238" y="222"/>
                    </a:lnTo>
                    <a:lnTo>
                      <a:pt x="2232" y="222"/>
                    </a:lnTo>
                    <a:lnTo>
                      <a:pt x="2232" y="216"/>
                    </a:lnTo>
                    <a:lnTo>
                      <a:pt x="2226" y="216"/>
                    </a:lnTo>
                    <a:lnTo>
                      <a:pt x="2220" y="216"/>
                    </a:lnTo>
                    <a:lnTo>
                      <a:pt x="2214" y="216"/>
                    </a:lnTo>
                    <a:lnTo>
                      <a:pt x="2208" y="210"/>
                    </a:lnTo>
                    <a:lnTo>
                      <a:pt x="2202" y="210"/>
                    </a:lnTo>
                    <a:lnTo>
                      <a:pt x="2196" y="210"/>
                    </a:lnTo>
                    <a:lnTo>
                      <a:pt x="2190" y="210"/>
                    </a:lnTo>
                    <a:lnTo>
                      <a:pt x="2178" y="210"/>
                    </a:lnTo>
                    <a:lnTo>
                      <a:pt x="2166" y="210"/>
                    </a:lnTo>
                    <a:lnTo>
                      <a:pt x="2160" y="204"/>
                    </a:lnTo>
                    <a:lnTo>
                      <a:pt x="2154" y="204"/>
                    </a:lnTo>
                    <a:lnTo>
                      <a:pt x="2148" y="204"/>
                    </a:lnTo>
                    <a:lnTo>
                      <a:pt x="2142" y="204"/>
                    </a:lnTo>
                    <a:lnTo>
                      <a:pt x="2136" y="210"/>
                    </a:lnTo>
                    <a:lnTo>
                      <a:pt x="2130" y="210"/>
                    </a:lnTo>
                    <a:lnTo>
                      <a:pt x="2124" y="210"/>
                    </a:lnTo>
                    <a:lnTo>
                      <a:pt x="2118" y="210"/>
                    </a:lnTo>
                    <a:lnTo>
                      <a:pt x="2124" y="216"/>
                    </a:lnTo>
                    <a:lnTo>
                      <a:pt x="2130" y="222"/>
                    </a:lnTo>
                    <a:lnTo>
                      <a:pt x="2136" y="222"/>
                    </a:lnTo>
                    <a:lnTo>
                      <a:pt x="2136" y="228"/>
                    </a:lnTo>
                    <a:lnTo>
                      <a:pt x="2142" y="234"/>
                    </a:lnTo>
                    <a:lnTo>
                      <a:pt x="2142" y="240"/>
                    </a:lnTo>
                    <a:lnTo>
                      <a:pt x="2148" y="246"/>
                    </a:lnTo>
                    <a:lnTo>
                      <a:pt x="2154" y="252"/>
                    </a:lnTo>
                    <a:lnTo>
                      <a:pt x="2154" y="264"/>
                    </a:lnTo>
                    <a:lnTo>
                      <a:pt x="2160" y="264"/>
                    </a:lnTo>
                    <a:lnTo>
                      <a:pt x="2160" y="270"/>
                    </a:lnTo>
                    <a:lnTo>
                      <a:pt x="2166" y="270"/>
                    </a:lnTo>
                    <a:lnTo>
                      <a:pt x="2166" y="276"/>
                    </a:lnTo>
                    <a:lnTo>
                      <a:pt x="2172" y="282"/>
                    </a:lnTo>
                    <a:lnTo>
                      <a:pt x="2178" y="288"/>
                    </a:lnTo>
                    <a:lnTo>
                      <a:pt x="2178" y="294"/>
                    </a:lnTo>
                    <a:lnTo>
                      <a:pt x="2178" y="300"/>
                    </a:lnTo>
                    <a:lnTo>
                      <a:pt x="2184" y="300"/>
                    </a:lnTo>
                    <a:lnTo>
                      <a:pt x="2184" y="306"/>
                    </a:lnTo>
                    <a:lnTo>
                      <a:pt x="2184" y="312"/>
                    </a:lnTo>
                    <a:lnTo>
                      <a:pt x="2190" y="318"/>
                    </a:lnTo>
                    <a:lnTo>
                      <a:pt x="2190" y="324"/>
                    </a:lnTo>
                    <a:lnTo>
                      <a:pt x="2190" y="330"/>
                    </a:lnTo>
                    <a:lnTo>
                      <a:pt x="2196" y="336"/>
                    </a:lnTo>
                    <a:lnTo>
                      <a:pt x="2196" y="342"/>
                    </a:lnTo>
                    <a:lnTo>
                      <a:pt x="2190" y="342"/>
                    </a:lnTo>
                    <a:lnTo>
                      <a:pt x="2184" y="342"/>
                    </a:lnTo>
                    <a:lnTo>
                      <a:pt x="2178" y="342"/>
                    </a:lnTo>
                    <a:lnTo>
                      <a:pt x="2178" y="336"/>
                    </a:lnTo>
                    <a:lnTo>
                      <a:pt x="2172" y="336"/>
                    </a:lnTo>
                    <a:lnTo>
                      <a:pt x="2166" y="336"/>
                    </a:lnTo>
                    <a:lnTo>
                      <a:pt x="2160" y="336"/>
                    </a:lnTo>
                    <a:lnTo>
                      <a:pt x="2154" y="336"/>
                    </a:lnTo>
                    <a:lnTo>
                      <a:pt x="2154" y="330"/>
                    </a:lnTo>
                    <a:lnTo>
                      <a:pt x="2154" y="324"/>
                    </a:lnTo>
                    <a:lnTo>
                      <a:pt x="2148" y="324"/>
                    </a:lnTo>
                    <a:lnTo>
                      <a:pt x="2142" y="324"/>
                    </a:lnTo>
                    <a:lnTo>
                      <a:pt x="2136" y="318"/>
                    </a:lnTo>
                    <a:lnTo>
                      <a:pt x="2130" y="318"/>
                    </a:lnTo>
                    <a:lnTo>
                      <a:pt x="2124" y="312"/>
                    </a:lnTo>
                    <a:lnTo>
                      <a:pt x="2118" y="312"/>
                    </a:lnTo>
                    <a:lnTo>
                      <a:pt x="2106" y="306"/>
                    </a:lnTo>
                    <a:lnTo>
                      <a:pt x="2100" y="306"/>
                    </a:lnTo>
                    <a:lnTo>
                      <a:pt x="2088" y="306"/>
                    </a:lnTo>
                    <a:lnTo>
                      <a:pt x="2082" y="300"/>
                    </a:lnTo>
                    <a:lnTo>
                      <a:pt x="2076" y="306"/>
                    </a:lnTo>
                    <a:lnTo>
                      <a:pt x="2070" y="300"/>
                    </a:lnTo>
                    <a:lnTo>
                      <a:pt x="2064" y="300"/>
                    </a:lnTo>
                    <a:lnTo>
                      <a:pt x="2058" y="300"/>
                    </a:lnTo>
                    <a:lnTo>
                      <a:pt x="2046" y="300"/>
                    </a:lnTo>
                    <a:lnTo>
                      <a:pt x="2040" y="294"/>
                    </a:lnTo>
                    <a:lnTo>
                      <a:pt x="2034" y="294"/>
                    </a:lnTo>
                    <a:lnTo>
                      <a:pt x="2028" y="294"/>
                    </a:lnTo>
                    <a:lnTo>
                      <a:pt x="2016" y="294"/>
                    </a:lnTo>
                    <a:lnTo>
                      <a:pt x="2010" y="294"/>
                    </a:lnTo>
                    <a:lnTo>
                      <a:pt x="2004" y="294"/>
                    </a:lnTo>
                    <a:lnTo>
                      <a:pt x="1992" y="288"/>
                    </a:lnTo>
                    <a:lnTo>
                      <a:pt x="1986" y="288"/>
                    </a:lnTo>
                    <a:lnTo>
                      <a:pt x="1980" y="288"/>
                    </a:lnTo>
                    <a:lnTo>
                      <a:pt x="1968" y="288"/>
                    </a:lnTo>
                    <a:lnTo>
                      <a:pt x="1962" y="294"/>
                    </a:lnTo>
                    <a:lnTo>
                      <a:pt x="1956" y="294"/>
                    </a:lnTo>
                    <a:lnTo>
                      <a:pt x="1944" y="294"/>
                    </a:lnTo>
                    <a:lnTo>
                      <a:pt x="1938" y="294"/>
                    </a:lnTo>
                    <a:lnTo>
                      <a:pt x="1932" y="294"/>
                    </a:lnTo>
                    <a:lnTo>
                      <a:pt x="1926" y="294"/>
                    </a:lnTo>
                    <a:lnTo>
                      <a:pt x="1914" y="294"/>
                    </a:lnTo>
                    <a:lnTo>
                      <a:pt x="1908" y="294"/>
                    </a:lnTo>
                    <a:lnTo>
                      <a:pt x="1902" y="294"/>
                    </a:lnTo>
                    <a:lnTo>
                      <a:pt x="1890" y="294"/>
                    </a:lnTo>
                    <a:lnTo>
                      <a:pt x="1884" y="300"/>
                    </a:lnTo>
                    <a:lnTo>
                      <a:pt x="1878" y="300"/>
                    </a:lnTo>
                    <a:lnTo>
                      <a:pt x="1872" y="300"/>
                    </a:lnTo>
                    <a:lnTo>
                      <a:pt x="1866" y="300"/>
                    </a:lnTo>
                    <a:lnTo>
                      <a:pt x="1860" y="300"/>
                    </a:lnTo>
                    <a:lnTo>
                      <a:pt x="1854" y="300"/>
                    </a:lnTo>
                    <a:lnTo>
                      <a:pt x="1848" y="306"/>
                    </a:lnTo>
                    <a:lnTo>
                      <a:pt x="1842" y="306"/>
                    </a:lnTo>
                    <a:lnTo>
                      <a:pt x="1836" y="312"/>
                    </a:lnTo>
                    <a:lnTo>
                      <a:pt x="1830" y="312"/>
                    </a:lnTo>
                    <a:lnTo>
                      <a:pt x="1824" y="312"/>
                    </a:lnTo>
                    <a:lnTo>
                      <a:pt x="1818" y="312"/>
                    </a:lnTo>
                    <a:lnTo>
                      <a:pt x="1812" y="312"/>
                    </a:lnTo>
                    <a:lnTo>
                      <a:pt x="1806" y="318"/>
                    </a:lnTo>
                    <a:lnTo>
                      <a:pt x="1800" y="318"/>
                    </a:lnTo>
                    <a:lnTo>
                      <a:pt x="1782" y="324"/>
                    </a:lnTo>
                    <a:lnTo>
                      <a:pt x="1764" y="330"/>
                    </a:lnTo>
                    <a:lnTo>
                      <a:pt x="1758" y="330"/>
                    </a:lnTo>
                    <a:lnTo>
                      <a:pt x="1752" y="330"/>
                    </a:lnTo>
                    <a:lnTo>
                      <a:pt x="1746" y="336"/>
                    </a:lnTo>
                    <a:lnTo>
                      <a:pt x="1740" y="336"/>
                    </a:lnTo>
                    <a:lnTo>
                      <a:pt x="1734" y="336"/>
                    </a:lnTo>
                    <a:lnTo>
                      <a:pt x="1728" y="336"/>
                    </a:lnTo>
                    <a:lnTo>
                      <a:pt x="1722" y="336"/>
                    </a:lnTo>
                    <a:lnTo>
                      <a:pt x="1716" y="336"/>
                    </a:lnTo>
                    <a:lnTo>
                      <a:pt x="1710" y="336"/>
                    </a:lnTo>
                    <a:lnTo>
                      <a:pt x="1704" y="336"/>
                    </a:lnTo>
                    <a:lnTo>
                      <a:pt x="1698" y="336"/>
                    </a:lnTo>
                    <a:lnTo>
                      <a:pt x="1692" y="336"/>
                    </a:lnTo>
                    <a:lnTo>
                      <a:pt x="1686" y="336"/>
                    </a:lnTo>
                    <a:lnTo>
                      <a:pt x="1680" y="336"/>
                    </a:lnTo>
                    <a:lnTo>
                      <a:pt x="1680" y="330"/>
                    </a:lnTo>
                    <a:lnTo>
                      <a:pt x="1674" y="330"/>
                    </a:lnTo>
                    <a:lnTo>
                      <a:pt x="1668" y="330"/>
                    </a:lnTo>
                    <a:lnTo>
                      <a:pt x="1662" y="330"/>
                    </a:lnTo>
                    <a:lnTo>
                      <a:pt x="1656" y="330"/>
                    </a:lnTo>
                    <a:lnTo>
                      <a:pt x="1650" y="324"/>
                    </a:lnTo>
                    <a:lnTo>
                      <a:pt x="1644" y="324"/>
                    </a:lnTo>
                    <a:lnTo>
                      <a:pt x="1638" y="318"/>
                    </a:lnTo>
                    <a:lnTo>
                      <a:pt x="1632" y="318"/>
                    </a:lnTo>
                    <a:lnTo>
                      <a:pt x="1632" y="312"/>
                    </a:lnTo>
                    <a:lnTo>
                      <a:pt x="1626" y="312"/>
                    </a:lnTo>
                    <a:lnTo>
                      <a:pt x="1620" y="306"/>
                    </a:lnTo>
                    <a:lnTo>
                      <a:pt x="1620" y="300"/>
                    </a:lnTo>
                    <a:lnTo>
                      <a:pt x="1614" y="300"/>
                    </a:lnTo>
                    <a:lnTo>
                      <a:pt x="1614" y="294"/>
                    </a:lnTo>
                    <a:lnTo>
                      <a:pt x="1614" y="288"/>
                    </a:lnTo>
                    <a:lnTo>
                      <a:pt x="1614" y="282"/>
                    </a:lnTo>
                    <a:lnTo>
                      <a:pt x="1614" y="276"/>
                    </a:lnTo>
                    <a:lnTo>
                      <a:pt x="1614" y="270"/>
                    </a:lnTo>
                    <a:lnTo>
                      <a:pt x="1614" y="264"/>
                    </a:lnTo>
                    <a:lnTo>
                      <a:pt x="1614" y="258"/>
                    </a:lnTo>
                    <a:lnTo>
                      <a:pt x="1614" y="252"/>
                    </a:lnTo>
                    <a:lnTo>
                      <a:pt x="1614" y="246"/>
                    </a:lnTo>
                    <a:lnTo>
                      <a:pt x="1608" y="240"/>
                    </a:lnTo>
                    <a:lnTo>
                      <a:pt x="1602" y="240"/>
                    </a:lnTo>
                    <a:lnTo>
                      <a:pt x="1596" y="240"/>
                    </a:lnTo>
                    <a:lnTo>
                      <a:pt x="1590" y="240"/>
                    </a:lnTo>
                    <a:lnTo>
                      <a:pt x="1584" y="240"/>
                    </a:lnTo>
                    <a:lnTo>
                      <a:pt x="1578" y="240"/>
                    </a:lnTo>
                    <a:lnTo>
                      <a:pt x="1566" y="240"/>
                    </a:lnTo>
                    <a:lnTo>
                      <a:pt x="1560" y="240"/>
                    </a:lnTo>
                    <a:lnTo>
                      <a:pt x="1554" y="240"/>
                    </a:lnTo>
                    <a:lnTo>
                      <a:pt x="1548" y="240"/>
                    </a:lnTo>
                    <a:lnTo>
                      <a:pt x="1542" y="240"/>
                    </a:lnTo>
                    <a:lnTo>
                      <a:pt x="1536" y="240"/>
                    </a:lnTo>
                    <a:lnTo>
                      <a:pt x="1530" y="240"/>
                    </a:lnTo>
                    <a:lnTo>
                      <a:pt x="1524" y="240"/>
                    </a:lnTo>
                    <a:lnTo>
                      <a:pt x="1518" y="240"/>
                    </a:lnTo>
                    <a:lnTo>
                      <a:pt x="1512" y="240"/>
                    </a:lnTo>
                    <a:lnTo>
                      <a:pt x="1506" y="240"/>
                    </a:lnTo>
                    <a:lnTo>
                      <a:pt x="1500" y="240"/>
                    </a:lnTo>
                    <a:lnTo>
                      <a:pt x="1500" y="234"/>
                    </a:lnTo>
                    <a:lnTo>
                      <a:pt x="1494" y="240"/>
                    </a:lnTo>
                    <a:lnTo>
                      <a:pt x="1488" y="240"/>
                    </a:lnTo>
                    <a:lnTo>
                      <a:pt x="1482" y="240"/>
                    </a:lnTo>
                    <a:lnTo>
                      <a:pt x="1476" y="240"/>
                    </a:lnTo>
                    <a:lnTo>
                      <a:pt x="1476" y="234"/>
                    </a:lnTo>
                    <a:lnTo>
                      <a:pt x="1470" y="234"/>
                    </a:lnTo>
                    <a:lnTo>
                      <a:pt x="1464" y="234"/>
                    </a:lnTo>
                    <a:lnTo>
                      <a:pt x="1458" y="234"/>
                    </a:lnTo>
                    <a:lnTo>
                      <a:pt x="1446" y="234"/>
                    </a:lnTo>
                    <a:lnTo>
                      <a:pt x="1440" y="240"/>
                    </a:lnTo>
                    <a:lnTo>
                      <a:pt x="1434" y="240"/>
                    </a:lnTo>
                    <a:lnTo>
                      <a:pt x="1428" y="240"/>
                    </a:lnTo>
                    <a:lnTo>
                      <a:pt x="1422" y="240"/>
                    </a:lnTo>
                    <a:lnTo>
                      <a:pt x="1416" y="240"/>
                    </a:lnTo>
                    <a:lnTo>
                      <a:pt x="1410" y="240"/>
                    </a:lnTo>
                    <a:lnTo>
                      <a:pt x="1410" y="234"/>
                    </a:lnTo>
                    <a:lnTo>
                      <a:pt x="1404" y="234"/>
                    </a:lnTo>
                    <a:lnTo>
                      <a:pt x="1398" y="234"/>
                    </a:lnTo>
                    <a:lnTo>
                      <a:pt x="1392" y="234"/>
                    </a:lnTo>
                    <a:lnTo>
                      <a:pt x="1386" y="234"/>
                    </a:lnTo>
                    <a:lnTo>
                      <a:pt x="1380" y="234"/>
                    </a:lnTo>
                    <a:lnTo>
                      <a:pt x="1374" y="234"/>
                    </a:lnTo>
                    <a:lnTo>
                      <a:pt x="1368" y="228"/>
                    </a:lnTo>
                    <a:lnTo>
                      <a:pt x="1368" y="234"/>
                    </a:lnTo>
                    <a:lnTo>
                      <a:pt x="1356" y="234"/>
                    </a:lnTo>
                    <a:lnTo>
                      <a:pt x="1344" y="234"/>
                    </a:lnTo>
                    <a:lnTo>
                      <a:pt x="1338" y="234"/>
                    </a:lnTo>
                    <a:lnTo>
                      <a:pt x="1326" y="234"/>
                    </a:lnTo>
                    <a:lnTo>
                      <a:pt x="1314" y="234"/>
                    </a:lnTo>
                    <a:lnTo>
                      <a:pt x="1302" y="234"/>
                    </a:lnTo>
                    <a:lnTo>
                      <a:pt x="1296" y="234"/>
                    </a:lnTo>
                    <a:lnTo>
                      <a:pt x="1284" y="234"/>
                    </a:lnTo>
                    <a:lnTo>
                      <a:pt x="1272" y="234"/>
                    </a:lnTo>
                    <a:lnTo>
                      <a:pt x="1260" y="234"/>
                    </a:lnTo>
                    <a:lnTo>
                      <a:pt x="1248" y="234"/>
                    </a:lnTo>
                    <a:lnTo>
                      <a:pt x="1242" y="234"/>
                    </a:lnTo>
                    <a:lnTo>
                      <a:pt x="1218" y="234"/>
                    </a:lnTo>
                    <a:lnTo>
                      <a:pt x="1194" y="234"/>
                    </a:lnTo>
                    <a:lnTo>
                      <a:pt x="1176" y="234"/>
                    </a:lnTo>
                    <a:lnTo>
                      <a:pt x="1152" y="234"/>
                    </a:lnTo>
                    <a:lnTo>
                      <a:pt x="1128" y="228"/>
                    </a:lnTo>
                    <a:lnTo>
                      <a:pt x="1110" y="228"/>
                    </a:lnTo>
                    <a:lnTo>
                      <a:pt x="1098" y="228"/>
                    </a:lnTo>
                    <a:lnTo>
                      <a:pt x="1086" y="228"/>
                    </a:lnTo>
                    <a:lnTo>
                      <a:pt x="1074" y="228"/>
                    </a:lnTo>
                    <a:lnTo>
                      <a:pt x="1068" y="228"/>
                    </a:lnTo>
                    <a:lnTo>
                      <a:pt x="1056" y="228"/>
                    </a:lnTo>
                    <a:lnTo>
                      <a:pt x="1044" y="234"/>
                    </a:lnTo>
                    <a:lnTo>
                      <a:pt x="1032" y="234"/>
                    </a:lnTo>
                    <a:lnTo>
                      <a:pt x="1026" y="234"/>
                    </a:lnTo>
                    <a:lnTo>
                      <a:pt x="1020" y="228"/>
                    </a:lnTo>
                    <a:lnTo>
                      <a:pt x="990" y="228"/>
                    </a:lnTo>
                    <a:lnTo>
                      <a:pt x="966" y="228"/>
                    </a:lnTo>
                    <a:lnTo>
                      <a:pt x="936" y="228"/>
                    </a:lnTo>
                    <a:lnTo>
                      <a:pt x="912" y="228"/>
                    </a:lnTo>
                    <a:lnTo>
                      <a:pt x="882" y="228"/>
                    </a:lnTo>
                    <a:lnTo>
                      <a:pt x="858" y="228"/>
                    </a:lnTo>
                    <a:lnTo>
                      <a:pt x="828" y="228"/>
                    </a:lnTo>
                    <a:lnTo>
                      <a:pt x="804" y="228"/>
                    </a:lnTo>
                    <a:lnTo>
                      <a:pt x="798" y="228"/>
                    </a:lnTo>
                    <a:lnTo>
                      <a:pt x="792" y="228"/>
                    </a:lnTo>
                    <a:lnTo>
                      <a:pt x="786" y="228"/>
                    </a:lnTo>
                    <a:lnTo>
                      <a:pt x="780" y="228"/>
                    </a:lnTo>
                    <a:lnTo>
                      <a:pt x="774" y="228"/>
                    </a:lnTo>
                    <a:lnTo>
                      <a:pt x="768" y="228"/>
                    </a:lnTo>
                    <a:lnTo>
                      <a:pt x="762" y="228"/>
                    </a:lnTo>
                    <a:lnTo>
                      <a:pt x="756" y="228"/>
                    </a:lnTo>
                    <a:lnTo>
                      <a:pt x="744" y="228"/>
                    </a:lnTo>
                    <a:lnTo>
                      <a:pt x="732" y="228"/>
                    </a:lnTo>
                    <a:lnTo>
                      <a:pt x="720" y="228"/>
                    </a:lnTo>
                    <a:lnTo>
                      <a:pt x="714" y="228"/>
                    </a:lnTo>
                    <a:lnTo>
                      <a:pt x="702" y="228"/>
                    </a:lnTo>
                    <a:lnTo>
                      <a:pt x="690" y="228"/>
                    </a:lnTo>
                    <a:lnTo>
                      <a:pt x="684" y="228"/>
                    </a:lnTo>
                    <a:lnTo>
                      <a:pt x="672" y="228"/>
                    </a:lnTo>
                    <a:lnTo>
                      <a:pt x="666" y="228"/>
                    </a:lnTo>
                    <a:lnTo>
                      <a:pt x="660" y="228"/>
                    </a:lnTo>
                    <a:lnTo>
                      <a:pt x="654" y="228"/>
                    </a:lnTo>
                    <a:lnTo>
                      <a:pt x="648" y="228"/>
                    </a:lnTo>
                    <a:lnTo>
                      <a:pt x="594" y="228"/>
                    </a:lnTo>
                    <a:lnTo>
                      <a:pt x="594" y="234"/>
                    </a:lnTo>
                    <a:lnTo>
                      <a:pt x="594" y="240"/>
                    </a:lnTo>
                    <a:lnTo>
                      <a:pt x="594" y="246"/>
                    </a:lnTo>
                    <a:lnTo>
                      <a:pt x="594" y="252"/>
                    </a:lnTo>
                    <a:lnTo>
                      <a:pt x="594" y="258"/>
                    </a:lnTo>
                    <a:lnTo>
                      <a:pt x="594" y="264"/>
                    </a:lnTo>
                    <a:lnTo>
                      <a:pt x="594" y="270"/>
                    </a:lnTo>
                    <a:lnTo>
                      <a:pt x="588" y="270"/>
                    </a:lnTo>
                    <a:lnTo>
                      <a:pt x="594" y="276"/>
                    </a:lnTo>
                    <a:lnTo>
                      <a:pt x="594" y="282"/>
                    </a:lnTo>
                    <a:lnTo>
                      <a:pt x="594" y="288"/>
                    </a:lnTo>
                    <a:lnTo>
                      <a:pt x="594" y="294"/>
                    </a:lnTo>
                    <a:lnTo>
                      <a:pt x="594" y="300"/>
                    </a:lnTo>
                    <a:lnTo>
                      <a:pt x="588" y="300"/>
                    </a:lnTo>
                    <a:lnTo>
                      <a:pt x="588" y="306"/>
                    </a:lnTo>
                    <a:lnTo>
                      <a:pt x="588" y="312"/>
                    </a:lnTo>
                    <a:lnTo>
                      <a:pt x="582" y="318"/>
                    </a:lnTo>
                    <a:lnTo>
                      <a:pt x="576" y="324"/>
                    </a:lnTo>
                    <a:lnTo>
                      <a:pt x="570" y="324"/>
                    </a:lnTo>
                    <a:lnTo>
                      <a:pt x="564" y="330"/>
                    </a:lnTo>
                    <a:lnTo>
                      <a:pt x="558" y="330"/>
                    </a:lnTo>
                    <a:lnTo>
                      <a:pt x="552" y="336"/>
                    </a:lnTo>
                    <a:lnTo>
                      <a:pt x="546" y="336"/>
                    </a:lnTo>
                    <a:lnTo>
                      <a:pt x="540" y="336"/>
                    </a:lnTo>
                    <a:lnTo>
                      <a:pt x="534" y="336"/>
                    </a:lnTo>
                    <a:lnTo>
                      <a:pt x="528" y="336"/>
                    </a:lnTo>
                    <a:lnTo>
                      <a:pt x="516" y="336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2" y="336"/>
                    </a:lnTo>
                    <a:lnTo>
                      <a:pt x="486" y="336"/>
                    </a:lnTo>
                    <a:lnTo>
                      <a:pt x="480" y="336"/>
                    </a:lnTo>
                    <a:lnTo>
                      <a:pt x="474" y="336"/>
                    </a:lnTo>
                    <a:lnTo>
                      <a:pt x="468" y="336"/>
                    </a:lnTo>
                    <a:lnTo>
                      <a:pt x="456" y="336"/>
                    </a:lnTo>
                    <a:lnTo>
                      <a:pt x="444" y="336"/>
                    </a:lnTo>
                    <a:lnTo>
                      <a:pt x="432" y="336"/>
                    </a:lnTo>
                    <a:lnTo>
                      <a:pt x="420" y="336"/>
                    </a:lnTo>
                    <a:lnTo>
                      <a:pt x="408" y="336"/>
                    </a:lnTo>
                    <a:lnTo>
                      <a:pt x="402" y="336"/>
                    </a:lnTo>
                    <a:lnTo>
                      <a:pt x="396" y="336"/>
                    </a:lnTo>
                    <a:lnTo>
                      <a:pt x="390" y="336"/>
                    </a:lnTo>
                    <a:lnTo>
                      <a:pt x="384" y="336"/>
                    </a:lnTo>
                    <a:lnTo>
                      <a:pt x="378" y="330"/>
                    </a:lnTo>
                    <a:lnTo>
                      <a:pt x="372" y="330"/>
                    </a:lnTo>
                    <a:lnTo>
                      <a:pt x="366" y="330"/>
                    </a:lnTo>
                    <a:lnTo>
                      <a:pt x="360" y="324"/>
                    </a:lnTo>
                    <a:lnTo>
                      <a:pt x="354" y="324"/>
                    </a:lnTo>
                    <a:lnTo>
                      <a:pt x="348" y="324"/>
                    </a:lnTo>
                    <a:lnTo>
                      <a:pt x="342" y="318"/>
                    </a:lnTo>
                    <a:lnTo>
                      <a:pt x="336" y="318"/>
                    </a:lnTo>
                    <a:lnTo>
                      <a:pt x="324" y="318"/>
                    </a:lnTo>
                    <a:lnTo>
                      <a:pt x="312" y="312"/>
                    </a:lnTo>
                    <a:lnTo>
                      <a:pt x="300" y="312"/>
                    </a:lnTo>
                    <a:lnTo>
                      <a:pt x="288" y="306"/>
                    </a:lnTo>
                    <a:lnTo>
                      <a:pt x="258" y="300"/>
                    </a:lnTo>
                    <a:lnTo>
                      <a:pt x="234" y="300"/>
                    </a:lnTo>
                    <a:lnTo>
                      <a:pt x="222" y="294"/>
                    </a:lnTo>
                    <a:lnTo>
                      <a:pt x="210" y="294"/>
                    </a:lnTo>
                    <a:lnTo>
                      <a:pt x="198" y="288"/>
                    </a:lnTo>
                    <a:lnTo>
                      <a:pt x="186" y="288"/>
                    </a:lnTo>
                    <a:lnTo>
                      <a:pt x="180" y="288"/>
                    </a:lnTo>
                    <a:lnTo>
                      <a:pt x="174" y="288"/>
                    </a:lnTo>
                    <a:lnTo>
                      <a:pt x="168" y="288"/>
                    </a:lnTo>
                    <a:lnTo>
                      <a:pt x="162" y="288"/>
                    </a:lnTo>
                    <a:lnTo>
                      <a:pt x="156" y="288"/>
                    </a:lnTo>
                    <a:lnTo>
                      <a:pt x="150" y="288"/>
                    </a:lnTo>
                    <a:lnTo>
                      <a:pt x="144" y="288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26" y="294"/>
                    </a:lnTo>
                    <a:lnTo>
                      <a:pt x="120" y="300"/>
                    </a:lnTo>
                    <a:lnTo>
                      <a:pt x="114" y="300"/>
                    </a:lnTo>
                    <a:lnTo>
                      <a:pt x="102" y="306"/>
                    </a:lnTo>
                    <a:lnTo>
                      <a:pt x="96" y="306"/>
                    </a:lnTo>
                    <a:lnTo>
                      <a:pt x="90" y="312"/>
                    </a:lnTo>
                    <a:lnTo>
                      <a:pt x="84" y="318"/>
                    </a:lnTo>
                    <a:lnTo>
                      <a:pt x="78" y="318"/>
                    </a:lnTo>
                    <a:lnTo>
                      <a:pt x="72" y="324"/>
                    </a:lnTo>
                    <a:lnTo>
                      <a:pt x="66" y="324"/>
                    </a:lnTo>
                    <a:lnTo>
                      <a:pt x="60" y="324"/>
                    </a:lnTo>
                    <a:lnTo>
                      <a:pt x="60" y="318"/>
                    </a:lnTo>
                    <a:lnTo>
                      <a:pt x="54" y="318"/>
                    </a:lnTo>
                    <a:lnTo>
                      <a:pt x="54" y="312"/>
                    </a:lnTo>
                    <a:lnTo>
                      <a:pt x="54" y="306"/>
                    </a:lnTo>
                    <a:lnTo>
                      <a:pt x="60" y="306"/>
                    </a:lnTo>
                    <a:lnTo>
                      <a:pt x="60" y="300"/>
                    </a:lnTo>
                    <a:lnTo>
                      <a:pt x="60" y="294"/>
                    </a:lnTo>
                    <a:lnTo>
                      <a:pt x="66" y="288"/>
                    </a:lnTo>
                    <a:lnTo>
                      <a:pt x="66" y="282"/>
                    </a:lnTo>
                    <a:lnTo>
                      <a:pt x="72" y="270"/>
                    </a:lnTo>
                    <a:lnTo>
                      <a:pt x="78" y="264"/>
                    </a:lnTo>
                    <a:lnTo>
                      <a:pt x="78" y="258"/>
                    </a:lnTo>
                    <a:lnTo>
                      <a:pt x="84" y="252"/>
                    </a:lnTo>
                    <a:lnTo>
                      <a:pt x="90" y="246"/>
                    </a:lnTo>
                    <a:lnTo>
                      <a:pt x="90" y="240"/>
                    </a:lnTo>
                    <a:lnTo>
                      <a:pt x="96" y="240"/>
                    </a:lnTo>
                    <a:lnTo>
                      <a:pt x="132" y="204"/>
                    </a:lnTo>
                    <a:lnTo>
                      <a:pt x="126" y="204"/>
                    </a:lnTo>
                    <a:lnTo>
                      <a:pt x="120" y="198"/>
                    </a:lnTo>
                    <a:lnTo>
                      <a:pt x="114" y="198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96" y="198"/>
                    </a:lnTo>
                    <a:lnTo>
                      <a:pt x="90" y="198"/>
                    </a:lnTo>
                    <a:lnTo>
                      <a:pt x="84" y="198"/>
                    </a:lnTo>
                    <a:lnTo>
                      <a:pt x="78" y="198"/>
                    </a:lnTo>
                    <a:lnTo>
                      <a:pt x="72" y="198"/>
                    </a:lnTo>
                    <a:lnTo>
                      <a:pt x="66" y="198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30" y="210"/>
                    </a:lnTo>
                    <a:lnTo>
                      <a:pt x="24" y="210"/>
                    </a:lnTo>
                    <a:lnTo>
                      <a:pt x="18" y="216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6" y="198"/>
                    </a:lnTo>
                    <a:lnTo>
                      <a:pt x="12" y="198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24" y="180"/>
                    </a:lnTo>
                    <a:lnTo>
                      <a:pt x="24" y="174"/>
                    </a:lnTo>
                    <a:lnTo>
                      <a:pt x="42" y="156"/>
                    </a:lnTo>
                    <a:lnTo>
                      <a:pt x="48" y="144"/>
                    </a:lnTo>
                    <a:lnTo>
                      <a:pt x="54" y="138"/>
                    </a:lnTo>
                    <a:lnTo>
                      <a:pt x="60" y="138"/>
                    </a:lnTo>
                    <a:lnTo>
                      <a:pt x="72" y="132"/>
                    </a:lnTo>
                    <a:lnTo>
                      <a:pt x="78" y="126"/>
                    </a:lnTo>
                    <a:lnTo>
                      <a:pt x="84" y="126"/>
                    </a:lnTo>
                    <a:lnTo>
                      <a:pt x="90" y="126"/>
                    </a:lnTo>
                    <a:lnTo>
                      <a:pt x="96" y="120"/>
                    </a:lnTo>
                    <a:lnTo>
                      <a:pt x="108" y="120"/>
                    </a:lnTo>
                    <a:lnTo>
                      <a:pt x="114" y="120"/>
                    </a:lnTo>
                    <a:lnTo>
                      <a:pt x="120" y="120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44" y="114"/>
                    </a:lnTo>
                    <a:lnTo>
                      <a:pt x="156" y="114"/>
                    </a:lnTo>
                    <a:lnTo>
                      <a:pt x="162" y="114"/>
                    </a:lnTo>
                    <a:lnTo>
                      <a:pt x="168" y="114"/>
                    </a:lnTo>
                    <a:lnTo>
                      <a:pt x="180" y="114"/>
                    </a:lnTo>
                    <a:lnTo>
                      <a:pt x="186" y="114"/>
                    </a:lnTo>
                    <a:lnTo>
                      <a:pt x="198" y="114"/>
                    </a:lnTo>
                    <a:lnTo>
                      <a:pt x="210" y="120"/>
                    </a:lnTo>
                    <a:lnTo>
                      <a:pt x="228" y="120"/>
                    </a:lnTo>
                    <a:lnTo>
                      <a:pt x="234" y="120"/>
                    </a:lnTo>
                    <a:lnTo>
                      <a:pt x="246" y="120"/>
                    </a:lnTo>
                    <a:lnTo>
                      <a:pt x="252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8" y="120"/>
                    </a:lnTo>
                    <a:lnTo>
                      <a:pt x="294" y="120"/>
                    </a:lnTo>
                    <a:lnTo>
                      <a:pt x="294" y="114"/>
                    </a:lnTo>
                    <a:lnTo>
                      <a:pt x="288" y="108"/>
                    </a:lnTo>
                    <a:lnTo>
                      <a:pt x="288" y="102"/>
                    </a:lnTo>
                    <a:lnTo>
                      <a:pt x="282" y="102"/>
                    </a:lnTo>
                    <a:lnTo>
                      <a:pt x="282" y="96"/>
                    </a:lnTo>
                    <a:lnTo>
                      <a:pt x="276" y="90"/>
                    </a:lnTo>
                    <a:lnTo>
                      <a:pt x="276" y="84"/>
                    </a:lnTo>
                    <a:lnTo>
                      <a:pt x="270" y="78"/>
                    </a:lnTo>
                    <a:lnTo>
                      <a:pt x="270" y="72"/>
                    </a:lnTo>
                    <a:lnTo>
                      <a:pt x="264" y="66"/>
                    </a:lnTo>
                    <a:lnTo>
                      <a:pt x="264" y="60"/>
                    </a:lnTo>
                    <a:lnTo>
                      <a:pt x="264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0" y="36"/>
                    </a:lnTo>
                    <a:lnTo>
                      <a:pt x="276" y="30"/>
                    </a:lnTo>
                    <a:lnTo>
                      <a:pt x="282" y="24"/>
                    </a:lnTo>
                    <a:lnTo>
                      <a:pt x="288" y="18"/>
                    </a:lnTo>
                    <a:lnTo>
                      <a:pt x="294" y="18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72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6"/>
                    </a:lnTo>
                    <a:lnTo>
                      <a:pt x="426" y="6"/>
                    </a:lnTo>
                    <a:lnTo>
                      <a:pt x="438" y="6"/>
                    </a:lnTo>
                    <a:lnTo>
                      <a:pt x="450" y="6"/>
                    </a:lnTo>
                    <a:lnTo>
                      <a:pt x="462" y="6"/>
                    </a:lnTo>
                    <a:lnTo>
                      <a:pt x="474" y="6"/>
                    </a:lnTo>
                    <a:lnTo>
                      <a:pt x="486" y="6"/>
                    </a:lnTo>
                    <a:lnTo>
                      <a:pt x="498" y="6"/>
                    </a:lnTo>
                    <a:lnTo>
                      <a:pt x="510" y="6"/>
                    </a:lnTo>
                    <a:lnTo>
                      <a:pt x="522" y="6"/>
                    </a:lnTo>
                    <a:lnTo>
                      <a:pt x="546" y="6"/>
                    </a:lnTo>
                    <a:lnTo>
                      <a:pt x="570" y="12"/>
                    </a:lnTo>
                    <a:lnTo>
                      <a:pt x="594" y="12"/>
                    </a:lnTo>
                    <a:lnTo>
                      <a:pt x="618" y="12"/>
                    </a:lnTo>
                    <a:lnTo>
                      <a:pt x="642" y="12"/>
                    </a:lnTo>
                    <a:lnTo>
                      <a:pt x="660" y="12"/>
                    </a:lnTo>
                    <a:lnTo>
                      <a:pt x="684" y="12"/>
                    </a:lnTo>
                    <a:lnTo>
                      <a:pt x="708" y="12"/>
                    </a:lnTo>
                    <a:lnTo>
                      <a:pt x="720" y="18"/>
                    </a:lnTo>
                    <a:lnTo>
                      <a:pt x="732" y="18"/>
                    </a:lnTo>
                    <a:lnTo>
                      <a:pt x="744" y="18"/>
                    </a:lnTo>
                    <a:lnTo>
                      <a:pt x="756" y="18"/>
                    </a:lnTo>
                    <a:lnTo>
                      <a:pt x="768" y="18"/>
                    </a:lnTo>
                    <a:lnTo>
                      <a:pt x="780" y="18"/>
                    </a:lnTo>
                    <a:lnTo>
                      <a:pt x="792" y="18"/>
                    </a:lnTo>
                    <a:lnTo>
                      <a:pt x="804" y="12"/>
                    </a:lnTo>
                    <a:lnTo>
                      <a:pt x="822" y="12"/>
                    </a:lnTo>
                    <a:lnTo>
                      <a:pt x="834" y="12"/>
                    </a:lnTo>
                    <a:lnTo>
                      <a:pt x="846" y="12"/>
                    </a:lnTo>
                    <a:lnTo>
                      <a:pt x="864" y="12"/>
                    </a:lnTo>
                    <a:lnTo>
                      <a:pt x="876" y="12"/>
                    </a:lnTo>
                    <a:lnTo>
                      <a:pt x="888" y="12"/>
                    </a:lnTo>
                    <a:lnTo>
                      <a:pt x="906" y="12"/>
                    </a:lnTo>
                    <a:lnTo>
                      <a:pt x="918" y="12"/>
                    </a:lnTo>
                    <a:lnTo>
                      <a:pt x="942" y="18"/>
                    </a:lnTo>
                    <a:lnTo>
                      <a:pt x="972" y="18"/>
                    </a:lnTo>
                    <a:lnTo>
                      <a:pt x="984" y="18"/>
                    </a:lnTo>
                    <a:lnTo>
                      <a:pt x="1002" y="18"/>
                    </a:lnTo>
                    <a:lnTo>
                      <a:pt x="1014" y="18"/>
                    </a:lnTo>
                    <a:lnTo>
                      <a:pt x="1032" y="18"/>
                    </a:lnTo>
                    <a:lnTo>
                      <a:pt x="1038" y="18"/>
                    </a:lnTo>
                    <a:lnTo>
                      <a:pt x="1044" y="18"/>
                    </a:lnTo>
                    <a:lnTo>
                      <a:pt x="1050" y="18"/>
                    </a:lnTo>
                    <a:lnTo>
                      <a:pt x="1056" y="18"/>
                    </a:lnTo>
                    <a:lnTo>
                      <a:pt x="1062" y="18"/>
                    </a:lnTo>
                    <a:lnTo>
                      <a:pt x="1068" y="18"/>
                    </a:lnTo>
                    <a:lnTo>
                      <a:pt x="1074" y="18"/>
                    </a:lnTo>
                    <a:lnTo>
                      <a:pt x="1080" y="18"/>
                    </a:lnTo>
                    <a:lnTo>
                      <a:pt x="1086" y="24"/>
                    </a:lnTo>
                    <a:lnTo>
                      <a:pt x="1086" y="18"/>
                    </a:lnTo>
                    <a:lnTo>
                      <a:pt x="1092" y="18"/>
                    </a:lnTo>
                    <a:lnTo>
                      <a:pt x="1098" y="18"/>
                    </a:lnTo>
                    <a:lnTo>
                      <a:pt x="1104" y="18"/>
                    </a:lnTo>
                    <a:lnTo>
                      <a:pt x="1110" y="18"/>
                    </a:lnTo>
                    <a:lnTo>
                      <a:pt x="1122" y="18"/>
                    </a:lnTo>
                    <a:lnTo>
                      <a:pt x="1128" y="18"/>
                    </a:lnTo>
                    <a:lnTo>
                      <a:pt x="1146" y="18"/>
                    </a:lnTo>
                    <a:lnTo>
                      <a:pt x="1164" y="18"/>
                    </a:lnTo>
                    <a:lnTo>
                      <a:pt x="1182" y="18"/>
                    </a:lnTo>
                    <a:lnTo>
                      <a:pt x="1200" y="18"/>
                    </a:lnTo>
                    <a:lnTo>
                      <a:pt x="1206" y="18"/>
                    </a:lnTo>
                    <a:lnTo>
                      <a:pt x="1218" y="18"/>
                    </a:lnTo>
                    <a:lnTo>
                      <a:pt x="1224" y="18"/>
                    </a:lnTo>
                    <a:lnTo>
                      <a:pt x="1236" y="18"/>
                    </a:lnTo>
                    <a:lnTo>
                      <a:pt x="1230" y="24"/>
                    </a:lnTo>
                    <a:lnTo>
                      <a:pt x="1290" y="24"/>
                    </a:lnTo>
                    <a:lnTo>
                      <a:pt x="1344" y="18"/>
                    </a:lnTo>
                    <a:lnTo>
                      <a:pt x="1374" y="18"/>
                    </a:lnTo>
                    <a:lnTo>
                      <a:pt x="1404" y="18"/>
                    </a:lnTo>
                    <a:lnTo>
                      <a:pt x="1434" y="18"/>
                    </a:lnTo>
                    <a:lnTo>
                      <a:pt x="1464" y="18"/>
                    </a:lnTo>
                    <a:lnTo>
                      <a:pt x="1494" y="18"/>
                    </a:lnTo>
                    <a:lnTo>
                      <a:pt x="1518" y="18"/>
                    </a:lnTo>
                    <a:lnTo>
                      <a:pt x="1536" y="18"/>
                    </a:lnTo>
                    <a:lnTo>
                      <a:pt x="1548" y="18"/>
                    </a:lnTo>
                    <a:lnTo>
                      <a:pt x="1566" y="18"/>
                    </a:lnTo>
                    <a:lnTo>
                      <a:pt x="1578" y="12"/>
                    </a:lnTo>
                    <a:lnTo>
                      <a:pt x="1596" y="12"/>
                    </a:lnTo>
                    <a:lnTo>
                      <a:pt x="1608" y="12"/>
                    </a:lnTo>
                    <a:lnTo>
                      <a:pt x="1620" y="12"/>
                    </a:lnTo>
                    <a:lnTo>
                      <a:pt x="1638" y="12"/>
                    </a:lnTo>
                    <a:lnTo>
                      <a:pt x="1650" y="12"/>
                    </a:lnTo>
                    <a:lnTo>
                      <a:pt x="1668" y="6"/>
                    </a:lnTo>
                    <a:lnTo>
                      <a:pt x="1680" y="6"/>
                    </a:lnTo>
                    <a:lnTo>
                      <a:pt x="1698" y="6"/>
                    </a:lnTo>
                    <a:lnTo>
                      <a:pt x="1704" y="6"/>
                    </a:lnTo>
                    <a:lnTo>
                      <a:pt x="1710" y="6"/>
                    </a:lnTo>
                    <a:lnTo>
                      <a:pt x="1716" y="6"/>
                    </a:lnTo>
                    <a:lnTo>
                      <a:pt x="1722" y="6"/>
                    </a:lnTo>
                    <a:lnTo>
                      <a:pt x="1728" y="6"/>
                    </a:lnTo>
                    <a:lnTo>
                      <a:pt x="1734" y="6"/>
                    </a:lnTo>
                    <a:lnTo>
                      <a:pt x="1740" y="6"/>
                    </a:lnTo>
                    <a:lnTo>
                      <a:pt x="1746" y="6"/>
                    </a:lnTo>
                    <a:lnTo>
                      <a:pt x="1758" y="0"/>
                    </a:lnTo>
                    <a:lnTo>
                      <a:pt x="1764" y="0"/>
                    </a:lnTo>
                    <a:lnTo>
                      <a:pt x="1770" y="0"/>
                    </a:lnTo>
                    <a:lnTo>
                      <a:pt x="1776" y="0"/>
                    </a:lnTo>
                    <a:lnTo>
                      <a:pt x="1782" y="0"/>
                    </a:lnTo>
                    <a:lnTo>
                      <a:pt x="1788" y="0"/>
                    </a:lnTo>
                    <a:lnTo>
                      <a:pt x="1794" y="0"/>
                    </a:lnTo>
                    <a:lnTo>
                      <a:pt x="1806" y="0"/>
                    </a:lnTo>
                    <a:lnTo>
                      <a:pt x="1818" y="0"/>
                    </a:lnTo>
                    <a:lnTo>
                      <a:pt x="1830" y="0"/>
                    </a:lnTo>
                    <a:lnTo>
                      <a:pt x="1836" y="6"/>
                    </a:lnTo>
                    <a:lnTo>
                      <a:pt x="1842" y="6"/>
                    </a:lnTo>
                    <a:lnTo>
                      <a:pt x="1848" y="6"/>
                    </a:lnTo>
                    <a:lnTo>
                      <a:pt x="1854" y="6"/>
                    </a:lnTo>
                    <a:lnTo>
                      <a:pt x="1860" y="6"/>
                    </a:lnTo>
                    <a:lnTo>
                      <a:pt x="1866" y="6"/>
                    </a:lnTo>
                    <a:lnTo>
                      <a:pt x="1872" y="12"/>
                    </a:lnTo>
                    <a:lnTo>
                      <a:pt x="1878" y="12"/>
                    </a:lnTo>
                    <a:lnTo>
                      <a:pt x="1884" y="12"/>
                    </a:lnTo>
                    <a:lnTo>
                      <a:pt x="1890" y="18"/>
                    </a:lnTo>
                    <a:lnTo>
                      <a:pt x="1896" y="24"/>
                    </a:lnTo>
                    <a:lnTo>
                      <a:pt x="1902" y="24"/>
                    </a:lnTo>
                    <a:lnTo>
                      <a:pt x="1908" y="30"/>
                    </a:lnTo>
                    <a:lnTo>
                      <a:pt x="1914" y="36"/>
                    </a:lnTo>
                    <a:lnTo>
                      <a:pt x="19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228600" y="225360"/>
                <a:ext cx="2192040" cy="441720"/>
              </a:xfrm>
              <a:custGeom>
                <a:avLst/>
                <a:gdLst/>
                <a:ahLst/>
                <a:rect l="l" t="t" r="r" b="b"/>
                <a:pathLst>
                  <a:path w="2244" h="342">
                    <a:moveTo>
                      <a:pt x="1920" y="36"/>
                    </a:moveTo>
                    <a:lnTo>
                      <a:pt x="1920" y="42"/>
                    </a:lnTo>
                    <a:lnTo>
                      <a:pt x="1920" y="48"/>
                    </a:lnTo>
                    <a:lnTo>
                      <a:pt x="1926" y="54"/>
                    </a:lnTo>
                    <a:lnTo>
                      <a:pt x="1926" y="60"/>
                    </a:lnTo>
                    <a:lnTo>
                      <a:pt x="1926" y="66"/>
                    </a:lnTo>
                    <a:lnTo>
                      <a:pt x="1926" y="72"/>
                    </a:lnTo>
                    <a:lnTo>
                      <a:pt x="1926" y="78"/>
                    </a:lnTo>
                    <a:lnTo>
                      <a:pt x="1920" y="84"/>
                    </a:lnTo>
                    <a:lnTo>
                      <a:pt x="1920" y="90"/>
                    </a:lnTo>
                    <a:lnTo>
                      <a:pt x="1920" y="96"/>
                    </a:lnTo>
                    <a:lnTo>
                      <a:pt x="1920" y="102"/>
                    </a:lnTo>
                    <a:lnTo>
                      <a:pt x="1920" y="108"/>
                    </a:lnTo>
                    <a:lnTo>
                      <a:pt x="1926" y="108"/>
                    </a:lnTo>
                    <a:lnTo>
                      <a:pt x="1926" y="102"/>
                    </a:lnTo>
                    <a:lnTo>
                      <a:pt x="1932" y="102"/>
                    </a:lnTo>
                    <a:lnTo>
                      <a:pt x="1944" y="102"/>
                    </a:lnTo>
                    <a:lnTo>
                      <a:pt x="1950" y="96"/>
                    </a:lnTo>
                    <a:lnTo>
                      <a:pt x="1956" y="96"/>
                    </a:lnTo>
                    <a:lnTo>
                      <a:pt x="1962" y="96"/>
                    </a:lnTo>
                    <a:lnTo>
                      <a:pt x="1974" y="90"/>
                    </a:lnTo>
                    <a:lnTo>
                      <a:pt x="1980" y="90"/>
                    </a:lnTo>
                    <a:lnTo>
                      <a:pt x="1986" y="90"/>
                    </a:lnTo>
                    <a:lnTo>
                      <a:pt x="1998" y="90"/>
                    </a:lnTo>
                    <a:lnTo>
                      <a:pt x="2004" y="90"/>
                    </a:lnTo>
                    <a:lnTo>
                      <a:pt x="2010" y="90"/>
                    </a:lnTo>
                    <a:lnTo>
                      <a:pt x="2016" y="90"/>
                    </a:lnTo>
                    <a:lnTo>
                      <a:pt x="2028" y="90"/>
                    </a:lnTo>
                    <a:lnTo>
                      <a:pt x="2034" y="90"/>
                    </a:lnTo>
                    <a:lnTo>
                      <a:pt x="2040" y="90"/>
                    </a:lnTo>
                    <a:lnTo>
                      <a:pt x="2052" y="90"/>
                    </a:lnTo>
                    <a:lnTo>
                      <a:pt x="2058" y="90"/>
                    </a:lnTo>
                    <a:lnTo>
                      <a:pt x="2064" y="96"/>
                    </a:lnTo>
                    <a:lnTo>
                      <a:pt x="2076" y="96"/>
                    </a:lnTo>
                    <a:lnTo>
                      <a:pt x="2082" y="96"/>
                    </a:lnTo>
                    <a:lnTo>
                      <a:pt x="2088" y="102"/>
                    </a:lnTo>
                    <a:lnTo>
                      <a:pt x="2094" y="102"/>
                    </a:lnTo>
                    <a:lnTo>
                      <a:pt x="2106" y="108"/>
                    </a:lnTo>
                    <a:lnTo>
                      <a:pt x="2112" y="108"/>
                    </a:lnTo>
                    <a:lnTo>
                      <a:pt x="2118" y="114"/>
                    </a:lnTo>
                    <a:lnTo>
                      <a:pt x="2124" y="114"/>
                    </a:lnTo>
                    <a:lnTo>
                      <a:pt x="2130" y="120"/>
                    </a:lnTo>
                    <a:lnTo>
                      <a:pt x="2136" y="126"/>
                    </a:lnTo>
                    <a:lnTo>
                      <a:pt x="2148" y="126"/>
                    </a:lnTo>
                    <a:lnTo>
                      <a:pt x="2154" y="132"/>
                    </a:lnTo>
                    <a:lnTo>
                      <a:pt x="2160" y="138"/>
                    </a:lnTo>
                    <a:lnTo>
                      <a:pt x="2166" y="138"/>
                    </a:lnTo>
                    <a:lnTo>
                      <a:pt x="2172" y="144"/>
                    </a:lnTo>
                    <a:lnTo>
                      <a:pt x="2172" y="150"/>
                    </a:lnTo>
                    <a:lnTo>
                      <a:pt x="2178" y="150"/>
                    </a:lnTo>
                    <a:lnTo>
                      <a:pt x="2184" y="156"/>
                    </a:lnTo>
                    <a:lnTo>
                      <a:pt x="2196" y="168"/>
                    </a:lnTo>
                    <a:lnTo>
                      <a:pt x="2202" y="174"/>
                    </a:lnTo>
                    <a:lnTo>
                      <a:pt x="2214" y="186"/>
                    </a:lnTo>
                    <a:lnTo>
                      <a:pt x="2226" y="192"/>
                    </a:lnTo>
                    <a:lnTo>
                      <a:pt x="2232" y="198"/>
                    </a:lnTo>
                    <a:lnTo>
                      <a:pt x="2232" y="204"/>
                    </a:lnTo>
                    <a:lnTo>
                      <a:pt x="2238" y="204"/>
                    </a:lnTo>
                    <a:lnTo>
                      <a:pt x="2244" y="210"/>
                    </a:lnTo>
                    <a:lnTo>
                      <a:pt x="2238" y="210"/>
                    </a:lnTo>
                    <a:lnTo>
                      <a:pt x="2232" y="210"/>
                    </a:lnTo>
                    <a:lnTo>
                      <a:pt x="2226" y="210"/>
                    </a:lnTo>
                    <a:lnTo>
                      <a:pt x="2220" y="210"/>
                    </a:lnTo>
                    <a:lnTo>
                      <a:pt x="2214" y="210"/>
                    </a:lnTo>
                    <a:lnTo>
                      <a:pt x="2208" y="210"/>
                    </a:lnTo>
                    <a:lnTo>
                      <a:pt x="2202" y="210"/>
                    </a:lnTo>
                    <a:lnTo>
                      <a:pt x="2196" y="210"/>
                    </a:lnTo>
                    <a:lnTo>
                      <a:pt x="2190" y="210"/>
                    </a:lnTo>
                    <a:lnTo>
                      <a:pt x="2184" y="210"/>
                    </a:lnTo>
                    <a:lnTo>
                      <a:pt x="2172" y="204"/>
                    </a:lnTo>
                    <a:lnTo>
                      <a:pt x="2160" y="204"/>
                    </a:lnTo>
                    <a:lnTo>
                      <a:pt x="2154" y="204"/>
                    </a:lnTo>
                    <a:lnTo>
                      <a:pt x="2148" y="204"/>
                    </a:lnTo>
                    <a:lnTo>
                      <a:pt x="2142" y="204"/>
                    </a:lnTo>
                    <a:lnTo>
                      <a:pt x="2136" y="204"/>
                    </a:lnTo>
                    <a:lnTo>
                      <a:pt x="2130" y="204"/>
                    </a:lnTo>
                    <a:lnTo>
                      <a:pt x="2124" y="204"/>
                    </a:lnTo>
                    <a:lnTo>
                      <a:pt x="2124" y="210"/>
                    </a:lnTo>
                    <a:lnTo>
                      <a:pt x="2118" y="210"/>
                    </a:lnTo>
                    <a:lnTo>
                      <a:pt x="2124" y="210"/>
                    </a:lnTo>
                    <a:lnTo>
                      <a:pt x="2130" y="210"/>
                    </a:lnTo>
                    <a:lnTo>
                      <a:pt x="2130" y="216"/>
                    </a:lnTo>
                    <a:lnTo>
                      <a:pt x="2136" y="216"/>
                    </a:lnTo>
                    <a:lnTo>
                      <a:pt x="2136" y="222"/>
                    </a:lnTo>
                    <a:lnTo>
                      <a:pt x="2142" y="222"/>
                    </a:lnTo>
                    <a:lnTo>
                      <a:pt x="2142" y="228"/>
                    </a:lnTo>
                    <a:lnTo>
                      <a:pt x="2148" y="234"/>
                    </a:lnTo>
                    <a:lnTo>
                      <a:pt x="2148" y="246"/>
                    </a:lnTo>
                    <a:lnTo>
                      <a:pt x="2154" y="252"/>
                    </a:lnTo>
                    <a:lnTo>
                      <a:pt x="2160" y="258"/>
                    </a:lnTo>
                    <a:lnTo>
                      <a:pt x="2160" y="264"/>
                    </a:lnTo>
                    <a:lnTo>
                      <a:pt x="2166" y="264"/>
                    </a:lnTo>
                    <a:lnTo>
                      <a:pt x="2166" y="270"/>
                    </a:lnTo>
                    <a:lnTo>
                      <a:pt x="2172" y="276"/>
                    </a:lnTo>
                    <a:lnTo>
                      <a:pt x="2178" y="282"/>
                    </a:lnTo>
                    <a:lnTo>
                      <a:pt x="2178" y="288"/>
                    </a:lnTo>
                    <a:lnTo>
                      <a:pt x="2184" y="294"/>
                    </a:lnTo>
                    <a:lnTo>
                      <a:pt x="2184" y="300"/>
                    </a:lnTo>
                    <a:lnTo>
                      <a:pt x="2190" y="306"/>
                    </a:lnTo>
                    <a:lnTo>
                      <a:pt x="2190" y="312"/>
                    </a:lnTo>
                    <a:lnTo>
                      <a:pt x="2190" y="318"/>
                    </a:lnTo>
                    <a:lnTo>
                      <a:pt x="2190" y="324"/>
                    </a:lnTo>
                    <a:lnTo>
                      <a:pt x="2196" y="330"/>
                    </a:lnTo>
                    <a:lnTo>
                      <a:pt x="2196" y="336"/>
                    </a:lnTo>
                    <a:lnTo>
                      <a:pt x="2190" y="336"/>
                    </a:lnTo>
                    <a:lnTo>
                      <a:pt x="2190" y="342"/>
                    </a:lnTo>
                    <a:lnTo>
                      <a:pt x="2184" y="342"/>
                    </a:lnTo>
                    <a:lnTo>
                      <a:pt x="2184" y="336"/>
                    </a:lnTo>
                    <a:lnTo>
                      <a:pt x="2178" y="336"/>
                    </a:lnTo>
                    <a:lnTo>
                      <a:pt x="2178" y="330"/>
                    </a:lnTo>
                    <a:lnTo>
                      <a:pt x="2172" y="330"/>
                    </a:lnTo>
                    <a:lnTo>
                      <a:pt x="2166" y="330"/>
                    </a:lnTo>
                    <a:lnTo>
                      <a:pt x="2160" y="330"/>
                    </a:lnTo>
                    <a:lnTo>
                      <a:pt x="2160" y="324"/>
                    </a:lnTo>
                    <a:lnTo>
                      <a:pt x="2154" y="324"/>
                    </a:lnTo>
                    <a:lnTo>
                      <a:pt x="2154" y="318"/>
                    </a:lnTo>
                    <a:lnTo>
                      <a:pt x="2148" y="318"/>
                    </a:lnTo>
                    <a:lnTo>
                      <a:pt x="2148" y="312"/>
                    </a:lnTo>
                    <a:lnTo>
                      <a:pt x="2142" y="312"/>
                    </a:lnTo>
                    <a:lnTo>
                      <a:pt x="2136" y="312"/>
                    </a:lnTo>
                    <a:lnTo>
                      <a:pt x="2130" y="306"/>
                    </a:lnTo>
                    <a:lnTo>
                      <a:pt x="2124" y="306"/>
                    </a:lnTo>
                    <a:lnTo>
                      <a:pt x="2118" y="300"/>
                    </a:lnTo>
                    <a:lnTo>
                      <a:pt x="2106" y="300"/>
                    </a:lnTo>
                    <a:lnTo>
                      <a:pt x="2100" y="300"/>
                    </a:lnTo>
                    <a:lnTo>
                      <a:pt x="2088" y="294"/>
                    </a:lnTo>
                    <a:lnTo>
                      <a:pt x="2082" y="294"/>
                    </a:lnTo>
                    <a:lnTo>
                      <a:pt x="2076" y="294"/>
                    </a:lnTo>
                    <a:lnTo>
                      <a:pt x="2070" y="294"/>
                    </a:lnTo>
                    <a:lnTo>
                      <a:pt x="2064" y="294"/>
                    </a:lnTo>
                    <a:lnTo>
                      <a:pt x="2052" y="288"/>
                    </a:lnTo>
                    <a:lnTo>
                      <a:pt x="2046" y="288"/>
                    </a:lnTo>
                    <a:lnTo>
                      <a:pt x="2040" y="288"/>
                    </a:lnTo>
                    <a:lnTo>
                      <a:pt x="2034" y="288"/>
                    </a:lnTo>
                    <a:lnTo>
                      <a:pt x="2022" y="282"/>
                    </a:lnTo>
                    <a:lnTo>
                      <a:pt x="2016" y="282"/>
                    </a:lnTo>
                    <a:lnTo>
                      <a:pt x="2010" y="282"/>
                    </a:lnTo>
                    <a:lnTo>
                      <a:pt x="2004" y="282"/>
                    </a:lnTo>
                    <a:lnTo>
                      <a:pt x="1992" y="282"/>
                    </a:lnTo>
                    <a:lnTo>
                      <a:pt x="1986" y="282"/>
                    </a:lnTo>
                    <a:lnTo>
                      <a:pt x="1980" y="282"/>
                    </a:lnTo>
                    <a:lnTo>
                      <a:pt x="1968" y="282"/>
                    </a:lnTo>
                    <a:lnTo>
                      <a:pt x="1962" y="282"/>
                    </a:lnTo>
                    <a:lnTo>
                      <a:pt x="1956" y="282"/>
                    </a:lnTo>
                    <a:lnTo>
                      <a:pt x="1944" y="282"/>
                    </a:lnTo>
                    <a:lnTo>
                      <a:pt x="1938" y="282"/>
                    </a:lnTo>
                    <a:lnTo>
                      <a:pt x="1932" y="282"/>
                    </a:lnTo>
                    <a:lnTo>
                      <a:pt x="1926" y="282"/>
                    </a:lnTo>
                    <a:lnTo>
                      <a:pt x="1914" y="288"/>
                    </a:lnTo>
                    <a:lnTo>
                      <a:pt x="1908" y="288"/>
                    </a:lnTo>
                    <a:lnTo>
                      <a:pt x="1902" y="288"/>
                    </a:lnTo>
                    <a:lnTo>
                      <a:pt x="1890" y="288"/>
                    </a:lnTo>
                    <a:lnTo>
                      <a:pt x="1884" y="288"/>
                    </a:lnTo>
                    <a:lnTo>
                      <a:pt x="1878" y="288"/>
                    </a:lnTo>
                    <a:lnTo>
                      <a:pt x="1872" y="288"/>
                    </a:lnTo>
                    <a:lnTo>
                      <a:pt x="1866" y="288"/>
                    </a:lnTo>
                    <a:lnTo>
                      <a:pt x="1866" y="294"/>
                    </a:lnTo>
                    <a:lnTo>
                      <a:pt x="1860" y="294"/>
                    </a:lnTo>
                    <a:lnTo>
                      <a:pt x="1854" y="294"/>
                    </a:lnTo>
                    <a:lnTo>
                      <a:pt x="1848" y="294"/>
                    </a:lnTo>
                    <a:lnTo>
                      <a:pt x="1842" y="300"/>
                    </a:lnTo>
                    <a:lnTo>
                      <a:pt x="1836" y="300"/>
                    </a:lnTo>
                    <a:lnTo>
                      <a:pt x="1830" y="300"/>
                    </a:lnTo>
                    <a:lnTo>
                      <a:pt x="1824" y="306"/>
                    </a:lnTo>
                    <a:lnTo>
                      <a:pt x="1818" y="306"/>
                    </a:lnTo>
                    <a:lnTo>
                      <a:pt x="1812" y="306"/>
                    </a:lnTo>
                    <a:lnTo>
                      <a:pt x="1806" y="306"/>
                    </a:lnTo>
                    <a:lnTo>
                      <a:pt x="1794" y="312"/>
                    </a:lnTo>
                    <a:lnTo>
                      <a:pt x="1776" y="318"/>
                    </a:lnTo>
                    <a:lnTo>
                      <a:pt x="1764" y="318"/>
                    </a:lnTo>
                    <a:lnTo>
                      <a:pt x="1758" y="324"/>
                    </a:lnTo>
                    <a:lnTo>
                      <a:pt x="1752" y="324"/>
                    </a:lnTo>
                    <a:lnTo>
                      <a:pt x="1746" y="324"/>
                    </a:lnTo>
                    <a:lnTo>
                      <a:pt x="1740" y="324"/>
                    </a:lnTo>
                    <a:lnTo>
                      <a:pt x="1734" y="330"/>
                    </a:lnTo>
                    <a:lnTo>
                      <a:pt x="1728" y="330"/>
                    </a:lnTo>
                    <a:lnTo>
                      <a:pt x="1722" y="330"/>
                    </a:lnTo>
                    <a:lnTo>
                      <a:pt x="1716" y="330"/>
                    </a:lnTo>
                    <a:lnTo>
                      <a:pt x="1710" y="330"/>
                    </a:lnTo>
                    <a:lnTo>
                      <a:pt x="1704" y="330"/>
                    </a:lnTo>
                    <a:lnTo>
                      <a:pt x="1698" y="330"/>
                    </a:lnTo>
                    <a:lnTo>
                      <a:pt x="1692" y="330"/>
                    </a:lnTo>
                    <a:lnTo>
                      <a:pt x="1686" y="324"/>
                    </a:lnTo>
                    <a:lnTo>
                      <a:pt x="1680" y="324"/>
                    </a:lnTo>
                    <a:lnTo>
                      <a:pt x="1674" y="324"/>
                    </a:lnTo>
                    <a:lnTo>
                      <a:pt x="1668" y="324"/>
                    </a:lnTo>
                    <a:lnTo>
                      <a:pt x="1662" y="318"/>
                    </a:lnTo>
                    <a:lnTo>
                      <a:pt x="1656" y="318"/>
                    </a:lnTo>
                    <a:lnTo>
                      <a:pt x="1650" y="318"/>
                    </a:lnTo>
                    <a:lnTo>
                      <a:pt x="1644" y="312"/>
                    </a:lnTo>
                    <a:lnTo>
                      <a:pt x="1638" y="312"/>
                    </a:lnTo>
                    <a:lnTo>
                      <a:pt x="1632" y="306"/>
                    </a:lnTo>
                    <a:lnTo>
                      <a:pt x="1626" y="306"/>
                    </a:lnTo>
                    <a:lnTo>
                      <a:pt x="1626" y="300"/>
                    </a:lnTo>
                    <a:lnTo>
                      <a:pt x="1620" y="300"/>
                    </a:lnTo>
                    <a:lnTo>
                      <a:pt x="1620" y="294"/>
                    </a:lnTo>
                    <a:lnTo>
                      <a:pt x="1614" y="294"/>
                    </a:lnTo>
                    <a:lnTo>
                      <a:pt x="1614" y="288"/>
                    </a:lnTo>
                    <a:lnTo>
                      <a:pt x="1614" y="282"/>
                    </a:lnTo>
                    <a:lnTo>
                      <a:pt x="1614" y="276"/>
                    </a:lnTo>
                    <a:lnTo>
                      <a:pt x="1614" y="270"/>
                    </a:lnTo>
                    <a:lnTo>
                      <a:pt x="1614" y="264"/>
                    </a:lnTo>
                    <a:lnTo>
                      <a:pt x="1614" y="258"/>
                    </a:lnTo>
                    <a:lnTo>
                      <a:pt x="1614" y="252"/>
                    </a:lnTo>
                    <a:lnTo>
                      <a:pt x="1608" y="246"/>
                    </a:lnTo>
                    <a:lnTo>
                      <a:pt x="1608" y="240"/>
                    </a:lnTo>
                    <a:lnTo>
                      <a:pt x="1608" y="234"/>
                    </a:lnTo>
                    <a:lnTo>
                      <a:pt x="1608" y="228"/>
                    </a:lnTo>
                    <a:lnTo>
                      <a:pt x="1602" y="228"/>
                    </a:lnTo>
                    <a:lnTo>
                      <a:pt x="1596" y="228"/>
                    </a:lnTo>
                    <a:lnTo>
                      <a:pt x="1590" y="228"/>
                    </a:lnTo>
                    <a:lnTo>
                      <a:pt x="1584" y="228"/>
                    </a:lnTo>
                    <a:lnTo>
                      <a:pt x="1578" y="228"/>
                    </a:lnTo>
                    <a:lnTo>
                      <a:pt x="1566" y="228"/>
                    </a:lnTo>
                    <a:lnTo>
                      <a:pt x="1560" y="228"/>
                    </a:lnTo>
                    <a:lnTo>
                      <a:pt x="1554" y="228"/>
                    </a:lnTo>
                    <a:lnTo>
                      <a:pt x="1548" y="228"/>
                    </a:lnTo>
                    <a:lnTo>
                      <a:pt x="1542" y="228"/>
                    </a:lnTo>
                    <a:lnTo>
                      <a:pt x="1536" y="228"/>
                    </a:lnTo>
                    <a:lnTo>
                      <a:pt x="1530" y="228"/>
                    </a:lnTo>
                    <a:lnTo>
                      <a:pt x="1524" y="228"/>
                    </a:lnTo>
                    <a:lnTo>
                      <a:pt x="1518" y="228"/>
                    </a:lnTo>
                    <a:lnTo>
                      <a:pt x="1512" y="228"/>
                    </a:lnTo>
                    <a:lnTo>
                      <a:pt x="1506" y="228"/>
                    </a:lnTo>
                    <a:lnTo>
                      <a:pt x="1500" y="228"/>
                    </a:lnTo>
                    <a:lnTo>
                      <a:pt x="1494" y="228"/>
                    </a:lnTo>
                    <a:lnTo>
                      <a:pt x="1488" y="228"/>
                    </a:lnTo>
                    <a:lnTo>
                      <a:pt x="1482" y="228"/>
                    </a:lnTo>
                    <a:lnTo>
                      <a:pt x="1476" y="228"/>
                    </a:lnTo>
                    <a:lnTo>
                      <a:pt x="1470" y="228"/>
                    </a:lnTo>
                    <a:lnTo>
                      <a:pt x="1470" y="222"/>
                    </a:lnTo>
                    <a:lnTo>
                      <a:pt x="1464" y="228"/>
                    </a:lnTo>
                    <a:lnTo>
                      <a:pt x="1458" y="228"/>
                    </a:lnTo>
                    <a:lnTo>
                      <a:pt x="1452" y="228"/>
                    </a:lnTo>
                    <a:lnTo>
                      <a:pt x="1446" y="228"/>
                    </a:lnTo>
                    <a:lnTo>
                      <a:pt x="1440" y="228"/>
                    </a:lnTo>
                    <a:lnTo>
                      <a:pt x="1434" y="228"/>
                    </a:lnTo>
                    <a:lnTo>
                      <a:pt x="1428" y="228"/>
                    </a:lnTo>
                    <a:lnTo>
                      <a:pt x="1422" y="228"/>
                    </a:lnTo>
                    <a:lnTo>
                      <a:pt x="1416" y="228"/>
                    </a:lnTo>
                    <a:lnTo>
                      <a:pt x="1410" y="228"/>
                    </a:lnTo>
                    <a:lnTo>
                      <a:pt x="1404" y="228"/>
                    </a:lnTo>
                    <a:lnTo>
                      <a:pt x="1398" y="222"/>
                    </a:lnTo>
                    <a:lnTo>
                      <a:pt x="1392" y="222"/>
                    </a:lnTo>
                    <a:lnTo>
                      <a:pt x="1386" y="222"/>
                    </a:lnTo>
                    <a:lnTo>
                      <a:pt x="1380" y="222"/>
                    </a:lnTo>
                    <a:lnTo>
                      <a:pt x="1374" y="222"/>
                    </a:lnTo>
                    <a:lnTo>
                      <a:pt x="1368" y="222"/>
                    </a:lnTo>
                    <a:lnTo>
                      <a:pt x="1356" y="228"/>
                    </a:lnTo>
                    <a:lnTo>
                      <a:pt x="1344" y="228"/>
                    </a:lnTo>
                    <a:lnTo>
                      <a:pt x="1332" y="228"/>
                    </a:lnTo>
                    <a:lnTo>
                      <a:pt x="1326" y="228"/>
                    </a:lnTo>
                    <a:lnTo>
                      <a:pt x="1314" y="228"/>
                    </a:lnTo>
                    <a:lnTo>
                      <a:pt x="1302" y="228"/>
                    </a:lnTo>
                    <a:lnTo>
                      <a:pt x="1290" y="228"/>
                    </a:lnTo>
                    <a:lnTo>
                      <a:pt x="1284" y="228"/>
                    </a:lnTo>
                    <a:lnTo>
                      <a:pt x="1272" y="228"/>
                    </a:lnTo>
                    <a:lnTo>
                      <a:pt x="1260" y="228"/>
                    </a:lnTo>
                    <a:lnTo>
                      <a:pt x="1248" y="228"/>
                    </a:lnTo>
                    <a:lnTo>
                      <a:pt x="1236" y="228"/>
                    </a:lnTo>
                    <a:lnTo>
                      <a:pt x="1218" y="228"/>
                    </a:lnTo>
                    <a:lnTo>
                      <a:pt x="1194" y="222"/>
                    </a:lnTo>
                    <a:lnTo>
                      <a:pt x="1170" y="222"/>
                    </a:lnTo>
                    <a:lnTo>
                      <a:pt x="1152" y="222"/>
                    </a:lnTo>
                    <a:lnTo>
                      <a:pt x="1128" y="222"/>
                    </a:lnTo>
                    <a:lnTo>
                      <a:pt x="1110" y="222"/>
                    </a:lnTo>
                    <a:lnTo>
                      <a:pt x="1098" y="222"/>
                    </a:lnTo>
                    <a:lnTo>
                      <a:pt x="1086" y="222"/>
                    </a:lnTo>
                    <a:lnTo>
                      <a:pt x="1074" y="222"/>
                    </a:lnTo>
                    <a:lnTo>
                      <a:pt x="1068" y="222"/>
                    </a:lnTo>
                    <a:lnTo>
                      <a:pt x="1056" y="222"/>
                    </a:lnTo>
                    <a:lnTo>
                      <a:pt x="1044" y="222"/>
                    </a:lnTo>
                    <a:lnTo>
                      <a:pt x="1032" y="222"/>
                    </a:lnTo>
                    <a:lnTo>
                      <a:pt x="1026" y="222"/>
                    </a:lnTo>
                    <a:lnTo>
                      <a:pt x="1020" y="222"/>
                    </a:lnTo>
                    <a:lnTo>
                      <a:pt x="990" y="222"/>
                    </a:lnTo>
                    <a:lnTo>
                      <a:pt x="966" y="222"/>
                    </a:lnTo>
                    <a:lnTo>
                      <a:pt x="936" y="222"/>
                    </a:lnTo>
                    <a:lnTo>
                      <a:pt x="912" y="222"/>
                    </a:lnTo>
                    <a:lnTo>
                      <a:pt x="882" y="222"/>
                    </a:lnTo>
                    <a:lnTo>
                      <a:pt x="858" y="222"/>
                    </a:lnTo>
                    <a:lnTo>
                      <a:pt x="828" y="222"/>
                    </a:lnTo>
                    <a:lnTo>
                      <a:pt x="804" y="222"/>
                    </a:lnTo>
                    <a:lnTo>
                      <a:pt x="798" y="222"/>
                    </a:lnTo>
                    <a:lnTo>
                      <a:pt x="792" y="222"/>
                    </a:lnTo>
                    <a:lnTo>
                      <a:pt x="786" y="222"/>
                    </a:lnTo>
                    <a:lnTo>
                      <a:pt x="780" y="222"/>
                    </a:lnTo>
                    <a:lnTo>
                      <a:pt x="774" y="222"/>
                    </a:lnTo>
                    <a:lnTo>
                      <a:pt x="768" y="222"/>
                    </a:lnTo>
                    <a:lnTo>
                      <a:pt x="762" y="222"/>
                    </a:lnTo>
                    <a:lnTo>
                      <a:pt x="750" y="222"/>
                    </a:lnTo>
                    <a:lnTo>
                      <a:pt x="744" y="222"/>
                    </a:lnTo>
                    <a:lnTo>
                      <a:pt x="732" y="222"/>
                    </a:lnTo>
                    <a:lnTo>
                      <a:pt x="720" y="222"/>
                    </a:lnTo>
                    <a:lnTo>
                      <a:pt x="714" y="216"/>
                    </a:lnTo>
                    <a:lnTo>
                      <a:pt x="702" y="216"/>
                    </a:lnTo>
                    <a:lnTo>
                      <a:pt x="690" y="216"/>
                    </a:lnTo>
                    <a:lnTo>
                      <a:pt x="684" y="216"/>
                    </a:lnTo>
                    <a:lnTo>
                      <a:pt x="672" y="216"/>
                    </a:lnTo>
                    <a:lnTo>
                      <a:pt x="666" y="216"/>
                    </a:lnTo>
                    <a:lnTo>
                      <a:pt x="660" y="216"/>
                    </a:lnTo>
                    <a:lnTo>
                      <a:pt x="654" y="216"/>
                    </a:lnTo>
                    <a:lnTo>
                      <a:pt x="648" y="216"/>
                    </a:lnTo>
                    <a:lnTo>
                      <a:pt x="594" y="216"/>
                    </a:lnTo>
                    <a:lnTo>
                      <a:pt x="594" y="222"/>
                    </a:lnTo>
                    <a:lnTo>
                      <a:pt x="594" y="228"/>
                    </a:lnTo>
                    <a:lnTo>
                      <a:pt x="594" y="234"/>
                    </a:lnTo>
                    <a:lnTo>
                      <a:pt x="594" y="240"/>
                    </a:lnTo>
                    <a:lnTo>
                      <a:pt x="594" y="246"/>
                    </a:lnTo>
                    <a:lnTo>
                      <a:pt x="594" y="252"/>
                    </a:lnTo>
                    <a:lnTo>
                      <a:pt x="594" y="258"/>
                    </a:lnTo>
                    <a:lnTo>
                      <a:pt x="594" y="264"/>
                    </a:lnTo>
                    <a:lnTo>
                      <a:pt x="588" y="270"/>
                    </a:lnTo>
                    <a:lnTo>
                      <a:pt x="594" y="270"/>
                    </a:lnTo>
                    <a:lnTo>
                      <a:pt x="594" y="276"/>
                    </a:lnTo>
                    <a:lnTo>
                      <a:pt x="594" y="282"/>
                    </a:lnTo>
                    <a:lnTo>
                      <a:pt x="594" y="288"/>
                    </a:lnTo>
                    <a:lnTo>
                      <a:pt x="588" y="294"/>
                    </a:lnTo>
                    <a:lnTo>
                      <a:pt x="588" y="300"/>
                    </a:lnTo>
                    <a:lnTo>
                      <a:pt x="588" y="306"/>
                    </a:lnTo>
                    <a:lnTo>
                      <a:pt x="582" y="306"/>
                    </a:lnTo>
                    <a:lnTo>
                      <a:pt x="576" y="312"/>
                    </a:lnTo>
                    <a:lnTo>
                      <a:pt x="570" y="318"/>
                    </a:lnTo>
                    <a:lnTo>
                      <a:pt x="564" y="318"/>
                    </a:lnTo>
                    <a:lnTo>
                      <a:pt x="558" y="324"/>
                    </a:lnTo>
                    <a:lnTo>
                      <a:pt x="552" y="324"/>
                    </a:lnTo>
                    <a:lnTo>
                      <a:pt x="546" y="330"/>
                    </a:lnTo>
                    <a:lnTo>
                      <a:pt x="540" y="330"/>
                    </a:lnTo>
                    <a:lnTo>
                      <a:pt x="528" y="330"/>
                    </a:lnTo>
                    <a:lnTo>
                      <a:pt x="522" y="330"/>
                    </a:lnTo>
                    <a:lnTo>
                      <a:pt x="516" y="336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2" y="336"/>
                    </a:lnTo>
                    <a:lnTo>
                      <a:pt x="486" y="336"/>
                    </a:lnTo>
                    <a:lnTo>
                      <a:pt x="480" y="336"/>
                    </a:lnTo>
                    <a:lnTo>
                      <a:pt x="474" y="336"/>
                    </a:lnTo>
                    <a:lnTo>
                      <a:pt x="462" y="336"/>
                    </a:lnTo>
                    <a:lnTo>
                      <a:pt x="456" y="336"/>
                    </a:lnTo>
                    <a:lnTo>
                      <a:pt x="444" y="330"/>
                    </a:lnTo>
                    <a:lnTo>
                      <a:pt x="432" y="330"/>
                    </a:lnTo>
                    <a:lnTo>
                      <a:pt x="420" y="330"/>
                    </a:lnTo>
                    <a:lnTo>
                      <a:pt x="408" y="330"/>
                    </a:lnTo>
                    <a:lnTo>
                      <a:pt x="402" y="324"/>
                    </a:lnTo>
                    <a:lnTo>
                      <a:pt x="396" y="324"/>
                    </a:lnTo>
                    <a:lnTo>
                      <a:pt x="390" y="324"/>
                    </a:lnTo>
                    <a:lnTo>
                      <a:pt x="384" y="324"/>
                    </a:lnTo>
                    <a:lnTo>
                      <a:pt x="378" y="324"/>
                    </a:lnTo>
                    <a:lnTo>
                      <a:pt x="372" y="318"/>
                    </a:lnTo>
                    <a:lnTo>
                      <a:pt x="366" y="318"/>
                    </a:lnTo>
                    <a:lnTo>
                      <a:pt x="360" y="318"/>
                    </a:lnTo>
                    <a:lnTo>
                      <a:pt x="354" y="312"/>
                    </a:lnTo>
                    <a:lnTo>
                      <a:pt x="348" y="312"/>
                    </a:lnTo>
                    <a:lnTo>
                      <a:pt x="342" y="312"/>
                    </a:lnTo>
                    <a:lnTo>
                      <a:pt x="336" y="312"/>
                    </a:lnTo>
                    <a:lnTo>
                      <a:pt x="324" y="306"/>
                    </a:lnTo>
                    <a:lnTo>
                      <a:pt x="312" y="306"/>
                    </a:lnTo>
                    <a:lnTo>
                      <a:pt x="300" y="300"/>
                    </a:lnTo>
                    <a:lnTo>
                      <a:pt x="282" y="300"/>
                    </a:lnTo>
                    <a:lnTo>
                      <a:pt x="258" y="294"/>
                    </a:lnTo>
                    <a:lnTo>
                      <a:pt x="234" y="288"/>
                    </a:lnTo>
                    <a:lnTo>
                      <a:pt x="222" y="288"/>
                    </a:lnTo>
                    <a:lnTo>
                      <a:pt x="210" y="282"/>
                    </a:lnTo>
                    <a:lnTo>
                      <a:pt x="198" y="282"/>
                    </a:lnTo>
                    <a:lnTo>
                      <a:pt x="186" y="282"/>
                    </a:lnTo>
                    <a:lnTo>
                      <a:pt x="180" y="282"/>
                    </a:lnTo>
                    <a:lnTo>
                      <a:pt x="174" y="282"/>
                    </a:lnTo>
                    <a:lnTo>
                      <a:pt x="168" y="282"/>
                    </a:lnTo>
                    <a:lnTo>
                      <a:pt x="162" y="282"/>
                    </a:lnTo>
                    <a:lnTo>
                      <a:pt x="156" y="282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32" y="288"/>
                    </a:lnTo>
                    <a:lnTo>
                      <a:pt x="126" y="288"/>
                    </a:lnTo>
                    <a:lnTo>
                      <a:pt x="120" y="288"/>
                    </a:lnTo>
                    <a:lnTo>
                      <a:pt x="114" y="294"/>
                    </a:lnTo>
                    <a:lnTo>
                      <a:pt x="102" y="294"/>
                    </a:lnTo>
                    <a:lnTo>
                      <a:pt x="96" y="300"/>
                    </a:lnTo>
                    <a:lnTo>
                      <a:pt x="90" y="306"/>
                    </a:lnTo>
                    <a:lnTo>
                      <a:pt x="84" y="306"/>
                    </a:lnTo>
                    <a:lnTo>
                      <a:pt x="78" y="312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54" y="312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60" y="294"/>
                    </a:lnTo>
                    <a:lnTo>
                      <a:pt x="60" y="288"/>
                    </a:lnTo>
                    <a:lnTo>
                      <a:pt x="66" y="282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2" y="258"/>
                    </a:lnTo>
                    <a:lnTo>
                      <a:pt x="78" y="258"/>
                    </a:lnTo>
                    <a:lnTo>
                      <a:pt x="78" y="252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84" y="240"/>
                    </a:lnTo>
                    <a:lnTo>
                      <a:pt x="90" y="234"/>
                    </a:lnTo>
                    <a:lnTo>
                      <a:pt x="96" y="228"/>
                    </a:lnTo>
                    <a:lnTo>
                      <a:pt x="132" y="204"/>
                    </a:lnTo>
                    <a:lnTo>
                      <a:pt x="126" y="198"/>
                    </a:lnTo>
                    <a:lnTo>
                      <a:pt x="120" y="198"/>
                    </a:lnTo>
                    <a:lnTo>
                      <a:pt x="114" y="192"/>
                    </a:lnTo>
                    <a:lnTo>
                      <a:pt x="108" y="192"/>
                    </a:lnTo>
                    <a:lnTo>
                      <a:pt x="102" y="192"/>
                    </a:lnTo>
                    <a:lnTo>
                      <a:pt x="96" y="192"/>
                    </a:lnTo>
                    <a:lnTo>
                      <a:pt x="90" y="192"/>
                    </a:lnTo>
                    <a:lnTo>
                      <a:pt x="84" y="192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10"/>
                    </a:lnTo>
                    <a:lnTo>
                      <a:pt x="18" y="210"/>
                    </a:lnTo>
                    <a:lnTo>
                      <a:pt x="6" y="21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6" y="192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42" y="144"/>
                    </a:lnTo>
                    <a:lnTo>
                      <a:pt x="48" y="138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66" y="126"/>
                    </a:lnTo>
                    <a:lnTo>
                      <a:pt x="78" y="126"/>
                    </a:lnTo>
                    <a:lnTo>
                      <a:pt x="84" y="120"/>
                    </a:lnTo>
                    <a:lnTo>
                      <a:pt x="90" y="114"/>
                    </a:lnTo>
                    <a:lnTo>
                      <a:pt x="96" y="114"/>
                    </a:lnTo>
                    <a:lnTo>
                      <a:pt x="108" y="114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38" y="108"/>
                    </a:lnTo>
                    <a:lnTo>
                      <a:pt x="144" y="108"/>
                    </a:lnTo>
                    <a:lnTo>
                      <a:pt x="156" y="108"/>
                    </a:lnTo>
                    <a:lnTo>
                      <a:pt x="162" y="108"/>
                    </a:lnTo>
                    <a:lnTo>
                      <a:pt x="168" y="108"/>
                    </a:lnTo>
                    <a:lnTo>
                      <a:pt x="180" y="108"/>
                    </a:lnTo>
                    <a:lnTo>
                      <a:pt x="186" y="108"/>
                    </a:lnTo>
                    <a:lnTo>
                      <a:pt x="192" y="108"/>
                    </a:lnTo>
                    <a:lnTo>
                      <a:pt x="210" y="108"/>
                    </a:lnTo>
                    <a:lnTo>
                      <a:pt x="228" y="108"/>
                    </a:lnTo>
                    <a:lnTo>
                      <a:pt x="234" y="108"/>
                    </a:lnTo>
                    <a:lnTo>
                      <a:pt x="246" y="114"/>
                    </a:lnTo>
                    <a:lnTo>
                      <a:pt x="252" y="114"/>
                    </a:lnTo>
                    <a:lnTo>
                      <a:pt x="264" y="114"/>
                    </a:lnTo>
                    <a:lnTo>
                      <a:pt x="270" y="114"/>
                    </a:lnTo>
                    <a:lnTo>
                      <a:pt x="276" y="114"/>
                    </a:lnTo>
                    <a:lnTo>
                      <a:pt x="288" y="114"/>
                    </a:lnTo>
                    <a:lnTo>
                      <a:pt x="294" y="114"/>
                    </a:lnTo>
                    <a:lnTo>
                      <a:pt x="294" y="108"/>
                    </a:lnTo>
                    <a:lnTo>
                      <a:pt x="288" y="108"/>
                    </a:lnTo>
                    <a:lnTo>
                      <a:pt x="288" y="102"/>
                    </a:lnTo>
                    <a:lnTo>
                      <a:pt x="288" y="96"/>
                    </a:lnTo>
                    <a:lnTo>
                      <a:pt x="282" y="90"/>
                    </a:lnTo>
                    <a:lnTo>
                      <a:pt x="282" y="84"/>
                    </a:lnTo>
                    <a:lnTo>
                      <a:pt x="276" y="84"/>
                    </a:lnTo>
                    <a:lnTo>
                      <a:pt x="276" y="78"/>
                    </a:lnTo>
                    <a:lnTo>
                      <a:pt x="276" y="72"/>
                    </a:lnTo>
                    <a:lnTo>
                      <a:pt x="270" y="72"/>
                    </a:lnTo>
                    <a:lnTo>
                      <a:pt x="270" y="66"/>
                    </a:lnTo>
                    <a:lnTo>
                      <a:pt x="264" y="66"/>
                    </a:lnTo>
                    <a:lnTo>
                      <a:pt x="264" y="60"/>
                    </a:lnTo>
                    <a:lnTo>
                      <a:pt x="264" y="54"/>
                    </a:lnTo>
                    <a:lnTo>
                      <a:pt x="264" y="48"/>
                    </a:lnTo>
                    <a:lnTo>
                      <a:pt x="264" y="42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4"/>
                    </a:lnTo>
                    <a:lnTo>
                      <a:pt x="276" y="24"/>
                    </a:lnTo>
                    <a:lnTo>
                      <a:pt x="276" y="18"/>
                    </a:lnTo>
                    <a:lnTo>
                      <a:pt x="282" y="12"/>
                    </a:lnTo>
                    <a:lnTo>
                      <a:pt x="288" y="12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8" y="0"/>
                    </a:lnTo>
                    <a:lnTo>
                      <a:pt x="450" y="0"/>
                    </a:lnTo>
                    <a:lnTo>
                      <a:pt x="462" y="0"/>
                    </a:lnTo>
                    <a:lnTo>
                      <a:pt x="474" y="0"/>
                    </a:lnTo>
                    <a:lnTo>
                      <a:pt x="486" y="0"/>
                    </a:lnTo>
                    <a:lnTo>
                      <a:pt x="498" y="0"/>
                    </a:lnTo>
                    <a:lnTo>
                      <a:pt x="510" y="0"/>
                    </a:lnTo>
                    <a:lnTo>
                      <a:pt x="522" y="0"/>
                    </a:lnTo>
                    <a:lnTo>
                      <a:pt x="546" y="0"/>
                    </a:lnTo>
                    <a:lnTo>
                      <a:pt x="570" y="0"/>
                    </a:lnTo>
                    <a:lnTo>
                      <a:pt x="594" y="0"/>
                    </a:lnTo>
                    <a:lnTo>
                      <a:pt x="618" y="0"/>
                    </a:lnTo>
                    <a:lnTo>
                      <a:pt x="636" y="6"/>
                    </a:lnTo>
                    <a:lnTo>
                      <a:pt x="660" y="6"/>
                    </a:lnTo>
                    <a:lnTo>
                      <a:pt x="684" y="6"/>
                    </a:lnTo>
                    <a:lnTo>
                      <a:pt x="708" y="6"/>
                    </a:lnTo>
                    <a:lnTo>
                      <a:pt x="720" y="6"/>
                    </a:lnTo>
                    <a:lnTo>
                      <a:pt x="732" y="6"/>
                    </a:lnTo>
                    <a:lnTo>
                      <a:pt x="744" y="6"/>
                    </a:lnTo>
                    <a:lnTo>
                      <a:pt x="756" y="6"/>
                    </a:lnTo>
                    <a:lnTo>
                      <a:pt x="768" y="6"/>
                    </a:lnTo>
                    <a:lnTo>
                      <a:pt x="780" y="6"/>
                    </a:lnTo>
                    <a:lnTo>
                      <a:pt x="792" y="6"/>
                    </a:lnTo>
                    <a:lnTo>
                      <a:pt x="804" y="6"/>
                    </a:lnTo>
                    <a:lnTo>
                      <a:pt x="822" y="6"/>
                    </a:lnTo>
                    <a:lnTo>
                      <a:pt x="834" y="6"/>
                    </a:lnTo>
                    <a:lnTo>
                      <a:pt x="846" y="6"/>
                    </a:lnTo>
                    <a:lnTo>
                      <a:pt x="864" y="6"/>
                    </a:lnTo>
                    <a:lnTo>
                      <a:pt x="876" y="6"/>
                    </a:lnTo>
                    <a:lnTo>
                      <a:pt x="888" y="6"/>
                    </a:lnTo>
                    <a:lnTo>
                      <a:pt x="906" y="6"/>
                    </a:lnTo>
                    <a:lnTo>
                      <a:pt x="918" y="6"/>
                    </a:lnTo>
                    <a:lnTo>
                      <a:pt x="942" y="6"/>
                    </a:lnTo>
                    <a:lnTo>
                      <a:pt x="972" y="6"/>
                    </a:lnTo>
                    <a:lnTo>
                      <a:pt x="984" y="6"/>
                    </a:lnTo>
                    <a:lnTo>
                      <a:pt x="1002" y="6"/>
                    </a:lnTo>
                    <a:lnTo>
                      <a:pt x="1014" y="6"/>
                    </a:lnTo>
                    <a:lnTo>
                      <a:pt x="1032" y="6"/>
                    </a:lnTo>
                    <a:lnTo>
                      <a:pt x="1038" y="6"/>
                    </a:lnTo>
                    <a:lnTo>
                      <a:pt x="1044" y="6"/>
                    </a:lnTo>
                    <a:lnTo>
                      <a:pt x="1050" y="12"/>
                    </a:lnTo>
                    <a:lnTo>
                      <a:pt x="1056" y="12"/>
                    </a:lnTo>
                    <a:lnTo>
                      <a:pt x="1062" y="12"/>
                    </a:lnTo>
                    <a:lnTo>
                      <a:pt x="1068" y="12"/>
                    </a:lnTo>
                    <a:lnTo>
                      <a:pt x="1074" y="12"/>
                    </a:lnTo>
                    <a:lnTo>
                      <a:pt x="1080" y="6"/>
                    </a:lnTo>
                    <a:lnTo>
                      <a:pt x="1080" y="12"/>
                    </a:lnTo>
                    <a:lnTo>
                      <a:pt x="1086" y="12"/>
                    </a:lnTo>
                    <a:lnTo>
                      <a:pt x="1092" y="12"/>
                    </a:lnTo>
                    <a:lnTo>
                      <a:pt x="1098" y="12"/>
                    </a:lnTo>
                    <a:lnTo>
                      <a:pt x="1092" y="12"/>
                    </a:lnTo>
                    <a:lnTo>
                      <a:pt x="1104" y="12"/>
                    </a:lnTo>
                    <a:lnTo>
                      <a:pt x="1110" y="12"/>
                    </a:lnTo>
                    <a:lnTo>
                      <a:pt x="1116" y="12"/>
                    </a:lnTo>
                    <a:lnTo>
                      <a:pt x="1128" y="12"/>
                    </a:lnTo>
                    <a:lnTo>
                      <a:pt x="1146" y="12"/>
                    </a:lnTo>
                    <a:lnTo>
                      <a:pt x="1164" y="12"/>
                    </a:lnTo>
                    <a:lnTo>
                      <a:pt x="1182" y="12"/>
                    </a:lnTo>
                    <a:lnTo>
                      <a:pt x="1200" y="12"/>
                    </a:lnTo>
                    <a:lnTo>
                      <a:pt x="1206" y="12"/>
                    </a:lnTo>
                    <a:lnTo>
                      <a:pt x="1218" y="12"/>
                    </a:lnTo>
                    <a:lnTo>
                      <a:pt x="1224" y="12"/>
                    </a:lnTo>
                    <a:lnTo>
                      <a:pt x="1230" y="12"/>
                    </a:lnTo>
                    <a:lnTo>
                      <a:pt x="1290" y="12"/>
                    </a:lnTo>
                    <a:lnTo>
                      <a:pt x="1344" y="12"/>
                    </a:lnTo>
                    <a:lnTo>
                      <a:pt x="1374" y="12"/>
                    </a:lnTo>
                    <a:lnTo>
                      <a:pt x="1404" y="12"/>
                    </a:lnTo>
                    <a:lnTo>
                      <a:pt x="1434" y="12"/>
                    </a:lnTo>
                    <a:lnTo>
                      <a:pt x="1464" y="12"/>
                    </a:lnTo>
                    <a:lnTo>
                      <a:pt x="1488" y="12"/>
                    </a:lnTo>
                    <a:lnTo>
                      <a:pt x="1518" y="6"/>
                    </a:lnTo>
                    <a:lnTo>
                      <a:pt x="1536" y="6"/>
                    </a:lnTo>
                    <a:lnTo>
                      <a:pt x="1548" y="6"/>
                    </a:lnTo>
                    <a:lnTo>
                      <a:pt x="1566" y="6"/>
                    </a:lnTo>
                    <a:lnTo>
                      <a:pt x="1578" y="6"/>
                    </a:lnTo>
                    <a:lnTo>
                      <a:pt x="1590" y="6"/>
                    </a:lnTo>
                    <a:lnTo>
                      <a:pt x="1608" y="6"/>
                    </a:lnTo>
                    <a:lnTo>
                      <a:pt x="1620" y="0"/>
                    </a:lnTo>
                    <a:lnTo>
                      <a:pt x="1638" y="0"/>
                    </a:lnTo>
                    <a:lnTo>
                      <a:pt x="1650" y="0"/>
                    </a:lnTo>
                    <a:lnTo>
                      <a:pt x="1668" y="0"/>
                    </a:lnTo>
                    <a:lnTo>
                      <a:pt x="1680" y="0"/>
                    </a:lnTo>
                    <a:lnTo>
                      <a:pt x="1692" y="0"/>
                    </a:lnTo>
                    <a:lnTo>
                      <a:pt x="1698" y="0"/>
                    </a:lnTo>
                    <a:lnTo>
                      <a:pt x="1704" y="0"/>
                    </a:lnTo>
                    <a:lnTo>
                      <a:pt x="1710" y="0"/>
                    </a:lnTo>
                    <a:lnTo>
                      <a:pt x="1716" y="0"/>
                    </a:lnTo>
                    <a:lnTo>
                      <a:pt x="1722" y="0"/>
                    </a:lnTo>
                    <a:lnTo>
                      <a:pt x="1728" y="0"/>
                    </a:lnTo>
                    <a:lnTo>
                      <a:pt x="1734" y="0"/>
                    </a:lnTo>
                    <a:lnTo>
                      <a:pt x="1740" y="0"/>
                    </a:lnTo>
                    <a:lnTo>
                      <a:pt x="1746" y="0"/>
                    </a:lnTo>
                    <a:lnTo>
                      <a:pt x="1758" y="0"/>
                    </a:lnTo>
                    <a:lnTo>
                      <a:pt x="1764" y="0"/>
                    </a:lnTo>
                    <a:lnTo>
                      <a:pt x="1770" y="0"/>
                    </a:lnTo>
                    <a:lnTo>
                      <a:pt x="1776" y="0"/>
                    </a:lnTo>
                    <a:lnTo>
                      <a:pt x="1782" y="0"/>
                    </a:lnTo>
                    <a:lnTo>
                      <a:pt x="1788" y="0"/>
                    </a:lnTo>
                    <a:lnTo>
                      <a:pt x="1794" y="0"/>
                    </a:lnTo>
                    <a:lnTo>
                      <a:pt x="1806" y="0"/>
                    </a:lnTo>
                    <a:lnTo>
                      <a:pt x="1818" y="0"/>
                    </a:lnTo>
                    <a:lnTo>
                      <a:pt x="1830" y="0"/>
                    </a:lnTo>
                    <a:lnTo>
                      <a:pt x="1836" y="0"/>
                    </a:lnTo>
                    <a:lnTo>
                      <a:pt x="1842" y="0"/>
                    </a:lnTo>
                    <a:lnTo>
                      <a:pt x="1848" y="0"/>
                    </a:lnTo>
                    <a:lnTo>
                      <a:pt x="1854" y="0"/>
                    </a:lnTo>
                    <a:lnTo>
                      <a:pt x="1860" y="0"/>
                    </a:lnTo>
                    <a:lnTo>
                      <a:pt x="1866" y="0"/>
                    </a:lnTo>
                    <a:lnTo>
                      <a:pt x="1872" y="0"/>
                    </a:lnTo>
                    <a:lnTo>
                      <a:pt x="1878" y="6"/>
                    </a:lnTo>
                    <a:lnTo>
                      <a:pt x="1884" y="6"/>
                    </a:lnTo>
                    <a:lnTo>
                      <a:pt x="1890" y="6"/>
                    </a:lnTo>
                    <a:lnTo>
                      <a:pt x="1890" y="12"/>
                    </a:lnTo>
                    <a:lnTo>
                      <a:pt x="1896" y="12"/>
                    </a:lnTo>
                    <a:lnTo>
                      <a:pt x="1902" y="12"/>
                    </a:lnTo>
                    <a:lnTo>
                      <a:pt x="1902" y="18"/>
                    </a:lnTo>
                    <a:lnTo>
                      <a:pt x="1908" y="24"/>
                    </a:lnTo>
                    <a:lnTo>
                      <a:pt x="1914" y="24"/>
                    </a:lnTo>
                    <a:lnTo>
                      <a:pt x="1914" y="30"/>
                    </a:lnTo>
                    <a:lnTo>
                      <a:pt x="192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09760" y="240840"/>
                <a:ext cx="1863720" cy="379440"/>
              </a:xfrm>
              <a:custGeom>
                <a:avLst/>
                <a:gdLst/>
                <a:ahLst/>
                <a:rect l="l" t="t" r="r" b="b"/>
                <a:pathLst>
                  <a:path w="1908" h="294">
                    <a:moveTo>
                      <a:pt x="1614" y="36"/>
                    </a:moveTo>
                    <a:lnTo>
                      <a:pt x="1614" y="42"/>
                    </a:lnTo>
                    <a:lnTo>
                      <a:pt x="1614" y="48"/>
                    </a:lnTo>
                    <a:lnTo>
                      <a:pt x="1614" y="54"/>
                    </a:lnTo>
                    <a:lnTo>
                      <a:pt x="1614" y="60"/>
                    </a:lnTo>
                    <a:lnTo>
                      <a:pt x="1614" y="66"/>
                    </a:lnTo>
                    <a:lnTo>
                      <a:pt x="1614" y="72"/>
                    </a:lnTo>
                    <a:lnTo>
                      <a:pt x="1614" y="78"/>
                    </a:lnTo>
                    <a:lnTo>
                      <a:pt x="1614" y="84"/>
                    </a:lnTo>
                    <a:lnTo>
                      <a:pt x="1614" y="90"/>
                    </a:lnTo>
                    <a:lnTo>
                      <a:pt x="1614" y="96"/>
                    </a:lnTo>
                    <a:lnTo>
                      <a:pt x="1614" y="102"/>
                    </a:lnTo>
                    <a:lnTo>
                      <a:pt x="1614" y="108"/>
                    </a:lnTo>
                    <a:lnTo>
                      <a:pt x="1614" y="114"/>
                    </a:lnTo>
                    <a:lnTo>
                      <a:pt x="1614" y="120"/>
                    </a:lnTo>
                    <a:lnTo>
                      <a:pt x="1620" y="120"/>
                    </a:lnTo>
                    <a:lnTo>
                      <a:pt x="1620" y="126"/>
                    </a:lnTo>
                    <a:lnTo>
                      <a:pt x="1626" y="132"/>
                    </a:lnTo>
                    <a:lnTo>
                      <a:pt x="1626" y="138"/>
                    </a:lnTo>
                    <a:lnTo>
                      <a:pt x="1626" y="144"/>
                    </a:lnTo>
                    <a:lnTo>
                      <a:pt x="1632" y="144"/>
                    </a:lnTo>
                    <a:lnTo>
                      <a:pt x="1632" y="150"/>
                    </a:lnTo>
                    <a:lnTo>
                      <a:pt x="1638" y="150"/>
                    </a:lnTo>
                    <a:lnTo>
                      <a:pt x="1638" y="156"/>
                    </a:lnTo>
                    <a:lnTo>
                      <a:pt x="1644" y="162"/>
                    </a:lnTo>
                    <a:lnTo>
                      <a:pt x="1650" y="168"/>
                    </a:lnTo>
                    <a:lnTo>
                      <a:pt x="1656" y="174"/>
                    </a:lnTo>
                    <a:lnTo>
                      <a:pt x="1656" y="180"/>
                    </a:lnTo>
                    <a:lnTo>
                      <a:pt x="1662" y="180"/>
                    </a:lnTo>
                    <a:lnTo>
                      <a:pt x="1662" y="186"/>
                    </a:lnTo>
                    <a:lnTo>
                      <a:pt x="1668" y="192"/>
                    </a:lnTo>
                    <a:lnTo>
                      <a:pt x="1668" y="198"/>
                    </a:lnTo>
                    <a:lnTo>
                      <a:pt x="1668" y="204"/>
                    </a:lnTo>
                    <a:lnTo>
                      <a:pt x="1668" y="210"/>
                    </a:lnTo>
                    <a:lnTo>
                      <a:pt x="1662" y="210"/>
                    </a:lnTo>
                    <a:lnTo>
                      <a:pt x="1662" y="216"/>
                    </a:lnTo>
                    <a:lnTo>
                      <a:pt x="1656" y="222"/>
                    </a:lnTo>
                    <a:lnTo>
                      <a:pt x="1650" y="222"/>
                    </a:lnTo>
                    <a:lnTo>
                      <a:pt x="1644" y="222"/>
                    </a:lnTo>
                    <a:lnTo>
                      <a:pt x="1632" y="222"/>
                    </a:lnTo>
                    <a:lnTo>
                      <a:pt x="1626" y="216"/>
                    </a:lnTo>
                    <a:lnTo>
                      <a:pt x="1620" y="216"/>
                    </a:lnTo>
                    <a:lnTo>
                      <a:pt x="1614" y="216"/>
                    </a:lnTo>
                    <a:lnTo>
                      <a:pt x="1596" y="216"/>
                    </a:lnTo>
                    <a:lnTo>
                      <a:pt x="1578" y="216"/>
                    </a:lnTo>
                    <a:lnTo>
                      <a:pt x="1566" y="216"/>
                    </a:lnTo>
                    <a:lnTo>
                      <a:pt x="1554" y="216"/>
                    </a:lnTo>
                    <a:lnTo>
                      <a:pt x="1542" y="216"/>
                    </a:lnTo>
                    <a:lnTo>
                      <a:pt x="1530" y="216"/>
                    </a:lnTo>
                    <a:lnTo>
                      <a:pt x="1524" y="216"/>
                    </a:lnTo>
                    <a:lnTo>
                      <a:pt x="1518" y="216"/>
                    </a:lnTo>
                    <a:lnTo>
                      <a:pt x="1512" y="216"/>
                    </a:lnTo>
                    <a:lnTo>
                      <a:pt x="1506" y="216"/>
                    </a:lnTo>
                    <a:lnTo>
                      <a:pt x="1500" y="216"/>
                    </a:lnTo>
                    <a:lnTo>
                      <a:pt x="1494" y="222"/>
                    </a:lnTo>
                    <a:lnTo>
                      <a:pt x="1488" y="222"/>
                    </a:lnTo>
                    <a:lnTo>
                      <a:pt x="1482" y="222"/>
                    </a:lnTo>
                    <a:lnTo>
                      <a:pt x="1476" y="222"/>
                    </a:lnTo>
                    <a:lnTo>
                      <a:pt x="1470" y="222"/>
                    </a:lnTo>
                    <a:lnTo>
                      <a:pt x="1464" y="228"/>
                    </a:lnTo>
                    <a:lnTo>
                      <a:pt x="1458" y="228"/>
                    </a:lnTo>
                    <a:lnTo>
                      <a:pt x="1452" y="228"/>
                    </a:lnTo>
                    <a:lnTo>
                      <a:pt x="1446" y="234"/>
                    </a:lnTo>
                    <a:lnTo>
                      <a:pt x="1440" y="234"/>
                    </a:lnTo>
                    <a:lnTo>
                      <a:pt x="1434" y="234"/>
                    </a:lnTo>
                    <a:lnTo>
                      <a:pt x="1428" y="240"/>
                    </a:lnTo>
                    <a:lnTo>
                      <a:pt x="1422" y="240"/>
                    </a:lnTo>
                    <a:lnTo>
                      <a:pt x="1422" y="246"/>
                    </a:lnTo>
                    <a:lnTo>
                      <a:pt x="1416" y="246"/>
                    </a:lnTo>
                    <a:lnTo>
                      <a:pt x="1410" y="252"/>
                    </a:lnTo>
                    <a:lnTo>
                      <a:pt x="1410" y="258"/>
                    </a:lnTo>
                    <a:lnTo>
                      <a:pt x="1404" y="258"/>
                    </a:lnTo>
                    <a:lnTo>
                      <a:pt x="1404" y="264"/>
                    </a:lnTo>
                    <a:lnTo>
                      <a:pt x="1398" y="264"/>
                    </a:lnTo>
                    <a:lnTo>
                      <a:pt x="1398" y="270"/>
                    </a:lnTo>
                    <a:lnTo>
                      <a:pt x="1404" y="270"/>
                    </a:lnTo>
                    <a:lnTo>
                      <a:pt x="1404" y="276"/>
                    </a:lnTo>
                    <a:lnTo>
                      <a:pt x="1416" y="276"/>
                    </a:lnTo>
                    <a:lnTo>
                      <a:pt x="1422" y="276"/>
                    </a:lnTo>
                    <a:lnTo>
                      <a:pt x="1428" y="276"/>
                    </a:lnTo>
                    <a:lnTo>
                      <a:pt x="1434" y="276"/>
                    </a:lnTo>
                    <a:lnTo>
                      <a:pt x="1440" y="276"/>
                    </a:lnTo>
                    <a:lnTo>
                      <a:pt x="1446" y="276"/>
                    </a:lnTo>
                    <a:lnTo>
                      <a:pt x="1452" y="270"/>
                    </a:lnTo>
                    <a:lnTo>
                      <a:pt x="1458" y="270"/>
                    </a:lnTo>
                    <a:lnTo>
                      <a:pt x="1464" y="270"/>
                    </a:lnTo>
                    <a:lnTo>
                      <a:pt x="1470" y="270"/>
                    </a:lnTo>
                    <a:lnTo>
                      <a:pt x="1476" y="270"/>
                    </a:lnTo>
                    <a:lnTo>
                      <a:pt x="1482" y="270"/>
                    </a:lnTo>
                    <a:lnTo>
                      <a:pt x="1482" y="264"/>
                    </a:lnTo>
                    <a:lnTo>
                      <a:pt x="1476" y="264"/>
                    </a:lnTo>
                    <a:lnTo>
                      <a:pt x="1464" y="264"/>
                    </a:lnTo>
                    <a:lnTo>
                      <a:pt x="1458" y="264"/>
                    </a:lnTo>
                    <a:lnTo>
                      <a:pt x="1452" y="264"/>
                    </a:lnTo>
                    <a:lnTo>
                      <a:pt x="1446" y="264"/>
                    </a:lnTo>
                    <a:lnTo>
                      <a:pt x="1440" y="264"/>
                    </a:lnTo>
                    <a:lnTo>
                      <a:pt x="1440" y="258"/>
                    </a:lnTo>
                    <a:lnTo>
                      <a:pt x="1446" y="258"/>
                    </a:lnTo>
                    <a:lnTo>
                      <a:pt x="1452" y="258"/>
                    </a:lnTo>
                    <a:lnTo>
                      <a:pt x="1458" y="252"/>
                    </a:lnTo>
                    <a:lnTo>
                      <a:pt x="1464" y="252"/>
                    </a:lnTo>
                    <a:lnTo>
                      <a:pt x="1464" y="246"/>
                    </a:lnTo>
                    <a:lnTo>
                      <a:pt x="1470" y="246"/>
                    </a:lnTo>
                    <a:lnTo>
                      <a:pt x="1476" y="240"/>
                    </a:lnTo>
                    <a:lnTo>
                      <a:pt x="1482" y="240"/>
                    </a:lnTo>
                    <a:lnTo>
                      <a:pt x="1488" y="240"/>
                    </a:lnTo>
                    <a:lnTo>
                      <a:pt x="1488" y="234"/>
                    </a:lnTo>
                    <a:lnTo>
                      <a:pt x="1494" y="234"/>
                    </a:lnTo>
                    <a:lnTo>
                      <a:pt x="1500" y="234"/>
                    </a:lnTo>
                    <a:lnTo>
                      <a:pt x="1506" y="234"/>
                    </a:lnTo>
                    <a:lnTo>
                      <a:pt x="1518" y="234"/>
                    </a:lnTo>
                    <a:lnTo>
                      <a:pt x="1536" y="234"/>
                    </a:lnTo>
                    <a:lnTo>
                      <a:pt x="1542" y="234"/>
                    </a:lnTo>
                    <a:lnTo>
                      <a:pt x="1548" y="234"/>
                    </a:lnTo>
                    <a:lnTo>
                      <a:pt x="1554" y="234"/>
                    </a:lnTo>
                    <a:lnTo>
                      <a:pt x="1560" y="228"/>
                    </a:lnTo>
                    <a:lnTo>
                      <a:pt x="1560" y="234"/>
                    </a:lnTo>
                    <a:lnTo>
                      <a:pt x="1566" y="234"/>
                    </a:lnTo>
                    <a:lnTo>
                      <a:pt x="1572" y="234"/>
                    </a:lnTo>
                    <a:lnTo>
                      <a:pt x="1578" y="234"/>
                    </a:lnTo>
                    <a:lnTo>
                      <a:pt x="1584" y="234"/>
                    </a:lnTo>
                    <a:lnTo>
                      <a:pt x="1590" y="234"/>
                    </a:lnTo>
                    <a:lnTo>
                      <a:pt x="1596" y="234"/>
                    </a:lnTo>
                    <a:lnTo>
                      <a:pt x="1602" y="234"/>
                    </a:lnTo>
                    <a:lnTo>
                      <a:pt x="1608" y="234"/>
                    </a:lnTo>
                    <a:lnTo>
                      <a:pt x="1614" y="234"/>
                    </a:lnTo>
                    <a:lnTo>
                      <a:pt x="1614" y="240"/>
                    </a:lnTo>
                    <a:lnTo>
                      <a:pt x="1620" y="240"/>
                    </a:lnTo>
                    <a:lnTo>
                      <a:pt x="1620" y="234"/>
                    </a:lnTo>
                    <a:lnTo>
                      <a:pt x="1626" y="234"/>
                    </a:lnTo>
                    <a:lnTo>
                      <a:pt x="1626" y="240"/>
                    </a:lnTo>
                    <a:lnTo>
                      <a:pt x="1632" y="240"/>
                    </a:lnTo>
                    <a:lnTo>
                      <a:pt x="1638" y="240"/>
                    </a:lnTo>
                    <a:lnTo>
                      <a:pt x="1644" y="240"/>
                    </a:lnTo>
                    <a:lnTo>
                      <a:pt x="1650" y="240"/>
                    </a:lnTo>
                    <a:lnTo>
                      <a:pt x="1656" y="240"/>
                    </a:lnTo>
                    <a:lnTo>
                      <a:pt x="1656" y="234"/>
                    </a:lnTo>
                    <a:lnTo>
                      <a:pt x="1662" y="234"/>
                    </a:lnTo>
                    <a:lnTo>
                      <a:pt x="1668" y="228"/>
                    </a:lnTo>
                    <a:lnTo>
                      <a:pt x="1674" y="228"/>
                    </a:lnTo>
                    <a:lnTo>
                      <a:pt x="1680" y="222"/>
                    </a:lnTo>
                    <a:lnTo>
                      <a:pt x="1686" y="222"/>
                    </a:lnTo>
                    <a:lnTo>
                      <a:pt x="1692" y="222"/>
                    </a:lnTo>
                    <a:lnTo>
                      <a:pt x="1698" y="216"/>
                    </a:lnTo>
                    <a:lnTo>
                      <a:pt x="1704" y="216"/>
                    </a:lnTo>
                    <a:lnTo>
                      <a:pt x="1710" y="216"/>
                    </a:lnTo>
                    <a:lnTo>
                      <a:pt x="1716" y="216"/>
                    </a:lnTo>
                    <a:lnTo>
                      <a:pt x="1722" y="210"/>
                    </a:lnTo>
                    <a:lnTo>
                      <a:pt x="1716" y="204"/>
                    </a:lnTo>
                    <a:lnTo>
                      <a:pt x="1710" y="204"/>
                    </a:lnTo>
                    <a:lnTo>
                      <a:pt x="1704" y="204"/>
                    </a:lnTo>
                    <a:lnTo>
                      <a:pt x="1698" y="210"/>
                    </a:lnTo>
                    <a:lnTo>
                      <a:pt x="1692" y="210"/>
                    </a:lnTo>
                    <a:lnTo>
                      <a:pt x="1698" y="204"/>
                    </a:lnTo>
                    <a:lnTo>
                      <a:pt x="1704" y="204"/>
                    </a:lnTo>
                    <a:lnTo>
                      <a:pt x="1710" y="198"/>
                    </a:lnTo>
                    <a:lnTo>
                      <a:pt x="1716" y="198"/>
                    </a:lnTo>
                    <a:lnTo>
                      <a:pt x="1716" y="192"/>
                    </a:lnTo>
                    <a:lnTo>
                      <a:pt x="1710" y="192"/>
                    </a:lnTo>
                    <a:lnTo>
                      <a:pt x="1704" y="192"/>
                    </a:lnTo>
                    <a:lnTo>
                      <a:pt x="1698" y="192"/>
                    </a:lnTo>
                    <a:lnTo>
                      <a:pt x="1692" y="192"/>
                    </a:lnTo>
                    <a:lnTo>
                      <a:pt x="1692" y="198"/>
                    </a:lnTo>
                    <a:lnTo>
                      <a:pt x="1692" y="192"/>
                    </a:lnTo>
                    <a:lnTo>
                      <a:pt x="1692" y="186"/>
                    </a:lnTo>
                    <a:lnTo>
                      <a:pt x="1698" y="186"/>
                    </a:lnTo>
                    <a:lnTo>
                      <a:pt x="1704" y="186"/>
                    </a:lnTo>
                    <a:lnTo>
                      <a:pt x="1704" y="180"/>
                    </a:lnTo>
                    <a:lnTo>
                      <a:pt x="1710" y="180"/>
                    </a:lnTo>
                    <a:lnTo>
                      <a:pt x="1716" y="180"/>
                    </a:lnTo>
                    <a:lnTo>
                      <a:pt x="1716" y="174"/>
                    </a:lnTo>
                    <a:lnTo>
                      <a:pt x="1722" y="174"/>
                    </a:lnTo>
                    <a:lnTo>
                      <a:pt x="1722" y="168"/>
                    </a:lnTo>
                    <a:lnTo>
                      <a:pt x="1722" y="162"/>
                    </a:lnTo>
                    <a:lnTo>
                      <a:pt x="1716" y="162"/>
                    </a:lnTo>
                    <a:lnTo>
                      <a:pt x="1710" y="162"/>
                    </a:lnTo>
                    <a:lnTo>
                      <a:pt x="1704" y="168"/>
                    </a:lnTo>
                    <a:lnTo>
                      <a:pt x="1698" y="168"/>
                    </a:lnTo>
                    <a:lnTo>
                      <a:pt x="1692" y="174"/>
                    </a:lnTo>
                    <a:lnTo>
                      <a:pt x="1686" y="174"/>
                    </a:lnTo>
                    <a:lnTo>
                      <a:pt x="1680" y="174"/>
                    </a:lnTo>
                    <a:lnTo>
                      <a:pt x="1674" y="174"/>
                    </a:lnTo>
                    <a:lnTo>
                      <a:pt x="1674" y="168"/>
                    </a:lnTo>
                    <a:lnTo>
                      <a:pt x="1674" y="162"/>
                    </a:lnTo>
                    <a:lnTo>
                      <a:pt x="1668" y="162"/>
                    </a:lnTo>
                    <a:lnTo>
                      <a:pt x="1680" y="156"/>
                    </a:lnTo>
                    <a:lnTo>
                      <a:pt x="1686" y="156"/>
                    </a:lnTo>
                    <a:lnTo>
                      <a:pt x="1692" y="156"/>
                    </a:lnTo>
                    <a:lnTo>
                      <a:pt x="1704" y="150"/>
                    </a:lnTo>
                    <a:lnTo>
                      <a:pt x="1710" y="150"/>
                    </a:lnTo>
                    <a:lnTo>
                      <a:pt x="1716" y="150"/>
                    </a:lnTo>
                    <a:lnTo>
                      <a:pt x="1722" y="144"/>
                    </a:lnTo>
                    <a:lnTo>
                      <a:pt x="1728" y="144"/>
                    </a:lnTo>
                    <a:lnTo>
                      <a:pt x="1734" y="144"/>
                    </a:lnTo>
                    <a:lnTo>
                      <a:pt x="1728" y="144"/>
                    </a:lnTo>
                    <a:lnTo>
                      <a:pt x="1722" y="138"/>
                    </a:lnTo>
                    <a:lnTo>
                      <a:pt x="1716" y="138"/>
                    </a:lnTo>
                    <a:lnTo>
                      <a:pt x="1710" y="138"/>
                    </a:lnTo>
                    <a:lnTo>
                      <a:pt x="1704" y="138"/>
                    </a:lnTo>
                    <a:lnTo>
                      <a:pt x="1698" y="144"/>
                    </a:lnTo>
                    <a:lnTo>
                      <a:pt x="1692" y="144"/>
                    </a:lnTo>
                    <a:lnTo>
                      <a:pt x="1686" y="144"/>
                    </a:lnTo>
                    <a:lnTo>
                      <a:pt x="1680" y="144"/>
                    </a:lnTo>
                    <a:lnTo>
                      <a:pt x="1674" y="144"/>
                    </a:lnTo>
                    <a:lnTo>
                      <a:pt x="1668" y="144"/>
                    </a:lnTo>
                    <a:lnTo>
                      <a:pt x="1662" y="144"/>
                    </a:lnTo>
                    <a:lnTo>
                      <a:pt x="1656" y="138"/>
                    </a:lnTo>
                    <a:lnTo>
                      <a:pt x="1662" y="138"/>
                    </a:lnTo>
                    <a:lnTo>
                      <a:pt x="1662" y="132"/>
                    </a:lnTo>
                    <a:lnTo>
                      <a:pt x="1668" y="132"/>
                    </a:lnTo>
                    <a:lnTo>
                      <a:pt x="1674" y="126"/>
                    </a:lnTo>
                    <a:lnTo>
                      <a:pt x="1680" y="126"/>
                    </a:lnTo>
                    <a:lnTo>
                      <a:pt x="1686" y="126"/>
                    </a:lnTo>
                    <a:lnTo>
                      <a:pt x="1692" y="126"/>
                    </a:lnTo>
                    <a:lnTo>
                      <a:pt x="1698" y="126"/>
                    </a:lnTo>
                    <a:lnTo>
                      <a:pt x="1704" y="126"/>
                    </a:lnTo>
                    <a:lnTo>
                      <a:pt x="1704" y="120"/>
                    </a:lnTo>
                    <a:lnTo>
                      <a:pt x="1710" y="120"/>
                    </a:lnTo>
                    <a:lnTo>
                      <a:pt x="1704" y="120"/>
                    </a:lnTo>
                    <a:lnTo>
                      <a:pt x="1698" y="120"/>
                    </a:lnTo>
                    <a:lnTo>
                      <a:pt x="1692" y="120"/>
                    </a:lnTo>
                    <a:lnTo>
                      <a:pt x="1686" y="120"/>
                    </a:lnTo>
                    <a:lnTo>
                      <a:pt x="1680" y="120"/>
                    </a:lnTo>
                    <a:lnTo>
                      <a:pt x="1674" y="120"/>
                    </a:lnTo>
                    <a:lnTo>
                      <a:pt x="1668" y="120"/>
                    </a:lnTo>
                    <a:lnTo>
                      <a:pt x="1662" y="126"/>
                    </a:lnTo>
                    <a:lnTo>
                      <a:pt x="1656" y="126"/>
                    </a:lnTo>
                    <a:lnTo>
                      <a:pt x="1650" y="126"/>
                    </a:lnTo>
                    <a:lnTo>
                      <a:pt x="1644" y="126"/>
                    </a:lnTo>
                    <a:lnTo>
                      <a:pt x="1644" y="120"/>
                    </a:lnTo>
                    <a:lnTo>
                      <a:pt x="1638" y="120"/>
                    </a:lnTo>
                    <a:lnTo>
                      <a:pt x="1638" y="114"/>
                    </a:lnTo>
                    <a:lnTo>
                      <a:pt x="1644" y="114"/>
                    </a:lnTo>
                    <a:lnTo>
                      <a:pt x="1650" y="108"/>
                    </a:lnTo>
                    <a:lnTo>
                      <a:pt x="1656" y="108"/>
                    </a:lnTo>
                    <a:lnTo>
                      <a:pt x="1662" y="102"/>
                    </a:lnTo>
                    <a:lnTo>
                      <a:pt x="1674" y="102"/>
                    </a:lnTo>
                    <a:lnTo>
                      <a:pt x="1686" y="96"/>
                    </a:lnTo>
                    <a:lnTo>
                      <a:pt x="1698" y="96"/>
                    </a:lnTo>
                    <a:lnTo>
                      <a:pt x="1704" y="96"/>
                    </a:lnTo>
                    <a:lnTo>
                      <a:pt x="1710" y="96"/>
                    </a:lnTo>
                    <a:lnTo>
                      <a:pt x="1716" y="96"/>
                    </a:lnTo>
                    <a:lnTo>
                      <a:pt x="1722" y="96"/>
                    </a:lnTo>
                    <a:lnTo>
                      <a:pt x="1728" y="96"/>
                    </a:lnTo>
                    <a:lnTo>
                      <a:pt x="1734" y="96"/>
                    </a:lnTo>
                    <a:lnTo>
                      <a:pt x="1740" y="96"/>
                    </a:lnTo>
                    <a:lnTo>
                      <a:pt x="1746" y="96"/>
                    </a:lnTo>
                    <a:lnTo>
                      <a:pt x="1752" y="96"/>
                    </a:lnTo>
                    <a:lnTo>
                      <a:pt x="1752" y="102"/>
                    </a:lnTo>
                    <a:lnTo>
                      <a:pt x="1758" y="102"/>
                    </a:lnTo>
                    <a:lnTo>
                      <a:pt x="1764" y="102"/>
                    </a:lnTo>
                    <a:lnTo>
                      <a:pt x="1770" y="102"/>
                    </a:lnTo>
                    <a:lnTo>
                      <a:pt x="1770" y="108"/>
                    </a:lnTo>
                    <a:lnTo>
                      <a:pt x="1776" y="108"/>
                    </a:lnTo>
                    <a:lnTo>
                      <a:pt x="1782" y="108"/>
                    </a:lnTo>
                    <a:lnTo>
                      <a:pt x="1788" y="108"/>
                    </a:lnTo>
                    <a:lnTo>
                      <a:pt x="1794" y="114"/>
                    </a:lnTo>
                    <a:lnTo>
                      <a:pt x="1800" y="114"/>
                    </a:lnTo>
                    <a:lnTo>
                      <a:pt x="1806" y="114"/>
                    </a:lnTo>
                    <a:lnTo>
                      <a:pt x="1812" y="120"/>
                    </a:lnTo>
                    <a:lnTo>
                      <a:pt x="1818" y="120"/>
                    </a:lnTo>
                    <a:lnTo>
                      <a:pt x="1824" y="126"/>
                    </a:lnTo>
                    <a:lnTo>
                      <a:pt x="1830" y="126"/>
                    </a:lnTo>
                    <a:lnTo>
                      <a:pt x="1836" y="126"/>
                    </a:lnTo>
                    <a:lnTo>
                      <a:pt x="1842" y="132"/>
                    </a:lnTo>
                    <a:lnTo>
                      <a:pt x="1848" y="132"/>
                    </a:lnTo>
                    <a:lnTo>
                      <a:pt x="1854" y="138"/>
                    </a:lnTo>
                    <a:lnTo>
                      <a:pt x="1860" y="138"/>
                    </a:lnTo>
                    <a:lnTo>
                      <a:pt x="1866" y="144"/>
                    </a:lnTo>
                    <a:lnTo>
                      <a:pt x="1872" y="144"/>
                    </a:lnTo>
                    <a:lnTo>
                      <a:pt x="1878" y="150"/>
                    </a:lnTo>
                    <a:lnTo>
                      <a:pt x="1884" y="156"/>
                    </a:lnTo>
                    <a:lnTo>
                      <a:pt x="1890" y="162"/>
                    </a:lnTo>
                    <a:lnTo>
                      <a:pt x="1896" y="162"/>
                    </a:lnTo>
                    <a:lnTo>
                      <a:pt x="1896" y="168"/>
                    </a:lnTo>
                    <a:lnTo>
                      <a:pt x="1902" y="168"/>
                    </a:lnTo>
                    <a:lnTo>
                      <a:pt x="1902" y="174"/>
                    </a:lnTo>
                    <a:lnTo>
                      <a:pt x="1908" y="174"/>
                    </a:lnTo>
                    <a:lnTo>
                      <a:pt x="1908" y="180"/>
                    </a:lnTo>
                    <a:lnTo>
                      <a:pt x="1902" y="174"/>
                    </a:lnTo>
                    <a:lnTo>
                      <a:pt x="1896" y="174"/>
                    </a:lnTo>
                    <a:lnTo>
                      <a:pt x="1890" y="174"/>
                    </a:lnTo>
                    <a:lnTo>
                      <a:pt x="1884" y="174"/>
                    </a:lnTo>
                    <a:lnTo>
                      <a:pt x="1878" y="168"/>
                    </a:lnTo>
                    <a:lnTo>
                      <a:pt x="1872" y="168"/>
                    </a:lnTo>
                    <a:lnTo>
                      <a:pt x="1866" y="168"/>
                    </a:lnTo>
                    <a:lnTo>
                      <a:pt x="1860" y="168"/>
                    </a:lnTo>
                    <a:lnTo>
                      <a:pt x="1854" y="168"/>
                    </a:lnTo>
                    <a:lnTo>
                      <a:pt x="1848" y="168"/>
                    </a:lnTo>
                    <a:lnTo>
                      <a:pt x="1842" y="168"/>
                    </a:lnTo>
                    <a:lnTo>
                      <a:pt x="1842" y="174"/>
                    </a:lnTo>
                    <a:lnTo>
                      <a:pt x="1836" y="174"/>
                    </a:lnTo>
                    <a:lnTo>
                      <a:pt x="1830" y="174"/>
                    </a:lnTo>
                    <a:lnTo>
                      <a:pt x="1824" y="174"/>
                    </a:lnTo>
                    <a:lnTo>
                      <a:pt x="1824" y="180"/>
                    </a:lnTo>
                    <a:lnTo>
                      <a:pt x="1818" y="174"/>
                    </a:lnTo>
                    <a:lnTo>
                      <a:pt x="1812" y="174"/>
                    </a:lnTo>
                    <a:lnTo>
                      <a:pt x="1812" y="180"/>
                    </a:lnTo>
                    <a:lnTo>
                      <a:pt x="1806" y="180"/>
                    </a:lnTo>
                    <a:lnTo>
                      <a:pt x="1806" y="186"/>
                    </a:lnTo>
                    <a:lnTo>
                      <a:pt x="1800" y="186"/>
                    </a:lnTo>
                    <a:lnTo>
                      <a:pt x="1800" y="192"/>
                    </a:lnTo>
                    <a:lnTo>
                      <a:pt x="1806" y="192"/>
                    </a:lnTo>
                    <a:lnTo>
                      <a:pt x="1806" y="198"/>
                    </a:lnTo>
                    <a:lnTo>
                      <a:pt x="1812" y="198"/>
                    </a:lnTo>
                    <a:lnTo>
                      <a:pt x="1818" y="204"/>
                    </a:lnTo>
                    <a:lnTo>
                      <a:pt x="1824" y="210"/>
                    </a:lnTo>
                    <a:lnTo>
                      <a:pt x="1830" y="216"/>
                    </a:lnTo>
                    <a:lnTo>
                      <a:pt x="1830" y="222"/>
                    </a:lnTo>
                    <a:lnTo>
                      <a:pt x="1836" y="222"/>
                    </a:lnTo>
                    <a:lnTo>
                      <a:pt x="1836" y="228"/>
                    </a:lnTo>
                    <a:lnTo>
                      <a:pt x="1842" y="234"/>
                    </a:lnTo>
                    <a:lnTo>
                      <a:pt x="1842" y="240"/>
                    </a:lnTo>
                    <a:lnTo>
                      <a:pt x="1848" y="240"/>
                    </a:lnTo>
                    <a:lnTo>
                      <a:pt x="1848" y="246"/>
                    </a:lnTo>
                    <a:lnTo>
                      <a:pt x="1854" y="252"/>
                    </a:lnTo>
                    <a:lnTo>
                      <a:pt x="1854" y="258"/>
                    </a:lnTo>
                    <a:lnTo>
                      <a:pt x="1854" y="264"/>
                    </a:lnTo>
                    <a:lnTo>
                      <a:pt x="1860" y="270"/>
                    </a:lnTo>
                    <a:lnTo>
                      <a:pt x="1866" y="276"/>
                    </a:lnTo>
                    <a:lnTo>
                      <a:pt x="1872" y="288"/>
                    </a:lnTo>
                    <a:lnTo>
                      <a:pt x="1866" y="288"/>
                    </a:lnTo>
                    <a:lnTo>
                      <a:pt x="1860" y="288"/>
                    </a:lnTo>
                    <a:lnTo>
                      <a:pt x="1860" y="282"/>
                    </a:lnTo>
                    <a:lnTo>
                      <a:pt x="1848" y="282"/>
                    </a:lnTo>
                    <a:lnTo>
                      <a:pt x="1842" y="276"/>
                    </a:lnTo>
                    <a:lnTo>
                      <a:pt x="1836" y="276"/>
                    </a:lnTo>
                    <a:lnTo>
                      <a:pt x="1830" y="270"/>
                    </a:lnTo>
                    <a:lnTo>
                      <a:pt x="1824" y="270"/>
                    </a:lnTo>
                    <a:lnTo>
                      <a:pt x="1818" y="270"/>
                    </a:lnTo>
                    <a:lnTo>
                      <a:pt x="1806" y="264"/>
                    </a:lnTo>
                    <a:lnTo>
                      <a:pt x="1800" y="264"/>
                    </a:lnTo>
                    <a:lnTo>
                      <a:pt x="1788" y="264"/>
                    </a:lnTo>
                    <a:lnTo>
                      <a:pt x="1782" y="264"/>
                    </a:lnTo>
                    <a:lnTo>
                      <a:pt x="1776" y="264"/>
                    </a:lnTo>
                    <a:lnTo>
                      <a:pt x="1764" y="264"/>
                    </a:lnTo>
                    <a:lnTo>
                      <a:pt x="1758" y="264"/>
                    </a:lnTo>
                    <a:lnTo>
                      <a:pt x="1752" y="258"/>
                    </a:lnTo>
                    <a:lnTo>
                      <a:pt x="1734" y="258"/>
                    </a:lnTo>
                    <a:lnTo>
                      <a:pt x="1722" y="252"/>
                    </a:lnTo>
                    <a:lnTo>
                      <a:pt x="1704" y="252"/>
                    </a:lnTo>
                    <a:lnTo>
                      <a:pt x="1692" y="246"/>
                    </a:lnTo>
                    <a:lnTo>
                      <a:pt x="1680" y="246"/>
                    </a:lnTo>
                    <a:lnTo>
                      <a:pt x="1674" y="246"/>
                    </a:lnTo>
                    <a:lnTo>
                      <a:pt x="1668" y="246"/>
                    </a:lnTo>
                    <a:lnTo>
                      <a:pt x="1662" y="246"/>
                    </a:lnTo>
                    <a:lnTo>
                      <a:pt x="1650" y="246"/>
                    </a:lnTo>
                    <a:lnTo>
                      <a:pt x="1644" y="246"/>
                    </a:lnTo>
                    <a:lnTo>
                      <a:pt x="1638" y="246"/>
                    </a:lnTo>
                    <a:lnTo>
                      <a:pt x="1632" y="246"/>
                    </a:lnTo>
                    <a:lnTo>
                      <a:pt x="1620" y="246"/>
                    </a:lnTo>
                    <a:lnTo>
                      <a:pt x="1614" y="246"/>
                    </a:lnTo>
                    <a:lnTo>
                      <a:pt x="1608" y="246"/>
                    </a:lnTo>
                    <a:lnTo>
                      <a:pt x="1602" y="252"/>
                    </a:lnTo>
                    <a:lnTo>
                      <a:pt x="1590" y="252"/>
                    </a:lnTo>
                    <a:lnTo>
                      <a:pt x="1584" y="252"/>
                    </a:lnTo>
                    <a:lnTo>
                      <a:pt x="1578" y="258"/>
                    </a:lnTo>
                    <a:lnTo>
                      <a:pt x="1566" y="258"/>
                    </a:lnTo>
                    <a:lnTo>
                      <a:pt x="1566" y="264"/>
                    </a:lnTo>
                    <a:lnTo>
                      <a:pt x="1560" y="264"/>
                    </a:lnTo>
                    <a:lnTo>
                      <a:pt x="1554" y="264"/>
                    </a:lnTo>
                    <a:lnTo>
                      <a:pt x="1548" y="270"/>
                    </a:lnTo>
                    <a:lnTo>
                      <a:pt x="1542" y="270"/>
                    </a:lnTo>
                    <a:lnTo>
                      <a:pt x="1536" y="270"/>
                    </a:lnTo>
                    <a:lnTo>
                      <a:pt x="1530" y="270"/>
                    </a:lnTo>
                    <a:lnTo>
                      <a:pt x="1524" y="270"/>
                    </a:lnTo>
                    <a:lnTo>
                      <a:pt x="1518" y="270"/>
                    </a:lnTo>
                    <a:lnTo>
                      <a:pt x="1512" y="270"/>
                    </a:lnTo>
                    <a:lnTo>
                      <a:pt x="1512" y="276"/>
                    </a:lnTo>
                    <a:lnTo>
                      <a:pt x="1506" y="276"/>
                    </a:lnTo>
                    <a:lnTo>
                      <a:pt x="1500" y="276"/>
                    </a:lnTo>
                    <a:lnTo>
                      <a:pt x="1494" y="276"/>
                    </a:lnTo>
                    <a:lnTo>
                      <a:pt x="1488" y="276"/>
                    </a:lnTo>
                    <a:lnTo>
                      <a:pt x="1482" y="282"/>
                    </a:lnTo>
                    <a:lnTo>
                      <a:pt x="1476" y="282"/>
                    </a:lnTo>
                    <a:lnTo>
                      <a:pt x="1470" y="282"/>
                    </a:lnTo>
                    <a:lnTo>
                      <a:pt x="1464" y="282"/>
                    </a:lnTo>
                    <a:lnTo>
                      <a:pt x="1458" y="282"/>
                    </a:lnTo>
                    <a:lnTo>
                      <a:pt x="1452" y="288"/>
                    </a:lnTo>
                    <a:lnTo>
                      <a:pt x="1446" y="288"/>
                    </a:lnTo>
                    <a:lnTo>
                      <a:pt x="1434" y="288"/>
                    </a:lnTo>
                    <a:lnTo>
                      <a:pt x="1422" y="288"/>
                    </a:lnTo>
                    <a:lnTo>
                      <a:pt x="1410" y="288"/>
                    </a:lnTo>
                    <a:lnTo>
                      <a:pt x="1398" y="288"/>
                    </a:lnTo>
                    <a:lnTo>
                      <a:pt x="1398" y="294"/>
                    </a:lnTo>
                    <a:lnTo>
                      <a:pt x="1398" y="288"/>
                    </a:lnTo>
                    <a:lnTo>
                      <a:pt x="1392" y="288"/>
                    </a:lnTo>
                    <a:lnTo>
                      <a:pt x="1386" y="288"/>
                    </a:lnTo>
                    <a:lnTo>
                      <a:pt x="1380" y="288"/>
                    </a:lnTo>
                    <a:lnTo>
                      <a:pt x="1374" y="282"/>
                    </a:lnTo>
                    <a:lnTo>
                      <a:pt x="1368" y="282"/>
                    </a:lnTo>
                    <a:lnTo>
                      <a:pt x="1362" y="282"/>
                    </a:lnTo>
                    <a:lnTo>
                      <a:pt x="1356" y="276"/>
                    </a:lnTo>
                    <a:lnTo>
                      <a:pt x="1350" y="276"/>
                    </a:lnTo>
                    <a:lnTo>
                      <a:pt x="1344" y="270"/>
                    </a:lnTo>
                    <a:lnTo>
                      <a:pt x="1344" y="264"/>
                    </a:lnTo>
                    <a:lnTo>
                      <a:pt x="1344" y="258"/>
                    </a:lnTo>
                    <a:lnTo>
                      <a:pt x="1344" y="246"/>
                    </a:lnTo>
                    <a:lnTo>
                      <a:pt x="1344" y="240"/>
                    </a:lnTo>
                    <a:lnTo>
                      <a:pt x="1344" y="234"/>
                    </a:lnTo>
                    <a:lnTo>
                      <a:pt x="1344" y="228"/>
                    </a:lnTo>
                    <a:lnTo>
                      <a:pt x="1344" y="222"/>
                    </a:lnTo>
                    <a:lnTo>
                      <a:pt x="1344" y="216"/>
                    </a:lnTo>
                    <a:lnTo>
                      <a:pt x="1344" y="210"/>
                    </a:lnTo>
                    <a:lnTo>
                      <a:pt x="1344" y="204"/>
                    </a:lnTo>
                    <a:lnTo>
                      <a:pt x="1356" y="204"/>
                    </a:lnTo>
                    <a:lnTo>
                      <a:pt x="1350" y="204"/>
                    </a:lnTo>
                    <a:lnTo>
                      <a:pt x="1350" y="210"/>
                    </a:lnTo>
                    <a:lnTo>
                      <a:pt x="1350" y="216"/>
                    </a:lnTo>
                    <a:lnTo>
                      <a:pt x="1356" y="216"/>
                    </a:lnTo>
                    <a:lnTo>
                      <a:pt x="1362" y="216"/>
                    </a:lnTo>
                    <a:lnTo>
                      <a:pt x="1368" y="210"/>
                    </a:lnTo>
                    <a:lnTo>
                      <a:pt x="1374" y="210"/>
                    </a:lnTo>
                    <a:lnTo>
                      <a:pt x="1380" y="204"/>
                    </a:lnTo>
                    <a:lnTo>
                      <a:pt x="1386" y="204"/>
                    </a:lnTo>
                    <a:lnTo>
                      <a:pt x="1392" y="204"/>
                    </a:lnTo>
                    <a:lnTo>
                      <a:pt x="1398" y="204"/>
                    </a:lnTo>
                    <a:lnTo>
                      <a:pt x="1404" y="204"/>
                    </a:lnTo>
                    <a:lnTo>
                      <a:pt x="1398" y="204"/>
                    </a:lnTo>
                    <a:lnTo>
                      <a:pt x="1392" y="204"/>
                    </a:lnTo>
                    <a:lnTo>
                      <a:pt x="1392" y="210"/>
                    </a:lnTo>
                    <a:lnTo>
                      <a:pt x="1386" y="210"/>
                    </a:lnTo>
                    <a:lnTo>
                      <a:pt x="1380" y="210"/>
                    </a:lnTo>
                    <a:lnTo>
                      <a:pt x="1374" y="210"/>
                    </a:lnTo>
                    <a:lnTo>
                      <a:pt x="1368" y="216"/>
                    </a:lnTo>
                    <a:lnTo>
                      <a:pt x="1362" y="216"/>
                    </a:lnTo>
                    <a:lnTo>
                      <a:pt x="1362" y="222"/>
                    </a:lnTo>
                    <a:lnTo>
                      <a:pt x="1356" y="222"/>
                    </a:lnTo>
                    <a:lnTo>
                      <a:pt x="1356" y="228"/>
                    </a:lnTo>
                    <a:lnTo>
                      <a:pt x="1356" y="234"/>
                    </a:lnTo>
                    <a:lnTo>
                      <a:pt x="1356" y="240"/>
                    </a:lnTo>
                    <a:lnTo>
                      <a:pt x="1362" y="240"/>
                    </a:lnTo>
                    <a:lnTo>
                      <a:pt x="1368" y="240"/>
                    </a:lnTo>
                    <a:lnTo>
                      <a:pt x="1368" y="234"/>
                    </a:lnTo>
                    <a:lnTo>
                      <a:pt x="1374" y="234"/>
                    </a:lnTo>
                    <a:lnTo>
                      <a:pt x="1380" y="228"/>
                    </a:lnTo>
                    <a:lnTo>
                      <a:pt x="1386" y="222"/>
                    </a:lnTo>
                    <a:lnTo>
                      <a:pt x="1392" y="222"/>
                    </a:lnTo>
                    <a:lnTo>
                      <a:pt x="1398" y="216"/>
                    </a:lnTo>
                    <a:lnTo>
                      <a:pt x="1404" y="216"/>
                    </a:lnTo>
                    <a:lnTo>
                      <a:pt x="1404" y="210"/>
                    </a:lnTo>
                    <a:lnTo>
                      <a:pt x="1410" y="210"/>
                    </a:lnTo>
                    <a:lnTo>
                      <a:pt x="1416" y="210"/>
                    </a:lnTo>
                    <a:lnTo>
                      <a:pt x="1416" y="204"/>
                    </a:lnTo>
                    <a:lnTo>
                      <a:pt x="1422" y="204"/>
                    </a:lnTo>
                    <a:lnTo>
                      <a:pt x="1428" y="204"/>
                    </a:lnTo>
                    <a:lnTo>
                      <a:pt x="1434" y="204"/>
                    </a:lnTo>
                    <a:lnTo>
                      <a:pt x="1440" y="204"/>
                    </a:lnTo>
                    <a:lnTo>
                      <a:pt x="1446" y="204"/>
                    </a:lnTo>
                    <a:lnTo>
                      <a:pt x="1458" y="204"/>
                    </a:lnTo>
                    <a:lnTo>
                      <a:pt x="1464" y="204"/>
                    </a:lnTo>
                    <a:lnTo>
                      <a:pt x="1470" y="204"/>
                    </a:lnTo>
                    <a:lnTo>
                      <a:pt x="1470" y="210"/>
                    </a:lnTo>
                    <a:lnTo>
                      <a:pt x="1476" y="210"/>
                    </a:lnTo>
                    <a:lnTo>
                      <a:pt x="1482" y="210"/>
                    </a:lnTo>
                    <a:lnTo>
                      <a:pt x="1482" y="204"/>
                    </a:lnTo>
                    <a:lnTo>
                      <a:pt x="1488" y="204"/>
                    </a:lnTo>
                    <a:lnTo>
                      <a:pt x="1494" y="204"/>
                    </a:lnTo>
                    <a:lnTo>
                      <a:pt x="1500" y="204"/>
                    </a:lnTo>
                    <a:lnTo>
                      <a:pt x="1506" y="204"/>
                    </a:lnTo>
                    <a:lnTo>
                      <a:pt x="1512" y="204"/>
                    </a:lnTo>
                    <a:lnTo>
                      <a:pt x="1518" y="210"/>
                    </a:lnTo>
                    <a:lnTo>
                      <a:pt x="1524" y="210"/>
                    </a:lnTo>
                    <a:lnTo>
                      <a:pt x="1530" y="210"/>
                    </a:lnTo>
                    <a:lnTo>
                      <a:pt x="1536" y="210"/>
                    </a:lnTo>
                    <a:lnTo>
                      <a:pt x="1536" y="216"/>
                    </a:lnTo>
                    <a:lnTo>
                      <a:pt x="1542" y="216"/>
                    </a:lnTo>
                    <a:lnTo>
                      <a:pt x="1548" y="216"/>
                    </a:lnTo>
                    <a:lnTo>
                      <a:pt x="1554" y="216"/>
                    </a:lnTo>
                    <a:lnTo>
                      <a:pt x="1560" y="210"/>
                    </a:lnTo>
                    <a:lnTo>
                      <a:pt x="1566" y="210"/>
                    </a:lnTo>
                    <a:lnTo>
                      <a:pt x="1572" y="210"/>
                    </a:lnTo>
                    <a:lnTo>
                      <a:pt x="1584" y="204"/>
                    </a:lnTo>
                    <a:lnTo>
                      <a:pt x="1590" y="204"/>
                    </a:lnTo>
                    <a:lnTo>
                      <a:pt x="1596" y="204"/>
                    </a:lnTo>
                    <a:lnTo>
                      <a:pt x="1602" y="198"/>
                    </a:lnTo>
                    <a:lnTo>
                      <a:pt x="1608" y="198"/>
                    </a:lnTo>
                    <a:lnTo>
                      <a:pt x="1620" y="198"/>
                    </a:lnTo>
                    <a:lnTo>
                      <a:pt x="1626" y="198"/>
                    </a:lnTo>
                    <a:lnTo>
                      <a:pt x="1626" y="204"/>
                    </a:lnTo>
                    <a:lnTo>
                      <a:pt x="1626" y="210"/>
                    </a:lnTo>
                    <a:lnTo>
                      <a:pt x="1632" y="210"/>
                    </a:lnTo>
                    <a:lnTo>
                      <a:pt x="1632" y="216"/>
                    </a:lnTo>
                    <a:lnTo>
                      <a:pt x="1638" y="216"/>
                    </a:lnTo>
                    <a:lnTo>
                      <a:pt x="1638" y="210"/>
                    </a:lnTo>
                    <a:lnTo>
                      <a:pt x="1644" y="210"/>
                    </a:lnTo>
                    <a:lnTo>
                      <a:pt x="1644" y="204"/>
                    </a:lnTo>
                    <a:lnTo>
                      <a:pt x="1650" y="204"/>
                    </a:lnTo>
                    <a:lnTo>
                      <a:pt x="1650" y="198"/>
                    </a:lnTo>
                    <a:lnTo>
                      <a:pt x="1644" y="198"/>
                    </a:lnTo>
                    <a:lnTo>
                      <a:pt x="1638" y="198"/>
                    </a:lnTo>
                    <a:lnTo>
                      <a:pt x="1638" y="192"/>
                    </a:lnTo>
                    <a:lnTo>
                      <a:pt x="1632" y="192"/>
                    </a:lnTo>
                    <a:lnTo>
                      <a:pt x="1626" y="186"/>
                    </a:lnTo>
                    <a:lnTo>
                      <a:pt x="1620" y="186"/>
                    </a:lnTo>
                    <a:lnTo>
                      <a:pt x="1614" y="180"/>
                    </a:lnTo>
                    <a:lnTo>
                      <a:pt x="1608" y="180"/>
                    </a:lnTo>
                    <a:lnTo>
                      <a:pt x="1602" y="180"/>
                    </a:lnTo>
                    <a:lnTo>
                      <a:pt x="1602" y="186"/>
                    </a:lnTo>
                    <a:lnTo>
                      <a:pt x="1596" y="186"/>
                    </a:lnTo>
                    <a:lnTo>
                      <a:pt x="1590" y="186"/>
                    </a:lnTo>
                    <a:lnTo>
                      <a:pt x="1590" y="192"/>
                    </a:lnTo>
                    <a:lnTo>
                      <a:pt x="1584" y="192"/>
                    </a:lnTo>
                    <a:lnTo>
                      <a:pt x="1578" y="192"/>
                    </a:lnTo>
                    <a:lnTo>
                      <a:pt x="1572" y="198"/>
                    </a:lnTo>
                    <a:lnTo>
                      <a:pt x="1566" y="198"/>
                    </a:lnTo>
                    <a:lnTo>
                      <a:pt x="1560" y="198"/>
                    </a:lnTo>
                    <a:lnTo>
                      <a:pt x="1554" y="198"/>
                    </a:lnTo>
                    <a:lnTo>
                      <a:pt x="1548" y="198"/>
                    </a:lnTo>
                    <a:lnTo>
                      <a:pt x="1542" y="198"/>
                    </a:lnTo>
                    <a:lnTo>
                      <a:pt x="1536" y="198"/>
                    </a:lnTo>
                    <a:lnTo>
                      <a:pt x="1530" y="198"/>
                    </a:lnTo>
                    <a:lnTo>
                      <a:pt x="1524" y="198"/>
                    </a:lnTo>
                    <a:lnTo>
                      <a:pt x="1518" y="198"/>
                    </a:lnTo>
                    <a:lnTo>
                      <a:pt x="1512" y="198"/>
                    </a:lnTo>
                    <a:lnTo>
                      <a:pt x="1506" y="198"/>
                    </a:lnTo>
                    <a:lnTo>
                      <a:pt x="1506" y="192"/>
                    </a:lnTo>
                    <a:lnTo>
                      <a:pt x="1500" y="192"/>
                    </a:lnTo>
                    <a:lnTo>
                      <a:pt x="1494" y="192"/>
                    </a:lnTo>
                    <a:lnTo>
                      <a:pt x="1482" y="192"/>
                    </a:lnTo>
                    <a:lnTo>
                      <a:pt x="1476" y="186"/>
                    </a:lnTo>
                    <a:lnTo>
                      <a:pt x="1470" y="186"/>
                    </a:lnTo>
                    <a:lnTo>
                      <a:pt x="1464" y="186"/>
                    </a:lnTo>
                    <a:lnTo>
                      <a:pt x="1446" y="186"/>
                    </a:lnTo>
                    <a:lnTo>
                      <a:pt x="1434" y="186"/>
                    </a:lnTo>
                    <a:lnTo>
                      <a:pt x="1416" y="186"/>
                    </a:lnTo>
                    <a:lnTo>
                      <a:pt x="1404" y="186"/>
                    </a:lnTo>
                    <a:lnTo>
                      <a:pt x="1386" y="186"/>
                    </a:lnTo>
                    <a:lnTo>
                      <a:pt x="1374" y="186"/>
                    </a:lnTo>
                    <a:lnTo>
                      <a:pt x="1368" y="186"/>
                    </a:lnTo>
                    <a:lnTo>
                      <a:pt x="1362" y="186"/>
                    </a:lnTo>
                    <a:lnTo>
                      <a:pt x="1356" y="186"/>
                    </a:lnTo>
                    <a:lnTo>
                      <a:pt x="1344" y="192"/>
                    </a:lnTo>
                    <a:lnTo>
                      <a:pt x="1338" y="192"/>
                    </a:lnTo>
                    <a:lnTo>
                      <a:pt x="1332" y="192"/>
                    </a:lnTo>
                    <a:lnTo>
                      <a:pt x="1326" y="192"/>
                    </a:lnTo>
                    <a:lnTo>
                      <a:pt x="1320" y="192"/>
                    </a:lnTo>
                    <a:lnTo>
                      <a:pt x="1314" y="192"/>
                    </a:lnTo>
                    <a:lnTo>
                      <a:pt x="1308" y="192"/>
                    </a:lnTo>
                    <a:lnTo>
                      <a:pt x="1302" y="192"/>
                    </a:lnTo>
                    <a:lnTo>
                      <a:pt x="1296" y="192"/>
                    </a:lnTo>
                    <a:lnTo>
                      <a:pt x="1290" y="192"/>
                    </a:lnTo>
                    <a:lnTo>
                      <a:pt x="1284" y="198"/>
                    </a:lnTo>
                    <a:lnTo>
                      <a:pt x="1278" y="198"/>
                    </a:lnTo>
                    <a:lnTo>
                      <a:pt x="1272" y="198"/>
                    </a:lnTo>
                    <a:lnTo>
                      <a:pt x="1254" y="198"/>
                    </a:lnTo>
                    <a:lnTo>
                      <a:pt x="1242" y="198"/>
                    </a:lnTo>
                    <a:lnTo>
                      <a:pt x="1224" y="198"/>
                    </a:lnTo>
                    <a:lnTo>
                      <a:pt x="1212" y="198"/>
                    </a:lnTo>
                    <a:lnTo>
                      <a:pt x="1194" y="198"/>
                    </a:lnTo>
                    <a:lnTo>
                      <a:pt x="1182" y="198"/>
                    </a:lnTo>
                    <a:lnTo>
                      <a:pt x="1164" y="198"/>
                    </a:lnTo>
                    <a:lnTo>
                      <a:pt x="1152" y="198"/>
                    </a:lnTo>
                    <a:lnTo>
                      <a:pt x="1122" y="198"/>
                    </a:lnTo>
                    <a:lnTo>
                      <a:pt x="1086" y="198"/>
                    </a:lnTo>
                    <a:lnTo>
                      <a:pt x="1056" y="198"/>
                    </a:lnTo>
                    <a:lnTo>
                      <a:pt x="1026" y="198"/>
                    </a:lnTo>
                    <a:lnTo>
                      <a:pt x="966" y="198"/>
                    </a:lnTo>
                    <a:lnTo>
                      <a:pt x="900" y="198"/>
                    </a:lnTo>
                    <a:lnTo>
                      <a:pt x="870" y="198"/>
                    </a:lnTo>
                    <a:lnTo>
                      <a:pt x="840" y="198"/>
                    </a:lnTo>
                    <a:lnTo>
                      <a:pt x="828" y="198"/>
                    </a:lnTo>
                    <a:lnTo>
                      <a:pt x="810" y="198"/>
                    </a:lnTo>
                    <a:lnTo>
                      <a:pt x="798" y="198"/>
                    </a:lnTo>
                    <a:lnTo>
                      <a:pt x="780" y="198"/>
                    </a:lnTo>
                    <a:lnTo>
                      <a:pt x="762" y="198"/>
                    </a:lnTo>
                    <a:lnTo>
                      <a:pt x="744" y="198"/>
                    </a:lnTo>
                    <a:lnTo>
                      <a:pt x="720" y="192"/>
                    </a:lnTo>
                    <a:lnTo>
                      <a:pt x="702" y="192"/>
                    </a:lnTo>
                    <a:lnTo>
                      <a:pt x="666" y="192"/>
                    </a:lnTo>
                    <a:lnTo>
                      <a:pt x="624" y="192"/>
                    </a:lnTo>
                    <a:lnTo>
                      <a:pt x="588" y="192"/>
                    </a:lnTo>
                    <a:lnTo>
                      <a:pt x="546" y="192"/>
                    </a:lnTo>
                    <a:lnTo>
                      <a:pt x="528" y="192"/>
                    </a:lnTo>
                    <a:lnTo>
                      <a:pt x="510" y="192"/>
                    </a:lnTo>
                    <a:lnTo>
                      <a:pt x="492" y="192"/>
                    </a:lnTo>
                    <a:lnTo>
                      <a:pt x="468" y="186"/>
                    </a:lnTo>
                    <a:lnTo>
                      <a:pt x="468" y="192"/>
                    </a:lnTo>
                    <a:lnTo>
                      <a:pt x="462" y="192"/>
                    </a:lnTo>
                    <a:lnTo>
                      <a:pt x="456" y="192"/>
                    </a:lnTo>
                    <a:lnTo>
                      <a:pt x="450" y="192"/>
                    </a:lnTo>
                    <a:lnTo>
                      <a:pt x="438" y="192"/>
                    </a:lnTo>
                    <a:lnTo>
                      <a:pt x="432" y="192"/>
                    </a:lnTo>
                    <a:lnTo>
                      <a:pt x="420" y="192"/>
                    </a:lnTo>
                    <a:lnTo>
                      <a:pt x="408" y="186"/>
                    </a:lnTo>
                    <a:lnTo>
                      <a:pt x="396" y="186"/>
                    </a:lnTo>
                    <a:lnTo>
                      <a:pt x="384" y="186"/>
                    </a:lnTo>
                    <a:lnTo>
                      <a:pt x="378" y="186"/>
                    </a:lnTo>
                    <a:lnTo>
                      <a:pt x="372" y="186"/>
                    </a:lnTo>
                    <a:lnTo>
                      <a:pt x="366" y="186"/>
                    </a:lnTo>
                    <a:lnTo>
                      <a:pt x="360" y="186"/>
                    </a:lnTo>
                    <a:lnTo>
                      <a:pt x="354" y="186"/>
                    </a:lnTo>
                    <a:lnTo>
                      <a:pt x="348" y="186"/>
                    </a:lnTo>
                    <a:lnTo>
                      <a:pt x="336" y="186"/>
                    </a:lnTo>
                    <a:lnTo>
                      <a:pt x="330" y="186"/>
                    </a:lnTo>
                    <a:lnTo>
                      <a:pt x="318" y="186"/>
                    </a:lnTo>
                    <a:lnTo>
                      <a:pt x="306" y="186"/>
                    </a:lnTo>
                    <a:lnTo>
                      <a:pt x="288" y="180"/>
                    </a:lnTo>
                    <a:lnTo>
                      <a:pt x="270" y="180"/>
                    </a:lnTo>
                    <a:lnTo>
                      <a:pt x="246" y="180"/>
                    </a:lnTo>
                    <a:lnTo>
                      <a:pt x="228" y="174"/>
                    </a:lnTo>
                    <a:lnTo>
                      <a:pt x="216" y="174"/>
                    </a:lnTo>
                    <a:lnTo>
                      <a:pt x="204" y="174"/>
                    </a:lnTo>
                    <a:lnTo>
                      <a:pt x="192" y="174"/>
                    </a:lnTo>
                    <a:lnTo>
                      <a:pt x="180" y="174"/>
                    </a:lnTo>
                    <a:lnTo>
                      <a:pt x="168" y="174"/>
                    </a:lnTo>
                    <a:lnTo>
                      <a:pt x="156" y="168"/>
                    </a:lnTo>
                    <a:lnTo>
                      <a:pt x="144" y="168"/>
                    </a:lnTo>
                    <a:lnTo>
                      <a:pt x="138" y="162"/>
                    </a:lnTo>
                    <a:lnTo>
                      <a:pt x="132" y="162"/>
                    </a:lnTo>
                    <a:lnTo>
                      <a:pt x="126" y="162"/>
                    </a:lnTo>
                    <a:lnTo>
                      <a:pt x="120" y="156"/>
                    </a:lnTo>
                    <a:lnTo>
                      <a:pt x="108" y="156"/>
                    </a:lnTo>
                    <a:lnTo>
                      <a:pt x="102" y="156"/>
                    </a:lnTo>
                    <a:lnTo>
                      <a:pt x="96" y="156"/>
                    </a:lnTo>
                    <a:lnTo>
                      <a:pt x="90" y="156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2" y="156"/>
                    </a:lnTo>
                    <a:lnTo>
                      <a:pt x="66" y="156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90" y="156"/>
                    </a:lnTo>
                    <a:lnTo>
                      <a:pt x="96" y="156"/>
                    </a:lnTo>
                    <a:lnTo>
                      <a:pt x="102" y="156"/>
                    </a:lnTo>
                    <a:lnTo>
                      <a:pt x="108" y="156"/>
                    </a:lnTo>
                    <a:lnTo>
                      <a:pt x="114" y="156"/>
                    </a:lnTo>
                    <a:lnTo>
                      <a:pt x="120" y="144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54" y="150"/>
                    </a:lnTo>
                    <a:lnTo>
                      <a:pt x="66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30" y="180"/>
                    </a:lnTo>
                    <a:lnTo>
                      <a:pt x="24" y="180"/>
                    </a:lnTo>
                    <a:lnTo>
                      <a:pt x="24" y="186"/>
                    </a:lnTo>
                    <a:lnTo>
                      <a:pt x="18" y="186"/>
                    </a:lnTo>
                    <a:lnTo>
                      <a:pt x="18" y="192"/>
                    </a:lnTo>
                    <a:lnTo>
                      <a:pt x="18" y="198"/>
                    </a:lnTo>
                    <a:lnTo>
                      <a:pt x="24" y="198"/>
                    </a:lnTo>
                    <a:lnTo>
                      <a:pt x="30" y="204"/>
                    </a:lnTo>
                    <a:lnTo>
                      <a:pt x="36" y="210"/>
                    </a:lnTo>
                    <a:lnTo>
                      <a:pt x="42" y="210"/>
                    </a:lnTo>
                    <a:lnTo>
                      <a:pt x="42" y="216"/>
                    </a:lnTo>
                    <a:lnTo>
                      <a:pt x="48" y="216"/>
                    </a:lnTo>
                    <a:lnTo>
                      <a:pt x="54" y="216"/>
                    </a:lnTo>
                    <a:lnTo>
                      <a:pt x="60" y="216"/>
                    </a:lnTo>
                    <a:lnTo>
                      <a:pt x="66" y="216"/>
                    </a:lnTo>
                    <a:lnTo>
                      <a:pt x="72" y="216"/>
                    </a:lnTo>
                    <a:lnTo>
                      <a:pt x="78" y="216"/>
                    </a:lnTo>
                    <a:lnTo>
                      <a:pt x="84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96" y="210"/>
                    </a:lnTo>
                    <a:lnTo>
                      <a:pt x="102" y="210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84" y="204"/>
                    </a:lnTo>
                    <a:lnTo>
                      <a:pt x="78" y="204"/>
                    </a:lnTo>
                    <a:lnTo>
                      <a:pt x="72" y="204"/>
                    </a:lnTo>
                    <a:lnTo>
                      <a:pt x="66" y="204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42" y="192"/>
                    </a:lnTo>
                    <a:lnTo>
                      <a:pt x="42" y="198"/>
                    </a:lnTo>
                    <a:lnTo>
                      <a:pt x="48" y="198"/>
                    </a:lnTo>
                    <a:lnTo>
                      <a:pt x="54" y="198"/>
                    </a:lnTo>
                    <a:lnTo>
                      <a:pt x="60" y="198"/>
                    </a:lnTo>
                    <a:lnTo>
                      <a:pt x="66" y="198"/>
                    </a:lnTo>
                    <a:lnTo>
                      <a:pt x="72" y="198"/>
                    </a:lnTo>
                    <a:lnTo>
                      <a:pt x="78" y="198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6" y="198"/>
                    </a:lnTo>
                    <a:lnTo>
                      <a:pt x="102" y="198"/>
                    </a:lnTo>
                    <a:lnTo>
                      <a:pt x="102" y="192"/>
                    </a:lnTo>
                    <a:lnTo>
                      <a:pt x="102" y="186"/>
                    </a:lnTo>
                    <a:lnTo>
                      <a:pt x="96" y="186"/>
                    </a:lnTo>
                    <a:lnTo>
                      <a:pt x="90" y="186"/>
                    </a:lnTo>
                    <a:lnTo>
                      <a:pt x="84" y="186"/>
                    </a:lnTo>
                    <a:lnTo>
                      <a:pt x="78" y="186"/>
                    </a:lnTo>
                    <a:lnTo>
                      <a:pt x="72" y="186"/>
                    </a:lnTo>
                    <a:lnTo>
                      <a:pt x="66" y="186"/>
                    </a:lnTo>
                    <a:lnTo>
                      <a:pt x="60" y="186"/>
                    </a:lnTo>
                    <a:lnTo>
                      <a:pt x="54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60" y="180"/>
                    </a:lnTo>
                    <a:lnTo>
                      <a:pt x="66" y="180"/>
                    </a:lnTo>
                    <a:lnTo>
                      <a:pt x="72" y="180"/>
                    </a:lnTo>
                    <a:lnTo>
                      <a:pt x="78" y="186"/>
                    </a:lnTo>
                    <a:lnTo>
                      <a:pt x="84" y="186"/>
                    </a:lnTo>
                    <a:lnTo>
                      <a:pt x="90" y="186"/>
                    </a:lnTo>
                    <a:lnTo>
                      <a:pt x="96" y="186"/>
                    </a:lnTo>
                    <a:lnTo>
                      <a:pt x="96" y="180"/>
                    </a:lnTo>
                    <a:lnTo>
                      <a:pt x="102" y="180"/>
                    </a:lnTo>
                    <a:lnTo>
                      <a:pt x="96" y="174"/>
                    </a:lnTo>
                    <a:lnTo>
                      <a:pt x="102" y="174"/>
                    </a:lnTo>
                    <a:lnTo>
                      <a:pt x="108" y="174"/>
                    </a:lnTo>
                    <a:lnTo>
                      <a:pt x="114" y="180"/>
                    </a:lnTo>
                    <a:lnTo>
                      <a:pt x="120" y="180"/>
                    </a:lnTo>
                    <a:lnTo>
                      <a:pt x="126" y="180"/>
                    </a:lnTo>
                    <a:lnTo>
                      <a:pt x="144" y="186"/>
                    </a:lnTo>
                    <a:lnTo>
                      <a:pt x="162" y="186"/>
                    </a:lnTo>
                    <a:lnTo>
                      <a:pt x="168" y="192"/>
                    </a:lnTo>
                    <a:lnTo>
                      <a:pt x="174" y="192"/>
                    </a:lnTo>
                    <a:lnTo>
                      <a:pt x="186" y="192"/>
                    </a:lnTo>
                    <a:lnTo>
                      <a:pt x="192" y="192"/>
                    </a:lnTo>
                    <a:lnTo>
                      <a:pt x="198" y="192"/>
                    </a:lnTo>
                    <a:lnTo>
                      <a:pt x="204" y="198"/>
                    </a:lnTo>
                    <a:lnTo>
                      <a:pt x="210" y="198"/>
                    </a:lnTo>
                    <a:lnTo>
                      <a:pt x="216" y="198"/>
                    </a:lnTo>
                    <a:lnTo>
                      <a:pt x="222" y="198"/>
                    </a:lnTo>
                    <a:lnTo>
                      <a:pt x="228" y="198"/>
                    </a:lnTo>
                    <a:lnTo>
                      <a:pt x="222" y="198"/>
                    </a:lnTo>
                    <a:lnTo>
                      <a:pt x="216" y="198"/>
                    </a:lnTo>
                    <a:lnTo>
                      <a:pt x="210" y="198"/>
                    </a:lnTo>
                    <a:lnTo>
                      <a:pt x="204" y="198"/>
                    </a:lnTo>
                    <a:lnTo>
                      <a:pt x="198" y="198"/>
                    </a:lnTo>
                    <a:lnTo>
                      <a:pt x="204" y="198"/>
                    </a:lnTo>
                    <a:lnTo>
                      <a:pt x="210" y="198"/>
                    </a:lnTo>
                    <a:lnTo>
                      <a:pt x="210" y="204"/>
                    </a:lnTo>
                    <a:lnTo>
                      <a:pt x="216" y="204"/>
                    </a:lnTo>
                    <a:lnTo>
                      <a:pt x="222" y="204"/>
                    </a:lnTo>
                    <a:lnTo>
                      <a:pt x="228" y="204"/>
                    </a:lnTo>
                    <a:lnTo>
                      <a:pt x="234" y="204"/>
                    </a:lnTo>
                    <a:lnTo>
                      <a:pt x="240" y="204"/>
                    </a:lnTo>
                    <a:lnTo>
                      <a:pt x="246" y="204"/>
                    </a:lnTo>
                    <a:lnTo>
                      <a:pt x="252" y="204"/>
                    </a:lnTo>
                    <a:lnTo>
                      <a:pt x="258" y="210"/>
                    </a:lnTo>
                    <a:lnTo>
                      <a:pt x="264" y="204"/>
                    </a:lnTo>
                    <a:lnTo>
                      <a:pt x="264" y="198"/>
                    </a:lnTo>
                    <a:lnTo>
                      <a:pt x="258" y="198"/>
                    </a:lnTo>
                    <a:lnTo>
                      <a:pt x="264" y="198"/>
                    </a:lnTo>
                    <a:lnTo>
                      <a:pt x="270" y="198"/>
                    </a:lnTo>
                    <a:lnTo>
                      <a:pt x="276" y="204"/>
                    </a:lnTo>
                    <a:lnTo>
                      <a:pt x="276" y="210"/>
                    </a:lnTo>
                    <a:lnTo>
                      <a:pt x="276" y="216"/>
                    </a:lnTo>
                    <a:lnTo>
                      <a:pt x="276" y="222"/>
                    </a:lnTo>
                    <a:lnTo>
                      <a:pt x="276" y="228"/>
                    </a:lnTo>
                    <a:lnTo>
                      <a:pt x="276" y="234"/>
                    </a:lnTo>
                    <a:lnTo>
                      <a:pt x="276" y="240"/>
                    </a:lnTo>
                    <a:lnTo>
                      <a:pt x="270" y="240"/>
                    </a:lnTo>
                    <a:lnTo>
                      <a:pt x="264" y="234"/>
                    </a:lnTo>
                    <a:lnTo>
                      <a:pt x="258" y="234"/>
                    </a:lnTo>
                    <a:lnTo>
                      <a:pt x="252" y="234"/>
                    </a:lnTo>
                    <a:lnTo>
                      <a:pt x="246" y="234"/>
                    </a:lnTo>
                    <a:lnTo>
                      <a:pt x="240" y="228"/>
                    </a:lnTo>
                    <a:lnTo>
                      <a:pt x="234" y="228"/>
                    </a:lnTo>
                    <a:lnTo>
                      <a:pt x="228" y="228"/>
                    </a:lnTo>
                    <a:lnTo>
                      <a:pt x="222" y="228"/>
                    </a:lnTo>
                    <a:lnTo>
                      <a:pt x="216" y="228"/>
                    </a:lnTo>
                    <a:lnTo>
                      <a:pt x="210" y="228"/>
                    </a:lnTo>
                    <a:lnTo>
                      <a:pt x="204" y="228"/>
                    </a:lnTo>
                    <a:lnTo>
                      <a:pt x="198" y="228"/>
                    </a:lnTo>
                    <a:lnTo>
                      <a:pt x="192" y="228"/>
                    </a:lnTo>
                    <a:lnTo>
                      <a:pt x="192" y="222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74" y="222"/>
                    </a:lnTo>
                    <a:lnTo>
                      <a:pt x="168" y="222"/>
                    </a:lnTo>
                    <a:lnTo>
                      <a:pt x="162" y="222"/>
                    </a:lnTo>
                    <a:lnTo>
                      <a:pt x="156" y="222"/>
                    </a:lnTo>
                    <a:lnTo>
                      <a:pt x="150" y="222"/>
                    </a:lnTo>
                    <a:lnTo>
                      <a:pt x="144" y="222"/>
                    </a:lnTo>
                    <a:lnTo>
                      <a:pt x="138" y="222"/>
                    </a:lnTo>
                    <a:lnTo>
                      <a:pt x="132" y="216"/>
                    </a:lnTo>
                    <a:lnTo>
                      <a:pt x="126" y="216"/>
                    </a:lnTo>
                    <a:lnTo>
                      <a:pt x="120" y="216"/>
                    </a:lnTo>
                    <a:lnTo>
                      <a:pt x="114" y="216"/>
                    </a:lnTo>
                    <a:lnTo>
                      <a:pt x="108" y="216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6" y="222"/>
                    </a:lnTo>
                    <a:lnTo>
                      <a:pt x="90" y="222"/>
                    </a:lnTo>
                    <a:lnTo>
                      <a:pt x="84" y="222"/>
                    </a:lnTo>
                    <a:lnTo>
                      <a:pt x="78" y="222"/>
                    </a:lnTo>
                    <a:lnTo>
                      <a:pt x="72" y="222"/>
                    </a:lnTo>
                    <a:lnTo>
                      <a:pt x="66" y="228"/>
                    </a:lnTo>
                    <a:lnTo>
                      <a:pt x="60" y="228"/>
                    </a:lnTo>
                    <a:lnTo>
                      <a:pt x="54" y="228"/>
                    </a:lnTo>
                    <a:lnTo>
                      <a:pt x="54" y="222"/>
                    </a:lnTo>
                    <a:lnTo>
                      <a:pt x="48" y="222"/>
                    </a:lnTo>
                    <a:lnTo>
                      <a:pt x="42" y="222"/>
                    </a:lnTo>
                    <a:lnTo>
                      <a:pt x="36" y="222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24" y="216"/>
                    </a:lnTo>
                    <a:lnTo>
                      <a:pt x="24" y="210"/>
                    </a:lnTo>
                    <a:lnTo>
                      <a:pt x="18" y="210"/>
                    </a:lnTo>
                    <a:lnTo>
                      <a:pt x="12" y="204"/>
                    </a:lnTo>
                    <a:lnTo>
                      <a:pt x="12" y="198"/>
                    </a:lnTo>
                    <a:lnTo>
                      <a:pt x="6" y="198"/>
                    </a:lnTo>
                    <a:lnTo>
                      <a:pt x="6" y="192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8" y="168"/>
                    </a:lnTo>
                    <a:lnTo>
                      <a:pt x="18" y="162"/>
                    </a:lnTo>
                    <a:lnTo>
                      <a:pt x="18" y="156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6" y="126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32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10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40" y="6"/>
                    </a:lnTo>
                    <a:lnTo>
                      <a:pt x="246" y="6"/>
                    </a:lnTo>
                    <a:lnTo>
                      <a:pt x="258" y="6"/>
                    </a:lnTo>
                    <a:lnTo>
                      <a:pt x="276" y="6"/>
                    </a:lnTo>
                    <a:lnTo>
                      <a:pt x="288" y="6"/>
                    </a:lnTo>
                    <a:lnTo>
                      <a:pt x="300" y="6"/>
                    </a:lnTo>
                    <a:lnTo>
                      <a:pt x="318" y="6"/>
                    </a:lnTo>
                    <a:lnTo>
                      <a:pt x="330" y="6"/>
                    </a:lnTo>
                    <a:lnTo>
                      <a:pt x="360" y="6"/>
                    </a:lnTo>
                    <a:lnTo>
                      <a:pt x="390" y="12"/>
                    </a:lnTo>
                    <a:lnTo>
                      <a:pt x="402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6"/>
                    </a:lnTo>
                    <a:lnTo>
                      <a:pt x="462" y="6"/>
                    </a:lnTo>
                    <a:lnTo>
                      <a:pt x="480" y="6"/>
                    </a:lnTo>
                    <a:lnTo>
                      <a:pt x="492" y="6"/>
                    </a:lnTo>
                    <a:lnTo>
                      <a:pt x="510" y="12"/>
                    </a:lnTo>
                    <a:lnTo>
                      <a:pt x="540" y="12"/>
                    </a:lnTo>
                    <a:lnTo>
                      <a:pt x="576" y="12"/>
                    </a:lnTo>
                    <a:lnTo>
                      <a:pt x="588" y="12"/>
                    </a:lnTo>
                    <a:lnTo>
                      <a:pt x="606" y="12"/>
                    </a:lnTo>
                    <a:lnTo>
                      <a:pt x="624" y="12"/>
                    </a:lnTo>
                    <a:lnTo>
                      <a:pt x="642" y="12"/>
                    </a:lnTo>
                    <a:lnTo>
                      <a:pt x="654" y="12"/>
                    </a:lnTo>
                    <a:lnTo>
                      <a:pt x="672" y="12"/>
                    </a:lnTo>
                    <a:lnTo>
                      <a:pt x="690" y="12"/>
                    </a:lnTo>
                    <a:lnTo>
                      <a:pt x="708" y="12"/>
                    </a:lnTo>
                    <a:lnTo>
                      <a:pt x="702" y="12"/>
                    </a:lnTo>
                    <a:lnTo>
                      <a:pt x="708" y="12"/>
                    </a:lnTo>
                    <a:lnTo>
                      <a:pt x="714" y="12"/>
                    </a:lnTo>
                    <a:lnTo>
                      <a:pt x="720" y="12"/>
                    </a:lnTo>
                    <a:lnTo>
                      <a:pt x="726" y="12"/>
                    </a:lnTo>
                    <a:lnTo>
                      <a:pt x="732" y="12"/>
                    </a:lnTo>
                    <a:lnTo>
                      <a:pt x="738" y="12"/>
                    </a:lnTo>
                    <a:lnTo>
                      <a:pt x="744" y="12"/>
                    </a:lnTo>
                    <a:lnTo>
                      <a:pt x="756" y="12"/>
                    </a:lnTo>
                    <a:lnTo>
                      <a:pt x="762" y="12"/>
                    </a:lnTo>
                    <a:lnTo>
                      <a:pt x="774" y="12"/>
                    </a:lnTo>
                    <a:lnTo>
                      <a:pt x="786" y="18"/>
                    </a:lnTo>
                    <a:lnTo>
                      <a:pt x="810" y="18"/>
                    </a:lnTo>
                    <a:lnTo>
                      <a:pt x="834" y="18"/>
                    </a:lnTo>
                    <a:lnTo>
                      <a:pt x="858" y="18"/>
                    </a:lnTo>
                    <a:lnTo>
                      <a:pt x="882" y="18"/>
                    </a:lnTo>
                    <a:lnTo>
                      <a:pt x="906" y="18"/>
                    </a:lnTo>
                    <a:lnTo>
                      <a:pt x="930" y="18"/>
                    </a:lnTo>
                    <a:lnTo>
                      <a:pt x="948" y="18"/>
                    </a:lnTo>
                    <a:lnTo>
                      <a:pt x="966" y="18"/>
                    </a:lnTo>
                    <a:lnTo>
                      <a:pt x="978" y="18"/>
                    </a:lnTo>
                    <a:lnTo>
                      <a:pt x="996" y="18"/>
                    </a:lnTo>
                    <a:lnTo>
                      <a:pt x="1026" y="18"/>
                    </a:lnTo>
                    <a:lnTo>
                      <a:pt x="1050" y="18"/>
                    </a:lnTo>
                    <a:lnTo>
                      <a:pt x="1068" y="18"/>
                    </a:lnTo>
                    <a:lnTo>
                      <a:pt x="1080" y="18"/>
                    </a:lnTo>
                    <a:lnTo>
                      <a:pt x="1098" y="18"/>
                    </a:lnTo>
                    <a:lnTo>
                      <a:pt x="1110" y="18"/>
                    </a:lnTo>
                    <a:lnTo>
                      <a:pt x="1122" y="18"/>
                    </a:lnTo>
                    <a:lnTo>
                      <a:pt x="1140" y="18"/>
                    </a:lnTo>
                    <a:lnTo>
                      <a:pt x="1152" y="18"/>
                    </a:lnTo>
                    <a:lnTo>
                      <a:pt x="1170" y="18"/>
                    </a:lnTo>
                    <a:lnTo>
                      <a:pt x="1170" y="12"/>
                    </a:lnTo>
                    <a:lnTo>
                      <a:pt x="1182" y="12"/>
                    </a:lnTo>
                    <a:lnTo>
                      <a:pt x="1194" y="12"/>
                    </a:lnTo>
                    <a:lnTo>
                      <a:pt x="1200" y="12"/>
                    </a:lnTo>
                    <a:lnTo>
                      <a:pt x="1212" y="12"/>
                    </a:lnTo>
                    <a:lnTo>
                      <a:pt x="1230" y="12"/>
                    </a:lnTo>
                    <a:lnTo>
                      <a:pt x="1248" y="12"/>
                    </a:lnTo>
                    <a:lnTo>
                      <a:pt x="1266" y="12"/>
                    </a:lnTo>
                    <a:lnTo>
                      <a:pt x="1290" y="12"/>
                    </a:lnTo>
                    <a:lnTo>
                      <a:pt x="1296" y="12"/>
                    </a:lnTo>
                    <a:lnTo>
                      <a:pt x="1308" y="6"/>
                    </a:lnTo>
                    <a:lnTo>
                      <a:pt x="1314" y="6"/>
                    </a:lnTo>
                    <a:lnTo>
                      <a:pt x="1326" y="6"/>
                    </a:lnTo>
                    <a:lnTo>
                      <a:pt x="1338" y="6"/>
                    </a:lnTo>
                    <a:lnTo>
                      <a:pt x="1350" y="6"/>
                    </a:lnTo>
                    <a:lnTo>
                      <a:pt x="1362" y="6"/>
                    </a:lnTo>
                    <a:lnTo>
                      <a:pt x="1374" y="6"/>
                    </a:lnTo>
                    <a:lnTo>
                      <a:pt x="1398" y="6"/>
                    </a:lnTo>
                    <a:lnTo>
                      <a:pt x="1428" y="6"/>
                    </a:lnTo>
                    <a:lnTo>
                      <a:pt x="1440" y="6"/>
                    </a:lnTo>
                    <a:lnTo>
                      <a:pt x="1452" y="6"/>
                    </a:lnTo>
                    <a:lnTo>
                      <a:pt x="1464" y="6"/>
                    </a:lnTo>
                    <a:lnTo>
                      <a:pt x="1476" y="6"/>
                    </a:lnTo>
                    <a:lnTo>
                      <a:pt x="1488" y="0"/>
                    </a:lnTo>
                    <a:lnTo>
                      <a:pt x="1500" y="0"/>
                    </a:lnTo>
                    <a:lnTo>
                      <a:pt x="1518" y="0"/>
                    </a:lnTo>
                    <a:lnTo>
                      <a:pt x="1530" y="0"/>
                    </a:lnTo>
                    <a:lnTo>
                      <a:pt x="1536" y="0"/>
                    </a:lnTo>
                    <a:lnTo>
                      <a:pt x="1542" y="0"/>
                    </a:lnTo>
                    <a:lnTo>
                      <a:pt x="1548" y="0"/>
                    </a:lnTo>
                    <a:lnTo>
                      <a:pt x="1554" y="0"/>
                    </a:lnTo>
                    <a:lnTo>
                      <a:pt x="1560" y="0"/>
                    </a:lnTo>
                    <a:lnTo>
                      <a:pt x="1566" y="6"/>
                    </a:lnTo>
                    <a:lnTo>
                      <a:pt x="1572" y="6"/>
                    </a:lnTo>
                    <a:lnTo>
                      <a:pt x="1578" y="6"/>
                    </a:lnTo>
                    <a:lnTo>
                      <a:pt x="1584" y="12"/>
                    </a:lnTo>
                    <a:lnTo>
                      <a:pt x="1590" y="12"/>
                    </a:lnTo>
                    <a:lnTo>
                      <a:pt x="1596" y="12"/>
                    </a:lnTo>
                    <a:lnTo>
                      <a:pt x="1596" y="18"/>
                    </a:lnTo>
                    <a:lnTo>
                      <a:pt x="1602" y="18"/>
                    </a:lnTo>
                    <a:lnTo>
                      <a:pt x="1602" y="24"/>
                    </a:lnTo>
                    <a:lnTo>
                      <a:pt x="1608" y="24"/>
                    </a:lnTo>
                    <a:lnTo>
                      <a:pt x="1614" y="30"/>
                    </a:lnTo>
                    <a:lnTo>
                      <a:pt x="1614" y="36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2004480" y="271440"/>
                <a:ext cx="70200" cy="464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12"/>
                    </a:move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27400" y="255960"/>
                <a:ext cx="58320" cy="619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24" y="12"/>
                    </a:move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2016360" y="333720"/>
                <a:ext cx="52560" cy="230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54" y="0"/>
                    </a:move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2016360" y="372240"/>
                <a:ext cx="58680" cy="234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0"/>
                    </a:move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45040" y="317880"/>
                <a:ext cx="46800" cy="309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6"/>
                    </a:move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2033640" y="403200"/>
                <a:ext cx="52920" cy="154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30" y="0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62320" y="341640"/>
                <a:ext cx="75960" cy="3060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78" y="0"/>
                    </a:moveTo>
                    <a:lnTo>
                      <a:pt x="78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2045520" y="426600"/>
                <a:ext cx="52560" cy="230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54" y="6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68440" y="37224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2"/>
                    </a:move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2080800" y="457560"/>
                <a:ext cx="29160" cy="154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0" y="6"/>
                    </a:move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57760" y="380160"/>
                <a:ext cx="521280" cy="240120"/>
              </a:xfrm>
              <a:custGeom>
                <a:avLst/>
                <a:gdLst/>
                <a:ahLst/>
                <a:rect l="l" t="t" r="r" b="b"/>
                <a:pathLst>
                  <a:path w="534" h="186">
                    <a:moveTo>
                      <a:pt x="264" y="18"/>
                    </a:moveTo>
                    <a:lnTo>
                      <a:pt x="264" y="24"/>
                    </a:lnTo>
                    <a:lnTo>
                      <a:pt x="258" y="24"/>
                    </a:lnTo>
                    <a:lnTo>
                      <a:pt x="252" y="24"/>
                    </a:lnTo>
                    <a:lnTo>
                      <a:pt x="240" y="24"/>
                    </a:lnTo>
                    <a:lnTo>
                      <a:pt x="234" y="18"/>
                    </a:lnTo>
                    <a:lnTo>
                      <a:pt x="228" y="18"/>
                    </a:lnTo>
                    <a:lnTo>
                      <a:pt x="222" y="18"/>
                    </a:lnTo>
                    <a:lnTo>
                      <a:pt x="216" y="24"/>
                    </a:lnTo>
                    <a:lnTo>
                      <a:pt x="210" y="24"/>
                    </a:lnTo>
                    <a:lnTo>
                      <a:pt x="216" y="30"/>
                    </a:lnTo>
                    <a:lnTo>
                      <a:pt x="222" y="30"/>
                    </a:lnTo>
                    <a:lnTo>
                      <a:pt x="228" y="30"/>
                    </a:lnTo>
                    <a:lnTo>
                      <a:pt x="234" y="36"/>
                    </a:lnTo>
                    <a:lnTo>
                      <a:pt x="240" y="36"/>
                    </a:lnTo>
                    <a:lnTo>
                      <a:pt x="246" y="36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58" y="42"/>
                    </a:lnTo>
                    <a:lnTo>
                      <a:pt x="252" y="42"/>
                    </a:lnTo>
                    <a:lnTo>
                      <a:pt x="252" y="48"/>
                    </a:lnTo>
                    <a:lnTo>
                      <a:pt x="246" y="48"/>
                    </a:lnTo>
                    <a:lnTo>
                      <a:pt x="240" y="42"/>
                    </a:lnTo>
                    <a:lnTo>
                      <a:pt x="234" y="42"/>
                    </a:lnTo>
                    <a:lnTo>
                      <a:pt x="228" y="42"/>
                    </a:lnTo>
                    <a:lnTo>
                      <a:pt x="222" y="42"/>
                    </a:lnTo>
                    <a:lnTo>
                      <a:pt x="222" y="48"/>
                    </a:lnTo>
                    <a:lnTo>
                      <a:pt x="216" y="48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10" y="54"/>
                    </a:lnTo>
                    <a:lnTo>
                      <a:pt x="216" y="54"/>
                    </a:lnTo>
                    <a:lnTo>
                      <a:pt x="222" y="54"/>
                    </a:lnTo>
                    <a:lnTo>
                      <a:pt x="228" y="54"/>
                    </a:lnTo>
                    <a:lnTo>
                      <a:pt x="234" y="54"/>
                    </a:lnTo>
                    <a:lnTo>
                      <a:pt x="240" y="54"/>
                    </a:lnTo>
                    <a:lnTo>
                      <a:pt x="240" y="60"/>
                    </a:lnTo>
                    <a:lnTo>
                      <a:pt x="246" y="60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40" y="72"/>
                    </a:lnTo>
                    <a:lnTo>
                      <a:pt x="240" y="66"/>
                    </a:lnTo>
                    <a:lnTo>
                      <a:pt x="234" y="72"/>
                    </a:lnTo>
                    <a:lnTo>
                      <a:pt x="228" y="72"/>
                    </a:lnTo>
                    <a:lnTo>
                      <a:pt x="222" y="72"/>
                    </a:lnTo>
                    <a:lnTo>
                      <a:pt x="222" y="66"/>
                    </a:lnTo>
                    <a:lnTo>
                      <a:pt x="216" y="66"/>
                    </a:lnTo>
                    <a:lnTo>
                      <a:pt x="210" y="66"/>
                    </a:lnTo>
                    <a:lnTo>
                      <a:pt x="210" y="72"/>
                    </a:lnTo>
                    <a:lnTo>
                      <a:pt x="210" y="78"/>
                    </a:lnTo>
                    <a:lnTo>
                      <a:pt x="216" y="78"/>
                    </a:lnTo>
                    <a:lnTo>
                      <a:pt x="222" y="78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84"/>
                    </a:lnTo>
                    <a:lnTo>
                      <a:pt x="246" y="84"/>
                    </a:lnTo>
                    <a:lnTo>
                      <a:pt x="246" y="90"/>
                    </a:lnTo>
                    <a:lnTo>
                      <a:pt x="240" y="90"/>
                    </a:lnTo>
                    <a:lnTo>
                      <a:pt x="234" y="90"/>
                    </a:lnTo>
                    <a:lnTo>
                      <a:pt x="228" y="90"/>
                    </a:lnTo>
                    <a:lnTo>
                      <a:pt x="222" y="90"/>
                    </a:lnTo>
                    <a:lnTo>
                      <a:pt x="210" y="90"/>
                    </a:lnTo>
                    <a:lnTo>
                      <a:pt x="204" y="90"/>
                    </a:lnTo>
                    <a:lnTo>
                      <a:pt x="198" y="90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92" y="102"/>
                    </a:lnTo>
                    <a:lnTo>
                      <a:pt x="198" y="102"/>
                    </a:lnTo>
                    <a:lnTo>
                      <a:pt x="204" y="102"/>
                    </a:lnTo>
                    <a:lnTo>
                      <a:pt x="210" y="102"/>
                    </a:lnTo>
                    <a:lnTo>
                      <a:pt x="216" y="102"/>
                    </a:lnTo>
                    <a:lnTo>
                      <a:pt x="222" y="102"/>
                    </a:lnTo>
                    <a:lnTo>
                      <a:pt x="228" y="102"/>
                    </a:lnTo>
                    <a:lnTo>
                      <a:pt x="234" y="102"/>
                    </a:lnTo>
                    <a:lnTo>
                      <a:pt x="240" y="108"/>
                    </a:lnTo>
                    <a:lnTo>
                      <a:pt x="246" y="108"/>
                    </a:lnTo>
                    <a:lnTo>
                      <a:pt x="252" y="114"/>
                    </a:lnTo>
                    <a:lnTo>
                      <a:pt x="258" y="114"/>
                    </a:lnTo>
                    <a:lnTo>
                      <a:pt x="258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6"/>
                    </a:lnTo>
                    <a:lnTo>
                      <a:pt x="282" y="132"/>
                    </a:lnTo>
                    <a:lnTo>
                      <a:pt x="288" y="132"/>
                    </a:lnTo>
                    <a:lnTo>
                      <a:pt x="288" y="138"/>
                    </a:lnTo>
                    <a:lnTo>
                      <a:pt x="294" y="138"/>
                    </a:lnTo>
                    <a:lnTo>
                      <a:pt x="300" y="138"/>
                    </a:lnTo>
                    <a:lnTo>
                      <a:pt x="306" y="138"/>
                    </a:lnTo>
                    <a:lnTo>
                      <a:pt x="312" y="138"/>
                    </a:lnTo>
                    <a:lnTo>
                      <a:pt x="318" y="138"/>
                    </a:lnTo>
                    <a:lnTo>
                      <a:pt x="324" y="138"/>
                    </a:lnTo>
                    <a:lnTo>
                      <a:pt x="330" y="132"/>
                    </a:lnTo>
                    <a:lnTo>
                      <a:pt x="336" y="132"/>
                    </a:lnTo>
                    <a:lnTo>
                      <a:pt x="342" y="132"/>
                    </a:lnTo>
                    <a:lnTo>
                      <a:pt x="348" y="126"/>
                    </a:lnTo>
                    <a:lnTo>
                      <a:pt x="354" y="126"/>
                    </a:lnTo>
                    <a:lnTo>
                      <a:pt x="360" y="126"/>
                    </a:lnTo>
                    <a:lnTo>
                      <a:pt x="366" y="126"/>
                    </a:lnTo>
                    <a:lnTo>
                      <a:pt x="372" y="126"/>
                    </a:lnTo>
                    <a:lnTo>
                      <a:pt x="384" y="126"/>
                    </a:lnTo>
                    <a:lnTo>
                      <a:pt x="402" y="132"/>
                    </a:lnTo>
                    <a:lnTo>
                      <a:pt x="408" y="132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2"/>
                    </a:lnTo>
                    <a:lnTo>
                      <a:pt x="432" y="132"/>
                    </a:lnTo>
                    <a:lnTo>
                      <a:pt x="438" y="132"/>
                    </a:lnTo>
                    <a:lnTo>
                      <a:pt x="444" y="132"/>
                    </a:lnTo>
                    <a:lnTo>
                      <a:pt x="444" y="138"/>
                    </a:lnTo>
                    <a:lnTo>
                      <a:pt x="450" y="138"/>
                    </a:lnTo>
                    <a:lnTo>
                      <a:pt x="450" y="144"/>
                    </a:lnTo>
                    <a:lnTo>
                      <a:pt x="456" y="144"/>
                    </a:lnTo>
                    <a:lnTo>
                      <a:pt x="462" y="144"/>
                    </a:lnTo>
                    <a:lnTo>
                      <a:pt x="468" y="144"/>
                    </a:lnTo>
                    <a:lnTo>
                      <a:pt x="474" y="144"/>
                    </a:lnTo>
                    <a:lnTo>
                      <a:pt x="480" y="144"/>
                    </a:lnTo>
                    <a:lnTo>
                      <a:pt x="486" y="144"/>
                    </a:lnTo>
                    <a:lnTo>
                      <a:pt x="492" y="144"/>
                    </a:lnTo>
                    <a:lnTo>
                      <a:pt x="498" y="144"/>
                    </a:lnTo>
                    <a:lnTo>
                      <a:pt x="504" y="144"/>
                    </a:lnTo>
                    <a:lnTo>
                      <a:pt x="510" y="150"/>
                    </a:lnTo>
                    <a:lnTo>
                      <a:pt x="504" y="150"/>
                    </a:lnTo>
                    <a:lnTo>
                      <a:pt x="498" y="150"/>
                    </a:lnTo>
                    <a:lnTo>
                      <a:pt x="492" y="150"/>
                    </a:lnTo>
                    <a:lnTo>
                      <a:pt x="486" y="150"/>
                    </a:lnTo>
                    <a:lnTo>
                      <a:pt x="480" y="150"/>
                    </a:lnTo>
                    <a:lnTo>
                      <a:pt x="474" y="150"/>
                    </a:lnTo>
                    <a:lnTo>
                      <a:pt x="468" y="150"/>
                    </a:lnTo>
                    <a:lnTo>
                      <a:pt x="462" y="150"/>
                    </a:lnTo>
                    <a:lnTo>
                      <a:pt x="450" y="150"/>
                    </a:lnTo>
                    <a:lnTo>
                      <a:pt x="444" y="150"/>
                    </a:lnTo>
                    <a:lnTo>
                      <a:pt x="438" y="150"/>
                    </a:lnTo>
                    <a:lnTo>
                      <a:pt x="432" y="150"/>
                    </a:lnTo>
                    <a:lnTo>
                      <a:pt x="432" y="156"/>
                    </a:lnTo>
                    <a:lnTo>
                      <a:pt x="438" y="156"/>
                    </a:lnTo>
                    <a:lnTo>
                      <a:pt x="444" y="162"/>
                    </a:lnTo>
                    <a:lnTo>
                      <a:pt x="450" y="162"/>
                    </a:lnTo>
                    <a:lnTo>
                      <a:pt x="456" y="162"/>
                    </a:lnTo>
                    <a:lnTo>
                      <a:pt x="462" y="162"/>
                    </a:lnTo>
                    <a:lnTo>
                      <a:pt x="468" y="162"/>
                    </a:lnTo>
                    <a:lnTo>
                      <a:pt x="474" y="162"/>
                    </a:lnTo>
                    <a:lnTo>
                      <a:pt x="480" y="162"/>
                    </a:lnTo>
                    <a:lnTo>
                      <a:pt x="486" y="162"/>
                    </a:lnTo>
                    <a:lnTo>
                      <a:pt x="492" y="162"/>
                    </a:lnTo>
                    <a:lnTo>
                      <a:pt x="498" y="162"/>
                    </a:lnTo>
                    <a:lnTo>
                      <a:pt x="504" y="162"/>
                    </a:lnTo>
                    <a:lnTo>
                      <a:pt x="510" y="156"/>
                    </a:lnTo>
                    <a:lnTo>
                      <a:pt x="516" y="156"/>
                    </a:lnTo>
                    <a:lnTo>
                      <a:pt x="522" y="150"/>
                    </a:lnTo>
                    <a:lnTo>
                      <a:pt x="522" y="156"/>
                    </a:lnTo>
                    <a:lnTo>
                      <a:pt x="522" y="162"/>
                    </a:lnTo>
                    <a:lnTo>
                      <a:pt x="516" y="162"/>
                    </a:lnTo>
                    <a:lnTo>
                      <a:pt x="510" y="162"/>
                    </a:lnTo>
                    <a:lnTo>
                      <a:pt x="504" y="162"/>
                    </a:lnTo>
                    <a:lnTo>
                      <a:pt x="498" y="162"/>
                    </a:lnTo>
                    <a:lnTo>
                      <a:pt x="492" y="168"/>
                    </a:lnTo>
                    <a:lnTo>
                      <a:pt x="486" y="168"/>
                    </a:lnTo>
                    <a:lnTo>
                      <a:pt x="480" y="168"/>
                    </a:lnTo>
                    <a:lnTo>
                      <a:pt x="474" y="168"/>
                    </a:lnTo>
                    <a:lnTo>
                      <a:pt x="468" y="168"/>
                    </a:lnTo>
                    <a:lnTo>
                      <a:pt x="462" y="168"/>
                    </a:lnTo>
                    <a:lnTo>
                      <a:pt x="456" y="168"/>
                    </a:lnTo>
                    <a:lnTo>
                      <a:pt x="450" y="168"/>
                    </a:lnTo>
                    <a:lnTo>
                      <a:pt x="432" y="162"/>
                    </a:lnTo>
                    <a:lnTo>
                      <a:pt x="420" y="162"/>
                    </a:lnTo>
                    <a:lnTo>
                      <a:pt x="420" y="168"/>
                    </a:lnTo>
                    <a:lnTo>
                      <a:pt x="426" y="168"/>
                    </a:lnTo>
                    <a:lnTo>
                      <a:pt x="426" y="174"/>
                    </a:lnTo>
                    <a:lnTo>
                      <a:pt x="432" y="174"/>
                    </a:lnTo>
                    <a:lnTo>
                      <a:pt x="438" y="174"/>
                    </a:lnTo>
                    <a:lnTo>
                      <a:pt x="444" y="180"/>
                    </a:lnTo>
                    <a:lnTo>
                      <a:pt x="450" y="180"/>
                    </a:lnTo>
                    <a:lnTo>
                      <a:pt x="456" y="180"/>
                    </a:lnTo>
                    <a:lnTo>
                      <a:pt x="462" y="180"/>
                    </a:lnTo>
                    <a:lnTo>
                      <a:pt x="468" y="180"/>
                    </a:lnTo>
                    <a:lnTo>
                      <a:pt x="474" y="180"/>
                    </a:lnTo>
                    <a:lnTo>
                      <a:pt x="486" y="180"/>
                    </a:lnTo>
                    <a:lnTo>
                      <a:pt x="492" y="180"/>
                    </a:lnTo>
                    <a:lnTo>
                      <a:pt x="498" y="180"/>
                    </a:lnTo>
                    <a:lnTo>
                      <a:pt x="504" y="180"/>
                    </a:lnTo>
                    <a:lnTo>
                      <a:pt x="510" y="180"/>
                    </a:lnTo>
                    <a:lnTo>
                      <a:pt x="516" y="180"/>
                    </a:lnTo>
                    <a:lnTo>
                      <a:pt x="516" y="174"/>
                    </a:lnTo>
                    <a:lnTo>
                      <a:pt x="522" y="174"/>
                    </a:lnTo>
                    <a:lnTo>
                      <a:pt x="528" y="168"/>
                    </a:lnTo>
                    <a:lnTo>
                      <a:pt x="528" y="162"/>
                    </a:lnTo>
                    <a:lnTo>
                      <a:pt x="534" y="162"/>
                    </a:lnTo>
                    <a:lnTo>
                      <a:pt x="534" y="168"/>
                    </a:lnTo>
                    <a:lnTo>
                      <a:pt x="528" y="168"/>
                    </a:lnTo>
                    <a:lnTo>
                      <a:pt x="528" y="174"/>
                    </a:lnTo>
                    <a:lnTo>
                      <a:pt x="522" y="174"/>
                    </a:lnTo>
                    <a:lnTo>
                      <a:pt x="522" y="180"/>
                    </a:lnTo>
                    <a:lnTo>
                      <a:pt x="516" y="180"/>
                    </a:lnTo>
                    <a:lnTo>
                      <a:pt x="510" y="186"/>
                    </a:lnTo>
                    <a:lnTo>
                      <a:pt x="504" y="186"/>
                    </a:lnTo>
                    <a:lnTo>
                      <a:pt x="498" y="186"/>
                    </a:lnTo>
                    <a:lnTo>
                      <a:pt x="492" y="186"/>
                    </a:lnTo>
                    <a:lnTo>
                      <a:pt x="486" y="186"/>
                    </a:lnTo>
                    <a:lnTo>
                      <a:pt x="480" y="186"/>
                    </a:lnTo>
                    <a:lnTo>
                      <a:pt x="474" y="186"/>
                    </a:lnTo>
                    <a:lnTo>
                      <a:pt x="468" y="186"/>
                    </a:lnTo>
                    <a:lnTo>
                      <a:pt x="462" y="186"/>
                    </a:lnTo>
                    <a:lnTo>
                      <a:pt x="444" y="186"/>
                    </a:lnTo>
                    <a:lnTo>
                      <a:pt x="432" y="186"/>
                    </a:lnTo>
                    <a:lnTo>
                      <a:pt x="426" y="180"/>
                    </a:lnTo>
                    <a:lnTo>
                      <a:pt x="420" y="180"/>
                    </a:lnTo>
                    <a:lnTo>
                      <a:pt x="414" y="180"/>
                    </a:lnTo>
                    <a:lnTo>
                      <a:pt x="408" y="180"/>
                    </a:lnTo>
                    <a:lnTo>
                      <a:pt x="402" y="180"/>
                    </a:lnTo>
                    <a:lnTo>
                      <a:pt x="396" y="180"/>
                    </a:lnTo>
                    <a:lnTo>
                      <a:pt x="384" y="180"/>
                    </a:lnTo>
                    <a:lnTo>
                      <a:pt x="378" y="180"/>
                    </a:lnTo>
                    <a:lnTo>
                      <a:pt x="372" y="180"/>
                    </a:lnTo>
                    <a:lnTo>
                      <a:pt x="360" y="174"/>
                    </a:lnTo>
                    <a:lnTo>
                      <a:pt x="354" y="174"/>
                    </a:lnTo>
                    <a:lnTo>
                      <a:pt x="348" y="174"/>
                    </a:lnTo>
                    <a:lnTo>
                      <a:pt x="330" y="174"/>
                    </a:lnTo>
                    <a:lnTo>
                      <a:pt x="318" y="168"/>
                    </a:lnTo>
                    <a:lnTo>
                      <a:pt x="300" y="168"/>
                    </a:lnTo>
                    <a:lnTo>
                      <a:pt x="288" y="162"/>
                    </a:lnTo>
                    <a:lnTo>
                      <a:pt x="258" y="162"/>
                    </a:lnTo>
                    <a:lnTo>
                      <a:pt x="228" y="156"/>
                    </a:lnTo>
                    <a:lnTo>
                      <a:pt x="210" y="150"/>
                    </a:lnTo>
                    <a:lnTo>
                      <a:pt x="192" y="150"/>
                    </a:lnTo>
                    <a:lnTo>
                      <a:pt x="180" y="144"/>
                    </a:lnTo>
                    <a:lnTo>
                      <a:pt x="162" y="144"/>
                    </a:lnTo>
                    <a:lnTo>
                      <a:pt x="156" y="144"/>
                    </a:lnTo>
                    <a:lnTo>
                      <a:pt x="150" y="144"/>
                    </a:lnTo>
                    <a:lnTo>
                      <a:pt x="144" y="144"/>
                    </a:lnTo>
                    <a:lnTo>
                      <a:pt x="138" y="144"/>
                    </a:lnTo>
                    <a:lnTo>
                      <a:pt x="132" y="144"/>
                    </a:lnTo>
                    <a:lnTo>
                      <a:pt x="126" y="144"/>
                    </a:lnTo>
                    <a:lnTo>
                      <a:pt x="120" y="144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96" y="150"/>
                    </a:lnTo>
                    <a:lnTo>
                      <a:pt x="90" y="150"/>
                    </a:lnTo>
                    <a:lnTo>
                      <a:pt x="84" y="150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2" y="156"/>
                    </a:lnTo>
                    <a:lnTo>
                      <a:pt x="72" y="162"/>
                    </a:lnTo>
                    <a:lnTo>
                      <a:pt x="66" y="162"/>
                    </a:lnTo>
                    <a:lnTo>
                      <a:pt x="66" y="156"/>
                    </a:lnTo>
                    <a:lnTo>
                      <a:pt x="66" y="150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78" y="138"/>
                    </a:lnTo>
                    <a:lnTo>
                      <a:pt x="78" y="132"/>
                    </a:lnTo>
                    <a:lnTo>
                      <a:pt x="84" y="132"/>
                    </a:lnTo>
                    <a:lnTo>
                      <a:pt x="84" y="126"/>
                    </a:lnTo>
                    <a:lnTo>
                      <a:pt x="90" y="120"/>
                    </a:lnTo>
                    <a:lnTo>
                      <a:pt x="102" y="114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38" y="78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14" y="60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6" y="12"/>
                    </a:lnTo>
                    <a:lnTo>
                      <a:pt x="252" y="18"/>
                    </a:lnTo>
                    <a:lnTo>
                      <a:pt x="258" y="18"/>
                    </a:lnTo>
                    <a:lnTo>
                      <a:pt x="264" y="18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74200" y="403200"/>
                <a:ext cx="40680" cy="1548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0"/>
                    </a:moveTo>
                    <a:lnTo>
                      <a:pt x="42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1840320" y="519480"/>
                <a:ext cx="70200" cy="540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6"/>
                    </a:move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2127600" y="573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1840320" y="566280"/>
                <a:ext cx="34920" cy="309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6"/>
                    </a:move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03080" y="504000"/>
                <a:ext cx="64440" cy="309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12"/>
                    </a:moveTo>
                    <a:lnTo>
                      <a:pt x="66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5" name=""/>
            <p:cNvSpPr/>
            <p:nvPr/>
          </p:nvSpPr>
          <p:spPr>
            <a:xfrm>
              <a:off x="827640" y="250920"/>
              <a:ext cx="73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lticmd"/>
                </a:rPr>
                <a:t>Albar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6" name=""/>
          <p:cNvGrpSpPr/>
          <p:nvPr/>
        </p:nvGrpSpPr>
        <p:grpSpPr>
          <a:xfrm>
            <a:off x="7331040" y="4327560"/>
            <a:ext cx="219240" cy="218880"/>
            <a:chOff x="7331040" y="4327560"/>
            <a:chExt cx="219240" cy="218880"/>
          </a:xfrm>
        </p:grpSpPr>
        <p:sp>
          <p:nvSpPr>
            <p:cNvPr id="2847" name=""/>
            <p:cNvSpPr/>
            <p:nvPr/>
          </p:nvSpPr>
          <p:spPr>
            <a:xfrm>
              <a:off x="7367400" y="4363920"/>
              <a:ext cx="36360" cy="14616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342" y="342"/>
                  </a:moveTo>
                  <a:lnTo>
                    <a:pt x="0" y="0"/>
                  </a:lnTo>
                  <a:lnTo>
                    <a:pt x="0" y="1374"/>
                  </a:lnTo>
                  <a:lnTo>
                    <a:pt x="342" y="1032"/>
                  </a:lnTo>
                  <a:lnTo>
                    <a:pt x="342" y="34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331040" y="4327560"/>
              <a:ext cx="36360" cy="21888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0" y="0"/>
                  </a:moveTo>
                  <a:lnTo>
                    <a:pt x="342" y="342"/>
                  </a:lnTo>
                  <a:lnTo>
                    <a:pt x="342" y="1716"/>
                  </a:lnTo>
                  <a:lnTo>
                    <a:pt x="0" y="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367400" y="447372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342" y="0"/>
                  </a:moveTo>
                  <a:lnTo>
                    <a:pt x="0" y="342"/>
                  </a:lnTo>
                  <a:lnTo>
                    <a:pt x="1374" y="342"/>
                  </a:lnTo>
                  <a:lnTo>
                    <a:pt x="103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331040" y="451008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0" y="342"/>
                  </a:moveTo>
                  <a:lnTo>
                    <a:pt x="342" y="0"/>
                  </a:lnTo>
                  <a:lnTo>
                    <a:pt x="1716" y="0"/>
                  </a:lnTo>
                  <a:lnTo>
                    <a:pt x="2058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477560" y="4363920"/>
              <a:ext cx="36360" cy="14616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0" y="1032"/>
                  </a:moveTo>
                  <a:lnTo>
                    <a:pt x="342" y="1374"/>
                  </a:lnTo>
                  <a:lnTo>
                    <a:pt x="342" y="0"/>
                  </a:lnTo>
                  <a:lnTo>
                    <a:pt x="0" y="34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513920" y="4327560"/>
              <a:ext cx="36360" cy="21888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342" y="2058"/>
                  </a:moveTo>
                  <a:lnTo>
                    <a:pt x="0" y="1716"/>
                  </a:lnTo>
                  <a:lnTo>
                    <a:pt x="0" y="342"/>
                  </a:lnTo>
                  <a:lnTo>
                    <a:pt x="342" y="0"/>
                  </a:lnTo>
                  <a:lnTo>
                    <a:pt x="342" y="205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367400" y="436392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1032" y="342"/>
                  </a:moveTo>
                  <a:lnTo>
                    <a:pt x="1374" y="0"/>
                  </a:lnTo>
                  <a:lnTo>
                    <a:pt x="0" y="0"/>
                  </a:lnTo>
                  <a:lnTo>
                    <a:pt x="342" y="342"/>
                  </a:lnTo>
                  <a:lnTo>
                    <a:pt x="1032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331040" y="432756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2058" y="0"/>
                  </a:moveTo>
                  <a:lnTo>
                    <a:pt x="1716" y="342"/>
                  </a:lnTo>
                  <a:lnTo>
                    <a:pt x="342" y="342"/>
                  </a:lnTo>
                  <a:lnTo>
                    <a:pt x="0" y="0"/>
                  </a:lnTo>
                  <a:lnTo>
                    <a:pt x="205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7331040" y="4575240"/>
            <a:ext cx="219240" cy="218880"/>
            <a:chOff x="7331040" y="4575240"/>
            <a:chExt cx="219240" cy="218880"/>
          </a:xfrm>
        </p:grpSpPr>
        <p:sp>
          <p:nvSpPr>
            <p:cNvPr id="2856" name=""/>
            <p:cNvSpPr/>
            <p:nvPr/>
          </p:nvSpPr>
          <p:spPr>
            <a:xfrm>
              <a:off x="7367400" y="4611600"/>
              <a:ext cx="36360" cy="14616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342" y="342"/>
                  </a:moveTo>
                  <a:lnTo>
                    <a:pt x="0" y="0"/>
                  </a:lnTo>
                  <a:lnTo>
                    <a:pt x="0" y="1374"/>
                  </a:lnTo>
                  <a:lnTo>
                    <a:pt x="342" y="1032"/>
                  </a:lnTo>
                  <a:lnTo>
                    <a:pt x="342" y="34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331040" y="4575240"/>
              <a:ext cx="36360" cy="21888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0" y="0"/>
                  </a:moveTo>
                  <a:lnTo>
                    <a:pt x="342" y="342"/>
                  </a:lnTo>
                  <a:lnTo>
                    <a:pt x="342" y="1716"/>
                  </a:lnTo>
                  <a:lnTo>
                    <a:pt x="0" y="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367400" y="472140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342" y="0"/>
                  </a:moveTo>
                  <a:lnTo>
                    <a:pt x="0" y="342"/>
                  </a:lnTo>
                  <a:lnTo>
                    <a:pt x="1374" y="342"/>
                  </a:lnTo>
                  <a:lnTo>
                    <a:pt x="103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331040" y="475776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0" y="342"/>
                  </a:moveTo>
                  <a:lnTo>
                    <a:pt x="342" y="0"/>
                  </a:lnTo>
                  <a:lnTo>
                    <a:pt x="1716" y="0"/>
                  </a:lnTo>
                  <a:lnTo>
                    <a:pt x="2058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477560" y="4611600"/>
              <a:ext cx="36360" cy="14616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0" y="1032"/>
                  </a:moveTo>
                  <a:lnTo>
                    <a:pt x="342" y="1374"/>
                  </a:lnTo>
                  <a:lnTo>
                    <a:pt x="342" y="0"/>
                  </a:lnTo>
                  <a:lnTo>
                    <a:pt x="0" y="34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513920" y="4575240"/>
              <a:ext cx="36360" cy="21888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342" y="2058"/>
                  </a:moveTo>
                  <a:lnTo>
                    <a:pt x="0" y="1716"/>
                  </a:lnTo>
                  <a:lnTo>
                    <a:pt x="0" y="342"/>
                  </a:lnTo>
                  <a:lnTo>
                    <a:pt x="342" y="0"/>
                  </a:lnTo>
                  <a:lnTo>
                    <a:pt x="342" y="205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367400" y="461160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1032" y="342"/>
                  </a:moveTo>
                  <a:lnTo>
                    <a:pt x="1374" y="0"/>
                  </a:lnTo>
                  <a:lnTo>
                    <a:pt x="0" y="0"/>
                  </a:lnTo>
                  <a:lnTo>
                    <a:pt x="342" y="342"/>
                  </a:lnTo>
                  <a:lnTo>
                    <a:pt x="1032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331040" y="457524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2058" y="0"/>
                  </a:moveTo>
                  <a:lnTo>
                    <a:pt x="1716" y="342"/>
                  </a:lnTo>
                  <a:lnTo>
                    <a:pt x="342" y="342"/>
                  </a:lnTo>
                  <a:lnTo>
                    <a:pt x="0" y="0"/>
                  </a:lnTo>
                  <a:lnTo>
                    <a:pt x="205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8294760" y="2769840"/>
            <a:ext cx="174600" cy="176040"/>
            <a:chOff x="8294760" y="2769840"/>
            <a:chExt cx="174600" cy="176040"/>
          </a:xfrm>
        </p:grpSpPr>
        <p:sp>
          <p:nvSpPr>
            <p:cNvPr id="2865" name=""/>
            <p:cNvSpPr/>
            <p:nvPr/>
          </p:nvSpPr>
          <p:spPr>
            <a:xfrm rot="16200000">
              <a:off x="8256960" y="28832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rot="16200000">
              <a:off x="8331840" y="28080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16200000">
              <a:off x="8356680" y="28332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rot="16200000">
              <a:off x="8406720" y="2732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rot="16200000">
              <a:off x="8331120" y="2807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rot="16200000">
              <a:off x="8356320" y="28328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1" name=""/>
          <p:cNvGrpSpPr/>
          <p:nvPr/>
        </p:nvGrpSpPr>
        <p:grpSpPr>
          <a:xfrm>
            <a:off x="922320" y="1593360"/>
            <a:ext cx="227160" cy="226080"/>
            <a:chOff x="922320" y="1593360"/>
            <a:chExt cx="227160" cy="226080"/>
          </a:xfrm>
        </p:grpSpPr>
        <p:sp>
          <p:nvSpPr>
            <p:cNvPr id="2872" name=""/>
            <p:cNvSpPr/>
            <p:nvPr/>
          </p:nvSpPr>
          <p:spPr>
            <a:xfrm flipV="1">
              <a:off x="922320" y="1786680"/>
              <a:ext cx="130320" cy="320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987480" y="1658880"/>
              <a:ext cx="65160" cy="160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922320" y="1593000"/>
              <a:ext cx="65160" cy="22572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V="1">
              <a:off x="1117440" y="1593720"/>
              <a:ext cx="32040" cy="1288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987480" y="1658160"/>
              <a:ext cx="162000" cy="6372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922320" y="1593000"/>
              <a:ext cx="227160" cy="6516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4554360" y="6156360"/>
            <a:ext cx="308160" cy="181080"/>
            <a:chOff x="4554360" y="6156360"/>
            <a:chExt cx="308160" cy="181080"/>
          </a:xfrm>
        </p:grpSpPr>
        <p:sp>
          <p:nvSpPr>
            <p:cNvPr id="2879" name=""/>
            <p:cNvSpPr/>
            <p:nvPr/>
          </p:nvSpPr>
          <p:spPr>
            <a:xfrm>
              <a:off x="4554360" y="6156360"/>
              <a:ext cx="116280" cy="14040"/>
            </a:xfrm>
            <a:custGeom>
              <a:avLst/>
              <a:gdLst/>
              <a:ahLst/>
              <a:rect l="l" t="t" r="r" b="b"/>
              <a:pathLst>
                <a:path w="816" h="138">
                  <a:moveTo>
                    <a:pt x="816" y="0"/>
                  </a:moveTo>
                  <a:lnTo>
                    <a:pt x="0" y="0"/>
                  </a:lnTo>
                  <a:lnTo>
                    <a:pt x="408" y="138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612320" y="6156360"/>
              <a:ext cx="57960" cy="138960"/>
            </a:xfrm>
            <a:custGeom>
              <a:avLst/>
              <a:gdLst/>
              <a:ahLst/>
              <a:rect l="l" t="t" r="r" b="b"/>
              <a:pathLst>
                <a:path w="408" h="1344">
                  <a:moveTo>
                    <a:pt x="408" y="0"/>
                  </a:moveTo>
                  <a:lnTo>
                    <a:pt x="0" y="138"/>
                  </a:lnTo>
                  <a:lnTo>
                    <a:pt x="0" y="1344"/>
                  </a:lnTo>
                  <a:lnTo>
                    <a:pt x="408" y="936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554360" y="6156360"/>
              <a:ext cx="57960" cy="181080"/>
            </a:xfrm>
            <a:custGeom>
              <a:avLst/>
              <a:gdLst/>
              <a:ahLst/>
              <a:rect l="l" t="t" r="r" b="b"/>
              <a:pathLst>
                <a:path w="408" h="1752">
                  <a:moveTo>
                    <a:pt x="0" y="0"/>
                  </a:moveTo>
                  <a:lnTo>
                    <a:pt x="408" y="138"/>
                  </a:lnTo>
                  <a:lnTo>
                    <a:pt x="408" y="1344"/>
                  </a:lnTo>
                  <a:lnTo>
                    <a:pt x="0" y="17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612320" y="6253200"/>
              <a:ext cx="191880" cy="42120"/>
            </a:xfrm>
            <a:custGeom>
              <a:avLst/>
              <a:gdLst/>
              <a:ahLst/>
              <a:rect l="l" t="t" r="r" b="b"/>
              <a:pathLst>
                <a:path w="1344" h="408">
                  <a:moveTo>
                    <a:pt x="408" y="0"/>
                  </a:moveTo>
                  <a:lnTo>
                    <a:pt x="0" y="408"/>
                  </a:lnTo>
                  <a:lnTo>
                    <a:pt x="1344" y="408"/>
                  </a:lnTo>
                  <a:lnTo>
                    <a:pt x="936" y="0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554360" y="6295320"/>
              <a:ext cx="308160" cy="42120"/>
            </a:xfrm>
            <a:custGeom>
              <a:avLst/>
              <a:gdLst/>
              <a:ahLst/>
              <a:rect l="l" t="t" r="r" b="b"/>
              <a:pathLst>
                <a:path w="2160" h="408">
                  <a:moveTo>
                    <a:pt x="0" y="408"/>
                  </a:moveTo>
                  <a:lnTo>
                    <a:pt x="408" y="0"/>
                  </a:lnTo>
                  <a:lnTo>
                    <a:pt x="1752" y="0"/>
                  </a:lnTo>
                  <a:lnTo>
                    <a:pt x="2160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746240" y="6156360"/>
              <a:ext cx="116280" cy="14040"/>
            </a:xfrm>
            <a:custGeom>
              <a:avLst/>
              <a:gdLst/>
              <a:ahLst/>
              <a:rect l="l" t="t" r="r" b="b"/>
              <a:pathLst>
                <a:path w="816" h="138">
                  <a:moveTo>
                    <a:pt x="0" y="0"/>
                  </a:moveTo>
                  <a:lnTo>
                    <a:pt x="816" y="0"/>
                  </a:lnTo>
                  <a:lnTo>
                    <a:pt x="408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746240" y="6156360"/>
              <a:ext cx="57960" cy="138960"/>
            </a:xfrm>
            <a:custGeom>
              <a:avLst/>
              <a:gdLst/>
              <a:ahLst/>
              <a:rect l="l" t="t" r="r" b="b"/>
              <a:pathLst>
                <a:path w="408" h="1344">
                  <a:moveTo>
                    <a:pt x="0" y="936"/>
                  </a:moveTo>
                  <a:lnTo>
                    <a:pt x="408" y="1344"/>
                  </a:lnTo>
                  <a:lnTo>
                    <a:pt x="408" y="138"/>
                  </a:lnTo>
                  <a:lnTo>
                    <a:pt x="0" y="0"/>
                  </a:lnTo>
                  <a:lnTo>
                    <a:pt x="0" y="936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804200" y="6156360"/>
              <a:ext cx="57960" cy="181080"/>
            </a:xfrm>
            <a:custGeom>
              <a:avLst/>
              <a:gdLst/>
              <a:ahLst/>
              <a:rect l="l" t="t" r="r" b="b"/>
              <a:pathLst>
                <a:path w="408" h="1752">
                  <a:moveTo>
                    <a:pt x="408" y="1752"/>
                  </a:moveTo>
                  <a:lnTo>
                    <a:pt x="0" y="1344"/>
                  </a:lnTo>
                  <a:lnTo>
                    <a:pt x="0" y="138"/>
                  </a:lnTo>
                  <a:lnTo>
                    <a:pt x="408" y="0"/>
                  </a:lnTo>
                  <a:lnTo>
                    <a:pt x="408" y="175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3430080" y="2957760"/>
            <a:ext cx="289080" cy="255240"/>
            <a:chOff x="3430080" y="2957760"/>
            <a:chExt cx="289080" cy="255240"/>
          </a:xfrm>
        </p:grpSpPr>
        <p:sp>
          <p:nvSpPr>
            <p:cNvPr id="2888" name=""/>
            <p:cNvSpPr/>
            <p:nvPr/>
          </p:nvSpPr>
          <p:spPr>
            <a:xfrm rot="10800000">
              <a:off x="3430080" y="3086280"/>
              <a:ext cx="289080" cy="748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rot="10800000">
              <a:off x="3430080" y="3011400"/>
              <a:ext cx="289080" cy="748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0" name=""/>
            <p:cNvGrpSpPr/>
            <p:nvPr/>
          </p:nvGrpSpPr>
          <p:grpSpPr>
            <a:xfrm>
              <a:off x="3481560" y="2957760"/>
              <a:ext cx="186120" cy="101880"/>
              <a:chOff x="3481560" y="2957760"/>
              <a:chExt cx="186120" cy="101880"/>
            </a:xfrm>
          </p:grpSpPr>
          <p:sp>
            <p:nvSpPr>
              <p:cNvPr id="2891" name=""/>
              <p:cNvSpPr/>
              <p:nvPr/>
            </p:nvSpPr>
            <p:spPr>
              <a:xfrm rot="16200000">
                <a:off x="3477240" y="2962080"/>
                <a:ext cx="101880" cy="932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 rot="16200000">
                <a:off x="3570120" y="2961720"/>
                <a:ext cx="101880" cy="932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3481560" y="3110760"/>
              <a:ext cx="186120" cy="102240"/>
              <a:chOff x="3481560" y="3110760"/>
              <a:chExt cx="186120" cy="102240"/>
            </a:xfrm>
          </p:grpSpPr>
          <p:sp>
            <p:nvSpPr>
              <p:cNvPr id="2894" name=""/>
              <p:cNvSpPr/>
              <p:nvPr/>
            </p:nvSpPr>
            <p:spPr>
              <a:xfrm flipH="1" rot="16200000">
                <a:off x="3476520" y="3115080"/>
                <a:ext cx="102240" cy="932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 flipV="1" rot="16200000">
                <a:off x="3569400" y="3115080"/>
                <a:ext cx="102240" cy="932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96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6" name=""/>
          <p:cNvSpPr/>
          <p:nvPr/>
        </p:nvSpPr>
        <p:spPr>
          <a:xfrm flipV="1">
            <a:off x="2498760" y="3271680"/>
            <a:ext cx="0" cy="7632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7" name=""/>
          <p:cNvGrpSpPr/>
          <p:nvPr/>
        </p:nvGrpSpPr>
        <p:grpSpPr>
          <a:xfrm>
            <a:off x="1130400" y="3672000"/>
            <a:ext cx="476280" cy="496800"/>
            <a:chOff x="1130400" y="3672000"/>
            <a:chExt cx="476280" cy="496800"/>
          </a:xfrm>
        </p:grpSpPr>
        <p:sp>
          <p:nvSpPr>
            <p:cNvPr id="2898" name=""/>
            <p:cNvSpPr/>
            <p:nvPr/>
          </p:nvSpPr>
          <p:spPr>
            <a:xfrm>
              <a:off x="1130400" y="3672000"/>
              <a:ext cx="476280" cy="484200"/>
            </a:xfrm>
            <a:custGeom>
              <a:avLst/>
              <a:gdLst/>
              <a:ahLst/>
              <a:rect l="l" t="t" r="r" b="b"/>
              <a:pathLst>
                <a:path w="240" h="446">
                  <a:moveTo>
                    <a:pt x="96" y="0"/>
                  </a:moveTo>
                  <a:lnTo>
                    <a:pt x="240" y="0"/>
                  </a:lnTo>
                  <a:lnTo>
                    <a:pt x="240" y="234"/>
                  </a:lnTo>
                  <a:lnTo>
                    <a:pt x="240" y="327"/>
                  </a:lnTo>
                  <a:lnTo>
                    <a:pt x="192" y="446"/>
                  </a:lnTo>
                  <a:lnTo>
                    <a:pt x="48" y="446"/>
                  </a:lnTo>
                  <a:lnTo>
                    <a:pt x="0" y="399"/>
                  </a:lnTo>
                  <a:lnTo>
                    <a:pt x="0" y="280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H="1">
              <a:off x="1320840" y="4168800"/>
              <a:ext cx="76320" cy="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0" name=""/>
            <p:cNvGrpSpPr/>
            <p:nvPr/>
          </p:nvGrpSpPr>
          <p:grpSpPr>
            <a:xfrm>
              <a:off x="1197000" y="3919680"/>
              <a:ext cx="187200" cy="165240"/>
              <a:chOff x="1197000" y="3919680"/>
              <a:chExt cx="187200" cy="165240"/>
            </a:xfrm>
          </p:grpSpPr>
          <p:sp>
            <p:nvSpPr>
              <p:cNvPr id="2901" name=""/>
              <p:cNvSpPr/>
              <p:nvPr/>
            </p:nvSpPr>
            <p:spPr>
              <a:xfrm rot="10800000">
                <a:off x="1197000" y="4002840"/>
                <a:ext cx="187200" cy="482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rot="10800000">
                <a:off x="1197000" y="3954600"/>
                <a:ext cx="187200" cy="482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3" name=""/>
              <p:cNvGrpSpPr/>
              <p:nvPr/>
            </p:nvGrpSpPr>
            <p:grpSpPr>
              <a:xfrm>
                <a:off x="1230120" y="3919680"/>
                <a:ext cx="120960" cy="65880"/>
                <a:chOff x="1230120" y="3919680"/>
                <a:chExt cx="120960" cy="65880"/>
              </a:xfrm>
            </p:grpSpPr>
            <p:sp>
              <p:nvSpPr>
                <p:cNvPr id="2904" name=""/>
                <p:cNvSpPr/>
                <p:nvPr/>
              </p:nvSpPr>
              <p:spPr>
                <a:xfrm rot="16200000">
                  <a:off x="1227240" y="392220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V="1" rot="16200000">
                  <a:off x="1287720" y="392184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6" name=""/>
              <p:cNvGrpSpPr/>
              <p:nvPr/>
            </p:nvGrpSpPr>
            <p:grpSpPr>
              <a:xfrm>
                <a:off x="1230120" y="4019040"/>
                <a:ext cx="120960" cy="65880"/>
                <a:chOff x="1230120" y="4019040"/>
                <a:chExt cx="120960" cy="65880"/>
              </a:xfrm>
            </p:grpSpPr>
            <p:sp>
              <p:nvSpPr>
                <p:cNvPr id="2907" name=""/>
                <p:cNvSpPr/>
                <p:nvPr/>
              </p:nvSpPr>
              <p:spPr>
                <a:xfrm flipH="1" rot="16200000">
                  <a:off x="1227240" y="402156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H="1" flipV="1" rot="16200000">
                  <a:off x="1287720" y="402120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9" name=""/>
            <p:cNvGrpSpPr/>
            <p:nvPr/>
          </p:nvGrpSpPr>
          <p:grpSpPr>
            <a:xfrm>
              <a:off x="1398600" y="3724200"/>
              <a:ext cx="141120" cy="142920"/>
              <a:chOff x="1398600" y="3724200"/>
              <a:chExt cx="141120" cy="142920"/>
            </a:xfrm>
          </p:grpSpPr>
          <p:sp>
            <p:nvSpPr>
              <p:cNvPr id="2910" name=""/>
              <p:cNvSpPr/>
              <p:nvPr/>
            </p:nvSpPr>
            <p:spPr>
              <a:xfrm>
                <a:off x="1398600" y="37242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398600" y="383832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1469160" y="372420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1398600" y="372420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4" name=""/>
          <p:cNvSpPr/>
          <p:nvPr/>
        </p:nvSpPr>
        <p:spPr>
          <a:xfrm>
            <a:off x="4635360" y="3890880"/>
            <a:ext cx="119160" cy="42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5" name=""/>
          <p:cNvGrpSpPr/>
          <p:nvPr/>
        </p:nvGrpSpPr>
        <p:grpSpPr>
          <a:xfrm>
            <a:off x="4406760" y="3476520"/>
            <a:ext cx="117720" cy="115920"/>
            <a:chOff x="4406760" y="3476520"/>
            <a:chExt cx="117720" cy="115920"/>
          </a:xfrm>
        </p:grpSpPr>
        <p:sp>
          <p:nvSpPr>
            <p:cNvPr id="2916" name=""/>
            <p:cNvSpPr/>
            <p:nvPr/>
          </p:nvSpPr>
          <p:spPr>
            <a:xfrm>
              <a:off x="4406760" y="3476520"/>
              <a:ext cx="117720" cy="11592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430880" y="3500280"/>
              <a:ext cx="69840" cy="68400"/>
            </a:xfrm>
            <a:prstGeom prst="ellipse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451400" y="3521160"/>
              <a:ext cx="28440" cy="2844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9" name=""/>
          <p:cNvSpPr/>
          <p:nvPr/>
        </p:nvSpPr>
        <p:spPr>
          <a:xfrm rot="16200000">
            <a:off x="2170800" y="423432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Via Ta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0" name=""/>
          <p:cNvGrpSpPr/>
          <p:nvPr/>
        </p:nvGrpSpPr>
        <p:grpSpPr>
          <a:xfrm>
            <a:off x="412920" y="2482920"/>
            <a:ext cx="88560" cy="93600"/>
            <a:chOff x="412920" y="2482920"/>
            <a:chExt cx="88560" cy="93600"/>
          </a:xfrm>
        </p:grpSpPr>
        <p:sp>
          <p:nvSpPr>
            <p:cNvPr id="2921" name=""/>
            <p:cNvSpPr/>
            <p:nvPr/>
          </p:nvSpPr>
          <p:spPr>
            <a:xfrm>
              <a:off x="412920" y="248292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12920" y="255780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57200" y="2482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12920" y="2482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415800" y="2629080"/>
            <a:ext cx="82800" cy="212760"/>
            <a:chOff x="415800" y="2629080"/>
            <a:chExt cx="82800" cy="212760"/>
          </a:xfrm>
        </p:grpSpPr>
        <p:sp>
          <p:nvSpPr>
            <p:cNvPr id="2926" name=""/>
            <p:cNvSpPr/>
            <p:nvPr/>
          </p:nvSpPr>
          <p:spPr>
            <a:xfrm>
              <a:off x="415800" y="2629080"/>
              <a:ext cx="8280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15800" y="2841480"/>
              <a:ext cx="8280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56840" y="2629080"/>
              <a:ext cx="41760" cy="212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15800" y="2629080"/>
              <a:ext cx="41040" cy="212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0" name=""/>
          <p:cNvGrpSpPr/>
          <p:nvPr/>
        </p:nvGrpSpPr>
        <p:grpSpPr>
          <a:xfrm>
            <a:off x="9460080" y="2306520"/>
            <a:ext cx="88560" cy="93960"/>
            <a:chOff x="9460080" y="2306520"/>
            <a:chExt cx="88560" cy="93960"/>
          </a:xfrm>
        </p:grpSpPr>
        <p:sp>
          <p:nvSpPr>
            <p:cNvPr id="2931" name=""/>
            <p:cNvSpPr/>
            <p:nvPr/>
          </p:nvSpPr>
          <p:spPr>
            <a:xfrm>
              <a:off x="9460080" y="23065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460080" y="238176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9504360" y="23065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9460080" y="23065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9462960" y="2452680"/>
            <a:ext cx="82800" cy="213120"/>
            <a:chOff x="9462960" y="2452680"/>
            <a:chExt cx="82800" cy="213120"/>
          </a:xfrm>
        </p:grpSpPr>
        <p:sp>
          <p:nvSpPr>
            <p:cNvPr id="2936" name=""/>
            <p:cNvSpPr/>
            <p:nvPr/>
          </p:nvSpPr>
          <p:spPr>
            <a:xfrm>
              <a:off x="9462960" y="2452680"/>
              <a:ext cx="8280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9462960" y="2665440"/>
              <a:ext cx="8280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9504000" y="2452680"/>
              <a:ext cx="41760" cy="21276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9462960" y="2452680"/>
              <a:ext cx="41040" cy="21276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0" name=""/>
          <p:cNvGrpSpPr/>
          <p:nvPr/>
        </p:nvGrpSpPr>
        <p:grpSpPr>
          <a:xfrm>
            <a:off x="4626000" y="703800"/>
            <a:ext cx="167400" cy="171000"/>
            <a:chOff x="4626000" y="703800"/>
            <a:chExt cx="167400" cy="171000"/>
          </a:xfrm>
        </p:grpSpPr>
        <p:grpSp>
          <p:nvGrpSpPr>
            <p:cNvPr id="2941" name=""/>
            <p:cNvGrpSpPr/>
            <p:nvPr/>
          </p:nvGrpSpPr>
          <p:grpSpPr>
            <a:xfrm>
              <a:off x="4626000" y="754560"/>
              <a:ext cx="79200" cy="75960"/>
              <a:chOff x="4626000" y="754560"/>
              <a:chExt cx="79200" cy="75960"/>
            </a:xfrm>
          </p:grpSpPr>
          <p:sp>
            <p:nvSpPr>
              <p:cNvPr id="2942" name=""/>
              <p:cNvSpPr/>
              <p:nvPr/>
            </p:nvSpPr>
            <p:spPr>
              <a:xfrm rot="10800000">
                <a:off x="4626000" y="7545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rot="10800000">
                <a:off x="4637520" y="764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4717440" y="795600"/>
              <a:ext cx="75960" cy="79200"/>
              <a:chOff x="4717440" y="795600"/>
              <a:chExt cx="75960" cy="79200"/>
            </a:xfrm>
          </p:grpSpPr>
          <p:sp>
            <p:nvSpPr>
              <p:cNvPr id="2945" name=""/>
              <p:cNvSpPr/>
              <p:nvPr/>
            </p:nvSpPr>
            <p:spPr>
              <a:xfrm rot="5400000">
                <a:off x="4715640" y="7970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rot="5400000">
                <a:off x="4727520" y="825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7" name=""/>
            <p:cNvGrpSpPr/>
            <p:nvPr/>
          </p:nvGrpSpPr>
          <p:grpSpPr>
            <a:xfrm>
              <a:off x="4713120" y="703800"/>
              <a:ext cx="75600" cy="79200"/>
              <a:chOff x="4713120" y="703800"/>
              <a:chExt cx="75600" cy="79200"/>
            </a:xfrm>
          </p:grpSpPr>
          <p:sp>
            <p:nvSpPr>
              <p:cNvPr id="2948" name=""/>
              <p:cNvSpPr/>
              <p:nvPr/>
            </p:nvSpPr>
            <p:spPr>
              <a:xfrm rot="16200000">
                <a:off x="4711320" y="70560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rot="16200000">
                <a:off x="4740840" y="7149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0" name=""/>
          <p:cNvGrpSpPr/>
          <p:nvPr/>
        </p:nvGrpSpPr>
        <p:grpSpPr>
          <a:xfrm>
            <a:off x="4828680" y="714240"/>
            <a:ext cx="172080" cy="168840"/>
            <a:chOff x="4828680" y="714240"/>
            <a:chExt cx="172080" cy="168840"/>
          </a:xfrm>
        </p:grpSpPr>
        <p:grpSp>
          <p:nvGrpSpPr>
            <p:cNvPr id="2951" name=""/>
            <p:cNvGrpSpPr/>
            <p:nvPr/>
          </p:nvGrpSpPr>
          <p:grpSpPr>
            <a:xfrm>
              <a:off x="4879440" y="803520"/>
              <a:ext cx="76320" cy="79560"/>
              <a:chOff x="4879440" y="803520"/>
              <a:chExt cx="76320" cy="79560"/>
            </a:xfrm>
          </p:grpSpPr>
          <p:sp>
            <p:nvSpPr>
              <p:cNvPr id="2952" name=""/>
              <p:cNvSpPr/>
              <p:nvPr/>
            </p:nvSpPr>
            <p:spPr>
              <a:xfrm rot="5400000">
                <a:off x="4877640" y="8049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rot="5400000">
                <a:off x="4889520" y="8326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4921200" y="714240"/>
              <a:ext cx="79560" cy="76320"/>
              <a:chOff x="4921200" y="714240"/>
              <a:chExt cx="79560" cy="76320"/>
            </a:xfrm>
          </p:grpSpPr>
          <p:sp>
            <p:nvSpPr>
              <p:cNvPr id="2955" name=""/>
              <p:cNvSpPr/>
              <p:nvPr/>
            </p:nvSpPr>
            <p:spPr>
              <a:xfrm>
                <a:off x="4921200" y="7142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951080" y="7419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7" name=""/>
            <p:cNvGrpSpPr/>
            <p:nvPr/>
          </p:nvGrpSpPr>
          <p:grpSpPr>
            <a:xfrm>
              <a:off x="4828680" y="719280"/>
              <a:ext cx="79560" cy="75960"/>
              <a:chOff x="4828680" y="719280"/>
              <a:chExt cx="79560" cy="75960"/>
            </a:xfrm>
          </p:grpSpPr>
          <p:sp>
            <p:nvSpPr>
              <p:cNvPr id="2958" name=""/>
              <p:cNvSpPr/>
              <p:nvPr/>
            </p:nvSpPr>
            <p:spPr>
              <a:xfrm rot="10800000">
                <a:off x="4828680" y="7192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rot="10800000">
                <a:off x="4840560" y="7290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0" name=""/>
          <p:cNvGrpSpPr/>
          <p:nvPr/>
        </p:nvGrpSpPr>
        <p:grpSpPr>
          <a:xfrm>
            <a:off x="5029200" y="762120"/>
            <a:ext cx="81000" cy="77760"/>
            <a:chOff x="5029200" y="762120"/>
            <a:chExt cx="81000" cy="77760"/>
          </a:xfrm>
        </p:grpSpPr>
        <p:sp>
          <p:nvSpPr>
            <p:cNvPr id="2961" name=""/>
            <p:cNvSpPr/>
            <p:nvPr/>
          </p:nvSpPr>
          <p:spPr>
            <a:xfrm>
              <a:off x="5029200" y="762120"/>
              <a:ext cx="8100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59800" y="79020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3" name=""/>
          <p:cNvGrpSpPr/>
          <p:nvPr/>
        </p:nvGrpSpPr>
        <p:grpSpPr>
          <a:xfrm>
            <a:off x="685800" y="2972160"/>
            <a:ext cx="167400" cy="171000"/>
            <a:chOff x="685800" y="2972160"/>
            <a:chExt cx="167400" cy="171000"/>
          </a:xfrm>
        </p:grpSpPr>
        <p:grpSp>
          <p:nvGrpSpPr>
            <p:cNvPr id="2964" name=""/>
            <p:cNvGrpSpPr/>
            <p:nvPr/>
          </p:nvGrpSpPr>
          <p:grpSpPr>
            <a:xfrm>
              <a:off x="685800" y="3022920"/>
              <a:ext cx="79200" cy="75960"/>
              <a:chOff x="685800" y="3022920"/>
              <a:chExt cx="79200" cy="75960"/>
            </a:xfrm>
          </p:grpSpPr>
          <p:sp>
            <p:nvSpPr>
              <p:cNvPr id="2965" name=""/>
              <p:cNvSpPr/>
              <p:nvPr/>
            </p:nvSpPr>
            <p:spPr>
              <a:xfrm rot="10800000">
                <a:off x="685800" y="30229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rot="10800000">
                <a:off x="697320" y="30326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777240" y="3063960"/>
              <a:ext cx="75960" cy="79200"/>
              <a:chOff x="777240" y="3063960"/>
              <a:chExt cx="75960" cy="79200"/>
            </a:xfrm>
          </p:grpSpPr>
          <p:sp>
            <p:nvSpPr>
              <p:cNvPr id="2968" name=""/>
              <p:cNvSpPr/>
              <p:nvPr/>
            </p:nvSpPr>
            <p:spPr>
              <a:xfrm rot="5400000">
                <a:off x="775440" y="30654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rot="5400000">
                <a:off x="787320" y="30934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0" name=""/>
            <p:cNvGrpSpPr/>
            <p:nvPr/>
          </p:nvGrpSpPr>
          <p:grpSpPr>
            <a:xfrm>
              <a:off x="772920" y="2972160"/>
              <a:ext cx="75600" cy="79200"/>
              <a:chOff x="772920" y="2972160"/>
              <a:chExt cx="75600" cy="79200"/>
            </a:xfrm>
          </p:grpSpPr>
          <p:sp>
            <p:nvSpPr>
              <p:cNvPr id="2971" name=""/>
              <p:cNvSpPr/>
              <p:nvPr/>
            </p:nvSpPr>
            <p:spPr>
              <a:xfrm rot="16200000">
                <a:off x="771120" y="297396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rot="16200000">
                <a:off x="800640" y="2983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3" name=""/>
          <p:cNvGrpSpPr/>
          <p:nvPr/>
        </p:nvGrpSpPr>
        <p:grpSpPr>
          <a:xfrm>
            <a:off x="914760" y="2895480"/>
            <a:ext cx="171000" cy="168840"/>
            <a:chOff x="914760" y="2895480"/>
            <a:chExt cx="171000" cy="168840"/>
          </a:xfrm>
        </p:grpSpPr>
        <p:grpSp>
          <p:nvGrpSpPr>
            <p:cNvPr id="2974" name=""/>
            <p:cNvGrpSpPr/>
            <p:nvPr/>
          </p:nvGrpSpPr>
          <p:grpSpPr>
            <a:xfrm>
              <a:off x="965520" y="2984760"/>
              <a:ext cx="75960" cy="79560"/>
              <a:chOff x="965520" y="2984760"/>
              <a:chExt cx="75960" cy="79560"/>
            </a:xfrm>
          </p:grpSpPr>
          <p:sp>
            <p:nvSpPr>
              <p:cNvPr id="2975" name=""/>
              <p:cNvSpPr/>
              <p:nvPr/>
            </p:nvSpPr>
            <p:spPr>
              <a:xfrm rot="5400000">
                <a:off x="963720" y="29865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rot="5400000">
                <a:off x="975600" y="3014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7" name=""/>
            <p:cNvGrpSpPr/>
            <p:nvPr/>
          </p:nvGrpSpPr>
          <p:grpSpPr>
            <a:xfrm>
              <a:off x="1006560" y="2895480"/>
              <a:ext cx="79200" cy="76320"/>
              <a:chOff x="1006560" y="2895480"/>
              <a:chExt cx="79200" cy="76320"/>
            </a:xfrm>
          </p:grpSpPr>
          <p:sp>
            <p:nvSpPr>
              <p:cNvPr id="2978" name=""/>
              <p:cNvSpPr/>
              <p:nvPr/>
            </p:nvSpPr>
            <p:spPr>
              <a:xfrm>
                <a:off x="1006560" y="28954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036440" y="29232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914760" y="2900520"/>
              <a:ext cx="79200" cy="75960"/>
              <a:chOff x="914760" y="2900520"/>
              <a:chExt cx="79200" cy="75960"/>
            </a:xfrm>
          </p:grpSpPr>
          <p:sp>
            <p:nvSpPr>
              <p:cNvPr id="2981" name=""/>
              <p:cNvSpPr/>
              <p:nvPr/>
            </p:nvSpPr>
            <p:spPr>
              <a:xfrm rot="10800000">
                <a:off x="914760" y="29005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rot="10800000">
                <a:off x="926280" y="29102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3" name=""/>
          <p:cNvGrpSpPr/>
          <p:nvPr/>
        </p:nvGrpSpPr>
        <p:grpSpPr>
          <a:xfrm>
            <a:off x="650520" y="2777760"/>
            <a:ext cx="201960" cy="201960"/>
            <a:chOff x="650520" y="2777760"/>
            <a:chExt cx="201960" cy="201960"/>
          </a:xfrm>
        </p:grpSpPr>
        <p:grpSp>
          <p:nvGrpSpPr>
            <p:cNvPr id="2984" name=""/>
            <p:cNvGrpSpPr/>
            <p:nvPr/>
          </p:nvGrpSpPr>
          <p:grpSpPr>
            <a:xfrm>
              <a:off x="677880" y="2796840"/>
              <a:ext cx="76320" cy="79560"/>
              <a:chOff x="677880" y="2796840"/>
              <a:chExt cx="76320" cy="79560"/>
            </a:xfrm>
          </p:grpSpPr>
          <p:sp>
            <p:nvSpPr>
              <p:cNvPr id="2985" name=""/>
              <p:cNvSpPr/>
              <p:nvPr/>
            </p:nvSpPr>
            <p:spPr>
              <a:xfrm rot="16200000">
                <a:off x="676080" y="27982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rot="16200000">
                <a:off x="705960" y="28080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7" name=""/>
            <p:cNvGrpSpPr/>
            <p:nvPr/>
          </p:nvGrpSpPr>
          <p:grpSpPr>
            <a:xfrm>
              <a:off x="650520" y="2863800"/>
              <a:ext cx="79560" cy="76320"/>
              <a:chOff x="650520" y="2863800"/>
              <a:chExt cx="79560" cy="76320"/>
            </a:xfrm>
          </p:grpSpPr>
          <p:sp>
            <p:nvSpPr>
              <p:cNvPr id="2988" name=""/>
              <p:cNvSpPr/>
              <p:nvPr/>
            </p:nvSpPr>
            <p:spPr>
              <a:xfrm rot="10800000">
                <a:off x="650520" y="28638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rot="10800000">
                <a:off x="662400" y="28735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0" name=""/>
            <p:cNvGrpSpPr/>
            <p:nvPr/>
          </p:nvGrpSpPr>
          <p:grpSpPr>
            <a:xfrm>
              <a:off x="773280" y="2865600"/>
              <a:ext cx="79200" cy="75960"/>
              <a:chOff x="773280" y="2865600"/>
              <a:chExt cx="79200" cy="75960"/>
            </a:xfrm>
          </p:grpSpPr>
          <p:sp>
            <p:nvSpPr>
              <p:cNvPr id="2991" name=""/>
              <p:cNvSpPr/>
              <p:nvPr/>
            </p:nvSpPr>
            <p:spPr>
              <a:xfrm>
                <a:off x="773280" y="28656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803160" y="2893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698400" y="2903760"/>
              <a:ext cx="79560" cy="75960"/>
              <a:chOff x="698400" y="2903760"/>
              <a:chExt cx="79560" cy="75960"/>
            </a:xfrm>
          </p:grpSpPr>
          <p:sp>
            <p:nvSpPr>
              <p:cNvPr id="2994" name=""/>
              <p:cNvSpPr/>
              <p:nvPr/>
            </p:nvSpPr>
            <p:spPr>
              <a:xfrm>
                <a:off x="698400" y="29037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28280" y="29314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6" name=""/>
            <p:cNvGrpSpPr/>
            <p:nvPr/>
          </p:nvGrpSpPr>
          <p:grpSpPr>
            <a:xfrm>
              <a:off x="752400" y="2777760"/>
              <a:ext cx="76320" cy="79560"/>
              <a:chOff x="752400" y="2777760"/>
              <a:chExt cx="76320" cy="79560"/>
            </a:xfrm>
          </p:grpSpPr>
          <p:sp>
            <p:nvSpPr>
              <p:cNvPr id="2997" name=""/>
              <p:cNvSpPr/>
              <p:nvPr/>
            </p:nvSpPr>
            <p:spPr>
              <a:xfrm rot="16200000">
                <a:off x="750600" y="27792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rot="16200000">
                <a:off x="780480" y="27889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9" name=""/>
          <p:cNvGrpSpPr/>
          <p:nvPr/>
        </p:nvGrpSpPr>
        <p:grpSpPr>
          <a:xfrm>
            <a:off x="609120" y="2438280"/>
            <a:ext cx="201960" cy="201960"/>
            <a:chOff x="609120" y="2438280"/>
            <a:chExt cx="201960" cy="201960"/>
          </a:xfrm>
        </p:grpSpPr>
        <p:grpSp>
          <p:nvGrpSpPr>
            <p:cNvPr id="3000" name=""/>
            <p:cNvGrpSpPr/>
            <p:nvPr/>
          </p:nvGrpSpPr>
          <p:grpSpPr>
            <a:xfrm>
              <a:off x="628200" y="2536560"/>
              <a:ext cx="79560" cy="76320"/>
              <a:chOff x="628200" y="2536560"/>
              <a:chExt cx="79560" cy="76320"/>
            </a:xfrm>
          </p:grpSpPr>
          <p:sp>
            <p:nvSpPr>
              <p:cNvPr id="3001" name=""/>
              <p:cNvSpPr/>
              <p:nvPr/>
            </p:nvSpPr>
            <p:spPr>
              <a:xfrm rot="10800000">
                <a:off x="628200" y="25365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rot="10800000">
                <a:off x="640080" y="25462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3" name=""/>
            <p:cNvGrpSpPr/>
            <p:nvPr/>
          </p:nvGrpSpPr>
          <p:grpSpPr>
            <a:xfrm>
              <a:off x="695160" y="2560680"/>
              <a:ext cx="76320" cy="79560"/>
              <a:chOff x="695160" y="2560680"/>
              <a:chExt cx="76320" cy="79560"/>
            </a:xfrm>
          </p:grpSpPr>
          <p:sp>
            <p:nvSpPr>
              <p:cNvPr id="3004" name=""/>
              <p:cNvSpPr/>
              <p:nvPr/>
            </p:nvSpPr>
            <p:spPr>
              <a:xfrm rot="5400000">
                <a:off x="693360" y="25621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rot="5400000">
                <a:off x="705240" y="2589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6" name=""/>
            <p:cNvGrpSpPr/>
            <p:nvPr/>
          </p:nvGrpSpPr>
          <p:grpSpPr>
            <a:xfrm>
              <a:off x="696960" y="2438280"/>
              <a:ext cx="75960" cy="79200"/>
              <a:chOff x="696960" y="2438280"/>
              <a:chExt cx="75960" cy="79200"/>
            </a:xfrm>
          </p:grpSpPr>
          <p:sp>
            <p:nvSpPr>
              <p:cNvPr id="3007" name=""/>
              <p:cNvSpPr/>
              <p:nvPr/>
            </p:nvSpPr>
            <p:spPr>
              <a:xfrm rot="16200000">
                <a:off x="695160" y="24397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rot="16200000">
                <a:off x="725040" y="2449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9" name=""/>
            <p:cNvGrpSpPr/>
            <p:nvPr/>
          </p:nvGrpSpPr>
          <p:grpSpPr>
            <a:xfrm>
              <a:off x="735120" y="2512800"/>
              <a:ext cx="75960" cy="79560"/>
              <a:chOff x="735120" y="2512800"/>
              <a:chExt cx="75960" cy="79560"/>
            </a:xfrm>
          </p:grpSpPr>
          <p:sp>
            <p:nvSpPr>
              <p:cNvPr id="3010" name=""/>
              <p:cNvSpPr/>
              <p:nvPr/>
            </p:nvSpPr>
            <p:spPr>
              <a:xfrm rot="16200000">
                <a:off x="733320" y="25146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rot="16200000">
                <a:off x="763200" y="2524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2" name=""/>
            <p:cNvGrpSpPr/>
            <p:nvPr/>
          </p:nvGrpSpPr>
          <p:grpSpPr>
            <a:xfrm>
              <a:off x="609120" y="2462040"/>
              <a:ext cx="79560" cy="76320"/>
              <a:chOff x="609120" y="2462040"/>
              <a:chExt cx="79560" cy="76320"/>
            </a:xfrm>
          </p:grpSpPr>
          <p:sp>
            <p:nvSpPr>
              <p:cNvPr id="3013" name=""/>
              <p:cNvSpPr/>
              <p:nvPr/>
            </p:nvSpPr>
            <p:spPr>
              <a:xfrm rot="10800000">
                <a:off x="609120" y="24620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rot="10800000">
                <a:off x="621000" y="24717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5" name=""/>
          <p:cNvGrpSpPr/>
          <p:nvPr/>
        </p:nvGrpSpPr>
        <p:grpSpPr>
          <a:xfrm>
            <a:off x="840240" y="2513160"/>
            <a:ext cx="167400" cy="171000"/>
            <a:chOff x="840240" y="2513160"/>
            <a:chExt cx="167400" cy="171000"/>
          </a:xfrm>
        </p:grpSpPr>
        <p:grpSp>
          <p:nvGrpSpPr>
            <p:cNvPr id="3016" name=""/>
            <p:cNvGrpSpPr/>
            <p:nvPr/>
          </p:nvGrpSpPr>
          <p:grpSpPr>
            <a:xfrm>
              <a:off x="928440" y="2557440"/>
              <a:ext cx="79200" cy="75960"/>
              <a:chOff x="928440" y="2557440"/>
              <a:chExt cx="79200" cy="75960"/>
            </a:xfrm>
          </p:grpSpPr>
          <p:sp>
            <p:nvSpPr>
              <p:cNvPr id="3017" name=""/>
              <p:cNvSpPr/>
              <p:nvPr/>
            </p:nvSpPr>
            <p:spPr>
              <a:xfrm>
                <a:off x="928440" y="2557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958320" y="2585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9" name=""/>
            <p:cNvGrpSpPr/>
            <p:nvPr/>
          </p:nvGrpSpPr>
          <p:grpSpPr>
            <a:xfrm>
              <a:off x="840240" y="2513160"/>
              <a:ext cx="75960" cy="79200"/>
              <a:chOff x="840240" y="2513160"/>
              <a:chExt cx="75960" cy="79200"/>
            </a:xfrm>
          </p:grpSpPr>
          <p:sp>
            <p:nvSpPr>
              <p:cNvPr id="3020" name=""/>
              <p:cNvSpPr/>
              <p:nvPr/>
            </p:nvSpPr>
            <p:spPr>
              <a:xfrm rot="16200000">
                <a:off x="838440" y="25146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rot="16200000">
                <a:off x="868320" y="2524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2" name=""/>
            <p:cNvGrpSpPr/>
            <p:nvPr/>
          </p:nvGrpSpPr>
          <p:grpSpPr>
            <a:xfrm>
              <a:off x="844920" y="2604960"/>
              <a:ext cx="75600" cy="79200"/>
              <a:chOff x="844920" y="2604960"/>
              <a:chExt cx="75600" cy="79200"/>
            </a:xfrm>
          </p:grpSpPr>
          <p:sp>
            <p:nvSpPr>
              <p:cNvPr id="3023" name=""/>
              <p:cNvSpPr/>
              <p:nvPr/>
            </p:nvSpPr>
            <p:spPr>
              <a:xfrm rot="5400000">
                <a:off x="843120" y="260676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rot="5400000">
                <a:off x="855000" y="26344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5" name=""/>
          <p:cNvGrpSpPr/>
          <p:nvPr/>
        </p:nvGrpSpPr>
        <p:grpSpPr>
          <a:xfrm>
            <a:off x="996840" y="2650680"/>
            <a:ext cx="76320" cy="79560"/>
            <a:chOff x="996840" y="2650680"/>
            <a:chExt cx="76320" cy="79560"/>
          </a:xfrm>
        </p:grpSpPr>
        <p:sp>
          <p:nvSpPr>
            <p:cNvPr id="3026" name=""/>
            <p:cNvSpPr/>
            <p:nvPr/>
          </p:nvSpPr>
          <p:spPr>
            <a:xfrm rot="16200000">
              <a:off x="995040" y="2652120"/>
              <a:ext cx="7956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rot="16200000">
              <a:off x="1024920" y="266184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6491160" y="3981600"/>
            <a:ext cx="168840" cy="171000"/>
            <a:chOff x="6491160" y="3981600"/>
            <a:chExt cx="168840" cy="171000"/>
          </a:xfrm>
        </p:grpSpPr>
        <p:grpSp>
          <p:nvGrpSpPr>
            <p:cNvPr id="3029" name=""/>
            <p:cNvGrpSpPr/>
            <p:nvPr/>
          </p:nvGrpSpPr>
          <p:grpSpPr>
            <a:xfrm>
              <a:off x="6580440" y="4025880"/>
              <a:ext cx="79560" cy="75960"/>
              <a:chOff x="6580440" y="4025880"/>
              <a:chExt cx="79560" cy="75960"/>
            </a:xfrm>
          </p:grpSpPr>
          <p:sp>
            <p:nvSpPr>
              <p:cNvPr id="3030" name=""/>
              <p:cNvSpPr/>
              <p:nvPr/>
            </p:nvSpPr>
            <p:spPr>
              <a:xfrm>
                <a:off x="6580440" y="40258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610320" y="4053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2" name=""/>
            <p:cNvGrpSpPr/>
            <p:nvPr/>
          </p:nvGrpSpPr>
          <p:grpSpPr>
            <a:xfrm>
              <a:off x="6491160" y="3981600"/>
              <a:ext cx="76320" cy="79200"/>
              <a:chOff x="6491160" y="3981600"/>
              <a:chExt cx="76320" cy="79200"/>
            </a:xfrm>
          </p:grpSpPr>
          <p:sp>
            <p:nvSpPr>
              <p:cNvPr id="3033" name=""/>
              <p:cNvSpPr/>
              <p:nvPr/>
            </p:nvSpPr>
            <p:spPr>
              <a:xfrm rot="16200000">
                <a:off x="6489720" y="398304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rot="16200000">
                <a:off x="6519240" y="39924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6496200" y="4073400"/>
              <a:ext cx="75960" cy="79200"/>
              <a:chOff x="6496200" y="4073400"/>
              <a:chExt cx="75960" cy="79200"/>
            </a:xfrm>
          </p:grpSpPr>
          <p:sp>
            <p:nvSpPr>
              <p:cNvPr id="3036" name=""/>
              <p:cNvSpPr/>
              <p:nvPr/>
            </p:nvSpPr>
            <p:spPr>
              <a:xfrm rot="5400000">
                <a:off x="6494400" y="40748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rot="5400000">
                <a:off x="6506280" y="41029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8" name=""/>
          <p:cNvGrpSpPr/>
          <p:nvPr/>
        </p:nvGrpSpPr>
        <p:grpSpPr>
          <a:xfrm>
            <a:off x="6680160" y="3921120"/>
            <a:ext cx="171000" cy="167400"/>
            <a:chOff x="6680160" y="3921120"/>
            <a:chExt cx="171000" cy="167400"/>
          </a:xfrm>
        </p:grpSpPr>
        <p:grpSp>
          <p:nvGrpSpPr>
            <p:cNvPr id="3039" name=""/>
            <p:cNvGrpSpPr/>
            <p:nvPr/>
          </p:nvGrpSpPr>
          <p:grpSpPr>
            <a:xfrm>
              <a:off x="6724440" y="3921120"/>
              <a:ext cx="75960" cy="79200"/>
              <a:chOff x="6724440" y="3921120"/>
              <a:chExt cx="75960" cy="79200"/>
            </a:xfrm>
          </p:grpSpPr>
          <p:sp>
            <p:nvSpPr>
              <p:cNvPr id="3040" name=""/>
              <p:cNvSpPr/>
              <p:nvPr/>
            </p:nvSpPr>
            <p:spPr>
              <a:xfrm rot="16200000">
                <a:off x="6722640" y="39225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rot="16200000">
                <a:off x="6752520" y="3932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2" name=""/>
            <p:cNvGrpSpPr/>
            <p:nvPr/>
          </p:nvGrpSpPr>
          <p:grpSpPr>
            <a:xfrm>
              <a:off x="6680160" y="4012560"/>
              <a:ext cx="79200" cy="75960"/>
              <a:chOff x="6680160" y="4012560"/>
              <a:chExt cx="79200" cy="75960"/>
            </a:xfrm>
          </p:grpSpPr>
          <p:sp>
            <p:nvSpPr>
              <p:cNvPr id="3043" name=""/>
              <p:cNvSpPr/>
              <p:nvPr/>
            </p:nvSpPr>
            <p:spPr>
              <a:xfrm rot="10800000">
                <a:off x="6680160" y="40125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rot="10800000">
                <a:off x="6691680" y="4022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5" name=""/>
            <p:cNvGrpSpPr/>
            <p:nvPr/>
          </p:nvGrpSpPr>
          <p:grpSpPr>
            <a:xfrm>
              <a:off x="6771960" y="4008240"/>
              <a:ext cx="79200" cy="75600"/>
              <a:chOff x="6771960" y="4008240"/>
              <a:chExt cx="79200" cy="75600"/>
            </a:xfrm>
          </p:grpSpPr>
          <p:sp>
            <p:nvSpPr>
              <p:cNvPr id="3046" name=""/>
              <p:cNvSpPr/>
              <p:nvPr/>
            </p:nvSpPr>
            <p:spPr>
              <a:xfrm>
                <a:off x="6771960" y="400824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801840" y="4035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8" name=""/>
          <p:cNvGrpSpPr/>
          <p:nvPr/>
        </p:nvGrpSpPr>
        <p:grpSpPr>
          <a:xfrm>
            <a:off x="6391440" y="4048200"/>
            <a:ext cx="80640" cy="77760"/>
            <a:chOff x="6391440" y="4048200"/>
            <a:chExt cx="80640" cy="77760"/>
          </a:xfrm>
        </p:grpSpPr>
        <p:sp>
          <p:nvSpPr>
            <p:cNvPr id="3049" name=""/>
            <p:cNvSpPr/>
            <p:nvPr/>
          </p:nvSpPr>
          <p:spPr>
            <a:xfrm>
              <a:off x="6391440" y="4048200"/>
              <a:ext cx="80640" cy="777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422040" y="4076280"/>
              <a:ext cx="38520" cy="3960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6225120" y="4067280"/>
            <a:ext cx="167400" cy="171000"/>
            <a:chOff x="6225120" y="4067280"/>
            <a:chExt cx="167400" cy="171000"/>
          </a:xfrm>
        </p:grpSpPr>
        <p:grpSp>
          <p:nvGrpSpPr>
            <p:cNvPr id="3052" name=""/>
            <p:cNvGrpSpPr/>
            <p:nvPr/>
          </p:nvGrpSpPr>
          <p:grpSpPr>
            <a:xfrm>
              <a:off x="6313320" y="4111560"/>
              <a:ext cx="79200" cy="75960"/>
              <a:chOff x="6313320" y="4111560"/>
              <a:chExt cx="79200" cy="75960"/>
            </a:xfrm>
          </p:grpSpPr>
          <p:sp>
            <p:nvSpPr>
              <p:cNvPr id="3053" name=""/>
              <p:cNvSpPr/>
              <p:nvPr/>
            </p:nvSpPr>
            <p:spPr>
              <a:xfrm>
                <a:off x="6313320" y="41115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343200" y="4139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5" name=""/>
            <p:cNvGrpSpPr/>
            <p:nvPr/>
          </p:nvGrpSpPr>
          <p:grpSpPr>
            <a:xfrm>
              <a:off x="6225120" y="4067280"/>
              <a:ext cx="75960" cy="79200"/>
              <a:chOff x="6225120" y="4067280"/>
              <a:chExt cx="75960" cy="79200"/>
            </a:xfrm>
          </p:grpSpPr>
          <p:sp>
            <p:nvSpPr>
              <p:cNvPr id="3056" name=""/>
              <p:cNvSpPr/>
              <p:nvPr/>
            </p:nvSpPr>
            <p:spPr>
              <a:xfrm rot="16200000">
                <a:off x="6223320" y="40687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rot="16200000">
                <a:off x="6253200" y="4078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8" name=""/>
            <p:cNvGrpSpPr/>
            <p:nvPr/>
          </p:nvGrpSpPr>
          <p:grpSpPr>
            <a:xfrm>
              <a:off x="6229800" y="4159080"/>
              <a:ext cx="75600" cy="79200"/>
              <a:chOff x="6229800" y="4159080"/>
              <a:chExt cx="75600" cy="79200"/>
            </a:xfrm>
          </p:grpSpPr>
          <p:sp>
            <p:nvSpPr>
              <p:cNvPr id="3059" name=""/>
              <p:cNvSpPr/>
              <p:nvPr/>
            </p:nvSpPr>
            <p:spPr>
              <a:xfrm rot="5400000">
                <a:off x="6228000" y="416088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rot="5400000">
                <a:off x="6239880" y="4188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1" name=""/>
          <p:cNvGrpSpPr/>
          <p:nvPr/>
        </p:nvGrpSpPr>
        <p:grpSpPr>
          <a:xfrm>
            <a:off x="8976240" y="2063880"/>
            <a:ext cx="167400" cy="171000"/>
            <a:chOff x="8976240" y="2063880"/>
            <a:chExt cx="167400" cy="171000"/>
          </a:xfrm>
        </p:grpSpPr>
        <p:grpSp>
          <p:nvGrpSpPr>
            <p:cNvPr id="3062" name=""/>
            <p:cNvGrpSpPr/>
            <p:nvPr/>
          </p:nvGrpSpPr>
          <p:grpSpPr>
            <a:xfrm>
              <a:off x="9064440" y="2108160"/>
              <a:ext cx="79200" cy="75960"/>
              <a:chOff x="9064440" y="2108160"/>
              <a:chExt cx="79200" cy="75960"/>
            </a:xfrm>
          </p:grpSpPr>
          <p:sp>
            <p:nvSpPr>
              <p:cNvPr id="3063" name=""/>
              <p:cNvSpPr/>
              <p:nvPr/>
            </p:nvSpPr>
            <p:spPr>
              <a:xfrm>
                <a:off x="9064440" y="21081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9094320" y="21358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5" name=""/>
            <p:cNvGrpSpPr/>
            <p:nvPr/>
          </p:nvGrpSpPr>
          <p:grpSpPr>
            <a:xfrm>
              <a:off x="8976240" y="2063880"/>
              <a:ext cx="75960" cy="79200"/>
              <a:chOff x="8976240" y="2063880"/>
              <a:chExt cx="75960" cy="79200"/>
            </a:xfrm>
          </p:grpSpPr>
          <p:sp>
            <p:nvSpPr>
              <p:cNvPr id="3066" name=""/>
              <p:cNvSpPr/>
              <p:nvPr/>
            </p:nvSpPr>
            <p:spPr>
              <a:xfrm rot="16200000">
                <a:off x="8974440" y="20653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rot="16200000">
                <a:off x="9004320" y="2075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8" name=""/>
            <p:cNvGrpSpPr/>
            <p:nvPr/>
          </p:nvGrpSpPr>
          <p:grpSpPr>
            <a:xfrm>
              <a:off x="8980920" y="2155680"/>
              <a:ext cx="75600" cy="79200"/>
              <a:chOff x="8980920" y="2155680"/>
              <a:chExt cx="75600" cy="79200"/>
            </a:xfrm>
          </p:grpSpPr>
          <p:sp>
            <p:nvSpPr>
              <p:cNvPr id="3069" name=""/>
              <p:cNvSpPr/>
              <p:nvPr/>
            </p:nvSpPr>
            <p:spPr>
              <a:xfrm rot="5400000">
                <a:off x="8979120" y="215748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rot="5400000">
                <a:off x="8991000" y="21852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1" name=""/>
          <p:cNvGrpSpPr/>
          <p:nvPr/>
        </p:nvGrpSpPr>
        <p:grpSpPr>
          <a:xfrm>
            <a:off x="8846640" y="2195640"/>
            <a:ext cx="172080" cy="167400"/>
            <a:chOff x="8846640" y="2195640"/>
            <a:chExt cx="172080" cy="167400"/>
          </a:xfrm>
        </p:grpSpPr>
        <p:grpSp>
          <p:nvGrpSpPr>
            <p:cNvPr id="3072" name=""/>
            <p:cNvGrpSpPr/>
            <p:nvPr/>
          </p:nvGrpSpPr>
          <p:grpSpPr>
            <a:xfrm>
              <a:off x="8891640" y="2195640"/>
              <a:ext cx="76320" cy="79200"/>
              <a:chOff x="8891640" y="2195640"/>
              <a:chExt cx="76320" cy="79200"/>
            </a:xfrm>
          </p:grpSpPr>
          <p:sp>
            <p:nvSpPr>
              <p:cNvPr id="3073" name=""/>
              <p:cNvSpPr/>
              <p:nvPr/>
            </p:nvSpPr>
            <p:spPr>
              <a:xfrm rot="16200000">
                <a:off x="8890200" y="21970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rot="16200000">
                <a:off x="8919720" y="22064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5" name=""/>
            <p:cNvGrpSpPr/>
            <p:nvPr/>
          </p:nvGrpSpPr>
          <p:grpSpPr>
            <a:xfrm>
              <a:off x="8846640" y="2287080"/>
              <a:ext cx="79560" cy="75960"/>
              <a:chOff x="8846640" y="2287080"/>
              <a:chExt cx="79560" cy="75960"/>
            </a:xfrm>
          </p:grpSpPr>
          <p:sp>
            <p:nvSpPr>
              <p:cNvPr id="3076" name=""/>
              <p:cNvSpPr/>
              <p:nvPr/>
            </p:nvSpPr>
            <p:spPr>
              <a:xfrm rot="10800000">
                <a:off x="8846640" y="22870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rot="10800000">
                <a:off x="8858520" y="22968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8" name=""/>
            <p:cNvGrpSpPr/>
            <p:nvPr/>
          </p:nvGrpSpPr>
          <p:grpSpPr>
            <a:xfrm>
              <a:off x="8939160" y="2282760"/>
              <a:ext cx="79560" cy="75600"/>
              <a:chOff x="8939160" y="2282760"/>
              <a:chExt cx="79560" cy="75600"/>
            </a:xfrm>
          </p:grpSpPr>
          <p:sp>
            <p:nvSpPr>
              <p:cNvPr id="3079" name=""/>
              <p:cNvSpPr/>
              <p:nvPr/>
            </p:nvSpPr>
            <p:spPr>
              <a:xfrm>
                <a:off x="8939160" y="228276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969040" y="2310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1" name=""/>
          <p:cNvGrpSpPr/>
          <p:nvPr/>
        </p:nvGrpSpPr>
        <p:grpSpPr>
          <a:xfrm>
            <a:off x="9010440" y="2225160"/>
            <a:ext cx="201960" cy="201960"/>
            <a:chOff x="9010440" y="2225160"/>
            <a:chExt cx="201960" cy="201960"/>
          </a:xfrm>
        </p:grpSpPr>
        <p:grpSp>
          <p:nvGrpSpPr>
            <p:cNvPr id="3082" name=""/>
            <p:cNvGrpSpPr/>
            <p:nvPr/>
          </p:nvGrpSpPr>
          <p:grpSpPr>
            <a:xfrm>
              <a:off x="9037800" y="2244240"/>
              <a:ext cx="76320" cy="79560"/>
              <a:chOff x="9037800" y="2244240"/>
              <a:chExt cx="76320" cy="79560"/>
            </a:xfrm>
          </p:grpSpPr>
          <p:sp>
            <p:nvSpPr>
              <p:cNvPr id="3083" name=""/>
              <p:cNvSpPr/>
              <p:nvPr/>
            </p:nvSpPr>
            <p:spPr>
              <a:xfrm rot="16200000">
                <a:off x="9036000" y="22456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rot="16200000">
                <a:off x="9065880" y="22554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5" name=""/>
            <p:cNvGrpSpPr/>
            <p:nvPr/>
          </p:nvGrpSpPr>
          <p:grpSpPr>
            <a:xfrm>
              <a:off x="9010440" y="2311200"/>
              <a:ext cx="79560" cy="76320"/>
              <a:chOff x="9010440" y="2311200"/>
              <a:chExt cx="79560" cy="76320"/>
            </a:xfrm>
          </p:grpSpPr>
          <p:sp>
            <p:nvSpPr>
              <p:cNvPr id="3086" name=""/>
              <p:cNvSpPr/>
              <p:nvPr/>
            </p:nvSpPr>
            <p:spPr>
              <a:xfrm rot="10800000">
                <a:off x="9010440" y="23112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 rot="10800000">
                <a:off x="9022320" y="23209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8" name=""/>
            <p:cNvGrpSpPr/>
            <p:nvPr/>
          </p:nvGrpSpPr>
          <p:grpSpPr>
            <a:xfrm>
              <a:off x="9133200" y="2313000"/>
              <a:ext cx="79200" cy="75960"/>
              <a:chOff x="9133200" y="2313000"/>
              <a:chExt cx="79200" cy="75960"/>
            </a:xfrm>
          </p:grpSpPr>
          <p:sp>
            <p:nvSpPr>
              <p:cNvPr id="3089" name=""/>
              <p:cNvSpPr/>
              <p:nvPr/>
            </p:nvSpPr>
            <p:spPr>
              <a:xfrm>
                <a:off x="9133200" y="23130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9163080" y="2340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1" name=""/>
            <p:cNvGrpSpPr/>
            <p:nvPr/>
          </p:nvGrpSpPr>
          <p:grpSpPr>
            <a:xfrm>
              <a:off x="9058320" y="2351160"/>
              <a:ext cx="79560" cy="75960"/>
              <a:chOff x="9058320" y="2351160"/>
              <a:chExt cx="79560" cy="75960"/>
            </a:xfrm>
          </p:grpSpPr>
          <p:sp>
            <p:nvSpPr>
              <p:cNvPr id="3092" name=""/>
              <p:cNvSpPr/>
              <p:nvPr/>
            </p:nvSpPr>
            <p:spPr>
              <a:xfrm>
                <a:off x="9058320" y="23511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9088200" y="23788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9112320" y="2225160"/>
              <a:ext cx="76320" cy="79560"/>
              <a:chOff x="9112320" y="2225160"/>
              <a:chExt cx="76320" cy="79560"/>
            </a:xfrm>
          </p:grpSpPr>
          <p:sp>
            <p:nvSpPr>
              <p:cNvPr id="3095" name=""/>
              <p:cNvSpPr/>
              <p:nvPr/>
            </p:nvSpPr>
            <p:spPr>
              <a:xfrm rot="16200000">
                <a:off x="9110520" y="22266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rot="16200000">
                <a:off x="9140400" y="22363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7" name=""/>
          <p:cNvGrpSpPr/>
          <p:nvPr/>
        </p:nvGrpSpPr>
        <p:grpSpPr>
          <a:xfrm>
            <a:off x="9143640" y="2057400"/>
            <a:ext cx="201960" cy="201960"/>
            <a:chOff x="9143640" y="2057400"/>
            <a:chExt cx="201960" cy="201960"/>
          </a:xfrm>
        </p:grpSpPr>
        <p:grpSp>
          <p:nvGrpSpPr>
            <p:cNvPr id="3098" name=""/>
            <p:cNvGrpSpPr/>
            <p:nvPr/>
          </p:nvGrpSpPr>
          <p:grpSpPr>
            <a:xfrm>
              <a:off x="9162720" y="2155680"/>
              <a:ext cx="79560" cy="76320"/>
              <a:chOff x="9162720" y="2155680"/>
              <a:chExt cx="79560" cy="76320"/>
            </a:xfrm>
          </p:grpSpPr>
          <p:sp>
            <p:nvSpPr>
              <p:cNvPr id="3099" name=""/>
              <p:cNvSpPr/>
              <p:nvPr/>
            </p:nvSpPr>
            <p:spPr>
              <a:xfrm rot="10800000">
                <a:off x="9162720" y="21556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rot="10800000">
                <a:off x="9174600" y="21654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1" name=""/>
            <p:cNvGrpSpPr/>
            <p:nvPr/>
          </p:nvGrpSpPr>
          <p:grpSpPr>
            <a:xfrm>
              <a:off x="9229680" y="2179800"/>
              <a:ext cx="76320" cy="79560"/>
              <a:chOff x="9229680" y="2179800"/>
              <a:chExt cx="76320" cy="79560"/>
            </a:xfrm>
          </p:grpSpPr>
          <p:sp>
            <p:nvSpPr>
              <p:cNvPr id="3102" name=""/>
              <p:cNvSpPr/>
              <p:nvPr/>
            </p:nvSpPr>
            <p:spPr>
              <a:xfrm rot="5400000">
                <a:off x="9227880" y="21812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rot="5400000">
                <a:off x="9239760" y="22089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4" name=""/>
            <p:cNvGrpSpPr/>
            <p:nvPr/>
          </p:nvGrpSpPr>
          <p:grpSpPr>
            <a:xfrm>
              <a:off x="9231480" y="2057400"/>
              <a:ext cx="75960" cy="79200"/>
              <a:chOff x="9231480" y="2057400"/>
              <a:chExt cx="75960" cy="79200"/>
            </a:xfrm>
          </p:grpSpPr>
          <p:sp>
            <p:nvSpPr>
              <p:cNvPr id="3105" name=""/>
              <p:cNvSpPr/>
              <p:nvPr/>
            </p:nvSpPr>
            <p:spPr>
              <a:xfrm rot="16200000">
                <a:off x="9229680" y="20588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rot="16200000">
                <a:off x="9259560" y="20685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7" name=""/>
            <p:cNvGrpSpPr/>
            <p:nvPr/>
          </p:nvGrpSpPr>
          <p:grpSpPr>
            <a:xfrm>
              <a:off x="9269640" y="2131920"/>
              <a:ext cx="75960" cy="79560"/>
              <a:chOff x="9269640" y="2131920"/>
              <a:chExt cx="75960" cy="79560"/>
            </a:xfrm>
          </p:grpSpPr>
          <p:sp>
            <p:nvSpPr>
              <p:cNvPr id="3108" name=""/>
              <p:cNvSpPr/>
              <p:nvPr/>
            </p:nvSpPr>
            <p:spPr>
              <a:xfrm rot="16200000">
                <a:off x="9267840" y="21337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rot="16200000">
                <a:off x="9297720" y="2143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0" name=""/>
            <p:cNvGrpSpPr/>
            <p:nvPr/>
          </p:nvGrpSpPr>
          <p:grpSpPr>
            <a:xfrm>
              <a:off x="9143640" y="2081160"/>
              <a:ext cx="79560" cy="76320"/>
              <a:chOff x="9143640" y="2081160"/>
              <a:chExt cx="79560" cy="76320"/>
            </a:xfrm>
          </p:grpSpPr>
          <p:sp>
            <p:nvSpPr>
              <p:cNvPr id="3111" name=""/>
              <p:cNvSpPr/>
              <p:nvPr/>
            </p:nvSpPr>
            <p:spPr>
              <a:xfrm rot="10800000">
                <a:off x="9143640" y="20811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rot="10800000">
                <a:off x="9155520" y="20908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13" name=""/>
          <p:cNvGrpSpPr/>
          <p:nvPr/>
        </p:nvGrpSpPr>
        <p:grpSpPr>
          <a:xfrm>
            <a:off x="8677440" y="2260080"/>
            <a:ext cx="167400" cy="172080"/>
            <a:chOff x="8677440" y="2260080"/>
            <a:chExt cx="167400" cy="172080"/>
          </a:xfrm>
        </p:grpSpPr>
        <p:grpSp>
          <p:nvGrpSpPr>
            <p:cNvPr id="3114" name=""/>
            <p:cNvGrpSpPr/>
            <p:nvPr/>
          </p:nvGrpSpPr>
          <p:grpSpPr>
            <a:xfrm>
              <a:off x="8677440" y="2310840"/>
              <a:ext cx="79200" cy="76320"/>
              <a:chOff x="8677440" y="2310840"/>
              <a:chExt cx="79200" cy="76320"/>
            </a:xfrm>
          </p:grpSpPr>
          <p:sp>
            <p:nvSpPr>
              <p:cNvPr id="3115" name=""/>
              <p:cNvSpPr/>
              <p:nvPr/>
            </p:nvSpPr>
            <p:spPr>
              <a:xfrm rot="10800000">
                <a:off x="8677440" y="231084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rot="10800000">
                <a:off x="8688960" y="2320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8768880" y="2352600"/>
              <a:ext cx="75960" cy="79560"/>
              <a:chOff x="8768880" y="2352600"/>
              <a:chExt cx="75960" cy="79560"/>
            </a:xfrm>
          </p:grpSpPr>
          <p:sp>
            <p:nvSpPr>
              <p:cNvPr id="3118" name=""/>
              <p:cNvSpPr/>
              <p:nvPr/>
            </p:nvSpPr>
            <p:spPr>
              <a:xfrm rot="5400000">
                <a:off x="8767080" y="23544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rot="5400000">
                <a:off x="8778960" y="2382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0" name=""/>
            <p:cNvGrpSpPr/>
            <p:nvPr/>
          </p:nvGrpSpPr>
          <p:grpSpPr>
            <a:xfrm>
              <a:off x="8764560" y="2260080"/>
              <a:ext cx="75600" cy="79560"/>
              <a:chOff x="8764560" y="2260080"/>
              <a:chExt cx="75600" cy="79560"/>
            </a:xfrm>
          </p:grpSpPr>
          <p:sp>
            <p:nvSpPr>
              <p:cNvPr id="3121" name=""/>
              <p:cNvSpPr/>
              <p:nvPr/>
            </p:nvSpPr>
            <p:spPr>
              <a:xfrm rot="16200000">
                <a:off x="8762400" y="226188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rot="16200000">
                <a:off x="8792280" y="2271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3" name=""/>
          <p:cNvGrpSpPr/>
          <p:nvPr/>
        </p:nvGrpSpPr>
        <p:grpSpPr>
          <a:xfrm>
            <a:off x="2789640" y="4145400"/>
            <a:ext cx="171000" cy="167400"/>
            <a:chOff x="2789640" y="4145400"/>
            <a:chExt cx="171000" cy="167400"/>
          </a:xfrm>
        </p:grpSpPr>
        <p:grpSp>
          <p:nvGrpSpPr>
            <p:cNvPr id="3124" name=""/>
            <p:cNvGrpSpPr/>
            <p:nvPr/>
          </p:nvGrpSpPr>
          <p:grpSpPr>
            <a:xfrm>
              <a:off x="2840400" y="4233600"/>
              <a:ext cx="75960" cy="79200"/>
              <a:chOff x="2840400" y="4233600"/>
              <a:chExt cx="75960" cy="79200"/>
            </a:xfrm>
          </p:grpSpPr>
          <p:sp>
            <p:nvSpPr>
              <p:cNvPr id="3125" name=""/>
              <p:cNvSpPr/>
              <p:nvPr/>
            </p:nvSpPr>
            <p:spPr>
              <a:xfrm rot="5400000">
                <a:off x="2838600" y="42350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rot="5400000">
                <a:off x="2850480" y="4263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7" name=""/>
            <p:cNvGrpSpPr/>
            <p:nvPr/>
          </p:nvGrpSpPr>
          <p:grpSpPr>
            <a:xfrm>
              <a:off x="2881440" y="4145400"/>
              <a:ext cx="79200" cy="75960"/>
              <a:chOff x="2881440" y="4145400"/>
              <a:chExt cx="79200" cy="75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2881440" y="41454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911320" y="4173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2789640" y="4150080"/>
              <a:ext cx="79200" cy="75600"/>
              <a:chOff x="2789640" y="4150080"/>
              <a:chExt cx="79200" cy="75600"/>
            </a:xfrm>
          </p:grpSpPr>
          <p:sp>
            <p:nvSpPr>
              <p:cNvPr id="3131" name=""/>
              <p:cNvSpPr/>
              <p:nvPr/>
            </p:nvSpPr>
            <p:spPr>
              <a:xfrm rot="10800000">
                <a:off x="2789640" y="415008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rot="10800000">
                <a:off x="2801160" y="41598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3" name=""/>
          <p:cNvGrpSpPr/>
          <p:nvPr/>
        </p:nvGrpSpPr>
        <p:grpSpPr>
          <a:xfrm>
            <a:off x="3658680" y="4410000"/>
            <a:ext cx="172080" cy="168840"/>
            <a:chOff x="3658680" y="4410000"/>
            <a:chExt cx="172080" cy="168840"/>
          </a:xfrm>
        </p:grpSpPr>
        <p:grpSp>
          <p:nvGrpSpPr>
            <p:cNvPr id="3134" name=""/>
            <p:cNvGrpSpPr/>
            <p:nvPr/>
          </p:nvGrpSpPr>
          <p:grpSpPr>
            <a:xfrm>
              <a:off x="3709440" y="4499280"/>
              <a:ext cx="76320" cy="79560"/>
              <a:chOff x="3709440" y="4499280"/>
              <a:chExt cx="76320" cy="79560"/>
            </a:xfrm>
          </p:grpSpPr>
          <p:sp>
            <p:nvSpPr>
              <p:cNvPr id="3135" name=""/>
              <p:cNvSpPr/>
              <p:nvPr/>
            </p:nvSpPr>
            <p:spPr>
              <a:xfrm rot="5400000">
                <a:off x="3707640" y="45007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rot="5400000">
                <a:off x="3719520" y="45284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7" name=""/>
            <p:cNvGrpSpPr/>
            <p:nvPr/>
          </p:nvGrpSpPr>
          <p:grpSpPr>
            <a:xfrm>
              <a:off x="3751200" y="4410000"/>
              <a:ext cx="79560" cy="76320"/>
              <a:chOff x="3751200" y="4410000"/>
              <a:chExt cx="79560" cy="76320"/>
            </a:xfrm>
          </p:grpSpPr>
          <p:sp>
            <p:nvSpPr>
              <p:cNvPr id="3138" name=""/>
              <p:cNvSpPr/>
              <p:nvPr/>
            </p:nvSpPr>
            <p:spPr>
              <a:xfrm>
                <a:off x="3751200" y="44100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3781080" y="44377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0" name=""/>
            <p:cNvGrpSpPr/>
            <p:nvPr/>
          </p:nvGrpSpPr>
          <p:grpSpPr>
            <a:xfrm>
              <a:off x="3658680" y="4415040"/>
              <a:ext cx="79560" cy="75960"/>
              <a:chOff x="3658680" y="4415040"/>
              <a:chExt cx="79560" cy="75960"/>
            </a:xfrm>
          </p:grpSpPr>
          <p:sp>
            <p:nvSpPr>
              <p:cNvPr id="3141" name=""/>
              <p:cNvSpPr/>
              <p:nvPr/>
            </p:nvSpPr>
            <p:spPr>
              <a:xfrm rot="10800000">
                <a:off x="3658680" y="44150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rot="10800000">
                <a:off x="3670560" y="44247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3" name=""/>
          <p:cNvGrpSpPr/>
          <p:nvPr/>
        </p:nvGrpSpPr>
        <p:grpSpPr>
          <a:xfrm>
            <a:off x="3816000" y="4397040"/>
            <a:ext cx="201960" cy="201960"/>
            <a:chOff x="3816000" y="4397040"/>
            <a:chExt cx="201960" cy="201960"/>
          </a:xfrm>
        </p:grpSpPr>
        <p:grpSp>
          <p:nvGrpSpPr>
            <p:cNvPr id="3144" name=""/>
            <p:cNvGrpSpPr/>
            <p:nvPr/>
          </p:nvGrpSpPr>
          <p:grpSpPr>
            <a:xfrm>
              <a:off x="3843360" y="4416120"/>
              <a:ext cx="76320" cy="79560"/>
              <a:chOff x="3843360" y="4416120"/>
              <a:chExt cx="76320" cy="79560"/>
            </a:xfrm>
          </p:grpSpPr>
          <p:sp>
            <p:nvSpPr>
              <p:cNvPr id="3145" name=""/>
              <p:cNvSpPr/>
              <p:nvPr/>
            </p:nvSpPr>
            <p:spPr>
              <a:xfrm rot="16200000">
                <a:off x="3841560" y="44175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rot="16200000">
                <a:off x="3871440" y="44272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7" name=""/>
            <p:cNvGrpSpPr/>
            <p:nvPr/>
          </p:nvGrpSpPr>
          <p:grpSpPr>
            <a:xfrm>
              <a:off x="3816000" y="4483080"/>
              <a:ext cx="79560" cy="76320"/>
              <a:chOff x="3816000" y="4483080"/>
              <a:chExt cx="79560" cy="76320"/>
            </a:xfrm>
          </p:grpSpPr>
          <p:sp>
            <p:nvSpPr>
              <p:cNvPr id="3148" name=""/>
              <p:cNvSpPr/>
              <p:nvPr/>
            </p:nvSpPr>
            <p:spPr>
              <a:xfrm rot="10800000">
                <a:off x="3816000" y="44830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rot="10800000">
                <a:off x="3827880" y="44928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0" name=""/>
            <p:cNvGrpSpPr/>
            <p:nvPr/>
          </p:nvGrpSpPr>
          <p:grpSpPr>
            <a:xfrm>
              <a:off x="3938760" y="4484880"/>
              <a:ext cx="79200" cy="75960"/>
              <a:chOff x="3938760" y="4484880"/>
              <a:chExt cx="79200" cy="75960"/>
            </a:xfrm>
          </p:grpSpPr>
          <p:sp>
            <p:nvSpPr>
              <p:cNvPr id="3151" name=""/>
              <p:cNvSpPr/>
              <p:nvPr/>
            </p:nvSpPr>
            <p:spPr>
              <a:xfrm>
                <a:off x="3938760" y="44848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968640" y="4512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3" name=""/>
            <p:cNvGrpSpPr/>
            <p:nvPr/>
          </p:nvGrpSpPr>
          <p:grpSpPr>
            <a:xfrm>
              <a:off x="3863880" y="4523040"/>
              <a:ext cx="79560" cy="75960"/>
              <a:chOff x="3863880" y="4523040"/>
              <a:chExt cx="79560" cy="75960"/>
            </a:xfrm>
          </p:grpSpPr>
          <p:sp>
            <p:nvSpPr>
              <p:cNvPr id="3154" name=""/>
              <p:cNvSpPr/>
              <p:nvPr/>
            </p:nvSpPr>
            <p:spPr>
              <a:xfrm>
                <a:off x="3863880" y="45230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893760" y="45507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6" name=""/>
            <p:cNvGrpSpPr/>
            <p:nvPr/>
          </p:nvGrpSpPr>
          <p:grpSpPr>
            <a:xfrm>
              <a:off x="3917880" y="4397040"/>
              <a:ext cx="76320" cy="79560"/>
              <a:chOff x="3917880" y="4397040"/>
              <a:chExt cx="76320" cy="79560"/>
            </a:xfrm>
          </p:grpSpPr>
          <p:sp>
            <p:nvSpPr>
              <p:cNvPr id="3157" name=""/>
              <p:cNvSpPr/>
              <p:nvPr/>
            </p:nvSpPr>
            <p:spPr>
              <a:xfrm rot="16200000">
                <a:off x="3916080" y="43984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rot="16200000">
                <a:off x="3945960" y="44082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9" name=""/>
          <p:cNvGrpSpPr/>
          <p:nvPr/>
        </p:nvGrpSpPr>
        <p:grpSpPr>
          <a:xfrm>
            <a:off x="4057560" y="4406400"/>
            <a:ext cx="76320" cy="79560"/>
            <a:chOff x="4057560" y="4406400"/>
            <a:chExt cx="76320" cy="79560"/>
          </a:xfrm>
        </p:grpSpPr>
        <p:sp>
          <p:nvSpPr>
            <p:cNvPr id="3160" name=""/>
            <p:cNvSpPr/>
            <p:nvPr/>
          </p:nvSpPr>
          <p:spPr>
            <a:xfrm rot="16200000">
              <a:off x="4055760" y="4407840"/>
              <a:ext cx="7956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rot="16200000">
              <a:off x="4085640" y="441756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2717640" y="4057200"/>
            <a:ext cx="76320" cy="79560"/>
            <a:chOff x="2717640" y="4057200"/>
            <a:chExt cx="76320" cy="79560"/>
          </a:xfrm>
        </p:grpSpPr>
        <p:sp>
          <p:nvSpPr>
            <p:cNvPr id="3163" name=""/>
            <p:cNvSpPr/>
            <p:nvPr/>
          </p:nvSpPr>
          <p:spPr>
            <a:xfrm rot="16200000">
              <a:off x="2715840" y="4058640"/>
              <a:ext cx="7956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rot="16200000">
              <a:off x="2745720" y="406836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4800600" y="3809520"/>
            <a:ext cx="76320" cy="79560"/>
            <a:chOff x="4800600" y="3809520"/>
            <a:chExt cx="76320" cy="79560"/>
          </a:xfrm>
        </p:grpSpPr>
        <p:sp>
          <p:nvSpPr>
            <p:cNvPr id="3166" name=""/>
            <p:cNvSpPr/>
            <p:nvPr/>
          </p:nvSpPr>
          <p:spPr>
            <a:xfrm rot="16200000">
              <a:off x="4798800" y="3810960"/>
              <a:ext cx="7956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rot="16200000">
              <a:off x="4828680" y="382068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8" name=""/>
          <p:cNvGrpSpPr/>
          <p:nvPr/>
        </p:nvGrpSpPr>
        <p:grpSpPr>
          <a:xfrm>
            <a:off x="4495680" y="3809520"/>
            <a:ext cx="76320" cy="79560"/>
            <a:chOff x="4495680" y="3809520"/>
            <a:chExt cx="76320" cy="79560"/>
          </a:xfrm>
        </p:grpSpPr>
        <p:sp>
          <p:nvSpPr>
            <p:cNvPr id="3169" name=""/>
            <p:cNvSpPr/>
            <p:nvPr/>
          </p:nvSpPr>
          <p:spPr>
            <a:xfrm rot="16200000">
              <a:off x="4493880" y="3810960"/>
              <a:ext cx="7956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rot="16200000">
              <a:off x="4523760" y="382068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1" name=""/>
          <p:cNvGrpSpPr/>
          <p:nvPr/>
        </p:nvGrpSpPr>
        <p:grpSpPr>
          <a:xfrm>
            <a:off x="717120" y="2251080"/>
            <a:ext cx="201960" cy="201960"/>
            <a:chOff x="717120" y="2251080"/>
            <a:chExt cx="201960" cy="201960"/>
          </a:xfrm>
        </p:grpSpPr>
        <p:grpSp>
          <p:nvGrpSpPr>
            <p:cNvPr id="3172" name=""/>
            <p:cNvGrpSpPr/>
            <p:nvPr/>
          </p:nvGrpSpPr>
          <p:grpSpPr>
            <a:xfrm>
              <a:off x="736200" y="2349360"/>
              <a:ext cx="79560" cy="76320"/>
              <a:chOff x="736200" y="2349360"/>
              <a:chExt cx="79560" cy="76320"/>
            </a:xfrm>
          </p:grpSpPr>
          <p:sp>
            <p:nvSpPr>
              <p:cNvPr id="3173" name=""/>
              <p:cNvSpPr/>
              <p:nvPr/>
            </p:nvSpPr>
            <p:spPr>
              <a:xfrm rot="10800000">
                <a:off x="736200" y="23493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rot="10800000">
                <a:off x="748080" y="23590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5" name=""/>
            <p:cNvGrpSpPr/>
            <p:nvPr/>
          </p:nvGrpSpPr>
          <p:grpSpPr>
            <a:xfrm>
              <a:off x="803160" y="2373480"/>
              <a:ext cx="76320" cy="79560"/>
              <a:chOff x="803160" y="2373480"/>
              <a:chExt cx="76320" cy="79560"/>
            </a:xfrm>
          </p:grpSpPr>
          <p:sp>
            <p:nvSpPr>
              <p:cNvPr id="3176" name=""/>
              <p:cNvSpPr/>
              <p:nvPr/>
            </p:nvSpPr>
            <p:spPr>
              <a:xfrm rot="5400000">
                <a:off x="801360" y="23749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 rot="5400000">
                <a:off x="813240" y="24026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8" name=""/>
            <p:cNvGrpSpPr/>
            <p:nvPr/>
          </p:nvGrpSpPr>
          <p:grpSpPr>
            <a:xfrm>
              <a:off x="804960" y="2251080"/>
              <a:ext cx="75960" cy="79200"/>
              <a:chOff x="804960" y="2251080"/>
              <a:chExt cx="75960" cy="79200"/>
            </a:xfrm>
          </p:grpSpPr>
          <p:sp>
            <p:nvSpPr>
              <p:cNvPr id="3179" name=""/>
              <p:cNvSpPr/>
              <p:nvPr/>
            </p:nvSpPr>
            <p:spPr>
              <a:xfrm rot="16200000">
                <a:off x="803160" y="22525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rot="16200000">
                <a:off x="833040" y="22622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1" name=""/>
            <p:cNvGrpSpPr/>
            <p:nvPr/>
          </p:nvGrpSpPr>
          <p:grpSpPr>
            <a:xfrm>
              <a:off x="843120" y="2325600"/>
              <a:ext cx="75960" cy="79560"/>
              <a:chOff x="843120" y="2325600"/>
              <a:chExt cx="75960" cy="79560"/>
            </a:xfrm>
          </p:grpSpPr>
          <p:sp>
            <p:nvSpPr>
              <p:cNvPr id="3182" name=""/>
              <p:cNvSpPr/>
              <p:nvPr/>
            </p:nvSpPr>
            <p:spPr>
              <a:xfrm rot="16200000">
                <a:off x="841320" y="23274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 rot="16200000">
                <a:off x="871200" y="2337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4" name=""/>
            <p:cNvGrpSpPr/>
            <p:nvPr/>
          </p:nvGrpSpPr>
          <p:grpSpPr>
            <a:xfrm>
              <a:off x="717120" y="2274840"/>
              <a:ext cx="79560" cy="76320"/>
              <a:chOff x="717120" y="2274840"/>
              <a:chExt cx="79560" cy="76320"/>
            </a:xfrm>
          </p:grpSpPr>
          <p:sp>
            <p:nvSpPr>
              <p:cNvPr id="3185" name=""/>
              <p:cNvSpPr/>
              <p:nvPr/>
            </p:nvSpPr>
            <p:spPr>
              <a:xfrm rot="10800000">
                <a:off x="717120" y="22748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rot="10800000">
                <a:off x="729000" y="2284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7" name=""/>
          <p:cNvGrpSpPr/>
          <p:nvPr/>
        </p:nvGrpSpPr>
        <p:grpSpPr>
          <a:xfrm>
            <a:off x="590040" y="2211840"/>
            <a:ext cx="172080" cy="167400"/>
            <a:chOff x="590040" y="2211840"/>
            <a:chExt cx="172080" cy="167400"/>
          </a:xfrm>
        </p:grpSpPr>
        <p:grpSp>
          <p:nvGrpSpPr>
            <p:cNvPr id="3188" name=""/>
            <p:cNvGrpSpPr/>
            <p:nvPr/>
          </p:nvGrpSpPr>
          <p:grpSpPr>
            <a:xfrm>
              <a:off x="640800" y="2300040"/>
              <a:ext cx="76320" cy="79200"/>
              <a:chOff x="640800" y="2300040"/>
              <a:chExt cx="76320" cy="79200"/>
            </a:xfrm>
          </p:grpSpPr>
          <p:sp>
            <p:nvSpPr>
              <p:cNvPr id="3189" name=""/>
              <p:cNvSpPr/>
              <p:nvPr/>
            </p:nvSpPr>
            <p:spPr>
              <a:xfrm rot="5400000">
                <a:off x="639360" y="23014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rot="5400000">
                <a:off x="650880" y="23292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1" name=""/>
            <p:cNvGrpSpPr/>
            <p:nvPr/>
          </p:nvGrpSpPr>
          <p:grpSpPr>
            <a:xfrm>
              <a:off x="682560" y="2211840"/>
              <a:ext cx="79560" cy="75960"/>
              <a:chOff x="682560" y="2211840"/>
              <a:chExt cx="79560" cy="75960"/>
            </a:xfrm>
          </p:grpSpPr>
          <p:sp>
            <p:nvSpPr>
              <p:cNvPr id="3192" name=""/>
              <p:cNvSpPr/>
              <p:nvPr/>
            </p:nvSpPr>
            <p:spPr>
              <a:xfrm>
                <a:off x="682560" y="22118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12440" y="22395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4" name=""/>
            <p:cNvGrpSpPr/>
            <p:nvPr/>
          </p:nvGrpSpPr>
          <p:grpSpPr>
            <a:xfrm>
              <a:off x="590040" y="2216520"/>
              <a:ext cx="79560" cy="75600"/>
              <a:chOff x="590040" y="2216520"/>
              <a:chExt cx="79560" cy="75600"/>
            </a:xfrm>
          </p:grpSpPr>
          <p:sp>
            <p:nvSpPr>
              <p:cNvPr id="3195" name=""/>
              <p:cNvSpPr/>
              <p:nvPr/>
            </p:nvSpPr>
            <p:spPr>
              <a:xfrm rot="10800000">
                <a:off x="590040" y="221652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rot="10800000">
                <a:off x="601920" y="22262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97" name=""/>
          <p:cNvGrpSpPr/>
          <p:nvPr/>
        </p:nvGrpSpPr>
        <p:grpSpPr>
          <a:xfrm>
            <a:off x="762120" y="2133720"/>
            <a:ext cx="75960" cy="79200"/>
            <a:chOff x="762120" y="2133720"/>
            <a:chExt cx="75960" cy="79200"/>
          </a:xfrm>
        </p:grpSpPr>
        <p:sp>
          <p:nvSpPr>
            <p:cNvPr id="3198" name=""/>
            <p:cNvSpPr/>
            <p:nvPr/>
          </p:nvSpPr>
          <p:spPr>
            <a:xfrm rot="16200000">
              <a:off x="760320" y="2135160"/>
              <a:ext cx="79200" cy="759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rot="16200000">
              <a:off x="790200" y="2144880"/>
              <a:ext cx="37800" cy="3852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0" name=""/>
          <p:cNvGrpSpPr/>
          <p:nvPr/>
        </p:nvGrpSpPr>
        <p:grpSpPr>
          <a:xfrm>
            <a:off x="590040" y="1978200"/>
            <a:ext cx="201960" cy="201960"/>
            <a:chOff x="590040" y="1978200"/>
            <a:chExt cx="201960" cy="201960"/>
          </a:xfrm>
        </p:grpSpPr>
        <p:grpSp>
          <p:nvGrpSpPr>
            <p:cNvPr id="3201" name=""/>
            <p:cNvGrpSpPr/>
            <p:nvPr/>
          </p:nvGrpSpPr>
          <p:grpSpPr>
            <a:xfrm>
              <a:off x="609120" y="2076480"/>
              <a:ext cx="79560" cy="76320"/>
              <a:chOff x="609120" y="2076480"/>
              <a:chExt cx="79560" cy="76320"/>
            </a:xfrm>
          </p:grpSpPr>
          <p:sp>
            <p:nvSpPr>
              <p:cNvPr id="3202" name=""/>
              <p:cNvSpPr/>
              <p:nvPr/>
            </p:nvSpPr>
            <p:spPr>
              <a:xfrm rot="10800000">
                <a:off x="609120" y="20764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rot="10800000">
                <a:off x="621000" y="20862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676080" y="2100600"/>
              <a:ext cx="76320" cy="79560"/>
              <a:chOff x="676080" y="2100600"/>
              <a:chExt cx="76320" cy="79560"/>
            </a:xfrm>
          </p:grpSpPr>
          <p:sp>
            <p:nvSpPr>
              <p:cNvPr id="3205" name=""/>
              <p:cNvSpPr/>
              <p:nvPr/>
            </p:nvSpPr>
            <p:spPr>
              <a:xfrm rot="5400000">
                <a:off x="674280" y="21020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rot="5400000">
                <a:off x="686160" y="21297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7" name=""/>
            <p:cNvGrpSpPr/>
            <p:nvPr/>
          </p:nvGrpSpPr>
          <p:grpSpPr>
            <a:xfrm>
              <a:off x="677880" y="1978200"/>
              <a:ext cx="75960" cy="79200"/>
              <a:chOff x="677880" y="1978200"/>
              <a:chExt cx="75960" cy="79200"/>
            </a:xfrm>
          </p:grpSpPr>
          <p:sp>
            <p:nvSpPr>
              <p:cNvPr id="3208" name=""/>
              <p:cNvSpPr/>
              <p:nvPr/>
            </p:nvSpPr>
            <p:spPr>
              <a:xfrm rot="16200000">
                <a:off x="676080" y="19796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rot="16200000">
                <a:off x="705960" y="19893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0" name=""/>
            <p:cNvGrpSpPr/>
            <p:nvPr/>
          </p:nvGrpSpPr>
          <p:grpSpPr>
            <a:xfrm>
              <a:off x="716040" y="2052720"/>
              <a:ext cx="75960" cy="79560"/>
              <a:chOff x="716040" y="2052720"/>
              <a:chExt cx="75960" cy="79560"/>
            </a:xfrm>
          </p:grpSpPr>
          <p:sp>
            <p:nvSpPr>
              <p:cNvPr id="3211" name=""/>
              <p:cNvSpPr/>
              <p:nvPr/>
            </p:nvSpPr>
            <p:spPr>
              <a:xfrm rot="16200000">
                <a:off x="714240" y="20545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rot="16200000">
                <a:off x="744120" y="20642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590040" y="2001960"/>
              <a:ext cx="79560" cy="76320"/>
              <a:chOff x="590040" y="2001960"/>
              <a:chExt cx="79560" cy="76320"/>
            </a:xfrm>
          </p:grpSpPr>
          <p:sp>
            <p:nvSpPr>
              <p:cNvPr id="3214" name=""/>
              <p:cNvSpPr/>
              <p:nvPr/>
            </p:nvSpPr>
            <p:spPr>
              <a:xfrm rot="10800000">
                <a:off x="590040" y="20019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rot="10800000">
                <a:off x="601920" y="20116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6" name=""/>
          <p:cNvGrpSpPr/>
          <p:nvPr/>
        </p:nvGrpSpPr>
        <p:grpSpPr>
          <a:xfrm>
            <a:off x="644400" y="1875960"/>
            <a:ext cx="76320" cy="79560"/>
            <a:chOff x="644400" y="1875960"/>
            <a:chExt cx="76320" cy="79560"/>
          </a:xfrm>
        </p:grpSpPr>
        <p:sp>
          <p:nvSpPr>
            <p:cNvPr id="3217" name=""/>
            <p:cNvSpPr/>
            <p:nvPr/>
          </p:nvSpPr>
          <p:spPr>
            <a:xfrm rot="16200000">
              <a:off x="642600" y="1877400"/>
              <a:ext cx="7956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 rot="16200000">
              <a:off x="672480" y="188712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9" name=""/>
          <p:cNvGrpSpPr/>
          <p:nvPr/>
        </p:nvGrpSpPr>
        <p:grpSpPr>
          <a:xfrm>
            <a:off x="914760" y="2286000"/>
            <a:ext cx="167400" cy="171000"/>
            <a:chOff x="914760" y="2286000"/>
            <a:chExt cx="167400" cy="171000"/>
          </a:xfrm>
        </p:grpSpPr>
        <p:grpSp>
          <p:nvGrpSpPr>
            <p:cNvPr id="3220" name=""/>
            <p:cNvGrpSpPr/>
            <p:nvPr/>
          </p:nvGrpSpPr>
          <p:grpSpPr>
            <a:xfrm>
              <a:off x="1002960" y="2330280"/>
              <a:ext cx="79200" cy="75960"/>
              <a:chOff x="1002960" y="2330280"/>
              <a:chExt cx="79200" cy="75960"/>
            </a:xfrm>
          </p:grpSpPr>
          <p:sp>
            <p:nvSpPr>
              <p:cNvPr id="3221" name=""/>
              <p:cNvSpPr/>
              <p:nvPr/>
            </p:nvSpPr>
            <p:spPr>
              <a:xfrm>
                <a:off x="1002960" y="23302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1032840" y="23580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3" name=""/>
            <p:cNvGrpSpPr/>
            <p:nvPr/>
          </p:nvGrpSpPr>
          <p:grpSpPr>
            <a:xfrm>
              <a:off x="914760" y="2286000"/>
              <a:ext cx="75960" cy="79200"/>
              <a:chOff x="914760" y="2286000"/>
              <a:chExt cx="75960" cy="79200"/>
            </a:xfrm>
          </p:grpSpPr>
          <p:sp>
            <p:nvSpPr>
              <p:cNvPr id="3224" name=""/>
              <p:cNvSpPr/>
              <p:nvPr/>
            </p:nvSpPr>
            <p:spPr>
              <a:xfrm rot="16200000">
                <a:off x="912960" y="2287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rot="16200000">
                <a:off x="942840" y="2297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6" name=""/>
            <p:cNvGrpSpPr/>
            <p:nvPr/>
          </p:nvGrpSpPr>
          <p:grpSpPr>
            <a:xfrm>
              <a:off x="919440" y="2377800"/>
              <a:ext cx="75600" cy="79200"/>
              <a:chOff x="919440" y="2377800"/>
              <a:chExt cx="75600" cy="79200"/>
            </a:xfrm>
          </p:grpSpPr>
          <p:sp>
            <p:nvSpPr>
              <p:cNvPr id="3227" name=""/>
              <p:cNvSpPr/>
              <p:nvPr/>
            </p:nvSpPr>
            <p:spPr>
              <a:xfrm rot="5400000">
                <a:off x="917640" y="237960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rot="5400000">
                <a:off x="929520" y="2407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9" name=""/>
          <p:cNvGrpSpPr/>
          <p:nvPr/>
        </p:nvGrpSpPr>
        <p:grpSpPr>
          <a:xfrm>
            <a:off x="812880" y="2048040"/>
            <a:ext cx="75960" cy="79200"/>
            <a:chOff x="812880" y="2048040"/>
            <a:chExt cx="75960" cy="79200"/>
          </a:xfrm>
        </p:grpSpPr>
        <p:sp>
          <p:nvSpPr>
            <p:cNvPr id="3230" name=""/>
            <p:cNvSpPr/>
            <p:nvPr/>
          </p:nvSpPr>
          <p:spPr>
            <a:xfrm rot="16200000">
              <a:off x="811080" y="2049480"/>
              <a:ext cx="79200" cy="759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rot="16200000">
              <a:off x="840960" y="2059200"/>
              <a:ext cx="37800" cy="3852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2" name=""/>
          <p:cNvGrpSpPr/>
          <p:nvPr/>
        </p:nvGrpSpPr>
        <p:grpSpPr>
          <a:xfrm>
            <a:off x="762120" y="1219320"/>
            <a:ext cx="95040" cy="97200"/>
            <a:chOff x="762120" y="1219320"/>
            <a:chExt cx="95040" cy="97200"/>
          </a:xfrm>
        </p:grpSpPr>
        <p:sp>
          <p:nvSpPr>
            <p:cNvPr id="3233" name=""/>
            <p:cNvSpPr/>
            <p:nvPr/>
          </p:nvSpPr>
          <p:spPr>
            <a:xfrm>
              <a:off x="762120" y="1219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62120" y="1316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09640" y="1219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62120" y="1219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7" name=""/>
          <p:cNvGrpSpPr/>
          <p:nvPr/>
        </p:nvGrpSpPr>
        <p:grpSpPr>
          <a:xfrm>
            <a:off x="1217520" y="1449000"/>
            <a:ext cx="97200" cy="95400"/>
            <a:chOff x="1217520" y="1449000"/>
            <a:chExt cx="97200" cy="95400"/>
          </a:xfrm>
        </p:grpSpPr>
        <p:sp>
          <p:nvSpPr>
            <p:cNvPr id="3238" name=""/>
            <p:cNvSpPr/>
            <p:nvPr/>
          </p:nvSpPr>
          <p:spPr>
            <a:xfrm rot="16200000">
              <a:off x="1170000" y="1496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rot="16200000">
              <a:off x="1266840" y="1496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rot="16200000">
              <a:off x="1242000" y="1424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rot="16200000">
              <a:off x="1242000" y="1472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2" name=""/>
          <p:cNvGrpSpPr/>
          <p:nvPr/>
        </p:nvGrpSpPr>
        <p:grpSpPr>
          <a:xfrm>
            <a:off x="1676520" y="1219320"/>
            <a:ext cx="95040" cy="97200"/>
            <a:chOff x="1676520" y="1219320"/>
            <a:chExt cx="95040" cy="97200"/>
          </a:xfrm>
        </p:grpSpPr>
        <p:sp>
          <p:nvSpPr>
            <p:cNvPr id="3243" name=""/>
            <p:cNvSpPr/>
            <p:nvPr/>
          </p:nvSpPr>
          <p:spPr>
            <a:xfrm>
              <a:off x="1676520" y="1219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1676520" y="1316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724040" y="1219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676520" y="1219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7" name=""/>
          <p:cNvGrpSpPr/>
          <p:nvPr/>
        </p:nvGrpSpPr>
        <p:grpSpPr>
          <a:xfrm>
            <a:off x="1447920" y="1219320"/>
            <a:ext cx="95040" cy="97200"/>
            <a:chOff x="1447920" y="1219320"/>
            <a:chExt cx="95040" cy="97200"/>
          </a:xfrm>
        </p:grpSpPr>
        <p:sp>
          <p:nvSpPr>
            <p:cNvPr id="3248" name=""/>
            <p:cNvSpPr/>
            <p:nvPr/>
          </p:nvSpPr>
          <p:spPr>
            <a:xfrm>
              <a:off x="1447920" y="1219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447920" y="1316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495440" y="1219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447920" y="1219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2" name=""/>
          <p:cNvGrpSpPr/>
          <p:nvPr/>
        </p:nvGrpSpPr>
        <p:grpSpPr>
          <a:xfrm>
            <a:off x="1905120" y="1219320"/>
            <a:ext cx="95040" cy="97200"/>
            <a:chOff x="1905120" y="1219320"/>
            <a:chExt cx="95040" cy="97200"/>
          </a:xfrm>
        </p:grpSpPr>
        <p:sp>
          <p:nvSpPr>
            <p:cNvPr id="3253" name=""/>
            <p:cNvSpPr/>
            <p:nvPr/>
          </p:nvSpPr>
          <p:spPr>
            <a:xfrm>
              <a:off x="1905120" y="1219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905120" y="1316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952640" y="1219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905120" y="1219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7" name=""/>
          <p:cNvGrpSpPr/>
          <p:nvPr/>
        </p:nvGrpSpPr>
        <p:grpSpPr>
          <a:xfrm>
            <a:off x="1676520" y="1600200"/>
            <a:ext cx="95040" cy="97200"/>
            <a:chOff x="1676520" y="1600200"/>
            <a:chExt cx="95040" cy="97200"/>
          </a:xfrm>
        </p:grpSpPr>
        <p:sp>
          <p:nvSpPr>
            <p:cNvPr id="3258" name=""/>
            <p:cNvSpPr/>
            <p:nvPr/>
          </p:nvSpPr>
          <p:spPr>
            <a:xfrm>
              <a:off x="1676520" y="1600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676520" y="1697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1724040" y="16002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676520" y="1600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2" name=""/>
          <p:cNvGrpSpPr/>
          <p:nvPr/>
        </p:nvGrpSpPr>
        <p:grpSpPr>
          <a:xfrm>
            <a:off x="1217520" y="2134800"/>
            <a:ext cx="97200" cy="95400"/>
            <a:chOff x="1217520" y="2134800"/>
            <a:chExt cx="97200" cy="95400"/>
          </a:xfrm>
        </p:grpSpPr>
        <p:sp>
          <p:nvSpPr>
            <p:cNvPr id="3263" name=""/>
            <p:cNvSpPr/>
            <p:nvPr/>
          </p:nvSpPr>
          <p:spPr>
            <a:xfrm rot="16200000">
              <a:off x="1170000" y="2182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rot="16200000">
              <a:off x="1266840" y="2182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rot="16200000">
              <a:off x="1242000" y="21099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rot="16200000">
              <a:off x="1242000" y="2157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1219320" y="2590920"/>
            <a:ext cx="95040" cy="97200"/>
            <a:chOff x="1219320" y="2590920"/>
            <a:chExt cx="95040" cy="97200"/>
          </a:xfrm>
        </p:grpSpPr>
        <p:sp>
          <p:nvSpPr>
            <p:cNvPr id="3268" name=""/>
            <p:cNvSpPr/>
            <p:nvPr/>
          </p:nvSpPr>
          <p:spPr>
            <a:xfrm>
              <a:off x="1219320" y="2590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219320" y="2687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266840" y="2590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219320" y="2590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2" name=""/>
          <p:cNvGrpSpPr/>
          <p:nvPr/>
        </p:nvGrpSpPr>
        <p:grpSpPr>
          <a:xfrm>
            <a:off x="1447920" y="2590920"/>
            <a:ext cx="95040" cy="97200"/>
            <a:chOff x="1447920" y="2590920"/>
            <a:chExt cx="95040" cy="97200"/>
          </a:xfrm>
        </p:grpSpPr>
        <p:sp>
          <p:nvSpPr>
            <p:cNvPr id="3273" name=""/>
            <p:cNvSpPr/>
            <p:nvPr/>
          </p:nvSpPr>
          <p:spPr>
            <a:xfrm>
              <a:off x="1447920" y="2590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447920" y="2687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495440" y="2590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447920" y="2590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7" name=""/>
          <p:cNvGrpSpPr/>
          <p:nvPr/>
        </p:nvGrpSpPr>
        <p:grpSpPr>
          <a:xfrm>
            <a:off x="1903320" y="2363400"/>
            <a:ext cx="97200" cy="95400"/>
            <a:chOff x="1903320" y="2363400"/>
            <a:chExt cx="97200" cy="95400"/>
          </a:xfrm>
        </p:grpSpPr>
        <p:sp>
          <p:nvSpPr>
            <p:cNvPr id="3278" name=""/>
            <p:cNvSpPr/>
            <p:nvPr/>
          </p:nvSpPr>
          <p:spPr>
            <a:xfrm rot="16200000">
              <a:off x="1855800" y="2410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rot="16200000">
              <a:off x="1952640" y="2410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rot="16200000">
              <a:off x="1927800" y="23385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rot="16200000">
              <a:off x="1927800" y="23864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2" name=""/>
          <p:cNvGrpSpPr/>
          <p:nvPr/>
        </p:nvGrpSpPr>
        <p:grpSpPr>
          <a:xfrm>
            <a:off x="1219320" y="2743200"/>
            <a:ext cx="95040" cy="97200"/>
            <a:chOff x="1219320" y="2743200"/>
            <a:chExt cx="95040" cy="97200"/>
          </a:xfrm>
        </p:grpSpPr>
        <p:sp>
          <p:nvSpPr>
            <p:cNvPr id="3283" name=""/>
            <p:cNvSpPr/>
            <p:nvPr/>
          </p:nvSpPr>
          <p:spPr>
            <a:xfrm>
              <a:off x="1219320" y="2743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219320" y="2840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266840" y="27432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219320" y="2743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7" name=""/>
          <p:cNvGrpSpPr/>
          <p:nvPr/>
        </p:nvGrpSpPr>
        <p:grpSpPr>
          <a:xfrm>
            <a:off x="2362320" y="1905120"/>
            <a:ext cx="95040" cy="97200"/>
            <a:chOff x="2362320" y="1905120"/>
            <a:chExt cx="95040" cy="97200"/>
          </a:xfrm>
        </p:grpSpPr>
        <p:sp>
          <p:nvSpPr>
            <p:cNvPr id="3288" name=""/>
            <p:cNvSpPr/>
            <p:nvPr/>
          </p:nvSpPr>
          <p:spPr>
            <a:xfrm>
              <a:off x="2362320" y="1905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362320" y="20019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409840" y="1905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362320" y="1905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2819520" y="2112840"/>
            <a:ext cx="95040" cy="97200"/>
            <a:chOff x="2819520" y="2112840"/>
            <a:chExt cx="95040" cy="97200"/>
          </a:xfrm>
        </p:grpSpPr>
        <p:sp>
          <p:nvSpPr>
            <p:cNvPr id="3293" name=""/>
            <p:cNvSpPr/>
            <p:nvPr/>
          </p:nvSpPr>
          <p:spPr>
            <a:xfrm>
              <a:off x="2819520" y="21128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819520" y="220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867040" y="2112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819520" y="21128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7" name=""/>
          <p:cNvGrpSpPr/>
          <p:nvPr/>
        </p:nvGrpSpPr>
        <p:grpSpPr>
          <a:xfrm>
            <a:off x="3046320" y="2114640"/>
            <a:ext cx="97200" cy="95040"/>
            <a:chOff x="3046320" y="2114640"/>
            <a:chExt cx="97200" cy="95040"/>
          </a:xfrm>
        </p:grpSpPr>
        <p:sp>
          <p:nvSpPr>
            <p:cNvPr id="3298" name=""/>
            <p:cNvSpPr/>
            <p:nvPr/>
          </p:nvSpPr>
          <p:spPr>
            <a:xfrm rot="16200000">
              <a:off x="2998800" y="2161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rot="16200000">
              <a:off x="3095640" y="2161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 rot="16200000">
              <a:off x="3071160" y="2090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rot="16200000">
              <a:off x="3070800" y="2137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2819520" y="2590920"/>
            <a:ext cx="95040" cy="97200"/>
            <a:chOff x="2819520" y="2590920"/>
            <a:chExt cx="95040" cy="97200"/>
          </a:xfrm>
        </p:grpSpPr>
        <p:sp>
          <p:nvSpPr>
            <p:cNvPr id="3303" name=""/>
            <p:cNvSpPr/>
            <p:nvPr/>
          </p:nvSpPr>
          <p:spPr>
            <a:xfrm>
              <a:off x="2819520" y="2590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819520" y="2687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867040" y="2590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819520" y="2590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7" name=""/>
          <p:cNvGrpSpPr/>
          <p:nvPr/>
        </p:nvGrpSpPr>
        <p:grpSpPr>
          <a:xfrm>
            <a:off x="4191120" y="2133000"/>
            <a:ext cx="95040" cy="97200"/>
            <a:chOff x="4191120" y="2133000"/>
            <a:chExt cx="95040" cy="97200"/>
          </a:xfrm>
        </p:grpSpPr>
        <p:sp>
          <p:nvSpPr>
            <p:cNvPr id="3308" name=""/>
            <p:cNvSpPr/>
            <p:nvPr/>
          </p:nvSpPr>
          <p:spPr>
            <a:xfrm rot="10800000">
              <a:off x="4191120" y="22298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rot="10800000">
              <a:off x="4191120" y="2133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10800000">
              <a:off x="4191480" y="2133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rot="10800000">
              <a:off x="4238640" y="21333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2" name=""/>
          <p:cNvGrpSpPr/>
          <p:nvPr/>
        </p:nvGrpSpPr>
        <p:grpSpPr>
          <a:xfrm>
            <a:off x="3505320" y="2570040"/>
            <a:ext cx="95040" cy="97200"/>
            <a:chOff x="3505320" y="2570040"/>
            <a:chExt cx="95040" cy="97200"/>
          </a:xfrm>
        </p:grpSpPr>
        <p:sp>
          <p:nvSpPr>
            <p:cNvPr id="3313" name=""/>
            <p:cNvSpPr/>
            <p:nvPr/>
          </p:nvSpPr>
          <p:spPr>
            <a:xfrm>
              <a:off x="3505320" y="2570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505320" y="26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552840" y="2570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505320" y="25700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3505320" y="3505320"/>
            <a:ext cx="95040" cy="97200"/>
            <a:chOff x="3505320" y="3505320"/>
            <a:chExt cx="95040" cy="97200"/>
          </a:xfrm>
        </p:grpSpPr>
        <p:sp>
          <p:nvSpPr>
            <p:cNvPr id="3318" name=""/>
            <p:cNvSpPr/>
            <p:nvPr/>
          </p:nvSpPr>
          <p:spPr>
            <a:xfrm>
              <a:off x="3505320" y="3505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505320" y="3602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3552840" y="3505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505320" y="3505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3046320" y="3735000"/>
            <a:ext cx="97200" cy="95400"/>
            <a:chOff x="3046320" y="3735000"/>
            <a:chExt cx="97200" cy="95400"/>
          </a:xfrm>
        </p:grpSpPr>
        <p:sp>
          <p:nvSpPr>
            <p:cNvPr id="3323" name=""/>
            <p:cNvSpPr/>
            <p:nvPr/>
          </p:nvSpPr>
          <p:spPr>
            <a:xfrm rot="16200000">
              <a:off x="2998800" y="378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rot="16200000">
              <a:off x="3095640" y="378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rot="16200000">
              <a:off x="3070800" y="3710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rot="16200000">
              <a:off x="3070800" y="3758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7" name=""/>
          <p:cNvGrpSpPr/>
          <p:nvPr/>
        </p:nvGrpSpPr>
        <p:grpSpPr>
          <a:xfrm>
            <a:off x="3274920" y="2820600"/>
            <a:ext cx="97200" cy="95400"/>
            <a:chOff x="3274920" y="2820600"/>
            <a:chExt cx="97200" cy="95400"/>
          </a:xfrm>
        </p:grpSpPr>
        <p:sp>
          <p:nvSpPr>
            <p:cNvPr id="3328" name=""/>
            <p:cNvSpPr/>
            <p:nvPr/>
          </p:nvSpPr>
          <p:spPr>
            <a:xfrm rot="16200000">
              <a:off x="3227400" y="2868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 rot="16200000">
              <a:off x="3324240" y="2868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rot="16200000">
              <a:off x="3299400" y="2795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rot="16200000">
              <a:off x="3299400" y="28436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3960720" y="3735000"/>
            <a:ext cx="97200" cy="95400"/>
            <a:chOff x="3960720" y="3735000"/>
            <a:chExt cx="97200" cy="95400"/>
          </a:xfrm>
        </p:grpSpPr>
        <p:sp>
          <p:nvSpPr>
            <p:cNvPr id="3333" name=""/>
            <p:cNvSpPr/>
            <p:nvPr/>
          </p:nvSpPr>
          <p:spPr>
            <a:xfrm rot="16200000">
              <a:off x="3913200" y="378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 rot="16200000">
              <a:off x="4010040" y="378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rot="16200000">
              <a:off x="3985200" y="3710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rot="16200000">
              <a:off x="3985200" y="3758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7" name=""/>
          <p:cNvGrpSpPr/>
          <p:nvPr/>
        </p:nvGrpSpPr>
        <p:grpSpPr>
          <a:xfrm>
            <a:off x="3962520" y="2590920"/>
            <a:ext cx="95040" cy="97200"/>
            <a:chOff x="3962520" y="2590920"/>
            <a:chExt cx="95040" cy="97200"/>
          </a:xfrm>
        </p:grpSpPr>
        <p:sp>
          <p:nvSpPr>
            <p:cNvPr id="3338" name=""/>
            <p:cNvSpPr/>
            <p:nvPr/>
          </p:nvSpPr>
          <p:spPr>
            <a:xfrm>
              <a:off x="3962520" y="25909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962520" y="2687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010040" y="2590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962520" y="2590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3274920" y="3277800"/>
            <a:ext cx="97200" cy="95400"/>
            <a:chOff x="3274920" y="3277800"/>
            <a:chExt cx="97200" cy="95400"/>
          </a:xfrm>
        </p:grpSpPr>
        <p:sp>
          <p:nvSpPr>
            <p:cNvPr id="3343" name=""/>
            <p:cNvSpPr/>
            <p:nvPr/>
          </p:nvSpPr>
          <p:spPr>
            <a:xfrm rot="16200000">
              <a:off x="3227400" y="3325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rot="16200000">
              <a:off x="3324240" y="3325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rot="16200000">
              <a:off x="3299400" y="32529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rot="16200000">
              <a:off x="3299400" y="3300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3733920" y="990720"/>
            <a:ext cx="97200" cy="95040"/>
            <a:chOff x="3733920" y="990720"/>
            <a:chExt cx="97200" cy="95040"/>
          </a:xfrm>
        </p:grpSpPr>
        <p:sp>
          <p:nvSpPr>
            <p:cNvPr id="3348" name=""/>
            <p:cNvSpPr/>
            <p:nvPr/>
          </p:nvSpPr>
          <p:spPr>
            <a:xfrm rot="16200000">
              <a:off x="3686400" y="1037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rot="16200000">
              <a:off x="3783240" y="1037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rot="16200000">
              <a:off x="3758760" y="966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rot="16200000">
              <a:off x="3758400" y="1013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2" name=""/>
          <p:cNvGrpSpPr/>
          <p:nvPr/>
        </p:nvGrpSpPr>
        <p:grpSpPr>
          <a:xfrm>
            <a:off x="4192200" y="912240"/>
            <a:ext cx="95400" cy="97200"/>
            <a:chOff x="4192200" y="912240"/>
            <a:chExt cx="95400" cy="97200"/>
          </a:xfrm>
        </p:grpSpPr>
        <p:sp>
          <p:nvSpPr>
            <p:cNvPr id="3353" name=""/>
            <p:cNvSpPr/>
            <p:nvPr/>
          </p:nvSpPr>
          <p:spPr>
            <a:xfrm rot="10800000">
              <a:off x="4192200" y="1009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rot="10800000">
              <a:off x="4192200" y="912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rot="10800000">
              <a:off x="4192200" y="912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rot="10800000">
              <a:off x="4239720" y="912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7" name=""/>
          <p:cNvGrpSpPr/>
          <p:nvPr/>
        </p:nvGrpSpPr>
        <p:grpSpPr>
          <a:xfrm>
            <a:off x="4419720" y="1219320"/>
            <a:ext cx="97200" cy="95040"/>
            <a:chOff x="4419720" y="1219320"/>
            <a:chExt cx="97200" cy="95040"/>
          </a:xfrm>
        </p:grpSpPr>
        <p:sp>
          <p:nvSpPr>
            <p:cNvPr id="3358" name=""/>
            <p:cNvSpPr/>
            <p:nvPr/>
          </p:nvSpPr>
          <p:spPr>
            <a:xfrm rot="16200000">
              <a:off x="4372200" y="1266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rot="16200000">
              <a:off x="4469040" y="1266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rot="16200000">
              <a:off x="4444560" y="1194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rot="16200000">
              <a:off x="4444200" y="1242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4420800" y="1445400"/>
            <a:ext cx="95400" cy="97200"/>
            <a:chOff x="4420800" y="1445400"/>
            <a:chExt cx="95400" cy="97200"/>
          </a:xfrm>
        </p:grpSpPr>
        <p:sp>
          <p:nvSpPr>
            <p:cNvPr id="3363" name=""/>
            <p:cNvSpPr/>
            <p:nvPr/>
          </p:nvSpPr>
          <p:spPr>
            <a:xfrm rot="10800000">
              <a:off x="4420800" y="1542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rot="10800000">
              <a:off x="4420800" y="1445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rot="10800000">
              <a:off x="4420800" y="1445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rot="10800000">
              <a:off x="4468320" y="1445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7" name=""/>
          <p:cNvGrpSpPr/>
          <p:nvPr/>
        </p:nvGrpSpPr>
        <p:grpSpPr>
          <a:xfrm>
            <a:off x="4419720" y="1676520"/>
            <a:ext cx="97200" cy="95040"/>
            <a:chOff x="4419720" y="1676520"/>
            <a:chExt cx="97200" cy="95040"/>
          </a:xfrm>
        </p:grpSpPr>
        <p:sp>
          <p:nvSpPr>
            <p:cNvPr id="3368" name=""/>
            <p:cNvSpPr/>
            <p:nvPr/>
          </p:nvSpPr>
          <p:spPr>
            <a:xfrm rot="16200000">
              <a:off x="4372200" y="1723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rot="16200000">
              <a:off x="4469040" y="1723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rot="16200000">
              <a:off x="4444560" y="1652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rot="16200000">
              <a:off x="4444200" y="1699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2" name=""/>
          <p:cNvGrpSpPr/>
          <p:nvPr/>
        </p:nvGrpSpPr>
        <p:grpSpPr>
          <a:xfrm>
            <a:off x="5106600" y="1674000"/>
            <a:ext cx="95400" cy="97200"/>
            <a:chOff x="5106600" y="1674000"/>
            <a:chExt cx="95400" cy="97200"/>
          </a:xfrm>
        </p:grpSpPr>
        <p:sp>
          <p:nvSpPr>
            <p:cNvPr id="3373" name=""/>
            <p:cNvSpPr/>
            <p:nvPr/>
          </p:nvSpPr>
          <p:spPr>
            <a:xfrm rot="10800000">
              <a:off x="5106600" y="1770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 rot="10800000">
              <a:off x="5106600" y="1674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 rot="10800000">
              <a:off x="5106600" y="16743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 rot="10800000">
              <a:off x="5154120" y="1674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4495680" y="2133720"/>
            <a:ext cx="97200" cy="95040"/>
            <a:chOff x="4495680" y="2133720"/>
            <a:chExt cx="97200" cy="95040"/>
          </a:xfrm>
        </p:grpSpPr>
        <p:sp>
          <p:nvSpPr>
            <p:cNvPr id="3378" name=""/>
            <p:cNvSpPr/>
            <p:nvPr/>
          </p:nvSpPr>
          <p:spPr>
            <a:xfrm rot="16200000">
              <a:off x="4448160" y="2180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16200000">
              <a:off x="4545000" y="2180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rot="16200000">
              <a:off x="4520520" y="2109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rot="16200000">
              <a:off x="4520160" y="2156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2" name=""/>
          <p:cNvGrpSpPr/>
          <p:nvPr/>
        </p:nvGrpSpPr>
        <p:grpSpPr>
          <a:xfrm>
            <a:off x="5106600" y="2588400"/>
            <a:ext cx="95400" cy="97200"/>
            <a:chOff x="5106600" y="2588400"/>
            <a:chExt cx="95400" cy="97200"/>
          </a:xfrm>
        </p:grpSpPr>
        <p:sp>
          <p:nvSpPr>
            <p:cNvPr id="3383" name=""/>
            <p:cNvSpPr/>
            <p:nvPr/>
          </p:nvSpPr>
          <p:spPr>
            <a:xfrm rot="10800000">
              <a:off x="5106600" y="2685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rot="10800000">
              <a:off x="5106600" y="2588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rot="10800000">
              <a:off x="5106600" y="2588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rot="10800000">
              <a:off x="5154120" y="2588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7" name=""/>
          <p:cNvGrpSpPr/>
          <p:nvPr/>
        </p:nvGrpSpPr>
        <p:grpSpPr>
          <a:xfrm>
            <a:off x="5105520" y="3048120"/>
            <a:ext cx="97200" cy="95040"/>
            <a:chOff x="5105520" y="3048120"/>
            <a:chExt cx="97200" cy="95040"/>
          </a:xfrm>
        </p:grpSpPr>
        <p:sp>
          <p:nvSpPr>
            <p:cNvPr id="3388" name=""/>
            <p:cNvSpPr/>
            <p:nvPr/>
          </p:nvSpPr>
          <p:spPr>
            <a:xfrm rot="16200000">
              <a:off x="5058000" y="3095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rot="16200000">
              <a:off x="5154840" y="3095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rot="16200000">
              <a:off x="5130360" y="3023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rot="16200000">
              <a:off x="5130000" y="3070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5487480" y="2645640"/>
            <a:ext cx="95400" cy="97200"/>
            <a:chOff x="5487480" y="2645640"/>
            <a:chExt cx="95400" cy="97200"/>
          </a:xfrm>
        </p:grpSpPr>
        <p:sp>
          <p:nvSpPr>
            <p:cNvPr id="3393" name=""/>
            <p:cNvSpPr/>
            <p:nvPr/>
          </p:nvSpPr>
          <p:spPr>
            <a:xfrm rot="10800000">
              <a:off x="5487480" y="2742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rot="10800000">
              <a:off x="5487480" y="2645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rot="10800000">
              <a:off x="5487480" y="2646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rot="10800000">
              <a:off x="5535000" y="26460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7" name=""/>
          <p:cNvGrpSpPr/>
          <p:nvPr/>
        </p:nvGrpSpPr>
        <p:grpSpPr>
          <a:xfrm>
            <a:off x="5791320" y="3200040"/>
            <a:ext cx="97200" cy="95400"/>
            <a:chOff x="5791320" y="3200040"/>
            <a:chExt cx="97200" cy="95400"/>
          </a:xfrm>
        </p:grpSpPr>
        <p:sp>
          <p:nvSpPr>
            <p:cNvPr id="3398" name=""/>
            <p:cNvSpPr/>
            <p:nvPr/>
          </p:nvSpPr>
          <p:spPr>
            <a:xfrm rot="16200000">
              <a:off x="5743800" y="324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rot="16200000">
              <a:off x="5840640" y="324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rot="16200000">
              <a:off x="5815800" y="3175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rot="16200000">
              <a:off x="5815800" y="3223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2" name=""/>
          <p:cNvGrpSpPr/>
          <p:nvPr/>
        </p:nvGrpSpPr>
        <p:grpSpPr>
          <a:xfrm>
            <a:off x="5563800" y="1216800"/>
            <a:ext cx="95400" cy="97200"/>
            <a:chOff x="5563800" y="1216800"/>
            <a:chExt cx="95400" cy="97200"/>
          </a:xfrm>
        </p:grpSpPr>
        <p:sp>
          <p:nvSpPr>
            <p:cNvPr id="3403" name=""/>
            <p:cNvSpPr/>
            <p:nvPr/>
          </p:nvSpPr>
          <p:spPr>
            <a:xfrm rot="10800000">
              <a:off x="5563800" y="1313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rot="10800000">
              <a:off x="5563800" y="1216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rot="10800000">
              <a:off x="5563800" y="1217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rot="10800000">
              <a:off x="5611320" y="1217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7" name=""/>
          <p:cNvGrpSpPr/>
          <p:nvPr/>
        </p:nvGrpSpPr>
        <p:grpSpPr>
          <a:xfrm>
            <a:off x="6019920" y="990720"/>
            <a:ext cx="97200" cy="95040"/>
            <a:chOff x="6019920" y="990720"/>
            <a:chExt cx="97200" cy="95040"/>
          </a:xfrm>
        </p:grpSpPr>
        <p:sp>
          <p:nvSpPr>
            <p:cNvPr id="3408" name=""/>
            <p:cNvSpPr/>
            <p:nvPr/>
          </p:nvSpPr>
          <p:spPr>
            <a:xfrm rot="16200000">
              <a:off x="5972400" y="1037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rot="16200000">
              <a:off x="6069240" y="1037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rot="16200000">
              <a:off x="6044760" y="966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rot="16200000">
              <a:off x="6044400" y="1013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5792400" y="759600"/>
            <a:ext cx="95400" cy="97200"/>
            <a:chOff x="5792400" y="759600"/>
            <a:chExt cx="95400" cy="97200"/>
          </a:xfrm>
        </p:grpSpPr>
        <p:sp>
          <p:nvSpPr>
            <p:cNvPr id="3413" name=""/>
            <p:cNvSpPr/>
            <p:nvPr/>
          </p:nvSpPr>
          <p:spPr>
            <a:xfrm rot="10800000">
              <a:off x="5792400" y="856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rot="10800000">
              <a:off x="5792400" y="7596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rot="10800000">
              <a:off x="5792400" y="7599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rot="10800000">
              <a:off x="5839920" y="7599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7" name=""/>
          <p:cNvGrpSpPr/>
          <p:nvPr/>
        </p:nvGrpSpPr>
        <p:grpSpPr>
          <a:xfrm>
            <a:off x="5334120" y="762120"/>
            <a:ext cx="97200" cy="95040"/>
            <a:chOff x="5334120" y="762120"/>
            <a:chExt cx="97200" cy="95040"/>
          </a:xfrm>
        </p:grpSpPr>
        <p:sp>
          <p:nvSpPr>
            <p:cNvPr id="3418" name=""/>
            <p:cNvSpPr/>
            <p:nvPr/>
          </p:nvSpPr>
          <p:spPr>
            <a:xfrm rot="16200000">
              <a:off x="5286600" y="80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rot="16200000">
              <a:off x="5383440" y="80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rot="16200000">
              <a:off x="5358960" y="737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rot="16200000">
              <a:off x="5358600" y="784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2" name=""/>
          <p:cNvGrpSpPr/>
          <p:nvPr/>
        </p:nvGrpSpPr>
        <p:grpSpPr>
          <a:xfrm>
            <a:off x="6019920" y="3047400"/>
            <a:ext cx="95040" cy="97200"/>
            <a:chOff x="6019920" y="3047400"/>
            <a:chExt cx="95040" cy="97200"/>
          </a:xfrm>
        </p:grpSpPr>
        <p:sp>
          <p:nvSpPr>
            <p:cNvPr id="3423" name=""/>
            <p:cNvSpPr/>
            <p:nvPr/>
          </p:nvSpPr>
          <p:spPr>
            <a:xfrm rot="10800000">
              <a:off x="6019920" y="3144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rot="10800000">
              <a:off x="6019920" y="3047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rot="10800000">
              <a:off x="6020280" y="30477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rot="10800000">
              <a:off x="6067440" y="30477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7" name=""/>
          <p:cNvGrpSpPr/>
          <p:nvPr/>
        </p:nvGrpSpPr>
        <p:grpSpPr>
          <a:xfrm>
            <a:off x="6705720" y="2590200"/>
            <a:ext cx="95040" cy="97200"/>
            <a:chOff x="6705720" y="2590200"/>
            <a:chExt cx="95040" cy="97200"/>
          </a:xfrm>
        </p:grpSpPr>
        <p:sp>
          <p:nvSpPr>
            <p:cNvPr id="3428" name=""/>
            <p:cNvSpPr/>
            <p:nvPr/>
          </p:nvSpPr>
          <p:spPr>
            <a:xfrm rot="10800000">
              <a:off x="6705720" y="2687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rot="10800000">
              <a:off x="6705720" y="2590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rot="10800000">
              <a:off x="6706080" y="2590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rot="10800000">
              <a:off x="6753240" y="25905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2" name=""/>
          <p:cNvGrpSpPr/>
          <p:nvPr/>
        </p:nvGrpSpPr>
        <p:grpSpPr>
          <a:xfrm>
            <a:off x="6705720" y="1904400"/>
            <a:ext cx="95040" cy="97200"/>
            <a:chOff x="6705720" y="1904400"/>
            <a:chExt cx="95040" cy="97200"/>
          </a:xfrm>
        </p:grpSpPr>
        <p:sp>
          <p:nvSpPr>
            <p:cNvPr id="3433" name=""/>
            <p:cNvSpPr/>
            <p:nvPr/>
          </p:nvSpPr>
          <p:spPr>
            <a:xfrm rot="10800000">
              <a:off x="6705720" y="2001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rot="10800000">
              <a:off x="6705720" y="1904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rot="10800000">
              <a:off x="6706080" y="19047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rot="10800000">
              <a:off x="6753240" y="19047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7" name=""/>
          <p:cNvGrpSpPr/>
          <p:nvPr/>
        </p:nvGrpSpPr>
        <p:grpSpPr>
          <a:xfrm>
            <a:off x="6934320" y="2133000"/>
            <a:ext cx="95040" cy="97200"/>
            <a:chOff x="6934320" y="2133000"/>
            <a:chExt cx="95040" cy="97200"/>
          </a:xfrm>
        </p:grpSpPr>
        <p:sp>
          <p:nvSpPr>
            <p:cNvPr id="3438" name=""/>
            <p:cNvSpPr/>
            <p:nvPr/>
          </p:nvSpPr>
          <p:spPr>
            <a:xfrm rot="10800000">
              <a:off x="6934320" y="22298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rot="10800000">
              <a:off x="6934320" y="2133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rot="10800000">
              <a:off x="6934680" y="2133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rot="10800000">
              <a:off x="6981840" y="21333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2" name=""/>
          <p:cNvGrpSpPr/>
          <p:nvPr/>
        </p:nvGrpSpPr>
        <p:grpSpPr>
          <a:xfrm>
            <a:off x="6171840" y="2056680"/>
            <a:ext cx="95400" cy="97200"/>
            <a:chOff x="6171840" y="2056680"/>
            <a:chExt cx="95400" cy="97200"/>
          </a:xfrm>
        </p:grpSpPr>
        <p:sp>
          <p:nvSpPr>
            <p:cNvPr id="3443" name=""/>
            <p:cNvSpPr/>
            <p:nvPr/>
          </p:nvSpPr>
          <p:spPr>
            <a:xfrm rot="10800000">
              <a:off x="6171840" y="2153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rot="10800000">
              <a:off x="6171840" y="2056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rot="10800000">
              <a:off x="6171840" y="2057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rot="10800000">
              <a:off x="6219360" y="2057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7" name=""/>
          <p:cNvGrpSpPr/>
          <p:nvPr/>
        </p:nvGrpSpPr>
        <p:grpSpPr>
          <a:xfrm>
            <a:off x="7391520" y="1904400"/>
            <a:ext cx="95040" cy="97200"/>
            <a:chOff x="7391520" y="1904400"/>
            <a:chExt cx="95040" cy="97200"/>
          </a:xfrm>
        </p:grpSpPr>
        <p:sp>
          <p:nvSpPr>
            <p:cNvPr id="3448" name=""/>
            <p:cNvSpPr/>
            <p:nvPr/>
          </p:nvSpPr>
          <p:spPr>
            <a:xfrm rot="10800000">
              <a:off x="7391520" y="2001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rot="10800000">
              <a:off x="7391520" y="1904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rot="10800000">
              <a:off x="7391880" y="19047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rot="10800000">
              <a:off x="7439040" y="19047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7389000" y="1677960"/>
            <a:ext cx="97200" cy="95400"/>
            <a:chOff x="7389000" y="1677960"/>
            <a:chExt cx="97200" cy="95400"/>
          </a:xfrm>
        </p:grpSpPr>
        <p:sp>
          <p:nvSpPr>
            <p:cNvPr id="3453" name=""/>
            <p:cNvSpPr/>
            <p:nvPr/>
          </p:nvSpPr>
          <p:spPr>
            <a:xfrm rot="5400000">
              <a:off x="7438320" y="1725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rot="5400000">
              <a:off x="7341480" y="1725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rot="5400000">
              <a:off x="7413840" y="1701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rot="5400000">
              <a:off x="7413840" y="1653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8077320" y="1447200"/>
            <a:ext cx="95040" cy="97200"/>
            <a:chOff x="8077320" y="1447200"/>
            <a:chExt cx="95040" cy="97200"/>
          </a:xfrm>
        </p:grpSpPr>
        <p:sp>
          <p:nvSpPr>
            <p:cNvPr id="3458" name=""/>
            <p:cNvSpPr/>
            <p:nvPr/>
          </p:nvSpPr>
          <p:spPr>
            <a:xfrm rot="10800000">
              <a:off x="8077320" y="1544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rot="10800000">
              <a:off x="8077320" y="1447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rot="10800000">
              <a:off x="8077680" y="1447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rot="10800000">
              <a:off x="8124840" y="14475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2" name=""/>
          <p:cNvGrpSpPr/>
          <p:nvPr/>
        </p:nvGrpSpPr>
        <p:grpSpPr>
          <a:xfrm>
            <a:off x="8229240" y="1370880"/>
            <a:ext cx="95400" cy="97200"/>
            <a:chOff x="8229240" y="1370880"/>
            <a:chExt cx="95400" cy="97200"/>
          </a:xfrm>
        </p:grpSpPr>
        <p:sp>
          <p:nvSpPr>
            <p:cNvPr id="3463" name=""/>
            <p:cNvSpPr/>
            <p:nvPr/>
          </p:nvSpPr>
          <p:spPr>
            <a:xfrm rot="10800000">
              <a:off x="8229240" y="1467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rot="10800000">
              <a:off x="8229240" y="1370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rot="10800000">
              <a:off x="8229240" y="13712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rot="10800000">
              <a:off x="8276760" y="13712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7" name=""/>
          <p:cNvGrpSpPr/>
          <p:nvPr/>
        </p:nvGrpSpPr>
        <p:grpSpPr>
          <a:xfrm>
            <a:off x="8303400" y="2058840"/>
            <a:ext cx="97200" cy="95400"/>
            <a:chOff x="8303400" y="2058840"/>
            <a:chExt cx="97200" cy="95400"/>
          </a:xfrm>
        </p:grpSpPr>
        <p:sp>
          <p:nvSpPr>
            <p:cNvPr id="3468" name=""/>
            <p:cNvSpPr/>
            <p:nvPr/>
          </p:nvSpPr>
          <p:spPr>
            <a:xfrm rot="5400000">
              <a:off x="8352720" y="2106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rot="5400000">
              <a:off x="8255880" y="2106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rot="5400000">
              <a:off x="8328240" y="2081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rot="5400000">
              <a:off x="8328240" y="2034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2" name=""/>
          <p:cNvGrpSpPr/>
          <p:nvPr/>
        </p:nvGrpSpPr>
        <p:grpSpPr>
          <a:xfrm>
            <a:off x="7846200" y="1601640"/>
            <a:ext cx="97200" cy="95400"/>
            <a:chOff x="7846200" y="1601640"/>
            <a:chExt cx="97200" cy="95400"/>
          </a:xfrm>
        </p:grpSpPr>
        <p:sp>
          <p:nvSpPr>
            <p:cNvPr id="3473" name=""/>
            <p:cNvSpPr/>
            <p:nvPr/>
          </p:nvSpPr>
          <p:spPr>
            <a:xfrm rot="5400000">
              <a:off x="7895520" y="1649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rot="5400000">
              <a:off x="7798680" y="1649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rot="5400000">
              <a:off x="7871040" y="16246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rot="5400000">
              <a:off x="7871040" y="1577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7" name=""/>
          <p:cNvGrpSpPr/>
          <p:nvPr/>
        </p:nvGrpSpPr>
        <p:grpSpPr>
          <a:xfrm>
            <a:off x="7846200" y="1200240"/>
            <a:ext cx="97200" cy="95040"/>
            <a:chOff x="7846200" y="1200240"/>
            <a:chExt cx="97200" cy="95040"/>
          </a:xfrm>
        </p:grpSpPr>
        <p:sp>
          <p:nvSpPr>
            <p:cNvPr id="3478" name=""/>
            <p:cNvSpPr/>
            <p:nvPr/>
          </p:nvSpPr>
          <p:spPr>
            <a:xfrm rot="5400000">
              <a:off x="7895520" y="1247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rot="5400000">
              <a:off x="7798680" y="1247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rot="5400000">
              <a:off x="7871400" y="1222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rot="5400000">
              <a:off x="7871040" y="1175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2" name=""/>
          <p:cNvGrpSpPr/>
          <p:nvPr/>
        </p:nvGrpSpPr>
        <p:grpSpPr>
          <a:xfrm>
            <a:off x="7162920" y="532800"/>
            <a:ext cx="95040" cy="97200"/>
            <a:chOff x="7162920" y="532800"/>
            <a:chExt cx="95040" cy="97200"/>
          </a:xfrm>
        </p:grpSpPr>
        <p:sp>
          <p:nvSpPr>
            <p:cNvPr id="3483" name=""/>
            <p:cNvSpPr/>
            <p:nvPr/>
          </p:nvSpPr>
          <p:spPr>
            <a:xfrm rot="10800000">
              <a:off x="7162920" y="629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rot="10800000">
              <a:off x="7162920" y="532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rot="10800000">
              <a:off x="7163280" y="533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rot="10800000">
              <a:off x="7210440" y="5331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7" name=""/>
          <p:cNvGrpSpPr/>
          <p:nvPr/>
        </p:nvGrpSpPr>
        <p:grpSpPr>
          <a:xfrm>
            <a:off x="7617600" y="534960"/>
            <a:ext cx="97200" cy="95400"/>
            <a:chOff x="7617600" y="534960"/>
            <a:chExt cx="97200" cy="95400"/>
          </a:xfrm>
        </p:grpSpPr>
        <p:sp>
          <p:nvSpPr>
            <p:cNvPr id="3488" name=""/>
            <p:cNvSpPr/>
            <p:nvPr/>
          </p:nvSpPr>
          <p:spPr>
            <a:xfrm rot="5400000">
              <a:off x="7666920" y="582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rot="5400000">
              <a:off x="7570080" y="582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rot="5400000">
              <a:off x="7642440" y="558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rot="5400000">
              <a:off x="7642440" y="510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2" name=""/>
          <p:cNvGrpSpPr/>
          <p:nvPr/>
        </p:nvGrpSpPr>
        <p:grpSpPr>
          <a:xfrm>
            <a:off x="8303400" y="992160"/>
            <a:ext cx="97200" cy="95400"/>
            <a:chOff x="8303400" y="992160"/>
            <a:chExt cx="97200" cy="95400"/>
          </a:xfrm>
        </p:grpSpPr>
        <p:sp>
          <p:nvSpPr>
            <p:cNvPr id="3493" name=""/>
            <p:cNvSpPr/>
            <p:nvPr/>
          </p:nvSpPr>
          <p:spPr>
            <a:xfrm rot="5400000">
              <a:off x="8352720" y="1039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5400000">
              <a:off x="8255880" y="1039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rot="5400000">
              <a:off x="8328240" y="1015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rot="5400000">
              <a:off x="8328240" y="967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7" name=""/>
          <p:cNvGrpSpPr/>
          <p:nvPr/>
        </p:nvGrpSpPr>
        <p:grpSpPr>
          <a:xfrm>
            <a:off x="8989200" y="1449360"/>
            <a:ext cx="97200" cy="95400"/>
            <a:chOff x="8989200" y="1449360"/>
            <a:chExt cx="97200" cy="95400"/>
          </a:xfrm>
        </p:grpSpPr>
        <p:sp>
          <p:nvSpPr>
            <p:cNvPr id="3498" name=""/>
            <p:cNvSpPr/>
            <p:nvPr/>
          </p:nvSpPr>
          <p:spPr>
            <a:xfrm rot="5400000">
              <a:off x="9038520" y="1496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rot="5400000">
              <a:off x="8941680" y="1496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rot="5400000">
              <a:off x="9014040" y="1472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rot="5400000">
              <a:off x="9014040" y="1424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8991720" y="1904400"/>
            <a:ext cx="95040" cy="97200"/>
            <a:chOff x="8991720" y="1904400"/>
            <a:chExt cx="95040" cy="97200"/>
          </a:xfrm>
        </p:grpSpPr>
        <p:sp>
          <p:nvSpPr>
            <p:cNvPr id="3503" name=""/>
            <p:cNvSpPr/>
            <p:nvPr/>
          </p:nvSpPr>
          <p:spPr>
            <a:xfrm rot="10800000">
              <a:off x="8991720" y="2001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rot="10800000">
              <a:off x="8991720" y="1904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rot="10800000">
              <a:off x="8992080" y="19047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rot="10800000">
              <a:off x="9039240" y="19047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7" name=""/>
          <p:cNvGrpSpPr/>
          <p:nvPr/>
        </p:nvGrpSpPr>
        <p:grpSpPr>
          <a:xfrm>
            <a:off x="7620120" y="2361600"/>
            <a:ext cx="95040" cy="97200"/>
            <a:chOff x="7620120" y="2361600"/>
            <a:chExt cx="95040" cy="97200"/>
          </a:xfrm>
        </p:grpSpPr>
        <p:sp>
          <p:nvSpPr>
            <p:cNvPr id="3508" name=""/>
            <p:cNvSpPr/>
            <p:nvPr/>
          </p:nvSpPr>
          <p:spPr>
            <a:xfrm rot="10800000">
              <a:off x="7620120" y="2458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rot="10800000">
              <a:off x="7620120" y="2361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rot="10800000">
              <a:off x="7620480" y="23619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rot="10800000">
              <a:off x="7667640" y="23619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8532000" y="763560"/>
            <a:ext cx="97200" cy="95400"/>
            <a:chOff x="8532000" y="763560"/>
            <a:chExt cx="97200" cy="95400"/>
          </a:xfrm>
        </p:grpSpPr>
        <p:sp>
          <p:nvSpPr>
            <p:cNvPr id="3513" name=""/>
            <p:cNvSpPr/>
            <p:nvPr/>
          </p:nvSpPr>
          <p:spPr>
            <a:xfrm rot="5400000">
              <a:off x="8581320" y="81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 rot="5400000">
              <a:off x="8484480" y="81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rot="5400000">
              <a:off x="8556840" y="786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 rot="5400000">
              <a:off x="8556840" y="739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7" name=""/>
          <p:cNvGrpSpPr/>
          <p:nvPr/>
        </p:nvGrpSpPr>
        <p:grpSpPr>
          <a:xfrm>
            <a:off x="8534520" y="532800"/>
            <a:ext cx="95040" cy="97200"/>
            <a:chOff x="8534520" y="532800"/>
            <a:chExt cx="95040" cy="97200"/>
          </a:xfrm>
        </p:grpSpPr>
        <p:sp>
          <p:nvSpPr>
            <p:cNvPr id="3518" name=""/>
            <p:cNvSpPr/>
            <p:nvPr/>
          </p:nvSpPr>
          <p:spPr>
            <a:xfrm rot="10800000">
              <a:off x="8534520" y="629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rot="10800000">
              <a:off x="8534520" y="532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rot="10800000">
              <a:off x="8534880" y="533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 rot="10800000">
              <a:off x="8582040" y="5331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7086240" y="2971080"/>
            <a:ext cx="95400" cy="97200"/>
            <a:chOff x="7086240" y="2971080"/>
            <a:chExt cx="95400" cy="97200"/>
          </a:xfrm>
        </p:grpSpPr>
        <p:sp>
          <p:nvSpPr>
            <p:cNvPr id="3523" name=""/>
            <p:cNvSpPr/>
            <p:nvPr/>
          </p:nvSpPr>
          <p:spPr>
            <a:xfrm rot="10800000">
              <a:off x="7086240" y="3067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rot="10800000">
              <a:off x="7086240" y="297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rot="10800000">
              <a:off x="7086240" y="29714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rot="10800000">
              <a:off x="7133760" y="29714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7" name=""/>
          <p:cNvGrpSpPr/>
          <p:nvPr/>
        </p:nvGrpSpPr>
        <p:grpSpPr>
          <a:xfrm>
            <a:off x="7620120" y="3026520"/>
            <a:ext cx="95040" cy="97200"/>
            <a:chOff x="7620120" y="3026520"/>
            <a:chExt cx="95040" cy="97200"/>
          </a:xfrm>
        </p:grpSpPr>
        <p:sp>
          <p:nvSpPr>
            <p:cNvPr id="3528" name=""/>
            <p:cNvSpPr/>
            <p:nvPr/>
          </p:nvSpPr>
          <p:spPr>
            <a:xfrm rot="10800000">
              <a:off x="7620120" y="3123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rot="10800000">
              <a:off x="7620120" y="3026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rot="10800000">
              <a:off x="7620480" y="30268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rot="10800000">
              <a:off x="7667640" y="30268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2" name=""/>
          <p:cNvGrpSpPr/>
          <p:nvPr/>
        </p:nvGrpSpPr>
        <p:grpSpPr>
          <a:xfrm>
            <a:off x="7620120" y="2818800"/>
            <a:ext cx="95040" cy="97200"/>
            <a:chOff x="7620120" y="2818800"/>
            <a:chExt cx="95040" cy="97200"/>
          </a:xfrm>
        </p:grpSpPr>
        <p:sp>
          <p:nvSpPr>
            <p:cNvPr id="3533" name=""/>
            <p:cNvSpPr/>
            <p:nvPr/>
          </p:nvSpPr>
          <p:spPr>
            <a:xfrm rot="10800000">
              <a:off x="7620120" y="2915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rot="10800000">
              <a:off x="7620120" y="2818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rot="10800000">
              <a:off x="7620480" y="2819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rot="10800000">
              <a:off x="7667640" y="28191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7" name=""/>
          <p:cNvGrpSpPr/>
          <p:nvPr/>
        </p:nvGrpSpPr>
        <p:grpSpPr>
          <a:xfrm>
            <a:off x="7846200" y="2820960"/>
            <a:ext cx="97200" cy="95400"/>
            <a:chOff x="7846200" y="2820960"/>
            <a:chExt cx="97200" cy="95400"/>
          </a:xfrm>
        </p:grpSpPr>
        <p:sp>
          <p:nvSpPr>
            <p:cNvPr id="3538" name=""/>
            <p:cNvSpPr/>
            <p:nvPr/>
          </p:nvSpPr>
          <p:spPr>
            <a:xfrm rot="5400000">
              <a:off x="7895520" y="2868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rot="5400000">
              <a:off x="7798680" y="2868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 rot="5400000">
              <a:off x="7871040" y="2844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rot="5400000">
              <a:off x="7871040" y="2796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2" name=""/>
          <p:cNvGrpSpPr/>
          <p:nvPr/>
        </p:nvGrpSpPr>
        <p:grpSpPr>
          <a:xfrm>
            <a:off x="8686440" y="2894760"/>
            <a:ext cx="95400" cy="97200"/>
            <a:chOff x="8686440" y="2894760"/>
            <a:chExt cx="95400" cy="97200"/>
          </a:xfrm>
        </p:grpSpPr>
        <p:sp>
          <p:nvSpPr>
            <p:cNvPr id="3543" name=""/>
            <p:cNvSpPr/>
            <p:nvPr/>
          </p:nvSpPr>
          <p:spPr>
            <a:xfrm rot="10800000">
              <a:off x="8686440" y="29916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rot="10800000">
              <a:off x="8686440" y="2894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rot="10800000">
              <a:off x="8686440" y="28951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rot="10800000">
              <a:off x="8733960" y="28951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7" name=""/>
          <p:cNvGrpSpPr/>
          <p:nvPr/>
        </p:nvGrpSpPr>
        <p:grpSpPr>
          <a:xfrm>
            <a:off x="8760600" y="3105000"/>
            <a:ext cx="97200" cy="95400"/>
            <a:chOff x="8760600" y="3105000"/>
            <a:chExt cx="97200" cy="95400"/>
          </a:xfrm>
        </p:grpSpPr>
        <p:sp>
          <p:nvSpPr>
            <p:cNvPr id="3548" name=""/>
            <p:cNvSpPr/>
            <p:nvPr/>
          </p:nvSpPr>
          <p:spPr>
            <a:xfrm rot="5400000">
              <a:off x="8809920" y="315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rot="5400000">
              <a:off x="8713080" y="315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rot="5400000">
              <a:off x="8785440" y="3128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rot="5400000">
              <a:off x="8785440" y="30805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2" name=""/>
          <p:cNvGrpSpPr/>
          <p:nvPr/>
        </p:nvGrpSpPr>
        <p:grpSpPr>
          <a:xfrm>
            <a:off x="8533800" y="4419720"/>
            <a:ext cx="97200" cy="95040"/>
            <a:chOff x="8533800" y="4419720"/>
            <a:chExt cx="97200" cy="95040"/>
          </a:xfrm>
        </p:grpSpPr>
        <p:sp>
          <p:nvSpPr>
            <p:cNvPr id="3553" name=""/>
            <p:cNvSpPr/>
            <p:nvPr/>
          </p:nvSpPr>
          <p:spPr>
            <a:xfrm rot="5400000">
              <a:off x="858312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rot="5400000">
              <a:off x="848628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rot="5400000">
              <a:off x="8559000" y="44424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rot="5400000">
              <a:off x="8558640" y="43948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7" name=""/>
          <p:cNvGrpSpPr/>
          <p:nvPr/>
        </p:nvGrpSpPr>
        <p:grpSpPr>
          <a:xfrm>
            <a:off x="8764560" y="3960720"/>
            <a:ext cx="95400" cy="97200"/>
            <a:chOff x="8764560" y="3960720"/>
            <a:chExt cx="95400" cy="97200"/>
          </a:xfrm>
        </p:grpSpPr>
        <p:sp>
          <p:nvSpPr>
            <p:cNvPr id="3558" name=""/>
            <p:cNvSpPr/>
            <p:nvPr/>
          </p:nvSpPr>
          <p:spPr>
            <a:xfrm>
              <a:off x="8764560" y="3960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8764560" y="405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8812440" y="3960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764560" y="3960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2" name=""/>
          <p:cNvGrpSpPr/>
          <p:nvPr/>
        </p:nvGrpSpPr>
        <p:grpSpPr>
          <a:xfrm>
            <a:off x="8991000" y="3714840"/>
            <a:ext cx="97200" cy="95040"/>
            <a:chOff x="8991000" y="3714840"/>
            <a:chExt cx="97200" cy="95040"/>
          </a:xfrm>
        </p:grpSpPr>
        <p:sp>
          <p:nvSpPr>
            <p:cNvPr id="3563" name=""/>
            <p:cNvSpPr/>
            <p:nvPr/>
          </p:nvSpPr>
          <p:spPr>
            <a:xfrm rot="5400000">
              <a:off x="9040320" y="3762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5400000">
              <a:off x="8943480" y="3762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rot="5400000">
              <a:off x="9016200" y="3737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rot="5400000">
              <a:off x="9015840" y="3690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7" name=""/>
          <p:cNvGrpSpPr/>
          <p:nvPr/>
        </p:nvGrpSpPr>
        <p:grpSpPr>
          <a:xfrm>
            <a:off x="9221760" y="4341960"/>
            <a:ext cx="95400" cy="97200"/>
            <a:chOff x="9221760" y="4341960"/>
            <a:chExt cx="95400" cy="97200"/>
          </a:xfrm>
        </p:grpSpPr>
        <p:sp>
          <p:nvSpPr>
            <p:cNvPr id="3568" name=""/>
            <p:cNvSpPr/>
            <p:nvPr/>
          </p:nvSpPr>
          <p:spPr>
            <a:xfrm>
              <a:off x="9221760" y="4341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9221760" y="4438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9269640" y="43419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9221760" y="43419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2" name=""/>
          <p:cNvGrpSpPr/>
          <p:nvPr/>
        </p:nvGrpSpPr>
        <p:grpSpPr>
          <a:xfrm>
            <a:off x="8993160" y="4856040"/>
            <a:ext cx="95400" cy="97200"/>
            <a:chOff x="8993160" y="4856040"/>
            <a:chExt cx="95400" cy="97200"/>
          </a:xfrm>
        </p:grpSpPr>
        <p:sp>
          <p:nvSpPr>
            <p:cNvPr id="3573" name=""/>
            <p:cNvSpPr/>
            <p:nvPr/>
          </p:nvSpPr>
          <p:spPr>
            <a:xfrm>
              <a:off x="8993160" y="4856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8993160" y="4952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9041040" y="4856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8993160" y="4856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7" name=""/>
          <p:cNvGrpSpPr/>
          <p:nvPr/>
        </p:nvGrpSpPr>
        <p:grpSpPr>
          <a:xfrm>
            <a:off x="8764560" y="3732120"/>
            <a:ext cx="95400" cy="97200"/>
            <a:chOff x="8764560" y="3732120"/>
            <a:chExt cx="95400" cy="97200"/>
          </a:xfrm>
        </p:grpSpPr>
        <p:sp>
          <p:nvSpPr>
            <p:cNvPr id="3578" name=""/>
            <p:cNvSpPr/>
            <p:nvPr/>
          </p:nvSpPr>
          <p:spPr>
            <a:xfrm>
              <a:off x="8764560" y="3732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8764560" y="3828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812440" y="37321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764560" y="37321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2" name=""/>
          <p:cNvGrpSpPr/>
          <p:nvPr/>
        </p:nvGrpSpPr>
        <p:grpSpPr>
          <a:xfrm>
            <a:off x="8533800" y="5086440"/>
            <a:ext cx="97200" cy="95040"/>
            <a:chOff x="8533800" y="5086440"/>
            <a:chExt cx="97200" cy="95040"/>
          </a:xfrm>
        </p:grpSpPr>
        <p:sp>
          <p:nvSpPr>
            <p:cNvPr id="3583" name=""/>
            <p:cNvSpPr/>
            <p:nvPr/>
          </p:nvSpPr>
          <p:spPr>
            <a:xfrm rot="5400000">
              <a:off x="8583120" y="5133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rot="5400000">
              <a:off x="8486280" y="5133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rot="5400000">
              <a:off x="8559000" y="5109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rot="5400000">
              <a:off x="8558640" y="5061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7" name=""/>
          <p:cNvGrpSpPr/>
          <p:nvPr/>
        </p:nvGrpSpPr>
        <p:grpSpPr>
          <a:xfrm>
            <a:off x="6476400" y="4572000"/>
            <a:ext cx="97200" cy="95400"/>
            <a:chOff x="6476400" y="4572000"/>
            <a:chExt cx="97200" cy="95400"/>
          </a:xfrm>
        </p:grpSpPr>
        <p:sp>
          <p:nvSpPr>
            <p:cNvPr id="3588" name=""/>
            <p:cNvSpPr/>
            <p:nvPr/>
          </p:nvSpPr>
          <p:spPr>
            <a:xfrm rot="5400000">
              <a:off x="6525720" y="4619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rot="5400000">
              <a:off x="6428880" y="4619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rot="5400000">
              <a:off x="6501240" y="4595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rot="5400000">
              <a:off x="6501240" y="45475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2" name=""/>
          <p:cNvGrpSpPr/>
          <p:nvPr/>
        </p:nvGrpSpPr>
        <p:grpSpPr>
          <a:xfrm>
            <a:off x="6705000" y="4191120"/>
            <a:ext cx="97200" cy="95040"/>
            <a:chOff x="6705000" y="4191120"/>
            <a:chExt cx="97200" cy="95040"/>
          </a:xfrm>
        </p:grpSpPr>
        <p:sp>
          <p:nvSpPr>
            <p:cNvPr id="3593" name=""/>
            <p:cNvSpPr/>
            <p:nvPr/>
          </p:nvSpPr>
          <p:spPr>
            <a:xfrm rot="5400000">
              <a:off x="675432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rot="5400000">
              <a:off x="665748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rot="5400000">
              <a:off x="6730200" y="42138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rot="5400000">
              <a:off x="6729840" y="41662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7009560" y="4419720"/>
            <a:ext cx="97200" cy="95040"/>
            <a:chOff x="7009560" y="4419720"/>
            <a:chExt cx="97200" cy="95040"/>
          </a:xfrm>
        </p:grpSpPr>
        <p:sp>
          <p:nvSpPr>
            <p:cNvPr id="3598" name=""/>
            <p:cNvSpPr/>
            <p:nvPr/>
          </p:nvSpPr>
          <p:spPr>
            <a:xfrm rot="5400000">
              <a:off x="705888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 rot="5400000">
              <a:off x="696204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 rot="5400000">
              <a:off x="7034760" y="44424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 rot="5400000">
              <a:off x="7034400" y="43948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2" name=""/>
          <p:cNvGrpSpPr/>
          <p:nvPr/>
        </p:nvGrpSpPr>
        <p:grpSpPr>
          <a:xfrm>
            <a:off x="7085880" y="4876920"/>
            <a:ext cx="97200" cy="95040"/>
            <a:chOff x="7085880" y="4876920"/>
            <a:chExt cx="97200" cy="95040"/>
          </a:xfrm>
        </p:grpSpPr>
        <p:sp>
          <p:nvSpPr>
            <p:cNvPr id="3603" name=""/>
            <p:cNvSpPr/>
            <p:nvPr/>
          </p:nvSpPr>
          <p:spPr>
            <a:xfrm rot="5400000">
              <a:off x="713520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 rot="5400000">
              <a:off x="703836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rot="5400000">
              <a:off x="7111080" y="4899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rot="5400000">
              <a:off x="7110720" y="48520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7" name=""/>
          <p:cNvGrpSpPr/>
          <p:nvPr/>
        </p:nvGrpSpPr>
        <p:grpSpPr>
          <a:xfrm>
            <a:off x="6935760" y="5103720"/>
            <a:ext cx="95400" cy="97200"/>
            <a:chOff x="6935760" y="5103720"/>
            <a:chExt cx="95400" cy="97200"/>
          </a:xfrm>
        </p:grpSpPr>
        <p:sp>
          <p:nvSpPr>
            <p:cNvPr id="3608" name=""/>
            <p:cNvSpPr/>
            <p:nvPr/>
          </p:nvSpPr>
          <p:spPr>
            <a:xfrm>
              <a:off x="6935760" y="5103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935760" y="5200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983640" y="5103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935760" y="5103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2" name=""/>
          <p:cNvGrpSpPr/>
          <p:nvPr/>
        </p:nvGrpSpPr>
        <p:grpSpPr>
          <a:xfrm>
            <a:off x="6935760" y="5256360"/>
            <a:ext cx="95400" cy="97200"/>
            <a:chOff x="6935760" y="5256360"/>
            <a:chExt cx="95400" cy="97200"/>
          </a:xfrm>
        </p:grpSpPr>
        <p:sp>
          <p:nvSpPr>
            <p:cNvPr id="3613" name=""/>
            <p:cNvSpPr/>
            <p:nvPr/>
          </p:nvSpPr>
          <p:spPr>
            <a:xfrm>
              <a:off x="6935760" y="5256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935760" y="53532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983640" y="52563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935760" y="5256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7" name=""/>
          <p:cNvGrpSpPr/>
          <p:nvPr/>
        </p:nvGrpSpPr>
        <p:grpSpPr>
          <a:xfrm>
            <a:off x="6935760" y="5465880"/>
            <a:ext cx="95400" cy="97200"/>
            <a:chOff x="6935760" y="5465880"/>
            <a:chExt cx="95400" cy="97200"/>
          </a:xfrm>
        </p:grpSpPr>
        <p:sp>
          <p:nvSpPr>
            <p:cNvPr id="3618" name=""/>
            <p:cNvSpPr/>
            <p:nvPr/>
          </p:nvSpPr>
          <p:spPr>
            <a:xfrm>
              <a:off x="6935760" y="5465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935760" y="5562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983640" y="5465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935760" y="5465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2" name=""/>
          <p:cNvGrpSpPr/>
          <p:nvPr/>
        </p:nvGrpSpPr>
        <p:grpSpPr>
          <a:xfrm>
            <a:off x="7621560" y="5332320"/>
            <a:ext cx="95400" cy="97200"/>
            <a:chOff x="7621560" y="5332320"/>
            <a:chExt cx="95400" cy="97200"/>
          </a:xfrm>
        </p:grpSpPr>
        <p:sp>
          <p:nvSpPr>
            <p:cNvPr id="3623" name=""/>
            <p:cNvSpPr/>
            <p:nvPr/>
          </p:nvSpPr>
          <p:spPr>
            <a:xfrm>
              <a:off x="7621560" y="5332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621560" y="5429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669440" y="53323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621560" y="5332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7" name=""/>
          <p:cNvGrpSpPr/>
          <p:nvPr/>
        </p:nvGrpSpPr>
        <p:grpSpPr>
          <a:xfrm>
            <a:off x="7848000" y="5391000"/>
            <a:ext cx="97200" cy="95400"/>
            <a:chOff x="7848000" y="5391000"/>
            <a:chExt cx="97200" cy="95400"/>
          </a:xfrm>
        </p:grpSpPr>
        <p:sp>
          <p:nvSpPr>
            <p:cNvPr id="3628" name=""/>
            <p:cNvSpPr/>
            <p:nvPr/>
          </p:nvSpPr>
          <p:spPr>
            <a:xfrm rot="5400000">
              <a:off x="7897320" y="5438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5400000">
              <a:off x="7800480" y="5438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rot="5400000">
              <a:off x="7872840" y="5414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rot="5400000">
              <a:off x="7872840" y="53665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2" name=""/>
          <p:cNvGrpSpPr/>
          <p:nvPr/>
        </p:nvGrpSpPr>
        <p:grpSpPr>
          <a:xfrm>
            <a:off x="6019200" y="4876920"/>
            <a:ext cx="97200" cy="95040"/>
            <a:chOff x="6019200" y="4876920"/>
            <a:chExt cx="97200" cy="95040"/>
          </a:xfrm>
        </p:grpSpPr>
        <p:sp>
          <p:nvSpPr>
            <p:cNvPr id="3633" name=""/>
            <p:cNvSpPr/>
            <p:nvPr/>
          </p:nvSpPr>
          <p:spPr>
            <a:xfrm rot="5400000">
              <a:off x="606852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rot="5400000">
              <a:off x="597168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rot="5400000">
              <a:off x="6044400" y="4899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rot="5400000">
              <a:off x="6044040" y="48520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7" name=""/>
          <p:cNvGrpSpPr/>
          <p:nvPr/>
        </p:nvGrpSpPr>
        <p:grpSpPr>
          <a:xfrm>
            <a:off x="5564160" y="4417920"/>
            <a:ext cx="95400" cy="97200"/>
            <a:chOff x="5564160" y="4417920"/>
            <a:chExt cx="95400" cy="97200"/>
          </a:xfrm>
        </p:grpSpPr>
        <p:sp>
          <p:nvSpPr>
            <p:cNvPr id="3638" name=""/>
            <p:cNvSpPr/>
            <p:nvPr/>
          </p:nvSpPr>
          <p:spPr>
            <a:xfrm>
              <a:off x="5564160" y="4417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564160" y="4514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612040" y="44179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564160" y="44179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5543640" y="4799160"/>
            <a:ext cx="95040" cy="97200"/>
            <a:chOff x="5543640" y="4799160"/>
            <a:chExt cx="95040" cy="97200"/>
          </a:xfrm>
        </p:grpSpPr>
        <p:sp>
          <p:nvSpPr>
            <p:cNvPr id="3643" name=""/>
            <p:cNvSpPr/>
            <p:nvPr/>
          </p:nvSpPr>
          <p:spPr>
            <a:xfrm>
              <a:off x="5543640" y="4799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543640" y="4896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591160" y="4799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543640" y="47991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7" name=""/>
          <p:cNvGrpSpPr/>
          <p:nvPr/>
        </p:nvGrpSpPr>
        <p:grpSpPr>
          <a:xfrm>
            <a:off x="6247800" y="5257800"/>
            <a:ext cx="97200" cy="95400"/>
            <a:chOff x="6247800" y="5257800"/>
            <a:chExt cx="97200" cy="95400"/>
          </a:xfrm>
        </p:grpSpPr>
        <p:sp>
          <p:nvSpPr>
            <p:cNvPr id="3648" name=""/>
            <p:cNvSpPr/>
            <p:nvPr/>
          </p:nvSpPr>
          <p:spPr>
            <a:xfrm rot="5400000">
              <a:off x="6297120" y="5305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rot="5400000">
              <a:off x="6200280" y="5305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 rot="5400000">
              <a:off x="6272640" y="52808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rot="5400000">
              <a:off x="6272640" y="5233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2" name=""/>
          <p:cNvGrpSpPr/>
          <p:nvPr/>
        </p:nvGrpSpPr>
        <p:grpSpPr>
          <a:xfrm>
            <a:off x="5105520" y="3962520"/>
            <a:ext cx="95040" cy="97200"/>
            <a:chOff x="5105520" y="3962520"/>
            <a:chExt cx="95040" cy="97200"/>
          </a:xfrm>
        </p:grpSpPr>
        <p:sp>
          <p:nvSpPr>
            <p:cNvPr id="3653" name=""/>
            <p:cNvSpPr/>
            <p:nvPr/>
          </p:nvSpPr>
          <p:spPr>
            <a:xfrm>
              <a:off x="5105520" y="3962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105520" y="4059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153040" y="3962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105520" y="3962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7" name=""/>
          <p:cNvGrpSpPr/>
          <p:nvPr/>
        </p:nvGrpSpPr>
        <p:grpSpPr>
          <a:xfrm>
            <a:off x="5334120" y="3962520"/>
            <a:ext cx="95040" cy="97200"/>
            <a:chOff x="5334120" y="3962520"/>
            <a:chExt cx="95040" cy="97200"/>
          </a:xfrm>
        </p:grpSpPr>
        <p:sp>
          <p:nvSpPr>
            <p:cNvPr id="3658" name=""/>
            <p:cNvSpPr/>
            <p:nvPr/>
          </p:nvSpPr>
          <p:spPr>
            <a:xfrm>
              <a:off x="5334120" y="3962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5334120" y="4059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381640" y="3962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334120" y="3962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2" name=""/>
          <p:cNvGrpSpPr/>
          <p:nvPr/>
        </p:nvGrpSpPr>
        <p:grpSpPr>
          <a:xfrm>
            <a:off x="5562720" y="5791320"/>
            <a:ext cx="95040" cy="97200"/>
            <a:chOff x="5562720" y="5791320"/>
            <a:chExt cx="95040" cy="97200"/>
          </a:xfrm>
        </p:grpSpPr>
        <p:sp>
          <p:nvSpPr>
            <p:cNvPr id="3663" name=""/>
            <p:cNvSpPr/>
            <p:nvPr/>
          </p:nvSpPr>
          <p:spPr>
            <a:xfrm>
              <a:off x="5562720" y="5791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562720" y="5888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610240" y="5791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562720" y="5791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5791320" y="5791320"/>
            <a:ext cx="95040" cy="97200"/>
            <a:chOff x="5791320" y="5791320"/>
            <a:chExt cx="95040" cy="97200"/>
          </a:xfrm>
        </p:grpSpPr>
        <p:sp>
          <p:nvSpPr>
            <p:cNvPr id="3668" name=""/>
            <p:cNvSpPr/>
            <p:nvPr/>
          </p:nvSpPr>
          <p:spPr>
            <a:xfrm>
              <a:off x="5791320" y="5791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791320" y="5888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838840" y="5791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791320" y="5791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2" name=""/>
          <p:cNvGrpSpPr/>
          <p:nvPr/>
        </p:nvGrpSpPr>
        <p:grpSpPr>
          <a:xfrm>
            <a:off x="6475320" y="6000840"/>
            <a:ext cx="97200" cy="95040"/>
            <a:chOff x="6475320" y="6000840"/>
            <a:chExt cx="97200" cy="95040"/>
          </a:xfrm>
        </p:grpSpPr>
        <p:sp>
          <p:nvSpPr>
            <p:cNvPr id="3673" name=""/>
            <p:cNvSpPr/>
            <p:nvPr/>
          </p:nvSpPr>
          <p:spPr>
            <a:xfrm rot="16200000">
              <a:off x="6427800" y="6048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rot="16200000">
              <a:off x="6524640" y="6048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rot="16200000">
              <a:off x="6500160" y="5976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 rot="16200000">
              <a:off x="6499800" y="6023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7" name=""/>
          <p:cNvGrpSpPr/>
          <p:nvPr/>
        </p:nvGrpSpPr>
        <p:grpSpPr>
          <a:xfrm>
            <a:off x="7162920" y="6248520"/>
            <a:ext cx="97200" cy="95040"/>
            <a:chOff x="7162920" y="6248520"/>
            <a:chExt cx="97200" cy="95040"/>
          </a:xfrm>
        </p:grpSpPr>
        <p:sp>
          <p:nvSpPr>
            <p:cNvPr id="3678" name=""/>
            <p:cNvSpPr/>
            <p:nvPr/>
          </p:nvSpPr>
          <p:spPr>
            <a:xfrm rot="16200000">
              <a:off x="7115400" y="6295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16200000">
              <a:off x="7212240" y="6295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16200000">
              <a:off x="7187760" y="6224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rot="16200000">
              <a:off x="7187400" y="6271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2" name=""/>
          <p:cNvGrpSpPr/>
          <p:nvPr/>
        </p:nvGrpSpPr>
        <p:grpSpPr>
          <a:xfrm>
            <a:off x="7620120" y="6248520"/>
            <a:ext cx="97200" cy="95040"/>
            <a:chOff x="7620120" y="6248520"/>
            <a:chExt cx="97200" cy="95040"/>
          </a:xfrm>
        </p:grpSpPr>
        <p:sp>
          <p:nvSpPr>
            <p:cNvPr id="3683" name=""/>
            <p:cNvSpPr/>
            <p:nvPr/>
          </p:nvSpPr>
          <p:spPr>
            <a:xfrm rot="16200000">
              <a:off x="7572600" y="6295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rot="16200000">
              <a:off x="7669440" y="6295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rot="16200000">
              <a:off x="7644960" y="6224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rot="16200000">
              <a:off x="7644600" y="6271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7" name=""/>
          <p:cNvGrpSpPr/>
          <p:nvPr/>
        </p:nvGrpSpPr>
        <p:grpSpPr>
          <a:xfrm>
            <a:off x="8305920" y="6248520"/>
            <a:ext cx="97200" cy="95040"/>
            <a:chOff x="8305920" y="6248520"/>
            <a:chExt cx="97200" cy="95040"/>
          </a:xfrm>
        </p:grpSpPr>
        <p:sp>
          <p:nvSpPr>
            <p:cNvPr id="3688" name=""/>
            <p:cNvSpPr/>
            <p:nvPr/>
          </p:nvSpPr>
          <p:spPr>
            <a:xfrm rot="16200000">
              <a:off x="8258400" y="6295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rot="16200000">
              <a:off x="8355240" y="6295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rot="16200000">
              <a:off x="8330760" y="6224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 rot="16200000">
              <a:off x="8330400" y="6271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2" name=""/>
          <p:cNvGrpSpPr/>
          <p:nvPr/>
        </p:nvGrpSpPr>
        <p:grpSpPr>
          <a:xfrm>
            <a:off x="8534520" y="6019920"/>
            <a:ext cx="97200" cy="95040"/>
            <a:chOff x="8534520" y="6019920"/>
            <a:chExt cx="97200" cy="95040"/>
          </a:xfrm>
        </p:grpSpPr>
        <p:sp>
          <p:nvSpPr>
            <p:cNvPr id="3693" name=""/>
            <p:cNvSpPr/>
            <p:nvPr/>
          </p:nvSpPr>
          <p:spPr>
            <a:xfrm rot="16200000">
              <a:off x="8487000" y="6067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16200000">
              <a:off x="8583840" y="6067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16200000">
              <a:off x="8559360" y="5995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16200000">
              <a:off x="8559000" y="6042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7" name=""/>
          <p:cNvGrpSpPr/>
          <p:nvPr/>
        </p:nvGrpSpPr>
        <p:grpSpPr>
          <a:xfrm>
            <a:off x="2590920" y="4648320"/>
            <a:ext cx="97200" cy="95040"/>
            <a:chOff x="2590920" y="4648320"/>
            <a:chExt cx="97200" cy="95040"/>
          </a:xfrm>
        </p:grpSpPr>
        <p:sp>
          <p:nvSpPr>
            <p:cNvPr id="3698" name=""/>
            <p:cNvSpPr/>
            <p:nvPr/>
          </p:nvSpPr>
          <p:spPr>
            <a:xfrm rot="16200000">
              <a:off x="254340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16200000">
              <a:off x="26402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16200000">
              <a:off x="261576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16200000">
              <a:off x="261540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3048120" y="4876920"/>
            <a:ext cx="97200" cy="95040"/>
            <a:chOff x="3048120" y="4876920"/>
            <a:chExt cx="97200" cy="95040"/>
          </a:xfrm>
        </p:grpSpPr>
        <p:sp>
          <p:nvSpPr>
            <p:cNvPr id="3703" name=""/>
            <p:cNvSpPr/>
            <p:nvPr/>
          </p:nvSpPr>
          <p:spPr>
            <a:xfrm rot="16200000">
              <a:off x="300060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16200000">
              <a:off x="309744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 rot="16200000">
              <a:off x="3072960" y="4852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rot="16200000">
              <a:off x="3072600" y="4899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7" name=""/>
          <p:cNvGrpSpPr/>
          <p:nvPr/>
        </p:nvGrpSpPr>
        <p:grpSpPr>
          <a:xfrm>
            <a:off x="3963600" y="4798440"/>
            <a:ext cx="95400" cy="97200"/>
            <a:chOff x="3963600" y="4798440"/>
            <a:chExt cx="95400" cy="97200"/>
          </a:xfrm>
        </p:grpSpPr>
        <p:sp>
          <p:nvSpPr>
            <p:cNvPr id="3708" name=""/>
            <p:cNvSpPr/>
            <p:nvPr/>
          </p:nvSpPr>
          <p:spPr>
            <a:xfrm rot="10800000">
              <a:off x="3963600" y="4895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rot="10800000">
              <a:off x="3963600" y="4798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rot="10800000">
              <a:off x="3963600" y="4798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rot="10800000">
              <a:off x="4011120" y="47988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2" name=""/>
          <p:cNvGrpSpPr/>
          <p:nvPr/>
        </p:nvGrpSpPr>
        <p:grpSpPr>
          <a:xfrm>
            <a:off x="4192200" y="4645800"/>
            <a:ext cx="95400" cy="97200"/>
            <a:chOff x="4192200" y="4645800"/>
            <a:chExt cx="95400" cy="97200"/>
          </a:xfrm>
        </p:grpSpPr>
        <p:sp>
          <p:nvSpPr>
            <p:cNvPr id="3713" name=""/>
            <p:cNvSpPr/>
            <p:nvPr/>
          </p:nvSpPr>
          <p:spPr>
            <a:xfrm rot="10800000">
              <a:off x="4192200" y="4742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rot="10800000">
              <a:off x="4192200" y="4645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rot="10800000">
              <a:off x="4192200" y="4646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rot="10800000">
              <a:off x="4239720" y="4646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7" name=""/>
          <p:cNvGrpSpPr/>
          <p:nvPr/>
        </p:nvGrpSpPr>
        <p:grpSpPr>
          <a:xfrm>
            <a:off x="4191120" y="5315040"/>
            <a:ext cx="97200" cy="95040"/>
            <a:chOff x="4191120" y="5315040"/>
            <a:chExt cx="97200" cy="95040"/>
          </a:xfrm>
        </p:grpSpPr>
        <p:sp>
          <p:nvSpPr>
            <p:cNvPr id="3718" name=""/>
            <p:cNvSpPr/>
            <p:nvPr/>
          </p:nvSpPr>
          <p:spPr>
            <a:xfrm rot="16200000">
              <a:off x="4143600" y="5362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rot="16200000">
              <a:off x="4240440" y="5362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 rot="16200000">
              <a:off x="4215960" y="5290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rot="16200000">
              <a:off x="4215600" y="5337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2" name=""/>
          <p:cNvGrpSpPr/>
          <p:nvPr/>
        </p:nvGrpSpPr>
        <p:grpSpPr>
          <a:xfrm>
            <a:off x="4192200" y="5788800"/>
            <a:ext cx="95400" cy="97200"/>
            <a:chOff x="4192200" y="5788800"/>
            <a:chExt cx="95400" cy="97200"/>
          </a:xfrm>
        </p:grpSpPr>
        <p:sp>
          <p:nvSpPr>
            <p:cNvPr id="3723" name=""/>
            <p:cNvSpPr/>
            <p:nvPr/>
          </p:nvSpPr>
          <p:spPr>
            <a:xfrm rot="10800000">
              <a:off x="4192200" y="5885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rot="10800000">
              <a:off x="4192200" y="5788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rot="10800000">
              <a:off x="4192200" y="5789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rot="10800000">
              <a:off x="4239720" y="5789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7" name=""/>
          <p:cNvGrpSpPr/>
          <p:nvPr/>
        </p:nvGrpSpPr>
        <p:grpSpPr>
          <a:xfrm>
            <a:off x="3486240" y="5941440"/>
            <a:ext cx="95040" cy="97200"/>
            <a:chOff x="3486240" y="5941440"/>
            <a:chExt cx="95040" cy="97200"/>
          </a:xfrm>
        </p:grpSpPr>
        <p:sp>
          <p:nvSpPr>
            <p:cNvPr id="3728" name=""/>
            <p:cNvSpPr/>
            <p:nvPr/>
          </p:nvSpPr>
          <p:spPr>
            <a:xfrm rot="10800000">
              <a:off x="3486240" y="60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rot="10800000">
              <a:off x="3486240" y="5941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rot="10800000">
              <a:off x="3486600" y="59418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rot="10800000">
              <a:off x="3533760" y="5941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2" name=""/>
          <p:cNvGrpSpPr/>
          <p:nvPr/>
        </p:nvGrpSpPr>
        <p:grpSpPr>
          <a:xfrm>
            <a:off x="4344480" y="6170040"/>
            <a:ext cx="95400" cy="97200"/>
            <a:chOff x="4344480" y="6170040"/>
            <a:chExt cx="95400" cy="97200"/>
          </a:xfrm>
        </p:grpSpPr>
        <p:sp>
          <p:nvSpPr>
            <p:cNvPr id="3733" name=""/>
            <p:cNvSpPr/>
            <p:nvPr/>
          </p:nvSpPr>
          <p:spPr>
            <a:xfrm rot="10800000">
              <a:off x="4344480" y="6266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rot="10800000">
              <a:off x="4344480" y="6170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rot="10800000">
              <a:off x="4344480" y="6170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rot="10800000">
              <a:off x="4392000" y="61704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2819520" y="6019920"/>
            <a:ext cx="97200" cy="95040"/>
            <a:chOff x="2819520" y="6019920"/>
            <a:chExt cx="97200" cy="95040"/>
          </a:xfrm>
        </p:grpSpPr>
        <p:sp>
          <p:nvSpPr>
            <p:cNvPr id="3738" name=""/>
            <p:cNvSpPr/>
            <p:nvPr/>
          </p:nvSpPr>
          <p:spPr>
            <a:xfrm rot="16200000">
              <a:off x="2772000" y="6067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rot="16200000">
              <a:off x="2868840" y="6067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rot="16200000">
              <a:off x="2844360" y="5995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rot="16200000">
              <a:off x="2844000" y="6042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2" name=""/>
          <p:cNvGrpSpPr/>
          <p:nvPr/>
        </p:nvGrpSpPr>
        <p:grpSpPr>
          <a:xfrm>
            <a:off x="4419720" y="5086440"/>
            <a:ext cx="97200" cy="95040"/>
            <a:chOff x="4419720" y="5086440"/>
            <a:chExt cx="97200" cy="95040"/>
          </a:xfrm>
        </p:grpSpPr>
        <p:sp>
          <p:nvSpPr>
            <p:cNvPr id="3743" name=""/>
            <p:cNvSpPr/>
            <p:nvPr/>
          </p:nvSpPr>
          <p:spPr>
            <a:xfrm rot="16200000">
              <a:off x="4372200" y="5133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rot="16200000">
              <a:off x="4469040" y="5133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rot="16200000">
              <a:off x="4444560" y="50619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rot="16200000">
              <a:off x="4444200" y="5109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048120" y="5486040"/>
            <a:ext cx="97200" cy="95400"/>
            <a:chOff x="3048120" y="5486040"/>
            <a:chExt cx="97200" cy="95400"/>
          </a:xfrm>
        </p:grpSpPr>
        <p:sp>
          <p:nvSpPr>
            <p:cNvPr id="3748" name=""/>
            <p:cNvSpPr/>
            <p:nvPr/>
          </p:nvSpPr>
          <p:spPr>
            <a:xfrm rot="16200000">
              <a:off x="3000600" y="5533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rot="16200000">
              <a:off x="3097440" y="5533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rot="16200000">
              <a:off x="3072600" y="5461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rot="16200000">
              <a:off x="3072600" y="5509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2" name=""/>
          <p:cNvGrpSpPr/>
          <p:nvPr/>
        </p:nvGrpSpPr>
        <p:grpSpPr>
          <a:xfrm>
            <a:off x="4419720" y="5791320"/>
            <a:ext cx="97200" cy="95040"/>
            <a:chOff x="4419720" y="5791320"/>
            <a:chExt cx="97200" cy="95040"/>
          </a:xfrm>
        </p:grpSpPr>
        <p:sp>
          <p:nvSpPr>
            <p:cNvPr id="3753" name=""/>
            <p:cNvSpPr/>
            <p:nvPr/>
          </p:nvSpPr>
          <p:spPr>
            <a:xfrm rot="16200000">
              <a:off x="437220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rot="16200000">
              <a:off x="446904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rot="16200000">
              <a:off x="4444560" y="5766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rot="16200000">
              <a:off x="4444200" y="5814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7" name=""/>
          <p:cNvGrpSpPr/>
          <p:nvPr/>
        </p:nvGrpSpPr>
        <p:grpSpPr>
          <a:xfrm>
            <a:off x="2362320" y="5714640"/>
            <a:ext cx="97200" cy="95400"/>
            <a:chOff x="2362320" y="5714640"/>
            <a:chExt cx="97200" cy="95400"/>
          </a:xfrm>
        </p:grpSpPr>
        <p:sp>
          <p:nvSpPr>
            <p:cNvPr id="3758" name=""/>
            <p:cNvSpPr/>
            <p:nvPr/>
          </p:nvSpPr>
          <p:spPr>
            <a:xfrm rot="16200000">
              <a:off x="2314800" y="5762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rot="16200000">
              <a:off x="2411640" y="5762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6200000">
              <a:off x="2386800" y="5689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rot="16200000">
              <a:off x="2386800" y="5737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2" name=""/>
          <p:cNvGrpSpPr/>
          <p:nvPr/>
        </p:nvGrpSpPr>
        <p:grpSpPr>
          <a:xfrm>
            <a:off x="1447920" y="5486040"/>
            <a:ext cx="97200" cy="95400"/>
            <a:chOff x="1447920" y="5486040"/>
            <a:chExt cx="97200" cy="95400"/>
          </a:xfrm>
        </p:grpSpPr>
        <p:sp>
          <p:nvSpPr>
            <p:cNvPr id="3763" name=""/>
            <p:cNvSpPr/>
            <p:nvPr/>
          </p:nvSpPr>
          <p:spPr>
            <a:xfrm rot="16200000">
              <a:off x="1400400" y="5533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rot="16200000">
              <a:off x="1497240" y="5533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 rot="16200000">
              <a:off x="1472400" y="5461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rot="16200000">
              <a:off x="1472400" y="5509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969840" y="4800240"/>
            <a:ext cx="97200" cy="95400"/>
            <a:chOff x="969840" y="4800240"/>
            <a:chExt cx="97200" cy="95400"/>
          </a:xfrm>
        </p:grpSpPr>
        <p:sp>
          <p:nvSpPr>
            <p:cNvPr id="3768" name=""/>
            <p:cNvSpPr/>
            <p:nvPr/>
          </p:nvSpPr>
          <p:spPr>
            <a:xfrm rot="16200000">
              <a:off x="922320" y="4847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rot="16200000">
              <a:off x="1019160" y="4847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rot="16200000">
              <a:off x="994320" y="4775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rot="16200000">
              <a:off x="994320" y="4823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2" name=""/>
          <p:cNvGrpSpPr/>
          <p:nvPr/>
        </p:nvGrpSpPr>
        <p:grpSpPr>
          <a:xfrm>
            <a:off x="990720" y="4648320"/>
            <a:ext cx="97200" cy="95040"/>
            <a:chOff x="990720" y="4648320"/>
            <a:chExt cx="97200" cy="95040"/>
          </a:xfrm>
        </p:grpSpPr>
        <p:sp>
          <p:nvSpPr>
            <p:cNvPr id="3773" name=""/>
            <p:cNvSpPr/>
            <p:nvPr/>
          </p:nvSpPr>
          <p:spPr>
            <a:xfrm rot="16200000">
              <a:off x="94320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 rot="16200000">
              <a:off x="104004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rot="16200000">
              <a:off x="1015560" y="4623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 rot="16200000">
              <a:off x="1015200" y="4671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7" name=""/>
          <p:cNvGrpSpPr/>
          <p:nvPr/>
        </p:nvGrpSpPr>
        <p:grpSpPr>
          <a:xfrm>
            <a:off x="1449000" y="4798440"/>
            <a:ext cx="95400" cy="97200"/>
            <a:chOff x="1449000" y="4798440"/>
            <a:chExt cx="95400" cy="97200"/>
          </a:xfrm>
        </p:grpSpPr>
        <p:sp>
          <p:nvSpPr>
            <p:cNvPr id="3778" name=""/>
            <p:cNvSpPr/>
            <p:nvPr/>
          </p:nvSpPr>
          <p:spPr>
            <a:xfrm rot="10800000">
              <a:off x="1449000" y="4895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rot="10800000">
              <a:off x="1449000" y="4798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rot="10800000">
              <a:off x="1449000" y="4798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rot="10800000">
              <a:off x="1496520" y="47988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1449000" y="4645800"/>
            <a:ext cx="95400" cy="97200"/>
            <a:chOff x="1449000" y="4645800"/>
            <a:chExt cx="95400" cy="97200"/>
          </a:xfrm>
        </p:grpSpPr>
        <p:sp>
          <p:nvSpPr>
            <p:cNvPr id="3783" name=""/>
            <p:cNvSpPr/>
            <p:nvPr/>
          </p:nvSpPr>
          <p:spPr>
            <a:xfrm rot="10800000">
              <a:off x="1449000" y="4742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rot="10800000">
              <a:off x="1449000" y="4645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rot="10800000">
              <a:off x="1449000" y="4646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 rot="10800000">
              <a:off x="1496520" y="4646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7" name=""/>
          <p:cNvGrpSpPr/>
          <p:nvPr/>
        </p:nvGrpSpPr>
        <p:grpSpPr>
          <a:xfrm>
            <a:off x="762120" y="5333400"/>
            <a:ext cx="95040" cy="97200"/>
            <a:chOff x="762120" y="5333400"/>
            <a:chExt cx="95040" cy="97200"/>
          </a:xfrm>
        </p:grpSpPr>
        <p:sp>
          <p:nvSpPr>
            <p:cNvPr id="3788" name=""/>
            <p:cNvSpPr/>
            <p:nvPr/>
          </p:nvSpPr>
          <p:spPr>
            <a:xfrm rot="10800000">
              <a:off x="762120" y="5430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 rot="10800000">
              <a:off x="762120" y="5333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 rot="10800000">
              <a:off x="762480" y="53337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rot="10800000">
              <a:off x="809640" y="53337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2" name=""/>
          <p:cNvGrpSpPr/>
          <p:nvPr/>
        </p:nvGrpSpPr>
        <p:grpSpPr>
          <a:xfrm>
            <a:off x="762120" y="5942880"/>
            <a:ext cx="95040" cy="97200"/>
            <a:chOff x="762120" y="5942880"/>
            <a:chExt cx="95040" cy="97200"/>
          </a:xfrm>
        </p:grpSpPr>
        <p:sp>
          <p:nvSpPr>
            <p:cNvPr id="3793" name=""/>
            <p:cNvSpPr/>
            <p:nvPr/>
          </p:nvSpPr>
          <p:spPr>
            <a:xfrm rot="10800000">
              <a:off x="762120" y="6039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rot="10800000">
              <a:off x="762120" y="5942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rot="10800000">
              <a:off x="762480" y="5943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 rot="10800000">
              <a:off x="809640" y="59432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7" name=""/>
          <p:cNvGrpSpPr/>
          <p:nvPr/>
        </p:nvGrpSpPr>
        <p:grpSpPr>
          <a:xfrm>
            <a:off x="1905120" y="4855320"/>
            <a:ext cx="95040" cy="97200"/>
            <a:chOff x="1905120" y="4855320"/>
            <a:chExt cx="95040" cy="97200"/>
          </a:xfrm>
        </p:grpSpPr>
        <p:sp>
          <p:nvSpPr>
            <p:cNvPr id="3798" name=""/>
            <p:cNvSpPr/>
            <p:nvPr/>
          </p:nvSpPr>
          <p:spPr>
            <a:xfrm rot="10800000">
              <a:off x="1905120" y="4952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rot="10800000">
              <a:off x="1905120" y="4855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 rot="10800000">
              <a:off x="1905480" y="48556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rot="10800000">
              <a:off x="1952640" y="48556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2057040" y="4342680"/>
            <a:ext cx="95400" cy="97200"/>
            <a:chOff x="2057040" y="4342680"/>
            <a:chExt cx="95400" cy="97200"/>
          </a:xfrm>
        </p:grpSpPr>
        <p:sp>
          <p:nvSpPr>
            <p:cNvPr id="3803" name=""/>
            <p:cNvSpPr/>
            <p:nvPr/>
          </p:nvSpPr>
          <p:spPr>
            <a:xfrm rot="10800000">
              <a:off x="2057040" y="4439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 rot="10800000">
              <a:off x="2057040" y="4342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rot="10800000">
              <a:off x="2057040" y="4343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rot="10800000">
              <a:off x="2104560" y="4343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7" name=""/>
          <p:cNvGrpSpPr/>
          <p:nvPr/>
        </p:nvGrpSpPr>
        <p:grpSpPr>
          <a:xfrm>
            <a:off x="1731960" y="4191120"/>
            <a:ext cx="97200" cy="95040"/>
            <a:chOff x="1731960" y="4191120"/>
            <a:chExt cx="97200" cy="95040"/>
          </a:xfrm>
        </p:grpSpPr>
        <p:sp>
          <p:nvSpPr>
            <p:cNvPr id="3808" name=""/>
            <p:cNvSpPr/>
            <p:nvPr/>
          </p:nvSpPr>
          <p:spPr>
            <a:xfrm rot="16200000">
              <a:off x="168444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rot="16200000">
              <a:off x="178128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 rot="16200000">
              <a:off x="1756800" y="4166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rot="16200000">
              <a:off x="1756440" y="4213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2" name=""/>
          <p:cNvGrpSpPr/>
          <p:nvPr/>
        </p:nvGrpSpPr>
        <p:grpSpPr>
          <a:xfrm>
            <a:off x="762120" y="3733920"/>
            <a:ext cx="97200" cy="95040"/>
            <a:chOff x="762120" y="3733920"/>
            <a:chExt cx="97200" cy="95040"/>
          </a:xfrm>
        </p:grpSpPr>
        <p:sp>
          <p:nvSpPr>
            <p:cNvPr id="3813" name=""/>
            <p:cNvSpPr/>
            <p:nvPr/>
          </p:nvSpPr>
          <p:spPr>
            <a:xfrm rot="16200000">
              <a:off x="71460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rot="16200000">
              <a:off x="81144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rot="16200000">
              <a:off x="786960" y="3709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rot="16200000">
              <a:off x="786600" y="3756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7" name=""/>
          <p:cNvGrpSpPr/>
          <p:nvPr/>
        </p:nvGrpSpPr>
        <p:grpSpPr>
          <a:xfrm>
            <a:off x="1676520" y="3733920"/>
            <a:ext cx="97200" cy="95040"/>
            <a:chOff x="1676520" y="3733920"/>
            <a:chExt cx="97200" cy="95040"/>
          </a:xfrm>
        </p:grpSpPr>
        <p:sp>
          <p:nvSpPr>
            <p:cNvPr id="3818" name=""/>
            <p:cNvSpPr/>
            <p:nvPr/>
          </p:nvSpPr>
          <p:spPr>
            <a:xfrm rot="16200000">
              <a:off x="162900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 rot="16200000">
              <a:off x="1725840" y="378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rot="16200000">
              <a:off x="1701360" y="3709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rot="16200000">
              <a:off x="1701000" y="3756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2" name=""/>
          <p:cNvGrpSpPr/>
          <p:nvPr/>
        </p:nvGrpSpPr>
        <p:grpSpPr>
          <a:xfrm>
            <a:off x="762120" y="3428640"/>
            <a:ext cx="97200" cy="95400"/>
            <a:chOff x="762120" y="3428640"/>
            <a:chExt cx="97200" cy="95400"/>
          </a:xfrm>
        </p:grpSpPr>
        <p:sp>
          <p:nvSpPr>
            <p:cNvPr id="3823" name=""/>
            <p:cNvSpPr/>
            <p:nvPr/>
          </p:nvSpPr>
          <p:spPr>
            <a:xfrm rot="16200000">
              <a:off x="714600" y="347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rot="16200000">
              <a:off x="811440" y="3476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rot="16200000">
              <a:off x="786600" y="3403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rot="16200000">
              <a:off x="786600" y="3451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533520" y="4876200"/>
            <a:ext cx="95040" cy="97200"/>
            <a:chOff x="533520" y="4876200"/>
            <a:chExt cx="95040" cy="97200"/>
          </a:xfrm>
        </p:grpSpPr>
        <p:sp>
          <p:nvSpPr>
            <p:cNvPr id="3828" name=""/>
            <p:cNvSpPr/>
            <p:nvPr/>
          </p:nvSpPr>
          <p:spPr>
            <a:xfrm rot="10800000">
              <a:off x="533520" y="4973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rot="10800000">
              <a:off x="533520" y="4876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rot="10800000">
              <a:off x="533880" y="4876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 rot="10800000">
              <a:off x="581040" y="48765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2" name=""/>
          <p:cNvGrpSpPr/>
          <p:nvPr/>
        </p:nvGrpSpPr>
        <p:grpSpPr>
          <a:xfrm>
            <a:off x="1219320" y="5028480"/>
            <a:ext cx="95040" cy="97200"/>
            <a:chOff x="1219320" y="5028480"/>
            <a:chExt cx="95040" cy="97200"/>
          </a:xfrm>
        </p:grpSpPr>
        <p:sp>
          <p:nvSpPr>
            <p:cNvPr id="3833" name=""/>
            <p:cNvSpPr/>
            <p:nvPr/>
          </p:nvSpPr>
          <p:spPr>
            <a:xfrm rot="10800000">
              <a:off x="1219320" y="5125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rot="10800000">
              <a:off x="1219320" y="502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rot="10800000">
              <a:off x="1219680" y="5028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rot="10800000">
              <a:off x="1266840" y="50288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7" name=""/>
          <p:cNvGrpSpPr/>
          <p:nvPr/>
        </p:nvGrpSpPr>
        <p:grpSpPr>
          <a:xfrm>
            <a:off x="1219320" y="6171480"/>
            <a:ext cx="95040" cy="97200"/>
            <a:chOff x="1219320" y="6171480"/>
            <a:chExt cx="95040" cy="97200"/>
          </a:xfrm>
        </p:grpSpPr>
        <p:sp>
          <p:nvSpPr>
            <p:cNvPr id="3838" name=""/>
            <p:cNvSpPr/>
            <p:nvPr/>
          </p:nvSpPr>
          <p:spPr>
            <a:xfrm rot="10800000">
              <a:off x="1219320" y="6268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rot="10800000">
              <a:off x="1219320" y="6171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rot="10800000">
              <a:off x="1219680" y="6171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rot="10800000">
              <a:off x="1266840" y="61718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758880" y="4879440"/>
            <a:ext cx="93600" cy="88920"/>
            <a:chOff x="758880" y="4879440"/>
            <a:chExt cx="93600" cy="88920"/>
          </a:xfrm>
        </p:grpSpPr>
        <p:sp>
          <p:nvSpPr>
            <p:cNvPr id="3843" name=""/>
            <p:cNvSpPr/>
            <p:nvPr/>
          </p:nvSpPr>
          <p:spPr>
            <a:xfrm rot="16200000">
              <a:off x="723600" y="4914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rot="16200000">
              <a:off x="798480" y="4914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 rot="16200000">
              <a:off x="783360" y="4854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 rot="16200000">
              <a:off x="783360" y="4899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7" name=""/>
          <p:cNvGrpSpPr/>
          <p:nvPr/>
        </p:nvGrpSpPr>
        <p:grpSpPr>
          <a:xfrm>
            <a:off x="758880" y="4650840"/>
            <a:ext cx="93600" cy="88920"/>
            <a:chOff x="758880" y="4650840"/>
            <a:chExt cx="93600" cy="88920"/>
          </a:xfrm>
        </p:grpSpPr>
        <p:sp>
          <p:nvSpPr>
            <p:cNvPr id="3848" name=""/>
            <p:cNvSpPr/>
            <p:nvPr/>
          </p:nvSpPr>
          <p:spPr>
            <a:xfrm rot="16200000">
              <a:off x="723600" y="4686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rot="16200000">
              <a:off x="798480" y="46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 rot="16200000">
              <a:off x="783360" y="462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 rot="16200000">
              <a:off x="783360" y="467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2" name=""/>
          <p:cNvGrpSpPr/>
          <p:nvPr/>
        </p:nvGrpSpPr>
        <p:grpSpPr>
          <a:xfrm>
            <a:off x="2130480" y="4650840"/>
            <a:ext cx="93600" cy="88920"/>
            <a:chOff x="2130480" y="4650840"/>
            <a:chExt cx="93600" cy="88920"/>
          </a:xfrm>
        </p:grpSpPr>
        <p:sp>
          <p:nvSpPr>
            <p:cNvPr id="3853" name=""/>
            <p:cNvSpPr/>
            <p:nvPr/>
          </p:nvSpPr>
          <p:spPr>
            <a:xfrm rot="16200000">
              <a:off x="2095200" y="4686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rot="16200000">
              <a:off x="2170080" y="46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rot="16200000">
              <a:off x="2154960" y="462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 rot="16200000">
              <a:off x="2154960" y="467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7" name=""/>
          <p:cNvGrpSpPr/>
          <p:nvPr/>
        </p:nvGrpSpPr>
        <p:grpSpPr>
          <a:xfrm>
            <a:off x="1676520" y="4876920"/>
            <a:ext cx="88920" cy="93600"/>
            <a:chOff x="1676520" y="4876920"/>
            <a:chExt cx="88920" cy="93600"/>
          </a:xfrm>
        </p:grpSpPr>
        <p:sp>
          <p:nvSpPr>
            <p:cNvPr id="3858" name=""/>
            <p:cNvSpPr/>
            <p:nvPr/>
          </p:nvSpPr>
          <p:spPr>
            <a:xfrm>
              <a:off x="1676520" y="4876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676520" y="4951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72080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67652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2" name=""/>
          <p:cNvGrpSpPr/>
          <p:nvPr/>
        </p:nvGrpSpPr>
        <p:grpSpPr>
          <a:xfrm>
            <a:off x="990720" y="4191120"/>
            <a:ext cx="88920" cy="93600"/>
            <a:chOff x="990720" y="4191120"/>
            <a:chExt cx="88920" cy="93600"/>
          </a:xfrm>
        </p:grpSpPr>
        <p:sp>
          <p:nvSpPr>
            <p:cNvPr id="3863" name=""/>
            <p:cNvSpPr/>
            <p:nvPr/>
          </p:nvSpPr>
          <p:spPr>
            <a:xfrm>
              <a:off x="990720" y="419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990720" y="4266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103500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99072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7" name=""/>
          <p:cNvGrpSpPr/>
          <p:nvPr/>
        </p:nvGrpSpPr>
        <p:grpSpPr>
          <a:xfrm>
            <a:off x="1219320" y="5334120"/>
            <a:ext cx="88920" cy="93600"/>
            <a:chOff x="1219320" y="5334120"/>
            <a:chExt cx="88920" cy="93600"/>
          </a:xfrm>
        </p:grpSpPr>
        <p:sp>
          <p:nvSpPr>
            <p:cNvPr id="3868" name=""/>
            <p:cNvSpPr/>
            <p:nvPr/>
          </p:nvSpPr>
          <p:spPr>
            <a:xfrm>
              <a:off x="1219320" y="5334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219320" y="540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6360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21932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2" name=""/>
          <p:cNvGrpSpPr/>
          <p:nvPr/>
        </p:nvGrpSpPr>
        <p:grpSpPr>
          <a:xfrm>
            <a:off x="1219320" y="5486400"/>
            <a:ext cx="88920" cy="93600"/>
            <a:chOff x="1219320" y="5486400"/>
            <a:chExt cx="88920" cy="93600"/>
          </a:xfrm>
        </p:grpSpPr>
        <p:sp>
          <p:nvSpPr>
            <p:cNvPr id="3873" name=""/>
            <p:cNvSpPr/>
            <p:nvPr/>
          </p:nvSpPr>
          <p:spPr>
            <a:xfrm>
              <a:off x="1219320" y="5486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219320" y="556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126360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121932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1523880" y="5715000"/>
            <a:ext cx="88920" cy="93600"/>
            <a:chOff x="1523880" y="5715000"/>
            <a:chExt cx="88920" cy="93600"/>
          </a:xfrm>
        </p:grpSpPr>
        <p:sp>
          <p:nvSpPr>
            <p:cNvPr id="3878" name=""/>
            <p:cNvSpPr/>
            <p:nvPr/>
          </p:nvSpPr>
          <p:spPr>
            <a:xfrm>
              <a:off x="1523880" y="571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1523880" y="578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56816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152388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2" name=""/>
          <p:cNvGrpSpPr/>
          <p:nvPr/>
        </p:nvGrpSpPr>
        <p:grpSpPr>
          <a:xfrm>
            <a:off x="1676520" y="5715000"/>
            <a:ext cx="88920" cy="93600"/>
            <a:chOff x="1676520" y="5715000"/>
            <a:chExt cx="88920" cy="93600"/>
          </a:xfrm>
        </p:grpSpPr>
        <p:sp>
          <p:nvSpPr>
            <p:cNvPr id="3883" name=""/>
            <p:cNvSpPr/>
            <p:nvPr/>
          </p:nvSpPr>
          <p:spPr>
            <a:xfrm>
              <a:off x="1676520" y="571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1676520" y="578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72080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67652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7" name=""/>
          <p:cNvGrpSpPr/>
          <p:nvPr/>
        </p:nvGrpSpPr>
        <p:grpSpPr>
          <a:xfrm>
            <a:off x="1600200" y="6019920"/>
            <a:ext cx="88920" cy="93600"/>
            <a:chOff x="1600200" y="6019920"/>
            <a:chExt cx="88920" cy="93600"/>
          </a:xfrm>
        </p:grpSpPr>
        <p:sp>
          <p:nvSpPr>
            <p:cNvPr id="3888" name=""/>
            <p:cNvSpPr/>
            <p:nvPr/>
          </p:nvSpPr>
          <p:spPr>
            <a:xfrm>
              <a:off x="160020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60020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164448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160020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2" name=""/>
          <p:cNvGrpSpPr/>
          <p:nvPr/>
        </p:nvGrpSpPr>
        <p:grpSpPr>
          <a:xfrm>
            <a:off x="1216080" y="6022440"/>
            <a:ext cx="93600" cy="88920"/>
            <a:chOff x="1216080" y="6022440"/>
            <a:chExt cx="93600" cy="88920"/>
          </a:xfrm>
        </p:grpSpPr>
        <p:sp>
          <p:nvSpPr>
            <p:cNvPr id="3893" name=""/>
            <p:cNvSpPr/>
            <p:nvPr/>
          </p:nvSpPr>
          <p:spPr>
            <a:xfrm rot="16200000">
              <a:off x="1180800" y="6057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rot="16200000">
              <a:off x="1255680" y="6057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rot="16200000">
              <a:off x="1240560" y="5997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rot="16200000">
              <a:off x="1240560" y="6042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7" name=""/>
          <p:cNvGrpSpPr/>
          <p:nvPr/>
        </p:nvGrpSpPr>
        <p:grpSpPr>
          <a:xfrm>
            <a:off x="987480" y="6022440"/>
            <a:ext cx="93600" cy="88920"/>
            <a:chOff x="987480" y="6022440"/>
            <a:chExt cx="93600" cy="88920"/>
          </a:xfrm>
        </p:grpSpPr>
        <p:sp>
          <p:nvSpPr>
            <p:cNvPr id="3898" name=""/>
            <p:cNvSpPr/>
            <p:nvPr/>
          </p:nvSpPr>
          <p:spPr>
            <a:xfrm rot="16200000">
              <a:off x="952200" y="6057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rot="16200000">
              <a:off x="1027080" y="6057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rot="16200000">
              <a:off x="1011960" y="5997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rot="16200000">
              <a:off x="1011960" y="6042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990720" y="6172200"/>
            <a:ext cx="88920" cy="93600"/>
            <a:chOff x="990720" y="6172200"/>
            <a:chExt cx="88920" cy="93600"/>
          </a:xfrm>
        </p:grpSpPr>
        <p:sp>
          <p:nvSpPr>
            <p:cNvPr id="3903" name=""/>
            <p:cNvSpPr/>
            <p:nvPr/>
          </p:nvSpPr>
          <p:spPr>
            <a:xfrm>
              <a:off x="990720" y="6172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990720" y="624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103500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99072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7" name=""/>
          <p:cNvGrpSpPr/>
          <p:nvPr/>
        </p:nvGrpSpPr>
        <p:grpSpPr>
          <a:xfrm>
            <a:off x="762120" y="5545080"/>
            <a:ext cx="88920" cy="93600"/>
            <a:chOff x="762120" y="5545080"/>
            <a:chExt cx="88920" cy="93600"/>
          </a:xfrm>
        </p:grpSpPr>
        <p:sp>
          <p:nvSpPr>
            <p:cNvPr id="3908" name=""/>
            <p:cNvSpPr/>
            <p:nvPr/>
          </p:nvSpPr>
          <p:spPr>
            <a:xfrm>
              <a:off x="762120" y="55450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762120" y="5619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806400" y="5545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762120" y="5545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2" name=""/>
          <p:cNvGrpSpPr/>
          <p:nvPr/>
        </p:nvGrpSpPr>
        <p:grpSpPr>
          <a:xfrm>
            <a:off x="533520" y="5562720"/>
            <a:ext cx="88920" cy="93600"/>
            <a:chOff x="533520" y="5562720"/>
            <a:chExt cx="88920" cy="93600"/>
          </a:xfrm>
        </p:grpSpPr>
        <p:sp>
          <p:nvSpPr>
            <p:cNvPr id="3913" name=""/>
            <p:cNvSpPr/>
            <p:nvPr/>
          </p:nvSpPr>
          <p:spPr>
            <a:xfrm>
              <a:off x="533520" y="5562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33520" y="5637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57780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3352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7" name=""/>
          <p:cNvGrpSpPr/>
          <p:nvPr/>
        </p:nvGrpSpPr>
        <p:grpSpPr>
          <a:xfrm>
            <a:off x="1673280" y="5336640"/>
            <a:ext cx="93600" cy="88920"/>
            <a:chOff x="1673280" y="5336640"/>
            <a:chExt cx="93600" cy="88920"/>
          </a:xfrm>
        </p:grpSpPr>
        <p:sp>
          <p:nvSpPr>
            <p:cNvPr id="3918" name=""/>
            <p:cNvSpPr/>
            <p:nvPr/>
          </p:nvSpPr>
          <p:spPr>
            <a:xfrm rot="16200000">
              <a:off x="1638000" y="5371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rot="16200000">
              <a:off x="1712880" y="537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rot="16200000">
              <a:off x="1697760" y="5312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rot="16200000">
              <a:off x="1697760" y="5356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2" name=""/>
          <p:cNvGrpSpPr/>
          <p:nvPr/>
        </p:nvGrpSpPr>
        <p:grpSpPr>
          <a:xfrm>
            <a:off x="1905120" y="4191120"/>
            <a:ext cx="88920" cy="93600"/>
            <a:chOff x="1905120" y="4191120"/>
            <a:chExt cx="88920" cy="93600"/>
          </a:xfrm>
        </p:grpSpPr>
        <p:sp>
          <p:nvSpPr>
            <p:cNvPr id="3923" name=""/>
            <p:cNvSpPr/>
            <p:nvPr/>
          </p:nvSpPr>
          <p:spPr>
            <a:xfrm>
              <a:off x="1905120" y="419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905120" y="4266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94940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90512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7" name=""/>
          <p:cNvGrpSpPr/>
          <p:nvPr/>
        </p:nvGrpSpPr>
        <p:grpSpPr>
          <a:xfrm>
            <a:off x="1676520" y="3944880"/>
            <a:ext cx="88920" cy="93600"/>
            <a:chOff x="1676520" y="3944880"/>
            <a:chExt cx="88920" cy="93600"/>
          </a:xfrm>
        </p:grpSpPr>
        <p:sp>
          <p:nvSpPr>
            <p:cNvPr id="3928" name=""/>
            <p:cNvSpPr/>
            <p:nvPr/>
          </p:nvSpPr>
          <p:spPr>
            <a:xfrm>
              <a:off x="1676520" y="3944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1676520" y="4019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1720800" y="3944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1676520" y="3944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2" name=""/>
          <p:cNvGrpSpPr/>
          <p:nvPr/>
        </p:nvGrpSpPr>
        <p:grpSpPr>
          <a:xfrm>
            <a:off x="1905120" y="3962520"/>
            <a:ext cx="88920" cy="93600"/>
            <a:chOff x="1905120" y="3962520"/>
            <a:chExt cx="88920" cy="93600"/>
          </a:xfrm>
        </p:grpSpPr>
        <p:sp>
          <p:nvSpPr>
            <p:cNvPr id="3933" name=""/>
            <p:cNvSpPr/>
            <p:nvPr/>
          </p:nvSpPr>
          <p:spPr>
            <a:xfrm>
              <a:off x="1905120" y="3962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905120" y="4037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94940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0512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7" name=""/>
          <p:cNvGrpSpPr/>
          <p:nvPr/>
        </p:nvGrpSpPr>
        <p:grpSpPr>
          <a:xfrm>
            <a:off x="1905120" y="3733920"/>
            <a:ext cx="88920" cy="93600"/>
            <a:chOff x="1905120" y="3733920"/>
            <a:chExt cx="88920" cy="93600"/>
          </a:xfrm>
        </p:grpSpPr>
        <p:sp>
          <p:nvSpPr>
            <p:cNvPr id="3938" name=""/>
            <p:cNvSpPr/>
            <p:nvPr/>
          </p:nvSpPr>
          <p:spPr>
            <a:xfrm>
              <a:off x="1905120" y="3733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05120" y="3808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49400" y="37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1905120" y="37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2" name=""/>
          <p:cNvGrpSpPr/>
          <p:nvPr/>
        </p:nvGrpSpPr>
        <p:grpSpPr>
          <a:xfrm>
            <a:off x="1219320" y="3276720"/>
            <a:ext cx="88920" cy="93600"/>
            <a:chOff x="1219320" y="3276720"/>
            <a:chExt cx="88920" cy="93600"/>
          </a:xfrm>
        </p:grpSpPr>
        <p:sp>
          <p:nvSpPr>
            <p:cNvPr id="3943" name=""/>
            <p:cNvSpPr/>
            <p:nvPr/>
          </p:nvSpPr>
          <p:spPr>
            <a:xfrm>
              <a:off x="1219320" y="3276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219320" y="3351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263600" y="3276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219320" y="3276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7" name=""/>
          <p:cNvGrpSpPr/>
          <p:nvPr/>
        </p:nvGrpSpPr>
        <p:grpSpPr>
          <a:xfrm>
            <a:off x="1216080" y="3507840"/>
            <a:ext cx="93600" cy="88920"/>
            <a:chOff x="1216080" y="3507840"/>
            <a:chExt cx="93600" cy="88920"/>
          </a:xfrm>
        </p:grpSpPr>
        <p:sp>
          <p:nvSpPr>
            <p:cNvPr id="3948" name=""/>
            <p:cNvSpPr/>
            <p:nvPr/>
          </p:nvSpPr>
          <p:spPr>
            <a:xfrm rot="16200000">
              <a:off x="1180800" y="3543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rot="16200000">
              <a:off x="1255680" y="3542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rot="16200000">
              <a:off x="1240560" y="3483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rot="16200000">
              <a:off x="1240560" y="3527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2" name=""/>
          <p:cNvGrpSpPr/>
          <p:nvPr/>
        </p:nvGrpSpPr>
        <p:grpSpPr>
          <a:xfrm>
            <a:off x="987480" y="3507840"/>
            <a:ext cx="93600" cy="88920"/>
            <a:chOff x="987480" y="3507840"/>
            <a:chExt cx="93600" cy="88920"/>
          </a:xfrm>
        </p:grpSpPr>
        <p:sp>
          <p:nvSpPr>
            <p:cNvPr id="3953" name=""/>
            <p:cNvSpPr/>
            <p:nvPr/>
          </p:nvSpPr>
          <p:spPr>
            <a:xfrm rot="16200000">
              <a:off x="952200" y="3543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rot="16200000">
              <a:off x="1027080" y="3542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 rot="16200000">
              <a:off x="1011960" y="3483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rot="16200000">
              <a:off x="1011960" y="3527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1673280" y="5489280"/>
            <a:ext cx="93600" cy="88920"/>
            <a:chOff x="1673280" y="5489280"/>
            <a:chExt cx="93600" cy="88920"/>
          </a:xfrm>
        </p:grpSpPr>
        <p:sp>
          <p:nvSpPr>
            <p:cNvPr id="3958" name=""/>
            <p:cNvSpPr/>
            <p:nvPr/>
          </p:nvSpPr>
          <p:spPr>
            <a:xfrm rot="16200000">
              <a:off x="1638000" y="5524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rot="16200000">
              <a:off x="1712880" y="5524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rot="16200000">
              <a:off x="1697760" y="5464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rot="16200000">
              <a:off x="1697760" y="5509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2" name=""/>
          <p:cNvGrpSpPr/>
          <p:nvPr/>
        </p:nvGrpSpPr>
        <p:grpSpPr>
          <a:xfrm>
            <a:off x="990720" y="5261040"/>
            <a:ext cx="74520" cy="149400"/>
            <a:chOff x="990720" y="5261040"/>
            <a:chExt cx="74520" cy="149400"/>
          </a:xfrm>
        </p:grpSpPr>
        <p:sp>
          <p:nvSpPr>
            <p:cNvPr id="3963" name=""/>
            <p:cNvSpPr/>
            <p:nvPr/>
          </p:nvSpPr>
          <p:spPr>
            <a:xfrm>
              <a:off x="990720" y="5261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990720" y="54100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027800" y="52610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990720" y="52610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7" name=""/>
          <p:cNvGrpSpPr/>
          <p:nvPr/>
        </p:nvGrpSpPr>
        <p:grpSpPr>
          <a:xfrm>
            <a:off x="1905120" y="5032440"/>
            <a:ext cx="74520" cy="149400"/>
            <a:chOff x="1905120" y="5032440"/>
            <a:chExt cx="74520" cy="149400"/>
          </a:xfrm>
        </p:grpSpPr>
        <p:sp>
          <p:nvSpPr>
            <p:cNvPr id="3968" name=""/>
            <p:cNvSpPr/>
            <p:nvPr/>
          </p:nvSpPr>
          <p:spPr>
            <a:xfrm>
              <a:off x="1905120" y="5032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905120" y="51814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942200" y="50324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1905120" y="50324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2" name=""/>
          <p:cNvGrpSpPr/>
          <p:nvPr/>
        </p:nvGrpSpPr>
        <p:grpSpPr>
          <a:xfrm>
            <a:off x="1447920" y="6022800"/>
            <a:ext cx="74520" cy="149760"/>
            <a:chOff x="1447920" y="6022800"/>
            <a:chExt cx="74520" cy="149760"/>
          </a:xfrm>
        </p:grpSpPr>
        <p:sp>
          <p:nvSpPr>
            <p:cNvPr id="3973" name=""/>
            <p:cNvSpPr/>
            <p:nvPr/>
          </p:nvSpPr>
          <p:spPr>
            <a:xfrm>
              <a:off x="1447920" y="6022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447920" y="6172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485000" y="6022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447920" y="6022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7" name=""/>
          <p:cNvGrpSpPr/>
          <p:nvPr/>
        </p:nvGrpSpPr>
        <p:grpSpPr>
          <a:xfrm>
            <a:off x="1908000" y="4647960"/>
            <a:ext cx="149760" cy="74520"/>
            <a:chOff x="1908000" y="4647960"/>
            <a:chExt cx="149760" cy="74520"/>
          </a:xfrm>
        </p:grpSpPr>
        <p:sp>
          <p:nvSpPr>
            <p:cNvPr id="3978" name=""/>
            <p:cNvSpPr/>
            <p:nvPr/>
          </p:nvSpPr>
          <p:spPr>
            <a:xfrm rot="16200000">
              <a:off x="1870920" y="4685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rot="16200000">
              <a:off x="2020320" y="4685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rot="16200000">
              <a:off x="1963800" y="4591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rot="16200000">
              <a:off x="1964160" y="4629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2" name=""/>
          <p:cNvGrpSpPr/>
          <p:nvPr/>
        </p:nvGrpSpPr>
        <p:grpSpPr>
          <a:xfrm>
            <a:off x="914400" y="3962160"/>
            <a:ext cx="149760" cy="74520"/>
            <a:chOff x="914400" y="3962160"/>
            <a:chExt cx="149760" cy="74520"/>
          </a:xfrm>
        </p:grpSpPr>
        <p:sp>
          <p:nvSpPr>
            <p:cNvPr id="3983" name=""/>
            <p:cNvSpPr/>
            <p:nvPr/>
          </p:nvSpPr>
          <p:spPr>
            <a:xfrm rot="16200000">
              <a:off x="877320" y="3999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rot="16200000">
              <a:off x="1026720" y="3999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rot="16200000">
              <a:off x="970200" y="39060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rot="16200000">
              <a:off x="970560" y="39434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7" name=""/>
          <p:cNvGrpSpPr/>
          <p:nvPr/>
        </p:nvGrpSpPr>
        <p:grpSpPr>
          <a:xfrm>
            <a:off x="1676520" y="5029200"/>
            <a:ext cx="74520" cy="152280"/>
            <a:chOff x="1676520" y="5029200"/>
            <a:chExt cx="74520" cy="152280"/>
          </a:xfrm>
        </p:grpSpPr>
        <p:sp>
          <p:nvSpPr>
            <p:cNvPr id="3988" name=""/>
            <p:cNvSpPr/>
            <p:nvPr/>
          </p:nvSpPr>
          <p:spPr>
            <a:xfrm>
              <a:off x="1676520" y="50292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676520" y="5150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713600" y="502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676520" y="502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2" name=""/>
          <p:cNvGrpSpPr/>
          <p:nvPr/>
        </p:nvGrpSpPr>
        <p:grpSpPr>
          <a:xfrm>
            <a:off x="1449360" y="5257800"/>
            <a:ext cx="74520" cy="152280"/>
            <a:chOff x="1449360" y="5257800"/>
            <a:chExt cx="74520" cy="152280"/>
          </a:xfrm>
        </p:grpSpPr>
        <p:sp>
          <p:nvSpPr>
            <p:cNvPr id="3993" name=""/>
            <p:cNvSpPr/>
            <p:nvPr/>
          </p:nvSpPr>
          <p:spPr>
            <a:xfrm>
              <a:off x="1449360" y="5257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449360" y="53794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486440" y="5257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449360" y="5257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7" name=""/>
          <p:cNvGrpSpPr/>
          <p:nvPr/>
        </p:nvGrpSpPr>
        <p:grpSpPr>
          <a:xfrm>
            <a:off x="533520" y="5792400"/>
            <a:ext cx="152280" cy="74520"/>
            <a:chOff x="533520" y="5792400"/>
            <a:chExt cx="152280" cy="74520"/>
          </a:xfrm>
        </p:grpSpPr>
        <p:sp>
          <p:nvSpPr>
            <p:cNvPr id="3998" name=""/>
            <p:cNvSpPr/>
            <p:nvPr/>
          </p:nvSpPr>
          <p:spPr>
            <a:xfrm rot="16200000">
              <a:off x="511200" y="58143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rot="16200000">
              <a:off x="633240" y="58143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rot="16200000">
              <a:off x="591120" y="57351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16200000">
              <a:off x="591120" y="57722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2" name=""/>
          <p:cNvGrpSpPr/>
          <p:nvPr/>
        </p:nvGrpSpPr>
        <p:grpSpPr>
          <a:xfrm>
            <a:off x="533520" y="5333760"/>
            <a:ext cx="152280" cy="74520"/>
            <a:chOff x="533520" y="5333760"/>
            <a:chExt cx="152280" cy="74520"/>
          </a:xfrm>
        </p:grpSpPr>
        <p:sp>
          <p:nvSpPr>
            <p:cNvPr id="4003" name=""/>
            <p:cNvSpPr/>
            <p:nvPr/>
          </p:nvSpPr>
          <p:spPr>
            <a:xfrm rot="16200000">
              <a:off x="511200" y="5355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rot="16200000">
              <a:off x="633240" y="5355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16200000">
              <a:off x="591120" y="5276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rot="16200000">
              <a:off x="591120" y="5313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7" name=""/>
          <p:cNvGrpSpPr/>
          <p:nvPr/>
        </p:nvGrpSpPr>
        <p:grpSpPr>
          <a:xfrm>
            <a:off x="990720" y="5105160"/>
            <a:ext cx="152280" cy="74520"/>
            <a:chOff x="990720" y="5105160"/>
            <a:chExt cx="152280" cy="74520"/>
          </a:xfrm>
        </p:grpSpPr>
        <p:sp>
          <p:nvSpPr>
            <p:cNvPr id="4008" name=""/>
            <p:cNvSpPr/>
            <p:nvPr/>
          </p:nvSpPr>
          <p:spPr>
            <a:xfrm rot="16200000">
              <a:off x="968400" y="51271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rot="16200000">
              <a:off x="1090440" y="51271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16200000">
              <a:off x="1048320" y="50479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16200000">
              <a:off x="1048320" y="5085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2" name=""/>
          <p:cNvGrpSpPr/>
          <p:nvPr/>
        </p:nvGrpSpPr>
        <p:grpSpPr>
          <a:xfrm>
            <a:off x="1219320" y="4876560"/>
            <a:ext cx="152280" cy="74520"/>
            <a:chOff x="1219320" y="4876560"/>
            <a:chExt cx="152280" cy="74520"/>
          </a:xfrm>
        </p:grpSpPr>
        <p:sp>
          <p:nvSpPr>
            <p:cNvPr id="4013" name=""/>
            <p:cNvSpPr/>
            <p:nvPr/>
          </p:nvSpPr>
          <p:spPr>
            <a:xfrm rot="16200000">
              <a:off x="1197000" y="48985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rot="16200000">
              <a:off x="1319040" y="48985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rot="16200000">
              <a:off x="1276920" y="4819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rot="16200000">
              <a:off x="1276920" y="4856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7" name=""/>
          <p:cNvGrpSpPr/>
          <p:nvPr/>
        </p:nvGrpSpPr>
        <p:grpSpPr>
          <a:xfrm>
            <a:off x="2133720" y="4190760"/>
            <a:ext cx="152280" cy="74520"/>
            <a:chOff x="2133720" y="4190760"/>
            <a:chExt cx="152280" cy="74520"/>
          </a:xfrm>
        </p:grpSpPr>
        <p:sp>
          <p:nvSpPr>
            <p:cNvPr id="4018" name=""/>
            <p:cNvSpPr/>
            <p:nvPr/>
          </p:nvSpPr>
          <p:spPr>
            <a:xfrm rot="16200000">
              <a:off x="2111400" y="4212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rot="16200000">
              <a:off x="2233440" y="4212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rot="16200000">
              <a:off x="2191320" y="4133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rot="16200000">
              <a:off x="2191320" y="4170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2" name=""/>
          <p:cNvGrpSpPr/>
          <p:nvPr/>
        </p:nvGrpSpPr>
        <p:grpSpPr>
          <a:xfrm>
            <a:off x="2133720" y="4038480"/>
            <a:ext cx="152280" cy="74880"/>
            <a:chOff x="2133720" y="4038480"/>
            <a:chExt cx="152280" cy="74880"/>
          </a:xfrm>
        </p:grpSpPr>
        <p:sp>
          <p:nvSpPr>
            <p:cNvPr id="4023" name=""/>
            <p:cNvSpPr/>
            <p:nvPr/>
          </p:nvSpPr>
          <p:spPr>
            <a:xfrm rot="16200000">
              <a:off x="2111400" y="40608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16200000">
              <a:off x="2233080" y="40604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6200000">
              <a:off x="2190960" y="39808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rot="16200000">
              <a:off x="2190960" y="40183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2057400" y="4802040"/>
            <a:ext cx="152280" cy="150840"/>
            <a:chOff x="2057400" y="4802040"/>
            <a:chExt cx="152280" cy="150840"/>
          </a:xfrm>
        </p:grpSpPr>
        <p:sp>
          <p:nvSpPr>
            <p:cNvPr id="4028" name=""/>
            <p:cNvSpPr/>
            <p:nvPr/>
          </p:nvSpPr>
          <p:spPr>
            <a:xfrm>
              <a:off x="2057400" y="48020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100960" y="48020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057400" y="48020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188080" y="48664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100960" y="486648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057400" y="49096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4" name=""/>
          <p:cNvGrpSpPr/>
          <p:nvPr/>
        </p:nvGrpSpPr>
        <p:grpSpPr>
          <a:xfrm>
            <a:off x="1828800" y="5486400"/>
            <a:ext cx="152280" cy="150840"/>
            <a:chOff x="1828800" y="5486400"/>
            <a:chExt cx="152280" cy="150840"/>
          </a:xfrm>
        </p:grpSpPr>
        <p:sp>
          <p:nvSpPr>
            <p:cNvPr id="4035" name=""/>
            <p:cNvSpPr/>
            <p:nvPr/>
          </p:nvSpPr>
          <p:spPr>
            <a:xfrm>
              <a:off x="1828800" y="54864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872360" y="54864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828800" y="54864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59480" y="55508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872360" y="55508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828800" y="55940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1" name=""/>
          <p:cNvGrpSpPr/>
          <p:nvPr/>
        </p:nvGrpSpPr>
        <p:grpSpPr>
          <a:xfrm>
            <a:off x="761760" y="6172200"/>
            <a:ext cx="150840" cy="152280"/>
            <a:chOff x="761760" y="6172200"/>
            <a:chExt cx="150840" cy="152280"/>
          </a:xfrm>
        </p:grpSpPr>
        <p:sp>
          <p:nvSpPr>
            <p:cNvPr id="4042" name=""/>
            <p:cNvSpPr/>
            <p:nvPr/>
          </p:nvSpPr>
          <p:spPr>
            <a:xfrm rot="5400000">
              <a:off x="858240" y="62049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 rot="5400000">
              <a:off x="837000" y="61837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rot="5400000">
              <a:off x="815400" y="61185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 rot="5400000">
              <a:off x="794160" y="62704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 rot="5400000">
              <a:off x="772200" y="62485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rot="5400000">
              <a:off x="707040" y="62265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8" name=""/>
          <p:cNvGrpSpPr/>
          <p:nvPr/>
        </p:nvGrpSpPr>
        <p:grpSpPr>
          <a:xfrm>
            <a:off x="533520" y="5943600"/>
            <a:ext cx="152280" cy="150840"/>
            <a:chOff x="533520" y="5943600"/>
            <a:chExt cx="152280" cy="150840"/>
          </a:xfrm>
        </p:grpSpPr>
        <p:sp>
          <p:nvSpPr>
            <p:cNvPr id="4049" name=""/>
            <p:cNvSpPr/>
            <p:nvPr/>
          </p:nvSpPr>
          <p:spPr>
            <a:xfrm>
              <a:off x="533520" y="59436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77080" y="59436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33520" y="59436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64200" y="60080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77080" y="60080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33520" y="60512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5" name=""/>
          <p:cNvGrpSpPr/>
          <p:nvPr/>
        </p:nvGrpSpPr>
        <p:grpSpPr>
          <a:xfrm>
            <a:off x="914400" y="5486040"/>
            <a:ext cx="150840" cy="152280"/>
            <a:chOff x="914400" y="5486040"/>
            <a:chExt cx="150840" cy="152280"/>
          </a:xfrm>
        </p:grpSpPr>
        <p:sp>
          <p:nvSpPr>
            <p:cNvPr id="4056" name=""/>
            <p:cNvSpPr/>
            <p:nvPr/>
          </p:nvSpPr>
          <p:spPr>
            <a:xfrm rot="16200000">
              <a:off x="881280" y="55839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rot="16200000">
              <a:off x="946440" y="55191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rot="16200000">
              <a:off x="968040" y="55411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 rot="16200000">
              <a:off x="1011240" y="54536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rot="16200000">
              <a:off x="945720" y="55188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rot="16200000">
              <a:off x="967320" y="55404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2" name=""/>
          <p:cNvGrpSpPr/>
          <p:nvPr/>
        </p:nvGrpSpPr>
        <p:grpSpPr>
          <a:xfrm>
            <a:off x="761760" y="5029200"/>
            <a:ext cx="150840" cy="152280"/>
            <a:chOff x="761760" y="5029200"/>
            <a:chExt cx="150840" cy="152280"/>
          </a:xfrm>
        </p:grpSpPr>
        <p:sp>
          <p:nvSpPr>
            <p:cNvPr id="4063" name=""/>
            <p:cNvSpPr/>
            <p:nvPr/>
          </p:nvSpPr>
          <p:spPr>
            <a:xfrm rot="5400000">
              <a:off x="858240" y="50619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 rot="5400000">
              <a:off x="837000" y="50407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rot="5400000">
              <a:off x="815400" y="49755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rot="5400000">
              <a:off x="794160" y="51274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 rot="5400000">
              <a:off x="772200" y="51055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rot="5400000">
              <a:off x="707040" y="50835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9" name=""/>
          <p:cNvGrpSpPr/>
          <p:nvPr/>
        </p:nvGrpSpPr>
        <p:grpSpPr>
          <a:xfrm>
            <a:off x="1677960" y="4571640"/>
            <a:ext cx="150840" cy="152280"/>
            <a:chOff x="1677960" y="4571640"/>
            <a:chExt cx="150840" cy="152280"/>
          </a:xfrm>
        </p:grpSpPr>
        <p:sp>
          <p:nvSpPr>
            <p:cNvPr id="4070" name=""/>
            <p:cNvSpPr/>
            <p:nvPr/>
          </p:nvSpPr>
          <p:spPr>
            <a:xfrm rot="16200000">
              <a:off x="1644840" y="46695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rot="16200000">
              <a:off x="1710000" y="46047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 rot="16200000">
              <a:off x="1731600" y="46267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rot="16200000">
              <a:off x="1774800" y="45392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rot="16200000">
              <a:off x="1709280" y="46044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 rot="16200000">
              <a:off x="1730880" y="46260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6" name=""/>
          <p:cNvGrpSpPr/>
          <p:nvPr/>
        </p:nvGrpSpPr>
        <p:grpSpPr>
          <a:xfrm>
            <a:off x="914400" y="3657240"/>
            <a:ext cx="150840" cy="152280"/>
            <a:chOff x="914400" y="3657240"/>
            <a:chExt cx="150840" cy="152280"/>
          </a:xfrm>
        </p:grpSpPr>
        <p:sp>
          <p:nvSpPr>
            <p:cNvPr id="4077" name=""/>
            <p:cNvSpPr/>
            <p:nvPr/>
          </p:nvSpPr>
          <p:spPr>
            <a:xfrm rot="16200000">
              <a:off x="881280" y="37551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rot="16200000">
              <a:off x="946440" y="36903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rot="16200000">
              <a:off x="968040" y="37123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rot="16200000">
              <a:off x="1011240" y="36248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 rot="16200000">
              <a:off x="945720" y="36900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rot="16200000">
              <a:off x="967320" y="37116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3" name=""/>
          <p:cNvGrpSpPr/>
          <p:nvPr/>
        </p:nvGrpSpPr>
        <p:grpSpPr>
          <a:xfrm>
            <a:off x="685800" y="4114800"/>
            <a:ext cx="152280" cy="152280"/>
            <a:chOff x="685800" y="4114800"/>
            <a:chExt cx="152280" cy="152280"/>
          </a:xfrm>
        </p:grpSpPr>
        <p:sp>
          <p:nvSpPr>
            <p:cNvPr id="4084" name=""/>
            <p:cNvSpPr/>
            <p:nvPr/>
          </p:nvSpPr>
          <p:spPr>
            <a:xfrm>
              <a:off x="685800" y="4114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85800" y="4236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761760" y="4114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85800" y="4114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8" name=""/>
          <p:cNvGrpSpPr/>
          <p:nvPr/>
        </p:nvGrpSpPr>
        <p:grpSpPr>
          <a:xfrm>
            <a:off x="1371600" y="3428640"/>
            <a:ext cx="152280" cy="152280"/>
            <a:chOff x="1371600" y="3428640"/>
            <a:chExt cx="152280" cy="152280"/>
          </a:xfrm>
        </p:grpSpPr>
        <p:sp>
          <p:nvSpPr>
            <p:cNvPr id="4089" name=""/>
            <p:cNvSpPr/>
            <p:nvPr/>
          </p:nvSpPr>
          <p:spPr>
            <a:xfrm rot="16200000">
              <a:off x="1310400" y="34894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rot="16200000">
              <a:off x="1432440" y="3489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rot="16200000">
              <a:off x="1409760" y="3390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rot="16200000">
              <a:off x="1409760" y="3466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3" name=""/>
          <p:cNvGrpSpPr/>
          <p:nvPr/>
        </p:nvGrpSpPr>
        <p:grpSpPr>
          <a:xfrm>
            <a:off x="990720" y="3352680"/>
            <a:ext cx="149400" cy="74880"/>
            <a:chOff x="990720" y="3352680"/>
            <a:chExt cx="149400" cy="74880"/>
          </a:xfrm>
        </p:grpSpPr>
        <p:sp>
          <p:nvSpPr>
            <p:cNvPr id="4094" name=""/>
            <p:cNvSpPr/>
            <p:nvPr/>
          </p:nvSpPr>
          <p:spPr>
            <a:xfrm rot="16200000">
              <a:off x="953280" y="33897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 rot="16200000">
              <a:off x="1102320" y="33897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 rot="16200000">
              <a:off x="1046520" y="32972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rot="16200000">
              <a:off x="1046520" y="33343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8" name=""/>
          <p:cNvGrpSpPr/>
          <p:nvPr/>
        </p:nvGrpSpPr>
        <p:grpSpPr>
          <a:xfrm>
            <a:off x="1219320" y="4572000"/>
            <a:ext cx="152280" cy="152280"/>
            <a:chOff x="1219320" y="4572000"/>
            <a:chExt cx="152280" cy="152280"/>
          </a:xfrm>
        </p:grpSpPr>
        <p:sp>
          <p:nvSpPr>
            <p:cNvPr id="4099" name=""/>
            <p:cNvSpPr/>
            <p:nvPr/>
          </p:nvSpPr>
          <p:spPr>
            <a:xfrm>
              <a:off x="1219320" y="45720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219320" y="46936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295280" y="4572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219320" y="4572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365120" y="5035680"/>
            <a:ext cx="206640" cy="193680"/>
            <a:chOff x="1365120" y="5035680"/>
            <a:chExt cx="206640" cy="193680"/>
          </a:xfrm>
        </p:grpSpPr>
        <p:sp>
          <p:nvSpPr>
            <p:cNvPr id="4104" name=""/>
            <p:cNvSpPr/>
            <p:nvPr/>
          </p:nvSpPr>
          <p:spPr>
            <a:xfrm rot="16200000">
              <a:off x="1400760" y="517392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rot="16200000">
              <a:off x="1401120" y="499968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rot="16200000">
              <a:off x="1290960" y="510948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rot="16200000">
              <a:off x="1336680" y="5109840"/>
              <a:ext cx="193680" cy="4536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 rot="16200000">
              <a:off x="1519200" y="511848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rot="16200000">
              <a:off x="1384200" y="512136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 rot="16200000">
              <a:off x="1472400" y="5071680"/>
              <a:ext cx="38160" cy="16020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rot="16200000">
              <a:off x="1472400" y="5033520"/>
              <a:ext cx="38520" cy="16020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2" name=""/>
          <p:cNvGrpSpPr/>
          <p:nvPr/>
        </p:nvGrpSpPr>
        <p:grpSpPr>
          <a:xfrm>
            <a:off x="761760" y="5714640"/>
            <a:ext cx="152280" cy="152280"/>
            <a:chOff x="761760" y="5714640"/>
            <a:chExt cx="152280" cy="152280"/>
          </a:xfrm>
        </p:grpSpPr>
        <p:sp>
          <p:nvSpPr>
            <p:cNvPr id="4113" name=""/>
            <p:cNvSpPr/>
            <p:nvPr/>
          </p:nvSpPr>
          <p:spPr>
            <a:xfrm flipV="1" rot="16200000">
              <a:off x="822600" y="57751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 rot="16200000">
              <a:off x="700920" y="577512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V="1" rot="16200000">
              <a:off x="799920" y="56764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V="1" rot="16200000">
              <a:off x="799920" y="5752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7" name=""/>
          <p:cNvGrpSpPr/>
          <p:nvPr/>
        </p:nvGrpSpPr>
        <p:grpSpPr>
          <a:xfrm>
            <a:off x="2971800" y="5029200"/>
            <a:ext cx="152280" cy="150840"/>
            <a:chOff x="2971800" y="5029200"/>
            <a:chExt cx="152280" cy="150840"/>
          </a:xfrm>
        </p:grpSpPr>
        <p:sp>
          <p:nvSpPr>
            <p:cNvPr id="4118" name=""/>
            <p:cNvSpPr/>
            <p:nvPr/>
          </p:nvSpPr>
          <p:spPr>
            <a:xfrm>
              <a:off x="2971800" y="50292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015360" y="50292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971800" y="50292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102480" y="50936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015360" y="50936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971800" y="51368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4" name=""/>
          <p:cNvGrpSpPr/>
          <p:nvPr/>
        </p:nvGrpSpPr>
        <p:grpSpPr>
          <a:xfrm>
            <a:off x="3505320" y="5028840"/>
            <a:ext cx="150840" cy="152280"/>
            <a:chOff x="3505320" y="5028840"/>
            <a:chExt cx="150840" cy="152280"/>
          </a:xfrm>
        </p:grpSpPr>
        <p:sp>
          <p:nvSpPr>
            <p:cNvPr id="4125" name=""/>
            <p:cNvSpPr/>
            <p:nvPr/>
          </p:nvSpPr>
          <p:spPr>
            <a:xfrm rot="16200000">
              <a:off x="3472200" y="51267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rot="16200000">
              <a:off x="3537360" y="50619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rot="16200000">
              <a:off x="3558960" y="50839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16200000">
              <a:off x="3602160" y="49964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16200000">
              <a:off x="3536640" y="50616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rot="16200000">
              <a:off x="3558240" y="50832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1" name=""/>
          <p:cNvGrpSpPr/>
          <p:nvPr/>
        </p:nvGrpSpPr>
        <p:grpSpPr>
          <a:xfrm>
            <a:off x="4343400" y="5257800"/>
            <a:ext cx="152280" cy="150840"/>
            <a:chOff x="4343400" y="5257800"/>
            <a:chExt cx="152280" cy="150840"/>
          </a:xfrm>
        </p:grpSpPr>
        <p:sp>
          <p:nvSpPr>
            <p:cNvPr id="4132" name=""/>
            <p:cNvSpPr/>
            <p:nvPr/>
          </p:nvSpPr>
          <p:spPr>
            <a:xfrm>
              <a:off x="4343400" y="52578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86960" y="52578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343400" y="52578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474080" y="53222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386960" y="53222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343400" y="53654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8" name=""/>
          <p:cNvGrpSpPr/>
          <p:nvPr/>
        </p:nvGrpSpPr>
        <p:grpSpPr>
          <a:xfrm>
            <a:off x="4114440" y="4800600"/>
            <a:ext cx="150840" cy="152280"/>
            <a:chOff x="4114440" y="4800600"/>
            <a:chExt cx="150840" cy="152280"/>
          </a:xfrm>
        </p:grpSpPr>
        <p:sp>
          <p:nvSpPr>
            <p:cNvPr id="4139" name=""/>
            <p:cNvSpPr/>
            <p:nvPr/>
          </p:nvSpPr>
          <p:spPr>
            <a:xfrm rot="5400000">
              <a:off x="4210920" y="48333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rot="5400000">
              <a:off x="4189680" y="48121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rot="5400000">
              <a:off x="4168080" y="47469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 rot="5400000">
              <a:off x="4146840" y="48988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rot="5400000">
              <a:off x="4124880" y="48769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rot="5400000">
              <a:off x="4059720" y="48549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5" name=""/>
          <p:cNvGrpSpPr/>
          <p:nvPr/>
        </p:nvGrpSpPr>
        <p:grpSpPr>
          <a:xfrm>
            <a:off x="4572000" y="4876560"/>
            <a:ext cx="150840" cy="152280"/>
            <a:chOff x="4572000" y="4876560"/>
            <a:chExt cx="150840" cy="152280"/>
          </a:xfrm>
        </p:grpSpPr>
        <p:sp>
          <p:nvSpPr>
            <p:cNvPr id="4146" name=""/>
            <p:cNvSpPr/>
            <p:nvPr/>
          </p:nvSpPr>
          <p:spPr>
            <a:xfrm rot="16200000">
              <a:off x="4538880" y="49744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 rot="16200000">
              <a:off x="4604040" y="490968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 rot="16200000">
              <a:off x="4625640" y="49316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rot="16200000">
              <a:off x="4668840" y="484416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 rot="16200000">
              <a:off x="4603320" y="49093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rot="16200000">
              <a:off x="4624920" y="493092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3885840" y="5943240"/>
            <a:ext cx="152280" cy="150840"/>
            <a:chOff x="3885840" y="5943240"/>
            <a:chExt cx="152280" cy="150840"/>
          </a:xfrm>
        </p:grpSpPr>
        <p:sp>
          <p:nvSpPr>
            <p:cNvPr id="4153" name=""/>
            <p:cNvSpPr/>
            <p:nvPr/>
          </p:nvSpPr>
          <p:spPr>
            <a:xfrm rot="10800000">
              <a:off x="3951000" y="60728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 rot="10800000">
              <a:off x="3951000" y="59864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rot="10800000">
              <a:off x="3994560" y="59432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rot="10800000">
              <a:off x="3885840" y="59432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rot="10800000">
              <a:off x="3885840" y="59868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 rot="10800000">
              <a:off x="3885840" y="59432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9" name=""/>
          <p:cNvGrpSpPr/>
          <p:nvPr/>
        </p:nvGrpSpPr>
        <p:grpSpPr>
          <a:xfrm>
            <a:off x="2590920" y="5945040"/>
            <a:ext cx="152280" cy="150840"/>
            <a:chOff x="2590920" y="5945040"/>
            <a:chExt cx="152280" cy="150840"/>
          </a:xfrm>
        </p:grpSpPr>
        <p:sp>
          <p:nvSpPr>
            <p:cNvPr id="4160" name=""/>
            <p:cNvSpPr/>
            <p:nvPr/>
          </p:nvSpPr>
          <p:spPr>
            <a:xfrm>
              <a:off x="2590920" y="59450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2634480" y="59450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590920" y="59450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2721600" y="60094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2634480" y="600948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590920" y="60526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6" name=""/>
          <p:cNvGrpSpPr/>
          <p:nvPr/>
        </p:nvGrpSpPr>
        <p:grpSpPr>
          <a:xfrm>
            <a:off x="3290760" y="4876920"/>
            <a:ext cx="74880" cy="149400"/>
            <a:chOff x="3290760" y="4876920"/>
            <a:chExt cx="74880" cy="149400"/>
          </a:xfrm>
        </p:grpSpPr>
        <p:sp>
          <p:nvSpPr>
            <p:cNvPr id="4167" name=""/>
            <p:cNvSpPr/>
            <p:nvPr/>
          </p:nvSpPr>
          <p:spPr>
            <a:xfrm>
              <a:off x="3290760" y="487692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290760" y="50259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327840" y="48769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290760" y="48769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1" name=""/>
          <p:cNvGrpSpPr/>
          <p:nvPr/>
        </p:nvGrpSpPr>
        <p:grpSpPr>
          <a:xfrm>
            <a:off x="3733920" y="4800600"/>
            <a:ext cx="74520" cy="149760"/>
            <a:chOff x="3733920" y="4800600"/>
            <a:chExt cx="74520" cy="149760"/>
          </a:xfrm>
        </p:grpSpPr>
        <p:sp>
          <p:nvSpPr>
            <p:cNvPr id="4172" name=""/>
            <p:cNvSpPr/>
            <p:nvPr/>
          </p:nvSpPr>
          <p:spPr>
            <a:xfrm>
              <a:off x="3733920" y="4800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733920" y="4950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771000" y="48006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733920" y="48006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6" name=""/>
          <p:cNvGrpSpPr/>
          <p:nvPr/>
        </p:nvGrpSpPr>
        <p:grpSpPr>
          <a:xfrm>
            <a:off x="4572000" y="5257800"/>
            <a:ext cx="74520" cy="149760"/>
            <a:chOff x="4572000" y="5257800"/>
            <a:chExt cx="74520" cy="149760"/>
          </a:xfrm>
        </p:grpSpPr>
        <p:sp>
          <p:nvSpPr>
            <p:cNvPr id="4177" name=""/>
            <p:cNvSpPr/>
            <p:nvPr/>
          </p:nvSpPr>
          <p:spPr>
            <a:xfrm>
              <a:off x="4572000" y="5257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572000" y="5407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609080" y="5257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572000" y="5257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1" name=""/>
          <p:cNvGrpSpPr/>
          <p:nvPr/>
        </p:nvGrpSpPr>
        <p:grpSpPr>
          <a:xfrm>
            <a:off x="3048120" y="6019920"/>
            <a:ext cx="74520" cy="149400"/>
            <a:chOff x="3048120" y="6019920"/>
            <a:chExt cx="74520" cy="149400"/>
          </a:xfrm>
        </p:grpSpPr>
        <p:sp>
          <p:nvSpPr>
            <p:cNvPr id="4182" name=""/>
            <p:cNvSpPr/>
            <p:nvPr/>
          </p:nvSpPr>
          <p:spPr>
            <a:xfrm>
              <a:off x="3048120" y="6019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048120" y="61689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085200" y="60199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048120" y="60199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6" name=""/>
          <p:cNvGrpSpPr/>
          <p:nvPr/>
        </p:nvGrpSpPr>
        <p:grpSpPr>
          <a:xfrm>
            <a:off x="3962520" y="5029200"/>
            <a:ext cx="74520" cy="152280"/>
            <a:chOff x="3962520" y="5029200"/>
            <a:chExt cx="74520" cy="152280"/>
          </a:xfrm>
        </p:grpSpPr>
        <p:sp>
          <p:nvSpPr>
            <p:cNvPr id="4187" name=""/>
            <p:cNvSpPr/>
            <p:nvPr/>
          </p:nvSpPr>
          <p:spPr>
            <a:xfrm>
              <a:off x="3962520" y="50292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962520" y="5150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999600" y="502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962520" y="502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1" name=""/>
          <p:cNvGrpSpPr/>
          <p:nvPr/>
        </p:nvGrpSpPr>
        <p:grpSpPr>
          <a:xfrm>
            <a:off x="4114800" y="5029200"/>
            <a:ext cx="74520" cy="152280"/>
            <a:chOff x="4114800" y="5029200"/>
            <a:chExt cx="74520" cy="152280"/>
          </a:xfrm>
        </p:grpSpPr>
        <p:sp>
          <p:nvSpPr>
            <p:cNvPr id="4192" name=""/>
            <p:cNvSpPr/>
            <p:nvPr/>
          </p:nvSpPr>
          <p:spPr>
            <a:xfrm>
              <a:off x="4114800" y="50292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114800" y="5150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4151880" y="502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114800" y="5029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6" name=""/>
          <p:cNvGrpSpPr/>
          <p:nvPr/>
        </p:nvGrpSpPr>
        <p:grpSpPr>
          <a:xfrm>
            <a:off x="3252960" y="5106600"/>
            <a:ext cx="152280" cy="74520"/>
            <a:chOff x="3252960" y="5106600"/>
            <a:chExt cx="152280" cy="74520"/>
          </a:xfrm>
        </p:grpSpPr>
        <p:sp>
          <p:nvSpPr>
            <p:cNvPr id="4197" name=""/>
            <p:cNvSpPr/>
            <p:nvPr/>
          </p:nvSpPr>
          <p:spPr>
            <a:xfrm rot="16200000">
              <a:off x="3230640" y="51285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 rot="16200000">
              <a:off x="3352680" y="51285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 rot="16200000">
              <a:off x="3310560" y="50493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 rot="16200000">
              <a:off x="3310560" y="5086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1" name=""/>
          <p:cNvGrpSpPr/>
          <p:nvPr/>
        </p:nvGrpSpPr>
        <p:grpSpPr>
          <a:xfrm>
            <a:off x="2362320" y="5945040"/>
            <a:ext cx="152280" cy="74880"/>
            <a:chOff x="2362320" y="5945040"/>
            <a:chExt cx="152280" cy="74880"/>
          </a:xfrm>
        </p:grpSpPr>
        <p:sp>
          <p:nvSpPr>
            <p:cNvPr id="4202" name=""/>
            <p:cNvSpPr/>
            <p:nvPr/>
          </p:nvSpPr>
          <p:spPr>
            <a:xfrm rot="16200000">
              <a:off x="2340000" y="596736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 rot="16200000">
              <a:off x="2461680" y="596700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 rot="16200000">
              <a:off x="2419560" y="588744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 rot="16200000">
              <a:off x="2419560" y="59248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6" name=""/>
          <p:cNvGrpSpPr/>
          <p:nvPr/>
        </p:nvGrpSpPr>
        <p:grpSpPr>
          <a:xfrm>
            <a:off x="4572000" y="4724280"/>
            <a:ext cx="152280" cy="74880"/>
            <a:chOff x="4572000" y="4724280"/>
            <a:chExt cx="152280" cy="74880"/>
          </a:xfrm>
        </p:grpSpPr>
        <p:sp>
          <p:nvSpPr>
            <p:cNvPr id="4207" name=""/>
            <p:cNvSpPr/>
            <p:nvPr/>
          </p:nvSpPr>
          <p:spPr>
            <a:xfrm rot="16200000">
              <a:off x="4549680" y="47466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 rot="16200000">
              <a:off x="4671360" y="47462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rot="16200000">
              <a:off x="4629240" y="46666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rot="16200000">
              <a:off x="4629240" y="47041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1" name=""/>
          <p:cNvGrpSpPr/>
          <p:nvPr/>
        </p:nvGrpSpPr>
        <p:grpSpPr>
          <a:xfrm>
            <a:off x="3276720" y="6171840"/>
            <a:ext cx="152640" cy="149400"/>
            <a:chOff x="3276720" y="6171840"/>
            <a:chExt cx="152640" cy="149400"/>
          </a:xfrm>
        </p:grpSpPr>
        <p:sp>
          <p:nvSpPr>
            <p:cNvPr id="4212" name=""/>
            <p:cNvSpPr/>
            <p:nvPr/>
          </p:nvSpPr>
          <p:spPr>
            <a:xfrm rot="16200000">
              <a:off x="3202200" y="6246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 rot="16200000">
              <a:off x="3354480" y="6246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 rot="16200000">
              <a:off x="3315600" y="61329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 rot="16200000">
              <a:off x="3315240" y="62074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6" name=""/>
          <p:cNvGrpSpPr/>
          <p:nvPr/>
        </p:nvGrpSpPr>
        <p:grpSpPr>
          <a:xfrm>
            <a:off x="4343400" y="4876920"/>
            <a:ext cx="152640" cy="149040"/>
            <a:chOff x="4343400" y="4876920"/>
            <a:chExt cx="152640" cy="149040"/>
          </a:xfrm>
        </p:grpSpPr>
        <p:sp>
          <p:nvSpPr>
            <p:cNvPr id="4217" name=""/>
            <p:cNvSpPr/>
            <p:nvPr/>
          </p:nvSpPr>
          <p:spPr>
            <a:xfrm rot="16200000">
              <a:off x="4268880" y="49510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 rot="16200000">
              <a:off x="4421160" y="49510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rot="16200000">
              <a:off x="4382280" y="48376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rot="16200000">
              <a:off x="4381920" y="49122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1" name=""/>
          <p:cNvGrpSpPr/>
          <p:nvPr/>
        </p:nvGrpSpPr>
        <p:grpSpPr>
          <a:xfrm>
            <a:off x="2743200" y="4876560"/>
            <a:ext cx="149760" cy="74520"/>
            <a:chOff x="2743200" y="4876560"/>
            <a:chExt cx="149760" cy="74520"/>
          </a:xfrm>
        </p:grpSpPr>
        <p:sp>
          <p:nvSpPr>
            <p:cNvPr id="4222" name=""/>
            <p:cNvSpPr/>
            <p:nvPr/>
          </p:nvSpPr>
          <p:spPr>
            <a:xfrm rot="16200000">
              <a:off x="270612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 rot="16200000">
              <a:off x="2855520" y="4913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 rot="16200000">
              <a:off x="2799000" y="4820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 rot="16200000">
              <a:off x="2799360" y="48578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6" name=""/>
          <p:cNvGrpSpPr/>
          <p:nvPr/>
        </p:nvGrpSpPr>
        <p:grpSpPr>
          <a:xfrm>
            <a:off x="3429000" y="5257440"/>
            <a:ext cx="149760" cy="74520"/>
            <a:chOff x="3429000" y="5257440"/>
            <a:chExt cx="149760" cy="74520"/>
          </a:xfrm>
        </p:grpSpPr>
        <p:sp>
          <p:nvSpPr>
            <p:cNvPr id="4227" name=""/>
            <p:cNvSpPr/>
            <p:nvPr/>
          </p:nvSpPr>
          <p:spPr>
            <a:xfrm rot="16200000">
              <a:off x="3391920" y="5294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 rot="16200000">
              <a:off x="3541320" y="5294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 rot="16200000">
              <a:off x="3484800" y="52012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 rot="16200000">
              <a:off x="3485160" y="52387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1" name=""/>
          <p:cNvGrpSpPr/>
          <p:nvPr/>
        </p:nvGrpSpPr>
        <p:grpSpPr>
          <a:xfrm>
            <a:off x="2590920" y="5334120"/>
            <a:ext cx="152280" cy="152280"/>
            <a:chOff x="2590920" y="5334120"/>
            <a:chExt cx="152280" cy="152280"/>
          </a:xfrm>
        </p:grpSpPr>
        <p:sp>
          <p:nvSpPr>
            <p:cNvPr id="4232" name=""/>
            <p:cNvSpPr/>
            <p:nvPr/>
          </p:nvSpPr>
          <p:spPr>
            <a:xfrm>
              <a:off x="2590920" y="53341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2590920" y="5455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2666880" y="5334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590920" y="5334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6" name=""/>
          <p:cNvGrpSpPr/>
          <p:nvPr/>
        </p:nvGrpSpPr>
        <p:grpSpPr>
          <a:xfrm>
            <a:off x="2819520" y="5486040"/>
            <a:ext cx="152280" cy="152280"/>
            <a:chOff x="2819520" y="5486040"/>
            <a:chExt cx="152280" cy="152280"/>
          </a:xfrm>
        </p:grpSpPr>
        <p:sp>
          <p:nvSpPr>
            <p:cNvPr id="4237" name=""/>
            <p:cNvSpPr/>
            <p:nvPr/>
          </p:nvSpPr>
          <p:spPr>
            <a:xfrm rot="16200000">
              <a:off x="2758320" y="5546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 rot="16200000">
              <a:off x="2880360" y="5546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 rot="16200000">
              <a:off x="2857680" y="5448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 rot="16200000">
              <a:off x="2857680" y="5524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1" name=""/>
          <p:cNvGrpSpPr/>
          <p:nvPr/>
        </p:nvGrpSpPr>
        <p:grpSpPr>
          <a:xfrm>
            <a:off x="4114800" y="5943240"/>
            <a:ext cx="152280" cy="152280"/>
            <a:chOff x="4114800" y="5943240"/>
            <a:chExt cx="152280" cy="152280"/>
          </a:xfrm>
        </p:grpSpPr>
        <p:sp>
          <p:nvSpPr>
            <p:cNvPr id="4242" name=""/>
            <p:cNvSpPr/>
            <p:nvPr/>
          </p:nvSpPr>
          <p:spPr>
            <a:xfrm rot="16200000">
              <a:off x="4053600" y="6004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rot="16200000">
              <a:off x="4175640" y="6004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rot="16200000">
              <a:off x="4152960" y="5905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 rot="16200000">
              <a:off x="4152960" y="5981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6" name=""/>
          <p:cNvGrpSpPr/>
          <p:nvPr/>
        </p:nvGrpSpPr>
        <p:grpSpPr>
          <a:xfrm>
            <a:off x="4343400" y="5943600"/>
            <a:ext cx="88920" cy="93600"/>
            <a:chOff x="4343400" y="5943600"/>
            <a:chExt cx="88920" cy="93600"/>
          </a:xfrm>
        </p:grpSpPr>
        <p:sp>
          <p:nvSpPr>
            <p:cNvPr id="4247" name=""/>
            <p:cNvSpPr/>
            <p:nvPr/>
          </p:nvSpPr>
          <p:spPr>
            <a:xfrm>
              <a:off x="4343400" y="5943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343400" y="6018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4387680" y="5943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343400" y="5943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4800240" y="5637960"/>
            <a:ext cx="95400" cy="97200"/>
            <a:chOff x="4800240" y="5637960"/>
            <a:chExt cx="95400" cy="97200"/>
          </a:xfrm>
        </p:grpSpPr>
        <p:sp>
          <p:nvSpPr>
            <p:cNvPr id="4252" name=""/>
            <p:cNvSpPr/>
            <p:nvPr/>
          </p:nvSpPr>
          <p:spPr>
            <a:xfrm rot="10800000">
              <a:off x="4800240" y="5734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rot="10800000">
              <a:off x="4800240" y="5637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rot="10800000">
              <a:off x="4800240" y="56383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0800000">
              <a:off x="4847760" y="5638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6" name=""/>
          <p:cNvGrpSpPr/>
          <p:nvPr/>
        </p:nvGrpSpPr>
        <p:grpSpPr>
          <a:xfrm>
            <a:off x="4876920" y="5943600"/>
            <a:ext cx="88920" cy="93600"/>
            <a:chOff x="4876920" y="5943600"/>
            <a:chExt cx="88920" cy="93600"/>
          </a:xfrm>
        </p:grpSpPr>
        <p:sp>
          <p:nvSpPr>
            <p:cNvPr id="4257" name=""/>
            <p:cNvSpPr/>
            <p:nvPr/>
          </p:nvSpPr>
          <p:spPr>
            <a:xfrm>
              <a:off x="4876920" y="5943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876920" y="6018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4921200" y="5943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876920" y="5943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1" name=""/>
          <p:cNvGrpSpPr/>
          <p:nvPr/>
        </p:nvGrpSpPr>
        <p:grpSpPr>
          <a:xfrm>
            <a:off x="4568760" y="5946480"/>
            <a:ext cx="93600" cy="88920"/>
            <a:chOff x="4568760" y="5946480"/>
            <a:chExt cx="93600" cy="88920"/>
          </a:xfrm>
        </p:grpSpPr>
        <p:sp>
          <p:nvSpPr>
            <p:cNvPr id="4262" name=""/>
            <p:cNvSpPr/>
            <p:nvPr/>
          </p:nvSpPr>
          <p:spPr>
            <a:xfrm rot="16200000">
              <a:off x="4533480" y="5981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 rot="16200000">
              <a:off x="4608360" y="598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 rot="16200000">
              <a:off x="4593240" y="5922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 rot="16200000">
              <a:off x="4593240" y="5966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6" name=""/>
          <p:cNvGrpSpPr/>
          <p:nvPr/>
        </p:nvGrpSpPr>
        <p:grpSpPr>
          <a:xfrm>
            <a:off x="3962520" y="5791320"/>
            <a:ext cx="97200" cy="95040"/>
            <a:chOff x="3962520" y="5791320"/>
            <a:chExt cx="97200" cy="95040"/>
          </a:xfrm>
        </p:grpSpPr>
        <p:sp>
          <p:nvSpPr>
            <p:cNvPr id="4267" name=""/>
            <p:cNvSpPr/>
            <p:nvPr/>
          </p:nvSpPr>
          <p:spPr>
            <a:xfrm rot="16200000">
              <a:off x="391500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rot="16200000">
              <a:off x="4011840" y="583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 rot="16200000">
              <a:off x="3987360" y="5766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rot="16200000">
              <a:off x="3987000" y="5814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1" name=""/>
          <p:cNvGrpSpPr/>
          <p:nvPr/>
        </p:nvGrpSpPr>
        <p:grpSpPr>
          <a:xfrm>
            <a:off x="3657600" y="6000840"/>
            <a:ext cx="97200" cy="95040"/>
            <a:chOff x="3657600" y="6000840"/>
            <a:chExt cx="97200" cy="95040"/>
          </a:xfrm>
        </p:grpSpPr>
        <p:sp>
          <p:nvSpPr>
            <p:cNvPr id="4272" name=""/>
            <p:cNvSpPr/>
            <p:nvPr/>
          </p:nvSpPr>
          <p:spPr>
            <a:xfrm rot="16200000">
              <a:off x="3610080" y="6048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 rot="16200000">
              <a:off x="3706920" y="6048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rot="16200000">
              <a:off x="3682440" y="5976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rot="16200000">
              <a:off x="3682080" y="6023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3505320" y="6172200"/>
            <a:ext cx="88920" cy="93600"/>
            <a:chOff x="3505320" y="6172200"/>
            <a:chExt cx="88920" cy="93600"/>
          </a:xfrm>
        </p:grpSpPr>
        <p:sp>
          <p:nvSpPr>
            <p:cNvPr id="4277" name=""/>
            <p:cNvSpPr/>
            <p:nvPr/>
          </p:nvSpPr>
          <p:spPr>
            <a:xfrm>
              <a:off x="3505320" y="6172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505320" y="624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54960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50532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1" name=""/>
          <p:cNvGrpSpPr/>
          <p:nvPr/>
        </p:nvGrpSpPr>
        <p:grpSpPr>
          <a:xfrm>
            <a:off x="3276720" y="6019920"/>
            <a:ext cx="88920" cy="93600"/>
            <a:chOff x="3276720" y="6019920"/>
            <a:chExt cx="88920" cy="93600"/>
          </a:xfrm>
        </p:grpSpPr>
        <p:sp>
          <p:nvSpPr>
            <p:cNvPr id="4282" name=""/>
            <p:cNvSpPr/>
            <p:nvPr/>
          </p:nvSpPr>
          <p:spPr>
            <a:xfrm>
              <a:off x="327672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27672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32100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27672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4648320" y="5790600"/>
            <a:ext cx="95040" cy="97200"/>
            <a:chOff x="4648320" y="5790600"/>
            <a:chExt cx="95040" cy="97200"/>
          </a:xfrm>
        </p:grpSpPr>
        <p:sp>
          <p:nvSpPr>
            <p:cNvPr id="4287" name=""/>
            <p:cNvSpPr/>
            <p:nvPr/>
          </p:nvSpPr>
          <p:spPr>
            <a:xfrm rot="10800000">
              <a:off x="4648320" y="5887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rot="10800000">
              <a:off x="4648320" y="5790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rot="10800000">
              <a:off x="4648680" y="57909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rot="10800000">
              <a:off x="4695840" y="57909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1" name=""/>
          <p:cNvGrpSpPr/>
          <p:nvPr/>
        </p:nvGrpSpPr>
        <p:grpSpPr>
          <a:xfrm>
            <a:off x="3886200" y="6171840"/>
            <a:ext cx="152640" cy="149400"/>
            <a:chOff x="3886200" y="6171840"/>
            <a:chExt cx="152640" cy="149400"/>
          </a:xfrm>
        </p:grpSpPr>
        <p:sp>
          <p:nvSpPr>
            <p:cNvPr id="4292" name=""/>
            <p:cNvSpPr/>
            <p:nvPr/>
          </p:nvSpPr>
          <p:spPr>
            <a:xfrm rot="16200000">
              <a:off x="3811680" y="6246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rot="16200000">
              <a:off x="3963960" y="6246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rot="16200000">
              <a:off x="3925080" y="61329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rot="16200000">
              <a:off x="3924720" y="62074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6" name=""/>
          <p:cNvGrpSpPr/>
          <p:nvPr/>
        </p:nvGrpSpPr>
        <p:grpSpPr>
          <a:xfrm>
            <a:off x="3428640" y="5485680"/>
            <a:ext cx="95400" cy="97200"/>
            <a:chOff x="3428640" y="5485680"/>
            <a:chExt cx="95400" cy="97200"/>
          </a:xfrm>
        </p:grpSpPr>
        <p:sp>
          <p:nvSpPr>
            <p:cNvPr id="4297" name=""/>
            <p:cNvSpPr/>
            <p:nvPr/>
          </p:nvSpPr>
          <p:spPr>
            <a:xfrm rot="10800000">
              <a:off x="3428640" y="5582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rot="10800000">
              <a:off x="3428640" y="5485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rot="10800000">
              <a:off x="3428640" y="5486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rot="10800000">
              <a:off x="3476160" y="54860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1" name=""/>
          <p:cNvGrpSpPr/>
          <p:nvPr/>
        </p:nvGrpSpPr>
        <p:grpSpPr>
          <a:xfrm>
            <a:off x="3276720" y="5486400"/>
            <a:ext cx="88920" cy="93600"/>
            <a:chOff x="3276720" y="5486400"/>
            <a:chExt cx="88920" cy="93600"/>
          </a:xfrm>
        </p:grpSpPr>
        <p:sp>
          <p:nvSpPr>
            <p:cNvPr id="4302" name=""/>
            <p:cNvSpPr/>
            <p:nvPr/>
          </p:nvSpPr>
          <p:spPr>
            <a:xfrm>
              <a:off x="3276720" y="5486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276720" y="556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32100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27672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3200400" y="5334120"/>
            <a:ext cx="88920" cy="93600"/>
            <a:chOff x="3200400" y="5334120"/>
            <a:chExt cx="88920" cy="93600"/>
          </a:xfrm>
        </p:grpSpPr>
        <p:sp>
          <p:nvSpPr>
            <p:cNvPr id="4307" name=""/>
            <p:cNvSpPr/>
            <p:nvPr/>
          </p:nvSpPr>
          <p:spPr>
            <a:xfrm>
              <a:off x="3200400" y="5334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200400" y="540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24468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20040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1" name=""/>
          <p:cNvGrpSpPr/>
          <p:nvPr/>
        </p:nvGrpSpPr>
        <p:grpSpPr>
          <a:xfrm>
            <a:off x="3048120" y="5334120"/>
            <a:ext cx="88920" cy="93600"/>
            <a:chOff x="3048120" y="5334120"/>
            <a:chExt cx="88920" cy="93600"/>
          </a:xfrm>
        </p:grpSpPr>
        <p:sp>
          <p:nvSpPr>
            <p:cNvPr id="4312" name=""/>
            <p:cNvSpPr/>
            <p:nvPr/>
          </p:nvSpPr>
          <p:spPr>
            <a:xfrm>
              <a:off x="3048120" y="5334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048120" y="540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09240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04812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6" name=""/>
          <p:cNvGrpSpPr/>
          <p:nvPr/>
        </p:nvGrpSpPr>
        <p:grpSpPr>
          <a:xfrm>
            <a:off x="2895480" y="5257800"/>
            <a:ext cx="88920" cy="93600"/>
            <a:chOff x="2895480" y="5257800"/>
            <a:chExt cx="88920" cy="93600"/>
          </a:xfrm>
        </p:grpSpPr>
        <p:sp>
          <p:nvSpPr>
            <p:cNvPr id="4317" name=""/>
            <p:cNvSpPr/>
            <p:nvPr/>
          </p:nvSpPr>
          <p:spPr>
            <a:xfrm>
              <a:off x="2895480" y="5257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2895480" y="5332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2939760" y="5257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2895480" y="5257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1" name=""/>
          <p:cNvGrpSpPr/>
          <p:nvPr/>
        </p:nvGrpSpPr>
        <p:grpSpPr>
          <a:xfrm>
            <a:off x="2592000" y="5560200"/>
            <a:ext cx="95400" cy="97200"/>
            <a:chOff x="2592000" y="5560200"/>
            <a:chExt cx="95400" cy="97200"/>
          </a:xfrm>
        </p:grpSpPr>
        <p:sp>
          <p:nvSpPr>
            <p:cNvPr id="4322" name=""/>
            <p:cNvSpPr/>
            <p:nvPr/>
          </p:nvSpPr>
          <p:spPr>
            <a:xfrm rot="10800000">
              <a:off x="2592000" y="5657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rot="10800000">
              <a:off x="2592000" y="55602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 rot="10800000">
              <a:off x="2592000" y="55605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rot="10800000">
              <a:off x="2639520" y="5560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6" name=""/>
          <p:cNvGrpSpPr/>
          <p:nvPr/>
        </p:nvGrpSpPr>
        <p:grpSpPr>
          <a:xfrm>
            <a:off x="2362320" y="5562720"/>
            <a:ext cx="88920" cy="93600"/>
            <a:chOff x="2362320" y="5562720"/>
            <a:chExt cx="88920" cy="93600"/>
          </a:xfrm>
        </p:grpSpPr>
        <p:sp>
          <p:nvSpPr>
            <p:cNvPr id="4327" name=""/>
            <p:cNvSpPr/>
            <p:nvPr/>
          </p:nvSpPr>
          <p:spPr>
            <a:xfrm>
              <a:off x="2362320" y="5562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362320" y="5637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40660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36232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1" name=""/>
          <p:cNvGrpSpPr/>
          <p:nvPr/>
        </p:nvGrpSpPr>
        <p:grpSpPr>
          <a:xfrm>
            <a:off x="2590920" y="4419720"/>
            <a:ext cx="97200" cy="95040"/>
            <a:chOff x="2590920" y="4419720"/>
            <a:chExt cx="97200" cy="95040"/>
          </a:xfrm>
        </p:grpSpPr>
        <p:sp>
          <p:nvSpPr>
            <p:cNvPr id="4332" name=""/>
            <p:cNvSpPr/>
            <p:nvPr/>
          </p:nvSpPr>
          <p:spPr>
            <a:xfrm rot="16200000">
              <a:off x="254340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rot="16200000">
              <a:off x="2640240" y="446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rot="16200000">
              <a:off x="2615760" y="4395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rot="16200000">
              <a:off x="2615400" y="4442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6" name=""/>
          <p:cNvGrpSpPr/>
          <p:nvPr/>
        </p:nvGrpSpPr>
        <p:grpSpPr>
          <a:xfrm>
            <a:off x="2666880" y="4191120"/>
            <a:ext cx="97200" cy="95040"/>
            <a:chOff x="2666880" y="4191120"/>
            <a:chExt cx="97200" cy="95040"/>
          </a:xfrm>
        </p:grpSpPr>
        <p:sp>
          <p:nvSpPr>
            <p:cNvPr id="4337" name=""/>
            <p:cNvSpPr/>
            <p:nvPr/>
          </p:nvSpPr>
          <p:spPr>
            <a:xfrm rot="16200000">
              <a:off x="261936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rot="16200000">
              <a:off x="2716200" y="42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rot="16200000">
              <a:off x="2691720" y="4166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rot="16200000">
              <a:off x="2691360" y="4213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1" name=""/>
          <p:cNvGrpSpPr/>
          <p:nvPr/>
        </p:nvGrpSpPr>
        <p:grpSpPr>
          <a:xfrm>
            <a:off x="2743200" y="4648320"/>
            <a:ext cx="88920" cy="93600"/>
            <a:chOff x="2743200" y="4648320"/>
            <a:chExt cx="88920" cy="93600"/>
          </a:xfrm>
        </p:grpSpPr>
        <p:sp>
          <p:nvSpPr>
            <p:cNvPr id="4342" name=""/>
            <p:cNvSpPr/>
            <p:nvPr/>
          </p:nvSpPr>
          <p:spPr>
            <a:xfrm>
              <a:off x="274320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274320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278748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27432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6" name=""/>
          <p:cNvGrpSpPr/>
          <p:nvPr/>
        </p:nvGrpSpPr>
        <p:grpSpPr>
          <a:xfrm>
            <a:off x="2514600" y="4800600"/>
            <a:ext cx="88920" cy="93600"/>
            <a:chOff x="2514600" y="4800600"/>
            <a:chExt cx="88920" cy="93600"/>
          </a:xfrm>
        </p:grpSpPr>
        <p:sp>
          <p:nvSpPr>
            <p:cNvPr id="4347" name=""/>
            <p:cNvSpPr/>
            <p:nvPr/>
          </p:nvSpPr>
          <p:spPr>
            <a:xfrm>
              <a:off x="2514600" y="4800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2514600" y="4875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255888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251460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1" name=""/>
          <p:cNvGrpSpPr/>
          <p:nvPr/>
        </p:nvGrpSpPr>
        <p:grpSpPr>
          <a:xfrm>
            <a:off x="3581280" y="4707000"/>
            <a:ext cx="88920" cy="93600"/>
            <a:chOff x="3581280" y="4707000"/>
            <a:chExt cx="88920" cy="93600"/>
          </a:xfrm>
        </p:grpSpPr>
        <p:sp>
          <p:nvSpPr>
            <p:cNvPr id="4352" name=""/>
            <p:cNvSpPr/>
            <p:nvPr/>
          </p:nvSpPr>
          <p:spPr>
            <a:xfrm>
              <a:off x="3581280" y="4707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581280" y="4781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625560" y="4707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581280" y="4707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6" name=""/>
          <p:cNvGrpSpPr/>
          <p:nvPr/>
        </p:nvGrpSpPr>
        <p:grpSpPr>
          <a:xfrm>
            <a:off x="3731400" y="4649760"/>
            <a:ext cx="97200" cy="95400"/>
            <a:chOff x="3731400" y="4649760"/>
            <a:chExt cx="97200" cy="95400"/>
          </a:xfrm>
        </p:grpSpPr>
        <p:sp>
          <p:nvSpPr>
            <p:cNvPr id="4357" name=""/>
            <p:cNvSpPr/>
            <p:nvPr/>
          </p:nvSpPr>
          <p:spPr>
            <a:xfrm rot="5400000">
              <a:off x="3780720" y="4697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rot="5400000">
              <a:off x="3683880" y="4697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rot="5400000">
              <a:off x="3756240" y="4672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rot="5400000">
              <a:off x="3756240" y="4625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1" name=""/>
          <p:cNvGrpSpPr/>
          <p:nvPr/>
        </p:nvGrpSpPr>
        <p:grpSpPr>
          <a:xfrm>
            <a:off x="3961800" y="4648320"/>
            <a:ext cx="97200" cy="95040"/>
            <a:chOff x="3961800" y="4648320"/>
            <a:chExt cx="97200" cy="95040"/>
          </a:xfrm>
        </p:grpSpPr>
        <p:sp>
          <p:nvSpPr>
            <p:cNvPr id="4362" name=""/>
            <p:cNvSpPr/>
            <p:nvPr/>
          </p:nvSpPr>
          <p:spPr>
            <a:xfrm rot="5400000">
              <a:off x="401112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rot="5400000">
              <a:off x="391428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rot="5400000">
              <a:off x="3987000" y="46710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rot="5400000">
              <a:off x="3986640" y="46234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4237920" y="4452840"/>
            <a:ext cx="97200" cy="95400"/>
            <a:chOff x="4237920" y="4452840"/>
            <a:chExt cx="97200" cy="95400"/>
          </a:xfrm>
        </p:grpSpPr>
        <p:sp>
          <p:nvSpPr>
            <p:cNvPr id="4367" name=""/>
            <p:cNvSpPr/>
            <p:nvPr/>
          </p:nvSpPr>
          <p:spPr>
            <a:xfrm rot="5400000">
              <a:off x="4287240" y="4500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 rot="5400000">
              <a:off x="4190400" y="4500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rot="5400000">
              <a:off x="4262760" y="4475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rot="5400000">
              <a:off x="4262760" y="4428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1" name=""/>
          <p:cNvGrpSpPr/>
          <p:nvPr/>
        </p:nvGrpSpPr>
        <p:grpSpPr>
          <a:xfrm>
            <a:off x="4400640" y="4647600"/>
            <a:ext cx="95040" cy="97200"/>
            <a:chOff x="4400640" y="4647600"/>
            <a:chExt cx="95040" cy="97200"/>
          </a:xfrm>
        </p:grpSpPr>
        <p:sp>
          <p:nvSpPr>
            <p:cNvPr id="4372" name=""/>
            <p:cNvSpPr/>
            <p:nvPr/>
          </p:nvSpPr>
          <p:spPr>
            <a:xfrm rot="10800000">
              <a:off x="4400640" y="4744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rot="10800000">
              <a:off x="4400640" y="4647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rot="10800000">
              <a:off x="4401000" y="46479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rot="10800000">
              <a:off x="4448160" y="46479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6" name=""/>
          <p:cNvGrpSpPr/>
          <p:nvPr/>
        </p:nvGrpSpPr>
        <p:grpSpPr>
          <a:xfrm>
            <a:off x="4799880" y="4876920"/>
            <a:ext cx="97200" cy="95040"/>
            <a:chOff x="4799880" y="4876920"/>
            <a:chExt cx="97200" cy="95040"/>
          </a:xfrm>
        </p:grpSpPr>
        <p:sp>
          <p:nvSpPr>
            <p:cNvPr id="4377" name=""/>
            <p:cNvSpPr/>
            <p:nvPr/>
          </p:nvSpPr>
          <p:spPr>
            <a:xfrm rot="5400000">
              <a:off x="484920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rot="5400000">
              <a:off x="4752360" y="4924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rot="5400000">
              <a:off x="4825080" y="4899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rot="5400000">
              <a:off x="4824720" y="48520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1" name=""/>
          <p:cNvGrpSpPr/>
          <p:nvPr/>
        </p:nvGrpSpPr>
        <p:grpSpPr>
          <a:xfrm>
            <a:off x="4572000" y="5105520"/>
            <a:ext cx="97200" cy="95040"/>
            <a:chOff x="4572000" y="5105520"/>
            <a:chExt cx="97200" cy="95040"/>
          </a:xfrm>
        </p:grpSpPr>
        <p:sp>
          <p:nvSpPr>
            <p:cNvPr id="4382" name=""/>
            <p:cNvSpPr/>
            <p:nvPr/>
          </p:nvSpPr>
          <p:spPr>
            <a:xfrm rot="16200000">
              <a:off x="452448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rot="16200000">
              <a:off x="462132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rot="16200000">
              <a:off x="4596840" y="5081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 rot="16200000">
              <a:off x="4596480" y="5128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6" name=""/>
          <p:cNvGrpSpPr/>
          <p:nvPr/>
        </p:nvGrpSpPr>
        <p:grpSpPr>
          <a:xfrm>
            <a:off x="3733920" y="5028840"/>
            <a:ext cx="152640" cy="149400"/>
            <a:chOff x="3733920" y="5028840"/>
            <a:chExt cx="152640" cy="149400"/>
          </a:xfrm>
        </p:grpSpPr>
        <p:sp>
          <p:nvSpPr>
            <p:cNvPr id="4387" name=""/>
            <p:cNvSpPr/>
            <p:nvPr/>
          </p:nvSpPr>
          <p:spPr>
            <a:xfrm rot="16200000">
              <a:off x="3659400" y="5103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rot="16200000">
              <a:off x="3811680" y="5103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rot="16200000">
              <a:off x="3772800" y="49899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rot="16200000">
              <a:off x="3772440" y="50644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1" name=""/>
          <p:cNvGrpSpPr/>
          <p:nvPr/>
        </p:nvGrpSpPr>
        <p:grpSpPr>
          <a:xfrm>
            <a:off x="3467160" y="4829040"/>
            <a:ext cx="152280" cy="152640"/>
            <a:chOff x="3467160" y="4829040"/>
            <a:chExt cx="152280" cy="152640"/>
          </a:xfrm>
        </p:grpSpPr>
        <p:sp>
          <p:nvSpPr>
            <p:cNvPr id="4392" name=""/>
            <p:cNvSpPr/>
            <p:nvPr/>
          </p:nvSpPr>
          <p:spPr>
            <a:xfrm>
              <a:off x="3467160" y="48290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467160" y="4951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543120" y="482904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467160" y="482904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6" name=""/>
          <p:cNvGrpSpPr/>
          <p:nvPr/>
        </p:nvGrpSpPr>
        <p:grpSpPr>
          <a:xfrm>
            <a:off x="5487480" y="6019920"/>
            <a:ext cx="150840" cy="152280"/>
            <a:chOff x="5487480" y="6019920"/>
            <a:chExt cx="150840" cy="152280"/>
          </a:xfrm>
        </p:grpSpPr>
        <p:sp>
          <p:nvSpPr>
            <p:cNvPr id="4397" name=""/>
            <p:cNvSpPr/>
            <p:nvPr/>
          </p:nvSpPr>
          <p:spPr>
            <a:xfrm rot="5400000">
              <a:off x="5583960" y="60526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rot="5400000">
              <a:off x="5562720" y="60314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rot="5400000">
              <a:off x="5541120" y="59662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rot="5400000">
              <a:off x="5519880" y="61182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rot="5400000">
              <a:off x="5497920" y="60962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rot="5400000">
              <a:off x="5432760" y="60742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3" name=""/>
          <p:cNvGrpSpPr/>
          <p:nvPr/>
        </p:nvGrpSpPr>
        <p:grpSpPr>
          <a:xfrm>
            <a:off x="6629040" y="5257440"/>
            <a:ext cx="152280" cy="150840"/>
            <a:chOff x="6629040" y="5257440"/>
            <a:chExt cx="152280" cy="150840"/>
          </a:xfrm>
        </p:grpSpPr>
        <p:sp>
          <p:nvSpPr>
            <p:cNvPr id="4404" name=""/>
            <p:cNvSpPr/>
            <p:nvPr/>
          </p:nvSpPr>
          <p:spPr>
            <a:xfrm rot="10800000">
              <a:off x="6694200" y="53870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rot="10800000">
              <a:off x="6694200" y="53006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 rot="10800000">
              <a:off x="6737760" y="52574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rot="10800000">
              <a:off x="6629040" y="52574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 rot="10800000">
              <a:off x="6629040" y="53010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 rot="10800000">
              <a:off x="6629040" y="52574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0" name=""/>
          <p:cNvGrpSpPr/>
          <p:nvPr/>
        </p:nvGrpSpPr>
        <p:grpSpPr>
          <a:xfrm>
            <a:off x="5790960" y="5257440"/>
            <a:ext cx="152280" cy="150840"/>
            <a:chOff x="5790960" y="5257440"/>
            <a:chExt cx="152280" cy="150840"/>
          </a:xfrm>
        </p:grpSpPr>
        <p:sp>
          <p:nvSpPr>
            <p:cNvPr id="4411" name=""/>
            <p:cNvSpPr/>
            <p:nvPr/>
          </p:nvSpPr>
          <p:spPr>
            <a:xfrm rot="10800000">
              <a:off x="5856120" y="53870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rot="10800000">
              <a:off x="5856120" y="53006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rot="10800000">
              <a:off x="5899680" y="52574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rot="10800000">
              <a:off x="5790960" y="52574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 rot="10800000">
              <a:off x="5790960" y="53010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rot="10800000">
              <a:off x="5790960" y="52574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7" name=""/>
          <p:cNvGrpSpPr/>
          <p:nvPr/>
        </p:nvGrpSpPr>
        <p:grpSpPr>
          <a:xfrm>
            <a:off x="5943240" y="4343400"/>
            <a:ext cx="150840" cy="152280"/>
            <a:chOff x="5943240" y="4343400"/>
            <a:chExt cx="150840" cy="152280"/>
          </a:xfrm>
        </p:grpSpPr>
        <p:sp>
          <p:nvSpPr>
            <p:cNvPr id="4418" name=""/>
            <p:cNvSpPr/>
            <p:nvPr/>
          </p:nvSpPr>
          <p:spPr>
            <a:xfrm rot="5400000">
              <a:off x="6039720" y="43761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rot="5400000">
              <a:off x="6018480" y="43549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rot="5400000">
              <a:off x="5996880" y="42897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rot="5400000">
              <a:off x="5975640" y="44416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rot="5400000">
              <a:off x="5953680" y="44197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rot="5400000">
              <a:off x="5888520" y="43977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4" name=""/>
          <p:cNvGrpSpPr/>
          <p:nvPr/>
        </p:nvGrpSpPr>
        <p:grpSpPr>
          <a:xfrm>
            <a:off x="5105520" y="4421160"/>
            <a:ext cx="152280" cy="150840"/>
            <a:chOff x="5105520" y="4421160"/>
            <a:chExt cx="152280" cy="150840"/>
          </a:xfrm>
        </p:grpSpPr>
        <p:sp>
          <p:nvSpPr>
            <p:cNvPr id="4425" name=""/>
            <p:cNvSpPr/>
            <p:nvPr/>
          </p:nvSpPr>
          <p:spPr>
            <a:xfrm>
              <a:off x="5105520" y="44211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149080" y="44211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105520" y="44211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5236200" y="44856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5149080" y="44856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5105520" y="45288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1" name=""/>
          <p:cNvGrpSpPr/>
          <p:nvPr/>
        </p:nvGrpSpPr>
        <p:grpSpPr>
          <a:xfrm>
            <a:off x="6248160" y="4343040"/>
            <a:ext cx="152280" cy="150840"/>
            <a:chOff x="6248160" y="4343040"/>
            <a:chExt cx="152280" cy="150840"/>
          </a:xfrm>
        </p:grpSpPr>
        <p:sp>
          <p:nvSpPr>
            <p:cNvPr id="4432" name=""/>
            <p:cNvSpPr/>
            <p:nvPr/>
          </p:nvSpPr>
          <p:spPr>
            <a:xfrm rot="10800000">
              <a:off x="6313320" y="44726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rot="10800000">
              <a:off x="6313320" y="43862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rot="10800000">
              <a:off x="6356880" y="43430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rot="10800000">
              <a:off x="6248160" y="43430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rot="10800000">
              <a:off x="6248160" y="43866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rot="10800000">
              <a:off x="6248160" y="43430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7543800" y="4878000"/>
            <a:ext cx="150840" cy="152280"/>
            <a:chOff x="7543800" y="4878000"/>
            <a:chExt cx="150840" cy="152280"/>
          </a:xfrm>
        </p:grpSpPr>
        <p:sp>
          <p:nvSpPr>
            <p:cNvPr id="4439" name=""/>
            <p:cNvSpPr/>
            <p:nvPr/>
          </p:nvSpPr>
          <p:spPr>
            <a:xfrm rot="16200000">
              <a:off x="7510680" y="497592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 rot="16200000">
              <a:off x="7575840" y="49111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 rot="16200000">
              <a:off x="7597440" y="49330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rot="16200000">
              <a:off x="7640640" y="48456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 rot="16200000">
              <a:off x="7575120" y="491076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rot="16200000">
              <a:off x="7596720" y="49323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5" name=""/>
          <p:cNvGrpSpPr/>
          <p:nvPr/>
        </p:nvGrpSpPr>
        <p:grpSpPr>
          <a:xfrm>
            <a:off x="7162560" y="5105520"/>
            <a:ext cx="150840" cy="152280"/>
            <a:chOff x="7162560" y="5105520"/>
            <a:chExt cx="150840" cy="152280"/>
          </a:xfrm>
        </p:grpSpPr>
        <p:sp>
          <p:nvSpPr>
            <p:cNvPr id="4446" name=""/>
            <p:cNvSpPr/>
            <p:nvPr/>
          </p:nvSpPr>
          <p:spPr>
            <a:xfrm rot="5400000">
              <a:off x="7259040" y="51382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rot="5400000">
              <a:off x="7237800" y="51170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rot="5400000">
              <a:off x="7216200" y="50518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rot="5400000">
              <a:off x="7194960" y="52038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 rot="5400000">
              <a:off x="7173000" y="51818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 rot="5400000">
              <a:off x="7107840" y="51598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2" name=""/>
          <p:cNvGrpSpPr/>
          <p:nvPr/>
        </p:nvGrpSpPr>
        <p:grpSpPr>
          <a:xfrm>
            <a:off x="6400800" y="5029200"/>
            <a:ext cx="206280" cy="193680"/>
            <a:chOff x="6400800" y="5029200"/>
            <a:chExt cx="206280" cy="193680"/>
          </a:xfrm>
        </p:grpSpPr>
        <p:sp>
          <p:nvSpPr>
            <p:cNvPr id="4453" name=""/>
            <p:cNvSpPr/>
            <p:nvPr/>
          </p:nvSpPr>
          <p:spPr>
            <a:xfrm rot="16200000">
              <a:off x="6436440" y="516744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rot="16200000">
              <a:off x="6436800" y="499320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 rot="16200000">
              <a:off x="6326640" y="51030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 rot="16200000">
              <a:off x="6372000" y="510336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rot="16200000">
              <a:off x="6554520" y="511200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rot="16200000">
              <a:off x="6419880" y="511488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rot="16200000">
              <a:off x="6508080" y="506556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rot="16200000">
              <a:off x="6507720" y="50270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1" name=""/>
          <p:cNvGrpSpPr/>
          <p:nvPr/>
        </p:nvGrpSpPr>
        <p:grpSpPr>
          <a:xfrm>
            <a:off x="7321680" y="6171840"/>
            <a:ext cx="193680" cy="206280"/>
            <a:chOff x="7321680" y="6171840"/>
            <a:chExt cx="193680" cy="206280"/>
          </a:xfrm>
        </p:grpSpPr>
        <p:sp>
          <p:nvSpPr>
            <p:cNvPr id="4462" name=""/>
            <p:cNvSpPr/>
            <p:nvPr/>
          </p:nvSpPr>
          <p:spPr>
            <a:xfrm rot="10800000">
              <a:off x="7495920" y="628704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rot="10800000">
              <a:off x="7321680" y="628704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 rot="10800000">
              <a:off x="7321680" y="63324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rot="10800000">
              <a:off x="7321680" y="628740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 rot="10800000">
              <a:off x="7380000" y="617184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 rot="10800000">
              <a:off x="7380000" y="630936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 rot="10800000">
              <a:off x="7418880" y="617184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 rot="10800000">
              <a:off x="7380360" y="61718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0" name=""/>
          <p:cNvGrpSpPr/>
          <p:nvPr/>
        </p:nvGrpSpPr>
        <p:grpSpPr>
          <a:xfrm>
            <a:off x="7765920" y="5035680"/>
            <a:ext cx="206640" cy="193680"/>
            <a:chOff x="7765920" y="5035680"/>
            <a:chExt cx="206640" cy="193680"/>
          </a:xfrm>
        </p:grpSpPr>
        <p:sp>
          <p:nvSpPr>
            <p:cNvPr id="4471" name=""/>
            <p:cNvSpPr/>
            <p:nvPr/>
          </p:nvSpPr>
          <p:spPr>
            <a:xfrm rot="16200000">
              <a:off x="7801560" y="517392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rot="16200000">
              <a:off x="7801920" y="499968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rot="16200000">
              <a:off x="7691760" y="510948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 rot="16200000">
              <a:off x="7737480" y="5109840"/>
              <a:ext cx="193680" cy="4536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 rot="16200000">
              <a:off x="7920000" y="511848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rot="16200000">
              <a:off x="7785000" y="512136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rot="16200000">
              <a:off x="7873200" y="5071680"/>
              <a:ext cx="38160" cy="16020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rot="16200000">
              <a:off x="7873200" y="5033520"/>
              <a:ext cx="38520" cy="16020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9" name=""/>
          <p:cNvGrpSpPr/>
          <p:nvPr/>
        </p:nvGrpSpPr>
        <p:grpSpPr>
          <a:xfrm>
            <a:off x="7848360" y="5944680"/>
            <a:ext cx="152280" cy="150840"/>
            <a:chOff x="7848360" y="5944680"/>
            <a:chExt cx="152280" cy="150840"/>
          </a:xfrm>
        </p:grpSpPr>
        <p:sp>
          <p:nvSpPr>
            <p:cNvPr id="4480" name=""/>
            <p:cNvSpPr/>
            <p:nvPr/>
          </p:nvSpPr>
          <p:spPr>
            <a:xfrm rot="10800000">
              <a:off x="7913520" y="60742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 rot="10800000">
              <a:off x="7913520" y="598788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 rot="10800000">
              <a:off x="7957080" y="59446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rot="10800000">
              <a:off x="7848360" y="59446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 rot="10800000">
              <a:off x="7848360" y="59882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 rot="10800000">
              <a:off x="7848360" y="59446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6" name=""/>
          <p:cNvGrpSpPr/>
          <p:nvPr/>
        </p:nvGrpSpPr>
        <p:grpSpPr>
          <a:xfrm>
            <a:off x="8915040" y="5257800"/>
            <a:ext cx="150840" cy="152280"/>
            <a:chOff x="8915040" y="5257800"/>
            <a:chExt cx="150840" cy="152280"/>
          </a:xfrm>
        </p:grpSpPr>
        <p:sp>
          <p:nvSpPr>
            <p:cNvPr id="4487" name=""/>
            <p:cNvSpPr/>
            <p:nvPr/>
          </p:nvSpPr>
          <p:spPr>
            <a:xfrm rot="5400000">
              <a:off x="9011520" y="52905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rot="5400000">
              <a:off x="8990280" y="52693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rot="5400000">
              <a:off x="8968680" y="52041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rot="5400000">
              <a:off x="8947440" y="53560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rot="5400000">
              <a:off x="8925480" y="53341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rot="5400000">
              <a:off x="8860320" y="53121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3" name=""/>
          <p:cNvGrpSpPr/>
          <p:nvPr/>
        </p:nvGrpSpPr>
        <p:grpSpPr>
          <a:xfrm>
            <a:off x="8991360" y="4343040"/>
            <a:ext cx="152280" cy="150840"/>
            <a:chOff x="8991360" y="4343040"/>
            <a:chExt cx="152280" cy="150840"/>
          </a:xfrm>
        </p:grpSpPr>
        <p:sp>
          <p:nvSpPr>
            <p:cNvPr id="4494" name=""/>
            <p:cNvSpPr/>
            <p:nvPr/>
          </p:nvSpPr>
          <p:spPr>
            <a:xfrm rot="10800000">
              <a:off x="9056520" y="44726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 rot="10800000">
              <a:off x="9056520" y="43862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rot="10800000">
              <a:off x="9100080" y="43430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rot="10800000">
              <a:off x="8991360" y="43430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rot="10800000">
              <a:off x="8991360" y="43866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 rot="10800000">
              <a:off x="8991360" y="43430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0" name=""/>
          <p:cNvGrpSpPr/>
          <p:nvPr/>
        </p:nvGrpSpPr>
        <p:grpSpPr>
          <a:xfrm>
            <a:off x="8229240" y="4114800"/>
            <a:ext cx="150840" cy="152280"/>
            <a:chOff x="8229240" y="4114800"/>
            <a:chExt cx="150840" cy="152280"/>
          </a:xfrm>
        </p:grpSpPr>
        <p:sp>
          <p:nvSpPr>
            <p:cNvPr id="4501" name=""/>
            <p:cNvSpPr/>
            <p:nvPr/>
          </p:nvSpPr>
          <p:spPr>
            <a:xfrm rot="5400000">
              <a:off x="8325720" y="41475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rot="5400000">
              <a:off x="8304480" y="41263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 rot="5400000">
              <a:off x="8282880" y="40611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 rot="5400000">
              <a:off x="8261640" y="42130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 rot="5400000">
              <a:off x="8239680" y="41911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 rot="5400000">
              <a:off x="8174520" y="41691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7" name=""/>
          <p:cNvGrpSpPr/>
          <p:nvPr/>
        </p:nvGrpSpPr>
        <p:grpSpPr>
          <a:xfrm>
            <a:off x="5791320" y="4800240"/>
            <a:ext cx="152640" cy="149400"/>
            <a:chOff x="5791320" y="4800240"/>
            <a:chExt cx="152640" cy="149400"/>
          </a:xfrm>
        </p:grpSpPr>
        <p:sp>
          <p:nvSpPr>
            <p:cNvPr id="4508" name=""/>
            <p:cNvSpPr/>
            <p:nvPr/>
          </p:nvSpPr>
          <p:spPr>
            <a:xfrm rot="16200000">
              <a:off x="571680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 rot="16200000">
              <a:off x="586908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rot="16200000">
              <a:off x="5830200" y="47613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rot="16200000">
              <a:off x="5829840" y="4835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2" name=""/>
          <p:cNvGrpSpPr/>
          <p:nvPr/>
        </p:nvGrpSpPr>
        <p:grpSpPr>
          <a:xfrm>
            <a:off x="5790600" y="4648320"/>
            <a:ext cx="97200" cy="95040"/>
            <a:chOff x="5790600" y="4648320"/>
            <a:chExt cx="97200" cy="95040"/>
          </a:xfrm>
        </p:grpSpPr>
        <p:sp>
          <p:nvSpPr>
            <p:cNvPr id="4513" name=""/>
            <p:cNvSpPr/>
            <p:nvPr/>
          </p:nvSpPr>
          <p:spPr>
            <a:xfrm rot="5400000">
              <a:off x="583992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rot="5400000">
              <a:off x="5743080" y="4695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rot="5400000">
              <a:off x="5815800" y="46710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rot="5400000">
              <a:off x="5815440" y="46234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7" name=""/>
          <p:cNvGrpSpPr/>
          <p:nvPr/>
        </p:nvGrpSpPr>
        <p:grpSpPr>
          <a:xfrm>
            <a:off x="6248520" y="5790960"/>
            <a:ext cx="152280" cy="74520"/>
            <a:chOff x="6248520" y="5790960"/>
            <a:chExt cx="152280" cy="74520"/>
          </a:xfrm>
        </p:grpSpPr>
        <p:sp>
          <p:nvSpPr>
            <p:cNvPr id="4518" name=""/>
            <p:cNvSpPr/>
            <p:nvPr/>
          </p:nvSpPr>
          <p:spPr>
            <a:xfrm rot="16200000">
              <a:off x="6226200" y="58129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rot="16200000">
              <a:off x="6348240" y="5812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rot="16200000">
              <a:off x="6306120" y="5733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rot="16200000">
              <a:off x="6306120" y="5770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2" name=""/>
          <p:cNvGrpSpPr/>
          <p:nvPr/>
        </p:nvGrpSpPr>
        <p:grpSpPr>
          <a:xfrm>
            <a:off x="6019920" y="4575240"/>
            <a:ext cx="74520" cy="149400"/>
            <a:chOff x="6019920" y="4575240"/>
            <a:chExt cx="74520" cy="149400"/>
          </a:xfrm>
        </p:grpSpPr>
        <p:sp>
          <p:nvSpPr>
            <p:cNvPr id="4523" name=""/>
            <p:cNvSpPr/>
            <p:nvPr/>
          </p:nvSpPr>
          <p:spPr>
            <a:xfrm>
              <a:off x="6019920" y="4575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6019920" y="47242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6057000" y="45752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6019920" y="45752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5118120" y="5978160"/>
            <a:ext cx="152280" cy="152280"/>
            <a:chOff x="5118120" y="5978160"/>
            <a:chExt cx="152280" cy="152280"/>
          </a:xfrm>
        </p:grpSpPr>
        <p:sp>
          <p:nvSpPr>
            <p:cNvPr id="4528" name=""/>
            <p:cNvSpPr/>
            <p:nvPr/>
          </p:nvSpPr>
          <p:spPr>
            <a:xfrm rot="16200000">
              <a:off x="5056920" y="60390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rot="16200000">
              <a:off x="5178960" y="60390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rot="16200000">
              <a:off x="5156280" y="59403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16200000">
              <a:off x="5156280" y="60163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2" name=""/>
          <p:cNvGrpSpPr/>
          <p:nvPr/>
        </p:nvGrpSpPr>
        <p:grpSpPr>
          <a:xfrm>
            <a:off x="5181480" y="4876920"/>
            <a:ext cx="88920" cy="93600"/>
            <a:chOff x="5181480" y="4876920"/>
            <a:chExt cx="88920" cy="93600"/>
          </a:xfrm>
        </p:grpSpPr>
        <p:sp>
          <p:nvSpPr>
            <p:cNvPr id="4533" name=""/>
            <p:cNvSpPr/>
            <p:nvPr/>
          </p:nvSpPr>
          <p:spPr>
            <a:xfrm>
              <a:off x="5181480" y="4876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5181480" y="4951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522576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518148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7" name=""/>
          <p:cNvGrpSpPr/>
          <p:nvPr/>
        </p:nvGrpSpPr>
        <p:grpSpPr>
          <a:xfrm>
            <a:off x="4876920" y="4419720"/>
            <a:ext cx="88920" cy="93600"/>
            <a:chOff x="4876920" y="4419720"/>
            <a:chExt cx="88920" cy="93600"/>
          </a:xfrm>
        </p:grpSpPr>
        <p:sp>
          <p:nvSpPr>
            <p:cNvPr id="4538" name=""/>
            <p:cNvSpPr/>
            <p:nvPr/>
          </p:nvSpPr>
          <p:spPr>
            <a:xfrm>
              <a:off x="4876920" y="4419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876920" y="4494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4921200" y="4419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4876920" y="4419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2" name=""/>
          <p:cNvGrpSpPr/>
          <p:nvPr/>
        </p:nvGrpSpPr>
        <p:grpSpPr>
          <a:xfrm>
            <a:off x="5334120" y="4419720"/>
            <a:ext cx="88920" cy="93600"/>
            <a:chOff x="5334120" y="4419720"/>
            <a:chExt cx="88920" cy="93600"/>
          </a:xfrm>
        </p:grpSpPr>
        <p:sp>
          <p:nvSpPr>
            <p:cNvPr id="4543" name=""/>
            <p:cNvSpPr/>
            <p:nvPr/>
          </p:nvSpPr>
          <p:spPr>
            <a:xfrm>
              <a:off x="5334120" y="4419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5334120" y="4494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5378400" y="4419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5334120" y="4419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7" name=""/>
          <p:cNvGrpSpPr/>
          <p:nvPr/>
        </p:nvGrpSpPr>
        <p:grpSpPr>
          <a:xfrm>
            <a:off x="5711760" y="4498560"/>
            <a:ext cx="93600" cy="88920"/>
            <a:chOff x="5711760" y="4498560"/>
            <a:chExt cx="93600" cy="88920"/>
          </a:xfrm>
        </p:grpSpPr>
        <p:sp>
          <p:nvSpPr>
            <p:cNvPr id="4548" name=""/>
            <p:cNvSpPr/>
            <p:nvPr/>
          </p:nvSpPr>
          <p:spPr>
            <a:xfrm rot="16200000">
              <a:off x="5676480" y="4533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 rot="16200000">
              <a:off x="5751360" y="4533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rot="16200000">
              <a:off x="5736240" y="4474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rot="16200000">
              <a:off x="5736240" y="4518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2" name=""/>
          <p:cNvGrpSpPr/>
          <p:nvPr/>
        </p:nvGrpSpPr>
        <p:grpSpPr>
          <a:xfrm>
            <a:off x="5334120" y="4648320"/>
            <a:ext cx="88920" cy="93600"/>
            <a:chOff x="5334120" y="4648320"/>
            <a:chExt cx="88920" cy="93600"/>
          </a:xfrm>
        </p:grpSpPr>
        <p:sp>
          <p:nvSpPr>
            <p:cNvPr id="4553" name=""/>
            <p:cNvSpPr/>
            <p:nvPr/>
          </p:nvSpPr>
          <p:spPr>
            <a:xfrm>
              <a:off x="533412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533412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53784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533412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7" name=""/>
          <p:cNvGrpSpPr/>
          <p:nvPr/>
        </p:nvGrpSpPr>
        <p:grpSpPr>
          <a:xfrm>
            <a:off x="5559480" y="4650840"/>
            <a:ext cx="93600" cy="88920"/>
            <a:chOff x="5559480" y="4650840"/>
            <a:chExt cx="93600" cy="88920"/>
          </a:xfrm>
        </p:grpSpPr>
        <p:sp>
          <p:nvSpPr>
            <p:cNvPr id="4558" name=""/>
            <p:cNvSpPr/>
            <p:nvPr/>
          </p:nvSpPr>
          <p:spPr>
            <a:xfrm rot="16200000">
              <a:off x="5524200" y="4686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rot="16200000">
              <a:off x="5599080" y="46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 rot="16200000">
              <a:off x="5583960" y="462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rot="16200000">
              <a:off x="5583960" y="467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2" name=""/>
          <p:cNvGrpSpPr/>
          <p:nvPr/>
        </p:nvGrpSpPr>
        <p:grpSpPr>
          <a:xfrm>
            <a:off x="5162400" y="5715000"/>
            <a:ext cx="88920" cy="93600"/>
            <a:chOff x="5162400" y="5715000"/>
            <a:chExt cx="88920" cy="93600"/>
          </a:xfrm>
        </p:grpSpPr>
        <p:sp>
          <p:nvSpPr>
            <p:cNvPr id="4563" name=""/>
            <p:cNvSpPr/>
            <p:nvPr/>
          </p:nvSpPr>
          <p:spPr>
            <a:xfrm>
              <a:off x="5162400" y="571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5162400" y="578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520668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16240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7" name=""/>
          <p:cNvGrpSpPr/>
          <p:nvPr/>
        </p:nvGrpSpPr>
        <p:grpSpPr>
          <a:xfrm>
            <a:off x="5334120" y="5791320"/>
            <a:ext cx="88920" cy="93600"/>
            <a:chOff x="5334120" y="5791320"/>
            <a:chExt cx="88920" cy="93600"/>
          </a:xfrm>
        </p:grpSpPr>
        <p:sp>
          <p:nvSpPr>
            <p:cNvPr id="4568" name=""/>
            <p:cNvSpPr/>
            <p:nvPr/>
          </p:nvSpPr>
          <p:spPr>
            <a:xfrm>
              <a:off x="5334120" y="5791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5334120" y="5866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537840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533412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2" name=""/>
          <p:cNvGrpSpPr/>
          <p:nvPr/>
        </p:nvGrpSpPr>
        <p:grpSpPr>
          <a:xfrm>
            <a:off x="6858000" y="6019920"/>
            <a:ext cx="88920" cy="93600"/>
            <a:chOff x="6858000" y="6019920"/>
            <a:chExt cx="88920" cy="93600"/>
          </a:xfrm>
        </p:grpSpPr>
        <p:sp>
          <p:nvSpPr>
            <p:cNvPr id="4573" name=""/>
            <p:cNvSpPr/>
            <p:nvPr/>
          </p:nvSpPr>
          <p:spPr>
            <a:xfrm>
              <a:off x="685800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685800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90228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685800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7" name=""/>
          <p:cNvGrpSpPr/>
          <p:nvPr/>
        </p:nvGrpSpPr>
        <p:grpSpPr>
          <a:xfrm>
            <a:off x="5715000" y="5638680"/>
            <a:ext cx="88920" cy="93960"/>
            <a:chOff x="5715000" y="5638680"/>
            <a:chExt cx="88920" cy="93960"/>
          </a:xfrm>
        </p:grpSpPr>
        <p:sp>
          <p:nvSpPr>
            <p:cNvPr id="4578" name=""/>
            <p:cNvSpPr/>
            <p:nvPr/>
          </p:nvSpPr>
          <p:spPr>
            <a:xfrm>
              <a:off x="5715000" y="5638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5715000" y="5713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5759280" y="5638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5715000" y="5638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2" name=""/>
          <p:cNvGrpSpPr/>
          <p:nvPr/>
        </p:nvGrpSpPr>
        <p:grpSpPr>
          <a:xfrm>
            <a:off x="7162920" y="5562720"/>
            <a:ext cx="88920" cy="93600"/>
            <a:chOff x="7162920" y="5562720"/>
            <a:chExt cx="88920" cy="93600"/>
          </a:xfrm>
        </p:grpSpPr>
        <p:sp>
          <p:nvSpPr>
            <p:cNvPr id="4583" name=""/>
            <p:cNvSpPr/>
            <p:nvPr/>
          </p:nvSpPr>
          <p:spPr>
            <a:xfrm>
              <a:off x="7162920" y="5562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7162920" y="5637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720720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716292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7" name=""/>
          <p:cNvGrpSpPr/>
          <p:nvPr/>
        </p:nvGrpSpPr>
        <p:grpSpPr>
          <a:xfrm>
            <a:off x="6705720" y="5486400"/>
            <a:ext cx="88920" cy="93600"/>
            <a:chOff x="6705720" y="5486400"/>
            <a:chExt cx="88920" cy="93600"/>
          </a:xfrm>
        </p:grpSpPr>
        <p:sp>
          <p:nvSpPr>
            <p:cNvPr id="4588" name=""/>
            <p:cNvSpPr/>
            <p:nvPr/>
          </p:nvSpPr>
          <p:spPr>
            <a:xfrm>
              <a:off x="6705720" y="5486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6705720" y="556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675000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670572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6473880" y="4803480"/>
            <a:ext cx="93600" cy="88920"/>
            <a:chOff x="6473880" y="4803480"/>
            <a:chExt cx="93600" cy="88920"/>
          </a:xfrm>
        </p:grpSpPr>
        <p:sp>
          <p:nvSpPr>
            <p:cNvPr id="4593" name=""/>
            <p:cNvSpPr/>
            <p:nvPr/>
          </p:nvSpPr>
          <p:spPr>
            <a:xfrm rot="16200000">
              <a:off x="6438600" y="4838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rot="16200000">
              <a:off x="6513480" y="4838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 rot="16200000">
              <a:off x="6498360" y="477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rot="16200000">
              <a:off x="6498360" y="4823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7" name=""/>
          <p:cNvGrpSpPr/>
          <p:nvPr/>
        </p:nvGrpSpPr>
        <p:grpSpPr>
          <a:xfrm>
            <a:off x="6019920" y="4191120"/>
            <a:ext cx="88920" cy="93600"/>
            <a:chOff x="6019920" y="4191120"/>
            <a:chExt cx="88920" cy="93600"/>
          </a:xfrm>
        </p:grpSpPr>
        <p:sp>
          <p:nvSpPr>
            <p:cNvPr id="4598" name=""/>
            <p:cNvSpPr/>
            <p:nvPr/>
          </p:nvSpPr>
          <p:spPr>
            <a:xfrm>
              <a:off x="6019920" y="4191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6019920" y="4266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606420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6019920" y="4191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2" name=""/>
          <p:cNvGrpSpPr/>
          <p:nvPr/>
        </p:nvGrpSpPr>
        <p:grpSpPr>
          <a:xfrm>
            <a:off x="6248520" y="5105520"/>
            <a:ext cx="88920" cy="93600"/>
            <a:chOff x="6248520" y="5105520"/>
            <a:chExt cx="88920" cy="93600"/>
          </a:xfrm>
        </p:grpSpPr>
        <p:sp>
          <p:nvSpPr>
            <p:cNvPr id="4603" name=""/>
            <p:cNvSpPr/>
            <p:nvPr/>
          </p:nvSpPr>
          <p:spPr>
            <a:xfrm>
              <a:off x="6248520" y="5105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6248520" y="5180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629280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624852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7" name=""/>
          <p:cNvGrpSpPr/>
          <p:nvPr/>
        </p:nvGrpSpPr>
        <p:grpSpPr>
          <a:xfrm>
            <a:off x="6473880" y="5336640"/>
            <a:ext cx="93600" cy="88920"/>
            <a:chOff x="6473880" y="5336640"/>
            <a:chExt cx="93600" cy="88920"/>
          </a:xfrm>
        </p:grpSpPr>
        <p:sp>
          <p:nvSpPr>
            <p:cNvPr id="4608" name=""/>
            <p:cNvSpPr/>
            <p:nvPr/>
          </p:nvSpPr>
          <p:spPr>
            <a:xfrm rot="16200000">
              <a:off x="6438600" y="5371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 rot="16200000">
              <a:off x="6513480" y="537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 rot="16200000">
              <a:off x="6498360" y="5312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 rot="16200000">
              <a:off x="6498360" y="5356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2" name=""/>
          <p:cNvGrpSpPr/>
          <p:nvPr/>
        </p:nvGrpSpPr>
        <p:grpSpPr>
          <a:xfrm>
            <a:off x="6477120" y="5791320"/>
            <a:ext cx="88920" cy="93600"/>
            <a:chOff x="6477120" y="5791320"/>
            <a:chExt cx="88920" cy="93600"/>
          </a:xfrm>
        </p:grpSpPr>
        <p:sp>
          <p:nvSpPr>
            <p:cNvPr id="4613" name=""/>
            <p:cNvSpPr/>
            <p:nvPr/>
          </p:nvSpPr>
          <p:spPr>
            <a:xfrm>
              <a:off x="6477120" y="5791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6477120" y="5866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652140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647712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7" name=""/>
          <p:cNvGrpSpPr/>
          <p:nvPr/>
        </p:nvGrpSpPr>
        <p:grpSpPr>
          <a:xfrm>
            <a:off x="6400800" y="6172200"/>
            <a:ext cx="88920" cy="93600"/>
            <a:chOff x="6400800" y="6172200"/>
            <a:chExt cx="88920" cy="93600"/>
          </a:xfrm>
        </p:grpSpPr>
        <p:sp>
          <p:nvSpPr>
            <p:cNvPr id="4618" name=""/>
            <p:cNvSpPr/>
            <p:nvPr/>
          </p:nvSpPr>
          <p:spPr>
            <a:xfrm>
              <a:off x="6400800" y="6172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6400800" y="624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44508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40080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2" name=""/>
          <p:cNvGrpSpPr/>
          <p:nvPr/>
        </p:nvGrpSpPr>
        <p:grpSpPr>
          <a:xfrm>
            <a:off x="6019920" y="5791320"/>
            <a:ext cx="88920" cy="93600"/>
            <a:chOff x="6019920" y="5791320"/>
            <a:chExt cx="88920" cy="93600"/>
          </a:xfrm>
        </p:grpSpPr>
        <p:sp>
          <p:nvSpPr>
            <p:cNvPr id="4623" name=""/>
            <p:cNvSpPr/>
            <p:nvPr/>
          </p:nvSpPr>
          <p:spPr>
            <a:xfrm>
              <a:off x="6019920" y="5791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6019920" y="5866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606420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6019920" y="5791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7" name=""/>
          <p:cNvGrpSpPr/>
          <p:nvPr/>
        </p:nvGrpSpPr>
        <p:grpSpPr>
          <a:xfrm>
            <a:off x="6019920" y="5105520"/>
            <a:ext cx="88920" cy="93600"/>
            <a:chOff x="6019920" y="5105520"/>
            <a:chExt cx="88920" cy="93600"/>
          </a:xfrm>
        </p:grpSpPr>
        <p:sp>
          <p:nvSpPr>
            <p:cNvPr id="4628" name=""/>
            <p:cNvSpPr/>
            <p:nvPr/>
          </p:nvSpPr>
          <p:spPr>
            <a:xfrm>
              <a:off x="6019920" y="5105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6019920" y="5180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606420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601992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2" name=""/>
          <p:cNvGrpSpPr/>
          <p:nvPr/>
        </p:nvGrpSpPr>
        <p:grpSpPr>
          <a:xfrm>
            <a:off x="6019920" y="5334120"/>
            <a:ext cx="88920" cy="93600"/>
            <a:chOff x="6019920" y="5334120"/>
            <a:chExt cx="88920" cy="93600"/>
          </a:xfrm>
        </p:grpSpPr>
        <p:sp>
          <p:nvSpPr>
            <p:cNvPr id="4633" name=""/>
            <p:cNvSpPr/>
            <p:nvPr/>
          </p:nvSpPr>
          <p:spPr>
            <a:xfrm>
              <a:off x="6019920" y="5334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6019920" y="540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606420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6019920" y="5334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7" name=""/>
          <p:cNvGrpSpPr/>
          <p:nvPr/>
        </p:nvGrpSpPr>
        <p:grpSpPr>
          <a:xfrm>
            <a:off x="7162920" y="6019920"/>
            <a:ext cx="88920" cy="93600"/>
            <a:chOff x="7162920" y="6019920"/>
            <a:chExt cx="88920" cy="93600"/>
          </a:xfrm>
        </p:grpSpPr>
        <p:sp>
          <p:nvSpPr>
            <p:cNvPr id="4638" name=""/>
            <p:cNvSpPr/>
            <p:nvPr/>
          </p:nvSpPr>
          <p:spPr>
            <a:xfrm>
              <a:off x="716292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16292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720720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716292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2" name=""/>
          <p:cNvGrpSpPr/>
          <p:nvPr/>
        </p:nvGrpSpPr>
        <p:grpSpPr>
          <a:xfrm>
            <a:off x="7620120" y="5105520"/>
            <a:ext cx="88920" cy="93600"/>
            <a:chOff x="7620120" y="5105520"/>
            <a:chExt cx="88920" cy="93600"/>
          </a:xfrm>
        </p:grpSpPr>
        <p:sp>
          <p:nvSpPr>
            <p:cNvPr id="4643" name=""/>
            <p:cNvSpPr/>
            <p:nvPr/>
          </p:nvSpPr>
          <p:spPr>
            <a:xfrm>
              <a:off x="7620120" y="5105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7620120" y="5180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66440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7620120" y="510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7" name=""/>
          <p:cNvGrpSpPr/>
          <p:nvPr/>
        </p:nvGrpSpPr>
        <p:grpSpPr>
          <a:xfrm>
            <a:off x="7997760" y="5260680"/>
            <a:ext cx="93600" cy="88920"/>
            <a:chOff x="7997760" y="5260680"/>
            <a:chExt cx="93600" cy="88920"/>
          </a:xfrm>
        </p:grpSpPr>
        <p:sp>
          <p:nvSpPr>
            <p:cNvPr id="4648" name=""/>
            <p:cNvSpPr/>
            <p:nvPr/>
          </p:nvSpPr>
          <p:spPr>
            <a:xfrm rot="16200000">
              <a:off x="7962480" y="5295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 rot="16200000">
              <a:off x="8037360" y="529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 rot="16200000">
              <a:off x="8022240" y="5236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 rot="16200000">
              <a:off x="8022240" y="5280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2" name=""/>
          <p:cNvGrpSpPr/>
          <p:nvPr/>
        </p:nvGrpSpPr>
        <p:grpSpPr>
          <a:xfrm>
            <a:off x="8077320" y="5486400"/>
            <a:ext cx="88920" cy="93600"/>
            <a:chOff x="8077320" y="5486400"/>
            <a:chExt cx="88920" cy="93600"/>
          </a:xfrm>
        </p:grpSpPr>
        <p:sp>
          <p:nvSpPr>
            <p:cNvPr id="4653" name=""/>
            <p:cNvSpPr/>
            <p:nvPr/>
          </p:nvSpPr>
          <p:spPr>
            <a:xfrm>
              <a:off x="8077320" y="5486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8077320" y="556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812160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8077320" y="5486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7" name=""/>
          <p:cNvGrpSpPr/>
          <p:nvPr/>
        </p:nvGrpSpPr>
        <p:grpSpPr>
          <a:xfrm>
            <a:off x="8305920" y="6019920"/>
            <a:ext cx="88920" cy="93600"/>
            <a:chOff x="8305920" y="6019920"/>
            <a:chExt cx="88920" cy="93600"/>
          </a:xfrm>
        </p:grpSpPr>
        <p:sp>
          <p:nvSpPr>
            <p:cNvPr id="4658" name=""/>
            <p:cNvSpPr/>
            <p:nvPr/>
          </p:nvSpPr>
          <p:spPr>
            <a:xfrm>
              <a:off x="830592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830592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835020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830592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2" name=""/>
          <p:cNvGrpSpPr/>
          <p:nvPr/>
        </p:nvGrpSpPr>
        <p:grpSpPr>
          <a:xfrm>
            <a:off x="8153280" y="6019920"/>
            <a:ext cx="88920" cy="93600"/>
            <a:chOff x="8153280" y="6019920"/>
            <a:chExt cx="88920" cy="93600"/>
          </a:xfrm>
        </p:grpSpPr>
        <p:sp>
          <p:nvSpPr>
            <p:cNvPr id="4663" name=""/>
            <p:cNvSpPr/>
            <p:nvPr/>
          </p:nvSpPr>
          <p:spPr>
            <a:xfrm>
              <a:off x="815328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815328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819756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815328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7" name=""/>
          <p:cNvGrpSpPr/>
          <p:nvPr/>
        </p:nvGrpSpPr>
        <p:grpSpPr>
          <a:xfrm>
            <a:off x="7845480" y="5641560"/>
            <a:ext cx="93600" cy="88920"/>
            <a:chOff x="7845480" y="5641560"/>
            <a:chExt cx="93600" cy="88920"/>
          </a:xfrm>
        </p:grpSpPr>
        <p:sp>
          <p:nvSpPr>
            <p:cNvPr id="4668" name=""/>
            <p:cNvSpPr/>
            <p:nvPr/>
          </p:nvSpPr>
          <p:spPr>
            <a:xfrm rot="16200000">
              <a:off x="7810200" y="5676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 rot="16200000">
              <a:off x="7885080" y="5676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 rot="16200000">
              <a:off x="7869960" y="5617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 rot="16200000">
              <a:off x="7869960" y="566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2" name=""/>
          <p:cNvGrpSpPr/>
          <p:nvPr/>
        </p:nvGrpSpPr>
        <p:grpSpPr>
          <a:xfrm>
            <a:off x="7086600" y="4648320"/>
            <a:ext cx="88920" cy="93600"/>
            <a:chOff x="7086600" y="4648320"/>
            <a:chExt cx="88920" cy="93600"/>
          </a:xfrm>
        </p:grpSpPr>
        <p:sp>
          <p:nvSpPr>
            <p:cNvPr id="4673" name=""/>
            <p:cNvSpPr/>
            <p:nvPr/>
          </p:nvSpPr>
          <p:spPr>
            <a:xfrm>
              <a:off x="708660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708660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713088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0866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7" name=""/>
          <p:cNvGrpSpPr/>
          <p:nvPr/>
        </p:nvGrpSpPr>
        <p:grpSpPr>
          <a:xfrm>
            <a:off x="7083360" y="5336640"/>
            <a:ext cx="93600" cy="88920"/>
            <a:chOff x="7083360" y="5336640"/>
            <a:chExt cx="93600" cy="88920"/>
          </a:xfrm>
        </p:grpSpPr>
        <p:sp>
          <p:nvSpPr>
            <p:cNvPr id="4678" name=""/>
            <p:cNvSpPr/>
            <p:nvPr/>
          </p:nvSpPr>
          <p:spPr>
            <a:xfrm rot="16200000">
              <a:off x="7048080" y="5371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 rot="16200000">
              <a:off x="7122960" y="537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 rot="16200000">
              <a:off x="7107840" y="5312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 rot="16200000">
              <a:off x="7107840" y="5356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2" name=""/>
          <p:cNvGrpSpPr/>
          <p:nvPr/>
        </p:nvGrpSpPr>
        <p:grpSpPr>
          <a:xfrm>
            <a:off x="7391520" y="6400800"/>
            <a:ext cx="88920" cy="93600"/>
            <a:chOff x="7391520" y="6400800"/>
            <a:chExt cx="88920" cy="93600"/>
          </a:xfrm>
        </p:grpSpPr>
        <p:sp>
          <p:nvSpPr>
            <p:cNvPr id="4683" name=""/>
            <p:cNvSpPr/>
            <p:nvPr/>
          </p:nvSpPr>
          <p:spPr>
            <a:xfrm>
              <a:off x="7391520" y="6400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391520" y="647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7435800" y="64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7391520" y="64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7" name=""/>
          <p:cNvGrpSpPr/>
          <p:nvPr/>
        </p:nvGrpSpPr>
        <p:grpSpPr>
          <a:xfrm>
            <a:off x="7848720" y="6400800"/>
            <a:ext cx="88920" cy="93600"/>
            <a:chOff x="7848720" y="6400800"/>
            <a:chExt cx="88920" cy="93600"/>
          </a:xfrm>
        </p:grpSpPr>
        <p:sp>
          <p:nvSpPr>
            <p:cNvPr id="4688" name=""/>
            <p:cNvSpPr/>
            <p:nvPr/>
          </p:nvSpPr>
          <p:spPr>
            <a:xfrm>
              <a:off x="7848720" y="6400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7848720" y="647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7893000" y="64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7848720" y="64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2" name=""/>
          <p:cNvGrpSpPr/>
          <p:nvPr/>
        </p:nvGrpSpPr>
        <p:grpSpPr>
          <a:xfrm>
            <a:off x="8305920" y="6400800"/>
            <a:ext cx="88920" cy="93600"/>
            <a:chOff x="8305920" y="6400800"/>
            <a:chExt cx="88920" cy="93600"/>
          </a:xfrm>
        </p:grpSpPr>
        <p:sp>
          <p:nvSpPr>
            <p:cNvPr id="4693" name=""/>
            <p:cNvSpPr/>
            <p:nvPr/>
          </p:nvSpPr>
          <p:spPr>
            <a:xfrm>
              <a:off x="8305920" y="6400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8305920" y="647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8350200" y="64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8305920" y="64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7" name=""/>
          <p:cNvGrpSpPr/>
          <p:nvPr/>
        </p:nvGrpSpPr>
        <p:grpSpPr>
          <a:xfrm>
            <a:off x="7848720" y="6172200"/>
            <a:ext cx="88920" cy="93600"/>
            <a:chOff x="7848720" y="6172200"/>
            <a:chExt cx="88920" cy="93600"/>
          </a:xfrm>
        </p:grpSpPr>
        <p:sp>
          <p:nvSpPr>
            <p:cNvPr id="4698" name=""/>
            <p:cNvSpPr/>
            <p:nvPr/>
          </p:nvSpPr>
          <p:spPr>
            <a:xfrm>
              <a:off x="7848720" y="6172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7848720" y="624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789300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848720" y="617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2" name=""/>
          <p:cNvGrpSpPr/>
          <p:nvPr/>
        </p:nvGrpSpPr>
        <p:grpSpPr>
          <a:xfrm>
            <a:off x="8763120" y="6307200"/>
            <a:ext cx="88920" cy="93600"/>
            <a:chOff x="8763120" y="6307200"/>
            <a:chExt cx="88920" cy="93600"/>
          </a:xfrm>
        </p:grpSpPr>
        <p:sp>
          <p:nvSpPr>
            <p:cNvPr id="4703" name=""/>
            <p:cNvSpPr/>
            <p:nvPr/>
          </p:nvSpPr>
          <p:spPr>
            <a:xfrm>
              <a:off x="8763120" y="6307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8763120" y="6382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8807400" y="6307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8763120" y="6307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7" name=""/>
          <p:cNvGrpSpPr/>
          <p:nvPr/>
        </p:nvGrpSpPr>
        <p:grpSpPr>
          <a:xfrm>
            <a:off x="8305920" y="3429000"/>
            <a:ext cx="88920" cy="93600"/>
            <a:chOff x="8305920" y="3429000"/>
            <a:chExt cx="88920" cy="93600"/>
          </a:xfrm>
        </p:grpSpPr>
        <p:sp>
          <p:nvSpPr>
            <p:cNvPr id="4708" name=""/>
            <p:cNvSpPr/>
            <p:nvPr/>
          </p:nvSpPr>
          <p:spPr>
            <a:xfrm>
              <a:off x="8305920" y="3429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8305920" y="3503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8350200" y="342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8305920" y="342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2" name=""/>
          <p:cNvGrpSpPr/>
          <p:nvPr/>
        </p:nvGrpSpPr>
        <p:grpSpPr>
          <a:xfrm>
            <a:off x="8915400" y="3505320"/>
            <a:ext cx="88920" cy="93600"/>
            <a:chOff x="8915400" y="3505320"/>
            <a:chExt cx="88920" cy="93600"/>
          </a:xfrm>
        </p:grpSpPr>
        <p:sp>
          <p:nvSpPr>
            <p:cNvPr id="4713" name=""/>
            <p:cNvSpPr/>
            <p:nvPr/>
          </p:nvSpPr>
          <p:spPr>
            <a:xfrm>
              <a:off x="8915400" y="3505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8915400" y="3580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8959680" y="350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8915400" y="350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7" name=""/>
          <p:cNvGrpSpPr/>
          <p:nvPr/>
        </p:nvGrpSpPr>
        <p:grpSpPr>
          <a:xfrm>
            <a:off x="9220320" y="3962520"/>
            <a:ext cx="88920" cy="93600"/>
            <a:chOff x="9220320" y="3962520"/>
            <a:chExt cx="88920" cy="93600"/>
          </a:xfrm>
        </p:grpSpPr>
        <p:sp>
          <p:nvSpPr>
            <p:cNvPr id="4718" name=""/>
            <p:cNvSpPr/>
            <p:nvPr/>
          </p:nvSpPr>
          <p:spPr>
            <a:xfrm>
              <a:off x="9220320" y="3962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9220320" y="4037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926460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922032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2" name=""/>
          <p:cNvGrpSpPr/>
          <p:nvPr/>
        </p:nvGrpSpPr>
        <p:grpSpPr>
          <a:xfrm>
            <a:off x="8534520" y="3962520"/>
            <a:ext cx="88920" cy="93600"/>
            <a:chOff x="8534520" y="3962520"/>
            <a:chExt cx="88920" cy="93600"/>
          </a:xfrm>
        </p:grpSpPr>
        <p:sp>
          <p:nvSpPr>
            <p:cNvPr id="4723" name=""/>
            <p:cNvSpPr/>
            <p:nvPr/>
          </p:nvSpPr>
          <p:spPr>
            <a:xfrm>
              <a:off x="8534520" y="3962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8534520" y="4037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857880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8534520" y="3962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7" name=""/>
          <p:cNvGrpSpPr/>
          <p:nvPr/>
        </p:nvGrpSpPr>
        <p:grpSpPr>
          <a:xfrm>
            <a:off x="8759880" y="4193640"/>
            <a:ext cx="93600" cy="88920"/>
            <a:chOff x="8759880" y="4193640"/>
            <a:chExt cx="93600" cy="88920"/>
          </a:xfrm>
        </p:grpSpPr>
        <p:sp>
          <p:nvSpPr>
            <p:cNvPr id="4728" name=""/>
            <p:cNvSpPr/>
            <p:nvPr/>
          </p:nvSpPr>
          <p:spPr>
            <a:xfrm rot="16200000">
              <a:off x="8724600" y="4228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 rot="16200000">
              <a:off x="8799480" y="4228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 rot="16200000">
              <a:off x="8784360" y="4169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rot="16200000">
              <a:off x="8784360" y="4213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2" name=""/>
          <p:cNvGrpSpPr/>
          <p:nvPr/>
        </p:nvGrpSpPr>
        <p:grpSpPr>
          <a:xfrm>
            <a:off x="8759880" y="4422240"/>
            <a:ext cx="93600" cy="88920"/>
            <a:chOff x="8759880" y="4422240"/>
            <a:chExt cx="93600" cy="88920"/>
          </a:xfrm>
        </p:grpSpPr>
        <p:sp>
          <p:nvSpPr>
            <p:cNvPr id="4733" name=""/>
            <p:cNvSpPr/>
            <p:nvPr/>
          </p:nvSpPr>
          <p:spPr>
            <a:xfrm rot="16200000">
              <a:off x="8724600" y="4457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 rot="16200000">
              <a:off x="8799480" y="4457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 rot="16200000">
              <a:off x="8784360" y="4397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 rot="16200000">
              <a:off x="8784360" y="4442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7" name=""/>
          <p:cNvGrpSpPr/>
          <p:nvPr/>
        </p:nvGrpSpPr>
        <p:grpSpPr>
          <a:xfrm>
            <a:off x="8686800" y="4572000"/>
            <a:ext cx="88920" cy="93600"/>
            <a:chOff x="8686800" y="4572000"/>
            <a:chExt cx="88920" cy="93600"/>
          </a:xfrm>
        </p:grpSpPr>
        <p:sp>
          <p:nvSpPr>
            <p:cNvPr id="4738" name=""/>
            <p:cNvSpPr/>
            <p:nvPr/>
          </p:nvSpPr>
          <p:spPr>
            <a:xfrm>
              <a:off x="8686800" y="4572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8686800" y="4646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8731080" y="4572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8686800" y="4572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2" name=""/>
          <p:cNvGrpSpPr/>
          <p:nvPr/>
        </p:nvGrpSpPr>
        <p:grpSpPr>
          <a:xfrm>
            <a:off x="8531280" y="4650840"/>
            <a:ext cx="93600" cy="88920"/>
            <a:chOff x="8531280" y="4650840"/>
            <a:chExt cx="93600" cy="88920"/>
          </a:xfrm>
        </p:grpSpPr>
        <p:sp>
          <p:nvSpPr>
            <p:cNvPr id="4743" name=""/>
            <p:cNvSpPr/>
            <p:nvPr/>
          </p:nvSpPr>
          <p:spPr>
            <a:xfrm rot="16200000">
              <a:off x="8496000" y="4686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 rot="16200000">
              <a:off x="8570880" y="46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 rot="16200000">
              <a:off x="8555760" y="462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 rot="16200000">
              <a:off x="8555760" y="467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7" name=""/>
          <p:cNvGrpSpPr/>
          <p:nvPr/>
        </p:nvGrpSpPr>
        <p:grpSpPr>
          <a:xfrm>
            <a:off x="8153280" y="4800600"/>
            <a:ext cx="88920" cy="93600"/>
            <a:chOff x="8153280" y="4800600"/>
            <a:chExt cx="88920" cy="93600"/>
          </a:xfrm>
        </p:grpSpPr>
        <p:sp>
          <p:nvSpPr>
            <p:cNvPr id="4748" name=""/>
            <p:cNvSpPr/>
            <p:nvPr/>
          </p:nvSpPr>
          <p:spPr>
            <a:xfrm>
              <a:off x="8153280" y="4800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8153280" y="4875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819756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8153280" y="480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2" name=""/>
          <p:cNvGrpSpPr/>
          <p:nvPr/>
        </p:nvGrpSpPr>
        <p:grpSpPr>
          <a:xfrm>
            <a:off x="9067680" y="5029200"/>
            <a:ext cx="88920" cy="93600"/>
            <a:chOff x="9067680" y="5029200"/>
            <a:chExt cx="88920" cy="93600"/>
          </a:xfrm>
        </p:grpSpPr>
        <p:sp>
          <p:nvSpPr>
            <p:cNvPr id="4753" name=""/>
            <p:cNvSpPr/>
            <p:nvPr/>
          </p:nvSpPr>
          <p:spPr>
            <a:xfrm>
              <a:off x="9067680" y="5029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9067680" y="5104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9111960" y="5029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9067680" y="5029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7" name=""/>
          <p:cNvGrpSpPr/>
          <p:nvPr/>
        </p:nvGrpSpPr>
        <p:grpSpPr>
          <a:xfrm>
            <a:off x="9217080" y="5108040"/>
            <a:ext cx="93600" cy="88920"/>
            <a:chOff x="9217080" y="5108040"/>
            <a:chExt cx="93600" cy="88920"/>
          </a:xfrm>
        </p:grpSpPr>
        <p:sp>
          <p:nvSpPr>
            <p:cNvPr id="4758" name=""/>
            <p:cNvSpPr/>
            <p:nvPr/>
          </p:nvSpPr>
          <p:spPr>
            <a:xfrm rot="16200000">
              <a:off x="9181800" y="5143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rot="16200000">
              <a:off x="9256680" y="5142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 rot="16200000">
              <a:off x="9241560" y="5083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rot="16200000">
              <a:off x="9241560" y="5127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2" name=""/>
          <p:cNvGrpSpPr/>
          <p:nvPr/>
        </p:nvGrpSpPr>
        <p:grpSpPr>
          <a:xfrm>
            <a:off x="8759880" y="5260680"/>
            <a:ext cx="93600" cy="88920"/>
            <a:chOff x="8759880" y="5260680"/>
            <a:chExt cx="93600" cy="88920"/>
          </a:xfrm>
        </p:grpSpPr>
        <p:sp>
          <p:nvSpPr>
            <p:cNvPr id="4763" name=""/>
            <p:cNvSpPr/>
            <p:nvPr/>
          </p:nvSpPr>
          <p:spPr>
            <a:xfrm rot="16200000">
              <a:off x="8724600" y="5295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 rot="16200000">
              <a:off x="8799480" y="529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rot="16200000">
              <a:off x="8784360" y="5236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 rot="16200000">
              <a:off x="8784360" y="5280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7" name=""/>
          <p:cNvGrpSpPr/>
          <p:nvPr/>
        </p:nvGrpSpPr>
        <p:grpSpPr>
          <a:xfrm>
            <a:off x="6629400" y="5791320"/>
            <a:ext cx="74520" cy="149400"/>
            <a:chOff x="6629400" y="5791320"/>
            <a:chExt cx="74520" cy="149400"/>
          </a:xfrm>
        </p:grpSpPr>
        <p:sp>
          <p:nvSpPr>
            <p:cNvPr id="4768" name=""/>
            <p:cNvSpPr/>
            <p:nvPr/>
          </p:nvSpPr>
          <p:spPr>
            <a:xfrm>
              <a:off x="6629400" y="5791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6629400" y="59403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6666480" y="57913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6629400" y="57913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9220320" y="5334120"/>
            <a:ext cx="74520" cy="149400"/>
            <a:chOff x="9220320" y="5334120"/>
            <a:chExt cx="74520" cy="149400"/>
          </a:xfrm>
        </p:grpSpPr>
        <p:sp>
          <p:nvSpPr>
            <p:cNvPr id="4773" name=""/>
            <p:cNvSpPr/>
            <p:nvPr/>
          </p:nvSpPr>
          <p:spPr>
            <a:xfrm>
              <a:off x="9220320" y="53341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9220320" y="54831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9257400" y="53341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9220320" y="53341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7" name=""/>
          <p:cNvGrpSpPr/>
          <p:nvPr/>
        </p:nvGrpSpPr>
        <p:grpSpPr>
          <a:xfrm>
            <a:off x="8534520" y="5257800"/>
            <a:ext cx="74520" cy="149760"/>
            <a:chOff x="8534520" y="5257800"/>
            <a:chExt cx="74520" cy="149760"/>
          </a:xfrm>
        </p:grpSpPr>
        <p:sp>
          <p:nvSpPr>
            <p:cNvPr id="4778" name=""/>
            <p:cNvSpPr/>
            <p:nvPr/>
          </p:nvSpPr>
          <p:spPr>
            <a:xfrm>
              <a:off x="8534520" y="5257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8534520" y="5407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8571600" y="5257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8534520" y="5257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2" name=""/>
          <p:cNvGrpSpPr/>
          <p:nvPr/>
        </p:nvGrpSpPr>
        <p:grpSpPr>
          <a:xfrm>
            <a:off x="8305920" y="5257440"/>
            <a:ext cx="149400" cy="74520"/>
            <a:chOff x="8305920" y="5257440"/>
            <a:chExt cx="149400" cy="74520"/>
          </a:xfrm>
        </p:grpSpPr>
        <p:sp>
          <p:nvSpPr>
            <p:cNvPr id="4783" name=""/>
            <p:cNvSpPr/>
            <p:nvPr/>
          </p:nvSpPr>
          <p:spPr>
            <a:xfrm rot="16200000">
              <a:off x="8268840" y="5294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 rot="16200000">
              <a:off x="8417880" y="5294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rot="16200000">
              <a:off x="8361720" y="52016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 rot="16200000">
              <a:off x="8361720" y="52387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7" name=""/>
          <p:cNvGrpSpPr/>
          <p:nvPr/>
        </p:nvGrpSpPr>
        <p:grpSpPr>
          <a:xfrm>
            <a:off x="8305920" y="4419360"/>
            <a:ext cx="149400" cy="74520"/>
            <a:chOff x="8305920" y="4419360"/>
            <a:chExt cx="149400" cy="74520"/>
          </a:xfrm>
        </p:grpSpPr>
        <p:sp>
          <p:nvSpPr>
            <p:cNvPr id="4788" name=""/>
            <p:cNvSpPr/>
            <p:nvPr/>
          </p:nvSpPr>
          <p:spPr>
            <a:xfrm rot="16200000">
              <a:off x="8268840" y="4456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rot="16200000">
              <a:off x="8417880" y="4456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 rot="16200000">
              <a:off x="8361720" y="43635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rot="16200000">
              <a:off x="8361720" y="44006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2" name=""/>
          <p:cNvGrpSpPr/>
          <p:nvPr/>
        </p:nvGrpSpPr>
        <p:grpSpPr>
          <a:xfrm>
            <a:off x="8305920" y="5028840"/>
            <a:ext cx="152280" cy="74520"/>
            <a:chOff x="8305920" y="5028840"/>
            <a:chExt cx="152280" cy="74520"/>
          </a:xfrm>
        </p:grpSpPr>
        <p:sp>
          <p:nvSpPr>
            <p:cNvPr id="4793" name=""/>
            <p:cNvSpPr/>
            <p:nvPr/>
          </p:nvSpPr>
          <p:spPr>
            <a:xfrm rot="16200000">
              <a:off x="8283600" y="5050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 rot="16200000">
              <a:off x="8405640" y="5050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rot="16200000">
              <a:off x="8363520" y="4971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 rot="16200000">
              <a:off x="8363520" y="5008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7" name=""/>
          <p:cNvGrpSpPr/>
          <p:nvPr/>
        </p:nvGrpSpPr>
        <p:grpSpPr>
          <a:xfrm>
            <a:off x="8763120" y="5028840"/>
            <a:ext cx="152280" cy="74520"/>
            <a:chOff x="8763120" y="5028840"/>
            <a:chExt cx="152280" cy="74520"/>
          </a:xfrm>
        </p:grpSpPr>
        <p:sp>
          <p:nvSpPr>
            <p:cNvPr id="4798" name=""/>
            <p:cNvSpPr/>
            <p:nvPr/>
          </p:nvSpPr>
          <p:spPr>
            <a:xfrm rot="16200000">
              <a:off x="8740800" y="5050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rot="16200000">
              <a:off x="8862840" y="5050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 rot="16200000">
              <a:off x="8820720" y="4971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rot="16200000">
              <a:off x="8820720" y="5008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2" name=""/>
          <p:cNvGrpSpPr/>
          <p:nvPr/>
        </p:nvGrpSpPr>
        <p:grpSpPr>
          <a:xfrm>
            <a:off x="6629400" y="6248160"/>
            <a:ext cx="152280" cy="74520"/>
            <a:chOff x="6629400" y="6248160"/>
            <a:chExt cx="152280" cy="74520"/>
          </a:xfrm>
        </p:grpSpPr>
        <p:sp>
          <p:nvSpPr>
            <p:cNvPr id="4803" name=""/>
            <p:cNvSpPr/>
            <p:nvPr/>
          </p:nvSpPr>
          <p:spPr>
            <a:xfrm rot="16200000">
              <a:off x="6607080" y="62701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rot="16200000">
              <a:off x="6729120" y="62701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 rot="16200000">
              <a:off x="6687000" y="61909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 rot="16200000">
              <a:off x="6687000" y="6228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7" name=""/>
          <p:cNvGrpSpPr/>
          <p:nvPr/>
        </p:nvGrpSpPr>
        <p:grpSpPr>
          <a:xfrm>
            <a:off x="7543800" y="6097320"/>
            <a:ext cx="152280" cy="74520"/>
            <a:chOff x="7543800" y="6097320"/>
            <a:chExt cx="152280" cy="74520"/>
          </a:xfrm>
        </p:grpSpPr>
        <p:sp>
          <p:nvSpPr>
            <p:cNvPr id="4808" name=""/>
            <p:cNvSpPr/>
            <p:nvPr/>
          </p:nvSpPr>
          <p:spPr>
            <a:xfrm rot="16200000">
              <a:off x="7521480" y="61192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rot="16200000">
              <a:off x="7643520" y="61192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rot="16200000">
              <a:off x="7601400" y="60400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rot="16200000">
              <a:off x="7601400" y="60771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2" name=""/>
          <p:cNvGrpSpPr/>
          <p:nvPr/>
        </p:nvGrpSpPr>
        <p:grpSpPr>
          <a:xfrm>
            <a:off x="5305320" y="6019560"/>
            <a:ext cx="152640" cy="74520"/>
            <a:chOff x="5305320" y="6019560"/>
            <a:chExt cx="152640" cy="74520"/>
          </a:xfrm>
        </p:grpSpPr>
        <p:sp>
          <p:nvSpPr>
            <p:cNvPr id="4813" name=""/>
            <p:cNvSpPr/>
            <p:nvPr/>
          </p:nvSpPr>
          <p:spPr>
            <a:xfrm rot="16200000">
              <a:off x="5283000" y="60415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 rot="16200000">
              <a:off x="5405400" y="60415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rot="16200000">
              <a:off x="5362920" y="596196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 rot="16200000">
              <a:off x="5362920" y="59990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7" name=""/>
          <p:cNvGrpSpPr/>
          <p:nvPr/>
        </p:nvGrpSpPr>
        <p:grpSpPr>
          <a:xfrm>
            <a:off x="5334120" y="5638680"/>
            <a:ext cx="152280" cy="74880"/>
            <a:chOff x="5334120" y="5638680"/>
            <a:chExt cx="152280" cy="74880"/>
          </a:xfrm>
        </p:grpSpPr>
        <p:sp>
          <p:nvSpPr>
            <p:cNvPr id="4818" name=""/>
            <p:cNvSpPr/>
            <p:nvPr/>
          </p:nvSpPr>
          <p:spPr>
            <a:xfrm rot="16200000">
              <a:off x="5311800" y="56610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 rot="16200000">
              <a:off x="5433480" y="56606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rot="16200000">
              <a:off x="5391360" y="55810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 rot="16200000">
              <a:off x="5391360" y="56185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2" name=""/>
          <p:cNvGrpSpPr/>
          <p:nvPr/>
        </p:nvGrpSpPr>
        <p:grpSpPr>
          <a:xfrm>
            <a:off x="5106960" y="4648320"/>
            <a:ext cx="74520" cy="152280"/>
            <a:chOff x="5106960" y="4648320"/>
            <a:chExt cx="74520" cy="152280"/>
          </a:xfrm>
        </p:grpSpPr>
        <p:sp>
          <p:nvSpPr>
            <p:cNvPr id="4823" name=""/>
            <p:cNvSpPr/>
            <p:nvPr/>
          </p:nvSpPr>
          <p:spPr>
            <a:xfrm>
              <a:off x="5106960" y="46483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106960" y="47700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5144040" y="4648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106960" y="4648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7" name=""/>
          <p:cNvGrpSpPr/>
          <p:nvPr/>
        </p:nvGrpSpPr>
        <p:grpSpPr>
          <a:xfrm>
            <a:off x="6248520" y="4800600"/>
            <a:ext cx="74520" cy="152280"/>
            <a:chOff x="6248520" y="4800600"/>
            <a:chExt cx="74520" cy="152280"/>
          </a:xfrm>
        </p:grpSpPr>
        <p:sp>
          <p:nvSpPr>
            <p:cNvPr id="4828" name=""/>
            <p:cNvSpPr/>
            <p:nvPr/>
          </p:nvSpPr>
          <p:spPr>
            <a:xfrm>
              <a:off x="6248520" y="4800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6248520" y="49222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6285600" y="4800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6248520" y="4800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2" name=""/>
          <p:cNvGrpSpPr/>
          <p:nvPr/>
        </p:nvGrpSpPr>
        <p:grpSpPr>
          <a:xfrm>
            <a:off x="6705720" y="4800600"/>
            <a:ext cx="74520" cy="152280"/>
            <a:chOff x="6705720" y="4800600"/>
            <a:chExt cx="74520" cy="152280"/>
          </a:xfrm>
        </p:grpSpPr>
        <p:sp>
          <p:nvSpPr>
            <p:cNvPr id="4833" name=""/>
            <p:cNvSpPr/>
            <p:nvPr/>
          </p:nvSpPr>
          <p:spPr>
            <a:xfrm>
              <a:off x="6705720" y="4800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6705720" y="49222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6742800" y="4800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6705720" y="4800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7" name=""/>
          <p:cNvGrpSpPr/>
          <p:nvPr/>
        </p:nvGrpSpPr>
        <p:grpSpPr>
          <a:xfrm>
            <a:off x="6858000" y="4572000"/>
            <a:ext cx="74520" cy="152280"/>
            <a:chOff x="6858000" y="4572000"/>
            <a:chExt cx="74520" cy="152280"/>
          </a:xfrm>
        </p:grpSpPr>
        <p:sp>
          <p:nvSpPr>
            <p:cNvPr id="4838" name=""/>
            <p:cNvSpPr/>
            <p:nvPr/>
          </p:nvSpPr>
          <p:spPr>
            <a:xfrm>
              <a:off x="6858000" y="45720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6858000" y="46936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6895080" y="4572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6858000" y="4572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2" name=""/>
          <p:cNvGrpSpPr/>
          <p:nvPr/>
        </p:nvGrpSpPr>
        <p:grpSpPr>
          <a:xfrm>
            <a:off x="6705360" y="4343400"/>
            <a:ext cx="75960" cy="152280"/>
            <a:chOff x="6705360" y="4343400"/>
            <a:chExt cx="75960" cy="152280"/>
          </a:xfrm>
        </p:grpSpPr>
        <p:sp>
          <p:nvSpPr>
            <p:cNvPr id="4843" name=""/>
            <p:cNvSpPr/>
            <p:nvPr/>
          </p:nvSpPr>
          <p:spPr>
            <a:xfrm flipH="1">
              <a:off x="6705000" y="4343400"/>
              <a:ext cx="7596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H="1">
              <a:off x="6705000" y="4465080"/>
              <a:ext cx="7596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H="1">
              <a:off x="6705360" y="4343400"/>
              <a:ext cx="3780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flipH="1">
              <a:off x="6743160" y="4343400"/>
              <a:ext cx="3780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7" name=""/>
          <p:cNvGrpSpPr/>
          <p:nvPr/>
        </p:nvGrpSpPr>
        <p:grpSpPr>
          <a:xfrm>
            <a:off x="7162560" y="4114800"/>
            <a:ext cx="75960" cy="152280"/>
            <a:chOff x="7162560" y="4114800"/>
            <a:chExt cx="75960" cy="152280"/>
          </a:xfrm>
        </p:grpSpPr>
        <p:sp>
          <p:nvSpPr>
            <p:cNvPr id="4848" name=""/>
            <p:cNvSpPr/>
            <p:nvPr/>
          </p:nvSpPr>
          <p:spPr>
            <a:xfrm flipH="1">
              <a:off x="7162200" y="4114800"/>
              <a:ext cx="7596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 flipH="1">
              <a:off x="7162200" y="4236480"/>
              <a:ext cx="7596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flipH="1">
              <a:off x="7162560" y="4114800"/>
              <a:ext cx="3780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flipH="1">
              <a:off x="7200360" y="4114800"/>
              <a:ext cx="3780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2" name=""/>
          <p:cNvGrpSpPr/>
          <p:nvPr/>
        </p:nvGrpSpPr>
        <p:grpSpPr>
          <a:xfrm>
            <a:off x="5334120" y="4876560"/>
            <a:ext cx="152280" cy="74520"/>
            <a:chOff x="5334120" y="4876560"/>
            <a:chExt cx="152280" cy="74520"/>
          </a:xfrm>
        </p:grpSpPr>
        <p:sp>
          <p:nvSpPr>
            <p:cNvPr id="4853" name=""/>
            <p:cNvSpPr/>
            <p:nvPr/>
          </p:nvSpPr>
          <p:spPr>
            <a:xfrm rot="16200000">
              <a:off x="5311800" y="48985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rot="16200000">
              <a:off x="5433840" y="48985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rot="16200000">
              <a:off x="5391720" y="4819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rot="16200000">
              <a:off x="5391720" y="4856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7" name=""/>
          <p:cNvGrpSpPr/>
          <p:nvPr/>
        </p:nvGrpSpPr>
        <p:grpSpPr>
          <a:xfrm>
            <a:off x="5791320" y="5028840"/>
            <a:ext cx="152280" cy="74520"/>
            <a:chOff x="5791320" y="5028840"/>
            <a:chExt cx="152280" cy="74520"/>
          </a:xfrm>
        </p:grpSpPr>
        <p:sp>
          <p:nvSpPr>
            <p:cNvPr id="4858" name=""/>
            <p:cNvSpPr/>
            <p:nvPr/>
          </p:nvSpPr>
          <p:spPr>
            <a:xfrm rot="16200000">
              <a:off x="5769000" y="5050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rot="16200000">
              <a:off x="5891040" y="5050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rot="16200000">
              <a:off x="5848920" y="4971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rot="16200000">
              <a:off x="5848920" y="5008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2" name=""/>
          <p:cNvGrpSpPr/>
          <p:nvPr/>
        </p:nvGrpSpPr>
        <p:grpSpPr>
          <a:xfrm>
            <a:off x="6248520" y="5486040"/>
            <a:ext cx="152280" cy="74520"/>
            <a:chOff x="6248520" y="5486040"/>
            <a:chExt cx="152280" cy="74520"/>
          </a:xfrm>
        </p:grpSpPr>
        <p:sp>
          <p:nvSpPr>
            <p:cNvPr id="4863" name=""/>
            <p:cNvSpPr/>
            <p:nvPr/>
          </p:nvSpPr>
          <p:spPr>
            <a:xfrm rot="16200000">
              <a:off x="6226200" y="55080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rot="16200000">
              <a:off x="6348240" y="55080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rot="16200000">
              <a:off x="6306120" y="5428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rot="16200000">
              <a:off x="6306120" y="54658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7" name=""/>
          <p:cNvGrpSpPr/>
          <p:nvPr/>
        </p:nvGrpSpPr>
        <p:grpSpPr>
          <a:xfrm>
            <a:off x="7391520" y="5333760"/>
            <a:ext cx="152280" cy="74520"/>
            <a:chOff x="7391520" y="5333760"/>
            <a:chExt cx="152280" cy="74520"/>
          </a:xfrm>
        </p:grpSpPr>
        <p:sp>
          <p:nvSpPr>
            <p:cNvPr id="4868" name=""/>
            <p:cNvSpPr/>
            <p:nvPr/>
          </p:nvSpPr>
          <p:spPr>
            <a:xfrm rot="16200000">
              <a:off x="7369200" y="5355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rot="16200000">
              <a:off x="7491240" y="5355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rot="16200000">
              <a:off x="7449120" y="5276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 rot="16200000">
              <a:off x="7449120" y="5313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2" name=""/>
          <p:cNvGrpSpPr/>
          <p:nvPr/>
        </p:nvGrpSpPr>
        <p:grpSpPr>
          <a:xfrm>
            <a:off x="7391520" y="5105160"/>
            <a:ext cx="152280" cy="74520"/>
            <a:chOff x="7391520" y="5105160"/>
            <a:chExt cx="152280" cy="74520"/>
          </a:xfrm>
        </p:grpSpPr>
        <p:sp>
          <p:nvSpPr>
            <p:cNvPr id="4873" name=""/>
            <p:cNvSpPr/>
            <p:nvPr/>
          </p:nvSpPr>
          <p:spPr>
            <a:xfrm rot="16200000">
              <a:off x="7369200" y="51271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rot="16200000">
              <a:off x="7491240" y="51271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rot="16200000">
              <a:off x="7449120" y="50479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rot="16200000">
              <a:off x="7449120" y="5085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7" name=""/>
          <p:cNvGrpSpPr/>
          <p:nvPr/>
        </p:nvGrpSpPr>
        <p:grpSpPr>
          <a:xfrm>
            <a:off x="7543800" y="5562360"/>
            <a:ext cx="152280" cy="74520"/>
            <a:chOff x="7543800" y="5562360"/>
            <a:chExt cx="152280" cy="74520"/>
          </a:xfrm>
        </p:grpSpPr>
        <p:sp>
          <p:nvSpPr>
            <p:cNvPr id="4878" name=""/>
            <p:cNvSpPr/>
            <p:nvPr/>
          </p:nvSpPr>
          <p:spPr>
            <a:xfrm rot="16200000">
              <a:off x="7521480" y="55843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rot="16200000">
              <a:off x="7643520" y="55843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rot="16200000">
              <a:off x="7601400" y="55051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rot="16200000">
              <a:off x="7601400" y="5542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2" name=""/>
          <p:cNvGrpSpPr/>
          <p:nvPr/>
        </p:nvGrpSpPr>
        <p:grpSpPr>
          <a:xfrm>
            <a:off x="7543800" y="3962520"/>
            <a:ext cx="76320" cy="152280"/>
            <a:chOff x="7543800" y="3962520"/>
            <a:chExt cx="76320" cy="152280"/>
          </a:xfrm>
        </p:grpSpPr>
        <p:sp>
          <p:nvSpPr>
            <p:cNvPr id="4883" name=""/>
            <p:cNvSpPr/>
            <p:nvPr/>
          </p:nvSpPr>
          <p:spPr>
            <a:xfrm flipH="1">
              <a:off x="7543800" y="3962520"/>
              <a:ext cx="763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H="1">
              <a:off x="7543800" y="4084200"/>
              <a:ext cx="763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H="1">
              <a:off x="7543800" y="3962520"/>
              <a:ext cx="381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H="1">
              <a:off x="7581960" y="3962520"/>
              <a:ext cx="381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7" name=""/>
          <p:cNvGrpSpPr/>
          <p:nvPr/>
        </p:nvGrpSpPr>
        <p:grpSpPr>
          <a:xfrm>
            <a:off x="7772400" y="3962160"/>
            <a:ext cx="152280" cy="74520"/>
            <a:chOff x="7772400" y="3962160"/>
            <a:chExt cx="152280" cy="74520"/>
          </a:xfrm>
        </p:grpSpPr>
        <p:sp>
          <p:nvSpPr>
            <p:cNvPr id="4888" name=""/>
            <p:cNvSpPr/>
            <p:nvPr/>
          </p:nvSpPr>
          <p:spPr>
            <a:xfrm rot="16200000">
              <a:off x="7750080" y="39841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rot="16200000">
              <a:off x="7872120" y="39841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rot="16200000">
              <a:off x="7830000" y="39049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rot="16200000">
              <a:off x="7830000" y="3942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2" name=""/>
          <p:cNvGrpSpPr/>
          <p:nvPr/>
        </p:nvGrpSpPr>
        <p:grpSpPr>
          <a:xfrm>
            <a:off x="6934320" y="3962520"/>
            <a:ext cx="152640" cy="149040"/>
            <a:chOff x="6934320" y="3962520"/>
            <a:chExt cx="152640" cy="149040"/>
          </a:xfrm>
        </p:grpSpPr>
        <p:sp>
          <p:nvSpPr>
            <p:cNvPr id="4893" name=""/>
            <p:cNvSpPr/>
            <p:nvPr/>
          </p:nvSpPr>
          <p:spPr>
            <a:xfrm rot="16200000">
              <a:off x="6859800" y="40366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rot="16200000">
              <a:off x="7012080" y="40366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rot="16200000">
              <a:off x="6973200" y="39232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rot="16200000">
              <a:off x="6972840" y="39978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7" name=""/>
          <p:cNvGrpSpPr/>
          <p:nvPr/>
        </p:nvGrpSpPr>
        <p:grpSpPr>
          <a:xfrm>
            <a:off x="8686800" y="4800240"/>
            <a:ext cx="152640" cy="149400"/>
            <a:chOff x="8686800" y="4800240"/>
            <a:chExt cx="152640" cy="149400"/>
          </a:xfrm>
        </p:grpSpPr>
        <p:sp>
          <p:nvSpPr>
            <p:cNvPr id="4898" name=""/>
            <p:cNvSpPr/>
            <p:nvPr/>
          </p:nvSpPr>
          <p:spPr>
            <a:xfrm rot="16200000">
              <a:off x="861228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rot="16200000">
              <a:off x="876456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rot="16200000">
              <a:off x="8725680" y="47613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rot="16200000">
              <a:off x="8725320" y="4835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8992800" y="4112640"/>
            <a:ext cx="149400" cy="152640"/>
            <a:chOff x="8992800" y="4112640"/>
            <a:chExt cx="149400" cy="152640"/>
          </a:xfrm>
        </p:grpSpPr>
        <p:sp>
          <p:nvSpPr>
            <p:cNvPr id="4903" name=""/>
            <p:cNvSpPr/>
            <p:nvPr/>
          </p:nvSpPr>
          <p:spPr>
            <a:xfrm rot="10800000">
              <a:off x="8992800" y="42649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rot="10800000">
              <a:off x="8992800" y="411264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rot="10800000">
              <a:off x="8992800" y="411300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rot="10800000">
              <a:off x="9067320" y="41130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8457840" y="4114080"/>
            <a:ext cx="149400" cy="152640"/>
            <a:chOff x="8457840" y="4114080"/>
            <a:chExt cx="149400" cy="152640"/>
          </a:xfrm>
        </p:grpSpPr>
        <p:sp>
          <p:nvSpPr>
            <p:cNvPr id="4908" name=""/>
            <p:cNvSpPr/>
            <p:nvPr/>
          </p:nvSpPr>
          <p:spPr>
            <a:xfrm rot="10800000">
              <a:off x="8457840" y="4266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rot="10800000">
              <a:off x="8457840" y="411408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 rot="10800000">
              <a:off x="8457840" y="411444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rot="10800000">
              <a:off x="8532360" y="41144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2" name=""/>
          <p:cNvGrpSpPr/>
          <p:nvPr/>
        </p:nvGrpSpPr>
        <p:grpSpPr>
          <a:xfrm>
            <a:off x="7848720" y="3736440"/>
            <a:ext cx="152640" cy="149400"/>
            <a:chOff x="7848720" y="3736440"/>
            <a:chExt cx="152640" cy="149400"/>
          </a:xfrm>
        </p:grpSpPr>
        <p:sp>
          <p:nvSpPr>
            <p:cNvPr id="4913" name=""/>
            <p:cNvSpPr/>
            <p:nvPr/>
          </p:nvSpPr>
          <p:spPr>
            <a:xfrm rot="16200000">
              <a:off x="7774200" y="38109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 rot="16200000">
              <a:off x="7926480" y="38109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rot="16200000">
              <a:off x="7887600" y="36975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rot="16200000">
              <a:off x="7887240" y="37720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7" name=""/>
          <p:cNvGrpSpPr/>
          <p:nvPr/>
        </p:nvGrpSpPr>
        <p:grpSpPr>
          <a:xfrm>
            <a:off x="8305920" y="4800240"/>
            <a:ext cx="152640" cy="149400"/>
            <a:chOff x="8305920" y="4800240"/>
            <a:chExt cx="152640" cy="149400"/>
          </a:xfrm>
        </p:grpSpPr>
        <p:sp>
          <p:nvSpPr>
            <p:cNvPr id="4918" name=""/>
            <p:cNvSpPr/>
            <p:nvPr/>
          </p:nvSpPr>
          <p:spPr>
            <a:xfrm rot="16200000">
              <a:off x="823140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 rot="16200000">
              <a:off x="8383680" y="4874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 rot="16200000">
              <a:off x="8344800" y="47613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 rot="16200000">
              <a:off x="8344440" y="4835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2" name=""/>
          <p:cNvGrpSpPr/>
          <p:nvPr/>
        </p:nvGrpSpPr>
        <p:grpSpPr>
          <a:xfrm>
            <a:off x="5943600" y="6019920"/>
            <a:ext cx="152280" cy="152280"/>
            <a:chOff x="5943600" y="6019920"/>
            <a:chExt cx="152280" cy="152280"/>
          </a:xfrm>
        </p:grpSpPr>
        <p:sp>
          <p:nvSpPr>
            <p:cNvPr id="4923" name=""/>
            <p:cNvSpPr/>
            <p:nvPr/>
          </p:nvSpPr>
          <p:spPr>
            <a:xfrm>
              <a:off x="5943600" y="60199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5943600" y="61416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601956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5943600" y="60199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7" name=""/>
          <p:cNvGrpSpPr/>
          <p:nvPr/>
        </p:nvGrpSpPr>
        <p:grpSpPr>
          <a:xfrm>
            <a:off x="6248520" y="5943600"/>
            <a:ext cx="152280" cy="152280"/>
            <a:chOff x="6248520" y="5943600"/>
            <a:chExt cx="152280" cy="152280"/>
          </a:xfrm>
        </p:grpSpPr>
        <p:sp>
          <p:nvSpPr>
            <p:cNvPr id="4928" name=""/>
            <p:cNvSpPr/>
            <p:nvPr/>
          </p:nvSpPr>
          <p:spPr>
            <a:xfrm>
              <a:off x="6248520" y="59436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6248520" y="6065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6324480" y="594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6248520" y="594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2" name=""/>
          <p:cNvGrpSpPr/>
          <p:nvPr/>
        </p:nvGrpSpPr>
        <p:grpSpPr>
          <a:xfrm>
            <a:off x="6477120" y="4191120"/>
            <a:ext cx="152280" cy="152280"/>
            <a:chOff x="6477120" y="4191120"/>
            <a:chExt cx="152280" cy="152280"/>
          </a:xfrm>
        </p:grpSpPr>
        <p:sp>
          <p:nvSpPr>
            <p:cNvPr id="4933" name=""/>
            <p:cNvSpPr/>
            <p:nvPr/>
          </p:nvSpPr>
          <p:spPr>
            <a:xfrm>
              <a:off x="6477120" y="41911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6477120" y="4312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6553080" y="4191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6477120" y="4191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7" name=""/>
          <p:cNvGrpSpPr/>
          <p:nvPr/>
        </p:nvGrpSpPr>
        <p:grpSpPr>
          <a:xfrm>
            <a:off x="7315200" y="3962520"/>
            <a:ext cx="152280" cy="152280"/>
            <a:chOff x="7315200" y="3962520"/>
            <a:chExt cx="152280" cy="152280"/>
          </a:xfrm>
        </p:grpSpPr>
        <p:sp>
          <p:nvSpPr>
            <p:cNvPr id="4938" name=""/>
            <p:cNvSpPr/>
            <p:nvPr/>
          </p:nvSpPr>
          <p:spPr>
            <a:xfrm>
              <a:off x="7315200" y="39625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7315200" y="4084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7391160" y="3962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7315200" y="3962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2" name=""/>
          <p:cNvGrpSpPr/>
          <p:nvPr/>
        </p:nvGrpSpPr>
        <p:grpSpPr>
          <a:xfrm>
            <a:off x="6934320" y="6248520"/>
            <a:ext cx="152280" cy="152280"/>
            <a:chOff x="6934320" y="6248520"/>
            <a:chExt cx="152280" cy="152280"/>
          </a:xfrm>
        </p:grpSpPr>
        <p:sp>
          <p:nvSpPr>
            <p:cNvPr id="4943" name=""/>
            <p:cNvSpPr/>
            <p:nvPr/>
          </p:nvSpPr>
          <p:spPr>
            <a:xfrm>
              <a:off x="6934320" y="62485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6934320" y="6370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7010280" y="6248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6934320" y="6248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7" name=""/>
          <p:cNvGrpSpPr/>
          <p:nvPr/>
        </p:nvGrpSpPr>
        <p:grpSpPr>
          <a:xfrm>
            <a:off x="8077320" y="6248520"/>
            <a:ext cx="152280" cy="152280"/>
            <a:chOff x="8077320" y="6248520"/>
            <a:chExt cx="152280" cy="152280"/>
          </a:xfrm>
        </p:grpSpPr>
        <p:sp>
          <p:nvSpPr>
            <p:cNvPr id="4948" name=""/>
            <p:cNvSpPr/>
            <p:nvPr/>
          </p:nvSpPr>
          <p:spPr>
            <a:xfrm>
              <a:off x="8077320" y="62485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8077320" y="6370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8153280" y="6248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8077320" y="6248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2" name=""/>
          <p:cNvGrpSpPr/>
          <p:nvPr/>
        </p:nvGrpSpPr>
        <p:grpSpPr>
          <a:xfrm>
            <a:off x="7315200" y="5486400"/>
            <a:ext cx="152280" cy="152280"/>
            <a:chOff x="7315200" y="5486400"/>
            <a:chExt cx="152280" cy="152280"/>
          </a:xfrm>
        </p:grpSpPr>
        <p:sp>
          <p:nvSpPr>
            <p:cNvPr id="4953" name=""/>
            <p:cNvSpPr/>
            <p:nvPr/>
          </p:nvSpPr>
          <p:spPr>
            <a:xfrm>
              <a:off x="7315200" y="54864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7315200" y="5608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7391160" y="5486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7315200" y="5486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7" name=""/>
          <p:cNvGrpSpPr/>
          <p:nvPr/>
        </p:nvGrpSpPr>
        <p:grpSpPr>
          <a:xfrm>
            <a:off x="9144000" y="4572000"/>
            <a:ext cx="152280" cy="152280"/>
            <a:chOff x="9144000" y="4572000"/>
            <a:chExt cx="152280" cy="152280"/>
          </a:xfrm>
        </p:grpSpPr>
        <p:sp>
          <p:nvSpPr>
            <p:cNvPr id="4958" name=""/>
            <p:cNvSpPr/>
            <p:nvPr/>
          </p:nvSpPr>
          <p:spPr>
            <a:xfrm>
              <a:off x="9144000" y="45720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9144000" y="46936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9219960" y="4572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9144000" y="4572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2" name=""/>
          <p:cNvGrpSpPr/>
          <p:nvPr/>
        </p:nvGrpSpPr>
        <p:grpSpPr>
          <a:xfrm>
            <a:off x="8915400" y="4571640"/>
            <a:ext cx="152280" cy="152280"/>
            <a:chOff x="8915400" y="4571640"/>
            <a:chExt cx="152280" cy="152280"/>
          </a:xfrm>
        </p:grpSpPr>
        <p:sp>
          <p:nvSpPr>
            <p:cNvPr id="4963" name=""/>
            <p:cNvSpPr/>
            <p:nvPr/>
          </p:nvSpPr>
          <p:spPr>
            <a:xfrm rot="16200000">
              <a:off x="8854200" y="46324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 rot="16200000">
              <a:off x="8976240" y="4632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 rot="16200000">
              <a:off x="8953560" y="4533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 rot="16200000">
              <a:off x="8953560" y="4609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7" name=""/>
          <p:cNvGrpSpPr/>
          <p:nvPr/>
        </p:nvGrpSpPr>
        <p:grpSpPr>
          <a:xfrm>
            <a:off x="8991720" y="3885840"/>
            <a:ext cx="152280" cy="152280"/>
            <a:chOff x="8991720" y="3885840"/>
            <a:chExt cx="152280" cy="152280"/>
          </a:xfrm>
        </p:grpSpPr>
        <p:sp>
          <p:nvSpPr>
            <p:cNvPr id="4968" name=""/>
            <p:cNvSpPr/>
            <p:nvPr/>
          </p:nvSpPr>
          <p:spPr>
            <a:xfrm rot="16200000">
              <a:off x="8930520" y="3946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 rot="16200000">
              <a:off x="9052560" y="39466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 rot="16200000">
              <a:off x="9029880" y="3848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 rot="16200000">
              <a:off x="9029880" y="3924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2" name=""/>
          <p:cNvGrpSpPr/>
          <p:nvPr/>
        </p:nvGrpSpPr>
        <p:grpSpPr>
          <a:xfrm>
            <a:off x="8534520" y="3733560"/>
            <a:ext cx="152280" cy="152280"/>
            <a:chOff x="8534520" y="3733560"/>
            <a:chExt cx="152280" cy="152280"/>
          </a:xfrm>
        </p:grpSpPr>
        <p:sp>
          <p:nvSpPr>
            <p:cNvPr id="4973" name=""/>
            <p:cNvSpPr/>
            <p:nvPr/>
          </p:nvSpPr>
          <p:spPr>
            <a:xfrm rot="16200000">
              <a:off x="8473320" y="37944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 rot="16200000">
              <a:off x="8595360" y="37944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 rot="16200000">
              <a:off x="8572680" y="3695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 rot="16200000">
              <a:off x="8572680" y="37717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7" name=""/>
          <p:cNvGrpSpPr/>
          <p:nvPr/>
        </p:nvGrpSpPr>
        <p:grpSpPr>
          <a:xfrm>
            <a:off x="8229600" y="4572000"/>
            <a:ext cx="74520" cy="149760"/>
            <a:chOff x="8229600" y="4572000"/>
            <a:chExt cx="74520" cy="149760"/>
          </a:xfrm>
        </p:grpSpPr>
        <p:sp>
          <p:nvSpPr>
            <p:cNvPr id="4978" name=""/>
            <p:cNvSpPr/>
            <p:nvPr/>
          </p:nvSpPr>
          <p:spPr>
            <a:xfrm>
              <a:off x="8229600" y="4572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8229600" y="4721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8266680" y="45720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8229600" y="45720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2" name=""/>
          <p:cNvGrpSpPr/>
          <p:nvPr/>
        </p:nvGrpSpPr>
        <p:grpSpPr>
          <a:xfrm>
            <a:off x="8686800" y="5714640"/>
            <a:ext cx="228960" cy="149400"/>
            <a:chOff x="8686800" y="5714640"/>
            <a:chExt cx="228960" cy="149400"/>
          </a:xfrm>
        </p:grpSpPr>
        <p:sp>
          <p:nvSpPr>
            <p:cNvPr id="4983" name=""/>
            <p:cNvSpPr/>
            <p:nvPr/>
          </p:nvSpPr>
          <p:spPr>
            <a:xfrm rot="16200000">
              <a:off x="8612280" y="5789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 rot="16200000">
              <a:off x="8840880" y="5789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 rot="16200000">
              <a:off x="8763840" y="5637600"/>
              <a:ext cx="7452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 rot="16200000">
              <a:off x="8763480" y="571212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7" name=""/>
          <p:cNvGrpSpPr/>
          <p:nvPr/>
        </p:nvGrpSpPr>
        <p:grpSpPr>
          <a:xfrm>
            <a:off x="8991720" y="5486400"/>
            <a:ext cx="149040" cy="228960"/>
            <a:chOff x="8991720" y="5486400"/>
            <a:chExt cx="149040" cy="228960"/>
          </a:xfrm>
        </p:grpSpPr>
        <p:sp>
          <p:nvSpPr>
            <p:cNvPr id="4988" name=""/>
            <p:cNvSpPr/>
            <p:nvPr/>
          </p:nvSpPr>
          <p:spPr>
            <a:xfrm>
              <a:off x="8991720" y="54864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8991720" y="57150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9066600" y="5486400"/>
              <a:ext cx="7416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8991720" y="548640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2" name=""/>
          <p:cNvGrpSpPr/>
          <p:nvPr/>
        </p:nvGrpSpPr>
        <p:grpSpPr>
          <a:xfrm>
            <a:off x="8991720" y="5943600"/>
            <a:ext cx="149040" cy="228960"/>
            <a:chOff x="8991720" y="5943600"/>
            <a:chExt cx="149040" cy="228960"/>
          </a:xfrm>
        </p:grpSpPr>
        <p:sp>
          <p:nvSpPr>
            <p:cNvPr id="4993" name=""/>
            <p:cNvSpPr/>
            <p:nvPr/>
          </p:nvSpPr>
          <p:spPr>
            <a:xfrm>
              <a:off x="8991720" y="59436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8991720" y="61722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9066600" y="5943600"/>
              <a:ext cx="7416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8991720" y="594360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7" name=""/>
          <p:cNvGrpSpPr/>
          <p:nvPr/>
        </p:nvGrpSpPr>
        <p:grpSpPr>
          <a:xfrm>
            <a:off x="9220320" y="5715000"/>
            <a:ext cx="152280" cy="228600"/>
            <a:chOff x="9220320" y="5715000"/>
            <a:chExt cx="152280" cy="228600"/>
          </a:xfrm>
        </p:grpSpPr>
        <p:sp>
          <p:nvSpPr>
            <p:cNvPr id="4998" name=""/>
            <p:cNvSpPr/>
            <p:nvPr/>
          </p:nvSpPr>
          <p:spPr>
            <a:xfrm>
              <a:off x="9220320" y="5715000"/>
              <a:ext cx="152280" cy="45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9220320" y="5897880"/>
              <a:ext cx="152280" cy="45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9296280" y="5715000"/>
              <a:ext cx="75960" cy="228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9220320" y="5715000"/>
              <a:ext cx="75960" cy="228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2" name=""/>
          <p:cNvGrpSpPr/>
          <p:nvPr/>
        </p:nvGrpSpPr>
        <p:grpSpPr>
          <a:xfrm>
            <a:off x="8458200" y="6172200"/>
            <a:ext cx="206280" cy="193680"/>
            <a:chOff x="8458200" y="6172200"/>
            <a:chExt cx="206280" cy="193680"/>
          </a:xfrm>
        </p:grpSpPr>
        <p:sp>
          <p:nvSpPr>
            <p:cNvPr id="5003" name=""/>
            <p:cNvSpPr/>
            <p:nvPr/>
          </p:nvSpPr>
          <p:spPr>
            <a:xfrm rot="16200000">
              <a:off x="8493840" y="631044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 rot="16200000">
              <a:off x="8494200" y="613620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 rot="16200000">
              <a:off x="8384040" y="62460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rot="16200000">
              <a:off x="8429400" y="624636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 rot="16200000">
              <a:off x="8611920" y="625500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 rot="16200000">
              <a:off x="8477280" y="625788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rot="16200000">
              <a:off x="8565480" y="620856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rot="16200000">
              <a:off x="8565120" y="61700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1" name=""/>
          <p:cNvGrpSpPr/>
          <p:nvPr/>
        </p:nvGrpSpPr>
        <p:grpSpPr>
          <a:xfrm>
            <a:off x="7315200" y="3581280"/>
            <a:ext cx="88920" cy="93960"/>
            <a:chOff x="7315200" y="3581280"/>
            <a:chExt cx="88920" cy="93960"/>
          </a:xfrm>
        </p:grpSpPr>
        <p:sp>
          <p:nvSpPr>
            <p:cNvPr id="5012" name=""/>
            <p:cNvSpPr/>
            <p:nvPr/>
          </p:nvSpPr>
          <p:spPr>
            <a:xfrm>
              <a:off x="7315200" y="358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7315200" y="36565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7359480" y="35812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7315200" y="35812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6" name=""/>
          <p:cNvGrpSpPr/>
          <p:nvPr/>
        </p:nvGrpSpPr>
        <p:grpSpPr>
          <a:xfrm>
            <a:off x="7848720" y="3581280"/>
            <a:ext cx="149400" cy="74880"/>
            <a:chOff x="7848720" y="3581280"/>
            <a:chExt cx="149400" cy="74880"/>
          </a:xfrm>
        </p:grpSpPr>
        <p:sp>
          <p:nvSpPr>
            <p:cNvPr id="5017" name=""/>
            <p:cNvSpPr/>
            <p:nvPr/>
          </p:nvSpPr>
          <p:spPr>
            <a:xfrm rot="16200000">
              <a:off x="7811280" y="36183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rot="16200000">
              <a:off x="7960320" y="36183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rot="16200000">
              <a:off x="7904520" y="35258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 rot="16200000">
              <a:off x="7904520" y="35629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1" name=""/>
          <p:cNvGrpSpPr/>
          <p:nvPr/>
        </p:nvGrpSpPr>
        <p:grpSpPr>
          <a:xfrm>
            <a:off x="8077320" y="3428640"/>
            <a:ext cx="152280" cy="152280"/>
            <a:chOff x="8077320" y="3428640"/>
            <a:chExt cx="152280" cy="152280"/>
          </a:xfrm>
        </p:grpSpPr>
        <p:sp>
          <p:nvSpPr>
            <p:cNvPr id="5022" name=""/>
            <p:cNvSpPr/>
            <p:nvPr/>
          </p:nvSpPr>
          <p:spPr>
            <a:xfrm rot="16200000">
              <a:off x="8016120" y="34894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 rot="16200000">
              <a:off x="8138160" y="3489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 rot="16200000">
              <a:off x="8115480" y="3390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rot="16200000">
              <a:off x="8115480" y="3466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6931080" y="2364840"/>
            <a:ext cx="93600" cy="88920"/>
            <a:chOff x="6931080" y="2364840"/>
            <a:chExt cx="93600" cy="88920"/>
          </a:xfrm>
        </p:grpSpPr>
        <p:sp>
          <p:nvSpPr>
            <p:cNvPr id="5027" name=""/>
            <p:cNvSpPr/>
            <p:nvPr/>
          </p:nvSpPr>
          <p:spPr>
            <a:xfrm rot="16200000">
              <a:off x="6895800" y="2400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rot="16200000">
              <a:off x="6970680" y="2399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 rot="16200000">
              <a:off x="6955560" y="2340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 rot="16200000">
              <a:off x="6955560" y="2384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1" name=""/>
          <p:cNvGrpSpPr/>
          <p:nvPr/>
        </p:nvGrpSpPr>
        <p:grpSpPr>
          <a:xfrm>
            <a:off x="6934320" y="2590920"/>
            <a:ext cx="88920" cy="93600"/>
            <a:chOff x="6934320" y="2590920"/>
            <a:chExt cx="88920" cy="93600"/>
          </a:xfrm>
        </p:grpSpPr>
        <p:sp>
          <p:nvSpPr>
            <p:cNvPr id="5032" name=""/>
            <p:cNvSpPr/>
            <p:nvPr/>
          </p:nvSpPr>
          <p:spPr>
            <a:xfrm>
              <a:off x="6934320" y="2590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6934320" y="2665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6978600" y="2590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6934320" y="2590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8759880" y="1679040"/>
            <a:ext cx="93600" cy="88920"/>
            <a:chOff x="8759880" y="1679040"/>
            <a:chExt cx="93600" cy="88920"/>
          </a:xfrm>
        </p:grpSpPr>
        <p:sp>
          <p:nvSpPr>
            <p:cNvPr id="5037" name=""/>
            <p:cNvSpPr/>
            <p:nvPr/>
          </p:nvSpPr>
          <p:spPr>
            <a:xfrm rot="16200000">
              <a:off x="8724600" y="1714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rot="16200000">
              <a:off x="8799480" y="1713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rot="16200000">
              <a:off x="8784360" y="1654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 rot="16200000">
              <a:off x="8784360" y="1698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1" name=""/>
          <p:cNvGrpSpPr/>
          <p:nvPr/>
        </p:nvGrpSpPr>
        <p:grpSpPr>
          <a:xfrm>
            <a:off x="8988480" y="1221840"/>
            <a:ext cx="93600" cy="88920"/>
            <a:chOff x="8988480" y="1221840"/>
            <a:chExt cx="93600" cy="88920"/>
          </a:xfrm>
        </p:grpSpPr>
        <p:sp>
          <p:nvSpPr>
            <p:cNvPr id="5042" name=""/>
            <p:cNvSpPr/>
            <p:nvPr/>
          </p:nvSpPr>
          <p:spPr>
            <a:xfrm rot="16200000">
              <a:off x="8953200" y="1257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 rot="16200000">
              <a:off x="9028080" y="1256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 rot="16200000">
              <a:off x="9012960" y="119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 rot="16200000">
              <a:off x="9012960" y="124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6" name=""/>
          <p:cNvGrpSpPr/>
          <p:nvPr/>
        </p:nvGrpSpPr>
        <p:grpSpPr>
          <a:xfrm>
            <a:off x="8074080" y="2288880"/>
            <a:ext cx="93600" cy="88920"/>
            <a:chOff x="8074080" y="2288880"/>
            <a:chExt cx="93600" cy="88920"/>
          </a:xfrm>
        </p:grpSpPr>
        <p:sp>
          <p:nvSpPr>
            <p:cNvPr id="5047" name=""/>
            <p:cNvSpPr/>
            <p:nvPr/>
          </p:nvSpPr>
          <p:spPr>
            <a:xfrm rot="16200000">
              <a:off x="8038800" y="23241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rot="16200000">
              <a:off x="8113680" y="2323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 rot="16200000">
              <a:off x="8098560" y="226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 rot="16200000">
              <a:off x="8098560" y="2308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1" name=""/>
          <p:cNvGrpSpPr/>
          <p:nvPr/>
        </p:nvGrpSpPr>
        <p:grpSpPr>
          <a:xfrm>
            <a:off x="8074080" y="2060280"/>
            <a:ext cx="93600" cy="88920"/>
            <a:chOff x="8074080" y="2060280"/>
            <a:chExt cx="93600" cy="88920"/>
          </a:xfrm>
        </p:grpSpPr>
        <p:sp>
          <p:nvSpPr>
            <p:cNvPr id="5052" name=""/>
            <p:cNvSpPr/>
            <p:nvPr/>
          </p:nvSpPr>
          <p:spPr>
            <a:xfrm rot="16200000">
              <a:off x="8038800" y="2095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rot="16200000">
              <a:off x="8113680" y="2095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rot="16200000">
              <a:off x="8098560" y="2035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rot="16200000">
              <a:off x="8098560" y="2080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6" name=""/>
          <p:cNvGrpSpPr/>
          <p:nvPr/>
        </p:nvGrpSpPr>
        <p:grpSpPr>
          <a:xfrm>
            <a:off x="8534520" y="2133720"/>
            <a:ext cx="88920" cy="93600"/>
            <a:chOff x="8534520" y="2133720"/>
            <a:chExt cx="88920" cy="93600"/>
          </a:xfrm>
        </p:grpSpPr>
        <p:sp>
          <p:nvSpPr>
            <p:cNvPr id="5057" name=""/>
            <p:cNvSpPr/>
            <p:nvPr/>
          </p:nvSpPr>
          <p:spPr>
            <a:xfrm>
              <a:off x="853452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853452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85788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853452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1" name=""/>
          <p:cNvGrpSpPr/>
          <p:nvPr/>
        </p:nvGrpSpPr>
        <p:grpSpPr>
          <a:xfrm>
            <a:off x="8763120" y="2057400"/>
            <a:ext cx="88920" cy="93600"/>
            <a:chOff x="8763120" y="2057400"/>
            <a:chExt cx="88920" cy="93600"/>
          </a:xfrm>
        </p:grpSpPr>
        <p:sp>
          <p:nvSpPr>
            <p:cNvPr id="5062" name=""/>
            <p:cNvSpPr/>
            <p:nvPr/>
          </p:nvSpPr>
          <p:spPr>
            <a:xfrm>
              <a:off x="8763120" y="2057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8763120" y="2132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8807400" y="2057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8763120" y="2057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6" name=""/>
          <p:cNvGrpSpPr/>
          <p:nvPr/>
        </p:nvGrpSpPr>
        <p:grpSpPr>
          <a:xfrm>
            <a:off x="8305920" y="1676520"/>
            <a:ext cx="88920" cy="93600"/>
            <a:chOff x="8305920" y="1676520"/>
            <a:chExt cx="88920" cy="93600"/>
          </a:xfrm>
        </p:grpSpPr>
        <p:sp>
          <p:nvSpPr>
            <p:cNvPr id="5067" name=""/>
            <p:cNvSpPr/>
            <p:nvPr/>
          </p:nvSpPr>
          <p:spPr>
            <a:xfrm>
              <a:off x="8305920" y="16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8305920" y="175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835020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830592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1" name=""/>
          <p:cNvGrpSpPr/>
          <p:nvPr/>
        </p:nvGrpSpPr>
        <p:grpSpPr>
          <a:xfrm>
            <a:off x="8534520" y="990720"/>
            <a:ext cx="88920" cy="93600"/>
            <a:chOff x="8534520" y="990720"/>
            <a:chExt cx="88920" cy="93600"/>
          </a:xfrm>
        </p:grpSpPr>
        <p:sp>
          <p:nvSpPr>
            <p:cNvPr id="5072" name=""/>
            <p:cNvSpPr/>
            <p:nvPr/>
          </p:nvSpPr>
          <p:spPr>
            <a:xfrm>
              <a:off x="85345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85345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85788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85345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6" name=""/>
          <p:cNvGrpSpPr/>
          <p:nvPr/>
        </p:nvGrpSpPr>
        <p:grpSpPr>
          <a:xfrm>
            <a:off x="8763120" y="533520"/>
            <a:ext cx="88920" cy="93600"/>
            <a:chOff x="8763120" y="533520"/>
            <a:chExt cx="88920" cy="93600"/>
          </a:xfrm>
        </p:grpSpPr>
        <p:sp>
          <p:nvSpPr>
            <p:cNvPr id="5077" name=""/>
            <p:cNvSpPr/>
            <p:nvPr/>
          </p:nvSpPr>
          <p:spPr>
            <a:xfrm>
              <a:off x="8763120" y="533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8763120" y="608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8807400" y="533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8763120" y="533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8991720" y="533520"/>
            <a:ext cx="88920" cy="93600"/>
            <a:chOff x="8991720" y="533520"/>
            <a:chExt cx="88920" cy="93600"/>
          </a:xfrm>
        </p:grpSpPr>
        <p:sp>
          <p:nvSpPr>
            <p:cNvPr id="5082" name=""/>
            <p:cNvSpPr/>
            <p:nvPr/>
          </p:nvSpPr>
          <p:spPr>
            <a:xfrm>
              <a:off x="8991720" y="533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8991720" y="608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9036000" y="533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8991720" y="533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6" name=""/>
          <p:cNvGrpSpPr/>
          <p:nvPr/>
        </p:nvGrpSpPr>
        <p:grpSpPr>
          <a:xfrm>
            <a:off x="8991720" y="762120"/>
            <a:ext cx="88920" cy="93600"/>
            <a:chOff x="8991720" y="762120"/>
            <a:chExt cx="88920" cy="93600"/>
          </a:xfrm>
        </p:grpSpPr>
        <p:sp>
          <p:nvSpPr>
            <p:cNvPr id="5087" name=""/>
            <p:cNvSpPr/>
            <p:nvPr/>
          </p:nvSpPr>
          <p:spPr>
            <a:xfrm>
              <a:off x="8991720" y="762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8991720" y="837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9036000" y="76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8991720" y="76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1" name=""/>
          <p:cNvGrpSpPr/>
          <p:nvPr/>
        </p:nvGrpSpPr>
        <p:grpSpPr>
          <a:xfrm>
            <a:off x="8001000" y="1219320"/>
            <a:ext cx="88920" cy="93600"/>
            <a:chOff x="8001000" y="1219320"/>
            <a:chExt cx="88920" cy="93600"/>
          </a:xfrm>
        </p:grpSpPr>
        <p:sp>
          <p:nvSpPr>
            <p:cNvPr id="5092" name=""/>
            <p:cNvSpPr/>
            <p:nvPr/>
          </p:nvSpPr>
          <p:spPr>
            <a:xfrm>
              <a:off x="8001000" y="1219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8001000" y="1294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804528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800100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6" name=""/>
          <p:cNvGrpSpPr/>
          <p:nvPr/>
        </p:nvGrpSpPr>
        <p:grpSpPr>
          <a:xfrm>
            <a:off x="7845480" y="1450440"/>
            <a:ext cx="93600" cy="88920"/>
            <a:chOff x="7845480" y="1450440"/>
            <a:chExt cx="93600" cy="88920"/>
          </a:xfrm>
        </p:grpSpPr>
        <p:sp>
          <p:nvSpPr>
            <p:cNvPr id="5097" name=""/>
            <p:cNvSpPr/>
            <p:nvPr/>
          </p:nvSpPr>
          <p:spPr>
            <a:xfrm rot="16200000">
              <a:off x="7810200" y="1485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 rot="16200000">
              <a:off x="7885080" y="1485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 rot="16200000">
              <a:off x="7869960" y="142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 rot="16200000">
              <a:off x="7869960" y="147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1" name=""/>
          <p:cNvGrpSpPr/>
          <p:nvPr/>
        </p:nvGrpSpPr>
        <p:grpSpPr>
          <a:xfrm>
            <a:off x="7620120" y="2057400"/>
            <a:ext cx="88920" cy="93600"/>
            <a:chOff x="7620120" y="2057400"/>
            <a:chExt cx="88920" cy="93600"/>
          </a:xfrm>
        </p:grpSpPr>
        <p:sp>
          <p:nvSpPr>
            <p:cNvPr id="5102" name=""/>
            <p:cNvSpPr/>
            <p:nvPr/>
          </p:nvSpPr>
          <p:spPr>
            <a:xfrm>
              <a:off x="7620120" y="2057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7620120" y="2132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7664400" y="2057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7620120" y="2057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6" name=""/>
          <p:cNvGrpSpPr/>
          <p:nvPr/>
        </p:nvGrpSpPr>
        <p:grpSpPr>
          <a:xfrm>
            <a:off x="7616880" y="1907640"/>
            <a:ext cx="93600" cy="88920"/>
            <a:chOff x="7616880" y="1907640"/>
            <a:chExt cx="93600" cy="88920"/>
          </a:xfrm>
        </p:grpSpPr>
        <p:sp>
          <p:nvSpPr>
            <p:cNvPr id="5107" name=""/>
            <p:cNvSpPr/>
            <p:nvPr/>
          </p:nvSpPr>
          <p:spPr>
            <a:xfrm rot="16200000">
              <a:off x="7581600" y="1942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 rot="16200000">
              <a:off x="7656480" y="1942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 rot="16200000">
              <a:off x="7641360" y="1883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 rot="16200000">
              <a:off x="7641360" y="192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1" name=""/>
          <p:cNvGrpSpPr/>
          <p:nvPr/>
        </p:nvGrpSpPr>
        <p:grpSpPr>
          <a:xfrm>
            <a:off x="7848720" y="1905120"/>
            <a:ext cx="88920" cy="93600"/>
            <a:chOff x="7848720" y="1905120"/>
            <a:chExt cx="88920" cy="93600"/>
          </a:xfrm>
        </p:grpSpPr>
        <p:sp>
          <p:nvSpPr>
            <p:cNvPr id="5112" name=""/>
            <p:cNvSpPr/>
            <p:nvPr/>
          </p:nvSpPr>
          <p:spPr>
            <a:xfrm>
              <a:off x="78487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78487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78930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78487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6" name=""/>
          <p:cNvGrpSpPr/>
          <p:nvPr/>
        </p:nvGrpSpPr>
        <p:grpSpPr>
          <a:xfrm>
            <a:off x="7848720" y="990720"/>
            <a:ext cx="88920" cy="93600"/>
            <a:chOff x="7848720" y="990720"/>
            <a:chExt cx="88920" cy="93600"/>
          </a:xfrm>
        </p:grpSpPr>
        <p:sp>
          <p:nvSpPr>
            <p:cNvPr id="5117" name=""/>
            <p:cNvSpPr/>
            <p:nvPr/>
          </p:nvSpPr>
          <p:spPr>
            <a:xfrm>
              <a:off x="78487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78487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78930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78487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1" name=""/>
          <p:cNvGrpSpPr/>
          <p:nvPr/>
        </p:nvGrpSpPr>
        <p:grpSpPr>
          <a:xfrm>
            <a:off x="7616880" y="993240"/>
            <a:ext cx="93600" cy="88920"/>
            <a:chOff x="7616880" y="993240"/>
            <a:chExt cx="93600" cy="88920"/>
          </a:xfrm>
        </p:grpSpPr>
        <p:sp>
          <p:nvSpPr>
            <p:cNvPr id="5122" name=""/>
            <p:cNvSpPr/>
            <p:nvPr/>
          </p:nvSpPr>
          <p:spPr>
            <a:xfrm rot="16200000">
              <a:off x="7581600" y="1028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 rot="16200000">
              <a:off x="7656480" y="1028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rot="16200000">
              <a:off x="7641360" y="968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 rot="16200000">
              <a:off x="7641360" y="1013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6" name=""/>
          <p:cNvGrpSpPr/>
          <p:nvPr/>
        </p:nvGrpSpPr>
        <p:grpSpPr>
          <a:xfrm>
            <a:off x="7848720" y="533520"/>
            <a:ext cx="88920" cy="93600"/>
            <a:chOff x="7848720" y="533520"/>
            <a:chExt cx="88920" cy="93600"/>
          </a:xfrm>
        </p:grpSpPr>
        <p:sp>
          <p:nvSpPr>
            <p:cNvPr id="5127" name=""/>
            <p:cNvSpPr/>
            <p:nvPr/>
          </p:nvSpPr>
          <p:spPr>
            <a:xfrm>
              <a:off x="7848720" y="533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7848720" y="608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7893000" y="533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7848720" y="533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1" name=""/>
          <p:cNvGrpSpPr/>
          <p:nvPr/>
        </p:nvGrpSpPr>
        <p:grpSpPr>
          <a:xfrm>
            <a:off x="7391520" y="2514600"/>
            <a:ext cx="88920" cy="93600"/>
            <a:chOff x="7391520" y="2514600"/>
            <a:chExt cx="88920" cy="93600"/>
          </a:xfrm>
        </p:grpSpPr>
        <p:sp>
          <p:nvSpPr>
            <p:cNvPr id="5132" name=""/>
            <p:cNvSpPr/>
            <p:nvPr/>
          </p:nvSpPr>
          <p:spPr>
            <a:xfrm>
              <a:off x="7391520" y="2514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7391520" y="2589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7435800" y="251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7391520" y="251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6" name=""/>
          <p:cNvGrpSpPr/>
          <p:nvPr/>
        </p:nvGrpSpPr>
        <p:grpSpPr>
          <a:xfrm>
            <a:off x="7162920" y="2057400"/>
            <a:ext cx="88920" cy="93600"/>
            <a:chOff x="7162920" y="2057400"/>
            <a:chExt cx="88920" cy="93600"/>
          </a:xfrm>
        </p:grpSpPr>
        <p:sp>
          <p:nvSpPr>
            <p:cNvPr id="5137" name=""/>
            <p:cNvSpPr/>
            <p:nvPr/>
          </p:nvSpPr>
          <p:spPr>
            <a:xfrm>
              <a:off x="7162920" y="2057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7162920" y="2132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7207200" y="2057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7162920" y="2057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1" name=""/>
          <p:cNvGrpSpPr/>
          <p:nvPr/>
        </p:nvGrpSpPr>
        <p:grpSpPr>
          <a:xfrm>
            <a:off x="7162920" y="2286000"/>
            <a:ext cx="88920" cy="93600"/>
            <a:chOff x="7162920" y="2286000"/>
            <a:chExt cx="88920" cy="93600"/>
          </a:xfrm>
        </p:grpSpPr>
        <p:sp>
          <p:nvSpPr>
            <p:cNvPr id="5142" name=""/>
            <p:cNvSpPr/>
            <p:nvPr/>
          </p:nvSpPr>
          <p:spPr>
            <a:xfrm>
              <a:off x="7162920" y="2286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7162920" y="2360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7207200" y="2286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7162920" y="2286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7391520" y="1447920"/>
            <a:ext cx="88920" cy="93600"/>
            <a:chOff x="7391520" y="1447920"/>
            <a:chExt cx="88920" cy="93600"/>
          </a:xfrm>
        </p:grpSpPr>
        <p:sp>
          <p:nvSpPr>
            <p:cNvPr id="5147" name=""/>
            <p:cNvSpPr/>
            <p:nvPr/>
          </p:nvSpPr>
          <p:spPr>
            <a:xfrm>
              <a:off x="7391520" y="1447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7391520" y="1522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743580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739152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1" name=""/>
          <p:cNvGrpSpPr/>
          <p:nvPr/>
        </p:nvGrpSpPr>
        <p:grpSpPr>
          <a:xfrm>
            <a:off x="7391520" y="990720"/>
            <a:ext cx="88920" cy="93600"/>
            <a:chOff x="7391520" y="990720"/>
            <a:chExt cx="88920" cy="93600"/>
          </a:xfrm>
        </p:grpSpPr>
        <p:sp>
          <p:nvSpPr>
            <p:cNvPr id="5152" name=""/>
            <p:cNvSpPr/>
            <p:nvPr/>
          </p:nvSpPr>
          <p:spPr>
            <a:xfrm>
              <a:off x="73915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73915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74358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73915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7616880" y="764640"/>
            <a:ext cx="93600" cy="88920"/>
            <a:chOff x="7616880" y="764640"/>
            <a:chExt cx="93600" cy="88920"/>
          </a:xfrm>
        </p:grpSpPr>
        <p:sp>
          <p:nvSpPr>
            <p:cNvPr id="5157" name=""/>
            <p:cNvSpPr/>
            <p:nvPr/>
          </p:nvSpPr>
          <p:spPr>
            <a:xfrm rot="16200000">
              <a:off x="7581600" y="79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 rot="16200000">
              <a:off x="7656480" y="799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 rot="16200000">
              <a:off x="7641360" y="740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rot="16200000">
              <a:off x="7641360" y="784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1" name=""/>
          <p:cNvGrpSpPr/>
          <p:nvPr/>
        </p:nvGrpSpPr>
        <p:grpSpPr>
          <a:xfrm>
            <a:off x="6095880" y="2286000"/>
            <a:ext cx="88920" cy="93600"/>
            <a:chOff x="6095880" y="2286000"/>
            <a:chExt cx="88920" cy="93600"/>
          </a:xfrm>
        </p:grpSpPr>
        <p:sp>
          <p:nvSpPr>
            <p:cNvPr id="5162" name=""/>
            <p:cNvSpPr/>
            <p:nvPr/>
          </p:nvSpPr>
          <p:spPr>
            <a:xfrm>
              <a:off x="6095880" y="2286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6095880" y="2360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6140160" y="2286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6095880" y="2286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6" name=""/>
          <p:cNvGrpSpPr/>
          <p:nvPr/>
        </p:nvGrpSpPr>
        <p:grpSpPr>
          <a:xfrm>
            <a:off x="6245280" y="1907640"/>
            <a:ext cx="93600" cy="88920"/>
            <a:chOff x="6245280" y="1907640"/>
            <a:chExt cx="93600" cy="88920"/>
          </a:xfrm>
        </p:grpSpPr>
        <p:sp>
          <p:nvSpPr>
            <p:cNvPr id="5167" name=""/>
            <p:cNvSpPr/>
            <p:nvPr/>
          </p:nvSpPr>
          <p:spPr>
            <a:xfrm rot="16200000">
              <a:off x="6210000" y="1942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 rot="16200000">
              <a:off x="6284880" y="1942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 rot="16200000">
              <a:off x="6269760" y="1883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 rot="16200000">
              <a:off x="6269760" y="192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1" name=""/>
          <p:cNvGrpSpPr/>
          <p:nvPr/>
        </p:nvGrpSpPr>
        <p:grpSpPr>
          <a:xfrm>
            <a:off x="7238880" y="1266840"/>
            <a:ext cx="88920" cy="93600"/>
            <a:chOff x="7238880" y="1266840"/>
            <a:chExt cx="88920" cy="93600"/>
          </a:xfrm>
        </p:grpSpPr>
        <p:sp>
          <p:nvSpPr>
            <p:cNvPr id="5172" name=""/>
            <p:cNvSpPr/>
            <p:nvPr/>
          </p:nvSpPr>
          <p:spPr>
            <a:xfrm>
              <a:off x="7238880" y="1266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7238880" y="1341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7283160" y="1266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7238880" y="1266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6" name=""/>
          <p:cNvGrpSpPr/>
          <p:nvPr/>
        </p:nvGrpSpPr>
        <p:grpSpPr>
          <a:xfrm>
            <a:off x="7159680" y="1679040"/>
            <a:ext cx="93600" cy="88920"/>
            <a:chOff x="7159680" y="1679040"/>
            <a:chExt cx="93600" cy="88920"/>
          </a:xfrm>
        </p:grpSpPr>
        <p:sp>
          <p:nvSpPr>
            <p:cNvPr id="5177" name=""/>
            <p:cNvSpPr/>
            <p:nvPr/>
          </p:nvSpPr>
          <p:spPr>
            <a:xfrm rot="16200000">
              <a:off x="7124400" y="1714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 rot="16200000">
              <a:off x="7199280" y="1713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 rot="16200000">
              <a:off x="7184160" y="1654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 rot="16200000">
              <a:off x="7184160" y="1698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1" name=""/>
          <p:cNvGrpSpPr/>
          <p:nvPr/>
        </p:nvGrpSpPr>
        <p:grpSpPr>
          <a:xfrm>
            <a:off x="7620120" y="1676520"/>
            <a:ext cx="88920" cy="93600"/>
            <a:chOff x="7620120" y="1676520"/>
            <a:chExt cx="88920" cy="93600"/>
          </a:xfrm>
        </p:grpSpPr>
        <p:sp>
          <p:nvSpPr>
            <p:cNvPr id="5182" name=""/>
            <p:cNvSpPr/>
            <p:nvPr/>
          </p:nvSpPr>
          <p:spPr>
            <a:xfrm>
              <a:off x="7620120" y="16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7620120" y="175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766440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762012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6" name=""/>
          <p:cNvGrpSpPr/>
          <p:nvPr/>
        </p:nvGrpSpPr>
        <p:grpSpPr>
          <a:xfrm>
            <a:off x="7159680" y="2746080"/>
            <a:ext cx="93600" cy="88920"/>
            <a:chOff x="7159680" y="2746080"/>
            <a:chExt cx="93600" cy="88920"/>
          </a:xfrm>
        </p:grpSpPr>
        <p:sp>
          <p:nvSpPr>
            <p:cNvPr id="5187" name=""/>
            <p:cNvSpPr/>
            <p:nvPr/>
          </p:nvSpPr>
          <p:spPr>
            <a:xfrm rot="16200000">
              <a:off x="7124400" y="2781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 rot="16200000">
              <a:off x="7199280" y="2781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 rot="16200000">
              <a:off x="7184160" y="272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 rot="16200000">
              <a:off x="7184160" y="2765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1" name=""/>
          <p:cNvGrpSpPr/>
          <p:nvPr/>
        </p:nvGrpSpPr>
        <p:grpSpPr>
          <a:xfrm>
            <a:off x="6248520" y="2743200"/>
            <a:ext cx="88920" cy="93600"/>
            <a:chOff x="6248520" y="2743200"/>
            <a:chExt cx="88920" cy="93600"/>
          </a:xfrm>
        </p:grpSpPr>
        <p:sp>
          <p:nvSpPr>
            <p:cNvPr id="5192" name=""/>
            <p:cNvSpPr/>
            <p:nvPr/>
          </p:nvSpPr>
          <p:spPr>
            <a:xfrm>
              <a:off x="6248520" y="2743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6248520" y="2818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6292800" y="2743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6248520" y="2743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6" name=""/>
          <p:cNvGrpSpPr/>
          <p:nvPr/>
        </p:nvGrpSpPr>
        <p:grpSpPr>
          <a:xfrm>
            <a:off x="5791320" y="990720"/>
            <a:ext cx="88920" cy="93600"/>
            <a:chOff x="5791320" y="990720"/>
            <a:chExt cx="88920" cy="93600"/>
          </a:xfrm>
        </p:grpSpPr>
        <p:sp>
          <p:nvSpPr>
            <p:cNvPr id="5197" name=""/>
            <p:cNvSpPr/>
            <p:nvPr/>
          </p:nvSpPr>
          <p:spPr>
            <a:xfrm>
              <a:off x="57913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57913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58356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57913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1" name=""/>
          <p:cNvGrpSpPr/>
          <p:nvPr/>
        </p:nvGrpSpPr>
        <p:grpSpPr>
          <a:xfrm>
            <a:off x="5791320" y="1371600"/>
            <a:ext cx="88920" cy="93600"/>
            <a:chOff x="5791320" y="1371600"/>
            <a:chExt cx="88920" cy="93600"/>
          </a:xfrm>
        </p:grpSpPr>
        <p:sp>
          <p:nvSpPr>
            <p:cNvPr id="5202" name=""/>
            <p:cNvSpPr/>
            <p:nvPr/>
          </p:nvSpPr>
          <p:spPr>
            <a:xfrm>
              <a:off x="5791320" y="1371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5791320" y="1446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83560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579132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6473880" y="764640"/>
            <a:ext cx="93600" cy="88920"/>
            <a:chOff x="6473880" y="764640"/>
            <a:chExt cx="93600" cy="88920"/>
          </a:xfrm>
        </p:grpSpPr>
        <p:sp>
          <p:nvSpPr>
            <p:cNvPr id="5207" name=""/>
            <p:cNvSpPr/>
            <p:nvPr/>
          </p:nvSpPr>
          <p:spPr>
            <a:xfrm rot="16200000">
              <a:off x="6438600" y="79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 rot="16200000">
              <a:off x="6513480" y="799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rot="16200000">
              <a:off x="6498360" y="740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rot="16200000">
              <a:off x="6498360" y="784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1" name=""/>
          <p:cNvGrpSpPr/>
          <p:nvPr/>
        </p:nvGrpSpPr>
        <p:grpSpPr>
          <a:xfrm>
            <a:off x="6705720" y="762120"/>
            <a:ext cx="88920" cy="93600"/>
            <a:chOff x="6705720" y="762120"/>
            <a:chExt cx="88920" cy="93600"/>
          </a:xfrm>
        </p:grpSpPr>
        <p:sp>
          <p:nvSpPr>
            <p:cNvPr id="5212" name=""/>
            <p:cNvSpPr/>
            <p:nvPr/>
          </p:nvSpPr>
          <p:spPr>
            <a:xfrm>
              <a:off x="6705720" y="762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705720" y="837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6750000" y="76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6705720" y="76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6" name=""/>
          <p:cNvGrpSpPr/>
          <p:nvPr/>
        </p:nvGrpSpPr>
        <p:grpSpPr>
          <a:xfrm>
            <a:off x="6019560" y="1371600"/>
            <a:ext cx="88920" cy="93600"/>
            <a:chOff x="6019560" y="1371600"/>
            <a:chExt cx="88920" cy="93600"/>
          </a:xfrm>
        </p:grpSpPr>
        <p:sp>
          <p:nvSpPr>
            <p:cNvPr id="5217" name=""/>
            <p:cNvSpPr/>
            <p:nvPr/>
          </p:nvSpPr>
          <p:spPr>
            <a:xfrm rot="10800000">
              <a:off x="6019560" y="14468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rot="10800000">
              <a:off x="6019560" y="1371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rot="10800000">
              <a:off x="601992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 rot="10800000">
              <a:off x="606420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1" name=""/>
          <p:cNvGrpSpPr/>
          <p:nvPr/>
        </p:nvGrpSpPr>
        <p:grpSpPr>
          <a:xfrm>
            <a:off x="8229240" y="1143000"/>
            <a:ext cx="174600" cy="176040"/>
            <a:chOff x="8229240" y="1143000"/>
            <a:chExt cx="174600" cy="176040"/>
          </a:xfrm>
        </p:grpSpPr>
        <p:sp>
          <p:nvSpPr>
            <p:cNvPr id="5222" name=""/>
            <p:cNvSpPr/>
            <p:nvPr/>
          </p:nvSpPr>
          <p:spPr>
            <a:xfrm rot="5400000">
              <a:off x="8341200" y="1180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 rot="5400000">
              <a:off x="8316360" y="11559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rot="5400000">
              <a:off x="8291160" y="10807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rot="5400000">
              <a:off x="8266680" y="1256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 rot="5400000">
              <a:off x="8241480" y="12312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 rot="5400000">
              <a:off x="8166240" y="12060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8" name=""/>
          <p:cNvGrpSpPr/>
          <p:nvPr/>
        </p:nvGrpSpPr>
        <p:grpSpPr>
          <a:xfrm>
            <a:off x="8740800" y="685440"/>
            <a:ext cx="174600" cy="176040"/>
            <a:chOff x="8740800" y="685440"/>
            <a:chExt cx="174600" cy="176040"/>
          </a:xfrm>
        </p:grpSpPr>
        <p:sp>
          <p:nvSpPr>
            <p:cNvPr id="5229" name=""/>
            <p:cNvSpPr/>
            <p:nvPr/>
          </p:nvSpPr>
          <p:spPr>
            <a:xfrm rot="16200000">
              <a:off x="8703000" y="7988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 rot="16200000">
              <a:off x="8777880" y="7236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 rot="16200000">
              <a:off x="8802720" y="7488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rot="16200000">
              <a:off x="8852760" y="648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 rot="16200000">
              <a:off x="8777160" y="7232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 rot="16200000">
              <a:off x="8802360" y="7484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8001000" y="3029040"/>
            <a:ext cx="206280" cy="193680"/>
            <a:chOff x="8001000" y="3029040"/>
            <a:chExt cx="206280" cy="193680"/>
          </a:xfrm>
        </p:grpSpPr>
        <p:sp>
          <p:nvSpPr>
            <p:cNvPr id="5236" name=""/>
            <p:cNvSpPr/>
            <p:nvPr/>
          </p:nvSpPr>
          <p:spPr>
            <a:xfrm rot="16200000">
              <a:off x="8036640" y="316728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 rot="16200000">
              <a:off x="8037000" y="299304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 rot="16200000">
              <a:off x="7926840" y="310284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rot="16200000">
              <a:off x="7972200" y="310320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 rot="16200000">
              <a:off x="8154720" y="311184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 rot="16200000">
              <a:off x="8020080" y="311472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 rot="16200000">
              <a:off x="8108280" y="306540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 rot="16200000">
              <a:off x="8107920" y="302688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4" name=""/>
          <p:cNvGrpSpPr/>
          <p:nvPr/>
        </p:nvGrpSpPr>
        <p:grpSpPr>
          <a:xfrm>
            <a:off x="7391520" y="2057040"/>
            <a:ext cx="152280" cy="152280"/>
            <a:chOff x="7391520" y="2057040"/>
            <a:chExt cx="152280" cy="152280"/>
          </a:xfrm>
        </p:grpSpPr>
        <p:sp>
          <p:nvSpPr>
            <p:cNvPr id="5245" name=""/>
            <p:cNvSpPr/>
            <p:nvPr/>
          </p:nvSpPr>
          <p:spPr>
            <a:xfrm rot="16200000">
              <a:off x="7330320" y="2117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rot="16200000">
              <a:off x="7452360" y="2117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rot="16200000">
              <a:off x="7429680" y="2019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 rot="16200000">
              <a:off x="7429680" y="2095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9" name=""/>
          <p:cNvGrpSpPr/>
          <p:nvPr/>
        </p:nvGrpSpPr>
        <p:grpSpPr>
          <a:xfrm>
            <a:off x="7772040" y="2057040"/>
            <a:ext cx="152280" cy="152280"/>
            <a:chOff x="7772040" y="2057040"/>
            <a:chExt cx="152280" cy="152280"/>
          </a:xfrm>
        </p:grpSpPr>
        <p:sp>
          <p:nvSpPr>
            <p:cNvPr id="5250" name=""/>
            <p:cNvSpPr/>
            <p:nvPr/>
          </p:nvSpPr>
          <p:spPr>
            <a:xfrm rot="10800000">
              <a:off x="7772040" y="2179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rot="10800000">
              <a:off x="7772040" y="20570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rot="10800000">
              <a:off x="7772400" y="2057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rot="10800000">
              <a:off x="7848360" y="2057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4" name=""/>
          <p:cNvGrpSpPr/>
          <p:nvPr/>
        </p:nvGrpSpPr>
        <p:grpSpPr>
          <a:xfrm>
            <a:off x="8991360" y="1676160"/>
            <a:ext cx="152280" cy="152280"/>
            <a:chOff x="8991360" y="1676160"/>
            <a:chExt cx="152280" cy="152280"/>
          </a:xfrm>
        </p:grpSpPr>
        <p:sp>
          <p:nvSpPr>
            <p:cNvPr id="5255" name=""/>
            <p:cNvSpPr/>
            <p:nvPr/>
          </p:nvSpPr>
          <p:spPr>
            <a:xfrm rot="10800000">
              <a:off x="8991360" y="1798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rot="10800000">
              <a:off x="8991360" y="16761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rot="10800000">
              <a:off x="8991720" y="16761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 rot="10800000">
              <a:off x="9067680" y="16761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8915400" y="914040"/>
            <a:ext cx="152280" cy="152280"/>
            <a:chOff x="8915400" y="914040"/>
            <a:chExt cx="152280" cy="152280"/>
          </a:xfrm>
        </p:grpSpPr>
        <p:sp>
          <p:nvSpPr>
            <p:cNvPr id="5260" name=""/>
            <p:cNvSpPr/>
            <p:nvPr/>
          </p:nvSpPr>
          <p:spPr>
            <a:xfrm rot="16200000">
              <a:off x="8854200" y="974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rot="16200000">
              <a:off x="8976240" y="974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rot="16200000">
              <a:off x="8953560" y="876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rot="16200000">
              <a:off x="8953560" y="952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4" name=""/>
          <p:cNvGrpSpPr/>
          <p:nvPr/>
        </p:nvGrpSpPr>
        <p:grpSpPr>
          <a:xfrm>
            <a:off x="8686800" y="1828440"/>
            <a:ext cx="152280" cy="152280"/>
            <a:chOff x="8686800" y="1828440"/>
            <a:chExt cx="152280" cy="152280"/>
          </a:xfrm>
        </p:grpSpPr>
        <p:sp>
          <p:nvSpPr>
            <p:cNvPr id="5265" name=""/>
            <p:cNvSpPr/>
            <p:nvPr/>
          </p:nvSpPr>
          <p:spPr>
            <a:xfrm rot="16200000">
              <a:off x="8625600" y="18892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 rot="16200000">
              <a:off x="8747640" y="1889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 rot="16200000">
              <a:off x="8724960" y="1790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rot="16200000">
              <a:off x="8724960" y="1866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9" name=""/>
          <p:cNvGrpSpPr/>
          <p:nvPr/>
        </p:nvGrpSpPr>
        <p:grpSpPr>
          <a:xfrm>
            <a:off x="7772040" y="2285640"/>
            <a:ext cx="152280" cy="152280"/>
            <a:chOff x="7772040" y="2285640"/>
            <a:chExt cx="152280" cy="152280"/>
          </a:xfrm>
        </p:grpSpPr>
        <p:sp>
          <p:nvSpPr>
            <p:cNvPr id="5270" name=""/>
            <p:cNvSpPr/>
            <p:nvPr/>
          </p:nvSpPr>
          <p:spPr>
            <a:xfrm rot="10800000">
              <a:off x="7772040" y="2407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 rot="10800000">
              <a:off x="7772040" y="22856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rot="10800000">
              <a:off x="7772400" y="2285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 rot="10800000">
              <a:off x="7848360" y="2285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4" name=""/>
          <p:cNvGrpSpPr/>
          <p:nvPr/>
        </p:nvGrpSpPr>
        <p:grpSpPr>
          <a:xfrm>
            <a:off x="8686800" y="1371240"/>
            <a:ext cx="152280" cy="152280"/>
            <a:chOff x="8686800" y="1371240"/>
            <a:chExt cx="152280" cy="152280"/>
          </a:xfrm>
        </p:grpSpPr>
        <p:sp>
          <p:nvSpPr>
            <p:cNvPr id="5275" name=""/>
            <p:cNvSpPr/>
            <p:nvPr/>
          </p:nvSpPr>
          <p:spPr>
            <a:xfrm rot="16200000">
              <a:off x="8625600" y="1432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rot="16200000">
              <a:off x="8747640" y="1432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 rot="16200000">
              <a:off x="8724960" y="1333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 rot="16200000">
              <a:off x="8724960" y="1409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9" name=""/>
          <p:cNvGrpSpPr/>
          <p:nvPr/>
        </p:nvGrpSpPr>
        <p:grpSpPr>
          <a:xfrm>
            <a:off x="7848360" y="761760"/>
            <a:ext cx="152280" cy="152280"/>
            <a:chOff x="7848360" y="761760"/>
            <a:chExt cx="152280" cy="152280"/>
          </a:xfrm>
        </p:grpSpPr>
        <p:sp>
          <p:nvSpPr>
            <p:cNvPr id="5280" name=""/>
            <p:cNvSpPr/>
            <p:nvPr/>
          </p:nvSpPr>
          <p:spPr>
            <a:xfrm rot="10800000">
              <a:off x="7848360" y="883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 rot="10800000">
              <a:off x="7848360" y="7617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 rot="10800000">
              <a:off x="7848720" y="761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rot="10800000">
              <a:off x="7924680" y="761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4" name=""/>
          <p:cNvGrpSpPr/>
          <p:nvPr/>
        </p:nvGrpSpPr>
        <p:grpSpPr>
          <a:xfrm>
            <a:off x="7619760" y="1142640"/>
            <a:ext cx="152280" cy="152280"/>
            <a:chOff x="7619760" y="1142640"/>
            <a:chExt cx="152280" cy="152280"/>
          </a:xfrm>
        </p:grpSpPr>
        <p:sp>
          <p:nvSpPr>
            <p:cNvPr id="5285" name=""/>
            <p:cNvSpPr/>
            <p:nvPr/>
          </p:nvSpPr>
          <p:spPr>
            <a:xfrm rot="10800000">
              <a:off x="7619760" y="1264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 rot="10800000">
              <a:off x="7619760" y="11426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 rot="10800000">
              <a:off x="7620120" y="1142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 rot="10800000">
              <a:off x="7696080" y="1142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9" name=""/>
          <p:cNvGrpSpPr/>
          <p:nvPr/>
        </p:nvGrpSpPr>
        <p:grpSpPr>
          <a:xfrm>
            <a:off x="6477120" y="2133360"/>
            <a:ext cx="152280" cy="152280"/>
            <a:chOff x="6477120" y="2133360"/>
            <a:chExt cx="152280" cy="152280"/>
          </a:xfrm>
        </p:grpSpPr>
        <p:sp>
          <p:nvSpPr>
            <p:cNvPr id="5290" name=""/>
            <p:cNvSpPr/>
            <p:nvPr/>
          </p:nvSpPr>
          <p:spPr>
            <a:xfrm rot="16200000">
              <a:off x="6415920" y="2194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rot="16200000">
              <a:off x="6537960" y="2194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rot="16200000">
              <a:off x="6515280" y="20955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 rot="16200000">
              <a:off x="6515280" y="2171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4" name=""/>
          <p:cNvGrpSpPr/>
          <p:nvPr/>
        </p:nvGrpSpPr>
        <p:grpSpPr>
          <a:xfrm>
            <a:off x="6400800" y="1904760"/>
            <a:ext cx="152280" cy="152280"/>
            <a:chOff x="6400800" y="1904760"/>
            <a:chExt cx="152280" cy="152280"/>
          </a:xfrm>
        </p:grpSpPr>
        <p:sp>
          <p:nvSpPr>
            <p:cNvPr id="5295" name=""/>
            <p:cNvSpPr/>
            <p:nvPr/>
          </p:nvSpPr>
          <p:spPr>
            <a:xfrm rot="16200000">
              <a:off x="6339600" y="19656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 rot="16200000">
              <a:off x="6461640" y="19656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rot="16200000">
              <a:off x="6438960" y="1866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rot="16200000">
              <a:off x="6438960" y="19429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9" name=""/>
          <p:cNvGrpSpPr/>
          <p:nvPr/>
        </p:nvGrpSpPr>
        <p:grpSpPr>
          <a:xfrm>
            <a:off x="6400800" y="914040"/>
            <a:ext cx="152280" cy="152280"/>
            <a:chOff x="6400800" y="914040"/>
            <a:chExt cx="152280" cy="152280"/>
          </a:xfrm>
        </p:grpSpPr>
        <p:sp>
          <p:nvSpPr>
            <p:cNvPr id="5300" name=""/>
            <p:cNvSpPr/>
            <p:nvPr/>
          </p:nvSpPr>
          <p:spPr>
            <a:xfrm rot="16200000">
              <a:off x="6339600" y="974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 rot="16200000">
              <a:off x="6461640" y="974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rot="16200000">
              <a:off x="6438960" y="876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 rot="16200000">
              <a:off x="6438960" y="952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4" name=""/>
          <p:cNvGrpSpPr/>
          <p:nvPr/>
        </p:nvGrpSpPr>
        <p:grpSpPr>
          <a:xfrm>
            <a:off x="6171840" y="914400"/>
            <a:ext cx="174600" cy="176040"/>
            <a:chOff x="6171840" y="914400"/>
            <a:chExt cx="174600" cy="176040"/>
          </a:xfrm>
        </p:grpSpPr>
        <p:sp>
          <p:nvSpPr>
            <p:cNvPr id="5305" name=""/>
            <p:cNvSpPr/>
            <p:nvPr/>
          </p:nvSpPr>
          <p:spPr>
            <a:xfrm rot="5400000">
              <a:off x="6283800" y="9522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 rot="5400000">
              <a:off x="6258960" y="9273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 rot="5400000">
              <a:off x="6233760" y="8521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rot="5400000">
              <a:off x="6209280" y="10278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rot="5400000">
              <a:off x="6184080" y="10026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 rot="5400000">
              <a:off x="6108840" y="9774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1" name=""/>
          <p:cNvGrpSpPr/>
          <p:nvPr/>
        </p:nvGrpSpPr>
        <p:grpSpPr>
          <a:xfrm>
            <a:off x="8002080" y="1826640"/>
            <a:ext cx="149400" cy="152640"/>
            <a:chOff x="8002080" y="1826640"/>
            <a:chExt cx="149400" cy="152640"/>
          </a:xfrm>
        </p:grpSpPr>
        <p:sp>
          <p:nvSpPr>
            <p:cNvPr id="5312" name=""/>
            <p:cNvSpPr/>
            <p:nvPr/>
          </p:nvSpPr>
          <p:spPr>
            <a:xfrm rot="10800000">
              <a:off x="8002080" y="19789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rot="10800000">
              <a:off x="8002080" y="182664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rot="10800000">
              <a:off x="8002080" y="182700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rot="10800000">
              <a:off x="8076600" y="18270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6" name=""/>
          <p:cNvGrpSpPr/>
          <p:nvPr/>
        </p:nvGrpSpPr>
        <p:grpSpPr>
          <a:xfrm>
            <a:off x="7620120" y="1371240"/>
            <a:ext cx="152640" cy="149400"/>
            <a:chOff x="7620120" y="1371240"/>
            <a:chExt cx="152640" cy="149400"/>
          </a:xfrm>
        </p:grpSpPr>
        <p:sp>
          <p:nvSpPr>
            <p:cNvPr id="5317" name=""/>
            <p:cNvSpPr/>
            <p:nvPr/>
          </p:nvSpPr>
          <p:spPr>
            <a:xfrm rot="16200000">
              <a:off x="7545600" y="1445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 rot="16200000">
              <a:off x="7697880" y="14457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rot="16200000">
              <a:off x="7659000" y="13323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 rot="16200000">
              <a:off x="7658640" y="1406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1" name=""/>
          <p:cNvGrpSpPr/>
          <p:nvPr/>
        </p:nvGrpSpPr>
        <p:grpSpPr>
          <a:xfrm>
            <a:off x="7392600" y="683640"/>
            <a:ext cx="149400" cy="152640"/>
            <a:chOff x="7392600" y="683640"/>
            <a:chExt cx="149400" cy="152640"/>
          </a:xfrm>
        </p:grpSpPr>
        <p:sp>
          <p:nvSpPr>
            <p:cNvPr id="5322" name=""/>
            <p:cNvSpPr/>
            <p:nvPr/>
          </p:nvSpPr>
          <p:spPr>
            <a:xfrm rot="10800000">
              <a:off x="7392600" y="8359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 rot="10800000">
              <a:off x="7392600" y="68364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 rot="10800000">
              <a:off x="7392600" y="68400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rot="10800000">
              <a:off x="7467120" y="6840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6" name=""/>
          <p:cNvGrpSpPr/>
          <p:nvPr/>
        </p:nvGrpSpPr>
        <p:grpSpPr>
          <a:xfrm>
            <a:off x="6859080" y="531360"/>
            <a:ext cx="149400" cy="153000"/>
            <a:chOff x="6859080" y="531360"/>
            <a:chExt cx="149400" cy="153000"/>
          </a:xfrm>
        </p:grpSpPr>
        <p:sp>
          <p:nvSpPr>
            <p:cNvPr id="5327" name=""/>
            <p:cNvSpPr/>
            <p:nvPr/>
          </p:nvSpPr>
          <p:spPr>
            <a:xfrm rot="10800000">
              <a:off x="6859080" y="68400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 rot="10800000">
              <a:off x="6859080" y="5313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 rot="10800000">
              <a:off x="6859080" y="531720"/>
              <a:ext cx="74520" cy="1526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 rot="10800000">
              <a:off x="6933600" y="531720"/>
              <a:ext cx="74880" cy="1526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1" name=""/>
          <p:cNvGrpSpPr/>
          <p:nvPr/>
        </p:nvGrpSpPr>
        <p:grpSpPr>
          <a:xfrm>
            <a:off x="8459280" y="1140840"/>
            <a:ext cx="149400" cy="152640"/>
            <a:chOff x="8459280" y="1140840"/>
            <a:chExt cx="149400" cy="152640"/>
          </a:xfrm>
        </p:grpSpPr>
        <p:sp>
          <p:nvSpPr>
            <p:cNvPr id="5332" name=""/>
            <p:cNvSpPr/>
            <p:nvPr/>
          </p:nvSpPr>
          <p:spPr>
            <a:xfrm rot="10800000">
              <a:off x="8459280" y="12931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 rot="10800000">
              <a:off x="8459280" y="114084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 rot="10800000">
              <a:off x="8459280" y="114120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 rot="10800000">
              <a:off x="8533800" y="11412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6" name=""/>
          <p:cNvGrpSpPr/>
          <p:nvPr/>
        </p:nvGrpSpPr>
        <p:grpSpPr>
          <a:xfrm>
            <a:off x="8458200" y="1905120"/>
            <a:ext cx="152640" cy="149040"/>
            <a:chOff x="8458200" y="1905120"/>
            <a:chExt cx="152640" cy="149040"/>
          </a:xfrm>
        </p:grpSpPr>
        <p:sp>
          <p:nvSpPr>
            <p:cNvPr id="5337" name=""/>
            <p:cNvSpPr/>
            <p:nvPr/>
          </p:nvSpPr>
          <p:spPr>
            <a:xfrm rot="16200000">
              <a:off x="8383680" y="19792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 rot="16200000">
              <a:off x="8535960" y="19792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rot="16200000">
              <a:off x="8497080" y="18658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rot="16200000">
              <a:off x="8496720" y="19404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6477120" y="2362320"/>
            <a:ext cx="152640" cy="149040"/>
            <a:chOff x="6477120" y="2362320"/>
            <a:chExt cx="152640" cy="149040"/>
          </a:xfrm>
        </p:grpSpPr>
        <p:sp>
          <p:nvSpPr>
            <p:cNvPr id="5342" name=""/>
            <p:cNvSpPr/>
            <p:nvPr/>
          </p:nvSpPr>
          <p:spPr>
            <a:xfrm rot="16200000">
              <a:off x="6402600" y="2436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 rot="16200000">
              <a:off x="6554880" y="2436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 rot="16200000">
              <a:off x="6516000" y="23230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 rot="16200000">
              <a:off x="6515640" y="23976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6" name=""/>
          <p:cNvGrpSpPr/>
          <p:nvPr/>
        </p:nvGrpSpPr>
        <p:grpSpPr>
          <a:xfrm>
            <a:off x="6248520" y="2362320"/>
            <a:ext cx="152640" cy="149040"/>
            <a:chOff x="6248520" y="2362320"/>
            <a:chExt cx="152640" cy="149040"/>
          </a:xfrm>
        </p:grpSpPr>
        <p:sp>
          <p:nvSpPr>
            <p:cNvPr id="5347" name=""/>
            <p:cNvSpPr/>
            <p:nvPr/>
          </p:nvSpPr>
          <p:spPr>
            <a:xfrm rot="16200000">
              <a:off x="6174000" y="2436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rot="16200000">
              <a:off x="6326280" y="24364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rot="16200000">
              <a:off x="6287400" y="232308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 rot="16200000">
              <a:off x="6287040" y="23976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1" name=""/>
          <p:cNvGrpSpPr/>
          <p:nvPr/>
        </p:nvGrpSpPr>
        <p:grpSpPr>
          <a:xfrm>
            <a:off x="5791320" y="2971800"/>
            <a:ext cx="74520" cy="149760"/>
            <a:chOff x="5791320" y="2971800"/>
            <a:chExt cx="74520" cy="149760"/>
          </a:xfrm>
        </p:grpSpPr>
        <p:sp>
          <p:nvSpPr>
            <p:cNvPr id="5352" name=""/>
            <p:cNvSpPr/>
            <p:nvPr/>
          </p:nvSpPr>
          <p:spPr>
            <a:xfrm>
              <a:off x="5791320" y="2971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791320" y="3121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5828400" y="2971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5791320" y="2971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6629400" y="2971800"/>
            <a:ext cx="74520" cy="149760"/>
            <a:chOff x="6629400" y="2971800"/>
            <a:chExt cx="74520" cy="149760"/>
          </a:xfrm>
        </p:grpSpPr>
        <p:sp>
          <p:nvSpPr>
            <p:cNvPr id="5357" name=""/>
            <p:cNvSpPr/>
            <p:nvPr/>
          </p:nvSpPr>
          <p:spPr>
            <a:xfrm>
              <a:off x="6629400" y="2971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6629400" y="3121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6666480" y="2971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6629400" y="2971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1" name=""/>
          <p:cNvGrpSpPr/>
          <p:nvPr/>
        </p:nvGrpSpPr>
        <p:grpSpPr>
          <a:xfrm>
            <a:off x="8534520" y="2971800"/>
            <a:ext cx="74520" cy="149760"/>
            <a:chOff x="8534520" y="2971800"/>
            <a:chExt cx="74520" cy="149760"/>
          </a:xfrm>
        </p:grpSpPr>
        <p:sp>
          <p:nvSpPr>
            <p:cNvPr id="5362" name=""/>
            <p:cNvSpPr/>
            <p:nvPr/>
          </p:nvSpPr>
          <p:spPr>
            <a:xfrm>
              <a:off x="8534520" y="2971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8534520" y="3121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8571600" y="2971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8534520" y="2971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7391520" y="1143000"/>
            <a:ext cx="74520" cy="149760"/>
            <a:chOff x="7391520" y="1143000"/>
            <a:chExt cx="74520" cy="149760"/>
          </a:xfrm>
        </p:grpSpPr>
        <p:sp>
          <p:nvSpPr>
            <p:cNvPr id="5367" name=""/>
            <p:cNvSpPr/>
            <p:nvPr/>
          </p:nvSpPr>
          <p:spPr>
            <a:xfrm>
              <a:off x="7391520" y="1143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7391520" y="1292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7428600" y="11430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7391520" y="11430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5791320" y="1828800"/>
            <a:ext cx="74520" cy="149760"/>
            <a:chOff x="5791320" y="1828800"/>
            <a:chExt cx="74520" cy="149760"/>
          </a:xfrm>
        </p:grpSpPr>
        <p:sp>
          <p:nvSpPr>
            <p:cNvPr id="5372" name=""/>
            <p:cNvSpPr/>
            <p:nvPr/>
          </p:nvSpPr>
          <p:spPr>
            <a:xfrm>
              <a:off x="5791320" y="1828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5791320" y="1978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5828400" y="1828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5791320" y="1828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6" name=""/>
          <p:cNvGrpSpPr/>
          <p:nvPr/>
        </p:nvGrpSpPr>
        <p:grpSpPr>
          <a:xfrm>
            <a:off x="8305920" y="2286000"/>
            <a:ext cx="74520" cy="149760"/>
            <a:chOff x="8305920" y="2286000"/>
            <a:chExt cx="74520" cy="149760"/>
          </a:xfrm>
        </p:grpSpPr>
        <p:sp>
          <p:nvSpPr>
            <p:cNvPr id="5377" name=""/>
            <p:cNvSpPr/>
            <p:nvPr/>
          </p:nvSpPr>
          <p:spPr>
            <a:xfrm>
              <a:off x="8305920" y="2286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8305920" y="2435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8343000" y="22860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8305920" y="22860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1" name=""/>
          <p:cNvGrpSpPr/>
          <p:nvPr/>
        </p:nvGrpSpPr>
        <p:grpSpPr>
          <a:xfrm>
            <a:off x="7162920" y="2514600"/>
            <a:ext cx="74520" cy="149760"/>
            <a:chOff x="7162920" y="2514600"/>
            <a:chExt cx="74520" cy="149760"/>
          </a:xfrm>
        </p:grpSpPr>
        <p:sp>
          <p:nvSpPr>
            <p:cNvPr id="5382" name=""/>
            <p:cNvSpPr/>
            <p:nvPr/>
          </p:nvSpPr>
          <p:spPr>
            <a:xfrm>
              <a:off x="7162920" y="2514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7162920" y="2664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7200000" y="25146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7162920" y="25146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6" name=""/>
          <p:cNvGrpSpPr/>
          <p:nvPr/>
        </p:nvGrpSpPr>
        <p:grpSpPr>
          <a:xfrm>
            <a:off x="6934320" y="1828800"/>
            <a:ext cx="74520" cy="149760"/>
            <a:chOff x="6934320" y="1828800"/>
            <a:chExt cx="74520" cy="149760"/>
          </a:xfrm>
        </p:grpSpPr>
        <p:sp>
          <p:nvSpPr>
            <p:cNvPr id="5387" name=""/>
            <p:cNvSpPr/>
            <p:nvPr/>
          </p:nvSpPr>
          <p:spPr>
            <a:xfrm>
              <a:off x="6934320" y="1828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934320" y="1978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6971400" y="1828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6934320" y="1828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1" name=""/>
          <p:cNvGrpSpPr/>
          <p:nvPr/>
        </p:nvGrpSpPr>
        <p:grpSpPr>
          <a:xfrm>
            <a:off x="8763120" y="990720"/>
            <a:ext cx="74520" cy="149400"/>
            <a:chOff x="8763120" y="990720"/>
            <a:chExt cx="74520" cy="149400"/>
          </a:xfrm>
        </p:grpSpPr>
        <p:sp>
          <p:nvSpPr>
            <p:cNvPr id="5392" name=""/>
            <p:cNvSpPr/>
            <p:nvPr/>
          </p:nvSpPr>
          <p:spPr>
            <a:xfrm>
              <a:off x="8763120" y="990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8763120" y="1139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8800200" y="9907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8763120" y="9907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6" name=""/>
          <p:cNvGrpSpPr/>
          <p:nvPr/>
        </p:nvGrpSpPr>
        <p:grpSpPr>
          <a:xfrm>
            <a:off x="4952880" y="1828800"/>
            <a:ext cx="74880" cy="152280"/>
            <a:chOff x="4952880" y="1828800"/>
            <a:chExt cx="74880" cy="152280"/>
          </a:xfrm>
        </p:grpSpPr>
        <p:sp>
          <p:nvSpPr>
            <p:cNvPr id="5397" name=""/>
            <p:cNvSpPr/>
            <p:nvPr/>
          </p:nvSpPr>
          <p:spPr>
            <a:xfrm>
              <a:off x="4952880" y="18288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4952880" y="195048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990320" y="182880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4952880" y="182880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1" name=""/>
          <p:cNvGrpSpPr/>
          <p:nvPr/>
        </p:nvGrpSpPr>
        <p:grpSpPr>
          <a:xfrm>
            <a:off x="6019920" y="1218960"/>
            <a:ext cx="152280" cy="74520"/>
            <a:chOff x="6019920" y="1218960"/>
            <a:chExt cx="152280" cy="74520"/>
          </a:xfrm>
        </p:grpSpPr>
        <p:sp>
          <p:nvSpPr>
            <p:cNvPr id="5402" name=""/>
            <p:cNvSpPr/>
            <p:nvPr/>
          </p:nvSpPr>
          <p:spPr>
            <a:xfrm rot="16200000">
              <a:off x="5997600" y="12409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rot="16200000">
              <a:off x="6119640" y="1240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 rot="16200000">
              <a:off x="6077520" y="1161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 rot="16200000">
              <a:off x="6077520" y="1198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6" name=""/>
          <p:cNvGrpSpPr/>
          <p:nvPr/>
        </p:nvGrpSpPr>
        <p:grpSpPr>
          <a:xfrm>
            <a:off x="7162920" y="1523880"/>
            <a:ext cx="152280" cy="74880"/>
            <a:chOff x="7162920" y="1523880"/>
            <a:chExt cx="152280" cy="74880"/>
          </a:xfrm>
        </p:grpSpPr>
        <p:sp>
          <p:nvSpPr>
            <p:cNvPr id="5407" name=""/>
            <p:cNvSpPr/>
            <p:nvPr/>
          </p:nvSpPr>
          <p:spPr>
            <a:xfrm rot="16200000">
              <a:off x="7140600" y="15462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rot="16200000">
              <a:off x="7262280" y="15458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rot="16200000">
              <a:off x="7220160" y="14662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rot="16200000">
              <a:off x="7220160" y="15037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1" name=""/>
          <p:cNvGrpSpPr/>
          <p:nvPr/>
        </p:nvGrpSpPr>
        <p:grpSpPr>
          <a:xfrm>
            <a:off x="6400800" y="2971440"/>
            <a:ext cx="152280" cy="74520"/>
            <a:chOff x="6400800" y="2971440"/>
            <a:chExt cx="152280" cy="74520"/>
          </a:xfrm>
        </p:grpSpPr>
        <p:sp>
          <p:nvSpPr>
            <p:cNvPr id="5412" name=""/>
            <p:cNvSpPr/>
            <p:nvPr/>
          </p:nvSpPr>
          <p:spPr>
            <a:xfrm rot="16200000">
              <a:off x="6378480" y="29934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rot="16200000">
              <a:off x="6500520" y="29934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rot="16200000">
              <a:off x="6458400" y="2914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rot="16200000">
              <a:off x="6458400" y="2951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6" name=""/>
          <p:cNvGrpSpPr/>
          <p:nvPr/>
        </p:nvGrpSpPr>
        <p:grpSpPr>
          <a:xfrm>
            <a:off x="7772400" y="2971800"/>
            <a:ext cx="74520" cy="152280"/>
            <a:chOff x="7772400" y="2971800"/>
            <a:chExt cx="74520" cy="152280"/>
          </a:xfrm>
        </p:grpSpPr>
        <p:sp>
          <p:nvSpPr>
            <p:cNvPr id="5417" name=""/>
            <p:cNvSpPr/>
            <p:nvPr/>
          </p:nvSpPr>
          <p:spPr>
            <a:xfrm>
              <a:off x="7772400" y="2971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7772400" y="30934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7809480" y="2971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7772400" y="2971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1" name=""/>
          <p:cNvGrpSpPr/>
          <p:nvPr/>
        </p:nvGrpSpPr>
        <p:grpSpPr>
          <a:xfrm>
            <a:off x="8381880" y="3048120"/>
            <a:ext cx="74880" cy="152280"/>
            <a:chOff x="8381880" y="3048120"/>
            <a:chExt cx="74880" cy="152280"/>
          </a:xfrm>
        </p:grpSpPr>
        <p:sp>
          <p:nvSpPr>
            <p:cNvPr id="5422" name=""/>
            <p:cNvSpPr/>
            <p:nvPr/>
          </p:nvSpPr>
          <p:spPr>
            <a:xfrm>
              <a:off x="8381880" y="304812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8381880" y="316980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8419320" y="30481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8381880" y="30481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6" name=""/>
          <p:cNvGrpSpPr/>
          <p:nvPr/>
        </p:nvGrpSpPr>
        <p:grpSpPr>
          <a:xfrm>
            <a:off x="8534520" y="2743200"/>
            <a:ext cx="74520" cy="152280"/>
            <a:chOff x="8534520" y="2743200"/>
            <a:chExt cx="74520" cy="152280"/>
          </a:xfrm>
        </p:grpSpPr>
        <p:sp>
          <p:nvSpPr>
            <p:cNvPr id="5427" name=""/>
            <p:cNvSpPr/>
            <p:nvPr/>
          </p:nvSpPr>
          <p:spPr>
            <a:xfrm>
              <a:off x="8534520" y="27432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8534520" y="2864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8571600" y="2743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8534520" y="2743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1" name=""/>
          <p:cNvGrpSpPr/>
          <p:nvPr/>
        </p:nvGrpSpPr>
        <p:grpSpPr>
          <a:xfrm>
            <a:off x="8077320" y="990720"/>
            <a:ext cx="74520" cy="152280"/>
            <a:chOff x="8077320" y="990720"/>
            <a:chExt cx="74520" cy="152280"/>
          </a:xfrm>
        </p:grpSpPr>
        <p:sp>
          <p:nvSpPr>
            <p:cNvPr id="5432" name=""/>
            <p:cNvSpPr/>
            <p:nvPr/>
          </p:nvSpPr>
          <p:spPr>
            <a:xfrm>
              <a:off x="8077320" y="990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8077320" y="11124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8114400" y="990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8077320" y="990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6" name=""/>
          <p:cNvGrpSpPr/>
          <p:nvPr/>
        </p:nvGrpSpPr>
        <p:grpSpPr>
          <a:xfrm>
            <a:off x="6248520" y="761760"/>
            <a:ext cx="152280" cy="74520"/>
            <a:chOff x="6248520" y="761760"/>
            <a:chExt cx="152280" cy="74520"/>
          </a:xfrm>
        </p:grpSpPr>
        <p:sp>
          <p:nvSpPr>
            <p:cNvPr id="5437" name=""/>
            <p:cNvSpPr/>
            <p:nvPr/>
          </p:nvSpPr>
          <p:spPr>
            <a:xfrm rot="16200000">
              <a:off x="6226200" y="783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 rot="16200000">
              <a:off x="6348240" y="783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rot="16200000">
              <a:off x="6306120" y="704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 rot="16200000">
              <a:off x="6306120" y="741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1" name=""/>
          <p:cNvGrpSpPr/>
          <p:nvPr/>
        </p:nvGrpSpPr>
        <p:grpSpPr>
          <a:xfrm>
            <a:off x="8305920" y="761760"/>
            <a:ext cx="149400" cy="74520"/>
            <a:chOff x="8305920" y="761760"/>
            <a:chExt cx="149400" cy="74520"/>
          </a:xfrm>
        </p:grpSpPr>
        <p:sp>
          <p:nvSpPr>
            <p:cNvPr id="5442" name=""/>
            <p:cNvSpPr/>
            <p:nvPr/>
          </p:nvSpPr>
          <p:spPr>
            <a:xfrm rot="16200000">
              <a:off x="8268840" y="798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 rot="16200000">
              <a:off x="8417880" y="798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rot="16200000">
              <a:off x="8361720" y="7059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 rot="16200000">
              <a:off x="8361720" y="7430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6" name=""/>
          <p:cNvGrpSpPr/>
          <p:nvPr/>
        </p:nvGrpSpPr>
        <p:grpSpPr>
          <a:xfrm>
            <a:off x="7391520" y="533160"/>
            <a:ext cx="149400" cy="74520"/>
            <a:chOff x="7391520" y="533160"/>
            <a:chExt cx="149400" cy="74520"/>
          </a:xfrm>
        </p:grpSpPr>
        <p:sp>
          <p:nvSpPr>
            <p:cNvPr id="5447" name=""/>
            <p:cNvSpPr/>
            <p:nvPr/>
          </p:nvSpPr>
          <p:spPr>
            <a:xfrm rot="16200000">
              <a:off x="7354440" y="570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 rot="16200000">
              <a:off x="7503480" y="570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rot="16200000">
              <a:off x="7447320" y="4773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rot="16200000">
              <a:off x="7447320" y="5144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1" name=""/>
          <p:cNvGrpSpPr/>
          <p:nvPr/>
        </p:nvGrpSpPr>
        <p:grpSpPr>
          <a:xfrm>
            <a:off x="5791320" y="1218960"/>
            <a:ext cx="149400" cy="74520"/>
            <a:chOff x="5791320" y="1218960"/>
            <a:chExt cx="149400" cy="74520"/>
          </a:xfrm>
        </p:grpSpPr>
        <p:sp>
          <p:nvSpPr>
            <p:cNvPr id="5452" name=""/>
            <p:cNvSpPr/>
            <p:nvPr/>
          </p:nvSpPr>
          <p:spPr>
            <a:xfrm rot="16200000">
              <a:off x="5754240" y="125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rot="16200000">
              <a:off x="5903280" y="125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 rot="16200000">
              <a:off x="5847120" y="11631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 rot="16200000">
              <a:off x="5847120" y="12002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6" name=""/>
          <p:cNvGrpSpPr/>
          <p:nvPr/>
        </p:nvGrpSpPr>
        <p:grpSpPr>
          <a:xfrm>
            <a:off x="3962520" y="990720"/>
            <a:ext cx="88920" cy="93600"/>
            <a:chOff x="3962520" y="990720"/>
            <a:chExt cx="88920" cy="93600"/>
          </a:xfrm>
        </p:grpSpPr>
        <p:sp>
          <p:nvSpPr>
            <p:cNvPr id="5457" name=""/>
            <p:cNvSpPr/>
            <p:nvPr/>
          </p:nvSpPr>
          <p:spPr>
            <a:xfrm>
              <a:off x="39625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9625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0068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9625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1" name=""/>
          <p:cNvGrpSpPr/>
          <p:nvPr/>
        </p:nvGrpSpPr>
        <p:grpSpPr>
          <a:xfrm>
            <a:off x="4191120" y="1219320"/>
            <a:ext cx="88920" cy="93600"/>
            <a:chOff x="4191120" y="1219320"/>
            <a:chExt cx="88920" cy="93600"/>
          </a:xfrm>
        </p:grpSpPr>
        <p:sp>
          <p:nvSpPr>
            <p:cNvPr id="5462" name=""/>
            <p:cNvSpPr/>
            <p:nvPr/>
          </p:nvSpPr>
          <p:spPr>
            <a:xfrm>
              <a:off x="4191120" y="1219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191120" y="1294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23540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19112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6" name=""/>
          <p:cNvGrpSpPr/>
          <p:nvPr/>
        </p:nvGrpSpPr>
        <p:grpSpPr>
          <a:xfrm>
            <a:off x="4648320" y="1676520"/>
            <a:ext cx="88920" cy="93600"/>
            <a:chOff x="4648320" y="1676520"/>
            <a:chExt cx="88920" cy="93600"/>
          </a:xfrm>
        </p:grpSpPr>
        <p:sp>
          <p:nvSpPr>
            <p:cNvPr id="5467" name=""/>
            <p:cNvSpPr/>
            <p:nvPr/>
          </p:nvSpPr>
          <p:spPr>
            <a:xfrm>
              <a:off x="4648320" y="16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648320" y="175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69260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48320" y="16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1" name=""/>
          <p:cNvGrpSpPr/>
          <p:nvPr/>
        </p:nvGrpSpPr>
        <p:grpSpPr>
          <a:xfrm>
            <a:off x="5105520" y="1905120"/>
            <a:ext cx="88920" cy="93600"/>
            <a:chOff x="5105520" y="1905120"/>
            <a:chExt cx="88920" cy="93600"/>
          </a:xfrm>
        </p:grpSpPr>
        <p:sp>
          <p:nvSpPr>
            <p:cNvPr id="5472" name=""/>
            <p:cNvSpPr/>
            <p:nvPr/>
          </p:nvSpPr>
          <p:spPr>
            <a:xfrm>
              <a:off x="51055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51055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51498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51055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6" name=""/>
          <p:cNvGrpSpPr/>
          <p:nvPr/>
        </p:nvGrpSpPr>
        <p:grpSpPr>
          <a:xfrm>
            <a:off x="5105520" y="2801880"/>
            <a:ext cx="88920" cy="93600"/>
            <a:chOff x="5105520" y="2801880"/>
            <a:chExt cx="88920" cy="93600"/>
          </a:xfrm>
        </p:grpSpPr>
        <p:sp>
          <p:nvSpPr>
            <p:cNvPr id="5477" name=""/>
            <p:cNvSpPr/>
            <p:nvPr/>
          </p:nvSpPr>
          <p:spPr>
            <a:xfrm>
              <a:off x="5105520" y="2801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5105520" y="2876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5149800" y="2801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5105520" y="2801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1" name=""/>
          <p:cNvGrpSpPr/>
          <p:nvPr/>
        </p:nvGrpSpPr>
        <p:grpSpPr>
          <a:xfrm>
            <a:off x="4645080" y="1221840"/>
            <a:ext cx="93600" cy="88920"/>
            <a:chOff x="4645080" y="1221840"/>
            <a:chExt cx="93600" cy="88920"/>
          </a:xfrm>
        </p:grpSpPr>
        <p:sp>
          <p:nvSpPr>
            <p:cNvPr id="5482" name=""/>
            <p:cNvSpPr/>
            <p:nvPr/>
          </p:nvSpPr>
          <p:spPr>
            <a:xfrm rot="16200000">
              <a:off x="4609800" y="1257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 rot="16200000">
              <a:off x="4684680" y="1256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rot="16200000">
              <a:off x="4669560" y="119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 rot="16200000">
              <a:off x="4669560" y="124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6" name=""/>
          <p:cNvGrpSpPr/>
          <p:nvPr/>
        </p:nvGrpSpPr>
        <p:grpSpPr>
          <a:xfrm>
            <a:off x="5483160" y="1450440"/>
            <a:ext cx="93600" cy="88920"/>
            <a:chOff x="5483160" y="1450440"/>
            <a:chExt cx="93600" cy="88920"/>
          </a:xfrm>
        </p:grpSpPr>
        <p:sp>
          <p:nvSpPr>
            <p:cNvPr id="5487" name=""/>
            <p:cNvSpPr/>
            <p:nvPr/>
          </p:nvSpPr>
          <p:spPr>
            <a:xfrm rot="16200000">
              <a:off x="5447880" y="1485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 rot="16200000">
              <a:off x="5522760" y="1485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 rot="16200000">
              <a:off x="5507640" y="142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rot="16200000">
              <a:off x="5507640" y="147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1" name=""/>
          <p:cNvGrpSpPr/>
          <p:nvPr/>
        </p:nvGrpSpPr>
        <p:grpSpPr>
          <a:xfrm>
            <a:off x="5330880" y="2822040"/>
            <a:ext cx="93600" cy="88920"/>
            <a:chOff x="5330880" y="2822040"/>
            <a:chExt cx="93600" cy="88920"/>
          </a:xfrm>
        </p:grpSpPr>
        <p:sp>
          <p:nvSpPr>
            <p:cNvPr id="5492" name=""/>
            <p:cNvSpPr/>
            <p:nvPr/>
          </p:nvSpPr>
          <p:spPr>
            <a:xfrm rot="16200000">
              <a:off x="5295600" y="2857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rot="16200000">
              <a:off x="5370480" y="2856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rot="16200000">
              <a:off x="5355360" y="2797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 rot="16200000">
              <a:off x="5355360" y="284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6" name=""/>
          <p:cNvGrpSpPr/>
          <p:nvPr/>
        </p:nvGrpSpPr>
        <p:grpSpPr>
          <a:xfrm>
            <a:off x="5334120" y="1905120"/>
            <a:ext cx="88920" cy="93600"/>
            <a:chOff x="5334120" y="1905120"/>
            <a:chExt cx="88920" cy="93600"/>
          </a:xfrm>
        </p:grpSpPr>
        <p:sp>
          <p:nvSpPr>
            <p:cNvPr id="5497" name=""/>
            <p:cNvSpPr/>
            <p:nvPr/>
          </p:nvSpPr>
          <p:spPr>
            <a:xfrm>
              <a:off x="53341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53341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53784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53341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1" name=""/>
          <p:cNvGrpSpPr/>
          <p:nvPr/>
        </p:nvGrpSpPr>
        <p:grpSpPr>
          <a:xfrm>
            <a:off x="5334120" y="1219320"/>
            <a:ext cx="88920" cy="93600"/>
            <a:chOff x="5334120" y="1219320"/>
            <a:chExt cx="88920" cy="93600"/>
          </a:xfrm>
        </p:grpSpPr>
        <p:sp>
          <p:nvSpPr>
            <p:cNvPr id="5502" name=""/>
            <p:cNvSpPr/>
            <p:nvPr/>
          </p:nvSpPr>
          <p:spPr>
            <a:xfrm>
              <a:off x="5334120" y="1219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5334120" y="1294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537840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533412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5559480" y="2822040"/>
            <a:ext cx="93600" cy="88920"/>
            <a:chOff x="5559480" y="2822040"/>
            <a:chExt cx="93600" cy="88920"/>
          </a:xfrm>
        </p:grpSpPr>
        <p:sp>
          <p:nvSpPr>
            <p:cNvPr id="5507" name=""/>
            <p:cNvSpPr/>
            <p:nvPr/>
          </p:nvSpPr>
          <p:spPr>
            <a:xfrm rot="16200000">
              <a:off x="5524200" y="2857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rot="16200000">
              <a:off x="5599080" y="2856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rot="16200000">
              <a:off x="5583960" y="2797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rot="16200000">
              <a:off x="5583960" y="284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1" name=""/>
          <p:cNvGrpSpPr/>
          <p:nvPr/>
        </p:nvGrpSpPr>
        <p:grpSpPr>
          <a:xfrm>
            <a:off x="5330880" y="2593440"/>
            <a:ext cx="93600" cy="88920"/>
            <a:chOff x="5330880" y="2593440"/>
            <a:chExt cx="93600" cy="88920"/>
          </a:xfrm>
        </p:grpSpPr>
        <p:sp>
          <p:nvSpPr>
            <p:cNvPr id="5512" name=""/>
            <p:cNvSpPr/>
            <p:nvPr/>
          </p:nvSpPr>
          <p:spPr>
            <a:xfrm rot="16200000">
              <a:off x="5295600" y="2628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 rot="16200000">
              <a:off x="5370480" y="2628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 rot="16200000">
              <a:off x="5355360" y="2568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rot="16200000">
              <a:off x="5355360" y="261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6400440" y="2743200"/>
            <a:ext cx="174600" cy="176040"/>
            <a:chOff x="6400440" y="2743200"/>
            <a:chExt cx="174600" cy="176040"/>
          </a:xfrm>
        </p:grpSpPr>
        <p:sp>
          <p:nvSpPr>
            <p:cNvPr id="5517" name=""/>
            <p:cNvSpPr/>
            <p:nvPr/>
          </p:nvSpPr>
          <p:spPr>
            <a:xfrm rot="5400000">
              <a:off x="6512400" y="2781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rot="5400000">
              <a:off x="6487560" y="27561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rot="5400000">
              <a:off x="6462360" y="26809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rot="5400000">
              <a:off x="6437880" y="2856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rot="5400000">
              <a:off x="6412680" y="28314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rot="5400000">
              <a:off x="6337440" y="28062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6477120" y="3429000"/>
            <a:ext cx="88920" cy="93600"/>
            <a:chOff x="6477120" y="3429000"/>
            <a:chExt cx="88920" cy="93600"/>
          </a:xfrm>
        </p:grpSpPr>
        <p:sp>
          <p:nvSpPr>
            <p:cNvPr id="5524" name=""/>
            <p:cNvSpPr/>
            <p:nvPr/>
          </p:nvSpPr>
          <p:spPr>
            <a:xfrm>
              <a:off x="6477120" y="3429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6477120" y="3503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521400" y="342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6477120" y="342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8" name=""/>
          <p:cNvGrpSpPr/>
          <p:nvPr/>
        </p:nvGrpSpPr>
        <p:grpSpPr>
          <a:xfrm>
            <a:off x="6540480" y="3657600"/>
            <a:ext cx="88920" cy="93600"/>
            <a:chOff x="6540480" y="3657600"/>
            <a:chExt cx="88920" cy="93600"/>
          </a:xfrm>
        </p:grpSpPr>
        <p:sp>
          <p:nvSpPr>
            <p:cNvPr id="5529" name=""/>
            <p:cNvSpPr/>
            <p:nvPr/>
          </p:nvSpPr>
          <p:spPr>
            <a:xfrm>
              <a:off x="6540480" y="3657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6540480" y="3732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6584760" y="3657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6540480" y="3657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3" name=""/>
          <p:cNvGrpSpPr/>
          <p:nvPr/>
        </p:nvGrpSpPr>
        <p:grpSpPr>
          <a:xfrm>
            <a:off x="6781680" y="3505320"/>
            <a:ext cx="88920" cy="93600"/>
            <a:chOff x="6781680" y="3505320"/>
            <a:chExt cx="88920" cy="93600"/>
          </a:xfrm>
        </p:grpSpPr>
        <p:sp>
          <p:nvSpPr>
            <p:cNvPr id="5534" name=""/>
            <p:cNvSpPr/>
            <p:nvPr/>
          </p:nvSpPr>
          <p:spPr>
            <a:xfrm>
              <a:off x="6781680" y="3505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6781680" y="3580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825960" y="350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6781680" y="350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8" name=""/>
          <p:cNvGrpSpPr/>
          <p:nvPr/>
        </p:nvGrpSpPr>
        <p:grpSpPr>
          <a:xfrm>
            <a:off x="6019920" y="3199680"/>
            <a:ext cx="95040" cy="97200"/>
            <a:chOff x="6019920" y="3199680"/>
            <a:chExt cx="95040" cy="97200"/>
          </a:xfrm>
        </p:grpSpPr>
        <p:sp>
          <p:nvSpPr>
            <p:cNvPr id="5539" name=""/>
            <p:cNvSpPr/>
            <p:nvPr/>
          </p:nvSpPr>
          <p:spPr>
            <a:xfrm rot="10800000">
              <a:off x="6019920" y="3296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rot="10800000">
              <a:off x="6019920" y="3199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rot="10800000">
              <a:off x="6020280" y="3200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rot="10800000">
              <a:off x="6067440" y="32000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3" name=""/>
          <p:cNvGrpSpPr/>
          <p:nvPr/>
        </p:nvGrpSpPr>
        <p:grpSpPr>
          <a:xfrm>
            <a:off x="6248520" y="3504960"/>
            <a:ext cx="152280" cy="152280"/>
            <a:chOff x="6248520" y="3504960"/>
            <a:chExt cx="152280" cy="152280"/>
          </a:xfrm>
        </p:grpSpPr>
        <p:sp>
          <p:nvSpPr>
            <p:cNvPr id="5544" name=""/>
            <p:cNvSpPr/>
            <p:nvPr/>
          </p:nvSpPr>
          <p:spPr>
            <a:xfrm rot="16200000">
              <a:off x="6187320" y="3565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rot="16200000">
              <a:off x="6309360" y="3565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rot="16200000">
              <a:off x="6286680" y="34671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rot="16200000">
              <a:off x="6286680" y="3543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8" name=""/>
          <p:cNvGrpSpPr/>
          <p:nvPr/>
        </p:nvGrpSpPr>
        <p:grpSpPr>
          <a:xfrm>
            <a:off x="6019920" y="3657600"/>
            <a:ext cx="88920" cy="93600"/>
            <a:chOff x="6019920" y="3657600"/>
            <a:chExt cx="88920" cy="93600"/>
          </a:xfrm>
        </p:grpSpPr>
        <p:sp>
          <p:nvSpPr>
            <p:cNvPr id="5549" name=""/>
            <p:cNvSpPr/>
            <p:nvPr/>
          </p:nvSpPr>
          <p:spPr>
            <a:xfrm>
              <a:off x="6019920" y="3657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6019920" y="3732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6064200" y="3657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6019920" y="3657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3" name=""/>
          <p:cNvGrpSpPr/>
          <p:nvPr/>
        </p:nvGrpSpPr>
        <p:grpSpPr>
          <a:xfrm>
            <a:off x="5838480" y="3547440"/>
            <a:ext cx="95400" cy="97200"/>
            <a:chOff x="5838480" y="3547440"/>
            <a:chExt cx="95400" cy="97200"/>
          </a:xfrm>
        </p:grpSpPr>
        <p:sp>
          <p:nvSpPr>
            <p:cNvPr id="5554" name=""/>
            <p:cNvSpPr/>
            <p:nvPr/>
          </p:nvSpPr>
          <p:spPr>
            <a:xfrm rot="10800000">
              <a:off x="5838480" y="3644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rot="10800000">
              <a:off x="5838480" y="3547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rot="10800000">
              <a:off x="5838480" y="3547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 rot="10800000">
              <a:off x="5886000" y="35478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8" name=""/>
          <p:cNvGrpSpPr/>
          <p:nvPr/>
        </p:nvGrpSpPr>
        <p:grpSpPr>
          <a:xfrm>
            <a:off x="5591160" y="3623760"/>
            <a:ext cx="97200" cy="95400"/>
            <a:chOff x="5591160" y="3623760"/>
            <a:chExt cx="97200" cy="95400"/>
          </a:xfrm>
        </p:grpSpPr>
        <p:sp>
          <p:nvSpPr>
            <p:cNvPr id="5559" name=""/>
            <p:cNvSpPr/>
            <p:nvPr/>
          </p:nvSpPr>
          <p:spPr>
            <a:xfrm rot="16200000">
              <a:off x="5543640" y="3671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rot="16200000">
              <a:off x="5640480" y="3671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rot="16200000">
              <a:off x="5615640" y="35989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rot="16200000">
              <a:off x="5615640" y="36468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3" name=""/>
          <p:cNvGrpSpPr/>
          <p:nvPr/>
        </p:nvGrpSpPr>
        <p:grpSpPr>
          <a:xfrm>
            <a:off x="5257800" y="3657600"/>
            <a:ext cx="74520" cy="149760"/>
            <a:chOff x="5257800" y="3657600"/>
            <a:chExt cx="74520" cy="149760"/>
          </a:xfrm>
        </p:grpSpPr>
        <p:sp>
          <p:nvSpPr>
            <p:cNvPr id="5564" name=""/>
            <p:cNvSpPr/>
            <p:nvPr/>
          </p:nvSpPr>
          <p:spPr>
            <a:xfrm>
              <a:off x="5257800" y="3657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5257800" y="3807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5294880" y="36576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5257800" y="36576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8" name=""/>
          <p:cNvGrpSpPr/>
          <p:nvPr/>
        </p:nvGrpSpPr>
        <p:grpSpPr>
          <a:xfrm>
            <a:off x="5029200" y="3657240"/>
            <a:ext cx="152280" cy="152280"/>
            <a:chOff x="5029200" y="3657240"/>
            <a:chExt cx="152280" cy="152280"/>
          </a:xfrm>
        </p:grpSpPr>
        <p:sp>
          <p:nvSpPr>
            <p:cNvPr id="5569" name=""/>
            <p:cNvSpPr/>
            <p:nvPr/>
          </p:nvSpPr>
          <p:spPr>
            <a:xfrm rot="16200000">
              <a:off x="4968000" y="3718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rot="16200000">
              <a:off x="5090040" y="3718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rot="16200000">
              <a:off x="5067360" y="3619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rot="16200000">
              <a:off x="5067360" y="3695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3" name=""/>
          <p:cNvGrpSpPr/>
          <p:nvPr/>
        </p:nvGrpSpPr>
        <p:grpSpPr>
          <a:xfrm>
            <a:off x="4876920" y="3885840"/>
            <a:ext cx="174600" cy="176040"/>
            <a:chOff x="4876920" y="3885840"/>
            <a:chExt cx="174600" cy="176040"/>
          </a:xfrm>
        </p:grpSpPr>
        <p:sp>
          <p:nvSpPr>
            <p:cNvPr id="5574" name=""/>
            <p:cNvSpPr/>
            <p:nvPr/>
          </p:nvSpPr>
          <p:spPr>
            <a:xfrm rot="16200000">
              <a:off x="4839120" y="39992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rot="16200000">
              <a:off x="4914000" y="39240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rot="16200000">
              <a:off x="4938840" y="39492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rot="16200000">
              <a:off x="4988880" y="3848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 rot="16200000">
              <a:off x="4913280" y="3923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rot="16200000">
              <a:off x="4938480" y="39488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0" name=""/>
          <p:cNvGrpSpPr/>
          <p:nvPr/>
        </p:nvGrpSpPr>
        <p:grpSpPr>
          <a:xfrm>
            <a:off x="4167360" y="3887640"/>
            <a:ext cx="176040" cy="174600"/>
            <a:chOff x="4167360" y="3887640"/>
            <a:chExt cx="176040" cy="174600"/>
          </a:xfrm>
        </p:grpSpPr>
        <p:sp>
          <p:nvSpPr>
            <p:cNvPr id="5581" name=""/>
            <p:cNvSpPr/>
            <p:nvPr/>
          </p:nvSpPr>
          <p:spPr>
            <a:xfrm>
              <a:off x="4167360" y="38876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4217760" y="388764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4167360" y="38876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4318200" y="39621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4217760" y="396216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4167360" y="40122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7" name=""/>
          <p:cNvGrpSpPr/>
          <p:nvPr/>
        </p:nvGrpSpPr>
        <p:grpSpPr>
          <a:xfrm>
            <a:off x="4419720" y="3961800"/>
            <a:ext cx="95040" cy="97200"/>
            <a:chOff x="4419720" y="3961800"/>
            <a:chExt cx="95040" cy="97200"/>
          </a:xfrm>
        </p:grpSpPr>
        <p:sp>
          <p:nvSpPr>
            <p:cNvPr id="5588" name=""/>
            <p:cNvSpPr/>
            <p:nvPr/>
          </p:nvSpPr>
          <p:spPr>
            <a:xfrm rot="10800000">
              <a:off x="4419720" y="4058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 rot="10800000">
              <a:off x="4419720" y="3961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rot="10800000">
              <a:off x="4420080" y="3962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rot="10800000">
              <a:off x="4467240" y="39621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2" name=""/>
          <p:cNvGrpSpPr/>
          <p:nvPr/>
        </p:nvGrpSpPr>
        <p:grpSpPr>
          <a:xfrm>
            <a:off x="4648320" y="4025520"/>
            <a:ext cx="93600" cy="88920"/>
            <a:chOff x="4648320" y="4025520"/>
            <a:chExt cx="93600" cy="88920"/>
          </a:xfrm>
        </p:grpSpPr>
        <p:sp>
          <p:nvSpPr>
            <p:cNvPr id="5593" name=""/>
            <p:cNvSpPr/>
            <p:nvPr/>
          </p:nvSpPr>
          <p:spPr>
            <a:xfrm rot="16200000">
              <a:off x="4613040" y="4060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 rot="16200000">
              <a:off x="4687920" y="4060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 rot="16200000">
              <a:off x="4672800" y="4001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 rot="16200000">
              <a:off x="4672800" y="4045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7" name=""/>
          <p:cNvGrpSpPr/>
          <p:nvPr/>
        </p:nvGrpSpPr>
        <p:grpSpPr>
          <a:xfrm>
            <a:off x="5257800" y="3200400"/>
            <a:ext cx="193680" cy="206280"/>
            <a:chOff x="5257800" y="3200400"/>
            <a:chExt cx="193680" cy="206280"/>
          </a:xfrm>
        </p:grpSpPr>
        <p:sp>
          <p:nvSpPr>
            <p:cNvPr id="5598" name=""/>
            <p:cNvSpPr/>
            <p:nvPr/>
          </p:nvSpPr>
          <p:spPr>
            <a:xfrm>
              <a:off x="5257800" y="320040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5432400" y="320040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5257800" y="32004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5257800" y="324612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5316120" y="337896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5316120" y="324684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5316120" y="324684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5354280" y="32468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6" name=""/>
          <p:cNvGrpSpPr/>
          <p:nvPr/>
        </p:nvGrpSpPr>
        <p:grpSpPr>
          <a:xfrm>
            <a:off x="5484600" y="2972880"/>
            <a:ext cx="176040" cy="174600"/>
            <a:chOff x="5484600" y="2972880"/>
            <a:chExt cx="176040" cy="174600"/>
          </a:xfrm>
        </p:grpSpPr>
        <p:sp>
          <p:nvSpPr>
            <p:cNvPr id="5607" name=""/>
            <p:cNvSpPr/>
            <p:nvPr/>
          </p:nvSpPr>
          <p:spPr>
            <a:xfrm rot="10800000">
              <a:off x="5560200" y="31226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 rot="10800000">
              <a:off x="5560200" y="302292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 rot="10800000">
              <a:off x="5610240" y="29728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 rot="10800000">
              <a:off x="5484600" y="297288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 rot="10800000">
              <a:off x="5484600" y="302328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 rot="10800000">
              <a:off x="5484600" y="297288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3" name=""/>
          <p:cNvGrpSpPr/>
          <p:nvPr/>
        </p:nvGrpSpPr>
        <p:grpSpPr>
          <a:xfrm>
            <a:off x="5562720" y="3276360"/>
            <a:ext cx="149400" cy="74520"/>
            <a:chOff x="5562720" y="3276360"/>
            <a:chExt cx="149400" cy="74520"/>
          </a:xfrm>
        </p:grpSpPr>
        <p:sp>
          <p:nvSpPr>
            <p:cNvPr id="5614" name=""/>
            <p:cNvSpPr/>
            <p:nvPr/>
          </p:nvSpPr>
          <p:spPr>
            <a:xfrm rot="16200000">
              <a:off x="5525640" y="3313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 rot="16200000">
              <a:off x="5674680" y="3313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 rot="16200000">
              <a:off x="5618520" y="32205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 rot="16200000">
              <a:off x="5618520" y="32576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5943600" y="761760"/>
            <a:ext cx="152280" cy="74520"/>
            <a:chOff x="5943600" y="761760"/>
            <a:chExt cx="152280" cy="74520"/>
          </a:xfrm>
        </p:grpSpPr>
        <p:sp>
          <p:nvSpPr>
            <p:cNvPr id="5619" name=""/>
            <p:cNvSpPr/>
            <p:nvPr/>
          </p:nvSpPr>
          <p:spPr>
            <a:xfrm rot="16200000">
              <a:off x="5921280" y="783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rot="16200000">
              <a:off x="6043320" y="783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rot="16200000">
              <a:off x="6001200" y="704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 rot="16200000">
              <a:off x="6001200" y="741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3" name=""/>
          <p:cNvGrpSpPr/>
          <p:nvPr/>
        </p:nvGrpSpPr>
        <p:grpSpPr>
          <a:xfrm>
            <a:off x="5486040" y="532800"/>
            <a:ext cx="149400" cy="152640"/>
            <a:chOff x="5486040" y="532800"/>
            <a:chExt cx="149400" cy="152640"/>
          </a:xfrm>
        </p:grpSpPr>
        <p:sp>
          <p:nvSpPr>
            <p:cNvPr id="5624" name=""/>
            <p:cNvSpPr/>
            <p:nvPr/>
          </p:nvSpPr>
          <p:spPr>
            <a:xfrm rot="10800000">
              <a:off x="5486040" y="68508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rot="10800000">
              <a:off x="5486040" y="53280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 rot="10800000">
              <a:off x="5486040" y="5331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rot="10800000">
              <a:off x="5560560" y="53316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8" name=""/>
          <p:cNvGrpSpPr/>
          <p:nvPr/>
        </p:nvGrpSpPr>
        <p:grpSpPr>
          <a:xfrm>
            <a:off x="5562720" y="990360"/>
            <a:ext cx="152280" cy="152280"/>
            <a:chOff x="5562720" y="990360"/>
            <a:chExt cx="152280" cy="152280"/>
          </a:xfrm>
        </p:grpSpPr>
        <p:sp>
          <p:nvSpPr>
            <p:cNvPr id="5629" name=""/>
            <p:cNvSpPr/>
            <p:nvPr/>
          </p:nvSpPr>
          <p:spPr>
            <a:xfrm rot="16200000">
              <a:off x="5501520" y="1051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 rot="16200000">
              <a:off x="5623560" y="1051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rot="16200000">
              <a:off x="5600880" y="9525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rot="16200000">
              <a:off x="5600880" y="1028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5486040" y="761760"/>
            <a:ext cx="152280" cy="152280"/>
            <a:chOff x="5486040" y="761760"/>
            <a:chExt cx="152280" cy="152280"/>
          </a:xfrm>
        </p:grpSpPr>
        <p:sp>
          <p:nvSpPr>
            <p:cNvPr id="5634" name=""/>
            <p:cNvSpPr/>
            <p:nvPr/>
          </p:nvSpPr>
          <p:spPr>
            <a:xfrm rot="10800000">
              <a:off x="5486040" y="883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rot="10800000">
              <a:off x="5486040" y="7617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 rot="10800000">
              <a:off x="5486400" y="761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 rot="10800000">
              <a:off x="5562360" y="761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8" name=""/>
          <p:cNvGrpSpPr/>
          <p:nvPr/>
        </p:nvGrpSpPr>
        <p:grpSpPr>
          <a:xfrm>
            <a:off x="3505320" y="990720"/>
            <a:ext cx="88920" cy="93600"/>
            <a:chOff x="3505320" y="990720"/>
            <a:chExt cx="88920" cy="93600"/>
          </a:xfrm>
        </p:grpSpPr>
        <p:sp>
          <p:nvSpPr>
            <p:cNvPr id="5639" name=""/>
            <p:cNvSpPr/>
            <p:nvPr/>
          </p:nvSpPr>
          <p:spPr>
            <a:xfrm>
              <a:off x="35053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5053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5496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5053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3" name=""/>
          <p:cNvGrpSpPr/>
          <p:nvPr/>
        </p:nvGrpSpPr>
        <p:grpSpPr>
          <a:xfrm>
            <a:off x="3730680" y="1221840"/>
            <a:ext cx="93600" cy="88920"/>
            <a:chOff x="3730680" y="1221840"/>
            <a:chExt cx="93600" cy="88920"/>
          </a:xfrm>
        </p:grpSpPr>
        <p:sp>
          <p:nvSpPr>
            <p:cNvPr id="5644" name=""/>
            <p:cNvSpPr/>
            <p:nvPr/>
          </p:nvSpPr>
          <p:spPr>
            <a:xfrm rot="16200000">
              <a:off x="3695400" y="1257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 rot="16200000">
              <a:off x="3770280" y="1256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 rot="16200000">
              <a:off x="3755160" y="119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 rot="16200000">
              <a:off x="3755160" y="124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8" name=""/>
          <p:cNvGrpSpPr/>
          <p:nvPr/>
        </p:nvGrpSpPr>
        <p:grpSpPr>
          <a:xfrm>
            <a:off x="3273480" y="1374480"/>
            <a:ext cx="93600" cy="88920"/>
            <a:chOff x="3273480" y="1374480"/>
            <a:chExt cx="93600" cy="88920"/>
          </a:xfrm>
        </p:grpSpPr>
        <p:sp>
          <p:nvSpPr>
            <p:cNvPr id="5649" name=""/>
            <p:cNvSpPr/>
            <p:nvPr/>
          </p:nvSpPr>
          <p:spPr>
            <a:xfrm rot="16200000">
              <a:off x="3238200" y="1409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 rot="16200000">
              <a:off x="3313080" y="1409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 rot="16200000">
              <a:off x="3297960" y="135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 rot="16200000">
              <a:off x="3297960" y="1394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3" name=""/>
          <p:cNvGrpSpPr/>
          <p:nvPr/>
        </p:nvGrpSpPr>
        <p:grpSpPr>
          <a:xfrm>
            <a:off x="3730680" y="2746080"/>
            <a:ext cx="93600" cy="88920"/>
            <a:chOff x="3730680" y="2746080"/>
            <a:chExt cx="93600" cy="88920"/>
          </a:xfrm>
        </p:grpSpPr>
        <p:sp>
          <p:nvSpPr>
            <p:cNvPr id="5654" name=""/>
            <p:cNvSpPr/>
            <p:nvPr/>
          </p:nvSpPr>
          <p:spPr>
            <a:xfrm rot="16200000">
              <a:off x="3695400" y="2781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 rot="16200000">
              <a:off x="3770280" y="2781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 rot="16200000">
              <a:off x="3755160" y="272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 rot="16200000">
              <a:off x="3755160" y="2765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8" name=""/>
          <p:cNvGrpSpPr/>
          <p:nvPr/>
        </p:nvGrpSpPr>
        <p:grpSpPr>
          <a:xfrm>
            <a:off x="3733920" y="2514600"/>
            <a:ext cx="88920" cy="93600"/>
            <a:chOff x="3733920" y="2514600"/>
            <a:chExt cx="88920" cy="93600"/>
          </a:xfrm>
        </p:grpSpPr>
        <p:sp>
          <p:nvSpPr>
            <p:cNvPr id="5659" name=""/>
            <p:cNvSpPr/>
            <p:nvPr/>
          </p:nvSpPr>
          <p:spPr>
            <a:xfrm>
              <a:off x="3733920" y="2514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3733920" y="2589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3778200" y="251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3733920" y="251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3" name=""/>
          <p:cNvGrpSpPr/>
          <p:nvPr/>
        </p:nvGrpSpPr>
        <p:grpSpPr>
          <a:xfrm>
            <a:off x="3733920" y="2133720"/>
            <a:ext cx="88920" cy="93600"/>
            <a:chOff x="3733920" y="2133720"/>
            <a:chExt cx="88920" cy="93600"/>
          </a:xfrm>
        </p:grpSpPr>
        <p:sp>
          <p:nvSpPr>
            <p:cNvPr id="5664" name=""/>
            <p:cNvSpPr/>
            <p:nvPr/>
          </p:nvSpPr>
          <p:spPr>
            <a:xfrm>
              <a:off x="373392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373392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37782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373392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8" name=""/>
          <p:cNvGrpSpPr/>
          <p:nvPr/>
        </p:nvGrpSpPr>
        <p:grpSpPr>
          <a:xfrm>
            <a:off x="4187880" y="2517480"/>
            <a:ext cx="93600" cy="88920"/>
            <a:chOff x="4187880" y="2517480"/>
            <a:chExt cx="93600" cy="88920"/>
          </a:xfrm>
        </p:grpSpPr>
        <p:sp>
          <p:nvSpPr>
            <p:cNvPr id="5669" name=""/>
            <p:cNvSpPr/>
            <p:nvPr/>
          </p:nvSpPr>
          <p:spPr>
            <a:xfrm rot="16200000">
              <a:off x="4152600" y="2552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 rot="16200000">
              <a:off x="4227480" y="2552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 rot="16200000">
              <a:off x="4212360" y="2493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 rot="16200000">
              <a:off x="4212360" y="2537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3" name=""/>
          <p:cNvGrpSpPr/>
          <p:nvPr/>
        </p:nvGrpSpPr>
        <p:grpSpPr>
          <a:xfrm>
            <a:off x="4495680" y="2286000"/>
            <a:ext cx="88920" cy="93600"/>
            <a:chOff x="4495680" y="2286000"/>
            <a:chExt cx="88920" cy="93600"/>
          </a:xfrm>
        </p:grpSpPr>
        <p:sp>
          <p:nvSpPr>
            <p:cNvPr id="5674" name=""/>
            <p:cNvSpPr/>
            <p:nvPr/>
          </p:nvSpPr>
          <p:spPr>
            <a:xfrm>
              <a:off x="4495680" y="2286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495680" y="2360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539960" y="2286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495680" y="2286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8" name=""/>
          <p:cNvGrpSpPr/>
          <p:nvPr/>
        </p:nvGrpSpPr>
        <p:grpSpPr>
          <a:xfrm>
            <a:off x="3962520" y="1447920"/>
            <a:ext cx="88920" cy="93600"/>
            <a:chOff x="3962520" y="1447920"/>
            <a:chExt cx="88920" cy="93600"/>
          </a:xfrm>
        </p:grpSpPr>
        <p:sp>
          <p:nvSpPr>
            <p:cNvPr id="5679" name=""/>
            <p:cNvSpPr/>
            <p:nvPr/>
          </p:nvSpPr>
          <p:spPr>
            <a:xfrm>
              <a:off x="3962520" y="1447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3962520" y="1522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00680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96252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3" name=""/>
          <p:cNvGrpSpPr/>
          <p:nvPr/>
        </p:nvGrpSpPr>
        <p:grpSpPr>
          <a:xfrm>
            <a:off x="5105520" y="1143000"/>
            <a:ext cx="88920" cy="93600"/>
            <a:chOff x="5105520" y="1143000"/>
            <a:chExt cx="88920" cy="93600"/>
          </a:xfrm>
        </p:grpSpPr>
        <p:sp>
          <p:nvSpPr>
            <p:cNvPr id="5684" name=""/>
            <p:cNvSpPr/>
            <p:nvPr/>
          </p:nvSpPr>
          <p:spPr>
            <a:xfrm>
              <a:off x="5105520" y="1143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105520" y="1217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149800" y="1143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105520" y="1143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8" name=""/>
          <p:cNvGrpSpPr/>
          <p:nvPr/>
        </p:nvGrpSpPr>
        <p:grpSpPr>
          <a:xfrm>
            <a:off x="5334120" y="990720"/>
            <a:ext cx="88920" cy="93600"/>
            <a:chOff x="5334120" y="990720"/>
            <a:chExt cx="88920" cy="93600"/>
          </a:xfrm>
        </p:grpSpPr>
        <p:sp>
          <p:nvSpPr>
            <p:cNvPr id="5689" name=""/>
            <p:cNvSpPr/>
            <p:nvPr/>
          </p:nvSpPr>
          <p:spPr>
            <a:xfrm>
              <a:off x="53341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3341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3784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3341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3" name=""/>
          <p:cNvGrpSpPr/>
          <p:nvPr/>
        </p:nvGrpSpPr>
        <p:grpSpPr>
          <a:xfrm>
            <a:off x="4876920" y="1371600"/>
            <a:ext cx="88920" cy="93600"/>
            <a:chOff x="4876920" y="1371600"/>
            <a:chExt cx="88920" cy="93600"/>
          </a:xfrm>
        </p:grpSpPr>
        <p:sp>
          <p:nvSpPr>
            <p:cNvPr id="5694" name=""/>
            <p:cNvSpPr/>
            <p:nvPr/>
          </p:nvSpPr>
          <p:spPr>
            <a:xfrm>
              <a:off x="4876920" y="1371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876920" y="1446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92120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87692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8" name=""/>
          <p:cNvGrpSpPr/>
          <p:nvPr/>
        </p:nvGrpSpPr>
        <p:grpSpPr>
          <a:xfrm>
            <a:off x="4873680" y="1221840"/>
            <a:ext cx="93600" cy="88920"/>
            <a:chOff x="4873680" y="1221840"/>
            <a:chExt cx="93600" cy="88920"/>
          </a:xfrm>
        </p:grpSpPr>
        <p:sp>
          <p:nvSpPr>
            <p:cNvPr id="5699" name=""/>
            <p:cNvSpPr/>
            <p:nvPr/>
          </p:nvSpPr>
          <p:spPr>
            <a:xfrm rot="16200000">
              <a:off x="4838400" y="1257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 rot="16200000">
              <a:off x="4913280" y="1256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 rot="16200000">
              <a:off x="4898160" y="119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 rot="16200000">
              <a:off x="4898160" y="124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3" name=""/>
          <p:cNvGrpSpPr/>
          <p:nvPr/>
        </p:nvGrpSpPr>
        <p:grpSpPr>
          <a:xfrm>
            <a:off x="4648320" y="990720"/>
            <a:ext cx="88920" cy="93600"/>
            <a:chOff x="4648320" y="990720"/>
            <a:chExt cx="88920" cy="93600"/>
          </a:xfrm>
        </p:grpSpPr>
        <p:sp>
          <p:nvSpPr>
            <p:cNvPr id="5704" name=""/>
            <p:cNvSpPr/>
            <p:nvPr/>
          </p:nvSpPr>
          <p:spPr>
            <a:xfrm>
              <a:off x="4648320" y="9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4648320" y="10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469260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4648320" y="9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8" name=""/>
          <p:cNvGrpSpPr/>
          <p:nvPr/>
        </p:nvGrpSpPr>
        <p:grpSpPr>
          <a:xfrm>
            <a:off x="3962520" y="762120"/>
            <a:ext cx="88920" cy="93600"/>
            <a:chOff x="3962520" y="762120"/>
            <a:chExt cx="88920" cy="93600"/>
          </a:xfrm>
        </p:grpSpPr>
        <p:sp>
          <p:nvSpPr>
            <p:cNvPr id="5709" name=""/>
            <p:cNvSpPr/>
            <p:nvPr/>
          </p:nvSpPr>
          <p:spPr>
            <a:xfrm>
              <a:off x="3962520" y="762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3962520" y="837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4006800" y="76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3962520" y="76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3" name=""/>
          <p:cNvGrpSpPr/>
          <p:nvPr/>
        </p:nvGrpSpPr>
        <p:grpSpPr>
          <a:xfrm>
            <a:off x="3505320" y="1219320"/>
            <a:ext cx="88920" cy="93600"/>
            <a:chOff x="3505320" y="1219320"/>
            <a:chExt cx="88920" cy="93600"/>
          </a:xfrm>
        </p:grpSpPr>
        <p:sp>
          <p:nvSpPr>
            <p:cNvPr id="5714" name=""/>
            <p:cNvSpPr/>
            <p:nvPr/>
          </p:nvSpPr>
          <p:spPr>
            <a:xfrm>
              <a:off x="3505320" y="1219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3505320" y="1294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354960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350532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8" name=""/>
          <p:cNvGrpSpPr/>
          <p:nvPr/>
        </p:nvGrpSpPr>
        <p:grpSpPr>
          <a:xfrm>
            <a:off x="3733920" y="1447920"/>
            <a:ext cx="88920" cy="93600"/>
            <a:chOff x="3733920" y="1447920"/>
            <a:chExt cx="88920" cy="93600"/>
          </a:xfrm>
        </p:grpSpPr>
        <p:sp>
          <p:nvSpPr>
            <p:cNvPr id="5719" name=""/>
            <p:cNvSpPr/>
            <p:nvPr/>
          </p:nvSpPr>
          <p:spPr>
            <a:xfrm>
              <a:off x="3733920" y="1447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3733920" y="1522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377820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373392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3" name=""/>
          <p:cNvGrpSpPr/>
          <p:nvPr/>
        </p:nvGrpSpPr>
        <p:grpSpPr>
          <a:xfrm>
            <a:off x="3276720" y="1905120"/>
            <a:ext cx="88920" cy="93600"/>
            <a:chOff x="3276720" y="1905120"/>
            <a:chExt cx="88920" cy="93600"/>
          </a:xfrm>
        </p:grpSpPr>
        <p:sp>
          <p:nvSpPr>
            <p:cNvPr id="5724" name=""/>
            <p:cNvSpPr/>
            <p:nvPr/>
          </p:nvSpPr>
          <p:spPr>
            <a:xfrm>
              <a:off x="32767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32767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33210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32767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8" name=""/>
          <p:cNvGrpSpPr/>
          <p:nvPr/>
        </p:nvGrpSpPr>
        <p:grpSpPr>
          <a:xfrm>
            <a:off x="3048120" y="1905120"/>
            <a:ext cx="88920" cy="93600"/>
            <a:chOff x="3048120" y="1905120"/>
            <a:chExt cx="88920" cy="93600"/>
          </a:xfrm>
        </p:grpSpPr>
        <p:sp>
          <p:nvSpPr>
            <p:cNvPr id="5729" name=""/>
            <p:cNvSpPr/>
            <p:nvPr/>
          </p:nvSpPr>
          <p:spPr>
            <a:xfrm>
              <a:off x="30481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30481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30924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30481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3" name=""/>
          <p:cNvGrpSpPr/>
          <p:nvPr/>
        </p:nvGrpSpPr>
        <p:grpSpPr>
          <a:xfrm>
            <a:off x="2590920" y="1905120"/>
            <a:ext cx="88920" cy="93600"/>
            <a:chOff x="2590920" y="1905120"/>
            <a:chExt cx="88920" cy="93600"/>
          </a:xfrm>
        </p:grpSpPr>
        <p:sp>
          <p:nvSpPr>
            <p:cNvPr id="5734" name=""/>
            <p:cNvSpPr/>
            <p:nvPr/>
          </p:nvSpPr>
          <p:spPr>
            <a:xfrm>
              <a:off x="2590920" y="1905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90920" y="1980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63520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90920" y="190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8" name=""/>
          <p:cNvGrpSpPr/>
          <p:nvPr/>
        </p:nvGrpSpPr>
        <p:grpSpPr>
          <a:xfrm>
            <a:off x="2209680" y="2514600"/>
            <a:ext cx="88920" cy="93600"/>
            <a:chOff x="2209680" y="2514600"/>
            <a:chExt cx="88920" cy="93600"/>
          </a:xfrm>
        </p:grpSpPr>
        <p:sp>
          <p:nvSpPr>
            <p:cNvPr id="5739" name=""/>
            <p:cNvSpPr/>
            <p:nvPr/>
          </p:nvSpPr>
          <p:spPr>
            <a:xfrm>
              <a:off x="2209680" y="2514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209680" y="2589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253960" y="251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209680" y="251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3" name=""/>
          <p:cNvGrpSpPr/>
          <p:nvPr/>
        </p:nvGrpSpPr>
        <p:grpSpPr>
          <a:xfrm>
            <a:off x="2895480" y="1371600"/>
            <a:ext cx="88920" cy="93600"/>
            <a:chOff x="2895480" y="1371600"/>
            <a:chExt cx="88920" cy="93600"/>
          </a:xfrm>
        </p:grpSpPr>
        <p:sp>
          <p:nvSpPr>
            <p:cNvPr id="5744" name=""/>
            <p:cNvSpPr/>
            <p:nvPr/>
          </p:nvSpPr>
          <p:spPr>
            <a:xfrm>
              <a:off x="2895480" y="1371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895480" y="1446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93976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895480" y="13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8" name=""/>
          <p:cNvGrpSpPr/>
          <p:nvPr/>
        </p:nvGrpSpPr>
        <p:grpSpPr>
          <a:xfrm>
            <a:off x="3273480" y="2136240"/>
            <a:ext cx="93600" cy="88920"/>
            <a:chOff x="3273480" y="2136240"/>
            <a:chExt cx="93600" cy="88920"/>
          </a:xfrm>
        </p:grpSpPr>
        <p:sp>
          <p:nvSpPr>
            <p:cNvPr id="5749" name=""/>
            <p:cNvSpPr/>
            <p:nvPr/>
          </p:nvSpPr>
          <p:spPr>
            <a:xfrm rot="16200000">
              <a:off x="3238200" y="2171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rot="16200000">
              <a:off x="3313080" y="2171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rot="16200000">
              <a:off x="3297960" y="2111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 rot="16200000">
              <a:off x="3297960" y="2156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3" name=""/>
          <p:cNvGrpSpPr/>
          <p:nvPr/>
        </p:nvGrpSpPr>
        <p:grpSpPr>
          <a:xfrm>
            <a:off x="3276720" y="2362320"/>
            <a:ext cx="88920" cy="93600"/>
            <a:chOff x="3276720" y="2362320"/>
            <a:chExt cx="88920" cy="93600"/>
          </a:xfrm>
        </p:grpSpPr>
        <p:sp>
          <p:nvSpPr>
            <p:cNvPr id="5754" name=""/>
            <p:cNvSpPr/>
            <p:nvPr/>
          </p:nvSpPr>
          <p:spPr>
            <a:xfrm>
              <a:off x="3276720" y="2362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3276720" y="2437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3321000" y="2362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3276720" y="2362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8" name=""/>
          <p:cNvGrpSpPr/>
          <p:nvPr/>
        </p:nvGrpSpPr>
        <p:grpSpPr>
          <a:xfrm>
            <a:off x="2590920" y="2362320"/>
            <a:ext cx="88920" cy="93600"/>
            <a:chOff x="2590920" y="2362320"/>
            <a:chExt cx="88920" cy="93600"/>
          </a:xfrm>
        </p:grpSpPr>
        <p:sp>
          <p:nvSpPr>
            <p:cNvPr id="5759" name=""/>
            <p:cNvSpPr/>
            <p:nvPr/>
          </p:nvSpPr>
          <p:spPr>
            <a:xfrm>
              <a:off x="2590920" y="2362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590920" y="2437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635200" y="2362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590920" y="2362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3" name=""/>
          <p:cNvGrpSpPr/>
          <p:nvPr/>
        </p:nvGrpSpPr>
        <p:grpSpPr>
          <a:xfrm>
            <a:off x="2438280" y="2362320"/>
            <a:ext cx="88920" cy="93600"/>
            <a:chOff x="2438280" y="2362320"/>
            <a:chExt cx="88920" cy="93600"/>
          </a:xfrm>
        </p:grpSpPr>
        <p:sp>
          <p:nvSpPr>
            <p:cNvPr id="5764" name=""/>
            <p:cNvSpPr/>
            <p:nvPr/>
          </p:nvSpPr>
          <p:spPr>
            <a:xfrm>
              <a:off x="2438280" y="2362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438280" y="2437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482560" y="2362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438280" y="2362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8" name=""/>
          <p:cNvGrpSpPr/>
          <p:nvPr/>
        </p:nvGrpSpPr>
        <p:grpSpPr>
          <a:xfrm>
            <a:off x="2359080" y="2593440"/>
            <a:ext cx="93600" cy="88920"/>
            <a:chOff x="2359080" y="2593440"/>
            <a:chExt cx="93600" cy="88920"/>
          </a:xfrm>
        </p:grpSpPr>
        <p:sp>
          <p:nvSpPr>
            <p:cNvPr id="5769" name=""/>
            <p:cNvSpPr/>
            <p:nvPr/>
          </p:nvSpPr>
          <p:spPr>
            <a:xfrm rot="16200000">
              <a:off x="2323800" y="2628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rot="16200000">
              <a:off x="2398680" y="2628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rot="16200000">
              <a:off x="2383560" y="2568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rot="16200000">
              <a:off x="2383560" y="261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3" name=""/>
          <p:cNvGrpSpPr/>
          <p:nvPr/>
        </p:nvGrpSpPr>
        <p:grpSpPr>
          <a:xfrm>
            <a:off x="3733920" y="3276360"/>
            <a:ext cx="93600" cy="88920"/>
            <a:chOff x="3733920" y="3276360"/>
            <a:chExt cx="93600" cy="88920"/>
          </a:xfrm>
        </p:grpSpPr>
        <p:sp>
          <p:nvSpPr>
            <p:cNvPr id="5774" name=""/>
            <p:cNvSpPr/>
            <p:nvPr/>
          </p:nvSpPr>
          <p:spPr>
            <a:xfrm rot="16200000">
              <a:off x="3698640" y="3311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 rot="16200000">
              <a:off x="3773520" y="331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 rot="16200000">
              <a:off x="3758400" y="3251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 rot="16200000">
              <a:off x="3758400" y="3296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8" name=""/>
          <p:cNvGrpSpPr/>
          <p:nvPr/>
        </p:nvGrpSpPr>
        <p:grpSpPr>
          <a:xfrm>
            <a:off x="3886200" y="3276360"/>
            <a:ext cx="93600" cy="88920"/>
            <a:chOff x="3886200" y="3276360"/>
            <a:chExt cx="93600" cy="88920"/>
          </a:xfrm>
        </p:grpSpPr>
        <p:sp>
          <p:nvSpPr>
            <p:cNvPr id="5779" name=""/>
            <p:cNvSpPr/>
            <p:nvPr/>
          </p:nvSpPr>
          <p:spPr>
            <a:xfrm rot="16200000">
              <a:off x="3850920" y="3311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 rot="16200000">
              <a:off x="3925800" y="3311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rot="16200000">
              <a:off x="3910680" y="3251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rot="16200000">
              <a:off x="3910680" y="3296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3" name=""/>
          <p:cNvGrpSpPr/>
          <p:nvPr/>
        </p:nvGrpSpPr>
        <p:grpSpPr>
          <a:xfrm>
            <a:off x="3736440" y="3502080"/>
            <a:ext cx="88920" cy="93600"/>
            <a:chOff x="3736440" y="3502080"/>
            <a:chExt cx="88920" cy="93600"/>
          </a:xfrm>
        </p:grpSpPr>
        <p:sp>
          <p:nvSpPr>
            <p:cNvPr id="5784" name=""/>
            <p:cNvSpPr/>
            <p:nvPr/>
          </p:nvSpPr>
          <p:spPr>
            <a:xfrm rot="10800000">
              <a:off x="3736440" y="3577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 rot="10800000">
              <a:off x="3736440" y="3502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rot="10800000">
              <a:off x="3736800" y="3502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 rot="10800000">
              <a:off x="3781080" y="3502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8" name=""/>
          <p:cNvGrpSpPr/>
          <p:nvPr/>
        </p:nvGrpSpPr>
        <p:grpSpPr>
          <a:xfrm>
            <a:off x="3889080" y="3959280"/>
            <a:ext cx="88920" cy="93600"/>
            <a:chOff x="3889080" y="3959280"/>
            <a:chExt cx="88920" cy="93600"/>
          </a:xfrm>
        </p:grpSpPr>
        <p:sp>
          <p:nvSpPr>
            <p:cNvPr id="5789" name=""/>
            <p:cNvSpPr/>
            <p:nvPr/>
          </p:nvSpPr>
          <p:spPr>
            <a:xfrm rot="10800000">
              <a:off x="3889080" y="4034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 rot="10800000">
              <a:off x="3889080" y="3959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rot="10800000">
              <a:off x="3889440" y="3959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 rot="10800000">
              <a:off x="3933720" y="3959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3" name=""/>
          <p:cNvGrpSpPr/>
          <p:nvPr/>
        </p:nvGrpSpPr>
        <p:grpSpPr>
          <a:xfrm>
            <a:off x="5029200" y="3200040"/>
            <a:ext cx="93600" cy="88920"/>
            <a:chOff x="5029200" y="3200040"/>
            <a:chExt cx="93600" cy="88920"/>
          </a:xfrm>
        </p:grpSpPr>
        <p:sp>
          <p:nvSpPr>
            <p:cNvPr id="5794" name=""/>
            <p:cNvSpPr/>
            <p:nvPr/>
          </p:nvSpPr>
          <p:spPr>
            <a:xfrm rot="16200000">
              <a:off x="4993920" y="3235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rot="16200000">
              <a:off x="5068800" y="3234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 rot="16200000">
              <a:off x="5053680" y="3175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 rot="16200000">
              <a:off x="5053680" y="3219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8" name=""/>
          <p:cNvGrpSpPr/>
          <p:nvPr/>
        </p:nvGrpSpPr>
        <p:grpSpPr>
          <a:xfrm>
            <a:off x="3276720" y="3657240"/>
            <a:ext cx="93600" cy="88920"/>
            <a:chOff x="3276720" y="3657240"/>
            <a:chExt cx="93600" cy="88920"/>
          </a:xfrm>
        </p:grpSpPr>
        <p:sp>
          <p:nvSpPr>
            <p:cNvPr id="5799" name=""/>
            <p:cNvSpPr/>
            <p:nvPr/>
          </p:nvSpPr>
          <p:spPr>
            <a:xfrm rot="16200000">
              <a:off x="3241440" y="3692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16200000">
              <a:off x="3316320" y="3692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 rot="16200000">
              <a:off x="3301200" y="3632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rot="16200000">
              <a:off x="3301200" y="3677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3" name=""/>
          <p:cNvGrpSpPr/>
          <p:nvPr/>
        </p:nvGrpSpPr>
        <p:grpSpPr>
          <a:xfrm>
            <a:off x="3203280" y="3044880"/>
            <a:ext cx="88920" cy="93600"/>
            <a:chOff x="3203280" y="3044880"/>
            <a:chExt cx="88920" cy="93600"/>
          </a:xfrm>
        </p:grpSpPr>
        <p:sp>
          <p:nvSpPr>
            <p:cNvPr id="5804" name=""/>
            <p:cNvSpPr/>
            <p:nvPr/>
          </p:nvSpPr>
          <p:spPr>
            <a:xfrm rot="10800000">
              <a:off x="3203280" y="3120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 rot="10800000">
              <a:off x="3203280" y="3044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 rot="10800000">
              <a:off x="3203640" y="3044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rot="10800000">
              <a:off x="3247920" y="3044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8" name=""/>
          <p:cNvGrpSpPr/>
          <p:nvPr/>
        </p:nvGrpSpPr>
        <p:grpSpPr>
          <a:xfrm>
            <a:off x="990720" y="1219320"/>
            <a:ext cx="88920" cy="93600"/>
            <a:chOff x="990720" y="1219320"/>
            <a:chExt cx="88920" cy="93600"/>
          </a:xfrm>
        </p:grpSpPr>
        <p:sp>
          <p:nvSpPr>
            <p:cNvPr id="5809" name=""/>
            <p:cNvSpPr/>
            <p:nvPr/>
          </p:nvSpPr>
          <p:spPr>
            <a:xfrm>
              <a:off x="990720" y="1219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990720" y="1294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103500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990720" y="1219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3" name=""/>
          <p:cNvGrpSpPr/>
          <p:nvPr/>
        </p:nvGrpSpPr>
        <p:grpSpPr>
          <a:xfrm>
            <a:off x="1216080" y="1603080"/>
            <a:ext cx="93600" cy="88920"/>
            <a:chOff x="1216080" y="1603080"/>
            <a:chExt cx="93600" cy="88920"/>
          </a:xfrm>
        </p:grpSpPr>
        <p:sp>
          <p:nvSpPr>
            <p:cNvPr id="5814" name=""/>
            <p:cNvSpPr/>
            <p:nvPr/>
          </p:nvSpPr>
          <p:spPr>
            <a:xfrm rot="16200000">
              <a:off x="1180800" y="1638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rot="16200000">
              <a:off x="1255680" y="1638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rot="16200000">
              <a:off x="1240560" y="157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rot="16200000">
              <a:off x="1240560" y="1622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8" name=""/>
          <p:cNvGrpSpPr/>
          <p:nvPr/>
        </p:nvGrpSpPr>
        <p:grpSpPr>
          <a:xfrm>
            <a:off x="1371600" y="1600200"/>
            <a:ext cx="88920" cy="93600"/>
            <a:chOff x="1371600" y="1600200"/>
            <a:chExt cx="88920" cy="93600"/>
          </a:xfrm>
        </p:grpSpPr>
        <p:sp>
          <p:nvSpPr>
            <p:cNvPr id="5819" name=""/>
            <p:cNvSpPr/>
            <p:nvPr/>
          </p:nvSpPr>
          <p:spPr>
            <a:xfrm>
              <a:off x="1371600" y="1600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1371600" y="1675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1415880" y="160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1371600" y="160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3" name=""/>
          <p:cNvGrpSpPr/>
          <p:nvPr/>
        </p:nvGrpSpPr>
        <p:grpSpPr>
          <a:xfrm>
            <a:off x="1673280" y="1450440"/>
            <a:ext cx="93600" cy="88920"/>
            <a:chOff x="1673280" y="1450440"/>
            <a:chExt cx="93600" cy="88920"/>
          </a:xfrm>
        </p:grpSpPr>
        <p:sp>
          <p:nvSpPr>
            <p:cNvPr id="5824" name=""/>
            <p:cNvSpPr/>
            <p:nvPr/>
          </p:nvSpPr>
          <p:spPr>
            <a:xfrm rot="16200000">
              <a:off x="1638000" y="1485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 rot="16200000">
              <a:off x="1712880" y="1485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 rot="16200000">
              <a:off x="1697760" y="142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 rot="16200000">
              <a:off x="1697760" y="147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8" name=""/>
          <p:cNvGrpSpPr/>
          <p:nvPr/>
        </p:nvGrpSpPr>
        <p:grpSpPr>
          <a:xfrm>
            <a:off x="1371600" y="2133720"/>
            <a:ext cx="88920" cy="93600"/>
            <a:chOff x="1371600" y="2133720"/>
            <a:chExt cx="88920" cy="93600"/>
          </a:xfrm>
        </p:grpSpPr>
        <p:sp>
          <p:nvSpPr>
            <p:cNvPr id="5829" name=""/>
            <p:cNvSpPr/>
            <p:nvPr/>
          </p:nvSpPr>
          <p:spPr>
            <a:xfrm>
              <a:off x="137160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137160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141588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13716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3" name=""/>
          <p:cNvGrpSpPr/>
          <p:nvPr/>
        </p:nvGrpSpPr>
        <p:grpSpPr>
          <a:xfrm>
            <a:off x="990720" y="2133720"/>
            <a:ext cx="88920" cy="93600"/>
            <a:chOff x="990720" y="2133720"/>
            <a:chExt cx="88920" cy="93600"/>
          </a:xfrm>
        </p:grpSpPr>
        <p:sp>
          <p:nvSpPr>
            <p:cNvPr id="5834" name=""/>
            <p:cNvSpPr/>
            <p:nvPr/>
          </p:nvSpPr>
          <p:spPr>
            <a:xfrm>
              <a:off x="990720" y="2133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990720" y="2208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103500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990720" y="2133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8" name=""/>
          <p:cNvGrpSpPr/>
          <p:nvPr/>
        </p:nvGrpSpPr>
        <p:grpSpPr>
          <a:xfrm>
            <a:off x="1444680" y="2364840"/>
            <a:ext cx="93600" cy="88920"/>
            <a:chOff x="1444680" y="2364840"/>
            <a:chExt cx="93600" cy="88920"/>
          </a:xfrm>
        </p:grpSpPr>
        <p:sp>
          <p:nvSpPr>
            <p:cNvPr id="5839" name=""/>
            <p:cNvSpPr/>
            <p:nvPr/>
          </p:nvSpPr>
          <p:spPr>
            <a:xfrm rot="16200000">
              <a:off x="1409400" y="2400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 rot="16200000">
              <a:off x="1484280" y="2399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 rot="16200000">
              <a:off x="1469160" y="2340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 rot="16200000">
              <a:off x="1469160" y="2384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3" name=""/>
          <p:cNvGrpSpPr/>
          <p:nvPr/>
        </p:nvGrpSpPr>
        <p:grpSpPr>
          <a:xfrm>
            <a:off x="1447920" y="1371240"/>
            <a:ext cx="152280" cy="152280"/>
            <a:chOff x="1447920" y="1371240"/>
            <a:chExt cx="152280" cy="152280"/>
          </a:xfrm>
        </p:grpSpPr>
        <p:sp>
          <p:nvSpPr>
            <p:cNvPr id="5844" name=""/>
            <p:cNvSpPr/>
            <p:nvPr/>
          </p:nvSpPr>
          <p:spPr>
            <a:xfrm rot="16200000">
              <a:off x="1386720" y="1432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 rot="16200000">
              <a:off x="1508760" y="1432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 rot="16200000">
              <a:off x="1486080" y="1333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 rot="16200000">
              <a:off x="1486080" y="1409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8" name=""/>
          <p:cNvGrpSpPr/>
          <p:nvPr/>
        </p:nvGrpSpPr>
        <p:grpSpPr>
          <a:xfrm>
            <a:off x="1828440" y="990360"/>
            <a:ext cx="152280" cy="152280"/>
            <a:chOff x="1828440" y="990360"/>
            <a:chExt cx="152280" cy="152280"/>
          </a:xfrm>
        </p:grpSpPr>
        <p:sp>
          <p:nvSpPr>
            <p:cNvPr id="5849" name=""/>
            <p:cNvSpPr/>
            <p:nvPr/>
          </p:nvSpPr>
          <p:spPr>
            <a:xfrm rot="10800000">
              <a:off x="1828440" y="11124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 rot="10800000">
              <a:off x="1828440" y="9903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 rot="10800000">
              <a:off x="1828800" y="9903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 rot="10800000">
              <a:off x="1904760" y="9903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3" name=""/>
          <p:cNvGrpSpPr/>
          <p:nvPr/>
        </p:nvGrpSpPr>
        <p:grpSpPr>
          <a:xfrm>
            <a:off x="1828800" y="1599840"/>
            <a:ext cx="152280" cy="152280"/>
            <a:chOff x="1828800" y="1599840"/>
            <a:chExt cx="152280" cy="152280"/>
          </a:xfrm>
        </p:grpSpPr>
        <p:sp>
          <p:nvSpPr>
            <p:cNvPr id="5854" name=""/>
            <p:cNvSpPr/>
            <p:nvPr/>
          </p:nvSpPr>
          <p:spPr>
            <a:xfrm rot="16200000">
              <a:off x="1767600" y="1660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 rot="16200000">
              <a:off x="1889640" y="16606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 rot="16200000">
              <a:off x="1866960" y="1562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 rot="16200000">
              <a:off x="1866960" y="1638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8" name=""/>
          <p:cNvGrpSpPr/>
          <p:nvPr/>
        </p:nvGrpSpPr>
        <p:grpSpPr>
          <a:xfrm>
            <a:off x="1599840" y="2742840"/>
            <a:ext cx="152280" cy="152280"/>
            <a:chOff x="1599840" y="2742840"/>
            <a:chExt cx="152280" cy="152280"/>
          </a:xfrm>
        </p:grpSpPr>
        <p:sp>
          <p:nvSpPr>
            <p:cNvPr id="5859" name=""/>
            <p:cNvSpPr/>
            <p:nvPr/>
          </p:nvSpPr>
          <p:spPr>
            <a:xfrm rot="10800000">
              <a:off x="1599840" y="2864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 rot="10800000">
              <a:off x="1599840" y="27428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 rot="10800000">
              <a:off x="1600200" y="2742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 rot="10800000">
              <a:off x="1676160" y="2742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3" name=""/>
          <p:cNvGrpSpPr/>
          <p:nvPr/>
        </p:nvGrpSpPr>
        <p:grpSpPr>
          <a:xfrm>
            <a:off x="1371240" y="2742840"/>
            <a:ext cx="152280" cy="152280"/>
            <a:chOff x="1371240" y="2742840"/>
            <a:chExt cx="152280" cy="152280"/>
          </a:xfrm>
        </p:grpSpPr>
        <p:sp>
          <p:nvSpPr>
            <p:cNvPr id="5864" name=""/>
            <p:cNvSpPr/>
            <p:nvPr/>
          </p:nvSpPr>
          <p:spPr>
            <a:xfrm rot="10800000">
              <a:off x="1371240" y="2864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 rot="10800000">
              <a:off x="1371240" y="27428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rot="10800000">
              <a:off x="1371600" y="2742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rot="10800000">
              <a:off x="1447560" y="2742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8" name=""/>
          <p:cNvGrpSpPr/>
          <p:nvPr/>
        </p:nvGrpSpPr>
        <p:grpSpPr>
          <a:xfrm>
            <a:off x="2819520" y="2361960"/>
            <a:ext cx="149400" cy="74520"/>
            <a:chOff x="2819520" y="2361960"/>
            <a:chExt cx="149400" cy="74520"/>
          </a:xfrm>
        </p:grpSpPr>
        <p:sp>
          <p:nvSpPr>
            <p:cNvPr id="5869" name=""/>
            <p:cNvSpPr/>
            <p:nvPr/>
          </p:nvSpPr>
          <p:spPr>
            <a:xfrm rot="16200000">
              <a:off x="2782440" y="2399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 rot="16200000">
              <a:off x="2931480" y="2399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rot="16200000">
              <a:off x="2875320" y="23061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 rot="16200000">
              <a:off x="2875320" y="23432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3" name=""/>
          <p:cNvGrpSpPr/>
          <p:nvPr/>
        </p:nvGrpSpPr>
        <p:grpSpPr>
          <a:xfrm>
            <a:off x="2590920" y="2133360"/>
            <a:ext cx="149400" cy="74520"/>
            <a:chOff x="2590920" y="2133360"/>
            <a:chExt cx="149400" cy="74520"/>
          </a:xfrm>
        </p:grpSpPr>
        <p:sp>
          <p:nvSpPr>
            <p:cNvPr id="5874" name=""/>
            <p:cNvSpPr/>
            <p:nvPr/>
          </p:nvSpPr>
          <p:spPr>
            <a:xfrm rot="16200000">
              <a:off x="2553840" y="2170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 rot="16200000">
              <a:off x="2702880" y="2170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rot="16200000">
              <a:off x="2646720" y="20775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rot="16200000">
              <a:off x="2646720" y="21146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8" name=""/>
          <p:cNvGrpSpPr/>
          <p:nvPr/>
        </p:nvGrpSpPr>
        <p:grpSpPr>
          <a:xfrm>
            <a:off x="3429000" y="1904760"/>
            <a:ext cx="149760" cy="74520"/>
            <a:chOff x="3429000" y="1904760"/>
            <a:chExt cx="149760" cy="74520"/>
          </a:xfrm>
        </p:grpSpPr>
        <p:sp>
          <p:nvSpPr>
            <p:cNvPr id="5879" name=""/>
            <p:cNvSpPr/>
            <p:nvPr/>
          </p:nvSpPr>
          <p:spPr>
            <a:xfrm rot="16200000">
              <a:off x="3391920" y="1941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 rot="16200000">
              <a:off x="3541320" y="1941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rot="16200000">
              <a:off x="3484800" y="18486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 rot="16200000">
              <a:off x="3485160" y="18860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3" name=""/>
          <p:cNvGrpSpPr/>
          <p:nvPr/>
        </p:nvGrpSpPr>
        <p:grpSpPr>
          <a:xfrm>
            <a:off x="2781000" y="1866600"/>
            <a:ext cx="74520" cy="152280"/>
            <a:chOff x="2781000" y="1866600"/>
            <a:chExt cx="74520" cy="152280"/>
          </a:xfrm>
        </p:grpSpPr>
        <p:sp>
          <p:nvSpPr>
            <p:cNvPr id="5884" name=""/>
            <p:cNvSpPr/>
            <p:nvPr/>
          </p:nvSpPr>
          <p:spPr>
            <a:xfrm rot="10800000">
              <a:off x="2781000" y="19886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rot="10800000">
              <a:off x="2781000" y="18666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rot="10800000">
              <a:off x="2781360" y="1866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rot="10800000">
              <a:off x="2818440" y="1866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2514600" y="1752480"/>
            <a:ext cx="152280" cy="74880"/>
            <a:chOff x="2514600" y="1752480"/>
            <a:chExt cx="152280" cy="74880"/>
          </a:xfrm>
        </p:grpSpPr>
        <p:sp>
          <p:nvSpPr>
            <p:cNvPr id="5889" name=""/>
            <p:cNvSpPr/>
            <p:nvPr/>
          </p:nvSpPr>
          <p:spPr>
            <a:xfrm rot="16200000">
              <a:off x="2492280" y="17748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rot="16200000">
              <a:off x="2613960" y="17744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 rot="16200000">
              <a:off x="2571840" y="16948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rot="16200000">
              <a:off x="2571840" y="17323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3" name=""/>
          <p:cNvGrpSpPr/>
          <p:nvPr/>
        </p:nvGrpSpPr>
        <p:grpSpPr>
          <a:xfrm>
            <a:off x="3047760" y="2971440"/>
            <a:ext cx="74520" cy="152280"/>
            <a:chOff x="3047760" y="2971440"/>
            <a:chExt cx="74520" cy="152280"/>
          </a:xfrm>
        </p:grpSpPr>
        <p:sp>
          <p:nvSpPr>
            <p:cNvPr id="5894" name=""/>
            <p:cNvSpPr/>
            <p:nvPr/>
          </p:nvSpPr>
          <p:spPr>
            <a:xfrm rot="10800000">
              <a:off x="3047760" y="30934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 rot="10800000">
              <a:off x="3047760" y="29714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 rot="10800000">
              <a:off x="3048120" y="2971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 rot="10800000">
              <a:off x="3085200" y="2971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8" name=""/>
          <p:cNvGrpSpPr/>
          <p:nvPr/>
        </p:nvGrpSpPr>
        <p:grpSpPr>
          <a:xfrm>
            <a:off x="3047760" y="3200040"/>
            <a:ext cx="74520" cy="152280"/>
            <a:chOff x="3047760" y="3200040"/>
            <a:chExt cx="74520" cy="152280"/>
          </a:xfrm>
        </p:grpSpPr>
        <p:sp>
          <p:nvSpPr>
            <p:cNvPr id="5899" name=""/>
            <p:cNvSpPr/>
            <p:nvPr/>
          </p:nvSpPr>
          <p:spPr>
            <a:xfrm rot="10800000">
              <a:off x="3047760" y="33220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 rot="10800000">
              <a:off x="3047760" y="32000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 rot="10800000">
              <a:off x="3048120" y="3200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rot="10800000">
              <a:off x="3085200" y="3200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3" name=""/>
          <p:cNvGrpSpPr/>
          <p:nvPr/>
        </p:nvGrpSpPr>
        <p:grpSpPr>
          <a:xfrm>
            <a:off x="3885840" y="1828440"/>
            <a:ext cx="74520" cy="152280"/>
            <a:chOff x="3885840" y="1828440"/>
            <a:chExt cx="74520" cy="152280"/>
          </a:xfrm>
        </p:grpSpPr>
        <p:sp>
          <p:nvSpPr>
            <p:cNvPr id="5904" name=""/>
            <p:cNvSpPr/>
            <p:nvPr/>
          </p:nvSpPr>
          <p:spPr>
            <a:xfrm rot="10800000">
              <a:off x="3885840" y="19504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 rot="10800000">
              <a:off x="3885840" y="18284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 rot="10800000">
              <a:off x="3886200" y="1828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rot="10800000">
              <a:off x="3923280" y="1828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8" name=""/>
          <p:cNvGrpSpPr/>
          <p:nvPr/>
        </p:nvGrpSpPr>
        <p:grpSpPr>
          <a:xfrm>
            <a:off x="3733560" y="3657240"/>
            <a:ext cx="74520" cy="152280"/>
            <a:chOff x="3733560" y="3657240"/>
            <a:chExt cx="74520" cy="152280"/>
          </a:xfrm>
        </p:grpSpPr>
        <p:sp>
          <p:nvSpPr>
            <p:cNvPr id="5909" name=""/>
            <p:cNvSpPr/>
            <p:nvPr/>
          </p:nvSpPr>
          <p:spPr>
            <a:xfrm rot="10800000">
              <a:off x="3733560" y="37792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 rot="10800000">
              <a:off x="3733560" y="36572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rot="10800000">
              <a:off x="3733920" y="36572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rot="10800000">
              <a:off x="3771000" y="36572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3" name=""/>
          <p:cNvGrpSpPr/>
          <p:nvPr/>
        </p:nvGrpSpPr>
        <p:grpSpPr>
          <a:xfrm>
            <a:off x="3505320" y="3733560"/>
            <a:ext cx="152280" cy="74520"/>
            <a:chOff x="3505320" y="3733560"/>
            <a:chExt cx="152280" cy="74520"/>
          </a:xfrm>
        </p:grpSpPr>
        <p:sp>
          <p:nvSpPr>
            <p:cNvPr id="5914" name=""/>
            <p:cNvSpPr/>
            <p:nvPr/>
          </p:nvSpPr>
          <p:spPr>
            <a:xfrm rot="16200000">
              <a:off x="3483000" y="37555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 rot="16200000">
              <a:off x="3605040" y="37555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16200000">
              <a:off x="3562920" y="3676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rot="16200000">
              <a:off x="3562920" y="3713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8" name=""/>
          <p:cNvGrpSpPr/>
          <p:nvPr/>
        </p:nvGrpSpPr>
        <p:grpSpPr>
          <a:xfrm>
            <a:off x="3887280" y="2741760"/>
            <a:ext cx="174600" cy="176040"/>
            <a:chOff x="3887280" y="2741760"/>
            <a:chExt cx="174600" cy="176040"/>
          </a:xfrm>
        </p:grpSpPr>
        <p:sp>
          <p:nvSpPr>
            <p:cNvPr id="5919" name=""/>
            <p:cNvSpPr/>
            <p:nvPr/>
          </p:nvSpPr>
          <p:spPr>
            <a:xfrm rot="5400000">
              <a:off x="3999240" y="277956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rot="5400000">
              <a:off x="3974400" y="275472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rot="5400000">
              <a:off x="3949200" y="26794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rot="5400000">
              <a:off x="3924720" y="28551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rot="5400000">
              <a:off x="3899520" y="282996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rot="5400000">
              <a:off x="3824280" y="280476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5" name=""/>
          <p:cNvGrpSpPr/>
          <p:nvPr/>
        </p:nvGrpSpPr>
        <p:grpSpPr>
          <a:xfrm>
            <a:off x="3428640" y="2743200"/>
            <a:ext cx="174600" cy="176040"/>
            <a:chOff x="3428640" y="2743200"/>
            <a:chExt cx="174600" cy="176040"/>
          </a:xfrm>
        </p:grpSpPr>
        <p:sp>
          <p:nvSpPr>
            <p:cNvPr id="5926" name=""/>
            <p:cNvSpPr/>
            <p:nvPr/>
          </p:nvSpPr>
          <p:spPr>
            <a:xfrm rot="5400000">
              <a:off x="3540600" y="2781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rot="5400000">
              <a:off x="3515760" y="27561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 rot="5400000">
              <a:off x="3490560" y="26809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rot="5400000">
              <a:off x="3466080" y="2856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rot="5400000">
              <a:off x="3440880" y="28314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rot="5400000">
              <a:off x="3365640" y="28062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2" name=""/>
          <p:cNvGrpSpPr/>
          <p:nvPr/>
        </p:nvGrpSpPr>
        <p:grpSpPr>
          <a:xfrm>
            <a:off x="3046320" y="2287440"/>
            <a:ext cx="176400" cy="174600"/>
            <a:chOff x="3046320" y="2287440"/>
            <a:chExt cx="176400" cy="174600"/>
          </a:xfrm>
        </p:grpSpPr>
        <p:sp>
          <p:nvSpPr>
            <p:cNvPr id="5933" name=""/>
            <p:cNvSpPr/>
            <p:nvPr/>
          </p:nvSpPr>
          <p:spPr>
            <a:xfrm>
              <a:off x="3046320" y="228744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3096720" y="228744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3046320" y="22874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3197520" y="23619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3096720" y="236196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3046320" y="2412000"/>
              <a:ext cx="17640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9" name=""/>
          <p:cNvGrpSpPr/>
          <p:nvPr/>
        </p:nvGrpSpPr>
        <p:grpSpPr>
          <a:xfrm>
            <a:off x="2566800" y="2514240"/>
            <a:ext cx="176040" cy="174600"/>
            <a:chOff x="2566800" y="2514240"/>
            <a:chExt cx="176040" cy="174600"/>
          </a:xfrm>
        </p:grpSpPr>
        <p:sp>
          <p:nvSpPr>
            <p:cNvPr id="5940" name=""/>
            <p:cNvSpPr/>
            <p:nvPr/>
          </p:nvSpPr>
          <p:spPr>
            <a:xfrm rot="10800000">
              <a:off x="2642400" y="26640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 rot="10800000">
              <a:off x="2642400" y="25642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rot="10800000">
              <a:off x="2692440" y="25142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rot="10800000">
              <a:off x="2566800" y="25142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 rot="10800000">
              <a:off x="2566800" y="2564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rot="10800000">
              <a:off x="2566800" y="2514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6" name=""/>
          <p:cNvGrpSpPr/>
          <p:nvPr/>
        </p:nvGrpSpPr>
        <p:grpSpPr>
          <a:xfrm>
            <a:off x="3657240" y="1828800"/>
            <a:ext cx="174600" cy="176040"/>
            <a:chOff x="3657240" y="1828800"/>
            <a:chExt cx="174600" cy="176040"/>
          </a:xfrm>
        </p:grpSpPr>
        <p:sp>
          <p:nvSpPr>
            <p:cNvPr id="5947" name=""/>
            <p:cNvSpPr/>
            <p:nvPr/>
          </p:nvSpPr>
          <p:spPr>
            <a:xfrm rot="5400000">
              <a:off x="3769200" y="1866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 rot="5400000">
              <a:off x="3744360" y="18417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 rot="5400000">
              <a:off x="3719160" y="17665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rot="5400000">
              <a:off x="3694680" y="19422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 rot="5400000">
              <a:off x="3669480" y="19170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rot="5400000">
              <a:off x="3594240" y="18918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3" name=""/>
          <p:cNvGrpSpPr/>
          <p:nvPr/>
        </p:nvGrpSpPr>
        <p:grpSpPr>
          <a:xfrm>
            <a:off x="4114440" y="1371600"/>
            <a:ext cx="174600" cy="176040"/>
            <a:chOff x="4114440" y="1371600"/>
            <a:chExt cx="174600" cy="176040"/>
          </a:xfrm>
        </p:grpSpPr>
        <p:sp>
          <p:nvSpPr>
            <p:cNvPr id="5954" name=""/>
            <p:cNvSpPr/>
            <p:nvPr/>
          </p:nvSpPr>
          <p:spPr>
            <a:xfrm rot="5400000">
              <a:off x="4226400" y="1409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rot="5400000">
              <a:off x="4201560" y="1384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 rot="5400000">
              <a:off x="4176360" y="13093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rot="5400000">
              <a:off x="4151880" y="1485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rot="5400000">
              <a:off x="4126680" y="1459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rot="5400000">
              <a:off x="4051440" y="14346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0" name=""/>
          <p:cNvGrpSpPr/>
          <p:nvPr/>
        </p:nvGrpSpPr>
        <p:grpSpPr>
          <a:xfrm>
            <a:off x="3429000" y="1371600"/>
            <a:ext cx="206280" cy="193680"/>
            <a:chOff x="3429000" y="1371600"/>
            <a:chExt cx="206280" cy="193680"/>
          </a:xfrm>
        </p:grpSpPr>
        <p:sp>
          <p:nvSpPr>
            <p:cNvPr id="5961" name=""/>
            <p:cNvSpPr/>
            <p:nvPr/>
          </p:nvSpPr>
          <p:spPr>
            <a:xfrm rot="16200000">
              <a:off x="3464640" y="150984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rot="16200000">
              <a:off x="3465000" y="133560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rot="16200000">
              <a:off x="3354840" y="14454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rot="16200000">
              <a:off x="3400200" y="144576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rot="16200000">
              <a:off x="3582720" y="145440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rot="16200000">
              <a:off x="3448080" y="145728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rot="16200000">
              <a:off x="3536280" y="140796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rot="16200000">
              <a:off x="3535920" y="13694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9" name=""/>
          <p:cNvGrpSpPr/>
          <p:nvPr/>
        </p:nvGrpSpPr>
        <p:grpSpPr>
          <a:xfrm>
            <a:off x="5257440" y="1371600"/>
            <a:ext cx="174600" cy="176040"/>
            <a:chOff x="5257440" y="1371600"/>
            <a:chExt cx="174600" cy="176040"/>
          </a:xfrm>
        </p:grpSpPr>
        <p:sp>
          <p:nvSpPr>
            <p:cNvPr id="5970" name=""/>
            <p:cNvSpPr/>
            <p:nvPr/>
          </p:nvSpPr>
          <p:spPr>
            <a:xfrm rot="5400000">
              <a:off x="5369400" y="1409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rot="5400000">
              <a:off x="5344560" y="1384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 rot="5400000">
              <a:off x="5319360" y="13093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 rot="5400000">
              <a:off x="5294880" y="1485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 rot="5400000">
              <a:off x="5269680" y="1459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 rot="5400000">
              <a:off x="5194440" y="14346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6" name=""/>
          <p:cNvGrpSpPr/>
          <p:nvPr/>
        </p:nvGrpSpPr>
        <p:grpSpPr>
          <a:xfrm>
            <a:off x="5029200" y="914040"/>
            <a:ext cx="174600" cy="176040"/>
            <a:chOff x="5029200" y="914040"/>
            <a:chExt cx="174600" cy="176040"/>
          </a:xfrm>
        </p:grpSpPr>
        <p:sp>
          <p:nvSpPr>
            <p:cNvPr id="5977" name=""/>
            <p:cNvSpPr/>
            <p:nvPr/>
          </p:nvSpPr>
          <p:spPr>
            <a:xfrm rot="16200000">
              <a:off x="4991400" y="10274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 rot="16200000">
              <a:off x="5066280" y="9522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rot="16200000">
              <a:off x="5091120" y="9774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 rot="16200000">
              <a:off x="5141160" y="8766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rot="16200000">
              <a:off x="5065560" y="9518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 rot="16200000">
              <a:off x="5090760" y="9770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3" name=""/>
          <p:cNvGrpSpPr/>
          <p:nvPr/>
        </p:nvGrpSpPr>
        <p:grpSpPr>
          <a:xfrm>
            <a:off x="4800600" y="914400"/>
            <a:ext cx="74520" cy="149760"/>
            <a:chOff x="4800600" y="914400"/>
            <a:chExt cx="74520" cy="149760"/>
          </a:xfrm>
        </p:grpSpPr>
        <p:sp>
          <p:nvSpPr>
            <p:cNvPr id="5984" name=""/>
            <p:cNvSpPr/>
            <p:nvPr/>
          </p:nvSpPr>
          <p:spPr>
            <a:xfrm>
              <a:off x="4800600" y="914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4800600" y="1063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4837680" y="914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4800600" y="9144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8" name=""/>
          <p:cNvGrpSpPr/>
          <p:nvPr/>
        </p:nvGrpSpPr>
        <p:grpSpPr>
          <a:xfrm>
            <a:off x="4419720" y="914400"/>
            <a:ext cx="74520" cy="152280"/>
            <a:chOff x="4419720" y="914400"/>
            <a:chExt cx="74520" cy="152280"/>
          </a:xfrm>
        </p:grpSpPr>
        <p:sp>
          <p:nvSpPr>
            <p:cNvPr id="5989" name=""/>
            <p:cNvSpPr/>
            <p:nvPr/>
          </p:nvSpPr>
          <p:spPr>
            <a:xfrm>
              <a:off x="4419720" y="9144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4419720" y="10360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4456800" y="914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4419720" y="914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3" name=""/>
          <p:cNvGrpSpPr/>
          <p:nvPr/>
        </p:nvGrpSpPr>
        <p:grpSpPr>
          <a:xfrm>
            <a:off x="3962520" y="1219320"/>
            <a:ext cx="74520" cy="152280"/>
            <a:chOff x="3962520" y="1219320"/>
            <a:chExt cx="74520" cy="152280"/>
          </a:xfrm>
        </p:grpSpPr>
        <p:sp>
          <p:nvSpPr>
            <p:cNvPr id="5994" name=""/>
            <p:cNvSpPr/>
            <p:nvPr/>
          </p:nvSpPr>
          <p:spPr>
            <a:xfrm>
              <a:off x="3962520" y="12193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3962520" y="13410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3999600" y="1219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3962520" y="1219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8" name=""/>
          <p:cNvGrpSpPr/>
          <p:nvPr/>
        </p:nvGrpSpPr>
        <p:grpSpPr>
          <a:xfrm>
            <a:off x="4648320" y="2057400"/>
            <a:ext cx="74520" cy="149760"/>
            <a:chOff x="4648320" y="2057400"/>
            <a:chExt cx="74520" cy="149760"/>
          </a:xfrm>
        </p:grpSpPr>
        <p:sp>
          <p:nvSpPr>
            <p:cNvPr id="5999" name=""/>
            <p:cNvSpPr/>
            <p:nvPr/>
          </p:nvSpPr>
          <p:spPr>
            <a:xfrm>
              <a:off x="4648320" y="2057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4648320" y="2206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4685400" y="2057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4648320" y="20574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3" name=""/>
          <p:cNvGrpSpPr/>
          <p:nvPr/>
        </p:nvGrpSpPr>
        <p:grpSpPr>
          <a:xfrm>
            <a:off x="5257800" y="2438280"/>
            <a:ext cx="149760" cy="74880"/>
            <a:chOff x="5257800" y="2438280"/>
            <a:chExt cx="149760" cy="74880"/>
          </a:xfrm>
        </p:grpSpPr>
        <p:sp>
          <p:nvSpPr>
            <p:cNvPr id="6004" name=""/>
            <p:cNvSpPr/>
            <p:nvPr/>
          </p:nvSpPr>
          <p:spPr>
            <a:xfrm rot="16200000">
              <a:off x="5220360" y="24753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 rot="16200000">
              <a:off x="5369760" y="24753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 rot="16200000">
              <a:off x="5313600" y="23824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 rot="16200000">
              <a:off x="5313960" y="24199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8" name=""/>
          <p:cNvGrpSpPr/>
          <p:nvPr/>
        </p:nvGrpSpPr>
        <p:grpSpPr>
          <a:xfrm>
            <a:off x="5486040" y="1828440"/>
            <a:ext cx="176040" cy="174600"/>
            <a:chOff x="5486040" y="1828440"/>
            <a:chExt cx="176040" cy="174600"/>
          </a:xfrm>
        </p:grpSpPr>
        <p:sp>
          <p:nvSpPr>
            <p:cNvPr id="6009" name=""/>
            <p:cNvSpPr/>
            <p:nvPr/>
          </p:nvSpPr>
          <p:spPr>
            <a:xfrm rot="10800000">
              <a:off x="5561640" y="19782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rot="10800000">
              <a:off x="5561640" y="18784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 rot="10800000">
              <a:off x="5611680" y="18284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 rot="10800000">
              <a:off x="5486040" y="18284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rot="10800000">
              <a:off x="5486040" y="18788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rot="10800000">
              <a:off x="5486040" y="18284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5" name=""/>
          <p:cNvGrpSpPr/>
          <p:nvPr/>
        </p:nvGrpSpPr>
        <p:grpSpPr>
          <a:xfrm>
            <a:off x="5029200" y="1371240"/>
            <a:ext cx="149760" cy="74520"/>
            <a:chOff x="5029200" y="1371240"/>
            <a:chExt cx="149760" cy="74520"/>
          </a:xfrm>
        </p:grpSpPr>
        <p:sp>
          <p:nvSpPr>
            <p:cNvPr id="6016" name=""/>
            <p:cNvSpPr/>
            <p:nvPr/>
          </p:nvSpPr>
          <p:spPr>
            <a:xfrm rot="16200000">
              <a:off x="4992120" y="1408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rot="16200000">
              <a:off x="5141520" y="1408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rot="16200000">
              <a:off x="5085000" y="13150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rot="16200000">
              <a:off x="5085360" y="13525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0" name=""/>
          <p:cNvGrpSpPr/>
          <p:nvPr/>
        </p:nvGrpSpPr>
        <p:grpSpPr>
          <a:xfrm>
            <a:off x="4800600" y="1599840"/>
            <a:ext cx="152280" cy="74520"/>
            <a:chOff x="4800600" y="1599840"/>
            <a:chExt cx="152280" cy="74520"/>
          </a:xfrm>
        </p:grpSpPr>
        <p:sp>
          <p:nvSpPr>
            <p:cNvPr id="6021" name=""/>
            <p:cNvSpPr/>
            <p:nvPr/>
          </p:nvSpPr>
          <p:spPr>
            <a:xfrm rot="16200000">
              <a:off x="4778280" y="16218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rot="16200000">
              <a:off x="4900320" y="16218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rot="16200000">
              <a:off x="4858200" y="1542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rot="16200000">
              <a:off x="4858200" y="1579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5" name=""/>
          <p:cNvGrpSpPr/>
          <p:nvPr/>
        </p:nvGrpSpPr>
        <p:grpSpPr>
          <a:xfrm>
            <a:off x="5029200" y="2057040"/>
            <a:ext cx="152280" cy="152280"/>
            <a:chOff x="5029200" y="2057040"/>
            <a:chExt cx="152280" cy="152280"/>
          </a:xfrm>
        </p:grpSpPr>
        <p:sp>
          <p:nvSpPr>
            <p:cNvPr id="6026" name=""/>
            <p:cNvSpPr/>
            <p:nvPr/>
          </p:nvSpPr>
          <p:spPr>
            <a:xfrm rot="16200000">
              <a:off x="4968000" y="2117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rot="16200000">
              <a:off x="5090040" y="2117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rot="16200000">
              <a:off x="5067360" y="2019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rot="16200000">
              <a:off x="5067360" y="20952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0" name=""/>
          <p:cNvGrpSpPr/>
          <p:nvPr/>
        </p:nvGrpSpPr>
        <p:grpSpPr>
          <a:xfrm>
            <a:off x="4572000" y="1371240"/>
            <a:ext cx="152280" cy="152280"/>
            <a:chOff x="4572000" y="1371240"/>
            <a:chExt cx="152280" cy="152280"/>
          </a:xfrm>
        </p:grpSpPr>
        <p:sp>
          <p:nvSpPr>
            <p:cNvPr id="6031" name=""/>
            <p:cNvSpPr/>
            <p:nvPr/>
          </p:nvSpPr>
          <p:spPr>
            <a:xfrm rot="16200000">
              <a:off x="4510800" y="1432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rot="16200000">
              <a:off x="4632840" y="1432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rot="16200000">
              <a:off x="4610160" y="1333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rot="16200000">
              <a:off x="4610160" y="1409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5" name=""/>
          <p:cNvGrpSpPr/>
          <p:nvPr/>
        </p:nvGrpSpPr>
        <p:grpSpPr>
          <a:xfrm>
            <a:off x="4419720" y="1828440"/>
            <a:ext cx="152280" cy="152280"/>
            <a:chOff x="4419720" y="1828440"/>
            <a:chExt cx="152280" cy="152280"/>
          </a:xfrm>
        </p:grpSpPr>
        <p:sp>
          <p:nvSpPr>
            <p:cNvPr id="6036" name=""/>
            <p:cNvSpPr/>
            <p:nvPr/>
          </p:nvSpPr>
          <p:spPr>
            <a:xfrm rot="16200000">
              <a:off x="4358520" y="18892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 rot="16200000">
              <a:off x="4480560" y="1889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rot="16200000">
              <a:off x="4457880" y="1790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rot="16200000">
              <a:off x="4457880" y="1866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0" name=""/>
          <p:cNvGrpSpPr/>
          <p:nvPr/>
        </p:nvGrpSpPr>
        <p:grpSpPr>
          <a:xfrm>
            <a:off x="4875120" y="2287440"/>
            <a:ext cx="176400" cy="174600"/>
            <a:chOff x="4875120" y="2287440"/>
            <a:chExt cx="176400" cy="174600"/>
          </a:xfrm>
        </p:grpSpPr>
        <p:sp>
          <p:nvSpPr>
            <p:cNvPr id="6041" name=""/>
            <p:cNvSpPr/>
            <p:nvPr/>
          </p:nvSpPr>
          <p:spPr>
            <a:xfrm>
              <a:off x="4875120" y="228744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4925520" y="228744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875120" y="22874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026320" y="23619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4925520" y="236196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4875120" y="2412000"/>
              <a:ext cx="17640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7" name=""/>
          <p:cNvGrpSpPr/>
          <p:nvPr/>
        </p:nvGrpSpPr>
        <p:grpSpPr>
          <a:xfrm>
            <a:off x="3962520" y="2285640"/>
            <a:ext cx="152280" cy="152280"/>
            <a:chOff x="3962520" y="2285640"/>
            <a:chExt cx="152280" cy="152280"/>
          </a:xfrm>
        </p:grpSpPr>
        <p:sp>
          <p:nvSpPr>
            <p:cNvPr id="6048" name=""/>
            <p:cNvSpPr/>
            <p:nvPr/>
          </p:nvSpPr>
          <p:spPr>
            <a:xfrm rot="16200000">
              <a:off x="3901320" y="23464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rot="16200000">
              <a:off x="4023360" y="2346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rot="16200000">
              <a:off x="4000680" y="2247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 rot="16200000">
              <a:off x="4000680" y="2323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2" name=""/>
          <p:cNvGrpSpPr/>
          <p:nvPr/>
        </p:nvGrpSpPr>
        <p:grpSpPr>
          <a:xfrm>
            <a:off x="3885840" y="2057040"/>
            <a:ext cx="152280" cy="152280"/>
            <a:chOff x="3885840" y="2057040"/>
            <a:chExt cx="152280" cy="152280"/>
          </a:xfrm>
        </p:grpSpPr>
        <p:sp>
          <p:nvSpPr>
            <p:cNvPr id="6053" name=""/>
            <p:cNvSpPr/>
            <p:nvPr/>
          </p:nvSpPr>
          <p:spPr>
            <a:xfrm rot="10800000">
              <a:off x="3885840" y="2179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rot="10800000">
              <a:off x="3885840" y="20570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 rot="10800000">
              <a:off x="3886200" y="2057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rot="10800000">
              <a:off x="3962160" y="2057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7" name=""/>
          <p:cNvGrpSpPr/>
          <p:nvPr/>
        </p:nvGrpSpPr>
        <p:grpSpPr>
          <a:xfrm>
            <a:off x="3428640" y="2285640"/>
            <a:ext cx="152280" cy="152280"/>
            <a:chOff x="3428640" y="2285640"/>
            <a:chExt cx="152280" cy="152280"/>
          </a:xfrm>
        </p:grpSpPr>
        <p:sp>
          <p:nvSpPr>
            <p:cNvPr id="6058" name=""/>
            <p:cNvSpPr/>
            <p:nvPr/>
          </p:nvSpPr>
          <p:spPr>
            <a:xfrm rot="10800000">
              <a:off x="3428640" y="2407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 rot="10800000">
              <a:off x="3428640" y="22856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 rot="10800000">
              <a:off x="3429000" y="2285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rot="10800000">
              <a:off x="3504960" y="2285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2" name=""/>
          <p:cNvGrpSpPr/>
          <p:nvPr/>
        </p:nvGrpSpPr>
        <p:grpSpPr>
          <a:xfrm>
            <a:off x="3428640" y="2057040"/>
            <a:ext cx="152280" cy="152280"/>
            <a:chOff x="3428640" y="2057040"/>
            <a:chExt cx="152280" cy="152280"/>
          </a:xfrm>
        </p:grpSpPr>
        <p:sp>
          <p:nvSpPr>
            <p:cNvPr id="6063" name=""/>
            <p:cNvSpPr/>
            <p:nvPr/>
          </p:nvSpPr>
          <p:spPr>
            <a:xfrm rot="10800000">
              <a:off x="3428640" y="21790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rot="10800000">
              <a:off x="3428640" y="20570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 rot="10800000">
              <a:off x="3429000" y="2057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 rot="10800000">
              <a:off x="3504960" y="20570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7" name=""/>
          <p:cNvGrpSpPr/>
          <p:nvPr/>
        </p:nvGrpSpPr>
        <p:grpSpPr>
          <a:xfrm>
            <a:off x="3048120" y="1371600"/>
            <a:ext cx="176040" cy="174600"/>
            <a:chOff x="3048120" y="1371600"/>
            <a:chExt cx="176040" cy="174600"/>
          </a:xfrm>
        </p:grpSpPr>
        <p:sp>
          <p:nvSpPr>
            <p:cNvPr id="6068" name=""/>
            <p:cNvSpPr/>
            <p:nvPr/>
          </p:nvSpPr>
          <p:spPr>
            <a:xfrm>
              <a:off x="3048120" y="13716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098520" y="13716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3048120" y="13716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198960" y="144612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098520" y="144612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3048120" y="149616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4" name=""/>
          <p:cNvGrpSpPr/>
          <p:nvPr/>
        </p:nvGrpSpPr>
        <p:grpSpPr>
          <a:xfrm>
            <a:off x="3276360" y="2514600"/>
            <a:ext cx="152280" cy="152280"/>
            <a:chOff x="3276360" y="2514600"/>
            <a:chExt cx="152280" cy="152280"/>
          </a:xfrm>
        </p:grpSpPr>
        <p:sp>
          <p:nvSpPr>
            <p:cNvPr id="6075" name=""/>
            <p:cNvSpPr/>
            <p:nvPr/>
          </p:nvSpPr>
          <p:spPr>
            <a:xfrm rot="5400000">
              <a:off x="3337200" y="25754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 rot="5400000">
              <a:off x="3215520" y="25754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rot="5400000">
              <a:off x="3314520" y="25524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 rot="5400000">
              <a:off x="3314520" y="24764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9" name=""/>
          <p:cNvGrpSpPr/>
          <p:nvPr/>
        </p:nvGrpSpPr>
        <p:grpSpPr>
          <a:xfrm>
            <a:off x="3025800" y="2741400"/>
            <a:ext cx="174600" cy="176040"/>
            <a:chOff x="3025800" y="2741400"/>
            <a:chExt cx="174600" cy="176040"/>
          </a:xfrm>
        </p:grpSpPr>
        <p:sp>
          <p:nvSpPr>
            <p:cNvPr id="6080" name=""/>
            <p:cNvSpPr/>
            <p:nvPr/>
          </p:nvSpPr>
          <p:spPr>
            <a:xfrm rot="16200000">
              <a:off x="2988000" y="2854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 rot="16200000">
              <a:off x="3062880" y="2779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 rot="16200000">
              <a:off x="3087720" y="280476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 rot="16200000">
              <a:off x="3137760" y="270396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 rot="16200000">
              <a:off x="3062160" y="27792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 rot="16200000">
              <a:off x="3087360" y="28044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6" name=""/>
          <p:cNvGrpSpPr/>
          <p:nvPr/>
        </p:nvGrpSpPr>
        <p:grpSpPr>
          <a:xfrm>
            <a:off x="3429000" y="3886200"/>
            <a:ext cx="206280" cy="193680"/>
            <a:chOff x="3429000" y="3886200"/>
            <a:chExt cx="206280" cy="193680"/>
          </a:xfrm>
        </p:grpSpPr>
        <p:sp>
          <p:nvSpPr>
            <p:cNvPr id="6087" name=""/>
            <p:cNvSpPr/>
            <p:nvPr/>
          </p:nvSpPr>
          <p:spPr>
            <a:xfrm rot="16200000">
              <a:off x="3464640" y="402444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 rot="16200000">
              <a:off x="3465000" y="385020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 rot="16200000">
              <a:off x="3354840" y="396000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 rot="16200000">
              <a:off x="3400200" y="396036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 rot="16200000">
              <a:off x="3582720" y="396900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 rot="16200000">
              <a:off x="3448080" y="397188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 rot="16200000">
              <a:off x="3536280" y="392256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 rot="16200000">
              <a:off x="3535920" y="388404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5" name=""/>
          <p:cNvGrpSpPr/>
          <p:nvPr/>
        </p:nvGrpSpPr>
        <p:grpSpPr>
          <a:xfrm>
            <a:off x="3581280" y="3276360"/>
            <a:ext cx="74880" cy="152280"/>
            <a:chOff x="3581280" y="3276360"/>
            <a:chExt cx="74880" cy="152280"/>
          </a:xfrm>
        </p:grpSpPr>
        <p:sp>
          <p:nvSpPr>
            <p:cNvPr id="6096" name=""/>
            <p:cNvSpPr/>
            <p:nvPr/>
          </p:nvSpPr>
          <p:spPr>
            <a:xfrm rot="10800000">
              <a:off x="3581280" y="33984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 rot="10800000">
              <a:off x="3581280" y="327636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 rot="10800000">
              <a:off x="3581280" y="32763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 rot="10800000">
              <a:off x="3618720" y="32763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0" name=""/>
          <p:cNvGrpSpPr/>
          <p:nvPr/>
        </p:nvGrpSpPr>
        <p:grpSpPr>
          <a:xfrm>
            <a:off x="3276720" y="3428640"/>
            <a:ext cx="174600" cy="176040"/>
            <a:chOff x="3276720" y="3428640"/>
            <a:chExt cx="174600" cy="176040"/>
          </a:xfrm>
        </p:grpSpPr>
        <p:sp>
          <p:nvSpPr>
            <p:cNvPr id="6101" name=""/>
            <p:cNvSpPr/>
            <p:nvPr/>
          </p:nvSpPr>
          <p:spPr>
            <a:xfrm rot="16200000">
              <a:off x="3238920" y="35420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 rot="16200000">
              <a:off x="3313800" y="34668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 rot="16200000">
              <a:off x="3338640" y="34920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 rot="16200000">
              <a:off x="3388680" y="33912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 rot="16200000">
              <a:off x="3313080" y="34664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 rot="16200000">
              <a:off x="3338280" y="34916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7" name=""/>
          <p:cNvGrpSpPr/>
          <p:nvPr/>
        </p:nvGrpSpPr>
        <p:grpSpPr>
          <a:xfrm>
            <a:off x="1142640" y="2285640"/>
            <a:ext cx="152280" cy="152280"/>
            <a:chOff x="1142640" y="2285640"/>
            <a:chExt cx="152280" cy="152280"/>
          </a:xfrm>
        </p:grpSpPr>
        <p:sp>
          <p:nvSpPr>
            <p:cNvPr id="6108" name=""/>
            <p:cNvSpPr/>
            <p:nvPr/>
          </p:nvSpPr>
          <p:spPr>
            <a:xfrm rot="10800000">
              <a:off x="1142640" y="2407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 rot="10800000">
              <a:off x="1142640" y="22856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 rot="10800000">
              <a:off x="1143000" y="2285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 rot="10800000">
              <a:off x="1218960" y="2285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2" name=""/>
          <p:cNvGrpSpPr/>
          <p:nvPr/>
        </p:nvGrpSpPr>
        <p:grpSpPr>
          <a:xfrm>
            <a:off x="1143000" y="1218960"/>
            <a:ext cx="149760" cy="74520"/>
            <a:chOff x="1143000" y="1218960"/>
            <a:chExt cx="149760" cy="74520"/>
          </a:xfrm>
        </p:grpSpPr>
        <p:sp>
          <p:nvSpPr>
            <p:cNvPr id="6113" name=""/>
            <p:cNvSpPr/>
            <p:nvPr/>
          </p:nvSpPr>
          <p:spPr>
            <a:xfrm rot="16200000">
              <a:off x="1105920" y="125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 rot="16200000">
              <a:off x="1255320" y="125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 rot="16200000">
              <a:off x="1198800" y="1162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 rot="16200000">
              <a:off x="1199160" y="1200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7" name=""/>
          <p:cNvGrpSpPr/>
          <p:nvPr/>
        </p:nvGrpSpPr>
        <p:grpSpPr>
          <a:xfrm>
            <a:off x="1599840" y="2286000"/>
            <a:ext cx="174600" cy="176040"/>
            <a:chOff x="1599840" y="2286000"/>
            <a:chExt cx="174600" cy="176040"/>
          </a:xfrm>
        </p:grpSpPr>
        <p:sp>
          <p:nvSpPr>
            <p:cNvPr id="6118" name=""/>
            <p:cNvSpPr/>
            <p:nvPr/>
          </p:nvSpPr>
          <p:spPr>
            <a:xfrm rot="5400000">
              <a:off x="1711800" y="23238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 rot="5400000">
              <a:off x="1686960" y="22989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 rot="5400000">
              <a:off x="1661760" y="22237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 rot="5400000">
              <a:off x="1637280" y="2399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 rot="5400000">
              <a:off x="1612080" y="23742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 rot="5400000">
              <a:off x="1536840" y="23490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4" name=""/>
          <p:cNvGrpSpPr/>
          <p:nvPr/>
        </p:nvGrpSpPr>
        <p:grpSpPr>
          <a:xfrm>
            <a:off x="1676160" y="2514240"/>
            <a:ext cx="152280" cy="152280"/>
            <a:chOff x="1676160" y="2514240"/>
            <a:chExt cx="152280" cy="152280"/>
          </a:xfrm>
        </p:grpSpPr>
        <p:sp>
          <p:nvSpPr>
            <p:cNvPr id="6125" name=""/>
            <p:cNvSpPr/>
            <p:nvPr/>
          </p:nvSpPr>
          <p:spPr>
            <a:xfrm rot="10800000">
              <a:off x="1676160" y="26362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 rot="10800000">
              <a:off x="1676160" y="25142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 rot="10800000">
              <a:off x="1676520" y="2514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 rot="10800000">
              <a:off x="1752480" y="25142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9" name=""/>
          <p:cNvGrpSpPr/>
          <p:nvPr/>
        </p:nvGrpSpPr>
        <p:grpSpPr>
          <a:xfrm>
            <a:off x="2155680" y="3683160"/>
            <a:ext cx="152640" cy="144360"/>
            <a:chOff x="2155680" y="3683160"/>
            <a:chExt cx="152640" cy="144360"/>
          </a:xfrm>
        </p:grpSpPr>
        <p:sp>
          <p:nvSpPr>
            <p:cNvPr id="6130" name=""/>
            <p:cNvSpPr/>
            <p:nvPr/>
          </p:nvSpPr>
          <p:spPr>
            <a:xfrm>
              <a:off x="2165760" y="3691800"/>
              <a:ext cx="133200" cy="126000"/>
            </a:xfrm>
            <a:prstGeom prst="ellipse">
              <a:avLst/>
            </a:prstGeom>
            <a:solidFill>
              <a:srgbClr val="a58f8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2159640" y="3689640"/>
              <a:ext cx="127080" cy="130320"/>
            </a:xfrm>
            <a:custGeom>
              <a:avLst/>
              <a:gdLst/>
              <a:ahLst/>
              <a:rect l="l" t="t" r="r" b="b"/>
              <a:pathLst>
                <a:path w="1476" h="1602">
                  <a:moveTo>
                    <a:pt x="678" y="1602"/>
                  </a:moveTo>
                  <a:lnTo>
                    <a:pt x="678" y="1596"/>
                  </a:lnTo>
                  <a:lnTo>
                    <a:pt x="684" y="1578"/>
                  </a:lnTo>
                  <a:lnTo>
                    <a:pt x="684" y="1560"/>
                  </a:lnTo>
                  <a:lnTo>
                    <a:pt x="690" y="1548"/>
                  </a:lnTo>
                  <a:lnTo>
                    <a:pt x="690" y="1536"/>
                  </a:lnTo>
                  <a:lnTo>
                    <a:pt x="696" y="1530"/>
                  </a:lnTo>
                  <a:lnTo>
                    <a:pt x="696" y="1512"/>
                  </a:lnTo>
                  <a:lnTo>
                    <a:pt x="696" y="1494"/>
                  </a:lnTo>
                  <a:lnTo>
                    <a:pt x="702" y="1476"/>
                  </a:lnTo>
                  <a:lnTo>
                    <a:pt x="702" y="1452"/>
                  </a:lnTo>
                  <a:lnTo>
                    <a:pt x="702" y="1428"/>
                  </a:lnTo>
                  <a:lnTo>
                    <a:pt x="702" y="1410"/>
                  </a:lnTo>
                  <a:lnTo>
                    <a:pt x="702" y="1386"/>
                  </a:lnTo>
                  <a:lnTo>
                    <a:pt x="702" y="1374"/>
                  </a:lnTo>
                  <a:lnTo>
                    <a:pt x="702" y="1356"/>
                  </a:lnTo>
                  <a:lnTo>
                    <a:pt x="702" y="1350"/>
                  </a:lnTo>
                  <a:lnTo>
                    <a:pt x="702" y="1332"/>
                  </a:lnTo>
                  <a:lnTo>
                    <a:pt x="702" y="1320"/>
                  </a:lnTo>
                  <a:lnTo>
                    <a:pt x="708" y="1308"/>
                  </a:lnTo>
                  <a:lnTo>
                    <a:pt x="708" y="1290"/>
                  </a:lnTo>
                  <a:lnTo>
                    <a:pt x="708" y="1278"/>
                  </a:lnTo>
                  <a:lnTo>
                    <a:pt x="708" y="1266"/>
                  </a:lnTo>
                  <a:lnTo>
                    <a:pt x="708" y="1254"/>
                  </a:lnTo>
                  <a:lnTo>
                    <a:pt x="714" y="1236"/>
                  </a:lnTo>
                  <a:lnTo>
                    <a:pt x="714" y="1218"/>
                  </a:lnTo>
                  <a:lnTo>
                    <a:pt x="714" y="1200"/>
                  </a:lnTo>
                  <a:lnTo>
                    <a:pt x="714" y="1188"/>
                  </a:lnTo>
                  <a:lnTo>
                    <a:pt x="720" y="1164"/>
                  </a:lnTo>
                  <a:lnTo>
                    <a:pt x="720" y="1134"/>
                  </a:lnTo>
                  <a:lnTo>
                    <a:pt x="720" y="1116"/>
                  </a:lnTo>
                  <a:lnTo>
                    <a:pt x="726" y="1092"/>
                  </a:lnTo>
                  <a:lnTo>
                    <a:pt x="726" y="1074"/>
                  </a:lnTo>
                  <a:lnTo>
                    <a:pt x="732" y="1062"/>
                  </a:lnTo>
                  <a:lnTo>
                    <a:pt x="732" y="1044"/>
                  </a:lnTo>
                  <a:lnTo>
                    <a:pt x="732" y="1032"/>
                  </a:lnTo>
                  <a:lnTo>
                    <a:pt x="732" y="1020"/>
                  </a:lnTo>
                  <a:lnTo>
                    <a:pt x="738" y="1014"/>
                  </a:lnTo>
                  <a:lnTo>
                    <a:pt x="738" y="1002"/>
                  </a:lnTo>
                  <a:lnTo>
                    <a:pt x="738" y="990"/>
                  </a:lnTo>
                  <a:lnTo>
                    <a:pt x="738" y="984"/>
                  </a:lnTo>
                  <a:lnTo>
                    <a:pt x="738" y="972"/>
                  </a:lnTo>
                  <a:lnTo>
                    <a:pt x="738" y="954"/>
                  </a:lnTo>
                  <a:lnTo>
                    <a:pt x="744" y="948"/>
                  </a:lnTo>
                  <a:lnTo>
                    <a:pt x="744" y="936"/>
                  </a:lnTo>
                  <a:lnTo>
                    <a:pt x="744" y="930"/>
                  </a:lnTo>
                  <a:lnTo>
                    <a:pt x="744" y="924"/>
                  </a:lnTo>
                  <a:lnTo>
                    <a:pt x="744" y="918"/>
                  </a:lnTo>
                  <a:lnTo>
                    <a:pt x="744" y="906"/>
                  </a:lnTo>
                  <a:lnTo>
                    <a:pt x="750" y="894"/>
                  </a:lnTo>
                  <a:lnTo>
                    <a:pt x="756" y="882"/>
                  </a:lnTo>
                  <a:lnTo>
                    <a:pt x="756" y="870"/>
                  </a:lnTo>
                  <a:lnTo>
                    <a:pt x="756" y="864"/>
                  </a:lnTo>
                  <a:lnTo>
                    <a:pt x="756" y="852"/>
                  </a:lnTo>
                  <a:lnTo>
                    <a:pt x="762" y="840"/>
                  </a:lnTo>
                  <a:lnTo>
                    <a:pt x="762" y="834"/>
                  </a:lnTo>
                  <a:lnTo>
                    <a:pt x="762" y="822"/>
                  </a:lnTo>
                  <a:lnTo>
                    <a:pt x="768" y="804"/>
                  </a:lnTo>
                  <a:lnTo>
                    <a:pt x="768" y="798"/>
                  </a:lnTo>
                  <a:lnTo>
                    <a:pt x="774" y="780"/>
                  </a:lnTo>
                  <a:lnTo>
                    <a:pt x="780" y="768"/>
                  </a:lnTo>
                  <a:lnTo>
                    <a:pt x="780" y="750"/>
                  </a:lnTo>
                  <a:lnTo>
                    <a:pt x="786" y="744"/>
                  </a:lnTo>
                  <a:lnTo>
                    <a:pt x="786" y="732"/>
                  </a:lnTo>
                  <a:lnTo>
                    <a:pt x="792" y="720"/>
                  </a:lnTo>
                  <a:lnTo>
                    <a:pt x="798" y="708"/>
                  </a:lnTo>
                  <a:lnTo>
                    <a:pt x="798" y="702"/>
                  </a:lnTo>
                  <a:lnTo>
                    <a:pt x="804" y="690"/>
                  </a:lnTo>
                  <a:lnTo>
                    <a:pt x="804" y="684"/>
                  </a:lnTo>
                  <a:lnTo>
                    <a:pt x="810" y="678"/>
                  </a:lnTo>
                  <a:lnTo>
                    <a:pt x="810" y="672"/>
                  </a:lnTo>
                  <a:lnTo>
                    <a:pt x="822" y="672"/>
                  </a:lnTo>
                  <a:lnTo>
                    <a:pt x="840" y="660"/>
                  </a:lnTo>
                  <a:lnTo>
                    <a:pt x="852" y="648"/>
                  </a:lnTo>
                  <a:lnTo>
                    <a:pt x="864" y="642"/>
                  </a:lnTo>
                  <a:lnTo>
                    <a:pt x="876" y="636"/>
                  </a:lnTo>
                  <a:lnTo>
                    <a:pt x="888" y="630"/>
                  </a:lnTo>
                  <a:lnTo>
                    <a:pt x="894" y="624"/>
                  </a:lnTo>
                  <a:lnTo>
                    <a:pt x="900" y="618"/>
                  </a:lnTo>
                  <a:lnTo>
                    <a:pt x="912" y="612"/>
                  </a:lnTo>
                  <a:lnTo>
                    <a:pt x="930" y="600"/>
                  </a:lnTo>
                  <a:lnTo>
                    <a:pt x="942" y="594"/>
                  </a:lnTo>
                  <a:lnTo>
                    <a:pt x="954" y="582"/>
                  </a:lnTo>
                  <a:lnTo>
                    <a:pt x="966" y="576"/>
                  </a:lnTo>
                  <a:lnTo>
                    <a:pt x="984" y="564"/>
                  </a:lnTo>
                  <a:lnTo>
                    <a:pt x="996" y="552"/>
                  </a:lnTo>
                  <a:lnTo>
                    <a:pt x="1008" y="546"/>
                  </a:lnTo>
                  <a:lnTo>
                    <a:pt x="1026" y="534"/>
                  </a:lnTo>
                  <a:lnTo>
                    <a:pt x="1038" y="528"/>
                  </a:lnTo>
                  <a:lnTo>
                    <a:pt x="1056" y="516"/>
                  </a:lnTo>
                  <a:lnTo>
                    <a:pt x="1068" y="510"/>
                  </a:lnTo>
                  <a:lnTo>
                    <a:pt x="1086" y="498"/>
                  </a:lnTo>
                  <a:lnTo>
                    <a:pt x="1104" y="486"/>
                  </a:lnTo>
                  <a:lnTo>
                    <a:pt x="1116" y="474"/>
                  </a:lnTo>
                  <a:lnTo>
                    <a:pt x="1134" y="462"/>
                  </a:lnTo>
                  <a:lnTo>
                    <a:pt x="1146" y="456"/>
                  </a:lnTo>
                  <a:lnTo>
                    <a:pt x="1158" y="444"/>
                  </a:lnTo>
                  <a:lnTo>
                    <a:pt x="1170" y="438"/>
                  </a:lnTo>
                  <a:lnTo>
                    <a:pt x="1182" y="438"/>
                  </a:lnTo>
                  <a:lnTo>
                    <a:pt x="1194" y="432"/>
                  </a:lnTo>
                  <a:lnTo>
                    <a:pt x="1206" y="426"/>
                  </a:lnTo>
                  <a:lnTo>
                    <a:pt x="1212" y="420"/>
                  </a:lnTo>
                  <a:lnTo>
                    <a:pt x="1230" y="420"/>
                  </a:lnTo>
                  <a:lnTo>
                    <a:pt x="1236" y="414"/>
                  </a:lnTo>
                  <a:lnTo>
                    <a:pt x="1242" y="408"/>
                  </a:lnTo>
                  <a:lnTo>
                    <a:pt x="1248" y="402"/>
                  </a:lnTo>
                  <a:lnTo>
                    <a:pt x="1260" y="396"/>
                  </a:lnTo>
                  <a:lnTo>
                    <a:pt x="1272" y="390"/>
                  </a:lnTo>
                  <a:lnTo>
                    <a:pt x="1290" y="384"/>
                  </a:lnTo>
                  <a:lnTo>
                    <a:pt x="1302" y="372"/>
                  </a:lnTo>
                  <a:lnTo>
                    <a:pt x="1320" y="366"/>
                  </a:lnTo>
                  <a:lnTo>
                    <a:pt x="1344" y="354"/>
                  </a:lnTo>
                  <a:lnTo>
                    <a:pt x="1362" y="348"/>
                  </a:lnTo>
                  <a:lnTo>
                    <a:pt x="1386" y="330"/>
                  </a:lnTo>
                  <a:lnTo>
                    <a:pt x="1410" y="324"/>
                  </a:lnTo>
                  <a:lnTo>
                    <a:pt x="1434" y="312"/>
                  </a:lnTo>
                  <a:lnTo>
                    <a:pt x="1446" y="306"/>
                  </a:lnTo>
                  <a:lnTo>
                    <a:pt x="1458" y="300"/>
                  </a:lnTo>
                  <a:lnTo>
                    <a:pt x="1464" y="300"/>
                  </a:lnTo>
                  <a:lnTo>
                    <a:pt x="1470" y="300"/>
                  </a:lnTo>
                  <a:lnTo>
                    <a:pt x="1470" y="294"/>
                  </a:lnTo>
                  <a:lnTo>
                    <a:pt x="1476" y="288"/>
                  </a:lnTo>
                  <a:lnTo>
                    <a:pt x="1470" y="288"/>
                  </a:lnTo>
                  <a:lnTo>
                    <a:pt x="1464" y="288"/>
                  </a:lnTo>
                  <a:lnTo>
                    <a:pt x="1452" y="282"/>
                  </a:lnTo>
                  <a:lnTo>
                    <a:pt x="1446" y="276"/>
                  </a:lnTo>
                  <a:lnTo>
                    <a:pt x="1434" y="264"/>
                  </a:lnTo>
                  <a:lnTo>
                    <a:pt x="1428" y="246"/>
                  </a:lnTo>
                  <a:lnTo>
                    <a:pt x="1422" y="240"/>
                  </a:lnTo>
                  <a:lnTo>
                    <a:pt x="1416" y="234"/>
                  </a:lnTo>
                  <a:lnTo>
                    <a:pt x="1398" y="210"/>
                  </a:lnTo>
                  <a:lnTo>
                    <a:pt x="1386" y="198"/>
                  </a:lnTo>
                  <a:lnTo>
                    <a:pt x="1380" y="192"/>
                  </a:lnTo>
                  <a:lnTo>
                    <a:pt x="1380" y="186"/>
                  </a:lnTo>
                  <a:lnTo>
                    <a:pt x="1368" y="186"/>
                  </a:lnTo>
                  <a:lnTo>
                    <a:pt x="1362" y="180"/>
                  </a:lnTo>
                  <a:lnTo>
                    <a:pt x="1356" y="174"/>
                  </a:lnTo>
                  <a:lnTo>
                    <a:pt x="1344" y="168"/>
                  </a:lnTo>
                  <a:lnTo>
                    <a:pt x="1338" y="162"/>
                  </a:lnTo>
                  <a:lnTo>
                    <a:pt x="1320" y="144"/>
                  </a:lnTo>
                  <a:lnTo>
                    <a:pt x="1314" y="144"/>
                  </a:lnTo>
                  <a:lnTo>
                    <a:pt x="1302" y="132"/>
                  </a:lnTo>
                  <a:lnTo>
                    <a:pt x="1296" y="132"/>
                  </a:lnTo>
                  <a:lnTo>
                    <a:pt x="1272" y="120"/>
                  </a:lnTo>
                  <a:lnTo>
                    <a:pt x="1254" y="108"/>
                  </a:lnTo>
                  <a:lnTo>
                    <a:pt x="1230" y="102"/>
                  </a:lnTo>
                  <a:lnTo>
                    <a:pt x="1212" y="96"/>
                  </a:lnTo>
                  <a:lnTo>
                    <a:pt x="1206" y="96"/>
                  </a:lnTo>
                  <a:lnTo>
                    <a:pt x="1194" y="84"/>
                  </a:lnTo>
                  <a:lnTo>
                    <a:pt x="1170" y="78"/>
                  </a:lnTo>
                  <a:lnTo>
                    <a:pt x="1146" y="78"/>
                  </a:lnTo>
                  <a:lnTo>
                    <a:pt x="1134" y="72"/>
                  </a:lnTo>
                  <a:lnTo>
                    <a:pt x="1122" y="60"/>
                  </a:lnTo>
                  <a:lnTo>
                    <a:pt x="1116" y="60"/>
                  </a:lnTo>
                  <a:lnTo>
                    <a:pt x="1092" y="60"/>
                  </a:lnTo>
                  <a:lnTo>
                    <a:pt x="1068" y="48"/>
                  </a:lnTo>
                  <a:lnTo>
                    <a:pt x="1050" y="42"/>
                  </a:lnTo>
                  <a:lnTo>
                    <a:pt x="1038" y="42"/>
                  </a:lnTo>
                  <a:lnTo>
                    <a:pt x="1026" y="36"/>
                  </a:lnTo>
                  <a:lnTo>
                    <a:pt x="1014" y="36"/>
                  </a:lnTo>
                  <a:lnTo>
                    <a:pt x="1002" y="30"/>
                  </a:lnTo>
                  <a:lnTo>
                    <a:pt x="990" y="30"/>
                  </a:lnTo>
                  <a:lnTo>
                    <a:pt x="978" y="24"/>
                  </a:lnTo>
                  <a:lnTo>
                    <a:pt x="966" y="18"/>
                  </a:lnTo>
                  <a:lnTo>
                    <a:pt x="954" y="18"/>
                  </a:lnTo>
                  <a:lnTo>
                    <a:pt x="942" y="12"/>
                  </a:lnTo>
                  <a:lnTo>
                    <a:pt x="924" y="12"/>
                  </a:lnTo>
                  <a:lnTo>
                    <a:pt x="918" y="12"/>
                  </a:lnTo>
                  <a:lnTo>
                    <a:pt x="906" y="6"/>
                  </a:lnTo>
                  <a:lnTo>
                    <a:pt x="888" y="6"/>
                  </a:lnTo>
                  <a:lnTo>
                    <a:pt x="870" y="6"/>
                  </a:lnTo>
                  <a:lnTo>
                    <a:pt x="840" y="6"/>
                  </a:lnTo>
                  <a:lnTo>
                    <a:pt x="822" y="6"/>
                  </a:lnTo>
                  <a:lnTo>
                    <a:pt x="792" y="6"/>
                  </a:lnTo>
                  <a:lnTo>
                    <a:pt x="762" y="6"/>
                  </a:lnTo>
                  <a:lnTo>
                    <a:pt x="720" y="12"/>
                  </a:lnTo>
                  <a:lnTo>
                    <a:pt x="720" y="0"/>
                  </a:lnTo>
                  <a:lnTo>
                    <a:pt x="714" y="0"/>
                  </a:lnTo>
                  <a:lnTo>
                    <a:pt x="690" y="6"/>
                  </a:lnTo>
                  <a:lnTo>
                    <a:pt x="672" y="12"/>
                  </a:lnTo>
                  <a:lnTo>
                    <a:pt x="642" y="18"/>
                  </a:lnTo>
                  <a:lnTo>
                    <a:pt x="618" y="30"/>
                  </a:lnTo>
                  <a:lnTo>
                    <a:pt x="588" y="36"/>
                  </a:lnTo>
                  <a:lnTo>
                    <a:pt x="570" y="42"/>
                  </a:lnTo>
                  <a:lnTo>
                    <a:pt x="552" y="48"/>
                  </a:lnTo>
                  <a:lnTo>
                    <a:pt x="516" y="60"/>
                  </a:lnTo>
                  <a:lnTo>
                    <a:pt x="492" y="72"/>
                  </a:lnTo>
                  <a:lnTo>
                    <a:pt x="462" y="84"/>
                  </a:lnTo>
                  <a:lnTo>
                    <a:pt x="450" y="90"/>
                  </a:lnTo>
                  <a:lnTo>
                    <a:pt x="438" y="102"/>
                  </a:lnTo>
                  <a:lnTo>
                    <a:pt x="426" y="108"/>
                  </a:lnTo>
                  <a:lnTo>
                    <a:pt x="408" y="120"/>
                  </a:lnTo>
                  <a:lnTo>
                    <a:pt x="396" y="126"/>
                  </a:lnTo>
                  <a:lnTo>
                    <a:pt x="384" y="132"/>
                  </a:lnTo>
                  <a:lnTo>
                    <a:pt x="372" y="144"/>
                  </a:lnTo>
                  <a:lnTo>
                    <a:pt x="348" y="162"/>
                  </a:lnTo>
                  <a:lnTo>
                    <a:pt x="324" y="174"/>
                  </a:lnTo>
                  <a:lnTo>
                    <a:pt x="306" y="192"/>
                  </a:lnTo>
                  <a:lnTo>
                    <a:pt x="288" y="198"/>
                  </a:lnTo>
                  <a:lnTo>
                    <a:pt x="270" y="216"/>
                  </a:lnTo>
                  <a:lnTo>
                    <a:pt x="252" y="228"/>
                  </a:lnTo>
                  <a:lnTo>
                    <a:pt x="228" y="240"/>
                  </a:lnTo>
                  <a:lnTo>
                    <a:pt x="210" y="258"/>
                  </a:lnTo>
                  <a:lnTo>
                    <a:pt x="198" y="264"/>
                  </a:lnTo>
                  <a:lnTo>
                    <a:pt x="192" y="276"/>
                  </a:lnTo>
                  <a:lnTo>
                    <a:pt x="186" y="282"/>
                  </a:lnTo>
                  <a:lnTo>
                    <a:pt x="180" y="288"/>
                  </a:lnTo>
                  <a:lnTo>
                    <a:pt x="174" y="300"/>
                  </a:lnTo>
                  <a:lnTo>
                    <a:pt x="162" y="318"/>
                  </a:lnTo>
                  <a:lnTo>
                    <a:pt x="156" y="330"/>
                  </a:lnTo>
                  <a:lnTo>
                    <a:pt x="150" y="354"/>
                  </a:lnTo>
                  <a:lnTo>
                    <a:pt x="138" y="366"/>
                  </a:lnTo>
                  <a:lnTo>
                    <a:pt x="132" y="384"/>
                  </a:lnTo>
                  <a:lnTo>
                    <a:pt x="126" y="402"/>
                  </a:lnTo>
                  <a:lnTo>
                    <a:pt x="114" y="414"/>
                  </a:lnTo>
                  <a:lnTo>
                    <a:pt x="108" y="444"/>
                  </a:lnTo>
                  <a:lnTo>
                    <a:pt x="90" y="474"/>
                  </a:lnTo>
                  <a:lnTo>
                    <a:pt x="78" y="504"/>
                  </a:lnTo>
                  <a:lnTo>
                    <a:pt x="60" y="534"/>
                  </a:lnTo>
                  <a:lnTo>
                    <a:pt x="48" y="570"/>
                  </a:lnTo>
                  <a:lnTo>
                    <a:pt x="42" y="594"/>
                  </a:lnTo>
                  <a:lnTo>
                    <a:pt x="30" y="618"/>
                  </a:lnTo>
                  <a:lnTo>
                    <a:pt x="24" y="642"/>
                  </a:lnTo>
                  <a:lnTo>
                    <a:pt x="18" y="666"/>
                  </a:lnTo>
                  <a:lnTo>
                    <a:pt x="12" y="690"/>
                  </a:lnTo>
                  <a:lnTo>
                    <a:pt x="12" y="708"/>
                  </a:lnTo>
                  <a:lnTo>
                    <a:pt x="0" y="732"/>
                  </a:lnTo>
                  <a:lnTo>
                    <a:pt x="0" y="756"/>
                  </a:lnTo>
                  <a:lnTo>
                    <a:pt x="0" y="786"/>
                  </a:lnTo>
                  <a:lnTo>
                    <a:pt x="0" y="810"/>
                  </a:lnTo>
                  <a:lnTo>
                    <a:pt x="0" y="840"/>
                  </a:lnTo>
                  <a:lnTo>
                    <a:pt x="0" y="864"/>
                  </a:lnTo>
                  <a:lnTo>
                    <a:pt x="0" y="888"/>
                  </a:lnTo>
                  <a:lnTo>
                    <a:pt x="0" y="918"/>
                  </a:lnTo>
                  <a:lnTo>
                    <a:pt x="0" y="948"/>
                  </a:lnTo>
                  <a:lnTo>
                    <a:pt x="12" y="966"/>
                  </a:lnTo>
                  <a:lnTo>
                    <a:pt x="12" y="978"/>
                  </a:lnTo>
                  <a:lnTo>
                    <a:pt x="18" y="990"/>
                  </a:lnTo>
                  <a:lnTo>
                    <a:pt x="24" y="1008"/>
                  </a:lnTo>
                  <a:lnTo>
                    <a:pt x="24" y="1020"/>
                  </a:lnTo>
                  <a:lnTo>
                    <a:pt x="30" y="1038"/>
                  </a:lnTo>
                  <a:lnTo>
                    <a:pt x="42" y="1062"/>
                  </a:lnTo>
                  <a:lnTo>
                    <a:pt x="42" y="1080"/>
                  </a:lnTo>
                  <a:lnTo>
                    <a:pt x="48" y="1092"/>
                  </a:lnTo>
                  <a:lnTo>
                    <a:pt x="60" y="1116"/>
                  </a:lnTo>
                  <a:lnTo>
                    <a:pt x="72" y="1140"/>
                  </a:lnTo>
                  <a:lnTo>
                    <a:pt x="78" y="1164"/>
                  </a:lnTo>
                  <a:lnTo>
                    <a:pt x="90" y="1188"/>
                  </a:lnTo>
                  <a:lnTo>
                    <a:pt x="102" y="1206"/>
                  </a:lnTo>
                  <a:lnTo>
                    <a:pt x="108" y="1224"/>
                  </a:lnTo>
                  <a:lnTo>
                    <a:pt x="126" y="1242"/>
                  </a:lnTo>
                  <a:lnTo>
                    <a:pt x="150" y="1278"/>
                  </a:lnTo>
                  <a:lnTo>
                    <a:pt x="162" y="1290"/>
                  </a:lnTo>
                  <a:lnTo>
                    <a:pt x="186" y="1314"/>
                  </a:lnTo>
                  <a:lnTo>
                    <a:pt x="204" y="1332"/>
                  </a:lnTo>
                  <a:lnTo>
                    <a:pt x="216" y="1350"/>
                  </a:lnTo>
                  <a:lnTo>
                    <a:pt x="234" y="1374"/>
                  </a:lnTo>
                  <a:lnTo>
                    <a:pt x="252" y="1380"/>
                  </a:lnTo>
                  <a:lnTo>
                    <a:pt x="264" y="1398"/>
                  </a:lnTo>
                  <a:lnTo>
                    <a:pt x="270" y="1404"/>
                  </a:lnTo>
                  <a:lnTo>
                    <a:pt x="282" y="1410"/>
                  </a:lnTo>
                  <a:lnTo>
                    <a:pt x="294" y="1422"/>
                  </a:lnTo>
                  <a:lnTo>
                    <a:pt x="312" y="1434"/>
                  </a:lnTo>
                  <a:lnTo>
                    <a:pt x="330" y="1440"/>
                  </a:lnTo>
                  <a:lnTo>
                    <a:pt x="348" y="1452"/>
                  </a:lnTo>
                  <a:lnTo>
                    <a:pt x="372" y="1470"/>
                  </a:lnTo>
                  <a:lnTo>
                    <a:pt x="378" y="1476"/>
                  </a:lnTo>
                  <a:lnTo>
                    <a:pt x="678" y="160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bfb0b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297160" y="3745440"/>
              <a:ext cx="11160" cy="19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0" y="6"/>
                  </a:moveTo>
                  <a:lnTo>
                    <a:pt x="6" y="60"/>
                  </a:lnTo>
                  <a:lnTo>
                    <a:pt x="0" y="114"/>
                  </a:lnTo>
                  <a:lnTo>
                    <a:pt x="0" y="186"/>
                  </a:lnTo>
                  <a:lnTo>
                    <a:pt x="6" y="240"/>
                  </a:lnTo>
                  <a:lnTo>
                    <a:pt x="66" y="240"/>
                  </a:lnTo>
                  <a:lnTo>
                    <a:pt x="132" y="240"/>
                  </a:lnTo>
                  <a:lnTo>
                    <a:pt x="132" y="180"/>
                  </a:lnTo>
                  <a:lnTo>
                    <a:pt x="132" y="120"/>
                  </a:lnTo>
                  <a:lnTo>
                    <a:pt x="132" y="54"/>
                  </a:lnTo>
                  <a:lnTo>
                    <a:pt x="132" y="0"/>
                  </a:lnTo>
                  <a:lnTo>
                    <a:pt x="7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292480" y="372744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0" y="36"/>
                  </a:moveTo>
                  <a:lnTo>
                    <a:pt x="18" y="84"/>
                  </a:lnTo>
                  <a:lnTo>
                    <a:pt x="30" y="144"/>
                  </a:lnTo>
                  <a:lnTo>
                    <a:pt x="48" y="210"/>
                  </a:lnTo>
                  <a:lnTo>
                    <a:pt x="66" y="258"/>
                  </a:lnTo>
                  <a:lnTo>
                    <a:pt x="126" y="246"/>
                  </a:lnTo>
                  <a:lnTo>
                    <a:pt x="186" y="228"/>
                  </a:lnTo>
                  <a:lnTo>
                    <a:pt x="174" y="174"/>
                  </a:lnTo>
                  <a:lnTo>
                    <a:pt x="156" y="114"/>
                  </a:lnTo>
                  <a:lnTo>
                    <a:pt x="138" y="48"/>
                  </a:lnTo>
                  <a:lnTo>
                    <a:pt x="120" y="0"/>
                  </a:lnTo>
                  <a:lnTo>
                    <a:pt x="66" y="1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283840" y="371088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0" y="66"/>
                  </a:moveTo>
                  <a:lnTo>
                    <a:pt x="30" y="114"/>
                  </a:lnTo>
                  <a:lnTo>
                    <a:pt x="54" y="162"/>
                  </a:lnTo>
                  <a:lnTo>
                    <a:pt x="90" y="222"/>
                  </a:lnTo>
                  <a:lnTo>
                    <a:pt x="120" y="270"/>
                  </a:lnTo>
                  <a:lnTo>
                    <a:pt x="174" y="240"/>
                  </a:lnTo>
                  <a:lnTo>
                    <a:pt x="228" y="204"/>
                  </a:lnTo>
                  <a:lnTo>
                    <a:pt x="198" y="156"/>
                  </a:lnTo>
                  <a:lnTo>
                    <a:pt x="168" y="108"/>
                  </a:lnTo>
                  <a:lnTo>
                    <a:pt x="132" y="48"/>
                  </a:lnTo>
                  <a:lnTo>
                    <a:pt x="108" y="0"/>
                  </a:lnTo>
                  <a:lnTo>
                    <a:pt x="60" y="3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2271240" y="369756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0" y="90"/>
                  </a:moveTo>
                  <a:lnTo>
                    <a:pt x="36" y="126"/>
                  </a:lnTo>
                  <a:lnTo>
                    <a:pt x="78" y="168"/>
                  </a:lnTo>
                  <a:lnTo>
                    <a:pt x="126" y="216"/>
                  </a:lnTo>
                  <a:lnTo>
                    <a:pt x="168" y="252"/>
                  </a:lnTo>
                  <a:lnTo>
                    <a:pt x="210" y="210"/>
                  </a:lnTo>
                  <a:lnTo>
                    <a:pt x="252" y="168"/>
                  </a:lnTo>
                  <a:lnTo>
                    <a:pt x="216" y="126"/>
                  </a:lnTo>
                  <a:lnTo>
                    <a:pt x="174" y="84"/>
                  </a:lnTo>
                  <a:lnTo>
                    <a:pt x="126" y="36"/>
                  </a:lnTo>
                  <a:lnTo>
                    <a:pt x="84" y="0"/>
                  </a:lnTo>
                  <a:lnTo>
                    <a:pt x="48" y="42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255760" y="368784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0" y="114"/>
                  </a:moveTo>
                  <a:lnTo>
                    <a:pt x="48" y="138"/>
                  </a:lnTo>
                  <a:lnTo>
                    <a:pt x="102" y="168"/>
                  </a:lnTo>
                  <a:lnTo>
                    <a:pt x="156" y="204"/>
                  </a:lnTo>
                  <a:lnTo>
                    <a:pt x="204" y="228"/>
                  </a:lnTo>
                  <a:lnTo>
                    <a:pt x="240" y="174"/>
                  </a:lnTo>
                  <a:lnTo>
                    <a:pt x="270" y="120"/>
                  </a:lnTo>
                  <a:lnTo>
                    <a:pt x="222" y="90"/>
                  </a:lnTo>
                  <a:lnTo>
                    <a:pt x="168" y="60"/>
                  </a:lnTo>
                  <a:lnTo>
                    <a:pt x="108" y="30"/>
                  </a:lnTo>
                  <a:lnTo>
                    <a:pt x="66" y="0"/>
                  </a:lnTo>
                  <a:lnTo>
                    <a:pt x="36" y="5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39200" y="368316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0" y="126"/>
                  </a:moveTo>
                  <a:lnTo>
                    <a:pt x="54" y="138"/>
                  </a:lnTo>
                  <a:lnTo>
                    <a:pt x="108" y="156"/>
                  </a:lnTo>
                  <a:lnTo>
                    <a:pt x="174" y="174"/>
                  </a:lnTo>
                  <a:lnTo>
                    <a:pt x="228" y="186"/>
                  </a:lnTo>
                  <a:lnTo>
                    <a:pt x="246" y="126"/>
                  </a:lnTo>
                  <a:lnTo>
                    <a:pt x="258" y="66"/>
                  </a:lnTo>
                  <a:lnTo>
                    <a:pt x="204" y="48"/>
                  </a:lnTo>
                  <a:lnTo>
                    <a:pt x="150" y="36"/>
                  </a:lnTo>
                  <a:lnTo>
                    <a:pt x="84" y="18"/>
                  </a:lnTo>
                  <a:lnTo>
                    <a:pt x="30" y="0"/>
                  </a:lnTo>
                  <a:lnTo>
                    <a:pt x="18" y="6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221560" y="3683160"/>
              <a:ext cx="20520" cy="1044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6" y="132"/>
                  </a:moveTo>
                  <a:lnTo>
                    <a:pt x="54" y="126"/>
                  </a:lnTo>
                  <a:lnTo>
                    <a:pt x="114" y="132"/>
                  </a:lnTo>
                  <a:lnTo>
                    <a:pt x="186" y="132"/>
                  </a:lnTo>
                  <a:lnTo>
                    <a:pt x="240" y="126"/>
                  </a:lnTo>
                  <a:lnTo>
                    <a:pt x="240" y="66"/>
                  </a:lnTo>
                  <a:lnTo>
                    <a:pt x="240" y="0"/>
                  </a:lnTo>
                  <a:lnTo>
                    <a:pt x="180" y="0"/>
                  </a:lnTo>
                  <a:lnTo>
                    <a:pt x="120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6" y="60"/>
                  </a:lnTo>
                  <a:lnTo>
                    <a:pt x="6" y="13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202480" y="368316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36" y="186"/>
                  </a:moveTo>
                  <a:lnTo>
                    <a:pt x="84" y="168"/>
                  </a:lnTo>
                  <a:lnTo>
                    <a:pt x="144" y="156"/>
                  </a:lnTo>
                  <a:lnTo>
                    <a:pt x="210" y="138"/>
                  </a:lnTo>
                  <a:lnTo>
                    <a:pt x="258" y="120"/>
                  </a:lnTo>
                  <a:lnTo>
                    <a:pt x="246" y="60"/>
                  </a:lnTo>
                  <a:lnTo>
                    <a:pt x="228" y="0"/>
                  </a:lnTo>
                  <a:lnTo>
                    <a:pt x="174" y="12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0" y="66"/>
                  </a:lnTo>
                  <a:lnTo>
                    <a:pt x="18" y="120"/>
                  </a:lnTo>
                  <a:lnTo>
                    <a:pt x="36" y="186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184840" y="368784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66" y="228"/>
                  </a:moveTo>
                  <a:lnTo>
                    <a:pt x="108" y="198"/>
                  </a:lnTo>
                  <a:lnTo>
                    <a:pt x="162" y="174"/>
                  </a:lnTo>
                  <a:lnTo>
                    <a:pt x="222" y="138"/>
                  </a:lnTo>
                  <a:lnTo>
                    <a:pt x="270" y="108"/>
                  </a:lnTo>
                  <a:lnTo>
                    <a:pt x="240" y="54"/>
                  </a:lnTo>
                  <a:lnTo>
                    <a:pt x="204" y="0"/>
                  </a:lnTo>
                  <a:lnTo>
                    <a:pt x="156" y="30"/>
                  </a:lnTo>
                  <a:lnTo>
                    <a:pt x="108" y="60"/>
                  </a:lnTo>
                  <a:lnTo>
                    <a:pt x="48" y="96"/>
                  </a:lnTo>
                  <a:lnTo>
                    <a:pt x="0" y="120"/>
                  </a:lnTo>
                  <a:lnTo>
                    <a:pt x="30" y="168"/>
                  </a:lnTo>
                  <a:lnTo>
                    <a:pt x="66" y="228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2171160" y="369756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90" y="252"/>
                  </a:moveTo>
                  <a:lnTo>
                    <a:pt x="126" y="216"/>
                  </a:lnTo>
                  <a:lnTo>
                    <a:pt x="168" y="174"/>
                  </a:lnTo>
                  <a:lnTo>
                    <a:pt x="216" y="126"/>
                  </a:lnTo>
                  <a:lnTo>
                    <a:pt x="252" y="90"/>
                  </a:lnTo>
                  <a:lnTo>
                    <a:pt x="210" y="42"/>
                  </a:lnTo>
                  <a:lnTo>
                    <a:pt x="168" y="0"/>
                  </a:lnTo>
                  <a:lnTo>
                    <a:pt x="126" y="36"/>
                  </a:lnTo>
                  <a:lnTo>
                    <a:pt x="84" y="78"/>
                  </a:lnTo>
                  <a:lnTo>
                    <a:pt x="36" y="126"/>
                  </a:lnTo>
                  <a:lnTo>
                    <a:pt x="0" y="168"/>
                  </a:lnTo>
                  <a:lnTo>
                    <a:pt x="42" y="204"/>
                  </a:lnTo>
                  <a:lnTo>
                    <a:pt x="90" y="25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160720" y="371088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114" y="270"/>
                  </a:moveTo>
                  <a:lnTo>
                    <a:pt x="138" y="222"/>
                  </a:lnTo>
                  <a:lnTo>
                    <a:pt x="168" y="168"/>
                  </a:lnTo>
                  <a:lnTo>
                    <a:pt x="204" y="114"/>
                  </a:lnTo>
                  <a:lnTo>
                    <a:pt x="228" y="66"/>
                  </a:lnTo>
                  <a:lnTo>
                    <a:pt x="174" y="30"/>
                  </a:lnTo>
                  <a:lnTo>
                    <a:pt x="120" y="0"/>
                  </a:lnTo>
                  <a:lnTo>
                    <a:pt x="90" y="48"/>
                  </a:lnTo>
                  <a:lnTo>
                    <a:pt x="60" y="102"/>
                  </a:lnTo>
                  <a:lnTo>
                    <a:pt x="30" y="162"/>
                  </a:lnTo>
                  <a:lnTo>
                    <a:pt x="0" y="204"/>
                  </a:lnTo>
                  <a:lnTo>
                    <a:pt x="54" y="234"/>
                  </a:lnTo>
                  <a:lnTo>
                    <a:pt x="114" y="27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2155680" y="372744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126" y="258"/>
                  </a:moveTo>
                  <a:lnTo>
                    <a:pt x="138" y="204"/>
                  </a:lnTo>
                  <a:lnTo>
                    <a:pt x="156" y="150"/>
                  </a:lnTo>
                  <a:lnTo>
                    <a:pt x="174" y="84"/>
                  </a:lnTo>
                  <a:lnTo>
                    <a:pt x="186" y="30"/>
                  </a:lnTo>
                  <a:lnTo>
                    <a:pt x="126" y="12"/>
                  </a:lnTo>
                  <a:lnTo>
                    <a:pt x="66" y="0"/>
                  </a:lnTo>
                  <a:lnTo>
                    <a:pt x="48" y="54"/>
                  </a:lnTo>
                  <a:lnTo>
                    <a:pt x="36" y="108"/>
                  </a:lnTo>
                  <a:lnTo>
                    <a:pt x="18" y="180"/>
                  </a:lnTo>
                  <a:lnTo>
                    <a:pt x="0" y="228"/>
                  </a:lnTo>
                  <a:lnTo>
                    <a:pt x="60" y="240"/>
                  </a:lnTo>
                  <a:lnTo>
                    <a:pt x="126" y="258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155680" y="3745440"/>
              <a:ext cx="11160" cy="1944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132" y="234"/>
                  </a:moveTo>
                  <a:lnTo>
                    <a:pt x="126" y="186"/>
                  </a:lnTo>
                  <a:lnTo>
                    <a:pt x="132" y="126"/>
                  </a:lnTo>
                  <a:lnTo>
                    <a:pt x="132" y="54"/>
                  </a:lnTo>
                  <a:lnTo>
                    <a:pt x="126" y="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120"/>
                  </a:lnTo>
                  <a:lnTo>
                    <a:pt x="0" y="186"/>
                  </a:lnTo>
                  <a:lnTo>
                    <a:pt x="0" y="240"/>
                  </a:lnTo>
                  <a:lnTo>
                    <a:pt x="60" y="234"/>
                  </a:lnTo>
                  <a:lnTo>
                    <a:pt x="132" y="23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155680" y="376200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186" y="222"/>
                  </a:moveTo>
                  <a:lnTo>
                    <a:pt x="168" y="174"/>
                  </a:lnTo>
                  <a:lnTo>
                    <a:pt x="156" y="114"/>
                  </a:lnTo>
                  <a:lnTo>
                    <a:pt x="138" y="48"/>
                  </a:lnTo>
                  <a:lnTo>
                    <a:pt x="120" y="0"/>
                  </a:lnTo>
                  <a:lnTo>
                    <a:pt x="60" y="12"/>
                  </a:lnTo>
                  <a:lnTo>
                    <a:pt x="0" y="30"/>
                  </a:lnTo>
                  <a:lnTo>
                    <a:pt x="12" y="84"/>
                  </a:lnTo>
                  <a:lnTo>
                    <a:pt x="30" y="144"/>
                  </a:lnTo>
                  <a:lnTo>
                    <a:pt x="48" y="210"/>
                  </a:lnTo>
                  <a:lnTo>
                    <a:pt x="66" y="258"/>
                  </a:lnTo>
                  <a:lnTo>
                    <a:pt x="120" y="240"/>
                  </a:lnTo>
                  <a:lnTo>
                    <a:pt x="186" y="22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160720" y="377784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228" y="204"/>
                  </a:moveTo>
                  <a:lnTo>
                    <a:pt x="198" y="162"/>
                  </a:lnTo>
                  <a:lnTo>
                    <a:pt x="174" y="108"/>
                  </a:lnTo>
                  <a:lnTo>
                    <a:pt x="138" y="48"/>
                  </a:lnTo>
                  <a:lnTo>
                    <a:pt x="108" y="0"/>
                  </a:lnTo>
                  <a:lnTo>
                    <a:pt x="54" y="30"/>
                  </a:lnTo>
                  <a:lnTo>
                    <a:pt x="0" y="66"/>
                  </a:lnTo>
                  <a:lnTo>
                    <a:pt x="30" y="114"/>
                  </a:lnTo>
                  <a:lnTo>
                    <a:pt x="60" y="168"/>
                  </a:lnTo>
                  <a:lnTo>
                    <a:pt x="96" y="222"/>
                  </a:lnTo>
                  <a:lnTo>
                    <a:pt x="120" y="270"/>
                  </a:lnTo>
                  <a:lnTo>
                    <a:pt x="168" y="240"/>
                  </a:lnTo>
                  <a:lnTo>
                    <a:pt x="228" y="20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171160" y="379260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252" y="162"/>
                  </a:moveTo>
                  <a:lnTo>
                    <a:pt x="216" y="126"/>
                  </a:lnTo>
                  <a:lnTo>
                    <a:pt x="174" y="84"/>
                  </a:lnTo>
                  <a:lnTo>
                    <a:pt x="126" y="36"/>
                  </a:lnTo>
                  <a:lnTo>
                    <a:pt x="84" y="0"/>
                  </a:lnTo>
                  <a:lnTo>
                    <a:pt x="42" y="42"/>
                  </a:lnTo>
                  <a:lnTo>
                    <a:pt x="0" y="90"/>
                  </a:lnTo>
                  <a:lnTo>
                    <a:pt x="36" y="132"/>
                  </a:lnTo>
                  <a:lnTo>
                    <a:pt x="78" y="168"/>
                  </a:lnTo>
                  <a:lnTo>
                    <a:pt x="126" y="216"/>
                  </a:lnTo>
                  <a:lnTo>
                    <a:pt x="168" y="252"/>
                  </a:lnTo>
                  <a:lnTo>
                    <a:pt x="204" y="210"/>
                  </a:lnTo>
                  <a:lnTo>
                    <a:pt x="252" y="162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184840" y="380412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70" y="114"/>
                  </a:moveTo>
                  <a:lnTo>
                    <a:pt x="222" y="90"/>
                  </a:lnTo>
                  <a:lnTo>
                    <a:pt x="168" y="60"/>
                  </a:lnTo>
                  <a:lnTo>
                    <a:pt x="114" y="24"/>
                  </a:lnTo>
                  <a:lnTo>
                    <a:pt x="66" y="0"/>
                  </a:lnTo>
                  <a:lnTo>
                    <a:pt x="30" y="54"/>
                  </a:lnTo>
                  <a:lnTo>
                    <a:pt x="0" y="108"/>
                  </a:lnTo>
                  <a:lnTo>
                    <a:pt x="48" y="138"/>
                  </a:lnTo>
                  <a:lnTo>
                    <a:pt x="102" y="168"/>
                  </a:lnTo>
                  <a:lnTo>
                    <a:pt x="162" y="198"/>
                  </a:lnTo>
                  <a:lnTo>
                    <a:pt x="204" y="228"/>
                  </a:lnTo>
                  <a:lnTo>
                    <a:pt x="234" y="174"/>
                  </a:lnTo>
                  <a:lnTo>
                    <a:pt x="270" y="11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202480" y="381240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258" y="60"/>
                  </a:moveTo>
                  <a:lnTo>
                    <a:pt x="204" y="48"/>
                  </a:lnTo>
                  <a:lnTo>
                    <a:pt x="150" y="30"/>
                  </a:lnTo>
                  <a:lnTo>
                    <a:pt x="84" y="12"/>
                  </a:lnTo>
                  <a:lnTo>
                    <a:pt x="30" y="0"/>
                  </a:lnTo>
                  <a:lnTo>
                    <a:pt x="12" y="60"/>
                  </a:lnTo>
                  <a:lnTo>
                    <a:pt x="0" y="126"/>
                  </a:lnTo>
                  <a:lnTo>
                    <a:pt x="54" y="138"/>
                  </a:lnTo>
                  <a:lnTo>
                    <a:pt x="108" y="156"/>
                  </a:lnTo>
                  <a:lnTo>
                    <a:pt x="174" y="168"/>
                  </a:lnTo>
                  <a:lnTo>
                    <a:pt x="228" y="186"/>
                  </a:lnTo>
                  <a:lnTo>
                    <a:pt x="240" y="126"/>
                  </a:lnTo>
                  <a:lnTo>
                    <a:pt x="258" y="6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221560" y="3817080"/>
              <a:ext cx="20520" cy="10440"/>
            </a:xfrm>
            <a:custGeom>
              <a:avLst/>
              <a:gdLst/>
              <a:ahLst/>
              <a:rect l="l" t="t" r="r" b="b"/>
              <a:pathLst>
                <a:path w="240" h="132">
                  <a:moveTo>
                    <a:pt x="234" y="0"/>
                  </a:moveTo>
                  <a:lnTo>
                    <a:pt x="186" y="6"/>
                  </a:lnTo>
                  <a:lnTo>
                    <a:pt x="126" y="0"/>
                  </a:lnTo>
                  <a:lnTo>
                    <a:pt x="54" y="0"/>
                  </a:lnTo>
                  <a:lnTo>
                    <a:pt x="0" y="6"/>
                  </a:lnTo>
                  <a:lnTo>
                    <a:pt x="0" y="66"/>
                  </a:lnTo>
                  <a:lnTo>
                    <a:pt x="0" y="132"/>
                  </a:lnTo>
                  <a:lnTo>
                    <a:pt x="60" y="132"/>
                  </a:lnTo>
                  <a:lnTo>
                    <a:pt x="120" y="132"/>
                  </a:lnTo>
                  <a:lnTo>
                    <a:pt x="186" y="132"/>
                  </a:lnTo>
                  <a:lnTo>
                    <a:pt x="240" y="132"/>
                  </a:lnTo>
                  <a:lnTo>
                    <a:pt x="234" y="7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239200" y="3812400"/>
              <a:ext cx="21960" cy="15120"/>
            </a:xfrm>
            <a:custGeom>
              <a:avLst/>
              <a:gdLst/>
              <a:ahLst/>
              <a:rect l="l" t="t" r="r" b="b"/>
              <a:pathLst>
                <a:path w="258" h="186">
                  <a:moveTo>
                    <a:pt x="222" y="0"/>
                  </a:moveTo>
                  <a:lnTo>
                    <a:pt x="174" y="18"/>
                  </a:lnTo>
                  <a:lnTo>
                    <a:pt x="114" y="30"/>
                  </a:lnTo>
                  <a:lnTo>
                    <a:pt x="48" y="48"/>
                  </a:lnTo>
                  <a:lnTo>
                    <a:pt x="0" y="66"/>
                  </a:lnTo>
                  <a:lnTo>
                    <a:pt x="12" y="126"/>
                  </a:lnTo>
                  <a:lnTo>
                    <a:pt x="30" y="186"/>
                  </a:lnTo>
                  <a:lnTo>
                    <a:pt x="84" y="174"/>
                  </a:lnTo>
                  <a:lnTo>
                    <a:pt x="144" y="156"/>
                  </a:lnTo>
                  <a:lnTo>
                    <a:pt x="210" y="138"/>
                  </a:lnTo>
                  <a:lnTo>
                    <a:pt x="258" y="120"/>
                  </a:lnTo>
                  <a:lnTo>
                    <a:pt x="240" y="66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255760" y="3804120"/>
              <a:ext cx="23040" cy="18360"/>
            </a:xfrm>
            <a:custGeom>
              <a:avLst/>
              <a:gdLst/>
              <a:ahLst/>
              <a:rect l="l" t="t" r="r" b="b"/>
              <a:pathLst>
                <a:path w="270" h="228">
                  <a:moveTo>
                    <a:pt x="204" y="0"/>
                  </a:moveTo>
                  <a:lnTo>
                    <a:pt x="162" y="30"/>
                  </a:lnTo>
                  <a:lnTo>
                    <a:pt x="108" y="54"/>
                  </a:lnTo>
                  <a:lnTo>
                    <a:pt x="48" y="90"/>
                  </a:lnTo>
                  <a:lnTo>
                    <a:pt x="0" y="120"/>
                  </a:lnTo>
                  <a:lnTo>
                    <a:pt x="30" y="174"/>
                  </a:lnTo>
                  <a:lnTo>
                    <a:pt x="66" y="228"/>
                  </a:lnTo>
                  <a:lnTo>
                    <a:pt x="114" y="198"/>
                  </a:lnTo>
                  <a:lnTo>
                    <a:pt x="162" y="168"/>
                  </a:lnTo>
                  <a:lnTo>
                    <a:pt x="222" y="132"/>
                  </a:lnTo>
                  <a:lnTo>
                    <a:pt x="270" y="108"/>
                  </a:lnTo>
                  <a:lnTo>
                    <a:pt x="240" y="6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271240" y="3792600"/>
              <a:ext cx="21600" cy="20520"/>
            </a:xfrm>
            <a:custGeom>
              <a:avLst/>
              <a:gdLst/>
              <a:ahLst/>
              <a:rect l="l" t="t" r="r" b="b"/>
              <a:pathLst>
                <a:path w="252" h="252">
                  <a:moveTo>
                    <a:pt x="162" y="0"/>
                  </a:moveTo>
                  <a:lnTo>
                    <a:pt x="126" y="36"/>
                  </a:lnTo>
                  <a:lnTo>
                    <a:pt x="84" y="78"/>
                  </a:lnTo>
                  <a:lnTo>
                    <a:pt x="36" y="126"/>
                  </a:lnTo>
                  <a:lnTo>
                    <a:pt x="0" y="168"/>
                  </a:lnTo>
                  <a:lnTo>
                    <a:pt x="42" y="210"/>
                  </a:lnTo>
                  <a:lnTo>
                    <a:pt x="90" y="252"/>
                  </a:lnTo>
                  <a:lnTo>
                    <a:pt x="126" y="216"/>
                  </a:lnTo>
                  <a:lnTo>
                    <a:pt x="168" y="174"/>
                  </a:lnTo>
                  <a:lnTo>
                    <a:pt x="216" y="126"/>
                  </a:lnTo>
                  <a:lnTo>
                    <a:pt x="252" y="84"/>
                  </a:lnTo>
                  <a:lnTo>
                    <a:pt x="210" y="48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283840" y="3777840"/>
              <a:ext cx="19440" cy="21960"/>
            </a:xfrm>
            <a:custGeom>
              <a:avLst/>
              <a:gdLst/>
              <a:ahLst/>
              <a:rect l="l" t="t" r="r" b="b"/>
              <a:pathLst>
                <a:path w="228" h="270">
                  <a:moveTo>
                    <a:pt x="114" y="0"/>
                  </a:moveTo>
                  <a:lnTo>
                    <a:pt x="90" y="48"/>
                  </a:lnTo>
                  <a:lnTo>
                    <a:pt x="60" y="102"/>
                  </a:lnTo>
                  <a:lnTo>
                    <a:pt x="24" y="162"/>
                  </a:lnTo>
                  <a:lnTo>
                    <a:pt x="0" y="204"/>
                  </a:lnTo>
                  <a:lnTo>
                    <a:pt x="54" y="240"/>
                  </a:lnTo>
                  <a:lnTo>
                    <a:pt x="108" y="270"/>
                  </a:lnTo>
                  <a:lnTo>
                    <a:pt x="138" y="222"/>
                  </a:lnTo>
                  <a:lnTo>
                    <a:pt x="168" y="168"/>
                  </a:lnTo>
                  <a:lnTo>
                    <a:pt x="198" y="108"/>
                  </a:lnTo>
                  <a:lnTo>
                    <a:pt x="228" y="66"/>
                  </a:lnTo>
                  <a:lnTo>
                    <a:pt x="174" y="36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292480" y="3762000"/>
              <a:ext cx="15840" cy="20880"/>
            </a:xfrm>
            <a:custGeom>
              <a:avLst/>
              <a:gdLst/>
              <a:ahLst/>
              <a:rect l="l" t="t" r="r" b="b"/>
              <a:pathLst>
                <a:path w="186" h="258">
                  <a:moveTo>
                    <a:pt x="60" y="0"/>
                  </a:moveTo>
                  <a:lnTo>
                    <a:pt x="48" y="54"/>
                  </a:lnTo>
                  <a:lnTo>
                    <a:pt x="30" y="108"/>
                  </a:lnTo>
                  <a:lnTo>
                    <a:pt x="12" y="174"/>
                  </a:lnTo>
                  <a:lnTo>
                    <a:pt x="0" y="228"/>
                  </a:lnTo>
                  <a:lnTo>
                    <a:pt x="60" y="246"/>
                  </a:lnTo>
                  <a:lnTo>
                    <a:pt x="120" y="258"/>
                  </a:lnTo>
                  <a:lnTo>
                    <a:pt x="138" y="204"/>
                  </a:lnTo>
                  <a:lnTo>
                    <a:pt x="150" y="150"/>
                  </a:lnTo>
                  <a:lnTo>
                    <a:pt x="168" y="84"/>
                  </a:lnTo>
                  <a:lnTo>
                    <a:pt x="186" y="30"/>
                  </a:lnTo>
                  <a:lnTo>
                    <a:pt x="126" y="18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6" name=""/>
          <p:cNvGrpSpPr/>
          <p:nvPr/>
        </p:nvGrpSpPr>
        <p:grpSpPr>
          <a:xfrm>
            <a:off x="2455920" y="2793960"/>
            <a:ext cx="557280" cy="932040"/>
            <a:chOff x="2455920" y="2793960"/>
            <a:chExt cx="557280" cy="932040"/>
          </a:xfrm>
        </p:grpSpPr>
        <p:sp>
          <p:nvSpPr>
            <p:cNvPr id="6157" name=""/>
            <p:cNvSpPr/>
            <p:nvPr/>
          </p:nvSpPr>
          <p:spPr>
            <a:xfrm>
              <a:off x="2479680" y="2822400"/>
              <a:ext cx="533520" cy="857520"/>
            </a:xfrm>
            <a:custGeom>
              <a:avLst/>
              <a:gdLst/>
              <a:ahLst/>
              <a:rect l="l" t="t" r="r" b="b"/>
              <a:pathLst>
                <a:path w="336" h="554">
                  <a:moveTo>
                    <a:pt x="48" y="240"/>
                  </a:moveTo>
                  <a:lnTo>
                    <a:pt x="48" y="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96"/>
                  </a:lnTo>
                  <a:lnTo>
                    <a:pt x="288" y="96"/>
                  </a:lnTo>
                  <a:lnTo>
                    <a:pt x="288" y="336"/>
                  </a:lnTo>
                  <a:lnTo>
                    <a:pt x="288" y="432"/>
                  </a:lnTo>
                  <a:lnTo>
                    <a:pt x="336" y="460"/>
                  </a:lnTo>
                  <a:lnTo>
                    <a:pt x="336" y="528"/>
                  </a:lnTo>
                  <a:lnTo>
                    <a:pt x="240" y="554"/>
                  </a:lnTo>
                  <a:lnTo>
                    <a:pt x="96" y="554"/>
                  </a:lnTo>
                  <a:lnTo>
                    <a:pt x="48" y="506"/>
                  </a:lnTo>
                  <a:lnTo>
                    <a:pt x="48" y="384"/>
                  </a:lnTo>
                  <a:lnTo>
                    <a:pt x="20" y="336"/>
                  </a:lnTo>
                  <a:lnTo>
                    <a:pt x="20" y="288"/>
                  </a:lnTo>
                  <a:lnTo>
                    <a:pt x="48" y="24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455920" y="2793960"/>
              <a:ext cx="74520" cy="7452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9" name=""/>
            <p:cNvGrpSpPr/>
            <p:nvPr/>
          </p:nvGrpSpPr>
          <p:grpSpPr>
            <a:xfrm>
              <a:off x="2631600" y="3032280"/>
              <a:ext cx="227160" cy="218880"/>
              <a:chOff x="2631600" y="3032280"/>
              <a:chExt cx="227160" cy="218880"/>
            </a:xfrm>
          </p:grpSpPr>
          <p:sp>
            <p:nvSpPr>
              <p:cNvPr id="6160" name=""/>
              <p:cNvSpPr/>
              <p:nvPr/>
            </p:nvSpPr>
            <p:spPr>
              <a:xfrm rot="5400000">
                <a:off x="2669760" y="3108240"/>
                <a:ext cx="218880" cy="6660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 rot="5400000">
                <a:off x="2603160" y="3108240"/>
                <a:ext cx="218880" cy="6660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2" name=""/>
              <p:cNvGrpSpPr/>
              <p:nvPr/>
            </p:nvGrpSpPr>
            <p:grpSpPr>
              <a:xfrm>
                <a:off x="2631600" y="3071520"/>
                <a:ext cx="90720" cy="141120"/>
                <a:chOff x="2631600" y="3071520"/>
                <a:chExt cx="90720" cy="141120"/>
              </a:xfrm>
            </p:grpSpPr>
            <p:sp>
              <p:nvSpPr>
                <p:cNvPr id="6163" name=""/>
                <p:cNvSpPr/>
                <p:nvPr/>
              </p:nvSpPr>
              <p:spPr>
                <a:xfrm rot="10800000">
                  <a:off x="2631600" y="3142080"/>
                  <a:ext cx="90720" cy="7056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4" name=""/>
                <p:cNvSpPr/>
                <p:nvPr/>
              </p:nvSpPr>
              <p:spPr>
                <a:xfrm flipV="1" rot="10800000">
                  <a:off x="2631600" y="3071520"/>
                  <a:ext cx="90720" cy="7056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5" name=""/>
              <p:cNvGrpSpPr/>
              <p:nvPr/>
            </p:nvGrpSpPr>
            <p:grpSpPr>
              <a:xfrm>
                <a:off x="2768040" y="3071520"/>
                <a:ext cx="90720" cy="141120"/>
                <a:chOff x="2768040" y="3071520"/>
                <a:chExt cx="90720" cy="141120"/>
              </a:xfrm>
            </p:grpSpPr>
            <p:sp>
              <p:nvSpPr>
                <p:cNvPr id="6166" name=""/>
                <p:cNvSpPr/>
                <p:nvPr/>
              </p:nvSpPr>
              <p:spPr>
                <a:xfrm flipH="1" rot="10800000">
                  <a:off x="2768040" y="3142080"/>
                  <a:ext cx="90720" cy="7056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7" name=""/>
                <p:cNvSpPr/>
                <p:nvPr/>
              </p:nvSpPr>
              <p:spPr>
                <a:xfrm flipH="1" flipV="1" rot="10800000">
                  <a:off x="2768040" y="3071520"/>
                  <a:ext cx="90720" cy="7056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68" name=""/>
            <p:cNvGrpSpPr/>
            <p:nvPr/>
          </p:nvGrpSpPr>
          <p:grpSpPr>
            <a:xfrm>
              <a:off x="2774880" y="3475080"/>
              <a:ext cx="131760" cy="139680"/>
              <a:chOff x="2774880" y="3475080"/>
              <a:chExt cx="131760" cy="139680"/>
            </a:xfrm>
          </p:grpSpPr>
          <p:sp>
            <p:nvSpPr>
              <p:cNvPr id="6169" name=""/>
              <p:cNvSpPr/>
              <p:nvPr/>
            </p:nvSpPr>
            <p:spPr>
              <a:xfrm>
                <a:off x="2774880" y="3475080"/>
                <a:ext cx="131760" cy="2772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2774880" y="3586680"/>
                <a:ext cx="131760" cy="2808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2840760" y="3475080"/>
                <a:ext cx="65880" cy="13968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2774880" y="3475080"/>
                <a:ext cx="65880" cy="13968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3" name=""/>
            <p:cNvGrpSpPr/>
            <p:nvPr/>
          </p:nvGrpSpPr>
          <p:grpSpPr>
            <a:xfrm>
              <a:off x="2647800" y="3414600"/>
              <a:ext cx="82800" cy="165600"/>
              <a:chOff x="2647800" y="3414600"/>
              <a:chExt cx="82800" cy="165600"/>
            </a:xfrm>
          </p:grpSpPr>
          <p:sp>
            <p:nvSpPr>
              <p:cNvPr id="6174" name=""/>
              <p:cNvSpPr/>
              <p:nvPr/>
            </p:nvSpPr>
            <p:spPr>
              <a:xfrm>
                <a:off x="2647800" y="3414600"/>
                <a:ext cx="8280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2647800" y="3579840"/>
                <a:ext cx="8280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2688840" y="3414600"/>
                <a:ext cx="41760" cy="1652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2647800" y="3414600"/>
                <a:ext cx="41040" cy="1652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8" name=""/>
            <p:cNvSpPr/>
            <p:nvPr/>
          </p:nvSpPr>
          <p:spPr>
            <a:xfrm>
              <a:off x="2860560" y="2930400"/>
              <a:ext cx="114480" cy="120600"/>
            </a:xfrm>
            <a:prstGeom prst="octagon">
              <a:avLst>
                <a:gd name="adj" fmla="val 29287"/>
              </a:avLst>
            </a:prstGeom>
            <a:solidFill>
              <a:srgbClr val="c0c0c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9" name=""/>
            <p:cNvGrpSpPr/>
            <p:nvPr/>
          </p:nvGrpSpPr>
          <p:grpSpPr>
            <a:xfrm>
              <a:off x="2514600" y="3581280"/>
              <a:ext cx="152280" cy="144720"/>
              <a:chOff x="2514600" y="3581280"/>
              <a:chExt cx="152280" cy="144720"/>
            </a:xfrm>
          </p:grpSpPr>
          <p:sp>
            <p:nvSpPr>
              <p:cNvPr id="6180" name=""/>
              <p:cNvSpPr/>
              <p:nvPr/>
            </p:nvSpPr>
            <p:spPr>
              <a:xfrm>
                <a:off x="2524680" y="3589920"/>
                <a:ext cx="132840" cy="126360"/>
              </a:xfrm>
              <a:prstGeom prst="ellipse">
                <a:avLst/>
              </a:prstGeom>
              <a:solidFill>
                <a:srgbClr val="a58f8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2518560" y="3588120"/>
                <a:ext cx="126720" cy="130680"/>
              </a:xfrm>
              <a:custGeom>
                <a:avLst/>
                <a:gdLst/>
                <a:ahLst/>
                <a:rect l="l" t="t" r="r" b="b"/>
                <a:pathLst>
                  <a:path w="1476" h="1602">
                    <a:moveTo>
                      <a:pt x="678" y="1602"/>
                    </a:moveTo>
                    <a:lnTo>
                      <a:pt x="678" y="1596"/>
                    </a:lnTo>
                    <a:lnTo>
                      <a:pt x="684" y="1578"/>
                    </a:lnTo>
                    <a:lnTo>
                      <a:pt x="684" y="1560"/>
                    </a:lnTo>
                    <a:lnTo>
                      <a:pt x="690" y="1548"/>
                    </a:lnTo>
                    <a:lnTo>
                      <a:pt x="690" y="1536"/>
                    </a:lnTo>
                    <a:lnTo>
                      <a:pt x="696" y="1530"/>
                    </a:lnTo>
                    <a:lnTo>
                      <a:pt x="696" y="1512"/>
                    </a:lnTo>
                    <a:lnTo>
                      <a:pt x="696" y="1494"/>
                    </a:lnTo>
                    <a:lnTo>
                      <a:pt x="702" y="1476"/>
                    </a:lnTo>
                    <a:lnTo>
                      <a:pt x="702" y="1452"/>
                    </a:lnTo>
                    <a:lnTo>
                      <a:pt x="702" y="1428"/>
                    </a:lnTo>
                    <a:lnTo>
                      <a:pt x="702" y="1410"/>
                    </a:lnTo>
                    <a:lnTo>
                      <a:pt x="702" y="1386"/>
                    </a:lnTo>
                    <a:lnTo>
                      <a:pt x="702" y="1374"/>
                    </a:lnTo>
                    <a:lnTo>
                      <a:pt x="702" y="1356"/>
                    </a:lnTo>
                    <a:lnTo>
                      <a:pt x="702" y="1350"/>
                    </a:lnTo>
                    <a:lnTo>
                      <a:pt x="702" y="1332"/>
                    </a:lnTo>
                    <a:lnTo>
                      <a:pt x="702" y="1320"/>
                    </a:lnTo>
                    <a:lnTo>
                      <a:pt x="708" y="1308"/>
                    </a:lnTo>
                    <a:lnTo>
                      <a:pt x="708" y="1290"/>
                    </a:lnTo>
                    <a:lnTo>
                      <a:pt x="708" y="1278"/>
                    </a:lnTo>
                    <a:lnTo>
                      <a:pt x="708" y="1266"/>
                    </a:lnTo>
                    <a:lnTo>
                      <a:pt x="708" y="1254"/>
                    </a:lnTo>
                    <a:lnTo>
                      <a:pt x="714" y="1236"/>
                    </a:lnTo>
                    <a:lnTo>
                      <a:pt x="714" y="1218"/>
                    </a:lnTo>
                    <a:lnTo>
                      <a:pt x="714" y="1200"/>
                    </a:lnTo>
                    <a:lnTo>
                      <a:pt x="714" y="1188"/>
                    </a:lnTo>
                    <a:lnTo>
                      <a:pt x="720" y="1164"/>
                    </a:lnTo>
                    <a:lnTo>
                      <a:pt x="720" y="1134"/>
                    </a:lnTo>
                    <a:lnTo>
                      <a:pt x="720" y="1116"/>
                    </a:lnTo>
                    <a:lnTo>
                      <a:pt x="726" y="1092"/>
                    </a:lnTo>
                    <a:lnTo>
                      <a:pt x="726" y="1074"/>
                    </a:lnTo>
                    <a:lnTo>
                      <a:pt x="732" y="1062"/>
                    </a:lnTo>
                    <a:lnTo>
                      <a:pt x="732" y="1044"/>
                    </a:lnTo>
                    <a:lnTo>
                      <a:pt x="732" y="1032"/>
                    </a:lnTo>
                    <a:lnTo>
                      <a:pt x="732" y="1020"/>
                    </a:lnTo>
                    <a:lnTo>
                      <a:pt x="738" y="1014"/>
                    </a:lnTo>
                    <a:lnTo>
                      <a:pt x="738" y="1002"/>
                    </a:lnTo>
                    <a:lnTo>
                      <a:pt x="738" y="990"/>
                    </a:lnTo>
                    <a:lnTo>
                      <a:pt x="738" y="984"/>
                    </a:lnTo>
                    <a:lnTo>
                      <a:pt x="738" y="972"/>
                    </a:lnTo>
                    <a:lnTo>
                      <a:pt x="738" y="954"/>
                    </a:lnTo>
                    <a:lnTo>
                      <a:pt x="744" y="948"/>
                    </a:lnTo>
                    <a:lnTo>
                      <a:pt x="744" y="936"/>
                    </a:lnTo>
                    <a:lnTo>
                      <a:pt x="744" y="930"/>
                    </a:lnTo>
                    <a:lnTo>
                      <a:pt x="744" y="924"/>
                    </a:lnTo>
                    <a:lnTo>
                      <a:pt x="744" y="918"/>
                    </a:lnTo>
                    <a:lnTo>
                      <a:pt x="744" y="906"/>
                    </a:lnTo>
                    <a:lnTo>
                      <a:pt x="750" y="894"/>
                    </a:lnTo>
                    <a:lnTo>
                      <a:pt x="756" y="882"/>
                    </a:lnTo>
                    <a:lnTo>
                      <a:pt x="756" y="870"/>
                    </a:lnTo>
                    <a:lnTo>
                      <a:pt x="756" y="864"/>
                    </a:lnTo>
                    <a:lnTo>
                      <a:pt x="756" y="852"/>
                    </a:lnTo>
                    <a:lnTo>
                      <a:pt x="762" y="840"/>
                    </a:lnTo>
                    <a:lnTo>
                      <a:pt x="762" y="834"/>
                    </a:lnTo>
                    <a:lnTo>
                      <a:pt x="762" y="822"/>
                    </a:lnTo>
                    <a:lnTo>
                      <a:pt x="768" y="804"/>
                    </a:lnTo>
                    <a:lnTo>
                      <a:pt x="768" y="798"/>
                    </a:lnTo>
                    <a:lnTo>
                      <a:pt x="774" y="780"/>
                    </a:lnTo>
                    <a:lnTo>
                      <a:pt x="780" y="768"/>
                    </a:lnTo>
                    <a:lnTo>
                      <a:pt x="780" y="750"/>
                    </a:lnTo>
                    <a:lnTo>
                      <a:pt x="786" y="744"/>
                    </a:lnTo>
                    <a:lnTo>
                      <a:pt x="786" y="732"/>
                    </a:lnTo>
                    <a:lnTo>
                      <a:pt x="792" y="720"/>
                    </a:lnTo>
                    <a:lnTo>
                      <a:pt x="798" y="708"/>
                    </a:lnTo>
                    <a:lnTo>
                      <a:pt x="798" y="702"/>
                    </a:lnTo>
                    <a:lnTo>
                      <a:pt x="804" y="690"/>
                    </a:lnTo>
                    <a:lnTo>
                      <a:pt x="804" y="684"/>
                    </a:lnTo>
                    <a:lnTo>
                      <a:pt x="810" y="678"/>
                    </a:lnTo>
                    <a:lnTo>
                      <a:pt x="810" y="672"/>
                    </a:lnTo>
                    <a:lnTo>
                      <a:pt x="822" y="672"/>
                    </a:lnTo>
                    <a:lnTo>
                      <a:pt x="840" y="660"/>
                    </a:lnTo>
                    <a:lnTo>
                      <a:pt x="852" y="648"/>
                    </a:lnTo>
                    <a:lnTo>
                      <a:pt x="864" y="642"/>
                    </a:lnTo>
                    <a:lnTo>
                      <a:pt x="876" y="636"/>
                    </a:lnTo>
                    <a:lnTo>
                      <a:pt x="888" y="630"/>
                    </a:lnTo>
                    <a:lnTo>
                      <a:pt x="894" y="624"/>
                    </a:lnTo>
                    <a:lnTo>
                      <a:pt x="900" y="618"/>
                    </a:lnTo>
                    <a:lnTo>
                      <a:pt x="912" y="612"/>
                    </a:lnTo>
                    <a:lnTo>
                      <a:pt x="930" y="600"/>
                    </a:lnTo>
                    <a:lnTo>
                      <a:pt x="942" y="594"/>
                    </a:lnTo>
                    <a:lnTo>
                      <a:pt x="954" y="582"/>
                    </a:lnTo>
                    <a:lnTo>
                      <a:pt x="966" y="576"/>
                    </a:lnTo>
                    <a:lnTo>
                      <a:pt x="984" y="564"/>
                    </a:lnTo>
                    <a:lnTo>
                      <a:pt x="996" y="552"/>
                    </a:lnTo>
                    <a:lnTo>
                      <a:pt x="1008" y="546"/>
                    </a:lnTo>
                    <a:lnTo>
                      <a:pt x="1026" y="534"/>
                    </a:lnTo>
                    <a:lnTo>
                      <a:pt x="1038" y="528"/>
                    </a:lnTo>
                    <a:lnTo>
                      <a:pt x="1056" y="516"/>
                    </a:lnTo>
                    <a:lnTo>
                      <a:pt x="1068" y="510"/>
                    </a:lnTo>
                    <a:lnTo>
                      <a:pt x="1086" y="498"/>
                    </a:lnTo>
                    <a:lnTo>
                      <a:pt x="1104" y="486"/>
                    </a:lnTo>
                    <a:lnTo>
                      <a:pt x="1116" y="474"/>
                    </a:lnTo>
                    <a:lnTo>
                      <a:pt x="1134" y="462"/>
                    </a:lnTo>
                    <a:lnTo>
                      <a:pt x="1146" y="456"/>
                    </a:lnTo>
                    <a:lnTo>
                      <a:pt x="1158" y="444"/>
                    </a:lnTo>
                    <a:lnTo>
                      <a:pt x="1170" y="438"/>
                    </a:lnTo>
                    <a:lnTo>
                      <a:pt x="1182" y="438"/>
                    </a:lnTo>
                    <a:lnTo>
                      <a:pt x="1194" y="432"/>
                    </a:lnTo>
                    <a:lnTo>
                      <a:pt x="1206" y="426"/>
                    </a:lnTo>
                    <a:lnTo>
                      <a:pt x="1212" y="420"/>
                    </a:lnTo>
                    <a:lnTo>
                      <a:pt x="1230" y="420"/>
                    </a:lnTo>
                    <a:lnTo>
                      <a:pt x="1236" y="414"/>
                    </a:lnTo>
                    <a:lnTo>
                      <a:pt x="1242" y="408"/>
                    </a:lnTo>
                    <a:lnTo>
                      <a:pt x="1248" y="402"/>
                    </a:lnTo>
                    <a:lnTo>
                      <a:pt x="1260" y="396"/>
                    </a:lnTo>
                    <a:lnTo>
                      <a:pt x="1272" y="390"/>
                    </a:lnTo>
                    <a:lnTo>
                      <a:pt x="1290" y="384"/>
                    </a:lnTo>
                    <a:lnTo>
                      <a:pt x="1302" y="372"/>
                    </a:lnTo>
                    <a:lnTo>
                      <a:pt x="1320" y="366"/>
                    </a:lnTo>
                    <a:lnTo>
                      <a:pt x="1344" y="354"/>
                    </a:lnTo>
                    <a:lnTo>
                      <a:pt x="1362" y="348"/>
                    </a:lnTo>
                    <a:lnTo>
                      <a:pt x="1386" y="330"/>
                    </a:lnTo>
                    <a:lnTo>
                      <a:pt x="1410" y="324"/>
                    </a:lnTo>
                    <a:lnTo>
                      <a:pt x="1434" y="312"/>
                    </a:lnTo>
                    <a:lnTo>
                      <a:pt x="1446" y="306"/>
                    </a:lnTo>
                    <a:lnTo>
                      <a:pt x="1458" y="300"/>
                    </a:lnTo>
                    <a:lnTo>
                      <a:pt x="1464" y="300"/>
                    </a:lnTo>
                    <a:lnTo>
                      <a:pt x="1470" y="300"/>
                    </a:lnTo>
                    <a:lnTo>
                      <a:pt x="1470" y="294"/>
                    </a:lnTo>
                    <a:lnTo>
                      <a:pt x="1476" y="288"/>
                    </a:lnTo>
                    <a:lnTo>
                      <a:pt x="1470" y="288"/>
                    </a:lnTo>
                    <a:lnTo>
                      <a:pt x="1464" y="288"/>
                    </a:lnTo>
                    <a:lnTo>
                      <a:pt x="1452" y="282"/>
                    </a:lnTo>
                    <a:lnTo>
                      <a:pt x="1446" y="276"/>
                    </a:lnTo>
                    <a:lnTo>
                      <a:pt x="1434" y="264"/>
                    </a:lnTo>
                    <a:lnTo>
                      <a:pt x="1428" y="246"/>
                    </a:lnTo>
                    <a:lnTo>
                      <a:pt x="1422" y="240"/>
                    </a:lnTo>
                    <a:lnTo>
                      <a:pt x="1416" y="234"/>
                    </a:lnTo>
                    <a:lnTo>
                      <a:pt x="1398" y="210"/>
                    </a:lnTo>
                    <a:lnTo>
                      <a:pt x="1386" y="198"/>
                    </a:lnTo>
                    <a:lnTo>
                      <a:pt x="1380" y="192"/>
                    </a:lnTo>
                    <a:lnTo>
                      <a:pt x="1380" y="186"/>
                    </a:lnTo>
                    <a:lnTo>
                      <a:pt x="1368" y="186"/>
                    </a:lnTo>
                    <a:lnTo>
                      <a:pt x="1362" y="180"/>
                    </a:lnTo>
                    <a:lnTo>
                      <a:pt x="1356" y="174"/>
                    </a:lnTo>
                    <a:lnTo>
                      <a:pt x="1344" y="168"/>
                    </a:lnTo>
                    <a:lnTo>
                      <a:pt x="1338" y="162"/>
                    </a:lnTo>
                    <a:lnTo>
                      <a:pt x="1320" y="144"/>
                    </a:lnTo>
                    <a:lnTo>
                      <a:pt x="1314" y="144"/>
                    </a:lnTo>
                    <a:lnTo>
                      <a:pt x="1302" y="132"/>
                    </a:lnTo>
                    <a:lnTo>
                      <a:pt x="1296" y="132"/>
                    </a:lnTo>
                    <a:lnTo>
                      <a:pt x="1272" y="120"/>
                    </a:lnTo>
                    <a:lnTo>
                      <a:pt x="1254" y="108"/>
                    </a:lnTo>
                    <a:lnTo>
                      <a:pt x="1230" y="102"/>
                    </a:lnTo>
                    <a:lnTo>
                      <a:pt x="1212" y="96"/>
                    </a:lnTo>
                    <a:lnTo>
                      <a:pt x="1206" y="96"/>
                    </a:lnTo>
                    <a:lnTo>
                      <a:pt x="1194" y="84"/>
                    </a:lnTo>
                    <a:lnTo>
                      <a:pt x="1170" y="78"/>
                    </a:lnTo>
                    <a:lnTo>
                      <a:pt x="1146" y="78"/>
                    </a:lnTo>
                    <a:lnTo>
                      <a:pt x="1134" y="72"/>
                    </a:lnTo>
                    <a:lnTo>
                      <a:pt x="1122" y="60"/>
                    </a:lnTo>
                    <a:lnTo>
                      <a:pt x="1116" y="60"/>
                    </a:lnTo>
                    <a:lnTo>
                      <a:pt x="1092" y="60"/>
                    </a:lnTo>
                    <a:lnTo>
                      <a:pt x="1068" y="48"/>
                    </a:lnTo>
                    <a:lnTo>
                      <a:pt x="1050" y="42"/>
                    </a:lnTo>
                    <a:lnTo>
                      <a:pt x="1038" y="42"/>
                    </a:lnTo>
                    <a:lnTo>
                      <a:pt x="1026" y="36"/>
                    </a:lnTo>
                    <a:lnTo>
                      <a:pt x="1014" y="36"/>
                    </a:lnTo>
                    <a:lnTo>
                      <a:pt x="1002" y="30"/>
                    </a:lnTo>
                    <a:lnTo>
                      <a:pt x="990" y="30"/>
                    </a:lnTo>
                    <a:lnTo>
                      <a:pt x="978" y="24"/>
                    </a:lnTo>
                    <a:lnTo>
                      <a:pt x="966" y="18"/>
                    </a:lnTo>
                    <a:lnTo>
                      <a:pt x="954" y="18"/>
                    </a:lnTo>
                    <a:lnTo>
                      <a:pt x="942" y="12"/>
                    </a:lnTo>
                    <a:lnTo>
                      <a:pt x="924" y="12"/>
                    </a:lnTo>
                    <a:lnTo>
                      <a:pt x="918" y="12"/>
                    </a:lnTo>
                    <a:lnTo>
                      <a:pt x="906" y="6"/>
                    </a:lnTo>
                    <a:lnTo>
                      <a:pt x="888" y="6"/>
                    </a:lnTo>
                    <a:lnTo>
                      <a:pt x="870" y="6"/>
                    </a:lnTo>
                    <a:lnTo>
                      <a:pt x="840" y="6"/>
                    </a:lnTo>
                    <a:lnTo>
                      <a:pt x="822" y="6"/>
                    </a:lnTo>
                    <a:lnTo>
                      <a:pt x="792" y="6"/>
                    </a:lnTo>
                    <a:lnTo>
                      <a:pt x="762" y="6"/>
                    </a:lnTo>
                    <a:lnTo>
                      <a:pt x="720" y="12"/>
                    </a:lnTo>
                    <a:lnTo>
                      <a:pt x="720" y="0"/>
                    </a:lnTo>
                    <a:lnTo>
                      <a:pt x="714" y="0"/>
                    </a:lnTo>
                    <a:lnTo>
                      <a:pt x="690" y="6"/>
                    </a:lnTo>
                    <a:lnTo>
                      <a:pt x="672" y="12"/>
                    </a:lnTo>
                    <a:lnTo>
                      <a:pt x="642" y="18"/>
                    </a:lnTo>
                    <a:lnTo>
                      <a:pt x="618" y="30"/>
                    </a:lnTo>
                    <a:lnTo>
                      <a:pt x="588" y="36"/>
                    </a:lnTo>
                    <a:lnTo>
                      <a:pt x="570" y="42"/>
                    </a:lnTo>
                    <a:lnTo>
                      <a:pt x="552" y="48"/>
                    </a:lnTo>
                    <a:lnTo>
                      <a:pt x="516" y="60"/>
                    </a:lnTo>
                    <a:lnTo>
                      <a:pt x="492" y="72"/>
                    </a:lnTo>
                    <a:lnTo>
                      <a:pt x="462" y="84"/>
                    </a:lnTo>
                    <a:lnTo>
                      <a:pt x="450" y="90"/>
                    </a:lnTo>
                    <a:lnTo>
                      <a:pt x="438" y="102"/>
                    </a:lnTo>
                    <a:lnTo>
                      <a:pt x="426" y="108"/>
                    </a:lnTo>
                    <a:lnTo>
                      <a:pt x="408" y="120"/>
                    </a:lnTo>
                    <a:lnTo>
                      <a:pt x="396" y="126"/>
                    </a:lnTo>
                    <a:lnTo>
                      <a:pt x="384" y="132"/>
                    </a:lnTo>
                    <a:lnTo>
                      <a:pt x="372" y="144"/>
                    </a:lnTo>
                    <a:lnTo>
                      <a:pt x="348" y="162"/>
                    </a:lnTo>
                    <a:lnTo>
                      <a:pt x="324" y="174"/>
                    </a:lnTo>
                    <a:lnTo>
                      <a:pt x="306" y="192"/>
                    </a:lnTo>
                    <a:lnTo>
                      <a:pt x="288" y="198"/>
                    </a:lnTo>
                    <a:lnTo>
                      <a:pt x="270" y="216"/>
                    </a:lnTo>
                    <a:lnTo>
                      <a:pt x="252" y="228"/>
                    </a:lnTo>
                    <a:lnTo>
                      <a:pt x="228" y="240"/>
                    </a:lnTo>
                    <a:lnTo>
                      <a:pt x="210" y="258"/>
                    </a:lnTo>
                    <a:lnTo>
                      <a:pt x="198" y="264"/>
                    </a:lnTo>
                    <a:lnTo>
                      <a:pt x="192" y="276"/>
                    </a:lnTo>
                    <a:lnTo>
                      <a:pt x="186" y="282"/>
                    </a:lnTo>
                    <a:lnTo>
                      <a:pt x="180" y="288"/>
                    </a:lnTo>
                    <a:lnTo>
                      <a:pt x="174" y="300"/>
                    </a:lnTo>
                    <a:lnTo>
                      <a:pt x="162" y="318"/>
                    </a:lnTo>
                    <a:lnTo>
                      <a:pt x="156" y="330"/>
                    </a:lnTo>
                    <a:lnTo>
                      <a:pt x="150" y="354"/>
                    </a:lnTo>
                    <a:lnTo>
                      <a:pt x="138" y="366"/>
                    </a:lnTo>
                    <a:lnTo>
                      <a:pt x="132" y="384"/>
                    </a:lnTo>
                    <a:lnTo>
                      <a:pt x="126" y="402"/>
                    </a:lnTo>
                    <a:lnTo>
                      <a:pt x="114" y="414"/>
                    </a:lnTo>
                    <a:lnTo>
                      <a:pt x="108" y="444"/>
                    </a:lnTo>
                    <a:lnTo>
                      <a:pt x="90" y="474"/>
                    </a:lnTo>
                    <a:lnTo>
                      <a:pt x="78" y="504"/>
                    </a:lnTo>
                    <a:lnTo>
                      <a:pt x="60" y="534"/>
                    </a:lnTo>
                    <a:lnTo>
                      <a:pt x="48" y="570"/>
                    </a:lnTo>
                    <a:lnTo>
                      <a:pt x="42" y="594"/>
                    </a:lnTo>
                    <a:lnTo>
                      <a:pt x="30" y="618"/>
                    </a:lnTo>
                    <a:lnTo>
                      <a:pt x="24" y="642"/>
                    </a:lnTo>
                    <a:lnTo>
                      <a:pt x="18" y="666"/>
                    </a:lnTo>
                    <a:lnTo>
                      <a:pt x="12" y="690"/>
                    </a:lnTo>
                    <a:lnTo>
                      <a:pt x="12" y="708"/>
                    </a:lnTo>
                    <a:lnTo>
                      <a:pt x="0" y="732"/>
                    </a:lnTo>
                    <a:lnTo>
                      <a:pt x="0" y="756"/>
                    </a:lnTo>
                    <a:lnTo>
                      <a:pt x="0" y="786"/>
                    </a:lnTo>
                    <a:lnTo>
                      <a:pt x="0" y="810"/>
                    </a:lnTo>
                    <a:lnTo>
                      <a:pt x="0" y="840"/>
                    </a:lnTo>
                    <a:lnTo>
                      <a:pt x="0" y="864"/>
                    </a:lnTo>
                    <a:lnTo>
                      <a:pt x="0" y="888"/>
                    </a:lnTo>
                    <a:lnTo>
                      <a:pt x="0" y="918"/>
                    </a:lnTo>
                    <a:lnTo>
                      <a:pt x="0" y="948"/>
                    </a:lnTo>
                    <a:lnTo>
                      <a:pt x="12" y="966"/>
                    </a:lnTo>
                    <a:lnTo>
                      <a:pt x="12" y="978"/>
                    </a:lnTo>
                    <a:lnTo>
                      <a:pt x="18" y="990"/>
                    </a:lnTo>
                    <a:lnTo>
                      <a:pt x="24" y="1008"/>
                    </a:lnTo>
                    <a:lnTo>
                      <a:pt x="24" y="1020"/>
                    </a:lnTo>
                    <a:lnTo>
                      <a:pt x="30" y="1038"/>
                    </a:lnTo>
                    <a:lnTo>
                      <a:pt x="42" y="1062"/>
                    </a:lnTo>
                    <a:lnTo>
                      <a:pt x="42" y="1080"/>
                    </a:lnTo>
                    <a:lnTo>
                      <a:pt x="48" y="1092"/>
                    </a:lnTo>
                    <a:lnTo>
                      <a:pt x="60" y="1116"/>
                    </a:lnTo>
                    <a:lnTo>
                      <a:pt x="72" y="1140"/>
                    </a:lnTo>
                    <a:lnTo>
                      <a:pt x="78" y="1164"/>
                    </a:lnTo>
                    <a:lnTo>
                      <a:pt x="90" y="1188"/>
                    </a:lnTo>
                    <a:lnTo>
                      <a:pt x="102" y="1206"/>
                    </a:lnTo>
                    <a:lnTo>
                      <a:pt x="108" y="1224"/>
                    </a:lnTo>
                    <a:lnTo>
                      <a:pt x="126" y="1242"/>
                    </a:lnTo>
                    <a:lnTo>
                      <a:pt x="150" y="1278"/>
                    </a:lnTo>
                    <a:lnTo>
                      <a:pt x="162" y="1290"/>
                    </a:lnTo>
                    <a:lnTo>
                      <a:pt x="186" y="1314"/>
                    </a:lnTo>
                    <a:lnTo>
                      <a:pt x="204" y="1332"/>
                    </a:lnTo>
                    <a:lnTo>
                      <a:pt x="216" y="1350"/>
                    </a:lnTo>
                    <a:lnTo>
                      <a:pt x="234" y="1374"/>
                    </a:lnTo>
                    <a:lnTo>
                      <a:pt x="252" y="1380"/>
                    </a:lnTo>
                    <a:lnTo>
                      <a:pt x="264" y="1398"/>
                    </a:lnTo>
                    <a:lnTo>
                      <a:pt x="270" y="1404"/>
                    </a:lnTo>
                    <a:lnTo>
                      <a:pt x="282" y="1410"/>
                    </a:lnTo>
                    <a:lnTo>
                      <a:pt x="294" y="1422"/>
                    </a:lnTo>
                    <a:lnTo>
                      <a:pt x="312" y="1434"/>
                    </a:lnTo>
                    <a:lnTo>
                      <a:pt x="330" y="1440"/>
                    </a:lnTo>
                    <a:lnTo>
                      <a:pt x="348" y="1452"/>
                    </a:lnTo>
                    <a:lnTo>
                      <a:pt x="372" y="1470"/>
                    </a:lnTo>
                    <a:lnTo>
                      <a:pt x="378" y="1476"/>
                    </a:lnTo>
                    <a:lnTo>
                      <a:pt x="678" y="1602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bfb0b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2655720" y="3643920"/>
                <a:ext cx="11160" cy="19440"/>
              </a:xfrm>
              <a:custGeom>
                <a:avLst/>
                <a:gdLst/>
                <a:ahLst/>
                <a:rect l="l" t="t" r="r" b="b"/>
                <a:pathLst>
                  <a:path w="132" h="240">
                    <a:moveTo>
                      <a:pt x="0" y="6"/>
                    </a:moveTo>
                    <a:lnTo>
                      <a:pt x="6" y="60"/>
                    </a:lnTo>
                    <a:lnTo>
                      <a:pt x="0" y="114"/>
                    </a:lnTo>
                    <a:lnTo>
                      <a:pt x="0" y="186"/>
                    </a:lnTo>
                    <a:lnTo>
                      <a:pt x="6" y="240"/>
                    </a:lnTo>
                    <a:lnTo>
                      <a:pt x="66" y="240"/>
                    </a:lnTo>
                    <a:lnTo>
                      <a:pt x="132" y="240"/>
                    </a:lnTo>
                    <a:lnTo>
                      <a:pt x="132" y="180"/>
                    </a:lnTo>
                    <a:lnTo>
                      <a:pt x="132" y="120"/>
                    </a:lnTo>
                    <a:lnTo>
                      <a:pt x="132" y="54"/>
                    </a:lnTo>
                    <a:lnTo>
                      <a:pt x="132" y="0"/>
                    </a:lnTo>
                    <a:lnTo>
                      <a:pt x="7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2651040" y="36255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86" h="258">
                    <a:moveTo>
                      <a:pt x="0" y="36"/>
                    </a:moveTo>
                    <a:lnTo>
                      <a:pt x="18" y="84"/>
                    </a:lnTo>
                    <a:lnTo>
                      <a:pt x="30" y="144"/>
                    </a:lnTo>
                    <a:lnTo>
                      <a:pt x="48" y="210"/>
                    </a:lnTo>
                    <a:lnTo>
                      <a:pt x="66" y="258"/>
                    </a:lnTo>
                    <a:lnTo>
                      <a:pt x="126" y="246"/>
                    </a:lnTo>
                    <a:lnTo>
                      <a:pt x="186" y="228"/>
                    </a:lnTo>
                    <a:lnTo>
                      <a:pt x="174" y="174"/>
                    </a:lnTo>
                    <a:lnTo>
                      <a:pt x="156" y="114"/>
                    </a:lnTo>
                    <a:lnTo>
                      <a:pt x="138" y="48"/>
                    </a:lnTo>
                    <a:lnTo>
                      <a:pt x="120" y="0"/>
                    </a:lnTo>
                    <a:lnTo>
                      <a:pt x="66" y="1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2642400" y="3609000"/>
                <a:ext cx="19440" cy="21960"/>
              </a:xfrm>
              <a:custGeom>
                <a:avLst/>
                <a:gdLst/>
                <a:ahLst/>
                <a:rect l="l" t="t" r="r" b="b"/>
                <a:pathLst>
                  <a:path w="228" h="270">
                    <a:moveTo>
                      <a:pt x="0" y="66"/>
                    </a:moveTo>
                    <a:lnTo>
                      <a:pt x="30" y="114"/>
                    </a:lnTo>
                    <a:lnTo>
                      <a:pt x="54" y="162"/>
                    </a:lnTo>
                    <a:lnTo>
                      <a:pt x="90" y="222"/>
                    </a:lnTo>
                    <a:lnTo>
                      <a:pt x="120" y="270"/>
                    </a:lnTo>
                    <a:lnTo>
                      <a:pt x="174" y="240"/>
                    </a:lnTo>
                    <a:lnTo>
                      <a:pt x="228" y="204"/>
                    </a:lnTo>
                    <a:lnTo>
                      <a:pt x="198" y="156"/>
                    </a:lnTo>
                    <a:lnTo>
                      <a:pt x="168" y="108"/>
                    </a:lnTo>
                    <a:lnTo>
                      <a:pt x="132" y="48"/>
                    </a:lnTo>
                    <a:lnTo>
                      <a:pt x="108" y="0"/>
                    </a:lnTo>
                    <a:lnTo>
                      <a:pt x="60" y="30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2629800" y="3595680"/>
                <a:ext cx="21600" cy="20520"/>
              </a:xfrm>
              <a:custGeom>
                <a:avLst/>
                <a:gdLst/>
                <a:ahLst/>
                <a:rect l="l" t="t" r="r" b="b"/>
                <a:pathLst>
                  <a:path w="252" h="252">
                    <a:moveTo>
                      <a:pt x="0" y="90"/>
                    </a:moveTo>
                    <a:lnTo>
                      <a:pt x="36" y="126"/>
                    </a:lnTo>
                    <a:lnTo>
                      <a:pt x="78" y="168"/>
                    </a:lnTo>
                    <a:lnTo>
                      <a:pt x="126" y="216"/>
                    </a:lnTo>
                    <a:lnTo>
                      <a:pt x="168" y="252"/>
                    </a:lnTo>
                    <a:lnTo>
                      <a:pt x="210" y="210"/>
                    </a:lnTo>
                    <a:lnTo>
                      <a:pt x="252" y="168"/>
                    </a:lnTo>
                    <a:lnTo>
                      <a:pt x="216" y="126"/>
                    </a:lnTo>
                    <a:lnTo>
                      <a:pt x="174" y="84"/>
                    </a:lnTo>
                    <a:lnTo>
                      <a:pt x="126" y="36"/>
                    </a:lnTo>
                    <a:lnTo>
                      <a:pt x="84" y="0"/>
                    </a:lnTo>
                    <a:lnTo>
                      <a:pt x="48" y="42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2614320" y="358596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270" h="228">
                    <a:moveTo>
                      <a:pt x="0" y="114"/>
                    </a:moveTo>
                    <a:lnTo>
                      <a:pt x="48" y="138"/>
                    </a:lnTo>
                    <a:lnTo>
                      <a:pt x="102" y="168"/>
                    </a:lnTo>
                    <a:lnTo>
                      <a:pt x="156" y="204"/>
                    </a:lnTo>
                    <a:lnTo>
                      <a:pt x="204" y="228"/>
                    </a:lnTo>
                    <a:lnTo>
                      <a:pt x="240" y="174"/>
                    </a:lnTo>
                    <a:lnTo>
                      <a:pt x="270" y="120"/>
                    </a:lnTo>
                    <a:lnTo>
                      <a:pt x="222" y="90"/>
                    </a:lnTo>
                    <a:lnTo>
                      <a:pt x="168" y="60"/>
                    </a:lnTo>
                    <a:lnTo>
                      <a:pt x="108" y="30"/>
                    </a:lnTo>
                    <a:lnTo>
                      <a:pt x="66" y="0"/>
                    </a:lnTo>
                    <a:lnTo>
                      <a:pt x="36" y="54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2598120" y="358128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0" y="126"/>
                    </a:moveTo>
                    <a:lnTo>
                      <a:pt x="54" y="138"/>
                    </a:lnTo>
                    <a:lnTo>
                      <a:pt x="108" y="156"/>
                    </a:lnTo>
                    <a:lnTo>
                      <a:pt x="174" y="174"/>
                    </a:lnTo>
                    <a:lnTo>
                      <a:pt x="228" y="186"/>
                    </a:lnTo>
                    <a:lnTo>
                      <a:pt x="246" y="126"/>
                    </a:lnTo>
                    <a:lnTo>
                      <a:pt x="258" y="66"/>
                    </a:lnTo>
                    <a:lnTo>
                      <a:pt x="204" y="48"/>
                    </a:lnTo>
                    <a:lnTo>
                      <a:pt x="150" y="36"/>
                    </a:lnTo>
                    <a:lnTo>
                      <a:pt x="84" y="18"/>
                    </a:lnTo>
                    <a:lnTo>
                      <a:pt x="30" y="0"/>
                    </a:lnTo>
                    <a:lnTo>
                      <a:pt x="18" y="6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2580480" y="35812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240" h="132">
                    <a:moveTo>
                      <a:pt x="6" y="132"/>
                    </a:moveTo>
                    <a:lnTo>
                      <a:pt x="54" y="126"/>
                    </a:lnTo>
                    <a:lnTo>
                      <a:pt x="114" y="132"/>
                    </a:lnTo>
                    <a:lnTo>
                      <a:pt x="186" y="132"/>
                    </a:lnTo>
                    <a:lnTo>
                      <a:pt x="240" y="126"/>
                    </a:lnTo>
                    <a:lnTo>
                      <a:pt x="240" y="66"/>
                    </a:lnTo>
                    <a:lnTo>
                      <a:pt x="240" y="0"/>
                    </a:lnTo>
                    <a:lnTo>
                      <a:pt x="180" y="0"/>
                    </a:lnTo>
                    <a:lnTo>
                      <a:pt x="120" y="0"/>
                    </a:lnTo>
                    <a:lnTo>
                      <a:pt x="54" y="0"/>
                    </a:lnTo>
                    <a:lnTo>
                      <a:pt x="0" y="0"/>
                    </a:lnTo>
                    <a:lnTo>
                      <a:pt x="6" y="60"/>
                    </a:lnTo>
                    <a:lnTo>
                      <a:pt x="6" y="13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2561400" y="358128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36" y="186"/>
                    </a:moveTo>
                    <a:lnTo>
                      <a:pt x="84" y="168"/>
                    </a:lnTo>
                    <a:lnTo>
                      <a:pt x="144" y="156"/>
                    </a:lnTo>
                    <a:lnTo>
                      <a:pt x="210" y="138"/>
                    </a:lnTo>
                    <a:lnTo>
                      <a:pt x="258" y="120"/>
                    </a:lnTo>
                    <a:lnTo>
                      <a:pt x="246" y="60"/>
                    </a:lnTo>
                    <a:lnTo>
                      <a:pt x="228" y="0"/>
                    </a:lnTo>
                    <a:lnTo>
                      <a:pt x="174" y="12"/>
                    </a:lnTo>
                    <a:lnTo>
                      <a:pt x="114" y="30"/>
                    </a:lnTo>
                    <a:lnTo>
                      <a:pt x="48" y="48"/>
                    </a:lnTo>
                    <a:lnTo>
                      <a:pt x="0" y="66"/>
                    </a:lnTo>
                    <a:lnTo>
                      <a:pt x="18" y="120"/>
                    </a:lnTo>
                    <a:lnTo>
                      <a:pt x="36" y="186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2543760" y="358596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270" h="228">
                    <a:moveTo>
                      <a:pt x="66" y="228"/>
                    </a:moveTo>
                    <a:lnTo>
                      <a:pt x="108" y="198"/>
                    </a:lnTo>
                    <a:lnTo>
                      <a:pt x="162" y="174"/>
                    </a:lnTo>
                    <a:lnTo>
                      <a:pt x="222" y="138"/>
                    </a:lnTo>
                    <a:lnTo>
                      <a:pt x="270" y="108"/>
                    </a:lnTo>
                    <a:lnTo>
                      <a:pt x="240" y="54"/>
                    </a:lnTo>
                    <a:lnTo>
                      <a:pt x="204" y="0"/>
                    </a:lnTo>
                    <a:lnTo>
                      <a:pt x="156" y="30"/>
                    </a:lnTo>
                    <a:lnTo>
                      <a:pt x="108" y="60"/>
                    </a:lnTo>
                    <a:lnTo>
                      <a:pt x="48" y="96"/>
                    </a:lnTo>
                    <a:lnTo>
                      <a:pt x="0" y="120"/>
                    </a:lnTo>
                    <a:lnTo>
                      <a:pt x="30" y="168"/>
                    </a:lnTo>
                    <a:lnTo>
                      <a:pt x="66" y="22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2529720" y="3595680"/>
                <a:ext cx="21600" cy="20520"/>
              </a:xfrm>
              <a:custGeom>
                <a:avLst/>
                <a:gdLst/>
                <a:ahLst/>
                <a:rect l="l" t="t" r="r" b="b"/>
                <a:pathLst>
                  <a:path w="252" h="252">
                    <a:moveTo>
                      <a:pt x="90" y="252"/>
                    </a:moveTo>
                    <a:lnTo>
                      <a:pt x="126" y="216"/>
                    </a:lnTo>
                    <a:lnTo>
                      <a:pt x="168" y="174"/>
                    </a:lnTo>
                    <a:lnTo>
                      <a:pt x="216" y="126"/>
                    </a:lnTo>
                    <a:lnTo>
                      <a:pt x="252" y="90"/>
                    </a:lnTo>
                    <a:lnTo>
                      <a:pt x="210" y="42"/>
                    </a:lnTo>
                    <a:lnTo>
                      <a:pt x="168" y="0"/>
                    </a:lnTo>
                    <a:lnTo>
                      <a:pt x="126" y="36"/>
                    </a:lnTo>
                    <a:lnTo>
                      <a:pt x="84" y="78"/>
                    </a:lnTo>
                    <a:lnTo>
                      <a:pt x="36" y="126"/>
                    </a:lnTo>
                    <a:lnTo>
                      <a:pt x="0" y="168"/>
                    </a:lnTo>
                    <a:lnTo>
                      <a:pt x="42" y="204"/>
                    </a:lnTo>
                    <a:lnTo>
                      <a:pt x="90" y="25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2519640" y="3609000"/>
                <a:ext cx="19440" cy="21960"/>
              </a:xfrm>
              <a:custGeom>
                <a:avLst/>
                <a:gdLst/>
                <a:ahLst/>
                <a:rect l="l" t="t" r="r" b="b"/>
                <a:pathLst>
                  <a:path w="228" h="270">
                    <a:moveTo>
                      <a:pt x="114" y="270"/>
                    </a:moveTo>
                    <a:lnTo>
                      <a:pt x="138" y="222"/>
                    </a:lnTo>
                    <a:lnTo>
                      <a:pt x="168" y="168"/>
                    </a:lnTo>
                    <a:lnTo>
                      <a:pt x="204" y="114"/>
                    </a:lnTo>
                    <a:lnTo>
                      <a:pt x="228" y="66"/>
                    </a:lnTo>
                    <a:lnTo>
                      <a:pt x="174" y="30"/>
                    </a:lnTo>
                    <a:lnTo>
                      <a:pt x="120" y="0"/>
                    </a:lnTo>
                    <a:lnTo>
                      <a:pt x="90" y="48"/>
                    </a:lnTo>
                    <a:lnTo>
                      <a:pt x="60" y="102"/>
                    </a:lnTo>
                    <a:lnTo>
                      <a:pt x="30" y="162"/>
                    </a:lnTo>
                    <a:lnTo>
                      <a:pt x="0" y="204"/>
                    </a:lnTo>
                    <a:lnTo>
                      <a:pt x="54" y="234"/>
                    </a:lnTo>
                    <a:lnTo>
                      <a:pt x="114" y="27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2514600" y="36255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86" h="258">
                    <a:moveTo>
                      <a:pt x="126" y="258"/>
                    </a:moveTo>
                    <a:lnTo>
                      <a:pt x="138" y="204"/>
                    </a:lnTo>
                    <a:lnTo>
                      <a:pt x="156" y="150"/>
                    </a:lnTo>
                    <a:lnTo>
                      <a:pt x="174" y="84"/>
                    </a:lnTo>
                    <a:lnTo>
                      <a:pt x="186" y="30"/>
                    </a:lnTo>
                    <a:lnTo>
                      <a:pt x="126" y="12"/>
                    </a:lnTo>
                    <a:lnTo>
                      <a:pt x="66" y="0"/>
                    </a:lnTo>
                    <a:lnTo>
                      <a:pt x="48" y="54"/>
                    </a:lnTo>
                    <a:lnTo>
                      <a:pt x="36" y="108"/>
                    </a:lnTo>
                    <a:lnTo>
                      <a:pt x="18" y="180"/>
                    </a:lnTo>
                    <a:lnTo>
                      <a:pt x="0" y="228"/>
                    </a:lnTo>
                    <a:lnTo>
                      <a:pt x="60" y="240"/>
                    </a:lnTo>
                    <a:lnTo>
                      <a:pt x="126" y="258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2514600" y="3643920"/>
                <a:ext cx="11160" cy="19440"/>
              </a:xfrm>
              <a:custGeom>
                <a:avLst/>
                <a:gdLst/>
                <a:ahLst/>
                <a:rect l="l" t="t" r="r" b="b"/>
                <a:pathLst>
                  <a:path w="132" h="240">
                    <a:moveTo>
                      <a:pt x="132" y="234"/>
                    </a:moveTo>
                    <a:lnTo>
                      <a:pt x="126" y="186"/>
                    </a:lnTo>
                    <a:lnTo>
                      <a:pt x="132" y="126"/>
                    </a:lnTo>
                    <a:lnTo>
                      <a:pt x="132" y="54"/>
                    </a:lnTo>
                    <a:lnTo>
                      <a:pt x="126" y="0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0" y="120"/>
                    </a:lnTo>
                    <a:lnTo>
                      <a:pt x="0" y="186"/>
                    </a:lnTo>
                    <a:lnTo>
                      <a:pt x="0" y="240"/>
                    </a:lnTo>
                    <a:lnTo>
                      <a:pt x="60" y="234"/>
                    </a:lnTo>
                    <a:lnTo>
                      <a:pt x="132" y="23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2514600" y="36604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86" h="258">
                    <a:moveTo>
                      <a:pt x="186" y="222"/>
                    </a:moveTo>
                    <a:lnTo>
                      <a:pt x="168" y="174"/>
                    </a:lnTo>
                    <a:lnTo>
                      <a:pt x="156" y="114"/>
                    </a:lnTo>
                    <a:lnTo>
                      <a:pt x="138" y="48"/>
                    </a:lnTo>
                    <a:lnTo>
                      <a:pt x="120" y="0"/>
                    </a:lnTo>
                    <a:lnTo>
                      <a:pt x="60" y="12"/>
                    </a:lnTo>
                    <a:lnTo>
                      <a:pt x="0" y="30"/>
                    </a:lnTo>
                    <a:lnTo>
                      <a:pt x="12" y="84"/>
                    </a:lnTo>
                    <a:lnTo>
                      <a:pt x="30" y="144"/>
                    </a:lnTo>
                    <a:lnTo>
                      <a:pt x="48" y="210"/>
                    </a:lnTo>
                    <a:lnTo>
                      <a:pt x="66" y="258"/>
                    </a:lnTo>
                    <a:lnTo>
                      <a:pt x="120" y="240"/>
                    </a:lnTo>
                    <a:lnTo>
                      <a:pt x="186" y="22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2519640" y="3676320"/>
                <a:ext cx="19440" cy="21960"/>
              </a:xfrm>
              <a:custGeom>
                <a:avLst/>
                <a:gdLst/>
                <a:ahLst/>
                <a:rect l="l" t="t" r="r" b="b"/>
                <a:pathLst>
                  <a:path w="228" h="270">
                    <a:moveTo>
                      <a:pt x="228" y="204"/>
                    </a:moveTo>
                    <a:lnTo>
                      <a:pt x="198" y="162"/>
                    </a:lnTo>
                    <a:lnTo>
                      <a:pt x="174" y="108"/>
                    </a:lnTo>
                    <a:lnTo>
                      <a:pt x="138" y="48"/>
                    </a:lnTo>
                    <a:lnTo>
                      <a:pt x="108" y="0"/>
                    </a:lnTo>
                    <a:lnTo>
                      <a:pt x="54" y="30"/>
                    </a:lnTo>
                    <a:lnTo>
                      <a:pt x="0" y="66"/>
                    </a:lnTo>
                    <a:lnTo>
                      <a:pt x="30" y="114"/>
                    </a:lnTo>
                    <a:lnTo>
                      <a:pt x="60" y="168"/>
                    </a:lnTo>
                    <a:lnTo>
                      <a:pt x="96" y="222"/>
                    </a:lnTo>
                    <a:lnTo>
                      <a:pt x="120" y="270"/>
                    </a:lnTo>
                    <a:lnTo>
                      <a:pt x="168" y="240"/>
                    </a:lnTo>
                    <a:lnTo>
                      <a:pt x="228" y="20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2529720" y="3690720"/>
                <a:ext cx="21600" cy="20520"/>
              </a:xfrm>
              <a:custGeom>
                <a:avLst/>
                <a:gdLst/>
                <a:ahLst/>
                <a:rect l="l" t="t" r="r" b="b"/>
                <a:pathLst>
                  <a:path w="252" h="252">
                    <a:moveTo>
                      <a:pt x="252" y="162"/>
                    </a:moveTo>
                    <a:lnTo>
                      <a:pt x="216" y="126"/>
                    </a:lnTo>
                    <a:lnTo>
                      <a:pt x="174" y="84"/>
                    </a:lnTo>
                    <a:lnTo>
                      <a:pt x="126" y="36"/>
                    </a:lnTo>
                    <a:lnTo>
                      <a:pt x="84" y="0"/>
                    </a:lnTo>
                    <a:lnTo>
                      <a:pt x="42" y="42"/>
                    </a:lnTo>
                    <a:lnTo>
                      <a:pt x="0" y="90"/>
                    </a:lnTo>
                    <a:lnTo>
                      <a:pt x="36" y="132"/>
                    </a:lnTo>
                    <a:lnTo>
                      <a:pt x="78" y="168"/>
                    </a:lnTo>
                    <a:lnTo>
                      <a:pt x="126" y="216"/>
                    </a:lnTo>
                    <a:lnTo>
                      <a:pt x="168" y="252"/>
                    </a:lnTo>
                    <a:lnTo>
                      <a:pt x="204" y="210"/>
                    </a:lnTo>
                    <a:lnTo>
                      <a:pt x="252" y="162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2543760" y="370260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270" h="228">
                    <a:moveTo>
                      <a:pt x="270" y="114"/>
                    </a:moveTo>
                    <a:lnTo>
                      <a:pt x="222" y="90"/>
                    </a:lnTo>
                    <a:lnTo>
                      <a:pt x="168" y="60"/>
                    </a:lnTo>
                    <a:lnTo>
                      <a:pt x="114" y="24"/>
                    </a:lnTo>
                    <a:lnTo>
                      <a:pt x="66" y="0"/>
                    </a:lnTo>
                    <a:lnTo>
                      <a:pt x="30" y="54"/>
                    </a:lnTo>
                    <a:lnTo>
                      <a:pt x="0" y="108"/>
                    </a:lnTo>
                    <a:lnTo>
                      <a:pt x="48" y="138"/>
                    </a:lnTo>
                    <a:lnTo>
                      <a:pt x="102" y="168"/>
                    </a:lnTo>
                    <a:lnTo>
                      <a:pt x="162" y="198"/>
                    </a:lnTo>
                    <a:lnTo>
                      <a:pt x="204" y="228"/>
                    </a:lnTo>
                    <a:lnTo>
                      <a:pt x="234" y="174"/>
                    </a:lnTo>
                    <a:lnTo>
                      <a:pt x="270" y="11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2561400" y="371088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258" y="60"/>
                    </a:moveTo>
                    <a:lnTo>
                      <a:pt x="204" y="48"/>
                    </a:lnTo>
                    <a:lnTo>
                      <a:pt x="150" y="30"/>
                    </a:lnTo>
                    <a:lnTo>
                      <a:pt x="84" y="12"/>
                    </a:lnTo>
                    <a:lnTo>
                      <a:pt x="30" y="0"/>
                    </a:lnTo>
                    <a:lnTo>
                      <a:pt x="12" y="60"/>
                    </a:lnTo>
                    <a:lnTo>
                      <a:pt x="0" y="126"/>
                    </a:lnTo>
                    <a:lnTo>
                      <a:pt x="54" y="138"/>
                    </a:lnTo>
                    <a:lnTo>
                      <a:pt x="108" y="156"/>
                    </a:lnTo>
                    <a:lnTo>
                      <a:pt x="174" y="168"/>
                    </a:lnTo>
                    <a:lnTo>
                      <a:pt x="228" y="186"/>
                    </a:lnTo>
                    <a:lnTo>
                      <a:pt x="240" y="126"/>
                    </a:lnTo>
                    <a:lnTo>
                      <a:pt x="258" y="6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2580480" y="371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240" h="132">
                    <a:moveTo>
                      <a:pt x="234" y="0"/>
                    </a:moveTo>
                    <a:lnTo>
                      <a:pt x="186" y="6"/>
                    </a:lnTo>
                    <a:lnTo>
                      <a:pt x="126" y="0"/>
                    </a:lnTo>
                    <a:lnTo>
                      <a:pt x="54" y="0"/>
                    </a:lnTo>
                    <a:lnTo>
                      <a:pt x="0" y="6"/>
                    </a:lnTo>
                    <a:lnTo>
                      <a:pt x="0" y="66"/>
                    </a:lnTo>
                    <a:lnTo>
                      <a:pt x="0" y="132"/>
                    </a:lnTo>
                    <a:lnTo>
                      <a:pt x="60" y="132"/>
                    </a:lnTo>
                    <a:lnTo>
                      <a:pt x="120" y="132"/>
                    </a:lnTo>
                    <a:lnTo>
                      <a:pt x="186" y="132"/>
                    </a:lnTo>
                    <a:lnTo>
                      <a:pt x="240" y="132"/>
                    </a:lnTo>
                    <a:lnTo>
                      <a:pt x="234" y="72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2598120" y="3710880"/>
                <a:ext cx="21960" cy="15120"/>
              </a:xfrm>
              <a:custGeom>
                <a:avLst/>
                <a:gdLst/>
                <a:ahLst/>
                <a:rect l="l" t="t" r="r" b="b"/>
                <a:pathLst>
                  <a:path w="258" h="186">
                    <a:moveTo>
                      <a:pt x="222" y="0"/>
                    </a:moveTo>
                    <a:lnTo>
                      <a:pt x="174" y="18"/>
                    </a:lnTo>
                    <a:lnTo>
                      <a:pt x="114" y="30"/>
                    </a:lnTo>
                    <a:lnTo>
                      <a:pt x="48" y="48"/>
                    </a:lnTo>
                    <a:lnTo>
                      <a:pt x="0" y="66"/>
                    </a:lnTo>
                    <a:lnTo>
                      <a:pt x="12" y="126"/>
                    </a:lnTo>
                    <a:lnTo>
                      <a:pt x="30" y="186"/>
                    </a:lnTo>
                    <a:lnTo>
                      <a:pt x="84" y="174"/>
                    </a:lnTo>
                    <a:lnTo>
                      <a:pt x="144" y="156"/>
                    </a:lnTo>
                    <a:lnTo>
                      <a:pt x="210" y="138"/>
                    </a:lnTo>
                    <a:lnTo>
                      <a:pt x="258" y="120"/>
                    </a:lnTo>
                    <a:lnTo>
                      <a:pt x="240" y="6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2614320" y="3702600"/>
                <a:ext cx="23040" cy="18360"/>
              </a:xfrm>
              <a:custGeom>
                <a:avLst/>
                <a:gdLst/>
                <a:ahLst/>
                <a:rect l="l" t="t" r="r" b="b"/>
                <a:pathLst>
                  <a:path w="270" h="228">
                    <a:moveTo>
                      <a:pt x="204" y="0"/>
                    </a:moveTo>
                    <a:lnTo>
                      <a:pt x="162" y="30"/>
                    </a:lnTo>
                    <a:lnTo>
                      <a:pt x="108" y="54"/>
                    </a:lnTo>
                    <a:lnTo>
                      <a:pt x="48" y="90"/>
                    </a:lnTo>
                    <a:lnTo>
                      <a:pt x="0" y="120"/>
                    </a:lnTo>
                    <a:lnTo>
                      <a:pt x="30" y="174"/>
                    </a:lnTo>
                    <a:lnTo>
                      <a:pt x="66" y="228"/>
                    </a:lnTo>
                    <a:lnTo>
                      <a:pt x="114" y="198"/>
                    </a:lnTo>
                    <a:lnTo>
                      <a:pt x="162" y="168"/>
                    </a:lnTo>
                    <a:lnTo>
                      <a:pt x="222" y="132"/>
                    </a:lnTo>
                    <a:lnTo>
                      <a:pt x="270" y="108"/>
                    </a:lnTo>
                    <a:lnTo>
                      <a:pt x="240" y="60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2629800" y="3690720"/>
                <a:ext cx="21600" cy="20520"/>
              </a:xfrm>
              <a:custGeom>
                <a:avLst/>
                <a:gdLst/>
                <a:ahLst/>
                <a:rect l="l" t="t" r="r" b="b"/>
                <a:pathLst>
                  <a:path w="252" h="252">
                    <a:moveTo>
                      <a:pt x="162" y="0"/>
                    </a:moveTo>
                    <a:lnTo>
                      <a:pt x="126" y="36"/>
                    </a:lnTo>
                    <a:lnTo>
                      <a:pt x="84" y="78"/>
                    </a:lnTo>
                    <a:lnTo>
                      <a:pt x="36" y="126"/>
                    </a:lnTo>
                    <a:lnTo>
                      <a:pt x="0" y="168"/>
                    </a:lnTo>
                    <a:lnTo>
                      <a:pt x="42" y="210"/>
                    </a:lnTo>
                    <a:lnTo>
                      <a:pt x="90" y="252"/>
                    </a:lnTo>
                    <a:lnTo>
                      <a:pt x="126" y="216"/>
                    </a:lnTo>
                    <a:lnTo>
                      <a:pt x="168" y="174"/>
                    </a:lnTo>
                    <a:lnTo>
                      <a:pt x="216" y="126"/>
                    </a:lnTo>
                    <a:lnTo>
                      <a:pt x="252" y="84"/>
                    </a:lnTo>
                    <a:lnTo>
                      <a:pt x="210" y="48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2642400" y="3676320"/>
                <a:ext cx="19440" cy="21960"/>
              </a:xfrm>
              <a:custGeom>
                <a:avLst/>
                <a:gdLst/>
                <a:ahLst/>
                <a:rect l="l" t="t" r="r" b="b"/>
                <a:pathLst>
                  <a:path w="228" h="270">
                    <a:moveTo>
                      <a:pt x="114" y="0"/>
                    </a:moveTo>
                    <a:lnTo>
                      <a:pt x="90" y="48"/>
                    </a:lnTo>
                    <a:lnTo>
                      <a:pt x="60" y="102"/>
                    </a:lnTo>
                    <a:lnTo>
                      <a:pt x="24" y="162"/>
                    </a:lnTo>
                    <a:lnTo>
                      <a:pt x="0" y="204"/>
                    </a:lnTo>
                    <a:lnTo>
                      <a:pt x="54" y="240"/>
                    </a:lnTo>
                    <a:lnTo>
                      <a:pt x="108" y="270"/>
                    </a:lnTo>
                    <a:lnTo>
                      <a:pt x="138" y="222"/>
                    </a:lnTo>
                    <a:lnTo>
                      <a:pt x="168" y="168"/>
                    </a:lnTo>
                    <a:lnTo>
                      <a:pt x="198" y="108"/>
                    </a:lnTo>
                    <a:lnTo>
                      <a:pt x="228" y="66"/>
                    </a:lnTo>
                    <a:lnTo>
                      <a:pt x="174" y="36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2651040" y="366048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86" h="258">
                    <a:moveTo>
                      <a:pt x="60" y="0"/>
                    </a:moveTo>
                    <a:lnTo>
                      <a:pt x="48" y="54"/>
                    </a:lnTo>
                    <a:lnTo>
                      <a:pt x="30" y="108"/>
                    </a:lnTo>
                    <a:lnTo>
                      <a:pt x="12" y="174"/>
                    </a:lnTo>
                    <a:lnTo>
                      <a:pt x="0" y="228"/>
                    </a:lnTo>
                    <a:lnTo>
                      <a:pt x="60" y="246"/>
                    </a:lnTo>
                    <a:lnTo>
                      <a:pt x="120" y="258"/>
                    </a:lnTo>
                    <a:lnTo>
                      <a:pt x="138" y="204"/>
                    </a:lnTo>
                    <a:lnTo>
                      <a:pt x="150" y="150"/>
                    </a:lnTo>
                    <a:lnTo>
                      <a:pt x="168" y="84"/>
                    </a:lnTo>
                    <a:lnTo>
                      <a:pt x="186" y="30"/>
                    </a:lnTo>
                    <a:lnTo>
                      <a:pt x="126" y="18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06" name=""/>
          <p:cNvGrpSpPr/>
          <p:nvPr/>
        </p:nvGrpSpPr>
        <p:grpSpPr>
          <a:xfrm>
            <a:off x="4970520" y="4946760"/>
            <a:ext cx="190080" cy="196920"/>
            <a:chOff x="4970520" y="4946760"/>
            <a:chExt cx="190080" cy="196920"/>
          </a:xfrm>
        </p:grpSpPr>
        <p:sp>
          <p:nvSpPr>
            <p:cNvPr id="6207" name=""/>
            <p:cNvSpPr/>
            <p:nvPr/>
          </p:nvSpPr>
          <p:spPr>
            <a:xfrm>
              <a:off x="4977000" y="4953600"/>
              <a:ext cx="176760" cy="18216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974120" y="4952880"/>
              <a:ext cx="183240" cy="18396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5126040" y="5128920"/>
              <a:ext cx="25200" cy="1404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974840" y="512928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5135040" y="4946760"/>
              <a:ext cx="25200" cy="1296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4970520" y="4946760"/>
              <a:ext cx="13680" cy="2556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4970520" y="497088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4970520" y="499716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4970520" y="5022360"/>
              <a:ext cx="13680" cy="2556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4970520" y="504684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4970520" y="507276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4970520" y="509220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4970520" y="511776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5147640" y="4946760"/>
              <a:ext cx="12960" cy="2556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5147640" y="497088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5147640" y="499644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5147640" y="502200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5147640" y="5046840"/>
              <a:ext cx="12960" cy="2556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5147640" y="507240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147640" y="509148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5147640" y="511704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983480" y="4946760"/>
              <a:ext cx="25200" cy="1368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5009760" y="4946760"/>
              <a:ext cx="24480" cy="1368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5034240" y="4946760"/>
              <a:ext cx="25200" cy="1368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5059800" y="4946760"/>
              <a:ext cx="25200" cy="1368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5085720" y="4946760"/>
              <a:ext cx="25200" cy="1368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110920" y="4946760"/>
              <a:ext cx="25200" cy="1368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000400" y="512928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5025240" y="512928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050440" y="512928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5076720" y="512928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5101920" y="512928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5082840" y="5029200"/>
              <a:ext cx="36720" cy="3024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5110560" y="5042880"/>
              <a:ext cx="5760" cy="50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5082840" y="5033160"/>
              <a:ext cx="1440" cy="54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5081400" y="5050440"/>
              <a:ext cx="2880" cy="3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3" name=""/>
          <p:cNvGrpSpPr/>
          <p:nvPr/>
        </p:nvGrpSpPr>
        <p:grpSpPr>
          <a:xfrm>
            <a:off x="4970520" y="5489640"/>
            <a:ext cx="190080" cy="196920"/>
            <a:chOff x="4970520" y="5489640"/>
            <a:chExt cx="190080" cy="196920"/>
          </a:xfrm>
        </p:grpSpPr>
        <p:sp>
          <p:nvSpPr>
            <p:cNvPr id="6244" name=""/>
            <p:cNvSpPr/>
            <p:nvPr/>
          </p:nvSpPr>
          <p:spPr>
            <a:xfrm>
              <a:off x="4977000" y="5496480"/>
              <a:ext cx="176760" cy="18216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4974120" y="5495760"/>
              <a:ext cx="183240" cy="18396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5126040" y="5671800"/>
              <a:ext cx="25200" cy="1404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4974840" y="567216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5135040" y="5489640"/>
              <a:ext cx="25200" cy="1296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4970520" y="5489640"/>
              <a:ext cx="13680" cy="2556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970520" y="551376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4970520" y="554004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4970520" y="5565240"/>
              <a:ext cx="13680" cy="2556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4970520" y="558972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4970520" y="561564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4970520" y="563508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4970520" y="566064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5147640" y="5489640"/>
              <a:ext cx="12960" cy="2556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5147640" y="551376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5147640" y="553932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5147640" y="556488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5147640" y="5589720"/>
              <a:ext cx="12960" cy="2556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5147640" y="561528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5147640" y="56343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5147640" y="565992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4983480" y="5489640"/>
              <a:ext cx="25200" cy="1368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5009760" y="5489640"/>
              <a:ext cx="24480" cy="1368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5034240" y="5489640"/>
              <a:ext cx="25200" cy="1368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5059800" y="5489640"/>
              <a:ext cx="25200" cy="1368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5085720" y="5489640"/>
              <a:ext cx="25200" cy="1368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5110920" y="5489640"/>
              <a:ext cx="25200" cy="1368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5000400" y="567216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5025240" y="567216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5050440" y="567216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5076720" y="567216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5101920" y="567216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5082840" y="5572080"/>
              <a:ext cx="36720" cy="3024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5110560" y="5585760"/>
              <a:ext cx="5760" cy="50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5082840" y="5576040"/>
              <a:ext cx="1440" cy="54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5081400" y="5593320"/>
              <a:ext cx="2880" cy="3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0" name=""/>
          <p:cNvGrpSpPr/>
          <p:nvPr/>
        </p:nvGrpSpPr>
        <p:grpSpPr>
          <a:xfrm>
            <a:off x="3090960" y="1001880"/>
            <a:ext cx="190080" cy="196560"/>
            <a:chOff x="3090960" y="1001880"/>
            <a:chExt cx="190080" cy="196560"/>
          </a:xfrm>
        </p:grpSpPr>
        <p:sp>
          <p:nvSpPr>
            <p:cNvPr id="6281" name=""/>
            <p:cNvSpPr/>
            <p:nvPr/>
          </p:nvSpPr>
          <p:spPr>
            <a:xfrm>
              <a:off x="3097440" y="1008360"/>
              <a:ext cx="176760" cy="18180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094560" y="1008000"/>
              <a:ext cx="183240" cy="18360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246480" y="1183680"/>
              <a:ext cx="25200" cy="1404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3095280" y="118404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3255480" y="1001880"/>
              <a:ext cx="25200" cy="1296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3090960" y="100188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3090960" y="102600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3090960" y="105192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3090960" y="107748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3090960" y="110160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3090960" y="112788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3090960" y="114696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3090960" y="117252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3268080" y="100188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3268080" y="102600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3268080" y="10515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3268080" y="10767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3268080" y="110160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3268080" y="11271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3268080" y="114624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3268080" y="117180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3103920" y="1001880"/>
              <a:ext cx="25200" cy="1332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3130200" y="1001880"/>
              <a:ext cx="24480" cy="1332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3154680" y="1001880"/>
              <a:ext cx="25200" cy="1332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3180240" y="1001880"/>
              <a:ext cx="25200" cy="1332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3206160" y="1001880"/>
              <a:ext cx="25200" cy="1332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3231360" y="1001880"/>
              <a:ext cx="25200" cy="1332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3120840" y="118404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3145680" y="118404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3170880" y="118404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3197160" y="118404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3222360" y="118404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3203280" y="1084320"/>
              <a:ext cx="36720" cy="3024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3231000" y="1098000"/>
              <a:ext cx="5760" cy="50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3203280" y="1088280"/>
              <a:ext cx="1440" cy="54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3201840" y="1105560"/>
              <a:ext cx="2880" cy="3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7" name=""/>
          <p:cNvGrpSpPr/>
          <p:nvPr/>
        </p:nvGrpSpPr>
        <p:grpSpPr>
          <a:xfrm>
            <a:off x="5486400" y="5028840"/>
            <a:ext cx="247680" cy="205920"/>
            <a:chOff x="5486400" y="5028840"/>
            <a:chExt cx="247680" cy="205920"/>
          </a:xfrm>
        </p:grpSpPr>
        <p:sp>
          <p:nvSpPr>
            <p:cNvPr id="6318" name=""/>
            <p:cNvSpPr/>
            <p:nvPr/>
          </p:nvSpPr>
          <p:spPr>
            <a:xfrm>
              <a:off x="5486400" y="5072040"/>
              <a:ext cx="247680" cy="123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6586a8"/>
                </a:gs>
                <a:gs pos="100000">
                  <a:srgbClr val="99ccff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5486400" y="5133960"/>
              <a:ext cx="2476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0" name=""/>
            <p:cNvGrpSpPr/>
            <p:nvPr/>
          </p:nvGrpSpPr>
          <p:grpSpPr>
            <a:xfrm>
              <a:off x="5567400" y="5028840"/>
              <a:ext cx="123840" cy="82440"/>
              <a:chOff x="5567400" y="5028840"/>
              <a:chExt cx="123840" cy="82440"/>
            </a:xfrm>
          </p:grpSpPr>
          <p:sp>
            <p:nvSpPr>
              <p:cNvPr id="6321" name=""/>
              <p:cNvSpPr/>
              <p:nvPr/>
            </p:nvSpPr>
            <p:spPr>
              <a:xfrm flipH="1" rot="5400000">
                <a:off x="5587920" y="5007960"/>
                <a:ext cx="82440" cy="1238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6586a8"/>
                  </a:gs>
                  <a:gs pos="100000">
                    <a:srgbClr val="99ccff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 flipV="1">
                <a:off x="5629320" y="5030640"/>
                <a:ext cx="0" cy="8064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3" name=""/>
            <p:cNvGrpSpPr/>
            <p:nvPr/>
          </p:nvGrpSpPr>
          <p:grpSpPr>
            <a:xfrm>
              <a:off x="5567400" y="5153040"/>
              <a:ext cx="123840" cy="81720"/>
              <a:chOff x="5567400" y="5153040"/>
              <a:chExt cx="123840" cy="81720"/>
            </a:xfrm>
          </p:grpSpPr>
          <p:sp>
            <p:nvSpPr>
              <p:cNvPr id="6324" name=""/>
              <p:cNvSpPr/>
              <p:nvPr/>
            </p:nvSpPr>
            <p:spPr>
              <a:xfrm rot="5400000">
                <a:off x="5589000" y="5131440"/>
                <a:ext cx="80640" cy="1238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6586a8"/>
                  </a:gs>
                  <a:gs pos="100000">
                    <a:srgbClr val="99ccff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 flipV="1">
                <a:off x="5629320" y="5155920"/>
                <a:ext cx="0" cy="7884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6" name=""/>
          <p:cNvGrpSpPr/>
          <p:nvPr/>
        </p:nvGrpSpPr>
        <p:grpSpPr>
          <a:xfrm>
            <a:off x="9201240" y="836640"/>
            <a:ext cx="576000" cy="863640"/>
            <a:chOff x="9201240" y="836640"/>
            <a:chExt cx="576000" cy="863640"/>
          </a:xfrm>
        </p:grpSpPr>
        <p:sp>
          <p:nvSpPr>
            <p:cNvPr id="6327" name=""/>
            <p:cNvSpPr/>
            <p:nvPr/>
          </p:nvSpPr>
          <p:spPr>
            <a:xfrm rot="5400000">
              <a:off x="9057240" y="980280"/>
              <a:ext cx="863640" cy="576000"/>
            </a:xfrm>
            <a:prstGeom prst="flowChartDelay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8" name=""/>
            <p:cNvGrpSpPr/>
            <p:nvPr/>
          </p:nvGrpSpPr>
          <p:grpSpPr>
            <a:xfrm>
              <a:off x="9314280" y="1311120"/>
              <a:ext cx="347760" cy="255600"/>
              <a:chOff x="9314280" y="1311120"/>
              <a:chExt cx="347760" cy="255600"/>
            </a:xfrm>
          </p:grpSpPr>
          <p:sp>
            <p:nvSpPr>
              <p:cNvPr id="6329" name=""/>
              <p:cNvSpPr/>
              <p:nvPr/>
            </p:nvSpPr>
            <p:spPr>
              <a:xfrm>
                <a:off x="9314280" y="1311120"/>
                <a:ext cx="115920" cy="1609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9429840" y="1311120"/>
                <a:ext cx="115920" cy="1609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9546120" y="1311120"/>
                <a:ext cx="115920" cy="1609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9314280" y="1472400"/>
                <a:ext cx="347760" cy="9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3" name=""/>
            <p:cNvGrpSpPr/>
            <p:nvPr/>
          </p:nvGrpSpPr>
          <p:grpSpPr>
            <a:xfrm>
              <a:off x="9377280" y="842040"/>
              <a:ext cx="223200" cy="468720"/>
              <a:chOff x="9377280" y="842040"/>
              <a:chExt cx="223200" cy="468720"/>
            </a:xfrm>
          </p:grpSpPr>
          <p:sp>
            <p:nvSpPr>
              <p:cNvPr id="6334" name=""/>
              <p:cNvSpPr/>
              <p:nvPr/>
            </p:nvSpPr>
            <p:spPr>
              <a:xfrm>
                <a:off x="9431640" y="842040"/>
                <a:ext cx="108360" cy="183600"/>
              </a:xfrm>
              <a:prstGeom prst="triangle">
                <a:avLst>
                  <a:gd name="adj" fmla="val 50000"/>
                </a:avLst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9486000" y="933120"/>
                <a:ext cx="108360" cy="91080"/>
              </a:xfrm>
              <a:prstGeom prst="triangle">
                <a:avLst>
                  <a:gd name="adj" fmla="val 50000"/>
                </a:avLst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 flipV="1">
                <a:off x="9377280" y="1024200"/>
                <a:ext cx="223200" cy="28656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9377280" y="933120"/>
                <a:ext cx="108720" cy="92520"/>
              </a:xfrm>
              <a:prstGeom prst="triangle">
                <a:avLst>
                  <a:gd name="adj" fmla="val 50000"/>
                </a:avLst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9431640" y="898560"/>
                <a:ext cx="108360" cy="12528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9" name=""/>
          <p:cNvSpPr/>
          <p:nvPr/>
        </p:nvSpPr>
        <p:spPr>
          <a:xfrm rot="900000">
            <a:off x="1676520" y="609480"/>
            <a:ext cx="2036520" cy="1747800"/>
          </a:xfrm>
          <a:custGeom>
            <a:avLst/>
            <a:gdLst/>
            <a:ahLst/>
            <a:rect l="l" t="t" r="r" b="b"/>
            <a:pathLst>
              <a:path w="1283" h="1101">
                <a:moveTo>
                  <a:pt x="859" y="1049"/>
                </a:moveTo>
                <a:cubicBezTo>
                  <a:pt x="739" y="1101"/>
                  <a:pt x="627" y="1022"/>
                  <a:pt x="548" y="968"/>
                </a:cubicBezTo>
                <a:cubicBezTo>
                  <a:pt x="469" y="914"/>
                  <a:pt x="466" y="794"/>
                  <a:pt x="383" y="724"/>
                </a:cubicBezTo>
                <a:cubicBezTo>
                  <a:pt x="300" y="654"/>
                  <a:pt x="100" y="644"/>
                  <a:pt x="50" y="546"/>
                </a:cubicBezTo>
                <a:cubicBezTo>
                  <a:pt x="0" y="448"/>
                  <a:pt x="5" y="223"/>
                  <a:pt x="83" y="136"/>
                </a:cubicBezTo>
                <a:cubicBezTo>
                  <a:pt x="161" y="49"/>
                  <a:pt x="377" y="0"/>
                  <a:pt x="520" y="23"/>
                </a:cubicBezTo>
                <a:cubicBezTo>
                  <a:pt x="663" y="46"/>
                  <a:pt x="814" y="169"/>
                  <a:pt x="939" y="274"/>
                </a:cubicBezTo>
                <a:cubicBezTo>
                  <a:pt x="1064" y="379"/>
                  <a:pt x="1283" y="527"/>
                  <a:pt x="1270" y="656"/>
                </a:cubicBezTo>
                <a:cubicBezTo>
                  <a:pt x="1257" y="785"/>
                  <a:pt x="979" y="997"/>
                  <a:pt x="859" y="1049"/>
                </a:cubicBezTo>
                <a:close/>
              </a:path>
            </a:pathLst>
          </a:custGeom>
          <a:gradFill rotWithShape="0">
            <a:gsLst>
              <a:gs pos="0">
                <a:srgbClr val="c1aa7d"/>
              </a:gs>
              <a:gs pos="100000">
                <a:srgbClr val="ffe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33520" y="3678120"/>
            <a:ext cx="9372600" cy="3179880"/>
          </a:xfrm>
          <a:custGeom>
            <a:avLst/>
            <a:gdLst/>
            <a:ahLst/>
            <a:rect l="l" t="t" r="r" b="b"/>
            <a:pathLst>
              <a:path w="5904" h="2003">
                <a:moveTo>
                  <a:pt x="0" y="2002"/>
                </a:moveTo>
                <a:lnTo>
                  <a:pt x="79" y="1994"/>
                </a:lnTo>
                <a:lnTo>
                  <a:pt x="98" y="1985"/>
                </a:lnTo>
                <a:lnTo>
                  <a:pt x="126" y="1985"/>
                </a:lnTo>
                <a:lnTo>
                  <a:pt x="144" y="1966"/>
                </a:lnTo>
                <a:lnTo>
                  <a:pt x="227" y="1948"/>
                </a:lnTo>
                <a:lnTo>
                  <a:pt x="246" y="1929"/>
                </a:lnTo>
                <a:lnTo>
                  <a:pt x="282" y="1920"/>
                </a:lnTo>
                <a:lnTo>
                  <a:pt x="347" y="1911"/>
                </a:lnTo>
                <a:lnTo>
                  <a:pt x="366" y="1901"/>
                </a:lnTo>
                <a:lnTo>
                  <a:pt x="402" y="1883"/>
                </a:lnTo>
                <a:lnTo>
                  <a:pt x="421" y="1874"/>
                </a:lnTo>
                <a:lnTo>
                  <a:pt x="458" y="1855"/>
                </a:lnTo>
                <a:lnTo>
                  <a:pt x="522" y="1837"/>
                </a:lnTo>
                <a:lnTo>
                  <a:pt x="559" y="1828"/>
                </a:lnTo>
                <a:lnTo>
                  <a:pt x="587" y="1809"/>
                </a:lnTo>
                <a:lnTo>
                  <a:pt x="615" y="1791"/>
                </a:lnTo>
                <a:lnTo>
                  <a:pt x="652" y="1781"/>
                </a:lnTo>
                <a:lnTo>
                  <a:pt x="689" y="1763"/>
                </a:lnTo>
                <a:lnTo>
                  <a:pt x="726" y="1763"/>
                </a:lnTo>
                <a:lnTo>
                  <a:pt x="771" y="1762"/>
                </a:lnTo>
                <a:lnTo>
                  <a:pt x="836" y="1726"/>
                </a:lnTo>
                <a:lnTo>
                  <a:pt x="892" y="1726"/>
                </a:lnTo>
                <a:lnTo>
                  <a:pt x="966" y="1689"/>
                </a:lnTo>
                <a:lnTo>
                  <a:pt x="993" y="1689"/>
                </a:lnTo>
                <a:lnTo>
                  <a:pt x="1012" y="1689"/>
                </a:lnTo>
                <a:lnTo>
                  <a:pt x="1039" y="1671"/>
                </a:lnTo>
                <a:lnTo>
                  <a:pt x="1058" y="1671"/>
                </a:lnTo>
                <a:lnTo>
                  <a:pt x="1076" y="1652"/>
                </a:lnTo>
                <a:lnTo>
                  <a:pt x="1095" y="1643"/>
                </a:lnTo>
                <a:lnTo>
                  <a:pt x="1122" y="1615"/>
                </a:lnTo>
                <a:lnTo>
                  <a:pt x="1141" y="1615"/>
                </a:lnTo>
                <a:lnTo>
                  <a:pt x="1159" y="1588"/>
                </a:lnTo>
                <a:lnTo>
                  <a:pt x="1215" y="1569"/>
                </a:lnTo>
                <a:lnTo>
                  <a:pt x="1233" y="1514"/>
                </a:lnTo>
                <a:lnTo>
                  <a:pt x="1252" y="1495"/>
                </a:lnTo>
                <a:lnTo>
                  <a:pt x="1279" y="1458"/>
                </a:lnTo>
                <a:lnTo>
                  <a:pt x="1298" y="1458"/>
                </a:lnTo>
                <a:lnTo>
                  <a:pt x="1326" y="1421"/>
                </a:lnTo>
                <a:lnTo>
                  <a:pt x="1344" y="1348"/>
                </a:lnTo>
                <a:lnTo>
                  <a:pt x="1362" y="1329"/>
                </a:lnTo>
                <a:lnTo>
                  <a:pt x="1390" y="1301"/>
                </a:lnTo>
                <a:lnTo>
                  <a:pt x="1418" y="1265"/>
                </a:lnTo>
                <a:lnTo>
                  <a:pt x="1473" y="1246"/>
                </a:lnTo>
                <a:lnTo>
                  <a:pt x="1501" y="1228"/>
                </a:lnTo>
                <a:lnTo>
                  <a:pt x="1529" y="1228"/>
                </a:lnTo>
                <a:lnTo>
                  <a:pt x="1556" y="1209"/>
                </a:lnTo>
                <a:lnTo>
                  <a:pt x="1575" y="1209"/>
                </a:lnTo>
                <a:lnTo>
                  <a:pt x="1602" y="1209"/>
                </a:lnTo>
                <a:lnTo>
                  <a:pt x="1621" y="1209"/>
                </a:lnTo>
                <a:lnTo>
                  <a:pt x="1676" y="1209"/>
                </a:lnTo>
                <a:lnTo>
                  <a:pt x="1695" y="1218"/>
                </a:lnTo>
                <a:lnTo>
                  <a:pt x="1769" y="1218"/>
                </a:lnTo>
                <a:lnTo>
                  <a:pt x="1861" y="1218"/>
                </a:lnTo>
                <a:lnTo>
                  <a:pt x="1916" y="1218"/>
                </a:lnTo>
                <a:lnTo>
                  <a:pt x="1935" y="1218"/>
                </a:lnTo>
                <a:lnTo>
                  <a:pt x="1962" y="1218"/>
                </a:lnTo>
                <a:lnTo>
                  <a:pt x="1981" y="1218"/>
                </a:lnTo>
                <a:lnTo>
                  <a:pt x="2055" y="1228"/>
                </a:lnTo>
                <a:lnTo>
                  <a:pt x="2110" y="1228"/>
                </a:lnTo>
                <a:lnTo>
                  <a:pt x="2129" y="1228"/>
                </a:lnTo>
                <a:lnTo>
                  <a:pt x="2184" y="1228"/>
                </a:lnTo>
                <a:lnTo>
                  <a:pt x="2258" y="1228"/>
                </a:lnTo>
                <a:lnTo>
                  <a:pt x="2332" y="1228"/>
                </a:lnTo>
                <a:lnTo>
                  <a:pt x="2350" y="1209"/>
                </a:lnTo>
                <a:lnTo>
                  <a:pt x="2369" y="1209"/>
                </a:lnTo>
                <a:lnTo>
                  <a:pt x="2396" y="1191"/>
                </a:lnTo>
                <a:lnTo>
                  <a:pt x="2415" y="1191"/>
                </a:lnTo>
                <a:lnTo>
                  <a:pt x="2442" y="1191"/>
                </a:lnTo>
                <a:lnTo>
                  <a:pt x="2461" y="1191"/>
                </a:lnTo>
                <a:lnTo>
                  <a:pt x="2498" y="1191"/>
                </a:lnTo>
                <a:lnTo>
                  <a:pt x="2535" y="1191"/>
                </a:lnTo>
                <a:lnTo>
                  <a:pt x="2562" y="1191"/>
                </a:lnTo>
                <a:lnTo>
                  <a:pt x="2581" y="1191"/>
                </a:lnTo>
                <a:lnTo>
                  <a:pt x="2609" y="1191"/>
                </a:lnTo>
                <a:lnTo>
                  <a:pt x="2646" y="1191"/>
                </a:lnTo>
                <a:lnTo>
                  <a:pt x="2682" y="1200"/>
                </a:lnTo>
                <a:lnTo>
                  <a:pt x="2701" y="1200"/>
                </a:lnTo>
                <a:lnTo>
                  <a:pt x="2775" y="1218"/>
                </a:lnTo>
                <a:lnTo>
                  <a:pt x="2830" y="1228"/>
                </a:lnTo>
                <a:lnTo>
                  <a:pt x="2849" y="1237"/>
                </a:lnTo>
                <a:lnTo>
                  <a:pt x="2886" y="1237"/>
                </a:lnTo>
                <a:lnTo>
                  <a:pt x="2913" y="1255"/>
                </a:lnTo>
                <a:lnTo>
                  <a:pt x="2932" y="1274"/>
                </a:lnTo>
                <a:lnTo>
                  <a:pt x="2987" y="1292"/>
                </a:lnTo>
                <a:lnTo>
                  <a:pt x="3006" y="1301"/>
                </a:lnTo>
                <a:lnTo>
                  <a:pt x="3070" y="1329"/>
                </a:lnTo>
                <a:lnTo>
                  <a:pt x="3098" y="1348"/>
                </a:lnTo>
                <a:lnTo>
                  <a:pt x="3172" y="1366"/>
                </a:lnTo>
                <a:lnTo>
                  <a:pt x="3209" y="1385"/>
                </a:lnTo>
                <a:lnTo>
                  <a:pt x="3246" y="1394"/>
                </a:lnTo>
                <a:lnTo>
                  <a:pt x="3273" y="1403"/>
                </a:lnTo>
                <a:lnTo>
                  <a:pt x="3292" y="1403"/>
                </a:lnTo>
                <a:lnTo>
                  <a:pt x="3319" y="1421"/>
                </a:lnTo>
                <a:lnTo>
                  <a:pt x="3338" y="1440"/>
                </a:lnTo>
                <a:lnTo>
                  <a:pt x="3430" y="1505"/>
                </a:lnTo>
                <a:lnTo>
                  <a:pt x="3486" y="1514"/>
                </a:lnTo>
                <a:lnTo>
                  <a:pt x="3513" y="1541"/>
                </a:lnTo>
                <a:lnTo>
                  <a:pt x="3532" y="1541"/>
                </a:lnTo>
                <a:lnTo>
                  <a:pt x="3587" y="1560"/>
                </a:lnTo>
                <a:lnTo>
                  <a:pt x="3606" y="1569"/>
                </a:lnTo>
                <a:lnTo>
                  <a:pt x="3642" y="1578"/>
                </a:lnTo>
                <a:lnTo>
                  <a:pt x="3661" y="1597"/>
                </a:lnTo>
                <a:lnTo>
                  <a:pt x="3698" y="1615"/>
                </a:lnTo>
                <a:lnTo>
                  <a:pt x="3707" y="1634"/>
                </a:lnTo>
                <a:lnTo>
                  <a:pt x="3762" y="1652"/>
                </a:lnTo>
                <a:lnTo>
                  <a:pt x="3781" y="1661"/>
                </a:lnTo>
                <a:lnTo>
                  <a:pt x="3836" y="1717"/>
                </a:lnTo>
                <a:lnTo>
                  <a:pt x="3892" y="1726"/>
                </a:lnTo>
                <a:lnTo>
                  <a:pt x="3947" y="1735"/>
                </a:lnTo>
                <a:lnTo>
                  <a:pt x="3966" y="1745"/>
                </a:lnTo>
                <a:lnTo>
                  <a:pt x="4002" y="1754"/>
                </a:lnTo>
                <a:lnTo>
                  <a:pt x="4067" y="1754"/>
                </a:lnTo>
                <a:lnTo>
                  <a:pt x="4086" y="1763"/>
                </a:lnTo>
                <a:lnTo>
                  <a:pt x="4113" y="1772"/>
                </a:lnTo>
                <a:lnTo>
                  <a:pt x="4169" y="1772"/>
                </a:lnTo>
                <a:lnTo>
                  <a:pt x="4261" y="1772"/>
                </a:lnTo>
                <a:lnTo>
                  <a:pt x="4335" y="1781"/>
                </a:lnTo>
                <a:lnTo>
                  <a:pt x="4409" y="1781"/>
                </a:lnTo>
                <a:lnTo>
                  <a:pt x="4501" y="1791"/>
                </a:lnTo>
                <a:lnTo>
                  <a:pt x="4575" y="1791"/>
                </a:lnTo>
                <a:lnTo>
                  <a:pt x="4630" y="1791"/>
                </a:lnTo>
                <a:lnTo>
                  <a:pt x="4649" y="1791"/>
                </a:lnTo>
                <a:lnTo>
                  <a:pt x="4686" y="1781"/>
                </a:lnTo>
                <a:lnTo>
                  <a:pt x="4713" y="1745"/>
                </a:lnTo>
                <a:lnTo>
                  <a:pt x="4722" y="1726"/>
                </a:lnTo>
                <a:lnTo>
                  <a:pt x="4732" y="1671"/>
                </a:lnTo>
                <a:lnTo>
                  <a:pt x="4741" y="1652"/>
                </a:lnTo>
                <a:lnTo>
                  <a:pt x="4750" y="1597"/>
                </a:lnTo>
                <a:lnTo>
                  <a:pt x="4759" y="1578"/>
                </a:lnTo>
                <a:lnTo>
                  <a:pt x="4769" y="1541"/>
                </a:lnTo>
                <a:lnTo>
                  <a:pt x="4778" y="1505"/>
                </a:lnTo>
                <a:lnTo>
                  <a:pt x="4787" y="1486"/>
                </a:lnTo>
                <a:lnTo>
                  <a:pt x="4796" y="1458"/>
                </a:lnTo>
                <a:lnTo>
                  <a:pt x="4796" y="1431"/>
                </a:lnTo>
                <a:lnTo>
                  <a:pt x="4796" y="1412"/>
                </a:lnTo>
                <a:lnTo>
                  <a:pt x="4796" y="1357"/>
                </a:lnTo>
                <a:lnTo>
                  <a:pt x="4796" y="1329"/>
                </a:lnTo>
                <a:lnTo>
                  <a:pt x="4796" y="1301"/>
                </a:lnTo>
                <a:lnTo>
                  <a:pt x="4787" y="1274"/>
                </a:lnTo>
                <a:lnTo>
                  <a:pt x="4769" y="1218"/>
                </a:lnTo>
                <a:lnTo>
                  <a:pt x="4750" y="1191"/>
                </a:lnTo>
                <a:lnTo>
                  <a:pt x="4741" y="1172"/>
                </a:lnTo>
                <a:lnTo>
                  <a:pt x="4732" y="1135"/>
                </a:lnTo>
                <a:lnTo>
                  <a:pt x="4732" y="1098"/>
                </a:lnTo>
                <a:lnTo>
                  <a:pt x="4732" y="1025"/>
                </a:lnTo>
                <a:lnTo>
                  <a:pt x="4732" y="969"/>
                </a:lnTo>
                <a:lnTo>
                  <a:pt x="4732" y="914"/>
                </a:lnTo>
                <a:lnTo>
                  <a:pt x="4732" y="895"/>
                </a:lnTo>
                <a:lnTo>
                  <a:pt x="4732" y="858"/>
                </a:lnTo>
                <a:lnTo>
                  <a:pt x="4732" y="821"/>
                </a:lnTo>
                <a:lnTo>
                  <a:pt x="4713" y="794"/>
                </a:lnTo>
                <a:lnTo>
                  <a:pt x="4713" y="729"/>
                </a:lnTo>
                <a:lnTo>
                  <a:pt x="4713" y="674"/>
                </a:lnTo>
                <a:lnTo>
                  <a:pt x="4732" y="655"/>
                </a:lnTo>
                <a:lnTo>
                  <a:pt x="4769" y="581"/>
                </a:lnTo>
                <a:lnTo>
                  <a:pt x="4787" y="554"/>
                </a:lnTo>
                <a:lnTo>
                  <a:pt x="4796" y="535"/>
                </a:lnTo>
                <a:lnTo>
                  <a:pt x="4796" y="508"/>
                </a:lnTo>
                <a:lnTo>
                  <a:pt x="4815" y="480"/>
                </a:lnTo>
                <a:lnTo>
                  <a:pt x="4815" y="461"/>
                </a:lnTo>
                <a:lnTo>
                  <a:pt x="4833" y="425"/>
                </a:lnTo>
                <a:lnTo>
                  <a:pt x="4842" y="406"/>
                </a:lnTo>
                <a:lnTo>
                  <a:pt x="4861" y="369"/>
                </a:lnTo>
                <a:lnTo>
                  <a:pt x="4898" y="332"/>
                </a:lnTo>
                <a:lnTo>
                  <a:pt x="4916" y="277"/>
                </a:lnTo>
                <a:lnTo>
                  <a:pt x="4972" y="268"/>
                </a:lnTo>
                <a:lnTo>
                  <a:pt x="5027" y="212"/>
                </a:lnTo>
                <a:lnTo>
                  <a:pt x="5082" y="203"/>
                </a:lnTo>
                <a:lnTo>
                  <a:pt x="5101" y="185"/>
                </a:lnTo>
                <a:lnTo>
                  <a:pt x="5119" y="166"/>
                </a:lnTo>
                <a:lnTo>
                  <a:pt x="5138" y="166"/>
                </a:lnTo>
                <a:lnTo>
                  <a:pt x="5183" y="106"/>
                </a:lnTo>
                <a:lnTo>
                  <a:pt x="5232" y="83"/>
                </a:lnTo>
                <a:lnTo>
                  <a:pt x="5280" y="83"/>
                </a:lnTo>
                <a:lnTo>
                  <a:pt x="5359" y="92"/>
                </a:lnTo>
                <a:lnTo>
                  <a:pt x="5415" y="74"/>
                </a:lnTo>
                <a:lnTo>
                  <a:pt x="5470" y="55"/>
                </a:lnTo>
                <a:lnTo>
                  <a:pt x="5489" y="55"/>
                </a:lnTo>
                <a:lnTo>
                  <a:pt x="5526" y="37"/>
                </a:lnTo>
                <a:lnTo>
                  <a:pt x="5553" y="28"/>
                </a:lnTo>
                <a:lnTo>
                  <a:pt x="5572" y="18"/>
                </a:lnTo>
                <a:lnTo>
                  <a:pt x="5646" y="18"/>
                </a:lnTo>
                <a:lnTo>
                  <a:pt x="5719" y="18"/>
                </a:lnTo>
                <a:lnTo>
                  <a:pt x="5775" y="9"/>
                </a:lnTo>
                <a:lnTo>
                  <a:pt x="5849" y="9"/>
                </a:lnTo>
                <a:lnTo>
                  <a:pt x="5903" y="0"/>
                </a:lnTo>
                <a:lnTo>
                  <a:pt x="5903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884760" y="5630760"/>
            <a:ext cx="75960" cy="3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2" name=""/>
          <p:cNvSpPr/>
          <p:nvPr/>
        </p:nvSpPr>
        <p:spPr>
          <a:xfrm>
            <a:off x="3224160" y="5613480"/>
            <a:ext cx="71640" cy="56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2077920" y="6369120"/>
            <a:ext cx="49320" cy="21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1697040" y="6483240"/>
            <a:ext cx="49320" cy="16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5" name=""/>
          <p:cNvSpPr/>
          <p:nvPr/>
        </p:nvSpPr>
        <p:spPr>
          <a:xfrm rot="2700000">
            <a:off x="5736240" y="5926680"/>
            <a:ext cx="49320" cy="16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6" name=""/>
          <p:cNvSpPr/>
          <p:nvPr/>
        </p:nvSpPr>
        <p:spPr>
          <a:xfrm rot="2700000">
            <a:off x="5997960" y="6076440"/>
            <a:ext cx="48960" cy="16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7" name=""/>
          <p:cNvSpPr/>
          <p:nvPr/>
        </p:nvSpPr>
        <p:spPr>
          <a:xfrm flipH="1">
            <a:off x="8047080" y="5151600"/>
            <a:ext cx="162000" cy="4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8" name=""/>
          <p:cNvSpPr/>
          <p:nvPr/>
        </p:nvSpPr>
        <p:spPr>
          <a:xfrm>
            <a:off x="4519440" y="5572080"/>
            <a:ext cx="71640" cy="56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9" name=""/>
          <p:cNvSpPr/>
          <p:nvPr/>
        </p:nvSpPr>
        <p:spPr>
          <a:xfrm>
            <a:off x="8845560" y="3813120"/>
            <a:ext cx="76320" cy="3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9447120" y="3713040"/>
            <a:ext cx="76320" cy="37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 flipH="1">
            <a:off x="8047080" y="5415120"/>
            <a:ext cx="162000" cy="4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2" name=""/>
          <p:cNvGrpSpPr/>
          <p:nvPr/>
        </p:nvGrpSpPr>
        <p:grpSpPr>
          <a:xfrm>
            <a:off x="228600" y="225360"/>
            <a:ext cx="2209680" cy="457200"/>
            <a:chOff x="228600" y="225360"/>
            <a:chExt cx="2209680" cy="457200"/>
          </a:xfrm>
        </p:grpSpPr>
        <p:grpSp>
          <p:nvGrpSpPr>
            <p:cNvPr id="6353" name=""/>
            <p:cNvGrpSpPr/>
            <p:nvPr/>
          </p:nvGrpSpPr>
          <p:grpSpPr>
            <a:xfrm>
              <a:off x="228600" y="225360"/>
              <a:ext cx="2209680" cy="457200"/>
              <a:chOff x="228600" y="225360"/>
              <a:chExt cx="2209680" cy="457200"/>
            </a:xfrm>
          </p:grpSpPr>
          <p:sp>
            <p:nvSpPr>
              <p:cNvPr id="6354" name=""/>
              <p:cNvSpPr/>
              <p:nvPr/>
            </p:nvSpPr>
            <p:spPr>
              <a:xfrm>
                <a:off x="246240" y="240840"/>
                <a:ext cx="2192040" cy="441720"/>
              </a:xfrm>
              <a:custGeom>
                <a:avLst/>
                <a:gdLst/>
                <a:ahLst/>
                <a:rect l="l" t="t" r="r" b="b"/>
                <a:pathLst>
                  <a:path w="2244" h="342">
                    <a:moveTo>
                      <a:pt x="1920" y="42"/>
                    </a:moveTo>
                    <a:lnTo>
                      <a:pt x="1920" y="48"/>
                    </a:lnTo>
                    <a:lnTo>
                      <a:pt x="1920" y="54"/>
                    </a:lnTo>
                    <a:lnTo>
                      <a:pt x="1926" y="54"/>
                    </a:lnTo>
                    <a:lnTo>
                      <a:pt x="1926" y="60"/>
                    </a:lnTo>
                    <a:lnTo>
                      <a:pt x="1926" y="66"/>
                    </a:lnTo>
                    <a:lnTo>
                      <a:pt x="1926" y="72"/>
                    </a:lnTo>
                    <a:lnTo>
                      <a:pt x="1926" y="78"/>
                    </a:lnTo>
                    <a:lnTo>
                      <a:pt x="1926" y="84"/>
                    </a:lnTo>
                    <a:lnTo>
                      <a:pt x="1926" y="90"/>
                    </a:lnTo>
                    <a:lnTo>
                      <a:pt x="1920" y="96"/>
                    </a:lnTo>
                    <a:lnTo>
                      <a:pt x="1920" y="102"/>
                    </a:lnTo>
                    <a:lnTo>
                      <a:pt x="1920" y="108"/>
                    </a:lnTo>
                    <a:lnTo>
                      <a:pt x="1920" y="114"/>
                    </a:lnTo>
                    <a:lnTo>
                      <a:pt x="1926" y="114"/>
                    </a:lnTo>
                    <a:lnTo>
                      <a:pt x="1938" y="108"/>
                    </a:lnTo>
                    <a:lnTo>
                      <a:pt x="1944" y="108"/>
                    </a:lnTo>
                    <a:lnTo>
                      <a:pt x="1950" y="108"/>
                    </a:lnTo>
                    <a:lnTo>
                      <a:pt x="1956" y="102"/>
                    </a:lnTo>
                    <a:lnTo>
                      <a:pt x="1968" y="102"/>
                    </a:lnTo>
                    <a:lnTo>
                      <a:pt x="1974" y="102"/>
                    </a:lnTo>
                    <a:lnTo>
                      <a:pt x="1980" y="102"/>
                    </a:lnTo>
                    <a:lnTo>
                      <a:pt x="1986" y="102"/>
                    </a:lnTo>
                    <a:lnTo>
                      <a:pt x="1998" y="96"/>
                    </a:lnTo>
                    <a:lnTo>
                      <a:pt x="2004" y="96"/>
                    </a:lnTo>
                    <a:lnTo>
                      <a:pt x="2010" y="96"/>
                    </a:lnTo>
                    <a:lnTo>
                      <a:pt x="2022" y="96"/>
                    </a:lnTo>
                    <a:lnTo>
                      <a:pt x="2028" y="96"/>
                    </a:lnTo>
                    <a:lnTo>
                      <a:pt x="2034" y="96"/>
                    </a:lnTo>
                    <a:lnTo>
                      <a:pt x="2040" y="102"/>
                    </a:lnTo>
                    <a:lnTo>
                      <a:pt x="2052" y="102"/>
                    </a:lnTo>
                    <a:lnTo>
                      <a:pt x="2058" y="102"/>
                    </a:lnTo>
                    <a:lnTo>
                      <a:pt x="2064" y="102"/>
                    </a:lnTo>
                    <a:lnTo>
                      <a:pt x="2076" y="108"/>
                    </a:lnTo>
                    <a:lnTo>
                      <a:pt x="2082" y="108"/>
                    </a:lnTo>
                    <a:lnTo>
                      <a:pt x="2088" y="108"/>
                    </a:lnTo>
                    <a:lnTo>
                      <a:pt x="2094" y="114"/>
                    </a:lnTo>
                    <a:lnTo>
                      <a:pt x="2106" y="114"/>
                    </a:lnTo>
                    <a:lnTo>
                      <a:pt x="2112" y="120"/>
                    </a:lnTo>
                    <a:lnTo>
                      <a:pt x="2118" y="120"/>
                    </a:lnTo>
                    <a:lnTo>
                      <a:pt x="2124" y="126"/>
                    </a:lnTo>
                    <a:lnTo>
                      <a:pt x="2130" y="126"/>
                    </a:lnTo>
                    <a:lnTo>
                      <a:pt x="2142" y="126"/>
                    </a:lnTo>
                    <a:lnTo>
                      <a:pt x="2148" y="132"/>
                    </a:lnTo>
                    <a:lnTo>
                      <a:pt x="2154" y="138"/>
                    </a:lnTo>
                    <a:lnTo>
                      <a:pt x="2160" y="144"/>
                    </a:lnTo>
                    <a:lnTo>
                      <a:pt x="2166" y="150"/>
                    </a:lnTo>
                    <a:lnTo>
                      <a:pt x="2172" y="150"/>
                    </a:lnTo>
                    <a:lnTo>
                      <a:pt x="2172" y="156"/>
                    </a:lnTo>
                    <a:lnTo>
                      <a:pt x="2178" y="162"/>
                    </a:lnTo>
                    <a:lnTo>
                      <a:pt x="2184" y="168"/>
                    </a:lnTo>
                    <a:lnTo>
                      <a:pt x="2196" y="174"/>
                    </a:lnTo>
                    <a:lnTo>
                      <a:pt x="2202" y="186"/>
                    </a:lnTo>
                    <a:lnTo>
                      <a:pt x="2214" y="192"/>
                    </a:lnTo>
                    <a:lnTo>
                      <a:pt x="2226" y="198"/>
                    </a:lnTo>
                    <a:lnTo>
                      <a:pt x="2232" y="198"/>
                    </a:lnTo>
                    <a:lnTo>
                      <a:pt x="2232" y="204"/>
                    </a:lnTo>
                    <a:lnTo>
                      <a:pt x="2238" y="210"/>
                    </a:lnTo>
                    <a:lnTo>
                      <a:pt x="2244" y="216"/>
                    </a:lnTo>
                    <a:lnTo>
                      <a:pt x="2238" y="216"/>
                    </a:lnTo>
                    <a:lnTo>
                      <a:pt x="2238" y="222"/>
                    </a:lnTo>
                    <a:lnTo>
                      <a:pt x="2232" y="222"/>
                    </a:lnTo>
                    <a:lnTo>
                      <a:pt x="2232" y="216"/>
                    </a:lnTo>
                    <a:lnTo>
                      <a:pt x="2226" y="216"/>
                    </a:lnTo>
                    <a:lnTo>
                      <a:pt x="2220" y="216"/>
                    </a:lnTo>
                    <a:lnTo>
                      <a:pt x="2214" y="216"/>
                    </a:lnTo>
                    <a:lnTo>
                      <a:pt x="2208" y="210"/>
                    </a:lnTo>
                    <a:lnTo>
                      <a:pt x="2202" y="210"/>
                    </a:lnTo>
                    <a:lnTo>
                      <a:pt x="2196" y="210"/>
                    </a:lnTo>
                    <a:lnTo>
                      <a:pt x="2190" y="210"/>
                    </a:lnTo>
                    <a:lnTo>
                      <a:pt x="2178" y="210"/>
                    </a:lnTo>
                    <a:lnTo>
                      <a:pt x="2166" y="210"/>
                    </a:lnTo>
                    <a:lnTo>
                      <a:pt x="2160" y="204"/>
                    </a:lnTo>
                    <a:lnTo>
                      <a:pt x="2154" y="204"/>
                    </a:lnTo>
                    <a:lnTo>
                      <a:pt x="2148" y="204"/>
                    </a:lnTo>
                    <a:lnTo>
                      <a:pt x="2142" y="204"/>
                    </a:lnTo>
                    <a:lnTo>
                      <a:pt x="2136" y="210"/>
                    </a:lnTo>
                    <a:lnTo>
                      <a:pt x="2130" y="210"/>
                    </a:lnTo>
                    <a:lnTo>
                      <a:pt x="2124" y="210"/>
                    </a:lnTo>
                    <a:lnTo>
                      <a:pt x="2118" y="210"/>
                    </a:lnTo>
                    <a:lnTo>
                      <a:pt x="2124" y="216"/>
                    </a:lnTo>
                    <a:lnTo>
                      <a:pt x="2130" y="222"/>
                    </a:lnTo>
                    <a:lnTo>
                      <a:pt x="2136" y="222"/>
                    </a:lnTo>
                    <a:lnTo>
                      <a:pt x="2136" y="228"/>
                    </a:lnTo>
                    <a:lnTo>
                      <a:pt x="2142" y="234"/>
                    </a:lnTo>
                    <a:lnTo>
                      <a:pt x="2142" y="240"/>
                    </a:lnTo>
                    <a:lnTo>
                      <a:pt x="2148" y="246"/>
                    </a:lnTo>
                    <a:lnTo>
                      <a:pt x="2154" y="252"/>
                    </a:lnTo>
                    <a:lnTo>
                      <a:pt x="2154" y="264"/>
                    </a:lnTo>
                    <a:lnTo>
                      <a:pt x="2160" y="264"/>
                    </a:lnTo>
                    <a:lnTo>
                      <a:pt x="2160" y="270"/>
                    </a:lnTo>
                    <a:lnTo>
                      <a:pt x="2166" y="270"/>
                    </a:lnTo>
                    <a:lnTo>
                      <a:pt x="2166" y="276"/>
                    </a:lnTo>
                    <a:lnTo>
                      <a:pt x="2172" y="282"/>
                    </a:lnTo>
                    <a:lnTo>
                      <a:pt x="2178" y="288"/>
                    </a:lnTo>
                    <a:lnTo>
                      <a:pt x="2178" y="294"/>
                    </a:lnTo>
                    <a:lnTo>
                      <a:pt x="2178" y="300"/>
                    </a:lnTo>
                    <a:lnTo>
                      <a:pt x="2184" y="300"/>
                    </a:lnTo>
                    <a:lnTo>
                      <a:pt x="2184" y="306"/>
                    </a:lnTo>
                    <a:lnTo>
                      <a:pt x="2184" y="312"/>
                    </a:lnTo>
                    <a:lnTo>
                      <a:pt x="2190" y="318"/>
                    </a:lnTo>
                    <a:lnTo>
                      <a:pt x="2190" y="324"/>
                    </a:lnTo>
                    <a:lnTo>
                      <a:pt x="2190" y="330"/>
                    </a:lnTo>
                    <a:lnTo>
                      <a:pt x="2196" y="336"/>
                    </a:lnTo>
                    <a:lnTo>
                      <a:pt x="2196" y="342"/>
                    </a:lnTo>
                    <a:lnTo>
                      <a:pt x="2190" y="342"/>
                    </a:lnTo>
                    <a:lnTo>
                      <a:pt x="2184" y="342"/>
                    </a:lnTo>
                    <a:lnTo>
                      <a:pt x="2178" y="342"/>
                    </a:lnTo>
                    <a:lnTo>
                      <a:pt x="2178" y="336"/>
                    </a:lnTo>
                    <a:lnTo>
                      <a:pt x="2172" y="336"/>
                    </a:lnTo>
                    <a:lnTo>
                      <a:pt x="2166" y="336"/>
                    </a:lnTo>
                    <a:lnTo>
                      <a:pt x="2160" y="336"/>
                    </a:lnTo>
                    <a:lnTo>
                      <a:pt x="2154" y="336"/>
                    </a:lnTo>
                    <a:lnTo>
                      <a:pt x="2154" y="330"/>
                    </a:lnTo>
                    <a:lnTo>
                      <a:pt x="2154" y="324"/>
                    </a:lnTo>
                    <a:lnTo>
                      <a:pt x="2148" y="324"/>
                    </a:lnTo>
                    <a:lnTo>
                      <a:pt x="2142" y="324"/>
                    </a:lnTo>
                    <a:lnTo>
                      <a:pt x="2136" y="318"/>
                    </a:lnTo>
                    <a:lnTo>
                      <a:pt x="2130" y="318"/>
                    </a:lnTo>
                    <a:lnTo>
                      <a:pt x="2124" y="312"/>
                    </a:lnTo>
                    <a:lnTo>
                      <a:pt x="2118" y="312"/>
                    </a:lnTo>
                    <a:lnTo>
                      <a:pt x="2106" y="306"/>
                    </a:lnTo>
                    <a:lnTo>
                      <a:pt x="2100" y="306"/>
                    </a:lnTo>
                    <a:lnTo>
                      <a:pt x="2088" y="306"/>
                    </a:lnTo>
                    <a:lnTo>
                      <a:pt x="2082" y="300"/>
                    </a:lnTo>
                    <a:lnTo>
                      <a:pt x="2076" y="306"/>
                    </a:lnTo>
                    <a:lnTo>
                      <a:pt x="2070" y="300"/>
                    </a:lnTo>
                    <a:lnTo>
                      <a:pt x="2064" y="300"/>
                    </a:lnTo>
                    <a:lnTo>
                      <a:pt x="2058" y="300"/>
                    </a:lnTo>
                    <a:lnTo>
                      <a:pt x="2046" y="300"/>
                    </a:lnTo>
                    <a:lnTo>
                      <a:pt x="2040" y="294"/>
                    </a:lnTo>
                    <a:lnTo>
                      <a:pt x="2034" y="294"/>
                    </a:lnTo>
                    <a:lnTo>
                      <a:pt x="2028" y="294"/>
                    </a:lnTo>
                    <a:lnTo>
                      <a:pt x="2016" y="294"/>
                    </a:lnTo>
                    <a:lnTo>
                      <a:pt x="2010" y="294"/>
                    </a:lnTo>
                    <a:lnTo>
                      <a:pt x="2004" y="294"/>
                    </a:lnTo>
                    <a:lnTo>
                      <a:pt x="1992" y="288"/>
                    </a:lnTo>
                    <a:lnTo>
                      <a:pt x="1986" y="288"/>
                    </a:lnTo>
                    <a:lnTo>
                      <a:pt x="1980" y="288"/>
                    </a:lnTo>
                    <a:lnTo>
                      <a:pt x="1968" y="288"/>
                    </a:lnTo>
                    <a:lnTo>
                      <a:pt x="1962" y="294"/>
                    </a:lnTo>
                    <a:lnTo>
                      <a:pt x="1956" y="294"/>
                    </a:lnTo>
                    <a:lnTo>
                      <a:pt x="1944" y="294"/>
                    </a:lnTo>
                    <a:lnTo>
                      <a:pt x="1938" y="294"/>
                    </a:lnTo>
                    <a:lnTo>
                      <a:pt x="1932" y="294"/>
                    </a:lnTo>
                    <a:lnTo>
                      <a:pt x="1926" y="294"/>
                    </a:lnTo>
                    <a:lnTo>
                      <a:pt x="1914" y="294"/>
                    </a:lnTo>
                    <a:lnTo>
                      <a:pt x="1908" y="294"/>
                    </a:lnTo>
                    <a:lnTo>
                      <a:pt x="1902" y="294"/>
                    </a:lnTo>
                    <a:lnTo>
                      <a:pt x="1890" y="294"/>
                    </a:lnTo>
                    <a:lnTo>
                      <a:pt x="1884" y="300"/>
                    </a:lnTo>
                    <a:lnTo>
                      <a:pt x="1878" y="300"/>
                    </a:lnTo>
                    <a:lnTo>
                      <a:pt x="1872" y="300"/>
                    </a:lnTo>
                    <a:lnTo>
                      <a:pt x="1866" y="300"/>
                    </a:lnTo>
                    <a:lnTo>
                      <a:pt x="1860" y="300"/>
                    </a:lnTo>
                    <a:lnTo>
                      <a:pt x="1854" y="300"/>
                    </a:lnTo>
                    <a:lnTo>
                      <a:pt x="1848" y="306"/>
                    </a:lnTo>
                    <a:lnTo>
                      <a:pt x="1842" y="306"/>
                    </a:lnTo>
                    <a:lnTo>
                      <a:pt x="1836" y="312"/>
                    </a:lnTo>
                    <a:lnTo>
                      <a:pt x="1830" y="312"/>
                    </a:lnTo>
                    <a:lnTo>
                      <a:pt x="1824" y="312"/>
                    </a:lnTo>
                    <a:lnTo>
                      <a:pt x="1818" y="312"/>
                    </a:lnTo>
                    <a:lnTo>
                      <a:pt x="1812" y="312"/>
                    </a:lnTo>
                    <a:lnTo>
                      <a:pt x="1806" y="318"/>
                    </a:lnTo>
                    <a:lnTo>
                      <a:pt x="1800" y="318"/>
                    </a:lnTo>
                    <a:lnTo>
                      <a:pt x="1782" y="324"/>
                    </a:lnTo>
                    <a:lnTo>
                      <a:pt x="1764" y="330"/>
                    </a:lnTo>
                    <a:lnTo>
                      <a:pt x="1758" y="330"/>
                    </a:lnTo>
                    <a:lnTo>
                      <a:pt x="1752" y="330"/>
                    </a:lnTo>
                    <a:lnTo>
                      <a:pt x="1746" y="336"/>
                    </a:lnTo>
                    <a:lnTo>
                      <a:pt x="1740" y="336"/>
                    </a:lnTo>
                    <a:lnTo>
                      <a:pt x="1734" y="336"/>
                    </a:lnTo>
                    <a:lnTo>
                      <a:pt x="1728" y="336"/>
                    </a:lnTo>
                    <a:lnTo>
                      <a:pt x="1722" y="336"/>
                    </a:lnTo>
                    <a:lnTo>
                      <a:pt x="1716" y="336"/>
                    </a:lnTo>
                    <a:lnTo>
                      <a:pt x="1710" y="336"/>
                    </a:lnTo>
                    <a:lnTo>
                      <a:pt x="1704" y="336"/>
                    </a:lnTo>
                    <a:lnTo>
                      <a:pt x="1698" y="336"/>
                    </a:lnTo>
                    <a:lnTo>
                      <a:pt x="1692" y="336"/>
                    </a:lnTo>
                    <a:lnTo>
                      <a:pt x="1686" y="336"/>
                    </a:lnTo>
                    <a:lnTo>
                      <a:pt x="1680" y="336"/>
                    </a:lnTo>
                    <a:lnTo>
                      <a:pt x="1680" y="330"/>
                    </a:lnTo>
                    <a:lnTo>
                      <a:pt x="1674" y="330"/>
                    </a:lnTo>
                    <a:lnTo>
                      <a:pt x="1668" y="330"/>
                    </a:lnTo>
                    <a:lnTo>
                      <a:pt x="1662" y="330"/>
                    </a:lnTo>
                    <a:lnTo>
                      <a:pt x="1656" y="330"/>
                    </a:lnTo>
                    <a:lnTo>
                      <a:pt x="1650" y="324"/>
                    </a:lnTo>
                    <a:lnTo>
                      <a:pt x="1644" y="324"/>
                    </a:lnTo>
                    <a:lnTo>
                      <a:pt x="1638" y="318"/>
                    </a:lnTo>
                    <a:lnTo>
                      <a:pt x="1632" y="318"/>
                    </a:lnTo>
                    <a:lnTo>
                      <a:pt x="1632" y="312"/>
                    </a:lnTo>
                    <a:lnTo>
                      <a:pt x="1626" y="312"/>
                    </a:lnTo>
                    <a:lnTo>
                      <a:pt x="1620" y="306"/>
                    </a:lnTo>
                    <a:lnTo>
                      <a:pt x="1620" y="300"/>
                    </a:lnTo>
                    <a:lnTo>
                      <a:pt x="1614" y="300"/>
                    </a:lnTo>
                    <a:lnTo>
                      <a:pt x="1614" y="294"/>
                    </a:lnTo>
                    <a:lnTo>
                      <a:pt x="1614" y="288"/>
                    </a:lnTo>
                    <a:lnTo>
                      <a:pt x="1614" y="282"/>
                    </a:lnTo>
                    <a:lnTo>
                      <a:pt x="1614" y="276"/>
                    </a:lnTo>
                    <a:lnTo>
                      <a:pt x="1614" y="270"/>
                    </a:lnTo>
                    <a:lnTo>
                      <a:pt x="1614" y="264"/>
                    </a:lnTo>
                    <a:lnTo>
                      <a:pt x="1614" y="258"/>
                    </a:lnTo>
                    <a:lnTo>
                      <a:pt x="1614" y="252"/>
                    </a:lnTo>
                    <a:lnTo>
                      <a:pt x="1614" y="246"/>
                    </a:lnTo>
                    <a:lnTo>
                      <a:pt x="1608" y="240"/>
                    </a:lnTo>
                    <a:lnTo>
                      <a:pt x="1602" y="240"/>
                    </a:lnTo>
                    <a:lnTo>
                      <a:pt x="1596" y="240"/>
                    </a:lnTo>
                    <a:lnTo>
                      <a:pt x="1590" y="240"/>
                    </a:lnTo>
                    <a:lnTo>
                      <a:pt x="1584" y="240"/>
                    </a:lnTo>
                    <a:lnTo>
                      <a:pt x="1578" y="240"/>
                    </a:lnTo>
                    <a:lnTo>
                      <a:pt x="1566" y="240"/>
                    </a:lnTo>
                    <a:lnTo>
                      <a:pt x="1560" y="240"/>
                    </a:lnTo>
                    <a:lnTo>
                      <a:pt x="1554" y="240"/>
                    </a:lnTo>
                    <a:lnTo>
                      <a:pt x="1548" y="240"/>
                    </a:lnTo>
                    <a:lnTo>
                      <a:pt x="1542" y="240"/>
                    </a:lnTo>
                    <a:lnTo>
                      <a:pt x="1536" y="240"/>
                    </a:lnTo>
                    <a:lnTo>
                      <a:pt x="1530" y="240"/>
                    </a:lnTo>
                    <a:lnTo>
                      <a:pt x="1524" y="240"/>
                    </a:lnTo>
                    <a:lnTo>
                      <a:pt x="1518" y="240"/>
                    </a:lnTo>
                    <a:lnTo>
                      <a:pt x="1512" y="240"/>
                    </a:lnTo>
                    <a:lnTo>
                      <a:pt x="1506" y="240"/>
                    </a:lnTo>
                    <a:lnTo>
                      <a:pt x="1500" y="240"/>
                    </a:lnTo>
                    <a:lnTo>
                      <a:pt x="1500" y="234"/>
                    </a:lnTo>
                    <a:lnTo>
                      <a:pt x="1494" y="240"/>
                    </a:lnTo>
                    <a:lnTo>
                      <a:pt x="1488" y="240"/>
                    </a:lnTo>
                    <a:lnTo>
                      <a:pt x="1482" y="240"/>
                    </a:lnTo>
                    <a:lnTo>
                      <a:pt x="1476" y="240"/>
                    </a:lnTo>
                    <a:lnTo>
                      <a:pt x="1476" y="234"/>
                    </a:lnTo>
                    <a:lnTo>
                      <a:pt x="1470" y="234"/>
                    </a:lnTo>
                    <a:lnTo>
                      <a:pt x="1464" y="234"/>
                    </a:lnTo>
                    <a:lnTo>
                      <a:pt x="1458" y="234"/>
                    </a:lnTo>
                    <a:lnTo>
                      <a:pt x="1446" y="234"/>
                    </a:lnTo>
                    <a:lnTo>
                      <a:pt x="1440" y="240"/>
                    </a:lnTo>
                    <a:lnTo>
                      <a:pt x="1434" y="240"/>
                    </a:lnTo>
                    <a:lnTo>
                      <a:pt x="1428" y="240"/>
                    </a:lnTo>
                    <a:lnTo>
                      <a:pt x="1422" y="240"/>
                    </a:lnTo>
                    <a:lnTo>
                      <a:pt x="1416" y="240"/>
                    </a:lnTo>
                    <a:lnTo>
                      <a:pt x="1410" y="240"/>
                    </a:lnTo>
                    <a:lnTo>
                      <a:pt x="1410" y="234"/>
                    </a:lnTo>
                    <a:lnTo>
                      <a:pt x="1404" y="234"/>
                    </a:lnTo>
                    <a:lnTo>
                      <a:pt x="1398" y="234"/>
                    </a:lnTo>
                    <a:lnTo>
                      <a:pt x="1392" y="234"/>
                    </a:lnTo>
                    <a:lnTo>
                      <a:pt x="1386" y="234"/>
                    </a:lnTo>
                    <a:lnTo>
                      <a:pt x="1380" y="234"/>
                    </a:lnTo>
                    <a:lnTo>
                      <a:pt x="1374" y="234"/>
                    </a:lnTo>
                    <a:lnTo>
                      <a:pt x="1368" y="228"/>
                    </a:lnTo>
                    <a:lnTo>
                      <a:pt x="1368" y="234"/>
                    </a:lnTo>
                    <a:lnTo>
                      <a:pt x="1356" y="234"/>
                    </a:lnTo>
                    <a:lnTo>
                      <a:pt x="1344" y="234"/>
                    </a:lnTo>
                    <a:lnTo>
                      <a:pt x="1338" y="234"/>
                    </a:lnTo>
                    <a:lnTo>
                      <a:pt x="1326" y="234"/>
                    </a:lnTo>
                    <a:lnTo>
                      <a:pt x="1314" y="234"/>
                    </a:lnTo>
                    <a:lnTo>
                      <a:pt x="1302" y="234"/>
                    </a:lnTo>
                    <a:lnTo>
                      <a:pt x="1296" y="234"/>
                    </a:lnTo>
                    <a:lnTo>
                      <a:pt x="1284" y="234"/>
                    </a:lnTo>
                    <a:lnTo>
                      <a:pt x="1272" y="234"/>
                    </a:lnTo>
                    <a:lnTo>
                      <a:pt x="1260" y="234"/>
                    </a:lnTo>
                    <a:lnTo>
                      <a:pt x="1248" y="234"/>
                    </a:lnTo>
                    <a:lnTo>
                      <a:pt x="1242" y="234"/>
                    </a:lnTo>
                    <a:lnTo>
                      <a:pt x="1218" y="234"/>
                    </a:lnTo>
                    <a:lnTo>
                      <a:pt x="1194" y="234"/>
                    </a:lnTo>
                    <a:lnTo>
                      <a:pt x="1176" y="234"/>
                    </a:lnTo>
                    <a:lnTo>
                      <a:pt x="1152" y="234"/>
                    </a:lnTo>
                    <a:lnTo>
                      <a:pt x="1128" y="228"/>
                    </a:lnTo>
                    <a:lnTo>
                      <a:pt x="1110" y="228"/>
                    </a:lnTo>
                    <a:lnTo>
                      <a:pt x="1098" y="228"/>
                    </a:lnTo>
                    <a:lnTo>
                      <a:pt x="1086" y="228"/>
                    </a:lnTo>
                    <a:lnTo>
                      <a:pt x="1074" y="228"/>
                    </a:lnTo>
                    <a:lnTo>
                      <a:pt x="1068" y="228"/>
                    </a:lnTo>
                    <a:lnTo>
                      <a:pt x="1056" y="228"/>
                    </a:lnTo>
                    <a:lnTo>
                      <a:pt x="1044" y="234"/>
                    </a:lnTo>
                    <a:lnTo>
                      <a:pt x="1032" y="234"/>
                    </a:lnTo>
                    <a:lnTo>
                      <a:pt x="1026" y="234"/>
                    </a:lnTo>
                    <a:lnTo>
                      <a:pt x="1020" y="228"/>
                    </a:lnTo>
                    <a:lnTo>
                      <a:pt x="990" y="228"/>
                    </a:lnTo>
                    <a:lnTo>
                      <a:pt x="966" y="228"/>
                    </a:lnTo>
                    <a:lnTo>
                      <a:pt x="936" y="228"/>
                    </a:lnTo>
                    <a:lnTo>
                      <a:pt x="912" y="228"/>
                    </a:lnTo>
                    <a:lnTo>
                      <a:pt x="882" y="228"/>
                    </a:lnTo>
                    <a:lnTo>
                      <a:pt x="858" y="228"/>
                    </a:lnTo>
                    <a:lnTo>
                      <a:pt x="828" y="228"/>
                    </a:lnTo>
                    <a:lnTo>
                      <a:pt x="804" y="228"/>
                    </a:lnTo>
                    <a:lnTo>
                      <a:pt x="798" y="228"/>
                    </a:lnTo>
                    <a:lnTo>
                      <a:pt x="792" y="228"/>
                    </a:lnTo>
                    <a:lnTo>
                      <a:pt x="786" y="228"/>
                    </a:lnTo>
                    <a:lnTo>
                      <a:pt x="780" y="228"/>
                    </a:lnTo>
                    <a:lnTo>
                      <a:pt x="774" y="228"/>
                    </a:lnTo>
                    <a:lnTo>
                      <a:pt x="768" y="228"/>
                    </a:lnTo>
                    <a:lnTo>
                      <a:pt x="762" y="228"/>
                    </a:lnTo>
                    <a:lnTo>
                      <a:pt x="756" y="228"/>
                    </a:lnTo>
                    <a:lnTo>
                      <a:pt x="744" y="228"/>
                    </a:lnTo>
                    <a:lnTo>
                      <a:pt x="732" y="228"/>
                    </a:lnTo>
                    <a:lnTo>
                      <a:pt x="720" y="228"/>
                    </a:lnTo>
                    <a:lnTo>
                      <a:pt x="714" y="228"/>
                    </a:lnTo>
                    <a:lnTo>
                      <a:pt x="702" y="228"/>
                    </a:lnTo>
                    <a:lnTo>
                      <a:pt x="690" y="228"/>
                    </a:lnTo>
                    <a:lnTo>
                      <a:pt x="684" y="228"/>
                    </a:lnTo>
                    <a:lnTo>
                      <a:pt x="672" y="228"/>
                    </a:lnTo>
                    <a:lnTo>
                      <a:pt x="666" y="228"/>
                    </a:lnTo>
                    <a:lnTo>
                      <a:pt x="660" y="228"/>
                    </a:lnTo>
                    <a:lnTo>
                      <a:pt x="654" y="228"/>
                    </a:lnTo>
                    <a:lnTo>
                      <a:pt x="648" y="228"/>
                    </a:lnTo>
                    <a:lnTo>
                      <a:pt x="594" y="228"/>
                    </a:lnTo>
                    <a:lnTo>
                      <a:pt x="594" y="234"/>
                    </a:lnTo>
                    <a:lnTo>
                      <a:pt x="594" y="240"/>
                    </a:lnTo>
                    <a:lnTo>
                      <a:pt x="594" y="246"/>
                    </a:lnTo>
                    <a:lnTo>
                      <a:pt x="594" y="252"/>
                    </a:lnTo>
                    <a:lnTo>
                      <a:pt x="594" y="258"/>
                    </a:lnTo>
                    <a:lnTo>
                      <a:pt x="594" y="264"/>
                    </a:lnTo>
                    <a:lnTo>
                      <a:pt x="594" y="270"/>
                    </a:lnTo>
                    <a:lnTo>
                      <a:pt x="588" y="270"/>
                    </a:lnTo>
                    <a:lnTo>
                      <a:pt x="594" y="276"/>
                    </a:lnTo>
                    <a:lnTo>
                      <a:pt x="594" y="282"/>
                    </a:lnTo>
                    <a:lnTo>
                      <a:pt x="594" y="288"/>
                    </a:lnTo>
                    <a:lnTo>
                      <a:pt x="594" y="294"/>
                    </a:lnTo>
                    <a:lnTo>
                      <a:pt x="594" y="300"/>
                    </a:lnTo>
                    <a:lnTo>
                      <a:pt x="588" y="300"/>
                    </a:lnTo>
                    <a:lnTo>
                      <a:pt x="588" y="306"/>
                    </a:lnTo>
                    <a:lnTo>
                      <a:pt x="588" y="312"/>
                    </a:lnTo>
                    <a:lnTo>
                      <a:pt x="582" y="318"/>
                    </a:lnTo>
                    <a:lnTo>
                      <a:pt x="576" y="324"/>
                    </a:lnTo>
                    <a:lnTo>
                      <a:pt x="570" y="324"/>
                    </a:lnTo>
                    <a:lnTo>
                      <a:pt x="564" y="330"/>
                    </a:lnTo>
                    <a:lnTo>
                      <a:pt x="558" y="330"/>
                    </a:lnTo>
                    <a:lnTo>
                      <a:pt x="552" y="336"/>
                    </a:lnTo>
                    <a:lnTo>
                      <a:pt x="546" y="336"/>
                    </a:lnTo>
                    <a:lnTo>
                      <a:pt x="540" y="336"/>
                    </a:lnTo>
                    <a:lnTo>
                      <a:pt x="534" y="336"/>
                    </a:lnTo>
                    <a:lnTo>
                      <a:pt x="528" y="336"/>
                    </a:lnTo>
                    <a:lnTo>
                      <a:pt x="516" y="336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2" y="336"/>
                    </a:lnTo>
                    <a:lnTo>
                      <a:pt x="486" y="336"/>
                    </a:lnTo>
                    <a:lnTo>
                      <a:pt x="480" y="336"/>
                    </a:lnTo>
                    <a:lnTo>
                      <a:pt x="474" y="336"/>
                    </a:lnTo>
                    <a:lnTo>
                      <a:pt x="468" y="336"/>
                    </a:lnTo>
                    <a:lnTo>
                      <a:pt x="456" y="336"/>
                    </a:lnTo>
                    <a:lnTo>
                      <a:pt x="444" y="336"/>
                    </a:lnTo>
                    <a:lnTo>
                      <a:pt x="432" y="336"/>
                    </a:lnTo>
                    <a:lnTo>
                      <a:pt x="420" y="336"/>
                    </a:lnTo>
                    <a:lnTo>
                      <a:pt x="408" y="336"/>
                    </a:lnTo>
                    <a:lnTo>
                      <a:pt x="402" y="336"/>
                    </a:lnTo>
                    <a:lnTo>
                      <a:pt x="396" y="336"/>
                    </a:lnTo>
                    <a:lnTo>
                      <a:pt x="390" y="336"/>
                    </a:lnTo>
                    <a:lnTo>
                      <a:pt x="384" y="336"/>
                    </a:lnTo>
                    <a:lnTo>
                      <a:pt x="378" y="330"/>
                    </a:lnTo>
                    <a:lnTo>
                      <a:pt x="372" y="330"/>
                    </a:lnTo>
                    <a:lnTo>
                      <a:pt x="366" y="330"/>
                    </a:lnTo>
                    <a:lnTo>
                      <a:pt x="360" y="324"/>
                    </a:lnTo>
                    <a:lnTo>
                      <a:pt x="354" y="324"/>
                    </a:lnTo>
                    <a:lnTo>
                      <a:pt x="348" y="324"/>
                    </a:lnTo>
                    <a:lnTo>
                      <a:pt x="342" y="318"/>
                    </a:lnTo>
                    <a:lnTo>
                      <a:pt x="336" y="318"/>
                    </a:lnTo>
                    <a:lnTo>
                      <a:pt x="324" y="318"/>
                    </a:lnTo>
                    <a:lnTo>
                      <a:pt x="312" y="312"/>
                    </a:lnTo>
                    <a:lnTo>
                      <a:pt x="300" y="312"/>
                    </a:lnTo>
                    <a:lnTo>
                      <a:pt x="288" y="306"/>
                    </a:lnTo>
                    <a:lnTo>
                      <a:pt x="258" y="300"/>
                    </a:lnTo>
                    <a:lnTo>
                      <a:pt x="234" y="300"/>
                    </a:lnTo>
                    <a:lnTo>
                      <a:pt x="222" y="294"/>
                    </a:lnTo>
                    <a:lnTo>
                      <a:pt x="210" y="294"/>
                    </a:lnTo>
                    <a:lnTo>
                      <a:pt x="198" y="288"/>
                    </a:lnTo>
                    <a:lnTo>
                      <a:pt x="186" y="288"/>
                    </a:lnTo>
                    <a:lnTo>
                      <a:pt x="180" y="288"/>
                    </a:lnTo>
                    <a:lnTo>
                      <a:pt x="174" y="288"/>
                    </a:lnTo>
                    <a:lnTo>
                      <a:pt x="168" y="288"/>
                    </a:lnTo>
                    <a:lnTo>
                      <a:pt x="162" y="288"/>
                    </a:lnTo>
                    <a:lnTo>
                      <a:pt x="156" y="288"/>
                    </a:lnTo>
                    <a:lnTo>
                      <a:pt x="150" y="288"/>
                    </a:lnTo>
                    <a:lnTo>
                      <a:pt x="144" y="288"/>
                    </a:lnTo>
                    <a:lnTo>
                      <a:pt x="138" y="294"/>
                    </a:lnTo>
                    <a:lnTo>
                      <a:pt x="132" y="294"/>
                    </a:lnTo>
                    <a:lnTo>
                      <a:pt x="126" y="294"/>
                    </a:lnTo>
                    <a:lnTo>
                      <a:pt x="120" y="300"/>
                    </a:lnTo>
                    <a:lnTo>
                      <a:pt x="114" y="300"/>
                    </a:lnTo>
                    <a:lnTo>
                      <a:pt x="102" y="306"/>
                    </a:lnTo>
                    <a:lnTo>
                      <a:pt x="96" y="306"/>
                    </a:lnTo>
                    <a:lnTo>
                      <a:pt x="90" y="312"/>
                    </a:lnTo>
                    <a:lnTo>
                      <a:pt x="84" y="318"/>
                    </a:lnTo>
                    <a:lnTo>
                      <a:pt x="78" y="318"/>
                    </a:lnTo>
                    <a:lnTo>
                      <a:pt x="72" y="324"/>
                    </a:lnTo>
                    <a:lnTo>
                      <a:pt x="66" y="324"/>
                    </a:lnTo>
                    <a:lnTo>
                      <a:pt x="60" y="324"/>
                    </a:lnTo>
                    <a:lnTo>
                      <a:pt x="60" y="318"/>
                    </a:lnTo>
                    <a:lnTo>
                      <a:pt x="54" y="318"/>
                    </a:lnTo>
                    <a:lnTo>
                      <a:pt x="54" y="312"/>
                    </a:lnTo>
                    <a:lnTo>
                      <a:pt x="54" y="306"/>
                    </a:lnTo>
                    <a:lnTo>
                      <a:pt x="60" y="306"/>
                    </a:lnTo>
                    <a:lnTo>
                      <a:pt x="60" y="300"/>
                    </a:lnTo>
                    <a:lnTo>
                      <a:pt x="60" y="294"/>
                    </a:lnTo>
                    <a:lnTo>
                      <a:pt x="66" y="288"/>
                    </a:lnTo>
                    <a:lnTo>
                      <a:pt x="66" y="282"/>
                    </a:lnTo>
                    <a:lnTo>
                      <a:pt x="72" y="270"/>
                    </a:lnTo>
                    <a:lnTo>
                      <a:pt x="78" y="264"/>
                    </a:lnTo>
                    <a:lnTo>
                      <a:pt x="78" y="258"/>
                    </a:lnTo>
                    <a:lnTo>
                      <a:pt x="84" y="252"/>
                    </a:lnTo>
                    <a:lnTo>
                      <a:pt x="90" y="246"/>
                    </a:lnTo>
                    <a:lnTo>
                      <a:pt x="90" y="240"/>
                    </a:lnTo>
                    <a:lnTo>
                      <a:pt x="96" y="240"/>
                    </a:lnTo>
                    <a:lnTo>
                      <a:pt x="132" y="204"/>
                    </a:lnTo>
                    <a:lnTo>
                      <a:pt x="126" y="204"/>
                    </a:lnTo>
                    <a:lnTo>
                      <a:pt x="120" y="198"/>
                    </a:lnTo>
                    <a:lnTo>
                      <a:pt x="114" y="198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96" y="198"/>
                    </a:lnTo>
                    <a:lnTo>
                      <a:pt x="90" y="198"/>
                    </a:lnTo>
                    <a:lnTo>
                      <a:pt x="84" y="198"/>
                    </a:lnTo>
                    <a:lnTo>
                      <a:pt x="78" y="198"/>
                    </a:lnTo>
                    <a:lnTo>
                      <a:pt x="72" y="198"/>
                    </a:lnTo>
                    <a:lnTo>
                      <a:pt x="66" y="198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8" y="204"/>
                    </a:lnTo>
                    <a:lnTo>
                      <a:pt x="42" y="204"/>
                    </a:lnTo>
                    <a:lnTo>
                      <a:pt x="36" y="204"/>
                    </a:lnTo>
                    <a:lnTo>
                      <a:pt x="30" y="210"/>
                    </a:lnTo>
                    <a:lnTo>
                      <a:pt x="24" y="210"/>
                    </a:lnTo>
                    <a:lnTo>
                      <a:pt x="18" y="216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6" y="198"/>
                    </a:lnTo>
                    <a:lnTo>
                      <a:pt x="12" y="198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24" y="180"/>
                    </a:lnTo>
                    <a:lnTo>
                      <a:pt x="24" y="174"/>
                    </a:lnTo>
                    <a:lnTo>
                      <a:pt x="42" y="156"/>
                    </a:lnTo>
                    <a:lnTo>
                      <a:pt x="48" y="144"/>
                    </a:lnTo>
                    <a:lnTo>
                      <a:pt x="54" y="138"/>
                    </a:lnTo>
                    <a:lnTo>
                      <a:pt x="60" y="138"/>
                    </a:lnTo>
                    <a:lnTo>
                      <a:pt x="72" y="132"/>
                    </a:lnTo>
                    <a:lnTo>
                      <a:pt x="78" y="126"/>
                    </a:lnTo>
                    <a:lnTo>
                      <a:pt x="84" y="126"/>
                    </a:lnTo>
                    <a:lnTo>
                      <a:pt x="90" y="126"/>
                    </a:lnTo>
                    <a:lnTo>
                      <a:pt x="96" y="120"/>
                    </a:lnTo>
                    <a:lnTo>
                      <a:pt x="108" y="120"/>
                    </a:lnTo>
                    <a:lnTo>
                      <a:pt x="114" y="120"/>
                    </a:lnTo>
                    <a:lnTo>
                      <a:pt x="120" y="120"/>
                    </a:lnTo>
                    <a:lnTo>
                      <a:pt x="132" y="114"/>
                    </a:lnTo>
                    <a:lnTo>
                      <a:pt x="138" y="114"/>
                    </a:lnTo>
                    <a:lnTo>
                      <a:pt x="144" y="114"/>
                    </a:lnTo>
                    <a:lnTo>
                      <a:pt x="156" y="114"/>
                    </a:lnTo>
                    <a:lnTo>
                      <a:pt x="162" y="114"/>
                    </a:lnTo>
                    <a:lnTo>
                      <a:pt x="168" y="114"/>
                    </a:lnTo>
                    <a:lnTo>
                      <a:pt x="180" y="114"/>
                    </a:lnTo>
                    <a:lnTo>
                      <a:pt x="186" y="114"/>
                    </a:lnTo>
                    <a:lnTo>
                      <a:pt x="198" y="114"/>
                    </a:lnTo>
                    <a:lnTo>
                      <a:pt x="210" y="120"/>
                    </a:lnTo>
                    <a:lnTo>
                      <a:pt x="228" y="120"/>
                    </a:lnTo>
                    <a:lnTo>
                      <a:pt x="234" y="120"/>
                    </a:lnTo>
                    <a:lnTo>
                      <a:pt x="246" y="120"/>
                    </a:lnTo>
                    <a:lnTo>
                      <a:pt x="252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0"/>
                    </a:lnTo>
                    <a:lnTo>
                      <a:pt x="288" y="120"/>
                    </a:lnTo>
                    <a:lnTo>
                      <a:pt x="294" y="120"/>
                    </a:lnTo>
                    <a:lnTo>
                      <a:pt x="294" y="114"/>
                    </a:lnTo>
                    <a:lnTo>
                      <a:pt x="288" y="108"/>
                    </a:lnTo>
                    <a:lnTo>
                      <a:pt x="288" y="102"/>
                    </a:lnTo>
                    <a:lnTo>
                      <a:pt x="282" y="102"/>
                    </a:lnTo>
                    <a:lnTo>
                      <a:pt x="282" y="96"/>
                    </a:lnTo>
                    <a:lnTo>
                      <a:pt x="276" y="90"/>
                    </a:lnTo>
                    <a:lnTo>
                      <a:pt x="276" y="84"/>
                    </a:lnTo>
                    <a:lnTo>
                      <a:pt x="270" y="78"/>
                    </a:lnTo>
                    <a:lnTo>
                      <a:pt x="270" y="72"/>
                    </a:lnTo>
                    <a:lnTo>
                      <a:pt x="264" y="66"/>
                    </a:lnTo>
                    <a:lnTo>
                      <a:pt x="264" y="60"/>
                    </a:lnTo>
                    <a:lnTo>
                      <a:pt x="264" y="54"/>
                    </a:lnTo>
                    <a:lnTo>
                      <a:pt x="264" y="48"/>
                    </a:lnTo>
                    <a:lnTo>
                      <a:pt x="270" y="48"/>
                    </a:lnTo>
                    <a:lnTo>
                      <a:pt x="270" y="42"/>
                    </a:lnTo>
                    <a:lnTo>
                      <a:pt x="270" y="36"/>
                    </a:lnTo>
                    <a:lnTo>
                      <a:pt x="276" y="30"/>
                    </a:lnTo>
                    <a:lnTo>
                      <a:pt x="282" y="24"/>
                    </a:lnTo>
                    <a:lnTo>
                      <a:pt x="288" y="18"/>
                    </a:lnTo>
                    <a:lnTo>
                      <a:pt x="294" y="18"/>
                    </a:lnTo>
                    <a:lnTo>
                      <a:pt x="294" y="12"/>
                    </a:lnTo>
                    <a:lnTo>
                      <a:pt x="300" y="12"/>
                    </a:lnTo>
                    <a:lnTo>
                      <a:pt x="306" y="12"/>
                    </a:lnTo>
                    <a:lnTo>
                      <a:pt x="312" y="12"/>
                    </a:lnTo>
                    <a:lnTo>
                      <a:pt x="312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0" y="6"/>
                    </a:lnTo>
                    <a:lnTo>
                      <a:pt x="336" y="6"/>
                    </a:lnTo>
                    <a:lnTo>
                      <a:pt x="342" y="6"/>
                    </a:lnTo>
                    <a:lnTo>
                      <a:pt x="348" y="6"/>
                    </a:lnTo>
                    <a:lnTo>
                      <a:pt x="354" y="6"/>
                    </a:lnTo>
                    <a:lnTo>
                      <a:pt x="372" y="12"/>
                    </a:lnTo>
                    <a:lnTo>
                      <a:pt x="390" y="12"/>
                    </a:lnTo>
                    <a:lnTo>
                      <a:pt x="396" y="12"/>
                    </a:lnTo>
                    <a:lnTo>
                      <a:pt x="402" y="12"/>
                    </a:lnTo>
                    <a:lnTo>
                      <a:pt x="408" y="12"/>
                    </a:lnTo>
                    <a:lnTo>
                      <a:pt x="414" y="12"/>
                    </a:lnTo>
                    <a:lnTo>
                      <a:pt x="420" y="6"/>
                    </a:lnTo>
                    <a:lnTo>
                      <a:pt x="426" y="6"/>
                    </a:lnTo>
                    <a:lnTo>
                      <a:pt x="438" y="6"/>
                    </a:lnTo>
                    <a:lnTo>
                      <a:pt x="450" y="6"/>
                    </a:lnTo>
                    <a:lnTo>
                      <a:pt x="462" y="6"/>
                    </a:lnTo>
                    <a:lnTo>
                      <a:pt x="474" y="6"/>
                    </a:lnTo>
                    <a:lnTo>
                      <a:pt x="486" y="6"/>
                    </a:lnTo>
                    <a:lnTo>
                      <a:pt x="498" y="6"/>
                    </a:lnTo>
                    <a:lnTo>
                      <a:pt x="510" y="6"/>
                    </a:lnTo>
                    <a:lnTo>
                      <a:pt x="522" y="6"/>
                    </a:lnTo>
                    <a:lnTo>
                      <a:pt x="546" y="6"/>
                    </a:lnTo>
                    <a:lnTo>
                      <a:pt x="570" y="12"/>
                    </a:lnTo>
                    <a:lnTo>
                      <a:pt x="594" y="12"/>
                    </a:lnTo>
                    <a:lnTo>
                      <a:pt x="618" y="12"/>
                    </a:lnTo>
                    <a:lnTo>
                      <a:pt x="642" y="12"/>
                    </a:lnTo>
                    <a:lnTo>
                      <a:pt x="660" y="12"/>
                    </a:lnTo>
                    <a:lnTo>
                      <a:pt x="684" y="12"/>
                    </a:lnTo>
                    <a:lnTo>
                      <a:pt x="708" y="12"/>
                    </a:lnTo>
                    <a:lnTo>
                      <a:pt x="720" y="18"/>
                    </a:lnTo>
                    <a:lnTo>
                      <a:pt x="732" y="18"/>
                    </a:lnTo>
                    <a:lnTo>
                      <a:pt x="744" y="18"/>
                    </a:lnTo>
                    <a:lnTo>
                      <a:pt x="756" y="18"/>
                    </a:lnTo>
                    <a:lnTo>
                      <a:pt x="768" y="18"/>
                    </a:lnTo>
                    <a:lnTo>
                      <a:pt x="780" y="18"/>
                    </a:lnTo>
                    <a:lnTo>
                      <a:pt x="792" y="18"/>
                    </a:lnTo>
                    <a:lnTo>
                      <a:pt x="804" y="12"/>
                    </a:lnTo>
                    <a:lnTo>
                      <a:pt x="822" y="12"/>
                    </a:lnTo>
                    <a:lnTo>
                      <a:pt x="834" y="12"/>
                    </a:lnTo>
                    <a:lnTo>
                      <a:pt x="846" y="12"/>
                    </a:lnTo>
                    <a:lnTo>
                      <a:pt x="864" y="12"/>
                    </a:lnTo>
                    <a:lnTo>
                      <a:pt x="876" y="12"/>
                    </a:lnTo>
                    <a:lnTo>
                      <a:pt x="888" y="12"/>
                    </a:lnTo>
                    <a:lnTo>
                      <a:pt x="906" y="12"/>
                    </a:lnTo>
                    <a:lnTo>
                      <a:pt x="918" y="12"/>
                    </a:lnTo>
                    <a:lnTo>
                      <a:pt x="942" y="18"/>
                    </a:lnTo>
                    <a:lnTo>
                      <a:pt x="972" y="18"/>
                    </a:lnTo>
                    <a:lnTo>
                      <a:pt x="984" y="18"/>
                    </a:lnTo>
                    <a:lnTo>
                      <a:pt x="1002" y="18"/>
                    </a:lnTo>
                    <a:lnTo>
                      <a:pt x="1014" y="18"/>
                    </a:lnTo>
                    <a:lnTo>
                      <a:pt x="1032" y="18"/>
                    </a:lnTo>
                    <a:lnTo>
                      <a:pt x="1038" y="18"/>
                    </a:lnTo>
                    <a:lnTo>
                      <a:pt x="1044" y="18"/>
                    </a:lnTo>
                    <a:lnTo>
                      <a:pt x="1050" y="18"/>
                    </a:lnTo>
                    <a:lnTo>
                      <a:pt x="1056" y="18"/>
                    </a:lnTo>
                    <a:lnTo>
                      <a:pt x="1062" y="18"/>
                    </a:lnTo>
                    <a:lnTo>
                      <a:pt x="1068" y="18"/>
                    </a:lnTo>
                    <a:lnTo>
                      <a:pt x="1074" y="18"/>
                    </a:lnTo>
                    <a:lnTo>
                      <a:pt x="1080" y="18"/>
                    </a:lnTo>
                    <a:lnTo>
                      <a:pt x="1086" y="24"/>
                    </a:lnTo>
                    <a:lnTo>
                      <a:pt x="1086" y="18"/>
                    </a:lnTo>
                    <a:lnTo>
                      <a:pt x="1092" y="18"/>
                    </a:lnTo>
                    <a:lnTo>
                      <a:pt x="1098" y="18"/>
                    </a:lnTo>
                    <a:lnTo>
                      <a:pt x="1104" y="18"/>
                    </a:lnTo>
                    <a:lnTo>
                      <a:pt x="1110" y="18"/>
                    </a:lnTo>
                    <a:lnTo>
                      <a:pt x="1122" y="18"/>
                    </a:lnTo>
                    <a:lnTo>
                      <a:pt x="1128" y="18"/>
                    </a:lnTo>
                    <a:lnTo>
                      <a:pt x="1146" y="18"/>
                    </a:lnTo>
                    <a:lnTo>
                      <a:pt x="1164" y="18"/>
                    </a:lnTo>
                    <a:lnTo>
                      <a:pt x="1182" y="18"/>
                    </a:lnTo>
                    <a:lnTo>
                      <a:pt x="1200" y="18"/>
                    </a:lnTo>
                    <a:lnTo>
                      <a:pt x="1206" y="18"/>
                    </a:lnTo>
                    <a:lnTo>
                      <a:pt x="1218" y="18"/>
                    </a:lnTo>
                    <a:lnTo>
                      <a:pt x="1224" y="18"/>
                    </a:lnTo>
                    <a:lnTo>
                      <a:pt x="1236" y="18"/>
                    </a:lnTo>
                    <a:lnTo>
                      <a:pt x="1230" y="24"/>
                    </a:lnTo>
                    <a:lnTo>
                      <a:pt x="1290" y="24"/>
                    </a:lnTo>
                    <a:lnTo>
                      <a:pt x="1344" y="18"/>
                    </a:lnTo>
                    <a:lnTo>
                      <a:pt x="1374" y="18"/>
                    </a:lnTo>
                    <a:lnTo>
                      <a:pt x="1404" y="18"/>
                    </a:lnTo>
                    <a:lnTo>
                      <a:pt x="1434" y="18"/>
                    </a:lnTo>
                    <a:lnTo>
                      <a:pt x="1464" y="18"/>
                    </a:lnTo>
                    <a:lnTo>
                      <a:pt x="1494" y="18"/>
                    </a:lnTo>
                    <a:lnTo>
                      <a:pt x="1518" y="18"/>
                    </a:lnTo>
                    <a:lnTo>
                      <a:pt x="1536" y="18"/>
                    </a:lnTo>
                    <a:lnTo>
                      <a:pt x="1548" y="18"/>
                    </a:lnTo>
                    <a:lnTo>
                      <a:pt x="1566" y="18"/>
                    </a:lnTo>
                    <a:lnTo>
                      <a:pt x="1578" y="12"/>
                    </a:lnTo>
                    <a:lnTo>
                      <a:pt x="1596" y="12"/>
                    </a:lnTo>
                    <a:lnTo>
                      <a:pt x="1608" y="12"/>
                    </a:lnTo>
                    <a:lnTo>
                      <a:pt x="1620" y="12"/>
                    </a:lnTo>
                    <a:lnTo>
                      <a:pt x="1638" y="12"/>
                    </a:lnTo>
                    <a:lnTo>
                      <a:pt x="1650" y="12"/>
                    </a:lnTo>
                    <a:lnTo>
                      <a:pt x="1668" y="6"/>
                    </a:lnTo>
                    <a:lnTo>
                      <a:pt x="1680" y="6"/>
                    </a:lnTo>
                    <a:lnTo>
                      <a:pt x="1698" y="6"/>
                    </a:lnTo>
                    <a:lnTo>
                      <a:pt x="1704" y="6"/>
                    </a:lnTo>
                    <a:lnTo>
                      <a:pt x="1710" y="6"/>
                    </a:lnTo>
                    <a:lnTo>
                      <a:pt x="1716" y="6"/>
                    </a:lnTo>
                    <a:lnTo>
                      <a:pt x="1722" y="6"/>
                    </a:lnTo>
                    <a:lnTo>
                      <a:pt x="1728" y="6"/>
                    </a:lnTo>
                    <a:lnTo>
                      <a:pt x="1734" y="6"/>
                    </a:lnTo>
                    <a:lnTo>
                      <a:pt x="1740" y="6"/>
                    </a:lnTo>
                    <a:lnTo>
                      <a:pt x="1746" y="6"/>
                    </a:lnTo>
                    <a:lnTo>
                      <a:pt x="1758" y="0"/>
                    </a:lnTo>
                    <a:lnTo>
                      <a:pt x="1764" y="0"/>
                    </a:lnTo>
                    <a:lnTo>
                      <a:pt x="1770" y="0"/>
                    </a:lnTo>
                    <a:lnTo>
                      <a:pt x="1776" y="0"/>
                    </a:lnTo>
                    <a:lnTo>
                      <a:pt x="1782" y="0"/>
                    </a:lnTo>
                    <a:lnTo>
                      <a:pt x="1788" y="0"/>
                    </a:lnTo>
                    <a:lnTo>
                      <a:pt x="1794" y="0"/>
                    </a:lnTo>
                    <a:lnTo>
                      <a:pt x="1806" y="0"/>
                    </a:lnTo>
                    <a:lnTo>
                      <a:pt x="1818" y="0"/>
                    </a:lnTo>
                    <a:lnTo>
                      <a:pt x="1830" y="0"/>
                    </a:lnTo>
                    <a:lnTo>
                      <a:pt x="1836" y="6"/>
                    </a:lnTo>
                    <a:lnTo>
                      <a:pt x="1842" y="6"/>
                    </a:lnTo>
                    <a:lnTo>
                      <a:pt x="1848" y="6"/>
                    </a:lnTo>
                    <a:lnTo>
                      <a:pt x="1854" y="6"/>
                    </a:lnTo>
                    <a:lnTo>
                      <a:pt x="1860" y="6"/>
                    </a:lnTo>
                    <a:lnTo>
                      <a:pt x="1866" y="6"/>
                    </a:lnTo>
                    <a:lnTo>
                      <a:pt x="1872" y="12"/>
                    </a:lnTo>
                    <a:lnTo>
                      <a:pt x="1878" y="12"/>
                    </a:lnTo>
                    <a:lnTo>
                      <a:pt x="1884" y="12"/>
                    </a:lnTo>
                    <a:lnTo>
                      <a:pt x="1890" y="18"/>
                    </a:lnTo>
                    <a:lnTo>
                      <a:pt x="1896" y="24"/>
                    </a:lnTo>
                    <a:lnTo>
                      <a:pt x="1902" y="24"/>
                    </a:lnTo>
                    <a:lnTo>
                      <a:pt x="1908" y="30"/>
                    </a:lnTo>
                    <a:lnTo>
                      <a:pt x="1914" y="36"/>
                    </a:lnTo>
                    <a:lnTo>
                      <a:pt x="192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228600" y="225360"/>
                <a:ext cx="2192040" cy="441720"/>
              </a:xfrm>
              <a:custGeom>
                <a:avLst/>
                <a:gdLst/>
                <a:ahLst/>
                <a:rect l="l" t="t" r="r" b="b"/>
                <a:pathLst>
                  <a:path w="2244" h="342">
                    <a:moveTo>
                      <a:pt x="1920" y="36"/>
                    </a:moveTo>
                    <a:lnTo>
                      <a:pt x="1920" y="42"/>
                    </a:lnTo>
                    <a:lnTo>
                      <a:pt x="1920" y="48"/>
                    </a:lnTo>
                    <a:lnTo>
                      <a:pt x="1926" y="54"/>
                    </a:lnTo>
                    <a:lnTo>
                      <a:pt x="1926" y="60"/>
                    </a:lnTo>
                    <a:lnTo>
                      <a:pt x="1926" y="66"/>
                    </a:lnTo>
                    <a:lnTo>
                      <a:pt x="1926" y="72"/>
                    </a:lnTo>
                    <a:lnTo>
                      <a:pt x="1926" y="78"/>
                    </a:lnTo>
                    <a:lnTo>
                      <a:pt x="1920" y="84"/>
                    </a:lnTo>
                    <a:lnTo>
                      <a:pt x="1920" y="90"/>
                    </a:lnTo>
                    <a:lnTo>
                      <a:pt x="1920" y="96"/>
                    </a:lnTo>
                    <a:lnTo>
                      <a:pt x="1920" y="102"/>
                    </a:lnTo>
                    <a:lnTo>
                      <a:pt x="1920" y="108"/>
                    </a:lnTo>
                    <a:lnTo>
                      <a:pt x="1926" y="108"/>
                    </a:lnTo>
                    <a:lnTo>
                      <a:pt x="1926" y="102"/>
                    </a:lnTo>
                    <a:lnTo>
                      <a:pt x="1932" y="102"/>
                    </a:lnTo>
                    <a:lnTo>
                      <a:pt x="1944" y="102"/>
                    </a:lnTo>
                    <a:lnTo>
                      <a:pt x="1950" y="96"/>
                    </a:lnTo>
                    <a:lnTo>
                      <a:pt x="1956" y="96"/>
                    </a:lnTo>
                    <a:lnTo>
                      <a:pt x="1962" y="96"/>
                    </a:lnTo>
                    <a:lnTo>
                      <a:pt x="1974" y="90"/>
                    </a:lnTo>
                    <a:lnTo>
                      <a:pt x="1980" y="90"/>
                    </a:lnTo>
                    <a:lnTo>
                      <a:pt x="1986" y="90"/>
                    </a:lnTo>
                    <a:lnTo>
                      <a:pt x="1998" y="90"/>
                    </a:lnTo>
                    <a:lnTo>
                      <a:pt x="2004" y="90"/>
                    </a:lnTo>
                    <a:lnTo>
                      <a:pt x="2010" y="90"/>
                    </a:lnTo>
                    <a:lnTo>
                      <a:pt x="2016" y="90"/>
                    </a:lnTo>
                    <a:lnTo>
                      <a:pt x="2028" y="90"/>
                    </a:lnTo>
                    <a:lnTo>
                      <a:pt x="2034" y="90"/>
                    </a:lnTo>
                    <a:lnTo>
                      <a:pt x="2040" y="90"/>
                    </a:lnTo>
                    <a:lnTo>
                      <a:pt x="2052" y="90"/>
                    </a:lnTo>
                    <a:lnTo>
                      <a:pt x="2058" y="90"/>
                    </a:lnTo>
                    <a:lnTo>
                      <a:pt x="2064" y="96"/>
                    </a:lnTo>
                    <a:lnTo>
                      <a:pt x="2076" y="96"/>
                    </a:lnTo>
                    <a:lnTo>
                      <a:pt x="2082" y="96"/>
                    </a:lnTo>
                    <a:lnTo>
                      <a:pt x="2088" y="102"/>
                    </a:lnTo>
                    <a:lnTo>
                      <a:pt x="2094" y="102"/>
                    </a:lnTo>
                    <a:lnTo>
                      <a:pt x="2106" y="108"/>
                    </a:lnTo>
                    <a:lnTo>
                      <a:pt x="2112" y="108"/>
                    </a:lnTo>
                    <a:lnTo>
                      <a:pt x="2118" y="114"/>
                    </a:lnTo>
                    <a:lnTo>
                      <a:pt x="2124" y="114"/>
                    </a:lnTo>
                    <a:lnTo>
                      <a:pt x="2130" y="120"/>
                    </a:lnTo>
                    <a:lnTo>
                      <a:pt x="2136" y="126"/>
                    </a:lnTo>
                    <a:lnTo>
                      <a:pt x="2148" y="126"/>
                    </a:lnTo>
                    <a:lnTo>
                      <a:pt x="2154" y="132"/>
                    </a:lnTo>
                    <a:lnTo>
                      <a:pt x="2160" y="138"/>
                    </a:lnTo>
                    <a:lnTo>
                      <a:pt x="2166" y="138"/>
                    </a:lnTo>
                    <a:lnTo>
                      <a:pt x="2172" y="144"/>
                    </a:lnTo>
                    <a:lnTo>
                      <a:pt x="2172" y="150"/>
                    </a:lnTo>
                    <a:lnTo>
                      <a:pt x="2178" y="150"/>
                    </a:lnTo>
                    <a:lnTo>
                      <a:pt x="2184" y="156"/>
                    </a:lnTo>
                    <a:lnTo>
                      <a:pt x="2196" y="168"/>
                    </a:lnTo>
                    <a:lnTo>
                      <a:pt x="2202" y="174"/>
                    </a:lnTo>
                    <a:lnTo>
                      <a:pt x="2214" y="186"/>
                    </a:lnTo>
                    <a:lnTo>
                      <a:pt x="2226" y="192"/>
                    </a:lnTo>
                    <a:lnTo>
                      <a:pt x="2232" y="198"/>
                    </a:lnTo>
                    <a:lnTo>
                      <a:pt x="2232" y="204"/>
                    </a:lnTo>
                    <a:lnTo>
                      <a:pt x="2238" y="204"/>
                    </a:lnTo>
                    <a:lnTo>
                      <a:pt x="2244" y="210"/>
                    </a:lnTo>
                    <a:lnTo>
                      <a:pt x="2238" y="210"/>
                    </a:lnTo>
                    <a:lnTo>
                      <a:pt x="2232" y="210"/>
                    </a:lnTo>
                    <a:lnTo>
                      <a:pt x="2226" y="210"/>
                    </a:lnTo>
                    <a:lnTo>
                      <a:pt x="2220" y="210"/>
                    </a:lnTo>
                    <a:lnTo>
                      <a:pt x="2214" y="210"/>
                    </a:lnTo>
                    <a:lnTo>
                      <a:pt x="2208" y="210"/>
                    </a:lnTo>
                    <a:lnTo>
                      <a:pt x="2202" y="210"/>
                    </a:lnTo>
                    <a:lnTo>
                      <a:pt x="2196" y="210"/>
                    </a:lnTo>
                    <a:lnTo>
                      <a:pt x="2190" y="210"/>
                    </a:lnTo>
                    <a:lnTo>
                      <a:pt x="2184" y="210"/>
                    </a:lnTo>
                    <a:lnTo>
                      <a:pt x="2172" y="204"/>
                    </a:lnTo>
                    <a:lnTo>
                      <a:pt x="2160" y="204"/>
                    </a:lnTo>
                    <a:lnTo>
                      <a:pt x="2154" y="204"/>
                    </a:lnTo>
                    <a:lnTo>
                      <a:pt x="2148" y="204"/>
                    </a:lnTo>
                    <a:lnTo>
                      <a:pt x="2142" y="204"/>
                    </a:lnTo>
                    <a:lnTo>
                      <a:pt x="2136" y="204"/>
                    </a:lnTo>
                    <a:lnTo>
                      <a:pt x="2130" y="204"/>
                    </a:lnTo>
                    <a:lnTo>
                      <a:pt x="2124" y="204"/>
                    </a:lnTo>
                    <a:lnTo>
                      <a:pt x="2124" y="210"/>
                    </a:lnTo>
                    <a:lnTo>
                      <a:pt x="2118" y="210"/>
                    </a:lnTo>
                    <a:lnTo>
                      <a:pt x="2124" y="210"/>
                    </a:lnTo>
                    <a:lnTo>
                      <a:pt x="2130" y="210"/>
                    </a:lnTo>
                    <a:lnTo>
                      <a:pt x="2130" y="216"/>
                    </a:lnTo>
                    <a:lnTo>
                      <a:pt x="2136" y="216"/>
                    </a:lnTo>
                    <a:lnTo>
                      <a:pt x="2136" y="222"/>
                    </a:lnTo>
                    <a:lnTo>
                      <a:pt x="2142" y="222"/>
                    </a:lnTo>
                    <a:lnTo>
                      <a:pt x="2142" y="228"/>
                    </a:lnTo>
                    <a:lnTo>
                      <a:pt x="2148" y="234"/>
                    </a:lnTo>
                    <a:lnTo>
                      <a:pt x="2148" y="246"/>
                    </a:lnTo>
                    <a:lnTo>
                      <a:pt x="2154" y="252"/>
                    </a:lnTo>
                    <a:lnTo>
                      <a:pt x="2160" y="258"/>
                    </a:lnTo>
                    <a:lnTo>
                      <a:pt x="2160" y="264"/>
                    </a:lnTo>
                    <a:lnTo>
                      <a:pt x="2166" y="264"/>
                    </a:lnTo>
                    <a:lnTo>
                      <a:pt x="2166" y="270"/>
                    </a:lnTo>
                    <a:lnTo>
                      <a:pt x="2172" y="276"/>
                    </a:lnTo>
                    <a:lnTo>
                      <a:pt x="2178" y="282"/>
                    </a:lnTo>
                    <a:lnTo>
                      <a:pt x="2178" y="288"/>
                    </a:lnTo>
                    <a:lnTo>
                      <a:pt x="2184" y="294"/>
                    </a:lnTo>
                    <a:lnTo>
                      <a:pt x="2184" y="300"/>
                    </a:lnTo>
                    <a:lnTo>
                      <a:pt x="2190" y="306"/>
                    </a:lnTo>
                    <a:lnTo>
                      <a:pt x="2190" y="312"/>
                    </a:lnTo>
                    <a:lnTo>
                      <a:pt x="2190" y="318"/>
                    </a:lnTo>
                    <a:lnTo>
                      <a:pt x="2190" y="324"/>
                    </a:lnTo>
                    <a:lnTo>
                      <a:pt x="2196" y="330"/>
                    </a:lnTo>
                    <a:lnTo>
                      <a:pt x="2196" y="336"/>
                    </a:lnTo>
                    <a:lnTo>
                      <a:pt x="2190" y="336"/>
                    </a:lnTo>
                    <a:lnTo>
                      <a:pt x="2190" y="342"/>
                    </a:lnTo>
                    <a:lnTo>
                      <a:pt x="2184" y="342"/>
                    </a:lnTo>
                    <a:lnTo>
                      <a:pt x="2184" y="336"/>
                    </a:lnTo>
                    <a:lnTo>
                      <a:pt x="2178" y="336"/>
                    </a:lnTo>
                    <a:lnTo>
                      <a:pt x="2178" y="330"/>
                    </a:lnTo>
                    <a:lnTo>
                      <a:pt x="2172" y="330"/>
                    </a:lnTo>
                    <a:lnTo>
                      <a:pt x="2166" y="330"/>
                    </a:lnTo>
                    <a:lnTo>
                      <a:pt x="2160" y="330"/>
                    </a:lnTo>
                    <a:lnTo>
                      <a:pt x="2160" y="324"/>
                    </a:lnTo>
                    <a:lnTo>
                      <a:pt x="2154" y="324"/>
                    </a:lnTo>
                    <a:lnTo>
                      <a:pt x="2154" y="318"/>
                    </a:lnTo>
                    <a:lnTo>
                      <a:pt x="2148" y="318"/>
                    </a:lnTo>
                    <a:lnTo>
                      <a:pt x="2148" y="312"/>
                    </a:lnTo>
                    <a:lnTo>
                      <a:pt x="2142" y="312"/>
                    </a:lnTo>
                    <a:lnTo>
                      <a:pt x="2136" y="312"/>
                    </a:lnTo>
                    <a:lnTo>
                      <a:pt x="2130" y="306"/>
                    </a:lnTo>
                    <a:lnTo>
                      <a:pt x="2124" y="306"/>
                    </a:lnTo>
                    <a:lnTo>
                      <a:pt x="2118" y="300"/>
                    </a:lnTo>
                    <a:lnTo>
                      <a:pt x="2106" y="300"/>
                    </a:lnTo>
                    <a:lnTo>
                      <a:pt x="2100" y="300"/>
                    </a:lnTo>
                    <a:lnTo>
                      <a:pt x="2088" y="294"/>
                    </a:lnTo>
                    <a:lnTo>
                      <a:pt x="2082" y="294"/>
                    </a:lnTo>
                    <a:lnTo>
                      <a:pt x="2076" y="294"/>
                    </a:lnTo>
                    <a:lnTo>
                      <a:pt x="2070" y="294"/>
                    </a:lnTo>
                    <a:lnTo>
                      <a:pt x="2064" y="294"/>
                    </a:lnTo>
                    <a:lnTo>
                      <a:pt x="2052" y="288"/>
                    </a:lnTo>
                    <a:lnTo>
                      <a:pt x="2046" y="288"/>
                    </a:lnTo>
                    <a:lnTo>
                      <a:pt x="2040" y="288"/>
                    </a:lnTo>
                    <a:lnTo>
                      <a:pt x="2034" y="288"/>
                    </a:lnTo>
                    <a:lnTo>
                      <a:pt x="2022" y="282"/>
                    </a:lnTo>
                    <a:lnTo>
                      <a:pt x="2016" y="282"/>
                    </a:lnTo>
                    <a:lnTo>
                      <a:pt x="2010" y="282"/>
                    </a:lnTo>
                    <a:lnTo>
                      <a:pt x="2004" y="282"/>
                    </a:lnTo>
                    <a:lnTo>
                      <a:pt x="1992" y="282"/>
                    </a:lnTo>
                    <a:lnTo>
                      <a:pt x="1986" y="282"/>
                    </a:lnTo>
                    <a:lnTo>
                      <a:pt x="1980" y="282"/>
                    </a:lnTo>
                    <a:lnTo>
                      <a:pt x="1968" y="282"/>
                    </a:lnTo>
                    <a:lnTo>
                      <a:pt x="1962" y="282"/>
                    </a:lnTo>
                    <a:lnTo>
                      <a:pt x="1956" y="282"/>
                    </a:lnTo>
                    <a:lnTo>
                      <a:pt x="1944" y="282"/>
                    </a:lnTo>
                    <a:lnTo>
                      <a:pt x="1938" y="282"/>
                    </a:lnTo>
                    <a:lnTo>
                      <a:pt x="1932" y="282"/>
                    </a:lnTo>
                    <a:lnTo>
                      <a:pt x="1926" y="282"/>
                    </a:lnTo>
                    <a:lnTo>
                      <a:pt x="1914" y="288"/>
                    </a:lnTo>
                    <a:lnTo>
                      <a:pt x="1908" y="288"/>
                    </a:lnTo>
                    <a:lnTo>
                      <a:pt x="1902" y="288"/>
                    </a:lnTo>
                    <a:lnTo>
                      <a:pt x="1890" y="288"/>
                    </a:lnTo>
                    <a:lnTo>
                      <a:pt x="1884" y="288"/>
                    </a:lnTo>
                    <a:lnTo>
                      <a:pt x="1878" y="288"/>
                    </a:lnTo>
                    <a:lnTo>
                      <a:pt x="1872" y="288"/>
                    </a:lnTo>
                    <a:lnTo>
                      <a:pt x="1866" y="288"/>
                    </a:lnTo>
                    <a:lnTo>
                      <a:pt x="1866" y="294"/>
                    </a:lnTo>
                    <a:lnTo>
                      <a:pt x="1860" y="294"/>
                    </a:lnTo>
                    <a:lnTo>
                      <a:pt x="1854" y="294"/>
                    </a:lnTo>
                    <a:lnTo>
                      <a:pt x="1848" y="294"/>
                    </a:lnTo>
                    <a:lnTo>
                      <a:pt x="1842" y="300"/>
                    </a:lnTo>
                    <a:lnTo>
                      <a:pt x="1836" y="300"/>
                    </a:lnTo>
                    <a:lnTo>
                      <a:pt x="1830" y="300"/>
                    </a:lnTo>
                    <a:lnTo>
                      <a:pt x="1824" y="306"/>
                    </a:lnTo>
                    <a:lnTo>
                      <a:pt x="1818" y="306"/>
                    </a:lnTo>
                    <a:lnTo>
                      <a:pt x="1812" y="306"/>
                    </a:lnTo>
                    <a:lnTo>
                      <a:pt x="1806" y="306"/>
                    </a:lnTo>
                    <a:lnTo>
                      <a:pt x="1794" y="312"/>
                    </a:lnTo>
                    <a:lnTo>
                      <a:pt x="1776" y="318"/>
                    </a:lnTo>
                    <a:lnTo>
                      <a:pt x="1764" y="318"/>
                    </a:lnTo>
                    <a:lnTo>
                      <a:pt x="1758" y="324"/>
                    </a:lnTo>
                    <a:lnTo>
                      <a:pt x="1752" y="324"/>
                    </a:lnTo>
                    <a:lnTo>
                      <a:pt x="1746" y="324"/>
                    </a:lnTo>
                    <a:lnTo>
                      <a:pt x="1740" y="324"/>
                    </a:lnTo>
                    <a:lnTo>
                      <a:pt x="1734" y="330"/>
                    </a:lnTo>
                    <a:lnTo>
                      <a:pt x="1728" y="330"/>
                    </a:lnTo>
                    <a:lnTo>
                      <a:pt x="1722" y="330"/>
                    </a:lnTo>
                    <a:lnTo>
                      <a:pt x="1716" y="330"/>
                    </a:lnTo>
                    <a:lnTo>
                      <a:pt x="1710" y="330"/>
                    </a:lnTo>
                    <a:lnTo>
                      <a:pt x="1704" y="330"/>
                    </a:lnTo>
                    <a:lnTo>
                      <a:pt x="1698" y="330"/>
                    </a:lnTo>
                    <a:lnTo>
                      <a:pt x="1692" y="330"/>
                    </a:lnTo>
                    <a:lnTo>
                      <a:pt x="1686" y="324"/>
                    </a:lnTo>
                    <a:lnTo>
                      <a:pt x="1680" y="324"/>
                    </a:lnTo>
                    <a:lnTo>
                      <a:pt x="1674" y="324"/>
                    </a:lnTo>
                    <a:lnTo>
                      <a:pt x="1668" y="324"/>
                    </a:lnTo>
                    <a:lnTo>
                      <a:pt x="1662" y="318"/>
                    </a:lnTo>
                    <a:lnTo>
                      <a:pt x="1656" y="318"/>
                    </a:lnTo>
                    <a:lnTo>
                      <a:pt x="1650" y="318"/>
                    </a:lnTo>
                    <a:lnTo>
                      <a:pt x="1644" y="312"/>
                    </a:lnTo>
                    <a:lnTo>
                      <a:pt x="1638" y="312"/>
                    </a:lnTo>
                    <a:lnTo>
                      <a:pt x="1632" y="306"/>
                    </a:lnTo>
                    <a:lnTo>
                      <a:pt x="1626" y="306"/>
                    </a:lnTo>
                    <a:lnTo>
                      <a:pt x="1626" y="300"/>
                    </a:lnTo>
                    <a:lnTo>
                      <a:pt x="1620" y="300"/>
                    </a:lnTo>
                    <a:lnTo>
                      <a:pt x="1620" y="294"/>
                    </a:lnTo>
                    <a:lnTo>
                      <a:pt x="1614" y="294"/>
                    </a:lnTo>
                    <a:lnTo>
                      <a:pt x="1614" y="288"/>
                    </a:lnTo>
                    <a:lnTo>
                      <a:pt x="1614" y="282"/>
                    </a:lnTo>
                    <a:lnTo>
                      <a:pt x="1614" y="276"/>
                    </a:lnTo>
                    <a:lnTo>
                      <a:pt x="1614" y="270"/>
                    </a:lnTo>
                    <a:lnTo>
                      <a:pt x="1614" y="264"/>
                    </a:lnTo>
                    <a:lnTo>
                      <a:pt x="1614" y="258"/>
                    </a:lnTo>
                    <a:lnTo>
                      <a:pt x="1614" y="252"/>
                    </a:lnTo>
                    <a:lnTo>
                      <a:pt x="1608" y="246"/>
                    </a:lnTo>
                    <a:lnTo>
                      <a:pt x="1608" y="240"/>
                    </a:lnTo>
                    <a:lnTo>
                      <a:pt x="1608" y="234"/>
                    </a:lnTo>
                    <a:lnTo>
                      <a:pt x="1608" y="228"/>
                    </a:lnTo>
                    <a:lnTo>
                      <a:pt x="1602" y="228"/>
                    </a:lnTo>
                    <a:lnTo>
                      <a:pt x="1596" y="228"/>
                    </a:lnTo>
                    <a:lnTo>
                      <a:pt x="1590" y="228"/>
                    </a:lnTo>
                    <a:lnTo>
                      <a:pt x="1584" y="228"/>
                    </a:lnTo>
                    <a:lnTo>
                      <a:pt x="1578" y="228"/>
                    </a:lnTo>
                    <a:lnTo>
                      <a:pt x="1566" y="228"/>
                    </a:lnTo>
                    <a:lnTo>
                      <a:pt x="1560" y="228"/>
                    </a:lnTo>
                    <a:lnTo>
                      <a:pt x="1554" y="228"/>
                    </a:lnTo>
                    <a:lnTo>
                      <a:pt x="1548" y="228"/>
                    </a:lnTo>
                    <a:lnTo>
                      <a:pt x="1542" y="228"/>
                    </a:lnTo>
                    <a:lnTo>
                      <a:pt x="1536" y="228"/>
                    </a:lnTo>
                    <a:lnTo>
                      <a:pt x="1530" y="228"/>
                    </a:lnTo>
                    <a:lnTo>
                      <a:pt x="1524" y="228"/>
                    </a:lnTo>
                    <a:lnTo>
                      <a:pt x="1518" y="228"/>
                    </a:lnTo>
                    <a:lnTo>
                      <a:pt x="1512" y="228"/>
                    </a:lnTo>
                    <a:lnTo>
                      <a:pt x="1506" y="228"/>
                    </a:lnTo>
                    <a:lnTo>
                      <a:pt x="1500" y="228"/>
                    </a:lnTo>
                    <a:lnTo>
                      <a:pt x="1494" y="228"/>
                    </a:lnTo>
                    <a:lnTo>
                      <a:pt x="1488" y="228"/>
                    </a:lnTo>
                    <a:lnTo>
                      <a:pt x="1482" y="228"/>
                    </a:lnTo>
                    <a:lnTo>
                      <a:pt x="1476" y="228"/>
                    </a:lnTo>
                    <a:lnTo>
                      <a:pt x="1470" y="228"/>
                    </a:lnTo>
                    <a:lnTo>
                      <a:pt x="1470" y="222"/>
                    </a:lnTo>
                    <a:lnTo>
                      <a:pt x="1464" y="228"/>
                    </a:lnTo>
                    <a:lnTo>
                      <a:pt x="1458" y="228"/>
                    </a:lnTo>
                    <a:lnTo>
                      <a:pt x="1452" y="228"/>
                    </a:lnTo>
                    <a:lnTo>
                      <a:pt x="1446" y="228"/>
                    </a:lnTo>
                    <a:lnTo>
                      <a:pt x="1440" y="228"/>
                    </a:lnTo>
                    <a:lnTo>
                      <a:pt x="1434" y="228"/>
                    </a:lnTo>
                    <a:lnTo>
                      <a:pt x="1428" y="228"/>
                    </a:lnTo>
                    <a:lnTo>
                      <a:pt x="1422" y="228"/>
                    </a:lnTo>
                    <a:lnTo>
                      <a:pt x="1416" y="228"/>
                    </a:lnTo>
                    <a:lnTo>
                      <a:pt x="1410" y="228"/>
                    </a:lnTo>
                    <a:lnTo>
                      <a:pt x="1404" y="228"/>
                    </a:lnTo>
                    <a:lnTo>
                      <a:pt x="1398" y="222"/>
                    </a:lnTo>
                    <a:lnTo>
                      <a:pt x="1392" y="222"/>
                    </a:lnTo>
                    <a:lnTo>
                      <a:pt x="1386" y="222"/>
                    </a:lnTo>
                    <a:lnTo>
                      <a:pt x="1380" y="222"/>
                    </a:lnTo>
                    <a:lnTo>
                      <a:pt x="1374" y="222"/>
                    </a:lnTo>
                    <a:lnTo>
                      <a:pt x="1368" y="222"/>
                    </a:lnTo>
                    <a:lnTo>
                      <a:pt x="1356" y="228"/>
                    </a:lnTo>
                    <a:lnTo>
                      <a:pt x="1344" y="228"/>
                    </a:lnTo>
                    <a:lnTo>
                      <a:pt x="1332" y="228"/>
                    </a:lnTo>
                    <a:lnTo>
                      <a:pt x="1326" y="228"/>
                    </a:lnTo>
                    <a:lnTo>
                      <a:pt x="1314" y="228"/>
                    </a:lnTo>
                    <a:lnTo>
                      <a:pt x="1302" y="228"/>
                    </a:lnTo>
                    <a:lnTo>
                      <a:pt x="1290" y="228"/>
                    </a:lnTo>
                    <a:lnTo>
                      <a:pt x="1284" y="228"/>
                    </a:lnTo>
                    <a:lnTo>
                      <a:pt x="1272" y="228"/>
                    </a:lnTo>
                    <a:lnTo>
                      <a:pt x="1260" y="228"/>
                    </a:lnTo>
                    <a:lnTo>
                      <a:pt x="1248" y="228"/>
                    </a:lnTo>
                    <a:lnTo>
                      <a:pt x="1236" y="228"/>
                    </a:lnTo>
                    <a:lnTo>
                      <a:pt x="1218" y="228"/>
                    </a:lnTo>
                    <a:lnTo>
                      <a:pt x="1194" y="222"/>
                    </a:lnTo>
                    <a:lnTo>
                      <a:pt x="1170" y="222"/>
                    </a:lnTo>
                    <a:lnTo>
                      <a:pt x="1152" y="222"/>
                    </a:lnTo>
                    <a:lnTo>
                      <a:pt x="1128" y="222"/>
                    </a:lnTo>
                    <a:lnTo>
                      <a:pt x="1110" y="222"/>
                    </a:lnTo>
                    <a:lnTo>
                      <a:pt x="1098" y="222"/>
                    </a:lnTo>
                    <a:lnTo>
                      <a:pt x="1086" y="222"/>
                    </a:lnTo>
                    <a:lnTo>
                      <a:pt x="1074" y="222"/>
                    </a:lnTo>
                    <a:lnTo>
                      <a:pt x="1068" y="222"/>
                    </a:lnTo>
                    <a:lnTo>
                      <a:pt x="1056" y="222"/>
                    </a:lnTo>
                    <a:lnTo>
                      <a:pt x="1044" y="222"/>
                    </a:lnTo>
                    <a:lnTo>
                      <a:pt x="1032" y="222"/>
                    </a:lnTo>
                    <a:lnTo>
                      <a:pt x="1026" y="222"/>
                    </a:lnTo>
                    <a:lnTo>
                      <a:pt x="1020" y="222"/>
                    </a:lnTo>
                    <a:lnTo>
                      <a:pt x="990" y="222"/>
                    </a:lnTo>
                    <a:lnTo>
                      <a:pt x="966" y="222"/>
                    </a:lnTo>
                    <a:lnTo>
                      <a:pt x="936" y="222"/>
                    </a:lnTo>
                    <a:lnTo>
                      <a:pt x="912" y="222"/>
                    </a:lnTo>
                    <a:lnTo>
                      <a:pt x="882" y="222"/>
                    </a:lnTo>
                    <a:lnTo>
                      <a:pt x="858" y="222"/>
                    </a:lnTo>
                    <a:lnTo>
                      <a:pt x="828" y="222"/>
                    </a:lnTo>
                    <a:lnTo>
                      <a:pt x="804" y="222"/>
                    </a:lnTo>
                    <a:lnTo>
                      <a:pt x="798" y="222"/>
                    </a:lnTo>
                    <a:lnTo>
                      <a:pt x="792" y="222"/>
                    </a:lnTo>
                    <a:lnTo>
                      <a:pt x="786" y="222"/>
                    </a:lnTo>
                    <a:lnTo>
                      <a:pt x="780" y="222"/>
                    </a:lnTo>
                    <a:lnTo>
                      <a:pt x="774" y="222"/>
                    </a:lnTo>
                    <a:lnTo>
                      <a:pt x="768" y="222"/>
                    </a:lnTo>
                    <a:lnTo>
                      <a:pt x="762" y="222"/>
                    </a:lnTo>
                    <a:lnTo>
                      <a:pt x="750" y="222"/>
                    </a:lnTo>
                    <a:lnTo>
                      <a:pt x="744" y="222"/>
                    </a:lnTo>
                    <a:lnTo>
                      <a:pt x="732" y="222"/>
                    </a:lnTo>
                    <a:lnTo>
                      <a:pt x="720" y="222"/>
                    </a:lnTo>
                    <a:lnTo>
                      <a:pt x="714" y="216"/>
                    </a:lnTo>
                    <a:lnTo>
                      <a:pt x="702" y="216"/>
                    </a:lnTo>
                    <a:lnTo>
                      <a:pt x="690" y="216"/>
                    </a:lnTo>
                    <a:lnTo>
                      <a:pt x="684" y="216"/>
                    </a:lnTo>
                    <a:lnTo>
                      <a:pt x="672" y="216"/>
                    </a:lnTo>
                    <a:lnTo>
                      <a:pt x="666" y="216"/>
                    </a:lnTo>
                    <a:lnTo>
                      <a:pt x="660" y="216"/>
                    </a:lnTo>
                    <a:lnTo>
                      <a:pt x="654" y="216"/>
                    </a:lnTo>
                    <a:lnTo>
                      <a:pt x="648" y="216"/>
                    </a:lnTo>
                    <a:lnTo>
                      <a:pt x="594" y="216"/>
                    </a:lnTo>
                    <a:lnTo>
                      <a:pt x="594" y="222"/>
                    </a:lnTo>
                    <a:lnTo>
                      <a:pt x="594" y="228"/>
                    </a:lnTo>
                    <a:lnTo>
                      <a:pt x="594" y="234"/>
                    </a:lnTo>
                    <a:lnTo>
                      <a:pt x="594" y="240"/>
                    </a:lnTo>
                    <a:lnTo>
                      <a:pt x="594" y="246"/>
                    </a:lnTo>
                    <a:lnTo>
                      <a:pt x="594" y="252"/>
                    </a:lnTo>
                    <a:lnTo>
                      <a:pt x="594" y="258"/>
                    </a:lnTo>
                    <a:lnTo>
                      <a:pt x="594" y="264"/>
                    </a:lnTo>
                    <a:lnTo>
                      <a:pt x="588" y="270"/>
                    </a:lnTo>
                    <a:lnTo>
                      <a:pt x="594" y="270"/>
                    </a:lnTo>
                    <a:lnTo>
                      <a:pt x="594" y="276"/>
                    </a:lnTo>
                    <a:lnTo>
                      <a:pt x="594" y="282"/>
                    </a:lnTo>
                    <a:lnTo>
                      <a:pt x="594" y="288"/>
                    </a:lnTo>
                    <a:lnTo>
                      <a:pt x="588" y="294"/>
                    </a:lnTo>
                    <a:lnTo>
                      <a:pt x="588" y="300"/>
                    </a:lnTo>
                    <a:lnTo>
                      <a:pt x="588" y="306"/>
                    </a:lnTo>
                    <a:lnTo>
                      <a:pt x="582" y="306"/>
                    </a:lnTo>
                    <a:lnTo>
                      <a:pt x="576" y="312"/>
                    </a:lnTo>
                    <a:lnTo>
                      <a:pt x="570" y="318"/>
                    </a:lnTo>
                    <a:lnTo>
                      <a:pt x="564" y="318"/>
                    </a:lnTo>
                    <a:lnTo>
                      <a:pt x="558" y="324"/>
                    </a:lnTo>
                    <a:lnTo>
                      <a:pt x="552" y="324"/>
                    </a:lnTo>
                    <a:lnTo>
                      <a:pt x="546" y="330"/>
                    </a:lnTo>
                    <a:lnTo>
                      <a:pt x="540" y="330"/>
                    </a:lnTo>
                    <a:lnTo>
                      <a:pt x="528" y="330"/>
                    </a:lnTo>
                    <a:lnTo>
                      <a:pt x="522" y="330"/>
                    </a:lnTo>
                    <a:lnTo>
                      <a:pt x="516" y="336"/>
                    </a:lnTo>
                    <a:lnTo>
                      <a:pt x="510" y="336"/>
                    </a:lnTo>
                    <a:lnTo>
                      <a:pt x="504" y="336"/>
                    </a:lnTo>
                    <a:lnTo>
                      <a:pt x="498" y="336"/>
                    </a:lnTo>
                    <a:lnTo>
                      <a:pt x="492" y="336"/>
                    </a:lnTo>
                    <a:lnTo>
                      <a:pt x="486" y="336"/>
                    </a:lnTo>
                    <a:lnTo>
                      <a:pt x="480" y="336"/>
                    </a:lnTo>
                    <a:lnTo>
                      <a:pt x="474" y="336"/>
                    </a:lnTo>
                    <a:lnTo>
                      <a:pt x="462" y="336"/>
                    </a:lnTo>
                    <a:lnTo>
                      <a:pt x="456" y="336"/>
                    </a:lnTo>
                    <a:lnTo>
                      <a:pt x="444" y="330"/>
                    </a:lnTo>
                    <a:lnTo>
                      <a:pt x="432" y="330"/>
                    </a:lnTo>
                    <a:lnTo>
                      <a:pt x="420" y="330"/>
                    </a:lnTo>
                    <a:lnTo>
                      <a:pt x="408" y="330"/>
                    </a:lnTo>
                    <a:lnTo>
                      <a:pt x="402" y="324"/>
                    </a:lnTo>
                    <a:lnTo>
                      <a:pt x="396" y="324"/>
                    </a:lnTo>
                    <a:lnTo>
                      <a:pt x="390" y="324"/>
                    </a:lnTo>
                    <a:lnTo>
                      <a:pt x="384" y="324"/>
                    </a:lnTo>
                    <a:lnTo>
                      <a:pt x="378" y="324"/>
                    </a:lnTo>
                    <a:lnTo>
                      <a:pt x="372" y="318"/>
                    </a:lnTo>
                    <a:lnTo>
                      <a:pt x="366" y="318"/>
                    </a:lnTo>
                    <a:lnTo>
                      <a:pt x="360" y="318"/>
                    </a:lnTo>
                    <a:lnTo>
                      <a:pt x="354" y="312"/>
                    </a:lnTo>
                    <a:lnTo>
                      <a:pt x="348" y="312"/>
                    </a:lnTo>
                    <a:lnTo>
                      <a:pt x="342" y="312"/>
                    </a:lnTo>
                    <a:lnTo>
                      <a:pt x="336" y="312"/>
                    </a:lnTo>
                    <a:lnTo>
                      <a:pt x="324" y="306"/>
                    </a:lnTo>
                    <a:lnTo>
                      <a:pt x="312" y="306"/>
                    </a:lnTo>
                    <a:lnTo>
                      <a:pt x="300" y="300"/>
                    </a:lnTo>
                    <a:lnTo>
                      <a:pt x="282" y="300"/>
                    </a:lnTo>
                    <a:lnTo>
                      <a:pt x="258" y="294"/>
                    </a:lnTo>
                    <a:lnTo>
                      <a:pt x="234" y="288"/>
                    </a:lnTo>
                    <a:lnTo>
                      <a:pt x="222" y="288"/>
                    </a:lnTo>
                    <a:lnTo>
                      <a:pt x="210" y="282"/>
                    </a:lnTo>
                    <a:lnTo>
                      <a:pt x="198" y="282"/>
                    </a:lnTo>
                    <a:lnTo>
                      <a:pt x="186" y="282"/>
                    </a:lnTo>
                    <a:lnTo>
                      <a:pt x="180" y="282"/>
                    </a:lnTo>
                    <a:lnTo>
                      <a:pt x="174" y="282"/>
                    </a:lnTo>
                    <a:lnTo>
                      <a:pt x="168" y="282"/>
                    </a:lnTo>
                    <a:lnTo>
                      <a:pt x="162" y="282"/>
                    </a:lnTo>
                    <a:lnTo>
                      <a:pt x="156" y="282"/>
                    </a:lnTo>
                    <a:lnTo>
                      <a:pt x="150" y="282"/>
                    </a:lnTo>
                    <a:lnTo>
                      <a:pt x="144" y="282"/>
                    </a:lnTo>
                    <a:lnTo>
                      <a:pt x="138" y="282"/>
                    </a:lnTo>
                    <a:lnTo>
                      <a:pt x="132" y="282"/>
                    </a:lnTo>
                    <a:lnTo>
                      <a:pt x="132" y="288"/>
                    </a:lnTo>
                    <a:lnTo>
                      <a:pt x="126" y="288"/>
                    </a:lnTo>
                    <a:lnTo>
                      <a:pt x="120" y="288"/>
                    </a:lnTo>
                    <a:lnTo>
                      <a:pt x="114" y="294"/>
                    </a:lnTo>
                    <a:lnTo>
                      <a:pt x="102" y="294"/>
                    </a:lnTo>
                    <a:lnTo>
                      <a:pt x="96" y="300"/>
                    </a:lnTo>
                    <a:lnTo>
                      <a:pt x="90" y="306"/>
                    </a:lnTo>
                    <a:lnTo>
                      <a:pt x="84" y="306"/>
                    </a:lnTo>
                    <a:lnTo>
                      <a:pt x="78" y="312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54" y="312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60" y="294"/>
                    </a:lnTo>
                    <a:lnTo>
                      <a:pt x="60" y="288"/>
                    </a:lnTo>
                    <a:lnTo>
                      <a:pt x="66" y="282"/>
                    </a:lnTo>
                    <a:lnTo>
                      <a:pt x="66" y="276"/>
                    </a:lnTo>
                    <a:lnTo>
                      <a:pt x="72" y="264"/>
                    </a:lnTo>
                    <a:lnTo>
                      <a:pt x="72" y="258"/>
                    </a:lnTo>
                    <a:lnTo>
                      <a:pt x="78" y="258"/>
                    </a:lnTo>
                    <a:lnTo>
                      <a:pt x="78" y="252"/>
                    </a:lnTo>
                    <a:lnTo>
                      <a:pt x="78" y="246"/>
                    </a:lnTo>
                    <a:lnTo>
                      <a:pt x="84" y="246"/>
                    </a:lnTo>
                    <a:lnTo>
                      <a:pt x="84" y="240"/>
                    </a:lnTo>
                    <a:lnTo>
                      <a:pt x="90" y="234"/>
                    </a:lnTo>
                    <a:lnTo>
                      <a:pt x="96" y="228"/>
                    </a:lnTo>
                    <a:lnTo>
                      <a:pt x="132" y="204"/>
                    </a:lnTo>
                    <a:lnTo>
                      <a:pt x="126" y="198"/>
                    </a:lnTo>
                    <a:lnTo>
                      <a:pt x="120" y="198"/>
                    </a:lnTo>
                    <a:lnTo>
                      <a:pt x="114" y="192"/>
                    </a:lnTo>
                    <a:lnTo>
                      <a:pt x="108" y="192"/>
                    </a:lnTo>
                    <a:lnTo>
                      <a:pt x="102" y="192"/>
                    </a:lnTo>
                    <a:lnTo>
                      <a:pt x="96" y="192"/>
                    </a:lnTo>
                    <a:lnTo>
                      <a:pt x="90" y="192"/>
                    </a:lnTo>
                    <a:lnTo>
                      <a:pt x="84" y="192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60" y="198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36" y="204"/>
                    </a:lnTo>
                    <a:lnTo>
                      <a:pt x="30" y="204"/>
                    </a:lnTo>
                    <a:lnTo>
                      <a:pt x="24" y="210"/>
                    </a:lnTo>
                    <a:lnTo>
                      <a:pt x="18" y="210"/>
                    </a:lnTo>
                    <a:lnTo>
                      <a:pt x="6" y="21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6" y="192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18" y="174"/>
                    </a:lnTo>
                    <a:lnTo>
                      <a:pt x="24" y="168"/>
                    </a:lnTo>
                    <a:lnTo>
                      <a:pt x="42" y="144"/>
                    </a:lnTo>
                    <a:lnTo>
                      <a:pt x="48" y="138"/>
                    </a:lnTo>
                    <a:lnTo>
                      <a:pt x="54" y="138"/>
                    </a:lnTo>
                    <a:lnTo>
                      <a:pt x="60" y="132"/>
                    </a:lnTo>
                    <a:lnTo>
                      <a:pt x="66" y="126"/>
                    </a:lnTo>
                    <a:lnTo>
                      <a:pt x="78" y="126"/>
                    </a:lnTo>
                    <a:lnTo>
                      <a:pt x="84" y="120"/>
                    </a:lnTo>
                    <a:lnTo>
                      <a:pt x="90" y="114"/>
                    </a:lnTo>
                    <a:lnTo>
                      <a:pt x="96" y="114"/>
                    </a:lnTo>
                    <a:lnTo>
                      <a:pt x="108" y="114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38" y="108"/>
                    </a:lnTo>
                    <a:lnTo>
                      <a:pt x="144" y="108"/>
                    </a:lnTo>
                    <a:lnTo>
                      <a:pt x="156" y="108"/>
                    </a:lnTo>
                    <a:lnTo>
                      <a:pt x="162" y="108"/>
                    </a:lnTo>
                    <a:lnTo>
                      <a:pt x="168" y="108"/>
                    </a:lnTo>
                    <a:lnTo>
                      <a:pt x="180" y="108"/>
                    </a:lnTo>
                    <a:lnTo>
                      <a:pt x="186" y="108"/>
                    </a:lnTo>
                    <a:lnTo>
                      <a:pt x="192" y="108"/>
                    </a:lnTo>
                    <a:lnTo>
                      <a:pt x="210" y="108"/>
                    </a:lnTo>
                    <a:lnTo>
                      <a:pt x="228" y="108"/>
                    </a:lnTo>
                    <a:lnTo>
                      <a:pt x="234" y="108"/>
                    </a:lnTo>
                    <a:lnTo>
                      <a:pt x="246" y="114"/>
                    </a:lnTo>
                    <a:lnTo>
                      <a:pt x="252" y="114"/>
                    </a:lnTo>
                    <a:lnTo>
                      <a:pt x="264" y="114"/>
                    </a:lnTo>
                    <a:lnTo>
                      <a:pt x="270" y="114"/>
                    </a:lnTo>
                    <a:lnTo>
                      <a:pt x="276" y="114"/>
                    </a:lnTo>
                    <a:lnTo>
                      <a:pt x="288" y="114"/>
                    </a:lnTo>
                    <a:lnTo>
                      <a:pt x="294" y="114"/>
                    </a:lnTo>
                    <a:lnTo>
                      <a:pt x="294" y="108"/>
                    </a:lnTo>
                    <a:lnTo>
                      <a:pt x="288" y="108"/>
                    </a:lnTo>
                    <a:lnTo>
                      <a:pt x="288" y="102"/>
                    </a:lnTo>
                    <a:lnTo>
                      <a:pt x="288" y="96"/>
                    </a:lnTo>
                    <a:lnTo>
                      <a:pt x="282" y="90"/>
                    </a:lnTo>
                    <a:lnTo>
                      <a:pt x="282" y="84"/>
                    </a:lnTo>
                    <a:lnTo>
                      <a:pt x="276" y="84"/>
                    </a:lnTo>
                    <a:lnTo>
                      <a:pt x="276" y="78"/>
                    </a:lnTo>
                    <a:lnTo>
                      <a:pt x="276" y="72"/>
                    </a:lnTo>
                    <a:lnTo>
                      <a:pt x="270" y="72"/>
                    </a:lnTo>
                    <a:lnTo>
                      <a:pt x="270" y="66"/>
                    </a:lnTo>
                    <a:lnTo>
                      <a:pt x="264" y="66"/>
                    </a:lnTo>
                    <a:lnTo>
                      <a:pt x="264" y="60"/>
                    </a:lnTo>
                    <a:lnTo>
                      <a:pt x="264" y="54"/>
                    </a:lnTo>
                    <a:lnTo>
                      <a:pt x="264" y="48"/>
                    </a:lnTo>
                    <a:lnTo>
                      <a:pt x="264" y="42"/>
                    </a:lnTo>
                    <a:lnTo>
                      <a:pt x="264" y="36"/>
                    </a:lnTo>
                    <a:lnTo>
                      <a:pt x="270" y="36"/>
                    </a:lnTo>
                    <a:lnTo>
                      <a:pt x="270" y="30"/>
                    </a:lnTo>
                    <a:lnTo>
                      <a:pt x="270" y="24"/>
                    </a:lnTo>
                    <a:lnTo>
                      <a:pt x="276" y="24"/>
                    </a:lnTo>
                    <a:lnTo>
                      <a:pt x="276" y="18"/>
                    </a:lnTo>
                    <a:lnTo>
                      <a:pt x="282" y="12"/>
                    </a:lnTo>
                    <a:lnTo>
                      <a:pt x="288" y="12"/>
                    </a:lnTo>
                    <a:lnTo>
                      <a:pt x="294" y="6"/>
                    </a:lnTo>
                    <a:lnTo>
                      <a:pt x="300" y="6"/>
                    </a:lnTo>
                    <a:lnTo>
                      <a:pt x="306" y="0"/>
                    </a:lnTo>
                    <a:lnTo>
                      <a:pt x="312" y="0"/>
                    </a:lnTo>
                    <a:lnTo>
                      <a:pt x="318" y="0"/>
                    </a:lnTo>
                    <a:lnTo>
                      <a:pt x="324" y="0"/>
                    </a:lnTo>
                    <a:lnTo>
                      <a:pt x="330" y="0"/>
                    </a:lnTo>
                    <a:lnTo>
                      <a:pt x="336" y="0"/>
                    </a:lnTo>
                    <a:lnTo>
                      <a:pt x="342" y="0"/>
                    </a:lnTo>
                    <a:lnTo>
                      <a:pt x="348" y="0"/>
                    </a:lnTo>
                    <a:lnTo>
                      <a:pt x="372" y="0"/>
                    </a:lnTo>
                    <a:lnTo>
                      <a:pt x="390" y="0"/>
                    </a:lnTo>
                    <a:lnTo>
                      <a:pt x="396" y="0"/>
                    </a:lnTo>
                    <a:lnTo>
                      <a:pt x="402" y="0"/>
                    </a:lnTo>
                    <a:lnTo>
                      <a:pt x="408" y="0"/>
                    </a:lnTo>
                    <a:lnTo>
                      <a:pt x="414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8" y="0"/>
                    </a:lnTo>
                    <a:lnTo>
                      <a:pt x="450" y="0"/>
                    </a:lnTo>
                    <a:lnTo>
                      <a:pt x="462" y="0"/>
                    </a:lnTo>
                    <a:lnTo>
                      <a:pt x="474" y="0"/>
                    </a:lnTo>
                    <a:lnTo>
                      <a:pt x="486" y="0"/>
                    </a:lnTo>
                    <a:lnTo>
                      <a:pt x="498" y="0"/>
                    </a:lnTo>
                    <a:lnTo>
                      <a:pt x="510" y="0"/>
                    </a:lnTo>
                    <a:lnTo>
                      <a:pt x="522" y="0"/>
                    </a:lnTo>
                    <a:lnTo>
                      <a:pt x="546" y="0"/>
                    </a:lnTo>
                    <a:lnTo>
                      <a:pt x="570" y="0"/>
                    </a:lnTo>
                    <a:lnTo>
                      <a:pt x="594" y="0"/>
                    </a:lnTo>
                    <a:lnTo>
                      <a:pt x="618" y="0"/>
                    </a:lnTo>
                    <a:lnTo>
                      <a:pt x="636" y="6"/>
                    </a:lnTo>
                    <a:lnTo>
                      <a:pt x="660" y="6"/>
                    </a:lnTo>
                    <a:lnTo>
                      <a:pt x="684" y="6"/>
                    </a:lnTo>
                    <a:lnTo>
                      <a:pt x="708" y="6"/>
                    </a:lnTo>
                    <a:lnTo>
                      <a:pt x="720" y="6"/>
                    </a:lnTo>
                    <a:lnTo>
                      <a:pt x="732" y="6"/>
                    </a:lnTo>
                    <a:lnTo>
                      <a:pt x="744" y="6"/>
                    </a:lnTo>
                    <a:lnTo>
                      <a:pt x="756" y="6"/>
                    </a:lnTo>
                    <a:lnTo>
                      <a:pt x="768" y="6"/>
                    </a:lnTo>
                    <a:lnTo>
                      <a:pt x="780" y="6"/>
                    </a:lnTo>
                    <a:lnTo>
                      <a:pt x="792" y="6"/>
                    </a:lnTo>
                    <a:lnTo>
                      <a:pt x="804" y="6"/>
                    </a:lnTo>
                    <a:lnTo>
                      <a:pt x="822" y="6"/>
                    </a:lnTo>
                    <a:lnTo>
                      <a:pt x="834" y="6"/>
                    </a:lnTo>
                    <a:lnTo>
                      <a:pt x="846" y="6"/>
                    </a:lnTo>
                    <a:lnTo>
                      <a:pt x="864" y="6"/>
                    </a:lnTo>
                    <a:lnTo>
                      <a:pt x="876" y="6"/>
                    </a:lnTo>
                    <a:lnTo>
                      <a:pt x="888" y="6"/>
                    </a:lnTo>
                    <a:lnTo>
                      <a:pt x="906" y="6"/>
                    </a:lnTo>
                    <a:lnTo>
                      <a:pt x="918" y="6"/>
                    </a:lnTo>
                    <a:lnTo>
                      <a:pt x="942" y="6"/>
                    </a:lnTo>
                    <a:lnTo>
                      <a:pt x="972" y="6"/>
                    </a:lnTo>
                    <a:lnTo>
                      <a:pt x="984" y="6"/>
                    </a:lnTo>
                    <a:lnTo>
                      <a:pt x="1002" y="6"/>
                    </a:lnTo>
                    <a:lnTo>
                      <a:pt x="1014" y="6"/>
                    </a:lnTo>
                    <a:lnTo>
                      <a:pt x="1032" y="6"/>
                    </a:lnTo>
                    <a:lnTo>
                      <a:pt x="1038" y="6"/>
                    </a:lnTo>
                    <a:lnTo>
                      <a:pt x="1044" y="6"/>
                    </a:lnTo>
                    <a:lnTo>
                      <a:pt x="1050" y="12"/>
                    </a:lnTo>
                    <a:lnTo>
                      <a:pt x="1056" y="12"/>
                    </a:lnTo>
                    <a:lnTo>
                      <a:pt x="1062" y="12"/>
                    </a:lnTo>
                    <a:lnTo>
                      <a:pt x="1068" y="12"/>
                    </a:lnTo>
                    <a:lnTo>
                      <a:pt x="1074" y="12"/>
                    </a:lnTo>
                    <a:lnTo>
                      <a:pt x="1080" y="6"/>
                    </a:lnTo>
                    <a:lnTo>
                      <a:pt x="1080" y="12"/>
                    </a:lnTo>
                    <a:lnTo>
                      <a:pt x="1086" y="12"/>
                    </a:lnTo>
                    <a:lnTo>
                      <a:pt x="1092" y="12"/>
                    </a:lnTo>
                    <a:lnTo>
                      <a:pt x="1098" y="12"/>
                    </a:lnTo>
                    <a:lnTo>
                      <a:pt x="1092" y="12"/>
                    </a:lnTo>
                    <a:lnTo>
                      <a:pt x="1104" y="12"/>
                    </a:lnTo>
                    <a:lnTo>
                      <a:pt x="1110" y="12"/>
                    </a:lnTo>
                    <a:lnTo>
                      <a:pt x="1116" y="12"/>
                    </a:lnTo>
                    <a:lnTo>
                      <a:pt x="1128" y="12"/>
                    </a:lnTo>
                    <a:lnTo>
                      <a:pt x="1146" y="12"/>
                    </a:lnTo>
                    <a:lnTo>
                      <a:pt x="1164" y="12"/>
                    </a:lnTo>
                    <a:lnTo>
                      <a:pt x="1182" y="12"/>
                    </a:lnTo>
                    <a:lnTo>
                      <a:pt x="1200" y="12"/>
                    </a:lnTo>
                    <a:lnTo>
                      <a:pt x="1206" y="12"/>
                    </a:lnTo>
                    <a:lnTo>
                      <a:pt x="1218" y="12"/>
                    </a:lnTo>
                    <a:lnTo>
                      <a:pt x="1224" y="12"/>
                    </a:lnTo>
                    <a:lnTo>
                      <a:pt x="1230" y="12"/>
                    </a:lnTo>
                    <a:lnTo>
                      <a:pt x="1290" y="12"/>
                    </a:lnTo>
                    <a:lnTo>
                      <a:pt x="1344" y="12"/>
                    </a:lnTo>
                    <a:lnTo>
                      <a:pt x="1374" y="12"/>
                    </a:lnTo>
                    <a:lnTo>
                      <a:pt x="1404" y="12"/>
                    </a:lnTo>
                    <a:lnTo>
                      <a:pt x="1434" y="12"/>
                    </a:lnTo>
                    <a:lnTo>
                      <a:pt x="1464" y="12"/>
                    </a:lnTo>
                    <a:lnTo>
                      <a:pt x="1488" y="12"/>
                    </a:lnTo>
                    <a:lnTo>
                      <a:pt x="1518" y="6"/>
                    </a:lnTo>
                    <a:lnTo>
                      <a:pt x="1536" y="6"/>
                    </a:lnTo>
                    <a:lnTo>
                      <a:pt x="1548" y="6"/>
                    </a:lnTo>
                    <a:lnTo>
                      <a:pt x="1566" y="6"/>
                    </a:lnTo>
                    <a:lnTo>
                      <a:pt x="1578" y="6"/>
                    </a:lnTo>
                    <a:lnTo>
                      <a:pt x="1590" y="6"/>
                    </a:lnTo>
                    <a:lnTo>
                      <a:pt x="1608" y="6"/>
                    </a:lnTo>
                    <a:lnTo>
                      <a:pt x="1620" y="0"/>
                    </a:lnTo>
                    <a:lnTo>
                      <a:pt x="1638" y="0"/>
                    </a:lnTo>
                    <a:lnTo>
                      <a:pt x="1650" y="0"/>
                    </a:lnTo>
                    <a:lnTo>
                      <a:pt x="1668" y="0"/>
                    </a:lnTo>
                    <a:lnTo>
                      <a:pt x="1680" y="0"/>
                    </a:lnTo>
                    <a:lnTo>
                      <a:pt x="1692" y="0"/>
                    </a:lnTo>
                    <a:lnTo>
                      <a:pt x="1698" y="0"/>
                    </a:lnTo>
                    <a:lnTo>
                      <a:pt x="1704" y="0"/>
                    </a:lnTo>
                    <a:lnTo>
                      <a:pt x="1710" y="0"/>
                    </a:lnTo>
                    <a:lnTo>
                      <a:pt x="1716" y="0"/>
                    </a:lnTo>
                    <a:lnTo>
                      <a:pt x="1722" y="0"/>
                    </a:lnTo>
                    <a:lnTo>
                      <a:pt x="1728" y="0"/>
                    </a:lnTo>
                    <a:lnTo>
                      <a:pt x="1734" y="0"/>
                    </a:lnTo>
                    <a:lnTo>
                      <a:pt x="1740" y="0"/>
                    </a:lnTo>
                    <a:lnTo>
                      <a:pt x="1746" y="0"/>
                    </a:lnTo>
                    <a:lnTo>
                      <a:pt x="1758" y="0"/>
                    </a:lnTo>
                    <a:lnTo>
                      <a:pt x="1764" y="0"/>
                    </a:lnTo>
                    <a:lnTo>
                      <a:pt x="1770" y="0"/>
                    </a:lnTo>
                    <a:lnTo>
                      <a:pt x="1776" y="0"/>
                    </a:lnTo>
                    <a:lnTo>
                      <a:pt x="1782" y="0"/>
                    </a:lnTo>
                    <a:lnTo>
                      <a:pt x="1788" y="0"/>
                    </a:lnTo>
                    <a:lnTo>
                      <a:pt x="1794" y="0"/>
                    </a:lnTo>
                    <a:lnTo>
                      <a:pt x="1806" y="0"/>
                    </a:lnTo>
                    <a:lnTo>
                      <a:pt x="1818" y="0"/>
                    </a:lnTo>
                    <a:lnTo>
                      <a:pt x="1830" y="0"/>
                    </a:lnTo>
                    <a:lnTo>
                      <a:pt x="1836" y="0"/>
                    </a:lnTo>
                    <a:lnTo>
                      <a:pt x="1842" y="0"/>
                    </a:lnTo>
                    <a:lnTo>
                      <a:pt x="1848" y="0"/>
                    </a:lnTo>
                    <a:lnTo>
                      <a:pt x="1854" y="0"/>
                    </a:lnTo>
                    <a:lnTo>
                      <a:pt x="1860" y="0"/>
                    </a:lnTo>
                    <a:lnTo>
                      <a:pt x="1866" y="0"/>
                    </a:lnTo>
                    <a:lnTo>
                      <a:pt x="1872" y="0"/>
                    </a:lnTo>
                    <a:lnTo>
                      <a:pt x="1878" y="6"/>
                    </a:lnTo>
                    <a:lnTo>
                      <a:pt x="1884" y="6"/>
                    </a:lnTo>
                    <a:lnTo>
                      <a:pt x="1890" y="6"/>
                    </a:lnTo>
                    <a:lnTo>
                      <a:pt x="1890" y="12"/>
                    </a:lnTo>
                    <a:lnTo>
                      <a:pt x="1896" y="12"/>
                    </a:lnTo>
                    <a:lnTo>
                      <a:pt x="1902" y="12"/>
                    </a:lnTo>
                    <a:lnTo>
                      <a:pt x="1902" y="18"/>
                    </a:lnTo>
                    <a:lnTo>
                      <a:pt x="1908" y="24"/>
                    </a:lnTo>
                    <a:lnTo>
                      <a:pt x="1914" y="24"/>
                    </a:lnTo>
                    <a:lnTo>
                      <a:pt x="1914" y="30"/>
                    </a:lnTo>
                    <a:lnTo>
                      <a:pt x="192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09760" y="240840"/>
                <a:ext cx="1863720" cy="379440"/>
              </a:xfrm>
              <a:custGeom>
                <a:avLst/>
                <a:gdLst/>
                <a:ahLst/>
                <a:rect l="l" t="t" r="r" b="b"/>
                <a:pathLst>
                  <a:path w="1908" h="294">
                    <a:moveTo>
                      <a:pt x="1614" y="36"/>
                    </a:moveTo>
                    <a:lnTo>
                      <a:pt x="1614" y="42"/>
                    </a:lnTo>
                    <a:lnTo>
                      <a:pt x="1614" y="48"/>
                    </a:lnTo>
                    <a:lnTo>
                      <a:pt x="1614" y="54"/>
                    </a:lnTo>
                    <a:lnTo>
                      <a:pt x="1614" y="60"/>
                    </a:lnTo>
                    <a:lnTo>
                      <a:pt x="1614" y="66"/>
                    </a:lnTo>
                    <a:lnTo>
                      <a:pt x="1614" y="72"/>
                    </a:lnTo>
                    <a:lnTo>
                      <a:pt x="1614" y="78"/>
                    </a:lnTo>
                    <a:lnTo>
                      <a:pt x="1614" y="84"/>
                    </a:lnTo>
                    <a:lnTo>
                      <a:pt x="1614" y="90"/>
                    </a:lnTo>
                    <a:lnTo>
                      <a:pt x="1614" y="96"/>
                    </a:lnTo>
                    <a:lnTo>
                      <a:pt x="1614" y="102"/>
                    </a:lnTo>
                    <a:lnTo>
                      <a:pt x="1614" y="108"/>
                    </a:lnTo>
                    <a:lnTo>
                      <a:pt x="1614" y="114"/>
                    </a:lnTo>
                    <a:lnTo>
                      <a:pt x="1614" y="120"/>
                    </a:lnTo>
                    <a:lnTo>
                      <a:pt x="1620" y="120"/>
                    </a:lnTo>
                    <a:lnTo>
                      <a:pt x="1620" y="126"/>
                    </a:lnTo>
                    <a:lnTo>
                      <a:pt x="1626" y="132"/>
                    </a:lnTo>
                    <a:lnTo>
                      <a:pt x="1626" y="138"/>
                    </a:lnTo>
                    <a:lnTo>
                      <a:pt x="1626" y="144"/>
                    </a:lnTo>
                    <a:lnTo>
                      <a:pt x="1632" y="144"/>
                    </a:lnTo>
                    <a:lnTo>
                      <a:pt x="1632" y="150"/>
                    </a:lnTo>
                    <a:lnTo>
                      <a:pt x="1638" y="150"/>
                    </a:lnTo>
                    <a:lnTo>
                      <a:pt x="1638" y="156"/>
                    </a:lnTo>
                    <a:lnTo>
                      <a:pt x="1644" y="162"/>
                    </a:lnTo>
                    <a:lnTo>
                      <a:pt x="1650" y="168"/>
                    </a:lnTo>
                    <a:lnTo>
                      <a:pt x="1656" y="174"/>
                    </a:lnTo>
                    <a:lnTo>
                      <a:pt x="1656" y="180"/>
                    </a:lnTo>
                    <a:lnTo>
                      <a:pt x="1662" y="180"/>
                    </a:lnTo>
                    <a:lnTo>
                      <a:pt x="1662" y="186"/>
                    </a:lnTo>
                    <a:lnTo>
                      <a:pt x="1668" y="192"/>
                    </a:lnTo>
                    <a:lnTo>
                      <a:pt x="1668" y="198"/>
                    </a:lnTo>
                    <a:lnTo>
                      <a:pt x="1668" y="204"/>
                    </a:lnTo>
                    <a:lnTo>
                      <a:pt x="1668" y="210"/>
                    </a:lnTo>
                    <a:lnTo>
                      <a:pt x="1662" y="210"/>
                    </a:lnTo>
                    <a:lnTo>
                      <a:pt x="1662" y="216"/>
                    </a:lnTo>
                    <a:lnTo>
                      <a:pt x="1656" y="222"/>
                    </a:lnTo>
                    <a:lnTo>
                      <a:pt x="1650" y="222"/>
                    </a:lnTo>
                    <a:lnTo>
                      <a:pt x="1644" y="222"/>
                    </a:lnTo>
                    <a:lnTo>
                      <a:pt x="1632" y="222"/>
                    </a:lnTo>
                    <a:lnTo>
                      <a:pt x="1626" y="216"/>
                    </a:lnTo>
                    <a:lnTo>
                      <a:pt x="1620" y="216"/>
                    </a:lnTo>
                    <a:lnTo>
                      <a:pt x="1614" y="216"/>
                    </a:lnTo>
                    <a:lnTo>
                      <a:pt x="1596" y="216"/>
                    </a:lnTo>
                    <a:lnTo>
                      <a:pt x="1578" y="216"/>
                    </a:lnTo>
                    <a:lnTo>
                      <a:pt x="1566" y="216"/>
                    </a:lnTo>
                    <a:lnTo>
                      <a:pt x="1554" y="216"/>
                    </a:lnTo>
                    <a:lnTo>
                      <a:pt x="1542" y="216"/>
                    </a:lnTo>
                    <a:lnTo>
                      <a:pt x="1530" y="216"/>
                    </a:lnTo>
                    <a:lnTo>
                      <a:pt x="1524" y="216"/>
                    </a:lnTo>
                    <a:lnTo>
                      <a:pt x="1518" y="216"/>
                    </a:lnTo>
                    <a:lnTo>
                      <a:pt x="1512" y="216"/>
                    </a:lnTo>
                    <a:lnTo>
                      <a:pt x="1506" y="216"/>
                    </a:lnTo>
                    <a:lnTo>
                      <a:pt x="1500" y="216"/>
                    </a:lnTo>
                    <a:lnTo>
                      <a:pt x="1494" y="222"/>
                    </a:lnTo>
                    <a:lnTo>
                      <a:pt x="1488" y="222"/>
                    </a:lnTo>
                    <a:lnTo>
                      <a:pt x="1482" y="222"/>
                    </a:lnTo>
                    <a:lnTo>
                      <a:pt x="1476" y="222"/>
                    </a:lnTo>
                    <a:lnTo>
                      <a:pt x="1470" y="222"/>
                    </a:lnTo>
                    <a:lnTo>
                      <a:pt x="1464" y="228"/>
                    </a:lnTo>
                    <a:lnTo>
                      <a:pt x="1458" y="228"/>
                    </a:lnTo>
                    <a:lnTo>
                      <a:pt x="1452" y="228"/>
                    </a:lnTo>
                    <a:lnTo>
                      <a:pt x="1446" y="234"/>
                    </a:lnTo>
                    <a:lnTo>
                      <a:pt x="1440" y="234"/>
                    </a:lnTo>
                    <a:lnTo>
                      <a:pt x="1434" y="234"/>
                    </a:lnTo>
                    <a:lnTo>
                      <a:pt x="1428" y="240"/>
                    </a:lnTo>
                    <a:lnTo>
                      <a:pt x="1422" y="240"/>
                    </a:lnTo>
                    <a:lnTo>
                      <a:pt x="1422" y="246"/>
                    </a:lnTo>
                    <a:lnTo>
                      <a:pt x="1416" y="246"/>
                    </a:lnTo>
                    <a:lnTo>
                      <a:pt x="1410" y="252"/>
                    </a:lnTo>
                    <a:lnTo>
                      <a:pt x="1410" y="258"/>
                    </a:lnTo>
                    <a:lnTo>
                      <a:pt x="1404" y="258"/>
                    </a:lnTo>
                    <a:lnTo>
                      <a:pt x="1404" y="264"/>
                    </a:lnTo>
                    <a:lnTo>
                      <a:pt x="1398" y="264"/>
                    </a:lnTo>
                    <a:lnTo>
                      <a:pt x="1398" y="270"/>
                    </a:lnTo>
                    <a:lnTo>
                      <a:pt x="1404" y="270"/>
                    </a:lnTo>
                    <a:lnTo>
                      <a:pt x="1404" y="276"/>
                    </a:lnTo>
                    <a:lnTo>
                      <a:pt x="1416" y="276"/>
                    </a:lnTo>
                    <a:lnTo>
                      <a:pt x="1422" y="276"/>
                    </a:lnTo>
                    <a:lnTo>
                      <a:pt x="1428" y="276"/>
                    </a:lnTo>
                    <a:lnTo>
                      <a:pt x="1434" y="276"/>
                    </a:lnTo>
                    <a:lnTo>
                      <a:pt x="1440" y="276"/>
                    </a:lnTo>
                    <a:lnTo>
                      <a:pt x="1446" y="276"/>
                    </a:lnTo>
                    <a:lnTo>
                      <a:pt x="1452" y="270"/>
                    </a:lnTo>
                    <a:lnTo>
                      <a:pt x="1458" y="270"/>
                    </a:lnTo>
                    <a:lnTo>
                      <a:pt x="1464" y="270"/>
                    </a:lnTo>
                    <a:lnTo>
                      <a:pt x="1470" y="270"/>
                    </a:lnTo>
                    <a:lnTo>
                      <a:pt x="1476" y="270"/>
                    </a:lnTo>
                    <a:lnTo>
                      <a:pt x="1482" y="270"/>
                    </a:lnTo>
                    <a:lnTo>
                      <a:pt x="1482" y="264"/>
                    </a:lnTo>
                    <a:lnTo>
                      <a:pt x="1476" y="264"/>
                    </a:lnTo>
                    <a:lnTo>
                      <a:pt x="1464" y="264"/>
                    </a:lnTo>
                    <a:lnTo>
                      <a:pt x="1458" y="264"/>
                    </a:lnTo>
                    <a:lnTo>
                      <a:pt x="1452" y="264"/>
                    </a:lnTo>
                    <a:lnTo>
                      <a:pt x="1446" y="264"/>
                    </a:lnTo>
                    <a:lnTo>
                      <a:pt x="1440" y="264"/>
                    </a:lnTo>
                    <a:lnTo>
                      <a:pt x="1440" y="258"/>
                    </a:lnTo>
                    <a:lnTo>
                      <a:pt x="1446" y="258"/>
                    </a:lnTo>
                    <a:lnTo>
                      <a:pt x="1452" y="258"/>
                    </a:lnTo>
                    <a:lnTo>
                      <a:pt x="1458" y="252"/>
                    </a:lnTo>
                    <a:lnTo>
                      <a:pt x="1464" y="252"/>
                    </a:lnTo>
                    <a:lnTo>
                      <a:pt x="1464" y="246"/>
                    </a:lnTo>
                    <a:lnTo>
                      <a:pt x="1470" y="246"/>
                    </a:lnTo>
                    <a:lnTo>
                      <a:pt x="1476" y="240"/>
                    </a:lnTo>
                    <a:lnTo>
                      <a:pt x="1482" y="240"/>
                    </a:lnTo>
                    <a:lnTo>
                      <a:pt x="1488" y="240"/>
                    </a:lnTo>
                    <a:lnTo>
                      <a:pt x="1488" y="234"/>
                    </a:lnTo>
                    <a:lnTo>
                      <a:pt x="1494" y="234"/>
                    </a:lnTo>
                    <a:lnTo>
                      <a:pt x="1500" y="234"/>
                    </a:lnTo>
                    <a:lnTo>
                      <a:pt x="1506" y="234"/>
                    </a:lnTo>
                    <a:lnTo>
                      <a:pt x="1518" y="234"/>
                    </a:lnTo>
                    <a:lnTo>
                      <a:pt x="1536" y="234"/>
                    </a:lnTo>
                    <a:lnTo>
                      <a:pt x="1542" y="234"/>
                    </a:lnTo>
                    <a:lnTo>
                      <a:pt x="1548" y="234"/>
                    </a:lnTo>
                    <a:lnTo>
                      <a:pt x="1554" y="234"/>
                    </a:lnTo>
                    <a:lnTo>
                      <a:pt x="1560" y="228"/>
                    </a:lnTo>
                    <a:lnTo>
                      <a:pt x="1560" y="234"/>
                    </a:lnTo>
                    <a:lnTo>
                      <a:pt x="1566" y="234"/>
                    </a:lnTo>
                    <a:lnTo>
                      <a:pt x="1572" y="234"/>
                    </a:lnTo>
                    <a:lnTo>
                      <a:pt x="1578" y="234"/>
                    </a:lnTo>
                    <a:lnTo>
                      <a:pt x="1584" y="234"/>
                    </a:lnTo>
                    <a:lnTo>
                      <a:pt x="1590" y="234"/>
                    </a:lnTo>
                    <a:lnTo>
                      <a:pt x="1596" y="234"/>
                    </a:lnTo>
                    <a:lnTo>
                      <a:pt x="1602" y="234"/>
                    </a:lnTo>
                    <a:lnTo>
                      <a:pt x="1608" y="234"/>
                    </a:lnTo>
                    <a:lnTo>
                      <a:pt x="1614" y="234"/>
                    </a:lnTo>
                    <a:lnTo>
                      <a:pt x="1614" y="240"/>
                    </a:lnTo>
                    <a:lnTo>
                      <a:pt x="1620" y="240"/>
                    </a:lnTo>
                    <a:lnTo>
                      <a:pt x="1620" y="234"/>
                    </a:lnTo>
                    <a:lnTo>
                      <a:pt x="1626" y="234"/>
                    </a:lnTo>
                    <a:lnTo>
                      <a:pt x="1626" y="240"/>
                    </a:lnTo>
                    <a:lnTo>
                      <a:pt x="1632" y="240"/>
                    </a:lnTo>
                    <a:lnTo>
                      <a:pt x="1638" y="240"/>
                    </a:lnTo>
                    <a:lnTo>
                      <a:pt x="1644" y="240"/>
                    </a:lnTo>
                    <a:lnTo>
                      <a:pt x="1650" y="240"/>
                    </a:lnTo>
                    <a:lnTo>
                      <a:pt x="1656" y="240"/>
                    </a:lnTo>
                    <a:lnTo>
                      <a:pt x="1656" y="234"/>
                    </a:lnTo>
                    <a:lnTo>
                      <a:pt x="1662" y="234"/>
                    </a:lnTo>
                    <a:lnTo>
                      <a:pt x="1668" y="228"/>
                    </a:lnTo>
                    <a:lnTo>
                      <a:pt x="1674" y="228"/>
                    </a:lnTo>
                    <a:lnTo>
                      <a:pt x="1680" y="222"/>
                    </a:lnTo>
                    <a:lnTo>
                      <a:pt x="1686" y="222"/>
                    </a:lnTo>
                    <a:lnTo>
                      <a:pt x="1692" y="222"/>
                    </a:lnTo>
                    <a:lnTo>
                      <a:pt x="1698" y="216"/>
                    </a:lnTo>
                    <a:lnTo>
                      <a:pt x="1704" y="216"/>
                    </a:lnTo>
                    <a:lnTo>
                      <a:pt x="1710" y="216"/>
                    </a:lnTo>
                    <a:lnTo>
                      <a:pt x="1716" y="216"/>
                    </a:lnTo>
                    <a:lnTo>
                      <a:pt x="1722" y="210"/>
                    </a:lnTo>
                    <a:lnTo>
                      <a:pt x="1716" y="204"/>
                    </a:lnTo>
                    <a:lnTo>
                      <a:pt x="1710" y="204"/>
                    </a:lnTo>
                    <a:lnTo>
                      <a:pt x="1704" y="204"/>
                    </a:lnTo>
                    <a:lnTo>
                      <a:pt x="1698" y="210"/>
                    </a:lnTo>
                    <a:lnTo>
                      <a:pt x="1692" y="210"/>
                    </a:lnTo>
                    <a:lnTo>
                      <a:pt x="1698" y="204"/>
                    </a:lnTo>
                    <a:lnTo>
                      <a:pt x="1704" y="204"/>
                    </a:lnTo>
                    <a:lnTo>
                      <a:pt x="1710" y="198"/>
                    </a:lnTo>
                    <a:lnTo>
                      <a:pt x="1716" y="198"/>
                    </a:lnTo>
                    <a:lnTo>
                      <a:pt x="1716" y="192"/>
                    </a:lnTo>
                    <a:lnTo>
                      <a:pt x="1710" y="192"/>
                    </a:lnTo>
                    <a:lnTo>
                      <a:pt x="1704" y="192"/>
                    </a:lnTo>
                    <a:lnTo>
                      <a:pt x="1698" y="192"/>
                    </a:lnTo>
                    <a:lnTo>
                      <a:pt x="1692" y="192"/>
                    </a:lnTo>
                    <a:lnTo>
                      <a:pt x="1692" y="198"/>
                    </a:lnTo>
                    <a:lnTo>
                      <a:pt x="1692" y="192"/>
                    </a:lnTo>
                    <a:lnTo>
                      <a:pt x="1692" y="186"/>
                    </a:lnTo>
                    <a:lnTo>
                      <a:pt x="1698" y="186"/>
                    </a:lnTo>
                    <a:lnTo>
                      <a:pt x="1704" y="186"/>
                    </a:lnTo>
                    <a:lnTo>
                      <a:pt x="1704" y="180"/>
                    </a:lnTo>
                    <a:lnTo>
                      <a:pt x="1710" y="180"/>
                    </a:lnTo>
                    <a:lnTo>
                      <a:pt x="1716" y="180"/>
                    </a:lnTo>
                    <a:lnTo>
                      <a:pt x="1716" y="174"/>
                    </a:lnTo>
                    <a:lnTo>
                      <a:pt x="1722" y="174"/>
                    </a:lnTo>
                    <a:lnTo>
                      <a:pt x="1722" y="168"/>
                    </a:lnTo>
                    <a:lnTo>
                      <a:pt x="1722" y="162"/>
                    </a:lnTo>
                    <a:lnTo>
                      <a:pt x="1716" y="162"/>
                    </a:lnTo>
                    <a:lnTo>
                      <a:pt x="1710" y="162"/>
                    </a:lnTo>
                    <a:lnTo>
                      <a:pt x="1704" y="168"/>
                    </a:lnTo>
                    <a:lnTo>
                      <a:pt x="1698" y="168"/>
                    </a:lnTo>
                    <a:lnTo>
                      <a:pt x="1692" y="174"/>
                    </a:lnTo>
                    <a:lnTo>
                      <a:pt x="1686" y="174"/>
                    </a:lnTo>
                    <a:lnTo>
                      <a:pt x="1680" y="174"/>
                    </a:lnTo>
                    <a:lnTo>
                      <a:pt x="1674" y="174"/>
                    </a:lnTo>
                    <a:lnTo>
                      <a:pt x="1674" y="168"/>
                    </a:lnTo>
                    <a:lnTo>
                      <a:pt x="1674" y="162"/>
                    </a:lnTo>
                    <a:lnTo>
                      <a:pt x="1668" y="162"/>
                    </a:lnTo>
                    <a:lnTo>
                      <a:pt x="1680" y="156"/>
                    </a:lnTo>
                    <a:lnTo>
                      <a:pt x="1686" y="156"/>
                    </a:lnTo>
                    <a:lnTo>
                      <a:pt x="1692" y="156"/>
                    </a:lnTo>
                    <a:lnTo>
                      <a:pt x="1704" y="150"/>
                    </a:lnTo>
                    <a:lnTo>
                      <a:pt x="1710" y="150"/>
                    </a:lnTo>
                    <a:lnTo>
                      <a:pt x="1716" y="150"/>
                    </a:lnTo>
                    <a:lnTo>
                      <a:pt x="1722" y="144"/>
                    </a:lnTo>
                    <a:lnTo>
                      <a:pt x="1728" y="144"/>
                    </a:lnTo>
                    <a:lnTo>
                      <a:pt x="1734" y="144"/>
                    </a:lnTo>
                    <a:lnTo>
                      <a:pt x="1728" y="144"/>
                    </a:lnTo>
                    <a:lnTo>
                      <a:pt x="1722" y="138"/>
                    </a:lnTo>
                    <a:lnTo>
                      <a:pt x="1716" y="138"/>
                    </a:lnTo>
                    <a:lnTo>
                      <a:pt x="1710" y="138"/>
                    </a:lnTo>
                    <a:lnTo>
                      <a:pt x="1704" y="138"/>
                    </a:lnTo>
                    <a:lnTo>
                      <a:pt x="1698" y="144"/>
                    </a:lnTo>
                    <a:lnTo>
                      <a:pt x="1692" y="144"/>
                    </a:lnTo>
                    <a:lnTo>
                      <a:pt x="1686" y="144"/>
                    </a:lnTo>
                    <a:lnTo>
                      <a:pt x="1680" y="144"/>
                    </a:lnTo>
                    <a:lnTo>
                      <a:pt x="1674" y="144"/>
                    </a:lnTo>
                    <a:lnTo>
                      <a:pt x="1668" y="144"/>
                    </a:lnTo>
                    <a:lnTo>
                      <a:pt x="1662" y="144"/>
                    </a:lnTo>
                    <a:lnTo>
                      <a:pt x="1656" y="138"/>
                    </a:lnTo>
                    <a:lnTo>
                      <a:pt x="1662" y="138"/>
                    </a:lnTo>
                    <a:lnTo>
                      <a:pt x="1662" y="132"/>
                    </a:lnTo>
                    <a:lnTo>
                      <a:pt x="1668" y="132"/>
                    </a:lnTo>
                    <a:lnTo>
                      <a:pt x="1674" y="126"/>
                    </a:lnTo>
                    <a:lnTo>
                      <a:pt x="1680" y="126"/>
                    </a:lnTo>
                    <a:lnTo>
                      <a:pt x="1686" y="126"/>
                    </a:lnTo>
                    <a:lnTo>
                      <a:pt x="1692" y="126"/>
                    </a:lnTo>
                    <a:lnTo>
                      <a:pt x="1698" y="126"/>
                    </a:lnTo>
                    <a:lnTo>
                      <a:pt x="1704" y="126"/>
                    </a:lnTo>
                    <a:lnTo>
                      <a:pt x="1704" y="120"/>
                    </a:lnTo>
                    <a:lnTo>
                      <a:pt x="1710" y="120"/>
                    </a:lnTo>
                    <a:lnTo>
                      <a:pt x="1704" y="120"/>
                    </a:lnTo>
                    <a:lnTo>
                      <a:pt x="1698" y="120"/>
                    </a:lnTo>
                    <a:lnTo>
                      <a:pt x="1692" y="120"/>
                    </a:lnTo>
                    <a:lnTo>
                      <a:pt x="1686" y="120"/>
                    </a:lnTo>
                    <a:lnTo>
                      <a:pt x="1680" y="120"/>
                    </a:lnTo>
                    <a:lnTo>
                      <a:pt x="1674" y="120"/>
                    </a:lnTo>
                    <a:lnTo>
                      <a:pt x="1668" y="120"/>
                    </a:lnTo>
                    <a:lnTo>
                      <a:pt x="1662" y="126"/>
                    </a:lnTo>
                    <a:lnTo>
                      <a:pt x="1656" y="126"/>
                    </a:lnTo>
                    <a:lnTo>
                      <a:pt x="1650" y="126"/>
                    </a:lnTo>
                    <a:lnTo>
                      <a:pt x="1644" y="126"/>
                    </a:lnTo>
                    <a:lnTo>
                      <a:pt x="1644" y="120"/>
                    </a:lnTo>
                    <a:lnTo>
                      <a:pt x="1638" y="120"/>
                    </a:lnTo>
                    <a:lnTo>
                      <a:pt x="1638" y="114"/>
                    </a:lnTo>
                    <a:lnTo>
                      <a:pt x="1644" y="114"/>
                    </a:lnTo>
                    <a:lnTo>
                      <a:pt x="1650" y="108"/>
                    </a:lnTo>
                    <a:lnTo>
                      <a:pt x="1656" y="108"/>
                    </a:lnTo>
                    <a:lnTo>
                      <a:pt x="1662" y="102"/>
                    </a:lnTo>
                    <a:lnTo>
                      <a:pt x="1674" y="102"/>
                    </a:lnTo>
                    <a:lnTo>
                      <a:pt x="1686" y="96"/>
                    </a:lnTo>
                    <a:lnTo>
                      <a:pt x="1698" y="96"/>
                    </a:lnTo>
                    <a:lnTo>
                      <a:pt x="1704" y="96"/>
                    </a:lnTo>
                    <a:lnTo>
                      <a:pt x="1710" y="96"/>
                    </a:lnTo>
                    <a:lnTo>
                      <a:pt x="1716" y="96"/>
                    </a:lnTo>
                    <a:lnTo>
                      <a:pt x="1722" y="96"/>
                    </a:lnTo>
                    <a:lnTo>
                      <a:pt x="1728" y="96"/>
                    </a:lnTo>
                    <a:lnTo>
                      <a:pt x="1734" y="96"/>
                    </a:lnTo>
                    <a:lnTo>
                      <a:pt x="1740" y="96"/>
                    </a:lnTo>
                    <a:lnTo>
                      <a:pt x="1746" y="96"/>
                    </a:lnTo>
                    <a:lnTo>
                      <a:pt x="1752" y="96"/>
                    </a:lnTo>
                    <a:lnTo>
                      <a:pt x="1752" y="102"/>
                    </a:lnTo>
                    <a:lnTo>
                      <a:pt x="1758" y="102"/>
                    </a:lnTo>
                    <a:lnTo>
                      <a:pt x="1764" y="102"/>
                    </a:lnTo>
                    <a:lnTo>
                      <a:pt x="1770" y="102"/>
                    </a:lnTo>
                    <a:lnTo>
                      <a:pt x="1770" y="108"/>
                    </a:lnTo>
                    <a:lnTo>
                      <a:pt x="1776" y="108"/>
                    </a:lnTo>
                    <a:lnTo>
                      <a:pt x="1782" y="108"/>
                    </a:lnTo>
                    <a:lnTo>
                      <a:pt x="1788" y="108"/>
                    </a:lnTo>
                    <a:lnTo>
                      <a:pt x="1794" y="114"/>
                    </a:lnTo>
                    <a:lnTo>
                      <a:pt x="1800" y="114"/>
                    </a:lnTo>
                    <a:lnTo>
                      <a:pt x="1806" y="114"/>
                    </a:lnTo>
                    <a:lnTo>
                      <a:pt x="1812" y="120"/>
                    </a:lnTo>
                    <a:lnTo>
                      <a:pt x="1818" y="120"/>
                    </a:lnTo>
                    <a:lnTo>
                      <a:pt x="1824" y="126"/>
                    </a:lnTo>
                    <a:lnTo>
                      <a:pt x="1830" y="126"/>
                    </a:lnTo>
                    <a:lnTo>
                      <a:pt x="1836" y="126"/>
                    </a:lnTo>
                    <a:lnTo>
                      <a:pt x="1842" y="132"/>
                    </a:lnTo>
                    <a:lnTo>
                      <a:pt x="1848" y="132"/>
                    </a:lnTo>
                    <a:lnTo>
                      <a:pt x="1854" y="138"/>
                    </a:lnTo>
                    <a:lnTo>
                      <a:pt x="1860" y="138"/>
                    </a:lnTo>
                    <a:lnTo>
                      <a:pt x="1866" y="144"/>
                    </a:lnTo>
                    <a:lnTo>
                      <a:pt x="1872" y="144"/>
                    </a:lnTo>
                    <a:lnTo>
                      <a:pt x="1878" y="150"/>
                    </a:lnTo>
                    <a:lnTo>
                      <a:pt x="1884" y="156"/>
                    </a:lnTo>
                    <a:lnTo>
                      <a:pt x="1890" y="162"/>
                    </a:lnTo>
                    <a:lnTo>
                      <a:pt x="1896" y="162"/>
                    </a:lnTo>
                    <a:lnTo>
                      <a:pt x="1896" y="168"/>
                    </a:lnTo>
                    <a:lnTo>
                      <a:pt x="1902" y="168"/>
                    </a:lnTo>
                    <a:lnTo>
                      <a:pt x="1902" y="174"/>
                    </a:lnTo>
                    <a:lnTo>
                      <a:pt x="1908" y="174"/>
                    </a:lnTo>
                    <a:lnTo>
                      <a:pt x="1908" y="180"/>
                    </a:lnTo>
                    <a:lnTo>
                      <a:pt x="1902" y="174"/>
                    </a:lnTo>
                    <a:lnTo>
                      <a:pt x="1896" y="174"/>
                    </a:lnTo>
                    <a:lnTo>
                      <a:pt x="1890" y="174"/>
                    </a:lnTo>
                    <a:lnTo>
                      <a:pt x="1884" y="174"/>
                    </a:lnTo>
                    <a:lnTo>
                      <a:pt x="1878" y="168"/>
                    </a:lnTo>
                    <a:lnTo>
                      <a:pt x="1872" y="168"/>
                    </a:lnTo>
                    <a:lnTo>
                      <a:pt x="1866" y="168"/>
                    </a:lnTo>
                    <a:lnTo>
                      <a:pt x="1860" y="168"/>
                    </a:lnTo>
                    <a:lnTo>
                      <a:pt x="1854" y="168"/>
                    </a:lnTo>
                    <a:lnTo>
                      <a:pt x="1848" y="168"/>
                    </a:lnTo>
                    <a:lnTo>
                      <a:pt x="1842" y="168"/>
                    </a:lnTo>
                    <a:lnTo>
                      <a:pt x="1842" y="174"/>
                    </a:lnTo>
                    <a:lnTo>
                      <a:pt x="1836" y="174"/>
                    </a:lnTo>
                    <a:lnTo>
                      <a:pt x="1830" y="174"/>
                    </a:lnTo>
                    <a:lnTo>
                      <a:pt x="1824" y="174"/>
                    </a:lnTo>
                    <a:lnTo>
                      <a:pt x="1824" y="180"/>
                    </a:lnTo>
                    <a:lnTo>
                      <a:pt x="1818" y="174"/>
                    </a:lnTo>
                    <a:lnTo>
                      <a:pt x="1812" y="174"/>
                    </a:lnTo>
                    <a:lnTo>
                      <a:pt x="1812" y="180"/>
                    </a:lnTo>
                    <a:lnTo>
                      <a:pt x="1806" y="180"/>
                    </a:lnTo>
                    <a:lnTo>
                      <a:pt x="1806" y="186"/>
                    </a:lnTo>
                    <a:lnTo>
                      <a:pt x="1800" y="186"/>
                    </a:lnTo>
                    <a:lnTo>
                      <a:pt x="1800" y="192"/>
                    </a:lnTo>
                    <a:lnTo>
                      <a:pt x="1806" y="192"/>
                    </a:lnTo>
                    <a:lnTo>
                      <a:pt x="1806" y="198"/>
                    </a:lnTo>
                    <a:lnTo>
                      <a:pt x="1812" y="198"/>
                    </a:lnTo>
                    <a:lnTo>
                      <a:pt x="1818" y="204"/>
                    </a:lnTo>
                    <a:lnTo>
                      <a:pt x="1824" y="210"/>
                    </a:lnTo>
                    <a:lnTo>
                      <a:pt x="1830" y="216"/>
                    </a:lnTo>
                    <a:lnTo>
                      <a:pt x="1830" y="222"/>
                    </a:lnTo>
                    <a:lnTo>
                      <a:pt x="1836" y="222"/>
                    </a:lnTo>
                    <a:lnTo>
                      <a:pt x="1836" y="228"/>
                    </a:lnTo>
                    <a:lnTo>
                      <a:pt x="1842" y="234"/>
                    </a:lnTo>
                    <a:lnTo>
                      <a:pt x="1842" y="240"/>
                    </a:lnTo>
                    <a:lnTo>
                      <a:pt x="1848" y="240"/>
                    </a:lnTo>
                    <a:lnTo>
                      <a:pt x="1848" y="246"/>
                    </a:lnTo>
                    <a:lnTo>
                      <a:pt x="1854" y="252"/>
                    </a:lnTo>
                    <a:lnTo>
                      <a:pt x="1854" y="258"/>
                    </a:lnTo>
                    <a:lnTo>
                      <a:pt x="1854" y="264"/>
                    </a:lnTo>
                    <a:lnTo>
                      <a:pt x="1860" y="270"/>
                    </a:lnTo>
                    <a:lnTo>
                      <a:pt x="1866" y="276"/>
                    </a:lnTo>
                    <a:lnTo>
                      <a:pt x="1872" y="288"/>
                    </a:lnTo>
                    <a:lnTo>
                      <a:pt x="1866" y="288"/>
                    </a:lnTo>
                    <a:lnTo>
                      <a:pt x="1860" y="288"/>
                    </a:lnTo>
                    <a:lnTo>
                      <a:pt x="1860" y="282"/>
                    </a:lnTo>
                    <a:lnTo>
                      <a:pt x="1848" y="282"/>
                    </a:lnTo>
                    <a:lnTo>
                      <a:pt x="1842" y="276"/>
                    </a:lnTo>
                    <a:lnTo>
                      <a:pt x="1836" y="276"/>
                    </a:lnTo>
                    <a:lnTo>
                      <a:pt x="1830" y="270"/>
                    </a:lnTo>
                    <a:lnTo>
                      <a:pt x="1824" y="270"/>
                    </a:lnTo>
                    <a:lnTo>
                      <a:pt x="1818" y="270"/>
                    </a:lnTo>
                    <a:lnTo>
                      <a:pt x="1806" y="264"/>
                    </a:lnTo>
                    <a:lnTo>
                      <a:pt x="1800" y="264"/>
                    </a:lnTo>
                    <a:lnTo>
                      <a:pt x="1788" y="264"/>
                    </a:lnTo>
                    <a:lnTo>
                      <a:pt x="1782" y="264"/>
                    </a:lnTo>
                    <a:lnTo>
                      <a:pt x="1776" y="264"/>
                    </a:lnTo>
                    <a:lnTo>
                      <a:pt x="1764" y="264"/>
                    </a:lnTo>
                    <a:lnTo>
                      <a:pt x="1758" y="264"/>
                    </a:lnTo>
                    <a:lnTo>
                      <a:pt x="1752" y="258"/>
                    </a:lnTo>
                    <a:lnTo>
                      <a:pt x="1734" y="258"/>
                    </a:lnTo>
                    <a:lnTo>
                      <a:pt x="1722" y="252"/>
                    </a:lnTo>
                    <a:lnTo>
                      <a:pt x="1704" y="252"/>
                    </a:lnTo>
                    <a:lnTo>
                      <a:pt x="1692" y="246"/>
                    </a:lnTo>
                    <a:lnTo>
                      <a:pt x="1680" y="246"/>
                    </a:lnTo>
                    <a:lnTo>
                      <a:pt x="1674" y="246"/>
                    </a:lnTo>
                    <a:lnTo>
                      <a:pt x="1668" y="246"/>
                    </a:lnTo>
                    <a:lnTo>
                      <a:pt x="1662" y="246"/>
                    </a:lnTo>
                    <a:lnTo>
                      <a:pt x="1650" y="246"/>
                    </a:lnTo>
                    <a:lnTo>
                      <a:pt x="1644" y="246"/>
                    </a:lnTo>
                    <a:lnTo>
                      <a:pt x="1638" y="246"/>
                    </a:lnTo>
                    <a:lnTo>
                      <a:pt x="1632" y="246"/>
                    </a:lnTo>
                    <a:lnTo>
                      <a:pt x="1620" y="246"/>
                    </a:lnTo>
                    <a:lnTo>
                      <a:pt x="1614" y="246"/>
                    </a:lnTo>
                    <a:lnTo>
                      <a:pt x="1608" y="246"/>
                    </a:lnTo>
                    <a:lnTo>
                      <a:pt x="1602" y="252"/>
                    </a:lnTo>
                    <a:lnTo>
                      <a:pt x="1590" y="252"/>
                    </a:lnTo>
                    <a:lnTo>
                      <a:pt x="1584" y="252"/>
                    </a:lnTo>
                    <a:lnTo>
                      <a:pt x="1578" y="258"/>
                    </a:lnTo>
                    <a:lnTo>
                      <a:pt x="1566" y="258"/>
                    </a:lnTo>
                    <a:lnTo>
                      <a:pt x="1566" y="264"/>
                    </a:lnTo>
                    <a:lnTo>
                      <a:pt x="1560" y="264"/>
                    </a:lnTo>
                    <a:lnTo>
                      <a:pt x="1554" y="264"/>
                    </a:lnTo>
                    <a:lnTo>
                      <a:pt x="1548" y="270"/>
                    </a:lnTo>
                    <a:lnTo>
                      <a:pt x="1542" y="270"/>
                    </a:lnTo>
                    <a:lnTo>
                      <a:pt x="1536" y="270"/>
                    </a:lnTo>
                    <a:lnTo>
                      <a:pt x="1530" y="270"/>
                    </a:lnTo>
                    <a:lnTo>
                      <a:pt x="1524" y="270"/>
                    </a:lnTo>
                    <a:lnTo>
                      <a:pt x="1518" y="270"/>
                    </a:lnTo>
                    <a:lnTo>
                      <a:pt x="1512" y="270"/>
                    </a:lnTo>
                    <a:lnTo>
                      <a:pt x="1512" y="276"/>
                    </a:lnTo>
                    <a:lnTo>
                      <a:pt x="1506" y="276"/>
                    </a:lnTo>
                    <a:lnTo>
                      <a:pt x="1500" y="276"/>
                    </a:lnTo>
                    <a:lnTo>
                      <a:pt x="1494" y="276"/>
                    </a:lnTo>
                    <a:lnTo>
                      <a:pt x="1488" y="276"/>
                    </a:lnTo>
                    <a:lnTo>
                      <a:pt x="1482" y="282"/>
                    </a:lnTo>
                    <a:lnTo>
                      <a:pt x="1476" y="282"/>
                    </a:lnTo>
                    <a:lnTo>
                      <a:pt x="1470" y="282"/>
                    </a:lnTo>
                    <a:lnTo>
                      <a:pt x="1464" y="282"/>
                    </a:lnTo>
                    <a:lnTo>
                      <a:pt x="1458" y="282"/>
                    </a:lnTo>
                    <a:lnTo>
                      <a:pt x="1452" y="288"/>
                    </a:lnTo>
                    <a:lnTo>
                      <a:pt x="1446" y="288"/>
                    </a:lnTo>
                    <a:lnTo>
                      <a:pt x="1434" y="288"/>
                    </a:lnTo>
                    <a:lnTo>
                      <a:pt x="1422" y="288"/>
                    </a:lnTo>
                    <a:lnTo>
                      <a:pt x="1410" y="288"/>
                    </a:lnTo>
                    <a:lnTo>
                      <a:pt x="1398" y="288"/>
                    </a:lnTo>
                    <a:lnTo>
                      <a:pt x="1398" y="294"/>
                    </a:lnTo>
                    <a:lnTo>
                      <a:pt x="1398" y="288"/>
                    </a:lnTo>
                    <a:lnTo>
                      <a:pt x="1392" y="288"/>
                    </a:lnTo>
                    <a:lnTo>
                      <a:pt x="1386" y="288"/>
                    </a:lnTo>
                    <a:lnTo>
                      <a:pt x="1380" y="288"/>
                    </a:lnTo>
                    <a:lnTo>
                      <a:pt x="1374" y="282"/>
                    </a:lnTo>
                    <a:lnTo>
                      <a:pt x="1368" y="282"/>
                    </a:lnTo>
                    <a:lnTo>
                      <a:pt x="1362" y="282"/>
                    </a:lnTo>
                    <a:lnTo>
                      <a:pt x="1356" y="276"/>
                    </a:lnTo>
                    <a:lnTo>
                      <a:pt x="1350" y="276"/>
                    </a:lnTo>
                    <a:lnTo>
                      <a:pt x="1344" y="270"/>
                    </a:lnTo>
                    <a:lnTo>
                      <a:pt x="1344" y="264"/>
                    </a:lnTo>
                    <a:lnTo>
                      <a:pt x="1344" y="258"/>
                    </a:lnTo>
                    <a:lnTo>
                      <a:pt x="1344" y="246"/>
                    </a:lnTo>
                    <a:lnTo>
                      <a:pt x="1344" y="240"/>
                    </a:lnTo>
                    <a:lnTo>
                      <a:pt x="1344" y="234"/>
                    </a:lnTo>
                    <a:lnTo>
                      <a:pt x="1344" y="228"/>
                    </a:lnTo>
                    <a:lnTo>
                      <a:pt x="1344" y="222"/>
                    </a:lnTo>
                    <a:lnTo>
                      <a:pt x="1344" y="216"/>
                    </a:lnTo>
                    <a:lnTo>
                      <a:pt x="1344" y="210"/>
                    </a:lnTo>
                    <a:lnTo>
                      <a:pt x="1344" y="204"/>
                    </a:lnTo>
                    <a:lnTo>
                      <a:pt x="1356" y="204"/>
                    </a:lnTo>
                    <a:lnTo>
                      <a:pt x="1350" y="204"/>
                    </a:lnTo>
                    <a:lnTo>
                      <a:pt x="1350" y="210"/>
                    </a:lnTo>
                    <a:lnTo>
                      <a:pt x="1350" y="216"/>
                    </a:lnTo>
                    <a:lnTo>
                      <a:pt x="1356" y="216"/>
                    </a:lnTo>
                    <a:lnTo>
                      <a:pt x="1362" y="216"/>
                    </a:lnTo>
                    <a:lnTo>
                      <a:pt x="1368" y="210"/>
                    </a:lnTo>
                    <a:lnTo>
                      <a:pt x="1374" y="210"/>
                    </a:lnTo>
                    <a:lnTo>
                      <a:pt x="1380" y="204"/>
                    </a:lnTo>
                    <a:lnTo>
                      <a:pt x="1386" y="204"/>
                    </a:lnTo>
                    <a:lnTo>
                      <a:pt x="1392" y="204"/>
                    </a:lnTo>
                    <a:lnTo>
                      <a:pt x="1398" y="204"/>
                    </a:lnTo>
                    <a:lnTo>
                      <a:pt x="1404" y="204"/>
                    </a:lnTo>
                    <a:lnTo>
                      <a:pt x="1398" y="204"/>
                    </a:lnTo>
                    <a:lnTo>
                      <a:pt x="1392" y="204"/>
                    </a:lnTo>
                    <a:lnTo>
                      <a:pt x="1392" y="210"/>
                    </a:lnTo>
                    <a:lnTo>
                      <a:pt x="1386" y="210"/>
                    </a:lnTo>
                    <a:lnTo>
                      <a:pt x="1380" y="210"/>
                    </a:lnTo>
                    <a:lnTo>
                      <a:pt x="1374" y="210"/>
                    </a:lnTo>
                    <a:lnTo>
                      <a:pt x="1368" y="216"/>
                    </a:lnTo>
                    <a:lnTo>
                      <a:pt x="1362" y="216"/>
                    </a:lnTo>
                    <a:lnTo>
                      <a:pt x="1362" y="222"/>
                    </a:lnTo>
                    <a:lnTo>
                      <a:pt x="1356" y="222"/>
                    </a:lnTo>
                    <a:lnTo>
                      <a:pt x="1356" y="228"/>
                    </a:lnTo>
                    <a:lnTo>
                      <a:pt x="1356" y="234"/>
                    </a:lnTo>
                    <a:lnTo>
                      <a:pt x="1356" y="240"/>
                    </a:lnTo>
                    <a:lnTo>
                      <a:pt x="1362" y="240"/>
                    </a:lnTo>
                    <a:lnTo>
                      <a:pt x="1368" y="240"/>
                    </a:lnTo>
                    <a:lnTo>
                      <a:pt x="1368" y="234"/>
                    </a:lnTo>
                    <a:lnTo>
                      <a:pt x="1374" y="234"/>
                    </a:lnTo>
                    <a:lnTo>
                      <a:pt x="1380" y="228"/>
                    </a:lnTo>
                    <a:lnTo>
                      <a:pt x="1386" y="222"/>
                    </a:lnTo>
                    <a:lnTo>
                      <a:pt x="1392" y="222"/>
                    </a:lnTo>
                    <a:lnTo>
                      <a:pt x="1398" y="216"/>
                    </a:lnTo>
                    <a:lnTo>
                      <a:pt x="1404" y="216"/>
                    </a:lnTo>
                    <a:lnTo>
                      <a:pt x="1404" y="210"/>
                    </a:lnTo>
                    <a:lnTo>
                      <a:pt x="1410" y="210"/>
                    </a:lnTo>
                    <a:lnTo>
                      <a:pt x="1416" y="210"/>
                    </a:lnTo>
                    <a:lnTo>
                      <a:pt x="1416" y="204"/>
                    </a:lnTo>
                    <a:lnTo>
                      <a:pt x="1422" y="204"/>
                    </a:lnTo>
                    <a:lnTo>
                      <a:pt x="1428" y="204"/>
                    </a:lnTo>
                    <a:lnTo>
                      <a:pt x="1434" y="204"/>
                    </a:lnTo>
                    <a:lnTo>
                      <a:pt x="1440" y="204"/>
                    </a:lnTo>
                    <a:lnTo>
                      <a:pt x="1446" y="204"/>
                    </a:lnTo>
                    <a:lnTo>
                      <a:pt x="1458" y="204"/>
                    </a:lnTo>
                    <a:lnTo>
                      <a:pt x="1464" y="204"/>
                    </a:lnTo>
                    <a:lnTo>
                      <a:pt x="1470" y="204"/>
                    </a:lnTo>
                    <a:lnTo>
                      <a:pt x="1470" y="210"/>
                    </a:lnTo>
                    <a:lnTo>
                      <a:pt x="1476" y="210"/>
                    </a:lnTo>
                    <a:lnTo>
                      <a:pt x="1482" y="210"/>
                    </a:lnTo>
                    <a:lnTo>
                      <a:pt x="1482" y="204"/>
                    </a:lnTo>
                    <a:lnTo>
                      <a:pt x="1488" y="204"/>
                    </a:lnTo>
                    <a:lnTo>
                      <a:pt x="1494" y="204"/>
                    </a:lnTo>
                    <a:lnTo>
                      <a:pt x="1500" y="204"/>
                    </a:lnTo>
                    <a:lnTo>
                      <a:pt x="1506" y="204"/>
                    </a:lnTo>
                    <a:lnTo>
                      <a:pt x="1512" y="204"/>
                    </a:lnTo>
                    <a:lnTo>
                      <a:pt x="1518" y="210"/>
                    </a:lnTo>
                    <a:lnTo>
                      <a:pt x="1524" y="210"/>
                    </a:lnTo>
                    <a:lnTo>
                      <a:pt x="1530" y="210"/>
                    </a:lnTo>
                    <a:lnTo>
                      <a:pt x="1536" y="210"/>
                    </a:lnTo>
                    <a:lnTo>
                      <a:pt x="1536" y="216"/>
                    </a:lnTo>
                    <a:lnTo>
                      <a:pt x="1542" y="216"/>
                    </a:lnTo>
                    <a:lnTo>
                      <a:pt x="1548" y="216"/>
                    </a:lnTo>
                    <a:lnTo>
                      <a:pt x="1554" y="216"/>
                    </a:lnTo>
                    <a:lnTo>
                      <a:pt x="1560" y="210"/>
                    </a:lnTo>
                    <a:lnTo>
                      <a:pt x="1566" y="210"/>
                    </a:lnTo>
                    <a:lnTo>
                      <a:pt x="1572" y="210"/>
                    </a:lnTo>
                    <a:lnTo>
                      <a:pt x="1584" y="204"/>
                    </a:lnTo>
                    <a:lnTo>
                      <a:pt x="1590" y="204"/>
                    </a:lnTo>
                    <a:lnTo>
                      <a:pt x="1596" y="204"/>
                    </a:lnTo>
                    <a:lnTo>
                      <a:pt x="1602" y="198"/>
                    </a:lnTo>
                    <a:lnTo>
                      <a:pt x="1608" y="198"/>
                    </a:lnTo>
                    <a:lnTo>
                      <a:pt x="1620" y="198"/>
                    </a:lnTo>
                    <a:lnTo>
                      <a:pt x="1626" y="198"/>
                    </a:lnTo>
                    <a:lnTo>
                      <a:pt x="1626" y="204"/>
                    </a:lnTo>
                    <a:lnTo>
                      <a:pt x="1626" y="210"/>
                    </a:lnTo>
                    <a:lnTo>
                      <a:pt x="1632" y="210"/>
                    </a:lnTo>
                    <a:lnTo>
                      <a:pt x="1632" y="216"/>
                    </a:lnTo>
                    <a:lnTo>
                      <a:pt x="1638" y="216"/>
                    </a:lnTo>
                    <a:lnTo>
                      <a:pt x="1638" y="210"/>
                    </a:lnTo>
                    <a:lnTo>
                      <a:pt x="1644" y="210"/>
                    </a:lnTo>
                    <a:lnTo>
                      <a:pt x="1644" y="204"/>
                    </a:lnTo>
                    <a:lnTo>
                      <a:pt x="1650" y="204"/>
                    </a:lnTo>
                    <a:lnTo>
                      <a:pt x="1650" y="198"/>
                    </a:lnTo>
                    <a:lnTo>
                      <a:pt x="1644" y="198"/>
                    </a:lnTo>
                    <a:lnTo>
                      <a:pt x="1638" y="198"/>
                    </a:lnTo>
                    <a:lnTo>
                      <a:pt x="1638" y="192"/>
                    </a:lnTo>
                    <a:lnTo>
                      <a:pt x="1632" y="192"/>
                    </a:lnTo>
                    <a:lnTo>
                      <a:pt x="1626" y="186"/>
                    </a:lnTo>
                    <a:lnTo>
                      <a:pt x="1620" y="186"/>
                    </a:lnTo>
                    <a:lnTo>
                      <a:pt x="1614" y="180"/>
                    </a:lnTo>
                    <a:lnTo>
                      <a:pt x="1608" y="180"/>
                    </a:lnTo>
                    <a:lnTo>
                      <a:pt x="1602" y="180"/>
                    </a:lnTo>
                    <a:lnTo>
                      <a:pt x="1602" y="186"/>
                    </a:lnTo>
                    <a:lnTo>
                      <a:pt x="1596" y="186"/>
                    </a:lnTo>
                    <a:lnTo>
                      <a:pt x="1590" y="186"/>
                    </a:lnTo>
                    <a:lnTo>
                      <a:pt x="1590" y="192"/>
                    </a:lnTo>
                    <a:lnTo>
                      <a:pt x="1584" y="192"/>
                    </a:lnTo>
                    <a:lnTo>
                      <a:pt x="1578" y="192"/>
                    </a:lnTo>
                    <a:lnTo>
                      <a:pt x="1572" y="198"/>
                    </a:lnTo>
                    <a:lnTo>
                      <a:pt x="1566" y="198"/>
                    </a:lnTo>
                    <a:lnTo>
                      <a:pt x="1560" y="198"/>
                    </a:lnTo>
                    <a:lnTo>
                      <a:pt x="1554" y="198"/>
                    </a:lnTo>
                    <a:lnTo>
                      <a:pt x="1548" y="198"/>
                    </a:lnTo>
                    <a:lnTo>
                      <a:pt x="1542" y="198"/>
                    </a:lnTo>
                    <a:lnTo>
                      <a:pt x="1536" y="198"/>
                    </a:lnTo>
                    <a:lnTo>
                      <a:pt x="1530" y="198"/>
                    </a:lnTo>
                    <a:lnTo>
                      <a:pt x="1524" y="198"/>
                    </a:lnTo>
                    <a:lnTo>
                      <a:pt x="1518" y="198"/>
                    </a:lnTo>
                    <a:lnTo>
                      <a:pt x="1512" y="198"/>
                    </a:lnTo>
                    <a:lnTo>
                      <a:pt x="1506" y="198"/>
                    </a:lnTo>
                    <a:lnTo>
                      <a:pt x="1506" y="192"/>
                    </a:lnTo>
                    <a:lnTo>
                      <a:pt x="1500" y="192"/>
                    </a:lnTo>
                    <a:lnTo>
                      <a:pt x="1494" y="192"/>
                    </a:lnTo>
                    <a:lnTo>
                      <a:pt x="1482" y="192"/>
                    </a:lnTo>
                    <a:lnTo>
                      <a:pt x="1476" y="186"/>
                    </a:lnTo>
                    <a:lnTo>
                      <a:pt x="1470" y="186"/>
                    </a:lnTo>
                    <a:lnTo>
                      <a:pt x="1464" y="186"/>
                    </a:lnTo>
                    <a:lnTo>
                      <a:pt x="1446" y="186"/>
                    </a:lnTo>
                    <a:lnTo>
                      <a:pt x="1434" y="186"/>
                    </a:lnTo>
                    <a:lnTo>
                      <a:pt x="1416" y="186"/>
                    </a:lnTo>
                    <a:lnTo>
                      <a:pt x="1404" y="186"/>
                    </a:lnTo>
                    <a:lnTo>
                      <a:pt x="1386" y="186"/>
                    </a:lnTo>
                    <a:lnTo>
                      <a:pt x="1374" y="186"/>
                    </a:lnTo>
                    <a:lnTo>
                      <a:pt x="1368" y="186"/>
                    </a:lnTo>
                    <a:lnTo>
                      <a:pt x="1362" y="186"/>
                    </a:lnTo>
                    <a:lnTo>
                      <a:pt x="1356" y="186"/>
                    </a:lnTo>
                    <a:lnTo>
                      <a:pt x="1344" y="192"/>
                    </a:lnTo>
                    <a:lnTo>
                      <a:pt x="1338" y="192"/>
                    </a:lnTo>
                    <a:lnTo>
                      <a:pt x="1332" y="192"/>
                    </a:lnTo>
                    <a:lnTo>
                      <a:pt x="1326" y="192"/>
                    </a:lnTo>
                    <a:lnTo>
                      <a:pt x="1320" y="192"/>
                    </a:lnTo>
                    <a:lnTo>
                      <a:pt x="1314" y="192"/>
                    </a:lnTo>
                    <a:lnTo>
                      <a:pt x="1308" y="192"/>
                    </a:lnTo>
                    <a:lnTo>
                      <a:pt x="1302" y="192"/>
                    </a:lnTo>
                    <a:lnTo>
                      <a:pt x="1296" y="192"/>
                    </a:lnTo>
                    <a:lnTo>
                      <a:pt x="1290" y="192"/>
                    </a:lnTo>
                    <a:lnTo>
                      <a:pt x="1284" y="198"/>
                    </a:lnTo>
                    <a:lnTo>
                      <a:pt x="1278" y="198"/>
                    </a:lnTo>
                    <a:lnTo>
                      <a:pt x="1272" y="198"/>
                    </a:lnTo>
                    <a:lnTo>
                      <a:pt x="1254" y="198"/>
                    </a:lnTo>
                    <a:lnTo>
                      <a:pt x="1242" y="198"/>
                    </a:lnTo>
                    <a:lnTo>
                      <a:pt x="1224" y="198"/>
                    </a:lnTo>
                    <a:lnTo>
                      <a:pt x="1212" y="198"/>
                    </a:lnTo>
                    <a:lnTo>
                      <a:pt x="1194" y="198"/>
                    </a:lnTo>
                    <a:lnTo>
                      <a:pt x="1182" y="198"/>
                    </a:lnTo>
                    <a:lnTo>
                      <a:pt x="1164" y="198"/>
                    </a:lnTo>
                    <a:lnTo>
                      <a:pt x="1152" y="198"/>
                    </a:lnTo>
                    <a:lnTo>
                      <a:pt x="1122" y="198"/>
                    </a:lnTo>
                    <a:lnTo>
                      <a:pt x="1086" y="198"/>
                    </a:lnTo>
                    <a:lnTo>
                      <a:pt x="1056" y="198"/>
                    </a:lnTo>
                    <a:lnTo>
                      <a:pt x="1026" y="198"/>
                    </a:lnTo>
                    <a:lnTo>
                      <a:pt x="966" y="198"/>
                    </a:lnTo>
                    <a:lnTo>
                      <a:pt x="900" y="198"/>
                    </a:lnTo>
                    <a:lnTo>
                      <a:pt x="870" y="198"/>
                    </a:lnTo>
                    <a:lnTo>
                      <a:pt x="840" y="198"/>
                    </a:lnTo>
                    <a:lnTo>
                      <a:pt x="828" y="198"/>
                    </a:lnTo>
                    <a:lnTo>
                      <a:pt x="810" y="198"/>
                    </a:lnTo>
                    <a:lnTo>
                      <a:pt x="798" y="198"/>
                    </a:lnTo>
                    <a:lnTo>
                      <a:pt x="780" y="198"/>
                    </a:lnTo>
                    <a:lnTo>
                      <a:pt x="762" y="198"/>
                    </a:lnTo>
                    <a:lnTo>
                      <a:pt x="744" y="198"/>
                    </a:lnTo>
                    <a:lnTo>
                      <a:pt x="720" y="192"/>
                    </a:lnTo>
                    <a:lnTo>
                      <a:pt x="702" y="192"/>
                    </a:lnTo>
                    <a:lnTo>
                      <a:pt x="666" y="192"/>
                    </a:lnTo>
                    <a:lnTo>
                      <a:pt x="624" y="192"/>
                    </a:lnTo>
                    <a:lnTo>
                      <a:pt x="588" y="192"/>
                    </a:lnTo>
                    <a:lnTo>
                      <a:pt x="546" y="192"/>
                    </a:lnTo>
                    <a:lnTo>
                      <a:pt x="528" y="192"/>
                    </a:lnTo>
                    <a:lnTo>
                      <a:pt x="510" y="192"/>
                    </a:lnTo>
                    <a:lnTo>
                      <a:pt x="492" y="192"/>
                    </a:lnTo>
                    <a:lnTo>
                      <a:pt x="468" y="186"/>
                    </a:lnTo>
                    <a:lnTo>
                      <a:pt x="468" y="192"/>
                    </a:lnTo>
                    <a:lnTo>
                      <a:pt x="462" y="192"/>
                    </a:lnTo>
                    <a:lnTo>
                      <a:pt x="456" y="192"/>
                    </a:lnTo>
                    <a:lnTo>
                      <a:pt x="450" y="192"/>
                    </a:lnTo>
                    <a:lnTo>
                      <a:pt x="438" y="192"/>
                    </a:lnTo>
                    <a:lnTo>
                      <a:pt x="432" y="192"/>
                    </a:lnTo>
                    <a:lnTo>
                      <a:pt x="420" y="192"/>
                    </a:lnTo>
                    <a:lnTo>
                      <a:pt x="408" y="186"/>
                    </a:lnTo>
                    <a:lnTo>
                      <a:pt x="396" y="186"/>
                    </a:lnTo>
                    <a:lnTo>
                      <a:pt x="384" y="186"/>
                    </a:lnTo>
                    <a:lnTo>
                      <a:pt x="378" y="186"/>
                    </a:lnTo>
                    <a:lnTo>
                      <a:pt x="372" y="186"/>
                    </a:lnTo>
                    <a:lnTo>
                      <a:pt x="366" y="186"/>
                    </a:lnTo>
                    <a:lnTo>
                      <a:pt x="360" y="186"/>
                    </a:lnTo>
                    <a:lnTo>
                      <a:pt x="354" y="186"/>
                    </a:lnTo>
                    <a:lnTo>
                      <a:pt x="348" y="186"/>
                    </a:lnTo>
                    <a:lnTo>
                      <a:pt x="336" y="186"/>
                    </a:lnTo>
                    <a:lnTo>
                      <a:pt x="330" y="186"/>
                    </a:lnTo>
                    <a:lnTo>
                      <a:pt x="318" y="186"/>
                    </a:lnTo>
                    <a:lnTo>
                      <a:pt x="306" y="186"/>
                    </a:lnTo>
                    <a:lnTo>
                      <a:pt x="288" y="180"/>
                    </a:lnTo>
                    <a:lnTo>
                      <a:pt x="270" y="180"/>
                    </a:lnTo>
                    <a:lnTo>
                      <a:pt x="246" y="180"/>
                    </a:lnTo>
                    <a:lnTo>
                      <a:pt x="228" y="174"/>
                    </a:lnTo>
                    <a:lnTo>
                      <a:pt x="216" y="174"/>
                    </a:lnTo>
                    <a:lnTo>
                      <a:pt x="204" y="174"/>
                    </a:lnTo>
                    <a:lnTo>
                      <a:pt x="192" y="174"/>
                    </a:lnTo>
                    <a:lnTo>
                      <a:pt x="180" y="174"/>
                    </a:lnTo>
                    <a:lnTo>
                      <a:pt x="168" y="174"/>
                    </a:lnTo>
                    <a:lnTo>
                      <a:pt x="156" y="168"/>
                    </a:lnTo>
                    <a:lnTo>
                      <a:pt x="144" y="168"/>
                    </a:lnTo>
                    <a:lnTo>
                      <a:pt x="138" y="162"/>
                    </a:lnTo>
                    <a:lnTo>
                      <a:pt x="132" y="162"/>
                    </a:lnTo>
                    <a:lnTo>
                      <a:pt x="126" y="162"/>
                    </a:lnTo>
                    <a:lnTo>
                      <a:pt x="120" y="156"/>
                    </a:lnTo>
                    <a:lnTo>
                      <a:pt x="108" y="156"/>
                    </a:lnTo>
                    <a:lnTo>
                      <a:pt x="102" y="156"/>
                    </a:lnTo>
                    <a:lnTo>
                      <a:pt x="96" y="156"/>
                    </a:lnTo>
                    <a:lnTo>
                      <a:pt x="90" y="156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2" y="156"/>
                    </a:lnTo>
                    <a:lnTo>
                      <a:pt x="66" y="156"/>
                    </a:lnTo>
                    <a:lnTo>
                      <a:pt x="72" y="156"/>
                    </a:lnTo>
                    <a:lnTo>
                      <a:pt x="78" y="156"/>
                    </a:lnTo>
                    <a:lnTo>
                      <a:pt x="84" y="156"/>
                    </a:lnTo>
                    <a:lnTo>
                      <a:pt x="90" y="156"/>
                    </a:lnTo>
                    <a:lnTo>
                      <a:pt x="96" y="156"/>
                    </a:lnTo>
                    <a:lnTo>
                      <a:pt x="102" y="156"/>
                    </a:lnTo>
                    <a:lnTo>
                      <a:pt x="108" y="156"/>
                    </a:lnTo>
                    <a:lnTo>
                      <a:pt x="114" y="156"/>
                    </a:lnTo>
                    <a:lnTo>
                      <a:pt x="120" y="144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78" y="138"/>
                    </a:lnTo>
                    <a:lnTo>
                      <a:pt x="78" y="144"/>
                    </a:lnTo>
                    <a:lnTo>
                      <a:pt x="72" y="144"/>
                    </a:lnTo>
                    <a:lnTo>
                      <a:pt x="66" y="144"/>
                    </a:lnTo>
                    <a:lnTo>
                      <a:pt x="60" y="144"/>
                    </a:lnTo>
                    <a:lnTo>
                      <a:pt x="54" y="144"/>
                    </a:lnTo>
                    <a:lnTo>
                      <a:pt x="54" y="150"/>
                    </a:lnTo>
                    <a:lnTo>
                      <a:pt x="66" y="156"/>
                    </a:lnTo>
                    <a:lnTo>
                      <a:pt x="60" y="156"/>
                    </a:lnTo>
                    <a:lnTo>
                      <a:pt x="60" y="162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42" y="168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30" y="180"/>
                    </a:lnTo>
                    <a:lnTo>
                      <a:pt x="24" y="180"/>
                    </a:lnTo>
                    <a:lnTo>
                      <a:pt x="24" y="186"/>
                    </a:lnTo>
                    <a:lnTo>
                      <a:pt x="18" y="186"/>
                    </a:lnTo>
                    <a:lnTo>
                      <a:pt x="18" y="192"/>
                    </a:lnTo>
                    <a:lnTo>
                      <a:pt x="18" y="198"/>
                    </a:lnTo>
                    <a:lnTo>
                      <a:pt x="24" y="198"/>
                    </a:lnTo>
                    <a:lnTo>
                      <a:pt x="30" y="204"/>
                    </a:lnTo>
                    <a:lnTo>
                      <a:pt x="36" y="210"/>
                    </a:lnTo>
                    <a:lnTo>
                      <a:pt x="42" y="210"/>
                    </a:lnTo>
                    <a:lnTo>
                      <a:pt x="42" y="216"/>
                    </a:lnTo>
                    <a:lnTo>
                      <a:pt x="48" y="216"/>
                    </a:lnTo>
                    <a:lnTo>
                      <a:pt x="54" y="216"/>
                    </a:lnTo>
                    <a:lnTo>
                      <a:pt x="60" y="216"/>
                    </a:lnTo>
                    <a:lnTo>
                      <a:pt x="66" y="216"/>
                    </a:lnTo>
                    <a:lnTo>
                      <a:pt x="72" y="216"/>
                    </a:lnTo>
                    <a:lnTo>
                      <a:pt x="78" y="216"/>
                    </a:lnTo>
                    <a:lnTo>
                      <a:pt x="84" y="216"/>
                    </a:lnTo>
                    <a:lnTo>
                      <a:pt x="90" y="216"/>
                    </a:lnTo>
                    <a:lnTo>
                      <a:pt x="90" y="210"/>
                    </a:lnTo>
                    <a:lnTo>
                      <a:pt x="96" y="210"/>
                    </a:lnTo>
                    <a:lnTo>
                      <a:pt x="102" y="210"/>
                    </a:lnTo>
                    <a:lnTo>
                      <a:pt x="108" y="198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04"/>
                    </a:lnTo>
                    <a:lnTo>
                      <a:pt x="84" y="204"/>
                    </a:lnTo>
                    <a:lnTo>
                      <a:pt x="78" y="204"/>
                    </a:lnTo>
                    <a:lnTo>
                      <a:pt x="72" y="204"/>
                    </a:lnTo>
                    <a:lnTo>
                      <a:pt x="66" y="204"/>
                    </a:lnTo>
                    <a:lnTo>
                      <a:pt x="60" y="204"/>
                    </a:lnTo>
                    <a:lnTo>
                      <a:pt x="54" y="204"/>
                    </a:lnTo>
                    <a:lnTo>
                      <a:pt x="54" y="198"/>
                    </a:lnTo>
                    <a:lnTo>
                      <a:pt x="48" y="198"/>
                    </a:lnTo>
                    <a:lnTo>
                      <a:pt x="42" y="198"/>
                    </a:lnTo>
                    <a:lnTo>
                      <a:pt x="42" y="192"/>
                    </a:lnTo>
                    <a:lnTo>
                      <a:pt x="42" y="198"/>
                    </a:lnTo>
                    <a:lnTo>
                      <a:pt x="48" y="198"/>
                    </a:lnTo>
                    <a:lnTo>
                      <a:pt x="54" y="198"/>
                    </a:lnTo>
                    <a:lnTo>
                      <a:pt x="60" y="198"/>
                    </a:lnTo>
                    <a:lnTo>
                      <a:pt x="66" y="198"/>
                    </a:lnTo>
                    <a:lnTo>
                      <a:pt x="72" y="198"/>
                    </a:lnTo>
                    <a:lnTo>
                      <a:pt x="78" y="198"/>
                    </a:lnTo>
                    <a:lnTo>
                      <a:pt x="84" y="198"/>
                    </a:lnTo>
                    <a:lnTo>
                      <a:pt x="90" y="198"/>
                    </a:lnTo>
                    <a:lnTo>
                      <a:pt x="96" y="198"/>
                    </a:lnTo>
                    <a:lnTo>
                      <a:pt x="102" y="198"/>
                    </a:lnTo>
                    <a:lnTo>
                      <a:pt x="102" y="192"/>
                    </a:lnTo>
                    <a:lnTo>
                      <a:pt x="102" y="186"/>
                    </a:lnTo>
                    <a:lnTo>
                      <a:pt x="96" y="186"/>
                    </a:lnTo>
                    <a:lnTo>
                      <a:pt x="90" y="186"/>
                    </a:lnTo>
                    <a:lnTo>
                      <a:pt x="84" y="186"/>
                    </a:lnTo>
                    <a:lnTo>
                      <a:pt x="78" y="186"/>
                    </a:lnTo>
                    <a:lnTo>
                      <a:pt x="72" y="186"/>
                    </a:lnTo>
                    <a:lnTo>
                      <a:pt x="66" y="186"/>
                    </a:lnTo>
                    <a:lnTo>
                      <a:pt x="60" y="186"/>
                    </a:lnTo>
                    <a:lnTo>
                      <a:pt x="54" y="186"/>
                    </a:lnTo>
                    <a:lnTo>
                      <a:pt x="48" y="180"/>
                    </a:lnTo>
                    <a:lnTo>
                      <a:pt x="54" y="180"/>
                    </a:lnTo>
                    <a:lnTo>
                      <a:pt x="60" y="180"/>
                    </a:lnTo>
                    <a:lnTo>
                      <a:pt x="66" y="180"/>
                    </a:lnTo>
                    <a:lnTo>
                      <a:pt x="72" y="180"/>
                    </a:lnTo>
                    <a:lnTo>
                      <a:pt x="78" y="186"/>
                    </a:lnTo>
                    <a:lnTo>
                      <a:pt x="84" y="186"/>
                    </a:lnTo>
                    <a:lnTo>
                      <a:pt x="90" y="186"/>
                    </a:lnTo>
                    <a:lnTo>
                      <a:pt x="96" y="186"/>
                    </a:lnTo>
                    <a:lnTo>
                      <a:pt x="96" y="180"/>
                    </a:lnTo>
                    <a:lnTo>
                      <a:pt x="102" y="180"/>
                    </a:lnTo>
                    <a:lnTo>
                      <a:pt x="96" y="174"/>
                    </a:lnTo>
                    <a:lnTo>
                      <a:pt x="102" y="174"/>
                    </a:lnTo>
                    <a:lnTo>
                      <a:pt x="108" y="174"/>
                    </a:lnTo>
                    <a:lnTo>
                      <a:pt x="114" y="180"/>
                    </a:lnTo>
                    <a:lnTo>
                      <a:pt x="120" y="180"/>
                    </a:lnTo>
                    <a:lnTo>
                      <a:pt x="126" y="180"/>
                    </a:lnTo>
                    <a:lnTo>
                      <a:pt x="144" y="186"/>
                    </a:lnTo>
                    <a:lnTo>
                      <a:pt x="162" y="186"/>
                    </a:lnTo>
                    <a:lnTo>
                      <a:pt x="168" y="192"/>
                    </a:lnTo>
                    <a:lnTo>
                      <a:pt x="174" y="192"/>
                    </a:lnTo>
                    <a:lnTo>
                      <a:pt x="186" y="192"/>
                    </a:lnTo>
                    <a:lnTo>
                      <a:pt x="192" y="192"/>
                    </a:lnTo>
                    <a:lnTo>
                      <a:pt x="198" y="192"/>
                    </a:lnTo>
                    <a:lnTo>
                      <a:pt x="204" y="198"/>
                    </a:lnTo>
                    <a:lnTo>
                      <a:pt x="210" y="198"/>
                    </a:lnTo>
                    <a:lnTo>
                      <a:pt x="216" y="198"/>
                    </a:lnTo>
                    <a:lnTo>
                      <a:pt x="222" y="198"/>
                    </a:lnTo>
                    <a:lnTo>
                      <a:pt x="228" y="198"/>
                    </a:lnTo>
                    <a:lnTo>
                      <a:pt x="222" y="198"/>
                    </a:lnTo>
                    <a:lnTo>
                      <a:pt x="216" y="198"/>
                    </a:lnTo>
                    <a:lnTo>
                      <a:pt x="210" y="198"/>
                    </a:lnTo>
                    <a:lnTo>
                      <a:pt x="204" y="198"/>
                    </a:lnTo>
                    <a:lnTo>
                      <a:pt x="198" y="198"/>
                    </a:lnTo>
                    <a:lnTo>
                      <a:pt x="204" y="198"/>
                    </a:lnTo>
                    <a:lnTo>
                      <a:pt x="210" y="198"/>
                    </a:lnTo>
                    <a:lnTo>
                      <a:pt x="210" y="204"/>
                    </a:lnTo>
                    <a:lnTo>
                      <a:pt x="216" y="204"/>
                    </a:lnTo>
                    <a:lnTo>
                      <a:pt x="222" y="204"/>
                    </a:lnTo>
                    <a:lnTo>
                      <a:pt x="228" y="204"/>
                    </a:lnTo>
                    <a:lnTo>
                      <a:pt x="234" y="204"/>
                    </a:lnTo>
                    <a:lnTo>
                      <a:pt x="240" y="204"/>
                    </a:lnTo>
                    <a:lnTo>
                      <a:pt x="246" y="204"/>
                    </a:lnTo>
                    <a:lnTo>
                      <a:pt x="252" y="204"/>
                    </a:lnTo>
                    <a:lnTo>
                      <a:pt x="258" y="210"/>
                    </a:lnTo>
                    <a:lnTo>
                      <a:pt x="264" y="204"/>
                    </a:lnTo>
                    <a:lnTo>
                      <a:pt x="264" y="198"/>
                    </a:lnTo>
                    <a:lnTo>
                      <a:pt x="258" y="198"/>
                    </a:lnTo>
                    <a:lnTo>
                      <a:pt x="264" y="198"/>
                    </a:lnTo>
                    <a:lnTo>
                      <a:pt x="270" y="198"/>
                    </a:lnTo>
                    <a:lnTo>
                      <a:pt x="276" y="204"/>
                    </a:lnTo>
                    <a:lnTo>
                      <a:pt x="276" y="210"/>
                    </a:lnTo>
                    <a:lnTo>
                      <a:pt x="276" y="216"/>
                    </a:lnTo>
                    <a:lnTo>
                      <a:pt x="276" y="222"/>
                    </a:lnTo>
                    <a:lnTo>
                      <a:pt x="276" y="228"/>
                    </a:lnTo>
                    <a:lnTo>
                      <a:pt x="276" y="234"/>
                    </a:lnTo>
                    <a:lnTo>
                      <a:pt x="276" y="240"/>
                    </a:lnTo>
                    <a:lnTo>
                      <a:pt x="270" y="240"/>
                    </a:lnTo>
                    <a:lnTo>
                      <a:pt x="264" y="234"/>
                    </a:lnTo>
                    <a:lnTo>
                      <a:pt x="258" y="234"/>
                    </a:lnTo>
                    <a:lnTo>
                      <a:pt x="252" y="234"/>
                    </a:lnTo>
                    <a:lnTo>
                      <a:pt x="246" y="234"/>
                    </a:lnTo>
                    <a:lnTo>
                      <a:pt x="240" y="228"/>
                    </a:lnTo>
                    <a:lnTo>
                      <a:pt x="234" y="228"/>
                    </a:lnTo>
                    <a:lnTo>
                      <a:pt x="228" y="228"/>
                    </a:lnTo>
                    <a:lnTo>
                      <a:pt x="222" y="228"/>
                    </a:lnTo>
                    <a:lnTo>
                      <a:pt x="216" y="228"/>
                    </a:lnTo>
                    <a:lnTo>
                      <a:pt x="210" y="228"/>
                    </a:lnTo>
                    <a:lnTo>
                      <a:pt x="204" y="228"/>
                    </a:lnTo>
                    <a:lnTo>
                      <a:pt x="198" y="228"/>
                    </a:lnTo>
                    <a:lnTo>
                      <a:pt x="192" y="228"/>
                    </a:lnTo>
                    <a:lnTo>
                      <a:pt x="192" y="222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74" y="222"/>
                    </a:lnTo>
                    <a:lnTo>
                      <a:pt x="168" y="222"/>
                    </a:lnTo>
                    <a:lnTo>
                      <a:pt x="162" y="222"/>
                    </a:lnTo>
                    <a:lnTo>
                      <a:pt x="156" y="222"/>
                    </a:lnTo>
                    <a:lnTo>
                      <a:pt x="150" y="222"/>
                    </a:lnTo>
                    <a:lnTo>
                      <a:pt x="144" y="222"/>
                    </a:lnTo>
                    <a:lnTo>
                      <a:pt x="138" y="222"/>
                    </a:lnTo>
                    <a:lnTo>
                      <a:pt x="132" y="216"/>
                    </a:lnTo>
                    <a:lnTo>
                      <a:pt x="126" y="216"/>
                    </a:lnTo>
                    <a:lnTo>
                      <a:pt x="120" y="216"/>
                    </a:lnTo>
                    <a:lnTo>
                      <a:pt x="114" y="216"/>
                    </a:lnTo>
                    <a:lnTo>
                      <a:pt x="108" y="216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96" y="222"/>
                    </a:lnTo>
                    <a:lnTo>
                      <a:pt x="90" y="222"/>
                    </a:lnTo>
                    <a:lnTo>
                      <a:pt x="84" y="222"/>
                    </a:lnTo>
                    <a:lnTo>
                      <a:pt x="78" y="222"/>
                    </a:lnTo>
                    <a:lnTo>
                      <a:pt x="72" y="222"/>
                    </a:lnTo>
                    <a:lnTo>
                      <a:pt x="66" y="228"/>
                    </a:lnTo>
                    <a:lnTo>
                      <a:pt x="60" y="228"/>
                    </a:lnTo>
                    <a:lnTo>
                      <a:pt x="54" y="228"/>
                    </a:lnTo>
                    <a:lnTo>
                      <a:pt x="54" y="222"/>
                    </a:lnTo>
                    <a:lnTo>
                      <a:pt x="48" y="222"/>
                    </a:lnTo>
                    <a:lnTo>
                      <a:pt x="42" y="222"/>
                    </a:lnTo>
                    <a:lnTo>
                      <a:pt x="36" y="222"/>
                    </a:lnTo>
                    <a:lnTo>
                      <a:pt x="36" y="216"/>
                    </a:lnTo>
                    <a:lnTo>
                      <a:pt x="30" y="216"/>
                    </a:lnTo>
                    <a:lnTo>
                      <a:pt x="24" y="216"/>
                    </a:lnTo>
                    <a:lnTo>
                      <a:pt x="24" y="210"/>
                    </a:lnTo>
                    <a:lnTo>
                      <a:pt x="18" y="210"/>
                    </a:lnTo>
                    <a:lnTo>
                      <a:pt x="12" y="204"/>
                    </a:lnTo>
                    <a:lnTo>
                      <a:pt x="12" y="198"/>
                    </a:lnTo>
                    <a:lnTo>
                      <a:pt x="6" y="198"/>
                    </a:lnTo>
                    <a:lnTo>
                      <a:pt x="6" y="192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8" y="168"/>
                    </a:lnTo>
                    <a:lnTo>
                      <a:pt x="18" y="162"/>
                    </a:lnTo>
                    <a:lnTo>
                      <a:pt x="18" y="156"/>
                    </a:lnTo>
                    <a:lnTo>
                      <a:pt x="24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0" y="138"/>
                    </a:lnTo>
                    <a:lnTo>
                      <a:pt x="30" y="132"/>
                    </a:lnTo>
                    <a:lnTo>
                      <a:pt x="36" y="126"/>
                    </a:lnTo>
                    <a:lnTo>
                      <a:pt x="36" y="120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32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10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40" y="6"/>
                    </a:lnTo>
                    <a:lnTo>
                      <a:pt x="246" y="6"/>
                    </a:lnTo>
                    <a:lnTo>
                      <a:pt x="258" y="6"/>
                    </a:lnTo>
                    <a:lnTo>
                      <a:pt x="276" y="6"/>
                    </a:lnTo>
                    <a:lnTo>
                      <a:pt x="288" y="6"/>
                    </a:lnTo>
                    <a:lnTo>
                      <a:pt x="300" y="6"/>
                    </a:lnTo>
                    <a:lnTo>
                      <a:pt x="318" y="6"/>
                    </a:lnTo>
                    <a:lnTo>
                      <a:pt x="330" y="6"/>
                    </a:lnTo>
                    <a:lnTo>
                      <a:pt x="360" y="6"/>
                    </a:lnTo>
                    <a:lnTo>
                      <a:pt x="390" y="12"/>
                    </a:lnTo>
                    <a:lnTo>
                      <a:pt x="402" y="12"/>
                    </a:lnTo>
                    <a:lnTo>
                      <a:pt x="420" y="12"/>
                    </a:lnTo>
                    <a:lnTo>
                      <a:pt x="426" y="12"/>
                    </a:lnTo>
                    <a:lnTo>
                      <a:pt x="432" y="12"/>
                    </a:lnTo>
                    <a:lnTo>
                      <a:pt x="438" y="12"/>
                    </a:lnTo>
                    <a:lnTo>
                      <a:pt x="444" y="6"/>
                    </a:lnTo>
                    <a:lnTo>
                      <a:pt x="462" y="6"/>
                    </a:lnTo>
                    <a:lnTo>
                      <a:pt x="480" y="6"/>
                    </a:lnTo>
                    <a:lnTo>
                      <a:pt x="492" y="6"/>
                    </a:lnTo>
                    <a:lnTo>
                      <a:pt x="510" y="12"/>
                    </a:lnTo>
                    <a:lnTo>
                      <a:pt x="540" y="12"/>
                    </a:lnTo>
                    <a:lnTo>
                      <a:pt x="576" y="12"/>
                    </a:lnTo>
                    <a:lnTo>
                      <a:pt x="588" y="12"/>
                    </a:lnTo>
                    <a:lnTo>
                      <a:pt x="606" y="12"/>
                    </a:lnTo>
                    <a:lnTo>
                      <a:pt x="624" y="12"/>
                    </a:lnTo>
                    <a:lnTo>
                      <a:pt x="642" y="12"/>
                    </a:lnTo>
                    <a:lnTo>
                      <a:pt x="654" y="12"/>
                    </a:lnTo>
                    <a:lnTo>
                      <a:pt x="672" y="12"/>
                    </a:lnTo>
                    <a:lnTo>
                      <a:pt x="690" y="12"/>
                    </a:lnTo>
                    <a:lnTo>
                      <a:pt x="708" y="12"/>
                    </a:lnTo>
                    <a:lnTo>
                      <a:pt x="702" y="12"/>
                    </a:lnTo>
                    <a:lnTo>
                      <a:pt x="708" y="12"/>
                    </a:lnTo>
                    <a:lnTo>
                      <a:pt x="714" y="12"/>
                    </a:lnTo>
                    <a:lnTo>
                      <a:pt x="720" y="12"/>
                    </a:lnTo>
                    <a:lnTo>
                      <a:pt x="726" y="12"/>
                    </a:lnTo>
                    <a:lnTo>
                      <a:pt x="732" y="12"/>
                    </a:lnTo>
                    <a:lnTo>
                      <a:pt x="738" y="12"/>
                    </a:lnTo>
                    <a:lnTo>
                      <a:pt x="744" y="12"/>
                    </a:lnTo>
                    <a:lnTo>
                      <a:pt x="756" y="12"/>
                    </a:lnTo>
                    <a:lnTo>
                      <a:pt x="762" y="12"/>
                    </a:lnTo>
                    <a:lnTo>
                      <a:pt x="774" y="12"/>
                    </a:lnTo>
                    <a:lnTo>
                      <a:pt x="786" y="18"/>
                    </a:lnTo>
                    <a:lnTo>
                      <a:pt x="810" y="18"/>
                    </a:lnTo>
                    <a:lnTo>
                      <a:pt x="834" y="18"/>
                    </a:lnTo>
                    <a:lnTo>
                      <a:pt x="858" y="18"/>
                    </a:lnTo>
                    <a:lnTo>
                      <a:pt x="882" y="18"/>
                    </a:lnTo>
                    <a:lnTo>
                      <a:pt x="906" y="18"/>
                    </a:lnTo>
                    <a:lnTo>
                      <a:pt x="930" y="18"/>
                    </a:lnTo>
                    <a:lnTo>
                      <a:pt x="948" y="18"/>
                    </a:lnTo>
                    <a:lnTo>
                      <a:pt x="966" y="18"/>
                    </a:lnTo>
                    <a:lnTo>
                      <a:pt x="978" y="18"/>
                    </a:lnTo>
                    <a:lnTo>
                      <a:pt x="996" y="18"/>
                    </a:lnTo>
                    <a:lnTo>
                      <a:pt x="1026" y="18"/>
                    </a:lnTo>
                    <a:lnTo>
                      <a:pt x="1050" y="18"/>
                    </a:lnTo>
                    <a:lnTo>
                      <a:pt x="1068" y="18"/>
                    </a:lnTo>
                    <a:lnTo>
                      <a:pt x="1080" y="18"/>
                    </a:lnTo>
                    <a:lnTo>
                      <a:pt x="1098" y="18"/>
                    </a:lnTo>
                    <a:lnTo>
                      <a:pt x="1110" y="18"/>
                    </a:lnTo>
                    <a:lnTo>
                      <a:pt x="1122" y="18"/>
                    </a:lnTo>
                    <a:lnTo>
                      <a:pt x="1140" y="18"/>
                    </a:lnTo>
                    <a:lnTo>
                      <a:pt x="1152" y="18"/>
                    </a:lnTo>
                    <a:lnTo>
                      <a:pt x="1170" y="18"/>
                    </a:lnTo>
                    <a:lnTo>
                      <a:pt x="1170" y="12"/>
                    </a:lnTo>
                    <a:lnTo>
                      <a:pt x="1182" y="12"/>
                    </a:lnTo>
                    <a:lnTo>
                      <a:pt x="1194" y="12"/>
                    </a:lnTo>
                    <a:lnTo>
                      <a:pt x="1200" y="12"/>
                    </a:lnTo>
                    <a:lnTo>
                      <a:pt x="1212" y="12"/>
                    </a:lnTo>
                    <a:lnTo>
                      <a:pt x="1230" y="12"/>
                    </a:lnTo>
                    <a:lnTo>
                      <a:pt x="1248" y="12"/>
                    </a:lnTo>
                    <a:lnTo>
                      <a:pt x="1266" y="12"/>
                    </a:lnTo>
                    <a:lnTo>
                      <a:pt x="1290" y="12"/>
                    </a:lnTo>
                    <a:lnTo>
                      <a:pt x="1296" y="12"/>
                    </a:lnTo>
                    <a:lnTo>
                      <a:pt x="1308" y="6"/>
                    </a:lnTo>
                    <a:lnTo>
                      <a:pt x="1314" y="6"/>
                    </a:lnTo>
                    <a:lnTo>
                      <a:pt x="1326" y="6"/>
                    </a:lnTo>
                    <a:lnTo>
                      <a:pt x="1338" y="6"/>
                    </a:lnTo>
                    <a:lnTo>
                      <a:pt x="1350" y="6"/>
                    </a:lnTo>
                    <a:lnTo>
                      <a:pt x="1362" y="6"/>
                    </a:lnTo>
                    <a:lnTo>
                      <a:pt x="1374" y="6"/>
                    </a:lnTo>
                    <a:lnTo>
                      <a:pt x="1398" y="6"/>
                    </a:lnTo>
                    <a:lnTo>
                      <a:pt x="1428" y="6"/>
                    </a:lnTo>
                    <a:lnTo>
                      <a:pt x="1440" y="6"/>
                    </a:lnTo>
                    <a:lnTo>
                      <a:pt x="1452" y="6"/>
                    </a:lnTo>
                    <a:lnTo>
                      <a:pt x="1464" y="6"/>
                    </a:lnTo>
                    <a:lnTo>
                      <a:pt x="1476" y="6"/>
                    </a:lnTo>
                    <a:lnTo>
                      <a:pt x="1488" y="0"/>
                    </a:lnTo>
                    <a:lnTo>
                      <a:pt x="1500" y="0"/>
                    </a:lnTo>
                    <a:lnTo>
                      <a:pt x="1518" y="0"/>
                    </a:lnTo>
                    <a:lnTo>
                      <a:pt x="1530" y="0"/>
                    </a:lnTo>
                    <a:lnTo>
                      <a:pt x="1536" y="0"/>
                    </a:lnTo>
                    <a:lnTo>
                      <a:pt x="1542" y="0"/>
                    </a:lnTo>
                    <a:lnTo>
                      <a:pt x="1548" y="0"/>
                    </a:lnTo>
                    <a:lnTo>
                      <a:pt x="1554" y="0"/>
                    </a:lnTo>
                    <a:lnTo>
                      <a:pt x="1560" y="0"/>
                    </a:lnTo>
                    <a:lnTo>
                      <a:pt x="1566" y="6"/>
                    </a:lnTo>
                    <a:lnTo>
                      <a:pt x="1572" y="6"/>
                    </a:lnTo>
                    <a:lnTo>
                      <a:pt x="1578" y="6"/>
                    </a:lnTo>
                    <a:lnTo>
                      <a:pt x="1584" y="12"/>
                    </a:lnTo>
                    <a:lnTo>
                      <a:pt x="1590" y="12"/>
                    </a:lnTo>
                    <a:lnTo>
                      <a:pt x="1596" y="12"/>
                    </a:lnTo>
                    <a:lnTo>
                      <a:pt x="1596" y="18"/>
                    </a:lnTo>
                    <a:lnTo>
                      <a:pt x="1602" y="18"/>
                    </a:lnTo>
                    <a:lnTo>
                      <a:pt x="1602" y="24"/>
                    </a:lnTo>
                    <a:lnTo>
                      <a:pt x="1608" y="24"/>
                    </a:lnTo>
                    <a:lnTo>
                      <a:pt x="1614" y="30"/>
                    </a:lnTo>
                    <a:lnTo>
                      <a:pt x="1614" y="36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2004480" y="271440"/>
                <a:ext cx="70200" cy="464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12"/>
                    </a:move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27400" y="255960"/>
                <a:ext cx="58320" cy="619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24" y="12"/>
                    </a:move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2016360" y="333720"/>
                <a:ext cx="52560" cy="230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54" y="0"/>
                    </a:move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2016360" y="372240"/>
                <a:ext cx="58680" cy="234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0"/>
                    </a:move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45040" y="317880"/>
                <a:ext cx="46800" cy="309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6"/>
                    </a:move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2033640" y="403200"/>
                <a:ext cx="52920" cy="154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30" y="0"/>
                    </a:moveTo>
                    <a:lnTo>
                      <a:pt x="3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62320" y="341640"/>
                <a:ext cx="75960" cy="3060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78" y="0"/>
                    </a:moveTo>
                    <a:lnTo>
                      <a:pt x="78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2045520" y="426600"/>
                <a:ext cx="52560" cy="230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54" y="6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568440" y="37224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2"/>
                    </a:move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2080800" y="457560"/>
                <a:ext cx="29160" cy="154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30" y="6"/>
                    </a:move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257760" y="380160"/>
                <a:ext cx="521280" cy="240120"/>
              </a:xfrm>
              <a:custGeom>
                <a:avLst/>
                <a:gdLst/>
                <a:ahLst/>
                <a:rect l="l" t="t" r="r" b="b"/>
                <a:pathLst>
                  <a:path w="534" h="186">
                    <a:moveTo>
                      <a:pt x="264" y="18"/>
                    </a:moveTo>
                    <a:lnTo>
                      <a:pt x="264" y="24"/>
                    </a:lnTo>
                    <a:lnTo>
                      <a:pt x="258" y="24"/>
                    </a:lnTo>
                    <a:lnTo>
                      <a:pt x="252" y="24"/>
                    </a:lnTo>
                    <a:lnTo>
                      <a:pt x="240" y="24"/>
                    </a:lnTo>
                    <a:lnTo>
                      <a:pt x="234" y="18"/>
                    </a:lnTo>
                    <a:lnTo>
                      <a:pt x="228" y="18"/>
                    </a:lnTo>
                    <a:lnTo>
                      <a:pt x="222" y="18"/>
                    </a:lnTo>
                    <a:lnTo>
                      <a:pt x="216" y="24"/>
                    </a:lnTo>
                    <a:lnTo>
                      <a:pt x="210" y="24"/>
                    </a:lnTo>
                    <a:lnTo>
                      <a:pt x="216" y="30"/>
                    </a:lnTo>
                    <a:lnTo>
                      <a:pt x="222" y="30"/>
                    </a:lnTo>
                    <a:lnTo>
                      <a:pt x="228" y="30"/>
                    </a:lnTo>
                    <a:lnTo>
                      <a:pt x="234" y="36"/>
                    </a:lnTo>
                    <a:lnTo>
                      <a:pt x="240" y="36"/>
                    </a:lnTo>
                    <a:lnTo>
                      <a:pt x="246" y="36"/>
                    </a:lnTo>
                    <a:lnTo>
                      <a:pt x="252" y="36"/>
                    </a:lnTo>
                    <a:lnTo>
                      <a:pt x="258" y="36"/>
                    </a:lnTo>
                    <a:lnTo>
                      <a:pt x="258" y="42"/>
                    </a:lnTo>
                    <a:lnTo>
                      <a:pt x="252" y="42"/>
                    </a:lnTo>
                    <a:lnTo>
                      <a:pt x="252" y="48"/>
                    </a:lnTo>
                    <a:lnTo>
                      <a:pt x="246" y="48"/>
                    </a:lnTo>
                    <a:lnTo>
                      <a:pt x="240" y="42"/>
                    </a:lnTo>
                    <a:lnTo>
                      <a:pt x="234" y="42"/>
                    </a:lnTo>
                    <a:lnTo>
                      <a:pt x="228" y="42"/>
                    </a:lnTo>
                    <a:lnTo>
                      <a:pt x="222" y="42"/>
                    </a:lnTo>
                    <a:lnTo>
                      <a:pt x="222" y="48"/>
                    </a:lnTo>
                    <a:lnTo>
                      <a:pt x="216" y="48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10" y="54"/>
                    </a:lnTo>
                    <a:lnTo>
                      <a:pt x="216" y="54"/>
                    </a:lnTo>
                    <a:lnTo>
                      <a:pt x="222" y="54"/>
                    </a:lnTo>
                    <a:lnTo>
                      <a:pt x="228" y="54"/>
                    </a:lnTo>
                    <a:lnTo>
                      <a:pt x="234" y="54"/>
                    </a:lnTo>
                    <a:lnTo>
                      <a:pt x="240" y="54"/>
                    </a:lnTo>
                    <a:lnTo>
                      <a:pt x="240" y="60"/>
                    </a:lnTo>
                    <a:lnTo>
                      <a:pt x="246" y="60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40" y="72"/>
                    </a:lnTo>
                    <a:lnTo>
                      <a:pt x="240" y="66"/>
                    </a:lnTo>
                    <a:lnTo>
                      <a:pt x="234" y="72"/>
                    </a:lnTo>
                    <a:lnTo>
                      <a:pt x="228" y="72"/>
                    </a:lnTo>
                    <a:lnTo>
                      <a:pt x="222" y="72"/>
                    </a:lnTo>
                    <a:lnTo>
                      <a:pt x="222" y="66"/>
                    </a:lnTo>
                    <a:lnTo>
                      <a:pt x="216" y="66"/>
                    </a:lnTo>
                    <a:lnTo>
                      <a:pt x="210" y="66"/>
                    </a:lnTo>
                    <a:lnTo>
                      <a:pt x="210" y="72"/>
                    </a:lnTo>
                    <a:lnTo>
                      <a:pt x="210" y="78"/>
                    </a:lnTo>
                    <a:lnTo>
                      <a:pt x="216" y="78"/>
                    </a:lnTo>
                    <a:lnTo>
                      <a:pt x="222" y="78"/>
                    </a:lnTo>
                    <a:lnTo>
                      <a:pt x="222" y="84"/>
                    </a:lnTo>
                    <a:lnTo>
                      <a:pt x="228" y="84"/>
                    </a:lnTo>
                    <a:lnTo>
                      <a:pt x="234" y="84"/>
                    </a:lnTo>
                    <a:lnTo>
                      <a:pt x="240" y="84"/>
                    </a:lnTo>
                    <a:lnTo>
                      <a:pt x="246" y="84"/>
                    </a:lnTo>
                    <a:lnTo>
                      <a:pt x="246" y="90"/>
                    </a:lnTo>
                    <a:lnTo>
                      <a:pt x="240" y="90"/>
                    </a:lnTo>
                    <a:lnTo>
                      <a:pt x="234" y="90"/>
                    </a:lnTo>
                    <a:lnTo>
                      <a:pt x="228" y="90"/>
                    </a:lnTo>
                    <a:lnTo>
                      <a:pt x="222" y="90"/>
                    </a:lnTo>
                    <a:lnTo>
                      <a:pt x="210" y="90"/>
                    </a:lnTo>
                    <a:lnTo>
                      <a:pt x="204" y="90"/>
                    </a:lnTo>
                    <a:lnTo>
                      <a:pt x="198" y="90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92" y="102"/>
                    </a:lnTo>
                    <a:lnTo>
                      <a:pt x="198" y="102"/>
                    </a:lnTo>
                    <a:lnTo>
                      <a:pt x="204" y="102"/>
                    </a:lnTo>
                    <a:lnTo>
                      <a:pt x="210" y="102"/>
                    </a:lnTo>
                    <a:lnTo>
                      <a:pt x="216" y="102"/>
                    </a:lnTo>
                    <a:lnTo>
                      <a:pt x="222" y="102"/>
                    </a:lnTo>
                    <a:lnTo>
                      <a:pt x="228" y="102"/>
                    </a:lnTo>
                    <a:lnTo>
                      <a:pt x="234" y="102"/>
                    </a:lnTo>
                    <a:lnTo>
                      <a:pt x="240" y="108"/>
                    </a:lnTo>
                    <a:lnTo>
                      <a:pt x="246" y="108"/>
                    </a:lnTo>
                    <a:lnTo>
                      <a:pt x="252" y="114"/>
                    </a:lnTo>
                    <a:lnTo>
                      <a:pt x="258" y="114"/>
                    </a:lnTo>
                    <a:lnTo>
                      <a:pt x="258" y="120"/>
                    </a:lnTo>
                    <a:lnTo>
                      <a:pt x="264" y="120"/>
                    </a:lnTo>
                    <a:lnTo>
                      <a:pt x="270" y="120"/>
                    </a:lnTo>
                    <a:lnTo>
                      <a:pt x="276" y="126"/>
                    </a:lnTo>
                    <a:lnTo>
                      <a:pt x="282" y="132"/>
                    </a:lnTo>
                    <a:lnTo>
                      <a:pt x="288" y="132"/>
                    </a:lnTo>
                    <a:lnTo>
                      <a:pt x="288" y="138"/>
                    </a:lnTo>
                    <a:lnTo>
                      <a:pt x="294" y="138"/>
                    </a:lnTo>
                    <a:lnTo>
                      <a:pt x="300" y="138"/>
                    </a:lnTo>
                    <a:lnTo>
                      <a:pt x="306" y="138"/>
                    </a:lnTo>
                    <a:lnTo>
                      <a:pt x="312" y="138"/>
                    </a:lnTo>
                    <a:lnTo>
                      <a:pt x="318" y="138"/>
                    </a:lnTo>
                    <a:lnTo>
                      <a:pt x="324" y="138"/>
                    </a:lnTo>
                    <a:lnTo>
                      <a:pt x="330" y="132"/>
                    </a:lnTo>
                    <a:lnTo>
                      <a:pt x="336" y="132"/>
                    </a:lnTo>
                    <a:lnTo>
                      <a:pt x="342" y="132"/>
                    </a:lnTo>
                    <a:lnTo>
                      <a:pt x="348" y="126"/>
                    </a:lnTo>
                    <a:lnTo>
                      <a:pt x="354" y="126"/>
                    </a:lnTo>
                    <a:lnTo>
                      <a:pt x="360" y="126"/>
                    </a:lnTo>
                    <a:lnTo>
                      <a:pt x="366" y="126"/>
                    </a:lnTo>
                    <a:lnTo>
                      <a:pt x="372" y="126"/>
                    </a:lnTo>
                    <a:lnTo>
                      <a:pt x="384" y="126"/>
                    </a:lnTo>
                    <a:lnTo>
                      <a:pt x="402" y="132"/>
                    </a:lnTo>
                    <a:lnTo>
                      <a:pt x="408" y="132"/>
                    </a:lnTo>
                    <a:lnTo>
                      <a:pt x="414" y="132"/>
                    </a:lnTo>
                    <a:lnTo>
                      <a:pt x="420" y="132"/>
                    </a:lnTo>
                    <a:lnTo>
                      <a:pt x="426" y="132"/>
                    </a:lnTo>
                    <a:lnTo>
                      <a:pt x="432" y="132"/>
                    </a:lnTo>
                    <a:lnTo>
                      <a:pt x="438" y="132"/>
                    </a:lnTo>
                    <a:lnTo>
                      <a:pt x="444" y="132"/>
                    </a:lnTo>
                    <a:lnTo>
                      <a:pt x="444" y="138"/>
                    </a:lnTo>
                    <a:lnTo>
                      <a:pt x="450" y="138"/>
                    </a:lnTo>
                    <a:lnTo>
                      <a:pt x="450" y="144"/>
                    </a:lnTo>
                    <a:lnTo>
                      <a:pt x="456" y="144"/>
                    </a:lnTo>
                    <a:lnTo>
                      <a:pt x="462" y="144"/>
                    </a:lnTo>
                    <a:lnTo>
                      <a:pt x="468" y="144"/>
                    </a:lnTo>
                    <a:lnTo>
                      <a:pt x="474" y="144"/>
                    </a:lnTo>
                    <a:lnTo>
                      <a:pt x="480" y="144"/>
                    </a:lnTo>
                    <a:lnTo>
                      <a:pt x="486" y="144"/>
                    </a:lnTo>
                    <a:lnTo>
                      <a:pt x="492" y="144"/>
                    </a:lnTo>
                    <a:lnTo>
                      <a:pt x="498" y="144"/>
                    </a:lnTo>
                    <a:lnTo>
                      <a:pt x="504" y="144"/>
                    </a:lnTo>
                    <a:lnTo>
                      <a:pt x="510" y="150"/>
                    </a:lnTo>
                    <a:lnTo>
                      <a:pt x="504" y="150"/>
                    </a:lnTo>
                    <a:lnTo>
                      <a:pt x="498" y="150"/>
                    </a:lnTo>
                    <a:lnTo>
                      <a:pt x="492" y="150"/>
                    </a:lnTo>
                    <a:lnTo>
                      <a:pt x="486" y="150"/>
                    </a:lnTo>
                    <a:lnTo>
                      <a:pt x="480" y="150"/>
                    </a:lnTo>
                    <a:lnTo>
                      <a:pt x="474" y="150"/>
                    </a:lnTo>
                    <a:lnTo>
                      <a:pt x="468" y="150"/>
                    </a:lnTo>
                    <a:lnTo>
                      <a:pt x="462" y="150"/>
                    </a:lnTo>
                    <a:lnTo>
                      <a:pt x="450" y="150"/>
                    </a:lnTo>
                    <a:lnTo>
                      <a:pt x="444" y="150"/>
                    </a:lnTo>
                    <a:lnTo>
                      <a:pt x="438" y="150"/>
                    </a:lnTo>
                    <a:lnTo>
                      <a:pt x="432" y="150"/>
                    </a:lnTo>
                    <a:lnTo>
                      <a:pt x="432" y="156"/>
                    </a:lnTo>
                    <a:lnTo>
                      <a:pt x="438" y="156"/>
                    </a:lnTo>
                    <a:lnTo>
                      <a:pt x="444" y="162"/>
                    </a:lnTo>
                    <a:lnTo>
                      <a:pt x="450" y="162"/>
                    </a:lnTo>
                    <a:lnTo>
                      <a:pt x="456" y="162"/>
                    </a:lnTo>
                    <a:lnTo>
                      <a:pt x="462" y="162"/>
                    </a:lnTo>
                    <a:lnTo>
                      <a:pt x="468" y="162"/>
                    </a:lnTo>
                    <a:lnTo>
                      <a:pt x="474" y="162"/>
                    </a:lnTo>
                    <a:lnTo>
                      <a:pt x="480" y="162"/>
                    </a:lnTo>
                    <a:lnTo>
                      <a:pt x="486" y="162"/>
                    </a:lnTo>
                    <a:lnTo>
                      <a:pt x="492" y="162"/>
                    </a:lnTo>
                    <a:lnTo>
                      <a:pt x="498" y="162"/>
                    </a:lnTo>
                    <a:lnTo>
                      <a:pt x="504" y="162"/>
                    </a:lnTo>
                    <a:lnTo>
                      <a:pt x="510" y="156"/>
                    </a:lnTo>
                    <a:lnTo>
                      <a:pt x="516" y="156"/>
                    </a:lnTo>
                    <a:lnTo>
                      <a:pt x="522" y="150"/>
                    </a:lnTo>
                    <a:lnTo>
                      <a:pt x="522" y="156"/>
                    </a:lnTo>
                    <a:lnTo>
                      <a:pt x="522" y="162"/>
                    </a:lnTo>
                    <a:lnTo>
                      <a:pt x="516" y="162"/>
                    </a:lnTo>
                    <a:lnTo>
                      <a:pt x="510" y="162"/>
                    </a:lnTo>
                    <a:lnTo>
                      <a:pt x="504" y="162"/>
                    </a:lnTo>
                    <a:lnTo>
                      <a:pt x="498" y="162"/>
                    </a:lnTo>
                    <a:lnTo>
                      <a:pt x="492" y="168"/>
                    </a:lnTo>
                    <a:lnTo>
                      <a:pt x="486" y="168"/>
                    </a:lnTo>
                    <a:lnTo>
                      <a:pt x="480" y="168"/>
                    </a:lnTo>
                    <a:lnTo>
                      <a:pt x="474" y="168"/>
                    </a:lnTo>
                    <a:lnTo>
                      <a:pt x="468" y="168"/>
                    </a:lnTo>
                    <a:lnTo>
                      <a:pt x="462" y="168"/>
                    </a:lnTo>
                    <a:lnTo>
                      <a:pt x="456" y="168"/>
                    </a:lnTo>
                    <a:lnTo>
                      <a:pt x="450" y="168"/>
                    </a:lnTo>
                    <a:lnTo>
                      <a:pt x="432" y="162"/>
                    </a:lnTo>
                    <a:lnTo>
                      <a:pt x="420" y="162"/>
                    </a:lnTo>
                    <a:lnTo>
                      <a:pt x="420" y="168"/>
                    </a:lnTo>
                    <a:lnTo>
                      <a:pt x="426" y="168"/>
                    </a:lnTo>
                    <a:lnTo>
                      <a:pt x="426" y="174"/>
                    </a:lnTo>
                    <a:lnTo>
                      <a:pt x="432" y="174"/>
                    </a:lnTo>
                    <a:lnTo>
                      <a:pt x="438" y="174"/>
                    </a:lnTo>
                    <a:lnTo>
                      <a:pt x="444" y="180"/>
                    </a:lnTo>
                    <a:lnTo>
                      <a:pt x="450" y="180"/>
                    </a:lnTo>
                    <a:lnTo>
                      <a:pt x="456" y="180"/>
                    </a:lnTo>
                    <a:lnTo>
                      <a:pt x="462" y="180"/>
                    </a:lnTo>
                    <a:lnTo>
                      <a:pt x="468" y="180"/>
                    </a:lnTo>
                    <a:lnTo>
                      <a:pt x="474" y="180"/>
                    </a:lnTo>
                    <a:lnTo>
                      <a:pt x="486" y="180"/>
                    </a:lnTo>
                    <a:lnTo>
                      <a:pt x="492" y="180"/>
                    </a:lnTo>
                    <a:lnTo>
                      <a:pt x="498" y="180"/>
                    </a:lnTo>
                    <a:lnTo>
                      <a:pt x="504" y="180"/>
                    </a:lnTo>
                    <a:lnTo>
                      <a:pt x="510" y="180"/>
                    </a:lnTo>
                    <a:lnTo>
                      <a:pt x="516" y="180"/>
                    </a:lnTo>
                    <a:lnTo>
                      <a:pt x="516" y="174"/>
                    </a:lnTo>
                    <a:lnTo>
                      <a:pt x="522" y="174"/>
                    </a:lnTo>
                    <a:lnTo>
                      <a:pt x="528" y="168"/>
                    </a:lnTo>
                    <a:lnTo>
                      <a:pt x="528" y="162"/>
                    </a:lnTo>
                    <a:lnTo>
                      <a:pt x="534" y="162"/>
                    </a:lnTo>
                    <a:lnTo>
                      <a:pt x="534" y="168"/>
                    </a:lnTo>
                    <a:lnTo>
                      <a:pt x="528" y="168"/>
                    </a:lnTo>
                    <a:lnTo>
                      <a:pt x="528" y="174"/>
                    </a:lnTo>
                    <a:lnTo>
                      <a:pt x="522" y="174"/>
                    </a:lnTo>
                    <a:lnTo>
                      <a:pt x="522" y="180"/>
                    </a:lnTo>
                    <a:lnTo>
                      <a:pt x="516" y="180"/>
                    </a:lnTo>
                    <a:lnTo>
                      <a:pt x="510" y="186"/>
                    </a:lnTo>
                    <a:lnTo>
                      <a:pt x="504" y="186"/>
                    </a:lnTo>
                    <a:lnTo>
                      <a:pt x="498" y="186"/>
                    </a:lnTo>
                    <a:lnTo>
                      <a:pt x="492" y="186"/>
                    </a:lnTo>
                    <a:lnTo>
                      <a:pt x="486" y="186"/>
                    </a:lnTo>
                    <a:lnTo>
                      <a:pt x="480" y="186"/>
                    </a:lnTo>
                    <a:lnTo>
                      <a:pt x="474" y="186"/>
                    </a:lnTo>
                    <a:lnTo>
                      <a:pt x="468" y="186"/>
                    </a:lnTo>
                    <a:lnTo>
                      <a:pt x="462" y="186"/>
                    </a:lnTo>
                    <a:lnTo>
                      <a:pt x="444" y="186"/>
                    </a:lnTo>
                    <a:lnTo>
                      <a:pt x="432" y="186"/>
                    </a:lnTo>
                    <a:lnTo>
                      <a:pt x="426" y="180"/>
                    </a:lnTo>
                    <a:lnTo>
                      <a:pt x="420" y="180"/>
                    </a:lnTo>
                    <a:lnTo>
                      <a:pt x="414" y="180"/>
                    </a:lnTo>
                    <a:lnTo>
                      <a:pt x="408" y="180"/>
                    </a:lnTo>
                    <a:lnTo>
                      <a:pt x="402" y="180"/>
                    </a:lnTo>
                    <a:lnTo>
                      <a:pt x="396" y="180"/>
                    </a:lnTo>
                    <a:lnTo>
                      <a:pt x="384" y="180"/>
                    </a:lnTo>
                    <a:lnTo>
                      <a:pt x="378" y="180"/>
                    </a:lnTo>
                    <a:lnTo>
                      <a:pt x="372" y="180"/>
                    </a:lnTo>
                    <a:lnTo>
                      <a:pt x="360" y="174"/>
                    </a:lnTo>
                    <a:lnTo>
                      <a:pt x="354" y="174"/>
                    </a:lnTo>
                    <a:lnTo>
                      <a:pt x="348" y="174"/>
                    </a:lnTo>
                    <a:lnTo>
                      <a:pt x="330" y="174"/>
                    </a:lnTo>
                    <a:lnTo>
                      <a:pt x="318" y="168"/>
                    </a:lnTo>
                    <a:lnTo>
                      <a:pt x="300" y="168"/>
                    </a:lnTo>
                    <a:lnTo>
                      <a:pt x="288" y="162"/>
                    </a:lnTo>
                    <a:lnTo>
                      <a:pt x="258" y="162"/>
                    </a:lnTo>
                    <a:lnTo>
                      <a:pt x="228" y="156"/>
                    </a:lnTo>
                    <a:lnTo>
                      <a:pt x="210" y="150"/>
                    </a:lnTo>
                    <a:lnTo>
                      <a:pt x="192" y="150"/>
                    </a:lnTo>
                    <a:lnTo>
                      <a:pt x="180" y="144"/>
                    </a:lnTo>
                    <a:lnTo>
                      <a:pt x="162" y="144"/>
                    </a:lnTo>
                    <a:lnTo>
                      <a:pt x="156" y="144"/>
                    </a:lnTo>
                    <a:lnTo>
                      <a:pt x="150" y="144"/>
                    </a:lnTo>
                    <a:lnTo>
                      <a:pt x="144" y="144"/>
                    </a:lnTo>
                    <a:lnTo>
                      <a:pt x="138" y="144"/>
                    </a:lnTo>
                    <a:lnTo>
                      <a:pt x="132" y="144"/>
                    </a:lnTo>
                    <a:lnTo>
                      <a:pt x="126" y="144"/>
                    </a:lnTo>
                    <a:lnTo>
                      <a:pt x="120" y="144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44"/>
                    </a:lnTo>
                    <a:lnTo>
                      <a:pt x="102" y="150"/>
                    </a:lnTo>
                    <a:lnTo>
                      <a:pt x="96" y="150"/>
                    </a:lnTo>
                    <a:lnTo>
                      <a:pt x="90" y="150"/>
                    </a:lnTo>
                    <a:lnTo>
                      <a:pt x="84" y="150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2" y="156"/>
                    </a:lnTo>
                    <a:lnTo>
                      <a:pt x="72" y="162"/>
                    </a:lnTo>
                    <a:lnTo>
                      <a:pt x="66" y="162"/>
                    </a:lnTo>
                    <a:lnTo>
                      <a:pt x="66" y="156"/>
                    </a:lnTo>
                    <a:lnTo>
                      <a:pt x="66" y="150"/>
                    </a:lnTo>
                    <a:lnTo>
                      <a:pt x="72" y="150"/>
                    </a:lnTo>
                    <a:lnTo>
                      <a:pt x="72" y="144"/>
                    </a:lnTo>
                    <a:lnTo>
                      <a:pt x="78" y="138"/>
                    </a:lnTo>
                    <a:lnTo>
                      <a:pt x="78" y="132"/>
                    </a:lnTo>
                    <a:lnTo>
                      <a:pt x="84" y="132"/>
                    </a:lnTo>
                    <a:lnTo>
                      <a:pt x="84" y="126"/>
                    </a:lnTo>
                    <a:lnTo>
                      <a:pt x="90" y="120"/>
                    </a:lnTo>
                    <a:lnTo>
                      <a:pt x="102" y="114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38" y="78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14" y="60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8" y="12"/>
                    </a:lnTo>
                    <a:lnTo>
                      <a:pt x="234" y="12"/>
                    </a:lnTo>
                    <a:lnTo>
                      <a:pt x="246" y="12"/>
                    </a:lnTo>
                    <a:lnTo>
                      <a:pt x="252" y="18"/>
                    </a:lnTo>
                    <a:lnTo>
                      <a:pt x="258" y="18"/>
                    </a:lnTo>
                    <a:lnTo>
                      <a:pt x="264" y="18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74200" y="403200"/>
                <a:ext cx="40680" cy="15480"/>
              </a:xfrm>
              <a:custGeom>
                <a:avLst/>
                <a:gdLst/>
                <a:ahLst/>
                <a:rect l="l" t="t" r="r" b="b"/>
                <a:pathLst>
                  <a:path w="42" h="12">
                    <a:moveTo>
                      <a:pt x="42" y="0"/>
                    </a:moveTo>
                    <a:lnTo>
                      <a:pt x="42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1840320" y="519480"/>
                <a:ext cx="70200" cy="540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6"/>
                    </a:move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2127600" y="573840"/>
                <a:ext cx="5400" cy="144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8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1840320" y="566280"/>
                <a:ext cx="34920" cy="309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6"/>
                    </a:move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703080" y="504000"/>
                <a:ext cx="64440" cy="309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12"/>
                    </a:moveTo>
                    <a:lnTo>
                      <a:pt x="66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3" name=""/>
            <p:cNvSpPr/>
            <p:nvPr/>
          </p:nvSpPr>
          <p:spPr>
            <a:xfrm>
              <a:off x="792000" y="236520"/>
              <a:ext cx="10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elticmd"/>
                </a:rPr>
                <a:t>Port Mosle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4" name=""/>
          <p:cNvGrpSpPr/>
          <p:nvPr/>
        </p:nvGrpSpPr>
        <p:grpSpPr>
          <a:xfrm>
            <a:off x="5173560" y="2720880"/>
            <a:ext cx="492120" cy="484200"/>
            <a:chOff x="5173560" y="2720880"/>
            <a:chExt cx="492120" cy="484200"/>
          </a:xfrm>
        </p:grpSpPr>
        <p:sp>
          <p:nvSpPr>
            <p:cNvPr id="6375" name=""/>
            <p:cNvSpPr/>
            <p:nvPr/>
          </p:nvSpPr>
          <p:spPr>
            <a:xfrm>
              <a:off x="5189400" y="2720880"/>
              <a:ext cx="476280" cy="484200"/>
            </a:xfrm>
            <a:custGeom>
              <a:avLst/>
              <a:gdLst/>
              <a:ahLst/>
              <a:rect l="l" t="t" r="r" b="b"/>
              <a:pathLst>
                <a:path w="240" h="446">
                  <a:moveTo>
                    <a:pt x="96" y="0"/>
                  </a:moveTo>
                  <a:lnTo>
                    <a:pt x="240" y="0"/>
                  </a:lnTo>
                  <a:lnTo>
                    <a:pt x="240" y="234"/>
                  </a:lnTo>
                  <a:lnTo>
                    <a:pt x="240" y="327"/>
                  </a:lnTo>
                  <a:lnTo>
                    <a:pt x="192" y="446"/>
                  </a:lnTo>
                  <a:lnTo>
                    <a:pt x="48" y="446"/>
                  </a:lnTo>
                  <a:lnTo>
                    <a:pt x="0" y="399"/>
                  </a:lnTo>
                  <a:lnTo>
                    <a:pt x="0" y="280"/>
                  </a:lnTo>
                  <a:lnTo>
                    <a:pt x="96" y="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 flipV="1">
              <a:off x="5173560" y="3043080"/>
              <a:ext cx="0" cy="7632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7" name=""/>
            <p:cNvGrpSpPr/>
            <p:nvPr/>
          </p:nvGrpSpPr>
          <p:grpSpPr>
            <a:xfrm>
              <a:off x="5256000" y="2968560"/>
              <a:ext cx="187200" cy="164880"/>
              <a:chOff x="5256000" y="2968560"/>
              <a:chExt cx="187200" cy="164880"/>
            </a:xfrm>
          </p:grpSpPr>
          <p:sp>
            <p:nvSpPr>
              <p:cNvPr id="6378" name=""/>
              <p:cNvSpPr/>
              <p:nvPr/>
            </p:nvSpPr>
            <p:spPr>
              <a:xfrm rot="10800000">
                <a:off x="5256000" y="3051720"/>
                <a:ext cx="187200" cy="482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 rot="10800000">
                <a:off x="5256000" y="3002760"/>
                <a:ext cx="187200" cy="4860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0" name=""/>
              <p:cNvGrpSpPr/>
              <p:nvPr/>
            </p:nvGrpSpPr>
            <p:grpSpPr>
              <a:xfrm>
                <a:off x="5289120" y="2968560"/>
                <a:ext cx="120960" cy="65880"/>
                <a:chOff x="5289120" y="2968560"/>
                <a:chExt cx="120960" cy="65880"/>
              </a:xfrm>
            </p:grpSpPr>
            <p:sp>
              <p:nvSpPr>
                <p:cNvPr id="6381" name=""/>
                <p:cNvSpPr/>
                <p:nvPr/>
              </p:nvSpPr>
              <p:spPr>
                <a:xfrm rot="16200000">
                  <a:off x="5286240" y="297108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 flipV="1" rot="16200000">
                  <a:off x="5346720" y="297072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3" name=""/>
              <p:cNvGrpSpPr/>
              <p:nvPr/>
            </p:nvGrpSpPr>
            <p:grpSpPr>
              <a:xfrm>
                <a:off x="5289120" y="3067200"/>
                <a:ext cx="120960" cy="66240"/>
                <a:chOff x="5289120" y="3067200"/>
                <a:chExt cx="120960" cy="66240"/>
              </a:xfrm>
            </p:grpSpPr>
            <p:sp>
              <p:nvSpPr>
                <p:cNvPr id="6384" name=""/>
                <p:cNvSpPr/>
                <p:nvPr/>
              </p:nvSpPr>
              <p:spPr>
                <a:xfrm flipH="1" rot="16200000">
                  <a:off x="5286240" y="3070080"/>
                  <a:ext cx="6624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5" name=""/>
                <p:cNvSpPr/>
                <p:nvPr/>
              </p:nvSpPr>
              <p:spPr>
                <a:xfrm flipH="1" flipV="1" rot="16200000">
                  <a:off x="5346720" y="3070080"/>
                  <a:ext cx="6624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6" name=""/>
            <p:cNvGrpSpPr/>
            <p:nvPr/>
          </p:nvGrpSpPr>
          <p:grpSpPr>
            <a:xfrm>
              <a:off x="5457600" y="2773440"/>
              <a:ext cx="141120" cy="142920"/>
              <a:chOff x="5457600" y="2773440"/>
              <a:chExt cx="141120" cy="142920"/>
            </a:xfrm>
          </p:grpSpPr>
          <p:sp>
            <p:nvSpPr>
              <p:cNvPr id="6387" name=""/>
              <p:cNvSpPr/>
              <p:nvPr/>
            </p:nvSpPr>
            <p:spPr>
              <a:xfrm>
                <a:off x="5457600" y="277344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457600" y="288756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528160" y="277344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457600" y="277344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91" name=""/>
          <p:cNvSpPr/>
          <p:nvPr/>
        </p:nvSpPr>
        <p:spPr>
          <a:xfrm>
            <a:off x="2136600" y="64008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Porto Vecch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3713040" y="484812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Lungom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3" name=""/>
          <p:cNvSpPr/>
          <p:nvPr/>
        </p:nvSpPr>
        <p:spPr>
          <a:xfrm>
            <a:off x="8154360" y="44956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Porto Nu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419472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Times New Roman"/>
              </a:rPr>
              <a:t>Vecchia Mo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6143760" y="1257480"/>
            <a:ext cx="16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600" spc="-1" strike="noStrike">
                <a:solidFill>
                  <a:srgbClr val="cc3300"/>
                </a:solidFill>
                <a:latin typeface="Times New Roman"/>
              </a:rPr>
              <a:t>Quartiere Lindi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6" name=""/>
          <p:cNvSpPr/>
          <p:nvPr/>
        </p:nvSpPr>
        <p:spPr>
          <a:xfrm>
            <a:off x="157680" y="107316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Quartiere d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Due Col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7" name=""/>
          <p:cNvGrpSpPr/>
          <p:nvPr/>
        </p:nvGrpSpPr>
        <p:grpSpPr>
          <a:xfrm>
            <a:off x="4998600" y="3656160"/>
            <a:ext cx="304920" cy="447480"/>
            <a:chOff x="4998600" y="3656160"/>
            <a:chExt cx="304920" cy="447480"/>
          </a:xfrm>
        </p:grpSpPr>
        <p:sp>
          <p:nvSpPr>
            <p:cNvPr id="6398" name=""/>
            <p:cNvSpPr/>
            <p:nvPr/>
          </p:nvSpPr>
          <p:spPr>
            <a:xfrm rot="5400000">
              <a:off x="4927320" y="3727440"/>
              <a:ext cx="447480" cy="304920"/>
            </a:xfrm>
            <a:prstGeom prst="ellipse">
              <a:avLst/>
            </a:prstGeom>
            <a:solidFill>
              <a:srgbClr val="d028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 rot="5400000">
              <a:off x="4957200" y="3751200"/>
              <a:ext cx="386640" cy="255960"/>
            </a:xfrm>
            <a:prstGeom prst="ellipse">
              <a:avLst/>
            </a:pr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 rot="5400000">
              <a:off x="4975200" y="3765960"/>
              <a:ext cx="350280" cy="2264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1" name=""/>
            <p:cNvGrpSpPr/>
            <p:nvPr/>
          </p:nvGrpSpPr>
          <p:grpSpPr>
            <a:xfrm>
              <a:off x="5247360" y="3846600"/>
              <a:ext cx="36000" cy="74160"/>
              <a:chOff x="5247360" y="3846600"/>
              <a:chExt cx="36000" cy="74160"/>
            </a:xfrm>
          </p:grpSpPr>
          <p:sp>
            <p:nvSpPr>
              <p:cNvPr id="6402" name=""/>
              <p:cNvSpPr/>
              <p:nvPr/>
            </p:nvSpPr>
            <p:spPr>
              <a:xfrm rot="5400000">
                <a:off x="5246640" y="3846960"/>
                <a:ext cx="37080" cy="36000"/>
              </a:xfrm>
              <a:prstGeom prst="rect">
                <a:avLst/>
              </a:prstGeom>
              <a:solidFill>
                <a:srgbClr val="d028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 rot="5400000">
                <a:off x="5246640" y="3884040"/>
                <a:ext cx="37080" cy="3600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04" name=""/>
          <p:cNvSpPr/>
          <p:nvPr/>
        </p:nvSpPr>
        <p:spPr>
          <a:xfrm>
            <a:off x="304920" y="2133720"/>
            <a:ext cx="1981080" cy="1573200"/>
          </a:xfrm>
          <a:custGeom>
            <a:avLst/>
            <a:gdLst/>
            <a:ahLst/>
            <a:rect l="l" t="t" r="r" b="b"/>
            <a:pathLst>
              <a:path w="1351" h="1039">
                <a:moveTo>
                  <a:pt x="53" y="109"/>
                </a:moveTo>
                <a:cubicBezTo>
                  <a:pt x="106" y="42"/>
                  <a:pt x="279" y="6"/>
                  <a:pt x="404" y="3"/>
                </a:cubicBezTo>
                <a:cubicBezTo>
                  <a:pt x="529" y="0"/>
                  <a:pt x="709" y="54"/>
                  <a:pt x="806" y="91"/>
                </a:cubicBezTo>
                <a:cubicBezTo>
                  <a:pt x="903" y="128"/>
                  <a:pt x="904" y="155"/>
                  <a:pt x="987" y="225"/>
                </a:cubicBezTo>
                <a:cubicBezTo>
                  <a:pt x="1070" y="295"/>
                  <a:pt x="1257" y="397"/>
                  <a:pt x="1304" y="513"/>
                </a:cubicBezTo>
                <a:cubicBezTo>
                  <a:pt x="1351" y="629"/>
                  <a:pt x="1349" y="836"/>
                  <a:pt x="1271" y="923"/>
                </a:cubicBezTo>
                <a:cubicBezTo>
                  <a:pt x="1193" y="1010"/>
                  <a:pt x="994" y="1039"/>
                  <a:pt x="834" y="1036"/>
                </a:cubicBezTo>
                <a:cubicBezTo>
                  <a:pt x="674" y="1033"/>
                  <a:pt x="436" y="1008"/>
                  <a:pt x="311" y="903"/>
                </a:cubicBezTo>
                <a:cubicBezTo>
                  <a:pt x="186" y="798"/>
                  <a:pt x="127" y="535"/>
                  <a:pt x="84" y="403"/>
                </a:cubicBezTo>
                <a:cubicBezTo>
                  <a:pt x="41" y="271"/>
                  <a:pt x="0" y="176"/>
                  <a:pt x="53" y="109"/>
                </a:cubicBezTo>
                <a:close/>
              </a:path>
            </a:pathLst>
          </a:custGeom>
          <a:gradFill rotWithShape="0">
            <a:gsLst>
              <a:gs pos="0">
                <a:srgbClr val="c1aa7d"/>
              </a:gs>
              <a:gs pos="100000">
                <a:srgbClr val="ffe1a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5" name=""/>
          <p:cNvGrpSpPr/>
          <p:nvPr/>
        </p:nvGrpSpPr>
        <p:grpSpPr>
          <a:xfrm>
            <a:off x="990720" y="2743200"/>
            <a:ext cx="476280" cy="496800"/>
            <a:chOff x="990720" y="2743200"/>
            <a:chExt cx="476280" cy="496800"/>
          </a:xfrm>
        </p:grpSpPr>
        <p:sp>
          <p:nvSpPr>
            <p:cNvPr id="6406" name=""/>
            <p:cNvSpPr/>
            <p:nvPr/>
          </p:nvSpPr>
          <p:spPr>
            <a:xfrm>
              <a:off x="990720" y="2743200"/>
              <a:ext cx="476280" cy="484200"/>
            </a:xfrm>
            <a:custGeom>
              <a:avLst/>
              <a:gdLst/>
              <a:ahLst/>
              <a:rect l="l" t="t" r="r" b="b"/>
              <a:pathLst>
                <a:path w="300" h="305">
                  <a:moveTo>
                    <a:pt x="9" y="0"/>
                  </a:moveTo>
                  <a:lnTo>
                    <a:pt x="300" y="0"/>
                  </a:lnTo>
                  <a:lnTo>
                    <a:pt x="300" y="160"/>
                  </a:lnTo>
                  <a:lnTo>
                    <a:pt x="300" y="224"/>
                  </a:lnTo>
                  <a:lnTo>
                    <a:pt x="240" y="305"/>
                  </a:lnTo>
                  <a:lnTo>
                    <a:pt x="60" y="305"/>
                  </a:lnTo>
                  <a:lnTo>
                    <a:pt x="0" y="273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H="1">
              <a:off x="1181160" y="3240000"/>
              <a:ext cx="76320" cy="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08" name=""/>
            <p:cNvGrpSpPr/>
            <p:nvPr/>
          </p:nvGrpSpPr>
          <p:grpSpPr>
            <a:xfrm>
              <a:off x="1143000" y="2819520"/>
              <a:ext cx="141120" cy="142920"/>
              <a:chOff x="1143000" y="2819520"/>
              <a:chExt cx="141120" cy="142920"/>
            </a:xfrm>
          </p:grpSpPr>
          <p:sp>
            <p:nvSpPr>
              <p:cNvPr id="6409" name=""/>
              <p:cNvSpPr/>
              <p:nvPr/>
            </p:nvSpPr>
            <p:spPr>
              <a:xfrm>
                <a:off x="1143000" y="281952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1143000" y="293364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1213560" y="281952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1143000" y="281952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3" name=""/>
            <p:cNvGrpSpPr/>
            <p:nvPr/>
          </p:nvGrpSpPr>
          <p:grpSpPr>
            <a:xfrm>
              <a:off x="1066680" y="3048120"/>
              <a:ext cx="88920" cy="93600"/>
              <a:chOff x="1066680" y="3048120"/>
              <a:chExt cx="88920" cy="93600"/>
            </a:xfrm>
          </p:grpSpPr>
          <p:sp>
            <p:nvSpPr>
              <p:cNvPr id="6414" name=""/>
              <p:cNvSpPr/>
              <p:nvPr/>
            </p:nvSpPr>
            <p:spPr>
              <a:xfrm>
                <a:off x="1066680" y="3048120"/>
                <a:ext cx="88920" cy="1836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1066680" y="312300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1110960" y="304812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1066680" y="304812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8" name=""/>
            <p:cNvGrpSpPr/>
            <p:nvPr/>
          </p:nvGrpSpPr>
          <p:grpSpPr>
            <a:xfrm>
              <a:off x="1219320" y="3048120"/>
              <a:ext cx="88920" cy="93600"/>
              <a:chOff x="1219320" y="3048120"/>
              <a:chExt cx="88920" cy="93600"/>
            </a:xfrm>
          </p:grpSpPr>
          <p:sp>
            <p:nvSpPr>
              <p:cNvPr id="6419" name=""/>
              <p:cNvSpPr/>
              <p:nvPr/>
            </p:nvSpPr>
            <p:spPr>
              <a:xfrm>
                <a:off x="1219320" y="3048120"/>
                <a:ext cx="88920" cy="1836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1219320" y="312300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1263600" y="304812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1219320" y="304812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3" name=""/>
          <p:cNvGrpSpPr/>
          <p:nvPr/>
        </p:nvGrpSpPr>
        <p:grpSpPr>
          <a:xfrm>
            <a:off x="1886040" y="3214800"/>
            <a:ext cx="88920" cy="93600"/>
            <a:chOff x="1886040" y="3214800"/>
            <a:chExt cx="88920" cy="93600"/>
          </a:xfrm>
        </p:grpSpPr>
        <p:sp>
          <p:nvSpPr>
            <p:cNvPr id="6424" name=""/>
            <p:cNvSpPr/>
            <p:nvPr/>
          </p:nvSpPr>
          <p:spPr>
            <a:xfrm>
              <a:off x="1886040" y="3214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1886040" y="3289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1930320" y="3214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1886040" y="3214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8" name=""/>
          <p:cNvGrpSpPr/>
          <p:nvPr/>
        </p:nvGrpSpPr>
        <p:grpSpPr>
          <a:xfrm>
            <a:off x="2133720" y="2971800"/>
            <a:ext cx="88920" cy="93600"/>
            <a:chOff x="2133720" y="2971800"/>
            <a:chExt cx="88920" cy="93600"/>
          </a:xfrm>
        </p:grpSpPr>
        <p:sp>
          <p:nvSpPr>
            <p:cNvPr id="6429" name=""/>
            <p:cNvSpPr/>
            <p:nvPr/>
          </p:nvSpPr>
          <p:spPr>
            <a:xfrm>
              <a:off x="2133720" y="2971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133720" y="3046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178000" y="2971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133720" y="2971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3" name=""/>
          <p:cNvGrpSpPr/>
          <p:nvPr/>
        </p:nvGrpSpPr>
        <p:grpSpPr>
          <a:xfrm>
            <a:off x="1676520" y="2971800"/>
            <a:ext cx="88920" cy="93600"/>
            <a:chOff x="1676520" y="2971800"/>
            <a:chExt cx="88920" cy="93600"/>
          </a:xfrm>
        </p:grpSpPr>
        <p:sp>
          <p:nvSpPr>
            <p:cNvPr id="6434" name=""/>
            <p:cNvSpPr/>
            <p:nvPr/>
          </p:nvSpPr>
          <p:spPr>
            <a:xfrm>
              <a:off x="1676520" y="2971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1676520" y="3046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1720800" y="2971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1676520" y="2971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8" name=""/>
          <p:cNvGrpSpPr/>
          <p:nvPr/>
        </p:nvGrpSpPr>
        <p:grpSpPr>
          <a:xfrm>
            <a:off x="1905120" y="2743200"/>
            <a:ext cx="88920" cy="93600"/>
            <a:chOff x="1905120" y="2743200"/>
            <a:chExt cx="88920" cy="93600"/>
          </a:xfrm>
        </p:grpSpPr>
        <p:sp>
          <p:nvSpPr>
            <p:cNvPr id="6439" name=""/>
            <p:cNvSpPr/>
            <p:nvPr/>
          </p:nvSpPr>
          <p:spPr>
            <a:xfrm>
              <a:off x="1905120" y="2743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1905120" y="2818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1949400" y="2743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1905120" y="2743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3" name=""/>
          <p:cNvGrpSpPr/>
          <p:nvPr/>
        </p:nvGrpSpPr>
        <p:grpSpPr>
          <a:xfrm>
            <a:off x="1676520" y="2590200"/>
            <a:ext cx="95040" cy="97200"/>
            <a:chOff x="1676520" y="2590200"/>
            <a:chExt cx="95040" cy="97200"/>
          </a:xfrm>
        </p:grpSpPr>
        <p:sp>
          <p:nvSpPr>
            <p:cNvPr id="6444" name=""/>
            <p:cNvSpPr/>
            <p:nvPr/>
          </p:nvSpPr>
          <p:spPr>
            <a:xfrm rot="10800000">
              <a:off x="1676520" y="2687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 rot="10800000">
              <a:off x="1676520" y="2590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 rot="10800000">
              <a:off x="1676880" y="2590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 rot="10800000">
              <a:off x="1724040" y="25905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8" name=""/>
          <p:cNvGrpSpPr/>
          <p:nvPr/>
        </p:nvGrpSpPr>
        <p:grpSpPr>
          <a:xfrm>
            <a:off x="1600200" y="2819520"/>
            <a:ext cx="97200" cy="95040"/>
            <a:chOff x="1600200" y="2819520"/>
            <a:chExt cx="97200" cy="95040"/>
          </a:xfrm>
        </p:grpSpPr>
        <p:sp>
          <p:nvSpPr>
            <p:cNvPr id="6449" name=""/>
            <p:cNvSpPr/>
            <p:nvPr/>
          </p:nvSpPr>
          <p:spPr>
            <a:xfrm rot="16200000">
              <a:off x="1552680" y="2866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 rot="16200000">
              <a:off x="1649520" y="2866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 rot="16200000">
              <a:off x="1625040" y="2795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 rot="16200000">
              <a:off x="1624680" y="2842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3" name=""/>
          <p:cNvSpPr/>
          <p:nvPr/>
        </p:nvSpPr>
        <p:spPr>
          <a:xfrm>
            <a:off x="4590000" y="2590920"/>
            <a:ext cx="70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Brangw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4" name=""/>
          <p:cNvSpPr/>
          <p:nvPr/>
        </p:nvSpPr>
        <p:spPr>
          <a:xfrm>
            <a:off x="2533680" y="228600"/>
            <a:ext cx="2371680" cy="2352600"/>
          </a:xfrm>
          <a:custGeom>
            <a:avLst/>
            <a:gdLst/>
            <a:ahLst/>
            <a:rect l="l" t="t" r="r" b="b"/>
            <a:pathLst>
              <a:path w="1494" h="1482">
                <a:moveTo>
                  <a:pt x="0" y="0"/>
                </a:moveTo>
                <a:cubicBezTo>
                  <a:pt x="128" y="25"/>
                  <a:pt x="546" y="29"/>
                  <a:pt x="774" y="150"/>
                </a:cubicBezTo>
                <a:cubicBezTo>
                  <a:pt x="1002" y="271"/>
                  <a:pt x="1248" y="504"/>
                  <a:pt x="1368" y="726"/>
                </a:cubicBezTo>
                <a:cubicBezTo>
                  <a:pt x="1488" y="948"/>
                  <a:pt x="1468" y="1325"/>
                  <a:pt x="1494" y="1482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5" name=""/>
          <p:cNvSpPr/>
          <p:nvPr/>
        </p:nvSpPr>
        <p:spPr>
          <a:xfrm>
            <a:off x="1847880" y="4788000"/>
            <a:ext cx="4905360" cy="1365120"/>
          </a:xfrm>
          <a:custGeom>
            <a:avLst/>
            <a:gdLst/>
            <a:ahLst/>
            <a:rect l="l" t="t" r="r" b="b"/>
            <a:pathLst>
              <a:path w="3090" h="860">
                <a:moveTo>
                  <a:pt x="0" y="710"/>
                </a:moveTo>
                <a:cubicBezTo>
                  <a:pt x="118" y="635"/>
                  <a:pt x="433" y="378"/>
                  <a:pt x="702" y="260"/>
                </a:cubicBezTo>
                <a:cubicBezTo>
                  <a:pt x="971" y="142"/>
                  <a:pt x="1339" y="0"/>
                  <a:pt x="1614" y="2"/>
                </a:cubicBezTo>
                <a:cubicBezTo>
                  <a:pt x="1889" y="4"/>
                  <a:pt x="2109" y="129"/>
                  <a:pt x="2355" y="272"/>
                </a:cubicBezTo>
                <a:cubicBezTo>
                  <a:pt x="2601" y="415"/>
                  <a:pt x="2937" y="738"/>
                  <a:pt x="3090" y="860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6" name=""/>
          <p:cNvSpPr/>
          <p:nvPr/>
        </p:nvSpPr>
        <p:spPr>
          <a:xfrm>
            <a:off x="4724280" y="3438360"/>
            <a:ext cx="171720" cy="1338480"/>
          </a:xfrm>
          <a:custGeom>
            <a:avLst/>
            <a:gdLst/>
            <a:ahLst/>
            <a:rect l="l" t="t" r="r" b="b"/>
            <a:pathLst>
              <a:path w="108" h="843">
                <a:moveTo>
                  <a:pt x="108" y="0"/>
                </a:moveTo>
                <a:cubicBezTo>
                  <a:pt x="95" y="81"/>
                  <a:pt x="48" y="352"/>
                  <a:pt x="30" y="492"/>
                </a:cubicBezTo>
                <a:cubicBezTo>
                  <a:pt x="12" y="632"/>
                  <a:pt x="6" y="770"/>
                  <a:pt x="0" y="843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7" name=""/>
          <p:cNvSpPr/>
          <p:nvPr/>
        </p:nvSpPr>
        <p:spPr>
          <a:xfrm>
            <a:off x="4876920" y="1504800"/>
            <a:ext cx="2923920" cy="357480"/>
          </a:xfrm>
          <a:custGeom>
            <a:avLst/>
            <a:gdLst/>
            <a:ahLst/>
            <a:rect l="l" t="t" r="r" b="b"/>
            <a:pathLst>
              <a:path w="1842" h="225">
                <a:moveTo>
                  <a:pt x="1842" y="54"/>
                </a:moveTo>
                <a:cubicBezTo>
                  <a:pt x="1774" y="49"/>
                  <a:pt x="1694" y="0"/>
                  <a:pt x="1428" y="24"/>
                </a:cubicBezTo>
                <a:cubicBezTo>
                  <a:pt x="1162" y="48"/>
                  <a:pt x="483" y="171"/>
                  <a:pt x="245" y="198"/>
                </a:cubicBezTo>
                <a:cubicBezTo>
                  <a:pt x="7" y="225"/>
                  <a:pt x="51" y="189"/>
                  <a:pt x="0" y="187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8" name=""/>
          <p:cNvSpPr/>
          <p:nvPr/>
        </p:nvSpPr>
        <p:spPr>
          <a:xfrm>
            <a:off x="1371600" y="3029040"/>
            <a:ext cx="3267000" cy="504720"/>
          </a:xfrm>
          <a:custGeom>
            <a:avLst/>
            <a:gdLst/>
            <a:ahLst/>
            <a:rect l="l" t="t" r="r" b="b"/>
            <a:pathLst>
              <a:path w="2058" h="318">
                <a:moveTo>
                  <a:pt x="2058" y="0"/>
                </a:moveTo>
                <a:cubicBezTo>
                  <a:pt x="1905" y="19"/>
                  <a:pt x="1384" y="56"/>
                  <a:pt x="1140" y="108"/>
                </a:cubicBezTo>
                <a:cubicBezTo>
                  <a:pt x="896" y="160"/>
                  <a:pt x="784" y="306"/>
                  <a:pt x="594" y="312"/>
                </a:cubicBezTo>
                <a:cubicBezTo>
                  <a:pt x="404" y="318"/>
                  <a:pt x="124" y="182"/>
                  <a:pt x="0" y="147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9" name=""/>
          <p:cNvSpPr/>
          <p:nvPr/>
        </p:nvSpPr>
        <p:spPr>
          <a:xfrm>
            <a:off x="5991120" y="4110120"/>
            <a:ext cx="746280" cy="1380960"/>
          </a:xfrm>
          <a:custGeom>
            <a:avLst/>
            <a:gdLst/>
            <a:ahLst/>
            <a:rect l="l" t="t" r="r" b="b"/>
            <a:pathLst>
              <a:path w="470" h="870">
                <a:moveTo>
                  <a:pt x="470" y="0"/>
                </a:moveTo>
                <a:cubicBezTo>
                  <a:pt x="415" y="57"/>
                  <a:pt x="222" y="200"/>
                  <a:pt x="144" y="345"/>
                </a:cubicBezTo>
                <a:cubicBezTo>
                  <a:pt x="66" y="490"/>
                  <a:pt x="30" y="761"/>
                  <a:pt x="0" y="870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0" name=""/>
          <p:cNvSpPr/>
          <p:nvPr/>
        </p:nvSpPr>
        <p:spPr>
          <a:xfrm>
            <a:off x="6746040" y="3794040"/>
            <a:ext cx="77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gli Affar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1" name=""/>
          <p:cNvSpPr/>
          <p:nvPr/>
        </p:nvSpPr>
        <p:spPr>
          <a:xfrm>
            <a:off x="7841520" y="1371600"/>
            <a:ext cx="53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Wilk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2" name=""/>
          <p:cNvSpPr/>
          <p:nvPr/>
        </p:nvSpPr>
        <p:spPr>
          <a:xfrm>
            <a:off x="8210520" y="1781280"/>
            <a:ext cx="952560" cy="1666800"/>
          </a:xfrm>
          <a:custGeom>
            <a:avLst/>
            <a:gdLst/>
            <a:ahLst/>
            <a:rect l="l" t="t" r="r" b="b"/>
            <a:pathLst>
              <a:path w="600" h="1050">
                <a:moveTo>
                  <a:pt x="600" y="1050"/>
                </a:moveTo>
                <a:cubicBezTo>
                  <a:pt x="572" y="947"/>
                  <a:pt x="532" y="613"/>
                  <a:pt x="432" y="438"/>
                </a:cubicBezTo>
                <a:cubicBezTo>
                  <a:pt x="332" y="263"/>
                  <a:pt x="72" y="73"/>
                  <a:pt x="0" y="0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3" name=""/>
          <p:cNvSpPr/>
          <p:nvPr/>
        </p:nvSpPr>
        <p:spPr>
          <a:xfrm>
            <a:off x="7419960" y="2419200"/>
            <a:ext cx="1371600" cy="1438560"/>
          </a:xfrm>
          <a:custGeom>
            <a:avLst/>
            <a:gdLst/>
            <a:ahLst/>
            <a:rect l="l" t="t" r="r" b="b"/>
            <a:pathLst>
              <a:path w="864" h="906">
                <a:moveTo>
                  <a:pt x="864" y="0"/>
                </a:moveTo>
                <a:cubicBezTo>
                  <a:pt x="785" y="112"/>
                  <a:pt x="528" y="521"/>
                  <a:pt x="384" y="672"/>
                </a:cubicBezTo>
                <a:cubicBezTo>
                  <a:pt x="240" y="823"/>
                  <a:pt x="64" y="867"/>
                  <a:pt x="0" y="906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4" name=""/>
          <p:cNvSpPr/>
          <p:nvPr/>
        </p:nvSpPr>
        <p:spPr>
          <a:xfrm>
            <a:off x="6716160" y="594360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Times New Roman"/>
              </a:rPr>
              <a:t>del pes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5" name=""/>
          <p:cNvSpPr/>
          <p:nvPr/>
        </p:nvSpPr>
        <p:spPr>
          <a:xfrm>
            <a:off x="1287000" y="5794200"/>
            <a:ext cx="5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Piaz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000" spc="-1" strike="noStrike">
                <a:solidFill>
                  <a:srgbClr val="4d4d4d"/>
                </a:solidFill>
                <a:latin typeface="Times New Roman"/>
              </a:rPr>
              <a:t>Maris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6" name=""/>
          <p:cNvSpPr/>
          <p:nvPr/>
        </p:nvSpPr>
        <p:spPr>
          <a:xfrm>
            <a:off x="2286000" y="213372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7" name=""/>
          <p:cNvSpPr/>
          <p:nvPr/>
        </p:nvSpPr>
        <p:spPr>
          <a:xfrm>
            <a:off x="4809960" y="2990880"/>
            <a:ext cx="10512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8" name=""/>
          <p:cNvSpPr/>
          <p:nvPr/>
        </p:nvSpPr>
        <p:spPr>
          <a:xfrm>
            <a:off x="7593120" y="1655640"/>
            <a:ext cx="104760" cy="10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9" name=""/>
          <p:cNvGrpSpPr/>
          <p:nvPr/>
        </p:nvGrpSpPr>
        <p:grpSpPr>
          <a:xfrm>
            <a:off x="8880480" y="652320"/>
            <a:ext cx="275760" cy="276480"/>
            <a:chOff x="8880480" y="652320"/>
            <a:chExt cx="275760" cy="276480"/>
          </a:xfrm>
        </p:grpSpPr>
        <p:sp>
          <p:nvSpPr>
            <p:cNvPr id="6470" name=""/>
            <p:cNvSpPr/>
            <p:nvPr/>
          </p:nvSpPr>
          <p:spPr>
            <a:xfrm rot="16200000">
              <a:off x="8860320" y="672120"/>
              <a:ext cx="276480" cy="236520"/>
            </a:xfrm>
            <a:prstGeom prst="blockArc">
              <a:avLst>
                <a:gd name="adj1" fmla="val 9562668"/>
                <a:gd name="adj2" fmla="val 1237332"/>
                <a:gd name="adj3" fmla="val 30287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 rot="16200000">
              <a:off x="8919360" y="711720"/>
              <a:ext cx="158040" cy="15768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 rot="5400000">
              <a:off x="9066240" y="874080"/>
              <a:ext cx="21960" cy="788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 rot="5400000">
              <a:off x="9066240" y="630360"/>
              <a:ext cx="21960" cy="7884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 rot="5400000">
              <a:off x="8958960" y="731520"/>
              <a:ext cx="236880" cy="1180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 rot="16200000">
              <a:off x="8961120" y="770760"/>
              <a:ext cx="78840" cy="39960"/>
            </a:xfrm>
            <a:prstGeom prst="rect">
              <a:avLst/>
            </a:prstGeom>
            <a:solidFill>
              <a:srgbClr val="96969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 rot="16200000">
              <a:off x="9066240" y="779760"/>
              <a:ext cx="158040" cy="219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9077760" y="672120"/>
              <a:ext cx="0" cy="23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8" name=""/>
          <p:cNvGrpSpPr/>
          <p:nvPr/>
        </p:nvGrpSpPr>
        <p:grpSpPr>
          <a:xfrm>
            <a:off x="7544880" y="2286000"/>
            <a:ext cx="457200" cy="237960"/>
            <a:chOff x="7544880" y="2286000"/>
            <a:chExt cx="457200" cy="237960"/>
          </a:xfrm>
        </p:grpSpPr>
        <p:sp>
          <p:nvSpPr>
            <p:cNvPr id="6479" name=""/>
            <p:cNvSpPr/>
            <p:nvPr/>
          </p:nvSpPr>
          <p:spPr>
            <a:xfrm>
              <a:off x="7580160" y="2286000"/>
              <a:ext cx="421920" cy="2379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c12600"/>
                </a:gs>
                <a:gs pos="100000">
                  <a:srgbClr val="ff33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7650720" y="2338560"/>
              <a:ext cx="281520" cy="132120"/>
            </a:xfrm>
            <a:prstGeom prst="rect">
              <a:avLst/>
            </a:prstGeom>
            <a:solidFill>
              <a:srgbClr val="b2b2b2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615440" y="2312280"/>
              <a:ext cx="351360" cy="18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791480" y="2378520"/>
              <a:ext cx="105480" cy="52560"/>
            </a:xfrm>
            <a:prstGeom prst="rect">
              <a:avLst/>
            </a:prstGeom>
            <a:solidFill>
              <a:srgbClr val="99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3" name=""/>
            <p:cNvGrpSpPr/>
            <p:nvPr/>
          </p:nvGrpSpPr>
          <p:grpSpPr>
            <a:xfrm>
              <a:off x="7544880" y="2365200"/>
              <a:ext cx="70200" cy="79200"/>
              <a:chOff x="7544880" y="2365200"/>
              <a:chExt cx="70200" cy="79200"/>
            </a:xfrm>
          </p:grpSpPr>
          <p:sp>
            <p:nvSpPr>
              <p:cNvPr id="6484" name=""/>
              <p:cNvSpPr/>
              <p:nvPr/>
            </p:nvSpPr>
            <p:spPr>
              <a:xfrm rot="10800000">
                <a:off x="7544880" y="2365200"/>
                <a:ext cx="70200" cy="7920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00"/>
                  </a:gs>
                  <a:gs pos="50000">
                    <a:srgbClr val="c12600"/>
                  </a:gs>
                  <a:gs pos="100000">
                    <a:srgbClr val="ff3300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 flipH="1">
                <a:off x="7546320" y="2404800"/>
                <a:ext cx="6876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6" name=""/>
            <p:cNvSpPr/>
            <p:nvPr/>
          </p:nvSpPr>
          <p:spPr>
            <a:xfrm>
              <a:off x="7858800" y="234612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7815600" y="234612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7772400" y="234612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7729200" y="234612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7686000" y="234612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7860240" y="243756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7817040" y="243756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7773840" y="243756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7730640" y="243756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7687440" y="2437560"/>
              <a:ext cx="34920" cy="26280"/>
            </a:xfrm>
            <a:custGeom>
              <a:avLst/>
              <a:gdLst>
                <a:gd name="textAreaLeft" fmla="*/ 7920 w 34920"/>
                <a:gd name="textAreaRight" fmla="*/ 27000 w 34920"/>
                <a:gd name="textAreaTop" fmla="*/ 5760 h 26280"/>
                <a:gd name="textAreaBottom" fmla="*/ 20520 h 2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cb43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6" name=""/>
          <p:cNvGrpSpPr/>
          <p:nvPr/>
        </p:nvGrpSpPr>
        <p:grpSpPr>
          <a:xfrm>
            <a:off x="4114800" y="2438640"/>
            <a:ext cx="473040" cy="315720"/>
            <a:chOff x="4114800" y="2438640"/>
            <a:chExt cx="473040" cy="315720"/>
          </a:xfrm>
        </p:grpSpPr>
        <p:sp>
          <p:nvSpPr>
            <p:cNvPr id="6497" name=""/>
            <p:cNvSpPr/>
            <p:nvPr/>
          </p:nvSpPr>
          <p:spPr>
            <a:xfrm rot="10800000">
              <a:off x="4114800" y="2491200"/>
              <a:ext cx="473040" cy="210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a82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 flipH="1">
              <a:off x="4114800" y="2596320"/>
              <a:ext cx="473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 rot="5400000">
              <a:off x="4377240" y="2491560"/>
              <a:ext cx="5220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 rot="5400000">
              <a:off x="4390200" y="2504160"/>
              <a:ext cx="25920" cy="26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b00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 flipV="1">
              <a:off x="4377240" y="249156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 flipH="1" flipV="1">
              <a:off x="4377240" y="249156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 rot="5400000">
              <a:off x="4535280" y="2491560"/>
              <a:ext cx="5220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 rot="5400000">
              <a:off x="4547880" y="2504160"/>
              <a:ext cx="25920" cy="26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9a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 flipV="1">
              <a:off x="4535280" y="249156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 flipH="1" flipV="1">
              <a:off x="4535280" y="249156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 rot="5400000">
              <a:off x="4377240" y="2649600"/>
              <a:ext cx="5220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 rot="5400000">
              <a:off x="4390200" y="2662200"/>
              <a:ext cx="25920" cy="26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b00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 flipV="1">
              <a:off x="4377240" y="264960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 flipH="1" flipV="1">
              <a:off x="4377240" y="264960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 rot="5400000">
              <a:off x="4535280" y="2649600"/>
              <a:ext cx="5220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 rot="5400000">
              <a:off x="4547880" y="2662200"/>
              <a:ext cx="25920" cy="26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009a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 flipV="1">
              <a:off x="4535280" y="264960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 flipH="1" flipV="1">
              <a:off x="4535280" y="264960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 rot="5400000">
              <a:off x="4114800" y="2649600"/>
              <a:ext cx="5220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 rot="5400000">
              <a:off x="4127400" y="2662200"/>
              <a:ext cx="25920" cy="26280"/>
            </a:xfrm>
            <a:prstGeom prst="rect">
              <a:avLst/>
            </a:prstGeom>
            <a:gradFill rotWithShape="0">
              <a:gsLst>
                <a:gs pos="0">
                  <a:srgbClr val="6586a8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 flipV="1">
              <a:off x="4114800" y="264960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 flipH="1" flipV="1">
              <a:off x="4114800" y="264960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 rot="5400000">
              <a:off x="4114800" y="2491560"/>
              <a:ext cx="5220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 rot="5400000">
              <a:off x="4127400" y="2504160"/>
              <a:ext cx="25920" cy="26280"/>
            </a:xfrm>
            <a:prstGeom prst="rect">
              <a:avLst/>
            </a:prstGeom>
            <a:gradFill rotWithShape="0">
              <a:gsLst>
                <a:gs pos="0">
                  <a:srgbClr val="6586a8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 flipV="1">
              <a:off x="4114800" y="249156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 flipH="1" flipV="1">
              <a:off x="4114800" y="2491560"/>
              <a:ext cx="52560" cy="52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 flipH="1" rot="16200000">
              <a:off x="4246920" y="2621880"/>
              <a:ext cx="102960" cy="1576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288" y="288"/>
                  </a:lnTo>
                  <a:lnTo>
                    <a:pt x="144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10800000"/>
            </a:gra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 flipV="1">
              <a:off x="4298760" y="2653560"/>
              <a:ext cx="0" cy="10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 rot="16200000">
              <a:off x="4246920" y="2413440"/>
              <a:ext cx="102960" cy="1576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144"/>
                  </a:moveTo>
                  <a:lnTo>
                    <a:pt x="144" y="0"/>
                  </a:lnTo>
                  <a:lnTo>
                    <a:pt x="288" y="0"/>
                  </a:lnTo>
                  <a:lnTo>
                    <a:pt x="288" y="288"/>
                  </a:lnTo>
                  <a:lnTo>
                    <a:pt x="144" y="288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da8200"/>
                </a:gs>
              </a:gsLst>
              <a:lin ang="10800000"/>
            </a:gra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4298760" y="2438640"/>
              <a:ext cx="0" cy="10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 rot="5400000">
              <a:off x="4219560" y="2570400"/>
              <a:ext cx="52560" cy="5256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 rot="5400000">
              <a:off x="4232520" y="2583720"/>
              <a:ext cx="26280" cy="26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1c19a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 flipV="1">
              <a:off x="4219560" y="2570400"/>
              <a:ext cx="525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 flipV="1">
              <a:off x="4219560" y="2570400"/>
              <a:ext cx="5256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1" name=""/>
          <p:cNvGrpSpPr/>
          <p:nvPr/>
        </p:nvGrpSpPr>
        <p:grpSpPr>
          <a:xfrm>
            <a:off x="6933600" y="5105520"/>
            <a:ext cx="97200" cy="95040"/>
            <a:chOff x="6933600" y="5105520"/>
            <a:chExt cx="97200" cy="95040"/>
          </a:xfrm>
        </p:grpSpPr>
        <p:sp>
          <p:nvSpPr>
            <p:cNvPr id="6532" name=""/>
            <p:cNvSpPr/>
            <p:nvPr/>
          </p:nvSpPr>
          <p:spPr>
            <a:xfrm rot="5400000">
              <a:off x="698292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 rot="5400000">
              <a:off x="6886080" y="5152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 rot="5400000">
              <a:off x="6958800" y="51282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 rot="5400000">
              <a:off x="6958440" y="50806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6" name=""/>
          <p:cNvGrpSpPr/>
          <p:nvPr/>
        </p:nvGrpSpPr>
        <p:grpSpPr>
          <a:xfrm>
            <a:off x="7164360" y="4646520"/>
            <a:ext cx="95400" cy="97200"/>
            <a:chOff x="7164360" y="4646520"/>
            <a:chExt cx="95400" cy="97200"/>
          </a:xfrm>
        </p:grpSpPr>
        <p:sp>
          <p:nvSpPr>
            <p:cNvPr id="6537" name=""/>
            <p:cNvSpPr/>
            <p:nvPr/>
          </p:nvSpPr>
          <p:spPr>
            <a:xfrm>
              <a:off x="7164360" y="4646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7164360" y="474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7212240" y="46465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164360" y="46465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1" name=""/>
          <p:cNvGrpSpPr/>
          <p:nvPr/>
        </p:nvGrpSpPr>
        <p:grpSpPr>
          <a:xfrm>
            <a:off x="7621560" y="5027760"/>
            <a:ext cx="95400" cy="97200"/>
            <a:chOff x="7621560" y="5027760"/>
            <a:chExt cx="95400" cy="97200"/>
          </a:xfrm>
        </p:grpSpPr>
        <p:sp>
          <p:nvSpPr>
            <p:cNvPr id="6542" name=""/>
            <p:cNvSpPr/>
            <p:nvPr/>
          </p:nvSpPr>
          <p:spPr>
            <a:xfrm>
              <a:off x="7621560" y="5027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7621560" y="51246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669440" y="5027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7621560" y="5027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6" name=""/>
          <p:cNvGrpSpPr/>
          <p:nvPr/>
        </p:nvGrpSpPr>
        <p:grpSpPr>
          <a:xfrm>
            <a:off x="7392960" y="5541840"/>
            <a:ext cx="95400" cy="97200"/>
            <a:chOff x="7392960" y="5541840"/>
            <a:chExt cx="95400" cy="97200"/>
          </a:xfrm>
        </p:grpSpPr>
        <p:sp>
          <p:nvSpPr>
            <p:cNvPr id="6547" name=""/>
            <p:cNvSpPr/>
            <p:nvPr/>
          </p:nvSpPr>
          <p:spPr>
            <a:xfrm>
              <a:off x="7392960" y="554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7392960" y="5638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7440840" y="55418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7392960" y="5541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1" name=""/>
          <p:cNvGrpSpPr/>
          <p:nvPr/>
        </p:nvGrpSpPr>
        <p:grpSpPr>
          <a:xfrm>
            <a:off x="7164360" y="4417920"/>
            <a:ext cx="95400" cy="97200"/>
            <a:chOff x="7164360" y="4417920"/>
            <a:chExt cx="95400" cy="97200"/>
          </a:xfrm>
        </p:grpSpPr>
        <p:sp>
          <p:nvSpPr>
            <p:cNvPr id="6552" name=""/>
            <p:cNvSpPr/>
            <p:nvPr/>
          </p:nvSpPr>
          <p:spPr>
            <a:xfrm>
              <a:off x="7164360" y="4417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7164360" y="4514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7212240" y="44179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7164360" y="44179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6" name=""/>
          <p:cNvGrpSpPr/>
          <p:nvPr/>
        </p:nvGrpSpPr>
        <p:grpSpPr>
          <a:xfrm>
            <a:off x="6927120" y="5546880"/>
            <a:ext cx="97200" cy="95040"/>
            <a:chOff x="6927120" y="5546880"/>
            <a:chExt cx="97200" cy="95040"/>
          </a:xfrm>
        </p:grpSpPr>
        <p:sp>
          <p:nvSpPr>
            <p:cNvPr id="6557" name=""/>
            <p:cNvSpPr/>
            <p:nvPr/>
          </p:nvSpPr>
          <p:spPr>
            <a:xfrm rot="5400000">
              <a:off x="6976440" y="5594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 rot="5400000">
              <a:off x="6879600" y="5594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 rot="5400000">
              <a:off x="6952320" y="5569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 rot="5400000">
              <a:off x="6951960" y="55220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1" name=""/>
          <p:cNvGrpSpPr/>
          <p:nvPr/>
        </p:nvGrpSpPr>
        <p:grpSpPr>
          <a:xfrm>
            <a:off x="7370640" y="6213240"/>
            <a:ext cx="150840" cy="152280"/>
            <a:chOff x="7370640" y="6213240"/>
            <a:chExt cx="150840" cy="152280"/>
          </a:xfrm>
        </p:grpSpPr>
        <p:sp>
          <p:nvSpPr>
            <p:cNvPr id="6562" name=""/>
            <p:cNvSpPr/>
            <p:nvPr/>
          </p:nvSpPr>
          <p:spPr>
            <a:xfrm rot="16200000">
              <a:off x="7337520" y="63111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 rot="16200000">
              <a:off x="7402680" y="62463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 rot="16200000">
              <a:off x="7424280" y="626832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 rot="16200000">
              <a:off x="7467480" y="61808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 rot="16200000">
              <a:off x="7401960" y="62460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 rot="16200000">
              <a:off x="7423560" y="62676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8" name=""/>
          <p:cNvGrpSpPr/>
          <p:nvPr/>
        </p:nvGrpSpPr>
        <p:grpSpPr>
          <a:xfrm>
            <a:off x="7391160" y="5028840"/>
            <a:ext cx="152280" cy="150840"/>
            <a:chOff x="7391160" y="5028840"/>
            <a:chExt cx="152280" cy="150840"/>
          </a:xfrm>
        </p:grpSpPr>
        <p:sp>
          <p:nvSpPr>
            <p:cNvPr id="6569" name=""/>
            <p:cNvSpPr/>
            <p:nvPr/>
          </p:nvSpPr>
          <p:spPr>
            <a:xfrm rot="10800000">
              <a:off x="7456320" y="51584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 rot="10800000">
              <a:off x="7456320" y="50720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 rot="10800000">
              <a:off x="7499880" y="50288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 rot="10800000">
              <a:off x="7391160" y="50288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 rot="10800000">
              <a:off x="7391160" y="50724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 rot="10800000">
              <a:off x="7391160" y="50288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5" name=""/>
          <p:cNvGrpSpPr/>
          <p:nvPr/>
        </p:nvGrpSpPr>
        <p:grpSpPr>
          <a:xfrm>
            <a:off x="6629040" y="4800600"/>
            <a:ext cx="150840" cy="152280"/>
            <a:chOff x="6629040" y="4800600"/>
            <a:chExt cx="150840" cy="152280"/>
          </a:xfrm>
        </p:grpSpPr>
        <p:sp>
          <p:nvSpPr>
            <p:cNvPr id="6576" name=""/>
            <p:cNvSpPr/>
            <p:nvPr/>
          </p:nvSpPr>
          <p:spPr>
            <a:xfrm rot="5400000">
              <a:off x="6725520" y="48333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 rot="5400000">
              <a:off x="6704280" y="48121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 rot="5400000">
              <a:off x="6682680" y="47469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 rot="5400000">
              <a:off x="6661440" y="48988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 rot="5400000">
              <a:off x="6639480" y="487692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 rot="5400000">
              <a:off x="6574320" y="485496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2" name=""/>
          <p:cNvGrpSpPr/>
          <p:nvPr/>
        </p:nvGrpSpPr>
        <p:grpSpPr>
          <a:xfrm>
            <a:off x="6662880" y="4576680"/>
            <a:ext cx="88920" cy="93600"/>
            <a:chOff x="6662880" y="4576680"/>
            <a:chExt cx="88920" cy="93600"/>
          </a:xfrm>
        </p:grpSpPr>
        <p:sp>
          <p:nvSpPr>
            <p:cNvPr id="6583" name=""/>
            <p:cNvSpPr/>
            <p:nvPr/>
          </p:nvSpPr>
          <p:spPr>
            <a:xfrm>
              <a:off x="6662880" y="4576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6662880" y="465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6707160" y="4576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6662880" y="4576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7" name=""/>
          <p:cNvGrpSpPr/>
          <p:nvPr/>
        </p:nvGrpSpPr>
        <p:grpSpPr>
          <a:xfrm>
            <a:off x="7620120" y="4648320"/>
            <a:ext cx="88920" cy="93600"/>
            <a:chOff x="7620120" y="4648320"/>
            <a:chExt cx="88920" cy="93600"/>
          </a:xfrm>
        </p:grpSpPr>
        <p:sp>
          <p:nvSpPr>
            <p:cNvPr id="6588" name=""/>
            <p:cNvSpPr/>
            <p:nvPr/>
          </p:nvSpPr>
          <p:spPr>
            <a:xfrm>
              <a:off x="762012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762012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76644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762012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2" name=""/>
          <p:cNvGrpSpPr/>
          <p:nvPr/>
        </p:nvGrpSpPr>
        <p:grpSpPr>
          <a:xfrm>
            <a:off x="6934320" y="4648320"/>
            <a:ext cx="88920" cy="93600"/>
            <a:chOff x="6934320" y="4648320"/>
            <a:chExt cx="88920" cy="93600"/>
          </a:xfrm>
        </p:grpSpPr>
        <p:sp>
          <p:nvSpPr>
            <p:cNvPr id="6593" name=""/>
            <p:cNvSpPr/>
            <p:nvPr/>
          </p:nvSpPr>
          <p:spPr>
            <a:xfrm>
              <a:off x="6934320" y="4648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6934320" y="47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697860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6934320" y="4648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7" name=""/>
          <p:cNvGrpSpPr/>
          <p:nvPr/>
        </p:nvGrpSpPr>
        <p:grpSpPr>
          <a:xfrm>
            <a:off x="7159680" y="4879440"/>
            <a:ext cx="93600" cy="88920"/>
            <a:chOff x="7159680" y="4879440"/>
            <a:chExt cx="93600" cy="88920"/>
          </a:xfrm>
        </p:grpSpPr>
        <p:sp>
          <p:nvSpPr>
            <p:cNvPr id="6598" name=""/>
            <p:cNvSpPr/>
            <p:nvPr/>
          </p:nvSpPr>
          <p:spPr>
            <a:xfrm rot="16200000">
              <a:off x="7124400" y="4914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 rot="16200000">
              <a:off x="7199280" y="4914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 rot="16200000">
              <a:off x="7184160" y="4854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 rot="16200000">
              <a:off x="7184160" y="4899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2" name=""/>
          <p:cNvGrpSpPr/>
          <p:nvPr/>
        </p:nvGrpSpPr>
        <p:grpSpPr>
          <a:xfrm>
            <a:off x="7159680" y="5108040"/>
            <a:ext cx="93600" cy="88920"/>
            <a:chOff x="7159680" y="5108040"/>
            <a:chExt cx="93600" cy="88920"/>
          </a:xfrm>
        </p:grpSpPr>
        <p:sp>
          <p:nvSpPr>
            <p:cNvPr id="6603" name=""/>
            <p:cNvSpPr/>
            <p:nvPr/>
          </p:nvSpPr>
          <p:spPr>
            <a:xfrm rot="16200000">
              <a:off x="7124400" y="5143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 rot="16200000">
              <a:off x="7199280" y="5142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 rot="16200000">
              <a:off x="7184160" y="5083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 rot="16200000">
              <a:off x="7184160" y="5127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7" name=""/>
          <p:cNvGrpSpPr/>
          <p:nvPr/>
        </p:nvGrpSpPr>
        <p:grpSpPr>
          <a:xfrm>
            <a:off x="7086600" y="5257800"/>
            <a:ext cx="88920" cy="93600"/>
            <a:chOff x="7086600" y="5257800"/>
            <a:chExt cx="88920" cy="93600"/>
          </a:xfrm>
        </p:grpSpPr>
        <p:sp>
          <p:nvSpPr>
            <p:cNvPr id="6608" name=""/>
            <p:cNvSpPr/>
            <p:nvPr/>
          </p:nvSpPr>
          <p:spPr>
            <a:xfrm>
              <a:off x="7086600" y="5257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7086600" y="5332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7130880" y="5257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7086600" y="5257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2" name=""/>
          <p:cNvGrpSpPr/>
          <p:nvPr/>
        </p:nvGrpSpPr>
        <p:grpSpPr>
          <a:xfrm>
            <a:off x="6931080" y="5336640"/>
            <a:ext cx="93600" cy="88920"/>
            <a:chOff x="6931080" y="5336640"/>
            <a:chExt cx="93600" cy="88920"/>
          </a:xfrm>
        </p:grpSpPr>
        <p:sp>
          <p:nvSpPr>
            <p:cNvPr id="6613" name=""/>
            <p:cNvSpPr/>
            <p:nvPr/>
          </p:nvSpPr>
          <p:spPr>
            <a:xfrm rot="16200000">
              <a:off x="6895800" y="5371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 rot="16200000">
              <a:off x="6970680" y="537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 rot="16200000">
              <a:off x="6955560" y="5312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 rot="16200000">
              <a:off x="6955560" y="5356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7" name=""/>
          <p:cNvGrpSpPr/>
          <p:nvPr/>
        </p:nvGrpSpPr>
        <p:grpSpPr>
          <a:xfrm>
            <a:off x="7467480" y="5715000"/>
            <a:ext cx="88920" cy="93600"/>
            <a:chOff x="7467480" y="5715000"/>
            <a:chExt cx="88920" cy="93600"/>
          </a:xfrm>
        </p:grpSpPr>
        <p:sp>
          <p:nvSpPr>
            <p:cNvPr id="6618" name=""/>
            <p:cNvSpPr/>
            <p:nvPr/>
          </p:nvSpPr>
          <p:spPr>
            <a:xfrm>
              <a:off x="7467480" y="571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7467480" y="578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751176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7467480" y="5715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2" name=""/>
          <p:cNvGrpSpPr/>
          <p:nvPr/>
        </p:nvGrpSpPr>
        <p:grpSpPr>
          <a:xfrm>
            <a:off x="7616880" y="5793840"/>
            <a:ext cx="93600" cy="88920"/>
            <a:chOff x="7616880" y="5793840"/>
            <a:chExt cx="93600" cy="88920"/>
          </a:xfrm>
        </p:grpSpPr>
        <p:sp>
          <p:nvSpPr>
            <p:cNvPr id="6623" name=""/>
            <p:cNvSpPr/>
            <p:nvPr/>
          </p:nvSpPr>
          <p:spPr>
            <a:xfrm rot="16200000">
              <a:off x="7581600" y="5829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 rot="16200000">
              <a:off x="7656480" y="5828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 rot="16200000">
              <a:off x="7641360" y="5769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 rot="16200000">
              <a:off x="7641360" y="5813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7" name=""/>
          <p:cNvGrpSpPr/>
          <p:nvPr/>
        </p:nvGrpSpPr>
        <p:grpSpPr>
          <a:xfrm>
            <a:off x="7391520" y="5962320"/>
            <a:ext cx="93600" cy="88920"/>
            <a:chOff x="7391520" y="5962320"/>
            <a:chExt cx="93600" cy="88920"/>
          </a:xfrm>
        </p:grpSpPr>
        <p:sp>
          <p:nvSpPr>
            <p:cNvPr id="6628" name=""/>
            <p:cNvSpPr/>
            <p:nvPr/>
          </p:nvSpPr>
          <p:spPr>
            <a:xfrm rot="16200000">
              <a:off x="7356240" y="5997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 rot="16200000">
              <a:off x="7431120" y="5997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 rot="16200000">
              <a:off x="7416000" y="5937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 rot="16200000">
              <a:off x="7416000" y="598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2" name=""/>
          <p:cNvGrpSpPr/>
          <p:nvPr/>
        </p:nvGrpSpPr>
        <p:grpSpPr>
          <a:xfrm>
            <a:off x="7620120" y="6019920"/>
            <a:ext cx="74520" cy="149400"/>
            <a:chOff x="7620120" y="6019920"/>
            <a:chExt cx="74520" cy="149400"/>
          </a:xfrm>
        </p:grpSpPr>
        <p:sp>
          <p:nvSpPr>
            <p:cNvPr id="6633" name=""/>
            <p:cNvSpPr/>
            <p:nvPr/>
          </p:nvSpPr>
          <p:spPr>
            <a:xfrm>
              <a:off x="7620120" y="6019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7620120" y="61689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7657200" y="60199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7620120" y="60199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7" name=""/>
          <p:cNvGrpSpPr/>
          <p:nvPr/>
        </p:nvGrpSpPr>
        <p:grpSpPr>
          <a:xfrm>
            <a:off x="7620120" y="5486400"/>
            <a:ext cx="74520" cy="149760"/>
            <a:chOff x="7620120" y="5486400"/>
            <a:chExt cx="74520" cy="149760"/>
          </a:xfrm>
        </p:grpSpPr>
        <p:sp>
          <p:nvSpPr>
            <p:cNvPr id="6638" name=""/>
            <p:cNvSpPr/>
            <p:nvPr/>
          </p:nvSpPr>
          <p:spPr>
            <a:xfrm>
              <a:off x="7620120" y="5486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7620120" y="5635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7657200" y="54864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7620120" y="54864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2" name=""/>
          <p:cNvGrpSpPr/>
          <p:nvPr/>
        </p:nvGrpSpPr>
        <p:grpSpPr>
          <a:xfrm>
            <a:off x="7624800" y="6286320"/>
            <a:ext cx="149400" cy="74520"/>
            <a:chOff x="7624800" y="6286320"/>
            <a:chExt cx="149400" cy="74520"/>
          </a:xfrm>
        </p:grpSpPr>
        <p:sp>
          <p:nvSpPr>
            <p:cNvPr id="6643" name=""/>
            <p:cNvSpPr/>
            <p:nvPr/>
          </p:nvSpPr>
          <p:spPr>
            <a:xfrm rot="16200000">
              <a:off x="7587720" y="6323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 rot="16200000">
              <a:off x="7736760" y="6323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 rot="16200000">
              <a:off x="7680600" y="62305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 rot="16200000">
              <a:off x="7680600" y="626760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7" name=""/>
          <p:cNvGrpSpPr/>
          <p:nvPr/>
        </p:nvGrpSpPr>
        <p:grpSpPr>
          <a:xfrm>
            <a:off x="6705720" y="5105160"/>
            <a:ext cx="149400" cy="74520"/>
            <a:chOff x="6705720" y="5105160"/>
            <a:chExt cx="149400" cy="74520"/>
          </a:xfrm>
        </p:grpSpPr>
        <p:sp>
          <p:nvSpPr>
            <p:cNvPr id="6648" name=""/>
            <p:cNvSpPr/>
            <p:nvPr/>
          </p:nvSpPr>
          <p:spPr>
            <a:xfrm rot="16200000">
              <a:off x="6668640" y="5142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 rot="16200000">
              <a:off x="6817680" y="51422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 rot="16200000">
              <a:off x="6761520" y="50493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 rot="16200000">
              <a:off x="6761520" y="508644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2" name=""/>
          <p:cNvGrpSpPr/>
          <p:nvPr/>
        </p:nvGrpSpPr>
        <p:grpSpPr>
          <a:xfrm>
            <a:off x="6676920" y="5736960"/>
            <a:ext cx="152640" cy="74520"/>
            <a:chOff x="6676920" y="5736960"/>
            <a:chExt cx="152640" cy="74520"/>
          </a:xfrm>
        </p:grpSpPr>
        <p:sp>
          <p:nvSpPr>
            <p:cNvPr id="6653" name=""/>
            <p:cNvSpPr/>
            <p:nvPr/>
          </p:nvSpPr>
          <p:spPr>
            <a:xfrm rot="16200000">
              <a:off x="6654600" y="57589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 rot="16200000">
              <a:off x="6777000" y="5758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 rot="16200000">
              <a:off x="6734520" y="567936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 rot="16200000">
              <a:off x="6734520" y="57164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7" name=""/>
          <p:cNvGrpSpPr/>
          <p:nvPr/>
        </p:nvGrpSpPr>
        <p:grpSpPr>
          <a:xfrm>
            <a:off x="7162920" y="5714640"/>
            <a:ext cx="152280" cy="74520"/>
            <a:chOff x="7162920" y="5714640"/>
            <a:chExt cx="152280" cy="74520"/>
          </a:xfrm>
        </p:grpSpPr>
        <p:sp>
          <p:nvSpPr>
            <p:cNvPr id="6658" name=""/>
            <p:cNvSpPr/>
            <p:nvPr/>
          </p:nvSpPr>
          <p:spPr>
            <a:xfrm rot="16200000">
              <a:off x="7140600" y="5736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 rot="16200000">
              <a:off x="7262640" y="57366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 rot="16200000">
              <a:off x="7220520" y="5657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 rot="16200000">
              <a:off x="7220520" y="56944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2" name=""/>
          <p:cNvGrpSpPr/>
          <p:nvPr/>
        </p:nvGrpSpPr>
        <p:grpSpPr>
          <a:xfrm>
            <a:off x="7086600" y="5486040"/>
            <a:ext cx="152640" cy="149400"/>
            <a:chOff x="7086600" y="5486040"/>
            <a:chExt cx="152640" cy="149400"/>
          </a:xfrm>
        </p:grpSpPr>
        <p:sp>
          <p:nvSpPr>
            <p:cNvPr id="6663" name=""/>
            <p:cNvSpPr/>
            <p:nvPr/>
          </p:nvSpPr>
          <p:spPr>
            <a:xfrm rot="16200000">
              <a:off x="7012080" y="5560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 rot="16200000">
              <a:off x="7164360" y="5560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 rot="16200000">
              <a:off x="7125480" y="54471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 rot="16200000">
              <a:off x="7125120" y="55216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7" name=""/>
          <p:cNvGrpSpPr/>
          <p:nvPr/>
        </p:nvGrpSpPr>
        <p:grpSpPr>
          <a:xfrm>
            <a:off x="6857640" y="4799880"/>
            <a:ext cx="149400" cy="152640"/>
            <a:chOff x="6857640" y="4799880"/>
            <a:chExt cx="149400" cy="152640"/>
          </a:xfrm>
        </p:grpSpPr>
        <p:sp>
          <p:nvSpPr>
            <p:cNvPr id="6668" name=""/>
            <p:cNvSpPr/>
            <p:nvPr/>
          </p:nvSpPr>
          <p:spPr>
            <a:xfrm rot="10800000">
              <a:off x="6857640" y="4952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rot="10800000">
              <a:off x="6857640" y="479988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 rot="10800000">
              <a:off x="6857640" y="480024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 rot="10800000">
              <a:off x="6932160" y="48002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2" name=""/>
          <p:cNvGrpSpPr/>
          <p:nvPr/>
        </p:nvGrpSpPr>
        <p:grpSpPr>
          <a:xfrm>
            <a:off x="6705720" y="5486040"/>
            <a:ext cx="152640" cy="149400"/>
            <a:chOff x="6705720" y="5486040"/>
            <a:chExt cx="152640" cy="149400"/>
          </a:xfrm>
        </p:grpSpPr>
        <p:sp>
          <p:nvSpPr>
            <p:cNvPr id="6673" name=""/>
            <p:cNvSpPr/>
            <p:nvPr/>
          </p:nvSpPr>
          <p:spPr>
            <a:xfrm rot="16200000">
              <a:off x="6631200" y="5560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 rot="16200000">
              <a:off x="6783480" y="55605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 rot="16200000">
              <a:off x="6744600" y="54471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 rot="16200000">
              <a:off x="6744240" y="55216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7" name=""/>
          <p:cNvGrpSpPr/>
          <p:nvPr/>
        </p:nvGrpSpPr>
        <p:grpSpPr>
          <a:xfrm>
            <a:off x="7543800" y="5257800"/>
            <a:ext cx="152280" cy="152280"/>
            <a:chOff x="7543800" y="5257800"/>
            <a:chExt cx="152280" cy="152280"/>
          </a:xfrm>
        </p:grpSpPr>
        <p:sp>
          <p:nvSpPr>
            <p:cNvPr id="6678" name=""/>
            <p:cNvSpPr/>
            <p:nvPr/>
          </p:nvSpPr>
          <p:spPr>
            <a:xfrm>
              <a:off x="7543800" y="5257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7543800" y="5379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7619760" y="5257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7543800" y="5257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2" name=""/>
          <p:cNvGrpSpPr/>
          <p:nvPr/>
        </p:nvGrpSpPr>
        <p:grpSpPr>
          <a:xfrm>
            <a:off x="7315200" y="5257440"/>
            <a:ext cx="152280" cy="152280"/>
            <a:chOff x="7315200" y="5257440"/>
            <a:chExt cx="152280" cy="152280"/>
          </a:xfrm>
        </p:grpSpPr>
        <p:sp>
          <p:nvSpPr>
            <p:cNvPr id="6683" name=""/>
            <p:cNvSpPr/>
            <p:nvPr/>
          </p:nvSpPr>
          <p:spPr>
            <a:xfrm rot="16200000">
              <a:off x="7254000" y="53182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 rot="16200000">
              <a:off x="7376040" y="53182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 rot="16200000">
              <a:off x="7353360" y="52196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 rot="16200000">
              <a:off x="7353360" y="5295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7" name=""/>
          <p:cNvGrpSpPr/>
          <p:nvPr/>
        </p:nvGrpSpPr>
        <p:grpSpPr>
          <a:xfrm>
            <a:off x="6934320" y="4419360"/>
            <a:ext cx="152280" cy="152280"/>
            <a:chOff x="6934320" y="4419360"/>
            <a:chExt cx="152280" cy="152280"/>
          </a:xfrm>
        </p:grpSpPr>
        <p:sp>
          <p:nvSpPr>
            <p:cNvPr id="6688" name=""/>
            <p:cNvSpPr/>
            <p:nvPr/>
          </p:nvSpPr>
          <p:spPr>
            <a:xfrm rot="16200000">
              <a:off x="6873120" y="44802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 rot="16200000">
              <a:off x="6995160" y="44802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 rot="16200000">
              <a:off x="6972480" y="43815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 rot="16200000">
              <a:off x="6972480" y="44575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2" name=""/>
          <p:cNvGrpSpPr/>
          <p:nvPr/>
        </p:nvGrpSpPr>
        <p:grpSpPr>
          <a:xfrm>
            <a:off x="6629400" y="5257800"/>
            <a:ext cx="74520" cy="149760"/>
            <a:chOff x="6629400" y="5257800"/>
            <a:chExt cx="74520" cy="149760"/>
          </a:xfrm>
        </p:grpSpPr>
        <p:sp>
          <p:nvSpPr>
            <p:cNvPr id="6693" name=""/>
            <p:cNvSpPr/>
            <p:nvPr/>
          </p:nvSpPr>
          <p:spPr>
            <a:xfrm>
              <a:off x="6629400" y="5257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6629400" y="5407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6666480" y="5257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6629400" y="5257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7" name=""/>
          <p:cNvGrpSpPr/>
          <p:nvPr/>
        </p:nvGrpSpPr>
        <p:grpSpPr>
          <a:xfrm>
            <a:off x="7848720" y="5791320"/>
            <a:ext cx="95040" cy="97200"/>
            <a:chOff x="7848720" y="5791320"/>
            <a:chExt cx="95040" cy="97200"/>
          </a:xfrm>
        </p:grpSpPr>
        <p:sp>
          <p:nvSpPr>
            <p:cNvPr id="6698" name=""/>
            <p:cNvSpPr/>
            <p:nvPr/>
          </p:nvSpPr>
          <p:spPr>
            <a:xfrm>
              <a:off x="7848720" y="5791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7848720" y="5888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7896240" y="57913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7848720" y="5791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2" name=""/>
          <p:cNvGrpSpPr/>
          <p:nvPr/>
        </p:nvGrpSpPr>
        <p:grpSpPr>
          <a:xfrm>
            <a:off x="7800840" y="4624560"/>
            <a:ext cx="95400" cy="97200"/>
            <a:chOff x="7800840" y="4624560"/>
            <a:chExt cx="95400" cy="97200"/>
          </a:xfrm>
        </p:grpSpPr>
        <p:sp>
          <p:nvSpPr>
            <p:cNvPr id="6703" name=""/>
            <p:cNvSpPr/>
            <p:nvPr/>
          </p:nvSpPr>
          <p:spPr>
            <a:xfrm>
              <a:off x="7800840" y="4624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7800840" y="4721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7848720" y="46245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7800840" y="4624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7" name=""/>
          <p:cNvGrpSpPr/>
          <p:nvPr/>
        </p:nvGrpSpPr>
        <p:grpSpPr>
          <a:xfrm>
            <a:off x="7848720" y="6019920"/>
            <a:ext cx="88920" cy="93600"/>
            <a:chOff x="7848720" y="6019920"/>
            <a:chExt cx="88920" cy="93600"/>
          </a:xfrm>
        </p:grpSpPr>
        <p:sp>
          <p:nvSpPr>
            <p:cNvPr id="6708" name=""/>
            <p:cNvSpPr/>
            <p:nvPr/>
          </p:nvSpPr>
          <p:spPr>
            <a:xfrm>
              <a:off x="7848720" y="6019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7848720" y="6094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789300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7848720" y="6019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2" name=""/>
          <p:cNvGrpSpPr/>
          <p:nvPr/>
        </p:nvGrpSpPr>
        <p:grpSpPr>
          <a:xfrm>
            <a:off x="7848720" y="5486400"/>
            <a:ext cx="149040" cy="228960"/>
            <a:chOff x="7848720" y="5486400"/>
            <a:chExt cx="149040" cy="228960"/>
          </a:xfrm>
        </p:grpSpPr>
        <p:sp>
          <p:nvSpPr>
            <p:cNvPr id="6713" name=""/>
            <p:cNvSpPr/>
            <p:nvPr/>
          </p:nvSpPr>
          <p:spPr>
            <a:xfrm>
              <a:off x="7848720" y="54864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7848720" y="57150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7923600" y="5486400"/>
              <a:ext cx="7416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7848720" y="548640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7" name=""/>
          <p:cNvGrpSpPr/>
          <p:nvPr/>
        </p:nvGrpSpPr>
        <p:grpSpPr>
          <a:xfrm>
            <a:off x="7829640" y="4800600"/>
            <a:ext cx="149040" cy="228960"/>
            <a:chOff x="7829640" y="4800600"/>
            <a:chExt cx="149040" cy="228960"/>
          </a:xfrm>
        </p:grpSpPr>
        <p:sp>
          <p:nvSpPr>
            <p:cNvPr id="6718" name=""/>
            <p:cNvSpPr/>
            <p:nvPr/>
          </p:nvSpPr>
          <p:spPr>
            <a:xfrm>
              <a:off x="7829640" y="48006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7829640" y="502920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7904520" y="4800600"/>
              <a:ext cx="7416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7829640" y="480060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2" name=""/>
          <p:cNvGrpSpPr/>
          <p:nvPr/>
        </p:nvGrpSpPr>
        <p:grpSpPr>
          <a:xfrm>
            <a:off x="7620120" y="4876920"/>
            <a:ext cx="88920" cy="93600"/>
            <a:chOff x="7620120" y="4876920"/>
            <a:chExt cx="88920" cy="93600"/>
          </a:xfrm>
        </p:grpSpPr>
        <p:sp>
          <p:nvSpPr>
            <p:cNvPr id="6723" name=""/>
            <p:cNvSpPr/>
            <p:nvPr/>
          </p:nvSpPr>
          <p:spPr>
            <a:xfrm>
              <a:off x="7620120" y="4876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7620120" y="4951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766440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7620120" y="4876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7" name=""/>
          <p:cNvGrpSpPr/>
          <p:nvPr/>
        </p:nvGrpSpPr>
        <p:grpSpPr>
          <a:xfrm>
            <a:off x="6477120" y="5562360"/>
            <a:ext cx="93600" cy="88920"/>
            <a:chOff x="6477120" y="5562360"/>
            <a:chExt cx="93600" cy="88920"/>
          </a:xfrm>
        </p:grpSpPr>
        <p:sp>
          <p:nvSpPr>
            <p:cNvPr id="6728" name=""/>
            <p:cNvSpPr/>
            <p:nvPr/>
          </p:nvSpPr>
          <p:spPr>
            <a:xfrm rot="16200000">
              <a:off x="6441840" y="5597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 rot="16200000">
              <a:off x="6516720" y="5597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 rot="16200000">
              <a:off x="6501600" y="5537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 rot="16200000">
              <a:off x="6501600" y="5582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2" name=""/>
          <p:cNvGrpSpPr/>
          <p:nvPr/>
        </p:nvGrpSpPr>
        <p:grpSpPr>
          <a:xfrm>
            <a:off x="6248520" y="5486040"/>
            <a:ext cx="93600" cy="88920"/>
            <a:chOff x="6248520" y="5486040"/>
            <a:chExt cx="93600" cy="88920"/>
          </a:xfrm>
        </p:grpSpPr>
        <p:sp>
          <p:nvSpPr>
            <p:cNvPr id="6733" name=""/>
            <p:cNvSpPr/>
            <p:nvPr/>
          </p:nvSpPr>
          <p:spPr>
            <a:xfrm rot="16200000">
              <a:off x="6213240" y="5521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 rot="16200000">
              <a:off x="6288120" y="5520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 rot="16200000">
              <a:off x="6273000" y="5461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 rot="16200000">
              <a:off x="6273000" y="5505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7" name=""/>
          <p:cNvGrpSpPr/>
          <p:nvPr/>
        </p:nvGrpSpPr>
        <p:grpSpPr>
          <a:xfrm>
            <a:off x="6248520" y="5333760"/>
            <a:ext cx="93600" cy="88920"/>
            <a:chOff x="6248520" y="5333760"/>
            <a:chExt cx="93600" cy="88920"/>
          </a:xfrm>
        </p:grpSpPr>
        <p:sp>
          <p:nvSpPr>
            <p:cNvPr id="6738" name=""/>
            <p:cNvSpPr/>
            <p:nvPr/>
          </p:nvSpPr>
          <p:spPr>
            <a:xfrm rot="16200000">
              <a:off x="6213240" y="5369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 rot="16200000">
              <a:off x="6288120" y="5368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 rot="16200000">
              <a:off x="6273000" y="5309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 rot="16200000">
              <a:off x="6273000" y="5353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2" name=""/>
          <p:cNvGrpSpPr/>
          <p:nvPr/>
        </p:nvGrpSpPr>
        <p:grpSpPr>
          <a:xfrm>
            <a:off x="6477120" y="5105160"/>
            <a:ext cx="93600" cy="88920"/>
            <a:chOff x="6477120" y="5105160"/>
            <a:chExt cx="93600" cy="88920"/>
          </a:xfrm>
        </p:grpSpPr>
        <p:sp>
          <p:nvSpPr>
            <p:cNvPr id="6743" name=""/>
            <p:cNvSpPr/>
            <p:nvPr/>
          </p:nvSpPr>
          <p:spPr>
            <a:xfrm rot="16200000">
              <a:off x="6441840" y="5140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 rot="16200000">
              <a:off x="6516720" y="5140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 rot="16200000">
              <a:off x="6501600" y="5080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 rot="16200000">
              <a:off x="6501600" y="5124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7" name=""/>
          <p:cNvGrpSpPr/>
          <p:nvPr/>
        </p:nvGrpSpPr>
        <p:grpSpPr>
          <a:xfrm>
            <a:off x="6477120" y="5257800"/>
            <a:ext cx="74520" cy="149760"/>
            <a:chOff x="6477120" y="5257800"/>
            <a:chExt cx="74520" cy="149760"/>
          </a:xfrm>
        </p:grpSpPr>
        <p:sp>
          <p:nvSpPr>
            <p:cNvPr id="6748" name=""/>
            <p:cNvSpPr/>
            <p:nvPr/>
          </p:nvSpPr>
          <p:spPr>
            <a:xfrm>
              <a:off x="6477120" y="52578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6477120" y="5407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6514200" y="5257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6477120" y="5257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2" name=""/>
          <p:cNvGrpSpPr/>
          <p:nvPr/>
        </p:nvGrpSpPr>
        <p:grpSpPr>
          <a:xfrm>
            <a:off x="7550280" y="3798720"/>
            <a:ext cx="503280" cy="690480"/>
            <a:chOff x="7550280" y="3798720"/>
            <a:chExt cx="503280" cy="690480"/>
          </a:xfrm>
        </p:grpSpPr>
        <p:sp>
          <p:nvSpPr>
            <p:cNvPr id="6753" name=""/>
            <p:cNvSpPr/>
            <p:nvPr/>
          </p:nvSpPr>
          <p:spPr>
            <a:xfrm rot="5400000">
              <a:off x="7463880" y="3899520"/>
              <a:ext cx="690480" cy="488880"/>
            </a:xfrm>
            <a:custGeom>
              <a:avLst/>
              <a:gdLst/>
              <a:ahLst/>
              <a:rect l="l" t="t" r="r" b="b"/>
              <a:pathLst>
                <a:path w="339" h="308">
                  <a:moveTo>
                    <a:pt x="0" y="0"/>
                  </a:moveTo>
                  <a:lnTo>
                    <a:pt x="339" y="3"/>
                  </a:lnTo>
                  <a:lnTo>
                    <a:pt x="339" y="163"/>
                  </a:lnTo>
                  <a:lnTo>
                    <a:pt x="339" y="227"/>
                  </a:lnTo>
                  <a:lnTo>
                    <a:pt x="279" y="308"/>
                  </a:lnTo>
                  <a:lnTo>
                    <a:pt x="99" y="308"/>
                  </a:lnTo>
                  <a:lnTo>
                    <a:pt x="39" y="276"/>
                  </a:lnTo>
                  <a:lnTo>
                    <a:pt x="39" y="1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 flipV="1">
              <a:off x="7550280" y="4200120"/>
              <a:ext cx="0" cy="7632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5" name=""/>
            <p:cNvGrpSpPr/>
            <p:nvPr/>
          </p:nvGrpSpPr>
          <p:grpSpPr>
            <a:xfrm>
              <a:off x="7647120" y="3970080"/>
              <a:ext cx="164880" cy="187200"/>
              <a:chOff x="7647120" y="3970080"/>
              <a:chExt cx="164880" cy="187200"/>
            </a:xfrm>
          </p:grpSpPr>
          <p:sp>
            <p:nvSpPr>
              <p:cNvPr id="6756" name=""/>
              <p:cNvSpPr/>
              <p:nvPr/>
            </p:nvSpPr>
            <p:spPr>
              <a:xfrm rot="16200000">
                <a:off x="7611120" y="4039560"/>
                <a:ext cx="187200" cy="482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 rot="16200000">
                <a:off x="7659720" y="4039200"/>
                <a:ext cx="187200" cy="4860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8" name=""/>
              <p:cNvGrpSpPr/>
              <p:nvPr/>
            </p:nvGrpSpPr>
            <p:grpSpPr>
              <a:xfrm>
                <a:off x="7746120" y="4003200"/>
                <a:ext cx="65880" cy="120960"/>
                <a:chOff x="7746120" y="4003200"/>
                <a:chExt cx="65880" cy="120960"/>
              </a:xfrm>
            </p:grpSpPr>
            <p:sp>
              <p:nvSpPr>
                <p:cNvPr id="6759" name=""/>
                <p:cNvSpPr/>
                <p:nvPr/>
              </p:nvSpPr>
              <p:spPr>
                <a:xfrm>
                  <a:off x="7746120" y="400320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0" name=""/>
                <p:cNvSpPr/>
                <p:nvPr/>
              </p:nvSpPr>
              <p:spPr>
                <a:xfrm flipV="1">
                  <a:off x="7746120" y="406368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1" name=""/>
              <p:cNvGrpSpPr/>
              <p:nvPr/>
            </p:nvGrpSpPr>
            <p:grpSpPr>
              <a:xfrm>
                <a:off x="7647120" y="4003200"/>
                <a:ext cx="66240" cy="120960"/>
                <a:chOff x="7647120" y="4003200"/>
                <a:chExt cx="66240" cy="120960"/>
              </a:xfrm>
            </p:grpSpPr>
            <p:sp>
              <p:nvSpPr>
                <p:cNvPr id="6762" name=""/>
                <p:cNvSpPr/>
                <p:nvPr/>
              </p:nvSpPr>
              <p:spPr>
                <a:xfrm flipH="1">
                  <a:off x="7647120" y="4003200"/>
                  <a:ext cx="6624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3" name=""/>
                <p:cNvSpPr/>
                <p:nvPr/>
              </p:nvSpPr>
              <p:spPr>
                <a:xfrm flipH="1" flipV="1">
                  <a:off x="7647120" y="4063680"/>
                  <a:ext cx="6624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4" name=""/>
            <p:cNvGrpSpPr/>
            <p:nvPr/>
          </p:nvGrpSpPr>
          <p:grpSpPr>
            <a:xfrm>
              <a:off x="7869600" y="3900240"/>
              <a:ext cx="141120" cy="142920"/>
              <a:chOff x="7869600" y="3900240"/>
              <a:chExt cx="141120" cy="142920"/>
            </a:xfrm>
          </p:grpSpPr>
          <p:sp>
            <p:nvSpPr>
              <p:cNvPr id="6765" name=""/>
              <p:cNvSpPr/>
              <p:nvPr/>
            </p:nvSpPr>
            <p:spPr>
              <a:xfrm>
                <a:off x="7869600" y="390024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7869600" y="401436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7940160" y="390024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7869600" y="390024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9" name=""/>
            <p:cNvGrpSpPr/>
            <p:nvPr/>
          </p:nvGrpSpPr>
          <p:grpSpPr>
            <a:xfrm>
              <a:off x="7881480" y="4087440"/>
              <a:ext cx="97200" cy="95400"/>
              <a:chOff x="7881480" y="4087440"/>
              <a:chExt cx="97200" cy="95400"/>
            </a:xfrm>
          </p:grpSpPr>
          <p:sp>
            <p:nvSpPr>
              <p:cNvPr id="6770" name=""/>
              <p:cNvSpPr/>
              <p:nvPr/>
            </p:nvSpPr>
            <p:spPr>
              <a:xfrm rot="5400000">
                <a:off x="7930800" y="4134960"/>
                <a:ext cx="95400" cy="360"/>
              </a:xfrm>
              <a:custGeom>
                <a:avLst/>
                <a:gdLst/>
                <a:ahLst/>
                <a:rect l="l" t="t" r="r" b="b"/>
                <a:pathLst>
                  <a:path w="1638" h="0">
                    <a:moveTo>
                      <a:pt x="1638" y="0"/>
                    </a:moveTo>
                    <a:lnTo>
                      <a:pt x="0" y="0"/>
                    </a:lnTo>
                    <a:lnTo>
                      <a:pt x="822" y="0"/>
                    </a:lnTo>
                    <a:lnTo>
                      <a:pt x="163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 rot="5400000">
                <a:off x="7833960" y="4134960"/>
                <a:ext cx="95400" cy="360"/>
              </a:xfrm>
              <a:custGeom>
                <a:avLst/>
                <a:gdLst/>
                <a:ahLst/>
                <a:rect l="l" t="t" r="r" b="b"/>
                <a:pathLst>
                  <a:path w="1638" h="0">
                    <a:moveTo>
                      <a:pt x="1638" y="0"/>
                    </a:moveTo>
                    <a:lnTo>
                      <a:pt x="0" y="0"/>
                    </a:lnTo>
                    <a:lnTo>
                      <a:pt x="822" y="0"/>
                    </a:lnTo>
                    <a:lnTo>
                      <a:pt x="1638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 rot="5400000">
                <a:off x="7906320" y="4110480"/>
                <a:ext cx="47520" cy="968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 rot="5400000">
                <a:off x="7906320" y="4062960"/>
                <a:ext cx="47880" cy="968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4" name=""/>
            <p:cNvGrpSpPr/>
            <p:nvPr/>
          </p:nvGrpSpPr>
          <p:grpSpPr>
            <a:xfrm>
              <a:off x="7879680" y="4236840"/>
              <a:ext cx="97200" cy="95040"/>
              <a:chOff x="7879680" y="4236840"/>
              <a:chExt cx="97200" cy="95040"/>
            </a:xfrm>
          </p:grpSpPr>
          <p:sp>
            <p:nvSpPr>
              <p:cNvPr id="6775" name=""/>
              <p:cNvSpPr/>
              <p:nvPr/>
            </p:nvSpPr>
            <p:spPr>
              <a:xfrm rot="5400000">
                <a:off x="7929000" y="4284000"/>
                <a:ext cx="95040" cy="360"/>
              </a:xfrm>
              <a:custGeom>
                <a:avLst/>
                <a:gdLst/>
                <a:ahLst/>
                <a:rect l="l" t="t" r="r" b="b"/>
                <a:pathLst>
                  <a:path w="1638" h="0">
                    <a:moveTo>
                      <a:pt x="1638" y="0"/>
                    </a:moveTo>
                    <a:lnTo>
                      <a:pt x="0" y="0"/>
                    </a:lnTo>
                    <a:lnTo>
                      <a:pt x="822" y="0"/>
                    </a:lnTo>
                    <a:lnTo>
                      <a:pt x="163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 rot="5400000">
                <a:off x="7832160" y="4284000"/>
                <a:ext cx="95040" cy="360"/>
              </a:xfrm>
              <a:custGeom>
                <a:avLst/>
                <a:gdLst/>
                <a:ahLst/>
                <a:rect l="l" t="t" r="r" b="b"/>
                <a:pathLst>
                  <a:path w="1638" h="0">
                    <a:moveTo>
                      <a:pt x="1638" y="0"/>
                    </a:moveTo>
                    <a:lnTo>
                      <a:pt x="0" y="0"/>
                    </a:lnTo>
                    <a:lnTo>
                      <a:pt x="822" y="0"/>
                    </a:lnTo>
                    <a:lnTo>
                      <a:pt x="1638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 rot="5400000">
                <a:off x="7904880" y="4259520"/>
                <a:ext cx="47160" cy="968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 rot="5400000">
                <a:off x="7904520" y="4212000"/>
                <a:ext cx="47520" cy="968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9" name=""/>
            <p:cNvGrpSpPr/>
            <p:nvPr/>
          </p:nvGrpSpPr>
          <p:grpSpPr>
            <a:xfrm>
              <a:off x="7689960" y="4330440"/>
              <a:ext cx="88920" cy="93600"/>
              <a:chOff x="7689960" y="4330440"/>
              <a:chExt cx="88920" cy="93600"/>
            </a:xfrm>
          </p:grpSpPr>
          <p:sp>
            <p:nvSpPr>
              <p:cNvPr id="6780" name=""/>
              <p:cNvSpPr/>
              <p:nvPr/>
            </p:nvSpPr>
            <p:spPr>
              <a:xfrm>
                <a:off x="7689960" y="4330440"/>
                <a:ext cx="88920" cy="1836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7689960" y="440532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7734240" y="433044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7689960" y="433044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4" name=""/>
          <p:cNvGrpSpPr/>
          <p:nvPr/>
        </p:nvGrpSpPr>
        <p:grpSpPr>
          <a:xfrm>
            <a:off x="6724800" y="4370400"/>
            <a:ext cx="95040" cy="97200"/>
            <a:chOff x="6724800" y="4370400"/>
            <a:chExt cx="95040" cy="97200"/>
          </a:xfrm>
        </p:grpSpPr>
        <p:sp>
          <p:nvSpPr>
            <p:cNvPr id="6785" name=""/>
            <p:cNvSpPr/>
            <p:nvPr/>
          </p:nvSpPr>
          <p:spPr>
            <a:xfrm>
              <a:off x="6724800" y="4370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6724800" y="4467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6772320" y="43704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6724800" y="4370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9" name=""/>
          <p:cNvGrpSpPr/>
          <p:nvPr/>
        </p:nvGrpSpPr>
        <p:grpSpPr>
          <a:xfrm>
            <a:off x="6478560" y="4622760"/>
            <a:ext cx="95400" cy="97200"/>
            <a:chOff x="6478560" y="4622760"/>
            <a:chExt cx="95400" cy="97200"/>
          </a:xfrm>
        </p:grpSpPr>
        <p:sp>
          <p:nvSpPr>
            <p:cNvPr id="6790" name=""/>
            <p:cNvSpPr/>
            <p:nvPr/>
          </p:nvSpPr>
          <p:spPr>
            <a:xfrm>
              <a:off x="6478560" y="4622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6478560" y="47196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6526440" y="4622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6478560" y="4622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4" name=""/>
          <p:cNvGrpSpPr/>
          <p:nvPr/>
        </p:nvGrpSpPr>
        <p:grpSpPr>
          <a:xfrm>
            <a:off x="6445080" y="4855680"/>
            <a:ext cx="93960" cy="88920"/>
            <a:chOff x="6445080" y="4855680"/>
            <a:chExt cx="93960" cy="88920"/>
          </a:xfrm>
        </p:grpSpPr>
        <p:sp>
          <p:nvSpPr>
            <p:cNvPr id="6795" name=""/>
            <p:cNvSpPr/>
            <p:nvPr/>
          </p:nvSpPr>
          <p:spPr>
            <a:xfrm rot="16200000">
              <a:off x="6409800" y="4890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6" name=""/>
            <p:cNvSpPr/>
            <p:nvPr/>
          </p:nvSpPr>
          <p:spPr>
            <a:xfrm rot="16200000">
              <a:off x="6485040" y="4890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 rot="16200000">
              <a:off x="6469920" y="483120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8" name=""/>
            <p:cNvSpPr/>
            <p:nvPr/>
          </p:nvSpPr>
          <p:spPr>
            <a:xfrm rot="16200000">
              <a:off x="6469920" y="4875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9" name=""/>
          <p:cNvGrpSpPr/>
          <p:nvPr/>
        </p:nvGrpSpPr>
        <p:grpSpPr>
          <a:xfrm>
            <a:off x="6203880" y="5041440"/>
            <a:ext cx="93600" cy="88920"/>
            <a:chOff x="6203880" y="5041440"/>
            <a:chExt cx="93600" cy="88920"/>
          </a:xfrm>
        </p:grpSpPr>
        <p:sp>
          <p:nvSpPr>
            <p:cNvPr id="6800" name=""/>
            <p:cNvSpPr/>
            <p:nvPr/>
          </p:nvSpPr>
          <p:spPr>
            <a:xfrm rot="16200000">
              <a:off x="6168600" y="5076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1" name=""/>
            <p:cNvSpPr/>
            <p:nvPr/>
          </p:nvSpPr>
          <p:spPr>
            <a:xfrm rot="16200000">
              <a:off x="6243480" y="5076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 rot="16200000">
              <a:off x="6228360" y="5016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3" name=""/>
            <p:cNvSpPr/>
            <p:nvPr/>
          </p:nvSpPr>
          <p:spPr>
            <a:xfrm rot="16200000">
              <a:off x="6228360" y="5061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4" name=""/>
          <p:cNvGrpSpPr/>
          <p:nvPr/>
        </p:nvGrpSpPr>
        <p:grpSpPr>
          <a:xfrm>
            <a:off x="6267600" y="4824360"/>
            <a:ext cx="74520" cy="149760"/>
            <a:chOff x="6267600" y="4824360"/>
            <a:chExt cx="74520" cy="149760"/>
          </a:xfrm>
        </p:grpSpPr>
        <p:sp>
          <p:nvSpPr>
            <p:cNvPr id="6805" name=""/>
            <p:cNvSpPr/>
            <p:nvPr/>
          </p:nvSpPr>
          <p:spPr>
            <a:xfrm>
              <a:off x="6267600" y="48243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6267600" y="4973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6304680" y="48243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6267600" y="482436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9" name=""/>
          <p:cNvGrpSpPr/>
          <p:nvPr/>
        </p:nvGrpSpPr>
        <p:grpSpPr>
          <a:xfrm>
            <a:off x="6491160" y="4436640"/>
            <a:ext cx="93960" cy="88920"/>
            <a:chOff x="6491160" y="4436640"/>
            <a:chExt cx="93960" cy="88920"/>
          </a:xfrm>
        </p:grpSpPr>
        <p:sp>
          <p:nvSpPr>
            <p:cNvPr id="6810" name=""/>
            <p:cNvSpPr/>
            <p:nvPr/>
          </p:nvSpPr>
          <p:spPr>
            <a:xfrm rot="16200000">
              <a:off x="6455880" y="447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1" name=""/>
            <p:cNvSpPr/>
            <p:nvPr/>
          </p:nvSpPr>
          <p:spPr>
            <a:xfrm rot="16200000">
              <a:off x="6531120" y="4471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2" name=""/>
            <p:cNvSpPr/>
            <p:nvPr/>
          </p:nvSpPr>
          <p:spPr>
            <a:xfrm rot="16200000">
              <a:off x="6516000" y="44121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3" name=""/>
            <p:cNvSpPr/>
            <p:nvPr/>
          </p:nvSpPr>
          <p:spPr>
            <a:xfrm rot="16200000">
              <a:off x="6516000" y="44564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4" name=""/>
          <p:cNvGrpSpPr/>
          <p:nvPr/>
        </p:nvGrpSpPr>
        <p:grpSpPr>
          <a:xfrm>
            <a:off x="7813800" y="6178680"/>
            <a:ext cx="190080" cy="196560"/>
            <a:chOff x="7813800" y="6178680"/>
            <a:chExt cx="190080" cy="196560"/>
          </a:xfrm>
        </p:grpSpPr>
        <p:sp>
          <p:nvSpPr>
            <p:cNvPr id="6815" name=""/>
            <p:cNvSpPr/>
            <p:nvPr/>
          </p:nvSpPr>
          <p:spPr>
            <a:xfrm>
              <a:off x="7820280" y="6185160"/>
              <a:ext cx="176760" cy="18180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7817400" y="6184800"/>
              <a:ext cx="183240" cy="18360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7969320" y="6360480"/>
              <a:ext cx="25200" cy="1404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7818120" y="636084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7978320" y="6178680"/>
              <a:ext cx="25200" cy="1296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7813800" y="617868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7813800" y="620280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7813800" y="622872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7813800" y="625428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7813800" y="627840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7813800" y="630468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7813800" y="6323760"/>
              <a:ext cx="13680" cy="252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7813800" y="6349320"/>
              <a:ext cx="13680" cy="25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7990920" y="617868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7990920" y="620280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7990920" y="62283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7990920" y="62535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7990920" y="6278400"/>
              <a:ext cx="12960" cy="25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7990920" y="630396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7990920" y="632304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7990920" y="6348600"/>
              <a:ext cx="12960" cy="2592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7826760" y="6178680"/>
              <a:ext cx="25200" cy="1332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7853040" y="6178680"/>
              <a:ext cx="24480" cy="1332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7877520" y="6178680"/>
              <a:ext cx="25200" cy="1332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7903080" y="6178680"/>
              <a:ext cx="25200" cy="1332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7929000" y="6178680"/>
              <a:ext cx="25200" cy="1332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7954200" y="6178680"/>
              <a:ext cx="25200" cy="1332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7843680" y="636084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7868520" y="636084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7893720" y="636084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7920000" y="6360840"/>
              <a:ext cx="25200" cy="144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7945200" y="6360840"/>
              <a:ext cx="25200" cy="144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7926120" y="6261120"/>
              <a:ext cx="36720" cy="3024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7953840" y="6274800"/>
              <a:ext cx="5760" cy="50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7926120" y="6265080"/>
              <a:ext cx="1440" cy="54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7924680" y="6282360"/>
              <a:ext cx="2880" cy="3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1" name=""/>
          <p:cNvGrpSpPr/>
          <p:nvPr/>
        </p:nvGrpSpPr>
        <p:grpSpPr>
          <a:xfrm>
            <a:off x="7947000" y="4402080"/>
            <a:ext cx="149040" cy="154080"/>
            <a:chOff x="7947000" y="4402080"/>
            <a:chExt cx="149040" cy="154080"/>
          </a:xfrm>
        </p:grpSpPr>
        <p:sp>
          <p:nvSpPr>
            <p:cNvPr id="6852" name=""/>
            <p:cNvSpPr/>
            <p:nvPr/>
          </p:nvSpPr>
          <p:spPr>
            <a:xfrm>
              <a:off x="7952040" y="4407120"/>
              <a:ext cx="138600" cy="14256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7949520" y="4406760"/>
              <a:ext cx="144000" cy="14400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8069040" y="454464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7950240" y="454500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8076240" y="4402080"/>
              <a:ext cx="19800" cy="100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7947000" y="4402080"/>
              <a:ext cx="10800" cy="198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7947000" y="442116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7947000" y="444132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7947000" y="4461120"/>
              <a:ext cx="10800" cy="198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7947000" y="448020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7947000" y="450072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7947000" y="4515840"/>
              <a:ext cx="10800" cy="198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7947000" y="453564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8085960" y="4402080"/>
              <a:ext cx="10080" cy="198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8085960" y="4421160"/>
              <a:ext cx="10080" cy="198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8085960" y="444096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8085960" y="446076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8085960" y="4480200"/>
              <a:ext cx="10080" cy="198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8085960" y="450036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8085960" y="451548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8085960" y="453528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7957080" y="4402080"/>
              <a:ext cx="19800" cy="104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7977600" y="4402080"/>
              <a:ext cx="19080" cy="1044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7997040" y="4402080"/>
              <a:ext cx="19800" cy="104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8016840" y="4402080"/>
              <a:ext cx="19800" cy="104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8037360" y="4402080"/>
              <a:ext cx="19800" cy="104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8057160" y="4402080"/>
              <a:ext cx="19800" cy="104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7970400" y="4545000"/>
              <a:ext cx="19800" cy="1116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7989840" y="454500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8010000" y="4545000"/>
              <a:ext cx="19800" cy="1116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8030160" y="4545000"/>
              <a:ext cx="19800" cy="1116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8050320" y="454500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8034840" y="4466520"/>
              <a:ext cx="28800" cy="2376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8056800" y="4477320"/>
              <a:ext cx="4680" cy="396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8034840" y="4469760"/>
              <a:ext cx="1080" cy="396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8034120" y="4483440"/>
              <a:ext cx="2160" cy="28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8" name=""/>
          <p:cNvGrpSpPr/>
          <p:nvPr/>
        </p:nvGrpSpPr>
        <p:grpSpPr>
          <a:xfrm>
            <a:off x="9680400" y="3497400"/>
            <a:ext cx="149040" cy="153720"/>
            <a:chOff x="9680400" y="3497400"/>
            <a:chExt cx="149040" cy="153720"/>
          </a:xfrm>
        </p:grpSpPr>
        <p:sp>
          <p:nvSpPr>
            <p:cNvPr id="6889" name=""/>
            <p:cNvSpPr/>
            <p:nvPr/>
          </p:nvSpPr>
          <p:spPr>
            <a:xfrm>
              <a:off x="9685440" y="3502440"/>
              <a:ext cx="138600" cy="14220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9682920" y="3502080"/>
              <a:ext cx="144000" cy="14364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9802440" y="3639600"/>
              <a:ext cx="19800" cy="1080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9683640" y="363996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9809640" y="3497400"/>
              <a:ext cx="19800" cy="100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9680400" y="3497400"/>
              <a:ext cx="10800" cy="198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9680400" y="351612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9680400" y="353664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9680400" y="3556440"/>
              <a:ext cx="10800" cy="198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9680400" y="357552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9680400" y="359568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9680400" y="3610800"/>
              <a:ext cx="10800" cy="198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9680400" y="3630960"/>
              <a:ext cx="10800" cy="201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9819360" y="3497400"/>
              <a:ext cx="10080" cy="198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9819360" y="3516120"/>
              <a:ext cx="10080" cy="198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9819360" y="353628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9819360" y="355608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9819360" y="3575520"/>
              <a:ext cx="10080" cy="198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9819360" y="359532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9819360" y="361044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9819360" y="3630240"/>
              <a:ext cx="10080" cy="201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9690480" y="3497400"/>
              <a:ext cx="19800" cy="104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9711000" y="3497400"/>
              <a:ext cx="19080" cy="1044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9730440" y="3497400"/>
              <a:ext cx="19800" cy="104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9750240" y="3497400"/>
              <a:ext cx="19800" cy="104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9770760" y="3497400"/>
              <a:ext cx="19800" cy="104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9790560" y="3497400"/>
              <a:ext cx="19800" cy="104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9703800" y="3639960"/>
              <a:ext cx="19800" cy="1116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9723240" y="363996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9743400" y="3639960"/>
              <a:ext cx="19800" cy="1116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9763560" y="3639960"/>
              <a:ext cx="19800" cy="1116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9783720" y="3639960"/>
              <a:ext cx="19800" cy="1116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9768240" y="3561840"/>
              <a:ext cx="28800" cy="2376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9790200" y="3572640"/>
              <a:ext cx="4680" cy="36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9768240" y="3564720"/>
              <a:ext cx="1080" cy="396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9767520" y="3578400"/>
              <a:ext cx="2160" cy="288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5" name=""/>
          <p:cNvGrpSpPr/>
          <p:nvPr/>
        </p:nvGrpSpPr>
        <p:grpSpPr>
          <a:xfrm>
            <a:off x="7326360" y="4560840"/>
            <a:ext cx="218880" cy="219240"/>
            <a:chOff x="7326360" y="4560840"/>
            <a:chExt cx="218880" cy="219240"/>
          </a:xfrm>
        </p:grpSpPr>
        <p:sp>
          <p:nvSpPr>
            <p:cNvPr id="6926" name=""/>
            <p:cNvSpPr/>
            <p:nvPr/>
          </p:nvSpPr>
          <p:spPr>
            <a:xfrm>
              <a:off x="7362720" y="4597200"/>
              <a:ext cx="36360" cy="1465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342" y="342"/>
                  </a:moveTo>
                  <a:lnTo>
                    <a:pt x="0" y="0"/>
                  </a:lnTo>
                  <a:lnTo>
                    <a:pt x="0" y="1374"/>
                  </a:lnTo>
                  <a:lnTo>
                    <a:pt x="342" y="1032"/>
                  </a:lnTo>
                  <a:lnTo>
                    <a:pt x="342" y="34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7326360" y="4560840"/>
              <a:ext cx="36360" cy="21924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0" y="0"/>
                  </a:moveTo>
                  <a:lnTo>
                    <a:pt x="342" y="342"/>
                  </a:lnTo>
                  <a:lnTo>
                    <a:pt x="342" y="1716"/>
                  </a:lnTo>
                  <a:lnTo>
                    <a:pt x="0" y="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7362720" y="4707360"/>
              <a:ext cx="14616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342" y="0"/>
                  </a:moveTo>
                  <a:lnTo>
                    <a:pt x="0" y="342"/>
                  </a:lnTo>
                  <a:lnTo>
                    <a:pt x="1374" y="342"/>
                  </a:lnTo>
                  <a:lnTo>
                    <a:pt x="103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7326360" y="4743720"/>
              <a:ext cx="21888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0" y="342"/>
                  </a:moveTo>
                  <a:lnTo>
                    <a:pt x="342" y="0"/>
                  </a:lnTo>
                  <a:lnTo>
                    <a:pt x="1716" y="0"/>
                  </a:lnTo>
                  <a:lnTo>
                    <a:pt x="2058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7472520" y="4597200"/>
              <a:ext cx="36360" cy="1465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0" y="1032"/>
                  </a:moveTo>
                  <a:lnTo>
                    <a:pt x="342" y="1374"/>
                  </a:lnTo>
                  <a:lnTo>
                    <a:pt x="342" y="0"/>
                  </a:lnTo>
                  <a:lnTo>
                    <a:pt x="0" y="34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7508880" y="4560840"/>
              <a:ext cx="36360" cy="21924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342" y="2058"/>
                  </a:moveTo>
                  <a:lnTo>
                    <a:pt x="0" y="1716"/>
                  </a:lnTo>
                  <a:lnTo>
                    <a:pt x="0" y="342"/>
                  </a:lnTo>
                  <a:lnTo>
                    <a:pt x="342" y="0"/>
                  </a:lnTo>
                  <a:lnTo>
                    <a:pt x="342" y="205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7362720" y="4597200"/>
              <a:ext cx="14616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1032" y="342"/>
                  </a:moveTo>
                  <a:lnTo>
                    <a:pt x="1374" y="0"/>
                  </a:lnTo>
                  <a:lnTo>
                    <a:pt x="0" y="0"/>
                  </a:lnTo>
                  <a:lnTo>
                    <a:pt x="342" y="342"/>
                  </a:lnTo>
                  <a:lnTo>
                    <a:pt x="1032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7326360" y="4560840"/>
              <a:ext cx="21888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2058" y="0"/>
                  </a:moveTo>
                  <a:lnTo>
                    <a:pt x="1716" y="342"/>
                  </a:lnTo>
                  <a:lnTo>
                    <a:pt x="342" y="342"/>
                  </a:lnTo>
                  <a:lnTo>
                    <a:pt x="0" y="0"/>
                  </a:lnTo>
                  <a:lnTo>
                    <a:pt x="205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4" name=""/>
          <p:cNvGrpSpPr/>
          <p:nvPr/>
        </p:nvGrpSpPr>
        <p:grpSpPr>
          <a:xfrm>
            <a:off x="7383600" y="4874760"/>
            <a:ext cx="93600" cy="88920"/>
            <a:chOff x="7383600" y="4874760"/>
            <a:chExt cx="93600" cy="88920"/>
          </a:xfrm>
        </p:grpSpPr>
        <p:sp>
          <p:nvSpPr>
            <p:cNvPr id="6935" name=""/>
            <p:cNvSpPr/>
            <p:nvPr/>
          </p:nvSpPr>
          <p:spPr>
            <a:xfrm rot="16200000">
              <a:off x="7348320" y="4910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6" name=""/>
            <p:cNvSpPr/>
            <p:nvPr/>
          </p:nvSpPr>
          <p:spPr>
            <a:xfrm rot="16200000">
              <a:off x="7423200" y="4909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7" name=""/>
            <p:cNvSpPr/>
            <p:nvPr/>
          </p:nvSpPr>
          <p:spPr>
            <a:xfrm rot="16200000">
              <a:off x="7408080" y="4850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8" name=""/>
            <p:cNvSpPr/>
            <p:nvPr/>
          </p:nvSpPr>
          <p:spPr>
            <a:xfrm rot="16200000">
              <a:off x="7408080" y="4894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9" name=""/>
          <p:cNvGrpSpPr/>
          <p:nvPr/>
        </p:nvGrpSpPr>
        <p:grpSpPr>
          <a:xfrm>
            <a:off x="8510040" y="3281400"/>
            <a:ext cx="97200" cy="95040"/>
            <a:chOff x="8510040" y="3281400"/>
            <a:chExt cx="97200" cy="95040"/>
          </a:xfrm>
        </p:grpSpPr>
        <p:sp>
          <p:nvSpPr>
            <p:cNvPr id="6940" name=""/>
            <p:cNvSpPr/>
            <p:nvPr/>
          </p:nvSpPr>
          <p:spPr>
            <a:xfrm rot="5400000">
              <a:off x="8559360" y="3328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1" name=""/>
            <p:cNvSpPr/>
            <p:nvPr/>
          </p:nvSpPr>
          <p:spPr>
            <a:xfrm rot="5400000">
              <a:off x="8462520" y="3328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2" name=""/>
            <p:cNvSpPr/>
            <p:nvPr/>
          </p:nvSpPr>
          <p:spPr>
            <a:xfrm rot="5400000">
              <a:off x="8535240" y="33040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3" name=""/>
            <p:cNvSpPr/>
            <p:nvPr/>
          </p:nvSpPr>
          <p:spPr>
            <a:xfrm rot="5400000">
              <a:off x="8534880" y="32565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4" name=""/>
          <p:cNvGrpSpPr/>
          <p:nvPr/>
        </p:nvGrpSpPr>
        <p:grpSpPr>
          <a:xfrm>
            <a:off x="8319960" y="3285720"/>
            <a:ext cx="93960" cy="88920"/>
            <a:chOff x="8319960" y="3285720"/>
            <a:chExt cx="93960" cy="88920"/>
          </a:xfrm>
        </p:grpSpPr>
        <p:sp>
          <p:nvSpPr>
            <p:cNvPr id="6945" name=""/>
            <p:cNvSpPr/>
            <p:nvPr/>
          </p:nvSpPr>
          <p:spPr>
            <a:xfrm rot="16200000">
              <a:off x="8284680" y="332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6" name=""/>
            <p:cNvSpPr/>
            <p:nvPr/>
          </p:nvSpPr>
          <p:spPr>
            <a:xfrm rot="16200000">
              <a:off x="8359920" y="332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7" name=""/>
            <p:cNvSpPr/>
            <p:nvPr/>
          </p:nvSpPr>
          <p:spPr>
            <a:xfrm rot="16200000">
              <a:off x="8344800" y="3261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8" name=""/>
            <p:cNvSpPr/>
            <p:nvPr/>
          </p:nvSpPr>
          <p:spPr>
            <a:xfrm rot="16200000">
              <a:off x="8344800" y="33055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9" name=""/>
          <p:cNvGrpSpPr/>
          <p:nvPr/>
        </p:nvGrpSpPr>
        <p:grpSpPr>
          <a:xfrm>
            <a:off x="8300880" y="3470400"/>
            <a:ext cx="95400" cy="97200"/>
            <a:chOff x="8300880" y="3470400"/>
            <a:chExt cx="95400" cy="97200"/>
          </a:xfrm>
        </p:grpSpPr>
        <p:sp>
          <p:nvSpPr>
            <p:cNvPr id="6950" name=""/>
            <p:cNvSpPr/>
            <p:nvPr/>
          </p:nvSpPr>
          <p:spPr>
            <a:xfrm>
              <a:off x="8300880" y="3470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8300880" y="3567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8348760" y="3470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8300880" y="34704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4" name=""/>
          <p:cNvGrpSpPr/>
          <p:nvPr/>
        </p:nvGrpSpPr>
        <p:grpSpPr>
          <a:xfrm>
            <a:off x="8128080" y="3522240"/>
            <a:ext cx="93600" cy="88920"/>
            <a:chOff x="8128080" y="3522240"/>
            <a:chExt cx="93600" cy="88920"/>
          </a:xfrm>
        </p:grpSpPr>
        <p:sp>
          <p:nvSpPr>
            <p:cNvPr id="6955" name=""/>
            <p:cNvSpPr/>
            <p:nvPr/>
          </p:nvSpPr>
          <p:spPr>
            <a:xfrm rot="16200000">
              <a:off x="8092800" y="3557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6" name=""/>
            <p:cNvSpPr/>
            <p:nvPr/>
          </p:nvSpPr>
          <p:spPr>
            <a:xfrm rot="16200000">
              <a:off x="8167680" y="3557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7" name=""/>
            <p:cNvSpPr/>
            <p:nvPr/>
          </p:nvSpPr>
          <p:spPr>
            <a:xfrm rot="16200000">
              <a:off x="8152560" y="3497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8" name=""/>
            <p:cNvSpPr/>
            <p:nvPr/>
          </p:nvSpPr>
          <p:spPr>
            <a:xfrm rot="16200000">
              <a:off x="8152560" y="3542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9" name=""/>
          <p:cNvGrpSpPr/>
          <p:nvPr/>
        </p:nvGrpSpPr>
        <p:grpSpPr>
          <a:xfrm>
            <a:off x="8535960" y="3055680"/>
            <a:ext cx="93600" cy="88920"/>
            <a:chOff x="8535960" y="3055680"/>
            <a:chExt cx="93600" cy="88920"/>
          </a:xfrm>
        </p:grpSpPr>
        <p:sp>
          <p:nvSpPr>
            <p:cNvPr id="6960" name=""/>
            <p:cNvSpPr/>
            <p:nvPr/>
          </p:nvSpPr>
          <p:spPr>
            <a:xfrm rot="16200000">
              <a:off x="8500680" y="3090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1" name=""/>
            <p:cNvSpPr/>
            <p:nvPr/>
          </p:nvSpPr>
          <p:spPr>
            <a:xfrm rot="16200000">
              <a:off x="8575560" y="3090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2" name=""/>
            <p:cNvSpPr/>
            <p:nvPr/>
          </p:nvSpPr>
          <p:spPr>
            <a:xfrm rot="16200000">
              <a:off x="8560440" y="3031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3" name=""/>
            <p:cNvSpPr/>
            <p:nvPr/>
          </p:nvSpPr>
          <p:spPr>
            <a:xfrm rot="16200000">
              <a:off x="8560440" y="3075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4" name=""/>
          <p:cNvGrpSpPr/>
          <p:nvPr/>
        </p:nvGrpSpPr>
        <p:grpSpPr>
          <a:xfrm>
            <a:off x="8764560" y="2822040"/>
            <a:ext cx="93600" cy="88920"/>
            <a:chOff x="8764560" y="2822040"/>
            <a:chExt cx="93600" cy="88920"/>
          </a:xfrm>
        </p:grpSpPr>
        <p:sp>
          <p:nvSpPr>
            <p:cNvPr id="6965" name=""/>
            <p:cNvSpPr/>
            <p:nvPr/>
          </p:nvSpPr>
          <p:spPr>
            <a:xfrm rot="16200000">
              <a:off x="8729280" y="2857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6" name=""/>
            <p:cNvSpPr/>
            <p:nvPr/>
          </p:nvSpPr>
          <p:spPr>
            <a:xfrm rot="16200000">
              <a:off x="8804160" y="2856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7" name=""/>
            <p:cNvSpPr/>
            <p:nvPr/>
          </p:nvSpPr>
          <p:spPr>
            <a:xfrm rot="16200000">
              <a:off x="8789040" y="2797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8" name=""/>
            <p:cNvSpPr/>
            <p:nvPr/>
          </p:nvSpPr>
          <p:spPr>
            <a:xfrm rot="16200000">
              <a:off x="8789040" y="284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9" name=""/>
          <p:cNvGrpSpPr/>
          <p:nvPr/>
        </p:nvGrpSpPr>
        <p:grpSpPr>
          <a:xfrm>
            <a:off x="8717040" y="2979360"/>
            <a:ext cx="93600" cy="88920"/>
            <a:chOff x="8717040" y="2979360"/>
            <a:chExt cx="93600" cy="88920"/>
          </a:xfrm>
        </p:grpSpPr>
        <p:sp>
          <p:nvSpPr>
            <p:cNvPr id="6970" name=""/>
            <p:cNvSpPr/>
            <p:nvPr/>
          </p:nvSpPr>
          <p:spPr>
            <a:xfrm rot="16200000">
              <a:off x="8681760" y="3014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1" name=""/>
            <p:cNvSpPr/>
            <p:nvPr/>
          </p:nvSpPr>
          <p:spPr>
            <a:xfrm rot="16200000">
              <a:off x="8756640" y="3014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2" name=""/>
            <p:cNvSpPr/>
            <p:nvPr/>
          </p:nvSpPr>
          <p:spPr>
            <a:xfrm rot="16200000">
              <a:off x="8741520" y="2954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3" name=""/>
            <p:cNvSpPr/>
            <p:nvPr/>
          </p:nvSpPr>
          <p:spPr>
            <a:xfrm rot="16200000">
              <a:off x="8741520" y="2999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4" name=""/>
          <p:cNvGrpSpPr/>
          <p:nvPr/>
        </p:nvGrpSpPr>
        <p:grpSpPr>
          <a:xfrm>
            <a:off x="8763120" y="3219480"/>
            <a:ext cx="88920" cy="93600"/>
            <a:chOff x="8763120" y="3219480"/>
            <a:chExt cx="88920" cy="93600"/>
          </a:xfrm>
        </p:grpSpPr>
        <p:sp>
          <p:nvSpPr>
            <p:cNvPr id="6975" name=""/>
            <p:cNvSpPr/>
            <p:nvPr/>
          </p:nvSpPr>
          <p:spPr>
            <a:xfrm>
              <a:off x="8763120" y="32194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8763120" y="3294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8807400" y="3219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8763120" y="3219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9" name=""/>
          <p:cNvGrpSpPr/>
          <p:nvPr/>
        </p:nvGrpSpPr>
        <p:grpSpPr>
          <a:xfrm>
            <a:off x="9220320" y="2610000"/>
            <a:ext cx="88920" cy="93600"/>
            <a:chOff x="9220320" y="2610000"/>
            <a:chExt cx="88920" cy="93600"/>
          </a:xfrm>
        </p:grpSpPr>
        <p:sp>
          <p:nvSpPr>
            <p:cNvPr id="6980" name=""/>
            <p:cNvSpPr/>
            <p:nvPr/>
          </p:nvSpPr>
          <p:spPr>
            <a:xfrm>
              <a:off x="9220320" y="2610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9220320" y="2684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9264600" y="261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9220320" y="261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4" name=""/>
          <p:cNvGrpSpPr/>
          <p:nvPr/>
        </p:nvGrpSpPr>
        <p:grpSpPr>
          <a:xfrm>
            <a:off x="8729640" y="3419640"/>
            <a:ext cx="149400" cy="228960"/>
            <a:chOff x="8729640" y="3419640"/>
            <a:chExt cx="149400" cy="228960"/>
          </a:xfrm>
        </p:grpSpPr>
        <p:sp>
          <p:nvSpPr>
            <p:cNvPr id="6985" name=""/>
            <p:cNvSpPr/>
            <p:nvPr/>
          </p:nvSpPr>
          <p:spPr>
            <a:xfrm>
              <a:off x="8729640" y="341964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8729640" y="364824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8804520" y="3419640"/>
              <a:ext cx="7452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8729640" y="341964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9" name=""/>
          <p:cNvGrpSpPr/>
          <p:nvPr/>
        </p:nvGrpSpPr>
        <p:grpSpPr>
          <a:xfrm>
            <a:off x="9396360" y="3414600"/>
            <a:ext cx="149400" cy="228960"/>
            <a:chOff x="9396360" y="3414600"/>
            <a:chExt cx="149400" cy="228960"/>
          </a:xfrm>
        </p:grpSpPr>
        <p:sp>
          <p:nvSpPr>
            <p:cNvPr id="6990" name=""/>
            <p:cNvSpPr/>
            <p:nvPr/>
          </p:nvSpPr>
          <p:spPr>
            <a:xfrm>
              <a:off x="9396360" y="341460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9396360" y="364320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9471240" y="3414600"/>
              <a:ext cx="74520" cy="2286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9396360" y="3414600"/>
              <a:ext cx="74880" cy="2286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4" name=""/>
          <p:cNvGrpSpPr/>
          <p:nvPr/>
        </p:nvGrpSpPr>
        <p:grpSpPr>
          <a:xfrm>
            <a:off x="8505000" y="3481560"/>
            <a:ext cx="97200" cy="95040"/>
            <a:chOff x="8505000" y="3481560"/>
            <a:chExt cx="97200" cy="95040"/>
          </a:xfrm>
        </p:grpSpPr>
        <p:sp>
          <p:nvSpPr>
            <p:cNvPr id="6995" name=""/>
            <p:cNvSpPr/>
            <p:nvPr/>
          </p:nvSpPr>
          <p:spPr>
            <a:xfrm rot="5400000">
              <a:off x="8554320" y="3528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6" name=""/>
            <p:cNvSpPr/>
            <p:nvPr/>
          </p:nvSpPr>
          <p:spPr>
            <a:xfrm rot="5400000">
              <a:off x="8457480" y="3528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7" name=""/>
            <p:cNvSpPr/>
            <p:nvPr/>
          </p:nvSpPr>
          <p:spPr>
            <a:xfrm rot="5400000">
              <a:off x="8530200" y="3504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8" name=""/>
            <p:cNvSpPr/>
            <p:nvPr/>
          </p:nvSpPr>
          <p:spPr>
            <a:xfrm rot="5400000">
              <a:off x="8529840" y="3456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9" name=""/>
          <p:cNvGrpSpPr/>
          <p:nvPr/>
        </p:nvGrpSpPr>
        <p:grpSpPr>
          <a:xfrm>
            <a:off x="8943120" y="3224160"/>
            <a:ext cx="97200" cy="95400"/>
            <a:chOff x="8943120" y="3224160"/>
            <a:chExt cx="97200" cy="95400"/>
          </a:xfrm>
        </p:grpSpPr>
        <p:sp>
          <p:nvSpPr>
            <p:cNvPr id="7000" name=""/>
            <p:cNvSpPr/>
            <p:nvPr/>
          </p:nvSpPr>
          <p:spPr>
            <a:xfrm rot="5400000">
              <a:off x="8992440" y="3271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1" name=""/>
            <p:cNvSpPr/>
            <p:nvPr/>
          </p:nvSpPr>
          <p:spPr>
            <a:xfrm rot="5400000">
              <a:off x="8895600" y="3271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2" name=""/>
            <p:cNvSpPr/>
            <p:nvPr/>
          </p:nvSpPr>
          <p:spPr>
            <a:xfrm rot="5400000">
              <a:off x="8967960" y="3247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3" name=""/>
            <p:cNvSpPr/>
            <p:nvPr/>
          </p:nvSpPr>
          <p:spPr>
            <a:xfrm rot="5400000">
              <a:off x="8967960" y="3199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4" name=""/>
          <p:cNvGrpSpPr/>
          <p:nvPr/>
        </p:nvGrpSpPr>
        <p:grpSpPr>
          <a:xfrm>
            <a:off x="9205200" y="2814480"/>
            <a:ext cx="97200" cy="95400"/>
            <a:chOff x="9205200" y="2814480"/>
            <a:chExt cx="97200" cy="95400"/>
          </a:xfrm>
        </p:grpSpPr>
        <p:sp>
          <p:nvSpPr>
            <p:cNvPr id="7005" name=""/>
            <p:cNvSpPr/>
            <p:nvPr/>
          </p:nvSpPr>
          <p:spPr>
            <a:xfrm rot="5400000">
              <a:off x="9254520" y="2862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6" name=""/>
            <p:cNvSpPr/>
            <p:nvPr/>
          </p:nvSpPr>
          <p:spPr>
            <a:xfrm rot="5400000">
              <a:off x="9157680" y="2862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7" name=""/>
            <p:cNvSpPr/>
            <p:nvPr/>
          </p:nvSpPr>
          <p:spPr>
            <a:xfrm rot="5400000">
              <a:off x="9230040" y="28375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8" name=""/>
            <p:cNvSpPr/>
            <p:nvPr/>
          </p:nvSpPr>
          <p:spPr>
            <a:xfrm rot="5400000">
              <a:off x="9230040" y="27900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9" name=""/>
          <p:cNvGrpSpPr/>
          <p:nvPr/>
        </p:nvGrpSpPr>
        <p:grpSpPr>
          <a:xfrm>
            <a:off x="9214560" y="3019320"/>
            <a:ext cx="97200" cy="95400"/>
            <a:chOff x="9214560" y="3019320"/>
            <a:chExt cx="97200" cy="95400"/>
          </a:xfrm>
        </p:grpSpPr>
        <p:sp>
          <p:nvSpPr>
            <p:cNvPr id="7010" name=""/>
            <p:cNvSpPr/>
            <p:nvPr/>
          </p:nvSpPr>
          <p:spPr>
            <a:xfrm rot="5400000">
              <a:off x="9263880" y="3066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1" name=""/>
            <p:cNvSpPr/>
            <p:nvPr/>
          </p:nvSpPr>
          <p:spPr>
            <a:xfrm rot="5400000">
              <a:off x="9167040" y="3066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2" name=""/>
            <p:cNvSpPr/>
            <p:nvPr/>
          </p:nvSpPr>
          <p:spPr>
            <a:xfrm rot="5400000">
              <a:off x="9239400" y="30423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3" name=""/>
            <p:cNvSpPr/>
            <p:nvPr/>
          </p:nvSpPr>
          <p:spPr>
            <a:xfrm rot="5400000">
              <a:off x="9239400" y="2994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4" name=""/>
          <p:cNvGrpSpPr/>
          <p:nvPr/>
        </p:nvGrpSpPr>
        <p:grpSpPr>
          <a:xfrm>
            <a:off x="8304120" y="3684240"/>
            <a:ext cx="93600" cy="88920"/>
            <a:chOff x="8304120" y="3684240"/>
            <a:chExt cx="93600" cy="88920"/>
          </a:xfrm>
        </p:grpSpPr>
        <p:sp>
          <p:nvSpPr>
            <p:cNvPr id="7015" name=""/>
            <p:cNvSpPr/>
            <p:nvPr/>
          </p:nvSpPr>
          <p:spPr>
            <a:xfrm rot="16200000">
              <a:off x="8268840" y="3719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6" name=""/>
            <p:cNvSpPr/>
            <p:nvPr/>
          </p:nvSpPr>
          <p:spPr>
            <a:xfrm rot="16200000">
              <a:off x="8343720" y="3719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7" name=""/>
            <p:cNvSpPr/>
            <p:nvPr/>
          </p:nvSpPr>
          <p:spPr>
            <a:xfrm rot="16200000">
              <a:off x="8328600" y="3659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8" name=""/>
            <p:cNvSpPr/>
            <p:nvPr/>
          </p:nvSpPr>
          <p:spPr>
            <a:xfrm rot="16200000">
              <a:off x="8328600" y="3704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9" name=""/>
          <p:cNvGrpSpPr/>
          <p:nvPr/>
        </p:nvGrpSpPr>
        <p:grpSpPr>
          <a:xfrm>
            <a:off x="9394920" y="2979360"/>
            <a:ext cx="93600" cy="88920"/>
            <a:chOff x="9394920" y="2979360"/>
            <a:chExt cx="93600" cy="88920"/>
          </a:xfrm>
        </p:grpSpPr>
        <p:sp>
          <p:nvSpPr>
            <p:cNvPr id="7020" name=""/>
            <p:cNvSpPr/>
            <p:nvPr/>
          </p:nvSpPr>
          <p:spPr>
            <a:xfrm rot="16200000">
              <a:off x="9359640" y="3014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1" name=""/>
            <p:cNvSpPr/>
            <p:nvPr/>
          </p:nvSpPr>
          <p:spPr>
            <a:xfrm rot="16200000">
              <a:off x="9434520" y="3014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2" name=""/>
            <p:cNvSpPr/>
            <p:nvPr/>
          </p:nvSpPr>
          <p:spPr>
            <a:xfrm rot="16200000">
              <a:off x="9419400" y="2954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3" name=""/>
            <p:cNvSpPr/>
            <p:nvPr/>
          </p:nvSpPr>
          <p:spPr>
            <a:xfrm rot="16200000">
              <a:off x="9419400" y="2999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4" name=""/>
          <p:cNvGrpSpPr/>
          <p:nvPr/>
        </p:nvGrpSpPr>
        <p:grpSpPr>
          <a:xfrm>
            <a:off x="9509040" y="2850840"/>
            <a:ext cx="93600" cy="88920"/>
            <a:chOff x="9509040" y="2850840"/>
            <a:chExt cx="93600" cy="88920"/>
          </a:xfrm>
        </p:grpSpPr>
        <p:sp>
          <p:nvSpPr>
            <p:cNvPr id="7025" name=""/>
            <p:cNvSpPr/>
            <p:nvPr/>
          </p:nvSpPr>
          <p:spPr>
            <a:xfrm rot="16200000">
              <a:off x="9473760" y="2886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6" name=""/>
            <p:cNvSpPr/>
            <p:nvPr/>
          </p:nvSpPr>
          <p:spPr>
            <a:xfrm rot="16200000">
              <a:off x="9548640" y="28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7" name=""/>
            <p:cNvSpPr/>
            <p:nvPr/>
          </p:nvSpPr>
          <p:spPr>
            <a:xfrm rot="16200000">
              <a:off x="9533520" y="2826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8" name=""/>
            <p:cNvSpPr/>
            <p:nvPr/>
          </p:nvSpPr>
          <p:spPr>
            <a:xfrm rot="16200000">
              <a:off x="9533520" y="287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9" name=""/>
          <p:cNvGrpSpPr/>
          <p:nvPr/>
        </p:nvGrpSpPr>
        <p:grpSpPr>
          <a:xfrm>
            <a:off x="9680400" y="2584080"/>
            <a:ext cx="93960" cy="88920"/>
            <a:chOff x="9680400" y="2584080"/>
            <a:chExt cx="93960" cy="88920"/>
          </a:xfrm>
        </p:grpSpPr>
        <p:sp>
          <p:nvSpPr>
            <p:cNvPr id="7030" name=""/>
            <p:cNvSpPr/>
            <p:nvPr/>
          </p:nvSpPr>
          <p:spPr>
            <a:xfrm rot="16200000">
              <a:off x="9645120" y="261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 rot="16200000">
              <a:off x="9720360" y="261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2" name=""/>
            <p:cNvSpPr/>
            <p:nvPr/>
          </p:nvSpPr>
          <p:spPr>
            <a:xfrm rot="16200000">
              <a:off x="9705240" y="255960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3" name=""/>
            <p:cNvSpPr/>
            <p:nvPr/>
          </p:nvSpPr>
          <p:spPr>
            <a:xfrm rot="16200000">
              <a:off x="9705240" y="2603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4" name=""/>
          <p:cNvGrpSpPr/>
          <p:nvPr/>
        </p:nvGrpSpPr>
        <p:grpSpPr>
          <a:xfrm>
            <a:off x="9643320" y="2976480"/>
            <a:ext cx="97200" cy="95400"/>
            <a:chOff x="9643320" y="2976480"/>
            <a:chExt cx="97200" cy="95400"/>
          </a:xfrm>
        </p:grpSpPr>
        <p:sp>
          <p:nvSpPr>
            <p:cNvPr id="7035" name=""/>
            <p:cNvSpPr/>
            <p:nvPr/>
          </p:nvSpPr>
          <p:spPr>
            <a:xfrm rot="5400000">
              <a:off x="9692640" y="3024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6" name=""/>
            <p:cNvSpPr/>
            <p:nvPr/>
          </p:nvSpPr>
          <p:spPr>
            <a:xfrm rot="5400000">
              <a:off x="9595800" y="3024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7" name=""/>
            <p:cNvSpPr/>
            <p:nvPr/>
          </p:nvSpPr>
          <p:spPr>
            <a:xfrm rot="5400000">
              <a:off x="9668160" y="29995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8" name=""/>
            <p:cNvSpPr/>
            <p:nvPr/>
          </p:nvSpPr>
          <p:spPr>
            <a:xfrm rot="5400000">
              <a:off x="9668160" y="29520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9" name=""/>
          <p:cNvGrpSpPr/>
          <p:nvPr/>
        </p:nvGrpSpPr>
        <p:grpSpPr>
          <a:xfrm>
            <a:off x="9460080" y="2608200"/>
            <a:ext cx="95040" cy="97200"/>
            <a:chOff x="9460080" y="2608200"/>
            <a:chExt cx="95040" cy="97200"/>
          </a:xfrm>
        </p:grpSpPr>
        <p:sp>
          <p:nvSpPr>
            <p:cNvPr id="7040" name=""/>
            <p:cNvSpPr/>
            <p:nvPr/>
          </p:nvSpPr>
          <p:spPr>
            <a:xfrm>
              <a:off x="9460080" y="2608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9460080" y="2705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9507600" y="26082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9460080" y="2608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4" name=""/>
          <p:cNvGrpSpPr/>
          <p:nvPr/>
        </p:nvGrpSpPr>
        <p:grpSpPr>
          <a:xfrm>
            <a:off x="8477280" y="3700440"/>
            <a:ext cx="152280" cy="150840"/>
            <a:chOff x="8477280" y="3700440"/>
            <a:chExt cx="152280" cy="150840"/>
          </a:xfrm>
        </p:grpSpPr>
        <p:sp>
          <p:nvSpPr>
            <p:cNvPr id="7045" name=""/>
            <p:cNvSpPr/>
            <p:nvPr/>
          </p:nvSpPr>
          <p:spPr>
            <a:xfrm>
              <a:off x="8477280" y="370044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8520840" y="370044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8477280" y="37004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8607960" y="37648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8520840" y="376488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8477280" y="38080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1" name=""/>
          <p:cNvGrpSpPr/>
          <p:nvPr/>
        </p:nvGrpSpPr>
        <p:grpSpPr>
          <a:xfrm>
            <a:off x="9396000" y="3228840"/>
            <a:ext cx="192600" cy="95400"/>
            <a:chOff x="9396000" y="3228840"/>
            <a:chExt cx="192600" cy="95400"/>
          </a:xfrm>
        </p:grpSpPr>
        <p:sp>
          <p:nvSpPr>
            <p:cNvPr id="7052" name=""/>
            <p:cNvSpPr/>
            <p:nvPr/>
          </p:nvSpPr>
          <p:spPr>
            <a:xfrm rot="5400000">
              <a:off x="9540720" y="3276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3" name=""/>
            <p:cNvSpPr/>
            <p:nvPr/>
          </p:nvSpPr>
          <p:spPr>
            <a:xfrm rot="5400000">
              <a:off x="9348480" y="3276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4" name=""/>
            <p:cNvSpPr/>
            <p:nvPr/>
          </p:nvSpPr>
          <p:spPr>
            <a:xfrm rot="5400000">
              <a:off x="9468720" y="3204360"/>
              <a:ext cx="47520" cy="1922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5" name=""/>
            <p:cNvSpPr/>
            <p:nvPr/>
          </p:nvSpPr>
          <p:spPr>
            <a:xfrm rot="5400000">
              <a:off x="9468360" y="3156480"/>
              <a:ext cx="47880" cy="1922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6" name=""/>
          <p:cNvGrpSpPr/>
          <p:nvPr/>
        </p:nvGrpSpPr>
        <p:grpSpPr>
          <a:xfrm>
            <a:off x="9642600" y="3218040"/>
            <a:ext cx="93600" cy="88560"/>
            <a:chOff x="9642600" y="3218040"/>
            <a:chExt cx="93600" cy="88560"/>
          </a:xfrm>
        </p:grpSpPr>
        <p:sp>
          <p:nvSpPr>
            <p:cNvPr id="7057" name=""/>
            <p:cNvSpPr/>
            <p:nvPr/>
          </p:nvSpPr>
          <p:spPr>
            <a:xfrm rot="16200000">
              <a:off x="9607320" y="325296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8" name=""/>
            <p:cNvSpPr/>
            <p:nvPr/>
          </p:nvSpPr>
          <p:spPr>
            <a:xfrm rot="16200000">
              <a:off x="9682560" y="325296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9" name=""/>
            <p:cNvSpPr/>
            <p:nvPr/>
          </p:nvSpPr>
          <p:spPr>
            <a:xfrm rot="16200000">
              <a:off x="9667080" y="3193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0" name=""/>
            <p:cNvSpPr/>
            <p:nvPr/>
          </p:nvSpPr>
          <p:spPr>
            <a:xfrm rot="16200000">
              <a:off x="9667080" y="3237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1" name=""/>
          <p:cNvGrpSpPr/>
          <p:nvPr/>
        </p:nvGrpSpPr>
        <p:grpSpPr>
          <a:xfrm>
            <a:off x="9232920" y="3203280"/>
            <a:ext cx="93600" cy="88920"/>
            <a:chOff x="9232920" y="3203280"/>
            <a:chExt cx="93600" cy="88920"/>
          </a:xfrm>
        </p:grpSpPr>
        <p:sp>
          <p:nvSpPr>
            <p:cNvPr id="7062" name=""/>
            <p:cNvSpPr/>
            <p:nvPr/>
          </p:nvSpPr>
          <p:spPr>
            <a:xfrm rot="16200000">
              <a:off x="9197640" y="3238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 rot="16200000">
              <a:off x="9272520" y="3238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4" name=""/>
            <p:cNvSpPr/>
            <p:nvPr/>
          </p:nvSpPr>
          <p:spPr>
            <a:xfrm rot="16200000">
              <a:off x="9257400" y="3178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5" name=""/>
            <p:cNvSpPr/>
            <p:nvPr/>
          </p:nvSpPr>
          <p:spPr>
            <a:xfrm rot="16200000">
              <a:off x="9257400" y="3223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6" name=""/>
          <p:cNvGrpSpPr/>
          <p:nvPr/>
        </p:nvGrpSpPr>
        <p:grpSpPr>
          <a:xfrm>
            <a:off x="8753400" y="2585880"/>
            <a:ext cx="88920" cy="93960"/>
            <a:chOff x="8753400" y="2585880"/>
            <a:chExt cx="88920" cy="93960"/>
          </a:xfrm>
        </p:grpSpPr>
        <p:sp>
          <p:nvSpPr>
            <p:cNvPr id="7067" name=""/>
            <p:cNvSpPr/>
            <p:nvPr/>
          </p:nvSpPr>
          <p:spPr>
            <a:xfrm>
              <a:off x="8753400" y="2585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8753400" y="2661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8797680" y="2585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8753400" y="2585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1" name=""/>
          <p:cNvGrpSpPr/>
          <p:nvPr/>
        </p:nvGrpSpPr>
        <p:grpSpPr>
          <a:xfrm>
            <a:off x="9188280" y="2383920"/>
            <a:ext cx="93960" cy="88920"/>
            <a:chOff x="9188280" y="2383920"/>
            <a:chExt cx="93960" cy="88920"/>
          </a:xfrm>
        </p:grpSpPr>
        <p:sp>
          <p:nvSpPr>
            <p:cNvPr id="7072" name=""/>
            <p:cNvSpPr/>
            <p:nvPr/>
          </p:nvSpPr>
          <p:spPr>
            <a:xfrm rot="16200000">
              <a:off x="9153000" y="2418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 rot="16200000">
              <a:off x="9228240" y="2418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 rot="16200000">
              <a:off x="9213120" y="23594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5" name=""/>
            <p:cNvSpPr/>
            <p:nvPr/>
          </p:nvSpPr>
          <p:spPr>
            <a:xfrm rot="16200000">
              <a:off x="9213120" y="24037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6" name=""/>
          <p:cNvGrpSpPr/>
          <p:nvPr/>
        </p:nvGrpSpPr>
        <p:grpSpPr>
          <a:xfrm>
            <a:off x="3043080" y="4586400"/>
            <a:ext cx="609480" cy="382320"/>
            <a:chOff x="3043080" y="4586400"/>
            <a:chExt cx="609480" cy="382320"/>
          </a:xfrm>
        </p:grpSpPr>
        <p:sp>
          <p:nvSpPr>
            <p:cNvPr id="7077" name=""/>
            <p:cNvSpPr/>
            <p:nvPr/>
          </p:nvSpPr>
          <p:spPr>
            <a:xfrm>
              <a:off x="3043080" y="4586400"/>
              <a:ext cx="609480" cy="371160"/>
            </a:xfrm>
            <a:custGeom>
              <a:avLst/>
              <a:gdLst/>
              <a:ahLst/>
              <a:rect l="l" t="t" r="r" b="b"/>
              <a:pathLst>
                <a:path w="384" h="234">
                  <a:moveTo>
                    <a:pt x="114" y="0"/>
                  </a:moveTo>
                  <a:lnTo>
                    <a:pt x="318" y="9"/>
                  </a:lnTo>
                  <a:lnTo>
                    <a:pt x="384" y="192"/>
                  </a:lnTo>
                  <a:lnTo>
                    <a:pt x="237" y="234"/>
                  </a:lnTo>
                  <a:lnTo>
                    <a:pt x="60" y="233"/>
                  </a:lnTo>
                  <a:lnTo>
                    <a:pt x="0" y="201"/>
                  </a:lnTo>
                  <a:lnTo>
                    <a:pt x="0" y="119"/>
                  </a:lnTo>
                  <a:lnTo>
                    <a:pt x="114" y="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>
              <a:off x="3233520" y="4968720"/>
              <a:ext cx="76320" cy="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9" name=""/>
            <p:cNvGrpSpPr/>
            <p:nvPr/>
          </p:nvGrpSpPr>
          <p:grpSpPr>
            <a:xfrm>
              <a:off x="3157560" y="4719240"/>
              <a:ext cx="187200" cy="165240"/>
              <a:chOff x="3157560" y="4719240"/>
              <a:chExt cx="187200" cy="165240"/>
            </a:xfrm>
          </p:grpSpPr>
          <p:sp>
            <p:nvSpPr>
              <p:cNvPr id="7080" name=""/>
              <p:cNvSpPr/>
              <p:nvPr/>
            </p:nvSpPr>
            <p:spPr>
              <a:xfrm rot="10800000">
                <a:off x="3157560" y="4802400"/>
                <a:ext cx="187200" cy="482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 rot="10800000">
                <a:off x="3157560" y="4754160"/>
                <a:ext cx="187200" cy="482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2" name=""/>
              <p:cNvGrpSpPr/>
              <p:nvPr/>
            </p:nvGrpSpPr>
            <p:grpSpPr>
              <a:xfrm>
                <a:off x="3190680" y="4719240"/>
                <a:ext cx="120960" cy="65880"/>
                <a:chOff x="3190680" y="4719240"/>
                <a:chExt cx="120960" cy="65880"/>
              </a:xfrm>
            </p:grpSpPr>
            <p:sp>
              <p:nvSpPr>
                <p:cNvPr id="7083" name=""/>
                <p:cNvSpPr/>
                <p:nvPr/>
              </p:nvSpPr>
              <p:spPr>
                <a:xfrm rot="16200000">
                  <a:off x="3187800" y="472176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4" name=""/>
                <p:cNvSpPr/>
                <p:nvPr/>
              </p:nvSpPr>
              <p:spPr>
                <a:xfrm flipV="1" rot="16200000">
                  <a:off x="3248280" y="472140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5" name=""/>
              <p:cNvGrpSpPr/>
              <p:nvPr/>
            </p:nvGrpSpPr>
            <p:grpSpPr>
              <a:xfrm>
                <a:off x="3190680" y="4818600"/>
                <a:ext cx="120960" cy="65880"/>
                <a:chOff x="3190680" y="4818600"/>
                <a:chExt cx="120960" cy="65880"/>
              </a:xfrm>
            </p:grpSpPr>
            <p:sp>
              <p:nvSpPr>
                <p:cNvPr id="7086" name=""/>
                <p:cNvSpPr/>
                <p:nvPr/>
              </p:nvSpPr>
              <p:spPr>
                <a:xfrm flipH="1" rot="16200000">
                  <a:off x="3187800" y="482112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 flipH="1" flipV="1" rot="16200000">
                  <a:off x="3248280" y="4820760"/>
                  <a:ext cx="65880" cy="60480"/>
                </a:xfrm>
                <a:custGeom>
                  <a:avLst/>
                  <a:gdLst/>
                  <a:ahLst/>
                  <a:rect l="l" t="t" r="r" b="b"/>
                  <a:pathLst>
                    <a:path w="192" h="144">
                      <a:moveTo>
                        <a:pt x="96" y="0"/>
                      </a:moveTo>
                      <a:lnTo>
                        <a:pt x="192" y="0"/>
                      </a:lnTo>
                      <a:lnTo>
                        <a:pt x="192" y="144"/>
                      </a:lnTo>
                      <a:lnTo>
                        <a:pt x="0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8" name=""/>
            <p:cNvGrpSpPr/>
            <p:nvPr/>
          </p:nvGrpSpPr>
          <p:grpSpPr>
            <a:xfrm>
              <a:off x="3419280" y="4662360"/>
              <a:ext cx="74520" cy="149040"/>
              <a:chOff x="3419280" y="4662360"/>
              <a:chExt cx="74520" cy="149040"/>
            </a:xfrm>
          </p:grpSpPr>
          <p:sp>
            <p:nvSpPr>
              <p:cNvPr id="7089" name=""/>
              <p:cNvSpPr/>
              <p:nvPr/>
            </p:nvSpPr>
            <p:spPr>
              <a:xfrm>
                <a:off x="3419280" y="4662360"/>
                <a:ext cx="7452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3419280" y="4811040"/>
                <a:ext cx="7452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3456360" y="4662360"/>
                <a:ext cx="37440" cy="14868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3419280" y="4662360"/>
                <a:ext cx="37080" cy="14868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3" name=""/>
          <p:cNvGrpSpPr/>
          <p:nvPr/>
        </p:nvGrpSpPr>
        <p:grpSpPr>
          <a:xfrm>
            <a:off x="5326200" y="5354640"/>
            <a:ext cx="347400" cy="316080"/>
            <a:chOff x="5326200" y="5354640"/>
            <a:chExt cx="347400" cy="316080"/>
          </a:xfrm>
        </p:grpSpPr>
        <p:sp>
          <p:nvSpPr>
            <p:cNvPr id="7094" name=""/>
            <p:cNvSpPr/>
            <p:nvPr/>
          </p:nvSpPr>
          <p:spPr>
            <a:xfrm>
              <a:off x="5326200" y="5361120"/>
              <a:ext cx="347400" cy="309600"/>
            </a:xfrm>
            <a:custGeom>
              <a:avLst/>
              <a:gdLst/>
              <a:ahLst/>
              <a:rect l="l" t="t" r="r" b="b"/>
              <a:pathLst>
                <a:path w="249" h="234">
                  <a:moveTo>
                    <a:pt x="114" y="0"/>
                  </a:moveTo>
                  <a:lnTo>
                    <a:pt x="249" y="12"/>
                  </a:lnTo>
                  <a:lnTo>
                    <a:pt x="237" y="234"/>
                  </a:lnTo>
                  <a:lnTo>
                    <a:pt x="60" y="233"/>
                  </a:lnTo>
                  <a:lnTo>
                    <a:pt x="0" y="201"/>
                  </a:lnTo>
                  <a:lnTo>
                    <a:pt x="0" y="119"/>
                  </a:lnTo>
                  <a:lnTo>
                    <a:pt x="114" y="0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5" name=""/>
            <p:cNvSpPr/>
            <p:nvPr/>
          </p:nvSpPr>
          <p:spPr>
            <a:xfrm flipH="1">
              <a:off x="5501880" y="5354640"/>
              <a:ext cx="66600" cy="180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6" name=""/>
            <p:cNvGrpSpPr/>
            <p:nvPr/>
          </p:nvGrpSpPr>
          <p:grpSpPr>
            <a:xfrm>
              <a:off x="5396040" y="5513040"/>
              <a:ext cx="93600" cy="88920"/>
              <a:chOff x="5396040" y="5513040"/>
              <a:chExt cx="93600" cy="88920"/>
            </a:xfrm>
          </p:grpSpPr>
          <p:sp>
            <p:nvSpPr>
              <p:cNvPr id="7097" name=""/>
              <p:cNvSpPr/>
              <p:nvPr/>
            </p:nvSpPr>
            <p:spPr>
              <a:xfrm rot="16200000">
                <a:off x="5360760" y="5548320"/>
                <a:ext cx="88920" cy="1836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 rot="16200000">
                <a:off x="5435640" y="554796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 rot="16200000">
                <a:off x="5420520" y="548856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 rot="16200000">
                <a:off x="5420520" y="553284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1" name=""/>
            <p:cNvGrpSpPr/>
            <p:nvPr/>
          </p:nvGrpSpPr>
          <p:grpSpPr>
            <a:xfrm>
              <a:off x="5537160" y="5456520"/>
              <a:ext cx="74880" cy="149400"/>
              <a:chOff x="5537160" y="5456520"/>
              <a:chExt cx="74880" cy="149400"/>
            </a:xfrm>
          </p:grpSpPr>
          <p:sp>
            <p:nvSpPr>
              <p:cNvPr id="7102" name=""/>
              <p:cNvSpPr/>
              <p:nvPr/>
            </p:nvSpPr>
            <p:spPr>
              <a:xfrm>
                <a:off x="5537160" y="5456520"/>
                <a:ext cx="7488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5537160" y="5605560"/>
                <a:ext cx="7488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574240" y="5456520"/>
                <a:ext cx="37440" cy="1490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5537160" y="5456520"/>
                <a:ext cx="37080" cy="1490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06" name=""/>
          <p:cNvGrpSpPr/>
          <p:nvPr/>
        </p:nvGrpSpPr>
        <p:grpSpPr>
          <a:xfrm>
            <a:off x="7788240" y="852480"/>
            <a:ext cx="476280" cy="500040"/>
            <a:chOff x="7788240" y="852480"/>
            <a:chExt cx="476280" cy="500040"/>
          </a:xfrm>
        </p:grpSpPr>
        <p:sp>
          <p:nvSpPr>
            <p:cNvPr id="7107" name=""/>
            <p:cNvSpPr/>
            <p:nvPr/>
          </p:nvSpPr>
          <p:spPr>
            <a:xfrm>
              <a:off x="7788240" y="852480"/>
              <a:ext cx="476280" cy="485640"/>
            </a:xfrm>
            <a:custGeom>
              <a:avLst/>
              <a:gdLst/>
              <a:ahLst/>
              <a:rect l="l" t="t" r="r" b="b"/>
              <a:pathLst>
                <a:path w="300" h="306">
                  <a:moveTo>
                    <a:pt x="9" y="1"/>
                  </a:moveTo>
                  <a:lnTo>
                    <a:pt x="224" y="0"/>
                  </a:lnTo>
                  <a:lnTo>
                    <a:pt x="299" y="42"/>
                  </a:lnTo>
                  <a:lnTo>
                    <a:pt x="300" y="225"/>
                  </a:lnTo>
                  <a:lnTo>
                    <a:pt x="240" y="306"/>
                  </a:lnTo>
                  <a:lnTo>
                    <a:pt x="60" y="306"/>
                  </a:lnTo>
                  <a:lnTo>
                    <a:pt x="0" y="274"/>
                  </a:lnTo>
                  <a:lnTo>
                    <a:pt x="9" y="1"/>
                  </a:lnTo>
                  <a:close/>
                </a:path>
              </a:pathLst>
            </a:custGeom>
            <a:noFill/>
            <a:ln w="381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8" name=""/>
            <p:cNvSpPr/>
            <p:nvPr/>
          </p:nvSpPr>
          <p:spPr>
            <a:xfrm flipH="1">
              <a:off x="7980120" y="1352520"/>
              <a:ext cx="75960" cy="0"/>
            </a:xfrm>
            <a:prstGeom prst="line">
              <a:avLst/>
            </a:prstGeom>
            <a:ln w="19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9" name=""/>
            <p:cNvGrpSpPr/>
            <p:nvPr/>
          </p:nvGrpSpPr>
          <p:grpSpPr>
            <a:xfrm>
              <a:off x="7864560" y="914400"/>
              <a:ext cx="141120" cy="142920"/>
              <a:chOff x="7864560" y="914400"/>
              <a:chExt cx="141120" cy="142920"/>
            </a:xfrm>
          </p:grpSpPr>
          <p:sp>
            <p:nvSpPr>
              <p:cNvPr id="7110" name=""/>
              <p:cNvSpPr/>
              <p:nvPr/>
            </p:nvSpPr>
            <p:spPr>
              <a:xfrm>
                <a:off x="7864560" y="91440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7864560" y="1028520"/>
                <a:ext cx="141120" cy="2844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7935120" y="91440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7864560" y="914400"/>
                <a:ext cx="70560" cy="14292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4" name=""/>
            <p:cNvGrpSpPr/>
            <p:nvPr/>
          </p:nvGrpSpPr>
          <p:grpSpPr>
            <a:xfrm>
              <a:off x="7885080" y="1136520"/>
              <a:ext cx="88920" cy="93960"/>
              <a:chOff x="7885080" y="1136520"/>
              <a:chExt cx="88920" cy="93960"/>
            </a:xfrm>
          </p:grpSpPr>
          <p:sp>
            <p:nvSpPr>
              <p:cNvPr id="7115" name=""/>
              <p:cNvSpPr/>
              <p:nvPr/>
            </p:nvSpPr>
            <p:spPr>
              <a:xfrm>
                <a:off x="7885080" y="113652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7885080" y="121176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7929360" y="1136520"/>
                <a:ext cx="44280" cy="9396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7885080" y="1136520"/>
                <a:ext cx="44280" cy="9396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9" name=""/>
            <p:cNvGrpSpPr/>
            <p:nvPr/>
          </p:nvGrpSpPr>
          <p:grpSpPr>
            <a:xfrm>
              <a:off x="8078760" y="896760"/>
              <a:ext cx="88920" cy="203400"/>
              <a:chOff x="8078760" y="896760"/>
              <a:chExt cx="88920" cy="203400"/>
            </a:xfrm>
          </p:grpSpPr>
          <p:sp>
            <p:nvSpPr>
              <p:cNvPr id="7120" name=""/>
              <p:cNvSpPr/>
              <p:nvPr/>
            </p:nvSpPr>
            <p:spPr>
              <a:xfrm>
                <a:off x="8078760" y="896760"/>
                <a:ext cx="88920" cy="4032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8078760" y="1059480"/>
                <a:ext cx="88920" cy="4068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8123040" y="896760"/>
                <a:ext cx="44280" cy="2034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8078760" y="896760"/>
                <a:ext cx="44280" cy="2034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4" name=""/>
            <p:cNvGrpSpPr/>
            <p:nvPr/>
          </p:nvGrpSpPr>
          <p:grpSpPr>
            <a:xfrm>
              <a:off x="8013600" y="1146240"/>
              <a:ext cx="88920" cy="93600"/>
              <a:chOff x="8013600" y="1146240"/>
              <a:chExt cx="88920" cy="93600"/>
            </a:xfrm>
          </p:grpSpPr>
          <p:sp>
            <p:nvSpPr>
              <p:cNvPr id="7125" name=""/>
              <p:cNvSpPr/>
              <p:nvPr/>
            </p:nvSpPr>
            <p:spPr>
              <a:xfrm>
                <a:off x="8013600" y="1146240"/>
                <a:ext cx="88920" cy="18360"/>
              </a:xfrm>
              <a:custGeom>
                <a:avLst/>
                <a:gdLst/>
                <a:ahLst/>
                <a:rect l="l" t="t" r="r" b="b"/>
                <a:pathLst>
                  <a:path w="1908" h="504">
                    <a:moveTo>
                      <a:pt x="1908" y="0"/>
                    </a:moveTo>
                    <a:lnTo>
                      <a:pt x="0" y="0"/>
                    </a:lnTo>
                    <a:lnTo>
                      <a:pt x="954" y="504"/>
                    </a:lnTo>
                    <a:lnTo>
                      <a:pt x="190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8013600" y="1221120"/>
                <a:ext cx="88920" cy="18720"/>
              </a:xfrm>
              <a:custGeom>
                <a:avLst/>
                <a:gdLst/>
                <a:ahLst/>
                <a:rect l="l" t="t" r="r" b="b"/>
                <a:pathLst>
                  <a:path w="1908" h="510">
                    <a:moveTo>
                      <a:pt x="1908" y="510"/>
                    </a:moveTo>
                    <a:lnTo>
                      <a:pt x="0" y="510"/>
                    </a:lnTo>
                    <a:lnTo>
                      <a:pt x="954" y="0"/>
                    </a:lnTo>
                    <a:lnTo>
                      <a:pt x="1908" y="51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8057880" y="114624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954" y="0"/>
                    </a:moveTo>
                    <a:lnTo>
                      <a:pt x="0" y="504"/>
                    </a:lnTo>
                    <a:lnTo>
                      <a:pt x="0" y="2028"/>
                    </a:lnTo>
                    <a:lnTo>
                      <a:pt x="954" y="2538"/>
                    </a:lnTo>
                    <a:lnTo>
                      <a:pt x="954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8013600" y="114624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954" h="2538">
                    <a:moveTo>
                      <a:pt x="0" y="0"/>
                    </a:moveTo>
                    <a:lnTo>
                      <a:pt x="954" y="504"/>
                    </a:lnTo>
                    <a:lnTo>
                      <a:pt x="954" y="2028"/>
                    </a:lnTo>
                    <a:lnTo>
                      <a:pt x="0" y="25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9" name=""/>
          <p:cNvGrpSpPr/>
          <p:nvPr/>
        </p:nvGrpSpPr>
        <p:grpSpPr>
          <a:xfrm>
            <a:off x="1249200" y="6213600"/>
            <a:ext cx="344520" cy="258120"/>
            <a:chOff x="1249200" y="6213600"/>
            <a:chExt cx="344520" cy="258120"/>
          </a:xfrm>
        </p:grpSpPr>
        <p:grpSp>
          <p:nvGrpSpPr>
            <p:cNvPr id="7130" name=""/>
            <p:cNvGrpSpPr/>
            <p:nvPr/>
          </p:nvGrpSpPr>
          <p:grpSpPr>
            <a:xfrm>
              <a:off x="1249200" y="6213600"/>
              <a:ext cx="344520" cy="258120"/>
              <a:chOff x="1249200" y="6213600"/>
              <a:chExt cx="344520" cy="258120"/>
            </a:xfrm>
          </p:grpSpPr>
          <p:sp>
            <p:nvSpPr>
              <p:cNvPr id="7131" name=""/>
              <p:cNvSpPr/>
              <p:nvPr/>
            </p:nvSpPr>
            <p:spPr>
              <a:xfrm>
                <a:off x="1249200" y="6226200"/>
                <a:ext cx="344520" cy="245520"/>
              </a:xfrm>
              <a:custGeom>
                <a:avLst/>
                <a:gdLst/>
                <a:ahLst/>
                <a:rect l="l" t="t" r="r" b="b"/>
                <a:pathLst>
                  <a:path w="217" h="155">
                    <a:moveTo>
                      <a:pt x="2" y="0"/>
                    </a:moveTo>
                    <a:lnTo>
                      <a:pt x="217" y="0"/>
                    </a:lnTo>
                    <a:lnTo>
                      <a:pt x="208" y="155"/>
                    </a:lnTo>
                    <a:lnTo>
                      <a:pt x="53" y="154"/>
                    </a:lnTo>
                    <a:lnTo>
                      <a:pt x="0" y="128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381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 flipH="1">
                <a:off x="1382400" y="6213600"/>
                <a:ext cx="66960" cy="1440"/>
              </a:xfrm>
              <a:prstGeom prst="line">
                <a:avLst/>
              </a:prstGeom>
              <a:ln w="1908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3" name=""/>
              <p:cNvGrpSpPr/>
              <p:nvPr/>
            </p:nvGrpSpPr>
            <p:grpSpPr>
              <a:xfrm>
                <a:off x="1319040" y="6315120"/>
                <a:ext cx="93600" cy="88560"/>
                <a:chOff x="1319040" y="6315120"/>
                <a:chExt cx="93600" cy="88560"/>
              </a:xfrm>
            </p:grpSpPr>
            <p:sp>
              <p:nvSpPr>
                <p:cNvPr id="7134" name=""/>
                <p:cNvSpPr/>
                <p:nvPr/>
              </p:nvSpPr>
              <p:spPr>
                <a:xfrm rot="16200000">
                  <a:off x="1283760" y="6350040"/>
                  <a:ext cx="88560" cy="18360"/>
                </a:xfrm>
                <a:custGeom>
                  <a:avLst/>
                  <a:gdLst/>
                  <a:ahLst/>
                  <a:rect l="l" t="t" r="r" b="b"/>
                  <a:pathLst>
                    <a:path w="1908" h="504">
                      <a:moveTo>
                        <a:pt x="1908" y="0"/>
                      </a:moveTo>
                      <a:lnTo>
                        <a:pt x="0" y="0"/>
                      </a:lnTo>
                      <a:lnTo>
                        <a:pt x="954" y="504"/>
                      </a:lnTo>
                      <a:lnTo>
                        <a:pt x="1908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5" name=""/>
                <p:cNvSpPr/>
                <p:nvPr/>
              </p:nvSpPr>
              <p:spPr>
                <a:xfrm rot="16200000">
                  <a:off x="1359000" y="6350040"/>
                  <a:ext cx="88560" cy="18720"/>
                </a:xfrm>
                <a:custGeom>
                  <a:avLst/>
                  <a:gdLst/>
                  <a:ahLst/>
                  <a:rect l="l" t="t" r="r" b="b"/>
                  <a:pathLst>
                    <a:path w="1908" h="510">
                      <a:moveTo>
                        <a:pt x="1908" y="510"/>
                      </a:moveTo>
                      <a:lnTo>
                        <a:pt x="0" y="510"/>
                      </a:lnTo>
                      <a:lnTo>
                        <a:pt x="954" y="0"/>
                      </a:lnTo>
                      <a:lnTo>
                        <a:pt x="1908" y="51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6" name=""/>
                <p:cNvSpPr/>
                <p:nvPr/>
              </p:nvSpPr>
              <p:spPr>
                <a:xfrm rot="16200000">
                  <a:off x="1343520" y="6290280"/>
                  <a:ext cx="44280" cy="93600"/>
                </a:xfrm>
                <a:custGeom>
                  <a:avLst/>
                  <a:gdLst/>
                  <a:ahLst/>
                  <a:rect l="l" t="t" r="r" b="b"/>
                  <a:pathLst>
                    <a:path w="954" h="2538">
                      <a:moveTo>
                        <a:pt x="954" y="0"/>
                      </a:moveTo>
                      <a:lnTo>
                        <a:pt x="0" y="504"/>
                      </a:lnTo>
                      <a:lnTo>
                        <a:pt x="0" y="2028"/>
                      </a:lnTo>
                      <a:lnTo>
                        <a:pt x="954" y="2538"/>
                      </a:lnTo>
                      <a:lnTo>
                        <a:pt x="954" y="0"/>
                      </a:lnTo>
                      <a:close/>
                    </a:path>
                  </a:pathLst>
                </a:custGeom>
                <a:solidFill>
                  <a:srgbClr val="bfb0b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7" name=""/>
                <p:cNvSpPr/>
                <p:nvPr/>
              </p:nvSpPr>
              <p:spPr>
                <a:xfrm rot="16200000">
                  <a:off x="1343520" y="6334560"/>
                  <a:ext cx="44280" cy="93600"/>
                </a:xfrm>
                <a:custGeom>
                  <a:avLst/>
                  <a:gdLst/>
                  <a:ahLst/>
                  <a:rect l="l" t="t" r="r" b="b"/>
                  <a:pathLst>
                    <a:path w="954" h="2538">
                      <a:moveTo>
                        <a:pt x="0" y="0"/>
                      </a:moveTo>
                      <a:lnTo>
                        <a:pt x="954" y="504"/>
                      </a:lnTo>
                      <a:lnTo>
                        <a:pt x="954" y="2028"/>
                      </a:lnTo>
                      <a:lnTo>
                        <a:pt x="0" y="25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7888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8" name=""/>
            <p:cNvGrpSpPr/>
            <p:nvPr/>
          </p:nvGrpSpPr>
          <p:grpSpPr>
            <a:xfrm>
              <a:off x="1444680" y="6276600"/>
              <a:ext cx="74520" cy="149400"/>
              <a:chOff x="1444680" y="6276600"/>
              <a:chExt cx="74520" cy="149400"/>
            </a:xfrm>
          </p:grpSpPr>
          <p:sp>
            <p:nvSpPr>
              <p:cNvPr id="7139" name=""/>
              <p:cNvSpPr/>
              <p:nvPr/>
            </p:nvSpPr>
            <p:spPr>
              <a:xfrm>
                <a:off x="1444680" y="6276600"/>
                <a:ext cx="7452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bfb0b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1444680" y="6425640"/>
                <a:ext cx="74520" cy="360"/>
              </a:xfrm>
              <a:custGeom>
                <a:avLst/>
                <a:gdLst/>
                <a:ahLst/>
                <a:rect l="l" t="t" r="r" b="b"/>
                <a:pathLst>
                  <a:path w="1518" h="0">
                    <a:moveTo>
                      <a:pt x="1518" y="0"/>
                    </a:moveTo>
                    <a:lnTo>
                      <a:pt x="0" y="0"/>
                    </a:lnTo>
                    <a:lnTo>
                      <a:pt x="756" y="0"/>
                    </a:lnTo>
                    <a:lnTo>
                      <a:pt x="1518" y="0"/>
                    </a:lnTo>
                    <a:close/>
                  </a:path>
                </a:pathLst>
              </a:custGeom>
              <a:solidFill>
                <a:srgbClr val="97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1481760" y="6276600"/>
                <a:ext cx="37440" cy="149040"/>
              </a:xfrm>
              <a:prstGeom prst="rect">
                <a:avLst/>
              </a:prstGeom>
              <a:solidFill>
                <a:srgbClr val="bfb0b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1444680" y="6276600"/>
                <a:ext cx="37080" cy="149040"/>
              </a:xfrm>
              <a:prstGeom prst="rect">
                <a:avLst/>
              </a:prstGeom>
              <a:solidFill>
                <a:srgbClr val="97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43" name=""/>
          <p:cNvGrpSpPr/>
          <p:nvPr/>
        </p:nvGrpSpPr>
        <p:grpSpPr>
          <a:xfrm>
            <a:off x="1866960" y="5533560"/>
            <a:ext cx="97200" cy="95400"/>
            <a:chOff x="1866960" y="5533560"/>
            <a:chExt cx="97200" cy="95400"/>
          </a:xfrm>
        </p:grpSpPr>
        <p:sp>
          <p:nvSpPr>
            <p:cNvPr id="7144" name=""/>
            <p:cNvSpPr/>
            <p:nvPr/>
          </p:nvSpPr>
          <p:spPr>
            <a:xfrm rot="16200000">
              <a:off x="1819440" y="558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5" name=""/>
            <p:cNvSpPr/>
            <p:nvPr/>
          </p:nvSpPr>
          <p:spPr>
            <a:xfrm rot="16200000">
              <a:off x="1916280" y="558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6" name=""/>
            <p:cNvSpPr/>
            <p:nvPr/>
          </p:nvSpPr>
          <p:spPr>
            <a:xfrm rot="16200000">
              <a:off x="1891440" y="5508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7" name=""/>
            <p:cNvSpPr/>
            <p:nvPr/>
          </p:nvSpPr>
          <p:spPr>
            <a:xfrm rot="16200000">
              <a:off x="1891440" y="5556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8" name=""/>
          <p:cNvGrpSpPr/>
          <p:nvPr/>
        </p:nvGrpSpPr>
        <p:grpSpPr>
          <a:xfrm>
            <a:off x="712800" y="4828680"/>
            <a:ext cx="97200" cy="95400"/>
            <a:chOff x="712800" y="4828680"/>
            <a:chExt cx="97200" cy="95400"/>
          </a:xfrm>
        </p:grpSpPr>
        <p:sp>
          <p:nvSpPr>
            <p:cNvPr id="7149" name=""/>
            <p:cNvSpPr/>
            <p:nvPr/>
          </p:nvSpPr>
          <p:spPr>
            <a:xfrm rot="16200000">
              <a:off x="665280" y="48762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 rot="16200000">
              <a:off x="762120" y="48762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1" name=""/>
            <p:cNvSpPr/>
            <p:nvPr/>
          </p:nvSpPr>
          <p:spPr>
            <a:xfrm rot="16200000">
              <a:off x="737280" y="48038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2" name=""/>
            <p:cNvSpPr/>
            <p:nvPr/>
          </p:nvSpPr>
          <p:spPr>
            <a:xfrm rot="16200000">
              <a:off x="737280" y="4851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3" name=""/>
          <p:cNvGrpSpPr/>
          <p:nvPr/>
        </p:nvGrpSpPr>
        <p:grpSpPr>
          <a:xfrm>
            <a:off x="733320" y="4676400"/>
            <a:ext cx="97200" cy="95400"/>
            <a:chOff x="733320" y="4676400"/>
            <a:chExt cx="97200" cy="95400"/>
          </a:xfrm>
        </p:grpSpPr>
        <p:sp>
          <p:nvSpPr>
            <p:cNvPr id="7154" name=""/>
            <p:cNvSpPr/>
            <p:nvPr/>
          </p:nvSpPr>
          <p:spPr>
            <a:xfrm rot="16200000">
              <a:off x="685800" y="4723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5" name=""/>
            <p:cNvSpPr/>
            <p:nvPr/>
          </p:nvSpPr>
          <p:spPr>
            <a:xfrm rot="16200000">
              <a:off x="782640" y="4723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6" name=""/>
            <p:cNvSpPr/>
            <p:nvPr/>
          </p:nvSpPr>
          <p:spPr>
            <a:xfrm rot="16200000">
              <a:off x="757800" y="46515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rot="16200000">
              <a:off x="757800" y="46994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8" name=""/>
          <p:cNvGrpSpPr/>
          <p:nvPr/>
        </p:nvGrpSpPr>
        <p:grpSpPr>
          <a:xfrm>
            <a:off x="1192320" y="4826880"/>
            <a:ext cx="95040" cy="97200"/>
            <a:chOff x="1192320" y="4826880"/>
            <a:chExt cx="95040" cy="97200"/>
          </a:xfrm>
        </p:grpSpPr>
        <p:sp>
          <p:nvSpPr>
            <p:cNvPr id="7159" name=""/>
            <p:cNvSpPr/>
            <p:nvPr/>
          </p:nvSpPr>
          <p:spPr>
            <a:xfrm rot="10800000">
              <a:off x="1192320" y="4923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0" name=""/>
            <p:cNvSpPr/>
            <p:nvPr/>
          </p:nvSpPr>
          <p:spPr>
            <a:xfrm rot="10800000">
              <a:off x="1192320" y="482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 rot="10800000">
              <a:off x="1192680" y="4827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2" name=""/>
            <p:cNvSpPr/>
            <p:nvPr/>
          </p:nvSpPr>
          <p:spPr>
            <a:xfrm rot="10800000">
              <a:off x="1239840" y="48272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3" name=""/>
          <p:cNvGrpSpPr/>
          <p:nvPr/>
        </p:nvGrpSpPr>
        <p:grpSpPr>
          <a:xfrm>
            <a:off x="1192320" y="4674600"/>
            <a:ext cx="95040" cy="97200"/>
            <a:chOff x="1192320" y="4674600"/>
            <a:chExt cx="95040" cy="97200"/>
          </a:xfrm>
        </p:grpSpPr>
        <p:sp>
          <p:nvSpPr>
            <p:cNvPr id="7164" name=""/>
            <p:cNvSpPr/>
            <p:nvPr/>
          </p:nvSpPr>
          <p:spPr>
            <a:xfrm rot="10800000">
              <a:off x="1192320" y="4771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5" name=""/>
            <p:cNvSpPr/>
            <p:nvPr/>
          </p:nvSpPr>
          <p:spPr>
            <a:xfrm rot="10800000">
              <a:off x="1192320" y="4674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6" name=""/>
            <p:cNvSpPr/>
            <p:nvPr/>
          </p:nvSpPr>
          <p:spPr>
            <a:xfrm rot="10800000">
              <a:off x="1192680" y="46749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7" name=""/>
            <p:cNvSpPr/>
            <p:nvPr/>
          </p:nvSpPr>
          <p:spPr>
            <a:xfrm rot="10800000">
              <a:off x="1239840" y="46749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8" name=""/>
          <p:cNvGrpSpPr/>
          <p:nvPr/>
        </p:nvGrpSpPr>
        <p:grpSpPr>
          <a:xfrm>
            <a:off x="1238400" y="5752440"/>
            <a:ext cx="95040" cy="97200"/>
            <a:chOff x="1238400" y="5752440"/>
            <a:chExt cx="95040" cy="97200"/>
          </a:xfrm>
        </p:grpSpPr>
        <p:sp>
          <p:nvSpPr>
            <p:cNvPr id="7169" name=""/>
            <p:cNvSpPr/>
            <p:nvPr/>
          </p:nvSpPr>
          <p:spPr>
            <a:xfrm rot="10800000">
              <a:off x="1238400" y="5849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 rot="10800000">
              <a:off x="1238400" y="5752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1" name=""/>
            <p:cNvSpPr/>
            <p:nvPr/>
          </p:nvSpPr>
          <p:spPr>
            <a:xfrm rot="10800000">
              <a:off x="1238760" y="57528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2" name=""/>
            <p:cNvSpPr/>
            <p:nvPr/>
          </p:nvSpPr>
          <p:spPr>
            <a:xfrm rot="10800000">
              <a:off x="1285920" y="5752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3" name=""/>
          <p:cNvGrpSpPr/>
          <p:nvPr/>
        </p:nvGrpSpPr>
        <p:grpSpPr>
          <a:xfrm>
            <a:off x="1647360" y="4884120"/>
            <a:ext cx="95400" cy="97200"/>
            <a:chOff x="1647360" y="4884120"/>
            <a:chExt cx="95400" cy="97200"/>
          </a:xfrm>
        </p:grpSpPr>
        <p:sp>
          <p:nvSpPr>
            <p:cNvPr id="7174" name=""/>
            <p:cNvSpPr/>
            <p:nvPr/>
          </p:nvSpPr>
          <p:spPr>
            <a:xfrm rot="10800000">
              <a:off x="1647360" y="4980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5" name=""/>
            <p:cNvSpPr/>
            <p:nvPr/>
          </p:nvSpPr>
          <p:spPr>
            <a:xfrm rot="10800000">
              <a:off x="1647360" y="4884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rot="10800000">
              <a:off x="1647360" y="4884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7" name=""/>
            <p:cNvSpPr/>
            <p:nvPr/>
          </p:nvSpPr>
          <p:spPr>
            <a:xfrm rot="10800000">
              <a:off x="1694880" y="4884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8" name=""/>
          <p:cNvGrpSpPr/>
          <p:nvPr/>
        </p:nvGrpSpPr>
        <p:grpSpPr>
          <a:xfrm>
            <a:off x="961560" y="5056920"/>
            <a:ext cx="95400" cy="97200"/>
            <a:chOff x="961560" y="5056920"/>
            <a:chExt cx="95400" cy="97200"/>
          </a:xfrm>
        </p:grpSpPr>
        <p:sp>
          <p:nvSpPr>
            <p:cNvPr id="7179" name=""/>
            <p:cNvSpPr/>
            <p:nvPr/>
          </p:nvSpPr>
          <p:spPr>
            <a:xfrm rot="10800000">
              <a:off x="961560" y="5153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0" name=""/>
            <p:cNvSpPr/>
            <p:nvPr/>
          </p:nvSpPr>
          <p:spPr>
            <a:xfrm rot="10800000">
              <a:off x="961560" y="5056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1" name=""/>
            <p:cNvSpPr/>
            <p:nvPr/>
          </p:nvSpPr>
          <p:spPr>
            <a:xfrm rot="10800000">
              <a:off x="961560" y="50572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2" name=""/>
            <p:cNvSpPr/>
            <p:nvPr/>
          </p:nvSpPr>
          <p:spPr>
            <a:xfrm rot="10800000">
              <a:off x="1009080" y="5057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3" name=""/>
          <p:cNvGrpSpPr/>
          <p:nvPr/>
        </p:nvGrpSpPr>
        <p:grpSpPr>
          <a:xfrm>
            <a:off x="539640" y="5098680"/>
            <a:ext cx="93600" cy="88920"/>
            <a:chOff x="539640" y="5098680"/>
            <a:chExt cx="93600" cy="88920"/>
          </a:xfrm>
        </p:grpSpPr>
        <p:sp>
          <p:nvSpPr>
            <p:cNvPr id="7184" name=""/>
            <p:cNvSpPr/>
            <p:nvPr/>
          </p:nvSpPr>
          <p:spPr>
            <a:xfrm rot="16200000">
              <a:off x="504360" y="5133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5" name=""/>
            <p:cNvSpPr/>
            <p:nvPr/>
          </p:nvSpPr>
          <p:spPr>
            <a:xfrm rot="16200000">
              <a:off x="579240" y="5133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6" name=""/>
            <p:cNvSpPr/>
            <p:nvPr/>
          </p:nvSpPr>
          <p:spPr>
            <a:xfrm rot="16200000">
              <a:off x="564120" y="5074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7" name=""/>
            <p:cNvSpPr/>
            <p:nvPr/>
          </p:nvSpPr>
          <p:spPr>
            <a:xfrm rot="16200000">
              <a:off x="564120" y="5118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8" name=""/>
          <p:cNvGrpSpPr/>
          <p:nvPr/>
        </p:nvGrpSpPr>
        <p:grpSpPr>
          <a:xfrm>
            <a:off x="2340000" y="5079600"/>
            <a:ext cx="93600" cy="88920"/>
            <a:chOff x="2340000" y="5079600"/>
            <a:chExt cx="93600" cy="88920"/>
          </a:xfrm>
        </p:grpSpPr>
        <p:sp>
          <p:nvSpPr>
            <p:cNvPr id="7189" name=""/>
            <p:cNvSpPr/>
            <p:nvPr/>
          </p:nvSpPr>
          <p:spPr>
            <a:xfrm rot="16200000">
              <a:off x="2304720" y="5114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 rot="16200000">
              <a:off x="2379600" y="51145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 rot="16200000">
              <a:off x="2364480" y="5055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2" name=""/>
            <p:cNvSpPr/>
            <p:nvPr/>
          </p:nvSpPr>
          <p:spPr>
            <a:xfrm rot="16200000">
              <a:off x="2364480" y="5099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3" name=""/>
          <p:cNvGrpSpPr/>
          <p:nvPr/>
        </p:nvGrpSpPr>
        <p:grpSpPr>
          <a:xfrm>
            <a:off x="1419120" y="4905360"/>
            <a:ext cx="88920" cy="93600"/>
            <a:chOff x="1419120" y="4905360"/>
            <a:chExt cx="88920" cy="93600"/>
          </a:xfrm>
        </p:grpSpPr>
        <p:sp>
          <p:nvSpPr>
            <p:cNvPr id="7194" name=""/>
            <p:cNvSpPr/>
            <p:nvPr/>
          </p:nvSpPr>
          <p:spPr>
            <a:xfrm>
              <a:off x="1419120" y="4905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1419120" y="4980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1463400" y="4905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1419120" y="4905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8" name=""/>
          <p:cNvGrpSpPr/>
          <p:nvPr/>
        </p:nvGrpSpPr>
        <p:grpSpPr>
          <a:xfrm>
            <a:off x="961920" y="5362560"/>
            <a:ext cx="88920" cy="93600"/>
            <a:chOff x="961920" y="5362560"/>
            <a:chExt cx="88920" cy="93600"/>
          </a:xfrm>
        </p:grpSpPr>
        <p:sp>
          <p:nvSpPr>
            <p:cNvPr id="7199" name=""/>
            <p:cNvSpPr/>
            <p:nvPr/>
          </p:nvSpPr>
          <p:spPr>
            <a:xfrm>
              <a:off x="961920" y="5362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961920" y="5437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1006200" y="5362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961920" y="5362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3" name=""/>
          <p:cNvGrpSpPr/>
          <p:nvPr/>
        </p:nvGrpSpPr>
        <p:grpSpPr>
          <a:xfrm>
            <a:off x="1038240" y="5500800"/>
            <a:ext cx="88920" cy="93600"/>
            <a:chOff x="1038240" y="5500800"/>
            <a:chExt cx="88920" cy="93600"/>
          </a:xfrm>
        </p:grpSpPr>
        <p:sp>
          <p:nvSpPr>
            <p:cNvPr id="7204" name=""/>
            <p:cNvSpPr/>
            <p:nvPr/>
          </p:nvSpPr>
          <p:spPr>
            <a:xfrm>
              <a:off x="1038240" y="5500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1038240" y="5575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1082520" y="55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1038240" y="550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8" name=""/>
          <p:cNvGrpSpPr/>
          <p:nvPr/>
        </p:nvGrpSpPr>
        <p:grpSpPr>
          <a:xfrm>
            <a:off x="495360" y="5961240"/>
            <a:ext cx="88920" cy="93600"/>
            <a:chOff x="495360" y="5961240"/>
            <a:chExt cx="88920" cy="93600"/>
          </a:xfrm>
        </p:grpSpPr>
        <p:sp>
          <p:nvSpPr>
            <p:cNvPr id="7209" name=""/>
            <p:cNvSpPr/>
            <p:nvPr/>
          </p:nvSpPr>
          <p:spPr>
            <a:xfrm>
              <a:off x="495360" y="5961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495360" y="6036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539640" y="5961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495360" y="5961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3" name=""/>
          <p:cNvGrpSpPr/>
          <p:nvPr/>
        </p:nvGrpSpPr>
        <p:grpSpPr>
          <a:xfrm>
            <a:off x="1415880" y="5365440"/>
            <a:ext cx="93960" cy="88920"/>
            <a:chOff x="1415880" y="5365440"/>
            <a:chExt cx="93960" cy="88920"/>
          </a:xfrm>
        </p:grpSpPr>
        <p:sp>
          <p:nvSpPr>
            <p:cNvPr id="7214" name=""/>
            <p:cNvSpPr/>
            <p:nvPr/>
          </p:nvSpPr>
          <p:spPr>
            <a:xfrm rot="16200000">
              <a:off x="1380600" y="5400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5" name=""/>
            <p:cNvSpPr/>
            <p:nvPr/>
          </p:nvSpPr>
          <p:spPr>
            <a:xfrm rot="16200000">
              <a:off x="1455840" y="5400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6" name=""/>
            <p:cNvSpPr/>
            <p:nvPr/>
          </p:nvSpPr>
          <p:spPr>
            <a:xfrm rot="16200000">
              <a:off x="1440720" y="5340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7" name=""/>
            <p:cNvSpPr/>
            <p:nvPr/>
          </p:nvSpPr>
          <p:spPr>
            <a:xfrm rot="16200000">
              <a:off x="1440720" y="5385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8" name=""/>
          <p:cNvGrpSpPr/>
          <p:nvPr/>
        </p:nvGrpSpPr>
        <p:grpSpPr>
          <a:xfrm>
            <a:off x="547560" y="5284800"/>
            <a:ext cx="74880" cy="149400"/>
            <a:chOff x="547560" y="5284800"/>
            <a:chExt cx="74880" cy="149400"/>
          </a:xfrm>
        </p:grpSpPr>
        <p:sp>
          <p:nvSpPr>
            <p:cNvPr id="7219" name=""/>
            <p:cNvSpPr/>
            <p:nvPr/>
          </p:nvSpPr>
          <p:spPr>
            <a:xfrm>
              <a:off x="547560" y="52848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547560" y="543384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584640" y="528480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547560" y="528480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3" name=""/>
          <p:cNvGrpSpPr/>
          <p:nvPr/>
        </p:nvGrpSpPr>
        <p:grpSpPr>
          <a:xfrm>
            <a:off x="1647720" y="5060880"/>
            <a:ext cx="74880" cy="149760"/>
            <a:chOff x="1647720" y="5060880"/>
            <a:chExt cx="74880" cy="149760"/>
          </a:xfrm>
        </p:grpSpPr>
        <p:sp>
          <p:nvSpPr>
            <p:cNvPr id="7224" name=""/>
            <p:cNvSpPr/>
            <p:nvPr/>
          </p:nvSpPr>
          <p:spPr>
            <a:xfrm>
              <a:off x="1647720" y="506088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1647720" y="521028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1684800" y="50608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1647720" y="506088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8" name=""/>
          <p:cNvGrpSpPr/>
          <p:nvPr/>
        </p:nvGrpSpPr>
        <p:grpSpPr>
          <a:xfrm>
            <a:off x="1650960" y="4676400"/>
            <a:ext cx="149760" cy="74520"/>
            <a:chOff x="1650960" y="4676400"/>
            <a:chExt cx="149760" cy="74520"/>
          </a:xfrm>
        </p:grpSpPr>
        <p:sp>
          <p:nvSpPr>
            <p:cNvPr id="7229" name=""/>
            <p:cNvSpPr/>
            <p:nvPr/>
          </p:nvSpPr>
          <p:spPr>
            <a:xfrm rot="16200000">
              <a:off x="1613880" y="47134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0" name=""/>
            <p:cNvSpPr/>
            <p:nvPr/>
          </p:nvSpPr>
          <p:spPr>
            <a:xfrm rot="16200000">
              <a:off x="1763280" y="47134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1" name=""/>
            <p:cNvSpPr/>
            <p:nvPr/>
          </p:nvSpPr>
          <p:spPr>
            <a:xfrm rot="16200000">
              <a:off x="1706760" y="462024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2" name=""/>
            <p:cNvSpPr/>
            <p:nvPr/>
          </p:nvSpPr>
          <p:spPr>
            <a:xfrm rot="16200000">
              <a:off x="1707120" y="465768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3" name=""/>
          <p:cNvGrpSpPr/>
          <p:nvPr/>
        </p:nvGrpSpPr>
        <p:grpSpPr>
          <a:xfrm>
            <a:off x="952560" y="6431040"/>
            <a:ext cx="74520" cy="152280"/>
            <a:chOff x="952560" y="6431040"/>
            <a:chExt cx="74520" cy="152280"/>
          </a:xfrm>
        </p:grpSpPr>
        <p:sp>
          <p:nvSpPr>
            <p:cNvPr id="7234" name=""/>
            <p:cNvSpPr/>
            <p:nvPr/>
          </p:nvSpPr>
          <p:spPr>
            <a:xfrm>
              <a:off x="952560" y="64310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952560" y="6552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989640" y="6431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952560" y="6431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8" name=""/>
          <p:cNvGrpSpPr/>
          <p:nvPr/>
        </p:nvGrpSpPr>
        <p:grpSpPr>
          <a:xfrm>
            <a:off x="1854360" y="5985000"/>
            <a:ext cx="74520" cy="152280"/>
            <a:chOff x="1854360" y="5985000"/>
            <a:chExt cx="74520" cy="152280"/>
          </a:xfrm>
        </p:grpSpPr>
        <p:sp>
          <p:nvSpPr>
            <p:cNvPr id="7239" name=""/>
            <p:cNvSpPr/>
            <p:nvPr/>
          </p:nvSpPr>
          <p:spPr>
            <a:xfrm>
              <a:off x="1854360" y="59850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1854360" y="61066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1891440" y="5985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1854360" y="5985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3" name=""/>
          <p:cNvGrpSpPr/>
          <p:nvPr/>
        </p:nvGrpSpPr>
        <p:grpSpPr>
          <a:xfrm>
            <a:off x="733320" y="5133600"/>
            <a:ext cx="152640" cy="74520"/>
            <a:chOff x="733320" y="5133600"/>
            <a:chExt cx="152640" cy="74520"/>
          </a:xfrm>
        </p:grpSpPr>
        <p:sp>
          <p:nvSpPr>
            <p:cNvPr id="7244" name=""/>
            <p:cNvSpPr/>
            <p:nvPr/>
          </p:nvSpPr>
          <p:spPr>
            <a:xfrm rot="16200000">
              <a:off x="711000" y="51555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5" name=""/>
            <p:cNvSpPr/>
            <p:nvPr/>
          </p:nvSpPr>
          <p:spPr>
            <a:xfrm rot="16200000">
              <a:off x="833400" y="51555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6" name=""/>
            <p:cNvSpPr/>
            <p:nvPr/>
          </p:nvSpPr>
          <p:spPr>
            <a:xfrm rot="16200000">
              <a:off x="790920" y="507600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7" name=""/>
            <p:cNvSpPr/>
            <p:nvPr/>
          </p:nvSpPr>
          <p:spPr>
            <a:xfrm rot="16200000">
              <a:off x="790920" y="511308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8" name=""/>
          <p:cNvGrpSpPr/>
          <p:nvPr/>
        </p:nvGrpSpPr>
        <p:grpSpPr>
          <a:xfrm>
            <a:off x="961920" y="4905000"/>
            <a:ext cx="152640" cy="74520"/>
            <a:chOff x="961920" y="4905000"/>
            <a:chExt cx="152640" cy="74520"/>
          </a:xfrm>
        </p:grpSpPr>
        <p:sp>
          <p:nvSpPr>
            <p:cNvPr id="7249" name=""/>
            <p:cNvSpPr/>
            <p:nvPr/>
          </p:nvSpPr>
          <p:spPr>
            <a:xfrm rot="16200000">
              <a:off x="939600" y="49269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0" name=""/>
            <p:cNvSpPr/>
            <p:nvPr/>
          </p:nvSpPr>
          <p:spPr>
            <a:xfrm rot="16200000">
              <a:off x="1062000" y="49269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1" name=""/>
            <p:cNvSpPr/>
            <p:nvPr/>
          </p:nvSpPr>
          <p:spPr>
            <a:xfrm rot="16200000">
              <a:off x="1019520" y="484740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2" name=""/>
            <p:cNvSpPr/>
            <p:nvPr/>
          </p:nvSpPr>
          <p:spPr>
            <a:xfrm rot="16200000">
              <a:off x="1019520" y="488448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3" name=""/>
          <p:cNvGrpSpPr/>
          <p:nvPr/>
        </p:nvGrpSpPr>
        <p:grpSpPr>
          <a:xfrm>
            <a:off x="511200" y="6184800"/>
            <a:ext cx="150840" cy="152640"/>
            <a:chOff x="511200" y="6184800"/>
            <a:chExt cx="150840" cy="152640"/>
          </a:xfrm>
        </p:grpSpPr>
        <p:sp>
          <p:nvSpPr>
            <p:cNvPr id="7254" name=""/>
            <p:cNvSpPr/>
            <p:nvPr/>
          </p:nvSpPr>
          <p:spPr>
            <a:xfrm rot="16200000">
              <a:off x="478080" y="62830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5" name=""/>
            <p:cNvSpPr/>
            <p:nvPr/>
          </p:nvSpPr>
          <p:spPr>
            <a:xfrm rot="16200000">
              <a:off x="543240" y="621828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6" name=""/>
            <p:cNvSpPr/>
            <p:nvPr/>
          </p:nvSpPr>
          <p:spPr>
            <a:xfrm rot="16200000">
              <a:off x="564840" y="624024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7" name=""/>
            <p:cNvSpPr/>
            <p:nvPr/>
          </p:nvSpPr>
          <p:spPr>
            <a:xfrm rot="16200000">
              <a:off x="608040" y="61524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8" name=""/>
            <p:cNvSpPr/>
            <p:nvPr/>
          </p:nvSpPr>
          <p:spPr>
            <a:xfrm rot="16200000">
              <a:off x="542520" y="621792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9" name=""/>
            <p:cNvSpPr/>
            <p:nvPr/>
          </p:nvSpPr>
          <p:spPr>
            <a:xfrm rot="16200000">
              <a:off x="564120" y="623952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0" name=""/>
          <p:cNvGrpSpPr/>
          <p:nvPr/>
        </p:nvGrpSpPr>
        <p:grpSpPr>
          <a:xfrm>
            <a:off x="732960" y="5286240"/>
            <a:ext cx="150840" cy="152640"/>
            <a:chOff x="732960" y="5286240"/>
            <a:chExt cx="150840" cy="152640"/>
          </a:xfrm>
        </p:grpSpPr>
        <p:sp>
          <p:nvSpPr>
            <p:cNvPr id="7261" name=""/>
            <p:cNvSpPr/>
            <p:nvPr/>
          </p:nvSpPr>
          <p:spPr>
            <a:xfrm rot="5400000">
              <a:off x="829440" y="53190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2" name=""/>
            <p:cNvSpPr/>
            <p:nvPr/>
          </p:nvSpPr>
          <p:spPr>
            <a:xfrm rot="5400000">
              <a:off x="808200" y="52977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3" name=""/>
            <p:cNvSpPr/>
            <p:nvPr/>
          </p:nvSpPr>
          <p:spPr>
            <a:xfrm rot="5400000">
              <a:off x="786600" y="52326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4" name=""/>
            <p:cNvSpPr/>
            <p:nvPr/>
          </p:nvSpPr>
          <p:spPr>
            <a:xfrm rot="5400000">
              <a:off x="765360" y="53848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5" name=""/>
            <p:cNvSpPr/>
            <p:nvPr/>
          </p:nvSpPr>
          <p:spPr>
            <a:xfrm rot="5400000">
              <a:off x="743400" y="536292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 rot="5400000">
              <a:off x="678240" y="534096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7" name=""/>
          <p:cNvGrpSpPr/>
          <p:nvPr/>
        </p:nvGrpSpPr>
        <p:grpSpPr>
          <a:xfrm>
            <a:off x="1420920" y="4600440"/>
            <a:ext cx="150840" cy="152640"/>
            <a:chOff x="1420920" y="4600440"/>
            <a:chExt cx="150840" cy="152640"/>
          </a:xfrm>
        </p:grpSpPr>
        <p:sp>
          <p:nvSpPr>
            <p:cNvPr id="7268" name=""/>
            <p:cNvSpPr/>
            <p:nvPr/>
          </p:nvSpPr>
          <p:spPr>
            <a:xfrm rot="16200000">
              <a:off x="1387800" y="469872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9" name=""/>
            <p:cNvSpPr/>
            <p:nvPr/>
          </p:nvSpPr>
          <p:spPr>
            <a:xfrm rot="16200000">
              <a:off x="1452960" y="46339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0" name=""/>
            <p:cNvSpPr/>
            <p:nvPr/>
          </p:nvSpPr>
          <p:spPr>
            <a:xfrm rot="16200000">
              <a:off x="1474560" y="46558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1" name=""/>
            <p:cNvSpPr/>
            <p:nvPr/>
          </p:nvSpPr>
          <p:spPr>
            <a:xfrm rot="16200000">
              <a:off x="1517760" y="45680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2" name=""/>
            <p:cNvSpPr/>
            <p:nvPr/>
          </p:nvSpPr>
          <p:spPr>
            <a:xfrm rot="16200000">
              <a:off x="1452240" y="463356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3" name=""/>
            <p:cNvSpPr/>
            <p:nvPr/>
          </p:nvSpPr>
          <p:spPr>
            <a:xfrm rot="16200000">
              <a:off x="1473840" y="465516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4" name=""/>
          <p:cNvGrpSpPr/>
          <p:nvPr/>
        </p:nvGrpSpPr>
        <p:grpSpPr>
          <a:xfrm>
            <a:off x="961920" y="4600440"/>
            <a:ext cx="152640" cy="152640"/>
            <a:chOff x="961920" y="4600440"/>
            <a:chExt cx="152640" cy="152640"/>
          </a:xfrm>
        </p:grpSpPr>
        <p:sp>
          <p:nvSpPr>
            <p:cNvPr id="7275" name=""/>
            <p:cNvSpPr/>
            <p:nvPr/>
          </p:nvSpPr>
          <p:spPr>
            <a:xfrm>
              <a:off x="961920" y="460044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961920" y="472248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1038240" y="460044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8" name=""/>
            <p:cNvSpPr/>
            <p:nvPr/>
          </p:nvSpPr>
          <p:spPr>
            <a:xfrm>
              <a:off x="961920" y="460044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9" name=""/>
          <p:cNvGrpSpPr/>
          <p:nvPr/>
        </p:nvGrpSpPr>
        <p:grpSpPr>
          <a:xfrm>
            <a:off x="1160640" y="5027760"/>
            <a:ext cx="206280" cy="193680"/>
            <a:chOff x="1160640" y="5027760"/>
            <a:chExt cx="206280" cy="193680"/>
          </a:xfrm>
        </p:grpSpPr>
        <p:sp>
          <p:nvSpPr>
            <p:cNvPr id="7280" name=""/>
            <p:cNvSpPr/>
            <p:nvPr/>
          </p:nvSpPr>
          <p:spPr>
            <a:xfrm rot="16200000">
              <a:off x="1196280" y="516600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1" name=""/>
            <p:cNvSpPr/>
            <p:nvPr/>
          </p:nvSpPr>
          <p:spPr>
            <a:xfrm rot="16200000">
              <a:off x="1196640" y="499176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2" name=""/>
            <p:cNvSpPr/>
            <p:nvPr/>
          </p:nvSpPr>
          <p:spPr>
            <a:xfrm rot="16200000">
              <a:off x="1086480" y="510156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3" name=""/>
            <p:cNvSpPr/>
            <p:nvPr/>
          </p:nvSpPr>
          <p:spPr>
            <a:xfrm rot="16200000">
              <a:off x="1131840" y="510192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4" name=""/>
            <p:cNvSpPr/>
            <p:nvPr/>
          </p:nvSpPr>
          <p:spPr>
            <a:xfrm rot="16200000">
              <a:off x="1314360" y="511056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5" name=""/>
            <p:cNvSpPr/>
            <p:nvPr/>
          </p:nvSpPr>
          <p:spPr>
            <a:xfrm rot="16200000">
              <a:off x="1179720" y="511344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6" name=""/>
            <p:cNvSpPr/>
            <p:nvPr/>
          </p:nvSpPr>
          <p:spPr>
            <a:xfrm rot="16200000">
              <a:off x="1267920" y="506412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7" name=""/>
            <p:cNvSpPr/>
            <p:nvPr/>
          </p:nvSpPr>
          <p:spPr>
            <a:xfrm rot="16200000">
              <a:off x="1267560" y="502560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8" name=""/>
          <p:cNvSpPr/>
          <p:nvPr/>
        </p:nvSpPr>
        <p:spPr>
          <a:xfrm>
            <a:off x="266760" y="5870520"/>
            <a:ext cx="1071360" cy="149400"/>
          </a:xfrm>
          <a:custGeom>
            <a:avLst/>
            <a:gdLst/>
            <a:ahLst/>
            <a:rect l="l" t="t" r="r" b="b"/>
            <a:pathLst>
              <a:path w="708" h="94">
                <a:moveTo>
                  <a:pt x="0" y="34"/>
                </a:moveTo>
                <a:cubicBezTo>
                  <a:pt x="59" y="30"/>
                  <a:pt x="236" y="0"/>
                  <a:pt x="354" y="10"/>
                </a:cubicBezTo>
                <a:cubicBezTo>
                  <a:pt x="472" y="20"/>
                  <a:pt x="634" y="76"/>
                  <a:pt x="708" y="94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9" name=""/>
          <p:cNvGrpSpPr/>
          <p:nvPr/>
        </p:nvGrpSpPr>
        <p:grpSpPr>
          <a:xfrm>
            <a:off x="1957320" y="5986440"/>
            <a:ext cx="74520" cy="152280"/>
            <a:chOff x="1957320" y="5986440"/>
            <a:chExt cx="74520" cy="152280"/>
          </a:xfrm>
        </p:grpSpPr>
        <p:sp>
          <p:nvSpPr>
            <p:cNvPr id="7290" name=""/>
            <p:cNvSpPr/>
            <p:nvPr/>
          </p:nvSpPr>
          <p:spPr>
            <a:xfrm>
              <a:off x="1957320" y="59864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1957320" y="61081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1994400" y="5986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1957320" y="59864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4" name=""/>
          <p:cNvGrpSpPr/>
          <p:nvPr/>
        </p:nvGrpSpPr>
        <p:grpSpPr>
          <a:xfrm>
            <a:off x="541440" y="6427440"/>
            <a:ext cx="93600" cy="88920"/>
            <a:chOff x="541440" y="6427440"/>
            <a:chExt cx="93600" cy="88920"/>
          </a:xfrm>
        </p:grpSpPr>
        <p:sp>
          <p:nvSpPr>
            <p:cNvPr id="7295" name=""/>
            <p:cNvSpPr/>
            <p:nvPr/>
          </p:nvSpPr>
          <p:spPr>
            <a:xfrm rot="16200000">
              <a:off x="506160" y="6462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6" name=""/>
            <p:cNvSpPr/>
            <p:nvPr/>
          </p:nvSpPr>
          <p:spPr>
            <a:xfrm rot="16200000">
              <a:off x="581040" y="6462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7" name=""/>
            <p:cNvSpPr/>
            <p:nvPr/>
          </p:nvSpPr>
          <p:spPr>
            <a:xfrm rot="16200000">
              <a:off x="565920" y="6402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8" name=""/>
            <p:cNvSpPr/>
            <p:nvPr/>
          </p:nvSpPr>
          <p:spPr>
            <a:xfrm rot="16200000">
              <a:off x="565920" y="6447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9" name=""/>
          <p:cNvGrpSpPr/>
          <p:nvPr/>
        </p:nvGrpSpPr>
        <p:grpSpPr>
          <a:xfrm>
            <a:off x="797040" y="6498720"/>
            <a:ext cx="93600" cy="88920"/>
            <a:chOff x="797040" y="6498720"/>
            <a:chExt cx="93600" cy="88920"/>
          </a:xfrm>
        </p:grpSpPr>
        <p:sp>
          <p:nvSpPr>
            <p:cNvPr id="7300" name=""/>
            <p:cNvSpPr/>
            <p:nvPr/>
          </p:nvSpPr>
          <p:spPr>
            <a:xfrm rot="16200000">
              <a:off x="761760" y="6534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1" name=""/>
            <p:cNvSpPr/>
            <p:nvPr/>
          </p:nvSpPr>
          <p:spPr>
            <a:xfrm rot="16200000">
              <a:off x="836640" y="6533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2" name=""/>
            <p:cNvSpPr/>
            <p:nvPr/>
          </p:nvSpPr>
          <p:spPr>
            <a:xfrm rot="16200000">
              <a:off x="821520" y="6474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3" name=""/>
            <p:cNvSpPr/>
            <p:nvPr/>
          </p:nvSpPr>
          <p:spPr>
            <a:xfrm rot="16200000">
              <a:off x="821520" y="6518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4" name=""/>
          <p:cNvGrpSpPr/>
          <p:nvPr/>
        </p:nvGrpSpPr>
        <p:grpSpPr>
          <a:xfrm>
            <a:off x="2160720" y="6184440"/>
            <a:ext cx="93600" cy="88920"/>
            <a:chOff x="2160720" y="6184440"/>
            <a:chExt cx="93600" cy="88920"/>
          </a:xfrm>
        </p:grpSpPr>
        <p:sp>
          <p:nvSpPr>
            <p:cNvPr id="7305" name=""/>
            <p:cNvSpPr/>
            <p:nvPr/>
          </p:nvSpPr>
          <p:spPr>
            <a:xfrm rot="16200000">
              <a:off x="2125440" y="6219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6" name=""/>
            <p:cNvSpPr/>
            <p:nvPr/>
          </p:nvSpPr>
          <p:spPr>
            <a:xfrm rot="16200000">
              <a:off x="2200320" y="6219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7" name=""/>
            <p:cNvSpPr/>
            <p:nvPr/>
          </p:nvSpPr>
          <p:spPr>
            <a:xfrm rot="16200000">
              <a:off x="2185200" y="6159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8" name=""/>
            <p:cNvSpPr/>
            <p:nvPr/>
          </p:nvSpPr>
          <p:spPr>
            <a:xfrm rot="16200000">
              <a:off x="2185200" y="6204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9" name=""/>
          <p:cNvGrpSpPr/>
          <p:nvPr/>
        </p:nvGrpSpPr>
        <p:grpSpPr>
          <a:xfrm>
            <a:off x="722160" y="5958000"/>
            <a:ext cx="74880" cy="152280"/>
            <a:chOff x="722160" y="5958000"/>
            <a:chExt cx="74880" cy="152280"/>
          </a:xfrm>
        </p:grpSpPr>
        <p:sp>
          <p:nvSpPr>
            <p:cNvPr id="7310" name=""/>
            <p:cNvSpPr/>
            <p:nvPr/>
          </p:nvSpPr>
          <p:spPr>
            <a:xfrm>
              <a:off x="722160" y="59580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1" name=""/>
            <p:cNvSpPr/>
            <p:nvPr/>
          </p:nvSpPr>
          <p:spPr>
            <a:xfrm>
              <a:off x="722160" y="607968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2" name=""/>
            <p:cNvSpPr/>
            <p:nvPr/>
          </p:nvSpPr>
          <p:spPr>
            <a:xfrm>
              <a:off x="759600" y="595800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722160" y="595800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4" name=""/>
          <p:cNvGrpSpPr/>
          <p:nvPr/>
        </p:nvGrpSpPr>
        <p:grpSpPr>
          <a:xfrm>
            <a:off x="974880" y="6004800"/>
            <a:ext cx="95040" cy="97200"/>
            <a:chOff x="974880" y="6004800"/>
            <a:chExt cx="95040" cy="97200"/>
          </a:xfrm>
        </p:grpSpPr>
        <p:sp>
          <p:nvSpPr>
            <p:cNvPr id="7315" name=""/>
            <p:cNvSpPr/>
            <p:nvPr/>
          </p:nvSpPr>
          <p:spPr>
            <a:xfrm rot="10800000">
              <a:off x="974880" y="6101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6" name=""/>
            <p:cNvSpPr/>
            <p:nvPr/>
          </p:nvSpPr>
          <p:spPr>
            <a:xfrm rot="10800000">
              <a:off x="974880" y="6004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7" name=""/>
            <p:cNvSpPr/>
            <p:nvPr/>
          </p:nvSpPr>
          <p:spPr>
            <a:xfrm rot="10800000">
              <a:off x="975240" y="60051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8" name=""/>
            <p:cNvSpPr/>
            <p:nvPr/>
          </p:nvSpPr>
          <p:spPr>
            <a:xfrm rot="10800000">
              <a:off x="1022400" y="60051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9" name=""/>
          <p:cNvGrpSpPr/>
          <p:nvPr/>
        </p:nvGrpSpPr>
        <p:grpSpPr>
          <a:xfrm>
            <a:off x="789120" y="6218280"/>
            <a:ext cx="88920" cy="93600"/>
            <a:chOff x="789120" y="6218280"/>
            <a:chExt cx="88920" cy="93600"/>
          </a:xfrm>
        </p:grpSpPr>
        <p:sp>
          <p:nvSpPr>
            <p:cNvPr id="7320" name=""/>
            <p:cNvSpPr/>
            <p:nvPr/>
          </p:nvSpPr>
          <p:spPr>
            <a:xfrm>
              <a:off x="789120" y="62182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789120" y="6293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833400" y="6218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789120" y="6218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4" name=""/>
          <p:cNvGrpSpPr/>
          <p:nvPr/>
        </p:nvGrpSpPr>
        <p:grpSpPr>
          <a:xfrm>
            <a:off x="579600" y="6657840"/>
            <a:ext cx="88560" cy="93960"/>
            <a:chOff x="579600" y="6657840"/>
            <a:chExt cx="88560" cy="93960"/>
          </a:xfrm>
        </p:grpSpPr>
        <p:sp>
          <p:nvSpPr>
            <p:cNvPr id="7325" name=""/>
            <p:cNvSpPr/>
            <p:nvPr/>
          </p:nvSpPr>
          <p:spPr>
            <a:xfrm>
              <a:off x="579600" y="665784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579600" y="673308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7" name=""/>
            <p:cNvSpPr/>
            <p:nvPr/>
          </p:nvSpPr>
          <p:spPr>
            <a:xfrm>
              <a:off x="623880" y="66578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8" name=""/>
            <p:cNvSpPr/>
            <p:nvPr/>
          </p:nvSpPr>
          <p:spPr>
            <a:xfrm>
              <a:off x="579600" y="66578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9" name=""/>
          <p:cNvGrpSpPr/>
          <p:nvPr/>
        </p:nvGrpSpPr>
        <p:grpSpPr>
          <a:xfrm>
            <a:off x="730080" y="6648120"/>
            <a:ext cx="97200" cy="95400"/>
            <a:chOff x="730080" y="6648120"/>
            <a:chExt cx="97200" cy="95400"/>
          </a:xfrm>
        </p:grpSpPr>
        <p:sp>
          <p:nvSpPr>
            <p:cNvPr id="7330" name=""/>
            <p:cNvSpPr/>
            <p:nvPr/>
          </p:nvSpPr>
          <p:spPr>
            <a:xfrm rot="16200000">
              <a:off x="682560" y="6695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1" name=""/>
            <p:cNvSpPr/>
            <p:nvPr/>
          </p:nvSpPr>
          <p:spPr>
            <a:xfrm rot="16200000">
              <a:off x="779400" y="6695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2" name=""/>
            <p:cNvSpPr/>
            <p:nvPr/>
          </p:nvSpPr>
          <p:spPr>
            <a:xfrm rot="16200000">
              <a:off x="754560" y="66232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3" name=""/>
            <p:cNvSpPr/>
            <p:nvPr/>
          </p:nvSpPr>
          <p:spPr>
            <a:xfrm rot="16200000">
              <a:off x="754560" y="6671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4" name=""/>
          <p:cNvGrpSpPr/>
          <p:nvPr/>
        </p:nvGrpSpPr>
        <p:grpSpPr>
          <a:xfrm>
            <a:off x="331920" y="6515280"/>
            <a:ext cx="93600" cy="88560"/>
            <a:chOff x="331920" y="6515280"/>
            <a:chExt cx="93600" cy="88560"/>
          </a:xfrm>
        </p:grpSpPr>
        <p:sp>
          <p:nvSpPr>
            <p:cNvPr id="7335" name=""/>
            <p:cNvSpPr/>
            <p:nvPr/>
          </p:nvSpPr>
          <p:spPr>
            <a:xfrm rot="16200000">
              <a:off x="296640" y="655020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6" name=""/>
            <p:cNvSpPr/>
            <p:nvPr/>
          </p:nvSpPr>
          <p:spPr>
            <a:xfrm rot="16200000">
              <a:off x="371880" y="655020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7" name=""/>
            <p:cNvSpPr/>
            <p:nvPr/>
          </p:nvSpPr>
          <p:spPr>
            <a:xfrm rot="16200000">
              <a:off x="356400" y="6490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8" name=""/>
            <p:cNvSpPr/>
            <p:nvPr/>
          </p:nvSpPr>
          <p:spPr>
            <a:xfrm rot="16200000">
              <a:off x="356400" y="6534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9" name=""/>
          <p:cNvGrpSpPr/>
          <p:nvPr/>
        </p:nvGrpSpPr>
        <p:grpSpPr>
          <a:xfrm>
            <a:off x="336600" y="6668640"/>
            <a:ext cx="93600" cy="88920"/>
            <a:chOff x="336600" y="6668640"/>
            <a:chExt cx="93600" cy="88920"/>
          </a:xfrm>
        </p:grpSpPr>
        <p:sp>
          <p:nvSpPr>
            <p:cNvPr id="7340" name=""/>
            <p:cNvSpPr/>
            <p:nvPr/>
          </p:nvSpPr>
          <p:spPr>
            <a:xfrm rot="16200000">
              <a:off x="301320" y="6703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1" name=""/>
            <p:cNvSpPr/>
            <p:nvPr/>
          </p:nvSpPr>
          <p:spPr>
            <a:xfrm rot="16200000">
              <a:off x="376200" y="6703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2" name=""/>
            <p:cNvSpPr/>
            <p:nvPr/>
          </p:nvSpPr>
          <p:spPr>
            <a:xfrm rot="16200000">
              <a:off x="361080" y="6644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3" name=""/>
            <p:cNvSpPr/>
            <p:nvPr/>
          </p:nvSpPr>
          <p:spPr>
            <a:xfrm rot="16200000">
              <a:off x="361080" y="6688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4" name=""/>
          <p:cNvGrpSpPr/>
          <p:nvPr/>
        </p:nvGrpSpPr>
        <p:grpSpPr>
          <a:xfrm>
            <a:off x="345960" y="6289200"/>
            <a:ext cx="93600" cy="88920"/>
            <a:chOff x="345960" y="6289200"/>
            <a:chExt cx="93600" cy="88920"/>
          </a:xfrm>
        </p:grpSpPr>
        <p:sp>
          <p:nvSpPr>
            <p:cNvPr id="7345" name=""/>
            <p:cNvSpPr/>
            <p:nvPr/>
          </p:nvSpPr>
          <p:spPr>
            <a:xfrm rot="16200000">
              <a:off x="310680" y="63244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6" name=""/>
            <p:cNvSpPr/>
            <p:nvPr/>
          </p:nvSpPr>
          <p:spPr>
            <a:xfrm rot="16200000">
              <a:off x="385560" y="6324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7" name=""/>
            <p:cNvSpPr/>
            <p:nvPr/>
          </p:nvSpPr>
          <p:spPr>
            <a:xfrm rot="16200000">
              <a:off x="370440" y="6264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8" name=""/>
            <p:cNvSpPr/>
            <p:nvPr/>
          </p:nvSpPr>
          <p:spPr>
            <a:xfrm rot="16200000">
              <a:off x="370440" y="630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9" name=""/>
          <p:cNvGrpSpPr/>
          <p:nvPr/>
        </p:nvGrpSpPr>
        <p:grpSpPr>
          <a:xfrm>
            <a:off x="979560" y="6215040"/>
            <a:ext cx="88920" cy="93600"/>
            <a:chOff x="979560" y="6215040"/>
            <a:chExt cx="88920" cy="93600"/>
          </a:xfrm>
        </p:grpSpPr>
        <p:sp>
          <p:nvSpPr>
            <p:cNvPr id="7350" name=""/>
            <p:cNvSpPr/>
            <p:nvPr/>
          </p:nvSpPr>
          <p:spPr>
            <a:xfrm>
              <a:off x="979560" y="6215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979560" y="6289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1023840" y="6215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3" name=""/>
            <p:cNvSpPr/>
            <p:nvPr/>
          </p:nvSpPr>
          <p:spPr>
            <a:xfrm>
              <a:off x="979560" y="6215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4" name=""/>
          <p:cNvGrpSpPr/>
          <p:nvPr/>
        </p:nvGrpSpPr>
        <p:grpSpPr>
          <a:xfrm>
            <a:off x="1368360" y="6443640"/>
            <a:ext cx="122400" cy="127080"/>
            <a:chOff x="1368360" y="6443640"/>
            <a:chExt cx="122400" cy="127080"/>
          </a:xfrm>
        </p:grpSpPr>
        <p:sp>
          <p:nvSpPr>
            <p:cNvPr id="7355" name=""/>
            <p:cNvSpPr/>
            <p:nvPr/>
          </p:nvSpPr>
          <p:spPr>
            <a:xfrm>
              <a:off x="1372320" y="6447960"/>
              <a:ext cx="113760" cy="11736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1370520" y="6447600"/>
              <a:ext cx="118080" cy="11880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1468440" y="6561000"/>
              <a:ext cx="16200" cy="900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1370880" y="6561720"/>
              <a:ext cx="16200" cy="90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1474200" y="6443640"/>
              <a:ext cx="16200" cy="82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1368360" y="6443640"/>
              <a:ext cx="8640" cy="16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1368360" y="645912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1368360" y="647604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1368360" y="6492600"/>
              <a:ext cx="8640" cy="16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1368360" y="650808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1368360" y="652500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1368360" y="6537600"/>
              <a:ext cx="8640" cy="162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1368360" y="6553800"/>
              <a:ext cx="8640" cy="16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1482480" y="6443640"/>
              <a:ext cx="8280" cy="16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1482480" y="6459120"/>
              <a:ext cx="8280" cy="162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1482480" y="647568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1482480" y="649224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1482480" y="6508080"/>
              <a:ext cx="8280" cy="16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1482480" y="652464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1482480" y="653688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1482480" y="655344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6" name=""/>
            <p:cNvSpPr/>
            <p:nvPr/>
          </p:nvSpPr>
          <p:spPr>
            <a:xfrm>
              <a:off x="1376640" y="6443640"/>
              <a:ext cx="16200" cy="86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1393560" y="6443640"/>
              <a:ext cx="15840" cy="864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1409400" y="6443640"/>
              <a:ext cx="16200" cy="86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1425600" y="6443640"/>
              <a:ext cx="16200" cy="86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1442520" y="6443640"/>
              <a:ext cx="16200" cy="86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1458720" y="6443640"/>
              <a:ext cx="16200" cy="86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1387440" y="6561720"/>
              <a:ext cx="16200" cy="90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1403640" y="6561720"/>
              <a:ext cx="16200" cy="90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1419840" y="6561720"/>
              <a:ext cx="16200" cy="90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5" name=""/>
            <p:cNvSpPr/>
            <p:nvPr/>
          </p:nvSpPr>
          <p:spPr>
            <a:xfrm>
              <a:off x="1436400" y="6561720"/>
              <a:ext cx="16200" cy="90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1452960" y="6561720"/>
              <a:ext cx="16200" cy="90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1440360" y="6496920"/>
              <a:ext cx="23400" cy="1944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1458360" y="6505560"/>
              <a:ext cx="3600" cy="32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1440360" y="6499440"/>
              <a:ext cx="1080" cy="32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0" name=""/>
            <p:cNvSpPr/>
            <p:nvPr/>
          </p:nvSpPr>
          <p:spPr>
            <a:xfrm>
              <a:off x="1439640" y="6510600"/>
              <a:ext cx="1800" cy="2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1" name=""/>
          <p:cNvGrpSpPr/>
          <p:nvPr/>
        </p:nvGrpSpPr>
        <p:grpSpPr>
          <a:xfrm>
            <a:off x="2338560" y="6035760"/>
            <a:ext cx="122040" cy="127080"/>
            <a:chOff x="2338560" y="6035760"/>
            <a:chExt cx="122040" cy="127080"/>
          </a:xfrm>
        </p:grpSpPr>
        <p:sp>
          <p:nvSpPr>
            <p:cNvPr id="7392" name=""/>
            <p:cNvSpPr/>
            <p:nvPr/>
          </p:nvSpPr>
          <p:spPr>
            <a:xfrm>
              <a:off x="2342520" y="6040080"/>
              <a:ext cx="113400" cy="11736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2340720" y="6039720"/>
              <a:ext cx="117720" cy="11880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2438280" y="6153120"/>
              <a:ext cx="15840" cy="900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2341080" y="6153840"/>
              <a:ext cx="16200" cy="90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2444040" y="6035760"/>
              <a:ext cx="16200" cy="828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2338560" y="6035760"/>
              <a:ext cx="8640" cy="16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2338560" y="605124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2338560" y="606816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2338560" y="6084720"/>
              <a:ext cx="8640" cy="1620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2338560" y="610020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2338560" y="6117120"/>
              <a:ext cx="8640" cy="1656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2338560" y="6129720"/>
              <a:ext cx="8640" cy="162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2338560" y="6145920"/>
              <a:ext cx="8640" cy="1692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2452320" y="6035760"/>
              <a:ext cx="8280" cy="16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2452320" y="6051240"/>
              <a:ext cx="8280" cy="1620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2452320" y="606780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2452320" y="608436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2452320" y="6100200"/>
              <a:ext cx="8280" cy="1620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2452320" y="611676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2452320" y="612900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2452320" y="6145560"/>
              <a:ext cx="8280" cy="1656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2346840" y="6035760"/>
              <a:ext cx="16200" cy="86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2363400" y="6035760"/>
              <a:ext cx="15840" cy="864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2379240" y="6035760"/>
              <a:ext cx="16200" cy="86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2395800" y="6035760"/>
              <a:ext cx="16200" cy="86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2412360" y="6035760"/>
              <a:ext cx="16200" cy="864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2428560" y="6035760"/>
              <a:ext cx="16200" cy="864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2357640" y="6153840"/>
              <a:ext cx="16200" cy="90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2373840" y="6153840"/>
              <a:ext cx="15840" cy="90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2390040" y="6153840"/>
              <a:ext cx="16200" cy="90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2406600" y="6153840"/>
              <a:ext cx="16200" cy="900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2422800" y="6153840"/>
              <a:ext cx="16200" cy="900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2410560" y="6089040"/>
              <a:ext cx="23400" cy="1944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2428200" y="6097680"/>
              <a:ext cx="3600" cy="32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2410560" y="6091560"/>
              <a:ext cx="1080" cy="324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2409480" y="6102720"/>
              <a:ext cx="1800" cy="216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8" name=""/>
          <p:cNvGrpSpPr/>
          <p:nvPr/>
        </p:nvGrpSpPr>
        <p:grpSpPr>
          <a:xfrm>
            <a:off x="2082960" y="5942160"/>
            <a:ext cx="195120" cy="195120"/>
            <a:chOff x="2082960" y="5942160"/>
            <a:chExt cx="195120" cy="195120"/>
          </a:xfrm>
        </p:grpSpPr>
        <p:sp>
          <p:nvSpPr>
            <p:cNvPr id="7429" name=""/>
            <p:cNvSpPr/>
            <p:nvPr/>
          </p:nvSpPr>
          <p:spPr>
            <a:xfrm>
              <a:off x="2115360" y="5974560"/>
              <a:ext cx="32400" cy="1303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342" y="342"/>
                  </a:moveTo>
                  <a:lnTo>
                    <a:pt x="0" y="0"/>
                  </a:lnTo>
                  <a:lnTo>
                    <a:pt x="0" y="1374"/>
                  </a:lnTo>
                  <a:lnTo>
                    <a:pt x="342" y="1032"/>
                  </a:lnTo>
                  <a:lnTo>
                    <a:pt x="342" y="34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2082960" y="5942160"/>
              <a:ext cx="32400" cy="19512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0" y="0"/>
                  </a:moveTo>
                  <a:lnTo>
                    <a:pt x="342" y="342"/>
                  </a:lnTo>
                  <a:lnTo>
                    <a:pt x="342" y="1716"/>
                  </a:lnTo>
                  <a:lnTo>
                    <a:pt x="0" y="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2115360" y="6072480"/>
              <a:ext cx="130320" cy="3240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342" y="0"/>
                  </a:moveTo>
                  <a:lnTo>
                    <a:pt x="0" y="342"/>
                  </a:lnTo>
                  <a:lnTo>
                    <a:pt x="1374" y="342"/>
                  </a:lnTo>
                  <a:lnTo>
                    <a:pt x="103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2082960" y="6104880"/>
              <a:ext cx="195120" cy="3240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0" y="342"/>
                  </a:moveTo>
                  <a:lnTo>
                    <a:pt x="342" y="0"/>
                  </a:lnTo>
                  <a:lnTo>
                    <a:pt x="1716" y="0"/>
                  </a:lnTo>
                  <a:lnTo>
                    <a:pt x="2058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2213280" y="5974560"/>
              <a:ext cx="32400" cy="1303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0" y="1032"/>
                  </a:moveTo>
                  <a:lnTo>
                    <a:pt x="342" y="1374"/>
                  </a:lnTo>
                  <a:lnTo>
                    <a:pt x="342" y="0"/>
                  </a:lnTo>
                  <a:lnTo>
                    <a:pt x="0" y="34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2245680" y="5942160"/>
              <a:ext cx="32400" cy="19512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342" y="2058"/>
                  </a:moveTo>
                  <a:lnTo>
                    <a:pt x="0" y="1716"/>
                  </a:lnTo>
                  <a:lnTo>
                    <a:pt x="0" y="342"/>
                  </a:lnTo>
                  <a:lnTo>
                    <a:pt x="342" y="0"/>
                  </a:lnTo>
                  <a:lnTo>
                    <a:pt x="342" y="205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2115360" y="5974560"/>
              <a:ext cx="130320" cy="3240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1032" y="342"/>
                  </a:moveTo>
                  <a:lnTo>
                    <a:pt x="1374" y="0"/>
                  </a:lnTo>
                  <a:lnTo>
                    <a:pt x="0" y="0"/>
                  </a:lnTo>
                  <a:lnTo>
                    <a:pt x="342" y="342"/>
                  </a:lnTo>
                  <a:lnTo>
                    <a:pt x="1032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2082960" y="5942160"/>
              <a:ext cx="195120" cy="3240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2058" y="0"/>
                  </a:moveTo>
                  <a:lnTo>
                    <a:pt x="1716" y="342"/>
                  </a:lnTo>
                  <a:lnTo>
                    <a:pt x="342" y="342"/>
                  </a:lnTo>
                  <a:lnTo>
                    <a:pt x="0" y="0"/>
                  </a:lnTo>
                  <a:lnTo>
                    <a:pt x="205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7" name=""/>
          <p:cNvGrpSpPr/>
          <p:nvPr/>
        </p:nvGrpSpPr>
        <p:grpSpPr>
          <a:xfrm>
            <a:off x="2108160" y="5790960"/>
            <a:ext cx="149760" cy="74520"/>
            <a:chOff x="2108160" y="5790960"/>
            <a:chExt cx="149760" cy="74520"/>
          </a:xfrm>
        </p:grpSpPr>
        <p:sp>
          <p:nvSpPr>
            <p:cNvPr id="7438" name=""/>
            <p:cNvSpPr/>
            <p:nvPr/>
          </p:nvSpPr>
          <p:spPr>
            <a:xfrm rot="16200000">
              <a:off x="2071080" y="5828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 rot="16200000">
              <a:off x="2220480" y="5828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0" name=""/>
            <p:cNvSpPr/>
            <p:nvPr/>
          </p:nvSpPr>
          <p:spPr>
            <a:xfrm rot="16200000">
              <a:off x="2163960" y="5734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1" name=""/>
            <p:cNvSpPr/>
            <p:nvPr/>
          </p:nvSpPr>
          <p:spPr>
            <a:xfrm rot="16200000">
              <a:off x="2164320" y="5772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2" name=""/>
          <p:cNvGrpSpPr/>
          <p:nvPr/>
        </p:nvGrpSpPr>
        <p:grpSpPr>
          <a:xfrm>
            <a:off x="2317680" y="5718240"/>
            <a:ext cx="206280" cy="193680"/>
            <a:chOff x="2317680" y="5718240"/>
            <a:chExt cx="206280" cy="193680"/>
          </a:xfrm>
        </p:grpSpPr>
        <p:sp>
          <p:nvSpPr>
            <p:cNvPr id="7443" name=""/>
            <p:cNvSpPr/>
            <p:nvPr/>
          </p:nvSpPr>
          <p:spPr>
            <a:xfrm rot="16200000">
              <a:off x="2353320" y="585648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4" name=""/>
            <p:cNvSpPr/>
            <p:nvPr/>
          </p:nvSpPr>
          <p:spPr>
            <a:xfrm rot="16200000">
              <a:off x="2353680" y="568224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 rot="16200000">
              <a:off x="2243520" y="579204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6" name=""/>
            <p:cNvSpPr/>
            <p:nvPr/>
          </p:nvSpPr>
          <p:spPr>
            <a:xfrm rot="16200000">
              <a:off x="2288880" y="579240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7" name=""/>
            <p:cNvSpPr/>
            <p:nvPr/>
          </p:nvSpPr>
          <p:spPr>
            <a:xfrm rot="16200000">
              <a:off x="2471400" y="580104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8" name=""/>
            <p:cNvSpPr/>
            <p:nvPr/>
          </p:nvSpPr>
          <p:spPr>
            <a:xfrm rot="16200000">
              <a:off x="2336760" y="580392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9" name=""/>
            <p:cNvSpPr/>
            <p:nvPr/>
          </p:nvSpPr>
          <p:spPr>
            <a:xfrm rot="16200000">
              <a:off x="2424960" y="575460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0" name=""/>
            <p:cNvSpPr/>
            <p:nvPr/>
          </p:nvSpPr>
          <p:spPr>
            <a:xfrm rot="16200000">
              <a:off x="2424600" y="571608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1" name=""/>
          <p:cNvGrpSpPr/>
          <p:nvPr/>
        </p:nvGrpSpPr>
        <p:grpSpPr>
          <a:xfrm>
            <a:off x="2382480" y="5569920"/>
            <a:ext cx="95400" cy="97200"/>
            <a:chOff x="2382480" y="5569920"/>
            <a:chExt cx="95400" cy="97200"/>
          </a:xfrm>
        </p:grpSpPr>
        <p:sp>
          <p:nvSpPr>
            <p:cNvPr id="7452" name=""/>
            <p:cNvSpPr/>
            <p:nvPr/>
          </p:nvSpPr>
          <p:spPr>
            <a:xfrm rot="10800000">
              <a:off x="2382480" y="5666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3" name=""/>
            <p:cNvSpPr/>
            <p:nvPr/>
          </p:nvSpPr>
          <p:spPr>
            <a:xfrm rot="10800000">
              <a:off x="2382480" y="5569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4" name=""/>
            <p:cNvSpPr/>
            <p:nvPr/>
          </p:nvSpPr>
          <p:spPr>
            <a:xfrm rot="10800000">
              <a:off x="2382480" y="55702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5" name=""/>
            <p:cNvSpPr/>
            <p:nvPr/>
          </p:nvSpPr>
          <p:spPr>
            <a:xfrm rot="10800000">
              <a:off x="2430000" y="5570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6" name=""/>
          <p:cNvGrpSpPr/>
          <p:nvPr/>
        </p:nvGrpSpPr>
        <p:grpSpPr>
          <a:xfrm>
            <a:off x="2568240" y="5555520"/>
            <a:ext cx="95400" cy="97200"/>
            <a:chOff x="2568240" y="5555520"/>
            <a:chExt cx="95400" cy="97200"/>
          </a:xfrm>
        </p:grpSpPr>
        <p:sp>
          <p:nvSpPr>
            <p:cNvPr id="7457" name=""/>
            <p:cNvSpPr/>
            <p:nvPr/>
          </p:nvSpPr>
          <p:spPr>
            <a:xfrm rot="10800000">
              <a:off x="2568240" y="5652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8" name=""/>
            <p:cNvSpPr/>
            <p:nvPr/>
          </p:nvSpPr>
          <p:spPr>
            <a:xfrm rot="10800000">
              <a:off x="2568240" y="5555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9" name=""/>
            <p:cNvSpPr/>
            <p:nvPr/>
          </p:nvSpPr>
          <p:spPr>
            <a:xfrm rot="10800000">
              <a:off x="2568240" y="5555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0" name=""/>
            <p:cNvSpPr/>
            <p:nvPr/>
          </p:nvSpPr>
          <p:spPr>
            <a:xfrm rot="10800000">
              <a:off x="2615760" y="5555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1" name=""/>
          <p:cNvGrpSpPr/>
          <p:nvPr/>
        </p:nvGrpSpPr>
        <p:grpSpPr>
          <a:xfrm>
            <a:off x="3676680" y="5268960"/>
            <a:ext cx="193680" cy="206280"/>
            <a:chOff x="3676680" y="5268960"/>
            <a:chExt cx="193680" cy="206280"/>
          </a:xfrm>
        </p:grpSpPr>
        <p:sp>
          <p:nvSpPr>
            <p:cNvPr id="7462" name=""/>
            <p:cNvSpPr/>
            <p:nvPr/>
          </p:nvSpPr>
          <p:spPr>
            <a:xfrm>
              <a:off x="3676680" y="526896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851280" y="526896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676680" y="526896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676680" y="531468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3735000" y="544752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3735000" y="531540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3735000" y="531540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3773160" y="531540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0" name=""/>
          <p:cNvGrpSpPr/>
          <p:nvPr/>
        </p:nvGrpSpPr>
        <p:grpSpPr>
          <a:xfrm>
            <a:off x="4816440" y="5253120"/>
            <a:ext cx="193680" cy="206280"/>
            <a:chOff x="4816440" y="5253120"/>
            <a:chExt cx="193680" cy="206280"/>
          </a:xfrm>
        </p:grpSpPr>
        <p:sp>
          <p:nvSpPr>
            <p:cNvPr id="7471" name=""/>
            <p:cNvSpPr/>
            <p:nvPr/>
          </p:nvSpPr>
          <p:spPr>
            <a:xfrm>
              <a:off x="4816440" y="525312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4991040" y="525312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4816440" y="525312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4816440" y="529884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4874760" y="543168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4874760" y="529956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4874760" y="529956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4912920" y="529956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9" name=""/>
          <p:cNvGrpSpPr/>
          <p:nvPr/>
        </p:nvGrpSpPr>
        <p:grpSpPr>
          <a:xfrm>
            <a:off x="3468600" y="5384880"/>
            <a:ext cx="152640" cy="74520"/>
            <a:chOff x="3468600" y="5384880"/>
            <a:chExt cx="152640" cy="74520"/>
          </a:xfrm>
        </p:grpSpPr>
        <p:sp>
          <p:nvSpPr>
            <p:cNvPr id="7480" name=""/>
            <p:cNvSpPr/>
            <p:nvPr/>
          </p:nvSpPr>
          <p:spPr>
            <a:xfrm rot="5400000">
              <a:off x="3568680" y="54068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1" name=""/>
            <p:cNvSpPr/>
            <p:nvPr/>
          </p:nvSpPr>
          <p:spPr>
            <a:xfrm rot="5400000">
              <a:off x="3446640" y="54068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2" name=""/>
            <p:cNvSpPr/>
            <p:nvPr/>
          </p:nvSpPr>
          <p:spPr>
            <a:xfrm rot="5400000">
              <a:off x="3526200" y="536400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3" name=""/>
            <p:cNvSpPr/>
            <p:nvPr/>
          </p:nvSpPr>
          <p:spPr>
            <a:xfrm rot="5400000">
              <a:off x="3526200" y="532692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4" name=""/>
          <p:cNvGrpSpPr/>
          <p:nvPr/>
        </p:nvGrpSpPr>
        <p:grpSpPr>
          <a:xfrm>
            <a:off x="3466800" y="5272200"/>
            <a:ext cx="152280" cy="74520"/>
            <a:chOff x="3466800" y="5272200"/>
            <a:chExt cx="152280" cy="74520"/>
          </a:xfrm>
        </p:grpSpPr>
        <p:sp>
          <p:nvSpPr>
            <p:cNvPr id="7485" name=""/>
            <p:cNvSpPr/>
            <p:nvPr/>
          </p:nvSpPr>
          <p:spPr>
            <a:xfrm rot="5400000">
              <a:off x="3566520" y="52941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6" name=""/>
            <p:cNvSpPr/>
            <p:nvPr/>
          </p:nvSpPr>
          <p:spPr>
            <a:xfrm rot="5400000">
              <a:off x="3444840" y="52941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7" name=""/>
            <p:cNvSpPr/>
            <p:nvPr/>
          </p:nvSpPr>
          <p:spPr>
            <a:xfrm rot="5400000">
              <a:off x="3524400" y="5251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8" name=""/>
            <p:cNvSpPr/>
            <p:nvPr/>
          </p:nvSpPr>
          <p:spPr>
            <a:xfrm rot="5400000">
              <a:off x="3524400" y="5214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9" name=""/>
          <p:cNvGrpSpPr/>
          <p:nvPr/>
        </p:nvGrpSpPr>
        <p:grpSpPr>
          <a:xfrm>
            <a:off x="4156200" y="5395680"/>
            <a:ext cx="149400" cy="74520"/>
            <a:chOff x="4156200" y="5395680"/>
            <a:chExt cx="149400" cy="74520"/>
          </a:xfrm>
        </p:grpSpPr>
        <p:sp>
          <p:nvSpPr>
            <p:cNvPr id="7490" name=""/>
            <p:cNvSpPr/>
            <p:nvPr/>
          </p:nvSpPr>
          <p:spPr>
            <a:xfrm rot="16200000">
              <a:off x="4119120" y="5432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1" name=""/>
            <p:cNvSpPr/>
            <p:nvPr/>
          </p:nvSpPr>
          <p:spPr>
            <a:xfrm rot="16200000">
              <a:off x="4268160" y="5432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2" name=""/>
            <p:cNvSpPr/>
            <p:nvPr/>
          </p:nvSpPr>
          <p:spPr>
            <a:xfrm rot="16200000">
              <a:off x="4212000" y="53398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3" name=""/>
            <p:cNvSpPr/>
            <p:nvPr/>
          </p:nvSpPr>
          <p:spPr>
            <a:xfrm rot="16200000">
              <a:off x="4212000" y="537696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4" name=""/>
          <p:cNvGrpSpPr/>
          <p:nvPr/>
        </p:nvGrpSpPr>
        <p:grpSpPr>
          <a:xfrm>
            <a:off x="5060880" y="5519520"/>
            <a:ext cx="149760" cy="74520"/>
            <a:chOff x="5060880" y="5519520"/>
            <a:chExt cx="149760" cy="74520"/>
          </a:xfrm>
        </p:grpSpPr>
        <p:sp>
          <p:nvSpPr>
            <p:cNvPr id="7495" name=""/>
            <p:cNvSpPr/>
            <p:nvPr/>
          </p:nvSpPr>
          <p:spPr>
            <a:xfrm rot="16200000">
              <a:off x="5023800" y="5556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6" name=""/>
            <p:cNvSpPr/>
            <p:nvPr/>
          </p:nvSpPr>
          <p:spPr>
            <a:xfrm rot="16200000">
              <a:off x="5173200" y="5556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7" name=""/>
            <p:cNvSpPr/>
            <p:nvPr/>
          </p:nvSpPr>
          <p:spPr>
            <a:xfrm rot="16200000">
              <a:off x="5116680" y="54633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 rot="16200000">
              <a:off x="5117040" y="5500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9" name=""/>
          <p:cNvGrpSpPr/>
          <p:nvPr/>
        </p:nvGrpSpPr>
        <p:grpSpPr>
          <a:xfrm>
            <a:off x="3002040" y="5355720"/>
            <a:ext cx="93600" cy="88920"/>
            <a:chOff x="3002040" y="5355720"/>
            <a:chExt cx="93600" cy="88920"/>
          </a:xfrm>
        </p:grpSpPr>
        <p:sp>
          <p:nvSpPr>
            <p:cNvPr id="7500" name=""/>
            <p:cNvSpPr/>
            <p:nvPr/>
          </p:nvSpPr>
          <p:spPr>
            <a:xfrm rot="16200000">
              <a:off x="2966760" y="5391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1" name=""/>
            <p:cNvSpPr/>
            <p:nvPr/>
          </p:nvSpPr>
          <p:spPr>
            <a:xfrm rot="16200000">
              <a:off x="3041640" y="539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2" name=""/>
            <p:cNvSpPr/>
            <p:nvPr/>
          </p:nvSpPr>
          <p:spPr>
            <a:xfrm rot="16200000">
              <a:off x="3026520" y="5331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3" name=""/>
            <p:cNvSpPr/>
            <p:nvPr/>
          </p:nvSpPr>
          <p:spPr>
            <a:xfrm rot="16200000">
              <a:off x="3026520" y="537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4" name=""/>
          <p:cNvGrpSpPr/>
          <p:nvPr/>
        </p:nvGrpSpPr>
        <p:grpSpPr>
          <a:xfrm>
            <a:off x="4411800" y="5132160"/>
            <a:ext cx="93600" cy="88920"/>
            <a:chOff x="4411800" y="5132160"/>
            <a:chExt cx="93600" cy="88920"/>
          </a:xfrm>
        </p:grpSpPr>
        <p:sp>
          <p:nvSpPr>
            <p:cNvPr id="7505" name=""/>
            <p:cNvSpPr/>
            <p:nvPr/>
          </p:nvSpPr>
          <p:spPr>
            <a:xfrm rot="16200000">
              <a:off x="4376520" y="5167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6" name=""/>
            <p:cNvSpPr/>
            <p:nvPr/>
          </p:nvSpPr>
          <p:spPr>
            <a:xfrm rot="16200000">
              <a:off x="4451400" y="5167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7" name=""/>
            <p:cNvSpPr/>
            <p:nvPr/>
          </p:nvSpPr>
          <p:spPr>
            <a:xfrm rot="16200000">
              <a:off x="4436280" y="5107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 rot="16200000">
              <a:off x="4436280" y="5151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9" name=""/>
          <p:cNvGrpSpPr/>
          <p:nvPr/>
        </p:nvGrpSpPr>
        <p:grpSpPr>
          <a:xfrm>
            <a:off x="5278320" y="5151600"/>
            <a:ext cx="93960" cy="88560"/>
            <a:chOff x="5278320" y="5151600"/>
            <a:chExt cx="93960" cy="88560"/>
          </a:xfrm>
        </p:grpSpPr>
        <p:sp>
          <p:nvSpPr>
            <p:cNvPr id="7510" name=""/>
            <p:cNvSpPr/>
            <p:nvPr/>
          </p:nvSpPr>
          <p:spPr>
            <a:xfrm rot="16200000">
              <a:off x="5243400" y="51865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1" name=""/>
            <p:cNvSpPr/>
            <p:nvPr/>
          </p:nvSpPr>
          <p:spPr>
            <a:xfrm rot="16200000">
              <a:off x="5318640" y="51865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2" name=""/>
            <p:cNvSpPr/>
            <p:nvPr/>
          </p:nvSpPr>
          <p:spPr>
            <a:xfrm rot="16200000">
              <a:off x="5303160" y="51267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3" name=""/>
            <p:cNvSpPr/>
            <p:nvPr/>
          </p:nvSpPr>
          <p:spPr>
            <a:xfrm rot="16200000">
              <a:off x="5303160" y="51710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4" name=""/>
          <p:cNvGrpSpPr/>
          <p:nvPr/>
        </p:nvGrpSpPr>
        <p:grpSpPr>
          <a:xfrm>
            <a:off x="5997600" y="5741640"/>
            <a:ext cx="93600" cy="88920"/>
            <a:chOff x="5997600" y="5741640"/>
            <a:chExt cx="93600" cy="88920"/>
          </a:xfrm>
        </p:grpSpPr>
        <p:sp>
          <p:nvSpPr>
            <p:cNvPr id="7515" name=""/>
            <p:cNvSpPr/>
            <p:nvPr/>
          </p:nvSpPr>
          <p:spPr>
            <a:xfrm rot="16200000">
              <a:off x="5962320" y="5776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6" name=""/>
            <p:cNvSpPr/>
            <p:nvPr/>
          </p:nvSpPr>
          <p:spPr>
            <a:xfrm rot="16200000">
              <a:off x="6037200" y="5776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7" name=""/>
            <p:cNvSpPr/>
            <p:nvPr/>
          </p:nvSpPr>
          <p:spPr>
            <a:xfrm rot="16200000">
              <a:off x="6022080" y="5717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8" name=""/>
            <p:cNvSpPr/>
            <p:nvPr/>
          </p:nvSpPr>
          <p:spPr>
            <a:xfrm rot="16200000">
              <a:off x="6022080" y="5761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9" name=""/>
          <p:cNvGrpSpPr/>
          <p:nvPr/>
        </p:nvGrpSpPr>
        <p:grpSpPr>
          <a:xfrm>
            <a:off x="5056920" y="5286240"/>
            <a:ext cx="97200" cy="95400"/>
            <a:chOff x="5056920" y="5286240"/>
            <a:chExt cx="97200" cy="95400"/>
          </a:xfrm>
        </p:grpSpPr>
        <p:sp>
          <p:nvSpPr>
            <p:cNvPr id="7520" name=""/>
            <p:cNvSpPr/>
            <p:nvPr/>
          </p:nvSpPr>
          <p:spPr>
            <a:xfrm rot="5400000">
              <a:off x="5106240" y="5333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1" name=""/>
            <p:cNvSpPr/>
            <p:nvPr/>
          </p:nvSpPr>
          <p:spPr>
            <a:xfrm rot="5400000">
              <a:off x="5009400" y="5333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2" name=""/>
            <p:cNvSpPr/>
            <p:nvPr/>
          </p:nvSpPr>
          <p:spPr>
            <a:xfrm rot="5400000">
              <a:off x="5081760" y="53092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3" name=""/>
            <p:cNvSpPr/>
            <p:nvPr/>
          </p:nvSpPr>
          <p:spPr>
            <a:xfrm rot="5400000">
              <a:off x="5081760" y="5261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4" name=""/>
          <p:cNvGrpSpPr/>
          <p:nvPr/>
        </p:nvGrpSpPr>
        <p:grpSpPr>
          <a:xfrm>
            <a:off x="5346720" y="5640480"/>
            <a:ext cx="130320" cy="135000"/>
            <a:chOff x="5346720" y="5640480"/>
            <a:chExt cx="130320" cy="135000"/>
          </a:xfrm>
        </p:grpSpPr>
        <p:sp>
          <p:nvSpPr>
            <p:cNvPr id="7525" name=""/>
            <p:cNvSpPr/>
            <p:nvPr/>
          </p:nvSpPr>
          <p:spPr>
            <a:xfrm>
              <a:off x="5351040" y="5645160"/>
              <a:ext cx="120960" cy="124920"/>
            </a:xfrm>
            <a:prstGeom prst="rect">
              <a:avLst/>
            </a:prstGeom>
            <a:solidFill>
              <a:srgbClr val="9e9e9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5348880" y="5644440"/>
              <a:ext cx="125640" cy="126000"/>
            </a:xfrm>
            <a:custGeom>
              <a:avLst/>
              <a:gdLst/>
              <a:ahLst/>
              <a:rect l="l" t="t" r="r" b="b"/>
              <a:pathLst>
                <a:path w="1271" h="1238">
                  <a:moveTo>
                    <a:pt x="42" y="1238"/>
                  </a:moveTo>
                  <a:lnTo>
                    <a:pt x="46" y="1238"/>
                  </a:lnTo>
                  <a:lnTo>
                    <a:pt x="51" y="1238"/>
                  </a:lnTo>
                  <a:lnTo>
                    <a:pt x="63" y="1238"/>
                  </a:lnTo>
                  <a:lnTo>
                    <a:pt x="71" y="1238"/>
                  </a:lnTo>
                  <a:lnTo>
                    <a:pt x="80" y="1238"/>
                  </a:lnTo>
                  <a:lnTo>
                    <a:pt x="84" y="1238"/>
                  </a:lnTo>
                  <a:lnTo>
                    <a:pt x="88" y="1238"/>
                  </a:lnTo>
                  <a:lnTo>
                    <a:pt x="92" y="1238"/>
                  </a:lnTo>
                  <a:lnTo>
                    <a:pt x="92" y="1233"/>
                  </a:lnTo>
                  <a:lnTo>
                    <a:pt x="96" y="1233"/>
                  </a:lnTo>
                  <a:lnTo>
                    <a:pt x="101" y="1229"/>
                  </a:lnTo>
                  <a:lnTo>
                    <a:pt x="105" y="1229"/>
                  </a:lnTo>
                  <a:lnTo>
                    <a:pt x="113" y="1229"/>
                  </a:lnTo>
                  <a:lnTo>
                    <a:pt x="113" y="1225"/>
                  </a:lnTo>
                  <a:lnTo>
                    <a:pt x="117" y="1225"/>
                  </a:lnTo>
                  <a:lnTo>
                    <a:pt x="126" y="1225"/>
                  </a:lnTo>
                  <a:lnTo>
                    <a:pt x="126" y="1217"/>
                  </a:lnTo>
                  <a:lnTo>
                    <a:pt x="134" y="1212"/>
                  </a:lnTo>
                  <a:lnTo>
                    <a:pt x="138" y="1204"/>
                  </a:lnTo>
                  <a:lnTo>
                    <a:pt x="142" y="1200"/>
                  </a:lnTo>
                  <a:lnTo>
                    <a:pt x="142" y="1192"/>
                  </a:lnTo>
                  <a:lnTo>
                    <a:pt x="147" y="1187"/>
                  </a:lnTo>
                  <a:lnTo>
                    <a:pt x="147" y="1179"/>
                  </a:lnTo>
                  <a:lnTo>
                    <a:pt x="147" y="1167"/>
                  </a:lnTo>
                  <a:lnTo>
                    <a:pt x="147" y="1162"/>
                  </a:lnTo>
                  <a:lnTo>
                    <a:pt x="147" y="1158"/>
                  </a:lnTo>
                  <a:lnTo>
                    <a:pt x="147" y="1150"/>
                  </a:lnTo>
                  <a:lnTo>
                    <a:pt x="147" y="1146"/>
                  </a:lnTo>
                  <a:lnTo>
                    <a:pt x="147" y="1141"/>
                  </a:lnTo>
                  <a:lnTo>
                    <a:pt x="147" y="1133"/>
                  </a:lnTo>
                  <a:lnTo>
                    <a:pt x="147" y="1129"/>
                  </a:lnTo>
                  <a:lnTo>
                    <a:pt x="147" y="1125"/>
                  </a:lnTo>
                  <a:lnTo>
                    <a:pt x="147" y="1121"/>
                  </a:lnTo>
                  <a:lnTo>
                    <a:pt x="147" y="1116"/>
                  </a:lnTo>
                  <a:lnTo>
                    <a:pt x="147" y="1108"/>
                  </a:lnTo>
                  <a:lnTo>
                    <a:pt x="147" y="1104"/>
                  </a:lnTo>
                  <a:lnTo>
                    <a:pt x="147" y="1100"/>
                  </a:lnTo>
                  <a:lnTo>
                    <a:pt x="147" y="1091"/>
                  </a:lnTo>
                  <a:lnTo>
                    <a:pt x="147" y="1087"/>
                  </a:lnTo>
                  <a:lnTo>
                    <a:pt x="147" y="1083"/>
                  </a:lnTo>
                  <a:lnTo>
                    <a:pt x="147" y="1079"/>
                  </a:lnTo>
                  <a:lnTo>
                    <a:pt x="147" y="1070"/>
                  </a:lnTo>
                  <a:lnTo>
                    <a:pt x="147" y="1066"/>
                  </a:lnTo>
                  <a:lnTo>
                    <a:pt x="147" y="1058"/>
                  </a:lnTo>
                  <a:lnTo>
                    <a:pt x="147" y="1049"/>
                  </a:lnTo>
                  <a:lnTo>
                    <a:pt x="147" y="1045"/>
                  </a:lnTo>
                  <a:lnTo>
                    <a:pt x="151" y="1041"/>
                  </a:lnTo>
                  <a:lnTo>
                    <a:pt x="151" y="1033"/>
                  </a:lnTo>
                  <a:lnTo>
                    <a:pt x="151" y="1024"/>
                  </a:lnTo>
                  <a:lnTo>
                    <a:pt x="151" y="1020"/>
                  </a:lnTo>
                  <a:lnTo>
                    <a:pt x="151" y="1008"/>
                  </a:lnTo>
                  <a:lnTo>
                    <a:pt x="151" y="1003"/>
                  </a:lnTo>
                  <a:lnTo>
                    <a:pt x="151" y="999"/>
                  </a:lnTo>
                  <a:lnTo>
                    <a:pt x="151" y="991"/>
                  </a:lnTo>
                  <a:lnTo>
                    <a:pt x="151" y="983"/>
                  </a:lnTo>
                  <a:lnTo>
                    <a:pt x="151" y="978"/>
                  </a:lnTo>
                  <a:lnTo>
                    <a:pt x="151" y="966"/>
                  </a:lnTo>
                  <a:lnTo>
                    <a:pt x="151" y="958"/>
                  </a:lnTo>
                  <a:lnTo>
                    <a:pt x="151" y="949"/>
                  </a:lnTo>
                  <a:lnTo>
                    <a:pt x="151" y="941"/>
                  </a:lnTo>
                  <a:lnTo>
                    <a:pt x="151" y="924"/>
                  </a:lnTo>
                  <a:lnTo>
                    <a:pt x="151" y="916"/>
                  </a:lnTo>
                  <a:lnTo>
                    <a:pt x="151" y="907"/>
                  </a:lnTo>
                  <a:lnTo>
                    <a:pt x="151" y="899"/>
                  </a:lnTo>
                  <a:lnTo>
                    <a:pt x="151" y="891"/>
                  </a:lnTo>
                  <a:lnTo>
                    <a:pt x="151" y="882"/>
                  </a:lnTo>
                  <a:lnTo>
                    <a:pt x="151" y="878"/>
                  </a:lnTo>
                  <a:lnTo>
                    <a:pt x="151" y="870"/>
                  </a:lnTo>
                  <a:lnTo>
                    <a:pt x="151" y="866"/>
                  </a:lnTo>
                  <a:lnTo>
                    <a:pt x="151" y="853"/>
                  </a:lnTo>
                  <a:lnTo>
                    <a:pt x="151" y="845"/>
                  </a:lnTo>
                  <a:lnTo>
                    <a:pt x="151" y="840"/>
                  </a:lnTo>
                  <a:lnTo>
                    <a:pt x="151" y="832"/>
                  </a:lnTo>
                  <a:lnTo>
                    <a:pt x="151" y="828"/>
                  </a:lnTo>
                  <a:lnTo>
                    <a:pt x="151" y="820"/>
                  </a:lnTo>
                  <a:lnTo>
                    <a:pt x="151" y="811"/>
                  </a:lnTo>
                  <a:lnTo>
                    <a:pt x="151" y="807"/>
                  </a:lnTo>
                  <a:lnTo>
                    <a:pt x="151" y="799"/>
                  </a:lnTo>
                  <a:lnTo>
                    <a:pt x="151" y="794"/>
                  </a:lnTo>
                  <a:lnTo>
                    <a:pt x="151" y="786"/>
                  </a:lnTo>
                  <a:lnTo>
                    <a:pt x="151" y="778"/>
                  </a:lnTo>
                  <a:lnTo>
                    <a:pt x="151" y="769"/>
                  </a:lnTo>
                  <a:lnTo>
                    <a:pt x="151" y="757"/>
                  </a:lnTo>
                  <a:lnTo>
                    <a:pt x="151" y="744"/>
                  </a:lnTo>
                  <a:lnTo>
                    <a:pt x="151" y="740"/>
                  </a:lnTo>
                  <a:lnTo>
                    <a:pt x="151" y="732"/>
                  </a:lnTo>
                  <a:lnTo>
                    <a:pt x="151" y="723"/>
                  </a:lnTo>
                  <a:lnTo>
                    <a:pt x="151" y="715"/>
                  </a:lnTo>
                  <a:lnTo>
                    <a:pt x="151" y="707"/>
                  </a:lnTo>
                  <a:lnTo>
                    <a:pt x="151" y="698"/>
                  </a:lnTo>
                  <a:lnTo>
                    <a:pt x="155" y="686"/>
                  </a:lnTo>
                  <a:lnTo>
                    <a:pt x="155" y="682"/>
                  </a:lnTo>
                  <a:lnTo>
                    <a:pt x="155" y="669"/>
                  </a:lnTo>
                  <a:lnTo>
                    <a:pt x="155" y="661"/>
                  </a:lnTo>
                  <a:lnTo>
                    <a:pt x="155" y="657"/>
                  </a:lnTo>
                  <a:lnTo>
                    <a:pt x="155" y="648"/>
                  </a:lnTo>
                  <a:lnTo>
                    <a:pt x="155" y="640"/>
                  </a:lnTo>
                  <a:lnTo>
                    <a:pt x="155" y="636"/>
                  </a:lnTo>
                  <a:lnTo>
                    <a:pt x="155" y="631"/>
                  </a:lnTo>
                  <a:lnTo>
                    <a:pt x="155" y="619"/>
                  </a:lnTo>
                  <a:lnTo>
                    <a:pt x="155" y="611"/>
                  </a:lnTo>
                  <a:lnTo>
                    <a:pt x="155" y="602"/>
                  </a:lnTo>
                  <a:lnTo>
                    <a:pt x="155" y="590"/>
                  </a:lnTo>
                  <a:lnTo>
                    <a:pt x="155" y="581"/>
                  </a:lnTo>
                  <a:lnTo>
                    <a:pt x="155" y="573"/>
                  </a:lnTo>
                  <a:lnTo>
                    <a:pt x="155" y="560"/>
                  </a:lnTo>
                  <a:lnTo>
                    <a:pt x="155" y="556"/>
                  </a:lnTo>
                  <a:lnTo>
                    <a:pt x="155" y="544"/>
                  </a:lnTo>
                  <a:lnTo>
                    <a:pt x="155" y="531"/>
                  </a:lnTo>
                  <a:lnTo>
                    <a:pt x="155" y="523"/>
                  </a:lnTo>
                  <a:lnTo>
                    <a:pt x="155" y="514"/>
                  </a:lnTo>
                  <a:lnTo>
                    <a:pt x="151" y="506"/>
                  </a:lnTo>
                  <a:lnTo>
                    <a:pt x="151" y="494"/>
                  </a:lnTo>
                  <a:lnTo>
                    <a:pt x="151" y="485"/>
                  </a:lnTo>
                  <a:lnTo>
                    <a:pt x="147" y="481"/>
                  </a:lnTo>
                  <a:lnTo>
                    <a:pt x="147" y="473"/>
                  </a:lnTo>
                  <a:lnTo>
                    <a:pt x="147" y="468"/>
                  </a:lnTo>
                  <a:lnTo>
                    <a:pt x="147" y="460"/>
                  </a:lnTo>
                  <a:lnTo>
                    <a:pt x="147" y="448"/>
                  </a:lnTo>
                  <a:lnTo>
                    <a:pt x="147" y="435"/>
                  </a:lnTo>
                  <a:lnTo>
                    <a:pt x="147" y="427"/>
                  </a:lnTo>
                  <a:lnTo>
                    <a:pt x="147" y="418"/>
                  </a:lnTo>
                  <a:lnTo>
                    <a:pt x="147" y="410"/>
                  </a:lnTo>
                  <a:lnTo>
                    <a:pt x="147" y="406"/>
                  </a:lnTo>
                  <a:lnTo>
                    <a:pt x="147" y="397"/>
                  </a:lnTo>
                  <a:lnTo>
                    <a:pt x="147" y="389"/>
                  </a:lnTo>
                  <a:lnTo>
                    <a:pt x="142" y="385"/>
                  </a:lnTo>
                  <a:lnTo>
                    <a:pt x="142" y="376"/>
                  </a:lnTo>
                  <a:lnTo>
                    <a:pt x="142" y="368"/>
                  </a:lnTo>
                  <a:lnTo>
                    <a:pt x="142" y="364"/>
                  </a:lnTo>
                  <a:lnTo>
                    <a:pt x="142" y="356"/>
                  </a:lnTo>
                  <a:lnTo>
                    <a:pt x="142" y="347"/>
                  </a:lnTo>
                  <a:lnTo>
                    <a:pt x="142" y="343"/>
                  </a:lnTo>
                  <a:lnTo>
                    <a:pt x="142" y="335"/>
                  </a:lnTo>
                  <a:lnTo>
                    <a:pt x="142" y="331"/>
                  </a:lnTo>
                  <a:lnTo>
                    <a:pt x="142" y="326"/>
                  </a:lnTo>
                  <a:lnTo>
                    <a:pt x="142" y="322"/>
                  </a:lnTo>
                  <a:lnTo>
                    <a:pt x="142" y="314"/>
                  </a:lnTo>
                  <a:lnTo>
                    <a:pt x="142" y="310"/>
                  </a:lnTo>
                  <a:lnTo>
                    <a:pt x="142" y="305"/>
                  </a:lnTo>
                  <a:lnTo>
                    <a:pt x="142" y="301"/>
                  </a:lnTo>
                  <a:lnTo>
                    <a:pt x="142" y="293"/>
                  </a:lnTo>
                  <a:lnTo>
                    <a:pt x="142" y="289"/>
                  </a:lnTo>
                  <a:lnTo>
                    <a:pt x="142" y="285"/>
                  </a:lnTo>
                  <a:lnTo>
                    <a:pt x="142" y="280"/>
                  </a:lnTo>
                  <a:lnTo>
                    <a:pt x="142" y="272"/>
                  </a:lnTo>
                  <a:lnTo>
                    <a:pt x="142" y="268"/>
                  </a:lnTo>
                  <a:lnTo>
                    <a:pt x="142" y="264"/>
                  </a:lnTo>
                  <a:lnTo>
                    <a:pt x="142" y="259"/>
                  </a:lnTo>
                  <a:lnTo>
                    <a:pt x="142" y="251"/>
                  </a:lnTo>
                  <a:lnTo>
                    <a:pt x="147" y="247"/>
                  </a:lnTo>
                  <a:lnTo>
                    <a:pt x="151" y="239"/>
                  </a:lnTo>
                  <a:lnTo>
                    <a:pt x="151" y="234"/>
                  </a:lnTo>
                  <a:lnTo>
                    <a:pt x="151" y="226"/>
                  </a:lnTo>
                  <a:lnTo>
                    <a:pt x="155" y="222"/>
                  </a:lnTo>
                  <a:lnTo>
                    <a:pt x="155" y="218"/>
                  </a:lnTo>
                  <a:lnTo>
                    <a:pt x="155" y="209"/>
                  </a:lnTo>
                  <a:lnTo>
                    <a:pt x="159" y="205"/>
                  </a:lnTo>
                  <a:lnTo>
                    <a:pt x="159" y="201"/>
                  </a:lnTo>
                  <a:lnTo>
                    <a:pt x="163" y="193"/>
                  </a:lnTo>
                  <a:lnTo>
                    <a:pt x="163" y="188"/>
                  </a:lnTo>
                  <a:lnTo>
                    <a:pt x="163" y="184"/>
                  </a:lnTo>
                  <a:lnTo>
                    <a:pt x="168" y="184"/>
                  </a:lnTo>
                  <a:lnTo>
                    <a:pt x="168" y="176"/>
                  </a:lnTo>
                  <a:lnTo>
                    <a:pt x="172" y="172"/>
                  </a:lnTo>
                  <a:lnTo>
                    <a:pt x="176" y="167"/>
                  </a:lnTo>
                  <a:lnTo>
                    <a:pt x="176" y="163"/>
                  </a:lnTo>
                  <a:lnTo>
                    <a:pt x="180" y="159"/>
                  </a:lnTo>
                  <a:lnTo>
                    <a:pt x="180" y="155"/>
                  </a:lnTo>
                  <a:lnTo>
                    <a:pt x="180" y="151"/>
                  </a:lnTo>
                  <a:lnTo>
                    <a:pt x="188" y="151"/>
                  </a:lnTo>
                  <a:lnTo>
                    <a:pt x="193" y="147"/>
                  </a:lnTo>
                  <a:lnTo>
                    <a:pt x="205" y="138"/>
                  </a:lnTo>
                  <a:lnTo>
                    <a:pt x="214" y="134"/>
                  </a:lnTo>
                  <a:lnTo>
                    <a:pt x="218" y="134"/>
                  </a:lnTo>
                  <a:lnTo>
                    <a:pt x="226" y="130"/>
                  </a:lnTo>
                  <a:lnTo>
                    <a:pt x="230" y="126"/>
                  </a:lnTo>
                  <a:lnTo>
                    <a:pt x="234" y="126"/>
                  </a:lnTo>
                  <a:lnTo>
                    <a:pt x="239" y="122"/>
                  </a:lnTo>
                  <a:lnTo>
                    <a:pt x="247" y="122"/>
                  </a:lnTo>
                  <a:lnTo>
                    <a:pt x="251" y="117"/>
                  </a:lnTo>
                  <a:lnTo>
                    <a:pt x="260" y="117"/>
                  </a:lnTo>
                  <a:lnTo>
                    <a:pt x="268" y="113"/>
                  </a:lnTo>
                  <a:lnTo>
                    <a:pt x="276" y="113"/>
                  </a:lnTo>
                  <a:lnTo>
                    <a:pt x="289" y="113"/>
                  </a:lnTo>
                  <a:lnTo>
                    <a:pt x="293" y="113"/>
                  </a:lnTo>
                  <a:lnTo>
                    <a:pt x="305" y="113"/>
                  </a:lnTo>
                  <a:lnTo>
                    <a:pt x="314" y="113"/>
                  </a:lnTo>
                  <a:lnTo>
                    <a:pt x="326" y="113"/>
                  </a:lnTo>
                  <a:lnTo>
                    <a:pt x="339" y="113"/>
                  </a:lnTo>
                  <a:lnTo>
                    <a:pt x="347" y="113"/>
                  </a:lnTo>
                  <a:lnTo>
                    <a:pt x="360" y="113"/>
                  </a:lnTo>
                  <a:lnTo>
                    <a:pt x="377" y="113"/>
                  </a:lnTo>
                  <a:lnTo>
                    <a:pt x="389" y="117"/>
                  </a:lnTo>
                  <a:lnTo>
                    <a:pt x="402" y="126"/>
                  </a:lnTo>
                  <a:lnTo>
                    <a:pt x="418" y="126"/>
                  </a:lnTo>
                  <a:lnTo>
                    <a:pt x="439" y="126"/>
                  </a:lnTo>
                  <a:lnTo>
                    <a:pt x="448" y="126"/>
                  </a:lnTo>
                  <a:lnTo>
                    <a:pt x="460" y="126"/>
                  </a:lnTo>
                  <a:lnTo>
                    <a:pt x="473" y="126"/>
                  </a:lnTo>
                  <a:lnTo>
                    <a:pt x="489" y="126"/>
                  </a:lnTo>
                  <a:lnTo>
                    <a:pt x="498" y="126"/>
                  </a:lnTo>
                  <a:lnTo>
                    <a:pt x="510" y="126"/>
                  </a:lnTo>
                  <a:lnTo>
                    <a:pt x="519" y="126"/>
                  </a:lnTo>
                  <a:lnTo>
                    <a:pt x="527" y="126"/>
                  </a:lnTo>
                  <a:lnTo>
                    <a:pt x="535" y="126"/>
                  </a:lnTo>
                  <a:lnTo>
                    <a:pt x="548" y="126"/>
                  </a:lnTo>
                  <a:lnTo>
                    <a:pt x="560" y="126"/>
                  </a:lnTo>
                  <a:lnTo>
                    <a:pt x="569" y="126"/>
                  </a:lnTo>
                  <a:lnTo>
                    <a:pt x="577" y="126"/>
                  </a:lnTo>
                  <a:lnTo>
                    <a:pt x="590" y="126"/>
                  </a:lnTo>
                  <a:lnTo>
                    <a:pt x="598" y="126"/>
                  </a:lnTo>
                  <a:lnTo>
                    <a:pt x="611" y="126"/>
                  </a:lnTo>
                  <a:lnTo>
                    <a:pt x="619" y="126"/>
                  </a:lnTo>
                  <a:lnTo>
                    <a:pt x="627" y="126"/>
                  </a:lnTo>
                  <a:lnTo>
                    <a:pt x="636" y="126"/>
                  </a:lnTo>
                  <a:lnTo>
                    <a:pt x="640" y="126"/>
                  </a:lnTo>
                  <a:lnTo>
                    <a:pt x="657" y="126"/>
                  </a:lnTo>
                  <a:lnTo>
                    <a:pt x="665" y="126"/>
                  </a:lnTo>
                  <a:lnTo>
                    <a:pt x="678" y="126"/>
                  </a:lnTo>
                  <a:lnTo>
                    <a:pt x="698" y="126"/>
                  </a:lnTo>
                  <a:lnTo>
                    <a:pt x="715" y="126"/>
                  </a:lnTo>
                  <a:lnTo>
                    <a:pt x="732" y="126"/>
                  </a:lnTo>
                  <a:lnTo>
                    <a:pt x="749" y="126"/>
                  </a:lnTo>
                  <a:lnTo>
                    <a:pt x="757" y="126"/>
                  </a:lnTo>
                  <a:lnTo>
                    <a:pt x="769" y="122"/>
                  </a:lnTo>
                  <a:lnTo>
                    <a:pt x="778" y="122"/>
                  </a:lnTo>
                  <a:lnTo>
                    <a:pt x="786" y="122"/>
                  </a:lnTo>
                  <a:lnTo>
                    <a:pt x="799" y="122"/>
                  </a:lnTo>
                  <a:lnTo>
                    <a:pt x="807" y="122"/>
                  </a:lnTo>
                  <a:lnTo>
                    <a:pt x="811" y="122"/>
                  </a:lnTo>
                  <a:lnTo>
                    <a:pt x="820" y="122"/>
                  </a:lnTo>
                  <a:lnTo>
                    <a:pt x="828" y="122"/>
                  </a:lnTo>
                  <a:lnTo>
                    <a:pt x="836" y="122"/>
                  </a:lnTo>
                  <a:lnTo>
                    <a:pt x="845" y="122"/>
                  </a:lnTo>
                  <a:lnTo>
                    <a:pt x="853" y="122"/>
                  </a:lnTo>
                  <a:lnTo>
                    <a:pt x="861" y="122"/>
                  </a:lnTo>
                  <a:lnTo>
                    <a:pt x="874" y="122"/>
                  </a:lnTo>
                  <a:lnTo>
                    <a:pt x="895" y="117"/>
                  </a:lnTo>
                  <a:lnTo>
                    <a:pt x="907" y="117"/>
                  </a:lnTo>
                  <a:lnTo>
                    <a:pt x="912" y="113"/>
                  </a:lnTo>
                  <a:lnTo>
                    <a:pt x="920" y="113"/>
                  </a:lnTo>
                  <a:lnTo>
                    <a:pt x="932" y="113"/>
                  </a:lnTo>
                  <a:lnTo>
                    <a:pt x="941" y="113"/>
                  </a:lnTo>
                  <a:lnTo>
                    <a:pt x="949" y="109"/>
                  </a:lnTo>
                  <a:lnTo>
                    <a:pt x="958" y="109"/>
                  </a:lnTo>
                  <a:lnTo>
                    <a:pt x="966" y="109"/>
                  </a:lnTo>
                  <a:lnTo>
                    <a:pt x="970" y="109"/>
                  </a:lnTo>
                  <a:lnTo>
                    <a:pt x="983" y="109"/>
                  </a:lnTo>
                  <a:lnTo>
                    <a:pt x="991" y="109"/>
                  </a:lnTo>
                  <a:lnTo>
                    <a:pt x="995" y="109"/>
                  </a:lnTo>
                  <a:lnTo>
                    <a:pt x="1008" y="109"/>
                  </a:lnTo>
                  <a:lnTo>
                    <a:pt x="1016" y="109"/>
                  </a:lnTo>
                  <a:lnTo>
                    <a:pt x="1024" y="109"/>
                  </a:lnTo>
                  <a:lnTo>
                    <a:pt x="1033" y="109"/>
                  </a:lnTo>
                  <a:lnTo>
                    <a:pt x="1041" y="109"/>
                  </a:lnTo>
                  <a:lnTo>
                    <a:pt x="1045" y="109"/>
                  </a:lnTo>
                  <a:lnTo>
                    <a:pt x="1054" y="109"/>
                  </a:lnTo>
                  <a:lnTo>
                    <a:pt x="1058" y="109"/>
                  </a:lnTo>
                  <a:lnTo>
                    <a:pt x="1070" y="109"/>
                  </a:lnTo>
                  <a:lnTo>
                    <a:pt x="1075" y="109"/>
                  </a:lnTo>
                  <a:lnTo>
                    <a:pt x="1083" y="105"/>
                  </a:lnTo>
                  <a:lnTo>
                    <a:pt x="1087" y="101"/>
                  </a:lnTo>
                  <a:lnTo>
                    <a:pt x="1096" y="101"/>
                  </a:lnTo>
                  <a:lnTo>
                    <a:pt x="1100" y="101"/>
                  </a:lnTo>
                  <a:lnTo>
                    <a:pt x="1108" y="101"/>
                  </a:lnTo>
                  <a:lnTo>
                    <a:pt x="1121" y="96"/>
                  </a:lnTo>
                  <a:lnTo>
                    <a:pt x="1129" y="96"/>
                  </a:lnTo>
                  <a:lnTo>
                    <a:pt x="1141" y="96"/>
                  </a:lnTo>
                  <a:lnTo>
                    <a:pt x="1146" y="96"/>
                  </a:lnTo>
                  <a:lnTo>
                    <a:pt x="1154" y="96"/>
                  </a:lnTo>
                  <a:lnTo>
                    <a:pt x="1158" y="96"/>
                  </a:lnTo>
                  <a:lnTo>
                    <a:pt x="1162" y="92"/>
                  </a:lnTo>
                  <a:lnTo>
                    <a:pt x="1167" y="92"/>
                  </a:lnTo>
                  <a:lnTo>
                    <a:pt x="1175" y="88"/>
                  </a:lnTo>
                  <a:lnTo>
                    <a:pt x="1179" y="88"/>
                  </a:lnTo>
                  <a:lnTo>
                    <a:pt x="1187" y="88"/>
                  </a:lnTo>
                  <a:lnTo>
                    <a:pt x="1192" y="88"/>
                  </a:lnTo>
                  <a:lnTo>
                    <a:pt x="1196" y="88"/>
                  </a:lnTo>
                  <a:lnTo>
                    <a:pt x="1204" y="88"/>
                  </a:lnTo>
                  <a:lnTo>
                    <a:pt x="1208" y="84"/>
                  </a:lnTo>
                  <a:lnTo>
                    <a:pt x="1217" y="84"/>
                  </a:lnTo>
                  <a:lnTo>
                    <a:pt x="1229" y="84"/>
                  </a:lnTo>
                  <a:lnTo>
                    <a:pt x="1233" y="84"/>
                  </a:lnTo>
                  <a:lnTo>
                    <a:pt x="1242" y="80"/>
                  </a:lnTo>
                  <a:lnTo>
                    <a:pt x="1246" y="76"/>
                  </a:lnTo>
                  <a:lnTo>
                    <a:pt x="1250" y="76"/>
                  </a:lnTo>
                  <a:lnTo>
                    <a:pt x="1254" y="76"/>
                  </a:lnTo>
                  <a:lnTo>
                    <a:pt x="1263" y="71"/>
                  </a:lnTo>
                  <a:lnTo>
                    <a:pt x="1267" y="71"/>
                  </a:lnTo>
                  <a:lnTo>
                    <a:pt x="1267" y="67"/>
                  </a:lnTo>
                  <a:lnTo>
                    <a:pt x="1271" y="63"/>
                  </a:lnTo>
                  <a:lnTo>
                    <a:pt x="1271" y="59"/>
                  </a:lnTo>
                  <a:lnTo>
                    <a:pt x="1271" y="55"/>
                  </a:lnTo>
                  <a:lnTo>
                    <a:pt x="1271" y="50"/>
                  </a:lnTo>
                  <a:lnTo>
                    <a:pt x="1271" y="46"/>
                  </a:lnTo>
                  <a:lnTo>
                    <a:pt x="1271" y="42"/>
                  </a:lnTo>
                  <a:lnTo>
                    <a:pt x="1271" y="38"/>
                  </a:lnTo>
                  <a:lnTo>
                    <a:pt x="1267" y="34"/>
                  </a:lnTo>
                  <a:lnTo>
                    <a:pt x="1259" y="30"/>
                  </a:lnTo>
                  <a:lnTo>
                    <a:pt x="1254" y="21"/>
                  </a:lnTo>
                  <a:lnTo>
                    <a:pt x="1250" y="17"/>
                  </a:lnTo>
                  <a:lnTo>
                    <a:pt x="1246" y="13"/>
                  </a:lnTo>
                  <a:lnTo>
                    <a:pt x="1242" y="13"/>
                  </a:lnTo>
                  <a:lnTo>
                    <a:pt x="1238" y="9"/>
                  </a:lnTo>
                  <a:lnTo>
                    <a:pt x="1233" y="9"/>
                  </a:lnTo>
                  <a:lnTo>
                    <a:pt x="1229" y="9"/>
                  </a:lnTo>
                  <a:lnTo>
                    <a:pt x="1225" y="9"/>
                  </a:lnTo>
                  <a:lnTo>
                    <a:pt x="1225" y="4"/>
                  </a:lnTo>
                  <a:lnTo>
                    <a:pt x="1217" y="0"/>
                  </a:lnTo>
                  <a:lnTo>
                    <a:pt x="1196" y="0"/>
                  </a:lnTo>
                  <a:lnTo>
                    <a:pt x="1175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21"/>
                  </a:lnTo>
                  <a:lnTo>
                    <a:pt x="25" y="1217"/>
                  </a:lnTo>
                  <a:lnTo>
                    <a:pt x="30" y="1229"/>
                  </a:lnTo>
                  <a:lnTo>
                    <a:pt x="30" y="1233"/>
                  </a:lnTo>
                  <a:lnTo>
                    <a:pt x="42" y="1238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5453280" y="5765400"/>
              <a:ext cx="17280" cy="9720"/>
            </a:xfrm>
            <a:custGeom>
              <a:avLst/>
              <a:gdLst/>
              <a:ahLst/>
              <a:rect l="l" t="t" r="r" b="b"/>
              <a:pathLst>
                <a:path w="175" h="96">
                  <a:moveTo>
                    <a:pt x="0" y="0"/>
                  </a:moveTo>
                  <a:lnTo>
                    <a:pt x="4" y="42"/>
                  </a:lnTo>
                  <a:lnTo>
                    <a:pt x="4" y="96"/>
                  </a:lnTo>
                  <a:lnTo>
                    <a:pt x="37" y="92"/>
                  </a:lnTo>
                  <a:lnTo>
                    <a:pt x="87" y="96"/>
                  </a:lnTo>
                  <a:lnTo>
                    <a:pt x="133" y="96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4"/>
                  </a:lnTo>
                  <a:lnTo>
                    <a:pt x="133" y="0"/>
                  </a:lnTo>
                  <a:lnTo>
                    <a:pt x="87" y="4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5349600" y="5765760"/>
              <a:ext cx="17280" cy="972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91" y="92"/>
                  </a:lnTo>
                  <a:lnTo>
                    <a:pt x="137" y="97"/>
                  </a:lnTo>
                  <a:lnTo>
                    <a:pt x="175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5459400" y="5640480"/>
              <a:ext cx="17280" cy="8640"/>
            </a:xfrm>
            <a:custGeom>
              <a:avLst/>
              <a:gdLst/>
              <a:ahLst/>
              <a:rect l="l" t="t" r="r" b="b"/>
              <a:pathLst>
                <a:path w="176" h="88">
                  <a:moveTo>
                    <a:pt x="0" y="0"/>
                  </a:moveTo>
                  <a:lnTo>
                    <a:pt x="0" y="38"/>
                  </a:lnTo>
                  <a:lnTo>
                    <a:pt x="5" y="88"/>
                  </a:lnTo>
                  <a:lnTo>
                    <a:pt x="38" y="88"/>
                  </a:lnTo>
                  <a:lnTo>
                    <a:pt x="88" y="88"/>
                  </a:lnTo>
                  <a:lnTo>
                    <a:pt x="134" y="88"/>
                  </a:lnTo>
                  <a:lnTo>
                    <a:pt x="172" y="88"/>
                  </a:lnTo>
                  <a:lnTo>
                    <a:pt x="176" y="42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5346720" y="5640480"/>
              <a:ext cx="9360" cy="1728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5346720" y="5657040"/>
              <a:ext cx="9360" cy="1764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4"/>
                  </a:moveTo>
                  <a:lnTo>
                    <a:pt x="0" y="41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5"/>
                  </a:lnTo>
                  <a:lnTo>
                    <a:pt x="46" y="175"/>
                  </a:lnTo>
                  <a:lnTo>
                    <a:pt x="92" y="175"/>
                  </a:lnTo>
                  <a:lnTo>
                    <a:pt x="96" y="133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5346720" y="5675040"/>
              <a:ext cx="9360" cy="1764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5346720" y="5692320"/>
              <a:ext cx="9360" cy="17280"/>
            </a:xfrm>
            <a:custGeom>
              <a:avLst/>
              <a:gdLst/>
              <a:ahLst/>
              <a:rect l="l" t="t" r="r" b="b"/>
              <a:pathLst>
                <a:path w="96" h="172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5346720" y="5708880"/>
              <a:ext cx="9360" cy="1764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5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6"/>
                  </a:lnTo>
                  <a:lnTo>
                    <a:pt x="46" y="176"/>
                  </a:lnTo>
                  <a:lnTo>
                    <a:pt x="92" y="176"/>
                  </a:lnTo>
                  <a:lnTo>
                    <a:pt x="96" y="134"/>
                  </a:lnTo>
                  <a:lnTo>
                    <a:pt x="92" y="92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5346720" y="5726880"/>
              <a:ext cx="9360" cy="1764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5346720" y="5740200"/>
              <a:ext cx="9360" cy="1728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6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346720" y="5757480"/>
              <a:ext cx="9360" cy="17640"/>
            </a:xfrm>
            <a:custGeom>
              <a:avLst/>
              <a:gdLst/>
              <a:ahLst/>
              <a:rect l="l" t="t" r="r" b="b"/>
              <a:pathLst>
                <a:path w="96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6"/>
                  </a:lnTo>
                  <a:lnTo>
                    <a:pt x="92" y="171"/>
                  </a:lnTo>
                  <a:lnTo>
                    <a:pt x="96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5468040" y="5640480"/>
              <a:ext cx="9000" cy="1728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0"/>
                  </a:lnTo>
                  <a:lnTo>
                    <a:pt x="0" y="130"/>
                  </a:lnTo>
                  <a:lnTo>
                    <a:pt x="0" y="168"/>
                  </a:lnTo>
                  <a:lnTo>
                    <a:pt x="46" y="172"/>
                  </a:lnTo>
                  <a:lnTo>
                    <a:pt x="92" y="168"/>
                  </a:lnTo>
                  <a:lnTo>
                    <a:pt x="92" y="126"/>
                  </a:lnTo>
                  <a:lnTo>
                    <a:pt x="92" y="84"/>
                  </a:lnTo>
                  <a:lnTo>
                    <a:pt x="92" y="34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5468040" y="5657040"/>
              <a:ext cx="9000" cy="17280"/>
            </a:xfrm>
            <a:custGeom>
              <a:avLst/>
              <a:gdLst/>
              <a:ahLst/>
              <a:rect l="l" t="t" r="r" b="b"/>
              <a:pathLst>
                <a:path w="92" h="171">
                  <a:moveTo>
                    <a:pt x="0" y="0"/>
                  </a:moveTo>
                  <a:lnTo>
                    <a:pt x="0" y="37"/>
                  </a:lnTo>
                  <a:lnTo>
                    <a:pt x="0" y="83"/>
                  </a:lnTo>
                  <a:lnTo>
                    <a:pt x="0" y="133"/>
                  </a:lnTo>
                  <a:lnTo>
                    <a:pt x="0" y="171"/>
                  </a:lnTo>
                  <a:lnTo>
                    <a:pt x="46" y="171"/>
                  </a:lnTo>
                  <a:lnTo>
                    <a:pt x="92" y="171"/>
                  </a:lnTo>
                  <a:lnTo>
                    <a:pt x="92" y="129"/>
                  </a:lnTo>
                  <a:lnTo>
                    <a:pt x="92" y="87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5468040" y="5674320"/>
              <a:ext cx="9000" cy="1764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5468040" y="5691960"/>
              <a:ext cx="9000" cy="1764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4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5468040" y="5708880"/>
              <a:ext cx="9000" cy="1728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0" y="0"/>
                  </a:moveTo>
                  <a:lnTo>
                    <a:pt x="0" y="38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2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5468040" y="5726520"/>
              <a:ext cx="9000" cy="1764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37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5468040" y="5739840"/>
              <a:ext cx="9000" cy="1764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0" y="0"/>
                  </a:moveTo>
                  <a:lnTo>
                    <a:pt x="0" y="42"/>
                  </a:lnTo>
                  <a:lnTo>
                    <a:pt x="0" y="84"/>
                  </a:lnTo>
                  <a:lnTo>
                    <a:pt x="0" y="134"/>
                  </a:lnTo>
                  <a:lnTo>
                    <a:pt x="0" y="172"/>
                  </a:lnTo>
                  <a:lnTo>
                    <a:pt x="46" y="176"/>
                  </a:lnTo>
                  <a:lnTo>
                    <a:pt x="92" y="172"/>
                  </a:lnTo>
                  <a:lnTo>
                    <a:pt x="92" y="130"/>
                  </a:lnTo>
                  <a:lnTo>
                    <a:pt x="92" y="88"/>
                  </a:lnTo>
                  <a:lnTo>
                    <a:pt x="92" y="38"/>
                  </a:lnTo>
                  <a:lnTo>
                    <a:pt x="92" y="0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5468040" y="5757120"/>
              <a:ext cx="9000" cy="17640"/>
            </a:xfrm>
            <a:custGeom>
              <a:avLst/>
              <a:gdLst/>
              <a:ahLst/>
              <a:rect l="l" t="t" r="r" b="b"/>
              <a:pathLst>
                <a:path w="92" h="175">
                  <a:moveTo>
                    <a:pt x="0" y="4"/>
                  </a:moveTo>
                  <a:lnTo>
                    <a:pt x="0" y="42"/>
                  </a:lnTo>
                  <a:lnTo>
                    <a:pt x="0" y="83"/>
                  </a:lnTo>
                  <a:lnTo>
                    <a:pt x="0" y="134"/>
                  </a:lnTo>
                  <a:lnTo>
                    <a:pt x="0" y="171"/>
                  </a:lnTo>
                  <a:lnTo>
                    <a:pt x="46" y="175"/>
                  </a:lnTo>
                  <a:lnTo>
                    <a:pt x="92" y="171"/>
                  </a:lnTo>
                  <a:lnTo>
                    <a:pt x="92" y="134"/>
                  </a:lnTo>
                  <a:lnTo>
                    <a:pt x="92" y="88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5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5355720" y="5640480"/>
              <a:ext cx="17280" cy="936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5373360" y="5640480"/>
              <a:ext cx="16560" cy="9360"/>
            </a:xfrm>
            <a:custGeom>
              <a:avLst/>
              <a:gdLst/>
              <a:ahLst/>
              <a:rect l="l" t="t" r="r" b="b"/>
              <a:pathLst>
                <a:path w="171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1" y="88"/>
                  </a:lnTo>
                  <a:lnTo>
                    <a:pt x="171" y="46"/>
                  </a:lnTo>
                  <a:lnTo>
                    <a:pt x="171" y="0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5390280" y="5640480"/>
              <a:ext cx="17280" cy="936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5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5407920" y="5640480"/>
              <a:ext cx="17280" cy="936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4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92" y="92"/>
                  </a:lnTo>
                  <a:lnTo>
                    <a:pt x="134" y="92"/>
                  </a:lnTo>
                  <a:lnTo>
                    <a:pt x="175" y="88"/>
                  </a:lnTo>
                  <a:lnTo>
                    <a:pt x="175" y="46"/>
                  </a:lnTo>
                  <a:lnTo>
                    <a:pt x="175" y="0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5425560" y="5640480"/>
              <a:ext cx="17280" cy="936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0"/>
                  </a:moveTo>
                  <a:lnTo>
                    <a:pt x="0" y="42"/>
                  </a:lnTo>
                  <a:lnTo>
                    <a:pt x="0" y="92"/>
                  </a:lnTo>
                  <a:lnTo>
                    <a:pt x="37" y="88"/>
                  </a:lnTo>
                  <a:lnTo>
                    <a:pt x="87" y="92"/>
                  </a:lnTo>
                  <a:lnTo>
                    <a:pt x="133" y="92"/>
                  </a:lnTo>
                  <a:lnTo>
                    <a:pt x="171" y="88"/>
                  </a:lnTo>
                  <a:lnTo>
                    <a:pt x="175" y="46"/>
                  </a:lnTo>
                  <a:lnTo>
                    <a:pt x="171" y="0"/>
                  </a:lnTo>
                  <a:lnTo>
                    <a:pt x="129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5442840" y="5640480"/>
              <a:ext cx="17280" cy="9360"/>
            </a:xfrm>
            <a:custGeom>
              <a:avLst/>
              <a:gdLst/>
              <a:ahLst/>
              <a:rect l="l" t="t" r="r" b="b"/>
              <a:pathLst>
                <a:path w="176" h="92">
                  <a:moveTo>
                    <a:pt x="0" y="0"/>
                  </a:moveTo>
                  <a:lnTo>
                    <a:pt x="0" y="42"/>
                  </a:lnTo>
                  <a:lnTo>
                    <a:pt x="4" y="92"/>
                  </a:lnTo>
                  <a:lnTo>
                    <a:pt x="38" y="88"/>
                  </a:lnTo>
                  <a:lnTo>
                    <a:pt x="88" y="92"/>
                  </a:lnTo>
                  <a:lnTo>
                    <a:pt x="134" y="92"/>
                  </a:lnTo>
                  <a:lnTo>
                    <a:pt x="172" y="88"/>
                  </a:lnTo>
                  <a:lnTo>
                    <a:pt x="176" y="46"/>
                  </a:lnTo>
                  <a:lnTo>
                    <a:pt x="176" y="0"/>
                  </a:lnTo>
                  <a:lnTo>
                    <a:pt x="134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5367240" y="5765760"/>
              <a:ext cx="17280" cy="972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0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2" y="92"/>
                  </a:lnTo>
                  <a:lnTo>
                    <a:pt x="176" y="46"/>
                  </a:lnTo>
                  <a:lnTo>
                    <a:pt x="172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5384160" y="5765760"/>
              <a:ext cx="17280" cy="972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5401440" y="5765760"/>
              <a:ext cx="17280" cy="972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4" y="42"/>
                  </a:lnTo>
                  <a:lnTo>
                    <a:pt x="4" y="97"/>
                  </a:lnTo>
                  <a:lnTo>
                    <a:pt x="42" y="92"/>
                  </a:lnTo>
                  <a:lnTo>
                    <a:pt x="92" y="92"/>
                  </a:lnTo>
                  <a:lnTo>
                    <a:pt x="138" y="97"/>
                  </a:lnTo>
                  <a:lnTo>
                    <a:pt x="176" y="92"/>
                  </a:lnTo>
                  <a:lnTo>
                    <a:pt x="176" y="46"/>
                  </a:lnTo>
                  <a:lnTo>
                    <a:pt x="176" y="5"/>
                  </a:lnTo>
                  <a:lnTo>
                    <a:pt x="134" y="0"/>
                  </a:lnTo>
                  <a:lnTo>
                    <a:pt x="92" y="0"/>
                  </a:lnTo>
                  <a:lnTo>
                    <a:pt x="42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5419440" y="5765760"/>
              <a:ext cx="17280" cy="972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8" y="92"/>
                  </a:lnTo>
                  <a:lnTo>
                    <a:pt x="88" y="92"/>
                  </a:lnTo>
                  <a:lnTo>
                    <a:pt x="134" y="97"/>
                  </a:lnTo>
                  <a:lnTo>
                    <a:pt x="171" y="92"/>
                  </a:lnTo>
                  <a:lnTo>
                    <a:pt x="176" y="46"/>
                  </a:lnTo>
                  <a:lnTo>
                    <a:pt x="171" y="5"/>
                  </a:lnTo>
                  <a:lnTo>
                    <a:pt x="130" y="0"/>
                  </a:lnTo>
                  <a:lnTo>
                    <a:pt x="88" y="0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5436720" y="5765760"/>
              <a:ext cx="17280" cy="972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42"/>
                  </a:lnTo>
                  <a:lnTo>
                    <a:pt x="4" y="97"/>
                  </a:lnTo>
                  <a:lnTo>
                    <a:pt x="37" y="92"/>
                  </a:lnTo>
                  <a:lnTo>
                    <a:pt x="87" y="92"/>
                  </a:lnTo>
                  <a:lnTo>
                    <a:pt x="133" y="97"/>
                  </a:lnTo>
                  <a:lnTo>
                    <a:pt x="171" y="92"/>
                  </a:lnTo>
                  <a:lnTo>
                    <a:pt x="175" y="46"/>
                  </a:lnTo>
                  <a:lnTo>
                    <a:pt x="175" y="5"/>
                  </a:lnTo>
                  <a:lnTo>
                    <a:pt x="133" y="0"/>
                  </a:lnTo>
                  <a:lnTo>
                    <a:pt x="87" y="0"/>
                  </a:lnTo>
                  <a:lnTo>
                    <a:pt x="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5423400" y="5697000"/>
              <a:ext cx="25200" cy="20880"/>
            </a:xfrm>
            <a:custGeom>
              <a:avLst/>
              <a:gdLst/>
              <a:ahLst/>
              <a:rect l="l" t="t" r="r" b="b"/>
              <a:pathLst>
                <a:path w="255" h="205">
                  <a:moveTo>
                    <a:pt x="16" y="205"/>
                  </a:moveTo>
                  <a:lnTo>
                    <a:pt x="67" y="205"/>
                  </a:lnTo>
                  <a:lnTo>
                    <a:pt x="117" y="201"/>
                  </a:lnTo>
                  <a:lnTo>
                    <a:pt x="159" y="201"/>
                  </a:lnTo>
                  <a:lnTo>
                    <a:pt x="200" y="205"/>
                  </a:lnTo>
                  <a:lnTo>
                    <a:pt x="251" y="205"/>
                  </a:lnTo>
                  <a:lnTo>
                    <a:pt x="251" y="172"/>
                  </a:lnTo>
                  <a:lnTo>
                    <a:pt x="251" y="117"/>
                  </a:lnTo>
                  <a:lnTo>
                    <a:pt x="255" y="71"/>
                  </a:lnTo>
                  <a:lnTo>
                    <a:pt x="246" y="17"/>
                  </a:lnTo>
                  <a:lnTo>
                    <a:pt x="246" y="0"/>
                  </a:lnTo>
                  <a:lnTo>
                    <a:pt x="175" y="5"/>
                  </a:lnTo>
                  <a:lnTo>
                    <a:pt x="134" y="5"/>
                  </a:lnTo>
                  <a:lnTo>
                    <a:pt x="88" y="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8" y="59"/>
                  </a:lnTo>
                  <a:lnTo>
                    <a:pt x="0" y="101"/>
                  </a:lnTo>
                  <a:lnTo>
                    <a:pt x="0" y="147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6" y="205"/>
                  </a:lnTo>
                  <a:close/>
                </a:path>
              </a:pathLst>
            </a:custGeom>
            <a:solidFill>
              <a:srgbClr val="a58f8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5442480" y="5706360"/>
              <a:ext cx="3960" cy="32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4" y="9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3" y="30"/>
                  </a:lnTo>
                  <a:lnTo>
                    <a:pt x="13" y="34"/>
                  </a:lnTo>
                  <a:lnTo>
                    <a:pt x="17" y="34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4"/>
                  </a:lnTo>
                  <a:lnTo>
                    <a:pt x="29" y="30"/>
                  </a:lnTo>
                  <a:lnTo>
                    <a:pt x="33" y="30"/>
                  </a:lnTo>
                  <a:lnTo>
                    <a:pt x="38" y="25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42" y="17"/>
                  </a:lnTo>
                  <a:lnTo>
                    <a:pt x="38" y="13"/>
                  </a:lnTo>
                  <a:lnTo>
                    <a:pt x="38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8" y="5"/>
                  </a:lnTo>
                  <a:lnTo>
                    <a:pt x="4" y="9"/>
                  </a:lnTo>
                  <a:lnTo>
                    <a:pt x="8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1" y="9"/>
                  </a:lnTo>
                  <a:lnTo>
                    <a:pt x="25" y="9"/>
                  </a:ln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21" y="25"/>
                  </a:lnTo>
                  <a:lnTo>
                    <a:pt x="17" y="25"/>
                  </a:lnTo>
                  <a:lnTo>
                    <a:pt x="13" y="25"/>
                  </a:lnTo>
                  <a:lnTo>
                    <a:pt x="13" y="21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8" y="13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5423400" y="5699880"/>
              <a:ext cx="1080" cy="360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12" y="29"/>
                  </a:lnTo>
                  <a:lnTo>
                    <a:pt x="12" y="25"/>
                  </a:lnTo>
                  <a:lnTo>
                    <a:pt x="12" y="16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5422680" y="5711760"/>
              <a:ext cx="1800" cy="252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9" y="0"/>
                  </a:moveTo>
                  <a:lnTo>
                    <a:pt x="9" y="4"/>
                  </a:lnTo>
                  <a:lnTo>
                    <a:pt x="9" y="8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7" y="25"/>
                  </a:lnTo>
                  <a:lnTo>
                    <a:pt x="17" y="12"/>
                  </a:lnTo>
                  <a:lnTo>
                    <a:pt x="21" y="8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1" name=""/>
          <p:cNvGrpSpPr/>
          <p:nvPr/>
        </p:nvGrpSpPr>
        <p:grpSpPr>
          <a:xfrm>
            <a:off x="3471840" y="5086080"/>
            <a:ext cx="93600" cy="88920"/>
            <a:chOff x="3471840" y="5086080"/>
            <a:chExt cx="93600" cy="88920"/>
          </a:xfrm>
        </p:grpSpPr>
        <p:sp>
          <p:nvSpPr>
            <p:cNvPr id="7562" name=""/>
            <p:cNvSpPr/>
            <p:nvPr/>
          </p:nvSpPr>
          <p:spPr>
            <a:xfrm rot="16200000">
              <a:off x="3436560" y="5121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3" name=""/>
            <p:cNvSpPr/>
            <p:nvPr/>
          </p:nvSpPr>
          <p:spPr>
            <a:xfrm rot="16200000">
              <a:off x="3511440" y="5121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4" name=""/>
            <p:cNvSpPr/>
            <p:nvPr/>
          </p:nvSpPr>
          <p:spPr>
            <a:xfrm rot="16200000">
              <a:off x="3496320" y="506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5" name=""/>
            <p:cNvSpPr/>
            <p:nvPr/>
          </p:nvSpPr>
          <p:spPr>
            <a:xfrm rot="16200000">
              <a:off x="3496320" y="5105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6" name=""/>
          <p:cNvGrpSpPr/>
          <p:nvPr/>
        </p:nvGrpSpPr>
        <p:grpSpPr>
          <a:xfrm>
            <a:off x="4876920" y="5075280"/>
            <a:ext cx="95040" cy="97200"/>
            <a:chOff x="4876920" y="5075280"/>
            <a:chExt cx="95040" cy="97200"/>
          </a:xfrm>
        </p:grpSpPr>
        <p:sp>
          <p:nvSpPr>
            <p:cNvPr id="7567" name=""/>
            <p:cNvSpPr/>
            <p:nvPr/>
          </p:nvSpPr>
          <p:spPr>
            <a:xfrm>
              <a:off x="4876920" y="5075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4876920" y="5172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4924440" y="50752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4876920" y="50752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1" name=""/>
          <p:cNvGrpSpPr/>
          <p:nvPr/>
        </p:nvGrpSpPr>
        <p:grpSpPr>
          <a:xfrm>
            <a:off x="5738760" y="5570640"/>
            <a:ext cx="95400" cy="97200"/>
            <a:chOff x="5738760" y="5570640"/>
            <a:chExt cx="95400" cy="97200"/>
          </a:xfrm>
        </p:grpSpPr>
        <p:sp>
          <p:nvSpPr>
            <p:cNvPr id="7572" name=""/>
            <p:cNvSpPr/>
            <p:nvPr/>
          </p:nvSpPr>
          <p:spPr>
            <a:xfrm>
              <a:off x="5738760" y="5570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5738760" y="5667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5786640" y="55706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5738760" y="55706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6" name=""/>
          <p:cNvGrpSpPr/>
          <p:nvPr/>
        </p:nvGrpSpPr>
        <p:grpSpPr>
          <a:xfrm>
            <a:off x="6229440" y="5967360"/>
            <a:ext cx="74520" cy="149760"/>
            <a:chOff x="6229440" y="5967360"/>
            <a:chExt cx="74520" cy="149760"/>
          </a:xfrm>
        </p:grpSpPr>
        <p:sp>
          <p:nvSpPr>
            <p:cNvPr id="7577" name=""/>
            <p:cNvSpPr/>
            <p:nvPr/>
          </p:nvSpPr>
          <p:spPr>
            <a:xfrm>
              <a:off x="6229440" y="59673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6229440" y="6116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6266520" y="59673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6229440" y="596736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1" name=""/>
          <p:cNvGrpSpPr/>
          <p:nvPr/>
        </p:nvGrpSpPr>
        <p:grpSpPr>
          <a:xfrm>
            <a:off x="5967360" y="5600880"/>
            <a:ext cx="93600" cy="88560"/>
            <a:chOff x="5967360" y="5600880"/>
            <a:chExt cx="93600" cy="88560"/>
          </a:xfrm>
        </p:grpSpPr>
        <p:sp>
          <p:nvSpPr>
            <p:cNvPr id="7582" name=""/>
            <p:cNvSpPr/>
            <p:nvPr/>
          </p:nvSpPr>
          <p:spPr>
            <a:xfrm rot="16200000">
              <a:off x="5932080" y="563580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3" name=""/>
            <p:cNvSpPr/>
            <p:nvPr/>
          </p:nvSpPr>
          <p:spPr>
            <a:xfrm rot="16200000">
              <a:off x="6007320" y="563580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 rot="16200000">
              <a:off x="5991840" y="5576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5" name=""/>
            <p:cNvSpPr/>
            <p:nvPr/>
          </p:nvSpPr>
          <p:spPr>
            <a:xfrm rot="16200000">
              <a:off x="5991840" y="5620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6" name=""/>
          <p:cNvGrpSpPr/>
          <p:nvPr/>
        </p:nvGrpSpPr>
        <p:grpSpPr>
          <a:xfrm>
            <a:off x="6415200" y="6062400"/>
            <a:ext cx="93600" cy="88920"/>
            <a:chOff x="6415200" y="6062400"/>
            <a:chExt cx="93600" cy="88920"/>
          </a:xfrm>
        </p:grpSpPr>
        <p:sp>
          <p:nvSpPr>
            <p:cNvPr id="7587" name=""/>
            <p:cNvSpPr/>
            <p:nvPr/>
          </p:nvSpPr>
          <p:spPr>
            <a:xfrm rot="16200000">
              <a:off x="6379920" y="6097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8" name=""/>
            <p:cNvSpPr/>
            <p:nvPr/>
          </p:nvSpPr>
          <p:spPr>
            <a:xfrm rot="16200000">
              <a:off x="6454800" y="6097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9" name=""/>
            <p:cNvSpPr/>
            <p:nvPr/>
          </p:nvSpPr>
          <p:spPr>
            <a:xfrm rot="16200000">
              <a:off x="6439680" y="603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0" name=""/>
            <p:cNvSpPr/>
            <p:nvPr/>
          </p:nvSpPr>
          <p:spPr>
            <a:xfrm rot="16200000">
              <a:off x="6439680" y="6082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1" name=""/>
          <p:cNvGrpSpPr/>
          <p:nvPr/>
        </p:nvGrpSpPr>
        <p:grpSpPr>
          <a:xfrm>
            <a:off x="6500880" y="6186240"/>
            <a:ext cx="93600" cy="88920"/>
            <a:chOff x="6500880" y="6186240"/>
            <a:chExt cx="93600" cy="88920"/>
          </a:xfrm>
        </p:grpSpPr>
        <p:sp>
          <p:nvSpPr>
            <p:cNvPr id="7592" name=""/>
            <p:cNvSpPr/>
            <p:nvPr/>
          </p:nvSpPr>
          <p:spPr>
            <a:xfrm rot="16200000">
              <a:off x="6465600" y="6221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3" name=""/>
            <p:cNvSpPr/>
            <p:nvPr/>
          </p:nvSpPr>
          <p:spPr>
            <a:xfrm rot="16200000">
              <a:off x="6540480" y="6221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 rot="16200000">
              <a:off x="6525360" y="6161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 rot="16200000">
              <a:off x="6525360" y="6206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6" name=""/>
          <p:cNvGrpSpPr/>
          <p:nvPr/>
        </p:nvGrpSpPr>
        <p:grpSpPr>
          <a:xfrm>
            <a:off x="5771880" y="5738400"/>
            <a:ext cx="152280" cy="150840"/>
            <a:chOff x="5771880" y="5738400"/>
            <a:chExt cx="152280" cy="150840"/>
          </a:xfrm>
        </p:grpSpPr>
        <p:sp>
          <p:nvSpPr>
            <p:cNvPr id="7597" name=""/>
            <p:cNvSpPr/>
            <p:nvPr/>
          </p:nvSpPr>
          <p:spPr>
            <a:xfrm rot="10800000">
              <a:off x="5837040" y="58680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8" name=""/>
            <p:cNvSpPr/>
            <p:nvPr/>
          </p:nvSpPr>
          <p:spPr>
            <a:xfrm rot="10800000">
              <a:off x="5837040" y="57816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9" name=""/>
            <p:cNvSpPr/>
            <p:nvPr/>
          </p:nvSpPr>
          <p:spPr>
            <a:xfrm rot="10800000">
              <a:off x="5880600" y="57384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0" name=""/>
            <p:cNvSpPr/>
            <p:nvPr/>
          </p:nvSpPr>
          <p:spPr>
            <a:xfrm rot="10800000">
              <a:off x="5771880" y="57384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1" name=""/>
            <p:cNvSpPr/>
            <p:nvPr/>
          </p:nvSpPr>
          <p:spPr>
            <a:xfrm rot="10800000">
              <a:off x="5771880" y="578196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2" name=""/>
            <p:cNvSpPr/>
            <p:nvPr/>
          </p:nvSpPr>
          <p:spPr>
            <a:xfrm rot="10800000">
              <a:off x="5771880" y="57384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3" name=""/>
          <p:cNvGrpSpPr/>
          <p:nvPr/>
        </p:nvGrpSpPr>
        <p:grpSpPr>
          <a:xfrm>
            <a:off x="2789280" y="5500440"/>
            <a:ext cx="149400" cy="74520"/>
            <a:chOff x="2789280" y="5500440"/>
            <a:chExt cx="149400" cy="74520"/>
          </a:xfrm>
        </p:grpSpPr>
        <p:sp>
          <p:nvSpPr>
            <p:cNvPr id="7604" name=""/>
            <p:cNvSpPr/>
            <p:nvPr/>
          </p:nvSpPr>
          <p:spPr>
            <a:xfrm rot="16200000">
              <a:off x="2752200" y="5537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5" name=""/>
            <p:cNvSpPr/>
            <p:nvPr/>
          </p:nvSpPr>
          <p:spPr>
            <a:xfrm rot="16200000">
              <a:off x="2901240" y="5537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6" name=""/>
            <p:cNvSpPr/>
            <p:nvPr/>
          </p:nvSpPr>
          <p:spPr>
            <a:xfrm rot="16200000">
              <a:off x="2845080" y="54446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7" name=""/>
            <p:cNvSpPr/>
            <p:nvPr/>
          </p:nvSpPr>
          <p:spPr>
            <a:xfrm rot="16200000">
              <a:off x="2845080" y="54817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8" name=""/>
          <p:cNvGrpSpPr/>
          <p:nvPr/>
        </p:nvGrpSpPr>
        <p:grpSpPr>
          <a:xfrm>
            <a:off x="3277800" y="5117400"/>
            <a:ext cx="95400" cy="97200"/>
            <a:chOff x="3277800" y="5117400"/>
            <a:chExt cx="95400" cy="97200"/>
          </a:xfrm>
        </p:grpSpPr>
        <p:sp>
          <p:nvSpPr>
            <p:cNvPr id="7609" name=""/>
            <p:cNvSpPr/>
            <p:nvPr/>
          </p:nvSpPr>
          <p:spPr>
            <a:xfrm rot="10800000">
              <a:off x="3277800" y="5214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0" name=""/>
            <p:cNvSpPr/>
            <p:nvPr/>
          </p:nvSpPr>
          <p:spPr>
            <a:xfrm rot="10800000">
              <a:off x="3277800" y="5117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1" name=""/>
            <p:cNvSpPr/>
            <p:nvPr/>
          </p:nvSpPr>
          <p:spPr>
            <a:xfrm rot="10800000">
              <a:off x="3277800" y="5117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2" name=""/>
            <p:cNvSpPr/>
            <p:nvPr/>
          </p:nvSpPr>
          <p:spPr>
            <a:xfrm rot="10800000">
              <a:off x="3325320" y="5117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3" name=""/>
          <p:cNvGrpSpPr/>
          <p:nvPr/>
        </p:nvGrpSpPr>
        <p:grpSpPr>
          <a:xfrm>
            <a:off x="3700440" y="5110200"/>
            <a:ext cx="88920" cy="93600"/>
            <a:chOff x="3700440" y="5110200"/>
            <a:chExt cx="88920" cy="93600"/>
          </a:xfrm>
        </p:grpSpPr>
        <p:sp>
          <p:nvSpPr>
            <p:cNvPr id="7614" name=""/>
            <p:cNvSpPr/>
            <p:nvPr/>
          </p:nvSpPr>
          <p:spPr>
            <a:xfrm>
              <a:off x="3700440" y="5110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5" name=""/>
            <p:cNvSpPr/>
            <p:nvPr/>
          </p:nvSpPr>
          <p:spPr>
            <a:xfrm>
              <a:off x="3700440" y="5185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3744720" y="511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7" name=""/>
            <p:cNvSpPr/>
            <p:nvPr/>
          </p:nvSpPr>
          <p:spPr>
            <a:xfrm>
              <a:off x="3700440" y="511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8" name=""/>
          <p:cNvGrpSpPr/>
          <p:nvPr/>
        </p:nvGrpSpPr>
        <p:grpSpPr>
          <a:xfrm>
            <a:off x="4186080" y="4637160"/>
            <a:ext cx="95400" cy="97200"/>
            <a:chOff x="4186080" y="4637160"/>
            <a:chExt cx="95400" cy="97200"/>
          </a:xfrm>
        </p:grpSpPr>
        <p:sp>
          <p:nvSpPr>
            <p:cNvPr id="7619" name=""/>
            <p:cNvSpPr/>
            <p:nvPr/>
          </p:nvSpPr>
          <p:spPr>
            <a:xfrm>
              <a:off x="4186080" y="46371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4186080" y="4734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4233960" y="4637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4186080" y="4637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3" name=""/>
          <p:cNvGrpSpPr/>
          <p:nvPr/>
        </p:nvGrpSpPr>
        <p:grpSpPr>
          <a:xfrm>
            <a:off x="4867200" y="4638240"/>
            <a:ext cx="97200" cy="95400"/>
            <a:chOff x="4867200" y="4638240"/>
            <a:chExt cx="97200" cy="95400"/>
          </a:xfrm>
        </p:grpSpPr>
        <p:sp>
          <p:nvSpPr>
            <p:cNvPr id="7624" name=""/>
            <p:cNvSpPr/>
            <p:nvPr/>
          </p:nvSpPr>
          <p:spPr>
            <a:xfrm rot="16200000">
              <a:off x="4819680" y="4685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5" name=""/>
            <p:cNvSpPr/>
            <p:nvPr/>
          </p:nvSpPr>
          <p:spPr>
            <a:xfrm rot="16200000">
              <a:off x="4916520" y="4685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6" name=""/>
            <p:cNvSpPr/>
            <p:nvPr/>
          </p:nvSpPr>
          <p:spPr>
            <a:xfrm rot="16200000">
              <a:off x="4891680" y="4613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 rot="16200000">
              <a:off x="4891680" y="4661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8" name=""/>
          <p:cNvGrpSpPr/>
          <p:nvPr/>
        </p:nvGrpSpPr>
        <p:grpSpPr>
          <a:xfrm>
            <a:off x="4853160" y="4428720"/>
            <a:ext cx="97200" cy="95400"/>
            <a:chOff x="4853160" y="4428720"/>
            <a:chExt cx="97200" cy="95400"/>
          </a:xfrm>
        </p:grpSpPr>
        <p:sp>
          <p:nvSpPr>
            <p:cNvPr id="7629" name=""/>
            <p:cNvSpPr/>
            <p:nvPr/>
          </p:nvSpPr>
          <p:spPr>
            <a:xfrm rot="16200000">
              <a:off x="4805640" y="4476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0" name=""/>
            <p:cNvSpPr/>
            <p:nvPr/>
          </p:nvSpPr>
          <p:spPr>
            <a:xfrm rot="16200000">
              <a:off x="4902480" y="4476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1" name=""/>
            <p:cNvSpPr/>
            <p:nvPr/>
          </p:nvSpPr>
          <p:spPr>
            <a:xfrm rot="16200000">
              <a:off x="4877640" y="4403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2" name=""/>
            <p:cNvSpPr/>
            <p:nvPr/>
          </p:nvSpPr>
          <p:spPr>
            <a:xfrm rot="16200000">
              <a:off x="4877640" y="4451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3" name=""/>
          <p:cNvGrpSpPr/>
          <p:nvPr/>
        </p:nvGrpSpPr>
        <p:grpSpPr>
          <a:xfrm>
            <a:off x="5311800" y="4903920"/>
            <a:ext cx="97200" cy="95040"/>
            <a:chOff x="5311800" y="4903920"/>
            <a:chExt cx="97200" cy="95040"/>
          </a:xfrm>
        </p:grpSpPr>
        <p:sp>
          <p:nvSpPr>
            <p:cNvPr id="7634" name=""/>
            <p:cNvSpPr/>
            <p:nvPr/>
          </p:nvSpPr>
          <p:spPr>
            <a:xfrm rot="16200000">
              <a:off x="5264280" y="495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5" name=""/>
            <p:cNvSpPr/>
            <p:nvPr/>
          </p:nvSpPr>
          <p:spPr>
            <a:xfrm rot="16200000">
              <a:off x="5361120" y="4951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6" name=""/>
            <p:cNvSpPr/>
            <p:nvPr/>
          </p:nvSpPr>
          <p:spPr>
            <a:xfrm rot="16200000">
              <a:off x="5336280" y="4879080"/>
              <a:ext cx="47520" cy="96840"/>
            </a:xfrm>
            <a:prstGeom prst="rect">
              <a:avLst/>
            </a:prstGeom>
            <a:solidFill>
              <a:srgbClr val="ffff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 rot="16200000">
              <a:off x="5336280" y="4926600"/>
              <a:ext cx="47520" cy="96840"/>
            </a:xfrm>
            <a:prstGeom prst="rect">
              <a:avLst/>
            </a:prstGeom>
            <a:solidFill>
              <a:srgbClr val="f58e4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8" name=""/>
          <p:cNvGrpSpPr/>
          <p:nvPr/>
        </p:nvGrpSpPr>
        <p:grpSpPr>
          <a:xfrm>
            <a:off x="5097600" y="4818240"/>
            <a:ext cx="93600" cy="88560"/>
            <a:chOff x="5097600" y="4818240"/>
            <a:chExt cx="93600" cy="88560"/>
          </a:xfrm>
        </p:grpSpPr>
        <p:sp>
          <p:nvSpPr>
            <p:cNvPr id="7639" name=""/>
            <p:cNvSpPr/>
            <p:nvPr/>
          </p:nvSpPr>
          <p:spPr>
            <a:xfrm rot="5400000">
              <a:off x="5137560" y="485316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0" name=""/>
            <p:cNvSpPr/>
            <p:nvPr/>
          </p:nvSpPr>
          <p:spPr>
            <a:xfrm rot="5400000">
              <a:off x="5062680" y="485316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1" name=""/>
            <p:cNvSpPr/>
            <p:nvPr/>
          </p:nvSpPr>
          <p:spPr>
            <a:xfrm rot="5400000">
              <a:off x="5122080" y="4837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2" name=""/>
            <p:cNvSpPr/>
            <p:nvPr/>
          </p:nvSpPr>
          <p:spPr>
            <a:xfrm rot="5400000">
              <a:off x="5122080" y="4793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3" name=""/>
          <p:cNvGrpSpPr/>
          <p:nvPr/>
        </p:nvGrpSpPr>
        <p:grpSpPr>
          <a:xfrm>
            <a:off x="5092560" y="5068800"/>
            <a:ext cx="74880" cy="149760"/>
            <a:chOff x="5092560" y="5068800"/>
            <a:chExt cx="74880" cy="149760"/>
          </a:xfrm>
        </p:grpSpPr>
        <p:sp>
          <p:nvSpPr>
            <p:cNvPr id="7644" name=""/>
            <p:cNvSpPr/>
            <p:nvPr/>
          </p:nvSpPr>
          <p:spPr>
            <a:xfrm>
              <a:off x="5092560" y="50688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5092560" y="52182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5129640" y="5068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5092560" y="5068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8" name=""/>
          <p:cNvGrpSpPr/>
          <p:nvPr/>
        </p:nvGrpSpPr>
        <p:grpSpPr>
          <a:xfrm>
            <a:off x="3930480" y="4605480"/>
            <a:ext cx="152640" cy="150840"/>
            <a:chOff x="3930480" y="4605480"/>
            <a:chExt cx="152640" cy="150840"/>
          </a:xfrm>
        </p:grpSpPr>
        <p:sp>
          <p:nvSpPr>
            <p:cNvPr id="7649" name=""/>
            <p:cNvSpPr/>
            <p:nvPr/>
          </p:nvSpPr>
          <p:spPr>
            <a:xfrm>
              <a:off x="3930480" y="46054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3974040" y="460548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3930480" y="46054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4061520" y="466992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3974040" y="466992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3930480" y="471312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5" name=""/>
          <p:cNvGrpSpPr/>
          <p:nvPr/>
        </p:nvGrpSpPr>
        <p:grpSpPr>
          <a:xfrm>
            <a:off x="4400640" y="4633560"/>
            <a:ext cx="97200" cy="95400"/>
            <a:chOff x="4400640" y="4633560"/>
            <a:chExt cx="97200" cy="95400"/>
          </a:xfrm>
        </p:grpSpPr>
        <p:sp>
          <p:nvSpPr>
            <p:cNvPr id="7656" name=""/>
            <p:cNvSpPr/>
            <p:nvPr/>
          </p:nvSpPr>
          <p:spPr>
            <a:xfrm rot="16200000">
              <a:off x="4353120" y="468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7" name=""/>
            <p:cNvSpPr/>
            <p:nvPr/>
          </p:nvSpPr>
          <p:spPr>
            <a:xfrm rot="16200000">
              <a:off x="4449960" y="4681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8" name=""/>
            <p:cNvSpPr/>
            <p:nvPr/>
          </p:nvSpPr>
          <p:spPr>
            <a:xfrm rot="16200000">
              <a:off x="4425120" y="4608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9" name=""/>
            <p:cNvSpPr/>
            <p:nvPr/>
          </p:nvSpPr>
          <p:spPr>
            <a:xfrm rot="16200000">
              <a:off x="4425120" y="4656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0" name=""/>
          <p:cNvGrpSpPr/>
          <p:nvPr/>
        </p:nvGrpSpPr>
        <p:grpSpPr>
          <a:xfrm>
            <a:off x="3762360" y="4433760"/>
            <a:ext cx="88920" cy="93960"/>
            <a:chOff x="3762360" y="4433760"/>
            <a:chExt cx="88920" cy="93960"/>
          </a:xfrm>
        </p:grpSpPr>
        <p:sp>
          <p:nvSpPr>
            <p:cNvPr id="7661" name=""/>
            <p:cNvSpPr/>
            <p:nvPr/>
          </p:nvSpPr>
          <p:spPr>
            <a:xfrm>
              <a:off x="3762360" y="4433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3762360" y="450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3806640" y="44337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3762360" y="44337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5" name=""/>
          <p:cNvGrpSpPr/>
          <p:nvPr/>
        </p:nvGrpSpPr>
        <p:grpSpPr>
          <a:xfrm>
            <a:off x="3733920" y="4629240"/>
            <a:ext cx="88920" cy="93600"/>
            <a:chOff x="3733920" y="4629240"/>
            <a:chExt cx="88920" cy="93600"/>
          </a:xfrm>
        </p:grpSpPr>
        <p:sp>
          <p:nvSpPr>
            <p:cNvPr id="7666" name=""/>
            <p:cNvSpPr/>
            <p:nvPr/>
          </p:nvSpPr>
          <p:spPr>
            <a:xfrm>
              <a:off x="3733920" y="4629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733920" y="4704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8" name=""/>
            <p:cNvSpPr/>
            <p:nvPr/>
          </p:nvSpPr>
          <p:spPr>
            <a:xfrm>
              <a:off x="3778200" y="4629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733920" y="4629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0" name=""/>
          <p:cNvGrpSpPr/>
          <p:nvPr/>
        </p:nvGrpSpPr>
        <p:grpSpPr>
          <a:xfrm>
            <a:off x="3967200" y="5286240"/>
            <a:ext cx="88920" cy="93960"/>
            <a:chOff x="3967200" y="5286240"/>
            <a:chExt cx="88920" cy="93960"/>
          </a:xfrm>
        </p:grpSpPr>
        <p:sp>
          <p:nvSpPr>
            <p:cNvPr id="7671" name=""/>
            <p:cNvSpPr/>
            <p:nvPr/>
          </p:nvSpPr>
          <p:spPr>
            <a:xfrm>
              <a:off x="3967200" y="5286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3967200" y="5361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4011480" y="5286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4" name=""/>
            <p:cNvSpPr/>
            <p:nvPr/>
          </p:nvSpPr>
          <p:spPr>
            <a:xfrm>
              <a:off x="3967200" y="5286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5" name=""/>
          <p:cNvGrpSpPr/>
          <p:nvPr/>
        </p:nvGrpSpPr>
        <p:grpSpPr>
          <a:xfrm>
            <a:off x="4172040" y="5276880"/>
            <a:ext cx="88920" cy="93600"/>
            <a:chOff x="4172040" y="5276880"/>
            <a:chExt cx="88920" cy="93600"/>
          </a:xfrm>
        </p:grpSpPr>
        <p:sp>
          <p:nvSpPr>
            <p:cNvPr id="7676" name=""/>
            <p:cNvSpPr/>
            <p:nvPr/>
          </p:nvSpPr>
          <p:spPr>
            <a:xfrm>
              <a:off x="4172040" y="5276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4172040" y="5351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4216320" y="5276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4172040" y="5276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0" name=""/>
          <p:cNvGrpSpPr/>
          <p:nvPr/>
        </p:nvGrpSpPr>
        <p:grpSpPr>
          <a:xfrm>
            <a:off x="4406760" y="4841640"/>
            <a:ext cx="93960" cy="88920"/>
            <a:chOff x="4406760" y="4841640"/>
            <a:chExt cx="93960" cy="88920"/>
          </a:xfrm>
        </p:grpSpPr>
        <p:sp>
          <p:nvSpPr>
            <p:cNvPr id="7681" name=""/>
            <p:cNvSpPr/>
            <p:nvPr/>
          </p:nvSpPr>
          <p:spPr>
            <a:xfrm rot="16200000">
              <a:off x="4371480" y="4876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2" name=""/>
            <p:cNvSpPr/>
            <p:nvPr/>
          </p:nvSpPr>
          <p:spPr>
            <a:xfrm rot="16200000">
              <a:off x="4446720" y="4876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3" name=""/>
            <p:cNvSpPr/>
            <p:nvPr/>
          </p:nvSpPr>
          <p:spPr>
            <a:xfrm rot="16200000">
              <a:off x="4431600" y="48171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4" name=""/>
            <p:cNvSpPr/>
            <p:nvPr/>
          </p:nvSpPr>
          <p:spPr>
            <a:xfrm rot="16200000">
              <a:off x="4431600" y="48614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5" name=""/>
          <p:cNvGrpSpPr/>
          <p:nvPr/>
        </p:nvGrpSpPr>
        <p:grpSpPr>
          <a:xfrm>
            <a:off x="4186080" y="4843440"/>
            <a:ext cx="88920" cy="93600"/>
            <a:chOff x="4186080" y="4843440"/>
            <a:chExt cx="88920" cy="93600"/>
          </a:xfrm>
        </p:grpSpPr>
        <p:sp>
          <p:nvSpPr>
            <p:cNvPr id="7686" name=""/>
            <p:cNvSpPr/>
            <p:nvPr/>
          </p:nvSpPr>
          <p:spPr>
            <a:xfrm>
              <a:off x="4186080" y="4843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4186080" y="4918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4230360" y="4843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9" name=""/>
            <p:cNvSpPr/>
            <p:nvPr/>
          </p:nvSpPr>
          <p:spPr>
            <a:xfrm>
              <a:off x="4186080" y="4843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0" name=""/>
          <p:cNvGrpSpPr/>
          <p:nvPr/>
        </p:nvGrpSpPr>
        <p:grpSpPr>
          <a:xfrm>
            <a:off x="4176720" y="5148360"/>
            <a:ext cx="97200" cy="95040"/>
            <a:chOff x="4176720" y="5148360"/>
            <a:chExt cx="97200" cy="95040"/>
          </a:xfrm>
        </p:grpSpPr>
        <p:sp>
          <p:nvSpPr>
            <p:cNvPr id="7691" name=""/>
            <p:cNvSpPr/>
            <p:nvPr/>
          </p:nvSpPr>
          <p:spPr>
            <a:xfrm rot="16200000">
              <a:off x="4129200" y="5195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2" name=""/>
            <p:cNvSpPr/>
            <p:nvPr/>
          </p:nvSpPr>
          <p:spPr>
            <a:xfrm rot="16200000">
              <a:off x="4226040" y="5195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3" name=""/>
            <p:cNvSpPr/>
            <p:nvPr/>
          </p:nvSpPr>
          <p:spPr>
            <a:xfrm rot="16200000">
              <a:off x="4201560" y="51238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4" name=""/>
            <p:cNvSpPr/>
            <p:nvPr/>
          </p:nvSpPr>
          <p:spPr>
            <a:xfrm rot="16200000">
              <a:off x="4201200" y="51710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5" name=""/>
          <p:cNvGrpSpPr/>
          <p:nvPr/>
        </p:nvGrpSpPr>
        <p:grpSpPr>
          <a:xfrm>
            <a:off x="2840040" y="5355720"/>
            <a:ext cx="93600" cy="88920"/>
            <a:chOff x="2840040" y="5355720"/>
            <a:chExt cx="93600" cy="88920"/>
          </a:xfrm>
        </p:grpSpPr>
        <p:sp>
          <p:nvSpPr>
            <p:cNvPr id="7696" name=""/>
            <p:cNvSpPr/>
            <p:nvPr/>
          </p:nvSpPr>
          <p:spPr>
            <a:xfrm rot="16200000">
              <a:off x="2804760" y="5391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7" name=""/>
            <p:cNvSpPr/>
            <p:nvPr/>
          </p:nvSpPr>
          <p:spPr>
            <a:xfrm rot="16200000">
              <a:off x="2879640" y="539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8" name=""/>
            <p:cNvSpPr/>
            <p:nvPr/>
          </p:nvSpPr>
          <p:spPr>
            <a:xfrm rot="16200000">
              <a:off x="2864520" y="5331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9" name=""/>
            <p:cNvSpPr/>
            <p:nvPr/>
          </p:nvSpPr>
          <p:spPr>
            <a:xfrm rot="16200000">
              <a:off x="2864520" y="537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0" name=""/>
          <p:cNvGrpSpPr/>
          <p:nvPr/>
        </p:nvGrpSpPr>
        <p:grpSpPr>
          <a:xfrm>
            <a:off x="3967200" y="5133960"/>
            <a:ext cx="88920" cy="93600"/>
            <a:chOff x="3967200" y="5133960"/>
            <a:chExt cx="88920" cy="93600"/>
          </a:xfrm>
        </p:grpSpPr>
        <p:sp>
          <p:nvSpPr>
            <p:cNvPr id="7701" name=""/>
            <p:cNvSpPr/>
            <p:nvPr/>
          </p:nvSpPr>
          <p:spPr>
            <a:xfrm>
              <a:off x="3967200" y="5133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967200" y="5208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4011480" y="5133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967200" y="5133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5" name=""/>
          <p:cNvGrpSpPr/>
          <p:nvPr/>
        </p:nvGrpSpPr>
        <p:grpSpPr>
          <a:xfrm>
            <a:off x="8447040" y="1554120"/>
            <a:ext cx="304920" cy="300240"/>
            <a:chOff x="8447040" y="1554120"/>
            <a:chExt cx="304920" cy="300240"/>
          </a:xfrm>
        </p:grpSpPr>
        <p:sp>
          <p:nvSpPr>
            <p:cNvPr id="7706" name=""/>
            <p:cNvSpPr/>
            <p:nvPr/>
          </p:nvSpPr>
          <p:spPr>
            <a:xfrm>
              <a:off x="8447040" y="1592280"/>
              <a:ext cx="304920" cy="228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dbaf00"/>
                </a:gs>
                <a:gs pos="100000">
                  <a:srgbClr val="ffcc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7" name=""/>
            <p:cNvSpPr/>
            <p:nvPr/>
          </p:nvSpPr>
          <p:spPr>
            <a:xfrm rot="5400000">
              <a:off x="8525880" y="1646280"/>
              <a:ext cx="120600" cy="120600"/>
            </a:xfrm>
            <a:prstGeom prst="ellipse">
              <a:avLst/>
            </a:prstGeom>
            <a:gradFill rotWithShape="0">
              <a:gsLst>
                <a:gs pos="0">
                  <a:srgbClr val="c173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8" name=""/>
            <p:cNvGrpSpPr/>
            <p:nvPr/>
          </p:nvGrpSpPr>
          <p:grpSpPr>
            <a:xfrm>
              <a:off x="8659440" y="1668240"/>
              <a:ext cx="76320" cy="76320"/>
              <a:chOff x="8659440" y="1668240"/>
              <a:chExt cx="76320" cy="76320"/>
            </a:xfrm>
          </p:grpSpPr>
          <p:sp>
            <p:nvSpPr>
              <p:cNvPr id="7709" name=""/>
              <p:cNvSpPr/>
              <p:nvPr/>
            </p:nvSpPr>
            <p:spPr>
              <a:xfrm rot="16200000">
                <a:off x="8659800" y="1668240"/>
                <a:ext cx="75960" cy="75960"/>
              </a:xfrm>
              <a:prstGeom prst="rect">
                <a:avLst/>
              </a:prstGeom>
              <a:solidFill>
                <a:srgbClr val="b2b2b2"/>
              </a:soli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 rot="16200000">
                <a:off x="8678880" y="1687320"/>
                <a:ext cx="38160" cy="37800"/>
              </a:xfrm>
              <a:prstGeom prst="rect">
                <a:avLst/>
              </a:prstGeom>
              <a:gradFill rotWithShape="0">
                <a:gsLst>
                  <a:gs pos="0">
                    <a:srgbClr val="9f6a35"/>
                  </a:gs>
                  <a:gs pos="100000">
                    <a:srgbClr val="ba7c3e"/>
                  </a:gs>
                </a:gsLst>
                <a:path path="rect">
                  <a:fillToRect l="50000" t="50000" r="50000" b="50000"/>
                </a:path>
              </a:gradFill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 flipH="1">
                <a:off x="8659440" y="1668600"/>
                <a:ext cx="75960" cy="7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8659800" y="1668600"/>
                <a:ext cx="75960" cy="75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3" name=""/>
            <p:cNvGrpSpPr/>
            <p:nvPr/>
          </p:nvGrpSpPr>
          <p:grpSpPr>
            <a:xfrm>
              <a:off x="8519760" y="1554120"/>
              <a:ext cx="152280" cy="76320"/>
              <a:chOff x="8519760" y="1554120"/>
              <a:chExt cx="152280" cy="76320"/>
            </a:xfrm>
          </p:grpSpPr>
          <p:sp>
            <p:nvSpPr>
              <p:cNvPr id="7714" name=""/>
              <p:cNvSpPr/>
              <p:nvPr/>
            </p:nvSpPr>
            <p:spPr>
              <a:xfrm flipH="1" rot="5400000">
                <a:off x="8557200" y="1515960"/>
                <a:ext cx="76320" cy="1522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50000">
                    <a:srgbClr val="dbaf00"/>
                  </a:gs>
                  <a:gs pos="100000">
                    <a:srgbClr val="ffcc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 flipV="1">
                <a:off x="8595720" y="1555200"/>
                <a:ext cx="0" cy="745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6" name=""/>
            <p:cNvGrpSpPr/>
            <p:nvPr/>
          </p:nvGrpSpPr>
          <p:grpSpPr>
            <a:xfrm>
              <a:off x="8516520" y="1778040"/>
              <a:ext cx="152280" cy="76320"/>
              <a:chOff x="8516520" y="1778040"/>
              <a:chExt cx="152280" cy="76320"/>
            </a:xfrm>
          </p:grpSpPr>
          <p:sp>
            <p:nvSpPr>
              <p:cNvPr id="7717" name=""/>
              <p:cNvSpPr/>
              <p:nvPr/>
            </p:nvSpPr>
            <p:spPr>
              <a:xfrm rot="5400000">
                <a:off x="8554320" y="1739880"/>
                <a:ext cx="76320" cy="15228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50000">
                    <a:srgbClr val="dbaf00"/>
                  </a:gs>
                  <a:gs pos="100000">
                    <a:srgbClr val="ffcc00"/>
                  </a:gs>
                </a:gsLst>
                <a:lin ang="108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8592480" y="1778760"/>
                <a:ext cx="0" cy="7452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19" name=""/>
          <p:cNvGrpSpPr/>
          <p:nvPr/>
        </p:nvGrpSpPr>
        <p:grpSpPr>
          <a:xfrm>
            <a:off x="6192360" y="2722680"/>
            <a:ext cx="205920" cy="247680"/>
            <a:chOff x="6192360" y="2722680"/>
            <a:chExt cx="205920" cy="247680"/>
          </a:xfrm>
        </p:grpSpPr>
        <p:sp>
          <p:nvSpPr>
            <p:cNvPr id="7720" name=""/>
            <p:cNvSpPr/>
            <p:nvPr/>
          </p:nvSpPr>
          <p:spPr>
            <a:xfrm rot="16200000">
              <a:off x="6173640" y="2784600"/>
              <a:ext cx="247680" cy="1238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6586a8"/>
                </a:gs>
                <a:gs pos="100000">
                  <a:srgbClr val="99ccff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1" name=""/>
            <p:cNvSpPr/>
            <p:nvPr/>
          </p:nvSpPr>
          <p:spPr>
            <a:xfrm flipV="1">
              <a:off x="6297480" y="2722680"/>
              <a:ext cx="0" cy="247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2" name=""/>
            <p:cNvGrpSpPr/>
            <p:nvPr/>
          </p:nvGrpSpPr>
          <p:grpSpPr>
            <a:xfrm>
              <a:off x="6192360" y="2765520"/>
              <a:ext cx="82440" cy="123840"/>
              <a:chOff x="6192360" y="2765520"/>
              <a:chExt cx="82440" cy="123840"/>
            </a:xfrm>
          </p:grpSpPr>
          <p:sp>
            <p:nvSpPr>
              <p:cNvPr id="7723" name=""/>
              <p:cNvSpPr/>
              <p:nvPr/>
            </p:nvSpPr>
            <p:spPr>
              <a:xfrm flipH="1">
                <a:off x="6192000" y="2765520"/>
                <a:ext cx="82440" cy="1238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6586a8"/>
                  </a:gs>
                  <a:gs pos="100000">
                    <a:srgbClr val="99ccff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 flipH="1">
                <a:off x="6194160" y="2827440"/>
                <a:ext cx="8064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5" name=""/>
            <p:cNvGrpSpPr/>
            <p:nvPr/>
          </p:nvGrpSpPr>
          <p:grpSpPr>
            <a:xfrm>
              <a:off x="6316560" y="2765520"/>
              <a:ext cx="81720" cy="123840"/>
              <a:chOff x="6316560" y="2765520"/>
              <a:chExt cx="81720" cy="123840"/>
            </a:xfrm>
          </p:grpSpPr>
          <p:sp>
            <p:nvSpPr>
              <p:cNvPr id="7726" name=""/>
              <p:cNvSpPr/>
              <p:nvPr/>
            </p:nvSpPr>
            <p:spPr>
              <a:xfrm>
                <a:off x="6316560" y="2765520"/>
                <a:ext cx="80640" cy="1238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144"/>
                    </a:moveTo>
                    <a:lnTo>
                      <a:pt x="144" y="0"/>
                    </a:lnTo>
                    <a:lnTo>
                      <a:pt x="288" y="0"/>
                    </a:lnTo>
                    <a:lnTo>
                      <a:pt x="288" y="288"/>
                    </a:lnTo>
                    <a:lnTo>
                      <a:pt x="144" y="288"/>
                    </a:lnTo>
                    <a:lnTo>
                      <a:pt x="0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50000">
                    <a:srgbClr val="6586a8"/>
                  </a:gs>
                  <a:gs pos="100000">
                    <a:srgbClr val="99ccff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 flipH="1">
                <a:off x="6319440" y="2827440"/>
                <a:ext cx="78840" cy="0"/>
              </a:xfrm>
              <a:prstGeom prst="line">
                <a:avLst/>
              </a:prstGeom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8" name=""/>
          <p:cNvGrpSpPr/>
          <p:nvPr/>
        </p:nvGrpSpPr>
        <p:grpSpPr>
          <a:xfrm>
            <a:off x="6524640" y="2838600"/>
            <a:ext cx="97200" cy="95040"/>
            <a:chOff x="6524640" y="2838600"/>
            <a:chExt cx="97200" cy="95040"/>
          </a:xfrm>
        </p:grpSpPr>
        <p:sp>
          <p:nvSpPr>
            <p:cNvPr id="7729" name=""/>
            <p:cNvSpPr/>
            <p:nvPr/>
          </p:nvSpPr>
          <p:spPr>
            <a:xfrm rot="16200000">
              <a:off x="6477120" y="2885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0" name=""/>
            <p:cNvSpPr/>
            <p:nvPr/>
          </p:nvSpPr>
          <p:spPr>
            <a:xfrm rot="16200000">
              <a:off x="6573960" y="2885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1" name=""/>
            <p:cNvSpPr/>
            <p:nvPr/>
          </p:nvSpPr>
          <p:spPr>
            <a:xfrm rot="16200000">
              <a:off x="6549480" y="2814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2" name=""/>
            <p:cNvSpPr/>
            <p:nvPr/>
          </p:nvSpPr>
          <p:spPr>
            <a:xfrm rot="16200000">
              <a:off x="6549120" y="28612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3" name=""/>
          <p:cNvGrpSpPr/>
          <p:nvPr/>
        </p:nvGrpSpPr>
        <p:grpSpPr>
          <a:xfrm>
            <a:off x="6982920" y="2760120"/>
            <a:ext cx="95400" cy="97200"/>
            <a:chOff x="6982920" y="2760120"/>
            <a:chExt cx="95400" cy="97200"/>
          </a:xfrm>
        </p:grpSpPr>
        <p:sp>
          <p:nvSpPr>
            <p:cNvPr id="7734" name=""/>
            <p:cNvSpPr/>
            <p:nvPr/>
          </p:nvSpPr>
          <p:spPr>
            <a:xfrm rot="10800000">
              <a:off x="6982920" y="2856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5" name=""/>
            <p:cNvSpPr/>
            <p:nvPr/>
          </p:nvSpPr>
          <p:spPr>
            <a:xfrm rot="10800000">
              <a:off x="6982920" y="2760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6" name=""/>
            <p:cNvSpPr/>
            <p:nvPr/>
          </p:nvSpPr>
          <p:spPr>
            <a:xfrm rot="10800000">
              <a:off x="6982920" y="2760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7" name=""/>
            <p:cNvSpPr/>
            <p:nvPr/>
          </p:nvSpPr>
          <p:spPr>
            <a:xfrm rot="10800000">
              <a:off x="7030440" y="2760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8" name=""/>
          <p:cNvGrpSpPr/>
          <p:nvPr/>
        </p:nvGrpSpPr>
        <p:grpSpPr>
          <a:xfrm>
            <a:off x="7210440" y="3067200"/>
            <a:ext cx="97200" cy="95040"/>
            <a:chOff x="7210440" y="3067200"/>
            <a:chExt cx="97200" cy="95040"/>
          </a:xfrm>
        </p:grpSpPr>
        <p:sp>
          <p:nvSpPr>
            <p:cNvPr id="7739" name=""/>
            <p:cNvSpPr/>
            <p:nvPr/>
          </p:nvSpPr>
          <p:spPr>
            <a:xfrm rot="16200000">
              <a:off x="7162920" y="3114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0" name=""/>
            <p:cNvSpPr/>
            <p:nvPr/>
          </p:nvSpPr>
          <p:spPr>
            <a:xfrm rot="16200000">
              <a:off x="7259760" y="3114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1" name=""/>
            <p:cNvSpPr/>
            <p:nvPr/>
          </p:nvSpPr>
          <p:spPr>
            <a:xfrm rot="16200000">
              <a:off x="7235280" y="3042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2" name=""/>
            <p:cNvSpPr/>
            <p:nvPr/>
          </p:nvSpPr>
          <p:spPr>
            <a:xfrm rot="16200000">
              <a:off x="7234920" y="30898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3" name=""/>
          <p:cNvGrpSpPr/>
          <p:nvPr/>
        </p:nvGrpSpPr>
        <p:grpSpPr>
          <a:xfrm>
            <a:off x="7211520" y="3293280"/>
            <a:ext cx="95400" cy="97200"/>
            <a:chOff x="7211520" y="3293280"/>
            <a:chExt cx="95400" cy="97200"/>
          </a:xfrm>
        </p:grpSpPr>
        <p:sp>
          <p:nvSpPr>
            <p:cNvPr id="7744" name=""/>
            <p:cNvSpPr/>
            <p:nvPr/>
          </p:nvSpPr>
          <p:spPr>
            <a:xfrm rot="10800000">
              <a:off x="7211520" y="3390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5" name=""/>
            <p:cNvSpPr/>
            <p:nvPr/>
          </p:nvSpPr>
          <p:spPr>
            <a:xfrm rot="10800000">
              <a:off x="7211520" y="3293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6" name=""/>
            <p:cNvSpPr/>
            <p:nvPr/>
          </p:nvSpPr>
          <p:spPr>
            <a:xfrm rot="10800000">
              <a:off x="7211520" y="32936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7" name=""/>
            <p:cNvSpPr/>
            <p:nvPr/>
          </p:nvSpPr>
          <p:spPr>
            <a:xfrm rot="10800000">
              <a:off x="7259040" y="32936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8" name=""/>
          <p:cNvGrpSpPr/>
          <p:nvPr/>
        </p:nvGrpSpPr>
        <p:grpSpPr>
          <a:xfrm>
            <a:off x="7210440" y="3524400"/>
            <a:ext cx="97200" cy="95040"/>
            <a:chOff x="7210440" y="3524400"/>
            <a:chExt cx="97200" cy="95040"/>
          </a:xfrm>
        </p:grpSpPr>
        <p:sp>
          <p:nvSpPr>
            <p:cNvPr id="7749" name=""/>
            <p:cNvSpPr/>
            <p:nvPr/>
          </p:nvSpPr>
          <p:spPr>
            <a:xfrm rot="16200000">
              <a:off x="7162920" y="3571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0" name=""/>
            <p:cNvSpPr/>
            <p:nvPr/>
          </p:nvSpPr>
          <p:spPr>
            <a:xfrm rot="16200000">
              <a:off x="7259760" y="3571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1" name=""/>
            <p:cNvSpPr/>
            <p:nvPr/>
          </p:nvSpPr>
          <p:spPr>
            <a:xfrm rot="16200000">
              <a:off x="7235280" y="3499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2" name=""/>
            <p:cNvSpPr/>
            <p:nvPr/>
          </p:nvSpPr>
          <p:spPr>
            <a:xfrm rot="16200000">
              <a:off x="7234920" y="35470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3" name=""/>
          <p:cNvGrpSpPr/>
          <p:nvPr/>
        </p:nvGrpSpPr>
        <p:grpSpPr>
          <a:xfrm>
            <a:off x="8078400" y="3036240"/>
            <a:ext cx="95400" cy="97200"/>
            <a:chOff x="8078400" y="3036240"/>
            <a:chExt cx="95400" cy="97200"/>
          </a:xfrm>
        </p:grpSpPr>
        <p:sp>
          <p:nvSpPr>
            <p:cNvPr id="7754" name=""/>
            <p:cNvSpPr/>
            <p:nvPr/>
          </p:nvSpPr>
          <p:spPr>
            <a:xfrm rot="10800000">
              <a:off x="8078400" y="3133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5" name=""/>
            <p:cNvSpPr/>
            <p:nvPr/>
          </p:nvSpPr>
          <p:spPr>
            <a:xfrm rot="10800000">
              <a:off x="8078400" y="3036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6" name=""/>
            <p:cNvSpPr/>
            <p:nvPr/>
          </p:nvSpPr>
          <p:spPr>
            <a:xfrm rot="10800000">
              <a:off x="8078400" y="3036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7" name=""/>
            <p:cNvSpPr/>
            <p:nvPr/>
          </p:nvSpPr>
          <p:spPr>
            <a:xfrm rot="10800000">
              <a:off x="8125920" y="3036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8" name=""/>
          <p:cNvGrpSpPr/>
          <p:nvPr/>
        </p:nvGrpSpPr>
        <p:grpSpPr>
          <a:xfrm>
            <a:off x="6753240" y="2838600"/>
            <a:ext cx="88920" cy="93600"/>
            <a:chOff x="6753240" y="2838600"/>
            <a:chExt cx="88920" cy="93600"/>
          </a:xfrm>
        </p:grpSpPr>
        <p:sp>
          <p:nvSpPr>
            <p:cNvPr id="7759" name=""/>
            <p:cNvSpPr/>
            <p:nvPr/>
          </p:nvSpPr>
          <p:spPr>
            <a:xfrm>
              <a:off x="6753240" y="2838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6753240" y="2913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6797520" y="283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6753240" y="283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3" name=""/>
          <p:cNvGrpSpPr/>
          <p:nvPr/>
        </p:nvGrpSpPr>
        <p:grpSpPr>
          <a:xfrm>
            <a:off x="6981840" y="3067200"/>
            <a:ext cx="88920" cy="93600"/>
            <a:chOff x="6981840" y="3067200"/>
            <a:chExt cx="88920" cy="93600"/>
          </a:xfrm>
        </p:grpSpPr>
        <p:sp>
          <p:nvSpPr>
            <p:cNvPr id="7764" name=""/>
            <p:cNvSpPr/>
            <p:nvPr/>
          </p:nvSpPr>
          <p:spPr>
            <a:xfrm>
              <a:off x="6981840" y="3067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6981840" y="3142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7026120" y="3067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6981840" y="3067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8" name=""/>
          <p:cNvGrpSpPr/>
          <p:nvPr/>
        </p:nvGrpSpPr>
        <p:grpSpPr>
          <a:xfrm>
            <a:off x="7439040" y="3524400"/>
            <a:ext cx="88920" cy="93600"/>
            <a:chOff x="7439040" y="3524400"/>
            <a:chExt cx="88920" cy="93600"/>
          </a:xfrm>
        </p:grpSpPr>
        <p:sp>
          <p:nvSpPr>
            <p:cNvPr id="7769" name=""/>
            <p:cNvSpPr/>
            <p:nvPr/>
          </p:nvSpPr>
          <p:spPr>
            <a:xfrm>
              <a:off x="7439040" y="3524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7439040" y="3599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7483320" y="352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7439040" y="3524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3" name=""/>
          <p:cNvGrpSpPr/>
          <p:nvPr/>
        </p:nvGrpSpPr>
        <p:grpSpPr>
          <a:xfrm>
            <a:off x="7435800" y="3069720"/>
            <a:ext cx="93600" cy="88920"/>
            <a:chOff x="7435800" y="3069720"/>
            <a:chExt cx="93600" cy="88920"/>
          </a:xfrm>
        </p:grpSpPr>
        <p:sp>
          <p:nvSpPr>
            <p:cNvPr id="7774" name=""/>
            <p:cNvSpPr/>
            <p:nvPr/>
          </p:nvSpPr>
          <p:spPr>
            <a:xfrm rot="16200000">
              <a:off x="7400520" y="310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5" name=""/>
            <p:cNvSpPr/>
            <p:nvPr/>
          </p:nvSpPr>
          <p:spPr>
            <a:xfrm rot="16200000">
              <a:off x="7475400" y="3104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6" name=""/>
            <p:cNvSpPr/>
            <p:nvPr/>
          </p:nvSpPr>
          <p:spPr>
            <a:xfrm rot="16200000">
              <a:off x="7460280" y="3045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7" name=""/>
            <p:cNvSpPr/>
            <p:nvPr/>
          </p:nvSpPr>
          <p:spPr>
            <a:xfrm rot="16200000">
              <a:off x="7460280" y="3089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8" name=""/>
          <p:cNvGrpSpPr/>
          <p:nvPr/>
        </p:nvGrpSpPr>
        <p:grpSpPr>
          <a:xfrm>
            <a:off x="6521400" y="3069720"/>
            <a:ext cx="93600" cy="88920"/>
            <a:chOff x="6521400" y="3069720"/>
            <a:chExt cx="93600" cy="88920"/>
          </a:xfrm>
        </p:grpSpPr>
        <p:sp>
          <p:nvSpPr>
            <p:cNvPr id="7779" name=""/>
            <p:cNvSpPr/>
            <p:nvPr/>
          </p:nvSpPr>
          <p:spPr>
            <a:xfrm rot="16200000">
              <a:off x="6486120" y="310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0" name=""/>
            <p:cNvSpPr/>
            <p:nvPr/>
          </p:nvSpPr>
          <p:spPr>
            <a:xfrm rot="16200000">
              <a:off x="6561000" y="3104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1" name=""/>
            <p:cNvSpPr/>
            <p:nvPr/>
          </p:nvSpPr>
          <p:spPr>
            <a:xfrm rot="16200000">
              <a:off x="6545880" y="3045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2" name=""/>
            <p:cNvSpPr/>
            <p:nvPr/>
          </p:nvSpPr>
          <p:spPr>
            <a:xfrm rot="16200000">
              <a:off x="6545880" y="3089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3" name=""/>
          <p:cNvGrpSpPr/>
          <p:nvPr/>
        </p:nvGrpSpPr>
        <p:grpSpPr>
          <a:xfrm>
            <a:off x="6753240" y="3295800"/>
            <a:ext cx="88920" cy="93600"/>
            <a:chOff x="6753240" y="3295800"/>
            <a:chExt cx="88920" cy="93600"/>
          </a:xfrm>
        </p:grpSpPr>
        <p:sp>
          <p:nvSpPr>
            <p:cNvPr id="7784" name=""/>
            <p:cNvSpPr/>
            <p:nvPr/>
          </p:nvSpPr>
          <p:spPr>
            <a:xfrm>
              <a:off x="6753240" y="3295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6753240" y="3370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6797520" y="3295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6753240" y="3295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8" name=""/>
          <p:cNvGrpSpPr/>
          <p:nvPr/>
        </p:nvGrpSpPr>
        <p:grpSpPr>
          <a:xfrm>
            <a:off x="7896240" y="2990880"/>
            <a:ext cx="88920" cy="93600"/>
            <a:chOff x="7896240" y="2990880"/>
            <a:chExt cx="88920" cy="93600"/>
          </a:xfrm>
        </p:grpSpPr>
        <p:sp>
          <p:nvSpPr>
            <p:cNvPr id="7789" name=""/>
            <p:cNvSpPr/>
            <p:nvPr/>
          </p:nvSpPr>
          <p:spPr>
            <a:xfrm>
              <a:off x="7896240" y="2990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7896240" y="306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7940520" y="2990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7896240" y="2990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3" name=""/>
          <p:cNvGrpSpPr/>
          <p:nvPr/>
        </p:nvGrpSpPr>
        <p:grpSpPr>
          <a:xfrm>
            <a:off x="7667640" y="3219480"/>
            <a:ext cx="88920" cy="93600"/>
            <a:chOff x="7667640" y="3219480"/>
            <a:chExt cx="88920" cy="93600"/>
          </a:xfrm>
        </p:grpSpPr>
        <p:sp>
          <p:nvSpPr>
            <p:cNvPr id="7794" name=""/>
            <p:cNvSpPr/>
            <p:nvPr/>
          </p:nvSpPr>
          <p:spPr>
            <a:xfrm>
              <a:off x="7667640" y="32194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7667640" y="3294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7711920" y="3219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7667640" y="3219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8" name=""/>
          <p:cNvGrpSpPr/>
          <p:nvPr/>
        </p:nvGrpSpPr>
        <p:grpSpPr>
          <a:xfrm>
            <a:off x="7664400" y="3069720"/>
            <a:ext cx="93600" cy="88920"/>
            <a:chOff x="7664400" y="3069720"/>
            <a:chExt cx="93600" cy="88920"/>
          </a:xfrm>
        </p:grpSpPr>
        <p:sp>
          <p:nvSpPr>
            <p:cNvPr id="7799" name=""/>
            <p:cNvSpPr/>
            <p:nvPr/>
          </p:nvSpPr>
          <p:spPr>
            <a:xfrm rot="16200000">
              <a:off x="7629120" y="3105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0" name=""/>
            <p:cNvSpPr/>
            <p:nvPr/>
          </p:nvSpPr>
          <p:spPr>
            <a:xfrm rot="16200000">
              <a:off x="7704000" y="3104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1" name=""/>
            <p:cNvSpPr/>
            <p:nvPr/>
          </p:nvSpPr>
          <p:spPr>
            <a:xfrm rot="16200000">
              <a:off x="7688880" y="3045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2" name=""/>
            <p:cNvSpPr/>
            <p:nvPr/>
          </p:nvSpPr>
          <p:spPr>
            <a:xfrm rot="16200000">
              <a:off x="7688880" y="3089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3" name=""/>
          <p:cNvGrpSpPr/>
          <p:nvPr/>
        </p:nvGrpSpPr>
        <p:grpSpPr>
          <a:xfrm>
            <a:off x="7439040" y="2838600"/>
            <a:ext cx="88920" cy="93600"/>
            <a:chOff x="7439040" y="2838600"/>
            <a:chExt cx="88920" cy="93600"/>
          </a:xfrm>
        </p:grpSpPr>
        <p:sp>
          <p:nvSpPr>
            <p:cNvPr id="7804" name=""/>
            <p:cNvSpPr/>
            <p:nvPr/>
          </p:nvSpPr>
          <p:spPr>
            <a:xfrm>
              <a:off x="7439040" y="2838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7439040" y="2913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7483320" y="283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7439040" y="283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8" name=""/>
          <p:cNvGrpSpPr/>
          <p:nvPr/>
        </p:nvGrpSpPr>
        <p:grpSpPr>
          <a:xfrm>
            <a:off x="6524640" y="3295800"/>
            <a:ext cx="88920" cy="93600"/>
            <a:chOff x="6524640" y="3295800"/>
            <a:chExt cx="88920" cy="93600"/>
          </a:xfrm>
        </p:grpSpPr>
        <p:sp>
          <p:nvSpPr>
            <p:cNvPr id="7809" name=""/>
            <p:cNvSpPr/>
            <p:nvPr/>
          </p:nvSpPr>
          <p:spPr>
            <a:xfrm>
              <a:off x="6524640" y="3295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6524640" y="3370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6568920" y="3295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6524640" y="3295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3" name=""/>
          <p:cNvGrpSpPr/>
          <p:nvPr/>
        </p:nvGrpSpPr>
        <p:grpSpPr>
          <a:xfrm>
            <a:off x="7819920" y="2761920"/>
            <a:ext cx="174600" cy="176040"/>
            <a:chOff x="7819920" y="2761920"/>
            <a:chExt cx="174600" cy="176040"/>
          </a:xfrm>
        </p:grpSpPr>
        <p:sp>
          <p:nvSpPr>
            <p:cNvPr id="7814" name=""/>
            <p:cNvSpPr/>
            <p:nvPr/>
          </p:nvSpPr>
          <p:spPr>
            <a:xfrm rot="16200000">
              <a:off x="7782120" y="287532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5" name=""/>
            <p:cNvSpPr/>
            <p:nvPr/>
          </p:nvSpPr>
          <p:spPr>
            <a:xfrm rot="16200000">
              <a:off x="7857000" y="28000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6" name=""/>
            <p:cNvSpPr/>
            <p:nvPr/>
          </p:nvSpPr>
          <p:spPr>
            <a:xfrm rot="16200000">
              <a:off x="7881840" y="28252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7" name=""/>
            <p:cNvSpPr/>
            <p:nvPr/>
          </p:nvSpPr>
          <p:spPr>
            <a:xfrm rot="16200000">
              <a:off x="7931880" y="272448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8" name=""/>
            <p:cNvSpPr/>
            <p:nvPr/>
          </p:nvSpPr>
          <p:spPr>
            <a:xfrm rot="16200000">
              <a:off x="7856280" y="279972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9" name=""/>
            <p:cNvSpPr/>
            <p:nvPr/>
          </p:nvSpPr>
          <p:spPr>
            <a:xfrm rot="16200000">
              <a:off x="7881480" y="282492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0" name=""/>
          <p:cNvGrpSpPr/>
          <p:nvPr/>
        </p:nvGrpSpPr>
        <p:grpSpPr>
          <a:xfrm>
            <a:off x="7591320" y="2762280"/>
            <a:ext cx="74880" cy="149400"/>
            <a:chOff x="7591320" y="2762280"/>
            <a:chExt cx="74880" cy="149400"/>
          </a:xfrm>
        </p:grpSpPr>
        <p:sp>
          <p:nvSpPr>
            <p:cNvPr id="7821" name=""/>
            <p:cNvSpPr/>
            <p:nvPr/>
          </p:nvSpPr>
          <p:spPr>
            <a:xfrm>
              <a:off x="7591320" y="276228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7591320" y="291132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7628400" y="27622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7591320" y="27622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5" name=""/>
          <p:cNvGrpSpPr/>
          <p:nvPr/>
        </p:nvGrpSpPr>
        <p:grpSpPr>
          <a:xfrm>
            <a:off x="7210440" y="2762280"/>
            <a:ext cx="74520" cy="152280"/>
            <a:chOff x="7210440" y="2762280"/>
            <a:chExt cx="74520" cy="152280"/>
          </a:xfrm>
        </p:grpSpPr>
        <p:sp>
          <p:nvSpPr>
            <p:cNvPr id="7826" name=""/>
            <p:cNvSpPr/>
            <p:nvPr/>
          </p:nvSpPr>
          <p:spPr>
            <a:xfrm>
              <a:off x="7210440" y="27622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7210440" y="28839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7247520" y="2762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7210440" y="2762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0" name=""/>
          <p:cNvGrpSpPr/>
          <p:nvPr/>
        </p:nvGrpSpPr>
        <p:grpSpPr>
          <a:xfrm>
            <a:off x="6753240" y="3067200"/>
            <a:ext cx="74520" cy="152280"/>
            <a:chOff x="6753240" y="3067200"/>
            <a:chExt cx="74520" cy="152280"/>
          </a:xfrm>
        </p:grpSpPr>
        <p:sp>
          <p:nvSpPr>
            <p:cNvPr id="7831" name=""/>
            <p:cNvSpPr/>
            <p:nvPr/>
          </p:nvSpPr>
          <p:spPr>
            <a:xfrm>
              <a:off x="6753240" y="30672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6753240" y="3188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6790320" y="3067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6753240" y="3067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5" name=""/>
          <p:cNvGrpSpPr/>
          <p:nvPr/>
        </p:nvGrpSpPr>
        <p:grpSpPr>
          <a:xfrm>
            <a:off x="7819920" y="3219120"/>
            <a:ext cx="149760" cy="74520"/>
            <a:chOff x="7819920" y="3219120"/>
            <a:chExt cx="149760" cy="74520"/>
          </a:xfrm>
        </p:grpSpPr>
        <p:sp>
          <p:nvSpPr>
            <p:cNvPr id="7836" name=""/>
            <p:cNvSpPr/>
            <p:nvPr/>
          </p:nvSpPr>
          <p:spPr>
            <a:xfrm rot="16200000">
              <a:off x="7782840" y="3256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7" name=""/>
            <p:cNvSpPr/>
            <p:nvPr/>
          </p:nvSpPr>
          <p:spPr>
            <a:xfrm rot="16200000">
              <a:off x="7932240" y="3256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8" name=""/>
            <p:cNvSpPr/>
            <p:nvPr/>
          </p:nvSpPr>
          <p:spPr>
            <a:xfrm rot="16200000">
              <a:off x="7875720" y="31629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9" name=""/>
            <p:cNvSpPr/>
            <p:nvPr/>
          </p:nvSpPr>
          <p:spPr>
            <a:xfrm rot="16200000">
              <a:off x="7876080" y="32004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0" name=""/>
          <p:cNvGrpSpPr/>
          <p:nvPr/>
        </p:nvGrpSpPr>
        <p:grpSpPr>
          <a:xfrm>
            <a:off x="7591320" y="3447720"/>
            <a:ext cx="152640" cy="74520"/>
            <a:chOff x="7591320" y="3447720"/>
            <a:chExt cx="152640" cy="74520"/>
          </a:xfrm>
        </p:grpSpPr>
        <p:sp>
          <p:nvSpPr>
            <p:cNvPr id="7841" name=""/>
            <p:cNvSpPr/>
            <p:nvPr/>
          </p:nvSpPr>
          <p:spPr>
            <a:xfrm rot="16200000">
              <a:off x="7569000" y="34696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2" name=""/>
            <p:cNvSpPr/>
            <p:nvPr/>
          </p:nvSpPr>
          <p:spPr>
            <a:xfrm rot="16200000">
              <a:off x="7691400" y="34696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3" name=""/>
            <p:cNvSpPr/>
            <p:nvPr/>
          </p:nvSpPr>
          <p:spPr>
            <a:xfrm rot="16200000">
              <a:off x="7648920" y="339012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4" name=""/>
            <p:cNvSpPr/>
            <p:nvPr/>
          </p:nvSpPr>
          <p:spPr>
            <a:xfrm rot="16200000">
              <a:off x="7648920" y="342720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5" name=""/>
          <p:cNvGrpSpPr/>
          <p:nvPr/>
        </p:nvGrpSpPr>
        <p:grpSpPr>
          <a:xfrm>
            <a:off x="7362720" y="3219120"/>
            <a:ext cx="152640" cy="152280"/>
            <a:chOff x="7362720" y="3219120"/>
            <a:chExt cx="152640" cy="152280"/>
          </a:xfrm>
        </p:grpSpPr>
        <p:sp>
          <p:nvSpPr>
            <p:cNvPr id="7846" name=""/>
            <p:cNvSpPr/>
            <p:nvPr/>
          </p:nvSpPr>
          <p:spPr>
            <a:xfrm rot="16200000">
              <a:off x="7301520" y="327996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7" name=""/>
            <p:cNvSpPr/>
            <p:nvPr/>
          </p:nvSpPr>
          <p:spPr>
            <a:xfrm rot="16200000">
              <a:off x="7423920" y="32799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8" name=""/>
            <p:cNvSpPr/>
            <p:nvPr/>
          </p:nvSpPr>
          <p:spPr>
            <a:xfrm rot="16200000">
              <a:off x="7400880" y="318096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9" name=""/>
            <p:cNvSpPr/>
            <p:nvPr/>
          </p:nvSpPr>
          <p:spPr>
            <a:xfrm rot="16200000">
              <a:off x="7400880" y="325692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0" name=""/>
          <p:cNvGrpSpPr/>
          <p:nvPr/>
        </p:nvGrpSpPr>
        <p:grpSpPr>
          <a:xfrm>
            <a:off x="5543640" y="1199520"/>
            <a:ext cx="95040" cy="97200"/>
            <a:chOff x="5543640" y="1199520"/>
            <a:chExt cx="95040" cy="97200"/>
          </a:xfrm>
        </p:grpSpPr>
        <p:sp>
          <p:nvSpPr>
            <p:cNvPr id="7851" name=""/>
            <p:cNvSpPr/>
            <p:nvPr/>
          </p:nvSpPr>
          <p:spPr>
            <a:xfrm rot="10800000">
              <a:off x="5543640" y="12963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2" name=""/>
            <p:cNvSpPr/>
            <p:nvPr/>
          </p:nvSpPr>
          <p:spPr>
            <a:xfrm rot="10800000">
              <a:off x="5543640" y="1199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3" name=""/>
            <p:cNvSpPr/>
            <p:nvPr/>
          </p:nvSpPr>
          <p:spPr>
            <a:xfrm rot="10800000">
              <a:off x="5544000" y="11998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4" name=""/>
            <p:cNvSpPr/>
            <p:nvPr/>
          </p:nvSpPr>
          <p:spPr>
            <a:xfrm rot="10800000">
              <a:off x="5591160" y="11998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5" name=""/>
          <p:cNvGrpSpPr/>
          <p:nvPr/>
        </p:nvGrpSpPr>
        <p:grpSpPr>
          <a:xfrm>
            <a:off x="5810400" y="1208880"/>
            <a:ext cx="95040" cy="97200"/>
            <a:chOff x="5810400" y="1208880"/>
            <a:chExt cx="95040" cy="97200"/>
          </a:xfrm>
        </p:grpSpPr>
        <p:sp>
          <p:nvSpPr>
            <p:cNvPr id="7856" name=""/>
            <p:cNvSpPr/>
            <p:nvPr/>
          </p:nvSpPr>
          <p:spPr>
            <a:xfrm rot="10800000">
              <a:off x="5810400" y="1305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7" name=""/>
            <p:cNvSpPr/>
            <p:nvPr/>
          </p:nvSpPr>
          <p:spPr>
            <a:xfrm rot="10800000">
              <a:off x="5810400" y="1208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8" name=""/>
            <p:cNvSpPr/>
            <p:nvPr/>
          </p:nvSpPr>
          <p:spPr>
            <a:xfrm rot="10800000">
              <a:off x="5810760" y="1209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9" name=""/>
            <p:cNvSpPr/>
            <p:nvPr/>
          </p:nvSpPr>
          <p:spPr>
            <a:xfrm rot="10800000">
              <a:off x="5857920" y="12092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0" name=""/>
          <p:cNvGrpSpPr/>
          <p:nvPr/>
        </p:nvGrpSpPr>
        <p:grpSpPr>
          <a:xfrm>
            <a:off x="5312520" y="952560"/>
            <a:ext cx="97200" cy="95040"/>
            <a:chOff x="5312520" y="952560"/>
            <a:chExt cx="97200" cy="95040"/>
          </a:xfrm>
        </p:grpSpPr>
        <p:sp>
          <p:nvSpPr>
            <p:cNvPr id="7861" name=""/>
            <p:cNvSpPr/>
            <p:nvPr/>
          </p:nvSpPr>
          <p:spPr>
            <a:xfrm rot="5400000">
              <a:off x="5361840" y="999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2" name=""/>
            <p:cNvSpPr/>
            <p:nvPr/>
          </p:nvSpPr>
          <p:spPr>
            <a:xfrm rot="5400000">
              <a:off x="5265000" y="999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3" name=""/>
            <p:cNvSpPr/>
            <p:nvPr/>
          </p:nvSpPr>
          <p:spPr>
            <a:xfrm rot="5400000">
              <a:off x="5337720" y="975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4" name=""/>
            <p:cNvSpPr/>
            <p:nvPr/>
          </p:nvSpPr>
          <p:spPr>
            <a:xfrm rot="5400000">
              <a:off x="5337360" y="927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5" name=""/>
          <p:cNvGrpSpPr/>
          <p:nvPr/>
        </p:nvGrpSpPr>
        <p:grpSpPr>
          <a:xfrm>
            <a:off x="4641120" y="534960"/>
            <a:ext cx="97200" cy="95400"/>
            <a:chOff x="4641120" y="534960"/>
            <a:chExt cx="97200" cy="95400"/>
          </a:xfrm>
        </p:grpSpPr>
        <p:sp>
          <p:nvSpPr>
            <p:cNvPr id="7866" name=""/>
            <p:cNvSpPr/>
            <p:nvPr/>
          </p:nvSpPr>
          <p:spPr>
            <a:xfrm rot="5400000">
              <a:off x="4690440" y="582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7" name=""/>
            <p:cNvSpPr/>
            <p:nvPr/>
          </p:nvSpPr>
          <p:spPr>
            <a:xfrm rot="5400000">
              <a:off x="4593600" y="582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8" name=""/>
            <p:cNvSpPr/>
            <p:nvPr/>
          </p:nvSpPr>
          <p:spPr>
            <a:xfrm rot="5400000">
              <a:off x="4665960" y="558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9" name=""/>
            <p:cNvSpPr/>
            <p:nvPr/>
          </p:nvSpPr>
          <p:spPr>
            <a:xfrm rot="5400000">
              <a:off x="4665960" y="510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0" name=""/>
          <p:cNvGrpSpPr/>
          <p:nvPr/>
        </p:nvGrpSpPr>
        <p:grpSpPr>
          <a:xfrm>
            <a:off x="5560200" y="291960"/>
            <a:ext cx="97200" cy="95400"/>
            <a:chOff x="5560200" y="291960"/>
            <a:chExt cx="97200" cy="95400"/>
          </a:xfrm>
        </p:grpSpPr>
        <p:sp>
          <p:nvSpPr>
            <p:cNvPr id="7871" name=""/>
            <p:cNvSpPr/>
            <p:nvPr/>
          </p:nvSpPr>
          <p:spPr>
            <a:xfrm rot="5400000">
              <a:off x="5609520" y="339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2" name=""/>
            <p:cNvSpPr/>
            <p:nvPr/>
          </p:nvSpPr>
          <p:spPr>
            <a:xfrm rot="5400000">
              <a:off x="5512680" y="339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3" name=""/>
            <p:cNvSpPr/>
            <p:nvPr/>
          </p:nvSpPr>
          <p:spPr>
            <a:xfrm rot="5400000">
              <a:off x="5585040" y="315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4" name=""/>
            <p:cNvSpPr/>
            <p:nvPr/>
          </p:nvSpPr>
          <p:spPr>
            <a:xfrm rot="5400000">
              <a:off x="5585040" y="267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5" name=""/>
          <p:cNvGrpSpPr/>
          <p:nvPr/>
        </p:nvGrpSpPr>
        <p:grpSpPr>
          <a:xfrm>
            <a:off x="3988800" y="473040"/>
            <a:ext cx="97200" cy="95400"/>
            <a:chOff x="3988800" y="473040"/>
            <a:chExt cx="97200" cy="95400"/>
          </a:xfrm>
        </p:grpSpPr>
        <p:sp>
          <p:nvSpPr>
            <p:cNvPr id="7876" name=""/>
            <p:cNvSpPr/>
            <p:nvPr/>
          </p:nvSpPr>
          <p:spPr>
            <a:xfrm rot="5400000">
              <a:off x="4038120" y="520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7" name=""/>
            <p:cNvSpPr/>
            <p:nvPr/>
          </p:nvSpPr>
          <p:spPr>
            <a:xfrm rot="5400000">
              <a:off x="3941280" y="520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8" name=""/>
            <p:cNvSpPr/>
            <p:nvPr/>
          </p:nvSpPr>
          <p:spPr>
            <a:xfrm rot="5400000">
              <a:off x="4013640" y="4960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9" name=""/>
            <p:cNvSpPr/>
            <p:nvPr/>
          </p:nvSpPr>
          <p:spPr>
            <a:xfrm rot="5400000">
              <a:off x="4013640" y="448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0" name=""/>
          <p:cNvGrpSpPr/>
          <p:nvPr/>
        </p:nvGrpSpPr>
        <p:grpSpPr>
          <a:xfrm>
            <a:off x="4191120" y="332640"/>
            <a:ext cx="95040" cy="97200"/>
            <a:chOff x="4191120" y="332640"/>
            <a:chExt cx="95040" cy="97200"/>
          </a:xfrm>
        </p:grpSpPr>
        <p:sp>
          <p:nvSpPr>
            <p:cNvPr id="7881" name=""/>
            <p:cNvSpPr/>
            <p:nvPr/>
          </p:nvSpPr>
          <p:spPr>
            <a:xfrm rot="10800000">
              <a:off x="4191120" y="42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2" name=""/>
            <p:cNvSpPr/>
            <p:nvPr/>
          </p:nvSpPr>
          <p:spPr>
            <a:xfrm rot="10800000">
              <a:off x="4191120" y="332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3" name=""/>
            <p:cNvSpPr/>
            <p:nvPr/>
          </p:nvSpPr>
          <p:spPr>
            <a:xfrm rot="10800000">
              <a:off x="4191480" y="3330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4" name=""/>
            <p:cNvSpPr/>
            <p:nvPr/>
          </p:nvSpPr>
          <p:spPr>
            <a:xfrm rot="10800000">
              <a:off x="4238640" y="3330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5" name=""/>
          <p:cNvGrpSpPr/>
          <p:nvPr/>
        </p:nvGrpSpPr>
        <p:grpSpPr>
          <a:xfrm>
            <a:off x="5100480" y="528480"/>
            <a:ext cx="88920" cy="93960"/>
            <a:chOff x="5100480" y="528480"/>
            <a:chExt cx="88920" cy="93960"/>
          </a:xfrm>
        </p:grpSpPr>
        <p:sp>
          <p:nvSpPr>
            <p:cNvPr id="7886" name=""/>
            <p:cNvSpPr/>
            <p:nvPr/>
          </p:nvSpPr>
          <p:spPr>
            <a:xfrm>
              <a:off x="5100480" y="528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5100480" y="603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5144760" y="528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5100480" y="528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0" name=""/>
          <p:cNvGrpSpPr/>
          <p:nvPr/>
        </p:nvGrpSpPr>
        <p:grpSpPr>
          <a:xfrm>
            <a:off x="3962520" y="290520"/>
            <a:ext cx="88920" cy="93600"/>
            <a:chOff x="3962520" y="290520"/>
            <a:chExt cx="88920" cy="93600"/>
          </a:xfrm>
        </p:grpSpPr>
        <p:sp>
          <p:nvSpPr>
            <p:cNvPr id="7891" name=""/>
            <p:cNvSpPr/>
            <p:nvPr/>
          </p:nvSpPr>
          <p:spPr>
            <a:xfrm>
              <a:off x="3962520" y="290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3962520" y="365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4006800" y="290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3962520" y="290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5" name=""/>
          <p:cNvGrpSpPr/>
          <p:nvPr/>
        </p:nvGrpSpPr>
        <p:grpSpPr>
          <a:xfrm>
            <a:off x="5553000" y="957240"/>
            <a:ext cx="88920" cy="93600"/>
            <a:chOff x="5553000" y="957240"/>
            <a:chExt cx="88920" cy="93600"/>
          </a:xfrm>
        </p:grpSpPr>
        <p:sp>
          <p:nvSpPr>
            <p:cNvPr id="7896" name=""/>
            <p:cNvSpPr/>
            <p:nvPr/>
          </p:nvSpPr>
          <p:spPr>
            <a:xfrm>
              <a:off x="5553000" y="957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5553000" y="1032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5597280" y="957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5553000" y="957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0" name=""/>
          <p:cNvGrpSpPr/>
          <p:nvPr/>
        </p:nvGrpSpPr>
        <p:grpSpPr>
          <a:xfrm>
            <a:off x="5311800" y="1203120"/>
            <a:ext cx="93600" cy="88920"/>
            <a:chOff x="5311800" y="1203120"/>
            <a:chExt cx="93600" cy="88920"/>
          </a:xfrm>
        </p:grpSpPr>
        <p:sp>
          <p:nvSpPr>
            <p:cNvPr id="7901" name=""/>
            <p:cNvSpPr/>
            <p:nvPr/>
          </p:nvSpPr>
          <p:spPr>
            <a:xfrm rot="16200000">
              <a:off x="5276520" y="1238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2" name=""/>
            <p:cNvSpPr/>
            <p:nvPr/>
          </p:nvSpPr>
          <p:spPr>
            <a:xfrm rot="16200000">
              <a:off x="5351400" y="12380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3" name=""/>
            <p:cNvSpPr/>
            <p:nvPr/>
          </p:nvSpPr>
          <p:spPr>
            <a:xfrm rot="16200000">
              <a:off x="5336280" y="1178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4" name=""/>
            <p:cNvSpPr/>
            <p:nvPr/>
          </p:nvSpPr>
          <p:spPr>
            <a:xfrm rot="16200000">
              <a:off x="5336280" y="1222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5" name=""/>
          <p:cNvGrpSpPr/>
          <p:nvPr/>
        </p:nvGrpSpPr>
        <p:grpSpPr>
          <a:xfrm>
            <a:off x="5315040" y="743040"/>
            <a:ext cx="88920" cy="93600"/>
            <a:chOff x="5315040" y="743040"/>
            <a:chExt cx="88920" cy="93600"/>
          </a:xfrm>
        </p:grpSpPr>
        <p:sp>
          <p:nvSpPr>
            <p:cNvPr id="7906" name=""/>
            <p:cNvSpPr/>
            <p:nvPr/>
          </p:nvSpPr>
          <p:spPr>
            <a:xfrm>
              <a:off x="5315040" y="743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5315040" y="817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5359320" y="743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5315040" y="743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0" name=""/>
          <p:cNvGrpSpPr/>
          <p:nvPr/>
        </p:nvGrpSpPr>
        <p:grpSpPr>
          <a:xfrm>
            <a:off x="4664160" y="750600"/>
            <a:ext cx="93600" cy="88920"/>
            <a:chOff x="4664160" y="750600"/>
            <a:chExt cx="93600" cy="88920"/>
          </a:xfrm>
        </p:grpSpPr>
        <p:sp>
          <p:nvSpPr>
            <p:cNvPr id="7911" name=""/>
            <p:cNvSpPr/>
            <p:nvPr/>
          </p:nvSpPr>
          <p:spPr>
            <a:xfrm rot="16200000">
              <a:off x="4628880" y="785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2" name=""/>
            <p:cNvSpPr/>
            <p:nvPr/>
          </p:nvSpPr>
          <p:spPr>
            <a:xfrm rot="16200000">
              <a:off x="4703760" y="7855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3" name=""/>
            <p:cNvSpPr/>
            <p:nvPr/>
          </p:nvSpPr>
          <p:spPr>
            <a:xfrm rot="16200000">
              <a:off x="4688640" y="726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4" name=""/>
            <p:cNvSpPr/>
            <p:nvPr/>
          </p:nvSpPr>
          <p:spPr>
            <a:xfrm rot="16200000">
              <a:off x="4688640" y="770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5" name=""/>
          <p:cNvGrpSpPr/>
          <p:nvPr/>
        </p:nvGrpSpPr>
        <p:grpSpPr>
          <a:xfrm>
            <a:off x="4867200" y="519120"/>
            <a:ext cx="88920" cy="93600"/>
            <a:chOff x="4867200" y="519120"/>
            <a:chExt cx="88920" cy="93600"/>
          </a:xfrm>
        </p:grpSpPr>
        <p:sp>
          <p:nvSpPr>
            <p:cNvPr id="7916" name=""/>
            <p:cNvSpPr/>
            <p:nvPr/>
          </p:nvSpPr>
          <p:spPr>
            <a:xfrm>
              <a:off x="4867200" y="519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4867200" y="594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4911480" y="519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4867200" y="519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0" name=""/>
          <p:cNvGrpSpPr/>
          <p:nvPr/>
        </p:nvGrpSpPr>
        <p:grpSpPr>
          <a:xfrm>
            <a:off x="4857840" y="1200240"/>
            <a:ext cx="88920" cy="93600"/>
            <a:chOff x="4857840" y="1200240"/>
            <a:chExt cx="88920" cy="93600"/>
          </a:xfrm>
        </p:grpSpPr>
        <p:sp>
          <p:nvSpPr>
            <p:cNvPr id="7921" name=""/>
            <p:cNvSpPr/>
            <p:nvPr/>
          </p:nvSpPr>
          <p:spPr>
            <a:xfrm>
              <a:off x="4857840" y="1200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4857840" y="1275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4902120" y="120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4857840" y="120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5" name=""/>
          <p:cNvGrpSpPr/>
          <p:nvPr/>
        </p:nvGrpSpPr>
        <p:grpSpPr>
          <a:xfrm>
            <a:off x="4824360" y="981000"/>
            <a:ext cx="88920" cy="93600"/>
            <a:chOff x="4824360" y="981000"/>
            <a:chExt cx="88920" cy="93600"/>
          </a:xfrm>
        </p:grpSpPr>
        <p:sp>
          <p:nvSpPr>
            <p:cNvPr id="7926" name=""/>
            <p:cNvSpPr/>
            <p:nvPr/>
          </p:nvSpPr>
          <p:spPr>
            <a:xfrm>
              <a:off x="4824360" y="981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4824360" y="1055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4868640" y="981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4824360" y="981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0" name=""/>
          <p:cNvGrpSpPr/>
          <p:nvPr/>
        </p:nvGrpSpPr>
        <p:grpSpPr>
          <a:xfrm>
            <a:off x="4421160" y="560160"/>
            <a:ext cx="93600" cy="88920"/>
            <a:chOff x="4421160" y="560160"/>
            <a:chExt cx="93600" cy="88920"/>
          </a:xfrm>
        </p:grpSpPr>
        <p:sp>
          <p:nvSpPr>
            <p:cNvPr id="7931" name=""/>
            <p:cNvSpPr/>
            <p:nvPr/>
          </p:nvSpPr>
          <p:spPr>
            <a:xfrm rot="16200000">
              <a:off x="4385880" y="595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2" name=""/>
            <p:cNvSpPr/>
            <p:nvPr/>
          </p:nvSpPr>
          <p:spPr>
            <a:xfrm rot="16200000">
              <a:off x="4460760" y="595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3" name=""/>
            <p:cNvSpPr/>
            <p:nvPr/>
          </p:nvSpPr>
          <p:spPr>
            <a:xfrm rot="16200000">
              <a:off x="4445640" y="535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4" name=""/>
            <p:cNvSpPr/>
            <p:nvPr/>
          </p:nvSpPr>
          <p:spPr>
            <a:xfrm rot="16200000">
              <a:off x="4445640" y="579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5" name=""/>
          <p:cNvGrpSpPr/>
          <p:nvPr/>
        </p:nvGrpSpPr>
        <p:grpSpPr>
          <a:xfrm>
            <a:off x="8500680" y="471600"/>
            <a:ext cx="174600" cy="176040"/>
            <a:chOff x="8500680" y="471600"/>
            <a:chExt cx="174600" cy="176040"/>
          </a:xfrm>
        </p:grpSpPr>
        <p:sp>
          <p:nvSpPr>
            <p:cNvPr id="7936" name=""/>
            <p:cNvSpPr/>
            <p:nvPr/>
          </p:nvSpPr>
          <p:spPr>
            <a:xfrm rot="5400000">
              <a:off x="8612640" y="50940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7" name=""/>
            <p:cNvSpPr/>
            <p:nvPr/>
          </p:nvSpPr>
          <p:spPr>
            <a:xfrm rot="5400000">
              <a:off x="8587800" y="48456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8" name=""/>
            <p:cNvSpPr/>
            <p:nvPr/>
          </p:nvSpPr>
          <p:spPr>
            <a:xfrm rot="5400000">
              <a:off x="8562600" y="40932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9" name=""/>
            <p:cNvSpPr/>
            <p:nvPr/>
          </p:nvSpPr>
          <p:spPr>
            <a:xfrm rot="5400000">
              <a:off x="8538120" y="5850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0" name=""/>
            <p:cNvSpPr/>
            <p:nvPr/>
          </p:nvSpPr>
          <p:spPr>
            <a:xfrm rot="5400000">
              <a:off x="8512920" y="5598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1" name=""/>
            <p:cNvSpPr/>
            <p:nvPr/>
          </p:nvSpPr>
          <p:spPr>
            <a:xfrm rot="5400000">
              <a:off x="8437680" y="53460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2" name=""/>
          <p:cNvGrpSpPr/>
          <p:nvPr/>
        </p:nvGrpSpPr>
        <p:grpSpPr>
          <a:xfrm>
            <a:off x="6435720" y="2081160"/>
            <a:ext cx="174600" cy="176400"/>
            <a:chOff x="6435720" y="2081160"/>
            <a:chExt cx="174600" cy="176400"/>
          </a:xfrm>
        </p:grpSpPr>
        <p:sp>
          <p:nvSpPr>
            <p:cNvPr id="7943" name=""/>
            <p:cNvSpPr/>
            <p:nvPr/>
          </p:nvSpPr>
          <p:spPr>
            <a:xfrm rot="16200000">
              <a:off x="6397560" y="219456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4" name=""/>
            <p:cNvSpPr/>
            <p:nvPr/>
          </p:nvSpPr>
          <p:spPr>
            <a:xfrm rot="16200000">
              <a:off x="6472800" y="211968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5" name=""/>
            <p:cNvSpPr/>
            <p:nvPr/>
          </p:nvSpPr>
          <p:spPr>
            <a:xfrm rot="16200000">
              <a:off x="6497640" y="21448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6" name=""/>
            <p:cNvSpPr/>
            <p:nvPr/>
          </p:nvSpPr>
          <p:spPr>
            <a:xfrm rot="16200000">
              <a:off x="6547680" y="204372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7" name=""/>
            <p:cNvSpPr/>
            <p:nvPr/>
          </p:nvSpPr>
          <p:spPr>
            <a:xfrm rot="16200000">
              <a:off x="6472080" y="211932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8" name=""/>
            <p:cNvSpPr/>
            <p:nvPr/>
          </p:nvSpPr>
          <p:spPr>
            <a:xfrm rot="16200000">
              <a:off x="6496920" y="2144160"/>
              <a:ext cx="17640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9" name=""/>
          <p:cNvGrpSpPr/>
          <p:nvPr/>
        </p:nvGrpSpPr>
        <p:grpSpPr>
          <a:xfrm>
            <a:off x="3962520" y="1180800"/>
            <a:ext cx="152280" cy="152280"/>
            <a:chOff x="3962520" y="1180800"/>
            <a:chExt cx="152280" cy="152280"/>
          </a:xfrm>
        </p:grpSpPr>
        <p:sp>
          <p:nvSpPr>
            <p:cNvPr id="7950" name=""/>
            <p:cNvSpPr/>
            <p:nvPr/>
          </p:nvSpPr>
          <p:spPr>
            <a:xfrm rot="16200000">
              <a:off x="3901320" y="12416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1" name=""/>
            <p:cNvSpPr/>
            <p:nvPr/>
          </p:nvSpPr>
          <p:spPr>
            <a:xfrm rot="16200000">
              <a:off x="4023360" y="12416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2" name=""/>
            <p:cNvSpPr/>
            <p:nvPr/>
          </p:nvSpPr>
          <p:spPr>
            <a:xfrm rot="16200000">
              <a:off x="4000680" y="11430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3" name=""/>
            <p:cNvSpPr/>
            <p:nvPr/>
          </p:nvSpPr>
          <p:spPr>
            <a:xfrm rot="16200000">
              <a:off x="4000680" y="1218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4" name=""/>
          <p:cNvGrpSpPr/>
          <p:nvPr/>
        </p:nvGrpSpPr>
        <p:grpSpPr>
          <a:xfrm>
            <a:off x="5524560" y="1409400"/>
            <a:ext cx="152280" cy="152280"/>
            <a:chOff x="5524560" y="1409400"/>
            <a:chExt cx="152280" cy="152280"/>
          </a:xfrm>
        </p:grpSpPr>
        <p:sp>
          <p:nvSpPr>
            <p:cNvPr id="7955" name=""/>
            <p:cNvSpPr/>
            <p:nvPr/>
          </p:nvSpPr>
          <p:spPr>
            <a:xfrm rot="16200000">
              <a:off x="5463360" y="14702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6" name=""/>
            <p:cNvSpPr/>
            <p:nvPr/>
          </p:nvSpPr>
          <p:spPr>
            <a:xfrm rot="16200000">
              <a:off x="5585400" y="14702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7" name=""/>
            <p:cNvSpPr/>
            <p:nvPr/>
          </p:nvSpPr>
          <p:spPr>
            <a:xfrm rot="16200000">
              <a:off x="5562720" y="1371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8" name=""/>
            <p:cNvSpPr/>
            <p:nvPr/>
          </p:nvSpPr>
          <p:spPr>
            <a:xfrm rot="16200000">
              <a:off x="5562720" y="14475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9" name=""/>
          <p:cNvGrpSpPr/>
          <p:nvPr/>
        </p:nvGrpSpPr>
        <p:grpSpPr>
          <a:xfrm>
            <a:off x="4833720" y="723600"/>
            <a:ext cx="152280" cy="152280"/>
            <a:chOff x="4833720" y="723600"/>
            <a:chExt cx="152280" cy="152280"/>
          </a:xfrm>
        </p:grpSpPr>
        <p:sp>
          <p:nvSpPr>
            <p:cNvPr id="7960" name=""/>
            <p:cNvSpPr/>
            <p:nvPr/>
          </p:nvSpPr>
          <p:spPr>
            <a:xfrm rot="10800000">
              <a:off x="4833720" y="8456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1" name=""/>
            <p:cNvSpPr/>
            <p:nvPr/>
          </p:nvSpPr>
          <p:spPr>
            <a:xfrm rot="10800000">
              <a:off x="4833720" y="7236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2" name=""/>
            <p:cNvSpPr/>
            <p:nvPr/>
          </p:nvSpPr>
          <p:spPr>
            <a:xfrm rot="10800000">
              <a:off x="4834080" y="72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3" name=""/>
            <p:cNvSpPr/>
            <p:nvPr/>
          </p:nvSpPr>
          <p:spPr>
            <a:xfrm rot="10800000">
              <a:off x="4910040" y="7236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4" name=""/>
          <p:cNvGrpSpPr/>
          <p:nvPr/>
        </p:nvGrpSpPr>
        <p:grpSpPr>
          <a:xfrm>
            <a:off x="5086080" y="894960"/>
            <a:ext cx="152280" cy="152280"/>
            <a:chOff x="5086080" y="894960"/>
            <a:chExt cx="152280" cy="152280"/>
          </a:xfrm>
        </p:grpSpPr>
        <p:sp>
          <p:nvSpPr>
            <p:cNvPr id="7965" name=""/>
            <p:cNvSpPr/>
            <p:nvPr/>
          </p:nvSpPr>
          <p:spPr>
            <a:xfrm rot="10800000">
              <a:off x="5086080" y="10170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6" name=""/>
            <p:cNvSpPr/>
            <p:nvPr/>
          </p:nvSpPr>
          <p:spPr>
            <a:xfrm rot="10800000">
              <a:off x="5086080" y="8949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7" name=""/>
            <p:cNvSpPr/>
            <p:nvPr/>
          </p:nvSpPr>
          <p:spPr>
            <a:xfrm rot="10800000">
              <a:off x="5086440" y="894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8" name=""/>
            <p:cNvSpPr/>
            <p:nvPr/>
          </p:nvSpPr>
          <p:spPr>
            <a:xfrm rot="10800000">
              <a:off x="5162400" y="894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9" name=""/>
          <p:cNvGrpSpPr/>
          <p:nvPr/>
        </p:nvGrpSpPr>
        <p:grpSpPr>
          <a:xfrm>
            <a:off x="5086440" y="1123560"/>
            <a:ext cx="152640" cy="149400"/>
            <a:chOff x="5086440" y="1123560"/>
            <a:chExt cx="152640" cy="149400"/>
          </a:xfrm>
        </p:grpSpPr>
        <p:sp>
          <p:nvSpPr>
            <p:cNvPr id="7970" name=""/>
            <p:cNvSpPr/>
            <p:nvPr/>
          </p:nvSpPr>
          <p:spPr>
            <a:xfrm rot="16200000">
              <a:off x="5011920" y="119808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1" name=""/>
            <p:cNvSpPr/>
            <p:nvPr/>
          </p:nvSpPr>
          <p:spPr>
            <a:xfrm rot="16200000">
              <a:off x="5164200" y="119808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2" name=""/>
            <p:cNvSpPr/>
            <p:nvPr/>
          </p:nvSpPr>
          <p:spPr>
            <a:xfrm rot="16200000">
              <a:off x="5125320" y="108468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3" name=""/>
            <p:cNvSpPr/>
            <p:nvPr/>
          </p:nvSpPr>
          <p:spPr>
            <a:xfrm rot="16200000">
              <a:off x="5124960" y="115920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4" name=""/>
          <p:cNvGrpSpPr/>
          <p:nvPr/>
        </p:nvGrpSpPr>
        <p:grpSpPr>
          <a:xfrm>
            <a:off x="4392720" y="712080"/>
            <a:ext cx="149040" cy="152640"/>
            <a:chOff x="4392720" y="712080"/>
            <a:chExt cx="149040" cy="152640"/>
          </a:xfrm>
        </p:grpSpPr>
        <p:sp>
          <p:nvSpPr>
            <p:cNvPr id="7975" name=""/>
            <p:cNvSpPr/>
            <p:nvPr/>
          </p:nvSpPr>
          <p:spPr>
            <a:xfrm rot="10800000">
              <a:off x="4392720" y="86436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6" name=""/>
            <p:cNvSpPr/>
            <p:nvPr/>
          </p:nvSpPr>
          <p:spPr>
            <a:xfrm rot="10800000">
              <a:off x="4392720" y="712080"/>
              <a:ext cx="149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7" name=""/>
            <p:cNvSpPr/>
            <p:nvPr/>
          </p:nvSpPr>
          <p:spPr>
            <a:xfrm rot="10800000">
              <a:off x="4392720" y="712440"/>
              <a:ext cx="7416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8" name=""/>
            <p:cNvSpPr/>
            <p:nvPr/>
          </p:nvSpPr>
          <p:spPr>
            <a:xfrm rot="10800000">
              <a:off x="4466880" y="7124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9" name=""/>
          <p:cNvGrpSpPr/>
          <p:nvPr/>
        </p:nvGrpSpPr>
        <p:grpSpPr>
          <a:xfrm>
            <a:off x="5773320" y="2288520"/>
            <a:ext cx="149400" cy="152640"/>
            <a:chOff x="5773320" y="2288520"/>
            <a:chExt cx="149400" cy="152640"/>
          </a:xfrm>
        </p:grpSpPr>
        <p:sp>
          <p:nvSpPr>
            <p:cNvPr id="7980" name=""/>
            <p:cNvSpPr/>
            <p:nvPr/>
          </p:nvSpPr>
          <p:spPr>
            <a:xfrm rot="10800000">
              <a:off x="5773320" y="244080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1" name=""/>
            <p:cNvSpPr/>
            <p:nvPr/>
          </p:nvSpPr>
          <p:spPr>
            <a:xfrm rot="10800000">
              <a:off x="5773320" y="22885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2" name=""/>
            <p:cNvSpPr/>
            <p:nvPr/>
          </p:nvSpPr>
          <p:spPr>
            <a:xfrm rot="10800000">
              <a:off x="5773320" y="228888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3" name=""/>
            <p:cNvSpPr/>
            <p:nvPr/>
          </p:nvSpPr>
          <p:spPr>
            <a:xfrm rot="10800000">
              <a:off x="5847840" y="22888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4" name=""/>
          <p:cNvGrpSpPr/>
          <p:nvPr/>
        </p:nvGrpSpPr>
        <p:grpSpPr>
          <a:xfrm>
            <a:off x="4624560" y="947880"/>
            <a:ext cx="74520" cy="149400"/>
            <a:chOff x="4624560" y="947880"/>
            <a:chExt cx="74520" cy="149400"/>
          </a:xfrm>
        </p:grpSpPr>
        <p:sp>
          <p:nvSpPr>
            <p:cNvPr id="7985" name=""/>
            <p:cNvSpPr/>
            <p:nvPr/>
          </p:nvSpPr>
          <p:spPr>
            <a:xfrm>
              <a:off x="4624560" y="9478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4624560" y="1096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4661640" y="9478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4624560" y="9478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9" name=""/>
          <p:cNvGrpSpPr/>
          <p:nvPr/>
        </p:nvGrpSpPr>
        <p:grpSpPr>
          <a:xfrm>
            <a:off x="5548320" y="480960"/>
            <a:ext cx="74520" cy="149760"/>
            <a:chOff x="5548320" y="480960"/>
            <a:chExt cx="74520" cy="149760"/>
          </a:xfrm>
        </p:grpSpPr>
        <p:sp>
          <p:nvSpPr>
            <p:cNvPr id="7990" name=""/>
            <p:cNvSpPr/>
            <p:nvPr/>
          </p:nvSpPr>
          <p:spPr>
            <a:xfrm>
              <a:off x="5548320" y="4809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5548320" y="6303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5585400" y="4809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5548320" y="48096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4" name=""/>
          <p:cNvGrpSpPr/>
          <p:nvPr/>
        </p:nvGrpSpPr>
        <p:grpSpPr>
          <a:xfrm>
            <a:off x="5576760" y="723960"/>
            <a:ext cx="74880" cy="152280"/>
            <a:chOff x="5576760" y="723960"/>
            <a:chExt cx="74880" cy="152280"/>
          </a:xfrm>
        </p:grpSpPr>
        <p:sp>
          <p:nvSpPr>
            <p:cNvPr id="7995" name=""/>
            <p:cNvSpPr/>
            <p:nvPr/>
          </p:nvSpPr>
          <p:spPr>
            <a:xfrm>
              <a:off x="5576760" y="72396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5576760" y="8456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5614200" y="7239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5576760" y="7239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9" name=""/>
          <p:cNvGrpSpPr/>
          <p:nvPr/>
        </p:nvGrpSpPr>
        <p:grpSpPr>
          <a:xfrm>
            <a:off x="5310360" y="528480"/>
            <a:ext cx="149400" cy="74880"/>
            <a:chOff x="5310360" y="528480"/>
            <a:chExt cx="149400" cy="74880"/>
          </a:xfrm>
        </p:grpSpPr>
        <p:sp>
          <p:nvSpPr>
            <p:cNvPr id="8000" name=""/>
            <p:cNvSpPr/>
            <p:nvPr/>
          </p:nvSpPr>
          <p:spPr>
            <a:xfrm rot="16200000">
              <a:off x="5272920" y="5655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1" name=""/>
            <p:cNvSpPr/>
            <p:nvPr/>
          </p:nvSpPr>
          <p:spPr>
            <a:xfrm rot="16200000">
              <a:off x="5421960" y="56556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2" name=""/>
            <p:cNvSpPr/>
            <p:nvPr/>
          </p:nvSpPr>
          <p:spPr>
            <a:xfrm rot="16200000">
              <a:off x="5366160" y="4730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3" name=""/>
            <p:cNvSpPr/>
            <p:nvPr/>
          </p:nvSpPr>
          <p:spPr>
            <a:xfrm rot="16200000">
              <a:off x="5366160" y="5101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4" name=""/>
          <p:cNvGrpSpPr/>
          <p:nvPr/>
        </p:nvGrpSpPr>
        <p:grpSpPr>
          <a:xfrm>
            <a:off x="4157640" y="571320"/>
            <a:ext cx="149760" cy="74520"/>
            <a:chOff x="4157640" y="571320"/>
            <a:chExt cx="149760" cy="74520"/>
          </a:xfrm>
        </p:grpSpPr>
        <p:sp>
          <p:nvSpPr>
            <p:cNvPr id="8005" name=""/>
            <p:cNvSpPr/>
            <p:nvPr/>
          </p:nvSpPr>
          <p:spPr>
            <a:xfrm rot="16200000">
              <a:off x="4120560" y="608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6" name=""/>
            <p:cNvSpPr/>
            <p:nvPr/>
          </p:nvSpPr>
          <p:spPr>
            <a:xfrm rot="16200000">
              <a:off x="4269960" y="6084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7" name=""/>
            <p:cNvSpPr/>
            <p:nvPr/>
          </p:nvSpPr>
          <p:spPr>
            <a:xfrm rot="16200000">
              <a:off x="4213440" y="5151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8" name=""/>
            <p:cNvSpPr/>
            <p:nvPr/>
          </p:nvSpPr>
          <p:spPr>
            <a:xfrm rot="16200000">
              <a:off x="4213800" y="5526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9" name=""/>
          <p:cNvGrpSpPr/>
          <p:nvPr/>
        </p:nvGrpSpPr>
        <p:grpSpPr>
          <a:xfrm>
            <a:off x="3943440" y="4172040"/>
            <a:ext cx="95040" cy="97200"/>
            <a:chOff x="3943440" y="4172040"/>
            <a:chExt cx="95040" cy="97200"/>
          </a:xfrm>
        </p:grpSpPr>
        <p:sp>
          <p:nvSpPr>
            <p:cNvPr id="8010" name=""/>
            <p:cNvSpPr/>
            <p:nvPr/>
          </p:nvSpPr>
          <p:spPr>
            <a:xfrm>
              <a:off x="3943440" y="4172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3943440" y="4268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3990960" y="4172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3943440" y="41720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4" name=""/>
          <p:cNvGrpSpPr/>
          <p:nvPr/>
        </p:nvGrpSpPr>
        <p:grpSpPr>
          <a:xfrm>
            <a:off x="2124000" y="3932280"/>
            <a:ext cx="95400" cy="97200"/>
            <a:chOff x="2124000" y="3932280"/>
            <a:chExt cx="95400" cy="97200"/>
          </a:xfrm>
        </p:grpSpPr>
        <p:sp>
          <p:nvSpPr>
            <p:cNvPr id="8015" name=""/>
            <p:cNvSpPr/>
            <p:nvPr/>
          </p:nvSpPr>
          <p:spPr>
            <a:xfrm>
              <a:off x="2124000" y="3932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2124000" y="4029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2171880" y="39322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2124000" y="3932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9" name=""/>
          <p:cNvGrpSpPr/>
          <p:nvPr/>
        </p:nvGrpSpPr>
        <p:grpSpPr>
          <a:xfrm>
            <a:off x="2351160" y="3933360"/>
            <a:ext cx="97200" cy="95400"/>
            <a:chOff x="2351160" y="3933360"/>
            <a:chExt cx="97200" cy="95400"/>
          </a:xfrm>
        </p:grpSpPr>
        <p:sp>
          <p:nvSpPr>
            <p:cNvPr id="8020" name=""/>
            <p:cNvSpPr/>
            <p:nvPr/>
          </p:nvSpPr>
          <p:spPr>
            <a:xfrm rot="16200000">
              <a:off x="2303640" y="3980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1" name=""/>
            <p:cNvSpPr/>
            <p:nvPr/>
          </p:nvSpPr>
          <p:spPr>
            <a:xfrm rot="16200000">
              <a:off x="2400480" y="3980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2" name=""/>
            <p:cNvSpPr/>
            <p:nvPr/>
          </p:nvSpPr>
          <p:spPr>
            <a:xfrm rot="16200000">
              <a:off x="2375640" y="39085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3" name=""/>
            <p:cNvSpPr/>
            <p:nvPr/>
          </p:nvSpPr>
          <p:spPr>
            <a:xfrm rot="16200000">
              <a:off x="2375640" y="39564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4" name=""/>
          <p:cNvGrpSpPr/>
          <p:nvPr/>
        </p:nvGrpSpPr>
        <p:grpSpPr>
          <a:xfrm>
            <a:off x="2124000" y="4410000"/>
            <a:ext cx="95400" cy="97200"/>
            <a:chOff x="2124000" y="4410000"/>
            <a:chExt cx="95400" cy="97200"/>
          </a:xfrm>
        </p:grpSpPr>
        <p:sp>
          <p:nvSpPr>
            <p:cNvPr id="8025" name=""/>
            <p:cNvSpPr/>
            <p:nvPr/>
          </p:nvSpPr>
          <p:spPr>
            <a:xfrm>
              <a:off x="2124000" y="4410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2124000" y="4506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2171880" y="4410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2124000" y="44100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9" name=""/>
          <p:cNvGrpSpPr/>
          <p:nvPr/>
        </p:nvGrpSpPr>
        <p:grpSpPr>
          <a:xfrm>
            <a:off x="3495240" y="3952080"/>
            <a:ext cx="95400" cy="97200"/>
            <a:chOff x="3495240" y="3952080"/>
            <a:chExt cx="95400" cy="97200"/>
          </a:xfrm>
        </p:grpSpPr>
        <p:sp>
          <p:nvSpPr>
            <p:cNvPr id="8030" name=""/>
            <p:cNvSpPr/>
            <p:nvPr/>
          </p:nvSpPr>
          <p:spPr>
            <a:xfrm rot="10800000">
              <a:off x="3495240" y="4048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1" name=""/>
            <p:cNvSpPr/>
            <p:nvPr/>
          </p:nvSpPr>
          <p:spPr>
            <a:xfrm rot="10800000">
              <a:off x="3495240" y="3952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2" name=""/>
            <p:cNvSpPr/>
            <p:nvPr/>
          </p:nvSpPr>
          <p:spPr>
            <a:xfrm rot="10800000">
              <a:off x="3495240" y="39524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3" name=""/>
            <p:cNvSpPr/>
            <p:nvPr/>
          </p:nvSpPr>
          <p:spPr>
            <a:xfrm rot="10800000">
              <a:off x="3542760" y="39524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4" name=""/>
          <p:cNvGrpSpPr/>
          <p:nvPr/>
        </p:nvGrpSpPr>
        <p:grpSpPr>
          <a:xfrm>
            <a:off x="2809800" y="4389480"/>
            <a:ext cx="95400" cy="97200"/>
            <a:chOff x="2809800" y="4389480"/>
            <a:chExt cx="95400" cy="97200"/>
          </a:xfrm>
        </p:grpSpPr>
        <p:sp>
          <p:nvSpPr>
            <p:cNvPr id="8035" name=""/>
            <p:cNvSpPr/>
            <p:nvPr/>
          </p:nvSpPr>
          <p:spPr>
            <a:xfrm>
              <a:off x="2809800" y="4389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2809800" y="4486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2857680" y="4389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2809800" y="4389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9" name=""/>
          <p:cNvGrpSpPr/>
          <p:nvPr/>
        </p:nvGrpSpPr>
        <p:grpSpPr>
          <a:xfrm>
            <a:off x="2579760" y="4640400"/>
            <a:ext cx="97200" cy="95040"/>
            <a:chOff x="2579760" y="4640400"/>
            <a:chExt cx="97200" cy="95040"/>
          </a:xfrm>
        </p:grpSpPr>
        <p:sp>
          <p:nvSpPr>
            <p:cNvPr id="8040" name=""/>
            <p:cNvSpPr/>
            <p:nvPr/>
          </p:nvSpPr>
          <p:spPr>
            <a:xfrm rot="16200000">
              <a:off x="2532240" y="4687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1" name=""/>
            <p:cNvSpPr/>
            <p:nvPr/>
          </p:nvSpPr>
          <p:spPr>
            <a:xfrm rot="16200000">
              <a:off x="2629080" y="4687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2" name=""/>
            <p:cNvSpPr/>
            <p:nvPr/>
          </p:nvSpPr>
          <p:spPr>
            <a:xfrm rot="16200000">
              <a:off x="2604600" y="4615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3" name=""/>
            <p:cNvSpPr/>
            <p:nvPr/>
          </p:nvSpPr>
          <p:spPr>
            <a:xfrm rot="16200000">
              <a:off x="2604240" y="46630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4" name=""/>
          <p:cNvGrpSpPr/>
          <p:nvPr/>
        </p:nvGrpSpPr>
        <p:grpSpPr>
          <a:xfrm>
            <a:off x="3267000" y="4410000"/>
            <a:ext cx="95400" cy="97200"/>
            <a:chOff x="3267000" y="4410000"/>
            <a:chExt cx="95400" cy="97200"/>
          </a:xfrm>
        </p:grpSpPr>
        <p:sp>
          <p:nvSpPr>
            <p:cNvPr id="8045" name=""/>
            <p:cNvSpPr/>
            <p:nvPr/>
          </p:nvSpPr>
          <p:spPr>
            <a:xfrm>
              <a:off x="3267000" y="44100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3267000" y="4506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314880" y="4410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267000" y="44100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9" name=""/>
          <p:cNvGrpSpPr/>
          <p:nvPr/>
        </p:nvGrpSpPr>
        <p:grpSpPr>
          <a:xfrm>
            <a:off x="3035160" y="4565160"/>
            <a:ext cx="93960" cy="88920"/>
            <a:chOff x="3035160" y="4565160"/>
            <a:chExt cx="93960" cy="88920"/>
          </a:xfrm>
        </p:grpSpPr>
        <p:sp>
          <p:nvSpPr>
            <p:cNvPr id="8050" name=""/>
            <p:cNvSpPr/>
            <p:nvPr/>
          </p:nvSpPr>
          <p:spPr>
            <a:xfrm rot="16200000">
              <a:off x="2999880" y="4600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1" name=""/>
            <p:cNvSpPr/>
            <p:nvPr/>
          </p:nvSpPr>
          <p:spPr>
            <a:xfrm rot="16200000">
              <a:off x="3075120" y="4600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2" name=""/>
            <p:cNvSpPr/>
            <p:nvPr/>
          </p:nvSpPr>
          <p:spPr>
            <a:xfrm rot="16200000">
              <a:off x="3060000" y="4540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3" name=""/>
            <p:cNvSpPr/>
            <p:nvPr/>
          </p:nvSpPr>
          <p:spPr>
            <a:xfrm rot="16200000">
              <a:off x="3060000" y="4584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4" name=""/>
          <p:cNvGrpSpPr/>
          <p:nvPr/>
        </p:nvGrpSpPr>
        <p:grpSpPr>
          <a:xfrm>
            <a:off x="3038400" y="4334040"/>
            <a:ext cx="88920" cy="93600"/>
            <a:chOff x="3038400" y="4334040"/>
            <a:chExt cx="88920" cy="93600"/>
          </a:xfrm>
        </p:grpSpPr>
        <p:sp>
          <p:nvSpPr>
            <p:cNvPr id="8055" name=""/>
            <p:cNvSpPr/>
            <p:nvPr/>
          </p:nvSpPr>
          <p:spPr>
            <a:xfrm>
              <a:off x="3038400" y="4334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038400" y="4408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082680" y="4334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038400" y="4334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9" name=""/>
          <p:cNvGrpSpPr/>
          <p:nvPr/>
        </p:nvGrpSpPr>
        <p:grpSpPr>
          <a:xfrm>
            <a:off x="3038400" y="3952800"/>
            <a:ext cx="88920" cy="93600"/>
            <a:chOff x="3038400" y="3952800"/>
            <a:chExt cx="88920" cy="93600"/>
          </a:xfrm>
        </p:grpSpPr>
        <p:sp>
          <p:nvSpPr>
            <p:cNvPr id="8060" name=""/>
            <p:cNvSpPr/>
            <p:nvPr/>
          </p:nvSpPr>
          <p:spPr>
            <a:xfrm>
              <a:off x="3038400" y="3952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038400" y="4027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3082680" y="3952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038400" y="3952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4" name=""/>
          <p:cNvGrpSpPr/>
          <p:nvPr/>
        </p:nvGrpSpPr>
        <p:grpSpPr>
          <a:xfrm>
            <a:off x="3492360" y="4336560"/>
            <a:ext cx="93960" cy="88920"/>
            <a:chOff x="3492360" y="4336560"/>
            <a:chExt cx="93960" cy="88920"/>
          </a:xfrm>
        </p:grpSpPr>
        <p:sp>
          <p:nvSpPr>
            <p:cNvPr id="8065" name=""/>
            <p:cNvSpPr/>
            <p:nvPr/>
          </p:nvSpPr>
          <p:spPr>
            <a:xfrm rot="16200000">
              <a:off x="3457080" y="4371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6" name=""/>
            <p:cNvSpPr/>
            <p:nvPr/>
          </p:nvSpPr>
          <p:spPr>
            <a:xfrm rot="16200000">
              <a:off x="3532320" y="4371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7" name=""/>
            <p:cNvSpPr/>
            <p:nvPr/>
          </p:nvSpPr>
          <p:spPr>
            <a:xfrm rot="16200000">
              <a:off x="3517200" y="4312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8" name=""/>
            <p:cNvSpPr/>
            <p:nvPr/>
          </p:nvSpPr>
          <p:spPr>
            <a:xfrm rot="16200000">
              <a:off x="3517200" y="4356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9" name=""/>
          <p:cNvGrpSpPr/>
          <p:nvPr/>
        </p:nvGrpSpPr>
        <p:grpSpPr>
          <a:xfrm>
            <a:off x="4257720" y="4410000"/>
            <a:ext cx="88920" cy="93600"/>
            <a:chOff x="4257720" y="4410000"/>
            <a:chExt cx="88920" cy="93600"/>
          </a:xfrm>
        </p:grpSpPr>
        <p:sp>
          <p:nvSpPr>
            <p:cNvPr id="8070" name=""/>
            <p:cNvSpPr/>
            <p:nvPr/>
          </p:nvSpPr>
          <p:spPr>
            <a:xfrm>
              <a:off x="4257720" y="4410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4257720" y="4484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4302000" y="441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4257720" y="441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4" name=""/>
          <p:cNvGrpSpPr/>
          <p:nvPr/>
        </p:nvGrpSpPr>
        <p:grpSpPr>
          <a:xfrm>
            <a:off x="4191120" y="4210200"/>
            <a:ext cx="88920" cy="93600"/>
            <a:chOff x="4191120" y="4210200"/>
            <a:chExt cx="88920" cy="93600"/>
          </a:xfrm>
        </p:grpSpPr>
        <p:sp>
          <p:nvSpPr>
            <p:cNvPr id="8075" name=""/>
            <p:cNvSpPr/>
            <p:nvPr/>
          </p:nvSpPr>
          <p:spPr>
            <a:xfrm>
              <a:off x="4191120" y="4210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4191120" y="4285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4235400" y="421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4191120" y="4210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9" name=""/>
          <p:cNvGrpSpPr/>
          <p:nvPr/>
        </p:nvGrpSpPr>
        <p:grpSpPr>
          <a:xfrm>
            <a:off x="3981600" y="4400640"/>
            <a:ext cx="88920" cy="93600"/>
            <a:chOff x="3981600" y="4400640"/>
            <a:chExt cx="88920" cy="93600"/>
          </a:xfrm>
        </p:grpSpPr>
        <p:sp>
          <p:nvSpPr>
            <p:cNvPr id="8080" name=""/>
            <p:cNvSpPr/>
            <p:nvPr/>
          </p:nvSpPr>
          <p:spPr>
            <a:xfrm>
              <a:off x="3981600" y="4400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3981600" y="44755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4025880" y="440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3981600" y="4400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4" name=""/>
          <p:cNvGrpSpPr/>
          <p:nvPr/>
        </p:nvGrpSpPr>
        <p:grpSpPr>
          <a:xfrm>
            <a:off x="2577960" y="3955680"/>
            <a:ext cx="93960" cy="88920"/>
            <a:chOff x="2577960" y="3955680"/>
            <a:chExt cx="93960" cy="88920"/>
          </a:xfrm>
        </p:grpSpPr>
        <p:sp>
          <p:nvSpPr>
            <p:cNvPr id="8085" name=""/>
            <p:cNvSpPr/>
            <p:nvPr/>
          </p:nvSpPr>
          <p:spPr>
            <a:xfrm rot="16200000">
              <a:off x="2542680" y="3990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6" name=""/>
            <p:cNvSpPr/>
            <p:nvPr/>
          </p:nvSpPr>
          <p:spPr>
            <a:xfrm rot="16200000">
              <a:off x="2617920" y="3990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7" name=""/>
            <p:cNvSpPr/>
            <p:nvPr/>
          </p:nvSpPr>
          <p:spPr>
            <a:xfrm rot="16200000">
              <a:off x="2602800" y="393120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8" name=""/>
            <p:cNvSpPr/>
            <p:nvPr/>
          </p:nvSpPr>
          <p:spPr>
            <a:xfrm rot="16200000">
              <a:off x="2602800" y="3975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9" name=""/>
          <p:cNvGrpSpPr/>
          <p:nvPr/>
        </p:nvGrpSpPr>
        <p:grpSpPr>
          <a:xfrm>
            <a:off x="2581200" y="4181400"/>
            <a:ext cx="88920" cy="93600"/>
            <a:chOff x="2581200" y="4181400"/>
            <a:chExt cx="88920" cy="93600"/>
          </a:xfrm>
        </p:grpSpPr>
        <p:sp>
          <p:nvSpPr>
            <p:cNvPr id="8090" name=""/>
            <p:cNvSpPr/>
            <p:nvPr/>
          </p:nvSpPr>
          <p:spPr>
            <a:xfrm>
              <a:off x="2581200" y="4181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2581200" y="4256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2625480" y="4181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2581200" y="4181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4" name=""/>
          <p:cNvGrpSpPr/>
          <p:nvPr/>
        </p:nvGrpSpPr>
        <p:grpSpPr>
          <a:xfrm>
            <a:off x="1895400" y="4181400"/>
            <a:ext cx="88920" cy="93600"/>
            <a:chOff x="1895400" y="4181400"/>
            <a:chExt cx="88920" cy="93600"/>
          </a:xfrm>
        </p:grpSpPr>
        <p:sp>
          <p:nvSpPr>
            <p:cNvPr id="8095" name=""/>
            <p:cNvSpPr/>
            <p:nvPr/>
          </p:nvSpPr>
          <p:spPr>
            <a:xfrm>
              <a:off x="1895400" y="4181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1895400" y="4256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1939680" y="4181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1895400" y="4181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9" name=""/>
          <p:cNvGrpSpPr/>
          <p:nvPr/>
        </p:nvGrpSpPr>
        <p:grpSpPr>
          <a:xfrm>
            <a:off x="1724040" y="4172040"/>
            <a:ext cx="88920" cy="93600"/>
            <a:chOff x="1724040" y="4172040"/>
            <a:chExt cx="88920" cy="93600"/>
          </a:xfrm>
        </p:grpSpPr>
        <p:sp>
          <p:nvSpPr>
            <p:cNvPr id="8100" name=""/>
            <p:cNvSpPr/>
            <p:nvPr/>
          </p:nvSpPr>
          <p:spPr>
            <a:xfrm>
              <a:off x="1724040" y="4172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1724040" y="4246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1768320" y="4172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1724040" y="4172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4" name=""/>
          <p:cNvGrpSpPr/>
          <p:nvPr/>
        </p:nvGrpSpPr>
        <p:grpSpPr>
          <a:xfrm>
            <a:off x="1663560" y="4412880"/>
            <a:ext cx="93960" cy="88920"/>
            <a:chOff x="1663560" y="4412880"/>
            <a:chExt cx="93960" cy="88920"/>
          </a:xfrm>
        </p:grpSpPr>
        <p:sp>
          <p:nvSpPr>
            <p:cNvPr id="8105" name=""/>
            <p:cNvSpPr/>
            <p:nvPr/>
          </p:nvSpPr>
          <p:spPr>
            <a:xfrm rot="16200000">
              <a:off x="1628280" y="4447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6" name=""/>
            <p:cNvSpPr/>
            <p:nvPr/>
          </p:nvSpPr>
          <p:spPr>
            <a:xfrm rot="16200000">
              <a:off x="1703520" y="4447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7" name=""/>
            <p:cNvSpPr/>
            <p:nvPr/>
          </p:nvSpPr>
          <p:spPr>
            <a:xfrm rot="16200000">
              <a:off x="1688400" y="438840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8" name=""/>
            <p:cNvSpPr/>
            <p:nvPr/>
          </p:nvSpPr>
          <p:spPr>
            <a:xfrm rot="16200000">
              <a:off x="1688400" y="4432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9" name=""/>
          <p:cNvGrpSpPr/>
          <p:nvPr/>
        </p:nvGrpSpPr>
        <p:grpSpPr>
          <a:xfrm>
            <a:off x="2124000" y="4181040"/>
            <a:ext cx="149760" cy="74520"/>
            <a:chOff x="2124000" y="4181040"/>
            <a:chExt cx="149760" cy="74520"/>
          </a:xfrm>
        </p:grpSpPr>
        <p:sp>
          <p:nvSpPr>
            <p:cNvPr id="8110" name=""/>
            <p:cNvSpPr/>
            <p:nvPr/>
          </p:nvSpPr>
          <p:spPr>
            <a:xfrm rot="16200000">
              <a:off x="2086920" y="42181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1" name=""/>
            <p:cNvSpPr/>
            <p:nvPr/>
          </p:nvSpPr>
          <p:spPr>
            <a:xfrm rot="16200000">
              <a:off x="2236320" y="42181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2" name=""/>
            <p:cNvSpPr/>
            <p:nvPr/>
          </p:nvSpPr>
          <p:spPr>
            <a:xfrm rot="16200000">
              <a:off x="2179800" y="41248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3" name=""/>
            <p:cNvSpPr/>
            <p:nvPr/>
          </p:nvSpPr>
          <p:spPr>
            <a:xfrm rot="16200000">
              <a:off x="2180160" y="41623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4" name=""/>
          <p:cNvGrpSpPr/>
          <p:nvPr/>
        </p:nvGrpSpPr>
        <p:grpSpPr>
          <a:xfrm>
            <a:off x="1895400" y="3952440"/>
            <a:ext cx="149760" cy="74520"/>
            <a:chOff x="1895400" y="3952440"/>
            <a:chExt cx="149760" cy="74520"/>
          </a:xfrm>
        </p:grpSpPr>
        <p:sp>
          <p:nvSpPr>
            <p:cNvPr id="8115" name=""/>
            <p:cNvSpPr/>
            <p:nvPr/>
          </p:nvSpPr>
          <p:spPr>
            <a:xfrm rot="16200000">
              <a:off x="1858320" y="3989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6" name=""/>
            <p:cNvSpPr/>
            <p:nvPr/>
          </p:nvSpPr>
          <p:spPr>
            <a:xfrm rot="16200000">
              <a:off x="2007720" y="3989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7" name=""/>
            <p:cNvSpPr/>
            <p:nvPr/>
          </p:nvSpPr>
          <p:spPr>
            <a:xfrm rot="16200000">
              <a:off x="1951200" y="38962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8" name=""/>
            <p:cNvSpPr/>
            <p:nvPr/>
          </p:nvSpPr>
          <p:spPr>
            <a:xfrm rot="16200000">
              <a:off x="1951560" y="39337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9" name=""/>
          <p:cNvGrpSpPr/>
          <p:nvPr/>
        </p:nvGrpSpPr>
        <p:grpSpPr>
          <a:xfrm>
            <a:off x="2733840" y="3723840"/>
            <a:ext cx="149400" cy="74520"/>
            <a:chOff x="2733840" y="3723840"/>
            <a:chExt cx="149400" cy="74520"/>
          </a:xfrm>
        </p:grpSpPr>
        <p:sp>
          <p:nvSpPr>
            <p:cNvPr id="8120" name=""/>
            <p:cNvSpPr/>
            <p:nvPr/>
          </p:nvSpPr>
          <p:spPr>
            <a:xfrm rot="16200000">
              <a:off x="2696760" y="3760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1" name=""/>
            <p:cNvSpPr/>
            <p:nvPr/>
          </p:nvSpPr>
          <p:spPr>
            <a:xfrm rot="16200000">
              <a:off x="2845800" y="3760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2" name=""/>
            <p:cNvSpPr/>
            <p:nvPr/>
          </p:nvSpPr>
          <p:spPr>
            <a:xfrm rot="16200000">
              <a:off x="2789640" y="36680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3" name=""/>
            <p:cNvSpPr/>
            <p:nvPr/>
          </p:nvSpPr>
          <p:spPr>
            <a:xfrm rot="16200000">
              <a:off x="2789640" y="37051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4" name=""/>
          <p:cNvGrpSpPr/>
          <p:nvPr/>
        </p:nvGrpSpPr>
        <p:grpSpPr>
          <a:xfrm>
            <a:off x="4152600" y="3924000"/>
            <a:ext cx="74520" cy="152280"/>
            <a:chOff x="4152600" y="3924000"/>
            <a:chExt cx="74520" cy="152280"/>
          </a:xfrm>
        </p:grpSpPr>
        <p:sp>
          <p:nvSpPr>
            <p:cNvPr id="8125" name=""/>
            <p:cNvSpPr/>
            <p:nvPr/>
          </p:nvSpPr>
          <p:spPr>
            <a:xfrm rot="10800000">
              <a:off x="4152600" y="40460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6" name=""/>
            <p:cNvSpPr/>
            <p:nvPr/>
          </p:nvSpPr>
          <p:spPr>
            <a:xfrm rot="10800000">
              <a:off x="4152600" y="39240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7" name=""/>
            <p:cNvSpPr/>
            <p:nvPr/>
          </p:nvSpPr>
          <p:spPr>
            <a:xfrm rot="10800000">
              <a:off x="4152960" y="3924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8" name=""/>
            <p:cNvSpPr/>
            <p:nvPr/>
          </p:nvSpPr>
          <p:spPr>
            <a:xfrm rot="10800000">
              <a:off x="4190040" y="39240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9" name=""/>
          <p:cNvGrpSpPr/>
          <p:nvPr/>
        </p:nvGrpSpPr>
        <p:grpSpPr>
          <a:xfrm>
            <a:off x="3687480" y="4122720"/>
            <a:ext cx="174600" cy="176400"/>
            <a:chOff x="3687480" y="4122720"/>
            <a:chExt cx="174600" cy="176400"/>
          </a:xfrm>
        </p:grpSpPr>
        <p:sp>
          <p:nvSpPr>
            <p:cNvPr id="8130" name=""/>
            <p:cNvSpPr/>
            <p:nvPr/>
          </p:nvSpPr>
          <p:spPr>
            <a:xfrm rot="5400000">
              <a:off x="3799080" y="416052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1" name=""/>
            <p:cNvSpPr/>
            <p:nvPr/>
          </p:nvSpPr>
          <p:spPr>
            <a:xfrm rot="5400000">
              <a:off x="3774600" y="413604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2" name=""/>
            <p:cNvSpPr/>
            <p:nvPr/>
          </p:nvSpPr>
          <p:spPr>
            <a:xfrm rot="5400000">
              <a:off x="3749400" y="40604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3" name=""/>
            <p:cNvSpPr/>
            <p:nvPr/>
          </p:nvSpPr>
          <p:spPr>
            <a:xfrm rot="5400000">
              <a:off x="3724920" y="423648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4" name=""/>
            <p:cNvSpPr/>
            <p:nvPr/>
          </p:nvSpPr>
          <p:spPr>
            <a:xfrm rot="5400000">
              <a:off x="3699720" y="421128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5" name=""/>
            <p:cNvSpPr/>
            <p:nvPr/>
          </p:nvSpPr>
          <p:spPr>
            <a:xfrm rot="5400000">
              <a:off x="3624120" y="4185720"/>
              <a:ext cx="17640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6" name=""/>
          <p:cNvGrpSpPr/>
          <p:nvPr/>
        </p:nvGrpSpPr>
        <p:grpSpPr>
          <a:xfrm>
            <a:off x="2733480" y="4562640"/>
            <a:ext cx="174600" cy="176040"/>
            <a:chOff x="2733480" y="4562640"/>
            <a:chExt cx="174600" cy="176040"/>
          </a:xfrm>
        </p:grpSpPr>
        <p:sp>
          <p:nvSpPr>
            <p:cNvPr id="8137" name=""/>
            <p:cNvSpPr/>
            <p:nvPr/>
          </p:nvSpPr>
          <p:spPr>
            <a:xfrm rot="5400000">
              <a:off x="2845440" y="46004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8" name=""/>
            <p:cNvSpPr/>
            <p:nvPr/>
          </p:nvSpPr>
          <p:spPr>
            <a:xfrm rot="5400000">
              <a:off x="2820600" y="45756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9" name=""/>
            <p:cNvSpPr/>
            <p:nvPr/>
          </p:nvSpPr>
          <p:spPr>
            <a:xfrm rot="5400000">
              <a:off x="2795400" y="450036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0" name=""/>
            <p:cNvSpPr/>
            <p:nvPr/>
          </p:nvSpPr>
          <p:spPr>
            <a:xfrm rot="5400000">
              <a:off x="2770920" y="467604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1" name=""/>
            <p:cNvSpPr/>
            <p:nvPr/>
          </p:nvSpPr>
          <p:spPr>
            <a:xfrm rot="5400000">
              <a:off x="2745720" y="46508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2" name=""/>
            <p:cNvSpPr/>
            <p:nvPr/>
          </p:nvSpPr>
          <p:spPr>
            <a:xfrm rot="5400000">
              <a:off x="2670480" y="46256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3" name=""/>
          <p:cNvGrpSpPr/>
          <p:nvPr/>
        </p:nvGrpSpPr>
        <p:grpSpPr>
          <a:xfrm>
            <a:off x="2351160" y="4106880"/>
            <a:ext cx="176040" cy="174600"/>
            <a:chOff x="2351160" y="4106880"/>
            <a:chExt cx="176040" cy="174600"/>
          </a:xfrm>
        </p:grpSpPr>
        <p:sp>
          <p:nvSpPr>
            <p:cNvPr id="8144" name=""/>
            <p:cNvSpPr/>
            <p:nvPr/>
          </p:nvSpPr>
          <p:spPr>
            <a:xfrm>
              <a:off x="2351160" y="410688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2401560" y="410688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2351160" y="41068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2502000" y="4181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2401560" y="418140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2351160" y="42314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0" name=""/>
          <p:cNvGrpSpPr/>
          <p:nvPr/>
        </p:nvGrpSpPr>
        <p:grpSpPr>
          <a:xfrm>
            <a:off x="1871640" y="4333680"/>
            <a:ext cx="176400" cy="174600"/>
            <a:chOff x="1871640" y="4333680"/>
            <a:chExt cx="176400" cy="174600"/>
          </a:xfrm>
        </p:grpSpPr>
        <p:sp>
          <p:nvSpPr>
            <p:cNvPr id="8151" name=""/>
            <p:cNvSpPr/>
            <p:nvPr/>
          </p:nvSpPr>
          <p:spPr>
            <a:xfrm rot="10800000">
              <a:off x="1947240" y="448344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2" name=""/>
            <p:cNvSpPr/>
            <p:nvPr/>
          </p:nvSpPr>
          <p:spPr>
            <a:xfrm rot="10800000">
              <a:off x="1947240" y="438372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3" name=""/>
            <p:cNvSpPr/>
            <p:nvPr/>
          </p:nvSpPr>
          <p:spPr>
            <a:xfrm rot="10800000">
              <a:off x="1997640" y="433368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4" name=""/>
            <p:cNvSpPr/>
            <p:nvPr/>
          </p:nvSpPr>
          <p:spPr>
            <a:xfrm rot="10800000">
              <a:off x="1871640" y="433368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5" name=""/>
            <p:cNvSpPr/>
            <p:nvPr/>
          </p:nvSpPr>
          <p:spPr>
            <a:xfrm rot="10800000">
              <a:off x="1871640" y="438408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6" name=""/>
            <p:cNvSpPr/>
            <p:nvPr/>
          </p:nvSpPr>
          <p:spPr>
            <a:xfrm rot="10800000">
              <a:off x="1871640" y="4333680"/>
              <a:ext cx="17640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7" name=""/>
          <p:cNvGrpSpPr/>
          <p:nvPr/>
        </p:nvGrpSpPr>
        <p:grpSpPr>
          <a:xfrm>
            <a:off x="3267000" y="4105080"/>
            <a:ext cx="152640" cy="152280"/>
            <a:chOff x="3267000" y="4105080"/>
            <a:chExt cx="152640" cy="152280"/>
          </a:xfrm>
        </p:grpSpPr>
        <p:sp>
          <p:nvSpPr>
            <p:cNvPr id="8158" name=""/>
            <p:cNvSpPr/>
            <p:nvPr/>
          </p:nvSpPr>
          <p:spPr>
            <a:xfrm rot="16200000">
              <a:off x="3205800" y="41659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9" name=""/>
            <p:cNvSpPr/>
            <p:nvPr/>
          </p:nvSpPr>
          <p:spPr>
            <a:xfrm rot="16200000">
              <a:off x="3328200" y="416592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0" name=""/>
            <p:cNvSpPr/>
            <p:nvPr/>
          </p:nvSpPr>
          <p:spPr>
            <a:xfrm rot="16200000">
              <a:off x="3305160" y="406692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1" name=""/>
            <p:cNvSpPr/>
            <p:nvPr/>
          </p:nvSpPr>
          <p:spPr>
            <a:xfrm rot="16200000">
              <a:off x="3305160" y="414288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2" name=""/>
          <p:cNvGrpSpPr/>
          <p:nvPr/>
        </p:nvGrpSpPr>
        <p:grpSpPr>
          <a:xfrm>
            <a:off x="3705120" y="3895560"/>
            <a:ext cx="152640" cy="152640"/>
            <a:chOff x="3705120" y="3895560"/>
            <a:chExt cx="152640" cy="152640"/>
          </a:xfrm>
        </p:grpSpPr>
        <p:sp>
          <p:nvSpPr>
            <p:cNvPr id="8163" name=""/>
            <p:cNvSpPr/>
            <p:nvPr/>
          </p:nvSpPr>
          <p:spPr>
            <a:xfrm rot="10800000">
              <a:off x="3705120" y="401796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4" name=""/>
            <p:cNvSpPr/>
            <p:nvPr/>
          </p:nvSpPr>
          <p:spPr>
            <a:xfrm rot="10800000">
              <a:off x="3705120" y="389556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5" name=""/>
            <p:cNvSpPr/>
            <p:nvPr/>
          </p:nvSpPr>
          <p:spPr>
            <a:xfrm rot="10800000">
              <a:off x="3705120" y="389556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6" name=""/>
            <p:cNvSpPr/>
            <p:nvPr/>
          </p:nvSpPr>
          <p:spPr>
            <a:xfrm rot="10800000">
              <a:off x="3781440" y="389556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7" name=""/>
          <p:cNvGrpSpPr/>
          <p:nvPr/>
        </p:nvGrpSpPr>
        <p:grpSpPr>
          <a:xfrm>
            <a:off x="2733480" y="4105080"/>
            <a:ext cx="152280" cy="152280"/>
            <a:chOff x="2733480" y="4105080"/>
            <a:chExt cx="152280" cy="152280"/>
          </a:xfrm>
        </p:grpSpPr>
        <p:sp>
          <p:nvSpPr>
            <p:cNvPr id="8168" name=""/>
            <p:cNvSpPr/>
            <p:nvPr/>
          </p:nvSpPr>
          <p:spPr>
            <a:xfrm rot="10800000">
              <a:off x="2733480" y="42271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9" name=""/>
            <p:cNvSpPr/>
            <p:nvPr/>
          </p:nvSpPr>
          <p:spPr>
            <a:xfrm rot="10800000">
              <a:off x="2733480" y="41050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0" name=""/>
            <p:cNvSpPr/>
            <p:nvPr/>
          </p:nvSpPr>
          <p:spPr>
            <a:xfrm rot="10800000">
              <a:off x="2733840" y="41050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1" name=""/>
            <p:cNvSpPr/>
            <p:nvPr/>
          </p:nvSpPr>
          <p:spPr>
            <a:xfrm rot="10800000">
              <a:off x="2809800" y="41050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2" name=""/>
          <p:cNvGrpSpPr/>
          <p:nvPr/>
        </p:nvGrpSpPr>
        <p:grpSpPr>
          <a:xfrm>
            <a:off x="2733480" y="3876480"/>
            <a:ext cx="152280" cy="152280"/>
            <a:chOff x="2733480" y="3876480"/>
            <a:chExt cx="152280" cy="152280"/>
          </a:xfrm>
        </p:grpSpPr>
        <p:sp>
          <p:nvSpPr>
            <p:cNvPr id="8173" name=""/>
            <p:cNvSpPr/>
            <p:nvPr/>
          </p:nvSpPr>
          <p:spPr>
            <a:xfrm rot="10800000">
              <a:off x="2733480" y="399852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4" name=""/>
            <p:cNvSpPr/>
            <p:nvPr/>
          </p:nvSpPr>
          <p:spPr>
            <a:xfrm rot="10800000">
              <a:off x="2733480" y="3876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5" name=""/>
            <p:cNvSpPr/>
            <p:nvPr/>
          </p:nvSpPr>
          <p:spPr>
            <a:xfrm rot="10800000">
              <a:off x="2733840" y="38764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6" name=""/>
            <p:cNvSpPr/>
            <p:nvPr/>
          </p:nvSpPr>
          <p:spPr>
            <a:xfrm rot="10800000">
              <a:off x="2809800" y="38764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7" name=""/>
          <p:cNvGrpSpPr/>
          <p:nvPr/>
        </p:nvGrpSpPr>
        <p:grpSpPr>
          <a:xfrm>
            <a:off x="2581200" y="4334040"/>
            <a:ext cx="152640" cy="152280"/>
            <a:chOff x="2581200" y="4334040"/>
            <a:chExt cx="152640" cy="152280"/>
          </a:xfrm>
        </p:grpSpPr>
        <p:sp>
          <p:nvSpPr>
            <p:cNvPr id="8178" name=""/>
            <p:cNvSpPr/>
            <p:nvPr/>
          </p:nvSpPr>
          <p:spPr>
            <a:xfrm rot="5400000">
              <a:off x="2642400" y="4394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9" name=""/>
            <p:cNvSpPr/>
            <p:nvPr/>
          </p:nvSpPr>
          <p:spPr>
            <a:xfrm rot="5400000">
              <a:off x="2520360" y="43948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0" name=""/>
            <p:cNvSpPr/>
            <p:nvPr/>
          </p:nvSpPr>
          <p:spPr>
            <a:xfrm rot="5400000">
              <a:off x="2619360" y="437148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1" name=""/>
            <p:cNvSpPr/>
            <p:nvPr/>
          </p:nvSpPr>
          <p:spPr>
            <a:xfrm rot="5400000">
              <a:off x="2619360" y="429552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2" name=""/>
          <p:cNvGrpSpPr/>
          <p:nvPr/>
        </p:nvGrpSpPr>
        <p:grpSpPr>
          <a:xfrm>
            <a:off x="2330280" y="4560840"/>
            <a:ext cx="174960" cy="176400"/>
            <a:chOff x="2330280" y="4560840"/>
            <a:chExt cx="174960" cy="176400"/>
          </a:xfrm>
        </p:grpSpPr>
        <p:sp>
          <p:nvSpPr>
            <p:cNvPr id="8183" name=""/>
            <p:cNvSpPr/>
            <p:nvPr/>
          </p:nvSpPr>
          <p:spPr>
            <a:xfrm rot="16200000">
              <a:off x="2292120" y="467424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4" name=""/>
            <p:cNvSpPr/>
            <p:nvPr/>
          </p:nvSpPr>
          <p:spPr>
            <a:xfrm rot="16200000">
              <a:off x="2367360" y="459936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5" name=""/>
            <p:cNvSpPr/>
            <p:nvPr/>
          </p:nvSpPr>
          <p:spPr>
            <a:xfrm rot="16200000">
              <a:off x="2392560" y="4624560"/>
              <a:ext cx="50400" cy="17496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6" name=""/>
            <p:cNvSpPr/>
            <p:nvPr/>
          </p:nvSpPr>
          <p:spPr>
            <a:xfrm rot="16200000">
              <a:off x="2442600" y="4523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7" name=""/>
            <p:cNvSpPr/>
            <p:nvPr/>
          </p:nvSpPr>
          <p:spPr>
            <a:xfrm rot="16200000">
              <a:off x="2367000" y="459900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8" name=""/>
            <p:cNvSpPr/>
            <p:nvPr/>
          </p:nvSpPr>
          <p:spPr>
            <a:xfrm rot="16200000">
              <a:off x="2391840" y="4623840"/>
              <a:ext cx="176400" cy="504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9" name=""/>
          <p:cNvGrpSpPr/>
          <p:nvPr/>
        </p:nvGrpSpPr>
        <p:grpSpPr>
          <a:xfrm>
            <a:off x="6059520" y="3683880"/>
            <a:ext cx="95040" cy="97200"/>
            <a:chOff x="6059520" y="3683880"/>
            <a:chExt cx="95040" cy="97200"/>
          </a:xfrm>
        </p:grpSpPr>
        <p:sp>
          <p:nvSpPr>
            <p:cNvPr id="8190" name=""/>
            <p:cNvSpPr/>
            <p:nvPr/>
          </p:nvSpPr>
          <p:spPr>
            <a:xfrm rot="10800000">
              <a:off x="6059520" y="3780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1" name=""/>
            <p:cNvSpPr/>
            <p:nvPr/>
          </p:nvSpPr>
          <p:spPr>
            <a:xfrm rot="10800000">
              <a:off x="6059520" y="3683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2" name=""/>
            <p:cNvSpPr/>
            <p:nvPr/>
          </p:nvSpPr>
          <p:spPr>
            <a:xfrm rot="10800000">
              <a:off x="6059880" y="3684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3" name=""/>
            <p:cNvSpPr/>
            <p:nvPr/>
          </p:nvSpPr>
          <p:spPr>
            <a:xfrm rot="10800000">
              <a:off x="6107040" y="36842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4" name=""/>
          <p:cNvGrpSpPr/>
          <p:nvPr/>
        </p:nvGrpSpPr>
        <p:grpSpPr>
          <a:xfrm>
            <a:off x="6515280" y="3971520"/>
            <a:ext cx="96840" cy="95400"/>
            <a:chOff x="6515280" y="3971520"/>
            <a:chExt cx="96840" cy="95400"/>
          </a:xfrm>
        </p:grpSpPr>
        <p:sp>
          <p:nvSpPr>
            <p:cNvPr id="8195" name=""/>
            <p:cNvSpPr/>
            <p:nvPr/>
          </p:nvSpPr>
          <p:spPr>
            <a:xfrm rot="16200000">
              <a:off x="6467760" y="4019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6" name=""/>
            <p:cNvSpPr/>
            <p:nvPr/>
          </p:nvSpPr>
          <p:spPr>
            <a:xfrm rot="16200000">
              <a:off x="6564240" y="4019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7" name=""/>
            <p:cNvSpPr/>
            <p:nvPr/>
          </p:nvSpPr>
          <p:spPr>
            <a:xfrm rot="16200000">
              <a:off x="6539760" y="3947040"/>
              <a:ext cx="47520" cy="964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8" name=""/>
            <p:cNvSpPr/>
            <p:nvPr/>
          </p:nvSpPr>
          <p:spPr>
            <a:xfrm rot="16200000">
              <a:off x="6539400" y="3994560"/>
              <a:ext cx="47880" cy="964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9" name=""/>
          <p:cNvGrpSpPr/>
          <p:nvPr/>
        </p:nvGrpSpPr>
        <p:grpSpPr>
          <a:xfrm>
            <a:off x="6200640" y="4162320"/>
            <a:ext cx="150840" cy="152640"/>
            <a:chOff x="6200640" y="4162320"/>
            <a:chExt cx="150840" cy="152640"/>
          </a:xfrm>
        </p:grpSpPr>
        <p:sp>
          <p:nvSpPr>
            <p:cNvPr id="8200" name=""/>
            <p:cNvSpPr/>
            <p:nvPr/>
          </p:nvSpPr>
          <p:spPr>
            <a:xfrm rot="16200000">
              <a:off x="6167520" y="42606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1" name=""/>
            <p:cNvSpPr/>
            <p:nvPr/>
          </p:nvSpPr>
          <p:spPr>
            <a:xfrm rot="16200000">
              <a:off x="6232680" y="41958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2" name=""/>
            <p:cNvSpPr/>
            <p:nvPr/>
          </p:nvSpPr>
          <p:spPr>
            <a:xfrm rot="16200000">
              <a:off x="6254280" y="42177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3" name=""/>
            <p:cNvSpPr/>
            <p:nvPr/>
          </p:nvSpPr>
          <p:spPr>
            <a:xfrm rot="16200000">
              <a:off x="6297480" y="412992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4" name=""/>
            <p:cNvSpPr/>
            <p:nvPr/>
          </p:nvSpPr>
          <p:spPr>
            <a:xfrm rot="16200000">
              <a:off x="6231960" y="419544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5" name=""/>
            <p:cNvSpPr/>
            <p:nvPr/>
          </p:nvSpPr>
          <p:spPr>
            <a:xfrm rot="16200000">
              <a:off x="6253560" y="421704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6" name=""/>
          <p:cNvGrpSpPr/>
          <p:nvPr/>
        </p:nvGrpSpPr>
        <p:grpSpPr>
          <a:xfrm>
            <a:off x="6210000" y="3686040"/>
            <a:ext cx="150840" cy="152640"/>
            <a:chOff x="6210000" y="3686040"/>
            <a:chExt cx="150840" cy="152640"/>
          </a:xfrm>
        </p:grpSpPr>
        <p:sp>
          <p:nvSpPr>
            <p:cNvPr id="8207" name=""/>
            <p:cNvSpPr/>
            <p:nvPr/>
          </p:nvSpPr>
          <p:spPr>
            <a:xfrm rot="5400000">
              <a:off x="6306480" y="37188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8" name=""/>
            <p:cNvSpPr/>
            <p:nvPr/>
          </p:nvSpPr>
          <p:spPr>
            <a:xfrm rot="5400000">
              <a:off x="6285240" y="36975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9" name=""/>
            <p:cNvSpPr/>
            <p:nvPr/>
          </p:nvSpPr>
          <p:spPr>
            <a:xfrm rot="5400000">
              <a:off x="6263640" y="36324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0" name=""/>
            <p:cNvSpPr/>
            <p:nvPr/>
          </p:nvSpPr>
          <p:spPr>
            <a:xfrm rot="5400000">
              <a:off x="6242400" y="37846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1" name=""/>
            <p:cNvSpPr/>
            <p:nvPr/>
          </p:nvSpPr>
          <p:spPr>
            <a:xfrm rot="5400000">
              <a:off x="6220440" y="376272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2" name=""/>
            <p:cNvSpPr/>
            <p:nvPr/>
          </p:nvSpPr>
          <p:spPr>
            <a:xfrm rot="5400000">
              <a:off x="6155280" y="374076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3" name=""/>
          <p:cNvGrpSpPr/>
          <p:nvPr/>
        </p:nvGrpSpPr>
        <p:grpSpPr>
          <a:xfrm>
            <a:off x="5386320" y="3762360"/>
            <a:ext cx="74520" cy="149760"/>
            <a:chOff x="5386320" y="3762360"/>
            <a:chExt cx="74520" cy="149760"/>
          </a:xfrm>
        </p:grpSpPr>
        <p:sp>
          <p:nvSpPr>
            <p:cNvPr id="8214" name=""/>
            <p:cNvSpPr/>
            <p:nvPr/>
          </p:nvSpPr>
          <p:spPr>
            <a:xfrm>
              <a:off x="5386320" y="37623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5386320" y="39117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5423400" y="37623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5386320" y="376236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8" name=""/>
          <p:cNvGrpSpPr/>
          <p:nvPr/>
        </p:nvGrpSpPr>
        <p:grpSpPr>
          <a:xfrm>
            <a:off x="5829480" y="3686040"/>
            <a:ext cx="74520" cy="149760"/>
            <a:chOff x="5829480" y="3686040"/>
            <a:chExt cx="74520" cy="149760"/>
          </a:xfrm>
        </p:grpSpPr>
        <p:sp>
          <p:nvSpPr>
            <p:cNvPr id="8219" name=""/>
            <p:cNvSpPr/>
            <p:nvPr/>
          </p:nvSpPr>
          <p:spPr>
            <a:xfrm>
              <a:off x="5829480" y="368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5829480" y="3835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5866560" y="368604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5829480" y="36860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3" name=""/>
          <p:cNvGrpSpPr/>
          <p:nvPr/>
        </p:nvGrpSpPr>
        <p:grpSpPr>
          <a:xfrm>
            <a:off x="6058080" y="3914640"/>
            <a:ext cx="74520" cy="152640"/>
            <a:chOff x="6058080" y="3914640"/>
            <a:chExt cx="74520" cy="152640"/>
          </a:xfrm>
        </p:grpSpPr>
        <p:sp>
          <p:nvSpPr>
            <p:cNvPr id="8224" name=""/>
            <p:cNvSpPr/>
            <p:nvPr/>
          </p:nvSpPr>
          <p:spPr>
            <a:xfrm>
              <a:off x="6058080" y="39146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6058080" y="40366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6095160" y="39146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6058080" y="39146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8" name=""/>
          <p:cNvGrpSpPr/>
          <p:nvPr/>
        </p:nvGrpSpPr>
        <p:grpSpPr>
          <a:xfrm>
            <a:off x="6210360" y="3914640"/>
            <a:ext cx="74520" cy="152640"/>
            <a:chOff x="6210360" y="3914640"/>
            <a:chExt cx="74520" cy="152640"/>
          </a:xfrm>
        </p:grpSpPr>
        <p:sp>
          <p:nvSpPr>
            <p:cNvPr id="8229" name=""/>
            <p:cNvSpPr/>
            <p:nvPr/>
          </p:nvSpPr>
          <p:spPr>
            <a:xfrm>
              <a:off x="6210360" y="39146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6210360" y="40366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6247440" y="39146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6210360" y="39146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3" name=""/>
          <p:cNvGrpSpPr/>
          <p:nvPr/>
        </p:nvGrpSpPr>
        <p:grpSpPr>
          <a:xfrm>
            <a:off x="5300640" y="4620960"/>
            <a:ext cx="152280" cy="74520"/>
            <a:chOff x="5300640" y="4620960"/>
            <a:chExt cx="152280" cy="74520"/>
          </a:xfrm>
        </p:grpSpPr>
        <p:sp>
          <p:nvSpPr>
            <p:cNvPr id="8234" name=""/>
            <p:cNvSpPr/>
            <p:nvPr/>
          </p:nvSpPr>
          <p:spPr>
            <a:xfrm rot="16200000">
              <a:off x="5278320" y="46429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5" name=""/>
            <p:cNvSpPr/>
            <p:nvPr/>
          </p:nvSpPr>
          <p:spPr>
            <a:xfrm rot="16200000">
              <a:off x="5400360" y="4642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6" name=""/>
            <p:cNvSpPr/>
            <p:nvPr/>
          </p:nvSpPr>
          <p:spPr>
            <a:xfrm rot="16200000">
              <a:off x="5358240" y="4563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7" name=""/>
            <p:cNvSpPr/>
            <p:nvPr/>
          </p:nvSpPr>
          <p:spPr>
            <a:xfrm rot="16200000">
              <a:off x="5358240" y="46008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8" name=""/>
          <p:cNvGrpSpPr/>
          <p:nvPr/>
        </p:nvGrpSpPr>
        <p:grpSpPr>
          <a:xfrm>
            <a:off x="6438960" y="3762000"/>
            <a:ext cx="152640" cy="149400"/>
            <a:chOff x="6438960" y="3762000"/>
            <a:chExt cx="152640" cy="149400"/>
          </a:xfrm>
        </p:grpSpPr>
        <p:sp>
          <p:nvSpPr>
            <p:cNvPr id="8239" name=""/>
            <p:cNvSpPr/>
            <p:nvPr/>
          </p:nvSpPr>
          <p:spPr>
            <a:xfrm rot="16200000">
              <a:off x="6364440" y="38365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0" name=""/>
            <p:cNvSpPr/>
            <p:nvPr/>
          </p:nvSpPr>
          <p:spPr>
            <a:xfrm rot="16200000">
              <a:off x="6516720" y="383652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1" name=""/>
            <p:cNvSpPr/>
            <p:nvPr/>
          </p:nvSpPr>
          <p:spPr>
            <a:xfrm rot="16200000">
              <a:off x="6477840" y="372312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2" name=""/>
            <p:cNvSpPr/>
            <p:nvPr/>
          </p:nvSpPr>
          <p:spPr>
            <a:xfrm rot="16200000">
              <a:off x="6477480" y="379764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3" name=""/>
          <p:cNvGrpSpPr/>
          <p:nvPr/>
        </p:nvGrpSpPr>
        <p:grpSpPr>
          <a:xfrm>
            <a:off x="5962680" y="4571640"/>
            <a:ext cx="152640" cy="149400"/>
            <a:chOff x="5962680" y="4571640"/>
            <a:chExt cx="152640" cy="149400"/>
          </a:xfrm>
        </p:grpSpPr>
        <p:sp>
          <p:nvSpPr>
            <p:cNvPr id="8244" name=""/>
            <p:cNvSpPr/>
            <p:nvPr/>
          </p:nvSpPr>
          <p:spPr>
            <a:xfrm rot="16200000">
              <a:off x="5888160" y="4646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5" name=""/>
            <p:cNvSpPr/>
            <p:nvPr/>
          </p:nvSpPr>
          <p:spPr>
            <a:xfrm rot="16200000">
              <a:off x="6040440" y="4646160"/>
              <a:ext cx="149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6" name=""/>
            <p:cNvSpPr/>
            <p:nvPr/>
          </p:nvSpPr>
          <p:spPr>
            <a:xfrm rot="16200000">
              <a:off x="6001560" y="4532760"/>
              <a:ext cx="74520" cy="1522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7" name=""/>
            <p:cNvSpPr/>
            <p:nvPr/>
          </p:nvSpPr>
          <p:spPr>
            <a:xfrm rot="16200000">
              <a:off x="6001200" y="4607280"/>
              <a:ext cx="74880" cy="1522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8" name=""/>
          <p:cNvGrpSpPr/>
          <p:nvPr/>
        </p:nvGrpSpPr>
        <p:grpSpPr>
          <a:xfrm>
            <a:off x="5562720" y="3714840"/>
            <a:ext cx="152280" cy="152280"/>
            <a:chOff x="5562720" y="3714840"/>
            <a:chExt cx="152280" cy="152280"/>
          </a:xfrm>
        </p:grpSpPr>
        <p:sp>
          <p:nvSpPr>
            <p:cNvPr id="8249" name=""/>
            <p:cNvSpPr/>
            <p:nvPr/>
          </p:nvSpPr>
          <p:spPr>
            <a:xfrm>
              <a:off x="5562720" y="37148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5562720" y="383652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5638680" y="3714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5562720" y="371484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3" name=""/>
          <p:cNvGrpSpPr/>
          <p:nvPr/>
        </p:nvGrpSpPr>
        <p:grpSpPr>
          <a:xfrm>
            <a:off x="6188040" y="903240"/>
            <a:ext cx="219240" cy="219240"/>
            <a:chOff x="6188040" y="903240"/>
            <a:chExt cx="219240" cy="219240"/>
          </a:xfrm>
        </p:grpSpPr>
        <p:sp>
          <p:nvSpPr>
            <p:cNvPr id="8254" name=""/>
            <p:cNvSpPr/>
            <p:nvPr/>
          </p:nvSpPr>
          <p:spPr>
            <a:xfrm>
              <a:off x="6224400" y="939600"/>
              <a:ext cx="36360" cy="1465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342" y="342"/>
                  </a:moveTo>
                  <a:lnTo>
                    <a:pt x="0" y="0"/>
                  </a:lnTo>
                  <a:lnTo>
                    <a:pt x="0" y="1374"/>
                  </a:lnTo>
                  <a:lnTo>
                    <a:pt x="342" y="1032"/>
                  </a:lnTo>
                  <a:lnTo>
                    <a:pt x="342" y="34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6188040" y="903240"/>
              <a:ext cx="36360" cy="21924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0" y="0"/>
                  </a:moveTo>
                  <a:lnTo>
                    <a:pt x="342" y="342"/>
                  </a:lnTo>
                  <a:lnTo>
                    <a:pt x="342" y="1716"/>
                  </a:lnTo>
                  <a:lnTo>
                    <a:pt x="0" y="20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6224400" y="104976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342" y="0"/>
                  </a:moveTo>
                  <a:lnTo>
                    <a:pt x="0" y="342"/>
                  </a:lnTo>
                  <a:lnTo>
                    <a:pt x="1374" y="342"/>
                  </a:lnTo>
                  <a:lnTo>
                    <a:pt x="1032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6188040" y="108612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0" y="342"/>
                  </a:moveTo>
                  <a:lnTo>
                    <a:pt x="342" y="0"/>
                  </a:lnTo>
                  <a:lnTo>
                    <a:pt x="1716" y="0"/>
                  </a:lnTo>
                  <a:lnTo>
                    <a:pt x="2058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6334560" y="939600"/>
              <a:ext cx="36360" cy="146520"/>
            </a:xfrm>
            <a:custGeom>
              <a:avLst/>
              <a:gdLst/>
              <a:ahLst/>
              <a:rect l="l" t="t" r="r" b="b"/>
              <a:pathLst>
                <a:path w="342" h="1374">
                  <a:moveTo>
                    <a:pt x="0" y="1032"/>
                  </a:moveTo>
                  <a:lnTo>
                    <a:pt x="342" y="1374"/>
                  </a:lnTo>
                  <a:lnTo>
                    <a:pt x="342" y="0"/>
                  </a:lnTo>
                  <a:lnTo>
                    <a:pt x="0" y="34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6370920" y="903240"/>
              <a:ext cx="36360" cy="219240"/>
            </a:xfrm>
            <a:custGeom>
              <a:avLst/>
              <a:gdLst/>
              <a:ahLst/>
              <a:rect l="l" t="t" r="r" b="b"/>
              <a:pathLst>
                <a:path w="342" h="2058">
                  <a:moveTo>
                    <a:pt x="342" y="2058"/>
                  </a:moveTo>
                  <a:lnTo>
                    <a:pt x="0" y="1716"/>
                  </a:lnTo>
                  <a:lnTo>
                    <a:pt x="0" y="342"/>
                  </a:lnTo>
                  <a:lnTo>
                    <a:pt x="342" y="0"/>
                  </a:lnTo>
                  <a:lnTo>
                    <a:pt x="342" y="2058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6224400" y="939600"/>
              <a:ext cx="146520" cy="36360"/>
            </a:xfrm>
            <a:custGeom>
              <a:avLst/>
              <a:gdLst/>
              <a:ahLst/>
              <a:rect l="l" t="t" r="r" b="b"/>
              <a:pathLst>
                <a:path w="1374" h="342">
                  <a:moveTo>
                    <a:pt x="1032" y="342"/>
                  </a:moveTo>
                  <a:lnTo>
                    <a:pt x="1374" y="0"/>
                  </a:lnTo>
                  <a:lnTo>
                    <a:pt x="0" y="0"/>
                  </a:lnTo>
                  <a:lnTo>
                    <a:pt x="342" y="342"/>
                  </a:lnTo>
                  <a:lnTo>
                    <a:pt x="1032" y="342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6188040" y="903240"/>
              <a:ext cx="219240" cy="36360"/>
            </a:xfrm>
            <a:custGeom>
              <a:avLst/>
              <a:gdLst/>
              <a:ahLst/>
              <a:rect l="l" t="t" r="r" b="b"/>
              <a:pathLst>
                <a:path w="2058" h="342">
                  <a:moveTo>
                    <a:pt x="2058" y="0"/>
                  </a:moveTo>
                  <a:lnTo>
                    <a:pt x="1716" y="342"/>
                  </a:lnTo>
                  <a:lnTo>
                    <a:pt x="342" y="342"/>
                  </a:lnTo>
                  <a:lnTo>
                    <a:pt x="0" y="0"/>
                  </a:lnTo>
                  <a:lnTo>
                    <a:pt x="205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2" name=""/>
          <p:cNvGrpSpPr/>
          <p:nvPr/>
        </p:nvGrpSpPr>
        <p:grpSpPr>
          <a:xfrm>
            <a:off x="5104800" y="1424160"/>
            <a:ext cx="97200" cy="95040"/>
            <a:chOff x="5104800" y="1424160"/>
            <a:chExt cx="97200" cy="95040"/>
          </a:xfrm>
        </p:grpSpPr>
        <p:sp>
          <p:nvSpPr>
            <p:cNvPr id="8263" name=""/>
            <p:cNvSpPr/>
            <p:nvPr/>
          </p:nvSpPr>
          <p:spPr>
            <a:xfrm rot="5400000">
              <a:off x="5154120" y="1471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 rot="5400000">
              <a:off x="5057280" y="1471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5" name=""/>
            <p:cNvSpPr/>
            <p:nvPr/>
          </p:nvSpPr>
          <p:spPr>
            <a:xfrm rot="5400000">
              <a:off x="5130000" y="14468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6" name=""/>
            <p:cNvSpPr/>
            <p:nvPr/>
          </p:nvSpPr>
          <p:spPr>
            <a:xfrm rot="5400000">
              <a:off x="5129640" y="13993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7" name=""/>
          <p:cNvGrpSpPr/>
          <p:nvPr/>
        </p:nvGrpSpPr>
        <p:grpSpPr>
          <a:xfrm>
            <a:off x="5771520" y="747720"/>
            <a:ext cx="97200" cy="95400"/>
            <a:chOff x="5771520" y="747720"/>
            <a:chExt cx="97200" cy="95400"/>
          </a:xfrm>
        </p:grpSpPr>
        <p:sp>
          <p:nvSpPr>
            <p:cNvPr id="8268" name=""/>
            <p:cNvSpPr/>
            <p:nvPr/>
          </p:nvSpPr>
          <p:spPr>
            <a:xfrm rot="5400000">
              <a:off x="5820840" y="795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9" name=""/>
            <p:cNvSpPr/>
            <p:nvPr/>
          </p:nvSpPr>
          <p:spPr>
            <a:xfrm rot="5400000">
              <a:off x="5724000" y="795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0" name=""/>
            <p:cNvSpPr/>
            <p:nvPr/>
          </p:nvSpPr>
          <p:spPr>
            <a:xfrm rot="5400000">
              <a:off x="5796360" y="770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1" name=""/>
            <p:cNvSpPr/>
            <p:nvPr/>
          </p:nvSpPr>
          <p:spPr>
            <a:xfrm rot="5400000">
              <a:off x="5796360" y="7232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2" name=""/>
          <p:cNvGrpSpPr/>
          <p:nvPr/>
        </p:nvGrpSpPr>
        <p:grpSpPr>
          <a:xfrm>
            <a:off x="6895440" y="1962000"/>
            <a:ext cx="97200" cy="95400"/>
            <a:chOff x="6895440" y="1962000"/>
            <a:chExt cx="97200" cy="95400"/>
          </a:xfrm>
        </p:grpSpPr>
        <p:sp>
          <p:nvSpPr>
            <p:cNvPr id="8273" name=""/>
            <p:cNvSpPr/>
            <p:nvPr/>
          </p:nvSpPr>
          <p:spPr>
            <a:xfrm rot="5400000">
              <a:off x="6944760" y="2009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4" name=""/>
            <p:cNvSpPr/>
            <p:nvPr/>
          </p:nvSpPr>
          <p:spPr>
            <a:xfrm rot="5400000">
              <a:off x="6847920" y="2009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5" name=""/>
            <p:cNvSpPr/>
            <p:nvPr/>
          </p:nvSpPr>
          <p:spPr>
            <a:xfrm rot="5400000">
              <a:off x="6920280" y="19850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6" name=""/>
            <p:cNvSpPr/>
            <p:nvPr/>
          </p:nvSpPr>
          <p:spPr>
            <a:xfrm rot="5400000">
              <a:off x="6920280" y="19375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7" name=""/>
          <p:cNvGrpSpPr/>
          <p:nvPr/>
        </p:nvGrpSpPr>
        <p:grpSpPr>
          <a:xfrm>
            <a:off x="6669000" y="1893960"/>
            <a:ext cx="95400" cy="97200"/>
            <a:chOff x="6669000" y="1893960"/>
            <a:chExt cx="95400" cy="97200"/>
          </a:xfrm>
        </p:grpSpPr>
        <p:sp>
          <p:nvSpPr>
            <p:cNvPr id="8278" name=""/>
            <p:cNvSpPr/>
            <p:nvPr/>
          </p:nvSpPr>
          <p:spPr>
            <a:xfrm>
              <a:off x="6669000" y="1893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6669000" y="1990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6716880" y="18939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6669000" y="18939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2" name=""/>
          <p:cNvGrpSpPr/>
          <p:nvPr/>
        </p:nvGrpSpPr>
        <p:grpSpPr>
          <a:xfrm>
            <a:off x="6745320" y="2341440"/>
            <a:ext cx="95040" cy="97200"/>
            <a:chOff x="6745320" y="2341440"/>
            <a:chExt cx="95040" cy="97200"/>
          </a:xfrm>
        </p:grpSpPr>
        <p:sp>
          <p:nvSpPr>
            <p:cNvPr id="8283" name=""/>
            <p:cNvSpPr/>
            <p:nvPr/>
          </p:nvSpPr>
          <p:spPr>
            <a:xfrm>
              <a:off x="6745320" y="2341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6745320" y="24382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6792840" y="23414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6745320" y="23414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7" name=""/>
          <p:cNvGrpSpPr/>
          <p:nvPr/>
        </p:nvGrpSpPr>
        <p:grpSpPr>
          <a:xfrm>
            <a:off x="6049800" y="2112840"/>
            <a:ext cx="95400" cy="97200"/>
            <a:chOff x="6049800" y="2112840"/>
            <a:chExt cx="95400" cy="97200"/>
          </a:xfrm>
        </p:grpSpPr>
        <p:sp>
          <p:nvSpPr>
            <p:cNvPr id="8288" name=""/>
            <p:cNvSpPr/>
            <p:nvPr/>
          </p:nvSpPr>
          <p:spPr>
            <a:xfrm>
              <a:off x="6049800" y="2112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6049800" y="2209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6097680" y="21128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6049800" y="2112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2" name=""/>
          <p:cNvGrpSpPr/>
          <p:nvPr/>
        </p:nvGrpSpPr>
        <p:grpSpPr>
          <a:xfrm>
            <a:off x="7616880" y="2098800"/>
            <a:ext cx="95040" cy="97200"/>
            <a:chOff x="7616880" y="2098800"/>
            <a:chExt cx="95040" cy="97200"/>
          </a:xfrm>
        </p:grpSpPr>
        <p:sp>
          <p:nvSpPr>
            <p:cNvPr id="8293" name=""/>
            <p:cNvSpPr/>
            <p:nvPr/>
          </p:nvSpPr>
          <p:spPr>
            <a:xfrm>
              <a:off x="7616880" y="20988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7616880" y="2195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7664400" y="20988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7616880" y="20988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7" name=""/>
          <p:cNvGrpSpPr/>
          <p:nvPr/>
        </p:nvGrpSpPr>
        <p:grpSpPr>
          <a:xfrm>
            <a:off x="5095080" y="1638360"/>
            <a:ext cx="97200" cy="95040"/>
            <a:chOff x="5095080" y="1638360"/>
            <a:chExt cx="97200" cy="95040"/>
          </a:xfrm>
        </p:grpSpPr>
        <p:sp>
          <p:nvSpPr>
            <p:cNvPr id="8298" name=""/>
            <p:cNvSpPr/>
            <p:nvPr/>
          </p:nvSpPr>
          <p:spPr>
            <a:xfrm rot="5400000">
              <a:off x="5144400" y="1685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9" name=""/>
            <p:cNvSpPr/>
            <p:nvPr/>
          </p:nvSpPr>
          <p:spPr>
            <a:xfrm rot="5400000">
              <a:off x="5047560" y="1685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0" name=""/>
            <p:cNvSpPr/>
            <p:nvPr/>
          </p:nvSpPr>
          <p:spPr>
            <a:xfrm rot="5400000">
              <a:off x="5120280" y="1661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1" name=""/>
            <p:cNvSpPr/>
            <p:nvPr/>
          </p:nvSpPr>
          <p:spPr>
            <a:xfrm rot="5400000">
              <a:off x="5119920" y="1613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2" name=""/>
          <p:cNvGrpSpPr/>
          <p:nvPr/>
        </p:nvGrpSpPr>
        <p:grpSpPr>
          <a:xfrm>
            <a:off x="6057720" y="2343240"/>
            <a:ext cx="96840" cy="95040"/>
            <a:chOff x="6057720" y="2343240"/>
            <a:chExt cx="96840" cy="95040"/>
          </a:xfrm>
        </p:grpSpPr>
        <p:sp>
          <p:nvSpPr>
            <p:cNvPr id="8303" name=""/>
            <p:cNvSpPr/>
            <p:nvPr/>
          </p:nvSpPr>
          <p:spPr>
            <a:xfrm rot="5400000">
              <a:off x="6106680" y="2390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4" name=""/>
            <p:cNvSpPr/>
            <p:nvPr/>
          </p:nvSpPr>
          <p:spPr>
            <a:xfrm rot="5400000">
              <a:off x="6010200" y="2390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5" name=""/>
            <p:cNvSpPr/>
            <p:nvPr/>
          </p:nvSpPr>
          <p:spPr>
            <a:xfrm rot="5400000">
              <a:off x="6082560" y="2365920"/>
              <a:ext cx="47160" cy="964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6" name=""/>
            <p:cNvSpPr/>
            <p:nvPr/>
          </p:nvSpPr>
          <p:spPr>
            <a:xfrm rot="5400000">
              <a:off x="6082560" y="2318760"/>
              <a:ext cx="47520" cy="964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7" name=""/>
          <p:cNvGrpSpPr/>
          <p:nvPr/>
        </p:nvGrpSpPr>
        <p:grpSpPr>
          <a:xfrm>
            <a:off x="6438600" y="2342880"/>
            <a:ext cx="152280" cy="150840"/>
            <a:chOff x="6438600" y="2342880"/>
            <a:chExt cx="152280" cy="150840"/>
          </a:xfrm>
        </p:grpSpPr>
        <p:sp>
          <p:nvSpPr>
            <p:cNvPr id="8308" name=""/>
            <p:cNvSpPr/>
            <p:nvPr/>
          </p:nvSpPr>
          <p:spPr>
            <a:xfrm rot="10800000">
              <a:off x="6503760" y="24724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9" name=""/>
            <p:cNvSpPr/>
            <p:nvPr/>
          </p:nvSpPr>
          <p:spPr>
            <a:xfrm rot="10800000">
              <a:off x="6503760" y="238608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0" name=""/>
            <p:cNvSpPr/>
            <p:nvPr/>
          </p:nvSpPr>
          <p:spPr>
            <a:xfrm rot="10800000">
              <a:off x="6547320" y="23428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1" name=""/>
            <p:cNvSpPr/>
            <p:nvPr/>
          </p:nvSpPr>
          <p:spPr>
            <a:xfrm rot="10800000">
              <a:off x="6438600" y="23428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2" name=""/>
            <p:cNvSpPr/>
            <p:nvPr/>
          </p:nvSpPr>
          <p:spPr>
            <a:xfrm rot="10800000">
              <a:off x="6438600" y="23864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3" name=""/>
            <p:cNvSpPr/>
            <p:nvPr/>
          </p:nvSpPr>
          <p:spPr>
            <a:xfrm rot="10800000">
              <a:off x="6438600" y="23428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14" name=""/>
          <p:cNvGrpSpPr/>
          <p:nvPr/>
        </p:nvGrpSpPr>
        <p:grpSpPr>
          <a:xfrm>
            <a:off x="5752800" y="1428840"/>
            <a:ext cx="150840" cy="152280"/>
            <a:chOff x="5752800" y="1428840"/>
            <a:chExt cx="150840" cy="152280"/>
          </a:xfrm>
        </p:grpSpPr>
        <p:sp>
          <p:nvSpPr>
            <p:cNvPr id="8315" name=""/>
            <p:cNvSpPr/>
            <p:nvPr/>
          </p:nvSpPr>
          <p:spPr>
            <a:xfrm rot="5400000">
              <a:off x="5849280" y="14616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6" name=""/>
            <p:cNvSpPr/>
            <p:nvPr/>
          </p:nvSpPr>
          <p:spPr>
            <a:xfrm rot="5400000">
              <a:off x="5828040" y="14403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7" name=""/>
            <p:cNvSpPr/>
            <p:nvPr/>
          </p:nvSpPr>
          <p:spPr>
            <a:xfrm rot="5400000">
              <a:off x="5806440" y="137520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8" name=""/>
            <p:cNvSpPr/>
            <p:nvPr/>
          </p:nvSpPr>
          <p:spPr>
            <a:xfrm rot="5400000">
              <a:off x="5785200" y="152712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9" name=""/>
            <p:cNvSpPr/>
            <p:nvPr/>
          </p:nvSpPr>
          <p:spPr>
            <a:xfrm rot="5400000">
              <a:off x="5763240" y="150516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0" name=""/>
            <p:cNvSpPr/>
            <p:nvPr/>
          </p:nvSpPr>
          <p:spPr>
            <a:xfrm rot="5400000">
              <a:off x="5698080" y="14832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1" name=""/>
          <p:cNvGrpSpPr/>
          <p:nvPr/>
        </p:nvGrpSpPr>
        <p:grpSpPr>
          <a:xfrm>
            <a:off x="5981400" y="1399680"/>
            <a:ext cx="152280" cy="150840"/>
            <a:chOff x="5981400" y="1399680"/>
            <a:chExt cx="152280" cy="150840"/>
          </a:xfrm>
        </p:grpSpPr>
        <p:sp>
          <p:nvSpPr>
            <p:cNvPr id="8322" name=""/>
            <p:cNvSpPr/>
            <p:nvPr/>
          </p:nvSpPr>
          <p:spPr>
            <a:xfrm rot="10800000">
              <a:off x="6046560" y="15292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3" name=""/>
            <p:cNvSpPr/>
            <p:nvPr/>
          </p:nvSpPr>
          <p:spPr>
            <a:xfrm rot="10800000">
              <a:off x="6046560" y="144288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4" name=""/>
            <p:cNvSpPr/>
            <p:nvPr/>
          </p:nvSpPr>
          <p:spPr>
            <a:xfrm rot="10800000">
              <a:off x="6090120" y="13996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5" name=""/>
            <p:cNvSpPr/>
            <p:nvPr/>
          </p:nvSpPr>
          <p:spPr>
            <a:xfrm rot="10800000">
              <a:off x="5981400" y="13996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6" name=""/>
            <p:cNvSpPr/>
            <p:nvPr/>
          </p:nvSpPr>
          <p:spPr>
            <a:xfrm rot="10800000">
              <a:off x="5981400" y="14432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7" name=""/>
            <p:cNvSpPr/>
            <p:nvPr/>
          </p:nvSpPr>
          <p:spPr>
            <a:xfrm rot="10800000">
              <a:off x="5981400" y="139968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8" name=""/>
          <p:cNvGrpSpPr/>
          <p:nvPr/>
        </p:nvGrpSpPr>
        <p:grpSpPr>
          <a:xfrm>
            <a:off x="7353360" y="1630080"/>
            <a:ext cx="150840" cy="152280"/>
            <a:chOff x="7353360" y="1630080"/>
            <a:chExt cx="150840" cy="152280"/>
          </a:xfrm>
        </p:grpSpPr>
        <p:sp>
          <p:nvSpPr>
            <p:cNvPr id="8329" name=""/>
            <p:cNvSpPr/>
            <p:nvPr/>
          </p:nvSpPr>
          <p:spPr>
            <a:xfrm rot="16200000">
              <a:off x="7320240" y="172800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0" name=""/>
            <p:cNvSpPr/>
            <p:nvPr/>
          </p:nvSpPr>
          <p:spPr>
            <a:xfrm rot="16200000">
              <a:off x="7385400" y="166320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1" name=""/>
            <p:cNvSpPr/>
            <p:nvPr/>
          </p:nvSpPr>
          <p:spPr>
            <a:xfrm rot="16200000">
              <a:off x="7407000" y="16851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2" name=""/>
            <p:cNvSpPr/>
            <p:nvPr/>
          </p:nvSpPr>
          <p:spPr>
            <a:xfrm rot="16200000">
              <a:off x="7450200" y="159768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3" name=""/>
            <p:cNvSpPr/>
            <p:nvPr/>
          </p:nvSpPr>
          <p:spPr>
            <a:xfrm rot="16200000">
              <a:off x="7384680" y="166284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4" name=""/>
            <p:cNvSpPr/>
            <p:nvPr/>
          </p:nvSpPr>
          <p:spPr>
            <a:xfrm rot="16200000">
              <a:off x="7406280" y="168444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5" name=""/>
          <p:cNvGrpSpPr/>
          <p:nvPr/>
        </p:nvGrpSpPr>
        <p:grpSpPr>
          <a:xfrm>
            <a:off x="6910560" y="2104920"/>
            <a:ext cx="150480" cy="152640"/>
            <a:chOff x="6910560" y="2104920"/>
            <a:chExt cx="150480" cy="152640"/>
          </a:xfrm>
        </p:grpSpPr>
        <p:sp>
          <p:nvSpPr>
            <p:cNvPr id="8336" name=""/>
            <p:cNvSpPr/>
            <p:nvPr/>
          </p:nvSpPr>
          <p:spPr>
            <a:xfrm rot="5400000">
              <a:off x="7006680" y="213768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7" name=""/>
            <p:cNvSpPr/>
            <p:nvPr/>
          </p:nvSpPr>
          <p:spPr>
            <a:xfrm rot="5400000">
              <a:off x="6985440" y="2116440"/>
              <a:ext cx="43560" cy="10728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8" name=""/>
            <p:cNvSpPr/>
            <p:nvPr/>
          </p:nvSpPr>
          <p:spPr>
            <a:xfrm rot="5400000">
              <a:off x="6963840" y="2051280"/>
              <a:ext cx="43560" cy="15048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9" name=""/>
            <p:cNvSpPr/>
            <p:nvPr/>
          </p:nvSpPr>
          <p:spPr>
            <a:xfrm rot="5400000">
              <a:off x="6942600" y="2203560"/>
              <a:ext cx="21600" cy="8604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0" name=""/>
            <p:cNvSpPr/>
            <p:nvPr/>
          </p:nvSpPr>
          <p:spPr>
            <a:xfrm rot="5400000">
              <a:off x="6920640" y="218160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1" name=""/>
            <p:cNvSpPr/>
            <p:nvPr/>
          </p:nvSpPr>
          <p:spPr>
            <a:xfrm rot="5400000">
              <a:off x="6855840" y="215964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2" name=""/>
          <p:cNvGrpSpPr/>
          <p:nvPr/>
        </p:nvGrpSpPr>
        <p:grpSpPr>
          <a:xfrm>
            <a:off x="5057640" y="2062080"/>
            <a:ext cx="206640" cy="193680"/>
            <a:chOff x="5057640" y="2062080"/>
            <a:chExt cx="206640" cy="193680"/>
          </a:xfrm>
        </p:grpSpPr>
        <p:sp>
          <p:nvSpPr>
            <p:cNvPr id="8343" name=""/>
            <p:cNvSpPr/>
            <p:nvPr/>
          </p:nvSpPr>
          <p:spPr>
            <a:xfrm rot="16200000">
              <a:off x="5093280" y="220032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4" name=""/>
            <p:cNvSpPr/>
            <p:nvPr/>
          </p:nvSpPr>
          <p:spPr>
            <a:xfrm rot="16200000">
              <a:off x="5093640" y="202608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5" name=""/>
            <p:cNvSpPr/>
            <p:nvPr/>
          </p:nvSpPr>
          <p:spPr>
            <a:xfrm rot="16200000">
              <a:off x="4983480" y="213588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6" name=""/>
            <p:cNvSpPr/>
            <p:nvPr/>
          </p:nvSpPr>
          <p:spPr>
            <a:xfrm rot="16200000">
              <a:off x="5029200" y="2136240"/>
              <a:ext cx="193680" cy="4536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7" name=""/>
            <p:cNvSpPr/>
            <p:nvPr/>
          </p:nvSpPr>
          <p:spPr>
            <a:xfrm rot="16200000">
              <a:off x="5211720" y="214488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8" name=""/>
            <p:cNvSpPr/>
            <p:nvPr/>
          </p:nvSpPr>
          <p:spPr>
            <a:xfrm rot="16200000">
              <a:off x="5076720" y="214776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9" name=""/>
            <p:cNvSpPr/>
            <p:nvPr/>
          </p:nvSpPr>
          <p:spPr>
            <a:xfrm rot="16200000">
              <a:off x="5164920" y="2098080"/>
              <a:ext cx="38160" cy="16020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0" name=""/>
            <p:cNvSpPr/>
            <p:nvPr/>
          </p:nvSpPr>
          <p:spPr>
            <a:xfrm rot="16200000">
              <a:off x="5164920" y="2059920"/>
              <a:ext cx="38520" cy="16020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1" name=""/>
          <p:cNvGrpSpPr/>
          <p:nvPr/>
        </p:nvGrpSpPr>
        <p:grpSpPr>
          <a:xfrm>
            <a:off x="5324400" y="1407960"/>
            <a:ext cx="74520" cy="149760"/>
            <a:chOff x="5324400" y="1407960"/>
            <a:chExt cx="74520" cy="149760"/>
          </a:xfrm>
        </p:grpSpPr>
        <p:sp>
          <p:nvSpPr>
            <p:cNvPr id="8352" name=""/>
            <p:cNvSpPr/>
            <p:nvPr/>
          </p:nvSpPr>
          <p:spPr>
            <a:xfrm>
              <a:off x="5324400" y="14079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5324400" y="15573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5361480" y="14079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5324400" y="140796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6" name=""/>
          <p:cNvGrpSpPr/>
          <p:nvPr/>
        </p:nvGrpSpPr>
        <p:grpSpPr>
          <a:xfrm>
            <a:off x="6939000" y="2585880"/>
            <a:ext cx="88920" cy="93960"/>
            <a:chOff x="6939000" y="2585880"/>
            <a:chExt cx="88920" cy="93960"/>
          </a:xfrm>
        </p:grpSpPr>
        <p:sp>
          <p:nvSpPr>
            <p:cNvPr id="8357" name=""/>
            <p:cNvSpPr/>
            <p:nvPr/>
          </p:nvSpPr>
          <p:spPr>
            <a:xfrm>
              <a:off x="6939000" y="2585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6939000" y="2661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6983280" y="2585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6939000" y="2585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1" name=""/>
          <p:cNvGrpSpPr/>
          <p:nvPr/>
        </p:nvGrpSpPr>
        <p:grpSpPr>
          <a:xfrm>
            <a:off x="6515280" y="2571840"/>
            <a:ext cx="88560" cy="93600"/>
            <a:chOff x="6515280" y="2571840"/>
            <a:chExt cx="88560" cy="93600"/>
          </a:xfrm>
        </p:grpSpPr>
        <p:sp>
          <p:nvSpPr>
            <p:cNvPr id="8362" name=""/>
            <p:cNvSpPr/>
            <p:nvPr/>
          </p:nvSpPr>
          <p:spPr>
            <a:xfrm>
              <a:off x="6515280" y="257184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6515280" y="26467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6559560" y="257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6515280" y="257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6" name=""/>
          <p:cNvGrpSpPr/>
          <p:nvPr/>
        </p:nvGrpSpPr>
        <p:grpSpPr>
          <a:xfrm>
            <a:off x="4863960" y="1436400"/>
            <a:ext cx="93960" cy="88920"/>
            <a:chOff x="4863960" y="1436400"/>
            <a:chExt cx="93960" cy="88920"/>
          </a:xfrm>
        </p:grpSpPr>
        <p:sp>
          <p:nvSpPr>
            <p:cNvPr id="8367" name=""/>
            <p:cNvSpPr/>
            <p:nvPr/>
          </p:nvSpPr>
          <p:spPr>
            <a:xfrm rot="16200000">
              <a:off x="4828680" y="1471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8" name=""/>
            <p:cNvSpPr/>
            <p:nvPr/>
          </p:nvSpPr>
          <p:spPr>
            <a:xfrm rot="16200000">
              <a:off x="4903920" y="1471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9" name=""/>
            <p:cNvSpPr/>
            <p:nvPr/>
          </p:nvSpPr>
          <p:spPr>
            <a:xfrm rot="16200000">
              <a:off x="4888800" y="141192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0" name=""/>
            <p:cNvSpPr/>
            <p:nvPr/>
          </p:nvSpPr>
          <p:spPr>
            <a:xfrm rot="16200000">
              <a:off x="4888800" y="145620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1" name=""/>
          <p:cNvGrpSpPr/>
          <p:nvPr/>
        </p:nvGrpSpPr>
        <p:grpSpPr>
          <a:xfrm>
            <a:off x="5067360" y="1876320"/>
            <a:ext cx="88920" cy="93600"/>
            <a:chOff x="5067360" y="1876320"/>
            <a:chExt cx="88920" cy="93600"/>
          </a:xfrm>
        </p:grpSpPr>
        <p:sp>
          <p:nvSpPr>
            <p:cNvPr id="8372" name=""/>
            <p:cNvSpPr/>
            <p:nvPr/>
          </p:nvSpPr>
          <p:spPr>
            <a:xfrm>
              <a:off x="5067360" y="1876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5067360" y="1951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5111640" y="187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5067360" y="187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6" name=""/>
          <p:cNvGrpSpPr/>
          <p:nvPr/>
        </p:nvGrpSpPr>
        <p:grpSpPr>
          <a:xfrm>
            <a:off x="6245280" y="2355480"/>
            <a:ext cx="93600" cy="88920"/>
            <a:chOff x="6245280" y="2355480"/>
            <a:chExt cx="93600" cy="88920"/>
          </a:xfrm>
        </p:grpSpPr>
        <p:sp>
          <p:nvSpPr>
            <p:cNvPr id="8377" name=""/>
            <p:cNvSpPr/>
            <p:nvPr/>
          </p:nvSpPr>
          <p:spPr>
            <a:xfrm rot="16200000">
              <a:off x="6210000" y="2390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8" name=""/>
            <p:cNvSpPr/>
            <p:nvPr/>
          </p:nvSpPr>
          <p:spPr>
            <a:xfrm rot="16200000">
              <a:off x="6284880" y="2390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9" name=""/>
            <p:cNvSpPr/>
            <p:nvPr/>
          </p:nvSpPr>
          <p:spPr>
            <a:xfrm rot="16200000">
              <a:off x="6269760" y="2331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0" name=""/>
            <p:cNvSpPr/>
            <p:nvPr/>
          </p:nvSpPr>
          <p:spPr>
            <a:xfrm rot="16200000">
              <a:off x="6269760" y="2375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1" name=""/>
          <p:cNvGrpSpPr/>
          <p:nvPr/>
        </p:nvGrpSpPr>
        <p:grpSpPr>
          <a:xfrm>
            <a:off x="4915080" y="1900080"/>
            <a:ext cx="88560" cy="93960"/>
            <a:chOff x="4915080" y="1900080"/>
            <a:chExt cx="88560" cy="93960"/>
          </a:xfrm>
        </p:grpSpPr>
        <p:sp>
          <p:nvSpPr>
            <p:cNvPr id="8382" name=""/>
            <p:cNvSpPr/>
            <p:nvPr/>
          </p:nvSpPr>
          <p:spPr>
            <a:xfrm>
              <a:off x="4915080" y="190008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915080" y="19753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959360" y="1900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915080" y="1900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6" name=""/>
          <p:cNvGrpSpPr/>
          <p:nvPr/>
        </p:nvGrpSpPr>
        <p:grpSpPr>
          <a:xfrm>
            <a:off x="5329080" y="1881360"/>
            <a:ext cx="88920" cy="93600"/>
            <a:chOff x="5329080" y="1881360"/>
            <a:chExt cx="88920" cy="93600"/>
          </a:xfrm>
        </p:grpSpPr>
        <p:sp>
          <p:nvSpPr>
            <p:cNvPr id="8387" name=""/>
            <p:cNvSpPr/>
            <p:nvPr/>
          </p:nvSpPr>
          <p:spPr>
            <a:xfrm>
              <a:off x="5329080" y="1881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329080" y="1956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5373360" y="188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5329080" y="188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1" name=""/>
          <p:cNvGrpSpPr/>
          <p:nvPr/>
        </p:nvGrpSpPr>
        <p:grpSpPr>
          <a:xfrm>
            <a:off x="7620120" y="1895400"/>
            <a:ext cx="88920" cy="93600"/>
            <a:chOff x="7620120" y="1895400"/>
            <a:chExt cx="88920" cy="93600"/>
          </a:xfrm>
        </p:grpSpPr>
        <p:sp>
          <p:nvSpPr>
            <p:cNvPr id="8392" name=""/>
            <p:cNvSpPr/>
            <p:nvPr/>
          </p:nvSpPr>
          <p:spPr>
            <a:xfrm>
              <a:off x="7620120" y="1895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7620120" y="1970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7664400" y="1895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7620120" y="1895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6" name=""/>
          <p:cNvGrpSpPr/>
          <p:nvPr/>
        </p:nvGrpSpPr>
        <p:grpSpPr>
          <a:xfrm>
            <a:off x="5791320" y="971640"/>
            <a:ext cx="88920" cy="93600"/>
            <a:chOff x="5791320" y="971640"/>
            <a:chExt cx="88920" cy="93600"/>
          </a:xfrm>
        </p:grpSpPr>
        <p:sp>
          <p:nvSpPr>
            <p:cNvPr id="8397" name=""/>
            <p:cNvSpPr/>
            <p:nvPr/>
          </p:nvSpPr>
          <p:spPr>
            <a:xfrm>
              <a:off x="5791320" y="971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5791320" y="10465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5835600" y="97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5791320" y="97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1" name=""/>
          <p:cNvGrpSpPr/>
          <p:nvPr/>
        </p:nvGrpSpPr>
        <p:grpSpPr>
          <a:xfrm>
            <a:off x="6950160" y="2331720"/>
            <a:ext cx="93600" cy="88920"/>
            <a:chOff x="6950160" y="2331720"/>
            <a:chExt cx="93600" cy="88920"/>
          </a:xfrm>
        </p:grpSpPr>
        <p:sp>
          <p:nvSpPr>
            <p:cNvPr id="8402" name=""/>
            <p:cNvSpPr/>
            <p:nvPr/>
          </p:nvSpPr>
          <p:spPr>
            <a:xfrm rot="16200000">
              <a:off x="6914880" y="2367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3" name=""/>
            <p:cNvSpPr/>
            <p:nvPr/>
          </p:nvSpPr>
          <p:spPr>
            <a:xfrm rot="16200000">
              <a:off x="6989760" y="2366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4" name=""/>
            <p:cNvSpPr/>
            <p:nvPr/>
          </p:nvSpPr>
          <p:spPr>
            <a:xfrm rot="16200000">
              <a:off x="6974640" y="2307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5" name=""/>
            <p:cNvSpPr/>
            <p:nvPr/>
          </p:nvSpPr>
          <p:spPr>
            <a:xfrm rot="16200000">
              <a:off x="6974640" y="2351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6" name=""/>
          <p:cNvGrpSpPr/>
          <p:nvPr/>
        </p:nvGrpSpPr>
        <p:grpSpPr>
          <a:xfrm>
            <a:off x="4900680" y="1614600"/>
            <a:ext cx="74520" cy="152280"/>
            <a:chOff x="4900680" y="1614600"/>
            <a:chExt cx="74520" cy="152280"/>
          </a:xfrm>
        </p:grpSpPr>
        <p:sp>
          <p:nvSpPr>
            <p:cNvPr id="8407" name=""/>
            <p:cNvSpPr/>
            <p:nvPr/>
          </p:nvSpPr>
          <p:spPr>
            <a:xfrm>
              <a:off x="4900680" y="1614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900680" y="17362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937760" y="1614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900680" y="1614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1" name=""/>
          <p:cNvGrpSpPr/>
          <p:nvPr/>
        </p:nvGrpSpPr>
        <p:grpSpPr>
          <a:xfrm>
            <a:off x="6515280" y="1886040"/>
            <a:ext cx="74520" cy="152280"/>
            <a:chOff x="6515280" y="1886040"/>
            <a:chExt cx="74520" cy="152280"/>
          </a:xfrm>
        </p:grpSpPr>
        <p:sp>
          <p:nvSpPr>
            <p:cNvPr id="8412" name=""/>
            <p:cNvSpPr/>
            <p:nvPr/>
          </p:nvSpPr>
          <p:spPr>
            <a:xfrm>
              <a:off x="6515280" y="18860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6515280" y="2007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6552360" y="1886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6515280" y="1886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6" name=""/>
          <p:cNvGrpSpPr/>
          <p:nvPr/>
        </p:nvGrpSpPr>
        <p:grpSpPr>
          <a:xfrm>
            <a:off x="7396200" y="1862280"/>
            <a:ext cx="74520" cy="152280"/>
            <a:chOff x="7396200" y="1862280"/>
            <a:chExt cx="74520" cy="152280"/>
          </a:xfrm>
        </p:grpSpPr>
        <p:sp>
          <p:nvSpPr>
            <p:cNvPr id="8417" name=""/>
            <p:cNvSpPr/>
            <p:nvPr/>
          </p:nvSpPr>
          <p:spPr>
            <a:xfrm>
              <a:off x="7396200" y="18622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7396200" y="19839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7433280" y="1862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7396200" y="1862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1" name=""/>
          <p:cNvGrpSpPr/>
          <p:nvPr/>
        </p:nvGrpSpPr>
        <p:grpSpPr>
          <a:xfrm>
            <a:off x="5796000" y="471600"/>
            <a:ext cx="76320" cy="152280"/>
            <a:chOff x="5796000" y="471600"/>
            <a:chExt cx="76320" cy="152280"/>
          </a:xfrm>
        </p:grpSpPr>
        <p:sp>
          <p:nvSpPr>
            <p:cNvPr id="8422" name=""/>
            <p:cNvSpPr/>
            <p:nvPr/>
          </p:nvSpPr>
          <p:spPr>
            <a:xfrm flipH="1">
              <a:off x="5796000" y="471600"/>
              <a:ext cx="763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3" name=""/>
            <p:cNvSpPr/>
            <p:nvPr/>
          </p:nvSpPr>
          <p:spPr>
            <a:xfrm flipH="1">
              <a:off x="5796000" y="593280"/>
              <a:ext cx="763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4" name=""/>
            <p:cNvSpPr/>
            <p:nvPr/>
          </p:nvSpPr>
          <p:spPr>
            <a:xfrm flipH="1">
              <a:off x="5796000" y="471600"/>
              <a:ext cx="381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5" name=""/>
            <p:cNvSpPr/>
            <p:nvPr/>
          </p:nvSpPr>
          <p:spPr>
            <a:xfrm flipH="1">
              <a:off x="5834160" y="471600"/>
              <a:ext cx="381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6" name=""/>
          <p:cNvGrpSpPr/>
          <p:nvPr/>
        </p:nvGrpSpPr>
        <p:grpSpPr>
          <a:xfrm>
            <a:off x="5962680" y="2562120"/>
            <a:ext cx="152280" cy="74880"/>
            <a:chOff x="5962680" y="2562120"/>
            <a:chExt cx="152280" cy="74880"/>
          </a:xfrm>
        </p:grpSpPr>
        <p:sp>
          <p:nvSpPr>
            <p:cNvPr id="8427" name=""/>
            <p:cNvSpPr/>
            <p:nvPr/>
          </p:nvSpPr>
          <p:spPr>
            <a:xfrm rot="16200000">
              <a:off x="5940360" y="258444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8" name=""/>
            <p:cNvSpPr/>
            <p:nvPr/>
          </p:nvSpPr>
          <p:spPr>
            <a:xfrm rot="16200000">
              <a:off x="6062040" y="258408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9" name=""/>
            <p:cNvSpPr/>
            <p:nvPr/>
          </p:nvSpPr>
          <p:spPr>
            <a:xfrm rot="16200000">
              <a:off x="6019920" y="250452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0" name=""/>
            <p:cNvSpPr/>
            <p:nvPr/>
          </p:nvSpPr>
          <p:spPr>
            <a:xfrm rot="16200000">
              <a:off x="6019920" y="254196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1" name=""/>
          <p:cNvGrpSpPr/>
          <p:nvPr/>
        </p:nvGrpSpPr>
        <p:grpSpPr>
          <a:xfrm>
            <a:off x="7139160" y="1933200"/>
            <a:ext cx="152280" cy="74520"/>
            <a:chOff x="7139160" y="1933200"/>
            <a:chExt cx="152280" cy="74520"/>
          </a:xfrm>
        </p:grpSpPr>
        <p:sp>
          <p:nvSpPr>
            <p:cNvPr id="8432" name=""/>
            <p:cNvSpPr/>
            <p:nvPr/>
          </p:nvSpPr>
          <p:spPr>
            <a:xfrm rot="16200000">
              <a:off x="7116840" y="19551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3" name=""/>
            <p:cNvSpPr/>
            <p:nvPr/>
          </p:nvSpPr>
          <p:spPr>
            <a:xfrm rot="16200000">
              <a:off x="7238880" y="195516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4" name=""/>
            <p:cNvSpPr/>
            <p:nvPr/>
          </p:nvSpPr>
          <p:spPr>
            <a:xfrm rot="16200000">
              <a:off x="7196760" y="18759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5" name=""/>
            <p:cNvSpPr/>
            <p:nvPr/>
          </p:nvSpPr>
          <p:spPr>
            <a:xfrm rot="16200000">
              <a:off x="7196760" y="19130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6" name=""/>
          <p:cNvGrpSpPr/>
          <p:nvPr/>
        </p:nvGrpSpPr>
        <p:grpSpPr>
          <a:xfrm>
            <a:off x="7134120" y="2128680"/>
            <a:ext cx="152640" cy="74880"/>
            <a:chOff x="7134120" y="2128680"/>
            <a:chExt cx="152640" cy="74880"/>
          </a:xfrm>
        </p:grpSpPr>
        <p:sp>
          <p:nvSpPr>
            <p:cNvPr id="8437" name=""/>
            <p:cNvSpPr/>
            <p:nvPr/>
          </p:nvSpPr>
          <p:spPr>
            <a:xfrm rot="16200000">
              <a:off x="7111800" y="215100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8" name=""/>
            <p:cNvSpPr/>
            <p:nvPr/>
          </p:nvSpPr>
          <p:spPr>
            <a:xfrm rot="16200000">
              <a:off x="7233840" y="21506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9" name=""/>
            <p:cNvSpPr/>
            <p:nvPr/>
          </p:nvSpPr>
          <p:spPr>
            <a:xfrm rot="16200000">
              <a:off x="7191720" y="2071080"/>
              <a:ext cx="3744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0" name=""/>
            <p:cNvSpPr/>
            <p:nvPr/>
          </p:nvSpPr>
          <p:spPr>
            <a:xfrm rot="16200000">
              <a:off x="7191720" y="2108520"/>
              <a:ext cx="3744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1" name=""/>
          <p:cNvGrpSpPr/>
          <p:nvPr/>
        </p:nvGrpSpPr>
        <p:grpSpPr>
          <a:xfrm>
            <a:off x="7353360" y="2647800"/>
            <a:ext cx="152280" cy="74880"/>
            <a:chOff x="7353360" y="2647800"/>
            <a:chExt cx="152280" cy="74880"/>
          </a:xfrm>
        </p:grpSpPr>
        <p:sp>
          <p:nvSpPr>
            <p:cNvPr id="8442" name=""/>
            <p:cNvSpPr/>
            <p:nvPr/>
          </p:nvSpPr>
          <p:spPr>
            <a:xfrm rot="16200000">
              <a:off x="7331040" y="267012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3" name=""/>
            <p:cNvSpPr/>
            <p:nvPr/>
          </p:nvSpPr>
          <p:spPr>
            <a:xfrm rot="16200000">
              <a:off x="7452720" y="266976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4" name=""/>
            <p:cNvSpPr/>
            <p:nvPr/>
          </p:nvSpPr>
          <p:spPr>
            <a:xfrm rot="16200000">
              <a:off x="7410600" y="259020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5" name=""/>
            <p:cNvSpPr/>
            <p:nvPr/>
          </p:nvSpPr>
          <p:spPr>
            <a:xfrm rot="16200000">
              <a:off x="7410600" y="262764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6" name=""/>
          <p:cNvGrpSpPr/>
          <p:nvPr/>
        </p:nvGrpSpPr>
        <p:grpSpPr>
          <a:xfrm>
            <a:off x="8062920" y="2766960"/>
            <a:ext cx="152280" cy="152280"/>
            <a:chOff x="8062920" y="2766960"/>
            <a:chExt cx="152280" cy="152280"/>
          </a:xfrm>
        </p:grpSpPr>
        <p:sp>
          <p:nvSpPr>
            <p:cNvPr id="8447" name=""/>
            <p:cNvSpPr/>
            <p:nvPr/>
          </p:nvSpPr>
          <p:spPr>
            <a:xfrm>
              <a:off x="8062920" y="276696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8062920" y="28886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8138880" y="2766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8062920" y="27669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1" name=""/>
          <p:cNvGrpSpPr/>
          <p:nvPr/>
        </p:nvGrpSpPr>
        <p:grpSpPr>
          <a:xfrm>
            <a:off x="5322240" y="295200"/>
            <a:ext cx="97200" cy="95400"/>
            <a:chOff x="5322240" y="295200"/>
            <a:chExt cx="97200" cy="95400"/>
          </a:xfrm>
        </p:grpSpPr>
        <p:sp>
          <p:nvSpPr>
            <p:cNvPr id="8452" name=""/>
            <p:cNvSpPr/>
            <p:nvPr/>
          </p:nvSpPr>
          <p:spPr>
            <a:xfrm rot="5400000">
              <a:off x="5371560" y="342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3" name=""/>
            <p:cNvSpPr/>
            <p:nvPr/>
          </p:nvSpPr>
          <p:spPr>
            <a:xfrm rot="5400000">
              <a:off x="5274720" y="342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4" name=""/>
            <p:cNvSpPr/>
            <p:nvPr/>
          </p:nvSpPr>
          <p:spPr>
            <a:xfrm rot="5400000">
              <a:off x="5347080" y="3182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5" name=""/>
            <p:cNvSpPr/>
            <p:nvPr/>
          </p:nvSpPr>
          <p:spPr>
            <a:xfrm rot="5400000">
              <a:off x="5347080" y="270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6" name=""/>
          <p:cNvGrpSpPr/>
          <p:nvPr/>
        </p:nvGrpSpPr>
        <p:grpSpPr>
          <a:xfrm>
            <a:off x="6019920" y="504720"/>
            <a:ext cx="88920" cy="93600"/>
            <a:chOff x="6019920" y="504720"/>
            <a:chExt cx="88920" cy="93600"/>
          </a:xfrm>
        </p:grpSpPr>
        <p:sp>
          <p:nvSpPr>
            <p:cNvPr id="8457" name=""/>
            <p:cNvSpPr/>
            <p:nvPr/>
          </p:nvSpPr>
          <p:spPr>
            <a:xfrm>
              <a:off x="6019920" y="504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6019920" y="579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6064200" y="504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6019920" y="504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1" name=""/>
          <p:cNvGrpSpPr/>
          <p:nvPr/>
        </p:nvGrpSpPr>
        <p:grpSpPr>
          <a:xfrm>
            <a:off x="6472080" y="966960"/>
            <a:ext cx="88920" cy="93600"/>
            <a:chOff x="6472080" y="966960"/>
            <a:chExt cx="88920" cy="93600"/>
          </a:xfrm>
        </p:grpSpPr>
        <p:sp>
          <p:nvSpPr>
            <p:cNvPr id="8462" name=""/>
            <p:cNvSpPr/>
            <p:nvPr/>
          </p:nvSpPr>
          <p:spPr>
            <a:xfrm>
              <a:off x="6472080" y="966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6472080" y="1041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6516360" y="966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6472080" y="966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6" name=""/>
          <p:cNvGrpSpPr/>
          <p:nvPr/>
        </p:nvGrpSpPr>
        <p:grpSpPr>
          <a:xfrm>
            <a:off x="6477120" y="747720"/>
            <a:ext cx="88920" cy="93600"/>
            <a:chOff x="6477120" y="747720"/>
            <a:chExt cx="88920" cy="93600"/>
          </a:xfrm>
        </p:grpSpPr>
        <p:sp>
          <p:nvSpPr>
            <p:cNvPr id="8467" name=""/>
            <p:cNvSpPr/>
            <p:nvPr/>
          </p:nvSpPr>
          <p:spPr>
            <a:xfrm>
              <a:off x="6477120" y="747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6477120" y="822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6521400" y="747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6477120" y="747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1" name=""/>
          <p:cNvGrpSpPr/>
          <p:nvPr/>
        </p:nvGrpSpPr>
        <p:grpSpPr>
          <a:xfrm>
            <a:off x="6010200" y="1195560"/>
            <a:ext cx="88920" cy="93600"/>
            <a:chOff x="6010200" y="1195560"/>
            <a:chExt cx="88920" cy="93600"/>
          </a:xfrm>
        </p:grpSpPr>
        <p:sp>
          <p:nvSpPr>
            <p:cNvPr id="8472" name=""/>
            <p:cNvSpPr/>
            <p:nvPr/>
          </p:nvSpPr>
          <p:spPr>
            <a:xfrm>
              <a:off x="6010200" y="1195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6010200" y="1270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6054480" y="1195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6010200" y="1195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6" name=""/>
          <p:cNvGrpSpPr/>
          <p:nvPr/>
        </p:nvGrpSpPr>
        <p:grpSpPr>
          <a:xfrm>
            <a:off x="6024600" y="1895400"/>
            <a:ext cx="88920" cy="93600"/>
            <a:chOff x="6024600" y="1895400"/>
            <a:chExt cx="88920" cy="93600"/>
          </a:xfrm>
        </p:grpSpPr>
        <p:sp>
          <p:nvSpPr>
            <p:cNvPr id="8477" name=""/>
            <p:cNvSpPr/>
            <p:nvPr/>
          </p:nvSpPr>
          <p:spPr>
            <a:xfrm>
              <a:off x="6024600" y="1895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6024600" y="1970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6068880" y="1895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6024600" y="1895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1" name=""/>
          <p:cNvGrpSpPr/>
          <p:nvPr/>
        </p:nvGrpSpPr>
        <p:grpSpPr>
          <a:xfrm>
            <a:off x="5315040" y="1647720"/>
            <a:ext cx="149400" cy="74880"/>
            <a:chOff x="5315040" y="1647720"/>
            <a:chExt cx="149400" cy="74880"/>
          </a:xfrm>
        </p:grpSpPr>
        <p:sp>
          <p:nvSpPr>
            <p:cNvPr id="8482" name=""/>
            <p:cNvSpPr/>
            <p:nvPr/>
          </p:nvSpPr>
          <p:spPr>
            <a:xfrm rot="16200000">
              <a:off x="5277600" y="16848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3" name=""/>
            <p:cNvSpPr/>
            <p:nvPr/>
          </p:nvSpPr>
          <p:spPr>
            <a:xfrm rot="16200000">
              <a:off x="5426640" y="16848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4" name=""/>
            <p:cNvSpPr/>
            <p:nvPr/>
          </p:nvSpPr>
          <p:spPr>
            <a:xfrm rot="16200000">
              <a:off x="5370840" y="15922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5" name=""/>
            <p:cNvSpPr/>
            <p:nvPr/>
          </p:nvSpPr>
          <p:spPr>
            <a:xfrm rot="16200000">
              <a:off x="5370840" y="162936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6" name=""/>
          <p:cNvGrpSpPr/>
          <p:nvPr/>
        </p:nvGrpSpPr>
        <p:grpSpPr>
          <a:xfrm>
            <a:off x="5553000" y="1623960"/>
            <a:ext cx="88920" cy="93600"/>
            <a:chOff x="5553000" y="1623960"/>
            <a:chExt cx="88920" cy="93600"/>
          </a:xfrm>
        </p:grpSpPr>
        <p:sp>
          <p:nvSpPr>
            <p:cNvPr id="8487" name=""/>
            <p:cNvSpPr/>
            <p:nvPr/>
          </p:nvSpPr>
          <p:spPr>
            <a:xfrm>
              <a:off x="5553000" y="1623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5553000" y="1698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5597280" y="1623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5553000" y="1623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1" name=""/>
          <p:cNvGrpSpPr/>
          <p:nvPr/>
        </p:nvGrpSpPr>
        <p:grpSpPr>
          <a:xfrm>
            <a:off x="6705720" y="966960"/>
            <a:ext cx="88920" cy="93600"/>
            <a:chOff x="6705720" y="966960"/>
            <a:chExt cx="88920" cy="93600"/>
          </a:xfrm>
        </p:grpSpPr>
        <p:sp>
          <p:nvSpPr>
            <p:cNvPr id="8492" name=""/>
            <p:cNvSpPr/>
            <p:nvPr/>
          </p:nvSpPr>
          <p:spPr>
            <a:xfrm>
              <a:off x="6705720" y="966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6705720" y="1041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6750000" y="966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6705720" y="966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6" name=""/>
          <p:cNvGrpSpPr/>
          <p:nvPr/>
        </p:nvGrpSpPr>
        <p:grpSpPr>
          <a:xfrm>
            <a:off x="5981040" y="976320"/>
            <a:ext cx="97200" cy="95400"/>
            <a:chOff x="5981040" y="976320"/>
            <a:chExt cx="97200" cy="95400"/>
          </a:xfrm>
        </p:grpSpPr>
        <p:sp>
          <p:nvSpPr>
            <p:cNvPr id="8497" name=""/>
            <p:cNvSpPr/>
            <p:nvPr/>
          </p:nvSpPr>
          <p:spPr>
            <a:xfrm rot="5400000">
              <a:off x="6030360" y="1023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8" name=""/>
            <p:cNvSpPr/>
            <p:nvPr/>
          </p:nvSpPr>
          <p:spPr>
            <a:xfrm rot="5400000">
              <a:off x="5933520" y="1023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9" name=""/>
            <p:cNvSpPr/>
            <p:nvPr/>
          </p:nvSpPr>
          <p:spPr>
            <a:xfrm rot="5400000">
              <a:off x="6005880" y="9993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0" name=""/>
            <p:cNvSpPr/>
            <p:nvPr/>
          </p:nvSpPr>
          <p:spPr>
            <a:xfrm rot="5400000">
              <a:off x="6005880" y="951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1" name=""/>
          <p:cNvGrpSpPr/>
          <p:nvPr/>
        </p:nvGrpSpPr>
        <p:grpSpPr>
          <a:xfrm>
            <a:off x="6014880" y="743040"/>
            <a:ext cx="88920" cy="93600"/>
            <a:chOff x="6014880" y="743040"/>
            <a:chExt cx="88920" cy="93600"/>
          </a:xfrm>
        </p:grpSpPr>
        <p:sp>
          <p:nvSpPr>
            <p:cNvPr id="8502" name=""/>
            <p:cNvSpPr/>
            <p:nvPr/>
          </p:nvSpPr>
          <p:spPr>
            <a:xfrm>
              <a:off x="6014880" y="743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6014880" y="817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6059160" y="743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6014880" y="743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6" name=""/>
          <p:cNvGrpSpPr/>
          <p:nvPr/>
        </p:nvGrpSpPr>
        <p:grpSpPr>
          <a:xfrm>
            <a:off x="6541920" y="320760"/>
            <a:ext cx="168840" cy="171000"/>
            <a:chOff x="6541920" y="320760"/>
            <a:chExt cx="168840" cy="171000"/>
          </a:xfrm>
        </p:grpSpPr>
        <p:grpSp>
          <p:nvGrpSpPr>
            <p:cNvPr id="8507" name=""/>
            <p:cNvGrpSpPr/>
            <p:nvPr/>
          </p:nvGrpSpPr>
          <p:grpSpPr>
            <a:xfrm>
              <a:off x="6631200" y="365040"/>
              <a:ext cx="79560" cy="75960"/>
              <a:chOff x="6631200" y="365040"/>
              <a:chExt cx="79560" cy="75960"/>
            </a:xfrm>
          </p:grpSpPr>
          <p:sp>
            <p:nvSpPr>
              <p:cNvPr id="8508" name=""/>
              <p:cNvSpPr/>
              <p:nvPr/>
            </p:nvSpPr>
            <p:spPr>
              <a:xfrm>
                <a:off x="6631200" y="3650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6661080" y="3927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0" name=""/>
            <p:cNvGrpSpPr/>
            <p:nvPr/>
          </p:nvGrpSpPr>
          <p:grpSpPr>
            <a:xfrm>
              <a:off x="6541920" y="320760"/>
              <a:ext cx="76320" cy="79200"/>
              <a:chOff x="6541920" y="320760"/>
              <a:chExt cx="76320" cy="79200"/>
            </a:xfrm>
          </p:grpSpPr>
          <p:sp>
            <p:nvSpPr>
              <p:cNvPr id="8511" name=""/>
              <p:cNvSpPr/>
              <p:nvPr/>
            </p:nvSpPr>
            <p:spPr>
              <a:xfrm rot="16200000">
                <a:off x="6540480" y="32220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 rot="16200000">
                <a:off x="6570000" y="331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3" name=""/>
            <p:cNvGrpSpPr/>
            <p:nvPr/>
          </p:nvGrpSpPr>
          <p:grpSpPr>
            <a:xfrm>
              <a:off x="6546960" y="412560"/>
              <a:ext cx="75960" cy="79200"/>
              <a:chOff x="6546960" y="412560"/>
              <a:chExt cx="75960" cy="79200"/>
            </a:xfrm>
          </p:grpSpPr>
          <p:sp>
            <p:nvSpPr>
              <p:cNvPr id="8514" name=""/>
              <p:cNvSpPr/>
              <p:nvPr/>
            </p:nvSpPr>
            <p:spPr>
              <a:xfrm rot="5400000">
                <a:off x="6545160" y="4140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 rot="5400000">
                <a:off x="6557040" y="4420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6" name=""/>
          <p:cNvGrpSpPr/>
          <p:nvPr/>
        </p:nvGrpSpPr>
        <p:grpSpPr>
          <a:xfrm>
            <a:off x="6413040" y="452520"/>
            <a:ext cx="172080" cy="167400"/>
            <a:chOff x="6413040" y="452520"/>
            <a:chExt cx="172080" cy="167400"/>
          </a:xfrm>
        </p:grpSpPr>
        <p:grpSp>
          <p:nvGrpSpPr>
            <p:cNvPr id="8517" name=""/>
            <p:cNvGrpSpPr/>
            <p:nvPr/>
          </p:nvGrpSpPr>
          <p:grpSpPr>
            <a:xfrm>
              <a:off x="6458040" y="452520"/>
              <a:ext cx="76320" cy="79200"/>
              <a:chOff x="6458040" y="452520"/>
              <a:chExt cx="76320" cy="79200"/>
            </a:xfrm>
          </p:grpSpPr>
          <p:sp>
            <p:nvSpPr>
              <p:cNvPr id="8518" name=""/>
              <p:cNvSpPr/>
              <p:nvPr/>
            </p:nvSpPr>
            <p:spPr>
              <a:xfrm rot="16200000">
                <a:off x="6456600" y="45396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 rot="16200000">
                <a:off x="6486120" y="4633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0" name=""/>
            <p:cNvGrpSpPr/>
            <p:nvPr/>
          </p:nvGrpSpPr>
          <p:grpSpPr>
            <a:xfrm>
              <a:off x="6413040" y="543960"/>
              <a:ext cx="79560" cy="75960"/>
              <a:chOff x="6413040" y="543960"/>
              <a:chExt cx="79560" cy="75960"/>
            </a:xfrm>
          </p:grpSpPr>
          <p:sp>
            <p:nvSpPr>
              <p:cNvPr id="8521" name=""/>
              <p:cNvSpPr/>
              <p:nvPr/>
            </p:nvSpPr>
            <p:spPr>
              <a:xfrm rot="10800000">
                <a:off x="6413040" y="5439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 rot="10800000">
                <a:off x="6424920" y="5536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23" name=""/>
            <p:cNvGrpSpPr/>
            <p:nvPr/>
          </p:nvGrpSpPr>
          <p:grpSpPr>
            <a:xfrm>
              <a:off x="6505560" y="539640"/>
              <a:ext cx="79560" cy="75600"/>
              <a:chOff x="6505560" y="539640"/>
              <a:chExt cx="79560" cy="75600"/>
            </a:xfrm>
          </p:grpSpPr>
          <p:sp>
            <p:nvSpPr>
              <p:cNvPr id="8524" name=""/>
              <p:cNvSpPr/>
              <p:nvPr/>
            </p:nvSpPr>
            <p:spPr>
              <a:xfrm>
                <a:off x="6505560" y="53964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6535440" y="5670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26" name=""/>
          <p:cNvGrpSpPr/>
          <p:nvPr/>
        </p:nvGrpSpPr>
        <p:grpSpPr>
          <a:xfrm>
            <a:off x="6576480" y="482400"/>
            <a:ext cx="201960" cy="201960"/>
            <a:chOff x="6576480" y="482400"/>
            <a:chExt cx="201960" cy="201960"/>
          </a:xfrm>
        </p:grpSpPr>
        <p:grpSp>
          <p:nvGrpSpPr>
            <p:cNvPr id="8527" name=""/>
            <p:cNvGrpSpPr/>
            <p:nvPr/>
          </p:nvGrpSpPr>
          <p:grpSpPr>
            <a:xfrm>
              <a:off x="6603840" y="501480"/>
              <a:ext cx="76320" cy="79560"/>
              <a:chOff x="6603840" y="501480"/>
              <a:chExt cx="76320" cy="79560"/>
            </a:xfrm>
          </p:grpSpPr>
          <p:sp>
            <p:nvSpPr>
              <p:cNvPr id="8528" name=""/>
              <p:cNvSpPr/>
              <p:nvPr/>
            </p:nvSpPr>
            <p:spPr>
              <a:xfrm rot="16200000">
                <a:off x="6602040" y="5029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 rot="16200000">
                <a:off x="6631920" y="5126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0" name=""/>
            <p:cNvGrpSpPr/>
            <p:nvPr/>
          </p:nvGrpSpPr>
          <p:grpSpPr>
            <a:xfrm>
              <a:off x="6576480" y="568440"/>
              <a:ext cx="79560" cy="76320"/>
              <a:chOff x="6576480" y="568440"/>
              <a:chExt cx="79560" cy="76320"/>
            </a:xfrm>
          </p:grpSpPr>
          <p:sp>
            <p:nvSpPr>
              <p:cNvPr id="8531" name=""/>
              <p:cNvSpPr/>
              <p:nvPr/>
            </p:nvSpPr>
            <p:spPr>
              <a:xfrm rot="10800000">
                <a:off x="6576480" y="5684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 rot="10800000">
                <a:off x="6588360" y="5781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3" name=""/>
            <p:cNvGrpSpPr/>
            <p:nvPr/>
          </p:nvGrpSpPr>
          <p:grpSpPr>
            <a:xfrm>
              <a:off x="6699240" y="570240"/>
              <a:ext cx="79200" cy="75960"/>
              <a:chOff x="6699240" y="570240"/>
              <a:chExt cx="79200" cy="75960"/>
            </a:xfrm>
          </p:grpSpPr>
          <p:sp>
            <p:nvSpPr>
              <p:cNvPr id="8534" name=""/>
              <p:cNvSpPr/>
              <p:nvPr/>
            </p:nvSpPr>
            <p:spPr>
              <a:xfrm>
                <a:off x="6699240" y="5702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6729120" y="5979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6" name=""/>
            <p:cNvGrpSpPr/>
            <p:nvPr/>
          </p:nvGrpSpPr>
          <p:grpSpPr>
            <a:xfrm>
              <a:off x="6624360" y="608400"/>
              <a:ext cx="79560" cy="75960"/>
              <a:chOff x="6624360" y="608400"/>
              <a:chExt cx="79560" cy="75960"/>
            </a:xfrm>
          </p:grpSpPr>
          <p:sp>
            <p:nvSpPr>
              <p:cNvPr id="8537" name=""/>
              <p:cNvSpPr/>
              <p:nvPr/>
            </p:nvSpPr>
            <p:spPr>
              <a:xfrm>
                <a:off x="6624360" y="6084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6654240" y="636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9" name=""/>
            <p:cNvGrpSpPr/>
            <p:nvPr/>
          </p:nvGrpSpPr>
          <p:grpSpPr>
            <a:xfrm>
              <a:off x="6678360" y="482400"/>
              <a:ext cx="76320" cy="79560"/>
              <a:chOff x="6678360" y="482400"/>
              <a:chExt cx="76320" cy="79560"/>
            </a:xfrm>
          </p:grpSpPr>
          <p:sp>
            <p:nvSpPr>
              <p:cNvPr id="8540" name=""/>
              <p:cNvSpPr/>
              <p:nvPr/>
            </p:nvSpPr>
            <p:spPr>
              <a:xfrm rot="16200000">
                <a:off x="6676560" y="4838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 rot="16200000">
                <a:off x="6706440" y="493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42" name=""/>
          <p:cNvGrpSpPr/>
          <p:nvPr/>
        </p:nvGrpSpPr>
        <p:grpSpPr>
          <a:xfrm>
            <a:off x="6710040" y="314280"/>
            <a:ext cx="201960" cy="201960"/>
            <a:chOff x="6710040" y="314280"/>
            <a:chExt cx="201960" cy="201960"/>
          </a:xfrm>
        </p:grpSpPr>
        <p:grpSp>
          <p:nvGrpSpPr>
            <p:cNvPr id="8543" name=""/>
            <p:cNvGrpSpPr/>
            <p:nvPr/>
          </p:nvGrpSpPr>
          <p:grpSpPr>
            <a:xfrm>
              <a:off x="6729120" y="412560"/>
              <a:ext cx="79560" cy="76320"/>
              <a:chOff x="6729120" y="412560"/>
              <a:chExt cx="79560" cy="76320"/>
            </a:xfrm>
          </p:grpSpPr>
          <p:sp>
            <p:nvSpPr>
              <p:cNvPr id="8544" name=""/>
              <p:cNvSpPr/>
              <p:nvPr/>
            </p:nvSpPr>
            <p:spPr>
              <a:xfrm rot="10800000">
                <a:off x="6729120" y="4125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 rot="10800000">
                <a:off x="6741000" y="4222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6" name=""/>
            <p:cNvGrpSpPr/>
            <p:nvPr/>
          </p:nvGrpSpPr>
          <p:grpSpPr>
            <a:xfrm>
              <a:off x="6796080" y="436680"/>
              <a:ext cx="76320" cy="79560"/>
              <a:chOff x="6796080" y="436680"/>
              <a:chExt cx="76320" cy="79560"/>
            </a:xfrm>
          </p:grpSpPr>
          <p:sp>
            <p:nvSpPr>
              <p:cNvPr id="8547" name=""/>
              <p:cNvSpPr/>
              <p:nvPr/>
            </p:nvSpPr>
            <p:spPr>
              <a:xfrm rot="5400000">
                <a:off x="6794280" y="4381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 rot="5400000">
                <a:off x="6806160" y="465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9" name=""/>
            <p:cNvGrpSpPr/>
            <p:nvPr/>
          </p:nvGrpSpPr>
          <p:grpSpPr>
            <a:xfrm>
              <a:off x="6797880" y="314280"/>
              <a:ext cx="75960" cy="79200"/>
              <a:chOff x="6797880" y="314280"/>
              <a:chExt cx="75960" cy="79200"/>
            </a:xfrm>
          </p:grpSpPr>
          <p:sp>
            <p:nvSpPr>
              <p:cNvPr id="8550" name=""/>
              <p:cNvSpPr/>
              <p:nvPr/>
            </p:nvSpPr>
            <p:spPr>
              <a:xfrm rot="16200000">
                <a:off x="6796080" y="3157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 rot="16200000">
                <a:off x="6825960" y="325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2" name=""/>
            <p:cNvGrpSpPr/>
            <p:nvPr/>
          </p:nvGrpSpPr>
          <p:grpSpPr>
            <a:xfrm>
              <a:off x="6836040" y="388800"/>
              <a:ext cx="75960" cy="79560"/>
              <a:chOff x="6836040" y="388800"/>
              <a:chExt cx="75960" cy="79560"/>
            </a:xfrm>
          </p:grpSpPr>
          <p:sp>
            <p:nvSpPr>
              <p:cNvPr id="8553" name=""/>
              <p:cNvSpPr/>
              <p:nvPr/>
            </p:nvSpPr>
            <p:spPr>
              <a:xfrm rot="16200000">
                <a:off x="6834240" y="3906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 rot="16200000">
                <a:off x="6864120" y="400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5" name=""/>
            <p:cNvGrpSpPr/>
            <p:nvPr/>
          </p:nvGrpSpPr>
          <p:grpSpPr>
            <a:xfrm>
              <a:off x="6710040" y="338040"/>
              <a:ext cx="79560" cy="76320"/>
              <a:chOff x="6710040" y="338040"/>
              <a:chExt cx="79560" cy="76320"/>
            </a:xfrm>
          </p:grpSpPr>
          <p:sp>
            <p:nvSpPr>
              <p:cNvPr id="8556" name=""/>
              <p:cNvSpPr/>
              <p:nvPr/>
            </p:nvSpPr>
            <p:spPr>
              <a:xfrm rot="10800000">
                <a:off x="6710040" y="3380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 rot="10800000">
                <a:off x="6721920" y="3477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58" name=""/>
          <p:cNvGrpSpPr/>
          <p:nvPr/>
        </p:nvGrpSpPr>
        <p:grpSpPr>
          <a:xfrm>
            <a:off x="6243120" y="518040"/>
            <a:ext cx="168840" cy="171000"/>
            <a:chOff x="6243120" y="518040"/>
            <a:chExt cx="168840" cy="171000"/>
          </a:xfrm>
        </p:grpSpPr>
        <p:grpSp>
          <p:nvGrpSpPr>
            <p:cNvPr id="8559" name=""/>
            <p:cNvGrpSpPr/>
            <p:nvPr/>
          </p:nvGrpSpPr>
          <p:grpSpPr>
            <a:xfrm>
              <a:off x="6243120" y="568800"/>
              <a:ext cx="79560" cy="75960"/>
              <a:chOff x="6243120" y="568800"/>
              <a:chExt cx="79560" cy="75960"/>
            </a:xfrm>
          </p:grpSpPr>
          <p:sp>
            <p:nvSpPr>
              <p:cNvPr id="8560" name=""/>
              <p:cNvSpPr/>
              <p:nvPr/>
            </p:nvSpPr>
            <p:spPr>
              <a:xfrm rot="10800000">
                <a:off x="6243120" y="5688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 rot="10800000">
                <a:off x="6255000" y="5785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2" name=""/>
            <p:cNvGrpSpPr/>
            <p:nvPr/>
          </p:nvGrpSpPr>
          <p:grpSpPr>
            <a:xfrm>
              <a:off x="6335640" y="609840"/>
              <a:ext cx="76320" cy="79200"/>
              <a:chOff x="6335640" y="609840"/>
              <a:chExt cx="76320" cy="79200"/>
            </a:xfrm>
          </p:grpSpPr>
          <p:sp>
            <p:nvSpPr>
              <p:cNvPr id="8563" name=""/>
              <p:cNvSpPr/>
              <p:nvPr/>
            </p:nvSpPr>
            <p:spPr>
              <a:xfrm rot="5400000">
                <a:off x="6334200" y="6112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 rot="5400000">
                <a:off x="6345720" y="6390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5" name=""/>
            <p:cNvGrpSpPr/>
            <p:nvPr/>
          </p:nvGrpSpPr>
          <p:grpSpPr>
            <a:xfrm>
              <a:off x="6330960" y="518040"/>
              <a:ext cx="75960" cy="79200"/>
              <a:chOff x="6330960" y="518040"/>
              <a:chExt cx="75960" cy="79200"/>
            </a:xfrm>
          </p:grpSpPr>
          <p:sp>
            <p:nvSpPr>
              <p:cNvPr id="8566" name=""/>
              <p:cNvSpPr/>
              <p:nvPr/>
            </p:nvSpPr>
            <p:spPr>
              <a:xfrm rot="16200000">
                <a:off x="6329160" y="5194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 rot="16200000">
                <a:off x="6359040" y="5292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68" name=""/>
          <p:cNvGrpSpPr/>
          <p:nvPr/>
        </p:nvGrpSpPr>
        <p:grpSpPr>
          <a:xfrm>
            <a:off x="6271920" y="258480"/>
            <a:ext cx="201960" cy="201960"/>
            <a:chOff x="6271920" y="258480"/>
            <a:chExt cx="201960" cy="201960"/>
          </a:xfrm>
        </p:grpSpPr>
        <p:grpSp>
          <p:nvGrpSpPr>
            <p:cNvPr id="8569" name=""/>
            <p:cNvGrpSpPr/>
            <p:nvPr/>
          </p:nvGrpSpPr>
          <p:grpSpPr>
            <a:xfrm>
              <a:off x="6299280" y="277560"/>
              <a:ext cx="76320" cy="79560"/>
              <a:chOff x="6299280" y="277560"/>
              <a:chExt cx="76320" cy="79560"/>
            </a:xfrm>
          </p:grpSpPr>
          <p:sp>
            <p:nvSpPr>
              <p:cNvPr id="8570" name=""/>
              <p:cNvSpPr/>
              <p:nvPr/>
            </p:nvSpPr>
            <p:spPr>
              <a:xfrm rot="16200000">
                <a:off x="6297480" y="2790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 rot="16200000">
                <a:off x="6327360" y="2887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2" name=""/>
            <p:cNvGrpSpPr/>
            <p:nvPr/>
          </p:nvGrpSpPr>
          <p:grpSpPr>
            <a:xfrm>
              <a:off x="6271920" y="344520"/>
              <a:ext cx="79560" cy="76320"/>
              <a:chOff x="6271920" y="344520"/>
              <a:chExt cx="79560" cy="76320"/>
            </a:xfrm>
          </p:grpSpPr>
          <p:sp>
            <p:nvSpPr>
              <p:cNvPr id="8573" name=""/>
              <p:cNvSpPr/>
              <p:nvPr/>
            </p:nvSpPr>
            <p:spPr>
              <a:xfrm rot="10800000">
                <a:off x="6271920" y="3445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 rot="10800000">
                <a:off x="6283800" y="3542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5" name=""/>
            <p:cNvGrpSpPr/>
            <p:nvPr/>
          </p:nvGrpSpPr>
          <p:grpSpPr>
            <a:xfrm>
              <a:off x="6394680" y="346320"/>
              <a:ext cx="79200" cy="75960"/>
              <a:chOff x="6394680" y="346320"/>
              <a:chExt cx="79200" cy="75960"/>
            </a:xfrm>
          </p:grpSpPr>
          <p:sp>
            <p:nvSpPr>
              <p:cNvPr id="8576" name=""/>
              <p:cNvSpPr/>
              <p:nvPr/>
            </p:nvSpPr>
            <p:spPr>
              <a:xfrm>
                <a:off x="6394680" y="3463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6424560" y="374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8" name=""/>
            <p:cNvGrpSpPr/>
            <p:nvPr/>
          </p:nvGrpSpPr>
          <p:grpSpPr>
            <a:xfrm>
              <a:off x="6319800" y="384480"/>
              <a:ext cx="79560" cy="75960"/>
              <a:chOff x="6319800" y="384480"/>
              <a:chExt cx="79560" cy="75960"/>
            </a:xfrm>
          </p:grpSpPr>
          <p:sp>
            <p:nvSpPr>
              <p:cNvPr id="8579" name=""/>
              <p:cNvSpPr/>
              <p:nvPr/>
            </p:nvSpPr>
            <p:spPr>
              <a:xfrm>
                <a:off x="6319800" y="3844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6349680" y="4122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1" name=""/>
            <p:cNvGrpSpPr/>
            <p:nvPr/>
          </p:nvGrpSpPr>
          <p:grpSpPr>
            <a:xfrm>
              <a:off x="6373800" y="258480"/>
              <a:ext cx="76320" cy="79560"/>
              <a:chOff x="6373800" y="258480"/>
              <a:chExt cx="76320" cy="79560"/>
            </a:xfrm>
          </p:grpSpPr>
          <p:sp>
            <p:nvSpPr>
              <p:cNvPr id="8582" name=""/>
              <p:cNvSpPr/>
              <p:nvPr/>
            </p:nvSpPr>
            <p:spPr>
              <a:xfrm rot="16200000">
                <a:off x="6372000" y="2599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 rot="16200000">
                <a:off x="6401880" y="2696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4" name=""/>
          <p:cNvGrpSpPr/>
          <p:nvPr/>
        </p:nvGrpSpPr>
        <p:grpSpPr>
          <a:xfrm>
            <a:off x="988560" y="2359440"/>
            <a:ext cx="168840" cy="171000"/>
            <a:chOff x="988560" y="2359440"/>
            <a:chExt cx="168840" cy="171000"/>
          </a:xfrm>
        </p:grpSpPr>
        <p:grpSp>
          <p:nvGrpSpPr>
            <p:cNvPr id="8585" name=""/>
            <p:cNvGrpSpPr/>
            <p:nvPr/>
          </p:nvGrpSpPr>
          <p:grpSpPr>
            <a:xfrm>
              <a:off x="988560" y="2410200"/>
              <a:ext cx="79560" cy="75960"/>
              <a:chOff x="988560" y="2410200"/>
              <a:chExt cx="79560" cy="75960"/>
            </a:xfrm>
          </p:grpSpPr>
          <p:sp>
            <p:nvSpPr>
              <p:cNvPr id="8586" name=""/>
              <p:cNvSpPr/>
              <p:nvPr/>
            </p:nvSpPr>
            <p:spPr>
              <a:xfrm rot="10800000">
                <a:off x="988560" y="241020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 rot="10800000">
                <a:off x="1000440" y="24199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8" name=""/>
            <p:cNvGrpSpPr/>
            <p:nvPr/>
          </p:nvGrpSpPr>
          <p:grpSpPr>
            <a:xfrm>
              <a:off x="1081080" y="2451240"/>
              <a:ext cx="76320" cy="79200"/>
              <a:chOff x="1081080" y="2451240"/>
              <a:chExt cx="76320" cy="79200"/>
            </a:xfrm>
          </p:grpSpPr>
          <p:sp>
            <p:nvSpPr>
              <p:cNvPr id="8589" name=""/>
              <p:cNvSpPr/>
              <p:nvPr/>
            </p:nvSpPr>
            <p:spPr>
              <a:xfrm rot="5400000">
                <a:off x="1079640" y="24526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 rot="5400000">
                <a:off x="1091160" y="24804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1" name=""/>
            <p:cNvGrpSpPr/>
            <p:nvPr/>
          </p:nvGrpSpPr>
          <p:grpSpPr>
            <a:xfrm>
              <a:off x="1076400" y="2359440"/>
              <a:ext cx="75960" cy="79200"/>
              <a:chOff x="1076400" y="2359440"/>
              <a:chExt cx="75960" cy="79200"/>
            </a:xfrm>
          </p:grpSpPr>
          <p:sp>
            <p:nvSpPr>
              <p:cNvPr id="8592" name=""/>
              <p:cNvSpPr/>
              <p:nvPr/>
            </p:nvSpPr>
            <p:spPr>
              <a:xfrm rot="16200000">
                <a:off x="1074600" y="23608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 rot="16200000">
                <a:off x="1104480" y="2370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94" name=""/>
          <p:cNvGrpSpPr/>
          <p:nvPr/>
        </p:nvGrpSpPr>
        <p:grpSpPr>
          <a:xfrm>
            <a:off x="860760" y="2491200"/>
            <a:ext cx="171000" cy="167400"/>
            <a:chOff x="860760" y="2491200"/>
            <a:chExt cx="171000" cy="167400"/>
          </a:xfrm>
        </p:grpSpPr>
        <p:grpSp>
          <p:nvGrpSpPr>
            <p:cNvPr id="8595" name=""/>
            <p:cNvGrpSpPr/>
            <p:nvPr/>
          </p:nvGrpSpPr>
          <p:grpSpPr>
            <a:xfrm>
              <a:off x="911520" y="2579400"/>
              <a:ext cx="75960" cy="79200"/>
              <a:chOff x="911520" y="2579400"/>
              <a:chExt cx="75960" cy="79200"/>
            </a:xfrm>
          </p:grpSpPr>
          <p:sp>
            <p:nvSpPr>
              <p:cNvPr id="8596" name=""/>
              <p:cNvSpPr/>
              <p:nvPr/>
            </p:nvSpPr>
            <p:spPr>
              <a:xfrm rot="5400000">
                <a:off x="909720" y="25808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 rot="5400000">
                <a:off x="921600" y="26089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8" name=""/>
            <p:cNvGrpSpPr/>
            <p:nvPr/>
          </p:nvGrpSpPr>
          <p:grpSpPr>
            <a:xfrm>
              <a:off x="952560" y="2491200"/>
              <a:ext cx="79200" cy="75960"/>
              <a:chOff x="952560" y="2491200"/>
              <a:chExt cx="79200" cy="75960"/>
            </a:xfrm>
          </p:grpSpPr>
          <p:sp>
            <p:nvSpPr>
              <p:cNvPr id="8599" name=""/>
              <p:cNvSpPr/>
              <p:nvPr/>
            </p:nvSpPr>
            <p:spPr>
              <a:xfrm>
                <a:off x="952560" y="24912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982440" y="25189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1" name=""/>
            <p:cNvGrpSpPr/>
            <p:nvPr/>
          </p:nvGrpSpPr>
          <p:grpSpPr>
            <a:xfrm>
              <a:off x="860760" y="2495880"/>
              <a:ext cx="79200" cy="75600"/>
              <a:chOff x="860760" y="2495880"/>
              <a:chExt cx="79200" cy="75600"/>
            </a:xfrm>
          </p:grpSpPr>
          <p:sp>
            <p:nvSpPr>
              <p:cNvPr id="8602" name=""/>
              <p:cNvSpPr/>
              <p:nvPr/>
            </p:nvSpPr>
            <p:spPr>
              <a:xfrm rot="10800000">
                <a:off x="860760" y="249588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 rot="10800000">
                <a:off x="872280" y="2505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04" name=""/>
          <p:cNvGrpSpPr/>
          <p:nvPr/>
        </p:nvGrpSpPr>
        <p:grpSpPr>
          <a:xfrm>
            <a:off x="1157400" y="2352240"/>
            <a:ext cx="201960" cy="201960"/>
            <a:chOff x="1157400" y="2352240"/>
            <a:chExt cx="201960" cy="201960"/>
          </a:xfrm>
        </p:grpSpPr>
        <p:grpSp>
          <p:nvGrpSpPr>
            <p:cNvPr id="8605" name=""/>
            <p:cNvGrpSpPr/>
            <p:nvPr/>
          </p:nvGrpSpPr>
          <p:grpSpPr>
            <a:xfrm>
              <a:off x="1260720" y="2379600"/>
              <a:ext cx="79560" cy="76320"/>
              <a:chOff x="1260720" y="2379600"/>
              <a:chExt cx="79560" cy="76320"/>
            </a:xfrm>
          </p:grpSpPr>
          <p:sp>
            <p:nvSpPr>
              <p:cNvPr id="8606" name=""/>
              <p:cNvSpPr/>
              <p:nvPr/>
            </p:nvSpPr>
            <p:spPr>
              <a:xfrm>
                <a:off x="1260720" y="23796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1290600" y="24073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8" name=""/>
            <p:cNvGrpSpPr/>
            <p:nvPr/>
          </p:nvGrpSpPr>
          <p:grpSpPr>
            <a:xfrm>
              <a:off x="1197000" y="2352240"/>
              <a:ext cx="76320" cy="79560"/>
              <a:chOff x="1197000" y="2352240"/>
              <a:chExt cx="76320" cy="79560"/>
            </a:xfrm>
          </p:grpSpPr>
          <p:sp>
            <p:nvSpPr>
              <p:cNvPr id="8609" name=""/>
              <p:cNvSpPr/>
              <p:nvPr/>
            </p:nvSpPr>
            <p:spPr>
              <a:xfrm rot="16200000">
                <a:off x="1195200" y="23536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 rot="16200000">
                <a:off x="1225080" y="23634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1" name=""/>
            <p:cNvGrpSpPr/>
            <p:nvPr/>
          </p:nvGrpSpPr>
          <p:grpSpPr>
            <a:xfrm>
              <a:off x="1195560" y="2475000"/>
              <a:ext cx="75960" cy="79200"/>
              <a:chOff x="1195560" y="2475000"/>
              <a:chExt cx="75960" cy="79200"/>
            </a:xfrm>
          </p:grpSpPr>
          <p:sp>
            <p:nvSpPr>
              <p:cNvPr id="8612" name=""/>
              <p:cNvSpPr/>
              <p:nvPr/>
            </p:nvSpPr>
            <p:spPr>
              <a:xfrm rot="5400000">
                <a:off x="1193760" y="2476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 rot="5400000">
                <a:off x="1205640" y="25045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4" name=""/>
            <p:cNvGrpSpPr/>
            <p:nvPr/>
          </p:nvGrpSpPr>
          <p:grpSpPr>
            <a:xfrm>
              <a:off x="1157400" y="2400120"/>
              <a:ext cx="75960" cy="79560"/>
              <a:chOff x="1157400" y="2400120"/>
              <a:chExt cx="75960" cy="79560"/>
            </a:xfrm>
          </p:grpSpPr>
          <p:sp>
            <p:nvSpPr>
              <p:cNvPr id="8615" name=""/>
              <p:cNvSpPr/>
              <p:nvPr/>
            </p:nvSpPr>
            <p:spPr>
              <a:xfrm rot="5400000">
                <a:off x="1155600" y="24019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 rot="5400000">
                <a:off x="1167480" y="24296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7" name=""/>
            <p:cNvGrpSpPr/>
            <p:nvPr/>
          </p:nvGrpSpPr>
          <p:grpSpPr>
            <a:xfrm>
              <a:off x="1279800" y="2454120"/>
              <a:ext cx="79560" cy="76320"/>
              <a:chOff x="1279800" y="2454120"/>
              <a:chExt cx="79560" cy="76320"/>
            </a:xfrm>
          </p:grpSpPr>
          <p:sp>
            <p:nvSpPr>
              <p:cNvPr id="8618" name=""/>
              <p:cNvSpPr/>
              <p:nvPr/>
            </p:nvSpPr>
            <p:spPr>
              <a:xfrm>
                <a:off x="1279800" y="24541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1309680" y="2481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20" name=""/>
          <p:cNvGrpSpPr/>
          <p:nvPr/>
        </p:nvGrpSpPr>
        <p:grpSpPr>
          <a:xfrm>
            <a:off x="690480" y="2556000"/>
            <a:ext cx="168840" cy="171000"/>
            <a:chOff x="690480" y="2556000"/>
            <a:chExt cx="168840" cy="171000"/>
          </a:xfrm>
        </p:grpSpPr>
        <p:grpSp>
          <p:nvGrpSpPr>
            <p:cNvPr id="8621" name=""/>
            <p:cNvGrpSpPr/>
            <p:nvPr/>
          </p:nvGrpSpPr>
          <p:grpSpPr>
            <a:xfrm>
              <a:off x="779760" y="2600280"/>
              <a:ext cx="79560" cy="75960"/>
              <a:chOff x="779760" y="2600280"/>
              <a:chExt cx="79560" cy="75960"/>
            </a:xfrm>
          </p:grpSpPr>
          <p:sp>
            <p:nvSpPr>
              <p:cNvPr id="8622" name=""/>
              <p:cNvSpPr/>
              <p:nvPr/>
            </p:nvSpPr>
            <p:spPr>
              <a:xfrm>
                <a:off x="779760" y="26002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809640" y="26280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4" name=""/>
            <p:cNvGrpSpPr/>
            <p:nvPr/>
          </p:nvGrpSpPr>
          <p:grpSpPr>
            <a:xfrm>
              <a:off x="690480" y="2556000"/>
              <a:ext cx="76320" cy="79200"/>
              <a:chOff x="690480" y="2556000"/>
              <a:chExt cx="76320" cy="79200"/>
            </a:xfrm>
          </p:grpSpPr>
          <p:sp>
            <p:nvSpPr>
              <p:cNvPr id="8625" name=""/>
              <p:cNvSpPr/>
              <p:nvPr/>
            </p:nvSpPr>
            <p:spPr>
              <a:xfrm rot="16200000">
                <a:off x="689040" y="255744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 rot="16200000">
                <a:off x="718560" y="25668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27" name=""/>
            <p:cNvGrpSpPr/>
            <p:nvPr/>
          </p:nvGrpSpPr>
          <p:grpSpPr>
            <a:xfrm>
              <a:off x="695520" y="2647800"/>
              <a:ext cx="75960" cy="79200"/>
              <a:chOff x="695520" y="2647800"/>
              <a:chExt cx="75960" cy="79200"/>
            </a:xfrm>
          </p:grpSpPr>
          <p:sp>
            <p:nvSpPr>
              <p:cNvPr id="8628" name=""/>
              <p:cNvSpPr/>
              <p:nvPr/>
            </p:nvSpPr>
            <p:spPr>
              <a:xfrm rot="5400000">
                <a:off x="693720" y="26492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 rot="5400000">
                <a:off x="705600" y="26773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30" name=""/>
          <p:cNvGrpSpPr/>
          <p:nvPr/>
        </p:nvGrpSpPr>
        <p:grpSpPr>
          <a:xfrm>
            <a:off x="719280" y="2297160"/>
            <a:ext cx="201960" cy="201960"/>
            <a:chOff x="719280" y="2297160"/>
            <a:chExt cx="201960" cy="201960"/>
          </a:xfrm>
        </p:grpSpPr>
        <p:grpSp>
          <p:nvGrpSpPr>
            <p:cNvPr id="8631" name=""/>
            <p:cNvGrpSpPr/>
            <p:nvPr/>
          </p:nvGrpSpPr>
          <p:grpSpPr>
            <a:xfrm>
              <a:off x="817560" y="2400480"/>
              <a:ext cx="76320" cy="79560"/>
              <a:chOff x="817560" y="2400480"/>
              <a:chExt cx="76320" cy="79560"/>
            </a:xfrm>
          </p:grpSpPr>
          <p:sp>
            <p:nvSpPr>
              <p:cNvPr id="8632" name=""/>
              <p:cNvSpPr/>
              <p:nvPr/>
            </p:nvSpPr>
            <p:spPr>
              <a:xfrm rot="5400000">
                <a:off x="815760" y="24019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 rot="5400000">
                <a:off x="827640" y="24296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4" name=""/>
            <p:cNvGrpSpPr/>
            <p:nvPr/>
          </p:nvGrpSpPr>
          <p:grpSpPr>
            <a:xfrm>
              <a:off x="841680" y="2336760"/>
              <a:ext cx="79560" cy="76320"/>
              <a:chOff x="841680" y="2336760"/>
              <a:chExt cx="79560" cy="76320"/>
            </a:xfrm>
          </p:grpSpPr>
          <p:sp>
            <p:nvSpPr>
              <p:cNvPr id="8635" name=""/>
              <p:cNvSpPr/>
              <p:nvPr/>
            </p:nvSpPr>
            <p:spPr>
              <a:xfrm>
                <a:off x="841680" y="23367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871560" y="23644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7" name=""/>
            <p:cNvGrpSpPr/>
            <p:nvPr/>
          </p:nvGrpSpPr>
          <p:grpSpPr>
            <a:xfrm>
              <a:off x="719280" y="2335320"/>
              <a:ext cx="79200" cy="75960"/>
              <a:chOff x="719280" y="2335320"/>
              <a:chExt cx="79200" cy="75960"/>
            </a:xfrm>
          </p:grpSpPr>
          <p:sp>
            <p:nvSpPr>
              <p:cNvPr id="8638" name=""/>
              <p:cNvSpPr/>
              <p:nvPr/>
            </p:nvSpPr>
            <p:spPr>
              <a:xfrm rot="10800000">
                <a:off x="719280" y="233532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 rot="10800000">
                <a:off x="730800" y="2345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0" name=""/>
            <p:cNvGrpSpPr/>
            <p:nvPr/>
          </p:nvGrpSpPr>
          <p:grpSpPr>
            <a:xfrm>
              <a:off x="793800" y="2297160"/>
              <a:ext cx="79560" cy="75960"/>
              <a:chOff x="793800" y="2297160"/>
              <a:chExt cx="79560" cy="75960"/>
            </a:xfrm>
          </p:grpSpPr>
          <p:sp>
            <p:nvSpPr>
              <p:cNvPr id="8641" name=""/>
              <p:cNvSpPr/>
              <p:nvPr/>
            </p:nvSpPr>
            <p:spPr>
              <a:xfrm rot="10800000">
                <a:off x="793800" y="22971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 rot="10800000">
                <a:off x="805680" y="23068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3" name=""/>
            <p:cNvGrpSpPr/>
            <p:nvPr/>
          </p:nvGrpSpPr>
          <p:grpSpPr>
            <a:xfrm>
              <a:off x="743040" y="2419560"/>
              <a:ext cx="76320" cy="79560"/>
              <a:chOff x="743040" y="2419560"/>
              <a:chExt cx="76320" cy="79560"/>
            </a:xfrm>
          </p:grpSpPr>
          <p:sp>
            <p:nvSpPr>
              <p:cNvPr id="8644" name=""/>
              <p:cNvSpPr/>
              <p:nvPr/>
            </p:nvSpPr>
            <p:spPr>
              <a:xfrm rot="5400000">
                <a:off x="741240" y="24210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 rot="5400000">
                <a:off x="753120" y="24487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46" name=""/>
          <p:cNvGrpSpPr/>
          <p:nvPr/>
        </p:nvGrpSpPr>
        <p:grpSpPr>
          <a:xfrm>
            <a:off x="490680" y="2344680"/>
            <a:ext cx="201960" cy="201960"/>
            <a:chOff x="490680" y="2344680"/>
            <a:chExt cx="201960" cy="201960"/>
          </a:xfrm>
        </p:grpSpPr>
        <p:grpSp>
          <p:nvGrpSpPr>
            <p:cNvPr id="8647" name=""/>
            <p:cNvGrpSpPr/>
            <p:nvPr/>
          </p:nvGrpSpPr>
          <p:grpSpPr>
            <a:xfrm>
              <a:off x="588960" y="2448000"/>
              <a:ext cx="76320" cy="79560"/>
              <a:chOff x="588960" y="2448000"/>
              <a:chExt cx="76320" cy="79560"/>
            </a:xfrm>
          </p:grpSpPr>
          <p:sp>
            <p:nvSpPr>
              <p:cNvPr id="8648" name=""/>
              <p:cNvSpPr/>
              <p:nvPr/>
            </p:nvSpPr>
            <p:spPr>
              <a:xfrm rot="5400000">
                <a:off x="587160" y="24494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 rot="5400000">
                <a:off x="599040" y="24771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0" name=""/>
            <p:cNvGrpSpPr/>
            <p:nvPr/>
          </p:nvGrpSpPr>
          <p:grpSpPr>
            <a:xfrm>
              <a:off x="613080" y="2384280"/>
              <a:ext cx="79560" cy="76320"/>
              <a:chOff x="613080" y="2384280"/>
              <a:chExt cx="79560" cy="76320"/>
            </a:xfrm>
          </p:grpSpPr>
          <p:sp>
            <p:nvSpPr>
              <p:cNvPr id="8651" name=""/>
              <p:cNvSpPr/>
              <p:nvPr/>
            </p:nvSpPr>
            <p:spPr>
              <a:xfrm>
                <a:off x="613080" y="23842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642960" y="24120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3" name=""/>
            <p:cNvGrpSpPr/>
            <p:nvPr/>
          </p:nvGrpSpPr>
          <p:grpSpPr>
            <a:xfrm>
              <a:off x="490680" y="2382840"/>
              <a:ext cx="79200" cy="75960"/>
              <a:chOff x="490680" y="2382840"/>
              <a:chExt cx="79200" cy="75960"/>
            </a:xfrm>
          </p:grpSpPr>
          <p:sp>
            <p:nvSpPr>
              <p:cNvPr id="8654" name=""/>
              <p:cNvSpPr/>
              <p:nvPr/>
            </p:nvSpPr>
            <p:spPr>
              <a:xfrm rot="10800000">
                <a:off x="490680" y="23828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 rot="10800000">
                <a:off x="502200" y="23925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6" name=""/>
            <p:cNvGrpSpPr/>
            <p:nvPr/>
          </p:nvGrpSpPr>
          <p:grpSpPr>
            <a:xfrm>
              <a:off x="565200" y="2344680"/>
              <a:ext cx="79560" cy="75960"/>
              <a:chOff x="565200" y="2344680"/>
              <a:chExt cx="79560" cy="75960"/>
            </a:xfrm>
          </p:grpSpPr>
          <p:sp>
            <p:nvSpPr>
              <p:cNvPr id="8657" name=""/>
              <p:cNvSpPr/>
              <p:nvPr/>
            </p:nvSpPr>
            <p:spPr>
              <a:xfrm rot="10800000">
                <a:off x="565200" y="23446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 rot="10800000">
                <a:off x="577080" y="23544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59" name=""/>
            <p:cNvGrpSpPr/>
            <p:nvPr/>
          </p:nvGrpSpPr>
          <p:grpSpPr>
            <a:xfrm>
              <a:off x="514440" y="2467080"/>
              <a:ext cx="76320" cy="79560"/>
              <a:chOff x="514440" y="2467080"/>
              <a:chExt cx="76320" cy="79560"/>
            </a:xfrm>
          </p:grpSpPr>
          <p:sp>
            <p:nvSpPr>
              <p:cNvPr id="8660" name=""/>
              <p:cNvSpPr/>
              <p:nvPr/>
            </p:nvSpPr>
            <p:spPr>
              <a:xfrm rot="5400000">
                <a:off x="512640" y="24685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 rot="5400000">
                <a:off x="524520" y="24962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62" name=""/>
          <p:cNvGrpSpPr/>
          <p:nvPr/>
        </p:nvGrpSpPr>
        <p:grpSpPr>
          <a:xfrm>
            <a:off x="2043000" y="1123560"/>
            <a:ext cx="201960" cy="201960"/>
            <a:chOff x="2043000" y="1123560"/>
            <a:chExt cx="201960" cy="201960"/>
          </a:xfrm>
        </p:grpSpPr>
        <p:grpSp>
          <p:nvGrpSpPr>
            <p:cNvPr id="8663" name=""/>
            <p:cNvGrpSpPr/>
            <p:nvPr/>
          </p:nvGrpSpPr>
          <p:grpSpPr>
            <a:xfrm>
              <a:off x="2146320" y="1150920"/>
              <a:ext cx="79560" cy="76320"/>
              <a:chOff x="2146320" y="1150920"/>
              <a:chExt cx="79560" cy="76320"/>
            </a:xfrm>
          </p:grpSpPr>
          <p:sp>
            <p:nvSpPr>
              <p:cNvPr id="8664" name=""/>
              <p:cNvSpPr/>
              <p:nvPr/>
            </p:nvSpPr>
            <p:spPr>
              <a:xfrm>
                <a:off x="2146320" y="11509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2176200" y="11786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6" name=""/>
            <p:cNvGrpSpPr/>
            <p:nvPr/>
          </p:nvGrpSpPr>
          <p:grpSpPr>
            <a:xfrm>
              <a:off x="2082600" y="1123560"/>
              <a:ext cx="76320" cy="79560"/>
              <a:chOff x="2082600" y="1123560"/>
              <a:chExt cx="76320" cy="79560"/>
            </a:xfrm>
          </p:grpSpPr>
          <p:sp>
            <p:nvSpPr>
              <p:cNvPr id="8667" name=""/>
              <p:cNvSpPr/>
              <p:nvPr/>
            </p:nvSpPr>
            <p:spPr>
              <a:xfrm rot="16200000">
                <a:off x="2080800" y="11250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 rot="16200000">
                <a:off x="2110680" y="11347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9" name=""/>
            <p:cNvGrpSpPr/>
            <p:nvPr/>
          </p:nvGrpSpPr>
          <p:grpSpPr>
            <a:xfrm>
              <a:off x="2081160" y="1246320"/>
              <a:ext cx="75960" cy="79200"/>
              <a:chOff x="2081160" y="1246320"/>
              <a:chExt cx="75960" cy="79200"/>
            </a:xfrm>
          </p:grpSpPr>
          <p:sp>
            <p:nvSpPr>
              <p:cNvPr id="8670" name=""/>
              <p:cNvSpPr/>
              <p:nvPr/>
            </p:nvSpPr>
            <p:spPr>
              <a:xfrm rot="5400000">
                <a:off x="2079360" y="12477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 rot="5400000">
                <a:off x="2091240" y="12758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2" name=""/>
            <p:cNvGrpSpPr/>
            <p:nvPr/>
          </p:nvGrpSpPr>
          <p:grpSpPr>
            <a:xfrm>
              <a:off x="2043000" y="1171440"/>
              <a:ext cx="75960" cy="79560"/>
              <a:chOff x="2043000" y="1171440"/>
              <a:chExt cx="75960" cy="79560"/>
            </a:xfrm>
          </p:grpSpPr>
          <p:sp>
            <p:nvSpPr>
              <p:cNvPr id="8673" name=""/>
              <p:cNvSpPr/>
              <p:nvPr/>
            </p:nvSpPr>
            <p:spPr>
              <a:xfrm rot="5400000">
                <a:off x="2041200" y="11732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 rot="5400000">
                <a:off x="2053080" y="12009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5" name=""/>
            <p:cNvGrpSpPr/>
            <p:nvPr/>
          </p:nvGrpSpPr>
          <p:grpSpPr>
            <a:xfrm>
              <a:off x="2165400" y="1225440"/>
              <a:ext cx="79560" cy="76320"/>
              <a:chOff x="2165400" y="1225440"/>
              <a:chExt cx="79560" cy="76320"/>
            </a:xfrm>
          </p:grpSpPr>
          <p:sp>
            <p:nvSpPr>
              <p:cNvPr id="8676" name=""/>
              <p:cNvSpPr/>
              <p:nvPr/>
            </p:nvSpPr>
            <p:spPr>
              <a:xfrm>
                <a:off x="2165400" y="12254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2195280" y="12531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78" name=""/>
          <p:cNvGrpSpPr/>
          <p:nvPr/>
        </p:nvGrpSpPr>
        <p:grpSpPr>
          <a:xfrm>
            <a:off x="1967040" y="904680"/>
            <a:ext cx="201960" cy="201960"/>
            <a:chOff x="1967040" y="904680"/>
            <a:chExt cx="201960" cy="201960"/>
          </a:xfrm>
        </p:grpSpPr>
        <p:grpSp>
          <p:nvGrpSpPr>
            <p:cNvPr id="8679" name=""/>
            <p:cNvGrpSpPr/>
            <p:nvPr/>
          </p:nvGrpSpPr>
          <p:grpSpPr>
            <a:xfrm>
              <a:off x="2070360" y="932040"/>
              <a:ext cx="79560" cy="76320"/>
              <a:chOff x="2070360" y="932040"/>
              <a:chExt cx="79560" cy="76320"/>
            </a:xfrm>
          </p:grpSpPr>
          <p:sp>
            <p:nvSpPr>
              <p:cNvPr id="8680" name=""/>
              <p:cNvSpPr/>
              <p:nvPr/>
            </p:nvSpPr>
            <p:spPr>
              <a:xfrm>
                <a:off x="2070360" y="9320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2100240" y="9597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2" name=""/>
            <p:cNvGrpSpPr/>
            <p:nvPr/>
          </p:nvGrpSpPr>
          <p:grpSpPr>
            <a:xfrm>
              <a:off x="2006640" y="904680"/>
              <a:ext cx="76320" cy="79560"/>
              <a:chOff x="2006640" y="904680"/>
              <a:chExt cx="76320" cy="79560"/>
            </a:xfrm>
          </p:grpSpPr>
          <p:sp>
            <p:nvSpPr>
              <p:cNvPr id="8683" name=""/>
              <p:cNvSpPr/>
              <p:nvPr/>
            </p:nvSpPr>
            <p:spPr>
              <a:xfrm rot="16200000">
                <a:off x="2004840" y="9061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 rot="16200000">
                <a:off x="2034720" y="915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5" name=""/>
            <p:cNvGrpSpPr/>
            <p:nvPr/>
          </p:nvGrpSpPr>
          <p:grpSpPr>
            <a:xfrm>
              <a:off x="2005200" y="1027440"/>
              <a:ext cx="75960" cy="79200"/>
              <a:chOff x="2005200" y="1027440"/>
              <a:chExt cx="75960" cy="79200"/>
            </a:xfrm>
          </p:grpSpPr>
          <p:sp>
            <p:nvSpPr>
              <p:cNvPr id="8686" name=""/>
              <p:cNvSpPr/>
              <p:nvPr/>
            </p:nvSpPr>
            <p:spPr>
              <a:xfrm rot="5400000">
                <a:off x="2003400" y="10288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 rot="5400000">
                <a:off x="2015280" y="10569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8" name=""/>
            <p:cNvGrpSpPr/>
            <p:nvPr/>
          </p:nvGrpSpPr>
          <p:grpSpPr>
            <a:xfrm>
              <a:off x="1967040" y="952560"/>
              <a:ext cx="75960" cy="79560"/>
              <a:chOff x="1967040" y="952560"/>
              <a:chExt cx="75960" cy="79560"/>
            </a:xfrm>
          </p:grpSpPr>
          <p:sp>
            <p:nvSpPr>
              <p:cNvPr id="8689" name=""/>
              <p:cNvSpPr/>
              <p:nvPr/>
            </p:nvSpPr>
            <p:spPr>
              <a:xfrm rot="5400000">
                <a:off x="1965240" y="9543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 rot="5400000">
                <a:off x="1977120" y="9820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1" name=""/>
            <p:cNvGrpSpPr/>
            <p:nvPr/>
          </p:nvGrpSpPr>
          <p:grpSpPr>
            <a:xfrm>
              <a:off x="2089440" y="1006560"/>
              <a:ext cx="79560" cy="76320"/>
              <a:chOff x="2089440" y="1006560"/>
              <a:chExt cx="79560" cy="76320"/>
            </a:xfrm>
          </p:grpSpPr>
          <p:sp>
            <p:nvSpPr>
              <p:cNvPr id="8692" name=""/>
              <p:cNvSpPr/>
              <p:nvPr/>
            </p:nvSpPr>
            <p:spPr>
              <a:xfrm>
                <a:off x="2089440" y="10065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2119320" y="10342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94" name=""/>
          <p:cNvGrpSpPr/>
          <p:nvPr/>
        </p:nvGrpSpPr>
        <p:grpSpPr>
          <a:xfrm>
            <a:off x="2247480" y="1305000"/>
            <a:ext cx="201960" cy="201960"/>
            <a:chOff x="2247480" y="1305000"/>
            <a:chExt cx="201960" cy="201960"/>
          </a:xfrm>
        </p:grpSpPr>
        <p:grpSp>
          <p:nvGrpSpPr>
            <p:cNvPr id="8695" name=""/>
            <p:cNvGrpSpPr/>
            <p:nvPr/>
          </p:nvGrpSpPr>
          <p:grpSpPr>
            <a:xfrm>
              <a:off x="2266560" y="1403280"/>
              <a:ext cx="79560" cy="76320"/>
              <a:chOff x="2266560" y="1403280"/>
              <a:chExt cx="79560" cy="76320"/>
            </a:xfrm>
          </p:grpSpPr>
          <p:sp>
            <p:nvSpPr>
              <p:cNvPr id="8696" name=""/>
              <p:cNvSpPr/>
              <p:nvPr/>
            </p:nvSpPr>
            <p:spPr>
              <a:xfrm rot="10800000">
                <a:off x="2266560" y="14032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 rot="10800000">
                <a:off x="2278440" y="14130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8" name=""/>
            <p:cNvGrpSpPr/>
            <p:nvPr/>
          </p:nvGrpSpPr>
          <p:grpSpPr>
            <a:xfrm>
              <a:off x="2333520" y="1427400"/>
              <a:ext cx="76320" cy="79560"/>
              <a:chOff x="2333520" y="1427400"/>
              <a:chExt cx="76320" cy="79560"/>
            </a:xfrm>
          </p:grpSpPr>
          <p:sp>
            <p:nvSpPr>
              <p:cNvPr id="8699" name=""/>
              <p:cNvSpPr/>
              <p:nvPr/>
            </p:nvSpPr>
            <p:spPr>
              <a:xfrm rot="5400000">
                <a:off x="2331720" y="14288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 rot="5400000">
                <a:off x="2343600" y="1456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1" name=""/>
            <p:cNvGrpSpPr/>
            <p:nvPr/>
          </p:nvGrpSpPr>
          <p:grpSpPr>
            <a:xfrm>
              <a:off x="2335320" y="1305000"/>
              <a:ext cx="75960" cy="79200"/>
              <a:chOff x="2335320" y="1305000"/>
              <a:chExt cx="75960" cy="79200"/>
            </a:xfrm>
          </p:grpSpPr>
          <p:sp>
            <p:nvSpPr>
              <p:cNvPr id="8702" name=""/>
              <p:cNvSpPr/>
              <p:nvPr/>
            </p:nvSpPr>
            <p:spPr>
              <a:xfrm rot="16200000">
                <a:off x="2333520" y="1306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 rot="16200000">
                <a:off x="2363400" y="1316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4" name=""/>
            <p:cNvGrpSpPr/>
            <p:nvPr/>
          </p:nvGrpSpPr>
          <p:grpSpPr>
            <a:xfrm>
              <a:off x="2373480" y="1379520"/>
              <a:ext cx="75960" cy="79560"/>
              <a:chOff x="2373480" y="1379520"/>
              <a:chExt cx="75960" cy="79560"/>
            </a:xfrm>
          </p:grpSpPr>
          <p:sp>
            <p:nvSpPr>
              <p:cNvPr id="8705" name=""/>
              <p:cNvSpPr/>
              <p:nvPr/>
            </p:nvSpPr>
            <p:spPr>
              <a:xfrm rot="16200000">
                <a:off x="2371680" y="13813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 rot="16200000">
                <a:off x="2401560" y="1391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7" name=""/>
            <p:cNvGrpSpPr/>
            <p:nvPr/>
          </p:nvGrpSpPr>
          <p:grpSpPr>
            <a:xfrm>
              <a:off x="2247480" y="1328760"/>
              <a:ext cx="79560" cy="76320"/>
              <a:chOff x="2247480" y="1328760"/>
              <a:chExt cx="79560" cy="76320"/>
            </a:xfrm>
          </p:grpSpPr>
          <p:sp>
            <p:nvSpPr>
              <p:cNvPr id="8708" name=""/>
              <p:cNvSpPr/>
              <p:nvPr/>
            </p:nvSpPr>
            <p:spPr>
              <a:xfrm rot="10800000">
                <a:off x="2247480" y="13287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 rot="10800000">
                <a:off x="2259360" y="13384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0" name=""/>
          <p:cNvGrpSpPr/>
          <p:nvPr/>
        </p:nvGrpSpPr>
        <p:grpSpPr>
          <a:xfrm>
            <a:off x="2355480" y="1117440"/>
            <a:ext cx="201960" cy="201960"/>
            <a:chOff x="2355480" y="1117440"/>
            <a:chExt cx="201960" cy="201960"/>
          </a:xfrm>
        </p:grpSpPr>
        <p:grpSp>
          <p:nvGrpSpPr>
            <p:cNvPr id="8711" name=""/>
            <p:cNvGrpSpPr/>
            <p:nvPr/>
          </p:nvGrpSpPr>
          <p:grpSpPr>
            <a:xfrm>
              <a:off x="2374560" y="1215720"/>
              <a:ext cx="79560" cy="76320"/>
              <a:chOff x="2374560" y="1215720"/>
              <a:chExt cx="79560" cy="76320"/>
            </a:xfrm>
          </p:grpSpPr>
          <p:sp>
            <p:nvSpPr>
              <p:cNvPr id="8712" name=""/>
              <p:cNvSpPr/>
              <p:nvPr/>
            </p:nvSpPr>
            <p:spPr>
              <a:xfrm rot="10800000">
                <a:off x="2374560" y="12157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 rot="10800000">
                <a:off x="2386440" y="12254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4" name=""/>
            <p:cNvGrpSpPr/>
            <p:nvPr/>
          </p:nvGrpSpPr>
          <p:grpSpPr>
            <a:xfrm>
              <a:off x="2441520" y="1239840"/>
              <a:ext cx="76320" cy="79560"/>
              <a:chOff x="2441520" y="1239840"/>
              <a:chExt cx="76320" cy="79560"/>
            </a:xfrm>
          </p:grpSpPr>
          <p:sp>
            <p:nvSpPr>
              <p:cNvPr id="8715" name=""/>
              <p:cNvSpPr/>
              <p:nvPr/>
            </p:nvSpPr>
            <p:spPr>
              <a:xfrm rot="5400000">
                <a:off x="2439720" y="12412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 rot="5400000">
                <a:off x="2451600" y="12690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17" name=""/>
            <p:cNvGrpSpPr/>
            <p:nvPr/>
          </p:nvGrpSpPr>
          <p:grpSpPr>
            <a:xfrm>
              <a:off x="2443320" y="1117440"/>
              <a:ext cx="75960" cy="79200"/>
              <a:chOff x="2443320" y="1117440"/>
              <a:chExt cx="75960" cy="79200"/>
            </a:xfrm>
          </p:grpSpPr>
          <p:sp>
            <p:nvSpPr>
              <p:cNvPr id="8718" name=""/>
              <p:cNvSpPr/>
              <p:nvPr/>
            </p:nvSpPr>
            <p:spPr>
              <a:xfrm rot="16200000">
                <a:off x="2441520" y="11188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 rot="16200000">
                <a:off x="2471400" y="1128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0" name=""/>
            <p:cNvGrpSpPr/>
            <p:nvPr/>
          </p:nvGrpSpPr>
          <p:grpSpPr>
            <a:xfrm>
              <a:off x="2481480" y="1191960"/>
              <a:ext cx="75960" cy="79560"/>
              <a:chOff x="2481480" y="1191960"/>
              <a:chExt cx="75960" cy="79560"/>
            </a:xfrm>
          </p:grpSpPr>
          <p:sp>
            <p:nvSpPr>
              <p:cNvPr id="8721" name=""/>
              <p:cNvSpPr/>
              <p:nvPr/>
            </p:nvSpPr>
            <p:spPr>
              <a:xfrm rot="16200000">
                <a:off x="2479680" y="11937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 rot="16200000">
                <a:off x="2509560" y="12034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3" name=""/>
            <p:cNvGrpSpPr/>
            <p:nvPr/>
          </p:nvGrpSpPr>
          <p:grpSpPr>
            <a:xfrm>
              <a:off x="2355480" y="1141200"/>
              <a:ext cx="79560" cy="76320"/>
              <a:chOff x="2355480" y="1141200"/>
              <a:chExt cx="79560" cy="76320"/>
            </a:xfrm>
          </p:grpSpPr>
          <p:sp>
            <p:nvSpPr>
              <p:cNvPr id="8724" name=""/>
              <p:cNvSpPr/>
              <p:nvPr/>
            </p:nvSpPr>
            <p:spPr>
              <a:xfrm rot="10800000">
                <a:off x="2355480" y="11412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rot="10800000">
                <a:off x="2367360" y="11509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26" name=""/>
          <p:cNvGrpSpPr/>
          <p:nvPr/>
        </p:nvGrpSpPr>
        <p:grpSpPr>
          <a:xfrm>
            <a:off x="2228400" y="1077840"/>
            <a:ext cx="172080" cy="168840"/>
            <a:chOff x="2228400" y="1077840"/>
            <a:chExt cx="172080" cy="168840"/>
          </a:xfrm>
        </p:grpSpPr>
        <p:grpSp>
          <p:nvGrpSpPr>
            <p:cNvPr id="8727" name=""/>
            <p:cNvGrpSpPr/>
            <p:nvPr/>
          </p:nvGrpSpPr>
          <p:grpSpPr>
            <a:xfrm>
              <a:off x="2279160" y="1167120"/>
              <a:ext cx="76320" cy="79560"/>
              <a:chOff x="2279160" y="1167120"/>
              <a:chExt cx="76320" cy="79560"/>
            </a:xfrm>
          </p:grpSpPr>
          <p:sp>
            <p:nvSpPr>
              <p:cNvPr id="8728" name=""/>
              <p:cNvSpPr/>
              <p:nvPr/>
            </p:nvSpPr>
            <p:spPr>
              <a:xfrm rot="5400000">
                <a:off x="2277360" y="11685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 rot="5400000">
                <a:off x="2289240" y="11962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0" name=""/>
            <p:cNvGrpSpPr/>
            <p:nvPr/>
          </p:nvGrpSpPr>
          <p:grpSpPr>
            <a:xfrm>
              <a:off x="2320920" y="1077840"/>
              <a:ext cx="79560" cy="76320"/>
              <a:chOff x="2320920" y="1077840"/>
              <a:chExt cx="79560" cy="76320"/>
            </a:xfrm>
          </p:grpSpPr>
          <p:sp>
            <p:nvSpPr>
              <p:cNvPr id="8731" name=""/>
              <p:cNvSpPr/>
              <p:nvPr/>
            </p:nvSpPr>
            <p:spPr>
              <a:xfrm>
                <a:off x="2320920" y="10778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2350800" y="1105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3" name=""/>
            <p:cNvGrpSpPr/>
            <p:nvPr/>
          </p:nvGrpSpPr>
          <p:grpSpPr>
            <a:xfrm>
              <a:off x="2228400" y="1082880"/>
              <a:ext cx="79560" cy="75960"/>
              <a:chOff x="2228400" y="1082880"/>
              <a:chExt cx="79560" cy="75960"/>
            </a:xfrm>
          </p:grpSpPr>
          <p:sp>
            <p:nvSpPr>
              <p:cNvPr id="8734" name=""/>
              <p:cNvSpPr/>
              <p:nvPr/>
            </p:nvSpPr>
            <p:spPr>
              <a:xfrm rot="10800000">
                <a:off x="2228400" y="10828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 rot="10800000">
                <a:off x="2240280" y="1092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6" name=""/>
          <p:cNvGrpSpPr/>
          <p:nvPr/>
        </p:nvGrpSpPr>
        <p:grpSpPr>
          <a:xfrm>
            <a:off x="2400480" y="999720"/>
            <a:ext cx="75960" cy="79560"/>
            <a:chOff x="2400480" y="999720"/>
            <a:chExt cx="75960" cy="79560"/>
          </a:xfrm>
        </p:grpSpPr>
        <p:sp>
          <p:nvSpPr>
            <p:cNvPr id="8737" name=""/>
            <p:cNvSpPr/>
            <p:nvPr/>
          </p:nvSpPr>
          <p:spPr>
            <a:xfrm rot="16200000">
              <a:off x="2398680" y="1001520"/>
              <a:ext cx="79560" cy="759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8" name=""/>
            <p:cNvSpPr/>
            <p:nvPr/>
          </p:nvSpPr>
          <p:spPr>
            <a:xfrm rot="16200000">
              <a:off x="2428560" y="1011240"/>
              <a:ext cx="37800" cy="3852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9" name=""/>
          <p:cNvGrpSpPr/>
          <p:nvPr/>
        </p:nvGrpSpPr>
        <p:grpSpPr>
          <a:xfrm>
            <a:off x="2228400" y="844560"/>
            <a:ext cx="201960" cy="201960"/>
            <a:chOff x="2228400" y="844560"/>
            <a:chExt cx="201960" cy="201960"/>
          </a:xfrm>
        </p:grpSpPr>
        <p:grpSp>
          <p:nvGrpSpPr>
            <p:cNvPr id="8740" name=""/>
            <p:cNvGrpSpPr/>
            <p:nvPr/>
          </p:nvGrpSpPr>
          <p:grpSpPr>
            <a:xfrm>
              <a:off x="2247480" y="942840"/>
              <a:ext cx="79560" cy="76320"/>
              <a:chOff x="2247480" y="942840"/>
              <a:chExt cx="79560" cy="76320"/>
            </a:xfrm>
          </p:grpSpPr>
          <p:sp>
            <p:nvSpPr>
              <p:cNvPr id="8741" name=""/>
              <p:cNvSpPr/>
              <p:nvPr/>
            </p:nvSpPr>
            <p:spPr>
              <a:xfrm rot="10800000">
                <a:off x="2247480" y="9428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 rot="10800000">
                <a:off x="2259360" y="952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3" name=""/>
            <p:cNvGrpSpPr/>
            <p:nvPr/>
          </p:nvGrpSpPr>
          <p:grpSpPr>
            <a:xfrm>
              <a:off x="2314440" y="966960"/>
              <a:ext cx="76320" cy="79560"/>
              <a:chOff x="2314440" y="966960"/>
              <a:chExt cx="76320" cy="79560"/>
            </a:xfrm>
          </p:grpSpPr>
          <p:sp>
            <p:nvSpPr>
              <p:cNvPr id="8744" name=""/>
              <p:cNvSpPr/>
              <p:nvPr/>
            </p:nvSpPr>
            <p:spPr>
              <a:xfrm rot="5400000">
                <a:off x="2312640" y="9684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 rot="5400000">
                <a:off x="2324520" y="9961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6" name=""/>
            <p:cNvGrpSpPr/>
            <p:nvPr/>
          </p:nvGrpSpPr>
          <p:grpSpPr>
            <a:xfrm>
              <a:off x="2316240" y="844560"/>
              <a:ext cx="75960" cy="79200"/>
              <a:chOff x="2316240" y="844560"/>
              <a:chExt cx="75960" cy="79200"/>
            </a:xfrm>
          </p:grpSpPr>
          <p:sp>
            <p:nvSpPr>
              <p:cNvPr id="8747" name=""/>
              <p:cNvSpPr/>
              <p:nvPr/>
            </p:nvSpPr>
            <p:spPr>
              <a:xfrm rot="16200000">
                <a:off x="2314440" y="8460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 rot="16200000">
                <a:off x="2344320" y="8557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9" name=""/>
            <p:cNvGrpSpPr/>
            <p:nvPr/>
          </p:nvGrpSpPr>
          <p:grpSpPr>
            <a:xfrm>
              <a:off x="2354400" y="919080"/>
              <a:ext cx="75960" cy="79560"/>
              <a:chOff x="2354400" y="919080"/>
              <a:chExt cx="75960" cy="79560"/>
            </a:xfrm>
          </p:grpSpPr>
          <p:sp>
            <p:nvSpPr>
              <p:cNvPr id="8750" name=""/>
              <p:cNvSpPr/>
              <p:nvPr/>
            </p:nvSpPr>
            <p:spPr>
              <a:xfrm rot="16200000">
                <a:off x="2352600" y="9208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 rot="16200000">
                <a:off x="2382480" y="930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2" name=""/>
            <p:cNvGrpSpPr/>
            <p:nvPr/>
          </p:nvGrpSpPr>
          <p:grpSpPr>
            <a:xfrm>
              <a:off x="2228400" y="868320"/>
              <a:ext cx="79560" cy="76320"/>
              <a:chOff x="2228400" y="868320"/>
              <a:chExt cx="79560" cy="76320"/>
            </a:xfrm>
          </p:grpSpPr>
          <p:sp>
            <p:nvSpPr>
              <p:cNvPr id="8753" name=""/>
              <p:cNvSpPr/>
              <p:nvPr/>
            </p:nvSpPr>
            <p:spPr>
              <a:xfrm rot="10800000">
                <a:off x="2228400" y="8683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 rot="10800000">
                <a:off x="2240280" y="8780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55" name=""/>
          <p:cNvGrpSpPr/>
          <p:nvPr/>
        </p:nvGrpSpPr>
        <p:grpSpPr>
          <a:xfrm>
            <a:off x="2282760" y="743040"/>
            <a:ext cx="76320" cy="79200"/>
            <a:chOff x="2282760" y="743040"/>
            <a:chExt cx="76320" cy="79200"/>
          </a:xfrm>
        </p:grpSpPr>
        <p:sp>
          <p:nvSpPr>
            <p:cNvPr id="8756" name=""/>
            <p:cNvSpPr/>
            <p:nvPr/>
          </p:nvSpPr>
          <p:spPr>
            <a:xfrm rot="16200000">
              <a:off x="2281320" y="744480"/>
              <a:ext cx="79200" cy="7632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7" name=""/>
            <p:cNvSpPr/>
            <p:nvPr/>
          </p:nvSpPr>
          <p:spPr>
            <a:xfrm rot="16200000">
              <a:off x="2310840" y="753840"/>
              <a:ext cx="37800" cy="3888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8" name=""/>
          <p:cNvGrpSpPr/>
          <p:nvPr/>
        </p:nvGrpSpPr>
        <p:grpSpPr>
          <a:xfrm>
            <a:off x="2451240" y="914400"/>
            <a:ext cx="75960" cy="79200"/>
            <a:chOff x="2451240" y="914400"/>
            <a:chExt cx="75960" cy="79200"/>
          </a:xfrm>
        </p:grpSpPr>
        <p:sp>
          <p:nvSpPr>
            <p:cNvPr id="8759" name=""/>
            <p:cNvSpPr/>
            <p:nvPr/>
          </p:nvSpPr>
          <p:spPr>
            <a:xfrm rot="16200000">
              <a:off x="2449440" y="915840"/>
              <a:ext cx="79200" cy="75960"/>
            </a:xfrm>
            <a:custGeom>
              <a:avLst/>
              <a:gdLst/>
              <a:ahLst/>
              <a:rect l="l" t="t" r="r" b="b"/>
              <a:pathLst>
                <a:path w="1602" h="1536">
                  <a:moveTo>
                    <a:pt x="1560" y="774"/>
                  </a:moveTo>
                  <a:lnTo>
                    <a:pt x="1602" y="924"/>
                  </a:lnTo>
                  <a:lnTo>
                    <a:pt x="1536" y="1146"/>
                  </a:lnTo>
                  <a:lnTo>
                    <a:pt x="1386" y="1218"/>
                  </a:lnTo>
                  <a:lnTo>
                    <a:pt x="1332" y="1314"/>
                  </a:lnTo>
                  <a:lnTo>
                    <a:pt x="1218" y="1350"/>
                  </a:lnTo>
                  <a:lnTo>
                    <a:pt x="1158" y="1326"/>
                  </a:lnTo>
                  <a:lnTo>
                    <a:pt x="882" y="1434"/>
                  </a:lnTo>
                  <a:lnTo>
                    <a:pt x="780" y="1536"/>
                  </a:lnTo>
                  <a:lnTo>
                    <a:pt x="666" y="1506"/>
                  </a:lnTo>
                  <a:lnTo>
                    <a:pt x="534" y="1422"/>
                  </a:lnTo>
                  <a:lnTo>
                    <a:pt x="348" y="1320"/>
                  </a:lnTo>
                  <a:lnTo>
                    <a:pt x="228" y="1314"/>
                  </a:lnTo>
                  <a:lnTo>
                    <a:pt x="108" y="1134"/>
                  </a:lnTo>
                  <a:lnTo>
                    <a:pt x="96" y="1050"/>
                  </a:lnTo>
                  <a:lnTo>
                    <a:pt x="24" y="918"/>
                  </a:lnTo>
                  <a:lnTo>
                    <a:pt x="0" y="774"/>
                  </a:lnTo>
                  <a:lnTo>
                    <a:pt x="84" y="618"/>
                  </a:lnTo>
                  <a:lnTo>
                    <a:pt x="228" y="582"/>
                  </a:lnTo>
                  <a:lnTo>
                    <a:pt x="186" y="366"/>
                  </a:lnTo>
                  <a:lnTo>
                    <a:pt x="228" y="234"/>
                  </a:lnTo>
                  <a:lnTo>
                    <a:pt x="396" y="186"/>
                  </a:lnTo>
                  <a:lnTo>
                    <a:pt x="468" y="144"/>
                  </a:lnTo>
                  <a:lnTo>
                    <a:pt x="600" y="132"/>
                  </a:lnTo>
                  <a:lnTo>
                    <a:pt x="780" y="6"/>
                  </a:lnTo>
                  <a:lnTo>
                    <a:pt x="918" y="0"/>
                  </a:lnTo>
                  <a:lnTo>
                    <a:pt x="1086" y="102"/>
                  </a:lnTo>
                  <a:lnTo>
                    <a:pt x="1164" y="138"/>
                  </a:lnTo>
                  <a:lnTo>
                    <a:pt x="1332" y="234"/>
                  </a:lnTo>
                  <a:lnTo>
                    <a:pt x="1434" y="342"/>
                  </a:lnTo>
                  <a:lnTo>
                    <a:pt x="1440" y="468"/>
                  </a:lnTo>
                  <a:lnTo>
                    <a:pt x="1470" y="678"/>
                  </a:lnTo>
                  <a:lnTo>
                    <a:pt x="1560" y="774"/>
                  </a:lnTo>
                  <a:close/>
                </a:path>
              </a:pathLst>
            </a:custGeom>
            <a:solidFill>
              <a:srgbClr val="b7cab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0" name=""/>
            <p:cNvSpPr/>
            <p:nvPr/>
          </p:nvSpPr>
          <p:spPr>
            <a:xfrm rot="16200000">
              <a:off x="2479320" y="925560"/>
              <a:ext cx="37800" cy="38520"/>
            </a:xfrm>
            <a:custGeom>
              <a:avLst/>
              <a:gdLst/>
              <a:ahLst/>
              <a:rect l="l" t="t" r="r" b="b"/>
              <a:pathLst>
                <a:path w="762" h="780">
                  <a:moveTo>
                    <a:pt x="762" y="324"/>
                  </a:moveTo>
                  <a:lnTo>
                    <a:pt x="732" y="366"/>
                  </a:lnTo>
                  <a:lnTo>
                    <a:pt x="720" y="420"/>
                  </a:lnTo>
                  <a:lnTo>
                    <a:pt x="672" y="546"/>
                  </a:lnTo>
                  <a:lnTo>
                    <a:pt x="636" y="642"/>
                  </a:lnTo>
                  <a:lnTo>
                    <a:pt x="540" y="696"/>
                  </a:lnTo>
                  <a:lnTo>
                    <a:pt x="438" y="726"/>
                  </a:lnTo>
                  <a:lnTo>
                    <a:pt x="396" y="762"/>
                  </a:lnTo>
                  <a:lnTo>
                    <a:pt x="318" y="780"/>
                  </a:lnTo>
                  <a:lnTo>
                    <a:pt x="204" y="738"/>
                  </a:lnTo>
                  <a:lnTo>
                    <a:pt x="96" y="732"/>
                  </a:lnTo>
                  <a:lnTo>
                    <a:pt x="42" y="690"/>
                  </a:lnTo>
                  <a:lnTo>
                    <a:pt x="0" y="642"/>
                  </a:lnTo>
                  <a:lnTo>
                    <a:pt x="42" y="624"/>
                  </a:lnTo>
                  <a:lnTo>
                    <a:pt x="90" y="600"/>
                  </a:lnTo>
                  <a:lnTo>
                    <a:pt x="120" y="540"/>
                  </a:lnTo>
                  <a:lnTo>
                    <a:pt x="174" y="492"/>
                  </a:lnTo>
                  <a:lnTo>
                    <a:pt x="240" y="438"/>
                  </a:lnTo>
                  <a:lnTo>
                    <a:pt x="276" y="426"/>
                  </a:lnTo>
                  <a:lnTo>
                    <a:pt x="300" y="402"/>
                  </a:lnTo>
                  <a:lnTo>
                    <a:pt x="348" y="372"/>
                  </a:lnTo>
                  <a:lnTo>
                    <a:pt x="372" y="354"/>
                  </a:lnTo>
                  <a:lnTo>
                    <a:pt x="378" y="306"/>
                  </a:lnTo>
                  <a:lnTo>
                    <a:pt x="432" y="240"/>
                  </a:lnTo>
                  <a:lnTo>
                    <a:pt x="444" y="174"/>
                  </a:lnTo>
                  <a:lnTo>
                    <a:pt x="486" y="126"/>
                  </a:lnTo>
                  <a:lnTo>
                    <a:pt x="558" y="108"/>
                  </a:lnTo>
                  <a:lnTo>
                    <a:pt x="618" y="54"/>
                  </a:lnTo>
                  <a:lnTo>
                    <a:pt x="636" y="0"/>
                  </a:lnTo>
                  <a:lnTo>
                    <a:pt x="660" y="90"/>
                  </a:lnTo>
                  <a:lnTo>
                    <a:pt x="762" y="126"/>
                  </a:lnTo>
                  <a:lnTo>
                    <a:pt x="750" y="240"/>
                  </a:lnTo>
                  <a:lnTo>
                    <a:pt x="762" y="324"/>
                  </a:lnTo>
                  <a:close/>
                </a:path>
              </a:pathLst>
            </a:custGeom>
            <a:solidFill>
              <a:srgbClr val="8caa8c"/>
            </a:solidFill>
            <a:ln w="3240">
              <a:solidFill>
                <a:srgbClr val="8caa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1" name=""/>
          <p:cNvGrpSpPr/>
          <p:nvPr/>
        </p:nvGrpSpPr>
        <p:grpSpPr>
          <a:xfrm>
            <a:off x="6943680" y="1190520"/>
            <a:ext cx="88920" cy="93600"/>
            <a:chOff x="6943680" y="1190520"/>
            <a:chExt cx="88920" cy="93600"/>
          </a:xfrm>
        </p:grpSpPr>
        <p:sp>
          <p:nvSpPr>
            <p:cNvPr id="8762" name=""/>
            <p:cNvSpPr/>
            <p:nvPr/>
          </p:nvSpPr>
          <p:spPr>
            <a:xfrm>
              <a:off x="6943680" y="1190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6943680" y="1265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6987960" y="1190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6943680" y="1190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6" name=""/>
          <p:cNvGrpSpPr/>
          <p:nvPr/>
        </p:nvGrpSpPr>
        <p:grpSpPr>
          <a:xfrm>
            <a:off x="7404120" y="1164960"/>
            <a:ext cx="93600" cy="88920"/>
            <a:chOff x="7404120" y="1164960"/>
            <a:chExt cx="93600" cy="88920"/>
          </a:xfrm>
        </p:grpSpPr>
        <p:sp>
          <p:nvSpPr>
            <p:cNvPr id="8767" name=""/>
            <p:cNvSpPr/>
            <p:nvPr/>
          </p:nvSpPr>
          <p:spPr>
            <a:xfrm rot="16200000">
              <a:off x="7368840" y="1200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8" name=""/>
            <p:cNvSpPr/>
            <p:nvPr/>
          </p:nvSpPr>
          <p:spPr>
            <a:xfrm rot="16200000">
              <a:off x="7443720" y="119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9" name=""/>
            <p:cNvSpPr/>
            <p:nvPr/>
          </p:nvSpPr>
          <p:spPr>
            <a:xfrm rot="16200000">
              <a:off x="7428600" y="1140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0" name=""/>
            <p:cNvSpPr/>
            <p:nvPr/>
          </p:nvSpPr>
          <p:spPr>
            <a:xfrm rot="16200000">
              <a:off x="7428600" y="1184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1" name=""/>
          <p:cNvGrpSpPr/>
          <p:nvPr/>
        </p:nvGrpSpPr>
        <p:grpSpPr>
          <a:xfrm>
            <a:off x="7183440" y="1189080"/>
            <a:ext cx="95400" cy="97200"/>
            <a:chOff x="7183440" y="1189080"/>
            <a:chExt cx="95400" cy="97200"/>
          </a:xfrm>
        </p:grpSpPr>
        <p:sp>
          <p:nvSpPr>
            <p:cNvPr id="8772" name=""/>
            <p:cNvSpPr/>
            <p:nvPr/>
          </p:nvSpPr>
          <p:spPr>
            <a:xfrm>
              <a:off x="7183440" y="1189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7183440" y="1285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7231320" y="11890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7183440" y="1189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6" name=""/>
          <p:cNvGrpSpPr/>
          <p:nvPr/>
        </p:nvGrpSpPr>
        <p:grpSpPr>
          <a:xfrm>
            <a:off x="6912000" y="964800"/>
            <a:ext cx="93600" cy="88920"/>
            <a:chOff x="6912000" y="964800"/>
            <a:chExt cx="93600" cy="88920"/>
          </a:xfrm>
        </p:grpSpPr>
        <p:sp>
          <p:nvSpPr>
            <p:cNvPr id="8777" name=""/>
            <p:cNvSpPr/>
            <p:nvPr/>
          </p:nvSpPr>
          <p:spPr>
            <a:xfrm rot="16200000">
              <a:off x="6876720" y="10000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8" name=""/>
            <p:cNvSpPr/>
            <p:nvPr/>
          </p:nvSpPr>
          <p:spPr>
            <a:xfrm rot="16200000">
              <a:off x="6951600" y="999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9" name=""/>
            <p:cNvSpPr/>
            <p:nvPr/>
          </p:nvSpPr>
          <p:spPr>
            <a:xfrm rot="16200000">
              <a:off x="6936480" y="940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0" name=""/>
            <p:cNvSpPr/>
            <p:nvPr/>
          </p:nvSpPr>
          <p:spPr>
            <a:xfrm rot="16200000">
              <a:off x="6936480" y="98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1" name=""/>
          <p:cNvGrpSpPr/>
          <p:nvPr/>
        </p:nvGrpSpPr>
        <p:grpSpPr>
          <a:xfrm>
            <a:off x="8758080" y="500040"/>
            <a:ext cx="88920" cy="93600"/>
            <a:chOff x="8758080" y="500040"/>
            <a:chExt cx="88920" cy="93600"/>
          </a:xfrm>
        </p:grpSpPr>
        <p:sp>
          <p:nvSpPr>
            <p:cNvPr id="8782" name=""/>
            <p:cNvSpPr/>
            <p:nvPr/>
          </p:nvSpPr>
          <p:spPr>
            <a:xfrm>
              <a:off x="8758080" y="500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8758080" y="574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8802360" y="500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8758080" y="500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6" name=""/>
          <p:cNvGrpSpPr/>
          <p:nvPr/>
        </p:nvGrpSpPr>
        <p:grpSpPr>
          <a:xfrm>
            <a:off x="6496200" y="1190160"/>
            <a:ext cx="97200" cy="95400"/>
            <a:chOff x="6496200" y="1190160"/>
            <a:chExt cx="97200" cy="95400"/>
          </a:xfrm>
        </p:grpSpPr>
        <p:sp>
          <p:nvSpPr>
            <p:cNvPr id="8787" name=""/>
            <p:cNvSpPr/>
            <p:nvPr/>
          </p:nvSpPr>
          <p:spPr>
            <a:xfrm rot="16200000">
              <a:off x="6448680" y="1237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8" name=""/>
            <p:cNvSpPr/>
            <p:nvPr/>
          </p:nvSpPr>
          <p:spPr>
            <a:xfrm rot="16200000">
              <a:off x="6545520" y="1237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9" name=""/>
            <p:cNvSpPr/>
            <p:nvPr/>
          </p:nvSpPr>
          <p:spPr>
            <a:xfrm rot="16200000">
              <a:off x="6520680" y="11653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0" name=""/>
            <p:cNvSpPr/>
            <p:nvPr/>
          </p:nvSpPr>
          <p:spPr>
            <a:xfrm rot="16200000">
              <a:off x="6520680" y="12132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1" name=""/>
          <p:cNvGrpSpPr/>
          <p:nvPr/>
        </p:nvGrpSpPr>
        <p:grpSpPr>
          <a:xfrm>
            <a:off x="6686640" y="1190160"/>
            <a:ext cx="97200" cy="95400"/>
            <a:chOff x="6686640" y="1190160"/>
            <a:chExt cx="97200" cy="95400"/>
          </a:xfrm>
        </p:grpSpPr>
        <p:sp>
          <p:nvSpPr>
            <p:cNvPr id="8792" name=""/>
            <p:cNvSpPr/>
            <p:nvPr/>
          </p:nvSpPr>
          <p:spPr>
            <a:xfrm rot="16200000">
              <a:off x="6639120" y="1237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3" name=""/>
            <p:cNvSpPr/>
            <p:nvPr/>
          </p:nvSpPr>
          <p:spPr>
            <a:xfrm rot="16200000">
              <a:off x="6735960" y="1237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4" name=""/>
            <p:cNvSpPr/>
            <p:nvPr/>
          </p:nvSpPr>
          <p:spPr>
            <a:xfrm rot="16200000">
              <a:off x="6711120" y="11653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5" name=""/>
            <p:cNvSpPr/>
            <p:nvPr/>
          </p:nvSpPr>
          <p:spPr>
            <a:xfrm rot="16200000">
              <a:off x="6711120" y="12132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6" name=""/>
          <p:cNvGrpSpPr/>
          <p:nvPr/>
        </p:nvGrpSpPr>
        <p:grpSpPr>
          <a:xfrm>
            <a:off x="7120080" y="734760"/>
            <a:ext cx="152280" cy="74520"/>
            <a:chOff x="7120080" y="734760"/>
            <a:chExt cx="152280" cy="74520"/>
          </a:xfrm>
        </p:grpSpPr>
        <p:sp>
          <p:nvSpPr>
            <p:cNvPr id="8797" name=""/>
            <p:cNvSpPr/>
            <p:nvPr/>
          </p:nvSpPr>
          <p:spPr>
            <a:xfrm rot="16200000">
              <a:off x="7097760" y="75672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8" name=""/>
            <p:cNvSpPr/>
            <p:nvPr/>
          </p:nvSpPr>
          <p:spPr>
            <a:xfrm rot="16200000">
              <a:off x="7219800" y="756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9" name=""/>
            <p:cNvSpPr/>
            <p:nvPr/>
          </p:nvSpPr>
          <p:spPr>
            <a:xfrm rot="16200000">
              <a:off x="7177680" y="6775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0" name=""/>
            <p:cNvSpPr/>
            <p:nvPr/>
          </p:nvSpPr>
          <p:spPr>
            <a:xfrm rot="16200000">
              <a:off x="7177680" y="7146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1" name=""/>
          <p:cNvGrpSpPr/>
          <p:nvPr/>
        </p:nvGrpSpPr>
        <p:grpSpPr>
          <a:xfrm>
            <a:off x="8034480" y="286920"/>
            <a:ext cx="152280" cy="74520"/>
            <a:chOff x="8034480" y="286920"/>
            <a:chExt cx="152280" cy="74520"/>
          </a:xfrm>
        </p:grpSpPr>
        <p:sp>
          <p:nvSpPr>
            <p:cNvPr id="8802" name=""/>
            <p:cNvSpPr/>
            <p:nvPr/>
          </p:nvSpPr>
          <p:spPr>
            <a:xfrm rot="16200000">
              <a:off x="8012160" y="3088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3" name=""/>
            <p:cNvSpPr/>
            <p:nvPr/>
          </p:nvSpPr>
          <p:spPr>
            <a:xfrm rot="16200000">
              <a:off x="8134200" y="308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4" name=""/>
            <p:cNvSpPr/>
            <p:nvPr/>
          </p:nvSpPr>
          <p:spPr>
            <a:xfrm rot="16200000">
              <a:off x="8092080" y="2296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5" name=""/>
            <p:cNvSpPr/>
            <p:nvPr/>
          </p:nvSpPr>
          <p:spPr>
            <a:xfrm rot="16200000">
              <a:off x="8092080" y="2667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6" name=""/>
          <p:cNvGrpSpPr/>
          <p:nvPr/>
        </p:nvGrpSpPr>
        <p:grpSpPr>
          <a:xfrm>
            <a:off x="7392600" y="721440"/>
            <a:ext cx="95400" cy="97200"/>
            <a:chOff x="7392600" y="721440"/>
            <a:chExt cx="95400" cy="97200"/>
          </a:xfrm>
        </p:grpSpPr>
        <p:sp>
          <p:nvSpPr>
            <p:cNvPr id="8807" name=""/>
            <p:cNvSpPr/>
            <p:nvPr/>
          </p:nvSpPr>
          <p:spPr>
            <a:xfrm rot="10800000">
              <a:off x="7392600" y="818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8" name=""/>
            <p:cNvSpPr/>
            <p:nvPr/>
          </p:nvSpPr>
          <p:spPr>
            <a:xfrm rot="10800000">
              <a:off x="7392600" y="721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9" name=""/>
            <p:cNvSpPr/>
            <p:nvPr/>
          </p:nvSpPr>
          <p:spPr>
            <a:xfrm rot="10800000">
              <a:off x="7392600" y="7218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0" name=""/>
            <p:cNvSpPr/>
            <p:nvPr/>
          </p:nvSpPr>
          <p:spPr>
            <a:xfrm rot="10800000">
              <a:off x="7440120" y="7218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1" name=""/>
          <p:cNvGrpSpPr/>
          <p:nvPr/>
        </p:nvGrpSpPr>
        <p:grpSpPr>
          <a:xfrm>
            <a:off x="7610400" y="695160"/>
            <a:ext cx="74520" cy="152640"/>
            <a:chOff x="7610400" y="695160"/>
            <a:chExt cx="74520" cy="152640"/>
          </a:xfrm>
        </p:grpSpPr>
        <p:sp>
          <p:nvSpPr>
            <p:cNvPr id="8812" name=""/>
            <p:cNvSpPr/>
            <p:nvPr/>
          </p:nvSpPr>
          <p:spPr>
            <a:xfrm>
              <a:off x="7610400" y="6951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7610400" y="8172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7647480" y="69516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7610400" y="69516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6" name=""/>
          <p:cNvGrpSpPr/>
          <p:nvPr/>
        </p:nvGrpSpPr>
        <p:grpSpPr>
          <a:xfrm>
            <a:off x="7377120" y="471600"/>
            <a:ext cx="88920" cy="93600"/>
            <a:chOff x="7377120" y="471600"/>
            <a:chExt cx="88920" cy="93600"/>
          </a:xfrm>
        </p:grpSpPr>
        <p:sp>
          <p:nvSpPr>
            <p:cNvPr id="8817" name=""/>
            <p:cNvSpPr/>
            <p:nvPr/>
          </p:nvSpPr>
          <p:spPr>
            <a:xfrm>
              <a:off x="7377120" y="471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7377120" y="546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7421400" y="4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7377120" y="471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1" name=""/>
          <p:cNvGrpSpPr/>
          <p:nvPr/>
        </p:nvGrpSpPr>
        <p:grpSpPr>
          <a:xfrm>
            <a:off x="7391520" y="952560"/>
            <a:ext cx="88920" cy="93600"/>
            <a:chOff x="7391520" y="952560"/>
            <a:chExt cx="88920" cy="93600"/>
          </a:xfrm>
        </p:grpSpPr>
        <p:sp>
          <p:nvSpPr>
            <p:cNvPr id="8822" name=""/>
            <p:cNvSpPr/>
            <p:nvPr/>
          </p:nvSpPr>
          <p:spPr>
            <a:xfrm>
              <a:off x="7391520" y="952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7391520" y="1027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7435800" y="952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7391520" y="952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6" name=""/>
          <p:cNvGrpSpPr/>
          <p:nvPr/>
        </p:nvGrpSpPr>
        <p:grpSpPr>
          <a:xfrm>
            <a:off x="7815240" y="490680"/>
            <a:ext cx="152280" cy="152280"/>
            <a:chOff x="7815240" y="490680"/>
            <a:chExt cx="152280" cy="152280"/>
          </a:xfrm>
        </p:grpSpPr>
        <p:sp>
          <p:nvSpPr>
            <p:cNvPr id="8827" name=""/>
            <p:cNvSpPr/>
            <p:nvPr/>
          </p:nvSpPr>
          <p:spPr>
            <a:xfrm>
              <a:off x="7815240" y="4906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7815240" y="6123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7891200" y="4906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7815240" y="4906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1" name=""/>
          <p:cNvGrpSpPr/>
          <p:nvPr/>
        </p:nvGrpSpPr>
        <p:grpSpPr>
          <a:xfrm>
            <a:off x="9196560" y="947880"/>
            <a:ext cx="152280" cy="152280"/>
            <a:chOff x="9196560" y="947880"/>
            <a:chExt cx="152280" cy="152280"/>
          </a:xfrm>
        </p:grpSpPr>
        <p:sp>
          <p:nvSpPr>
            <p:cNvPr id="8832" name=""/>
            <p:cNvSpPr/>
            <p:nvPr/>
          </p:nvSpPr>
          <p:spPr>
            <a:xfrm>
              <a:off x="9196560" y="947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9196560" y="10695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9272520" y="9478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9196560" y="9478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6" name=""/>
          <p:cNvGrpSpPr/>
          <p:nvPr/>
        </p:nvGrpSpPr>
        <p:grpSpPr>
          <a:xfrm>
            <a:off x="7143840" y="933480"/>
            <a:ext cx="74520" cy="149400"/>
            <a:chOff x="7143840" y="933480"/>
            <a:chExt cx="74520" cy="149400"/>
          </a:xfrm>
        </p:grpSpPr>
        <p:sp>
          <p:nvSpPr>
            <p:cNvPr id="8837" name=""/>
            <p:cNvSpPr/>
            <p:nvPr/>
          </p:nvSpPr>
          <p:spPr>
            <a:xfrm>
              <a:off x="7143840" y="9334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7143840" y="10825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7180920" y="9334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7143840" y="9334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1" name=""/>
          <p:cNvGrpSpPr/>
          <p:nvPr/>
        </p:nvGrpSpPr>
        <p:grpSpPr>
          <a:xfrm>
            <a:off x="7629480" y="523440"/>
            <a:ext cx="93600" cy="88920"/>
            <a:chOff x="7629480" y="523440"/>
            <a:chExt cx="93600" cy="88920"/>
          </a:xfrm>
        </p:grpSpPr>
        <p:sp>
          <p:nvSpPr>
            <p:cNvPr id="8842" name=""/>
            <p:cNvSpPr/>
            <p:nvPr/>
          </p:nvSpPr>
          <p:spPr>
            <a:xfrm rot="16200000">
              <a:off x="7594200" y="558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3" name=""/>
            <p:cNvSpPr/>
            <p:nvPr/>
          </p:nvSpPr>
          <p:spPr>
            <a:xfrm rot="16200000">
              <a:off x="7669080" y="558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4" name=""/>
            <p:cNvSpPr/>
            <p:nvPr/>
          </p:nvSpPr>
          <p:spPr>
            <a:xfrm rot="16200000">
              <a:off x="7653960" y="498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5" name=""/>
            <p:cNvSpPr/>
            <p:nvPr/>
          </p:nvSpPr>
          <p:spPr>
            <a:xfrm rot="16200000">
              <a:off x="7653960" y="54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6" name=""/>
          <p:cNvGrpSpPr/>
          <p:nvPr/>
        </p:nvGrpSpPr>
        <p:grpSpPr>
          <a:xfrm>
            <a:off x="8105760" y="514080"/>
            <a:ext cx="93600" cy="88920"/>
            <a:chOff x="8105760" y="514080"/>
            <a:chExt cx="93600" cy="88920"/>
          </a:xfrm>
        </p:grpSpPr>
        <p:sp>
          <p:nvSpPr>
            <p:cNvPr id="8847" name=""/>
            <p:cNvSpPr/>
            <p:nvPr/>
          </p:nvSpPr>
          <p:spPr>
            <a:xfrm rot="16200000">
              <a:off x="8070480" y="549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8" name=""/>
            <p:cNvSpPr/>
            <p:nvPr/>
          </p:nvSpPr>
          <p:spPr>
            <a:xfrm rot="16200000">
              <a:off x="8145360" y="549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9" name=""/>
            <p:cNvSpPr/>
            <p:nvPr/>
          </p:nvSpPr>
          <p:spPr>
            <a:xfrm rot="16200000">
              <a:off x="8130240" y="489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0" name=""/>
            <p:cNvSpPr/>
            <p:nvPr/>
          </p:nvSpPr>
          <p:spPr>
            <a:xfrm rot="16200000">
              <a:off x="8130240" y="533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1" name=""/>
          <p:cNvGrpSpPr/>
          <p:nvPr/>
        </p:nvGrpSpPr>
        <p:grpSpPr>
          <a:xfrm>
            <a:off x="8296200" y="742680"/>
            <a:ext cx="93600" cy="88920"/>
            <a:chOff x="8296200" y="742680"/>
            <a:chExt cx="93600" cy="88920"/>
          </a:xfrm>
        </p:grpSpPr>
        <p:sp>
          <p:nvSpPr>
            <p:cNvPr id="8852" name=""/>
            <p:cNvSpPr/>
            <p:nvPr/>
          </p:nvSpPr>
          <p:spPr>
            <a:xfrm rot="16200000">
              <a:off x="8260920" y="777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3" name=""/>
            <p:cNvSpPr/>
            <p:nvPr/>
          </p:nvSpPr>
          <p:spPr>
            <a:xfrm rot="16200000">
              <a:off x="8335800" y="777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4" name=""/>
            <p:cNvSpPr/>
            <p:nvPr/>
          </p:nvSpPr>
          <p:spPr>
            <a:xfrm rot="16200000">
              <a:off x="8320680" y="718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5" name=""/>
            <p:cNvSpPr/>
            <p:nvPr/>
          </p:nvSpPr>
          <p:spPr>
            <a:xfrm rot="16200000">
              <a:off x="8320680" y="762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6" name=""/>
          <p:cNvGrpSpPr/>
          <p:nvPr/>
        </p:nvGrpSpPr>
        <p:grpSpPr>
          <a:xfrm>
            <a:off x="8325000" y="485640"/>
            <a:ext cx="74520" cy="149760"/>
            <a:chOff x="8325000" y="485640"/>
            <a:chExt cx="74520" cy="149760"/>
          </a:xfrm>
        </p:grpSpPr>
        <p:sp>
          <p:nvSpPr>
            <p:cNvPr id="8857" name=""/>
            <p:cNvSpPr/>
            <p:nvPr/>
          </p:nvSpPr>
          <p:spPr>
            <a:xfrm>
              <a:off x="8325000" y="4856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8325000" y="635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8362080" y="48564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8325000" y="4856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1" name=""/>
          <p:cNvGrpSpPr/>
          <p:nvPr/>
        </p:nvGrpSpPr>
        <p:grpSpPr>
          <a:xfrm>
            <a:off x="8290080" y="298080"/>
            <a:ext cx="93600" cy="88920"/>
            <a:chOff x="8290080" y="298080"/>
            <a:chExt cx="93600" cy="88920"/>
          </a:xfrm>
        </p:grpSpPr>
        <p:sp>
          <p:nvSpPr>
            <p:cNvPr id="8862" name=""/>
            <p:cNvSpPr/>
            <p:nvPr/>
          </p:nvSpPr>
          <p:spPr>
            <a:xfrm rot="16200000">
              <a:off x="8254800" y="333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3" name=""/>
            <p:cNvSpPr/>
            <p:nvPr/>
          </p:nvSpPr>
          <p:spPr>
            <a:xfrm rot="16200000">
              <a:off x="8329680" y="333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4" name=""/>
            <p:cNvSpPr/>
            <p:nvPr/>
          </p:nvSpPr>
          <p:spPr>
            <a:xfrm rot="16200000">
              <a:off x="8314560" y="273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5" name=""/>
            <p:cNvSpPr/>
            <p:nvPr/>
          </p:nvSpPr>
          <p:spPr>
            <a:xfrm rot="16200000">
              <a:off x="8314560" y="317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6" name=""/>
          <p:cNvGrpSpPr/>
          <p:nvPr/>
        </p:nvGrpSpPr>
        <p:grpSpPr>
          <a:xfrm>
            <a:off x="8986680" y="480960"/>
            <a:ext cx="88920" cy="93600"/>
            <a:chOff x="8986680" y="480960"/>
            <a:chExt cx="88920" cy="93600"/>
          </a:xfrm>
        </p:grpSpPr>
        <p:sp>
          <p:nvSpPr>
            <p:cNvPr id="8867" name=""/>
            <p:cNvSpPr/>
            <p:nvPr/>
          </p:nvSpPr>
          <p:spPr>
            <a:xfrm>
              <a:off x="8986680" y="480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8986680" y="555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9030960" y="480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8986680" y="480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1" name=""/>
          <p:cNvGrpSpPr/>
          <p:nvPr/>
        </p:nvGrpSpPr>
        <p:grpSpPr>
          <a:xfrm>
            <a:off x="9460080" y="755280"/>
            <a:ext cx="93600" cy="88920"/>
            <a:chOff x="9460080" y="755280"/>
            <a:chExt cx="93600" cy="88920"/>
          </a:xfrm>
        </p:grpSpPr>
        <p:sp>
          <p:nvSpPr>
            <p:cNvPr id="8872" name=""/>
            <p:cNvSpPr/>
            <p:nvPr/>
          </p:nvSpPr>
          <p:spPr>
            <a:xfrm rot="16200000">
              <a:off x="9424800" y="790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3" name=""/>
            <p:cNvSpPr/>
            <p:nvPr/>
          </p:nvSpPr>
          <p:spPr>
            <a:xfrm rot="16200000">
              <a:off x="9499680" y="790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4" name=""/>
            <p:cNvSpPr/>
            <p:nvPr/>
          </p:nvSpPr>
          <p:spPr>
            <a:xfrm rot="16200000">
              <a:off x="9484560" y="730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5" name=""/>
            <p:cNvSpPr/>
            <p:nvPr/>
          </p:nvSpPr>
          <p:spPr>
            <a:xfrm rot="16200000">
              <a:off x="9484560" y="775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6" name=""/>
          <p:cNvGrpSpPr/>
          <p:nvPr/>
        </p:nvGrpSpPr>
        <p:grpSpPr>
          <a:xfrm>
            <a:off x="9231480" y="693360"/>
            <a:ext cx="93600" cy="88920"/>
            <a:chOff x="9231480" y="693360"/>
            <a:chExt cx="93600" cy="88920"/>
          </a:xfrm>
        </p:grpSpPr>
        <p:sp>
          <p:nvSpPr>
            <p:cNvPr id="8877" name=""/>
            <p:cNvSpPr/>
            <p:nvPr/>
          </p:nvSpPr>
          <p:spPr>
            <a:xfrm rot="16200000">
              <a:off x="9196200" y="728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8" name=""/>
            <p:cNvSpPr/>
            <p:nvPr/>
          </p:nvSpPr>
          <p:spPr>
            <a:xfrm rot="16200000">
              <a:off x="9271080" y="728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9" name=""/>
            <p:cNvSpPr/>
            <p:nvPr/>
          </p:nvSpPr>
          <p:spPr>
            <a:xfrm rot="16200000">
              <a:off x="9255960" y="668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0" name=""/>
            <p:cNvSpPr/>
            <p:nvPr/>
          </p:nvSpPr>
          <p:spPr>
            <a:xfrm rot="16200000">
              <a:off x="9255960" y="713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1" name=""/>
          <p:cNvGrpSpPr/>
          <p:nvPr/>
        </p:nvGrpSpPr>
        <p:grpSpPr>
          <a:xfrm>
            <a:off x="9448920" y="519120"/>
            <a:ext cx="88920" cy="93600"/>
            <a:chOff x="9448920" y="519120"/>
            <a:chExt cx="88920" cy="93600"/>
          </a:xfrm>
        </p:grpSpPr>
        <p:sp>
          <p:nvSpPr>
            <p:cNvPr id="8882" name=""/>
            <p:cNvSpPr/>
            <p:nvPr/>
          </p:nvSpPr>
          <p:spPr>
            <a:xfrm>
              <a:off x="9448920" y="519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9448920" y="594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9493200" y="519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9448920" y="519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6" name=""/>
          <p:cNvGrpSpPr/>
          <p:nvPr/>
        </p:nvGrpSpPr>
        <p:grpSpPr>
          <a:xfrm>
            <a:off x="8774280" y="2102760"/>
            <a:ext cx="95040" cy="97200"/>
            <a:chOff x="8774280" y="2102760"/>
            <a:chExt cx="95040" cy="97200"/>
          </a:xfrm>
        </p:grpSpPr>
        <p:sp>
          <p:nvSpPr>
            <p:cNvPr id="8887" name=""/>
            <p:cNvSpPr/>
            <p:nvPr/>
          </p:nvSpPr>
          <p:spPr>
            <a:xfrm rot="10800000">
              <a:off x="8774280" y="2199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8" name=""/>
            <p:cNvSpPr/>
            <p:nvPr/>
          </p:nvSpPr>
          <p:spPr>
            <a:xfrm rot="10800000">
              <a:off x="8774280" y="2102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9" name=""/>
            <p:cNvSpPr/>
            <p:nvPr/>
          </p:nvSpPr>
          <p:spPr>
            <a:xfrm rot="10800000">
              <a:off x="8774640" y="2103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0" name=""/>
            <p:cNvSpPr/>
            <p:nvPr/>
          </p:nvSpPr>
          <p:spPr>
            <a:xfrm rot="10800000">
              <a:off x="8821800" y="2103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1" name=""/>
          <p:cNvGrpSpPr/>
          <p:nvPr/>
        </p:nvGrpSpPr>
        <p:grpSpPr>
          <a:xfrm>
            <a:off x="8991720" y="1866960"/>
            <a:ext cx="97200" cy="95040"/>
            <a:chOff x="8991720" y="1866960"/>
            <a:chExt cx="97200" cy="95040"/>
          </a:xfrm>
        </p:grpSpPr>
        <p:sp>
          <p:nvSpPr>
            <p:cNvPr id="8892" name=""/>
            <p:cNvSpPr/>
            <p:nvPr/>
          </p:nvSpPr>
          <p:spPr>
            <a:xfrm rot="16200000">
              <a:off x="8944200" y="1914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3" name=""/>
            <p:cNvSpPr/>
            <p:nvPr/>
          </p:nvSpPr>
          <p:spPr>
            <a:xfrm rot="16200000">
              <a:off x="9041040" y="19141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4" name=""/>
            <p:cNvSpPr/>
            <p:nvPr/>
          </p:nvSpPr>
          <p:spPr>
            <a:xfrm rot="16200000">
              <a:off x="9016560" y="18424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5" name=""/>
            <p:cNvSpPr/>
            <p:nvPr/>
          </p:nvSpPr>
          <p:spPr>
            <a:xfrm rot="16200000">
              <a:off x="9016200" y="18896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6" name=""/>
          <p:cNvGrpSpPr/>
          <p:nvPr/>
        </p:nvGrpSpPr>
        <p:grpSpPr>
          <a:xfrm>
            <a:off x="8801280" y="1876320"/>
            <a:ext cx="88560" cy="93600"/>
            <a:chOff x="8801280" y="1876320"/>
            <a:chExt cx="88560" cy="93600"/>
          </a:xfrm>
        </p:grpSpPr>
        <p:sp>
          <p:nvSpPr>
            <p:cNvPr id="8897" name=""/>
            <p:cNvSpPr/>
            <p:nvPr/>
          </p:nvSpPr>
          <p:spPr>
            <a:xfrm>
              <a:off x="8801280" y="187632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8801280" y="195120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8845560" y="187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8801280" y="187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1" name=""/>
          <p:cNvGrpSpPr/>
          <p:nvPr/>
        </p:nvGrpSpPr>
        <p:grpSpPr>
          <a:xfrm>
            <a:off x="8953560" y="2085840"/>
            <a:ext cx="152280" cy="152640"/>
            <a:chOff x="8953560" y="2085840"/>
            <a:chExt cx="152280" cy="152640"/>
          </a:xfrm>
        </p:grpSpPr>
        <p:sp>
          <p:nvSpPr>
            <p:cNvPr id="8902" name=""/>
            <p:cNvSpPr/>
            <p:nvPr/>
          </p:nvSpPr>
          <p:spPr>
            <a:xfrm rot="16200000">
              <a:off x="8892360" y="214704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3" name=""/>
            <p:cNvSpPr/>
            <p:nvPr/>
          </p:nvSpPr>
          <p:spPr>
            <a:xfrm rot="16200000">
              <a:off x="9014040" y="214668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4" name=""/>
            <p:cNvSpPr/>
            <p:nvPr/>
          </p:nvSpPr>
          <p:spPr>
            <a:xfrm rot="16200000">
              <a:off x="8991360" y="204768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5" name=""/>
            <p:cNvSpPr/>
            <p:nvPr/>
          </p:nvSpPr>
          <p:spPr>
            <a:xfrm rot="16200000">
              <a:off x="8991360" y="212400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6" name=""/>
          <p:cNvGrpSpPr/>
          <p:nvPr/>
        </p:nvGrpSpPr>
        <p:grpSpPr>
          <a:xfrm>
            <a:off x="8983800" y="1679040"/>
            <a:ext cx="93600" cy="88920"/>
            <a:chOff x="8983800" y="1679040"/>
            <a:chExt cx="93600" cy="88920"/>
          </a:xfrm>
        </p:grpSpPr>
        <p:sp>
          <p:nvSpPr>
            <p:cNvPr id="8907" name=""/>
            <p:cNvSpPr/>
            <p:nvPr/>
          </p:nvSpPr>
          <p:spPr>
            <a:xfrm rot="16200000">
              <a:off x="8948520" y="17143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8" name=""/>
            <p:cNvSpPr/>
            <p:nvPr/>
          </p:nvSpPr>
          <p:spPr>
            <a:xfrm rot="16200000">
              <a:off x="9023400" y="1713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9" name=""/>
            <p:cNvSpPr/>
            <p:nvPr/>
          </p:nvSpPr>
          <p:spPr>
            <a:xfrm rot="16200000">
              <a:off x="9008280" y="1654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0" name=""/>
            <p:cNvSpPr/>
            <p:nvPr/>
          </p:nvSpPr>
          <p:spPr>
            <a:xfrm rot="16200000">
              <a:off x="9008280" y="1698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1" name=""/>
          <p:cNvGrpSpPr/>
          <p:nvPr/>
        </p:nvGrpSpPr>
        <p:grpSpPr>
          <a:xfrm>
            <a:off x="9193320" y="1864800"/>
            <a:ext cx="93600" cy="88920"/>
            <a:chOff x="9193320" y="1864800"/>
            <a:chExt cx="93600" cy="88920"/>
          </a:xfrm>
        </p:grpSpPr>
        <p:sp>
          <p:nvSpPr>
            <p:cNvPr id="8912" name=""/>
            <p:cNvSpPr/>
            <p:nvPr/>
          </p:nvSpPr>
          <p:spPr>
            <a:xfrm rot="16200000">
              <a:off x="9158040" y="19000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3" name=""/>
            <p:cNvSpPr/>
            <p:nvPr/>
          </p:nvSpPr>
          <p:spPr>
            <a:xfrm rot="16200000">
              <a:off x="9232920" y="1899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4" name=""/>
            <p:cNvSpPr/>
            <p:nvPr/>
          </p:nvSpPr>
          <p:spPr>
            <a:xfrm rot="16200000">
              <a:off x="9217800" y="1840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5" name=""/>
            <p:cNvSpPr/>
            <p:nvPr/>
          </p:nvSpPr>
          <p:spPr>
            <a:xfrm rot="16200000">
              <a:off x="9217800" y="1884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6" name=""/>
          <p:cNvGrpSpPr/>
          <p:nvPr/>
        </p:nvGrpSpPr>
        <p:grpSpPr>
          <a:xfrm>
            <a:off x="9239400" y="2104920"/>
            <a:ext cx="88920" cy="93600"/>
            <a:chOff x="9239400" y="2104920"/>
            <a:chExt cx="88920" cy="93600"/>
          </a:xfrm>
        </p:grpSpPr>
        <p:sp>
          <p:nvSpPr>
            <p:cNvPr id="8917" name=""/>
            <p:cNvSpPr/>
            <p:nvPr/>
          </p:nvSpPr>
          <p:spPr>
            <a:xfrm>
              <a:off x="9239400" y="2104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9239400" y="2179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9283680" y="2104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9239400" y="2104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1" name=""/>
          <p:cNvGrpSpPr/>
          <p:nvPr/>
        </p:nvGrpSpPr>
        <p:grpSpPr>
          <a:xfrm>
            <a:off x="8543520" y="1226520"/>
            <a:ext cx="95400" cy="97200"/>
            <a:chOff x="8543520" y="1226520"/>
            <a:chExt cx="95400" cy="97200"/>
          </a:xfrm>
        </p:grpSpPr>
        <p:sp>
          <p:nvSpPr>
            <p:cNvPr id="8922" name=""/>
            <p:cNvSpPr/>
            <p:nvPr/>
          </p:nvSpPr>
          <p:spPr>
            <a:xfrm rot="10800000">
              <a:off x="8543520" y="132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3" name=""/>
            <p:cNvSpPr/>
            <p:nvPr/>
          </p:nvSpPr>
          <p:spPr>
            <a:xfrm rot="10800000">
              <a:off x="8543520" y="1226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4" name=""/>
            <p:cNvSpPr/>
            <p:nvPr/>
          </p:nvSpPr>
          <p:spPr>
            <a:xfrm rot="10800000">
              <a:off x="8543520" y="1226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5" name=""/>
            <p:cNvSpPr/>
            <p:nvPr/>
          </p:nvSpPr>
          <p:spPr>
            <a:xfrm rot="10800000">
              <a:off x="8591040" y="1226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6" name=""/>
          <p:cNvGrpSpPr/>
          <p:nvPr/>
        </p:nvGrpSpPr>
        <p:grpSpPr>
          <a:xfrm>
            <a:off x="8782200" y="1447920"/>
            <a:ext cx="88920" cy="93600"/>
            <a:chOff x="8782200" y="1447920"/>
            <a:chExt cx="88920" cy="93600"/>
          </a:xfrm>
        </p:grpSpPr>
        <p:sp>
          <p:nvSpPr>
            <p:cNvPr id="8927" name=""/>
            <p:cNvSpPr/>
            <p:nvPr/>
          </p:nvSpPr>
          <p:spPr>
            <a:xfrm>
              <a:off x="8782200" y="1447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8" name=""/>
            <p:cNvSpPr/>
            <p:nvPr/>
          </p:nvSpPr>
          <p:spPr>
            <a:xfrm>
              <a:off x="8782200" y="1522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882648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8782200" y="1447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1" name=""/>
          <p:cNvGrpSpPr/>
          <p:nvPr/>
        </p:nvGrpSpPr>
        <p:grpSpPr>
          <a:xfrm>
            <a:off x="9201240" y="1403280"/>
            <a:ext cx="74520" cy="149760"/>
            <a:chOff x="9201240" y="1403280"/>
            <a:chExt cx="74520" cy="149760"/>
          </a:xfrm>
        </p:grpSpPr>
        <p:sp>
          <p:nvSpPr>
            <p:cNvPr id="8932" name=""/>
            <p:cNvSpPr/>
            <p:nvPr/>
          </p:nvSpPr>
          <p:spPr>
            <a:xfrm>
              <a:off x="9201240" y="14032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9201240" y="15526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9238320" y="14032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9201240" y="140328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6" name=""/>
          <p:cNvGrpSpPr/>
          <p:nvPr/>
        </p:nvGrpSpPr>
        <p:grpSpPr>
          <a:xfrm>
            <a:off x="8985240" y="1028520"/>
            <a:ext cx="149760" cy="74520"/>
            <a:chOff x="8985240" y="1028520"/>
            <a:chExt cx="149760" cy="74520"/>
          </a:xfrm>
        </p:grpSpPr>
        <p:sp>
          <p:nvSpPr>
            <p:cNvPr id="8937" name=""/>
            <p:cNvSpPr/>
            <p:nvPr/>
          </p:nvSpPr>
          <p:spPr>
            <a:xfrm rot="16200000">
              <a:off x="8948160" y="1065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8" name=""/>
            <p:cNvSpPr/>
            <p:nvPr/>
          </p:nvSpPr>
          <p:spPr>
            <a:xfrm rot="16200000">
              <a:off x="9097560" y="1065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9" name=""/>
            <p:cNvSpPr/>
            <p:nvPr/>
          </p:nvSpPr>
          <p:spPr>
            <a:xfrm rot="16200000">
              <a:off x="9041040" y="97236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0" name=""/>
            <p:cNvSpPr/>
            <p:nvPr/>
          </p:nvSpPr>
          <p:spPr>
            <a:xfrm rot="16200000">
              <a:off x="9041400" y="10098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1" name=""/>
          <p:cNvGrpSpPr/>
          <p:nvPr/>
        </p:nvGrpSpPr>
        <p:grpSpPr>
          <a:xfrm>
            <a:off x="8755200" y="1171440"/>
            <a:ext cx="150840" cy="152640"/>
            <a:chOff x="8755200" y="1171440"/>
            <a:chExt cx="150840" cy="152640"/>
          </a:xfrm>
        </p:grpSpPr>
        <p:sp>
          <p:nvSpPr>
            <p:cNvPr id="8942" name=""/>
            <p:cNvSpPr/>
            <p:nvPr/>
          </p:nvSpPr>
          <p:spPr>
            <a:xfrm rot="16200000">
              <a:off x="8722080" y="126972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3" name=""/>
            <p:cNvSpPr/>
            <p:nvPr/>
          </p:nvSpPr>
          <p:spPr>
            <a:xfrm rot="16200000">
              <a:off x="8787240" y="120492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4" name=""/>
            <p:cNvSpPr/>
            <p:nvPr/>
          </p:nvSpPr>
          <p:spPr>
            <a:xfrm rot="16200000">
              <a:off x="8808840" y="122688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5" name=""/>
            <p:cNvSpPr/>
            <p:nvPr/>
          </p:nvSpPr>
          <p:spPr>
            <a:xfrm rot="16200000">
              <a:off x="8852040" y="113904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6" name=""/>
            <p:cNvSpPr/>
            <p:nvPr/>
          </p:nvSpPr>
          <p:spPr>
            <a:xfrm rot="16200000">
              <a:off x="8786520" y="1204560"/>
              <a:ext cx="10908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7" name=""/>
            <p:cNvSpPr/>
            <p:nvPr/>
          </p:nvSpPr>
          <p:spPr>
            <a:xfrm rot="16200000">
              <a:off x="8808120" y="1226160"/>
              <a:ext cx="15264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8" name=""/>
          <p:cNvGrpSpPr/>
          <p:nvPr/>
        </p:nvGrpSpPr>
        <p:grpSpPr>
          <a:xfrm>
            <a:off x="8969400" y="1260000"/>
            <a:ext cx="93600" cy="88920"/>
            <a:chOff x="8969400" y="1260000"/>
            <a:chExt cx="93600" cy="88920"/>
          </a:xfrm>
        </p:grpSpPr>
        <p:sp>
          <p:nvSpPr>
            <p:cNvPr id="8949" name=""/>
            <p:cNvSpPr/>
            <p:nvPr/>
          </p:nvSpPr>
          <p:spPr>
            <a:xfrm rot="16200000">
              <a:off x="8934120" y="12952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0" name=""/>
            <p:cNvSpPr/>
            <p:nvPr/>
          </p:nvSpPr>
          <p:spPr>
            <a:xfrm rot="16200000">
              <a:off x="9009000" y="1294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1" name=""/>
            <p:cNvSpPr/>
            <p:nvPr/>
          </p:nvSpPr>
          <p:spPr>
            <a:xfrm rot="16200000">
              <a:off x="8993880" y="1235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2" name=""/>
            <p:cNvSpPr/>
            <p:nvPr/>
          </p:nvSpPr>
          <p:spPr>
            <a:xfrm rot="16200000">
              <a:off x="8993880" y="1279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3" name=""/>
          <p:cNvGrpSpPr/>
          <p:nvPr/>
        </p:nvGrpSpPr>
        <p:grpSpPr>
          <a:xfrm>
            <a:off x="8982000" y="1461960"/>
            <a:ext cx="88920" cy="93960"/>
            <a:chOff x="8982000" y="1461960"/>
            <a:chExt cx="88920" cy="93960"/>
          </a:xfrm>
        </p:grpSpPr>
        <p:sp>
          <p:nvSpPr>
            <p:cNvPr id="8954" name=""/>
            <p:cNvSpPr/>
            <p:nvPr/>
          </p:nvSpPr>
          <p:spPr>
            <a:xfrm>
              <a:off x="8982000" y="1461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8982000" y="1537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9026280" y="1461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8982000" y="1461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8" name=""/>
          <p:cNvGrpSpPr/>
          <p:nvPr/>
        </p:nvGrpSpPr>
        <p:grpSpPr>
          <a:xfrm>
            <a:off x="9381960" y="2290680"/>
            <a:ext cx="206640" cy="193680"/>
            <a:chOff x="9381960" y="2290680"/>
            <a:chExt cx="206640" cy="193680"/>
          </a:xfrm>
        </p:grpSpPr>
        <p:sp>
          <p:nvSpPr>
            <p:cNvPr id="8959" name=""/>
            <p:cNvSpPr/>
            <p:nvPr/>
          </p:nvSpPr>
          <p:spPr>
            <a:xfrm rot="16200000">
              <a:off x="9417600" y="242892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0" name=""/>
            <p:cNvSpPr/>
            <p:nvPr/>
          </p:nvSpPr>
          <p:spPr>
            <a:xfrm rot="16200000">
              <a:off x="9417960" y="225468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1" name=""/>
            <p:cNvSpPr/>
            <p:nvPr/>
          </p:nvSpPr>
          <p:spPr>
            <a:xfrm rot="16200000">
              <a:off x="9307800" y="236448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2" name=""/>
            <p:cNvSpPr/>
            <p:nvPr/>
          </p:nvSpPr>
          <p:spPr>
            <a:xfrm rot="16200000">
              <a:off x="9353520" y="2364840"/>
              <a:ext cx="193680" cy="4536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3" name=""/>
            <p:cNvSpPr/>
            <p:nvPr/>
          </p:nvSpPr>
          <p:spPr>
            <a:xfrm rot="16200000">
              <a:off x="9536040" y="237348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4" name=""/>
            <p:cNvSpPr/>
            <p:nvPr/>
          </p:nvSpPr>
          <p:spPr>
            <a:xfrm rot="16200000">
              <a:off x="9401040" y="237636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5" name=""/>
            <p:cNvSpPr/>
            <p:nvPr/>
          </p:nvSpPr>
          <p:spPr>
            <a:xfrm rot="16200000">
              <a:off x="9489240" y="2326680"/>
              <a:ext cx="38160" cy="16020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6" name=""/>
            <p:cNvSpPr/>
            <p:nvPr/>
          </p:nvSpPr>
          <p:spPr>
            <a:xfrm rot="16200000">
              <a:off x="9489240" y="2288520"/>
              <a:ext cx="38520" cy="16020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7" name=""/>
          <p:cNvGrpSpPr/>
          <p:nvPr/>
        </p:nvGrpSpPr>
        <p:grpSpPr>
          <a:xfrm>
            <a:off x="9202680" y="1669680"/>
            <a:ext cx="93600" cy="88920"/>
            <a:chOff x="9202680" y="1669680"/>
            <a:chExt cx="93600" cy="88920"/>
          </a:xfrm>
        </p:grpSpPr>
        <p:sp>
          <p:nvSpPr>
            <p:cNvPr id="8968" name=""/>
            <p:cNvSpPr/>
            <p:nvPr/>
          </p:nvSpPr>
          <p:spPr>
            <a:xfrm rot="16200000">
              <a:off x="9167400" y="1704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9" name=""/>
            <p:cNvSpPr/>
            <p:nvPr/>
          </p:nvSpPr>
          <p:spPr>
            <a:xfrm rot="16200000">
              <a:off x="9242280" y="1704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0" name=""/>
            <p:cNvSpPr/>
            <p:nvPr/>
          </p:nvSpPr>
          <p:spPr>
            <a:xfrm rot="16200000">
              <a:off x="9227160" y="1645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1" name=""/>
            <p:cNvSpPr/>
            <p:nvPr/>
          </p:nvSpPr>
          <p:spPr>
            <a:xfrm rot="16200000">
              <a:off x="9227160" y="1689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2" name=""/>
          <p:cNvGrpSpPr/>
          <p:nvPr/>
        </p:nvGrpSpPr>
        <p:grpSpPr>
          <a:xfrm>
            <a:off x="9210600" y="1209240"/>
            <a:ext cx="149760" cy="74520"/>
            <a:chOff x="9210600" y="1209240"/>
            <a:chExt cx="149760" cy="74520"/>
          </a:xfrm>
        </p:grpSpPr>
        <p:sp>
          <p:nvSpPr>
            <p:cNvPr id="8973" name=""/>
            <p:cNvSpPr/>
            <p:nvPr/>
          </p:nvSpPr>
          <p:spPr>
            <a:xfrm rot="16200000">
              <a:off x="9173520" y="1246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4" name=""/>
            <p:cNvSpPr/>
            <p:nvPr/>
          </p:nvSpPr>
          <p:spPr>
            <a:xfrm rot="16200000">
              <a:off x="9322920" y="1246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5" name=""/>
            <p:cNvSpPr/>
            <p:nvPr/>
          </p:nvSpPr>
          <p:spPr>
            <a:xfrm rot="16200000">
              <a:off x="9266400" y="11530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6" name=""/>
            <p:cNvSpPr/>
            <p:nvPr/>
          </p:nvSpPr>
          <p:spPr>
            <a:xfrm rot="16200000">
              <a:off x="9266760" y="11905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7" name=""/>
          <p:cNvGrpSpPr/>
          <p:nvPr/>
        </p:nvGrpSpPr>
        <p:grpSpPr>
          <a:xfrm>
            <a:off x="9412200" y="990720"/>
            <a:ext cx="95400" cy="97200"/>
            <a:chOff x="9412200" y="990720"/>
            <a:chExt cx="95400" cy="97200"/>
          </a:xfrm>
        </p:grpSpPr>
        <p:sp>
          <p:nvSpPr>
            <p:cNvPr id="8978" name=""/>
            <p:cNvSpPr/>
            <p:nvPr/>
          </p:nvSpPr>
          <p:spPr>
            <a:xfrm>
              <a:off x="9412200" y="990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9412200" y="108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9460080" y="990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9412200" y="990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2" name=""/>
          <p:cNvGrpSpPr/>
          <p:nvPr/>
        </p:nvGrpSpPr>
        <p:grpSpPr>
          <a:xfrm>
            <a:off x="9431280" y="1409760"/>
            <a:ext cx="88920" cy="93600"/>
            <a:chOff x="9431280" y="1409760"/>
            <a:chExt cx="88920" cy="93600"/>
          </a:xfrm>
        </p:grpSpPr>
        <p:sp>
          <p:nvSpPr>
            <p:cNvPr id="8983" name=""/>
            <p:cNvSpPr/>
            <p:nvPr/>
          </p:nvSpPr>
          <p:spPr>
            <a:xfrm>
              <a:off x="9431280" y="1409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9431280" y="1484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9475560" y="1409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9431280" y="1409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7" name=""/>
          <p:cNvGrpSpPr/>
          <p:nvPr/>
        </p:nvGrpSpPr>
        <p:grpSpPr>
          <a:xfrm>
            <a:off x="9469080" y="1161720"/>
            <a:ext cx="74520" cy="152280"/>
            <a:chOff x="9469080" y="1161720"/>
            <a:chExt cx="74520" cy="152280"/>
          </a:xfrm>
        </p:grpSpPr>
        <p:sp>
          <p:nvSpPr>
            <p:cNvPr id="8988" name=""/>
            <p:cNvSpPr/>
            <p:nvPr/>
          </p:nvSpPr>
          <p:spPr>
            <a:xfrm rot="10800000">
              <a:off x="9469080" y="12837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9" name=""/>
            <p:cNvSpPr/>
            <p:nvPr/>
          </p:nvSpPr>
          <p:spPr>
            <a:xfrm rot="10800000">
              <a:off x="9469080" y="11617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0" name=""/>
            <p:cNvSpPr/>
            <p:nvPr/>
          </p:nvSpPr>
          <p:spPr>
            <a:xfrm rot="10800000">
              <a:off x="9469440" y="1161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1" name=""/>
            <p:cNvSpPr/>
            <p:nvPr/>
          </p:nvSpPr>
          <p:spPr>
            <a:xfrm rot="10800000">
              <a:off x="9506520" y="11617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2" name=""/>
          <p:cNvGrpSpPr/>
          <p:nvPr/>
        </p:nvGrpSpPr>
        <p:grpSpPr>
          <a:xfrm>
            <a:off x="9659880" y="745920"/>
            <a:ext cx="93600" cy="88920"/>
            <a:chOff x="9659880" y="745920"/>
            <a:chExt cx="93600" cy="88920"/>
          </a:xfrm>
        </p:grpSpPr>
        <p:sp>
          <p:nvSpPr>
            <p:cNvPr id="8993" name=""/>
            <p:cNvSpPr/>
            <p:nvPr/>
          </p:nvSpPr>
          <p:spPr>
            <a:xfrm rot="16200000">
              <a:off x="9624600" y="7812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4" name=""/>
            <p:cNvSpPr/>
            <p:nvPr/>
          </p:nvSpPr>
          <p:spPr>
            <a:xfrm rot="16200000">
              <a:off x="9699480" y="780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5" name=""/>
            <p:cNvSpPr/>
            <p:nvPr/>
          </p:nvSpPr>
          <p:spPr>
            <a:xfrm rot="16200000">
              <a:off x="9684360" y="721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6" name=""/>
            <p:cNvSpPr/>
            <p:nvPr/>
          </p:nvSpPr>
          <p:spPr>
            <a:xfrm rot="16200000">
              <a:off x="9684360" y="765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7" name=""/>
          <p:cNvGrpSpPr/>
          <p:nvPr/>
        </p:nvGrpSpPr>
        <p:grpSpPr>
          <a:xfrm>
            <a:off x="9650520" y="971640"/>
            <a:ext cx="95040" cy="97200"/>
            <a:chOff x="9650520" y="971640"/>
            <a:chExt cx="95040" cy="97200"/>
          </a:xfrm>
        </p:grpSpPr>
        <p:sp>
          <p:nvSpPr>
            <p:cNvPr id="8998" name=""/>
            <p:cNvSpPr/>
            <p:nvPr/>
          </p:nvSpPr>
          <p:spPr>
            <a:xfrm>
              <a:off x="9650520" y="971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9650520" y="1068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9698040" y="971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9650520" y="9716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2" name=""/>
          <p:cNvGrpSpPr/>
          <p:nvPr/>
        </p:nvGrpSpPr>
        <p:grpSpPr>
          <a:xfrm>
            <a:off x="7124760" y="2366640"/>
            <a:ext cx="152280" cy="74520"/>
            <a:chOff x="7124760" y="2366640"/>
            <a:chExt cx="152280" cy="74520"/>
          </a:xfrm>
        </p:grpSpPr>
        <p:sp>
          <p:nvSpPr>
            <p:cNvPr id="9003" name=""/>
            <p:cNvSpPr/>
            <p:nvPr/>
          </p:nvSpPr>
          <p:spPr>
            <a:xfrm rot="16200000">
              <a:off x="7102440" y="23886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4" name=""/>
            <p:cNvSpPr/>
            <p:nvPr/>
          </p:nvSpPr>
          <p:spPr>
            <a:xfrm rot="16200000">
              <a:off x="7224480" y="23886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5" name=""/>
            <p:cNvSpPr/>
            <p:nvPr/>
          </p:nvSpPr>
          <p:spPr>
            <a:xfrm rot="16200000">
              <a:off x="7182360" y="23094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6" name=""/>
            <p:cNvSpPr/>
            <p:nvPr/>
          </p:nvSpPr>
          <p:spPr>
            <a:xfrm rot="16200000">
              <a:off x="7182360" y="23464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7" name=""/>
          <p:cNvGrpSpPr/>
          <p:nvPr/>
        </p:nvGrpSpPr>
        <p:grpSpPr>
          <a:xfrm>
            <a:off x="8572680" y="2343240"/>
            <a:ext cx="88560" cy="93600"/>
            <a:chOff x="8572680" y="2343240"/>
            <a:chExt cx="88560" cy="93600"/>
          </a:xfrm>
        </p:grpSpPr>
        <p:sp>
          <p:nvSpPr>
            <p:cNvPr id="9008" name=""/>
            <p:cNvSpPr/>
            <p:nvPr/>
          </p:nvSpPr>
          <p:spPr>
            <a:xfrm>
              <a:off x="8572680" y="234324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8572680" y="24181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8616960" y="234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8572680" y="234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2" name=""/>
          <p:cNvGrpSpPr/>
          <p:nvPr/>
        </p:nvGrpSpPr>
        <p:grpSpPr>
          <a:xfrm>
            <a:off x="8112240" y="2346120"/>
            <a:ext cx="93600" cy="88920"/>
            <a:chOff x="8112240" y="2346120"/>
            <a:chExt cx="93600" cy="88920"/>
          </a:xfrm>
        </p:grpSpPr>
        <p:sp>
          <p:nvSpPr>
            <p:cNvPr id="9013" name=""/>
            <p:cNvSpPr/>
            <p:nvPr/>
          </p:nvSpPr>
          <p:spPr>
            <a:xfrm rot="16200000">
              <a:off x="8076960" y="2381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4" name=""/>
            <p:cNvSpPr/>
            <p:nvPr/>
          </p:nvSpPr>
          <p:spPr>
            <a:xfrm rot="16200000">
              <a:off x="8151840" y="23810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5" name=""/>
            <p:cNvSpPr/>
            <p:nvPr/>
          </p:nvSpPr>
          <p:spPr>
            <a:xfrm rot="16200000">
              <a:off x="8136720" y="2321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6" name=""/>
            <p:cNvSpPr/>
            <p:nvPr/>
          </p:nvSpPr>
          <p:spPr>
            <a:xfrm rot="16200000">
              <a:off x="8136720" y="2365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7" name=""/>
          <p:cNvGrpSpPr/>
          <p:nvPr/>
        </p:nvGrpSpPr>
        <p:grpSpPr>
          <a:xfrm>
            <a:off x="8344080" y="2571840"/>
            <a:ext cx="88560" cy="93600"/>
            <a:chOff x="8344080" y="2571840"/>
            <a:chExt cx="88560" cy="93600"/>
          </a:xfrm>
        </p:grpSpPr>
        <p:sp>
          <p:nvSpPr>
            <p:cNvPr id="9018" name=""/>
            <p:cNvSpPr/>
            <p:nvPr/>
          </p:nvSpPr>
          <p:spPr>
            <a:xfrm>
              <a:off x="8344080" y="257184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8344080" y="26467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8388360" y="257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8344080" y="257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2" name=""/>
          <p:cNvGrpSpPr/>
          <p:nvPr/>
        </p:nvGrpSpPr>
        <p:grpSpPr>
          <a:xfrm>
            <a:off x="8115480" y="2571840"/>
            <a:ext cx="88560" cy="93600"/>
            <a:chOff x="8115480" y="2571840"/>
            <a:chExt cx="88560" cy="93600"/>
          </a:xfrm>
        </p:grpSpPr>
        <p:sp>
          <p:nvSpPr>
            <p:cNvPr id="9023" name=""/>
            <p:cNvSpPr/>
            <p:nvPr/>
          </p:nvSpPr>
          <p:spPr>
            <a:xfrm>
              <a:off x="8115480" y="257184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8115480" y="26467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8159760" y="257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8115480" y="2571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7" name=""/>
          <p:cNvGrpSpPr/>
          <p:nvPr/>
        </p:nvGrpSpPr>
        <p:grpSpPr>
          <a:xfrm>
            <a:off x="8344080" y="2343240"/>
            <a:ext cx="74520" cy="152280"/>
            <a:chOff x="8344080" y="2343240"/>
            <a:chExt cx="74520" cy="152280"/>
          </a:xfrm>
        </p:grpSpPr>
        <p:sp>
          <p:nvSpPr>
            <p:cNvPr id="9028" name=""/>
            <p:cNvSpPr/>
            <p:nvPr/>
          </p:nvSpPr>
          <p:spPr>
            <a:xfrm>
              <a:off x="8344080" y="23432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8344080" y="24649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8381160" y="23432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8344080" y="234324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2" name=""/>
          <p:cNvGrpSpPr/>
          <p:nvPr/>
        </p:nvGrpSpPr>
        <p:grpSpPr>
          <a:xfrm>
            <a:off x="8305920" y="2781360"/>
            <a:ext cx="88920" cy="93600"/>
            <a:chOff x="8305920" y="2781360"/>
            <a:chExt cx="88920" cy="93600"/>
          </a:xfrm>
        </p:grpSpPr>
        <p:sp>
          <p:nvSpPr>
            <p:cNvPr id="9033" name=""/>
            <p:cNvSpPr/>
            <p:nvPr/>
          </p:nvSpPr>
          <p:spPr>
            <a:xfrm>
              <a:off x="8305920" y="2781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8305920" y="2856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8350200" y="278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8305920" y="278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7" name=""/>
          <p:cNvGrpSpPr/>
          <p:nvPr/>
        </p:nvGrpSpPr>
        <p:grpSpPr>
          <a:xfrm>
            <a:off x="8312040" y="2126880"/>
            <a:ext cx="93600" cy="88920"/>
            <a:chOff x="8312040" y="2126880"/>
            <a:chExt cx="93600" cy="88920"/>
          </a:xfrm>
        </p:grpSpPr>
        <p:sp>
          <p:nvSpPr>
            <p:cNvPr id="9038" name=""/>
            <p:cNvSpPr/>
            <p:nvPr/>
          </p:nvSpPr>
          <p:spPr>
            <a:xfrm rot="16200000">
              <a:off x="8276760" y="21621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9" name=""/>
            <p:cNvSpPr/>
            <p:nvPr/>
          </p:nvSpPr>
          <p:spPr>
            <a:xfrm rot="16200000">
              <a:off x="8351640" y="2161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0" name=""/>
            <p:cNvSpPr/>
            <p:nvPr/>
          </p:nvSpPr>
          <p:spPr>
            <a:xfrm rot="16200000">
              <a:off x="8336520" y="2102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1" name=""/>
            <p:cNvSpPr/>
            <p:nvPr/>
          </p:nvSpPr>
          <p:spPr>
            <a:xfrm rot="16200000">
              <a:off x="8336520" y="2146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2" name=""/>
          <p:cNvGrpSpPr/>
          <p:nvPr/>
        </p:nvGrpSpPr>
        <p:grpSpPr>
          <a:xfrm>
            <a:off x="8124840" y="2095560"/>
            <a:ext cx="88920" cy="93600"/>
            <a:chOff x="8124840" y="2095560"/>
            <a:chExt cx="88920" cy="93600"/>
          </a:xfrm>
        </p:grpSpPr>
        <p:sp>
          <p:nvSpPr>
            <p:cNvPr id="9043" name=""/>
            <p:cNvSpPr/>
            <p:nvPr/>
          </p:nvSpPr>
          <p:spPr>
            <a:xfrm>
              <a:off x="8124840" y="2095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8124840" y="2170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8169120" y="2095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8124840" y="2095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7" name=""/>
          <p:cNvGrpSpPr/>
          <p:nvPr/>
        </p:nvGrpSpPr>
        <p:grpSpPr>
          <a:xfrm>
            <a:off x="5827680" y="5257440"/>
            <a:ext cx="97200" cy="95400"/>
            <a:chOff x="5827680" y="5257440"/>
            <a:chExt cx="97200" cy="95400"/>
          </a:xfrm>
        </p:grpSpPr>
        <p:sp>
          <p:nvSpPr>
            <p:cNvPr id="9048" name=""/>
            <p:cNvSpPr/>
            <p:nvPr/>
          </p:nvSpPr>
          <p:spPr>
            <a:xfrm rot="16200000">
              <a:off x="5780160" y="5304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9" name=""/>
            <p:cNvSpPr/>
            <p:nvPr/>
          </p:nvSpPr>
          <p:spPr>
            <a:xfrm rot="16200000">
              <a:off x="5877000" y="5304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0" name=""/>
            <p:cNvSpPr/>
            <p:nvPr/>
          </p:nvSpPr>
          <p:spPr>
            <a:xfrm rot="16200000">
              <a:off x="5852160" y="5232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1" name=""/>
            <p:cNvSpPr/>
            <p:nvPr/>
          </p:nvSpPr>
          <p:spPr>
            <a:xfrm rot="16200000">
              <a:off x="5852160" y="5280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2" name=""/>
          <p:cNvGrpSpPr/>
          <p:nvPr/>
        </p:nvGrpSpPr>
        <p:grpSpPr>
          <a:xfrm>
            <a:off x="5791320" y="5047920"/>
            <a:ext cx="97200" cy="95400"/>
            <a:chOff x="5791320" y="5047920"/>
            <a:chExt cx="97200" cy="95400"/>
          </a:xfrm>
        </p:grpSpPr>
        <p:sp>
          <p:nvSpPr>
            <p:cNvPr id="9053" name=""/>
            <p:cNvSpPr/>
            <p:nvPr/>
          </p:nvSpPr>
          <p:spPr>
            <a:xfrm rot="16200000">
              <a:off x="5743800" y="5095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4" name=""/>
            <p:cNvSpPr/>
            <p:nvPr/>
          </p:nvSpPr>
          <p:spPr>
            <a:xfrm rot="16200000">
              <a:off x="5840640" y="5095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5" name=""/>
            <p:cNvSpPr/>
            <p:nvPr/>
          </p:nvSpPr>
          <p:spPr>
            <a:xfrm rot="16200000">
              <a:off x="5815800" y="50230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6" name=""/>
            <p:cNvSpPr/>
            <p:nvPr/>
          </p:nvSpPr>
          <p:spPr>
            <a:xfrm rot="16200000">
              <a:off x="5815800" y="50709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7" name=""/>
          <p:cNvGrpSpPr/>
          <p:nvPr/>
        </p:nvGrpSpPr>
        <p:grpSpPr>
          <a:xfrm>
            <a:off x="5121360" y="4603320"/>
            <a:ext cx="93600" cy="88920"/>
            <a:chOff x="5121360" y="4603320"/>
            <a:chExt cx="93600" cy="88920"/>
          </a:xfrm>
        </p:grpSpPr>
        <p:sp>
          <p:nvSpPr>
            <p:cNvPr id="9058" name=""/>
            <p:cNvSpPr/>
            <p:nvPr/>
          </p:nvSpPr>
          <p:spPr>
            <a:xfrm rot="16200000">
              <a:off x="5086080" y="4638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9" name=""/>
            <p:cNvSpPr/>
            <p:nvPr/>
          </p:nvSpPr>
          <p:spPr>
            <a:xfrm rot="16200000">
              <a:off x="5160960" y="4638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0" name=""/>
            <p:cNvSpPr/>
            <p:nvPr/>
          </p:nvSpPr>
          <p:spPr>
            <a:xfrm rot="16200000">
              <a:off x="5145840" y="4578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1" name=""/>
            <p:cNvSpPr/>
            <p:nvPr/>
          </p:nvSpPr>
          <p:spPr>
            <a:xfrm rot="16200000">
              <a:off x="5145840" y="4623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2" name=""/>
          <p:cNvGrpSpPr/>
          <p:nvPr/>
        </p:nvGrpSpPr>
        <p:grpSpPr>
          <a:xfrm>
            <a:off x="5587920" y="5051160"/>
            <a:ext cx="93600" cy="88920"/>
            <a:chOff x="5587920" y="5051160"/>
            <a:chExt cx="93600" cy="88920"/>
          </a:xfrm>
        </p:grpSpPr>
        <p:sp>
          <p:nvSpPr>
            <p:cNvPr id="9063" name=""/>
            <p:cNvSpPr/>
            <p:nvPr/>
          </p:nvSpPr>
          <p:spPr>
            <a:xfrm rot="16200000">
              <a:off x="5552640" y="5086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4" name=""/>
            <p:cNvSpPr/>
            <p:nvPr/>
          </p:nvSpPr>
          <p:spPr>
            <a:xfrm rot="16200000">
              <a:off x="5627520" y="5086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5" name=""/>
            <p:cNvSpPr/>
            <p:nvPr/>
          </p:nvSpPr>
          <p:spPr>
            <a:xfrm rot="16200000">
              <a:off x="5612400" y="5026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6" name=""/>
            <p:cNvSpPr/>
            <p:nvPr/>
          </p:nvSpPr>
          <p:spPr>
            <a:xfrm rot="16200000">
              <a:off x="5612400" y="5070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7" name=""/>
          <p:cNvGrpSpPr/>
          <p:nvPr/>
        </p:nvGrpSpPr>
        <p:grpSpPr>
          <a:xfrm>
            <a:off x="5533920" y="4885920"/>
            <a:ext cx="152640" cy="74520"/>
            <a:chOff x="5533920" y="4885920"/>
            <a:chExt cx="152640" cy="74520"/>
          </a:xfrm>
        </p:grpSpPr>
        <p:sp>
          <p:nvSpPr>
            <p:cNvPr id="9068" name=""/>
            <p:cNvSpPr/>
            <p:nvPr/>
          </p:nvSpPr>
          <p:spPr>
            <a:xfrm rot="16200000">
              <a:off x="5511600" y="49078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9" name=""/>
            <p:cNvSpPr/>
            <p:nvPr/>
          </p:nvSpPr>
          <p:spPr>
            <a:xfrm rot="16200000">
              <a:off x="5634000" y="49078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0" name=""/>
            <p:cNvSpPr/>
            <p:nvPr/>
          </p:nvSpPr>
          <p:spPr>
            <a:xfrm rot="16200000">
              <a:off x="5591520" y="482832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1" name=""/>
            <p:cNvSpPr/>
            <p:nvPr/>
          </p:nvSpPr>
          <p:spPr>
            <a:xfrm rot="16200000">
              <a:off x="5591520" y="486540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2" name=""/>
          <p:cNvGrpSpPr/>
          <p:nvPr/>
        </p:nvGrpSpPr>
        <p:grpSpPr>
          <a:xfrm>
            <a:off x="5533920" y="4591080"/>
            <a:ext cx="152640" cy="152280"/>
            <a:chOff x="5533920" y="4591080"/>
            <a:chExt cx="152640" cy="152280"/>
          </a:xfrm>
        </p:grpSpPr>
        <p:sp>
          <p:nvSpPr>
            <p:cNvPr id="9073" name=""/>
            <p:cNvSpPr/>
            <p:nvPr/>
          </p:nvSpPr>
          <p:spPr>
            <a:xfrm>
              <a:off x="5533920" y="459108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5533920" y="471276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5610240" y="459108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5533920" y="459108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7" name=""/>
          <p:cNvGrpSpPr/>
          <p:nvPr/>
        </p:nvGrpSpPr>
        <p:grpSpPr>
          <a:xfrm>
            <a:off x="5064120" y="4128840"/>
            <a:ext cx="174600" cy="176040"/>
            <a:chOff x="5064120" y="4128840"/>
            <a:chExt cx="174600" cy="176040"/>
          </a:xfrm>
        </p:grpSpPr>
        <p:sp>
          <p:nvSpPr>
            <p:cNvPr id="9078" name=""/>
            <p:cNvSpPr/>
            <p:nvPr/>
          </p:nvSpPr>
          <p:spPr>
            <a:xfrm rot="16200000">
              <a:off x="5026320" y="42422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9" name=""/>
            <p:cNvSpPr/>
            <p:nvPr/>
          </p:nvSpPr>
          <p:spPr>
            <a:xfrm rot="16200000">
              <a:off x="5101200" y="41670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0" name=""/>
            <p:cNvSpPr/>
            <p:nvPr/>
          </p:nvSpPr>
          <p:spPr>
            <a:xfrm rot="16200000">
              <a:off x="5126040" y="41922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1" name=""/>
            <p:cNvSpPr/>
            <p:nvPr/>
          </p:nvSpPr>
          <p:spPr>
            <a:xfrm rot="16200000">
              <a:off x="5176080" y="40914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2" name=""/>
            <p:cNvSpPr/>
            <p:nvPr/>
          </p:nvSpPr>
          <p:spPr>
            <a:xfrm rot="16200000">
              <a:off x="5100480" y="41666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3" name=""/>
            <p:cNvSpPr/>
            <p:nvPr/>
          </p:nvSpPr>
          <p:spPr>
            <a:xfrm rot="16200000">
              <a:off x="5125680" y="41918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4" name=""/>
          <p:cNvGrpSpPr/>
          <p:nvPr/>
        </p:nvGrpSpPr>
        <p:grpSpPr>
          <a:xfrm>
            <a:off x="5523840" y="4010040"/>
            <a:ext cx="97200" cy="95400"/>
            <a:chOff x="5523840" y="4010040"/>
            <a:chExt cx="97200" cy="95400"/>
          </a:xfrm>
        </p:grpSpPr>
        <p:sp>
          <p:nvSpPr>
            <p:cNvPr id="9085" name=""/>
            <p:cNvSpPr/>
            <p:nvPr/>
          </p:nvSpPr>
          <p:spPr>
            <a:xfrm rot="5400000">
              <a:off x="5573160" y="405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6" name=""/>
            <p:cNvSpPr/>
            <p:nvPr/>
          </p:nvSpPr>
          <p:spPr>
            <a:xfrm rot="5400000">
              <a:off x="5476320" y="405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7" name=""/>
            <p:cNvSpPr/>
            <p:nvPr/>
          </p:nvSpPr>
          <p:spPr>
            <a:xfrm rot="5400000">
              <a:off x="5548680" y="40330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8" name=""/>
            <p:cNvSpPr/>
            <p:nvPr/>
          </p:nvSpPr>
          <p:spPr>
            <a:xfrm rot="5400000">
              <a:off x="5548680" y="3985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9" name=""/>
          <p:cNvGrpSpPr/>
          <p:nvPr/>
        </p:nvGrpSpPr>
        <p:grpSpPr>
          <a:xfrm>
            <a:off x="5373720" y="4237200"/>
            <a:ext cx="95040" cy="97200"/>
            <a:chOff x="5373720" y="4237200"/>
            <a:chExt cx="95040" cy="97200"/>
          </a:xfrm>
        </p:grpSpPr>
        <p:sp>
          <p:nvSpPr>
            <p:cNvPr id="9090" name=""/>
            <p:cNvSpPr/>
            <p:nvPr/>
          </p:nvSpPr>
          <p:spPr>
            <a:xfrm>
              <a:off x="5373720" y="4237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5373720" y="4334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5421240" y="42372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5373720" y="4237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4" name=""/>
          <p:cNvGrpSpPr/>
          <p:nvPr/>
        </p:nvGrpSpPr>
        <p:grpSpPr>
          <a:xfrm>
            <a:off x="5373720" y="4389480"/>
            <a:ext cx="95040" cy="97200"/>
            <a:chOff x="5373720" y="4389480"/>
            <a:chExt cx="95040" cy="97200"/>
          </a:xfrm>
        </p:grpSpPr>
        <p:sp>
          <p:nvSpPr>
            <p:cNvPr id="9095" name=""/>
            <p:cNvSpPr/>
            <p:nvPr/>
          </p:nvSpPr>
          <p:spPr>
            <a:xfrm>
              <a:off x="5373720" y="4389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5373720" y="44863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5421240" y="43894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5373720" y="43894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9" name=""/>
          <p:cNvGrpSpPr/>
          <p:nvPr/>
        </p:nvGrpSpPr>
        <p:grpSpPr>
          <a:xfrm>
            <a:off x="5538960" y="4152960"/>
            <a:ext cx="150480" cy="152280"/>
            <a:chOff x="5538960" y="4152960"/>
            <a:chExt cx="150480" cy="152280"/>
          </a:xfrm>
        </p:grpSpPr>
        <p:sp>
          <p:nvSpPr>
            <p:cNvPr id="9100" name=""/>
            <p:cNvSpPr/>
            <p:nvPr/>
          </p:nvSpPr>
          <p:spPr>
            <a:xfrm rot="5400000">
              <a:off x="5635080" y="418572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1" name=""/>
            <p:cNvSpPr/>
            <p:nvPr/>
          </p:nvSpPr>
          <p:spPr>
            <a:xfrm rot="5400000">
              <a:off x="5613840" y="4164480"/>
              <a:ext cx="43560" cy="10728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2" name=""/>
            <p:cNvSpPr/>
            <p:nvPr/>
          </p:nvSpPr>
          <p:spPr>
            <a:xfrm rot="5400000">
              <a:off x="5592240" y="4099320"/>
              <a:ext cx="43560" cy="15048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3" name=""/>
            <p:cNvSpPr/>
            <p:nvPr/>
          </p:nvSpPr>
          <p:spPr>
            <a:xfrm rot="5400000">
              <a:off x="5571000" y="4251240"/>
              <a:ext cx="21600" cy="8604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4" name=""/>
            <p:cNvSpPr/>
            <p:nvPr/>
          </p:nvSpPr>
          <p:spPr>
            <a:xfrm rot="5400000">
              <a:off x="5549040" y="422928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5" name=""/>
            <p:cNvSpPr/>
            <p:nvPr/>
          </p:nvSpPr>
          <p:spPr>
            <a:xfrm rot="5400000">
              <a:off x="5484240" y="420732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6" name=""/>
          <p:cNvGrpSpPr/>
          <p:nvPr/>
        </p:nvGrpSpPr>
        <p:grpSpPr>
          <a:xfrm>
            <a:off x="5578560" y="4379400"/>
            <a:ext cx="93600" cy="88920"/>
            <a:chOff x="5578560" y="4379400"/>
            <a:chExt cx="93600" cy="88920"/>
          </a:xfrm>
        </p:grpSpPr>
        <p:sp>
          <p:nvSpPr>
            <p:cNvPr id="9107" name=""/>
            <p:cNvSpPr/>
            <p:nvPr/>
          </p:nvSpPr>
          <p:spPr>
            <a:xfrm rot="16200000">
              <a:off x="5543280" y="4414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8" name=""/>
            <p:cNvSpPr/>
            <p:nvPr/>
          </p:nvSpPr>
          <p:spPr>
            <a:xfrm rot="16200000">
              <a:off x="5618160" y="4414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9" name=""/>
            <p:cNvSpPr/>
            <p:nvPr/>
          </p:nvSpPr>
          <p:spPr>
            <a:xfrm rot="16200000">
              <a:off x="5603040" y="4354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0" name=""/>
            <p:cNvSpPr/>
            <p:nvPr/>
          </p:nvSpPr>
          <p:spPr>
            <a:xfrm rot="16200000">
              <a:off x="5603040" y="4399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1" name=""/>
          <p:cNvGrpSpPr/>
          <p:nvPr/>
        </p:nvGrpSpPr>
        <p:grpSpPr>
          <a:xfrm>
            <a:off x="5781600" y="4362480"/>
            <a:ext cx="152640" cy="152280"/>
            <a:chOff x="5781600" y="4362480"/>
            <a:chExt cx="152640" cy="152280"/>
          </a:xfrm>
        </p:grpSpPr>
        <p:sp>
          <p:nvSpPr>
            <p:cNvPr id="9112" name=""/>
            <p:cNvSpPr/>
            <p:nvPr/>
          </p:nvSpPr>
          <p:spPr>
            <a:xfrm>
              <a:off x="5781600" y="436248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5781600" y="448416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5857920" y="436248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5781600" y="436248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6" name=""/>
          <p:cNvGrpSpPr/>
          <p:nvPr/>
        </p:nvGrpSpPr>
        <p:grpSpPr>
          <a:xfrm>
            <a:off x="5944680" y="4818240"/>
            <a:ext cx="93960" cy="88560"/>
            <a:chOff x="5944680" y="4818240"/>
            <a:chExt cx="93960" cy="88560"/>
          </a:xfrm>
        </p:grpSpPr>
        <p:sp>
          <p:nvSpPr>
            <p:cNvPr id="9117" name=""/>
            <p:cNvSpPr/>
            <p:nvPr/>
          </p:nvSpPr>
          <p:spPr>
            <a:xfrm rot="5400000">
              <a:off x="5985000" y="485316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8" name=""/>
            <p:cNvSpPr/>
            <p:nvPr/>
          </p:nvSpPr>
          <p:spPr>
            <a:xfrm rot="5400000">
              <a:off x="5909760" y="485316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9" name=""/>
            <p:cNvSpPr/>
            <p:nvPr/>
          </p:nvSpPr>
          <p:spPr>
            <a:xfrm rot="5400000">
              <a:off x="5969520" y="4837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0" name=""/>
            <p:cNvSpPr/>
            <p:nvPr/>
          </p:nvSpPr>
          <p:spPr>
            <a:xfrm rot="5400000">
              <a:off x="5969520" y="479340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1" name=""/>
          <p:cNvGrpSpPr/>
          <p:nvPr/>
        </p:nvGrpSpPr>
        <p:grpSpPr>
          <a:xfrm>
            <a:off x="5794200" y="4650840"/>
            <a:ext cx="93960" cy="88920"/>
            <a:chOff x="5794200" y="4650840"/>
            <a:chExt cx="93960" cy="88920"/>
          </a:xfrm>
        </p:grpSpPr>
        <p:sp>
          <p:nvSpPr>
            <p:cNvPr id="9122" name=""/>
            <p:cNvSpPr/>
            <p:nvPr/>
          </p:nvSpPr>
          <p:spPr>
            <a:xfrm rot="16200000">
              <a:off x="5758920" y="46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3" name=""/>
            <p:cNvSpPr/>
            <p:nvPr/>
          </p:nvSpPr>
          <p:spPr>
            <a:xfrm rot="16200000">
              <a:off x="5834160" y="468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4" name=""/>
            <p:cNvSpPr/>
            <p:nvPr/>
          </p:nvSpPr>
          <p:spPr>
            <a:xfrm rot="16200000">
              <a:off x="5819040" y="4626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5" name=""/>
            <p:cNvSpPr/>
            <p:nvPr/>
          </p:nvSpPr>
          <p:spPr>
            <a:xfrm rot="16200000">
              <a:off x="5819040" y="46706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6" name=""/>
          <p:cNvGrpSpPr/>
          <p:nvPr/>
        </p:nvGrpSpPr>
        <p:grpSpPr>
          <a:xfrm>
            <a:off x="5799960" y="3952800"/>
            <a:ext cx="97200" cy="95400"/>
            <a:chOff x="5799960" y="3952800"/>
            <a:chExt cx="97200" cy="95400"/>
          </a:xfrm>
        </p:grpSpPr>
        <p:sp>
          <p:nvSpPr>
            <p:cNvPr id="9127" name=""/>
            <p:cNvSpPr/>
            <p:nvPr/>
          </p:nvSpPr>
          <p:spPr>
            <a:xfrm rot="5400000">
              <a:off x="5849280" y="4000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8" name=""/>
            <p:cNvSpPr/>
            <p:nvPr/>
          </p:nvSpPr>
          <p:spPr>
            <a:xfrm rot="5400000">
              <a:off x="5752440" y="4000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9" name=""/>
            <p:cNvSpPr/>
            <p:nvPr/>
          </p:nvSpPr>
          <p:spPr>
            <a:xfrm rot="5400000">
              <a:off x="5824800" y="39758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0" name=""/>
            <p:cNvSpPr/>
            <p:nvPr/>
          </p:nvSpPr>
          <p:spPr>
            <a:xfrm rot="5400000">
              <a:off x="5824800" y="3928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1" name=""/>
          <p:cNvGrpSpPr/>
          <p:nvPr/>
        </p:nvGrpSpPr>
        <p:grpSpPr>
          <a:xfrm>
            <a:off x="5991120" y="4181040"/>
            <a:ext cx="97200" cy="95400"/>
            <a:chOff x="5991120" y="4181040"/>
            <a:chExt cx="97200" cy="95400"/>
          </a:xfrm>
        </p:grpSpPr>
        <p:sp>
          <p:nvSpPr>
            <p:cNvPr id="9132" name=""/>
            <p:cNvSpPr/>
            <p:nvPr/>
          </p:nvSpPr>
          <p:spPr>
            <a:xfrm rot="16200000">
              <a:off x="5943600" y="4228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3" name=""/>
            <p:cNvSpPr/>
            <p:nvPr/>
          </p:nvSpPr>
          <p:spPr>
            <a:xfrm rot="16200000">
              <a:off x="6040440" y="4228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4" name=""/>
            <p:cNvSpPr/>
            <p:nvPr/>
          </p:nvSpPr>
          <p:spPr>
            <a:xfrm rot="16200000">
              <a:off x="6015600" y="4156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5" name=""/>
            <p:cNvSpPr/>
            <p:nvPr/>
          </p:nvSpPr>
          <p:spPr>
            <a:xfrm rot="16200000">
              <a:off x="6015600" y="4204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6" name=""/>
          <p:cNvGrpSpPr/>
          <p:nvPr/>
        </p:nvGrpSpPr>
        <p:grpSpPr>
          <a:xfrm>
            <a:off x="5788080" y="4203360"/>
            <a:ext cx="93600" cy="88920"/>
            <a:chOff x="5788080" y="4203360"/>
            <a:chExt cx="93600" cy="88920"/>
          </a:xfrm>
        </p:grpSpPr>
        <p:sp>
          <p:nvSpPr>
            <p:cNvPr id="9137" name=""/>
            <p:cNvSpPr/>
            <p:nvPr/>
          </p:nvSpPr>
          <p:spPr>
            <a:xfrm rot="16200000">
              <a:off x="5752800" y="4238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 rot="16200000">
              <a:off x="5827680" y="4238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 rot="16200000">
              <a:off x="5812560" y="4178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 rot="16200000">
              <a:off x="5812560" y="4223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1" name=""/>
          <p:cNvGrpSpPr/>
          <p:nvPr/>
        </p:nvGrpSpPr>
        <p:grpSpPr>
          <a:xfrm>
            <a:off x="5797440" y="3250800"/>
            <a:ext cx="93600" cy="88920"/>
            <a:chOff x="5797440" y="3250800"/>
            <a:chExt cx="93600" cy="88920"/>
          </a:xfrm>
        </p:grpSpPr>
        <p:sp>
          <p:nvSpPr>
            <p:cNvPr id="9142" name=""/>
            <p:cNvSpPr/>
            <p:nvPr/>
          </p:nvSpPr>
          <p:spPr>
            <a:xfrm rot="16200000">
              <a:off x="5762160" y="32860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3" name=""/>
            <p:cNvSpPr/>
            <p:nvPr/>
          </p:nvSpPr>
          <p:spPr>
            <a:xfrm rot="16200000">
              <a:off x="5837040" y="3285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4" name=""/>
            <p:cNvSpPr/>
            <p:nvPr/>
          </p:nvSpPr>
          <p:spPr>
            <a:xfrm rot="16200000">
              <a:off x="5821920" y="322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 rot="16200000">
              <a:off x="5821920" y="327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6" name=""/>
          <p:cNvGrpSpPr/>
          <p:nvPr/>
        </p:nvGrpSpPr>
        <p:grpSpPr>
          <a:xfrm>
            <a:off x="6029280" y="3476520"/>
            <a:ext cx="88920" cy="93600"/>
            <a:chOff x="6029280" y="3476520"/>
            <a:chExt cx="88920" cy="93600"/>
          </a:xfrm>
        </p:grpSpPr>
        <p:sp>
          <p:nvSpPr>
            <p:cNvPr id="9147" name=""/>
            <p:cNvSpPr/>
            <p:nvPr/>
          </p:nvSpPr>
          <p:spPr>
            <a:xfrm>
              <a:off x="6029280" y="34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6029280" y="35514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6073560" y="34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6029280" y="347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1" name=""/>
          <p:cNvGrpSpPr/>
          <p:nvPr/>
        </p:nvGrpSpPr>
        <p:grpSpPr>
          <a:xfrm>
            <a:off x="5797440" y="3479760"/>
            <a:ext cx="93600" cy="88920"/>
            <a:chOff x="5797440" y="3479760"/>
            <a:chExt cx="93600" cy="88920"/>
          </a:xfrm>
        </p:grpSpPr>
        <p:sp>
          <p:nvSpPr>
            <p:cNvPr id="9152" name=""/>
            <p:cNvSpPr/>
            <p:nvPr/>
          </p:nvSpPr>
          <p:spPr>
            <a:xfrm rot="5400000">
              <a:off x="5837400" y="3515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3" name=""/>
            <p:cNvSpPr/>
            <p:nvPr/>
          </p:nvSpPr>
          <p:spPr>
            <a:xfrm rot="5400000">
              <a:off x="5762160" y="3514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4" name=""/>
            <p:cNvSpPr/>
            <p:nvPr/>
          </p:nvSpPr>
          <p:spPr>
            <a:xfrm rot="5400000">
              <a:off x="5821920" y="34992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5" name=""/>
            <p:cNvSpPr/>
            <p:nvPr/>
          </p:nvSpPr>
          <p:spPr>
            <a:xfrm rot="5400000">
              <a:off x="5821920" y="3454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6" name=""/>
          <p:cNvGrpSpPr/>
          <p:nvPr/>
        </p:nvGrpSpPr>
        <p:grpSpPr>
          <a:xfrm>
            <a:off x="5991120" y="3286080"/>
            <a:ext cx="152640" cy="74520"/>
            <a:chOff x="5991120" y="3286080"/>
            <a:chExt cx="152640" cy="74520"/>
          </a:xfrm>
        </p:grpSpPr>
        <p:sp>
          <p:nvSpPr>
            <p:cNvPr id="9157" name=""/>
            <p:cNvSpPr/>
            <p:nvPr/>
          </p:nvSpPr>
          <p:spPr>
            <a:xfrm rot="5400000">
              <a:off x="6091200" y="33080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8" name=""/>
            <p:cNvSpPr/>
            <p:nvPr/>
          </p:nvSpPr>
          <p:spPr>
            <a:xfrm rot="5400000">
              <a:off x="5969160" y="33080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 rot="5400000">
              <a:off x="6048720" y="326520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0" name=""/>
            <p:cNvSpPr/>
            <p:nvPr/>
          </p:nvSpPr>
          <p:spPr>
            <a:xfrm rot="5400000">
              <a:off x="6048720" y="322812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1" name=""/>
          <p:cNvGrpSpPr/>
          <p:nvPr/>
        </p:nvGrpSpPr>
        <p:grpSpPr>
          <a:xfrm>
            <a:off x="5579280" y="1892160"/>
            <a:ext cx="97200" cy="95400"/>
            <a:chOff x="5579280" y="1892160"/>
            <a:chExt cx="97200" cy="95400"/>
          </a:xfrm>
        </p:grpSpPr>
        <p:sp>
          <p:nvSpPr>
            <p:cNvPr id="9162" name=""/>
            <p:cNvSpPr/>
            <p:nvPr/>
          </p:nvSpPr>
          <p:spPr>
            <a:xfrm rot="5400000">
              <a:off x="5628600" y="1939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 rot="5400000">
              <a:off x="5531760" y="19396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 rot="5400000">
              <a:off x="5604120" y="1915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 rot="5400000">
              <a:off x="5604120" y="18676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6" name=""/>
          <p:cNvGrpSpPr/>
          <p:nvPr/>
        </p:nvGrpSpPr>
        <p:grpSpPr>
          <a:xfrm>
            <a:off x="5781600" y="2124000"/>
            <a:ext cx="88920" cy="93600"/>
            <a:chOff x="5781600" y="2124000"/>
            <a:chExt cx="88920" cy="93600"/>
          </a:xfrm>
        </p:grpSpPr>
        <p:sp>
          <p:nvSpPr>
            <p:cNvPr id="9167" name=""/>
            <p:cNvSpPr/>
            <p:nvPr/>
          </p:nvSpPr>
          <p:spPr>
            <a:xfrm>
              <a:off x="5781600" y="2124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5781600" y="2198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5825880" y="2124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5781600" y="2124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1" name=""/>
          <p:cNvGrpSpPr/>
          <p:nvPr/>
        </p:nvGrpSpPr>
        <p:grpSpPr>
          <a:xfrm>
            <a:off x="5815080" y="1862280"/>
            <a:ext cx="74520" cy="149400"/>
            <a:chOff x="5815080" y="1862280"/>
            <a:chExt cx="74520" cy="149400"/>
          </a:xfrm>
        </p:grpSpPr>
        <p:sp>
          <p:nvSpPr>
            <p:cNvPr id="9172" name=""/>
            <p:cNvSpPr/>
            <p:nvPr/>
          </p:nvSpPr>
          <p:spPr>
            <a:xfrm>
              <a:off x="5815080" y="18622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5815080" y="2011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5852160" y="18622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5815080" y="18622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6" name=""/>
          <p:cNvGrpSpPr/>
          <p:nvPr/>
        </p:nvGrpSpPr>
        <p:grpSpPr>
          <a:xfrm>
            <a:off x="5576760" y="2305080"/>
            <a:ext cx="74880" cy="152280"/>
            <a:chOff x="5576760" y="2305080"/>
            <a:chExt cx="74880" cy="152280"/>
          </a:xfrm>
        </p:grpSpPr>
        <p:sp>
          <p:nvSpPr>
            <p:cNvPr id="9177" name=""/>
            <p:cNvSpPr/>
            <p:nvPr/>
          </p:nvSpPr>
          <p:spPr>
            <a:xfrm>
              <a:off x="5576760" y="230508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5576760" y="242676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5614200" y="23050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5576760" y="23050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1" name=""/>
          <p:cNvGrpSpPr/>
          <p:nvPr/>
        </p:nvGrpSpPr>
        <p:grpSpPr>
          <a:xfrm>
            <a:off x="5529240" y="2118960"/>
            <a:ext cx="149760" cy="74520"/>
            <a:chOff x="5529240" y="2118960"/>
            <a:chExt cx="149760" cy="74520"/>
          </a:xfrm>
        </p:grpSpPr>
        <p:sp>
          <p:nvSpPr>
            <p:cNvPr id="9182" name=""/>
            <p:cNvSpPr/>
            <p:nvPr/>
          </p:nvSpPr>
          <p:spPr>
            <a:xfrm rot="16200000">
              <a:off x="5492160" y="215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3" name=""/>
            <p:cNvSpPr/>
            <p:nvPr/>
          </p:nvSpPr>
          <p:spPr>
            <a:xfrm rot="16200000">
              <a:off x="5641560" y="2156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4" name=""/>
            <p:cNvSpPr/>
            <p:nvPr/>
          </p:nvSpPr>
          <p:spPr>
            <a:xfrm rot="16200000">
              <a:off x="5585040" y="2062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5" name=""/>
            <p:cNvSpPr/>
            <p:nvPr/>
          </p:nvSpPr>
          <p:spPr>
            <a:xfrm rot="16200000">
              <a:off x="5585400" y="2100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6" name=""/>
          <p:cNvGrpSpPr/>
          <p:nvPr/>
        </p:nvGrpSpPr>
        <p:grpSpPr>
          <a:xfrm>
            <a:off x="5322240" y="2095560"/>
            <a:ext cx="97200" cy="95040"/>
            <a:chOff x="5322240" y="2095560"/>
            <a:chExt cx="97200" cy="95040"/>
          </a:xfrm>
        </p:grpSpPr>
        <p:sp>
          <p:nvSpPr>
            <p:cNvPr id="9187" name=""/>
            <p:cNvSpPr/>
            <p:nvPr/>
          </p:nvSpPr>
          <p:spPr>
            <a:xfrm rot="5400000">
              <a:off x="5371560" y="2142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8" name=""/>
            <p:cNvSpPr/>
            <p:nvPr/>
          </p:nvSpPr>
          <p:spPr>
            <a:xfrm rot="5400000">
              <a:off x="5274720" y="2142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 rot="5400000">
              <a:off x="5347440" y="2118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0" name=""/>
            <p:cNvSpPr/>
            <p:nvPr/>
          </p:nvSpPr>
          <p:spPr>
            <a:xfrm rot="5400000">
              <a:off x="5347080" y="2070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1" name=""/>
          <p:cNvGrpSpPr/>
          <p:nvPr/>
        </p:nvGrpSpPr>
        <p:grpSpPr>
          <a:xfrm>
            <a:off x="6273720" y="1926720"/>
            <a:ext cx="93600" cy="88920"/>
            <a:chOff x="6273720" y="1926720"/>
            <a:chExt cx="93600" cy="88920"/>
          </a:xfrm>
        </p:grpSpPr>
        <p:sp>
          <p:nvSpPr>
            <p:cNvPr id="9192" name=""/>
            <p:cNvSpPr/>
            <p:nvPr/>
          </p:nvSpPr>
          <p:spPr>
            <a:xfrm rot="16200000">
              <a:off x="6238440" y="1962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3" name=""/>
            <p:cNvSpPr/>
            <p:nvPr/>
          </p:nvSpPr>
          <p:spPr>
            <a:xfrm rot="16200000">
              <a:off x="6313320" y="1961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4" name=""/>
            <p:cNvSpPr/>
            <p:nvPr/>
          </p:nvSpPr>
          <p:spPr>
            <a:xfrm rot="16200000">
              <a:off x="6298200" y="1902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5" name=""/>
            <p:cNvSpPr/>
            <p:nvPr/>
          </p:nvSpPr>
          <p:spPr>
            <a:xfrm rot="16200000">
              <a:off x="6298200" y="1946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6" name=""/>
          <p:cNvGrpSpPr/>
          <p:nvPr/>
        </p:nvGrpSpPr>
        <p:grpSpPr>
          <a:xfrm>
            <a:off x="6943680" y="1695600"/>
            <a:ext cx="88920" cy="93600"/>
            <a:chOff x="6943680" y="1695600"/>
            <a:chExt cx="88920" cy="93600"/>
          </a:xfrm>
        </p:grpSpPr>
        <p:sp>
          <p:nvSpPr>
            <p:cNvPr id="9197" name=""/>
            <p:cNvSpPr/>
            <p:nvPr/>
          </p:nvSpPr>
          <p:spPr>
            <a:xfrm>
              <a:off x="6943680" y="1695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6943680" y="1770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6987960" y="1695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6943680" y="1695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1" name=""/>
          <p:cNvGrpSpPr/>
          <p:nvPr/>
        </p:nvGrpSpPr>
        <p:grpSpPr>
          <a:xfrm>
            <a:off x="6676920" y="1704600"/>
            <a:ext cx="149760" cy="74520"/>
            <a:chOff x="6676920" y="1704600"/>
            <a:chExt cx="149760" cy="74520"/>
          </a:xfrm>
        </p:grpSpPr>
        <p:sp>
          <p:nvSpPr>
            <p:cNvPr id="9202" name=""/>
            <p:cNvSpPr/>
            <p:nvPr/>
          </p:nvSpPr>
          <p:spPr>
            <a:xfrm rot="16200000">
              <a:off x="6639840" y="17416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3" name=""/>
            <p:cNvSpPr/>
            <p:nvPr/>
          </p:nvSpPr>
          <p:spPr>
            <a:xfrm rot="16200000">
              <a:off x="6789240" y="17416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4" name=""/>
            <p:cNvSpPr/>
            <p:nvPr/>
          </p:nvSpPr>
          <p:spPr>
            <a:xfrm rot="16200000">
              <a:off x="6732720" y="164844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5" name=""/>
            <p:cNvSpPr/>
            <p:nvPr/>
          </p:nvSpPr>
          <p:spPr>
            <a:xfrm rot="16200000">
              <a:off x="6733080" y="168588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6" name=""/>
          <p:cNvGrpSpPr/>
          <p:nvPr/>
        </p:nvGrpSpPr>
        <p:grpSpPr>
          <a:xfrm>
            <a:off x="6914880" y="3276720"/>
            <a:ext cx="152280" cy="74520"/>
            <a:chOff x="6914880" y="3276720"/>
            <a:chExt cx="152280" cy="74520"/>
          </a:xfrm>
        </p:grpSpPr>
        <p:sp>
          <p:nvSpPr>
            <p:cNvPr id="9207" name=""/>
            <p:cNvSpPr/>
            <p:nvPr/>
          </p:nvSpPr>
          <p:spPr>
            <a:xfrm rot="5400000">
              <a:off x="7014600" y="329868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8" name=""/>
            <p:cNvSpPr/>
            <p:nvPr/>
          </p:nvSpPr>
          <p:spPr>
            <a:xfrm rot="5400000">
              <a:off x="6892920" y="329868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9" name=""/>
            <p:cNvSpPr/>
            <p:nvPr/>
          </p:nvSpPr>
          <p:spPr>
            <a:xfrm rot="5400000">
              <a:off x="6972480" y="3256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0" name=""/>
            <p:cNvSpPr/>
            <p:nvPr/>
          </p:nvSpPr>
          <p:spPr>
            <a:xfrm rot="5400000">
              <a:off x="6972480" y="32191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1" name=""/>
          <p:cNvGrpSpPr/>
          <p:nvPr/>
        </p:nvGrpSpPr>
        <p:grpSpPr>
          <a:xfrm>
            <a:off x="6219720" y="3438360"/>
            <a:ext cx="88920" cy="93960"/>
            <a:chOff x="6219720" y="3438360"/>
            <a:chExt cx="88920" cy="93960"/>
          </a:xfrm>
        </p:grpSpPr>
        <p:sp>
          <p:nvSpPr>
            <p:cNvPr id="9212" name=""/>
            <p:cNvSpPr/>
            <p:nvPr/>
          </p:nvSpPr>
          <p:spPr>
            <a:xfrm>
              <a:off x="6219720" y="3438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6219720" y="3513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6264000" y="3438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6219720" y="3438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6" name=""/>
          <p:cNvSpPr/>
          <p:nvPr/>
        </p:nvSpPr>
        <p:spPr>
          <a:xfrm>
            <a:off x="4905360" y="2352600"/>
            <a:ext cx="2009880" cy="1381320"/>
          </a:xfrm>
          <a:custGeom>
            <a:avLst/>
            <a:gdLst/>
            <a:ahLst/>
            <a:rect l="l" t="t" r="r" b="b"/>
            <a:pathLst>
              <a:path w="1266" h="870">
                <a:moveTo>
                  <a:pt x="1266" y="870"/>
                </a:moveTo>
                <a:cubicBezTo>
                  <a:pt x="1188" y="812"/>
                  <a:pt x="914" y="636"/>
                  <a:pt x="792" y="522"/>
                </a:cubicBezTo>
                <a:cubicBezTo>
                  <a:pt x="670" y="408"/>
                  <a:pt x="666" y="273"/>
                  <a:pt x="534" y="186"/>
                </a:cubicBezTo>
                <a:cubicBezTo>
                  <a:pt x="402" y="99"/>
                  <a:pt x="111" y="39"/>
                  <a:pt x="0" y="0"/>
                </a:cubicBezTo>
              </a:path>
            </a:pathLst>
          </a:custGeom>
          <a:noFill/>
          <a:ln cap="rnd" w="12600">
            <a:solidFill>
              <a:srgbClr val="33333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7" name=""/>
          <p:cNvGrpSpPr/>
          <p:nvPr/>
        </p:nvGrpSpPr>
        <p:grpSpPr>
          <a:xfrm>
            <a:off x="6216480" y="2555640"/>
            <a:ext cx="93960" cy="88920"/>
            <a:chOff x="6216480" y="2555640"/>
            <a:chExt cx="93960" cy="88920"/>
          </a:xfrm>
        </p:grpSpPr>
        <p:sp>
          <p:nvSpPr>
            <p:cNvPr id="9218" name=""/>
            <p:cNvSpPr/>
            <p:nvPr/>
          </p:nvSpPr>
          <p:spPr>
            <a:xfrm rot="16200000">
              <a:off x="6181200" y="2590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 rot="16200000">
              <a:off x="6256440" y="2590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0" name=""/>
            <p:cNvSpPr/>
            <p:nvPr/>
          </p:nvSpPr>
          <p:spPr>
            <a:xfrm rot="16200000">
              <a:off x="6241320" y="25311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1" name=""/>
            <p:cNvSpPr/>
            <p:nvPr/>
          </p:nvSpPr>
          <p:spPr>
            <a:xfrm rot="16200000">
              <a:off x="6241320" y="25754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2" name=""/>
          <p:cNvGrpSpPr/>
          <p:nvPr/>
        </p:nvGrpSpPr>
        <p:grpSpPr>
          <a:xfrm>
            <a:off x="6710400" y="2585880"/>
            <a:ext cx="88920" cy="93960"/>
            <a:chOff x="6710400" y="2585880"/>
            <a:chExt cx="88920" cy="93960"/>
          </a:xfrm>
        </p:grpSpPr>
        <p:sp>
          <p:nvSpPr>
            <p:cNvPr id="9223" name=""/>
            <p:cNvSpPr/>
            <p:nvPr/>
          </p:nvSpPr>
          <p:spPr>
            <a:xfrm>
              <a:off x="6710400" y="2585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6710400" y="2661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6754680" y="2585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6710400" y="25858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27" name=""/>
          <p:cNvGrpSpPr/>
          <p:nvPr/>
        </p:nvGrpSpPr>
        <p:grpSpPr>
          <a:xfrm>
            <a:off x="3943440" y="961200"/>
            <a:ext cx="95040" cy="97200"/>
            <a:chOff x="3943440" y="961200"/>
            <a:chExt cx="95040" cy="97200"/>
          </a:xfrm>
        </p:grpSpPr>
        <p:sp>
          <p:nvSpPr>
            <p:cNvPr id="9228" name=""/>
            <p:cNvSpPr/>
            <p:nvPr/>
          </p:nvSpPr>
          <p:spPr>
            <a:xfrm rot="10800000">
              <a:off x="3943440" y="1058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9" name=""/>
            <p:cNvSpPr/>
            <p:nvPr/>
          </p:nvSpPr>
          <p:spPr>
            <a:xfrm rot="10800000">
              <a:off x="3943440" y="9612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0" name=""/>
            <p:cNvSpPr/>
            <p:nvPr/>
          </p:nvSpPr>
          <p:spPr>
            <a:xfrm rot="10800000">
              <a:off x="3943800" y="9615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1" name=""/>
            <p:cNvSpPr/>
            <p:nvPr/>
          </p:nvSpPr>
          <p:spPr>
            <a:xfrm rot="10800000">
              <a:off x="3990960" y="96156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2" name=""/>
          <p:cNvGrpSpPr/>
          <p:nvPr/>
        </p:nvGrpSpPr>
        <p:grpSpPr>
          <a:xfrm>
            <a:off x="3952800" y="762120"/>
            <a:ext cx="95400" cy="97200"/>
            <a:chOff x="3952800" y="762120"/>
            <a:chExt cx="95400" cy="97200"/>
          </a:xfrm>
        </p:grpSpPr>
        <p:sp>
          <p:nvSpPr>
            <p:cNvPr id="9233" name=""/>
            <p:cNvSpPr/>
            <p:nvPr/>
          </p:nvSpPr>
          <p:spPr>
            <a:xfrm>
              <a:off x="3952800" y="762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3952800" y="858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000680" y="7621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3952800" y="7621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7" name=""/>
          <p:cNvGrpSpPr/>
          <p:nvPr/>
        </p:nvGrpSpPr>
        <p:grpSpPr>
          <a:xfrm>
            <a:off x="4178160" y="955440"/>
            <a:ext cx="93960" cy="88920"/>
            <a:chOff x="4178160" y="955440"/>
            <a:chExt cx="93960" cy="88920"/>
          </a:xfrm>
        </p:grpSpPr>
        <p:sp>
          <p:nvSpPr>
            <p:cNvPr id="9238" name=""/>
            <p:cNvSpPr/>
            <p:nvPr/>
          </p:nvSpPr>
          <p:spPr>
            <a:xfrm rot="16200000">
              <a:off x="4142880" y="990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9" name=""/>
            <p:cNvSpPr/>
            <p:nvPr/>
          </p:nvSpPr>
          <p:spPr>
            <a:xfrm rot="16200000">
              <a:off x="4218120" y="990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0" name=""/>
            <p:cNvSpPr/>
            <p:nvPr/>
          </p:nvSpPr>
          <p:spPr>
            <a:xfrm rot="16200000">
              <a:off x="4203000" y="930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1" name=""/>
            <p:cNvSpPr/>
            <p:nvPr/>
          </p:nvSpPr>
          <p:spPr>
            <a:xfrm rot="16200000">
              <a:off x="4203000" y="975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2" name=""/>
          <p:cNvGrpSpPr/>
          <p:nvPr/>
        </p:nvGrpSpPr>
        <p:grpSpPr>
          <a:xfrm>
            <a:off x="4383000" y="1398240"/>
            <a:ext cx="174600" cy="176040"/>
            <a:chOff x="4383000" y="1398240"/>
            <a:chExt cx="174600" cy="176040"/>
          </a:xfrm>
        </p:grpSpPr>
        <p:sp>
          <p:nvSpPr>
            <p:cNvPr id="9243" name=""/>
            <p:cNvSpPr/>
            <p:nvPr/>
          </p:nvSpPr>
          <p:spPr>
            <a:xfrm rot="16200000">
              <a:off x="4345200" y="1511640"/>
              <a:ext cx="10044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4" name=""/>
            <p:cNvSpPr/>
            <p:nvPr/>
          </p:nvSpPr>
          <p:spPr>
            <a:xfrm rot="16200000">
              <a:off x="4420080" y="1436400"/>
              <a:ext cx="5004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5" name=""/>
            <p:cNvSpPr/>
            <p:nvPr/>
          </p:nvSpPr>
          <p:spPr>
            <a:xfrm rot="16200000">
              <a:off x="4444920" y="146160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6" name=""/>
            <p:cNvSpPr/>
            <p:nvPr/>
          </p:nvSpPr>
          <p:spPr>
            <a:xfrm rot="16200000">
              <a:off x="4494960" y="136080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7" name=""/>
            <p:cNvSpPr/>
            <p:nvPr/>
          </p:nvSpPr>
          <p:spPr>
            <a:xfrm rot="16200000">
              <a:off x="4419360" y="1436040"/>
              <a:ext cx="12564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8" name=""/>
            <p:cNvSpPr/>
            <p:nvPr/>
          </p:nvSpPr>
          <p:spPr>
            <a:xfrm rot="16200000">
              <a:off x="4444560" y="1461240"/>
              <a:ext cx="17604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9" name=""/>
          <p:cNvGrpSpPr/>
          <p:nvPr/>
        </p:nvGrpSpPr>
        <p:grpSpPr>
          <a:xfrm>
            <a:off x="4381560" y="1171440"/>
            <a:ext cx="152280" cy="152640"/>
            <a:chOff x="4381560" y="1171440"/>
            <a:chExt cx="152280" cy="152640"/>
          </a:xfrm>
        </p:grpSpPr>
        <p:sp>
          <p:nvSpPr>
            <p:cNvPr id="9250" name=""/>
            <p:cNvSpPr/>
            <p:nvPr/>
          </p:nvSpPr>
          <p:spPr>
            <a:xfrm rot="16200000">
              <a:off x="4320360" y="123264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1" name=""/>
            <p:cNvSpPr/>
            <p:nvPr/>
          </p:nvSpPr>
          <p:spPr>
            <a:xfrm rot="16200000">
              <a:off x="4442040" y="123228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 rot="16200000">
              <a:off x="4419360" y="113328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 rot="16200000">
              <a:off x="4419360" y="1209600"/>
              <a:ext cx="7632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4" name=""/>
          <p:cNvGrpSpPr/>
          <p:nvPr/>
        </p:nvGrpSpPr>
        <p:grpSpPr>
          <a:xfrm>
            <a:off x="2114280" y="2543040"/>
            <a:ext cx="152280" cy="152640"/>
            <a:chOff x="2114280" y="2543040"/>
            <a:chExt cx="152280" cy="152640"/>
          </a:xfrm>
        </p:grpSpPr>
        <p:sp>
          <p:nvSpPr>
            <p:cNvPr id="9255" name=""/>
            <p:cNvSpPr/>
            <p:nvPr/>
          </p:nvSpPr>
          <p:spPr>
            <a:xfrm rot="10800000">
              <a:off x="2114280" y="26654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6" name=""/>
            <p:cNvSpPr/>
            <p:nvPr/>
          </p:nvSpPr>
          <p:spPr>
            <a:xfrm rot="10800000">
              <a:off x="2114280" y="25430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7" name=""/>
            <p:cNvSpPr/>
            <p:nvPr/>
          </p:nvSpPr>
          <p:spPr>
            <a:xfrm rot="10800000">
              <a:off x="2114640" y="254304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 rot="10800000">
              <a:off x="2190600" y="254304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9" name=""/>
          <p:cNvGrpSpPr/>
          <p:nvPr/>
        </p:nvGrpSpPr>
        <p:grpSpPr>
          <a:xfrm>
            <a:off x="4229280" y="3495600"/>
            <a:ext cx="95040" cy="97200"/>
            <a:chOff x="4229280" y="3495600"/>
            <a:chExt cx="95040" cy="97200"/>
          </a:xfrm>
        </p:grpSpPr>
        <p:sp>
          <p:nvSpPr>
            <p:cNvPr id="9260" name=""/>
            <p:cNvSpPr/>
            <p:nvPr/>
          </p:nvSpPr>
          <p:spPr>
            <a:xfrm>
              <a:off x="4229280" y="3495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229280" y="35924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276800" y="34956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229280" y="34956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4" name=""/>
          <p:cNvGrpSpPr/>
          <p:nvPr/>
        </p:nvGrpSpPr>
        <p:grpSpPr>
          <a:xfrm>
            <a:off x="4686480" y="3703680"/>
            <a:ext cx="95040" cy="97200"/>
            <a:chOff x="4686480" y="3703680"/>
            <a:chExt cx="95040" cy="97200"/>
          </a:xfrm>
        </p:grpSpPr>
        <p:sp>
          <p:nvSpPr>
            <p:cNvPr id="9265" name=""/>
            <p:cNvSpPr/>
            <p:nvPr/>
          </p:nvSpPr>
          <p:spPr>
            <a:xfrm>
              <a:off x="4686480" y="3703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4686480" y="38005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734000" y="370368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686480" y="37036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9" name=""/>
          <p:cNvGrpSpPr/>
          <p:nvPr/>
        </p:nvGrpSpPr>
        <p:grpSpPr>
          <a:xfrm>
            <a:off x="4457880" y="3495600"/>
            <a:ext cx="88560" cy="93600"/>
            <a:chOff x="4457880" y="3495600"/>
            <a:chExt cx="88560" cy="93600"/>
          </a:xfrm>
        </p:grpSpPr>
        <p:sp>
          <p:nvSpPr>
            <p:cNvPr id="9270" name=""/>
            <p:cNvSpPr/>
            <p:nvPr/>
          </p:nvSpPr>
          <p:spPr>
            <a:xfrm>
              <a:off x="4457880" y="349560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457880" y="357048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502160" y="3495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457880" y="3495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4" name=""/>
          <p:cNvGrpSpPr/>
          <p:nvPr/>
        </p:nvGrpSpPr>
        <p:grpSpPr>
          <a:xfrm>
            <a:off x="4457880" y="3723840"/>
            <a:ext cx="149400" cy="74520"/>
            <a:chOff x="4457880" y="3723840"/>
            <a:chExt cx="149400" cy="74520"/>
          </a:xfrm>
        </p:grpSpPr>
        <p:sp>
          <p:nvSpPr>
            <p:cNvPr id="9275" name=""/>
            <p:cNvSpPr/>
            <p:nvPr/>
          </p:nvSpPr>
          <p:spPr>
            <a:xfrm rot="16200000">
              <a:off x="4420800" y="3760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 rot="16200000">
              <a:off x="4569840" y="37609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 rot="16200000">
              <a:off x="4513680" y="36680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8" name=""/>
            <p:cNvSpPr/>
            <p:nvPr/>
          </p:nvSpPr>
          <p:spPr>
            <a:xfrm rot="16200000">
              <a:off x="4513680" y="37051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9" name=""/>
          <p:cNvGrpSpPr/>
          <p:nvPr/>
        </p:nvGrpSpPr>
        <p:grpSpPr>
          <a:xfrm>
            <a:off x="4647960" y="3457440"/>
            <a:ext cx="74520" cy="152640"/>
            <a:chOff x="4647960" y="3457440"/>
            <a:chExt cx="74520" cy="152640"/>
          </a:xfrm>
        </p:grpSpPr>
        <p:sp>
          <p:nvSpPr>
            <p:cNvPr id="9280" name=""/>
            <p:cNvSpPr/>
            <p:nvPr/>
          </p:nvSpPr>
          <p:spPr>
            <a:xfrm rot="10800000">
              <a:off x="4647960" y="357984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 rot="10800000">
              <a:off x="4647960" y="34574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2" name=""/>
            <p:cNvSpPr/>
            <p:nvPr/>
          </p:nvSpPr>
          <p:spPr>
            <a:xfrm rot="10800000">
              <a:off x="4648320" y="34574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3" name=""/>
            <p:cNvSpPr/>
            <p:nvPr/>
          </p:nvSpPr>
          <p:spPr>
            <a:xfrm rot="10800000">
              <a:off x="4685400" y="3457440"/>
              <a:ext cx="3708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4" name=""/>
          <p:cNvGrpSpPr/>
          <p:nvPr/>
        </p:nvGrpSpPr>
        <p:grpSpPr>
          <a:xfrm>
            <a:off x="4404960" y="2109240"/>
            <a:ext cx="95400" cy="97200"/>
            <a:chOff x="4404960" y="2109240"/>
            <a:chExt cx="95400" cy="97200"/>
          </a:xfrm>
        </p:grpSpPr>
        <p:sp>
          <p:nvSpPr>
            <p:cNvPr id="9285" name=""/>
            <p:cNvSpPr/>
            <p:nvPr/>
          </p:nvSpPr>
          <p:spPr>
            <a:xfrm rot="10800000">
              <a:off x="4404960" y="2206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6" name=""/>
            <p:cNvSpPr/>
            <p:nvPr/>
          </p:nvSpPr>
          <p:spPr>
            <a:xfrm rot="10800000">
              <a:off x="4404960" y="2109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7" name=""/>
            <p:cNvSpPr/>
            <p:nvPr/>
          </p:nvSpPr>
          <p:spPr>
            <a:xfrm rot="10800000">
              <a:off x="4404960" y="2109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8" name=""/>
            <p:cNvSpPr/>
            <p:nvPr/>
          </p:nvSpPr>
          <p:spPr>
            <a:xfrm rot="10800000">
              <a:off x="4452480" y="2109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9" name=""/>
          <p:cNvGrpSpPr/>
          <p:nvPr/>
        </p:nvGrpSpPr>
        <p:grpSpPr>
          <a:xfrm>
            <a:off x="4582800" y="3894120"/>
            <a:ext cx="174600" cy="176400"/>
            <a:chOff x="4582800" y="3894120"/>
            <a:chExt cx="174600" cy="176400"/>
          </a:xfrm>
        </p:grpSpPr>
        <p:sp>
          <p:nvSpPr>
            <p:cNvPr id="9290" name=""/>
            <p:cNvSpPr/>
            <p:nvPr/>
          </p:nvSpPr>
          <p:spPr>
            <a:xfrm rot="5400000">
              <a:off x="4694400" y="3931920"/>
              <a:ext cx="100800" cy="248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1" name=""/>
            <p:cNvSpPr/>
            <p:nvPr/>
          </p:nvSpPr>
          <p:spPr>
            <a:xfrm rot="5400000">
              <a:off x="4669920" y="3907440"/>
              <a:ext cx="50400" cy="12456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 rot="5400000">
              <a:off x="4644720" y="3831840"/>
              <a:ext cx="50400" cy="17460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 rot="5400000">
              <a:off x="4620240" y="4007880"/>
              <a:ext cx="25200" cy="10008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 rot="5400000">
              <a:off x="4595040" y="3982680"/>
              <a:ext cx="126000" cy="4968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 rot="5400000">
              <a:off x="4519440" y="3957120"/>
              <a:ext cx="176400" cy="5004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6" name=""/>
          <p:cNvGrpSpPr/>
          <p:nvPr/>
        </p:nvGrpSpPr>
        <p:grpSpPr>
          <a:xfrm>
            <a:off x="4162320" y="3686040"/>
            <a:ext cx="152640" cy="152640"/>
            <a:chOff x="4162320" y="3686040"/>
            <a:chExt cx="152640" cy="152640"/>
          </a:xfrm>
        </p:grpSpPr>
        <p:sp>
          <p:nvSpPr>
            <p:cNvPr id="9297" name=""/>
            <p:cNvSpPr/>
            <p:nvPr/>
          </p:nvSpPr>
          <p:spPr>
            <a:xfrm rot="16200000">
              <a:off x="4101120" y="374724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8" name=""/>
            <p:cNvSpPr/>
            <p:nvPr/>
          </p:nvSpPr>
          <p:spPr>
            <a:xfrm rot="16200000">
              <a:off x="4223160" y="374688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9" name=""/>
            <p:cNvSpPr/>
            <p:nvPr/>
          </p:nvSpPr>
          <p:spPr>
            <a:xfrm rot="16200000">
              <a:off x="4200480" y="364788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0" name=""/>
            <p:cNvSpPr/>
            <p:nvPr/>
          </p:nvSpPr>
          <p:spPr>
            <a:xfrm rot="16200000">
              <a:off x="4200480" y="372420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1" name=""/>
          <p:cNvGrpSpPr/>
          <p:nvPr/>
        </p:nvGrpSpPr>
        <p:grpSpPr>
          <a:xfrm>
            <a:off x="4600440" y="2085840"/>
            <a:ext cx="152640" cy="152640"/>
            <a:chOff x="4600440" y="2085840"/>
            <a:chExt cx="152640" cy="152640"/>
          </a:xfrm>
        </p:grpSpPr>
        <p:sp>
          <p:nvSpPr>
            <p:cNvPr id="9302" name=""/>
            <p:cNvSpPr/>
            <p:nvPr/>
          </p:nvSpPr>
          <p:spPr>
            <a:xfrm rot="10800000">
              <a:off x="4600440" y="220824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 rot="10800000">
              <a:off x="4600440" y="208584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 rot="10800000">
              <a:off x="4600440" y="208584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5" name=""/>
            <p:cNvSpPr/>
            <p:nvPr/>
          </p:nvSpPr>
          <p:spPr>
            <a:xfrm rot="10800000">
              <a:off x="4676760" y="208584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6" name=""/>
          <p:cNvGrpSpPr/>
          <p:nvPr/>
        </p:nvGrpSpPr>
        <p:grpSpPr>
          <a:xfrm>
            <a:off x="4410000" y="4414680"/>
            <a:ext cx="88920" cy="93960"/>
            <a:chOff x="4410000" y="4414680"/>
            <a:chExt cx="88920" cy="93960"/>
          </a:xfrm>
        </p:grpSpPr>
        <p:sp>
          <p:nvSpPr>
            <p:cNvPr id="9307" name=""/>
            <p:cNvSpPr/>
            <p:nvPr/>
          </p:nvSpPr>
          <p:spPr>
            <a:xfrm>
              <a:off x="4410000" y="4414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4410000" y="4489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4454280" y="4414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4410000" y="4414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1" name=""/>
          <p:cNvGrpSpPr/>
          <p:nvPr/>
        </p:nvGrpSpPr>
        <p:grpSpPr>
          <a:xfrm>
            <a:off x="4448160" y="4167360"/>
            <a:ext cx="88920" cy="93600"/>
            <a:chOff x="4448160" y="4167360"/>
            <a:chExt cx="88920" cy="93600"/>
          </a:xfrm>
        </p:grpSpPr>
        <p:sp>
          <p:nvSpPr>
            <p:cNvPr id="9312" name=""/>
            <p:cNvSpPr/>
            <p:nvPr/>
          </p:nvSpPr>
          <p:spPr>
            <a:xfrm>
              <a:off x="4448160" y="4167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4448160" y="4242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492440" y="416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4448160" y="4167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6" name=""/>
          <p:cNvGrpSpPr/>
          <p:nvPr/>
        </p:nvGrpSpPr>
        <p:grpSpPr>
          <a:xfrm>
            <a:off x="2598840" y="5076360"/>
            <a:ext cx="97200" cy="95400"/>
            <a:chOff x="2598840" y="5076360"/>
            <a:chExt cx="97200" cy="95400"/>
          </a:xfrm>
        </p:grpSpPr>
        <p:sp>
          <p:nvSpPr>
            <p:cNvPr id="9317" name=""/>
            <p:cNvSpPr/>
            <p:nvPr/>
          </p:nvSpPr>
          <p:spPr>
            <a:xfrm rot="16200000">
              <a:off x="2551320" y="5123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8" name=""/>
            <p:cNvSpPr/>
            <p:nvPr/>
          </p:nvSpPr>
          <p:spPr>
            <a:xfrm rot="16200000">
              <a:off x="2648160" y="5123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 rot="16200000">
              <a:off x="2623320" y="50515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 rot="16200000">
              <a:off x="2623320" y="50994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1" name=""/>
          <p:cNvGrpSpPr/>
          <p:nvPr/>
        </p:nvGrpSpPr>
        <p:grpSpPr>
          <a:xfrm>
            <a:off x="2577600" y="4879800"/>
            <a:ext cx="93960" cy="88920"/>
            <a:chOff x="2577600" y="4879800"/>
            <a:chExt cx="93960" cy="88920"/>
          </a:xfrm>
        </p:grpSpPr>
        <p:sp>
          <p:nvSpPr>
            <p:cNvPr id="9322" name=""/>
            <p:cNvSpPr/>
            <p:nvPr/>
          </p:nvSpPr>
          <p:spPr>
            <a:xfrm rot="5400000">
              <a:off x="2617560" y="4914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3" name=""/>
            <p:cNvSpPr/>
            <p:nvPr/>
          </p:nvSpPr>
          <p:spPr>
            <a:xfrm rot="5400000">
              <a:off x="2542320" y="4914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4" name=""/>
            <p:cNvSpPr/>
            <p:nvPr/>
          </p:nvSpPr>
          <p:spPr>
            <a:xfrm rot="5400000">
              <a:off x="2602440" y="48992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5" name=""/>
            <p:cNvSpPr/>
            <p:nvPr/>
          </p:nvSpPr>
          <p:spPr>
            <a:xfrm rot="5400000">
              <a:off x="2602440" y="4854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6" name=""/>
          <p:cNvGrpSpPr/>
          <p:nvPr/>
        </p:nvGrpSpPr>
        <p:grpSpPr>
          <a:xfrm>
            <a:off x="2773080" y="5049720"/>
            <a:ext cx="149400" cy="74880"/>
            <a:chOff x="2773080" y="5049720"/>
            <a:chExt cx="149400" cy="74880"/>
          </a:xfrm>
        </p:grpSpPr>
        <p:sp>
          <p:nvSpPr>
            <p:cNvPr id="9327" name=""/>
            <p:cNvSpPr/>
            <p:nvPr/>
          </p:nvSpPr>
          <p:spPr>
            <a:xfrm rot="5400000">
              <a:off x="2884680" y="50868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8" name=""/>
            <p:cNvSpPr/>
            <p:nvPr/>
          </p:nvSpPr>
          <p:spPr>
            <a:xfrm rot="5400000">
              <a:off x="2735640" y="508680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9" name=""/>
            <p:cNvSpPr/>
            <p:nvPr/>
          </p:nvSpPr>
          <p:spPr>
            <a:xfrm rot="5400000">
              <a:off x="2829240" y="503100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0" name=""/>
            <p:cNvSpPr/>
            <p:nvPr/>
          </p:nvSpPr>
          <p:spPr>
            <a:xfrm rot="5400000">
              <a:off x="2829240" y="499356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1" name=""/>
          <p:cNvGrpSpPr/>
          <p:nvPr/>
        </p:nvGrpSpPr>
        <p:grpSpPr>
          <a:xfrm>
            <a:off x="2820960" y="4840200"/>
            <a:ext cx="74520" cy="149760"/>
            <a:chOff x="2820960" y="4840200"/>
            <a:chExt cx="74520" cy="149760"/>
          </a:xfrm>
        </p:grpSpPr>
        <p:sp>
          <p:nvSpPr>
            <p:cNvPr id="9332" name=""/>
            <p:cNvSpPr/>
            <p:nvPr/>
          </p:nvSpPr>
          <p:spPr>
            <a:xfrm>
              <a:off x="2820960" y="4840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2820960" y="49896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2858040" y="48402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2820960" y="484020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6" name=""/>
          <p:cNvGrpSpPr/>
          <p:nvPr/>
        </p:nvGrpSpPr>
        <p:grpSpPr>
          <a:xfrm>
            <a:off x="2316240" y="5267160"/>
            <a:ext cx="152280" cy="150840"/>
            <a:chOff x="2316240" y="5267160"/>
            <a:chExt cx="152280" cy="150840"/>
          </a:xfrm>
        </p:grpSpPr>
        <p:sp>
          <p:nvSpPr>
            <p:cNvPr id="9337" name=""/>
            <p:cNvSpPr/>
            <p:nvPr/>
          </p:nvSpPr>
          <p:spPr>
            <a:xfrm>
              <a:off x="2316240" y="5267160"/>
              <a:ext cx="87120" cy="21240"/>
            </a:xfrm>
            <a:custGeom>
              <a:avLst/>
              <a:gdLst/>
              <a:ahLst/>
              <a:rect l="l" t="t" r="r" b="b"/>
              <a:pathLst>
                <a:path w="1200" h="300">
                  <a:moveTo>
                    <a:pt x="1200" y="0"/>
                  </a:moveTo>
                  <a:lnTo>
                    <a:pt x="0" y="0"/>
                  </a:lnTo>
                  <a:lnTo>
                    <a:pt x="600" y="300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2359800" y="5267160"/>
              <a:ext cx="43560" cy="107640"/>
            </a:xfrm>
            <a:custGeom>
              <a:avLst/>
              <a:gdLst/>
              <a:ahLst/>
              <a:rect l="l" t="t" r="r" b="b"/>
              <a:pathLst>
                <a:path w="600" h="1500">
                  <a:moveTo>
                    <a:pt x="600" y="0"/>
                  </a:moveTo>
                  <a:lnTo>
                    <a:pt x="0" y="300"/>
                  </a:lnTo>
                  <a:lnTo>
                    <a:pt x="0" y="1500"/>
                  </a:lnTo>
                  <a:lnTo>
                    <a:pt x="600" y="90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2316240" y="5267160"/>
              <a:ext cx="43560" cy="150840"/>
            </a:xfrm>
            <a:custGeom>
              <a:avLst/>
              <a:gdLst/>
              <a:ahLst/>
              <a:rect l="l" t="t" r="r" b="b"/>
              <a:pathLst>
                <a:path w="600" h="2106">
                  <a:moveTo>
                    <a:pt x="0" y="0"/>
                  </a:moveTo>
                  <a:lnTo>
                    <a:pt x="600" y="300"/>
                  </a:lnTo>
                  <a:lnTo>
                    <a:pt x="600" y="1500"/>
                  </a:lnTo>
                  <a:lnTo>
                    <a:pt x="0" y="2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2446920" y="5331600"/>
              <a:ext cx="21600" cy="86400"/>
            </a:xfrm>
            <a:custGeom>
              <a:avLst/>
              <a:gdLst/>
              <a:ahLst/>
              <a:rect l="l" t="t" r="r" b="b"/>
              <a:pathLst>
                <a:path w="300" h="1206">
                  <a:moveTo>
                    <a:pt x="300" y="0"/>
                  </a:moveTo>
                  <a:lnTo>
                    <a:pt x="300" y="1206"/>
                  </a:lnTo>
                  <a:lnTo>
                    <a:pt x="0" y="60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2359800" y="5331600"/>
              <a:ext cx="108720" cy="42840"/>
            </a:xfrm>
            <a:custGeom>
              <a:avLst/>
              <a:gdLst/>
              <a:ahLst/>
              <a:rect l="l" t="t" r="r" b="b"/>
              <a:pathLst>
                <a:path w="1500" h="600">
                  <a:moveTo>
                    <a:pt x="600" y="0"/>
                  </a:moveTo>
                  <a:lnTo>
                    <a:pt x="0" y="600"/>
                  </a:lnTo>
                  <a:lnTo>
                    <a:pt x="1200" y="600"/>
                  </a:lnTo>
                  <a:lnTo>
                    <a:pt x="1500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2316240" y="5374800"/>
              <a:ext cx="152280" cy="43200"/>
            </a:xfrm>
            <a:custGeom>
              <a:avLst/>
              <a:gdLst/>
              <a:ahLst/>
              <a:rect l="l" t="t" r="r" b="b"/>
              <a:pathLst>
                <a:path w="2100" h="606">
                  <a:moveTo>
                    <a:pt x="0" y="606"/>
                  </a:moveTo>
                  <a:lnTo>
                    <a:pt x="600" y="0"/>
                  </a:lnTo>
                  <a:lnTo>
                    <a:pt x="1800" y="0"/>
                  </a:lnTo>
                  <a:lnTo>
                    <a:pt x="2100" y="606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3" name=""/>
          <p:cNvGrpSpPr/>
          <p:nvPr/>
        </p:nvGrpSpPr>
        <p:grpSpPr>
          <a:xfrm>
            <a:off x="2133720" y="5095440"/>
            <a:ext cx="97200" cy="95400"/>
            <a:chOff x="2133720" y="5095440"/>
            <a:chExt cx="97200" cy="95400"/>
          </a:xfrm>
        </p:grpSpPr>
        <p:sp>
          <p:nvSpPr>
            <p:cNvPr id="9344" name=""/>
            <p:cNvSpPr/>
            <p:nvPr/>
          </p:nvSpPr>
          <p:spPr>
            <a:xfrm rot="16200000">
              <a:off x="2086200" y="5142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5" name=""/>
            <p:cNvSpPr/>
            <p:nvPr/>
          </p:nvSpPr>
          <p:spPr>
            <a:xfrm rot="16200000">
              <a:off x="2183040" y="5142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6" name=""/>
            <p:cNvSpPr/>
            <p:nvPr/>
          </p:nvSpPr>
          <p:spPr>
            <a:xfrm rot="16200000">
              <a:off x="2158200" y="50706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7" name=""/>
            <p:cNvSpPr/>
            <p:nvPr/>
          </p:nvSpPr>
          <p:spPr>
            <a:xfrm rot="16200000">
              <a:off x="2158200" y="5118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8" name=""/>
          <p:cNvGrpSpPr/>
          <p:nvPr/>
        </p:nvGrpSpPr>
        <p:grpSpPr>
          <a:xfrm>
            <a:off x="1209600" y="5533920"/>
            <a:ext cx="88920" cy="93600"/>
            <a:chOff x="1209600" y="5533920"/>
            <a:chExt cx="88920" cy="93600"/>
          </a:xfrm>
        </p:grpSpPr>
        <p:sp>
          <p:nvSpPr>
            <p:cNvPr id="9349" name=""/>
            <p:cNvSpPr/>
            <p:nvPr/>
          </p:nvSpPr>
          <p:spPr>
            <a:xfrm>
              <a:off x="1209600" y="5533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1209600" y="5608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1253880" y="55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1209600" y="5533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3" name=""/>
          <p:cNvGrpSpPr/>
          <p:nvPr/>
        </p:nvGrpSpPr>
        <p:grpSpPr>
          <a:xfrm>
            <a:off x="1428840" y="5562720"/>
            <a:ext cx="88920" cy="93600"/>
            <a:chOff x="1428840" y="5562720"/>
            <a:chExt cx="88920" cy="93600"/>
          </a:xfrm>
        </p:grpSpPr>
        <p:sp>
          <p:nvSpPr>
            <p:cNvPr id="9354" name=""/>
            <p:cNvSpPr/>
            <p:nvPr/>
          </p:nvSpPr>
          <p:spPr>
            <a:xfrm>
              <a:off x="1428840" y="5562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1428840" y="5637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147312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1428840" y="5562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8" name=""/>
          <p:cNvGrpSpPr/>
          <p:nvPr/>
        </p:nvGrpSpPr>
        <p:grpSpPr>
          <a:xfrm>
            <a:off x="2082960" y="5517720"/>
            <a:ext cx="93600" cy="88920"/>
            <a:chOff x="2082960" y="5517720"/>
            <a:chExt cx="93600" cy="88920"/>
          </a:xfrm>
        </p:grpSpPr>
        <p:sp>
          <p:nvSpPr>
            <p:cNvPr id="9359" name=""/>
            <p:cNvSpPr/>
            <p:nvPr/>
          </p:nvSpPr>
          <p:spPr>
            <a:xfrm rot="16200000">
              <a:off x="2047680" y="5553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0" name=""/>
            <p:cNvSpPr/>
            <p:nvPr/>
          </p:nvSpPr>
          <p:spPr>
            <a:xfrm rot="16200000">
              <a:off x="2122560" y="5552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1" name=""/>
            <p:cNvSpPr/>
            <p:nvPr/>
          </p:nvSpPr>
          <p:spPr>
            <a:xfrm rot="16200000">
              <a:off x="2107440" y="549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2" name=""/>
            <p:cNvSpPr/>
            <p:nvPr/>
          </p:nvSpPr>
          <p:spPr>
            <a:xfrm rot="16200000">
              <a:off x="2107440" y="5537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3" name=""/>
          <p:cNvGrpSpPr/>
          <p:nvPr/>
        </p:nvGrpSpPr>
        <p:grpSpPr>
          <a:xfrm>
            <a:off x="1885680" y="5295960"/>
            <a:ext cx="152280" cy="152280"/>
            <a:chOff x="1885680" y="5295960"/>
            <a:chExt cx="152280" cy="152280"/>
          </a:xfrm>
        </p:grpSpPr>
        <p:sp>
          <p:nvSpPr>
            <p:cNvPr id="9364" name=""/>
            <p:cNvSpPr/>
            <p:nvPr/>
          </p:nvSpPr>
          <p:spPr>
            <a:xfrm rot="5400000">
              <a:off x="1946520" y="535680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5" name=""/>
            <p:cNvSpPr/>
            <p:nvPr/>
          </p:nvSpPr>
          <p:spPr>
            <a:xfrm rot="5400000">
              <a:off x="1824840" y="535680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6" name=""/>
            <p:cNvSpPr/>
            <p:nvPr/>
          </p:nvSpPr>
          <p:spPr>
            <a:xfrm rot="5400000">
              <a:off x="1923840" y="533376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7" name=""/>
            <p:cNvSpPr/>
            <p:nvPr/>
          </p:nvSpPr>
          <p:spPr>
            <a:xfrm rot="5400000">
              <a:off x="1923840" y="525780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8" name=""/>
          <p:cNvGrpSpPr/>
          <p:nvPr/>
        </p:nvGrpSpPr>
        <p:grpSpPr>
          <a:xfrm>
            <a:off x="2371680" y="4832280"/>
            <a:ext cx="74520" cy="149760"/>
            <a:chOff x="2371680" y="4832280"/>
            <a:chExt cx="74520" cy="149760"/>
          </a:xfrm>
        </p:grpSpPr>
        <p:sp>
          <p:nvSpPr>
            <p:cNvPr id="9369" name=""/>
            <p:cNvSpPr/>
            <p:nvPr/>
          </p:nvSpPr>
          <p:spPr>
            <a:xfrm>
              <a:off x="2371680" y="48322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2371680" y="49816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2408760" y="483228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2371680" y="483228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3" name=""/>
          <p:cNvGrpSpPr/>
          <p:nvPr/>
        </p:nvGrpSpPr>
        <p:grpSpPr>
          <a:xfrm>
            <a:off x="2123640" y="4857120"/>
            <a:ext cx="95400" cy="97200"/>
            <a:chOff x="2123640" y="4857120"/>
            <a:chExt cx="95400" cy="97200"/>
          </a:xfrm>
        </p:grpSpPr>
        <p:sp>
          <p:nvSpPr>
            <p:cNvPr id="9374" name=""/>
            <p:cNvSpPr/>
            <p:nvPr/>
          </p:nvSpPr>
          <p:spPr>
            <a:xfrm rot="10800000">
              <a:off x="2123640" y="4953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5" name=""/>
            <p:cNvSpPr/>
            <p:nvPr/>
          </p:nvSpPr>
          <p:spPr>
            <a:xfrm rot="10800000">
              <a:off x="2123640" y="4857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6" name=""/>
            <p:cNvSpPr/>
            <p:nvPr/>
          </p:nvSpPr>
          <p:spPr>
            <a:xfrm rot="10800000">
              <a:off x="2123640" y="4857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7" name=""/>
            <p:cNvSpPr/>
            <p:nvPr/>
          </p:nvSpPr>
          <p:spPr>
            <a:xfrm rot="10800000">
              <a:off x="2171160" y="4857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8" name=""/>
          <p:cNvGrpSpPr/>
          <p:nvPr/>
        </p:nvGrpSpPr>
        <p:grpSpPr>
          <a:xfrm>
            <a:off x="1901880" y="4841640"/>
            <a:ext cx="93600" cy="88920"/>
            <a:chOff x="1901880" y="4841640"/>
            <a:chExt cx="93600" cy="88920"/>
          </a:xfrm>
        </p:grpSpPr>
        <p:sp>
          <p:nvSpPr>
            <p:cNvPr id="9379" name=""/>
            <p:cNvSpPr/>
            <p:nvPr/>
          </p:nvSpPr>
          <p:spPr>
            <a:xfrm rot="16200000">
              <a:off x="1866600" y="4876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0" name=""/>
            <p:cNvSpPr/>
            <p:nvPr/>
          </p:nvSpPr>
          <p:spPr>
            <a:xfrm rot="16200000">
              <a:off x="1941480" y="4876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1" name=""/>
            <p:cNvSpPr/>
            <p:nvPr/>
          </p:nvSpPr>
          <p:spPr>
            <a:xfrm rot="16200000">
              <a:off x="1926360" y="4817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2" name=""/>
            <p:cNvSpPr/>
            <p:nvPr/>
          </p:nvSpPr>
          <p:spPr>
            <a:xfrm rot="16200000">
              <a:off x="1926360" y="4861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3" name=""/>
          <p:cNvGrpSpPr/>
          <p:nvPr/>
        </p:nvGrpSpPr>
        <p:grpSpPr>
          <a:xfrm>
            <a:off x="1892160" y="5070240"/>
            <a:ext cx="93960" cy="88920"/>
            <a:chOff x="1892160" y="5070240"/>
            <a:chExt cx="93960" cy="88920"/>
          </a:xfrm>
        </p:grpSpPr>
        <p:sp>
          <p:nvSpPr>
            <p:cNvPr id="9384" name=""/>
            <p:cNvSpPr/>
            <p:nvPr/>
          </p:nvSpPr>
          <p:spPr>
            <a:xfrm rot="16200000">
              <a:off x="1856880" y="5105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5" name=""/>
            <p:cNvSpPr/>
            <p:nvPr/>
          </p:nvSpPr>
          <p:spPr>
            <a:xfrm rot="16200000">
              <a:off x="1932120" y="5105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6" name=""/>
            <p:cNvSpPr/>
            <p:nvPr/>
          </p:nvSpPr>
          <p:spPr>
            <a:xfrm rot="16200000">
              <a:off x="1917000" y="50457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7" name=""/>
            <p:cNvSpPr/>
            <p:nvPr/>
          </p:nvSpPr>
          <p:spPr>
            <a:xfrm rot="16200000">
              <a:off x="1917000" y="50900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8" name=""/>
          <p:cNvGrpSpPr/>
          <p:nvPr/>
        </p:nvGrpSpPr>
        <p:grpSpPr>
          <a:xfrm>
            <a:off x="512640" y="4857840"/>
            <a:ext cx="97200" cy="95040"/>
            <a:chOff x="512640" y="4857840"/>
            <a:chExt cx="97200" cy="95040"/>
          </a:xfrm>
        </p:grpSpPr>
        <p:sp>
          <p:nvSpPr>
            <p:cNvPr id="9389" name=""/>
            <p:cNvSpPr/>
            <p:nvPr/>
          </p:nvSpPr>
          <p:spPr>
            <a:xfrm rot="16200000">
              <a:off x="465120" y="4905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0" name=""/>
            <p:cNvSpPr/>
            <p:nvPr/>
          </p:nvSpPr>
          <p:spPr>
            <a:xfrm rot="16200000">
              <a:off x="561960" y="4905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1" name=""/>
            <p:cNvSpPr/>
            <p:nvPr/>
          </p:nvSpPr>
          <p:spPr>
            <a:xfrm rot="16200000">
              <a:off x="537480" y="4833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2" name=""/>
            <p:cNvSpPr/>
            <p:nvPr/>
          </p:nvSpPr>
          <p:spPr>
            <a:xfrm rot="16200000">
              <a:off x="537120" y="4880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3" name=""/>
          <p:cNvGrpSpPr/>
          <p:nvPr/>
        </p:nvGrpSpPr>
        <p:grpSpPr>
          <a:xfrm>
            <a:off x="1406520" y="4412880"/>
            <a:ext cx="93600" cy="88920"/>
            <a:chOff x="1406520" y="4412880"/>
            <a:chExt cx="93600" cy="88920"/>
          </a:xfrm>
        </p:grpSpPr>
        <p:sp>
          <p:nvSpPr>
            <p:cNvPr id="9394" name=""/>
            <p:cNvSpPr/>
            <p:nvPr/>
          </p:nvSpPr>
          <p:spPr>
            <a:xfrm rot="16200000">
              <a:off x="1371240" y="44481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5" name=""/>
            <p:cNvSpPr/>
            <p:nvPr/>
          </p:nvSpPr>
          <p:spPr>
            <a:xfrm rot="16200000">
              <a:off x="1446120" y="44478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6" name=""/>
            <p:cNvSpPr/>
            <p:nvPr/>
          </p:nvSpPr>
          <p:spPr>
            <a:xfrm rot="16200000">
              <a:off x="1431000" y="43884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7" name=""/>
            <p:cNvSpPr/>
            <p:nvPr/>
          </p:nvSpPr>
          <p:spPr>
            <a:xfrm rot="16200000">
              <a:off x="1431000" y="44326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8" name=""/>
          <p:cNvGrpSpPr/>
          <p:nvPr/>
        </p:nvGrpSpPr>
        <p:grpSpPr>
          <a:xfrm>
            <a:off x="5083920" y="2523960"/>
            <a:ext cx="97200" cy="95400"/>
            <a:chOff x="5083920" y="2523960"/>
            <a:chExt cx="97200" cy="95400"/>
          </a:xfrm>
        </p:grpSpPr>
        <p:sp>
          <p:nvSpPr>
            <p:cNvPr id="9399" name=""/>
            <p:cNvSpPr/>
            <p:nvPr/>
          </p:nvSpPr>
          <p:spPr>
            <a:xfrm rot="5400000">
              <a:off x="5133240" y="2571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0" name=""/>
            <p:cNvSpPr/>
            <p:nvPr/>
          </p:nvSpPr>
          <p:spPr>
            <a:xfrm rot="5400000">
              <a:off x="5036400" y="25714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1" name=""/>
            <p:cNvSpPr/>
            <p:nvPr/>
          </p:nvSpPr>
          <p:spPr>
            <a:xfrm rot="5400000">
              <a:off x="5108760" y="25470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2" name=""/>
            <p:cNvSpPr/>
            <p:nvPr/>
          </p:nvSpPr>
          <p:spPr>
            <a:xfrm rot="5400000">
              <a:off x="5108760" y="2499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3" name=""/>
          <p:cNvGrpSpPr/>
          <p:nvPr/>
        </p:nvGrpSpPr>
        <p:grpSpPr>
          <a:xfrm>
            <a:off x="5267160" y="2523960"/>
            <a:ext cx="152640" cy="152640"/>
            <a:chOff x="5267160" y="2523960"/>
            <a:chExt cx="152640" cy="152640"/>
          </a:xfrm>
        </p:grpSpPr>
        <p:sp>
          <p:nvSpPr>
            <p:cNvPr id="9404" name=""/>
            <p:cNvSpPr/>
            <p:nvPr/>
          </p:nvSpPr>
          <p:spPr>
            <a:xfrm rot="16200000">
              <a:off x="5205960" y="258516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5" name=""/>
            <p:cNvSpPr/>
            <p:nvPr/>
          </p:nvSpPr>
          <p:spPr>
            <a:xfrm rot="16200000">
              <a:off x="5328000" y="258480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6" name=""/>
            <p:cNvSpPr/>
            <p:nvPr/>
          </p:nvSpPr>
          <p:spPr>
            <a:xfrm rot="16200000">
              <a:off x="5305320" y="248580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7" name=""/>
            <p:cNvSpPr/>
            <p:nvPr/>
          </p:nvSpPr>
          <p:spPr>
            <a:xfrm rot="16200000">
              <a:off x="5305320" y="256212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8" name=""/>
          <p:cNvGrpSpPr/>
          <p:nvPr/>
        </p:nvGrpSpPr>
        <p:grpSpPr>
          <a:xfrm>
            <a:off x="5772240" y="3009960"/>
            <a:ext cx="74520" cy="149400"/>
            <a:chOff x="5772240" y="3009960"/>
            <a:chExt cx="74520" cy="149400"/>
          </a:xfrm>
        </p:grpSpPr>
        <p:sp>
          <p:nvSpPr>
            <p:cNvPr id="9409" name=""/>
            <p:cNvSpPr/>
            <p:nvPr/>
          </p:nvSpPr>
          <p:spPr>
            <a:xfrm>
              <a:off x="5772240" y="30099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5772240" y="31590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5809320" y="30099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5772240" y="300996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3" name=""/>
          <p:cNvGrpSpPr/>
          <p:nvPr/>
        </p:nvGrpSpPr>
        <p:grpSpPr>
          <a:xfrm>
            <a:off x="5762520" y="2819520"/>
            <a:ext cx="97200" cy="95040"/>
            <a:chOff x="5762520" y="2819520"/>
            <a:chExt cx="97200" cy="95040"/>
          </a:xfrm>
        </p:grpSpPr>
        <p:sp>
          <p:nvSpPr>
            <p:cNvPr id="9414" name=""/>
            <p:cNvSpPr/>
            <p:nvPr/>
          </p:nvSpPr>
          <p:spPr>
            <a:xfrm rot="16200000">
              <a:off x="5715000" y="2866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5" name=""/>
            <p:cNvSpPr/>
            <p:nvPr/>
          </p:nvSpPr>
          <p:spPr>
            <a:xfrm rot="16200000">
              <a:off x="5811840" y="28666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6" name=""/>
            <p:cNvSpPr/>
            <p:nvPr/>
          </p:nvSpPr>
          <p:spPr>
            <a:xfrm rot="16200000">
              <a:off x="5787360" y="27950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7" name=""/>
            <p:cNvSpPr/>
            <p:nvPr/>
          </p:nvSpPr>
          <p:spPr>
            <a:xfrm rot="16200000">
              <a:off x="5787000" y="28422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8" name=""/>
          <p:cNvGrpSpPr/>
          <p:nvPr/>
        </p:nvGrpSpPr>
        <p:grpSpPr>
          <a:xfrm>
            <a:off x="5553000" y="3495240"/>
            <a:ext cx="97200" cy="95400"/>
            <a:chOff x="5553000" y="3495240"/>
            <a:chExt cx="97200" cy="95400"/>
          </a:xfrm>
        </p:grpSpPr>
        <p:sp>
          <p:nvSpPr>
            <p:cNvPr id="9419" name=""/>
            <p:cNvSpPr/>
            <p:nvPr/>
          </p:nvSpPr>
          <p:spPr>
            <a:xfrm rot="16200000">
              <a:off x="5505480" y="3542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0" name=""/>
            <p:cNvSpPr/>
            <p:nvPr/>
          </p:nvSpPr>
          <p:spPr>
            <a:xfrm rot="16200000">
              <a:off x="5602320" y="3542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1" name=""/>
            <p:cNvSpPr/>
            <p:nvPr/>
          </p:nvSpPr>
          <p:spPr>
            <a:xfrm rot="16200000">
              <a:off x="5577480" y="3470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2" name=""/>
            <p:cNvSpPr/>
            <p:nvPr/>
          </p:nvSpPr>
          <p:spPr>
            <a:xfrm rot="16200000">
              <a:off x="5577480" y="35182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3" name=""/>
          <p:cNvGrpSpPr/>
          <p:nvPr/>
        </p:nvGrpSpPr>
        <p:grpSpPr>
          <a:xfrm>
            <a:off x="5308560" y="3489120"/>
            <a:ext cx="93600" cy="88920"/>
            <a:chOff x="5308560" y="3489120"/>
            <a:chExt cx="93600" cy="88920"/>
          </a:xfrm>
        </p:grpSpPr>
        <p:sp>
          <p:nvSpPr>
            <p:cNvPr id="9424" name=""/>
            <p:cNvSpPr/>
            <p:nvPr/>
          </p:nvSpPr>
          <p:spPr>
            <a:xfrm rot="16200000">
              <a:off x="5273280" y="35244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5" name=""/>
            <p:cNvSpPr/>
            <p:nvPr/>
          </p:nvSpPr>
          <p:spPr>
            <a:xfrm rot="16200000">
              <a:off x="5348160" y="35240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6" name=""/>
            <p:cNvSpPr/>
            <p:nvPr/>
          </p:nvSpPr>
          <p:spPr>
            <a:xfrm rot="16200000">
              <a:off x="5333040" y="34646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7" name=""/>
            <p:cNvSpPr/>
            <p:nvPr/>
          </p:nvSpPr>
          <p:spPr>
            <a:xfrm rot="16200000">
              <a:off x="5333040" y="35089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8" name=""/>
          <p:cNvGrpSpPr/>
          <p:nvPr/>
        </p:nvGrpSpPr>
        <p:grpSpPr>
          <a:xfrm>
            <a:off x="5076720" y="3457440"/>
            <a:ext cx="152640" cy="152640"/>
            <a:chOff x="5076720" y="3457440"/>
            <a:chExt cx="152640" cy="152640"/>
          </a:xfrm>
        </p:grpSpPr>
        <p:sp>
          <p:nvSpPr>
            <p:cNvPr id="9429" name=""/>
            <p:cNvSpPr/>
            <p:nvPr/>
          </p:nvSpPr>
          <p:spPr>
            <a:xfrm rot="16200000">
              <a:off x="5015520" y="3518640"/>
              <a:ext cx="15264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0" name=""/>
            <p:cNvSpPr/>
            <p:nvPr/>
          </p:nvSpPr>
          <p:spPr>
            <a:xfrm rot="16200000">
              <a:off x="5137560" y="3518280"/>
              <a:ext cx="15264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1" name=""/>
            <p:cNvSpPr/>
            <p:nvPr/>
          </p:nvSpPr>
          <p:spPr>
            <a:xfrm rot="16200000">
              <a:off x="5114880" y="341928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2" name=""/>
            <p:cNvSpPr/>
            <p:nvPr/>
          </p:nvSpPr>
          <p:spPr>
            <a:xfrm rot="16200000">
              <a:off x="5114880" y="3495600"/>
              <a:ext cx="7632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3" name=""/>
          <p:cNvGrpSpPr/>
          <p:nvPr/>
        </p:nvGrpSpPr>
        <p:grpSpPr>
          <a:xfrm>
            <a:off x="2333520" y="2790720"/>
            <a:ext cx="88920" cy="93600"/>
            <a:chOff x="2333520" y="2790720"/>
            <a:chExt cx="88920" cy="93600"/>
          </a:xfrm>
        </p:grpSpPr>
        <p:sp>
          <p:nvSpPr>
            <p:cNvPr id="9434" name=""/>
            <p:cNvSpPr/>
            <p:nvPr/>
          </p:nvSpPr>
          <p:spPr>
            <a:xfrm>
              <a:off x="2333520" y="27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2333520" y="28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2377800" y="27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2333520" y="27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8" name=""/>
          <p:cNvGrpSpPr/>
          <p:nvPr/>
        </p:nvGrpSpPr>
        <p:grpSpPr>
          <a:xfrm>
            <a:off x="2344320" y="3026520"/>
            <a:ext cx="95400" cy="97200"/>
            <a:chOff x="2344320" y="3026520"/>
            <a:chExt cx="95400" cy="97200"/>
          </a:xfrm>
        </p:grpSpPr>
        <p:sp>
          <p:nvSpPr>
            <p:cNvPr id="9439" name=""/>
            <p:cNvSpPr/>
            <p:nvPr/>
          </p:nvSpPr>
          <p:spPr>
            <a:xfrm rot="10800000">
              <a:off x="2344320" y="3123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0" name=""/>
            <p:cNvSpPr/>
            <p:nvPr/>
          </p:nvSpPr>
          <p:spPr>
            <a:xfrm rot="10800000">
              <a:off x="2344320" y="3026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1" name=""/>
            <p:cNvSpPr/>
            <p:nvPr/>
          </p:nvSpPr>
          <p:spPr>
            <a:xfrm rot="10800000">
              <a:off x="2344320" y="3026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2" name=""/>
            <p:cNvSpPr/>
            <p:nvPr/>
          </p:nvSpPr>
          <p:spPr>
            <a:xfrm rot="10800000">
              <a:off x="2391840" y="3026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3" name=""/>
          <p:cNvGrpSpPr/>
          <p:nvPr/>
        </p:nvGrpSpPr>
        <p:grpSpPr>
          <a:xfrm>
            <a:off x="1891800" y="1888560"/>
            <a:ext cx="95400" cy="97200"/>
            <a:chOff x="1891800" y="1888560"/>
            <a:chExt cx="95400" cy="97200"/>
          </a:xfrm>
        </p:grpSpPr>
        <p:sp>
          <p:nvSpPr>
            <p:cNvPr id="9444" name=""/>
            <p:cNvSpPr/>
            <p:nvPr/>
          </p:nvSpPr>
          <p:spPr>
            <a:xfrm rot="10800000">
              <a:off x="1891800" y="1985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5" name=""/>
            <p:cNvSpPr/>
            <p:nvPr/>
          </p:nvSpPr>
          <p:spPr>
            <a:xfrm rot="10800000">
              <a:off x="1891800" y="1888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6" name=""/>
            <p:cNvSpPr/>
            <p:nvPr/>
          </p:nvSpPr>
          <p:spPr>
            <a:xfrm rot="10800000">
              <a:off x="1891800" y="18889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7" name=""/>
            <p:cNvSpPr/>
            <p:nvPr/>
          </p:nvSpPr>
          <p:spPr>
            <a:xfrm rot="10800000">
              <a:off x="1939320" y="18889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8" name=""/>
          <p:cNvGrpSpPr/>
          <p:nvPr/>
        </p:nvGrpSpPr>
        <p:grpSpPr>
          <a:xfrm>
            <a:off x="1211400" y="1888560"/>
            <a:ext cx="95040" cy="97200"/>
            <a:chOff x="1211400" y="1888560"/>
            <a:chExt cx="95040" cy="97200"/>
          </a:xfrm>
        </p:grpSpPr>
        <p:sp>
          <p:nvSpPr>
            <p:cNvPr id="9449" name=""/>
            <p:cNvSpPr/>
            <p:nvPr/>
          </p:nvSpPr>
          <p:spPr>
            <a:xfrm rot="10800000">
              <a:off x="1211400" y="19854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0" name=""/>
            <p:cNvSpPr/>
            <p:nvPr/>
          </p:nvSpPr>
          <p:spPr>
            <a:xfrm rot="10800000">
              <a:off x="1211400" y="1888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1" name=""/>
            <p:cNvSpPr/>
            <p:nvPr/>
          </p:nvSpPr>
          <p:spPr>
            <a:xfrm rot="10800000">
              <a:off x="1211760" y="18889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2" name=""/>
            <p:cNvSpPr/>
            <p:nvPr/>
          </p:nvSpPr>
          <p:spPr>
            <a:xfrm rot="10800000">
              <a:off x="1258920" y="18889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3" name=""/>
          <p:cNvGrpSpPr/>
          <p:nvPr/>
        </p:nvGrpSpPr>
        <p:grpSpPr>
          <a:xfrm>
            <a:off x="1447920" y="1442520"/>
            <a:ext cx="97200" cy="95400"/>
            <a:chOff x="1447920" y="1442520"/>
            <a:chExt cx="97200" cy="95400"/>
          </a:xfrm>
        </p:grpSpPr>
        <p:sp>
          <p:nvSpPr>
            <p:cNvPr id="9454" name=""/>
            <p:cNvSpPr/>
            <p:nvPr/>
          </p:nvSpPr>
          <p:spPr>
            <a:xfrm rot="16200000">
              <a:off x="1400400" y="1490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5" name=""/>
            <p:cNvSpPr/>
            <p:nvPr/>
          </p:nvSpPr>
          <p:spPr>
            <a:xfrm rot="16200000">
              <a:off x="1497240" y="1490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6" name=""/>
            <p:cNvSpPr/>
            <p:nvPr/>
          </p:nvSpPr>
          <p:spPr>
            <a:xfrm rot="16200000">
              <a:off x="1472400" y="14176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7" name=""/>
            <p:cNvSpPr/>
            <p:nvPr/>
          </p:nvSpPr>
          <p:spPr>
            <a:xfrm rot="16200000">
              <a:off x="1472400" y="1465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8" name=""/>
          <p:cNvGrpSpPr/>
          <p:nvPr/>
        </p:nvGrpSpPr>
        <p:grpSpPr>
          <a:xfrm>
            <a:off x="1450800" y="1887120"/>
            <a:ext cx="97200" cy="95400"/>
            <a:chOff x="1450800" y="1887120"/>
            <a:chExt cx="97200" cy="95400"/>
          </a:xfrm>
        </p:grpSpPr>
        <p:sp>
          <p:nvSpPr>
            <p:cNvPr id="9459" name=""/>
            <p:cNvSpPr/>
            <p:nvPr/>
          </p:nvSpPr>
          <p:spPr>
            <a:xfrm rot="16200000">
              <a:off x="1403280" y="1934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0" name=""/>
            <p:cNvSpPr/>
            <p:nvPr/>
          </p:nvSpPr>
          <p:spPr>
            <a:xfrm rot="16200000">
              <a:off x="1500120" y="1934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1" name=""/>
            <p:cNvSpPr/>
            <p:nvPr/>
          </p:nvSpPr>
          <p:spPr>
            <a:xfrm rot="16200000">
              <a:off x="1475280" y="18622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2" name=""/>
            <p:cNvSpPr/>
            <p:nvPr/>
          </p:nvSpPr>
          <p:spPr>
            <a:xfrm rot="16200000">
              <a:off x="1475280" y="1910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3" name=""/>
          <p:cNvGrpSpPr/>
          <p:nvPr/>
        </p:nvGrpSpPr>
        <p:grpSpPr>
          <a:xfrm>
            <a:off x="1447920" y="1657440"/>
            <a:ext cx="88920" cy="93600"/>
            <a:chOff x="1447920" y="1657440"/>
            <a:chExt cx="88920" cy="93600"/>
          </a:xfrm>
        </p:grpSpPr>
        <p:sp>
          <p:nvSpPr>
            <p:cNvPr id="9464" name=""/>
            <p:cNvSpPr/>
            <p:nvPr/>
          </p:nvSpPr>
          <p:spPr>
            <a:xfrm>
              <a:off x="1447920" y="1657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1447920" y="1732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1492200" y="165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1447920" y="165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8" name=""/>
          <p:cNvGrpSpPr/>
          <p:nvPr/>
        </p:nvGrpSpPr>
        <p:grpSpPr>
          <a:xfrm>
            <a:off x="2128680" y="1881360"/>
            <a:ext cx="88920" cy="93600"/>
            <a:chOff x="2128680" y="1881360"/>
            <a:chExt cx="88920" cy="93600"/>
          </a:xfrm>
        </p:grpSpPr>
        <p:sp>
          <p:nvSpPr>
            <p:cNvPr id="9469" name=""/>
            <p:cNvSpPr/>
            <p:nvPr/>
          </p:nvSpPr>
          <p:spPr>
            <a:xfrm>
              <a:off x="2128680" y="1881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2128680" y="1956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2172960" y="188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2128680" y="1881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3" name=""/>
          <p:cNvGrpSpPr/>
          <p:nvPr/>
        </p:nvGrpSpPr>
        <p:grpSpPr>
          <a:xfrm>
            <a:off x="985680" y="1890720"/>
            <a:ext cx="88920" cy="93600"/>
            <a:chOff x="985680" y="1890720"/>
            <a:chExt cx="88920" cy="93600"/>
          </a:xfrm>
        </p:grpSpPr>
        <p:sp>
          <p:nvSpPr>
            <p:cNvPr id="9474" name=""/>
            <p:cNvSpPr/>
            <p:nvPr/>
          </p:nvSpPr>
          <p:spPr>
            <a:xfrm>
              <a:off x="985680" y="1890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985680" y="1965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1029960" y="18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985680" y="1890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8" name=""/>
          <p:cNvGrpSpPr/>
          <p:nvPr/>
        </p:nvGrpSpPr>
        <p:grpSpPr>
          <a:xfrm>
            <a:off x="1662120" y="1442520"/>
            <a:ext cx="97200" cy="95400"/>
            <a:chOff x="1662120" y="1442520"/>
            <a:chExt cx="97200" cy="95400"/>
          </a:xfrm>
        </p:grpSpPr>
        <p:sp>
          <p:nvSpPr>
            <p:cNvPr id="9479" name=""/>
            <p:cNvSpPr/>
            <p:nvPr/>
          </p:nvSpPr>
          <p:spPr>
            <a:xfrm rot="16200000">
              <a:off x="1614600" y="1490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0" name=""/>
            <p:cNvSpPr/>
            <p:nvPr/>
          </p:nvSpPr>
          <p:spPr>
            <a:xfrm rot="16200000">
              <a:off x="1711440" y="1490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1" name=""/>
            <p:cNvSpPr/>
            <p:nvPr/>
          </p:nvSpPr>
          <p:spPr>
            <a:xfrm rot="16200000">
              <a:off x="1686600" y="14176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2" name=""/>
            <p:cNvSpPr/>
            <p:nvPr/>
          </p:nvSpPr>
          <p:spPr>
            <a:xfrm rot="16200000">
              <a:off x="1686600" y="1465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3" name=""/>
          <p:cNvGrpSpPr/>
          <p:nvPr/>
        </p:nvGrpSpPr>
        <p:grpSpPr>
          <a:xfrm>
            <a:off x="1671480" y="2104560"/>
            <a:ext cx="97200" cy="95400"/>
            <a:chOff x="1671480" y="2104560"/>
            <a:chExt cx="97200" cy="95400"/>
          </a:xfrm>
        </p:grpSpPr>
        <p:sp>
          <p:nvSpPr>
            <p:cNvPr id="9484" name=""/>
            <p:cNvSpPr/>
            <p:nvPr/>
          </p:nvSpPr>
          <p:spPr>
            <a:xfrm rot="16200000">
              <a:off x="1623960" y="2152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5" name=""/>
            <p:cNvSpPr/>
            <p:nvPr/>
          </p:nvSpPr>
          <p:spPr>
            <a:xfrm rot="16200000">
              <a:off x="1720800" y="21520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6" name=""/>
            <p:cNvSpPr/>
            <p:nvPr/>
          </p:nvSpPr>
          <p:spPr>
            <a:xfrm rot="16200000">
              <a:off x="1695960" y="20797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7" name=""/>
            <p:cNvSpPr/>
            <p:nvPr/>
          </p:nvSpPr>
          <p:spPr>
            <a:xfrm rot="16200000">
              <a:off x="1695960" y="21276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8" name=""/>
          <p:cNvGrpSpPr/>
          <p:nvPr/>
        </p:nvGrpSpPr>
        <p:grpSpPr>
          <a:xfrm>
            <a:off x="1438200" y="2090880"/>
            <a:ext cx="88920" cy="93600"/>
            <a:chOff x="1438200" y="2090880"/>
            <a:chExt cx="88920" cy="93600"/>
          </a:xfrm>
        </p:grpSpPr>
        <p:sp>
          <p:nvSpPr>
            <p:cNvPr id="9489" name=""/>
            <p:cNvSpPr/>
            <p:nvPr/>
          </p:nvSpPr>
          <p:spPr>
            <a:xfrm>
              <a:off x="1438200" y="2090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1438200" y="2165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1482480" y="2090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1438200" y="2090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3" name=""/>
          <p:cNvGrpSpPr/>
          <p:nvPr/>
        </p:nvGrpSpPr>
        <p:grpSpPr>
          <a:xfrm>
            <a:off x="1476360" y="2314440"/>
            <a:ext cx="88920" cy="93960"/>
            <a:chOff x="1476360" y="2314440"/>
            <a:chExt cx="88920" cy="93960"/>
          </a:xfrm>
        </p:grpSpPr>
        <p:sp>
          <p:nvSpPr>
            <p:cNvPr id="9494" name=""/>
            <p:cNvSpPr/>
            <p:nvPr/>
          </p:nvSpPr>
          <p:spPr>
            <a:xfrm>
              <a:off x="1476360" y="2314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1476360" y="2389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1520640" y="23144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1476360" y="23144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8" name=""/>
          <p:cNvGrpSpPr/>
          <p:nvPr/>
        </p:nvGrpSpPr>
        <p:grpSpPr>
          <a:xfrm>
            <a:off x="1211400" y="1655640"/>
            <a:ext cx="95040" cy="97200"/>
            <a:chOff x="1211400" y="1655640"/>
            <a:chExt cx="95040" cy="97200"/>
          </a:xfrm>
        </p:grpSpPr>
        <p:sp>
          <p:nvSpPr>
            <p:cNvPr id="9499" name=""/>
            <p:cNvSpPr/>
            <p:nvPr/>
          </p:nvSpPr>
          <p:spPr>
            <a:xfrm>
              <a:off x="1211400" y="16556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1211400" y="17524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1258920" y="16556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1211400" y="16556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3" name=""/>
          <p:cNvGrpSpPr/>
          <p:nvPr/>
        </p:nvGrpSpPr>
        <p:grpSpPr>
          <a:xfrm>
            <a:off x="1676520" y="1652040"/>
            <a:ext cx="95040" cy="97200"/>
            <a:chOff x="1676520" y="1652040"/>
            <a:chExt cx="95040" cy="97200"/>
          </a:xfrm>
        </p:grpSpPr>
        <p:sp>
          <p:nvSpPr>
            <p:cNvPr id="9504" name=""/>
            <p:cNvSpPr/>
            <p:nvPr/>
          </p:nvSpPr>
          <p:spPr>
            <a:xfrm rot="10800000">
              <a:off x="1676520" y="1748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5" name=""/>
            <p:cNvSpPr/>
            <p:nvPr/>
          </p:nvSpPr>
          <p:spPr>
            <a:xfrm rot="10800000">
              <a:off x="1676520" y="16520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6" name=""/>
            <p:cNvSpPr/>
            <p:nvPr/>
          </p:nvSpPr>
          <p:spPr>
            <a:xfrm rot="10800000">
              <a:off x="1676880" y="16524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7" name=""/>
            <p:cNvSpPr/>
            <p:nvPr/>
          </p:nvSpPr>
          <p:spPr>
            <a:xfrm rot="10800000">
              <a:off x="1724040" y="165240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8" name=""/>
          <p:cNvGrpSpPr/>
          <p:nvPr/>
        </p:nvGrpSpPr>
        <p:grpSpPr>
          <a:xfrm>
            <a:off x="3238560" y="2176200"/>
            <a:ext cx="149400" cy="74520"/>
            <a:chOff x="3238560" y="2176200"/>
            <a:chExt cx="149400" cy="74520"/>
          </a:xfrm>
        </p:grpSpPr>
        <p:sp>
          <p:nvSpPr>
            <p:cNvPr id="9509" name=""/>
            <p:cNvSpPr/>
            <p:nvPr/>
          </p:nvSpPr>
          <p:spPr>
            <a:xfrm rot="16200000">
              <a:off x="3201480" y="22132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0" name=""/>
            <p:cNvSpPr/>
            <p:nvPr/>
          </p:nvSpPr>
          <p:spPr>
            <a:xfrm rot="16200000">
              <a:off x="3350520" y="221328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1" name=""/>
            <p:cNvSpPr/>
            <p:nvPr/>
          </p:nvSpPr>
          <p:spPr>
            <a:xfrm rot="16200000">
              <a:off x="3294360" y="212040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2" name=""/>
            <p:cNvSpPr/>
            <p:nvPr/>
          </p:nvSpPr>
          <p:spPr>
            <a:xfrm rot="16200000">
              <a:off x="3294360" y="21574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3" name=""/>
          <p:cNvGrpSpPr/>
          <p:nvPr/>
        </p:nvGrpSpPr>
        <p:grpSpPr>
          <a:xfrm>
            <a:off x="3238200" y="2533320"/>
            <a:ext cx="74520" cy="152280"/>
            <a:chOff x="3238200" y="2533320"/>
            <a:chExt cx="74520" cy="152280"/>
          </a:xfrm>
        </p:grpSpPr>
        <p:sp>
          <p:nvSpPr>
            <p:cNvPr id="9514" name=""/>
            <p:cNvSpPr/>
            <p:nvPr/>
          </p:nvSpPr>
          <p:spPr>
            <a:xfrm rot="10800000">
              <a:off x="3238200" y="26553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5" name=""/>
            <p:cNvSpPr/>
            <p:nvPr/>
          </p:nvSpPr>
          <p:spPr>
            <a:xfrm rot="10800000">
              <a:off x="3238200" y="253332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6" name=""/>
            <p:cNvSpPr/>
            <p:nvPr/>
          </p:nvSpPr>
          <p:spPr>
            <a:xfrm rot="10800000">
              <a:off x="3238560" y="2533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7" name=""/>
            <p:cNvSpPr/>
            <p:nvPr/>
          </p:nvSpPr>
          <p:spPr>
            <a:xfrm rot="10800000">
              <a:off x="3275640" y="253332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8" name=""/>
          <p:cNvGrpSpPr/>
          <p:nvPr/>
        </p:nvGrpSpPr>
        <p:grpSpPr>
          <a:xfrm>
            <a:off x="3700440" y="1861920"/>
            <a:ext cx="152280" cy="152280"/>
            <a:chOff x="3700440" y="1861920"/>
            <a:chExt cx="152280" cy="152280"/>
          </a:xfrm>
        </p:grpSpPr>
        <p:sp>
          <p:nvSpPr>
            <p:cNvPr id="9519" name=""/>
            <p:cNvSpPr/>
            <p:nvPr/>
          </p:nvSpPr>
          <p:spPr>
            <a:xfrm rot="16200000">
              <a:off x="3639240" y="192276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0" name=""/>
            <p:cNvSpPr/>
            <p:nvPr/>
          </p:nvSpPr>
          <p:spPr>
            <a:xfrm rot="16200000">
              <a:off x="3761280" y="192276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1" name=""/>
            <p:cNvSpPr/>
            <p:nvPr/>
          </p:nvSpPr>
          <p:spPr>
            <a:xfrm rot="16200000">
              <a:off x="3738600" y="182412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2" name=""/>
            <p:cNvSpPr/>
            <p:nvPr/>
          </p:nvSpPr>
          <p:spPr>
            <a:xfrm rot="16200000">
              <a:off x="3738600" y="1900080"/>
              <a:ext cx="7596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3" name=""/>
          <p:cNvGrpSpPr/>
          <p:nvPr/>
        </p:nvGrpSpPr>
        <p:grpSpPr>
          <a:xfrm>
            <a:off x="3978360" y="1445760"/>
            <a:ext cx="93600" cy="88920"/>
            <a:chOff x="3978360" y="1445760"/>
            <a:chExt cx="93600" cy="88920"/>
          </a:xfrm>
        </p:grpSpPr>
        <p:sp>
          <p:nvSpPr>
            <p:cNvPr id="9524" name=""/>
            <p:cNvSpPr/>
            <p:nvPr/>
          </p:nvSpPr>
          <p:spPr>
            <a:xfrm rot="16200000">
              <a:off x="3943080" y="1481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5" name=""/>
            <p:cNvSpPr/>
            <p:nvPr/>
          </p:nvSpPr>
          <p:spPr>
            <a:xfrm rot="16200000">
              <a:off x="4017960" y="1480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6" name=""/>
            <p:cNvSpPr/>
            <p:nvPr/>
          </p:nvSpPr>
          <p:spPr>
            <a:xfrm rot="16200000">
              <a:off x="4002840" y="1421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7" name=""/>
            <p:cNvSpPr/>
            <p:nvPr/>
          </p:nvSpPr>
          <p:spPr>
            <a:xfrm rot="16200000">
              <a:off x="4002840" y="1465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8" name=""/>
          <p:cNvGrpSpPr/>
          <p:nvPr/>
        </p:nvGrpSpPr>
        <p:grpSpPr>
          <a:xfrm>
            <a:off x="4187880" y="1450440"/>
            <a:ext cx="93600" cy="88920"/>
            <a:chOff x="4187880" y="1450440"/>
            <a:chExt cx="93600" cy="88920"/>
          </a:xfrm>
        </p:grpSpPr>
        <p:sp>
          <p:nvSpPr>
            <p:cNvPr id="9529" name=""/>
            <p:cNvSpPr/>
            <p:nvPr/>
          </p:nvSpPr>
          <p:spPr>
            <a:xfrm rot="16200000">
              <a:off x="4152600" y="14857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0" name=""/>
            <p:cNvSpPr/>
            <p:nvPr/>
          </p:nvSpPr>
          <p:spPr>
            <a:xfrm rot="16200000">
              <a:off x="4227480" y="1485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1" name=""/>
            <p:cNvSpPr/>
            <p:nvPr/>
          </p:nvSpPr>
          <p:spPr>
            <a:xfrm rot="16200000">
              <a:off x="4212360" y="1425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2" name=""/>
            <p:cNvSpPr/>
            <p:nvPr/>
          </p:nvSpPr>
          <p:spPr>
            <a:xfrm rot="16200000">
              <a:off x="4212360" y="147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3" name=""/>
          <p:cNvGrpSpPr/>
          <p:nvPr/>
        </p:nvGrpSpPr>
        <p:grpSpPr>
          <a:xfrm>
            <a:off x="3943440" y="1638360"/>
            <a:ext cx="88920" cy="93600"/>
            <a:chOff x="3943440" y="1638360"/>
            <a:chExt cx="88920" cy="93600"/>
          </a:xfrm>
        </p:grpSpPr>
        <p:sp>
          <p:nvSpPr>
            <p:cNvPr id="9534" name=""/>
            <p:cNvSpPr/>
            <p:nvPr/>
          </p:nvSpPr>
          <p:spPr>
            <a:xfrm>
              <a:off x="3943440" y="16383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3943440" y="17132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3987720" y="1638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3943440" y="16383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8" name=""/>
          <p:cNvGrpSpPr/>
          <p:nvPr/>
        </p:nvGrpSpPr>
        <p:grpSpPr>
          <a:xfrm>
            <a:off x="4657680" y="1666800"/>
            <a:ext cx="88920" cy="93600"/>
            <a:chOff x="4657680" y="1666800"/>
            <a:chExt cx="88920" cy="93600"/>
          </a:xfrm>
        </p:grpSpPr>
        <p:sp>
          <p:nvSpPr>
            <p:cNvPr id="9539" name=""/>
            <p:cNvSpPr/>
            <p:nvPr/>
          </p:nvSpPr>
          <p:spPr>
            <a:xfrm>
              <a:off x="4657680" y="1666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4657680" y="1741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4701960" y="1666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4657680" y="1666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3" name=""/>
          <p:cNvGrpSpPr/>
          <p:nvPr/>
        </p:nvGrpSpPr>
        <p:grpSpPr>
          <a:xfrm>
            <a:off x="4664160" y="1879200"/>
            <a:ext cx="93600" cy="88920"/>
            <a:chOff x="4664160" y="1879200"/>
            <a:chExt cx="93600" cy="88920"/>
          </a:xfrm>
        </p:grpSpPr>
        <p:sp>
          <p:nvSpPr>
            <p:cNvPr id="9544" name=""/>
            <p:cNvSpPr/>
            <p:nvPr/>
          </p:nvSpPr>
          <p:spPr>
            <a:xfrm rot="16200000">
              <a:off x="4628880" y="19144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5" name=""/>
            <p:cNvSpPr/>
            <p:nvPr/>
          </p:nvSpPr>
          <p:spPr>
            <a:xfrm rot="16200000">
              <a:off x="4703760" y="1914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6" name=""/>
            <p:cNvSpPr/>
            <p:nvPr/>
          </p:nvSpPr>
          <p:spPr>
            <a:xfrm rot="16200000">
              <a:off x="4688640" y="18547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7" name=""/>
            <p:cNvSpPr/>
            <p:nvPr/>
          </p:nvSpPr>
          <p:spPr>
            <a:xfrm rot="16200000">
              <a:off x="4688640" y="1899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8" name=""/>
          <p:cNvGrpSpPr/>
          <p:nvPr/>
        </p:nvGrpSpPr>
        <p:grpSpPr>
          <a:xfrm>
            <a:off x="4426920" y="1666800"/>
            <a:ext cx="97200" cy="95400"/>
            <a:chOff x="4426920" y="1666800"/>
            <a:chExt cx="97200" cy="95400"/>
          </a:xfrm>
        </p:grpSpPr>
        <p:sp>
          <p:nvSpPr>
            <p:cNvPr id="9549" name=""/>
            <p:cNvSpPr/>
            <p:nvPr/>
          </p:nvSpPr>
          <p:spPr>
            <a:xfrm rot="5400000">
              <a:off x="4476240" y="1714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0" name=""/>
            <p:cNvSpPr/>
            <p:nvPr/>
          </p:nvSpPr>
          <p:spPr>
            <a:xfrm rot="5400000">
              <a:off x="4379400" y="1714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1" name=""/>
            <p:cNvSpPr/>
            <p:nvPr/>
          </p:nvSpPr>
          <p:spPr>
            <a:xfrm rot="5400000">
              <a:off x="4451760" y="16898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2" name=""/>
            <p:cNvSpPr/>
            <p:nvPr/>
          </p:nvSpPr>
          <p:spPr>
            <a:xfrm rot="5400000">
              <a:off x="4451760" y="16423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3" name=""/>
          <p:cNvGrpSpPr/>
          <p:nvPr/>
        </p:nvGrpSpPr>
        <p:grpSpPr>
          <a:xfrm>
            <a:off x="4425840" y="1907640"/>
            <a:ext cx="93600" cy="88920"/>
            <a:chOff x="4425840" y="1907640"/>
            <a:chExt cx="93600" cy="88920"/>
          </a:xfrm>
        </p:grpSpPr>
        <p:sp>
          <p:nvSpPr>
            <p:cNvPr id="9554" name=""/>
            <p:cNvSpPr/>
            <p:nvPr/>
          </p:nvSpPr>
          <p:spPr>
            <a:xfrm rot="16200000">
              <a:off x="4390560" y="19429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5" name=""/>
            <p:cNvSpPr/>
            <p:nvPr/>
          </p:nvSpPr>
          <p:spPr>
            <a:xfrm rot="16200000">
              <a:off x="4465440" y="19425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6" name=""/>
            <p:cNvSpPr/>
            <p:nvPr/>
          </p:nvSpPr>
          <p:spPr>
            <a:xfrm rot="16200000">
              <a:off x="4450320" y="1883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7" name=""/>
            <p:cNvSpPr/>
            <p:nvPr/>
          </p:nvSpPr>
          <p:spPr>
            <a:xfrm rot="16200000">
              <a:off x="4450320" y="1927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8" name=""/>
          <p:cNvGrpSpPr/>
          <p:nvPr/>
        </p:nvGrpSpPr>
        <p:grpSpPr>
          <a:xfrm>
            <a:off x="4181400" y="2157480"/>
            <a:ext cx="88920" cy="93600"/>
            <a:chOff x="4181400" y="2157480"/>
            <a:chExt cx="88920" cy="93600"/>
          </a:xfrm>
        </p:grpSpPr>
        <p:sp>
          <p:nvSpPr>
            <p:cNvPr id="9559" name=""/>
            <p:cNvSpPr/>
            <p:nvPr/>
          </p:nvSpPr>
          <p:spPr>
            <a:xfrm>
              <a:off x="4181400" y="21574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181400" y="2232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4225680" y="2157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4181400" y="21574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3" name=""/>
          <p:cNvGrpSpPr/>
          <p:nvPr/>
        </p:nvGrpSpPr>
        <p:grpSpPr>
          <a:xfrm>
            <a:off x="4206960" y="1674360"/>
            <a:ext cx="93600" cy="88920"/>
            <a:chOff x="4206960" y="1674360"/>
            <a:chExt cx="93600" cy="88920"/>
          </a:xfrm>
        </p:grpSpPr>
        <p:sp>
          <p:nvSpPr>
            <p:cNvPr id="9564" name=""/>
            <p:cNvSpPr/>
            <p:nvPr/>
          </p:nvSpPr>
          <p:spPr>
            <a:xfrm rot="16200000">
              <a:off x="4171680" y="17096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5" name=""/>
            <p:cNvSpPr/>
            <p:nvPr/>
          </p:nvSpPr>
          <p:spPr>
            <a:xfrm rot="16200000">
              <a:off x="4246560" y="17092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6" name=""/>
            <p:cNvSpPr/>
            <p:nvPr/>
          </p:nvSpPr>
          <p:spPr>
            <a:xfrm rot="16200000">
              <a:off x="4231440" y="1649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7" name=""/>
            <p:cNvSpPr/>
            <p:nvPr/>
          </p:nvSpPr>
          <p:spPr>
            <a:xfrm rot="16200000">
              <a:off x="4231440" y="1694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8" name=""/>
          <p:cNvGrpSpPr/>
          <p:nvPr/>
        </p:nvGrpSpPr>
        <p:grpSpPr>
          <a:xfrm>
            <a:off x="3971880" y="1852560"/>
            <a:ext cx="74520" cy="152280"/>
            <a:chOff x="3971880" y="1852560"/>
            <a:chExt cx="74520" cy="152280"/>
          </a:xfrm>
        </p:grpSpPr>
        <p:sp>
          <p:nvSpPr>
            <p:cNvPr id="9569" name=""/>
            <p:cNvSpPr/>
            <p:nvPr/>
          </p:nvSpPr>
          <p:spPr>
            <a:xfrm>
              <a:off x="3971880" y="185256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3971880" y="197424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4008960" y="18525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3971880" y="185256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3" name=""/>
          <p:cNvGrpSpPr/>
          <p:nvPr/>
        </p:nvGrpSpPr>
        <p:grpSpPr>
          <a:xfrm>
            <a:off x="4200480" y="1900080"/>
            <a:ext cx="88920" cy="93960"/>
            <a:chOff x="4200480" y="1900080"/>
            <a:chExt cx="88920" cy="93960"/>
          </a:xfrm>
        </p:grpSpPr>
        <p:sp>
          <p:nvSpPr>
            <p:cNvPr id="9574" name=""/>
            <p:cNvSpPr/>
            <p:nvPr/>
          </p:nvSpPr>
          <p:spPr>
            <a:xfrm>
              <a:off x="4200480" y="1900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200480" y="1975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4244760" y="1900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200480" y="1900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8" name=""/>
          <p:cNvGrpSpPr/>
          <p:nvPr/>
        </p:nvGrpSpPr>
        <p:grpSpPr>
          <a:xfrm>
            <a:off x="3733920" y="1674720"/>
            <a:ext cx="95040" cy="97200"/>
            <a:chOff x="3733920" y="1674720"/>
            <a:chExt cx="95040" cy="97200"/>
          </a:xfrm>
        </p:grpSpPr>
        <p:sp>
          <p:nvSpPr>
            <p:cNvPr id="9579" name=""/>
            <p:cNvSpPr/>
            <p:nvPr/>
          </p:nvSpPr>
          <p:spPr>
            <a:xfrm>
              <a:off x="3733920" y="167472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3733920" y="17715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3781440" y="16747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3733920" y="16747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3" name=""/>
          <p:cNvGrpSpPr/>
          <p:nvPr/>
        </p:nvGrpSpPr>
        <p:grpSpPr>
          <a:xfrm>
            <a:off x="3514680" y="2128680"/>
            <a:ext cx="88920" cy="93960"/>
            <a:chOff x="3514680" y="2128680"/>
            <a:chExt cx="88920" cy="93960"/>
          </a:xfrm>
        </p:grpSpPr>
        <p:sp>
          <p:nvSpPr>
            <p:cNvPr id="9584" name=""/>
            <p:cNvSpPr/>
            <p:nvPr/>
          </p:nvSpPr>
          <p:spPr>
            <a:xfrm>
              <a:off x="3514680" y="2128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3514680" y="2203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3558960" y="2128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3514680" y="21286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8" name=""/>
          <p:cNvGrpSpPr/>
          <p:nvPr/>
        </p:nvGrpSpPr>
        <p:grpSpPr>
          <a:xfrm>
            <a:off x="1698480" y="1891800"/>
            <a:ext cx="97200" cy="95400"/>
            <a:chOff x="1698480" y="1891800"/>
            <a:chExt cx="97200" cy="95400"/>
          </a:xfrm>
        </p:grpSpPr>
        <p:sp>
          <p:nvSpPr>
            <p:cNvPr id="9589" name=""/>
            <p:cNvSpPr/>
            <p:nvPr/>
          </p:nvSpPr>
          <p:spPr>
            <a:xfrm rot="16200000">
              <a:off x="1650960" y="1939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0" name=""/>
            <p:cNvSpPr/>
            <p:nvPr/>
          </p:nvSpPr>
          <p:spPr>
            <a:xfrm rot="16200000">
              <a:off x="1747800" y="19393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1" name=""/>
            <p:cNvSpPr/>
            <p:nvPr/>
          </p:nvSpPr>
          <p:spPr>
            <a:xfrm rot="16200000">
              <a:off x="1722960" y="18669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2" name=""/>
            <p:cNvSpPr/>
            <p:nvPr/>
          </p:nvSpPr>
          <p:spPr>
            <a:xfrm rot="16200000">
              <a:off x="1722960" y="1914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3" name=""/>
          <p:cNvGrpSpPr/>
          <p:nvPr/>
        </p:nvGrpSpPr>
        <p:grpSpPr>
          <a:xfrm>
            <a:off x="2604960" y="2152800"/>
            <a:ext cx="88920" cy="93600"/>
            <a:chOff x="2604960" y="2152800"/>
            <a:chExt cx="88920" cy="93600"/>
          </a:xfrm>
        </p:grpSpPr>
        <p:sp>
          <p:nvSpPr>
            <p:cNvPr id="9594" name=""/>
            <p:cNvSpPr/>
            <p:nvPr/>
          </p:nvSpPr>
          <p:spPr>
            <a:xfrm>
              <a:off x="2604960" y="21528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2604960" y="2227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2649240" y="2152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2604960" y="2152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98" name=""/>
          <p:cNvGrpSpPr/>
          <p:nvPr/>
        </p:nvGrpSpPr>
        <p:grpSpPr>
          <a:xfrm>
            <a:off x="1685880" y="2324160"/>
            <a:ext cx="88920" cy="93600"/>
            <a:chOff x="1685880" y="2324160"/>
            <a:chExt cx="88920" cy="93600"/>
          </a:xfrm>
        </p:grpSpPr>
        <p:sp>
          <p:nvSpPr>
            <p:cNvPr id="9599" name=""/>
            <p:cNvSpPr/>
            <p:nvPr/>
          </p:nvSpPr>
          <p:spPr>
            <a:xfrm>
              <a:off x="1685880" y="23241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1685880" y="23990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1730160" y="2324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1685880" y="23241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3" name=""/>
          <p:cNvGrpSpPr/>
          <p:nvPr/>
        </p:nvGrpSpPr>
        <p:grpSpPr>
          <a:xfrm>
            <a:off x="2367000" y="1671480"/>
            <a:ext cx="88920" cy="93960"/>
            <a:chOff x="2367000" y="1671480"/>
            <a:chExt cx="88920" cy="93960"/>
          </a:xfrm>
        </p:grpSpPr>
        <p:sp>
          <p:nvSpPr>
            <p:cNvPr id="9604" name=""/>
            <p:cNvSpPr/>
            <p:nvPr/>
          </p:nvSpPr>
          <p:spPr>
            <a:xfrm>
              <a:off x="2367000" y="1671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2367000" y="17467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2411280" y="1671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2367000" y="16714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8" name=""/>
          <p:cNvGrpSpPr/>
          <p:nvPr/>
        </p:nvGrpSpPr>
        <p:grpSpPr>
          <a:xfrm>
            <a:off x="2349000" y="1883520"/>
            <a:ext cx="95400" cy="97200"/>
            <a:chOff x="2349000" y="1883520"/>
            <a:chExt cx="95400" cy="97200"/>
          </a:xfrm>
        </p:grpSpPr>
        <p:sp>
          <p:nvSpPr>
            <p:cNvPr id="9609" name=""/>
            <p:cNvSpPr/>
            <p:nvPr/>
          </p:nvSpPr>
          <p:spPr>
            <a:xfrm rot="10800000">
              <a:off x="2349000" y="1980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0" name=""/>
            <p:cNvSpPr/>
            <p:nvPr/>
          </p:nvSpPr>
          <p:spPr>
            <a:xfrm rot="10800000">
              <a:off x="2349000" y="18835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1" name=""/>
            <p:cNvSpPr/>
            <p:nvPr/>
          </p:nvSpPr>
          <p:spPr>
            <a:xfrm rot="10800000">
              <a:off x="2349000" y="1883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2" name=""/>
            <p:cNvSpPr/>
            <p:nvPr/>
          </p:nvSpPr>
          <p:spPr>
            <a:xfrm rot="10800000">
              <a:off x="2396520" y="1883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3" name=""/>
          <p:cNvGrpSpPr/>
          <p:nvPr/>
        </p:nvGrpSpPr>
        <p:grpSpPr>
          <a:xfrm>
            <a:off x="2825280" y="2355120"/>
            <a:ext cx="95400" cy="97200"/>
            <a:chOff x="2825280" y="2355120"/>
            <a:chExt cx="95400" cy="97200"/>
          </a:xfrm>
        </p:grpSpPr>
        <p:sp>
          <p:nvSpPr>
            <p:cNvPr id="9614" name=""/>
            <p:cNvSpPr/>
            <p:nvPr/>
          </p:nvSpPr>
          <p:spPr>
            <a:xfrm rot="10800000">
              <a:off x="2825280" y="24519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5" name=""/>
            <p:cNvSpPr/>
            <p:nvPr/>
          </p:nvSpPr>
          <p:spPr>
            <a:xfrm rot="10800000">
              <a:off x="2825280" y="2355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6" name=""/>
            <p:cNvSpPr/>
            <p:nvPr/>
          </p:nvSpPr>
          <p:spPr>
            <a:xfrm rot="10800000">
              <a:off x="2825280" y="2355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7" name=""/>
            <p:cNvSpPr/>
            <p:nvPr/>
          </p:nvSpPr>
          <p:spPr>
            <a:xfrm rot="10800000">
              <a:off x="2872800" y="23554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8" name=""/>
          <p:cNvGrpSpPr/>
          <p:nvPr/>
        </p:nvGrpSpPr>
        <p:grpSpPr>
          <a:xfrm>
            <a:off x="2567160" y="1900080"/>
            <a:ext cx="88560" cy="93960"/>
            <a:chOff x="2567160" y="1900080"/>
            <a:chExt cx="88560" cy="93960"/>
          </a:xfrm>
        </p:grpSpPr>
        <p:sp>
          <p:nvSpPr>
            <p:cNvPr id="9619" name=""/>
            <p:cNvSpPr/>
            <p:nvPr/>
          </p:nvSpPr>
          <p:spPr>
            <a:xfrm>
              <a:off x="2567160" y="190008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2567160" y="19753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2611440" y="1900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2567160" y="190008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3" name=""/>
          <p:cNvGrpSpPr/>
          <p:nvPr/>
        </p:nvGrpSpPr>
        <p:grpSpPr>
          <a:xfrm>
            <a:off x="2556000" y="2344320"/>
            <a:ext cx="97200" cy="95400"/>
            <a:chOff x="2556000" y="2344320"/>
            <a:chExt cx="97200" cy="95400"/>
          </a:xfrm>
        </p:grpSpPr>
        <p:sp>
          <p:nvSpPr>
            <p:cNvPr id="9624" name=""/>
            <p:cNvSpPr/>
            <p:nvPr/>
          </p:nvSpPr>
          <p:spPr>
            <a:xfrm rot="16200000">
              <a:off x="2508480" y="239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5" name=""/>
            <p:cNvSpPr/>
            <p:nvPr/>
          </p:nvSpPr>
          <p:spPr>
            <a:xfrm rot="16200000">
              <a:off x="2605320" y="239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6" name=""/>
            <p:cNvSpPr/>
            <p:nvPr/>
          </p:nvSpPr>
          <p:spPr>
            <a:xfrm rot="16200000">
              <a:off x="2580480" y="2319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7" name=""/>
            <p:cNvSpPr/>
            <p:nvPr/>
          </p:nvSpPr>
          <p:spPr>
            <a:xfrm rot="16200000">
              <a:off x="2580480" y="2367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8" name=""/>
          <p:cNvGrpSpPr/>
          <p:nvPr/>
        </p:nvGrpSpPr>
        <p:grpSpPr>
          <a:xfrm>
            <a:off x="2104920" y="2319480"/>
            <a:ext cx="74880" cy="152280"/>
            <a:chOff x="2104920" y="2319480"/>
            <a:chExt cx="74880" cy="152280"/>
          </a:xfrm>
        </p:grpSpPr>
        <p:sp>
          <p:nvSpPr>
            <p:cNvPr id="9629" name=""/>
            <p:cNvSpPr/>
            <p:nvPr/>
          </p:nvSpPr>
          <p:spPr>
            <a:xfrm>
              <a:off x="2104920" y="231948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2104920" y="244116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2142360" y="23194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2104920" y="2319480"/>
              <a:ext cx="3744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3" name=""/>
          <p:cNvGrpSpPr/>
          <p:nvPr/>
        </p:nvGrpSpPr>
        <p:grpSpPr>
          <a:xfrm>
            <a:off x="1891800" y="2336040"/>
            <a:ext cx="95400" cy="97200"/>
            <a:chOff x="1891800" y="2336040"/>
            <a:chExt cx="95400" cy="97200"/>
          </a:xfrm>
        </p:grpSpPr>
        <p:sp>
          <p:nvSpPr>
            <p:cNvPr id="9634" name=""/>
            <p:cNvSpPr/>
            <p:nvPr/>
          </p:nvSpPr>
          <p:spPr>
            <a:xfrm rot="10800000">
              <a:off x="1891800" y="2432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5" name=""/>
            <p:cNvSpPr/>
            <p:nvPr/>
          </p:nvSpPr>
          <p:spPr>
            <a:xfrm rot="10800000">
              <a:off x="1891800" y="2336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6" name=""/>
            <p:cNvSpPr/>
            <p:nvPr/>
          </p:nvSpPr>
          <p:spPr>
            <a:xfrm rot="10800000">
              <a:off x="1891800" y="2336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7" name=""/>
            <p:cNvSpPr/>
            <p:nvPr/>
          </p:nvSpPr>
          <p:spPr>
            <a:xfrm rot="10800000">
              <a:off x="1939320" y="23364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8" name=""/>
          <p:cNvGrpSpPr/>
          <p:nvPr/>
        </p:nvGrpSpPr>
        <p:grpSpPr>
          <a:xfrm>
            <a:off x="1949040" y="2521800"/>
            <a:ext cx="95400" cy="97200"/>
            <a:chOff x="1949040" y="2521800"/>
            <a:chExt cx="95400" cy="97200"/>
          </a:xfrm>
        </p:grpSpPr>
        <p:sp>
          <p:nvSpPr>
            <p:cNvPr id="9639" name=""/>
            <p:cNvSpPr/>
            <p:nvPr/>
          </p:nvSpPr>
          <p:spPr>
            <a:xfrm rot="10800000">
              <a:off x="1949040" y="2618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0" name=""/>
            <p:cNvSpPr/>
            <p:nvPr/>
          </p:nvSpPr>
          <p:spPr>
            <a:xfrm rot="10800000">
              <a:off x="1949040" y="25218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1" name=""/>
            <p:cNvSpPr/>
            <p:nvPr/>
          </p:nvSpPr>
          <p:spPr>
            <a:xfrm rot="10800000">
              <a:off x="1949040" y="25221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2" name=""/>
            <p:cNvSpPr/>
            <p:nvPr/>
          </p:nvSpPr>
          <p:spPr>
            <a:xfrm rot="10800000">
              <a:off x="1996560" y="25221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3" name=""/>
          <p:cNvGrpSpPr/>
          <p:nvPr/>
        </p:nvGrpSpPr>
        <p:grpSpPr>
          <a:xfrm>
            <a:off x="1895400" y="2109960"/>
            <a:ext cx="88920" cy="93600"/>
            <a:chOff x="1895400" y="2109960"/>
            <a:chExt cx="88920" cy="93600"/>
          </a:xfrm>
        </p:grpSpPr>
        <p:sp>
          <p:nvSpPr>
            <p:cNvPr id="9644" name=""/>
            <p:cNvSpPr/>
            <p:nvPr/>
          </p:nvSpPr>
          <p:spPr>
            <a:xfrm>
              <a:off x="1895400" y="21099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1895400" y="21848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1939680" y="2109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1895400" y="21099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8" name=""/>
          <p:cNvGrpSpPr/>
          <p:nvPr/>
        </p:nvGrpSpPr>
        <p:grpSpPr>
          <a:xfrm>
            <a:off x="3757680" y="2100240"/>
            <a:ext cx="88920" cy="93600"/>
            <a:chOff x="3757680" y="2100240"/>
            <a:chExt cx="88920" cy="93600"/>
          </a:xfrm>
        </p:grpSpPr>
        <p:sp>
          <p:nvSpPr>
            <p:cNvPr id="9649" name=""/>
            <p:cNvSpPr/>
            <p:nvPr/>
          </p:nvSpPr>
          <p:spPr>
            <a:xfrm>
              <a:off x="3757680" y="21002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3757680" y="21751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3801960" y="210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3757680" y="2100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3" name=""/>
          <p:cNvGrpSpPr/>
          <p:nvPr/>
        </p:nvGrpSpPr>
        <p:grpSpPr>
          <a:xfrm>
            <a:off x="3252960" y="2343240"/>
            <a:ext cx="95040" cy="97200"/>
            <a:chOff x="3252960" y="2343240"/>
            <a:chExt cx="95040" cy="97200"/>
          </a:xfrm>
        </p:grpSpPr>
        <p:sp>
          <p:nvSpPr>
            <p:cNvPr id="9654" name=""/>
            <p:cNvSpPr/>
            <p:nvPr/>
          </p:nvSpPr>
          <p:spPr>
            <a:xfrm>
              <a:off x="3252960" y="234324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3252960" y="24400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3300480" y="234324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3252960" y="234324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8" name=""/>
          <p:cNvGrpSpPr/>
          <p:nvPr/>
        </p:nvGrpSpPr>
        <p:grpSpPr>
          <a:xfrm>
            <a:off x="3481560" y="2343240"/>
            <a:ext cx="88560" cy="93600"/>
            <a:chOff x="3481560" y="2343240"/>
            <a:chExt cx="88560" cy="93600"/>
          </a:xfrm>
        </p:grpSpPr>
        <p:sp>
          <p:nvSpPr>
            <p:cNvPr id="9659" name=""/>
            <p:cNvSpPr/>
            <p:nvPr/>
          </p:nvSpPr>
          <p:spPr>
            <a:xfrm>
              <a:off x="3481560" y="234324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3481560" y="24181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3525840" y="234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3481560" y="23432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3" name=""/>
          <p:cNvGrpSpPr/>
          <p:nvPr/>
        </p:nvGrpSpPr>
        <p:grpSpPr>
          <a:xfrm>
            <a:off x="3481560" y="2571480"/>
            <a:ext cx="149400" cy="74520"/>
            <a:chOff x="3481560" y="2571480"/>
            <a:chExt cx="149400" cy="74520"/>
          </a:xfrm>
        </p:grpSpPr>
        <p:sp>
          <p:nvSpPr>
            <p:cNvPr id="9664" name=""/>
            <p:cNvSpPr/>
            <p:nvPr/>
          </p:nvSpPr>
          <p:spPr>
            <a:xfrm rot="16200000">
              <a:off x="3444480" y="26085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5" name=""/>
            <p:cNvSpPr/>
            <p:nvPr/>
          </p:nvSpPr>
          <p:spPr>
            <a:xfrm rot="16200000">
              <a:off x="3593520" y="26085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6" name=""/>
            <p:cNvSpPr/>
            <p:nvPr/>
          </p:nvSpPr>
          <p:spPr>
            <a:xfrm rot="16200000">
              <a:off x="3537360" y="251568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7" name=""/>
            <p:cNvSpPr/>
            <p:nvPr/>
          </p:nvSpPr>
          <p:spPr>
            <a:xfrm rot="16200000">
              <a:off x="3537360" y="255276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8" name=""/>
          <p:cNvGrpSpPr/>
          <p:nvPr/>
        </p:nvGrpSpPr>
        <p:grpSpPr>
          <a:xfrm>
            <a:off x="3543480" y="2814120"/>
            <a:ext cx="96840" cy="95400"/>
            <a:chOff x="3543480" y="2814120"/>
            <a:chExt cx="96840" cy="95400"/>
          </a:xfrm>
        </p:grpSpPr>
        <p:sp>
          <p:nvSpPr>
            <p:cNvPr id="9669" name=""/>
            <p:cNvSpPr/>
            <p:nvPr/>
          </p:nvSpPr>
          <p:spPr>
            <a:xfrm rot="16200000">
              <a:off x="3495960" y="2861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0" name=""/>
            <p:cNvSpPr/>
            <p:nvPr/>
          </p:nvSpPr>
          <p:spPr>
            <a:xfrm rot="16200000">
              <a:off x="3592440" y="28616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1" name=""/>
            <p:cNvSpPr/>
            <p:nvPr/>
          </p:nvSpPr>
          <p:spPr>
            <a:xfrm rot="16200000">
              <a:off x="3567960" y="2789640"/>
              <a:ext cx="47520" cy="9648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2" name=""/>
            <p:cNvSpPr/>
            <p:nvPr/>
          </p:nvSpPr>
          <p:spPr>
            <a:xfrm rot="16200000">
              <a:off x="3567600" y="2837160"/>
              <a:ext cx="47880" cy="9648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3" name=""/>
          <p:cNvGrpSpPr/>
          <p:nvPr/>
        </p:nvGrpSpPr>
        <p:grpSpPr>
          <a:xfrm>
            <a:off x="3738600" y="2314440"/>
            <a:ext cx="74520" cy="149760"/>
            <a:chOff x="3738600" y="2314440"/>
            <a:chExt cx="74520" cy="149760"/>
          </a:xfrm>
        </p:grpSpPr>
        <p:sp>
          <p:nvSpPr>
            <p:cNvPr id="9674" name=""/>
            <p:cNvSpPr/>
            <p:nvPr/>
          </p:nvSpPr>
          <p:spPr>
            <a:xfrm>
              <a:off x="3738600" y="23144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3738600" y="24638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3775680" y="231444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3738600" y="23144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8" name=""/>
          <p:cNvGrpSpPr/>
          <p:nvPr/>
        </p:nvGrpSpPr>
        <p:grpSpPr>
          <a:xfrm>
            <a:off x="3708360" y="2541240"/>
            <a:ext cx="93600" cy="88920"/>
            <a:chOff x="3708360" y="2541240"/>
            <a:chExt cx="93600" cy="88920"/>
          </a:xfrm>
        </p:grpSpPr>
        <p:sp>
          <p:nvSpPr>
            <p:cNvPr id="9679" name=""/>
            <p:cNvSpPr/>
            <p:nvPr/>
          </p:nvSpPr>
          <p:spPr>
            <a:xfrm rot="16200000">
              <a:off x="3673080" y="25765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0" name=""/>
            <p:cNvSpPr/>
            <p:nvPr/>
          </p:nvSpPr>
          <p:spPr>
            <a:xfrm rot="16200000">
              <a:off x="3747960" y="2576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1" name=""/>
            <p:cNvSpPr/>
            <p:nvPr/>
          </p:nvSpPr>
          <p:spPr>
            <a:xfrm rot="16200000">
              <a:off x="3732840" y="2516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2" name=""/>
            <p:cNvSpPr/>
            <p:nvPr/>
          </p:nvSpPr>
          <p:spPr>
            <a:xfrm rot="16200000">
              <a:off x="3732840" y="25610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3" name=""/>
          <p:cNvGrpSpPr/>
          <p:nvPr/>
        </p:nvGrpSpPr>
        <p:grpSpPr>
          <a:xfrm>
            <a:off x="3957480" y="2352600"/>
            <a:ext cx="88920" cy="93600"/>
            <a:chOff x="3957480" y="2352600"/>
            <a:chExt cx="88920" cy="93600"/>
          </a:xfrm>
        </p:grpSpPr>
        <p:sp>
          <p:nvSpPr>
            <p:cNvPr id="9684" name=""/>
            <p:cNvSpPr/>
            <p:nvPr/>
          </p:nvSpPr>
          <p:spPr>
            <a:xfrm>
              <a:off x="3957480" y="2352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3957480" y="2427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4001760" y="2352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3957480" y="2352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8" name=""/>
          <p:cNvGrpSpPr/>
          <p:nvPr/>
        </p:nvGrpSpPr>
        <p:grpSpPr>
          <a:xfrm>
            <a:off x="3952080" y="2119320"/>
            <a:ext cx="97200" cy="95400"/>
            <a:chOff x="3952080" y="2119320"/>
            <a:chExt cx="97200" cy="95400"/>
          </a:xfrm>
        </p:grpSpPr>
        <p:sp>
          <p:nvSpPr>
            <p:cNvPr id="9689" name=""/>
            <p:cNvSpPr/>
            <p:nvPr/>
          </p:nvSpPr>
          <p:spPr>
            <a:xfrm rot="5400000">
              <a:off x="4001400" y="2166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0" name=""/>
            <p:cNvSpPr/>
            <p:nvPr/>
          </p:nvSpPr>
          <p:spPr>
            <a:xfrm rot="5400000">
              <a:off x="3904560" y="2166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1" name=""/>
            <p:cNvSpPr/>
            <p:nvPr/>
          </p:nvSpPr>
          <p:spPr>
            <a:xfrm rot="5400000">
              <a:off x="3976920" y="21423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2" name=""/>
            <p:cNvSpPr/>
            <p:nvPr/>
          </p:nvSpPr>
          <p:spPr>
            <a:xfrm rot="5400000">
              <a:off x="3976920" y="20948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3" name=""/>
          <p:cNvGrpSpPr/>
          <p:nvPr/>
        </p:nvGrpSpPr>
        <p:grpSpPr>
          <a:xfrm>
            <a:off x="2136600" y="3704760"/>
            <a:ext cx="97200" cy="95400"/>
            <a:chOff x="2136600" y="3704760"/>
            <a:chExt cx="97200" cy="95400"/>
          </a:xfrm>
        </p:grpSpPr>
        <p:sp>
          <p:nvSpPr>
            <p:cNvPr id="9694" name=""/>
            <p:cNvSpPr/>
            <p:nvPr/>
          </p:nvSpPr>
          <p:spPr>
            <a:xfrm rot="16200000">
              <a:off x="2089080" y="3752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5" name=""/>
            <p:cNvSpPr/>
            <p:nvPr/>
          </p:nvSpPr>
          <p:spPr>
            <a:xfrm rot="16200000">
              <a:off x="2185920" y="3752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6" name=""/>
            <p:cNvSpPr/>
            <p:nvPr/>
          </p:nvSpPr>
          <p:spPr>
            <a:xfrm rot="16200000">
              <a:off x="2161080" y="36799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7" name=""/>
            <p:cNvSpPr/>
            <p:nvPr/>
          </p:nvSpPr>
          <p:spPr>
            <a:xfrm rot="16200000">
              <a:off x="2161080" y="372780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8" name=""/>
          <p:cNvGrpSpPr/>
          <p:nvPr/>
        </p:nvGrpSpPr>
        <p:grpSpPr>
          <a:xfrm>
            <a:off x="2351160" y="3672000"/>
            <a:ext cx="97200" cy="95040"/>
            <a:chOff x="2351160" y="3672000"/>
            <a:chExt cx="97200" cy="95040"/>
          </a:xfrm>
        </p:grpSpPr>
        <p:sp>
          <p:nvSpPr>
            <p:cNvPr id="9699" name=""/>
            <p:cNvSpPr/>
            <p:nvPr/>
          </p:nvSpPr>
          <p:spPr>
            <a:xfrm rot="16200000">
              <a:off x="2303640" y="3719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0" name=""/>
            <p:cNvSpPr/>
            <p:nvPr/>
          </p:nvSpPr>
          <p:spPr>
            <a:xfrm rot="16200000">
              <a:off x="2400480" y="37191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1" name=""/>
            <p:cNvSpPr/>
            <p:nvPr/>
          </p:nvSpPr>
          <p:spPr>
            <a:xfrm rot="16200000">
              <a:off x="2376000" y="36475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2" name=""/>
            <p:cNvSpPr/>
            <p:nvPr/>
          </p:nvSpPr>
          <p:spPr>
            <a:xfrm rot="16200000">
              <a:off x="2375640" y="36946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3" name=""/>
          <p:cNvGrpSpPr/>
          <p:nvPr/>
        </p:nvGrpSpPr>
        <p:grpSpPr>
          <a:xfrm>
            <a:off x="2572920" y="3688560"/>
            <a:ext cx="95400" cy="97200"/>
            <a:chOff x="2572920" y="3688560"/>
            <a:chExt cx="95400" cy="97200"/>
          </a:xfrm>
        </p:grpSpPr>
        <p:sp>
          <p:nvSpPr>
            <p:cNvPr id="9704" name=""/>
            <p:cNvSpPr/>
            <p:nvPr/>
          </p:nvSpPr>
          <p:spPr>
            <a:xfrm rot="10800000">
              <a:off x="2572920" y="37854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5" name=""/>
            <p:cNvSpPr/>
            <p:nvPr/>
          </p:nvSpPr>
          <p:spPr>
            <a:xfrm rot="10800000">
              <a:off x="2572920" y="3688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6" name=""/>
            <p:cNvSpPr/>
            <p:nvPr/>
          </p:nvSpPr>
          <p:spPr>
            <a:xfrm rot="10800000">
              <a:off x="2572920" y="368892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7" name=""/>
            <p:cNvSpPr/>
            <p:nvPr/>
          </p:nvSpPr>
          <p:spPr>
            <a:xfrm rot="10800000">
              <a:off x="2620440" y="36889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8" name=""/>
          <p:cNvGrpSpPr/>
          <p:nvPr/>
        </p:nvGrpSpPr>
        <p:grpSpPr>
          <a:xfrm>
            <a:off x="2557440" y="3510000"/>
            <a:ext cx="88920" cy="93600"/>
            <a:chOff x="2557440" y="3510000"/>
            <a:chExt cx="88920" cy="93600"/>
          </a:xfrm>
        </p:grpSpPr>
        <p:sp>
          <p:nvSpPr>
            <p:cNvPr id="9709" name=""/>
            <p:cNvSpPr/>
            <p:nvPr/>
          </p:nvSpPr>
          <p:spPr>
            <a:xfrm>
              <a:off x="2557440" y="35100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2557440" y="3584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2601720" y="351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2557440" y="35100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3" name=""/>
          <p:cNvGrpSpPr/>
          <p:nvPr/>
        </p:nvGrpSpPr>
        <p:grpSpPr>
          <a:xfrm>
            <a:off x="1890720" y="3747960"/>
            <a:ext cx="88920" cy="93960"/>
            <a:chOff x="1890720" y="3747960"/>
            <a:chExt cx="88920" cy="93960"/>
          </a:xfrm>
        </p:grpSpPr>
        <p:sp>
          <p:nvSpPr>
            <p:cNvPr id="9714" name=""/>
            <p:cNvSpPr/>
            <p:nvPr/>
          </p:nvSpPr>
          <p:spPr>
            <a:xfrm>
              <a:off x="1890720" y="3747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1890720" y="38232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1935000" y="3747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1890720" y="37479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8" name=""/>
          <p:cNvGrpSpPr/>
          <p:nvPr/>
        </p:nvGrpSpPr>
        <p:grpSpPr>
          <a:xfrm>
            <a:off x="3009960" y="3695760"/>
            <a:ext cx="88920" cy="93600"/>
            <a:chOff x="3009960" y="3695760"/>
            <a:chExt cx="88920" cy="93600"/>
          </a:xfrm>
        </p:grpSpPr>
        <p:sp>
          <p:nvSpPr>
            <p:cNvPr id="9719" name=""/>
            <p:cNvSpPr/>
            <p:nvPr/>
          </p:nvSpPr>
          <p:spPr>
            <a:xfrm>
              <a:off x="3009960" y="36957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3009960" y="3770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3054240" y="3695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3009960" y="36957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3" name=""/>
          <p:cNvGrpSpPr/>
          <p:nvPr/>
        </p:nvGrpSpPr>
        <p:grpSpPr>
          <a:xfrm>
            <a:off x="3252960" y="3909600"/>
            <a:ext cx="97200" cy="95400"/>
            <a:chOff x="3252960" y="3909600"/>
            <a:chExt cx="97200" cy="95400"/>
          </a:xfrm>
        </p:grpSpPr>
        <p:sp>
          <p:nvSpPr>
            <p:cNvPr id="9724" name=""/>
            <p:cNvSpPr/>
            <p:nvPr/>
          </p:nvSpPr>
          <p:spPr>
            <a:xfrm rot="16200000">
              <a:off x="3205440" y="3957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5" name=""/>
            <p:cNvSpPr/>
            <p:nvPr/>
          </p:nvSpPr>
          <p:spPr>
            <a:xfrm rot="16200000">
              <a:off x="3302280" y="39571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6" name=""/>
            <p:cNvSpPr/>
            <p:nvPr/>
          </p:nvSpPr>
          <p:spPr>
            <a:xfrm rot="16200000">
              <a:off x="3277440" y="3884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7" name=""/>
            <p:cNvSpPr/>
            <p:nvPr/>
          </p:nvSpPr>
          <p:spPr>
            <a:xfrm rot="16200000">
              <a:off x="3277440" y="39326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8" name=""/>
          <p:cNvGrpSpPr/>
          <p:nvPr/>
        </p:nvGrpSpPr>
        <p:grpSpPr>
          <a:xfrm>
            <a:off x="1700280" y="3914640"/>
            <a:ext cx="88920" cy="93960"/>
            <a:chOff x="1700280" y="3914640"/>
            <a:chExt cx="88920" cy="93960"/>
          </a:xfrm>
        </p:grpSpPr>
        <p:sp>
          <p:nvSpPr>
            <p:cNvPr id="9729" name=""/>
            <p:cNvSpPr/>
            <p:nvPr/>
          </p:nvSpPr>
          <p:spPr>
            <a:xfrm>
              <a:off x="1700280" y="39146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1700280" y="39898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1" name=""/>
            <p:cNvSpPr/>
            <p:nvPr/>
          </p:nvSpPr>
          <p:spPr>
            <a:xfrm>
              <a:off x="1744560" y="39146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2" name=""/>
            <p:cNvSpPr/>
            <p:nvPr/>
          </p:nvSpPr>
          <p:spPr>
            <a:xfrm>
              <a:off x="1700280" y="39146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3" name=""/>
          <p:cNvGrpSpPr/>
          <p:nvPr/>
        </p:nvGrpSpPr>
        <p:grpSpPr>
          <a:xfrm>
            <a:off x="1666800" y="3714840"/>
            <a:ext cx="97200" cy="95040"/>
            <a:chOff x="1666800" y="3714840"/>
            <a:chExt cx="97200" cy="95040"/>
          </a:xfrm>
        </p:grpSpPr>
        <p:sp>
          <p:nvSpPr>
            <p:cNvPr id="9734" name=""/>
            <p:cNvSpPr/>
            <p:nvPr/>
          </p:nvSpPr>
          <p:spPr>
            <a:xfrm rot="16200000">
              <a:off x="1619280" y="3762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5" name=""/>
            <p:cNvSpPr/>
            <p:nvPr/>
          </p:nvSpPr>
          <p:spPr>
            <a:xfrm rot="16200000">
              <a:off x="1716120" y="37620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6" name=""/>
            <p:cNvSpPr/>
            <p:nvPr/>
          </p:nvSpPr>
          <p:spPr>
            <a:xfrm rot="16200000">
              <a:off x="1691640" y="36903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7" name=""/>
            <p:cNvSpPr/>
            <p:nvPr/>
          </p:nvSpPr>
          <p:spPr>
            <a:xfrm rot="16200000">
              <a:off x="1691280" y="37375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8" name=""/>
          <p:cNvGrpSpPr/>
          <p:nvPr/>
        </p:nvGrpSpPr>
        <p:grpSpPr>
          <a:xfrm>
            <a:off x="2100240" y="3209400"/>
            <a:ext cx="97200" cy="95400"/>
            <a:chOff x="2100240" y="3209400"/>
            <a:chExt cx="97200" cy="95400"/>
          </a:xfrm>
        </p:grpSpPr>
        <p:sp>
          <p:nvSpPr>
            <p:cNvPr id="9739" name=""/>
            <p:cNvSpPr/>
            <p:nvPr/>
          </p:nvSpPr>
          <p:spPr>
            <a:xfrm rot="16200000">
              <a:off x="2052720" y="3256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0" name=""/>
            <p:cNvSpPr/>
            <p:nvPr/>
          </p:nvSpPr>
          <p:spPr>
            <a:xfrm rot="16200000">
              <a:off x="2149560" y="32569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1" name=""/>
            <p:cNvSpPr/>
            <p:nvPr/>
          </p:nvSpPr>
          <p:spPr>
            <a:xfrm rot="16200000">
              <a:off x="2124720" y="31845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2" name=""/>
            <p:cNvSpPr/>
            <p:nvPr/>
          </p:nvSpPr>
          <p:spPr>
            <a:xfrm rot="16200000">
              <a:off x="2124720" y="32324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3" name=""/>
          <p:cNvGrpSpPr/>
          <p:nvPr/>
        </p:nvGrpSpPr>
        <p:grpSpPr>
          <a:xfrm>
            <a:off x="1895400" y="3519360"/>
            <a:ext cx="88920" cy="93960"/>
            <a:chOff x="1895400" y="3519360"/>
            <a:chExt cx="88920" cy="93960"/>
          </a:xfrm>
        </p:grpSpPr>
        <p:sp>
          <p:nvSpPr>
            <p:cNvPr id="9744" name=""/>
            <p:cNvSpPr/>
            <p:nvPr/>
          </p:nvSpPr>
          <p:spPr>
            <a:xfrm>
              <a:off x="1895400" y="35193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1895400" y="35946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1939680" y="3519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1895400" y="35193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8" name=""/>
          <p:cNvGrpSpPr/>
          <p:nvPr/>
        </p:nvGrpSpPr>
        <p:grpSpPr>
          <a:xfrm>
            <a:off x="1695600" y="3514320"/>
            <a:ext cx="97200" cy="95400"/>
            <a:chOff x="1695600" y="3514320"/>
            <a:chExt cx="97200" cy="95400"/>
          </a:xfrm>
        </p:grpSpPr>
        <p:sp>
          <p:nvSpPr>
            <p:cNvPr id="9749" name=""/>
            <p:cNvSpPr/>
            <p:nvPr/>
          </p:nvSpPr>
          <p:spPr>
            <a:xfrm rot="16200000">
              <a:off x="1648080" y="356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0" name=""/>
            <p:cNvSpPr/>
            <p:nvPr/>
          </p:nvSpPr>
          <p:spPr>
            <a:xfrm rot="16200000">
              <a:off x="1744920" y="356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1" name=""/>
            <p:cNvSpPr/>
            <p:nvPr/>
          </p:nvSpPr>
          <p:spPr>
            <a:xfrm rot="16200000">
              <a:off x="1720080" y="3489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2" name=""/>
            <p:cNvSpPr/>
            <p:nvPr/>
          </p:nvSpPr>
          <p:spPr>
            <a:xfrm rot="16200000">
              <a:off x="1720080" y="3537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3" name=""/>
          <p:cNvGrpSpPr/>
          <p:nvPr/>
        </p:nvGrpSpPr>
        <p:grpSpPr>
          <a:xfrm>
            <a:off x="1685880" y="3200040"/>
            <a:ext cx="97200" cy="95400"/>
            <a:chOff x="1685880" y="3200040"/>
            <a:chExt cx="97200" cy="95400"/>
          </a:xfrm>
        </p:grpSpPr>
        <p:sp>
          <p:nvSpPr>
            <p:cNvPr id="9754" name=""/>
            <p:cNvSpPr/>
            <p:nvPr/>
          </p:nvSpPr>
          <p:spPr>
            <a:xfrm rot="16200000">
              <a:off x="1638360" y="324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5" name=""/>
            <p:cNvSpPr/>
            <p:nvPr/>
          </p:nvSpPr>
          <p:spPr>
            <a:xfrm rot="16200000">
              <a:off x="1735200" y="32475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6" name=""/>
            <p:cNvSpPr/>
            <p:nvPr/>
          </p:nvSpPr>
          <p:spPr>
            <a:xfrm rot="16200000">
              <a:off x="1710360" y="31752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7" name=""/>
            <p:cNvSpPr/>
            <p:nvPr/>
          </p:nvSpPr>
          <p:spPr>
            <a:xfrm rot="16200000">
              <a:off x="1710360" y="32230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8" name=""/>
          <p:cNvGrpSpPr/>
          <p:nvPr/>
        </p:nvGrpSpPr>
        <p:grpSpPr>
          <a:xfrm>
            <a:off x="1424160" y="3738240"/>
            <a:ext cx="149400" cy="74520"/>
            <a:chOff x="1424160" y="3738240"/>
            <a:chExt cx="149400" cy="74520"/>
          </a:xfrm>
        </p:grpSpPr>
        <p:sp>
          <p:nvSpPr>
            <p:cNvPr id="9759" name=""/>
            <p:cNvSpPr/>
            <p:nvPr/>
          </p:nvSpPr>
          <p:spPr>
            <a:xfrm rot="16200000">
              <a:off x="1387080" y="3775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0" name=""/>
            <p:cNvSpPr/>
            <p:nvPr/>
          </p:nvSpPr>
          <p:spPr>
            <a:xfrm rot="16200000">
              <a:off x="1536120" y="37753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1" name=""/>
            <p:cNvSpPr/>
            <p:nvPr/>
          </p:nvSpPr>
          <p:spPr>
            <a:xfrm rot="16200000">
              <a:off x="1479960" y="368244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2" name=""/>
            <p:cNvSpPr/>
            <p:nvPr/>
          </p:nvSpPr>
          <p:spPr>
            <a:xfrm rot="16200000">
              <a:off x="1479960" y="371952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3" name=""/>
          <p:cNvGrpSpPr/>
          <p:nvPr/>
        </p:nvGrpSpPr>
        <p:grpSpPr>
          <a:xfrm>
            <a:off x="1379160" y="3894120"/>
            <a:ext cx="206280" cy="193680"/>
            <a:chOff x="1379160" y="3894120"/>
            <a:chExt cx="206280" cy="193680"/>
          </a:xfrm>
        </p:grpSpPr>
        <p:sp>
          <p:nvSpPr>
            <p:cNvPr id="9764" name=""/>
            <p:cNvSpPr/>
            <p:nvPr/>
          </p:nvSpPr>
          <p:spPr>
            <a:xfrm rot="5400000">
              <a:off x="1530000" y="3858120"/>
              <a:ext cx="19440" cy="91080"/>
            </a:xfrm>
            <a:custGeom>
              <a:avLst/>
              <a:gdLst/>
              <a:ahLst/>
              <a:rect l="l" t="t" r="r" b="b"/>
              <a:pathLst>
                <a:path w="104" h="408">
                  <a:moveTo>
                    <a:pt x="0" y="0"/>
                  </a:moveTo>
                  <a:lnTo>
                    <a:pt x="0" y="408"/>
                  </a:lnTo>
                  <a:lnTo>
                    <a:pt x="104" y="2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5" name=""/>
            <p:cNvSpPr/>
            <p:nvPr/>
          </p:nvSpPr>
          <p:spPr>
            <a:xfrm rot="5400000">
              <a:off x="1530360" y="4032720"/>
              <a:ext cx="19080" cy="91080"/>
            </a:xfrm>
            <a:custGeom>
              <a:avLst/>
              <a:gdLst/>
              <a:ahLst/>
              <a:rect l="l" t="t" r="r" b="b"/>
              <a:pathLst>
                <a:path w="101" h="408">
                  <a:moveTo>
                    <a:pt x="101" y="0"/>
                  </a:moveTo>
                  <a:lnTo>
                    <a:pt x="101" y="408"/>
                  </a:lnTo>
                  <a:lnTo>
                    <a:pt x="0" y="205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6" name=""/>
            <p:cNvSpPr/>
            <p:nvPr/>
          </p:nvSpPr>
          <p:spPr>
            <a:xfrm rot="5400000">
              <a:off x="1465560" y="3967920"/>
              <a:ext cx="193680" cy="45720"/>
            </a:xfrm>
            <a:custGeom>
              <a:avLst/>
              <a:gdLst/>
              <a:ahLst/>
              <a:rect l="l" t="t" r="r" b="b"/>
              <a:pathLst>
                <a:path w="1026" h="205">
                  <a:moveTo>
                    <a:pt x="0" y="0"/>
                  </a:moveTo>
                  <a:lnTo>
                    <a:pt x="104" y="205"/>
                  </a:lnTo>
                  <a:lnTo>
                    <a:pt x="925" y="205"/>
                  </a:lnTo>
                  <a:lnTo>
                    <a:pt x="10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7" name=""/>
            <p:cNvSpPr/>
            <p:nvPr/>
          </p:nvSpPr>
          <p:spPr>
            <a:xfrm rot="5400000">
              <a:off x="1420200" y="3968280"/>
              <a:ext cx="193680" cy="45000"/>
            </a:xfrm>
            <a:custGeom>
              <a:avLst/>
              <a:gdLst/>
              <a:ahLst/>
              <a:rect l="l" t="t" r="r" b="b"/>
              <a:pathLst>
                <a:path w="1026" h="203">
                  <a:moveTo>
                    <a:pt x="0" y="203"/>
                  </a:moveTo>
                  <a:lnTo>
                    <a:pt x="104" y="0"/>
                  </a:lnTo>
                  <a:lnTo>
                    <a:pt x="925" y="0"/>
                  </a:lnTo>
                  <a:lnTo>
                    <a:pt x="1026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8" name=""/>
            <p:cNvSpPr/>
            <p:nvPr/>
          </p:nvSpPr>
          <p:spPr>
            <a:xfrm rot="5400000">
              <a:off x="1354320" y="3976920"/>
              <a:ext cx="77040" cy="27720"/>
            </a:xfrm>
            <a:custGeom>
              <a:avLst/>
              <a:gdLst/>
              <a:ahLst/>
              <a:rect l="l" t="t" r="r" b="b"/>
              <a:pathLst>
                <a:path w="408" h="125">
                  <a:moveTo>
                    <a:pt x="0" y="125"/>
                  </a:moveTo>
                  <a:lnTo>
                    <a:pt x="408" y="125"/>
                  </a:lnTo>
                  <a:lnTo>
                    <a:pt x="203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9" name=""/>
            <p:cNvSpPr/>
            <p:nvPr/>
          </p:nvSpPr>
          <p:spPr>
            <a:xfrm rot="5400000">
              <a:off x="1489320" y="3979800"/>
              <a:ext cx="77040" cy="22320"/>
            </a:xfrm>
            <a:custGeom>
              <a:avLst/>
              <a:gdLst/>
              <a:ahLst/>
              <a:rect l="l" t="t" r="r" b="b"/>
              <a:pathLst>
                <a:path w="408" h="101">
                  <a:moveTo>
                    <a:pt x="0" y="101"/>
                  </a:moveTo>
                  <a:lnTo>
                    <a:pt x="408" y="101"/>
                  </a:lnTo>
                  <a:lnTo>
                    <a:pt x="203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0" name=""/>
            <p:cNvSpPr/>
            <p:nvPr/>
          </p:nvSpPr>
          <p:spPr>
            <a:xfrm rot="5400000">
              <a:off x="1440000" y="3891600"/>
              <a:ext cx="38160" cy="159840"/>
            </a:xfrm>
            <a:custGeom>
              <a:avLst/>
              <a:gdLst/>
              <a:ahLst/>
              <a:rect l="l" t="t" r="r" b="b"/>
              <a:pathLst>
                <a:path w="203" h="717">
                  <a:moveTo>
                    <a:pt x="0" y="717"/>
                  </a:moveTo>
                  <a:lnTo>
                    <a:pt x="203" y="592"/>
                  </a:lnTo>
                  <a:lnTo>
                    <a:pt x="203" y="0"/>
                  </a:lnTo>
                  <a:lnTo>
                    <a:pt x="0" y="101"/>
                  </a:lnTo>
                  <a:lnTo>
                    <a:pt x="0" y="717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1" name=""/>
            <p:cNvSpPr/>
            <p:nvPr/>
          </p:nvSpPr>
          <p:spPr>
            <a:xfrm rot="5400000">
              <a:off x="1439640" y="3929760"/>
              <a:ext cx="38520" cy="159840"/>
            </a:xfrm>
            <a:custGeom>
              <a:avLst/>
              <a:gdLst/>
              <a:ahLst/>
              <a:rect l="l" t="t" r="r" b="b"/>
              <a:pathLst>
                <a:path w="205" h="717">
                  <a:moveTo>
                    <a:pt x="205" y="717"/>
                  </a:moveTo>
                  <a:lnTo>
                    <a:pt x="0" y="592"/>
                  </a:lnTo>
                  <a:lnTo>
                    <a:pt x="0" y="0"/>
                  </a:lnTo>
                  <a:lnTo>
                    <a:pt x="205" y="101"/>
                  </a:lnTo>
                  <a:lnTo>
                    <a:pt x="205" y="717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2" name=""/>
          <p:cNvGrpSpPr/>
          <p:nvPr/>
        </p:nvGrpSpPr>
        <p:grpSpPr>
          <a:xfrm>
            <a:off x="3909960" y="2971440"/>
            <a:ext cx="152280" cy="74520"/>
            <a:chOff x="3909960" y="2971440"/>
            <a:chExt cx="152280" cy="74520"/>
          </a:xfrm>
        </p:grpSpPr>
        <p:sp>
          <p:nvSpPr>
            <p:cNvPr id="9773" name=""/>
            <p:cNvSpPr/>
            <p:nvPr/>
          </p:nvSpPr>
          <p:spPr>
            <a:xfrm rot="16200000">
              <a:off x="3887640" y="2993400"/>
              <a:ext cx="7452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4" name=""/>
            <p:cNvSpPr/>
            <p:nvPr/>
          </p:nvSpPr>
          <p:spPr>
            <a:xfrm rot="16200000">
              <a:off x="4009680" y="2993400"/>
              <a:ext cx="7452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5" name=""/>
            <p:cNvSpPr/>
            <p:nvPr/>
          </p:nvSpPr>
          <p:spPr>
            <a:xfrm rot="16200000">
              <a:off x="3967560" y="291420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6" name=""/>
            <p:cNvSpPr/>
            <p:nvPr/>
          </p:nvSpPr>
          <p:spPr>
            <a:xfrm rot="16200000">
              <a:off x="3967560" y="2951280"/>
              <a:ext cx="37080" cy="15228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7" name=""/>
          <p:cNvGrpSpPr/>
          <p:nvPr/>
        </p:nvGrpSpPr>
        <p:grpSpPr>
          <a:xfrm>
            <a:off x="3483720" y="3249720"/>
            <a:ext cx="97200" cy="95040"/>
            <a:chOff x="3483720" y="3249720"/>
            <a:chExt cx="97200" cy="95040"/>
          </a:xfrm>
        </p:grpSpPr>
        <p:sp>
          <p:nvSpPr>
            <p:cNvPr id="9778" name=""/>
            <p:cNvSpPr/>
            <p:nvPr/>
          </p:nvSpPr>
          <p:spPr>
            <a:xfrm rot="5400000">
              <a:off x="3533040" y="329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9" name=""/>
            <p:cNvSpPr/>
            <p:nvPr/>
          </p:nvSpPr>
          <p:spPr>
            <a:xfrm rot="5400000">
              <a:off x="3436200" y="329688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0" name=""/>
            <p:cNvSpPr/>
            <p:nvPr/>
          </p:nvSpPr>
          <p:spPr>
            <a:xfrm rot="5400000">
              <a:off x="3508920" y="327240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1" name=""/>
            <p:cNvSpPr/>
            <p:nvPr/>
          </p:nvSpPr>
          <p:spPr>
            <a:xfrm rot="5400000">
              <a:off x="3508560" y="32248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2" name=""/>
          <p:cNvGrpSpPr/>
          <p:nvPr/>
        </p:nvGrpSpPr>
        <p:grpSpPr>
          <a:xfrm>
            <a:off x="3711600" y="3251160"/>
            <a:ext cx="93600" cy="88920"/>
            <a:chOff x="3711600" y="3251160"/>
            <a:chExt cx="93600" cy="88920"/>
          </a:xfrm>
        </p:grpSpPr>
        <p:sp>
          <p:nvSpPr>
            <p:cNvPr id="9783" name=""/>
            <p:cNvSpPr/>
            <p:nvPr/>
          </p:nvSpPr>
          <p:spPr>
            <a:xfrm rot="5400000">
              <a:off x="3751560" y="32864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4" name=""/>
            <p:cNvSpPr/>
            <p:nvPr/>
          </p:nvSpPr>
          <p:spPr>
            <a:xfrm rot="5400000">
              <a:off x="3676320" y="32860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5" name=""/>
            <p:cNvSpPr/>
            <p:nvPr/>
          </p:nvSpPr>
          <p:spPr>
            <a:xfrm rot="5400000">
              <a:off x="3736080" y="3270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6" name=""/>
            <p:cNvSpPr/>
            <p:nvPr/>
          </p:nvSpPr>
          <p:spPr>
            <a:xfrm rot="5400000">
              <a:off x="3736080" y="32263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7" name=""/>
          <p:cNvGrpSpPr/>
          <p:nvPr/>
        </p:nvGrpSpPr>
        <p:grpSpPr>
          <a:xfrm>
            <a:off x="3751200" y="3440160"/>
            <a:ext cx="74520" cy="149400"/>
            <a:chOff x="3751200" y="3440160"/>
            <a:chExt cx="74520" cy="149400"/>
          </a:xfrm>
        </p:grpSpPr>
        <p:sp>
          <p:nvSpPr>
            <p:cNvPr id="9788" name=""/>
            <p:cNvSpPr/>
            <p:nvPr/>
          </p:nvSpPr>
          <p:spPr>
            <a:xfrm>
              <a:off x="3751200" y="344016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3751200" y="358920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3788280" y="344016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3751200" y="344016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2" name=""/>
          <p:cNvGrpSpPr/>
          <p:nvPr/>
        </p:nvGrpSpPr>
        <p:grpSpPr>
          <a:xfrm>
            <a:off x="3935160" y="3255840"/>
            <a:ext cx="149400" cy="74880"/>
            <a:chOff x="3935160" y="3255840"/>
            <a:chExt cx="149400" cy="74880"/>
          </a:xfrm>
        </p:grpSpPr>
        <p:sp>
          <p:nvSpPr>
            <p:cNvPr id="9793" name=""/>
            <p:cNvSpPr/>
            <p:nvPr/>
          </p:nvSpPr>
          <p:spPr>
            <a:xfrm rot="5400000">
              <a:off x="4046760" y="329292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4" name=""/>
            <p:cNvSpPr/>
            <p:nvPr/>
          </p:nvSpPr>
          <p:spPr>
            <a:xfrm rot="5400000">
              <a:off x="3897720" y="3292920"/>
              <a:ext cx="7488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5" name=""/>
            <p:cNvSpPr/>
            <p:nvPr/>
          </p:nvSpPr>
          <p:spPr>
            <a:xfrm rot="5400000">
              <a:off x="3991320" y="3237120"/>
              <a:ext cx="37440" cy="1490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6" name=""/>
            <p:cNvSpPr/>
            <p:nvPr/>
          </p:nvSpPr>
          <p:spPr>
            <a:xfrm rot="5400000">
              <a:off x="3991320" y="3199680"/>
              <a:ext cx="37080" cy="1490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7" name=""/>
          <p:cNvGrpSpPr/>
          <p:nvPr/>
        </p:nvGrpSpPr>
        <p:grpSpPr>
          <a:xfrm>
            <a:off x="4192560" y="2838600"/>
            <a:ext cx="88920" cy="93600"/>
            <a:chOff x="4192560" y="2838600"/>
            <a:chExt cx="88920" cy="93600"/>
          </a:xfrm>
        </p:grpSpPr>
        <p:sp>
          <p:nvSpPr>
            <p:cNvPr id="9798" name=""/>
            <p:cNvSpPr/>
            <p:nvPr/>
          </p:nvSpPr>
          <p:spPr>
            <a:xfrm>
              <a:off x="4192560" y="283860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4192560" y="29134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4236840" y="283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4192560" y="28386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2" name=""/>
          <p:cNvGrpSpPr/>
          <p:nvPr/>
        </p:nvGrpSpPr>
        <p:grpSpPr>
          <a:xfrm>
            <a:off x="3952800" y="2800440"/>
            <a:ext cx="95400" cy="97200"/>
            <a:chOff x="3952800" y="2800440"/>
            <a:chExt cx="95400" cy="97200"/>
          </a:xfrm>
        </p:grpSpPr>
        <p:sp>
          <p:nvSpPr>
            <p:cNvPr id="9803" name=""/>
            <p:cNvSpPr/>
            <p:nvPr/>
          </p:nvSpPr>
          <p:spPr>
            <a:xfrm>
              <a:off x="3952800" y="28004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3952800" y="28972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4000680" y="28004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3952800" y="280044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7" name=""/>
          <p:cNvGrpSpPr/>
          <p:nvPr/>
        </p:nvGrpSpPr>
        <p:grpSpPr>
          <a:xfrm>
            <a:off x="4390920" y="3914640"/>
            <a:ext cx="74880" cy="152640"/>
            <a:chOff x="4390920" y="3914640"/>
            <a:chExt cx="74880" cy="152640"/>
          </a:xfrm>
        </p:grpSpPr>
        <p:sp>
          <p:nvSpPr>
            <p:cNvPr id="9808" name=""/>
            <p:cNvSpPr/>
            <p:nvPr/>
          </p:nvSpPr>
          <p:spPr>
            <a:xfrm rot="10800000">
              <a:off x="4390920" y="4037040"/>
              <a:ext cx="748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9" name=""/>
            <p:cNvSpPr/>
            <p:nvPr/>
          </p:nvSpPr>
          <p:spPr>
            <a:xfrm rot="10800000">
              <a:off x="4390920" y="3914640"/>
              <a:ext cx="748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0" name=""/>
            <p:cNvSpPr/>
            <p:nvPr/>
          </p:nvSpPr>
          <p:spPr>
            <a:xfrm rot="10800000">
              <a:off x="4390920" y="3914640"/>
              <a:ext cx="3744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1" name=""/>
            <p:cNvSpPr/>
            <p:nvPr/>
          </p:nvSpPr>
          <p:spPr>
            <a:xfrm rot="10800000">
              <a:off x="4428360" y="3914640"/>
              <a:ext cx="3744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2" name=""/>
          <p:cNvGrpSpPr/>
          <p:nvPr/>
        </p:nvGrpSpPr>
        <p:grpSpPr>
          <a:xfrm>
            <a:off x="3936240" y="2581200"/>
            <a:ext cx="97200" cy="95400"/>
            <a:chOff x="3936240" y="2581200"/>
            <a:chExt cx="97200" cy="95400"/>
          </a:xfrm>
        </p:grpSpPr>
        <p:sp>
          <p:nvSpPr>
            <p:cNvPr id="9813" name=""/>
            <p:cNvSpPr/>
            <p:nvPr/>
          </p:nvSpPr>
          <p:spPr>
            <a:xfrm rot="5400000">
              <a:off x="3985560" y="2628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4" name=""/>
            <p:cNvSpPr/>
            <p:nvPr/>
          </p:nvSpPr>
          <p:spPr>
            <a:xfrm rot="5400000">
              <a:off x="3888720" y="262872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5" name=""/>
            <p:cNvSpPr/>
            <p:nvPr/>
          </p:nvSpPr>
          <p:spPr>
            <a:xfrm rot="5400000">
              <a:off x="3961080" y="260424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6" name=""/>
            <p:cNvSpPr/>
            <p:nvPr/>
          </p:nvSpPr>
          <p:spPr>
            <a:xfrm rot="5400000">
              <a:off x="3961080" y="255672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7" name=""/>
          <p:cNvGrpSpPr/>
          <p:nvPr/>
        </p:nvGrpSpPr>
        <p:grpSpPr>
          <a:xfrm>
            <a:off x="3746520" y="2831760"/>
            <a:ext cx="93600" cy="88920"/>
            <a:chOff x="3746520" y="2831760"/>
            <a:chExt cx="93600" cy="88920"/>
          </a:xfrm>
        </p:grpSpPr>
        <p:sp>
          <p:nvSpPr>
            <p:cNvPr id="9818" name=""/>
            <p:cNvSpPr/>
            <p:nvPr/>
          </p:nvSpPr>
          <p:spPr>
            <a:xfrm rot="16200000">
              <a:off x="3711240" y="286704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 rot="16200000">
              <a:off x="3786120" y="286668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 rot="16200000">
              <a:off x="3771000" y="28072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 rot="16200000">
              <a:off x="3771000" y="2851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2" name=""/>
          <p:cNvGrpSpPr/>
          <p:nvPr/>
        </p:nvGrpSpPr>
        <p:grpSpPr>
          <a:xfrm>
            <a:off x="3459240" y="2984400"/>
            <a:ext cx="93600" cy="88920"/>
            <a:chOff x="3459240" y="2984400"/>
            <a:chExt cx="93600" cy="88920"/>
          </a:xfrm>
        </p:grpSpPr>
        <p:sp>
          <p:nvSpPr>
            <p:cNvPr id="9823" name=""/>
            <p:cNvSpPr/>
            <p:nvPr/>
          </p:nvSpPr>
          <p:spPr>
            <a:xfrm rot="5400000">
              <a:off x="3499200" y="30196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4" name=""/>
            <p:cNvSpPr/>
            <p:nvPr/>
          </p:nvSpPr>
          <p:spPr>
            <a:xfrm rot="5400000">
              <a:off x="3423960" y="30193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5" name=""/>
            <p:cNvSpPr/>
            <p:nvPr/>
          </p:nvSpPr>
          <p:spPr>
            <a:xfrm rot="5400000">
              <a:off x="3483720" y="30038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 rot="5400000">
              <a:off x="3483720" y="2959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7" name=""/>
          <p:cNvGrpSpPr/>
          <p:nvPr/>
        </p:nvGrpSpPr>
        <p:grpSpPr>
          <a:xfrm>
            <a:off x="3955320" y="3492360"/>
            <a:ext cx="97200" cy="95400"/>
            <a:chOff x="3955320" y="3492360"/>
            <a:chExt cx="97200" cy="95400"/>
          </a:xfrm>
        </p:grpSpPr>
        <p:sp>
          <p:nvSpPr>
            <p:cNvPr id="9828" name=""/>
            <p:cNvSpPr/>
            <p:nvPr/>
          </p:nvSpPr>
          <p:spPr>
            <a:xfrm rot="5400000">
              <a:off x="4004640" y="3539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9" name=""/>
            <p:cNvSpPr/>
            <p:nvPr/>
          </p:nvSpPr>
          <p:spPr>
            <a:xfrm rot="5400000">
              <a:off x="3907800" y="353988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0" name=""/>
            <p:cNvSpPr/>
            <p:nvPr/>
          </p:nvSpPr>
          <p:spPr>
            <a:xfrm rot="5400000">
              <a:off x="3980160" y="351540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1" name=""/>
            <p:cNvSpPr/>
            <p:nvPr/>
          </p:nvSpPr>
          <p:spPr>
            <a:xfrm rot="5400000">
              <a:off x="3980160" y="346788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2" name=""/>
          <p:cNvGrpSpPr/>
          <p:nvPr/>
        </p:nvGrpSpPr>
        <p:grpSpPr>
          <a:xfrm>
            <a:off x="3214440" y="2976480"/>
            <a:ext cx="152280" cy="152640"/>
            <a:chOff x="3214440" y="2976480"/>
            <a:chExt cx="152280" cy="152640"/>
          </a:xfrm>
        </p:grpSpPr>
        <p:sp>
          <p:nvSpPr>
            <p:cNvPr id="9833" name=""/>
            <p:cNvSpPr/>
            <p:nvPr/>
          </p:nvSpPr>
          <p:spPr>
            <a:xfrm rot="10800000">
              <a:off x="3214440" y="309888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 rot="10800000">
              <a:off x="3214440" y="297648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 rot="10800000">
              <a:off x="3214800" y="297648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6" name=""/>
            <p:cNvSpPr/>
            <p:nvPr/>
          </p:nvSpPr>
          <p:spPr>
            <a:xfrm rot="10800000">
              <a:off x="3290760" y="297648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7" name=""/>
          <p:cNvGrpSpPr/>
          <p:nvPr/>
        </p:nvGrpSpPr>
        <p:grpSpPr>
          <a:xfrm>
            <a:off x="3043080" y="2338560"/>
            <a:ext cx="88920" cy="93600"/>
            <a:chOff x="3043080" y="2338560"/>
            <a:chExt cx="88920" cy="93600"/>
          </a:xfrm>
        </p:grpSpPr>
        <p:sp>
          <p:nvSpPr>
            <p:cNvPr id="9838" name=""/>
            <p:cNvSpPr/>
            <p:nvPr/>
          </p:nvSpPr>
          <p:spPr>
            <a:xfrm>
              <a:off x="3043080" y="233856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3043080" y="241344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3087360" y="2338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3043080" y="233856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2" name=""/>
          <p:cNvGrpSpPr/>
          <p:nvPr/>
        </p:nvGrpSpPr>
        <p:grpSpPr>
          <a:xfrm>
            <a:off x="3065400" y="2565000"/>
            <a:ext cx="93600" cy="88920"/>
            <a:chOff x="3065400" y="2565000"/>
            <a:chExt cx="93600" cy="88920"/>
          </a:xfrm>
        </p:grpSpPr>
        <p:sp>
          <p:nvSpPr>
            <p:cNvPr id="9843" name=""/>
            <p:cNvSpPr/>
            <p:nvPr/>
          </p:nvSpPr>
          <p:spPr>
            <a:xfrm rot="16200000">
              <a:off x="3030120" y="26002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 rot="16200000">
              <a:off x="3105000" y="259992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 rot="16200000">
              <a:off x="3089880" y="25405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6" name=""/>
            <p:cNvSpPr/>
            <p:nvPr/>
          </p:nvSpPr>
          <p:spPr>
            <a:xfrm rot="16200000">
              <a:off x="3089880" y="258480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7" name=""/>
          <p:cNvGrpSpPr/>
          <p:nvPr/>
        </p:nvGrpSpPr>
        <p:grpSpPr>
          <a:xfrm>
            <a:off x="2836800" y="2558520"/>
            <a:ext cx="97200" cy="95400"/>
            <a:chOff x="2836800" y="2558520"/>
            <a:chExt cx="97200" cy="95400"/>
          </a:xfrm>
        </p:grpSpPr>
        <p:sp>
          <p:nvSpPr>
            <p:cNvPr id="9848" name=""/>
            <p:cNvSpPr/>
            <p:nvPr/>
          </p:nvSpPr>
          <p:spPr>
            <a:xfrm rot="16200000">
              <a:off x="2789280" y="2606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9" name=""/>
            <p:cNvSpPr/>
            <p:nvPr/>
          </p:nvSpPr>
          <p:spPr>
            <a:xfrm rot="16200000">
              <a:off x="2886120" y="2606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0" name=""/>
            <p:cNvSpPr/>
            <p:nvPr/>
          </p:nvSpPr>
          <p:spPr>
            <a:xfrm rot="16200000">
              <a:off x="2861280" y="25336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1" name=""/>
            <p:cNvSpPr/>
            <p:nvPr/>
          </p:nvSpPr>
          <p:spPr>
            <a:xfrm rot="16200000">
              <a:off x="2861280" y="2581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2" name=""/>
          <p:cNvGrpSpPr/>
          <p:nvPr/>
        </p:nvGrpSpPr>
        <p:grpSpPr>
          <a:xfrm>
            <a:off x="2341440" y="3244320"/>
            <a:ext cx="97200" cy="95400"/>
            <a:chOff x="2341440" y="3244320"/>
            <a:chExt cx="97200" cy="95400"/>
          </a:xfrm>
        </p:grpSpPr>
        <p:sp>
          <p:nvSpPr>
            <p:cNvPr id="9853" name=""/>
            <p:cNvSpPr/>
            <p:nvPr/>
          </p:nvSpPr>
          <p:spPr>
            <a:xfrm rot="16200000">
              <a:off x="2293920" y="329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4" name=""/>
            <p:cNvSpPr/>
            <p:nvPr/>
          </p:nvSpPr>
          <p:spPr>
            <a:xfrm rot="16200000">
              <a:off x="2390760" y="32918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5" name=""/>
            <p:cNvSpPr/>
            <p:nvPr/>
          </p:nvSpPr>
          <p:spPr>
            <a:xfrm rot="16200000">
              <a:off x="2365920" y="32194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6" name=""/>
            <p:cNvSpPr/>
            <p:nvPr/>
          </p:nvSpPr>
          <p:spPr>
            <a:xfrm rot="16200000">
              <a:off x="2365920" y="3267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7" name=""/>
          <p:cNvGrpSpPr/>
          <p:nvPr/>
        </p:nvGrpSpPr>
        <p:grpSpPr>
          <a:xfrm>
            <a:off x="1938240" y="2962440"/>
            <a:ext cx="97200" cy="95040"/>
            <a:chOff x="1938240" y="2962440"/>
            <a:chExt cx="97200" cy="95040"/>
          </a:xfrm>
        </p:grpSpPr>
        <p:sp>
          <p:nvSpPr>
            <p:cNvPr id="9858" name=""/>
            <p:cNvSpPr/>
            <p:nvPr/>
          </p:nvSpPr>
          <p:spPr>
            <a:xfrm rot="16200000">
              <a:off x="1890720" y="3009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9" name=""/>
            <p:cNvSpPr/>
            <p:nvPr/>
          </p:nvSpPr>
          <p:spPr>
            <a:xfrm rot="16200000">
              <a:off x="1987560" y="300960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0" name=""/>
            <p:cNvSpPr/>
            <p:nvPr/>
          </p:nvSpPr>
          <p:spPr>
            <a:xfrm rot="16200000">
              <a:off x="1963080" y="293796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1" name=""/>
            <p:cNvSpPr/>
            <p:nvPr/>
          </p:nvSpPr>
          <p:spPr>
            <a:xfrm rot="16200000">
              <a:off x="1962720" y="298512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2" name=""/>
          <p:cNvGrpSpPr/>
          <p:nvPr/>
        </p:nvGrpSpPr>
        <p:grpSpPr>
          <a:xfrm>
            <a:off x="2195640" y="2757600"/>
            <a:ext cx="97200" cy="95040"/>
            <a:chOff x="2195640" y="2757600"/>
            <a:chExt cx="97200" cy="95040"/>
          </a:xfrm>
        </p:grpSpPr>
        <p:sp>
          <p:nvSpPr>
            <p:cNvPr id="9863" name=""/>
            <p:cNvSpPr/>
            <p:nvPr/>
          </p:nvSpPr>
          <p:spPr>
            <a:xfrm rot="16200000">
              <a:off x="2148120" y="2804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4" name=""/>
            <p:cNvSpPr/>
            <p:nvPr/>
          </p:nvSpPr>
          <p:spPr>
            <a:xfrm rot="16200000">
              <a:off x="2244960" y="2804760"/>
              <a:ext cx="9504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5" name=""/>
            <p:cNvSpPr/>
            <p:nvPr/>
          </p:nvSpPr>
          <p:spPr>
            <a:xfrm rot="16200000">
              <a:off x="2220480" y="2733120"/>
              <a:ext cx="4716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6" name=""/>
            <p:cNvSpPr/>
            <p:nvPr/>
          </p:nvSpPr>
          <p:spPr>
            <a:xfrm rot="16200000">
              <a:off x="2220120" y="2780280"/>
              <a:ext cx="4752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7" name=""/>
          <p:cNvGrpSpPr/>
          <p:nvPr/>
        </p:nvGrpSpPr>
        <p:grpSpPr>
          <a:xfrm>
            <a:off x="2552760" y="2585520"/>
            <a:ext cx="97200" cy="95400"/>
            <a:chOff x="2552760" y="2585520"/>
            <a:chExt cx="97200" cy="95400"/>
          </a:xfrm>
        </p:grpSpPr>
        <p:sp>
          <p:nvSpPr>
            <p:cNvPr id="9868" name=""/>
            <p:cNvSpPr/>
            <p:nvPr/>
          </p:nvSpPr>
          <p:spPr>
            <a:xfrm rot="16200000">
              <a:off x="2505240" y="2633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9" name=""/>
            <p:cNvSpPr/>
            <p:nvPr/>
          </p:nvSpPr>
          <p:spPr>
            <a:xfrm rot="16200000">
              <a:off x="2602080" y="26330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0" name=""/>
            <p:cNvSpPr/>
            <p:nvPr/>
          </p:nvSpPr>
          <p:spPr>
            <a:xfrm rot="16200000">
              <a:off x="2577240" y="25606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1" name=""/>
            <p:cNvSpPr/>
            <p:nvPr/>
          </p:nvSpPr>
          <p:spPr>
            <a:xfrm rot="16200000">
              <a:off x="2577240" y="26085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2" name=""/>
          <p:cNvGrpSpPr/>
          <p:nvPr/>
        </p:nvGrpSpPr>
        <p:grpSpPr>
          <a:xfrm>
            <a:off x="2538360" y="3099960"/>
            <a:ext cx="149760" cy="74520"/>
            <a:chOff x="2538360" y="3099960"/>
            <a:chExt cx="149760" cy="74520"/>
          </a:xfrm>
        </p:grpSpPr>
        <p:sp>
          <p:nvSpPr>
            <p:cNvPr id="9873" name=""/>
            <p:cNvSpPr/>
            <p:nvPr/>
          </p:nvSpPr>
          <p:spPr>
            <a:xfrm rot="16200000">
              <a:off x="2501280" y="3137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4" name=""/>
            <p:cNvSpPr/>
            <p:nvPr/>
          </p:nvSpPr>
          <p:spPr>
            <a:xfrm rot="16200000">
              <a:off x="2650680" y="313704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5" name=""/>
            <p:cNvSpPr/>
            <p:nvPr/>
          </p:nvSpPr>
          <p:spPr>
            <a:xfrm rot="16200000">
              <a:off x="2594160" y="304380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6" name=""/>
            <p:cNvSpPr/>
            <p:nvPr/>
          </p:nvSpPr>
          <p:spPr>
            <a:xfrm rot="16200000">
              <a:off x="2594520" y="308124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7" name=""/>
          <p:cNvGrpSpPr/>
          <p:nvPr/>
        </p:nvGrpSpPr>
        <p:grpSpPr>
          <a:xfrm>
            <a:off x="2557440" y="3233880"/>
            <a:ext cx="88920" cy="93600"/>
            <a:chOff x="2557440" y="3233880"/>
            <a:chExt cx="88920" cy="93600"/>
          </a:xfrm>
        </p:grpSpPr>
        <p:sp>
          <p:nvSpPr>
            <p:cNvPr id="9878" name=""/>
            <p:cNvSpPr/>
            <p:nvPr/>
          </p:nvSpPr>
          <p:spPr>
            <a:xfrm>
              <a:off x="2557440" y="32338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2557440" y="33087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2601720" y="3233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2557440" y="32338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2" name=""/>
          <p:cNvGrpSpPr/>
          <p:nvPr/>
        </p:nvGrpSpPr>
        <p:grpSpPr>
          <a:xfrm>
            <a:off x="3110040" y="2790720"/>
            <a:ext cx="74520" cy="149760"/>
            <a:chOff x="3110040" y="2790720"/>
            <a:chExt cx="74520" cy="149760"/>
          </a:xfrm>
        </p:grpSpPr>
        <p:sp>
          <p:nvSpPr>
            <p:cNvPr id="9883" name=""/>
            <p:cNvSpPr/>
            <p:nvPr/>
          </p:nvSpPr>
          <p:spPr>
            <a:xfrm>
              <a:off x="3110040" y="27907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3110040" y="2940120"/>
              <a:ext cx="74520" cy="360"/>
            </a:xfrm>
            <a:custGeom>
              <a:avLst/>
              <a:gdLst/>
              <a:ahLst/>
              <a:rect l="l" t="t" r="r" b="b"/>
              <a:pathLst>
                <a:path w="1518" h="0">
                  <a:moveTo>
                    <a:pt x="1518" y="0"/>
                  </a:moveTo>
                  <a:lnTo>
                    <a:pt x="0" y="0"/>
                  </a:lnTo>
                  <a:lnTo>
                    <a:pt x="756" y="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3147120" y="2790720"/>
              <a:ext cx="37440" cy="14940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3110040" y="2790720"/>
              <a:ext cx="37080" cy="14940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7" name=""/>
          <p:cNvGrpSpPr/>
          <p:nvPr/>
        </p:nvGrpSpPr>
        <p:grpSpPr>
          <a:xfrm>
            <a:off x="3287880" y="2800440"/>
            <a:ext cx="88560" cy="93600"/>
            <a:chOff x="3287880" y="2800440"/>
            <a:chExt cx="88560" cy="93600"/>
          </a:xfrm>
        </p:grpSpPr>
        <p:sp>
          <p:nvSpPr>
            <p:cNvPr id="9888" name=""/>
            <p:cNvSpPr/>
            <p:nvPr/>
          </p:nvSpPr>
          <p:spPr>
            <a:xfrm>
              <a:off x="3287880" y="2800440"/>
              <a:ext cx="8856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3287880" y="2875320"/>
              <a:ext cx="8856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3332160" y="2800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3287880" y="280044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2" name=""/>
          <p:cNvGrpSpPr/>
          <p:nvPr/>
        </p:nvGrpSpPr>
        <p:grpSpPr>
          <a:xfrm>
            <a:off x="3242880" y="3686040"/>
            <a:ext cx="152280" cy="152640"/>
            <a:chOff x="3242880" y="3686040"/>
            <a:chExt cx="152280" cy="152640"/>
          </a:xfrm>
        </p:grpSpPr>
        <p:sp>
          <p:nvSpPr>
            <p:cNvPr id="9893" name=""/>
            <p:cNvSpPr/>
            <p:nvPr/>
          </p:nvSpPr>
          <p:spPr>
            <a:xfrm rot="10800000">
              <a:off x="3242880" y="3808440"/>
              <a:ext cx="152280" cy="3024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4" name=""/>
            <p:cNvSpPr/>
            <p:nvPr/>
          </p:nvSpPr>
          <p:spPr>
            <a:xfrm rot="10800000">
              <a:off x="3242880" y="3686040"/>
              <a:ext cx="152280" cy="3060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5" name=""/>
            <p:cNvSpPr/>
            <p:nvPr/>
          </p:nvSpPr>
          <p:spPr>
            <a:xfrm rot="10800000">
              <a:off x="3243240" y="368604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6" name=""/>
            <p:cNvSpPr/>
            <p:nvPr/>
          </p:nvSpPr>
          <p:spPr>
            <a:xfrm rot="10800000">
              <a:off x="3319200" y="3686040"/>
              <a:ext cx="75960" cy="15264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7" name=""/>
          <p:cNvGrpSpPr/>
          <p:nvPr/>
        </p:nvGrpSpPr>
        <p:grpSpPr>
          <a:xfrm>
            <a:off x="3498840" y="3654720"/>
            <a:ext cx="167400" cy="171000"/>
            <a:chOff x="3498840" y="3654720"/>
            <a:chExt cx="167400" cy="171000"/>
          </a:xfrm>
        </p:grpSpPr>
        <p:grpSp>
          <p:nvGrpSpPr>
            <p:cNvPr id="9898" name=""/>
            <p:cNvGrpSpPr/>
            <p:nvPr/>
          </p:nvGrpSpPr>
          <p:grpSpPr>
            <a:xfrm>
              <a:off x="3498840" y="3705480"/>
              <a:ext cx="79200" cy="75960"/>
              <a:chOff x="3498840" y="3705480"/>
              <a:chExt cx="79200" cy="75960"/>
            </a:xfrm>
          </p:grpSpPr>
          <p:sp>
            <p:nvSpPr>
              <p:cNvPr id="9899" name=""/>
              <p:cNvSpPr/>
              <p:nvPr/>
            </p:nvSpPr>
            <p:spPr>
              <a:xfrm rot="10800000">
                <a:off x="3498840" y="37054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0" name=""/>
              <p:cNvSpPr/>
              <p:nvPr/>
            </p:nvSpPr>
            <p:spPr>
              <a:xfrm rot="10800000">
                <a:off x="3510360" y="37152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1" name=""/>
            <p:cNvGrpSpPr/>
            <p:nvPr/>
          </p:nvGrpSpPr>
          <p:grpSpPr>
            <a:xfrm>
              <a:off x="3590280" y="3746520"/>
              <a:ext cx="75960" cy="79200"/>
              <a:chOff x="3590280" y="3746520"/>
              <a:chExt cx="75960" cy="79200"/>
            </a:xfrm>
          </p:grpSpPr>
          <p:sp>
            <p:nvSpPr>
              <p:cNvPr id="9902" name=""/>
              <p:cNvSpPr/>
              <p:nvPr/>
            </p:nvSpPr>
            <p:spPr>
              <a:xfrm rot="5400000">
                <a:off x="3588480" y="37479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3" name=""/>
              <p:cNvSpPr/>
              <p:nvPr/>
            </p:nvSpPr>
            <p:spPr>
              <a:xfrm rot="5400000">
                <a:off x="3600360" y="37760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4" name=""/>
            <p:cNvGrpSpPr/>
            <p:nvPr/>
          </p:nvGrpSpPr>
          <p:grpSpPr>
            <a:xfrm>
              <a:off x="3585960" y="3654720"/>
              <a:ext cx="75600" cy="79200"/>
              <a:chOff x="3585960" y="3654720"/>
              <a:chExt cx="75600" cy="79200"/>
            </a:xfrm>
          </p:grpSpPr>
          <p:sp>
            <p:nvSpPr>
              <p:cNvPr id="9905" name=""/>
              <p:cNvSpPr/>
              <p:nvPr/>
            </p:nvSpPr>
            <p:spPr>
              <a:xfrm rot="16200000">
                <a:off x="3584160" y="3656520"/>
                <a:ext cx="7920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6" name=""/>
              <p:cNvSpPr/>
              <p:nvPr/>
            </p:nvSpPr>
            <p:spPr>
              <a:xfrm rot="16200000">
                <a:off x="3613680" y="36658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07" name=""/>
          <p:cNvGrpSpPr/>
          <p:nvPr/>
        </p:nvGrpSpPr>
        <p:grpSpPr>
          <a:xfrm>
            <a:off x="3666960" y="3647880"/>
            <a:ext cx="201960" cy="201960"/>
            <a:chOff x="3666960" y="3647880"/>
            <a:chExt cx="201960" cy="201960"/>
          </a:xfrm>
        </p:grpSpPr>
        <p:grpSp>
          <p:nvGrpSpPr>
            <p:cNvPr id="9908" name=""/>
            <p:cNvGrpSpPr/>
            <p:nvPr/>
          </p:nvGrpSpPr>
          <p:grpSpPr>
            <a:xfrm>
              <a:off x="3770280" y="3675240"/>
              <a:ext cx="79560" cy="76320"/>
              <a:chOff x="3770280" y="3675240"/>
              <a:chExt cx="79560" cy="76320"/>
            </a:xfrm>
          </p:grpSpPr>
          <p:sp>
            <p:nvSpPr>
              <p:cNvPr id="9909" name=""/>
              <p:cNvSpPr/>
              <p:nvPr/>
            </p:nvSpPr>
            <p:spPr>
              <a:xfrm>
                <a:off x="3770280" y="36752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0" name=""/>
              <p:cNvSpPr/>
              <p:nvPr/>
            </p:nvSpPr>
            <p:spPr>
              <a:xfrm>
                <a:off x="3800160" y="37029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1" name=""/>
            <p:cNvGrpSpPr/>
            <p:nvPr/>
          </p:nvGrpSpPr>
          <p:grpSpPr>
            <a:xfrm>
              <a:off x="3706560" y="3647880"/>
              <a:ext cx="76320" cy="79560"/>
              <a:chOff x="3706560" y="3647880"/>
              <a:chExt cx="76320" cy="79560"/>
            </a:xfrm>
          </p:grpSpPr>
          <p:sp>
            <p:nvSpPr>
              <p:cNvPr id="9912" name=""/>
              <p:cNvSpPr/>
              <p:nvPr/>
            </p:nvSpPr>
            <p:spPr>
              <a:xfrm rot="16200000">
                <a:off x="3704760" y="36493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3" name=""/>
              <p:cNvSpPr/>
              <p:nvPr/>
            </p:nvSpPr>
            <p:spPr>
              <a:xfrm rot="16200000">
                <a:off x="3734640" y="36590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4" name=""/>
            <p:cNvGrpSpPr/>
            <p:nvPr/>
          </p:nvGrpSpPr>
          <p:grpSpPr>
            <a:xfrm>
              <a:off x="3705120" y="3770640"/>
              <a:ext cx="75960" cy="79200"/>
              <a:chOff x="3705120" y="3770640"/>
              <a:chExt cx="75960" cy="79200"/>
            </a:xfrm>
          </p:grpSpPr>
          <p:sp>
            <p:nvSpPr>
              <p:cNvPr id="9915" name=""/>
              <p:cNvSpPr/>
              <p:nvPr/>
            </p:nvSpPr>
            <p:spPr>
              <a:xfrm rot="5400000">
                <a:off x="3703320" y="37720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6" name=""/>
              <p:cNvSpPr/>
              <p:nvPr/>
            </p:nvSpPr>
            <p:spPr>
              <a:xfrm rot="5400000">
                <a:off x="3715200" y="3800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7" name=""/>
            <p:cNvGrpSpPr/>
            <p:nvPr/>
          </p:nvGrpSpPr>
          <p:grpSpPr>
            <a:xfrm>
              <a:off x="3666960" y="3695760"/>
              <a:ext cx="75960" cy="79560"/>
              <a:chOff x="3666960" y="3695760"/>
              <a:chExt cx="75960" cy="79560"/>
            </a:xfrm>
          </p:grpSpPr>
          <p:sp>
            <p:nvSpPr>
              <p:cNvPr id="9918" name=""/>
              <p:cNvSpPr/>
              <p:nvPr/>
            </p:nvSpPr>
            <p:spPr>
              <a:xfrm rot="5400000">
                <a:off x="3665160" y="369756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9" name=""/>
              <p:cNvSpPr/>
              <p:nvPr/>
            </p:nvSpPr>
            <p:spPr>
              <a:xfrm rot="5400000">
                <a:off x="3677040" y="3725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0" name=""/>
            <p:cNvGrpSpPr/>
            <p:nvPr/>
          </p:nvGrpSpPr>
          <p:grpSpPr>
            <a:xfrm>
              <a:off x="3789360" y="3749760"/>
              <a:ext cx="79560" cy="76320"/>
              <a:chOff x="3789360" y="3749760"/>
              <a:chExt cx="79560" cy="76320"/>
            </a:xfrm>
          </p:grpSpPr>
          <p:sp>
            <p:nvSpPr>
              <p:cNvPr id="9921" name=""/>
              <p:cNvSpPr/>
              <p:nvPr/>
            </p:nvSpPr>
            <p:spPr>
              <a:xfrm>
                <a:off x="3789360" y="37497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2" name=""/>
              <p:cNvSpPr/>
              <p:nvPr/>
            </p:nvSpPr>
            <p:spPr>
              <a:xfrm>
                <a:off x="3819240" y="37774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23" name=""/>
          <p:cNvGrpSpPr/>
          <p:nvPr/>
        </p:nvGrpSpPr>
        <p:grpSpPr>
          <a:xfrm>
            <a:off x="3895560" y="3662280"/>
            <a:ext cx="201960" cy="201960"/>
            <a:chOff x="3895560" y="3662280"/>
            <a:chExt cx="201960" cy="201960"/>
          </a:xfrm>
        </p:grpSpPr>
        <p:grpSp>
          <p:nvGrpSpPr>
            <p:cNvPr id="9924" name=""/>
            <p:cNvGrpSpPr/>
            <p:nvPr/>
          </p:nvGrpSpPr>
          <p:grpSpPr>
            <a:xfrm>
              <a:off x="3993840" y="3765600"/>
              <a:ext cx="76320" cy="79560"/>
              <a:chOff x="3993840" y="3765600"/>
              <a:chExt cx="76320" cy="79560"/>
            </a:xfrm>
          </p:grpSpPr>
          <p:sp>
            <p:nvSpPr>
              <p:cNvPr id="9925" name=""/>
              <p:cNvSpPr/>
              <p:nvPr/>
            </p:nvSpPr>
            <p:spPr>
              <a:xfrm rot="5400000">
                <a:off x="3992040" y="37670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6" name=""/>
              <p:cNvSpPr/>
              <p:nvPr/>
            </p:nvSpPr>
            <p:spPr>
              <a:xfrm rot="5400000">
                <a:off x="4003920" y="37947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27" name=""/>
            <p:cNvGrpSpPr/>
            <p:nvPr/>
          </p:nvGrpSpPr>
          <p:grpSpPr>
            <a:xfrm>
              <a:off x="4017960" y="3701880"/>
              <a:ext cx="79560" cy="76320"/>
              <a:chOff x="4017960" y="3701880"/>
              <a:chExt cx="79560" cy="76320"/>
            </a:xfrm>
          </p:grpSpPr>
          <p:sp>
            <p:nvSpPr>
              <p:cNvPr id="9928" name=""/>
              <p:cNvSpPr/>
              <p:nvPr/>
            </p:nvSpPr>
            <p:spPr>
              <a:xfrm>
                <a:off x="4017960" y="37018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9" name=""/>
              <p:cNvSpPr/>
              <p:nvPr/>
            </p:nvSpPr>
            <p:spPr>
              <a:xfrm>
                <a:off x="4047840" y="37296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0" name=""/>
            <p:cNvGrpSpPr/>
            <p:nvPr/>
          </p:nvGrpSpPr>
          <p:grpSpPr>
            <a:xfrm>
              <a:off x="3895560" y="3700440"/>
              <a:ext cx="79200" cy="75960"/>
              <a:chOff x="3895560" y="3700440"/>
              <a:chExt cx="79200" cy="75960"/>
            </a:xfrm>
          </p:grpSpPr>
          <p:sp>
            <p:nvSpPr>
              <p:cNvPr id="9931" name=""/>
              <p:cNvSpPr/>
              <p:nvPr/>
            </p:nvSpPr>
            <p:spPr>
              <a:xfrm rot="10800000">
                <a:off x="3895560" y="370044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2" name=""/>
              <p:cNvSpPr/>
              <p:nvPr/>
            </p:nvSpPr>
            <p:spPr>
              <a:xfrm rot="10800000">
                <a:off x="3907080" y="3710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3" name=""/>
            <p:cNvGrpSpPr/>
            <p:nvPr/>
          </p:nvGrpSpPr>
          <p:grpSpPr>
            <a:xfrm>
              <a:off x="3970080" y="3662280"/>
              <a:ext cx="79560" cy="75960"/>
              <a:chOff x="3970080" y="3662280"/>
              <a:chExt cx="79560" cy="75960"/>
            </a:xfrm>
          </p:grpSpPr>
          <p:sp>
            <p:nvSpPr>
              <p:cNvPr id="9934" name=""/>
              <p:cNvSpPr/>
              <p:nvPr/>
            </p:nvSpPr>
            <p:spPr>
              <a:xfrm rot="10800000">
                <a:off x="3970080" y="36622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5" name=""/>
              <p:cNvSpPr/>
              <p:nvPr/>
            </p:nvSpPr>
            <p:spPr>
              <a:xfrm rot="10800000">
                <a:off x="3981960" y="36720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6" name=""/>
            <p:cNvGrpSpPr/>
            <p:nvPr/>
          </p:nvGrpSpPr>
          <p:grpSpPr>
            <a:xfrm>
              <a:off x="3919320" y="3784680"/>
              <a:ext cx="76320" cy="79560"/>
              <a:chOff x="3919320" y="3784680"/>
              <a:chExt cx="76320" cy="79560"/>
            </a:xfrm>
          </p:grpSpPr>
          <p:sp>
            <p:nvSpPr>
              <p:cNvPr id="9937" name=""/>
              <p:cNvSpPr/>
              <p:nvPr/>
            </p:nvSpPr>
            <p:spPr>
              <a:xfrm rot="5400000">
                <a:off x="3917520" y="37861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8" name=""/>
              <p:cNvSpPr/>
              <p:nvPr/>
            </p:nvSpPr>
            <p:spPr>
              <a:xfrm rot="5400000">
                <a:off x="3929400" y="3813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39" name=""/>
          <p:cNvGrpSpPr/>
          <p:nvPr/>
        </p:nvGrpSpPr>
        <p:grpSpPr>
          <a:xfrm>
            <a:off x="3090960" y="3330720"/>
            <a:ext cx="201960" cy="201960"/>
            <a:chOff x="3090960" y="3330720"/>
            <a:chExt cx="201960" cy="201960"/>
          </a:xfrm>
        </p:grpSpPr>
        <p:grpSp>
          <p:nvGrpSpPr>
            <p:cNvPr id="9940" name=""/>
            <p:cNvGrpSpPr/>
            <p:nvPr/>
          </p:nvGrpSpPr>
          <p:grpSpPr>
            <a:xfrm>
              <a:off x="3189240" y="3434040"/>
              <a:ext cx="76320" cy="79560"/>
              <a:chOff x="3189240" y="3434040"/>
              <a:chExt cx="76320" cy="79560"/>
            </a:xfrm>
          </p:grpSpPr>
          <p:sp>
            <p:nvSpPr>
              <p:cNvPr id="9941" name=""/>
              <p:cNvSpPr/>
              <p:nvPr/>
            </p:nvSpPr>
            <p:spPr>
              <a:xfrm rot="5400000">
                <a:off x="3187440" y="34354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2" name=""/>
              <p:cNvSpPr/>
              <p:nvPr/>
            </p:nvSpPr>
            <p:spPr>
              <a:xfrm rot="5400000">
                <a:off x="3199320" y="34632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3" name=""/>
            <p:cNvGrpSpPr/>
            <p:nvPr/>
          </p:nvGrpSpPr>
          <p:grpSpPr>
            <a:xfrm>
              <a:off x="3213360" y="3370320"/>
              <a:ext cx="79560" cy="76320"/>
              <a:chOff x="3213360" y="3370320"/>
              <a:chExt cx="79560" cy="76320"/>
            </a:xfrm>
          </p:grpSpPr>
          <p:sp>
            <p:nvSpPr>
              <p:cNvPr id="9944" name=""/>
              <p:cNvSpPr/>
              <p:nvPr/>
            </p:nvSpPr>
            <p:spPr>
              <a:xfrm>
                <a:off x="3213360" y="33703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5" name=""/>
              <p:cNvSpPr/>
              <p:nvPr/>
            </p:nvSpPr>
            <p:spPr>
              <a:xfrm>
                <a:off x="3243240" y="33980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6" name=""/>
            <p:cNvGrpSpPr/>
            <p:nvPr/>
          </p:nvGrpSpPr>
          <p:grpSpPr>
            <a:xfrm>
              <a:off x="3090960" y="3368880"/>
              <a:ext cx="79200" cy="75960"/>
              <a:chOff x="3090960" y="3368880"/>
              <a:chExt cx="79200" cy="75960"/>
            </a:xfrm>
          </p:grpSpPr>
          <p:sp>
            <p:nvSpPr>
              <p:cNvPr id="9947" name=""/>
              <p:cNvSpPr/>
              <p:nvPr/>
            </p:nvSpPr>
            <p:spPr>
              <a:xfrm rot="10800000">
                <a:off x="3090960" y="33688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8" name=""/>
              <p:cNvSpPr/>
              <p:nvPr/>
            </p:nvSpPr>
            <p:spPr>
              <a:xfrm rot="10800000">
                <a:off x="3102480" y="33786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9" name=""/>
            <p:cNvGrpSpPr/>
            <p:nvPr/>
          </p:nvGrpSpPr>
          <p:grpSpPr>
            <a:xfrm>
              <a:off x="3165480" y="3330720"/>
              <a:ext cx="79560" cy="75960"/>
              <a:chOff x="3165480" y="3330720"/>
              <a:chExt cx="79560" cy="75960"/>
            </a:xfrm>
          </p:grpSpPr>
          <p:sp>
            <p:nvSpPr>
              <p:cNvPr id="9950" name=""/>
              <p:cNvSpPr/>
              <p:nvPr/>
            </p:nvSpPr>
            <p:spPr>
              <a:xfrm rot="10800000">
                <a:off x="3165480" y="33307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1" name=""/>
              <p:cNvSpPr/>
              <p:nvPr/>
            </p:nvSpPr>
            <p:spPr>
              <a:xfrm rot="10800000">
                <a:off x="3177360" y="3340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2" name=""/>
            <p:cNvGrpSpPr/>
            <p:nvPr/>
          </p:nvGrpSpPr>
          <p:grpSpPr>
            <a:xfrm>
              <a:off x="3114720" y="3453120"/>
              <a:ext cx="76320" cy="79560"/>
              <a:chOff x="3114720" y="3453120"/>
              <a:chExt cx="76320" cy="79560"/>
            </a:xfrm>
          </p:grpSpPr>
          <p:sp>
            <p:nvSpPr>
              <p:cNvPr id="9953" name=""/>
              <p:cNvSpPr/>
              <p:nvPr/>
            </p:nvSpPr>
            <p:spPr>
              <a:xfrm rot="5400000">
                <a:off x="3112920" y="34545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4" name=""/>
              <p:cNvSpPr/>
              <p:nvPr/>
            </p:nvSpPr>
            <p:spPr>
              <a:xfrm rot="5400000">
                <a:off x="3124800" y="34822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55" name=""/>
          <p:cNvGrpSpPr/>
          <p:nvPr/>
        </p:nvGrpSpPr>
        <p:grpSpPr>
          <a:xfrm>
            <a:off x="2862000" y="3378240"/>
            <a:ext cx="201960" cy="201960"/>
            <a:chOff x="2862000" y="3378240"/>
            <a:chExt cx="201960" cy="201960"/>
          </a:xfrm>
        </p:grpSpPr>
        <p:grpSp>
          <p:nvGrpSpPr>
            <p:cNvPr id="9956" name=""/>
            <p:cNvGrpSpPr/>
            <p:nvPr/>
          </p:nvGrpSpPr>
          <p:grpSpPr>
            <a:xfrm>
              <a:off x="2889360" y="3481560"/>
              <a:ext cx="76320" cy="79560"/>
              <a:chOff x="2889360" y="3481560"/>
              <a:chExt cx="76320" cy="79560"/>
            </a:xfrm>
          </p:grpSpPr>
          <p:sp>
            <p:nvSpPr>
              <p:cNvPr id="9957" name=""/>
              <p:cNvSpPr/>
              <p:nvPr/>
            </p:nvSpPr>
            <p:spPr>
              <a:xfrm flipH="1" rot="16200000">
                <a:off x="2887560" y="348300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8" name=""/>
              <p:cNvSpPr/>
              <p:nvPr/>
            </p:nvSpPr>
            <p:spPr>
              <a:xfrm flipH="1" rot="16200000">
                <a:off x="2917440" y="351072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59" name=""/>
            <p:cNvGrpSpPr/>
            <p:nvPr/>
          </p:nvGrpSpPr>
          <p:grpSpPr>
            <a:xfrm>
              <a:off x="2862000" y="3417840"/>
              <a:ext cx="79560" cy="76320"/>
              <a:chOff x="2862000" y="3417840"/>
              <a:chExt cx="79560" cy="76320"/>
            </a:xfrm>
          </p:grpSpPr>
          <p:sp>
            <p:nvSpPr>
              <p:cNvPr id="9960" name=""/>
              <p:cNvSpPr/>
              <p:nvPr/>
            </p:nvSpPr>
            <p:spPr>
              <a:xfrm flipH="1">
                <a:off x="2861640" y="34178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1" name=""/>
              <p:cNvSpPr/>
              <p:nvPr/>
            </p:nvSpPr>
            <p:spPr>
              <a:xfrm flipH="1">
                <a:off x="2873520" y="34455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2" name=""/>
            <p:cNvGrpSpPr/>
            <p:nvPr/>
          </p:nvGrpSpPr>
          <p:grpSpPr>
            <a:xfrm>
              <a:off x="2984760" y="3416400"/>
              <a:ext cx="79200" cy="75960"/>
              <a:chOff x="2984760" y="3416400"/>
              <a:chExt cx="79200" cy="75960"/>
            </a:xfrm>
          </p:grpSpPr>
          <p:sp>
            <p:nvSpPr>
              <p:cNvPr id="9963" name=""/>
              <p:cNvSpPr/>
              <p:nvPr/>
            </p:nvSpPr>
            <p:spPr>
              <a:xfrm flipH="1" rot="10800000">
                <a:off x="2984760" y="341640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4" name=""/>
              <p:cNvSpPr/>
              <p:nvPr/>
            </p:nvSpPr>
            <p:spPr>
              <a:xfrm flipH="1" rot="10800000">
                <a:off x="3014280" y="342612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5" name=""/>
            <p:cNvGrpSpPr/>
            <p:nvPr/>
          </p:nvGrpSpPr>
          <p:grpSpPr>
            <a:xfrm>
              <a:off x="2909880" y="3378240"/>
              <a:ext cx="79560" cy="75960"/>
              <a:chOff x="2909880" y="3378240"/>
              <a:chExt cx="79560" cy="75960"/>
            </a:xfrm>
          </p:grpSpPr>
          <p:sp>
            <p:nvSpPr>
              <p:cNvPr id="9966" name=""/>
              <p:cNvSpPr/>
              <p:nvPr/>
            </p:nvSpPr>
            <p:spPr>
              <a:xfrm flipH="1" rot="10800000">
                <a:off x="2909520" y="33782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7" name=""/>
              <p:cNvSpPr/>
              <p:nvPr/>
            </p:nvSpPr>
            <p:spPr>
              <a:xfrm flipH="1" rot="10800000">
                <a:off x="2939400" y="33879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8" name=""/>
            <p:cNvGrpSpPr/>
            <p:nvPr/>
          </p:nvGrpSpPr>
          <p:grpSpPr>
            <a:xfrm>
              <a:off x="2963880" y="3500640"/>
              <a:ext cx="76320" cy="79560"/>
              <a:chOff x="2963880" y="3500640"/>
              <a:chExt cx="76320" cy="79560"/>
            </a:xfrm>
          </p:grpSpPr>
          <p:sp>
            <p:nvSpPr>
              <p:cNvPr id="9969" name=""/>
              <p:cNvSpPr/>
              <p:nvPr/>
            </p:nvSpPr>
            <p:spPr>
              <a:xfrm flipH="1" rot="16200000">
                <a:off x="2962080" y="35020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0" name=""/>
              <p:cNvSpPr/>
              <p:nvPr/>
            </p:nvSpPr>
            <p:spPr>
              <a:xfrm flipH="1" rot="16200000">
                <a:off x="2991960" y="35298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71" name=""/>
          <p:cNvGrpSpPr/>
          <p:nvPr/>
        </p:nvGrpSpPr>
        <p:grpSpPr>
          <a:xfrm>
            <a:off x="3276360" y="3430080"/>
            <a:ext cx="201960" cy="201960"/>
            <a:chOff x="3276360" y="3430080"/>
            <a:chExt cx="201960" cy="201960"/>
          </a:xfrm>
        </p:grpSpPr>
        <p:grpSp>
          <p:nvGrpSpPr>
            <p:cNvPr id="9972" name=""/>
            <p:cNvGrpSpPr/>
            <p:nvPr/>
          </p:nvGrpSpPr>
          <p:grpSpPr>
            <a:xfrm>
              <a:off x="3303720" y="3449160"/>
              <a:ext cx="76320" cy="79560"/>
              <a:chOff x="3303720" y="3449160"/>
              <a:chExt cx="76320" cy="79560"/>
            </a:xfrm>
          </p:grpSpPr>
          <p:sp>
            <p:nvSpPr>
              <p:cNvPr id="9973" name=""/>
              <p:cNvSpPr/>
              <p:nvPr/>
            </p:nvSpPr>
            <p:spPr>
              <a:xfrm flipH="1" flipV="1" rot="5400000">
                <a:off x="3301920" y="34502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4" name=""/>
              <p:cNvSpPr/>
              <p:nvPr/>
            </p:nvSpPr>
            <p:spPr>
              <a:xfrm flipH="1" flipV="1" rot="5400000">
                <a:off x="3331800" y="34599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5" name=""/>
            <p:cNvGrpSpPr/>
            <p:nvPr/>
          </p:nvGrpSpPr>
          <p:grpSpPr>
            <a:xfrm>
              <a:off x="3276360" y="3516120"/>
              <a:ext cx="79560" cy="76320"/>
              <a:chOff x="3276360" y="3516120"/>
              <a:chExt cx="79560" cy="76320"/>
            </a:xfrm>
          </p:grpSpPr>
          <p:sp>
            <p:nvSpPr>
              <p:cNvPr id="9976" name=""/>
              <p:cNvSpPr/>
              <p:nvPr/>
            </p:nvSpPr>
            <p:spPr>
              <a:xfrm flipH="1" flipV="1">
                <a:off x="3276000" y="351612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7" name=""/>
              <p:cNvSpPr/>
              <p:nvPr/>
            </p:nvSpPr>
            <p:spPr>
              <a:xfrm flipH="1" flipV="1">
                <a:off x="3287880" y="352584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8" name=""/>
            <p:cNvGrpSpPr/>
            <p:nvPr/>
          </p:nvGrpSpPr>
          <p:grpSpPr>
            <a:xfrm>
              <a:off x="3399120" y="3517920"/>
              <a:ext cx="79200" cy="75960"/>
              <a:chOff x="3399120" y="3517920"/>
              <a:chExt cx="79200" cy="75960"/>
            </a:xfrm>
          </p:grpSpPr>
          <p:sp>
            <p:nvSpPr>
              <p:cNvPr id="9979" name=""/>
              <p:cNvSpPr/>
              <p:nvPr/>
            </p:nvSpPr>
            <p:spPr>
              <a:xfrm flipH="1" flipV="1" rot="10800000">
                <a:off x="3399120" y="351756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0" name=""/>
              <p:cNvSpPr/>
              <p:nvPr/>
            </p:nvSpPr>
            <p:spPr>
              <a:xfrm flipH="1" flipV="1" rot="10800000">
                <a:off x="3428640" y="354528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1" name=""/>
            <p:cNvGrpSpPr/>
            <p:nvPr/>
          </p:nvGrpSpPr>
          <p:grpSpPr>
            <a:xfrm>
              <a:off x="3324240" y="3556080"/>
              <a:ext cx="79560" cy="75960"/>
              <a:chOff x="3324240" y="3556080"/>
              <a:chExt cx="79560" cy="75960"/>
            </a:xfrm>
          </p:grpSpPr>
          <p:sp>
            <p:nvSpPr>
              <p:cNvPr id="9982" name=""/>
              <p:cNvSpPr/>
              <p:nvPr/>
            </p:nvSpPr>
            <p:spPr>
              <a:xfrm flipH="1" flipV="1" rot="10800000">
                <a:off x="3323880" y="355572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3" name=""/>
              <p:cNvSpPr/>
              <p:nvPr/>
            </p:nvSpPr>
            <p:spPr>
              <a:xfrm flipH="1" flipV="1" rot="10800000">
                <a:off x="3353760" y="35834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4" name=""/>
            <p:cNvGrpSpPr/>
            <p:nvPr/>
          </p:nvGrpSpPr>
          <p:grpSpPr>
            <a:xfrm>
              <a:off x="3378240" y="3430080"/>
              <a:ext cx="76320" cy="79560"/>
              <a:chOff x="3378240" y="3430080"/>
              <a:chExt cx="76320" cy="79560"/>
            </a:xfrm>
          </p:grpSpPr>
          <p:sp>
            <p:nvSpPr>
              <p:cNvPr id="9985" name=""/>
              <p:cNvSpPr/>
              <p:nvPr/>
            </p:nvSpPr>
            <p:spPr>
              <a:xfrm flipH="1" flipV="1" rot="5400000">
                <a:off x="3376440" y="34311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6" name=""/>
              <p:cNvSpPr/>
              <p:nvPr/>
            </p:nvSpPr>
            <p:spPr>
              <a:xfrm flipH="1" flipV="1" rot="5400000">
                <a:off x="3406320" y="34408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87" name=""/>
          <p:cNvGrpSpPr/>
          <p:nvPr/>
        </p:nvGrpSpPr>
        <p:grpSpPr>
          <a:xfrm>
            <a:off x="3524040" y="3454200"/>
            <a:ext cx="201960" cy="201960"/>
            <a:chOff x="3524040" y="3454200"/>
            <a:chExt cx="201960" cy="201960"/>
          </a:xfrm>
        </p:grpSpPr>
        <p:grpSp>
          <p:nvGrpSpPr>
            <p:cNvPr id="9988" name=""/>
            <p:cNvGrpSpPr/>
            <p:nvPr/>
          </p:nvGrpSpPr>
          <p:grpSpPr>
            <a:xfrm>
              <a:off x="3551400" y="3473280"/>
              <a:ext cx="76320" cy="79560"/>
              <a:chOff x="3551400" y="3473280"/>
              <a:chExt cx="76320" cy="79560"/>
            </a:xfrm>
          </p:grpSpPr>
          <p:sp>
            <p:nvSpPr>
              <p:cNvPr id="9989" name=""/>
              <p:cNvSpPr/>
              <p:nvPr/>
            </p:nvSpPr>
            <p:spPr>
              <a:xfrm flipH="1" flipV="1" rot="5400000">
                <a:off x="3549600" y="34743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0" name=""/>
              <p:cNvSpPr/>
              <p:nvPr/>
            </p:nvSpPr>
            <p:spPr>
              <a:xfrm flipH="1" flipV="1" rot="5400000">
                <a:off x="3579480" y="34840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1" name=""/>
            <p:cNvGrpSpPr/>
            <p:nvPr/>
          </p:nvGrpSpPr>
          <p:grpSpPr>
            <a:xfrm>
              <a:off x="3524040" y="3540240"/>
              <a:ext cx="79560" cy="76320"/>
              <a:chOff x="3524040" y="3540240"/>
              <a:chExt cx="79560" cy="76320"/>
            </a:xfrm>
          </p:grpSpPr>
          <p:sp>
            <p:nvSpPr>
              <p:cNvPr id="9992" name=""/>
              <p:cNvSpPr/>
              <p:nvPr/>
            </p:nvSpPr>
            <p:spPr>
              <a:xfrm flipH="1" flipV="1">
                <a:off x="3523680" y="35402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3" name=""/>
              <p:cNvSpPr/>
              <p:nvPr/>
            </p:nvSpPr>
            <p:spPr>
              <a:xfrm flipH="1" flipV="1">
                <a:off x="3535560" y="35499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4" name=""/>
            <p:cNvGrpSpPr/>
            <p:nvPr/>
          </p:nvGrpSpPr>
          <p:grpSpPr>
            <a:xfrm>
              <a:off x="3646800" y="3542040"/>
              <a:ext cx="79200" cy="75960"/>
              <a:chOff x="3646800" y="3542040"/>
              <a:chExt cx="79200" cy="75960"/>
            </a:xfrm>
          </p:grpSpPr>
          <p:sp>
            <p:nvSpPr>
              <p:cNvPr id="9995" name=""/>
              <p:cNvSpPr/>
              <p:nvPr/>
            </p:nvSpPr>
            <p:spPr>
              <a:xfrm flipH="1" flipV="1" rot="10800000">
                <a:off x="3646800" y="3541680"/>
                <a:ext cx="7920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6" name=""/>
              <p:cNvSpPr/>
              <p:nvPr/>
            </p:nvSpPr>
            <p:spPr>
              <a:xfrm flipH="1" flipV="1" rot="10800000">
                <a:off x="3676320" y="35694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7" name=""/>
            <p:cNvGrpSpPr/>
            <p:nvPr/>
          </p:nvGrpSpPr>
          <p:grpSpPr>
            <a:xfrm>
              <a:off x="3571920" y="3580200"/>
              <a:ext cx="79560" cy="75960"/>
              <a:chOff x="3571920" y="3580200"/>
              <a:chExt cx="79560" cy="75960"/>
            </a:xfrm>
          </p:grpSpPr>
          <p:sp>
            <p:nvSpPr>
              <p:cNvPr id="9998" name=""/>
              <p:cNvSpPr/>
              <p:nvPr/>
            </p:nvSpPr>
            <p:spPr>
              <a:xfrm flipH="1" flipV="1" rot="10800000">
                <a:off x="3571560" y="35798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9" name=""/>
              <p:cNvSpPr/>
              <p:nvPr/>
            </p:nvSpPr>
            <p:spPr>
              <a:xfrm flipH="1" flipV="1" rot="10800000">
                <a:off x="3601440" y="36075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0" name=""/>
            <p:cNvGrpSpPr/>
            <p:nvPr/>
          </p:nvGrpSpPr>
          <p:grpSpPr>
            <a:xfrm>
              <a:off x="3625920" y="3454200"/>
              <a:ext cx="76320" cy="79560"/>
              <a:chOff x="3625920" y="3454200"/>
              <a:chExt cx="76320" cy="79560"/>
            </a:xfrm>
          </p:grpSpPr>
          <p:sp>
            <p:nvSpPr>
              <p:cNvPr id="10001" name=""/>
              <p:cNvSpPr/>
              <p:nvPr/>
            </p:nvSpPr>
            <p:spPr>
              <a:xfrm flipH="1" flipV="1" rot="5400000">
                <a:off x="3624120" y="345528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2" name=""/>
              <p:cNvSpPr/>
              <p:nvPr/>
            </p:nvSpPr>
            <p:spPr>
              <a:xfrm flipH="1" flipV="1" rot="5400000">
                <a:off x="3654000" y="34650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3" name=""/>
          <p:cNvGrpSpPr/>
          <p:nvPr/>
        </p:nvGrpSpPr>
        <p:grpSpPr>
          <a:xfrm>
            <a:off x="802800" y="2690640"/>
            <a:ext cx="172080" cy="168840"/>
            <a:chOff x="802800" y="2690640"/>
            <a:chExt cx="172080" cy="168840"/>
          </a:xfrm>
        </p:grpSpPr>
        <p:grpSp>
          <p:nvGrpSpPr>
            <p:cNvPr id="10004" name=""/>
            <p:cNvGrpSpPr/>
            <p:nvPr/>
          </p:nvGrpSpPr>
          <p:grpSpPr>
            <a:xfrm>
              <a:off x="847800" y="2779920"/>
              <a:ext cx="76320" cy="79560"/>
              <a:chOff x="847800" y="2779920"/>
              <a:chExt cx="76320" cy="79560"/>
            </a:xfrm>
          </p:grpSpPr>
          <p:sp>
            <p:nvSpPr>
              <p:cNvPr id="10005" name=""/>
              <p:cNvSpPr/>
              <p:nvPr/>
            </p:nvSpPr>
            <p:spPr>
              <a:xfrm flipH="1" rot="16200000">
                <a:off x="846000" y="278136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6" name=""/>
              <p:cNvSpPr/>
              <p:nvPr/>
            </p:nvSpPr>
            <p:spPr>
              <a:xfrm flipH="1" rot="16200000">
                <a:off x="875880" y="280908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7" name=""/>
            <p:cNvGrpSpPr/>
            <p:nvPr/>
          </p:nvGrpSpPr>
          <p:grpSpPr>
            <a:xfrm>
              <a:off x="802800" y="2690640"/>
              <a:ext cx="79560" cy="76320"/>
              <a:chOff x="802800" y="2690640"/>
              <a:chExt cx="79560" cy="76320"/>
            </a:xfrm>
          </p:grpSpPr>
          <p:sp>
            <p:nvSpPr>
              <p:cNvPr id="10008" name=""/>
              <p:cNvSpPr/>
              <p:nvPr/>
            </p:nvSpPr>
            <p:spPr>
              <a:xfrm flipH="1">
                <a:off x="802440" y="2690640"/>
                <a:ext cx="7956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9" name=""/>
              <p:cNvSpPr/>
              <p:nvPr/>
            </p:nvSpPr>
            <p:spPr>
              <a:xfrm flipH="1">
                <a:off x="814320" y="271836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0" name=""/>
            <p:cNvGrpSpPr/>
            <p:nvPr/>
          </p:nvGrpSpPr>
          <p:grpSpPr>
            <a:xfrm>
              <a:off x="895320" y="2695680"/>
              <a:ext cx="79560" cy="75960"/>
              <a:chOff x="895320" y="2695680"/>
              <a:chExt cx="79560" cy="75960"/>
            </a:xfrm>
          </p:grpSpPr>
          <p:sp>
            <p:nvSpPr>
              <p:cNvPr id="10011" name=""/>
              <p:cNvSpPr/>
              <p:nvPr/>
            </p:nvSpPr>
            <p:spPr>
              <a:xfrm flipH="1" rot="10800000">
                <a:off x="894960" y="269568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2" name=""/>
              <p:cNvSpPr/>
              <p:nvPr/>
            </p:nvSpPr>
            <p:spPr>
              <a:xfrm flipH="1" rot="10800000">
                <a:off x="924840" y="270540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13" name=""/>
          <p:cNvGrpSpPr/>
          <p:nvPr/>
        </p:nvGrpSpPr>
        <p:grpSpPr>
          <a:xfrm>
            <a:off x="1031400" y="2548440"/>
            <a:ext cx="172080" cy="167400"/>
            <a:chOff x="1031400" y="2548440"/>
            <a:chExt cx="172080" cy="167400"/>
          </a:xfrm>
        </p:grpSpPr>
        <p:grpSp>
          <p:nvGrpSpPr>
            <p:cNvPr id="10014" name=""/>
            <p:cNvGrpSpPr/>
            <p:nvPr/>
          </p:nvGrpSpPr>
          <p:grpSpPr>
            <a:xfrm>
              <a:off x="1082160" y="2636640"/>
              <a:ext cx="76320" cy="79200"/>
              <a:chOff x="1082160" y="2636640"/>
              <a:chExt cx="76320" cy="79200"/>
            </a:xfrm>
          </p:grpSpPr>
          <p:sp>
            <p:nvSpPr>
              <p:cNvPr id="10015" name=""/>
              <p:cNvSpPr/>
              <p:nvPr/>
            </p:nvSpPr>
            <p:spPr>
              <a:xfrm rot="5400000">
                <a:off x="1080720" y="2638080"/>
                <a:ext cx="79200" cy="7632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6" name=""/>
              <p:cNvSpPr/>
              <p:nvPr/>
            </p:nvSpPr>
            <p:spPr>
              <a:xfrm rot="5400000">
                <a:off x="1092240" y="2665800"/>
                <a:ext cx="37800" cy="3888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17" name=""/>
            <p:cNvGrpSpPr/>
            <p:nvPr/>
          </p:nvGrpSpPr>
          <p:grpSpPr>
            <a:xfrm>
              <a:off x="1123920" y="2548440"/>
              <a:ext cx="79560" cy="75960"/>
              <a:chOff x="1123920" y="2548440"/>
              <a:chExt cx="79560" cy="75960"/>
            </a:xfrm>
          </p:grpSpPr>
          <p:sp>
            <p:nvSpPr>
              <p:cNvPr id="10018" name=""/>
              <p:cNvSpPr/>
              <p:nvPr/>
            </p:nvSpPr>
            <p:spPr>
              <a:xfrm>
                <a:off x="1123920" y="2548440"/>
                <a:ext cx="79560" cy="7596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1153800" y="257616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0" name=""/>
            <p:cNvGrpSpPr/>
            <p:nvPr/>
          </p:nvGrpSpPr>
          <p:grpSpPr>
            <a:xfrm>
              <a:off x="1031400" y="2553120"/>
              <a:ext cx="79560" cy="75600"/>
              <a:chOff x="1031400" y="2553120"/>
              <a:chExt cx="79560" cy="75600"/>
            </a:xfrm>
          </p:grpSpPr>
          <p:sp>
            <p:nvSpPr>
              <p:cNvPr id="10021" name=""/>
              <p:cNvSpPr/>
              <p:nvPr/>
            </p:nvSpPr>
            <p:spPr>
              <a:xfrm rot="10800000">
                <a:off x="1031400" y="2553120"/>
                <a:ext cx="79560" cy="75600"/>
              </a:xfrm>
              <a:custGeom>
                <a:avLst/>
                <a:gdLst/>
                <a:ahLst/>
                <a:rect l="l" t="t" r="r" b="b"/>
                <a:pathLst>
                  <a:path w="1602" h="1536">
                    <a:moveTo>
                      <a:pt x="1560" y="774"/>
                    </a:moveTo>
                    <a:lnTo>
                      <a:pt x="1602" y="924"/>
                    </a:lnTo>
                    <a:lnTo>
                      <a:pt x="1536" y="1146"/>
                    </a:lnTo>
                    <a:lnTo>
                      <a:pt x="1386" y="1218"/>
                    </a:lnTo>
                    <a:lnTo>
                      <a:pt x="1332" y="1314"/>
                    </a:lnTo>
                    <a:lnTo>
                      <a:pt x="1218" y="1350"/>
                    </a:lnTo>
                    <a:lnTo>
                      <a:pt x="1158" y="1326"/>
                    </a:lnTo>
                    <a:lnTo>
                      <a:pt x="882" y="1434"/>
                    </a:lnTo>
                    <a:lnTo>
                      <a:pt x="780" y="1536"/>
                    </a:lnTo>
                    <a:lnTo>
                      <a:pt x="666" y="1506"/>
                    </a:lnTo>
                    <a:lnTo>
                      <a:pt x="534" y="1422"/>
                    </a:lnTo>
                    <a:lnTo>
                      <a:pt x="348" y="1320"/>
                    </a:lnTo>
                    <a:lnTo>
                      <a:pt x="228" y="1314"/>
                    </a:lnTo>
                    <a:lnTo>
                      <a:pt x="108" y="1134"/>
                    </a:lnTo>
                    <a:lnTo>
                      <a:pt x="96" y="1050"/>
                    </a:lnTo>
                    <a:lnTo>
                      <a:pt x="24" y="918"/>
                    </a:lnTo>
                    <a:lnTo>
                      <a:pt x="0" y="774"/>
                    </a:lnTo>
                    <a:lnTo>
                      <a:pt x="84" y="618"/>
                    </a:lnTo>
                    <a:lnTo>
                      <a:pt x="228" y="582"/>
                    </a:lnTo>
                    <a:lnTo>
                      <a:pt x="186" y="366"/>
                    </a:lnTo>
                    <a:lnTo>
                      <a:pt x="228" y="234"/>
                    </a:lnTo>
                    <a:lnTo>
                      <a:pt x="396" y="186"/>
                    </a:lnTo>
                    <a:lnTo>
                      <a:pt x="468" y="144"/>
                    </a:lnTo>
                    <a:lnTo>
                      <a:pt x="600" y="132"/>
                    </a:lnTo>
                    <a:lnTo>
                      <a:pt x="780" y="6"/>
                    </a:lnTo>
                    <a:lnTo>
                      <a:pt x="918" y="0"/>
                    </a:lnTo>
                    <a:lnTo>
                      <a:pt x="1086" y="102"/>
                    </a:lnTo>
                    <a:lnTo>
                      <a:pt x="1164" y="138"/>
                    </a:lnTo>
                    <a:lnTo>
                      <a:pt x="1332" y="234"/>
                    </a:lnTo>
                    <a:lnTo>
                      <a:pt x="1434" y="342"/>
                    </a:lnTo>
                    <a:lnTo>
                      <a:pt x="1440" y="468"/>
                    </a:lnTo>
                    <a:lnTo>
                      <a:pt x="1470" y="678"/>
                    </a:lnTo>
                    <a:lnTo>
                      <a:pt x="1560" y="774"/>
                    </a:lnTo>
                    <a:close/>
                  </a:path>
                </a:pathLst>
              </a:custGeom>
              <a:solidFill>
                <a:srgbClr val="b7cab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 rot="10800000">
                <a:off x="1043280" y="2562840"/>
                <a:ext cx="37800" cy="38520"/>
              </a:xfrm>
              <a:custGeom>
                <a:avLst/>
                <a:gdLst/>
                <a:ahLst/>
                <a:rect l="l" t="t" r="r" b="b"/>
                <a:pathLst>
                  <a:path w="762" h="780">
                    <a:moveTo>
                      <a:pt x="762" y="324"/>
                    </a:moveTo>
                    <a:lnTo>
                      <a:pt x="732" y="366"/>
                    </a:lnTo>
                    <a:lnTo>
                      <a:pt x="720" y="420"/>
                    </a:lnTo>
                    <a:lnTo>
                      <a:pt x="672" y="546"/>
                    </a:lnTo>
                    <a:lnTo>
                      <a:pt x="636" y="642"/>
                    </a:lnTo>
                    <a:lnTo>
                      <a:pt x="540" y="696"/>
                    </a:lnTo>
                    <a:lnTo>
                      <a:pt x="438" y="726"/>
                    </a:lnTo>
                    <a:lnTo>
                      <a:pt x="396" y="762"/>
                    </a:lnTo>
                    <a:lnTo>
                      <a:pt x="318" y="780"/>
                    </a:lnTo>
                    <a:lnTo>
                      <a:pt x="204" y="738"/>
                    </a:lnTo>
                    <a:lnTo>
                      <a:pt x="96" y="732"/>
                    </a:lnTo>
                    <a:lnTo>
                      <a:pt x="42" y="690"/>
                    </a:lnTo>
                    <a:lnTo>
                      <a:pt x="0" y="642"/>
                    </a:lnTo>
                    <a:lnTo>
                      <a:pt x="42" y="624"/>
                    </a:lnTo>
                    <a:lnTo>
                      <a:pt x="90" y="600"/>
                    </a:lnTo>
                    <a:lnTo>
                      <a:pt x="120" y="540"/>
                    </a:lnTo>
                    <a:lnTo>
                      <a:pt x="174" y="492"/>
                    </a:lnTo>
                    <a:lnTo>
                      <a:pt x="240" y="438"/>
                    </a:lnTo>
                    <a:lnTo>
                      <a:pt x="276" y="426"/>
                    </a:lnTo>
                    <a:lnTo>
                      <a:pt x="300" y="402"/>
                    </a:lnTo>
                    <a:lnTo>
                      <a:pt x="348" y="372"/>
                    </a:lnTo>
                    <a:lnTo>
                      <a:pt x="372" y="354"/>
                    </a:lnTo>
                    <a:lnTo>
                      <a:pt x="378" y="306"/>
                    </a:lnTo>
                    <a:lnTo>
                      <a:pt x="432" y="240"/>
                    </a:lnTo>
                    <a:lnTo>
                      <a:pt x="444" y="174"/>
                    </a:lnTo>
                    <a:lnTo>
                      <a:pt x="486" y="126"/>
                    </a:lnTo>
                    <a:lnTo>
                      <a:pt x="558" y="108"/>
                    </a:lnTo>
                    <a:lnTo>
                      <a:pt x="618" y="54"/>
                    </a:lnTo>
                    <a:lnTo>
                      <a:pt x="636" y="0"/>
                    </a:lnTo>
                    <a:lnTo>
                      <a:pt x="660" y="90"/>
                    </a:lnTo>
                    <a:lnTo>
                      <a:pt x="762" y="126"/>
                    </a:lnTo>
                    <a:lnTo>
                      <a:pt x="750" y="240"/>
                    </a:lnTo>
                    <a:lnTo>
                      <a:pt x="762" y="324"/>
                    </a:lnTo>
                    <a:close/>
                  </a:path>
                </a:pathLst>
              </a:custGeom>
              <a:solidFill>
                <a:srgbClr val="8caa8c"/>
              </a:solidFill>
              <a:ln w="3240">
                <a:solidFill>
                  <a:srgbClr val="8caa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23" name=""/>
          <p:cNvGrpSpPr/>
          <p:nvPr/>
        </p:nvGrpSpPr>
        <p:grpSpPr>
          <a:xfrm>
            <a:off x="1211400" y="3732120"/>
            <a:ext cx="88920" cy="93600"/>
            <a:chOff x="1211400" y="3732120"/>
            <a:chExt cx="88920" cy="93600"/>
          </a:xfrm>
        </p:grpSpPr>
        <p:sp>
          <p:nvSpPr>
            <p:cNvPr id="10024" name=""/>
            <p:cNvSpPr/>
            <p:nvPr/>
          </p:nvSpPr>
          <p:spPr>
            <a:xfrm>
              <a:off x="1211400" y="373212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1211400" y="380700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1255680" y="373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1211400" y="373212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8" name=""/>
          <p:cNvGrpSpPr/>
          <p:nvPr/>
        </p:nvGrpSpPr>
        <p:grpSpPr>
          <a:xfrm>
            <a:off x="1647720" y="1247760"/>
            <a:ext cx="95400" cy="97200"/>
            <a:chOff x="1647720" y="1247760"/>
            <a:chExt cx="95400" cy="97200"/>
          </a:xfrm>
        </p:grpSpPr>
        <p:sp>
          <p:nvSpPr>
            <p:cNvPr id="10029" name=""/>
            <p:cNvSpPr/>
            <p:nvPr/>
          </p:nvSpPr>
          <p:spPr>
            <a:xfrm>
              <a:off x="1647720" y="12477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1647720" y="13446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1695600" y="12477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1647720" y="1247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3" name=""/>
          <p:cNvGrpSpPr/>
          <p:nvPr/>
        </p:nvGrpSpPr>
        <p:grpSpPr>
          <a:xfrm>
            <a:off x="3549600" y="1449360"/>
            <a:ext cx="95400" cy="97200"/>
            <a:chOff x="3549600" y="1449360"/>
            <a:chExt cx="95400" cy="97200"/>
          </a:xfrm>
        </p:grpSpPr>
        <p:sp>
          <p:nvSpPr>
            <p:cNvPr id="10034" name=""/>
            <p:cNvSpPr/>
            <p:nvPr/>
          </p:nvSpPr>
          <p:spPr>
            <a:xfrm>
              <a:off x="3549600" y="144936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3549600" y="154620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3597480" y="144936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3549600" y="14493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8" name=""/>
          <p:cNvGrpSpPr/>
          <p:nvPr/>
        </p:nvGrpSpPr>
        <p:grpSpPr>
          <a:xfrm>
            <a:off x="3720960" y="1452240"/>
            <a:ext cx="93960" cy="88920"/>
            <a:chOff x="3720960" y="1452240"/>
            <a:chExt cx="93960" cy="88920"/>
          </a:xfrm>
        </p:grpSpPr>
        <p:sp>
          <p:nvSpPr>
            <p:cNvPr id="10039" name=""/>
            <p:cNvSpPr/>
            <p:nvPr/>
          </p:nvSpPr>
          <p:spPr>
            <a:xfrm rot="16200000">
              <a:off x="3685680" y="1487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0" name=""/>
            <p:cNvSpPr/>
            <p:nvPr/>
          </p:nvSpPr>
          <p:spPr>
            <a:xfrm rot="16200000">
              <a:off x="3760920" y="14871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1" name=""/>
            <p:cNvSpPr/>
            <p:nvPr/>
          </p:nvSpPr>
          <p:spPr>
            <a:xfrm rot="16200000">
              <a:off x="3745800" y="142776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2" name=""/>
            <p:cNvSpPr/>
            <p:nvPr/>
          </p:nvSpPr>
          <p:spPr>
            <a:xfrm rot="16200000">
              <a:off x="3745800" y="1472040"/>
              <a:ext cx="44280" cy="9396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3" name=""/>
          <p:cNvGrpSpPr/>
          <p:nvPr/>
        </p:nvGrpSpPr>
        <p:grpSpPr>
          <a:xfrm>
            <a:off x="6905520" y="3448080"/>
            <a:ext cx="88920" cy="93600"/>
            <a:chOff x="6905520" y="3448080"/>
            <a:chExt cx="88920" cy="93600"/>
          </a:xfrm>
        </p:grpSpPr>
        <p:sp>
          <p:nvSpPr>
            <p:cNvPr id="10044" name=""/>
            <p:cNvSpPr/>
            <p:nvPr/>
          </p:nvSpPr>
          <p:spPr>
            <a:xfrm>
              <a:off x="6905520" y="3448080"/>
              <a:ext cx="88920" cy="18360"/>
            </a:xfrm>
            <a:custGeom>
              <a:avLst/>
              <a:gdLst/>
              <a:ahLst/>
              <a:rect l="l" t="t" r="r" b="b"/>
              <a:pathLst>
                <a:path w="1908" h="504">
                  <a:moveTo>
                    <a:pt x="1908" y="0"/>
                  </a:moveTo>
                  <a:lnTo>
                    <a:pt x="0" y="0"/>
                  </a:lnTo>
                  <a:lnTo>
                    <a:pt x="954" y="504"/>
                  </a:lnTo>
                  <a:lnTo>
                    <a:pt x="190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6905520" y="3522960"/>
              <a:ext cx="88920" cy="18720"/>
            </a:xfrm>
            <a:custGeom>
              <a:avLst/>
              <a:gdLst/>
              <a:ahLst/>
              <a:rect l="l" t="t" r="r" b="b"/>
              <a:pathLst>
                <a:path w="1908" h="510">
                  <a:moveTo>
                    <a:pt x="1908" y="510"/>
                  </a:moveTo>
                  <a:lnTo>
                    <a:pt x="0" y="510"/>
                  </a:lnTo>
                  <a:lnTo>
                    <a:pt x="954" y="0"/>
                  </a:lnTo>
                  <a:lnTo>
                    <a:pt x="1908" y="51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6949800" y="3448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954" y="0"/>
                  </a:moveTo>
                  <a:lnTo>
                    <a:pt x="0" y="504"/>
                  </a:lnTo>
                  <a:lnTo>
                    <a:pt x="0" y="2028"/>
                  </a:lnTo>
                  <a:lnTo>
                    <a:pt x="954" y="2538"/>
                  </a:lnTo>
                  <a:lnTo>
                    <a:pt x="954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6905520" y="3448080"/>
              <a:ext cx="44280" cy="93600"/>
            </a:xfrm>
            <a:custGeom>
              <a:avLst/>
              <a:gdLst/>
              <a:ahLst/>
              <a:rect l="l" t="t" r="r" b="b"/>
              <a:pathLst>
                <a:path w="954" h="2538">
                  <a:moveTo>
                    <a:pt x="0" y="0"/>
                  </a:moveTo>
                  <a:lnTo>
                    <a:pt x="954" y="504"/>
                  </a:lnTo>
                  <a:lnTo>
                    <a:pt x="954" y="2028"/>
                  </a:lnTo>
                  <a:lnTo>
                    <a:pt x="0" y="25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8" name=""/>
          <p:cNvGrpSpPr/>
          <p:nvPr/>
        </p:nvGrpSpPr>
        <p:grpSpPr>
          <a:xfrm>
            <a:off x="7353360" y="4401720"/>
            <a:ext cx="97200" cy="95400"/>
            <a:chOff x="7353360" y="4401720"/>
            <a:chExt cx="97200" cy="95400"/>
          </a:xfrm>
        </p:grpSpPr>
        <p:sp>
          <p:nvSpPr>
            <p:cNvPr id="10049" name=""/>
            <p:cNvSpPr/>
            <p:nvPr/>
          </p:nvSpPr>
          <p:spPr>
            <a:xfrm rot="16200000">
              <a:off x="7305840" y="4449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bfb0b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0" name=""/>
            <p:cNvSpPr/>
            <p:nvPr/>
          </p:nvSpPr>
          <p:spPr>
            <a:xfrm rot="16200000">
              <a:off x="7402680" y="4449240"/>
              <a:ext cx="95400" cy="360"/>
            </a:xfrm>
            <a:custGeom>
              <a:avLst/>
              <a:gdLst/>
              <a:ahLst/>
              <a:rect l="l" t="t" r="r" b="b"/>
              <a:pathLst>
                <a:path w="1638" h="0">
                  <a:moveTo>
                    <a:pt x="1638" y="0"/>
                  </a:moveTo>
                  <a:lnTo>
                    <a:pt x="0" y="0"/>
                  </a:lnTo>
                  <a:lnTo>
                    <a:pt x="822" y="0"/>
                  </a:lnTo>
                  <a:lnTo>
                    <a:pt x="1638" y="0"/>
                  </a:lnTo>
                  <a:close/>
                </a:path>
              </a:pathLst>
            </a:custGeom>
            <a:solidFill>
              <a:srgbClr val="97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1" name=""/>
            <p:cNvSpPr/>
            <p:nvPr/>
          </p:nvSpPr>
          <p:spPr>
            <a:xfrm rot="16200000">
              <a:off x="7377840" y="4376880"/>
              <a:ext cx="47520" cy="96840"/>
            </a:xfrm>
            <a:prstGeom prst="rect">
              <a:avLst/>
            </a:prstGeom>
            <a:solidFill>
              <a:srgbClr val="bfb0b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2" name=""/>
            <p:cNvSpPr/>
            <p:nvPr/>
          </p:nvSpPr>
          <p:spPr>
            <a:xfrm rot="16200000">
              <a:off x="7377840" y="4424760"/>
              <a:ext cx="47880" cy="96840"/>
            </a:xfrm>
            <a:prstGeom prst="rect">
              <a:avLst/>
            </a:prstGeom>
            <a:solidFill>
              <a:srgbClr val="97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3" name=""/>
          <p:cNvSpPr/>
          <p:nvPr/>
        </p:nvSpPr>
        <p:spPr>
          <a:xfrm>
            <a:off x="191160" y="5472000"/>
            <a:ext cx="93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trada d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4" name=""/>
          <p:cNvSpPr/>
          <p:nvPr/>
        </p:nvSpPr>
        <p:spPr>
          <a:xfrm>
            <a:off x="2864520" y="3859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Via Per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5" name=""/>
          <p:cNvGrpSpPr/>
          <p:nvPr/>
        </p:nvGrpSpPr>
        <p:grpSpPr>
          <a:xfrm>
            <a:off x="2760840" y="2779200"/>
            <a:ext cx="206280" cy="357480"/>
            <a:chOff x="2760840" y="2779200"/>
            <a:chExt cx="206280" cy="357480"/>
          </a:xfrm>
        </p:grpSpPr>
        <p:sp>
          <p:nvSpPr>
            <p:cNvPr id="10056" name=""/>
            <p:cNvSpPr/>
            <p:nvPr/>
          </p:nvSpPr>
          <p:spPr>
            <a:xfrm rot="16200000">
              <a:off x="2685240" y="2854800"/>
              <a:ext cx="357480" cy="206280"/>
            </a:xfrm>
            <a:prstGeom prst="ellipse">
              <a:avLst/>
            </a:prstGeom>
            <a:solidFill>
              <a:srgbClr val="d028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7" name=""/>
            <p:cNvSpPr/>
            <p:nvPr/>
          </p:nvSpPr>
          <p:spPr>
            <a:xfrm rot="16200000">
              <a:off x="2709360" y="2871720"/>
              <a:ext cx="308880" cy="173160"/>
            </a:xfrm>
            <a:prstGeom prst="ellipse">
              <a:avLst/>
            </a:pr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8" name=""/>
            <p:cNvSpPr/>
            <p:nvPr/>
          </p:nvSpPr>
          <p:spPr>
            <a:xfrm rot="16200000">
              <a:off x="2724480" y="2881440"/>
              <a:ext cx="279720" cy="1533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9" name=""/>
            <p:cNvGrpSpPr/>
            <p:nvPr/>
          </p:nvGrpSpPr>
          <p:grpSpPr>
            <a:xfrm>
              <a:off x="2774160" y="2925720"/>
              <a:ext cx="24480" cy="59040"/>
              <a:chOff x="2774160" y="2925720"/>
              <a:chExt cx="24480" cy="59040"/>
            </a:xfrm>
          </p:grpSpPr>
          <p:sp>
            <p:nvSpPr>
              <p:cNvPr id="10060" name=""/>
              <p:cNvSpPr/>
              <p:nvPr/>
            </p:nvSpPr>
            <p:spPr>
              <a:xfrm rot="16200000">
                <a:off x="2771640" y="2957760"/>
                <a:ext cx="29520" cy="24480"/>
              </a:xfrm>
              <a:prstGeom prst="rect">
                <a:avLst/>
              </a:prstGeom>
              <a:solidFill>
                <a:srgbClr val="d028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 rot="16200000">
                <a:off x="2771640" y="2928240"/>
                <a:ext cx="29520" cy="2448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62" name=""/>
          <p:cNvGrpSpPr/>
          <p:nvPr/>
        </p:nvGrpSpPr>
        <p:grpSpPr>
          <a:xfrm>
            <a:off x="1595520" y="5258880"/>
            <a:ext cx="239760" cy="360360"/>
            <a:chOff x="1595520" y="5258880"/>
            <a:chExt cx="239760" cy="360360"/>
          </a:xfrm>
        </p:grpSpPr>
        <p:sp>
          <p:nvSpPr>
            <p:cNvPr id="10063" name=""/>
            <p:cNvSpPr/>
            <p:nvPr/>
          </p:nvSpPr>
          <p:spPr>
            <a:xfrm rot="16200000">
              <a:off x="1535040" y="5399280"/>
              <a:ext cx="360360" cy="795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108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4" name=""/>
            <p:cNvSpPr/>
            <p:nvPr/>
          </p:nvSpPr>
          <p:spPr>
            <a:xfrm rot="10800000">
              <a:off x="1595520" y="5339160"/>
              <a:ext cx="239760" cy="79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db8300"/>
                </a:gs>
                <a:gs pos="100000">
                  <a:srgbClr val="ff9900"/>
                </a:gs>
              </a:gsLst>
              <a:lin ang="5400000"/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1595520" y="5379120"/>
              <a:ext cx="2397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6" name=""/>
            <p:cNvSpPr/>
            <p:nvPr/>
          </p:nvSpPr>
          <p:spPr>
            <a:xfrm flipV="1">
              <a:off x="1715400" y="5258880"/>
              <a:ext cx="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7" name=""/>
            <p:cNvSpPr/>
            <p:nvPr/>
          </p:nvSpPr>
          <p:spPr>
            <a:xfrm rot="10800000">
              <a:off x="1675080" y="5339160"/>
              <a:ext cx="79560" cy="79920"/>
            </a:xfrm>
            <a:prstGeom prst="rect">
              <a:avLst/>
            </a:prstGeom>
            <a:solidFill>
              <a:srgbClr val="b2b2b2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8" name=""/>
            <p:cNvSpPr/>
            <p:nvPr/>
          </p:nvSpPr>
          <p:spPr>
            <a:xfrm rot="10800000">
              <a:off x="1695600" y="5358960"/>
              <a:ext cx="39600" cy="39960"/>
            </a:xfrm>
            <a:prstGeom prst="rect">
              <a:avLst/>
            </a:prstGeom>
            <a:gradFill rotWithShape="0">
              <a:gsLst>
                <a:gs pos="0">
                  <a:srgbClr val="afdbdb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1675440" y="5339160"/>
              <a:ext cx="79560" cy="7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0" name=""/>
            <p:cNvSpPr/>
            <p:nvPr/>
          </p:nvSpPr>
          <p:spPr>
            <a:xfrm flipV="1">
              <a:off x="1675440" y="5339160"/>
              <a:ext cx="79560" cy="7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1" name=""/>
          <p:cNvGrpSpPr/>
          <p:nvPr/>
        </p:nvGrpSpPr>
        <p:grpSpPr>
          <a:xfrm>
            <a:off x="9129240" y="5877000"/>
            <a:ext cx="530280" cy="811080"/>
            <a:chOff x="9129240" y="5877000"/>
            <a:chExt cx="530280" cy="811080"/>
          </a:xfrm>
        </p:grpSpPr>
        <p:sp>
          <p:nvSpPr>
            <p:cNvPr id="10072" name=""/>
            <p:cNvSpPr/>
            <p:nvPr/>
          </p:nvSpPr>
          <p:spPr>
            <a:xfrm rot="5400000">
              <a:off x="8988840" y="6017400"/>
              <a:ext cx="811080" cy="53028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73" name=""/>
            <p:cNvGrpSpPr/>
            <p:nvPr/>
          </p:nvGrpSpPr>
          <p:grpSpPr>
            <a:xfrm>
              <a:off x="9302040" y="5922720"/>
              <a:ext cx="183240" cy="678960"/>
              <a:chOff x="9302040" y="5922720"/>
              <a:chExt cx="183240" cy="678960"/>
            </a:xfrm>
          </p:grpSpPr>
          <p:sp>
            <p:nvSpPr>
              <p:cNvPr id="10074" name=""/>
              <p:cNvSpPr/>
              <p:nvPr/>
            </p:nvSpPr>
            <p:spPr>
              <a:xfrm flipH="1">
                <a:off x="9320760" y="5922720"/>
                <a:ext cx="146160" cy="16740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 flipH="1">
                <a:off x="9338400" y="6197760"/>
                <a:ext cx="109080" cy="403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 flipH="1">
                <a:off x="9301680" y="6087600"/>
                <a:ext cx="183240" cy="1288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 flipH="1">
                <a:off x="9422280" y="6113160"/>
                <a:ext cx="44640" cy="64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 flipH="1">
                <a:off x="9320040" y="6113160"/>
                <a:ext cx="45720" cy="64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9" name=""/>
          <p:cNvSpPr/>
          <p:nvPr/>
        </p:nvSpPr>
        <p:spPr>
          <a:xfrm rot="5400000">
            <a:off x="1676160" y="2960640"/>
            <a:ext cx="1459080" cy="954000"/>
          </a:xfrm>
          <a:prstGeom prst="flowChartDelay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0" name=""/>
          <p:cNvSpPr/>
          <p:nvPr/>
        </p:nvSpPr>
        <p:spPr>
          <a:xfrm>
            <a:off x="604440" y="204300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elat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1" name=""/>
          <p:cNvSpPr/>
          <p:nvPr/>
        </p:nvSpPr>
        <p:spPr>
          <a:xfrm>
            <a:off x="1904760" y="20430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Start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2" name=""/>
          <p:cNvGrpSpPr/>
          <p:nvPr/>
        </p:nvGrpSpPr>
        <p:grpSpPr>
          <a:xfrm>
            <a:off x="1928520" y="476280"/>
            <a:ext cx="940680" cy="1439280"/>
            <a:chOff x="1928520" y="476280"/>
            <a:chExt cx="940680" cy="1439280"/>
          </a:xfrm>
        </p:grpSpPr>
        <p:sp>
          <p:nvSpPr>
            <p:cNvPr id="10083" name=""/>
            <p:cNvSpPr/>
            <p:nvPr/>
          </p:nvSpPr>
          <p:spPr>
            <a:xfrm rot="5400000">
              <a:off x="1679040" y="725400"/>
              <a:ext cx="1439280" cy="94068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2400840" y="476280"/>
              <a:ext cx="0" cy="14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5" name=""/>
          <p:cNvSpPr/>
          <p:nvPr/>
        </p:nvSpPr>
        <p:spPr>
          <a:xfrm>
            <a:off x="3657600" y="20448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lbar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6" name=""/>
          <p:cNvGrpSpPr/>
          <p:nvPr/>
        </p:nvGrpSpPr>
        <p:grpSpPr>
          <a:xfrm>
            <a:off x="3638520" y="466560"/>
            <a:ext cx="954000" cy="1459080"/>
            <a:chOff x="3638520" y="466560"/>
            <a:chExt cx="954000" cy="1459080"/>
          </a:xfrm>
        </p:grpSpPr>
        <p:sp>
          <p:nvSpPr>
            <p:cNvPr id="10087" name=""/>
            <p:cNvSpPr/>
            <p:nvPr/>
          </p:nvSpPr>
          <p:spPr>
            <a:xfrm rot="5400000">
              <a:off x="3385800" y="718920"/>
              <a:ext cx="1459080" cy="954000"/>
            </a:xfrm>
            <a:prstGeom prst="flowChartDelay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8" name=""/>
            <p:cNvGrpSpPr/>
            <p:nvPr/>
          </p:nvGrpSpPr>
          <p:grpSpPr>
            <a:xfrm>
              <a:off x="3825720" y="1268280"/>
              <a:ext cx="576360" cy="431640"/>
              <a:chOff x="3825720" y="1268280"/>
              <a:chExt cx="576360" cy="431640"/>
            </a:xfrm>
          </p:grpSpPr>
          <p:sp>
            <p:nvSpPr>
              <p:cNvPr id="10089" name=""/>
              <p:cNvSpPr/>
              <p:nvPr/>
            </p:nvSpPr>
            <p:spPr>
              <a:xfrm>
                <a:off x="3825720" y="1268280"/>
                <a:ext cx="192240" cy="2718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4017600" y="1268280"/>
                <a:ext cx="192240" cy="2718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4209840" y="1268280"/>
                <a:ext cx="192240" cy="27180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3825720" y="1540440"/>
                <a:ext cx="576360" cy="159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3" name=""/>
            <p:cNvGrpSpPr/>
            <p:nvPr/>
          </p:nvGrpSpPr>
          <p:grpSpPr>
            <a:xfrm>
              <a:off x="3930480" y="476280"/>
              <a:ext cx="370080" cy="792000"/>
              <a:chOff x="3930480" y="476280"/>
              <a:chExt cx="370080" cy="792000"/>
            </a:xfrm>
          </p:grpSpPr>
          <p:sp>
            <p:nvSpPr>
              <p:cNvPr id="10094" name=""/>
              <p:cNvSpPr/>
              <p:nvPr/>
            </p:nvSpPr>
            <p:spPr>
              <a:xfrm>
                <a:off x="4020480" y="476280"/>
                <a:ext cx="180000" cy="310320"/>
              </a:xfrm>
              <a:prstGeom prst="triangle">
                <a:avLst>
                  <a:gd name="adj" fmla="val 50000"/>
                </a:avLst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4110480" y="630360"/>
                <a:ext cx="180000" cy="153720"/>
              </a:xfrm>
              <a:prstGeom prst="triangle">
                <a:avLst>
                  <a:gd name="adj" fmla="val 50000"/>
                </a:avLst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 flipV="1">
                <a:off x="3930480" y="784440"/>
                <a:ext cx="370080" cy="48384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3930480" y="630360"/>
                <a:ext cx="180000" cy="156240"/>
              </a:xfrm>
              <a:prstGeom prst="triangle">
                <a:avLst>
                  <a:gd name="adj" fmla="val 50000"/>
                </a:avLst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4020480" y="572040"/>
                <a:ext cx="180000" cy="21204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9" name=""/>
          <p:cNvGrpSpPr/>
          <p:nvPr/>
        </p:nvGrpSpPr>
        <p:grpSpPr>
          <a:xfrm>
            <a:off x="5239800" y="466560"/>
            <a:ext cx="954360" cy="1459080"/>
            <a:chOff x="5239800" y="466560"/>
            <a:chExt cx="954360" cy="1459080"/>
          </a:xfrm>
        </p:grpSpPr>
        <p:sp>
          <p:nvSpPr>
            <p:cNvPr id="10100" name=""/>
            <p:cNvSpPr/>
            <p:nvPr/>
          </p:nvSpPr>
          <p:spPr>
            <a:xfrm rot="5400000">
              <a:off x="4987440" y="718560"/>
              <a:ext cx="1459080" cy="954360"/>
            </a:xfrm>
            <a:prstGeom prst="flowChartDelay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1" name=""/>
            <p:cNvGrpSpPr/>
            <p:nvPr/>
          </p:nvGrpSpPr>
          <p:grpSpPr>
            <a:xfrm>
              <a:off x="5551200" y="549360"/>
              <a:ext cx="330120" cy="1222200"/>
              <a:chOff x="5551200" y="549360"/>
              <a:chExt cx="330120" cy="1222200"/>
            </a:xfrm>
          </p:grpSpPr>
          <p:sp>
            <p:nvSpPr>
              <p:cNvPr id="10102" name=""/>
              <p:cNvSpPr/>
              <p:nvPr/>
            </p:nvSpPr>
            <p:spPr>
              <a:xfrm flipH="1">
                <a:off x="5584680" y="549360"/>
                <a:ext cx="263520" cy="301680"/>
              </a:xfrm>
              <a:prstGeom prst="triangle">
                <a:avLst>
                  <a:gd name="adj" fmla="val 50000"/>
                </a:avLst>
              </a:prstGeom>
              <a:solidFill>
                <a:srgbClr val="ffcc99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 flipH="1">
                <a:off x="5617440" y="1044720"/>
                <a:ext cx="196920" cy="726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 flipH="1">
                <a:off x="5550840" y="846000"/>
                <a:ext cx="330120" cy="231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 flipH="1">
                <a:off x="5767560" y="892080"/>
                <a:ext cx="80640" cy="115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 flipH="1">
                <a:off x="5584680" y="892080"/>
                <a:ext cx="82800" cy="115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7" name=""/>
          <p:cNvSpPr/>
          <p:nvPr/>
        </p:nvSpPr>
        <p:spPr>
          <a:xfrm>
            <a:off x="5162040" y="204480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rt Mos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8" name=""/>
          <p:cNvSpPr/>
          <p:nvPr/>
        </p:nvSpPr>
        <p:spPr>
          <a:xfrm rot="5400000">
            <a:off x="6571800" y="718560"/>
            <a:ext cx="1459080" cy="954360"/>
          </a:xfrm>
          <a:prstGeom prst="flowChartDelay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9" name=""/>
          <p:cNvGrpSpPr/>
          <p:nvPr/>
        </p:nvGrpSpPr>
        <p:grpSpPr>
          <a:xfrm>
            <a:off x="7011360" y="872640"/>
            <a:ext cx="596520" cy="527040"/>
            <a:chOff x="7011360" y="872640"/>
            <a:chExt cx="596520" cy="527040"/>
          </a:xfrm>
        </p:grpSpPr>
        <p:sp>
          <p:nvSpPr>
            <p:cNvPr id="10110" name=""/>
            <p:cNvSpPr/>
            <p:nvPr/>
          </p:nvSpPr>
          <p:spPr>
            <a:xfrm rot="2700000">
              <a:off x="7449480" y="919080"/>
              <a:ext cx="158400" cy="64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1" name=""/>
            <p:cNvSpPr/>
            <p:nvPr/>
          </p:nvSpPr>
          <p:spPr>
            <a:xfrm rot="2700000">
              <a:off x="7373520" y="995400"/>
              <a:ext cx="158400" cy="64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2" name=""/>
            <p:cNvSpPr/>
            <p:nvPr/>
          </p:nvSpPr>
          <p:spPr>
            <a:xfrm rot="2700000">
              <a:off x="7318800" y="823680"/>
              <a:ext cx="59400" cy="475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3" name=""/>
            <p:cNvSpPr/>
            <p:nvPr/>
          </p:nvSpPr>
          <p:spPr>
            <a:xfrm rot="2700000">
              <a:off x="7045920" y="1189080"/>
              <a:ext cx="178200" cy="172800"/>
            </a:xfrm>
            <a:prstGeom prst="octagon">
              <a:avLst>
                <a:gd name="adj" fmla="val 2928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4" name=""/>
          <p:cNvGrpSpPr/>
          <p:nvPr/>
        </p:nvGrpSpPr>
        <p:grpSpPr>
          <a:xfrm>
            <a:off x="7039080" y="856440"/>
            <a:ext cx="543240" cy="544320"/>
            <a:chOff x="7039080" y="856440"/>
            <a:chExt cx="543240" cy="544320"/>
          </a:xfrm>
        </p:grpSpPr>
        <p:sp>
          <p:nvSpPr>
            <p:cNvPr id="10115" name=""/>
            <p:cNvSpPr/>
            <p:nvPr/>
          </p:nvSpPr>
          <p:spPr>
            <a:xfrm rot="18900000">
              <a:off x="7337880" y="891720"/>
              <a:ext cx="47520" cy="57636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6" name=""/>
            <p:cNvSpPr/>
            <p:nvPr/>
          </p:nvSpPr>
          <p:spPr>
            <a:xfrm rot="13500000">
              <a:off x="7441200" y="1217520"/>
              <a:ext cx="61920" cy="1447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7" name=""/>
            <p:cNvSpPr/>
            <p:nvPr/>
          </p:nvSpPr>
          <p:spPr>
            <a:xfrm rot="18900000">
              <a:off x="7082640" y="852480"/>
              <a:ext cx="48960" cy="144360"/>
            </a:xfrm>
            <a:prstGeom prst="triangle">
              <a:avLst>
                <a:gd name="adj" fmla="val 50000"/>
              </a:avLst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18" name=""/>
          <p:cNvSpPr/>
          <p:nvPr/>
        </p:nvSpPr>
        <p:spPr>
          <a:xfrm>
            <a:off x="6859440" y="682560"/>
            <a:ext cx="14472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9" name=""/>
          <p:cNvSpPr/>
          <p:nvPr/>
        </p:nvSpPr>
        <p:spPr>
          <a:xfrm>
            <a:off x="6759360" y="2044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emo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0" name=""/>
          <p:cNvSpPr/>
          <p:nvPr/>
        </p:nvSpPr>
        <p:spPr>
          <a:xfrm rot="5400000">
            <a:off x="204480" y="2952720"/>
            <a:ext cx="1458720" cy="954000"/>
          </a:xfrm>
          <a:prstGeom prst="flowChartDelay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1" name=""/>
          <p:cNvSpPr/>
          <p:nvPr/>
        </p:nvSpPr>
        <p:spPr>
          <a:xfrm>
            <a:off x="342360" y="427824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Gnomo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2" name=""/>
          <p:cNvGrpSpPr/>
          <p:nvPr/>
        </p:nvGrpSpPr>
        <p:grpSpPr>
          <a:xfrm>
            <a:off x="488880" y="2852640"/>
            <a:ext cx="777960" cy="1117800"/>
            <a:chOff x="488880" y="2852640"/>
            <a:chExt cx="777960" cy="1117800"/>
          </a:xfrm>
        </p:grpSpPr>
        <p:sp>
          <p:nvSpPr>
            <p:cNvPr id="10123" name=""/>
            <p:cNvSpPr/>
            <p:nvPr/>
          </p:nvSpPr>
          <p:spPr>
            <a:xfrm>
              <a:off x="488880" y="2852640"/>
              <a:ext cx="777960" cy="1117800"/>
            </a:xfrm>
            <a:custGeom>
              <a:avLst/>
              <a:gdLst/>
              <a:ahLst/>
              <a:rect l="l" t="t" r="r" b="b"/>
              <a:pathLst>
                <a:path w="1450" h="2085">
                  <a:moveTo>
                    <a:pt x="936" y="1531"/>
                  </a:moveTo>
                  <a:lnTo>
                    <a:pt x="942" y="1542"/>
                  </a:lnTo>
                  <a:lnTo>
                    <a:pt x="942" y="1554"/>
                  </a:lnTo>
                  <a:lnTo>
                    <a:pt x="942" y="1560"/>
                  </a:lnTo>
                  <a:lnTo>
                    <a:pt x="942" y="1571"/>
                  </a:lnTo>
                  <a:lnTo>
                    <a:pt x="942" y="1577"/>
                  </a:lnTo>
                  <a:lnTo>
                    <a:pt x="942" y="1588"/>
                  </a:lnTo>
                  <a:lnTo>
                    <a:pt x="942" y="1606"/>
                  </a:lnTo>
                  <a:lnTo>
                    <a:pt x="947" y="1623"/>
                  </a:lnTo>
                  <a:lnTo>
                    <a:pt x="953" y="1646"/>
                  </a:lnTo>
                  <a:lnTo>
                    <a:pt x="959" y="1664"/>
                  </a:lnTo>
                  <a:lnTo>
                    <a:pt x="965" y="1681"/>
                  </a:lnTo>
                  <a:lnTo>
                    <a:pt x="976" y="1698"/>
                  </a:lnTo>
                  <a:lnTo>
                    <a:pt x="982" y="1716"/>
                  </a:lnTo>
                  <a:lnTo>
                    <a:pt x="994" y="1727"/>
                  </a:lnTo>
                  <a:lnTo>
                    <a:pt x="1005" y="1739"/>
                  </a:lnTo>
                  <a:lnTo>
                    <a:pt x="1017" y="1750"/>
                  </a:lnTo>
                  <a:lnTo>
                    <a:pt x="1034" y="1762"/>
                  </a:lnTo>
                  <a:lnTo>
                    <a:pt x="1046" y="1773"/>
                  </a:lnTo>
                  <a:lnTo>
                    <a:pt x="1046" y="1785"/>
                  </a:lnTo>
                  <a:lnTo>
                    <a:pt x="1046" y="1791"/>
                  </a:lnTo>
                  <a:lnTo>
                    <a:pt x="1051" y="1796"/>
                  </a:lnTo>
                  <a:lnTo>
                    <a:pt x="1057" y="1808"/>
                  </a:lnTo>
                  <a:lnTo>
                    <a:pt x="1063" y="1814"/>
                  </a:lnTo>
                  <a:lnTo>
                    <a:pt x="1063" y="1820"/>
                  </a:lnTo>
                  <a:lnTo>
                    <a:pt x="1057" y="1820"/>
                  </a:lnTo>
                  <a:lnTo>
                    <a:pt x="1051" y="1820"/>
                  </a:lnTo>
                  <a:lnTo>
                    <a:pt x="1046" y="1820"/>
                  </a:lnTo>
                  <a:lnTo>
                    <a:pt x="1040" y="1820"/>
                  </a:lnTo>
                  <a:lnTo>
                    <a:pt x="1034" y="1820"/>
                  </a:lnTo>
                  <a:lnTo>
                    <a:pt x="1017" y="1831"/>
                  </a:lnTo>
                  <a:lnTo>
                    <a:pt x="999" y="1843"/>
                  </a:lnTo>
                  <a:lnTo>
                    <a:pt x="988" y="1860"/>
                  </a:lnTo>
                  <a:lnTo>
                    <a:pt x="976" y="1877"/>
                  </a:lnTo>
                  <a:lnTo>
                    <a:pt x="959" y="1895"/>
                  </a:lnTo>
                  <a:lnTo>
                    <a:pt x="947" y="1906"/>
                  </a:lnTo>
                  <a:lnTo>
                    <a:pt x="936" y="1906"/>
                  </a:lnTo>
                  <a:lnTo>
                    <a:pt x="924" y="1906"/>
                  </a:lnTo>
                  <a:lnTo>
                    <a:pt x="919" y="1906"/>
                  </a:lnTo>
                  <a:lnTo>
                    <a:pt x="907" y="1906"/>
                  </a:lnTo>
                  <a:lnTo>
                    <a:pt x="895" y="1906"/>
                  </a:lnTo>
                  <a:lnTo>
                    <a:pt x="890" y="1906"/>
                  </a:lnTo>
                  <a:lnTo>
                    <a:pt x="878" y="1912"/>
                  </a:lnTo>
                  <a:lnTo>
                    <a:pt x="872" y="1923"/>
                  </a:lnTo>
                  <a:lnTo>
                    <a:pt x="872" y="1935"/>
                  </a:lnTo>
                  <a:lnTo>
                    <a:pt x="872" y="1947"/>
                  </a:lnTo>
                  <a:lnTo>
                    <a:pt x="867" y="1952"/>
                  </a:lnTo>
                  <a:lnTo>
                    <a:pt x="849" y="1958"/>
                  </a:lnTo>
                  <a:lnTo>
                    <a:pt x="843" y="1964"/>
                  </a:lnTo>
                  <a:lnTo>
                    <a:pt x="838" y="1975"/>
                  </a:lnTo>
                  <a:lnTo>
                    <a:pt x="838" y="1987"/>
                  </a:lnTo>
                  <a:lnTo>
                    <a:pt x="838" y="1999"/>
                  </a:lnTo>
                  <a:lnTo>
                    <a:pt x="832" y="2010"/>
                  </a:lnTo>
                  <a:lnTo>
                    <a:pt x="832" y="2022"/>
                  </a:lnTo>
                  <a:lnTo>
                    <a:pt x="843" y="2022"/>
                  </a:lnTo>
                  <a:lnTo>
                    <a:pt x="849" y="2016"/>
                  </a:lnTo>
                  <a:lnTo>
                    <a:pt x="861" y="2010"/>
                  </a:lnTo>
                  <a:lnTo>
                    <a:pt x="867" y="2004"/>
                  </a:lnTo>
                  <a:lnTo>
                    <a:pt x="878" y="1999"/>
                  </a:lnTo>
                  <a:lnTo>
                    <a:pt x="890" y="1993"/>
                  </a:lnTo>
                  <a:lnTo>
                    <a:pt x="901" y="1993"/>
                  </a:lnTo>
                  <a:lnTo>
                    <a:pt x="901" y="2010"/>
                  </a:lnTo>
                  <a:lnTo>
                    <a:pt x="890" y="2022"/>
                  </a:lnTo>
                  <a:lnTo>
                    <a:pt x="884" y="2033"/>
                  </a:lnTo>
                  <a:lnTo>
                    <a:pt x="878" y="2045"/>
                  </a:lnTo>
                  <a:lnTo>
                    <a:pt x="872" y="2056"/>
                  </a:lnTo>
                  <a:lnTo>
                    <a:pt x="867" y="2068"/>
                  </a:lnTo>
                  <a:lnTo>
                    <a:pt x="872" y="2085"/>
                  </a:lnTo>
                  <a:lnTo>
                    <a:pt x="878" y="2085"/>
                  </a:lnTo>
                  <a:lnTo>
                    <a:pt x="890" y="2074"/>
                  </a:lnTo>
                  <a:lnTo>
                    <a:pt x="901" y="2062"/>
                  </a:lnTo>
                  <a:lnTo>
                    <a:pt x="913" y="2056"/>
                  </a:lnTo>
                  <a:lnTo>
                    <a:pt x="924" y="2045"/>
                  </a:lnTo>
                  <a:lnTo>
                    <a:pt x="936" y="2033"/>
                  </a:lnTo>
                  <a:lnTo>
                    <a:pt x="953" y="2027"/>
                  </a:lnTo>
                  <a:lnTo>
                    <a:pt x="953" y="2033"/>
                  </a:lnTo>
                  <a:lnTo>
                    <a:pt x="947" y="2039"/>
                  </a:lnTo>
                  <a:lnTo>
                    <a:pt x="947" y="2045"/>
                  </a:lnTo>
                  <a:lnTo>
                    <a:pt x="947" y="2051"/>
                  </a:lnTo>
                  <a:lnTo>
                    <a:pt x="947" y="2056"/>
                  </a:lnTo>
                  <a:lnTo>
                    <a:pt x="965" y="2079"/>
                  </a:lnTo>
                  <a:lnTo>
                    <a:pt x="971" y="2079"/>
                  </a:lnTo>
                  <a:lnTo>
                    <a:pt x="971" y="2074"/>
                  </a:lnTo>
                  <a:lnTo>
                    <a:pt x="976" y="2074"/>
                  </a:lnTo>
                  <a:lnTo>
                    <a:pt x="976" y="2068"/>
                  </a:lnTo>
                  <a:lnTo>
                    <a:pt x="982" y="2068"/>
                  </a:lnTo>
                  <a:lnTo>
                    <a:pt x="982" y="2062"/>
                  </a:lnTo>
                  <a:lnTo>
                    <a:pt x="988" y="2045"/>
                  </a:lnTo>
                  <a:lnTo>
                    <a:pt x="999" y="2033"/>
                  </a:lnTo>
                  <a:lnTo>
                    <a:pt x="1011" y="2016"/>
                  </a:lnTo>
                  <a:lnTo>
                    <a:pt x="1028" y="2004"/>
                  </a:lnTo>
                  <a:lnTo>
                    <a:pt x="1040" y="1993"/>
                  </a:lnTo>
                  <a:lnTo>
                    <a:pt x="1057" y="1981"/>
                  </a:lnTo>
                  <a:lnTo>
                    <a:pt x="1057" y="1993"/>
                  </a:lnTo>
                  <a:lnTo>
                    <a:pt x="1063" y="1999"/>
                  </a:lnTo>
                  <a:lnTo>
                    <a:pt x="1069" y="1999"/>
                  </a:lnTo>
                  <a:lnTo>
                    <a:pt x="1074" y="1999"/>
                  </a:lnTo>
                  <a:lnTo>
                    <a:pt x="1086" y="1999"/>
                  </a:lnTo>
                  <a:lnTo>
                    <a:pt x="1092" y="2004"/>
                  </a:lnTo>
                  <a:lnTo>
                    <a:pt x="1115" y="1999"/>
                  </a:lnTo>
                  <a:lnTo>
                    <a:pt x="1132" y="1993"/>
                  </a:lnTo>
                  <a:lnTo>
                    <a:pt x="1150" y="1981"/>
                  </a:lnTo>
                  <a:lnTo>
                    <a:pt x="1161" y="1964"/>
                  </a:lnTo>
                  <a:lnTo>
                    <a:pt x="1178" y="1952"/>
                  </a:lnTo>
                  <a:lnTo>
                    <a:pt x="1196" y="1947"/>
                  </a:lnTo>
                  <a:lnTo>
                    <a:pt x="1202" y="1941"/>
                  </a:lnTo>
                  <a:lnTo>
                    <a:pt x="1213" y="1941"/>
                  </a:lnTo>
                  <a:lnTo>
                    <a:pt x="1219" y="1941"/>
                  </a:lnTo>
                  <a:lnTo>
                    <a:pt x="1230" y="1935"/>
                  </a:lnTo>
                  <a:lnTo>
                    <a:pt x="1236" y="1929"/>
                  </a:lnTo>
                  <a:lnTo>
                    <a:pt x="1242" y="1923"/>
                  </a:lnTo>
                  <a:lnTo>
                    <a:pt x="1242" y="1918"/>
                  </a:lnTo>
                  <a:lnTo>
                    <a:pt x="1248" y="1918"/>
                  </a:lnTo>
                  <a:lnTo>
                    <a:pt x="1248" y="1912"/>
                  </a:lnTo>
                  <a:lnTo>
                    <a:pt x="1242" y="1906"/>
                  </a:lnTo>
                  <a:lnTo>
                    <a:pt x="1242" y="1900"/>
                  </a:lnTo>
                  <a:lnTo>
                    <a:pt x="1236" y="1900"/>
                  </a:lnTo>
                  <a:lnTo>
                    <a:pt x="1242" y="1895"/>
                  </a:lnTo>
                  <a:lnTo>
                    <a:pt x="1254" y="1889"/>
                  </a:lnTo>
                  <a:lnTo>
                    <a:pt x="1259" y="1883"/>
                  </a:lnTo>
                  <a:lnTo>
                    <a:pt x="1265" y="1877"/>
                  </a:lnTo>
                  <a:lnTo>
                    <a:pt x="1271" y="1872"/>
                  </a:lnTo>
                  <a:lnTo>
                    <a:pt x="1282" y="1866"/>
                  </a:lnTo>
                  <a:lnTo>
                    <a:pt x="1282" y="1860"/>
                  </a:lnTo>
                  <a:lnTo>
                    <a:pt x="1277" y="1860"/>
                  </a:lnTo>
                  <a:lnTo>
                    <a:pt x="1271" y="1860"/>
                  </a:lnTo>
                  <a:lnTo>
                    <a:pt x="1271" y="1854"/>
                  </a:lnTo>
                  <a:lnTo>
                    <a:pt x="1265" y="1854"/>
                  </a:lnTo>
                  <a:lnTo>
                    <a:pt x="1271" y="1843"/>
                  </a:lnTo>
                  <a:lnTo>
                    <a:pt x="1271" y="1837"/>
                  </a:lnTo>
                  <a:lnTo>
                    <a:pt x="1265" y="1837"/>
                  </a:lnTo>
                  <a:lnTo>
                    <a:pt x="1259" y="1831"/>
                  </a:lnTo>
                  <a:lnTo>
                    <a:pt x="1254" y="1825"/>
                  </a:lnTo>
                  <a:lnTo>
                    <a:pt x="1248" y="1820"/>
                  </a:lnTo>
                  <a:lnTo>
                    <a:pt x="1248" y="1802"/>
                  </a:lnTo>
                  <a:lnTo>
                    <a:pt x="1242" y="1785"/>
                  </a:lnTo>
                  <a:lnTo>
                    <a:pt x="1236" y="1768"/>
                  </a:lnTo>
                  <a:lnTo>
                    <a:pt x="1236" y="1750"/>
                  </a:lnTo>
                  <a:lnTo>
                    <a:pt x="1236" y="1733"/>
                  </a:lnTo>
                  <a:lnTo>
                    <a:pt x="1236" y="1716"/>
                  </a:lnTo>
                  <a:lnTo>
                    <a:pt x="1242" y="1704"/>
                  </a:lnTo>
                  <a:lnTo>
                    <a:pt x="1236" y="1687"/>
                  </a:lnTo>
                  <a:lnTo>
                    <a:pt x="1230" y="1675"/>
                  </a:lnTo>
                  <a:lnTo>
                    <a:pt x="1225" y="1658"/>
                  </a:lnTo>
                  <a:lnTo>
                    <a:pt x="1225" y="1646"/>
                  </a:lnTo>
                  <a:lnTo>
                    <a:pt x="1230" y="1629"/>
                  </a:lnTo>
                  <a:lnTo>
                    <a:pt x="1248" y="1612"/>
                  </a:lnTo>
                  <a:lnTo>
                    <a:pt x="1265" y="1588"/>
                  </a:lnTo>
                  <a:lnTo>
                    <a:pt x="1277" y="1565"/>
                  </a:lnTo>
                  <a:lnTo>
                    <a:pt x="1294" y="1548"/>
                  </a:lnTo>
                  <a:lnTo>
                    <a:pt x="1306" y="1525"/>
                  </a:lnTo>
                  <a:lnTo>
                    <a:pt x="1311" y="1502"/>
                  </a:lnTo>
                  <a:lnTo>
                    <a:pt x="1317" y="1513"/>
                  </a:lnTo>
                  <a:lnTo>
                    <a:pt x="1317" y="1525"/>
                  </a:lnTo>
                  <a:lnTo>
                    <a:pt x="1317" y="1542"/>
                  </a:lnTo>
                  <a:lnTo>
                    <a:pt x="1323" y="1554"/>
                  </a:lnTo>
                  <a:lnTo>
                    <a:pt x="1323" y="1565"/>
                  </a:lnTo>
                  <a:lnTo>
                    <a:pt x="1329" y="1577"/>
                  </a:lnTo>
                  <a:lnTo>
                    <a:pt x="1346" y="1594"/>
                  </a:lnTo>
                  <a:lnTo>
                    <a:pt x="1358" y="1612"/>
                  </a:lnTo>
                  <a:lnTo>
                    <a:pt x="1375" y="1629"/>
                  </a:lnTo>
                  <a:lnTo>
                    <a:pt x="1398" y="1640"/>
                  </a:lnTo>
                  <a:lnTo>
                    <a:pt x="1415" y="1652"/>
                  </a:lnTo>
                  <a:lnTo>
                    <a:pt x="1438" y="1652"/>
                  </a:lnTo>
                  <a:lnTo>
                    <a:pt x="1444" y="1652"/>
                  </a:lnTo>
                  <a:lnTo>
                    <a:pt x="1450" y="1646"/>
                  </a:lnTo>
                  <a:lnTo>
                    <a:pt x="1450" y="1640"/>
                  </a:lnTo>
                  <a:lnTo>
                    <a:pt x="1450" y="1635"/>
                  </a:lnTo>
                  <a:lnTo>
                    <a:pt x="1433" y="1617"/>
                  </a:lnTo>
                  <a:lnTo>
                    <a:pt x="1421" y="1594"/>
                  </a:lnTo>
                  <a:lnTo>
                    <a:pt x="1409" y="1571"/>
                  </a:lnTo>
                  <a:lnTo>
                    <a:pt x="1404" y="1554"/>
                  </a:lnTo>
                  <a:lnTo>
                    <a:pt x="1404" y="1525"/>
                  </a:lnTo>
                  <a:lnTo>
                    <a:pt x="1409" y="1502"/>
                  </a:lnTo>
                  <a:lnTo>
                    <a:pt x="1421" y="1473"/>
                  </a:lnTo>
                  <a:lnTo>
                    <a:pt x="1427" y="1450"/>
                  </a:lnTo>
                  <a:lnTo>
                    <a:pt x="1433" y="1421"/>
                  </a:lnTo>
                  <a:lnTo>
                    <a:pt x="1433" y="1386"/>
                  </a:lnTo>
                  <a:lnTo>
                    <a:pt x="1438" y="1357"/>
                  </a:lnTo>
                  <a:lnTo>
                    <a:pt x="1438" y="1328"/>
                  </a:lnTo>
                  <a:lnTo>
                    <a:pt x="1438" y="1288"/>
                  </a:lnTo>
                  <a:lnTo>
                    <a:pt x="1427" y="1248"/>
                  </a:lnTo>
                  <a:lnTo>
                    <a:pt x="1415" y="1213"/>
                  </a:lnTo>
                  <a:lnTo>
                    <a:pt x="1398" y="1178"/>
                  </a:lnTo>
                  <a:lnTo>
                    <a:pt x="1386" y="1144"/>
                  </a:lnTo>
                  <a:lnTo>
                    <a:pt x="1369" y="1109"/>
                  </a:lnTo>
                  <a:lnTo>
                    <a:pt x="1352" y="1080"/>
                  </a:lnTo>
                  <a:lnTo>
                    <a:pt x="1334" y="1051"/>
                  </a:lnTo>
                  <a:lnTo>
                    <a:pt x="1317" y="1017"/>
                  </a:lnTo>
                  <a:lnTo>
                    <a:pt x="1306" y="988"/>
                  </a:lnTo>
                  <a:lnTo>
                    <a:pt x="1294" y="953"/>
                  </a:lnTo>
                  <a:lnTo>
                    <a:pt x="1282" y="924"/>
                  </a:lnTo>
                  <a:lnTo>
                    <a:pt x="1271" y="872"/>
                  </a:lnTo>
                  <a:lnTo>
                    <a:pt x="1259" y="826"/>
                  </a:lnTo>
                  <a:lnTo>
                    <a:pt x="1248" y="774"/>
                  </a:lnTo>
                  <a:lnTo>
                    <a:pt x="1236" y="722"/>
                  </a:lnTo>
                  <a:lnTo>
                    <a:pt x="1230" y="676"/>
                  </a:lnTo>
                  <a:lnTo>
                    <a:pt x="1236" y="624"/>
                  </a:lnTo>
                  <a:lnTo>
                    <a:pt x="1242" y="606"/>
                  </a:lnTo>
                  <a:lnTo>
                    <a:pt x="1242" y="589"/>
                  </a:lnTo>
                  <a:lnTo>
                    <a:pt x="1242" y="572"/>
                  </a:lnTo>
                  <a:lnTo>
                    <a:pt x="1242" y="549"/>
                  </a:lnTo>
                  <a:lnTo>
                    <a:pt x="1254" y="537"/>
                  </a:lnTo>
                  <a:lnTo>
                    <a:pt x="1271" y="525"/>
                  </a:lnTo>
                  <a:lnTo>
                    <a:pt x="1271" y="520"/>
                  </a:lnTo>
                  <a:lnTo>
                    <a:pt x="1271" y="514"/>
                  </a:lnTo>
                  <a:lnTo>
                    <a:pt x="1271" y="508"/>
                  </a:lnTo>
                  <a:lnTo>
                    <a:pt x="1265" y="508"/>
                  </a:lnTo>
                  <a:lnTo>
                    <a:pt x="1259" y="502"/>
                  </a:lnTo>
                  <a:lnTo>
                    <a:pt x="1259" y="497"/>
                  </a:lnTo>
                  <a:lnTo>
                    <a:pt x="1254" y="485"/>
                  </a:lnTo>
                  <a:lnTo>
                    <a:pt x="1254" y="479"/>
                  </a:lnTo>
                  <a:lnTo>
                    <a:pt x="1254" y="468"/>
                  </a:lnTo>
                  <a:lnTo>
                    <a:pt x="1254" y="462"/>
                  </a:lnTo>
                  <a:lnTo>
                    <a:pt x="1259" y="450"/>
                  </a:lnTo>
                  <a:lnTo>
                    <a:pt x="1265" y="450"/>
                  </a:lnTo>
                  <a:lnTo>
                    <a:pt x="1271" y="450"/>
                  </a:lnTo>
                  <a:lnTo>
                    <a:pt x="1277" y="450"/>
                  </a:lnTo>
                  <a:lnTo>
                    <a:pt x="1282" y="450"/>
                  </a:lnTo>
                  <a:lnTo>
                    <a:pt x="1288" y="450"/>
                  </a:lnTo>
                  <a:lnTo>
                    <a:pt x="1288" y="445"/>
                  </a:lnTo>
                  <a:lnTo>
                    <a:pt x="1288" y="439"/>
                  </a:lnTo>
                  <a:lnTo>
                    <a:pt x="1282" y="433"/>
                  </a:lnTo>
                  <a:lnTo>
                    <a:pt x="1282" y="427"/>
                  </a:lnTo>
                  <a:lnTo>
                    <a:pt x="1282" y="421"/>
                  </a:lnTo>
                  <a:lnTo>
                    <a:pt x="1277" y="410"/>
                  </a:lnTo>
                  <a:lnTo>
                    <a:pt x="1277" y="398"/>
                  </a:lnTo>
                  <a:lnTo>
                    <a:pt x="1282" y="387"/>
                  </a:lnTo>
                  <a:lnTo>
                    <a:pt x="1288" y="375"/>
                  </a:lnTo>
                  <a:lnTo>
                    <a:pt x="1294" y="370"/>
                  </a:lnTo>
                  <a:lnTo>
                    <a:pt x="1294" y="358"/>
                  </a:lnTo>
                  <a:lnTo>
                    <a:pt x="1300" y="335"/>
                  </a:lnTo>
                  <a:lnTo>
                    <a:pt x="1306" y="318"/>
                  </a:lnTo>
                  <a:lnTo>
                    <a:pt x="1306" y="294"/>
                  </a:lnTo>
                  <a:lnTo>
                    <a:pt x="1311" y="277"/>
                  </a:lnTo>
                  <a:lnTo>
                    <a:pt x="1306" y="254"/>
                  </a:lnTo>
                  <a:lnTo>
                    <a:pt x="1300" y="237"/>
                  </a:lnTo>
                  <a:lnTo>
                    <a:pt x="1323" y="231"/>
                  </a:lnTo>
                  <a:lnTo>
                    <a:pt x="1340" y="214"/>
                  </a:lnTo>
                  <a:lnTo>
                    <a:pt x="1352" y="196"/>
                  </a:lnTo>
                  <a:lnTo>
                    <a:pt x="1369" y="173"/>
                  </a:lnTo>
                  <a:lnTo>
                    <a:pt x="1381" y="156"/>
                  </a:lnTo>
                  <a:lnTo>
                    <a:pt x="1398" y="138"/>
                  </a:lnTo>
                  <a:lnTo>
                    <a:pt x="1398" y="133"/>
                  </a:lnTo>
                  <a:lnTo>
                    <a:pt x="1404" y="127"/>
                  </a:lnTo>
                  <a:lnTo>
                    <a:pt x="1409" y="121"/>
                  </a:lnTo>
                  <a:lnTo>
                    <a:pt x="1409" y="115"/>
                  </a:lnTo>
                  <a:lnTo>
                    <a:pt x="1409" y="104"/>
                  </a:lnTo>
                  <a:lnTo>
                    <a:pt x="1409" y="98"/>
                  </a:lnTo>
                  <a:lnTo>
                    <a:pt x="1386" y="104"/>
                  </a:lnTo>
                  <a:lnTo>
                    <a:pt x="1369" y="104"/>
                  </a:lnTo>
                  <a:lnTo>
                    <a:pt x="1352" y="92"/>
                  </a:lnTo>
                  <a:lnTo>
                    <a:pt x="1334" y="81"/>
                  </a:lnTo>
                  <a:lnTo>
                    <a:pt x="1317" y="75"/>
                  </a:lnTo>
                  <a:lnTo>
                    <a:pt x="1300" y="75"/>
                  </a:lnTo>
                  <a:lnTo>
                    <a:pt x="1294" y="81"/>
                  </a:lnTo>
                  <a:lnTo>
                    <a:pt x="1288" y="81"/>
                  </a:lnTo>
                  <a:lnTo>
                    <a:pt x="1282" y="86"/>
                  </a:lnTo>
                  <a:lnTo>
                    <a:pt x="1277" y="86"/>
                  </a:lnTo>
                  <a:lnTo>
                    <a:pt x="1271" y="86"/>
                  </a:lnTo>
                  <a:lnTo>
                    <a:pt x="1265" y="86"/>
                  </a:lnTo>
                  <a:lnTo>
                    <a:pt x="1277" y="75"/>
                  </a:lnTo>
                  <a:lnTo>
                    <a:pt x="1288" y="63"/>
                  </a:lnTo>
                  <a:lnTo>
                    <a:pt x="1294" y="52"/>
                  </a:lnTo>
                  <a:lnTo>
                    <a:pt x="1300" y="40"/>
                  </a:lnTo>
                  <a:lnTo>
                    <a:pt x="1311" y="29"/>
                  </a:lnTo>
                  <a:lnTo>
                    <a:pt x="1323" y="17"/>
                  </a:lnTo>
                  <a:lnTo>
                    <a:pt x="1317" y="11"/>
                  </a:lnTo>
                  <a:lnTo>
                    <a:pt x="1311" y="17"/>
                  </a:lnTo>
                  <a:lnTo>
                    <a:pt x="1300" y="17"/>
                  </a:lnTo>
                  <a:lnTo>
                    <a:pt x="1294" y="11"/>
                  </a:lnTo>
                  <a:lnTo>
                    <a:pt x="1282" y="11"/>
                  </a:lnTo>
                  <a:lnTo>
                    <a:pt x="1277" y="6"/>
                  </a:lnTo>
                  <a:lnTo>
                    <a:pt x="1271" y="0"/>
                  </a:lnTo>
                  <a:lnTo>
                    <a:pt x="1254" y="6"/>
                  </a:lnTo>
                  <a:lnTo>
                    <a:pt x="1230" y="6"/>
                  </a:lnTo>
                  <a:lnTo>
                    <a:pt x="1213" y="11"/>
                  </a:lnTo>
                  <a:lnTo>
                    <a:pt x="1196" y="23"/>
                  </a:lnTo>
                  <a:lnTo>
                    <a:pt x="1178" y="29"/>
                  </a:lnTo>
                  <a:lnTo>
                    <a:pt x="1161" y="46"/>
                  </a:lnTo>
                  <a:lnTo>
                    <a:pt x="1150" y="46"/>
                  </a:lnTo>
                  <a:lnTo>
                    <a:pt x="1138" y="46"/>
                  </a:lnTo>
                  <a:lnTo>
                    <a:pt x="1126" y="46"/>
                  </a:lnTo>
                  <a:lnTo>
                    <a:pt x="1115" y="46"/>
                  </a:lnTo>
                  <a:lnTo>
                    <a:pt x="1109" y="46"/>
                  </a:lnTo>
                  <a:lnTo>
                    <a:pt x="1098" y="46"/>
                  </a:lnTo>
                  <a:lnTo>
                    <a:pt x="1080" y="46"/>
                  </a:lnTo>
                  <a:lnTo>
                    <a:pt x="1069" y="46"/>
                  </a:lnTo>
                  <a:lnTo>
                    <a:pt x="1057" y="46"/>
                  </a:lnTo>
                  <a:lnTo>
                    <a:pt x="1040" y="46"/>
                  </a:lnTo>
                  <a:lnTo>
                    <a:pt x="1028" y="46"/>
                  </a:lnTo>
                  <a:lnTo>
                    <a:pt x="1011" y="46"/>
                  </a:lnTo>
                  <a:lnTo>
                    <a:pt x="1005" y="46"/>
                  </a:lnTo>
                  <a:lnTo>
                    <a:pt x="999" y="46"/>
                  </a:lnTo>
                  <a:lnTo>
                    <a:pt x="994" y="46"/>
                  </a:lnTo>
                  <a:lnTo>
                    <a:pt x="988" y="46"/>
                  </a:lnTo>
                  <a:lnTo>
                    <a:pt x="982" y="46"/>
                  </a:lnTo>
                  <a:lnTo>
                    <a:pt x="976" y="46"/>
                  </a:lnTo>
                  <a:lnTo>
                    <a:pt x="953" y="46"/>
                  </a:lnTo>
                  <a:lnTo>
                    <a:pt x="930" y="46"/>
                  </a:lnTo>
                  <a:lnTo>
                    <a:pt x="901" y="46"/>
                  </a:lnTo>
                  <a:lnTo>
                    <a:pt x="878" y="52"/>
                  </a:lnTo>
                  <a:lnTo>
                    <a:pt x="855" y="52"/>
                  </a:lnTo>
                  <a:lnTo>
                    <a:pt x="832" y="58"/>
                  </a:lnTo>
                  <a:lnTo>
                    <a:pt x="826" y="52"/>
                  </a:lnTo>
                  <a:lnTo>
                    <a:pt x="815" y="52"/>
                  </a:lnTo>
                  <a:lnTo>
                    <a:pt x="803" y="46"/>
                  </a:lnTo>
                  <a:lnTo>
                    <a:pt x="791" y="40"/>
                  </a:lnTo>
                  <a:lnTo>
                    <a:pt x="786" y="46"/>
                  </a:lnTo>
                  <a:lnTo>
                    <a:pt x="774" y="52"/>
                  </a:lnTo>
                  <a:lnTo>
                    <a:pt x="774" y="69"/>
                  </a:lnTo>
                  <a:lnTo>
                    <a:pt x="774" y="86"/>
                  </a:lnTo>
                  <a:lnTo>
                    <a:pt x="780" y="98"/>
                  </a:lnTo>
                  <a:lnTo>
                    <a:pt x="791" y="115"/>
                  </a:lnTo>
                  <a:lnTo>
                    <a:pt x="803" y="127"/>
                  </a:lnTo>
                  <a:lnTo>
                    <a:pt x="815" y="144"/>
                  </a:lnTo>
                  <a:lnTo>
                    <a:pt x="809" y="150"/>
                  </a:lnTo>
                  <a:lnTo>
                    <a:pt x="803" y="156"/>
                  </a:lnTo>
                  <a:lnTo>
                    <a:pt x="791" y="156"/>
                  </a:lnTo>
                  <a:lnTo>
                    <a:pt x="786" y="162"/>
                  </a:lnTo>
                  <a:lnTo>
                    <a:pt x="780" y="167"/>
                  </a:lnTo>
                  <a:lnTo>
                    <a:pt x="774" y="173"/>
                  </a:lnTo>
                  <a:lnTo>
                    <a:pt x="774" y="179"/>
                  </a:lnTo>
                  <a:lnTo>
                    <a:pt x="774" y="185"/>
                  </a:lnTo>
                  <a:lnTo>
                    <a:pt x="768" y="190"/>
                  </a:lnTo>
                  <a:lnTo>
                    <a:pt x="774" y="202"/>
                  </a:lnTo>
                  <a:lnTo>
                    <a:pt x="774" y="208"/>
                  </a:lnTo>
                  <a:lnTo>
                    <a:pt x="780" y="214"/>
                  </a:lnTo>
                  <a:lnTo>
                    <a:pt x="791" y="219"/>
                  </a:lnTo>
                  <a:lnTo>
                    <a:pt x="803" y="214"/>
                  </a:lnTo>
                  <a:lnTo>
                    <a:pt x="809" y="208"/>
                  </a:lnTo>
                  <a:lnTo>
                    <a:pt x="820" y="202"/>
                  </a:lnTo>
                  <a:lnTo>
                    <a:pt x="826" y="190"/>
                  </a:lnTo>
                  <a:lnTo>
                    <a:pt x="838" y="185"/>
                  </a:lnTo>
                  <a:lnTo>
                    <a:pt x="838" y="196"/>
                  </a:lnTo>
                  <a:lnTo>
                    <a:pt x="838" y="202"/>
                  </a:lnTo>
                  <a:lnTo>
                    <a:pt x="838" y="208"/>
                  </a:lnTo>
                  <a:lnTo>
                    <a:pt x="838" y="219"/>
                  </a:lnTo>
                  <a:lnTo>
                    <a:pt x="838" y="225"/>
                  </a:lnTo>
                  <a:lnTo>
                    <a:pt x="843" y="231"/>
                  </a:lnTo>
                  <a:lnTo>
                    <a:pt x="849" y="237"/>
                  </a:lnTo>
                  <a:lnTo>
                    <a:pt x="861" y="237"/>
                  </a:lnTo>
                  <a:lnTo>
                    <a:pt x="872" y="231"/>
                  </a:lnTo>
                  <a:lnTo>
                    <a:pt x="878" y="225"/>
                  </a:lnTo>
                  <a:lnTo>
                    <a:pt x="890" y="225"/>
                  </a:lnTo>
                  <a:lnTo>
                    <a:pt x="901" y="225"/>
                  </a:lnTo>
                  <a:lnTo>
                    <a:pt x="913" y="225"/>
                  </a:lnTo>
                  <a:lnTo>
                    <a:pt x="924" y="231"/>
                  </a:lnTo>
                  <a:lnTo>
                    <a:pt x="936" y="237"/>
                  </a:lnTo>
                  <a:lnTo>
                    <a:pt x="947" y="248"/>
                  </a:lnTo>
                  <a:lnTo>
                    <a:pt x="953" y="266"/>
                  </a:lnTo>
                  <a:lnTo>
                    <a:pt x="959" y="277"/>
                  </a:lnTo>
                  <a:lnTo>
                    <a:pt x="947" y="283"/>
                  </a:lnTo>
                  <a:lnTo>
                    <a:pt x="936" y="289"/>
                  </a:lnTo>
                  <a:lnTo>
                    <a:pt x="919" y="294"/>
                  </a:lnTo>
                  <a:lnTo>
                    <a:pt x="907" y="294"/>
                  </a:lnTo>
                  <a:lnTo>
                    <a:pt x="890" y="300"/>
                  </a:lnTo>
                  <a:lnTo>
                    <a:pt x="878" y="300"/>
                  </a:lnTo>
                  <a:lnTo>
                    <a:pt x="855" y="312"/>
                  </a:lnTo>
                  <a:lnTo>
                    <a:pt x="832" y="318"/>
                  </a:lnTo>
                  <a:lnTo>
                    <a:pt x="809" y="323"/>
                  </a:lnTo>
                  <a:lnTo>
                    <a:pt x="791" y="335"/>
                  </a:lnTo>
                  <a:lnTo>
                    <a:pt x="768" y="346"/>
                  </a:lnTo>
                  <a:lnTo>
                    <a:pt x="751" y="358"/>
                  </a:lnTo>
                  <a:lnTo>
                    <a:pt x="739" y="370"/>
                  </a:lnTo>
                  <a:lnTo>
                    <a:pt x="728" y="375"/>
                  </a:lnTo>
                  <a:lnTo>
                    <a:pt x="716" y="387"/>
                  </a:lnTo>
                  <a:lnTo>
                    <a:pt x="705" y="398"/>
                  </a:lnTo>
                  <a:lnTo>
                    <a:pt x="693" y="410"/>
                  </a:lnTo>
                  <a:lnTo>
                    <a:pt x="693" y="421"/>
                  </a:lnTo>
                  <a:lnTo>
                    <a:pt x="687" y="421"/>
                  </a:lnTo>
                  <a:lnTo>
                    <a:pt x="687" y="416"/>
                  </a:lnTo>
                  <a:lnTo>
                    <a:pt x="682" y="410"/>
                  </a:lnTo>
                  <a:lnTo>
                    <a:pt x="682" y="404"/>
                  </a:lnTo>
                  <a:lnTo>
                    <a:pt x="676" y="404"/>
                  </a:lnTo>
                  <a:lnTo>
                    <a:pt x="670" y="398"/>
                  </a:lnTo>
                  <a:lnTo>
                    <a:pt x="659" y="393"/>
                  </a:lnTo>
                  <a:lnTo>
                    <a:pt x="647" y="393"/>
                  </a:lnTo>
                  <a:lnTo>
                    <a:pt x="641" y="393"/>
                  </a:lnTo>
                  <a:lnTo>
                    <a:pt x="630" y="398"/>
                  </a:lnTo>
                  <a:lnTo>
                    <a:pt x="624" y="398"/>
                  </a:lnTo>
                  <a:lnTo>
                    <a:pt x="612" y="387"/>
                  </a:lnTo>
                  <a:lnTo>
                    <a:pt x="595" y="375"/>
                  </a:lnTo>
                  <a:lnTo>
                    <a:pt x="584" y="364"/>
                  </a:lnTo>
                  <a:lnTo>
                    <a:pt x="566" y="358"/>
                  </a:lnTo>
                  <a:lnTo>
                    <a:pt x="555" y="346"/>
                  </a:lnTo>
                  <a:lnTo>
                    <a:pt x="543" y="335"/>
                  </a:lnTo>
                  <a:lnTo>
                    <a:pt x="514" y="323"/>
                  </a:lnTo>
                  <a:lnTo>
                    <a:pt x="485" y="306"/>
                  </a:lnTo>
                  <a:lnTo>
                    <a:pt x="462" y="289"/>
                  </a:lnTo>
                  <a:lnTo>
                    <a:pt x="439" y="271"/>
                  </a:lnTo>
                  <a:lnTo>
                    <a:pt x="410" y="254"/>
                  </a:lnTo>
                  <a:lnTo>
                    <a:pt x="381" y="242"/>
                  </a:lnTo>
                  <a:lnTo>
                    <a:pt x="364" y="225"/>
                  </a:lnTo>
                  <a:lnTo>
                    <a:pt x="347" y="208"/>
                  </a:lnTo>
                  <a:lnTo>
                    <a:pt x="329" y="190"/>
                  </a:lnTo>
                  <a:lnTo>
                    <a:pt x="312" y="173"/>
                  </a:lnTo>
                  <a:lnTo>
                    <a:pt x="295" y="156"/>
                  </a:lnTo>
                  <a:lnTo>
                    <a:pt x="277" y="144"/>
                  </a:lnTo>
                  <a:lnTo>
                    <a:pt x="266" y="133"/>
                  </a:lnTo>
                  <a:lnTo>
                    <a:pt x="254" y="115"/>
                  </a:lnTo>
                  <a:lnTo>
                    <a:pt x="243" y="104"/>
                  </a:lnTo>
                  <a:lnTo>
                    <a:pt x="225" y="92"/>
                  </a:lnTo>
                  <a:lnTo>
                    <a:pt x="214" y="81"/>
                  </a:lnTo>
                  <a:lnTo>
                    <a:pt x="197" y="75"/>
                  </a:lnTo>
                  <a:lnTo>
                    <a:pt x="191" y="69"/>
                  </a:lnTo>
                  <a:lnTo>
                    <a:pt x="179" y="63"/>
                  </a:lnTo>
                  <a:lnTo>
                    <a:pt x="168" y="63"/>
                  </a:lnTo>
                  <a:lnTo>
                    <a:pt x="162" y="58"/>
                  </a:lnTo>
                  <a:lnTo>
                    <a:pt x="150" y="52"/>
                  </a:lnTo>
                  <a:lnTo>
                    <a:pt x="145" y="46"/>
                  </a:lnTo>
                  <a:lnTo>
                    <a:pt x="139" y="46"/>
                  </a:lnTo>
                  <a:lnTo>
                    <a:pt x="133" y="46"/>
                  </a:lnTo>
                  <a:lnTo>
                    <a:pt x="127" y="52"/>
                  </a:lnTo>
                  <a:lnTo>
                    <a:pt x="116" y="52"/>
                  </a:lnTo>
                  <a:lnTo>
                    <a:pt x="110" y="58"/>
                  </a:lnTo>
                  <a:lnTo>
                    <a:pt x="104" y="63"/>
                  </a:lnTo>
                  <a:lnTo>
                    <a:pt x="98" y="63"/>
                  </a:lnTo>
                  <a:lnTo>
                    <a:pt x="93" y="63"/>
                  </a:lnTo>
                  <a:lnTo>
                    <a:pt x="93" y="69"/>
                  </a:lnTo>
                  <a:lnTo>
                    <a:pt x="87" y="69"/>
                  </a:lnTo>
                  <a:lnTo>
                    <a:pt x="81" y="75"/>
                  </a:lnTo>
                  <a:lnTo>
                    <a:pt x="81" y="81"/>
                  </a:lnTo>
                  <a:lnTo>
                    <a:pt x="87" y="86"/>
                  </a:lnTo>
                  <a:lnTo>
                    <a:pt x="104" y="86"/>
                  </a:lnTo>
                  <a:lnTo>
                    <a:pt x="116" y="86"/>
                  </a:lnTo>
                  <a:lnTo>
                    <a:pt x="133" y="86"/>
                  </a:lnTo>
                  <a:lnTo>
                    <a:pt x="145" y="92"/>
                  </a:lnTo>
                  <a:lnTo>
                    <a:pt x="156" y="98"/>
                  </a:lnTo>
                  <a:lnTo>
                    <a:pt x="162" y="110"/>
                  </a:lnTo>
                  <a:lnTo>
                    <a:pt x="150" y="121"/>
                  </a:lnTo>
                  <a:lnTo>
                    <a:pt x="139" y="127"/>
                  </a:lnTo>
                  <a:lnTo>
                    <a:pt x="121" y="127"/>
                  </a:lnTo>
                  <a:lnTo>
                    <a:pt x="104" y="121"/>
                  </a:lnTo>
                  <a:lnTo>
                    <a:pt x="93" y="121"/>
                  </a:lnTo>
                  <a:lnTo>
                    <a:pt x="81" y="127"/>
                  </a:lnTo>
                  <a:lnTo>
                    <a:pt x="69" y="133"/>
                  </a:lnTo>
                  <a:lnTo>
                    <a:pt x="64" y="138"/>
                  </a:lnTo>
                  <a:lnTo>
                    <a:pt x="52" y="150"/>
                  </a:lnTo>
                  <a:lnTo>
                    <a:pt x="41" y="156"/>
                  </a:lnTo>
                  <a:lnTo>
                    <a:pt x="35" y="167"/>
                  </a:lnTo>
                  <a:lnTo>
                    <a:pt x="29" y="179"/>
                  </a:lnTo>
                  <a:lnTo>
                    <a:pt x="46" y="173"/>
                  </a:lnTo>
                  <a:lnTo>
                    <a:pt x="64" y="167"/>
                  </a:lnTo>
                  <a:lnTo>
                    <a:pt x="81" y="162"/>
                  </a:lnTo>
                  <a:lnTo>
                    <a:pt x="98" y="162"/>
                  </a:lnTo>
                  <a:lnTo>
                    <a:pt x="116" y="162"/>
                  </a:lnTo>
                  <a:lnTo>
                    <a:pt x="133" y="167"/>
                  </a:lnTo>
                  <a:lnTo>
                    <a:pt x="104" y="185"/>
                  </a:lnTo>
                  <a:lnTo>
                    <a:pt x="98" y="202"/>
                  </a:lnTo>
                  <a:lnTo>
                    <a:pt x="87" y="208"/>
                  </a:lnTo>
                  <a:lnTo>
                    <a:pt x="75" y="219"/>
                  </a:lnTo>
                  <a:lnTo>
                    <a:pt x="64" y="225"/>
                  </a:lnTo>
                  <a:lnTo>
                    <a:pt x="58" y="237"/>
                  </a:lnTo>
                  <a:lnTo>
                    <a:pt x="52" y="248"/>
                  </a:lnTo>
                  <a:lnTo>
                    <a:pt x="58" y="254"/>
                  </a:lnTo>
                  <a:lnTo>
                    <a:pt x="58" y="260"/>
                  </a:lnTo>
                  <a:lnTo>
                    <a:pt x="64" y="266"/>
                  </a:lnTo>
                  <a:lnTo>
                    <a:pt x="69" y="271"/>
                  </a:lnTo>
                  <a:lnTo>
                    <a:pt x="75" y="271"/>
                  </a:lnTo>
                  <a:lnTo>
                    <a:pt x="75" y="260"/>
                  </a:lnTo>
                  <a:lnTo>
                    <a:pt x="87" y="254"/>
                  </a:lnTo>
                  <a:lnTo>
                    <a:pt x="98" y="248"/>
                  </a:lnTo>
                  <a:lnTo>
                    <a:pt x="104" y="242"/>
                  </a:lnTo>
                  <a:lnTo>
                    <a:pt x="116" y="237"/>
                  </a:lnTo>
                  <a:lnTo>
                    <a:pt x="121" y="225"/>
                  </a:lnTo>
                  <a:lnTo>
                    <a:pt x="133" y="225"/>
                  </a:lnTo>
                  <a:lnTo>
                    <a:pt x="139" y="225"/>
                  </a:lnTo>
                  <a:lnTo>
                    <a:pt x="145" y="225"/>
                  </a:lnTo>
                  <a:lnTo>
                    <a:pt x="156" y="225"/>
                  </a:lnTo>
                  <a:lnTo>
                    <a:pt x="162" y="225"/>
                  </a:lnTo>
                  <a:lnTo>
                    <a:pt x="168" y="225"/>
                  </a:lnTo>
                  <a:lnTo>
                    <a:pt x="139" y="248"/>
                  </a:lnTo>
                  <a:lnTo>
                    <a:pt x="139" y="266"/>
                  </a:lnTo>
                  <a:lnTo>
                    <a:pt x="133" y="271"/>
                  </a:lnTo>
                  <a:lnTo>
                    <a:pt x="121" y="277"/>
                  </a:lnTo>
                  <a:lnTo>
                    <a:pt x="116" y="283"/>
                  </a:lnTo>
                  <a:lnTo>
                    <a:pt x="104" y="289"/>
                  </a:lnTo>
                  <a:lnTo>
                    <a:pt x="104" y="300"/>
                  </a:lnTo>
                  <a:lnTo>
                    <a:pt x="104" y="306"/>
                  </a:lnTo>
                  <a:lnTo>
                    <a:pt x="104" y="312"/>
                  </a:lnTo>
                  <a:lnTo>
                    <a:pt x="104" y="318"/>
                  </a:lnTo>
                  <a:lnTo>
                    <a:pt x="110" y="323"/>
                  </a:lnTo>
                  <a:lnTo>
                    <a:pt x="110" y="329"/>
                  </a:lnTo>
                  <a:lnTo>
                    <a:pt x="116" y="329"/>
                  </a:lnTo>
                  <a:lnTo>
                    <a:pt x="121" y="323"/>
                  </a:lnTo>
                  <a:lnTo>
                    <a:pt x="127" y="318"/>
                  </a:lnTo>
                  <a:lnTo>
                    <a:pt x="133" y="312"/>
                  </a:lnTo>
                  <a:lnTo>
                    <a:pt x="133" y="306"/>
                  </a:lnTo>
                  <a:lnTo>
                    <a:pt x="139" y="300"/>
                  </a:lnTo>
                  <a:lnTo>
                    <a:pt x="145" y="294"/>
                  </a:lnTo>
                  <a:lnTo>
                    <a:pt x="150" y="289"/>
                  </a:lnTo>
                  <a:lnTo>
                    <a:pt x="156" y="289"/>
                  </a:lnTo>
                  <a:lnTo>
                    <a:pt x="162" y="283"/>
                  </a:lnTo>
                  <a:lnTo>
                    <a:pt x="168" y="283"/>
                  </a:lnTo>
                  <a:lnTo>
                    <a:pt x="173" y="283"/>
                  </a:lnTo>
                  <a:lnTo>
                    <a:pt x="179" y="289"/>
                  </a:lnTo>
                  <a:lnTo>
                    <a:pt x="185" y="294"/>
                  </a:lnTo>
                  <a:lnTo>
                    <a:pt x="197" y="294"/>
                  </a:lnTo>
                  <a:lnTo>
                    <a:pt x="202" y="289"/>
                  </a:lnTo>
                  <a:lnTo>
                    <a:pt x="208" y="289"/>
                  </a:lnTo>
                  <a:lnTo>
                    <a:pt x="220" y="289"/>
                  </a:lnTo>
                  <a:lnTo>
                    <a:pt x="220" y="294"/>
                  </a:lnTo>
                  <a:lnTo>
                    <a:pt x="225" y="300"/>
                  </a:lnTo>
                  <a:lnTo>
                    <a:pt x="231" y="300"/>
                  </a:lnTo>
                  <a:lnTo>
                    <a:pt x="237" y="300"/>
                  </a:lnTo>
                  <a:lnTo>
                    <a:pt x="243" y="306"/>
                  </a:lnTo>
                  <a:lnTo>
                    <a:pt x="243" y="312"/>
                  </a:lnTo>
                  <a:lnTo>
                    <a:pt x="254" y="329"/>
                  </a:lnTo>
                  <a:lnTo>
                    <a:pt x="266" y="346"/>
                  </a:lnTo>
                  <a:lnTo>
                    <a:pt x="283" y="364"/>
                  </a:lnTo>
                  <a:lnTo>
                    <a:pt x="301" y="381"/>
                  </a:lnTo>
                  <a:lnTo>
                    <a:pt x="318" y="393"/>
                  </a:lnTo>
                  <a:lnTo>
                    <a:pt x="335" y="404"/>
                  </a:lnTo>
                  <a:lnTo>
                    <a:pt x="341" y="410"/>
                  </a:lnTo>
                  <a:lnTo>
                    <a:pt x="341" y="416"/>
                  </a:lnTo>
                  <a:lnTo>
                    <a:pt x="341" y="421"/>
                  </a:lnTo>
                  <a:lnTo>
                    <a:pt x="341" y="427"/>
                  </a:lnTo>
                  <a:lnTo>
                    <a:pt x="341" y="433"/>
                  </a:lnTo>
                  <a:lnTo>
                    <a:pt x="341" y="439"/>
                  </a:lnTo>
                  <a:lnTo>
                    <a:pt x="347" y="439"/>
                  </a:lnTo>
                  <a:lnTo>
                    <a:pt x="352" y="433"/>
                  </a:lnTo>
                  <a:lnTo>
                    <a:pt x="358" y="433"/>
                  </a:lnTo>
                  <a:lnTo>
                    <a:pt x="364" y="433"/>
                  </a:lnTo>
                  <a:lnTo>
                    <a:pt x="370" y="433"/>
                  </a:lnTo>
                  <a:lnTo>
                    <a:pt x="370" y="439"/>
                  </a:lnTo>
                  <a:lnTo>
                    <a:pt x="376" y="445"/>
                  </a:lnTo>
                  <a:lnTo>
                    <a:pt x="376" y="456"/>
                  </a:lnTo>
                  <a:lnTo>
                    <a:pt x="381" y="468"/>
                  </a:lnTo>
                  <a:lnTo>
                    <a:pt x="381" y="473"/>
                  </a:lnTo>
                  <a:lnTo>
                    <a:pt x="387" y="485"/>
                  </a:lnTo>
                  <a:lnTo>
                    <a:pt x="381" y="491"/>
                  </a:lnTo>
                  <a:lnTo>
                    <a:pt x="376" y="502"/>
                  </a:lnTo>
                  <a:lnTo>
                    <a:pt x="381" y="502"/>
                  </a:lnTo>
                  <a:lnTo>
                    <a:pt x="387" y="508"/>
                  </a:lnTo>
                  <a:lnTo>
                    <a:pt x="393" y="502"/>
                  </a:lnTo>
                  <a:lnTo>
                    <a:pt x="399" y="502"/>
                  </a:lnTo>
                  <a:lnTo>
                    <a:pt x="404" y="497"/>
                  </a:lnTo>
                  <a:lnTo>
                    <a:pt x="410" y="497"/>
                  </a:lnTo>
                  <a:lnTo>
                    <a:pt x="416" y="508"/>
                  </a:lnTo>
                  <a:lnTo>
                    <a:pt x="410" y="520"/>
                  </a:lnTo>
                  <a:lnTo>
                    <a:pt x="410" y="531"/>
                  </a:lnTo>
                  <a:lnTo>
                    <a:pt x="404" y="543"/>
                  </a:lnTo>
                  <a:lnTo>
                    <a:pt x="404" y="554"/>
                  </a:lnTo>
                  <a:lnTo>
                    <a:pt x="399" y="560"/>
                  </a:lnTo>
                  <a:lnTo>
                    <a:pt x="404" y="566"/>
                  </a:lnTo>
                  <a:lnTo>
                    <a:pt x="410" y="560"/>
                  </a:lnTo>
                  <a:lnTo>
                    <a:pt x="416" y="560"/>
                  </a:lnTo>
                  <a:lnTo>
                    <a:pt x="422" y="560"/>
                  </a:lnTo>
                  <a:lnTo>
                    <a:pt x="428" y="560"/>
                  </a:lnTo>
                  <a:lnTo>
                    <a:pt x="433" y="560"/>
                  </a:lnTo>
                  <a:lnTo>
                    <a:pt x="433" y="566"/>
                  </a:lnTo>
                  <a:lnTo>
                    <a:pt x="433" y="572"/>
                  </a:lnTo>
                  <a:lnTo>
                    <a:pt x="433" y="577"/>
                  </a:lnTo>
                  <a:lnTo>
                    <a:pt x="433" y="583"/>
                  </a:lnTo>
                  <a:lnTo>
                    <a:pt x="428" y="583"/>
                  </a:lnTo>
                  <a:lnTo>
                    <a:pt x="433" y="595"/>
                  </a:lnTo>
                  <a:lnTo>
                    <a:pt x="433" y="601"/>
                  </a:lnTo>
                  <a:lnTo>
                    <a:pt x="439" y="606"/>
                  </a:lnTo>
                  <a:lnTo>
                    <a:pt x="445" y="618"/>
                  </a:lnTo>
                  <a:lnTo>
                    <a:pt x="451" y="624"/>
                  </a:lnTo>
                  <a:lnTo>
                    <a:pt x="456" y="624"/>
                  </a:lnTo>
                  <a:lnTo>
                    <a:pt x="462" y="618"/>
                  </a:lnTo>
                  <a:lnTo>
                    <a:pt x="462" y="606"/>
                  </a:lnTo>
                  <a:lnTo>
                    <a:pt x="468" y="595"/>
                  </a:lnTo>
                  <a:lnTo>
                    <a:pt x="468" y="589"/>
                  </a:lnTo>
                  <a:lnTo>
                    <a:pt x="474" y="577"/>
                  </a:lnTo>
                  <a:lnTo>
                    <a:pt x="480" y="572"/>
                  </a:lnTo>
                  <a:lnTo>
                    <a:pt x="497" y="589"/>
                  </a:lnTo>
                  <a:lnTo>
                    <a:pt x="508" y="595"/>
                  </a:lnTo>
                  <a:lnTo>
                    <a:pt x="514" y="601"/>
                  </a:lnTo>
                  <a:lnTo>
                    <a:pt x="526" y="612"/>
                  </a:lnTo>
                  <a:lnTo>
                    <a:pt x="526" y="624"/>
                  </a:lnTo>
                  <a:lnTo>
                    <a:pt x="532" y="635"/>
                  </a:lnTo>
                  <a:lnTo>
                    <a:pt x="537" y="647"/>
                  </a:lnTo>
                  <a:lnTo>
                    <a:pt x="503" y="647"/>
                  </a:lnTo>
                  <a:lnTo>
                    <a:pt x="474" y="653"/>
                  </a:lnTo>
                  <a:lnTo>
                    <a:pt x="445" y="658"/>
                  </a:lnTo>
                  <a:lnTo>
                    <a:pt x="410" y="664"/>
                  </a:lnTo>
                  <a:lnTo>
                    <a:pt x="381" y="670"/>
                  </a:lnTo>
                  <a:lnTo>
                    <a:pt x="347" y="670"/>
                  </a:lnTo>
                  <a:lnTo>
                    <a:pt x="318" y="681"/>
                  </a:lnTo>
                  <a:lnTo>
                    <a:pt x="289" y="687"/>
                  </a:lnTo>
                  <a:lnTo>
                    <a:pt x="260" y="687"/>
                  </a:lnTo>
                  <a:lnTo>
                    <a:pt x="237" y="699"/>
                  </a:lnTo>
                  <a:lnTo>
                    <a:pt x="208" y="705"/>
                  </a:lnTo>
                  <a:lnTo>
                    <a:pt x="179" y="722"/>
                  </a:lnTo>
                  <a:lnTo>
                    <a:pt x="173" y="728"/>
                  </a:lnTo>
                  <a:lnTo>
                    <a:pt x="162" y="728"/>
                  </a:lnTo>
                  <a:lnTo>
                    <a:pt x="150" y="728"/>
                  </a:lnTo>
                  <a:lnTo>
                    <a:pt x="139" y="722"/>
                  </a:lnTo>
                  <a:lnTo>
                    <a:pt x="127" y="722"/>
                  </a:lnTo>
                  <a:lnTo>
                    <a:pt x="116" y="722"/>
                  </a:lnTo>
                  <a:lnTo>
                    <a:pt x="98" y="728"/>
                  </a:lnTo>
                  <a:lnTo>
                    <a:pt x="81" y="739"/>
                  </a:lnTo>
                  <a:lnTo>
                    <a:pt x="64" y="757"/>
                  </a:lnTo>
                  <a:lnTo>
                    <a:pt x="46" y="768"/>
                  </a:lnTo>
                  <a:lnTo>
                    <a:pt x="29" y="780"/>
                  </a:lnTo>
                  <a:lnTo>
                    <a:pt x="12" y="791"/>
                  </a:lnTo>
                  <a:lnTo>
                    <a:pt x="12" y="803"/>
                  </a:lnTo>
                  <a:lnTo>
                    <a:pt x="6" y="809"/>
                  </a:lnTo>
                  <a:lnTo>
                    <a:pt x="6" y="820"/>
                  </a:lnTo>
                  <a:lnTo>
                    <a:pt x="0" y="832"/>
                  </a:lnTo>
                  <a:lnTo>
                    <a:pt x="6" y="843"/>
                  </a:lnTo>
                  <a:lnTo>
                    <a:pt x="6" y="849"/>
                  </a:lnTo>
                  <a:lnTo>
                    <a:pt x="23" y="843"/>
                  </a:lnTo>
                  <a:lnTo>
                    <a:pt x="35" y="832"/>
                  </a:lnTo>
                  <a:lnTo>
                    <a:pt x="46" y="820"/>
                  </a:lnTo>
                  <a:lnTo>
                    <a:pt x="58" y="809"/>
                  </a:lnTo>
                  <a:lnTo>
                    <a:pt x="75" y="797"/>
                  </a:lnTo>
                  <a:lnTo>
                    <a:pt x="87" y="785"/>
                  </a:lnTo>
                  <a:lnTo>
                    <a:pt x="81" y="797"/>
                  </a:lnTo>
                  <a:lnTo>
                    <a:pt x="69" y="809"/>
                  </a:lnTo>
                  <a:lnTo>
                    <a:pt x="64" y="814"/>
                  </a:lnTo>
                  <a:lnTo>
                    <a:pt x="52" y="826"/>
                  </a:lnTo>
                  <a:lnTo>
                    <a:pt x="46" y="837"/>
                  </a:lnTo>
                  <a:lnTo>
                    <a:pt x="35" y="849"/>
                  </a:lnTo>
                  <a:lnTo>
                    <a:pt x="35" y="861"/>
                  </a:lnTo>
                  <a:lnTo>
                    <a:pt x="35" y="872"/>
                  </a:lnTo>
                  <a:lnTo>
                    <a:pt x="29" y="884"/>
                  </a:lnTo>
                  <a:lnTo>
                    <a:pt x="29" y="889"/>
                  </a:lnTo>
                  <a:lnTo>
                    <a:pt x="29" y="901"/>
                  </a:lnTo>
                  <a:lnTo>
                    <a:pt x="29" y="913"/>
                  </a:lnTo>
                  <a:lnTo>
                    <a:pt x="35" y="918"/>
                  </a:lnTo>
                  <a:lnTo>
                    <a:pt x="35" y="930"/>
                  </a:lnTo>
                  <a:lnTo>
                    <a:pt x="41" y="936"/>
                  </a:lnTo>
                  <a:lnTo>
                    <a:pt x="46" y="936"/>
                  </a:lnTo>
                  <a:lnTo>
                    <a:pt x="52" y="941"/>
                  </a:lnTo>
                  <a:lnTo>
                    <a:pt x="64" y="947"/>
                  </a:lnTo>
                  <a:lnTo>
                    <a:pt x="64" y="941"/>
                  </a:lnTo>
                  <a:lnTo>
                    <a:pt x="64" y="936"/>
                  </a:lnTo>
                  <a:lnTo>
                    <a:pt x="64" y="930"/>
                  </a:lnTo>
                  <a:lnTo>
                    <a:pt x="64" y="924"/>
                  </a:lnTo>
                  <a:lnTo>
                    <a:pt x="64" y="918"/>
                  </a:lnTo>
                  <a:lnTo>
                    <a:pt x="64" y="913"/>
                  </a:lnTo>
                  <a:lnTo>
                    <a:pt x="64" y="907"/>
                  </a:lnTo>
                  <a:lnTo>
                    <a:pt x="69" y="901"/>
                  </a:lnTo>
                  <a:lnTo>
                    <a:pt x="69" y="895"/>
                  </a:lnTo>
                  <a:lnTo>
                    <a:pt x="69" y="884"/>
                  </a:lnTo>
                  <a:lnTo>
                    <a:pt x="75" y="878"/>
                  </a:lnTo>
                  <a:lnTo>
                    <a:pt x="75" y="866"/>
                  </a:lnTo>
                  <a:lnTo>
                    <a:pt x="81" y="861"/>
                  </a:lnTo>
                  <a:lnTo>
                    <a:pt x="93" y="861"/>
                  </a:lnTo>
                  <a:lnTo>
                    <a:pt x="104" y="861"/>
                  </a:lnTo>
                  <a:lnTo>
                    <a:pt x="110" y="861"/>
                  </a:lnTo>
                  <a:lnTo>
                    <a:pt x="121" y="849"/>
                  </a:lnTo>
                  <a:lnTo>
                    <a:pt x="121" y="855"/>
                  </a:lnTo>
                  <a:lnTo>
                    <a:pt x="121" y="861"/>
                  </a:lnTo>
                  <a:lnTo>
                    <a:pt x="116" y="866"/>
                  </a:lnTo>
                  <a:lnTo>
                    <a:pt x="110" y="872"/>
                  </a:lnTo>
                  <a:lnTo>
                    <a:pt x="104" y="884"/>
                  </a:lnTo>
                  <a:lnTo>
                    <a:pt x="104" y="889"/>
                  </a:lnTo>
                  <a:lnTo>
                    <a:pt x="104" y="895"/>
                  </a:lnTo>
                  <a:lnTo>
                    <a:pt x="98" y="907"/>
                  </a:lnTo>
                  <a:lnTo>
                    <a:pt x="98" y="913"/>
                  </a:lnTo>
                  <a:lnTo>
                    <a:pt x="93" y="924"/>
                  </a:lnTo>
                  <a:lnTo>
                    <a:pt x="93" y="936"/>
                  </a:lnTo>
                  <a:lnTo>
                    <a:pt x="93" y="941"/>
                  </a:lnTo>
                  <a:lnTo>
                    <a:pt x="98" y="953"/>
                  </a:lnTo>
                  <a:lnTo>
                    <a:pt x="98" y="959"/>
                  </a:lnTo>
                  <a:lnTo>
                    <a:pt x="104" y="959"/>
                  </a:lnTo>
                  <a:lnTo>
                    <a:pt x="104" y="965"/>
                  </a:lnTo>
                  <a:lnTo>
                    <a:pt x="110" y="970"/>
                  </a:lnTo>
                  <a:lnTo>
                    <a:pt x="116" y="970"/>
                  </a:lnTo>
                  <a:lnTo>
                    <a:pt x="121" y="965"/>
                  </a:lnTo>
                  <a:lnTo>
                    <a:pt x="127" y="953"/>
                  </a:lnTo>
                  <a:lnTo>
                    <a:pt x="133" y="941"/>
                  </a:lnTo>
                  <a:lnTo>
                    <a:pt x="133" y="930"/>
                  </a:lnTo>
                  <a:lnTo>
                    <a:pt x="139" y="918"/>
                  </a:lnTo>
                  <a:lnTo>
                    <a:pt x="139" y="907"/>
                  </a:lnTo>
                  <a:lnTo>
                    <a:pt x="145" y="901"/>
                  </a:lnTo>
                  <a:lnTo>
                    <a:pt x="150" y="895"/>
                  </a:lnTo>
                  <a:lnTo>
                    <a:pt x="150" y="889"/>
                  </a:lnTo>
                  <a:lnTo>
                    <a:pt x="156" y="884"/>
                  </a:lnTo>
                  <a:lnTo>
                    <a:pt x="162" y="878"/>
                  </a:lnTo>
                  <a:lnTo>
                    <a:pt x="168" y="884"/>
                  </a:lnTo>
                  <a:lnTo>
                    <a:pt x="168" y="895"/>
                  </a:lnTo>
                  <a:lnTo>
                    <a:pt x="162" y="913"/>
                  </a:lnTo>
                  <a:lnTo>
                    <a:pt x="162" y="930"/>
                  </a:lnTo>
                  <a:lnTo>
                    <a:pt x="162" y="941"/>
                  </a:lnTo>
                  <a:lnTo>
                    <a:pt x="168" y="959"/>
                  </a:lnTo>
                  <a:lnTo>
                    <a:pt x="179" y="970"/>
                  </a:lnTo>
                  <a:lnTo>
                    <a:pt x="185" y="959"/>
                  </a:lnTo>
                  <a:lnTo>
                    <a:pt x="191" y="947"/>
                  </a:lnTo>
                  <a:lnTo>
                    <a:pt x="191" y="936"/>
                  </a:lnTo>
                  <a:lnTo>
                    <a:pt x="191" y="924"/>
                  </a:lnTo>
                  <a:lnTo>
                    <a:pt x="191" y="913"/>
                  </a:lnTo>
                  <a:lnTo>
                    <a:pt x="197" y="901"/>
                  </a:lnTo>
                  <a:lnTo>
                    <a:pt x="197" y="895"/>
                  </a:lnTo>
                  <a:lnTo>
                    <a:pt x="202" y="889"/>
                  </a:lnTo>
                  <a:lnTo>
                    <a:pt x="208" y="889"/>
                  </a:lnTo>
                  <a:lnTo>
                    <a:pt x="214" y="889"/>
                  </a:lnTo>
                  <a:lnTo>
                    <a:pt x="220" y="884"/>
                  </a:lnTo>
                  <a:lnTo>
                    <a:pt x="225" y="884"/>
                  </a:lnTo>
                  <a:lnTo>
                    <a:pt x="231" y="878"/>
                  </a:lnTo>
                  <a:lnTo>
                    <a:pt x="237" y="872"/>
                  </a:lnTo>
                  <a:lnTo>
                    <a:pt x="243" y="866"/>
                  </a:lnTo>
                  <a:lnTo>
                    <a:pt x="249" y="855"/>
                  </a:lnTo>
                  <a:lnTo>
                    <a:pt x="254" y="849"/>
                  </a:lnTo>
                  <a:lnTo>
                    <a:pt x="254" y="843"/>
                  </a:lnTo>
                  <a:lnTo>
                    <a:pt x="260" y="837"/>
                  </a:lnTo>
                  <a:lnTo>
                    <a:pt x="260" y="832"/>
                  </a:lnTo>
                  <a:lnTo>
                    <a:pt x="266" y="826"/>
                  </a:lnTo>
                  <a:lnTo>
                    <a:pt x="272" y="826"/>
                  </a:lnTo>
                  <a:lnTo>
                    <a:pt x="277" y="826"/>
                  </a:lnTo>
                  <a:lnTo>
                    <a:pt x="283" y="826"/>
                  </a:lnTo>
                  <a:lnTo>
                    <a:pt x="283" y="832"/>
                  </a:lnTo>
                  <a:lnTo>
                    <a:pt x="289" y="832"/>
                  </a:lnTo>
                  <a:lnTo>
                    <a:pt x="289" y="837"/>
                  </a:lnTo>
                  <a:lnTo>
                    <a:pt x="289" y="843"/>
                  </a:lnTo>
                  <a:lnTo>
                    <a:pt x="289" y="849"/>
                  </a:lnTo>
                  <a:lnTo>
                    <a:pt x="295" y="855"/>
                  </a:lnTo>
                  <a:lnTo>
                    <a:pt x="301" y="861"/>
                  </a:lnTo>
                  <a:lnTo>
                    <a:pt x="306" y="861"/>
                  </a:lnTo>
                  <a:lnTo>
                    <a:pt x="312" y="866"/>
                  </a:lnTo>
                  <a:lnTo>
                    <a:pt x="324" y="861"/>
                  </a:lnTo>
                  <a:lnTo>
                    <a:pt x="329" y="861"/>
                  </a:lnTo>
                  <a:lnTo>
                    <a:pt x="341" y="861"/>
                  </a:lnTo>
                  <a:lnTo>
                    <a:pt x="352" y="855"/>
                  </a:lnTo>
                  <a:lnTo>
                    <a:pt x="358" y="855"/>
                  </a:lnTo>
                  <a:lnTo>
                    <a:pt x="370" y="849"/>
                  </a:lnTo>
                  <a:lnTo>
                    <a:pt x="376" y="855"/>
                  </a:lnTo>
                  <a:lnTo>
                    <a:pt x="376" y="861"/>
                  </a:lnTo>
                  <a:lnTo>
                    <a:pt x="381" y="866"/>
                  </a:lnTo>
                  <a:lnTo>
                    <a:pt x="381" y="872"/>
                  </a:lnTo>
                  <a:lnTo>
                    <a:pt x="387" y="878"/>
                  </a:lnTo>
                  <a:lnTo>
                    <a:pt x="387" y="884"/>
                  </a:lnTo>
                  <a:lnTo>
                    <a:pt x="399" y="878"/>
                  </a:lnTo>
                  <a:lnTo>
                    <a:pt x="404" y="872"/>
                  </a:lnTo>
                  <a:lnTo>
                    <a:pt x="416" y="866"/>
                  </a:lnTo>
                  <a:lnTo>
                    <a:pt x="422" y="861"/>
                  </a:lnTo>
                  <a:lnTo>
                    <a:pt x="433" y="855"/>
                  </a:lnTo>
                  <a:lnTo>
                    <a:pt x="439" y="849"/>
                  </a:lnTo>
                  <a:lnTo>
                    <a:pt x="445" y="855"/>
                  </a:lnTo>
                  <a:lnTo>
                    <a:pt x="445" y="861"/>
                  </a:lnTo>
                  <a:lnTo>
                    <a:pt x="445" y="866"/>
                  </a:lnTo>
                  <a:lnTo>
                    <a:pt x="445" y="872"/>
                  </a:lnTo>
                  <a:lnTo>
                    <a:pt x="445" y="878"/>
                  </a:lnTo>
                  <a:lnTo>
                    <a:pt x="445" y="884"/>
                  </a:lnTo>
                  <a:lnTo>
                    <a:pt x="451" y="884"/>
                  </a:lnTo>
                  <a:lnTo>
                    <a:pt x="462" y="878"/>
                  </a:lnTo>
                  <a:lnTo>
                    <a:pt x="474" y="872"/>
                  </a:lnTo>
                  <a:lnTo>
                    <a:pt x="485" y="866"/>
                  </a:lnTo>
                  <a:lnTo>
                    <a:pt x="497" y="861"/>
                  </a:lnTo>
                  <a:lnTo>
                    <a:pt x="508" y="861"/>
                  </a:lnTo>
                  <a:lnTo>
                    <a:pt x="526" y="861"/>
                  </a:lnTo>
                  <a:lnTo>
                    <a:pt x="537" y="855"/>
                  </a:lnTo>
                  <a:lnTo>
                    <a:pt x="543" y="861"/>
                  </a:lnTo>
                  <a:lnTo>
                    <a:pt x="543" y="872"/>
                  </a:lnTo>
                  <a:lnTo>
                    <a:pt x="543" y="884"/>
                  </a:lnTo>
                  <a:lnTo>
                    <a:pt x="549" y="895"/>
                  </a:lnTo>
                  <a:lnTo>
                    <a:pt x="555" y="901"/>
                  </a:lnTo>
                  <a:lnTo>
                    <a:pt x="560" y="895"/>
                  </a:lnTo>
                  <a:lnTo>
                    <a:pt x="572" y="889"/>
                  </a:lnTo>
                  <a:lnTo>
                    <a:pt x="578" y="878"/>
                  </a:lnTo>
                  <a:lnTo>
                    <a:pt x="584" y="872"/>
                  </a:lnTo>
                  <a:lnTo>
                    <a:pt x="595" y="866"/>
                  </a:lnTo>
                  <a:lnTo>
                    <a:pt x="601" y="861"/>
                  </a:lnTo>
                  <a:lnTo>
                    <a:pt x="612" y="855"/>
                  </a:lnTo>
                  <a:lnTo>
                    <a:pt x="618" y="849"/>
                  </a:lnTo>
                  <a:lnTo>
                    <a:pt x="630" y="849"/>
                  </a:lnTo>
                  <a:lnTo>
                    <a:pt x="636" y="849"/>
                  </a:lnTo>
                  <a:lnTo>
                    <a:pt x="647" y="849"/>
                  </a:lnTo>
                  <a:lnTo>
                    <a:pt x="653" y="855"/>
                  </a:lnTo>
                  <a:lnTo>
                    <a:pt x="659" y="861"/>
                  </a:lnTo>
                  <a:lnTo>
                    <a:pt x="659" y="866"/>
                  </a:lnTo>
                  <a:lnTo>
                    <a:pt x="659" y="872"/>
                  </a:lnTo>
                  <a:lnTo>
                    <a:pt x="659" y="878"/>
                  </a:lnTo>
                  <a:lnTo>
                    <a:pt x="659" y="884"/>
                  </a:lnTo>
                  <a:lnTo>
                    <a:pt x="659" y="889"/>
                  </a:lnTo>
                  <a:lnTo>
                    <a:pt x="659" y="895"/>
                  </a:lnTo>
                  <a:lnTo>
                    <a:pt x="659" y="901"/>
                  </a:lnTo>
                  <a:lnTo>
                    <a:pt x="659" y="907"/>
                  </a:lnTo>
                  <a:lnTo>
                    <a:pt x="664" y="913"/>
                  </a:lnTo>
                  <a:lnTo>
                    <a:pt x="664" y="918"/>
                  </a:lnTo>
                  <a:lnTo>
                    <a:pt x="670" y="924"/>
                  </a:lnTo>
                  <a:lnTo>
                    <a:pt x="676" y="930"/>
                  </a:lnTo>
                  <a:lnTo>
                    <a:pt x="682" y="936"/>
                  </a:lnTo>
                  <a:lnTo>
                    <a:pt x="687" y="941"/>
                  </a:lnTo>
                  <a:lnTo>
                    <a:pt x="687" y="947"/>
                  </a:lnTo>
                  <a:lnTo>
                    <a:pt x="687" y="953"/>
                  </a:lnTo>
                  <a:lnTo>
                    <a:pt x="699" y="970"/>
                  </a:lnTo>
                  <a:lnTo>
                    <a:pt x="711" y="988"/>
                  </a:lnTo>
                  <a:lnTo>
                    <a:pt x="716" y="1005"/>
                  </a:lnTo>
                  <a:lnTo>
                    <a:pt x="728" y="1022"/>
                  </a:lnTo>
                  <a:lnTo>
                    <a:pt x="745" y="1040"/>
                  </a:lnTo>
                  <a:lnTo>
                    <a:pt x="757" y="1057"/>
                  </a:lnTo>
                  <a:lnTo>
                    <a:pt x="774" y="1063"/>
                  </a:lnTo>
                  <a:lnTo>
                    <a:pt x="786" y="1069"/>
                  </a:lnTo>
                  <a:lnTo>
                    <a:pt x="797" y="1074"/>
                  </a:lnTo>
                  <a:lnTo>
                    <a:pt x="809" y="1080"/>
                  </a:lnTo>
                  <a:lnTo>
                    <a:pt x="826" y="1092"/>
                  </a:lnTo>
                  <a:lnTo>
                    <a:pt x="838" y="1097"/>
                  </a:lnTo>
                  <a:lnTo>
                    <a:pt x="849" y="1109"/>
                  </a:lnTo>
                  <a:lnTo>
                    <a:pt x="872" y="1144"/>
                  </a:lnTo>
                  <a:lnTo>
                    <a:pt x="849" y="1149"/>
                  </a:lnTo>
                  <a:lnTo>
                    <a:pt x="826" y="1149"/>
                  </a:lnTo>
                  <a:lnTo>
                    <a:pt x="803" y="1161"/>
                  </a:lnTo>
                  <a:lnTo>
                    <a:pt x="774" y="1167"/>
                  </a:lnTo>
                  <a:lnTo>
                    <a:pt x="751" y="1172"/>
                  </a:lnTo>
                  <a:lnTo>
                    <a:pt x="722" y="1178"/>
                  </a:lnTo>
                  <a:lnTo>
                    <a:pt x="699" y="1190"/>
                  </a:lnTo>
                  <a:lnTo>
                    <a:pt x="670" y="1207"/>
                  </a:lnTo>
                  <a:lnTo>
                    <a:pt x="641" y="1224"/>
                  </a:lnTo>
                  <a:lnTo>
                    <a:pt x="618" y="1248"/>
                  </a:lnTo>
                  <a:lnTo>
                    <a:pt x="595" y="1271"/>
                  </a:lnTo>
                  <a:lnTo>
                    <a:pt x="572" y="1294"/>
                  </a:lnTo>
                  <a:lnTo>
                    <a:pt x="560" y="1294"/>
                  </a:lnTo>
                  <a:lnTo>
                    <a:pt x="549" y="1288"/>
                  </a:lnTo>
                  <a:lnTo>
                    <a:pt x="537" y="1294"/>
                  </a:lnTo>
                  <a:lnTo>
                    <a:pt x="526" y="1294"/>
                  </a:lnTo>
                  <a:lnTo>
                    <a:pt x="514" y="1300"/>
                  </a:lnTo>
                  <a:lnTo>
                    <a:pt x="503" y="1305"/>
                  </a:lnTo>
                  <a:lnTo>
                    <a:pt x="485" y="1294"/>
                  </a:lnTo>
                  <a:lnTo>
                    <a:pt x="480" y="1276"/>
                  </a:lnTo>
                  <a:lnTo>
                    <a:pt x="474" y="1259"/>
                  </a:lnTo>
                  <a:lnTo>
                    <a:pt x="474" y="1242"/>
                  </a:lnTo>
                  <a:lnTo>
                    <a:pt x="462" y="1224"/>
                  </a:lnTo>
                  <a:lnTo>
                    <a:pt x="445" y="1213"/>
                  </a:lnTo>
                  <a:lnTo>
                    <a:pt x="428" y="1207"/>
                  </a:lnTo>
                  <a:lnTo>
                    <a:pt x="410" y="1201"/>
                  </a:lnTo>
                  <a:lnTo>
                    <a:pt x="393" y="1190"/>
                  </a:lnTo>
                  <a:lnTo>
                    <a:pt x="381" y="1178"/>
                  </a:lnTo>
                  <a:lnTo>
                    <a:pt x="358" y="1167"/>
                  </a:lnTo>
                  <a:lnTo>
                    <a:pt x="341" y="1167"/>
                  </a:lnTo>
                  <a:lnTo>
                    <a:pt x="341" y="1172"/>
                  </a:lnTo>
                  <a:lnTo>
                    <a:pt x="341" y="1178"/>
                  </a:lnTo>
                  <a:lnTo>
                    <a:pt x="347" y="1184"/>
                  </a:lnTo>
                  <a:lnTo>
                    <a:pt x="352" y="1184"/>
                  </a:lnTo>
                  <a:lnTo>
                    <a:pt x="358" y="1190"/>
                  </a:lnTo>
                  <a:lnTo>
                    <a:pt x="358" y="1196"/>
                  </a:lnTo>
                  <a:lnTo>
                    <a:pt x="364" y="1201"/>
                  </a:lnTo>
                  <a:lnTo>
                    <a:pt x="370" y="1207"/>
                  </a:lnTo>
                  <a:lnTo>
                    <a:pt x="376" y="1219"/>
                  </a:lnTo>
                  <a:lnTo>
                    <a:pt x="381" y="1224"/>
                  </a:lnTo>
                  <a:lnTo>
                    <a:pt x="387" y="1236"/>
                  </a:lnTo>
                  <a:lnTo>
                    <a:pt x="387" y="1242"/>
                  </a:lnTo>
                  <a:lnTo>
                    <a:pt x="376" y="1230"/>
                  </a:lnTo>
                  <a:lnTo>
                    <a:pt x="370" y="1224"/>
                  </a:lnTo>
                  <a:lnTo>
                    <a:pt x="358" y="1219"/>
                  </a:lnTo>
                  <a:lnTo>
                    <a:pt x="347" y="1213"/>
                  </a:lnTo>
                  <a:lnTo>
                    <a:pt x="329" y="1207"/>
                  </a:lnTo>
                  <a:lnTo>
                    <a:pt x="318" y="1213"/>
                  </a:lnTo>
                  <a:lnTo>
                    <a:pt x="312" y="1213"/>
                  </a:lnTo>
                  <a:lnTo>
                    <a:pt x="301" y="1213"/>
                  </a:lnTo>
                  <a:lnTo>
                    <a:pt x="289" y="1219"/>
                  </a:lnTo>
                  <a:lnTo>
                    <a:pt x="283" y="1224"/>
                  </a:lnTo>
                  <a:lnTo>
                    <a:pt x="277" y="1230"/>
                  </a:lnTo>
                  <a:lnTo>
                    <a:pt x="272" y="1236"/>
                  </a:lnTo>
                  <a:lnTo>
                    <a:pt x="277" y="1242"/>
                  </a:lnTo>
                  <a:lnTo>
                    <a:pt x="283" y="1242"/>
                  </a:lnTo>
                  <a:lnTo>
                    <a:pt x="289" y="1242"/>
                  </a:lnTo>
                  <a:lnTo>
                    <a:pt x="295" y="1242"/>
                  </a:lnTo>
                  <a:lnTo>
                    <a:pt x="301" y="1236"/>
                  </a:lnTo>
                  <a:lnTo>
                    <a:pt x="312" y="1242"/>
                  </a:lnTo>
                  <a:lnTo>
                    <a:pt x="318" y="1248"/>
                  </a:lnTo>
                  <a:lnTo>
                    <a:pt x="329" y="1253"/>
                  </a:lnTo>
                  <a:lnTo>
                    <a:pt x="335" y="1265"/>
                  </a:lnTo>
                  <a:lnTo>
                    <a:pt x="341" y="1276"/>
                  </a:lnTo>
                  <a:lnTo>
                    <a:pt x="352" y="1282"/>
                  </a:lnTo>
                  <a:lnTo>
                    <a:pt x="358" y="1288"/>
                  </a:lnTo>
                  <a:lnTo>
                    <a:pt x="364" y="1288"/>
                  </a:lnTo>
                  <a:lnTo>
                    <a:pt x="364" y="1294"/>
                  </a:lnTo>
                  <a:lnTo>
                    <a:pt x="364" y="1300"/>
                  </a:lnTo>
                  <a:lnTo>
                    <a:pt x="347" y="1300"/>
                  </a:lnTo>
                  <a:lnTo>
                    <a:pt x="329" y="1294"/>
                  </a:lnTo>
                  <a:lnTo>
                    <a:pt x="312" y="1294"/>
                  </a:lnTo>
                  <a:lnTo>
                    <a:pt x="301" y="1294"/>
                  </a:lnTo>
                  <a:lnTo>
                    <a:pt x="283" y="1300"/>
                  </a:lnTo>
                  <a:lnTo>
                    <a:pt x="272" y="1311"/>
                  </a:lnTo>
                  <a:lnTo>
                    <a:pt x="272" y="1317"/>
                  </a:lnTo>
                  <a:lnTo>
                    <a:pt x="266" y="1323"/>
                  </a:lnTo>
                  <a:lnTo>
                    <a:pt x="266" y="1328"/>
                  </a:lnTo>
                  <a:lnTo>
                    <a:pt x="266" y="1334"/>
                  </a:lnTo>
                  <a:lnTo>
                    <a:pt x="277" y="1334"/>
                  </a:lnTo>
                  <a:lnTo>
                    <a:pt x="283" y="1334"/>
                  </a:lnTo>
                  <a:lnTo>
                    <a:pt x="289" y="1328"/>
                  </a:lnTo>
                  <a:lnTo>
                    <a:pt x="295" y="1328"/>
                  </a:lnTo>
                  <a:lnTo>
                    <a:pt x="301" y="1328"/>
                  </a:lnTo>
                  <a:lnTo>
                    <a:pt x="306" y="1328"/>
                  </a:lnTo>
                  <a:lnTo>
                    <a:pt x="318" y="1328"/>
                  </a:lnTo>
                  <a:lnTo>
                    <a:pt x="329" y="1334"/>
                  </a:lnTo>
                  <a:lnTo>
                    <a:pt x="341" y="1340"/>
                  </a:lnTo>
                  <a:lnTo>
                    <a:pt x="347" y="1346"/>
                  </a:lnTo>
                  <a:lnTo>
                    <a:pt x="358" y="1357"/>
                  </a:lnTo>
                  <a:lnTo>
                    <a:pt x="364" y="1363"/>
                  </a:lnTo>
                  <a:lnTo>
                    <a:pt x="358" y="1369"/>
                  </a:lnTo>
                  <a:lnTo>
                    <a:pt x="347" y="1369"/>
                  </a:lnTo>
                  <a:lnTo>
                    <a:pt x="341" y="1369"/>
                  </a:lnTo>
                  <a:lnTo>
                    <a:pt x="329" y="1375"/>
                  </a:lnTo>
                  <a:lnTo>
                    <a:pt x="324" y="1375"/>
                  </a:lnTo>
                  <a:lnTo>
                    <a:pt x="318" y="1380"/>
                  </a:lnTo>
                  <a:lnTo>
                    <a:pt x="306" y="1386"/>
                  </a:lnTo>
                  <a:lnTo>
                    <a:pt x="301" y="1392"/>
                  </a:lnTo>
                  <a:lnTo>
                    <a:pt x="295" y="1404"/>
                  </a:lnTo>
                  <a:lnTo>
                    <a:pt x="289" y="1409"/>
                  </a:lnTo>
                  <a:lnTo>
                    <a:pt x="289" y="1421"/>
                  </a:lnTo>
                  <a:lnTo>
                    <a:pt x="289" y="1427"/>
                  </a:lnTo>
                  <a:lnTo>
                    <a:pt x="295" y="1427"/>
                  </a:lnTo>
                  <a:lnTo>
                    <a:pt x="301" y="1427"/>
                  </a:lnTo>
                  <a:lnTo>
                    <a:pt x="306" y="1421"/>
                  </a:lnTo>
                  <a:lnTo>
                    <a:pt x="306" y="1415"/>
                  </a:lnTo>
                  <a:lnTo>
                    <a:pt x="312" y="1415"/>
                  </a:lnTo>
                  <a:lnTo>
                    <a:pt x="318" y="1409"/>
                  </a:lnTo>
                  <a:lnTo>
                    <a:pt x="329" y="1409"/>
                  </a:lnTo>
                  <a:lnTo>
                    <a:pt x="335" y="1409"/>
                  </a:lnTo>
                  <a:lnTo>
                    <a:pt x="347" y="1409"/>
                  </a:lnTo>
                  <a:lnTo>
                    <a:pt x="352" y="1415"/>
                  </a:lnTo>
                  <a:lnTo>
                    <a:pt x="364" y="1421"/>
                  </a:lnTo>
                  <a:lnTo>
                    <a:pt x="370" y="1427"/>
                  </a:lnTo>
                  <a:lnTo>
                    <a:pt x="376" y="1427"/>
                  </a:lnTo>
                  <a:lnTo>
                    <a:pt x="381" y="1427"/>
                  </a:lnTo>
                  <a:lnTo>
                    <a:pt x="387" y="1427"/>
                  </a:lnTo>
                  <a:lnTo>
                    <a:pt x="399" y="1427"/>
                  </a:lnTo>
                  <a:lnTo>
                    <a:pt x="404" y="1421"/>
                  </a:lnTo>
                  <a:lnTo>
                    <a:pt x="410" y="1421"/>
                  </a:lnTo>
                  <a:lnTo>
                    <a:pt x="410" y="1427"/>
                  </a:lnTo>
                  <a:lnTo>
                    <a:pt x="416" y="1438"/>
                  </a:lnTo>
                  <a:lnTo>
                    <a:pt x="416" y="1444"/>
                  </a:lnTo>
                  <a:lnTo>
                    <a:pt x="416" y="1450"/>
                  </a:lnTo>
                  <a:lnTo>
                    <a:pt x="422" y="1461"/>
                  </a:lnTo>
                  <a:lnTo>
                    <a:pt x="428" y="1467"/>
                  </a:lnTo>
                  <a:lnTo>
                    <a:pt x="433" y="1473"/>
                  </a:lnTo>
                  <a:lnTo>
                    <a:pt x="439" y="1473"/>
                  </a:lnTo>
                  <a:lnTo>
                    <a:pt x="445" y="1473"/>
                  </a:lnTo>
                  <a:lnTo>
                    <a:pt x="451" y="1479"/>
                  </a:lnTo>
                  <a:lnTo>
                    <a:pt x="456" y="1479"/>
                  </a:lnTo>
                  <a:lnTo>
                    <a:pt x="462" y="1479"/>
                  </a:lnTo>
                  <a:lnTo>
                    <a:pt x="468" y="1479"/>
                  </a:lnTo>
                  <a:lnTo>
                    <a:pt x="468" y="1490"/>
                  </a:lnTo>
                  <a:lnTo>
                    <a:pt x="474" y="1502"/>
                  </a:lnTo>
                  <a:lnTo>
                    <a:pt x="480" y="1508"/>
                  </a:lnTo>
                  <a:lnTo>
                    <a:pt x="491" y="1508"/>
                  </a:lnTo>
                  <a:lnTo>
                    <a:pt x="503" y="1513"/>
                  </a:lnTo>
                  <a:lnTo>
                    <a:pt x="514" y="1519"/>
                  </a:lnTo>
                  <a:lnTo>
                    <a:pt x="514" y="1525"/>
                  </a:lnTo>
                  <a:lnTo>
                    <a:pt x="508" y="1525"/>
                  </a:lnTo>
                  <a:lnTo>
                    <a:pt x="503" y="1531"/>
                  </a:lnTo>
                  <a:lnTo>
                    <a:pt x="503" y="1536"/>
                  </a:lnTo>
                  <a:lnTo>
                    <a:pt x="508" y="1542"/>
                  </a:lnTo>
                  <a:lnTo>
                    <a:pt x="514" y="1542"/>
                  </a:lnTo>
                  <a:lnTo>
                    <a:pt x="520" y="1542"/>
                  </a:lnTo>
                  <a:lnTo>
                    <a:pt x="526" y="1542"/>
                  </a:lnTo>
                  <a:lnTo>
                    <a:pt x="532" y="1542"/>
                  </a:lnTo>
                  <a:lnTo>
                    <a:pt x="532" y="1548"/>
                  </a:lnTo>
                  <a:lnTo>
                    <a:pt x="532" y="1554"/>
                  </a:lnTo>
                  <a:lnTo>
                    <a:pt x="526" y="1560"/>
                  </a:lnTo>
                  <a:lnTo>
                    <a:pt x="526" y="1565"/>
                  </a:lnTo>
                  <a:lnTo>
                    <a:pt x="532" y="1571"/>
                  </a:lnTo>
                  <a:lnTo>
                    <a:pt x="537" y="1571"/>
                  </a:lnTo>
                  <a:lnTo>
                    <a:pt x="543" y="1571"/>
                  </a:lnTo>
                  <a:lnTo>
                    <a:pt x="549" y="1565"/>
                  </a:lnTo>
                  <a:lnTo>
                    <a:pt x="555" y="1565"/>
                  </a:lnTo>
                  <a:lnTo>
                    <a:pt x="560" y="1560"/>
                  </a:lnTo>
                  <a:lnTo>
                    <a:pt x="566" y="1560"/>
                  </a:lnTo>
                  <a:lnTo>
                    <a:pt x="572" y="1560"/>
                  </a:lnTo>
                  <a:lnTo>
                    <a:pt x="584" y="1565"/>
                  </a:lnTo>
                  <a:lnTo>
                    <a:pt x="589" y="1571"/>
                  </a:lnTo>
                  <a:lnTo>
                    <a:pt x="595" y="1577"/>
                  </a:lnTo>
                  <a:lnTo>
                    <a:pt x="601" y="1571"/>
                  </a:lnTo>
                  <a:lnTo>
                    <a:pt x="618" y="1565"/>
                  </a:lnTo>
                  <a:lnTo>
                    <a:pt x="630" y="1548"/>
                  </a:lnTo>
                  <a:lnTo>
                    <a:pt x="641" y="1536"/>
                  </a:lnTo>
                  <a:lnTo>
                    <a:pt x="653" y="1519"/>
                  </a:lnTo>
                  <a:lnTo>
                    <a:pt x="659" y="1502"/>
                  </a:lnTo>
                  <a:lnTo>
                    <a:pt x="664" y="1484"/>
                  </a:lnTo>
                  <a:lnTo>
                    <a:pt x="664" y="1490"/>
                  </a:lnTo>
                  <a:lnTo>
                    <a:pt x="670" y="1496"/>
                  </a:lnTo>
                  <a:lnTo>
                    <a:pt x="676" y="1496"/>
                  </a:lnTo>
                  <a:lnTo>
                    <a:pt x="682" y="1496"/>
                  </a:lnTo>
                  <a:lnTo>
                    <a:pt x="687" y="1496"/>
                  </a:lnTo>
                  <a:lnTo>
                    <a:pt x="693" y="1496"/>
                  </a:lnTo>
                  <a:lnTo>
                    <a:pt x="699" y="1496"/>
                  </a:lnTo>
                  <a:lnTo>
                    <a:pt x="705" y="1490"/>
                  </a:lnTo>
                  <a:lnTo>
                    <a:pt x="705" y="1496"/>
                  </a:lnTo>
                  <a:lnTo>
                    <a:pt x="705" y="1508"/>
                  </a:lnTo>
                  <a:lnTo>
                    <a:pt x="705" y="1513"/>
                  </a:lnTo>
                  <a:lnTo>
                    <a:pt x="705" y="1519"/>
                  </a:lnTo>
                  <a:lnTo>
                    <a:pt x="711" y="1525"/>
                  </a:lnTo>
                  <a:lnTo>
                    <a:pt x="711" y="1531"/>
                  </a:lnTo>
                  <a:lnTo>
                    <a:pt x="716" y="1525"/>
                  </a:lnTo>
                  <a:lnTo>
                    <a:pt x="722" y="1525"/>
                  </a:lnTo>
                  <a:lnTo>
                    <a:pt x="728" y="1519"/>
                  </a:lnTo>
                  <a:lnTo>
                    <a:pt x="728" y="1513"/>
                  </a:lnTo>
                  <a:lnTo>
                    <a:pt x="734" y="1508"/>
                  </a:lnTo>
                  <a:lnTo>
                    <a:pt x="739" y="1508"/>
                  </a:lnTo>
                  <a:lnTo>
                    <a:pt x="745" y="1502"/>
                  </a:lnTo>
                  <a:lnTo>
                    <a:pt x="751" y="1502"/>
                  </a:lnTo>
                  <a:lnTo>
                    <a:pt x="757" y="1502"/>
                  </a:lnTo>
                  <a:lnTo>
                    <a:pt x="763" y="1502"/>
                  </a:lnTo>
                  <a:lnTo>
                    <a:pt x="768" y="1508"/>
                  </a:lnTo>
                  <a:lnTo>
                    <a:pt x="768" y="1513"/>
                  </a:lnTo>
                  <a:lnTo>
                    <a:pt x="768" y="1519"/>
                  </a:lnTo>
                  <a:lnTo>
                    <a:pt x="774" y="1531"/>
                  </a:lnTo>
                  <a:lnTo>
                    <a:pt x="780" y="1536"/>
                  </a:lnTo>
                  <a:lnTo>
                    <a:pt x="786" y="1542"/>
                  </a:lnTo>
                  <a:lnTo>
                    <a:pt x="791" y="1548"/>
                  </a:lnTo>
                  <a:lnTo>
                    <a:pt x="809" y="1525"/>
                  </a:lnTo>
                  <a:lnTo>
                    <a:pt x="826" y="1508"/>
                  </a:lnTo>
                  <a:lnTo>
                    <a:pt x="849" y="1508"/>
                  </a:lnTo>
                  <a:lnTo>
                    <a:pt x="878" y="1502"/>
                  </a:lnTo>
                  <a:lnTo>
                    <a:pt x="901" y="1502"/>
                  </a:lnTo>
                  <a:lnTo>
                    <a:pt x="924" y="1502"/>
                  </a:lnTo>
                  <a:lnTo>
                    <a:pt x="936" y="1502"/>
                  </a:lnTo>
                  <a:lnTo>
                    <a:pt x="936" y="153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488880" y="2852640"/>
              <a:ext cx="777960" cy="1117800"/>
            </a:xfrm>
            <a:custGeom>
              <a:avLst/>
              <a:gdLst/>
              <a:ahLst/>
              <a:rect l="l" t="t" r="r" b="b"/>
              <a:pathLst>
                <a:path w="1450" h="2085">
                  <a:moveTo>
                    <a:pt x="936" y="1531"/>
                  </a:moveTo>
                  <a:lnTo>
                    <a:pt x="942" y="1542"/>
                  </a:lnTo>
                  <a:lnTo>
                    <a:pt x="942" y="1554"/>
                  </a:lnTo>
                  <a:lnTo>
                    <a:pt x="942" y="1560"/>
                  </a:lnTo>
                  <a:lnTo>
                    <a:pt x="942" y="1571"/>
                  </a:lnTo>
                  <a:lnTo>
                    <a:pt x="942" y="1577"/>
                  </a:lnTo>
                  <a:lnTo>
                    <a:pt x="942" y="1588"/>
                  </a:lnTo>
                  <a:lnTo>
                    <a:pt x="942" y="1606"/>
                  </a:lnTo>
                  <a:lnTo>
                    <a:pt x="947" y="1623"/>
                  </a:lnTo>
                  <a:lnTo>
                    <a:pt x="953" y="1646"/>
                  </a:lnTo>
                  <a:lnTo>
                    <a:pt x="959" y="1664"/>
                  </a:lnTo>
                  <a:lnTo>
                    <a:pt x="965" y="1681"/>
                  </a:lnTo>
                  <a:lnTo>
                    <a:pt x="976" y="1698"/>
                  </a:lnTo>
                  <a:lnTo>
                    <a:pt x="982" y="1716"/>
                  </a:lnTo>
                  <a:lnTo>
                    <a:pt x="994" y="1727"/>
                  </a:lnTo>
                  <a:lnTo>
                    <a:pt x="1005" y="1739"/>
                  </a:lnTo>
                  <a:lnTo>
                    <a:pt x="1017" y="1750"/>
                  </a:lnTo>
                  <a:lnTo>
                    <a:pt x="1034" y="1762"/>
                  </a:lnTo>
                  <a:lnTo>
                    <a:pt x="1046" y="1773"/>
                  </a:lnTo>
                  <a:lnTo>
                    <a:pt x="1046" y="1785"/>
                  </a:lnTo>
                  <a:lnTo>
                    <a:pt x="1046" y="1791"/>
                  </a:lnTo>
                  <a:lnTo>
                    <a:pt x="1051" y="1796"/>
                  </a:lnTo>
                  <a:lnTo>
                    <a:pt x="1057" y="1808"/>
                  </a:lnTo>
                  <a:lnTo>
                    <a:pt x="1063" y="1814"/>
                  </a:lnTo>
                  <a:lnTo>
                    <a:pt x="1063" y="1820"/>
                  </a:lnTo>
                  <a:lnTo>
                    <a:pt x="1057" y="1820"/>
                  </a:lnTo>
                  <a:lnTo>
                    <a:pt x="1051" y="1820"/>
                  </a:lnTo>
                  <a:lnTo>
                    <a:pt x="1046" y="1820"/>
                  </a:lnTo>
                  <a:lnTo>
                    <a:pt x="1040" y="1820"/>
                  </a:lnTo>
                  <a:lnTo>
                    <a:pt x="1034" y="1820"/>
                  </a:lnTo>
                  <a:lnTo>
                    <a:pt x="1017" y="1831"/>
                  </a:lnTo>
                  <a:lnTo>
                    <a:pt x="999" y="1843"/>
                  </a:lnTo>
                  <a:lnTo>
                    <a:pt x="988" y="1860"/>
                  </a:lnTo>
                  <a:lnTo>
                    <a:pt x="976" y="1877"/>
                  </a:lnTo>
                  <a:lnTo>
                    <a:pt x="959" y="1895"/>
                  </a:lnTo>
                  <a:lnTo>
                    <a:pt x="947" y="1906"/>
                  </a:lnTo>
                  <a:lnTo>
                    <a:pt x="936" y="1906"/>
                  </a:lnTo>
                  <a:lnTo>
                    <a:pt x="924" y="1906"/>
                  </a:lnTo>
                  <a:lnTo>
                    <a:pt x="919" y="1906"/>
                  </a:lnTo>
                  <a:lnTo>
                    <a:pt x="907" y="1906"/>
                  </a:lnTo>
                  <a:lnTo>
                    <a:pt x="895" y="1906"/>
                  </a:lnTo>
                  <a:lnTo>
                    <a:pt x="890" y="1906"/>
                  </a:lnTo>
                  <a:lnTo>
                    <a:pt x="878" y="1912"/>
                  </a:lnTo>
                  <a:lnTo>
                    <a:pt x="872" y="1923"/>
                  </a:lnTo>
                  <a:lnTo>
                    <a:pt x="872" y="1935"/>
                  </a:lnTo>
                  <a:lnTo>
                    <a:pt x="872" y="1947"/>
                  </a:lnTo>
                  <a:lnTo>
                    <a:pt x="867" y="1952"/>
                  </a:lnTo>
                  <a:lnTo>
                    <a:pt x="849" y="1958"/>
                  </a:lnTo>
                  <a:lnTo>
                    <a:pt x="843" y="1964"/>
                  </a:lnTo>
                  <a:lnTo>
                    <a:pt x="838" y="1975"/>
                  </a:lnTo>
                  <a:lnTo>
                    <a:pt x="838" y="1987"/>
                  </a:lnTo>
                  <a:lnTo>
                    <a:pt x="838" y="1999"/>
                  </a:lnTo>
                  <a:lnTo>
                    <a:pt x="832" y="2010"/>
                  </a:lnTo>
                  <a:lnTo>
                    <a:pt x="832" y="2022"/>
                  </a:lnTo>
                  <a:lnTo>
                    <a:pt x="843" y="2022"/>
                  </a:lnTo>
                  <a:lnTo>
                    <a:pt x="849" y="2016"/>
                  </a:lnTo>
                  <a:lnTo>
                    <a:pt x="861" y="2010"/>
                  </a:lnTo>
                  <a:lnTo>
                    <a:pt x="867" y="2004"/>
                  </a:lnTo>
                  <a:lnTo>
                    <a:pt x="878" y="1999"/>
                  </a:lnTo>
                  <a:lnTo>
                    <a:pt x="890" y="1993"/>
                  </a:lnTo>
                  <a:lnTo>
                    <a:pt x="901" y="1993"/>
                  </a:lnTo>
                  <a:lnTo>
                    <a:pt x="901" y="2010"/>
                  </a:lnTo>
                  <a:lnTo>
                    <a:pt x="890" y="2022"/>
                  </a:lnTo>
                  <a:lnTo>
                    <a:pt x="884" y="2033"/>
                  </a:lnTo>
                  <a:lnTo>
                    <a:pt x="878" y="2045"/>
                  </a:lnTo>
                  <a:lnTo>
                    <a:pt x="872" y="2056"/>
                  </a:lnTo>
                  <a:lnTo>
                    <a:pt x="867" y="2068"/>
                  </a:lnTo>
                  <a:lnTo>
                    <a:pt x="872" y="2085"/>
                  </a:lnTo>
                  <a:lnTo>
                    <a:pt x="878" y="2085"/>
                  </a:lnTo>
                  <a:lnTo>
                    <a:pt x="890" y="2074"/>
                  </a:lnTo>
                  <a:lnTo>
                    <a:pt x="901" y="2062"/>
                  </a:lnTo>
                  <a:lnTo>
                    <a:pt x="913" y="2056"/>
                  </a:lnTo>
                  <a:lnTo>
                    <a:pt x="924" y="2045"/>
                  </a:lnTo>
                  <a:lnTo>
                    <a:pt x="936" y="2033"/>
                  </a:lnTo>
                  <a:lnTo>
                    <a:pt x="953" y="2027"/>
                  </a:lnTo>
                  <a:lnTo>
                    <a:pt x="953" y="2033"/>
                  </a:lnTo>
                  <a:lnTo>
                    <a:pt x="947" y="2039"/>
                  </a:lnTo>
                  <a:lnTo>
                    <a:pt x="947" y="2045"/>
                  </a:lnTo>
                  <a:lnTo>
                    <a:pt x="947" y="2051"/>
                  </a:lnTo>
                  <a:lnTo>
                    <a:pt x="947" y="2056"/>
                  </a:lnTo>
                  <a:lnTo>
                    <a:pt x="965" y="2079"/>
                  </a:lnTo>
                  <a:lnTo>
                    <a:pt x="971" y="2079"/>
                  </a:lnTo>
                  <a:lnTo>
                    <a:pt x="971" y="2074"/>
                  </a:lnTo>
                  <a:lnTo>
                    <a:pt x="976" y="2074"/>
                  </a:lnTo>
                  <a:lnTo>
                    <a:pt x="976" y="2068"/>
                  </a:lnTo>
                  <a:lnTo>
                    <a:pt x="982" y="2068"/>
                  </a:lnTo>
                  <a:lnTo>
                    <a:pt x="982" y="2062"/>
                  </a:lnTo>
                  <a:lnTo>
                    <a:pt x="988" y="2045"/>
                  </a:lnTo>
                  <a:lnTo>
                    <a:pt x="999" y="2033"/>
                  </a:lnTo>
                  <a:lnTo>
                    <a:pt x="1011" y="2016"/>
                  </a:lnTo>
                  <a:lnTo>
                    <a:pt x="1028" y="2004"/>
                  </a:lnTo>
                  <a:lnTo>
                    <a:pt x="1040" y="1993"/>
                  </a:lnTo>
                  <a:lnTo>
                    <a:pt x="1057" y="1981"/>
                  </a:lnTo>
                  <a:lnTo>
                    <a:pt x="1057" y="1993"/>
                  </a:lnTo>
                  <a:lnTo>
                    <a:pt x="1063" y="1999"/>
                  </a:lnTo>
                  <a:lnTo>
                    <a:pt x="1069" y="1999"/>
                  </a:lnTo>
                  <a:lnTo>
                    <a:pt x="1074" y="1999"/>
                  </a:lnTo>
                  <a:lnTo>
                    <a:pt x="1086" y="1999"/>
                  </a:lnTo>
                  <a:lnTo>
                    <a:pt x="1092" y="2004"/>
                  </a:lnTo>
                  <a:lnTo>
                    <a:pt x="1115" y="1999"/>
                  </a:lnTo>
                  <a:lnTo>
                    <a:pt x="1132" y="1993"/>
                  </a:lnTo>
                  <a:lnTo>
                    <a:pt x="1150" y="1981"/>
                  </a:lnTo>
                  <a:lnTo>
                    <a:pt x="1161" y="1964"/>
                  </a:lnTo>
                  <a:lnTo>
                    <a:pt x="1178" y="1952"/>
                  </a:lnTo>
                  <a:lnTo>
                    <a:pt x="1196" y="1947"/>
                  </a:lnTo>
                  <a:lnTo>
                    <a:pt x="1202" y="1941"/>
                  </a:lnTo>
                  <a:lnTo>
                    <a:pt x="1213" y="1941"/>
                  </a:lnTo>
                  <a:lnTo>
                    <a:pt x="1219" y="1941"/>
                  </a:lnTo>
                  <a:lnTo>
                    <a:pt x="1230" y="1935"/>
                  </a:lnTo>
                  <a:lnTo>
                    <a:pt x="1236" y="1929"/>
                  </a:lnTo>
                  <a:lnTo>
                    <a:pt x="1242" y="1923"/>
                  </a:lnTo>
                  <a:lnTo>
                    <a:pt x="1242" y="1918"/>
                  </a:lnTo>
                  <a:lnTo>
                    <a:pt x="1248" y="1918"/>
                  </a:lnTo>
                  <a:lnTo>
                    <a:pt x="1248" y="1912"/>
                  </a:lnTo>
                  <a:lnTo>
                    <a:pt x="1242" y="1906"/>
                  </a:lnTo>
                  <a:lnTo>
                    <a:pt x="1242" y="1900"/>
                  </a:lnTo>
                  <a:lnTo>
                    <a:pt x="1236" y="1900"/>
                  </a:lnTo>
                  <a:lnTo>
                    <a:pt x="1242" y="1895"/>
                  </a:lnTo>
                  <a:lnTo>
                    <a:pt x="1254" y="1889"/>
                  </a:lnTo>
                  <a:lnTo>
                    <a:pt x="1259" y="1883"/>
                  </a:lnTo>
                  <a:lnTo>
                    <a:pt x="1265" y="1877"/>
                  </a:lnTo>
                  <a:lnTo>
                    <a:pt x="1271" y="1872"/>
                  </a:lnTo>
                  <a:lnTo>
                    <a:pt x="1282" y="1866"/>
                  </a:lnTo>
                  <a:lnTo>
                    <a:pt x="1282" y="1860"/>
                  </a:lnTo>
                  <a:lnTo>
                    <a:pt x="1277" y="1860"/>
                  </a:lnTo>
                  <a:lnTo>
                    <a:pt x="1271" y="1860"/>
                  </a:lnTo>
                  <a:lnTo>
                    <a:pt x="1271" y="1854"/>
                  </a:lnTo>
                  <a:lnTo>
                    <a:pt x="1265" y="1854"/>
                  </a:lnTo>
                  <a:lnTo>
                    <a:pt x="1271" y="1843"/>
                  </a:lnTo>
                  <a:lnTo>
                    <a:pt x="1271" y="1837"/>
                  </a:lnTo>
                  <a:lnTo>
                    <a:pt x="1265" y="1837"/>
                  </a:lnTo>
                  <a:lnTo>
                    <a:pt x="1259" y="1831"/>
                  </a:lnTo>
                  <a:lnTo>
                    <a:pt x="1254" y="1825"/>
                  </a:lnTo>
                  <a:lnTo>
                    <a:pt x="1248" y="1820"/>
                  </a:lnTo>
                  <a:lnTo>
                    <a:pt x="1248" y="1802"/>
                  </a:lnTo>
                  <a:lnTo>
                    <a:pt x="1242" y="1785"/>
                  </a:lnTo>
                  <a:lnTo>
                    <a:pt x="1236" y="1768"/>
                  </a:lnTo>
                  <a:lnTo>
                    <a:pt x="1236" y="1750"/>
                  </a:lnTo>
                  <a:lnTo>
                    <a:pt x="1236" y="1733"/>
                  </a:lnTo>
                  <a:lnTo>
                    <a:pt x="1236" y="1716"/>
                  </a:lnTo>
                  <a:lnTo>
                    <a:pt x="1242" y="1704"/>
                  </a:lnTo>
                  <a:lnTo>
                    <a:pt x="1236" y="1687"/>
                  </a:lnTo>
                  <a:lnTo>
                    <a:pt x="1230" y="1675"/>
                  </a:lnTo>
                  <a:lnTo>
                    <a:pt x="1225" y="1658"/>
                  </a:lnTo>
                  <a:lnTo>
                    <a:pt x="1225" y="1646"/>
                  </a:lnTo>
                  <a:lnTo>
                    <a:pt x="1230" y="1629"/>
                  </a:lnTo>
                  <a:lnTo>
                    <a:pt x="1248" y="1612"/>
                  </a:lnTo>
                  <a:lnTo>
                    <a:pt x="1265" y="1588"/>
                  </a:lnTo>
                  <a:lnTo>
                    <a:pt x="1277" y="1565"/>
                  </a:lnTo>
                  <a:lnTo>
                    <a:pt x="1294" y="1548"/>
                  </a:lnTo>
                  <a:lnTo>
                    <a:pt x="1306" y="1525"/>
                  </a:lnTo>
                  <a:lnTo>
                    <a:pt x="1311" y="1502"/>
                  </a:lnTo>
                  <a:lnTo>
                    <a:pt x="1317" y="1513"/>
                  </a:lnTo>
                  <a:lnTo>
                    <a:pt x="1317" y="1525"/>
                  </a:lnTo>
                  <a:lnTo>
                    <a:pt x="1317" y="1542"/>
                  </a:lnTo>
                  <a:lnTo>
                    <a:pt x="1323" y="1554"/>
                  </a:lnTo>
                  <a:lnTo>
                    <a:pt x="1323" y="1565"/>
                  </a:lnTo>
                  <a:lnTo>
                    <a:pt x="1329" y="1577"/>
                  </a:lnTo>
                  <a:lnTo>
                    <a:pt x="1346" y="1594"/>
                  </a:lnTo>
                  <a:lnTo>
                    <a:pt x="1363" y="1612"/>
                  </a:lnTo>
                  <a:lnTo>
                    <a:pt x="1375" y="1629"/>
                  </a:lnTo>
                  <a:lnTo>
                    <a:pt x="1398" y="1640"/>
                  </a:lnTo>
                  <a:lnTo>
                    <a:pt x="1415" y="1652"/>
                  </a:lnTo>
                  <a:lnTo>
                    <a:pt x="1438" y="1652"/>
                  </a:lnTo>
                  <a:lnTo>
                    <a:pt x="1444" y="1652"/>
                  </a:lnTo>
                  <a:lnTo>
                    <a:pt x="1450" y="1646"/>
                  </a:lnTo>
                  <a:lnTo>
                    <a:pt x="1450" y="1640"/>
                  </a:lnTo>
                  <a:lnTo>
                    <a:pt x="1450" y="1635"/>
                  </a:lnTo>
                  <a:lnTo>
                    <a:pt x="1433" y="1617"/>
                  </a:lnTo>
                  <a:lnTo>
                    <a:pt x="1421" y="1594"/>
                  </a:lnTo>
                  <a:lnTo>
                    <a:pt x="1409" y="1571"/>
                  </a:lnTo>
                  <a:lnTo>
                    <a:pt x="1404" y="1554"/>
                  </a:lnTo>
                  <a:lnTo>
                    <a:pt x="1404" y="1525"/>
                  </a:lnTo>
                  <a:lnTo>
                    <a:pt x="1409" y="1502"/>
                  </a:lnTo>
                  <a:lnTo>
                    <a:pt x="1421" y="1473"/>
                  </a:lnTo>
                  <a:lnTo>
                    <a:pt x="1427" y="1450"/>
                  </a:lnTo>
                  <a:lnTo>
                    <a:pt x="1433" y="1421"/>
                  </a:lnTo>
                  <a:lnTo>
                    <a:pt x="1433" y="1386"/>
                  </a:lnTo>
                  <a:lnTo>
                    <a:pt x="1438" y="1357"/>
                  </a:lnTo>
                  <a:lnTo>
                    <a:pt x="1438" y="1328"/>
                  </a:lnTo>
                  <a:lnTo>
                    <a:pt x="1438" y="1288"/>
                  </a:lnTo>
                  <a:lnTo>
                    <a:pt x="1427" y="1248"/>
                  </a:lnTo>
                  <a:lnTo>
                    <a:pt x="1415" y="1213"/>
                  </a:lnTo>
                  <a:lnTo>
                    <a:pt x="1398" y="1178"/>
                  </a:lnTo>
                  <a:lnTo>
                    <a:pt x="1386" y="1144"/>
                  </a:lnTo>
                  <a:lnTo>
                    <a:pt x="1369" y="1109"/>
                  </a:lnTo>
                  <a:lnTo>
                    <a:pt x="1352" y="1080"/>
                  </a:lnTo>
                  <a:lnTo>
                    <a:pt x="1334" y="1051"/>
                  </a:lnTo>
                  <a:lnTo>
                    <a:pt x="1317" y="1017"/>
                  </a:lnTo>
                  <a:lnTo>
                    <a:pt x="1306" y="988"/>
                  </a:lnTo>
                  <a:lnTo>
                    <a:pt x="1294" y="953"/>
                  </a:lnTo>
                  <a:lnTo>
                    <a:pt x="1282" y="924"/>
                  </a:lnTo>
                  <a:lnTo>
                    <a:pt x="1271" y="872"/>
                  </a:lnTo>
                  <a:lnTo>
                    <a:pt x="1259" y="826"/>
                  </a:lnTo>
                  <a:lnTo>
                    <a:pt x="1248" y="774"/>
                  </a:lnTo>
                  <a:lnTo>
                    <a:pt x="1236" y="722"/>
                  </a:lnTo>
                  <a:lnTo>
                    <a:pt x="1230" y="676"/>
                  </a:lnTo>
                  <a:lnTo>
                    <a:pt x="1236" y="624"/>
                  </a:lnTo>
                  <a:lnTo>
                    <a:pt x="1242" y="606"/>
                  </a:lnTo>
                  <a:lnTo>
                    <a:pt x="1242" y="589"/>
                  </a:lnTo>
                  <a:lnTo>
                    <a:pt x="1242" y="572"/>
                  </a:lnTo>
                  <a:lnTo>
                    <a:pt x="1242" y="549"/>
                  </a:lnTo>
                  <a:lnTo>
                    <a:pt x="1254" y="537"/>
                  </a:lnTo>
                  <a:lnTo>
                    <a:pt x="1271" y="525"/>
                  </a:lnTo>
                  <a:lnTo>
                    <a:pt x="1271" y="520"/>
                  </a:lnTo>
                  <a:lnTo>
                    <a:pt x="1271" y="514"/>
                  </a:lnTo>
                  <a:lnTo>
                    <a:pt x="1271" y="508"/>
                  </a:lnTo>
                  <a:lnTo>
                    <a:pt x="1265" y="508"/>
                  </a:lnTo>
                  <a:lnTo>
                    <a:pt x="1259" y="502"/>
                  </a:lnTo>
                  <a:lnTo>
                    <a:pt x="1259" y="497"/>
                  </a:lnTo>
                  <a:lnTo>
                    <a:pt x="1254" y="485"/>
                  </a:lnTo>
                  <a:lnTo>
                    <a:pt x="1254" y="479"/>
                  </a:lnTo>
                  <a:lnTo>
                    <a:pt x="1254" y="468"/>
                  </a:lnTo>
                  <a:lnTo>
                    <a:pt x="1254" y="462"/>
                  </a:lnTo>
                  <a:lnTo>
                    <a:pt x="1259" y="450"/>
                  </a:lnTo>
                  <a:lnTo>
                    <a:pt x="1265" y="450"/>
                  </a:lnTo>
                  <a:lnTo>
                    <a:pt x="1271" y="450"/>
                  </a:lnTo>
                  <a:lnTo>
                    <a:pt x="1277" y="450"/>
                  </a:lnTo>
                  <a:lnTo>
                    <a:pt x="1282" y="450"/>
                  </a:lnTo>
                  <a:lnTo>
                    <a:pt x="1288" y="450"/>
                  </a:lnTo>
                  <a:lnTo>
                    <a:pt x="1288" y="445"/>
                  </a:lnTo>
                  <a:lnTo>
                    <a:pt x="1288" y="439"/>
                  </a:lnTo>
                  <a:lnTo>
                    <a:pt x="1282" y="433"/>
                  </a:lnTo>
                  <a:lnTo>
                    <a:pt x="1282" y="427"/>
                  </a:lnTo>
                  <a:lnTo>
                    <a:pt x="1282" y="421"/>
                  </a:lnTo>
                  <a:lnTo>
                    <a:pt x="1277" y="410"/>
                  </a:lnTo>
                  <a:lnTo>
                    <a:pt x="1277" y="398"/>
                  </a:lnTo>
                  <a:lnTo>
                    <a:pt x="1282" y="387"/>
                  </a:lnTo>
                  <a:lnTo>
                    <a:pt x="1288" y="375"/>
                  </a:lnTo>
                  <a:lnTo>
                    <a:pt x="1294" y="370"/>
                  </a:lnTo>
                  <a:lnTo>
                    <a:pt x="1294" y="358"/>
                  </a:lnTo>
                  <a:lnTo>
                    <a:pt x="1300" y="335"/>
                  </a:lnTo>
                  <a:lnTo>
                    <a:pt x="1306" y="318"/>
                  </a:lnTo>
                  <a:lnTo>
                    <a:pt x="1306" y="294"/>
                  </a:lnTo>
                  <a:lnTo>
                    <a:pt x="1311" y="277"/>
                  </a:lnTo>
                  <a:lnTo>
                    <a:pt x="1306" y="254"/>
                  </a:lnTo>
                  <a:lnTo>
                    <a:pt x="1300" y="237"/>
                  </a:lnTo>
                  <a:lnTo>
                    <a:pt x="1323" y="231"/>
                  </a:lnTo>
                  <a:lnTo>
                    <a:pt x="1340" y="214"/>
                  </a:lnTo>
                  <a:lnTo>
                    <a:pt x="1352" y="196"/>
                  </a:lnTo>
                  <a:lnTo>
                    <a:pt x="1369" y="173"/>
                  </a:lnTo>
                  <a:lnTo>
                    <a:pt x="1381" y="156"/>
                  </a:lnTo>
                  <a:lnTo>
                    <a:pt x="1398" y="138"/>
                  </a:lnTo>
                  <a:lnTo>
                    <a:pt x="1398" y="133"/>
                  </a:lnTo>
                  <a:lnTo>
                    <a:pt x="1404" y="127"/>
                  </a:lnTo>
                  <a:lnTo>
                    <a:pt x="1409" y="121"/>
                  </a:lnTo>
                  <a:lnTo>
                    <a:pt x="1409" y="115"/>
                  </a:lnTo>
                  <a:lnTo>
                    <a:pt x="1409" y="104"/>
                  </a:lnTo>
                  <a:lnTo>
                    <a:pt x="1409" y="98"/>
                  </a:lnTo>
                  <a:lnTo>
                    <a:pt x="1386" y="104"/>
                  </a:lnTo>
                  <a:lnTo>
                    <a:pt x="1369" y="104"/>
                  </a:lnTo>
                  <a:lnTo>
                    <a:pt x="1352" y="92"/>
                  </a:lnTo>
                  <a:lnTo>
                    <a:pt x="1334" y="81"/>
                  </a:lnTo>
                  <a:lnTo>
                    <a:pt x="1317" y="75"/>
                  </a:lnTo>
                  <a:lnTo>
                    <a:pt x="1300" y="75"/>
                  </a:lnTo>
                  <a:lnTo>
                    <a:pt x="1294" y="81"/>
                  </a:lnTo>
                  <a:lnTo>
                    <a:pt x="1288" y="81"/>
                  </a:lnTo>
                  <a:lnTo>
                    <a:pt x="1282" y="86"/>
                  </a:lnTo>
                  <a:lnTo>
                    <a:pt x="1277" y="86"/>
                  </a:lnTo>
                  <a:lnTo>
                    <a:pt x="1271" y="86"/>
                  </a:lnTo>
                  <a:lnTo>
                    <a:pt x="1265" y="86"/>
                  </a:lnTo>
                  <a:lnTo>
                    <a:pt x="1277" y="75"/>
                  </a:lnTo>
                  <a:lnTo>
                    <a:pt x="1288" y="63"/>
                  </a:lnTo>
                  <a:lnTo>
                    <a:pt x="1294" y="52"/>
                  </a:lnTo>
                  <a:lnTo>
                    <a:pt x="1300" y="40"/>
                  </a:lnTo>
                  <a:lnTo>
                    <a:pt x="1311" y="29"/>
                  </a:lnTo>
                  <a:lnTo>
                    <a:pt x="1323" y="17"/>
                  </a:lnTo>
                  <a:lnTo>
                    <a:pt x="1317" y="11"/>
                  </a:lnTo>
                  <a:lnTo>
                    <a:pt x="1311" y="17"/>
                  </a:lnTo>
                  <a:lnTo>
                    <a:pt x="1300" y="17"/>
                  </a:lnTo>
                  <a:lnTo>
                    <a:pt x="1294" y="11"/>
                  </a:lnTo>
                  <a:lnTo>
                    <a:pt x="1282" y="11"/>
                  </a:lnTo>
                  <a:lnTo>
                    <a:pt x="1277" y="6"/>
                  </a:lnTo>
                  <a:lnTo>
                    <a:pt x="1271" y="0"/>
                  </a:lnTo>
                  <a:lnTo>
                    <a:pt x="1254" y="6"/>
                  </a:lnTo>
                  <a:lnTo>
                    <a:pt x="1230" y="6"/>
                  </a:lnTo>
                  <a:lnTo>
                    <a:pt x="1213" y="11"/>
                  </a:lnTo>
                  <a:lnTo>
                    <a:pt x="1196" y="23"/>
                  </a:lnTo>
                  <a:lnTo>
                    <a:pt x="1178" y="29"/>
                  </a:lnTo>
                  <a:lnTo>
                    <a:pt x="1161" y="46"/>
                  </a:lnTo>
                  <a:lnTo>
                    <a:pt x="1150" y="46"/>
                  </a:lnTo>
                  <a:lnTo>
                    <a:pt x="1138" y="46"/>
                  </a:lnTo>
                  <a:lnTo>
                    <a:pt x="1126" y="46"/>
                  </a:lnTo>
                  <a:lnTo>
                    <a:pt x="1115" y="46"/>
                  </a:lnTo>
                  <a:lnTo>
                    <a:pt x="1109" y="46"/>
                  </a:lnTo>
                  <a:lnTo>
                    <a:pt x="1098" y="46"/>
                  </a:lnTo>
                  <a:lnTo>
                    <a:pt x="1080" y="46"/>
                  </a:lnTo>
                  <a:lnTo>
                    <a:pt x="1069" y="46"/>
                  </a:lnTo>
                  <a:lnTo>
                    <a:pt x="1057" y="46"/>
                  </a:lnTo>
                  <a:lnTo>
                    <a:pt x="1040" y="46"/>
                  </a:lnTo>
                  <a:lnTo>
                    <a:pt x="1028" y="46"/>
                  </a:lnTo>
                  <a:lnTo>
                    <a:pt x="1011" y="46"/>
                  </a:lnTo>
                  <a:lnTo>
                    <a:pt x="1005" y="46"/>
                  </a:lnTo>
                  <a:lnTo>
                    <a:pt x="999" y="46"/>
                  </a:lnTo>
                  <a:lnTo>
                    <a:pt x="994" y="46"/>
                  </a:lnTo>
                  <a:lnTo>
                    <a:pt x="988" y="46"/>
                  </a:lnTo>
                  <a:lnTo>
                    <a:pt x="982" y="46"/>
                  </a:lnTo>
                  <a:lnTo>
                    <a:pt x="976" y="46"/>
                  </a:lnTo>
                  <a:lnTo>
                    <a:pt x="953" y="46"/>
                  </a:lnTo>
                  <a:lnTo>
                    <a:pt x="930" y="46"/>
                  </a:lnTo>
                  <a:lnTo>
                    <a:pt x="901" y="46"/>
                  </a:lnTo>
                  <a:lnTo>
                    <a:pt x="878" y="52"/>
                  </a:lnTo>
                  <a:lnTo>
                    <a:pt x="855" y="52"/>
                  </a:lnTo>
                  <a:lnTo>
                    <a:pt x="832" y="58"/>
                  </a:lnTo>
                  <a:lnTo>
                    <a:pt x="826" y="52"/>
                  </a:lnTo>
                  <a:lnTo>
                    <a:pt x="815" y="52"/>
                  </a:lnTo>
                  <a:lnTo>
                    <a:pt x="803" y="46"/>
                  </a:lnTo>
                  <a:lnTo>
                    <a:pt x="791" y="40"/>
                  </a:lnTo>
                  <a:lnTo>
                    <a:pt x="786" y="46"/>
                  </a:lnTo>
                  <a:lnTo>
                    <a:pt x="774" y="52"/>
                  </a:lnTo>
                  <a:lnTo>
                    <a:pt x="774" y="69"/>
                  </a:lnTo>
                  <a:lnTo>
                    <a:pt x="774" y="86"/>
                  </a:lnTo>
                  <a:lnTo>
                    <a:pt x="780" y="98"/>
                  </a:lnTo>
                  <a:lnTo>
                    <a:pt x="791" y="115"/>
                  </a:lnTo>
                  <a:lnTo>
                    <a:pt x="803" y="127"/>
                  </a:lnTo>
                  <a:lnTo>
                    <a:pt x="815" y="144"/>
                  </a:lnTo>
                  <a:lnTo>
                    <a:pt x="809" y="150"/>
                  </a:lnTo>
                  <a:lnTo>
                    <a:pt x="803" y="156"/>
                  </a:lnTo>
                  <a:lnTo>
                    <a:pt x="791" y="156"/>
                  </a:lnTo>
                  <a:lnTo>
                    <a:pt x="786" y="162"/>
                  </a:lnTo>
                  <a:lnTo>
                    <a:pt x="780" y="167"/>
                  </a:lnTo>
                  <a:lnTo>
                    <a:pt x="774" y="173"/>
                  </a:lnTo>
                  <a:lnTo>
                    <a:pt x="774" y="179"/>
                  </a:lnTo>
                  <a:lnTo>
                    <a:pt x="774" y="185"/>
                  </a:lnTo>
                  <a:lnTo>
                    <a:pt x="768" y="190"/>
                  </a:lnTo>
                  <a:lnTo>
                    <a:pt x="774" y="202"/>
                  </a:lnTo>
                  <a:lnTo>
                    <a:pt x="774" y="208"/>
                  </a:lnTo>
                  <a:lnTo>
                    <a:pt x="780" y="214"/>
                  </a:lnTo>
                  <a:lnTo>
                    <a:pt x="791" y="219"/>
                  </a:lnTo>
                  <a:lnTo>
                    <a:pt x="803" y="214"/>
                  </a:lnTo>
                  <a:lnTo>
                    <a:pt x="809" y="208"/>
                  </a:lnTo>
                  <a:lnTo>
                    <a:pt x="820" y="202"/>
                  </a:lnTo>
                  <a:lnTo>
                    <a:pt x="826" y="190"/>
                  </a:lnTo>
                  <a:lnTo>
                    <a:pt x="838" y="185"/>
                  </a:lnTo>
                  <a:lnTo>
                    <a:pt x="838" y="196"/>
                  </a:lnTo>
                  <a:lnTo>
                    <a:pt x="838" y="202"/>
                  </a:lnTo>
                  <a:lnTo>
                    <a:pt x="838" y="208"/>
                  </a:lnTo>
                  <a:lnTo>
                    <a:pt x="838" y="219"/>
                  </a:lnTo>
                  <a:lnTo>
                    <a:pt x="838" y="225"/>
                  </a:lnTo>
                  <a:lnTo>
                    <a:pt x="843" y="231"/>
                  </a:lnTo>
                  <a:lnTo>
                    <a:pt x="849" y="237"/>
                  </a:lnTo>
                  <a:lnTo>
                    <a:pt x="861" y="237"/>
                  </a:lnTo>
                  <a:lnTo>
                    <a:pt x="872" y="231"/>
                  </a:lnTo>
                  <a:lnTo>
                    <a:pt x="878" y="225"/>
                  </a:lnTo>
                  <a:lnTo>
                    <a:pt x="890" y="225"/>
                  </a:lnTo>
                  <a:lnTo>
                    <a:pt x="901" y="225"/>
                  </a:lnTo>
                  <a:lnTo>
                    <a:pt x="913" y="225"/>
                  </a:lnTo>
                  <a:lnTo>
                    <a:pt x="924" y="231"/>
                  </a:lnTo>
                  <a:lnTo>
                    <a:pt x="936" y="237"/>
                  </a:lnTo>
                  <a:lnTo>
                    <a:pt x="947" y="248"/>
                  </a:lnTo>
                  <a:lnTo>
                    <a:pt x="953" y="266"/>
                  </a:lnTo>
                  <a:lnTo>
                    <a:pt x="959" y="277"/>
                  </a:lnTo>
                  <a:lnTo>
                    <a:pt x="947" y="283"/>
                  </a:lnTo>
                  <a:lnTo>
                    <a:pt x="936" y="289"/>
                  </a:lnTo>
                  <a:lnTo>
                    <a:pt x="919" y="294"/>
                  </a:lnTo>
                  <a:lnTo>
                    <a:pt x="907" y="294"/>
                  </a:lnTo>
                  <a:lnTo>
                    <a:pt x="890" y="300"/>
                  </a:lnTo>
                  <a:lnTo>
                    <a:pt x="878" y="300"/>
                  </a:lnTo>
                  <a:lnTo>
                    <a:pt x="855" y="312"/>
                  </a:lnTo>
                  <a:lnTo>
                    <a:pt x="832" y="318"/>
                  </a:lnTo>
                  <a:lnTo>
                    <a:pt x="809" y="323"/>
                  </a:lnTo>
                  <a:lnTo>
                    <a:pt x="791" y="335"/>
                  </a:lnTo>
                  <a:lnTo>
                    <a:pt x="768" y="346"/>
                  </a:lnTo>
                  <a:lnTo>
                    <a:pt x="751" y="358"/>
                  </a:lnTo>
                  <a:lnTo>
                    <a:pt x="739" y="370"/>
                  </a:lnTo>
                  <a:lnTo>
                    <a:pt x="728" y="375"/>
                  </a:lnTo>
                  <a:lnTo>
                    <a:pt x="716" y="387"/>
                  </a:lnTo>
                  <a:lnTo>
                    <a:pt x="705" y="398"/>
                  </a:lnTo>
                  <a:lnTo>
                    <a:pt x="693" y="410"/>
                  </a:lnTo>
                  <a:lnTo>
                    <a:pt x="693" y="421"/>
                  </a:lnTo>
                  <a:lnTo>
                    <a:pt x="687" y="421"/>
                  </a:lnTo>
                  <a:lnTo>
                    <a:pt x="687" y="416"/>
                  </a:lnTo>
                  <a:lnTo>
                    <a:pt x="682" y="410"/>
                  </a:lnTo>
                  <a:lnTo>
                    <a:pt x="682" y="404"/>
                  </a:lnTo>
                  <a:lnTo>
                    <a:pt x="676" y="404"/>
                  </a:lnTo>
                  <a:lnTo>
                    <a:pt x="670" y="398"/>
                  </a:lnTo>
                  <a:lnTo>
                    <a:pt x="659" y="393"/>
                  </a:lnTo>
                  <a:lnTo>
                    <a:pt x="647" y="393"/>
                  </a:lnTo>
                  <a:lnTo>
                    <a:pt x="641" y="393"/>
                  </a:lnTo>
                  <a:lnTo>
                    <a:pt x="630" y="398"/>
                  </a:lnTo>
                  <a:lnTo>
                    <a:pt x="624" y="398"/>
                  </a:lnTo>
                  <a:lnTo>
                    <a:pt x="612" y="387"/>
                  </a:lnTo>
                  <a:lnTo>
                    <a:pt x="595" y="375"/>
                  </a:lnTo>
                  <a:lnTo>
                    <a:pt x="584" y="364"/>
                  </a:lnTo>
                  <a:lnTo>
                    <a:pt x="566" y="358"/>
                  </a:lnTo>
                  <a:lnTo>
                    <a:pt x="555" y="346"/>
                  </a:lnTo>
                  <a:lnTo>
                    <a:pt x="543" y="335"/>
                  </a:lnTo>
                  <a:lnTo>
                    <a:pt x="514" y="323"/>
                  </a:lnTo>
                  <a:lnTo>
                    <a:pt x="485" y="306"/>
                  </a:lnTo>
                  <a:lnTo>
                    <a:pt x="462" y="289"/>
                  </a:lnTo>
                  <a:lnTo>
                    <a:pt x="433" y="271"/>
                  </a:lnTo>
                  <a:lnTo>
                    <a:pt x="410" y="254"/>
                  </a:lnTo>
                  <a:lnTo>
                    <a:pt x="381" y="242"/>
                  </a:lnTo>
                  <a:lnTo>
                    <a:pt x="364" y="225"/>
                  </a:lnTo>
                  <a:lnTo>
                    <a:pt x="347" y="208"/>
                  </a:lnTo>
                  <a:lnTo>
                    <a:pt x="329" y="190"/>
                  </a:lnTo>
                  <a:lnTo>
                    <a:pt x="312" y="173"/>
                  </a:lnTo>
                  <a:lnTo>
                    <a:pt x="295" y="156"/>
                  </a:lnTo>
                  <a:lnTo>
                    <a:pt x="277" y="144"/>
                  </a:lnTo>
                  <a:lnTo>
                    <a:pt x="266" y="133"/>
                  </a:lnTo>
                  <a:lnTo>
                    <a:pt x="254" y="115"/>
                  </a:lnTo>
                  <a:lnTo>
                    <a:pt x="237" y="104"/>
                  </a:lnTo>
                  <a:lnTo>
                    <a:pt x="225" y="92"/>
                  </a:lnTo>
                  <a:lnTo>
                    <a:pt x="214" y="81"/>
                  </a:lnTo>
                  <a:lnTo>
                    <a:pt x="197" y="75"/>
                  </a:lnTo>
                  <a:lnTo>
                    <a:pt x="191" y="69"/>
                  </a:lnTo>
                  <a:lnTo>
                    <a:pt x="179" y="63"/>
                  </a:lnTo>
                  <a:lnTo>
                    <a:pt x="168" y="63"/>
                  </a:lnTo>
                  <a:lnTo>
                    <a:pt x="162" y="58"/>
                  </a:lnTo>
                  <a:lnTo>
                    <a:pt x="150" y="52"/>
                  </a:lnTo>
                  <a:lnTo>
                    <a:pt x="145" y="46"/>
                  </a:lnTo>
                  <a:lnTo>
                    <a:pt x="139" y="46"/>
                  </a:lnTo>
                  <a:lnTo>
                    <a:pt x="133" y="46"/>
                  </a:lnTo>
                  <a:lnTo>
                    <a:pt x="127" y="52"/>
                  </a:lnTo>
                  <a:lnTo>
                    <a:pt x="116" y="52"/>
                  </a:lnTo>
                  <a:lnTo>
                    <a:pt x="110" y="58"/>
                  </a:lnTo>
                  <a:lnTo>
                    <a:pt x="104" y="63"/>
                  </a:lnTo>
                  <a:lnTo>
                    <a:pt x="98" y="63"/>
                  </a:lnTo>
                  <a:lnTo>
                    <a:pt x="93" y="63"/>
                  </a:lnTo>
                  <a:lnTo>
                    <a:pt x="93" y="69"/>
                  </a:lnTo>
                  <a:lnTo>
                    <a:pt x="87" y="69"/>
                  </a:lnTo>
                  <a:lnTo>
                    <a:pt x="81" y="75"/>
                  </a:lnTo>
                  <a:lnTo>
                    <a:pt x="81" y="81"/>
                  </a:lnTo>
                  <a:lnTo>
                    <a:pt x="87" y="86"/>
                  </a:lnTo>
                  <a:lnTo>
                    <a:pt x="104" y="86"/>
                  </a:lnTo>
                  <a:lnTo>
                    <a:pt x="116" y="86"/>
                  </a:lnTo>
                  <a:lnTo>
                    <a:pt x="133" y="86"/>
                  </a:lnTo>
                  <a:lnTo>
                    <a:pt x="145" y="92"/>
                  </a:lnTo>
                  <a:lnTo>
                    <a:pt x="156" y="98"/>
                  </a:lnTo>
                  <a:lnTo>
                    <a:pt x="162" y="110"/>
                  </a:lnTo>
                  <a:lnTo>
                    <a:pt x="150" y="121"/>
                  </a:lnTo>
                  <a:lnTo>
                    <a:pt x="139" y="127"/>
                  </a:lnTo>
                  <a:lnTo>
                    <a:pt x="121" y="127"/>
                  </a:lnTo>
                  <a:lnTo>
                    <a:pt x="104" y="121"/>
                  </a:lnTo>
                  <a:lnTo>
                    <a:pt x="93" y="121"/>
                  </a:lnTo>
                  <a:lnTo>
                    <a:pt x="81" y="127"/>
                  </a:lnTo>
                  <a:lnTo>
                    <a:pt x="69" y="133"/>
                  </a:lnTo>
                  <a:lnTo>
                    <a:pt x="64" y="138"/>
                  </a:lnTo>
                  <a:lnTo>
                    <a:pt x="52" y="150"/>
                  </a:lnTo>
                  <a:lnTo>
                    <a:pt x="41" y="156"/>
                  </a:lnTo>
                  <a:lnTo>
                    <a:pt x="35" y="167"/>
                  </a:lnTo>
                  <a:lnTo>
                    <a:pt x="29" y="179"/>
                  </a:lnTo>
                  <a:lnTo>
                    <a:pt x="46" y="173"/>
                  </a:lnTo>
                  <a:lnTo>
                    <a:pt x="64" y="167"/>
                  </a:lnTo>
                  <a:lnTo>
                    <a:pt x="81" y="162"/>
                  </a:lnTo>
                  <a:lnTo>
                    <a:pt x="98" y="162"/>
                  </a:lnTo>
                  <a:lnTo>
                    <a:pt x="116" y="162"/>
                  </a:lnTo>
                  <a:lnTo>
                    <a:pt x="133" y="167"/>
                  </a:lnTo>
                  <a:lnTo>
                    <a:pt x="104" y="185"/>
                  </a:lnTo>
                  <a:lnTo>
                    <a:pt x="98" y="202"/>
                  </a:lnTo>
                  <a:lnTo>
                    <a:pt x="87" y="208"/>
                  </a:lnTo>
                  <a:lnTo>
                    <a:pt x="75" y="219"/>
                  </a:lnTo>
                  <a:lnTo>
                    <a:pt x="64" y="225"/>
                  </a:lnTo>
                  <a:lnTo>
                    <a:pt x="58" y="237"/>
                  </a:lnTo>
                  <a:lnTo>
                    <a:pt x="52" y="248"/>
                  </a:lnTo>
                  <a:lnTo>
                    <a:pt x="58" y="254"/>
                  </a:lnTo>
                  <a:lnTo>
                    <a:pt x="58" y="260"/>
                  </a:lnTo>
                  <a:lnTo>
                    <a:pt x="64" y="266"/>
                  </a:lnTo>
                  <a:lnTo>
                    <a:pt x="69" y="271"/>
                  </a:lnTo>
                  <a:lnTo>
                    <a:pt x="75" y="271"/>
                  </a:lnTo>
                  <a:lnTo>
                    <a:pt x="75" y="260"/>
                  </a:lnTo>
                  <a:lnTo>
                    <a:pt x="87" y="254"/>
                  </a:lnTo>
                  <a:lnTo>
                    <a:pt x="98" y="248"/>
                  </a:lnTo>
                  <a:lnTo>
                    <a:pt x="104" y="242"/>
                  </a:lnTo>
                  <a:lnTo>
                    <a:pt x="116" y="237"/>
                  </a:lnTo>
                  <a:lnTo>
                    <a:pt x="121" y="225"/>
                  </a:lnTo>
                  <a:lnTo>
                    <a:pt x="133" y="225"/>
                  </a:lnTo>
                  <a:lnTo>
                    <a:pt x="139" y="225"/>
                  </a:lnTo>
                  <a:lnTo>
                    <a:pt x="145" y="225"/>
                  </a:lnTo>
                  <a:lnTo>
                    <a:pt x="156" y="225"/>
                  </a:lnTo>
                  <a:lnTo>
                    <a:pt x="162" y="225"/>
                  </a:lnTo>
                  <a:lnTo>
                    <a:pt x="168" y="225"/>
                  </a:lnTo>
                  <a:lnTo>
                    <a:pt x="139" y="248"/>
                  </a:lnTo>
                  <a:lnTo>
                    <a:pt x="139" y="266"/>
                  </a:lnTo>
                  <a:lnTo>
                    <a:pt x="133" y="271"/>
                  </a:lnTo>
                  <a:lnTo>
                    <a:pt x="121" y="277"/>
                  </a:lnTo>
                  <a:lnTo>
                    <a:pt x="116" y="283"/>
                  </a:lnTo>
                  <a:lnTo>
                    <a:pt x="104" y="289"/>
                  </a:lnTo>
                  <a:lnTo>
                    <a:pt x="104" y="300"/>
                  </a:lnTo>
                  <a:lnTo>
                    <a:pt x="104" y="306"/>
                  </a:lnTo>
                  <a:lnTo>
                    <a:pt x="104" y="312"/>
                  </a:lnTo>
                  <a:lnTo>
                    <a:pt x="104" y="318"/>
                  </a:lnTo>
                  <a:lnTo>
                    <a:pt x="110" y="323"/>
                  </a:lnTo>
                  <a:lnTo>
                    <a:pt x="110" y="329"/>
                  </a:lnTo>
                  <a:lnTo>
                    <a:pt x="116" y="329"/>
                  </a:lnTo>
                  <a:lnTo>
                    <a:pt x="121" y="323"/>
                  </a:lnTo>
                  <a:lnTo>
                    <a:pt x="127" y="318"/>
                  </a:lnTo>
                  <a:lnTo>
                    <a:pt x="127" y="312"/>
                  </a:lnTo>
                  <a:lnTo>
                    <a:pt x="133" y="306"/>
                  </a:lnTo>
                  <a:lnTo>
                    <a:pt x="139" y="300"/>
                  </a:lnTo>
                  <a:lnTo>
                    <a:pt x="145" y="294"/>
                  </a:lnTo>
                  <a:lnTo>
                    <a:pt x="150" y="289"/>
                  </a:lnTo>
                  <a:lnTo>
                    <a:pt x="156" y="289"/>
                  </a:lnTo>
                  <a:lnTo>
                    <a:pt x="162" y="283"/>
                  </a:lnTo>
                  <a:lnTo>
                    <a:pt x="168" y="283"/>
                  </a:lnTo>
                  <a:lnTo>
                    <a:pt x="173" y="283"/>
                  </a:lnTo>
                  <a:lnTo>
                    <a:pt x="179" y="289"/>
                  </a:lnTo>
                  <a:lnTo>
                    <a:pt x="185" y="294"/>
                  </a:lnTo>
                  <a:lnTo>
                    <a:pt x="197" y="294"/>
                  </a:lnTo>
                  <a:lnTo>
                    <a:pt x="202" y="289"/>
                  </a:lnTo>
                  <a:lnTo>
                    <a:pt x="208" y="289"/>
                  </a:lnTo>
                  <a:lnTo>
                    <a:pt x="220" y="289"/>
                  </a:lnTo>
                  <a:lnTo>
                    <a:pt x="220" y="294"/>
                  </a:lnTo>
                  <a:lnTo>
                    <a:pt x="225" y="300"/>
                  </a:lnTo>
                  <a:lnTo>
                    <a:pt x="231" y="300"/>
                  </a:lnTo>
                  <a:lnTo>
                    <a:pt x="237" y="300"/>
                  </a:lnTo>
                  <a:lnTo>
                    <a:pt x="243" y="306"/>
                  </a:lnTo>
                  <a:lnTo>
                    <a:pt x="243" y="312"/>
                  </a:lnTo>
                  <a:lnTo>
                    <a:pt x="254" y="329"/>
                  </a:lnTo>
                  <a:lnTo>
                    <a:pt x="266" y="346"/>
                  </a:lnTo>
                  <a:lnTo>
                    <a:pt x="283" y="364"/>
                  </a:lnTo>
                  <a:lnTo>
                    <a:pt x="301" y="381"/>
                  </a:lnTo>
                  <a:lnTo>
                    <a:pt x="318" y="393"/>
                  </a:lnTo>
                  <a:lnTo>
                    <a:pt x="335" y="404"/>
                  </a:lnTo>
                  <a:lnTo>
                    <a:pt x="341" y="410"/>
                  </a:lnTo>
                  <a:lnTo>
                    <a:pt x="341" y="416"/>
                  </a:lnTo>
                  <a:lnTo>
                    <a:pt x="341" y="421"/>
                  </a:lnTo>
                  <a:lnTo>
                    <a:pt x="341" y="427"/>
                  </a:lnTo>
                  <a:lnTo>
                    <a:pt x="341" y="433"/>
                  </a:lnTo>
                  <a:lnTo>
                    <a:pt x="341" y="439"/>
                  </a:lnTo>
                  <a:lnTo>
                    <a:pt x="347" y="439"/>
                  </a:lnTo>
                  <a:lnTo>
                    <a:pt x="352" y="433"/>
                  </a:lnTo>
                  <a:lnTo>
                    <a:pt x="358" y="433"/>
                  </a:lnTo>
                  <a:lnTo>
                    <a:pt x="364" y="433"/>
                  </a:lnTo>
                  <a:lnTo>
                    <a:pt x="370" y="433"/>
                  </a:lnTo>
                  <a:lnTo>
                    <a:pt x="370" y="439"/>
                  </a:lnTo>
                  <a:lnTo>
                    <a:pt x="376" y="445"/>
                  </a:lnTo>
                  <a:lnTo>
                    <a:pt x="376" y="456"/>
                  </a:lnTo>
                  <a:lnTo>
                    <a:pt x="381" y="468"/>
                  </a:lnTo>
                  <a:lnTo>
                    <a:pt x="381" y="473"/>
                  </a:lnTo>
                  <a:lnTo>
                    <a:pt x="387" y="485"/>
                  </a:lnTo>
                  <a:lnTo>
                    <a:pt x="381" y="491"/>
                  </a:lnTo>
                  <a:lnTo>
                    <a:pt x="376" y="502"/>
                  </a:lnTo>
                  <a:lnTo>
                    <a:pt x="381" y="502"/>
                  </a:lnTo>
                  <a:lnTo>
                    <a:pt x="387" y="508"/>
                  </a:lnTo>
                  <a:lnTo>
                    <a:pt x="393" y="502"/>
                  </a:lnTo>
                  <a:lnTo>
                    <a:pt x="399" y="502"/>
                  </a:lnTo>
                  <a:lnTo>
                    <a:pt x="404" y="497"/>
                  </a:lnTo>
                  <a:lnTo>
                    <a:pt x="410" y="497"/>
                  </a:lnTo>
                  <a:lnTo>
                    <a:pt x="416" y="508"/>
                  </a:lnTo>
                  <a:lnTo>
                    <a:pt x="410" y="520"/>
                  </a:lnTo>
                  <a:lnTo>
                    <a:pt x="410" y="531"/>
                  </a:lnTo>
                  <a:lnTo>
                    <a:pt x="404" y="543"/>
                  </a:lnTo>
                  <a:lnTo>
                    <a:pt x="404" y="554"/>
                  </a:lnTo>
                  <a:lnTo>
                    <a:pt x="399" y="560"/>
                  </a:lnTo>
                  <a:lnTo>
                    <a:pt x="404" y="566"/>
                  </a:lnTo>
                  <a:lnTo>
                    <a:pt x="410" y="560"/>
                  </a:lnTo>
                  <a:lnTo>
                    <a:pt x="416" y="560"/>
                  </a:lnTo>
                  <a:lnTo>
                    <a:pt x="422" y="560"/>
                  </a:lnTo>
                  <a:lnTo>
                    <a:pt x="428" y="560"/>
                  </a:lnTo>
                  <a:lnTo>
                    <a:pt x="433" y="560"/>
                  </a:lnTo>
                  <a:lnTo>
                    <a:pt x="433" y="566"/>
                  </a:lnTo>
                  <a:lnTo>
                    <a:pt x="433" y="572"/>
                  </a:lnTo>
                  <a:lnTo>
                    <a:pt x="433" y="577"/>
                  </a:lnTo>
                  <a:lnTo>
                    <a:pt x="433" y="583"/>
                  </a:lnTo>
                  <a:lnTo>
                    <a:pt x="428" y="583"/>
                  </a:lnTo>
                  <a:lnTo>
                    <a:pt x="433" y="595"/>
                  </a:lnTo>
                  <a:lnTo>
                    <a:pt x="433" y="601"/>
                  </a:lnTo>
                  <a:lnTo>
                    <a:pt x="439" y="606"/>
                  </a:lnTo>
                  <a:lnTo>
                    <a:pt x="445" y="618"/>
                  </a:lnTo>
                  <a:lnTo>
                    <a:pt x="451" y="624"/>
                  </a:lnTo>
                  <a:lnTo>
                    <a:pt x="456" y="624"/>
                  </a:lnTo>
                  <a:lnTo>
                    <a:pt x="462" y="618"/>
                  </a:lnTo>
                  <a:lnTo>
                    <a:pt x="462" y="606"/>
                  </a:lnTo>
                  <a:lnTo>
                    <a:pt x="468" y="595"/>
                  </a:lnTo>
                  <a:lnTo>
                    <a:pt x="468" y="589"/>
                  </a:lnTo>
                  <a:lnTo>
                    <a:pt x="474" y="577"/>
                  </a:lnTo>
                  <a:lnTo>
                    <a:pt x="480" y="572"/>
                  </a:lnTo>
                  <a:lnTo>
                    <a:pt x="497" y="589"/>
                  </a:lnTo>
                  <a:lnTo>
                    <a:pt x="508" y="595"/>
                  </a:lnTo>
                  <a:lnTo>
                    <a:pt x="514" y="601"/>
                  </a:lnTo>
                  <a:lnTo>
                    <a:pt x="526" y="612"/>
                  </a:lnTo>
                  <a:lnTo>
                    <a:pt x="526" y="624"/>
                  </a:lnTo>
                  <a:lnTo>
                    <a:pt x="532" y="635"/>
                  </a:lnTo>
                  <a:lnTo>
                    <a:pt x="537" y="647"/>
                  </a:lnTo>
                  <a:lnTo>
                    <a:pt x="503" y="647"/>
                  </a:lnTo>
                  <a:lnTo>
                    <a:pt x="474" y="653"/>
                  </a:lnTo>
                  <a:lnTo>
                    <a:pt x="445" y="658"/>
                  </a:lnTo>
                  <a:lnTo>
                    <a:pt x="410" y="664"/>
                  </a:lnTo>
                  <a:lnTo>
                    <a:pt x="381" y="670"/>
                  </a:lnTo>
                  <a:lnTo>
                    <a:pt x="347" y="670"/>
                  </a:lnTo>
                  <a:lnTo>
                    <a:pt x="318" y="681"/>
                  </a:lnTo>
                  <a:lnTo>
                    <a:pt x="289" y="687"/>
                  </a:lnTo>
                  <a:lnTo>
                    <a:pt x="260" y="687"/>
                  </a:lnTo>
                  <a:lnTo>
                    <a:pt x="237" y="699"/>
                  </a:lnTo>
                  <a:lnTo>
                    <a:pt x="208" y="705"/>
                  </a:lnTo>
                  <a:lnTo>
                    <a:pt x="179" y="722"/>
                  </a:lnTo>
                  <a:lnTo>
                    <a:pt x="173" y="728"/>
                  </a:lnTo>
                  <a:lnTo>
                    <a:pt x="162" y="728"/>
                  </a:lnTo>
                  <a:lnTo>
                    <a:pt x="150" y="728"/>
                  </a:lnTo>
                  <a:lnTo>
                    <a:pt x="139" y="722"/>
                  </a:lnTo>
                  <a:lnTo>
                    <a:pt x="127" y="722"/>
                  </a:lnTo>
                  <a:lnTo>
                    <a:pt x="116" y="722"/>
                  </a:lnTo>
                  <a:lnTo>
                    <a:pt x="98" y="728"/>
                  </a:lnTo>
                  <a:lnTo>
                    <a:pt x="81" y="739"/>
                  </a:lnTo>
                  <a:lnTo>
                    <a:pt x="64" y="757"/>
                  </a:lnTo>
                  <a:lnTo>
                    <a:pt x="46" y="768"/>
                  </a:lnTo>
                  <a:lnTo>
                    <a:pt x="29" y="780"/>
                  </a:lnTo>
                  <a:lnTo>
                    <a:pt x="12" y="791"/>
                  </a:lnTo>
                  <a:lnTo>
                    <a:pt x="12" y="803"/>
                  </a:lnTo>
                  <a:lnTo>
                    <a:pt x="6" y="809"/>
                  </a:lnTo>
                  <a:lnTo>
                    <a:pt x="6" y="820"/>
                  </a:lnTo>
                  <a:lnTo>
                    <a:pt x="0" y="832"/>
                  </a:lnTo>
                  <a:lnTo>
                    <a:pt x="6" y="843"/>
                  </a:lnTo>
                  <a:lnTo>
                    <a:pt x="6" y="849"/>
                  </a:lnTo>
                  <a:lnTo>
                    <a:pt x="23" y="843"/>
                  </a:lnTo>
                  <a:lnTo>
                    <a:pt x="35" y="832"/>
                  </a:lnTo>
                  <a:lnTo>
                    <a:pt x="46" y="820"/>
                  </a:lnTo>
                  <a:lnTo>
                    <a:pt x="58" y="809"/>
                  </a:lnTo>
                  <a:lnTo>
                    <a:pt x="75" y="797"/>
                  </a:lnTo>
                  <a:lnTo>
                    <a:pt x="87" y="785"/>
                  </a:lnTo>
                  <a:lnTo>
                    <a:pt x="81" y="797"/>
                  </a:lnTo>
                  <a:lnTo>
                    <a:pt x="69" y="809"/>
                  </a:lnTo>
                  <a:lnTo>
                    <a:pt x="64" y="814"/>
                  </a:lnTo>
                  <a:lnTo>
                    <a:pt x="52" y="826"/>
                  </a:lnTo>
                  <a:lnTo>
                    <a:pt x="46" y="837"/>
                  </a:lnTo>
                  <a:lnTo>
                    <a:pt x="35" y="849"/>
                  </a:lnTo>
                  <a:lnTo>
                    <a:pt x="35" y="861"/>
                  </a:lnTo>
                  <a:lnTo>
                    <a:pt x="35" y="872"/>
                  </a:lnTo>
                  <a:lnTo>
                    <a:pt x="29" y="884"/>
                  </a:lnTo>
                  <a:lnTo>
                    <a:pt x="29" y="889"/>
                  </a:lnTo>
                  <a:lnTo>
                    <a:pt x="29" y="901"/>
                  </a:lnTo>
                  <a:lnTo>
                    <a:pt x="29" y="913"/>
                  </a:lnTo>
                  <a:lnTo>
                    <a:pt x="29" y="918"/>
                  </a:lnTo>
                  <a:lnTo>
                    <a:pt x="35" y="930"/>
                  </a:lnTo>
                  <a:lnTo>
                    <a:pt x="41" y="936"/>
                  </a:lnTo>
                  <a:lnTo>
                    <a:pt x="46" y="936"/>
                  </a:lnTo>
                  <a:lnTo>
                    <a:pt x="52" y="941"/>
                  </a:lnTo>
                  <a:lnTo>
                    <a:pt x="64" y="947"/>
                  </a:lnTo>
                  <a:lnTo>
                    <a:pt x="64" y="941"/>
                  </a:lnTo>
                  <a:lnTo>
                    <a:pt x="64" y="936"/>
                  </a:lnTo>
                  <a:lnTo>
                    <a:pt x="64" y="930"/>
                  </a:lnTo>
                  <a:lnTo>
                    <a:pt x="64" y="924"/>
                  </a:lnTo>
                  <a:lnTo>
                    <a:pt x="64" y="918"/>
                  </a:lnTo>
                  <a:lnTo>
                    <a:pt x="64" y="913"/>
                  </a:lnTo>
                  <a:lnTo>
                    <a:pt x="64" y="907"/>
                  </a:lnTo>
                  <a:lnTo>
                    <a:pt x="69" y="901"/>
                  </a:lnTo>
                  <a:lnTo>
                    <a:pt x="69" y="895"/>
                  </a:lnTo>
                  <a:lnTo>
                    <a:pt x="69" y="884"/>
                  </a:lnTo>
                  <a:lnTo>
                    <a:pt x="75" y="878"/>
                  </a:lnTo>
                  <a:lnTo>
                    <a:pt x="75" y="866"/>
                  </a:lnTo>
                  <a:lnTo>
                    <a:pt x="81" y="861"/>
                  </a:lnTo>
                  <a:lnTo>
                    <a:pt x="93" y="861"/>
                  </a:lnTo>
                  <a:lnTo>
                    <a:pt x="104" y="861"/>
                  </a:lnTo>
                  <a:lnTo>
                    <a:pt x="110" y="861"/>
                  </a:lnTo>
                  <a:lnTo>
                    <a:pt x="121" y="849"/>
                  </a:lnTo>
                  <a:lnTo>
                    <a:pt x="121" y="855"/>
                  </a:lnTo>
                  <a:lnTo>
                    <a:pt x="121" y="861"/>
                  </a:lnTo>
                  <a:lnTo>
                    <a:pt x="116" y="866"/>
                  </a:lnTo>
                  <a:lnTo>
                    <a:pt x="110" y="872"/>
                  </a:lnTo>
                  <a:lnTo>
                    <a:pt x="104" y="884"/>
                  </a:lnTo>
                  <a:lnTo>
                    <a:pt x="104" y="889"/>
                  </a:lnTo>
                  <a:lnTo>
                    <a:pt x="104" y="895"/>
                  </a:lnTo>
                  <a:lnTo>
                    <a:pt x="98" y="907"/>
                  </a:lnTo>
                  <a:lnTo>
                    <a:pt x="98" y="913"/>
                  </a:lnTo>
                  <a:lnTo>
                    <a:pt x="93" y="924"/>
                  </a:lnTo>
                  <a:lnTo>
                    <a:pt x="93" y="936"/>
                  </a:lnTo>
                  <a:lnTo>
                    <a:pt x="93" y="941"/>
                  </a:lnTo>
                  <a:lnTo>
                    <a:pt x="98" y="953"/>
                  </a:lnTo>
                  <a:lnTo>
                    <a:pt x="98" y="959"/>
                  </a:lnTo>
                  <a:lnTo>
                    <a:pt x="104" y="959"/>
                  </a:lnTo>
                  <a:lnTo>
                    <a:pt x="104" y="965"/>
                  </a:lnTo>
                  <a:lnTo>
                    <a:pt x="110" y="970"/>
                  </a:lnTo>
                  <a:lnTo>
                    <a:pt x="116" y="970"/>
                  </a:lnTo>
                  <a:lnTo>
                    <a:pt x="121" y="965"/>
                  </a:lnTo>
                  <a:lnTo>
                    <a:pt x="127" y="953"/>
                  </a:lnTo>
                  <a:lnTo>
                    <a:pt x="133" y="941"/>
                  </a:lnTo>
                  <a:lnTo>
                    <a:pt x="133" y="930"/>
                  </a:lnTo>
                  <a:lnTo>
                    <a:pt x="139" y="918"/>
                  </a:lnTo>
                  <a:lnTo>
                    <a:pt x="139" y="907"/>
                  </a:lnTo>
                  <a:lnTo>
                    <a:pt x="145" y="901"/>
                  </a:lnTo>
                  <a:lnTo>
                    <a:pt x="150" y="895"/>
                  </a:lnTo>
                  <a:lnTo>
                    <a:pt x="150" y="889"/>
                  </a:lnTo>
                  <a:lnTo>
                    <a:pt x="156" y="884"/>
                  </a:lnTo>
                  <a:lnTo>
                    <a:pt x="162" y="878"/>
                  </a:lnTo>
                  <a:lnTo>
                    <a:pt x="168" y="884"/>
                  </a:lnTo>
                  <a:lnTo>
                    <a:pt x="168" y="895"/>
                  </a:lnTo>
                  <a:lnTo>
                    <a:pt x="162" y="913"/>
                  </a:lnTo>
                  <a:lnTo>
                    <a:pt x="162" y="930"/>
                  </a:lnTo>
                  <a:lnTo>
                    <a:pt x="162" y="941"/>
                  </a:lnTo>
                  <a:lnTo>
                    <a:pt x="168" y="959"/>
                  </a:lnTo>
                  <a:lnTo>
                    <a:pt x="179" y="970"/>
                  </a:lnTo>
                  <a:lnTo>
                    <a:pt x="185" y="959"/>
                  </a:lnTo>
                  <a:lnTo>
                    <a:pt x="191" y="947"/>
                  </a:lnTo>
                  <a:lnTo>
                    <a:pt x="191" y="936"/>
                  </a:lnTo>
                  <a:lnTo>
                    <a:pt x="191" y="924"/>
                  </a:lnTo>
                  <a:lnTo>
                    <a:pt x="191" y="913"/>
                  </a:lnTo>
                  <a:lnTo>
                    <a:pt x="197" y="901"/>
                  </a:lnTo>
                  <a:lnTo>
                    <a:pt x="197" y="895"/>
                  </a:lnTo>
                  <a:lnTo>
                    <a:pt x="202" y="889"/>
                  </a:lnTo>
                  <a:lnTo>
                    <a:pt x="208" y="889"/>
                  </a:lnTo>
                  <a:lnTo>
                    <a:pt x="214" y="889"/>
                  </a:lnTo>
                  <a:lnTo>
                    <a:pt x="220" y="884"/>
                  </a:lnTo>
                  <a:lnTo>
                    <a:pt x="225" y="884"/>
                  </a:lnTo>
                  <a:lnTo>
                    <a:pt x="231" y="878"/>
                  </a:lnTo>
                  <a:lnTo>
                    <a:pt x="237" y="872"/>
                  </a:lnTo>
                  <a:lnTo>
                    <a:pt x="243" y="866"/>
                  </a:lnTo>
                  <a:lnTo>
                    <a:pt x="249" y="855"/>
                  </a:lnTo>
                  <a:lnTo>
                    <a:pt x="254" y="849"/>
                  </a:lnTo>
                  <a:lnTo>
                    <a:pt x="254" y="843"/>
                  </a:lnTo>
                  <a:lnTo>
                    <a:pt x="260" y="837"/>
                  </a:lnTo>
                  <a:lnTo>
                    <a:pt x="260" y="832"/>
                  </a:lnTo>
                  <a:lnTo>
                    <a:pt x="266" y="826"/>
                  </a:lnTo>
                  <a:lnTo>
                    <a:pt x="272" y="826"/>
                  </a:lnTo>
                  <a:lnTo>
                    <a:pt x="277" y="826"/>
                  </a:lnTo>
                  <a:lnTo>
                    <a:pt x="283" y="826"/>
                  </a:lnTo>
                  <a:lnTo>
                    <a:pt x="283" y="832"/>
                  </a:lnTo>
                  <a:lnTo>
                    <a:pt x="289" y="832"/>
                  </a:lnTo>
                  <a:lnTo>
                    <a:pt x="289" y="837"/>
                  </a:lnTo>
                  <a:lnTo>
                    <a:pt x="283" y="837"/>
                  </a:lnTo>
                  <a:lnTo>
                    <a:pt x="289" y="843"/>
                  </a:lnTo>
                  <a:lnTo>
                    <a:pt x="289" y="849"/>
                  </a:lnTo>
                  <a:lnTo>
                    <a:pt x="295" y="855"/>
                  </a:lnTo>
                  <a:lnTo>
                    <a:pt x="301" y="861"/>
                  </a:lnTo>
                  <a:lnTo>
                    <a:pt x="306" y="861"/>
                  </a:lnTo>
                  <a:lnTo>
                    <a:pt x="312" y="866"/>
                  </a:lnTo>
                  <a:lnTo>
                    <a:pt x="324" y="861"/>
                  </a:lnTo>
                  <a:lnTo>
                    <a:pt x="329" y="861"/>
                  </a:lnTo>
                  <a:lnTo>
                    <a:pt x="341" y="861"/>
                  </a:lnTo>
                  <a:lnTo>
                    <a:pt x="352" y="855"/>
                  </a:lnTo>
                  <a:lnTo>
                    <a:pt x="358" y="855"/>
                  </a:lnTo>
                  <a:lnTo>
                    <a:pt x="370" y="849"/>
                  </a:lnTo>
                  <a:lnTo>
                    <a:pt x="376" y="855"/>
                  </a:lnTo>
                  <a:lnTo>
                    <a:pt x="376" y="861"/>
                  </a:lnTo>
                  <a:lnTo>
                    <a:pt x="381" y="866"/>
                  </a:lnTo>
                  <a:lnTo>
                    <a:pt x="381" y="872"/>
                  </a:lnTo>
                  <a:lnTo>
                    <a:pt x="387" y="878"/>
                  </a:lnTo>
                  <a:lnTo>
                    <a:pt x="387" y="884"/>
                  </a:lnTo>
                  <a:lnTo>
                    <a:pt x="399" y="878"/>
                  </a:lnTo>
                  <a:lnTo>
                    <a:pt x="404" y="872"/>
                  </a:lnTo>
                  <a:lnTo>
                    <a:pt x="416" y="866"/>
                  </a:lnTo>
                  <a:lnTo>
                    <a:pt x="422" y="861"/>
                  </a:lnTo>
                  <a:lnTo>
                    <a:pt x="433" y="855"/>
                  </a:lnTo>
                  <a:lnTo>
                    <a:pt x="439" y="849"/>
                  </a:lnTo>
                  <a:lnTo>
                    <a:pt x="445" y="855"/>
                  </a:lnTo>
                  <a:lnTo>
                    <a:pt x="445" y="861"/>
                  </a:lnTo>
                  <a:lnTo>
                    <a:pt x="445" y="866"/>
                  </a:lnTo>
                  <a:lnTo>
                    <a:pt x="445" y="872"/>
                  </a:lnTo>
                  <a:lnTo>
                    <a:pt x="445" y="878"/>
                  </a:lnTo>
                  <a:lnTo>
                    <a:pt x="445" y="884"/>
                  </a:lnTo>
                  <a:lnTo>
                    <a:pt x="451" y="884"/>
                  </a:lnTo>
                  <a:lnTo>
                    <a:pt x="462" y="878"/>
                  </a:lnTo>
                  <a:lnTo>
                    <a:pt x="474" y="872"/>
                  </a:lnTo>
                  <a:lnTo>
                    <a:pt x="485" y="866"/>
                  </a:lnTo>
                  <a:lnTo>
                    <a:pt x="497" y="861"/>
                  </a:lnTo>
                  <a:lnTo>
                    <a:pt x="508" y="861"/>
                  </a:lnTo>
                  <a:lnTo>
                    <a:pt x="526" y="861"/>
                  </a:lnTo>
                  <a:lnTo>
                    <a:pt x="537" y="855"/>
                  </a:lnTo>
                  <a:lnTo>
                    <a:pt x="543" y="861"/>
                  </a:lnTo>
                  <a:lnTo>
                    <a:pt x="543" y="872"/>
                  </a:lnTo>
                  <a:lnTo>
                    <a:pt x="543" y="884"/>
                  </a:lnTo>
                  <a:lnTo>
                    <a:pt x="549" y="895"/>
                  </a:lnTo>
                  <a:lnTo>
                    <a:pt x="555" y="901"/>
                  </a:lnTo>
                  <a:lnTo>
                    <a:pt x="560" y="895"/>
                  </a:lnTo>
                  <a:lnTo>
                    <a:pt x="572" y="889"/>
                  </a:lnTo>
                  <a:lnTo>
                    <a:pt x="578" y="878"/>
                  </a:lnTo>
                  <a:lnTo>
                    <a:pt x="584" y="872"/>
                  </a:lnTo>
                  <a:lnTo>
                    <a:pt x="595" y="866"/>
                  </a:lnTo>
                  <a:lnTo>
                    <a:pt x="601" y="861"/>
                  </a:lnTo>
                  <a:lnTo>
                    <a:pt x="612" y="855"/>
                  </a:lnTo>
                  <a:lnTo>
                    <a:pt x="618" y="849"/>
                  </a:lnTo>
                  <a:lnTo>
                    <a:pt x="630" y="849"/>
                  </a:lnTo>
                  <a:lnTo>
                    <a:pt x="636" y="849"/>
                  </a:lnTo>
                  <a:lnTo>
                    <a:pt x="647" y="849"/>
                  </a:lnTo>
                  <a:lnTo>
                    <a:pt x="653" y="855"/>
                  </a:lnTo>
                  <a:lnTo>
                    <a:pt x="659" y="861"/>
                  </a:lnTo>
                  <a:lnTo>
                    <a:pt x="659" y="866"/>
                  </a:lnTo>
                  <a:lnTo>
                    <a:pt x="659" y="872"/>
                  </a:lnTo>
                  <a:lnTo>
                    <a:pt x="659" y="878"/>
                  </a:lnTo>
                  <a:lnTo>
                    <a:pt x="659" y="884"/>
                  </a:lnTo>
                  <a:lnTo>
                    <a:pt x="659" y="889"/>
                  </a:lnTo>
                  <a:lnTo>
                    <a:pt x="659" y="895"/>
                  </a:lnTo>
                  <a:lnTo>
                    <a:pt x="659" y="901"/>
                  </a:lnTo>
                  <a:lnTo>
                    <a:pt x="659" y="907"/>
                  </a:lnTo>
                  <a:lnTo>
                    <a:pt x="664" y="913"/>
                  </a:lnTo>
                  <a:lnTo>
                    <a:pt x="664" y="918"/>
                  </a:lnTo>
                  <a:lnTo>
                    <a:pt x="670" y="924"/>
                  </a:lnTo>
                  <a:lnTo>
                    <a:pt x="676" y="930"/>
                  </a:lnTo>
                  <a:lnTo>
                    <a:pt x="682" y="936"/>
                  </a:lnTo>
                  <a:lnTo>
                    <a:pt x="687" y="941"/>
                  </a:lnTo>
                  <a:lnTo>
                    <a:pt x="687" y="947"/>
                  </a:lnTo>
                  <a:lnTo>
                    <a:pt x="687" y="953"/>
                  </a:lnTo>
                  <a:lnTo>
                    <a:pt x="699" y="970"/>
                  </a:lnTo>
                  <a:lnTo>
                    <a:pt x="711" y="988"/>
                  </a:lnTo>
                  <a:lnTo>
                    <a:pt x="716" y="1005"/>
                  </a:lnTo>
                  <a:lnTo>
                    <a:pt x="728" y="1022"/>
                  </a:lnTo>
                  <a:lnTo>
                    <a:pt x="745" y="1040"/>
                  </a:lnTo>
                  <a:lnTo>
                    <a:pt x="757" y="1057"/>
                  </a:lnTo>
                  <a:lnTo>
                    <a:pt x="774" y="1063"/>
                  </a:lnTo>
                  <a:lnTo>
                    <a:pt x="786" y="1069"/>
                  </a:lnTo>
                  <a:lnTo>
                    <a:pt x="797" y="1074"/>
                  </a:lnTo>
                  <a:lnTo>
                    <a:pt x="809" y="1080"/>
                  </a:lnTo>
                  <a:lnTo>
                    <a:pt x="826" y="1092"/>
                  </a:lnTo>
                  <a:lnTo>
                    <a:pt x="838" y="1097"/>
                  </a:lnTo>
                  <a:lnTo>
                    <a:pt x="849" y="1109"/>
                  </a:lnTo>
                  <a:lnTo>
                    <a:pt x="872" y="1144"/>
                  </a:lnTo>
                  <a:lnTo>
                    <a:pt x="849" y="1149"/>
                  </a:lnTo>
                  <a:lnTo>
                    <a:pt x="826" y="1149"/>
                  </a:lnTo>
                  <a:lnTo>
                    <a:pt x="803" y="1161"/>
                  </a:lnTo>
                  <a:lnTo>
                    <a:pt x="774" y="1167"/>
                  </a:lnTo>
                  <a:lnTo>
                    <a:pt x="751" y="1172"/>
                  </a:lnTo>
                  <a:lnTo>
                    <a:pt x="722" y="1178"/>
                  </a:lnTo>
                  <a:lnTo>
                    <a:pt x="699" y="1190"/>
                  </a:lnTo>
                  <a:lnTo>
                    <a:pt x="670" y="1207"/>
                  </a:lnTo>
                  <a:lnTo>
                    <a:pt x="641" y="1224"/>
                  </a:lnTo>
                  <a:lnTo>
                    <a:pt x="618" y="1248"/>
                  </a:lnTo>
                  <a:lnTo>
                    <a:pt x="595" y="1271"/>
                  </a:lnTo>
                  <a:lnTo>
                    <a:pt x="572" y="1294"/>
                  </a:lnTo>
                  <a:lnTo>
                    <a:pt x="560" y="1294"/>
                  </a:lnTo>
                  <a:lnTo>
                    <a:pt x="549" y="1288"/>
                  </a:lnTo>
                  <a:lnTo>
                    <a:pt x="537" y="1294"/>
                  </a:lnTo>
                  <a:lnTo>
                    <a:pt x="526" y="1294"/>
                  </a:lnTo>
                  <a:lnTo>
                    <a:pt x="514" y="1300"/>
                  </a:lnTo>
                  <a:lnTo>
                    <a:pt x="503" y="1305"/>
                  </a:lnTo>
                  <a:lnTo>
                    <a:pt x="485" y="1294"/>
                  </a:lnTo>
                  <a:lnTo>
                    <a:pt x="480" y="1276"/>
                  </a:lnTo>
                  <a:lnTo>
                    <a:pt x="474" y="1259"/>
                  </a:lnTo>
                  <a:lnTo>
                    <a:pt x="474" y="1242"/>
                  </a:lnTo>
                  <a:lnTo>
                    <a:pt x="462" y="1224"/>
                  </a:lnTo>
                  <a:lnTo>
                    <a:pt x="445" y="1213"/>
                  </a:lnTo>
                  <a:lnTo>
                    <a:pt x="428" y="1207"/>
                  </a:lnTo>
                  <a:lnTo>
                    <a:pt x="410" y="1201"/>
                  </a:lnTo>
                  <a:lnTo>
                    <a:pt x="393" y="1190"/>
                  </a:lnTo>
                  <a:lnTo>
                    <a:pt x="376" y="1178"/>
                  </a:lnTo>
                  <a:lnTo>
                    <a:pt x="358" y="1167"/>
                  </a:lnTo>
                  <a:lnTo>
                    <a:pt x="341" y="1167"/>
                  </a:lnTo>
                  <a:lnTo>
                    <a:pt x="341" y="1172"/>
                  </a:lnTo>
                  <a:lnTo>
                    <a:pt x="341" y="1178"/>
                  </a:lnTo>
                  <a:lnTo>
                    <a:pt x="347" y="1184"/>
                  </a:lnTo>
                  <a:lnTo>
                    <a:pt x="352" y="1184"/>
                  </a:lnTo>
                  <a:lnTo>
                    <a:pt x="358" y="1190"/>
                  </a:lnTo>
                  <a:lnTo>
                    <a:pt x="358" y="1196"/>
                  </a:lnTo>
                  <a:lnTo>
                    <a:pt x="364" y="1201"/>
                  </a:lnTo>
                  <a:lnTo>
                    <a:pt x="370" y="1207"/>
                  </a:lnTo>
                  <a:lnTo>
                    <a:pt x="376" y="1219"/>
                  </a:lnTo>
                  <a:lnTo>
                    <a:pt x="381" y="1224"/>
                  </a:lnTo>
                  <a:lnTo>
                    <a:pt x="387" y="1236"/>
                  </a:lnTo>
                  <a:lnTo>
                    <a:pt x="387" y="1242"/>
                  </a:lnTo>
                  <a:lnTo>
                    <a:pt x="376" y="1230"/>
                  </a:lnTo>
                  <a:lnTo>
                    <a:pt x="370" y="1224"/>
                  </a:lnTo>
                  <a:lnTo>
                    <a:pt x="358" y="1219"/>
                  </a:lnTo>
                  <a:lnTo>
                    <a:pt x="347" y="1213"/>
                  </a:lnTo>
                  <a:lnTo>
                    <a:pt x="329" y="1207"/>
                  </a:lnTo>
                  <a:lnTo>
                    <a:pt x="318" y="1213"/>
                  </a:lnTo>
                  <a:lnTo>
                    <a:pt x="306" y="1213"/>
                  </a:lnTo>
                  <a:lnTo>
                    <a:pt x="301" y="1213"/>
                  </a:lnTo>
                  <a:lnTo>
                    <a:pt x="289" y="1219"/>
                  </a:lnTo>
                  <a:lnTo>
                    <a:pt x="283" y="1224"/>
                  </a:lnTo>
                  <a:lnTo>
                    <a:pt x="277" y="1230"/>
                  </a:lnTo>
                  <a:lnTo>
                    <a:pt x="272" y="1236"/>
                  </a:lnTo>
                  <a:lnTo>
                    <a:pt x="277" y="1242"/>
                  </a:lnTo>
                  <a:lnTo>
                    <a:pt x="283" y="1242"/>
                  </a:lnTo>
                  <a:lnTo>
                    <a:pt x="289" y="1242"/>
                  </a:lnTo>
                  <a:lnTo>
                    <a:pt x="295" y="1242"/>
                  </a:lnTo>
                  <a:lnTo>
                    <a:pt x="301" y="1236"/>
                  </a:lnTo>
                  <a:lnTo>
                    <a:pt x="312" y="1242"/>
                  </a:lnTo>
                  <a:lnTo>
                    <a:pt x="318" y="1248"/>
                  </a:lnTo>
                  <a:lnTo>
                    <a:pt x="329" y="1253"/>
                  </a:lnTo>
                  <a:lnTo>
                    <a:pt x="335" y="1265"/>
                  </a:lnTo>
                  <a:lnTo>
                    <a:pt x="341" y="1276"/>
                  </a:lnTo>
                  <a:lnTo>
                    <a:pt x="352" y="1282"/>
                  </a:lnTo>
                  <a:lnTo>
                    <a:pt x="358" y="1288"/>
                  </a:lnTo>
                  <a:lnTo>
                    <a:pt x="364" y="1288"/>
                  </a:lnTo>
                  <a:lnTo>
                    <a:pt x="364" y="1294"/>
                  </a:lnTo>
                  <a:lnTo>
                    <a:pt x="364" y="1300"/>
                  </a:lnTo>
                  <a:lnTo>
                    <a:pt x="347" y="1300"/>
                  </a:lnTo>
                  <a:lnTo>
                    <a:pt x="329" y="1294"/>
                  </a:lnTo>
                  <a:lnTo>
                    <a:pt x="312" y="1294"/>
                  </a:lnTo>
                  <a:lnTo>
                    <a:pt x="301" y="1294"/>
                  </a:lnTo>
                  <a:lnTo>
                    <a:pt x="283" y="1300"/>
                  </a:lnTo>
                  <a:lnTo>
                    <a:pt x="272" y="1311"/>
                  </a:lnTo>
                  <a:lnTo>
                    <a:pt x="272" y="1317"/>
                  </a:lnTo>
                  <a:lnTo>
                    <a:pt x="266" y="1323"/>
                  </a:lnTo>
                  <a:lnTo>
                    <a:pt x="266" y="1328"/>
                  </a:lnTo>
                  <a:lnTo>
                    <a:pt x="266" y="1334"/>
                  </a:lnTo>
                  <a:lnTo>
                    <a:pt x="277" y="1334"/>
                  </a:lnTo>
                  <a:lnTo>
                    <a:pt x="283" y="1334"/>
                  </a:lnTo>
                  <a:lnTo>
                    <a:pt x="289" y="1328"/>
                  </a:lnTo>
                  <a:lnTo>
                    <a:pt x="295" y="1328"/>
                  </a:lnTo>
                  <a:lnTo>
                    <a:pt x="301" y="1328"/>
                  </a:lnTo>
                  <a:lnTo>
                    <a:pt x="306" y="1328"/>
                  </a:lnTo>
                  <a:lnTo>
                    <a:pt x="318" y="1328"/>
                  </a:lnTo>
                  <a:lnTo>
                    <a:pt x="329" y="1334"/>
                  </a:lnTo>
                  <a:lnTo>
                    <a:pt x="341" y="1340"/>
                  </a:lnTo>
                  <a:lnTo>
                    <a:pt x="347" y="1346"/>
                  </a:lnTo>
                  <a:lnTo>
                    <a:pt x="358" y="1357"/>
                  </a:lnTo>
                  <a:lnTo>
                    <a:pt x="364" y="1363"/>
                  </a:lnTo>
                  <a:lnTo>
                    <a:pt x="358" y="1369"/>
                  </a:lnTo>
                  <a:lnTo>
                    <a:pt x="347" y="1369"/>
                  </a:lnTo>
                  <a:lnTo>
                    <a:pt x="341" y="1369"/>
                  </a:lnTo>
                  <a:lnTo>
                    <a:pt x="329" y="1375"/>
                  </a:lnTo>
                  <a:lnTo>
                    <a:pt x="324" y="1375"/>
                  </a:lnTo>
                  <a:lnTo>
                    <a:pt x="318" y="1380"/>
                  </a:lnTo>
                  <a:lnTo>
                    <a:pt x="306" y="1386"/>
                  </a:lnTo>
                  <a:lnTo>
                    <a:pt x="301" y="1392"/>
                  </a:lnTo>
                  <a:lnTo>
                    <a:pt x="295" y="1404"/>
                  </a:lnTo>
                  <a:lnTo>
                    <a:pt x="289" y="1409"/>
                  </a:lnTo>
                  <a:lnTo>
                    <a:pt x="289" y="1421"/>
                  </a:lnTo>
                  <a:lnTo>
                    <a:pt x="289" y="1427"/>
                  </a:lnTo>
                  <a:lnTo>
                    <a:pt x="295" y="1427"/>
                  </a:lnTo>
                  <a:lnTo>
                    <a:pt x="301" y="1427"/>
                  </a:lnTo>
                  <a:lnTo>
                    <a:pt x="306" y="1421"/>
                  </a:lnTo>
                  <a:lnTo>
                    <a:pt x="306" y="1415"/>
                  </a:lnTo>
                  <a:lnTo>
                    <a:pt x="312" y="1415"/>
                  </a:lnTo>
                  <a:lnTo>
                    <a:pt x="318" y="1409"/>
                  </a:lnTo>
                  <a:lnTo>
                    <a:pt x="329" y="1409"/>
                  </a:lnTo>
                  <a:lnTo>
                    <a:pt x="335" y="1409"/>
                  </a:lnTo>
                  <a:lnTo>
                    <a:pt x="347" y="1409"/>
                  </a:lnTo>
                  <a:lnTo>
                    <a:pt x="352" y="1415"/>
                  </a:lnTo>
                  <a:lnTo>
                    <a:pt x="364" y="1421"/>
                  </a:lnTo>
                  <a:lnTo>
                    <a:pt x="370" y="1427"/>
                  </a:lnTo>
                  <a:lnTo>
                    <a:pt x="376" y="1427"/>
                  </a:lnTo>
                  <a:lnTo>
                    <a:pt x="381" y="1427"/>
                  </a:lnTo>
                  <a:lnTo>
                    <a:pt x="387" y="1427"/>
                  </a:lnTo>
                  <a:lnTo>
                    <a:pt x="399" y="1427"/>
                  </a:lnTo>
                  <a:lnTo>
                    <a:pt x="404" y="1421"/>
                  </a:lnTo>
                  <a:lnTo>
                    <a:pt x="410" y="1421"/>
                  </a:lnTo>
                  <a:lnTo>
                    <a:pt x="410" y="1427"/>
                  </a:lnTo>
                  <a:lnTo>
                    <a:pt x="416" y="1438"/>
                  </a:lnTo>
                  <a:lnTo>
                    <a:pt x="416" y="1444"/>
                  </a:lnTo>
                  <a:lnTo>
                    <a:pt x="416" y="1450"/>
                  </a:lnTo>
                  <a:lnTo>
                    <a:pt x="422" y="1461"/>
                  </a:lnTo>
                  <a:lnTo>
                    <a:pt x="428" y="1467"/>
                  </a:lnTo>
                  <a:lnTo>
                    <a:pt x="433" y="1473"/>
                  </a:lnTo>
                  <a:lnTo>
                    <a:pt x="439" y="1473"/>
                  </a:lnTo>
                  <a:lnTo>
                    <a:pt x="445" y="1473"/>
                  </a:lnTo>
                  <a:lnTo>
                    <a:pt x="451" y="1479"/>
                  </a:lnTo>
                  <a:lnTo>
                    <a:pt x="456" y="1479"/>
                  </a:lnTo>
                  <a:lnTo>
                    <a:pt x="462" y="1479"/>
                  </a:lnTo>
                  <a:lnTo>
                    <a:pt x="468" y="1479"/>
                  </a:lnTo>
                  <a:lnTo>
                    <a:pt x="468" y="1490"/>
                  </a:lnTo>
                  <a:lnTo>
                    <a:pt x="474" y="1502"/>
                  </a:lnTo>
                  <a:lnTo>
                    <a:pt x="480" y="1508"/>
                  </a:lnTo>
                  <a:lnTo>
                    <a:pt x="491" y="1508"/>
                  </a:lnTo>
                  <a:lnTo>
                    <a:pt x="503" y="1513"/>
                  </a:lnTo>
                  <a:lnTo>
                    <a:pt x="508" y="1519"/>
                  </a:lnTo>
                  <a:lnTo>
                    <a:pt x="514" y="1525"/>
                  </a:lnTo>
                  <a:lnTo>
                    <a:pt x="508" y="1525"/>
                  </a:lnTo>
                  <a:lnTo>
                    <a:pt x="503" y="1531"/>
                  </a:lnTo>
                  <a:lnTo>
                    <a:pt x="503" y="1536"/>
                  </a:lnTo>
                  <a:lnTo>
                    <a:pt x="508" y="1542"/>
                  </a:lnTo>
                  <a:lnTo>
                    <a:pt x="514" y="1542"/>
                  </a:lnTo>
                  <a:lnTo>
                    <a:pt x="520" y="1542"/>
                  </a:lnTo>
                  <a:lnTo>
                    <a:pt x="526" y="1542"/>
                  </a:lnTo>
                  <a:lnTo>
                    <a:pt x="532" y="1542"/>
                  </a:lnTo>
                  <a:lnTo>
                    <a:pt x="532" y="1548"/>
                  </a:lnTo>
                  <a:lnTo>
                    <a:pt x="526" y="1554"/>
                  </a:lnTo>
                  <a:lnTo>
                    <a:pt x="526" y="1560"/>
                  </a:lnTo>
                  <a:lnTo>
                    <a:pt x="526" y="1565"/>
                  </a:lnTo>
                  <a:lnTo>
                    <a:pt x="532" y="1571"/>
                  </a:lnTo>
                  <a:lnTo>
                    <a:pt x="537" y="1571"/>
                  </a:lnTo>
                  <a:lnTo>
                    <a:pt x="543" y="1571"/>
                  </a:lnTo>
                  <a:lnTo>
                    <a:pt x="549" y="1565"/>
                  </a:lnTo>
                  <a:lnTo>
                    <a:pt x="555" y="1565"/>
                  </a:lnTo>
                  <a:lnTo>
                    <a:pt x="560" y="1560"/>
                  </a:lnTo>
                  <a:lnTo>
                    <a:pt x="566" y="1560"/>
                  </a:lnTo>
                  <a:lnTo>
                    <a:pt x="572" y="1560"/>
                  </a:lnTo>
                  <a:lnTo>
                    <a:pt x="578" y="1565"/>
                  </a:lnTo>
                  <a:lnTo>
                    <a:pt x="589" y="1571"/>
                  </a:lnTo>
                  <a:lnTo>
                    <a:pt x="595" y="1577"/>
                  </a:lnTo>
                  <a:lnTo>
                    <a:pt x="601" y="1571"/>
                  </a:lnTo>
                  <a:lnTo>
                    <a:pt x="618" y="1565"/>
                  </a:lnTo>
                  <a:lnTo>
                    <a:pt x="630" y="1548"/>
                  </a:lnTo>
                  <a:lnTo>
                    <a:pt x="641" y="1536"/>
                  </a:lnTo>
                  <a:lnTo>
                    <a:pt x="653" y="1519"/>
                  </a:lnTo>
                  <a:lnTo>
                    <a:pt x="659" y="1502"/>
                  </a:lnTo>
                  <a:lnTo>
                    <a:pt x="659" y="1484"/>
                  </a:lnTo>
                  <a:lnTo>
                    <a:pt x="664" y="1484"/>
                  </a:lnTo>
                  <a:lnTo>
                    <a:pt x="664" y="1490"/>
                  </a:lnTo>
                  <a:lnTo>
                    <a:pt x="670" y="1496"/>
                  </a:lnTo>
                  <a:lnTo>
                    <a:pt x="676" y="1496"/>
                  </a:lnTo>
                  <a:lnTo>
                    <a:pt x="682" y="1496"/>
                  </a:lnTo>
                  <a:lnTo>
                    <a:pt x="687" y="1496"/>
                  </a:lnTo>
                  <a:lnTo>
                    <a:pt x="693" y="1496"/>
                  </a:lnTo>
                  <a:lnTo>
                    <a:pt x="699" y="1496"/>
                  </a:lnTo>
                  <a:lnTo>
                    <a:pt x="705" y="1490"/>
                  </a:lnTo>
                  <a:lnTo>
                    <a:pt x="705" y="1496"/>
                  </a:lnTo>
                  <a:lnTo>
                    <a:pt x="705" y="1508"/>
                  </a:lnTo>
                  <a:lnTo>
                    <a:pt x="705" y="1513"/>
                  </a:lnTo>
                  <a:lnTo>
                    <a:pt x="705" y="1519"/>
                  </a:lnTo>
                  <a:lnTo>
                    <a:pt x="711" y="1525"/>
                  </a:lnTo>
                  <a:lnTo>
                    <a:pt x="711" y="1531"/>
                  </a:lnTo>
                  <a:lnTo>
                    <a:pt x="716" y="1525"/>
                  </a:lnTo>
                  <a:lnTo>
                    <a:pt x="722" y="1525"/>
                  </a:lnTo>
                  <a:lnTo>
                    <a:pt x="728" y="1519"/>
                  </a:lnTo>
                  <a:lnTo>
                    <a:pt x="728" y="1513"/>
                  </a:lnTo>
                  <a:lnTo>
                    <a:pt x="734" y="1508"/>
                  </a:lnTo>
                  <a:lnTo>
                    <a:pt x="739" y="1508"/>
                  </a:lnTo>
                  <a:lnTo>
                    <a:pt x="745" y="1502"/>
                  </a:lnTo>
                  <a:lnTo>
                    <a:pt x="751" y="1502"/>
                  </a:lnTo>
                  <a:lnTo>
                    <a:pt x="757" y="1502"/>
                  </a:lnTo>
                  <a:lnTo>
                    <a:pt x="763" y="1502"/>
                  </a:lnTo>
                  <a:lnTo>
                    <a:pt x="768" y="1508"/>
                  </a:lnTo>
                  <a:lnTo>
                    <a:pt x="768" y="1513"/>
                  </a:lnTo>
                  <a:lnTo>
                    <a:pt x="768" y="1519"/>
                  </a:lnTo>
                  <a:lnTo>
                    <a:pt x="774" y="1531"/>
                  </a:lnTo>
                  <a:lnTo>
                    <a:pt x="780" y="1536"/>
                  </a:lnTo>
                  <a:lnTo>
                    <a:pt x="786" y="1542"/>
                  </a:lnTo>
                  <a:lnTo>
                    <a:pt x="791" y="1548"/>
                  </a:lnTo>
                  <a:lnTo>
                    <a:pt x="809" y="1525"/>
                  </a:lnTo>
                  <a:lnTo>
                    <a:pt x="826" y="1508"/>
                  </a:lnTo>
                  <a:lnTo>
                    <a:pt x="849" y="1508"/>
                  </a:lnTo>
                  <a:lnTo>
                    <a:pt x="872" y="1502"/>
                  </a:lnTo>
                  <a:lnTo>
                    <a:pt x="901" y="1502"/>
                  </a:lnTo>
                  <a:lnTo>
                    <a:pt x="924" y="1502"/>
                  </a:lnTo>
                  <a:lnTo>
                    <a:pt x="936" y="1502"/>
                  </a:lnTo>
                  <a:lnTo>
                    <a:pt x="936" y="153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637560" y="3471840"/>
              <a:ext cx="372240" cy="217080"/>
            </a:xfrm>
            <a:custGeom>
              <a:avLst/>
              <a:gdLst/>
              <a:ahLst/>
              <a:rect l="l" t="t" r="r" b="b"/>
              <a:pathLst>
                <a:path w="694" h="405">
                  <a:moveTo>
                    <a:pt x="647" y="318"/>
                  </a:moveTo>
                  <a:lnTo>
                    <a:pt x="647" y="306"/>
                  </a:lnTo>
                  <a:lnTo>
                    <a:pt x="653" y="295"/>
                  </a:lnTo>
                  <a:lnTo>
                    <a:pt x="653" y="277"/>
                  </a:lnTo>
                  <a:lnTo>
                    <a:pt x="659" y="266"/>
                  </a:lnTo>
                  <a:lnTo>
                    <a:pt x="665" y="254"/>
                  </a:lnTo>
                  <a:lnTo>
                    <a:pt x="676" y="249"/>
                  </a:lnTo>
                  <a:lnTo>
                    <a:pt x="676" y="243"/>
                  </a:lnTo>
                  <a:lnTo>
                    <a:pt x="676" y="237"/>
                  </a:lnTo>
                  <a:lnTo>
                    <a:pt x="682" y="237"/>
                  </a:lnTo>
                  <a:lnTo>
                    <a:pt x="682" y="231"/>
                  </a:lnTo>
                  <a:lnTo>
                    <a:pt x="688" y="225"/>
                  </a:lnTo>
                  <a:lnTo>
                    <a:pt x="688" y="208"/>
                  </a:lnTo>
                  <a:lnTo>
                    <a:pt x="688" y="191"/>
                  </a:lnTo>
                  <a:lnTo>
                    <a:pt x="694" y="173"/>
                  </a:lnTo>
                  <a:lnTo>
                    <a:pt x="694" y="156"/>
                  </a:lnTo>
                  <a:lnTo>
                    <a:pt x="688" y="139"/>
                  </a:lnTo>
                  <a:lnTo>
                    <a:pt x="676" y="121"/>
                  </a:lnTo>
                  <a:lnTo>
                    <a:pt x="665" y="110"/>
                  </a:lnTo>
                  <a:lnTo>
                    <a:pt x="665" y="93"/>
                  </a:lnTo>
                  <a:lnTo>
                    <a:pt x="659" y="75"/>
                  </a:lnTo>
                  <a:lnTo>
                    <a:pt x="659" y="64"/>
                  </a:lnTo>
                  <a:lnTo>
                    <a:pt x="653" y="46"/>
                  </a:lnTo>
                  <a:lnTo>
                    <a:pt x="642" y="35"/>
                  </a:lnTo>
                  <a:lnTo>
                    <a:pt x="636" y="29"/>
                  </a:lnTo>
                  <a:lnTo>
                    <a:pt x="624" y="17"/>
                  </a:lnTo>
                  <a:lnTo>
                    <a:pt x="618" y="12"/>
                  </a:lnTo>
                  <a:lnTo>
                    <a:pt x="613" y="0"/>
                  </a:lnTo>
                  <a:lnTo>
                    <a:pt x="607" y="0"/>
                  </a:lnTo>
                  <a:lnTo>
                    <a:pt x="595" y="0"/>
                  </a:lnTo>
                  <a:lnTo>
                    <a:pt x="572" y="0"/>
                  </a:lnTo>
                  <a:lnTo>
                    <a:pt x="543" y="6"/>
                  </a:lnTo>
                  <a:lnTo>
                    <a:pt x="514" y="12"/>
                  </a:lnTo>
                  <a:lnTo>
                    <a:pt x="486" y="23"/>
                  </a:lnTo>
                  <a:lnTo>
                    <a:pt x="462" y="29"/>
                  </a:lnTo>
                  <a:lnTo>
                    <a:pt x="434" y="35"/>
                  </a:lnTo>
                  <a:lnTo>
                    <a:pt x="410" y="52"/>
                  </a:lnTo>
                  <a:lnTo>
                    <a:pt x="387" y="64"/>
                  </a:lnTo>
                  <a:lnTo>
                    <a:pt x="364" y="81"/>
                  </a:lnTo>
                  <a:lnTo>
                    <a:pt x="341" y="98"/>
                  </a:lnTo>
                  <a:lnTo>
                    <a:pt x="324" y="121"/>
                  </a:lnTo>
                  <a:lnTo>
                    <a:pt x="307" y="145"/>
                  </a:lnTo>
                  <a:lnTo>
                    <a:pt x="307" y="156"/>
                  </a:lnTo>
                  <a:lnTo>
                    <a:pt x="307" y="162"/>
                  </a:lnTo>
                  <a:lnTo>
                    <a:pt x="307" y="173"/>
                  </a:lnTo>
                  <a:lnTo>
                    <a:pt x="312" y="179"/>
                  </a:lnTo>
                  <a:lnTo>
                    <a:pt x="312" y="191"/>
                  </a:lnTo>
                  <a:lnTo>
                    <a:pt x="307" y="197"/>
                  </a:lnTo>
                  <a:lnTo>
                    <a:pt x="301" y="208"/>
                  </a:lnTo>
                  <a:lnTo>
                    <a:pt x="301" y="220"/>
                  </a:lnTo>
                  <a:lnTo>
                    <a:pt x="295" y="225"/>
                  </a:lnTo>
                  <a:lnTo>
                    <a:pt x="295" y="237"/>
                  </a:lnTo>
                  <a:lnTo>
                    <a:pt x="301" y="249"/>
                  </a:lnTo>
                  <a:lnTo>
                    <a:pt x="301" y="260"/>
                  </a:lnTo>
                  <a:lnTo>
                    <a:pt x="307" y="260"/>
                  </a:lnTo>
                  <a:lnTo>
                    <a:pt x="307" y="266"/>
                  </a:lnTo>
                  <a:lnTo>
                    <a:pt x="312" y="266"/>
                  </a:lnTo>
                  <a:lnTo>
                    <a:pt x="318" y="272"/>
                  </a:lnTo>
                  <a:lnTo>
                    <a:pt x="318" y="277"/>
                  </a:lnTo>
                  <a:lnTo>
                    <a:pt x="312" y="277"/>
                  </a:lnTo>
                  <a:lnTo>
                    <a:pt x="307" y="277"/>
                  </a:lnTo>
                  <a:lnTo>
                    <a:pt x="301" y="277"/>
                  </a:lnTo>
                  <a:lnTo>
                    <a:pt x="295" y="266"/>
                  </a:lnTo>
                  <a:lnTo>
                    <a:pt x="289" y="254"/>
                  </a:lnTo>
                  <a:lnTo>
                    <a:pt x="289" y="249"/>
                  </a:lnTo>
                  <a:lnTo>
                    <a:pt x="289" y="237"/>
                  </a:lnTo>
                  <a:lnTo>
                    <a:pt x="289" y="225"/>
                  </a:lnTo>
                  <a:lnTo>
                    <a:pt x="289" y="214"/>
                  </a:lnTo>
                  <a:lnTo>
                    <a:pt x="289" y="208"/>
                  </a:lnTo>
                  <a:lnTo>
                    <a:pt x="295" y="197"/>
                  </a:lnTo>
                  <a:lnTo>
                    <a:pt x="301" y="191"/>
                  </a:lnTo>
                  <a:lnTo>
                    <a:pt x="301" y="179"/>
                  </a:lnTo>
                  <a:lnTo>
                    <a:pt x="301" y="173"/>
                  </a:lnTo>
                  <a:lnTo>
                    <a:pt x="295" y="162"/>
                  </a:lnTo>
                  <a:lnTo>
                    <a:pt x="295" y="156"/>
                  </a:lnTo>
                  <a:lnTo>
                    <a:pt x="289" y="150"/>
                  </a:lnTo>
                  <a:lnTo>
                    <a:pt x="283" y="145"/>
                  </a:lnTo>
                  <a:lnTo>
                    <a:pt x="278" y="145"/>
                  </a:lnTo>
                  <a:lnTo>
                    <a:pt x="272" y="145"/>
                  </a:lnTo>
                  <a:lnTo>
                    <a:pt x="260" y="145"/>
                  </a:lnTo>
                  <a:lnTo>
                    <a:pt x="249" y="150"/>
                  </a:lnTo>
                  <a:lnTo>
                    <a:pt x="243" y="156"/>
                  </a:lnTo>
                  <a:lnTo>
                    <a:pt x="231" y="156"/>
                  </a:lnTo>
                  <a:lnTo>
                    <a:pt x="220" y="162"/>
                  </a:lnTo>
                  <a:lnTo>
                    <a:pt x="208" y="150"/>
                  </a:lnTo>
                  <a:lnTo>
                    <a:pt x="197" y="139"/>
                  </a:lnTo>
                  <a:lnTo>
                    <a:pt x="197" y="127"/>
                  </a:lnTo>
                  <a:lnTo>
                    <a:pt x="197" y="110"/>
                  </a:lnTo>
                  <a:lnTo>
                    <a:pt x="191" y="93"/>
                  </a:lnTo>
                  <a:lnTo>
                    <a:pt x="179" y="81"/>
                  </a:lnTo>
                  <a:lnTo>
                    <a:pt x="162" y="69"/>
                  </a:lnTo>
                  <a:lnTo>
                    <a:pt x="145" y="64"/>
                  </a:lnTo>
                  <a:lnTo>
                    <a:pt x="133" y="52"/>
                  </a:lnTo>
                  <a:lnTo>
                    <a:pt x="116" y="46"/>
                  </a:lnTo>
                  <a:lnTo>
                    <a:pt x="99" y="35"/>
                  </a:lnTo>
                  <a:lnTo>
                    <a:pt x="81" y="23"/>
                  </a:lnTo>
                  <a:lnTo>
                    <a:pt x="87" y="35"/>
                  </a:lnTo>
                  <a:lnTo>
                    <a:pt x="99" y="41"/>
                  </a:lnTo>
                  <a:lnTo>
                    <a:pt x="104" y="52"/>
                  </a:lnTo>
                  <a:lnTo>
                    <a:pt x="110" y="58"/>
                  </a:lnTo>
                  <a:lnTo>
                    <a:pt x="116" y="69"/>
                  </a:lnTo>
                  <a:lnTo>
                    <a:pt x="122" y="81"/>
                  </a:lnTo>
                  <a:lnTo>
                    <a:pt x="127" y="81"/>
                  </a:lnTo>
                  <a:lnTo>
                    <a:pt x="133" y="81"/>
                  </a:lnTo>
                  <a:lnTo>
                    <a:pt x="145" y="81"/>
                  </a:lnTo>
                  <a:lnTo>
                    <a:pt x="151" y="81"/>
                  </a:lnTo>
                  <a:lnTo>
                    <a:pt x="156" y="81"/>
                  </a:lnTo>
                  <a:lnTo>
                    <a:pt x="151" y="93"/>
                  </a:lnTo>
                  <a:lnTo>
                    <a:pt x="145" y="93"/>
                  </a:lnTo>
                  <a:lnTo>
                    <a:pt x="139" y="93"/>
                  </a:lnTo>
                  <a:lnTo>
                    <a:pt x="127" y="93"/>
                  </a:lnTo>
                  <a:lnTo>
                    <a:pt x="122" y="98"/>
                  </a:lnTo>
                  <a:lnTo>
                    <a:pt x="116" y="98"/>
                  </a:lnTo>
                  <a:lnTo>
                    <a:pt x="110" y="104"/>
                  </a:lnTo>
                  <a:lnTo>
                    <a:pt x="104" y="98"/>
                  </a:lnTo>
                  <a:lnTo>
                    <a:pt x="93" y="87"/>
                  </a:lnTo>
                  <a:lnTo>
                    <a:pt x="87" y="81"/>
                  </a:lnTo>
                  <a:lnTo>
                    <a:pt x="75" y="69"/>
                  </a:lnTo>
                  <a:lnTo>
                    <a:pt x="70" y="69"/>
                  </a:lnTo>
                  <a:lnTo>
                    <a:pt x="58" y="64"/>
                  </a:lnTo>
                  <a:lnTo>
                    <a:pt x="47" y="64"/>
                  </a:lnTo>
                  <a:lnTo>
                    <a:pt x="41" y="64"/>
                  </a:lnTo>
                  <a:lnTo>
                    <a:pt x="35" y="69"/>
                  </a:lnTo>
                  <a:lnTo>
                    <a:pt x="29" y="69"/>
                  </a:lnTo>
                  <a:lnTo>
                    <a:pt x="18" y="69"/>
                  </a:lnTo>
                  <a:lnTo>
                    <a:pt x="12" y="75"/>
                  </a:lnTo>
                  <a:lnTo>
                    <a:pt x="29" y="75"/>
                  </a:lnTo>
                  <a:lnTo>
                    <a:pt x="41" y="81"/>
                  </a:lnTo>
                  <a:lnTo>
                    <a:pt x="52" y="87"/>
                  </a:lnTo>
                  <a:lnTo>
                    <a:pt x="64" y="98"/>
                  </a:lnTo>
                  <a:lnTo>
                    <a:pt x="70" y="110"/>
                  </a:lnTo>
                  <a:lnTo>
                    <a:pt x="81" y="116"/>
                  </a:lnTo>
                  <a:lnTo>
                    <a:pt x="87" y="121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9" y="110"/>
                  </a:lnTo>
                  <a:lnTo>
                    <a:pt x="104" y="110"/>
                  </a:lnTo>
                  <a:lnTo>
                    <a:pt x="110" y="110"/>
                  </a:lnTo>
                  <a:lnTo>
                    <a:pt x="110" y="116"/>
                  </a:lnTo>
                  <a:lnTo>
                    <a:pt x="104" y="121"/>
                  </a:lnTo>
                  <a:lnTo>
                    <a:pt x="104" y="127"/>
                  </a:lnTo>
                  <a:lnTo>
                    <a:pt x="99" y="133"/>
                  </a:lnTo>
                  <a:lnTo>
                    <a:pt x="99" y="139"/>
                  </a:lnTo>
                  <a:lnTo>
                    <a:pt x="104" y="145"/>
                  </a:lnTo>
                  <a:lnTo>
                    <a:pt x="116" y="150"/>
                  </a:lnTo>
                  <a:lnTo>
                    <a:pt x="127" y="150"/>
                  </a:lnTo>
                  <a:lnTo>
                    <a:pt x="145" y="156"/>
                  </a:lnTo>
                  <a:lnTo>
                    <a:pt x="156" y="162"/>
                  </a:lnTo>
                  <a:lnTo>
                    <a:pt x="162" y="173"/>
                  </a:lnTo>
                  <a:lnTo>
                    <a:pt x="168" y="185"/>
                  </a:lnTo>
                  <a:lnTo>
                    <a:pt x="162" y="185"/>
                  </a:lnTo>
                  <a:lnTo>
                    <a:pt x="151" y="179"/>
                  </a:lnTo>
                  <a:lnTo>
                    <a:pt x="139" y="173"/>
                  </a:lnTo>
                  <a:lnTo>
                    <a:pt x="122" y="168"/>
                  </a:lnTo>
                  <a:lnTo>
                    <a:pt x="110" y="162"/>
                  </a:lnTo>
                  <a:lnTo>
                    <a:pt x="99" y="156"/>
                  </a:lnTo>
                  <a:lnTo>
                    <a:pt x="87" y="150"/>
                  </a:lnTo>
                  <a:lnTo>
                    <a:pt x="75" y="150"/>
                  </a:lnTo>
                  <a:lnTo>
                    <a:pt x="70" y="150"/>
                  </a:lnTo>
                  <a:lnTo>
                    <a:pt x="64" y="150"/>
                  </a:lnTo>
                  <a:lnTo>
                    <a:pt x="58" y="150"/>
                  </a:lnTo>
                  <a:lnTo>
                    <a:pt x="52" y="150"/>
                  </a:lnTo>
                  <a:lnTo>
                    <a:pt x="41" y="150"/>
                  </a:lnTo>
                  <a:lnTo>
                    <a:pt x="35" y="150"/>
                  </a:lnTo>
                  <a:lnTo>
                    <a:pt x="29" y="150"/>
                  </a:lnTo>
                  <a:lnTo>
                    <a:pt x="18" y="150"/>
                  </a:lnTo>
                  <a:lnTo>
                    <a:pt x="12" y="150"/>
                  </a:lnTo>
                  <a:lnTo>
                    <a:pt x="6" y="156"/>
                  </a:lnTo>
                  <a:lnTo>
                    <a:pt x="0" y="162"/>
                  </a:lnTo>
                  <a:lnTo>
                    <a:pt x="12" y="162"/>
                  </a:lnTo>
                  <a:lnTo>
                    <a:pt x="29" y="162"/>
                  </a:lnTo>
                  <a:lnTo>
                    <a:pt x="41" y="162"/>
                  </a:lnTo>
                  <a:lnTo>
                    <a:pt x="52" y="162"/>
                  </a:lnTo>
                  <a:lnTo>
                    <a:pt x="64" y="168"/>
                  </a:lnTo>
                  <a:lnTo>
                    <a:pt x="75" y="179"/>
                  </a:lnTo>
                  <a:lnTo>
                    <a:pt x="81" y="185"/>
                  </a:lnTo>
                  <a:lnTo>
                    <a:pt x="81" y="191"/>
                  </a:lnTo>
                  <a:lnTo>
                    <a:pt x="87" y="191"/>
                  </a:lnTo>
                  <a:lnTo>
                    <a:pt x="93" y="197"/>
                  </a:lnTo>
                  <a:lnTo>
                    <a:pt x="99" y="197"/>
                  </a:lnTo>
                  <a:lnTo>
                    <a:pt x="104" y="197"/>
                  </a:lnTo>
                  <a:lnTo>
                    <a:pt x="116" y="197"/>
                  </a:lnTo>
                  <a:lnTo>
                    <a:pt x="122" y="191"/>
                  </a:lnTo>
                  <a:lnTo>
                    <a:pt x="133" y="197"/>
                  </a:lnTo>
                  <a:lnTo>
                    <a:pt x="145" y="197"/>
                  </a:lnTo>
                  <a:lnTo>
                    <a:pt x="151" y="202"/>
                  </a:lnTo>
                  <a:lnTo>
                    <a:pt x="156" y="208"/>
                  </a:lnTo>
                  <a:lnTo>
                    <a:pt x="162" y="208"/>
                  </a:lnTo>
                  <a:lnTo>
                    <a:pt x="162" y="214"/>
                  </a:lnTo>
                  <a:lnTo>
                    <a:pt x="162" y="220"/>
                  </a:lnTo>
                  <a:lnTo>
                    <a:pt x="156" y="220"/>
                  </a:lnTo>
                  <a:lnTo>
                    <a:pt x="151" y="220"/>
                  </a:lnTo>
                  <a:lnTo>
                    <a:pt x="145" y="214"/>
                  </a:lnTo>
                  <a:lnTo>
                    <a:pt x="139" y="208"/>
                  </a:lnTo>
                  <a:lnTo>
                    <a:pt x="133" y="202"/>
                  </a:lnTo>
                  <a:lnTo>
                    <a:pt x="127" y="202"/>
                  </a:lnTo>
                  <a:lnTo>
                    <a:pt x="122" y="208"/>
                  </a:lnTo>
                  <a:lnTo>
                    <a:pt x="116" y="208"/>
                  </a:lnTo>
                  <a:lnTo>
                    <a:pt x="110" y="208"/>
                  </a:lnTo>
                  <a:lnTo>
                    <a:pt x="104" y="208"/>
                  </a:lnTo>
                  <a:lnTo>
                    <a:pt x="104" y="214"/>
                  </a:lnTo>
                  <a:lnTo>
                    <a:pt x="104" y="220"/>
                  </a:lnTo>
                  <a:lnTo>
                    <a:pt x="99" y="220"/>
                  </a:lnTo>
                  <a:lnTo>
                    <a:pt x="93" y="220"/>
                  </a:lnTo>
                  <a:lnTo>
                    <a:pt x="93" y="214"/>
                  </a:lnTo>
                  <a:lnTo>
                    <a:pt x="87" y="220"/>
                  </a:lnTo>
                  <a:lnTo>
                    <a:pt x="81" y="220"/>
                  </a:lnTo>
                  <a:lnTo>
                    <a:pt x="70" y="225"/>
                  </a:lnTo>
                  <a:lnTo>
                    <a:pt x="64" y="225"/>
                  </a:lnTo>
                  <a:lnTo>
                    <a:pt x="52" y="231"/>
                  </a:lnTo>
                  <a:lnTo>
                    <a:pt x="47" y="231"/>
                  </a:lnTo>
                  <a:lnTo>
                    <a:pt x="35" y="243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58" y="243"/>
                  </a:lnTo>
                  <a:lnTo>
                    <a:pt x="70" y="243"/>
                  </a:lnTo>
                  <a:lnTo>
                    <a:pt x="81" y="249"/>
                  </a:lnTo>
                  <a:lnTo>
                    <a:pt x="93" y="254"/>
                  </a:lnTo>
                  <a:lnTo>
                    <a:pt x="99" y="260"/>
                  </a:lnTo>
                  <a:lnTo>
                    <a:pt x="110" y="260"/>
                  </a:lnTo>
                  <a:lnTo>
                    <a:pt x="116" y="260"/>
                  </a:lnTo>
                  <a:lnTo>
                    <a:pt x="122" y="254"/>
                  </a:lnTo>
                  <a:lnTo>
                    <a:pt x="127" y="254"/>
                  </a:lnTo>
                  <a:lnTo>
                    <a:pt x="133" y="249"/>
                  </a:lnTo>
                  <a:lnTo>
                    <a:pt x="139" y="249"/>
                  </a:lnTo>
                  <a:lnTo>
                    <a:pt x="145" y="249"/>
                  </a:lnTo>
                  <a:lnTo>
                    <a:pt x="151" y="249"/>
                  </a:lnTo>
                  <a:lnTo>
                    <a:pt x="156" y="249"/>
                  </a:lnTo>
                  <a:lnTo>
                    <a:pt x="162" y="249"/>
                  </a:lnTo>
                  <a:lnTo>
                    <a:pt x="168" y="254"/>
                  </a:lnTo>
                  <a:lnTo>
                    <a:pt x="174" y="254"/>
                  </a:lnTo>
                  <a:lnTo>
                    <a:pt x="168" y="266"/>
                  </a:lnTo>
                  <a:lnTo>
                    <a:pt x="162" y="266"/>
                  </a:lnTo>
                  <a:lnTo>
                    <a:pt x="156" y="266"/>
                  </a:lnTo>
                  <a:lnTo>
                    <a:pt x="156" y="260"/>
                  </a:lnTo>
                  <a:lnTo>
                    <a:pt x="151" y="260"/>
                  </a:lnTo>
                  <a:lnTo>
                    <a:pt x="145" y="260"/>
                  </a:lnTo>
                  <a:lnTo>
                    <a:pt x="145" y="266"/>
                  </a:lnTo>
                  <a:lnTo>
                    <a:pt x="145" y="277"/>
                  </a:lnTo>
                  <a:lnTo>
                    <a:pt x="145" y="283"/>
                  </a:lnTo>
                  <a:lnTo>
                    <a:pt x="151" y="289"/>
                  </a:lnTo>
                  <a:lnTo>
                    <a:pt x="151" y="295"/>
                  </a:lnTo>
                  <a:lnTo>
                    <a:pt x="156" y="301"/>
                  </a:lnTo>
                  <a:lnTo>
                    <a:pt x="162" y="306"/>
                  </a:lnTo>
                  <a:lnTo>
                    <a:pt x="179" y="312"/>
                  </a:lnTo>
                  <a:lnTo>
                    <a:pt x="191" y="312"/>
                  </a:lnTo>
                  <a:lnTo>
                    <a:pt x="203" y="312"/>
                  </a:lnTo>
                  <a:lnTo>
                    <a:pt x="208" y="324"/>
                  </a:lnTo>
                  <a:lnTo>
                    <a:pt x="208" y="341"/>
                  </a:lnTo>
                  <a:lnTo>
                    <a:pt x="214" y="341"/>
                  </a:lnTo>
                  <a:lnTo>
                    <a:pt x="226" y="347"/>
                  </a:lnTo>
                  <a:lnTo>
                    <a:pt x="237" y="347"/>
                  </a:lnTo>
                  <a:lnTo>
                    <a:pt x="243" y="353"/>
                  </a:lnTo>
                  <a:lnTo>
                    <a:pt x="249" y="358"/>
                  </a:lnTo>
                  <a:lnTo>
                    <a:pt x="243" y="370"/>
                  </a:lnTo>
                  <a:lnTo>
                    <a:pt x="249" y="370"/>
                  </a:lnTo>
                  <a:lnTo>
                    <a:pt x="255" y="370"/>
                  </a:lnTo>
                  <a:lnTo>
                    <a:pt x="260" y="370"/>
                  </a:lnTo>
                  <a:lnTo>
                    <a:pt x="266" y="376"/>
                  </a:lnTo>
                  <a:lnTo>
                    <a:pt x="266" y="381"/>
                  </a:lnTo>
                  <a:lnTo>
                    <a:pt x="260" y="405"/>
                  </a:lnTo>
                  <a:lnTo>
                    <a:pt x="272" y="405"/>
                  </a:lnTo>
                  <a:lnTo>
                    <a:pt x="278" y="399"/>
                  </a:lnTo>
                  <a:lnTo>
                    <a:pt x="289" y="393"/>
                  </a:lnTo>
                  <a:lnTo>
                    <a:pt x="301" y="393"/>
                  </a:lnTo>
                  <a:lnTo>
                    <a:pt x="307" y="399"/>
                  </a:lnTo>
                  <a:lnTo>
                    <a:pt x="318" y="405"/>
                  </a:lnTo>
                  <a:lnTo>
                    <a:pt x="324" y="405"/>
                  </a:lnTo>
                  <a:lnTo>
                    <a:pt x="335" y="399"/>
                  </a:lnTo>
                  <a:lnTo>
                    <a:pt x="341" y="387"/>
                  </a:lnTo>
                  <a:lnTo>
                    <a:pt x="347" y="381"/>
                  </a:lnTo>
                  <a:lnTo>
                    <a:pt x="359" y="370"/>
                  </a:lnTo>
                  <a:lnTo>
                    <a:pt x="364" y="364"/>
                  </a:lnTo>
                  <a:lnTo>
                    <a:pt x="370" y="353"/>
                  </a:lnTo>
                  <a:lnTo>
                    <a:pt x="370" y="341"/>
                  </a:lnTo>
                  <a:lnTo>
                    <a:pt x="370" y="335"/>
                  </a:lnTo>
                  <a:lnTo>
                    <a:pt x="370" y="324"/>
                  </a:lnTo>
                  <a:lnTo>
                    <a:pt x="376" y="312"/>
                  </a:lnTo>
                  <a:lnTo>
                    <a:pt x="382" y="306"/>
                  </a:lnTo>
                  <a:lnTo>
                    <a:pt x="387" y="318"/>
                  </a:lnTo>
                  <a:lnTo>
                    <a:pt x="393" y="312"/>
                  </a:lnTo>
                  <a:lnTo>
                    <a:pt x="393" y="318"/>
                  </a:lnTo>
                  <a:lnTo>
                    <a:pt x="399" y="318"/>
                  </a:lnTo>
                  <a:lnTo>
                    <a:pt x="399" y="324"/>
                  </a:lnTo>
                  <a:lnTo>
                    <a:pt x="399" y="329"/>
                  </a:lnTo>
                  <a:lnTo>
                    <a:pt x="405" y="335"/>
                  </a:lnTo>
                  <a:lnTo>
                    <a:pt x="410" y="329"/>
                  </a:lnTo>
                  <a:lnTo>
                    <a:pt x="422" y="329"/>
                  </a:lnTo>
                  <a:lnTo>
                    <a:pt x="428" y="324"/>
                  </a:lnTo>
                  <a:lnTo>
                    <a:pt x="434" y="324"/>
                  </a:lnTo>
                  <a:lnTo>
                    <a:pt x="439" y="324"/>
                  </a:lnTo>
                  <a:lnTo>
                    <a:pt x="439" y="329"/>
                  </a:lnTo>
                  <a:lnTo>
                    <a:pt x="439" y="335"/>
                  </a:lnTo>
                  <a:lnTo>
                    <a:pt x="439" y="341"/>
                  </a:lnTo>
                  <a:lnTo>
                    <a:pt x="439" y="347"/>
                  </a:lnTo>
                  <a:lnTo>
                    <a:pt x="439" y="353"/>
                  </a:lnTo>
                  <a:lnTo>
                    <a:pt x="445" y="353"/>
                  </a:lnTo>
                  <a:lnTo>
                    <a:pt x="445" y="347"/>
                  </a:lnTo>
                  <a:lnTo>
                    <a:pt x="451" y="347"/>
                  </a:lnTo>
                  <a:lnTo>
                    <a:pt x="451" y="341"/>
                  </a:lnTo>
                  <a:lnTo>
                    <a:pt x="457" y="341"/>
                  </a:lnTo>
                  <a:lnTo>
                    <a:pt x="462" y="341"/>
                  </a:lnTo>
                  <a:lnTo>
                    <a:pt x="474" y="335"/>
                  </a:lnTo>
                  <a:lnTo>
                    <a:pt x="480" y="335"/>
                  </a:lnTo>
                  <a:lnTo>
                    <a:pt x="486" y="341"/>
                  </a:lnTo>
                  <a:lnTo>
                    <a:pt x="491" y="341"/>
                  </a:lnTo>
                  <a:lnTo>
                    <a:pt x="503" y="341"/>
                  </a:lnTo>
                  <a:lnTo>
                    <a:pt x="503" y="347"/>
                  </a:lnTo>
                  <a:lnTo>
                    <a:pt x="503" y="353"/>
                  </a:lnTo>
                  <a:lnTo>
                    <a:pt x="503" y="358"/>
                  </a:lnTo>
                  <a:lnTo>
                    <a:pt x="503" y="364"/>
                  </a:lnTo>
                  <a:lnTo>
                    <a:pt x="509" y="370"/>
                  </a:lnTo>
                  <a:lnTo>
                    <a:pt x="514" y="376"/>
                  </a:lnTo>
                  <a:lnTo>
                    <a:pt x="532" y="353"/>
                  </a:lnTo>
                  <a:lnTo>
                    <a:pt x="555" y="347"/>
                  </a:lnTo>
                  <a:lnTo>
                    <a:pt x="578" y="341"/>
                  </a:lnTo>
                  <a:lnTo>
                    <a:pt x="601" y="341"/>
                  </a:lnTo>
                  <a:lnTo>
                    <a:pt x="624" y="341"/>
                  </a:lnTo>
                  <a:lnTo>
                    <a:pt x="647" y="335"/>
                  </a:lnTo>
                  <a:lnTo>
                    <a:pt x="653" y="335"/>
                  </a:lnTo>
                  <a:lnTo>
                    <a:pt x="647" y="318"/>
                  </a:lnTo>
                  <a:close/>
                </a:path>
              </a:pathLst>
            </a:custGeom>
            <a:solidFill>
              <a:srgbClr val="a3635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1121040" y="2858400"/>
              <a:ext cx="62280" cy="4320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116" y="12"/>
                  </a:moveTo>
                  <a:lnTo>
                    <a:pt x="110" y="23"/>
                  </a:lnTo>
                  <a:lnTo>
                    <a:pt x="104" y="35"/>
                  </a:lnTo>
                  <a:lnTo>
                    <a:pt x="99" y="47"/>
                  </a:lnTo>
                  <a:lnTo>
                    <a:pt x="93" y="58"/>
                  </a:lnTo>
                  <a:lnTo>
                    <a:pt x="81" y="64"/>
                  </a:lnTo>
                  <a:lnTo>
                    <a:pt x="70" y="75"/>
                  </a:lnTo>
                  <a:lnTo>
                    <a:pt x="70" y="81"/>
                  </a:lnTo>
                  <a:lnTo>
                    <a:pt x="58" y="75"/>
                  </a:lnTo>
                  <a:lnTo>
                    <a:pt x="47" y="70"/>
                  </a:lnTo>
                  <a:lnTo>
                    <a:pt x="35" y="58"/>
                  </a:lnTo>
                  <a:lnTo>
                    <a:pt x="24" y="52"/>
                  </a:lnTo>
                  <a:lnTo>
                    <a:pt x="12" y="47"/>
                  </a:lnTo>
                  <a:lnTo>
                    <a:pt x="0" y="35"/>
                  </a:lnTo>
                  <a:lnTo>
                    <a:pt x="12" y="23"/>
                  </a:lnTo>
                  <a:lnTo>
                    <a:pt x="24" y="18"/>
                  </a:lnTo>
                  <a:lnTo>
                    <a:pt x="41" y="12"/>
                  </a:lnTo>
                  <a:lnTo>
                    <a:pt x="52" y="6"/>
                  </a:lnTo>
                  <a:lnTo>
                    <a:pt x="70" y="6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6"/>
                  </a:lnTo>
                  <a:lnTo>
                    <a:pt x="99" y="6"/>
                  </a:lnTo>
                  <a:lnTo>
                    <a:pt x="104" y="12"/>
                  </a:lnTo>
                  <a:lnTo>
                    <a:pt x="110" y="12"/>
                  </a:lnTo>
                  <a:lnTo>
                    <a:pt x="116" y="12"/>
                  </a:lnTo>
                  <a:close/>
                </a:path>
              </a:pathLst>
            </a:custGeom>
            <a:solidFill>
              <a:srgbClr val="a3635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495000" y="2883600"/>
              <a:ext cx="765360" cy="1077480"/>
            </a:xfrm>
            <a:custGeom>
              <a:avLst/>
              <a:gdLst/>
              <a:ahLst/>
              <a:rect l="l" t="t" r="r" b="b"/>
              <a:pathLst>
                <a:path w="1426" h="2010">
                  <a:moveTo>
                    <a:pt x="872" y="5"/>
                  </a:moveTo>
                  <a:lnTo>
                    <a:pt x="907" y="0"/>
                  </a:lnTo>
                  <a:lnTo>
                    <a:pt x="941" y="0"/>
                  </a:lnTo>
                  <a:lnTo>
                    <a:pt x="976" y="0"/>
                  </a:lnTo>
                  <a:lnTo>
                    <a:pt x="1011" y="5"/>
                  </a:lnTo>
                  <a:lnTo>
                    <a:pt x="1051" y="5"/>
                  </a:lnTo>
                  <a:lnTo>
                    <a:pt x="1086" y="0"/>
                  </a:lnTo>
                  <a:lnTo>
                    <a:pt x="1097" y="0"/>
                  </a:lnTo>
                  <a:lnTo>
                    <a:pt x="1114" y="0"/>
                  </a:lnTo>
                  <a:lnTo>
                    <a:pt x="1126" y="0"/>
                  </a:lnTo>
                  <a:lnTo>
                    <a:pt x="1138" y="0"/>
                  </a:lnTo>
                  <a:lnTo>
                    <a:pt x="1149" y="0"/>
                  </a:lnTo>
                  <a:lnTo>
                    <a:pt x="1161" y="5"/>
                  </a:lnTo>
                  <a:lnTo>
                    <a:pt x="1172" y="11"/>
                  </a:lnTo>
                  <a:lnTo>
                    <a:pt x="1178" y="17"/>
                  </a:lnTo>
                  <a:lnTo>
                    <a:pt x="1190" y="23"/>
                  </a:lnTo>
                  <a:lnTo>
                    <a:pt x="1201" y="28"/>
                  </a:lnTo>
                  <a:lnTo>
                    <a:pt x="1207" y="34"/>
                  </a:lnTo>
                  <a:lnTo>
                    <a:pt x="1213" y="40"/>
                  </a:lnTo>
                  <a:lnTo>
                    <a:pt x="1207" y="40"/>
                  </a:lnTo>
                  <a:lnTo>
                    <a:pt x="1201" y="40"/>
                  </a:lnTo>
                  <a:lnTo>
                    <a:pt x="1190" y="40"/>
                  </a:lnTo>
                  <a:lnTo>
                    <a:pt x="1184" y="40"/>
                  </a:lnTo>
                  <a:lnTo>
                    <a:pt x="1178" y="46"/>
                  </a:lnTo>
                  <a:lnTo>
                    <a:pt x="1184" y="57"/>
                  </a:lnTo>
                  <a:lnTo>
                    <a:pt x="1195" y="52"/>
                  </a:lnTo>
                  <a:lnTo>
                    <a:pt x="1213" y="52"/>
                  </a:lnTo>
                  <a:lnTo>
                    <a:pt x="1236" y="52"/>
                  </a:lnTo>
                  <a:lnTo>
                    <a:pt x="1253" y="46"/>
                  </a:lnTo>
                  <a:lnTo>
                    <a:pt x="1270" y="40"/>
                  </a:lnTo>
                  <a:lnTo>
                    <a:pt x="1282" y="34"/>
                  </a:lnTo>
                  <a:lnTo>
                    <a:pt x="1305" y="28"/>
                  </a:lnTo>
                  <a:lnTo>
                    <a:pt x="1322" y="34"/>
                  </a:lnTo>
                  <a:lnTo>
                    <a:pt x="1334" y="46"/>
                  </a:lnTo>
                  <a:lnTo>
                    <a:pt x="1351" y="57"/>
                  </a:lnTo>
                  <a:lnTo>
                    <a:pt x="1363" y="57"/>
                  </a:lnTo>
                  <a:lnTo>
                    <a:pt x="1386" y="57"/>
                  </a:lnTo>
                  <a:lnTo>
                    <a:pt x="1363" y="80"/>
                  </a:lnTo>
                  <a:lnTo>
                    <a:pt x="1346" y="109"/>
                  </a:lnTo>
                  <a:lnTo>
                    <a:pt x="1328" y="138"/>
                  </a:lnTo>
                  <a:lnTo>
                    <a:pt x="1305" y="156"/>
                  </a:lnTo>
                  <a:lnTo>
                    <a:pt x="1276" y="167"/>
                  </a:lnTo>
                  <a:lnTo>
                    <a:pt x="1242" y="167"/>
                  </a:lnTo>
                  <a:lnTo>
                    <a:pt x="1236" y="167"/>
                  </a:lnTo>
                  <a:lnTo>
                    <a:pt x="1230" y="167"/>
                  </a:lnTo>
                  <a:lnTo>
                    <a:pt x="1224" y="161"/>
                  </a:lnTo>
                  <a:lnTo>
                    <a:pt x="1218" y="161"/>
                  </a:lnTo>
                  <a:lnTo>
                    <a:pt x="1213" y="156"/>
                  </a:lnTo>
                  <a:lnTo>
                    <a:pt x="1207" y="150"/>
                  </a:lnTo>
                  <a:lnTo>
                    <a:pt x="1201" y="138"/>
                  </a:lnTo>
                  <a:lnTo>
                    <a:pt x="1201" y="127"/>
                  </a:lnTo>
                  <a:lnTo>
                    <a:pt x="1195" y="115"/>
                  </a:lnTo>
                  <a:lnTo>
                    <a:pt x="1195" y="104"/>
                  </a:lnTo>
                  <a:lnTo>
                    <a:pt x="1184" y="98"/>
                  </a:lnTo>
                  <a:lnTo>
                    <a:pt x="1178" y="98"/>
                  </a:lnTo>
                  <a:lnTo>
                    <a:pt x="1172" y="98"/>
                  </a:lnTo>
                  <a:lnTo>
                    <a:pt x="1172" y="104"/>
                  </a:lnTo>
                  <a:lnTo>
                    <a:pt x="1172" y="109"/>
                  </a:lnTo>
                  <a:lnTo>
                    <a:pt x="1178" y="115"/>
                  </a:lnTo>
                  <a:lnTo>
                    <a:pt x="1184" y="115"/>
                  </a:lnTo>
                  <a:lnTo>
                    <a:pt x="1184" y="132"/>
                  </a:lnTo>
                  <a:lnTo>
                    <a:pt x="1190" y="144"/>
                  </a:lnTo>
                  <a:lnTo>
                    <a:pt x="1195" y="156"/>
                  </a:lnTo>
                  <a:lnTo>
                    <a:pt x="1201" y="161"/>
                  </a:lnTo>
                  <a:lnTo>
                    <a:pt x="1213" y="173"/>
                  </a:lnTo>
                  <a:lnTo>
                    <a:pt x="1224" y="179"/>
                  </a:lnTo>
                  <a:lnTo>
                    <a:pt x="1236" y="184"/>
                  </a:lnTo>
                  <a:lnTo>
                    <a:pt x="1242" y="184"/>
                  </a:lnTo>
                  <a:lnTo>
                    <a:pt x="1253" y="184"/>
                  </a:lnTo>
                  <a:lnTo>
                    <a:pt x="1265" y="184"/>
                  </a:lnTo>
                  <a:lnTo>
                    <a:pt x="1270" y="184"/>
                  </a:lnTo>
                  <a:lnTo>
                    <a:pt x="1282" y="184"/>
                  </a:lnTo>
                  <a:lnTo>
                    <a:pt x="1282" y="202"/>
                  </a:lnTo>
                  <a:lnTo>
                    <a:pt x="1282" y="219"/>
                  </a:lnTo>
                  <a:lnTo>
                    <a:pt x="1282" y="242"/>
                  </a:lnTo>
                  <a:lnTo>
                    <a:pt x="1282" y="260"/>
                  </a:lnTo>
                  <a:lnTo>
                    <a:pt x="1276" y="277"/>
                  </a:lnTo>
                  <a:lnTo>
                    <a:pt x="1270" y="294"/>
                  </a:lnTo>
                  <a:lnTo>
                    <a:pt x="1265" y="306"/>
                  </a:lnTo>
                  <a:lnTo>
                    <a:pt x="1259" y="317"/>
                  </a:lnTo>
                  <a:lnTo>
                    <a:pt x="1253" y="329"/>
                  </a:lnTo>
                  <a:lnTo>
                    <a:pt x="1253" y="340"/>
                  </a:lnTo>
                  <a:lnTo>
                    <a:pt x="1253" y="352"/>
                  </a:lnTo>
                  <a:lnTo>
                    <a:pt x="1253" y="363"/>
                  </a:lnTo>
                  <a:lnTo>
                    <a:pt x="1253" y="369"/>
                  </a:lnTo>
                  <a:lnTo>
                    <a:pt x="1259" y="369"/>
                  </a:lnTo>
                  <a:lnTo>
                    <a:pt x="1259" y="375"/>
                  </a:lnTo>
                  <a:lnTo>
                    <a:pt x="1259" y="381"/>
                  </a:lnTo>
                  <a:lnTo>
                    <a:pt x="1265" y="381"/>
                  </a:lnTo>
                  <a:lnTo>
                    <a:pt x="1259" y="381"/>
                  </a:lnTo>
                  <a:lnTo>
                    <a:pt x="1253" y="381"/>
                  </a:lnTo>
                  <a:lnTo>
                    <a:pt x="1247" y="381"/>
                  </a:lnTo>
                  <a:lnTo>
                    <a:pt x="1242" y="381"/>
                  </a:lnTo>
                  <a:lnTo>
                    <a:pt x="1236" y="381"/>
                  </a:lnTo>
                  <a:lnTo>
                    <a:pt x="1236" y="387"/>
                  </a:lnTo>
                  <a:lnTo>
                    <a:pt x="1230" y="398"/>
                  </a:lnTo>
                  <a:lnTo>
                    <a:pt x="1230" y="415"/>
                  </a:lnTo>
                  <a:lnTo>
                    <a:pt x="1230" y="427"/>
                  </a:lnTo>
                  <a:lnTo>
                    <a:pt x="1236" y="439"/>
                  </a:lnTo>
                  <a:lnTo>
                    <a:pt x="1242" y="450"/>
                  </a:lnTo>
                  <a:lnTo>
                    <a:pt x="1247" y="462"/>
                  </a:lnTo>
                  <a:lnTo>
                    <a:pt x="1242" y="467"/>
                  </a:lnTo>
                  <a:lnTo>
                    <a:pt x="1236" y="467"/>
                  </a:lnTo>
                  <a:lnTo>
                    <a:pt x="1230" y="473"/>
                  </a:lnTo>
                  <a:lnTo>
                    <a:pt x="1224" y="479"/>
                  </a:lnTo>
                  <a:lnTo>
                    <a:pt x="1224" y="485"/>
                  </a:lnTo>
                  <a:lnTo>
                    <a:pt x="1218" y="491"/>
                  </a:lnTo>
                  <a:lnTo>
                    <a:pt x="1218" y="514"/>
                  </a:lnTo>
                  <a:lnTo>
                    <a:pt x="1218" y="531"/>
                  </a:lnTo>
                  <a:lnTo>
                    <a:pt x="1213" y="554"/>
                  </a:lnTo>
                  <a:lnTo>
                    <a:pt x="1207" y="571"/>
                  </a:lnTo>
                  <a:lnTo>
                    <a:pt x="1207" y="595"/>
                  </a:lnTo>
                  <a:lnTo>
                    <a:pt x="1207" y="612"/>
                  </a:lnTo>
                  <a:lnTo>
                    <a:pt x="1213" y="647"/>
                  </a:lnTo>
                  <a:lnTo>
                    <a:pt x="1213" y="675"/>
                  </a:lnTo>
                  <a:lnTo>
                    <a:pt x="1218" y="710"/>
                  </a:lnTo>
                  <a:lnTo>
                    <a:pt x="1224" y="739"/>
                  </a:lnTo>
                  <a:lnTo>
                    <a:pt x="1236" y="774"/>
                  </a:lnTo>
                  <a:lnTo>
                    <a:pt x="1242" y="803"/>
                  </a:lnTo>
                  <a:lnTo>
                    <a:pt x="1253" y="860"/>
                  </a:lnTo>
                  <a:lnTo>
                    <a:pt x="1270" y="912"/>
                  </a:lnTo>
                  <a:lnTo>
                    <a:pt x="1294" y="964"/>
                  </a:lnTo>
                  <a:lnTo>
                    <a:pt x="1322" y="1011"/>
                  </a:lnTo>
                  <a:lnTo>
                    <a:pt x="1346" y="1063"/>
                  </a:lnTo>
                  <a:lnTo>
                    <a:pt x="1374" y="1109"/>
                  </a:lnTo>
                  <a:lnTo>
                    <a:pt x="1380" y="1138"/>
                  </a:lnTo>
                  <a:lnTo>
                    <a:pt x="1392" y="1161"/>
                  </a:lnTo>
                  <a:lnTo>
                    <a:pt x="1403" y="1184"/>
                  </a:lnTo>
                  <a:lnTo>
                    <a:pt x="1409" y="1207"/>
                  </a:lnTo>
                  <a:lnTo>
                    <a:pt x="1415" y="1230"/>
                  </a:lnTo>
                  <a:lnTo>
                    <a:pt x="1415" y="1259"/>
                  </a:lnTo>
                  <a:lnTo>
                    <a:pt x="1415" y="1294"/>
                  </a:lnTo>
                  <a:lnTo>
                    <a:pt x="1409" y="1328"/>
                  </a:lnTo>
                  <a:lnTo>
                    <a:pt x="1409" y="1363"/>
                  </a:lnTo>
                  <a:lnTo>
                    <a:pt x="1403" y="1398"/>
                  </a:lnTo>
                  <a:lnTo>
                    <a:pt x="1392" y="1432"/>
                  </a:lnTo>
                  <a:lnTo>
                    <a:pt x="1380" y="1467"/>
                  </a:lnTo>
                  <a:lnTo>
                    <a:pt x="1380" y="1484"/>
                  </a:lnTo>
                  <a:lnTo>
                    <a:pt x="1386" y="1507"/>
                  </a:lnTo>
                  <a:lnTo>
                    <a:pt x="1392" y="1525"/>
                  </a:lnTo>
                  <a:lnTo>
                    <a:pt x="1403" y="1542"/>
                  </a:lnTo>
                  <a:lnTo>
                    <a:pt x="1415" y="1559"/>
                  </a:lnTo>
                  <a:lnTo>
                    <a:pt x="1426" y="1577"/>
                  </a:lnTo>
                  <a:lnTo>
                    <a:pt x="1426" y="1582"/>
                  </a:lnTo>
                  <a:lnTo>
                    <a:pt x="1421" y="1588"/>
                  </a:lnTo>
                  <a:lnTo>
                    <a:pt x="1409" y="1588"/>
                  </a:lnTo>
                  <a:lnTo>
                    <a:pt x="1397" y="1582"/>
                  </a:lnTo>
                  <a:lnTo>
                    <a:pt x="1392" y="1577"/>
                  </a:lnTo>
                  <a:lnTo>
                    <a:pt x="1380" y="1571"/>
                  </a:lnTo>
                  <a:lnTo>
                    <a:pt x="1369" y="1565"/>
                  </a:lnTo>
                  <a:lnTo>
                    <a:pt x="1357" y="1554"/>
                  </a:lnTo>
                  <a:lnTo>
                    <a:pt x="1340" y="1536"/>
                  </a:lnTo>
                  <a:lnTo>
                    <a:pt x="1328" y="1519"/>
                  </a:lnTo>
                  <a:lnTo>
                    <a:pt x="1322" y="1502"/>
                  </a:lnTo>
                  <a:lnTo>
                    <a:pt x="1317" y="1478"/>
                  </a:lnTo>
                  <a:lnTo>
                    <a:pt x="1317" y="1461"/>
                  </a:lnTo>
                  <a:lnTo>
                    <a:pt x="1317" y="1450"/>
                  </a:lnTo>
                  <a:lnTo>
                    <a:pt x="1317" y="1438"/>
                  </a:lnTo>
                  <a:lnTo>
                    <a:pt x="1317" y="1426"/>
                  </a:lnTo>
                  <a:lnTo>
                    <a:pt x="1322" y="1421"/>
                  </a:lnTo>
                  <a:lnTo>
                    <a:pt x="1322" y="1409"/>
                  </a:lnTo>
                  <a:lnTo>
                    <a:pt x="1317" y="1398"/>
                  </a:lnTo>
                  <a:lnTo>
                    <a:pt x="1322" y="1398"/>
                  </a:lnTo>
                  <a:lnTo>
                    <a:pt x="1328" y="1398"/>
                  </a:lnTo>
                  <a:lnTo>
                    <a:pt x="1328" y="1392"/>
                  </a:lnTo>
                  <a:lnTo>
                    <a:pt x="1334" y="1392"/>
                  </a:lnTo>
                  <a:lnTo>
                    <a:pt x="1340" y="1386"/>
                  </a:lnTo>
                  <a:lnTo>
                    <a:pt x="1340" y="1380"/>
                  </a:lnTo>
                  <a:lnTo>
                    <a:pt x="1340" y="1369"/>
                  </a:lnTo>
                  <a:lnTo>
                    <a:pt x="1346" y="1369"/>
                  </a:lnTo>
                  <a:lnTo>
                    <a:pt x="1351" y="1363"/>
                  </a:lnTo>
                  <a:lnTo>
                    <a:pt x="1357" y="1363"/>
                  </a:lnTo>
                  <a:lnTo>
                    <a:pt x="1363" y="1363"/>
                  </a:lnTo>
                  <a:lnTo>
                    <a:pt x="1369" y="1351"/>
                  </a:lnTo>
                  <a:lnTo>
                    <a:pt x="1369" y="1340"/>
                  </a:lnTo>
                  <a:lnTo>
                    <a:pt x="1363" y="1334"/>
                  </a:lnTo>
                  <a:lnTo>
                    <a:pt x="1357" y="1322"/>
                  </a:lnTo>
                  <a:lnTo>
                    <a:pt x="1351" y="1317"/>
                  </a:lnTo>
                  <a:lnTo>
                    <a:pt x="1351" y="1305"/>
                  </a:lnTo>
                  <a:lnTo>
                    <a:pt x="1346" y="1299"/>
                  </a:lnTo>
                  <a:lnTo>
                    <a:pt x="1351" y="1294"/>
                  </a:lnTo>
                  <a:lnTo>
                    <a:pt x="1363" y="1294"/>
                  </a:lnTo>
                  <a:lnTo>
                    <a:pt x="1374" y="1294"/>
                  </a:lnTo>
                  <a:lnTo>
                    <a:pt x="1380" y="1288"/>
                  </a:lnTo>
                  <a:lnTo>
                    <a:pt x="1392" y="1288"/>
                  </a:lnTo>
                  <a:lnTo>
                    <a:pt x="1397" y="1276"/>
                  </a:lnTo>
                  <a:lnTo>
                    <a:pt x="1392" y="1265"/>
                  </a:lnTo>
                  <a:lnTo>
                    <a:pt x="1380" y="1247"/>
                  </a:lnTo>
                  <a:lnTo>
                    <a:pt x="1374" y="1236"/>
                  </a:lnTo>
                  <a:lnTo>
                    <a:pt x="1369" y="1218"/>
                  </a:lnTo>
                  <a:lnTo>
                    <a:pt x="1363" y="1207"/>
                  </a:lnTo>
                  <a:lnTo>
                    <a:pt x="1357" y="1190"/>
                  </a:lnTo>
                  <a:lnTo>
                    <a:pt x="1351" y="1190"/>
                  </a:lnTo>
                  <a:lnTo>
                    <a:pt x="1351" y="1195"/>
                  </a:lnTo>
                  <a:lnTo>
                    <a:pt x="1351" y="1201"/>
                  </a:lnTo>
                  <a:lnTo>
                    <a:pt x="1346" y="1207"/>
                  </a:lnTo>
                  <a:lnTo>
                    <a:pt x="1351" y="1218"/>
                  </a:lnTo>
                  <a:lnTo>
                    <a:pt x="1357" y="1230"/>
                  </a:lnTo>
                  <a:lnTo>
                    <a:pt x="1363" y="1242"/>
                  </a:lnTo>
                  <a:lnTo>
                    <a:pt x="1369" y="1253"/>
                  </a:lnTo>
                  <a:lnTo>
                    <a:pt x="1374" y="1265"/>
                  </a:lnTo>
                  <a:lnTo>
                    <a:pt x="1380" y="1276"/>
                  </a:lnTo>
                  <a:lnTo>
                    <a:pt x="1369" y="1282"/>
                  </a:lnTo>
                  <a:lnTo>
                    <a:pt x="1363" y="1282"/>
                  </a:lnTo>
                  <a:lnTo>
                    <a:pt x="1351" y="1282"/>
                  </a:lnTo>
                  <a:lnTo>
                    <a:pt x="1340" y="1282"/>
                  </a:lnTo>
                  <a:lnTo>
                    <a:pt x="1334" y="1288"/>
                  </a:lnTo>
                  <a:lnTo>
                    <a:pt x="1328" y="1294"/>
                  </a:lnTo>
                  <a:lnTo>
                    <a:pt x="1328" y="1299"/>
                  </a:lnTo>
                  <a:lnTo>
                    <a:pt x="1334" y="1311"/>
                  </a:lnTo>
                  <a:lnTo>
                    <a:pt x="1340" y="1322"/>
                  </a:lnTo>
                  <a:lnTo>
                    <a:pt x="1346" y="1328"/>
                  </a:lnTo>
                  <a:lnTo>
                    <a:pt x="1351" y="1340"/>
                  </a:lnTo>
                  <a:lnTo>
                    <a:pt x="1351" y="1351"/>
                  </a:lnTo>
                  <a:lnTo>
                    <a:pt x="1346" y="1351"/>
                  </a:lnTo>
                  <a:lnTo>
                    <a:pt x="1340" y="1351"/>
                  </a:lnTo>
                  <a:lnTo>
                    <a:pt x="1334" y="1351"/>
                  </a:lnTo>
                  <a:lnTo>
                    <a:pt x="1328" y="1351"/>
                  </a:lnTo>
                  <a:lnTo>
                    <a:pt x="1328" y="1357"/>
                  </a:lnTo>
                  <a:lnTo>
                    <a:pt x="1328" y="1374"/>
                  </a:lnTo>
                  <a:lnTo>
                    <a:pt x="1322" y="1380"/>
                  </a:lnTo>
                  <a:lnTo>
                    <a:pt x="1317" y="1386"/>
                  </a:lnTo>
                  <a:lnTo>
                    <a:pt x="1305" y="1386"/>
                  </a:lnTo>
                  <a:lnTo>
                    <a:pt x="1299" y="1392"/>
                  </a:lnTo>
                  <a:lnTo>
                    <a:pt x="1294" y="1403"/>
                  </a:lnTo>
                  <a:lnTo>
                    <a:pt x="1299" y="1415"/>
                  </a:lnTo>
                  <a:lnTo>
                    <a:pt x="1294" y="1421"/>
                  </a:lnTo>
                  <a:lnTo>
                    <a:pt x="1294" y="1432"/>
                  </a:lnTo>
                  <a:lnTo>
                    <a:pt x="1288" y="1438"/>
                  </a:lnTo>
                  <a:lnTo>
                    <a:pt x="1288" y="1450"/>
                  </a:lnTo>
                  <a:lnTo>
                    <a:pt x="1282" y="1461"/>
                  </a:lnTo>
                  <a:lnTo>
                    <a:pt x="1270" y="1484"/>
                  </a:lnTo>
                  <a:lnTo>
                    <a:pt x="1259" y="1502"/>
                  </a:lnTo>
                  <a:lnTo>
                    <a:pt x="1242" y="1525"/>
                  </a:lnTo>
                  <a:lnTo>
                    <a:pt x="1224" y="1548"/>
                  </a:lnTo>
                  <a:lnTo>
                    <a:pt x="1213" y="1565"/>
                  </a:lnTo>
                  <a:lnTo>
                    <a:pt x="1201" y="1588"/>
                  </a:lnTo>
                  <a:lnTo>
                    <a:pt x="1207" y="1606"/>
                  </a:lnTo>
                  <a:lnTo>
                    <a:pt x="1213" y="1617"/>
                  </a:lnTo>
                  <a:lnTo>
                    <a:pt x="1213" y="1629"/>
                  </a:lnTo>
                  <a:lnTo>
                    <a:pt x="1213" y="1640"/>
                  </a:lnTo>
                  <a:lnTo>
                    <a:pt x="1213" y="1652"/>
                  </a:lnTo>
                  <a:lnTo>
                    <a:pt x="1207" y="1663"/>
                  </a:lnTo>
                  <a:lnTo>
                    <a:pt x="1207" y="1686"/>
                  </a:lnTo>
                  <a:lnTo>
                    <a:pt x="1213" y="1704"/>
                  </a:lnTo>
                  <a:lnTo>
                    <a:pt x="1218" y="1727"/>
                  </a:lnTo>
                  <a:lnTo>
                    <a:pt x="1224" y="1744"/>
                  </a:lnTo>
                  <a:lnTo>
                    <a:pt x="1230" y="1767"/>
                  </a:lnTo>
                  <a:lnTo>
                    <a:pt x="1230" y="1785"/>
                  </a:lnTo>
                  <a:lnTo>
                    <a:pt x="1247" y="1808"/>
                  </a:lnTo>
                  <a:lnTo>
                    <a:pt x="1242" y="1814"/>
                  </a:lnTo>
                  <a:lnTo>
                    <a:pt x="1236" y="1819"/>
                  </a:lnTo>
                  <a:lnTo>
                    <a:pt x="1230" y="1825"/>
                  </a:lnTo>
                  <a:lnTo>
                    <a:pt x="1224" y="1825"/>
                  </a:lnTo>
                  <a:lnTo>
                    <a:pt x="1218" y="1831"/>
                  </a:lnTo>
                  <a:lnTo>
                    <a:pt x="1213" y="1837"/>
                  </a:lnTo>
                  <a:lnTo>
                    <a:pt x="1213" y="1842"/>
                  </a:lnTo>
                  <a:lnTo>
                    <a:pt x="1218" y="1848"/>
                  </a:lnTo>
                  <a:lnTo>
                    <a:pt x="1218" y="1854"/>
                  </a:lnTo>
                  <a:lnTo>
                    <a:pt x="1218" y="1860"/>
                  </a:lnTo>
                  <a:lnTo>
                    <a:pt x="1213" y="1865"/>
                  </a:lnTo>
                  <a:lnTo>
                    <a:pt x="1207" y="1865"/>
                  </a:lnTo>
                  <a:lnTo>
                    <a:pt x="1184" y="1877"/>
                  </a:lnTo>
                  <a:lnTo>
                    <a:pt x="1166" y="1889"/>
                  </a:lnTo>
                  <a:lnTo>
                    <a:pt x="1143" y="1900"/>
                  </a:lnTo>
                  <a:lnTo>
                    <a:pt x="1126" y="1912"/>
                  </a:lnTo>
                  <a:lnTo>
                    <a:pt x="1103" y="1923"/>
                  </a:lnTo>
                  <a:lnTo>
                    <a:pt x="1080" y="1935"/>
                  </a:lnTo>
                  <a:lnTo>
                    <a:pt x="1074" y="1929"/>
                  </a:lnTo>
                  <a:lnTo>
                    <a:pt x="1068" y="1929"/>
                  </a:lnTo>
                  <a:lnTo>
                    <a:pt x="1062" y="1929"/>
                  </a:lnTo>
                  <a:lnTo>
                    <a:pt x="1057" y="1929"/>
                  </a:lnTo>
                  <a:lnTo>
                    <a:pt x="1057" y="1923"/>
                  </a:lnTo>
                  <a:lnTo>
                    <a:pt x="1062" y="1917"/>
                  </a:lnTo>
                  <a:lnTo>
                    <a:pt x="1062" y="1912"/>
                  </a:lnTo>
                  <a:lnTo>
                    <a:pt x="1068" y="1912"/>
                  </a:lnTo>
                  <a:lnTo>
                    <a:pt x="1068" y="1906"/>
                  </a:lnTo>
                  <a:lnTo>
                    <a:pt x="1062" y="1900"/>
                  </a:lnTo>
                  <a:lnTo>
                    <a:pt x="1051" y="1900"/>
                  </a:lnTo>
                  <a:lnTo>
                    <a:pt x="970" y="1975"/>
                  </a:lnTo>
                  <a:lnTo>
                    <a:pt x="970" y="1981"/>
                  </a:lnTo>
                  <a:lnTo>
                    <a:pt x="970" y="1987"/>
                  </a:lnTo>
                  <a:lnTo>
                    <a:pt x="964" y="1993"/>
                  </a:lnTo>
                  <a:lnTo>
                    <a:pt x="959" y="1998"/>
                  </a:lnTo>
                  <a:lnTo>
                    <a:pt x="959" y="2004"/>
                  </a:lnTo>
                  <a:lnTo>
                    <a:pt x="953" y="1998"/>
                  </a:lnTo>
                  <a:lnTo>
                    <a:pt x="947" y="1998"/>
                  </a:lnTo>
                  <a:lnTo>
                    <a:pt x="947" y="1993"/>
                  </a:lnTo>
                  <a:lnTo>
                    <a:pt x="947" y="1987"/>
                  </a:lnTo>
                  <a:lnTo>
                    <a:pt x="953" y="1981"/>
                  </a:lnTo>
                  <a:lnTo>
                    <a:pt x="953" y="1975"/>
                  </a:lnTo>
                  <a:lnTo>
                    <a:pt x="959" y="1964"/>
                  </a:lnTo>
                  <a:lnTo>
                    <a:pt x="959" y="1958"/>
                  </a:lnTo>
                  <a:lnTo>
                    <a:pt x="959" y="1946"/>
                  </a:lnTo>
                  <a:lnTo>
                    <a:pt x="964" y="1941"/>
                  </a:lnTo>
                  <a:lnTo>
                    <a:pt x="964" y="1935"/>
                  </a:lnTo>
                  <a:lnTo>
                    <a:pt x="970" y="1923"/>
                  </a:lnTo>
                  <a:lnTo>
                    <a:pt x="976" y="1923"/>
                  </a:lnTo>
                  <a:lnTo>
                    <a:pt x="976" y="1917"/>
                  </a:lnTo>
                  <a:lnTo>
                    <a:pt x="982" y="1917"/>
                  </a:lnTo>
                  <a:lnTo>
                    <a:pt x="982" y="1912"/>
                  </a:lnTo>
                  <a:lnTo>
                    <a:pt x="982" y="1906"/>
                  </a:lnTo>
                  <a:lnTo>
                    <a:pt x="976" y="1900"/>
                  </a:lnTo>
                  <a:lnTo>
                    <a:pt x="976" y="1906"/>
                  </a:lnTo>
                  <a:lnTo>
                    <a:pt x="970" y="1906"/>
                  </a:lnTo>
                  <a:lnTo>
                    <a:pt x="964" y="1912"/>
                  </a:lnTo>
                  <a:lnTo>
                    <a:pt x="959" y="1917"/>
                  </a:lnTo>
                  <a:lnTo>
                    <a:pt x="953" y="1929"/>
                  </a:lnTo>
                  <a:lnTo>
                    <a:pt x="947" y="1935"/>
                  </a:lnTo>
                  <a:lnTo>
                    <a:pt x="947" y="1946"/>
                  </a:lnTo>
                  <a:lnTo>
                    <a:pt x="941" y="1952"/>
                  </a:lnTo>
                  <a:lnTo>
                    <a:pt x="930" y="1964"/>
                  </a:lnTo>
                  <a:lnTo>
                    <a:pt x="918" y="1969"/>
                  </a:lnTo>
                  <a:lnTo>
                    <a:pt x="901" y="1981"/>
                  </a:lnTo>
                  <a:lnTo>
                    <a:pt x="889" y="1987"/>
                  </a:lnTo>
                  <a:lnTo>
                    <a:pt x="878" y="1998"/>
                  </a:lnTo>
                  <a:lnTo>
                    <a:pt x="872" y="2010"/>
                  </a:lnTo>
                  <a:lnTo>
                    <a:pt x="872" y="1998"/>
                  </a:lnTo>
                  <a:lnTo>
                    <a:pt x="878" y="1987"/>
                  </a:lnTo>
                  <a:lnTo>
                    <a:pt x="889" y="1975"/>
                  </a:lnTo>
                  <a:lnTo>
                    <a:pt x="895" y="1964"/>
                  </a:lnTo>
                  <a:lnTo>
                    <a:pt x="901" y="1952"/>
                  </a:lnTo>
                  <a:lnTo>
                    <a:pt x="901" y="1935"/>
                  </a:lnTo>
                  <a:lnTo>
                    <a:pt x="912" y="1923"/>
                  </a:lnTo>
                  <a:lnTo>
                    <a:pt x="924" y="1917"/>
                  </a:lnTo>
                  <a:lnTo>
                    <a:pt x="935" y="1906"/>
                  </a:lnTo>
                  <a:lnTo>
                    <a:pt x="947" y="1894"/>
                  </a:lnTo>
                  <a:lnTo>
                    <a:pt x="959" y="1889"/>
                  </a:lnTo>
                  <a:lnTo>
                    <a:pt x="964" y="1883"/>
                  </a:lnTo>
                  <a:lnTo>
                    <a:pt x="964" y="1877"/>
                  </a:lnTo>
                  <a:lnTo>
                    <a:pt x="959" y="1877"/>
                  </a:lnTo>
                  <a:lnTo>
                    <a:pt x="953" y="1877"/>
                  </a:lnTo>
                  <a:lnTo>
                    <a:pt x="947" y="1883"/>
                  </a:lnTo>
                  <a:lnTo>
                    <a:pt x="941" y="1883"/>
                  </a:lnTo>
                  <a:lnTo>
                    <a:pt x="941" y="1889"/>
                  </a:lnTo>
                  <a:lnTo>
                    <a:pt x="935" y="1889"/>
                  </a:lnTo>
                  <a:lnTo>
                    <a:pt x="930" y="1894"/>
                  </a:lnTo>
                  <a:lnTo>
                    <a:pt x="918" y="1900"/>
                  </a:lnTo>
                  <a:lnTo>
                    <a:pt x="912" y="1906"/>
                  </a:lnTo>
                  <a:lnTo>
                    <a:pt x="901" y="1917"/>
                  </a:lnTo>
                  <a:lnTo>
                    <a:pt x="889" y="1923"/>
                  </a:lnTo>
                  <a:lnTo>
                    <a:pt x="878" y="1923"/>
                  </a:lnTo>
                  <a:lnTo>
                    <a:pt x="872" y="1923"/>
                  </a:lnTo>
                  <a:lnTo>
                    <a:pt x="866" y="1929"/>
                  </a:lnTo>
                  <a:lnTo>
                    <a:pt x="855" y="1929"/>
                  </a:lnTo>
                  <a:lnTo>
                    <a:pt x="849" y="1935"/>
                  </a:lnTo>
                  <a:lnTo>
                    <a:pt x="843" y="1935"/>
                  </a:lnTo>
                  <a:lnTo>
                    <a:pt x="837" y="1941"/>
                  </a:lnTo>
                  <a:lnTo>
                    <a:pt x="837" y="1935"/>
                  </a:lnTo>
                  <a:lnTo>
                    <a:pt x="837" y="1929"/>
                  </a:lnTo>
                  <a:lnTo>
                    <a:pt x="837" y="1923"/>
                  </a:lnTo>
                  <a:lnTo>
                    <a:pt x="837" y="1917"/>
                  </a:lnTo>
                  <a:lnTo>
                    <a:pt x="843" y="1912"/>
                  </a:lnTo>
                  <a:lnTo>
                    <a:pt x="849" y="1912"/>
                  </a:lnTo>
                  <a:lnTo>
                    <a:pt x="855" y="1906"/>
                  </a:lnTo>
                  <a:lnTo>
                    <a:pt x="860" y="1906"/>
                  </a:lnTo>
                  <a:lnTo>
                    <a:pt x="866" y="1900"/>
                  </a:lnTo>
                  <a:lnTo>
                    <a:pt x="872" y="1900"/>
                  </a:lnTo>
                  <a:lnTo>
                    <a:pt x="872" y="1894"/>
                  </a:lnTo>
                  <a:lnTo>
                    <a:pt x="872" y="1883"/>
                  </a:lnTo>
                  <a:lnTo>
                    <a:pt x="872" y="1877"/>
                  </a:lnTo>
                  <a:lnTo>
                    <a:pt x="872" y="1871"/>
                  </a:lnTo>
                  <a:lnTo>
                    <a:pt x="878" y="1865"/>
                  </a:lnTo>
                  <a:lnTo>
                    <a:pt x="883" y="1860"/>
                  </a:lnTo>
                  <a:lnTo>
                    <a:pt x="889" y="1860"/>
                  </a:lnTo>
                  <a:lnTo>
                    <a:pt x="901" y="1854"/>
                  </a:lnTo>
                  <a:lnTo>
                    <a:pt x="907" y="1854"/>
                  </a:lnTo>
                  <a:lnTo>
                    <a:pt x="918" y="1860"/>
                  </a:lnTo>
                  <a:lnTo>
                    <a:pt x="930" y="1860"/>
                  </a:lnTo>
                  <a:lnTo>
                    <a:pt x="941" y="1860"/>
                  </a:lnTo>
                  <a:lnTo>
                    <a:pt x="947" y="1848"/>
                  </a:lnTo>
                  <a:lnTo>
                    <a:pt x="959" y="1837"/>
                  </a:lnTo>
                  <a:lnTo>
                    <a:pt x="970" y="1825"/>
                  </a:lnTo>
                  <a:lnTo>
                    <a:pt x="982" y="1814"/>
                  </a:lnTo>
                  <a:lnTo>
                    <a:pt x="999" y="1802"/>
                  </a:lnTo>
                  <a:lnTo>
                    <a:pt x="1011" y="1785"/>
                  </a:lnTo>
                  <a:lnTo>
                    <a:pt x="1022" y="1773"/>
                  </a:lnTo>
                  <a:lnTo>
                    <a:pt x="1034" y="1773"/>
                  </a:lnTo>
                  <a:lnTo>
                    <a:pt x="1045" y="1779"/>
                  </a:lnTo>
                  <a:lnTo>
                    <a:pt x="1051" y="1779"/>
                  </a:lnTo>
                  <a:lnTo>
                    <a:pt x="1062" y="1779"/>
                  </a:lnTo>
                  <a:lnTo>
                    <a:pt x="1074" y="1779"/>
                  </a:lnTo>
                  <a:lnTo>
                    <a:pt x="1080" y="1779"/>
                  </a:lnTo>
                  <a:lnTo>
                    <a:pt x="1097" y="1779"/>
                  </a:lnTo>
                  <a:lnTo>
                    <a:pt x="1109" y="1779"/>
                  </a:lnTo>
                  <a:lnTo>
                    <a:pt x="1126" y="1779"/>
                  </a:lnTo>
                  <a:lnTo>
                    <a:pt x="1138" y="1773"/>
                  </a:lnTo>
                  <a:lnTo>
                    <a:pt x="1149" y="1767"/>
                  </a:lnTo>
                  <a:lnTo>
                    <a:pt x="1166" y="1767"/>
                  </a:lnTo>
                  <a:lnTo>
                    <a:pt x="1166" y="1762"/>
                  </a:lnTo>
                  <a:lnTo>
                    <a:pt x="1172" y="1767"/>
                  </a:lnTo>
                  <a:lnTo>
                    <a:pt x="1178" y="1767"/>
                  </a:lnTo>
                  <a:lnTo>
                    <a:pt x="1178" y="1762"/>
                  </a:lnTo>
                  <a:lnTo>
                    <a:pt x="1178" y="1756"/>
                  </a:lnTo>
                  <a:lnTo>
                    <a:pt x="1178" y="1750"/>
                  </a:lnTo>
                  <a:lnTo>
                    <a:pt x="1172" y="1750"/>
                  </a:lnTo>
                  <a:lnTo>
                    <a:pt x="1161" y="1750"/>
                  </a:lnTo>
                  <a:lnTo>
                    <a:pt x="1143" y="1756"/>
                  </a:lnTo>
                  <a:lnTo>
                    <a:pt x="1126" y="1762"/>
                  </a:lnTo>
                  <a:lnTo>
                    <a:pt x="1109" y="1762"/>
                  </a:lnTo>
                  <a:lnTo>
                    <a:pt x="1091" y="1762"/>
                  </a:lnTo>
                  <a:lnTo>
                    <a:pt x="1074" y="1762"/>
                  </a:lnTo>
                  <a:lnTo>
                    <a:pt x="1074" y="1756"/>
                  </a:lnTo>
                  <a:lnTo>
                    <a:pt x="1068" y="1756"/>
                  </a:lnTo>
                  <a:lnTo>
                    <a:pt x="1062" y="1750"/>
                  </a:lnTo>
                  <a:lnTo>
                    <a:pt x="1057" y="1744"/>
                  </a:lnTo>
                  <a:lnTo>
                    <a:pt x="1051" y="1738"/>
                  </a:lnTo>
                  <a:lnTo>
                    <a:pt x="1051" y="1733"/>
                  </a:lnTo>
                  <a:lnTo>
                    <a:pt x="1045" y="1721"/>
                  </a:lnTo>
                  <a:lnTo>
                    <a:pt x="1045" y="1715"/>
                  </a:lnTo>
                  <a:lnTo>
                    <a:pt x="1034" y="1698"/>
                  </a:lnTo>
                  <a:lnTo>
                    <a:pt x="1016" y="1686"/>
                  </a:lnTo>
                  <a:lnTo>
                    <a:pt x="1005" y="1675"/>
                  </a:lnTo>
                  <a:lnTo>
                    <a:pt x="987" y="1663"/>
                  </a:lnTo>
                  <a:lnTo>
                    <a:pt x="976" y="1646"/>
                  </a:lnTo>
                  <a:lnTo>
                    <a:pt x="970" y="1629"/>
                  </a:lnTo>
                  <a:lnTo>
                    <a:pt x="959" y="1606"/>
                  </a:lnTo>
                  <a:lnTo>
                    <a:pt x="947" y="1582"/>
                  </a:lnTo>
                  <a:lnTo>
                    <a:pt x="947" y="1559"/>
                  </a:lnTo>
                  <a:lnTo>
                    <a:pt x="941" y="1536"/>
                  </a:lnTo>
                  <a:lnTo>
                    <a:pt x="941" y="1513"/>
                  </a:lnTo>
                  <a:lnTo>
                    <a:pt x="941" y="1484"/>
                  </a:lnTo>
                  <a:lnTo>
                    <a:pt x="941" y="1461"/>
                  </a:lnTo>
                  <a:lnTo>
                    <a:pt x="935" y="1444"/>
                  </a:lnTo>
                  <a:lnTo>
                    <a:pt x="930" y="1426"/>
                  </a:lnTo>
                  <a:lnTo>
                    <a:pt x="924" y="1403"/>
                  </a:lnTo>
                  <a:lnTo>
                    <a:pt x="930" y="1386"/>
                  </a:lnTo>
                  <a:lnTo>
                    <a:pt x="935" y="1363"/>
                  </a:lnTo>
                  <a:lnTo>
                    <a:pt x="941" y="1357"/>
                  </a:lnTo>
                  <a:lnTo>
                    <a:pt x="947" y="1351"/>
                  </a:lnTo>
                  <a:lnTo>
                    <a:pt x="953" y="1346"/>
                  </a:lnTo>
                  <a:lnTo>
                    <a:pt x="959" y="1334"/>
                  </a:lnTo>
                  <a:lnTo>
                    <a:pt x="959" y="1328"/>
                  </a:lnTo>
                  <a:lnTo>
                    <a:pt x="964" y="1317"/>
                  </a:lnTo>
                  <a:lnTo>
                    <a:pt x="964" y="1311"/>
                  </a:lnTo>
                  <a:lnTo>
                    <a:pt x="970" y="1305"/>
                  </a:lnTo>
                  <a:lnTo>
                    <a:pt x="970" y="1299"/>
                  </a:lnTo>
                  <a:lnTo>
                    <a:pt x="976" y="1294"/>
                  </a:lnTo>
                  <a:lnTo>
                    <a:pt x="982" y="1288"/>
                  </a:lnTo>
                  <a:lnTo>
                    <a:pt x="982" y="1276"/>
                  </a:lnTo>
                  <a:lnTo>
                    <a:pt x="1005" y="1265"/>
                  </a:lnTo>
                  <a:lnTo>
                    <a:pt x="1016" y="1247"/>
                  </a:lnTo>
                  <a:lnTo>
                    <a:pt x="1028" y="1230"/>
                  </a:lnTo>
                  <a:lnTo>
                    <a:pt x="1039" y="1207"/>
                  </a:lnTo>
                  <a:lnTo>
                    <a:pt x="1039" y="1184"/>
                  </a:lnTo>
                  <a:lnTo>
                    <a:pt x="1039" y="1166"/>
                  </a:lnTo>
                  <a:lnTo>
                    <a:pt x="1051" y="1149"/>
                  </a:lnTo>
                  <a:lnTo>
                    <a:pt x="1057" y="1126"/>
                  </a:lnTo>
                  <a:lnTo>
                    <a:pt x="1051" y="1109"/>
                  </a:lnTo>
                  <a:lnTo>
                    <a:pt x="1039" y="1091"/>
                  </a:lnTo>
                  <a:lnTo>
                    <a:pt x="1034" y="1074"/>
                  </a:lnTo>
                  <a:lnTo>
                    <a:pt x="1022" y="1057"/>
                  </a:lnTo>
                  <a:lnTo>
                    <a:pt x="1022" y="1051"/>
                  </a:lnTo>
                  <a:lnTo>
                    <a:pt x="1016" y="1045"/>
                  </a:lnTo>
                  <a:lnTo>
                    <a:pt x="1011" y="1039"/>
                  </a:lnTo>
                  <a:lnTo>
                    <a:pt x="1011" y="1034"/>
                  </a:lnTo>
                  <a:lnTo>
                    <a:pt x="1005" y="1028"/>
                  </a:lnTo>
                  <a:lnTo>
                    <a:pt x="999" y="1034"/>
                  </a:lnTo>
                  <a:lnTo>
                    <a:pt x="1005" y="1051"/>
                  </a:lnTo>
                  <a:lnTo>
                    <a:pt x="1016" y="1068"/>
                  </a:lnTo>
                  <a:lnTo>
                    <a:pt x="1022" y="1086"/>
                  </a:lnTo>
                  <a:lnTo>
                    <a:pt x="1034" y="1103"/>
                  </a:lnTo>
                  <a:lnTo>
                    <a:pt x="1039" y="1120"/>
                  </a:lnTo>
                  <a:lnTo>
                    <a:pt x="1039" y="1143"/>
                  </a:lnTo>
                  <a:lnTo>
                    <a:pt x="1028" y="1155"/>
                  </a:lnTo>
                  <a:lnTo>
                    <a:pt x="1022" y="1172"/>
                  </a:lnTo>
                  <a:lnTo>
                    <a:pt x="1022" y="1190"/>
                  </a:lnTo>
                  <a:lnTo>
                    <a:pt x="1022" y="1213"/>
                  </a:lnTo>
                  <a:lnTo>
                    <a:pt x="1016" y="1230"/>
                  </a:lnTo>
                  <a:lnTo>
                    <a:pt x="1005" y="1242"/>
                  </a:lnTo>
                  <a:lnTo>
                    <a:pt x="964" y="1276"/>
                  </a:lnTo>
                  <a:lnTo>
                    <a:pt x="964" y="1253"/>
                  </a:lnTo>
                  <a:lnTo>
                    <a:pt x="959" y="1236"/>
                  </a:lnTo>
                  <a:lnTo>
                    <a:pt x="953" y="1218"/>
                  </a:lnTo>
                  <a:lnTo>
                    <a:pt x="941" y="1201"/>
                  </a:lnTo>
                  <a:lnTo>
                    <a:pt x="935" y="1184"/>
                  </a:lnTo>
                  <a:lnTo>
                    <a:pt x="935" y="1155"/>
                  </a:lnTo>
                  <a:lnTo>
                    <a:pt x="935" y="1143"/>
                  </a:lnTo>
                  <a:lnTo>
                    <a:pt x="930" y="1132"/>
                  </a:lnTo>
                  <a:lnTo>
                    <a:pt x="918" y="1126"/>
                  </a:lnTo>
                  <a:lnTo>
                    <a:pt x="907" y="1114"/>
                  </a:lnTo>
                  <a:lnTo>
                    <a:pt x="901" y="1109"/>
                  </a:lnTo>
                  <a:lnTo>
                    <a:pt x="895" y="1097"/>
                  </a:lnTo>
                  <a:lnTo>
                    <a:pt x="878" y="1086"/>
                  </a:lnTo>
                  <a:lnTo>
                    <a:pt x="860" y="1068"/>
                  </a:lnTo>
                  <a:lnTo>
                    <a:pt x="849" y="1051"/>
                  </a:lnTo>
                  <a:lnTo>
                    <a:pt x="837" y="1034"/>
                  </a:lnTo>
                  <a:lnTo>
                    <a:pt x="820" y="1022"/>
                  </a:lnTo>
                  <a:lnTo>
                    <a:pt x="803" y="1011"/>
                  </a:lnTo>
                  <a:lnTo>
                    <a:pt x="774" y="999"/>
                  </a:lnTo>
                  <a:lnTo>
                    <a:pt x="751" y="982"/>
                  </a:lnTo>
                  <a:lnTo>
                    <a:pt x="733" y="964"/>
                  </a:lnTo>
                  <a:lnTo>
                    <a:pt x="716" y="941"/>
                  </a:lnTo>
                  <a:lnTo>
                    <a:pt x="704" y="918"/>
                  </a:lnTo>
                  <a:lnTo>
                    <a:pt x="687" y="889"/>
                  </a:lnTo>
                  <a:lnTo>
                    <a:pt x="687" y="883"/>
                  </a:lnTo>
                  <a:lnTo>
                    <a:pt x="681" y="872"/>
                  </a:lnTo>
                  <a:lnTo>
                    <a:pt x="675" y="866"/>
                  </a:lnTo>
                  <a:lnTo>
                    <a:pt x="664" y="855"/>
                  </a:lnTo>
                  <a:lnTo>
                    <a:pt x="658" y="849"/>
                  </a:lnTo>
                  <a:lnTo>
                    <a:pt x="658" y="837"/>
                  </a:lnTo>
                  <a:lnTo>
                    <a:pt x="658" y="831"/>
                  </a:lnTo>
                  <a:lnTo>
                    <a:pt x="658" y="826"/>
                  </a:lnTo>
                  <a:lnTo>
                    <a:pt x="658" y="814"/>
                  </a:lnTo>
                  <a:lnTo>
                    <a:pt x="658" y="808"/>
                  </a:lnTo>
                  <a:lnTo>
                    <a:pt x="658" y="803"/>
                  </a:lnTo>
                  <a:lnTo>
                    <a:pt x="658" y="797"/>
                  </a:lnTo>
                  <a:lnTo>
                    <a:pt x="675" y="797"/>
                  </a:lnTo>
                  <a:lnTo>
                    <a:pt x="687" y="791"/>
                  </a:lnTo>
                  <a:lnTo>
                    <a:pt x="699" y="779"/>
                  </a:lnTo>
                  <a:lnTo>
                    <a:pt x="710" y="768"/>
                  </a:lnTo>
                  <a:lnTo>
                    <a:pt x="716" y="756"/>
                  </a:lnTo>
                  <a:lnTo>
                    <a:pt x="733" y="751"/>
                  </a:lnTo>
                  <a:lnTo>
                    <a:pt x="745" y="762"/>
                  </a:lnTo>
                  <a:lnTo>
                    <a:pt x="751" y="756"/>
                  </a:lnTo>
                  <a:lnTo>
                    <a:pt x="762" y="751"/>
                  </a:lnTo>
                  <a:lnTo>
                    <a:pt x="768" y="745"/>
                  </a:lnTo>
                  <a:lnTo>
                    <a:pt x="774" y="739"/>
                  </a:lnTo>
                  <a:lnTo>
                    <a:pt x="785" y="733"/>
                  </a:lnTo>
                  <a:lnTo>
                    <a:pt x="791" y="727"/>
                  </a:lnTo>
                  <a:lnTo>
                    <a:pt x="791" y="739"/>
                  </a:lnTo>
                  <a:lnTo>
                    <a:pt x="797" y="751"/>
                  </a:lnTo>
                  <a:lnTo>
                    <a:pt x="803" y="762"/>
                  </a:lnTo>
                  <a:lnTo>
                    <a:pt x="808" y="774"/>
                  </a:lnTo>
                  <a:lnTo>
                    <a:pt x="814" y="779"/>
                  </a:lnTo>
                  <a:lnTo>
                    <a:pt x="826" y="785"/>
                  </a:lnTo>
                  <a:lnTo>
                    <a:pt x="843" y="779"/>
                  </a:lnTo>
                  <a:lnTo>
                    <a:pt x="843" y="785"/>
                  </a:lnTo>
                  <a:lnTo>
                    <a:pt x="843" y="791"/>
                  </a:lnTo>
                  <a:lnTo>
                    <a:pt x="843" y="797"/>
                  </a:lnTo>
                  <a:lnTo>
                    <a:pt x="849" y="803"/>
                  </a:lnTo>
                  <a:lnTo>
                    <a:pt x="855" y="808"/>
                  </a:lnTo>
                  <a:lnTo>
                    <a:pt x="860" y="808"/>
                  </a:lnTo>
                  <a:lnTo>
                    <a:pt x="855" y="814"/>
                  </a:lnTo>
                  <a:lnTo>
                    <a:pt x="855" y="820"/>
                  </a:lnTo>
                  <a:lnTo>
                    <a:pt x="855" y="826"/>
                  </a:lnTo>
                  <a:lnTo>
                    <a:pt x="855" y="831"/>
                  </a:lnTo>
                  <a:lnTo>
                    <a:pt x="855" y="837"/>
                  </a:lnTo>
                  <a:lnTo>
                    <a:pt x="855" y="843"/>
                  </a:lnTo>
                  <a:lnTo>
                    <a:pt x="883" y="843"/>
                  </a:lnTo>
                  <a:lnTo>
                    <a:pt x="883" y="849"/>
                  </a:lnTo>
                  <a:lnTo>
                    <a:pt x="878" y="860"/>
                  </a:lnTo>
                  <a:lnTo>
                    <a:pt x="878" y="872"/>
                  </a:lnTo>
                  <a:lnTo>
                    <a:pt x="878" y="883"/>
                  </a:lnTo>
                  <a:lnTo>
                    <a:pt x="878" y="889"/>
                  </a:lnTo>
                  <a:lnTo>
                    <a:pt x="883" y="901"/>
                  </a:lnTo>
                  <a:lnTo>
                    <a:pt x="889" y="907"/>
                  </a:lnTo>
                  <a:lnTo>
                    <a:pt x="895" y="912"/>
                  </a:lnTo>
                  <a:lnTo>
                    <a:pt x="901" y="912"/>
                  </a:lnTo>
                  <a:lnTo>
                    <a:pt x="907" y="918"/>
                  </a:lnTo>
                  <a:lnTo>
                    <a:pt x="912" y="918"/>
                  </a:lnTo>
                  <a:lnTo>
                    <a:pt x="918" y="924"/>
                  </a:lnTo>
                  <a:lnTo>
                    <a:pt x="918" y="918"/>
                  </a:lnTo>
                  <a:lnTo>
                    <a:pt x="924" y="918"/>
                  </a:lnTo>
                  <a:lnTo>
                    <a:pt x="924" y="912"/>
                  </a:lnTo>
                  <a:lnTo>
                    <a:pt x="912" y="907"/>
                  </a:lnTo>
                  <a:lnTo>
                    <a:pt x="907" y="901"/>
                  </a:lnTo>
                  <a:lnTo>
                    <a:pt x="901" y="895"/>
                  </a:lnTo>
                  <a:lnTo>
                    <a:pt x="895" y="889"/>
                  </a:lnTo>
                  <a:lnTo>
                    <a:pt x="889" y="883"/>
                  </a:lnTo>
                  <a:lnTo>
                    <a:pt x="889" y="872"/>
                  </a:lnTo>
                  <a:lnTo>
                    <a:pt x="889" y="866"/>
                  </a:lnTo>
                  <a:lnTo>
                    <a:pt x="889" y="855"/>
                  </a:lnTo>
                  <a:lnTo>
                    <a:pt x="895" y="843"/>
                  </a:lnTo>
                  <a:lnTo>
                    <a:pt x="901" y="837"/>
                  </a:lnTo>
                  <a:lnTo>
                    <a:pt x="895" y="831"/>
                  </a:lnTo>
                  <a:lnTo>
                    <a:pt x="889" y="826"/>
                  </a:lnTo>
                  <a:lnTo>
                    <a:pt x="883" y="831"/>
                  </a:lnTo>
                  <a:lnTo>
                    <a:pt x="878" y="831"/>
                  </a:lnTo>
                  <a:lnTo>
                    <a:pt x="872" y="831"/>
                  </a:lnTo>
                  <a:lnTo>
                    <a:pt x="866" y="831"/>
                  </a:lnTo>
                  <a:lnTo>
                    <a:pt x="872" y="820"/>
                  </a:lnTo>
                  <a:lnTo>
                    <a:pt x="872" y="814"/>
                  </a:lnTo>
                  <a:lnTo>
                    <a:pt x="872" y="803"/>
                  </a:lnTo>
                  <a:lnTo>
                    <a:pt x="866" y="797"/>
                  </a:lnTo>
                  <a:lnTo>
                    <a:pt x="860" y="791"/>
                  </a:lnTo>
                  <a:lnTo>
                    <a:pt x="855" y="785"/>
                  </a:lnTo>
                  <a:lnTo>
                    <a:pt x="855" y="779"/>
                  </a:lnTo>
                  <a:lnTo>
                    <a:pt x="860" y="774"/>
                  </a:lnTo>
                  <a:lnTo>
                    <a:pt x="855" y="774"/>
                  </a:lnTo>
                  <a:lnTo>
                    <a:pt x="849" y="768"/>
                  </a:lnTo>
                  <a:lnTo>
                    <a:pt x="843" y="768"/>
                  </a:lnTo>
                  <a:lnTo>
                    <a:pt x="837" y="774"/>
                  </a:lnTo>
                  <a:lnTo>
                    <a:pt x="831" y="774"/>
                  </a:lnTo>
                  <a:lnTo>
                    <a:pt x="826" y="774"/>
                  </a:lnTo>
                  <a:lnTo>
                    <a:pt x="820" y="768"/>
                  </a:lnTo>
                  <a:lnTo>
                    <a:pt x="814" y="762"/>
                  </a:lnTo>
                  <a:lnTo>
                    <a:pt x="808" y="756"/>
                  </a:lnTo>
                  <a:lnTo>
                    <a:pt x="808" y="745"/>
                  </a:lnTo>
                  <a:lnTo>
                    <a:pt x="803" y="739"/>
                  </a:lnTo>
                  <a:lnTo>
                    <a:pt x="803" y="727"/>
                  </a:lnTo>
                  <a:lnTo>
                    <a:pt x="803" y="722"/>
                  </a:lnTo>
                  <a:lnTo>
                    <a:pt x="803" y="716"/>
                  </a:lnTo>
                  <a:lnTo>
                    <a:pt x="803" y="710"/>
                  </a:lnTo>
                  <a:lnTo>
                    <a:pt x="797" y="710"/>
                  </a:lnTo>
                  <a:lnTo>
                    <a:pt x="785" y="716"/>
                  </a:lnTo>
                  <a:lnTo>
                    <a:pt x="774" y="722"/>
                  </a:lnTo>
                  <a:lnTo>
                    <a:pt x="768" y="733"/>
                  </a:lnTo>
                  <a:lnTo>
                    <a:pt x="756" y="739"/>
                  </a:lnTo>
                  <a:lnTo>
                    <a:pt x="745" y="739"/>
                  </a:lnTo>
                  <a:lnTo>
                    <a:pt x="733" y="733"/>
                  </a:lnTo>
                  <a:lnTo>
                    <a:pt x="716" y="739"/>
                  </a:lnTo>
                  <a:lnTo>
                    <a:pt x="704" y="751"/>
                  </a:lnTo>
                  <a:lnTo>
                    <a:pt x="693" y="768"/>
                  </a:lnTo>
                  <a:lnTo>
                    <a:pt x="681" y="779"/>
                  </a:lnTo>
                  <a:lnTo>
                    <a:pt x="664" y="785"/>
                  </a:lnTo>
                  <a:lnTo>
                    <a:pt x="647" y="779"/>
                  </a:lnTo>
                  <a:lnTo>
                    <a:pt x="647" y="785"/>
                  </a:lnTo>
                  <a:lnTo>
                    <a:pt x="641" y="785"/>
                  </a:lnTo>
                  <a:lnTo>
                    <a:pt x="641" y="779"/>
                  </a:lnTo>
                  <a:lnTo>
                    <a:pt x="635" y="779"/>
                  </a:lnTo>
                  <a:lnTo>
                    <a:pt x="629" y="779"/>
                  </a:lnTo>
                  <a:lnTo>
                    <a:pt x="624" y="779"/>
                  </a:lnTo>
                  <a:lnTo>
                    <a:pt x="618" y="779"/>
                  </a:lnTo>
                  <a:lnTo>
                    <a:pt x="612" y="779"/>
                  </a:lnTo>
                  <a:lnTo>
                    <a:pt x="606" y="779"/>
                  </a:lnTo>
                  <a:lnTo>
                    <a:pt x="600" y="785"/>
                  </a:lnTo>
                  <a:lnTo>
                    <a:pt x="589" y="791"/>
                  </a:lnTo>
                  <a:lnTo>
                    <a:pt x="577" y="797"/>
                  </a:lnTo>
                  <a:lnTo>
                    <a:pt x="572" y="803"/>
                  </a:lnTo>
                  <a:lnTo>
                    <a:pt x="560" y="808"/>
                  </a:lnTo>
                  <a:lnTo>
                    <a:pt x="554" y="820"/>
                  </a:lnTo>
                  <a:lnTo>
                    <a:pt x="548" y="826"/>
                  </a:lnTo>
                  <a:lnTo>
                    <a:pt x="543" y="820"/>
                  </a:lnTo>
                  <a:lnTo>
                    <a:pt x="543" y="814"/>
                  </a:lnTo>
                  <a:lnTo>
                    <a:pt x="543" y="803"/>
                  </a:lnTo>
                  <a:lnTo>
                    <a:pt x="543" y="797"/>
                  </a:lnTo>
                  <a:lnTo>
                    <a:pt x="543" y="791"/>
                  </a:lnTo>
                  <a:lnTo>
                    <a:pt x="537" y="785"/>
                  </a:lnTo>
                  <a:lnTo>
                    <a:pt x="520" y="791"/>
                  </a:lnTo>
                  <a:lnTo>
                    <a:pt x="502" y="791"/>
                  </a:lnTo>
                  <a:lnTo>
                    <a:pt x="491" y="797"/>
                  </a:lnTo>
                  <a:lnTo>
                    <a:pt x="473" y="797"/>
                  </a:lnTo>
                  <a:lnTo>
                    <a:pt x="462" y="803"/>
                  </a:lnTo>
                  <a:lnTo>
                    <a:pt x="444" y="808"/>
                  </a:lnTo>
                  <a:lnTo>
                    <a:pt x="444" y="803"/>
                  </a:lnTo>
                  <a:lnTo>
                    <a:pt x="444" y="797"/>
                  </a:lnTo>
                  <a:lnTo>
                    <a:pt x="444" y="791"/>
                  </a:lnTo>
                  <a:lnTo>
                    <a:pt x="439" y="785"/>
                  </a:lnTo>
                  <a:lnTo>
                    <a:pt x="433" y="779"/>
                  </a:lnTo>
                  <a:lnTo>
                    <a:pt x="427" y="779"/>
                  </a:lnTo>
                  <a:lnTo>
                    <a:pt x="416" y="785"/>
                  </a:lnTo>
                  <a:lnTo>
                    <a:pt x="410" y="791"/>
                  </a:lnTo>
                  <a:lnTo>
                    <a:pt x="398" y="797"/>
                  </a:lnTo>
                  <a:lnTo>
                    <a:pt x="392" y="803"/>
                  </a:lnTo>
                  <a:lnTo>
                    <a:pt x="381" y="808"/>
                  </a:lnTo>
                  <a:lnTo>
                    <a:pt x="381" y="803"/>
                  </a:lnTo>
                  <a:lnTo>
                    <a:pt x="375" y="797"/>
                  </a:lnTo>
                  <a:lnTo>
                    <a:pt x="375" y="791"/>
                  </a:lnTo>
                  <a:lnTo>
                    <a:pt x="369" y="785"/>
                  </a:lnTo>
                  <a:lnTo>
                    <a:pt x="364" y="779"/>
                  </a:lnTo>
                  <a:lnTo>
                    <a:pt x="358" y="779"/>
                  </a:lnTo>
                  <a:lnTo>
                    <a:pt x="346" y="779"/>
                  </a:lnTo>
                  <a:lnTo>
                    <a:pt x="335" y="785"/>
                  </a:lnTo>
                  <a:lnTo>
                    <a:pt x="323" y="785"/>
                  </a:lnTo>
                  <a:lnTo>
                    <a:pt x="312" y="791"/>
                  </a:lnTo>
                  <a:lnTo>
                    <a:pt x="306" y="791"/>
                  </a:lnTo>
                  <a:lnTo>
                    <a:pt x="294" y="791"/>
                  </a:lnTo>
                  <a:lnTo>
                    <a:pt x="289" y="785"/>
                  </a:lnTo>
                  <a:lnTo>
                    <a:pt x="289" y="779"/>
                  </a:lnTo>
                  <a:lnTo>
                    <a:pt x="289" y="774"/>
                  </a:lnTo>
                  <a:lnTo>
                    <a:pt x="289" y="768"/>
                  </a:lnTo>
                  <a:lnTo>
                    <a:pt x="289" y="762"/>
                  </a:lnTo>
                  <a:lnTo>
                    <a:pt x="283" y="756"/>
                  </a:lnTo>
                  <a:lnTo>
                    <a:pt x="277" y="756"/>
                  </a:lnTo>
                  <a:lnTo>
                    <a:pt x="265" y="756"/>
                  </a:lnTo>
                  <a:lnTo>
                    <a:pt x="260" y="756"/>
                  </a:lnTo>
                  <a:lnTo>
                    <a:pt x="248" y="756"/>
                  </a:lnTo>
                  <a:lnTo>
                    <a:pt x="242" y="762"/>
                  </a:lnTo>
                  <a:lnTo>
                    <a:pt x="237" y="768"/>
                  </a:lnTo>
                  <a:lnTo>
                    <a:pt x="231" y="774"/>
                  </a:lnTo>
                  <a:lnTo>
                    <a:pt x="225" y="785"/>
                  </a:lnTo>
                  <a:lnTo>
                    <a:pt x="225" y="797"/>
                  </a:lnTo>
                  <a:lnTo>
                    <a:pt x="219" y="803"/>
                  </a:lnTo>
                  <a:lnTo>
                    <a:pt x="213" y="814"/>
                  </a:lnTo>
                  <a:lnTo>
                    <a:pt x="202" y="814"/>
                  </a:lnTo>
                  <a:lnTo>
                    <a:pt x="196" y="814"/>
                  </a:lnTo>
                  <a:lnTo>
                    <a:pt x="190" y="820"/>
                  </a:lnTo>
                  <a:lnTo>
                    <a:pt x="185" y="820"/>
                  </a:lnTo>
                  <a:lnTo>
                    <a:pt x="179" y="826"/>
                  </a:lnTo>
                  <a:lnTo>
                    <a:pt x="173" y="831"/>
                  </a:lnTo>
                  <a:lnTo>
                    <a:pt x="173" y="837"/>
                  </a:lnTo>
                  <a:lnTo>
                    <a:pt x="173" y="843"/>
                  </a:lnTo>
                  <a:lnTo>
                    <a:pt x="167" y="855"/>
                  </a:lnTo>
                  <a:lnTo>
                    <a:pt x="167" y="860"/>
                  </a:lnTo>
                  <a:lnTo>
                    <a:pt x="161" y="866"/>
                  </a:lnTo>
                  <a:lnTo>
                    <a:pt x="161" y="878"/>
                  </a:lnTo>
                  <a:lnTo>
                    <a:pt x="167" y="883"/>
                  </a:lnTo>
                  <a:lnTo>
                    <a:pt x="161" y="872"/>
                  </a:lnTo>
                  <a:lnTo>
                    <a:pt x="161" y="860"/>
                  </a:lnTo>
                  <a:lnTo>
                    <a:pt x="161" y="849"/>
                  </a:lnTo>
                  <a:lnTo>
                    <a:pt x="167" y="837"/>
                  </a:lnTo>
                  <a:lnTo>
                    <a:pt x="167" y="826"/>
                  </a:lnTo>
                  <a:lnTo>
                    <a:pt x="167" y="814"/>
                  </a:lnTo>
                  <a:lnTo>
                    <a:pt x="173" y="803"/>
                  </a:lnTo>
                  <a:lnTo>
                    <a:pt x="173" y="791"/>
                  </a:lnTo>
                  <a:lnTo>
                    <a:pt x="179" y="779"/>
                  </a:lnTo>
                  <a:lnTo>
                    <a:pt x="185" y="774"/>
                  </a:lnTo>
                  <a:lnTo>
                    <a:pt x="196" y="762"/>
                  </a:lnTo>
                  <a:lnTo>
                    <a:pt x="202" y="756"/>
                  </a:lnTo>
                  <a:lnTo>
                    <a:pt x="202" y="751"/>
                  </a:lnTo>
                  <a:lnTo>
                    <a:pt x="196" y="751"/>
                  </a:lnTo>
                  <a:lnTo>
                    <a:pt x="190" y="751"/>
                  </a:lnTo>
                  <a:lnTo>
                    <a:pt x="185" y="756"/>
                  </a:lnTo>
                  <a:lnTo>
                    <a:pt x="179" y="762"/>
                  </a:lnTo>
                  <a:lnTo>
                    <a:pt x="173" y="768"/>
                  </a:lnTo>
                  <a:lnTo>
                    <a:pt x="167" y="774"/>
                  </a:lnTo>
                  <a:lnTo>
                    <a:pt x="167" y="779"/>
                  </a:lnTo>
                  <a:lnTo>
                    <a:pt x="161" y="785"/>
                  </a:lnTo>
                  <a:lnTo>
                    <a:pt x="161" y="797"/>
                  </a:lnTo>
                  <a:lnTo>
                    <a:pt x="156" y="803"/>
                  </a:lnTo>
                  <a:lnTo>
                    <a:pt x="156" y="808"/>
                  </a:lnTo>
                  <a:lnTo>
                    <a:pt x="150" y="814"/>
                  </a:lnTo>
                  <a:lnTo>
                    <a:pt x="138" y="814"/>
                  </a:lnTo>
                  <a:lnTo>
                    <a:pt x="127" y="826"/>
                  </a:lnTo>
                  <a:lnTo>
                    <a:pt x="121" y="837"/>
                  </a:lnTo>
                  <a:lnTo>
                    <a:pt x="115" y="855"/>
                  </a:lnTo>
                  <a:lnTo>
                    <a:pt x="109" y="866"/>
                  </a:lnTo>
                  <a:lnTo>
                    <a:pt x="104" y="883"/>
                  </a:lnTo>
                  <a:lnTo>
                    <a:pt x="104" y="901"/>
                  </a:lnTo>
                  <a:lnTo>
                    <a:pt x="98" y="878"/>
                  </a:lnTo>
                  <a:lnTo>
                    <a:pt x="98" y="860"/>
                  </a:lnTo>
                  <a:lnTo>
                    <a:pt x="104" y="843"/>
                  </a:lnTo>
                  <a:lnTo>
                    <a:pt x="109" y="820"/>
                  </a:lnTo>
                  <a:lnTo>
                    <a:pt x="115" y="803"/>
                  </a:lnTo>
                  <a:lnTo>
                    <a:pt x="127" y="785"/>
                  </a:lnTo>
                  <a:lnTo>
                    <a:pt x="127" y="779"/>
                  </a:lnTo>
                  <a:lnTo>
                    <a:pt x="133" y="768"/>
                  </a:lnTo>
                  <a:lnTo>
                    <a:pt x="144" y="762"/>
                  </a:lnTo>
                  <a:lnTo>
                    <a:pt x="150" y="756"/>
                  </a:lnTo>
                  <a:lnTo>
                    <a:pt x="150" y="751"/>
                  </a:lnTo>
                  <a:lnTo>
                    <a:pt x="144" y="745"/>
                  </a:lnTo>
                  <a:lnTo>
                    <a:pt x="133" y="751"/>
                  </a:lnTo>
                  <a:lnTo>
                    <a:pt x="121" y="768"/>
                  </a:lnTo>
                  <a:lnTo>
                    <a:pt x="109" y="779"/>
                  </a:lnTo>
                  <a:lnTo>
                    <a:pt x="98" y="785"/>
                  </a:lnTo>
                  <a:lnTo>
                    <a:pt x="81" y="791"/>
                  </a:lnTo>
                  <a:lnTo>
                    <a:pt x="69" y="791"/>
                  </a:lnTo>
                  <a:lnTo>
                    <a:pt x="63" y="791"/>
                  </a:lnTo>
                  <a:lnTo>
                    <a:pt x="57" y="791"/>
                  </a:lnTo>
                  <a:lnTo>
                    <a:pt x="57" y="797"/>
                  </a:lnTo>
                  <a:lnTo>
                    <a:pt x="52" y="803"/>
                  </a:lnTo>
                  <a:lnTo>
                    <a:pt x="52" y="808"/>
                  </a:lnTo>
                  <a:lnTo>
                    <a:pt x="52" y="820"/>
                  </a:lnTo>
                  <a:lnTo>
                    <a:pt x="46" y="826"/>
                  </a:lnTo>
                  <a:lnTo>
                    <a:pt x="46" y="837"/>
                  </a:lnTo>
                  <a:lnTo>
                    <a:pt x="40" y="849"/>
                  </a:lnTo>
                  <a:lnTo>
                    <a:pt x="40" y="855"/>
                  </a:lnTo>
                  <a:lnTo>
                    <a:pt x="34" y="866"/>
                  </a:lnTo>
                  <a:lnTo>
                    <a:pt x="34" y="855"/>
                  </a:lnTo>
                  <a:lnTo>
                    <a:pt x="29" y="843"/>
                  </a:lnTo>
                  <a:lnTo>
                    <a:pt x="29" y="831"/>
                  </a:lnTo>
                  <a:lnTo>
                    <a:pt x="34" y="820"/>
                  </a:lnTo>
                  <a:lnTo>
                    <a:pt x="34" y="803"/>
                  </a:lnTo>
                  <a:lnTo>
                    <a:pt x="34" y="791"/>
                  </a:lnTo>
                  <a:lnTo>
                    <a:pt x="46" y="779"/>
                  </a:lnTo>
                  <a:lnTo>
                    <a:pt x="57" y="768"/>
                  </a:lnTo>
                  <a:lnTo>
                    <a:pt x="69" y="756"/>
                  </a:lnTo>
                  <a:lnTo>
                    <a:pt x="81" y="745"/>
                  </a:lnTo>
                  <a:lnTo>
                    <a:pt x="92" y="733"/>
                  </a:lnTo>
                  <a:lnTo>
                    <a:pt x="104" y="722"/>
                  </a:lnTo>
                  <a:lnTo>
                    <a:pt x="104" y="716"/>
                  </a:lnTo>
                  <a:lnTo>
                    <a:pt x="98" y="716"/>
                  </a:lnTo>
                  <a:lnTo>
                    <a:pt x="98" y="710"/>
                  </a:lnTo>
                  <a:lnTo>
                    <a:pt x="81" y="716"/>
                  </a:lnTo>
                  <a:lnTo>
                    <a:pt x="63" y="722"/>
                  </a:lnTo>
                  <a:lnTo>
                    <a:pt x="46" y="733"/>
                  </a:lnTo>
                  <a:lnTo>
                    <a:pt x="29" y="745"/>
                  </a:lnTo>
                  <a:lnTo>
                    <a:pt x="17" y="762"/>
                  </a:lnTo>
                  <a:lnTo>
                    <a:pt x="0" y="774"/>
                  </a:lnTo>
                  <a:lnTo>
                    <a:pt x="5" y="751"/>
                  </a:lnTo>
                  <a:lnTo>
                    <a:pt x="23" y="733"/>
                  </a:lnTo>
                  <a:lnTo>
                    <a:pt x="40" y="716"/>
                  </a:lnTo>
                  <a:lnTo>
                    <a:pt x="57" y="704"/>
                  </a:lnTo>
                  <a:lnTo>
                    <a:pt x="81" y="693"/>
                  </a:lnTo>
                  <a:lnTo>
                    <a:pt x="98" y="681"/>
                  </a:lnTo>
                  <a:lnTo>
                    <a:pt x="109" y="675"/>
                  </a:lnTo>
                  <a:lnTo>
                    <a:pt x="121" y="675"/>
                  </a:lnTo>
                  <a:lnTo>
                    <a:pt x="133" y="681"/>
                  </a:lnTo>
                  <a:lnTo>
                    <a:pt x="144" y="681"/>
                  </a:lnTo>
                  <a:lnTo>
                    <a:pt x="156" y="681"/>
                  </a:lnTo>
                  <a:lnTo>
                    <a:pt x="167" y="675"/>
                  </a:lnTo>
                  <a:lnTo>
                    <a:pt x="190" y="658"/>
                  </a:lnTo>
                  <a:lnTo>
                    <a:pt x="219" y="647"/>
                  </a:lnTo>
                  <a:lnTo>
                    <a:pt x="248" y="641"/>
                  </a:lnTo>
                  <a:lnTo>
                    <a:pt x="277" y="635"/>
                  </a:lnTo>
                  <a:lnTo>
                    <a:pt x="306" y="629"/>
                  </a:lnTo>
                  <a:lnTo>
                    <a:pt x="335" y="623"/>
                  </a:lnTo>
                  <a:lnTo>
                    <a:pt x="352" y="623"/>
                  </a:lnTo>
                  <a:lnTo>
                    <a:pt x="364" y="623"/>
                  </a:lnTo>
                  <a:lnTo>
                    <a:pt x="375" y="623"/>
                  </a:lnTo>
                  <a:lnTo>
                    <a:pt x="392" y="618"/>
                  </a:lnTo>
                  <a:lnTo>
                    <a:pt x="404" y="618"/>
                  </a:lnTo>
                  <a:lnTo>
                    <a:pt x="421" y="612"/>
                  </a:lnTo>
                  <a:lnTo>
                    <a:pt x="456" y="606"/>
                  </a:lnTo>
                  <a:lnTo>
                    <a:pt x="491" y="600"/>
                  </a:lnTo>
                  <a:lnTo>
                    <a:pt x="525" y="600"/>
                  </a:lnTo>
                  <a:lnTo>
                    <a:pt x="560" y="595"/>
                  </a:lnTo>
                  <a:lnTo>
                    <a:pt x="595" y="583"/>
                  </a:lnTo>
                  <a:lnTo>
                    <a:pt x="624" y="566"/>
                  </a:lnTo>
                  <a:lnTo>
                    <a:pt x="624" y="560"/>
                  </a:lnTo>
                  <a:lnTo>
                    <a:pt x="629" y="554"/>
                  </a:lnTo>
                  <a:lnTo>
                    <a:pt x="629" y="548"/>
                  </a:lnTo>
                  <a:lnTo>
                    <a:pt x="629" y="543"/>
                  </a:lnTo>
                  <a:lnTo>
                    <a:pt x="629" y="537"/>
                  </a:lnTo>
                  <a:lnTo>
                    <a:pt x="624" y="531"/>
                  </a:lnTo>
                  <a:lnTo>
                    <a:pt x="641" y="514"/>
                  </a:lnTo>
                  <a:lnTo>
                    <a:pt x="658" y="502"/>
                  </a:lnTo>
                  <a:lnTo>
                    <a:pt x="681" y="496"/>
                  </a:lnTo>
                  <a:lnTo>
                    <a:pt x="704" y="491"/>
                  </a:lnTo>
                  <a:lnTo>
                    <a:pt x="727" y="485"/>
                  </a:lnTo>
                  <a:lnTo>
                    <a:pt x="745" y="479"/>
                  </a:lnTo>
                  <a:lnTo>
                    <a:pt x="751" y="479"/>
                  </a:lnTo>
                  <a:lnTo>
                    <a:pt x="751" y="473"/>
                  </a:lnTo>
                  <a:lnTo>
                    <a:pt x="745" y="473"/>
                  </a:lnTo>
                  <a:lnTo>
                    <a:pt x="751" y="467"/>
                  </a:lnTo>
                  <a:lnTo>
                    <a:pt x="745" y="467"/>
                  </a:lnTo>
                  <a:lnTo>
                    <a:pt x="739" y="462"/>
                  </a:lnTo>
                  <a:lnTo>
                    <a:pt x="733" y="462"/>
                  </a:lnTo>
                  <a:lnTo>
                    <a:pt x="727" y="456"/>
                  </a:lnTo>
                  <a:lnTo>
                    <a:pt x="727" y="450"/>
                  </a:lnTo>
                  <a:lnTo>
                    <a:pt x="745" y="450"/>
                  </a:lnTo>
                  <a:lnTo>
                    <a:pt x="762" y="444"/>
                  </a:lnTo>
                  <a:lnTo>
                    <a:pt x="779" y="439"/>
                  </a:lnTo>
                  <a:lnTo>
                    <a:pt x="797" y="439"/>
                  </a:lnTo>
                  <a:lnTo>
                    <a:pt x="820" y="444"/>
                  </a:lnTo>
                  <a:lnTo>
                    <a:pt x="837" y="450"/>
                  </a:lnTo>
                  <a:lnTo>
                    <a:pt x="843" y="444"/>
                  </a:lnTo>
                  <a:lnTo>
                    <a:pt x="843" y="439"/>
                  </a:lnTo>
                  <a:lnTo>
                    <a:pt x="843" y="433"/>
                  </a:lnTo>
                  <a:lnTo>
                    <a:pt x="820" y="427"/>
                  </a:lnTo>
                  <a:lnTo>
                    <a:pt x="797" y="427"/>
                  </a:lnTo>
                  <a:lnTo>
                    <a:pt x="774" y="433"/>
                  </a:lnTo>
                  <a:lnTo>
                    <a:pt x="756" y="439"/>
                  </a:lnTo>
                  <a:lnTo>
                    <a:pt x="733" y="444"/>
                  </a:lnTo>
                  <a:lnTo>
                    <a:pt x="710" y="444"/>
                  </a:lnTo>
                  <a:lnTo>
                    <a:pt x="704" y="444"/>
                  </a:lnTo>
                  <a:lnTo>
                    <a:pt x="704" y="450"/>
                  </a:lnTo>
                  <a:lnTo>
                    <a:pt x="710" y="456"/>
                  </a:lnTo>
                  <a:lnTo>
                    <a:pt x="710" y="462"/>
                  </a:lnTo>
                  <a:lnTo>
                    <a:pt x="716" y="462"/>
                  </a:lnTo>
                  <a:lnTo>
                    <a:pt x="722" y="467"/>
                  </a:lnTo>
                  <a:lnTo>
                    <a:pt x="727" y="467"/>
                  </a:lnTo>
                  <a:lnTo>
                    <a:pt x="733" y="473"/>
                  </a:lnTo>
                  <a:lnTo>
                    <a:pt x="716" y="473"/>
                  </a:lnTo>
                  <a:lnTo>
                    <a:pt x="704" y="479"/>
                  </a:lnTo>
                  <a:lnTo>
                    <a:pt x="687" y="479"/>
                  </a:lnTo>
                  <a:lnTo>
                    <a:pt x="675" y="485"/>
                  </a:lnTo>
                  <a:lnTo>
                    <a:pt x="664" y="491"/>
                  </a:lnTo>
                  <a:lnTo>
                    <a:pt x="647" y="496"/>
                  </a:lnTo>
                  <a:lnTo>
                    <a:pt x="641" y="496"/>
                  </a:lnTo>
                  <a:lnTo>
                    <a:pt x="641" y="491"/>
                  </a:lnTo>
                  <a:lnTo>
                    <a:pt x="635" y="491"/>
                  </a:lnTo>
                  <a:lnTo>
                    <a:pt x="641" y="479"/>
                  </a:lnTo>
                  <a:lnTo>
                    <a:pt x="647" y="467"/>
                  </a:lnTo>
                  <a:lnTo>
                    <a:pt x="652" y="456"/>
                  </a:lnTo>
                  <a:lnTo>
                    <a:pt x="658" y="450"/>
                  </a:lnTo>
                  <a:lnTo>
                    <a:pt x="658" y="439"/>
                  </a:lnTo>
                  <a:lnTo>
                    <a:pt x="664" y="427"/>
                  </a:lnTo>
                  <a:lnTo>
                    <a:pt x="675" y="404"/>
                  </a:lnTo>
                  <a:lnTo>
                    <a:pt x="687" y="387"/>
                  </a:lnTo>
                  <a:lnTo>
                    <a:pt x="693" y="363"/>
                  </a:lnTo>
                  <a:lnTo>
                    <a:pt x="704" y="346"/>
                  </a:lnTo>
                  <a:lnTo>
                    <a:pt x="716" y="329"/>
                  </a:lnTo>
                  <a:lnTo>
                    <a:pt x="739" y="312"/>
                  </a:lnTo>
                  <a:lnTo>
                    <a:pt x="756" y="306"/>
                  </a:lnTo>
                  <a:lnTo>
                    <a:pt x="768" y="294"/>
                  </a:lnTo>
                  <a:lnTo>
                    <a:pt x="785" y="283"/>
                  </a:lnTo>
                  <a:lnTo>
                    <a:pt x="803" y="277"/>
                  </a:lnTo>
                  <a:lnTo>
                    <a:pt x="820" y="271"/>
                  </a:lnTo>
                  <a:lnTo>
                    <a:pt x="843" y="265"/>
                  </a:lnTo>
                  <a:lnTo>
                    <a:pt x="855" y="260"/>
                  </a:lnTo>
                  <a:lnTo>
                    <a:pt x="878" y="254"/>
                  </a:lnTo>
                  <a:lnTo>
                    <a:pt x="895" y="248"/>
                  </a:lnTo>
                  <a:lnTo>
                    <a:pt x="912" y="248"/>
                  </a:lnTo>
                  <a:lnTo>
                    <a:pt x="930" y="242"/>
                  </a:lnTo>
                  <a:lnTo>
                    <a:pt x="947" y="236"/>
                  </a:lnTo>
                  <a:lnTo>
                    <a:pt x="947" y="242"/>
                  </a:lnTo>
                  <a:lnTo>
                    <a:pt x="947" y="248"/>
                  </a:lnTo>
                  <a:lnTo>
                    <a:pt x="947" y="260"/>
                  </a:lnTo>
                  <a:lnTo>
                    <a:pt x="953" y="265"/>
                  </a:lnTo>
                  <a:lnTo>
                    <a:pt x="959" y="271"/>
                  </a:lnTo>
                  <a:lnTo>
                    <a:pt x="964" y="271"/>
                  </a:lnTo>
                  <a:lnTo>
                    <a:pt x="970" y="271"/>
                  </a:lnTo>
                  <a:lnTo>
                    <a:pt x="976" y="271"/>
                  </a:lnTo>
                  <a:lnTo>
                    <a:pt x="982" y="277"/>
                  </a:lnTo>
                  <a:lnTo>
                    <a:pt x="987" y="288"/>
                  </a:lnTo>
                  <a:lnTo>
                    <a:pt x="982" y="294"/>
                  </a:lnTo>
                  <a:lnTo>
                    <a:pt x="987" y="306"/>
                  </a:lnTo>
                  <a:lnTo>
                    <a:pt x="987" y="312"/>
                  </a:lnTo>
                  <a:lnTo>
                    <a:pt x="999" y="312"/>
                  </a:lnTo>
                  <a:lnTo>
                    <a:pt x="1011" y="312"/>
                  </a:lnTo>
                  <a:lnTo>
                    <a:pt x="1016" y="312"/>
                  </a:lnTo>
                  <a:lnTo>
                    <a:pt x="1028" y="312"/>
                  </a:lnTo>
                  <a:lnTo>
                    <a:pt x="1039" y="312"/>
                  </a:lnTo>
                  <a:lnTo>
                    <a:pt x="1045" y="317"/>
                  </a:lnTo>
                  <a:lnTo>
                    <a:pt x="1051" y="323"/>
                  </a:lnTo>
                  <a:lnTo>
                    <a:pt x="1062" y="312"/>
                  </a:lnTo>
                  <a:lnTo>
                    <a:pt x="1051" y="300"/>
                  </a:lnTo>
                  <a:lnTo>
                    <a:pt x="1045" y="300"/>
                  </a:lnTo>
                  <a:lnTo>
                    <a:pt x="1034" y="294"/>
                  </a:lnTo>
                  <a:lnTo>
                    <a:pt x="1022" y="294"/>
                  </a:lnTo>
                  <a:lnTo>
                    <a:pt x="1011" y="294"/>
                  </a:lnTo>
                  <a:lnTo>
                    <a:pt x="999" y="294"/>
                  </a:lnTo>
                  <a:lnTo>
                    <a:pt x="999" y="288"/>
                  </a:lnTo>
                  <a:lnTo>
                    <a:pt x="999" y="283"/>
                  </a:lnTo>
                  <a:lnTo>
                    <a:pt x="999" y="277"/>
                  </a:lnTo>
                  <a:lnTo>
                    <a:pt x="993" y="271"/>
                  </a:lnTo>
                  <a:lnTo>
                    <a:pt x="993" y="265"/>
                  </a:lnTo>
                  <a:lnTo>
                    <a:pt x="987" y="260"/>
                  </a:lnTo>
                  <a:lnTo>
                    <a:pt x="976" y="254"/>
                  </a:lnTo>
                  <a:lnTo>
                    <a:pt x="970" y="254"/>
                  </a:lnTo>
                  <a:lnTo>
                    <a:pt x="964" y="254"/>
                  </a:lnTo>
                  <a:lnTo>
                    <a:pt x="964" y="248"/>
                  </a:lnTo>
                  <a:lnTo>
                    <a:pt x="964" y="242"/>
                  </a:lnTo>
                  <a:lnTo>
                    <a:pt x="964" y="236"/>
                  </a:lnTo>
                  <a:lnTo>
                    <a:pt x="964" y="231"/>
                  </a:lnTo>
                  <a:lnTo>
                    <a:pt x="964" y="225"/>
                  </a:lnTo>
                  <a:lnTo>
                    <a:pt x="964" y="213"/>
                  </a:lnTo>
                  <a:lnTo>
                    <a:pt x="964" y="208"/>
                  </a:lnTo>
                  <a:lnTo>
                    <a:pt x="959" y="202"/>
                  </a:lnTo>
                  <a:lnTo>
                    <a:pt x="947" y="190"/>
                  </a:lnTo>
                  <a:lnTo>
                    <a:pt x="941" y="179"/>
                  </a:lnTo>
                  <a:lnTo>
                    <a:pt x="930" y="167"/>
                  </a:lnTo>
                  <a:lnTo>
                    <a:pt x="918" y="161"/>
                  </a:lnTo>
                  <a:lnTo>
                    <a:pt x="907" y="156"/>
                  </a:lnTo>
                  <a:lnTo>
                    <a:pt x="895" y="150"/>
                  </a:lnTo>
                  <a:lnTo>
                    <a:pt x="883" y="150"/>
                  </a:lnTo>
                  <a:lnTo>
                    <a:pt x="872" y="156"/>
                  </a:lnTo>
                  <a:lnTo>
                    <a:pt x="860" y="161"/>
                  </a:lnTo>
                  <a:lnTo>
                    <a:pt x="849" y="167"/>
                  </a:lnTo>
                  <a:lnTo>
                    <a:pt x="843" y="167"/>
                  </a:lnTo>
                  <a:lnTo>
                    <a:pt x="831" y="156"/>
                  </a:lnTo>
                  <a:lnTo>
                    <a:pt x="837" y="150"/>
                  </a:lnTo>
                  <a:lnTo>
                    <a:pt x="837" y="144"/>
                  </a:lnTo>
                  <a:lnTo>
                    <a:pt x="837" y="132"/>
                  </a:lnTo>
                  <a:lnTo>
                    <a:pt x="837" y="127"/>
                  </a:lnTo>
                  <a:lnTo>
                    <a:pt x="837" y="121"/>
                  </a:lnTo>
                  <a:lnTo>
                    <a:pt x="849" y="121"/>
                  </a:lnTo>
                  <a:lnTo>
                    <a:pt x="855" y="121"/>
                  </a:lnTo>
                  <a:lnTo>
                    <a:pt x="866" y="115"/>
                  </a:lnTo>
                  <a:lnTo>
                    <a:pt x="872" y="109"/>
                  </a:lnTo>
                  <a:lnTo>
                    <a:pt x="878" y="109"/>
                  </a:lnTo>
                  <a:lnTo>
                    <a:pt x="889" y="109"/>
                  </a:lnTo>
                  <a:lnTo>
                    <a:pt x="895" y="109"/>
                  </a:lnTo>
                  <a:lnTo>
                    <a:pt x="907" y="121"/>
                  </a:lnTo>
                  <a:lnTo>
                    <a:pt x="924" y="132"/>
                  </a:lnTo>
                  <a:lnTo>
                    <a:pt x="941" y="132"/>
                  </a:lnTo>
                  <a:lnTo>
                    <a:pt x="959" y="127"/>
                  </a:lnTo>
                  <a:lnTo>
                    <a:pt x="970" y="127"/>
                  </a:lnTo>
                  <a:lnTo>
                    <a:pt x="987" y="127"/>
                  </a:lnTo>
                  <a:lnTo>
                    <a:pt x="993" y="132"/>
                  </a:lnTo>
                  <a:lnTo>
                    <a:pt x="993" y="144"/>
                  </a:lnTo>
                  <a:lnTo>
                    <a:pt x="999" y="150"/>
                  </a:lnTo>
                  <a:lnTo>
                    <a:pt x="1005" y="156"/>
                  </a:lnTo>
                  <a:lnTo>
                    <a:pt x="1011" y="161"/>
                  </a:lnTo>
                  <a:lnTo>
                    <a:pt x="1016" y="161"/>
                  </a:lnTo>
                  <a:lnTo>
                    <a:pt x="1022" y="161"/>
                  </a:lnTo>
                  <a:lnTo>
                    <a:pt x="1022" y="156"/>
                  </a:lnTo>
                  <a:lnTo>
                    <a:pt x="1016" y="156"/>
                  </a:lnTo>
                  <a:lnTo>
                    <a:pt x="1022" y="156"/>
                  </a:lnTo>
                  <a:lnTo>
                    <a:pt x="1016" y="150"/>
                  </a:lnTo>
                  <a:lnTo>
                    <a:pt x="1016" y="144"/>
                  </a:lnTo>
                  <a:lnTo>
                    <a:pt x="1011" y="138"/>
                  </a:lnTo>
                  <a:lnTo>
                    <a:pt x="1011" y="132"/>
                  </a:lnTo>
                  <a:lnTo>
                    <a:pt x="1005" y="127"/>
                  </a:lnTo>
                  <a:lnTo>
                    <a:pt x="999" y="121"/>
                  </a:lnTo>
                  <a:lnTo>
                    <a:pt x="987" y="115"/>
                  </a:lnTo>
                  <a:lnTo>
                    <a:pt x="970" y="115"/>
                  </a:lnTo>
                  <a:lnTo>
                    <a:pt x="959" y="115"/>
                  </a:lnTo>
                  <a:lnTo>
                    <a:pt x="941" y="115"/>
                  </a:lnTo>
                  <a:lnTo>
                    <a:pt x="924" y="115"/>
                  </a:lnTo>
                  <a:lnTo>
                    <a:pt x="912" y="104"/>
                  </a:lnTo>
                  <a:lnTo>
                    <a:pt x="895" y="92"/>
                  </a:lnTo>
                  <a:lnTo>
                    <a:pt x="883" y="92"/>
                  </a:lnTo>
                  <a:lnTo>
                    <a:pt x="872" y="92"/>
                  </a:lnTo>
                  <a:lnTo>
                    <a:pt x="860" y="92"/>
                  </a:lnTo>
                  <a:lnTo>
                    <a:pt x="849" y="92"/>
                  </a:lnTo>
                  <a:lnTo>
                    <a:pt x="837" y="86"/>
                  </a:lnTo>
                  <a:lnTo>
                    <a:pt x="826" y="86"/>
                  </a:lnTo>
                  <a:lnTo>
                    <a:pt x="826" y="80"/>
                  </a:lnTo>
                  <a:lnTo>
                    <a:pt x="826" y="75"/>
                  </a:lnTo>
                  <a:lnTo>
                    <a:pt x="820" y="80"/>
                  </a:lnTo>
                  <a:lnTo>
                    <a:pt x="808" y="75"/>
                  </a:lnTo>
                  <a:lnTo>
                    <a:pt x="803" y="63"/>
                  </a:lnTo>
                  <a:lnTo>
                    <a:pt x="791" y="52"/>
                  </a:lnTo>
                  <a:lnTo>
                    <a:pt x="785" y="40"/>
                  </a:lnTo>
                  <a:lnTo>
                    <a:pt x="779" y="28"/>
                  </a:lnTo>
                  <a:lnTo>
                    <a:pt x="774" y="17"/>
                  </a:lnTo>
                  <a:lnTo>
                    <a:pt x="774" y="11"/>
                  </a:lnTo>
                  <a:lnTo>
                    <a:pt x="774" y="5"/>
                  </a:lnTo>
                  <a:lnTo>
                    <a:pt x="774" y="0"/>
                  </a:lnTo>
                  <a:lnTo>
                    <a:pt x="779" y="0"/>
                  </a:lnTo>
                  <a:lnTo>
                    <a:pt x="797" y="5"/>
                  </a:lnTo>
                  <a:lnTo>
                    <a:pt x="808" y="11"/>
                  </a:lnTo>
                  <a:lnTo>
                    <a:pt x="826" y="11"/>
                  </a:lnTo>
                  <a:lnTo>
                    <a:pt x="837" y="5"/>
                  </a:lnTo>
                  <a:lnTo>
                    <a:pt x="855" y="5"/>
                  </a:lnTo>
                  <a:lnTo>
                    <a:pt x="872" y="5"/>
                  </a:lnTo>
                  <a:close/>
                </a:path>
              </a:pathLst>
            </a:custGeom>
            <a:solidFill>
              <a:srgbClr val="a3635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516600" y="2886120"/>
              <a:ext cx="340560" cy="306360"/>
            </a:xfrm>
            <a:custGeom>
              <a:avLst/>
              <a:gdLst/>
              <a:ahLst/>
              <a:rect l="l" t="t" r="r" b="b"/>
              <a:pathLst>
                <a:path w="635" h="572">
                  <a:moveTo>
                    <a:pt x="156" y="29"/>
                  </a:moveTo>
                  <a:lnTo>
                    <a:pt x="168" y="35"/>
                  </a:lnTo>
                  <a:lnTo>
                    <a:pt x="173" y="47"/>
                  </a:lnTo>
                  <a:lnTo>
                    <a:pt x="185" y="52"/>
                  </a:lnTo>
                  <a:lnTo>
                    <a:pt x="191" y="64"/>
                  </a:lnTo>
                  <a:lnTo>
                    <a:pt x="202" y="75"/>
                  </a:lnTo>
                  <a:lnTo>
                    <a:pt x="208" y="81"/>
                  </a:lnTo>
                  <a:lnTo>
                    <a:pt x="225" y="93"/>
                  </a:lnTo>
                  <a:lnTo>
                    <a:pt x="237" y="110"/>
                  </a:lnTo>
                  <a:lnTo>
                    <a:pt x="254" y="122"/>
                  </a:lnTo>
                  <a:lnTo>
                    <a:pt x="272" y="139"/>
                  </a:lnTo>
                  <a:lnTo>
                    <a:pt x="283" y="151"/>
                  </a:lnTo>
                  <a:lnTo>
                    <a:pt x="300" y="162"/>
                  </a:lnTo>
                  <a:lnTo>
                    <a:pt x="300" y="168"/>
                  </a:lnTo>
                  <a:lnTo>
                    <a:pt x="306" y="168"/>
                  </a:lnTo>
                  <a:lnTo>
                    <a:pt x="306" y="174"/>
                  </a:lnTo>
                  <a:lnTo>
                    <a:pt x="312" y="174"/>
                  </a:lnTo>
                  <a:lnTo>
                    <a:pt x="312" y="179"/>
                  </a:lnTo>
                  <a:lnTo>
                    <a:pt x="318" y="185"/>
                  </a:lnTo>
                  <a:lnTo>
                    <a:pt x="318" y="179"/>
                  </a:lnTo>
                  <a:lnTo>
                    <a:pt x="318" y="185"/>
                  </a:lnTo>
                  <a:lnTo>
                    <a:pt x="335" y="197"/>
                  </a:lnTo>
                  <a:lnTo>
                    <a:pt x="352" y="208"/>
                  </a:lnTo>
                  <a:lnTo>
                    <a:pt x="370" y="214"/>
                  </a:lnTo>
                  <a:lnTo>
                    <a:pt x="387" y="226"/>
                  </a:lnTo>
                  <a:lnTo>
                    <a:pt x="404" y="237"/>
                  </a:lnTo>
                  <a:lnTo>
                    <a:pt x="422" y="249"/>
                  </a:lnTo>
                  <a:lnTo>
                    <a:pt x="451" y="266"/>
                  </a:lnTo>
                  <a:lnTo>
                    <a:pt x="474" y="278"/>
                  </a:lnTo>
                  <a:lnTo>
                    <a:pt x="497" y="295"/>
                  </a:lnTo>
                  <a:lnTo>
                    <a:pt x="520" y="312"/>
                  </a:lnTo>
                  <a:lnTo>
                    <a:pt x="543" y="330"/>
                  </a:lnTo>
                  <a:lnTo>
                    <a:pt x="566" y="347"/>
                  </a:lnTo>
                  <a:lnTo>
                    <a:pt x="572" y="347"/>
                  </a:lnTo>
                  <a:lnTo>
                    <a:pt x="584" y="347"/>
                  </a:lnTo>
                  <a:lnTo>
                    <a:pt x="589" y="341"/>
                  </a:lnTo>
                  <a:lnTo>
                    <a:pt x="595" y="341"/>
                  </a:lnTo>
                  <a:lnTo>
                    <a:pt x="607" y="341"/>
                  </a:lnTo>
                  <a:lnTo>
                    <a:pt x="612" y="347"/>
                  </a:lnTo>
                  <a:lnTo>
                    <a:pt x="618" y="347"/>
                  </a:lnTo>
                  <a:lnTo>
                    <a:pt x="624" y="353"/>
                  </a:lnTo>
                  <a:lnTo>
                    <a:pt x="624" y="358"/>
                  </a:lnTo>
                  <a:lnTo>
                    <a:pt x="624" y="364"/>
                  </a:lnTo>
                  <a:lnTo>
                    <a:pt x="630" y="370"/>
                  </a:lnTo>
                  <a:lnTo>
                    <a:pt x="635" y="370"/>
                  </a:lnTo>
                  <a:lnTo>
                    <a:pt x="630" y="387"/>
                  </a:lnTo>
                  <a:lnTo>
                    <a:pt x="624" y="399"/>
                  </a:lnTo>
                  <a:lnTo>
                    <a:pt x="612" y="416"/>
                  </a:lnTo>
                  <a:lnTo>
                    <a:pt x="607" y="428"/>
                  </a:lnTo>
                  <a:lnTo>
                    <a:pt x="601" y="439"/>
                  </a:lnTo>
                  <a:lnTo>
                    <a:pt x="595" y="457"/>
                  </a:lnTo>
                  <a:lnTo>
                    <a:pt x="595" y="462"/>
                  </a:lnTo>
                  <a:lnTo>
                    <a:pt x="589" y="468"/>
                  </a:lnTo>
                  <a:lnTo>
                    <a:pt x="584" y="474"/>
                  </a:lnTo>
                  <a:lnTo>
                    <a:pt x="578" y="474"/>
                  </a:lnTo>
                  <a:lnTo>
                    <a:pt x="578" y="480"/>
                  </a:lnTo>
                  <a:lnTo>
                    <a:pt x="578" y="486"/>
                  </a:lnTo>
                  <a:lnTo>
                    <a:pt x="595" y="497"/>
                  </a:lnTo>
                  <a:lnTo>
                    <a:pt x="589" y="503"/>
                  </a:lnTo>
                  <a:lnTo>
                    <a:pt x="584" y="509"/>
                  </a:lnTo>
                  <a:lnTo>
                    <a:pt x="578" y="514"/>
                  </a:lnTo>
                  <a:lnTo>
                    <a:pt x="572" y="520"/>
                  </a:lnTo>
                  <a:lnTo>
                    <a:pt x="566" y="526"/>
                  </a:lnTo>
                  <a:lnTo>
                    <a:pt x="572" y="538"/>
                  </a:lnTo>
                  <a:lnTo>
                    <a:pt x="578" y="538"/>
                  </a:lnTo>
                  <a:lnTo>
                    <a:pt x="578" y="543"/>
                  </a:lnTo>
                  <a:lnTo>
                    <a:pt x="572" y="549"/>
                  </a:lnTo>
                  <a:lnTo>
                    <a:pt x="572" y="555"/>
                  </a:lnTo>
                  <a:lnTo>
                    <a:pt x="560" y="561"/>
                  </a:lnTo>
                  <a:lnTo>
                    <a:pt x="549" y="566"/>
                  </a:lnTo>
                  <a:lnTo>
                    <a:pt x="532" y="572"/>
                  </a:lnTo>
                  <a:lnTo>
                    <a:pt x="520" y="572"/>
                  </a:lnTo>
                  <a:lnTo>
                    <a:pt x="508" y="572"/>
                  </a:lnTo>
                  <a:lnTo>
                    <a:pt x="491" y="572"/>
                  </a:lnTo>
                  <a:lnTo>
                    <a:pt x="491" y="561"/>
                  </a:lnTo>
                  <a:lnTo>
                    <a:pt x="485" y="549"/>
                  </a:lnTo>
                  <a:lnTo>
                    <a:pt x="480" y="543"/>
                  </a:lnTo>
                  <a:lnTo>
                    <a:pt x="474" y="532"/>
                  </a:lnTo>
                  <a:lnTo>
                    <a:pt x="468" y="526"/>
                  </a:lnTo>
                  <a:lnTo>
                    <a:pt x="456" y="520"/>
                  </a:lnTo>
                  <a:lnTo>
                    <a:pt x="451" y="520"/>
                  </a:lnTo>
                  <a:lnTo>
                    <a:pt x="445" y="514"/>
                  </a:lnTo>
                  <a:lnTo>
                    <a:pt x="445" y="509"/>
                  </a:lnTo>
                  <a:lnTo>
                    <a:pt x="439" y="503"/>
                  </a:lnTo>
                  <a:lnTo>
                    <a:pt x="433" y="497"/>
                  </a:lnTo>
                  <a:lnTo>
                    <a:pt x="433" y="491"/>
                  </a:lnTo>
                  <a:lnTo>
                    <a:pt x="422" y="497"/>
                  </a:lnTo>
                  <a:lnTo>
                    <a:pt x="416" y="503"/>
                  </a:lnTo>
                  <a:lnTo>
                    <a:pt x="410" y="514"/>
                  </a:lnTo>
                  <a:lnTo>
                    <a:pt x="404" y="526"/>
                  </a:lnTo>
                  <a:lnTo>
                    <a:pt x="399" y="532"/>
                  </a:lnTo>
                  <a:lnTo>
                    <a:pt x="399" y="543"/>
                  </a:lnTo>
                  <a:lnTo>
                    <a:pt x="393" y="532"/>
                  </a:lnTo>
                  <a:lnTo>
                    <a:pt x="387" y="526"/>
                  </a:lnTo>
                  <a:lnTo>
                    <a:pt x="387" y="514"/>
                  </a:lnTo>
                  <a:lnTo>
                    <a:pt x="393" y="503"/>
                  </a:lnTo>
                  <a:lnTo>
                    <a:pt x="393" y="491"/>
                  </a:lnTo>
                  <a:lnTo>
                    <a:pt x="387" y="480"/>
                  </a:lnTo>
                  <a:lnTo>
                    <a:pt x="381" y="480"/>
                  </a:lnTo>
                  <a:lnTo>
                    <a:pt x="376" y="480"/>
                  </a:lnTo>
                  <a:lnTo>
                    <a:pt x="376" y="486"/>
                  </a:lnTo>
                  <a:lnTo>
                    <a:pt x="370" y="486"/>
                  </a:lnTo>
                  <a:lnTo>
                    <a:pt x="364" y="486"/>
                  </a:lnTo>
                  <a:lnTo>
                    <a:pt x="358" y="486"/>
                  </a:lnTo>
                  <a:lnTo>
                    <a:pt x="364" y="480"/>
                  </a:lnTo>
                  <a:lnTo>
                    <a:pt x="370" y="468"/>
                  </a:lnTo>
                  <a:lnTo>
                    <a:pt x="370" y="457"/>
                  </a:lnTo>
                  <a:lnTo>
                    <a:pt x="370" y="439"/>
                  </a:lnTo>
                  <a:lnTo>
                    <a:pt x="370" y="428"/>
                  </a:lnTo>
                  <a:lnTo>
                    <a:pt x="364" y="422"/>
                  </a:lnTo>
                  <a:lnTo>
                    <a:pt x="341" y="428"/>
                  </a:lnTo>
                  <a:lnTo>
                    <a:pt x="341" y="416"/>
                  </a:lnTo>
                  <a:lnTo>
                    <a:pt x="335" y="405"/>
                  </a:lnTo>
                  <a:lnTo>
                    <a:pt x="335" y="393"/>
                  </a:lnTo>
                  <a:lnTo>
                    <a:pt x="329" y="382"/>
                  </a:lnTo>
                  <a:lnTo>
                    <a:pt x="329" y="364"/>
                  </a:lnTo>
                  <a:lnTo>
                    <a:pt x="324" y="353"/>
                  </a:lnTo>
                  <a:lnTo>
                    <a:pt x="300" y="364"/>
                  </a:lnTo>
                  <a:lnTo>
                    <a:pt x="300" y="353"/>
                  </a:lnTo>
                  <a:lnTo>
                    <a:pt x="300" y="341"/>
                  </a:lnTo>
                  <a:lnTo>
                    <a:pt x="295" y="330"/>
                  </a:lnTo>
                  <a:lnTo>
                    <a:pt x="283" y="324"/>
                  </a:lnTo>
                  <a:lnTo>
                    <a:pt x="277" y="318"/>
                  </a:lnTo>
                  <a:lnTo>
                    <a:pt x="272" y="312"/>
                  </a:lnTo>
                  <a:lnTo>
                    <a:pt x="266" y="307"/>
                  </a:lnTo>
                  <a:lnTo>
                    <a:pt x="260" y="307"/>
                  </a:lnTo>
                  <a:lnTo>
                    <a:pt x="254" y="307"/>
                  </a:lnTo>
                  <a:lnTo>
                    <a:pt x="243" y="295"/>
                  </a:lnTo>
                  <a:lnTo>
                    <a:pt x="225" y="278"/>
                  </a:lnTo>
                  <a:lnTo>
                    <a:pt x="214" y="260"/>
                  </a:lnTo>
                  <a:lnTo>
                    <a:pt x="202" y="243"/>
                  </a:lnTo>
                  <a:lnTo>
                    <a:pt x="191" y="231"/>
                  </a:lnTo>
                  <a:lnTo>
                    <a:pt x="173" y="220"/>
                  </a:lnTo>
                  <a:lnTo>
                    <a:pt x="185" y="214"/>
                  </a:lnTo>
                  <a:lnTo>
                    <a:pt x="191" y="214"/>
                  </a:lnTo>
                  <a:lnTo>
                    <a:pt x="202" y="214"/>
                  </a:lnTo>
                  <a:lnTo>
                    <a:pt x="208" y="208"/>
                  </a:lnTo>
                  <a:lnTo>
                    <a:pt x="214" y="208"/>
                  </a:lnTo>
                  <a:lnTo>
                    <a:pt x="220" y="197"/>
                  </a:lnTo>
                  <a:lnTo>
                    <a:pt x="208" y="197"/>
                  </a:lnTo>
                  <a:lnTo>
                    <a:pt x="197" y="197"/>
                  </a:lnTo>
                  <a:lnTo>
                    <a:pt x="185" y="197"/>
                  </a:lnTo>
                  <a:lnTo>
                    <a:pt x="179" y="203"/>
                  </a:lnTo>
                  <a:lnTo>
                    <a:pt x="168" y="203"/>
                  </a:lnTo>
                  <a:lnTo>
                    <a:pt x="156" y="203"/>
                  </a:lnTo>
                  <a:lnTo>
                    <a:pt x="150" y="208"/>
                  </a:lnTo>
                  <a:lnTo>
                    <a:pt x="150" y="214"/>
                  </a:lnTo>
                  <a:lnTo>
                    <a:pt x="145" y="214"/>
                  </a:lnTo>
                  <a:lnTo>
                    <a:pt x="139" y="214"/>
                  </a:lnTo>
                  <a:lnTo>
                    <a:pt x="133" y="214"/>
                  </a:lnTo>
                  <a:lnTo>
                    <a:pt x="127" y="208"/>
                  </a:lnTo>
                  <a:lnTo>
                    <a:pt x="121" y="208"/>
                  </a:lnTo>
                  <a:lnTo>
                    <a:pt x="116" y="208"/>
                  </a:lnTo>
                  <a:lnTo>
                    <a:pt x="110" y="208"/>
                  </a:lnTo>
                  <a:lnTo>
                    <a:pt x="104" y="208"/>
                  </a:lnTo>
                  <a:lnTo>
                    <a:pt x="64" y="249"/>
                  </a:lnTo>
                  <a:lnTo>
                    <a:pt x="64" y="237"/>
                  </a:lnTo>
                  <a:lnTo>
                    <a:pt x="69" y="226"/>
                  </a:lnTo>
                  <a:lnTo>
                    <a:pt x="81" y="220"/>
                  </a:lnTo>
                  <a:lnTo>
                    <a:pt x="87" y="214"/>
                  </a:lnTo>
                  <a:lnTo>
                    <a:pt x="98" y="203"/>
                  </a:lnTo>
                  <a:lnTo>
                    <a:pt x="98" y="191"/>
                  </a:lnTo>
                  <a:lnTo>
                    <a:pt x="110" y="185"/>
                  </a:lnTo>
                  <a:lnTo>
                    <a:pt x="116" y="179"/>
                  </a:lnTo>
                  <a:lnTo>
                    <a:pt x="127" y="174"/>
                  </a:lnTo>
                  <a:lnTo>
                    <a:pt x="139" y="174"/>
                  </a:lnTo>
                  <a:lnTo>
                    <a:pt x="150" y="168"/>
                  </a:lnTo>
                  <a:lnTo>
                    <a:pt x="156" y="162"/>
                  </a:lnTo>
                  <a:lnTo>
                    <a:pt x="162" y="162"/>
                  </a:lnTo>
                  <a:lnTo>
                    <a:pt x="168" y="156"/>
                  </a:lnTo>
                  <a:lnTo>
                    <a:pt x="173" y="156"/>
                  </a:lnTo>
                  <a:lnTo>
                    <a:pt x="179" y="151"/>
                  </a:lnTo>
                  <a:lnTo>
                    <a:pt x="179" y="145"/>
                  </a:lnTo>
                  <a:lnTo>
                    <a:pt x="173" y="139"/>
                  </a:lnTo>
                  <a:lnTo>
                    <a:pt x="168" y="139"/>
                  </a:lnTo>
                  <a:lnTo>
                    <a:pt x="162" y="145"/>
                  </a:lnTo>
                  <a:lnTo>
                    <a:pt x="156" y="145"/>
                  </a:lnTo>
                  <a:lnTo>
                    <a:pt x="150" y="151"/>
                  </a:lnTo>
                  <a:lnTo>
                    <a:pt x="145" y="151"/>
                  </a:lnTo>
                  <a:lnTo>
                    <a:pt x="127" y="151"/>
                  </a:lnTo>
                  <a:lnTo>
                    <a:pt x="110" y="151"/>
                  </a:lnTo>
                  <a:lnTo>
                    <a:pt x="93" y="151"/>
                  </a:lnTo>
                  <a:lnTo>
                    <a:pt x="75" y="151"/>
                  </a:lnTo>
                  <a:lnTo>
                    <a:pt x="58" y="156"/>
                  </a:lnTo>
                  <a:lnTo>
                    <a:pt x="46" y="174"/>
                  </a:lnTo>
                  <a:lnTo>
                    <a:pt x="41" y="174"/>
                  </a:lnTo>
                  <a:lnTo>
                    <a:pt x="35" y="174"/>
                  </a:lnTo>
                  <a:lnTo>
                    <a:pt x="29" y="174"/>
                  </a:lnTo>
                  <a:lnTo>
                    <a:pt x="23" y="179"/>
                  </a:lnTo>
                  <a:lnTo>
                    <a:pt x="23" y="185"/>
                  </a:lnTo>
                  <a:lnTo>
                    <a:pt x="17" y="191"/>
                  </a:lnTo>
                  <a:lnTo>
                    <a:pt x="17" y="185"/>
                  </a:lnTo>
                  <a:lnTo>
                    <a:pt x="17" y="179"/>
                  </a:lnTo>
                  <a:lnTo>
                    <a:pt x="17" y="174"/>
                  </a:lnTo>
                  <a:lnTo>
                    <a:pt x="35" y="162"/>
                  </a:lnTo>
                  <a:lnTo>
                    <a:pt x="46" y="145"/>
                  </a:lnTo>
                  <a:lnTo>
                    <a:pt x="64" y="133"/>
                  </a:lnTo>
                  <a:lnTo>
                    <a:pt x="81" y="122"/>
                  </a:lnTo>
                  <a:lnTo>
                    <a:pt x="98" y="116"/>
                  </a:lnTo>
                  <a:lnTo>
                    <a:pt x="116" y="122"/>
                  </a:lnTo>
                  <a:lnTo>
                    <a:pt x="127" y="122"/>
                  </a:lnTo>
                  <a:lnTo>
                    <a:pt x="139" y="116"/>
                  </a:lnTo>
                  <a:lnTo>
                    <a:pt x="145" y="116"/>
                  </a:lnTo>
                  <a:lnTo>
                    <a:pt x="156" y="110"/>
                  </a:lnTo>
                  <a:lnTo>
                    <a:pt x="162" y="116"/>
                  </a:lnTo>
                  <a:lnTo>
                    <a:pt x="173" y="122"/>
                  </a:lnTo>
                  <a:lnTo>
                    <a:pt x="179" y="116"/>
                  </a:lnTo>
                  <a:lnTo>
                    <a:pt x="185" y="110"/>
                  </a:lnTo>
                  <a:lnTo>
                    <a:pt x="179" y="110"/>
                  </a:lnTo>
                  <a:lnTo>
                    <a:pt x="168" y="99"/>
                  </a:lnTo>
                  <a:lnTo>
                    <a:pt x="150" y="99"/>
                  </a:lnTo>
                  <a:lnTo>
                    <a:pt x="133" y="104"/>
                  </a:lnTo>
                  <a:lnTo>
                    <a:pt x="116" y="104"/>
                  </a:lnTo>
                  <a:lnTo>
                    <a:pt x="104" y="104"/>
                  </a:lnTo>
                  <a:lnTo>
                    <a:pt x="87" y="87"/>
                  </a:lnTo>
                  <a:lnTo>
                    <a:pt x="69" y="87"/>
                  </a:lnTo>
                  <a:lnTo>
                    <a:pt x="58" y="87"/>
                  </a:lnTo>
                  <a:lnTo>
                    <a:pt x="41" y="87"/>
                  </a:lnTo>
                  <a:lnTo>
                    <a:pt x="29" y="87"/>
                  </a:lnTo>
                  <a:lnTo>
                    <a:pt x="12" y="93"/>
                  </a:lnTo>
                  <a:lnTo>
                    <a:pt x="0" y="99"/>
                  </a:lnTo>
                  <a:lnTo>
                    <a:pt x="6" y="93"/>
                  </a:lnTo>
                  <a:lnTo>
                    <a:pt x="12" y="87"/>
                  </a:lnTo>
                  <a:lnTo>
                    <a:pt x="17" y="81"/>
                  </a:lnTo>
                  <a:lnTo>
                    <a:pt x="29" y="75"/>
                  </a:lnTo>
                  <a:lnTo>
                    <a:pt x="35" y="75"/>
                  </a:lnTo>
                  <a:lnTo>
                    <a:pt x="46" y="75"/>
                  </a:lnTo>
                  <a:lnTo>
                    <a:pt x="58" y="75"/>
                  </a:lnTo>
                  <a:lnTo>
                    <a:pt x="69" y="75"/>
                  </a:lnTo>
                  <a:lnTo>
                    <a:pt x="81" y="70"/>
                  </a:lnTo>
                  <a:lnTo>
                    <a:pt x="98" y="70"/>
                  </a:lnTo>
                  <a:lnTo>
                    <a:pt x="110" y="64"/>
                  </a:lnTo>
                  <a:lnTo>
                    <a:pt x="121" y="58"/>
                  </a:lnTo>
                  <a:lnTo>
                    <a:pt x="127" y="64"/>
                  </a:lnTo>
                  <a:lnTo>
                    <a:pt x="133" y="64"/>
                  </a:lnTo>
                  <a:lnTo>
                    <a:pt x="145" y="64"/>
                  </a:lnTo>
                  <a:lnTo>
                    <a:pt x="150" y="70"/>
                  </a:lnTo>
                  <a:lnTo>
                    <a:pt x="156" y="75"/>
                  </a:lnTo>
                  <a:lnTo>
                    <a:pt x="162" y="75"/>
                  </a:lnTo>
                  <a:lnTo>
                    <a:pt x="168" y="75"/>
                  </a:lnTo>
                  <a:lnTo>
                    <a:pt x="168" y="70"/>
                  </a:lnTo>
                  <a:lnTo>
                    <a:pt x="168" y="64"/>
                  </a:lnTo>
                  <a:lnTo>
                    <a:pt x="162" y="58"/>
                  </a:lnTo>
                  <a:lnTo>
                    <a:pt x="156" y="58"/>
                  </a:lnTo>
                  <a:lnTo>
                    <a:pt x="156" y="52"/>
                  </a:lnTo>
                  <a:lnTo>
                    <a:pt x="150" y="52"/>
                  </a:lnTo>
                  <a:lnTo>
                    <a:pt x="145" y="52"/>
                  </a:lnTo>
                  <a:lnTo>
                    <a:pt x="139" y="52"/>
                  </a:lnTo>
                  <a:lnTo>
                    <a:pt x="139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1" y="47"/>
                  </a:lnTo>
                  <a:lnTo>
                    <a:pt x="116" y="35"/>
                  </a:lnTo>
                  <a:lnTo>
                    <a:pt x="110" y="29"/>
                  </a:lnTo>
                  <a:lnTo>
                    <a:pt x="104" y="23"/>
                  </a:lnTo>
                  <a:lnTo>
                    <a:pt x="98" y="18"/>
                  </a:lnTo>
                  <a:lnTo>
                    <a:pt x="87" y="12"/>
                  </a:lnTo>
                  <a:lnTo>
                    <a:pt x="75" y="12"/>
                  </a:lnTo>
                  <a:lnTo>
                    <a:pt x="69" y="12"/>
                  </a:lnTo>
                  <a:lnTo>
                    <a:pt x="64" y="12"/>
                  </a:lnTo>
                  <a:lnTo>
                    <a:pt x="58" y="12"/>
                  </a:lnTo>
                  <a:lnTo>
                    <a:pt x="64" y="6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4" y="6"/>
                  </a:lnTo>
                  <a:lnTo>
                    <a:pt x="116" y="6"/>
                  </a:lnTo>
                  <a:lnTo>
                    <a:pt x="121" y="12"/>
                  </a:lnTo>
                  <a:lnTo>
                    <a:pt x="133" y="18"/>
                  </a:lnTo>
                  <a:lnTo>
                    <a:pt x="139" y="23"/>
                  </a:lnTo>
                  <a:lnTo>
                    <a:pt x="145" y="29"/>
                  </a:lnTo>
                  <a:lnTo>
                    <a:pt x="156" y="29"/>
                  </a:lnTo>
                  <a:close/>
                </a:path>
              </a:pathLst>
            </a:custGeom>
            <a:solidFill>
              <a:srgbClr val="a3635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1043640" y="2901960"/>
              <a:ext cx="46440" cy="4320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29" y="12"/>
                  </a:moveTo>
                  <a:lnTo>
                    <a:pt x="35" y="12"/>
                  </a:lnTo>
                  <a:lnTo>
                    <a:pt x="40" y="18"/>
                  </a:lnTo>
                  <a:lnTo>
                    <a:pt x="46" y="18"/>
                  </a:lnTo>
                  <a:lnTo>
                    <a:pt x="52" y="23"/>
                  </a:lnTo>
                  <a:lnTo>
                    <a:pt x="58" y="23"/>
                  </a:lnTo>
                  <a:lnTo>
                    <a:pt x="64" y="23"/>
                  </a:lnTo>
                  <a:lnTo>
                    <a:pt x="69" y="23"/>
                  </a:lnTo>
                  <a:lnTo>
                    <a:pt x="75" y="23"/>
                  </a:lnTo>
                  <a:lnTo>
                    <a:pt x="81" y="23"/>
                  </a:lnTo>
                  <a:lnTo>
                    <a:pt x="81" y="29"/>
                  </a:lnTo>
                  <a:lnTo>
                    <a:pt x="87" y="29"/>
                  </a:lnTo>
                  <a:lnTo>
                    <a:pt x="87" y="41"/>
                  </a:lnTo>
                  <a:lnTo>
                    <a:pt x="75" y="35"/>
                  </a:lnTo>
                  <a:lnTo>
                    <a:pt x="69" y="35"/>
                  </a:lnTo>
                  <a:lnTo>
                    <a:pt x="58" y="35"/>
                  </a:lnTo>
                  <a:lnTo>
                    <a:pt x="52" y="29"/>
                  </a:lnTo>
                  <a:lnTo>
                    <a:pt x="40" y="29"/>
                  </a:lnTo>
                  <a:lnTo>
                    <a:pt x="29" y="23"/>
                  </a:lnTo>
                  <a:lnTo>
                    <a:pt x="29" y="29"/>
                  </a:lnTo>
                  <a:lnTo>
                    <a:pt x="29" y="35"/>
                  </a:lnTo>
                  <a:lnTo>
                    <a:pt x="29" y="41"/>
                  </a:lnTo>
                  <a:lnTo>
                    <a:pt x="29" y="46"/>
                  </a:lnTo>
                  <a:lnTo>
                    <a:pt x="29" y="52"/>
                  </a:lnTo>
                  <a:lnTo>
                    <a:pt x="23" y="58"/>
                  </a:lnTo>
                  <a:lnTo>
                    <a:pt x="23" y="52"/>
                  </a:lnTo>
                  <a:lnTo>
                    <a:pt x="17" y="52"/>
                  </a:lnTo>
                  <a:lnTo>
                    <a:pt x="17" y="58"/>
                  </a:lnTo>
                  <a:lnTo>
                    <a:pt x="23" y="64"/>
                  </a:lnTo>
                  <a:lnTo>
                    <a:pt x="29" y="64"/>
                  </a:lnTo>
                  <a:lnTo>
                    <a:pt x="35" y="64"/>
                  </a:lnTo>
                  <a:lnTo>
                    <a:pt x="40" y="64"/>
                  </a:lnTo>
                  <a:lnTo>
                    <a:pt x="46" y="64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46" y="70"/>
                  </a:lnTo>
                  <a:lnTo>
                    <a:pt x="40" y="75"/>
                  </a:lnTo>
                  <a:lnTo>
                    <a:pt x="35" y="75"/>
                  </a:lnTo>
                  <a:lnTo>
                    <a:pt x="29" y="81"/>
                  </a:lnTo>
                  <a:lnTo>
                    <a:pt x="23" y="81"/>
                  </a:lnTo>
                  <a:lnTo>
                    <a:pt x="17" y="75"/>
                  </a:lnTo>
                  <a:lnTo>
                    <a:pt x="12" y="70"/>
                  </a:lnTo>
                  <a:lnTo>
                    <a:pt x="12" y="64"/>
                  </a:lnTo>
                  <a:lnTo>
                    <a:pt x="6" y="58"/>
                  </a:lnTo>
                  <a:lnTo>
                    <a:pt x="6" y="52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12" y="12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1155240" y="2908440"/>
              <a:ext cx="55800" cy="3348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104" y="29"/>
                  </a:moveTo>
                  <a:lnTo>
                    <a:pt x="98" y="34"/>
                  </a:lnTo>
                  <a:lnTo>
                    <a:pt x="92" y="34"/>
                  </a:lnTo>
                  <a:lnTo>
                    <a:pt x="87" y="29"/>
                  </a:lnTo>
                  <a:lnTo>
                    <a:pt x="81" y="23"/>
                  </a:lnTo>
                  <a:lnTo>
                    <a:pt x="75" y="17"/>
                  </a:lnTo>
                  <a:lnTo>
                    <a:pt x="69" y="11"/>
                  </a:lnTo>
                  <a:lnTo>
                    <a:pt x="58" y="11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64" y="29"/>
                  </a:lnTo>
                  <a:lnTo>
                    <a:pt x="69" y="34"/>
                  </a:lnTo>
                  <a:lnTo>
                    <a:pt x="69" y="40"/>
                  </a:lnTo>
                  <a:lnTo>
                    <a:pt x="81" y="40"/>
                  </a:lnTo>
                  <a:lnTo>
                    <a:pt x="81" y="46"/>
                  </a:lnTo>
                  <a:lnTo>
                    <a:pt x="75" y="52"/>
                  </a:lnTo>
                  <a:lnTo>
                    <a:pt x="69" y="52"/>
                  </a:lnTo>
                  <a:lnTo>
                    <a:pt x="64" y="46"/>
                  </a:lnTo>
                  <a:lnTo>
                    <a:pt x="58" y="46"/>
                  </a:lnTo>
                  <a:lnTo>
                    <a:pt x="58" y="40"/>
                  </a:lnTo>
                  <a:lnTo>
                    <a:pt x="52" y="40"/>
                  </a:lnTo>
                  <a:lnTo>
                    <a:pt x="52" y="34"/>
                  </a:lnTo>
                  <a:lnTo>
                    <a:pt x="46" y="23"/>
                  </a:lnTo>
                  <a:lnTo>
                    <a:pt x="40" y="23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9" y="34"/>
                  </a:lnTo>
                  <a:lnTo>
                    <a:pt x="35" y="40"/>
                  </a:lnTo>
                  <a:lnTo>
                    <a:pt x="40" y="46"/>
                  </a:lnTo>
                  <a:lnTo>
                    <a:pt x="40" y="52"/>
                  </a:lnTo>
                  <a:lnTo>
                    <a:pt x="46" y="58"/>
                  </a:lnTo>
                  <a:lnTo>
                    <a:pt x="40" y="63"/>
                  </a:lnTo>
                  <a:lnTo>
                    <a:pt x="35" y="63"/>
                  </a:lnTo>
                  <a:lnTo>
                    <a:pt x="35" y="58"/>
                  </a:lnTo>
                  <a:lnTo>
                    <a:pt x="29" y="52"/>
                  </a:lnTo>
                  <a:lnTo>
                    <a:pt x="23" y="52"/>
                  </a:lnTo>
                  <a:lnTo>
                    <a:pt x="23" y="46"/>
                  </a:lnTo>
                  <a:lnTo>
                    <a:pt x="17" y="40"/>
                  </a:lnTo>
                  <a:lnTo>
                    <a:pt x="12" y="46"/>
                  </a:lnTo>
                  <a:lnTo>
                    <a:pt x="12" y="52"/>
                  </a:lnTo>
                  <a:lnTo>
                    <a:pt x="6" y="58"/>
                  </a:lnTo>
                  <a:lnTo>
                    <a:pt x="0" y="58"/>
                  </a:lnTo>
                  <a:lnTo>
                    <a:pt x="6" y="40"/>
                  </a:lnTo>
                  <a:lnTo>
                    <a:pt x="12" y="29"/>
                  </a:lnTo>
                  <a:lnTo>
                    <a:pt x="23" y="23"/>
                  </a:lnTo>
                  <a:lnTo>
                    <a:pt x="35" y="11"/>
                  </a:lnTo>
                  <a:lnTo>
                    <a:pt x="52" y="6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81" y="6"/>
                  </a:lnTo>
                  <a:lnTo>
                    <a:pt x="87" y="11"/>
                  </a:lnTo>
                  <a:lnTo>
                    <a:pt x="92" y="17"/>
                  </a:lnTo>
                  <a:lnTo>
                    <a:pt x="98" y="23"/>
                  </a:lnTo>
                  <a:lnTo>
                    <a:pt x="104" y="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1055880" y="2914200"/>
              <a:ext cx="324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910440" y="2932920"/>
              <a:ext cx="46080" cy="2772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6" y="12"/>
                  </a:moveTo>
                  <a:lnTo>
                    <a:pt x="81" y="12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57" y="17"/>
                  </a:lnTo>
                  <a:lnTo>
                    <a:pt x="52" y="23"/>
                  </a:lnTo>
                  <a:lnTo>
                    <a:pt x="46" y="23"/>
                  </a:lnTo>
                  <a:lnTo>
                    <a:pt x="40" y="29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17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46" y="6"/>
                  </a:lnTo>
                  <a:lnTo>
                    <a:pt x="52" y="6"/>
                  </a:lnTo>
                  <a:lnTo>
                    <a:pt x="63" y="12"/>
                  </a:lnTo>
                  <a:lnTo>
                    <a:pt x="69" y="12"/>
                  </a:lnTo>
                  <a:lnTo>
                    <a:pt x="81" y="12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d91a1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3" name=""/>
          <p:cNvGrpSpPr/>
          <p:nvPr/>
        </p:nvGrpSpPr>
        <p:grpSpPr>
          <a:xfrm>
            <a:off x="2009880" y="2957400"/>
            <a:ext cx="792000" cy="792000"/>
            <a:chOff x="2009880" y="2957400"/>
            <a:chExt cx="792000" cy="792000"/>
          </a:xfrm>
        </p:grpSpPr>
        <p:sp>
          <p:nvSpPr>
            <p:cNvPr id="10134" name=""/>
            <p:cNvSpPr/>
            <p:nvPr/>
          </p:nvSpPr>
          <p:spPr>
            <a:xfrm>
              <a:off x="2009880" y="2957400"/>
              <a:ext cx="792000" cy="792000"/>
            </a:xfrm>
            <a:custGeom>
              <a:avLst/>
              <a:gdLst>
                <a:gd name="textAreaLeft" fmla="*/ 210600 w 792000"/>
                <a:gd name="textAreaRight" fmla="*/ 581400 w 792000"/>
                <a:gd name="textAreaTop" fmla="*/ 210600 h 792000"/>
                <a:gd name="textAreaBottom" fmla="*/ 581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30" y="0"/>
                  </a:moveTo>
                  <a:arcTo wR="8130" hR="8130" stAng="0" swAng="5400000"/>
                  <a:lnTo>
                    <a:pt x="0" y="13470"/>
                  </a:lnTo>
                  <a:arcTo wR="8130" hR="8130" stAng="16200000" swAng="5400000"/>
                  <a:lnTo>
                    <a:pt x="13470" y="21600"/>
                  </a:lnTo>
                  <a:arcTo wR="8130" hR="8130" stAng="10800000" swAng="5400000"/>
                  <a:lnTo>
                    <a:pt x="21600" y="8130"/>
                  </a:lnTo>
                  <a:arcTo wR="8130" hR="8130" stAng="5400000" swAng="5400000"/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5" name=""/>
            <p:cNvSpPr/>
            <p:nvPr/>
          </p:nvSpPr>
          <p:spPr>
            <a:xfrm>
              <a:off x="2081160" y="3028680"/>
              <a:ext cx="647640" cy="647640"/>
            </a:xfrm>
            <a:custGeom>
              <a:avLst/>
              <a:gdLst>
                <a:gd name="textAreaLeft" fmla="*/ 172440 w 647640"/>
                <a:gd name="textAreaRight" fmla="*/ 475200 w 647640"/>
                <a:gd name="textAreaTop" fmla="*/ 172440 h 647640"/>
                <a:gd name="textAreaBottom" fmla="*/ 4752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30" y="0"/>
                  </a:moveTo>
                  <a:arcTo wR="8130" hR="8130" stAng="0" swAng="5400000"/>
                  <a:lnTo>
                    <a:pt x="0" y="13470"/>
                  </a:lnTo>
                  <a:arcTo wR="8130" hR="8130" stAng="16200000" swAng="5400000"/>
                  <a:lnTo>
                    <a:pt x="13470" y="21600"/>
                  </a:lnTo>
                  <a:arcTo wR="8130" hR="8130" stAng="10800000" swAng="5400000"/>
                  <a:lnTo>
                    <a:pt x="21600" y="8130"/>
                  </a:lnTo>
                  <a:arcTo wR="8130" hR="8130" stAng="5400000" swAng="5400000"/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6" name=""/>
          <p:cNvGrpSpPr/>
          <p:nvPr/>
        </p:nvGrpSpPr>
        <p:grpSpPr>
          <a:xfrm>
            <a:off x="1941480" y="851040"/>
            <a:ext cx="426960" cy="615960"/>
            <a:chOff x="1941480" y="851040"/>
            <a:chExt cx="426960" cy="615960"/>
          </a:xfrm>
        </p:grpSpPr>
        <p:sp>
          <p:nvSpPr>
            <p:cNvPr id="10137" name=""/>
            <p:cNvSpPr/>
            <p:nvPr/>
          </p:nvSpPr>
          <p:spPr>
            <a:xfrm flipH="1">
              <a:off x="1941480" y="851040"/>
              <a:ext cx="426960" cy="615960"/>
            </a:xfrm>
            <a:custGeom>
              <a:avLst/>
              <a:gdLst/>
              <a:ahLst/>
              <a:rect l="l" t="t" r="r" b="b"/>
              <a:pathLst>
                <a:path w="681" h="843">
                  <a:moveTo>
                    <a:pt x="627" y="429"/>
                  </a:moveTo>
                  <a:lnTo>
                    <a:pt x="627" y="444"/>
                  </a:lnTo>
                  <a:lnTo>
                    <a:pt x="630" y="462"/>
                  </a:lnTo>
                  <a:lnTo>
                    <a:pt x="636" y="477"/>
                  </a:lnTo>
                  <a:lnTo>
                    <a:pt x="642" y="492"/>
                  </a:lnTo>
                  <a:lnTo>
                    <a:pt x="645" y="507"/>
                  </a:lnTo>
                  <a:lnTo>
                    <a:pt x="645" y="525"/>
                  </a:lnTo>
                  <a:lnTo>
                    <a:pt x="642" y="543"/>
                  </a:lnTo>
                  <a:lnTo>
                    <a:pt x="639" y="558"/>
                  </a:lnTo>
                  <a:lnTo>
                    <a:pt x="630" y="573"/>
                  </a:lnTo>
                  <a:lnTo>
                    <a:pt x="621" y="588"/>
                  </a:lnTo>
                  <a:lnTo>
                    <a:pt x="606" y="600"/>
                  </a:lnTo>
                  <a:lnTo>
                    <a:pt x="591" y="609"/>
                  </a:lnTo>
                  <a:lnTo>
                    <a:pt x="576" y="615"/>
                  </a:lnTo>
                  <a:lnTo>
                    <a:pt x="561" y="618"/>
                  </a:lnTo>
                  <a:lnTo>
                    <a:pt x="543" y="618"/>
                  </a:lnTo>
                  <a:lnTo>
                    <a:pt x="525" y="615"/>
                  </a:lnTo>
                  <a:lnTo>
                    <a:pt x="510" y="609"/>
                  </a:lnTo>
                  <a:lnTo>
                    <a:pt x="495" y="600"/>
                  </a:lnTo>
                  <a:lnTo>
                    <a:pt x="495" y="603"/>
                  </a:lnTo>
                  <a:lnTo>
                    <a:pt x="492" y="609"/>
                  </a:lnTo>
                  <a:lnTo>
                    <a:pt x="492" y="612"/>
                  </a:lnTo>
                  <a:lnTo>
                    <a:pt x="489" y="615"/>
                  </a:lnTo>
                  <a:lnTo>
                    <a:pt x="492" y="618"/>
                  </a:lnTo>
                  <a:lnTo>
                    <a:pt x="495" y="621"/>
                  </a:lnTo>
                  <a:lnTo>
                    <a:pt x="504" y="621"/>
                  </a:lnTo>
                  <a:lnTo>
                    <a:pt x="513" y="621"/>
                  </a:lnTo>
                  <a:lnTo>
                    <a:pt x="522" y="621"/>
                  </a:lnTo>
                  <a:lnTo>
                    <a:pt x="531" y="624"/>
                  </a:lnTo>
                  <a:lnTo>
                    <a:pt x="537" y="627"/>
                  </a:lnTo>
                  <a:lnTo>
                    <a:pt x="543" y="630"/>
                  </a:lnTo>
                  <a:lnTo>
                    <a:pt x="537" y="651"/>
                  </a:lnTo>
                  <a:lnTo>
                    <a:pt x="525" y="672"/>
                  </a:lnTo>
                  <a:lnTo>
                    <a:pt x="513" y="693"/>
                  </a:lnTo>
                  <a:lnTo>
                    <a:pt x="501" y="711"/>
                  </a:lnTo>
                  <a:lnTo>
                    <a:pt x="492" y="732"/>
                  </a:lnTo>
                  <a:lnTo>
                    <a:pt x="486" y="756"/>
                  </a:lnTo>
                  <a:lnTo>
                    <a:pt x="483" y="765"/>
                  </a:lnTo>
                  <a:lnTo>
                    <a:pt x="480" y="777"/>
                  </a:lnTo>
                  <a:lnTo>
                    <a:pt x="477" y="786"/>
                  </a:lnTo>
                  <a:lnTo>
                    <a:pt x="471" y="795"/>
                  </a:lnTo>
                  <a:lnTo>
                    <a:pt x="462" y="804"/>
                  </a:lnTo>
                  <a:lnTo>
                    <a:pt x="456" y="807"/>
                  </a:lnTo>
                  <a:lnTo>
                    <a:pt x="450" y="810"/>
                  </a:lnTo>
                  <a:lnTo>
                    <a:pt x="444" y="813"/>
                  </a:lnTo>
                  <a:lnTo>
                    <a:pt x="438" y="813"/>
                  </a:lnTo>
                  <a:lnTo>
                    <a:pt x="429" y="816"/>
                  </a:lnTo>
                  <a:lnTo>
                    <a:pt x="423" y="819"/>
                  </a:lnTo>
                  <a:lnTo>
                    <a:pt x="417" y="825"/>
                  </a:lnTo>
                  <a:lnTo>
                    <a:pt x="414" y="828"/>
                  </a:lnTo>
                  <a:lnTo>
                    <a:pt x="414" y="831"/>
                  </a:lnTo>
                  <a:lnTo>
                    <a:pt x="408" y="834"/>
                  </a:lnTo>
                  <a:lnTo>
                    <a:pt x="405" y="837"/>
                  </a:lnTo>
                  <a:lnTo>
                    <a:pt x="399" y="840"/>
                  </a:lnTo>
                  <a:lnTo>
                    <a:pt x="396" y="843"/>
                  </a:lnTo>
                  <a:lnTo>
                    <a:pt x="390" y="837"/>
                  </a:lnTo>
                  <a:lnTo>
                    <a:pt x="384" y="834"/>
                  </a:lnTo>
                  <a:lnTo>
                    <a:pt x="381" y="831"/>
                  </a:lnTo>
                  <a:lnTo>
                    <a:pt x="375" y="831"/>
                  </a:lnTo>
                  <a:lnTo>
                    <a:pt x="369" y="831"/>
                  </a:lnTo>
                  <a:lnTo>
                    <a:pt x="360" y="831"/>
                  </a:lnTo>
                  <a:lnTo>
                    <a:pt x="354" y="834"/>
                  </a:lnTo>
                  <a:lnTo>
                    <a:pt x="351" y="834"/>
                  </a:lnTo>
                  <a:lnTo>
                    <a:pt x="345" y="834"/>
                  </a:lnTo>
                  <a:lnTo>
                    <a:pt x="342" y="834"/>
                  </a:lnTo>
                  <a:lnTo>
                    <a:pt x="339" y="831"/>
                  </a:lnTo>
                  <a:lnTo>
                    <a:pt x="351" y="819"/>
                  </a:lnTo>
                  <a:lnTo>
                    <a:pt x="363" y="807"/>
                  </a:lnTo>
                  <a:lnTo>
                    <a:pt x="378" y="798"/>
                  </a:lnTo>
                  <a:lnTo>
                    <a:pt x="393" y="789"/>
                  </a:lnTo>
                  <a:lnTo>
                    <a:pt x="408" y="783"/>
                  </a:lnTo>
                  <a:lnTo>
                    <a:pt x="426" y="780"/>
                  </a:lnTo>
                  <a:lnTo>
                    <a:pt x="438" y="771"/>
                  </a:lnTo>
                  <a:lnTo>
                    <a:pt x="447" y="756"/>
                  </a:lnTo>
                  <a:lnTo>
                    <a:pt x="456" y="741"/>
                  </a:lnTo>
                  <a:lnTo>
                    <a:pt x="459" y="726"/>
                  </a:lnTo>
                  <a:lnTo>
                    <a:pt x="462" y="708"/>
                  </a:lnTo>
                  <a:lnTo>
                    <a:pt x="465" y="693"/>
                  </a:lnTo>
                  <a:lnTo>
                    <a:pt x="459" y="690"/>
                  </a:lnTo>
                  <a:lnTo>
                    <a:pt x="456" y="687"/>
                  </a:lnTo>
                  <a:lnTo>
                    <a:pt x="447" y="687"/>
                  </a:lnTo>
                  <a:lnTo>
                    <a:pt x="441" y="684"/>
                  </a:lnTo>
                  <a:lnTo>
                    <a:pt x="435" y="684"/>
                  </a:lnTo>
                  <a:lnTo>
                    <a:pt x="429" y="684"/>
                  </a:lnTo>
                  <a:lnTo>
                    <a:pt x="426" y="681"/>
                  </a:lnTo>
                  <a:lnTo>
                    <a:pt x="423" y="678"/>
                  </a:lnTo>
                  <a:lnTo>
                    <a:pt x="420" y="678"/>
                  </a:lnTo>
                  <a:lnTo>
                    <a:pt x="417" y="675"/>
                  </a:lnTo>
                  <a:lnTo>
                    <a:pt x="414" y="672"/>
                  </a:lnTo>
                  <a:lnTo>
                    <a:pt x="411" y="669"/>
                  </a:lnTo>
                  <a:lnTo>
                    <a:pt x="411" y="678"/>
                  </a:lnTo>
                  <a:lnTo>
                    <a:pt x="414" y="687"/>
                  </a:lnTo>
                  <a:lnTo>
                    <a:pt x="420" y="693"/>
                  </a:lnTo>
                  <a:lnTo>
                    <a:pt x="426" y="699"/>
                  </a:lnTo>
                  <a:lnTo>
                    <a:pt x="429" y="705"/>
                  </a:lnTo>
                  <a:lnTo>
                    <a:pt x="432" y="711"/>
                  </a:lnTo>
                  <a:lnTo>
                    <a:pt x="426" y="714"/>
                  </a:lnTo>
                  <a:lnTo>
                    <a:pt x="417" y="711"/>
                  </a:lnTo>
                  <a:lnTo>
                    <a:pt x="411" y="711"/>
                  </a:lnTo>
                  <a:lnTo>
                    <a:pt x="405" y="708"/>
                  </a:lnTo>
                  <a:lnTo>
                    <a:pt x="396" y="705"/>
                  </a:lnTo>
                  <a:lnTo>
                    <a:pt x="390" y="705"/>
                  </a:lnTo>
                  <a:lnTo>
                    <a:pt x="387" y="711"/>
                  </a:lnTo>
                  <a:lnTo>
                    <a:pt x="387" y="717"/>
                  </a:lnTo>
                  <a:lnTo>
                    <a:pt x="384" y="723"/>
                  </a:lnTo>
                  <a:lnTo>
                    <a:pt x="384" y="732"/>
                  </a:lnTo>
                  <a:lnTo>
                    <a:pt x="381" y="735"/>
                  </a:lnTo>
                  <a:lnTo>
                    <a:pt x="378" y="741"/>
                  </a:lnTo>
                  <a:lnTo>
                    <a:pt x="366" y="732"/>
                  </a:lnTo>
                  <a:lnTo>
                    <a:pt x="360" y="720"/>
                  </a:lnTo>
                  <a:lnTo>
                    <a:pt x="354" y="708"/>
                  </a:lnTo>
                  <a:lnTo>
                    <a:pt x="351" y="696"/>
                  </a:lnTo>
                  <a:lnTo>
                    <a:pt x="342" y="684"/>
                  </a:lnTo>
                  <a:lnTo>
                    <a:pt x="333" y="678"/>
                  </a:lnTo>
                  <a:lnTo>
                    <a:pt x="333" y="675"/>
                  </a:lnTo>
                  <a:lnTo>
                    <a:pt x="333" y="672"/>
                  </a:lnTo>
                  <a:lnTo>
                    <a:pt x="333" y="669"/>
                  </a:lnTo>
                  <a:lnTo>
                    <a:pt x="336" y="666"/>
                  </a:lnTo>
                  <a:lnTo>
                    <a:pt x="339" y="666"/>
                  </a:lnTo>
                  <a:lnTo>
                    <a:pt x="342" y="669"/>
                  </a:lnTo>
                  <a:lnTo>
                    <a:pt x="345" y="669"/>
                  </a:lnTo>
                  <a:lnTo>
                    <a:pt x="348" y="672"/>
                  </a:lnTo>
                  <a:lnTo>
                    <a:pt x="351" y="672"/>
                  </a:lnTo>
                  <a:lnTo>
                    <a:pt x="354" y="669"/>
                  </a:lnTo>
                  <a:lnTo>
                    <a:pt x="360" y="669"/>
                  </a:lnTo>
                  <a:lnTo>
                    <a:pt x="363" y="660"/>
                  </a:lnTo>
                  <a:lnTo>
                    <a:pt x="363" y="651"/>
                  </a:lnTo>
                  <a:lnTo>
                    <a:pt x="363" y="642"/>
                  </a:lnTo>
                  <a:lnTo>
                    <a:pt x="363" y="636"/>
                  </a:lnTo>
                  <a:lnTo>
                    <a:pt x="363" y="627"/>
                  </a:lnTo>
                  <a:lnTo>
                    <a:pt x="357" y="621"/>
                  </a:lnTo>
                  <a:lnTo>
                    <a:pt x="345" y="624"/>
                  </a:lnTo>
                  <a:lnTo>
                    <a:pt x="333" y="624"/>
                  </a:lnTo>
                  <a:lnTo>
                    <a:pt x="318" y="621"/>
                  </a:lnTo>
                  <a:lnTo>
                    <a:pt x="306" y="618"/>
                  </a:lnTo>
                  <a:lnTo>
                    <a:pt x="294" y="612"/>
                  </a:lnTo>
                  <a:lnTo>
                    <a:pt x="282" y="606"/>
                  </a:lnTo>
                  <a:lnTo>
                    <a:pt x="276" y="618"/>
                  </a:lnTo>
                  <a:lnTo>
                    <a:pt x="270" y="630"/>
                  </a:lnTo>
                  <a:lnTo>
                    <a:pt x="264" y="642"/>
                  </a:lnTo>
                  <a:lnTo>
                    <a:pt x="258" y="654"/>
                  </a:lnTo>
                  <a:lnTo>
                    <a:pt x="255" y="666"/>
                  </a:lnTo>
                  <a:lnTo>
                    <a:pt x="252" y="678"/>
                  </a:lnTo>
                  <a:lnTo>
                    <a:pt x="249" y="681"/>
                  </a:lnTo>
                  <a:lnTo>
                    <a:pt x="243" y="681"/>
                  </a:lnTo>
                  <a:lnTo>
                    <a:pt x="240" y="681"/>
                  </a:lnTo>
                  <a:lnTo>
                    <a:pt x="234" y="681"/>
                  </a:lnTo>
                  <a:lnTo>
                    <a:pt x="231" y="678"/>
                  </a:lnTo>
                  <a:lnTo>
                    <a:pt x="228" y="675"/>
                  </a:lnTo>
                  <a:lnTo>
                    <a:pt x="219" y="669"/>
                  </a:lnTo>
                  <a:lnTo>
                    <a:pt x="210" y="663"/>
                  </a:lnTo>
                  <a:lnTo>
                    <a:pt x="201" y="657"/>
                  </a:lnTo>
                  <a:lnTo>
                    <a:pt x="192" y="654"/>
                  </a:lnTo>
                  <a:lnTo>
                    <a:pt x="180" y="651"/>
                  </a:lnTo>
                  <a:lnTo>
                    <a:pt x="168" y="651"/>
                  </a:lnTo>
                  <a:lnTo>
                    <a:pt x="168" y="648"/>
                  </a:lnTo>
                  <a:lnTo>
                    <a:pt x="138" y="648"/>
                  </a:lnTo>
                  <a:lnTo>
                    <a:pt x="135" y="648"/>
                  </a:lnTo>
                  <a:lnTo>
                    <a:pt x="129" y="651"/>
                  </a:lnTo>
                  <a:lnTo>
                    <a:pt x="126" y="657"/>
                  </a:lnTo>
                  <a:lnTo>
                    <a:pt x="120" y="660"/>
                  </a:lnTo>
                  <a:lnTo>
                    <a:pt x="117" y="663"/>
                  </a:lnTo>
                  <a:lnTo>
                    <a:pt x="111" y="663"/>
                  </a:lnTo>
                  <a:lnTo>
                    <a:pt x="111" y="660"/>
                  </a:lnTo>
                  <a:lnTo>
                    <a:pt x="111" y="657"/>
                  </a:lnTo>
                  <a:lnTo>
                    <a:pt x="108" y="654"/>
                  </a:lnTo>
                  <a:lnTo>
                    <a:pt x="108" y="651"/>
                  </a:lnTo>
                  <a:lnTo>
                    <a:pt x="111" y="648"/>
                  </a:lnTo>
                  <a:lnTo>
                    <a:pt x="111" y="645"/>
                  </a:lnTo>
                  <a:lnTo>
                    <a:pt x="102" y="645"/>
                  </a:lnTo>
                  <a:lnTo>
                    <a:pt x="93" y="645"/>
                  </a:lnTo>
                  <a:lnTo>
                    <a:pt x="81" y="645"/>
                  </a:lnTo>
                  <a:lnTo>
                    <a:pt x="72" y="648"/>
                  </a:lnTo>
                  <a:lnTo>
                    <a:pt x="63" y="651"/>
                  </a:lnTo>
                  <a:lnTo>
                    <a:pt x="54" y="657"/>
                  </a:lnTo>
                  <a:lnTo>
                    <a:pt x="54" y="654"/>
                  </a:lnTo>
                  <a:lnTo>
                    <a:pt x="51" y="654"/>
                  </a:lnTo>
                  <a:lnTo>
                    <a:pt x="48" y="654"/>
                  </a:lnTo>
                  <a:lnTo>
                    <a:pt x="48" y="651"/>
                  </a:lnTo>
                  <a:lnTo>
                    <a:pt x="45" y="648"/>
                  </a:lnTo>
                  <a:lnTo>
                    <a:pt x="45" y="645"/>
                  </a:lnTo>
                  <a:lnTo>
                    <a:pt x="45" y="642"/>
                  </a:lnTo>
                  <a:lnTo>
                    <a:pt x="48" y="642"/>
                  </a:lnTo>
                  <a:lnTo>
                    <a:pt x="51" y="639"/>
                  </a:lnTo>
                  <a:lnTo>
                    <a:pt x="54" y="636"/>
                  </a:lnTo>
                  <a:lnTo>
                    <a:pt x="54" y="633"/>
                  </a:lnTo>
                  <a:lnTo>
                    <a:pt x="54" y="630"/>
                  </a:lnTo>
                  <a:lnTo>
                    <a:pt x="51" y="627"/>
                  </a:lnTo>
                  <a:lnTo>
                    <a:pt x="45" y="621"/>
                  </a:lnTo>
                  <a:lnTo>
                    <a:pt x="42" y="618"/>
                  </a:lnTo>
                  <a:lnTo>
                    <a:pt x="36" y="615"/>
                  </a:lnTo>
                  <a:lnTo>
                    <a:pt x="33" y="612"/>
                  </a:lnTo>
                  <a:lnTo>
                    <a:pt x="27" y="606"/>
                  </a:lnTo>
                  <a:lnTo>
                    <a:pt x="33" y="606"/>
                  </a:lnTo>
                  <a:lnTo>
                    <a:pt x="36" y="606"/>
                  </a:lnTo>
                  <a:lnTo>
                    <a:pt x="42" y="606"/>
                  </a:lnTo>
                  <a:lnTo>
                    <a:pt x="48" y="606"/>
                  </a:lnTo>
                  <a:lnTo>
                    <a:pt x="54" y="609"/>
                  </a:lnTo>
                  <a:lnTo>
                    <a:pt x="57" y="609"/>
                  </a:lnTo>
                  <a:lnTo>
                    <a:pt x="75" y="609"/>
                  </a:lnTo>
                  <a:lnTo>
                    <a:pt x="90" y="606"/>
                  </a:lnTo>
                  <a:lnTo>
                    <a:pt x="105" y="600"/>
                  </a:lnTo>
                  <a:lnTo>
                    <a:pt x="120" y="594"/>
                  </a:lnTo>
                  <a:lnTo>
                    <a:pt x="135" y="591"/>
                  </a:lnTo>
                  <a:lnTo>
                    <a:pt x="153" y="594"/>
                  </a:lnTo>
                  <a:lnTo>
                    <a:pt x="162" y="597"/>
                  </a:lnTo>
                  <a:lnTo>
                    <a:pt x="171" y="600"/>
                  </a:lnTo>
                  <a:lnTo>
                    <a:pt x="183" y="603"/>
                  </a:lnTo>
                  <a:lnTo>
                    <a:pt x="192" y="606"/>
                  </a:lnTo>
                  <a:lnTo>
                    <a:pt x="201" y="612"/>
                  </a:lnTo>
                  <a:lnTo>
                    <a:pt x="207" y="618"/>
                  </a:lnTo>
                  <a:lnTo>
                    <a:pt x="213" y="612"/>
                  </a:lnTo>
                  <a:lnTo>
                    <a:pt x="213" y="606"/>
                  </a:lnTo>
                  <a:lnTo>
                    <a:pt x="210" y="600"/>
                  </a:lnTo>
                  <a:lnTo>
                    <a:pt x="204" y="591"/>
                  </a:lnTo>
                  <a:lnTo>
                    <a:pt x="201" y="585"/>
                  </a:lnTo>
                  <a:lnTo>
                    <a:pt x="201" y="576"/>
                  </a:lnTo>
                  <a:lnTo>
                    <a:pt x="201" y="567"/>
                  </a:lnTo>
                  <a:lnTo>
                    <a:pt x="204" y="558"/>
                  </a:lnTo>
                  <a:lnTo>
                    <a:pt x="210" y="549"/>
                  </a:lnTo>
                  <a:lnTo>
                    <a:pt x="216" y="543"/>
                  </a:lnTo>
                  <a:lnTo>
                    <a:pt x="219" y="534"/>
                  </a:lnTo>
                  <a:lnTo>
                    <a:pt x="222" y="525"/>
                  </a:lnTo>
                  <a:lnTo>
                    <a:pt x="213" y="525"/>
                  </a:lnTo>
                  <a:lnTo>
                    <a:pt x="207" y="525"/>
                  </a:lnTo>
                  <a:lnTo>
                    <a:pt x="201" y="528"/>
                  </a:lnTo>
                  <a:lnTo>
                    <a:pt x="195" y="531"/>
                  </a:lnTo>
                  <a:lnTo>
                    <a:pt x="189" y="528"/>
                  </a:lnTo>
                  <a:lnTo>
                    <a:pt x="189" y="522"/>
                  </a:lnTo>
                  <a:lnTo>
                    <a:pt x="198" y="510"/>
                  </a:lnTo>
                  <a:lnTo>
                    <a:pt x="210" y="501"/>
                  </a:lnTo>
                  <a:lnTo>
                    <a:pt x="225" y="492"/>
                  </a:lnTo>
                  <a:lnTo>
                    <a:pt x="240" y="486"/>
                  </a:lnTo>
                  <a:lnTo>
                    <a:pt x="255" y="480"/>
                  </a:lnTo>
                  <a:lnTo>
                    <a:pt x="270" y="474"/>
                  </a:lnTo>
                  <a:lnTo>
                    <a:pt x="270" y="477"/>
                  </a:lnTo>
                  <a:lnTo>
                    <a:pt x="294" y="474"/>
                  </a:lnTo>
                  <a:lnTo>
                    <a:pt x="315" y="480"/>
                  </a:lnTo>
                  <a:lnTo>
                    <a:pt x="333" y="489"/>
                  </a:lnTo>
                  <a:lnTo>
                    <a:pt x="351" y="501"/>
                  </a:lnTo>
                  <a:lnTo>
                    <a:pt x="372" y="510"/>
                  </a:lnTo>
                  <a:lnTo>
                    <a:pt x="396" y="513"/>
                  </a:lnTo>
                  <a:lnTo>
                    <a:pt x="408" y="501"/>
                  </a:lnTo>
                  <a:lnTo>
                    <a:pt x="402" y="495"/>
                  </a:lnTo>
                  <a:lnTo>
                    <a:pt x="396" y="489"/>
                  </a:lnTo>
                  <a:lnTo>
                    <a:pt x="387" y="483"/>
                  </a:lnTo>
                  <a:lnTo>
                    <a:pt x="381" y="480"/>
                  </a:lnTo>
                  <a:lnTo>
                    <a:pt x="372" y="477"/>
                  </a:lnTo>
                  <a:lnTo>
                    <a:pt x="360" y="474"/>
                  </a:lnTo>
                  <a:lnTo>
                    <a:pt x="339" y="462"/>
                  </a:lnTo>
                  <a:lnTo>
                    <a:pt x="318" y="450"/>
                  </a:lnTo>
                  <a:lnTo>
                    <a:pt x="297" y="435"/>
                  </a:lnTo>
                  <a:lnTo>
                    <a:pt x="276" y="417"/>
                  </a:lnTo>
                  <a:lnTo>
                    <a:pt x="258" y="399"/>
                  </a:lnTo>
                  <a:lnTo>
                    <a:pt x="240" y="381"/>
                  </a:lnTo>
                  <a:lnTo>
                    <a:pt x="228" y="381"/>
                  </a:lnTo>
                  <a:lnTo>
                    <a:pt x="213" y="378"/>
                  </a:lnTo>
                  <a:lnTo>
                    <a:pt x="201" y="369"/>
                  </a:lnTo>
                  <a:lnTo>
                    <a:pt x="192" y="363"/>
                  </a:lnTo>
                  <a:lnTo>
                    <a:pt x="177" y="357"/>
                  </a:lnTo>
                  <a:lnTo>
                    <a:pt x="165" y="354"/>
                  </a:lnTo>
                  <a:lnTo>
                    <a:pt x="144" y="354"/>
                  </a:lnTo>
                  <a:lnTo>
                    <a:pt x="129" y="363"/>
                  </a:lnTo>
                  <a:lnTo>
                    <a:pt x="117" y="372"/>
                  </a:lnTo>
                  <a:lnTo>
                    <a:pt x="105" y="384"/>
                  </a:lnTo>
                  <a:lnTo>
                    <a:pt x="93" y="396"/>
                  </a:lnTo>
                  <a:lnTo>
                    <a:pt x="78" y="408"/>
                  </a:lnTo>
                  <a:lnTo>
                    <a:pt x="63" y="414"/>
                  </a:lnTo>
                  <a:lnTo>
                    <a:pt x="57" y="426"/>
                  </a:lnTo>
                  <a:lnTo>
                    <a:pt x="57" y="438"/>
                  </a:lnTo>
                  <a:lnTo>
                    <a:pt x="60" y="450"/>
                  </a:lnTo>
                  <a:lnTo>
                    <a:pt x="63" y="465"/>
                  </a:lnTo>
                  <a:lnTo>
                    <a:pt x="63" y="480"/>
                  </a:lnTo>
                  <a:lnTo>
                    <a:pt x="60" y="483"/>
                  </a:lnTo>
                  <a:lnTo>
                    <a:pt x="54" y="486"/>
                  </a:lnTo>
                  <a:lnTo>
                    <a:pt x="51" y="486"/>
                  </a:lnTo>
                  <a:lnTo>
                    <a:pt x="45" y="486"/>
                  </a:lnTo>
                  <a:lnTo>
                    <a:pt x="39" y="486"/>
                  </a:lnTo>
                  <a:lnTo>
                    <a:pt x="36" y="486"/>
                  </a:lnTo>
                  <a:lnTo>
                    <a:pt x="30" y="492"/>
                  </a:lnTo>
                  <a:lnTo>
                    <a:pt x="24" y="498"/>
                  </a:lnTo>
                  <a:lnTo>
                    <a:pt x="21" y="504"/>
                  </a:lnTo>
                  <a:lnTo>
                    <a:pt x="15" y="507"/>
                  </a:lnTo>
                  <a:lnTo>
                    <a:pt x="9" y="510"/>
                  </a:lnTo>
                  <a:lnTo>
                    <a:pt x="0" y="510"/>
                  </a:lnTo>
                  <a:lnTo>
                    <a:pt x="0" y="495"/>
                  </a:lnTo>
                  <a:lnTo>
                    <a:pt x="3" y="483"/>
                  </a:lnTo>
                  <a:lnTo>
                    <a:pt x="6" y="468"/>
                  </a:lnTo>
                  <a:lnTo>
                    <a:pt x="12" y="453"/>
                  </a:lnTo>
                  <a:lnTo>
                    <a:pt x="12" y="438"/>
                  </a:lnTo>
                  <a:lnTo>
                    <a:pt x="12" y="420"/>
                  </a:lnTo>
                  <a:lnTo>
                    <a:pt x="24" y="405"/>
                  </a:lnTo>
                  <a:lnTo>
                    <a:pt x="39" y="390"/>
                  </a:lnTo>
                  <a:lnTo>
                    <a:pt x="54" y="375"/>
                  </a:lnTo>
                  <a:lnTo>
                    <a:pt x="72" y="360"/>
                  </a:lnTo>
                  <a:lnTo>
                    <a:pt x="87" y="345"/>
                  </a:lnTo>
                  <a:lnTo>
                    <a:pt x="99" y="327"/>
                  </a:lnTo>
                  <a:lnTo>
                    <a:pt x="114" y="318"/>
                  </a:lnTo>
                  <a:lnTo>
                    <a:pt x="129" y="312"/>
                  </a:lnTo>
                  <a:lnTo>
                    <a:pt x="147" y="312"/>
                  </a:lnTo>
                  <a:lnTo>
                    <a:pt x="162" y="312"/>
                  </a:lnTo>
                  <a:lnTo>
                    <a:pt x="180" y="312"/>
                  </a:lnTo>
                  <a:lnTo>
                    <a:pt x="195" y="312"/>
                  </a:lnTo>
                  <a:lnTo>
                    <a:pt x="183" y="291"/>
                  </a:lnTo>
                  <a:lnTo>
                    <a:pt x="174" y="270"/>
                  </a:lnTo>
                  <a:lnTo>
                    <a:pt x="168" y="246"/>
                  </a:lnTo>
                  <a:lnTo>
                    <a:pt x="165" y="219"/>
                  </a:lnTo>
                  <a:lnTo>
                    <a:pt x="162" y="195"/>
                  </a:lnTo>
                  <a:lnTo>
                    <a:pt x="156" y="171"/>
                  </a:lnTo>
                  <a:lnTo>
                    <a:pt x="156" y="165"/>
                  </a:lnTo>
                  <a:lnTo>
                    <a:pt x="150" y="162"/>
                  </a:lnTo>
                  <a:lnTo>
                    <a:pt x="147" y="159"/>
                  </a:lnTo>
                  <a:lnTo>
                    <a:pt x="147" y="156"/>
                  </a:lnTo>
                  <a:lnTo>
                    <a:pt x="147" y="153"/>
                  </a:lnTo>
                  <a:lnTo>
                    <a:pt x="150" y="147"/>
                  </a:lnTo>
                  <a:lnTo>
                    <a:pt x="141" y="144"/>
                  </a:lnTo>
                  <a:lnTo>
                    <a:pt x="132" y="135"/>
                  </a:lnTo>
                  <a:lnTo>
                    <a:pt x="123" y="126"/>
                  </a:lnTo>
                  <a:lnTo>
                    <a:pt x="114" y="117"/>
                  </a:lnTo>
                  <a:lnTo>
                    <a:pt x="105" y="111"/>
                  </a:lnTo>
                  <a:lnTo>
                    <a:pt x="93" y="114"/>
                  </a:lnTo>
                  <a:lnTo>
                    <a:pt x="84" y="108"/>
                  </a:lnTo>
                  <a:lnTo>
                    <a:pt x="72" y="105"/>
                  </a:lnTo>
                  <a:lnTo>
                    <a:pt x="60" y="102"/>
                  </a:lnTo>
                  <a:lnTo>
                    <a:pt x="51" y="99"/>
                  </a:lnTo>
                  <a:lnTo>
                    <a:pt x="45" y="90"/>
                  </a:lnTo>
                  <a:lnTo>
                    <a:pt x="42" y="78"/>
                  </a:lnTo>
                  <a:lnTo>
                    <a:pt x="45" y="78"/>
                  </a:lnTo>
                  <a:lnTo>
                    <a:pt x="45" y="75"/>
                  </a:lnTo>
                  <a:lnTo>
                    <a:pt x="48" y="72"/>
                  </a:lnTo>
                  <a:lnTo>
                    <a:pt x="51" y="69"/>
                  </a:lnTo>
                  <a:lnTo>
                    <a:pt x="45" y="63"/>
                  </a:lnTo>
                  <a:lnTo>
                    <a:pt x="42" y="57"/>
                  </a:lnTo>
                  <a:lnTo>
                    <a:pt x="39" y="48"/>
                  </a:lnTo>
                  <a:lnTo>
                    <a:pt x="39" y="42"/>
                  </a:lnTo>
                  <a:lnTo>
                    <a:pt x="42" y="36"/>
                  </a:lnTo>
                  <a:lnTo>
                    <a:pt x="45" y="27"/>
                  </a:lnTo>
                  <a:lnTo>
                    <a:pt x="54" y="21"/>
                  </a:lnTo>
                  <a:lnTo>
                    <a:pt x="60" y="27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54"/>
                  </a:lnTo>
                  <a:lnTo>
                    <a:pt x="96" y="57"/>
                  </a:lnTo>
                  <a:lnTo>
                    <a:pt x="108" y="69"/>
                  </a:lnTo>
                  <a:lnTo>
                    <a:pt x="120" y="78"/>
                  </a:lnTo>
                  <a:lnTo>
                    <a:pt x="132" y="87"/>
                  </a:lnTo>
                  <a:lnTo>
                    <a:pt x="147" y="93"/>
                  </a:lnTo>
                  <a:lnTo>
                    <a:pt x="159" y="102"/>
                  </a:lnTo>
                  <a:lnTo>
                    <a:pt x="171" y="117"/>
                  </a:lnTo>
                  <a:lnTo>
                    <a:pt x="183" y="129"/>
                  </a:lnTo>
                  <a:lnTo>
                    <a:pt x="192" y="141"/>
                  </a:lnTo>
                  <a:lnTo>
                    <a:pt x="198" y="156"/>
                  </a:lnTo>
                  <a:lnTo>
                    <a:pt x="204" y="171"/>
                  </a:lnTo>
                  <a:lnTo>
                    <a:pt x="210" y="186"/>
                  </a:lnTo>
                  <a:lnTo>
                    <a:pt x="213" y="201"/>
                  </a:lnTo>
                  <a:lnTo>
                    <a:pt x="216" y="210"/>
                  </a:lnTo>
                  <a:lnTo>
                    <a:pt x="219" y="219"/>
                  </a:lnTo>
                  <a:lnTo>
                    <a:pt x="225" y="228"/>
                  </a:lnTo>
                  <a:lnTo>
                    <a:pt x="228" y="237"/>
                  </a:lnTo>
                  <a:lnTo>
                    <a:pt x="234" y="246"/>
                  </a:lnTo>
                  <a:lnTo>
                    <a:pt x="237" y="255"/>
                  </a:lnTo>
                  <a:lnTo>
                    <a:pt x="249" y="237"/>
                  </a:lnTo>
                  <a:lnTo>
                    <a:pt x="264" y="228"/>
                  </a:lnTo>
                  <a:lnTo>
                    <a:pt x="282" y="219"/>
                  </a:lnTo>
                  <a:lnTo>
                    <a:pt x="303" y="213"/>
                  </a:lnTo>
                  <a:lnTo>
                    <a:pt x="321" y="204"/>
                  </a:lnTo>
                  <a:lnTo>
                    <a:pt x="333" y="189"/>
                  </a:lnTo>
                  <a:lnTo>
                    <a:pt x="336" y="183"/>
                  </a:lnTo>
                  <a:lnTo>
                    <a:pt x="339" y="174"/>
                  </a:lnTo>
                  <a:lnTo>
                    <a:pt x="339" y="168"/>
                  </a:lnTo>
                  <a:lnTo>
                    <a:pt x="339" y="159"/>
                  </a:lnTo>
                  <a:lnTo>
                    <a:pt x="339" y="153"/>
                  </a:lnTo>
                  <a:lnTo>
                    <a:pt x="336" y="144"/>
                  </a:lnTo>
                  <a:lnTo>
                    <a:pt x="309" y="150"/>
                  </a:lnTo>
                  <a:lnTo>
                    <a:pt x="306" y="156"/>
                  </a:lnTo>
                  <a:lnTo>
                    <a:pt x="300" y="165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91" y="189"/>
                  </a:lnTo>
                  <a:lnTo>
                    <a:pt x="291" y="195"/>
                  </a:lnTo>
                  <a:lnTo>
                    <a:pt x="288" y="198"/>
                  </a:lnTo>
                  <a:lnTo>
                    <a:pt x="285" y="201"/>
                  </a:lnTo>
                  <a:lnTo>
                    <a:pt x="285" y="204"/>
                  </a:lnTo>
                  <a:lnTo>
                    <a:pt x="288" y="207"/>
                  </a:lnTo>
                  <a:lnTo>
                    <a:pt x="279" y="213"/>
                  </a:lnTo>
                  <a:lnTo>
                    <a:pt x="273" y="213"/>
                  </a:lnTo>
                  <a:lnTo>
                    <a:pt x="267" y="210"/>
                  </a:lnTo>
                  <a:lnTo>
                    <a:pt x="261" y="204"/>
                  </a:lnTo>
                  <a:lnTo>
                    <a:pt x="255" y="201"/>
                  </a:lnTo>
                  <a:lnTo>
                    <a:pt x="249" y="204"/>
                  </a:lnTo>
                  <a:lnTo>
                    <a:pt x="243" y="204"/>
                  </a:lnTo>
                  <a:lnTo>
                    <a:pt x="240" y="198"/>
                  </a:lnTo>
                  <a:lnTo>
                    <a:pt x="237" y="195"/>
                  </a:lnTo>
                  <a:lnTo>
                    <a:pt x="237" y="189"/>
                  </a:lnTo>
                  <a:lnTo>
                    <a:pt x="234" y="183"/>
                  </a:lnTo>
                  <a:lnTo>
                    <a:pt x="231" y="180"/>
                  </a:lnTo>
                  <a:lnTo>
                    <a:pt x="237" y="168"/>
                  </a:lnTo>
                  <a:lnTo>
                    <a:pt x="243" y="153"/>
                  </a:lnTo>
                  <a:lnTo>
                    <a:pt x="246" y="141"/>
                  </a:lnTo>
                  <a:lnTo>
                    <a:pt x="249" y="129"/>
                  </a:lnTo>
                  <a:lnTo>
                    <a:pt x="255" y="114"/>
                  </a:lnTo>
                  <a:lnTo>
                    <a:pt x="261" y="102"/>
                  </a:lnTo>
                  <a:lnTo>
                    <a:pt x="261" y="96"/>
                  </a:lnTo>
                  <a:lnTo>
                    <a:pt x="261" y="93"/>
                  </a:lnTo>
                  <a:lnTo>
                    <a:pt x="258" y="87"/>
                  </a:lnTo>
                  <a:lnTo>
                    <a:pt x="276" y="51"/>
                  </a:lnTo>
                  <a:lnTo>
                    <a:pt x="255" y="30"/>
                  </a:lnTo>
                  <a:lnTo>
                    <a:pt x="252" y="27"/>
                  </a:lnTo>
                  <a:lnTo>
                    <a:pt x="249" y="24"/>
                  </a:lnTo>
                  <a:lnTo>
                    <a:pt x="249" y="18"/>
                  </a:lnTo>
                  <a:lnTo>
                    <a:pt x="246" y="15"/>
                  </a:lnTo>
                  <a:lnTo>
                    <a:pt x="249" y="9"/>
                  </a:lnTo>
                  <a:lnTo>
                    <a:pt x="255" y="9"/>
                  </a:lnTo>
                  <a:lnTo>
                    <a:pt x="261" y="12"/>
                  </a:lnTo>
                  <a:lnTo>
                    <a:pt x="267" y="15"/>
                  </a:lnTo>
                  <a:lnTo>
                    <a:pt x="273" y="18"/>
                  </a:lnTo>
                  <a:lnTo>
                    <a:pt x="276" y="21"/>
                  </a:lnTo>
                  <a:lnTo>
                    <a:pt x="282" y="24"/>
                  </a:lnTo>
                  <a:lnTo>
                    <a:pt x="276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300" y="3"/>
                  </a:lnTo>
                  <a:lnTo>
                    <a:pt x="306" y="9"/>
                  </a:lnTo>
                  <a:lnTo>
                    <a:pt x="312" y="15"/>
                  </a:lnTo>
                  <a:lnTo>
                    <a:pt x="321" y="21"/>
                  </a:lnTo>
                  <a:lnTo>
                    <a:pt x="324" y="33"/>
                  </a:lnTo>
                  <a:lnTo>
                    <a:pt x="330" y="33"/>
                  </a:lnTo>
                  <a:lnTo>
                    <a:pt x="333" y="30"/>
                  </a:lnTo>
                  <a:lnTo>
                    <a:pt x="339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1" y="30"/>
                  </a:lnTo>
                  <a:lnTo>
                    <a:pt x="357" y="27"/>
                  </a:lnTo>
                  <a:lnTo>
                    <a:pt x="363" y="24"/>
                  </a:lnTo>
                  <a:lnTo>
                    <a:pt x="369" y="21"/>
                  </a:lnTo>
                  <a:lnTo>
                    <a:pt x="378" y="18"/>
                  </a:lnTo>
                  <a:lnTo>
                    <a:pt x="384" y="15"/>
                  </a:lnTo>
                  <a:lnTo>
                    <a:pt x="390" y="12"/>
                  </a:lnTo>
                  <a:lnTo>
                    <a:pt x="390" y="15"/>
                  </a:lnTo>
                  <a:lnTo>
                    <a:pt x="393" y="18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402" y="18"/>
                  </a:lnTo>
                  <a:lnTo>
                    <a:pt x="402" y="15"/>
                  </a:lnTo>
                  <a:lnTo>
                    <a:pt x="399" y="15"/>
                  </a:lnTo>
                  <a:lnTo>
                    <a:pt x="396" y="15"/>
                  </a:lnTo>
                  <a:lnTo>
                    <a:pt x="399" y="15"/>
                  </a:lnTo>
                  <a:lnTo>
                    <a:pt x="405" y="15"/>
                  </a:lnTo>
                  <a:lnTo>
                    <a:pt x="408" y="15"/>
                  </a:lnTo>
                  <a:lnTo>
                    <a:pt x="414" y="12"/>
                  </a:lnTo>
                  <a:lnTo>
                    <a:pt x="417" y="12"/>
                  </a:lnTo>
                  <a:lnTo>
                    <a:pt x="423" y="15"/>
                  </a:lnTo>
                  <a:lnTo>
                    <a:pt x="420" y="15"/>
                  </a:lnTo>
                  <a:lnTo>
                    <a:pt x="420" y="18"/>
                  </a:lnTo>
                  <a:lnTo>
                    <a:pt x="420" y="21"/>
                  </a:lnTo>
                  <a:lnTo>
                    <a:pt x="420" y="24"/>
                  </a:lnTo>
                  <a:lnTo>
                    <a:pt x="420" y="30"/>
                  </a:lnTo>
                  <a:lnTo>
                    <a:pt x="423" y="33"/>
                  </a:lnTo>
                  <a:lnTo>
                    <a:pt x="429" y="33"/>
                  </a:lnTo>
                  <a:lnTo>
                    <a:pt x="432" y="33"/>
                  </a:lnTo>
                  <a:lnTo>
                    <a:pt x="435" y="33"/>
                  </a:lnTo>
                  <a:lnTo>
                    <a:pt x="441" y="33"/>
                  </a:lnTo>
                  <a:lnTo>
                    <a:pt x="444" y="33"/>
                  </a:lnTo>
                  <a:lnTo>
                    <a:pt x="453" y="36"/>
                  </a:lnTo>
                  <a:lnTo>
                    <a:pt x="465" y="36"/>
                  </a:lnTo>
                  <a:lnTo>
                    <a:pt x="477" y="36"/>
                  </a:lnTo>
                  <a:lnTo>
                    <a:pt x="486" y="36"/>
                  </a:lnTo>
                  <a:lnTo>
                    <a:pt x="489" y="39"/>
                  </a:lnTo>
                  <a:lnTo>
                    <a:pt x="483" y="54"/>
                  </a:lnTo>
                  <a:lnTo>
                    <a:pt x="489" y="60"/>
                  </a:lnTo>
                  <a:lnTo>
                    <a:pt x="495" y="63"/>
                  </a:lnTo>
                  <a:lnTo>
                    <a:pt x="501" y="66"/>
                  </a:lnTo>
                  <a:lnTo>
                    <a:pt x="507" y="66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5" y="69"/>
                  </a:lnTo>
                  <a:lnTo>
                    <a:pt x="525" y="72"/>
                  </a:lnTo>
                  <a:lnTo>
                    <a:pt x="525" y="75"/>
                  </a:lnTo>
                  <a:lnTo>
                    <a:pt x="525" y="78"/>
                  </a:lnTo>
                  <a:lnTo>
                    <a:pt x="522" y="78"/>
                  </a:lnTo>
                  <a:lnTo>
                    <a:pt x="522" y="81"/>
                  </a:lnTo>
                  <a:lnTo>
                    <a:pt x="501" y="96"/>
                  </a:lnTo>
                  <a:lnTo>
                    <a:pt x="507" y="102"/>
                  </a:lnTo>
                  <a:lnTo>
                    <a:pt x="516" y="108"/>
                  </a:lnTo>
                  <a:lnTo>
                    <a:pt x="525" y="117"/>
                  </a:lnTo>
                  <a:lnTo>
                    <a:pt x="531" y="126"/>
                  </a:lnTo>
                  <a:lnTo>
                    <a:pt x="537" y="135"/>
                  </a:lnTo>
                  <a:lnTo>
                    <a:pt x="534" y="144"/>
                  </a:lnTo>
                  <a:lnTo>
                    <a:pt x="531" y="144"/>
                  </a:lnTo>
                  <a:lnTo>
                    <a:pt x="528" y="144"/>
                  </a:lnTo>
                  <a:lnTo>
                    <a:pt x="522" y="144"/>
                  </a:lnTo>
                  <a:lnTo>
                    <a:pt x="519" y="144"/>
                  </a:lnTo>
                  <a:lnTo>
                    <a:pt x="513" y="144"/>
                  </a:lnTo>
                  <a:lnTo>
                    <a:pt x="510" y="147"/>
                  </a:lnTo>
                  <a:lnTo>
                    <a:pt x="516" y="156"/>
                  </a:lnTo>
                  <a:lnTo>
                    <a:pt x="519" y="165"/>
                  </a:lnTo>
                  <a:lnTo>
                    <a:pt x="525" y="177"/>
                  </a:lnTo>
                  <a:lnTo>
                    <a:pt x="531" y="186"/>
                  </a:lnTo>
                  <a:lnTo>
                    <a:pt x="540" y="192"/>
                  </a:lnTo>
                  <a:lnTo>
                    <a:pt x="552" y="192"/>
                  </a:lnTo>
                  <a:lnTo>
                    <a:pt x="546" y="198"/>
                  </a:lnTo>
                  <a:lnTo>
                    <a:pt x="543" y="201"/>
                  </a:lnTo>
                  <a:lnTo>
                    <a:pt x="537" y="207"/>
                  </a:lnTo>
                  <a:lnTo>
                    <a:pt x="531" y="210"/>
                  </a:lnTo>
                  <a:lnTo>
                    <a:pt x="528" y="213"/>
                  </a:lnTo>
                  <a:lnTo>
                    <a:pt x="522" y="216"/>
                  </a:lnTo>
                  <a:lnTo>
                    <a:pt x="525" y="222"/>
                  </a:lnTo>
                  <a:lnTo>
                    <a:pt x="528" y="222"/>
                  </a:lnTo>
                  <a:lnTo>
                    <a:pt x="534" y="225"/>
                  </a:lnTo>
                  <a:lnTo>
                    <a:pt x="537" y="228"/>
                  </a:lnTo>
                  <a:lnTo>
                    <a:pt x="543" y="228"/>
                  </a:lnTo>
                  <a:lnTo>
                    <a:pt x="546" y="234"/>
                  </a:lnTo>
                  <a:lnTo>
                    <a:pt x="543" y="237"/>
                  </a:lnTo>
                  <a:lnTo>
                    <a:pt x="537" y="240"/>
                  </a:lnTo>
                  <a:lnTo>
                    <a:pt x="534" y="246"/>
                  </a:lnTo>
                  <a:lnTo>
                    <a:pt x="528" y="249"/>
                  </a:lnTo>
                  <a:lnTo>
                    <a:pt x="522" y="252"/>
                  </a:lnTo>
                  <a:lnTo>
                    <a:pt x="516" y="255"/>
                  </a:lnTo>
                  <a:lnTo>
                    <a:pt x="516" y="258"/>
                  </a:lnTo>
                  <a:lnTo>
                    <a:pt x="519" y="264"/>
                  </a:lnTo>
                  <a:lnTo>
                    <a:pt x="519" y="267"/>
                  </a:lnTo>
                  <a:lnTo>
                    <a:pt x="522" y="267"/>
                  </a:lnTo>
                  <a:lnTo>
                    <a:pt x="528" y="270"/>
                  </a:lnTo>
                  <a:lnTo>
                    <a:pt x="531" y="270"/>
                  </a:lnTo>
                  <a:lnTo>
                    <a:pt x="534" y="273"/>
                  </a:lnTo>
                  <a:lnTo>
                    <a:pt x="537" y="273"/>
                  </a:lnTo>
                  <a:lnTo>
                    <a:pt x="543" y="270"/>
                  </a:lnTo>
                  <a:lnTo>
                    <a:pt x="546" y="270"/>
                  </a:lnTo>
                  <a:lnTo>
                    <a:pt x="549" y="273"/>
                  </a:lnTo>
                  <a:lnTo>
                    <a:pt x="549" y="276"/>
                  </a:lnTo>
                  <a:lnTo>
                    <a:pt x="543" y="282"/>
                  </a:lnTo>
                  <a:lnTo>
                    <a:pt x="537" y="288"/>
                  </a:lnTo>
                  <a:lnTo>
                    <a:pt x="531" y="291"/>
                  </a:lnTo>
                  <a:lnTo>
                    <a:pt x="522" y="294"/>
                  </a:lnTo>
                  <a:lnTo>
                    <a:pt x="513" y="294"/>
                  </a:lnTo>
                  <a:lnTo>
                    <a:pt x="507" y="294"/>
                  </a:lnTo>
                  <a:lnTo>
                    <a:pt x="507" y="300"/>
                  </a:lnTo>
                  <a:lnTo>
                    <a:pt x="510" y="303"/>
                  </a:lnTo>
                  <a:lnTo>
                    <a:pt x="513" y="306"/>
                  </a:lnTo>
                  <a:lnTo>
                    <a:pt x="516" y="309"/>
                  </a:lnTo>
                  <a:lnTo>
                    <a:pt x="522" y="309"/>
                  </a:lnTo>
                  <a:lnTo>
                    <a:pt x="525" y="309"/>
                  </a:lnTo>
                  <a:lnTo>
                    <a:pt x="525" y="312"/>
                  </a:lnTo>
                  <a:lnTo>
                    <a:pt x="525" y="315"/>
                  </a:lnTo>
                  <a:lnTo>
                    <a:pt x="525" y="318"/>
                  </a:lnTo>
                  <a:lnTo>
                    <a:pt x="522" y="318"/>
                  </a:lnTo>
                  <a:lnTo>
                    <a:pt x="522" y="321"/>
                  </a:lnTo>
                  <a:lnTo>
                    <a:pt x="519" y="321"/>
                  </a:lnTo>
                  <a:lnTo>
                    <a:pt x="516" y="321"/>
                  </a:lnTo>
                  <a:lnTo>
                    <a:pt x="516" y="324"/>
                  </a:lnTo>
                  <a:lnTo>
                    <a:pt x="513" y="324"/>
                  </a:lnTo>
                  <a:lnTo>
                    <a:pt x="510" y="324"/>
                  </a:lnTo>
                  <a:lnTo>
                    <a:pt x="489" y="327"/>
                  </a:lnTo>
                  <a:lnTo>
                    <a:pt x="492" y="330"/>
                  </a:lnTo>
                  <a:lnTo>
                    <a:pt x="498" y="330"/>
                  </a:lnTo>
                  <a:lnTo>
                    <a:pt x="498" y="333"/>
                  </a:lnTo>
                  <a:lnTo>
                    <a:pt x="501" y="336"/>
                  </a:lnTo>
                  <a:lnTo>
                    <a:pt x="501" y="339"/>
                  </a:lnTo>
                  <a:lnTo>
                    <a:pt x="495" y="342"/>
                  </a:lnTo>
                  <a:lnTo>
                    <a:pt x="489" y="342"/>
                  </a:lnTo>
                  <a:lnTo>
                    <a:pt x="483" y="345"/>
                  </a:lnTo>
                  <a:lnTo>
                    <a:pt x="477" y="342"/>
                  </a:lnTo>
                  <a:lnTo>
                    <a:pt x="471" y="345"/>
                  </a:lnTo>
                  <a:lnTo>
                    <a:pt x="465" y="345"/>
                  </a:lnTo>
                  <a:lnTo>
                    <a:pt x="462" y="345"/>
                  </a:lnTo>
                  <a:lnTo>
                    <a:pt x="459" y="345"/>
                  </a:lnTo>
                  <a:lnTo>
                    <a:pt x="456" y="345"/>
                  </a:lnTo>
                  <a:lnTo>
                    <a:pt x="450" y="345"/>
                  </a:lnTo>
                  <a:lnTo>
                    <a:pt x="447" y="348"/>
                  </a:lnTo>
                  <a:lnTo>
                    <a:pt x="447" y="351"/>
                  </a:lnTo>
                  <a:lnTo>
                    <a:pt x="447" y="354"/>
                  </a:lnTo>
                  <a:lnTo>
                    <a:pt x="447" y="357"/>
                  </a:lnTo>
                  <a:lnTo>
                    <a:pt x="447" y="360"/>
                  </a:lnTo>
                  <a:lnTo>
                    <a:pt x="450" y="363"/>
                  </a:lnTo>
                  <a:lnTo>
                    <a:pt x="447" y="363"/>
                  </a:lnTo>
                  <a:lnTo>
                    <a:pt x="462" y="396"/>
                  </a:lnTo>
                  <a:lnTo>
                    <a:pt x="474" y="432"/>
                  </a:lnTo>
                  <a:lnTo>
                    <a:pt x="486" y="468"/>
                  </a:lnTo>
                  <a:lnTo>
                    <a:pt x="501" y="504"/>
                  </a:lnTo>
                  <a:lnTo>
                    <a:pt x="516" y="537"/>
                  </a:lnTo>
                  <a:lnTo>
                    <a:pt x="534" y="570"/>
                  </a:lnTo>
                  <a:lnTo>
                    <a:pt x="540" y="576"/>
                  </a:lnTo>
                  <a:lnTo>
                    <a:pt x="546" y="576"/>
                  </a:lnTo>
                  <a:lnTo>
                    <a:pt x="552" y="579"/>
                  </a:lnTo>
                  <a:lnTo>
                    <a:pt x="558" y="576"/>
                  </a:lnTo>
                  <a:lnTo>
                    <a:pt x="564" y="576"/>
                  </a:lnTo>
                  <a:lnTo>
                    <a:pt x="570" y="573"/>
                  </a:lnTo>
                  <a:lnTo>
                    <a:pt x="582" y="567"/>
                  </a:lnTo>
                  <a:lnTo>
                    <a:pt x="588" y="558"/>
                  </a:lnTo>
                  <a:lnTo>
                    <a:pt x="594" y="549"/>
                  </a:lnTo>
                  <a:lnTo>
                    <a:pt x="597" y="540"/>
                  </a:lnTo>
                  <a:lnTo>
                    <a:pt x="600" y="528"/>
                  </a:lnTo>
                  <a:lnTo>
                    <a:pt x="600" y="516"/>
                  </a:lnTo>
                  <a:lnTo>
                    <a:pt x="594" y="495"/>
                  </a:lnTo>
                  <a:lnTo>
                    <a:pt x="582" y="477"/>
                  </a:lnTo>
                  <a:lnTo>
                    <a:pt x="564" y="462"/>
                  </a:lnTo>
                  <a:lnTo>
                    <a:pt x="549" y="444"/>
                  </a:lnTo>
                  <a:lnTo>
                    <a:pt x="540" y="426"/>
                  </a:lnTo>
                  <a:lnTo>
                    <a:pt x="543" y="402"/>
                  </a:lnTo>
                  <a:lnTo>
                    <a:pt x="549" y="405"/>
                  </a:lnTo>
                  <a:lnTo>
                    <a:pt x="552" y="405"/>
                  </a:lnTo>
                  <a:lnTo>
                    <a:pt x="558" y="408"/>
                  </a:lnTo>
                  <a:lnTo>
                    <a:pt x="561" y="408"/>
                  </a:lnTo>
                  <a:lnTo>
                    <a:pt x="564" y="408"/>
                  </a:lnTo>
                  <a:lnTo>
                    <a:pt x="570" y="405"/>
                  </a:lnTo>
                  <a:lnTo>
                    <a:pt x="567" y="381"/>
                  </a:lnTo>
                  <a:lnTo>
                    <a:pt x="567" y="360"/>
                  </a:lnTo>
                  <a:lnTo>
                    <a:pt x="573" y="339"/>
                  </a:lnTo>
                  <a:lnTo>
                    <a:pt x="579" y="318"/>
                  </a:lnTo>
                  <a:lnTo>
                    <a:pt x="585" y="297"/>
                  </a:lnTo>
                  <a:lnTo>
                    <a:pt x="594" y="279"/>
                  </a:lnTo>
                  <a:lnTo>
                    <a:pt x="600" y="264"/>
                  </a:lnTo>
                  <a:lnTo>
                    <a:pt x="609" y="249"/>
                  </a:lnTo>
                  <a:lnTo>
                    <a:pt x="615" y="234"/>
                  </a:lnTo>
                  <a:lnTo>
                    <a:pt x="621" y="222"/>
                  </a:lnTo>
                  <a:lnTo>
                    <a:pt x="627" y="207"/>
                  </a:lnTo>
                  <a:lnTo>
                    <a:pt x="633" y="192"/>
                  </a:lnTo>
                  <a:lnTo>
                    <a:pt x="636" y="189"/>
                  </a:lnTo>
                  <a:lnTo>
                    <a:pt x="636" y="183"/>
                  </a:lnTo>
                  <a:lnTo>
                    <a:pt x="633" y="177"/>
                  </a:lnTo>
                  <a:lnTo>
                    <a:pt x="633" y="171"/>
                  </a:lnTo>
                  <a:lnTo>
                    <a:pt x="630" y="168"/>
                  </a:lnTo>
                  <a:lnTo>
                    <a:pt x="627" y="162"/>
                  </a:lnTo>
                  <a:lnTo>
                    <a:pt x="621" y="162"/>
                  </a:lnTo>
                  <a:lnTo>
                    <a:pt x="615" y="162"/>
                  </a:lnTo>
                  <a:lnTo>
                    <a:pt x="612" y="162"/>
                  </a:lnTo>
                  <a:lnTo>
                    <a:pt x="606" y="162"/>
                  </a:lnTo>
                  <a:lnTo>
                    <a:pt x="600" y="165"/>
                  </a:lnTo>
                  <a:lnTo>
                    <a:pt x="597" y="171"/>
                  </a:lnTo>
                  <a:lnTo>
                    <a:pt x="597" y="174"/>
                  </a:lnTo>
                  <a:lnTo>
                    <a:pt x="597" y="180"/>
                  </a:lnTo>
                  <a:lnTo>
                    <a:pt x="600" y="183"/>
                  </a:lnTo>
                  <a:lnTo>
                    <a:pt x="600" y="189"/>
                  </a:lnTo>
                  <a:lnTo>
                    <a:pt x="597" y="192"/>
                  </a:lnTo>
                  <a:lnTo>
                    <a:pt x="594" y="192"/>
                  </a:lnTo>
                  <a:lnTo>
                    <a:pt x="585" y="183"/>
                  </a:lnTo>
                  <a:lnTo>
                    <a:pt x="579" y="174"/>
                  </a:lnTo>
                  <a:lnTo>
                    <a:pt x="576" y="168"/>
                  </a:lnTo>
                  <a:lnTo>
                    <a:pt x="576" y="156"/>
                  </a:lnTo>
                  <a:lnTo>
                    <a:pt x="576" y="147"/>
                  </a:lnTo>
                  <a:lnTo>
                    <a:pt x="579" y="138"/>
                  </a:lnTo>
                  <a:lnTo>
                    <a:pt x="597" y="123"/>
                  </a:lnTo>
                  <a:lnTo>
                    <a:pt x="588" y="117"/>
                  </a:lnTo>
                  <a:lnTo>
                    <a:pt x="579" y="111"/>
                  </a:lnTo>
                  <a:lnTo>
                    <a:pt x="573" y="102"/>
                  </a:lnTo>
                  <a:lnTo>
                    <a:pt x="567" y="93"/>
                  </a:lnTo>
                  <a:lnTo>
                    <a:pt x="564" y="81"/>
                  </a:lnTo>
                  <a:lnTo>
                    <a:pt x="561" y="72"/>
                  </a:lnTo>
                  <a:lnTo>
                    <a:pt x="564" y="66"/>
                  </a:lnTo>
                  <a:lnTo>
                    <a:pt x="567" y="57"/>
                  </a:lnTo>
                  <a:lnTo>
                    <a:pt x="570" y="51"/>
                  </a:lnTo>
                  <a:lnTo>
                    <a:pt x="573" y="45"/>
                  </a:lnTo>
                  <a:lnTo>
                    <a:pt x="576" y="42"/>
                  </a:lnTo>
                  <a:lnTo>
                    <a:pt x="585" y="39"/>
                  </a:lnTo>
                  <a:lnTo>
                    <a:pt x="591" y="39"/>
                  </a:lnTo>
                  <a:lnTo>
                    <a:pt x="594" y="39"/>
                  </a:lnTo>
                  <a:lnTo>
                    <a:pt x="597" y="42"/>
                  </a:lnTo>
                  <a:lnTo>
                    <a:pt x="597" y="48"/>
                  </a:lnTo>
                  <a:lnTo>
                    <a:pt x="597" y="51"/>
                  </a:lnTo>
                  <a:lnTo>
                    <a:pt x="597" y="54"/>
                  </a:lnTo>
                  <a:lnTo>
                    <a:pt x="597" y="57"/>
                  </a:lnTo>
                  <a:lnTo>
                    <a:pt x="597" y="60"/>
                  </a:lnTo>
                  <a:lnTo>
                    <a:pt x="597" y="63"/>
                  </a:lnTo>
                  <a:lnTo>
                    <a:pt x="600" y="66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3" y="72"/>
                  </a:lnTo>
                  <a:lnTo>
                    <a:pt x="606" y="75"/>
                  </a:lnTo>
                  <a:lnTo>
                    <a:pt x="609" y="78"/>
                  </a:lnTo>
                  <a:lnTo>
                    <a:pt x="612" y="81"/>
                  </a:lnTo>
                  <a:lnTo>
                    <a:pt x="618" y="81"/>
                  </a:lnTo>
                  <a:lnTo>
                    <a:pt x="621" y="78"/>
                  </a:lnTo>
                  <a:lnTo>
                    <a:pt x="624" y="72"/>
                  </a:lnTo>
                  <a:lnTo>
                    <a:pt x="627" y="66"/>
                  </a:lnTo>
                  <a:lnTo>
                    <a:pt x="630" y="63"/>
                  </a:lnTo>
                  <a:lnTo>
                    <a:pt x="636" y="60"/>
                  </a:lnTo>
                  <a:lnTo>
                    <a:pt x="642" y="57"/>
                  </a:lnTo>
                  <a:lnTo>
                    <a:pt x="645" y="54"/>
                  </a:lnTo>
                  <a:lnTo>
                    <a:pt x="654" y="57"/>
                  </a:lnTo>
                  <a:lnTo>
                    <a:pt x="660" y="57"/>
                  </a:lnTo>
                  <a:lnTo>
                    <a:pt x="666" y="60"/>
                  </a:lnTo>
                  <a:lnTo>
                    <a:pt x="672" y="63"/>
                  </a:lnTo>
                  <a:lnTo>
                    <a:pt x="675" y="66"/>
                  </a:lnTo>
                  <a:lnTo>
                    <a:pt x="681" y="69"/>
                  </a:lnTo>
                  <a:lnTo>
                    <a:pt x="681" y="72"/>
                  </a:lnTo>
                  <a:lnTo>
                    <a:pt x="681" y="78"/>
                  </a:lnTo>
                  <a:lnTo>
                    <a:pt x="678" y="81"/>
                  </a:lnTo>
                  <a:lnTo>
                    <a:pt x="678" y="84"/>
                  </a:lnTo>
                  <a:lnTo>
                    <a:pt x="675" y="87"/>
                  </a:lnTo>
                  <a:lnTo>
                    <a:pt x="675" y="93"/>
                  </a:lnTo>
                  <a:lnTo>
                    <a:pt x="669" y="90"/>
                  </a:lnTo>
                  <a:lnTo>
                    <a:pt x="666" y="90"/>
                  </a:lnTo>
                  <a:lnTo>
                    <a:pt x="660" y="87"/>
                  </a:lnTo>
                  <a:lnTo>
                    <a:pt x="657" y="87"/>
                  </a:lnTo>
                  <a:lnTo>
                    <a:pt x="651" y="90"/>
                  </a:lnTo>
                  <a:lnTo>
                    <a:pt x="648" y="96"/>
                  </a:lnTo>
                  <a:lnTo>
                    <a:pt x="651" y="108"/>
                  </a:lnTo>
                  <a:lnTo>
                    <a:pt x="657" y="123"/>
                  </a:lnTo>
                  <a:lnTo>
                    <a:pt x="663" y="135"/>
                  </a:lnTo>
                  <a:lnTo>
                    <a:pt x="669" y="147"/>
                  </a:lnTo>
                  <a:lnTo>
                    <a:pt x="675" y="159"/>
                  </a:lnTo>
                  <a:lnTo>
                    <a:pt x="675" y="171"/>
                  </a:lnTo>
                  <a:lnTo>
                    <a:pt x="675" y="186"/>
                  </a:lnTo>
                  <a:lnTo>
                    <a:pt x="675" y="198"/>
                  </a:lnTo>
                  <a:lnTo>
                    <a:pt x="672" y="213"/>
                  </a:lnTo>
                  <a:lnTo>
                    <a:pt x="669" y="225"/>
                  </a:lnTo>
                  <a:lnTo>
                    <a:pt x="666" y="237"/>
                  </a:lnTo>
                  <a:lnTo>
                    <a:pt x="660" y="249"/>
                  </a:lnTo>
                  <a:lnTo>
                    <a:pt x="666" y="258"/>
                  </a:lnTo>
                  <a:lnTo>
                    <a:pt x="672" y="270"/>
                  </a:lnTo>
                  <a:lnTo>
                    <a:pt x="675" y="282"/>
                  </a:lnTo>
                  <a:lnTo>
                    <a:pt x="675" y="294"/>
                  </a:lnTo>
                  <a:lnTo>
                    <a:pt x="675" y="303"/>
                  </a:lnTo>
                  <a:lnTo>
                    <a:pt x="669" y="315"/>
                  </a:lnTo>
                  <a:lnTo>
                    <a:pt x="666" y="318"/>
                  </a:lnTo>
                  <a:lnTo>
                    <a:pt x="663" y="321"/>
                  </a:lnTo>
                  <a:lnTo>
                    <a:pt x="657" y="321"/>
                  </a:lnTo>
                  <a:lnTo>
                    <a:pt x="654" y="321"/>
                  </a:lnTo>
                  <a:lnTo>
                    <a:pt x="648" y="324"/>
                  </a:lnTo>
                  <a:lnTo>
                    <a:pt x="642" y="324"/>
                  </a:lnTo>
                  <a:lnTo>
                    <a:pt x="639" y="318"/>
                  </a:lnTo>
                  <a:lnTo>
                    <a:pt x="639" y="309"/>
                  </a:lnTo>
                  <a:lnTo>
                    <a:pt x="642" y="303"/>
                  </a:lnTo>
                  <a:lnTo>
                    <a:pt x="642" y="297"/>
                  </a:lnTo>
                  <a:lnTo>
                    <a:pt x="642" y="288"/>
                  </a:lnTo>
                  <a:lnTo>
                    <a:pt x="633" y="285"/>
                  </a:lnTo>
                  <a:lnTo>
                    <a:pt x="624" y="297"/>
                  </a:lnTo>
                  <a:lnTo>
                    <a:pt x="615" y="312"/>
                  </a:lnTo>
                  <a:lnTo>
                    <a:pt x="606" y="327"/>
                  </a:lnTo>
                  <a:lnTo>
                    <a:pt x="600" y="342"/>
                  </a:lnTo>
                  <a:lnTo>
                    <a:pt x="600" y="360"/>
                  </a:lnTo>
                  <a:lnTo>
                    <a:pt x="603" y="375"/>
                  </a:lnTo>
                  <a:lnTo>
                    <a:pt x="612" y="405"/>
                  </a:lnTo>
                  <a:lnTo>
                    <a:pt x="618" y="399"/>
                  </a:lnTo>
                  <a:lnTo>
                    <a:pt x="624" y="396"/>
                  </a:lnTo>
                  <a:lnTo>
                    <a:pt x="630" y="396"/>
                  </a:lnTo>
                  <a:lnTo>
                    <a:pt x="636" y="396"/>
                  </a:lnTo>
                  <a:lnTo>
                    <a:pt x="642" y="396"/>
                  </a:lnTo>
                  <a:lnTo>
                    <a:pt x="648" y="396"/>
                  </a:lnTo>
                  <a:lnTo>
                    <a:pt x="651" y="399"/>
                  </a:lnTo>
                  <a:lnTo>
                    <a:pt x="657" y="402"/>
                  </a:lnTo>
                  <a:lnTo>
                    <a:pt x="660" y="405"/>
                  </a:lnTo>
                  <a:lnTo>
                    <a:pt x="666" y="408"/>
                  </a:lnTo>
                  <a:lnTo>
                    <a:pt x="666" y="411"/>
                  </a:lnTo>
                  <a:lnTo>
                    <a:pt x="663" y="417"/>
                  </a:lnTo>
                  <a:lnTo>
                    <a:pt x="657" y="417"/>
                  </a:lnTo>
                  <a:lnTo>
                    <a:pt x="651" y="420"/>
                  </a:lnTo>
                  <a:lnTo>
                    <a:pt x="645" y="426"/>
                  </a:lnTo>
                  <a:lnTo>
                    <a:pt x="639" y="429"/>
                  </a:lnTo>
                  <a:lnTo>
                    <a:pt x="633" y="429"/>
                  </a:lnTo>
                  <a:lnTo>
                    <a:pt x="627" y="4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8" name=""/>
            <p:cNvSpPr/>
            <p:nvPr/>
          </p:nvSpPr>
          <p:spPr>
            <a:xfrm flipH="1">
              <a:off x="1949400" y="885960"/>
              <a:ext cx="101520" cy="407880"/>
            </a:xfrm>
            <a:custGeom>
              <a:avLst/>
              <a:gdLst/>
              <a:ahLst/>
              <a:rect l="l" t="t" r="r" b="b"/>
              <a:pathLst>
                <a:path w="324" h="1116">
                  <a:moveTo>
                    <a:pt x="210" y="798"/>
                  </a:moveTo>
                  <a:lnTo>
                    <a:pt x="222" y="822"/>
                  </a:lnTo>
                  <a:lnTo>
                    <a:pt x="234" y="852"/>
                  </a:lnTo>
                  <a:lnTo>
                    <a:pt x="240" y="882"/>
                  </a:lnTo>
                  <a:lnTo>
                    <a:pt x="246" y="906"/>
                  </a:lnTo>
                  <a:lnTo>
                    <a:pt x="252" y="936"/>
                  </a:lnTo>
                  <a:lnTo>
                    <a:pt x="246" y="966"/>
                  </a:lnTo>
                  <a:lnTo>
                    <a:pt x="246" y="990"/>
                  </a:lnTo>
                  <a:lnTo>
                    <a:pt x="240" y="1014"/>
                  </a:lnTo>
                  <a:lnTo>
                    <a:pt x="228" y="1032"/>
                  </a:lnTo>
                  <a:lnTo>
                    <a:pt x="216" y="1056"/>
                  </a:lnTo>
                  <a:lnTo>
                    <a:pt x="204" y="1074"/>
                  </a:lnTo>
                  <a:lnTo>
                    <a:pt x="180" y="1086"/>
                  </a:lnTo>
                  <a:lnTo>
                    <a:pt x="150" y="1098"/>
                  </a:lnTo>
                  <a:lnTo>
                    <a:pt x="120" y="1110"/>
                  </a:lnTo>
                  <a:lnTo>
                    <a:pt x="90" y="1116"/>
                  </a:lnTo>
                  <a:lnTo>
                    <a:pt x="60" y="1116"/>
                  </a:lnTo>
                  <a:lnTo>
                    <a:pt x="30" y="1104"/>
                  </a:lnTo>
                  <a:lnTo>
                    <a:pt x="0" y="1086"/>
                  </a:lnTo>
                  <a:lnTo>
                    <a:pt x="0" y="1074"/>
                  </a:lnTo>
                  <a:lnTo>
                    <a:pt x="0" y="1062"/>
                  </a:lnTo>
                  <a:lnTo>
                    <a:pt x="6" y="1056"/>
                  </a:lnTo>
                  <a:lnTo>
                    <a:pt x="12" y="1050"/>
                  </a:lnTo>
                  <a:lnTo>
                    <a:pt x="12" y="1038"/>
                  </a:lnTo>
                  <a:lnTo>
                    <a:pt x="12" y="1032"/>
                  </a:lnTo>
                  <a:lnTo>
                    <a:pt x="24" y="1044"/>
                  </a:lnTo>
                  <a:lnTo>
                    <a:pt x="30" y="1056"/>
                  </a:lnTo>
                  <a:lnTo>
                    <a:pt x="42" y="1062"/>
                  </a:lnTo>
                  <a:lnTo>
                    <a:pt x="54" y="1074"/>
                  </a:lnTo>
                  <a:lnTo>
                    <a:pt x="66" y="1080"/>
                  </a:lnTo>
                  <a:lnTo>
                    <a:pt x="78" y="1086"/>
                  </a:lnTo>
                  <a:lnTo>
                    <a:pt x="96" y="1086"/>
                  </a:lnTo>
                  <a:lnTo>
                    <a:pt x="120" y="1080"/>
                  </a:lnTo>
                  <a:lnTo>
                    <a:pt x="138" y="1074"/>
                  </a:lnTo>
                  <a:lnTo>
                    <a:pt x="162" y="1056"/>
                  </a:lnTo>
                  <a:lnTo>
                    <a:pt x="180" y="1044"/>
                  </a:lnTo>
                  <a:lnTo>
                    <a:pt x="192" y="1020"/>
                  </a:lnTo>
                  <a:lnTo>
                    <a:pt x="204" y="990"/>
                  </a:lnTo>
                  <a:lnTo>
                    <a:pt x="210" y="966"/>
                  </a:lnTo>
                  <a:lnTo>
                    <a:pt x="210" y="936"/>
                  </a:lnTo>
                  <a:lnTo>
                    <a:pt x="204" y="906"/>
                  </a:lnTo>
                  <a:lnTo>
                    <a:pt x="198" y="882"/>
                  </a:lnTo>
                  <a:lnTo>
                    <a:pt x="186" y="852"/>
                  </a:lnTo>
                  <a:lnTo>
                    <a:pt x="168" y="834"/>
                  </a:lnTo>
                  <a:lnTo>
                    <a:pt x="150" y="816"/>
                  </a:lnTo>
                  <a:lnTo>
                    <a:pt x="126" y="804"/>
                  </a:lnTo>
                  <a:lnTo>
                    <a:pt x="108" y="786"/>
                  </a:lnTo>
                  <a:lnTo>
                    <a:pt x="96" y="768"/>
                  </a:lnTo>
                  <a:lnTo>
                    <a:pt x="90" y="738"/>
                  </a:lnTo>
                  <a:lnTo>
                    <a:pt x="102" y="744"/>
                  </a:lnTo>
                  <a:lnTo>
                    <a:pt x="114" y="744"/>
                  </a:lnTo>
                  <a:lnTo>
                    <a:pt x="120" y="744"/>
                  </a:lnTo>
                  <a:lnTo>
                    <a:pt x="132" y="744"/>
                  </a:lnTo>
                  <a:lnTo>
                    <a:pt x="138" y="744"/>
                  </a:lnTo>
                  <a:lnTo>
                    <a:pt x="150" y="738"/>
                  </a:lnTo>
                  <a:lnTo>
                    <a:pt x="156" y="726"/>
                  </a:lnTo>
                  <a:lnTo>
                    <a:pt x="150" y="714"/>
                  </a:lnTo>
                  <a:lnTo>
                    <a:pt x="144" y="708"/>
                  </a:lnTo>
                  <a:lnTo>
                    <a:pt x="138" y="696"/>
                  </a:lnTo>
                  <a:lnTo>
                    <a:pt x="138" y="684"/>
                  </a:lnTo>
                  <a:lnTo>
                    <a:pt x="138" y="678"/>
                  </a:lnTo>
                  <a:lnTo>
                    <a:pt x="144" y="606"/>
                  </a:lnTo>
                  <a:lnTo>
                    <a:pt x="156" y="540"/>
                  </a:lnTo>
                  <a:lnTo>
                    <a:pt x="180" y="480"/>
                  </a:lnTo>
                  <a:lnTo>
                    <a:pt x="210" y="426"/>
                  </a:lnTo>
                  <a:lnTo>
                    <a:pt x="240" y="366"/>
                  </a:lnTo>
                  <a:lnTo>
                    <a:pt x="270" y="300"/>
                  </a:lnTo>
                  <a:lnTo>
                    <a:pt x="270" y="288"/>
                  </a:lnTo>
                  <a:lnTo>
                    <a:pt x="276" y="270"/>
                  </a:lnTo>
                  <a:lnTo>
                    <a:pt x="270" y="252"/>
                  </a:lnTo>
                  <a:lnTo>
                    <a:pt x="264" y="234"/>
                  </a:lnTo>
                  <a:lnTo>
                    <a:pt x="258" y="222"/>
                  </a:lnTo>
                  <a:lnTo>
                    <a:pt x="246" y="210"/>
                  </a:lnTo>
                  <a:lnTo>
                    <a:pt x="240" y="204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10" y="198"/>
                  </a:lnTo>
                  <a:lnTo>
                    <a:pt x="198" y="204"/>
                  </a:lnTo>
                  <a:lnTo>
                    <a:pt x="192" y="204"/>
                  </a:lnTo>
                  <a:lnTo>
                    <a:pt x="180" y="216"/>
                  </a:lnTo>
                  <a:lnTo>
                    <a:pt x="174" y="222"/>
                  </a:lnTo>
                  <a:lnTo>
                    <a:pt x="168" y="228"/>
                  </a:lnTo>
                  <a:lnTo>
                    <a:pt x="168" y="240"/>
                  </a:lnTo>
                  <a:lnTo>
                    <a:pt x="162" y="246"/>
                  </a:lnTo>
                  <a:lnTo>
                    <a:pt x="162" y="258"/>
                  </a:lnTo>
                  <a:lnTo>
                    <a:pt x="156" y="246"/>
                  </a:lnTo>
                  <a:lnTo>
                    <a:pt x="156" y="240"/>
                  </a:lnTo>
                  <a:lnTo>
                    <a:pt x="156" y="228"/>
                  </a:lnTo>
                  <a:lnTo>
                    <a:pt x="156" y="216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68" y="186"/>
                  </a:lnTo>
                  <a:lnTo>
                    <a:pt x="174" y="180"/>
                  </a:lnTo>
                  <a:lnTo>
                    <a:pt x="186" y="174"/>
                  </a:lnTo>
                  <a:lnTo>
                    <a:pt x="192" y="162"/>
                  </a:lnTo>
                  <a:lnTo>
                    <a:pt x="198" y="156"/>
                  </a:lnTo>
                  <a:lnTo>
                    <a:pt x="204" y="144"/>
                  </a:lnTo>
                  <a:lnTo>
                    <a:pt x="186" y="132"/>
                  </a:lnTo>
                  <a:lnTo>
                    <a:pt x="168" y="120"/>
                  </a:lnTo>
                  <a:lnTo>
                    <a:pt x="150" y="108"/>
                  </a:lnTo>
                  <a:lnTo>
                    <a:pt x="138" y="90"/>
                  </a:lnTo>
                  <a:lnTo>
                    <a:pt x="132" y="72"/>
                  </a:lnTo>
                  <a:lnTo>
                    <a:pt x="132" y="54"/>
                  </a:lnTo>
                  <a:lnTo>
                    <a:pt x="132" y="42"/>
                  </a:lnTo>
                  <a:lnTo>
                    <a:pt x="132" y="36"/>
                  </a:lnTo>
                  <a:lnTo>
                    <a:pt x="138" y="24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56" y="36"/>
                  </a:lnTo>
                  <a:lnTo>
                    <a:pt x="162" y="48"/>
                  </a:lnTo>
                  <a:lnTo>
                    <a:pt x="162" y="54"/>
                  </a:lnTo>
                  <a:lnTo>
                    <a:pt x="174" y="66"/>
                  </a:lnTo>
                  <a:lnTo>
                    <a:pt x="186" y="72"/>
                  </a:lnTo>
                  <a:lnTo>
                    <a:pt x="198" y="78"/>
                  </a:lnTo>
                  <a:lnTo>
                    <a:pt x="210" y="84"/>
                  </a:lnTo>
                  <a:lnTo>
                    <a:pt x="222" y="78"/>
                  </a:lnTo>
                  <a:lnTo>
                    <a:pt x="234" y="78"/>
                  </a:lnTo>
                  <a:lnTo>
                    <a:pt x="240" y="72"/>
                  </a:lnTo>
                  <a:lnTo>
                    <a:pt x="246" y="60"/>
                  </a:lnTo>
                  <a:lnTo>
                    <a:pt x="252" y="48"/>
                  </a:lnTo>
                  <a:lnTo>
                    <a:pt x="264" y="42"/>
                  </a:lnTo>
                  <a:lnTo>
                    <a:pt x="270" y="36"/>
                  </a:lnTo>
                  <a:lnTo>
                    <a:pt x="282" y="30"/>
                  </a:lnTo>
                  <a:lnTo>
                    <a:pt x="294" y="36"/>
                  </a:lnTo>
                  <a:lnTo>
                    <a:pt x="300" y="36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24" y="60"/>
                  </a:lnTo>
                  <a:lnTo>
                    <a:pt x="312" y="54"/>
                  </a:lnTo>
                  <a:lnTo>
                    <a:pt x="294" y="54"/>
                  </a:lnTo>
                  <a:lnTo>
                    <a:pt x="282" y="60"/>
                  </a:lnTo>
                  <a:lnTo>
                    <a:pt x="276" y="66"/>
                  </a:lnTo>
                  <a:lnTo>
                    <a:pt x="264" y="78"/>
                  </a:lnTo>
                  <a:lnTo>
                    <a:pt x="252" y="90"/>
                  </a:lnTo>
                  <a:lnTo>
                    <a:pt x="264" y="120"/>
                  </a:lnTo>
                  <a:lnTo>
                    <a:pt x="276" y="150"/>
                  </a:lnTo>
                  <a:lnTo>
                    <a:pt x="288" y="174"/>
                  </a:lnTo>
                  <a:lnTo>
                    <a:pt x="300" y="198"/>
                  </a:lnTo>
                  <a:lnTo>
                    <a:pt x="312" y="228"/>
                  </a:lnTo>
                  <a:lnTo>
                    <a:pt x="318" y="258"/>
                  </a:lnTo>
                  <a:lnTo>
                    <a:pt x="312" y="282"/>
                  </a:lnTo>
                  <a:lnTo>
                    <a:pt x="306" y="306"/>
                  </a:lnTo>
                  <a:lnTo>
                    <a:pt x="306" y="330"/>
                  </a:lnTo>
                  <a:lnTo>
                    <a:pt x="306" y="354"/>
                  </a:lnTo>
                  <a:lnTo>
                    <a:pt x="300" y="378"/>
                  </a:lnTo>
                  <a:lnTo>
                    <a:pt x="282" y="396"/>
                  </a:lnTo>
                  <a:lnTo>
                    <a:pt x="288" y="396"/>
                  </a:lnTo>
                  <a:lnTo>
                    <a:pt x="288" y="402"/>
                  </a:lnTo>
                  <a:lnTo>
                    <a:pt x="288" y="408"/>
                  </a:lnTo>
                  <a:lnTo>
                    <a:pt x="288" y="414"/>
                  </a:lnTo>
                  <a:lnTo>
                    <a:pt x="282" y="420"/>
                  </a:lnTo>
                  <a:lnTo>
                    <a:pt x="288" y="426"/>
                  </a:lnTo>
                  <a:lnTo>
                    <a:pt x="294" y="432"/>
                  </a:lnTo>
                  <a:lnTo>
                    <a:pt x="306" y="444"/>
                  </a:lnTo>
                  <a:lnTo>
                    <a:pt x="312" y="462"/>
                  </a:lnTo>
                  <a:lnTo>
                    <a:pt x="312" y="474"/>
                  </a:lnTo>
                  <a:lnTo>
                    <a:pt x="312" y="486"/>
                  </a:lnTo>
                  <a:lnTo>
                    <a:pt x="318" y="504"/>
                  </a:lnTo>
                  <a:lnTo>
                    <a:pt x="318" y="510"/>
                  </a:lnTo>
                  <a:lnTo>
                    <a:pt x="312" y="516"/>
                  </a:lnTo>
                  <a:lnTo>
                    <a:pt x="306" y="522"/>
                  </a:lnTo>
                  <a:lnTo>
                    <a:pt x="300" y="528"/>
                  </a:lnTo>
                  <a:lnTo>
                    <a:pt x="294" y="528"/>
                  </a:lnTo>
                  <a:lnTo>
                    <a:pt x="282" y="534"/>
                  </a:lnTo>
                  <a:lnTo>
                    <a:pt x="288" y="522"/>
                  </a:lnTo>
                  <a:lnTo>
                    <a:pt x="294" y="510"/>
                  </a:lnTo>
                  <a:lnTo>
                    <a:pt x="294" y="498"/>
                  </a:lnTo>
                  <a:lnTo>
                    <a:pt x="294" y="486"/>
                  </a:lnTo>
                  <a:lnTo>
                    <a:pt x="294" y="474"/>
                  </a:lnTo>
                  <a:lnTo>
                    <a:pt x="288" y="462"/>
                  </a:lnTo>
                  <a:lnTo>
                    <a:pt x="282" y="456"/>
                  </a:lnTo>
                  <a:lnTo>
                    <a:pt x="276" y="450"/>
                  </a:lnTo>
                  <a:lnTo>
                    <a:pt x="270" y="450"/>
                  </a:lnTo>
                  <a:lnTo>
                    <a:pt x="258" y="450"/>
                  </a:lnTo>
                  <a:lnTo>
                    <a:pt x="252" y="450"/>
                  </a:lnTo>
                  <a:lnTo>
                    <a:pt x="246" y="450"/>
                  </a:lnTo>
                  <a:lnTo>
                    <a:pt x="228" y="468"/>
                  </a:lnTo>
                  <a:lnTo>
                    <a:pt x="210" y="492"/>
                  </a:lnTo>
                  <a:lnTo>
                    <a:pt x="198" y="516"/>
                  </a:lnTo>
                  <a:lnTo>
                    <a:pt x="186" y="540"/>
                  </a:lnTo>
                  <a:lnTo>
                    <a:pt x="174" y="564"/>
                  </a:lnTo>
                  <a:lnTo>
                    <a:pt x="168" y="588"/>
                  </a:lnTo>
                  <a:lnTo>
                    <a:pt x="168" y="618"/>
                  </a:lnTo>
                  <a:lnTo>
                    <a:pt x="168" y="642"/>
                  </a:lnTo>
                  <a:lnTo>
                    <a:pt x="174" y="666"/>
                  </a:lnTo>
                  <a:lnTo>
                    <a:pt x="180" y="696"/>
                  </a:lnTo>
                  <a:lnTo>
                    <a:pt x="186" y="720"/>
                  </a:lnTo>
                  <a:lnTo>
                    <a:pt x="198" y="750"/>
                  </a:lnTo>
                  <a:lnTo>
                    <a:pt x="216" y="738"/>
                  </a:lnTo>
                  <a:lnTo>
                    <a:pt x="228" y="732"/>
                  </a:lnTo>
                  <a:lnTo>
                    <a:pt x="246" y="720"/>
                  </a:lnTo>
                  <a:lnTo>
                    <a:pt x="258" y="714"/>
                  </a:lnTo>
                  <a:lnTo>
                    <a:pt x="270" y="714"/>
                  </a:lnTo>
                  <a:lnTo>
                    <a:pt x="288" y="726"/>
                  </a:lnTo>
                  <a:lnTo>
                    <a:pt x="276" y="732"/>
                  </a:lnTo>
                  <a:lnTo>
                    <a:pt x="252" y="744"/>
                  </a:lnTo>
                  <a:lnTo>
                    <a:pt x="234" y="750"/>
                  </a:lnTo>
                  <a:lnTo>
                    <a:pt x="216" y="762"/>
                  </a:lnTo>
                  <a:lnTo>
                    <a:pt x="210" y="774"/>
                  </a:lnTo>
                  <a:lnTo>
                    <a:pt x="210" y="798"/>
                  </a:lnTo>
                  <a:close/>
                </a:path>
              </a:pathLst>
            </a:custGeom>
            <a:solidFill>
              <a:srgbClr val="4d4d4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9" name=""/>
            <p:cNvSpPr/>
            <p:nvPr/>
          </p:nvSpPr>
          <p:spPr>
            <a:xfrm flipH="1">
              <a:off x="2033640" y="860400"/>
              <a:ext cx="328320" cy="595440"/>
            </a:xfrm>
            <a:custGeom>
              <a:avLst/>
              <a:gdLst/>
              <a:ahLst/>
              <a:rect l="l" t="t" r="r" b="b"/>
              <a:pathLst>
                <a:path w="1050" h="1632">
                  <a:moveTo>
                    <a:pt x="906" y="1548"/>
                  </a:moveTo>
                  <a:lnTo>
                    <a:pt x="900" y="1560"/>
                  </a:lnTo>
                  <a:lnTo>
                    <a:pt x="888" y="1560"/>
                  </a:lnTo>
                  <a:lnTo>
                    <a:pt x="882" y="1566"/>
                  </a:lnTo>
                  <a:lnTo>
                    <a:pt x="870" y="1572"/>
                  </a:lnTo>
                  <a:lnTo>
                    <a:pt x="864" y="1572"/>
                  </a:lnTo>
                  <a:lnTo>
                    <a:pt x="852" y="1578"/>
                  </a:lnTo>
                  <a:lnTo>
                    <a:pt x="846" y="1578"/>
                  </a:lnTo>
                  <a:lnTo>
                    <a:pt x="834" y="1584"/>
                  </a:lnTo>
                  <a:lnTo>
                    <a:pt x="822" y="1590"/>
                  </a:lnTo>
                  <a:lnTo>
                    <a:pt x="810" y="1602"/>
                  </a:lnTo>
                  <a:lnTo>
                    <a:pt x="798" y="1608"/>
                  </a:lnTo>
                  <a:lnTo>
                    <a:pt x="786" y="1620"/>
                  </a:lnTo>
                  <a:lnTo>
                    <a:pt x="780" y="1632"/>
                  </a:lnTo>
                  <a:lnTo>
                    <a:pt x="774" y="1620"/>
                  </a:lnTo>
                  <a:lnTo>
                    <a:pt x="762" y="1614"/>
                  </a:lnTo>
                  <a:lnTo>
                    <a:pt x="750" y="1608"/>
                  </a:lnTo>
                  <a:lnTo>
                    <a:pt x="738" y="1608"/>
                  </a:lnTo>
                  <a:lnTo>
                    <a:pt x="720" y="1614"/>
                  </a:lnTo>
                  <a:lnTo>
                    <a:pt x="708" y="1614"/>
                  </a:lnTo>
                  <a:lnTo>
                    <a:pt x="738" y="1596"/>
                  </a:lnTo>
                  <a:lnTo>
                    <a:pt x="774" y="1578"/>
                  </a:lnTo>
                  <a:lnTo>
                    <a:pt x="816" y="1566"/>
                  </a:lnTo>
                  <a:lnTo>
                    <a:pt x="852" y="1554"/>
                  </a:lnTo>
                  <a:lnTo>
                    <a:pt x="882" y="1530"/>
                  </a:lnTo>
                  <a:lnTo>
                    <a:pt x="906" y="1488"/>
                  </a:lnTo>
                  <a:lnTo>
                    <a:pt x="912" y="1464"/>
                  </a:lnTo>
                  <a:lnTo>
                    <a:pt x="924" y="1434"/>
                  </a:lnTo>
                  <a:lnTo>
                    <a:pt x="930" y="1410"/>
                  </a:lnTo>
                  <a:lnTo>
                    <a:pt x="936" y="1380"/>
                  </a:lnTo>
                  <a:lnTo>
                    <a:pt x="930" y="1350"/>
                  </a:lnTo>
                  <a:lnTo>
                    <a:pt x="924" y="1326"/>
                  </a:lnTo>
                  <a:lnTo>
                    <a:pt x="906" y="1326"/>
                  </a:lnTo>
                  <a:lnTo>
                    <a:pt x="888" y="1326"/>
                  </a:lnTo>
                  <a:lnTo>
                    <a:pt x="870" y="1326"/>
                  </a:lnTo>
                  <a:lnTo>
                    <a:pt x="852" y="1320"/>
                  </a:lnTo>
                  <a:lnTo>
                    <a:pt x="834" y="1308"/>
                  </a:lnTo>
                  <a:lnTo>
                    <a:pt x="816" y="1296"/>
                  </a:lnTo>
                  <a:lnTo>
                    <a:pt x="816" y="1284"/>
                  </a:lnTo>
                  <a:lnTo>
                    <a:pt x="822" y="1272"/>
                  </a:lnTo>
                  <a:lnTo>
                    <a:pt x="834" y="1266"/>
                  </a:lnTo>
                  <a:lnTo>
                    <a:pt x="840" y="1254"/>
                  </a:lnTo>
                  <a:lnTo>
                    <a:pt x="840" y="1248"/>
                  </a:lnTo>
                  <a:lnTo>
                    <a:pt x="828" y="1236"/>
                  </a:lnTo>
                  <a:lnTo>
                    <a:pt x="810" y="1242"/>
                  </a:lnTo>
                  <a:lnTo>
                    <a:pt x="804" y="1254"/>
                  </a:lnTo>
                  <a:lnTo>
                    <a:pt x="798" y="1272"/>
                  </a:lnTo>
                  <a:lnTo>
                    <a:pt x="792" y="1290"/>
                  </a:lnTo>
                  <a:lnTo>
                    <a:pt x="786" y="1302"/>
                  </a:lnTo>
                  <a:lnTo>
                    <a:pt x="780" y="1320"/>
                  </a:lnTo>
                  <a:lnTo>
                    <a:pt x="780" y="1326"/>
                  </a:lnTo>
                  <a:lnTo>
                    <a:pt x="780" y="1332"/>
                  </a:lnTo>
                  <a:lnTo>
                    <a:pt x="780" y="1338"/>
                  </a:lnTo>
                  <a:lnTo>
                    <a:pt x="786" y="1344"/>
                  </a:lnTo>
                  <a:lnTo>
                    <a:pt x="786" y="1350"/>
                  </a:lnTo>
                  <a:lnTo>
                    <a:pt x="774" y="1344"/>
                  </a:lnTo>
                  <a:lnTo>
                    <a:pt x="768" y="1350"/>
                  </a:lnTo>
                  <a:lnTo>
                    <a:pt x="756" y="1362"/>
                  </a:lnTo>
                  <a:lnTo>
                    <a:pt x="750" y="1374"/>
                  </a:lnTo>
                  <a:lnTo>
                    <a:pt x="738" y="1386"/>
                  </a:lnTo>
                  <a:lnTo>
                    <a:pt x="732" y="1398"/>
                  </a:lnTo>
                  <a:lnTo>
                    <a:pt x="726" y="1416"/>
                  </a:lnTo>
                  <a:lnTo>
                    <a:pt x="726" y="1404"/>
                  </a:lnTo>
                  <a:lnTo>
                    <a:pt x="720" y="1392"/>
                  </a:lnTo>
                  <a:lnTo>
                    <a:pt x="714" y="1374"/>
                  </a:lnTo>
                  <a:lnTo>
                    <a:pt x="708" y="1362"/>
                  </a:lnTo>
                  <a:lnTo>
                    <a:pt x="702" y="1350"/>
                  </a:lnTo>
                  <a:lnTo>
                    <a:pt x="696" y="1344"/>
                  </a:lnTo>
                  <a:lnTo>
                    <a:pt x="696" y="1338"/>
                  </a:lnTo>
                  <a:lnTo>
                    <a:pt x="702" y="1338"/>
                  </a:lnTo>
                  <a:lnTo>
                    <a:pt x="708" y="1332"/>
                  </a:lnTo>
                  <a:lnTo>
                    <a:pt x="714" y="1326"/>
                  </a:lnTo>
                  <a:lnTo>
                    <a:pt x="720" y="1320"/>
                  </a:lnTo>
                  <a:lnTo>
                    <a:pt x="726" y="1314"/>
                  </a:lnTo>
                  <a:lnTo>
                    <a:pt x="726" y="1308"/>
                  </a:lnTo>
                  <a:lnTo>
                    <a:pt x="732" y="1308"/>
                  </a:lnTo>
                  <a:lnTo>
                    <a:pt x="732" y="1302"/>
                  </a:lnTo>
                  <a:lnTo>
                    <a:pt x="732" y="1290"/>
                  </a:lnTo>
                  <a:lnTo>
                    <a:pt x="732" y="1284"/>
                  </a:lnTo>
                  <a:lnTo>
                    <a:pt x="738" y="1278"/>
                  </a:lnTo>
                  <a:lnTo>
                    <a:pt x="732" y="1224"/>
                  </a:lnTo>
                  <a:lnTo>
                    <a:pt x="732" y="1176"/>
                  </a:lnTo>
                  <a:lnTo>
                    <a:pt x="738" y="1134"/>
                  </a:lnTo>
                  <a:lnTo>
                    <a:pt x="756" y="1092"/>
                  </a:lnTo>
                  <a:lnTo>
                    <a:pt x="780" y="1056"/>
                  </a:lnTo>
                  <a:lnTo>
                    <a:pt x="816" y="1020"/>
                  </a:lnTo>
                  <a:lnTo>
                    <a:pt x="822" y="1002"/>
                  </a:lnTo>
                  <a:lnTo>
                    <a:pt x="822" y="984"/>
                  </a:lnTo>
                  <a:lnTo>
                    <a:pt x="822" y="966"/>
                  </a:lnTo>
                  <a:lnTo>
                    <a:pt x="816" y="954"/>
                  </a:lnTo>
                  <a:lnTo>
                    <a:pt x="810" y="942"/>
                  </a:lnTo>
                  <a:lnTo>
                    <a:pt x="792" y="930"/>
                  </a:lnTo>
                  <a:lnTo>
                    <a:pt x="738" y="918"/>
                  </a:lnTo>
                  <a:lnTo>
                    <a:pt x="690" y="888"/>
                  </a:lnTo>
                  <a:lnTo>
                    <a:pt x="642" y="858"/>
                  </a:lnTo>
                  <a:lnTo>
                    <a:pt x="594" y="822"/>
                  </a:lnTo>
                  <a:lnTo>
                    <a:pt x="546" y="786"/>
                  </a:lnTo>
                  <a:lnTo>
                    <a:pt x="504" y="750"/>
                  </a:lnTo>
                  <a:lnTo>
                    <a:pt x="498" y="720"/>
                  </a:lnTo>
                  <a:lnTo>
                    <a:pt x="480" y="714"/>
                  </a:lnTo>
                  <a:lnTo>
                    <a:pt x="456" y="708"/>
                  </a:lnTo>
                  <a:lnTo>
                    <a:pt x="426" y="714"/>
                  </a:lnTo>
                  <a:lnTo>
                    <a:pt x="402" y="708"/>
                  </a:lnTo>
                  <a:lnTo>
                    <a:pt x="384" y="690"/>
                  </a:lnTo>
                  <a:lnTo>
                    <a:pt x="354" y="666"/>
                  </a:lnTo>
                  <a:lnTo>
                    <a:pt x="324" y="660"/>
                  </a:lnTo>
                  <a:lnTo>
                    <a:pt x="300" y="660"/>
                  </a:lnTo>
                  <a:lnTo>
                    <a:pt x="270" y="666"/>
                  </a:lnTo>
                  <a:lnTo>
                    <a:pt x="240" y="672"/>
                  </a:lnTo>
                  <a:lnTo>
                    <a:pt x="216" y="684"/>
                  </a:lnTo>
                  <a:lnTo>
                    <a:pt x="198" y="708"/>
                  </a:lnTo>
                  <a:lnTo>
                    <a:pt x="180" y="732"/>
                  </a:lnTo>
                  <a:lnTo>
                    <a:pt x="156" y="750"/>
                  </a:lnTo>
                  <a:lnTo>
                    <a:pt x="138" y="768"/>
                  </a:lnTo>
                  <a:lnTo>
                    <a:pt x="114" y="780"/>
                  </a:lnTo>
                  <a:lnTo>
                    <a:pt x="90" y="804"/>
                  </a:lnTo>
                  <a:lnTo>
                    <a:pt x="84" y="804"/>
                  </a:lnTo>
                  <a:lnTo>
                    <a:pt x="72" y="804"/>
                  </a:lnTo>
                  <a:lnTo>
                    <a:pt x="66" y="804"/>
                  </a:lnTo>
                  <a:lnTo>
                    <a:pt x="54" y="804"/>
                  </a:lnTo>
                  <a:lnTo>
                    <a:pt x="48" y="810"/>
                  </a:lnTo>
                  <a:lnTo>
                    <a:pt x="42" y="816"/>
                  </a:lnTo>
                  <a:lnTo>
                    <a:pt x="48" y="828"/>
                  </a:lnTo>
                  <a:lnTo>
                    <a:pt x="54" y="834"/>
                  </a:lnTo>
                  <a:lnTo>
                    <a:pt x="66" y="840"/>
                  </a:lnTo>
                  <a:lnTo>
                    <a:pt x="72" y="852"/>
                  </a:lnTo>
                  <a:lnTo>
                    <a:pt x="72" y="858"/>
                  </a:lnTo>
                  <a:lnTo>
                    <a:pt x="72" y="876"/>
                  </a:lnTo>
                  <a:lnTo>
                    <a:pt x="78" y="882"/>
                  </a:lnTo>
                  <a:lnTo>
                    <a:pt x="78" y="888"/>
                  </a:lnTo>
                  <a:lnTo>
                    <a:pt x="84" y="894"/>
                  </a:lnTo>
                  <a:lnTo>
                    <a:pt x="84" y="900"/>
                  </a:lnTo>
                  <a:lnTo>
                    <a:pt x="90" y="912"/>
                  </a:lnTo>
                  <a:lnTo>
                    <a:pt x="90" y="918"/>
                  </a:lnTo>
                  <a:lnTo>
                    <a:pt x="78" y="912"/>
                  </a:lnTo>
                  <a:lnTo>
                    <a:pt x="66" y="918"/>
                  </a:lnTo>
                  <a:lnTo>
                    <a:pt x="54" y="918"/>
                  </a:lnTo>
                  <a:lnTo>
                    <a:pt x="42" y="930"/>
                  </a:lnTo>
                  <a:lnTo>
                    <a:pt x="30" y="936"/>
                  </a:lnTo>
                  <a:lnTo>
                    <a:pt x="18" y="942"/>
                  </a:lnTo>
                  <a:lnTo>
                    <a:pt x="18" y="948"/>
                  </a:lnTo>
                  <a:lnTo>
                    <a:pt x="18" y="954"/>
                  </a:lnTo>
                  <a:lnTo>
                    <a:pt x="12" y="960"/>
                  </a:lnTo>
                  <a:lnTo>
                    <a:pt x="6" y="966"/>
                  </a:lnTo>
                  <a:lnTo>
                    <a:pt x="0" y="972"/>
                  </a:lnTo>
                  <a:lnTo>
                    <a:pt x="12" y="942"/>
                  </a:lnTo>
                  <a:lnTo>
                    <a:pt x="18" y="912"/>
                  </a:lnTo>
                  <a:lnTo>
                    <a:pt x="24" y="876"/>
                  </a:lnTo>
                  <a:lnTo>
                    <a:pt x="30" y="846"/>
                  </a:lnTo>
                  <a:lnTo>
                    <a:pt x="42" y="816"/>
                  </a:lnTo>
                  <a:lnTo>
                    <a:pt x="54" y="792"/>
                  </a:lnTo>
                  <a:lnTo>
                    <a:pt x="78" y="762"/>
                  </a:lnTo>
                  <a:lnTo>
                    <a:pt x="108" y="738"/>
                  </a:lnTo>
                  <a:lnTo>
                    <a:pt x="138" y="714"/>
                  </a:lnTo>
                  <a:lnTo>
                    <a:pt x="162" y="690"/>
                  </a:lnTo>
                  <a:lnTo>
                    <a:pt x="186" y="666"/>
                  </a:lnTo>
                  <a:lnTo>
                    <a:pt x="210" y="636"/>
                  </a:lnTo>
                  <a:lnTo>
                    <a:pt x="228" y="630"/>
                  </a:lnTo>
                  <a:lnTo>
                    <a:pt x="246" y="624"/>
                  </a:lnTo>
                  <a:lnTo>
                    <a:pt x="258" y="618"/>
                  </a:lnTo>
                  <a:lnTo>
                    <a:pt x="276" y="618"/>
                  </a:lnTo>
                  <a:lnTo>
                    <a:pt x="294" y="624"/>
                  </a:lnTo>
                  <a:lnTo>
                    <a:pt x="312" y="630"/>
                  </a:lnTo>
                  <a:lnTo>
                    <a:pt x="324" y="624"/>
                  </a:lnTo>
                  <a:lnTo>
                    <a:pt x="336" y="624"/>
                  </a:lnTo>
                  <a:lnTo>
                    <a:pt x="348" y="624"/>
                  </a:lnTo>
                  <a:lnTo>
                    <a:pt x="354" y="630"/>
                  </a:lnTo>
                  <a:lnTo>
                    <a:pt x="366" y="630"/>
                  </a:lnTo>
                  <a:lnTo>
                    <a:pt x="378" y="618"/>
                  </a:lnTo>
                  <a:lnTo>
                    <a:pt x="396" y="624"/>
                  </a:lnTo>
                  <a:lnTo>
                    <a:pt x="420" y="624"/>
                  </a:lnTo>
                  <a:lnTo>
                    <a:pt x="438" y="624"/>
                  </a:lnTo>
                  <a:lnTo>
                    <a:pt x="450" y="630"/>
                  </a:lnTo>
                  <a:lnTo>
                    <a:pt x="462" y="642"/>
                  </a:lnTo>
                  <a:lnTo>
                    <a:pt x="462" y="666"/>
                  </a:lnTo>
                  <a:lnTo>
                    <a:pt x="468" y="672"/>
                  </a:lnTo>
                  <a:lnTo>
                    <a:pt x="480" y="666"/>
                  </a:lnTo>
                  <a:lnTo>
                    <a:pt x="486" y="654"/>
                  </a:lnTo>
                  <a:lnTo>
                    <a:pt x="486" y="648"/>
                  </a:lnTo>
                  <a:lnTo>
                    <a:pt x="480" y="636"/>
                  </a:lnTo>
                  <a:lnTo>
                    <a:pt x="480" y="624"/>
                  </a:lnTo>
                  <a:lnTo>
                    <a:pt x="480" y="612"/>
                  </a:lnTo>
                  <a:lnTo>
                    <a:pt x="474" y="606"/>
                  </a:lnTo>
                  <a:lnTo>
                    <a:pt x="468" y="600"/>
                  </a:lnTo>
                  <a:lnTo>
                    <a:pt x="468" y="594"/>
                  </a:lnTo>
                  <a:lnTo>
                    <a:pt x="468" y="588"/>
                  </a:lnTo>
                  <a:lnTo>
                    <a:pt x="468" y="582"/>
                  </a:lnTo>
                  <a:lnTo>
                    <a:pt x="474" y="564"/>
                  </a:lnTo>
                  <a:lnTo>
                    <a:pt x="486" y="552"/>
                  </a:lnTo>
                  <a:lnTo>
                    <a:pt x="498" y="540"/>
                  </a:lnTo>
                  <a:lnTo>
                    <a:pt x="510" y="528"/>
                  </a:lnTo>
                  <a:lnTo>
                    <a:pt x="528" y="516"/>
                  </a:lnTo>
                  <a:lnTo>
                    <a:pt x="540" y="510"/>
                  </a:lnTo>
                  <a:lnTo>
                    <a:pt x="558" y="504"/>
                  </a:lnTo>
                  <a:lnTo>
                    <a:pt x="576" y="504"/>
                  </a:lnTo>
                  <a:lnTo>
                    <a:pt x="594" y="504"/>
                  </a:lnTo>
                  <a:lnTo>
                    <a:pt x="612" y="504"/>
                  </a:lnTo>
                  <a:lnTo>
                    <a:pt x="624" y="504"/>
                  </a:lnTo>
                  <a:lnTo>
                    <a:pt x="642" y="504"/>
                  </a:lnTo>
                  <a:lnTo>
                    <a:pt x="642" y="498"/>
                  </a:lnTo>
                  <a:lnTo>
                    <a:pt x="642" y="492"/>
                  </a:lnTo>
                  <a:lnTo>
                    <a:pt x="636" y="492"/>
                  </a:lnTo>
                  <a:lnTo>
                    <a:pt x="630" y="486"/>
                  </a:lnTo>
                  <a:lnTo>
                    <a:pt x="624" y="486"/>
                  </a:lnTo>
                  <a:lnTo>
                    <a:pt x="594" y="480"/>
                  </a:lnTo>
                  <a:lnTo>
                    <a:pt x="564" y="480"/>
                  </a:lnTo>
                  <a:lnTo>
                    <a:pt x="534" y="486"/>
                  </a:lnTo>
                  <a:lnTo>
                    <a:pt x="510" y="498"/>
                  </a:lnTo>
                  <a:lnTo>
                    <a:pt x="486" y="516"/>
                  </a:lnTo>
                  <a:lnTo>
                    <a:pt x="468" y="534"/>
                  </a:lnTo>
                  <a:lnTo>
                    <a:pt x="474" y="510"/>
                  </a:lnTo>
                  <a:lnTo>
                    <a:pt x="486" y="492"/>
                  </a:lnTo>
                  <a:lnTo>
                    <a:pt x="498" y="474"/>
                  </a:lnTo>
                  <a:lnTo>
                    <a:pt x="516" y="456"/>
                  </a:lnTo>
                  <a:lnTo>
                    <a:pt x="534" y="444"/>
                  </a:lnTo>
                  <a:lnTo>
                    <a:pt x="558" y="432"/>
                  </a:lnTo>
                  <a:lnTo>
                    <a:pt x="576" y="432"/>
                  </a:lnTo>
                  <a:lnTo>
                    <a:pt x="600" y="426"/>
                  </a:lnTo>
                  <a:lnTo>
                    <a:pt x="618" y="420"/>
                  </a:lnTo>
                  <a:lnTo>
                    <a:pt x="636" y="402"/>
                  </a:lnTo>
                  <a:lnTo>
                    <a:pt x="654" y="390"/>
                  </a:lnTo>
                  <a:lnTo>
                    <a:pt x="672" y="372"/>
                  </a:lnTo>
                  <a:lnTo>
                    <a:pt x="684" y="342"/>
                  </a:lnTo>
                  <a:lnTo>
                    <a:pt x="684" y="318"/>
                  </a:lnTo>
                  <a:lnTo>
                    <a:pt x="684" y="288"/>
                  </a:lnTo>
                  <a:lnTo>
                    <a:pt x="678" y="258"/>
                  </a:lnTo>
                  <a:lnTo>
                    <a:pt x="684" y="234"/>
                  </a:lnTo>
                  <a:lnTo>
                    <a:pt x="702" y="210"/>
                  </a:lnTo>
                  <a:lnTo>
                    <a:pt x="702" y="204"/>
                  </a:lnTo>
                  <a:lnTo>
                    <a:pt x="702" y="198"/>
                  </a:lnTo>
                  <a:lnTo>
                    <a:pt x="702" y="192"/>
                  </a:lnTo>
                  <a:lnTo>
                    <a:pt x="702" y="186"/>
                  </a:lnTo>
                  <a:lnTo>
                    <a:pt x="702" y="180"/>
                  </a:lnTo>
                  <a:lnTo>
                    <a:pt x="702" y="174"/>
                  </a:lnTo>
                  <a:lnTo>
                    <a:pt x="690" y="174"/>
                  </a:lnTo>
                  <a:lnTo>
                    <a:pt x="684" y="180"/>
                  </a:lnTo>
                  <a:lnTo>
                    <a:pt x="684" y="192"/>
                  </a:lnTo>
                  <a:lnTo>
                    <a:pt x="684" y="204"/>
                  </a:lnTo>
                  <a:lnTo>
                    <a:pt x="678" y="216"/>
                  </a:lnTo>
                  <a:lnTo>
                    <a:pt x="672" y="222"/>
                  </a:lnTo>
                  <a:lnTo>
                    <a:pt x="666" y="234"/>
                  </a:lnTo>
                  <a:lnTo>
                    <a:pt x="660" y="240"/>
                  </a:lnTo>
                  <a:lnTo>
                    <a:pt x="648" y="246"/>
                  </a:lnTo>
                  <a:lnTo>
                    <a:pt x="642" y="252"/>
                  </a:lnTo>
                  <a:lnTo>
                    <a:pt x="630" y="258"/>
                  </a:lnTo>
                  <a:lnTo>
                    <a:pt x="618" y="258"/>
                  </a:lnTo>
                  <a:lnTo>
                    <a:pt x="612" y="258"/>
                  </a:lnTo>
                  <a:lnTo>
                    <a:pt x="606" y="258"/>
                  </a:lnTo>
                  <a:lnTo>
                    <a:pt x="600" y="258"/>
                  </a:lnTo>
                  <a:lnTo>
                    <a:pt x="594" y="258"/>
                  </a:lnTo>
                  <a:lnTo>
                    <a:pt x="588" y="258"/>
                  </a:lnTo>
                  <a:lnTo>
                    <a:pt x="582" y="270"/>
                  </a:lnTo>
                  <a:lnTo>
                    <a:pt x="576" y="276"/>
                  </a:lnTo>
                  <a:lnTo>
                    <a:pt x="570" y="282"/>
                  </a:lnTo>
                  <a:lnTo>
                    <a:pt x="564" y="288"/>
                  </a:lnTo>
                  <a:lnTo>
                    <a:pt x="564" y="294"/>
                  </a:lnTo>
                  <a:lnTo>
                    <a:pt x="564" y="306"/>
                  </a:lnTo>
                  <a:lnTo>
                    <a:pt x="558" y="318"/>
                  </a:lnTo>
                  <a:lnTo>
                    <a:pt x="552" y="330"/>
                  </a:lnTo>
                  <a:lnTo>
                    <a:pt x="540" y="342"/>
                  </a:lnTo>
                  <a:lnTo>
                    <a:pt x="534" y="354"/>
                  </a:lnTo>
                  <a:lnTo>
                    <a:pt x="534" y="366"/>
                  </a:lnTo>
                  <a:lnTo>
                    <a:pt x="534" y="378"/>
                  </a:lnTo>
                  <a:lnTo>
                    <a:pt x="528" y="366"/>
                  </a:lnTo>
                  <a:lnTo>
                    <a:pt x="528" y="354"/>
                  </a:lnTo>
                  <a:lnTo>
                    <a:pt x="534" y="342"/>
                  </a:lnTo>
                  <a:lnTo>
                    <a:pt x="534" y="336"/>
                  </a:lnTo>
                  <a:lnTo>
                    <a:pt x="528" y="330"/>
                  </a:lnTo>
                  <a:lnTo>
                    <a:pt x="510" y="324"/>
                  </a:lnTo>
                  <a:lnTo>
                    <a:pt x="504" y="330"/>
                  </a:lnTo>
                  <a:lnTo>
                    <a:pt x="504" y="336"/>
                  </a:lnTo>
                  <a:lnTo>
                    <a:pt x="504" y="342"/>
                  </a:lnTo>
                  <a:lnTo>
                    <a:pt x="504" y="348"/>
                  </a:lnTo>
                  <a:lnTo>
                    <a:pt x="480" y="366"/>
                  </a:lnTo>
                  <a:lnTo>
                    <a:pt x="468" y="342"/>
                  </a:lnTo>
                  <a:lnTo>
                    <a:pt x="474" y="318"/>
                  </a:lnTo>
                  <a:lnTo>
                    <a:pt x="480" y="300"/>
                  </a:lnTo>
                  <a:lnTo>
                    <a:pt x="492" y="276"/>
                  </a:lnTo>
                  <a:lnTo>
                    <a:pt x="504" y="252"/>
                  </a:lnTo>
                  <a:lnTo>
                    <a:pt x="504" y="228"/>
                  </a:lnTo>
                  <a:lnTo>
                    <a:pt x="510" y="210"/>
                  </a:lnTo>
                  <a:lnTo>
                    <a:pt x="516" y="198"/>
                  </a:lnTo>
                  <a:lnTo>
                    <a:pt x="522" y="180"/>
                  </a:lnTo>
                  <a:lnTo>
                    <a:pt x="528" y="168"/>
                  </a:lnTo>
                  <a:lnTo>
                    <a:pt x="522" y="150"/>
                  </a:lnTo>
                  <a:lnTo>
                    <a:pt x="516" y="132"/>
                  </a:lnTo>
                  <a:lnTo>
                    <a:pt x="522" y="126"/>
                  </a:lnTo>
                  <a:lnTo>
                    <a:pt x="522" y="114"/>
                  </a:lnTo>
                  <a:lnTo>
                    <a:pt x="528" y="108"/>
                  </a:lnTo>
                  <a:lnTo>
                    <a:pt x="528" y="96"/>
                  </a:lnTo>
                  <a:lnTo>
                    <a:pt x="534" y="90"/>
                  </a:lnTo>
                  <a:lnTo>
                    <a:pt x="546" y="84"/>
                  </a:lnTo>
                  <a:lnTo>
                    <a:pt x="540" y="72"/>
                  </a:lnTo>
                  <a:lnTo>
                    <a:pt x="534" y="60"/>
                  </a:lnTo>
                  <a:lnTo>
                    <a:pt x="522" y="48"/>
                  </a:lnTo>
                  <a:lnTo>
                    <a:pt x="510" y="42"/>
                  </a:lnTo>
                  <a:lnTo>
                    <a:pt x="504" y="30"/>
                  </a:lnTo>
                  <a:lnTo>
                    <a:pt x="504" y="18"/>
                  </a:lnTo>
                  <a:lnTo>
                    <a:pt x="516" y="30"/>
                  </a:lnTo>
                  <a:lnTo>
                    <a:pt x="528" y="42"/>
                  </a:lnTo>
                  <a:lnTo>
                    <a:pt x="546" y="48"/>
                  </a:lnTo>
                  <a:lnTo>
                    <a:pt x="552" y="60"/>
                  </a:lnTo>
                  <a:lnTo>
                    <a:pt x="552" y="72"/>
                  </a:lnTo>
                  <a:lnTo>
                    <a:pt x="546" y="96"/>
                  </a:lnTo>
                  <a:lnTo>
                    <a:pt x="540" y="96"/>
                  </a:lnTo>
                  <a:lnTo>
                    <a:pt x="534" y="102"/>
                  </a:lnTo>
                  <a:lnTo>
                    <a:pt x="534" y="108"/>
                  </a:lnTo>
                  <a:lnTo>
                    <a:pt x="534" y="114"/>
                  </a:lnTo>
                  <a:lnTo>
                    <a:pt x="534" y="120"/>
                  </a:lnTo>
                  <a:lnTo>
                    <a:pt x="534" y="126"/>
                  </a:lnTo>
                  <a:lnTo>
                    <a:pt x="534" y="132"/>
                  </a:lnTo>
                  <a:lnTo>
                    <a:pt x="540" y="132"/>
                  </a:lnTo>
                  <a:lnTo>
                    <a:pt x="546" y="132"/>
                  </a:lnTo>
                  <a:lnTo>
                    <a:pt x="564" y="120"/>
                  </a:lnTo>
                  <a:lnTo>
                    <a:pt x="570" y="102"/>
                  </a:lnTo>
                  <a:lnTo>
                    <a:pt x="570" y="84"/>
                  </a:lnTo>
                  <a:lnTo>
                    <a:pt x="576" y="60"/>
                  </a:lnTo>
                  <a:lnTo>
                    <a:pt x="576" y="42"/>
                  </a:lnTo>
                  <a:lnTo>
                    <a:pt x="576" y="18"/>
                  </a:lnTo>
                  <a:lnTo>
                    <a:pt x="564" y="0"/>
                  </a:lnTo>
                  <a:lnTo>
                    <a:pt x="576" y="6"/>
                  </a:lnTo>
                  <a:lnTo>
                    <a:pt x="588" y="12"/>
                  </a:lnTo>
                  <a:lnTo>
                    <a:pt x="600" y="24"/>
                  </a:lnTo>
                  <a:lnTo>
                    <a:pt x="606" y="36"/>
                  </a:lnTo>
                  <a:lnTo>
                    <a:pt x="612" y="54"/>
                  </a:lnTo>
                  <a:lnTo>
                    <a:pt x="612" y="72"/>
                  </a:lnTo>
                  <a:lnTo>
                    <a:pt x="612" y="78"/>
                  </a:lnTo>
                  <a:lnTo>
                    <a:pt x="612" y="84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2" y="102"/>
                  </a:lnTo>
                  <a:lnTo>
                    <a:pt x="624" y="102"/>
                  </a:lnTo>
                  <a:lnTo>
                    <a:pt x="630" y="96"/>
                  </a:lnTo>
                  <a:lnTo>
                    <a:pt x="636" y="90"/>
                  </a:lnTo>
                  <a:lnTo>
                    <a:pt x="642" y="84"/>
                  </a:lnTo>
                  <a:lnTo>
                    <a:pt x="642" y="78"/>
                  </a:lnTo>
                  <a:lnTo>
                    <a:pt x="642" y="72"/>
                  </a:lnTo>
                  <a:lnTo>
                    <a:pt x="642" y="66"/>
                  </a:lnTo>
                  <a:lnTo>
                    <a:pt x="636" y="66"/>
                  </a:lnTo>
                  <a:lnTo>
                    <a:pt x="660" y="54"/>
                  </a:lnTo>
                  <a:lnTo>
                    <a:pt x="690" y="54"/>
                  </a:lnTo>
                  <a:lnTo>
                    <a:pt x="714" y="48"/>
                  </a:lnTo>
                  <a:lnTo>
                    <a:pt x="744" y="42"/>
                  </a:lnTo>
                  <a:lnTo>
                    <a:pt x="774" y="36"/>
                  </a:lnTo>
                  <a:lnTo>
                    <a:pt x="798" y="24"/>
                  </a:lnTo>
                  <a:lnTo>
                    <a:pt x="798" y="30"/>
                  </a:lnTo>
                  <a:lnTo>
                    <a:pt x="798" y="36"/>
                  </a:lnTo>
                  <a:lnTo>
                    <a:pt x="804" y="42"/>
                  </a:lnTo>
                  <a:lnTo>
                    <a:pt x="804" y="48"/>
                  </a:lnTo>
                  <a:lnTo>
                    <a:pt x="810" y="54"/>
                  </a:lnTo>
                  <a:lnTo>
                    <a:pt x="816" y="60"/>
                  </a:lnTo>
                  <a:lnTo>
                    <a:pt x="840" y="66"/>
                  </a:lnTo>
                  <a:lnTo>
                    <a:pt x="858" y="66"/>
                  </a:lnTo>
                  <a:lnTo>
                    <a:pt x="876" y="66"/>
                  </a:lnTo>
                  <a:lnTo>
                    <a:pt x="900" y="66"/>
                  </a:lnTo>
                  <a:lnTo>
                    <a:pt x="918" y="66"/>
                  </a:lnTo>
                  <a:lnTo>
                    <a:pt x="936" y="66"/>
                  </a:lnTo>
                  <a:lnTo>
                    <a:pt x="918" y="84"/>
                  </a:lnTo>
                  <a:lnTo>
                    <a:pt x="930" y="96"/>
                  </a:lnTo>
                  <a:lnTo>
                    <a:pt x="942" y="108"/>
                  </a:lnTo>
                  <a:lnTo>
                    <a:pt x="954" y="120"/>
                  </a:lnTo>
                  <a:lnTo>
                    <a:pt x="966" y="126"/>
                  </a:lnTo>
                  <a:lnTo>
                    <a:pt x="984" y="132"/>
                  </a:lnTo>
                  <a:lnTo>
                    <a:pt x="996" y="132"/>
                  </a:lnTo>
                  <a:lnTo>
                    <a:pt x="990" y="138"/>
                  </a:lnTo>
                  <a:lnTo>
                    <a:pt x="978" y="144"/>
                  </a:lnTo>
                  <a:lnTo>
                    <a:pt x="972" y="150"/>
                  </a:lnTo>
                  <a:lnTo>
                    <a:pt x="966" y="156"/>
                  </a:lnTo>
                  <a:lnTo>
                    <a:pt x="960" y="162"/>
                  </a:lnTo>
                  <a:lnTo>
                    <a:pt x="960" y="174"/>
                  </a:lnTo>
                  <a:lnTo>
                    <a:pt x="960" y="186"/>
                  </a:lnTo>
                  <a:lnTo>
                    <a:pt x="972" y="192"/>
                  </a:lnTo>
                  <a:lnTo>
                    <a:pt x="984" y="204"/>
                  </a:lnTo>
                  <a:lnTo>
                    <a:pt x="1002" y="210"/>
                  </a:lnTo>
                  <a:lnTo>
                    <a:pt x="1014" y="222"/>
                  </a:lnTo>
                  <a:lnTo>
                    <a:pt x="1026" y="234"/>
                  </a:lnTo>
                  <a:lnTo>
                    <a:pt x="1014" y="240"/>
                  </a:lnTo>
                  <a:lnTo>
                    <a:pt x="1002" y="246"/>
                  </a:lnTo>
                  <a:lnTo>
                    <a:pt x="990" y="246"/>
                  </a:lnTo>
                  <a:lnTo>
                    <a:pt x="978" y="252"/>
                  </a:lnTo>
                  <a:lnTo>
                    <a:pt x="966" y="258"/>
                  </a:lnTo>
                  <a:lnTo>
                    <a:pt x="966" y="270"/>
                  </a:lnTo>
                  <a:lnTo>
                    <a:pt x="984" y="282"/>
                  </a:lnTo>
                  <a:lnTo>
                    <a:pt x="996" y="306"/>
                  </a:lnTo>
                  <a:lnTo>
                    <a:pt x="1002" y="324"/>
                  </a:lnTo>
                  <a:lnTo>
                    <a:pt x="1008" y="348"/>
                  </a:lnTo>
                  <a:lnTo>
                    <a:pt x="1026" y="360"/>
                  </a:lnTo>
                  <a:lnTo>
                    <a:pt x="1050" y="372"/>
                  </a:lnTo>
                  <a:lnTo>
                    <a:pt x="1038" y="378"/>
                  </a:lnTo>
                  <a:lnTo>
                    <a:pt x="1032" y="384"/>
                  </a:lnTo>
                  <a:lnTo>
                    <a:pt x="1020" y="384"/>
                  </a:lnTo>
                  <a:lnTo>
                    <a:pt x="1014" y="384"/>
                  </a:lnTo>
                  <a:lnTo>
                    <a:pt x="1002" y="384"/>
                  </a:lnTo>
                  <a:lnTo>
                    <a:pt x="996" y="378"/>
                  </a:lnTo>
                  <a:lnTo>
                    <a:pt x="990" y="390"/>
                  </a:lnTo>
                  <a:lnTo>
                    <a:pt x="990" y="402"/>
                  </a:lnTo>
                  <a:lnTo>
                    <a:pt x="996" y="414"/>
                  </a:lnTo>
                  <a:lnTo>
                    <a:pt x="1008" y="420"/>
                  </a:lnTo>
                  <a:lnTo>
                    <a:pt x="1020" y="432"/>
                  </a:lnTo>
                  <a:lnTo>
                    <a:pt x="1026" y="444"/>
                  </a:lnTo>
                  <a:lnTo>
                    <a:pt x="1044" y="444"/>
                  </a:lnTo>
                  <a:lnTo>
                    <a:pt x="1032" y="456"/>
                  </a:lnTo>
                  <a:lnTo>
                    <a:pt x="1020" y="462"/>
                  </a:lnTo>
                  <a:lnTo>
                    <a:pt x="1008" y="468"/>
                  </a:lnTo>
                  <a:lnTo>
                    <a:pt x="990" y="468"/>
                  </a:lnTo>
                  <a:lnTo>
                    <a:pt x="984" y="480"/>
                  </a:lnTo>
                  <a:lnTo>
                    <a:pt x="984" y="498"/>
                  </a:lnTo>
                  <a:lnTo>
                    <a:pt x="990" y="504"/>
                  </a:lnTo>
                  <a:lnTo>
                    <a:pt x="1002" y="516"/>
                  </a:lnTo>
                  <a:lnTo>
                    <a:pt x="1008" y="522"/>
                  </a:lnTo>
                  <a:lnTo>
                    <a:pt x="1014" y="534"/>
                  </a:lnTo>
                  <a:lnTo>
                    <a:pt x="1026" y="540"/>
                  </a:lnTo>
                  <a:lnTo>
                    <a:pt x="1032" y="540"/>
                  </a:lnTo>
                  <a:lnTo>
                    <a:pt x="1026" y="546"/>
                  </a:lnTo>
                  <a:lnTo>
                    <a:pt x="1014" y="546"/>
                  </a:lnTo>
                  <a:lnTo>
                    <a:pt x="1002" y="540"/>
                  </a:lnTo>
                  <a:lnTo>
                    <a:pt x="990" y="540"/>
                  </a:lnTo>
                  <a:lnTo>
                    <a:pt x="978" y="546"/>
                  </a:lnTo>
                  <a:lnTo>
                    <a:pt x="966" y="552"/>
                  </a:lnTo>
                  <a:lnTo>
                    <a:pt x="966" y="558"/>
                  </a:lnTo>
                  <a:lnTo>
                    <a:pt x="966" y="564"/>
                  </a:lnTo>
                  <a:lnTo>
                    <a:pt x="972" y="576"/>
                  </a:lnTo>
                  <a:lnTo>
                    <a:pt x="972" y="582"/>
                  </a:lnTo>
                  <a:lnTo>
                    <a:pt x="978" y="588"/>
                  </a:lnTo>
                  <a:lnTo>
                    <a:pt x="984" y="594"/>
                  </a:lnTo>
                  <a:lnTo>
                    <a:pt x="984" y="600"/>
                  </a:lnTo>
                  <a:lnTo>
                    <a:pt x="990" y="600"/>
                  </a:lnTo>
                  <a:lnTo>
                    <a:pt x="990" y="606"/>
                  </a:lnTo>
                  <a:lnTo>
                    <a:pt x="996" y="606"/>
                  </a:lnTo>
                  <a:lnTo>
                    <a:pt x="984" y="612"/>
                  </a:lnTo>
                  <a:lnTo>
                    <a:pt x="966" y="606"/>
                  </a:lnTo>
                  <a:lnTo>
                    <a:pt x="954" y="600"/>
                  </a:lnTo>
                  <a:lnTo>
                    <a:pt x="942" y="600"/>
                  </a:lnTo>
                  <a:lnTo>
                    <a:pt x="930" y="600"/>
                  </a:lnTo>
                  <a:lnTo>
                    <a:pt x="918" y="618"/>
                  </a:lnTo>
                  <a:lnTo>
                    <a:pt x="936" y="642"/>
                  </a:lnTo>
                  <a:lnTo>
                    <a:pt x="924" y="648"/>
                  </a:lnTo>
                  <a:lnTo>
                    <a:pt x="912" y="648"/>
                  </a:lnTo>
                  <a:lnTo>
                    <a:pt x="906" y="648"/>
                  </a:lnTo>
                  <a:lnTo>
                    <a:pt x="894" y="648"/>
                  </a:lnTo>
                  <a:lnTo>
                    <a:pt x="882" y="648"/>
                  </a:lnTo>
                  <a:lnTo>
                    <a:pt x="876" y="642"/>
                  </a:lnTo>
                  <a:lnTo>
                    <a:pt x="864" y="648"/>
                  </a:lnTo>
                  <a:lnTo>
                    <a:pt x="858" y="660"/>
                  </a:lnTo>
                  <a:lnTo>
                    <a:pt x="846" y="672"/>
                  </a:lnTo>
                  <a:lnTo>
                    <a:pt x="834" y="678"/>
                  </a:lnTo>
                  <a:lnTo>
                    <a:pt x="822" y="690"/>
                  </a:lnTo>
                  <a:lnTo>
                    <a:pt x="810" y="690"/>
                  </a:lnTo>
                  <a:lnTo>
                    <a:pt x="762" y="666"/>
                  </a:lnTo>
                  <a:lnTo>
                    <a:pt x="780" y="660"/>
                  </a:lnTo>
                  <a:lnTo>
                    <a:pt x="798" y="660"/>
                  </a:lnTo>
                  <a:lnTo>
                    <a:pt x="810" y="654"/>
                  </a:lnTo>
                  <a:lnTo>
                    <a:pt x="828" y="654"/>
                  </a:lnTo>
                  <a:lnTo>
                    <a:pt x="846" y="642"/>
                  </a:lnTo>
                  <a:lnTo>
                    <a:pt x="858" y="630"/>
                  </a:lnTo>
                  <a:lnTo>
                    <a:pt x="858" y="612"/>
                  </a:lnTo>
                  <a:lnTo>
                    <a:pt x="858" y="600"/>
                  </a:lnTo>
                  <a:lnTo>
                    <a:pt x="852" y="582"/>
                  </a:lnTo>
                  <a:lnTo>
                    <a:pt x="846" y="570"/>
                  </a:lnTo>
                  <a:lnTo>
                    <a:pt x="834" y="558"/>
                  </a:lnTo>
                  <a:lnTo>
                    <a:pt x="828" y="546"/>
                  </a:lnTo>
                  <a:lnTo>
                    <a:pt x="822" y="546"/>
                  </a:lnTo>
                  <a:lnTo>
                    <a:pt x="852" y="492"/>
                  </a:lnTo>
                  <a:lnTo>
                    <a:pt x="870" y="426"/>
                  </a:lnTo>
                  <a:lnTo>
                    <a:pt x="888" y="360"/>
                  </a:lnTo>
                  <a:lnTo>
                    <a:pt x="894" y="294"/>
                  </a:lnTo>
                  <a:lnTo>
                    <a:pt x="882" y="228"/>
                  </a:lnTo>
                  <a:lnTo>
                    <a:pt x="858" y="162"/>
                  </a:lnTo>
                  <a:lnTo>
                    <a:pt x="846" y="150"/>
                  </a:lnTo>
                  <a:lnTo>
                    <a:pt x="834" y="132"/>
                  </a:lnTo>
                  <a:lnTo>
                    <a:pt x="822" y="108"/>
                  </a:lnTo>
                  <a:lnTo>
                    <a:pt x="810" y="90"/>
                  </a:lnTo>
                  <a:lnTo>
                    <a:pt x="792" y="78"/>
                  </a:lnTo>
                  <a:lnTo>
                    <a:pt x="768" y="72"/>
                  </a:lnTo>
                  <a:lnTo>
                    <a:pt x="750" y="90"/>
                  </a:lnTo>
                  <a:lnTo>
                    <a:pt x="792" y="114"/>
                  </a:lnTo>
                  <a:lnTo>
                    <a:pt x="822" y="150"/>
                  </a:lnTo>
                  <a:lnTo>
                    <a:pt x="846" y="192"/>
                  </a:lnTo>
                  <a:lnTo>
                    <a:pt x="864" y="240"/>
                  </a:lnTo>
                  <a:lnTo>
                    <a:pt x="870" y="288"/>
                  </a:lnTo>
                  <a:lnTo>
                    <a:pt x="864" y="342"/>
                  </a:lnTo>
                  <a:lnTo>
                    <a:pt x="858" y="372"/>
                  </a:lnTo>
                  <a:lnTo>
                    <a:pt x="852" y="408"/>
                  </a:lnTo>
                  <a:lnTo>
                    <a:pt x="840" y="444"/>
                  </a:lnTo>
                  <a:lnTo>
                    <a:pt x="828" y="480"/>
                  </a:lnTo>
                  <a:lnTo>
                    <a:pt x="810" y="510"/>
                  </a:lnTo>
                  <a:lnTo>
                    <a:pt x="786" y="540"/>
                  </a:lnTo>
                  <a:lnTo>
                    <a:pt x="792" y="558"/>
                  </a:lnTo>
                  <a:lnTo>
                    <a:pt x="804" y="570"/>
                  </a:lnTo>
                  <a:lnTo>
                    <a:pt x="816" y="576"/>
                  </a:lnTo>
                  <a:lnTo>
                    <a:pt x="828" y="588"/>
                  </a:lnTo>
                  <a:lnTo>
                    <a:pt x="834" y="600"/>
                  </a:lnTo>
                  <a:lnTo>
                    <a:pt x="828" y="618"/>
                  </a:lnTo>
                  <a:lnTo>
                    <a:pt x="816" y="630"/>
                  </a:lnTo>
                  <a:lnTo>
                    <a:pt x="798" y="636"/>
                  </a:lnTo>
                  <a:lnTo>
                    <a:pt x="780" y="636"/>
                  </a:lnTo>
                  <a:lnTo>
                    <a:pt x="762" y="630"/>
                  </a:lnTo>
                  <a:lnTo>
                    <a:pt x="744" y="630"/>
                  </a:lnTo>
                  <a:lnTo>
                    <a:pt x="726" y="630"/>
                  </a:lnTo>
                  <a:lnTo>
                    <a:pt x="732" y="642"/>
                  </a:lnTo>
                  <a:lnTo>
                    <a:pt x="738" y="654"/>
                  </a:lnTo>
                  <a:lnTo>
                    <a:pt x="744" y="666"/>
                  </a:lnTo>
                  <a:lnTo>
                    <a:pt x="756" y="678"/>
                  </a:lnTo>
                  <a:lnTo>
                    <a:pt x="762" y="690"/>
                  </a:lnTo>
                  <a:lnTo>
                    <a:pt x="774" y="702"/>
                  </a:lnTo>
                  <a:lnTo>
                    <a:pt x="786" y="708"/>
                  </a:lnTo>
                  <a:lnTo>
                    <a:pt x="798" y="714"/>
                  </a:lnTo>
                  <a:lnTo>
                    <a:pt x="810" y="714"/>
                  </a:lnTo>
                  <a:lnTo>
                    <a:pt x="822" y="708"/>
                  </a:lnTo>
                  <a:lnTo>
                    <a:pt x="840" y="708"/>
                  </a:lnTo>
                  <a:lnTo>
                    <a:pt x="852" y="702"/>
                  </a:lnTo>
                  <a:lnTo>
                    <a:pt x="882" y="756"/>
                  </a:lnTo>
                  <a:lnTo>
                    <a:pt x="906" y="822"/>
                  </a:lnTo>
                  <a:lnTo>
                    <a:pt x="924" y="882"/>
                  </a:lnTo>
                  <a:lnTo>
                    <a:pt x="948" y="942"/>
                  </a:lnTo>
                  <a:lnTo>
                    <a:pt x="966" y="1002"/>
                  </a:lnTo>
                  <a:lnTo>
                    <a:pt x="990" y="1062"/>
                  </a:lnTo>
                  <a:lnTo>
                    <a:pt x="984" y="1074"/>
                  </a:lnTo>
                  <a:lnTo>
                    <a:pt x="984" y="1080"/>
                  </a:lnTo>
                  <a:lnTo>
                    <a:pt x="984" y="1086"/>
                  </a:lnTo>
                  <a:lnTo>
                    <a:pt x="984" y="1092"/>
                  </a:lnTo>
                  <a:lnTo>
                    <a:pt x="984" y="1098"/>
                  </a:lnTo>
                  <a:lnTo>
                    <a:pt x="984" y="1110"/>
                  </a:lnTo>
                  <a:lnTo>
                    <a:pt x="978" y="1116"/>
                  </a:lnTo>
                  <a:lnTo>
                    <a:pt x="972" y="1122"/>
                  </a:lnTo>
                  <a:lnTo>
                    <a:pt x="966" y="1134"/>
                  </a:lnTo>
                  <a:lnTo>
                    <a:pt x="960" y="1146"/>
                  </a:lnTo>
                  <a:lnTo>
                    <a:pt x="954" y="1152"/>
                  </a:lnTo>
                  <a:lnTo>
                    <a:pt x="948" y="1164"/>
                  </a:lnTo>
                  <a:lnTo>
                    <a:pt x="948" y="1170"/>
                  </a:lnTo>
                  <a:lnTo>
                    <a:pt x="948" y="1182"/>
                  </a:lnTo>
                  <a:lnTo>
                    <a:pt x="942" y="1188"/>
                  </a:lnTo>
                  <a:lnTo>
                    <a:pt x="942" y="1200"/>
                  </a:lnTo>
                  <a:lnTo>
                    <a:pt x="936" y="1206"/>
                  </a:lnTo>
                  <a:lnTo>
                    <a:pt x="924" y="1206"/>
                  </a:lnTo>
                  <a:lnTo>
                    <a:pt x="918" y="1206"/>
                  </a:lnTo>
                  <a:lnTo>
                    <a:pt x="912" y="1206"/>
                  </a:lnTo>
                  <a:lnTo>
                    <a:pt x="906" y="1206"/>
                  </a:lnTo>
                  <a:lnTo>
                    <a:pt x="900" y="1206"/>
                  </a:lnTo>
                  <a:lnTo>
                    <a:pt x="888" y="1206"/>
                  </a:lnTo>
                  <a:lnTo>
                    <a:pt x="882" y="1206"/>
                  </a:lnTo>
                  <a:lnTo>
                    <a:pt x="882" y="1212"/>
                  </a:lnTo>
                  <a:lnTo>
                    <a:pt x="882" y="1206"/>
                  </a:lnTo>
                  <a:lnTo>
                    <a:pt x="882" y="1212"/>
                  </a:lnTo>
                  <a:lnTo>
                    <a:pt x="876" y="1212"/>
                  </a:lnTo>
                  <a:lnTo>
                    <a:pt x="870" y="1218"/>
                  </a:lnTo>
                  <a:lnTo>
                    <a:pt x="870" y="1224"/>
                  </a:lnTo>
                  <a:lnTo>
                    <a:pt x="870" y="1230"/>
                  </a:lnTo>
                  <a:lnTo>
                    <a:pt x="876" y="1230"/>
                  </a:lnTo>
                  <a:lnTo>
                    <a:pt x="882" y="1236"/>
                  </a:lnTo>
                  <a:lnTo>
                    <a:pt x="888" y="1236"/>
                  </a:lnTo>
                  <a:lnTo>
                    <a:pt x="894" y="1236"/>
                  </a:lnTo>
                  <a:lnTo>
                    <a:pt x="912" y="1230"/>
                  </a:lnTo>
                  <a:lnTo>
                    <a:pt x="924" y="1230"/>
                  </a:lnTo>
                  <a:lnTo>
                    <a:pt x="942" y="1230"/>
                  </a:lnTo>
                  <a:lnTo>
                    <a:pt x="966" y="1242"/>
                  </a:lnTo>
                  <a:lnTo>
                    <a:pt x="984" y="1242"/>
                  </a:lnTo>
                  <a:lnTo>
                    <a:pt x="996" y="1242"/>
                  </a:lnTo>
                  <a:lnTo>
                    <a:pt x="1044" y="1248"/>
                  </a:lnTo>
                  <a:lnTo>
                    <a:pt x="1014" y="1302"/>
                  </a:lnTo>
                  <a:lnTo>
                    <a:pt x="990" y="1344"/>
                  </a:lnTo>
                  <a:lnTo>
                    <a:pt x="966" y="1392"/>
                  </a:lnTo>
                  <a:lnTo>
                    <a:pt x="942" y="1440"/>
                  </a:lnTo>
                  <a:lnTo>
                    <a:pt x="924" y="1494"/>
                  </a:lnTo>
                  <a:lnTo>
                    <a:pt x="906" y="1548"/>
                  </a:lnTo>
                  <a:close/>
                </a:path>
              </a:pathLst>
            </a:custGeom>
            <a:solidFill>
              <a:srgbClr val="4d4d4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0" name=""/>
            <p:cNvSpPr/>
            <p:nvPr/>
          </p:nvSpPr>
          <p:spPr>
            <a:xfrm flipH="1">
              <a:off x="2117160" y="1208160"/>
              <a:ext cx="211320" cy="131760"/>
            </a:xfrm>
            <a:custGeom>
              <a:avLst/>
              <a:gdLst/>
              <a:ahLst/>
              <a:rect l="l" t="t" r="r" b="b"/>
              <a:pathLst>
                <a:path w="672" h="360">
                  <a:moveTo>
                    <a:pt x="594" y="228"/>
                  </a:moveTo>
                  <a:lnTo>
                    <a:pt x="594" y="234"/>
                  </a:lnTo>
                  <a:lnTo>
                    <a:pt x="588" y="240"/>
                  </a:lnTo>
                  <a:lnTo>
                    <a:pt x="582" y="240"/>
                  </a:lnTo>
                  <a:lnTo>
                    <a:pt x="576" y="246"/>
                  </a:lnTo>
                  <a:lnTo>
                    <a:pt x="570" y="246"/>
                  </a:lnTo>
                  <a:lnTo>
                    <a:pt x="564" y="246"/>
                  </a:lnTo>
                  <a:lnTo>
                    <a:pt x="552" y="246"/>
                  </a:lnTo>
                  <a:lnTo>
                    <a:pt x="540" y="246"/>
                  </a:lnTo>
                  <a:lnTo>
                    <a:pt x="528" y="246"/>
                  </a:lnTo>
                  <a:lnTo>
                    <a:pt x="516" y="240"/>
                  </a:lnTo>
                  <a:lnTo>
                    <a:pt x="510" y="240"/>
                  </a:lnTo>
                  <a:lnTo>
                    <a:pt x="498" y="234"/>
                  </a:lnTo>
                  <a:lnTo>
                    <a:pt x="486" y="234"/>
                  </a:lnTo>
                  <a:lnTo>
                    <a:pt x="474" y="228"/>
                  </a:lnTo>
                  <a:lnTo>
                    <a:pt x="462" y="222"/>
                  </a:lnTo>
                  <a:lnTo>
                    <a:pt x="450" y="216"/>
                  </a:lnTo>
                  <a:lnTo>
                    <a:pt x="432" y="210"/>
                  </a:lnTo>
                  <a:lnTo>
                    <a:pt x="420" y="204"/>
                  </a:lnTo>
                  <a:lnTo>
                    <a:pt x="414" y="234"/>
                  </a:lnTo>
                  <a:lnTo>
                    <a:pt x="402" y="264"/>
                  </a:lnTo>
                  <a:lnTo>
                    <a:pt x="384" y="288"/>
                  </a:lnTo>
                  <a:lnTo>
                    <a:pt x="372" y="312"/>
                  </a:lnTo>
                  <a:lnTo>
                    <a:pt x="360" y="336"/>
                  </a:lnTo>
                  <a:lnTo>
                    <a:pt x="360" y="360"/>
                  </a:lnTo>
                  <a:lnTo>
                    <a:pt x="324" y="342"/>
                  </a:lnTo>
                  <a:lnTo>
                    <a:pt x="288" y="324"/>
                  </a:lnTo>
                  <a:lnTo>
                    <a:pt x="258" y="312"/>
                  </a:lnTo>
                  <a:lnTo>
                    <a:pt x="222" y="300"/>
                  </a:lnTo>
                  <a:lnTo>
                    <a:pt x="180" y="294"/>
                  </a:lnTo>
                  <a:lnTo>
                    <a:pt x="144" y="294"/>
                  </a:lnTo>
                  <a:lnTo>
                    <a:pt x="114" y="318"/>
                  </a:lnTo>
                  <a:lnTo>
                    <a:pt x="114" y="312"/>
                  </a:lnTo>
                  <a:lnTo>
                    <a:pt x="120" y="306"/>
                  </a:lnTo>
                  <a:lnTo>
                    <a:pt x="114" y="306"/>
                  </a:lnTo>
                  <a:lnTo>
                    <a:pt x="114" y="300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8"/>
                  </a:lnTo>
                  <a:lnTo>
                    <a:pt x="96" y="288"/>
                  </a:lnTo>
                  <a:lnTo>
                    <a:pt x="90" y="288"/>
                  </a:lnTo>
                  <a:lnTo>
                    <a:pt x="78" y="282"/>
                  </a:lnTo>
                  <a:lnTo>
                    <a:pt x="72" y="282"/>
                  </a:lnTo>
                  <a:lnTo>
                    <a:pt x="72" y="276"/>
                  </a:lnTo>
                  <a:lnTo>
                    <a:pt x="72" y="270"/>
                  </a:lnTo>
                  <a:lnTo>
                    <a:pt x="66" y="270"/>
                  </a:lnTo>
                  <a:lnTo>
                    <a:pt x="60" y="264"/>
                  </a:lnTo>
                  <a:lnTo>
                    <a:pt x="54" y="270"/>
                  </a:lnTo>
                  <a:lnTo>
                    <a:pt x="54" y="276"/>
                  </a:lnTo>
                  <a:lnTo>
                    <a:pt x="48" y="282"/>
                  </a:lnTo>
                  <a:lnTo>
                    <a:pt x="48" y="288"/>
                  </a:lnTo>
                  <a:lnTo>
                    <a:pt x="42" y="288"/>
                  </a:lnTo>
                  <a:lnTo>
                    <a:pt x="6" y="294"/>
                  </a:lnTo>
                  <a:lnTo>
                    <a:pt x="6" y="288"/>
                  </a:lnTo>
                  <a:lnTo>
                    <a:pt x="6" y="282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30" y="264"/>
                  </a:lnTo>
                  <a:lnTo>
                    <a:pt x="60" y="258"/>
                  </a:lnTo>
                  <a:lnTo>
                    <a:pt x="90" y="246"/>
                  </a:lnTo>
                  <a:lnTo>
                    <a:pt x="114" y="234"/>
                  </a:lnTo>
                  <a:lnTo>
                    <a:pt x="144" y="234"/>
                  </a:lnTo>
                  <a:lnTo>
                    <a:pt x="180" y="234"/>
                  </a:lnTo>
                  <a:lnTo>
                    <a:pt x="204" y="234"/>
                  </a:lnTo>
                  <a:lnTo>
                    <a:pt x="234" y="252"/>
                  </a:lnTo>
                  <a:lnTo>
                    <a:pt x="270" y="270"/>
                  </a:lnTo>
                  <a:lnTo>
                    <a:pt x="294" y="282"/>
                  </a:lnTo>
                  <a:lnTo>
                    <a:pt x="312" y="270"/>
                  </a:lnTo>
                  <a:lnTo>
                    <a:pt x="324" y="228"/>
                  </a:lnTo>
                  <a:lnTo>
                    <a:pt x="312" y="216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86"/>
                  </a:lnTo>
                  <a:lnTo>
                    <a:pt x="300" y="174"/>
                  </a:lnTo>
                  <a:lnTo>
                    <a:pt x="300" y="162"/>
                  </a:lnTo>
                  <a:lnTo>
                    <a:pt x="306" y="144"/>
                  </a:lnTo>
                  <a:lnTo>
                    <a:pt x="318" y="126"/>
                  </a:lnTo>
                  <a:lnTo>
                    <a:pt x="330" y="108"/>
                  </a:lnTo>
                  <a:lnTo>
                    <a:pt x="342" y="90"/>
                  </a:lnTo>
                  <a:lnTo>
                    <a:pt x="342" y="72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8" y="54"/>
                  </a:lnTo>
                  <a:lnTo>
                    <a:pt x="312" y="54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54"/>
                  </a:lnTo>
                  <a:lnTo>
                    <a:pt x="288" y="48"/>
                  </a:lnTo>
                  <a:lnTo>
                    <a:pt x="312" y="36"/>
                  </a:lnTo>
                  <a:lnTo>
                    <a:pt x="336" y="24"/>
                  </a:lnTo>
                  <a:lnTo>
                    <a:pt x="354" y="12"/>
                  </a:lnTo>
                  <a:lnTo>
                    <a:pt x="378" y="6"/>
                  </a:lnTo>
                  <a:lnTo>
                    <a:pt x="408" y="0"/>
                  </a:lnTo>
                  <a:lnTo>
                    <a:pt x="438" y="0"/>
                  </a:lnTo>
                  <a:lnTo>
                    <a:pt x="480" y="0"/>
                  </a:lnTo>
                  <a:lnTo>
                    <a:pt x="516" y="12"/>
                  </a:lnTo>
                  <a:lnTo>
                    <a:pt x="552" y="36"/>
                  </a:lnTo>
                  <a:lnTo>
                    <a:pt x="588" y="60"/>
                  </a:lnTo>
                  <a:lnTo>
                    <a:pt x="630" y="72"/>
                  </a:lnTo>
                  <a:lnTo>
                    <a:pt x="672" y="66"/>
                  </a:lnTo>
                  <a:lnTo>
                    <a:pt x="654" y="90"/>
                  </a:lnTo>
                  <a:lnTo>
                    <a:pt x="630" y="114"/>
                  </a:lnTo>
                  <a:lnTo>
                    <a:pt x="618" y="138"/>
                  </a:lnTo>
                  <a:lnTo>
                    <a:pt x="606" y="168"/>
                  </a:lnTo>
                  <a:lnTo>
                    <a:pt x="594" y="198"/>
                  </a:lnTo>
                  <a:lnTo>
                    <a:pt x="594" y="228"/>
                  </a:lnTo>
                  <a:close/>
                </a:path>
              </a:pathLst>
            </a:custGeom>
            <a:solidFill>
              <a:srgbClr val="4d4d4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1" name=""/>
            <p:cNvSpPr/>
            <p:nvPr/>
          </p:nvSpPr>
          <p:spPr>
            <a:xfrm flipH="1">
              <a:off x="2127240" y="903240"/>
              <a:ext cx="23760" cy="79560"/>
            </a:xfrm>
            <a:custGeom>
              <a:avLst/>
              <a:gdLst/>
              <a:ahLst/>
              <a:rect l="l" t="t" r="r" b="b"/>
              <a:pathLst>
                <a:path w="72" h="216">
                  <a:moveTo>
                    <a:pt x="66" y="186"/>
                  </a:moveTo>
                  <a:lnTo>
                    <a:pt x="60" y="210"/>
                  </a:lnTo>
                  <a:lnTo>
                    <a:pt x="54" y="210"/>
                  </a:lnTo>
                  <a:lnTo>
                    <a:pt x="48" y="216"/>
                  </a:lnTo>
                  <a:lnTo>
                    <a:pt x="42" y="210"/>
                  </a:lnTo>
                  <a:lnTo>
                    <a:pt x="36" y="204"/>
                  </a:lnTo>
                  <a:lnTo>
                    <a:pt x="42" y="198"/>
                  </a:lnTo>
                  <a:lnTo>
                    <a:pt x="42" y="192"/>
                  </a:lnTo>
                  <a:lnTo>
                    <a:pt x="48" y="186"/>
                  </a:lnTo>
                  <a:lnTo>
                    <a:pt x="54" y="180"/>
                  </a:lnTo>
                  <a:lnTo>
                    <a:pt x="54" y="150"/>
                  </a:lnTo>
                  <a:lnTo>
                    <a:pt x="48" y="120"/>
                  </a:lnTo>
                  <a:lnTo>
                    <a:pt x="42" y="84"/>
                  </a:lnTo>
                  <a:lnTo>
                    <a:pt x="30" y="54"/>
                  </a:lnTo>
                  <a:lnTo>
                    <a:pt x="18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30"/>
                  </a:lnTo>
                  <a:lnTo>
                    <a:pt x="48" y="60"/>
                  </a:lnTo>
                  <a:lnTo>
                    <a:pt x="60" y="84"/>
                  </a:lnTo>
                  <a:lnTo>
                    <a:pt x="66" y="120"/>
                  </a:lnTo>
                  <a:lnTo>
                    <a:pt x="66" y="150"/>
                  </a:lnTo>
                  <a:lnTo>
                    <a:pt x="72" y="186"/>
                  </a:lnTo>
                  <a:lnTo>
                    <a:pt x="66" y="18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2" name=""/>
            <p:cNvSpPr/>
            <p:nvPr/>
          </p:nvSpPr>
          <p:spPr>
            <a:xfrm flipH="1">
              <a:off x="2136240" y="868320"/>
              <a:ext cx="4680" cy="180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d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3" name=""/>
            <p:cNvSpPr/>
            <p:nvPr/>
          </p:nvSpPr>
          <p:spPr>
            <a:xfrm flipH="1">
              <a:off x="2167920" y="909720"/>
              <a:ext cx="25560" cy="2376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36" y="42"/>
                  </a:moveTo>
                  <a:lnTo>
                    <a:pt x="36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12"/>
                  </a:lnTo>
                  <a:lnTo>
                    <a:pt x="72" y="18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4" name=""/>
            <p:cNvSpPr/>
            <p:nvPr/>
          </p:nvSpPr>
          <p:spPr>
            <a:xfrm flipH="1">
              <a:off x="2223720" y="878040"/>
              <a:ext cx="112680" cy="201600"/>
            </a:xfrm>
            <a:custGeom>
              <a:avLst/>
              <a:gdLst/>
              <a:ahLst/>
              <a:rect l="l" t="t" r="r" b="b"/>
              <a:pathLst>
                <a:path w="360" h="552">
                  <a:moveTo>
                    <a:pt x="354" y="546"/>
                  </a:moveTo>
                  <a:lnTo>
                    <a:pt x="336" y="552"/>
                  </a:lnTo>
                  <a:lnTo>
                    <a:pt x="324" y="552"/>
                  </a:lnTo>
                  <a:lnTo>
                    <a:pt x="312" y="540"/>
                  </a:lnTo>
                  <a:lnTo>
                    <a:pt x="300" y="528"/>
                  </a:lnTo>
                  <a:lnTo>
                    <a:pt x="288" y="510"/>
                  </a:lnTo>
                  <a:lnTo>
                    <a:pt x="276" y="498"/>
                  </a:lnTo>
                  <a:lnTo>
                    <a:pt x="270" y="456"/>
                  </a:lnTo>
                  <a:lnTo>
                    <a:pt x="264" y="414"/>
                  </a:lnTo>
                  <a:lnTo>
                    <a:pt x="258" y="372"/>
                  </a:lnTo>
                  <a:lnTo>
                    <a:pt x="246" y="330"/>
                  </a:lnTo>
                  <a:lnTo>
                    <a:pt x="234" y="288"/>
                  </a:lnTo>
                  <a:lnTo>
                    <a:pt x="228" y="246"/>
                  </a:lnTo>
                  <a:lnTo>
                    <a:pt x="210" y="228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16" y="216"/>
                  </a:lnTo>
                  <a:lnTo>
                    <a:pt x="216" y="210"/>
                  </a:lnTo>
                  <a:lnTo>
                    <a:pt x="216" y="204"/>
                  </a:lnTo>
                  <a:lnTo>
                    <a:pt x="192" y="192"/>
                  </a:lnTo>
                  <a:lnTo>
                    <a:pt x="180" y="174"/>
                  </a:lnTo>
                  <a:lnTo>
                    <a:pt x="162" y="156"/>
                  </a:lnTo>
                  <a:lnTo>
                    <a:pt x="144" y="138"/>
                  </a:lnTo>
                  <a:lnTo>
                    <a:pt x="126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6" y="108"/>
                  </a:lnTo>
                  <a:lnTo>
                    <a:pt x="90" y="102"/>
                  </a:lnTo>
                  <a:lnTo>
                    <a:pt x="84" y="9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0" y="108"/>
                  </a:lnTo>
                  <a:lnTo>
                    <a:pt x="72" y="114"/>
                  </a:lnTo>
                  <a:lnTo>
                    <a:pt x="60" y="120"/>
                  </a:lnTo>
                  <a:lnTo>
                    <a:pt x="48" y="120"/>
                  </a:lnTo>
                  <a:lnTo>
                    <a:pt x="36" y="114"/>
                  </a:lnTo>
                  <a:lnTo>
                    <a:pt x="24" y="114"/>
                  </a:lnTo>
                  <a:lnTo>
                    <a:pt x="12" y="108"/>
                  </a:lnTo>
                  <a:lnTo>
                    <a:pt x="0" y="102"/>
                  </a:lnTo>
                  <a:lnTo>
                    <a:pt x="24" y="60"/>
                  </a:lnTo>
                  <a:lnTo>
                    <a:pt x="18" y="54"/>
                  </a:lnTo>
                  <a:lnTo>
                    <a:pt x="12" y="42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72" y="60"/>
                  </a:lnTo>
                  <a:lnTo>
                    <a:pt x="84" y="66"/>
                  </a:lnTo>
                  <a:lnTo>
                    <a:pt x="96" y="78"/>
                  </a:lnTo>
                  <a:lnTo>
                    <a:pt x="108" y="90"/>
                  </a:lnTo>
                  <a:lnTo>
                    <a:pt x="120" y="96"/>
                  </a:lnTo>
                  <a:lnTo>
                    <a:pt x="138" y="102"/>
                  </a:lnTo>
                  <a:lnTo>
                    <a:pt x="156" y="114"/>
                  </a:lnTo>
                  <a:lnTo>
                    <a:pt x="174" y="126"/>
                  </a:lnTo>
                  <a:lnTo>
                    <a:pt x="186" y="144"/>
                  </a:lnTo>
                  <a:lnTo>
                    <a:pt x="198" y="156"/>
                  </a:lnTo>
                  <a:lnTo>
                    <a:pt x="210" y="168"/>
                  </a:lnTo>
                  <a:lnTo>
                    <a:pt x="252" y="210"/>
                  </a:lnTo>
                  <a:lnTo>
                    <a:pt x="276" y="258"/>
                  </a:lnTo>
                  <a:lnTo>
                    <a:pt x="294" y="306"/>
                  </a:lnTo>
                  <a:lnTo>
                    <a:pt x="306" y="354"/>
                  </a:lnTo>
                  <a:lnTo>
                    <a:pt x="324" y="402"/>
                  </a:lnTo>
                  <a:lnTo>
                    <a:pt x="348" y="444"/>
                  </a:lnTo>
                  <a:lnTo>
                    <a:pt x="354" y="456"/>
                  </a:lnTo>
                  <a:lnTo>
                    <a:pt x="354" y="468"/>
                  </a:lnTo>
                  <a:lnTo>
                    <a:pt x="354" y="480"/>
                  </a:lnTo>
                  <a:lnTo>
                    <a:pt x="354" y="492"/>
                  </a:lnTo>
                  <a:lnTo>
                    <a:pt x="360" y="498"/>
                  </a:lnTo>
                  <a:lnTo>
                    <a:pt x="360" y="510"/>
                  </a:lnTo>
                  <a:lnTo>
                    <a:pt x="360" y="516"/>
                  </a:lnTo>
                  <a:lnTo>
                    <a:pt x="354" y="522"/>
                  </a:lnTo>
                  <a:lnTo>
                    <a:pt x="354" y="528"/>
                  </a:lnTo>
                  <a:lnTo>
                    <a:pt x="354" y="534"/>
                  </a:lnTo>
                  <a:lnTo>
                    <a:pt x="354" y="540"/>
                  </a:lnTo>
                  <a:lnTo>
                    <a:pt x="354" y="546"/>
                  </a:lnTo>
                  <a:close/>
                </a:path>
              </a:pathLst>
            </a:custGeom>
            <a:solidFill>
              <a:srgbClr val="4d4d4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5" name=""/>
          <p:cNvGrpSpPr/>
          <p:nvPr/>
        </p:nvGrpSpPr>
        <p:grpSpPr>
          <a:xfrm>
            <a:off x="2424240" y="851040"/>
            <a:ext cx="426960" cy="615960"/>
            <a:chOff x="2424240" y="851040"/>
            <a:chExt cx="426960" cy="615960"/>
          </a:xfrm>
        </p:grpSpPr>
        <p:sp>
          <p:nvSpPr>
            <p:cNvPr id="10146" name=""/>
            <p:cNvSpPr/>
            <p:nvPr/>
          </p:nvSpPr>
          <p:spPr>
            <a:xfrm>
              <a:off x="2424240" y="851040"/>
              <a:ext cx="426960" cy="615960"/>
            </a:xfrm>
            <a:custGeom>
              <a:avLst/>
              <a:gdLst/>
              <a:ahLst/>
              <a:rect l="l" t="t" r="r" b="b"/>
              <a:pathLst>
                <a:path w="681" h="843">
                  <a:moveTo>
                    <a:pt x="627" y="429"/>
                  </a:moveTo>
                  <a:lnTo>
                    <a:pt x="627" y="444"/>
                  </a:lnTo>
                  <a:lnTo>
                    <a:pt x="630" y="462"/>
                  </a:lnTo>
                  <a:lnTo>
                    <a:pt x="636" y="477"/>
                  </a:lnTo>
                  <a:lnTo>
                    <a:pt x="642" y="492"/>
                  </a:lnTo>
                  <a:lnTo>
                    <a:pt x="645" y="507"/>
                  </a:lnTo>
                  <a:lnTo>
                    <a:pt x="645" y="525"/>
                  </a:lnTo>
                  <a:lnTo>
                    <a:pt x="642" y="543"/>
                  </a:lnTo>
                  <a:lnTo>
                    <a:pt x="639" y="558"/>
                  </a:lnTo>
                  <a:lnTo>
                    <a:pt x="630" y="573"/>
                  </a:lnTo>
                  <a:lnTo>
                    <a:pt x="621" y="588"/>
                  </a:lnTo>
                  <a:lnTo>
                    <a:pt x="606" y="600"/>
                  </a:lnTo>
                  <a:lnTo>
                    <a:pt x="591" y="609"/>
                  </a:lnTo>
                  <a:lnTo>
                    <a:pt x="576" y="615"/>
                  </a:lnTo>
                  <a:lnTo>
                    <a:pt x="561" y="618"/>
                  </a:lnTo>
                  <a:lnTo>
                    <a:pt x="543" y="618"/>
                  </a:lnTo>
                  <a:lnTo>
                    <a:pt x="525" y="615"/>
                  </a:lnTo>
                  <a:lnTo>
                    <a:pt x="510" y="609"/>
                  </a:lnTo>
                  <a:lnTo>
                    <a:pt x="495" y="600"/>
                  </a:lnTo>
                  <a:lnTo>
                    <a:pt x="495" y="603"/>
                  </a:lnTo>
                  <a:lnTo>
                    <a:pt x="492" y="609"/>
                  </a:lnTo>
                  <a:lnTo>
                    <a:pt x="492" y="612"/>
                  </a:lnTo>
                  <a:lnTo>
                    <a:pt x="489" y="615"/>
                  </a:lnTo>
                  <a:lnTo>
                    <a:pt x="492" y="618"/>
                  </a:lnTo>
                  <a:lnTo>
                    <a:pt x="495" y="621"/>
                  </a:lnTo>
                  <a:lnTo>
                    <a:pt x="504" y="621"/>
                  </a:lnTo>
                  <a:lnTo>
                    <a:pt x="513" y="621"/>
                  </a:lnTo>
                  <a:lnTo>
                    <a:pt x="522" y="621"/>
                  </a:lnTo>
                  <a:lnTo>
                    <a:pt x="531" y="624"/>
                  </a:lnTo>
                  <a:lnTo>
                    <a:pt x="537" y="627"/>
                  </a:lnTo>
                  <a:lnTo>
                    <a:pt x="543" y="630"/>
                  </a:lnTo>
                  <a:lnTo>
                    <a:pt x="537" y="651"/>
                  </a:lnTo>
                  <a:lnTo>
                    <a:pt x="525" y="672"/>
                  </a:lnTo>
                  <a:lnTo>
                    <a:pt x="513" y="693"/>
                  </a:lnTo>
                  <a:lnTo>
                    <a:pt x="501" y="711"/>
                  </a:lnTo>
                  <a:lnTo>
                    <a:pt x="492" y="732"/>
                  </a:lnTo>
                  <a:lnTo>
                    <a:pt x="486" y="756"/>
                  </a:lnTo>
                  <a:lnTo>
                    <a:pt x="483" y="765"/>
                  </a:lnTo>
                  <a:lnTo>
                    <a:pt x="480" y="777"/>
                  </a:lnTo>
                  <a:lnTo>
                    <a:pt x="477" y="786"/>
                  </a:lnTo>
                  <a:lnTo>
                    <a:pt x="471" y="795"/>
                  </a:lnTo>
                  <a:lnTo>
                    <a:pt x="462" y="804"/>
                  </a:lnTo>
                  <a:lnTo>
                    <a:pt x="456" y="807"/>
                  </a:lnTo>
                  <a:lnTo>
                    <a:pt x="450" y="810"/>
                  </a:lnTo>
                  <a:lnTo>
                    <a:pt x="444" y="813"/>
                  </a:lnTo>
                  <a:lnTo>
                    <a:pt x="438" y="813"/>
                  </a:lnTo>
                  <a:lnTo>
                    <a:pt x="429" y="816"/>
                  </a:lnTo>
                  <a:lnTo>
                    <a:pt x="423" y="819"/>
                  </a:lnTo>
                  <a:lnTo>
                    <a:pt x="417" y="825"/>
                  </a:lnTo>
                  <a:lnTo>
                    <a:pt x="414" y="828"/>
                  </a:lnTo>
                  <a:lnTo>
                    <a:pt x="414" y="831"/>
                  </a:lnTo>
                  <a:lnTo>
                    <a:pt x="408" y="834"/>
                  </a:lnTo>
                  <a:lnTo>
                    <a:pt x="405" y="837"/>
                  </a:lnTo>
                  <a:lnTo>
                    <a:pt x="399" y="840"/>
                  </a:lnTo>
                  <a:lnTo>
                    <a:pt x="396" y="843"/>
                  </a:lnTo>
                  <a:lnTo>
                    <a:pt x="390" y="837"/>
                  </a:lnTo>
                  <a:lnTo>
                    <a:pt x="384" y="834"/>
                  </a:lnTo>
                  <a:lnTo>
                    <a:pt x="381" y="831"/>
                  </a:lnTo>
                  <a:lnTo>
                    <a:pt x="375" y="831"/>
                  </a:lnTo>
                  <a:lnTo>
                    <a:pt x="369" y="831"/>
                  </a:lnTo>
                  <a:lnTo>
                    <a:pt x="360" y="831"/>
                  </a:lnTo>
                  <a:lnTo>
                    <a:pt x="354" y="834"/>
                  </a:lnTo>
                  <a:lnTo>
                    <a:pt x="351" y="834"/>
                  </a:lnTo>
                  <a:lnTo>
                    <a:pt x="345" y="834"/>
                  </a:lnTo>
                  <a:lnTo>
                    <a:pt x="342" y="834"/>
                  </a:lnTo>
                  <a:lnTo>
                    <a:pt x="339" y="831"/>
                  </a:lnTo>
                  <a:lnTo>
                    <a:pt x="351" y="819"/>
                  </a:lnTo>
                  <a:lnTo>
                    <a:pt x="363" y="807"/>
                  </a:lnTo>
                  <a:lnTo>
                    <a:pt x="378" y="798"/>
                  </a:lnTo>
                  <a:lnTo>
                    <a:pt x="393" y="789"/>
                  </a:lnTo>
                  <a:lnTo>
                    <a:pt x="408" y="783"/>
                  </a:lnTo>
                  <a:lnTo>
                    <a:pt x="426" y="780"/>
                  </a:lnTo>
                  <a:lnTo>
                    <a:pt x="438" y="771"/>
                  </a:lnTo>
                  <a:lnTo>
                    <a:pt x="447" y="756"/>
                  </a:lnTo>
                  <a:lnTo>
                    <a:pt x="456" y="741"/>
                  </a:lnTo>
                  <a:lnTo>
                    <a:pt x="459" y="726"/>
                  </a:lnTo>
                  <a:lnTo>
                    <a:pt x="462" y="708"/>
                  </a:lnTo>
                  <a:lnTo>
                    <a:pt x="465" y="693"/>
                  </a:lnTo>
                  <a:lnTo>
                    <a:pt x="459" y="690"/>
                  </a:lnTo>
                  <a:lnTo>
                    <a:pt x="456" y="687"/>
                  </a:lnTo>
                  <a:lnTo>
                    <a:pt x="447" y="687"/>
                  </a:lnTo>
                  <a:lnTo>
                    <a:pt x="441" y="684"/>
                  </a:lnTo>
                  <a:lnTo>
                    <a:pt x="435" y="684"/>
                  </a:lnTo>
                  <a:lnTo>
                    <a:pt x="429" y="684"/>
                  </a:lnTo>
                  <a:lnTo>
                    <a:pt x="426" y="681"/>
                  </a:lnTo>
                  <a:lnTo>
                    <a:pt x="423" y="678"/>
                  </a:lnTo>
                  <a:lnTo>
                    <a:pt x="420" y="678"/>
                  </a:lnTo>
                  <a:lnTo>
                    <a:pt x="417" y="675"/>
                  </a:lnTo>
                  <a:lnTo>
                    <a:pt x="414" y="672"/>
                  </a:lnTo>
                  <a:lnTo>
                    <a:pt x="411" y="669"/>
                  </a:lnTo>
                  <a:lnTo>
                    <a:pt x="411" y="678"/>
                  </a:lnTo>
                  <a:lnTo>
                    <a:pt x="414" y="687"/>
                  </a:lnTo>
                  <a:lnTo>
                    <a:pt x="420" y="693"/>
                  </a:lnTo>
                  <a:lnTo>
                    <a:pt x="426" y="699"/>
                  </a:lnTo>
                  <a:lnTo>
                    <a:pt x="429" y="705"/>
                  </a:lnTo>
                  <a:lnTo>
                    <a:pt x="432" y="711"/>
                  </a:lnTo>
                  <a:lnTo>
                    <a:pt x="426" y="714"/>
                  </a:lnTo>
                  <a:lnTo>
                    <a:pt x="417" y="711"/>
                  </a:lnTo>
                  <a:lnTo>
                    <a:pt x="411" y="711"/>
                  </a:lnTo>
                  <a:lnTo>
                    <a:pt x="405" y="708"/>
                  </a:lnTo>
                  <a:lnTo>
                    <a:pt x="396" y="705"/>
                  </a:lnTo>
                  <a:lnTo>
                    <a:pt x="390" y="705"/>
                  </a:lnTo>
                  <a:lnTo>
                    <a:pt x="387" y="711"/>
                  </a:lnTo>
                  <a:lnTo>
                    <a:pt x="387" y="717"/>
                  </a:lnTo>
                  <a:lnTo>
                    <a:pt x="384" y="723"/>
                  </a:lnTo>
                  <a:lnTo>
                    <a:pt x="384" y="732"/>
                  </a:lnTo>
                  <a:lnTo>
                    <a:pt x="381" y="735"/>
                  </a:lnTo>
                  <a:lnTo>
                    <a:pt x="378" y="741"/>
                  </a:lnTo>
                  <a:lnTo>
                    <a:pt x="366" y="732"/>
                  </a:lnTo>
                  <a:lnTo>
                    <a:pt x="360" y="720"/>
                  </a:lnTo>
                  <a:lnTo>
                    <a:pt x="354" y="708"/>
                  </a:lnTo>
                  <a:lnTo>
                    <a:pt x="351" y="696"/>
                  </a:lnTo>
                  <a:lnTo>
                    <a:pt x="342" y="684"/>
                  </a:lnTo>
                  <a:lnTo>
                    <a:pt x="333" y="678"/>
                  </a:lnTo>
                  <a:lnTo>
                    <a:pt x="333" y="675"/>
                  </a:lnTo>
                  <a:lnTo>
                    <a:pt x="333" y="672"/>
                  </a:lnTo>
                  <a:lnTo>
                    <a:pt x="333" y="669"/>
                  </a:lnTo>
                  <a:lnTo>
                    <a:pt x="336" y="666"/>
                  </a:lnTo>
                  <a:lnTo>
                    <a:pt x="339" y="666"/>
                  </a:lnTo>
                  <a:lnTo>
                    <a:pt x="342" y="669"/>
                  </a:lnTo>
                  <a:lnTo>
                    <a:pt x="345" y="669"/>
                  </a:lnTo>
                  <a:lnTo>
                    <a:pt x="348" y="672"/>
                  </a:lnTo>
                  <a:lnTo>
                    <a:pt x="351" y="672"/>
                  </a:lnTo>
                  <a:lnTo>
                    <a:pt x="354" y="669"/>
                  </a:lnTo>
                  <a:lnTo>
                    <a:pt x="360" y="669"/>
                  </a:lnTo>
                  <a:lnTo>
                    <a:pt x="363" y="660"/>
                  </a:lnTo>
                  <a:lnTo>
                    <a:pt x="363" y="651"/>
                  </a:lnTo>
                  <a:lnTo>
                    <a:pt x="363" y="642"/>
                  </a:lnTo>
                  <a:lnTo>
                    <a:pt x="363" y="636"/>
                  </a:lnTo>
                  <a:lnTo>
                    <a:pt x="363" y="627"/>
                  </a:lnTo>
                  <a:lnTo>
                    <a:pt x="357" y="621"/>
                  </a:lnTo>
                  <a:lnTo>
                    <a:pt x="345" y="624"/>
                  </a:lnTo>
                  <a:lnTo>
                    <a:pt x="333" y="624"/>
                  </a:lnTo>
                  <a:lnTo>
                    <a:pt x="318" y="621"/>
                  </a:lnTo>
                  <a:lnTo>
                    <a:pt x="306" y="618"/>
                  </a:lnTo>
                  <a:lnTo>
                    <a:pt x="294" y="612"/>
                  </a:lnTo>
                  <a:lnTo>
                    <a:pt x="282" y="606"/>
                  </a:lnTo>
                  <a:lnTo>
                    <a:pt x="276" y="618"/>
                  </a:lnTo>
                  <a:lnTo>
                    <a:pt x="270" y="630"/>
                  </a:lnTo>
                  <a:lnTo>
                    <a:pt x="264" y="642"/>
                  </a:lnTo>
                  <a:lnTo>
                    <a:pt x="258" y="654"/>
                  </a:lnTo>
                  <a:lnTo>
                    <a:pt x="255" y="666"/>
                  </a:lnTo>
                  <a:lnTo>
                    <a:pt x="252" y="678"/>
                  </a:lnTo>
                  <a:lnTo>
                    <a:pt x="249" y="681"/>
                  </a:lnTo>
                  <a:lnTo>
                    <a:pt x="243" y="681"/>
                  </a:lnTo>
                  <a:lnTo>
                    <a:pt x="240" y="681"/>
                  </a:lnTo>
                  <a:lnTo>
                    <a:pt x="234" y="681"/>
                  </a:lnTo>
                  <a:lnTo>
                    <a:pt x="231" y="678"/>
                  </a:lnTo>
                  <a:lnTo>
                    <a:pt x="228" y="675"/>
                  </a:lnTo>
                  <a:lnTo>
                    <a:pt x="219" y="669"/>
                  </a:lnTo>
                  <a:lnTo>
                    <a:pt x="210" y="663"/>
                  </a:lnTo>
                  <a:lnTo>
                    <a:pt x="201" y="657"/>
                  </a:lnTo>
                  <a:lnTo>
                    <a:pt x="192" y="654"/>
                  </a:lnTo>
                  <a:lnTo>
                    <a:pt x="180" y="651"/>
                  </a:lnTo>
                  <a:lnTo>
                    <a:pt x="168" y="651"/>
                  </a:lnTo>
                  <a:lnTo>
                    <a:pt x="168" y="648"/>
                  </a:lnTo>
                  <a:lnTo>
                    <a:pt x="138" y="648"/>
                  </a:lnTo>
                  <a:lnTo>
                    <a:pt x="135" y="648"/>
                  </a:lnTo>
                  <a:lnTo>
                    <a:pt x="129" y="651"/>
                  </a:lnTo>
                  <a:lnTo>
                    <a:pt x="126" y="657"/>
                  </a:lnTo>
                  <a:lnTo>
                    <a:pt x="120" y="660"/>
                  </a:lnTo>
                  <a:lnTo>
                    <a:pt x="117" y="663"/>
                  </a:lnTo>
                  <a:lnTo>
                    <a:pt x="111" y="663"/>
                  </a:lnTo>
                  <a:lnTo>
                    <a:pt x="111" y="660"/>
                  </a:lnTo>
                  <a:lnTo>
                    <a:pt x="111" y="657"/>
                  </a:lnTo>
                  <a:lnTo>
                    <a:pt x="108" y="654"/>
                  </a:lnTo>
                  <a:lnTo>
                    <a:pt x="108" y="651"/>
                  </a:lnTo>
                  <a:lnTo>
                    <a:pt x="111" y="648"/>
                  </a:lnTo>
                  <a:lnTo>
                    <a:pt x="111" y="645"/>
                  </a:lnTo>
                  <a:lnTo>
                    <a:pt x="102" y="645"/>
                  </a:lnTo>
                  <a:lnTo>
                    <a:pt x="93" y="645"/>
                  </a:lnTo>
                  <a:lnTo>
                    <a:pt x="81" y="645"/>
                  </a:lnTo>
                  <a:lnTo>
                    <a:pt x="72" y="648"/>
                  </a:lnTo>
                  <a:lnTo>
                    <a:pt x="63" y="651"/>
                  </a:lnTo>
                  <a:lnTo>
                    <a:pt x="54" y="657"/>
                  </a:lnTo>
                  <a:lnTo>
                    <a:pt x="54" y="654"/>
                  </a:lnTo>
                  <a:lnTo>
                    <a:pt x="51" y="654"/>
                  </a:lnTo>
                  <a:lnTo>
                    <a:pt x="48" y="654"/>
                  </a:lnTo>
                  <a:lnTo>
                    <a:pt x="48" y="651"/>
                  </a:lnTo>
                  <a:lnTo>
                    <a:pt x="45" y="648"/>
                  </a:lnTo>
                  <a:lnTo>
                    <a:pt x="45" y="645"/>
                  </a:lnTo>
                  <a:lnTo>
                    <a:pt x="45" y="642"/>
                  </a:lnTo>
                  <a:lnTo>
                    <a:pt x="48" y="642"/>
                  </a:lnTo>
                  <a:lnTo>
                    <a:pt x="51" y="639"/>
                  </a:lnTo>
                  <a:lnTo>
                    <a:pt x="54" y="636"/>
                  </a:lnTo>
                  <a:lnTo>
                    <a:pt x="54" y="633"/>
                  </a:lnTo>
                  <a:lnTo>
                    <a:pt x="54" y="630"/>
                  </a:lnTo>
                  <a:lnTo>
                    <a:pt x="51" y="627"/>
                  </a:lnTo>
                  <a:lnTo>
                    <a:pt x="45" y="621"/>
                  </a:lnTo>
                  <a:lnTo>
                    <a:pt x="42" y="618"/>
                  </a:lnTo>
                  <a:lnTo>
                    <a:pt x="36" y="615"/>
                  </a:lnTo>
                  <a:lnTo>
                    <a:pt x="33" y="612"/>
                  </a:lnTo>
                  <a:lnTo>
                    <a:pt x="27" y="606"/>
                  </a:lnTo>
                  <a:lnTo>
                    <a:pt x="33" y="606"/>
                  </a:lnTo>
                  <a:lnTo>
                    <a:pt x="36" y="606"/>
                  </a:lnTo>
                  <a:lnTo>
                    <a:pt x="42" y="606"/>
                  </a:lnTo>
                  <a:lnTo>
                    <a:pt x="48" y="606"/>
                  </a:lnTo>
                  <a:lnTo>
                    <a:pt x="54" y="609"/>
                  </a:lnTo>
                  <a:lnTo>
                    <a:pt x="57" y="609"/>
                  </a:lnTo>
                  <a:lnTo>
                    <a:pt x="75" y="609"/>
                  </a:lnTo>
                  <a:lnTo>
                    <a:pt x="90" y="606"/>
                  </a:lnTo>
                  <a:lnTo>
                    <a:pt x="105" y="600"/>
                  </a:lnTo>
                  <a:lnTo>
                    <a:pt x="120" y="594"/>
                  </a:lnTo>
                  <a:lnTo>
                    <a:pt x="135" y="591"/>
                  </a:lnTo>
                  <a:lnTo>
                    <a:pt x="153" y="594"/>
                  </a:lnTo>
                  <a:lnTo>
                    <a:pt x="162" y="597"/>
                  </a:lnTo>
                  <a:lnTo>
                    <a:pt x="171" y="600"/>
                  </a:lnTo>
                  <a:lnTo>
                    <a:pt x="183" y="603"/>
                  </a:lnTo>
                  <a:lnTo>
                    <a:pt x="192" y="606"/>
                  </a:lnTo>
                  <a:lnTo>
                    <a:pt x="201" y="612"/>
                  </a:lnTo>
                  <a:lnTo>
                    <a:pt x="207" y="618"/>
                  </a:lnTo>
                  <a:lnTo>
                    <a:pt x="213" y="612"/>
                  </a:lnTo>
                  <a:lnTo>
                    <a:pt x="213" y="606"/>
                  </a:lnTo>
                  <a:lnTo>
                    <a:pt x="210" y="600"/>
                  </a:lnTo>
                  <a:lnTo>
                    <a:pt x="204" y="591"/>
                  </a:lnTo>
                  <a:lnTo>
                    <a:pt x="201" y="585"/>
                  </a:lnTo>
                  <a:lnTo>
                    <a:pt x="201" y="576"/>
                  </a:lnTo>
                  <a:lnTo>
                    <a:pt x="201" y="567"/>
                  </a:lnTo>
                  <a:lnTo>
                    <a:pt x="204" y="558"/>
                  </a:lnTo>
                  <a:lnTo>
                    <a:pt x="210" y="549"/>
                  </a:lnTo>
                  <a:lnTo>
                    <a:pt x="216" y="543"/>
                  </a:lnTo>
                  <a:lnTo>
                    <a:pt x="219" y="534"/>
                  </a:lnTo>
                  <a:lnTo>
                    <a:pt x="222" y="525"/>
                  </a:lnTo>
                  <a:lnTo>
                    <a:pt x="213" y="525"/>
                  </a:lnTo>
                  <a:lnTo>
                    <a:pt x="207" y="525"/>
                  </a:lnTo>
                  <a:lnTo>
                    <a:pt x="201" y="528"/>
                  </a:lnTo>
                  <a:lnTo>
                    <a:pt x="195" y="531"/>
                  </a:lnTo>
                  <a:lnTo>
                    <a:pt x="189" y="528"/>
                  </a:lnTo>
                  <a:lnTo>
                    <a:pt x="189" y="522"/>
                  </a:lnTo>
                  <a:lnTo>
                    <a:pt x="198" y="510"/>
                  </a:lnTo>
                  <a:lnTo>
                    <a:pt x="210" y="501"/>
                  </a:lnTo>
                  <a:lnTo>
                    <a:pt x="225" y="492"/>
                  </a:lnTo>
                  <a:lnTo>
                    <a:pt x="240" y="486"/>
                  </a:lnTo>
                  <a:lnTo>
                    <a:pt x="255" y="480"/>
                  </a:lnTo>
                  <a:lnTo>
                    <a:pt x="270" y="474"/>
                  </a:lnTo>
                  <a:lnTo>
                    <a:pt x="270" y="477"/>
                  </a:lnTo>
                  <a:lnTo>
                    <a:pt x="294" y="474"/>
                  </a:lnTo>
                  <a:lnTo>
                    <a:pt x="315" y="480"/>
                  </a:lnTo>
                  <a:lnTo>
                    <a:pt x="333" y="489"/>
                  </a:lnTo>
                  <a:lnTo>
                    <a:pt x="351" y="501"/>
                  </a:lnTo>
                  <a:lnTo>
                    <a:pt x="372" y="510"/>
                  </a:lnTo>
                  <a:lnTo>
                    <a:pt x="396" y="513"/>
                  </a:lnTo>
                  <a:lnTo>
                    <a:pt x="408" y="501"/>
                  </a:lnTo>
                  <a:lnTo>
                    <a:pt x="402" y="495"/>
                  </a:lnTo>
                  <a:lnTo>
                    <a:pt x="396" y="489"/>
                  </a:lnTo>
                  <a:lnTo>
                    <a:pt x="387" y="483"/>
                  </a:lnTo>
                  <a:lnTo>
                    <a:pt x="381" y="480"/>
                  </a:lnTo>
                  <a:lnTo>
                    <a:pt x="372" y="477"/>
                  </a:lnTo>
                  <a:lnTo>
                    <a:pt x="360" y="474"/>
                  </a:lnTo>
                  <a:lnTo>
                    <a:pt x="339" y="462"/>
                  </a:lnTo>
                  <a:lnTo>
                    <a:pt x="318" y="450"/>
                  </a:lnTo>
                  <a:lnTo>
                    <a:pt x="297" y="435"/>
                  </a:lnTo>
                  <a:lnTo>
                    <a:pt x="276" y="417"/>
                  </a:lnTo>
                  <a:lnTo>
                    <a:pt x="258" y="399"/>
                  </a:lnTo>
                  <a:lnTo>
                    <a:pt x="240" y="381"/>
                  </a:lnTo>
                  <a:lnTo>
                    <a:pt x="228" y="381"/>
                  </a:lnTo>
                  <a:lnTo>
                    <a:pt x="213" y="378"/>
                  </a:lnTo>
                  <a:lnTo>
                    <a:pt x="201" y="369"/>
                  </a:lnTo>
                  <a:lnTo>
                    <a:pt x="192" y="363"/>
                  </a:lnTo>
                  <a:lnTo>
                    <a:pt x="177" y="357"/>
                  </a:lnTo>
                  <a:lnTo>
                    <a:pt x="165" y="354"/>
                  </a:lnTo>
                  <a:lnTo>
                    <a:pt x="144" y="354"/>
                  </a:lnTo>
                  <a:lnTo>
                    <a:pt x="129" y="363"/>
                  </a:lnTo>
                  <a:lnTo>
                    <a:pt x="117" y="372"/>
                  </a:lnTo>
                  <a:lnTo>
                    <a:pt x="105" y="384"/>
                  </a:lnTo>
                  <a:lnTo>
                    <a:pt x="93" y="396"/>
                  </a:lnTo>
                  <a:lnTo>
                    <a:pt x="78" y="408"/>
                  </a:lnTo>
                  <a:lnTo>
                    <a:pt x="63" y="414"/>
                  </a:lnTo>
                  <a:lnTo>
                    <a:pt x="57" y="426"/>
                  </a:lnTo>
                  <a:lnTo>
                    <a:pt x="57" y="438"/>
                  </a:lnTo>
                  <a:lnTo>
                    <a:pt x="60" y="450"/>
                  </a:lnTo>
                  <a:lnTo>
                    <a:pt x="63" y="465"/>
                  </a:lnTo>
                  <a:lnTo>
                    <a:pt x="63" y="480"/>
                  </a:lnTo>
                  <a:lnTo>
                    <a:pt x="60" y="483"/>
                  </a:lnTo>
                  <a:lnTo>
                    <a:pt x="54" y="486"/>
                  </a:lnTo>
                  <a:lnTo>
                    <a:pt x="51" y="486"/>
                  </a:lnTo>
                  <a:lnTo>
                    <a:pt x="45" y="486"/>
                  </a:lnTo>
                  <a:lnTo>
                    <a:pt x="39" y="486"/>
                  </a:lnTo>
                  <a:lnTo>
                    <a:pt x="36" y="486"/>
                  </a:lnTo>
                  <a:lnTo>
                    <a:pt x="30" y="492"/>
                  </a:lnTo>
                  <a:lnTo>
                    <a:pt x="24" y="498"/>
                  </a:lnTo>
                  <a:lnTo>
                    <a:pt x="21" y="504"/>
                  </a:lnTo>
                  <a:lnTo>
                    <a:pt x="15" y="507"/>
                  </a:lnTo>
                  <a:lnTo>
                    <a:pt x="9" y="510"/>
                  </a:lnTo>
                  <a:lnTo>
                    <a:pt x="0" y="510"/>
                  </a:lnTo>
                  <a:lnTo>
                    <a:pt x="0" y="495"/>
                  </a:lnTo>
                  <a:lnTo>
                    <a:pt x="3" y="483"/>
                  </a:lnTo>
                  <a:lnTo>
                    <a:pt x="6" y="468"/>
                  </a:lnTo>
                  <a:lnTo>
                    <a:pt x="12" y="453"/>
                  </a:lnTo>
                  <a:lnTo>
                    <a:pt x="12" y="438"/>
                  </a:lnTo>
                  <a:lnTo>
                    <a:pt x="12" y="420"/>
                  </a:lnTo>
                  <a:lnTo>
                    <a:pt x="24" y="405"/>
                  </a:lnTo>
                  <a:lnTo>
                    <a:pt x="39" y="390"/>
                  </a:lnTo>
                  <a:lnTo>
                    <a:pt x="54" y="375"/>
                  </a:lnTo>
                  <a:lnTo>
                    <a:pt x="72" y="360"/>
                  </a:lnTo>
                  <a:lnTo>
                    <a:pt x="87" y="345"/>
                  </a:lnTo>
                  <a:lnTo>
                    <a:pt x="99" y="327"/>
                  </a:lnTo>
                  <a:lnTo>
                    <a:pt x="114" y="318"/>
                  </a:lnTo>
                  <a:lnTo>
                    <a:pt x="129" y="312"/>
                  </a:lnTo>
                  <a:lnTo>
                    <a:pt x="147" y="312"/>
                  </a:lnTo>
                  <a:lnTo>
                    <a:pt x="162" y="312"/>
                  </a:lnTo>
                  <a:lnTo>
                    <a:pt x="180" y="312"/>
                  </a:lnTo>
                  <a:lnTo>
                    <a:pt x="195" y="312"/>
                  </a:lnTo>
                  <a:lnTo>
                    <a:pt x="183" y="291"/>
                  </a:lnTo>
                  <a:lnTo>
                    <a:pt x="174" y="270"/>
                  </a:lnTo>
                  <a:lnTo>
                    <a:pt x="168" y="246"/>
                  </a:lnTo>
                  <a:lnTo>
                    <a:pt x="165" y="219"/>
                  </a:lnTo>
                  <a:lnTo>
                    <a:pt x="162" y="195"/>
                  </a:lnTo>
                  <a:lnTo>
                    <a:pt x="156" y="171"/>
                  </a:lnTo>
                  <a:lnTo>
                    <a:pt x="156" y="165"/>
                  </a:lnTo>
                  <a:lnTo>
                    <a:pt x="150" y="162"/>
                  </a:lnTo>
                  <a:lnTo>
                    <a:pt x="147" y="159"/>
                  </a:lnTo>
                  <a:lnTo>
                    <a:pt x="147" y="156"/>
                  </a:lnTo>
                  <a:lnTo>
                    <a:pt x="147" y="153"/>
                  </a:lnTo>
                  <a:lnTo>
                    <a:pt x="150" y="147"/>
                  </a:lnTo>
                  <a:lnTo>
                    <a:pt x="141" y="144"/>
                  </a:lnTo>
                  <a:lnTo>
                    <a:pt x="132" y="135"/>
                  </a:lnTo>
                  <a:lnTo>
                    <a:pt x="123" y="126"/>
                  </a:lnTo>
                  <a:lnTo>
                    <a:pt x="114" y="117"/>
                  </a:lnTo>
                  <a:lnTo>
                    <a:pt x="105" y="111"/>
                  </a:lnTo>
                  <a:lnTo>
                    <a:pt x="93" y="114"/>
                  </a:lnTo>
                  <a:lnTo>
                    <a:pt x="84" y="108"/>
                  </a:lnTo>
                  <a:lnTo>
                    <a:pt x="72" y="105"/>
                  </a:lnTo>
                  <a:lnTo>
                    <a:pt x="60" y="102"/>
                  </a:lnTo>
                  <a:lnTo>
                    <a:pt x="51" y="99"/>
                  </a:lnTo>
                  <a:lnTo>
                    <a:pt x="45" y="90"/>
                  </a:lnTo>
                  <a:lnTo>
                    <a:pt x="42" y="78"/>
                  </a:lnTo>
                  <a:lnTo>
                    <a:pt x="45" y="78"/>
                  </a:lnTo>
                  <a:lnTo>
                    <a:pt x="45" y="75"/>
                  </a:lnTo>
                  <a:lnTo>
                    <a:pt x="48" y="72"/>
                  </a:lnTo>
                  <a:lnTo>
                    <a:pt x="51" y="69"/>
                  </a:lnTo>
                  <a:lnTo>
                    <a:pt x="45" y="63"/>
                  </a:lnTo>
                  <a:lnTo>
                    <a:pt x="42" y="57"/>
                  </a:lnTo>
                  <a:lnTo>
                    <a:pt x="39" y="48"/>
                  </a:lnTo>
                  <a:lnTo>
                    <a:pt x="39" y="42"/>
                  </a:lnTo>
                  <a:lnTo>
                    <a:pt x="42" y="36"/>
                  </a:lnTo>
                  <a:lnTo>
                    <a:pt x="45" y="27"/>
                  </a:lnTo>
                  <a:lnTo>
                    <a:pt x="54" y="21"/>
                  </a:lnTo>
                  <a:lnTo>
                    <a:pt x="60" y="27"/>
                  </a:lnTo>
                  <a:lnTo>
                    <a:pt x="66" y="36"/>
                  </a:lnTo>
                  <a:lnTo>
                    <a:pt x="72" y="42"/>
                  </a:lnTo>
                  <a:lnTo>
                    <a:pt x="78" y="48"/>
                  </a:lnTo>
                  <a:lnTo>
                    <a:pt x="84" y="54"/>
                  </a:lnTo>
                  <a:lnTo>
                    <a:pt x="96" y="57"/>
                  </a:lnTo>
                  <a:lnTo>
                    <a:pt x="108" y="69"/>
                  </a:lnTo>
                  <a:lnTo>
                    <a:pt x="120" y="78"/>
                  </a:lnTo>
                  <a:lnTo>
                    <a:pt x="132" y="87"/>
                  </a:lnTo>
                  <a:lnTo>
                    <a:pt x="147" y="93"/>
                  </a:lnTo>
                  <a:lnTo>
                    <a:pt x="159" y="102"/>
                  </a:lnTo>
                  <a:lnTo>
                    <a:pt x="171" y="117"/>
                  </a:lnTo>
                  <a:lnTo>
                    <a:pt x="183" y="129"/>
                  </a:lnTo>
                  <a:lnTo>
                    <a:pt x="192" y="141"/>
                  </a:lnTo>
                  <a:lnTo>
                    <a:pt x="198" y="156"/>
                  </a:lnTo>
                  <a:lnTo>
                    <a:pt x="204" y="171"/>
                  </a:lnTo>
                  <a:lnTo>
                    <a:pt x="210" y="186"/>
                  </a:lnTo>
                  <a:lnTo>
                    <a:pt x="213" y="201"/>
                  </a:lnTo>
                  <a:lnTo>
                    <a:pt x="216" y="210"/>
                  </a:lnTo>
                  <a:lnTo>
                    <a:pt x="219" y="219"/>
                  </a:lnTo>
                  <a:lnTo>
                    <a:pt x="225" y="228"/>
                  </a:lnTo>
                  <a:lnTo>
                    <a:pt x="228" y="237"/>
                  </a:lnTo>
                  <a:lnTo>
                    <a:pt x="234" y="246"/>
                  </a:lnTo>
                  <a:lnTo>
                    <a:pt x="237" y="255"/>
                  </a:lnTo>
                  <a:lnTo>
                    <a:pt x="249" y="237"/>
                  </a:lnTo>
                  <a:lnTo>
                    <a:pt x="264" y="228"/>
                  </a:lnTo>
                  <a:lnTo>
                    <a:pt x="282" y="219"/>
                  </a:lnTo>
                  <a:lnTo>
                    <a:pt x="303" y="213"/>
                  </a:lnTo>
                  <a:lnTo>
                    <a:pt x="321" y="204"/>
                  </a:lnTo>
                  <a:lnTo>
                    <a:pt x="333" y="189"/>
                  </a:lnTo>
                  <a:lnTo>
                    <a:pt x="336" y="183"/>
                  </a:lnTo>
                  <a:lnTo>
                    <a:pt x="339" y="174"/>
                  </a:lnTo>
                  <a:lnTo>
                    <a:pt x="339" y="168"/>
                  </a:lnTo>
                  <a:lnTo>
                    <a:pt x="339" y="159"/>
                  </a:lnTo>
                  <a:lnTo>
                    <a:pt x="339" y="153"/>
                  </a:lnTo>
                  <a:lnTo>
                    <a:pt x="336" y="144"/>
                  </a:lnTo>
                  <a:lnTo>
                    <a:pt x="309" y="150"/>
                  </a:lnTo>
                  <a:lnTo>
                    <a:pt x="306" y="156"/>
                  </a:lnTo>
                  <a:lnTo>
                    <a:pt x="300" y="165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91" y="189"/>
                  </a:lnTo>
                  <a:lnTo>
                    <a:pt x="291" y="195"/>
                  </a:lnTo>
                  <a:lnTo>
                    <a:pt x="288" y="198"/>
                  </a:lnTo>
                  <a:lnTo>
                    <a:pt x="285" y="201"/>
                  </a:lnTo>
                  <a:lnTo>
                    <a:pt x="285" y="204"/>
                  </a:lnTo>
                  <a:lnTo>
                    <a:pt x="288" y="207"/>
                  </a:lnTo>
                  <a:lnTo>
                    <a:pt x="279" y="213"/>
                  </a:lnTo>
                  <a:lnTo>
                    <a:pt x="273" y="213"/>
                  </a:lnTo>
                  <a:lnTo>
                    <a:pt x="267" y="210"/>
                  </a:lnTo>
                  <a:lnTo>
                    <a:pt x="261" y="204"/>
                  </a:lnTo>
                  <a:lnTo>
                    <a:pt x="255" y="201"/>
                  </a:lnTo>
                  <a:lnTo>
                    <a:pt x="249" y="204"/>
                  </a:lnTo>
                  <a:lnTo>
                    <a:pt x="243" y="204"/>
                  </a:lnTo>
                  <a:lnTo>
                    <a:pt x="240" y="198"/>
                  </a:lnTo>
                  <a:lnTo>
                    <a:pt x="237" y="195"/>
                  </a:lnTo>
                  <a:lnTo>
                    <a:pt x="237" y="189"/>
                  </a:lnTo>
                  <a:lnTo>
                    <a:pt x="234" y="183"/>
                  </a:lnTo>
                  <a:lnTo>
                    <a:pt x="231" y="180"/>
                  </a:lnTo>
                  <a:lnTo>
                    <a:pt x="237" y="168"/>
                  </a:lnTo>
                  <a:lnTo>
                    <a:pt x="243" y="153"/>
                  </a:lnTo>
                  <a:lnTo>
                    <a:pt x="246" y="141"/>
                  </a:lnTo>
                  <a:lnTo>
                    <a:pt x="249" y="129"/>
                  </a:lnTo>
                  <a:lnTo>
                    <a:pt x="255" y="114"/>
                  </a:lnTo>
                  <a:lnTo>
                    <a:pt x="261" y="102"/>
                  </a:lnTo>
                  <a:lnTo>
                    <a:pt x="261" y="96"/>
                  </a:lnTo>
                  <a:lnTo>
                    <a:pt x="261" y="93"/>
                  </a:lnTo>
                  <a:lnTo>
                    <a:pt x="258" y="87"/>
                  </a:lnTo>
                  <a:lnTo>
                    <a:pt x="276" y="51"/>
                  </a:lnTo>
                  <a:lnTo>
                    <a:pt x="255" y="30"/>
                  </a:lnTo>
                  <a:lnTo>
                    <a:pt x="252" y="27"/>
                  </a:lnTo>
                  <a:lnTo>
                    <a:pt x="249" y="24"/>
                  </a:lnTo>
                  <a:lnTo>
                    <a:pt x="249" y="18"/>
                  </a:lnTo>
                  <a:lnTo>
                    <a:pt x="246" y="15"/>
                  </a:lnTo>
                  <a:lnTo>
                    <a:pt x="249" y="9"/>
                  </a:lnTo>
                  <a:lnTo>
                    <a:pt x="255" y="9"/>
                  </a:lnTo>
                  <a:lnTo>
                    <a:pt x="261" y="12"/>
                  </a:lnTo>
                  <a:lnTo>
                    <a:pt x="267" y="15"/>
                  </a:lnTo>
                  <a:lnTo>
                    <a:pt x="273" y="18"/>
                  </a:lnTo>
                  <a:lnTo>
                    <a:pt x="276" y="21"/>
                  </a:lnTo>
                  <a:lnTo>
                    <a:pt x="282" y="24"/>
                  </a:lnTo>
                  <a:lnTo>
                    <a:pt x="276" y="0"/>
                  </a:lnTo>
                  <a:lnTo>
                    <a:pt x="285" y="0"/>
                  </a:lnTo>
                  <a:lnTo>
                    <a:pt x="291" y="0"/>
                  </a:lnTo>
                  <a:lnTo>
                    <a:pt x="300" y="3"/>
                  </a:lnTo>
                  <a:lnTo>
                    <a:pt x="306" y="9"/>
                  </a:lnTo>
                  <a:lnTo>
                    <a:pt x="312" y="15"/>
                  </a:lnTo>
                  <a:lnTo>
                    <a:pt x="321" y="21"/>
                  </a:lnTo>
                  <a:lnTo>
                    <a:pt x="324" y="33"/>
                  </a:lnTo>
                  <a:lnTo>
                    <a:pt x="330" y="33"/>
                  </a:lnTo>
                  <a:lnTo>
                    <a:pt x="333" y="30"/>
                  </a:lnTo>
                  <a:lnTo>
                    <a:pt x="339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51" y="30"/>
                  </a:lnTo>
                  <a:lnTo>
                    <a:pt x="357" y="27"/>
                  </a:lnTo>
                  <a:lnTo>
                    <a:pt x="363" y="24"/>
                  </a:lnTo>
                  <a:lnTo>
                    <a:pt x="369" y="21"/>
                  </a:lnTo>
                  <a:lnTo>
                    <a:pt x="378" y="18"/>
                  </a:lnTo>
                  <a:lnTo>
                    <a:pt x="384" y="15"/>
                  </a:lnTo>
                  <a:lnTo>
                    <a:pt x="390" y="12"/>
                  </a:lnTo>
                  <a:lnTo>
                    <a:pt x="390" y="15"/>
                  </a:lnTo>
                  <a:lnTo>
                    <a:pt x="393" y="18"/>
                  </a:lnTo>
                  <a:lnTo>
                    <a:pt x="396" y="18"/>
                  </a:lnTo>
                  <a:lnTo>
                    <a:pt x="399" y="18"/>
                  </a:lnTo>
                  <a:lnTo>
                    <a:pt x="402" y="18"/>
                  </a:lnTo>
                  <a:lnTo>
                    <a:pt x="402" y="15"/>
                  </a:lnTo>
                  <a:lnTo>
                    <a:pt x="399" y="15"/>
                  </a:lnTo>
                  <a:lnTo>
                    <a:pt x="396" y="15"/>
                  </a:lnTo>
                  <a:lnTo>
                    <a:pt x="399" y="15"/>
                  </a:lnTo>
                  <a:lnTo>
                    <a:pt x="405" y="15"/>
                  </a:lnTo>
                  <a:lnTo>
                    <a:pt x="408" y="15"/>
                  </a:lnTo>
                  <a:lnTo>
                    <a:pt x="414" y="12"/>
                  </a:lnTo>
                  <a:lnTo>
                    <a:pt x="417" y="12"/>
                  </a:lnTo>
                  <a:lnTo>
                    <a:pt x="423" y="15"/>
                  </a:lnTo>
                  <a:lnTo>
                    <a:pt x="420" y="15"/>
                  </a:lnTo>
                  <a:lnTo>
                    <a:pt x="420" y="18"/>
                  </a:lnTo>
                  <a:lnTo>
                    <a:pt x="420" y="21"/>
                  </a:lnTo>
                  <a:lnTo>
                    <a:pt x="420" y="24"/>
                  </a:lnTo>
                  <a:lnTo>
                    <a:pt x="420" y="30"/>
                  </a:lnTo>
                  <a:lnTo>
                    <a:pt x="423" y="33"/>
                  </a:lnTo>
                  <a:lnTo>
                    <a:pt x="429" y="33"/>
                  </a:lnTo>
                  <a:lnTo>
                    <a:pt x="432" y="33"/>
                  </a:lnTo>
                  <a:lnTo>
                    <a:pt x="435" y="33"/>
                  </a:lnTo>
                  <a:lnTo>
                    <a:pt x="441" y="33"/>
                  </a:lnTo>
                  <a:lnTo>
                    <a:pt x="444" y="33"/>
                  </a:lnTo>
                  <a:lnTo>
                    <a:pt x="453" y="36"/>
                  </a:lnTo>
                  <a:lnTo>
                    <a:pt x="465" y="36"/>
                  </a:lnTo>
                  <a:lnTo>
                    <a:pt x="477" y="36"/>
                  </a:lnTo>
                  <a:lnTo>
                    <a:pt x="486" y="36"/>
                  </a:lnTo>
                  <a:lnTo>
                    <a:pt x="489" y="39"/>
                  </a:lnTo>
                  <a:lnTo>
                    <a:pt x="483" y="54"/>
                  </a:lnTo>
                  <a:lnTo>
                    <a:pt x="489" y="60"/>
                  </a:lnTo>
                  <a:lnTo>
                    <a:pt x="495" y="63"/>
                  </a:lnTo>
                  <a:lnTo>
                    <a:pt x="501" y="66"/>
                  </a:lnTo>
                  <a:lnTo>
                    <a:pt x="507" y="66"/>
                  </a:lnTo>
                  <a:lnTo>
                    <a:pt x="516" y="66"/>
                  </a:lnTo>
                  <a:lnTo>
                    <a:pt x="522" y="66"/>
                  </a:lnTo>
                  <a:lnTo>
                    <a:pt x="525" y="69"/>
                  </a:lnTo>
                  <a:lnTo>
                    <a:pt x="525" y="72"/>
                  </a:lnTo>
                  <a:lnTo>
                    <a:pt x="525" y="75"/>
                  </a:lnTo>
                  <a:lnTo>
                    <a:pt x="525" y="78"/>
                  </a:lnTo>
                  <a:lnTo>
                    <a:pt x="522" y="78"/>
                  </a:lnTo>
                  <a:lnTo>
                    <a:pt x="522" y="81"/>
                  </a:lnTo>
                  <a:lnTo>
                    <a:pt x="501" y="96"/>
                  </a:lnTo>
                  <a:lnTo>
                    <a:pt x="507" y="102"/>
                  </a:lnTo>
                  <a:lnTo>
                    <a:pt x="516" y="108"/>
                  </a:lnTo>
                  <a:lnTo>
                    <a:pt x="525" y="117"/>
                  </a:lnTo>
                  <a:lnTo>
                    <a:pt x="531" y="126"/>
                  </a:lnTo>
                  <a:lnTo>
                    <a:pt x="537" y="135"/>
                  </a:lnTo>
                  <a:lnTo>
                    <a:pt x="534" y="144"/>
                  </a:lnTo>
                  <a:lnTo>
                    <a:pt x="531" y="144"/>
                  </a:lnTo>
                  <a:lnTo>
                    <a:pt x="528" y="144"/>
                  </a:lnTo>
                  <a:lnTo>
                    <a:pt x="522" y="144"/>
                  </a:lnTo>
                  <a:lnTo>
                    <a:pt x="519" y="144"/>
                  </a:lnTo>
                  <a:lnTo>
                    <a:pt x="513" y="144"/>
                  </a:lnTo>
                  <a:lnTo>
                    <a:pt x="510" y="147"/>
                  </a:lnTo>
                  <a:lnTo>
                    <a:pt x="516" y="156"/>
                  </a:lnTo>
                  <a:lnTo>
                    <a:pt x="519" y="165"/>
                  </a:lnTo>
                  <a:lnTo>
                    <a:pt x="525" y="177"/>
                  </a:lnTo>
                  <a:lnTo>
                    <a:pt x="531" y="186"/>
                  </a:lnTo>
                  <a:lnTo>
                    <a:pt x="540" y="192"/>
                  </a:lnTo>
                  <a:lnTo>
                    <a:pt x="552" y="192"/>
                  </a:lnTo>
                  <a:lnTo>
                    <a:pt x="546" y="198"/>
                  </a:lnTo>
                  <a:lnTo>
                    <a:pt x="543" y="201"/>
                  </a:lnTo>
                  <a:lnTo>
                    <a:pt x="537" y="207"/>
                  </a:lnTo>
                  <a:lnTo>
                    <a:pt x="531" y="210"/>
                  </a:lnTo>
                  <a:lnTo>
                    <a:pt x="528" y="213"/>
                  </a:lnTo>
                  <a:lnTo>
                    <a:pt x="522" y="216"/>
                  </a:lnTo>
                  <a:lnTo>
                    <a:pt x="525" y="222"/>
                  </a:lnTo>
                  <a:lnTo>
                    <a:pt x="528" y="222"/>
                  </a:lnTo>
                  <a:lnTo>
                    <a:pt x="534" y="225"/>
                  </a:lnTo>
                  <a:lnTo>
                    <a:pt x="537" y="228"/>
                  </a:lnTo>
                  <a:lnTo>
                    <a:pt x="543" y="228"/>
                  </a:lnTo>
                  <a:lnTo>
                    <a:pt x="546" y="234"/>
                  </a:lnTo>
                  <a:lnTo>
                    <a:pt x="543" y="237"/>
                  </a:lnTo>
                  <a:lnTo>
                    <a:pt x="537" y="240"/>
                  </a:lnTo>
                  <a:lnTo>
                    <a:pt x="534" y="246"/>
                  </a:lnTo>
                  <a:lnTo>
                    <a:pt x="528" y="249"/>
                  </a:lnTo>
                  <a:lnTo>
                    <a:pt x="522" y="252"/>
                  </a:lnTo>
                  <a:lnTo>
                    <a:pt x="516" y="255"/>
                  </a:lnTo>
                  <a:lnTo>
                    <a:pt x="516" y="258"/>
                  </a:lnTo>
                  <a:lnTo>
                    <a:pt x="519" y="264"/>
                  </a:lnTo>
                  <a:lnTo>
                    <a:pt x="519" y="267"/>
                  </a:lnTo>
                  <a:lnTo>
                    <a:pt x="522" y="267"/>
                  </a:lnTo>
                  <a:lnTo>
                    <a:pt x="528" y="270"/>
                  </a:lnTo>
                  <a:lnTo>
                    <a:pt x="531" y="270"/>
                  </a:lnTo>
                  <a:lnTo>
                    <a:pt x="534" y="273"/>
                  </a:lnTo>
                  <a:lnTo>
                    <a:pt x="537" y="273"/>
                  </a:lnTo>
                  <a:lnTo>
                    <a:pt x="543" y="270"/>
                  </a:lnTo>
                  <a:lnTo>
                    <a:pt x="546" y="270"/>
                  </a:lnTo>
                  <a:lnTo>
                    <a:pt x="549" y="273"/>
                  </a:lnTo>
                  <a:lnTo>
                    <a:pt x="549" y="276"/>
                  </a:lnTo>
                  <a:lnTo>
                    <a:pt x="543" y="282"/>
                  </a:lnTo>
                  <a:lnTo>
                    <a:pt x="537" y="288"/>
                  </a:lnTo>
                  <a:lnTo>
                    <a:pt x="531" y="291"/>
                  </a:lnTo>
                  <a:lnTo>
                    <a:pt x="522" y="294"/>
                  </a:lnTo>
                  <a:lnTo>
                    <a:pt x="513" y="294"/>
                  </a:lnTo>
                  <a:lnTo>
                    <a:pt x="507" y="294"/>
                  </a:lnTo>
                  <a:lnTo>
                    <a:pt x="507" y="300"/>
                  </a:lnTo>
                  <a:lnTo>
                    <a:pt x="510" y="303"/>
                  </a:lnTo>
                  <a:lnTo>
                    <a:pt x="513" y="306"/>
                  </a:lnTo>
                  <a:lnTo>
                    <a:pt x="516" y="309"/>
                  </a:lnTo>
                  <a:lnTo>
                    <a:pt x="522" y="309"/>
                  </a:lnTo>
                  <a:lnTo>
                    <a:pt x="525" y="309"/>
                  </a:lnTo>
                  <a:lnTo>
                    <a:pt x="525" y="312"/>
                  </a:lnTo>
                  <a:lnTo>
                    <a:pt x="525" y="315"/>
                  </a:lnTo>
                  <a:lnTo>
                    <a:pt x="525" y="318"/>
                  </a:lnTo>
                  <a:lnTo>
                    <a:pt x="522" y="318"/>
                  </a:lnTo>
                  <a:lnTo>
                    <a:pt x="522" y="321"/>
                  </a:lnTo>
                  <a:lnTo>
                    <a:pt x="519" y="321"/>
                  </a:lnTo>
                  <a:lnTo>
                    <a:pt x="516" y="321"/>
                  </a:lnTo>
                  <a:lnTo>
                    <a:pt x="516" y="324"/>
                  </a:lnTo>
                  <a:lnTo>
                    <a:pt x="513" y="324"/>
                  </a:lnTo>
                  <a:lnTo>
                    <a:pt x="510" y="324"/>
                  </a:lnTo>
                  <a:lnTo>
                    <a:pt x="489" y="327"/>
                  </a:lnTo>
                  <a:lnTo>
                    <a:pt x="492" y="330"/>
                  </a:lnTo>
                  <a:lnTo>
                    <a:pt x="498" y="330"/>
                  </a:lnTo>
                  <a:lnTo>
                    <a:pt x="498" y="333"/>
                  </a:lnTo>
                  <a:lnTo>
                    <a:pt x="501" y="336"/>
                  </a:lnTo>
                  <a:lnTo>
                    <a:pt x="501" y="339"/>
                  </a:lnTo>
                  <a:lnTo>
                    <a:pt x="495" y="342"/>
                  </a:lnTo>
                  <a:lnTo>
                    <a:pt x="489" y="342"/>
                  </a:lnTo>
                  <a:lnTo>
                    <a:pt x="483" y="345"/>
                  </a:lnTo>
                  <a:lnTo>
                    <a:pt x="477" y="342"/>
                  </a:lnTo>
                  <a:lnTo>
                    <a:pt x="471" y="345"/>
                  </a:lnTo>
                  <a:lnTo>
                    <a:pt x="465" y="345"/>
                  </a:lnTo>
                  <a:lnTo>
                    <a:pt x="462" y="345"/>
                  </a:lnTo>
                  <a:lnTo>
                    <a:pt x="459" y="345"/>
                  </a:lnTo>
                  <a:lnTo>
                    <a:pt x="456" y="345"/>
                  </a:lnTo>
                  <a:lnTo>
                    <a:pt x="450" y="345"/>
                  </a:lnTo>
                  <a:lnTo>
                    <a:pt x="447" y="348"/>
                  </a:lnTo>
                  <a:lnTo>
                    <a:pt x="447" y="351"/>
                  </a:lnTo>
                  <a:lnTo>
                    <a:pt x="447" y="354"/>
                  </a:lnTo>
                  <a:lnTo>
                    <a:pt x="447" y="357"/>
                  </a:lnTo>
                  <a:lnTo>
                    <a:pt x="447" y="360"/>
                  </a:lnTo>
                  <a:lnTo>
                    <a:pt x="450" y="363"/>
                  </a:lnTo>
                  <a:lnTo>
                    <a:pt x="447" y="363"/>
                  </a:lnTo>
                  <a:lnTo>
                    <a:pt x="462" y="396"/>
                  </a:lnTo>
                  <a:lnTo>
                    <a:pt x="474" y="432"/>
                  </a:lnTo>
                  <a:lnTo>
                    <a:pt x="486" y="468"/>
                  </a:lnTo>
                  <a:lnTo>
                    <a:pt x="501" y="504"/>
                  </a:lnTo>
                  <a:lnTo>
                    <a:pt x="516" y="537"/>
                  </a:lnTo>
                  <a:lnTo>
                    <a:pt x="534" y="570"/>
                  </a:lnTo>
                  <a:lnTo>
                    <a:pt x="540" y="576"/>
                  </a:lnTo>
                  <a:lnTo>
                    <a:pt x="546" y="576"/>
                  </a:lnTo>
                  <a:lnTo>
                    <a:pt x="552" y="579"/>
                  </a:lnTo>
                  <a:lnTo>
                    <a:pt x="558" y="576"/>
                  </a:lnTo>
                  <a:lnTo>
                    <a:pt x="564" y="576"/>
                  </a:lnTo>
                  <a:lnTo>
                    <a:pt x="570" y="573"/>
                  </a:lnTo>
                  <a:lnTo>
                    <a:pt x="582" y="567"/>
                  </a:lnTo>
                  <a:lnTo>
                    <a:pt x="588" y="558"/>
                  </a:lnTo>
                  <a:lnTo>
                    <a:pt x="594" y="549"/>
                  </a:lnTo>
                  <a:lnTo>
                    <a:pt x="597" y="540"/>
                  </a:lnTo>
                  <a:lnTo>
                    <a:pt x="600" y="528"/>
                  </a:lnTo>
                  <a:lnTo>
                    <a:pt x="600" y="516"/>
                  </a:lnTo>
                  <a:lnTo>
                    <a:pt x="594" y="495"/>
                  </a:lnTo>
                  <a:lnTo>
                    <a:pt x="582" y="477"/>
                  </a:lnTo>
                  <a:lnTo>
                    <a:pt x="564" y="462"/>
                  </a:lnTo>
                  <a:lnTo>
                    <a:pt x="549" y="444"/>
                  </a:lnTo>
                  <a:lnTo>
                    <a:pt x="540" y="426"/>
                  </a:lnTo>
                  <a:lnTo>
                    <a:pt x="543" y="402"/>
                  </a:lnTo>
                  <a:lnTo>
                    <a:pt x="549" y="405"/>
                  </a:lnTo>
                  <a:lnTo>
                    <a:pt x="552" y="405"/>
                  </a:lnTo>
                  <a:lnTo>
                    <a:pt x="558" y="408"/>
                  </a:lnTo>
                  <a:lnTo>
                    <a:pt x="561" y="408"/>
                  </a:lnTo>
                  <a:lnTo>
                    <a:pt x="564" y="408"/>
                  </a:lnTo>
                  <a:lnTo>
                    <a:pt x="570" y="405"/>
                  </a:lnTo>
                  <a:lnTo>
                    <a:pt x="567" y="381"/>
                  </a:lnTo>
                  <a:lnTo>
                    <a:pt x="567" y="360"/>
                  </a:lnTo>
                  <a:lnTo>
                    <a:pt x="573" y="339"/>
                  </a:lnTo>
                  <a:lnTo>
                    <a:pt x="579" y="318"/>
                  </a:lnTo>
                  <a:lnTo>
                    <a:pt x="585" y="297"/>
                  </a:lnTo>
                  <a:lnTo>
                    <a:pt x="594" y="279"/>
                  </a:lnTo>
                  <a:lnTo>
                    <a:pt x="600" y="264"/>
                  </a:lnTo>
                  <a:lnTo>
                    <a:pt x="609" y="249"/>
                  </a:lnTo>
                  <a:lnTo>
                    <a:pt x="615" y="234"/>
                  </a:lnTo>
                  <a:lnTo>
                    <a:pt x="621" y="222"/>
                  </a:lnTo>
                  <a:lnTo>
                    <a:pt x="627" y="207"/>
                  </a:lnTo>
                  <a:lnTo>
                    <a:pt x="633" y="192"/>
                  </a:lnTo>
                  <a:lnTo>
                    <a:pt x="636" y="189"/>
                  </a:lnTo>
                  <a:lnTo>
                    <a:pt x="636" y="183"/>
                  </a:lnTo>
                  <a:lnTo>
                    <a:pt x="633" y="177"/>
                  </a:lnTo>
                  <a:lnTo>
                    <a:pt x="633" y="171"/>
                  </a:lnTo>
                  <a:lnTo>
                    <a:pt x="630" y="168"/>
                  </a:lnTo>
                  <a:lnTo>
                    <a:pt x="627" y="162"/>
                  </a:lnTo>
                  <a:lnTo>
                    <a:pt x="621" y="162"/>
                  </a:lnTo>
                  <a:lnTo>
                    <a:pt x="615" y="162"/>
                  </a:lnTo>
                  <a:lnTo>
                    <a:pt x="612" y="162"/>
                  </a:lnTo>
                  <a:lnTo>
                    <a:pt x="606" y="162"/>
                  </a:lnTo>
                  <a:lnTo>
                    <a:pt x="600" y="165"/>
                  </a:lnTo>
                  <a:lnTo>
                    <a:pt x="597" y="171"/>
                  </a:lnTo>
                  <a:lnTo>
                    <a:pt x="597" y="174"/>
                  </a:lnTo>
                  <a:lnTo>
                    <a:pt x="597" y="180"/>
                  </a:lnTo>
                  <a:lnTo>
                    <a:pt x="600" y="183"/>
                  </a:lnTo>
                  <a:lnTo>
                    <a:pt x="600" y="189"/>
                  </a:lnTo>
                  <a:lnTo>
                    <a:pt x="597" y="192"/>
                  </a:lnTo>
                  <a:lnTo>
                    <a:pt x="594" y="192"/>
                  </a:lnTo>
                  <a:lnTo>
                    <a:pt x="585" y="183"/>
                  </a:lnTo>
                  <a:lnTo>
                    <a:pt x="579" y="174"/>
                  </a:lnTo>
                  <a:lnTo>
                    <a:pt x="576" y="168"/>
                  </a:lnTo>
                  <a:lnTo>
                    <a:pt x="576" y="156"/>
                  </a:lnTo>
                  <a:lnTo>
                    <a:pt x="576" y="147"/>
                  </a:lnTo>
                  <a:lnTo>
                    <a:pt x="579" y="138"/>
                  </a:lnTo>
                  <a:lnTo>
                    <a:pt x="597" y="123"/>
                  </a:lnTo>
                  <a:lnTo>
                    <a:pt x="588" y="117"/>
                  </a:lnTo>
                  <a:lnTo>
                    <a:pt x="579" y="111"/>
                  </a:lnTo>
                  <a:lnTo>
                    <a:pt x="573" y="102"/>
                  </a:lnTo>
                  <a:lnTo>
                    <a:pt x="567" y="93"/>
                  </a:lnTo>
                  <a:lnTo>
                    <a:pt x="564" y="81"/>
                  </a:lnTo>
                  <a:lnTo>
                    <a:pt x="561" y="72"/>
                  </a:lnTo>
                  <a:lnTo>
                    <a:pt x="564" y="66"/>
                  </a:lnTo>
                  <a:lnTo>
                    <a:pt x="567" y="57"/>
                  </a:lnTo>
                  <a:lnTo>
                    <a:pt x="570" y="51"/>
                  </a:lnTo>
                  <a:lnTo>
                    <a:pt x="573" y="45"/>
                  </a:lnTo>
                  <a:lnTo>
                    <a:pt x="576" y="42"/>
                  </a:lnTo>
                  <a:lnTo>
                    <a:pt x="585" y="39"/>
                  </a:lnTo>
                  <a:lnTo>
                    <a:pt x="591" y="39"/>
                  </a:lnTo>
                  <a:lnTo>
                    <a:pt x="594" y="39"/>
                  </a:lnTo>
                  <a:lnTo>
                    <a:pt x="597" y="42"/>
                  </a:lnTo>
                  <a:lnTo>
                    <a:pt x="597" y="48"/>
                  </a:lnTo>
                  <a:lnTo>
                    <a:pt x="597" y="51"/>
                  </a:lnTo>
                  <a:lnTo>
                    <a:pt x="597" y="54"/>
                  </a:lnTo>
                  <a:lnTo>
                    <a:pt x="597" y="57"/>
                  </a:lnTo>
                  <a:lnTo>
                    <a:pt x="597" y="60"/>
                  </a:lnTo>
                  <a:lnTo>
                    <a:pt x="597" y="63"/>
                  </a:lnTo>
                  <a:lnTo>
                    <a:pt x="600" y="66"/>
                  </a:lnTo>
                  <a:lnTo>
                    <a:pt x="600" y="69"/>
                  </a:lnTo>
                  <a:lnTo>
                    <a:pt x="600" y="72"/>
                  </a:lnTo>
                  <a:lnTo>
                    <a:pt x="603" y="72"/>
                  </a:lnTo>
                  <a:lnTo>
                    <a:pt x="606" y="75"/>
                  </a:lnTo>
                  <a:lnTo>
                    <a:pt x="609" y="78"/>
                  </a:lnTo>
                  <a:lnTo>
                    <a:pt x="612" y="81"/>
                  </a:lnTo>
                  <a:lnTo>
                    <a:pt x="618" y="81"/>
                  </a:lnTo>
                  <a:lnTo>
                    <a:pt x="621" y="78"/>
                  </a:lnTo>
                  <a:lnTo>
                    <a:pt x="624" y="72"/>
                  </a:lnTo>
                  <a:lnTo>
                    <a:pt x="627" y="66"/>
                  </a:lnTo>
                  <a:lnTo>
                    <a:pt x="630" y="63"/>
                  </a:lnTo>
                  <a:lnTo>
                    <a:pt x="636" y="60"/>
                  </a:lnTo>
                  <a:lnTo>
                    <a:pt x="642" y="57"/>
                  </a:lnTo>
                  <a:lnTo>
                    <a:pt x="645" y="54"/>
                  </a:lnTo>
                  <a:lnTo>
                    <a:pt x="654" y="57"/>
                  </a:lnTo>
                  <a:lnTo>
                    <a:pt x="660" y="57"/>
                  </a:lnTo>
                  <a:lnTo>
                    <a:pt x="666" y="60"/>
                  </a:lnTo>
                  <a:lnTo>
                    <a:pt x="672" y="63"/>
                  </a:lnTo>
                  <a:lnTo>
                    <a:pt x="675" y="66"/>
                  </a:lnTo>
                  <a:lnTo>
                    <a:pt x="681" y="69"/>
                  </a:lnTo>
                  <a:lnTo>
                    <a:pt x="681" y="72"/>
                  </a:lnTo>
                  <a:lnTo>
                    <a:pt x="681" y="78"/>
                  </a:lnTo>
                  <a:lnTo>
                    <a:pt x="678" y="81"/>
                  </a:lnTo>
                  <a:lnTo>
                    <a:pt x="678" y="84"/>
                  </a:lnTo>
                  <a:lnTo>
                    <a:pt x="675" y="87"/>
                  </a:lnTo>
                  <a:lnTo>
                    <a:pt x="675" y="93"/>
                  </a:lnTo>
                  <a:lnTo>
                    <a:pt x="669" y="90"/>
                  </a:lnTo>
                  <a:lnTo>
                    <a:pt x="666" y="90"/>
                  </a:lnTo>
                  <a:lnTo>
                    <a:pt x="660" y="87"/>
                  </a:lnTo>
                  <a:lnTo>
                    <a:pt x="657" y="87"/>
                  </a:lnTo>
                  <a:lnTo>
                    <a:pt x="651" y="90"/>
                  </a:lnTo>
                  <a:lnTo>
                    <a:pt x="648" y="96"/>
                  </a:lnTo>
                  <a:lnTo>
                    <a:pt x="651" y="108"/>
                  </a:lnTo>
                  <a:lnTo>
                    <a:pt x="657" y="123"/>
                  </a:lnTo>
                  <a:lnTo>
                    <a:pt x="663" y="135"/>
                  </a:lnTo>
                  <a:lnTo>
                    <a:pt x="669" y="147"/>
                  </a:lnTo>
                  <a:lnTo>
                    <a:pt x="675" y="159"/>
                  </a:lnTo>
                  <a:lnTo>
                    <a:pt x="675" y="171"/>
                  </a:lnTo>
                  <a:lnTo>
                    <a:pt x="675" y="186"/>
                  </a:lnTo>
                  <a:lnTo>
                    <a:pt x="675" y="198"/>
                  </a:lnTo>
                  <a:lnTo>
                    <a:pt x="672" y="213"/>
                  </a:lnTo>
                  <a:lnTo>
                    <a:pt x="669" y="225"/>
                  </a:lnTo>
                  <a:lnTo>
                    <a:pt x="666" y="237"/>
                  </a:lnTo>
                  <a:lnTo>
                    <a:pt x="660" y="249"/>
                  </a:lnTo>
                  <a:lnTo>
                    <a:pt x="666" y="258"/>
                  </a:lnTo>
                  <a:lnTo>
                    <a:pt x="672" y="270"/>
                  </a:lnTo>
                  <a:lnTo>
                    <a:pt x="675" y="282"/>
                  </a:lnTo>
                  <a:lnTo>
                    <a:pt x="675" y="294"/>
                  </a:lnTo>
                  <a:lnTo>
                    <a:pt x="675" y="303"/>
                  </a:lnTo>
                  <a:lnTo>
                    <a:pt x="669" y="315"/>
                  </a:lnTo>
                  <a:lnTo>
                    <a:pt x="666" y="318"/>
                  </a:lnTo>
                  <a:lnTo>
                    <a:pt x="663" y="321"/>
                  </a:lnTo>
                  <a:lnTo>
                    <a:pt x="657" y="321"/>
                  </a:lnTo>
                  <a:lnTo>
                    <a:pt x="654" y="321"/>
                  </a:lnTo>
                  <a:lnTo>
                    <a:pt x="648" y="324"/>
                  </a:lnTo>
                  <a:lnTo>
                    <a:pt x="642" y="324"/>
                  </a:lnTo>
                  <a:lnTo>
                    <a:pt x="639" y="318"/>
                  </a:lnTo>
                  <a:lnTo>
                    <a:pt x="639" y="309"/>
                  </a:lnTo>
                  <a:lnTo>
                    <a:pt x="642" y="303"/>
                  </a:lnTo>
                  <a:lnTo>
                    <a:pt x="642" y="297"/>
                  </a:lnTo>
                  <a:lnTo>
                    <a:pt x="642" y="288"/>
                  </a:lnTo>
                  <a:lnTo>
                    <a:pt x="633" y="285"/>
                  </a:lnTo>
                  <a:lnTo>
                    <a:pt x="624" y="297"/>
                  </a:lnTo>
                  <a:lnTo>
                    <a:pt x="615" y="312"/>
                  </a:lnTo>
                  <a:lnTo>
                    <a:pt x="606" y="327"/>
                  </a:lnTo>
                  <a:lnTo>
                    <a:pt x="600" y="342"/>
                  </a:lnTo>
                  <a:lnTo>
                    <a:pt x="600" y="360"/>
                  </a:lnTo>
                  <a:lnTo>
                    <a:pt x="603" y="375"/>
                  </a:lnTo>
                  <a:lnTo>
                    <a:pt x="612" y="405"/>
                  </a:lnTo>
                  <a:lnTo>
                    <a:pt x="618" y="399"/>
                  </a:lnTo>
                  <a:lnTo>
                    <a:pt x="624" y="396"/>
                  </a:lnTo>
                  <a:lnTo>
                    <a:pt x="630" y="396"/>
                  </a:lnTo>
                  <a:lnTo>
                    <a:pt x="636" y="396"/>
                  </a:lnTo>
                  <a:lnTo>
                    <a:pt x="642" y="396"/>
                  </a:lnTo>
                  <a:lnTo>
                    <a:pt x="648" y="396"/>
                  </a:lnTo>
                  <a:lnTo>
                    <a:pt x="651" y="399"/>
                  </a:lnTo>
                  <a:lnTo>
                    <a:pt x="657" y="402"/>
                  </a:lnTo>
                  <a:lnTo>
                    <a:pt x="660" y="405"/>
                  </a:lnTo>
                  <a:lnTo>
                    <a:pt x="666" y="408"/>
                  </a:lnTo>
                  <a:lnTo>
                    <a:pt x="666" y="411"/>
                  </a:lnTo>
                  <a:lnTo>
                    <a:pt x="663" y="417"/>
                  </a:lnTo>
                  <a:lnTo>
                    <a:pt x="657" y="417"/>
                  </a:lnTo>
                  <a:lnTo>
                    <a:pt x="651" y="420"/>
                  </a:lnTo>
                  <a:lnTo>
                    <a:pt x="645" y="426"/>
                  </a:lnTo>
                  <a:lnTo>
                    <a:pt x="639" y="429"/>
                  </a:lnTo>
                  <a:lnTo>
                    <a:pt x="633" y="429"/>
                  </a:lnTo>
                  <a:lnTo>
                    <a:pt x="627" y="42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7" name=""/>
            <p:cNvSpPr/>
            <p:nvPr/>
          </p:nvSpPr>
          <p:spPr>
            <a:xfrm>
              <a:off x="2741760" y="885960"/>
              <a:ext cx="101520" cy="408240"/>
            </a:xfrm>
            <a:custGeom>
              <a:avLst/>
              <a:gdLst/>
              <a:ahLst/>
              <a:rect l="l" t="t" r="r" b="b"/>
              <a:pathLst>
                <a:path w="324" h="1116">
                  <a:moveTo>
                    <a:pt x="210" y="798"/>
                  </a:moveTo>
                  <a:lnTo>
                    <a:pt x="222" y="822"/>
                  </a:lnTo>
                  <a:lnTo>
                    <a:pt x="234" y="852"/>
                  </a:lnTo>
                  <a:lnTo>
                    <a:pt x="240" y="882"/>
                  </a:lnTo>
                  <a:lnTo>
                    <a:pt x="246" y="906"/>
                  </a:lnTo>
                  <a:lnTo>
                    <a:pt x="252" y="936"/>
                  </a:lnTo>
                  <a:lnTo>
                    <a:pt x="246" y="966"/>
                  </a:lnTo>
                  <a:lnTo>
                    <a:pt x="246" y="990"/>
                  </a:lnTo>
                  <a:lnTo>
                    <a:pt x="240" y="1014"/>
                  </a:lnTo>
                  <a:lnTo>
                    <a:pt x="228" y="1032"/>
                  </a:lnTo>
                  <a:lnTo>
                    <a:pt x="216" y="1056"/>
                  </a:lnTo>
                  <a:lnTo>
                    <a:pt x="204" y="1074"/>
                  </a:lnTo>
                  <a:lnTo>
                    <a:pt x="180" y="1086"/>
                  </a:lnTo>
                  <a:lnTo>
                    <a:pt x="150" y="1098"/>
                  </a:lnTo>
                  <a:lnTo>
                    <a:pt x="120" y="1110"/>
                  </a:lnTo>
                  <a:lnTo>
                    <a:pt x="90" y="1116"/>
                  </a:lnTo>
                  <a:lnTo>
                    <a:pt x="60" y="1116"/>
                  </a:lnTo>
                  <a:lnTo>
                    <a:pt x="30" y="1104"/>
                  </a:lnTo>
                  <a:lnTo>
                    <a:pt x="0" y="1086"/>
                  </a:lnTo>
                  <a:lnTo>
                    <a:pt x="0" y="1074"/>
                  </a:lnTo>
                  <a:lnTo>
                    <a:pt x="0" y="1062"/>
                  </a:lnTo>
                  <a:lnTo>
                    <a:pt x="6" y="1056"/>
                  </a:lnTo>
                  <a:lnTo>
                    <a:pt x="12" y="1050"/>
                  </a:lnTo>
                  <a:lnTo>
                    <a:pt x="12" y="1038"/>
                  </a:lnTo>
                  <a:lnTo>
                    <a:pt x="12" y="1032"/>
                  </a:lnTo>
                  <a:lnTo>
                    <a:pt x="24" y="1044"/>
                  </a:lnTo>
                  <a:lnTo>
                    <a:pt x="30" y="1056"/>
                  </a:lnTo>
                  <a:lnTo>
                    <a:pt x="42" y="1062"/>
                  </a:lnTo>
                  <a:lnTo>
                    <a:pt x="54" y="1074"/>
                  </a:lnTo>
                  <a:lnTo>
                    <a:pt x="66" y="1080"/>
                  </a:lnTo>
                  <a:lnTo>
                    <a:pt x="78" y="1086"/>
                  </a:lnTo>
                  <a:lnTo>
                    <a:pt x="96" y="1086"/>
                  </a:lnTo>
                  <a:lnTo>
                    <a:pt x="120" y="1080"/>
                  </a:lnTo>
                  <a:lnTo>
                    <a:pt x="138" y="1074"/>
                  </a:lnTo>
                  <a:lnTo>
                    <a:pt x="162" y="1056"/>
                  </a:lnTo>
                  <a:lnTo>
                    <a:pt x="180" y="1044"/>
                  </a:lnTo>
                  <a:lnTo>
                    <a:pt x="192" y="1020"/>
                  </a:lnTo>
                  <a:lnTo>
                    <a:pt x="204" y="990"/>
                  </a:lnTo>
                  <a:lnTo>
                    <a:pt x="210" y="966"/>
                  </a:lnTo>
                  <a:lnTo>
                    <a:pt x="210" y="936"/>
                  </a:lnTo>
                  <a:lnTo>
                    <a:pt x="204" y="906"/>
                  </a:lnTo>
                  <a:lnTo>
                    <a:pt x="198" y="882"/>
                  </a:lnTo>
                  <a:lnTo>
                    <a:pt x="186" y="852"/>
                  </a:lnTo>
                  <a:lnTo>
                    <a:pt x="168" y="834"/>
                  </a:lnTo>
                  <a:lnTo>
                    <a:pt x="150" y="816"/>
                  </a:lnTo>
                  <a:lnTo>
                    <a:pt x="126" y="804"/>
                  </a:lnTo>
                  <a:lnTo>
                    <a:pt x="108" y="786"/>
                  </a:lnTo>
                  <a:lnTo>
                    <a:pt x="96" y="768"/>
                  </a:lnTo>
                  <a:lnTo>
                    <a:pt x="90" y="738"/>
                  </a:lnTo>
                  <a:lnTo>
                    <a:pt x="102" y="744"/>
                  </a:lnTo>
                  <a:lnTo>
                    <a:pt x="114" y="744"/>
                  </a:lnTo>
                  <a:lnTo>
                    <a:pt x="120" y="744"/>
                  </a:lnTo>
                  <a:lnTo>
                    <a:pt x="132" y="744"/>
                  </a:lnTo>
                  <a:lnTo>
                    <a:pt x="138" y="744"/>
                  </a:lnTo>
                  <a:lnTo>
                    <a:pt x="150" y="738"/>
                  </a:lnTo>
                  <a:lnTo>
                    <a:pt x="156" y="726"/>
                  </a:lnTo>
                  <a:lnTo>
                    <a:pt x="150" y="714"/>
                  </a:lnTo>
                  <a:lnTo>
                    <a:pt x="144" y="708"/>
                  </a:lnTo>
                  <a:lnTo>
                    <a:pt x="138" y="696"/>
                  </a:lnTo>
                  <a:lnTo>
                    <a:pt x="138" y="684"/>
                  </a:lnTo>
                  <a:lnTo>
                    <a:pt x="138" y="678"/>
                  </a:lnTo>
                  <a:lnTo>
                    <a:pt x="144" y="606"/>
                  </a:lnTo>
                  <a:lnTo>
                    <a:pt x="156" y="540"/>
                  </a:lnTo>
                  <a:lnTo>
                    <a:pt x="180" y="480"/>
                  </a:lnTo>
                  <a:lnTo>
                    <a:pt x="210" y="426"/>
                  </a:lnTo>
                  <a:lnTo>
                    <a:pt x="240" y="366"/>
                  </a:lnTo>
                  <a:lnTo>
                    <a:pt x="270" y="300"/>
                  </a:lnTo>
                  <a:lnTo>
                    <a:pt x="270" y="288"/>
                  </a:lnTo>
                  <a:lnTo>
                    <a:pt x="276" y="270"/>
                  </a:lnTo>
                  <a:lnTo>
                    <a:pt x="270" y="252"/>
                  </a:lnTo>
                  <a:lnTo>
                    <a:pt x="264" y="234"/>
                  </a:lnTo>
                  <a:lnTo>
                    <a:pt x="258" y="222"/>
                  </a:lnTo>
                  <a:lnTo>
                    <a:pt x="246" y="210"/>
                  </a:lnTo>
                  <a:lnTo>
                    <a:pt x="240" y="204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10" y="198"/>
                  </a:lnTo>
                  <a:lnTo>
                    <a:pt x="198" y="204"/>
                  </a:lnTo>
                  <a:lnTo>
                    <a:pt x="192" y="204"/>
                  </a:lnTo>
                  <a:lnTo>
                    <a:pt x="180" y="216"/>
                  </a:lnTo>
                  <a:lnTo>
                    <a:pt x="174" y="222"/>
                  </a:lnTo>
                  <a:lnTo>
                    <a:pt x="168" y="228"/>
                  </a:lnTo>
                  <a:lnTo>
                    <a:pt x="168" y="240"/>
                  </a:lnTo>
                  <a:lnTo>
                    <a:pt x="162" y="246"/>
                  </a:lnTo>
                  <a:lnTo>
                    <a:pt x="162" y="258"/>
                  </a:lnTo>
                  <a:lnTo>
                    <a:pt x="156" y="246"/>
                  </a:lnTo>
                  <a:lnTo>
                    <a:pt x="156" y="240"/>
                  </a:lnTo>
                  <a:lnTo>
                    <a:pt x="156" y="228"/>
                  </a:lnTo>
                  <a:lnTo>
                    <a:pt x="156" y="216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68" y="186"/>
                  </a:lnTo>
                  <a:lnTo>
                    <a:pt x="174" y="180"/>
                  </a:lnTo>
                  <a:lnTo>
                    <a:pt x="186" y="174"/>
                  </a:lnTo>
                  <a:lnTo>
                    <a:pt x="192" y="162"/>
                  </a:lnTo>
                  <a:lnTo>
                    <a:pt x="198" y="156"/>
                  </a:lnTo>
                  <a:lnTo>
                    <a:pt x="204" y="144"/>
                  </a:lnTo>
                  <a:lnTo>
                    <a:pt x="186" y="132"/>
                  </a:lnTo>
                  <a:lnTo>
                    <a:pt x="168" y="120"/>
                  </a:lnTo>
                  <a:lnTo>
                    <a:pt x="150" y="108"/>
                  </a:lnTo>
                  <a:lnTo>
                    <a:pt x="138" y="90"/>
                  </a:lnTo>
                  <a:lnTo>
                    <a:pt x="132" y="72"/>
                  </a:lnTo>
                  <a:lnTo>
                    <a:pt x="132" y="54"/>
                  </a:lnTo>
                  <a:lnTo>
                    <a:pt x="132" y="42"/>
                  </a:lnTo>
                  <a:lnTo>
                    <a:pt x="132" y="36"/>
                  </a:lnTo>
                  <a:lnTo>
                    <a:pt x="138" y="24"/>
                  </a:lnTo>
                  <a:lnTo>
                    <a:pt x="138" y="12"/>
                  </a:lnTo>
                  <a:lnTo>
                    <a:pt x="144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18"/>
                  </a:lnTo>
                  <a:lnTo>
                    <a:pt x="156" y="24"/>
                  </a:lnTo>
                  <a:lnTo>
                    <a:pt x="156" y="36"/>
                  </a:lnTo>
                  <a:lnTo>
                    <a:pt x="162" y="48"/>
                  </a:lnTo>
                  <a:lnTo>
                    <a:pt x="162" y="54"/>
                  </a:lnTo>
                  <a:lnTo>
                    <a:pt x="174" y="66"/>
                  </a:lnTo>
                  <a:lnTo>
                    <a:pt x="186" y="72"/>
                  </a:lnTo>
                  <a:lnTo>
                    <a:pt x="198" y="78"/>
                  </a:lnTo>
                  <a:lnTo>
                    <a:pt x="210" y="84"/>
                  </a:lnTo>
                  <a:lnTo>
                    <a:pt x="222" y="78"/>
                  </a:lnTo>
                  <a:lnTo>
                    <a:pt x="234" y="78"/>
                  </a:lnTo>
                  <a:lnTo>
                    <a:pt x="240" y="72"/>
                  </a:lnTo>
                  <a:lnTo>
                    <a:pt x="246" y="60"/>
                  </a:lnTo>
                  <a:lnTo>
                    <a:pt x="252" y="48"/>
                  </a:lnTo>
                  <a:lnTo>
                    <a:pt x="264" y="42"/>
                  </a:lnTo>
                  <a:lnTo>
                    <a:pt x="270" y="36"/>
                  </a:lnTo>
                  <a:lnTo>
                    <a:pt x="282" y="30"/>
                  </a:lnTo>
                  <a:lnTo>
                    <a:pt x="294" y="36"/>
                  </a:lnTo>
                  <a:lnTo>
                    <a:pt x="300" y="36"/>
                  </a:lnTo>
                  <a:lnTo>
                    <a:pt x="312" y="42"/>
                  </a:lnTo>
                  <a:lnTo>
                    <a:pt x="318" y="48"/>
                  </a:lnTo>
                  <a:lnTo>
                    <a:pt x="324" y="54"/>
                  </a:lnTo>
                  <a:lnTo>
                    <a:pt x="324" y="60"/>
                  </a:lnTo>
                  <a:lnTo>
                    <a:pt x="312" y="54"/>
                  </a:lnTo>
                  <a:lnTo>
                    <a:pt x="294" y="54"/>
                  </a:lnTo>
                  <a:lnTo>
                    <a:pt x="282" y="60"/>
                  </a:lnTo>
                  <a:lnTo>
                    <a:pt x="276" y="66"/>
                  </a:lnTo>
                  <a:lnTo>
                    <a:pt x="264" y="78"/>
                  </a:lnTo>
                  <a:lnTo>
                    <a:pt x="252" y="90"/>
                  </a:lnTo>
                  <a:lnTo>
                    <a:pt x="264" y="120"/>
                  </a:lnTo>
                  <a:lnTo>
                    <a:pt x="276" y="150"/>
                  </a:lnTo>
                  <a:lnTo>
                    <a:pt x="288" y="174"/>
                  </a:lnTo>
                  <a:lnTo>
                    <a:pt x="300" y="198"/>
                  </a:lnTo>
                  <a:lnTo>
                    <a:pt x="312" y="228"/>
                  </a:lnTo>
                  <a:lnTo>
                    <a:pt x="318" y="258"/>
                  </a:lnTo>
                  <a:lnTo>
                    <a:pt x="312" y="282"/>
                  </a:lnTo>
                  <a:lnTo>
                    <a:pt x="306" y="306"/>
                  </a:lnTo>
                  <a:lnTo>
                    <a:pt x="306" y="330"/>
                  </a:lnTo>
                  <a:lnTo>
                    <a:pt x="306" y="354"/>
                  </a:lnTo>
                  <a:lnTo>
                    <a:pt x="300" y="378"/>
                  </a:lnTo>
                  <a:lnTo>
                    <a:pt x="282" y="396"/>
                  </a:lnTo>
                  <a:lnTo>
                    <a:pt x="288" y="396"/>
                  </a:lnTo>
                  <a:lnTo>
                    <a:pt x="288" y="402"/>
                  </a:lnTo>
                  <a:lnTo>
                    <a:pt x="288" y="408"/>
                  </a:lnTo>
                  <a:lnTo>
                    <a:pt x="288" y="414"/>
                  </a:lnTo>
                  <a:lnTo>
                    <a:pt x="282" y="420"/>
                  </a:lnTo>
                  <a:lnTo>
                    <a:pt x="288" y="426"/>
                  </a:lnTo>
                  <a:lnTo>
                    <a:pt x="294" y="432"/>
                  </a:lnTo>
                  <a:lnTo>
                    <a:pt x="306" y="444"/>
                  </a:lnTo>
                  <a:lnTo>
                    <a:pt x="312" y="462"/>
                  </a:lnTo>
                  <a:lnTo>
                    <a:pt x="312" y="474"/>
                  </a:lnTo>
                  <a:lnTo>
                    <a:pt x="312" y="486"/>
                  </a:lnTo>
                  <a:lnTo>
                    <a:pt x="318" y="504"/>
                  </a:lnTo>
                  <a:lnTo>
                    <a:pt x="318" y="510"/>
                  </a:lnTo>
                  <a:lnTo>
                    <a:pt x="312" y="516"/>
                  </a:lnTo>
                  <a:lnTo>
                    <a:pt x="306" y="522"/>
                  </a:lnTo>
                  <a:lnTo>
                    <a:pt x="300" y="528"/>
                  </a:lnTo>
                  <a:lnTo>
                    <a:pt x="294" y="528"/>
                  </a:lnTo>
                  <a:lnTo>
                    <a:pt x="282" y="534"/>
                  </a:lnTo>
                  <a:lnTo>
                    <a:pt x="288" y="522"/>
                  </a:lnTo>
                  <a:lnTo>
                    <a:pt x="294" y="510"/>
                  </a:lnTo>
                  <a:lnTo>
                    <a:pt x="294" y="498"/>
                  </a:lnTo>
                  <a:lnTo>
                    <a:pt x="294" y="486"/>
                  </a:lnTo>
                  <a:lnTo>
                    <a:pt x="294" y="474"/>
                  </a:lnTo>
                  <a:lnTo>
                    <a:pt x="288" y="462"/>
                  </a:lnTo>
                  <a:lnTo>
                    <a:pt x="282" y="456"/>
                  </a:lnTo>
                  <a:lnTo>
                    <a:pt x="276" y="450"/>
                  </a:lnTo>
                  <a:lnTo>
                    <a:pt x="270" y="450"/>
                  </a:lnTo>
                  <a:lnTo>
                    <a:pt x="258" y="450"/>
                  </a:lnTo>
                  <a:lnTo>
                    <a:pt x="252" y="450"/>
                  </a:lnTo>
                  <a:lnTo>
                    <a:pt x="246" y="450"/>
                  </a:lnTo>
                  <a:lnTo>
                    <a:pt x="228" y="468"/>
                  </a:lnTo>
                  <a:lnTo>
                    <a:pt x="210" y="492"/>
                  </a:lnTo>
                  <a:lnTo>
                    <a:pt x="198" y="516"/>
                  </a:lnTo>
                  <a:lnTo>
                    <a:pt x="186" y="540"/>
                  </a:lnTo>
                  <a:lnTo>
                    <a:pt x="174" y="564"/>
                  </a:lnTo>
                  <a:lnTo>
                    <a:pt x="168" y="588"/>
                  </a:lnTo>
                  <a:lnTo>
                    <a:pt x="168" y="618"/>
                  </a:lnTo>
                  <a:lnTo>
                    <a:pt x="168" y="642"/>
                  </a:lnTo>
                  <a:lnTo>
                    <a:pt x="174" y="666"/>
                  </a:lnTo>
                  <a:lnTo>
                    <a:pt x="180" y="696"/>
                  </a:lnTo>
                  <a:lnTo>
                    <a:pt x="186" y="720"/>
                  </a:lnTo>
                  <a:lnTo>
                    <a:pt x="198" y="750"/>
                  </a:lnTo>
                  <a:lnTo>
                    <a:pt x="216" y="738"/>
                  </a:lnTo>
                  <a:lnTo>
                    <a:pt x="228" y="732"/>
                  </a:lnTo>
                  <a:lnTo>
                    <a:pt x="246" y="720"/>
                  </a:lnTo>
                  <a:lnTo>
                    <a:pt x="258" y="714"/>
                  </a:lnTo>
                  <a:lnTo>
                    <a:pt x="270" y="714"/>
                  </a:lnTo>
                  <a:lnTo>
                    <a:pt x="288" y="726"/>
                  </a:lnTo>
                  <a:lnTo>
                    <a:pt x="276" y="732"/>
                  </a:lnTo>
                  <a:lnTo>
                    <a:pt x="252" y="744"/>
                  </a:lnTo>
                  <a:lnTo>
                    <a:pt x="234" y="750"/>
                  </a:lnTo>
                  <a:lnTo>
                    <a:pt x="216" y="762"/>
                  </a:lnTo>
                  <a:lnTo>
                    <a:pt x="210" y="774"/>
                  </a:lnTo>
                  <a:lnTo>
                    <a:pt x="210" y="7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8" name=""/>
            <p:cNvSpPr/>
            <p:nvPr/>
          </p:nvSpPr>
          <p:spPr>
            <a:xfrm>
              <a:off x="2430360" y="860760"/>
              <a:ext cx="328680" cy="595080"/>
            </a:xfrm>
            <a:custGeom>
              <a:avLst/>
              <a:gdLst/>
              <a:ahLst/>
              <a:rect l="l" t="t" r="r" b="b"/>
              <a:pathLst>
                <a:path w="1050" h="1632">
                  <a:moveTo>
                    <a:pt x="906" y="1548"/>
                  </a:moveTo>
                  <a:lnTo>
                    <a:pt x="900" y="1560"/>
                  </a:lnTo>
                  <a:lnTo>
                    <a:pt x="888" y="1560"/>
                  </a:lnTo>
                  <a:lnTo>
                    <a:pt x="882" y="1566"/>
                  </a:lnTo>
                  <a:lnTo>
                    <a:pt x="870" y="1572"/>
                  </a:lnTo>
                  <a:lnTo>
                    <a:pt x="864" y="1572"/>
                  </a:lnTo>
                  <a:lnTo>
                    <a:pt x="852" y="1578"/>
                  </a:lnTo>
                  <a:lnTo>
                    <a:pt x="846" y="1578"/>
                  </a:lnTo>
                  <a:lnTo>
                    <a:pt x="834" y="1584"/>
                  </a:lnTo>
                  <a:lnTo>
                    <a:pt x="822" y="1590"/>
                  </a:lnTo>
                  <a:lnTo>
                    <a:pt x="810" y="1602"/>
                  </a:lnTo>
                  <a:lnTo>
                    <a:pt x="798" y="1608"/>
                  </a:lnTo>
                  <a:lnTo>
                    <a:pt x="786" y="1620"/>
                  </a:lnTo>
                  <a:lnTo>
                    <a:pt x="780" y="1632"/>
                  </a:lnTo>
                  <a:lnTo>
                    <a:pt x="774" y="1620"/>
                  </a:lnTo>
                  <a:lnTo>
                    <a:pt x="762" y="1614"/>
                  </a:lnTo>
                  <a:lnTo>
                    <a:pt x="750" y="1608"/>
                  </a:lnTo>
                  <a:lnTo>
                    <a:pt x="738" y="1608"/>
                  </a:lnTo>
                  <a:lnTo>
                    <a:pt x="720" y="1614"/>
                  </a:lnTo>
                  <a:lnTo>
                    <a:pt x="708" y="1614"/>
                  </a:lnTo>
                  <a:lnTo>
                    <a:pt x="738" y="1596"/>
                  </a:lnTo>
                  <a:lnTo>
                    <a:pt x="774" y="1578"/>
                  </a:lnTo>
                  <a:lnTo>
                    <a:pt x="816" y="1566"/>
                  </a:lnTo>
                  <a:lnTo>
                    <a:pt x="852" y="1554"/>
                  </a:lnTo>
                  <a:lnTo>
                    <a:pt x="882" y="1530"/>
                  </a:lnTo>
                  <a:lnTo>
                    <a:pt x="906" y="1488"/>
                  </a:lnTo>
                  <a:lnTo>
                    <a:pt x="912" y="1464"/>
                  </a:lnTo>
                  <a:lnTo>
                    <a:pt x="924" y="1434"/>
                  </a:lnTo>
                  <a:lnTo>
                    <a:pt x="930" y="1410"/>
                  </a:lnTo>
                  <a:lnTo>
                    <a:pt x="936" y="1380"/>
                  </a:lnTo>
                  <a:lnTo>
                    <a:pt x="930" y="1350"/>
                  </a:lnTo>
                  <a:lnTo>
                    <a:pt x="924" y="1326"/>
                  </a:lnTo>
                  <a:lnTo>
                    <a:pt x="906" y="1326"/>
                  </a:lnTo>
                  <a:lnTo>
                    <a:pt x="888" y="1326"/>
                  </a:lnTo>
                  <a:lnTo>
                    <a:pt x="870" y="1326"/>
                  </a:lnTo>
                  <a:lnTo>
                    <a:pt x="852" y="1320"/>
                  </a:lnTo>
                  <a:lnTo>
                    <a:pt x="834" y="1308"/>
                  </a:lnTo>
                  <a:lnTo>
                    <a:pt x="816" y="1296"/>
                  </a:lnTo>
                  <a:lnTo>
                    <a:pt x="816" y="1284"/>
                  </a:lnTo>
                  <a:lnTo>
                    <a:pt x="822" y="1272"/>
                  </a:lnTo>
                  <a:lnTo>
                    <a:pt x="834" y="1266"/>
                  </a:lnTo>
                  <a:lnTo>
                    <a:pt x="840" y="1254"/>
                  </a:lnTo>
                  <a:lnTo>
                    <a:pt x="840" y="1248"/>
                  </a:lnTo>
                  <a:lnTo>
                    <a:pt x="828" y="1236"/>
                  </a:lnTo>
                  <a:lnTo>
                    <a:pt x="810" y="1242"/>
                  </a:lnTo>
                  <a:lnTo>
                    <a:pt x="804" y="1254"/>
                  </a:lnTo>
                  <a:lnTo>
                    <a:pt x="798" y="1272"/>
                  </a:lnTo>
                  <a:lnTo>
                    <a:pt x="792" y="1290"/>
                  </a:lnTo>
                  <a:lnTo>
                    <a:pt x="786" y="1302"/>
                  </a:lnTo>
                  <a:lnTo>
                    <a:pt x="780" y="1320"/>
                  </a:lnTo>
                  <a:lnTo>
                    <a:pt x="780" y="1326"/>
                  </a:lnTo>
                  <a:lnTo>
                    <a:pt x="780" y="1332"/>
                  </a:lnTo>
                  <a:lnTo>
                    <a:pt x="780" y="1338"/>
                  </a:lnTo>
                  <a:lnTo>
                    <a:pt x="786" y="1344"/>
                  </a:lnTo>
                  <a:lnTo>
                    <a:pt x="786" y="1350"/>
                  </a:lnTo>
                  <a:lnTo>
                    <a:pt x="774" y="1344"/>
                  </a:lnTo>
                  <a:lnTo>
                    <a:pt x="768" y="1350"/>
                  </a:lnTo>
                  <a:lnTo>
                    <a:pt x="756" y="1362"/>
                  </a:lnTo>
                  <a:lnTo>
                    <a:pt x="750" y="1374"/>
                  </a:lnTo>
                  <a:lnTo>
                    <a:pt x="738" y="1386"/>
                  </a:lnTo>
                  <a:lnTo>
                    <a:pt x="732" y="1398"/>
                  </a:lnTo>
                  <a:lnTo>
                    <a:pt x="726" y="1416"/>
                  </a:lnTo>
                  <a:lnTo>
                    <a:pt x="726" y="1404"/>
                  </a:lnTo>
                  <a:lnTo>
                    <a:pt x="720" y="1392"/>
                  </a:lnTo>
                  <a:lnTo>
                    <a:pt x="714" y="1374"/>
                  </a:lnTo>
                  <a:lnTo>
                    <a:pt x="708" y="1362"/>
                  </a:lnTo>
                  <a:lnTo>
                    <a:pt x="702" y="1350"/>
                  </a:lnTo>
                  <a:lnTo>
                    <a:pt x="696" y="1344"/>
                  </a:lnTo>
                  <a:lnTo>
                    <a:pt x="696" y="1338"/>
                  </a:lnTo>
                  <a:lnTo>
                    <a:pt x="702" y="1338"/>
                  </a:lnTo>
                  <a:lnTo>
                    <a:pt x="708" y="1332"/>
                  </a:lnTo>
                  <a:lnTo>
                    <a:pt x="714" y="1326"/>
                  </a:lnTo>
                  <a:lnTo>
                    <a:pt x="720" y="1320"/>
                  </a:lnTo>
                  <a:lnTo>
                    <a:pt x="726" y="1314"/>
                  </a:lnTo>
                  <a:lnTo>
                    <a:pt x="726" y="1308"/>
                  </a:lnTo>
                  <a:lnTo>
                    <a:pt x="732" y="1308"/>
                  </a:lnTo>
                  <a:lnTo>
                    <a:pt x="732" y="1302"/>
                  </a:lnTo>
                  <a:lnTo>
                    <a:pt x="732" y="1290"/>
                  </a:lnTo>
                  <a:lnTo>
                    <a:pt x="732" y="1284"/>
                  </a:lnTo>
                  <a:lnTo>
                    <a:pt x="738" y="1278"/>
                  </a:lnTo>
                  <a:lnTo>
                    <a:pt x="732" y="1224"/>
                  </a:lnTo>
                  <a:lnTo>
                    <a:pt x="732" y="1176"/>
                  </a:lnTo>
                  <a:lnTo>
                    <a:pt x="738" y="1134"/>
                  </a:lnTo>
                  <a:lnTo>
                    <a:pt x="756" y="1092"/>
                  </a:lnTo>
                  <a:lnTo>
                    <a:pt x="780" y="1056"/>
                  </a:lnTo>
                  <a:lnTo>
                    <a:pt x="816" y="1020"/>
                  </a:lnTo>
                  <a:lnTo>
                    <a:pt x="822" y="1002"/>
                  </a:lnTo>
                  <a:lnTo>
                    <a:pt x="822" y="984"/>
                  </a:lnTo>
                  <a:lnTo>
                    <a:pt x="822" y="966"/>
                  </a:lnTo>
                  <a:lnTo>
                    <a:pt x="816" y="954"/>
                  </a:lnTo>
                  <a:lnTo>
                    <a:pt x="810" y="942"/>
                  </a:lnTo>
                  <a:lnTo>
                    <a:pt x="792" y="930"/>
                  </a:lnTo>
                  <a:lnTo>
                    <a:pt x="738" y="918"/>
                  </a:lnTo>
                  <a:lnTo>
                    <a:pt x="690" y="888"/>
                  </a:lnTo>
                  <a:lnTo>
                    <a:pt x="642" y="858"/>
                  </a:lnTo>
                  <a:lnTo>
                    <a:pt x="594" y="822"/>
                  </a:lnTo>
                  <a:lnTo>
                    <a:pt x="546" y="786"/>
                  </a:lnTo>
                  <a:lnTo>
                    <a:pt x="504" y="750"/>
                  </a:lnTo>
                  <a:lnTo>
                    <a:pt x="498" y="720"/>
                  </a:lnTo>
                  <a:lnTo>
                    <a:pt x="480" y="714"/>
                  </a:lnTo>
                  <a:lnTo>
                    <a:pt x="456" y="708"/>
                  </a:lnTo>
                  <a:lnTo>
                    <a:pt x="426" y="714"/>
                  </a:lnTo>
                  <a:lnTo>
                    <a:pt x="402" y="708"/>
                  </a:lnTo>
                  <a:lnTo>
                    <a:pt x="384" y="690"/>
                  </a:lnTo>
                  <a:lnTo>
                    <a:pt x="354" y="666"/>
                  </a:lnTo>
                  <a:lnTo>
                    <a:pt x="324" y="660"/>
                  </a:lnTo>
                  <a:lnTo>
                    <a:pt x="300" y="660"/>
                  </a:lnTo>
                  <a:lnTo>
                    <a:pt x="270" y="666"/>
                  </a:lnTo>
                  <a:lnTo>
                    <a:pt x="240" y="672"/>
                  </a:lnTo>
                  <a:lnTo>
                    <a:pt x="216" y="684"/>
                  </a:lnTo>
                  <a:lnTo>
                    <a:pt x="198" y="708"/>
                  </a:lnTo>
                  <a:lnTo>
                    <a:pt x="180" y="732"/>
                  </a:lnTo>
                  <a:lnTo>
                    <a:pt x="156" y="750"/>
                  </a:lnTo>
                  <a:lnTo>
                    <a:pt x="138" y="768"/>
                  </a:lnTo>
                  <a:lnTo>
                    <a:pt x="114" y="780"/>
                  </a:lnTo>
                  <a:lnTo>
                    <a:pt x="90" y="804"/>
                  </a:lnTo>
                  <a:lnTo>
                    <a:pt x="84" y="804"/>
                  </a:lnTo>
                  <a:lnTo>
                    <a:pt x="72" y="804"/>
                  </a:lnTo>
                  <a:lnTo>
                    <a:pt x="66" y="804"/>
                  </a:lnTo>
                  <a:lnTo>
                    <a:pt x="54" y="804"/>
                  </a:lnTo>
                  <a:lnTo>
                    <a:pt x="48" y="810"/>
                  </a:lnTo>
                  <a:lnTo>
                    <a:pt x="42" y="816"/>
                  </a:lnTo>
                  <a:lnTo>
                    <a:pt x="48" y="828"/>
                  </a:lnTo>
                  <a:lnTo>
                    <a:pt x="54" y="834"/>
                  </a:lnTo>
                  <a:lnTo>
                    <a:pt x="66" y="840"/>
                  </a:lnTo>
                  <a:lnTo>
                    <a:pt x="72" y="852"/>
                  </a:lnTo>
                  <a:lnTo>
                    <a:pt x="72" y="858"/>
                  </a:lnTo>
                  <a:lnTo>
                    <a:pt x="72" y="876"/>
                  </a:lnTo>
                  <a:lnTo>
                    <a:pt x="78" y="882"/>
                  </a:lnTo>
                  <a:lnTo>
                    <a:pt x="78" y="888"/>
                  </a:lnTo>
                  <a:lnTo>
                    <a:pt x="84" y="894"/>
                  </a:lnTo>
                  <a:lnTo>
                    <a:pt x="84" y="900"/>
                  </a:lnTo>
                  <a:lnTo>
                    <a:pt x="90" y="912"/>
                  </a:lnTo>
                  <a:lnTo>
                    <a:pt x="90" y="918"/>
                  </a:lnTo>
                  <a:lnTo>
                    <a:pt x="78" y="912"/>
                  </a:lnTo>
                  <a:lnTo>
                    <a:pt x="66" y="918"/>
                  </a:lnTo>
                  <a:lnTo>
                    <a:pt x="54" y="918"/>
                  </a:lnTo>
                  <a:lnTo>
                    <a:pt x="42" y="930"/>
                  </a:lnTo>
                  <a:lnTo>
                    <a:pt x="30" y="936"/>
                  </a:lnTo>
                  <a:lnTo>
                    <a:pt x="18" y="942"/>
                  </a:lnTo>
                  <a:lnTo>
                    <a:pt x="18" y="948"/>
                  </a:lnTo>
                  <a:lnTo>
                    <a:pt x="18" y="954"/>
                  </a:lnTo>
                  <a:lnTo>
                    <a:pt x="12" y="960"/>
                  </a:lnTo>
                  <a:lnTo>
                    <a:pt x="6" y="966"/>
                  </a:lnTo>
                  <a:lnTo>
                    <a:pt x="0" y="972"/>
                  </a:lnTo>
                  <a:lnTo>
                    <a:pt x="12" y="942"/>
                  </a:lnTo>
                  <a:lnTo>
                    <a:pt x="18" y="912"/>
                  </a:lnTo>
                  <a:lnTo>
                    <a:pt x="24" y="876"/>
                  </a:lnTo>
                  <a:lnTo>
                    <a:pt x="30" y="846"/>
                  </a:lnTo>
                  <a:lnTo>
                    <a:pt x="42" y="816"/>
                  </a:lnTo>
                  <a:lnTo>
                    <a:pt x="54" y="792"/>
                  </a:lnTo>
                  <a:lnTo>
                    <a:pt x="78" y="762"/>
                  </a:lnTo>
                  <a:lnTo>
                    <a:pt x="108" y="738"/>
                  </a:lnTo>
                  <a:lnTo>
                    <a:pt x="138" y="714"/>
                  </a:lnTo>
                  <a:lnTo>
                    <a:pt x="162" y="690"/>
                  </a:lnTo>
                  <a:lnTo>
                    <a:pt x="186" y="666"/>
                  </a:lnTo>
                  <a:lnTo>
                    <a:pt x="210" y="636"/>
                  </a:lnTo>
                  <a:lnTo>
                    <a:pt x="228" y="630"/>
                  </a:lnTo>
                  <a:lnTo>
                    <a:pt x="246" y="624"/>
                  </a:lnTo>
                  <a:lnTo>
                    <a:pt x="258" y="618"/>
                  </a:lnTo>
                  <a:lnTo>
                    <a:pt x="276" y="618"/>
                  </a:lnTo>
                  <a:lnTo>
                    <a:pt x="294" y="624"/>
                  </a:lnTo>
                  <a:lnTo>
                    <a:pt x="312" y="630"/>
                  </a:lnTo>
                  <a:lnTo>
                    <a:pt x="324" y="624"/>
                  </a:lnTo>
                  <a:lnTo>
                    <a:pt x="336" y="624"/>
                  </a:lnTo>
                  <a:lnTo>
                    <a:pt x="348" y="624"/>
                  </a:lnTo>
                  <a:lnTo>
                    <a:pt x="354" y="630"/>
                  </a:lnTo>
                  <a:lnTo>
                    <a:pt x="366" y="630"/>
                  </a:lnTo>
                  <a:lnTo>
                    <a:pt x="378" y="618"/>
                  </a:lnTo>
                  <a:lnTo>
                    <a:pt x="396" y="624"/>
                  </a:lnTo>
                  <a:lnTo>
                    <a:pt x="420" y="624"/>
                  </a:lnTo>
                  <a:lnTo>
                    <a:pt x="438" y="624"/>
                  </a:lnTo>
                  <a:lnTo>
                    <a:pt x="450" y="630"/>
                  </a:lnTo>
                  <a:lnTo>
                    <a:pt x="462" y="642"/>
                  </a:lnTo>
                  <a:lnTo>
                    <a:pt x="462" y="666"/>
                  </a:lnTo>
                  <a:lnTo>
                    <a:pt x="468" y="672"/>
                  </a:lnTo>
                  <a:lnTo>
                    <a:pt x="480" y="666"/>
                  </a:lnTo>
                  <a:lnTo>
                    <a:pt x="486" y="654"/>
                  </a:lnTo>
                  <a:lnTo>
                    <a:pt x="486" y="648"/>
                  </a:lnTo>
                  <a:lnTo>
                    <a:pt x="480" y="636"/>
                  </a:lnTo>
                  <a:lnTo>
                    <a:pt x="480" y="624"/>
                  </a:lnTo>
                  <a:lnTo>
                    <a:pt x="480" y="612"/>
                  </a:lnTo>
                  <a:lnTo>
                    <a:pt x="474" y="606"/>
                  </a:lnTo>
                  <a:lnTo>
                    <a:pt x="468" y="600"/>
                  </a:lnTo>
                  <a:lnTo>
                    <a:pt x="468" y="594"/>
                  </a:lnTo>
                  <a:lnTo>
                    <a:pt x="468" y="588"/>
                  </a:lnTo>
                  <a:lnTo>
                    <a:pt x="468" y="582"/>
                  </a:lnTo>
                  <a:lnTo>
                    <a:pt x="474" y="564"/>
                  </a:lnTo>
                  <a:lnTo>
                    <a:pt x="486" y="552"/>
                  </a:lnTo>
                  <a:lnTo>
                    <a:pt x="498" y="540"/>
                  </a:lnTo>
                  <a:lnTo>
                    <a:pt x="510" y="528"/>
                  </a:lnTo>
                  <a:lnTo>
                    <a:pt x="528" y="516"/>
                  </a:lnTo>
                  <a:lnTo>
                    <a:pt x="540" y="510"/>
                  </a:lnTo>
                  <a:lnTo>
                    <a:pt x="558" y="504"/>
                  </a:lnTo>
                  <a:lnTo>
                    <a:pt x="576" y="504"/>
                  </a:lnTo>
                  <a:lnTo>
                    <a:pt x="594" y="504"/>
                  </a:lnTo>
                  <a:lnTo>
                    <a:pt x="612" y="504"/>
                  </a:lnTo>
                  <a:lnTo>
                    <a:pt x="624" y="504"/>
                  </a:lnTo>
                  <a:lnTo>
                    <a:pt x="642" y="504"/>
                  </a:lnTo>
                  <a:lnTo>
                    <a:pt x="642" y="498"/>
                  </a:lnTo>
                  <a:lnTo>
                    <a:pt x="642" y="492"/>
                  </a:lnTo>
                  <a:lnTo>
                    <a:pt x="636" y="492"/>
                  </a:lnTo>
                  <a:lnTo>
                    <a:pt x="630" y="486"/>
                  </a:lnTo>
                  <a:lnTo>
                    <a:pt x="624" y="486"/>
                  </a:lnTo>
                  <a:lnTo>
                    <a:pt x="594" y="480"/>
                  </a:lnTo>
                  <a:lnTo>
                    <a:pt x="564" y="480"/>
                  </a:lnTo>
                  <a:lnTo>
                    <a:pt x="534" y="486"/>
                  </a:lnTo>
                  <a:lnTo>
                    <a:pt x="510" y="498"/>
                  </a:lnTo>
                  <a:lnTo>
                    <a:pt x="486" y="516"/>
                  </a:lnTo>
                  <a:lnTo>
                    <a:pt x="468" y="534"/>
                  </a:lnTo>
                  <a:lnTo>
                    <a:pt x="474" y="510"/>
                  </a:lnTo>
                  <a:lnTo>
                    <a:pt x="486" y="492"/>
                  </a:lnTo>
                  <a:lnTo>
                    <a:pt x="498" y="474"/>
                  </a:lnTo>
                  <a:lnTo>
                    <a:pt x="516" y="456"/>
                  </a:lnTo>
                  <a:lnTo>
                    <a:pt x="534" y="444"/>
                  </a:lnTo>
                  <a:lnTo>
                    <a:pt x="558" y="432"/>
                  </a:lnTo>
                  <a:lnTo>
                    <a:pt x="576" y="432"/>
                  </a:lnTo>
                  <a:lnTo>
                    <a:pt x="600" y="426"/>
                  </a:lnTo>
                  <a:lnTo>
                    <a:pt x="618" y="420"/>
                  </a:lnTo>
                  <a:lnTo>
                    <a:pt x="636" y="402"/>
                  </a:lnTo>
                  <a:lnTo>
                    <a:pt x="654" y="390"/>
                  </a:lnTo>
                  <a:lnTo>
                    <a:pt x="672" y="372"/>
                  </a:lnTo>
                  <a:lnTo>
                    <a:pt x="684" y="342"/>
                  </a:lnTo>
                  <a:lnTo>
                    <a:pt x="684" y="318"/>
                  </a:lnTo>
                  <a:lnTo>
                    <a:pt x="684" y="288"/>
                  </a:lnTo>
                  <a:lnTo>
                    <a:pt x="678" y="258"/>
                  </a:lnTo>
                  <a:lnTo>
                    <a:pt x="684" y="234"/>
                  </a:lnTo>
                  <a:lnTo>
                    <a:pt x="702" y="210"/>
                  </a:lnTo>
                  <a:lnTo>
                    <a:pt x="702" y="204"/>
                  </a:lnTo>
                  <a:lnTo>
                    <a:pt x="702" y="198"/>
                  </a:lnTo>
                  <a:lnTo>
                    <a:pt x="702" y="192"/>
                  </a:lnTo>
                  <a:lnTo>
                    <a:pt x="702" y="186"/>
                  </a:lnTo>
                  <a:lnTo>
                    <a:pt x="702" y="180"/>
                  </a:lnTo>
                  <a:lnTo>
                    <a:pt x="702" y="174"/>
                  </a:lnTo>
                  <a:lnTo>
                    <a:pt x="690" y="174"/>
                  </a:lnTo>
                  <a:lnTo>
                    <a:pt x="684" y="180"/>
                  </a:lnTo>
                  <a:lnTo>
                    <a:pt x="684" y="192"/>
                  </a:lnTo>
                  <a:lnTo>
                    <a:pt x="684" y="204"/>
                  </a:lnTo>
                  <a:lnTo>
                    <a:pt x="678" y="216"/>
                  </a:lnTo>
                  <a:lnTo>
                    <a:pt x="672" y="222"/>
                  </a:lnTo>
                  <a:lnTo>
                    <a:pt x="666" y="234"/>
                  </a:lnTo>
                  <a:lnTo>
                    <a:pt x="660" y="240"/>
                  </a:lnTo>
                  <a:lnTo>
                    <a:pt x="648" y="246"/>
                  </a:lnTo>
                  <a:lnTo>
                    <a:pt x="642" y="252"/>
                  </a:lnTo>
                  <a:lnTo>
                    <a:pt x="630" y="258"/>
                  </a:lnTo>
                  <a:lnTo>
                    <a:pt x="618" y="258"/>
                  </a:lnTo>
                  <a:lnTo>
                    <a:pt x="612" y="258"/>
                  </a:lnTo>
                  <a:lnTo>
                    <a:pt x="606" y="258"/>
                  </a:lnTo>
                  <a:lnTo>
                    <a:pt x="600" y="258"/>
                  </a:lnTo>
                  <a:lnTo>
                    <a:pt x="594" y="258"/>
                  </a:lnTo>
                  <a:lnTo>
                    <a:pt x="588" y="258"/>
                  </a:lnTo>
                  <a:lnTo>
                    <a:pt x="582" y="270"/>
                  </a:lnTo>
                  <a:lnTo>
                    <a:pt x="576" y="276"/>
                  </a:lnTo>
                  <a:lnTo>
                    <a:pt x="570" y="282"/>
                  </a:lnTo>
                  <a:lnTo>
                    <a:pt x="564" y="288"/>
                  </a:lnTo>
                  <a:lnTo>
                    <a:pt x="564" y="294"/>
                  </a:lnTo>
                  <a:lnTo>
                    <a:pt x="564" y="306"/>
                  </a:lnTo>
                  <a:lnTo>
                    <a:pt x="558" y="318"/>
                  </a:lnTo>
                  <a:lnTo>
                    <a:pt x="552" y="330"/>
                  </a:lnTo>
                  <a:lnTo>
                    <a:pt x="540" y="342"/>
                  </a:lnTo>
                  <a:lnTo>
                    <a:pt x="534" y="354"/>
                  </a:lnTo>
                  <a:lnTo>
                    <a:pt x="534" y="366"/>
                  </a:lnTo>
                  <a:lnTo>
                    <a:pt x="534" y="378"/>
                  </a:lnTo>
                  <a:lnTo>
                    <a:pt x="528" y="366"/>
                  </a:lnTo>
                  <a:lnTo>
                    <a:pt x="528" y="354"/>
                  </a:lnTo>
                  <a:lnTo>
                    <a:pt x="534" y="342"/>
                  </a:lnTo>
                  <a:lnTo>
                    <a:pt x="534" y="336"/>
                  </a:lnTo>
                  <a:lnTo>
                    <a:pt x="528" y="330"/>
                  </a:lnTo>
                  <a:lnTo>
                    <a:pt x="510" y="324"/>
                  </a:lnTo>
                  <a:lnTo>
                    <a:pt x="504" y="330"/>
                  </a:lnTo>
                  <a:lnTo>
                    <a:pt x="504" y="336"/>
                  </a:lnTo>
                  <a:lnTo>
                    <a:pt x="504" y="342"/>
                  </a:lnTo>
                  <a:lnTo>
                    <a:pt x="504" y="348"/>
                  </a:lnTo>
                  <a:lnTo>
                    <a:pt x="480" y="366"/>
                  </a:lnTo>
                  <a:lnTo>
                    <a:pt x="468" y="342"/>
                  </a:lnTo>
                  <a:lnTo>
                    <a:pt x="474" y="318"/>
                  </a:lnTo>
                  <a:lnTo>
                    <a:pt x="480" y="300"/>
                  </a:lnTo>
                  <a:lnTo>
                    <a:pt x="492" y="276"/>
                  </a:lnTo>
                  <a:lnTo>
                    <a:pt x="504" y="252"/>
                  </a:lnTo>
                  <a:lnTo>
                    <a:pt x="504" y="228"/>
                  </a:lnTo>
                  <a:lnTo>
                    <a:pt x="510" y="210"/>
                  </a:lnTo>
                  <a:lnTo>
                    <a:pt x="516" y="198"/>
                  </a:lnTo>
                  <a:lnTo>
                    <a:pt x="522" y="180"/>
                  </a:lnTo>
                  <a:lnTo>
                    <a:pt x="528" y="168"/>
                  </a:lnTo>
                  <a:lnTo>
                    <a:pt x="522" y="150"/>
                  </a:lnTo>
                  <a:lnTo>
                    <a:pt x="516" y="132"/>
                  </a:lnTo>
                  <a:lnTo>
                    <a:pt x="522" y="126"/>
                  </a:lnTo>
                  <a:lnTo>
                    <a:pt x="522" y="114"/>
                  </a:lnTo>
                  <a:lnTo>
                    <a:pt x="528" y="108"/>
                  </a:lnTo>
                  <a:lnTo>
                    <a:pt x="528" y="96"/>
                  </a:lnTo>
                  <a:lnTo>
                    <a:pt x="534" y="90"/>
                  </a:lnTo>
                  <a:lnTo>
                    <a:pt x="546" y="84"/>
                  </a:lnTo>
                  <a:lnTo>
                    <a:pt x="540" y="72"/>
                  </a:lnTo>
                  <a:lnTo>
                    <a:pt x="534" y="60"/>
                  </a:lnTo>
                  <a:lnTo>
                    <a:pt x="522" y="48"/>
                  </a:lnTo>
                  <a:lnTo>
                    <a:pt x="510" y="42"/>
                  </a:lnTo>
                  <a:lnTo>
                    <a:pt x="504" y="30"/>
                  </a:lnTo>
                  <a:lnTo>
                    <a:pt x="504" y="18"/>
                  </a:lnTo>
                  <a:lnTo>
                    <a:pt x="516" y="30"/>
                  </a:lnTo>
                  <a:lnTo>
                    <a:pt x="528" y="42"/>
                  </a:lnTo>
                  <a:lnTo>
                    <a:pt x="546" y="48"/>
                  </a:lnTo>
                  <a:lnTo>
                    <a:pt x="552" y="60"/>
                  </a:lnTo>
                  <a:lnTo>
                    <a:pt x="552" y="72"/>
                  </a:lnTo>
                  <a:lnTo>
                    <a:pt x="546" y="96"/>
                  </a:lnTo>
                  <a:lnTo>
                    <a:pt x="540" y="96"/>
                  </a:lnTo>
                  <a:lnTo>
                    <a:pt x="534" y="102"/>
                  </a:lnTo>
                  <a:lnTo>
                    <a:pt x="534" y="108"/>
                  </a:lnTo>
                  <a:lnTo>
                    <a:pt x="534" y="114"/>
                  </a:lnTo>
                  <a:lnTo>
                    <a:pt x="534" y="120"/>
                  </a:lnTo>
                  <a:lnTo>
                    <a:pt x="534" y="126"/>
                  </a:lnTo>
                  <a:lnTo>
                    <a:pt x="534" y="132"/>
                  </a:lnTo>
                  <a:lnTo>
                    <a:pt x="540" y="132"/>
                  </a:lnTo>
                  <a:lnTo>
                    <a:pt x="546" y="132"/>
                  </a:lnTo>
                  <a:lnTo>
                    <a:pt x="564" y="120"/>
                  </a:lnTo>
                  <a:lnTo>
                    <a:pt x="570" y="102"/>
                  </a:lnTo>
                  <a:lnTo>
                    <a:pt x="570" y="84"/>
                  </a:lnTo>
                  <a:lnTo>
                    <a:pt x="576" y="60"/>
                  </a:lnTo>
                  <a:lnTo>
                    <a:pt x="576" y="42"/>
                  </a:lnTo>
                  <a:lnTo>
                    <a:pt x="576" y="18"/>
                  </a:lnTo>
                  <a:lnTo>
                    <a:pt x="564" y="0"/>
                  </a:lnTo>
                  <a:lnTo>
                    <a:pt x="576" y="6"/>
                  </a:lnTo>
                  <a:lnTo>
                    <a:pt x="588" y="12"/>
                  </a:lnTo>
                  <a:lnTo>
                    <a:pt x="600" y="24"/>
                  </a:lnTo>
                  <a:lnTo>
                    <a:pt x="606" y="36"/>
                  </a:lnTo>
                  <a:lnTo>
                    <a:pt x="612" y="54"/>
                  </a:lnTo>
                  <a:lnTo>
                    <a:pt x="612" y="72"/>
                  </a:lnTo>
                  <a:lnTo>
                    <a:pt x="612" y="78"/>
                  </a:lnTo>
                  <a:lnTo>
                    <a:pt x="612" y="84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2" y="102"/>
                  </a:lnTo>
                  <a:lnTo>
                    <a:pt x="624" y="102"/>
                  </a:lnTo>
                  <a:lnTo>
                    <a:pt x="630" y="96"/>
                  </a:lnTo>
                  <a:lnTo>
                    <a:pt x="636" y="90"/>
                  </a:lnTo>
                  <a:lnTo>
                    <a:pt x="642" y="84"/>
                  </a:lnTo>
                  <a:lnTo>
                    <a:pt x="642" y="78"/>
                  </a:lnTo>
                  <a:lnTo>
                    <a:pt x="642" y="72"/>
                  </a:lnTo>
                  <a:lnTo>
                    <a:pt x="642" y="66"/>
                  </a:lnTo>
                  <a:lnTo>
                    <a:pt x="636" y="66"/>
                  </a:lnTo>
                  <a:lnTo>
                    <a:pt x="660" y="54"/>
                  </a:lnTo>
                  <a:lnTo>
                    <a:pt x="690" y="54"/>
                  </a:lnTo>
                  <a:lnTo>
                    <a:pt x="714" y="48"/>
                  </a:lnTo>
                  <a:lnTo>
                    <a:pt x="744" y="42"/>
                  </a:lnTo>
                  <a:lnTo>
                    <a:pt x="774" y="36"/>
                  </a:lnTo>
                  <a:lnTo>
                    <a:pt x="798" y="24"/>
                  </a:lnTo>
                  <a:lnTo>
                    <a:pt x="798" y="30"/>
                  </a:lnTo>
                  <a:lnTo>
                    <a:pt x="798" y="36"/>
                  </a:lnTo>
                  <a:lnTo>
                    <a:pt x="804" y="42"/>
                  </a:lnTo>
                  <a:lnTo>
                    <a:pt x="804" y="48"/>
                  </a:lnTo>
                  <a:lnTo>
                    <a:pt x="810" y="54"/>
                  </a:lnTo>
                  <a:lnTo>
                    <a:pt x="816" y="60"/>
                  </a:lnTo>
                  <a:lnTo>
                    <a:pt x="840" y="66"/>
                  </a:lnTo>
                  <a:lnTo>
                    <a:pt x="858" y="66"/>
                  </a:lnTo>
                  <a:lnTo>
                    <a:pt x="876" y="66"/>
                  </a:lnTo>
                  <a:lnTo>
                    <a:pt x="900" y="66"/>
                  </a:lnTo>
                  <a:lnTo>
                    <a:pt x="918" y="66"/>
                  </a:lnTo>
                  <a:lnTo>
                    <a:pt x="936" y="66"/>
                  </a:lnTo>
                  <a:lnTo>
                    <a:pt x="918" y="84"/>
                  </a:lnTo>
                  <a:lnTo>
                    <a:pt x="930" y="96"/>
                  </a:lnTo>
                  <a:lnTo>
                    <a:pt x="942" y="108"/>
                  </a:lnTo>
                  <a:lnTo>
                    <a:pt x="954" y="120"/>
                  </a:lnTo>
                  <a:lnTo>
                    <a:pt x="966" y="126"/>
                  </a:lnTo>
                  <a:lnTo>
                    <a:pt x="984" y="132"/>
                  </a:lnTo>
                  <a:lnTo>
                    <a:pt x="996" y="132"/>
                  </a:lnTo>
                  <a:lnTo>
                    <a:pt x="990" y="138"/>
                  </a:lnTo>
                  <a:lnTo>
                    <a:pt x="978" y="144"/>
                  </a:lnTo>
                  <a:lnTo>
                    <a:pt x="972" y="150"/>
                  </a:lnTo>
                  <a:lnTo>
                    <a:pt x="966" y="156"/>
                  </a:lnTo>
                  <a:lnTo>
                    <a:pt x="960" y="162"/>
                  </a:lnTo>
                  <a:lnTo>
                    <a:pt x="960" y="174"/>
                  </a:lnTo>
                  <a:lnTo>
                    <a:pt x="960" y="186"/>
                  </a:lnTo>
                  <a:lnTo>
                    <a:pt x="972" y="192"/>
                  </a:lnTo>
                  <a:lnTo>
                    <a:pt x="984" y="204"/>
                  </a:lnTo>
                  <a:lnTo>
                    <a:pt x="1002" y="210"/>
                  </a:lnTo>
                  <a:lnTo>
                    <a:pt x="1014" y="222"/>
                  </a:lnTo>
                  <a:lnTo>
                    <a:pt x="1026" y="234"/>
                  </a:lnTo>
                  <a:lnTo>
                    <a:pt x="1014" y="240"/>
                  </a:lnTo>
                  <a:lnTo>
                    <a:pt x="1002" y="246"/>
                  </a:lnTo>
                  <a:lnTo>
                    <a:pt x="990" y="246"/>
                  </a:lnTo>
                  <a:lnTo>
                    <a:pt x="978" y="252"/>
                  </a:lnTo>
                  <a:lnTo>
                    <a:pt x="966" y="258"/>
                  </a:lnTo>
                  <a:lnTo>
                    <a:pt x="966" y="270"/>
                  </a:lnTo>
                  <a:lnTo>
                    <a:pt x="984" y="282"/>
                  </a:lnTo>
                  <a:lnTo>
                    <a:pt x="996" y="306"/>
                  </a:lnTo>
                  <a:lnTo>
                    <a:pt x="1002" y="324"/>
                  </a:lnTo>
                  <a:lnTo>
                    <a:pt x="1008" y="348"/>
                  </a:lnTo>
                  <a:lnTo>
                    <a:pt x="1026" y="360"/>
                  </a:lnTo>
                  <a:lnTo>
                    <a:pt x="1050" y="372"/>
                  </a:lnTo>
                  <a:lnTo>
                    <a:pt x="1038" y="378"/>
                  </a:lnTo>
                  <a:lnTo>
                    <a:pt x="1032" y="384"/>
                  </a:lnTo>
                  <a:lnTo>
                    <a:pt x="1020" y="384"/>
                  </a:lnTo>
                  <a:lnTo>
                    <a:pt x="1014" y="384"/>
                  </a:lnTo>
                  <a:lnTo>
                    <a:pt x="1002" y="384"/>
                  </a:lnTo>
                  <a:lnTo>
                    <a:pt x="996" y="378"/>
                  </a:lnTo>
                  <a:lnTo>
                    <a:pt x="990" y="390"/>
                  </a:lnTo>
                  <a:lnTo>
                    <a:pt x="990" y="402"/>
                  </a:lnTo>
                  <a:lnTo>
                    <a:pt x="996" y="414"/>
                  </a:lnTo>
                  <a:lnTo>
                    <a:pt x="1008" y="420"/>
                  </a:lnTo>
                  <a:lnTo>
                    <a:pt x="1020" y="432"/>
                  </a:lnTo>
                  <a:lnTo>
                    <a:pt x="1026" y="444"/>
                  </a:lnTo>
                  <a:lnTo>
                    <a:pt x="1044" y="444"/>
                  </a:lnTo>
                  <a:lnTo>
                    <a:pt x="1032" y="456"/>
                  </a:lnTo>
                  <a:lnTo>
                    <a:pt x="1020" y="462"/>
                  </a:lnTo>
                  <a:lnTo>
                    <a:pt x="1008" y="468"/>
                  </a:lnTo>
                  <a:lnTo>
                    <a:pt x="990" y="468"/>
                  </a:lnTo>
                  <a:lnTo>
                    <a:pt x="984" y="480"/>
                  </a:lnTo>
                  <a:lnTo>
                    <a:pt x="984" y="498"/>
                  </a:lnTo>
                  <a:lnTo>
                    <a:pt x="990" y="504"/>
                  </a:lnTo>
                  <a:lnTo>
                    <a:pt x="1002" y="516"/>
                  </a:lnTo>
                  <a:lnTo>
                    <a:pt x="1008" y="522"/>
                  </a:lnTo>
                  <a:lnTo>
                    <a:pt x="1014" y="534"/>
                  </a:lnTo>
                  <a:lnTo>
                    <a:pt x="1026" y="540"/>
                  </a:lnTo>
                  <a:lnTo>
                    <a:pt x="1032" y="540"/>
                  </a:lnTo>
                  <a:lnTo>
                    <a:pt x="1026" y="546"/>
                  </a:lnTo>
                  <a:lnTo>
                    <a:pt x="1014" y="546"/>
                  </a:lnTo>
                  <a:lnTo>
                    <a:pt x="1002" y="540"/>
                  </a:lnTo>
                  <a:lnTo>
                    <a:pt x="990" y="540"/>
                  </a:lnTo>
                  <a:lnTo>
                    <a:pt x="978" y="546"/>
                  </a:lnTo>
                  <a:lnTo>
                    <a:pt x="966" y="552"/>
                  </a:lnTo>
                  <a:lnTo>
                    <a:pt x="966" y="558"/>
                  </a:lnTo>
                  <a:lnTo>
                    <a:pt x="966" y="564"/>
                  </a:lnTo>
                  <a:lnTo>
                    <a:pt x="972" y="576"/>
                  </a:lnTo>
                  <a:lnTo>
                    <a:pt x="972" y="582"/>
                  </a:lnTo>
                  <a:lnTo>
                    <a:pt x="978" y="588"/>
                  </a:lnTo>
                  <a:lnTo>
                    <a:pt x="984" y="594"/>
                  </a:lnTo>
                  <a:lnTo>
                    <a:pt x="984" y="600"/>
                  </a:lnTo>
                  <a:lnTo>
                    <a:pt x="990" y="600"/>
                  </a:lnTo>
                  <a:lnTo>
                    <a:pt x="990" y="606"/>
                  </a:lnTo>
                  <a:lnTo>
                    <a:pt x="996" y="606"/>
                  </a:lnTo>
                  <a:lnTo>
                    <a:pt x="984" y="612"/>
                  </a:lnTo>
                  <a:lnTo>
                    <a:pt x="966" y="606"/>
                  </a:lnTo>
                  <a:lnTo>
                    <a:pt x="954" y="600"/>
                  </a:lnTo>
                  <a:lnTo>
                    <a:pt x="942" y="600"/>
                  </a:lnTo>
                  <a:lnTo>
                    <a:pt x="930" y="600"/>
                  </a:lnTo>
                  <a:lnTo>
                    <a:pt x="918" y="618"/>
                  </a:lnTo>
                  <a:lnTo>
                    <a:pt x="936" y="642"/>
                  </a:lnTo>
                  <a:lnTo>
                    <a:pt x="924" y="648"/>
                  </a:lnTo>
                  <a:lnTo>
                    <a:pt x="912" y="648"/>
                  </a:lnTo>
                  <a:lnTo>
                    <a:pt x="906" y="648"/>
                  </a:lnTo>
                  <a:lnTo>
                    <a:pt x="894" y="648"/>
                  </a:lnTo>
                  <a:lnTo>
                    <a:pt x="882" y="648"/>
                  </a:lnTo>
                  <a:lnTo>
                    <a:pt x="876" y="642"/>
                  </a:lnTo>
                  <a:lnTo>
                    <a:pt x="864" y="648"/>
                  </a:lnTo>
                  <a:lnTo>
                    <a:pt x="858" y="660"/>
                  </a:lnTo>
                  <a:lnTo>
                    <a:pt x="846" y="672"/>
                  </a:lnTo>
                  <a:lnTo>
                    <a:pt x="834" y="678"/>
                  </a:lnTo>
                  <a:lnTo>
                    <a:pt x="822" y="690"/>
                  </a:lnTo>
                  <a:lnTo>
                    <a:pt x="810" y="690"/>
                  </a:lnTo>
                  <a:lnTo>
                    <a:pt x="762" y="666"/>
                  </a:lnTo>
                  <a:lnTo>
                    <a:pt x="780" y="660"/>
                  </a:lnTo>
                  <a:lnTo>
                    <a:pt x="798" y="660"/>
                  </a:lnTo>
                  <a:lnTo>
                    <a:pt x="810" y="654"/>
                  </a:lnTo>
                  <a:lnTo>
                    <a:pt x="828" y="654"/>
                  </a:lnTo>
                  <a:lnTo>
                    <a:pt x="846" y="642"/>
                  </a:lnTo>
                  <a:lnTo>
                    <a:pt x="858" y="630"/>
                  </a:lnTo>
                  <a:lnTo>
                    <a:pt x="858" y="612"/>
                  </a:lnTo>
                  <a:lnTo>
                    <a:pt x="858" y="600"/>
                  </a:lnTo>
                  <a:lnTo>
                    <a:pt x="852" y="582"/>
                  </a:lnTo>
                  <a:lnTo>
                    <a:pt x="846" y="570"/>
                  </a:lnTo>
                  <a:lnTo>
                    <a:pt x="834" y="558"/>
                  </a:lnTo>
                  <a:lnTo>
                    <a:pt x="828" y="546"/>
                  </a:lnTo>
                  <a:lnTo>
                    <a:pt x="822" y="546"/>
                  </a:lnTo>
                  <a:lnTo>
                    <a:pt x="852" y="492"/>
                  </a:lnTo>
                  <a:lnTo>
                    <a:pt x="870" y="426"/>
                  </a:lnTo>
                  <a:lnTo>
                    <a:pt x="888" y="360"/>
                  </a:lnTo>
                  <a:lnTo>
                    <a:pt x="894" y="294"/>
                  </a:lnTo>
                  <a:lnTo>
                    <a:pt x="882" y="228"/>
                  </a:lnTo>
                  <a:lnTo>
                    <a:pt x="858" y="162"/>
                  </a:lnTo>
                  <a:lnTo>
                    <a:pt x="846" y="150"/>
                  </a:lnTo>
                  <a:lnTo>
                    <a:pt x="834" y="132"/>
                  </a:lnTo>
                  <a:lnTo>
                    <a:pt x="822" y="108"/>
                  </a:lnTo>
                  <a:lnTo>
                    <a:pt x="810" y="90"/>
                  </a:lnTo>
                  <a:lnTo>
                    <a:pt x="792" y="78"/>
                  </a:lnTo>
                  <a:lnTo>
                    <a:pt x="768" y="72"/>
                  </a:lnTo>
                  <a:lnTo>
                    <a:pt x="750" y="90"/>
                  </a:lnTo>
                  <a:lnTo>
                    <a:pt x="792" y="114"/>
                  </a:lnTo>
                  <a:lnTo>
                    <a:pt x="822" y="150"/>
                  </a:lnTo>
                  <a:lnTo>
                    <a:pt x="846" y="192"/>
                  </a:lnTo>
                  <a:lnTo>
                    <a:pt x="864" y="240"/>
                  </a:lnTo>
                  <a:lnTo>
                    <a:pt x="870" y="288"/>
                  </a:lnTo>
                  <a:lnTo>
                    <a:pt x="864" y="342"/>
                  </a:lnTo>
                  <a:lnTo>
                    <a:pt x="858" y="372"/>
                  </a:lnTo>
                  <a:lnTo>
                    <a:pt x="852" y="408"/>
                  </a:lnTo>
                  <a:lnTo>
                    <a:pt x="840" y="444"/>
                  </a:lnTo>
                  <a:lnTo>
                    <a:pt x="828" y="480"/>
                  </a:lnTo>
                  <a:lnTo>
                    <a:pt x="810" y="510"/>
                  </a:lnTo>
                  <a:lnTo>
                    <a:pt x="786" y="540"/>
                  </a:lnTo>
                  <a:lnTo>
                    <a:pt x="792" y="558"/>
                  </a:lnTo>
                  <a:lnTo>
                    <a:pt x="804" y="570"/>
                  </a:lnTo>
                  <a:lnTo>
                    <a:pt x="816" y="576"/>
                  </a:lnTo>
                  <a:lnTo>
                    <a:pt x="828" y="588"/>
                  </a:lnTo>
                  <a:lnTo>
                    <a:pt x="834" y="600"/>
                  </a:lnTo>
                  <a:lnTo>
                    <a:pt x="828" y="618"/>
                  </a:lnTo>
                  <a:lnTo>
                    <a:pt x="816" y="630"/>
                  </a:lnTo>
                  <a:lnTo>
                    <a:pt x="798" y="636"/>
                  </a:lnTo>
                  <a:lnTo>
                    <a:pt x="780" y="636"/>
                  </a:lnTo>
                  <a:lnTo>
                    <a:pt x="762" y="630"/>
                  </a:lnTo>
                  <a:lnTo>
                    <a:pt x="744" y="630"/>
                  </a:lnTo>
                  <a:lnTo>
                    <a:pt x="726" y="630"/>
                  </a:lnTo>
                  <a:lnTo>
                    <a:pt x="732" y="642"/>
                  </a:lnTo>
                  <a:lnTo>
                    <a:pt x="738" y="654"/>
                  </a:lnTo>
                  <a:lnTo>
                    <a:pt x="744" y="666"/>
                  </a:lnTo>
                  <a:lnTo>
                    <a:pt x="756" y="678"/>
                  </a:lnTo>
                  <a:lnTo>
                    <a:pt x="762" y="690"/>
                  </a:lnTo>
                  <a:lnTo>
                    <a:pt x="774" y="702"/>
                  </a:lnTo>
                  <a:lnTo>
                    <a:pt x="786" y="708"/>
                  </a:lnTo>
                  <a:lnTo>
                    <a:pt x="798" y="714"/>
                  </a:lnTo>
                  <a:lnTo>
                    <a:pt x="810" y="714"/>
                  </a:lnTo>
                  <a:lnTo>
                    <a:pt x="822" y="708"/>
                  </a:lnTo>
                  <a:lnTo>
                    <a:pt x="840" y="708"/>
                  </a:lnTo>
                  <a:lnTo>
                    <a:pt x="852" y="702"/>
                  </a:lnTo>
                  <a:lnTo>
                    <a:pt x="882" y="756"/>
                  </a:lnTo>
                  <a:lnTo>
                    <a:pt x="906" y="822"/>
                  </a:lnTo>
                  <a:lnTo>
                    <a:pt x="924" y="882"/>
                  </a:lnTo>
                  <a:lnTo>
                    <a:pt x="948" y="942"/>
                  </a:lnTo>
                  <a:lnTo>
                    <a:pt x="966" y="1002"/>
                  </a:lnTo>
                  <a:lnTo>
                    <a:pt x="990" y="1062"/>
                  </a:lnTo>
                  <a:lnTo>
                    <a:pt x="984" y="1074"/>
                  </a:lnTo>
                  <a:lnTo>
                    <a:pt x="984" y="1080"/>
                  </a:lnTo>
                  <a:lnTo>
                    <a:pt x="984" y="1086"/>
                  </a:lnTo>
                  <a:lnTo>
                    <a:pt x="984" y="1092"/>
                  </a:lnTo>
                  <a:lnTo>
                    <a:pt x="984" y="1098"/>
                  </a:lnTo>
                  <a:lnTo>
                    <a:pt x="984" y="1110"/>
                  </a:lnTo>
                  <a:lnTo>
                    <a:pt x="978" y="1116"/>
                  </a:lnTo>
                  <a:lnTo>
                    <a:pt x="972" y="1122"/>
                  </a:lnTo>
                  <a:lnTo>
                    <a:pt x="966" y="1134"/>
                  </a:lnTo>
                  <a:lnTo>
                    <a:pt x="960" y="1146"/>
                  </a:lnTo>
                  <a:lnTo>
                    <a:pt x="954" y="1152"/>
                  </a:lnTo>
                  <a:lnTo>
                    <a:pt x="948" y="1164"/>
                  </a:lnTo>
                  <a:lnTo>
                    <a:pt x="948" y="1170"/>
                  </a:lnTo>
                  <a:lnTo>
                    <a:pt x="948" y="1182"/>
                  </a:lnTo>
                  <a:lnTo>
                    <a:pt x="942" y="1188"/>
                  </a:lnTo>
                  <a:lnTo>
                    <a:pt x="942" y="1200"/>
                  </a:lnTo>
                  <a:lnTo>
                    <a:pt x="936" y="1206"/>
                  </a:lnTo>
                  <a:lnTo>
                    <a:pt x="924" y="1206"/>
                  </a:lnTo>
                  <a:lnTo>
                    <a:pt x="918" y="1206"/>
                  </a:lnTo>
                  <a:lnTo>
                    <a:pt x="912" y="1206"/>
                  </a:lnTo>
                  <a:lnTo>
                    <a:pt x="906" y="1206"/>
                  </a:lnTo>
                  <a:lnTo>
                    <a:pt x="900" y="1206"/>
                  </a:lnTo>
                  <a:lnTo>
                    <a:pt x="888" y="1206"/>
                  </a:lnTo>
                  <a:lnTo>
                    <a:pt x="882" y="1206"/>
                  </a:lnTo>
                  <a:lnTo>
                    <a:pt x="882" y="1212"/>
                  </a:lnTo>
                  <a:lnTo>
                    <a:pt x="882" y="1206"/>
                  </a:lnTo>
                  <a:lnTo>
                    <a:pt x="882" y="1212"/>
                  </a:lnTo>
                  <a:lnTo>
                    <a:pt x="876" y="1212"/>
                  </a:lnTo>
                  <a:lnTo>
                    <a:pt x="870" y="1218"/>
                  </a:lnTo>
                  <a:lnTo>
                    <a:pt x="870" y="1224"/>
                  </a:lnTo>
                  <a:lnTo>
                    <a:pt x="870" y="1230"/>
                  </a:lnTo>
                  <a:lnTo>
                    <a:pt x="876" y="1230"/>
                  </a:lnTo>
                  <a:lnTo>
                    <a:pt x="882" y="1236"/>
                  </a:lnTo>
                  <a:lnTo>
                    <a:pt x="888" y="1236"/>
                  </a:lnTo>
                  <a:lnTo>
                    <a:pt x="894" y="1236"/>
                  </a:lnTo>
                  <a:lnTo>
                    <a:pt x="912" y="1230"/>
                  </a:lnTo>
                  <a:lnTo>
                    <a:pt x="924" y="1230"/>
                  </a:lnTo>
                  <a:lnTo>
                    <a:pt x="942" y="1230"/>
                  </a:lnTo>
                  <a:lnTo>
                    <a:pt x="966" y="1242"/>
                  </a:lnTo>
                  <a:lnTo>
                    <a:pt x="984" y="1242"/>
                  </a:lnTo>
                  <a:lnTo>
                    <a:pt x="996" y="1242"/>
                  </a:lnTo>
                  <a:lnTo>
                    <a:pt x="1044" y="1248"/>
                  </a:lnTo>
                  <a:lnTo>
                    <a:pt x="1014" y="1302"/>
                  </a:lnTo>
                  <a:lnTo>
                    <a:pt x="990" y="1344"/>
                  </a:lnTo>
                  <a:lnTo>
                    <a:pt x="966" y="1392"/>
                  </a:lnTo>
                  <a:lnTo>
                    <a:pt x="942" y="1440"/>
                  </a:lnTo>
                  <a:lnTo>
                    <a:pt x="924" y="1494"/>
                  </a:lnTo>
                  <a:lnTo>
                    <a:pt x="906" y="15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9" name=""/>
            <p:cNvSpPr/>
            <p:nvPr/>
          </p:nvSpPr>
          <p:spPr>
            <a:xfrm>
              <a:off x="2463840" y="1208520"/>
              <a:ext cx="210960" cy="131760"/>
            </a:xfrm>
            <a:custGeom>
              <a:avLst/>
              <a:gdLst/>
              <a:ahLst/>
              <a:rect l="l" t="t" r="r" b="b"/>
              <a:pathLst>
                <a:path w="672" h="360">
                  <a:moveTo>
                    <a:pt x="594" y="228"/>
                  </a:moveTo>
                  <a:lnTo>
                    <a:pt x="594" y="234"/>
                  </a:lnTo>
                  <a:lnTo>
                    <a:pt x="588" y="240"/>
                  </a:lnTo>
                  <a:lnTo>
                    <a:pt x="582" y="240"/>
                  </a:lnTo>
                  <a:lnTo>
                    <a:pt x="576" y="246"/>
                  </a:lnTo>
                  <a:lnTo>
                    <a:pt x="570" y="246"/>
                  </a:lnTo>
                  <a:lnTo>
                    <a:pt x="564" y="246"/>
                  </a:lnTo>
                  <a:lnTo>
                    <a:pt x="552" y="246"/>
                  </a:lnTo>
                  <a:lnTo>
                    <a:pt x="540" y="246"/>
                  </a:lnTo>
                  <a:lnTo>
                    <a:pt x="528" y="246"/>
                  </a:lnTo>
                  <a:lnTo>
                    <a:pt x="516" y="240"/>
                  </a:lnTo>
                  <a:lnTo>
                    <a:pt x="510" y="240"/>
                  </a:lnTo>
                  <a:lnTo>
                    <a:pt x="498" y="234"/>
                  </a:lnTo>
                  <a:lnTo>
                    <a:pt x="486" y="234"/>
                  </a:lnTo>
                  <a:lnTo>
                    <a:pt x="474" y="228"/>
                  </a:lnTo>
                  <a:lnTo>
                    <a:pt x="462" y="222"/>
                  </a:lnTo>
                  <a:lnTo>
                    <a:pt x="450" y="216"/>
                  </a:lnTo>
                  <a:lnTo>
                    <a:pt x="432" y="210"/>
                  </a:lnTo>
                  <a:lnTo>
                    <a:pt x="420" y="204"/>
                  </a:lnTo>
                  <a:lnTo>
                    <a:pt x="414" y="234"/>
                  </a:lnTo>
                  <a:lnTo>
                    <a:pt x="402" y="264"/>
                  </a:lnTo>
                  <a:lnTo>
                    <a:pt x="384" y="288"/>
                  </a:lnTo>
                  <a:lnTo>
                    <a:pt x="372" y="312"/>
                  </a:lnTo>
                  <a:lnTo>
                    <a:pt x="360" y="336"/>
                  </a:lnTo>
                  <a:lnTo>
                    <a:pt x="360" y="360"/>
                  </a:lnTo>
                  <a:lnTo>
                    <a:pt x="324" y="342"/>
                  </a:lnTo>
                  <a:lnTo>
                    <a:pt x="288" y="324"/>
                  </a:lnTo>
                  <a:lnTo>
                    <a:pt x="258" y="312"/>
                  </a:lnTo>
                  <a:lnTo>
                    <a:pt x="222" y="300"/>
                  </a:lnTo>
                  <a:lnTo>
                    <a:pt x="180" y="294"/>
                  </a:lnTo>
                  <a:lnTo>
                    <a:pt x="144" y="294"/>
                  </a:lnTo>
                  <a:lnTo>
                    <a:pt x="114" y="318"/>
                  </a:lnTo>
                  <a:lnTo>
                    <a:pt x="114" y="312"/>
                  </a:lnTo>
                  <a:lnTo>
                    <a:pt x="120" y="306"/>
                  </a:lnTo>
                  <a:lnTo>
                    <a:pt x="114" y="306"/>
                  </a:lnTo>
                  <a:lnTo>
                    <a:pt x="114" y="300"/>
                  </a:lnTo>
                  <a:lnTo>
                    <a:pt x="114" y="294"/>
                  </a:lnTo>
                  <a:lnTo>
                    <a:pt x="108" y="288"/>
                  </a:lnTo>
                  <a:lnTo>
                    <a:pt x="102" y="288"/>
                  </a:lnTo>
                  <a:lnTo>
                    <a:pt x="96" y="288"/>
                  </a:lnTo>
                  <a:lnTo>
                    <a:pt x="90" y="288"/>
                  </a:lnTo>
                  <a:lnTo>
                    <a:pt x="78" y="282"/>
                  </a:lnTo>
                  <a:lnTo>
                    <a:pt x="72" y="282"/>
                  </a:lnTo>
                  <a:lnTo>
                    <a:pt x="72" y="276"/>
                  </a:lnTo>
                  <a:lnTo>
                    <a:pt x="72" y="270"/>
                  </a:lnTo>
                  <a:lnTo>
                    <a:pt x="66" y="270"/>
                  </a:lnTo>
                  <a:lnTo>
                    <a:pt x="60" y="264"/>
                  </a:lnTo>
                  <a:lnTo>
                    <a:pt x="54" y="270"/>
                  </a:lnTo>
                  <a:lnTo>
                    <a:pt x="54" y="276"/>
                  </a:lnTo>
                  <a:lnTo>
                    <a:pt x="48" y="282"/>
                  </a:lnTo>
                  <a:lnTo>
                    <a:pt x="48" y="288"/>
                  </a:lnTo>
                  <a:lnTo>
                    <a:pt x="42" y="288"/>
                  </a:lnTo>
                  <a:lnTo>
                    <a:pt x="6" y="294"/>
                  </a:lnTo>
                  <a:lnTo>
                    <a:pt x="6" y="288"/>
                  </a:lnTo>
                  <a:lnTo>
                    <a:pt x="6" y="282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0" y="270"/>
                  </a:lnTo>
                  <a:lnTo>
                    <a:pt x="30" y="264"/>
                  </a:lnTo>
                  <a:lnTo>
                    <a:pt x="60" y="258"/>
                  </a:lnTo>
                  <a:lnTo>
                    <a:pt x="90" y="246"/>
                  </a:lnTo>
                  <a:lnTo>
                    <a:pt x="114" y="234"/>
                  </a:lnTo>
                  <a:lnTo>
                    <a:pt x="144" y="234"/>
                  </a:lnTo>
                  <a:lnTo>
                    <a:pt x="180" y="234"/>
                  </a:lnTo>
                  <a:lnTo>
                    <a:pt x="204" y="234"/>
                  </a:lnTo>
                  <a:lnTo>
                    <a:pt x="234" y="252"/>
                  </a:lnTo>
                  <a:lnTo>
                    <a:pt x="270" y="270"/>
                  </a:lnTo>
                  <a:lnTo>
                    <a:pt x="294" y="282"/>
                  </a:lnTo>
                  <a:lnTo>
                    <a:pt x="312" y="270"/>
                  </a:lnTo>
                  <a:lnTo>
                    <a:pt x="324" y="228"/>
                  </a:lnTo>
                  <a:lnTo>
                    <a:pt x="312" y="216"/>
                  </a:lnTo>
                  <a:lnTo>
                    <a:pt x="312" y="204"/>
                  </a:lnTo>
                  <a:lnTo>
                    <a:pt x="306" y="198"/>
                  </a:lnTo>
                  <a:lnTo>
                    <a:pt x="300" y="186"/>
                  </a:lnTo>
                  <a:lnTo>
                    <a:pt x="300" y="174"/>
                  </a:lnTo>
                  <a:lnTo>
                    <a:pt x="300" y="162"/>
                  </a:lnTo>
                  <a:lnTo>
                    <a:pt x="306" y="144"/>
                  </a:lnTo>
                  <a:lnTo>
                    <a:pt x="318" y="126"/>
                  </a:lnTo>
                  <a:lnTo>
                    <a:pt x="330" y="108"/>
                  </a:lnTo>
                  <a:lnTo>
                    <a:pt x="342" y="90"/>
                  </a:lnTo>
                  <a:lnTo>
                    <a:pt x="342" y="72"/>
                  </a:lnTo>
                  <a:lnTo>
                    <a:pt x="330" y="48"/>
                  </a:lnTo>
                  <a:lnTo>
                    <a:pt x="324" y="54"/>
                  </a:lnTo>
                  <a:lnTo>
                    <a:pt x="318" y="54"/>
                  </a:lnTo>
                  <a:lnTo>
                    <a:pt x="312" y="54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54"/>
                  </a:lnTo>
                  <a:lnTo>
                    <a:pt x="288" y="48"/>
                  </a:lnTo>
                  <a:lnTo>
                    <a:pt x="312" y="36"/>
                  </a:lnTo>
                  <a:lnTo>
                    <a:pt x="336" y="24"/>
                  </a:lnTo>
                  <a:lnTo>
                    <a:pt x="354" y="12"/>
                  </a:lnTo>
                  <a:lnTo>
                    <a:pt x="378" y="6"/>
                  </a:lnTo>
                  <a:lnTo>
                    <a:pt x="408" y="0"/>
                  </a:lnTo>
                  <a:lnTo>
                    <a:pt x="438" y="0"/>
                  </a:lnTo>
                  <a:lnTo>
                    <a:pt x="480" y="0"/>
                  </a:lnTo>
                  <a:lnTo>
                    <a:pt x="516" y="12"/>
                  </a:lnTo>
                  <a:lnTo>
                    <a:pt x="552" y="36"/>
                  </a:lnTo>
                  <a:lnTo>
                    <a:pt x="588" y="60"/>
                  </a:lnTo>
                  <a:lnTo>
                    <a:pt x="630" y="72"/>
                  </a:lnTo>
                  <a:lnTo>
                    <a:pt x="672" y="66"/>
                  </a:lnTo>
                  <a:lnTo>
                    <a:pt x="654" y="90"/>
                  </a:lnTo>
                  <a:lnTo>
                    <a:pt x="630" y="114"/>
                  </a:lnTo>
                  <a:lnTo>
                    <a:pt x="618" y="138"/>
                  </a:lnTo>
                  <a:lnTo>
                    <a:pt x="606" y="168"/>
                  </a:lnTo>
                  <a:lnTo>
                    <a:pt x="594" y="198"/>
                  </a:lnTo>
                  <a:lnTo>
                    <a:pt x="594" y="2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0" name=""/>
            <p:cNvSpPr/>
            <p:nvPr/>
          </p:nvSpPr>
          <p:spPr>
            <a:xfrm>
              <a:off x="2641680" y="903600"/>
              <a:ext cx="23760" cy="79200"/>
            </a:xfrm>
            <a:custGeom>
              <a:avLst/>
              <a:gdLst/>
              <a:ahLst/>
              <a:rect l="l" t="t" r="r" b="b"/>
              <a:pathLst>
                <a:path w="72" h="216">
                  <a:moveTo>
                    <a:pt x="66" y="186"/>
                  </a:moveTo>
                  <a:lnTo>
                    <a:pt x="60" y="210"/>
                  </a:lnTo>
                  <a:lnTo>
                    <a:pt x="54" y="210"/>
                  </a:lnTo>
                  <a:lnTo>
                    <a:pt x="48" y="216"/>
                  </a:lnTo>
                  <a:lnTo>
                    <a:pt x="42" y="210"/>
                  </a:lnTo>
                  <a:lnTo>
                    <a:pt x="36" y="204"/>
                  </a:lnTo>
                  <a:lnTo>
                    <a:pt x="42" y="198"/>
                  </a:lnTo>
                  <a:lnTo>
                    <a:pt x="42" y="192"/>
                  </a:lnTo>
                  <a:lnTo>
                    <a:pt x="48" y="186"/>
                  </a:lnTo>
                  <a:lnTo>
                    <a:pt x="54" y="180"/>
                  </a:lnTo>
                  <a:lnTo>
                    <a:pt x="54" y="150"/>
                  </a:lnTo>
                  <a:lnTo>
                    <a:pt x="48" y="120"/>
                  </a:lnTo>
                  <a:lnTo>
                    <a:pt x="42" y="84"/>
                  </a:lnTo>
                  <a:lnTo>
                    <a:pt x="30" y="54"/>
                  </a:lnTo>
                  <a:lnTo>
                    <a:pt x="18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36" y="30"/>
                  </a:lnTo>
                  <a:lnTo>
                    <a:pt x="48" y="60"/>
                  </a:lnTo>
                  <a:lnTo>
                    <a:pt x="60" y="84"/>
                  </a:lnTo>
                  <a:lnTo>
                    <a:pt x="66" y="120"/>
                  </a:lnTo>
                  <a:lnTo>
                    <a:pt x="66" y="150"/>
                  </a:lnTo>
                  <a:lnTo>
                    <a:pt x="72" y="186"/>
                  </a:lnTo>
                  <a:lnTo>
                    <a:pt x="66" y="18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1" name=""/>
            <p:cNvSpPr/>
            <p:nvPr/>
          </p:nvSpPr>
          <p:spPr>
            <a:xfrm>
              <a:off x="2651040" y="868680"/>
              <a:ext cx="5040" cy="14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lnTo>
                    <a:pt x="0" y="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d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2" name=""/>
            <p:cNvSpPr/>
            <p:nvPr/>
          </p:nvSpPr>
          <p:spPr>
            <a:xfrm>
              <a:off x="2598840" y="910080"/>
              <a:ext cx="25200" cy="23760"/>
            </a:xfrm>
            <a:custGeom>
              <a:avLst/>
              <a:gdLst/>
              <a:ahLst/>
              <a:rect l="l" t="t" r="r" b="b"/>
              <a:pathLst>
                <a:path w="78" h="66">
                  <a:moveTo>
                    <a:pt x="36" y="42"/>
                  </a:moveTo>
                  <a:lnTo>
                    <a:pt x="36" y="36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54" y="12"/>
                  </a:lnTo>
                  <a:lnTo>
                    <a:pt x="60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78" y="12"/>
                  </a:lnTo>
                  <a:lnTo>
                    <a:pt x="72" y="18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3" name=""/>
            <p:cNvSpPr/>
            <p:nvPr/>
          </p:nvSpPr>
          <p:spPr>
            <a:xfrm>
              <a:off x="2455920" y="878040"/>
              <a:ext cx="112680" cy="201600"/>
            </a:xfrm>
            <a:custGeom>
              <a:avLst/>
              <a:gdLst/>
              <a:ahLst/>
              <a:rect l="l" t="t" r="r" b="b"/>
              <a:pathLst>
                <a:path w="360" h="552">
                  <a:moveTo>
                    <a:pt x="354" y="546"/>
                  </a:moveTo>
                  <a:lnTo>
                    <a:pt x="336" y="552"/>
                  </a:lnTo>
                  <a:lnTo>
                    <a:pt x="324" y="552"/>
                  </a:lnTo>
                  <a:lnTo>
                    <a:pt x="312" y="540"/>
                  </a:lnTo>
                  <a:lnTo>
                    <a:pt x="300" y="528"/>
                  </a:lnTo>
                  <a:lnTo>
                    <a:pt x="288" y="510"/>
                  </a:lnTo>
                  <a:lnTo>
                    <a:pt x="276" y="498"/>
                  </a:lnTo>
                  <a:lnTo>
                    <a:pt x="270" y="456"/>
                  </a:lnTo>
                  <a:lnTo>
                    <a:pt x="264" y="414"/>
                  </a:lnTo>
                  <a:lnTo>
                    <a:pt x="258" y="372"/>
                  </a:lnTo>
                  <a:lnTo>
                    <a:pt x="246" y="330"/>
                  </a:lnTo>
                  <a:lnTo>
                    <a:pt x="234" y="288"/>
                  </a:lnTo>
                  <a:lnTo>
                    <a:pt x="228" y="246"/>
                  </a:lnTo>
                  <a:lnTo>
                    <a:pt x="210" y="228"/>
                  </a:lnTo>
                  <a:lnTo>
                    <a:pt x="216" y="228"/>
                  </a:lnTo>
                  <a:lnTo>
                    <a:pt x="222" y="222"/>
                  </a:lnTo>
                  <a:lnTo>
                    <a:pt x="216" y="216"/>
                  </a:lnTo>
                  <a:lnTo>
                    <a:pt x="216" y="210"/>
                  </a:lnTo>
                  <a:lnTo>
                    <a:pt x="216" y="204"/>
                  </a:lnTo>
                  <a:lnTo>
                    <a:pt x="192" y="192"/>
                  </a:lnTo>
                  <a:lnTo>
                    <a:pt x="180" y="174"/>
                  </a:lnTo>
                  <a:lnTo>
                    <a:pt x="162" y="156"/>
                  </a:lnTo>
                  <a:lnTo>
                    <a:pt x="144" y="138"/>
                  </a:lnTo>
                  <a:lnTo>
                    <a:pt x="126" y="126"/>
                  </a:lnTo>
                  <a:lnTo>
                    <a:pt x="102" y="126"/>
                  </a:lnTo>
                  <a:lnTo>
                    <a:pt x="96" y="120"/>
                  </a:lnTo>
                  <a:lnTo>
                    <a:pt x="96" y="108"/>
                  </a:lnTo>
                  <a:lnTo>
                    <a:pt x="90" y="102"/>
                  </a:lnTo>
                  <a:lnTo>
                    <a:pt x="84" y="9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0" y="108"/>
                  </a:lnTo>
                  <a:lnTo>
                    <a:pt x="72" y="114"/>
                  </a:lnTo>
                  <a:lnTo>
                    <a:pt x="60" y="120"/>
                  </a:lnTo>
                  <a:lnTo>
                    <a:pt x="48" y="120"/>
                  </a:lnTo>
                  <a:lnTo>
                    <a:pt x="36" y="114"/>
                  </a:lnTo>
                  <a:lnTo>
                    <a:pt x="24" y="114"/>
                  </a:lnTo>
                  <a:lnTo>
                    <a:pt x="12" y="108"/>
                  </a:lnTo>
                  <a:lnTo>
                    <a:pt x="0" y="102"/>
                  </a:lnTo>
                  <a:lnTo>
                    <a:pt x="24" y="60"/>
                  </a:lnTo>
                  <a:lnTo>
                    <a:pt x="18" y="54"/>
                  </a:lnTo>
                  <a:lnTo>
                    <a:pt x="12" y="42"/>
                  </a:lnTo>
                  <a:lnTo>
                    <a:pt x="6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72" y="60"/>
                  </a:lnTo>
                  <a:lnTo>
                    <a:pt x="84" y="66"/>
                  </a:lnTo>
                  <a:lnTo>
                    <a:pt x="96" y="78"/>
                  </a:lnTo>
                  <a:lnTo>
                    <a:pt x="108" y="90"/>
                  </a:lnTo>
                  <a:lnTo>
                    <a:pt x="120" y="96"/>
                  </a:lnTo>
                  <a:lnTo>
                    <a:pt x="138" y="102"/>
                  </a:lnTo>
                  <a:lnTo>
                    <a:pt x="156" y="114"/>
                  </a:lnTo>
                  <a:lnTo>
                    <a:pt x="174" y="126"/>
                  </a:lnTo>
                  <a:lnTo>
                    <a:pt x="186" y="144"/>
                  </a:lnTo>
                  <a:lnTo>
                    <a:pt x="198" y="156"/>
                  </a:lnTo>
                  <a:lnTo>
                    <a:pt x="210" y="168"/>
                  </a:lnTo>
                  <a:lnTo>
                    <a:pt x="252" y="210"/>
                  </a:lnTo>
                  <a:lnTo>
                    <a:pt x="276" y="258"/>
                  </a:lnTo>
                  <a:lnTo>
                    <a:pt x="294" y="306"/>
                  </a:lnTo>
                  <a:lnTo>
                    <a:pt x="306" y="354"/>
                  </a:lnTo>
                  <a:lnTo>
                    <a:pt x="324" y="402"/>
                  </a:lnTo>
                  <a:lnTo>
                    <a:pt x="348" y="444"/>
                  </a:lnTo>
                  <a:lnTo>
                    <a:pt x="354" y="456"/>
                  </a:lnTo>
                  <a:lnTo>
                    <a:pt x="354" y="468"/>
                  </a:lnTo>
                  <a:lnTo>
                    <a:pt x="354" y="480"/>
                  </a:lnTo>
                  <a:lnTo>
                    <a:pt x="354" y="492"/>
                  </a:lnTo>
                  <a:lnTo>
                    <a:pt x="360" y="498"/>
                  </a:lnTo>
                  <a:lnTo>
                    <a:pt x="360" y="510"/>
                  </a:lnTo>
                  <a:lnTo>
                    <a:pt x="360" y="516"/>
                  </a:lnTo>
                  <a:lnTo>
                    <a:pt x="354" y="522"/>
                  </a:lnTo>
                  <a:lnTo>
                    <a:pt x="354" y="528"/>
                  </a:lnTo>
                  <a:lnTo>
                    <a:pt x="354" y="534"/>
                  </a:lnTo>
                  <a:lnTo>
                    <a:pt x="354" y="540"/>
                  </a:lnTo>
                  <a:lnTo>
                    <a:pt x="354" y="54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4" name=""/>
          <p:cNvSpPr/>
          <p:nvPr/>
        </p:nvSpPr>
        <p:spPr>
          <a:xfrm>
            <a:off x="6858000" y="1057320"/>
            <a:ext cx="14436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5" name=""/>
          <p:cNvSpPr/>
          <p:nvPr/>
        </p:nvSpPr>
        <p:spPr>
          <a:xfrm>
            <a:off x="6918480" y="1465200"/>
            <a:ext cx="14436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6" name=""/>
          <p:cNvSpPr/>
          <p:nvPr/>
        </p:nvSpPr>
        <p:spPr>
          <a:xfrm>
            <a:off x="7226280" y="1728720"/>
            <a:ext cx="14436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7" name=""/>
          <p:cNvSpPr/>
          <p:nvPr/>
        </p:nvSpPr>
        <p:spPr>
          <a:xfrm>
            <a:off x="7532640" y="1463760"/>
            <a:ext cx="14436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8" name=""/>
          <p:cNvSpPr/>
          <p:nvPr/>
        </p:nvSpPr>
        <p:spPr>
          <a:xfrm>
            <a:off x="7594560" y="1058760"/>
            <a:ext cx="144360" cy="14472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9" name=""/>
          <p:cNvSpPr/>
          <p:nvPr/>
        </p:nvSpPr>
        <p:spPr>
          <a:xfrm>
            <a:off x="7593120" y="684360"/>
            <a:ext cx="14436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0" name=""/>
          <p:cNvSpPr/>
          <p:nvPr/>
        </p:nvSpPr>
        <p:spPr>
          <a:xfrm>
            <a:off x="7226280" y="490680"/>
            <a:ext cx="144360" cy="144360"/>
          </a:xfrm>
          <a:prstGeom prst="octagon">
            <a:avLst>
              <a:gd name="adj" fmla="val 37361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1" name=""/>
          <p:cNvSpPr/>
          <p:nvPr/>
        </p:nvSpPr>
        <p:spPr>
          <a:xfrm>
            <a:off x="1732320" y="4278240"/>
            <a:ext cx="13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oce di Fer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2" name=""/>
          <p:cNvGrpSpPr/>
          <p:nvPr/>
        </p:nvGrpSpPr>
        <p:grpSpPr>
          <a:xfrm>
            <a:off x="488880" y="466560"/>
            <a:ext cx="954000" cy="1459080"/>
            <a:chOff x="488880" y="466560"/>
            <a:chExt cx="954000" cy="1459080"/>
          </a:xfrm>
        </p:grpSpPr>
        <p:sp>
          <p:nvSpPr>
            <p:cNvPr id="10163" name=""/>
            <p:cNvSpPr/>
            <p:nvPr/>
          </p:nvSpPr>
          <p:spPr>
            <a:xfrm rot="5400000">
              <a:off x="236160" y="718920"/>
              <a:ext cx="1459080" cy="954000"/>
            </a:xfrm>
            <a:prstGeom prst="flowChartDelay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64" name=""/>
            <p:cNvGrpSpPr/>
            <p:nvPr/>
          </p:nvGrpSpPr>
          <p:grpSpPr>
            <a:xfrm>
              <a:off x="601560" y="746280"/>
              <a:ext cx="727200" cy="900000"/>
              <a:chOff x="601560" y="746280"/>
              <a:chExt cx="727200" cy="900000"/>
            </a:xfrm>
          </p:grpSpPr>
          <p:sp>
            <p:nvSpPr>
              <p:cNvPr id="10165" name=""/>
              <p:cNvSpPr/>
              <p:nvPr/>
            </p:nvSpPr>
            <p:spPr>
              <a:xfrm>
                <a:off x="601560" y="746280"/>
                <a:ext cx="727200" cy="900000"/>
              </a:xfrm>
              <a:custGeom>
                <a:avLst/>
                <a:gdLst/>
                <a:ahLst/>
                <a:rect l="l" t="t" r="r" b="b"/>
                <a:pathLst>
                  <a:path w="1746" h="2160">
                    <a:moveTo>
                      <a:pt x="474" y="186"/>
                    </a:moveTo>
                    <a:lnTo>
                      <a:pt x="480" y="174"/>
                    </a:lnTo>
                    <a:lnTo>
                      <a:pt x="492" y="162"/>
                    </a:lnTo>
                    <a:lnTo>
                      <a:pt x="504" y="150"/>
                    </a:lnTo>
                    <a:lnTo>
                      <a:pt x="510" y="138"/>
                    </a:lnTo>
                    <a:lnTo>
                      <a:pt x="516" y="126"/>
                    </a:lnTo>
                    <a:lnTo>
                      <a:pt x="522" y="114"/>
                    </a:lnTo>
                    <a:lnTo>
                      <a:pt x="510" y="96"/>
                    </a:lnTo>
                    <a:lnTo>
                      <a:pt x="504" y="78"/>
                    </a:lnTo>
                    <a:lnTo>
                      <a:pt x="498" y="54"/>
                    </a:lnTo>
                    <a:lnTo>
                      <a:pt x="492" y="36"/>
                    </a:lnTo>
                    <a:lnTo>
                      <a:pt x="480" y="18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6" y="0"/>
                    </a:lnTo>
                    <a:lnTo>
                      <a:pt x="450" y="0"/>
                    </a:lnTo>
                    <a:lnTo>
                      <a:pt x="444" y="0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426" y="0"/>
                    </a:lnTo>
                    <a:lnTo>
                      <a:pt x="432" y="18"/>
                    </a:lnTo>
                    <a:lnTo>
                      <a:pt x="438" y="36"/>
                    </a:lnTo>
                    <a:lnTo>
                      <a:pt x="450" y="48"/>
                    </a:lnTo>
                    <a:lnTo>
                      <a:pt x="456" y="66"/>
                    </a:lnTo>
                    <a:lnTo>
                      <a:pt x="456" y="84"/>
                    </a:lnTo>
                    <a:lnTo>
                      <a:pt x="456" y="96"/>
                    </a:lnTo>
                    <a:lnTo>
                      <a:pt x="456" y="102"/>
                    </a:lnTo>
                    <a:lnTo>
                      <a:pt x="450" y="102"/>
                    </a:lnTo>
                    <a:lnTo>
                      <a:pt x="444" y="102"/>
                    </a:lnTo>
                    <a:lnTo>
                      <a:pt x="444" y="108"/>
                    </a:lnTo>
                    <a:lnTo>
                      <a:pt x="438" y="108"/>
                    </a:lnTo>
                    <a:lnTo>
                      <a:pt x="438" y="114"/>
                    </a:lnTo>
                    <a:lnTo>
                      <a:pt x="432" y="120"/>
                    </a:lnTo>
                    <a:lnTo>
                      <a:pt x="426" y="126"/>
                    </a:lnTo>
                    <a:lnTo>
                      <a:pt x="420" y="108"/>
                    </a:lnTo>
                    <a:lnTo>
                      <a:pt x="414" y="90"/>
                    </a:lnTo>
                    <a:lnTo>
                      <a:pt x="414" y="72"/>
                    </a:lnTo>
                    <a:lnTo>
                      <a:pt x="408" y="48"/>
                    </a:lnTo>
                    <a:lnTo>
                      <a:pt x="396" y="30"/>
                    </a:lnTo>
                    <a:lnTo>
                      <a:pt x="384" y="18"/>
                    </a:lnTo>
                    <a:lnTo>
                      <a:pt x="378" y="12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2" y="12"/>
                    </a:lnTo>
                    <a:lnTo>
                      <a:pt x="330" y="12"/>
                    </a:lnTo>
                    <a:lnTo>
                      <a:pt x="324" y="18"/>
                    </a:lnTo>
                    <a:lnTo>
                      <a:pt x="312" y="24"/>
                    </a:lnTo>
                    <a:lnTo>
                      <a:pt x="300" y="30"/>
                    </a:lnTo>
                    <a:lnTo>
                      <a:pt x="288" y="36"/>
                    </a:lnTo>
                    <a:lnTo>
                      <a:pt x="282" y="48"/>
                    </a:lnTo>
                    <a:lnTo>
                      <a:pt x="276" y="60"/>
                    </a:lnTo>
                    <a:lnTo>
                      <a:pt x="288" y="60"/>
                    </a:lnTo>
                    <a:lnTo>
                      <a:pt x="294" y="66"/>
                    </a:lnTo>
                    <a:lnTo>
                      <a:pt x="306" y="66"/>
                    </a:lnTo>
                    <a:lnTo>
                      <a:pt x="312" y="66"/>
                    </a:lnTo>
                    <a:lnTo>
                      <a:pt x="318" y="60"/>
                    </a:lnTo>
                    <a:lnTo>
                      <a:pt x="330" y="60"/>
                    </a:lnTo>
                    <a:lnTo>
                      <a:pt x="336" y="66"/>
                    </a:lnTo>
                    <a:lnTo>
                      <a:pt x="342" y="66"/>
                    </a:lnTo>
                    <a:lnTo>
                      <a:pt x="342" y="72"/>
                    </a:lnTo>
                    <a:lnTo>
                      <a:pt x="348" y="72"/>
                    </a:lnTo>
                    <a:lnTo>
                      <a:pt x="354" y="78"/>
                    </a:lnTo>
                    <a:lnTo>
                      <a:pt x="348" y="84"/>
                    </a:lnTo>
                    <a:lnTo>
                      <a:pt x="348" y="78"/>
                    </a:lnTo>
                    <a:lnTo>
                      <a:pt x="342" y="78"/>
                    </a:lnTo>
                    <a:lnTo>
                      <a:pt x="336" y="78"/>
                    </a:lnTo>
                    <a:lnTo>
                      <a:pt x="330" y="84"/>
                    </a:lnTo>
                    <a:lnTo>
                      <a:pt x="318" y="90"/>
                    </a:lnTo>
                    <a:lnTo>
                      <a:pt x="318" y="96"/>
                    </a:lnTo>
                    <a:lnTo>
                      <a:pt x="312" y="108"/>
                    </a:lnTo>
                    <a:lnTo>
                      <a:pt x="312" y="120"/>
                    </a:lnTo>
                    <a:lnTo>
                      <a:pt x="312" y="126"/>
                    </a:lnTo>
                    <a:lnTo>
                      <a:pt x="318" y="138"/>
                    </a:lnTo>
                    <a:lnTo>
                      <a:pt x="324" y="144"/>
                    </a:lnTo>
                    <a:lnTo>
                      <a:pt x="330" y="150"/>
                    </a:lnTo>
                    <a:lnTo>
                      <a:pt x="336" y="156"/>
                    </a:lnTo>
                    <a:lnTo>
                      <a:pt x="348" y="162"/>
                    </a:lnTo>
                    <a:lnTo>
                      <a:pt x="354" y="168"/>
                    </a:lnTo>
                    <a:lnTo>
                      <a:pt x="336" y="180"/>
                    </a:lnTo>
                    <a:lnTo>
                      <a:pt x="330" y="174"/>
                    </a:lnTo>
                    <a:lnTo>
                      <a:pt x="324" y="162"/>
                    </a:lnTo>
                    <a:lnTo>
                      <a:pt x="318" y="156"/>
                    </a:lnTo>
                    <a:lnTo>
                      <a:pt x="312" y="150"/>
                    </a:lnTo>
                    <a:lnTo>
                      <a:pt x="300" y="144"/>
                    </a:lnTo>
                    <a:lnTo>
                      <a:pt x="288" y="144"/>
                    </a:lnTo>
                    <a:lnTo>
                      <a:pt x="282" y="150"/>
                    </a:lnTo>
                    <a:lnTo>
                      <a:pt x="276" y="150"/>
                    </a:lnTo>
                    <a:lnTo>
                      <a:pt x="270" y="150"/>
                    </a:lnTo>
                    <a:lnTo>
                      <a:pt x="264" y="156"/>
                    </a:lnTo>
                    <a:lnTo>
                      <a:pt x="264" y="162"/>
                    </a:lnTo>
                    <a:lnTo>
                      <a:pt x="264" y="168"/>
                    </a:lnTo>
                    <a:lnTo>
                      <a:pt x="270" y="168"/>
                    </a:lnTo>
                    <a:lnTo>
                      <a:pt x="276" y="174"/>
                    </a:lnTo>
                    <a:lnTo>
                      <a:pt x="282" y="174"/>
                    </a:lnTo>
                    <a:lnTo>
                      <a:pt x="288" y="174"/>
                    </a:lnTo>
                    <a:lnTo>
                      <a:pt x="288" y="180"/>
                    </a:lnTo>
                    <a:lnTo>
                      <a:pt x="294" y="186"/>
                    </a:lnTo>
                    <a:lnTo>
                      <a:pt x="300" y="192"/>
                    </a:lnTo>
                    <a:lnTo>
                      <a:pt x="300" y="198"/>
                    </a:lnTo>
                    <a:lnTo>
                      <a:pt x="306" y="210"/>
                    </a:lnTo>
                    <a:lnTo>
                      <a:pt x="312" y="222"/>
                    </a:lnTo>
                    <a:lnTo>
                      <a:pt x="324" y="228"/>
                    </a:lnTo>
                    <a:lnTo>
                      <a:pt x="330" y="234"/>
                    </a:lnTo>
                    <a:lnTo>
                      <a:pt x="342" y="234"/>
                    </a:lnTo>
                    <a:lnTo>
                      <a:pt x="354" y="240"/>
                    </a:lnTo>
                    <a:lnTo>
                      <a:pt x="342" y="246"/>
                    </a:lnTo>
                    <a:lnTo>
                      <a:pt x="336" y="252"/>
                    </a:lnTo>
                    <a:lnTo>
                      <a:pt x="324" y="258"/>
                    </a:lnTo>
                    <a:lnTo>
                      <a:pt x="318" y="264"/>
                    </a:lnTo>
                    <a:lnTo>
                      <a:pt x="306" y="264"/>
                    </a:lnTo>
                    <a:lnTo>
                      <a:pt x="294" y="264"/>
                    </a:lnTo>
                    <a:lnTo>
                      <a:pt x="294" y="270"/>
                    </a:lnTo>
                    <a:lnTo>
                      <a:pt x="294" y="276"/>
                    </a:lnTo>
                    <a:lnTo>
                      <a:pt x="294" y="282"/>
                    </a:lnTo>
                    <a:lnTo>
                      <a:pt x="300" y="288"/>
                    </a:lnTo>
                    <a:lnTo>
                      <a:pt x="306" y="294"/>
                    </a:lnTo>
                    <a:lnTo>
                      <a:pt x="312" y="300"/>
                    </a:lnTo>
                    <a:lnTo>
                      <a:pt x="312" y="306"/>
                    </a:lnTo>
                    <a:lnTo>
                      <a:pt x="324" y="306"/>
                    </a:lnTo>
                    <a:lnTo>
                      <a:pt x="330" y="306"/>
                    </a:lnTo>
                    <a:lnTo>
                      <a:pt x="336" y="306"/>
                    </a:lnTo>
                    <a:lnTo>
                      <a:pt x="342" y="306"/>
                    </a:lnTo>
                    <a:lnTo>
                      <a:pt x="354" y="306"/>
                    </a:lnTo>
                    <a:lnTo>
                      <a:pt x="348" y="318"/>
                    </a:lnTo>
                    <a:lnTo>
                      <a:pt x="342" y="324"/>
                    </a:lnTo>
                    <a:lnTo>
                      <a:pt x="342" y="330"/>
                    </a:lnTo>
                    <a:lnTo>
                      <a:pt x="336" y="342"/>
                    </a:lnTo>
                    <a:lnTo>
                      <a:pt x="330" y="348"/>
                    </a:lnTo>
                    <a:lnTo>
                      <a:pt x="330" y="354"/>
                    </a:lnTo>
                    <a:lnTo>
                      <a:pt x="324" y="360"/>
                    </a:lnTo>
                    <a:lnTo>
                      <a:pt x="318" y="360"/>
                    </a:lnTo>
                    <a:lnTo>
                      <a:pt x="312" y="366"/>
                    </a:lnTo>
                    <a:lnTo>
                      <a:pt x="318" y="372"/>
                    </a:lnTo>
                    <a:lnTo>
                      <a:pt x="330" y="372"/>
                    </a:lnTo>
                    <a:lnTo>
                      <a:pt x="336" y="372"/>
                    </a:lnTo>
                    <a:lnTo>
                      <a:pt x="348" y="372"/>
                    </a:lnTo>
                    <a:lnTo>
                      <a:pt x="354" y="366"/>
                    </a:lnTo>
                    <a:lnTo>
                      <a:pt x="360" y="366"/>
                    </a:lnTo>
                    <a:lnTo>
                      <a:pt x="360" y="378"/>
                    </a:lnTo>
                    <a:lnTo>
                      <a:pt x="360" y="384"/>
                    </a:lnTo>
                    <a:lnTo>
                      <a:pt x="360" y="396"/>
                    </a:lnTo>
                    <a:lnTo>
                      <a:pt x="360" y="402"/>
                    </a:lnTo>
                    <a:lnTo>
                      <a:pt x="354" y="414"/>
                    </a:lnTo>
                    <a:lnTo>
                      <a:pt x="348" y="420"/>
                    </a:lnTo>
                    <a:lnTo>
                      <a:pt x="330" y="402"/>
                    </a:lnTo>
                    <a:lnTo>
                      <a:pt x="312" y="384"/>
                    </a:lnTo>
                    <a:lnTo>
                      <a:pt x="294" y="366"/>
                    </a:lnTo>
                    <a:lnTo>
                      <a:pt x="282" y="342"/>
                    </a:lnTo>
                    <a:lnTo>
                      <a:pt x="270" y="324"/>
                    </a:lnTo>
                    <a:lnTo>
                      <a:pt x="252" y="300"/>
                    </a:lnTo>
                    <a:lnTo>
                      <a:pt x="240" y="282"/>
                    </a:lnTo>
                    <a:lnTo>
                      <a:pt x="246" y="264"/>
                    </a:lnTo>
                    <a:lnTo>
                      <a:pt x="252" y="246"/>
                    </a:lnTo>
                    <a:lnTo>
                      <a:pt x="264" y="228"/>
                    </a:lnTo>
                    <a:lnTo>
                      <a:pt x="270" y="210"/>
                    </a:lnTo>
                    <a:lnTo>
                      <a:pt x="270" y="186"/>
                    </a:lnTo>
                    <a:lnTo>
                      <a:pt x="258" y="180"/>
                    </a:lnTo>
                    <a:lnTo>
                      <a:pt x="258" y="168"/>
                    </a:lnTo>
                    <a:lnTo>
                      <a:pt x="252" y="156"/>
                    </a:lnTo>
                    <a:lnTo>
                      <a:pt x="252" y="150"/>
                    </a:lnTo>
                    <a:lnTo>
                      <a:pt x="252" y="138"/>
                    </a:lnTo>
                    <a:lnTo>
                      <a:pt x="246" y="126"/>
                    </a:lnTo>
                    <a:lnTo>
                      <a:pt x="234" y="126"/>
                    </a:lnTo>
                    <a:lnTo>
                      <a:pt x="222" y="114"/>
                    </a:lnTo>
                    <a:lnTo>
                      <a:pt x="204" y="108"/>
                    </a:lnTo>
                    <a:lnTo>
                      <a:pt x="192" y="102"/>
                    </a:lnTo>
                    <a:lnTo>
                      <a:pt x="180" y="102"/>
                    </a:lnTo>
                    <a:lnTo>
                      <a:pt x="168" y="108"/>
                    </a:lnTo>
                    <a:lnTo>
                      <a:pt x="168" y="120"/>
                    </a:lnTo>
                    <a:lnTo>
                      <a:pt x="180" y="132"/>
                    </a:lnTo>
                    <a:lnTo>
                      <a:pt x="186" y="138"/>
                    </a:lnTo>
                    <a:lnTo>
                      <a:pt x="198" y="150"/>
                    </a:lnTo>
                    <a:lnTo>
                      <a:pt x="204" y="162"/>
                    </a:lnTo>
                    <a:lnTo>
                      <a:pt x="204" y="174"/>
                    </a:lnTo>
                    <a:lnTo>
                      <a:pt x="198" y="180"/>
                    </a:lnTo>
                    <a:lnTo>
                      <a:pt x="192" y="192"/>
                    </a:lnTo>
                    <a:lnTo>
                      <a:pt x="192" y="204"/>
                    </a:lnTo>
                    <a:lnTo>
                      <a:pt x="192" y="216"/>
                    </a:lnTo>
                    <a:lnTo>
                      <a:pt x="192" y="228"/>
                    </a:lnTo>
                    <a:lnTo>
                      <a:pt x="192" y="240"/>
                    </a:lnTo>
                    <a:lnTo>
                      <a:pt x="186" y="240"/>
                    </a:lnTo>
                    <a:lnTo>
                      <a:pt x="186" y="234"/>
                    </a:lnTo>
                    <a:lnTo>
                      <a:pt x="186" y="228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80" y="210"/>
                    </a:lnTo>
                    <a:lnTo>
                      <a:pt x="174" y="198"/>
                    </a:lnTo>
                    <a:lnTo>
                      <a:pt x="168" y="186"/>
                    </a:lnTo>
                    <a:lnTo>
                      <a:pt x="168" y="174"/>
                    </a:lnTo>
                    <a:lnTo>
                      <a:pt x="162" y="162"/>
                    </a:lnTo>
                    <a:lnTo>
                      <a:pt x="150" y="156"/>
                    </a:lnTo>
                    <a:lnTo>
                      <a:pt x="138" y="156"/>
                    </a:lnTo>
                    <a:lnTo>
                      <a:pt x="120" y="150"/>
                    </a:lnTo>
                    <a:lnTo>
                      <a:pt x="108" y="144"/>
                    </a:lnTo>
                    <a:lnTo>
                      <a:pt x="96" y="138"/>
                    </a:lnTo>
                    <a:lnTo>
                      <a:pt x="78" y="138"/>
                    </a:lnTo>
                    <a:lnTo>
                      <a:pt x="66" y="138"/>
                    </a:lnTo>
                    <a:lnTo>
                      <a:pt x="42" y="156"/>
                    </a:lnTo>
                    <a:lnTo>
                      <a:pt x="42" y="168"/>
                    </a:lnTo>
                    <a:lnTo>
                      <a:pt x="60" y="168"/>
                    </a:lnTo>
                    <a:lnTo>
                      <a:pt x="78" y="174"/>
                    </a:lnTo>
                    <a:lnTo>
                      <a:pt x="102" y="180"/>
                    </a:lnTo>
                    <a:lnTo>
                      <a:pt x="108" y="192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10"/>
                    </a:lnTo>
                    <a:lnTo>
                      <a:pt x="90" y="216"/>
                    </a:lnTo>
                    <a:lnTo>
                      <a:pt x="90" y="228"/>
                    </a:lnTo>
                    <a:lnTo>
                      <a:pt x="90" y="234"/>
                    </a:lnTo>
                    <a:lnTo>
                      <a:pt x="96" y="246"/>
                    </a:lnTo>
                    <a:lnTo>
                      <a:pt x="102" y="258"/>
                    </a:lnTo>
                    <a:lnTo>
                      <a:pt x="114" y="270"/>
                    </a:lnTo>
                    <a:lnTo>
                      <a:pt x="126" y="276"/>
                    </a:lnTo>
                    <a:lnTo>
                      <a:pt x="138" y="282"/>
                    </a:lnTo>
                    <a:lnTo>
                      <a:pt x="150" y="288"/>
                    </a:lnTo>
                    <a:lnTo>
                      <a:pt x="150" y="294"/>
                    </a:lnTo>
                    <a:lnTo>
                      <a:pt x="144" y="294"/>
                    </a:lnTo>
                    <a:lnTo>
                      <a:pt x="144" y="300"/>
                    </a:lnTo>
                    <a:lnTo>
                      <a:pt x="138" y="300"/>
                    </a:lnTo>
                    <a:lnTo>
                      <a:pt x="126" y="288"/>
                    </a:lnTo>
                    <a:lnTo>
                      <a:pt x="114" y="282"/>
                    </a:lnTo>
                    <a:lnTo>
                      <a:pt x="102" y="270"/>
                    </a:lnTo>
                    <a:lnTo>
                      <a:pt x="96" y="264"/>
                    </a:lnTo>
                    <a:lnTo>
                      <a:pt x="84" y="258"/>
                    </a:lnTo>
                    <a:lnTo>
                      <a:pt x="66" y="258"/>
                    </a:lnTo>
                    <a:lnTo>
                      <a:pt x="54" y="258"/>
                    </a:lnTo>
                    <a:lnTo>
                      <a:pt x="42" y="264"/>
                    </a:lnTo>
                    <a:lnTo>
                      <a:pt x="30" y="270"/>
                    </a:lnTo>
                    <a:lnTo>
                      <a:pt x="18" y="276"/>
                    </a:lnTo>
                    <a:lnTo>
                      <a:pt x="12" y="288"/>
                    </a:lnTo>
                    <a:lnTo>
                      <a:pt x="0" y="300"/>
                    </a:lnTo>
                    <a:lnTo>
                      <a:pt x="0" y="306"/>
                    </a:lnTo>
                    <a:lnTo>
                      <a:pt x="0" y="312"/>
                    </a:lnTo>
                    <a:lnTo>
                      <a:pt x="0" y="324"/>
                    </a:lnTo>
                    <a:lnTo>
                      <a:pt x="0" y="336"/>
                    </a:lnTo>
                    <a:lnTo>
                      <a:pt x="6" y="342"/>
                    </a:lnTo>
                    <a:lnTo>
                      <a:pt x="6" y="354"/>
                    </a:lnTo>
                    <a:lnTo>
                      <a:pt x="6" y="348"/>
                    </a:lnTo>
                    <a:lnTo>
                      <a:pt x="12" y="348"/>
                    </a:lnTo>
                    <a:lnTo>
                      <a:pt x="18" y="342"/>
                    </a:lnTo>
                    <a:lnTo>
                      <a:pt x="24" y="330"/>
                    </a:lnTo>
                    <a:lnTo>
                      <a:pt x="30" y="324"/>
                    </a:lnTo>
                    <a:lnTo>
                      <a:pt x="36" y="318"/>
                    </a:lnTo>
                    <a:lnTo>
                      <a:pt x="48" y="312"/>
                    </a:lnTo>
                    <a:lnTo>
                      <a:pt x="54" y="306"/>
                    </a:lnTo>
                    <a:lnTo>
                      <a:pt x="66" y="330"/>
                    </a:lnTo>
                    <a:lnTo>
                      <a:pt x="72" y="330"/>
                    </a:lnTo>
                    <a:lnTo>
                      <a:pt x="72" y="336"/>
                    </a:lnTo>
                    <a:lnTo>
                      <a:pt x="78" y="342"/>
                    </a:lnTo>
                    <a:lnTo>
                      <a:pt x="78" y="348"/>
                    </a:lnTo>
                    <a:lnTo>
                      <a:pt x="84" y="354"/>
                    </a:lnTo>
                    <a:lnTo>
                      <a:pt x="84" y="360"/>
                    </a:lnTo>
                    <a:lnTo>
                      <a:pt x="90" y="366"/>
                    </a:lnTo>
                    <a:lnTo>
                      <a:pt x="102" y="366"/>
                    </a:lnTo>
                    <a:lnTo>
                      <a:pt x="108" y="366"/>
                    </a:lnTo>
                    <a:lnTo>
                      <a:pt x="114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26" y="378"/>
                    </a:lnTo>
                    <a:lnTo>
                      <a:pt x="126" y="384"/>
                    </a:lnTo>
                    <a:lnTo>
                      <a:pt x="120" y="396"/>
                    </a:lnTo>
                    <a:lnTo>
                      <a:pt x="114" y="402"/>
                    </a:lnTo>
                    <a:lnTo>
                      <a:pt x="114" y="414"/>
                    </a:lnTo>
                    <a:lnTo>
                      <a:pt x="108" y="420"/>
                    </a:lnTo>
                    <a:lnTo>
                      <a:pt x="102" y="420"/>
                    </a:lnTo>
                    <a:lnTo>
                      <a:pt x="96" y="426"/>
                    </a:lnTo>
                    <a:lnTo>
                      <a:pt x="90" y="426"/>
                    </a:lnTo>
                    <a:lnTo>
                      <a:pt x="90" y="420"/>
                    </a:lnTo>
                    <a:lnTo>
                      <a:pt x="84" y="420"/>
                    </a:lnTo>
                    <a:lnTo>
                      <a:pt x="78" y="420"/>
                    </a:lnTo>
                    <a:lnTo>
                      <a:pt x="78" y="426"/>
                    </a:lnTo>
                    <a:lnTo>
                      <a:pt x="84" y="438"/>
                    </a:lnTo>
                    <a:lnTo>
                      <a:pt x="96" y="444"/>
                    </a:lnTo>
                    <a:lnTo>
                      <a:pt x="108" y="456"/>
                    </a:lnTo>
                    <a:lnTo>
                      <a:pt x="120" y="462"/>
                    </a:lnTo>
                    <a:lnTo>
                      <a:pt x="132" y="468"/>
                    </a:lnTo>
                    <a:lnTo>
                      <a:pt x="150" y="468"/>
                    </a:lnTo>
                    <a:lnTo>
                      <a:pt x="150" y="474"/>
                    </a:lnTo>
                    <a:lnTo>
                      <a:pt x="144" y="486"/>
                    </a:lnTo>
                    <a:lnTo>
                      <a:pt x="138" y="486"/>
                    </a:lnTo>
                    <a:lnTo>
                      <a:pt x="132" y="492"/>
                    </a:lnTo>
                    <a:lnTo>
                      <a:pt x="126" y="498"/>
                    </a:lnTo>
                    <a:lnTo>
                      <a:pt x="120" y="504"/>
                    </a:lnTo>
                    <a:lnTo>
                      <a:pt x="120" y="510"/>
                    </a:lnTo>
                    <a:lnTo>
                      <a:pt x="126" y="516"/>
                    </a:lnTo>
                    <a:lnTo>
                      <a:pt x="138" y="522"/>
                    </a:lnTo>
                    <a:lnTo>
                      <a:pt x="150" y="528"/>
                    </a:lnTo>
                    <a:lnTo>
                      <a:pt x="162" y="534"/>
                    </a:lnTo>
                    <a:lnTo>
                      <a:pt x="174" y="534"/>
                    </a:lnTo>
                    <a:lnTo>
                      <a:pt x="186" y="534"/>
                    </a:lnTo>
                    <a:lnTo>
                      <a:pt x="186" y="546"/>
                    </a:lnTo>
                    <a:lnTo>
                      <a:pt x="180" y="552"/>
                    </a:lnTo>
                    <a:lnTo>
                      <a:pt x="174" y="564"/>
                    </a:lnTo>
                    <a:lnTo>
                      <a:pt x="168" y="576"/>
                    </a:lnTo>
                    <a:lnTo>
                      <a:pt x="162" y="582"/>
                    </a:lnTo>
                    <a:lnTo>
                      <a:pt x="150" y="588"/>
                    </a:lnTo>
                    <a:lnTo>
                      <a:pt x="156" y="594"/>
                    </a:lnTo>
                    <a:lnTo>
                      <a:pt x="162" y="600"/>
                    </a:lnTo>
                    <a:lnTo>
                      <a:pt x="174" y="600"/>
                    </a:lnTo>
                    <a:lnTo>
                      <a:pt x="186" y="600"/>
                    </a:lnTo>
                    <a:lnTo>
                      <a:pt x="198" y="600"/>
                    </a:lnTo>
                    <a:lnTo>
                      <a:pt x="204" y="600"/>
                    </a:lnTo>
                    <a:lnTo>
                      <a:pt x="198" y="612"/>
                    </a:lnTo>
                    <a:lnTo>
                      <a:pt x="192" y="618"/>
                    </a:lnTo>
                    <a:lnTo>
                      <a:pt x="186" y="624"/>
                    </a:lnTo>
                    <a:lnTo>
                      <a:pt x="180" y="630"/>
                    </a:lnTo>
                    <a:lnTo>
                      <a:pt x="180" y="642"/>
                    </a:lnTo>
                    <a:lnTo>
                      <a:pt x="180" y="648"/>
                    </a:lnTo>
                    <a:lnTo>
                      <a:pt x="168" y="660"/>
                    </a:lnTo>
                    <a:lnTo>
                      <a:pt x="168" y="672"/>
                    </a:lnTo>
                    <a:lnTo>
                      <a:pt x="168" y="678"/>
                    </a:lnTo>
                    <a:lnTo>
                      <a:pt x="174" y="690"/>
                    </a:lnTo>
                    <a:lnTo>
                      <a:pt x="180" y="702"/>
                    </a:lnTo>
                    <a:lnTo>
                      <a:pt x="186" y="714"/>
                    </a:lnTo>
                    <a:lnTo>
                      <a:pt x="192" y="714"/>
                    </a:lnTo>
                    <a:lnTo>
                      <a:pt x="192" y="708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92" y="690"/>
                    </a:lnTo>
                    <a:lnTo>
                      <a:pt x="198" y="684"/>
                    </a:lnTo>
                    <a:lnTo>
                      <a:pt x="204" y="678"/>
                    </a:lnTo>
                    <a:lnTo>
                      <a:pt x="210" y="672"/>
                    </a:lnTo>
                    <a:lnTo>
                      <a:pt x="216" y="666"/>
                    </a:lnTo>
                    <a:lnTo>
                      <a:pt x="222" y="666"/>
                    </a:lnTo>
                    <a:lnTo>
                      <a:pt x="234" y="666"/>
                    </a:lnTo>
                    <a:lnTo>
                      <a:pt x="222" y="678"/>
                    </a:lnTo>
                    <a:lnTo>
                      <a:pt x="216" y="690"/>
                    </a:lnTo>
                    <a:lnTo>
                      <a:pt x="210" y="702"/>
                    </a:lnTo>
                    <a:lnTo>
                      <a:pt x="210" y="714"/>
                    </a:lnTo>
                    <a:lnTo>
                      <a:pt x="210" y="726"/>
                    </a:lnTo>
                    <a:lnTo>
                      <a:pt x="204" y="738"/>
                    </a:lnTo>
                    <a:lnTo>
                      <a:pt x="216" y="750"/>
                    </a:lnTo>
                    <a:lnTo>
                      <a:pt x="222" y="750"/>
                    </a:lnTo>
                    <a:lnTo>
                      <a:pt x="234" y="744"/>
                    </a:lnTo>
                    <a:lnTo>
                      <a:pt x="246" y="732"/>
                    </a:lnTo>
                    <a:lnTo>
                      <a:pt x="258" y="732"/>
                    </a:lnTo>
                    <a:lnTo>
                      <a:pt x="270" y="738"/>
                    </a:lnTo>
                    <a:lnTo>
                      <a:pt x="264" y="738"/>
                    </a:lnTo>
                    <a:lnTo>
                      <a:pt x="258" y="744"/>
                    </a:lnTo>
                    <a:lnTo>
                      <a:pt x="252" y="744"/>
                    </a:lnTo>
                    <a:lnTo>
                      <a:pt x="246" y="762"/>
                    </a:lnTo>
                    <a:lnTo>
                      <a:pt x="240" y="774"/>
                    </a:lnTo>
                    <a:lnTo>
                      <a:pt x="240" y="792"/>
                    </a:lnTo>
                    <a:lnTo>
                      <a:pt x="240" y="810"/>
                    </a:lnTo>
                    <a:lnTo>
                      <a:pt x="240" y="828"/>
                    </a:lnTo>
                    <a:lnTo>
                      <a:pt x="240" y="840"/>
                    </a:lnTo>
                    <a:lnTo>
                      <a:pt x="246" y="840"/>
                    </a:lnTo>
                    <a:lnTo>
                      <a:pt x="252" y="834"/>
                    </a:lnTo>
                    <a:lnTo>
                      <a:pt x="258" y="822"/>
                    </a:lnTo>
                    <a:lnTo>
                      <a:pt x="258" y="816"/>
                    </a:lnTo>
                    <a:lnTo>
                      <a:pt x="264" y="810"/>
                    </a:lnTo>
                    <a:lnTo>
                      <a:pt x="270" y="804"/>
                    </a:lnTo>
                    <a:lnTo>
                      <a:pt x="276" y="792"/>
                    </a:lnTo>
                    <a:lnTo>
                      <a:pt x="282" y="786"/>
                    </a:lnTo>
                    <a:lnTo>
                      <a:pt x="288" y="786"/>
                    </a:lnTo>
                    <a:lnTo>
                      <a:pt x="294" y="792"/>
                    </a:lnTo>
                    <a:lnTo>
                      <a:pt x="300" y="798"/>
                    </a:lnTo>
                    <a:lnTo>
                      <a:pt x="306" y="798"/>
                    </a:lnTo>
                    <a:lnTo>
                      <a:pt x="312" y="804"/>
                    </a:lnTo>
                    <a:lnTo>
                      <a:pt x="324" y="828"/>
                    </a:lnTo>
                    <a:lnTo>
                      <a:pt x="324" y="846"/>
                    </a:lnTo>
                    <a:lnTo>
                      <a:pt x="318" y="864"/>
                    </a:lnTo>
                    <a:lnTo>
                      <a:pt x="312" y="882"/>
                    </a:lnTo>
                    <a:lnTo>
                      <a:pt x="312" y="900"/>
                    </a:lnTo>
                    <a:lnTo>
                      <a:pt x="318" y="918"/>
                    </a:lnTo>
                    <a:lnTo>
                      <a:pt x="288" y="942"/>
                    </a:lnTo>
                    <a:lnTo>
                      <a:pt x="288" y="948"/>
                    </a:lnTo>
                    <a:lnTo>
                      <a:pt x="294" y="948"/>
                    </a:lnTo>
                    <a:lnTo>
                      <a:pt x="300" y="954"/>
                    </a:lnTo>
                    <a:lnTo>
                      <a:pt x="306" y="954"/>
                    </a:lnTo>
                    <a:lnTo>
                      <a:pt x="312" y="954"/>
                    </a:lnTo>
                    <a:lnTo>
                      <a:pt x="318" y="954"/>
                    </a:lnTo>
                    <a:lnTo>
                      <a:pt x="330" y="954"/>
                    </a:lnTo>
                    <a:lnTo>
                      <a:pt x="342" y="948"/>
                    </a:lnTo>
                    <a:lnTo>
                      <a:pt x="354" y="942"/>
                    </a:lnTo>
                    <a:lnTo>
                      <a:pt x="366" y="930"/>
                    </a:lnTo>
                    <a:lnTo>
                      <a:pt x="372" y="924"/>
                    </a:lnTo>
                    <a:lnTo>
                      <a:pt x="384" y="912"/>
                    </a:lnTo>
                    <a:lnTo>
                      <a:pt x="384" y="924"/>
                    </a:lnTo>
                    <a:lnTo>
                      <a:pt x="384" y="936"/>
                    </a:lnTo>
                    <a:lnTo>
                      <a:pt x="390" y="948"/>
                    </a:lnTo>
                    <a:lnTo>
                      <a:pt x="390" y="954"/>
                    </a:lnTo>
                    <a:lnTo>
                      <a:pt x="384" y="966"/>
                    </a:lnTo>
                    <a:lnTo>
                      <a:pt x="378" y="978"/>
                    </a:lnTo>
                    <a:lnTo>
                      <a:pt x="372" y="978"/>
                    </a:lnTo>
                    <a:lnTo>
                      <a:pt x="366" y="984"/>
                    </a:lnTo>
                    <a:lnTo>
                      <a:pt x="366" y="990"/>
                    </a:lnTo>
                    <a:lnTo>
                      <a:pt x="378" y="990"/>
                    </a:lnTo>
                    <a:lnTo>
                      <a:pt x="390" y="984"/>
                    </a:lnTo>
                    <a:lnTo>
                      <a:pt x="402" y="978"/>
                    </a:lnTo>
                    <a:lnTo>
                      <a:pt x="408" y="966"/>
                    </a:lnTo>
                    <a:lnTo>
                      <a:pt x="420" y="954"/>
                    </a:lnTo>
                    <a:lnTo>
                      <a:pt x="426" y="948"/>
                    </a:lnTo>
                    <a:lnTo>
                      <a:pt x="432" y="942"/>
                    </a:lnTo>
                    <a:lnTo>
                      <a:pt x="438" y="942"/>
                    </a:lnTo>
                    <a:lnTo>
                      <a:pt x="444" y="942"/>
                    </a:lnTo>
                    <a:lnTo>
                      <a:pt x="444" y="936"/>
                    </a:lnTo>
                    <a:lnTo>
                      <a:pt x="450" y="930"/>
                    </a:lnTo>
                    <a:lnTo>
                      <a:pt x="456" y="936"/>
                    </a:lnTo>
                    <a:lnTo>
                      <a:pt x="456" y="948"/>
                    </a:lnTo>
                    <a:lnTo>
                      <a:pt x="456" y="960"/>
                    </a:lnTo>
                    <a:lnTo>
                      <a:pt x="456" y="972"/>
                    </a:lnTo>
                    <a:lnTo>
                      <a:pt x="462" y="984"/>
                    </a:lnTo>
                    <a:lnTo>
                      <a:pt x="462" y="996"/>
                    </a:lnTo>
                    <a:lnTo>
                      <a:pt x="468" y="1008"/>
                    </a:lnTo>
                    <a:lnTo>
                      <a:pt x="474" y="1020"/>
                    </a:lnTo>
                    <a:lnTo>
                      <a:pt x="486" y="1032"/>
                    </a:lnTo>
                    <a:lnTo>
                      <a:pt x="498" y="1044"/>
                    </a:lnTo>
                    <a:lnTo>
                      <a:pt x="504" y="1050"/>
                    </a:lnTo>
                    <a:lnTo>
                      <a:pt x="510" y="1062"/>
                    </a:lnTo>
                    <a:lnTo>
                      <a:pt x="516" y="1062"/>
                    </a:lnTo>
                    <a:lnTo>
                      <a:pt x="522" y="1062"/>
                    </a:lnTo>
                    <a:lnTo>
                      <a:pt x="516" y="1050"/>
                    </a:lnTo>
                    <a:lnTo>
                      <a:pt x="516" y="1032"/>
                    </a:lnTo>
                    <a:lnTo>
                      <a:pt x="516" y="1020"/>
                    </a:lnTo>
                    <a:lnTo>
                      <a:pt x="522" y="1002"/>
                    </a:lnTo>
                    <a:lnTo>
                      <a:pt x="522" y="990"/>
                    </a:lnTo>
                    <a:lnTo>
                      <a:pt x="528" y="972"/>
                    </a:lnTo>
                    <a:lnTo>
                      <a:pt x="534" y="996"/>
                    </a:lnTo>
                    <a:lnTo>
                      <a:pt x="546" y="1014"/>
                    </a:lnTo>
                    <a:lnTo>
                      <a:pt x="552" y="1026"/>
                    </a:lnTo>
                    <a:lnTo>
                      <a:pt x="570" y="1044"/>
                    </a:lnTo>
                    <a:lnTo>
                      <a:pt x="582" y="1056"/>
                    </a:lnTo>
                    <a:lnTo>
                      <a:pt x="594" y="1074"/>
                    </a:lnTo>
                    <a:lnTo>
                      <a:pt x="606" y="1074"/>
                    </a:lnTo>
                    <a:lnTo>
                      <a:pt x="606" y="1062"/>
                    </a:lnTo>
                    <a:lnTo>
                      <a:pt x="606" y="1050"/>
                    </a:lnTo>
                    <a:lnTo>
                      <a:pt x="606" y="1044"/>
                    </a:lnTo>
                    <a:lnTo>
                      <a:pt x="606" y="1032"/>
                    </a:lnTo>
                    <a:lnTo>
                      <a:pt x="612" y="1026"/>
                    </a:lnTo>
                    <a:lnTo>
                      <a:pt x="618" y="1014"/>
                    </a:lnTo>
                    <a:lnTo>
                      <a:pt x="618" y="1020"/>
                    </a:lnTo>
                    <a:lnTo>
                      <a:pt x="618" y="1032"/>
                    </a:lnTo>
                    <a:lnTo>
                      <a:pt x="624" y="1044"/>
                    </a:lnTo>
                    <a:lnTo>
                      <a:pt x="630" y="1056"/>
                    </a:lnTo>
                    <a:lnTo>
                      <a:pt x="636" y="1068"/>
                    </a:lnTo>
                    <a:lnTo>
                      <a:pt x="642" y="1080"/>
                    </a:lnTo>
                    <a:lnTo>
                      <a:pt x="654" y="1092"/>
                    </a:lnTo>
                    <a:lnTo>
                      <a:pt x="660" y="1092"/>
                    </a:lnTo>
                    <a:lnTo>
                      <a:pt x="666" y="1080"/>
                    </a:lnTo>
                    <a:lnTo>
                      <a:pt x="666" y="1074"/>
                    </a:lnTo>
                    <a:lnTo>
                      <a:pt x="672" y="1062"/>
                    </a:lnTo>
                    <a:lnTo>
                      <a:pt x="672" y="1050"/>
                    </a:lnTo>
                    <a:lnTo>
                      <a:pt x="678" y="1044"/>
                    </a:lnTo>
                    <a:lnTo>
                      <a:pt x="678" y="1050"/>
                    </a:lnTo>
                    <a:lnTo>
                      <a:pt x="684" y="1056"/>
                    </a:lnTo>
                    <a:lnTo>
                      <a:pt x="690" y="1068"/>
                    </a:lnTo>
                    <a:lnTo>
                      <a:pt x="690" y="1074"/>
                    </a:lnTo>
                    <a:lnTo>
                      <a:pt x="696" y="1080"/>
                    </a:lnTo>
                    <a:lnTo>
                      <a:pt x="696" y="1092"/>
                    </a:lnTo>
                    <a:lnTo>
                      <a:pt x="702" y="1098"/>
                    </a:lnTo>
                    <a:lnTo>
                      <a:pt x="696" y="1110"/>
                    </a:lnTo>
                    <a:lnTo>
                      <a:pt x="696" y="1116"/>
                    </a:lnTo>
                    <a:lnTo>
                      <a:pt x="690" y="1128"/>
                    </a:lnTo>
                    <a:lnTo>
                      <a:pt x="690" y="1134"/>
                    </a:lnTo>
                    <a:lnTo>
                      <a:pt x="684" y="1146"/>
                    </a:lnTo>
                    <a:lnTo>
                      <a:pt x="696" y="1146"/>
                    </a:lnTo>
                    <a:lnTo>
                      <a:pt x="708" y="1140"/>
                    </a:lnTo>
                    <a:lnTo>
                      <a:pt x="720" y="1134"/>
                    </a:lnTo>
                    <a:lnTo>
                      <a:pt x="726" y="1128"/>
                    </a:lnTo>
                    <a:lnTo>
                      <a:pt x="738" y="1122"/>
                    </a:lnTo>
                    <a:lnTo>
                      <a:pt x="750" y="1116"/>
                    </a:lnTo>
                    <a:lnTo>
                      <a:pt x="750" y="1122"/>
                    </a:lnTo>
                    <a:lnTo>
                      <a:pt x="756" y="1134"/>
                    </a:lnTo>
                    <a:lnTo>
                      <a:pt x="762" y="1146"/>
                    </a:lnTo>
                    <a:lnTo>
                      <a:pt x="762" y="1158"/>
                    </a:lnTo>
                    <a:lnTo>
                      <a:pt x="768" y="1170"/>
                    </a:lnTo>
                    <a:lnTo>
                      <a:pt x="774" y="1182"/>
                    </a:lnTo>
                    <a:lnTo>
                      <a:pt x="816" y="1158"/>
                    </a:lnTo>
                    <a:lnTo>
                      <a:pt x="834" y="1158"/>
                    </a:lnTo>
                    <a:lnTo>
                      <a:pt x="846" y="1164"/>
                    </a:lnTo>
                    <a:lnTo>
                      <a:pt x="858" y="1176"/>
                    </a:lnTo>
                    <a:lnTo>
                      <a:pt x="864" y="1188"/>
                    </a:lnTo>
                    <a:lnTo>
                      <a:pt x="876" y="1200"/>
                    </a:lnTo>
                    <a:lnTo>
                      <a:pt x="888" y="1212"/>
                    </a:lnTo>
                    <a:lnTo>
                      <a:pt x="882" y="1212"/>
                    </a:lnTo>
                    <a:lnTo>
                      <a:pt x="876" y="1212"/>
                    </a:lnTo>
                    <a:lnTo>
                      <a:pt x="870" y="1218"/>
                    </a:lnTo>
                    <a:lnTo>
                      <a:pt x="864" y="1218"/>
                    </a:lnTo>
                    <a:lnTo>
                      <a:pt x="864" y="1224"/>
                    </a:lnTo>
                    <a:lnTo>
                      <a:pt x="858" y="1224"/>
                    </a:lnTo>
                    <a:lnTo>
                      <a:pt x="852" y="1224"/>
                    </a:lnTo>
                    <a:lnTo>
                      <a:pt x="846" y="1224"/>
                    </a:lnTo>
                    <a:lnTo>
                      <a:pt x="840" y="1218"/>
                    </a:lnTo>
                    <a:lnTo>
                      <a:pt x="834" y="1218"/>
                    </a:lnTo>
                    <a:lnTo>
                      <a:pt x="828" y="1218"/>
                    </a:lnTo>
                    <a:lnTo>
                      <a:pt x="828" y="1224"/>
                    </a:lnTo>
                    <a:lnTo>
                      <a:pt x="834" y="1236"/>
                    </a:lnTo>
                    <a:lnTo>
                      <a:pt x="846" y="1242"/>
                    </a:lnTo>
                    <a:lnTo>
                      <a:pt x="858" y="1254"/>
                    </a:lnTo>
                    <a:lnTo>
                      <a:pt x="870" y="1260"/>
                    </a:lnTo>
                    <a:lnTo>
                      <a:pt x="882" y="1272"/>
                    </a:lnTo>
                    <a:lnTo>
                      <a:pt x="888" y="1278"/>
                    </a:lnTo>
                    <a:lnTo>
                      <a:pt x="876" y="1278"/>
                    </a:lnTo>
                    <a:lnTo>
                      <a:pt x="858" y="1284"/>
                    </a:lnTo>
                    <a:lnTo>
                      <a:pt x="846" y="1290"/>
                    </a:lnTo>
                    <a:lnTo>
                      <a:pt x="828" y="1296"/>
                    </a:lnTo>
                    <a:lnTo>
                      <a:pt x="816" y="1302"/>
                    </a:lnTo>
                    <a:lnTo>
                      <a:pt x="798" y="1308"/>
                    </a:lnTo>
                    <a:lnTo>
                      <a:pt x="774" y="1332"/>
                    </a:lnTo>
                    <a:lnTo>
                      <a:pt x="750" y="1362"/>
                    </a:lnTo>
                    <a:lnTo>
                      <a:pt x="726" y="1386"/>
                    </a:lnTo>
                    <a:lnTo>
                      <a:pt x="708" y="1416"/>
                    </a:lnTo>
                    <a:lnTo>
                      <a:pt x="690" y="1446"/>
                    </a:lnTo>
                    <a:lnTo>
                      <a:pt x="684" y="1482"/>
                    </a:lnTo>
                    <a:lnTo>
                      <a:pt x="678" y="1518"/>
                    </a:lnTo>
                    <a:lnTo>
                      <a:pt x="672" y="1554"/>
                    </a:lnTo>
                    <a:lnTo>
                      <a:pt x="672" y="1596"/>
                    </a:lnTo>
                    <a:lnTo>
                      <a:pt x="678" y="1632"/>
                    </a:lnTo>
                    <a:lnTo>
                      <a:pt x="690" y="1668"/>
                    </a:lnTo>
                    <a:lnTo>
                      <a:pt x="708" y="1704"/>
                    </a:lnTo>
                    <a:lnTo>
                      <a:pt x="720" y="1740"/>
                    </a:lnTo>
                    <a:lnTo>
                      <a:pt x="714" y="1770"/>
                    </a:lnTo>
                    <a:lnTo>
                      <a:pt x="696" y="1794"/>
                    </a:lnTo>
                    <a:lnTo>
                      <a:pt x="678" y="1818"/>
                    </a:lnTo>
                    <a:lnTo>
                      <a:pt x="654" y="1842"/>
                    </a:lnTo>
                    <a:lnTo>
                      <a:pt x="636" y="1872"/>
                    </a:lnTo>
                    <a:lnTo>
                      <a:pt x="624" y="1872"/>
                    </a:lnTo>
                    <a:lnTo>
                      <a:pt x="618" y="1884"/>
                    </a:lnTo>
                    <a:lnTo>
                      <a:pt x="612" y="1896"/>
                    </a:lnTo>
                    <a:lnTo>
                      <a:pt x="600" y="1902"/>
                    </a:lnTo>
                    <a:lnTo>
                      <a:pt x="588" y="1908"/>
                    </a:lnTo>
                    <a:lnTo>
                      <a:pt x="576" y="1914"/>
                    </a:lnTo>
                    <a:lnTo>
                      <a:pt x="564" y="1914"/>
                    </a:lnTo>
                    <a:lnTo>
                      <a:pt x="558" y="1908"/>
                    </a:lnTo>
                    <a:lnTo>
                      <a:pt x="558" y="1896"/>
                    </a:lnTo>
                    <a:lnTo>
                      <a:pt x="552" y="1890"/>
                    </a:lnTo>
                    <a:lnTo>
                      <a:pt x="552" y="1884"/>
                    </a:lnTo>
                    <a:lnTo>
                      <a:pt x="546" y="1878"/>
                    </a:lnTo>
                    <a:lnTo>
                      <a:pt x="540" y="1872"/>
                    </a:lnTo>
                    <a:lnTo>
                      <a:pt x="528" y="1866"/>
                    </a:lnTo>
                    <a:lnTo>
                      <a:pt x="522" y="1866"/>
                    </a:lnTo>
                    <a:lnTo>
                      <a:pt x="510" y="1866"/>
                    </a:lnTo>
                    <a:lnTo>
                      <a:pt x="504" y="1866"/>
                    </a:lnTo>
                    <a:lnTo>
                      <a:pt x="492" y="1866"/>
                    </a:lnTo>
                    <a:lnTo>
                      <a:pt x="486" y="1866"/>
                    </a:lnTo>
                    <a:lnTo>
                      <a:pt x="474" y="1872"/>
                    </a:lnTo>
                    <a:lnTo>
                      <a:pt x="462" y="1878"/>
                    </a:lnTo>
                    <a:lnTo>
                      <a:pt x="450" y="1878"/>
                    </a:lnTo>
                    <a:lnTo>
                      <a:pt x="438" y="1878"/>
                    </a:lnTo>
                    <a:lnTo>
                      <a:pt x="426" y="1878"/>
                    </a:lnTo>
                    <a:lnTo>
                      <a:pt x="414" y="1884"/>
                    </a:lnTo>
                    <a:lnTo>
                      <a:pt x="402" y="1884"/>
                    </a:lnTo>
                    <a:lnTo>
                      <a:pt x="396" y="1890"/>
                    </a:lnTo>
                    <a:lnTo>
                      <a:pt x="390" y="1896"/>
                    </a:lnTo>
                    <a:lnTo>
                      <a:pt x="390" y="1908"/>
                    </a:lnTo>
                    <a:lnTo>
                      <a:pt x="384" y="1914"/>
                    </a:lnTo>
                    <a:lnTo>
                      <a:pt x="378" y="1926"/>
                    </a:lnTo>
                    <a:lnTo>
                      <a:pt x="384" y="1926"/>
                    </a:lnTo>
                    <a:lnTo>
                      <a:pt x="396" y="1926"/>
                    </a:lnTo>
                    <a:lnTo>
                      <a:pt x="402" y="1926"/>
                    </a:lnTo>
                    <a:lnTo>
                      <a:pt x="408" y="1920"/>
                    </a:lnTo>
                    <a:lnTo>
                      <a:pt x="414" y="1920"/>
                    </a:lnTo>
                    <a:lnTo>
                      <a:pt x="426" y="1920"/>
                    </a:lnTo>
                    <a:lnTo>
                      <a:pt x="432" y="1920"/>
                    </a:lnTo>
                    <a:lnTo>
                      <a:pt x="438" y="1920"/>
                    </a:lnTo>
                    <a:lnTo>
                      <a:pt x="444" y="1926"/>
                    </a:lnTo>
                    <a:lnTo>
                      <a:pt x="450" y="1932"/>
                    </a:lnTo>
                    <a:lnTo>
                      <a:pt x="456" y="1938"/>
                    </a:lnTo>
                    <a:lnTo>
                      <a:pt x="462" y="1944"/>
                    </a:lnTo>
                    <a:lnTo>
                      <a:pt x="450" y="1944"/>
                    </a:lnTo>
                    <a:lnTo>
                      <a:pt x="438" y="1950"/>
                    </a:lnTo>
                    <a:lnTo>
                      <a:pt x="426" y="1962"/>
                    </a:lnTo>
                    <a:lnTo>
                      <a:pt x="414" y="1968"/>
                    </a:lnTo>
                    <a:lnTo>
                      <a:pt x="408" y="1980"/>
                    </a:lnTo>
                    <a:lnTo>
                      <a:pt x="402" y="1992"/>
                    </a:lnTo>
                    <a:lnTo>
                      <a:pt x="402" y="2004"/>
                    </a:lnTo>
                    <a:lnTo>
                      <a:pt x="402" y="2016"/>
                    </a:lnTo>
                    <a:lnTo>
                      <a:pt x="402" y="2028"/>
                    </a:lnTo>
                    <a:lnTo>
                      <a:pt x="408" y="2040"/>
                    </a:lnTo>
                    <a:lnTo>
                      <a:pt x="414" y="2052"/>
                    </a:lnTo>
                    <a:lnTo>
                      <a:pt x="420" y="2058"/>
                    </a:lnTo>
                    <a:lnTo>
                      <a:pt x="426" y="2058"/>
                    </a:lnTo>
                    <a:lnTo>
                      <a:pt x="426" y="2052"/>
                    </a:lnTo>
                    <a:lnTo>
                      <a:pt x="426" y="2046"/>
                    </a:lnTo>
                    <a:lnTo>
                      <a:pt x="426" y="2040"/>
                    </a:lnTo>
                    <a:lnTo>
                      <a:pt x="432" y="2028"/>
                    </a:lnTo>
                    <a:lnTo>
                      <a:pt x="432" y="2022"/>
                    </a:lnTo>
                    <a:lnTo>
                      <a:pt x="438" y="2016"/>
                    </a:lnTo>
                    <a:lnTo>
                      <a:pt x="444" y="2010"/>
                    </a:lnTo>
                    <a:lnTo>
                      <a:pt x="450" y="2004"/>
                    </a:lnTo>
                    <a:lnTo>
                      <a:pt x="462" y="1998"/>
                    </a:lnTo>
                    <a:lnTo>
                      <a:pt x="468" y="2004"/>
                    </a:lnTo>
                    <a:lnTo>
                      <a:pt x="474" y="2004"/>
                    </a:lnTo>
                    <a:lnTo>
                      <a:pt x="474" y="2010"/>
                    </a:lnTo>
                    <a:lnTo>
                      <a:pt x="480" y="2010"/>
                    </a:lnTo>
                    <a:lnTo>
                      <a:pt x="480" y="2016"/>
                    </a:lnTo>
                    <a:lnTo>
                      <a:pt x="486" y="2022"/>
                    </a:lnTo>
                    <a:lnTo>
                      <a:pt x="486" y="2028"/>
                    </a:lnTo>
                    <a:lnTo>
                      <a:pt x="492" y="2028"/>
                    </a:lnTo>
                    <a:lnTo>
                      <a:pt x="498" y="2034"/>
                    </a:lnTo>
                    <a:lnTo>
                      <a:pt x="504" y="2034"/>
                    </a:lnTo>
                    <a:lnTo>
                      <a:pt x="510" y="2034"/>
                    </a:lnTo>
                    <a:lnTo>
                      <a:pt x="516" y="2034"/>
                    </a:lnTo>
                    <a:lnTo>
                      <a:pt x="522" y="2028"/>
                    </a:lnTo>
                    <a:lnTo>
                      <a:pt x="528" y="2022"/>
                    </a:lnTo>
                    <a:lnTo>
                      <a:pt x="534" y="2016"/>
                    </a:lnTo>
                    <a:lnTo>
                      <a:pt x="540" y="2016"/>
                    </a:lnTo>
                    <a:lnTo>
                      <a:pt x="540" y="2010"/>
                    </a:lnTo>
                    <a:lnTo>
                      <a:pt x="546" y="2010"/>
                    </a:lnTo>
                    <a:lnTo>
                      <a:pt x="546" y="2016"/>
                    </a:lnTo>
                    <a:lnTo>
                      <a:pt x="546" y="2022"/>
                    </a:lnTo>
                    <a:lnTo>
                      <a:pt x="546" y="2028"/>
                    </a:lnTo>
                    <a:lnTo>
                      <a:pt x="540" y="2034"/>
                    </a:lnTo>
                    <a:lnTo>
                      <a:pt x="546" y="2040"/>
                    </a:lnTo>
                    <a:lnTo>
                      <a:pt x="546" y="2046"/>
                    </a:lnTo>
                    <a:lnTo>
                      <a:pt x="552" y="2046"/>
                    </a:lnTo>
                    <a:lnTo>
                      <a:pt x="558" y="2052"/>
                    </a:lnTo>
                    <a:lnTo>
                      <a:pt x="552" y="2064"/>
                    </a:lnTo>
                    <a:lnTo>
                      <a:pt x="552" y="2070"/>
                    </a:lnTo>
                    <a:lnTo>
                      <a:pt x="546" y="2082"/>
                    </a:lnTo>
                    <a:lnTo>
                      <a:pt x="546" y="2088"/>
                    </a:lnTo>
                    <a:lnTo>
                      <a:pt x="552" y="2094"/>
                    </a:lnTo>
                    <a:lnTo>
                      <a:pt x="552" y="2100"/>
                    </a:lnTo>
                    <a:lnTo>
                      <a:pt x="558" y="2106"/>
                    </a:lnTo>
                    <a:lnTo>
                      <a:pt x="564" y="2112"/>
                    </a:lnTo>
                    <a:lnTo>
                      <a:pt x="576" y="2118"/>
                    </a:lnTo>
                    <a:lnTo>
                      <a:pt x="588" y="2124"/>
                    </a:lnTo>
                    <a:lnTo>
                      <a:pt x="600" y="2130"/>
                    </a:lnTo>
                    <a:lnTo>
                      <a:pt x="612" y="2130"/>
                    </a:lnTo>
                    <a:lnTo>
                      <a:pt x="624" y="2130"/>
                    </a:lnTo>
                    <a:lnTo>
                      <a:pt x="630" y="2130"/>
                    </a:lnTo>
                    <a:lnTo>
                      <a:pt x="630" y="2124"/>
                    </a:lnTo>
                    <a:lnTo>
                      <a:pt x="636" y="2124"/>
                    </a:lnTo>
                    <a:lnTo>
                      <a:pt x="636" y="2118"/>
                    </a:lnTo>
                    <a:lnTo>
                      <a:pt x="630" y="2112"/>
                    </a:lnTo>
                    <a:lnTo>
                      <a:pt x="624" y="2106"/>
                    </a:lnTo>
                    <a:lnTo>
                      <a:pt x="618" y="2100"/>
                    </a:lnTo>
                    <a:lnTo>
                      <a:pt x="612" y="2088"/>
                    </a:lnTo>
                    <a:lnTo>
                      <a:pt x="606" y="2082"/>
                    </a:lnTo>
                    <a:lnTo>
                      <a:pt x="600" y="2076"/>
                    </a:lnTo>
                    <a:lnTo>
                      <a:pt x="594" y="2064"/>
                    </a:lnTo>
                    <a:lnTo>
                      <a:pt x="600" y="2064"/>
                    </a:lnTo>
                    <a:lnTo>
                      <a:pt x="606" y="2064"/>
                    </a:lnTo>
                    <a:lnTo>
                      <a:pt x="612" y="2058"/>
                    </a:lnTo>
                    <a:lnTo>
                      <a:pt x="618" y="2058"/>
                    </a:lnTo>
                    <a:lnTo>
                      <a:pt x="624" y="2058"/>
                    </a:lnTo>
                    <a:lnTo>
                      <a:pt x="624" y="2052"/>
                    </a:lnTo>
                    <a:lnTo>
                      <a:pt x="630" y="2052"/>
                    </a:lnTo>
                    <a:lnTo>
                      <a:pt x="642" y="2052"/>
                    </a:lnTo>
                    <a:lnTo>
                      <a:pt x="642" y="2046"/>
                    </a:lnTo>
                    <a:lnTo>
                      <a:pt x="648" y="2034"/>
                    </a:lnTo>
                    <a:lnTo>
                      <a:pt x="648" y="2028"/>
                    </a:lnTo>
                    <a:lnTo>
                      <a:pt x="654" y="2016"/>
                    </a:lnTo>
                    <a:lnTo>
                      <a:pt x="654" y="2010"/>
                    </a:lnTo>
                    <a:lnTo>
                      <a:pt x="666" y="2016"/>
                    </a:lnTo>
                    <a:lnTo>
                      <a:pt x="678" y="2022"/>
                    </a:lnTo>
                    <a:lnTo>
                      <a:pt x="690" y="2028"/>
                    </a:lnTo>
                    <a:lnTo>
                      <a:pt x="702" y="2028"/>
                    </a:lnTo>
                    <a:lnTo>
                      <a:pt x="714" y="2034"/>
                    </a:lnTo>
                    <a:lnTo>
                      <a:pt x="720" y="2034"/>
                    </a:lnTo>
                    <a:lnTo>
                      <a:pt x="726" y="2028"/>
                    </a:lnTo>
                    <a:lnTo>
                      <a:pt x="732" y="2028"/>
                    </a:lnTo>
                    <a:lnTo>
                      <a:pt x="738" y="2028"/>
                    </a:lnTo>
                    <a:lnTo>
                      <a:pt x="744" y="2022"/>
                    </a:lnTo>
                    <a:lnTo>
                      <a:pt x="744" y="2016"/>
                    </a:lnTo>
                    <a:lnTo>
                      <a:pt x="738" y="2010"/>
                    </a:lnTo>
                    <a:lnTo>
                      <a:pt x="738" y="1998"/>
                    </a:lnTo>
                    <a:lnTo>
                      <a:pt x="738" y="1992"/>
                    </a:lnTo>
                    <a:lnTo>
                      <a:pt x="738" y="1980"/>
                    </a:lnTo>
                    <a:lnTo>
                      <a:pt x="744" y="1974"/>
                    </a:lnTo>
                    <a:lnTo>
                      <a:pt x="744" y="1968"/>
                    </a:lnTo>
                    <a:lnTo>
                      <a:pt x="756" y="1974"/>
                    </a:lnTo>
                    <a:lnTo>
                      <a:pt x="762" y="1986"/>
                    </a:lnTo>
                    <a:lnTo>
                      <a:pt x="774" y="1998"/>
                    </a:lnTo>
                    <a:lnTo>
                      <a:pt x="780" y="2004"/>
                    </a:lnTo>
                    <a:lnTo>
                      <a:pt x="792" y="2010"/>
                    </a:lnTo>
                    <a:lnTo>
                      <a:pt x="804" y="2010"/>
                    </a:lnTo>
                    <a:lnTo>
                      <a:pt x="810" y="2010"/>
                    </a:lnTo>
                    <a:lnTo>
                      <a:pt x="810" y="2004"/>
                    </a:lnTo>
                    <a:lnTo>
                      <a:pt x="804" y="1998"/>
                    </a:lnTo>
                    <a:lnTo>
                      <a:pt x="798" y="1992"/>
                    </a:lnTo>
                    <a:lnTo>
                      <a:pt x="798" y="1986"/>
                    </a:lnTo>
                    <a:lnTo>
                      <a:pt x="798" y="1980"/>
                    </a:lnTo>
                    <a:lnTo>
                      <a:pt x="798" y="1968"/>
                    </a:lnTo>
                    <a:lnTo>
                      <a:pt x="798" y="1962"/>
                    </a:lnTo>
                    <a:lnTo>
                      <a:pt x="798" y="1950"/>
                    </a:lnTo>
                    <a:lnTo>
                      <a:pt x="798" y="1944"/>
                    </a:lnTo>
                    <a:lnTo>
                      <a:pt x="804" y="1938"/>
                    </a:lnTo>
                    <a:lnTo>
                      <a:pt x="822" y="1956"/>
                    </a:lnTo>
                    <a:lnTo>
                      <a:pt x="828" y="1956"/>
                    </a:lnTo>
                    <a:lnTo>
                      <a:pt x="834" y="1962"/>
                    </a:lnTo>
                    <a:lnTo>
                      <a:pt x="840" y="1962"/>
                    </a:lnTo>
                    <a:lnTo>
                      <a:pt x="846" y="1962"/>
                    </a:lnTo>
                    <a:lnTo>
                      <a:pt x="846" y="1944"/>
                    </a:lnTo>
                    <a:lnTo>
                      <a:pt x="852" y="1932"/>
                    </a:lnTo>
                    <a:lnTo>
                      <a:pt x="858" y="1920"/>
                    </a:lnTo>
                    <a:lnTo>
                      <a:pt x="864" y="1902"/>
                    </a:lnTo>
                    <a:lnTo>
                      <a:pt x="870" y="1890"/>
                    </a:lnTo>
                    <a:lnTo>
                      <a:pt x="876" y="1878"/>
                    </a:lnTo>
                    <a:lnTo>
                      <a:pt x="894" y="1884"/>
                    </a:lnTo>
                    <a:lnTo>
                      <a:pt x="906" y="1890"/>
                    </a:lnTo>
                    <a:lnTo>
                      <a:pt x="918" y="1890"/>
                    </a:lnTo>
                    <a:lnTo>
                      <a:pt x="936" y="1896"/>
                    </a:lnTo>
                    <a:lnTo>
                      <a:pt x="948" y="1896"/>
                    </a:lnTo>
                    <a:lnTo>
                      <a:pt x="960" y="1908"/>
                    </a:lnTo>
                    <a:lnTo>
                      <a:pt x="966" y="1896"/>
                    </a:lnTo>
                    <a:lnTo>
                      <a:pt x="960" y="1890"/>
                    </a:lnTo>
                    <a:lnTo>
                      <a:pt x="954" y="1878"/>
                    </a:lnTo>
                    <a:lnTo>
                      <a:pt x="948" y="1872"/>
                    </a:lnTo>
                    <a:lnTo>
                      <a:pt x="948" y="1860"/>
                    </a:lnTo>
                    <a:lnTo>
                      <a:pt x="942" y="1848"/>
                    </a:lnTo>
                    <a:lnTo>
                      <a:pt x="960" y="1854"/>
                    </a:lnTo>
                    <a:lnTo>
                      <a:pt x="978" y="1854"/>
                    </a:lnTo>
                    <a:lnTo>
                      <a:pt x="996" y="1860"/>
                    </a:lnTo>
                    <a:lnTo>
                      <a:pt x="1014" y="1860"/>
                    </a:lnTo>
                    <a:lnTo>
                      <a:pt x="1026" y="1854"/>
                    </a:lnTo>
                    <a:lnTo>
                      <a:pt x="1044" y="1848"/>
                    </a:lnTo>
                    <a:lnTo>
                      <a:pt x="1044" y="1842"/>
                    </a:lnTo>
                    <a:lnTo>
                      <a:pt x="1038" y="1830"/>
                    </a:lnTo>
                    <a:lnTo>
                      <a:pt x="1026" y="1824"/>
                    </a:lnTo>
                    <a:lnTo>
                      <a:pt x="1020" y="1824"/>
                    </a:lnTo>
                    <a:lnTo>
                      <a:pt x="1008" y="1818"/>
                    </a:lnTo>
                    <a:lnTo>
                      <a:pt x="1008" y="1806"/>
                    </a:lnTo>
                    <a:lnTo>
                      <a:pt x="1014" y="1806"/>
                    </a:lnTo>
                    <a:lnTo>
                      <a:pt x="1020" y="1806"/>
                    </a:lnTo>
                    <a:lnTo>
                      <a:pt x="1032" y="1806"/>
                    </a:lnTo>
                    <a:lnTo>
                      <a:pt x="1038" y="1800"/>
                    </a:lnTo>
                    <a:lnTo>
                      <a:pt x="1044" y="1800"/>
                    </a:lnTo>
                    <a:lnTo>
                      <a:pt x="1050" y="1794"/>
                    </a:lnTo>
                    <a:lnTo>
                      <a:pt x="1056" y="1788"/>
                    </a:lnTo>
                    <a:lnTo>
                      <a:pt x="1056" y="1782"/>
                    </a:lnTo>
                    <a:lnTo>
                      <a:pt x="1050" y="1782"/>
                    </a:lnTo>
                    <a:lnTo>
                      <a:pt x="1044" y="1776"/>
                    </a:lnTo>
                    <a:lnTo>
                      <a:pt x="1026" y="1770"/>
                    </a:lnTo>
                    <a:lnTo>
                      <a:pt x="1002" y="1758"/>
                    </a:lnTo>
                    <a:lnTo>
                      <a:pt x="984" y="1752"/>
                    </a:lnTo>
                    <a:lnTo>
                      <a:pt x="966" y="1734"/>
                    </a:lnTo>
                    <a:lnTo>
                      <a:pt x="948" y="1722"/>
                    </a:lnTo>
                    <a:lnTo>
                      <a:pt x="930" y="1710"/>
                    </a:lnTo>
                    <a:lnTo>
                      <a:pt x="936" y="1710"/>
                    </a:lnTo>
                    <a:lnTo>
                      <a:pt x="942" y="1710"/>
                    </a:lnTo>
                    <a:lnTo>
                      <a:pt x="948" y="1710"/>
                    </a:lnTo>
                    <a:lnTo>
                      <a:pt x="954" y="1710"/>
                    </a:lnTo>
                    <a:lnTo>
                      <a:pt x="960" y="1710"/>
                    </a:lnTo>
                    <a:lnTo>
                      <a:pt x="966" y="1704"/>
                    </a:lnTo>
                    <a:lnTo>
                      <a:pt x="960" y="1698"/>
                    </a:lnTo>
                    <a:lnTo>
                      <a:pt x="954" y="1686"/>
                    </a:lnTo>
                    <a:lnTo>
                      <a:pt x="948" y="1680"/>
                    </a:lnTo>
                    <a:lnTo>
                      <a:pt x="942" y="1668"/>
                    </a:lnTo>
                    <a:lnTo>
                      <a:pt x="936" y="1656"/>
                    </a:lnTo>
                    <a:lnTo>
                      <a:pt x="930" y="1650"/>
                    </a:lnTo>
                    <a:lnTo>
                      <a:pt x="936" y="1650"/>
                    </a:lnTo>
                    <a:lnTo>
                      <a:pt x="942" y="1650"/>
                    </a:lnTo>
                    <a:lnTo>
                      <a:pt x="948" y="1650"/>
                    </a:lnTo>
                    <a:lnTo>
                      <a:pt x="948" y="1644"/>
                    </a:lnTo>
                    <a:lnTo>
                      <a:pt x="948" y="1638"/>
                    </a:lnTo>
                    <a:lnTo>
                      <a:pt x="954" y="1638"/>
                    </a:lnTo>
                    <a:lnTo>
                      <a:pt x="948" y="1632"/>
                    </a:lnTo>
                    <a:lnTo>
                      <a:pt x="948" y="1626"/>
                    </a:lnTo>
                    <a:lnTo>
                      <a:pt x="942" y="1626"/>
                    </a:lnTo>
                    <a:lnTo>
                      <a:pt x="936" y="1620"/>
                    </a:lnTo>
                    <a:lnTo>
                      <a:pt x="930" y="1614"/>
                    </a:lnTo>
                    <a:lnTo>
                      <a:pt x="930" y="1602"/>
                    </a:lnTo>
                    <a:lnTo>
                      <a:pt x="930" y="1596"/>
                    </a:lnTo>
                    <a:lnTo>
                      <a:pt x="930" y="1584"/>
                    </a:lnTo>
                    <a:lnTo>
                      <a:pt x="930" y="1578"/>
                    </a:lnTo>
                    <a:lnTo>
                      <a:pt x="936" y="1566"/>
                    </a:lnTo>
                    <a:lnTo>
                      <a:pt x="942" y="1560"/>
                    </a:lnTo>
                    <a:lnTo>
                      <a:pt x="954" y="1608"/>
                    </a:lnTo>
                    <a:lnTo>
                      <a:pt x="978" y="1656"/>
                    </a:lnTo>
                    <a:lnTo>
                      <a:pt x="1014" y="1698"/>
                    </a:lnTo>
                    <a:lnTo>
                      <a:pt x="1056" y="1734"/>
                    </a:lnTo>
                    <a:lnTo>
                      <a:pt x="1098" y="1764"/>
                    </a:lnTo>
                    <a:lnTo>
                      <a:pt x="1146" y="1788"/>
                    </a:lnTo>
                    <a:lnTo>
                      <a:pt x="1152" y="1794"/>
                    </a:lnTo>
                    <a:lnTo>
                      <a:pt x="1164" y="1794"/>
                    </a:lnTo>
                    <a:lnTo>
                      <a:pt x="1176" y="1800"/>
                    </a:lnTo>
                    <a:lnTo>
                      <a:pt x="1182" y="1800"/>
                    </a:lnTo>
                    <a:lnTo>
                      <a:pt x="1194" y="1806"/>
                    </a:lnTo>
                    <a:lnTo>
                      <a:pt x="1200" y="1818"/>
                    </a:lnTo>
                    <a:lnTo>
                      <a:pt x="1200" y="1836"/>
                    </a:lnTo>
                    <a:lnTo>
                      <a:pt x="1206" y="1854"/>
                    </a:lnTo>
                    <a:lnTo>
                      <a:pt x="1200" y="1872"/>
                    </a:lnTo>
                    <a:lnTo>
                      <a:pt x="1200" y="1896"/>
                    </a:lnTo>
                    <a:lnTo>
                      <a:pt x="1194" y="1914"/>
                    </a:lnTo>
                    <a:lnTo>
                      <a:pt x="1182" y="1932"/>
                    </a:lnTo>
                    <a:lnTo>
                      <a:pt x="1176" y="1938"/>
                    </a:lnTo>
                    <a:lnTo>
                      <a:pt x="1170" y="1950"/>
                    </a:lnTo>
                    <a:lnTo>
                      <a:pt x="1164" y="1962"/>
                    </a:lnTo>
                    <a:lnTo>
                      <a:pt x="1158" y="1968"/>
                    </a:lnTo>
                    <a:lnTo>
                      <a:pt x="1146" y="1974"/>
                    </a:lnTo>
                    <a:lnTo>
                      <a:pt x="1134" y="1974"/>
                    </a:lnTo>
                    <a:lnTo>
                      <a:pt x="1122" y="1974"/>
                    </a:lnTo>
                    <a:lnTo>
                      <a:pt x="1110" y="1974"/>
                    </a:lnTo>
                    <a:lnTo>
                      <a:pt x="1098" y="1968"/>
                    </a:lnTo>
                    <a:lnTo>
                      <a:pt x="1086" y="1962"/>
                    </a:lnTo>
                    <a:lnTo>
                      <a:pt x="1074" y="1962"/>
                    </a:lnTo>
                    <a:lnTo>
                      <a:pt x="1062" y="1956"/>
                    </a:lnTo>
                    <a:lnTo>
                      <a:pt x="1056" y="1956"/>
                    </a:lnTo>
                    <a:lnTo>
                      <a:pt x="1050" y="1956"/>
                    </a:lnTo>
                    <a:lnTo>
                      <a:pt x="1044" y="1956"/>
                    </a:lnTo>
                    <a:lnTo>
                      <a:pt x="1038" y="1962"/>
                    </a:lnTo>
                    <a:lnTo>
                      <a:pt x="1032" y="1962"/>
                    </a:lnTo>
                    <a:lnTo>
                      <a:pt x="1032" y="1968"/>
                    </a:lnTo>
                    <a:lnTo>
                      <a:pt x="1020" y="1968"/>
                    </a:lnTo>
                    <a:lnTo>
                      <a:pt x="1008" y="1962"/>
                    </a:lnTo>
                    <a:lnTo>
                      <a:pt x="990" y="1962"/>
                    </a:lnTo>
                    <a:lnTo>
                      <a:pt x="978" y="1968"/>
                    </a:lnTo>
                    <a:lnTo>
                      <a:pt x="966" y="1968"/>
                    </a:lnTo>
                    <a:lnTo>
                      <a:pt x="954" y="1974"/>
                    </a:lnTo>
                    <a:lnTo>
                      <a:pt x="948" y="1980"/>
                    </a:lnTo>
                    <a:lnTo>
                      <a:pt x="942" y="1980"/>
                    </a:lnTo>
                    <a:lnTo>
                      <a:pt x="936" y="1986"/>
                    </a:lnTo>
                    <a:lnTo>
                      <a:pt x="930" y="1986"/>
                    </a:lnTo>
                    <a:lnTo>
                      <a:pt x="930" y="1992"/>
                    </a:lnTo>
                    <a:lnTo>
                      <a:pt x="924" y="1992"/>
                    </a:lnTo>
                    <a:lnTo>
                      <a:pt x="918" y="2004"/>
                    </a:lnTo>
                    <a:lnTo>
                      <a:pt x="918" y="2010"/>
                    </a:lnTo>
                    <a:lnTo>
                      <a:pt x="912" y="2016"/>
                    </a:lnTo>
                    <a:lnTo>
                      <a:pt x="912" y="2022"/>
                    </a:lnTo>
                    <a:lnTo>
                      <a:pt x="912" y="2028"/>
                    </a:lnTo>
                    <a:lnTo>
                      <a:pt x="912" y="2040"/>
                    </a:lnTo>
                    <a:lnTo>
                      <a:pt x="930" y="2034"/>
                    </a:lnTo>
                    <a:lnTo>
                      <a:pt x="942" y="2022"/>
                    </a:lnTo>
                    <a:lnTo>
                      <a:pt x="954" y="2016"/>
                    </a:lnTo>
                    <a:lnTo>
                      <a:pt x="972" y="2016"/>
                    </a:lnTo>
                    <a:lnTo>
                      <a:pt x="984" y="2010"/>
                    </a:lnTo>
                    <a:lnTo>
                      <a:pt x="1002" y="2016"/>
                    </a:lnTo>
                    <a:lnTo>
                      <a:pt x="996" y="2016"/>
                    </a:lnTo>
                    <a:lnTo>
                      <a:pt x="990" y="2022"/>
                    </a:lnTo>
                    <a:lnTo>
                      <a:pt x="984" y="2022"/>
                    </a:lnTo>
                    <a:lnTo>
                      <a:pt x="978" y="2028"/>
                    </a:lnTo>
                    <a:lnTo>
                      <a:pt x="978" y="2034"/>
                    </a:lnTo>
                    <a:lnTo>
                      <a:pt x="972" y="2040"/>
                    </a:lnTo>
                    <a:lnTo>
                      <a:pt x="972" y="2046"/>
                    </a:lnTo>
                    <a:lnTo>
                      <a:pt x="972" y="2058"/>
                    </a:lnTo>
                    <a:lnTo>
                      <a:pt x="960" y="2070"/>
                    </a:lnTo>
                    <a:lnTo>
                      <a:pt x="954" y="2076"/>
                    </a:lnTo>
                    <a:lnTo>
                      <a:pt x="954" y="2088"/>
                    </a:lnTo>
                    <a:lnTo>
                      <a:pt x="948" y="2100"/>
                    </a:lnTo>
                    <a:lnTo>
                      <a:pt x="954" y="2112"/>
                    </a:lnTo>
                    <a:lnTo>
                      <a:pt x="960" y="2124"/>
                    </a:lnTo>
                    <a:lnTo>
                      <a:pt x="960" y="2136"/>
                    </a:lnTo>
                    <a:lnTo>
                      <a:pt x="966" y="2148"/>
                    </a:lnTo>
                    <a:lnTo>
                      <a:pt x="972" y="2154"/>
                    </a:lnTo>
                    <a:lnTo>
                      <a:pt x="984" y="2160"/>
                    </a:lnTo>
                    <a:lnTo>
                      <a:pt x="990" y="2148"/>
                    </a:lnTo>
                    <a:lnTo>
                      <a:pt x="996" y="2130"/>
                    </a:lnTo>
                    <a:lnTo>
                      <a:pt x="1002" y="2118"/>
                    </a:lnTo>
                    <a:lnTo>
                      <a:pt x="1008" y="2100"/>
                    </a:lnTo>
                    <a:lnTo>
                      <a:pt x="1014" y="2088"/>
                    </a:lnTo>
                    <a:lnTo>
                      <a:pt x="1026" y="2082"/>
                    </a:lnTo>
                    <a:lnTo>
                      <a:pt x="1032" y="2082"/>
                    </a:lnTo>
                    <a:lnTo>
                      <a:pt x="1038" y="2088"/>
                    </a:lnTo>
                    <a:lnTo>
                      <a:pt x="1038" y="2094"/>
                    </a:lnTo>
                    <a:lnTo>
                      <a:pt x="1044" y="2094"/>
                    </a:lnTo>
                    <a:lnTo>
                      <a:pt x="1050" y="2100"/>
                    </a:lnTo>
                    <a:lnTo>
                      <a:pt x="1056" y="2100"/>
                    </a:lnTo>
                    <a:lnTo>
                      <a:pt x="1062" y="2106"/>
                    </a:lnTo>
                    <a:lnTo>
                      <a:pt x="1074" y="2106"/>
                    </a:lnTo>
                    <a:lnTo>
                      <a:pt x="1080" y="2100"/>
                    </a:lnTo>
                    <a:lnTo>
                      <a:pt x="1092" y="2094"/>
                    </a:lnTo>
                    <a:lnTo>
                      <a:pt x="1098" y="2088"/>
                    </a:lnTo>
                    <a:lnTo>
                      <a:pt x="1104" y="2082"/>
                    </a:lnTo>
                    <a:lnTo>
                      <a:pt x="1110" y="2076"/>
                    </a:lnTo>
                    <a:lnTo>
                      <a:pt x="1110" y="2070"/>
                    </a:lnTo>
                    <a:lnTo>
                      <a:pt x="1116" y="2064"/>
                    </a:lnTo>
                    <a:lnTo>
                      <a:pt x="1116" y="2070"/>
                    </a:lnTo>
                    <a:lnTo>
                      <a:pt x="1116" y="2076"/>
                    </a:lnTo>
                    <a:lnTo>
                      <a:pt x="1116" y="2082"/>
                    </a:lnTo>
                    <a:lnTo>
                      <a:pt x="1122" y="2088"/>
                    </a:lnTo>
                    <a:lnTo>
                      <a:pt x="1128" y="2100"/>
                    </a:lnTo>
                    <a:lnTo>
                      <a:pt x="1140" y="2106"/>
                    </a:lnTo>
                    <a:lnTo>
                      <a:pt x="1146" y="2112"/>
                    </a:lnTo>
                    <a:lnTo>
                      <a:pt x="1158" y="2112"/>
                    </a:lnTo>
                    <a:lnTo>
                      <a:pt x="1164" y="2118"/>
                    </a:lnTo>
                    <a:lnTo>
                      <a:pt x="1176" y="2118"/>
                    </a:lnTo>
                    <a:lnTo>
                      <a:pt x="1182" y="2118"/>
                    </a:lnTo>
                    <a:lnTo>
                      <a:pt x="1188" y="2118"/>
                    </a:lnTo>
                    <a:lnTo>
                      <a:pt x="1194" y="2118"/>
                    </a:lnTo>
                    <a:lnTo>
                      <a:pt x="1206" y="2112"/>
                    </a:lnTo>
                    <a:lnTo>
                      <a:pt x="1212" y="2106"/>
                    </a:lnTo>
                    <a:lnTo>
                      <a:pt x="1218" y="2100"/>
                    </a:lnTo>
                    <a:lnTo>
                      <a:pt x="1224" y="2088"/>
                    </a:lnTo>
                    <a:lnTo>
                      <a:pt x="1218" y="2076"/>
                    </a:lnTo>
                    <a:lnTo>
                      <a:pt x="1218" y="2070"/>
                    </a:lnTo>
                    <a:lnTo>
                      <a:pt x="1212" y="2058"/>
                    </a:lnTo>
                    <a:lnTo>
                      <a:pt x="1206" y="2046"/>
                    </a:lnTo>
                    <a:lnTo>
                      <a:pt x="1212" y="2046"/>
                    </a:lnTo>
                    <a:lnTo>
                      <a:pt x="1218" y="2046"/>
                    </a:lnTo>
                    <a:lnTo>
                      <a:pt x="1224" y="2052"/>
                    </a:lnTo>
                    <a:lnTo>
                      <a:pt x="1230" y="2052"/>
                    </a:lnTo>
                    <a:lnTo>
                      <a:pt x="1236" y="2058"/>
                    </a:lnTo>
                    <a:lnTo>
                      <a:pt x="1242" y="2058"/>
                    </a:lnTo>
                    <a:lnTo>
                      <a:pt x="1254" y="2064"/>
                    </a:lnTo>
                    <a:lnTo>
                      <a:pt x="1260" y="2064"/>
                    </a:lnTo>
                    <a:lnTo>
                      <a:pt x="1266" y="2058"/>
                    </a:lnTo>
                    <a:lnTo>
                      <a:pt x="1272" y="2052"/>
                    </a:lnTo>
                    <a:lnTo>
                      <a:pt x="1278" y="2046"/>
                    </a:lnTo>
                    <a:lnTo>
                      <a:pt x="1284" y="2040"/>
                    </a:lnTo>
                    <a:lnTo>
                      <a:pt x="1290" y="2034"/>
                    </a:lnTo>
                    <a:lnTo>
                      <a:pt x="1290" y="2028"/>
                    </a:lnTo>
                    <a:lnTo>
                      <a:pt x="1296" y="2022"/>
                    </a:lnTo>
                    <a:lnTo>
                      <a:pt x="1296" y="2016"/>
                    </a:lnTo>
                    <a:lnTo>
                      <a:pt x="1308" y="2022"/>
                    </a:lnTo>
                    <a:lnTo>
                      <a:pt x="1320" y="2022"/>
                    </a:lnTo>
                    <a:lnTo>
                      <a:pt x="1326" y="2022"/>
                    </a:lnTo>
                    <a:lnTo>
                      <a:pt x="1338" y="2022"/>
                    </a:lnTo>
                    <a:lnTo>
                      <a:pt x="1350" y="2016"/>
                    </a:lnTo>
                    <a:lnTo>
                      <a:pt x="1362" y="2010"/>
                    </a:lnTo>
                    <a:lnTo>
                      <a:pt x="1362" y="2004"/>
                    </a:lnTo>
                    <a:lnTo>
                      <a:pt x="1356" y="1998"/>
                    </a:lnTo>
                    <a:lnTo>
                      <a:pt x="1356" y="1992"/>
                    </a:lnTo>
                    <a:lnTo>
                      <a:pt x="1350" y="1992"/>
                    </a:lnTo>
                    <a:lnTo>
                      <a:pt x="1344" y="1986"/>
                    </a:lnTo>
                    <a:lnTo>
                      <a:pt x="1338" y="1980"/>
                    </a:lnTo>
                    <a:lnTo>
                      <a:pt x="1350" y="1980"/>
                    </a:lnTo>
                    <a:lnTo>
                      <a:pt x="1356" y="1980"/>
                    </a:lnTo>
                    <a:lnTo>
                      <a:pt x="1368" y="1974"/>
                    </a:lnTo>
                    <a:lnTo>
                      <a:pt x="1380" y="1974"/>
                    </a:lnTo>
                    <a:lnTo>
                      <a:pt x="1386" y="1968"/>
                    </a:lnTo>
                    <a:lnTo>
                      <a:pt x="1398" y="1962"/>
                    </a:lnTo>
                    <a:lnTo>
                      <a:pt x="1392" y="1956"/>
                    </a:lnTo>
                    <a:lnTo>
                      <a:pt x="1392" y="1950"/>
                    </a:lnTo>
                    <a:lnTo>
                      <a:pt x="1386" y="1944"/>
                    </a:lnTo>
                    <a:lnTo>
                      <a:pt x="1380" y="1938"/>
                    </a:lnTo>
                    <a:lnTo>
                      <a:pt x="1374" y="1938"/>
                    </a:lnTo>
                    <a:lnTo>
                      <a:pt x="1368" y="1932"/>
                    </a:lnTo>
                    <a:lnTo>
                      <a:pt x="1380" y="1926"/>
                    </a:lnTo>
                    <a:lnTo>
                      <a:pt x="1392" y="1926"/>
                    </a:lnTo>
                    <a:lnTo>
                      <a:pt x="1398" y="1920"/>
                    </a:lnTo>
                    <a:lnTo>
                      <a:pt x="1410" y="1920"/>
                    </a:lnTo>
                    <a:lnTo>
                      <a:pt x="1416" y="1914"/>
                    </a:lnTo>
                    <a:lnTo>
                      <a:pt x="1422" y="1908"/>
                    </a:lnTo>
                    <a:lnTo>
                      <a:pt x="1422" y="1902"/>
                    </a:lnTo>
                    <a:lnTo>
                      <a:pt x="1422" y="1896"/>
                    </a:lnTo>
                    <a:lnTo>
                      <a:pt x="1422" y="1890"/>
                    </a:lnTo>
                    <a:lnTo>
                      <a:pt x="1422" y="1884"/>
                    </a:lnTo>
                    <a:lnTo>
                      <a:pt x="1416" y="1878"/>
                    </a:lnTo>
                    <a:lnTo>
                      <a:pt x="1410" y="1866"/>
                    </a:lnTo>
                    <a:lnTo>
                      <a:pt x="1386" y="1806"/>
                    </a:lnTo>
                    <a:lnTo>
                      <a:pt x="1398" y="1794"/>
                    </a:lnTo>
                    <a:lnTo>
                      <a:pt x="1410" y="1788"/>
                    </a:lnTo>
                    <a:lnTo>
                      <a:pt x="1422" y="1794"/>
                    </a:lnTo>
                    <a:lnTo>
                      <a:pt x="1434" y="1800"/>
                    </a:lnTo>
                    <a:lnTo>
                      <a:pt x="1452" y="1806"/>
                    </a:lnTo>
                    <a:lnTo>
                      <a:pt x="1464" y="1800"/>
                    </a:lnTo>
                    <a:lnTo>
                      <a:pt x="1470" y="1794"/>
                    </a:lnTo>
                    <a:lnTo>
                      <a:pt x="1482" y="1788"/>
                    </a:lnTo>
                    <a:lnTo>
                      <a:pt x="1488" y="1782"/>
                    </a:lnTo>
                    <a:lnTo>
                      <a:pt x="1494" y="1776"/>
                    </a:lnTo>
                    <a:lnTo>
                      <a:pt x="1500" y="1770"/>
                    </a:lnTo>
                    <a:lnTo>
                      <a:pt x="1500" y="1758"/>
                    </a:lnTo>
                    <a:lnTo>
                      <a:pt x="1500" y="1764"/>
                    </a:lnTo>
                    <a:lnTo>
                      <a:pt x="1494" y="1758"/>
                    </a:lnTo>
                    <a:lnTo>
                      <a:pt x="1488" y="1758"/>
                    </a:lnTo>
                    <a:lnTo>
                      <a:pt x="1482" y="1758"/>
                    </a:lnTo>
                    <a:lnTo>
                      <a:pt x="1476" y="1758"/>
                    </a:lnTo>
                    <a:lnTo>
                      <a:pt x="1470" y="1752"/>
                    </a:lnTo>
                    <a:lnTo>
                      <a:pt x="1464" y="1752"/>
                    </a:lnTo>
                    <a:lnTo>
                      <a:pt x="1458" y="1746"/>
                    </a:lnTo>
                    <a:lnTo>
                      <a:pt x="1452" y="1740"/>
                    </a:lnTo>
                    <a:lnTo>
                      <a:pt x="1446" y="1734"/>
                    </a:lnTo>
                    <a:lnTo>
                      <a:pt x="1446" y="1728"/>
                    </a:lnTo>
                    <a:lnTo>
                      <a:pt x="1440" y="1722"/>
                    </a:lnTo>
                    <a:lnTo>
                      <a:pt x="1440" y="1716"/>
                    </a:lnTo>
                    <a:lnTo>
                      <a:pt x="1452" y="1704"/>
                    </a:lnTo>
                    <a:lnTo>
                      <a:pt x="1458" y="1692"/>
                    </a:lnTo>
                    <a:lnTo>
                      <a:pt x="1464" y="1680"/>
                    </a:lnTo>
                    <a:lnTo>
                      <a:pt x="1476" y="1668"/>
                    </a:lnTo>
                    <a:lnTo>
                      <a:pt x="1476" y="1656"/>
                    </a:lnTo>
                    <a:lnTo>
                      <a:pt x="1482" y="1638"/>
                    </a:lnTo>
                    <a:lnTo>
                      <a:pt x="1482" y="1626"/>
                    </a:lnTo>
                    <a:lnTo>
                      <a:pt x="1482" y="1620"/>
                    </a:lnTo>
                    <a:lnTo>
                      <a:pt x="1482" y="1608"/>
                    </a:lnTo>
                    <a:lnTo>
                      <a:pt x="1476" y="1596"/>
                    </a:lnTo>
                    <a:lnTo>
                      <a:pt x="1476" y="1590"/>
                    </a:lnTo>
                    <a:lnTo>
                      <a:pt x="1470" y="1578"/>
                    </a:lnTo>
                    <a:lnTo>
                      <a:pt x="1464" y="1584"/>
                    </a:lnTo>
                    <a:lnTo>
                      <a:pt x="1464" y="1590"/>
                    </a:lnTo>
                    <a:lnTo>
                      <a:pt x="1458" y="1596"/>
                    </a:lnTo>
                    <a:lnTo>
                      <a:pt x="1458" y="1602"/>
                    </a:lnTo>
                    <a:lnTo>
                      <a:pt x="1446" y="1620"/>
                    </a:lnTo>
                    <a:lnTo>
                      <a:pt x="1428" y="1626"/>
                    </a:lnTo>
                    <a:lnTo>
                      <a:pt x="1410" y="1632"/>
                    </a:lnTo>
                    <a:lnTo>
                      <a:pt x="1392" y="1632"/>
                    </a:lnTo>
                    <a:lnTo>
                      <a:pt x="1374" y="1638"/>
                    </a:lnTo>
                    <a:lnTo>
                      <a:pt x="1356" y="1638"/>
                    </a:lnTo>
                    <a:lnTo>
                      <a:pt x="1362" y="1626"/>
                    </a:lnTo>
                    <a:lnTo>
                      <a:pt x="1368" y="1614"/>
                    </a:lnTo>
                    <a:lnTo>
                      <a:pt x="1380" y="1602"/>
                    </a:lnTo>
                    <a:lnTo>
                      <a:pt x="1386" y="1584"/>
                    </a:lnTo>
                    <a:lnTo>
                      <a:pt x="1386" y="1572"/>
                    </a:lnTo>
                    <a:lnTo>
                      <a:pt x="1386" y="1560"/>
                    </a:lnTo>
                    <a:lnTo>
                      <a:pt x="1374" y="1560"/>
                    </a:lnTo>
                    <a:lnTo>
                      <a:pt x="1368" y="1560"/>
                    </a:lnTo>
                    <a:lnTo>
                      <a:pt x="1362" y="1566"/>
                    </a:lnTo>
                    <a:lnTo>
                      <a:pt x="1356" y="1572"/>
                    </a:lnTo>
                    <a:lnTo>
                      <a:pt x="1350" y="1578"/>
                    </a:lnTo>
                    <a:lnTo>
                      <a:pt x="1344" y="1578"/>
                    </a:lnTo>
                    <a:lnTo>
                      <a:pt x="1338" y="1584"/>
                    </a:lnTo>
                    <a:lnTo>
                      <a:pt x="1332" y="1584"/>
                    </a:lnTo>
                    <a:lnTo>
                      <a:pt x="1320" y="1584"/>
                    </a:lnTo>
                    <a:lnTo>
                      <a:pt x="1314" y="1584"/>
                    </a:lnTo>
                    <a:lnTo>
                      <a:pt x="1308" y="1584"/>
                    </a:lnTo>
                    <a:lnTo>
                      <a:pt x="1302" y="1578"/>
                    </a:lnTo>
                    <a:lnTo>
                      <a:pt x="1308" y="1572"/>
                    </a:lnTo>
                    <a:lnTo>
                      <a:pt x="1320" y="1560"/>
                    </a:lnTo>
                    <a:lnTo>
                      <a:pt x="1326" y="1554"/>
                    </a:lnTo>
                    <a:lnTo>
                      <a:pt x="1332" y="1542"/>
                    </a:lnTo>
                    <a:lnTo>
                      <a:pt x="1338" y="1530"/>
                    </a:lnTo>
                    <a:lnTo>
                      <a:pt x="1338" y="1524"/>
                    </a:lnTo>
                    <a:lnTo>
                      <a:pt x="1326" y="1518"/>
                    </a:lnTo>
                    <a:lnTo>
                      <a:pt x="1314" y="1518"/>
                    </a:lnTo>
                    <a:lnTo>
                      <a:pt x="1302" y="1518"/>
                    </a:lnTo>
                    <a:lnTo>
                      <a:pt x="1290" y="1524"/>
                    </a:lnTo>
                    <a:lnTo>
                      <a:pt x="1272" y="1518"/>
                    </a:lnTo>
                    <a:lnTo>
                      <a:pt x="1260" y="1506"/>
                    </a:lnTo>
                    <a:lnTo>
                      <a:pt x="1272" y="1500"/>
                    </a:lnTo>
                    <a:lnTo>
                      <a:pt x="1278" y="1494"/>
                    </a:lnTo>
                    <a:lnTo>
                      <a:pt x="1284" y="1488"/>
                    </a:lnTo>
                    <a:lnTo>
                      <a:pt x="1290" y="1482"/>
                    </a:lnTo>
                    <a:lnTo>
                      <a:pt x="1296" y="1470"/>
                    </a:lnTo>
                    <a:lnTo>
                      <a:pt x="1302" y="1464"/>
                    </a:lnTo>
                    <a:lnTo>
                      <a:pt x="1296" y="1458"/>
                    </a:lnTo>
                    <a:lnTo>
                      <a:pt x="1284" y="1452"/>
                    </a:lnTo>
                    <a:lnTo>
                      <a:pt x="1272" y="1452"/>
                    </a:lnTo>
                    <a:lnTo>
                      <a:pt x="1266" y="1452"/>
                    </a:lnTo>
                    <a:lnTo>
                      <a:pt x="1254" y="1452"/>
                    </a:lnTo>
                    <a:lnTo>
                      <a:pt x="1242" y="1446"/>
                    </a:lnTo>
                    <a:lnTo>
                      <a:pt x="1248" y="1440"/>
                    </a:lnTo>
                    <a:lnTo>
                      <a:pt x="1254" y="1434"/>
                    </a:lnTo>
                    <a:lnTo>
                      <a:pt x="1260" y="1434"/>
                    </a:lnTo>
                    <a:lnTo>
                      <a:pt x="1266" y="1428"/>
                    </a:lnTo>
                    <a:lnTo>
                      <a:pt x="1266" y="1422"/>
                    </a:lnTo>
                    <a:lnTo>
                      <a:pt x="1266" y="1416"/>
                    </a:lnTo>
                    <a:lnTo>
                      <a:pt x="1260" y="1416"/>
                    </a:lnTo>
                    <a:lnTo>
                      <a:pt x="1248" y="1410"/>
                    </a:lnTo>
                    <a:lnTo>
                      <a:pt x="1242" y="1410"/>
                    </a:lnTo>
                    <a:lnTo>
                      <a:pt x="1236" y="1404"/>
                    </a:lnTo>
                    <a:lnTo>
                      <a:pt x="1236" y="1398"/>
                    </a:lnTo>
                    <a:lnTo>
                      <a:pt x="1230" y="1386"/>
                    </a:lnTo>
                    <a:lnTo>
                      <a:pt x="1224" y="1380"/>
                    </a:lnTo>
                    <a:lnTo>
                      <a:pt x="1224" y="1374"/>
                    </a:lnTo>
                    <a:lnTo>
                      <a:pt x="1218" y="1368"/>
                    </a:lnTo>
                    <a:lnTo>
                      <a:pt x="1224" y="1356"/>
                    </a:lnTo>
                    <a:lnTo>
                      <a:pt x="1230" y="1362"/>
                    </a:lnTo>
                    <a:lnTo>
                      <a:pt x="1236" y="1368"/>
                    </a:lnTo>
                    <a:lnTo>
                      <a:pt x="1242" y="1374"/>
                    </a:lnTo>
                    <a:lnTo>
                      <a:pt x="1248" y="1380"/>
                    </a:lnTo>
                    <a:lnTo>
                      <a:pt x="1260" y="1386"/>
                    </a:lnTo>
                    <a:lnTo>
                      <a:pt x="1266" y="1386"/>
                    </a:lnTo>
                    <a:lnTo>
                      <a:pt x="1290" y="1398"/>
                    </a:lnTo>
                    <a:lnTo>
                      <a:pt x="1314" y="1398"/>
                    </a:lnTo>
                    <a:lnTo>
                      <a:pt x="1338" y="1404"/>
                    </a:lnTo>
                    <a:lnTo>
                      <a:pt x="1362" y="1404"/>
                    </a:lnTo>
                    <a:lnTo>
                      <a:pt x="1386" y="1404"/>
                    </a:lnTo>
                    <a:lnTo>
                      <a:pt x="1410" y="1404"/>
                    </a:lnTo>
                    <a:lnTo>
                      <a:pt x="1428" y="1398"/>
                    </a:lnTo>
                    <a:lnTo>
                      <a:pt x="1452" y="1392"/>
                    </a:lnTo>
                    <a:lnTo>
                      <a:pt x="1470" y="1380"/>
                    </a:lnTo>
                    <a:lnTo>
                      <a:pt x="1488" y="1374"/>
                    </a:lnTo>
                    <a:lnTo>
                      <a:pt x="1506" y="1368"/>
                    </a:lnTo>
                    <a:lnTo>
                      <a:pt x="1524" y="1350"/>
                    </a:lnTo>
                    <a:lnTo>
                      <a:pt x="1560" y="1314"/>
                    </a:lnTo>
                    <a:lnTo>
                      <a:pt x="1590" y="1272"/>
                    </a:lnTo>
                    <a:lnTo>
                      <a:pt x="1608" y="1230"/>
                    </a:lnTo>
                    <a:lnTo>
                      <a:pt x="1620" y="1182"/>
                    </a:lnTo>
                    <a:lnTo>
                      <a:pt x="1632" y="1128"/>
                    </a:lnTo>
                    <a:lnTo>
                      <a:pt x="1644" y="1080"/>
                    </a:lnTo>
                    <a:lnTo>
                      <a:pt x="1650" y="1074"/>
                    </a:lnTo>
                    <a:lnTo>
                      <a:pt x="1656" y="1068"/>
                    </a:lnTo>
                    <a:lnTo>
                      <a:pt x="1662" y="1062"/>
                    </a:lnTo>
                    <a:lnTo>
                      <a:pt x="1668" y="1056"/>
                    </a:lnTo>
                    <a:lnTo>
                      <a:pt x="1674" y="1050"/>
                    </a:lnTo>
                    <a:lnTo>
                      <a:pt x="1680" y="1038"/>
                    </a:lnTo>
                    <a:lnTo>
                      <a:pt x="1662" y="1038"/>
                    </a:lnTo>
                    <a:lnTo>
                      <a:pt x="1650" y="1038"/>
                    </a:lnTo>
                    <a:lnTo>
                      <a:pt x="1632" y="1044"/>
                    </a:lnTo>
                    <a:lnTo>
                      <a:pt x="1620" y="1056"/>
                    </a:lnTo>
                    <a:lnTo>
                      <a:pt x="1608" y="1062"/>
                    </a:lnTo>
                    <a:lnTo>
                      <a:pt x="1596" y="1068"/>
                    </a:lnTo>
                    <a:lnTo>
                      <a:pt x="1590" y="1062"/>
                    </a:lnTo>
                    <a:lnTo>
                      <a:pt x="1590" y="1056"/>
                    </a:lnTo>
                    <a:lnTo>
                      <a:pt x="1584" y="1056"/>
                    </a:lnTo>
                    <a:lnTo>
                      <a:pt x="1584" y="1050"/>
                    </a:lnTo>
                    <a:lnTo>
                      <a:pt x="1596" y="1038"/>
                    </a:lnTo>
                    <a:lnTo>
                      <a:pt x="1608" y="1032"/>
                    </a:lnTo>
                    <a:lnTo>
                      <a:pt x="1620" y="1020"/>
                    </a:lnTo>
                    <a:lnTo>
                      <a:pt x="1632" y="1014"/>
                    </a:lnTo>
                    <a:lnTo>
                      <a:pt x="1644" y="1002"/>
                    </a:lnTo>
                    <a:lnTo>
                      <a:pt x="1656" y="990"/>
                    </a:lnTo>
                    <a:lnTo>
                      <a:pt x="1662" y="972"/>
                    </a:lnTo>
                    <a:lnTo>
                      <a:pt x="1668" y="954"/>
                    </a:lnTo>
                    <a:lnTo>
                      <a:pt x="1674" y="936"/>
                    </a:lnTo>
                    <a:lnTo>
                      <a:pt x="1680" y="918"/>
                    </a:lnTo>
                    <a:lnTo>
                      <a:pt x="1674" y="900"/>
                    </a:lnTo>
                    <a:lnTo>
                      <a:pt x="1674" y="876"/>
                    </a:lnTo>
                    <a:lnTo>
                      <a:pt x="1662" y="870"/>
                    </a:lnTo>
                    <a:lnTo>
                      <a:pt x="1650" y="864"/>
                    </a:lnTo>
                    <a:lnTo>
                      <a:pt x="1638" y="858"/>
                    </a:lnTo>
                    <a:lnTo>
                      <a:pt x="1626" y="858"/>
                    </a:lnTo>
                    <a:lnTo>
                      <a:pt x="1614" y="852"/>
                    </a:lnTo>
                    <a:lnTo>
                      <a:pt x="1602" y="852"/>
                    </a:lnTo>
                    <a:lnTo>
                      <a:pt x="1602" y="858"/>
                    </a:lnTo>
                    <a:lnTo>
                      <a:pt x="1602" y="864"/>
                    </a:lnTo>
                    <a:lnTo>
                      <a:pt x="1608" y="870"/>
                    </a:lnTo>
                    <a:lnTo>
                      <a:pt x="1614" y="876"/>
                    </a:lnTo>
                    <a:lnTo>
                      <a:pt x="1620" y="876"/>
                    </a:lnTo>
                    <a:lnTo>
                      <a:pt x="1626" y="882"/>
                    </a:lnTo>
                    <a:lnTo>
                      <a:pt x="1626" y="894"/>
                    </a:lnTo>
                    <a:lnTo>
                      <a:pt x="1626" y="906"/>
                    </a:lnTo>
                    <a:lnTo>
                      <a:pt x="1626" y="912"/>
                    </a:lnTo>
                    <a:lnTo>
                      <a:pt x="1620" y="924"/>
                    </a:lnTo>
                    <a:lnTo>
                      <a:pt x="1614" y="930"/>
                    </a:lnTo>
                    <a:lnTo>
                      <a:pt x="1608" y="942"/>
                    </a:lnTo>
                    <a:lnTo>
                      <a:pt x="1602" y="948"/>
                    </a:lnTo>
                    <a:lnTo>
                      <a:pt x="1590" y="954"/>
                    </a:lnTo>
                    <a:lnTo>
                      <a:pt x="1578" y="960"/>
                    </a:lnTo>
                    <a:lnTo>
                      <a:pt x="1572" y="972"/>
                    </a:lnTo>
                    <a:lnTo>
                      <a:pt x="1560" y="978"/>
                    </a:lnTo>
                    <a:lnTo>
                      <a:pt x="1548" y="984"/>
                    </a:lnTo>
                    <a:lnTo>
                      <a:pt x="1548" y="966"/>
                    </a:lnTo>
                    <a:lnTo>
                      <a:pt x="1542" y="954"/>
                    </a:lnTo>
                    <a:lnTo>
                      <a:pt x="1536" y="936"/>
                    </a:lnTo>
                    <a:lnTo>
                      <a:pt x="1530" y="924"/>
                    </a:lnTo>
                    <a:lnTo>
                      <a:pt x="1518" y="906"/>
                    </a:lnTo>
                    <a:lnTo>
                      <a:pt x="1506" y="894"/>
                    </a:lnTo>
                    <a:lnTo>
                      <a:pt x="1494" y="864"/>
                    </a:lnTo>
                    <a:lnTo>
                      <a:pt x="1476" y="834"/>
                    </a:lnTo>
                    <a:lnTo>
                      <a:pt x="1458" y="798"/>
                    </a:lnTo>
                    <a:lnTo>
                      <a:pt x="1446" y="768"/>
                    </a:lnTo>
                    <a:lnTo>
                      <a:pt x="1434" y="732"/>
                    </a:lnTo>
                    <a:lnTo>
                      <a:pt x="1434" y="690"/>
                    </a:lnTo>
                    <a:lnTo>
                      <a:pt x="1440" y="678"/>
                    </a:lnTo>
                    <a:lnTo>
                      <a:pt x="1452" y="672"/>
                    </a:lnTo>
                    <a:lnTo>
                      <a:pt x="1464" y="666"/>
                    </a:lnTo>
                    <a:lnTo>
                      <a:pt x="1476" y="666"/>
                    </a:lnTo>
                    <a:lnTo>
                      <a:pt x="1488" y="666"/>
                    </a:lnTo>
                    <a:lnTo>
                      <a:pt x="1500" y="666"/>
                    </a:lnTo>
                    <a:lnTo>
                      <a:pt x="1512" y="672"/>
                    </a:lnTo>
                    <a:lnTo>
                      <a:pt x="1512" y="678"/>
                    </a:lnTo>
                    <a:lnTo>
                      <a:pt x="1518" y="684"/>
                    </a:lnTo>
                    <a:lnTo>
                      <a:pt x="1518" y="690"/>
                    </a:lnTo>
                    <a:lnTo>
                      <a:pt x="1524" y="696"/>
                    </a:lnTo>
                    <a:lnTo>
                      <a:pt x="1530" y="696"/>
                    </a:lnTo>
                    <a:lnTo>
                      <a:pt x="1530" y="654"/>
                    </a:lnTo>
                    <a:lnTo>
                      <a:pt x="1530" y="648"/>
                    </a:lnTo>
                    <a:lnTo>
                      <a:pt x="1524" y="636"/>
                    </a:lnTo>
                    <a:lnTo>
                      <a:pt x="1518" y="630"/>
                    </a:lnTo>
                    <a:lnTo>
                      <a:pt x="1512" y="624"/>
                    </a:lnTo>
                    <a:lnTo>
                      <a:pt x="1506" y="618"/>
                    </a:lnTo>
                    <a:lnTo>
                      <a:pt x="1494" y="612"/>
                    </a:lnTo>
                    <a:lnTo>
                      <a:pt x="1488" y="612"/>
                    </a:lnTo>
                    <a:lnTo>
                      <a:pt x="1482" y="612"/>
                    </a:lnTo>
                    <a:lnTo>
                      <a:pt x="1482" y="606"/>
                    </a:lnTo>
                    <a:lnTo>
                      <a:pt x="1464" y="606"/>
                    </a:lnTo>
                    <a:lnTo>
                      <a:pt x="1446" y="606"/>
                    </a:lnTo>
                    <a:lnTo>
                      <a:pt x="1434" y="612"/>
                    </a:lnTo>
                    <a:lnTo>
                      <a:pt x="1422" y="618"/>
                    </a:lnTo>
                    <a:lnTo>
                      <a:pt x="1404" y="630"/>
                    </a:lnTo>
                    <a:lnTo>
                      <a:pt x="1392" y="642"/>
                    </a:lnTo>
                    <a:lnTo>
                      <a:pt x="1386" y="612"/>
                    </a:lnTo>
                    <a:lnTo>
                      <a:pt x="1380" y="588"/>
                    </a:lnTo>
                    <a:lnTo>
                      <a:pt x="1380" y="558"/>
                    </a:lnTo>
                    <a:lnTo>
                      <a:pt x="1380" y="528"/>
                    </a:lnTo>
                    <a:lnTo>
                      <a:pt x="1386" y="498"/>
                    </a:lnTo>
                    <a:lnTo>
                      <a:pt x="1392" y="474"/>
                    </a:lnTo>
                    <a:lnTo>
                      <a:pt x="1404" y="444"/>
                    </a:lnTo>
                    <a:lnTo>
                      <a:pt x="1422" y="420"/>
                    </a:lnTo>
                    <a:lnTo>
                      <a:pt x="1440" y="390"/>
                    </a:lnTo>
                    <a:lnTo>
                      <a:pt x="1464" y="366"/>
                    </a:lnTo>
                    <a:lnTo>
                      <a:pt x="1488" y="348"/>
                    </a:lnTo>
                    <a:lnTo>
                      <a:pt x="1518" y="330"/>
                    </a:lnTo>
                    <a:lnTo>
                      <a:pt x="1536" y="330"/>
                    </a:lnTo>
                    <a:lnTo>
                      <a:pt x="1548" y="336"/>
                    </a:lnTo>
                    <a:lnTo>
                      <a:pt x="1566" y="342"/>
                    </a:lnTo>
                    <a:lnTo>
                      <a:pt x="1578" y="354"/>
                    </a:lnTo>
                    <a:lnTo>
                      <a:pt x="1590" y="366"/>
                    </a:lnTo>
                    <a:lnTo>
                      <a:pt x="1596" y="378"/>
                    </a:lnTo>
                    <a:lnTo>
                      <a:pt x="1602" y="396"/>
                    </a:lnTo>
                    <a:lnTo>
                      <a:pt x="1602" y="408"/>
                    </a:lnTo>
                    <a:lnTo>
                      <a:pt x="1602" y="420"/>
                    </a:lnTo>
                    <a:lnTo>
                      <a:pt x="1596" y="438"/>
                    </a:lnTo>
                    <a:lnTo>
                      <a:pt x="1590" y="450"/>
                    </a:lnTo>
                    <a:lnTo>
                      <a:pt x="1584" y="462"/>
                    </a:lnTo>
                    <a:lnTo>
                      <a:pt x="1578" y="468"/>
                    </a:lnTo>
                    <a:lnTo>
                      <a:pt x="1572" y="468"/>
                    </a:lnTo>
                    <a:lnTo>
                      <a:pt x="1566" y="468"/>
                    </a:lnTo>
                    <a:lnTo>
                      <a:pt x="1554" y="468"/>
                    </a:lnTo>
                    <a:lnTo>
                      <a:pt x="1548" y="468"/>
                    </a:lnTo>
                    <a:lnTo>
                      <a:pt x="1542" y="474"/>
                    </a:lnTo>
                    <a:lnTo>
                      <a:pt x="1530" y="468"/>
                    </a:lnTo>
                    <a:lnTo>
                      <a:pt x="1524" y="462"/>
                    </a:lnTo>
                    <a:lnTo>
                      <a:pt x="1524" y="450"/>
                    </a:lnTo>
                    <a:lnTo>
                      <a:pt x="1518" y="444"/>
                    </a:lnTo>
                    <a:lnTo>
                      <a:pt x="1518" y="432"/>
                    </a:lnTo>
                    <a:lnTo>
                      <a:pt x="1518" y="426"/>
                    </a:lnTo>
                    <a:lnTo>
                      <a:pt x="1506" y="426"/>
                    </a:lnTo>
                    <a:lnTo>
                      <a:pt x="1500" y="426"/>
                    </a:lnTo>
                    <a:lnTo>
                      <a:pt x="1500" y="432"/>
                    </a:lnTo>
                    <a:lnTo>
                      <a:pt x="1500" y="438"/>
                    </a:lnTo>
                    <a:lnTo>
                      <a:pt x="1494" y="444"/>
                    </a:lnTo>
                    <a:lnTo>
                      <a:pt x="1488" y="450"/>
                    </a:lnTo>
                    <a:lnTo>
                      <a:pt x="1488" y="462"/>
                    </a:lnTo>
                    <a:lnTo>
                      <a:pt x="1488" y="474"/>
                    </a:lnTo>
                    <a:lnTo>
                      <a:pt x="1494" y="480"/>
                    </a:lnTo>
                    <a:lnTo>
                      <a:pt x="1500" y="486"/>
                    </a:lnTo>
                    <a:lnTo>
                      <a:pt x="1506" y="498"/>
                    </a:lnTo>
                    <a:lnTo>
                      <a:pt x="1506" y="504"/>
                    </a:lnTo>
                    <a:lnTo>
                      <a:pt x="1512" y="510"/>
                    </a:lnTo>
                    <a:lnTo>
                      <a:pt x="1524" y="516"/>
                    </a:lnTo>
                    <a:lnTo>
                      <a:pt x="1530" y="516"/>
                    </a:lnTo>
                    <a:lnTo>
                      <a:pt x="1536" y="516"/>
                    </a:lnTo>
                    <a:lnTo>
                      <a:pt x="1542" y="516"/>
                    </a:lnTo>
                    <a:lnTo>
                      <a:pt x="1548" y="516"/>
                    </a:lnTo>
                    <a:lnTo>
                      <a:pt x="1548" y="522"/>
                    </a:lnTo>
                    <a:lnTo>
                      <a:pt x="1548" y="528"/>
                    </a:lnTo>
                    <a:lnTo>
                      <a:pt x="1548" y="534"/>
                    </a:lnTo>
                    <a:lnTo>
                      <a:pt x="1542" y="534"/>
                    </a:lnTo>
                    <a:lnTo>
                      <a:pt x="1542" y="540"/>
                    </a:lnTo>
                    <a:lnTo>
                      <a:pt x="1542" y="552"/>
                    </a:lnTo>
                    <a:lnTo>
                      <a:pt x="1542" y="558"/>
                    </a:lnTo>
                    <a:lnTo>
                      <a:pt x="1548" y="570"/>
                    </a:lnTo>
                    <a:lnTo>
                      <a:pt x="1548" y="576"/>
                    </a:lnTo>
                    <a:lnTo>
                      <a:pt x="1554" y="582"/>
                    </a:lnTo>
                    <a:lnTo>
                      <a:pt x="1566" y="588"/>
                    </a:lnTo>
                    <a:lnTo>
                      <a:pt x="1566" y="594"/>
                    </a:lnTo>
                    <a:lnTo>
                      <a:pt x="1572" y="594"/>
                    </a:lnTo>
                    <a:lnTo>
                      <a:pt x="1578" y="594"/>
                    </a:lnTo>
                    <a:lnTo>
                      <a:pt x="1584" y="594"/>
                    </a:lnTo>
                    <a:lnTo>
                      <a:pt x="1590" y="594"/>
                    </a:lnTo>
                    <a:lnTo>
                      <a:pt x="1590" y="588"/>
                    </a:lnTo>
                    <a:lnTo>
                      <a:pt x="1590" y="582"/>
                    </a:lnTo>
                    <a:lnTo>
                      <a:pt x="1584" y="576"/>
                    </a:lnTo>
                    <a:lnTo>
                      <a:pt x="1584" y="570"/>
                    </a:lnTo>
                    <a:lnTo>
                      <a:pt x="1578" y="570"/>
                    </a:lnTo>
                    <a:lnTo>
                      <a:pt x="1578" y="564"/>
                    </a:lnTo>
                    <a:lnTo>
                      <a:pt x="1590" y="540"/>
                    </a:lnTo>
                    <a:lnTo>
                      <a:pt x="1608" y="522"/>
                    </a:lnTo>
                    <a:lnTo>
                      <a:pt x="1626" y="510"/>
                    </a:lnTo>
                    <a:lnTo>
                      <a:pt x="1650" y="492"/>
                    </a:lnTo>
                    <a:lnTo>
                      <a:pt x="1668" y="474"/>
                    </a:lnTo>
                    <a:lnTo>
                      <a:pt x="1686" y="456"/>
                    </a:lnTo>
                    <a:lnTo>
                      <a:pt x="1692" y="432"/>
                    </a:lnTo>
                    <a:lnTo>
                      <a:pt x="1704" y="414"/>
                    </a:lnTo>
                    <a:lnTo>
                      <a:pt x="1710" y="390"/>
                    </a:lnTo>
                    <a:lnTo>
                      <a:pt x="1710" y="366"/>
                    </a:lnTo>
                    <a:lnTo>
                      <a:pt x="1710" y="342"/>
                    </a:lnTo>
                    <a:lnTo>
                      <a:pt x="1698" y="318"/>
                    </a:lnTo>
                    <a:lnTo>
                      <a:pt x="1686" y="300"/>
                    </a:lnTo>
                    <a:lnTo>
                      <a:pt x="1662" y="282"/>
                    </a:lnTo>
                    <a:lnTo>
                      <a:pt x="1638" y="270"/>
                    </a:lnTo>
                    <a:lnTo>
                      <a:pt x="1614" y="264"/>
                    </a:lnTo>
                    <a:lnTo>
                      <a:pt x="1590" y="258"/>
                    </a:lnTo>
                    <a:lnTo>
                      <a:pt x="1560" y="258"/>
                    </a:lnTo>
                    <a:lnTo>
                      <a:pt x="1572" y="252"/>
                    </a:lnTo>
                    <a:lnTo>
                      <a:pt x="1584" y="246"/>
                    </a:lnTo>
                    <a:lnTo>
                      <a:pt x="1596" y="246"/>
                    </a:lnTo>
                    <a:lnTo>
                      <a:pt x="1608" y="246"/>
                    </a:lnTo>
                    <a:lnTo>
                      <a:pt x="1620" y="246"/>
                    </a:lnTo>
                    <a:lnTo>
                      <a:pt x="1632" y="252"/>
                    </a:lnTo>
                    <a:lnTo>
                      <a:pt x="1650" y="246"/>
                    </a:lnTo>
                    <a:lnTo>
                      <a:pt x="1668" y="246"/>
                    </a:lnTo>
                    <a:lnTo>
                      <a:pt x="1686" y="234"/>
                    </a:lnTo>
                    <a:lnTo>
                      <a:pt x="1698" y="228"/>
                    </a:lnTo>
                    <a:lnTo>
                      <a:pt x="1716" y="216"/>
                    </a:lnTo>
                    <a:lnTo>
                      <a:pt x="1722" y="198"/>
                    </a:lnTo>
                    <a:lnTo>
                      <a:pt x="1728" y="198"/>
                    </a:lnTo>
                    <a:lnTo>
                      <a:pt x="1740" y="174"/>
                    </a:lnTo>
                    <a:lnTo>
                      <a:pt x="1746" y="156"/>
                    </a:lnTo>
                    <a:lnTo>
                      <a:pt x="1746" y="132"/>
                    </a:lnTo>
                    <a:lnTo>
                      <a:pt x="1740" y="114"/>
                    </a:lnTo>
                    <a:lnTo>
                      <a:pt x="1734" y="96"/>
                    </a:lnTo>
                    <a:lnTo>
                      <a:pt x="1728" y="78"/>
                    </a:lnTo>
                    <a:lnTo>
                      <a:pt x="1716" y="60"/>
                    </a:lnTo>
                    <a:lnTo>
                      <a:pt x="1698" y="48"/>
                    </a:lnTo>
                    <a:lnTo>
                      <a:pt x="1686" y="42"/>
                    </a:lnTo>
                    <a:lnTo>
                      <a:pt x="1668" y="36"/>
                    </a:lnTo>
                    <a:lnTo>
                      <a:pt x="1650" y="30"/>
                    </a:lnTo>
                    <a:lnTo>
                      <a:pt x="1632" y="30"/>
                    </a:lnTo>
                    <a:lnTo>
                      <a:pt x="1620" y="30"/>
                    </a:lnTo>
                    <a:lnTo>
                      <a:pt x="1608" y="36"/>
                    </a:lnTo>
                    <a:lnTo>
                      <a:pt x="1602" y="36"/>
                    </a:lnTo>
                    <a:lnTo>
                      <a:pt x="1596" y="42"/>
                    </a:lnTo>
                    <a:lnTo>
                      <a:pt x="1590" y="48"/>
                    </a:lnTo>
                    <a:lnTo>
                      <a:pt x="1584" y="54"/>
                    </a:lnTo>
                    <a:lnTo>
                      <a:pt x="1578" y="60"/>
                    </a:lnTo>
                    <a:lnTo>
                      <a:pt x="1578" y="66"/>
                    </a:lnTo>
                    <a:lnTo>
                      <a:pt x="1578" y="78"/>
                    </a:lnTo>
                    <a:lnTo>
                      <a:pt x="1578" y="84"/>
                    </a:lnTo>
                    <a:lnTo>
                      <a:pt x="1578" y="90"/>
                    </a:lnTo>
                    <a:lnTo>
                      <a:pt x="1584" y="96"/>
                    </a:lnTo>
                    <a:lnTo>
                      <a:pt x="1590" y="102"/>
                    </a:lnTo>
                    <a:lnTo>
                      <a:pt x="1614" y="84"/>
                    </a:lnTo>
                    <a:lnTo>
                      <a:pt x="1620" y="78"/>
                    </a:lnTo>
                    <a:lnTo>
                      <a:pt x="1626" y="78"/>
                    </a:lnTo>
                    <a:lnTo>
                      <a:pt x="1632" y="78"/>
                    </a:lnTo>
                    <a:lnTo>
                      <a:pt x="1638" y="78"/>
                    </a:lnTo>
                    <a:lnTo>
                      <a:pt x="1644" y="84"/>
                    </a:lnTo>
                    <a:lnTo>
                      <a:pt x="1644" y="90"/>
                    </a:lnTo>
                    <a:lnTo>
                      <a:pt x="1650" y="102"/>
                    </a:lnTo>
                    <a:lnTo>
                      <a:pt x="1650" y="108"/>
                    </a:lnTo>
                    <a:lnTo>
                      <a:pt x="1644" y="120"/>
                    </a:lnTo>
                    <a:lnTo>
                      <a:pt x="1644" y="132"/>
                    </a:lnTo>
                    <a:lnTo>
                      <a:pt x="1638" y="138"/>
                    </a:lnTo>
                    <a:lnTo>
                      <a:pt x="1638" y="150"/>
                    </a:lnTo>
                    <a:lnTo>
                      <a:pt x="1620" y="168"/>
                    </a:lnTo>
                    <a:lnTo>
                      <a:pt x="1596" y="174"/>
                    </a:lnTo>
                    <a:lnTo>
                      <a:pt x="1572" y="174"/>
                    </a:lnTo>
                    <a:lnTo>
                      <a:pt x="1548" y="168"/>
                    </a:lnTo>
                    <a:lnTo>
                      <a:pt x="1524" y="168"/>
                    </a:lnTo>
                    <a:lnTo>
                      <a:pt x="1506" y="174"/>
                    </a:lnTo>
                    <a:lnTo>
                      <a:pt x="1506" y="168"/>
                    </a:lnTo>
                    <a:lnTo>
                      <a:pt x="1506" y="162"/>
                    </a:lnTo>
                    <a:lnTo>
                      <a:pt x="1506" y="156"/>
                    </a:lnTo>
                    <a:lnTo>
                      <a:pt x="1500" y="156"/>
                    </a:lnTo>
                    <a:lnTo>
                      <a:pt x="1500" y="150"/>
                    </a:lnTo>
                    <a:lnTo>
                      <a:pt x="1500" y="144"/>
                    </a:lnTo>
                    <a:lnTo>
                      <a:pt x="1500" y="132"/>
                    </a:lnTo>
                    <a:lnTo>
                      <a:pt x="1494" y="132"/>
                    </a:lnTo>
                    <a:lnTo>
                      <a:pt x="1494" y="126"/>
                    </a:lnTo>
                    <a:lnTo>
                      <a:pt x="1488" y="120"/>
                    </a:lnTo>
                    <a:lnTo>
                      <a:pt x="1482" y="108"/>
                    </a:lnTo>
                    <a:lnTo>
                      <a:pt x="1464" y="96"/>
                    </a:lnTo>
                    <a:lnTo>
                      <a:pt x="1440" y="84"/>
                    </a:lnTo>
                    <a:lnTo>
                      <a:pt x="1422" y="84"/>
                    </a:lnTo>
                    <a:lnTo>
                      <a:pt x="1398" y="84"/>
                    </a:lnTo>
                    <a:lnTo>
                      <a:pt x="1374" y="84"/>
                    </a:lnTo>
                    <a:lnTo>
                      <a:pt x="1356" y="90"/>
                    </a:lnTo>
                    <a:lnTo>
                      <a:pt x="1344" y="102"/>
                    </a:lnTo>
                    <a:lnTo>
                      <a:pt x="1332" y="108"/>
                    </a:lnTo>
                    <a:lnTo>
                      <a:pt x="1320" y="120"/>
                    </a:lnTo>
                    <a:lnTo>
                      <a:pt x="1314" y="132"/>
                    </a:lnTo>
                    <a:lnTo>
                      <a:pt x="1308" y="144"/>
                    </a:lnTo>
                    <a:lnTo>
                      <a:pt x="1302" y="156"/>
                    </a:lnTo>
                    <a:lnTo>
                      <a:pt x="1308" y="168"/>
                    </a:lnTo>
                    <a:lnTo>
                      <a:pt x="1308" y="174"/>
                    </a:lnTo>
                    <a:lnTo>
                      <a:pt x="1308" y="180"/>
                    </a:lnTo>
                    <a:lnTo>
                      <a:pt x="1314" y="186"/>
                    </a:lnTo>
                    <a:lnTo>
                      <a:pt x="1314" y="192"/>
                    </a:lnTo>
                    <a:lnTo>
                      <a:pt x="1320" y="198"/>
                    </a:lnTo>
                    <a:lnTo>
                      <a:pt x="1332" y="204"/>
                    </a:lnTo>
                    <a:lnTo>
                      <a:pt x="1338" y="204"/>
                    </a:lnTo>
                    <a:lnTo>
                      <a:pt x="1344" y="210"/>
                    </a:lnTo>
                    <a:lnTo>
                      <a:pt x="1350" y="210"/>
                    </a:lnTo>
                    <a:lnTo>
                      <a:pt x="1356" y="210"/>
                    </a:lnTo>
                    <a:lnTo>
                      <a:pt x="1362" y="210"/>
                    </a:lnTo>
                    <a:lnTo>
                      <a:pt x="1362" y="204"/>
                    </a:lnTo>
                    <a:lnTo>
                      <a:pt x="1362" y="198"/>
                    </a:lnTo>
                    <a:lnTo>
                      <a:pt x="1356" y="198"/>
                    </a:lnTo>
                    <a:lnTo>
                      <a:pt x="1356" y="192"/>
                    </a:lnTo>
                    <a:lnTo>
                      <a:pt x="1356" y="186"/>
                    </a:lnTo>
                    <a:lnTo>
                      <a:pt x="1356" y="180"/>
                    </a:lnTo>
                    <a:lnTo>
                      <a:pt x="1356" y="174"/>
                    </a:lnTo>
                    <a:lnTo>
                      <a:pt x="1362" y="174"/>
                    </a:lnTo>
                    <a:lnTo>
                      <a:pt x="1368" y="168"/>
                    </a:lnTo>
                    <a:lnTo>
                      <a:pt x="1374" y="162"/>
                    </a:lnTo>
                    <a:lnTo>
                      <a:pt x="1380" y="162"/>
                    </a:lnTo>
                    <a:lnTo>
                      <a:pt x="1386" y="168"/>
                    </a:lnTo>
                    <a:lnTo>
                      <a:pt x="1398" y="168"/>
                    </a:lnTo>
                    <a:lnTo>
                      <a:pt x="1404" y="174"/>
                    </a:lnTo>
                    <a:lnTo>
                      <a:pt x="1404" y="186"/>
                    </a:lnTo>
                    <a:lnTo>
                      <a:pt x="1404" y="192"/>
                    </a:lnTo>
                    <a:lnTo>
                      <a:pt x="1410" y="198"/>
                    </a:lnTo>
                    <a:lnTo>
                      <a:pt x="1410" y="204"/>
                    </a:lnTo>
                    <a:lnTo>
                      <a:pt x="1410" y="210"/>
                    </a:lnTo>
                    <a:lnTo>
                      <a:pt x="1410" y="222"/>
                    </a:lnTo>
                    <a:lnTo>
                      <a:pt x="1392" y="258"/>
                    </a:lnTo>
                    <a:lnTo>
                      <a:pt x="1368" y="300"/>
                    </a:lnTo>
                    <a:lnTo>
                      <a:pt x="1350" y="342"/>
                    </a:lnTo>
                    <a:lnTo>
                      <a:pt x="1338" y="384"/>
                    </a:lnTo>
                    <a:lnTo>
                      <a:pt x="1326" y="426"/>
                    </a:lnTo>
                    <a:lnTo>
                      <a:pt x="1314" y="468"/>
                    </a:lnTo>
                    <a:lnTo>
                      <a:pt x="1302" y="534"/>
                    </a:lnTo>
                    <a:lnTo>
                      <a:pt x="1302" y="600"/>
                    </a:lnTo>
                    <a:lnTo>
                      <a:pt x="1314" y="666"/>
                    </a:lnTo>
                    <a:lnTo>
                      <a:pt x="1326" y="732"/>
                    </a:lnTo>
                    <a:lnTo>
                      <a:pt x="1344" y="792"/>
                    </a:lnTo>
                    <a:lnTo>
                      <a:pt x="1356" y="852"/>
                    </a:lnTo>
                    <a:lnTo>
                      <a:pt x="1362" y="870"/>
                    </a:lnTo>
                    <a:lnTo>
                      <a:pt x="1374" y="888"/>
                    </a:lnTo>
                    <a:lnTo>
                      <a:pt x="1386" y="906"/>
                    </a:lnTo>
                    <a:lnTo>
                      <a:pt x="1398" y="924"/>
                    </a:lnTo>
                    <a:lnTo>
                      <a:pt x="1416" y="942"/>
                    </a:lnTo>
                    <a:lnTo>
                      <a:pt x="1422" y="966"/>
                    </a:lnTo>
                    <a:lnTo>
                      <a:pt x="1410" y="966"/>
                    </a:lnTo>
                    <a:lnTo>
                      <a:pt x="1392" y="966"/>
                    </a:lnTo>
                    <a:lnTo>
                      <a:pt x="1380" y="966"/>
                    </a:lnTo>
                    <a:lnTo>
                      <a:pt x="1368" y="966"/>
                    </a:lnTo>
                    <a:lnTo>
                      <a:pt x="1350" y="966"/>
                    </a:lnTo>
                    <a:lnTo>
                      <a:pt x="1338" y="966"/>
                    </a:lnTo>
                    <a:lnTo>
                      <a:pt x="1326" y="960"/>
                    </a:lnTo>
                    <a:lnTo>
                      <a:pt x="1314" y="948"/>
                    </a:lnTo>
                    <a:lnTo>
                      <a:pt x="1308" y="942"/>
                    </a:lnTo>
                    <a:lnTo>
                      <a:pt x="1308" y="930"/>
                    </a:lnTo>
                    <a:lnTo>
                      <a:pt x="1302" y="918"/>
                    </a:lnTo>
                    <a:lnTo>
                      <a:pt x="1302" y="906"/>
                    </a:lnTo>
                    <a:lnTo>
                      <a:pt x="1302" y="900"/>
                    </a:lnTo>
                    <a:lnTo>
                      <a:pt x="1308" y="894"/>
                    </a:lnTo>
                    <a:lnTo>
                      <a:pt x="1314" y="888"/>
                    </a:lnTo>
                    <a:lnTo>
                      <a:pt x="1320" y="882"/>
                    </a:lnTo>
                    <a:lnTo>
                      <a:pt x="1326" y="882"/>
                    </a:lnTo>
                    <a:lnTo>
                      <a:pt x="1332" y="876"/>
                    </a:lnTo>
                    <a:lnTo>
                      <a:pt x="1326" y="870"/>
                    </a:lnTo>
                    <a:lnTo>
                      <a:pt x="1314" y="870"/>
                    </a:lnTo>
                    <a:lnTo>
                      <a:pt x="1302" y="870"/>
                    </a:lnTo>
                    <a:lnTo>
                      <a:pt x="1290" y="870"/>
                    </a:lnTo>
                    <a:lnTo>
                      <a:pt x="1278" y="870"/>
                    </a:lnTo>
                    <a:lnTo>
                      <a:pt x="1266" y="876"/>
                    </a:lnTo>
                    <a:lnTo>
                      <a:pt x="1254" y="882"/>
                    </a:lnTo>
                    <a:lnTo>
                      <a:pt x="1254" y="894"/>
                    </a:lnTo>
                    <a:lnTo>
                      <a:pt x="1248" y="906"/>
                    </a:lnTo>
                    <a:lnTo>
                      <a:pt x="1242" y="924"/>
                    </a:lnTo>
                    <a:lnTo>
                      <a:pt x="1242" y="936"/>
                    </a:lnTo>
                    <a:lnTo>
                      <a:pt x="1242" y="954"/>
                    </a:lnTo>
                    <a:lnTo>
                      <a:pt x="1248" y="966"/>
                    </a:lnTo>
                    <a:lnTo>
                      <a:pt x="1248" y="978"/>
                    </a:lnTo>
                    <a:lnTo>
                      <a:pt x="1254" y="990"/>
                    </a:lnTo>
                    <a:lnTo>
                      <a:pt x="1266" y="996"/>
                    </a:lnTo>
                    <a:lnTo>
                      <a:pt x="1272" y="1008"/>
                    </a:lnTo>
                    <a:lnTo>
                      <a:pt x="1284" y="1014"/>
                    </a:lnTo>
                    <a:lnTo>
                      <a:pt x="1296" y="1014"/>
                    </a:lnTo>
                    <a:lnTo>
                      <a:pt x="1284" y="1020"/>
                    </a:lnTo>
                    <a:lnTo>
                      <a:pt x="1272" y="1020"/>
                    </a:lnTo>
                    <a:lnTo>
                      <a:pt x="1260" y="1020"/>
                    </a:lnTo>
                    <a:lnTo>
                      <a:pt x="1248" y="1026"/>
                    </a:lnTo>
                    <a:lnTo>
                      <a:pt x="1236" y="1026"/>
                    </a:lnTo>
                    <a:lnTo>
                      <a:pt x="1230" y="1026"/>
                    </a:lnTo>
                    <a:lnTo>
                      <a:pt x="1224" y="1032"/>
                    </a:lnTo>
                    <a:lnTo>
                      <a:pt x="1236" y="1044"/>
                    </a:lnTo>
                    <a:lnTo>
                      <a:pt x="1242" y="1050"/>
                    </a:lnTo>
                    <a:lnTo>
                      <a:pt x="1254" y="1056"/>
                    </a:lnTo>
                    <a:lnTo>
                      <a:pt x="1266" y="1062"/>
                    </a:lnTo>
                    <a:lnTo>
                      <a:pt x="1278" y="1068"/>
                    </a:lnTo>
                    <a:lnTo>
                      <a:pt x="1290" y="1068"/>
                    </a:lnTo>
                    <a:lnTo>
                      <a:pt x="1284" y="1074"/>
                    </a:lnTo>
                    <a:lnTo>
                      <a:pt x="1278" y="1080"/>
                    </a:lnTo>
                    <a:lnTo>
                      <a:pt x="1278" y="1086"/>
                    </a:lnTo>
                    <a:lnTo>
                      <a:pt x="1278" y="1092"/>
                    </a:lnTo>
                    <a:lnTo>
                      <a:pt x="1278" y="1098"/>
                    </a:lnTo>
                    <a:lnTo>
                      <a:pt x="1272" y="1104"/>
                    </a:lnTo>
                    <a:lnTo>
                      <a:pt x="1272" y="1122"/>
                    </a:lnTo>
                    <a:lnTo>
                      <a:pt x="1278" y="1140"/>
                    </a:lnTo>
                    <a:lnTo>
                      <a:pt x="1290" y="1152"/>
                    </a:lnTo>
                    <a:lnTo>
                      <a:pt x="1302" y="1164"/>
                    </a:lnTo>
                    <a:lnTo>
                      <a:pt x="1314" y="1176"/>
                    </a:lnTo>
                    <a:lnTo>
                      <a:pt x="1326" y="1182"/>
                    </a:lnTo>
                    <a:lnTo>
                      <a:pt x="1332" y="1188"/>
                    </a:lnTo>
                    <a:lnTo>
                      <a:pt x="1338" y="1188"/>
                    </a:lnTo>
                    <a:lnTo>
                      <a:pt x="1344" y="1188"/>
                    </a:lnTo>
                    <a:lnTo>
                      <a:pt x="1350" y="1188"/>
                    </a:lnTo>
                    <a:lnTo>
                      <a:pt x="1350" y="1194"/>
                    </a:lnTo>
                    <a:lnTo>
                      <a:pt x="1356" y="1194"/>
                    </a:lnTo>
                    <a:lnTo>
                      <a:pt x="1368" y="1194"/>
                    </a:lnTo>
                    <a:lnTo>
                      <a:pt x="1380" y="1188"/>
                    </a:lnTo>
                    <a:lnTo>
                      <a:pt x="1392" y="1182"/>
                    </a:lnTo>
                    <a:lnTo>
                      <a:pt x="1404" y="1176"/>
                    </a:lnTo>
                    <a:lnTo>
                      <a:pt x="1416" y="1164"/>
                    </a:lnTo>
                    <a:lnTo>
                      <a:pt x="1422" y="1152"/>
                    </a:lnTo>
                    <a:lnTo>
                      <a:pt x="1422" y="1146"/>
                    </a:lnTo>
                    <a:lnTo>
                      <a:pt x="1422" y="1140"/>
                    </a:lnTo>
                    <a:lnTo>
                      <a:pt x="1416" y="1134"/>
                    </a:lnTo>
                    <a:lnTo>
                      <a:pt x="1410" y="1134"/>
                    </a:lnTo>
                    <a:lnTo>
                      <a:pt x="1398" y="1140"/>
                    </a:lnTo>
                    <a:lnTo>
                      <a:pt x="1386" y="1140"/>
                    </a:lnTo>
                    <a:lnTo>
                      <a:pt x="1374" y="1146"/>
                    </a:lnTo>
                    <a:lnTo>
                      <a:pt x="1368" y="1146"/>
                    </a:lnTo>
                    <a:lnTo>
                      <a:pt x="1356" y="1140"/>
                    </a:lnTo>
                    <a:lnTo>
                      <a:pt x="1344" y="1140"/>
                    </a:lnTo>
                    <a:lnTo>
                      <a:pt x="1338" y="1128"/>
                    </a:lnTo>
                    <a:lnTo>
                      <a:pt x="1338" y="1122"/>
                    </a:lnTo>
                    <a:lnTo>
                      <a:pt x="1332" y="1116"/>
                    </a:lnTo>
                    <a:lnTo>
                      <a:pt x="1332" y="1110"/>
                    </a:lnTo>
                    <a:lnTo>
                      <a:pt x="1332" y="1104"/>
                    </a:lnTo>
                    <a:lnTo>
                      <a:pt x="1338" y="1098"/>
                    </a:lnTo>
                    <a:lnTo>
                      <a:pt x="1344" y="1086"/>
                    </a:lnTo>
                    <a:lnTo>
                      <a:pt x="1350" y="1080"/>
                    </a:lnTo>
                    <a:lnTo>
                      <a:pt x="1356" y="1074"/>
                    </a:lnTo>
                    <a:lnTo>
                      <a:pt x="1368" y="1068"/>
                    </a:lnTo>
                    <a:lnTo>
                      <a:pt x="1374" y="1062"/>
                    </a:lnTo>
                    <a:lnTo>
                      <a:pt x="1386" y="1056"/>
                    </a:lnTo>
                    <a:lnTo>
                      <a:pt x="1398" y="1056"/>
                    </a:lnTo>
                    <a:lnTo>
                      <a:pt x="1410" y="1056"/>
                    </a:lnTo>
                    <a:lnTo>
                      <a:pt x="1416" y="1062"/>
                    </a:lnTo>
                    <a:lnTo>
                      <a:pt x="1428" y="1068"/>
                    </a:lnTo>
                    <a:lnTo>
                      <a:pt x="1440" y="1068"/>
                    </a:lnTo>
                    <a:lnTo>
                      <a:pt x="1446" y="1074"/>
                    </a:lnTo>
                    <a:lnTo>
                      <a:pt x="1470" y="1092"/>
                    </a:lnTo>
                    <a:lnTo>
                      <a:pt x="1482" y="1110"/>
                    </a:lnTo>
                    <a:lnTo>
                      <a:pt x="1500" y="1134"/>
                    </a:lnTo>
                    <a:lnTo>
                      <a:pt x="1506" y="1158"/>
                    </a:lnTo>
                    <a:lnTo>
                      <a:pt x="1512" y="1182"/>
                    </a:lnTo>
                    <a:lnTo>
                      <a:pt x="1518" y="1206"/>
                    </a:lnTo>
                    <a:lnTo>
                      <a:pt x="1518" y="1218"/>
                    </a:lnTo>
                    <a:lnTo>
                      <a:pt x="1512" y="1230"/>
                    </a:lnTo>
                    <a:lnTo>
                      <a:pt x="1506" y="1236"/>
                    </a:lnTo>
                    <a:lnTo>
                      <a:pt x="1500" y="1248"/>
                    </a:lnTo>
                    <a:lnTo>
                      <a:pt x="1488" y="1254"/>
                    </a:lnTo>
                    <a:lnTo>
                      <a:pt x="1482" y="1266"/>
                    </a:lnTo>
                    <a:lnTo>
                      <a:pt x="1458" y="1290"/>
                    </a:lnTo>
                    <a:lnTo>
                      <a:pt x="1434" y="1302"/>
                    </a:lnTo>
                    <a:lnTo>
                      <a:pt x="1404" y="1308"/>
                    </a:lnTo>
                    <a:lnTo>
                      <a:pt x="1374" y="1314"/>
                    </a:lnTo>
                    <a:lnTo>
                      <a:pt x="1338" y="1314"/>
                    </a:lnTo>
                    <a:lnTo>
                      <a:pt x="1308" y="1308"/>
                    </a:lnTo>
                    <a:lnTo>
                      <a:pt x="1266" y="1302"/>
                    </a:lnTo>
                    <a:lnTo>
                      <a:pt x="1224" y="1278"/>
                    </a:lnTo>
                    <a:lnTo>
                      <a:pt x="1182" y="1248"/>
                    </a:lnTo>
                    <a:lnTo>
                      <a:pt x="1152" y="1212"/>
                    </a:lnTo>
                    <a:lnTo>
                      <a:pt x="1122" y="1170"/>
                    </a:lnTo>
                    <a:lnTo>
                      <a:pt x="1092" y="1134"/>
                    </a:lnTo>
                    <a:lnTo>
                      <a:pt x="1086" y="1104"/>
                    </a:lnTo>
                    <a:lnTo>
                      <a:pt x="1074" y="1080"/>
                    </a:lnTo>
                    <a:lnTo>
                      <a:pt x="1062" y="1056"/>
                    </a:lnTo>
                    <a:lnTo>
                      <a:pt x="1056" y="1026"/>
                    </a:lnTo>
                    <a:lnTo>
                      <a:pt x="1050" y="1002"/>
                    </a:lnTo>
                    <a:lnTo>
                      <a:pt x="1044" y="972"/>
                    </a:lnTo>
                    <a:lnTo>
                      <a:pt x="1044" y="966"/>
                    </a:lnTo>
                    <a:lnTo>
                      <a:pt x="1050" y="966"/>
                    </a:lnTo>
                    <a:lnTo>
                      <a:pt x="1062" y="966"/>
                    </a:lnTo>
                    <a:lnTo>
                      <a:pt x="1068" y="966"/>
                    </a:lnTo>
                    <a:lnTo>
                      <a:pt x="1080" y="966"/>
                    </a:lnTo>
                    <a:lnTo>
                      <a:pt x="1080" y="960"/>
                    </a:lnTo>
                    <a:lnTo>
                      <a:pt x="1080" y="948"/>
                    </a:lnTo>
                    <a:lnTo>
                      <a:pt x="1074" y="942"/>
                    </a:lnTo>
                    <a:lnTo>
                      <a:pt x="1068" y="936"/>
                    </a:lnTo>
                    <a:lnTo>
                      <a:pt x="1068" y="924"/>
                    </a:lnTo>
                    <a:lnTo>
                      <a:pt x="1062" y="918"/>
                    </a:lnTo>
                    <a:lnTo>
                      <a:pt x="1056" y="912"/>
                    </a:lnTo>
                    <a:lnTo>
                      <a:pt x="1050" y="888"/>
                    </a:lnTo>
                    <a:lnTo>
                      <a:pt x="1044" y="864"/>
                    </a:lnTo>
                    <a:lnTo>
                      <a:pt x="1050" y="840"/>
                    </a:lnTo>
                    <a:lnTo>
                      <a:pt x="1056" y="822"/>
                    </a:lnTo>
                    <a:lnTo>
                      <a:pt x="1062" y="798"/>
                    </a:lnTo>
                    <a:lnTo>
                      <a:pt x="1074" y="774"/>
                    </a:lnTo>
                    <a:lnTo>
                      <a:pt x="1086" y="798"/>
                    </a:lnTo>
                    <a:lnTo>
                      <a:pt x="1098" y="804"/>
                    </a:lnTo>
                    <a:lnTo>
                      <a:pt x="1116" y="810"/>
                    </a:lnTo>
                    <a:lnTo>
                      <a:pt x="1128" y="816"/>
                    </a:lnTo>
                    <a:lnTo>
                      <a:pt x="1140" y="816"/>
                    </a:lnTo>
                    <a:lnTo>
                      <a:pt x="1158" y="816"/>
                    </a:lnTo>
                    <a:lnTo>
                      <a:pt x="1170" y="810"/>
                    </a:lnTo>
                    <a:lnTo>
                      <a:pt x="1170" y="792"/>
                    </a:lnTo>
                    <a:lnTo>
                      <a:pt x="1164" y="786"/>
                    </a:lnTo>
                    <a:lnTo>
                      <a:pt x="1152" y="780"/>
                    </a:lnTo>
                    <a:lnTo>
                      <a:pt x="1140" y="780"/>
                    </a:lnTo>
                    <a:lnTo>
                      <a:pt x="1128" y="774"/>
                    </a:lnTo>
                    <a:lnTo>
                      <a:pt x="1122" y="762"/>
                    </a:lnTo>
                    <a:lnTo>
                      <a:pt x="1116" y="756"/>
                    </a:lnTo>
                    <a:lnTo>
                      <a:pt x="1116" y="744"/>
                    </a:lnTo>
                    <a:lnTo>
                      <a:pt x="1116" y="732"/>
                    </a:lnTo>
                    <a:lnTo>
                      <a:pt x="1116" y="720"/>
                    </a:lnTo>
                    <a:lnTo>
                      <a:pt x="1122" y="714"/>
                    </a:lnTo>
                    <a:lnTo>
                      <a:pt x="1122" y="702"/>
                    </a:lnTo>
                    <a:lnTo>
                      <a:pt x="1122" y="690"/>
                    </a:lnTo>
                    <a:lnTo>
                      <a:pt x="1128" y="678"/>
                    </a:lnTo>
                    <a:lnTo>
                      <a:pt x="1128" y="666"/>
                    </a:lnTo>
                    <a:lnTo>
                      <a:pt x="1134" y="648"/>
                    </a:lnTo>
                    <a:lnTo>
                      <a:pt x="1134" y="636"/>
                    </a:lnTo>
                    <a:lnTo>
                      <a:pt x="1140" y="624"/>
                    </a:lnTo>
                    <a:lnTo>
                      <a:pt x="1146" y="630"/>
                    </a:lnTo>
                    <a:lnTo>
                      <a:pt x="1158" y="636"/>
                    </a:lnTo>
                    <a:lnTo>
                      <a:pt x="1170" y="630"/>
                    </a:lnTo>
                    <a:lnTo>
                      <a:pt x="1182" y="630"/>
                    </a:lnTo>
                    <a:lnTo>
                      <a:pt x="1194" y="624"/>
                    </a:lnTo>
                    <a:lnTo>
                      <a:pt x="1200" y="624"/>
                    </a:lnTo>
                    <a:lnTo>
                      <a:pt x="1212" y="618"/>
                    </a:lnTo>
                    <a:lnTo>
                      <a:pt x="1218" y="612"/>
                    </a:lnTo>
                    <a:lnTo>
                      <a:pt x="1230" y="600"/>
                    </a:lnTo>
                    <a:lnTo>
                      <a:pt x="1230" y="588"/>
                    </a:lnTo>
                    <a:lnTo>
                      <a:pt x="1236" y="582"/>
                    </a:lnTo>
                    <a:lnTo>
                      <a:pt x="1236" y="570"/>
                    </a:lnTo>
                    <a:lnTo>
                      <a:pt x="1230" y="570"/>
                    </a:lnTo>
                    <a:lnTo>
                      <a:pt x="1224" y="570"/>
                    </a:lnTo>
                    <a:lnTo>
                      <a:pt x="1224" y="576"/>
                    </a:lnTo>
                    <a:lnTo>
                      <a:pt x="1218" y="576"/>
                    </a:lnTo>
                    <a:lnTo>
                      <a:pt x="1212" y="582"/>
                    </a:lnTo>
                    <a:lnTo>
                      <a:pt x="1200" y="582"/>
                    </a:lnTo>
                    <a:lnTo>
                      <a:pt x="1194" y="576"/>
                    </a:lnTo>
                    <a:lnTo>
                      <a:pt x="1188" y="576"/>
                    </a:lnTo>
                    <a:lnTo>
                      <a:pt x="1176" y="570"/>
                    </a:lnTo>
                    <a:lnTo>
                      <a:pt x="1170" y="552"/>
                    </a:lnTo>
                    <a:lnTo>
                      <a:pt x="1170" y="534"/>
                    </a:lnTo>
                    <a:lnTo>
                      <a:pt x="1170" y="516"/>
                    </a:lnTo>
                    <a:lnTo>
                      <a:pt x="1176" y="498"/>
                    </a:lnTo>
                    <a:lnTo>
                      <a:pt x="1182" y="480"/>
                    </a:lnTo>
                    <a:lnTo>
                      <a:pt x="1194" y="462"/>
                    </a:lnTo>
                    <a:lnTo>
                      <a:pt x="1200" y="468"/>
                    </a:lnTo>
                    <a:lnTo>
                      <a:pt x="1212" y="468"/>
                    </a:lnTo>
                    <a:lnTo>
                      <a:pt x="1218" y="462"/>
                    </a:lnTo>
                    <a:lnTo>
                      <a:pt x="1230" y="462"/>
                    </a:lnTo>
                    <a:lnTo>
                      <a:pt x="1242" y="456"/>
                    </a:lnTo>
                    <a:lnTo>
                      <a:pt x="1248" y="450"/>
                    </a:lnTo>
                    <a:lnTo>
                      <a:pt x="1254" y="444"/>
                    </a:lnTo>
                    <a:lnTo>
                      <a:pt x="1254" y="438"/>
                    </a:lnTo>
                    <a:lnTo>
                      <a:pt x="1260" y="432"/>
                    </a:lnTo>
                    <a:lnTo>
                      <a:pt x="1266" y="420"/>
                    </a:lnTo>
                    <a:lnTo>
                      <a:pt x="1266" y="414"/>
                    </a:lnTo>
                    <a:lnTo>
                      <a:pt x="1266" y="408"/>
                    </a:lnTo>
                    <a:lnTo>
                      <a:pt x="1260" y="402"/>
                    </a:lnTo>
                    <a:lnTo>
                      <a:pt x="1248" y="408"/>
                    </a:lnTo>
                    <a:lnTo>
                      <a:pt x="1242" y="408"/>
                    </a:lnTo>
                    <a:lnTo>
                      <a:pt x="1236" y="414"/>
                    </a:lnTo>
                    <a:lnTo>
                      <a:pt x="1230" y="414"/>
                    </a:lnTo>
                    <a:lnTo>
                      <a:pt x="1224" y="414"/>
                    </a:lnTo>
                    <a:lnTo>
                      <a:pt x="1212" y="408"/>
                    </a:lnTo>
                    <a:lnTo>
                      <a:pt x="1206" y="402"/>
                    </a:lnTo>
                    <a:lnTo>
                      <a:pt x="1194" y="396"/>
                    </a:lnTo>
                    <a:lnTo>
                      <a:pt x="1188" y="384"/>
                    </a:lnTo>
                    <a:lnTo>
                      <a:pt x="1182" y="378"/>
                    </a:lnTo>
                    <a:lnTo>
                      <a:pt x="1176" y="366"/>
                    </a:lnTo>
                    <a:lnTo>
                      <a:pt x="1176" y="354"/>
                    </a:lnTo>
                    <a:lnTo>
                      <a:pt x="1176" y="348"/>
                    </a:lnTo>
                    <a:lnTo>
                      <a:pt x="1176" y="336"/>
                    </a:lnTo>
                    <a:lnTo>
                      <a:pt x="1176" y="330"/>
                    </a:lnTo>
                    <a:lnTo>
                      <a:pt x="1176" y="318"/>
                    </a:lnTo>
                    <a:lnTo>
                      <a:pt x="1176" y="312"/>
                    </a:lnTo>
                    <a:lnTo>
                      <a:pt x="1188" y="312"/>
                    </a:lnTo>
                    <a:lnTo>
                      <a:pt x="1200" y="312"/>
                    </a:lnTo>
                    <a:lnTo>
                      <a:pt x="1212" y="306"/>
                    </a:lnTo>
                    <a:lnTo>
                      <a:pt x="1224" y="300"/>
                    </a:lnTo>
                    <a:lnTo>
                      <a:pt x="1236" y="294"/>
                    </a:lnTo>
                    <a:lnTo>
                      <a:pt x="1242" y="282"/>
                    </a:lnTo>
                    <a:lnTo>
                      <a:pt x="1248" y="276"/>
                    </a:lnTo>
                    <a:lnTo>
                      <a:pt x="1254" y="270"/>
                    </a:lnTo>
                    <a:lnTo>
                      <a:pt x="1254" y="264"/>
                    </a:lnTo>
                    <a:lnTo>
                      <a:pt x="1260" y="252"/>
                    </a:lnTo>
                    <a:lnTo>
                      <a:pt x="1260" y="246"/>
                    </a:lnTo>
                    <a:lnTo>
                      <a:pt x="1254" y="240"/>
                    </a:lnTo>
                    <a:lnTo>
                      <a:pt x="1248" y="240"/>
                    </a:lnTo>
                    <a:lnTo>
                      <a:pt x="1242" y="240"/>
                    </a:lnTo>
                    <a:lnTo>
                      <a:pt x="1236" y="246"/>
                    </a:lnTo>
                    <a:lnTo>
                      <a:pt x="1230" y="252"/>
                    </a:lnTo>
                    <a:lnTo>
                      <a:pt x="1224" y="252"/>
                    </a:lnTo>
                    <a:lnTo>
                      <a:pt x="1218" y="258"/>
                    </a:lnTo>
                    <a:lnTo>
                      <a:pt x="1212" y="258"/>
                    </a:lnTo>
                    <a:lnTo>
                      <a:pt x="1206" y="258"/>
                    </a:lnTo>
                    <a:lnTo>
                      <a:pt x="1200" y="252"/>
                    </a:lnTo>
                    <a:lnTo>
                      <a:pt x="1194" y="252"/>
                    </a:lnTo>
                    <a:lnTo>
                      <a:pt x="1188" y="246"/>
                    </a:lnTo>
                    <a:lnTo>
                      <a:pt x="1188" y="240"/>
                    </a:lnTo>
                    <a:lnTo>
                      <a:pt x="1182" y="228"/>
                    </a:lnTo>
                    <a:lnTo>
                      <a:pt x="1170" y="210"/>
                    </a:lnTo>
                    <a:lnTo>
                      <a:pt x="1164" y="198"/>
                    </a:lnTo>
                    <a:lnTo>
                      <a:pt x="1152" y="186"/>
                    </a:lnTo>
                    <a:lnTo>
                      <a:pt x="1140" y="174"/>
                    </a:lnTo>
                    <a:lnTo>
                      <a:pt x="1134" y="162"/>
                    </a:lnTo>
                    <a:lnTo>
                      <a:pt x="1152" y="144"/>
                    </a:lnTo>
                    <a:lnTo>
                      <a:pt x="1158" y="132"/>
                    </a:lnTo>
                    <a:lnTo>
                      <a:pt x="1164" y="120"/>
                    </a:lnTo>
                    <a:lnTo>
                      <a:pt x="1170" y="108"/>
                    </a:lnTo>
                    <a:lnTo>
                      <a:pt x="1170" y="96"/>
                    </a:lnTo>
                    <a:lnTo>
                      <a:pt x="1170" y="84"/>
                    </a:lnTo>
                    <a:lnTo>
                      <a:pt x="1164" y="72"/>
                    </a:lnTo>
                    <a:lnTo>
                      <a:pt x="1158" y="72"/>
                    </a:lnTo>
                    <a:lnTo>
                      <a:pt x="1152" y="72"/>
                    </a:lnTo>
                    <a:lnTo>
                      <a:pt x="1152" y="78"/>
                    </a:lnTo>
                    <a:lnTo>
                      <a:pt x="1146" y="84"/>
                    </a:lnTo>
                    <a:lnTo>
                      <a:pt x="1134" y="90"/>
                    </a:lnTo>
                    <a:lnTo>
                      <a:pt x="1122" y="90"/>
                    </a:lnTo>
                    <a:lnTo>
                      <a:pt x="1116" y="96"/>
                    </a:lnTo>
                    <a:lnTo>
                      <a:pt x="1104" y="96"/>
                    </a:lnTo>
                    <a:lnTo>
                      <a:pt x="1098" y="96"/>
                    </a:lnTo>
                    <a:lnTo>
                      <a:pt x="1086" y="96"/>
                    </a:lnTo>
                    <a:lnTo>
                      <a:pt x="1092" y="90"/>
                    </a:lnTo>
                    <a:lnTo>
                      <a:pt x="1092" y="84"/>
                    </a:lnTo>
                    <a:lnTo>
                      <a:pt x="1098" y="78"/>
                    </a:lnTo>
                    <a:lnTo>
                      <a:pt x="1104" y="72"/>
                    </a:lnTo>
                    <a:lnTo>
                      <a:pt x="1104" y="66"/>
                    </a:lnTo>
                    <a:lnTo>
                      <a:pt x="1110" y="60"/>
                    </a:lnTo>
                    <a:lnTo>
                      <a:pt x="1110" y="48"/>
                    </a:lnTo>
                    <a:lnTo>
                      <a:pt x="1110" y="42"/>
                    </a:lnTo>
                    <a:lnTo>
                      <a:pt x="1104" y="30"/>
                    </a:lnTo>
                    <a:lnTo>
                      <a:pt x="1104" y="24"/>
                    </a:lnTo>
                    <a:lnTo>
                      <a:pt x="1098" y="18"/>
                    </a:lnTo>
                    <a:lnTo>
                      <a:pt x="1080" y="6"/>
                    </a:lnTo>
                    <a:lnTo>
                      <a:pt x="1068" y="0"/>
                    </a:lnTo>
                    <a:lnTo>
                      <a:pt x="1062" y="0"/>
                    </a:lnTo>
                    <a:lnTo>
                      <a:pt x="1050" y="0"/>
                    </a:lnTo>
                    <a:lnTo>
                      <a:pt x="1044" y="0"/>
                    </a:lnTo>
                    <a:lnTo>
                      <a:pt x="1032" y="0"/>
                    </a:lnTo>
                    <a:lnTo>
                      <a:pt x="1026" y="0"/>
                    </a:lnTo>
                    <a:lnTo>
                      <a:pt x="1026" y="6"/>
                    </a:lnTo>
                    <a:lnTo>
                      <a:pt x="1032" y="12"/>
                    </a:lnTo>
                    <a:lnTo>
                      <a:pt x="1038" y="18"/>
                    </a:lnTo>
                    <a:lnTo>
                      <a:pt x="1044" y="24"/>
                    </a:lnTo>
                    <a:lnTo>
                      <a:pt x="1050" y="30"/>
                    </a:lnTo>
                    <a:lnTo>
                      <a:pt x="1050" y="36"/>
                    </a:lnTo>
                    <a:lnTo>
                      <a:pt x="1044" y="54"/>
                    </a:lnTo>
                    <a:lnTo>
                      <a:pt x="1032" y="54"/>
                    </a:lnTo>
                    <a:lnTo>
                      <a:pt x="1014" y="54"/>
                    </a:lnTo>
                    <a:lnTo>
                      <a:pt x="1002" y="48"/>
                    </a:lnTo>
                    <a:lnTo>
                      <a:pt x="984" y="42"/>
                    </a:lnTo>
                    <a:lnTo>
                      <a:pt x="972" y="42"/>
                    </a:lnTo>
                    <a:lnTo>
                      <a:pt x="972" y="36"/>
                    </a:lnTo>
                    <a:lnTo>
                      <a:pt x="966" y="36"/>
                    </a:lnTo>
                    <a:lnTo>
                      <a:pt x="948" y="42"/>
                    </a:lnTo>
                    <a:lnTo>
                      <a:pt x="930" y="42"/>
                    </a:lnTo>
                    <a:lnTo>
                      <a:pt x="912" y="48"/>
                    </a:lnTo>
                    <a:lnTo>
                      <a:pt x="894" y="48"/>
                    </a:lnTo>
                    <a:lnTo>
                      <a:pt x="882" y="54"/>
                    </a:lnTo>
                    <a:lnTo>
                      <a:pt x="864" y="60"/>
                    </a:lnTo>
                    <a:lnTo>
                      <a:pt x="858" y="66"/>
                    </a:lnTo>
                    <a:lnTo>
                      <a:pt x="846" y="72"/>
                    </a:lnTo>
                    <a:lnTo>
                      <a:pt x="840" y="72"/>
                    </a:lnTo>
                    <a:lnTo>
                      <a:pt x="834" y="78"/>
                    </a:lnTo>
                    <a:lnTo>
                      <a:pt x="822" y="84"/>
                    </a:lnTo>
                    <a:lnTo>
                      <a:pt x="816" y="84"/>
                    </a:lnTo>
                    <a:lnTo>
                      <a:pt x="792" y="96"/>
                    </a:lnTo>
                    <a:lnTo>
                      <a:pt x="768" y="102"/>
                    </a:lnTo>
                    <a:lnTo>
                      <a:pt x="738" y="102"/>
                    </a:lnTo>
                    <a:lnTo>
                      <a:pt x="714" y="102"/>
                    </a:lnTo>
                    <a:lnTo>
                      <a:pt x="690" y="108"/>
                    </a:lnTo>
                    <a:lnTo>
                      <a:pt x="672" y="120"/>
                    </a:lnTo>
                    <a:lnTo>
                      <a:pt x="672" y="132"/>
                    </a:lnTo>
                    <a:lnTo>
                      <a:pt x="678" y="138"/>
                    </a:lnTo>
                    <a:lnTo>
                      <a:pt x="684" y="138"/>
                    </a:lnTo>
                    <a:lnTo>
                      <a:pt x="690" y="138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0" y="156"/>
                    </a:lnTo>
                    <a:lnTo>
                      <a:pt x="684" y="156"/>
                    </a:lnTo>
                    <a:lnTo>
                      <a:pt x="684" y="162"/>
                    </a:lnTo>
                    <a:lnTo>
                      <a:pt x="684" y="168"/>
                    </a:lnTo>
                    <a:lnTo>
                      <a:pt x="684" y="174"/>
                    </a:lnTo>
                    <a:lnTo>
                      <a:pt x="684" y="186"/>
                    </a:lnTo>
                    <a:lnTo>
                      <a:pt x="684" y="192"/>
                    </a:lnTo>
                    <a:lnTo>
                      <a:pt x="690" y="198"/>
                    </a:lnTo>
                    <a:lnTo>
                      <a:pt x="696" y="204"/>
                    </a:lnTo>
                    <a:lnTo>
                      <a:pt x="702" y="210"/>
                    </a:lnTo>
                    <a:lnTo>
                      <a:pt x="708" y="210"/>
                    </a:lnTo>
                    <a:lnTo>
                      <a:pt x="708" y="228"/>
                    </a:lnTo>
                    <a:lnTo>
                      <a:pt x="720" y="234"/>
                    </a:lnTo>
                    <a:lnTo>
                      <a:pt x="732" y="240"/>
                    </a:lnTo>
                    <a:lnTo>
                      <a:pt x="744" y="252"/>
                    </a:lnTo>
                    <a:lnTo>
                      <a:pt x="750" y="258"/>
                    </a:lnTo>
                    <a:lnTo>
                      <a:pt x="756" y="276"/>
                    </a:lnTo>
                    <a:lnTo>
                      <a:pt x="744" y="276"/>
                    </a:lnTo>
                    <a:lnTo>
                      <a:pt x="732" y="276"/>
                    </a:lnTo>
                    <a:lnTo>
                      <a:pt x="720" y="276"/>
                    </a:lnTo>
                    <a:lnTo>
                      <a:pt x="708" y="276"/>
                    </a:lnTo>
                    <a:lnTo>
                      <a:pt x="696" y="270"/>
                    </a:lnTo>
                    <a:lnTo>
                      <a:pt x="690" y="264"/>
                    </a:lnTo>
                    <a:lnTo>
                      <a:pt x="678" y="258"/>
                    </a:lnTo>
                    <a:lnTo>
                      <a:pt x="672" y="252"/>
                    </a:lnTo>
                    <a:lnTo>
                      <a:pt x="666" y="246"/>
                    </a:lnTo>
                    <a:lnTo>
                      <a:pt x="666" y="234"/>
                    </a:lnTo>
                    <a:lnTo>
                      <a:pt x="660" y="228"/>
                    </a:lnTo>
                    <a:lnTo>
                      <a:pt x="648" y="222"/>
                    </a:lnTo>
                    <a:lnTo>
                      <a:pt x="642" y="222"/>
                    </a:lnTo>
                    <a:lnTo>
                      <a:pt x="642" y="228"/>
                    </a:lnTo>
                    <a:lnTo>
                      <a:pt x="636" y="228"/>
                    </a:lnTo>
                    <a:lnTo>
                      <a:pt x="636" y="234"/>
                    </a:lnTo>
                    <a:lnTo>
                      <a:pt x="630" y="240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70"/>
                    </a:lnTo>
                    <a:lnTo>
                      <a:pt x="630" y="276"/>
                    </a:lnTo>
                    <a:lnTo>
                      <a:pt x="630" y="282"/>
                    </a:lnTo>
                    <a:lnTo>
                      <a:pt x="642" y="288"/>
                    </a:lnTo>
                    <a:lnTo>
                      <a:pt x="654" y="300"/>
                    </a:lnTo>
                    <a:lnTo>
                      <a:pt x="672" y="312"/>
                    </a:lnTo>
                    <a:lnTo>
                      <a:pt x="690" y="312"/>
                    </a:lnTo>
                    <a:lnTo>
                      <a:pt x="708" y="318"/>
                    </a:lnTo>
                    <a:lnTo>
                      <a:pt x="726" y="324"/>
                    </a:lnTo>
                    <a:lnTo>
                      <a:pt x="738" y="330"/>
                    </a:lnTo>
                    <a:lnTo>
                      <a:pt x="732" y="330"/>
                    </a:lnTo>
                    <a:lnTo>
                      <a:pt x="732" y="336"/>
                    </a:lnTo>
                    <a:lnTo>
                      <a:pt x="726" y="336"/>
                    </a:lnTo>
                    <a:lnTo>
                      <a:pt x="720" y="342"/>
                    </a:lnTo>
                    <a:lnTo>
                      <a:pt x="714" y="354"/>
                    </a:lnTo>
                    <a:lnTo>
                      <a:pt x="708" y="360"/>
                    </a:lnTo>
                    <a:lnTo>
                      <a:pt x="714" y="372"/>
                    </a:lnTo>
                    <a:lnTo>
                      <a:pt x="714" y="384"/>
                    </a:lnTo>
                    <a:lnTo>
                      <a:pt x="720" y="396"/>
                    </a:lnTo>
                    <a:lnTo>
                      <a:pt x="720" y="408"/>
                    </a:lnTo>
                    <a:lnTo>
                      <a:pt x="720" y="414"/>
                    </a:lnTo>
                    <a:lnTo>
                      <a:pt x="720" y="420"/>
                    </a:lnTo>
                    <a:lnTo>
                      <a:pt x="726" y="420"/>
                    </a:lnTo>
                    <a:lnTo>
                      <a:pt x="726" y="426"/>
                    </a:lnTo>
                    <a:lnTo>
                      <a:pt x="732" y="426"/>
                    </a:lnTo>
                    <a:lnTo>
                      <a:pt x="738" y="426"/>
                    </a:lnTo>
                    <a:lnTo>
                      <a:pt x="750" y="414"/>
                    </a:lnTo>
                    <a:lnTo>
                      <a:pt x="750" y="420"/>
                    </a:lnTo>
                    <a:lnTo>
                      <a:pt x="756" y="426"/>
                    </a:lnTo>
                    <a:lnTo>
                      <a:pt x="756" y="438"/>
                    </a:lnTo>
                    <a:lnTo>
                      <a:pt x="756" y="444"/>
                    </a:lnTo>
                    <a:lnTo>
                      <a:pt x="756" y="450"/>
                    </a:lnTo>
                    <a:lnTo>
                      <a:pt x="768" y="444"/>
                    </a:lnTo>
                    <a:lnTo>
                      <a:pt x="774" y="438"/>
                    </a:lnTo>
                    <a:lnTo>
                      <a:pt x="786" y="432"/>
                    </a:lnTo>
                    <a:lnTo>
                      <a:pt x="792" y="426"/>
                    </a:lnTo>
                    <a:lnTo>
                      <a:pt x="804" y="426"/>
                    </a:lnTo>
                    <a:lnTo>
                      <a:pt x="810" y="426"/>
                    </a:lnTo>
                    <a:lnTo>
                      <a:pt x="816" y="432"/>
                    </a:lnTo>
                    <a:lnTo>
                      <a:pt x="816" y="438"/>
                    </a:lnTo>
                    <a:lnTo>
                      <a:pt x="810" y="444"/>
                    </a:lnTo>
                    <a:lnTo>
                      <a:pt x="810" y="450"/>
                    </a:lnTo>
                    <a:lnTo>
                      <a:pt x="792" y="462"/>
                    </a:lnTo>
                    <a:lnTo>
                      <a:pt x="780" y="474"/>
                    </a:lnTo>
                    <a:lnTo>
                      <a:pt x="768" y="480"/>
                    </a:lnTo>
                    <a:lnTo>
                      <a:pt x="750" y="486"/>
                    </a:lnTo>
                    <a:lnTo>
                      <a:pt x="732" y="486"/>
                    </a:lnTo>
                    <a:lnTo>
                      <a:pt x="714" y="480"/>
                    </a:lnTo>
                    <a:lnTo>
                      <a:pt x="708" y="480"/>
                    </a:lnTo>
                    <a:lnTo>
                      <a:pt x="702" y="480"/>
                    </a:lnTo>
                    <a:lnTo>
                      <a:pt x="696" y="474"/>
                    </a:lnTo>
                    <a:lnTo>
                      <a:pt x="690" y="468"/>
                    </a:lnTo>
                    <a:lnTo>
                      <a:pt x="684" y="456"/>
                    </a:lnTo>
                    <a:lnTo>
                      <a:pt x="684" y="444"/>
                    </a:lnTo>
                    <a:lnTo>
                      <a:pt x="684" y="438"/>
                    </a:lnTo>
                    <a:lnTo>
                      <a:pt x="684" y="426"/>
                    </a:lnTo>
                    <a:lnTo>
                      <a:pt x="684" y="420"/>
                    </a:lnTo>
                    <a:lnTo>
                      <a:pt x="678" y="420"/>
                    </a:lnTo>
                    <a:lnTo>
                      <a:pt x="672" y="426"/>
                    </a:lnTo>
                    <a:lnTo>
                      <a:pt x="666" y="432"/>
                    </a:lnTo>
                    <a:lnTo>
                      <a:pt x="660" y="438"/>
                    </a:lnTo>
                    <a:lnTo>
                      <a:pt x="654" y="444"/>
                    </a:lnTo>
                    <a:lnTo>
                      <a:pt x="648" y="450"/>
                    </a:lnTo>
                    <a:lnTo>
                      <a:pt x="648" y="456"/>
                    </a:lnTo>
                    <a:lnTo>
                      <a:pt x="648" y="468"/>
                    </a:lnTo>
                    <a:lnTo>
                      <a:pt x="648" y="474"/>
                    </a:lnTo>
                    <a:lnTo>
                      <a:pt x="642" y="480"/>
                    </a:lnTo>
                    <a:lnTo>
                      <a:pt x="642" y="492"/>
                    </a:lnTo>
                    <a:lnTo>
                      <a:pt x="636" y="498"/>
                    </a:lnTo>
                    <a:lnTo>
                      <a:pt x="606" y="474"/>
                    </a:lnTo>
                    <a:lnTo>
                      <a:pt x="600" y="468"/>
                    </a:lnTo>
                    <a:lnTo>
                      <a:pt x="594" y="456"/>
                    </a:lnTo>
                    <a:lnTo>
                      <a:pt x="588" y="444"/>
                    </a:lnTo>
                    <a:lnTo>
                      <a:pt x="588" y="432"/>
                    </a:lnTo>
                    <a:lnTo>
                      <a:pt x="588" y="420"/>
                    </a:lnTo>
                    <a:lnTo>
                      <a:pt x="588" y="408"/>
                    </a:lnTo>
                    <a:lnTo>
                      <a:pt x="582" y="402"/>
                    </a:lnTo>
                    <a:lnTo>
                      <a:pt x="564" y="426"/>
                    </a:lnTo>
                    <a:lnTo>
                      <a:pt x="558" y="408"/>
                    </a:lnTo>
                    <a:lnTo>
                      <a:pt x="552" y="390"/>
                    </a:lnTo>
                    <a:lnTo>
                      <a:pt x="546" y="378"/>
                    </a:lnTo>
                    <a:lnTo>
                      <a:pt x="540" y="360"/>
                    </a:lnTo>
                    <a:lnTo>
                      <a:pt x="534" y="342"/>
                    </a:lnTo>
                    <a:lnTo>
                      <a:pt x="522" y="330"/>
                    </a:lnTo>
                    <a:lnTo>
                      <a:pt x="522" y="312"/>
                    </a:lnTo>
                    <a:lnTo>
                      <a:pt x="516" y="300"/>
                    </a:lnTo>
                    <a:lnTo>
                      <a:pt x="510" y="288"/>
                    </a:lnTo>
                    <a:lnTo>
                      <a:pt x="504" y="276"/>
                    </a:lnTo>
                    <a:lnTo>
                      <a:pt x="504" y="264"/>
                    </a:lnTo>
                    <a:lnTo>
                      <a:pt x="498" y="258"/>
                    </a:lnTo>
                    <a:lnTo>
                      <a:pt x="492" y="246"/>
                    </a:lnTo>
                    <a:lnTo>
                      <a:pt x="492" y="240"/>
                    </a:lnTo>
                    <a:lnTo>
                      <a:pt x="486" y="234"/>
                    </a:lnTo>
                    <a:lnTo>
                      <a:pt x="486" y="228"/>
                    </a:lnTo>
                    <a:lnTo>
                      <a:pt x="486" y="222"/>
                    </a:lnTo>
                    <a:lnTo>
                      <a:pt x="486" y="216"/>
                    </a:lnTo>
                    <a:lnTo>
                      <a:pt x="474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601560" y="746280"/>
                <a:ext cx="727200" cy="900000"/>
              </a:xfrm>
              <a:custGeom>
                <a:avLst/>
                <a:gdLst/>
                <a:ahLst/>
                <a:rect l="l" t="t" r="r" b="b"/>
                <a:pathLst>
                  <a:path w="1746" h="2160">
                    <a:moveTo>
                      <a:pt x="474" y="186"/>
                    </a:moveTo>
                    <a:lnTo>
                      <a:pt x="480" y="174"/>
                    </a:lnTo>
                    <a:lnTo>
                      <a:pt x="492" y="162"/>
                    </a:lnTo>
                    <a:lnTo>
                      <a:pt x="504" y="150"/>
                    </a:lnTo>
                    <a:lnTo>
                      <a:pt x="510" y="138"/>
                    </a:lnTo>
                    <a:lnTo>
                      <a:pt x="516" y="126"/>
                    </a:lnTo>
                    <a:lnTo>
                      <a:pt x="522" y="114"/>
                    </a:lnTo>
                    <a:lnTo>
                      <a:pt x="510" y="96"/>
                    </a:lnTo>
                    <a:lnTo>
                      <a:pt x="504" y="78"/>
                    </a:lnTo>
                    <a:lnTo>
                      <a:pt x="498" y="54"/>
                    </a:lnTo>
                    <a:lnTo>
                      <a:pt x="492" y="36"/>
                    </a:lnTo>
                    <a:lnTo>
                      <a:pt x="480" y="18"/>
                    </a:lnTo>
                    <a:lnTo>
                      <a:pt x="462" y="6"/>
                    </a:lnTo>
                    <a:lnTo>
                      <a:pt x="456" y="6"/>
                    </a:lnTo>
                    <a:lnTo>
                      <a:pt x="456" y="0"/>
                    </a:lnTo>
                    <a:lnTo>
                      <a:pt x="450" y="0"/>
                    </a:lnTo>
                    <a:lnTo>
                      <a:pt x="444" y="0"/>
                    </a:lnTo>
                    <a:lnTo>
                      <a:pt x="438" y="0"/>
                    </a:lnTo>
                    <a:lnTo>
                      <a:pt x="432" y="0"/>
                    </a:lnTo>
                    <a:lnTo>
                      <a:pt x="426" y="0"/>
                    </a:lnTo>
                    <a:lnTo>
                      <a:pt x="432" y="18"/>
                    </a:lnTo>
                    <a:lnTo>
                      <a:pt x="438" y="36"/>
                    </a:lnTo>
                    <a:lnTo>
                      <a:pt x="450" y="48"/>
                    </a:lnTo>
                    <a:lnTo>
                      <a:pt x="456" y="66"/>
                    </a:lnTo>
                    <a:lnTo>
                      <a:pt x="456" y="84"/>
                    </a:lnTo>
                    <a:lnTo>
                      <a:pt x="456" y="96"/>
                    </a:lnTo>
                    <a:lnTo>
                      <a:pt x="456" y="102"/>
                    </a:lnTo>
                    <a:lnTo>
                      <a:pt x="450" y="102"/>
                    </a:lnTo>
                    <a:lnTo>
                      <a:pt x="444" y="102"/>
                    </a:lnTo>
                    <a:lnTo>
                      <a:pt x="444" y="108"/>
                    </a:lnTo>
                    <a:lnTo>
                      <a:pt x="438" y="108"/>
                    </a:lnTo>
                    <a:lnTo>
                      <a:pt x="438" y="114"/>
                    </a:lnTo>
                    <a:lnTo>
                      <a:pt x="432" y="120"/>
                    </a:lnTo>
                    <a:lnTo>
                      <a:pt x="426" y="126"/>
                    </a:lnTo>
                    <a:lnTo>
                      <a:pt x="420" y="108"/>
                    </a:lnTo>
                    <a:lnTo>
                      <a:pt x="414" y="90"/>
                    </a:lnTo>
                    <a:lnTo>
                      <a:pt x="414" y="72"/>
                    </a:lnTo>
                    <a:lnTo>
                      <a:pt x="408" y="48"/>
                    </a:lnTo>
                    <a:lnTo>
                      <a:pt x="396" y="30"/>
                    </a:lnTo>
                    <a:lnTo>
                      <a:pt x="384" y="18"/>
                    </a:lnTo>
                    <a:lnTo>
                      <a:pt x="378" y="12"/>
                    </a:lnTo>
                    <a:lnTo>
                      <a:pt x="366" y="12"/>
                    </a:lnTo>
                    <a:lnTo>
                      <a:pt x="360" y="12"/>
                    </a:lnTo>
                    <a:lnTo>
                      <a:pt x="354" y="12"/>
                    </a:lnTo>
                    <a:lnTo>
                      <a:pt x="342" y="12"/>
                    </a:lnTo>
                    <a:lnTo>
                      <a:pt x="330" y="12"/>
                    </a:lnTo>
                    <a:lnTo>
                      <a:pt x="324" y="18"/>
                    </a:lnTo>
                    <a:lnTo>
                      <a:pt x="312" y="24"/>
                    </a:lnTo>
                    <a:lnTo>
                      <a:pt x="300" y="30"/>
                    </a:lnTo>
                    <a:lnTo>
                      <a:pt x="288" y="36"/>
                    </a:lnTo>
                    <a:lnTo>
                      <a:pt x="282" y="48"/>
                    </a:lnTo>
                    <a:lnTo>
                      <a:pt x="276" y="60"/>
                    </a:lnTo>
                    <a:lnTo>
                      <a:pt x="288" y="60"/>
                    </a:lnTo>
                    <a:lnTo>
                      <a:pt x="294" y="66"/>
                    </a:lnTo>
                    <a:lnTo>
                      <a:pt x="306" y="66"/>
                    </a:lnTo>
                    <a:lnTo>
                      <a:pt x="312" y="66"/>
                    </a:lnTo>
                    <a:lnTo>
                      <a:pt x="318" y="60"/>
                    </a:lnTo>
                    <a:lnTo>
                      <a:pt x="330" y="60"/>
                    </a:lnTo>
                    <a:lnTo>
                      <a:pt x="336" y="66"/>
                    </a:lnTo>
                    <a:lnTo>
                      <a:pt x="342" y="66"/>
                    </a:lnTo>
                    <a:lnTo>
                      <a:pt x="342" y="72"/>
                    </a:lnTo>
                    <a:lnTo>
                      <a:pt x="348" y="72"/>
                    </a:lnTo>
                    <a:lnTo>
                      <a:pt x="354" y="78"/>
                    </a:lnTo>
                    <a:lnTo>
                      <a:pt x="348" y="84"/>
                    </a:lnTo>
                    <a:lnTo>
                      <a:pt x="348" y="78"/>
                    </a:lnTo>
                    <a:lnTo>
                      <a:pt x="342" y="78"/>
                    </a:lnTo>
                    <a:lnTo>
                      <a:pt x="336" y="78"/>
                    </a:lnTo>
                    <a:lnTo>
                      <a:pt x="330" y="84"/>
                    </a:lnTo>
                    <a:lnTo>
                      <a:pt x="318" y="90"/>
                    </a:lnTo>
                    <a:lnTo>
                      <a:pt x="318" y="96"/>
                    </a:lnTo>
                    <a:lnTo>
                      <a:pt x="312" y="108"/>
                    </a:lnTo>
                    <a:lnTo>
                      <a:pt x="312" y="120"/>
                    </a:lnTo>
                    <a:lnTo>
                      <a:pt x="312" y="126"/>
                    </a:lnTo>
                    <a:lnTo>
                      <a:pt x="318" y="138"/>
                    </a:lnTo>
                    <a:lnTo>
                      <a:pt x="324" y="144"/>
                    </a:lnTo>
                    <a:lnTo>
                      <a:pt x="330" y="150"/>
                    </a:lnTo>
                    <a:lnTo>
                      <a:pt x="336" y="156"/>
                    </a:lnTo>
                    <a:lnTo>
                      <a:pt x="348" y="162"/>
                    </a:lnTo>
                    <a:lnTo>
                      <a:pt x="354" y="168"/>
                    </a:lnTo>
                    <a:lnTo>
                      <a:pt x="336" y="180"/>
                    </a:lnTo>
                    <a:lnTo>
                      <a:pt x="330" y="174"/>
                    </a:lnTo>
                    <a:lnTo>
                      <a:pt x="324" y="162"/>
                    </a:lnTo>
                    <a:lnTo>
                      <a:pt x="318" y="156"/>
                    </a:lnTo>
                    <a:lnTo>
                      <a:pt x="312" y="150"/>
                    </a:lnTo>
                    <a:lnTo>
                      <a:pt x="300" y="144"/>
                    </a:lnTo>
                    <a:lnTo>
                      <a:pt x="288" y="144"/>
                    </a:lnTo>
                    <a:lnTo>
                      <a:pt x="282" y="150"/>
                    </a:lnTo>
                    <a:lnTo>
                      <a:pt x="276" y="150"/>
                    </a:lnTo>
                    <a:lnTo>
                      <a:pt x="270" y="150"/>
                    </a:lnTo>
                    <a:lnTo>
                      <a:pt x="264" y="156"/>
                    </a:lnTo>
                    <a:lnTo>
                      <a:pt x="264" y="162"/>
                    </a:lnTo>
                    <a:lnTo>
                      <a:pt x="264" y="168"/>
                    </a:lnTo>
                    <a:lnTo>
                      <a:pt x="270" y="168"/>
                    </a:lnTo>
                    <a:lnTo>
                      <a:pt x="276" y="174"/>
                    </a:lnTo>
                    <a:lnTo>
                      <a:pt x="282" y="174"/>
                    </a:lnTo>
                    <a:lnTo>
                      <a:pt x="288" y="174"/>
                    </a:lnTo>
                    <a:lnTo>
                      <a:pt x="288" y="180"/>
                    </a:lnTo>
                    <a:lnTo>
                      <a:pt x="294" y="186"/>
                    </a:lnTo>
                    <a:lnTo>
                      <a:pt x="300" y="192"/>
                    </a:lnTo>
                    <a:lnTo>
                      <a:pt x="300" y="198"/>
                    </a:lnTo>
                    <a:lnTo>
                      <a:pt x="306" y="210"/>
                    </a:lnTo>
                    <a:lnTo>
                      <a:pt x="312" y="222"/>
                    </a:lnTo>
                    <a:lnTo>
                      <a:pt x="324" y="228"/>
                    </a:lnTo>
                    <a:lnTo>
                      <a:pt x="330" y="234"/>
                    </a:lnTo>
                    <a:lnTo>
                      <a:pt x="342" y="234"/>
                    </a:lnTo>
                    <a:lnTo>
                      <a:pt x="354" y="240"/>
                    </a:lnTo>
                    <a:lnTo>
                      <a:pt x="342" y="246"/>
                    </a:lnTo>
                    <a:lnTo>
                      <a:pt x="336" y="252"/>
                    </a:lnTo>
                    <a:lnTo>
                      <a:pt x="324" y="258"/>
                    </a:lnTo>
                    <a:lnTo>
                      <a:pt x="318" y="264"/>
                    </a:lnTo>
                    <a:lnTo>
                      <a:pt x="306" y="264"/>
                    </a:lnTo>
                    <a:lnTo>
                      <a:pt x="294" y="264"/>
                    </a:lnTo>
                    <a:lnTo>
                      <a:pt x="294" y="270"/>
                    </a:lnTo>
                    <a:lnTo>
                      <a:pt x="294" y="276"/>
                    </a:lnTo>
                    <a:lnTo>
                      <a:pt x="294" y="282"/>
                    </a:lnTo>
                    <a:lnTo>
                      <a:pt x="300" y="288"/>
                    </a:lnTo>
                    <a:lnTo>
                      <a:pt x="306" y="294"/>
                    </a:lnTo>
                    <a:lnTo>
                      <a:pt x="312" y="300"/>
                    </a:lnTo>
                    <a:lnTo>
                      <a:pt x="312" y="306"/>
                    </a:lnTo>
                    <a:lnTo>
                      <a:pt x="324" y="306"/>
                    </a:lnTo>
                    <a:lnTo>
                      <a:pt x="330" y="306"/>
                    </a:lnTo>
                    <a:lnTo>
                      <a:pt x="336" y="306"/>
                    </a:lnTo>
                    <a:lnTo>
                      <a:pt x="342" y="306"/>
                    </a:lnTo>
                    <a:lnTo>
                      <a:pt x="354" y="306"/>
                    </a:lnTo>
                    <a:lnTo>
                      <a:pt x="348" y="318"/>
                    </a:lnTo>
                    <a:lnTo>
                      <a:pt x="342" y="324"/>
                    </a:lnTo>
                    <a:lnTo>
                      <a:pt x="342" y="330"/>
                    </a:lnTo>
                    <a:lnTo>
                      <a:pt x="336" y="342"/>
                    </a:lnTo>
                    <a:lnTo>
                      <a:pt x="330" y="348"/>
                    </a:lnTo>
                    <a:lnTo>
                      <a:pt x="330" y="354"/>
                    </a:lnTo>
                    <a:lnTo>
                      <a:pt x="324" y="360"/>
                    </a:lnTo>
                    <a:lnTo>
                      <a:pt x="318" y="360"/>
                    </a:lnTo>
                    <a:lnTo>
                      <a:pt x="312" y="366"/>
                    </a:lnTo>
                    <a:lnTo>
                      <a:pt x="318" y="372"/>
                    </a:lnTo>
                    <a:lnTo>
                      <a:pt x="330" y="372"/>
                    </a:lnTo>
                    <a:lnTo>
                      <a:pt x="336" y="372"/>
                    </a:lnTo>
                    <a:lnTo>
                      <a:pt x="348" y="372"/>
                    </a:lnTo>
                    <a:lnTo>
                      <a:pt x="354" y="366"/>
                    </a:lnTo>
                    <a:lnTo>
                      <a:pt x="360" y="366"/>
                    </a:lnTo>
                    <a:lnTo>
                      <a:pt x="360" y="378"/>
                    </a:lnTo>
                    <a:lnTo>
                      <a:pt x="360" y="384"/>
                    </a:lnTo>
                    <a:lnTo>
                      <a:pt x="360" y="396"/>
                    </a:lnTo>
                    <a:lnTo>
                      <a:pt x="360" y="402"/>
                    </a:lnTo>
                    <a:lnTo>
                      <a:pt x="354" y="414"/>
                    </a:lnTo>
                    <a:lnTo>
                      <a:pt x="348" y="420"/>
                    </a:lnTo>
                    <a:lnTo>
                      <a:pt x="330" y="402"/>
                    </a:lnTo>
                    <a:lnTo>
                      <a:pt x="312" y="384"/>
                    </a:lnTo>
                    <a:lnTo>
                      <a:pt x="294" y="366"/>
                    </a:lnTo>
                    <a:lnTo>
                      <a:pt x="282" y="342"/>
                    </a:lnTo>
                    <a:lnTo>
                      <a:pt x="270" y="324"/>
                    </a:lnTo>
                    <a:lnTo>
                      <a:pt x="252" y="300"/>
                    </a:lnTo>
                    <a:lnTo>
                      <a:pt x="240" y="282"/>
                    </a:lnTo>
                    <a:lnTo>
                      <a:pt x="246" y="264"/>
                    </a:lnTo>
                    <a:lnTo>
                      <a:pt x="252" y="246"/>
                    </a:lnTo>
                    <a:lnTo>
                      <a:pt x="264" y="228"/>
                    </a:lnTo>
                    <a:lnTo>
                      <a:pt x="270" y="210"/>
                    </a:lnTo>
                    <a:lnTo>
                      <a:pt x="270" y="186"/>
                    </a:lnTo>
                    <a:lnTo>
                      <a:pt x="258" y="180"/>
                    </a:lnTo>
                    <a:lnTo>
                      <a:pt x="258" y="168"/>
                    </a:lnTo>
                    <a:lnTo>
                      <a:pt x="252" y="156"/>
                    </a:lnTo>
                    <a:lnTo>
                      <a:pt x="252" y="150"/>
                    </a:lnTo>
                    <a:lnTo>
                      <a:pt x="252" y="138"/>
                    </a:lnTo>
                    <a:lnTo>
                      <a:pt x="246" y="126"/>
                    </a:lnTo>
                    <a:lnTo>
                      <a:pt x="234" y="126"/>
                    </a:lnTo>
                    <a:lnTo>
                      <a:pt x="222" y="114"/>
                    </a:lnTo>
                    <a:lnTo>
                      <a:pt x="204" y="108"/>
                    </a:lnTo>
                    <a:lnTo>
                      <a:pt x="192" y="102"/>
                    </a:lnTo>
                    <a:lnTo>
                      <a:pt x="180" y="102"/>
                    </a:lnTo>
                    <a:lnTo>
                      <a:pt x="168" y="108"/>
                    </a:lnTo>
                    <a:lnTo>
                      <a:pt x="168" y="120"/>
                    </a:lnTo>
                    <a:lnTo>
                      <a:pt x="180" y="132"/>
                    </a:lnTo>
                    <a:lnTo>
                      <a:pt x="186" y="138"/>
                    </a:lnTo>
                    <a:lnTo>
                      <a:pt x="198" y="150"/>
                    </a:lnTo>
                    <a:lnTo>
                      <a:pt x="204" y="162"/>
                    </a:lnTo>
                    <a:lnTo>
                      <a:pt x="204" y="174"/>
                    </a:lnTo>
                    <a:lnTo>
                      <a:pt x="198" y="180"/>
                    </a:lnTo>
                    <a:lnTo>
                      <a:pt x="192" y="192"/>
                    </a:lnTo>
                    <a:lnTo>
                      <a:pt x="192" y="204"/>
                    </a:lnTo>
                    <a:lnTo>
                      <a:pt x="192" y="216"/>
                    </a:lnTo>
                    <a:lnTo>
                      <a:pt x="192" y="228"/>
                    </a:lnTo>
                    <a:lnTo>
                      <a:pt x="192" y="240"/>
                    </a:lnTo>
                    <a:lnTo>
                      <a:pt x="186" y="240"/>
                    </a:lnTo>
                    <a:lnTo>
                      <a:pt x="186" y="234"/>
                    </a:lnTo>
                    <a:lnTo>
                      <a:pt x="186" y="228"/>
                    </a:lnTo>
                    <a:lnTo>
                      <a:pt x="186" y="222"/>
                    </a:lnTo>
                    <a:lnTo>
                      <a:pt x="180" y="222"/>
                    </a:lnTo>
                    <a:lnTo>
                      <a:pt x="180" y="210"/>
                    </a:lnTo>
                    <a:lnTo>
                      <a:pt x="174" y="198"/>
                    </a:lnTo>
                    <a:lnTo>
                      <a:pt x="168" y="186"/>
                    </a:lnTo>
                    <a:lnTo>
                      <a:pt x="168" y="174"/>
                    </a:lnTo>
                    <a:lnTo>
                      <a:pt x="162" y="162"/>
                    </a:lnTo>
                    <a:lnTo>
                      <a:pt x="150" y="156"/>
                    </a:lnTo>
                    <a:lnTo>
                      <a:pt x="138" y="156"/>
                    </a:lnTo>
                    <a:lnTo>
                      <a:pt x="120" y="150"/>
                    </a:lnTo>
                    <a:lnTo>
                      <a:pt x="108" y="144"/>
                    </a:lnTo>
                    <a:lnTo>
                      <a:pt x="96" y="138"/>
                    </a:lnTo>
                    <a:lnTo>
                      <a:pt x="78" y="138"/>
                    </a:lnTo>
                    <a:lnTo>
                      <a:pt x="66" y="138"/>
                    </a:lnTo>
                    <a:lnTo>
                      <a:pt x="42" y="156"/>
                    </a:lnTo>
                    <a:lnTo>
                      <a:pt x="42" y="168"/>
                    </a:lnTo>
                    <a:lnTo>
                      <a:pt x="60" y="168"/>
                    </a:lnTo>
                    <a:lnTo>
                      <a:pt x="78" y="174"/>
                    </a:lnTo>
                    <a:lnTo>
                      <a:pt x="102" y="180"/>
                    </a:lnTo>
                    <a:lnTo>
                      <a:pt x="108" y="192"/>
                    </a:lnTo>
                    <a:lnTo>
                      <a:pt x="102" y="198"/>
                    </a:lnTo>
                    <a:lnTo>
                      <a:pt x="96" y="204"/>
                    </a:lnTo>
                    <a:lnTo>
                      <a:pt x="90" y="210"/>
                    </a:lnTo>
                    <a:lnTo>
                      <a:pt x="90" y="216"/>
                    </a:lnTo>
                    <a:lnTo>
                      <a:pt x="90" y="228"/>
                    </a:lnTo>
                    <a:lnTo>
                      <a:pt x="90" y="234"/>
                    </a:lnTo>
                    <a:lnTo>
                      <a:pt x="96" y="246"/>
                    </a:lnTo>
                    <a:lnTo>
                      <a:pt x="102" y="258"/>
                    </a:lnTo>
                    <a:lnTo>
                      <a:pt x="114" y="270"/>
                    </a:lnTo>
                    <a:lnTo>
                      <a:pt x="126" y="276"/>
                    </a:lnTo>
                    <a:lnTo>
                      <a:pt x="138" y="282"/>
                    </a:lnTo>
                    <a:lnTo>
                      <a:pt x="150" y="288"/>
                    </a:lnTo>
                    <a:lnTo>
                      <a:pt x="150" y="294"/>
                    </a:lnTo>
                    <a:lnTo>
                      <a:pt x="144" y="294"/>
                    </a:lnTo>
                    <a:lnTo>
                      <a:pt x="144" y="300"/>
                    </a:lnTo>
                    <a:lnTo>
                      <a:pt x="138" y="300"/>
                    </a:lnTo>
                    <a:lnTo>
                      <a:pt x="126" y="288"/>
                    </a:lnTo>
                    <a:lnTo>
                      <a:pt x="114" y="282"/>
                    </a:lnTo>
                    <a:lnTo>
                      <a:pt x="102" y="270"/>
                    </a:lnTo>
                    <a:lnTo>
                      <a:pt x="96" y="264"/>
                    </a:lnTo>
                    <a:lnTo>
                      <a:pt x="84" y="258"/>
                    </a:lnTo>
                    <a:lnTo>
                      <a:pt x="66" y="258"/>
                    </a:lnTo>
                    <a:lnTo>
                      <a:pt x="54" y="258"/>
                    </a:lnTo>
                    <a:lnTo>
                      <a:pt x="42" y="264"/>
                    </a:lnTo>
                    <a:lnTo>
                      <a:pt x="30" y="270"/>
                    </a:lnTo>
                    <a:lnTo>
                      <a:pt x="18" y="276"/>
                    </a:lnTo>
                    <a:lnTo>
                      <a:pt x="12" y="288"/>
                    </a:lnTo>
                    <a:lnTo>
                      <a:pt x="0" y="300"/>
                    </a:lnTo>
                    <a:lnTo>
                      <a:pt x="0" y="306"/>
                    </a:lnTo>
                    <a:lnTo>
                      <a:pt x="0" y="312"/>
                    </a:lnTo>
                    <a:lnTo>
                      <a:pt x="0" y="324"/>
                    </a:lnTo>
                    <a:lnTo>
                      <a:pt x="0" y="336"/>
                    </a:lnTo>
                    <a:lnTo>
                      <a:pt x="6" y="342"/>
                    </a:lnTo>
                    <a:lnTo>
                      <a:pt x="6" y="354"/>
                    </a:lnTo>
                    <a:lnTo>
                      <a:pt x="6" y="348"/>
                    </a:lnTo>
                    <a:lnTo>
                      <a:pt x="12" y="348"/>
                    </a:lnTo>
                    <a:lnTo>
                      <a:pt x="18" y="342"/>
                    </a:lnTo>
                    <a:lnTo>
                      <a:pt x="24" y="330"/>
                    </a:lnTo>
                    <a:lnTo>
                      <a:pt x="30" y="324"/>
                    </a:lnTo>
                    <a:lnTo>
                      <a:pt x="36" y="318"/>
                    </a:lnTo>
                    <a:lnTo>
                      <a:pt x="48" y="312"/>
                    </a:lnTo>
                    <a:lnTo>
                      <a:pt x="54" y="306"/>
                    </a:lnTo>
                    <a:lnTo>
                      <a:pt x="66" y="330"/>
                    </a:lnTo>
                    <a:lnTo>
                      <a:pt x="72" y="330"/>
                    </a:lnTo>
                    <a:lnTo>
                      <a:pt x="72" y="336"/>
                    </a:lnTo>
                    <a:lnTo>
                      <a:pt x="78" y="342"/>
                    </a:lnTo>
                    <a:lnTo>
                      <a:pt x="78" y="348"/>
                    </a:lnTo>
                    <a:lnTo>
                      <a:pt x="84" y="354"/>
                    </a:lnTo>
                    <a:lnTo>
                      <a:pt x="84" y="360"/>
                    </a:lnTo>
                    <a:lnTo>
                      <a:pt x="90" y="366"/>
                    </a:lnTo>
                    <a:lnTo>
                      <a:pt x="102" y="366"/>
                    </a:lnTo>
                    <a:lnTo>
                      <a:pt x="108" y="366"/>
                    </a:lnTo>
                    <a:lnTo>
                      <a:pt x="114" y="366"/>
                    </a:lnTo>
                    <a:lnTo>
                      <a:pt x="126" y="366"/>
                    </a:lnTo>
                    <a:lnTo>
                      <a:pt x="132" y="366"/>
                    </a:lnTo>
                    <a:lnTo>
                      <a:pt x="126" y="378"/>
                    </a:lnTo>
                    <a:lnTo>
                      <a:pt x="126" y="384"/>
                    </a:lnTo>
                    <a:lnTo>
                      <a:pt x="120" y="396"/>
                    </a:lnTo>
                    <a:lnTo>
                      <a:pt x="114" y="402"/>
                    </a:lnTo>
                    <a:lnTo>
                      <a:pt x="114" y="414"/>
                    </a:lnTo>
                    <a:lnTo>
                      <a:pt x="108" y="420"/>
                    </a:lnTo>
                    <a:lnTo>
                      <a:pt x="102" y="420"/>
                    </a:lnTo>
                    <a:lnTo>
                      <a:pt x="96" y="426"/>
                    </a:lnTo>
                    <a:lnTo>
                      <a:pt x="90" y="426"/>
                    </a:lnTo>
                    <a:lnTo>
                      <a:pt x="90" y="420"/>
                    </a:lnTo>
                    <a:lnTo>
                      <a:pt x="84" y="420"/>
                    </a:lnTo>
                    <a:lnTo>
                      <a:pt x="78" y="420"/>
                    </a:lnTo>
                    <a:lnTo>
                      <a:pt x="78" y="426"/>
                    </a:lnTo>
                    <a:lnTo>
                      <a:pt x="84" y="438"/>
                    </a:lnTo>
                    <a:lnTo>
                      <a:pt x="96" y="444"/>
                    </a:lnTo>
                    <a:lnTo>
                      <a:pt x="108" y="456"/>
                    </a:lnTo>
                    <a:lnTo>
                      <a:pt x="120" y="462"/>
                    </a:lnTo>
                    <a:lnTo>
                      <a:pt x="132" y="468"/>
                    </a:lnTo>
                    <a:lnTo>
                      <a:pt x="150" y="468"/>
                    </a:lnTo>
                    <a:lnTo>
                      <a:pt x="150" y="474"/>
                    </a:lnTo>
                    <a:lnTo>
                      <a:pt x="144" y="486"/>
                    </a:lnTo>
                    <a:lnTo>
                      <a:pt x="138" y="486"/>
                    </a:lnTo>
                    <a:lnTo>
                      <a:pt x="132" y="492"/>
                    </a:lnTo>
                    <a:lnTo>
                      <a:pt x="126" y="498"/>
                    </a:lnTo>
                    <a:lnTo>
                      <a:pt x="120" y="504"/>
                    </a:lnTo>
                    <a:lnTo>
                      <a:pt x="120" y="510"/>
                    </a:lnTo>
                    <a:lnTo>
                      <a:pt x="126" y="516"/>
                    </a:lnTo>
                    <a:lnTo>
                      <a:pt x="138" y="522"/>
                    </a:lnTo>
                    <a:lnTo>
                      <a:pt x="150" y="528"/>
                    </a:lnTo>
                    <a:lnTo>
                      <a:pt x="162" y="534"/>
                    </a:lnTo>
                    <a:lnTo>
                      <a:pt x="174" y="534"/>
                    </a:lnTo>
                    <a:lnTo>
                      <a:pt x="186" y="534"/>
                    </a:lnTo>
                    <a:lnTo>
                      <a:pt x="186" y="546"/>
                    </a:lnTo>
                    <a:lnTo>
                      <a:pt x="180" y="552"/>
                    </a:lnTo>
                    <a:lnTo>
                      <a:pt x="174" y="564"/>
                    </a:lnTo>
                    <a:lnTo>
                      <a:pt x="168" y="576"/>
                    </a:lnTo>
                    <a:lnTo>
                      <a:pt x="162" y="582"/>
                    </a:lnTo>
                    <a:lnTo>
                      <a:pt x="150" y="588"/>
                    </a:lnTo>
                    <a:lnTo>
                      <a:pt x="156" y="594"/>
                    </a:lnTo>
                    <a:lnTo>
                      <a:pt x="162" y="600"/>
                    </a:lnTo>
                    <a:lnTo>
                      <a:pt x="174" y="600"/>
                    </a:lnTo>
                    <a:lnTo>
                      <a:pt x="186" y="600"/>
                    </a:lnTo>
                    <a:lnTo>
                      <a:pt x="198" y="600"/>
                    </a:lnTo>
                    <a:lnTo>
                      <a:pt x="204" y="600"/>
                    </a:lnTo>
                    <a:lnTo>
                      <a:pt x="198" y="612"/>
                    </a:lnTo>
                    <a:lnTo>
                      <a:pt x="192" y="618"/>
                    </a:lnTo>
                    <a:lnTo>
                      <a:pt x="186" y="624"/>
                    </a:lnTo>
                    <a:lnTo>
                      <a:pt x="180" y="630"/>
                    </a:lnTo>
                    <a:lnTo>
                      <a:pt x="180" y="642"/>
                    </a:lnTo>
                    <a:lnTo>
                      <a:pt x="180" y="648"/>
                    </a:lnTo>
                    <a:lnTo>
                      <a:pt x="168" y="660"/>
                    </a:lnTo>
                    <a:lnTo>
                      <a:pt x="168" y="672"/>
                    </a:lnTo>
                    <a:lnTo>
                      <a:pt x="168" y="678"/>
                    </a:lnTo>
                    <a:lnTo>
                      <a:pt x="174" y="690"/>
                    </a:lnTo>
                    <a:lnTo>
                      <a:pt x="180" y="702"/>
                    </a:lnTo>
                    <a:lnTo>
                      <a:pt x="186" y="714"/>
                    </a:lnTo>
                    <a:lnTo>
                      <a:pt x="192" y="714"/>
                    </a:lnTo>
                    <a:lnTo>
                      <a:pt x="192" y="708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92" y="690"/>
                    </a:lnTo>
                    <a:lnTo>
                      <a:pt x="198" y="684"/>
                    </a:lnTo>
                    <a:lnTo>
                      <a:pt x="204" y="678"/>
                    </a:lnTo>
                    <a:lnTo>
                      <a:pt x="210" y="672"/>
                    </a:lnTo>
                    <a:lnTo>
                      <a:pt x="216" y="666"/>
                    </a:lnTo>
                    <a:lnTo>
                      <a:pt x="222" y="666"/>
                    </a:lnTo>
                    <a:lnTo>
                      <a:pt x="234" y="666"/>
                    </a:lnTo>
                    <a:lnTo>
                      <a:pt x="222" y="678"/>
                    </a:lnTo>
                    <a:lnTo>
                      <a:pt x="216" y="690"/>
                    </a:lnTo>
                    <a:lnTo>
                      <a:pt x="210" y="702"/>
                    </a:lnTo>
                    <a:lnTo>
                      <a:pt x="210" y="714"/>
                    </a:lnTo>
                    <a:lnTo>
                      <a:pt x="210" y="726"/>
                    </a:lnTo>
                    <a:lnTo>
                      <a:pt x="204" y="738"/>
                    </a:lnTo>
                    <a:lnTo>
                      <a:pt x="216" y="750"/>
                    </a:lnTo>
                    <a:lnTo>
                      <a:pt x="222" y="750"/>
                    </a:lnTo>
                    <a:lnTo>
                      <a:pt x="234" y="744"/>
                    </a:lnTo>
                    <a:lnTo>
                      <a:pt x="246" y="732"/>
                    </a:lnTo>
                    <a:lnTo>
                      <a:pt x="258" y="732"/>
                    </a:lnTo>
                    <a:lnTo>
                      <a:pt x="270" y="738"/>
                    </a:lnTo>
                    <a:lnTo>
                      <a:pt x="264" y="738"/>
                    </a:lnTo>
                    <a:lnTo>
                      <a:pt x="258" y="744"/>
                    </a:lnTo>
                    <a:lnTo>
                      <a:pt x="252" y="744"/>
                    </a:lnTo>
                    <a:lnTo>
                      <a:pt x="246" y="762"/>
                    </a:lnTo>
                    <a:lnTo>
                      <a:pt x="240" y="774"/>
                    </a:lnTo>
                    <a:lnTo>
                      <a:pt x="240" y="792"/>
                    </a:lnTo>
                    <a:lnTo>
                      <a:pt x="240" y="810"/>
                    </a:lnTo>
                    <a:lnTo>
                      <a:pt x="240" y="828"/>
                    </a:lnTo>
                    <a:lnTo>
                      <a:pt x="240" y="840"/>
                    </a:lnTo>
                    <a:lnTo>
                      <a:pt x="246" y="840"/>
                    </a:lnTo>
                    <a:lnTo>
                      <a:pt x="252" y="834"/>
                    </a:lnTo>
                    <a:lnTo>
                      <a:pt x="258" y="822"/>
                    </a:lnTo>
                    <a:lnTo>
                      <a:pt x="258" y="816"/>
                    </a:lnTo>
                    <a:lnTo>
                      <a:pt x="264" y="810"/>
                    </a:lnTo>
                    <a:lnTo>
                      <a:pt x="270" y="804"/>
                    </a:lnTo>
                    <a:lnTo>
                      <a:pt x="276" y="792"/>
                    </a:lnTo>
                    <a:lnTo>
                      <a:pt x="282" y="786"/>
                    </a:lnTo>
                    <a:lnTo>
                      <a:pt x="288" y="786"/>
                    </a:lnTo>
                    <a:lnTo>
                      <a:pt x="294" y="792"/>
                    </a:lnTo>
                    <a:lnTo>
                      <a:pt x="300" y="798"/>
                    </a:lnTo>
                    <a:lnTo>
                      <a:pt x="306" y="798"/>
                    </a:lnTo>
                    <a:lnTo>
                      <a:pt x="312" y="804"/>
                    </a:lnTo>
                    <a:lnTo>
                      <a:pt x="324" y="828"/>
                    </a:lnTo>
                    <a:lnTo>
                      <a:pt x="324" y="846"/>
                    </a:lnTo>
                    <a:lnTo>
                      <a:pt x="318" y="864"/>
                    </a:lnTo>
                    <a:lnTo>
                      <a:pt x="312" y="882"/>
                    </a:lnTo>
                    <a:lnTo>
                      <a:pt x="312" y="900"/>
                    </a:lnTo>
                    <a:lnTo>
                      <a:pt x="318" y="918"/>
                    </a:lnTo>
                    <a:lnTo>
                      <a:pt x="288" y="942"/>
                    </a:lnTo>
                    <a:lnTo>
                      <a:pt x="288" y="948"/>
                    </a:lnTo>
                    <a:lnTo>
                      <a:pt x="294" y="948"/>
                    </a:lnTo>
                    <a:lnTo>
                      <a:pt x="300" y="954"/>
                    </a:lnTo>
                    <a:lnTo>
                      <a:pt x="306" y="954"/>
                    </a:lnTo>
                    <a:lnTo>
                      <a:pt x="312" y="954"/>
                    </a:lnTo>
                    <a:lnTo>
                      <a:pt x="318" y="954"/>
                    </a:lnTo>
                    <a:lnTo>
                      <a:pt x="330" y="954"/>
                    </a:lnTo>
                    <a:lnTo>
                      <a:pt x="342" y="948"/>
                    </a:lnTo>
                    <a:lnTo>
                      <a:pt x="354" y="942"/>
                    </a:lnTo>
                    <a:lnTo>
                      <a:pt x="366" y="930"/>
                    </a:lnTo>
                    <a:lnTo>
                      <a:pt x="372" y="924"/>
                    </a:lnTo>
                    <a:lnTo>
                      <a:pt x="384" y="912"/>
                    </a:lnTo>
                    <a:lnTo>
                      <a:pt x="384" y="924"/>
                    </a:lnTo>
                    <a:lnTo>
                      <a:pt x="384" y="936"/>
                    </a:lnTo>
                    <a:lnTo>
                      <a:pt x="390" y="948"/>
                    </a:lnTo>
                    <a:lnTo>
                      <a:pt x="390" y="954"/>
                    </a:lnTo>
                    <a:lnTo>
                      <a:pt x="384" y="966"/>
                    </a:lnTo>
                    <a:lnTo>
                      <a:pt x="378" y="978"/>
                    </a:lnTo>
                    <a:lnTo>
                      <a:pt x="372" y="978"/>
                    </a:lnTo>
                    <a:lnTo>
                      <a:pt x="366" y="984"/>
                    </a:lnTo>
                    <a:lnTo>
                      <a:pt x="366" y="990"/>
                    </a:lnTo>
                    <a:lnTo>
                      <a:pt x="378" y="990"/>
                    </a:lnTo>
                    <a:lnTo>
                      <a:pt x="390" y="984"/>
                    </a:lnTo>
                    <a:lnTo>
                      <a:pt x="402" y="978"/>
                    </a:lnTo>
                    <a:lnTo>
                      <a:pt x="408" y="966"/>
                    </a:lnTo>
                    <a:lnTo>
                      <a:pt x="420" y="954"/>
                    </a:lnTo>
                    <a:lnTo>
                      <a:pt x="426" y="948"/>
                    </a:lnTo>
                    <a:lnTo>
                      <a:pt x="432" y="942"/>
                    </a:lnTo>
                    <a:lnTo>
                      <a:pt x="438" y="942"/>
                    </a:lnTo>
                    <a:lnTo>
                      <a:pt x="444" y="942"/>
                    </a:lnTo>
                    <a:lnTo>
                      <a:pt x="444" y="936"/>
                    </a:lnTo>
                    <a:lnTo>
                      <a:pt x="450" y="930"/>
                    </a:lnTo>
                    <a:lnTo>
                      <a:pt x="456" y="936"/>
                    </a:lnTo>
                    <a:lnTo>
                      <a:pt x="456" y="948"/>
                    </a:lnTo>
                    <a:lnTo>
                      <a:pt x="456" y="960"/>
                    </a:lnTo>
                    <a:lnTo>
                      <a:pt x="456" y="972"/>
                    </a:lnTo>
                    <a:lnTo>
                      <a:pt x="462" y="984"/>
                    </a:lnTo>
                    <a:lnTo>
                      <a:pt x="462" y="996"/>
                    </a:lnTo>
                    <a:lnTo>
                      <a:pt x="468" y="1008"/>
                    </a:lnTo>
                    <a:lnTo>
                      <a:pt x="474" y="1020"/>
                    </a:lnTo>
                    <a:lnTo>
                      <a:pt x="486" y="1032"/>
                    </a:lnTo>
                    <a:lnTo>
                      <a:pt x="498" y="1044"/>
                    </a:lnTo>
                    <a:lnTo>
                      <a:pt x="504" y="1050"/>
                    </a:lnTo>
                    <a:lnTo>
                      <a:pt x="510" y="1062"/>
                    </a:lnTo>
                    <a:lnTo>
                      <a:pt x="516" y="1062"/>
                    </a:lnTo>
                    <a:lnTo>
                      <a:pt x="522" y="1062"/>
                    </a:lnTo>
                    <a:lnTo>
                      <a:pt x="516" y="1050"/>
                    </a:lnTo>
                    <a:lnTo>
                      <a:pt x="516" y="1032"/>
                    </a:lnTo>
                    <a:lnTo>
                      <a:pt x="516" y="1020"/>
                    </a:lnTo>
                    <a:lnTo>
                      <a:pt x="522" y="1002"/>
                    </a:lnTo>
                    <a:lnTo>
                      <a:pt x="522" y="990"/>
                    </a:lnTo>
                    <a:lnTo>
                      <a:pt x="528" y="972"/>
                    </a:lnTo>
                    <a:lnTo>
                      <a:pt x="534" y="996"/>
                    </a:lnTo>
                    <a:lnTo>
                      <a:pt x="546" y="1014"/>
                    </a:lnTo>
                    <a:lnTo>
                      <a:pt x="552" y="1026"/>
                    </a:lnTo>
                    <a:lnTo>
                      <a:pt x="570" y="1044"/>
                    </a:lnTo>
                    <a:lnTo>
                      <a:pt x="582" y="1056"/>
                    </a:lnTo>
                    <a:lnTo>
                      <a:pt x="594" y="1074"/>
                    </a:lnTo>
                    <a:lnTo>
                      <a:pt x="606" y="1074"/>
                    </a:lnTo>
                    <a:lnTo>
                      <a:pt x="606" y="1062"/>
                    </a:lnTo>
                    <a:lnTo>
                      <a:pt x="606" y="1050"/>
                    </a:lnTo>
                    <a:lnTo>
                      <a:pt x="606" y="1044"/>
                    </a:lnTo>
                    <a:lnTo>
                      <a:pt x="606" y="1032"/>
                    </a:lnTo>
                    <a:lnTo>
                      <a:pt x="612" y="1026"/>
                    </a:lnTo>
                    <a:lnTo>
                      <a:pt x="618" y="1014"/>
                    </a:lnTo>
                    <a:lnTo>
                      <a:pt x="618" y="1020"/>
                    </a:lnTo>
                    <a:lnTo>
                      <a:pt x="618" y="1032"/>
                    </a:lnTo>
                    <a:lnTo>
                      <a:pt x="624" y="1044"/>
                    </a:lnTo>
                    <a:lnTo>
                      <a:pt x="630" y="1056"/>
                    </a:lnTo>
                    <a:lnTo>
                      <a:pt x="636" y="1068"/>
                    </a:lnTo>
                    <a:lnTo>
                      <a:pt x="642" y="1080"/>
                    </a:lnTo>
                    <a:lnTo>
                      <a:pt x="654" y="1092"/>
                    </a:lnTo>
                    <a:lnTo>
                      <a:pt x="660" y="1092"/>
                    </a:lnTo>
                    <a:lnTo>
                      <a:pt x="666" y="1080"/>
                    </a:lnTo>
                    <a:lnTo>
                      <a:pt x="666" y="1074"/>
                    </a:lnTo>
                    <a:lnTo>
                      <a:pt x="672" y="1062"/>
                    </a:lnTo>
                    <a:lnTo>
                      <a:pt x="672" y="1050"/>
                    </a:lnTo>
                    <a:lnTo>
                      <a:pt x="678" y="1044"/>
                    </a:lnTo>
                    <a:lnTo>
                      <a:pt x="678" y="1050"/>
                    </a:lnTo>
                    <a:lnTo>
                      <a:pt x="684" y="1056"/>
                    </a:lnTo>
                    <a:lnTo>
                      <a:pt x="690" y="1068"/>
                    </a:lnTo>
                    <a:lnTo>
                      <a:pt x="690" y="1074"/>
                    </a:lnTo>
                    <a:lnTo>
                      <a:pt x="696" y="1080"/>
                    </a:lnTo>
                    <a:lnTo>
                      <a:pt x="696" y="1092"/>
                    </a:lnTo>
                    <a:lnTo>
                      <a:pt x="702" y="1098"/>
                    </a:lnTo>
                    <a:lnTo>
                      <a:pt x="696" y="1110"/>
                    </a:lnTo>
                    <a:lnTo>
                      <a:pt x="696" y="1116"/>
                    </a:lnTo>
                    <a:lnTo>
                      <a:pt x="690" y="1128"/>
                    </a:lnTo>
                    <a:lnTo>
                      <a:pt x="690" y="1134"/>
                    </a:lnTo>
                    <a:lnTo>
                      <a:pt x="684" y="1146"/>
                    </a:lnTo>
                    <a:lnTo>
                      <a:pt x="696" y="1146"/>
                    </a:lnTo>
                    <a:lnTo>
                      <a:pt x="708" y="1140"/>
                    </a:lnTo>
                    <a:lnTo>
                      <a:pt x="720" y="1134"/>
                    </a:lnTo>
                    <a:lnTo>
                      <a:pt x="726" y="1128"/>
                    </a:lnTo>
                    <a:lnTo>
                      <a:pt x="738" y="1122"/>
                    </a:lnTo>
                    <a:lnTo>
                      <a:pt x="750" y="1116"/>
                    </a:lnTo>
                    <a:lnTo>
                      <a:pt x="750" y="1122"/>
                    </a:lnTo>
                    <a:lnTo>
                      <a:pt x="756" y="1134"/>
                    </a:lnTo>
                    <a:lnTo>
                      <a:pt x="762" y="1146"/>
                    </a:lnTo>
                    <a:lnTo>
                      <a:pt x="762" y="1158"/>
                    </a:lnTo>
                    <a:lnTo>
                      <a:pt x="768" y="1170"/>
                    </a:lnTo>
                    <a:lnTo>
                      <a:pt x="774" y="1182"/>
                    </a:lnTo>
                    <a:lnTo>
                      <a:pt x="816" y="1158"/>
                    </a:lnTo>
                    <a:lnTo>
                      <a:pt x="834" y="1158"/>
                    </a:lnTo>
                    <a:lnTo>
                      <a:pt x="846" y="1164"/>
                    </a:lnTo>
                    <a:lnTo>
                      <a:pt x="858" y="1176"/>
                    </a:lnTo>
                    <a:lnTo>
                      <a:pt x="864" y="1188"/>
                    </a:lnTo>
                    <a:lnTo>
                      <a:pt x="876" y="1200"/>
                    </a:lnTo>
                    <a:lnTo>
                      <a:pt x="888" y="1212"/>
                    </a:lnTo>
                    <a:lnTo>
                      <a:pt x="882" y="1212"/>
                    </a:lnTo>
                    <a:lnTo>
                      <a:pt x="876" y="1212"/>
                    </a:lnTo>
                    <a:lnTo>
                      <a:pt x="870" y="1218"/>
                    </a:lnTo>
                    <a:lnTo>
                      <a:pt x="864" y="1218"/>
                    </a:lnTo>
                    <a:lnTo>
                      <a:pt x="864" y="1224"/>
                    </a:lnTo>
                    <a:lnTo>
                      <a:pt x="858" y="1224"/>
                    </a:lnTo>
                    <a:lnTo>
                      <a:pt x="852" y="1224"/>
                    </a:lnTo>
                    <a:lnTo>
                      <a:pt x="846" y="1224"/>
                    </a:lnTo>
                    <a:lnTo>
                      <a:pt x="840" y="1218"/>
                    </a:lnTo>
                    <a:lnTo>
                      <a:pt x="834" y="1218"/>
                    </a:lnTo>
                    <a:lnTo>
                      <a:pt x="828" y="1218"/>
                    </a:lnTo>
                    <a:lnTo>
                      <a:pt x="828" y="1224"/>
                    </a:lnTo>
                    <a:lnTo>
                      <a:pt x="834" y="1236"/>
                    </a:lnTo>
                    <a:lnTo>
                      <a:pt x="846" y="1242"/>
                    </a:lnTo>
                    <a:lnTo>
                      <a:pt x="858" y="1254"/>
                    </a:lnTo>
                    <a:lnTo>
                      <a:pt x="870" y="1260"/>
                    </a:lnTo>
                    <a:lnTo>
                      <a:pt x="882" y="1272"/>
                    </a:lnTo>
                    <a:lnTo>
                      <a:pt x="888" y="1278"/>
                    </a:lnTo>
                    <a:lnTo>
                      <a:pt x="876" y="1278"/>
                    </a:lnTo>
                    <a:lnTo>
                      <a:pt x="858" y="1284"/>
                    </a:lnTo>
                    <a:lnTo>
                      <a:pt x="846" y="1290"/>
                    </a:lnTo>
                    <a:lnTo>
                      <a:pt x="828" y="1296"/>
                    </a:lnTo>
                    <a:lnTo>
                      <a:pt x="816" y="1302"/>
                    </a:lnTo>
                    <a:lnTo>
                      <a:pt x="798" y="1308"/>
                    </a:lnTo>
                    <a:lnTo>
                      <a:pt x="774" y="1332"/>
                    </a:lnTo>
                    <a:lnTo>
                      <a:pt x="750" y="1362"/>
                    </a:lnTo>
                    <a:lnTo>
                      <a:pt x="726" y="1386"/>
                    </a:lnTo>
                    <a:lnTo>
                      <a:pt x="708" y="1416"/>
                    </a:lnTo>
                    <a:lnTo>
                      <a:pt x="690" y="1446"/>
                    </a:lnTo>
                    <a:lnTo>
                      <a:pt x="684" y="1482"/>
                    </a:lnTo>
                    <a:lnTo>
                      <a:pt x="678" y="1518"/>
                    </a:lnTo>
                    <a:lnTo>
                      <a:pt x="672" y="1554"/>
                    </a:lnTo>
                    <a:lnTo>
                      <a:pt x="672" y="1596"/>
                    </a:lnTo>
                    <a:lnTo>
                      <a:pt x="678" y="1632"/>
                    </a:lnTo>
                    <a:lnTo>
                      <a:pt x="690" y="1668"/>
                    </a:lnTo>
                    <a:lnTo>
                      <a:pt x="708" y="1704"/>
                    </a:lnTo>
                    <a:lnTo>
                      <a:pt x="720" y="1740"/>
                    </a:lnTo>
                    <a:lnTo>
                      <a:pt x="714" y="1770"/>
                    </a:lnTo>
                    <a:lnTo>
                      <a:pt x="696" y="1794"/>
                    </a:lnTo>
                    <a:lnTo>
                      <a:pt x="678" y="1818"/>
                    </a:lnTo>
                    <a:lnTo>
                      <a:pt x="654" y="1842"/>
                    </a:lnTo>
                    <a:lnTo>
                      <a:pt x="636" y="1872"/>
                    </a:lnTo>
                    <a:lnTo>
                      <a:pt x="624" y="1872"/>
                    </a:lnTo>
                    <a:lnTo>
                      <a:pt x="618" y="1884"/>
                    </a:lnTo>
                    <a:lnTo>
                      <a:pt x="612" y="1896"/>
                    </a:lnTo>
                    <a:lnTo>
                      <a:pt x="600" y="1902"/>
                    </a:lnTo>
                    <a:lnTo>
                      <a:pt x="588" y="1908"/>
                    </a:lnTo>
                    <a:lnTo>
                      <a:pt x="576" y="1914"/>
                    </a:lnTo>
                    <a:lnTo>
                      <a:pt x="564" y="1914"/>
                    </a:lnTo>
                    <a:lnTo>
                      <a:pt x="558" y="1908"/>
                    </a:lnTo>
                    <a:lnTo>
                      <a:pt x="558" y="1896"/>
                    </a:lnTo>
                    <a:lnTo>
                      <a:pt x="552" y="1890"/>
                    </a:lnTo>
                    <a:lnTo>
                      <a:pt x="552" y="1884"/>
                    </a:lnTo>
                    <a:lnTo>
                      <a:pt x="546" y="1878"/>
                    </a:lnTo>
                    <a:lnTo>
                      <a:pt x="540" y="1872"/>
                    </a:lnTo>
                    <a:lnTo>
                      <a:pt x="528" y="1866"/>
                    </a:lnTo>
                    <a:lnTo>
                      <a:pt x="522" y="1866"/>
                    </a:lnTo>
                    <a:lnTo>
                      <a:pt x="510" y="1866"/>
                    </a:lnTo>
                    <a:lnTo>
                      <a:pt x="504" y="1866"/>
                    </a:lnTo>
                    <a:lnTo>
                      <a:pt x="492" y="1866"/>
                    </a:lnTo>
                    <a:lnTo>
                      <a:pt x="486" y="1866"/>
                    </a:lnTo>
                    <a:lnTo>
                      <a:pt x="474" y="1872"/>
                    </a:lnTo>
                    <a:lnTo>
                      <a:pt x="462" y="1878"/>
                    </a:lnTo>
                    <a:lnTo>
                      <a:pt x="450" y="1878"/>
                    </a:lnTo>
                    <a:lnTo>
                      <a:pt x="438" y="1878"/>
                    </a:lnTo>
                    <a:lnTo>
                      <a:pt x="426" y="1878"/>
                    </a:lnTo>
                    <a:lnTo>
                      <a:pt x="414" y="1884"/>
                    </a:lnTo>
                    <a:lnTo>
                      <a:pt x="402" y="1884"/>
                    </a:lnTo>
                    <a:lnTo>
                      <a:pt x="396" y="1890"/>
                    </a:lnTo>
                    <a:lnTo>
                      <a:pt x="390" y="1896"/>
                    </a:lnTo>
                    <a:lnTo>
                      <a:pt x="390" y="1908"/>
                    </a:lnTo>
                    <a:lnTo>
                      <a:pt x="384" y="1914"/>
                    </a:lnTo>
                    <a:lnTo>
                      <a:pt x="378" y="1926"/>
                    </a:lnTo>
                    <a:lnTo>
                      <a:pt x="384" y="1926"/>
                    </a:lnTo>
                    <a:lnTo>
                      <a:pt x="396" y="1926"/>
                    </a:lnTo>
                    <a:lnTo>
                      <a:pt x="402" y="1926"/>
                    </a:lnTo>
                    <a:lnTo>
                      <a:pt x="408" y="1920"/>
                    </a:lnTo>
                    <a:lnTo>
                      <a:pt x="414" y="1920"/>
                    </a:lnTo>
                    <a:lnTo>
                      <a:pt x="426" y="1920"/>
                    </a:lnTo>
                    <a:lnTo>
                      <a:pt x="432" y="1920"/>
                    </a:lnTo>
                    <a:lnTo>
                      <a:pt x="438" y="1920"/>
                    </a:lnTo>
                    <a:lnTo>
                      <a:pt x="444" y="1926"/>
                    </a:lnTo>
                    <a:lnTo>
                      <a:pt x="450" y="1932"/>
                    </a:lnTo>
                    <a:lnTo>
                      <a:pt x="456" y="1938"/>
                    </a:lnTo>
                    <a:lnTo>
                      <a:pt x="462" y="1944"/>
                    </a:lnTo>
                    <a:lnTo>
                      <a:pt x="450" y="1944"/>
                    </a:lnTo>
                    <a:lnTo>
                      <a:pt x="438" y="1950"/>
                    </a:lnTo>
                    <a:lnTo>
                      <a:pt x="426" y="1962"/>
                    </a:lnTo>
                    <a:lnTo>
                      <a:pt x="414" y="1968"/>
                    </a:lnTo>
                    <a:lnTo>
                      <a:pt x="408" y="1980"/>
                    </a:lnTo>
                    <a:lnTo>
                      <a:pt x="402" y="1992"/>
                    </a:lnTo>
                    <a:lnTo>
                      <a:pt x="402" y="2004"/>
                    </a:lnTo>
                    <a:lnTo>
                      <a:pt x="402" y="2016"/>
                    </a:lnTo>
                    <a:lnTo>
                      <a:pt x="402" y="2028"/>
                    </a:lnTo>
                    <a:lnTo>
                      <a:pt x="408" y="2040"/>
                    </a:lnTo>
                    <a:lnTo>
                      <a:pt x="414" y="2052"/>
                    </a:lnTo>
                    <a:lnTo>
                      <a:pt x="420" y="2058"/>
                    </a:lnTo>
                    <a:lnTo>
                      <a:pt x="426" y="2058"/>
                    </a:lnTo>
                    <a:lnTo>
                      <a:pt x="426" y="2052"/>
                    </a:lnTo>
                    <a:lnTo>
                      <a:pt x="426" y="2046"/>
                    </a:lnTo>
                    <a:lnTo>
                      <a:pt x="426" y="2040"/>
                    </a:lnTo>
                    <a:lnTo>
                      <a:pt x="432" y="2028"/>
                    </a:lnTo>
                    <a:lnTo>
                      <a:pt x="432" y="2022"/>
                    </a:lnTo>
                    <a:lnTo>
                      <a:pt x="438" y="2016"/>
                    </a:lnTo>
                    <a:lnTo>
                      <a:pt x="444" y="2010"/>
                    </a:lnTo>
                    <a:lnTo>
                      <a:pt x="450" y="2004"/>
                    </a:lnTo>
                    <a:lnTo>
                      <a:pt x="462" y="1998"/>
                    </a:lnTo>
                    <a:lnTo>
                      <a:pt x="468" y="2004"/>
                    </a:lnTo>
                    <a:lnTo>
                      <a:pt x="474" y="2004"/>
                    </a:lnTo>
                    <a:lnTo>
                      <a:pt x="474" y="2010"/>
                    </a:lnTo>
                    <a:lnTo>
                      <a:pt x="480" y="2010"/>
                    </a:lnTo>
                    <a:lnTo>
                      <a:pt x="480" y="2016"/>
                    </a:lnTo>
                    <a:lnTo>
                      <a:pt x="486" y="2022"/>
                    </a:lnTo>
                    <a:lnTo>
                      <a:pt x="486" y="2028"/>
                    </a:lnTo>
                    <a:lnTo>
                      <a:pt x="492" y="2028"/>
                    </a:lnTo>
                    <a:lnTo>
                      <a:pt x="498" y="2034"/>
                    </a:lnTo>
                    <a:lnTo>
                      <a:pt x="504" y="2034"/>
                    </a:lnTo>
                    <a:lnTo>
                      <a:pt x="510" y="2034"/>
                    </a:lnTo>
                    <a:lnTo>
                      <a:pt x="516" y="2034"/>
                    </a:lnTo>
                    <a:lnTo>
                      <a:pt x="522" y="2028"/>
                    </a:lnTo>
                    <a:lnTo>
                      <a:pt x="528" y="2022"/>
                    </a:lnTo>
                    <a:lnTo>
                      <a:pt x="534" y="2016"/>
                    </a:lnTo>
                    <a:lnTo>
                      <a:pt x="540" y="2016"/>
                    </a:lnTo>
                    <a:lnTo>
                      <a:pt x="540" y="2010"/>
                    </a:lnTo>
                    <a:lnTo>
                      <a:pt x="546" y="2010"/>
                    </a:lnTo>
                    <a:lnTo>
                      <a:pt x="546" y="2016"/>
                    </a:lnTo>
                    <a:lnTo>
                      <a:pt x="546" y="2022"/>
                    </a:lnTo>
                    <a:lnTo>
                      <a:pt x="546" y="2028"/>
                    </a:lnTo>
                    <a:lnTo>
                      <a:pt x="540" y="2034"/>
                    </a:lnTo>
                    <a:lnTo>
                      <a:pt x="546" y="2040"/>
                    </a:lnTo>
                    <a:lnTo>
                      <a:pt x="546" y="2046"/>
                    </a:lnTo>
                    <a:lnTo>
                      <a:pt x="552" y="2046"/>
                    </a:lnTo>
                    <a:lnTo>
                      <a:pt x="558" y="2052"/>
                    </a:lnTo>
                    <a:lnTo>
                      <a:pt x="552" y="2064"/>
                    </a:lnTo>
                    <a:lnTo>
                      <a:pt x="552" y="2070"/>
                    </a:lnTo>
                    <a:lnTo>
                      <a:pt x="546" y="2082"/>
                    </a:lnTo>
                    <a:lnTo>
                      <a:pt x="546" y="2088"/>
                    </a:lnTo>
                    <a:lnTo>
                      <a:pt x="552" y="2094"/>
                    </a:lnTo>
                    <a:lnTo>
                      <a:pt x="552" y="2100"/>
                    </a:lnTo>
                    <a:lnTo>
                      <a:pt x="558" y="2106"/>
                    </a:lnTo>
                    <a:lnTo>
                      <a:pt x="564" y="2112"/>
                    </a:lnTo>
                    <a:lnTo>
                      <a:pt x="576" y="2118"/>
                    </a:lnTo>
                    <a:lnTo>
                      <a:pt x="588" y="2124"/>
                    </a:lnTo>
                    <a:lnTo>
                      <a:pt x="600" y="2130"/>
                    </a:lnTo>
                    <a:lnTo>
                      <a:pt x="612" y="2130"/>
                    </a:lnTo>
                    <a:lnTo>
                      <a:pt x="624" y="2130"/>
                    </a:lnTo>
                    <a:lnTo>
                      <a:pt x="630" y="2130"/>
                    </a:lnTo>
                    <a:lnTo>
                      <a:pt x="630" y="2124"/>
                    </a:lnTo>
                    <a:lnTo>
                      <a:pt x="636" y="2124"/>
                    </a:lnTo>
                    <a:lnTo>
                      <a:pt x="636" y="2118"/>
                    </a:lnTo>
                    <a:lnTo>
                      <a:pt x="630" y="2112"/>
                    </a:lnTo>
                    <a:lnTo>
                      <a:pt x="624" y="2106"/>
                    </a:lnTo>
                    <a:lnTo>
                      <a:pt x="618" y="2100"/>
                    </a:lnTo>
                    <a:lnTo>
                      <a:pt x="612" y="2088"/>
                    </a:lnTo>
                    <a:lnTo>
                      <a:pt x="606" y="2082"/>
                    </a:lnTo>
                    <a:lnTo>
                      <a:pt x="600" y="2076"/>
                    </a:lnTo>
                    <a:lnTo>
                      <a:pt x="594" y="2064"/>
                    </a:lnTo>
                    <a:lnTo>
                      <a:pt x="600" y="2064"/>
                    </a:lnTo>
                    <a:lnTo>
                      <a:pt x="606" y="2064"/>
                    </a:lnTo>
                    <a:lnTo>
                      <a:pt x="612" y="2058"/>
                    </a:lnTo>
                    <a:lnTo>
                      <a:pt x="618" y="2058"/>
                    </a:lnTo>
                    <a:lnTo>
                      <a:pt x="624" y="2058"/>
                    </a:lnTo>
                    <a:lnTo>
                      <a:pt x="624" y="2052"/>
                    </a:lnTo>
                    <a:lnTo>
                      <a:pt x="630" y="2052"/>
                    </a:lnTo>
                    <a:lnTo>
                      <a:pt x="642" y="2052"/>
                    </a:lnTo>
                    <a:lnTo>
                      <a:pt x="642" y="2046"/>
                    </a:lnTo>
                    <a:lnTo>
                      <a:pt x="648" y="2034"/>
                    </a:lnTo>
                    <a:lnTo>
                      <a:pt x="648" y="2028"/>
                    </a:lnTo>
                    <a:lnTo>
                      <a:pt x="654" y="2016"/>
                    </a:lnTo>
                    <a:lnTo>
                      <a:pt x="654" y="2010"/>
                    </a:lnTo>
                    <a:lnTo>
                      <a:pt x="666" y="2016"/>
                    </a:lnTo>
                    <a:lnTo>
                      <a:pt x="678" y="2022"/>
                    </a:lnTo>
                    <a:lnTo>
                      <a:pt x="690" y="2028"/>
                    </a:lnTo>
                    <a:lnTo>
                      <a:pt x="702" y="2028"/>
                    </a:lnTo>
                    <a:lnTo>
                      <a:pt x="714" y="2034"/>
                    </a:lnTo>
                    <a:lnTo>
                      <a:pt x="720" y="2034"/>
                    </a:lnTo>
                    <a:lnTo>
                      <a:pt x="726" y="2028"/>
                    </a:lnTo>
                    <a:lnTo>
                      <a:pt x="732" y="2028"/>
                    </a:lnTo>
                    <a:lnTo>
                      <a:pt x="738" y="2028"/>
                    </a:lnTo>
                    <a:lnTo>
                      <a:pt x="744" y="2022"/>
                    </a:lnTo>
                    <a:lnTo>
                      <a:pt x="744" y="2016"/>
                    </a:lnTo>
                    <a:lnTo>
                      <a:pt x="738" y="2010"/>
                    </a:lnTo>
                    <a:lnTo>
                      <a:pt x="738" y="1998"/>
                    </a:lnTo>
                    <a:lnTo>
                      <a:pt x="738" y="1992"/>
                    </a:lnTo>
                    <a:lnTo>
                      <a:pt x="738" y="1980"/>
                    </a:lnTo>
                    <a:lnTo>
                      <a:pt x="744" y="1974"/>
                    </a:lnTo>
                    <a:lnTo>
                      <a:pt x="744" y="1968"/>
                    </a:lnTo>
                    <a:lnTo>
                      <a:pt x="756" y="1974"/>
                    </a:lnTo>
                    <a:lnTo>
                      <a:pt x="762" y="1986"/>
                    </a:lnTo>
                    <a:lnTo>
                      <a:pt x="774" y="1998"/>
                    </a:lnTo>
                    <a:lnTo>
                      <a:pt x="780" y="2004"/>
                    </a:lnTo>
                    <a:lnTo>
                      <a:pt x="792" y="2010"/>
                    </a:lnTo>
                    <a:lnTo>
                      <a:pt x="804" y="2010"/>
                    </a:lnTo>
                    <a:lnTo>
                      <a:pt x="810" y="2010"/>
                    </a:lnTo>
                    <a:lnTo>
                      <a:pt x="810" y="2004"/>
                    </a:lnTo>
                    <a:lnTo>
                      <a:pt x="804" y="1998"/>
                    </a:lnTo>
                    <a:lnTo>
                      <a:pt x="798" y="1992"/>
                    </a:lnTo>
                    <a:lnTo>
                      <a:pt x="798" y="1986"/>
                    </a:lnTo>
                    <a:lnTo>
                      <a:pt x="798" y="1980"/>
                    </a:lnTo>
                    <a:lnTo>
                      <a:pt x="798" y="1968"/>
                    </a:lnTo>
                    <a:lnTo>
                      <a:pt x="798" y="1962"/>
                    </a:lnTo>
                    <a:lnTo>
                      <a:pt x="798" y="1950"/>
                    </a:lnTo>
                    <a:lnTo>
                      <a:pt x="798" y="1944"/>
                    </a:lnTo>
                    <a:lnTo>
                      <a:pt x="804" y="1938"/>
                    </a:lnTo>
                    <a:lnTo>
                      <a:pt x="822" y="1956"/>
                    </a:lnTo>
                    <a:lnTo>
                      <a:pt x="828" y="1956"/>
                    </a:lnTo>
                    <a:lnTo>
                      <a:pt x="834" y="1962"/>
                    </a:lnTo>
                    <a:lnTo>
                      <a:pt x="840" y="1962"/>
                    </a:lnTo>
                    <a:lnTo>
                      <a:pt x="846" y="1962"/>
                    </a:lnTo>
                    <a:lnTo>
                      <a:pt x="846" y="1944"/>
                    </a:lnTo>
                    <a:lnTo>
                      <a:pt x="852" y="1932"/>
                    </a:lnTo>
                    <a:lnTo>
                      <a:pt x="858" y="1920"/>
                    </a:lnTo>
                    <a:lnTo>
                      <a:pt x="864" y="1902"/>
                    </a:lnTo>
                    <a:lnTo>
                      <a:pt x="870" y="1890"/>
                    </a:lnTo>
                    <a:lnTo>
                      <a:pt x="876" y="1878"/>
                    </a:lnTo>
                    <a:lnTo>
                      <a:pt x="894" y="1884"/>
                    </a:lnTo>
                    <a:lnTo>
                      <a:pt x="906" y="1890"/>
                    </a:lnTo>
                    <a:lnTo>
                      <a:pt x="918" y="1890"/>
                    </a:lnTo>
                    <a:lnTo>
                      <a:pt x="936" y="1896"/>
                    </a:lnTo>
                    <a:lnTo>
                      <a:pt x="948" y="1896"/>
                    </a:lnTo>
                    <a:lnTo>
                      <a:pt x="960" y="1908"/>
                    </a:lnTo>
                    <a:lnTo>
                      <a:pt x="966" y="1896"/>
                    </a:lnTo>
                    <a:lnTo>
                      <a:pt x="960" y="1890"/>
                    </a:lnTo>
                    <a:lnTo>
                      <a:pt x="954" y="1878"/>
                    </a:lnTo>
                    <a:lnTo>
                      <a:pt x="948" y="1872"/>
                    </a:lnTo>
                    <a:lnTo>
                      <a:pt x="948" y="1860"/>
                    </a:lnTo>
                    <a:lnTo>
                      <a:pt x="942" y="1848"/>
                    </a:lnTo>
                    <a:lnTo>
                      <a:pt x="960" y="1854"/>
                    </a:lnTo>
                    <a:lnTo>
                      <a:pt x="978" y="1854"/>
                    </a:lnTo>
                    <a:lnTo>
                      <a:pt x="996" y="1860"/>
                    </a:lnTo>
                    <a:lnTo>
                      <a:pt x="1014" y="1860"/>
                    </a:lnTo>
                    <a:lnTo>
                      <a:pt x="1026" y="1854"/>
                    </a:lnTo>
                    <a:lnTo>
                      <a:pt x="1044" y="1848"/>
                    </a:lnTo>
                    <a:lnTo>
                      <a:pt x="1044" y="1842"/>
                    </a:lnTo>
                    <a:lnTo>
                      <a:pt x="1038" y="1830"/>
                    </a:lnTo>
                    <a:lnTo>
                      <a:pt x="1026" y="1824"/>
                    </a:lnTo>
                    <a:lnTo>
                      <a:pt x="1020" y="1824"/>
                    </a:lnTo>
                    <a:lnTo>
                      <a:pt x="1008" y="1818"/>
                    </a:lnTo>
                    <a:lnTo>
                      <a:pt x="1008" y="1806"/>
                    </a:lnTo>
                    <a:lnTo>
                      <a:pt x="1014" y="1806"/>
                    </a:lnTo>
                    <a:lnTo>
                      <a:pt x="1020" y="1806"/>
                    </a:lnTo>
                    <a:lnTo>
                      <a:pt x="1032" y="1806"/>
                    </a:lnTo>
                    <a:lnTo>
                      <a:pt x="1038" y="1800"/>
                    </a:lnTo>
                    <a:lnTo>
                      <a:pt x="1044" y="1800"/>
                    </a:lnTo>
                    <a:lnTo>
                      <a:pt x="1050" y="1794"/>
                    </a:lnTo>
                    <a:lnTo>
                      <a:pt x="1056" y="1788"/>
                    </a:lnTo>
                    <a:lnTo>
                      <a:pt x="1056" y="1782"/>
                    </a:lnTo>
                    <a:lnTo>
                      <a:pt x="1050" y="1782"/>
                    </a:lnTo>
                    <a:lnTo>
                      <a:pt x="1044" y="1776"/>
                    </a:lnTo>
                    <a:lnTo>
                      <a:pt x="1026" y="1770"/>
                    </a:lnTo>
                    <a:lnTo>
                      <a:pt x="1002" y="1758"/>
                    </a:lnTo>
                    <a:lnTo>
                      <a:pt x="984" y="1752"/>
                    </a:lnTo>
                    <a:lnTo>
                      <a:pt x="966" y="1734"/>
                    </a:lnTo>
                    <a:lnTo>
                      <a:pt x="948" y="1722"/>
                    </a:lnTo>
                    <a:lnTo>
                      <a:pt x="930" y="1710"/>
                    </a:lnTo>
                    <a:lnTo>
                      <a:pt x="936" y="1710"/>
                    </a:lnTo>
                    <a:lnTo>
                      <a:pt x="942" y="1710"/>
                    </a:lnTo>
                    <a:lnTo>
                      <a:pt x="948" y="1710"/>
                    </a:lnTo>
                    <a:lnTo>
                      <a:pt x="954" y="1710"/>
                    </a:lnTo>
                    <a:lnTo>
                      <a:pt x="960" y="1710"/>
                    </a:lnTo>
                    <a:lnTo>
                      <a:pt x="966" y="1704"/>
                    </a:lnTo>
                    <a:lnTo>
                      <a:pt x="960" y="1698"/>
                    </a:lnTo>
                    <a:lnTo>
                      <a:pt x="954" y="1686"/>
                    </a:lnTo>
                    <a:lnTo>
                      <a:pt x="948" y="1680"/>
                    </a:lnTo>
                    <a:lnTo>
                      <a:pt x="942" y="1668"/>
                    </a:lnTo>
                    <a:lnTo>
                      <a:pt x="936" y="1656"/>
                    </a:lnTo>
                    <a:lnTo>
                      <a:pt x="930" y="1650"/>
                    </a:lnTo>
                    <a:lnTo>
                      <a:pt x="936" y="1650"/>
                    </a:lnTo>
                    <a:lnTo>
                      <a:pt x="942" y="1650"/>
                    </a:lnTo>
                    <a:lnTo>
                      <a:pt x="948" y="1650"/>
                    </a:lnTo>
                    <a:lnTo>
                      <a:pt x="948" y="1644"/>
                    </a:lnTo>
                    <a:lnTo>
                      <a:pt x="948" y="1638"/>
                    </a:lnTo>
                    <a:lnTo>
                      <a:pt x="954" y="1638"/>
                    </a:lnTo>
                    <a:lnTo>
                      <a:pt x="948" y="1632"/>
                    </a:lnTo>
                    <a:lnTo>
                      <a:pt x="948" y="1626"/>
                    </a:lnTo>
                    <a:lnTo>
                      <a:pt x="942" y="1626"/>
                    </a:lnTo>
                    <a:lnTo>
                      <a:pt x="936" y="1620"/>
                    </a:lnTo>
                    <a:lnTo>
                      <a:pt x="930" y="1614"/>
                    </a:lnTo>
                    <a:lnTo>
                      <a:pt x="930" y="1602"/>
                    </a:lnTo>
                    <a:lnTo>
                      <a:pt x="930" y="1596"/>
                    </a:lnTo>
                    <a:lnTo>
                      <a:pt x="930" y="1584"/>
                    </a:lnTo>
                    <a:lnTo>
                      <a:pt x="930" y="1578"/>
                    </a:lnTo>
                    <a:lnTo>
                      <a:pt x="936" y="1566"/>
                    </a:lnTo>
                    <a:lnTo>
                      <a:pt x="942" y="1560"/>
                    </a:lnTo>
                    <a:lnTo>
                      <a:pt x="954" y="1608"/>
                    </a:lnTo>
                    <a:lnTo>
                      <a:pt x="978" y="1656"/>
                    </a:lnTo>
                    <a:lnTo>
                      <a:pt x="1014" y="1698"/>
                    </a:lnTo>
                    <a:lnTo>
                      <a:pt x="1056" y="1734"/>
                    </a:lnTo>
                    <a:lnTo>
                      <a:pt x="1098" y="1764"/>
                    </a:lnTo>
                    <a:lnTo>
                      <a:pt x="1146" y="1788"/>
                    </a:lnTo>
                    <a:lnTo>
                      <a:pt x="1152" y="1794"/>
                    </a:lnTo>
                    <a:lnTo>
                      <a:pt x="1164" y="1794"/>
                    </a:lnTo>
                    <a:lnTo>
                      <a:pt x="1176" y="1800"/>
                    </a:lnTo>
                    <a:lnTo>
                      <a:pt x="1182" y="1800"/>
                    </a:lnTo>
                    <a:lnTo>
                      <a:pt x="1194" y="1806"/>
                    </a:lnTo>
                    <a:lnTo>
                      <a:pt x="1200" y="1818"/>
                    </a:lnTo>
                    <a:lnTo>
                      <a:pt x="1200" y="1836"/>
                    </a:lnTo>
                    <a:lnTo>
                      <a:pt x="1206" y="1854"/>
                    </a:lnTo>
                    <a:lnTo>
                      <a:pt x="1200" y="1872"/>
                    </a:lnTo>
                    <a:lnTo>
                      <a:pt x="1200" y="1896"/>
                    </a:lnTo>
                    <a:lnTo>
                      <a:pt x="1194" y="1914"/>
                    </a:lnTo>
                    <a:lnTo>
                      <a:pt x="1182" y="1932"/>
                    </a:lnTo>
                    <a:lnTo>
                      <a:pt x="1176" y="1938"/>
                    </a:lnTo>
                    <a:lnTo>
                      <a:pt x="1170" y="1950"/>
                    </a:lnTo>
                    <a:lnTo>
                      <a:pt x="1164" y="1962"/>
                    </a:lnTo>
                    <a:lnTo>
                      <a:pt x="1158" y="1968"/>
                    </a:lnTo>
                    <a:lnTo>
                      <a:pt x="1146" y="1974"/>
                    </a:lnTo>
                    <a:lnTo>
                      <a:pt x="1134" y="1974"/>
                    </a:lnTo>
                    <a:lnTo>
                      <a:pt x="1122" y="1974"/>
                    </a:lnTo>
                    <a:lnTo>
                      <a:pt x="1110" y="1974"/>
                    </a:lnTo>
                    <a:lnTo>
                      <a:pt x="1098" y="1968"/>
                    </a:lnTo>
                    <a:lnTo>
                      <a:pt x="1086" y="1962"/>
                    </a:lnTo>
                    <a:lnTo>
                      <a:pt x="1074" y="1962"/>
                    </a:lnTo>
                    <a:lnTo>
                      <a:pt x="1062" y="1956"/>
                    </a:lnTo>
                    <a:lnTo>
                      <a:pt x="1056" y="1956"/>
                    </a:lnTo>
                    <a:lnTo>
                      <a:pt x="1050" y="1956"/>
                    </a:lnTo>
                    <a:lnTo>
                      <a:pt x="1044" y="1956"/>
                    </a:lnTo>
                    <a:lnTo>
                      <a:pt x="1038" y="1962"/>
                    </a:lnTo>
                    <a:lnTo>
                      <a:pt x="1032" y="1962"/>
                    </a:lnTo>
                    <a:lnTo>
                      <a:pt x="1032" y="1968"/>
                    </a:lnTo>
                    <a:lnTo>
                      <a:pt x="1020" y="1968"/>
                    </a:lnTo>
                    <a:lnTo>
                      <a:pt x="1008" y="1962"/>
                    </a:lnTo>
                    <a:lnTo>
                      <a:pt x="990" y="1962"/>
                    </a:lnTo>
                    <a:lnTo>
                      <a:pt x="978" y="1968"/>
                    </a:lnTo>
                    <a:lnTo>
                      <a:pt x="966" y="1968"/>
                    </a:lnTo>
                    <a:lnTo>
                      <a:pt x="954" y="1974"/>
                    </a:lnTo>
                    <a:lnTo>
                      <a:pt x="948" y="1980"/>
                    </a:lnTo>
                    <a:lnTo>
                      <a:pt x="942" y="1980"/>
                    </a:lnTo>
                    <a:lnTo>
                      <a:pt x="936" y="1986"/>
                    </a:lnTo>
                    <a:lnTo>
                      <a:pt x="930" y="1986"/>
                    </a:lnTo>
                    <a:lnTo>
                      <a:pt x="930" y="1992"/>
                    </a:lnTo>
                    <a:lnTo>
                      <a:pt x="924" y="1992"/>
                    </a:lnTo>
                    <a:lnTo>
                      <a:pt x="918" y="2004"/>
                    </a:lnTo>
                    <a:lnTo>
                      <a:pt x="918" y="2010"/>
                    </a:lnTo>
                    <a:lnTo>
                      <a:pt x="912" y="2016"/>
                    </a:lnTo>
                    <a:lnTo>
                      <a:pt x="912" y="2022"/>
                    </a:lnTo>
                    <a:lnTo>
                      <a:pt x="912" y="2028"/>
                    </a:lnTo>
                    <a:lnTo>
                      <a:pt x="912" y="2040"/>
                    </a:lnTo>
                    <a:lnTo>
                      <a:pt x="930" y="2034"/>
                    </a:lnTo>
                    <a:lnTo>
                      <a:pt x="942" y="2022"/>
                    </a:lnTo>
                    <a:lnTo>
                      <a:pt x="954" y="2016"/>
                    </a:lnTo>
                    <a:lnTo>
                      <a:pt x="972" y="2016"/>
                    </a:lnTo>
                    <a:lnTo>
                      <a:pt x="984" y="2010"/>
                    </a:lnTo>
                    <a:lnTo>
                      <a:pt x="1002" y="2016"/>
                    </a:lnTo>
                    <a:lnTo>
                      <a:pt x="996" y="2016"/>
                    </a:lnTo>
                    <a:lnTo>
                      <a:pt x="990" y="2022"/>
                    </a:lnTo>
                    <a:lnTo>
                      <a:pt x="984" y="2022"/>
                    </a:lnTo>
                    <a:lnTo>
                      <a:pt x="978" y="2028"/>
                    </a:lnTo>
                    <a:lnTo>
                      <a:pt x="978" y="2034"/>
                    </a:lnTo>
                    <a:lnTo>
                      <a:pt x="972" y="2040"/>
                    </a:lnTo>
                    <a:lnTo>
                      <a:pt x="972" y="2046"/>
                    </a:lnTo>
                    <a:lnTo>
                      <a:pt x="972" y="2058"/>
                    </a:lnTo>
                    <a:lnTo>
                      <a:pt x="960" y="2070"/>
                    </a:lnTo>
                    <a:lnTo>
                      <a:pt x="954" y="2076"/>
                    </a:lnTo>
                    <a:lnTo>
                      <a:pt x="954" y="2088"/>
                    </a:lnTo>
                    <a:lnTo>
                      <a:pt x="948" y="2100"/>
                    </a:lnTo>
                    <a:lnTo>
                      <a:pt x="954" y="2112"/>
                    </a:lnTo>
                    <a:lnTo>
                      <a:pt x="960" y="2124"/>
                    </a:lnTo>
                    <a:lnTo>
                      <a:pt x="960" y="2136"/>
                    </a:lnTo>
                    <a:lnTo>
                      <a:pt x="966" y="2148"/>
                    </a:lnTo>
                    <a:lnTo>
                      <a:pt x="972" y="2154"/>
                    </a:lnTo>
                    <a:lnTo>
                      <a:pt x="984" y="2160"/>
                    </a:lnTo>
                    <a:lnTo>
                      <a:pt x="990" y="2148"/>
                    </a:lnTo>
                    <a:lnTo>
                      <a:pt x="996" y="2130"/>
                    </a:lnTo>
                    <a:lnTo>
                      <a:pt x="1002" y="2118"/>
                    </a:lnTo>
                    <a:lnTo>
                      <a:pt x="1008" y="2100"/>
                    </a:lnTo>
                    <a:lnTo>
                      <a:pt x="1014" y="2088"/>
                    </a:lnTo>
                    <a:lnTo>
                      <a:pt x="1026" y="2082"/>
                    </a:lnTo>
                    <a:lnTo>
                      <a:pt x="1032" y="2082"/>
                    </a:lnTo>
                    <a:lnTo>
                      <a:pt x="1038" y="2088"/>
                    </a:lnTo>
                    <a:lnTo>
                      <a:pt x="1038" y="2094"/>
                    </a:lnTo>
                    <a:lnTo>
                      <a:pt x="1044" y="2094"/>
                    </a:lnTo>
                    <a:lnTo>
                      <a:pt x="1050" y="2100"/>
                    </a:lnTo>
                    <a:lnTo>
                      <a:pt x="1056" y="2100"/>
                    </a:lnTo>
                    <a:lnTo>
                      <a:pt x="1062" y="2106"/>
                    </a:lnTo>
                    <a:lnTo>
                      <a:pt x="1074" y="2106"/>
                    </a:lnTo>
                    <a:lnTo>
                      <a:pt x="1080" y="2100"/>
                    </a:lnTo>
                    <a:lnTo>
                      <a:pt x="1092" y="2094"/>
                    </a:lnTo>
                    <a:lnTo>
                      <a:pt x="1098" y="2088"/>
                    </a:lnTo>
                    <a:lnTo>
                      <a:pt x="1104" y="2082"/>
                    </a:lnTo>
                    <a:lnTo>
                      <a:pt x="1110" y="2076"/>
                    </a:lnTo>
                    <a:lnTo>
                      <a:pt x="1110" y="2070"/>
                    </a:lnTo>
                    <a:lnTo>
                      <a:pt x="1116" y="2064"/>
                    </a:lnTo>
                    <a:lnTo>
                      <a:pt x="1116" y="2070"/>
                    </a:lnTo>
                    <a:lnTo>
                      <a:pt x="1116" y="2076"/>
                    </a:lnTo>
                    <a:lnTo>
                      <a:pt x="1116" y="2082"/>
                    </a:lnTo>
                    <a:lnTo>
                      <a:pt x="1122" y="2088"/>
                    </a:lnTo>
                    <a:lnTo>
                      <a:pt x="1128" y="2100"/>
                    </a:lnTo>
                    <a:lnTo>
                      <a:pt x="1140" y="2106"/>
                    </a:lnTo>
                    <a:lnTo>
                      <a:pt x="1146" y="2112"/>
                    </a:lnTo>
                    <a:lnTo>
                      <a:pt x="1158" y="2112"/>
                    </a:lnTo>
                    <a:lnTo>
                      <a:pt x="1164" y="2118"/>
                    </a:lnTo>
                    <a:lnTo>
                      <a:pt x="1176" y="2118"/>
                    </a:lnTo>
                    <a:lnTo>
                      <a:pt x="1182" y="2118"/>
                    </a:lnTo>
                    <a:lnTo>
                      <a:pt x="1188" y="2118"/>
                    </a:lnTo>
                    <a:lnTo>
                      <a:pt x="1194" y="2118"/>
                    </a:lnTo>
                    <a:lnTo>
                      <a:pt x="1206" y="2112"/>
                    </a:lnTo>
                    <a:lnTo>
                      <a:pt x="1212" y="2106"/>
                    </a:lnTo>
                    <a:lnTo>
                      <a:pt x="1218" y="2100"/>
                    </a:lnTo>
                    <a:lnTo>
                      <a:pt x="1224" y="2088"/>
                    </a:lnTo>
                    <a:lnTo>
                      <a:pt x="1218" y="2076"/>
                    </a:lnTo>
                    <a:lnTo>
                      <a:pt x="1218" y="2070"/>
                    </a:lnTo>
                    <a:lnTo>
                      <a:pt x="1212" y="2058"/>
                    </a:lnTo>
                    <a:lnTo>
                      <a:pt x="1206" y="2046"/>
                    </a:lnTo>
                    <a:lnTo>
                      <a:pt x="1212" y="2046"/>
                    </a:lnTo>
                    <a:lnTo>
                      <a:pt x="1218" y="2046"/>
                    </a:lnTo>
                    <a:lnTo>
                      <a:pt x="1224" y="2052"/>
                    </a:lnTo>
                    <a:lnTo>
                      <a:pt x="1230" y="2052"/>
                    </a:lnTo>
                    <a:lnTo>
                      <a:pt x="1236" y="2058"/>
                    </a:lnTo>
                    <a:lnTo>
                      <a:pt x="1242" y="2058"/>
                    </a:lnTo>
                    <a:lnTo>
                      <a:pt x="1254" y="2064"/>
                    </a:lnTo>
                    <a:lnTo>
                      <a:pt x="1260" y="2064"/>
                    </a:lnTo>
                    <a:lnTo>
                      <a:pt x="1266" y="2058"/>
                    </a:lnTo>
                    <a:lnTo>
                      <a:pt x="1272" y="2052"/>
                    </a:lnTo>
                    <a:lnTo>
                      <a:pt x="1278" y="2046"/>
                    </a:lnTo>
                    <a:lnTo>
                      <a:pt x="1284" y="2040"/>
                    </a:lnTo>
                    <a:lnTo>
                      <a:pt x="1290" y="2034"/>
                    </a:lnTo>
                    <a:lnTo>
                      <a:pt x="1290" y="2028"/>
                    </a:lnTo>
                    <a:lnTo>
                      <a:pt x="1296" y="2022"/>
                    </a:lnTo>
                    <a:lnTo>
                      <a:pt x="1296" y="2016"/>
                    </a:lnTo>
                    <a:lnTo>
                      <a:pt x="1308" y="2022"/>
                    </a:lnTo>
                    <a:lnTo>
                      <a:pt x="1320" y="2022"/>
                    </a:lnTo>
                    <a:lnTo>
                      <a:pt x="1326" y="2022"/>
                    </a:lnTo>
                    <a:lnTo>
                      <a:pt x="1338" y="2022"/>
                    </a:lnTo>
                    <a:lnTo>
                      <a:pt x="1350" y="2016"/>
                    </a:lnTo>
                    <a:lnTo>
                      <a:pt x="1362" y="2010"/>
                    </a:lnTo>
                    <a:lnTo>
                      <a:pt x="1362" y="2004"/>
                    </a:lnTo>
                    <a:lnTo>
                      <a:pt x="1356" y="1998"/>
                    </a:lnTo>
                    <a:lnTo>
                      <a:pt x="1356" y="1992"/>
                    </a:lnTo>
                    <a:lnTo>
                      <a:pt x="1350" y="1992"/>
                    </a:lnTo>
                    <a:lnTo>
                      <a:pt x="1344" y="1986"/>
                    </a:lnTo>
                    <a:lnTo>
                      <a:pt x="1338" y="1980"/>
                    </a:lnTo>
                    <a:lnTo>
                      <a:pt x="1350" y="1980"/>
                    </a:lnTo>
                    <a:lnTo>
                      <a:pt x="1356" y="1980"/>
                    </a:lnTo>
                    <a:lnTo>
                      <a:pt x="1368" y="1974"/>
                    </a:lnTo>
                    <a:lnTo>
                      <a:pt x="1380" y="1974"/>
                    </a:lnTo>
                    <a:lnTo>
                      <a:pt x="1386" y="1968"/>
                    </a:lnTo>
                    <a:lnTo>
                      <a:pt x="1398" y="1962"/>
                    </a:lnTo>
                    <a:lnTo>
                      <a:pt x="1392" y="1956"/>
                    </a:lnTo>
                    <a:lnTo>
                      <a:pt x="1392" y="1950"/>
                    </a:lnTo>
                    <a:lnTo>
                      <a:pt x="1386" y="1944"/>
                    </a:lnTo>
                    <a:lnTo>
                      <a:pt x="1380" y="1938"/>
                    </a:lnTo>
                    <a:lnTo>
                      <a:pt x="1374" y="1938"/>
                    </a:lnTo>
                    <a:lnTo>
                      <a:pt x="1368" y="1932"/>
                    </a:lnTo>
                    <a:lnTo>
                      <a:pt x="1380" y="1926"/>
                    </a:lnTo>
                    <a:lnTo>
                      <a:pt x="1392" y="1926"/>
                    </a:lnTo>
                    <a:lnTo>
                      <a:pt x="1398" y="1920"/>
                    </a:lnTo>
                    <a:lnTo>
                      <a:pt x="1410" y="1920"/>
                    </a:lnTo>
                    <a:lnTo>
                      <a:pt x="1416" y="1914"/>
                    </a:lnTo>
                    <a:lnTo>
                      <a:pt x="1422" y="1908"/>
                    </a:lnTo>
                    <a:lnTo>
                      <a:pt x="1422" y="1902"/>
                    </a:lnTo>
                    <a:lnTo>
                      <a:pt x="1422" y="1896"/>
                    </a:lnTo>
                    <a:lnTo>
                      <a:pt x="1422" y="1890"/>
                    </a:lnTo>
                    <a:lnTo>
                      <a:pt x="1422" y="1884"/>
                    </a:lnTo>
                    <a:lnTo>
                      <a:pt x="1416" y="1878"/>
                    </a:lnTo>
                    <a:lnTo>
                      <a:pt x="1410" y="1866"/>
                    </a:lnTo>
                    <a:lnTo>
                      <a:pt x="1386" y="1806"/>
                    </a:lnTo>
                    <a:lnTo>
                      <a:pt x="1398" y="1794"/>
                    </a:lnTo>
                    <a:lnTo>
                      <a:pt x="1410" y="1788"/>
                    </a:lnTo>
                    <a:lnTo>
                      <a:pt x="1422" y="1794"/>
                    </a:lnTo>
                    <a:lnTo>
                      <a:pt x="1434" y="1800"/>
                    </a:lnTo>
                    <a:lnTo>
                      <a:pt x="1452" y="1806"/>
                    </a:lnTo>
                    <a:lnTo>
                      <a:pt x="1464" y="1800"/>
                    </a:lnTo>
                    <a:lnTo>
                      <a:pt x="1470" y="1794"/>
                    </a:lnTo>
                    <a:lnTo>
                      <a:pt x="1482" y="1788"/>
                    </a:lnTo>
                    <a:lnTo>
                      <a:pt x="1488" y="1782"/>
                    </a:lnTo>
                    <a:lnTo>
                      <a:pt x="1494" y="1776"/>
                    </a:lnTo>
                    <a:lnTo>
                      <a:pt x="1500" y="1770"/>
                    </a:lnTo>
                    <a:lnTo>
                      <a:pt x="1500" y="1758"/>
                    </a:lnTo>
                    <a:lnTo>
                      <a:pt x="1500" y="1764"/>
                    </a:lnTo>
                    <a:lnTo>
                      <a:pt x="1494" y="1758"/>
                    </a:lnTo>
                    <a:lnTo>
                      <a:pt x="1488" y="1758"/>
                    </a:lnTo>
                    <a:lnTo>
                      <a:pt x="1482" y="1758"/>
                    </a:lnTo>
                    <a:lnTo>
                      <a:pt x="1476" y="1758"/>
                    </a:lnTo>
                    <a:lnTo>
                      <a:pt x="1470" y="1752"/>
                    </a:lnTo>
                    <a:lnTo>
                      <a:pt x="1464" y="1752"/>
                    </a:lnTo>
                    <a:lnTo>
                      <a:pt x="1458" y="1746"/>
                    </a:lnTo>
                    <a:lnTo>
                      <a:pt x="1452" y="1740"/>
                    </a:lnTo>
                    <a:lnTo>
                      <a:pt x="1446" y="1734"/>
                    </a:lnTo>
                    <a:lnTo>
                      <a:pt x="1446" y="1728"/>
                    </a:lnTo>
                    <a:lnTo>
                      <a:pt x="1440" y="1722"/>
                    </a:lnTo>
                    <a:lnTo>
                      <a:pt x="1440" y="1716"/>
                    </a:lnTo>
                    <a:lnTo>
                      <a:pt x="1452" y="1704"/>
                    </a:lnTo>
                    <a:lnTo>
                      <a:pt x="1458" y="1692"/>
                    </a:lnTo>
                    <a:lnTo>
                      <a:pt x="1464" y="1680"/>
                    </a:lnTo>
                    <a:lnTo>
                      <a:pt x="1476" y="1668"/>
                    </a:lnTo>
                    <a:lnTo>
                      <a:pt x="1476" y="1656"/>
                    </a:lnTo>
                    <a:lnTo>
                      <a:pt x="1482" y="1638"/>
                    </a:lnTo>
                    <a:lnTo>
                      <a:pt x="1482" y="1626"/>
                    </a:lnTo>
                    <a:lnTo>
                      <a:pt x="1482" y="1620"/>
                    </a:lnTo>
                    <a:lnTo>
                      <a:pt x="1482" y="1608"/>
                    </a:lnTo>
                    <a:lnTo>
                      <a:pt x="1476" y="1596"/>
                    </a:lnTo>
                    <a:lnTo>
                      <a:pt x="1476" y="1590"/>
                    </a:lnTo>
                    <a:lnTo>
                      <a:pt x="1470" y="1578"/>
                    </a:lnTo>
                    <a:lnTo>
                      <a:pt x="1464" y="1584"/>
                    </a:lnTo>
                    <a:lnTo>
                      <a:pt x="1464" y="1590"/>
                    </a:lnTo>
                    <a:lnTo>
                      <a:pt x="1458" y="1596"/>
                    </a:lnTo>
                    <a:lnTo>
                      <a:pt x="1458" y="1602"/>
                    </a:lnTo>
                    <a:lnTo>
                      <a:pt x="1446" y="1620"/>
                    </a:lnTo>
                    <a:lnTo>
                      <a:pt x="1428" y="1626"/>
                    </a:lnTo>
                    <a:lnTo>
                      <a:pt x="1410" y="1632"/>
                    </a:lnTo>
                    <a:lnTo>
                      <a:pt x="1392" y="1632"/>
                    </a:lnTo>
                    <a:lnTo>
                      <a:pt x="1374" y="1638"/>
                    </a:lnTo>
                    <a:lnTo>
                      <a:pt x="1356" y="1638"/>
                    </a:lnTo>
                    <a:lnTo>
                      <a:pt x="1362" y="1626"/>
                    </a:lnTo>
                    <a:lnTo>
                      <a:pt x="1368" y="1614"/>
                    </a:lnTo>
                    <a:lnTo>
                      <a:pt x="1380" y="1602"/>
                    </a:lnTo>
                    <a:lnTo>
                      <a:pt x="1386" y="1584"/>
                    </a:lnTo>
                    <a:lnTo>
                      <a:pt x="1386" y="1572"/>
                    </a:lnTo>
                    <a:lnTo>
                      <a:pt x="1386" y="1560"/>
                    </a:lnTo>
                    <a:lnTo>
                      <a:pt x="1374" y="1560"/>
                    </a:lnTo>
                    <a:lnTo>
                      <a:pt x="1368" y="1560"/>
                    </a:lnTo>
                    <a:lnTo>
                      <a:pt x="1362" y="1566"/>
                    </a:lnTo>
                    <a:lnTo>
                      <a:pt x="1356" y="1572"/>
                    </a:lnTo>
                    <a:lnTo>
                      <a:pt x="1350" y="1578"/>
                    </a:lnTo>
                    <a:lnTo>
                      <a:pt x="1344" y="1578"/>
                    </a:lnTo>
                    <a:lnTo>
                      <a:pt x="1338" y="1584"/>
                    </a:lnTo>
                    <a:lnTo>
                      <a:pt x="1332" y="1584"/>
                    </a:lnTo>
                    <a:lnTo>
                      <a:pt x="1320" y="1584"/>
                    </a:lnTo>
                    <a:lnTo>
                      <a:pt x="1314" y="1584"/>
                    </a:lnTo>
                    <a:lnTo>
                      <a:pt x="1308" y="1584"/>
                    </a:lnTo>
                    <a:lnTo>
                      <a:pt x="1302" y="1578"/>
                    </a:lnTo>
                    <a:lnTo>
                      <a:pt x="1308" y="1572"/>
                    </a:lnTo>
                    <a:lnTo>
                      <a:pt x="1320" y="1560"/>
                    </a:lnTo>
                    <a:lnTo>
                      <a:pt x="1326" y="1554"/>
                    </a:lnTo>
                    <a:lnTo>
                      <a:pt x="1332" y="1542"/>
                    </a:lnTo>
                    <a:lnTo>
                      <a:pt x="1338" y="1530"/>
                    </a:lnTo>
                    <a:lnTo>
                      <a:pt x="1338" y="1524"/>
                    </a:lnTo>
                    <a:lnTo>
                      <a:pt x="1326" y="1518"/>
                    </a:lnTo>
                    <a:lnTo>
                      <a:pt x="1314" y="1518"/>
                    </a:lnTo>
                    <a:lnTo>
                      <a:pt x="1302" y="1518"/>
                    </a:lnTo>
                    <a:lnTo>
                      <a:pt x="1290" y="1524"/>
                    </a:lnTo>
                    <a:lnTo>
                      <a:pt x="1272" y="1518"/>
                    </a:lnTo>
                    <a:lnTo>
                      <a:pt x="1260" y="1506"/>
                    </a:lnTo>
                    <a:lnTo>
                      <a:pt x="1272" y="1500"/>
                    </a:lnTo>
                    <a:lnTo>
                      <a:pt x="1278" y="1494"/>
                    </a:lnTo>
                    <a:lnTo>
                      <a:pt x="1284" y="1488"/>
                    </a:lnTo>
                    <a:lnTo>
                      <a:pt x="1290" y="1482"/>
                    </a:lnTo>
                    <a:lnTo>
                      <a:pt x="1296" y="1470"/>
                    </a:lnTo>
                    <a:lnTo>
                      <a:pt x="1302" y="1464"/>
                    </a:lnTo>
                    <a:lnTo>
                      <a:pt x="1296" y="1458"/>
                    </a:lnTo>
                    <a:lnTo>
                      <a:pt x="1284" y="1452"/>
                    </a:lnTo>
                    <a:lnTo>
                      <a:pt x="1272" y="1452"/>
                    </a:lnTo>
                    <a:lnTo>
                      <a:pt x="1266" y="1452"/>
                    </a:lnTo>
                    <a:lnTo>
                      <a:pt x="1254" y="1452"/>
                    </a:lnTo>
                    <a:lnTo>
                      <a:pt x="1242" y="1446"/>
                    </a:lnTo>
                    <a:lnTo>
                      <a:pt x="1248" y="1440"/>
                    </a:lnTo>
                    <a:lnTo>
                      <a:pt x="1254" y="1434"/>
                    </a:lnTo>
                    <a:lnTo>
                      <a:pt x="1260" y="1434"/>
                    </a:lnTo>
                    <a:lnTo>
                      <a:pt x="1266" y="1428"/>
                    </a:lnTo>
                    <a:lnTo>
                      <a:pt x="1266" y="1422"/>
                    </a:lnTo>
                    <a:lnTo>
                      <a:pt x="1266" y="1416"/>
                    </a:lnTo>
                    <a:lnTo>
                      <a:pt x="1260" y="1416"/>
                    </a:lnTo>
                    <a:lnTo>
                      <a:pt x="1248" y="1410"/>
                    </a:lnTo>
                    <a:lnTo>
                      <a:pt x="1242" y="1410"/>
                    </a:lnTo>
                    <a:lnTo>
                      <a:pt x="1236" y="1404"/>
                    </a:lnTo>
                    <a:lnTo>
                      <a:pt x="1236" y="1398"/>
                    </a:lnTo>
                    <a:lnTo>
                      <a:pt x="1230" y="1386"/>
                    </a:lnTo>
                    <a:lnTo>
                      <a:pt x="1224" y="1380"/>
                    </a:lnTo>
                    <a:lnTo>
                      <a:pt x="1224" y="1374"/>
                    </a:lnTo>
                    <a:lnTo>
                      <a:pt x="1218" y="1368"/>
                    </a:lnTo>
                    <a:lnTo>
                      <a:pt x="1224" y="1356"/>
                    </a:lnTo>
                    <a:lnTo>
                      <a:pt x="1230" y="1362"/>
                    </a:lnTo>
                    <a:lnTo>
                      <a:pt x="1236" y="1368"/>
                    </a:lnTo>
                    <a:lnTo>
                      <a:pt x="1242" y="1374"/>
                    </a:lnTo>
                    <a:lnTo>
                      <a:pt x="1248" y="1380"/>
                    </a:lnTo>
                    <a:lnTo>
                      <a:pt x="1260" y="1386"/>
                    </a:lnTo>
                    <a:lnTo>
                      <a:pt x="1266" y="1386"/>
                    </a:lnTo>
                    <a:lnTo>
                      <a:pt x="1290" y="1398"/>
                    </a:lnTo>
                    <a:lnTo>
                      <a:pt x="1314" y="1398"/>
                    </a:lnTo>
                    <a:lnTo>
                      <a:pt x="1338" y="1404"/>
                    </a:lnTo>
                    <a:lnTo>
                      <a:pt x="1362" y="1404"/>
                    </a:lnTo>
                    <a:lnTo>
                      <a:pt x="1386" y="1404"/>
                    </a:lnTo>
                    <a:lnTo>
                      <a:pt x="1410" y="1404"/>
                    </a:lnTo>
                    <a:lnTo>
                      <a:pt x="1428" y="1398"/>
                    </a:lnTo>
                    <a:lnTo>
                      <a:pt x="1452" y="1392"/>
                    </a:lnTo>
                    <a:lnTo>
                      <a:pt x="1470" y="1380"/>
                    </a:lnTo>
                    <a:lnTo>
                      <a:pt x="1488" y="1374"/>
                    </a:lnTo>
                    <a:lnTo>
                      <a:pt x="1506" y="1368"/>
                    </a:lnTo>
                    <a:lnTo>
                      <a:pt x="1524" y="1350"/>
                    </a:lnTo>
                    <a:lnTo>
                      <a:pt x="1560" y="1314"/>
                    </a:lnTo>
                    <a:lnTo>
                      <a:pt x="1590" y="1272"/>
                    </a:lnTo>
                    <a:lnTo>
                      <a:pt x="1608" y="1230"/>
                    </a:lnTo>
                    <a:lnTo>
                      <a:pt x="1620" y="1182"/>
                    </a:lnTo>
                    <a:lnTo>
                      <a:pt x="1632" y="1128"/>
                    </a:lnTo>
                    <a:lnTo>
                      <a:pt x="1644" y="1080"/>
                    </a:lnTo>
                    <a:lnTo>
                      <a:pt x="1650" y="1074"/>
                    </a:lnTo>
                    <a:lnTo>
                      <a:pt x="1656" y="1068"/>
                    </a:lnTo>
                    <a:lnTo>
                      <a:pt x="1662" y="1062"/>
                    </a:lnTo>
                    <a:lnTo>
                      <a:pt x="1668" y="1056"/>
                    </a:lnTo>
                    <a:lnTo>
                      <a:pt x="1674" y="1050"/>
                    </a:lnTo>
                    <a:lnTo>
                      <a:pt x="1680" y="1038"/>
                    </a:lnTo>
                    <a:lnTo>
                      <a:pt x="1662" y="1038"/>
                    </a:lnTo>
                    <a:lnTo>
                      <a:pt x="1650" y="1038"/>
                    </a:lnTo>
                    <a:lnTo>
                      <a:pt x="1632" y="1044"/>
                    </a:lnTo>
                    <a:lnTo>
                      <a:pt x="1620" y="1056"/>
                    </a:lnTo>
                    <a:lnTo>
                      <a:pt x="1608" y="1062"/>
                    </a:lnTo>
                    <a:lnTo>
                      <a:pt x="1596" y="1068"/>
                    </a:lnTo>
                    <a:lnTo>
                      <a:pt x="1590" y="1062"/>
                    </a:lnTo>
                    <a:lnTo>
                      <a:pt x="1590" y="1056"/>
                    </a:lnTo>
                    <a:lnTo>
                      <a:pt x="1584" y="1056"/>
                    </a:lnTo>
                    <a:lnTo>
                      <a:pt x="1584" y="1050"/>
                    </a:lnTo>
                    <a:lnTo>
                      <a:pt x="1596" y="1038"/>
                    </a:lnTo>
                    <a:lnTo>
                      <a:pt x="1608" y="1032"/>
                    </a:lnTo>
                    <a:lnTo>
                      <a:pt x="1620" y="1020"/>
                    </a:lnTo>
                    <a:lnTo>
                      <a:pt x="1632" y="1014"/>
                    </a:lnTo>
                    <a:lnTo>
                      <a:pt x="1644" y="1002"/>
                    </a:lnTo>
                    <a:lnTo>
                      <a:pt x="1656" y="990"/>
                    </a:lnTo>
                    <a:lnTo>
                      <a:pt x="1662" y="972"/>
                    </a:lnTo>
                    <a:lnTo>
                      <a:pt x="1668" y="954"/>
                    </a:lnTo>
                    <a:lnTo>
                      <a:pt x="1674" y="936"/>
                    </a:lnTo>
                    <a:lnTo>
                      <a:pt x="1680" y="918"/>
                    </a:lnTo>
                    <a:lnTo>
                      <a:pt x="1674" y="900"/>
                    </a:lnTo>
                    <a:lnTo>
                      <a:pt x="1674" y="876"/>
                    </a:lnTo>
                    <a:lnTo>
                      <a:pt x="1662" y="870"/>
                    </a:lnTo>
                    <a:lnTo>
                      <a:pt x="1650" y="864"/>
                    </a:lnTo>
                    <a:lnTo>
                      <a:pt x="1638" y="858"/>
                    </a:lnTo>
                    <a:lnTo>
                      <a:pt x="1626" y="858"/>
                    </a:lnTo>
                    <a:lnTo>
                      <a:pt x="1614" y="852"/>
                    </a:lnTo>
                    <a:lnTo>
                      <a:pt x="1602" y="852"/>
                    </a:lnTo>
                    <a:lnTo>
                      <a:pt x="1602" y="858"/>
                    </a:lnTo>
                    <a:lnTo>
                      <a:pt x="1602" y="864"/>
                    </a:lnTo>
                    <a:lnTo>
                      <a:pt x="1608" y="870"/>
                    </a:lnTo>
                    <a:lnTo>
                      <a:pt x="1614" y="876"/>
                    </a:lnTo>
                    <a:lnTo>
                      <a:pt x="1620" y="876"/>
                    </a:lnTo>
                    <a:lnTo>
                      <a:pt x="1626" y="882"/>
                    </a:lnTo>
                    <a:lnTo>
                      <a:pt x="1626" y="894"/>
                    </a:lnTo>
                    <a:lnTo>
                      <a:pt x="1626" y="906"/>
                    </a:lnTo>
                    <a:lnTo>
                      <a:pt x="1626" y="912"/>
                    </a:lnTo>
                    <a:lnTo>
                      <a:pt x="1620" y="924"/>
                    </a:lnTo>
                    <a:lnTo>
                      <a:pt x="1614" y="930"/>
                    </a:lnTo>
                    <a:lnTo>
                      <a:pt x="1608" y="942"/>
                    </a:lnTo>
                    <a:lnTo>
                      <a:pt x="1602" y="948"/>
                    </a:lnTo>
                    <a:lnTo>
                      <a:pt x="1590" y="954"/>
                    </a:lnTo>
                    <a:lnTo>
                      <a:pt x="1578" y="960"/>
                    </a:lnTo>
                    <a:lnTo>
                      <a:pt x="1572" y="972"/>
                    </a:lnTo>
                    <a:lnTo>
                      <a:pt x="1560" y="978"/>
                    </a:lnTo>
                    <a:lnTo>
                      <a:pt x="1548" y="984"/>
                    </a:lnTo>
                    <a:lnTo>
                      <a:pt x="1548" y="966"/>
                    </a:lnTo>
                    <a:lnTo>
                      <a:pt x="1542" y="954"/>
                    </a:lnTo>
                    <a:lnTo>
                      <a:pt x="1536" y="936"/>
                    </a:lnTo>
                    <a:lnTo>
                      <a:pt x="1530" y="924"/>
                    </a:lnTo>
                    <a:lnTo>
                      <a:pt x="1518" y="906"/>
                    </a:lnTo>
                    <a:lnTo>
                      <a:pt x="1506" y="894"/>
                    </a:lnTo>
                    <a:lnTo>
                      <a:pt x="1494" y="864"/>
                    </a:lnTo>
                    <a:lnTo>
                      <a:pt x="1476" y="834"/>
                    </a:lnTo>
                    <a:lnTo>
                      <a:pt x="1458" y="798"/>
                    </a:lnTo>
                    <a:lnTo>
                      <a:pt x="1446" y="768"/>
                    </a:lnTo>
                    <a:lnTo>
                      <a:pt x="1434" y="732"/>
                    </a:lnTo>
                    <a:lnTo>
                      <a:pt x="1434" y="690"/>
                    </a:lnTo>
                    <a:lnTo>
                      <a:pt x="1440" y="678"/>
                    </a:lnTo>
                    <a:lnTo>
                      <a:pt x="1452" y="672"/>
                    </a:lnTo>
                    <a:lnTo>
                      <a:pt x="1464" y="666"/>
                    </a:lnTo>
                    <a:lnTo>
                      <a:pt x="1476" y="666"/>
                    </a:lnTo>
                    <a:lnTo>
                      <a:pt x="1488" y="666"/>
                    </a:lnTo>
                    <a:lnTo>
                      <a:pt x="1500" y="666"/>
                    </a:lnTo>
                    <a:lnTo>
                      <a:pt x="1512" y="672"/>
                    </a:lnTo>
                    <a:lnTo>
                      <a:pt x="1512" y="678"/>
                    </a:lnTo>
                    <a:lnTo>
                      <a:pt x="1518" y="684"/>
                    </a:lnTo>
                    <a:lnTo>
                      <a:pt x="1518" y="690"/>
                    </a:lnTo>
                    <a:lnTo>
                      <a:pt x="1524" y="696"/>
                    </a:lnTo>
                    <a:lnTo>
                      <a:pt x="1530" y="696"/>
                    </a:lnTo>
                    <a:lnTo>
                      <a:pt x="1530" y="654"/>
                    </a:lnTo>
                    <a:lnTo>
                      <a:pt x="1530" y="648"/>
                    </a:lnTo>
                    <a:lnTo>
                      <a:pt x="1524" y="636"/>
                    </a:lnTo>
                    <a:lnTo>
                      <a:pt x="1518" y="630"/>
                    </a:lnTo>
                    <a:lnTo>
                      <a:pt x="1512" y="624"/>
                    </a:lnTo>
                    <a:lnTo>
                      <a:pt x="1506" y="618"/>
                    </a:lnTo>
                    <a:lnTo>
                      <a:pt x="1494" y="612"/>
                    </a:lnTo>
                    <a:lnTo>
                      <a:pt x="1488" y="612"/>
                    </a:lnTo>
                    <a:lnTo>
                      <a:pt x="1482" y="612"/>
                    </a:lnTo>
                    <a:lnTo>
                      <a:pt x="1482" y="606"/>
                    </a:lnTo>
                    <a:lnTo>
                      <a:pt x="1464" y="606"/>
                    </a:lnTo>
                    <a:lnTo>
                      <a:pt x="1446" y="606"/>
                    </a:lnTo>
                    <a:lnTo>
                      <a:pt x="1434" y="612"/>
                    </a:lnTo>
                    <a:lnTo>
                      <a:pt x="1422" y="618"/>
                    </a:lnTo>
                    <a:lnTo>
                      <a:pt x="1404" y="630"/>
                    </a:lnTo>
                    <a:lnTo>
                      <a:pt x="1392" y="642"/>
                    </a:lnTo>
                    <a:lnTo>
                      <a:pt x="1386" y="612"/>
                    </a:lnTo>
                    <a:lnTo>
                      <a:pt x="1380" y="588"/>
                    </a:lnTo>
                    <a:lnTo>
                      <a:pt x="1380" y="558"/>
                    </a:lnTo>
                    <a:lnTo>
                      <a:pt x="1380" y="528"/>
                    </a:lnTo>
                    <a:lnTo>
                      <a:pt x="1386" y="498"/>
                    </a:lnTo>
                    <a:lnTo>
                      <a:pt x="1392" y="474"/>
                    </a:lnTo>
                    <a:lnTo>
                      <a:pt x="1404" y="444"/>
                    </a:lnTo>
                    <a:lnTo>
                      <a:pt x="1422" y="420"/>
                    </a:lnTo>
                    <a:lnTo>
                      <a:pt x="1440" y="390"/>
                    </a:lnTo>
                    <a:lnTo>
                      <a:pt x="1464" y="366"/>
                    </a:lnTo>
                    <a:lnTo>
                      <a:pt x="1488" y="348"/>
                    </a:lnTo>
                    <a:lnTo>
                      <a:pt x="1518" y="330"/>
                    </a:lnTo>
                    <a:lnTo>
                      <a:pt x="1536" y="330"/>
                    </a:lnTo>
                    <a:lnTo>
                      <a:pt x="1548" y="336"/>
                    </a:lnTo>
                    <a:lnTo>
                      <a:pt x="1566" y="342"/>
                    </a:lnTo>
                    <a:lnTo>
                      <a:pt x="1578" y="354"/>
                    </a:lnTo>
                    <a:lnTo>
                      <a:pt x="1590" y="366"/>
                    </a:lnTo>
                    <a:lnTo>
                      <a:pt x="1596" y="378"/>
                    </a:lnTo>
                    <a:lnTo>
                      <a:pt x="1602" y="396"/>
                    </a:lnTo>
                    <a:lnTo>
                      <a:pt x="1602" y="408"/>
                    </a:lnTo>
                    <a:lnTo>
                      <a:pt x="1602" y="420"/>
                    </a:lnTo>
                    <a:lnTo>
                      <a:pt x="1596" y="438"/>
                    </a:lnTo>
                    <a:lnTo>
                      <a:pt x="1590" y="450"/>
                    </a:lnTo>
                    <a:lnTo>
                      <a:pt x="1584" y="462"/>
                    </a:lnTo>
                    <a:lnTo>
                      <a:pt x="1578" y="468"/>
                    </a:lnTo>
                    <a:lnTo>
                      <a:pt x="1572" y="468"/>
                    </a:lnTo>
                    <a:lnTo>
                      <a:pt x="1566" y="468"/>
                    </a:lnTo>
                    <a:lnTo>
                      <a:pt x="1554" y="468"/>
                    </a:lnTo>
                    <a:lnTo>
                      <a:pt x="1548" y="468"/>
                    </a:lnTo>
                    <a:lnTo>
                      <a:pt x="1542" y="474"/>
                    </a:lnTo>
                    <a:lnTo>
                      <a:pt x="1530" y="468"/>
                    </a:lnTo>
                    <a:lnTo>
                      <a:pt x="1524" y="462"/>
                    </a:lnTo>
                    <a:lnTo>
                      <a:pt x="1524" y="450"/>
                    </a:lnTo>
                    <a:lnTo>
                      <a:pt x="1518" y="444"/>
                    </a:lnTo>
                    <a:lnTo>
                      <a:pt x="1518" y="432"/>
                    </a:lnTo>
                    <a:lnTo>
                      <a:pt x="1518" y="426"/>
                    </a:lnTo>
                    <a:lnTo>
                      <a:pt x="1506" y="426"/>
                    </a:lnTo>
                    <a:lnTo>
                      <a:pt x="1500" y="426"/>
                    </a:lnTo>
                    <a:lnTo>
                      <a:pt x="1500" y="432"/>
                    </a:lnTo>
                    <a:lnTo>
                      <a:pt x="1500" y="438"/>
                    </a:lnTo>
                    <a:lnTo>
                      <a:pt x="1494" y="444"/>
                    </a:lnTo>
                    <a:lnTo>
                      <a:pt x="1488" y="450"/>
                    </a:lnTo>
                    <a:lnTo>
                      <a:pt x="1488" y="462"/>
                    </a:lnTo>
                    <a:lnTo>
                      <a:pt x="1488" y="474"/>
                    </a:lnTo>
                    <a:lnTo>
                      <a:pt x="1494" y="480"/>
                    </a:lnTo>
                    <a:lnTo>
                      <a:pt x="1500" y="486"/>
                    </a:lnTo>
                    <a:lnTo>
                      <a:pt x="1506" y="498"/>
                    </a:lnTo>
                    <a:lnTo>
                      <a:pt x="1506" y="504"/>
                    </a:lnTo>
                    <a:lnTo>
                      <a:pt x="1512" y="510"/>
                    </a:lnTo>
                    <a:lnTo>
                      <a:pt x="1524" y="516"/>
                    </a:lnTo>
                    <a:lnTo>
                      <a:pt x="1530" y="516"/>
                    </a:lnTo>
                    <a:lnTo>
                      <a:pt x="1536" y="516"/>
                    </a:lnTo>
                    <a:lnTo>
                      <a:pt x="1542" y="516"/>
                    </a:lnTo>
                    <a:lnTo>
                      <a:pt x="1548" y="516"/>
                    </a:lnTo>
                    <a:lnTo>
                      <a:pt x="1548" y="522"/>
                    </a:lnTo>
                    <a:lnTo>
                      <a:pt x="1548" y="528"/>
                    </a:lnTo>
                    <a:lnTo>
                      <a:pt x="1548" y="534"/>
                    </a:lnTo>
                    <a:lnTo>
                      <a:pt x="1542" y="534"/>
                    </a:lnTo>
                    <a:lnTo>
                      <a:pt x="1542" y="540"/>
                    </a:lnTo>
                    <a:lnTo>
                      <a:pt x="1542" y="552"/>
                    </a:lnTo>
                    <a:lnTo>
                      <a:pt x="1542" y="558"/>
                    </a:lnTo>
                    <a:lnTo>
                      <a:pt x="1548" y="570"/>
                    </a:lnTo>
                    <a:lnTo>
                      <a:pt x="1548" y="576"/>
                    </a:lnTo>
                    <a:lnTo>
                      <a:pt x="1554" y="582"/>
                    </a:lnTo>
                    <a:lnTo>
                      <a:pt x="1566" y="588"/>
                    </a:lnTo>
                    <a:lnTo>
                      <a:pt x="1566" y="594"/>
                    </a:lnTo>
                    <a:lnTo>
                      <a:pt x="1572" y="594"/>
                    </a:lnTo>
                    <a:lnTo>
                      <a:pt x="1578" y="594"/>
                    </a:lnTo>
                    <a:lnTo>
                      <a:pt x="1584" y="594"/>
                    </a:lnTo>
                    <a:lnTo>
                      <a:pt x="1590" y="594"/>
                    </a:lnTo>
                    <a:lnTo>
                      <a:pt x="1590" y="588"/>
                    </a:lnTo>
                    <a:lnTo>
                      <a:pt x="1590" y="582"/>
                    </a:lnTo>
                    <a:lnTo>
                      <a:pt x="1584" y="576"/>
                    </a:lnTo>
                    <a:lnTo>
                      <a:pt x="1584" y="570"/>
                    </a:lnTo>
                    <a:lnTo>
                      <a:pt x="1578" y="570"/>
                    </a:lnTo>
                    <a:lnTo>
                      <a:pt x="1578" y="564"/>
                    </a:lnTo>
                    <a:lnTo>
                      <a:pt x="1590" y="540"/>
                    </a:lnTo>
                    <a:lnTo>
                      <a:pt x="1608" y="522"/>
                    </a:lnTo>
                    <a:lnTo>
                      <a:pt x="1626" y="510"/>
                    </a:lnTo>
                    <a:lnTo>
                      <a:pt x="1650" y="492"/>
                    </a:lnTo>
                    <a:lnTo>
                      <a:pt x="1668" y="474"/>
                    </a:lnTo>
                    <a:lnTo>
                      <a:pt x="1686" y="456"/>
                    </a:lnTo>
                    <a:lnTo>
                      <a:pt x="1692" y="432"/>
                    </a:lnTo>
                    <a:lnTo>
                      <a:pt x="1704" y="414"/>
                    </a:lnTo>
                    <a:lnTo>
                      <a:pt x="1710" y="390"/>
                    </a:lnTo>
                    <a:lnTo>
                      <a:pt x="1710" y="366"/>
                    </a:lnTo>
                    <a:lnTo>
                      <a:pt x="1710" y="342"/>
                    </a:lnTo>
                    <a:lnTo>
                      <a:pt x="1698" y="318"/>
                    </a:lnTo>
                    <a:lnTo>
                      <a:pt x="1686" y="300"/>
                    </a:lnTo>
                    <a:lnTo>
                      <a:pt x="1662" y="282"/>
                    </a:lnTo>
                    <a:lnTo>
                      <a:pt x="1638" y="270"/>
                    </a:lnTo>
                    <a:lnTo>
                      <a:pt x="1614" y="264"/>
                    </a:lnTo>
                    <a:lnTo>
                      <a:pt x="1590" y="258"/>
                    </a:lnTo>
                    <a:lnTo>
                      <a:pt x="1560" y="258"/>
                    </a:lnTo>
                    <a:lnTo>
                      <a:pt x="1572" y="252"/>
                    </a:lnTo>
                    <a:lnTo>
                      <a:pt x="1584" y="246"/>
                    </a:lnTo>
                    <a:lnTo>
                      <a:pt x="1596" y="246"/>
                    </a:lnTo>
                    <a:lnTo>
                      <a:pt x="1608" y="246"/>
                    </a:lnTo>
                    <a:lnTo>
                      <a:pt x="1620" y="246"/>
                    </a:lnTo>
                    <a:lnTo>
                      <a:pt x="1632" y="252"/>
                    </a:lnTo>
                    <a:lnTo>
                      <a:pt x="1650" y="246"/>
                    </a:lnTo>
                    <a:lnTo>
                      <a:pt x="1668" y="246"/>
                    </a:lnTo>
                    <a:lnTo>
                      <a:pt x="1686" y="234"/>
                    </a:lnTo>
                    <a:lnTo>
                      <a:pt x="1698" y="228"/>
                    </a:lnTo>
                    <a:lnTo>
                      <a:pt x="1716" y="216"/>
                    </a:lnTo>
                    <a:lnTo>
                      <a:pt x="1722" y="198"/>
                    </a:lnTo>
                    <a:lnTo>
                      <a:pt x="1728" y="198"/>
                    </a:lnTo>
                    <a:lnTo>
                      <a:pt x="1740" y="174"/>
                    </a:lnTo>
                    <a:lnTo>
                      <a:pt x="1746" y="156"/>
                    </a:lnTo>
                    <a:lnTo>
                      <a:pt x="1746" y="132"/>
                    </a:lnTo>
                    <a:lnTo>
                      <a:pt x="1740" y="114"/>
                    </a:lnTo>
                    <a:lnTo>
                      <a:pt x="1734" y="96"/>
                    </a:lnTo>
                    <a:lnTo>
                      <a:pt x="1728" y="78"/>
                    </a:lnTo>
                    <a:lnTo>
                      <a:pt x="1716" y="60"/>
                    </a:lnTo>
                    <a:lnTo>
                      <a:pt x="1698" y="48"/>
                    </a:lnTo>
                    <a:lnTo>
                      <a:pt x="1686" y="42"/>
                    </a:lnTo>
                    <a:lnTo>
                      <a:pt x="1668" y="36"/>
                    </a:lnTo>
                    <a:lnTo>
                      <a:pt x="1650" y="30"/>
                    </a:lnTo>
                    <a:lnTo>
                      <a:pt x="1632" y="30"/>
                    </a:lnTo>
                    <a:lnTo>
                      <a:pt x="1620" y="30"/>
                    </a:lnTo>
                    <a:lnTo>
                      <a:pt x="1608" y="36"/>
                    </a:lnTo>
                    <a:lnTo>
                      <a:pt x="1602" y="36"/>
                    </a:lnTo>
                    <a:lnTo>
                      <a:pt x="1596" y="42"/>
                    </a:lnTo>
                    <a:lnTo>
                      <a:pt x="1590" y="48"/>
                    </a:lnTo>
                    <a:lnTo>
                      <a:pt x="1584" y="54"/>
                    </a:lnTo>
                    <a:lnTo>
                      <a:pt x="1578" y="60"/>
                    </a:lnTo>
                    <a:lnTo>
                      <a:pt x="1578" y="66"/>
                    </a:lnTo>
                    <a:lnTo>
                      <a:pt x="1578" y="78"/>
                    </a:lnTo>
                    <a:lnTo>
                      <a:pt x="1578" y="84"/>
                    </a:lnTo>
                    <a:lnTo>
                      <a:pt x="1578" y="90"/>
                    </a:lnTo>
                    <a:lnTo>
                      <a:pt x="1584" y="96"/>
                    </a:lnTo>
                    <a:lnTo>
                      <a:pt x="1590" y="102"/>
                    </a:lnTo>
                    <a:lnTo>
                      <a:pt x="1614" y="84"/>
                    </a:lnTo>
                    <a:lnTo>
                      <a:pt x="1620" y="78"/>
                    </a:lnTo>
                    <a:lnTo>
                      <a:pt x="1626" y="78"/>
                    </a:lnTo>
                    <a:lnTo>
                      <a:pt x="1632" y="78"/>
                    </a:lnTo>
                    <a:lnTo>
                      <a:pt x="1638" y="78"/>
                    </a:lnTo>
                    <a:lnTo>
                      <a:pt x="1644" y="84"/>
                    </a:lnTo>
                    <a:lnTo>
                      <a:pt x="1644" y="90"/>
                    </a:lnTo>
                    <a:lnTo>
                      <a:pt x="1650" y="102"/>
                    </a:lnTo>
                    <a:lnTo>
                      <a:pt x="1650" y="108"/>
                    </a:lnTo>
                    <a:lnTo>
                      <a:pt x="1644" y="120"/>
                    </a:lnTo>
                    <a:lnTo>
                      <a:pt x="1644" y="132"/>
                    </a:lnTo>
                    <a:lnTo>
                      <a:pt x="1638" y="138"/>
                    </a:lnTo>
                    <a:lnTo>
                      <a:pt x="1638" y="150"/>
                    </a:lnTo>
                    <a:lnTo>
                      <a:pt x="1620" y="168"/>
                    </a:lnTo>
                    <a:lnTo>
                      <a:pt x="1596" y="174"/>
                    </a:lnTo>
                    <a:lnTo>
                      <a:pt x="1572" y="174"/>
                    </a:lnTo>
                    <a:lnTo>
                      <a:pt x="1548" y="168"/>
                    </a:lnTo>
                    <a:lnTo>
                      <a:pt x="1524" y="168"/>
                    </a:lnTo>
                    <a:lnTo>
                      <a:pt x="1506" y="174"/>
                    </a:lnTo>
                    <a:lnTo>
                      <a:pt x="1506" y="168"/>
                    </a:lnTo>
                    <a:lnTo>
                      <a:pt x="1506" y="162"/>
                    </a:lnTo>
                    <a:lnTo>
                      <a:pt x="1506" y="156"/>
                    </a:lnTo>
                    <a:lnTo>
                      <a:pt x="1500" y="156"/>
                    </a:lnTo>
                    <a:lnTo>
                      <a:pt x="1500" y="150"/>
                    </a:lnTo>
                    <a:lnTo>
                      <a:pt x="1500" y="144"/>
                    </a:lnTo>
                    <a:lnTo>
                      <a:pt x="1500" y="132"/>
                    </a:lnTo>
                    <a:lnTo>
                      <a:pt x="1494" y="132"/>
                    </a:lnTo>
                    <a:lnTo>
                      <a:pt x="1494" y="126"/>
                    </a:lnTo>
                    <a:lnTo>
                      <a:pt x="1488" y="120"/>
                    </a:lnTo>
                    <a:lnTo>
                      <a:pt x="1482" y="108"/>
                    </a:lnTo>
                    <a:lnTo>
                      <a:pt x="1464" y="96"/>
                    </a:lnTo>
                    <a:lnTo>
                      <a:pt x="1440" y="84"/>
                    </a:lnTo>
                    <a:lnTo>
                      <a:pt x="1422" y="84"/>
                    </a:lnTo>
                    <a:lnTo>
                      <a:pt x="1398" y="84"/>
                    </a:lnTo>
                    <a:lnTo>
                      <a:pt x="1374" y="84"/>
                    </a:lnTo>
                    <a:lnTo>
                      <a:pt x="1356" y="90"/>
                    </a:lnTo>
                    <a:lnTo>
                      <a:pt x="1344" y="102"/>
                    </a:lnTo>
                    <a:lnTo>
                      <a:pt x="1332" y="108"/>
                    </a:lnTo>
                    <a:lnTo>
                      <a:pt x="1320" y="120"/>
                    </a:lnTo>
                    <a:lnTo>
                      <a:pt x="1314" y="132"/>
                    </a:lnTo>
                    <a:lnTo>
                      <a:pt x="1308" y="144"/>
                    </a:lnTo>
                    <a:lnTo>
                      <a:pt x="1302" y="156"/>
                    </a:lnTo>
                    <a:lnTo>
                      <a:pt x="1308" y="168"/>
                    </a:lnTo>
                    <a:lnTo>
                      <a:pt x="1308" y="174"/>
                    </a:lnTo>
                    <a:lnTo>
                      <a:pt x="1308" y="180"/>
                    </a:lnTo>
                    <a:lnTo>
                      <a:pt x="1314" y="186"/>
                    </a:lnTo>
                    <a:lnTo>
                      <a:pt x="1314" y="192"/>
                    </a:lnTo>
                    <a:lnTo>
                      <a:pt x="1320" y="198"/>
                    </a:lnTo>
                    <a:lnTo>
                      <a:pt x="1332" y="204"/>
                    </a:lnTo>
                    <a:lnTo>
                      <a:pt x="1338" y="204"/>
                    </a:lnTo>
                    <a:lnTo>
                      <a:pt x="1344" y="210"/>
                    </a:lnTo>
                    <a:lnTo>
                      <a:pt x="1350" y="210"/>
                    </a:lnTo>
                    <a:lnTo>
                      <a:pt x="1356" y="210"/>
                    </a:lnTo>
                    <a:lnTo>
                      <a:pt x="1362" y="210"/>
                    </a:lnTo>
                    <a:lnTo>
                      <a:pt x="1362" y="204"/>
                    </a:lnTo>
                    <a:lnTo>
                      <a:pt x="1362" y="198"/>
                    </a:lnTo>
                    <a:lnTo>
                      <a:pt x="1356" y="198"/>
                    </a:lnTo>
                    <a:lnTo>
                      <a:pt x="1356" y="192"/>
                    </a:lnTo>
                    <a:lnTo>
                      <a:pt x="1356" y="186"/>
                    </a:lnTo>
                    <a:lnTo>
                      <a:pt x="1356" y="180"/>
                    </a:lnTo>
                    <a:lnTo>
                      <a:pt x="1356" y="174"/>
                    </a:lnTo>
                    <a:lnTo>
                      <a:pt x="1362" y="174"/>
                    </a:lnTo>
                    <a:lnTo>
                      <a:pt x="1368" y="168"/>
                    </a:lnTo>
                    <a:lnTo>
                      <a:pt x="1374" y="162"/>
                    </a:lnTo>
                    <a:lnTo>
                      <a:pt x="1380" y="162"/>
                    </a:lnTo>
                    <a:lnTo>
                      <a:pt x="1386" y="168"/>
                    </a:lnTo>
                    <a:lnTo>
                      <a:pt x="1398" y="168"/>
                    </a:lnTo>
                    <a:lnTo>
                      <a:pt x="1404" y="174"/>
                    </a:lnTo>
                    <a:lnTo>
                      <a:pt x="1404" y="186"/>
                    </a:lnTo>
                    <a:lnTo>
                      <a:pt x="1404" y="192"/>
                    </a:lnTo>
                    <a:lnTo>
                      <a:pt x="1410" y="198"/>
                    </a:lnTo>
                    <a:lnTo>
                      <a:pt x="1410" y="204"/>
                    </a:lnTo>
                    <a:lnTo>
                      <a:pt x="1410" y="210"/>
                    </a:lnTo>
                    <a:lnTo>
                      <a:pt x="1410" y="222"/>
                    </a:lnTo>
                    <a:lnTo>
                      <a:pt x="1392" y="258"/>
                    </a:lnTo>
                    <a:lnTo>
                      <a:pt x="1368" y="300"/>
                    </a:lnTo>
                    <a:lnTo>
                      <a:pt x="1350" y="342"/>
                    </a:lnTo>
                    <a:lnTo>
                      <a:pt x="1338" y="384"/>
                    </a:lnTo>
                    <a:lnTo>
                      <a:pt x="1326" y="426"/>
                    </a:lnTo>
                    <a:lnTo>
                      <a:pt x="1314" y="468"/>
                    </a:lnTo>
                    <a:lnTo>
                      <a:pt x="1302" y="534"/>
                    </a:lnTo>
                    <a:lnTo>
                      <a:pt x="1302" y="600"/>
                    </a:lnTo>
                    <a:lnTo>
                      <a:pt x="1314" y="666"/>
                    </a:lnTo>
                    <a:lnTo>
                      <a:pt x="1326" y="732"/>
                    </a:lnTo>
                    <a:lnTo>
                      <a:pt x="1344" y="792"/>
                    </a:lnTo>
                    <a:lnTo>
                      <a:pt x="1356" y="852"/>
                    </a:lnTo>
                    <a:lnTo>
                      <a:pt x="1362" y="870"/>
                    </a:lnTo>
                    <a:lnTo>
                      <a:pt x="1374" y="888"/>
                    </a:lnTo>
                    <a:lnTo>
                      <a:pt x="1386" y="906"/>
                    </a:lnTo>
                    <a:lnTo>
                      <a:pt x="1398" y="924"/>
                    </a:lnTo>
                    <a:lnTo>
                      <a:pt x="1416" y="942"/>
                    </a:lnTo>
                    <a:lnTo>
                      <a:pt x="1422" y="966"/>
                    </a:lnTo>
                    <a:lnTo>
                      <a:pt x="1410" y="966"/>
                    </a:lnTo>
                    <a:lnTo>
                      <a:pt x="1392" y="966"/>
                    </a:lnTo>
                    <a:lnTo>
                      <a:pt x="1380" y="966"/>
                    </a:lnTo>
                    <a:lnTo>
                      <a:pt x="1368" y="966"/>
                    </a:lnTo>
                    <a:lnTo>
                      <a:pt x="1350" y="966"/>
                    </a:lnTo>
                    <a:lnTo>
                      <a:pt x="1338" y="966"/>
                    </a:lnTo>
                    <a:lnTo>
                      <a:pt x="1326" y="960"/>
                    </a:lnTo>
                    <a:lnTo>
                      <a:pt x="1314" y="948"/>
                    </a:lnTo>
                    <a:lnTo>
                      <a:pt x="1308" y="942"/>
                    </a:lnTo>
                    <a:lnTo>
                      <a:pt x="1308" y="930"/>
                    </a:lnTo>
                    <a:lnTo>
                      <a:pt x="1302" y="918"/>
                    </a:lnTo>
                    <a:lnTo>
                      <a:pt x="1302" y="906"/>
                    </a:lnTo>
                    <a:lnTo>
                      <a:pt x="1302" y="900"/>
                    </a:lnTo>
                    <a:lnTo>
                      <a:pt x="1308" y="894"/>
                    </a:lnTo>
                    <a:lnTo>
                      <a:pt x="1314" y="888"/>
                    </a:lnTo>
                    <a:lnTo>
                      <a:pt x="1320" y="882"/>
                    </a:lnTo>
                    <a:lnTo>
                      <a:pt x="1326" y="882"/>
                    </a:lnTo>
                    <a:lnTo>
                      <a:pt x="1332" y="876"/>
                    </a:lnTo>
                    <a:lnTo>
                      <a:pt x="1326" y="870"/>
                    </a:lnTo>
                    <a:lnTo>
                      <a:pt x="1314" y="870"/>
                    </a:lnTo>
                    <a:lnTo>
                      <a:pt x="1302" y="870"/>
                    </a:lnTo>
                    <a:lnTo>
                      <a:pt x="1290" y="870"/>
                    </a:lnTo>
                    <a:lnTo>
                      <a:pt x="1278" y="870"/>
                    </a:lnTo>
                    <a:lnTo>
                      <a:pt x="1266" y="876"/>
                    </a:lnTo>
                    <a:lnTo>
                      <a:pt x="1254" y="882"/>
                    </a:lnTo>
                    <a:lnTo>
                      <a:pt x="1254" y="894"/>
                    </a:lnTo>
                    <a:lnTo>
                      <a:pt x="1248" y="906"/>
                    </a:lnTo>
                    <a:lnTo>
                      <a:pt x="1242" y="924"/>
                    </a:lnTo>
                    <a:lnTo>
                      <a:pt x="1242" y="936"/>
                    </a:lnTo>
                    <a:lnTo>
                      <a:pt x="1242" y="954"/>
                    </a:lnTo>
                    <a:lnTo>
                      <a:pt x="1248" y="966"/>
                    </a:lnTo>
                    <a:lnTo>
                      <a:pt x="1248" y="978"/>
                    </a:lnTo>
                    <a:lnTo>
                      <a:pt x="1254" y="990"/>
                    </a:lnTo>
                    <a:lnTo>
                      <a:pt x="1266" y="996"/>
                    </a:lnTo>
                    <a:lnTo>
                      <a:pt x="1272" y="1008"/>
                    </a:lnTo>
                    <a:lnTo>
                      <a:pt x="1284" y="1014"/>
                    </a:lnTo>
                    <a:lnTo>
                      <a:pt x="1296" y="1014"/>
                    </a:lnTo>
                    <a:lnTo>
                      <a:pt x="1284" y="1020"/>
                    </a:lnTo>
                    <a:lnTo>
                      <a:pt x="1272" y="1020"/>
                    </a:lnTo>
                    <a:lnTo>
                      <a:pt x="1260" y="1020"/>
                    </a:lnTo>
                    <a:lnTo>
                      <a:pt x="1248" y="1026"/>
                    </a:lnTo>
                    <a:lnTo>
                      <a:pt x="1236" y="1026"/>
                    </a:lnTo>
                    <a:lnTo>
                      <a:pt x="1230" y="1026"/>
                    </a:lnTo>
                    <a:lnTo>
                      <a:pt x="1224" y="1032"/>
                    </a:lnTo>
                    <a:lnTo>
                      <a:pt x="1236" y="1044"/>
                    </a:lnTo>
                    <a:lnTo>
                      <a:pt x="1242" y="1050"/>
                    </a:lnTo>
                    <a:lnTo>
                      <a:pt x="1254" y="1056"/>
                    </a:lnTo>
                    <a:lnTo>
                      <a:pt x="1266" y="1062"/>
                    </a:lnTo>
                    <a:lnTo>
                      <a:pt x="1278" y="1068"/>
                    </a:lnTo>
                    <a:lnTo>
                      <a:pt x="1290" y="1068"/>
                    </a:lnTo>
                    <a:lnTo>
                      <a:pt x="1284" y="1074"/>
                    </a:lnTo>
                    <a:lnTo>
                      <a:pt x="1278" y="1080"/>
                    </a:lnTo>
                    <a:lnTo>
                      <a:pt x="1278" y="1086"/>
                    </a:lnTo>
                    <a:lnTo>
                      <a:pt x="1278" y="1092"/>
                    </a:lnTo>
                    <a:lnTo>
                      <a:pt x="1278" y="1098"/>
                    </a:lnTo>
                    <a:lnTo>
                      <a:pt x="1272" y="1104"/>
                    </a:lnTo>
                    <a:lnTo>
                      <a:pt x="1272" y="1122"/>
                    </a:lnTo>
                    <a:lnTo>
                      <a:pt x="1278" y="1140"/>
                    </a:lnTo>
                    <a:lnTo>
                      <a:pt x="1290" y="1152"/>
                    </a:lnTo>
                    <a:lnTo>
                      <a:pt x="1302" y="1164"/>
                    </a:lnTo>
                    <a:lnTo>
                      <a:pt x="1314" y="1176"/>
                    </a:lnTo>
                    <a:lnTo>
                      <a:pt x="1326" y="1182"/>
                    </a:lnTo>
                    <a:lnTo>
                      <a:pt x="1332" y="1188"/>
                    </a:lnTo>
                    <a:lnTo>
                      <a:pt x="1338" y="1188"/>
                    </a:lnTo>
                    <a:lnTo>
                      <a:pt x="1344" y="1188"/>
                    </a:lnTo>
                    <a:lnTo>
                      <a:pt x="1350" y="1188"/>
                    </a:lnTo>
                    <a:lnTo>
                      <a:pt x="1350" y="1194"/>
                    </a:lnTo>
                    <a:lnTo>
                      <a:pt x="1356" y="1194"/>
                    </a:lnTo>
                    <a:lnTo>
                      <a:pt x="1368" y="1194"/>
                    </a:lnTo>
                    <a:lnTo>
                      <a:pt x="1380" y="1188"/>
                    </a:lnTo>
                    <a:lnTo>
                      <a:pt x="1392" y="1182"/>
                    </a:lnTo>
                    <a:lnTo>
                      <a:pt x="1404" y="1176"/>
                    </a:lnTo>
                    <a:lnTo>
                      <a:pt x="1416" y="1164"/>
                    </a:lnTo>
                    <a:lnTo>
                      <a:pt x="1422" y="1152"/>
                    </a:lnTo>
                    <a:lnTo>
                      <a:pt x="1422" y="1146"/>
                    </a:lnTo>
                    <a:lnTo>
                      <a:pt x="1422" y="1140"/>
                    </a:lnTo>
                    <a:lnTo>
                      <a:pt x="1416" y="1134"/>
                    </a:lnTo>
                    <a:lnTo>
                      <a:pt x="1410" y="1134"/>
                    </a:lnTo>
                    <a:lnTo>
                      <a:pt x="1398" y="1140"/>
                    </a:lnTo>
                    <a:lnTo>
                      <a:pt x="1386" y="1140"/>
                    </a:lnTo>
                    <a:lnTo>
                      <a:pt x="1374" y="1146"/>
                    </a:lnTo>
                    <a:lnTo>
                      <a:pt x="1368" y="1146"/>
                    </a:lnTo>
                    <a:lnTo>
                      <a:pt x="1356" y="1140"/>
                    </a:lnTo>
                    <a:lnTo>
                      <a:pt x="1344" y="1140"/>
                    </a:lnTo>
                    <a:lnTo>
                      <a:pt x="1338" y="1128"/>
                    </a:lnTo>
                    <a:lnTo>
                      <a:pt x="1338" y="1122"/>
                    </a:lnTo>
                    <a:lnTo>
                      <a:pt x="1332" y="1116"/>
                    </a:lnTo>
                    <a:lnTo>
                      <a:pt x="1332" y="1110"/>
                    </a:lnTo>
                    <a:lnTo>
                      <a:pt x="1332" y="1104"/>
                    </a:lnTo>
                    <a:lnTo>
                      <a:pt x="1338" y="1098"/>
                    </a:lnTo>
                    <a:lnTo>
                      <a:pt x="1344" y="1086"/>
                    </a:lnTo>
                    <a:lnTo>
                      <a:pt x="1350" y="1080"/>
                    </a:lnTo>
                    <a:lnTo>
                      <a:pt x="1356" y="1074"/>
                    </a:lnTo>
                    <a:lnTo>
                      <a:pt x="1368" y="1068"/>
                    </a:lnTo>
                    <a:lnTo>
                      <a:pt x="1374" y="1062"/>
                    </a:lnTo>
                    <a:lnTo>
                      <a:pt x="1386" y="1056"/>
                    </a:lnTo>
                    <a:lnTo>
                      <a:pt x="1398" y="1056"/>
                    </a:lnTo>
                    <a:lnTo>
                      <a:pt x="1410" y="1056"/>
                    </a:lnTo>
                    <a:lnTo>
                      <a:pt x="1416" y="1062"/>
                    </a:lnTo>
                    <a:lnTo>
                      <a:pt x="1428" y="1068"/>
                    </a:lnTo>
                    <a:lnTo>
                      <a:pt x="1440" y="1068"/>
                    </a:lnTo>
                    <a:lnTo>
                      <a:pt x="1446" y="1074"/>
                    </a:lnTo>
                    <a:lnTo>
                      <a:pt x="1470" y="1092"/>
                    </a:lnTo>
                    <a:lnTo>
                      <a:pt x="1482" y="1110"/>
                    </a:lnTo>
                    <a:lnTo>
                      <a:pt x="1500" y="1134"/>
                    </a:lnTo>
                    <a:lnTo>
                      <a:pt x="1506" y="1158"/>
                    </a:lnTo>
                    <a:lnTo>
                      <a:pt x="1512" y="1182"/>
                    </a:lnTo>
                    <a:lnTo>
                      <a:pt x="1518" y="1206"/>
                    </a:lnTo>
                    <a:lnTo>
                      <a:pt x="1518" y="1218"/>
                    </a:lnTo>
                    <a:lnTo>
                      <a:pt x="1512" y="1230"/>
                    </a:lnTo>
                    <a:lnTo>
                      <a:pt x="1506" y="1236"/>
                    </a:lnTo>
                    <a:lnTo>
                      <a:pt x="1500" y="1248"/>
                    </a:lnTo>
                    <a:lnTo>
                      <a:pt x="1488" y="1254"/>
                    </a:lnTo>
                    <a:lnTo>
                      <a:pt x="1482" y="1266"/>
                    </a:lnTo>
                    <a:lnTo>
                      <a:pt x="1458" y="1290"/>
                    </a:lnTo>
                    <a:lnTo>
                      <a:pt x="1434" y="1302"/>
                    </a:lnTo>
                    <a:lnTo>
                      <a:pt x="1404" y="1308"/>
                    </a:lnTo>
                    <a:lnTo>
                      <a:pt x="1374" y="1314"/>
                    </a:lnTo>
                    <a:lnTo>
                      <a:pt x="1338" y="1314"/>
                    </a:lnTo>
                    <a:lnTo>
                      <a:pt x="1308" y="1308"/>
                    </a:lnTo>
                    <a:lnTo>
                      <a:pt x="1266" y="1302"/>
                    </a:lnTo>
                    <a:lnTo>
                      <a:pt x="1224" y="1278"/>
                    </a:lnTo>
                    <a:lnTo>
                      <a:pt x="1182" y="1248"/>
                    </a:lnTo>
                    <a:lnTo>
                      <a:pt x="1152" y="1212"/>
                    </a:lnTo>
                    <a:lnTo>
                      <a:pt x="1122" y="1170"/>
                    </a:lnTo>
                    <a:lnTo>
                      <a:pt x="1092" y="1134"/>
                    </a:lnTo>
                    <a:lnTo>
                      <a:pt x="1086" y="1104"/>
                    </a:lnTo>
                    <a:lnTo>
                      <a:pt x="1074" y="1080"/>
                    </a:lnTo>
                    <a:lnTo>
                      <a:pt x="1062" y="1056"/>
                    </a:lnTo>
                    <a:lnTo>
                      <a:pt x="1056" y="1026"/>
                    </a:lnTo>
                    <a:lnTo>
                      <a:pt x="1050" y="1002"/>
                    </a:lnTo>
                    <a:lnTo>
                      <a:pt x="1044" y="972"/>
                    </a:lnTo>
                    <a:lnTo>
                      <a:pt x="1044" y="966"/>
                    </a:lnTo>
                    <a:lnTo>
                      <a:pt x="1050" y="966"/>
                    </a:lnTo>
                    <a:lnTo>
                      <a:pt x="1062" y="966"/>
                    </a:lnTo>
                    <a:lnTo>
                      <a:pt x="1068" y="966"/>
                    </a:lnTo>
                    <a:lnTo>
                      <a:pt x="1080" y="966"/>
                    </a:lnTo>
                    <a:lnTo>
                      <a:pt x="1080" y="960"/>
                    </a:lnTo>
                    <a:lnTo>
                      <a:pt x="1080" y="948"/>
                    </a:lnTo>
                    <a:lnTo>
                      <a:pt x="1074" y="942"/>
                    </a:lnTo>
                    <a:lnTo>
                      <a:pt x="1068" y="936"/>
                    </a:lnTo>
                    <a:lnTo>
                      <a:pt x="1068" y="924"/>
                    </a:lnTo>
                    <a:lnTo>
                      <a:pt x="1062" y="918"/>
                    </a:lnTo>
                    <a:lnTo>
                      <a:pt x="1056" y="912"/>
                    </a:lnTo>
                    <a:lnTo>
                      <a:pt x="1050" y="888"/>
                    </a:lnTo>
                    <a:lnTo>
                      <a:pt x="1044" y="864"/>
                    </a:lnTo>
                    <a:lnTo>
                      <a:pt x="1050" y="840"/>
                    </a:lnTo>
                    <a:lnTo>
                      <a:pt x="1056" y="822"/>
                    </a:lnTo>
                    <a:lnTo>
                      <a:pt x="1062" y="798"/>
                    </a:lnTo>
                    <a:lnTo>
                      <a:pt x="1074" y="774"/>
                    </a:lnTo>
                    <a:lnTo>
                      <a:pt x="1086" y="798"/>
                    </a:lnTo>
                    <a:lnTo>
                      <a:pt x="1098" y="804"/>
                    </a:lnTo>
                    <a:lnTo>
                      <a:pt x="1116" y="810"/>
                    </a:lnTo>
                    <a:lnTo>
                      <a:pt x="1128" y="816"/>
                    </a:lnTo>
                    <a:lnTo>
                      <a:pt x="1140" y="816"/>
                    </a:lnTo>
                    <a:lnTo>
                      <a:pt x="1158" y="816"/>
                    </a:lnTo>
                    <a:lnTo>
                      <a:pt x="1170" y="810"/>
                    </a:lnTo>
                    <a:lnTo>
                      <a:pt x="1170" y="792"/>
                    </a:lnTo>
                    <a:lnTo>
                      <a:pt x="1164" y="786"/>
                    </a:lnTo>
                    <a:lnTo>
                      <a:pt x="1152" y="780"/>
                    </a:lnTo>
                    <a:lnTo>
                      <a:pt x="1140" y="780"/>
                    </a:lnTo>
                    <a:lnTo>
                      <a:pt x="1128" y="774"/>
                    </a:lnTo>
                    <a:lnTo>
                      <a:pt x="1122" y="762"/>
                    </a:lnTo>
                    <a:lnTo>
                      <a:pt x="1116" y="756"/>
                    </a:lnTo>
                    <a:lnTo>
                      <a:pt x="1116" y="744"/>
                    </a:lnTo>
                    <a:lnTo>
                      <a:pt x="1116" y="732"/>
                    </a:lnTo>
                    <a:lnTo>
                      <a:pt x="1116" y="720"/>
                    </a:lnTo>
                    <a:lnTo>
                      <a:pt x="1122" y="714"/>
                    </a:lnTo>
                    <a:lnTo>
                      <a:pt x="1122" y="702"/>
                    </a:lnTo>
                    <a:lnTo>
                      <a:pt x="1122" y="690"/>
                    </a:lnTo>
                    <a:lnTo>
                      <a:pt x="1128" y="678"/>
                    </a:lnTo>
                    <a:lnTo>
                      <a:pt x="1128" y="666"/>
                    </a:lnTo>
                    <a:lnTo>
                      <a:pt x="1134" y="648"/>
                    </a:lnTo>
                    <a:lnTo>
                      <a:pt x="1134" y="636"/>
                    </a:lnTo>
                    <a:lnTo>
                      <a:pt x="1140" y="624"/>
                    </a:lnTo>
                    <a:lnTo>
                      <a:pt x="1146" y="630"/>
                    </a:lnTo>
                    <a:lnTo>
                      <a:pt x="1158" y="636"/>
                    </a:lnTo>
                    <a:lnTo>
                      <a:pt x="1170" y="630"/>
                    </a:lnTo>
                    <a:lnTo>
                      <a:pt x="1182" y="630"/>
                    </a:lnTo>
                    <a:lnTo>
                      <a:pt x="1194" y="624"/>
                    </a:lnTo>
                    <a:lnTo>
                      <a:pt x="1200" y="624"/>
                    </a:lnTo>
                    <a:lnTo>
                      <a:pt x="1212" y="618"/>
                    </a:lnTo>
                    <a:lnTo>
                      <a:pt x="1218" y="612"/>
                    </a:lnTo>
                    <a:lnTo>
                      <a:pt x="1230" y="600"/>
                    </a:lnTo>
                    <a:lnTo>
                      <a:pt x="1230" y="588"/>
                    </a:lnTo>
                    <a:lnTo>
                      <a:pt x="1236" y="582"/>
                    </a:lnTo>
                    <a:lnTo>
                      <a:pt x="1236" y="570"/>
                    </a:lnTo>
                    <a:lnTo>
                      <a:pt x="1230" y="570"/>
                    </a:lnTo>
                    <a:lnTo>
                      <a:pt x="1224" y="570"/>
                    </a:lnTo>
                    <a:lnTo>
                      <a:pt x="1224" y="576"/>
                    </a:lnTo>
                    <a:lnTo>
                      <a:pt x="1218" y="576"/>
                    </a:lnTo>
                    <a:lnTo>
                      <a:pt x="1212" y="582"/>
                    </a:lnTo>
                    <a:lnTo>
                      <a:pt x="1200" y="582"/>
                    </a:lnTo>
                    <a:lnTo>
                      <a:pt x="1194" y="576"/>
                    </a:lnTo>
                    <a:lnTo>
                      <a:pt x="1188" y="576"/>
                    </a:lnTo>
                    <a:lnTo>
                      <a:pt x="1176" y="570"/>
                    </a:lnTo>
                    <a:lnTo>
                      <a:pt x="1170" y="552"/>
                    </a:lnTo>
                    <a:lnTo>
                      <a:pt x="1170" y="534"/>
                    </a:lnTo>
                    <a:lnTo>
                      <a:pt x="1170" y="516"/>
                    </a:lnTo>
                    <a:lnTo>
                      <a:pt x="1176" y="498"/>
                    </a:lnTo>
                    <a:lnTo>
                      <a:pt x="1182" y="480"/>
                    </a:lnTo>
                    <a:lnTo>
                      <a:pt x="1194" y="462"/>
                    </a:lnTo>
                    <a:lnTo>
                      <a:pt x="1200" y="468"/>
                    </a:lnTo>
                    <a:lnTo>
                      <a:pt x="1212" y="468"/>
                    </a:lnTo>
                    <a:lnTo>
                      <a:pt x="1218" y="462"/>
                    </a:lnTo>
                    <a:lnTo>
                      <a:pt x="1230" y="462"/>
                    </a:lnTo>
                    <a:lnTo>
                      <a:pt x="1242" y="456"/>
                    </a:lnTo>
                    <a:lnTo>
                      <a:pt x="1248" y="450"/>
                    </a:lnTo>
                    <a:lnTo>
                      <a:pt x="1254" y="444"/>
                    </a:lnTo>
                    <a:lnTo>
                      <a:pt x="1254" y="438"/>
                    </a:lnTo>
                    <a:lnTo>
                      <a:pt x="1260" y="432"/>
                    </a:lnTo>
                    <a:lnTo>
                      <a:pt x="1266" y="420"/>
                    </a:lnTo>
                    <a:lnTo>
                      <a:pt x="1266" y="414"/>
                    </a:lnTo>
                    <a:lnTo>
                      <a:pt x="1266" y="408"/>
                    </a:lnTo>
                    <a:lnTo>
                      <a:pt x="1260" y="402"/>
                    </a:lnTo>
                    <a:lnTo>
                      <a:pt x="1248" y="408"/>
                    </a:lnTo>
                    <a:lnTo>
                      <a:pt x="1242" y="408"/>
                    </a:lnTo>
                    <a:lnTo>
                      <a:pt x="1236" y="414"/>
                    </a:lnTo>
                    <a:lnTo>
                      <a:pt x="1230" y="414"/>
                    </a:lnTo>
                    <a:lnTo>
                      <a:pt x="1224" y="414"/>
                    </a:lnTo>
                    <a:lnTo>
                      <a:pt x="1212" y="408"/>
                    </a:lnTo>
                    <a:lnTo>
                      <a:pt x="1206" y="402"/>
                    </a:lnTo>
                    <a:lnTo>
                      <a:pt x="1194" y="396"/>
                    </a:lnTo>
                    <a:lnTo>
                      <a:pt x="1188" y="384"/>
                    </a:lnTo>
                    <a:lnTo>
                      <a:pt x="1182" y="378"/>
                    </a:lnTo>
                    <a:lnTo>
                      <a:pt x="1176" y="366"/>
                    </a:lnTo>
                    <a:lnTo>
                      <a:pt x="1176" y="354"/>
                    </a:lnTo>
                    <a:lnTo>
                      <a:pt x="1176" y="348"/>
                    </a:lnTo>
                    <a:lnTo>
                      <a:pt x="1176" y="336"/>
                    </a:lnTo>
                    <a:lnTo>
                      <a:pt x="1176" y="330"/>
                    </a:lnTo>
                    <a:lnTo>
                      <a:pt x="1176" y="318"/>
                    </a:lnTo>
                    <a:lnTo>
                      <a:pt x="1176" y="312"/>
                    </a:lnTo>
                    <a:lnTo>
                      <a:pt x="1188" y="312"/>
                    </a:lnTo>
                    <a:lnTo>
                      <a:pt x="1200" y="312"/>
                    </a:lnTo>
                    <a:lnTo>
                      <a:pt x="1212" y="306"/>
                    </a:lnTo>
                    <a:lnTo>
                      <a:pt x="1224" y="300"/>
                    </a:lnTo>
                    <a:lnTo>
                      <a:pt x="1236" y="294"/>
                    </a:lnTo>
                    <a:lnTo>
                      <a:pt x="1242" y="282"/>
                    </a:lnTo>
                    <a:lnTo>
                      <a:pt x="1248" y="276"/>
                    </a:lnTo>
                    <a:lnTo>
                      <a:pt x="1254" y="270"/>
                    </a:lnTo>
                    <a:lnTo>
                      <a:pt x="1254" y="264"/>
                    </a:lnTo>
                    <a:lnTo>
                      <a:pt x="1260" y="252"/>
                    </a:lnTo>
                    <a:lnTo>
                      <a:pt x="1260" y="246"/>
                    </a:lnTo>
                    <a:lnTo>
                      <a:pt x="1254" y="240"/>
                    </a:lnTo>
                    <a:lnTo>
                      <a:pt x="1248" y="240"/>
                    </a:lnTo>
                    <a:lnTo>
                      <a:pt x="1242" y="240"/>
                    </a:lnTo>
                    <a:lnTo>
                      <a:pt x="1236" y="246"/>
                    </a:lnTo>
                    <a:lnTo>
                      <a:pt x="1230" y="252"/>
                    </a:lnTo>
                    <a:lnTo>
                      <a:pt x="1224" y="252"/>
                    </a:lnTo>
                    <a:lnTo>
                      <a:pt x="1218" y="258"/>
                    </a:lnTo>
                    <a:lnTo>
                      <a:pt x="1212" y="258"/>
                    </a:lnTo>
                    <a:lnTo>
                      <a:pt x="1206" y="258"/>
                    </a:lnTo>
                    <a:lnTo>
                      <a:pt x="1200" y="252"/>
                    </a:lnTo>
                    <a:lnTo>
                      <a:pt x="1194" y="252"/>
                    </a:lnTo>
                    <a:lnTo>
                      <a:pt x="1188" y="246"/>
                    </a:lnTo>
                    <a:lnTo>
                      <a:pt x="1188" y="240"/>
                    </a:lnTo>
                    <a:lnTo>
                      <a:pt x="1182" y="228"/>
                    </a:lnTo>
                    <a:lnTo>
                      <a:pt x="1170" y="210"/>
                    </a:lnTo>
                    <a:lnTo>
                      <a:pt x="1164" y="198"/>
                    </a:lnTo>
                    <a:lnTo>
                      <a:pt x="1152" y="186"/>
                    </a:lnTo>
                    <a:lnTo>
                      <a:pt x="1140" y="174"/>
                    </a:lnTo>
                    <a:lnTo>
                      <a:pt x="1134" y="162"/>
                    </a:lnTo>
                    <a:lnTo>
                      <a:pt x="1152" y="144"/>
                    </a:lnTo>
                    <a:lnTo>
                      <a:pt x="1158" y="132"/>
                    </a:lnTo>
                    <a:lnTo>
                      <a:pt x="1164" y="120"/>
                    </a:lnTo>
                    <a:lnTo>
                      <a:pt x="1170" y="108"/>
                    </a:lnTo>
                    <a:lnTo>
                      <a:pt x="1170" y="96"/>
                    </a:lnTo>
                    <a:lnTo>
                      <a:pt x="1170" y="84"/>
                    </a:lnTo>
                    <a:lnTo>
                      <a:pt x="1164" y="72"/>
                    </a:lnTo>
                    <a:lnTo>
                      <a:pt x="1158" y="72"/>
                    </a:lnTo>
                    <a:lnTo>
                      <a:pt x="1152" y="72"/>
                    </a:lnTo>
                    <a:lnTo>
                      <a:pt x="1152" y="78"/>
                    </a:lnTo>
                    <a:lnTo>
                      <a:pt x="1146" y="84"/>
                    </a:lnTo>
                    <a:lnTo>
                      <a:pt x="1134" y="90"/>
                    </a:lnTo>
                    <a:lnTo>
                      <a:pt x="1122" y="90"/>
                    </a:lnTo>
                    <a:lnTo>
                      <a:pt x="1116" y="96"/>
                    </a:lnTo>
                    <a:lnTo>
                      <a:pt x="1104" y="96"/>
                    </a:lnTo>
                    <a:lnTo>
                      <a:pt x="1098" y="96"/>
                    </a:lnTo>
                    <a:lnTo>
                      <a:pt x="1086" y="96"/>
                    </a:lnTo>
                    <a:lnTo>
                      <a:pt x="1092" y="90"/>
                    </a:lnTo>
                    <a:lnTo>
                      <a:pt x="1092" y="84"/>
                    </a:lnTo>
                    <a:lnTo>
                      <a:pt x="1098" y="78"/>
                    </a:lnTo>
                    <a:lnTo>
                      <a:pt x="1104" y="72"/>
                    </a:lnTo>
                    <a:lnTo>
                      <a:pt x="1104" y="66"/>
                    </a:lnTo>
                    <a:lnTo>
                      <a:pt x="1110" y="60"/>
                    </a:lnTo>
                    <a:lnTo>
                      <a:pt x="1110" y="48"/>
                    </a:lnTo>
                    <a:lnTo>
                      <a:pt x="1110" y="42"/>
                    </a:lnTo>
                    <a:lnTo>
                      <a:pt x="1104" y="30"/>
                    </a:lnTo>
                    <a:lnTo>
                      <a:pt x="1104" y="24"/>
                    </a:lnTo>
                    <a:lnTo>
                      <a:pt x="1098" y="18"/>
                    </a:lnTo>
                    <a:lnTo>
                      <a:pt x="1080" y="6"/>
                    </a:lnTo>
                    <a:lnTo>
                      <a:pt x="1068" y="0"/>
                    </a:lnTo>
                    <a:lnTo>
                      <a:pt x="1062" y="0"/>
                    </a:lnTo>
                    <a:lnTo>
                      <a:pt x="1050" y="0"/>
                    </a:lnTo>
                    <a:lnTo>
                      <a:pt x="1044" y="0"/>
                    </a:lnTo>
                    <a:lnTo>
                      <a:pt x="1032" y="0"/>
                    </a:lnTo>
                    <a:lnTo>
                      <a:pt x="1026" y="0"/>
                    </a:lnTo>
                    <a:lnTo>
                      <a:pt x="1026" y="6"/>
                    </a:lnTo>
                    <a:lnTo>
                      <a:pt x="1032" y="12"/>
                    </a:lnTo>
                    <a:lnTo>
                      <a:pt x="1038" y="18"/>
                    </a:lnTo>
                    <a:lnTo>
                      <a:pt x="1044" y="24"/>
                    </a:lnTo>
                    <a:lnTo>
                      <a:pt x="1050" y="30"/>
                    </a:lnTo>
                    <a:lnTo>
                      <a:pt x="1050" y="36"/>
                    </a:lnTo>
                    <a:lnTo>
                      <a:pt x="1044" y="54"/>
                    </a:lnTo>
                    <a:lnTo>
                      <a:pt x="1032" y="54"/>
                    </a:lnTo>
                    <a:lnTo>
                      <a:pt x="1014" y="54"/>
                    </a:lnTo>
                    <a:lnTo>
                      <a:pt x="1002" y="48"/>
                    </a:lnTo>
                    <a:lnTo>
                      <a:pt x="984" y="42"/>
                    </a:lnTo>
                    <a:lnTo>
                      <a:pt x="972" y="42"/>
                    </a:lnTo>
                    <a:lnTo>
                      <a:pt x="972" y="36"/>
                    </a:lnTo>
                    <a:lnTo>
                      <a:pt x="966" y="36"/>
                    </a:lnTo>
                    <a:lnTo>
                      <a:pt x="948" y="42"/>
                    </a:lnTo>
                    <a:lnTo>
                      <a:pt x="930" y="42"/>
                    </a:lnTo>
                    <a:lnTo>
                      <a:pt x="912" y="48"/>
                    </a:lnTo>
                    <a:lnTo>
                      <a:pt x="894" y="48"/>
                    </a:lnTo>
                    <a:lnTo>
                      <a:pt x="882" y="54"/>
                    </a:lnTo>
                    <a:lnTo>
                      <a:pt x="864" y="60"/>
                    </a:lnTo>
                    <a:lnTo>
                      <a:pt x="858" y="66"/>
                    </a:lnTo>
                    <a:lnTo>
                      <a:pt x="846" y="72"/>
                    </a:lnTo>
                    <a:lnTo>
                      <a:pt x="840" y="72"/>
                    </a:lnTo>
                    <a:lnTo>
                      <a:pt x="834" y="78"/>
                    </a:lnTo>
                    <a:lnTo>
                      <a:pt x="822" y="84"/>
                    </a:lnTo>
                    <a:lnTo>
                      <a:pt x="816" y="84"/>
                    </a:lnTo>
                    <a:lnTo>
                      <a:pt x="792" y="96"/>
                    </a:lnTo>
                    <a:lnTo>
                      <a:pt x="768" y="102"/>
                    </a:lnTo>
                    <a:lnTo>
                      <a:pt x="738" y="102"/>
                    </a:lnTo>
                    <a:lnTo>
                      <a:pt x="714" y="102"/>
                    </a:lnTo>
                    <a:lnTo>
                      <a:pt x="690" y="108"/>
                    </a:lnTo>
                    <a:lnTo>
                      <a:pt x="672" y="120"/>
                    </a:lnTo>
                    <a:lnTo>
                      <a:pt x="672" y="132"/>
                    </a:lnTo>
                    <a:lnTo>
                      <a:pt x="678" y="138"/>
                    </a:lnTo>
                    <a:lnTo>
                      <a:pt x="684" y="138"/>
                    </a:lnTo>
                    <a:lnTo>
                      <a:pt x="690" y="138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0" y="156"/>
                    </a:lnTo>
                    <a:lnTo>
                      <a:pt x="684" y="156"/>
                    </a:lnTo>
                    <a:lnTo>
                      <a:pt x="684" y="162"/>
                    </a:lnTo>
                    <a:lnTo>
                      <a:pt x="684" y="168"/>
                    </a:lnTo>
                    <a:lnTo>
                      <a:pt x="684" y="174"/>
                    </a:lnTo>
                    <a:lnTo>
                      <a:pt x="684" y="186"/>
                    </a:lnTo>
                    <a:lnTo>
                      <a:pt x="684" y="192"/>
                    </a:lnTo>
                    <a:lnTo>
                      <a:pt x="690" y="198"/>
                    </a:lnTo>
                    <a:lnTo>
                      <a:pt x="696" y="204"/>
                    </a:lnTo>
                    <a:lnTo>
                      <a:pt x="702" y="210"/>
                    </a:lnTo>
                    <a:lnTo>
                      <a:pt x="708" y="210"/>
                    </a:lnTo>
                    <a:lnTo>
                      <a:pt x="708" y="228"/>
                    </a:lnTo>
                    <a:lnTo>
                      <a:pt x="720" y="234"/>
                    </a:lnTo>
                    <a:lnTo>
                      <a:pt x="732" y="240"/>
                    </a:lnTo>
                    <a:lnTo>
                      <a:pt x="744" y="252"/>
                    </a:lnTo>
                    <a:lnTo>
                      <a:pt x="750" y="258"/>
                    </a:lnTo>
                    <a:lnTo>
                      <a:pt x="756" y="276"/>
                    </a:lnTo>
                    <a:lnTo>
                      <a:pt x="744" y="276"/>
                    </a:lnTo>
                    <a:lnTo>
                      <a:pt x="732" y="276"/>
                    </a:lnTo>
                    <a:lnTo>
                      <a:pt x="720" y="276"/>
                    </a:lnTo>
                    <a:lnTo>
                      <a:pt x="708" y="276"/>
                    </a:lnTo>
                    <a:lnTo>
                      <a:pt x="696" y="270"/>
                    </a:lnTo>
                    <a:lnTo>
                      <a:pt x="690" y="264"/>
                    </a:lnTo>
                    <a:lnTo>
                      <a:pt x="678" y="258"/>
                    </a:lnTo>
                    <a:lnTo>
                      <a:pt x="672" y="252"/>
                    </a:lnTo>
                    <a:lnTo>
                      <a:pt x="666" y="246"/>
                    </a:lnTo>
                    <a:lnTo>
                      <a:pt x="666" y="234"/>
                    </a:lnTo>
                    <a:lnTo>
                      <a:pt x="660" y="228"/>
                    </a:lnTo>
                    <a:lnTo>
                      <a:pt x="648" y="222"/>
                    </a:lnTo>
                    <a:lnTo>
                      <a:pt x="642" y="222"/>
                    </a:lnTo>
                    <a:lnTo>
                      <a:pt x="642" y="228"/>
                    </a:lnTo>
                    <a:lnTo>
                      <a:pt x="636" y="228"/>
                    </a:lnTo>
                    <a:lnTo>
                      <a:pt x="636" y="234"/>
                    </a:lnTo>
                    <a:lnTo>
                      <a:pt x="630" y="240"/>
                    </a:lnTo>
                    <a:lnTo>
                      <a:pt x="630" y="252"/>
                    </a:lnTo>
                    <a:lnTo>
                      <a:pt x="630" y="258"/>
                    </a:lnTo>
                    <a:lnTo>
                      <a:pt x="630" y="270"/>
                    </a:lnTo>
                    <a:lnTo>
                      <a:pt x="630" y="276"/>
                    </a:lnTo>
                    <a:lnTo>
                      <a:pt x="630" y="282"/>
                    </a:lnTo>
                    <a:lnTo>
                      <a:pt x="642" y="288"/>
                    </a:lnTo>
                    <a:lnTo>
                      <a:pt x="654" y="300"/>
                    </a:lnTo>
                    <a:lnTo>
                      <a:pt x="672" y="312"/>
                    </a:lnTo>
                    <a:lnTo>
                      <a:pt x="690" y="312"/>
                    </a:lnTo>
                    <a:lnTo>
                      <a:pt x="708" y="318"/>
                    </a:lnTo>
                    <a:lnTo>
                      <a:pt x="726" y="324"/>
                    </a:lnTo>
                    <a:lnTo>
                      <a:pt x="738" y="330"/>
                    </a:lnTo>
                    <a:lnTo>
                      <a:pt x="732" y="330"/>
                    </a:lnTo>
                    <a:lnTo>
                      <a:pt x="732" y="336"/>
                    </a:lnTo>
                    <a:lnTo>
                      <a:pt x="726" y="336"/>
                    </a:lnTo>
                    <a:lnTo>
                      <a:pt x="720" y="342"/>
                    </a:lnTo>
                    <a:lnTo>
                      <a:pt x="714" y="354"/>
                    </a:lnTo>
                    <a:lnTo>
                      <a:pt x="708" y="360"/>
                    </a:lnTo>
                    <a:lnTo>
                      <a:pt x="714" y="372"/>
                    </a:lnTo>
                    <a:lnTo>
                      <a:pt x="714" y="384"/>
                    </a:lnTo>
                    <a:lnTo>
                      <a:pt x="720" y="396"/>
                    </a:lnTo>
                    <a:lnTo>
                      <a:pt x="720" y="408"/>
                    </a:lnTo>
                    <a:lnTo>
                      <a:pt x="720" y="414"/>
                    </a:lnTo>
                    <a:lnTo>
                      <a:pt x="720" y="420"/>
                    </a:lnTo>
                    <a:lnTo>
                      <a:pt x="726" y="420"/>
                    </a:lnTo>
                    <a:lnTo>
                      <a:pt x="726" y="426"/>
                    </a:lnTo>
                    <a:lnTo>
                      <a:pt x="732" y="426"/>
                    </a:lnTo>
                    <a:lnTo>
                      <a:pt x="738" y="426"/>
                    </a:lnTo>
                    <a:lnTo>
                      <a:pt x="750" y="414"/>
                    </a:lnTo>
                    <a:lnTo>
                      <a:pt x="750" y="420"/>
                    </a:lnTo>
                    <a:lnTo>
                      <a:pt x="756" y="426"/>
                    </a:lnTo>
                    <a:lnTo>
                      <a:pt x="756" y="438"/>
                    </a:lnTo>
                    <a:lnTo>
                      <a:pt x="756" y="444"/>
                    </a:lnTo>
                    <a:lnTo>
                      <a:pt x="756" y="450"/>
                    </a:lnTo>
                    <a:lnTo>
                      <a:pt x="768" y="444"/>
                    </a:lnTo>
                    <a:lnTo>
                      <a:pt x="774" y="438"/>
                    </a:lnTo>
                    <a:lnTo>
                      <a:pt x="786" y="432"/>
                    </a:lnTo>
                    <a:lnTo>
                      <a:pt x="792" y="426"/>
                    </a:lnTo>
                    <a:lnTo>
                      <a:pt x="804" y="426"/>
                    </a:lnTo>
                    <a:lnTo>
                      <a:pt x="810" y="426"/>
                    </a:lnTo>
                    <a:lnTo>
                      <a:pt x="816" y="432"/>
                    </a:lnTo>
                    <a:lnTo>
                      <a:pt x="816" y="438"/>
                    </a:lnTo>
                    <a:lnTo>
                      <a:pt x="810" y="444"/>
                    </a:lnTo>
                    <a:lnTo>
                      <a:pt x="810" y="450"/>
                    </a:lnTo>
                    <a:lnTo>
                      <a:pt x="792" y="462"/>
                    </a:lnTo>
                    <a:lnTo>
                      <a:pt x="780" y="474"/>
                    </a:lnTo>
                    <a:lnTo>
                      <a:pt x="768" y="480"/>
                    </a:lnTo>
                    <a:lnTo>
                      <a:pt x="750" y="486"/>
                    </a:lnTo>
                    <a:lnTo>
                      <a:pt x="732" y="486"/>
                    </a:lnTo>
                    <a:lnTo>
                      <a:pt x="714" y="480"/>
                    </a:lnTo>
                    <a:lnTo>
                      <a:pt x="708" y="480"/>
                    </a:lnTo>
                    <a:lnTo>
                      <a:pt x="702" y="480"/>
                    </a:lnTo>
                    <a:lnTo>
                      <a:pt x="696" y="474"/>
                    </a:lnTo>
                    <a:lnTo>
                      <a:pt x="690" y="468"/>
                    </a:lnTo>
                    <a:lnTo>
                      <a:pt x="684" y="456"/>
                    </a:lnTo>
                    <a:lnTo>
                      <a:pt x="684" y="444"/>
                    </a:lnTo>
                    <a:lnTo>
                      <a:pt x="684" y="438"/>
                    </a:lnTo>
                    <a:lnTo>
                      <a:pt x="684" y="426"/>
                    </a:lnTo>
                    <a:lnTo>
                      <a:pt x="684" y="420"/>
                    </a:lnTo>
                    <a:lnTo>
                      <a:pt x="678" y="420"/>
                    </a:lnTo>
                    <a:lnTo>
                      <a:pt x="672" y="426"/>
                    </a:lnTo>
                    <a:lnTo>
                      <a:pt x="666" y="432"/>
                    </a:lnTo>
                    <a:lnTo>
                      <a:pt x="660" y="438"/>
                    </a:lnTo>
                    <a:lnTo>
                      <a:pt x="654" y="444"/>
                    </a:lnTo>
                    <a:lnTo>
                      <a:pt x="648" y="450"/>
                    </a:lnTo>
                    <a:lnTo>
                      <a:pt x="648" y="456"/>
                    </a:lnTo>
                    <a:lnTo>
                      <a:pt x="648" y="468"/>
                    </a:lnTo>
                    <a:lnTo>
                      <a:pt x="648" y="474"/>
                    </a:lnTo>
                    <a:lnTo>
                      <a:pt x="642" y="480"/>
                    </a:lnTo>
                    <a:lnTo>
                      <a:pt x="642" y="492"/>
                    </a:lnTo>
                    <a:lnTo>
                      <a:pt x="636" y="498"/>
                    </a:lnTo>
                    <a:lnTo>
                      <a:pt x="606" y="474"/>
                    </a:lnTo>
                    <a:lnTo>
                      <a:pt x="600" y="468"/>
                    </a:lnTo>
                    <a:lnTo>
                      <a:pt x="594" y="456"/>
                    </a:lnTo>
                    <a:lnTo>
                      <a:pt x="588" y="444"/>
                    </a:lnTo>
                    <a:lnTo>
                      <a:pt x="588" y="432"/>
                    </a:lnTo>
                    <a:lnTo>
                      <a:pt x="588" y="420"/>
                    </a:lnTo>
                    <a:lnTo>
                      <a:pt x="588" y="408"/>
                    </a:lnTo>
                    <a:lnTo>
                      <a:pt x="582" y="402"/>
                    </a:lnTo>
                    <a:lnTo>
                      <a:pt x="564" y="426"/>
                    </a:lnTo>
                    <a:lnTo>
                      <a:pt x="558" y="408"/>
                    </a:lnTo>
                    <a:lnTo>
                      <a:pt x="552" y="390"/>
                    </a:lnTo>
                    <a:lnTo>
                      <a:pt x="546" y="378"/>
                    </a:lnTo>
                    <a:lnTo>
                      <a:pt x="540" y="360"/>
                    </a:lnTo>
                    <a:lnTo>
                      <a:pt x="534" y="342"/>
                    </a:lnTo>
                    <a:lnTo>
                      <a:pt x="522" y="330"/>
                    </a:lnTo>
                    <a:lnTo>
                      <a:pt x="522" y="312"/>
                    </a:lnTo>
                    <a:lnTo>
                      <a:pt x="516" y="300"/>
                    </a:lnTo>
                    <a:lnTo>
                      <a:pt x="510" y="288"/>
                    </a:lnTo>
                    <a:lnTo>
                      <a:pt x="504" y="276"/>
                    </a:lnTo>
                    <a:lnTo>
                      <a:pt x="504" y="264"/>
                    </a:lnTo>
                    <a:lnTo>
                      <a:pt x="498" y="258"/>
                    </a:lnTo>
                    <a:lnTo>
                      <a:pt x="492" y="246"/>
                    </a:lnTo>
                    <a:lnTo>
                      <a:pt x="492" y="240"/>
                    </a:lnTo>
                    <a:lnTo>
                      <a:pt x="486" y="234"/>
                    </a:lnTo>
                    <a:lnTo>
                      <a:pt x="486" y="228"/>
                    </a:lnTo>
                    <a:lnTo>
                      <a:pt x="486" y="222"/>
                    </a:lnTo>
                    <a:lnTo>
                      <a:pt x="486" y="216"/>
                    </a:lnTo>
                    <a:lnTo>
                      <a:pt x="474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718920" y="756000"/>
                <a:ext cx="119880" cy="277560"/>
              </a:xfrm>
              <a:custGeom>
                <a:avLst/>
                <a:gdLst/>
                <a:ahLst/>
                <a:rect l="l" t="t" r="r" b="b"/>
                <a:pathLst>
                  <a:path w="288" h="666">
                    <a:moveTo>
                      <a:pt x="162" y="156"/>
                    </a:moveTo>
                    <a:lnTo>
                      <a:pt x="138" y="132"/>
                    </a:lnTo>
                    <a:lnTo>
                      <a:pt x="132" y="108"/>
                    </a:lnTo>
                    <a:lnTo>
                      <a:pt x="126" y="78"/>
                    </a:lnTo>
                    <a:lnTo>
                      <a:pt x="120" y="48"/>
                    </a:lnTo>
                    <a:lnTo>
                      <a:pt x="108" y="18"/>
                    </a:lnTo>
                    <a:lnTo>
                      <a:pt x="90" y="0"/>
                    </a:lnTo>
                    <a:lnTo>
                      <a:pt x="72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6"/>
                    </a:lnTo>
                    <a:lnTo>
                      <a:pt x="24" y="12"/>
                    </a:lnTo>
                    <a:lnTo>
                      <a:pt x="12" y="24"/>
                    </a:lnTo>
                    <a:lnTo>
                      <a:pt x="18" y="30"/>
                    </a:lnTo>
                    <a:lnTo>
                      <a:pt x="30" y="30"/>
                    </a:lnTo>
                    <a:lnTo>
                      <a:pt x="42" y="30"/>
                    </a:lnTo>
                    <a:lnTo>
                      <a:pt x="54" y="30"/>
                    </a:lnTo>
                    <a:lnTo>
                      <a:pt x="66" y="30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84"/>
                    </a:lnTo>
                    <a:lnTo>
                      <a:pt x="42" y="90"/>
                    </a:lnTo>
                    <a:lnTo>
                      <a:pt x="42" y="96"/>
                    </a:lnTo>
                    <a:lnTo>
                      <a:pt x="42" y="108"/>
                    </a:lnTo>
                    <a:lnTo>
                      <a:pt x="48" y="114"/>
                    </a:lnTo>
                    <a:lnTo>
                      <a:pt x="54" y="120"/>
                    </a:lnTo>
                    <a:lnTo>
                      <a:pt x="60" y="120"/>
                    </a:lnTo>
                    <a:lnTo>
                      <a:pt x="66" y="126"/>
                    </a:lnTo>
                    <a:lnTo>
                      <a:pt x="72" y="126"/>
                    </a:lnTo>
                    <a:lnTo>
                      <a:pt x="78" y="126"/>
                    </a:lnTo>
                    <a:lnTo>
                      <a:pt x="78" y="132"/>
                    </a:lnTo>
                    <a:lnTo>
                      <a:pt x="84" y="132"/>
                    </a:lnTo>
                    <a:lnTo>
                      <a:pt x="84" y="138"/>
                    </a:lnTo>
                    <a:lnTo>
                      <a:pt x="84" y="144"/>
                    </a:lnTo>
                    <a:lnTo>
                      <a:pt x="78" y="150"/>
                    </a:lnTo>
                    <a:lnTo>
                      <a:pt x="72" y="156"/>
                    </a:lnTo>
                    <a:lnTo>
                      <a:pt x="66" y="162"/>
                    </a:lnTo>
                    <a:lnTo>
                      <a:pt x="66" y="168"/>
                    </a:lnTo>
                    <a:lnTo>
                      <a:pt x="60" y="174"/>
                    </a:lnTo>
                    <a:lnTo>
                      <a:pt x="48" y="168"/>
                    </a:lnTo>
                    <a:lnTo>
                      <a:pt x="42" y="156"/>
                    </a:lnTo>
                    <a:lnTo>
                      <a:pt x="36" y="150"/>
                    </a:lnTo>
                    <a:lnTo>
                      <a:pt x="24" y="138"/>
                    </a:lnTo>
                    <a:lnTo>
                      <a:pt x="12" y="132"/>
                    </a:lnTo>
                    <a:lnTo>
                      <a:pt x="0" y="138"/>
                    </a:lnTo>
                    <a:lnTo>
                      <a:pt x="18" y="144"/>
                    </a:lnTo>
                    <a:lnTo>
                      <a:pt x="24" y="162"/>
                    </a:lnTo>
                    <a:lnTo>
                      <a:pt x="30" y="174"/>
                    </a:lnTo>
                    <a:lnTo>
                      <a:pt x="42" y="192"/>
                    </a:lnTo>
                    <a:lnTo>
                      <a:pt x="54" y="198"/>
                    </a:lnTo>
                    <a:lnTo>
                      <a:pt x="72" y="204"/>
                    </a:lnTo>
                    <a:lnTo>
                      <a:pt x="90" y="204"/>
                    </a:lnTo>
                    <a:lnTo>
                      <a:pt x="84" y="216"/>
                    </a:lnTo>
                    <a:lnTo>
                      <a:pt x="84" y="222"/>
                    </a:lnTo>
                    <a:lnTo>
                      <a:pt x="72" y="228"/>
                    </a:lnTo>
                    <a:lnTo>
                      <a:pt x="66" y="234"/>
                    </a:lnTo>
                    <a:lnTo>
                      <a:pt x="54" y="240"/>
                    </a:lnTo>
                    <a:lnTo>
                      <a:pt x="48" y="246"/>
                    </a:lnTo>
                    <a:lnTo>
                      <a:pt x="48" y="252"/>
                    </a:lnTo>
                    <a:lnTo>
                      <a:pt x="42" y="252"/>
                    </a:lnTo>
                    <a:lnTo>
                      <a:pt x="36" y="252"/>
                    </a:lnTo>
                    <a:lnTo>
                      <a:pt x="30" y="252"/>
                    </a:lnTo>
                    <a:lnTo>
                      <a:pt x="24" y="252"/>
                    </a:lnTo>
                    <a:lnTo>
                      <a:pt x="30" y="264"/>
                    </a:lnTo>
                    <a:lnTo>
                      <a:pt x="42" y="270"/>
                    </a:lnTo>
                    <a:lnTo>
                      <a:pt x="48" y="270"/>
                    </a:lnTo>
                    <a:lnTo>
                      <a:pt x="54" y="276"/>
                    </a:lnTo>
                    <a:lnTo>
                      <a:pt x="66" y="276"/>
                    </a:lnTo>
                    <a:lnTo>
                      <a:pt x="78" y="270"/>
                    </a:lnTo>
                    <a:lnTo>
                      <a:pt x="78" y="282"/>
                    </a:lnTo>
                    <a:lnTo>
                      <a:pt x="78" y="294"/>
                    </a:lnTo>
                    <a:lnTo>
                      <a:pt x="72" y="306"/>
                    </a:lnTo>
                    <a:lnTo>
                      <a:pt x="66" y="312"/>
                    </a:lnTo>
                    <a:lnTo>
                      <a:pt x="60" y="324"/>
                    </a:lnTo>
                    <a:lnTo>
                      <a:pt x="54" y="336"/>
                    </a:lnTo>
                    <a:lnTo>
                      <a:pt x="60" y="336"/>
                    </a:lnTo>
                    <a:lnTo>
                      <a:pt x="72" y="336"/>
                    </a:lnTo>
                    <a:lnTo>
                      <a:pt x="78" y="330"/>
                    </a:lnTo>
                    <a:lnTo>
                      <a:pt x="84" y="330"/>
                    </a:lnTo>
                    <a:lnTo>
                      <a:pt x="90" y="330"/>
                    </a:lnTo>
                    <a:lnTo>
                      <a:pt x="90" y="342"/>
                    </a:lnTo>
                    <a:lnTo>
                      <a:pt x="96" y="360"/>
                    </a:lnTo>
                    <a:lnTo>
                      <a:pt x="90" y="372"/>
                    </a:lnTo>
                    <a:lnTo>
                      <a:pt x="78" y="390"/>
                    </a:lnTo>
                    <a:lnTo>
                      <a:pt x="72" y="408"/>
                    </a:lnTo>
                    <a:lnTo>
                      <a:pt x="78" y="420"/>
                    </a:lnTo>
                    <a:lnTo>
                      <a:pt x="90" y="438"/>
                    </a:lnTo>
                    <a:lnTo>
                      <a:pt x="108" y="462"/>
                    </a:lnTo>
                    <a:lnTo>
                      <a:pt x="120" y="492"/>
                    </a:lnTo>
                    <a:lnTo>
                      <a:pt x="132" y="522"/>
                    </a:lnTo>
                    <a:lnTo>
                      <a:pt x="138" y="552"/>
                    </a:lnTo>
                    <a:lnTo>
                      <a:pt x="156" y="582"/>
                    </a:lnTo>
                    <a:lnTo>
                      <a:pt x="174" y="606"/>
                    </a:lnTo>
                    <a:lnTo>
                      <a:pt x="240" y="666"/>
                    </a:lnTo>
                    <a:lnTo>
                      <a:pt x="246" y="660"/>
                    </a:lnTo>
                    <a:lnTo>
                      <a:pt x="246" y="654"/>
                    </a:lnTo>
                    <a:lnTo>
                      <a:pt x="252" y="648"/>
                    </a:lnTo>
                    <a:lnTo>
                      <a:pt x="252" y="642"/>
                    </a:lnTo>
                    <a:lnTo>
                      <a:pt x="240" y="636"/>
                    </a:lnTo>
                    <a:lnTo>
                      <a:pt x="234" y="624"/>
                    </a:lnTo>
                    <a:lnTo>
                      <a:pt x="222" y="612"/>
                    </a:lnTo>
                    <a:lnTo>
                      <a:pt x="216" y="600"/>
                    </a:lnTo>
                    <a:lnTo>
                      <a:pt x="210" y="588"/>
                    </a:lnTo>
                    <a:lnTo>
                      <a:pt x="204" y="576"/>
                    </a:lnTo>
                    <a:lnTo>
                      <a:pt x="210" y="576"/>
                    </a:lnTo>
                    <a:lnTo>
                      <a:pt x="210" y="570"/>
                    </a:lnTo>
                    <a:lnTo>
                      <a:pt x="210" y="564"/>
                    </a:lnTo>
                    <a:lnTo>
                      <a:pt x="216" y="558"/>
                    </a:lnTo>
                    <a:lnTo>
                      <a:pt x="222" y="552"/>
                    </a:lnTo>
                    <a:lnTo>
                      <a:pt x="222" y="546"/>
                    </a:lnTo>
                    <a:lnTo>
                      <a:pt x="228" y="546"/>
                    </a:lnTo>
                    <a:lnTo>
                      <a:pt x="234" y="552"/>
                    </a:lnTo>
                    <a:lnTo>
                      <a:pt x="240" y="558"/>
                    </a:lnTo>
                    <a:lnTo>
                      <a:pt x="246" y="564"/>
                    </a:lnTo>
                    <a:lnTo>
                      <a:pt x="252" y="564"/>
                    </a:lnTo>
                    <a:lnTo>
                      <a:pt x="264" y="558"/>
                    </a:lnTo>
                    <a:lnTo>
                      <a:pt x="270" y="552"/>
                    </a:lnTo>
                    <a:lnTo>
                      <a:pt x="276" y="546"/>
                    </a:lnTo>
                    <a:lnTo>
                      <a:pt x="282" y="540"/>
                    </a:lnTo>
                    <a:lnTo>
                      <a:pt x="288" y="534"/>
                    </a:lnTo>
                    <a:lnTo>
                      <a:pt x="276" y="522"/>
                    </a:lnTo>
                    <a:lnTo>
                      <a:pt x="270" y="504"/>
                    </a:lnTo>
                    <a:lnTo>
                      <a:pt x="258" y="486"/>
                    </a:lnTo>
                    <a:lnTo>
                      <a:pt x="258" y="468"/>
                    </a:lnTo>
                    <a:lnTo>
                      <a:pt x="258" y="450"/>
                    </a:lnTo>
                    <a:lnTo>
                      <a:pt x="264" y="432"/>
                    </a:lnTo>
                    <a:lnTo>
                      <a:pt x="270" y="420"/>
                    </a:lnTo>
                    <a:lnTo>
                      <a:pt x="270" y="408"/>
                    </a:lnTo>
                    <a:lnTo>
                      <a:pt x="270" y="396"/>
                    </a:lnTo>
                    <a:lnTo>
                      <a:pt x="270" y="384"/>
                    </a:lnTo>
                    <a:lnTo>
                      <a:pt x="264" y="372"/>
                    </a:lnTo>
                    <a:lnTo>
                      <a:pt x="258" y="366"/>
                    </a:lnTo>
                    <a:lnTo>
                      <a:pt x="252" y="348"/>
                    </a:lnTo>
                    <a:lnTo>
                      <a:pt x="246" y="336"/>
                    </a:lnTo>
                    <a:lnTo>
                      <a:pt x="240" y="324"/>
                    </a:lnTo>
                    <a:lnTo>
                      <a:pt x="234" y="312"/>
                    </a:lnTo>
                    <a:lnTo>
                      <a:pt x="228" y="300"/>
                    </a:lnTo>
                    <a:lnTo>
                      <a:pt x="228" y="282"/>
                    </a:lnTo>
                    <a:lnTo>
                      <a:pt x="222" y="270"/>
                    </a:lnTo>
                    <a:lnTo>
                      <a:pt x="210" y="246"/>
                    </a:lnTo>
                    <a:lnTo>
                      <a:pt x="204" y="222"/>
                    </a:lnTo>
                    <a:lnTo>
                      <a:pt x="192" y="198"/>
                    </a:lnTo>
                    <a:lnTo>
                      <a:pt x="186" y="174"/>
                    </a:lnTo>
                    <a:lnTo>
                      <a:pt x="180" y="162"/>
                    </a:lnTo>
                    <a:lnTo>
                      <a:pt x="162" y="156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776520" y="750960"/>
                <a:ext cx="344880" cy="392400"/>
              </a:xfrm>
              <a:custGeom>
                <a:avLst/>
                <a:gdLst/>
                <a:ahLst/>
                <a:rect l="l" t="t" r="r" b="b"/>
                <a:pathLst>
                  <a:path w="828" h="942">
                    <a:moveTo>
                      <a:pt x="672" y="30"/>
                    </a:moveTo>
                    <a:lnTo>
                      <a:pt x="672" y="48"/>
                    </a:lnTo>
                    <a:lnTo>
                      <a:pt x="666" y="60"/>
                    </a:lnTo>
                    <a:lnTo>
                      <a:pt x="654" y="72"/>
                    </a:lnTo>
                    <a:lnTo>
                      <a:pt x="648" y="84"/>
                    </a:lnTo>
                    <a:lnTo>
                      <a:pt x="654" y="90"/>
                    </a:lnTo>
                    <a:lnTo>
                      <a:pt x="672" y="96"/>
                    </a:lnTo>
                    <a:lnTo>
                      <a:pt x="684" y="102"/>
                    </a:lnTo>
                    <a:lnTo>
                      <a:pt x="696" y="96"/>
                    </a:lnTo>
                    <a:lnTo>
                      <a:pt x="702" y="96"/>
                    </a:lnTo>
                    <a:lnTo>
                      <a:pt x="714" y="90"/>
                    </a:lnTo>
                    <a:lnTo>
                      <a:pt x="726" y="90"/>
                    </a:lnTo>
                    <a:lnTo>
                      <a:pt x="738" y="78"/>
                    </a:lnTo>
                    <a:lnTo>
                      <a:pt x="738" y="96"/>
                    </a:lnTo>
                    <a:lnTo>
                      <a:pt x="732" y="108"/>
                    </a:lnTo>
                    <a:lnTo>
                      <a:pt x="726" y="114"/>
                    </a:lnTo>
                    <a:lnTo>
                      <a:pt x="714" y="126"/>
                    </a:lnTo>
                    <a:lnTo>
                      <a:pt x="708" y="138"/>
                    </a:lnTo>
                    <a:lnTo>
                      <a:pt x="696" y="144"/>
                    </a:lnTo>
                    <a:lnTo>
                      <a:pt x="702" y="162"/>
                    </a:lnTo>
                    <a:lnTo>
                      <a:pt x="714" y="174"/>
                    </a:lnTo>
                    <a:lnTo>
                      <a:pt x="726" y="192"/>
                    </a:lnTo>
                    <a:lnTo>
                      <a:pt x="738" y="204"/>
                    </a:lnTo>
                    <a:lnTo>
                      <a:pt x="750" y="216"/>
                    </a:lnTo>
                    <a:lnTo>
                      <a:pt x="756" y="234"/>
                    </a:lnTo>
                    <a:lnTo>
                      <a:pt x="756" y="240"/>
                    </a:lnTo>
                    <a:lnTo>
                      <a:pt x="762" y="246"/>
                    </a:lnTo>
                    <a:lnTo>
                      <a:pt x="768" y="252"/>
                    </a:lnTo>
                    <a:lnTo>
                      <a:pt x="774" y="252"/>
                    </a:lnTo>
                    <a:lnTo>
                      <a:pt x="780" y="258"/>
                    </a:lnTo>
                    <a:lnTo>
                      <a:pt x="786" y="258"/>
                    </a:lnTo>
                    <a:lnTo>
                      <a:pt x="792" y="258"/>
                    </a:lnTo>
                    <a:lnTo>
                      <a:pt x="798" y="258"/>
                    </a:lnTo>
                    <a:lnTo>
                      <a:pt x="804" y="258"/>
                    </a:lnTo>
                    <a:lnTo>
                      <a:pt x="810" y="252"/>
                    </a:lnTo>
                    <a:lnTo>
                      <a:pt x="816" y="252"/>
                    </a:lnTo>
                    <a:lnTo>
                      <a:pt x="822" y="246"/>
                    </a:lnTo>
                    <a:lnTo>
                      <a:pt x="816" y="252"/>
                    </a:lnTo>
                    <a:lnTo>
                      <a:pt x="816" y="258"/>
                    </a:lnTo>
                    <a:lnTo>
                      <a:pt x="810" y="264"/>
                    </a:lnTo>
                    <a:lnTo>
                      <a:pt x="804" y="270"/>
                    </a:lnTo>
                    <a:lnTo>
                      <a:pt x="798" y="276"/>
                    </a:lnTo>
                    <a:lnTo>
                      <a:pt x="792" y="282"/>
                    </a:lnTo>
                    <a:lnTo>
                      <a:pt x="786" y="288"/>
                    </a:lnTo>
                    <a:lnTo>
                      <a:pt x="774" y="288"/>
                    </a:lnTo>
                    <a:lnTo>
                      <a:pt x="768" y="288"/>
                    </a:lnTo>
                    <a:lnTo>
                      <a:pt x="762" y="288"/>
                    </a:lnTo>
                    <a:lnTo>
                      <a:pt x="750" y="288"/>
                    </a:lnTo>
                    <a:lnTo>
                      <a:pt x="744" y="288"/>
                    </a:lnTo>
                    <a:lnTo>
                      <a:pt x="744" y="294"/>
                    </a:lnTo>
                    <a:lnTo>
                      <a:pt x="738" y="312"/>
                    </a:lnTo>
                    <a:lnTo>
                      <a:pt x="738" y="330"/>
                    </a:lnTo>
                    <a:lnTo>
                      <a:pt x="744" y="348"/>
                    </a:lnTo>
                    <a:lnTo>
                      <a:pt x="750" y="366"/>
                    </a:lnTo>
                    <a:lnTo>
                      <a:pt x="756" y="384"/>
                    </a:lnTo>
                    <a:lnTo>
                      <a:pt x="768" y="396"/>
                    </a:lnTo>
                    <a:lnTo>
                      <a:pt x="780" y="402"/>
                    </a:lnTo>
                    <a:lnTo>
                      <a:pt x="786" y="408"/>
                    </a:lnTo>
                    <a:lnTo>
                      <a:pt x="798" y="414"/>
                    </a:lnTo>
                    <a:lnTo>
                      <a:pt x="810" y="414"/>
                    </a:lnTo>
                    <a:lnTo>
                      <a:pt x="816" y="414"/>
                    </a:lnTo>
                    <a:lnTo>
                      <a:pt x="828" y="408"/>
                    </a:lnTo>
                    <a:lnTo>
                      <a:pt x="828" y="414"/>
                    </a:lnTo>
                    <a:lnTo>
                      <a:pt x="822" y="420"/>
                    </a:lnTo>
                    <a:lnTo>
                      <a:pt x="822" y="426"/>
                    </a:lnTo>
                    <a:lnTo>
                      <a:pt x="816" y="432"/>
                    </a:lnTo>
                    <a:lnTo>
                      <a:pt x="810" y="438"/>
                    </a:lnTo>
                    <a:lnTo>
                      <a:pt x="804" y="438"/>
                    </a:lnTo>
                    <a:lnTo>
                      <a:pt x="792" y="444"/>
                    </a:lnTo>
                    <a:lnTo>
                      <a:pt x="786" y="444"/>
                    </a:lnTo>
                    <a:lnTo>
                      <a:pt x="774" y="438"/>
                    </a:lnTo>
                    <a:lnTo>
                      <a:pt x="768" y="438"/>
                    </a:lnTo>
                    <a:lnTo>
                      <a:pt x="762" y="438"/>
                    </a:lnTo>
                    <a:lnTo>
                      <a:pt x="756" y="450"/>
                    </a:lnTo>
                    <a:lnTo>
                      <a:pt x="750" y="474"/>
                    </a:lnTo>
                    <a:lnTo>
                      <a:pt x="744" y="492"/>
                    </a:lnTo>
                    <a:lnTo>
                      <a:pt x="738" y="516"/>
                    </a:lnTo>
                    <a:lnTo>
                      <a:pt x="738" y="534"/>
                    </a:lnTo>
                    <a:lnTo>
                      <a:pt x="744" y="552"/>
                    </a:lnTo>
                    <a:lnTo>
                      <a:pt x="756" y="570"/>
                    </a:lnTo>
                    <a:lnTo>
                      <a:pt x="762" y="576"/>
                    </a:lnTo>
                    <a:lnTo>
                      <a:pt x="768" y="576"/>
                    </a:lnTo>
                    <a:lnTo>
                      <a:pt x="780" y="582"/>
                    </a:lnTo>
                    <a:lnTo>
                      <a:pt x="786" y="582"/>
                    </a:lnTo>
                    <a:lnTo>
                      <a:pt x="792" y="576"/>
                    </a:lnTo>
                    <a:lnTo>
                      <a:pt x="798" y="576"/>
                    </a:lnTo>
                    <a:lnTo>
                      <a:pt x="792" y="588"/>
                    </a:lnTo>
                    <a:lnTo>
                      <a:pt x="786" y="600"/>
                    </a:lnTo>
                    <a:lnTo>
                      <a:pt x="774" y="606"/>
                    </a:lnTo>
                    <a:lnTo>
                      <a:pt x="756" y="606"/>
                    </a:lnTo>
                    <a:lnTo>
                      <a:pt x="744" y="612"/>
                    </a:lnTo>
                    <a:lnTo>
                      <a:pt x="732" y="612"/>
                    </a:lnTo>
                    <a:lnTo>
                      <a:pt x="726" y="606"/>
                    </a:lnTo>
                    <a:lnTo>
                      <a:pt x="720" y="600"/>
                    </a:lnTo>
                    <a:lnTo>
                      <a:pt x="720" y="594"/>
                    </a:lnTo>
                    <a:lnTo>
                      <a:pt x="714" y="594"/>
                    </a:lnTo>
                    <a:lnTo>
                      <a:pt x="708" y="594"/>
                    </a:lnTo>
                    <a:lnTo>
                      <a:pt x="702" y="600"/>
                    </a:lnTo>
                    <a:lnTo>
                      <a:pt x="702" y="606"/>
                    </a:lnTo>
                    <a:lnTo>
                      <a:pt x="702" y="618"/>
                    </a:lnTo>
                    <a:lnTo>
                      <a:pt x="702" y="630"/>
                    </a:lnTo>
                    <a:lnTo>
                      <a:pt x="702" y="636"/>
                    </a:lnTo>
                    <a:lnTo>
                      <a:pt x="702" y="648"/>
                    </a:lnTo>
                    <a:lnTo>
                      <a:pt x="696" y="666"/>
                    </a:lnTo>
                    <a:lnTo>
                      <a:pt x="690" y="684"/>
                    </a:lnTo>
                    <a:lnTo>
                      <a:pt x="684" y="702"/>
                    </a:lnTo>
                    <a:lnTo>
                      <a:pt x="684" y="720"/>
                    </a:lnTo>
                    <a:lnTo>
                      <a:pt x="684" y="744"/>
                    </a:lnTo>
                    <a:lnTo>
                      <a:pt x="690" y="762"/>
                    </a:lnTo>
                    <a:lnTo>
                      <a:pt x="696" y="768"/>
                    </a:lnTo>
                    <a:lnTo>
                      <a:pt x="702" y="774"/>
                    </a:lnTo>
                    <a:lnTo>
                      <a:pt x="714" y="780"/>
                    </a:lnTo>
                    <a:lnTo>
                      <a:pt x="720" y="780"/>
                    </a:lnTo>
                    <a:lnTo>
                      <a:pt x="732" y="786"/>
                    </a:lnTo>
                    <a:lnTo>
                      <a:pt x="738" y="786"/>
                    </a:lnTo>
                    <a:lnTo>
                      <a:pt x="738" y="792"/>
                    </a:lnTo>
                    <a:lnTo>
                      <a:pt x="732" y="792"/>
                    </a:lnTo>
                    <a:lnTo>
                      <a:pt x="726" y="792"/>
                    </a:lnTo>
                    <a:lnTo>
                      <a:pt x="720" y="792"/>
                    </a:lnTo>
                    <a:lnTo>
                      <a:pt x="714" y="798"/>
                    </a:lnTo>
                    <a:lnTo>
                      <a:pt x="702" y="792"/>
                    </a:lnTo>
                    <a:lnTo>
                      <a:pt x="690" y="786"/>
                    </a:lnTo>
                    <a:lnTo>
                      <a:pt x="678" y="780"/>
                    </a:lnTo>
                    <a:lnTo>
                      <a:pt x="672" y="774"/>
                    </a:lnTo>
                    <a:lnTo>
                      <a:pt x="660" y="762"/>
                    </a:lnTo>
                    <a:lnTo>
                      <a:pt x="660" y="750"/>
                    </a:lnTo>
                    <a:lnTo>
                      <a:pt x="648" y="750"/>
                    </a:lnTo>
                    <a:lnTo>
                      <a:pt x="636" y="774"/>
                    </a:lnTo>
                    <a:lnTo>
                      <a:pt x="624" y="798"/>
                    </a:lnTo>
                    <a:lnTo>
                      <a:pt x="618" y="828"/>
                    </a:lnTo>
                    <a:lnTo>
                      <a:pt x="612" y="852"/>
                    </a:lnTo>
                    <a:lnTo>
                      <a:pt x="618" y="882"/>
                    </a:lnTo>
                    <a:lnTo>
                      <a:pt x="624" y="906"/>
                    </a:lnTo>
                    <a:lnTo>
                      <a:pt x="630" y="912"/>
                    </a:lnTo>
                    <a:lnTo>
                      <a:pt x="636" y="918"/>
                    </a:lnTo>
                    <a:lnTo>
                      <a:pt x="636" y="924"/>
                    </a:lnTo>
                    <a:lnTo>
                      <a:pt x="636" y="930"/>
                    </a:lnTo>
                    <a:lnTo>
                      <a:pt x="642" y="936"/>
                    </a:lnTo>
                    <a:lnTo>
                      <a:pt x="642" y="942"/>
                    </a:lnTo>
                    <a:lnTo>
                      <a:pt x="636" y="942"/>
                    </a:lnTo>
                    <a:lnTo>
                      <a:pt x="624" y="942"/>
                    </a:lnTo>
                    <a:lnTo>
                      <a:pt x="612" y="936"/>
                    </a:lnTo>
                    <a:lnTo>
                      <a:pt x="600" y="930"/>
                    </a:lnTo>
                    <a:lnTo>
                      <a:pt x="588" y="924"/>
                    </a:lnTo>
                    <a:lnTo>
                      <a:pt x="576" y="912"/>
                    </a:lnTo>
                    <a:lnTo>
                      <a:pt x="570" y="900"/>
                    </a:lnTo>
                    <a:lnTo>
                      <a:pt x="570" y="882"/>
                    </a:lnTo>
                    <a:lnTo>
                      <a:pt x="570" y="870"/>
                    </a:lnTo>
                    <a:lnTo>
                      <a:pt x="570" y="852"/>
                    </a:lnTo>
                    <a:lnTo>
                      <a:pt x="570" y="834"/>
                    </a:lnTo>
                    <a:lnTo>
                      <a:pt x="570" y="822"/>
                    </a:lnTo>
                    <a:lnTo>
                      <a:pt x="558" y="816"/>
                    </a:lnTo>
                    <a:lnTo>
                      <a:pt x="546" y="816"/>
                    </a:lnTo>
                    <a:lnTo>
                      <a:pt x="540" y="822"/>
                    </a:lnTo>
                    <a:lnTo>
                      <a:pt x="528" y="834"/>
                    </a:lnTo>
                    <a:lnTo>
                      <a:pt x="522" y="840"/>
                    </a:lnTo>
                    <a:lnTo>
                      <a:pt x="510" y="846"/>
                    </a:lnTo>
                    <a:lnTo>
                      <a:pt x="498" y="852"/>
                    </a:lnTo>
                    <a:lnTo>
                      <a:pt x="486" y="858"/>
                    </a:lnTo>
                    <a:lnTo>
                      <a:pt x="480" y="864"/>
                    </a:lnTo>
                    <a:lnTo>
                      <a:pt x="468" y="876"/>
                    </a:lnTo>
                    <a:lnTo>
                      <a:pt x="462" y="888"/>
                    </a:lnTo>
                    <a:lnTo>
                      <a:pt x="456" y="900"/>
                    </a:lnTo>
                    <a:lnTo>
                      <a:pt x="462" y="924"/>
                    </a:lnTo>
                    <a:lnTo>
                      <a:pt x="456" y="924"/>
                    </a:lnTo>
                    <a:lnTo>
                      <a:pt x="444" y="918"/>
                    </a:lnTo>
                    <a:lnTo>
                      <a:pt x="438" y="912"/>
                    </a:lnTo>
                    <a:lnTo>
                      <a:pt x="432" y="906"/>
                    </a:lnTo>
                    <a:lnTo>
                      <a:pt x="426" y="894"/>
                    </a:lnTo>
                    <a:lnTo>
                      <a:pt x="420" y="888"/>
                    </a:lnTo>
                    <a:lnTo>
                      <a:pt x="420" y="876"/>
                    </a:lnTo>
                    <a:lnTo>
                      <a:pt x="420" y="864"/>
                    </a:lnTo>
                    <a:lnTo>
                      <a:pt x="420" y="852"/>
                    </a:lnTo>
                    <a:lnTo>
                      <a:pt x="420" y="840"/>
                    </a:lnTo>
                    <a:lnTo>
                      <a:pt x="420" y="834"/>
                    </a:lnTo>
                    <a:lnTo>
                      <a:pt x="408" y="828"/>
                    </a:lnTo>
                    <a:lnTo>
                      <a:pt x="390" y="828"/>
                    </a:lnTo>
                    <a:lnTo>
                      <a:pt x="378" y="822"/>
                    </a:lnTo>
                    <a:lnTo>
                      <a:pt x="366" y="828"/>
                    </a:lnTo>
                    <a:lnTo>
                      <a:pt x="354" y="828"/>
                    </a:lnTo>
                    <a:lnTo>
                      <a:pt x="342" y="834"/>
                    </a:lnTo>
                    <a:lnTo>
                      <a:pt x="330" y="846"/>
                    </a:lnTo>
                    <a:lnTo>
                      <a:pt x="324" y="858"/>
                    </a:lnTo>
                    <a:lnTo>
                      <a:pt x="318" y="864"/>
                    </a:lnTo>
                    <a:lnTo>
                      <a:pt x="318" y="876"/>
                    </a:lnTo>
                    <a:lnTo>
                      <a:pt x="318" y="888"/>
                    </a:lnTo>
                    <a:lnTo>
                      <a:pt x="324" y="900"/>
                    </a:lnTo>
                    <a:lnTo>
                      <a:pt x="330" y="906"/>
                    </a:lnTo>
                    <a:lnTo>
                      <a:pt x="324" y="906"/>
                    </a:lnTo>
                    <a:lnTo>
                      <a:pt x="318" y="912"/>
                    </a:lnTo>
                    <a:lnTo>
                      <a:pt x="312" y="912"/>
                    </a:lnTo>
                    <a:lnTo>
                      <a:pt x="306" y="912"/>
                    </a:lnTo>
                    <a:lnTo>
                      <a:pt x="306" y="906"/>
                    </a:lnTo>
                    <a:lnTo>
                      <a:pt x="300" y="894"/>
                    </a:lnTo>
                    <a:lnTo>
                      <a:pt x="294" y="888"/>
                    </a:lnTo>
                    <a:lnTo>
                      <a:pt x="294" y="882"/>
                    </a:lnTo>
                    <a:lnTo>
                      <a:pt x="288" y="870"/>
                    </a:lnTo>
                    <a:lnTo>
                      <a:pt x="282" y="864"/>
                    </a:lnTo>
                    <a:lnTo>
                      <a:pt x="288" y="852"/>
                    </a:lnTo>
                    <a:lnTo>
                      <a:pt x="282" y="852"/>
                    </a:lnTo>
                    <a:lnTo>
                      <a:pt x="282" y="846"/>
                    </a:lnTo>
                    <a:lnTo>
                      <a:pt x="276" y="846"/>
                    </a:lnTo>
                    <a:lnTo>
                      <a:pt x="270" y="846"/>
                    </a:lnTo>
                    <a:lnTo>
                      <a:pt x="264" y="852"/>
                    </a:lnTo>
                    <a:lnTo>
                      <a:pt x="258" y="858"/>
                    </a:lnTo>
                    <a:lnTo>
                      <a:pt x="252" y="864"/>
                    </a:lnTo>
                    <a:lnTo>
                      <a:pt x="246" y="870"/>
                    </a:lnTo>
                    <a:lnTo>
                      <a:pt x="240" y="876"/>
                    </a:lnTo>
                    <a:lnTo>
                      <a:pt x="234" y="888"/>
                    </a:lnTo>
                    <a:lnTo>
                      <a:pt x="246" y="912"/>
                    </a:lnTo>
                    <a:lnTo>
                      <a:pt x="234" y="900"/>
                    </a:lnTo>
                    <a:lnTo>
                      <a:pt x="228" y="888"/>
                    </a:lnTo>
                    <a:lnTo>
                      <a:pt x="222" y="876"/>
                    </a:lnTo>
                    <a:lnTo>
                      <a:pt x="222" y="858"/>
                    </a:lnTo>
                    <a:lnTo>
                      <a:pt x="216" y="846"/>
                    </a:lnTo>
                    <a:lnTo>
                      <a:pt x="210" y="834"/>
                    </a:lnTo>
                    <a:lnTo>
                      <a:pt x="204" y="834"/>
                    </a:lnTo>
                    <a:lnTo>
                      <a:pt x="198" y="840"/>
                    </a:lnTo>
                    <a:lnTo>
                      <a:pt x="192" y="840"/>
                    </a:lnTo>
                    <a:lnTo>
                      <a:pt x="192" y="846"/>
                    </a:lnTo>
                    <a:lnTo>
                      <a:pt x="186" y="846"/>
                    </a:lnTo>
                    <a:lnTo>
                      <a:pt x="186" y="852"/>
                    </a:lnTo>
                    <a:lnTo>
                      <a:pt x="168" y="858"/>
                    </a:lnTo>
                    <a:lnTo>
                      <a:pt x="150" y="870"/>
                    </a:lnTo>
                    <a:lnTo>
                      <a:pt x="132" y="876"/>
                    </a:lnTo>
                    <a:lnTo>
                      <a:pt x="108" y="882"/>
                    </a:lnTo>
                    <a:lnTo>
                      <a:pt x="96" y="894"/>
                    </a:lnTo>
                    <a:lnTo>
                      <a:pt x="78" y="906"/>
                    </a:lnTo>
                    <a:lnTo>
                      <a:pt x="90" y="882"/>
                    </a:lnTo>
                    <a:lnTo>
                      <a:pt x="102" y="852"/>
                    </a:lnTo>
                    <a:lnTo>
                      <a:pt x="120" y="828"/>
                    </a:lnTo>
                    <a:lnTo>
                      <a:pt x="144" y="804"/>
                    </a:lnTo>
                    <a:lnTo>
                      <a:pt x="162" y="786"/>
                    </a:lnTo>
                    <a:lnTo>
                      <a:pt x="186" y="768"/>
                    </a:lnTo>
                    <a:lnTo>
                      <a:pt x="192" y="762"/>
                    </a:lnTo>
                    <a:lnTo>
                      <a:pt x="186" y="762"/>
                    </a:lnTo>
                    <a:lnTo>
                      <a:pt x="186" y="756"/>
                    </a:lnTo>
                    <a:lnTo>
                      <a:pt x="180" y="756"/>
                    </a:lnTo>
                    <a:lnTo>
                      <a:pt x="174" y="756"/>
                    </a:lnTo>
                    <a:lnTo>
                      <a:pt x="168" y="750"/>
                    </a:lnTo>
                    <a:lnTo>
                      <a:pt x="162" y="744"/>
                    </a:lnTo>
                    <a:lnTo>
                      <a:pt x="156" y="732"/>
                    </a:lnTo>
                    <a:lnTo>
                      <a:pt x="150" y="720"/>
                    </a:lnTo>
                    <a:lnTo>
                      <a:pt x="150" y="714"/>
                    </a:lnTo>
                    <a:lnTo>
                      <a:pt x="144" y="708"/>
                    </a:lnTo>
                    <a:lnTo>
                      <a:pt x="138" y="708"/>
                    </a:lnTo>
                    <a:lnTo>
                      <a:pt x="132" y="720"/>
                    </a:lnTo>
                    <a:lnTo>
                      <a:pt x="126" y="732"/>
                    </a:lnTo>
                    <a:lnTo>
                      <a:pt x="114" y="738"/>
                    </a:lnTo>
                    <a:lnTo>
                      <a:pt x="102" y="744"/>
                    </a:lnTo>
                    <a:lnTo>
                      <a:pt x="90" y="756"/>
                    </a:lnTo>
                    <a:lnTo>
                      <a:pt x="78" y="762"/>
                    </a:lnTo>
                    <a:lnTo>
                      <a:pt x="66" y="762"/>
                    </a:lnTo>
                    <a:lnTo>
                      <a:pt x="54" y="756"/>
                    </a:lnTo>
                    <a:lnTo>
                      <a:pt x="36" y="750"/>
                    </a:lnTo>
                    <a:lnTo>
                      <a:pt x="24" y="744"/>
                    </a:lnTo>
                    <a:lnTo>
                      <a:pt x="12" y="732"/>
                    </a:lnTo>
                    <a:lnTo>
                      <a:pt x="6" y="720"/>
                    </a:lnTo>
                    <a:lnTo>
                      <a:pt x="0" y="708"/>
                    </a:lnTo>
                    <a:lnTo>
                      <a:pt x="12" y="714"/>
                    </a:lnTo>
                    <a:lnTo>
                      <a:pt x="24" y="720"/>
                    </a:lnTo>
                    <a:lnTo>
                      <a:pt x="36" y="720"/>
                    </a:lnTo>
                    <a:lnTo>
                      <a:pt x="48" y="726"/>
                    </a:lnTo>
                    <a:lnTo>
                      <a:pt x="66" y="726"/>
                    </a:lnTo>
                    <a:lnTo>
                      <a:pt x="78" y="720"/>
                    </a:lnTo>
                    <a:lnTo>
                      <a:pt x="90" y="714"/>
                    </a:lnTo>
                    <a:lnTo>
                      <a:pt x="102" y="702"/>
                    </a:lnTo>
                    <a:lnTo>
                      <a:pt x="114" y="690"/>
                    </a:lnTo>
                    <a:lnTo>
                      <a:pt x="120" y="678"/>
                    </a:lnTo>
                    <a:lnTo>
                      <a:pt x="120" y="660"/>
                    </a:lnTo>
                    <a:lnTo>
                      <a:pt x="120" y="648"/>
                    </a:lnTo>
                    <a:lnTo>
                      <a:pt x="114" y="636"/>
                    </a:lnTo>
                    <a:lnTo>
                      <a:pt x="102" y="630"/>
                    </a:lnTo>
                    <a:lnTo>
                      <a:pt x="96" y="618"/>
                    </a:lnTo>
                    <a:lnTo>
                      <a:pt x="90" y="612"/>
                    </a:lnTo>
                    <a:lnTo>
                      <a:pt x="84" y="600"/>
                    </a:lnTo>
                    <a:lnTo>
                      <a:pt x="78" y="588"/>
                    </a:lnTo>
                    <a:lnTo>
                      <a:pt x="78" y="582"/>
                    </a:lnTo>
                    <a:lnTo>
                      <a:pt x="84" y="582"/>
                    </a:lnTo>
                    <a:lnTo>
                      <a:pt x="84" y="576"/>
                    </a:lnTo>
                    <a:lnTo>
                      <a:pt x="90" y="582"/>
                    </a:lnTo>
                    <a:lnTo>
                      <a:pt x="96" y="582"/>
                    </a:lnTo>
                    <a:lnTo>
                      <a:pt x="102" y="588"/>
                    </a:lnTo>
                    <a:lnTo>
                      <a:pt x="108" y="588"/>
                    </a:lnTo>
                    <a:lnTo>
                      <a:pt x="114" y="582"/>
                    </a:lnTo>
                    <a:lnTo>
                      <a:pt x="120" y="582"/>
                    </a:lnTo>
                    <a:lnTo>
                      <a:pt x="132" y="582"/>
                    </a:lnTo>
                    <a:lnTo>
                      <a:pt x="138" y="576"/>
                    </a:lnTo>
                    <a:lnTo>
                      <a:pt x="144" y="570"/>
                    </a:lnTo>
                    <a:lnTo>
                      <a:pt x="150" y="564"/>
                    </a:lnTo>
                    <a:lnTo>
                      <a:pt x="156" y="558"/>
                    </a:lnTo>
                    <a:lnTo>
                      <a:pt x="162" y="546"/>
                    </a:lnTo>
                    <a:lnTo>
                      <a:pt x="162" y="534"/>
                    </a:lnTo>
                    <a:lnTo>
                      <a:pt x="156" y="528"/>
                    </a:lnTo>
                    <a:lnTo>
                      <a:pt x="144" y="516"/>
                    </a:lnTo>
                    <a:lnTo>
                      <a:pt x="138" y="504"/>
                    </a:lnTo>
                    <a:lnTo>
                      <a:pt x="132" y="492"/>
                    </a:lnTo>
                    <a:lnTo>
                      <a:pt x="132" y="480"/>
                    </a:lnTo>
                    <a:lnTo>
                      <a:pt x="132" y="468"/>
                    </a:lnTo>
                    <a:lnTo>
                      <a:pt x="132" y="456"/>
                    </a:lnTo>
                    <a:lnTo>
                      <a:pt x="138" y="450"/>
                    </a:lnTo>
                    <a:lnTo>
                      <a:pt x="144" y="438"/>
                    </a:lnTo>
                    <a:lnTo>
                      <a:pt x="150" y="426"/>
                    </a:lnTo>
                    <a:lnTo>
                      <a:pt x="156" y="414"/>
                    </a:lnTo>
                    <a:lnTo>
                      <a:pt x="156" y="426"/>
                    </a:lnTo>
                    <a:lnTo>
                      <a:pt x="162" y="444"/>
                    </a:lnTo>
                    <a:lnTo>
                      <a:pt x="168" y="456"/>
                    </a:lnTo>
                    <a:lnTo>
                      <a:pt x="180" y="468"/>
                    </a:lnTo>
                    <a:lnTo>
                      <a:pt x="192" y="480"/>
                    </a:lnTo>
                    <a:lnTo>
                      <a:pt x="204" y="492"/>
                    </a:lnTo>
                    <a:lnTo>
                      <a:pt x="204" y="498"/>
                    </a:lnTo>
                    <a:lnTo>
                      <a:pt x="210" y="498"/>
                    </a:lnTo>
                    <a:lnTo>
                      <a:pt x="216" y="498"/>
                    </a:lnTo>
                    <a:lnTo>
                      <a:pt x="222" y="498"/>
                    </a:lnTo>
                    <a:lnTo>
                      <a:pt x="228" y="492"/>
                    </a:lnTo>
                    <a:lnTo>
                      <a:pt x="228" y="486"/>
                    </a:lnTo>
                    <a:lnTo>
                      <a:pt x="234" y="474"/>
                    </a:lnTo>
                    <a:lnTo>
                      <a:pt x="234" y="462"/>
                    </a:lnTo>
                    <a:lnTo>
                      <a:pt x="240" y="450"/>
                    </a:lnTo>
                    <a:lnTo>
                      <a:pt x="240" y="438"/>
                    </a:lnTo>
                    <a:lnTo>
                      <a:pt x="252" y="426"/>
                    </a:lnTo>
                    <a:lnTo>
                      <a:pt x="252" y="438"/>
                    </a:lnTo>
                    <a:lnTo>
                      <a:pt x="252" y="444"/>
                    </a:lnTo>
                    <a:lnTo>
                      <a:pt x="258" y="456"/>
                    </a:lnTo>
                    <a:lnTo>
                      <a:pt x="258" y="462"/>
                    </a:lnTo>
                    <a:lnTo>
                      <a:pt x="264" y="468"/>
                    </a:lnTo>
                    <a:lnTo>
                      <a:pt x="270" y="474"/>
                    </a:lnTo>
                    <a:lnTo>
                      <a:pt x="294" y="480"/>
                    </a:lnTo>
                    <a:lnTo>
                      <a:pt x="312" y="486"/>
                    </a:lnTo>
                    <a:lnTo>
                      <a:pt x="336" y="480"/>
                    </a:lnTo>
                    <a:lnTo>
                      <a:pt x="360" y="474"/>
                    </a:lnTo>
                    <a:lnTo>
                      <a:pt x="378" y="462"/>
                    </a:lnTo>
                    <a:lnTo>
                      <a:pt x="396" y="450"/>
                    </a:lnTo>
                    <a:lnTo>
                      <a:pt x="402" y="438"/>
                    </a:lnTo>
                    <a:lnTo>
                      <a:pt x="408" y="438"/>
                    </a:lnTo>
                    <a:lnTo>
                      <a:pt x="414" y="438"/>
                    </a:lnTo>
                    <a:lnTo>
                      <a:pt x="420" y="438"/>
                    </a:lnTo>
                    <a:lnTo>
                      <a:pt x="426" y="444"/>
                    </a:lnTo>
                    <a:lnTo>
                      <a:pt x="432" y="444"/>
                    </a:lnTo>
                    <a:lnTo>
                      <a:pt x="438" y="450"/>
                    </a:lnTo>
                    <a:lnTo>
                      <a:pt x="438" y="456"/>
                    </a:lnTo>
                    <a:lnTo>
                      <a:pt x="438" y="462"/>
                    </a:lnTo>
                    <a:lnTo>
                      <a:pt x="438" y="468"/>
                    </a:lnTo>
                    <a:lnTo>
                      <a:pt x="444" y="468"/>
                    </a:lnTo>
                    <a:lnTo>
                      <a:pt x="456" y="462"/>
                    </a:lnTo>
                    <a:lnTo>
                      <a:pt x="462" y="456"/>
                    </a:lnTo>
                    <a:lnTo>
                      <a:pt x="468" y="450"/>
                    </a:lnTo>
                    <a:lnTo>
                      <a:pt x="474" y="444"/>
                    </a:lnTo>
                    <a:lnTo>
                      <a:pt x="486" y="438"/>
                    </a:lnTo>
                    <a:lnTo>
                      <a:pt x="486" y="444"/>
                    </a:lnTo>
                    <a:lnTo>
                      <a:pt x="486" y="450"/>
                    </a:lnTo>
                    <a:lnTo>
                      <a:pt x="492" y="456"/>
                    </a:lnTo>
                    <a:lnTo>
                      <a:pt x="498" y="462"/>
                    </a:lnTo>
                    <a:lnTo>
                      <a:pt x="504" y="468"/>
                    </a:lnTo>
                    <a:lnTo>
                      <a:pt x="510" y="468"/>
                    </a:lnTo>
                    <a:lnTo>
                      <a:pt x="516" y="462"/>
                    </a:lnTo>
                    <a:lnTo>
                      <a:pt x="522" y="456"/>
                    </a:lnTo>
                    <a:lnTo>
                      <a:pt x="528" y="444"/>
                    </a:lnTo>
                    <a:lnTo>
                      <a:pt x="534" y="438"/>
                    </a:lnTo>
                    <a:lnTo>
                      <a:pt x="540" y="432"/>
                    </a:lnTo>
                    <a:lnTo>
                      <a:pt x="552" y="438"/>
                    </a:lnTo>
                    <a:lnTo>
                      <a:pt x="564" y="450"/>
                    </a:lnTo>
                    <a:lnTo>
                      <a:pt x="576" y="456"/>
                    </a:lnTo>
                    <a:lnTo>
                      <a:pt x="582" y="462"/>
                    </a:lnTo>
                    <a:lnTo>
                      <a:pt x="594" y="468"/>
                    </a:lnTo>
                    <a:lnTo>
                      <a:pt x="606" y="468"/>
                    </a:lnTo>
                    <a:lnTo>
                      <a:pt x="618" y="468"/>
                    </a:lnTo>
                    <a:lnTo>
                      <a:pt x="624" y="462"/>
                    </a:lnTo>
                    <a:lnTo>
                      <a:pt x="630" y="462"/>
                    </a:lnTo>
                    <a:lnTo>
                      <a:pt x="642" y="456"/>
                    </a:lnTo>
                    <a:lnTo>
                      <a:pt x="648" y="450"/>
                    </a:lnTo>
                    <a:lnTo>
                      <a:pt x="648" y="444"/>
                    </a:lnTo>
                    <a:lnTo>
                      <a:pt x="642" y="438"/>
                    </a:lnTo>
                    <a:lnTo>
                      <a:pt x="630" y="432"/>
                    </a:lnTo>
                    <a:lnTo>
                      <a:pt x="624" y="426"/>
                    </a:lnTo>
                    <a:lnTo>
                      <a:pt x="618" y="414"/>
                    </a:lnTo>
                    <a:lnTo>
                      <a:pt x="618" y="408"/>
                    </a:lnTo>
                    <a:lnTo>
                      <a:pt x="618" y="396"/>
                    </a:lnTo>
                    <a:lnTo>
                      <a:pt x="624" y="396"/>
                    </a:lnTo>
                    <a:lnTo>
                      <a:pt x="636" y="396"/>
                    </a:lnTo>
                    <a:lnTo>
                      <a:pt x="642" y="396"/>
                    </a:lnTo>
                    <a:lnTo>
                      <a:pt x="654" y="396"/>
                    </a:lnTo>
                    <a:lnTo>
                      <a:pt x="660" y="396"/>
                    </a:lnTo>
                    <a:lnTo>
                      <a:pt x="666" y="390"/>
                    </a:lnTo>
                    <a:lnTo>
                      <a:pt x="666" y="384"/>
                    </a:lnTo>
                    <a:lnTo>
                      <a:pt x="672" y="378"/>
                    </a:lnTo>
                    <a:lnTo>
                      <a:pt x="666" y="372"/>
                    </a:lnTo>
                    <a:lnTo>
                      <a:pt x="666" y="366"/>
                    </a:lnTo>
                    <a:lnTo>
                      <a:pt x="660" y="360"/>
                    </a:lnTo>
                    <a:lnTo>
                      <a:pt x="654" y="354"/>
                    </a:lnTo>
                    <a:lnTo>
                      <a:pt x="648" y="354"/>
                    </a:lnTo>
                    <a:lnTo>
                      <a:pt x="648" y="348"/>
                    </a:lnTo>
                    <a:lnTo>
                      <a:pt x="642" y="348"/>
                    </a:lnTo>
                    <a:lnTo>
                      <a:pt x="648" y="342"/>
                    </a:lnTo>
                    <a:lnTo>
                      <a:pt x="654" y="342"/>
                    </a:lnTo>
                    <a:lnTo>
                      <a:pt x="660" y="342"/>
                    </a:lnTo>
                    <a:lnTo>
                      <a:pt x="666" y="336"/>
                    </a:lnTo>
                    <a:lnTo>
                      <a:pt x="672" y="330"/>
                    </a:lnTo>
                    <a:lnTo>
                      <a:pt x="672" y="318"/>
                    </a:lnTo>
                    <a:lnTo>
                      <a:pt x="666" y="312"/>
                    </a:lnTo>
                    <a:lnTo>
                      <a:pt x="660" y="306"/>
                    </a:lnTo>
                    <a:lnTo>
                      <a:pt x="660" y="300"/>
                    </a:lnTo>
                    <a:lnTo>
                      <a:pt x="654" y="294"/>
                    </a:lnTo>
                    <a:lnTo>
                      <a:pt x="654" y="282"/>
                    </a:lnTo>
                    <a:lnTo>
                      <a:pt x="648" y="282"/>
                    </a:lnTo>
                    <a:lnTo>
                      <a:pt x="648" y="276"/>
                    </a:lnTo>
                    <a:lnTo>
                      <a:pt x="642" y="276"/>
                    </a:lnTo>
                    <a:lnTo>
                      <a:pt x="636" y="270"/>
                    </a:lnTo>
                    <a:lnTo>
                      <a:pt x="630" y="276"/>
                    </a:lnTo>
                    <a:lnTo>
                      <a:pt x="630" y="282"/>
                    </a:lnTo>
                    <a:lnTo>
                      <a:pt x="636" y="288"/>
                    </a:lnTo>
                    <a:lnTo>
                      <a:pt x="636" y="294"/>
                    </a:lnTo>
                    <a:lnTo>
                      <a:pt x="642" y="300"/>
                    </a:lnTo>
                    <a:lnTo>
                      <a:pt x="642" y="306"/>
                    </a:lnTo>
                    <a:lnTo>
                      <a:pt x="654" y="324"/>
                    </a:lnTo>
                    <a:lnTo>
                      <a:pt x="648" y="324"/>
                    </a:lnTo>
                    <a:lnTo>
                      <a:pt x="642" y="330"/>
                    </a:lnTo>
                    <a:lnTo>
                      <a:pt x="636" y="330"/>
                    </a:lnTo>
                    <a:lnTo>
                      <a:pt x="630" y="330"/>
                    </a:lnTo>
                    <a:lnTo>
                      <a:pt x="630" y="336"/>
                    </a:lnTo>
                    <a:lnTo>
                      <a:pt x="624" y="342"/>
                    </a:lnTo>
                    <a:lnTo>
                      <a:pt x="630" y="348"/>
                    </a:lnTo>
                    <a:lnTo>
                      <a:pt x="636" y="354"/>
                    </a:lnTo>
                    <a:lnTo>
                      <a:pt x="642" y="360"/>
                    </a:lnTo>
                    <a:lnTo>
                      <a:pt x="648" y="366"/>
                    </a:lnTo>
                    <a:lnTo>
                      <a:pt x="648" y="372"/>
                    </a:lnTo>
                    <a:lnTo>
                      <a:pt x="654" y="378"/>
                    </a:lnTo>
                    <a:lnTo>
                      <a:pt x="642" y="384"/>
                    </a:lnTo>
                    <a:lnTo>
                      <a:pt x="636" y="384"/>
                    </a:lnTo>
                    <a:lnTo>
                      <a:pt x="630" y="384"/>
                    </a:lnTo>
                    <a:lnTo>
                      <a:pt x="618" y="378"/>
                    </a:lnTo>
                    <a:lnTo>
                      <a:pt x="612" y="378"/>
                    </a:lnTo>
                    <a:lnTo>
                      <a:pt x="606" y="384"/>
                    </a:lnTo>
                    <a:lnTo>
                      <a:pt x="600" y="396"/>
                    </a:lnTo>
                    <a:lnTo>
                      <a:pt x="600" y="408"/>
                    </a:lnTo>
                    <a:lnTo>
                      <a:pt x="606" y="420"/>
                    </a:lnTo>
                    <a:lnTo>
                      <a:pt x="606" y="426"/>
                    </a:lnTo>
                    <a:lnTo>
                      <a:pt x="618" y="438"/>
                    </a:lnTo>
                    <a:lnTo>
                      <a:pt x="630" y="450"/>
                    </a:lnTo>
                    <a:lnTo>
                      <a:pt x="606" y="456"/>
                    </a:lnTo>
                    <a:lnTo>
                      <a:pt x="588" y="450"/>
                    </a:lnTo>
                    <a:lnTo>
                      <a:pt x="576" y="438"/>
                    </a:lnTo>
                    <a:lnTo>
                      <a:pt x="558" y="426"/>
                    </a:lnTo>
                    <a:lnTo>
                      <a:pt x="546" y="420"/>
                    </a:lnTo>
                    <a:lnTo>
                      <a:pt x="528" y="426"/>
                    </a:lnTo>
                    <a:lnTo>
                      <a:pt x="510" y="450"/>
                    </a:lnTo>
                    <a:lnTo>
                      <a:pt x="504" y="450"/>
                    </a:lnTo>
                    <a:lnTo>
                      <a:pt x="504" y="444"/>
                    </a:lnTo>
                    <a:lnTo>
                      <a:pt x="498" y="438"/>
                    </a:lnTo>
                    <a:lnTo>
                      <a:pt x="498" y="426"/>
                    </a:lnTo>
                    <a:lnTo>
                      <a:pt x="492" y="420"/>
                    </a:lnTo>
                    <a:lnTo>
                      <a:pt x="486" y="420"/>
                    </a:lnTo>
                    <a:lnTo>
                      <a:pt x="480" y="420"/>
                    </a:lnTo>
                    <a:lnTo>
                      <a:pt x="474" y="426"/>
                    </a:lnTo>
                    <a:lnTo>
                      <a:pt x="468" y="426"/>
                    </a:lnTo>
                    <a:lnTo>
                      <a:pt x="462" y="432"/>
                    </a:lnTo>
                    <a:lnTo>
                      <a:pt x="456" y="438"/>
                    </a:lnTo>
                    <a:lnTo>
                      <a:pt x="450" y="444"/>
                    </a:lnTo>
                    <a:lnTo>
                      <a:pt x="444" y="432"/>
                    </a:lnTo>
                    <a:lnTo>
                      <a:pt x="438" y="432"/>
                    </a:lnTo>
                    <a:lnTo>
                      <a:pt x="426" y="426"/>
                    </a:lnTo>
                    <a:lnTo>
                      <a:pt x="414" y="426"/>
                    </a:lnTo>
                    <a:lnTo>
                      <a:pt x="408" y="420"/>
                    </a:lnTo>
                    <a:lnTo>
                      <a:pt x="402" y="408"/>
                    </a:lnTo>
                    <a:lnTo>
                      <a:pt x="396" y="408"/>
                    </a:lnTo>
                    <a:lnTo>
                      <a:pt x="390" y="402"/>
                    </a:lnTo>
                    <a:lnTo>
                      <a:pt x="384" y="402"/>
                    </a:lnTo>
                    <a:lnTo>
                      <a:pt x="378" y="402"/>
                    </a:lnTo>
                    <a:lnTo>
                      <a:pt x="372" y="402"/>
                    </a:lnTo>
                    <a:lnTo>
                      <a:pt x="348" y="420"/>
                    </a:lnTo>
                    <a:lnTo>
                      <a:pt x="348" y="414"/>
                    </a:lnTo>
                    <a:lnTo>
                      <a:pt x="348" y="408"/>
                    </a:lnTo>
                    <a:lnTo>
                      <a:pt x="342" y="402"/>
                    </a:lnTo>
                    <a:lnTo>
                      <a:pt x="342" y="396"/>
                    </a:lnTo>
                    <a:lnTo>
                      <a:pt x="336" y="396"/>
                    </a:lnTo>
                    <a:lnTo>
                      <a:pt x="330" y="396"/>
                    </a:lnTo>
                    <a:lnTo>
                      <a:pt x="324" y="396"/>
                    </a:lnTo>
                    <a:lnTo>
                      <a:pt x="318" y="396"/>
                    </a:lnTo>
                    <a:lnTo>
                      <a:pt x="318" y="402"/>
                    </a:lnTo>
                    <a:lnTo>
                      <a:pt x="312" y="396"/>
                    </a:lnTo>
                    <a:lnTo>
                      <a:pt x="312" y="390"/>
                    </a:lnTo>
                    <a:lnTo>
                      <a:pt x="306" y="378"/>
                    </a:lnTo>
                    <a:lnTo>
                      <a:pt x="306" y="366"/>
                    </a:lnTo>
                    <a:lnTo>
                      <a:pt x="300" y="354"/>
                    </a:lnTo>
                    <a:lnTo>
                      <a:pt x="306" y="342"/>
                    </a:lnTo>
                    <a:lnTo>
                      <a:pt x="312" y="336"/>
                    </a:lnTo>
                    <a:lnTo>
                      <a:pt x="318" y="342"/>
                    </a:lnTo>
                    <a:lnTo>
                      <a:pt x="324" y="342"/>
                    </a:lnTo>
                    <a:lnTo>
                      <a:pt x="330" y="348"/>
                    </a:lnTo>
                    <a:lnTo>
                      <a:pt x="336" y="354"/>
                    </a:lnTo>
                    <a:lnTo>
                      <a:pt x="342" y="360"/>
                    </a:lnTo>
                    <a:lnTo>
                      <a:pt x="348" y="360"/>
                    </a:lnTo>
                    <a:lnTo>
                      <a:pt x="354" y="354"/>
                    </a:lnTo>
                    <a:lnTo>
                      <a:pt x="366" y="354"/>
                    </a:lnTo>
                    <a:lnTo>
                      <a:pt x="378" y="354"/>
                    </a:lnTo>
                    <a:lnTo>
                      <a:pt x="384" y="354"/>
                    </a:lnTo>
                    <a:lnTo>
                      <a:pt x="396" y="360"/>
                    </a:lnTo>
                    <a:lnTo>
                      <a:pt x="408" y="360"/>
                    </a:lnTo>
                    <a:lnTo>
                      <a:pt x="414" y="366"/>
                    </a:lnTo>
                    <a:lnTo>
                      <a:pt x="420" y="366"/>
                    </a:lnTo>
                    <a:lnTo>
                      <a:pt x="432" y="366"/>
                    </a:lnTo>
                    <a:lnTo>
                      <a:pt x="438" y="366"/>
                    </a:lnTo>
                    <a:lnTo>
                      <a:pt x="444" y="366"/>
                    </a:lnTo>
                    <a:lnTo>
                      <a:pt x="450" y="360"/>
                    </a:lnTo>
                    <a:lnTo>
                      <a:pt x="462" y="360"/>
                    </a:lnTo>
                    <a:lnTo>
                      <a:pt x="468" y="354"/>
                    </a:lnTo>
                    <a:lnTo>
                      <a:pt x="480" y="348"/>
                    </a:lnTo>
                    <a:lnTo>
                      <a:pt x="486" y="342"/>
                    </a:lnTo>
                    <a:lnTo>
                      <a:pt x="492" y="336"/>
                    </a:lnTo>
                    <a:lnTo>
                      <a:pt x="498" y="324"/>
                    </a:lnTo>
                    <a:lnTo>
                      <a:pt x="492" y="306"/>
                    </a:lnTo>
                    <a:lnTo>
                      <a:pt x="486" y="294"/>
                    </a:lnTo>
                    <a:lnTo>
                      <a:pt x="480" y="276"/>
                    </a:lnTo>
                    <a:lnTo>
                      <a:pt x="468" y="264"/>
                    </a:lnTo>
                    <a:lnTo>
                      <a:pt x="456" y="252"/>
                    </a:lnTo>
                    <a:lnTo>
                      <a:pt x="438" y="246"/>
                    </a:lnTo>
                    <a:lnTo>
                      <a:pt x="420" y="240"/>
                    </a:lnTo>
                    <a:lnTo>
                      <a:pt x="402" y="234"/>
                    </a:lnTo>
                    <a:lnTo>
                      <a:pt x="378" y="222"/>
                    </a:lnTo>
                    <a:lnTo>
                      <a:pt x="360" y="216"/>
                    </a:lnTo>
                    <a:lnTo>
                      <a:pt x="342" y="216"/>
                    </a:lnTo>
                    <a:lnTo>
                      <a:pt x="318" y="216"/>
                    </a:lnTo>
                    <a:lnTo>
                      <a:pt x="312" y="216"/>
                    </a:lnTo>
                    <a:lnTo>
                      <a:pt x="312" y="210"/>
                    </a:lnTo>
                    <a:lnTo>
                      <a:pt x="306" y="210"/>
                    </a:lnTo>
                    <a:lnTo>
                      <a:pt x="306" y="204"/>
                    </a:lnTo>
                    <a:lnTo>
                      <a:pt x="306" y="198"/>
                    </a:lnTo>
                    <a:lnTo>
                      <a:pt x="300" y="192"/>
                    </a:lnTo>
                    <a:lnTo>
                      <a:pt x="300" y="186"/>
                    </a:lnTo>
                    <a:lnTo>
                      <a:pt x="294" y="186"/>
                    </a:lnTo>
                    <a:lnTo>
                      <a:pt x="288" y="180"/>
                    </a:lnTo>
                    <a:lnTo>
                      <a:pt x="282" y="174"/>
                    </a:lnTo>
                    <a:lnTo>
                      <a:pt x="276" y="174"/>
                    </a:lnTo>
                    <a:lnTo>
                      <a:pt x="276" y="168"/>
                    </a:lnTo>
                    <a:lnTo>
                      <a:pt x="276" y="156"/>
                    </a:lnTo>
                    <a:lnTo>
                      <a:pt x="276" y="150"/>
                    </a:lnTo>
                    <a:lnTo>
                      <a:pt x="282" y="144"/>
                    </a:lnTo>
                    <a:lnTo>
                      <a:pt x="288" y="138"/>
                    </a:lnTo>
                    <a:lnTo>
                      <a:pt x="294" y="132"/>
                    </a:lnTo>
                    <a:lnTo>
                      <a:pt x="294" y="126"/>
                    </a:lnTo>
                    <a:lnTo>
                      <a:pt x="270" y="114"/>
                    </a:lnTo>
                    <a:lnTo>
                      <a:pt x="276" y="108"/>
                    </a:lnTo>
                    <a:lnTo>
                      <a:pt x="282" y="102"/>
                    </a:lnTo>
                    <a:lnTo>
                      <a:pt x="294" y="102"/>
                    </a:lnTo>
                    <a:lnTo>
                      <a:pt x="306" y="102"/>
                    </a:lnTo>
                    <a:lnTo>
                      <a:pt x="318" y="102"/>
                    </a:lnTo>
                    <a:lnTo>
                      <a:pt x="324" y="96"/>
                    </a:lnTo>
                    <a:lnTo>
                      <a:pt x="342" y="102"/>
                    </a:lnTo>
                    <a:lnTo>
                      <a:pt x="354" y="96"/>
                    </a:lnTo>
                    <a:lnTo>
                      <a:pt x="366" y="96"/>
                    </a:lnTo>
                    <a:lnTo>
                      <a:pt x="384" y="90"/>
                    </a:lnTo>
                    <a:lnTo>
                      <a:pt x="396" y="84"/>
                    </a:lnTo>
                    <a:lnTo>
                      <a:pt x="414" y="84"/>
                    </a:lnTo>
                    <a:lnTo>
                      <a:pt x="444" y="66"/>
                    </a:lnTo>
                    <a:lnTo>
                      <a:pt x="474" y="48"/>
                    </a:lnTo>
                    <a:lnTo>
                      <a:pt x="510" y="42"/>
                    </a:lnTo>
                    <a:lnTo>
                      <a:pt x="546" y="42"/>
                    </a:lnTo>
                    <a:lnTo>
                      <a:pt x="582" y="48"/>
                    </a:lnTo>
                    <a:lnTo>
                      <a:pt x="618" y="66"/>
                    </a:lnTo>
                    <a:lnTo>
                      <a:pt x="624" y="60"/>
                    </a:lnTo>
                    <a:lnTo>
                      <a:pt x="630" y="60"/>
                    </a:lnTo>
                    <a:lnTo>
                      <a:pt x="630" y="54"/>
                    </a:lnTo>
                    <a:lnTo>
                      <a:pt x="636" y="48"/>
                    </a:lnTo>
                    <a:lnTo>
                      <a:pt x="636" y="42"/>
                    </a:lnTo>
                    <a:lnTo>
                      <a:pt x="642" y="36"/>
                    </a:lnTo>
                    <a:lnTo>
                      <a:pt x="642" y="30"/>
                    </a:lnTo>
                    <a:lnTo>
                      <a:pt x="642" y="24"/>
                    </a:lnTo>
                    <a:lnTo>
                      <a:pt x="642" y="18"/>
                    </a:lnTo>
                    <a:lnTo>
                      <a:pt x="642" y="12"/>
                    </a:lnTo>
                    <a:lnTo>
                      <a:pt x="636" y="6"/>
                    </a:lnTo>
                    <a:lnTo>
                      <a:pt x="636" y="0"/>
                    </a:lnTo>
                    <a:lnTo>
                      <a:pt x="642" y="6"/>
                    </a:lnTo>
                    <a:lnTo>
                      <a:pt x="654" y="6"/>
                    </a:lnTo>
                    <a:lnTo>
                      <a:pt x="660" y="12"/>
                    </a:lnTo>
                    <a:lnTo>
                      <a:pt x="666" y="18"/>
                    </a:lnTo>
                    <a:lnTo>
                      <a:pt x="672" y="24"/>
                    </a:lnTo>
                    <a:lnTo>
                      <a:pt x="672" y="30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783720" y="753840"/>
                <a:ext cx="29880" cy="6228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42" y="78"/>
                    </a:moveTo>
                    <a:lnTo>
                      <a:pt x="36" y="84"/>
                    </a:lnTo>
                    <a:lnTo>
                      <a:pt x="30" y="90"/>
                    </a:lnTo>
                    <a:lnTo>
                      <a:pt x="24" y="90"/>
                    </a:lnTo>
                    <a:lnTo>
                      <a:pt x="18" y="96"/>
                    </a:lnTo>
                    <a:lnTo>
                      <a:pt x="12" y="102"/>
                    </a:lnTo>
                    <a:lnTo>
                      <a:pt x="6" y="108"/>
                    </a:lnTo>
                    <a:lnTo>
                      <a:pt x="0" y="120"/>
                    </a:lnTo>
                    <a:lnTo>
                      <a:pt x="0" y="126"/>
                    </a:lnTo>
                    <a:lnTo>
                      <a:pt x="0" y="132"/>
                    </a:lnTo>
                    <a:lnTo>
                      <a:pt x="6" y="138"/>
                    </a:lnTo>
                    <a:lnTo>
                      <a:pt x="12" y="144"/>
                    </a:lnTo>
                    <a:lnTo>
                      <a:pt x="18" y="144"/>
                    </a:lnTo>
                    <a:lnTo>
                      <a:pt x="24" y="150"/>
                    </a:lnTo>
                    <a:lnTo>
                      <a:pt x="36" y="144"/>
                    </a:lnTo>
                    <a:lnTo>
                      <a:pt x="42" y="132"/>
                    </a:lnTo>
                    <a:lnTo>
                      <a:pt x="54" y="126"/>
                    </a:lnTo>
                    <a:lnTo>
                      <a:pt x="60" y="114"/>
                    </a:lnTo>
                    <a:lnTo>
                      <a:pt x="66" y="108"/>
                    </a:lnTo>
                    <a:lnTo>
                      <a:pt x="72" y="96"/>
                    </a:lnTo>
                    <a:lnTo>
                      <a:pt x="60" y="84"/>
                    </a:lnTo>
                    <a:lnTo>
                      <a:pt x="54" y="60"/>
                    </a:lnTo>
                    <a:lnTo>
                      <a:pt x="48" y="42"/>
                    </a:lnTo>
                    <a:lnTo>
                      <a:pt x="42" y="24"/>
                    </a:lnTo>
                    <a:lnTo>
                      <a:pt x="24" y="6"/>
                    </a:lnTo>
                    <a:lnTo>
                      <a:pt x="6" y="0"/>
                    </a:lnTo>
                    <a:lnTo>
                      <a:pt x="42" y="78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606240" y="763560"/>
                <a:ext cx="717120" cy="860040"/>
              </a:xfrm>
              <a:custGeom>
                <a:avLst/>
                <a:gdLst/>
                <a:ahLst/>
                <a:rect l="l" t="t" r="r" b="b"/>
                <a:pathLst>
                  <a:path w="1722" h="2064">
                    <a:moveTo>
                      <a:pt x="1722" y="72"/>
                    </a:moveTo>
                    <a:lnTo>
                      <a:pt x="1722" y="96"/>
                    </a:lnTo>
                    <a:lnTo>
                      <a:pt x="1716" y="114"/>
                    </a:lnTo>
                    <a:lnTo>
                      <a:pt x="1710" y="138"/>
                    </a:lnTo>
                    <a:lnTo>
                      <a:pt x="1698" y="156"/>
                    </a:lnTo>
                    <a:lnTo>
                      <a:pt x="1686" y="174"/>
                    </a:lnTo>
                    <a:lnTo>
                      <a:pt x="1668" y="186"/>
                    </a:lnTo>
                    <a:lnTo>
                      <a:pt x="1650" y="198"/>
                    </a:lnTo>
                    <a:lnTo>
                      <a:pt x="1632" y="198"/>
                    </a:lnTo>
                    <a:lnTo>
                      <a:pt x="1614" y="192"/>
                    </a:lnTo>
                    <a:lnTo>
                      <a:pt x="1596" y="192"/>
                    </a:lnTo>
                    <a:lnTo>
                      <a:pt x="1578" y="192"/>
                    </a:lnTo>
                    <a:lnTo>
                      <a:pt x="1554" y="198"/>
                    </a:lnTo>
                    <a:lnTo>
                      <a:pt x="1548" y="204"/>
                    </a:lnTo>
                    <a:lnTo>
                      <a:pt x="1542" y="204"/>
                    </a:lnTo>
                    <a:lnTo>
                      <a:pt x="1530" y="210"/>
                    </a:lnTo>
                    <a:lnTo>
                      <a:pt x="1524" y="216"/>
                    </a:lnTo>
                    <a:lnTo>
                      <a:pt x="1512" y="222"/>
                    </a:lnTo>
                    <a:lnTo>
                      <a:pt x="1506" y="228"/>
                    </a:lnTo>
                    <a:lnTo>
                      <a:pt x="1512" y="234"/>
                    </a:lnTo>
                    <a:lnTo>
                      <a:pt x="1518" y="234"/>
                    </a:lnTo>
                    <a:lnTo>
                      <a:pt x="1524" y="234"/>
                    </a:lnTo>
                    <a:lnTo>
                      <a:pt x="1536" y="228"/>
                    </a:lnTo>
                    <a:lnTo>
                      <a:pt x="1542" y="228"/>
                    </a:lnTo>
                    <a:lnTo>
                      <a:pt x="1554" y="228"/>
                    </a:lnTo>
                    <a:lnTo>
                      <a:pt x="1572" y="228"/>
                    </a:lnTo>
                    <a:lnTo>
                      <a:pt x="1596" y="234"/>
                    </a:lnTo>
                    <a:lnTo>
                      <a:pt x="1620" y="240"/>
                    </a:lnTo>
                    <a:lnTo>
                      <a:pt x="1638" y="246"/>
                    </a:lnTo>
                    <a:lnTo>
                      <a:pt x="1656" y="258"/>
                    </a:lnTo>
                    <a:lnTo>
                      <a:pt x="1674" y="276"/>
                    </a:lnTo>
                    <a:lnTo>
                      <a:pt x="1680" y="300"/>
                    </a:lnTo>
                    <a:lnTo>
                      <a:pt x="1686" y="324"/>
                    </a:lnTo>
                    <a:lnTo>
                      <a:pt x="1680" y="342"/>
                    </a:lnTo>
                    <a:lnTo>
                      <a:pt x="1674" y="366"/>
                    </a:lnTo>
                    <a:lnTo>
                      <a:pt x="1668" y="390"/>
                    </a:lnTo>
                    <a:lnTo>
                      <a:pt x="1656" y="414"/>
                    </a:lnTo>
                    <a:lnTo>
                      <a:pt x="1644" y="432"/>
                    </a:lnTo>
                    <a:lnTo>
                      <a:pt x="1620" y="444"/>
                    </a:lnTo>
                    <a:lnTo>
                      <a:pt x="1602" y="462"/>
                    </a:lnTo>
                    <a:lnTo>
                      <a:pt x="1584" y="474"/>
                    </a:lnTo>
                    <a:lnTo>
                      <a:pt x="1566" y="492"/>
                    </a:lnTo>
                    <a:lnTo>
                      <a:pt x="1554" y="516"/>
                    </a:lnTo>
                    <a:lnTo>
                      <a:pt x="1554" y="522"/>
                    </a:lnTo>
                    <a:lnTo>
                      <a:pt x="1554" y="528"/>
                    </a:lnTo>
                    <a:lnTo>
                      <a:pt x="1554" y="534"/>
                    </a:lnTo>
                    <a:lnTo>
                      <a:pt x="1548" y="528"/>
                    </a:lnTo>
                    <a:lnTo>
                      <a:pt x="1548" y="522"/>
                    </a:lnTo>
                    <a:lnTo>
                      <a:pt x="1548" y="516"/>
                    </a:lnTo>
                    <a:lnTo>
                      <a:pt x="1548" y="510"/>
                    </a:lnTo>
                    <a:lnTo>
                      <a:pt x="1542" y="504"/>
                    </a:lnTo>
                    <a:lnTo>
                      <a:pt x="1548" y="492"/>
                    </a:lnTo>
                    <a:lnTo>
                      <a:pt x="1548" y="486"/>
                    </a:lnTo>
                    <a:lnTo>
                      <a:pt x="1554" y="480"/>
                    </a:lnTo>
                    <a:lnTo>
                      <a:pt x="1560" y="474"/>
                    </a:lnTo>
                    <a:lnTo>
                      <a:pt x="1560" y="468"/>
                    </a:lnTo>
                    <a:lnTo>
                      <a:pt x="1554" y="456"/>
                    </a:lnTo>
                    <a:lnTo>
                      <a:pt x="1512" y="462"/>
                    </a:lnTo>
                    <a:lnTo>
                      <a:pt x="1512" y="456"/>
                    </a:lnTo>
                    <a:lnTo>
                      <a:pt x="1500" y="444"/>
                    </a:lnTo>
                    <a:lnTo>
                      <a:pt x="1494" y="438"/>
                    </a:lnTo>
                    <a:lnTo>
                      <a:pt x="1494" y="426"/>
                    </a:lnTo>
                    <a:lnTo>
                      <a:pt x="1488" y="414"/>
                    </a:lnTo>
                    <a:lnTo>
                      <a:pt x="1494" y="408"/>
                    </a:lnTo>
                    <a:lnTo>
                      <a:pt x="1494" y="414"/>
                    </a:lnTo>
                    <a:lnTo>
                      <a:pt x="1500" y="420"/>
                    </a:lnTo>
                    <a:lnTo>
                      <a:pt x="1506" y="426"/>
                    </a:lnTo>
                    <a:lnTo>
                      <a:pt x="1512" y="432"/>
                    </a:lnTo>
                    <a:lnTo>
                      <a:pt x="1518" y="438"/>
                    </a:lnTo>
                    <a:lnTo>
                      <a:pt x="1524" y="438"/>
                    </a:lnTo>
                    <a:lnTo>
                      <a:pt x="1536" y="438"/>
                    </a:lnTo>
                    <a:lnTo>
                      <a:pt x="1548" y="438"/>
                    </a:lnTo>
                    <a:lnTo>
                      <a:pt x="1554" y="438"/>
                    </a:lnTo>
                    <a:lnTo>
                      <a:pt x="1566" y="438"/>
                    </a:lnTo>
                    <a:lnTo>
                      <a:pt x="1578" y="432"/>
                    </a:lnTo>
                    <a:lnTo>
                      <a:pt x="1584" y="420"/>
                    </a:lnTo>
                    <a:lnTo>
                      <a:pt x="1596" y="408"/>
                    </a:lnTo>
                    <a:lnTo>
                      <a:pt x="1602" y="396"/>
                    </a:lnTo>
                    <a:lnTo>
                      <a:pt x="1602" y="378"/>
                    </a:lnTo>
                    <a:lnTo>
                      <a:pt x="1602" y="360"/>
                    </a:lnTo>
                    <a:lnTo>
                      <a:pt x="1602" y="342"/>
                    </a:lnTo>
                    <a:lnTo>
                      <a:pt x="1596" y="330"/>
                    </a:lnTo>
                    <a:lnTo>
                      <a:pt x="1584" y="318"/>
                    </a:lnTo>
                    <a:lnTo>
                      <a:pt x="1572" y="306"/>
                    </a:lnTo>
                    <a:lnTo>
                      <a:pt x="1554" y="294"/>
                    </a:lnTo>
                    <a:lnTo>
                      <a:pt x="1542" y="282"/>
                    </a:lnTo>
                    <a:lnTo>
                      <a:pt x="1524" y="276"/>
                    </a:lnTo>
                    <a:lnTo>
                      <a:pt x="1506" y="276"/>
                    </a:lnTo>
                    <a:lnTo>
                      <a:pt x="1470" y="300"/>
                    </a:lnTo>
                    <a:lnTo>
                      <a:pt x="1434" y="330"/>
                    </a:lnTo>
                    <a:lnTo>
                      <a:pt x="1404" y="360"/>
                    </a:lnTo>
                    <a:lnTo>
                      <a:pt x="1380" y="402"/>
                    </a:lnTo>
                    <a:lnTo>
                      <a:pt x="1368" y="438"/>
                    </a:lnTo>
                    <a:lnTo>
                      <a:pt x="1356" y="486"/>
                    </a:lnTo>
                    <a:lnTo>
                      <a:pt x="1356" y="510"/>
                    </a:lnTo>
                    <a:lnTo>
                      <a:pt x="1356" y="534"/>
                    </a:lnTo>
                    <a:lnTo>
                      <a:pt x="1356" y="558"/>
                    </a:lnTo>
                    <a:lnTo>
                      <a:pt x="1356" y="576"/>
                    </a:lnTo>
                    <a:lnTo>
                      <a:pt x="1368" y="600"/>
                    </a:lnTo>
                    <a:lnTo>
                      <a:pt x="1380" y="624"/>
                    </a:lnTo>
                    <a:lnTo>
                      <a:pt x="1386" y="624"/>
                    </a:lnTo>
                    <a:lnTo>
                      <a:pt x="1386" y="618"/>
                    </a:lnTo>
                    <a:lnTo>
                      <a:pt x="1392" y="612"/>
                    </a:lnTo>
                    <a:lnTo>
                      <a:pt x="1392" y="606"/>
                    </a:lnTo>
                    <a:lnTo>
                      <a:pt x="1398" y="600"/>
                    </a:lnTo>
                    <a:lnTo>
                      <a:pt x="1404" y="594"/>
                    </a:lnTo>
                    <a:lnTo>
                      <a:pt x="1416" y="588"/>
                    </a:lnTo>
                    <a:lnTo>
                      <a:pt x="1422" y="582"/>
                    </a:lnTo>
                    <a:lnTo>
                      <a:pt x="1434" y="576"/>
                    </a:lnTo>
                    <a:lnTo>
                      <a:pt x="1440" y="576"/>
                    </a:lnTo>
                    <a:lnTo>
                      <a:pt x="1452" y="576"/>
                    </a:lnTo>
                    <a:lnTo>
                      <a:pt x="1464" y="576"/>
                    </a:lnTo>
                    <a:lnTo>
                      <a:pt x="1476" y="582"/>
                    </a:lnTo>
                    <a:lnTo>
                      <a:pt x="1488" y="588"/>
                    </a:lnTo>
                    <a:lnTo>
                      <a:pt x="1494" y="600"/>
                    </a:lnTo>
                    <a:lnTo>
                      <a:pt x="1506" y="606"/>
                    </a:lnTo>
                    <a:lnTo>
                      <a:pt x="1512" y="618"/>
                    </a:lnTo>
                    <a:lnTo>
                      <a:pt x="1512" y="624"/>
                    </a:lnTo>
                    <a:lnTo>
                      <a:pt x="1500" y="618"/>
                    </a:lnTo>
                    <a:lnTo>
                      <a:pt x="1488" y="612"/>
                    </a:lnTo>
                    <a:lnTo>
                      <a:pt x="1476" y="612"/>
                    </a:lnTo>
                    <a:lnTo>
                      <a:pt x="1464" y="612"/>
                    </a:lnTo>
                    <a:lnTo>
                      <a:pt x="1452" y="612"/>
                    </a:lnTo>
                    <a:lnTo>
                      <a:pt x="1440" y="612"/>
                    </a:lnTo>
                    <a:lnTo>
                      <a:pt x="1434" y="618"/>
                    </a:lnTo>
                    <a:lnTo>
                      <a:pt x="1428" y="624"/>
                    </a:lnTo>
                    <a:lnTo>
                      <a:pt x="1422" y="630"/>
                    </a:lnTo>
                    <a:lnTo>
                      <a:pt x="1416" y="636"/>
                    </a:lnTo>
                    <a:lnTo>
                      <a:pt x="1410" y="648"/>
                    </a:lnTo>
                    <a:lnTo>
                      <a:pt x="1410" y="654"/>
                    </a:lnTo>
                    <a:lnTo>
                      <a:pt x="1416" y="708"/>
                    </a:lnTo>
                    <a:lnTo>
                      <a:pt x="1434" y="756"/>
                    </a:lnTo>
                    <a:lnTo>
                      <a:pt x="1452" y="804"/>
                    </a:lnTo>
                    <a:lnTo>
                      <a:pt x="1482" y="852"/>
                    </a:lnTo>
                    <a:lnTo>
                      <a:pt x="1506" y="894"/>
                    </a:lnTo>
                    <a:lnTo>
                      <a:pt x="1530" y="942"/>
                    </a:lnTo>
                    <a:lnTo>
                      <a:pt x="1530" y="948"/>
                    </a:lnTo>
                    <a:lnTo>
                      <a:pt x="1530" y="954"/>
                    </a:lnTo>
                    <a:lnTo>
                      <a:pt x="1530" y="960"/>
                    </a:lnTo>
                    <a:lnTo>
                      <a:pt x="1530" y="966"/>
                    </a:lnTo>
                    <a:lnTo>
                      <a:pt x="1536" y="966"/>
                    </a:lnTo>
                    <a:lnTo>
                      <a:pt x="1542" y="960"/>
                    </a:lnTo>
                    <a:lnTo>
                      <a:pt x="1548" y="954"/>
                    </a:lnTo>
                    <a:lnTo>
                      <a:pt x="1548" y="948"/>
                    </a:lnTo>
                    <a:lnTo>
                      <a:pt x="1554" y="942"/>
                    </a:lnTo>
                    <a:lnTo>
                      <a:pt x="1560" y="942"/>
                    </a:lnTo>
                    <a:lnTo>
                      <a:pt x="1572" y="930"/>
                    </a:lnTo>
                    <a:lnTo>
                      <a:pt x="1590" y="918"/>
                    </a:lnTo>
                    <a:lnTo>
                      <a:pt x="1602" y="906"/>
                    </a:lnTo>
                    <a:lnTo>
                      <a:pt x="1614" y="894"/>
                    </a:lnTo>
                    <a:lnTo>
                      <a:pt x="1626" y="876"/>
                    </a:lnTo>
                    <a:lnTo>
                      <a:pt x="1626" y="864"/>
                    </a:lnTo>
                    <a:lnTo>
                      <a:pt x="1626" y="852"/>
                    </a:lnTo>
                    <a:lnTo>
                      <a:pt x="1626" y="846"/>
                    </a:lnTo>
                    <a:lnTo>
                      <a:pt x="1626" y="840"/>
                    </a:lnTo>
                    <a:lnTo>
                      <a:pt x="1620" y="834"/>
                    </a:lnTo>
                    <a:lnTo>
                      <a:pt x="1620" y="828"/>
                    </a:lnTo>
                    <a:lnTo>
                      <a:pt x="1626" y="828"/>
                    </a:lnTo>
                    <a:lnTo>
                      <a:pt x="1632" y="834"/>
                    </a:lnTo>
                    <a:lnTo>
                      <a:pt x="1638" y="834"/>
                    </a:lnTo>
                    <a:lnTo>
                      <a:pt x="1644" y="840"/>
                    </a:lnTo>
                    <a:lnTo>
                      <a:pt x="1644" y="846"/>
                    </a:lnTo>
                    <a:lnTo>
                      <a:pt x="1650" y="864"/>
                    </a:lnTo>
                    <a:lnTo>
                      <a:pt x="1650" y="882"/>
                    </a:lnTo>
                    <a:lnTo>
                      <a:pt x="1650" y="900"/>
                    </a:lnTo>
                    <a:lnTo>
                      <a:pt x="1644" y="918"/>
                    </a:lnTo>
                    <a:lnTo>
                      <a:pt x="1638" y="930"/>
                    </a:lnTo>
                    <a:lnTo>
                      <a:pt x="1632" y="948"/>
                    </a:lnTo>
                    <a:lnTo>
                      <a:pt x="1620" y="960"/>
                    </a:lnTo>
                    <a:lnTo>
                      <a:pt x="1602" y="972"/>
                    </a:lnTo>
                    <a:lnTo>
                      <a:pt x="1590" y="978"/>
                    </a:lnTo>
                    <a:lnTo>
                      <a:pt x="1572" y="990"/>
                    </a:lnTo>
                    <a:lnTo>
                      <a:pt x="1560" y="1002"/>
                    </a:lnTo>
                    <a:lnTo>
                      <a:pt x="1554" y="1020"/>
                    </a:lnTo>
                    <a:lnTo>
                      <a:pt x="1560" y="1020"/>
                    </a:lnTo>
                    <a:lnTo>
                      <a:pt x="1566" y="1026"/>
                    </a:lnTo>
                    <a:lnTo>
                      <a:pt x="1572" y="1032"/>
                    </a:lnTo>
                    <a:lnTo>
                      <a:pt x="1578" y="1038"/>
                    </a:lnTo>
                    <a:lnTo>
                      <a:pt x="1584" y="1044"/>
                    </a:lnTo>
                    <a:lnTo>
                      <a:pt x="1596" y="1038"/>
                    </a:lnTo>
                    <a:lnTo>
                      <a:pt x="1608" y="1032"/>
                    </a:lnTo>
                    <a:lnTo>
                      <a:pt x="1614" y="1026"/>
                    </a:lnTo>
                    <a:lnTo>
                      <a:pt x="1620" y="1020"/>
                    </a:lnTo>
                    <a:lnTo>
                      <a:pt x="1632" y="1014"/>
                    </a:lnTo>
                    <a:lnTo>
                      <a:pt x="1638" y="1008"/>
                    </a:lnTo>
                    <a:lnTo>
                      <a:pt x="1644" y="1008"/>
                    </a:lnTo>
                    <a:lnTo>
                      <a:pt x="1638" y="1014"/>
                    </a:lnTo>
                    <a:lnTo>
                      <a:pt x="1632" y="1020"/>
                    </a:lnTo>
                    <a:lnTo>
                      <a:pt x="1626" y="1032"/>
                    </a:lnTo>
                    <a:lnTo>
                      <a:pt x="1620" y="1044"/>
                    </a:lnTo>
                    <a:lnTo>
                      <a:pt x="1620" y="1056"/>
                    </a:lnTo>
                    <a:lnTo>
                      <a:pt x="1614" y="1062"/>
                    </a:lnTo>
                    <a:lnTo>
                      <a:pt x="1602" y="1098"/>
                    </a:lnTo>
                    <a:lnTo>
                      <a:pt x="1596" y="1128"/>
                    </a:lnTo>
                    <a:lnTo>
                      <a:pt x="1590" y="1164"/>
                    </a:lnTo>
                    <a:lnTo>
                      <a:pt x="1584" y="1194"/>
                    </a:lnTo>
                    <a:lnTo>
                      <a:pt x="1566" y="1224"/>
                    </a:lnTo>
                    <a:lnTo>
                      <a:pt x="1548" y="1254"/>
                    </a:lnTo>
                    <a:lnTo>
                      <a:pt x="1530" y="1278"/>
                    </a:lnTo>
                    <a:lnTo>
                      <a:pt x="1506" y="1302"/>
                    </a:lnTo>
                    <a:lnTo>
                      <a:pt x="1482" y="1314"/>
                    </a:lnTo>
                    <a:lnTo>
                      <a:pt x="1452" y="1332"/>
                    </a:lnTo>
                    <a:lnTo>
                      <a:pt x="1422" y="1338"/>
                    </a:lnTo>
                    <a:lnTo>
                      <a:pt x="1392" y="1350"/>
                    </a:lnTo>
                    <a:lnTo>
                      <a:pt x="1362" y="1350"/>
                    </a:lnTo>
                    <a:lnTo>
                      <a:pt x="1332" y="1350"/>
                    </a:lnTo>
                    <a:lnTo>
                      <a:pt x="1296" y="1344"/>
                    </a:lnTo>
                    <a:lnTo>
                      <a:pt x="1266" y="1332"/>
                    </a:lnTo>
                    <a:lnTo>
                      <a:pt x="1236" y="1320"/>
                    </a:lnTo>
                    <a:lnTo>
                      <a:pt x="1212" y="1302"/>
                    </a:lnTo>
                    <a:lnTo>
                      <a:pt x="1206" y="1290"/>
                    </a:lnTo>
                    <a:lnTo>
                      <a:pt x="1200" y="1290"/>
                    </a:lnTo>
                    <a:lnTo>
                      <a:pt x="1194" y="1290"/>
                    </a:lnTo>
                    <a:lnTo>
                      <a:pt x="1194" y="1284"/>
                    </a:lnTo>
                    <a:lnTo>
                      <a:pt x="1188" y="1284"/>
                    </a:lnTo>
                    <a:lnTo>
                      <a:pt x="1182" y="1284"/>
                    </a:lnTo>
                    <a:lnTo>
                      <a:pt x="1182" y="1290"/>
                    </a:lnTo>
                    <a:lnTo>
                      <a:pt x="1182" y="1296"/>
                    </a:lnTo>
                    <a:lnTo>
                      <a:pt x="1188" y="1296"/>
                    </a:lnTo>
                    <a:lnTo>
                      <a:pt x="1194" y="1302"/>
                    </a:lnTo>
                    <a:lnTo>
                      <a:pt x="1194" y="1308"/>
                    </a:lnTo>
                    <a:lnTo>
                      <a:pt x="1194" y="1314"/>
                    </a:lnTo>
                    <a:lnTo>
                      <a:pt x="1194" y="1326"/>
                    </a:lnTo>
                    <a:lnTo>
                      <a:pt x="1194" y="1332"/>
                    </a:lnTo>
                    <a:lnTo>
                      <a:pt x="1200" y="1338"/>
                    </a:lnTo>
                    <a:lnTo>
                      <a:pt x="1206" y="1350"/>
                    </a:lnTo>
                    <a:lnTo>
                      <a:pt x="1212" y="1356"/>
                    </a:lnTo>
                    <a:lnTo>
                      <a:pt x="1212" y="1368"/>
                    </a:lnTo>
                    <a:lnTo>
                      <a:pt x="1218" y="1374"/>
                    </a:lnTo>
                    <a:lnTo>
                      <a:pt x="1230" y="1380"/>
                    </a:lnTo>
                    <a:lnTo>
                      <a:pt x="1242" y="1380"/>
                    </a:lnTo>
                    <a:lnTo>
                      <a:pt x="1236" y="1386"/>
                    </a:lnTo>
                    <a:lnTo>
                      <a:pt x="1230" y="1392"/>
                    </a:lnTo>
                    <a:lnTo>
                      <a:pt x="1224" y="1392"/>
                    </a:lnTo>
                    <a:lnTo>
                      <a:pt x="1218" y="1392"/>
                    </a:lnTo>
                    <a:lnTo>
                      <a:pt x="1218" y="1398"/>
                    </a:lnTo>
                    <a:lnTo>
                      <a:pt x="1218" y="1404"/>
                    </a:lnTo>
                    <a:lnTo>
                      <a:pt x="1224" y="1410"/>
                    </a:lnTo>
                    <a:lnTo>
                      <a:pt x="1236" y="1416"/>
                    </a:lnTo>
                    <a:lnTo>
                      <a:pt x="1242" y="1416"/>
                    </a:lnTo>
                    <a:lnTo>
                      <a:pt x="1254" y="1422"/>
                    </a:lnTo>
                    <a:lnTo>
                      <a:pt x="1266" y="1422"/>
                    </a:lnTo>
                    <a:lnTo>
                      <a:pt x="1278" y="1422"/>
                    </a:lnTo>
                    <a:lnTo>
                      <a:pt x="1272" y="1434"/>
                    </a:lnTo>
                    <a:lnTo>
                      <a:pt x="1260" y="1440"/>
                    </a:lnTo>
                    <a:lnTo>
                      <a:pt x="1254" y="1446"/>
                    </a:lnTo>
                    <a:lnTo>
                      <a:pt x="1248" y="1452"/>
                    </a:lnTo>
                    <a:lnTo>
                      <a:pt x="1242" y="1458"/>
                    </a:lnTo>
                    <a:lnTo>
                      <a:pt x="1236" y="1464"/>
                    </a:lnTo>
                    <a:lnTo>
                      <a:pt x="1242" y="1470"/>
                    </a:lnTo>
                    <a:lnTo>
                      <a:pt x="1248" y="1476"/>
                    </a:lnTo>
                    <a:lnTo>
                      <a:pt x="1260" y="1482"/>
                    </a:lnTo>
                    <a:lnTo>
                      <a:pt x="1266" y="1488"/>
                    </a:lnTo>
                    <a:lnTo>
                      <a:pt x="1278" y="1494"/>
                    </a:lnTo>
                    <a:lnTo>
                      <a:pt x="1290" y="1494"/>
                    </a:lnTo>
                    <a:lnTo>
                      <a:pt x="1296" y="1494"/>
                    </a:lnTo>
                    <a:lnTo>
                      <a:pt x="1296" y="1488"/>
                    </a:lnTo>
                    <a:lnTo>
                      <a:pt x="1302" y="1488"/>
                    </a:lnTo>
                    <a:lnTo>
                      <a:pt x="1308" y="1488"/>
                    </a:lnTo>
                    <a:lnTo>
                      <a:pt x="1314" y="1488"/>
                    </a:lnTo>
                    <a:lnTo>
                      <a:pt x="1308" y="1494"/>
                    </a:lnTo>
                    <a:lnTo>
                      <a:pt x="1302" y="1506"/>
                    </a:lnTo>
                    <a:lnTo>
                      <a:pt x="1296" y="1512"/>
                    </a:lnTo>
                    <a:lnTo>
                      <a:pt x="1290" y="1518"/>
                    </a:lnTo>
                    <a:lnTo>
                      <a:pt x="1278" y="1530"/>
                    </a:lnTo>
                    <a:lnTo>
                      <a:pt x="1272" y="1536"/>
                    </a:lnTo>
                    <a:lnTo>
                      <a:pt x="1272" y="1542"/>
                    </a:lnTo>
                    <a:lnTo>
                      <a:pt x="1278" y="1542"/>
                    </a:lnTo>
                    <a:lnTo>
                      <a:pt x="1284" y="1548"/>
                    </a:lnTo>
                    <a:lnTo>
                      <a:pt x="1284" y="1554"/>
                    </a:lnTo>
                    <a:lnTo>
                      <a:pt x="1290" y="1554"/>
                    </a:lnTo>
                    <a:lnTo>
                      <a:pt x="1296" y="1554"/>
                    </a:lnTo>
                    <a:lnTo>
                      <a:pt x="1308" y="1554"/>
                    </a:lnTo>
                    <a:lnTo>
                      <a:pt x="1320" y="1554"/>
                    </a:lnTo>
                    <a:lnTo>
                      <a:pt x="1332" y="1548"/>
                    </a:lnTo>
                    <a:lnTo>
                      <a:pt x="1344" y="1542"/>
                    </a:lnTo>
                    <a:lnTo>
                      <a:pt x="1350" y="1536"/>
                    </a:lnTo>
                    <a:lnTo>
                      <a:pt x="1362" y="1530"/>
                    </a:lnTo>
                    <a:lnTo>
                      <a:pt x="1362" y="1542"/>
                    </a:lnTo>
                    <a:lnTo>
                      <a:pt x="1356" y="1554"/>
                    </a:lnTo>
                    <a:lnTo>
                      <a:pt x="1350" y="1566"/>
                    </a:lnTo>
                    <a:lnTo>
                      <a:pt x="1338" y="1572"/>
                    </a:lnTo>
                    <a:lnTo>
                      <a:pt x="1332" y="1584"/>
                    </a:lnTo>
                    <a:lnTo>
                      <a:pt x="1326" y="1596"/>
                    </a:lnTo>
                    <a:lnTo>
                      <a:pt x="1338" y="1602"/>
                    </a:lnTo>
                    <a:lnTo>
                      <a:pt x="1350" y="1608"/>
                    </a:lnTo>
                    <a:lnTo>
                      <a:pt x="1362" y="1608"/>
                    </a:lnTo>
                    <a:lnTo>
                      <a:pt x="1380" y="1602"/>
                    </a:lnTo>
                    <a:lnTo>
                      <a:pt x="1392" y="1602"/>
                    </a:lnTo>
                    <a:lnTo>
                      <a:pt x="1404" y="1602"/>
                    </a:lnTo>
                    <a:lnTo>
                      <a:pt x="1416" y="1602"/>
                    </a:lnTo>
                    <a:lnTo>
                      <a:pt x="1428" y="1596"/>
                    </a:lnTo>
                    <a:lnTo>
                      <a:pt x="1434" y="1590"/>
                    </a:lnTo>
                    <a:lnTo>
                      <a:pt x="1446" y="1584"/>
                    </a:lnTo>
                    <a:lnTo>
                      <a:pt x="1452" y="1578"/>
                    </a:lnTo>
                    <a:lnTo>
                      <a:pt x="1458" y="1566"/>
                    </a:lnTo>
                    <a:lnTo>
                      <a:pt x="1458" y="1584"/>
                    </a:lnTo>
                    <a:lnTo>
                      <a:pt x="1458" y="1602"/>
                    </a:lnTo>
                    <a:lnTo>
                      <a:pt x="1452" y="1620"/>
                    </a:lnTo>
                    <a:lnTo>
                      <a:pt x="1440" y="1638"/>
                    </a:lnTo>
                    <a:lnTo>
                      <a:pt x="1428" y="1650"/>
                    </a:lnTo>
                    <a:lnTo>
                      <a:pt x="1416" y="1668"/>
                    </a:lnTo>
                    <a:lnTo>
                      <a:pt x="1410" y="1674"/>
                    </a:lnTo>
                    <a:lnTo>
                      <a:pt x="1416" y="1686"/>
                    </a:lnTo>
                    <a:lnTo>
                      <a:pt x="1416" y="1692"/>
                    </a:lnTo>
                    <a:lnTo>
                      <a:pt x="1422" y="1698"/>
                    </a:lnTo>
                    <a:lnTo>
                      <a:pt x="1428" y="1704"/>
                    </a:lnTo>
                    <a:lnTo>
                      <a:pt x="1434" y="1716"/>
                    </a:lnTo>
                    <a:lnTo>
                      <a:pt x="1440" y="1716"/>
                    </a:lnTo>
                    <a:lnTo>
                      <a:pt x="1446" y="1722"/>
                    </a:lnTo>
                    <a:lnTo>
                      <a:pt x="1452" y="1722"/>
                    </a:lnTo>
                    <a:lnTo>
                      <a:pt x="1458" y="1722"/>
                    </a:lnTo>
                    <a:lnTo>
                      <a:pt x="1464" y="1722"/>
                    </a:lnTo>
                    <a:lnTo>
                      <a:pt x="1464" y="1728"/>
                    </a:lnTo>
                    <a:lnTo>
                      <a:pt x="1458" y="1734"/>
                    </a:lnTo>
                    <a:lnTo>
                      <a:pt x="1452" y="1740"/>
                    </a:lnTo>
                    <a:lnTo>
                      <a:pt x="1434" y="1746"/>
                    </a:lnTo>
                    <a:lnTo>
                      <a:pt x="1416" y="1746"/>
                    </a:lnTo>
                    <a:lnTo>
                      <a:pt x="1398" y="1740"/>
                    </a:lnTo>
                    <a:lnTo>
                      <a:pt x="1380" y="1734"/>
                    </a:lnTo>
                    <a:lnTo>
                      <a:pt x="1368" y="1740"/>
                    </a:lnTo>
                    <a:lnTo>
                      <a:pt x="1362" y="1758"/>
                    </a:lnTo>
                    <a:lnTo>
                      <a:pt x="1368" y="1776"/>
                    </a:lnTo>
                    <a:lnTo>
                      <a:pt x="1368" y="1788"/>
                    </a:lnTo>
                    <a:lnTo>
                      <a:pt x="1374" y="1806"/>
                    </a:lnTo>
                    <a:lnTo>
                      <a:pt x="1380" y="1818"/>
                    </a:lnTo>
                    <a:lnTo>
                      <a:pt x="1392" y="1836"/>
                    </a:lnTo>
                    <a:lnTo>
                      <a:pt x="1398" y="1848"/>
                    </a:lnTo>
                    <a:lnTo>
                      <a:pt x="1398" y="1854"/>
                    </a:lnTo>
                    <a:lnTo>
                      <a:pt x="1398" y="1860"/>
                    </a:lnTo>
                    <a:lnTo>
                      <a:pt x="1392" y="1866"/>
                    </a:lnTo>
                    <a:lnTo>
                      <a:pt x="1386" y="1872"/>
                    </a:lnTo>
                    <a:lnTo>
                      <a:pt x="1380" y="1872"/>
                    </a:lnTo>
                    <a:lnTo>
                      <a:pt x="1368" y="1872"/>
                    </a:lnTo>
                    <a:lnTo>
                      <a:pt x="1356" y="1872"/>
                    </a:lnTo>
                    <a:lnTo>
                      <a:pt x="1350" y="1872"/>
                    </a:lnTo>
                    <a:lnTo>
                      <a:pt x="1344" y="1872"/>
                    </a:lnTo>
                    <a:lnTo>
                      <a:pt x="1338" y="1884"/>
                    </a:lnTo>
                    <a:lnTo>
                      <a:pt x="1344" y="1884"/>
                    </a:lnTo>
                    <a:lnTo>
                      <a:pt x="1344" y="1890"/>
                    </a:lnTo>
                    <a:lnTo>
                      <a:pt x="1350" y="1896"/>
                    </a:lnTo>
                    <a:lnTo>
                      <a:pt x="1356" y="1902"/>
                    </a:lnTo>
                    <a:lnTo>
                      <a:pt x="1362" y="1908"/>
                    </a:lnTo>
                    <a:lnTo>
                      <a:pt x="1368" y="1914"/>
                    </a:lnTo>
                    <a:lnTo>
                      <a:pt x="1356" y="1920"/>
                    </a:lnTo>
                    <a:lnTo>
                      <a:pt x="1350" y="1926"/>
                    </a:lnTo>
                    <a:lnTo>
                      <a:pt x="1338" y="1926"/>
                    </a:lnTo>
                    <a:lnTo>
                      <a:pt x="1326" y="1926"/>
                    </a:lnTo>
                    <a:lnTo>
                      <a:pt x="1314" y="1926"/>
                    </a:lnTo>
                    <a:lnTo>
                      <a:pt x="1302" y="1920"/>
                    </a:lnTo>
                    <a:lnTo>
                      <a:pt x="1302" y="1926"/>
                    </a:lnTo>
                    <a:lnTo>
                      <a:pt x="1302" y="1932"/>
                    </a:lnTo>
                    <a:lnTo>
                      <a:pt x="1302" y="1938"/>
                    </a:lnTo>
                    <a:lnTo>
                      <a:pt x="1308" y="1944"/>
                    </a:lnTo>
                    <a:lnTo>
                      <a:pt x="1314" y="1950"/>
                    </a:lnTo>
                    <a:lnTo>
                      <a:pt x="1320" y="1950"/>
                    </a:lnTo>
                    <a:lnTo>
                      <a:pt x="1326" y="1956"/>
                    </a:lnTo>
                    <a:lnTo>
                      <a:pt x="1332" y="1962"/>
                    </a:lnTo>
                    <a:lnTo>
                      <a:pt x="1332" y="1968"/>
                    </a:lnTo>
                    <a:lnTo>
                      <a:pt x="1320" y="1968"/>
                    </a:lnTo>
                    <a:lnTo>
                      <a:pt x="1308" y="1968"/>
                    </a:lnTo>
                    <a:lnTo>
                      <a:pt x="1296" y="1962"/>
                    </a:lnTo>
                    <a:lnTo>
                      <a:pt x="1284" y="1962"/>
                    </a:lnTo>
                    <a:lnTo>
                      <a:pt x="1278" y="1956"/>
                    </a:lnTo>
                    <a:lnTo>
                      <a:pt x="1266" y="1950"/>
                    </a:lnTo>
                    <a:lnTo>
                      <a:pt x="1260" y="1956"/>
                    </a:lnTo>
                    <a:lnTo>
                      <a:pt x="1260" y="1962"/>
                    </a:lnTo>
                    <a:lnTo>
                      <a:pt x="1266" y="1968"/>
                    </a:lnTo>
                    <a:lnTo>
                      <a:pt x="1266" y="1980"/>
                    </a:lnTo>
                    <a:lnTo>
                      <a:pt x="1266" y="1986"/>
                    </a:lnTo>
                    <a:lnTo>
                      <a:pt x="1260" y="1998"/>
                    </a:lnTo>
                    <a:lnTo>
                      <a:pt x="1248" y="2004"/>
                    </a:lnTo>
                    <a:lnTo>
                      <a:pt x="1236" y="2010"/>
                    </a:lnTo>
                    <a:lnTo>
                      <a:pt x="1224" y="2004"/>
                    </a:lnTo>
                    <a:lnTo>
                      <a:pt x="1218" y="1992"/>
                    </a:lnTo>
                    <a:lnTo>
                      <a:pt x="1206" y="1986"/>
                    </a:lnTo>
                    <a:lnTo>
                      <a:pt x="1188" y="1986"/>
                    </a:lnTo>
                    <a:lnTo>
                      <a:pt x="1182" y="1998"/>
                    </a:lnTo>
                    <a:lnTo>
                      <a:pt x="1182" y="2004"/>
                    </a:lnTo>
                    <a:lnTo>
                      <a:pt x="1182" y="2016"/>
                    </a:lnTo>
                    <a:lnTo>
                      <a:pt x="1188" y="2028"/>
                    </a:lnTo>
                    <a:lnTo>
                      <a:pt x="1194" y="2034"/>
                    </a:lnTo>
                    <a:lnTo>
                      <a:pt x="1200" y="2046"/>
                    </a:lnTo>
                    <a:lnTo>
                      <a:pt x="1194" y="2058"/>
                    </a:lnTo>
                    <a:lnTo>
                      <a:pt x="1188" y="2058"/>
                    </a:lnTo>
                    <a:lnTo>
                      <a:pt x="1182" y="2064"/>
                    </a:lnTo>
                    <a:lnTo>
                      <a:pt x="1170" y="2064"/>
                    </a:lnTo>
                    <a:lnTo>
                      <a:pt x="1158" y="2064"/>
                    </a:lnTo>
                    <a:lnTo>
                      <a:pt x="1152" y="2064"/>
                    </a:lnTo>
                    <a:lnTo>
                      <a:pt x="1146" y="2058"/>
                    </a:lnTo>
                    <a:lnTo>
                      <a:pt x="1140" y="2058"/>
                    </a:lnTo>
                    <a:lnTo>
                      <a:pt x="1134" y="2052"/>
                    </a:lnTo>
                    <a:lnTo>
                      <a:pt x="1128" y="2046"/>
                    </a:lnTo>
                    <a:lnTo>
                      <a:pt x="1122" y="2046"/>
                    </a:lnTo>
                    <a:lnTo>
                      <a:pt x="1116" y="2040"/>
                    </a:lnTo>
                    <a:lnTo>
                      <a:pt x="1122" y="2028"/>
                    </a:lnTo>
                    <a:lnTo>
                      <a:pt x="1122" y="2022"/>
                    </a:lnTo>
                    <a:lnTo>
                      <a:pt x="1128" y="2016"/>
                    </a:lnTo>
                    <a:lnTo>
                      <a:pt x="1134" y="2010"/>
                    </a:lnTo>
                    <a:lnTo>
                      <a:pt x="1140" y="2004"/>
                    </a:lnTo>
                    <a:lnTo>
                      <a:pt x="1146" y="1998"/>
                    </a:lnTo>
                    <a:lnTo>
                      <a:pt x="1152" y="1992"/>
                    </a:lnTo>
                    <a:lnTo>
                      <a:pt x="1158" y="1986"/>
                    </a:lnTo>
                    <a:lnTo>
                      <a:pt x="1164" y="1980"/>
                    </a:lnTo>
                    <a:lnTo>
                      <a:pt x="1170" y="1974"/>
                    </a:lnTo>
                    <a:lnTo>
                      <a:pt x="1176" y="1968"/>
                    </a:lnTo>
                    <a:lnTo>
                      <a:pt x="1182" y="1968"/>
                    </a:lnTo>
                    <a:lnTo>
                      <a:pt x="1182" y="1962"/>
                    </a:lnTo>
                    <a:lnTo>
                      <a:pt x="1182" y="1956"/>
                    </a:lnTo>
                    <a:lnTo>
                      <a:pt x="1176" y="1956"/>
                    </a:lnTo>
                    <a:lnTo>
                      <a:pt x="1170" y="1956"/>
                    </a:lnTo>
                    <a:lnTo>
                      <a:pt x="1164" y="1956"/>
                    </a:lnTo>
                    <a:lnTo>
                      <a:pt x="1164" y="1962"/>
                    </a:lnTo>
                    <a:lnTo>
                      <a:pt x="1164" y="1968"/>
                    </a:lnTo>
                    <a:lnTo>
                      <a:pt x="1158" y="1968"/>
                    </a:lnTo>
                    <a:lnTo>
                      <a:pt x="1146" y="1980"/>
                    </a:lnTo>
                    <a:lnTo>
                      <a:pt x="1128" y="1986"/>
                    </a:lnTo>
                    <a:lnTo>
                      <a:pt x="1116" y="1998"/>
                    </a:lnTo>
                    <a:lnTo>
                      <a:pt x="1098" y="2010"/>
                    </a:lnTo>
                    <a:lnTo>
                      <a:pt x="1086" y="2022"/>
                    </a:lnTo>
                    <a:lnTo>
                      <a:pt x="1074" y="2040"/>
                    </a:lnTo>
                    <a:lnTo>
                      <a:pt x="1074" y="2046"/>
                    </a:lnTo>
                    <a:lnTo>
                      <a:pt x="1068" y="2046"/>
                    </a:lnTo>
                    <a:lnTo>
                      <a:pt x="1062" y="2052"/>
                    </a:lnTo>
                    <a:lnTo>
                      <a:pt x="1056" y="2052"/>
                    </a:lnTo>
                    <a:lnTo>
                      <a:pt x="1050" y="2052"/>
                    </a:lnTo>
                    <a:lnTo>
                      <a:pt x="1050" y="2046"/>
                    </a:lnTo>
                    <a:lnTo>
                      <a:pt x="1044" y="2046"/>
                    </a:lnTo>
                    <a:lnTo>
                      <a:pt x="1038" y="2046"/>
                    </a:lnTo>
                    <a:lnTo>
                      <a:pt x="1038" y="2040"/>
                    </a:lnTo>
                    <a:lnTo>
                      <a:pt x="1032" y="2040"/>
                    </a:lnTo>
                    <a:lnTo>
                      <a:pt x="1032" y="2034"/>
                    </a:lnTo>
                    <a:lnTo>
                      <a:pt x="1026" y="2034"/>
                    </a:lnTo>
                    <a:lnTo>
                      <a:pt x="1032" y="2028"/>
                    </a:lnTo>
                    <a:lnTo>
                      <a:pt x="1038" y="2022"/>
                    </a:lnTo>
                    <a:lnTo>
                      <a:pt x="1038" y="2016"/>
                    </a:lnTo>
                    <a:lnTo>
                      <a:pt x="1038" y="2010"/>
                    </a:lnTo>
                    <a:lnTo>
                      <a:pt x="1032" y="2004"/>
                    </a:lnTo>
                    <a:lnTo>
                      <a:pt x="1032" y="1998"/>
                    </a:lnTo>
                    <a:lnTo>
                      <a:pt x="1026" y="1992"/>
                    </a:lnTo>
                    <a:lnTo>
                      <a:pt x="1020" y="1992"/>
                    </a:lnTo>
                    <a:lnTo>
                      <a:pt x="1014" y="1992"/>
                    </a:lnTo>
                    <a:lnTo>
                      <a:pt x="1008" y="1986"/>
                    </a:lnTo>
                    <a:lnTo>
                      <a:pt x="1002" y="1986"/>
                    </a:lnTo>
                    <a:lnTo>
                      <a:pt x="996" y="1986"/>
                    </a:lnTo>
                    <a:lnTo>
                      <a:pt x="1008" y="1986"/>
                    </a:lnTo>
                    <a:lnTo>
                      <a:pt x="1020" y="1986"/>
                    </a:lnTo>
                    <a:lnTo>
                      <a:pt x="1032" y="1980"/>
                    </a:lnTo>
                    <a:lnTo>
                      <a:pt x="1044" y="1974"/>
                    </a:lnTo>
                    <a:lnTo>
                      <a:pt x="1056" y="1974"/>
                    </a:lnTo>
                    <a:lnTo>
                      <a:pt x="1074" y="1968"/>
                    </a:lnTo>
                    <a:lnTo>
                      <a:pt x="1092" y="1968"/>
                    </a:lnTo>
                    <a:lnTo>
                      <a:pt x="1116" y="1962"/>
                    </a:lnTo>
                    <a:lnTo>
                      <a:pt x="1134" y="1950"/>
                    </a:lnTo>
                    <a:lnTo>
                      <a:pt x="1146" y="1938"/>
                    </a:lnTo>
                    <a:lnTo>
                      <a:pt x="1164" y="1920"/>
                    </a:lnTo>
                    <a:lnTo>
                      <a:pt x="1176" y="1908"/>
                    </a:lnTo>
                    <a:lnTo>
                      <a:pt x="1188" y="1884"/>
                    </a:lnTo>
                    <a:lnTo>
                      <a:pt x="1194" y="1860"/>
                    </a:lnTo>
                    <a:lnTo>
                      <a:pt x="1200" y="1830"/>
                    </a:lnTo>
                    <a:lnTo>
                      <a:pt x="1200" y="1806"/>
                    </a:lnTo>
                    <a:lnTo>
                      <a:pt x="1200" y="1782"/>
                    </a:lnTo>
                    <a:lnTo>
                      <a:pt x="1188" y="1758"/>
                    </a:lnTo>
                    <a:lnTo>
                      <a:pt x="1176" y="1746"/>
                    </a:lnTo>
                    <a:lnTo>
                      <a:pt x="1164" y="1746"/>
                    </a:lnTo>
                    <a:lnTo>
                      <a:pt x="1152" y="1740"/>
                    </a:lnTo>
                    <a:lnTo>
                      <a:pt x="1140" y="1734"/>
                    </a:lnTo>
                    <a:lnTo>
                      <a:pt x="1128" y="1728"/>
                    </a:lnTo>
                    <a:lnTo>
                      <a:pt x="1116" y="1716"/>
                    </a:lnTo>
                    <a:lnTo>
                      <a:pt x="1068" y="1698"/>
                    </a:lnTo>
                    <a:lnTo>
                      <a:pt x="1032" y="1668"/>
                    </a:lnTo>
                    <a:lnTo>
                      <a:pt x="996" y="1632"/>
                    </a:lnTo>
                    <a:lnTo>
                      <a:pt x="966" y="1590"/>
                    </a:lnTo>
                    <a:lnTo>
                      <a:pt x="948" y="1542"/>
                    </a:lnTo>
                    <a:lnTo>
                      <a:pt x="936" y="1500"/>
                    </a:lnTo>
                    <a:lnTo>
                      <a:pt x="936" y="1488"/>
                    </a:lnTo>
                    <a:lnTo>
                      <a:pt x="930" y="1482"/>
                    </a:lnTo>
                    <a:lnTo>
                      <a:pt x="930" y="1470"/>
                    </a:lnTo>
                    <a:lnTo>
                      <a:pt x="930" y="1464"/>
                    </a:lnTo>
                    <a:lnTo>
                      <a:pt x="930" y="1452"/>
                    </a:lnTo>
                    <a:lnTo>
                      <a:pt x="930" y="1446"/>
                    </a:lnTo>
                    <a:lnTo>
                      <a:pt x="930" y="1422"/>
                    </a:lnTo>
                    <a:lnTo>
                      <a:pt x="930" y="1398"/>
                    </a:lnTo>
                    <a:lnTo>
                      <a:pt x="924" y="1368"/>
                    </a:lnTo>
                    <a:lnTo>
                      <a:pt x="924" y="1344"/>
                    </a:lnTo>
                    <a:lnTo>
                      <a:pt x="924" y="1320"/>
                    </a:lnTo>
                    <a:lnTo>
                      <a:pt x="930" y="1296"/>
                    </a:lnTo>
                    <a:lnTo>
                      <a:pt x="930" y="1272"/>
                    </a:lnTo>
                    <a:lnTo>
                      <a:pt x="936" y="1248"/>
                    </a:lnTo>
                    <a:lnTo>
                      <a:pt x="942" y="1224"/>
                    </a:lnTo>
                    <a:lnTo>
                      <a:pt x="942" y="1200"/>
                    </a:lnTo>
                    <a:lnTo>
                      <a:pt x="942" y="1176"/>
                    </a:lnTo>
                    <a:lnTo>
                      <a:pt x="930" y="1152"/>
                    </a:lnTo>
                    <a:lnTo>
                      <a:pt x="930" y="1146"/>
                    </a:lnTo>
                    <a:lnTo>
                      <a:pt x="924" y="1140"/>
                    </a:lnTo>
                    <a:lnTo>
                      <a:pt x="924" y="1134"/>
                    </a:lnTo>
                    <a:lnTo>
                      <a:pt x="918" y="1128"/>
                    </a:lnTo>
                    <a:lnTo>
                      <a:pt x="918" y="1122"/>
                    </a:lnTo>
                    <a:lnTo>
                      <a:pt x="918" y="1116"/>
                    </a:lnTo>
                    <a:lnTo>
                      <a:pt x="912" y="1116"/>
                    </a:lnTo>
                    <a:lnTo>
                      <a:pt x="906" y="1116"/>
                    </a:lnTo>
                    <a:lnTo>
                      <a:pt x="906" y="1122"/>
                    </a:lnTo>
                    <a:lnTo>
                      <a:pt x="906" y="1128"/>
                    </a:lnTo>
                    <a:lnTo>
                      <a:pt x="906" y="1134"/>
                    </a:lnTo>
                    <a:lnTo>
                      <a:pt x="912" y="1140"/>
                    </a:lnTo>
                    <a:lnTo>
                      <a:pt x="912" y="1146"/>
                    </a:lnTo>
                    <a:lnTo>
                      <a:pt x="918" y="1152"/>
                    </a:lnTo>
                    <a:lnTo>
                      <a:pt x="924" y="1170"/>
                    </a:lnTo>
                    <a:lnTo>
                      <a:pt x="930" y="1194"/>
                    </a:lnTo>
                    <a:lnTo>
                      <a:pt x="930" y="1218"/>
                    </a:lnTo>
                    <a:lnTo>
                      <a:pt x="924" y="1236"/>
                    </a:lnTo>
                    <a:lnTo>
                      <a:pt x="924" y="1260"/>
                    </a:lnTo>
                    <a:lnTo>
                      <a:pt x="918" y="1284"/>
                    </a:lnTo>
                    <a:lnTo>
                      <a:pt x="918" y="1302"/>
                    </a:lnTo>
                    <a:lnTo>
                      <a:pt x="912" y="1284"/>
                    </a:lnTo>
                    <a:lnTo>
                      <a:pt x="906" y="1260"/>
                    </a:lnTo>
                    <a:lnTo>
                      <a:pt x="894" y="1242"/>
                    </a:lnTo>
                    <a:lnTo>
                      <a:pt x="882" y="1224"/>
                    </a:lnTo>
                    <a:lnTo>
                      <a:pt x="870" y="1206"/>
                    </a:lnTo>
                    <a:lnTo>
                      <a:pt x="852" y="1194"/>
                    </a:lnTo>
                    <a:lnTo>
                      <a:pt x="858" y="1194"/>
                    </a:lnTo>
                    <a:lnTo>
                      <a:pt x="864" y="1188"/>
                    </a:lnTo>
                    <a:lnTo>
                      <a:pt x="870" y="1188"/>
                    </a:lnTo>
                    <a:lnTo>
                      <a:pt x="876" y="1182"/>
                    </a:lnTo>
                    <a:lnTo>
                      <a:pt x="888" y="1176"/>
                    </a:lnTo>
                    <a:lnTo>
                      <a:pt x="894" y="1170"/>
                    </a:lnTo>
                    <a:lnTo>
                      <a:pt x="888" y="1164"/>
                    </a:lnTo>
                    <a:lnTo>
                      <a:pt x="888" y="1158"/>
                    </a:lnTo>
                    <a:lnTo>
                      <a:pt x="882" y="1152"/>
                    </a:lnTo>
                    <a:lnTo>
                      <a:pt x="870" y="1146"/>
                    </a:lnTo>
                    <a:lnTo>
                      <a:pt x="864" y="1140"/>
                    </a:lnTo>
                    <a:lnTo>
                      <a:pt x="858" y="1134"/>
                    </a:lnTo>
                    <a:lnTo>
                      <a:pt x="852" y="1128"/>
                    </a:lnTo>
                    <a:lnTo>
                      <a:pt x="846" y="1116"/>
                    </a:lnTo>
                    <a:lnTo>
                      <a:pt x="840" y="1110"/>
                    </a:lnTo>
                    <a:lnTo>
                      <a:pt x="834" y="1104"/>
                    </a:lnTo>
                    <a:lnTo>
                      <a:pt x="822" y="1098"/>
                    </a:lnTo>
                    <a:lnTo>
                      <a:pt x="816" y="1098"/>
                    </a:lnTo>
                    <a:lnTo>
                      <a:pt x="804" y="1104"/>
                    </a:lnTo>
                    <a:lnTo>
                      <a:pt x="798" y="1104"/>
                    </a:lnTo>
                    <a:lnTo>
                      <a:pt x="792" y="1110"/>
                    </a:lnTo>
                    <a:lnTo>
                      <a:pt x="780" y="1110"/>
                    </a:lnTo>
                    <a:lnTo>
                      <a:pt x="774" y="1116"/>
                    </a:lnTo>
                    <a:lnTo>
                      <a:pt x="768" y="1122"/>
                    </a:lnTo>
                    <a:lnTo>
                      <a:pt x="762" y="1110"/>
                    </a:lnTo>
                    <a:lnTo>
                      <a:pt x="756" y="1098"/>
                    </a:lnTo>
                    <a:lnTo>
                      <a:pt x="756" y="1086"/>
                    </a:lnTo>
                    <a:lnTo>
                      <a:pt x="750" y="1074"/>
                    </a:lnTo>
                    <a:lnTo>
                      <a:pt x="750" y="1062"/>
                    </a:lnTo>
                    <a:lnTo>
                      <a:pt x="744" y="1050"/>
                    </a:lnTo>
                    <a:lnTo>
                      <a:pt x="738" y="1044"/>
                    </a:lnTo>
                    <a:lnTo>
                      <a:pt x="732" y="1050"/>
                    </a:lnTo>
                    <a:lnTo>
                      <a:pt x="732" y="1056"/>
                    </a:lnTo>
                    <a:lnTo>
                      <a:pt x="726" y="1056"/>
                    </a:lnTo>
                    <a:lnTo>
                      <a:pt x="720" y="1062"/>
                    </a:lnTo>
                    <a:lnTo>
                      <a:pt x="720" y="1068"/>
                    </a:lnTo>
                    <a:lnTo>
                      <a:pt x="696" y="1086"/>
                    </a:lnTo>
                    <a:lnTo>
                      <a:pt x="702" y="1062"/>
                    </a:lnTo>
                    <a:lnTo>
                      <a:pt x="696" y="1044"/>
                    </a:lnTo>
                    <a:lnTo>
                      <a:pt x="690" y="1026"/>
                    </a:lnTo>
                    <a:lnTo>
                      <a:pt x="684" y="1008"/>
                    </a:lnTo>
                    <a:lnTo>
                      <a:pt x="672" y="990"/>
                    </a:lnTo>
                    <a:lnTo>
                      <a:pt x="666" y="972"/>
                    </a:lnTo>
                    <a:lnTo>
                      <a:pt x="660" y="972"/>
                    </a:lnTo>
                    <a:lnTo>
                      <a:pt x="654" y="978"/>
                    </a:lnTo>
                    <a:lnTo>
                      <a:pt x="654" y="984"/>
                    </a:lnTo>
                    <a:lnTo>
                      <a:pt x="648" y="990"/>
                    </a:lnTo>
                    <a:lnTo>
                      <a:pt x="648" y="996"/>
                    </a:lnTo>
                    <a:lnTo>
                      <a:pt x="648" y="1008"/>
                    </a:lnTo>
                    <a:lnTo>
                      <a:pt x="642" y="1014"/>
                    </a:lnTo>
                    <a:lnTo>
                      <a:pt x="642" y="1020"/>
                    </a:lnTo>
                    <a:lnTo>
                      <a:pt x="642" y="1026"/>
                    </a:lnTo>
                    <a:lnTo>
                      <a:pt x="630" y="1020"/>
                    </a:lnTo>
                    <a:lnTo>
                      <a:pt x="624" y="1002"/>
                    </a:lnTo>
                    <a:lnTo>
                      <a:pt x="624" y="990"/>
                    </a:lnTo>
                    <a:lnTo>
                      <a:pt x="618" y="978"/>
                    </a:lnTo>
                    <a:lnTo>
                      <a:pt x="612" y="960"/>
                    </a:lnTo>
                    <a:lnTo>
                      <a:pt x="606" y="948"/>
                    </a:lnTo>
                    <a:lnTo>
                      <a:pt x="600" y="954"/>
                    </a:lnTo>
                    <a:lnTo>
                      <a:pt x="594" y="954"/>
                    </a:lnTo>
                    <a:lnTo>
                      <a:pt x="594" y="960"/>
                    </a:lnTo>
                    <a:lnTo>
                      <a:pt x="594" y="966"/>
                    </a:lnTo>
                    <a:lnTo>
                      <a:pt x="588" y="972"/>
                    </a:lnTo>
                    <a:lnTo>
                      <a:pt x="588" y="978"/>
                    </a:lnTo>
                    <a:lnTo>
                      <a:pt x="582" y="984"/>
                    </a:lnTo>
                    <a:lnTo>
                      <a:pt x="582" y="990"/>
                    </a:lnTo>
                    <a:lnTo>
                      <a:pt x="582" y="996"/>
                    </a:lnTo>
                    <a:lnTo>
                      <a:pt x="582" y="1002"/>
                    </a:lnTo>
                    <a:lnTo>
                      <a:pt x="582" y="1008"/>
                    </a:lnTo>
                    <a:lnTo>
                      <a:pt x="576" y="1008"/>
                    </a:lnTo>
                    <a:lnTo>
                      <a:pt x="576" y="1002"/>
                    </a:lnTo>
                    <a:lnTo>
                      <a:pt x="570" y="1002"/>
                    </a:lnTo>
                    <a:lnTo>
                      <a:pt x="564" y="996"/>
                    </a:lnTo>
                    <a:lnTo>
                      <a:pt x="564" y="990"/>
                    </a:lnTo>
                    <a:lnTo>
                      <a:pt x="558" y="984"/>
                    </a:lnTo>
                    <a:lnTo>
                      <a:pt x="552" y="978"/>
                    </a:lnTo>
                    <a:lnTo>
                      <a:pt x="546" y="972"/>
                    </a:lnTo>
                    <a:lnTo>
                      <a:pt x="540" y="960"/>
                    </a:lnTo>
                    <a:lnTo>
                      <a:pt x="534" y="954"/>
                    </a:lnTo>
                    <a:lnTo>
                      <a:pt x="534" y="948"/>
                    </a:lnTo>
                    <a:lnTo>
                      <a:pt x="534" y="936"/>
                    </a:lnTo>
                    <a:lnTo>
                      <a:pt x="528" y="930"/>
                    </a:lnTo>
                    <a:lnTo>
                      <a:pt x="528" y="924"/>
                    </a:lnTo>
                    <a:lnTo>
                      <a:pt x="522" y="918"/>
                    </a:lnTo>
                    <a:lnTo>
                      <a:pt x="516" y="912"/>
                    </a:lnTo>
                    <a:lnTo>
                      <a:pt x="510" y="924"/>
                    </a:lnTo>
                    <a:lnTo>
                      <a:pt x="504" y="936"/>
                    </a:lnTo>
                    <a:lnTo>
                      <a:pt x="498" y="948"/>
                    </a:lnTo>
                    <a:lnTo>
                      <a:pt x="492" y="966"/>
                    </a:lnTo>
                    <a:lnTo>
                      <a:pt x="492" y="978"/>
                    </a:lnTo>
                    <a:lnTo>
                      <a:pt x="492" y="990"/>
                    </a:lnTo>
                    <a:lnTo>
                      <a:pt x="474" y="978"/>
                    </a:lnTo>
                    <a:lnTo>
                      <a:pt x="462" y="954"/>
                    </a:lnTo>
                    <a:lnTo>
                      <a:pt x="462" y="936"/>
                    </a:lnTo>
                    <a:lnTo>
                      <a:pt x="456" y="912"/>
                    </a:lnTo>
                    <a:lnTo>
                      <a:pt x="456" y="888"/>
                    </a:lnTo>
                    <a:lnTo>
                      <a:pt x="444" y="864"/>
                    </a:lnTo>
                    <a:lnTo>
                      <a:pt x="438" y="870"/>
                    </a:lnTo>
                    <a:lnTo>
                      <a:pt x="432" y="876"/>
                    </a:lnTo>
                    <a:lnTo>
                      <a:pt x="426" y="882"/>
                    </a:lnTo>
                    <a:lnTo>
                      <a:pt x="420" y="888"/>
                    </a:lnTo>
                    <a:lnTo>
                      <a:pt x="414" y="888"/>
                    </a:lnTo>
                    <a:lnTo>
                      <a:pt x="408" y="888"/>
                    </a:lnTo>
                    <a:lnTo>
                      <a:pt x="402" y="894"/>
                    </a:lnTo>
                    <a:lnTo>
                      <a:pt x="402" y="900"/>
                    </a:lnTo>
                    <a:lnTo>
                      <a:pt x="396" y="906"/>
                    </a:lnTo>
                    <a:lnTo>
                      <a:pt x="390" y="912"/>
                    </a:lnTo>
                    <a:lnTo>
                      <a:pt x="384" y="918"/>
                    </a:lnTo>
                    <a:lnTo>
                      <a:pt x="390" y="906"/>
                    </a:lnTo>
                    <a:lnTo>
                      <a:pt x="384" y="894"/>
                    </a:lnTo>
                    <a:lnTo>
                      <a:pt x="384" y="888"/>
                    </a:lnTo>
                    <a:lnTo>
                      <a:pt x="384" y="876"/>
                    </a:lnTo>
                    <a:lnTo>
                      <a:pt x="384" y="864"/>
                    </a:lnTo>
                    <a:lnTo>
                      <a:pt x="378" y="852"/>
                    </a:lnTo>
                    <a:lnTo>
                      <a:pt x="372" y="852"/>
                    </a:lnTo>
                    <a:lnTo>
                      <a:pt x="366" y="852"/>
                    </a:lnTo>
                    <a:lnTo>
                      <a:pt x="360" y="858"/>
                    </a:lnTo>
                    <a:lnTo>
                      <a:pt x="354" y="870"/>
                    </a:lnTo>
                    <a:lnTo>
                      <a:pt x="342" y="876"/>
                    </a:lnTo>
                    <a:lnTo>
                      <a:pt x="336" y="888"/>
                    </a:lnTo>
                    <a:lnTo>
                      <a:pt x="330" y="894"/>
                    </a:lnTo>
                    <a:lnTo>
                      <a:pt x="318" y="900"/>
                    </a:lnTo>
                    <a:lnTo>
                      <a:pt x="300" y="900"/>
                    </a:lnTo>
                    <a:lnTo>
                      <a:pt x="300" y="894"/>
                    </a:lnTo>
                    <a:lnTo>
                      <a:pt x="306" y="894"/>
                    </a:lnTo>
                    <a:lnTo>
                      <a:pt x="312" y="888"/>
                    </a:lnTo>
                    <a:lnTo>
                      <a:pt x="318" y="888"/>
                    </a:lnTo>
                    <a:lnTo>
                      <a:pt x="318" y="882"/>
                    </a:lnTo>
                    <a:lnTo>
                      <a:pt x="318" y="876"/>
                    </a:lnTo>
                    <a:lnTo>
                      <a:pt x="318" y="864"/>
                    </a:lnTo>
                    <a:lnTo>
                      <a:pt x="312" y="852"/>
                    </a:lnTo>
                    <a:lnTo>
                      <a:pt x="312" y="840"/>
                    </a:lnTo>
                    <a:lnTo>
                      <a:pt x="312" y="828"/>
                    </a:lnTo>
                    <a:lnTo>
                      <a:pt x="312" y="816"/>
                    </a:lnTo>
                    <a:lnTo>
                      <a:pt x="318" y="810"/>
                    </a:lnTo>
                    <a:lnTo>
                      <a:pt x="324" y="798"/>
                    </a:lnTo>
                    <a:lnTo>
                      <a:pt x="324" y="792"/>
                    </a:lnTo>
                    <a:lnTo>
                      <a:pt x="324" y="780"/>
                    </a:lnTo>
                    <a:lnTo>
                      <a:pt x="318" y="768"/>
                    </a:lnTo>
                    <a:lnTo>
                      <a:pt x="318" y="762"/>
                    </a:lnTo>
                    <a:lnTo>
                      <a:pt x="312" y="750"/>
                    </a:lnTo>
                    <a:lnTo>
                      <a:pt x="306" y="750"/>
                    </a:lnTo>
                    <a:lnTo>
                      <a:pt x="300" y="744"/>
                    </a:lnTo>
                    <a:lnTo>
                      <a:pt x="294" y="738"/>
                    </a:lnTo>
                    <a:lnTo>
                      <a:pt x="288" y="738"/>
                    </a:lnTo>
                    <a:lnTo>
                      <a:pt x="282" y="738"/>
                    </a:lnTo>
                    <a:lnTo>
                      <a:pt x="270" y="738"/>
                    </a:lnTo>
                    <a:lnTo>
                      <a:pt x="264" y="744"/>
                    </a:lnTo>
                    <a:lnTo>
                      <a:pt x="258" y="750"/>
                    </a:lnTo>
                    <a:lnTo>
                      <a:pt x="246" y="756"/>
                    </a:lnTo>
                    <a:lnTo>
                      <a:pt x="240" y="762"/>
                    </a:lnTo>
                    <a:lnTo>
                      <a:pt x="234" y="774"/>
                    </a:lnTo>
                    <a:lnTo>
                      <a:pt x="240" y="762"/>
                    </a:lnTo>
                    <a:lnTo>
                      <a:pt x="240" y="750"/>
                    </a:lnTo>
                    <a:lnTo>
                      <a:pt x="240" y="738"/>
                    </a:lnTo>
                    <a:lnTo>
                      <a:pt x="246" y="726"/>
                    </a:lnTo>
                    <a:lnTo>
                      <a:pt x="252" y="714"/>
                    </a:lnTo>
                    <a:lnTo>
                      <a:pt x="258" y="708"/>
                    </a:lnTo>
                    <a:lnTo>
                      <a:pt x="264" y="708"/>
                    </a:lnTo>
                    <a:lnTo>
                      <a:pt x="270" y="708"/>
                    </a:lnTo>
                    <a:lnTo>
                      <a:pt x="270" y="702"/>
                    </a:lnTo>
                    <a:lnTo>
                      <a:pt x="276" y="702"/>
                    </a:lnTo>
                    <a:lnTo>
                      <a:pt x="270" y="696"/>
                    </a:lnTo>
                    <a:lnTo>
                      <a:pt x="270" y="690"/>
                    </a:lnTo>
                    <a:lnTo>
                      <a:pt x="264" y="684"/>
                    </a:lnTo>
                    <a:lnTo>
                      <a:pt x="258" y="684"/>
                    </a:lnTo>
                    <a:lnTo>
                      <a:pt x="252" y="678"/>
                    </a:lnTo>
                    <a:lnTo>
                      <a:pt x="240" y="678"/>
                    </a:lnTo>
                    <a:lnTo>
                      <a:pt x="234" y="678"/>
                    </a:lnTo>
                    <a:lnTo>
                      <a:pt x="228" y="684"/>
                    </a:lnTo>
                    <a:lnTo>
                      <a:pt x="222" y="690"/>
                    </a:lnTo>
                    <a:lnTo>
                      <a:pt x="210" y="690"/>
                    </a:lnTo>
                    <a:lnTo>
                      <a:pt x="204" y="696"/>
                    </a:lnTo>
                    <a:lnTo>
                      <a:pt x="210" y="678"/>
                    </a:lnTo>
                    <a:lnTo>
                      <a:pt x="210" y="666"/>
                    </a:lnTo>
                    <a:lnTo>
                      <a:pt x="216" y="654"/>
                    </a:lnTo>
                    <a:lnTo>
                      <a:pt x="222" y="642"/>
                    </a:lnTo>
                    <a:lnTo>
                      <a:pt x="228" y="630"/>
                    </a:lnTo>
                    <a:lnTo>
                      <a:pt x="240" y="618"/>
                    </a:lnTo>
                    <a:lnTo>
                      <a:pt x="240" y="612"/>
                    </a:lnTo>
                    <a:lnTo>
                      <a:pt x="234" y="612"/>
                    </a:lnTo>
                    <a:lnTo>
                      <a:pt x="222" y="612"/>
                    </a:lnTo>
                    <a:lnTo>
                      <a:pt x="210" y="612"/>
                    </a:lnTo>
                    <a:lnTo>
                      <a:pt x="198" y="618"/>
                    </a:lnTo>
                    <a:lnTo>
                      <a:pt x="186" y="624"/>
                    </a:lnTo>
                    <a:lnTo>
                      <a:pt x="174" y="630"/>
                    </a:lnTo>
                    <a:lnTo>
                      <a:pt x="168" y="642"/>
                    </a:lnTo>
                    <a:lnTo>
                      <a:pt x="168" y="624"/>
                    </a:lnTo>
                    <a:lnTo>
                      <a:pt x="174" y="606"/>
                    </a:lnTo>
                    <a:lnTo>
                      <a:pt x="186" y="594"/>
                    </a:lnTo>
                    <a:lnTo>
                      <a:pt x="192" y="582"/>
                    </a:lnTo>
                    <a:lnTo>
                      <a:pt x="204" y="570"/>
                    </a:lnTo>
                    <a:lnTo>
                      <a:pt x="210" y="552"/>
                    </a:lnTo>
                    <a:lnTo>
                      <a:pt x="204" y="546"/>
                    </a:lnTo>
                    <a:lnTo>
                      <a:pt x="198" y="546"/>
                    </a:lnTo>
                    <a:lnTo>
                      <a:pt x="186" y="546"/>
                    </a:lnTo>
                    <a:lnTo>
                      <a:pt x="180" y="546"/>
                    </a:lnTo>
                    <a:lnTo>
                      <a:pt x="168" y="546"/>
                    </a:lnTo>
                    <a:lnTo>
                      <a:pt x="162" y="546"/>
                    </a:lnTo>
                    <a:lnTo>
                      <a:pt x="168" y="540"/>
                    </a:lnTo>
                    <a:lnTo>
                      <a:pt x="174" y="528"/>
                    </a:lnTo>
                    <a:lnTo>
                      <a:pt x="180" y="516"/>
                    </a:lnTo>
                    <a:lnTo>
                      <a:pt x="186" y="510"/>
                    </a:lnTo>
                    <a:lnTo>
                      <a:pt x="192" y="498"/>
                    </a:lnTo>
                    <a:lnTo>
                      <a:pt x="192" y="486"/>
                    </a:lnTo>
                    <a:lnTo>
                      <a:pt x="192" y="480"/>
                    </a:lnTo>
                    <a:lnTo>
                      <a:pt x="186" y="480"/>
                    </a:lnTo>
                    <a:lnTo>
                      <a:pt x="186" y="474"/>
                    </a:lnTo>
                    <a:lnTo>
                      <a:pt x="180" y="474"/>
                    </a:lnTo>
                    <a:lnTo>
                      <a:pt x="180" y="480"/>
                    </a:lnTo>
                    <a:lnTo>
                      <a:pt x="168" y="480"/>
                    </a:lnTo>
                    <a:lnTo>
                      <a:pt x="162" y="480"/>
                    </a:lnTo>
                    <a:lnTo>
                      <a:pt x="150" y="480"/>
                    </a:lnTo>
                    <a:lnTo>
                      <a:pt x="138" y="474"/>
                    </a:lnTo>
                    <a:lnTo>
                      <a:pt x="132" y="474"/>
                    </a:lnTo>
                    <a:lnTo>
                      <a:pt x="126" y="468"/>
                    </a:lnTo>
                    <a:lnTo>
                      <a:pt x="132" y="462"/>
                    </a:lnTo>
                    <a:lnTo>
                      <a:pt x="138" y="450"/>
                    </a:lnTo>
                    <a:lnTo>
                      <a:pt x="144" y="444"/>
                    </a:lnTo>
                    <a:lnTo>
                      <a:pt x="150" y="432"/>
                    </a:lnTo>
                    <a:lnTo>
                      <a:pt x="150" y="426"/>
                    </a:lnTo>
                    <a:lnTo>
                      <a:pt x="150" y="414"/>
                    </a:lnTo>
                    <a:lnTo>
                      <a:pt x="144" y="408"/>
                    </a:lnTo>
                    <a:lnTo>
                      <a:pt x="138" y="408"/>
                    </a:lnTo>
                    <a:lnTo>
                      <a:pt x="138" y="414"/>
                    </a:lnTo>
                    <a:lnTo>
                      <a:pt x="132" y="414"/>
                    </a:lnTo>
                    <a:lnTo>
                      <a:pt x="126" y="414"/>
                    </a:lnTo>
                    <a:lnTo>
                      <a:pt x="120" y="414"/>
                    </a:lnTo>
                    <a:lnTo>
                      <a:pt x="96" y="396"/>
                    </a:lnTo>
                    <a:lnTo>
                      <a:pt x="102" y="390"/>
                    </a:lnTo>
                    <a:lnTo>
                      <a:pt x="114" y="378"/>
                    </a:lnTo>
                    <a:lnTo>
                      <a:pt x="120" y="366"/>
                    </a:lnTo>
                    <a:lnTo>
                      <a:pt x="126" y="354"/>
                    </a:lnTo>
                    <a:lnTo>
                      <a:pt x="126" y="342"/>
                    </a:lnTo>
                    <a:lnTo>
                      <a:pt x="132" y="330"/>
                    </a:lnTo>
                    <a:lnTo>
                      <a:pt x="132" y="324"/>
                    </a:lnTo>
                    <a:lnTo>
                      <a:pt x="132" y="318"/>
                    </a:lnTo>
                    <a:lnTo>
                      <a:pt x="126" y="318"/>
                    </a:lnTo>
                    <a:lnTo>
                      <a:pt x="126" y="312"/>
                    </a:lnTo>
                    <a:lnTo>
                      <a:pt x="120" y="312"/>
                    </a:lnTo>
                    <a:lnTo>
                      <a:pt x="114" y="312"/>
                    </a:lnTo>
                    <a:lnTo>
                      <a:pt x="108" y="318"/>
                    </a:lnTo>
                    <a:lnTo>
                      <a:pt x="102" y="318"/>
                    </a:lnTo>
                    <a:lnTo>
                      <a:pt x="96" y="318"/>
                    </a:lnTo>
                    <a:lnTo>
                      <a:pt x="90" y="312"/>
                    </a:lnTo>
                    <a:lnTo>
                      <a:pt x="84" y="312"/>
                    </a:lnTo>
                    <a:lnTo>
                      <a:pt x="84" y="306"/>
                    </a:lnTo>
                    <a:lnTo>
                      <a:pt x="78" y="300"/>
                    </a:lnTo>
                    <a:lnTo>
                      <a:pt x="78" y="294"/>
                    </a:lnTo>
                    <a:lnTo>
                      <a:pt x="72" y="294"/>
                    </a:lnTo>
                    <a:lnTo>
                      <a:pt x="72" y="288"/>
                    </a:lnTo>
                    <a:lnTo>
                      <a:pt x="78" y="282"/>
                    </a:lnTo>
                    <a:lnTo>
                      <a:pt x="84" y="276"/>
                    </a:lnTo>
                    <a:lnTo>
                      <a:pt x="90" y="270"/>
                    </a:lnTo>
                    <a:lnTo>
                      <a:pt x="90" y="264"/>
                    </a:lnTo>
                    <a:lnTo>
                      <a:pt x="90" y="258"/>
                    </a:lnTo>
                    <a:lnTo>
                      <a:pt x="96" y="258"/>
                    </a:lnTo>
                    <a:lnTo>
                      <a:pt x="96" y="252"/>
                    </a:lnTo>
                    <a:lnTo>
                      <a:pt x="90" y="246"/>
                    </a:lnTo>
                    <a:lnTo>
                      <a:pt x="84" y="246"/>
                    </a:lnTo>
                    <a:lnTo>
                      <a:pt x="78" y="258"/>
                    </a:lnTo>
                    <a:lnTo>
                      <a:pt x="78" y="264"/>
                    </a:lnTo>
                    <a:lnTo>
                      <a:pt x="72" y="270"/>
                    </a:lnTo>
                    <a:lnTo>
                      <a:pt x="66" y="276"/>
                    </a:lnTo>
                    <a:lnTo>
                      <a:pt x="60" y="270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54" y="258"/>
                    </a:lnTo>
                    <a:lnTo>
                      <a:pt x="48" y="252"/>
                    </a:lnTo>
                    <a:lnTo>
                      <a:pt x="36" y="252"/>
                    </a:lnTo>
                    <a:lnTo>
                      <a:pt x="30" y="258"/>
                    </a:lnTo>
                    <a:lnTo>
                      <a:pt x="24" y="264"/>
                    </a:lnTo>
                    <a:lnTo>
                      <a:pt x="12" y="270"/>
                    </a:lnTo>
                    <a:lnTo>
                      <a:pt x="6" y="282"/>
                    </a:lnTo>
                    <a:lnTo>
                      <a:pt x="0" y="282"/>
                    </a:lnTo>
                    <a:lnTo>
                      <a:pt x="0" y="276"/>
                    </a:lnTo>
                    <a:lnTo>
                      <a:pt x="0" y="270"/>
                    </a:lnTo>
                    <a:lnTo>
                      <a:pt x="0" y="264"/>
                    </a:lnTo>
                    <a:lnTo>
                      <a:pt x="6" y="252"/>
                    </a:lnTo>
                    <a:lnTo>
                      <a:pt x="12" y="246"/>
                    </a:lnTo>
                    <a:lnTo>
                      <a:pt x="18" y="240"/>
                    </a:lnTo>
                    <a:lnTo>
                      <a:pt x="24" y="234"/>
                    </a:lnTo>
                    <a:lnTo>
                      <a:pt x="36" y="234"/>
                    </a:lnTo>
                    <a:lnTo>
                      <a:pt x="42" y="228"/>
                    </a:lnTo>
                    <a:lnTo>
                      <a:pt x="54" y="228"/>
                    </a:lnTo>
                    <a:lnTo>
                      <a:pt x="60" y="228"/>
                    </a:lnTo>
                    <a:lnTo>
                      <a:pt x="72" y="228"/>
                    </a:lnTo>
                    <a:lnTo>
                      <a:pt x="78" y="234"/>
                    </a:lnTo>
                    <a:lnTo>
                      <a:pt x="90" y="240"/>
                    </a:lnTo>
                    <a:lnTo>
                      <a:pt x="96" y="252"/>
                    </a:lnTo>
                    <a:lnTo>
                      <a:pt x="108" y="258"/>
                    </a:lnTo>
                    <a:lnTo>
                      <a:pt x="114" y="264"/>
                    </a:lnTo>
                    <a:lnTo>
                      <a:pt x="126" y="270"/>
                    </a:lnTo>
                    <a:lnTo>
                      <a:pt x="132" y="264"/>
                    </a:lnTo>
                    <a:lnTo>
                      <a:pt x="138" y="264"/>
                    </a:lnTo>
                    <a:lnTo>
                      <a:pt x="144" y="258"/>
                    </a:lnTo>
                    <a:lnTo>
                      <a:pt x="150" y="252"/>
                    </a:lnTo>
                    <a:lnTo>
                      <a:pt x="144" y="240"/>
                    </a:lnTo>
                    <a:lnTo>
                      <a:pt x="138" y="228"/>
                    </a:lnTo>
                    <a:lnTo>
                      <a:pt x="126" y="222"/>
                    </a:lnTo>
                    <a:lnTo>
                      <a:pt x="114" y="216"/>
                    </a:lnTo>
                    <a:lnTo>
                      <a:pt x="102" y="210"/>
                    </a:lnTo>
                    <a:lnTo>
                      <a:pt x="90" y="198"/>
                    </a:lnTo>
                    <a:lnTo>
                      <a:pt x="90" y="192"/>
                    </a:lnTo>
                    <a:lnTo>
                      <a:pt x="90" y="180"/>
                    </a:lnTo>
                    <a:lnTo>
                      <a:pt x="90" y="174"/>
                    </a:lnTo>
                    <a:lnTo>
                      <a:pt x="96" y="168"/>
                    </a:lnTo>
                    <a:lnTo>
                      <a:pt x="96" y="162"/>
                    </a:lnTo>
                    <a:lnTo>
                      <a:pt x="102" y="162"/>
                    </a:lnTo>
                    <a:lnTo>
                      <a:pt x="108" y="162"/>
                    </a:lnTo>
                    <a:lnTo>
                      <a:pt x="114" y="156"/>
                    </a:lnTo>
                    <a:lnTo>
                      <a:pt x="120" y="156"/>
                    </a:lnTo>
                    <a:lnTo>
                      <a:pt x="126" y="156"/>
                    </a:lnTo>
                    <a:lnTo>
                      <a:pt x="132" y="150"/>
                    </a:lnTo>
                    <a:lnTo>
                      <a:pt x="138" y="144"/>
                    </a:lnTo>
                    <a:lnTo>
                      <a:pt x="132" y="138"/>
                    </a:lnTo>
                    <a:lnTo>
                      <a:pt x="120" y="138"/>
                    </a:lnTo>
                    <a:lnTo>
                      <a:pt x="114" y="138"/>
                    </a:lnTo>
                    <a:lnTo>
                      <a:pt x="108" y="138"/>
                    </a:lnTo>
                    <a:lnTo>
                      <a:pt x="102" y="132"/>
                    </a:lnTo>
                    <a:lnTo>
                      <a:pt x="102" y="120"/>
                    </a:lnTo>
                    <a:lnTo>
                      <a:pt x="90" y="120"/>
                    </a:lnTo>
                    <a:lnTo>
                      <a:pt x="84" y="120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60" y="108"/>
                    </a:lnTo>
                    <a:lnTo>
                      <a:pt x="72" y="108"/>
                    </a:lnTo>
                    <a:lnTo>
                      <a:pt x="90" y="114"/>
                    </a:lnTo>
                    <a:lnTo>
                      <a:pt x="108" y="120"/>
                    </a:lnTo>
                    <a:lnTo>
                      <a:pt x="120" y="126"/>
                    </a:lnTo>
                    <a:lnTo>
                      <a:pt x="138" y="126"/>
                    </a:lnTo>
                    <a:lnTo>
                      <a:pt x="144" y="144"/>
                    </a:lnTo>
                    <a:lnTo>
                      <a:pt x="150" y="156"/>
                    </a:lnTo>
                    <a:lnTo>
                      <a:pt x="156" y="174"/>
                    </a:lnTo>
                    <a:lnTo>
                      <a:pt x="162" y="192"/>
                    </a:lnTo>
                    <a:lnTo>
                      <a:pt x="168" y="204"/>
                    </a:lnTo>
                    <a:lnTo>
                      <a:pt x="180" y="216"/>
                    </a:lnTo>
                    <a:lnTo>
                      <a:pt x="186" y="216"/>
                    </a:lnTo>
                    <a:lnTo>
                      <a:pt x="186" y="210"/>
                    </a:lnTo>
                    <a:lnTo>
                      <a:pt x="192" y="210"/>
                    </a:lnTo>
                    <a:lnTo>
                      <a:pt x="192" y="204"/>
                    </a:lnTo>
                    <a:lnTo>
                      <a:pt x="192" y="192"/>
                    </a:lnTo>
                    <a:lnTo>
                      <a:pt x="192" y="186"/>
                    </a:lnTo>
                    <a:lnTo>
                      <a:pt x="192" y="174"/>
                    </a:lnTo>
                    <a:lnTo>
                      <a:pt x="186" y="168"/>
                    </a:lnTo>
                    <a:lnTo>
                      <a:pt x="192" y="156"/>
                    </a:lnTo>
                    <a:lnTo>
                      <a:pt x="198" y="150"/>
                    </a:lnTo>
                    <a:lnTo>
                      <a:pt x="204" y="150"/>
                    </a:lnTo>
                    <a:lnTo>
                      <a:pt x="210" y="150"/>
                    </a:lnTo>
                    <a:lnTo>
                      <a:pt x="222" y="150"/>
                    </a:lnTo>
                    <a:lnTo>
                      <a:pt x="228" y="150"/>
                    </a:lnTo>
                    <a:lnTo>
                      <a:pt x="234" y="150"/>
                    </a:lnTo>
                    <a:lnTo>
                      <a:pt x="246" y="150"/>
                    </a:lnTo>
                    <a:lnTo>
                      <a:pt x="246" y="168"/>
                    </a:lnTo>
                    <a:lnTo>
                      <a:pt x="234" y="186"/>
                    </a:lnTo>
                    <a:lnTo>
                      <a:pt x="222" y="204"/>
                    </a:lnTo>
                    <a:lnTo>
                      <a:pt x="216" y="222"/>
                    </a:lnTo>
                    <a:lnTo>
                      <a:pt x="216" y="240"/>
                    </a:lnTo>
                    <a:lnTo>
                      <a:pt x="228" y="258"/>
                    </a:lnTo>
                    <a:lnTo>
                      <a:pt x="240" y="282"/>
                    </a:lnTo>
                    <a:lnTo>
                      <a:pt x="252" y="300"/>
                    </a:lnTo>
                    <a:lnTo>
                      <a:pt x="270" y="324"/>
                    </a:lnTo>
                    <a:lnTo>
                      <a:pt x="282" y="342"/>
                    </a:lnTo>
                    <a:lnTo>
                      <a:pt x="300" y="360"/>
                    </a:lnTo>
                    <a:lnTo>
                      <a:pt x="318" y="378"/>
                    </a:lnTo>
                    <a:lnTo>
                      <a:pt x="330" y="396"/>
                    </a:lnTo>
                    <a:lnTo>
                      <a:pt x="348" y="420"/>
                    </a:lnTo>
                    <a:lnTo>
                      <a:pt x="360" y="438"/>
                    </a:lnTo>
                    <a:lnTo>
                      <a:pt x="372" y="462"/>
                    </a:lnTo>
                    <a:lnTo>
                      <a:pt x="384" y="480"/>
                    </a:lnTo>
                    <a:lnTo>
                      <a:pt x="390" y="504"/>
                    </a:lnTo>
                    <a:lnTo>
                      <a:pt x="396" y="540"/>
                    </a:lnTo>
                    <a:lnTo>
                      <a:pt x="414" y="564"/>
                    </a:lnTo>
                    <a:lnTo>
                      <a:pt x="432" y="588"/>
                    </a:lnTo>
                    <a:lnTo>
                      <a:pt x="450" y="612"/>
                    </a:lnTo>
                    <a:lnTo>
                      <a:pt x="474" y="636"/>
                    </a:lnTo>
                    <a:lnTo>
                      <a:pt x="498" y="660"/>
                    </a:lnTo>
                    <a:lnTo>
                      <a:pt x="498" y="666"/>
                    </a:lnTo>
                    <a:lnTo>
                      <a:pt x="492" y="672"/>
                    </a:lnTo>
                    <a:lnTo>
                      <a:pt x="486" y="678"/>
                    </a:lnTo>
                    <a:lnTo>
                      <a:pt x="480" y="678"/>
                    </a:lnTo>
                    <a:lnTo>
                      <a:pt x="474" y="684"/>
                    </a:lnTo>
                    <a:lnTo>
                      <a:pt x="462" y="684"/>
                    </a:lnTo>
                    <a:lnTo>
                      <a:pt x="456" y="684"/>
                    </a:lnTo>
                    <a:lnTo>
                      <a:pt x="444" y="678"/>
                    </a:lnTo>
                    <a:lnTo>
                      <a:pt x="432" y="672"/>
                    </a:lnTo>
                    <a:lnTo>
                      <a:pt x="426" y="666"/>
                    </a:lnTo>
                    <a:lnTo>
                      <a:pt x="414" y="660"/>
                    </a:lnTo>
                    <a:lnTo>
                      <a:pt x="408" y="654"/>
                    </a:lnTo>
                    <a:lnTo>
                      <a:pt x="402" y="654"/>
                    </a:lnTo>
                    <a:lnTo>
                      <a:pt x="396" y="660"/>
                    </a:lnTo>
                    <a:lnTo>
                      <a:pt x="396" y="666"/>
                    </a:lnTo>
                    <a:lnTo>
                      <a:pt x="396" y="678"/>
                    </a:lnTo>
                    <a:lnTo>
                      <a:pt x="396" y="684"/>
                    </a:lnTo>
                    <a:lnTo>
                      <a:pt x="402" y="690"/>
                    </a:lnTo>
                    <a:lnTo>
                      <a:pt x="402" y="702"/>
                    </a:lnTo>
                    <a:lnTo>
                      <a:pt x="414" y="714"/>
                    </a:lnTo>
                    <a:lnTo>
                      <a:pt x="426" y="726"/>
                    </a:lnTo>
                    <a:lnTo>
                      <a:pt x="438" y="732"/>
                    </a:lnTo>
                    <a:lnTo>
                      <a:pt x="456" y="744"/>
                    </a:lnTo>
                    <a:lnTo>
                      <a:pt x="468" y="744"/>
                    </a:lnTo>
                    <a:lnTo>
                      <a:pt x="486" y="744"/>
                    </a:lnTo>
                    <a:lnTo>
                      <a:pt x="498" y="738"/>
                    </a:lnTo>
                    <a:lnTo>
                      <a:pt x="510" y="732"/>
                    </a:lnTo>
                    <a:lnTo>
                      <a:pt x="522" y="726"/>
                    </a:lnTo>
                    <a:lnTo>
                      <a:pt x="534" y="720"/>
                    </a:lnTo>
                    <a:lnTo>
                      <a:pt x="540" y="708"/>
                    </a:lnTo>
                    <a:lnTo>
                      <a:pt x="546" y="702"/>
                    </a:lnTo>
                    <a:lnTo>
                      <a:pt x="552" y="708"/>
                    </a:lnTo>
                    <a:lnTo>
                      <a:pt x="558" y="714"/>
                    </a:lnTo>
                    <a:lnTo>
                      <a:pt x="558" y="720"/>
                    </a:lnTo>
                    <a:lnTo>
                      <a:pt x="564" y="726"/>
                    </a:lnTo>
                    <a:lnTo>
                      <a:pt x="570" y="732"/>
                    </a:lnTo>
                    <a:lnTo>
                      <a:pt x="576" y="738"/>
                    </a:lnTo>
                    <a:lnTo>
                      <a:pt x="552" y="750"/>
                    </a:lnTo>
                    <a:lnTo>
                      <a:pt x="534" y="774"/>
                    </a:lnTo>
                    <a:lnTo>
                      <a:pt x="516" y="792"/>
                    </a:lnTo>
                    <a:lnTo>
                      <a:pt x="504" y="816"/>
                    </a:lnTo>
                    <a:lnTo>
                      <a:pt x="492" y="840"/>
                    </a:lnTo>
                    <a:lnTo>
                      <a:pt x="474" y="864"/>
                    </a:lnTo>
                    <a:lnTo>
                      <a:pt x="474" y="870"/>
                    </a:lnTo>
                    <a:lnTo>
                      <a:pt x="474" y="876"/>
                    </a:lnTo>
                    <a:lnTo>
                      <a:pt x="474" y="882"/>
                    </a:lnTo>
                    <a:lnTo>
                      <a:pt x="474" y="888"/>
                    </a:lnTo>
                    <a:lnTo>
                      <a:pt x="474" y="894"/>
                    </a:lnTo>
                    <a:lnTo>
                      <a:pt x="480" y="900"/>
                    </a:lnTo>
                    <a:lnTo>
                      <a:pt x="486" y="900"/>
                    </a:lnTo>
                    <a:lnTo>
                      <a:pt x="492" y="900"/>
                    </a:lnTo>
                    <a:lnTo>
                      <a:pt x="492" y="894"/>
                    </a:lnTo>
                    <a:lnTo>
                      <a:pt x="498" y="888"/>
                    </a:lnTo>
                    <a:lnTo>
                      <a:pt x="504" y="882"/>
                    </a:lnTo>
                    <a:lnTo>
                      <a:pt x="510" y="876"/>
                    </a:lnTo>
                    <a:lnTo>
                      <a:pt x="522" y="864"/>
                    </a:lnTo>
                    <a:lnTo>
                      <a:pt x="540" y="858"/>
                    </a:lnTo>
                    <a:lnTo>
                      <a:pt x="558" y="852"/>
                    </a:lnTo>
                    <a:lnTo>
                      <a:pt x="576" y="846"/>
                    </a:lnTo>
                    <a:lnTo>
                      <a:pt x="588" y="834"/>
                    </a:lnTo>
                    <a:lnTo>
                      <a:pt x="606" y="828"/>
                    </a:lnTo>
                    <a:lnTo>
                      <a:pt x="612" y="840"/>
                    </a:lnTo>
                    <a:lnTo>
                      <a:pt x="618" y="852"/>
                    </a:lnTo>
                    <a:lnTo>
                      <a:pt x="624" y="870"/>
                    </a:lnTo>
                    <a:lnTo>
                      <a:pt x="636" y="882"/>
                    </a:lnTo>
                    <a:lnTo>
                      <a:pt x="642" y="894"/>
                    </a:lnTo>
                    <a:lnTo>
                      <a:pt x="660" y="900"/>
                    </a:lnTo>
                    <a:lnTo>
                      <a:pt x="666" y="900"/>
                    </a:lnTo>
                    <a:lnTo>
                      <a:pt x="672" y="894"/>
                    </a:lnTo>
                    <a:lnTo>
                      <a:pt x="672" y="888"/>
                    </a:lnTo>
                    <a:lnTo>
                      <a:pt x="666" y="882"/>
                    </a:lnTo>
                    <a:lnTo>
                      <a:pt x="666" y="876"/>
                    </a:lnTo>
                    <a:lnTo>
                      <a:pt x="666" y="864"/>
                    </a:lnTo>
                    <a:lnTo>
                      <a:pt x="660" y="858"/>
                    </a:lnTo>
                    <a:lnTo>
                      <a:pt x="660" y="852"/>
                    </a:lnTo>
                    <a:lnTo>
                      <a:pt x="666" y="840"/>
                    </a:lnTo>
                    <a:lnTo>
                      <a:pt x="678" y="834"/>
                    </a:lnTo>
                    <a:lnTo>
                      <a:pt x="684" y="840"/>
                    </a:lnTo>
                    <a:lnTo>
                      <a:pt x="684" y="846"/>
                    </a:lnTo>
                    <a:lnTo>
                      <a:pt x="684" y="852"/>
                    </a:lnTo>
                    <a:lnTo>
                      <a:pt x="690" y="858"/>
                    </a:lnTo>
                    <a:lnTo>
                      <a:pt x="696" y="864"/>
                    </a:lnTo>
                    <a:lnTo>
                      <a:pt x="696" y="876"/>
                    </a:lnTo>
                    <a:lnTo>
                      <a:pt x="702" y="882"/>
                    </a:lnTo>
                    <a:lnTo>
                      <a:pt x="708" y="888"/>
                    </a:lnTo>
                    <a:lnTo>
                      <a:pt x="714" y="894"/>
                    </a:lnTo>
                    <a:lnTo>
                      <a:pt x="720" y="894"/>
                    </a:lnTo>
                    <a:lnTo>
                      <a:pt x="726" y="894"/>
                    </a:lnTo>
                    <a:lnTo>
                      <a:pt x="732" y="894"/>
                    </a:lnTo>
                    <a:lnTo>
                      <a:pt x="738" y="888"/>
                    </a:lnTo>
                    <a:lnTo>
                      <a:pt x="750" y="888"/>
                    </a:lnTo>
                    <a:lnTo>
                      <a:pt x="756" y="888"/>
                    </a:lnTo>
                    <a:lnTo>
                      <a:pt x="756" y="882"/>
                    </a:lnTo>
                    <a:lnTo>
                      <a:pt x="756" y="876"/>
                    </a:lnTo>
                    <a:lnTo>
                      <a:pt x="750" y="870"/>
                    </a:lnTo>
                    <a:lnTo>
                      <a:pt x="744" y="864"/>
                    </a:lnTo>
                    <a:lnTo>
                      <a:pt x="744" y="858"/>
                    </a:lnTo>
                    <a:lnTo>
                      <a:pt x="744" y="852"/>
                    </a:lnTo>
                    <a:lnTo>
                      <a:pt x="744" y="840"/>
                    </a:lnTo>
                    <a:lnTo>
                      <a:pt x="744" y="834"/>
                    </a:lnTo>
                    <a:lnTo>
                      <a:pt x="744" y="828"/>
                    </a:lnTo>
                    <a:lnTo>
                      <a:pt x="750" y="822"/>
                    </a:lnTo>
                    <a:lnTo>
                      <a:pt x="756" y="816"/>
                    </a:lnTo>
                    <a:lnTo>
                      <a:pt x="762" y="816"/>
                    </a:lnTo>
                    <a:lnTo>
                      <a:pt x="768" y="810"/>
                    </a:lnTo>
                    <a:lnTo>
                      <a:pt x="774" y="810"/>
                    </a:lnTo>
                    <a:lnTo>
                      <a:pt x="816" y="810"/>
                    </a:lnTo>
                    <a:lnTo>
                      <a:pt x="816" y="828"/>
                    </a:lnTo>
                    <a:lnTo>
                      <a:pt x="810" y="840"/>
                    </a:lnTo>
                    <a:lnTo>
                      <a:pt x="816" y="858"/>
                    </a:lnTo>
                    <a:lnTo>
                      <a:pt x="822" y="870"/>
                    </a:lnTo>
                    <a:lnTo>
                      <a:pt x="828" y="882"/>
                    </a:lnTo>
                    <a:lnTo>
                      <a:pt x="834" y="894"/>
                    </a:lnTo>
                    <a:lnTo>
                      <a:pt x="846" y="900"/>
                    </a:lnTo>
                    <a:lnTo>
                      <a:pt x="852" y="906"/>
                    </a:lnTo>
                    <a:lnTo>
                      <a:pt x="858" y="906"/>
                    </a:lnTo>
                    <a:lnTo>
                      <a:pt x="864" y="912"/>
                    </a:lnTo>
                    <a:lnTo>
                      <a:pt x="876" y="912"/>
                    </a:lnTo>
                    <a:lnTo>
                      <a:pt x="882" y="918"/>
                    </a:lnTo>
                    <a:lnTo>
                      <a:pt x="888" y="912"/>
                    </a:lnTo>
                    <a:lnTo>
                      <a:pt x="882" y="906"/>
                    </a:lnTo>
                    <a:lnTo>
                      <a:pt x="882" y="894"/>
                    </a:lnTo>
                    <a:lnTo>
                      <a:pt x="882" y="882"/>
                    </a:lnTo>
                    <a:lnTo>
                      <a:pt x="882" y="870"/>
                    </a:lnTo>
                    <a:lnTo>
                      <a:pt x="882" y="858"/>
                    </a:lnTo>
                    <a:lnTo>
                      <a:pt x="894" y="846"/>
                    </a:lnTo>
                    <a:lnTo>
                      <a:pt x="900" y="840"/>
                    </a:lnTo>
                    <a:lnTo>
                      <a:pt x="912" y="828"/>
                    </a:lnTo>
                    <a:lnTo>
                      <a:pt x="930" y="822"/>
                    </a:lnTo>
                    <a:lnTo>
                      <a:pt x="942" y="816"/>
                    </a:lnTo>
                    <a:lnTo>
                      <a:pt x="954" y="810"/>
                    </a:lnTo>
                    <a:lnTo>
                      <a:pt x="960" y="798"/>
                    </a:lnTo>
                    <a:lnTo>
                      <a:pt x="966" y="822"/>
                    </a:lnTo>
                    <a:lnTo>
                      <a:pt x="966" y="846"/>
                    </a:lnTo>
                    <a:lnTo>
                      <a:pt x="966" y="870"/>
                    </a:lnTo>
                    <a:lnTo>
                      <a:pt x="978" y="894"/>
                    </a:lnTo>
                    <a:lnTo>
                      <a:pt x="990" y="912"/>
                    </a:lnTo>
                    <a:lnTo>
                      <a:pt x="1020" y="924"/>
                    </a:lnTo>
                    <a:lnTo>
                      <a:pt x="1020" y="954"/>
                    </a:lnTo>
                    <a:lnTo>
                      <a:pt x="1032" y="990"/>
                    </a:lnTo>
                    <a:lnTo>
                      <a:pt x="1038" y="1020"/>
                    </a:lnTo>
                    <a:lnTo>
                      <a:pt x="1050" y="1056"/>
                    </a:lnTo>
                    <a:lnTo>
                      <a:pt x="1068" y="1086"/>
                    </a:lnTo>
                    <a:lnTo>
                      <a:pt x="1086" y="1116"/>
                    </a:lnTo>
                    <a:lnTo>
                      <a:pt x="1110" y="1158"/>
                    </a:lnTo>
                    <a:lnTo>
                      <a:pt x="1140" y="1194"/>
                    </a:lnTo>
                    <a:lnTo>
                      <a:pt x="1176" y="1230"/>
                    </a:lnTo>
                    <a:lnTo>
                      <a:pt x="1212" y="1254"/>
                    </a:lnTo>
                    <a:lnTo>
                      <a:pt x="1254" y="1278"/>
                    </a:lnTo>
                    <a:lnTo>
                      <a:pt x="1302" y="1284"/>
                    </a:lnTo>
                    <a:lnTo>
                      <a:pt x="1332" y="1284"/>
                    </a:lnTo>
                    <a:lnTo>
                      <a:pt x="1368" y="1284"/>
                    </a:lnTo>
                    <a:lnTo>
                      <a:pt x="1404" y="1278"/>
                    </a:lnTo>
                    <a:lnTo>
                      <a:pt x="1434" y="1266"/>
                    </a:lnTo>
                    <a:lnTo>
                      <a:pt x="1464" y="1248"/>
                    </a:lnTo>
                    <a:lnTo>
                      <a:pt x="1488" y="1224"/>
                    </a:lnTo>
                    <a:lnTo>
                      <a:pt x="1500" y="1212"/>
                    </a:lnTo>
                    <a:lnTo>
                      <a:pt x="1506" y="1200"/>
                    </a:lnTo>
                    <a:lnTo>
                      <a:pt x="1512" y="1182"/>
                    </a:lnTo>
                    <a:lnTo>
                      <a:pt x="1518" y="1170"/>
                    </a:lnTo>
                    <a:lnTo>
                      <a:pt x="1518" y="1158"/>
                    </a:lnTo>
                    <a:lnTo>
                      <a:pt x="1518" y="1140"/>
                    </a:lnTo>
                    <a:lnTo>
                      <a:pt x="1512" y="1116"/>
                    </a:lnTo>
                    <a:lnTo>
                      <a:pt x="1500" y="1092"/>
                    </a:lnTo>
                    <a:lnTo>
                      <a:pt x="1488" y="1068"/>
                    </a:lnTo>
                    <a:lnTo>
                      <a:pt x="1470" y="1044"/>
                    </a:lnTo>
                    <a:lnTo>
                      <a:pt x="1446" y="1026"/>
                    </a:lnTo>
                    <a:lnTo>
                      <a:pt x="1422" y="1014"/>
                    </a:lnTo>
                    <a:lnTo>
                      <a:pt x="1416" y="1008"/>
                    </a:lnTo>
                    <a:lnTo>
                      <a:pt x="1404" y="1002"/>
                    </a:lnTo>
                    <a:lnTo>
                      <a:pt x="1392" y="1002"/>
                    </a:lnTo>
                    <a:lnTo>
                      <a:pt x="1380" y="1002"/>
                    </a:lnTo>
                    <a:lnTo>
                      <a:pt x="1368" y="1002"/>
                    </a:lnTo>
                    <a:lnTo>
                      <a:pt x="1362" y="1008"/>
                    </a:lnTo>
                    <a:lnTo>
                      <a:pt x="1350" y="1014"/>
                    </a:lnTo>
                    <a:lnTo>
                      <a:pt x="1338" y="1020"/>
                    </a:lnTo>
                    <a:lnTo>
                      <a:pt x="1332" y="1026"/>
                    </a:lnTo>
                    <a:lnTo>
                      <a:pt x="1326" y="1038"/>
                    </a:lnTo>
                    <a:lnTo>
                      <a:pt x="1314" y="1044"/>
                    </a:lnTo>
                    <a:lnTo>
                      <a:pt x="1308" y="1056"/>
                    </a:lnTo>
                    <a:lnTo>
                      <a:pt x="1308" y="1062"/>
                    </a:lnTo>
                    <a:lnTo>
                      <a:pt x="1308" y="1068"/>
                    </a:lnTo>
                    <a:lnTo>
                      <a:pt x="1308" y="1080"/>
                    </a:lnTo>
                    <a:lnTo>
                      <a:pt x="1314" y="1086"/>
                    </a:lnTo>
                    <a:lnTo>
                      <a:pt x="1314" y="1092"/>
                    </a:lnTo>
                    <a:lnTo>
                      <a:pt x="1320" y="1098"/>
                    </a:lnTo>
                    <a:lnTo>
                      <a:pt x="1332" y="1110"/>
                    </a:lnTo>
                    <a:lnTo>
                      <a:pt x="1344" y="1110"/>
                    </a:lnTo>
                    <a:lnTo>
                      <a:pt x="1356" y="1116"/>
                    </a:lnTo>
                    <a:lnTo>
                      <a:pt x="1368" y="1116"/>
                    </a:lnTo>
                    <a:lnTo>
                      <a:pt x="1380" y="1116"/>
                    </a:lnTo>
                    <a:lnTo>
                      <a:pt x="1398" y="1104"/>
                    </a:lnTo>
                    <a:lnTo>
                      <a:pt x="1392" y="1116"/>
                    </a:lnTo>
                    <a:lnTo>
                      <a:pt x="1386" y="1122"/>
                    </a:lnTo>
                    <a:lnTo>
                      <a:pt x="1380" y="1128"/>
                    </a:lnTo>
                    <a:lnTo>
                      <a:pt x="1374" y="1134"/>
                    </a:lnTo>
                    <a:lnTo>
                      <a:pt x="1362" y="1134"/>
                    </a:lnTo>
                    <a:lnTo>
                      <a:pt x="1356" y="1140"/>
                    </a:lnTo>
                    <a:lnTo>
                      <a:pt x="1314" y="1134"/>
                    </a:lnTo>
                    <a:lnTo>
                      <a:pt x="1308" y="1122"/>
                    </a:lnTo>
                    <a:lnTo>
                      <a:pt x="1296" y="1116"/>
                    </a:lnTo>
                    <a:lnTo>
                      <a:pt x="1290" y="1110"/>
                    </a:lnTo>
                    <a:lnTo>
                      <a:pt x="1278" y="1098"/>
                    </a:lnTo>
                    <a:lnTo>
                      <a:pt x="1272" y="1086"/>
                    </a:lnTo>
                    <a:lnTo>
                      <a:pt x="1272" y="1074"/>
                    </a:lnTo>
                    <a:lnTo>
                      <a:pt x="1272" y="1062"/>
                    </a:lnTo>
                    <a:lnTo>
                      <a:pt x="1278" y="1056"/>
                    </a:lnTo>
                    <a:lnTo>
                      <a:pt x="1278" y="1044"/>
                    </a:lnTo>
                    <a:lnTo>
                      <a:pt x="1284" y="1032"/>
                    </a:lnTo>
                    <a:lnTo>
                      <a:pt x="1290" y="1020"/>
                    </a:lnTo>
                    <a:lnTo>
                      <a:pt x="1296" y="1014"/>
                    </a:lnTo>
                    <a:lnTo>
                      <a:pt x="1296" y="1008"/>
                    </a:lnTo>
                    <a:lnTo>
                      <a:pt x="1290" y="1008"/>
                    </a:lnTo>
                    <a:lnTo>
                      <a:pt x="1284" y="1008"/>
                    </a:lnTo>
                    <a:lnTo>
                      <a:pt x="1278" y="1008"/>
                    </a:lnTo>
                    <a:lnTo>
                      <a:pt x="1272" y="1014"/>
                    </a:lnTo>
                    <a:lnTo>
                      <a:pt x="1260" y="1008"/>
                    </a:lnTo>
                    <a:lnTo>
                      <a:pt x="1254" y="1008"/>
                    </a:lnTo>
                    <a:lnTo>
                      <a:pt x="1248" y="1002"/>
                    </a:lnTo>
                    <a:lnTo>
                      <a:pt x="1242" y="996"/>
                    </a:lnTo>
                    <a:lnTo>
                      <a:pt x="1236" y="996"/>
                    </a:lnTo>
                    <a:lnTo>
                      <a:pt x="1248" y="996"/>
                    </a:lnTo>
                    <a:lnTo>
                      <a:pt x="1260" y="990"/>
                    </a:lnTo>
                    <a:lnTo>
                      <a:pt x="1272" y="990"/>
                    </a:lnTo>
                    <a:lnTo>
                      <a:pt x="1284" y="990"/>
                    </a:lnTo>
                    <a:lnTo>
                      <a:pt x="1296" y="984"/>
                    </a:lnTo>
                    <a:lnTo>
                      <a:pt x="1302" y="978"/>
                    </a:lnTo>
                    <a:lnTo>
                      <a:pt x="1296" y="972"/>
                    </a:lnTo>
                    <a:lnTo>
                      <a:pt x="1290" y="966"/>
                    </a:lnTo>
                    <a:lnTo>
                      <a:pt x="1284" y="960"/>
                    </a:lnTo>
                    <a:lnTo>
                      <a:pt x="1278" y="954"/>
                    </a:lnTo>
                    <a:lnTo>
                      <a:pt x="1266" y="954"/>
                    </a:lnTo>
                    <a:lnTo>
                      <a:pt x="1260" y="948"/>
                    </a:lnTo>
                    <a:lnTo>
                      <a:pt x="1254" y="930"/>
                    </a:lnTo>
                    <a:lnTo>
                      <a:pt x="1248" y="918"/>
                    </a:lnTo>
                    <a:lnTo>
                      <a:pt x="1242" y="900"/>
                    </a:lnTo>
                    <a:lnTo>
                      <a:pt x="1242" y="888"/>
                    </a:lnTo>
                    <a:lnTo>
                      <a:pt x="1248" y="870"/>
                    </a:lnTo>
                    <a:lnTo>
                      <a:pt x="1254" y="852"/>
                    </a:lnTo>
                    <a:lnTo>
                      <a:pt x="1254" y="846"/>
                    </a:lnTo>
                    <a:lnTo>
                      <a:pt x="1260" y="840"/>
                    </a:lnTo>
                    <a:lnTo>
                      <a:pt x="1266" y="840"/>
                    </a:lnTo>
                    <a:lnTo>
                      <a:pt x="1272" y="840"/>
                    </a:lnTo>
                    <a:lnTo>
                      <a:pt x="1278" y="840"/>
                    </a:lnTo>
                    <a:lnTo>
                      <a:pt x="1284" y="840"/>
                    </a:lnTo>
                    <a:lnTo>
                      <a:pt x="1290" y="840"/>
                    </a:lnTo>
                    <a:lnTo>
                      <a:pt x="1278" y="846"/>
                    </a:lnTo>
                    <a:lnTo>
                      <a:pt x="1278" y="858"/>
                    </a:lnTo>
                    <a:lnTo>
                      <a:pt x="1278" y="870"/>
                    </a:lnTo>
                    <a:lnTo>
                      <a:pt x="1278" y="882"/>
                    </a:lnTo>
                    <a:lnTo>
                      <a:pt x="1284" y="894"/>
                    </a:lnTo>
                    <a:lnTo>
                      <a:pt x="1284" y="906"/>
                    </a:lnTo>
                    <a:lnTo>
                      <a:pt x="1302" y="918"/>
                    </a:lnTo>
                    <a:lnTo>
                      <a:pt x="1314" y="930"/>
                    </a:lnTo>
                    <a:lnTo>
                      <a:pt x="1332" y="936"/>
                    </a:lnTo>
                    <a:lnTo>
                      <a:pt x="1350" y="936"/>
                    </a:lnTo>
                    <a:lnTo>
                      <a:pt x="1368" y="936"/>
                    </a:lnTo>
                    <a:lnTo>
                      <a:pt x="1386" y="942"/>
                    </a:lnTo>
                    <a:lnTo>
                      <a:pt x="1392" y="936"/>
                    </a:lnTo>
                    <a:lnTo>
                      <a:pt x="1404" y="936"/>
                    </a:lnTo>
                    <a:lnTo>
                      <a:pt x="1410" y="936"/>
                    </a:lnTo>
                    <a:lnTo>
                      <a:pt x="1422" y="936"/>
                    </a:lnTo>
                    <a:lnTo>
                      <a:pt x="1428" y="930"/>
                    </a:lnTo>
                    <a:lnTo>
                      <a:pt x="1434" y="924"/>
                    </a:lnTo>
                    <a:lnTo>
                      <a:pt x="1410" y="894"/>
                    </a:lnTo>
                    <a:lnTo>
                      <a:pt x="1392" y="864"/>
                    </a:lnTo>
                    <a:lnTo>
                      <a:pt x="1374" y="834"/>
                    </a:lnTo>
                    <a:lnTo>
                      <a:pt x="1356" y="804"/>
                    </a:lnTo>
                    <a:lnTo>
                      <a:pt x="1344" y="768"/>
                    </a:lnTo>
                    <a:lnTo>
                      <a:pt x="1338" y="732"/>
                    </a:lnTo>
                    <a:lnTo>
                      <a:pt x="1314" y="642"/>
                    </a:lnTo>
                    <a:lnTo>
                      <a:pt x="1302" y="546"/>
                    </a:lnTo>
                    <a:lnTo>
                      <a:pt x="1308" y="444"/>
                    </a:lnTo>
                    <a:lnTo>
                      <a:pt x="1332" y="354"/>
                    </a:lnTo>
                    <a:lnTo>
                      <a:pt x="1368" y="264"/>
                    </a:lnTo>
                    <a:lnTo>
                      <a:pt x="1410" y="180"/>
                    </a:lnTo>
                    <a:lnTo>
                      <a:pt x="1416" y="168"/>
                    </a:lnTo>
                    <a:lnTo>
                      <a:pt x="1410" y="162"/>
                    </a:lnTo>
                    <a:lnTo>
                      <a:pt x="1410" y="150"/>
                    </a:lnTo>
                    <a:lnTo>
                      <a:pt x="1404" y="144"/>
                    </a:lnTo>
                    <a:lnTo>
                      <a:pt x="1404" y="138"/>
                    </a:lnTo>
                    <a:lnTo>
                      <a:pt x="1398" y="126"/>
                    </a:lnTo>
                    <a:lnTo>
                      <a:pt x="1398" y="120"/>
                    </a:lnTo>
                    <a:lnTo>
                      <a:pt x="1392" y="120"/>
                    </a:lnTo>
                    <a:lnTo>
                      <a:pt x="1386" y="114"/>
                    </a:lnTo>
                    <a:lnTo>
                      <a:pt x="1380" y="108"/>
                    </a:lnTo>
                    <a:lnTo>
                      <a:pt x="1374" y="108"/>
                    </a:lnTo>
                    <a:lnTo>
                      <a:pt x="1362" y="108"/>
                    </a:lnTo>
                    <a:lnTo>
                      <a:pt x="1356" y="108"/>
                    </a:lnTo>
                    <a:lnTo>
                      <a:pt x="1350" y="114"/>
                    </a:lnTo>
                    <a:lnTo>
                      <a:pt x="1344" y="114"/>
                    </a:lnTo>
                    <a:lnTo>
                      <a:pt x="1338" y="120"/>
                    </a:lnTo>
                    <a:lnTo>
                      <a:pt x="1332" y="126"/>
                    </a:lnTo>
                    <a:lnTo>
                      <a:pt x="1326" y="132"/>
                    </a:lnTo>
                    <a:lnTo>
                      <a:pt x="1326" y="150"/>
                    </a:lnTo>
                    <a:lnTo>
                      <a:pt x="1320" y="150"/>
                    </a:lnTo>
                    <a:lnTo>
                      <a:pt x="1314" y="144"/>
                    </a:lnTo>
                    <a:lnTo>
                      <a:pt x="1308" y="138"/>
                    </a:lnTo>
                    <a:lnTo>
                      <a:pt x="1308" y="126"/>
                    </a:lnTo>
                    <a:lnTo>
                      <a:pt x="1302" y="120"/>
                    </a:lnTo>
                    <a:lnTo>
                      <a:pt x="1302" y="108"/>
                    </a:lnTo>
                    <a:lnTo>
                      <a:pt x="1308" y="102"/>
                    </a:lnTo>
                    <a:lnTo>
                      <a:pt x="1308" y="90"/>
                    </a:lnTo>
                    <a:lnTo>
                      <a:pt x="1314" y="84"/>
                    </a:lnTo>
                    <a:lnTo>
                      <a:pt x="1326" y="78"/>
                    </a:lnTo>
                    <a:lnTo>
                      <a:pt x="1332" y="72"/>
                    </a:lnTo>
                    <a:lnTo>
                      <a:pt x="1338" y="66"/>
                    </a:lnTo>
                    <a:lnTo>
                      <a:pt x="1356" y="60"/>
                    </a:lnTo>
                    <a:lnTo>
                      <a:pt x="1380" y="54"/>
                    </a:lnTo>
                    <a:lnTo>
                      <a:pt x="1404" y="54"/>
                    </a:lnTo>
                    <a:lnTo>
                      <a:pt x="1422" y="54"/>
                    </a:lnTo>
                    <a:lnTo>
                      <a:pt x="1440" y="66"/>
                    </a:lnTo>
                    <a:lnTo>
                      <a:pt x="1458" y="78"/>
                    </a:lnTo>
                    <a:lnTo>
                      <a:pt x="1464" y="90"/>
                    </a:lnTo>
                    <a:lnTo>
                      <a:pt x="1470" y="102"/>
                    </a:lnTo>
                    <a:lnTo>
                      <a:pt x="1476" y="114"/>
                    </a:lnTo>
                    <a:lnTo>
                      <a:pt x="1482" y="126"/>
                    </a:lnTo>
                    <a:lnTo>
                      <a:pt x="1482" y="138"/>
                    </a:lnTo>
                    <a:lnTo>
                      <a:pt x="1476" y="156"/>
                    </a:lnTo>
                    <a:lnTo>
                      <a:pt x="1452" y="174"/>
                    </a:lnTo>
                    <a:lnTo>
                      <a:pt x="1458" y="180"/>
                    </a:lnTo>
                    <a:lnTo>
                      <a:pt x="1464" y="180"/>
                    </a:lnTo>
                    <a:lnTo>
                      <a:pt x="1470" y="180"/>
                    </a:lnTo>
                    <a:lnTo>
                      <a:pt x="1476" y="174"/>
                    </a:lnTo>
                    <a:lnTo>
                      <a:pt x="1482" y="162"/>
                    </a:lnTo>
                    <a:lnTo>
                      <a:pt x="1494" y="150"/>
                    </a:lnTo>
                    <a:lnTo>
                      <a:pt x="1500" y="144"/>
                    </a:lnTo>
                    <a:lnTo>
                      <a:pt x="1512" y="138"/>
                    </a:lnTo>
                    <a:lnTo>
                      <a:pt x="1524" y="138"/>
                    </a:lnTo>
                    <a:lnTo>
                      <a:pt x="1536" y="138"/>
                    </a:lnTo>
                    <a:lnTo>
                      <a:pt x="1548" y="138"/>
                    </a:lnTo>
                    <a:lnTo>
                      <a:pt x="1566" y="138"/>
                    </a:lnTo>
                    <a:lnTo>
                      <a:pt x="1578" y="144"/>
                    </a:lnTo>
                    <a:lnTo>
                      <a:pt x="1590" y="144"/>
                    </a:lnTo>
                    <a:lnTo>
                      <a:pt x="1602" y="138"/>
                    </a:lnTo>
                    <a:lnTo>
                      <a:pt x="1620" y="132"/>
                    </a:lnTo>
                    <a:lnTo>
                      <a:pt x="1626" y="120"/>
                    </a:lnTo>
                    <a:lnTo>
                      <a:pt x="1632" y="108"/>
                    </a:lnTo>
                    <a:lnTo>
                      <a:pt x="1638" y="96"/>
                    </a:lnTo>
                    <a:lnTo>
                      <a:pt x="1644" y="84"/>
                    </a:lnTo>
                    <a:lnTo>
                      <a:pt x="1650" y="72"/>
                    </a:lnTo>
                    <a:lnTo>
                      <a:pt x="1650" y="60"/>
                    </a:lnTo>
                    <a:lnTo>
                      <a:pt x="1650" y="54"/>
                    </a:lnTo>
                    <a:lnTo>
                      <a:pt x="1644" y="48"/>
                    </a:lnTo>
                    <a:lnTo>
                      <a:pt x="1644" y="36"/>
                    </a:lnTo>
                    <a:lnTo>
                      <a:pt x="1638" y="30"/>
                    </a:lnTo>
                    <a:lnTo>
                      <a:pt x="1626" y="24"/>
                    </a:lnTo>
                    <a:lnTo>
                      <a:pt x="1620" y="24"/>
                    </a:lnTo>
                    <a:lnTo>
                      <a:pt x="1608" y="24"/>
                    </a:lnTo>
                    <a:lnTo>
                      <a:pt x="1602" y="24"/>
                    </a:lnTo>
                    <a:lnTo>
                      <a:pt x="1590" y="30"/>
                    </a:lnTo>
                    <a:lnTo>
                      <a:pt x="1584" y="30"/>
                    </a:lnTo>
                    <a:lnTo>
                      <a:pt x="1578" y="42"/>
                    </a:lnTo>
                    <a:lnTo>
                      <a:pt x="1578" y="30"/>
                    </a:lnTo>
                    <a:lnTo>
                      <a:pt x="1578" y="24"/>
                    </a:lnTo>
                    <a:lnTo>
                      <a:pt x="1584" y="18"/>
                    </a:lnTo>
                    <a:lnTo>
                      <a:pt x="1590" y="12"/>
                    </a:lnTo>
                    <a:lnTo>
                      <a:pt x="1596" y="6"/>
                    </a:lnTo>
                    <a:lnTo>
                      <a:pt x="1602" y="0"/>
                    </a:lnTo>
                    <a:lnTo>
                      <a:pt x="1626" y="0"/>
                    </a:lnTo>
                    <a:lnTo>
                      <a:pt x="1650" y="0"/>
                    </a:lnTo>
                    <a:lnTo>
                      <a:pt x="1674" y="12"/>
                    </a:lnTo>
                    <a:lnTo>
                      <a:pt x="1692" y="24"/>
                    </a:lnTo>
                    <a:lnTo>
                      <a:pt x="1710" y="48"/>
                    </a:lnTo>
                    <a:lnTo>
                      <a:pt x="1722" y="7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961560" y="7837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78" y="42"/>
                    </a:moveTo>
                    <a:lnTo>
                      <a:pt x="78" y="48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8" y="60"/>
                    </a:lnTo>
                    <a:lnTo>
                      <a:pt x="66" y="72"/>
                    </a:lnTo>
                    <a:lnTo>
                      <a:pt x="54" y="78"/>
                    </a:lnTo>
                    <a:lnTo>
                      <a:pt x="42" y="78"/>
                    </a:lnTo>
                    <a:lnTo>
                      <a:pt x="30" y="84"/>
                    </a:lnTo>
                    <a:lnTo>
                      <a:pt x="18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66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966240" y="79380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678960" y="793800"/>
                <a:ext cx="22320" cy="248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36"/>
                    </a:moveTo>
                    <a:lnTo>
                      <a:pt x="54" y="60"/>
                    </a:lnTo>
                    <a:lnTo>
                      <a:pt x="36" y="60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1021320" y="801360"/>
                <a:ext cx="37440" cy="52200"/>
              </a:xfrm>
              <a:custGeom>
                <a:avLst/>
                <a:gdLst/>
                <a:ahLst/>
                <a:rect l="l" t="t" r="r" b="b"/>
                <a:pathLst>
                  <a:path w="90" h="126">
                    <a:moveTo>
                      <a:pt x="84" y="12"/>
                    </a:moveTo>
                    <a:lnTo>
                      <a:pt x="90" y="30"/>
                    </a:lnTo>
                    <a:lnTo>
                      <a:pt x="90" y="42"/>
                    </a:lnTo>
                    <a:lnTo>
                      <a:pt x="90" y="60"/>
                    </a:lnTo>
                    <a:lnTo>
                      <a:pt x="90" y="78"/>
                    </a:lnTo>
                    <a:lnTo>
                      <a:pt x="90" y="90"/>
                    </a:lnTo>
                    <a:lnTo>
                      <a:pt x="78" y="102"/>
                    </a:lnTo>
                    <a:lnTo>
                      <a:pt x="72" y="114"/>
                    </a:lnTo>
                    <a:lnTo>
                      <a:pt x="66" y="120"/>
                    </a:lnTo>
                    <a:lnTo>
                      <a:pt x="54" y="126"/>
                    </a:lnTo>
                    <a:lnTo>
                      <a:pt x="42" y="126"/>
                    </a:lnTo>
                    <a:lnTo>
                      <a:pt x="36" y="126"/>
                    </a:lnTo>
                    <a:lnTo>
                      <a:pt x="24" y="126"/>
                    </a:lnTo>
                    <a:lnTo>
                      <a:pt x="18" y="126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18" y="96"/>
                    </a:lnTo>
                    <a:lnTo>
                      <a:pt x="12" y="102"/>
                    </a:lnTo>
                    <a:lnTo>
                      <a:pt x="12" y="108"/>
                    </a:lnTo>
                    <a:lnTo>
                      <a:pt x="18" y="108"/>
                    </a:lnTo>
                    <a:lnTo>
                      <a:pt x="24" y="114"/>
                    </a:lnTo>
                    <a:lnTo>
                      <a:pt x="30" y="114"/>
                    </a:lnTo>
                    <a:lnTo>
                      <a:pt x="36" y="114"/>
                    </a:lnTo>
                    <a:lnTo>
                      <a:pt x="42" y="114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0" y="108"/>
                    </a:lnTo>
                    <a:lnTo>
                      <a:pt x="66" y="102"/>
                    </a:lnTo>
                    <a:lnTo>
                      <a:pt x="72" y="96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78" y="48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72" y="18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1026360" y="813600"/>
                <a:ext cx="19800" cy="248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12"/>
                    </a:move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869040" y="84348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72" y="54"/>
                    </a:moveTo>
                    <a:lnTo>
                      <a:pt x="84" y="54"/>
                    </a:lnTo>
                    <a:lnTo>
                      <a:pt x="90" y="54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20" y="66"/>
                    </a:lnTo>
                    <a:lnTo>
                      <a:pt x="114" y="72"/>
                    </a:lnTo>
                    <a:lnTo>
                      <a:pt x="108" y="78"/>
                    </a:lnTo>
                    <a:lnTo>
                      <a:pt x="102" y="84"/>
                    </a:lnTo>
                    <a:lnTo>
                      <a:pt x="96" y="84"/>
                    </a:lnTo>
                    <a:lnTo>
                      <a:pt x="84" y="72"/>
                    </a:lnTo>
                    <a:lnTo>
                      <a:pt x="72" y="72"/>
                    </a:lnTo>
                    <a:lnTo>
                      <a:pt x="54" y="66"/>
                    </a:lnTo>
                    <a:lnTo>
                      <a:pt x="42" y="66"/>
                    </a:lnTo>
                    <a:lnTo>
                      <a:pt x="24" y="60"/>
                    </a:lnTo>
                    <a:lnTo>
                      <a:pt x="12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18"/>
                    </a:lnTo>
                    <a:lnTo>
                      <a:pt x="24" y="30"/>
                    </a:lnTo>
                    <a:lnTo>
                      <a:pt x="30" y="42"/>
                    </a:lnTo>
                    <a:lnTo>
                      <a:pt x="42" y="48"/>
                    </a:lnTo>
                    <a:lnTo>
                      <a:pt x="54" y="54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e34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976320" y="846360"/>
                <a:ext cx="29880" cy="6480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42" y="18"/>
                    </a:moveTo>
                    <a:lnTo>
                      <a:pt x="54" y="30"/>
                    </a:lnTo>
                    <a:lnTo>
                      <a:pt x="66" y="48"/>
                    </a:lnTo>
                    <a:lnTo>
                      <a:pt x="72" y="72"/>
                    </a:lnTo>
                    <a:lnTo>
                      <a:pt x="72" y="90"/>
                    </a:lnTo>
                    <a:lnTo>
                      <a:pt x="72" y="108"/>
                    </a:lnTo>
                    <a:lnTo>
                      <a:pt x="66" y="132"/>
                    </a:lnTo>
                    <a:lnTo>
                      <a:pt x="60" y="138"/>
                    </a:lnTo>
                    <a:lnTo>
                      <a:pt x="54" y="144"/>
                    </a:lnTo>
                    <a:lnTo>
                      <a:pt x="48" y="150"/>
                    </a:lnTo>
                    <a:lnTo>
                      <a:pt x="42" y="156"/>
                    </a:lnTo>
                    <a:lnTo>
                      <a:pt x="36" y="156"/>
                    </a:lnTo>
                    <a:lnTo>
                      <a:pt x="30" y="156"/>
                    </a:lnTo>
                    <a:lnTo>
                      <a:pt x="24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44"/>
                    </a:lnTo>
                    <a:lnTo>
                      <a:pt x="42" y="144"/>
                    </a:lnTo>
                    <a:lnTo>
                      <a:pt x="42" y="138"/>
                    </a:lnTo>
                    <a:lnTo>
                      <a:pt x="54" y="126"/>
                    </a:lnTo>
                    <a:lnTo>
                      <a:pt x="60" y="114"/>
                    </a:lnTo>
                    <a:lnTo>
                      <a:pt x="60" y="102"/>
                    </a:lnTo>
                    <a:lnTo>
                      <a:pt x="60" y="90"/>
                    </a:lnTo>
                    <a:lnTo>
                      <a:pt x="60" y="72"/>
                    </a:lnTo>
                    <a:lnTo>
                      <a:pt x="54" y="60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30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918720" y="848520"/>
                <a:ext cx="9720" cy="1980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48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936360" y="8535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72" y="36"/>
                    </a:lnTo>
                    <a:lnTo>
                      <a:pt x="60" y="36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78" y="30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926280" y="868680"/>
                <a:ext cx="52200" cy="2736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120" y="30"/>
                    </a:moveTo>
                    <a:lnTo>
                      <a:pt x="126" y="42"/>
                    </a:lnTo>
                    <a:lnTo>
                      <a:pt x="126" y="48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02" y="60"/>
                    </a:lnTo>
                    <a:lnTo>
                      <a:pt x="90" y="66"/>
                    </a:lnTo>
                    <a:lnTo>
                      <a:pt x="78" y="66"/>
                    </a:lnTo>
                    <a:lnTo>
                      <a:pt x="66" y="66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24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90" y="18"/>
                    </a:lnTo>
                    <a:lnTo>
                      <a:pt x="108" y="24"/>
                    </a:lnTo>
                    <a:lnTo>
                      <a:pt x="120" y="30"/>
                    </a:lnTo>
                    <a:close/>
                  </a:path>
                </a:pathLst>
              </a:custGeom>
              <a:solidFill>
                <a:srgbClr val="e34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913680" y="876240"/>
                <a:ext cx="7200" cy="1980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774000" y="1283760"/>
                <a:ext cx="259920" cy="317520"/>
              </a:xfrm>
              <a:custGeom>
                <a:avLst/>
                <a:gdLst/>
                <a:ahLst/>
                <a:rect l="l" t="t" r="r" b="b"/>
                <a:pathLst>
                  <a:path w="624" h="762">
                    <a:moveTo>
                      <a:pt x="510" y="72"/>
                    </a:moveTo>
                    <a:lnTo>
                      <a:pt x="510" y="96"/>
                    </a:lnTo>
                    <a:lnTo>
                      <a:pt x="510" y="126"/>
                    </a:lnTo>
                    <a:lnTo>
                      <a:pt x="510" y="156"/>
                    </a:lnTo>
                    <a:lnTo>
                      <a:pt x="510" y="186"/>
                    </a:lnTo>
                    <a:lnTo>
                      <a:pt x="516" y="216"/>
                    </a:lnTo>
                    <a:lnTo>
                      <a:pt x="522" y="246"/>
                    </a:lnTo>
                    <a:lnTo>
                      <a:pt x="516" y="258"/>
                    </a:lnTo>
                    <a:lnTo>
                      <a:pt x="510" y="270"/>
                    </a:lnTo>
                    <a:lnTo>
                      <a:pt x="504" y="276"/>
                    </a:lnTo>
                    <a:lnTo>
                      <a:pt x="498" y="288"/>
                    </a:lnTo>
                    <a:lnTo>
                      <a:pt x="498" y="300"/>
                    </a:lnTo>
                    <a:lnTo>
                      <a:pt x="498" y="312"/>
                    </a:lnTo>
                    <a:lnTo>
                      <a:pt x="504" y="318"/>
                    </a:lnTo>
                    <a:lnTo>
                      <a:pt x="504" y="324"/>
                    </a:lnTo>
                    <a:lnTo>
                      <a:pt x="504" y="330"/>
                    </a:lnTo>
                    <a:lnTo>
                      <a:pt x="510" y="330"/>
                    </a:lnTo>
                    <a:lnTo>
                      <a:pt x="510" y="336"/>
                    </a:lnTo>
                    <a:lnTo>
                      <a:pt x="516" y="342"/>
                    </a:lnTo>
                    <a:lnTo>
                      <a:pt x="510" y="342"/>
                    </a:lnTo>
                    <a:lnTo>
                      <a:pt x="504" y="342"/>
                    </a:lnTo>
                    <a:lnTo>
                      <a:pt x="498" y="342"/>
                    </a:lnTo>
                    <a:lnTo>
                      <a:pt x="492" y="342"/>
                    </a:lnTo>
                    <a:lnTo>
                      <a:pt x="492" y="348"/>
                    </a:lnTo>
                    <a:lnTo>
                      <a:pt x="528" y="402"/>
                    </a:lnTo>
                    <a:lnTo>
                      <a:pt x="522" y="402"/>
                    </a:lnTo>
                    <a:lnTo>
                      <a:pt x="510" y="402"/>
                    </a:lnTo>
                    <a:lnTo>
                      <a:pt x="504" y="396"/>
                    </a:lnTo>
                    <a:lnTo>
                      <a:pt x="492" y="396"/>
                    </a:lnTo>
                    <a:lnTo>
                      <a:pt x="492" y="408"/>
                    </a:lnTo>
                    <a:lnTo>
                      <a:pt x="510" y="432"/>
                    </a:lnTo>
                    <a:lnTo>
                      <a:pt x="528" y="450"/>
                    </a:lnTo>
                    <a:lnTo>
                      <a:pt x="552" y="462"/>
                    </a:lnTo>
                    <a:lnTo>
                      <a:pt x="576" y="474"/>
                    </a:lnTo>
                    <a:lnTo>
                      <a:pt x="600" y="486"/>
                    </a:lnTo>
                    <a:lnTo>
                      <a:pt x="624" y="498"/>
                    </a:lnTo>
                    <a:lnTo>
                      <a:pt x="612" y="504"/>
                    </a:lnTo>
                    <a:lnTo>
                      <a:pt x="606" y="504"/>
                    </a:lnTo>
                    <a:lnTo>
                      <a:pt x="594" y="498"/>
                    </a:lnTo>
                    <a:lnTo>
                      <a:pt x="582" y="498"/>
                    </a:lnTo>
                    <a:lnTo>
                      <a:pt x="570" y="498"/>
                    </a:lnTo>
                    <a:lnTo>
                      <a:pt x="558" y="492"/>
                    </a:lnTo>
                    <a:lnTo>
                      <a:pt x="558" y="504"/>
                    </a:lnTo>
                    <a:lnTo>
                      <a:pt x="612" y="552"/>
                    </a:lnTo>
                    <a:lnTo>
                      <a:pt x="594" y="552"/>
                    </a:lnTo>
                    <a:lnTo>
                      <a:pt x="582" y="552"/>
                    </a:lnTo>
                    <a:lnTo>
                      <a:pt x="564" y="552"/>
                    </a:lnTo>
                    <a:lnTo>
                      <a:pt x="546" y="552"/>
                    </a:lnTo>
                    <a:lnTo>
                      <a:pt x="528" y="546"/>
                    </a:lnTo>
                    <a:lnTo>
                      <a:pt x="516" y="540"/>
                    </a:lnTo>
                    <a:lnTo>
                      <a:pt x="510" y="552"/>
                    </a:lnTo>
                    <a:lnTo>
                      <a:pt x="510" y="558"/>
                    </a:lnTo>
                    <a:lnTo>
                      <a:pt x="516" y="570"/>
                    </a:lnTo>
                    <a:lnTo>
                      <a:pt x="522" y="576"/>
                    </a:lnTo>
                    <a:lnTo>
                      <a:pt x="528" y="588"/>
                    </a:lnTo>
                    <a:lnTo>
                      <a:pt x="528" y="594"/>
                    </a:lnTo>
                    <a:lnTo>
                      <a:pt x="516" y="594"/>
                    </a:lnTo>
                    <a:lnTo>
                      <a:pt x="504" y="588"/>
                    </a:lnTo>
                    <a:lnTo>
                      <a:pt x="492" y="582"/>
                    </a:lnTo>
                    <a:lnTo>
                      <a:pt x="480" y="582"/>
                    </a:lnTo>
                    <a:lnTo>
                      <a:pt x="474" y="576"/>
                    </a:lnTo>
                    <a:lnTo>
                      <a:pt x="462" y="570"/>
                    </a:lnTo>
                    <a:lnTo>
                      <a:pt x="456" y="576"/>
                    </a:lnTo>
                    <a:lnTo>
                      <a:pt x="456" y="582"/>
                    </a:lnTo>
                    <a:lnTo>
                      <a:pt x="450" y="582"/>
                    </a:lnTo>
                    <a:lnTo>
                      <a:pt x="420" y="654"/>
                    </a:lnTo>
                    <a:lnTo>
                      <a:pt x="390" y="624"/>
                    </a:lnTo>
                    <a:lnTo>
                      <a:pt x="384" y="630"/>
                    </a:lnTo>
                    <a:lnTo>
                      <a:pt x="378" y="636"/>
                    </a:lnTo>
                    <a:lnTo>
                      <a:pt x="378" y="642"/>
                    </a:lnTo>
                    <a:lnTo>
                      <a:pt x="372" y="648"/>
                    </a:lnTo>
                    <a:lnTo>
                      <a:pt x="372" y="660"/>
                    </a:lnTo>
                    <a:lnTo>
                      <a:pt x="372" y="666"/>
                    </a:lnTo>
                    <a:lnTo>
                      <a:pt x="372" y="660"/>
                    </a:lnTo>
                    <a:lnTo>
                      <a:pt x="366" y="666"/>
                    </a:lnTo>
                    <a:lnTo>
                      <a:pt x="366" y="672"/>
                    </a:lnTo>
                    <a:lnTo>
                      <a:pt x="366" y="678"/>
                    </a:lnTo>
                    <a:lnTo>
                      <a:pt x="366" y="690"/>
                    </a:lnTo>
                    <a:lnTo>
                      <a:pt x="372" y="696"/>
                    </a:lnTo>
                    <a:lnTo>
                      <a:pt x="372" y="702"/>
                    </a:lnTo>
                    <a:lnTo>
                      <a:pt x="366" y="696"/>
                    </a:lnTo>
                    <a:lnTo>
                      <a:pt x="360" y="690"/>
                    </a:lnTo>
                    <a:lnTo>
                      <a:pt x="354" y="684"/>
                    </a:lnTo>
                    <a:lnTo>
                      <a:pt x="348" y="672"/>
                    </a:lnTo>
                    <a:lnTo>
                      <a:pt x="342" y="666"/>
                    </a:lnTo>
                    <a:lnTo>
                      <a:pt x="342" y="654"/>
                    </a:lnTo>
                    <a:lnTo>
                      <a:pt x="336" y="654"/>
                    </a:lnTo>
                    <a:lnTo>
                      <a:pt x="330" y="654"/>
                    </a:lnTo>
                    <a:lnTo>
                      <a:pt x="324" y="666"/>
                    </a:lnTo>
                    <a:lnTo>
                      <a:pt x="318" y="678"/>
                    </a:lnTo>
                    <a:lnTo>
                      <a:pt x="312" y="690"/>
                    </a:lnTo>
                    <a:lnTo>
                      <a:pt x="312" y="702"/>
                    </a:lnTo>
                    <a:lnTo>
                      <a:pt x="312" y="714"/>
                    </a:lnTo>
                    <a:lnTo>
                      <a:pt x="312" y="726"/>
                    </a:lnTo>
                    <a:lnTo>
                      <a:pt x="300" y="732"/>
                    </a:lnTo>
                    <a:lnTo>
                      <a:pt x="288" y="726"/>
                    </a:lnTo>
                    <a:lnTo>
                      <a:pt x="276" y="726"/>
                    </a:lnTo>
                    <a:lnTo>
                      <a:pt x="264" y="720"/>
                    </a:lnTo>
                    <a:lnTo>
                      <a:pt x="252" y="714"/>
                    </a:lnTo>
                    <a:lnTo>
                      <a:pt x="246" y="708"/>
                    </a:lnTo>
                    <a:lnTo>
                      <a:pt x="246" y="696"/>
                    </a:lnTo>
                    <a:lnTo>
                      <a:pt x="246" y="690"/>
                    </a:lnTo>
                    <a:lnTo>
                      <a:pt x="252" y="678"/>
                    </a:lnTo>
                    <a:lnTo>
                      <a:pt x="252" y="666"/>
                    </a:lnTo>
                    <a:lnTo>
                      <a:pt x="252" y="654"/>
                    </a:lnTo>
                    <a:lnTo>
                      <a:pt x="252" y="648"/>
                    </a:lnTo>
                    <a:lnTo>
                      <a:pt x="246" y="648"/>
                    </a:lnTo>
                    <a:lnTo>
                      <a:pt x="240" y="654"/>
                    </a:lnTo>
                    <a:lnTo>
                      <a:pt x="240" y="666"/>
                    </a:lnTo>
                    <a:lnTo>
                      <a:pt x="234" y="672"/>
                    </a:lnTo>
                    <a:lnTo>
                      <a:pt x="234" y="684"/>
                    </a:lnTo>
                    <a:lnTo>
                      <a:pt x="234" y="690"/>
                    </a:lnTo>
                    <a:lnTo>
                      <a:pt x="228" y="702"/>
                    </a:lnTo>
                    <a:lnTo>
                      <a:pt x="228" y="714"/>
                    </a:lnTo>
                    <a:lnTo>
                      <a:pt x="228" y="732"/>
                    </a:lnTo>
                    <a:lnTo>
                      <a:pt x="222" y="744"/>
                    </a:lnTo>
                    <a:lnTo>
                      <a:pt x="216" y="756"/>
                    </a:lnTo>
                    <a:lnTo>
                      <a:pt x="198" y="762"/>
                    </a:lnTo>
                    <a:lnTo>
                      <a:pt x="192" y="762"/>
                    </a:lnTo>
                    <a:lnTo>
                      <a:pt x="186" y="756"/>
                    </a:lnTo>
                    <a:lnTo>
                      <a:pt x="180" y="756"/>
                    </a:lnTo>
                    <a:lnTo>
                      <a:pt x="180" y="750"/>
                    </a:lnTo>
                    <a:lnTo>
                      <a:pt x="174" y="750"/>
                    </a:lnTo>
                    <a:lnTo>
                      <a:pt x="144" y="744"/>
                    </a:lnTo>
                    <a:lnTo>
                      <a:pt x="150" y="726"/>
                    </a:lnTo>
                    <a:lnTo>
                      <a:pt x="156" y="714"/>
                    </a:lnTo>
                    <a:lnTo>
                      <a:pt x="168" y="708"/>
                    </a:lnTo>
                    <a:lnTo>
                      <a:pt x="186" y="702"/>
                    </a:lnTo>
                    <a:lnTo>
                      <a:pt x="198" y="696"/>
                    </a:lnTo>
                    <a:lnTo>
                      <a:pt x="210" y="684"/>
                    </a:lnTo>
                    <a:lnTo>
                      <a:pt x="210" y="678"/>
                    </a:lnTo>
                    <a:lnTo>
                      <a:pt x="210" y="672"/>
                    </a:lnTo>
                    <a:lnTo>
                      <a:pt x="198" y="678"/>
                    </a:lnTo>
                    <a:lnTo>
                      <a:pt x="180" y="684"/>
                    </a:lnTo>
                    <a:lnTo>
                      <a:pt x="168" y="696"/>
                    </a:lnTo>
                    <a:lnTo>
                      <a:pt x="156" y="702"/>
                    </a:lnTo>
                    <a:lnTo>
                      <a:pt x="144" y="702"/>
                    </a:lnTo>
                    <a:lnTo>
                      <a:pt x="132" y="708"/>
                    </a:lnTo>
                    <a:lnTo>
                      <a:pt x="132" y="702"/>
                    </a:lnTo>
                    <a:lnTo>
                      <a:pt x="132" y="708"/>
                    </a:lnTo>
                    <a:lnTo>
                      <a:pt x="126" y="708"/>
                    </a:lnTo>
                    <a:lnTo>
                      <a:pt x="114" y="714"/>
                    </a:lnTo>
                    <a:lnTo>
                      <a:pt x="108" y="720"/>
                    </a:lnTo>
                    <a:lnTo>
                      <a:pt x="102" y="726"/>
                    </a:lnTo>
                    <a:lnTo>
                      <a:pt x="96" y="726"/>
                    </a:lnTo>
                    <a:lnTo>
                      <a:pt x="90" y="732"/>
                    </a:lnTo>
                    <a:lnTo>
                      <a:pt x="84" y="726"/>
                    </a:lnTo>
                    <a:lnTo>
                      <a:pt x="84" y="720"/>
                    </a:lnTo>
                    <a:lnTo>
                      <a:pt x="78" y="720"/>
                    </a:lnTo>
                    <a:lnTo>
                      <a:pt x="84" y="708"/>
                    </a:lnTo>
                    <a:lnTo>
                      <a:pt x="84" y="696"/>
                    </a:lnTo>
                    <a:lnTo>
                      <a:pt x="84" y="690"/>
                    </a:lnTo>
                    <a:lnTo>
                      <a:pt x="84" y="678"/>
                    </a:lnTo>
                    <a:lnTo>
                      <a:pt x="84" y="666"/>
                    </a:lnTo>
                    <a:lnTo>
                      <a:pt x="84" y="660"/>
                    </a:lnTo>
                    <a:lnTo>
                      <a:pt x="78" y="654"/>
                    </a:lnTo>
                    <a:lnTo>
                      <a:pt x="72" y="654"/>
                    </a:lnTo>
                    <a:lnTo>
                      <a:pt x="66" y="660"/>
                    </a:lnTo>
                    <a:lnTo>
                      <a:pt x="66" y="666"/>
                    </a:lnTo>
                    <a:lnTo>
                      <a:pt x="72" y="678"/>
                    </a:lnTo>
                    <a:lnTo>
                      <a:pt x="72" y="684"/>
                    </a:lnTo>
                    <a:lnTo>
                      <a:pt x="72" y="690"/>
                    </a:lnTo>
                    <a:lnTo>
                      <a:pt x="72" y="702"/>
                    </a:lnTo>
                    <a:lnTo>
                      <a:pt x="60" y="702"/>
                    </a:lnTo>
                    <a:lnTo>
                      <a:pt x="54" y="702"/>
                    </a:lnTo>
                    <a:lnTo>
                      <a:pt x="48" y="702"/>
                    </a:lnTo>
                    <a:lnTo>
                      <a:pt x="36" y="702"/>
                    </a:lnTo>
                    <a:lnTo>
                      <a:pt x="30" y="708"/>
                    </a:lnTo>
                    <a:lnTo>
                      <a:pt x="18" y="708"/>
                    </a:lnTo>
                    <a:lnTo>
                      <a:pt x="18" y="714"/>
                    </a:lnTo>
                    <a:lnTo>
                      <a:pt x="12" y="720"/>
                    </a:lnTo>
                    <a:lnTo>
                      <a:pt x="12" y="726"/>
                    </a:lnTo>
                    <a:lnTo>
                      <a:pt x="6" y="732"/>
                    </a:lnTo>
                    <a:lnTo>
                      <a:pt x="6" y="738"/>
                    </a:lnTo>
                    <a:lnTo>
                      <a:pt x="0" y="744"/>
                    </a:lnTo>
                    <a:lnTo>
                      <a:pt x="0" y="732"/>
                    </a:lnTo>
                    <a:lnTo>
                      <a:pt x="0" y="720"/>
                    </a:lnTo>
                    <a:lnTo>
                      <a:pt x="0" y="714"/>
                    </a:lnTo>
                    <a:lnTo>
                      <a:pt x="0" y="702"/>
                    </a:lnTo>
                    <a:lnTo>
                      <a:pt x="6" y="696"/>
                    </a:lnTo>
                    <a:lnTo>
                      <a:pt x="12" y="684"/>
                    </a:lnTo>
                    <a:lnTo>
                      <a:pt x="24" y="678"/>
                    </a:lnTo>
                    <a:lnTo>
                      <a:pt x="36" y="672"/>
                    </a:lnTo>
                    <a:lnTo>
                      <a:pt x="54" y="666"/>
                    </a:lnTo>
                    <a:lnTo>
                      <a:pt x="66" y="660"/>
                    </a:lnTo>
                    <a:lnTo>
                      <a:pt x="72" y="648"/>
                    </a:lnTo>
                    <a:lnTo>
                      <a:pt x="72" y="630"/>
                    </a:lnTo>
                    <a:lnTo>
                      <a:pt x="78" y="630"/>
                    </a:lnTo>
                    <a:lnTo>
                      <a:pt x="84" y="624"/>
                    </a:lnTo>
                    <a:lnTo>
                      <a:pt x="90" y="624"/>
                    </a:lnTo>
                    <a:lnTo>
                      <a:pt x="96" y="624"/>
                    </a:lnTo>
                    <a:lnTo>
                      <a:pt x="108" y="624"/>
                    </a:lnTo>
                    <a:lnTo>
                      <a:pt x="120" y="630"/>
                    </a:lnTo>
                    <a:lnTo>
                      <a:pt x="138" y="636"/>
                    </a:lnTo>
                    <a:lnTo>
                      <a:pt x="150" y="636"/>
                    </a:lnTo>
                    <a:lnTo>
                      <a:pt x="168" y="636"/>
                    </a:lnTo>
                    <a:lnTo>
                      <a:pt x="180" y="630"/>
                    </a:lnTo>
                    <a:lnTo>
                      <a:pt x="192" y="624"/>
                    </a:lnTo>
                    <a:lnTo>
                      <a:pt x="216" y="600"/>
                    </a:lnTo>
                    <a:lnTo>
                      <a:pt x="234" y="582"/>
                    </a:lnTo>
                    <a:lnTo>
                      <a:pt x="258" y="558"/>
                    </a:lnTo>
                    <a:lnTo>
                      <a:pt x="276" y="534"/>
                    </a:lnTo>
                    <a:lnTo>
                      <a:pt x="294" y="510"/>
                    </a:lnTo>
                    <a:lnTo>
                      <a:pt x="312" y="486"/>
                    </a:lnTo>
                    <a:lnTo>
                      <a:pt x="318" y="474"/>
                    </a:lnTo>
                    <a:lnTo>
                      <a:pt x="318" y="462"/>
                    </a:lnTo>
                    <a:lnTo>
                      <a:pt x="318" y="450"/>
                    </a:lnTo>
                    <a:lnTo>
                      <a:pt x="312" y="438"/>
                    </a:lnTo>
                    <a:lnTo>
                      <a:pt x="306" y="420"/>
                    </a:lnTo>
                    <a:lnTo>
                      <a:pt x="300" y="408"/>
                    </a:lnTo>
                    <a:lnTo>
                      <a:pt x="282" y="354"/>
                    </a:lnTo>
                    <a:lnTo>
                      <a:pt x="276" y="300"/>
                    </a:lnTo>
                    <a:lnTo>
                      <a:pt x="276" y="240"/>
                    </a:lnTo>
                    <a:lnTo>
                      <a:pt x="282" y="180"/>
                    </a:lnTo>
                    <a:lnTo>
                      <a:pt x="306" y="126"/>
                    </a:lnTo>
                    <a:lnTo>
                      <a:pt x="342" y="78"/>
                    </a:lnTo>
                    <a:lnTo>
                      <a:pt x="360" y="66"/>
                    </a:lnTo>
                    <a:lnTo>
                      <a:pt x="378" y="48"/>
                    </a:lnTo>
                    <a:lnTo>
                      <a:pt x="396" y="36"/>
                    </a:lnTo>
                    <a:lnTo>
                      <a:pt x="414" y="24"/>
                    </a:lnTo>
                    <a:lnTo>
                      <a:pt x="432" y="12"/>
                    </a:lnTo>
                    <a:lnTo>
                      <a:pt x="450" y="6"/>
                    </a:lnTo>
                    <a:lnTo>
                      <a:pt x="456" y="6"/>
                    </a:lnTo>
                    <a:lnTo>
                      <a:pt x="462" y="6"/>
                    </a:lnTo>
                    <a:lnTo>
                      <a:pt x="468" y="6"/>
                    </a:lnTo>
                    <a:lnTo>
                      <a:pt x="474" y="6"/>
                    </a:lnTo>
                    <a:lnTo>
                      <a:pt x="480" y="6"/>
                    </a:lnTo>
                    <a:lnTo>
                      <a:pt x="486" y="0"/>
                    </a:lnTo>
                    <a:lnTo>
                      <a:pt x="486" y="12"/>
                    </a:lnTo>
                    <a:lnTo>
                      <a:pt x="492" y="24"/>
                    </a:lnTo>
                    <a:lnTo>
                      <a:pt x="492" y="36"/>
                    </a:lnTo>
                    <a:lnTo>
                      <a:pt x="498" y="48"/>
                    </a:lnTo>
                    <a:lnTo>
                      <a:pt x="504" y="60"/>
                    </a:lnTo>
                    <a:lnTo>
                      <a:pt x="510" y="7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801360" y="1528920"/>
                <a:ext cx="29880" cy="1224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30"/>
                    </a:moveTo>
                    <a:lnTo>
                      <a:pt x="60" y="30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66" y="18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768960" y="1533960"/>
                <a:ext cx="32400" cy="1476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78" y="18"/>
                    </a:move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0" y="30"/>
                    </a:lnTo>
                    <a:lnTo>
                      <a:pt x="48" y="24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1033920" y="1566360"/>
                <a:ext cx="37440" cy="1476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90" y="24"/>
                    </a:moveTo>
                    <a:lnTo>
                      <a:pt x="78" y="24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54" y="12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90" y="24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986400" y="1568880"/>
                <a:ext cx="44640" cy="19800"/>
              </a:xfrm>
              <a:custGeom>
                <a:avLst/>
                <a:gdLst/>
                <a:ahLst/>
                <a:rect l="l" t="t" r="r" b="b"/>
                <a:pathLst>
                  <a:path w="108" h="48">
                    <a:moveTo>
                      <a:pt x="108" y="24"/>
                    </a:moveTo>
                    <a:lnTo>
                      <a:pt x="108" y="36"/>
                    </a:lnTo>
                    <a:lnTo>
                      <a:pt x="90" y="30"/>
                    </a:lnTo>
                    <a:lnTo>
                      <a:pt x="78" y="24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24" y="18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18"/>
                    </a:lnTo>
                    <a:lnTo>
                      <a:pt x="108" y="24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1004040" y="1598760"/>
                <a:ext cx="27360" cy="39960"/>
              </a:xfrm>
              <a:custGeom>
                <a:avLst/>
                <a:gdLst/>
                <a:ahLst/>
                <a:rect l="l" t="t" r="r" b="b"/>
                <a:pathLst>
                  <a:path w="66" h="96">
                    <a:moveTo>
                      <a:pt x="66" y="12"/>
                    </a:moveTo>
                    <a:lnTo>
                      <a:pt x="54" y="18"/>
                    </a:lnTo>
                    <a:lnTo>
                      <a:pt x="42" y="30"/>
                    </a:lnTo>
                    <a:lnTo>
                      <a:pt x="30" y="48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836280" y="1601280"/>
                <a:ext cx="22320" cy="273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24" y="30"/>
                    </a:moveTo>
                    <a:lnTo>
                      <a:pt x="54" y="66"/>
                    </a:lnTo>
                    <a:lnTo>
                      <a:pt x="42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ebcf8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0T12:59:50Z</dcterms:created>
  <dc:creator>Sistemi Informativi</dc:creator>
  <dc:description/>
  <dc:language>en-US</dc:language>
  <cp:lastModifiedBy>Luke</cp:lastModifiedBy>
  <cp:lastPrinted>1996-12-11T16:12:56Z</cp:lastPrinted>
  <dcterms:modified xsi:type="dcterms:W3CDTF">2005-06-13T19:21:22Z</dcterms:modified>
  <cp:revision>158</cp:revision>
  <dc:subject/>
  <dc:title>Nessun titolo diapositiva</dc:title>
</cp:coreProperties>
</file>