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69960" y="90360"/>
            <a:ext cx="610884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b2b2b2"/>
                </a:solidFill>
                <a:latin typeface="Univers"/>
                <a:ea typeface="Univers"/>
              </a:rPr>
              <a:t>You Will Have a Pl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212760" y="97488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a3a3a3"/>
                </a:solidFill>
                <a:latin typeface="Univers"/>
                <a:ea typeface="Univers"/>
              </a:rPr>
              <a:t>You will be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2651040" y="1141560"/>
            <a:ext cx="42037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a3a3a3"/>
                </a:solidFill>
                <a:latin typeface="Univers"/>
                <a:ea typeface="Univers"/>
              </a:rPr>
              <a:t>You Will Be Wr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416400" y="776160"/>
            <a:ext cx="54180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a3a3a3"/>
                </a:solidFill>
                <a:latin typeface="Univers"/>
                <a:ea typeface="Univers"/>
              </a:rPr>
              <a:t>You will attempt the im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42160" y="1347840"/>
            <a:ext cx="238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a3a3a3"/>
                </a:solidFill>
                <a:latin typeface="Univers"/>
                <a:ea typeface="Univers"/>
              </a:rPr>
              <a:t>You will pull 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476440"/>
            <a:ext cx="9142560" cy="2552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32280" y="234648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79640" y="303228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357200" y="5089680"/>
            <a:ext cx="6818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  <a:ea typeface="Univers"/>
              </a:rPr>
              <a:t>YOU WILL KNOW WHAT IT IS TO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79640" y="516564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47720" y="5599080"/>
            <a:ext cx="778824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600" spc="-1" strike="noStrike">
                <a:solidFill>
                  <a:srgbClr val="a3a3a3"/>
                </a:solidFill>
                <a:latin typeface="Bernhard Modern Roman"/>
                <a:ea typeface="Bernhard Modern Roman"/>
              </a:rPr>
              <a:t>MECHCOMMAND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519120" y="212760"/>
            <a:ext cx="8299440" cy="7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99"/>
                </a:solidFill>
                <a:latin typeface="Charlemagne"/>
                <a:ea typeface="Charlemagne"/>
              </a:rPr>
              <a:t>BUM OF THE BATTLEF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895480" y="932040"/>
            <a:ext cx="3220920" cy="3944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2119320" y="4923000"/>
            <a:ext cx="5060880" cy="11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cff66"/>
                </a:solidFill>
                <a:latin typeface="Letter Gothic"/>
                <a:ea typeface="Letter Gothic"/>
              </a:rPr>
              <a:t>Jagermech 70T Heavy M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33520" y="5592600"/>
            <a:ext cx="831528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ccff66"/>
                </a:solidFill>
                <a:latin typeface="Arial"/>
                <a:ea typeface="Arial"/>
              </a:rPr>
              <a:t>Havng Light Ultra Autocannons as its primary firepower, the Jager is incapable of dealing an alpha-strike. Its slow speed adds to the uselessness of this 70 ton bu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2879640" y="334800"/>
            <a:ext cx="38116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Royal Pain"/>
                <a:ea typeface="Royal Pain"/>
              </a:rPr>
              <a:t>Game Ra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41360" y="1569960"/>
            <a:ext cx="1843200" cy="44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cc99"/>
                </a:solidFill>
                <a:latin typeface="Colonna MT"/>
                <a:ea typeface="Colonna MT"/>
              </a:rPr>
              <a:t>gap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cc99"/>
                </a:solidFill>
                <a:latin typeface="Colonna MT"/>
                <a:ea typeface="Colonna MT"/>
              </a:rPr>
              <a:t>sound f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cc99"/>
                </a:solidFill>
                <a:latin typeface="Colonna MT"/>
                <a:ea typeface="Colonna MT"/>
              </a:rPr>
              <a:t>mu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cc99"/>
                </a:solidFill>
                <a:latin typeface="Colonna MT"/>
                <a:ea typeface="Colonna MT"/>
              </a:rPr>
              <a:t>game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22760" y="1523880"/>
            <a:ext cx="2487600" cy="38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cc99"/>
                </a:solidFill>
                <a:latin typeface="Colonna MT"/>
                <a:ea typeface="Colonna MT"/>
              </a:rPr>
              <a:t>multip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cc99"/>
                </a:solidFill>
                <a:latin typeface="Colonna MT"/>
                <a:ea typeface="Colonna MT"/>
              </a:rPr>
              <a:t>re-play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cc99"/>
                </a:solidFill>
                <a:latin typeface="Colonna MT"/>
                <a:ea typeface="Colonna MT"/>
              </a:rPr>
              <a:t>difficul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cc99"/>
                </a:solidFill>
                <a:latin typeface="Colonna MT"/>
                <a:ea typeface="Colonna MT"/>
              </a:rPr>
              <a:t>over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86000" y="16765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635" y="0"/>
                </a:moveTo>
                <a:lnTo>
                  <a:pt x="486" y="325"/>
                </a:lnTo>
                <a:lnTo>
                  <a:pt x="0" y="325"/>
                </a:lnTo>
                <a:lnTo>
                  <a:pt x="395" y="525"/>
                </a:lnTo>
                <a:lnTo>
                  <a:pt x="246" y="848"/>
                </a:lnTo>
                <a:lnTo>
                  <a:pt x="635" y="662"/>
                </a:lnTo>
                <a:lnTo>
                  <a:pt x="1024" y="848"/>
                </a:lnTo>
                <a:lnTo>
                  <a:pt x="874" y="525"/>
                </a:lnTo>
                <a:lnTo>
                  <a:pt x="1271" y="324"/>
                </a:lnTo>
                <a:lnTo>
                  <a:pt x="784" y="324"/>
                </a:lnTo>
                <a:lnTo>
                  <a:pt x="635" y="0"/>
                </a:lnTo>
                <a:close/>
              </a:path>
            </a:pathLst>
          </a:custGeom>
          <a:solidFill>
            <a:srgbClr val="33993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43200" y="16765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635" y="0"/>
                </a:moveTo>
                <a:lnTo>
                  <a:pt x="486" y="325"/>
                </a:lnTo>
                <a:lnTo>
                  <a:pt x="0" y="325"/>
                </a:lnTo>
                <a:lnTo>
                  <a:pt x="395" y="525"/>
                </a:lnTo>
                <a:lnTo>
                  <a:pt x="246" y="848"/>
                </a:lnTo>
                <a:lnTo>
                  <a:pt x="635" y="662"/>
                </a:lnTo>
                <a:lnTo>
                  <a:pt x="1024" y="848"/>
                </a:lnTo>
                <a:lnTo>
                  <a:pt x="874" y="525"/>
                </a:lnTo>
                <a:lnTo>
                  <a:pt x="1271" y="324"/>
                </a:lnTo>
                <a:lnTo>
                  <a:pt x="784" y="324"/>
                </a:lnTo>
                <a:lnTo>
                  <a:pt x="635" y="0"/>
                </a:lnTo>
                <a:close/>
              </a:path>
            </a:pathLst>
          </a:custGeom>
          <a:solidFill>
            <a:srgbClr val="33993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00400" y="16765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635" y="0"/>
                </a:moveTo>
                <a:lnTo>
                  <a:pt x="486" y="325"/>
                </a:lnTo>
                <a:lnTo>
                  <a:pt x="0" y="325"/>
                </a:lnTo>
                <a:lnTo>
                  <a:pt x="395" y="525"/>
                </a:lnTo>
                <a:lnTo>
                  <a:pt x="246" y="848"/>
                </a:lnTo>
                <a:lnTo>
                  <a:pt x="635" y="662"/>
                </a:lnTo>
                <a:lnTo>
                  <a:pt x="1024" y="848"/>
                </a:lnTo>
                <a:lnTo>
                  <a:pt x="874" y="525"/>
                </a:lnTo>
                <a:lnTo>
                  <a:pt x="1271" y="324"/>
                </a:lnTo>
                <a:lnTo>
                  <a:pt x="784" y="324"/>
                </a:lnTo>
                <a:lnTo>
                  <a:pt x="635" y="0"/>
                </a:lnTo>
                <a:close/>
              </a:path>
            </a:pathLst>
          </a:custGeom>
          <a:solidFill>
            <a:srgbClr val="33993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6765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635" y="0"/>
                </a:moveTo>
                <a:lnTo>
                  <a:pt x="486" y="325"/>
                </a:lnTo>
                <a:lnTo>
                  <a:pt x="0" y="325"/>
                </a:lnTo>
                <a:lnTo>
                  <a:pt x="395" y="525"/>
                </a:lnTo>
                <a:lnTo>
                  <a:pt x="246" y="848"/>
                </a:lnTo>
                <a:lnTo>
                  <a:pt x="635" y="662"/>
                </a:lnTo>
                <a:lnTo>
                  <a:pt x="1024" y="848"/>
                </a:lnTo>
                <a:lnTo>
                  <a:pt x="874" y="525"/>
                </a:lnTo>
                <a:lnTo>
                  <a:pt x="1271" y="324"/>
                </a:lnTo>
                <a:lnTo>
                  <a:pt x="784" y="324"/>
                </a:lnTo>
                <a:lnTo>
                  <a:pt x="635" y="0"/>
                </a:lnTo>
                <a:close/>
              </a:path>
            </a:pathLst>
          </a:custGeom>
          <a:solidFill>
            <a:srgbClr val="33993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14800" y="16765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635" y="0"/>
                </a:moveTo>
                <a:lnTo>
                  <a:pt x="486" y="325"/>
                </a:lnTo>
                <a:lnTo>
                  <a:pt x="0" y="325"/>
                </a:lnTo>
                <a:lnTo>
                  <a:pt x="395" y="525"/>
                </a:lnTo>
                <a:lnTo>
                  <a:pt x="246" y="848"/>
                </a:lnTo>
                <a:lnTo>
                  <a:pt x="635" y="662"/>
                </a:lnTo>
                <a:lnTo>
                  <a:pt x="1024" y="848"/>
                </a:lnTo>
                <a:lnTo>
                  <a:pt x="874" y="525"/>
                </a:lnTo>
                <a:lnTo>
                  <a:pt x="1271" y="324"/>
                </a:lnTo>
                <a:lnTo>
                  <a:pt x="784" y="324"/>
                </a:lnTo>
                <a:lnTo>
                  <a:pt x="635" y="0"/>
                </a:lnTo>
                <a:close/>
              </a:path>
            </a:pathLst>
          </a:custGeom>
          <a:solidFill>
            <a:srgbClr val="33993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66688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635" y="0"/>
                </a:moveTo>
                <a:lnTo>
                  <a:pt x="486" y="325"/>
                </a:lnTo>
                <a:lnTo>
                  <a:pt x="0" y="325"/>
                </a:lnTo>
                <a:lnTo>
                  <a:pt x="395" y="525"/>
                </a:lnTo>
                <a:lnTo>
                  <a:pt x="246" y="848"/>
                </a:lnTo>
                <a:lnTo>
                  <a:pt x="635" y="662"/>
                </a:lnTo>
                <a:lnTo>
                  <a:pt x="1024" y="848"/>
                </a:lnTo>
                <a:lnTo>
                  <a:pt x="874" y="525"/>
                </a:lnTo>
                <a:lnTo>
                  <a:pt x="1271" y="324"/>
                </a:lnTo>
                <a:lnTo>
                  <a:pt x="784" y="324"/>
                </a:lnTo>
                <a:lnTo>
                  <a:pt x="635" y="0"/>
                </a:lnTo>
                <a:close/>
              </a:path>
            </a:pathLst>
          </a:custGeom>
          <a:solidFill>
            <a:srgbClr val="33993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266688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635" y="0"/>
                </a:moveTo>
                <a:lnTo>
                  <a:pt x="486" y="325"/>
                </a:lnTo>
                <a:lnTo>
                  <a:pt x="0" y="325"/>
                </a:lnTo>
                <a:lnTo>
                  <a:pt x="395" y="525"/>
                </a:lnTo>
                <a:lnTo>
                  <a:pt x="246" y="848"/>
                </a:lnTo>
                <a:lnTo>
                  <a:pt x="635" y="662"/>
                </a:lnTo>
                <a:lnTo>
                  <a:pt x="1024" y="848"/>
                </a:lnTo>
                <a:lnTo>
                  <a:pt x="874" y="525"/>
                </a:lnTo>
                <a:lnTo>
                  <a:pt x="1271" y="324"/>
                </a:lnTo>
                <a:lnTo>
                  <a:pt x="784" y="324"/>
                </a:lnTo>
                <a:lnTo>
                  <a:pt x="635" y="0"/>
                </a:lnTo>
                <a:close/>
              </a:path>
            </a:pathLst>
          </a:custGeom>
          <a:solidFill>
            <a:srgbClr val="33993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00400" y="266688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635" y="0"/>
                </a:moveTo>
                <a:lnTo>
                  <a:pt x="486" y="325"/>
                </a:lnTo>
                <a:lnTo>
                  <a:pt x="0" y="325"/>
                </a:lnTo>
                <a:lnTo>
                  <a:pt x="395" y="525"/>
                </a:lnTo>
                <a:lnTo>
                  <a:pt x="246" y="848"/>
                </a:lnTo>
                <a:lnTo>
                  <a:pt x="635" y="662"/>
                </a:lnTo>
                <a:lnTo>
                  <a:pt x="1024" y="848"/>
                </a:lnTo>
                <a:lnTo>
                  <a:pt x="874" y="525"/>
                </a:lnTo>
                <a:lnTo>
                  <a:pt x="1271" y="324"/>
                </a:lnTo>
                <a:lnTo>
                  <a:pt x="784" y="324"/>
                </a:lnTo>
                <a:lnTo>
                  <a:pt x="635" y="0"/>
                </a:lnTo>
                <a:close/>
              </a:path>
            </a:pathLst>
          </a:custGeom>
          <a:solidFill>
            <a:srgbClr val="33993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66688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635" y="0"/>
                </a:moveTo>
                <a:lnTo>
                  <a:pt x="486" y="325"/>
                </a:lnTo>
                <a:lnTo>
                  <a:pt x="0" y="325"/>
                </a:lnTo>
                <a:lnTo>
                  <a:pt x="395" y="525"/>
                </a:lnTo>
                <a:lnTo>
                  <a:pt x="246" y="848"/>
                </a:lnTo>
                <a:lnTo>
                  <a:pt x="635" y="662"/>
                </a:lnTo>
                <a:lnTo>
                  <a:pt x="1024" y="848"/>
                </a:lnTo>
                <a:lnTo>
                  <a:pt x="874" y="525"/>
                </a:lnTo>
                <a:lnTo>
                  <a:pt x="1271" y="324"/>
                </a:lnTo>
                <a:lnTo>
                  <a:pt x="784" y="324"/>
                </a:lnTo>
                <a:lnTo>
                  <a:pt x="635" y="0"/>
                </a:lnTo>
                <a:close/>
              </a:path>
            </a:pathLst>
          </a:custGeom>
          <a:solidFill>
            <a:srgbClr val="33993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14800" y="266688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635" y="0"/>
                </a:moveTo>
                <a:lnTo>
                  <a:pt x="486" y="325"/>
                </a:lnTo>
                <a:lnTo>
                  <a:pt x="0" y="325"/>
                </a:lnTo>
                <a:lnTo>
                  <a:pt x="395" y="525"/>
                </a:lnTo>
                <a:lnTo>
                  <a:pt x="246" y="848"/>
                </a:lnTo>
                <a:lnTo>
                  <a:pt x="635" y="662"/>
                </a:lnTo>
                <a:lnTo>
                  <a:pt x="1024" y="848"/>
                </a:lnTo>
                <a:lnTo>
                  <a:pt x="874" y="525"/>
                </a:lnTo>
                <a:lnTo>
                  <a:pt x="1271" y="324"/>
                </a:lnTo>
                <a:lnTo>
                  <a:pt x="784" y="324"/>
                </a:lnTo>
                <a:lnTo>
                  <a:pt x="635" y="0"/>
                </a:lnTo>
                <a:close/>
              </a:path>
            </a:pathLst>
          </a:custGeom>
          <a:solidFill>
            <a:srgbClr val="33993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365760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635" y="0"/>
                </a:moveTo>
                <a:lnTo>
                  <a:pt x="486" y="325"/>
                </a:lnTo>
                <a:lnTo>
                  <a:pt x="0" y="325"/>
                </a:lnTo>
                <a:lnTo>
                  <a:pt x="395" y="525"/>
                </a:lnTo>
                <a:lnTo>
                  <a:pt x="246" y="848"/>
                </a:lnTo>
                <a:lnTo>
                  <a:pt x="635" y="662"/>
                </a:lnTo>
                <a:lnTo>
                  <a:pt x="1024" y="848"/>
                </a:lnTo>
                <a:lnTo>
                  <a:pt x="874" y="525"/>
                </a:lnTo>
                <a:lnTo>
                  <a:pt x="1271" y="324"/>
                </a:lnTo>
                <a:lnTo>
                  <a:pt x="784" y="324"/>
                </a:lnTo>
                <a:lnTo>
                  <a:pt x="635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43200" y="365760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635" y="0"/>
                </a:moveTo>
                <a:lnTo>
                  <a:pt x="486" y="325"/>
                </a:lnTo>
                <a:lnTo>
                  <a:pt x="0" y="325"/>
                </a:lnTo>
                <a:lnTo>
                  <a:pt x="395" y="525"/>
                </a:lnTo>
                <a:lnTo>
                  <a:pt x="246" y="848"/>
                </a:lnTo>
                <a:lnTo>
                  <a:pt x="635" y="662"/>
                </a:lnTo>
                <a:lnTo>
                  <a:pt x="1024" y="848"/>
                </a:lnTo>
                <a:lnTo>
                  <a:pt x="874" y="525"/>
                </a:lnTo>
                <a:lnTo>
                  <a:pt x="1271" y="324"/>
                </a:lnTo>
                <a:lnTo>
                  <a:pt x="784" y="324"/>
                </a:lnTo>
                <a:lnTo>
                  <a:pt x="635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365760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635" y="0"/>
                </a:moveTo>
                <a:lnTo>
                  <a:pt x="486" y="325"/>
                </a:lnTo>
                <a:lnTo>
                  <a:pt x="0" y="325"/>
                </a:lnTo>
                <a:lnTo>
                  <a:pt x="395" y="525"/>
                </a:lnTo>
                <a:lnTo>
                  <a:pt x="246" y="848"/>
                </a:lnTo>
                <a:lnTo>
                  <a:pt x="635" y="662"/>
                </a:lnTo>
                <a:lnTo>
                  <a:pt x="1024" y="848"/>
                </a:lnTo>
                <a:lnTo>
                  <a:pt x="874" y="525"/>
                </a:lnTo>
                <a:lnTo>
                  <a:pt x="1271" y="324"/>
                </a:lnTo>
                <a:lnTo>
                  <a:pt x="784" y="324"/>
                </a:lnTo>
                <a:lnTo>
                  <a:pt x="635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365760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635" y="0"/>
                </a:moveTo>
                <a:lnTo>
                  <a:pt x="486" y="325"/>
                </a:lnTo>
                <a:lnTo>
                  <a:pt x="0" y="325"/>
                </a:lnTo>
                <a:lnTo>
                  <a:pt x="395" y="525"/>
                </a:lnTo>
                <a:lnTo>
                  <a:pt x="246" y="848"/>
                </a:lnTo>
                <a:lnTo>
                  <a:pt x="635" y="662"/>
                </a:lnTo>
                <a:lnTo>
                  <a:pt x="1024" y="848"/>
                </a:lnTo>
                <a:lnTo>
                  <a:pt x="874" y="525"/>
                </a:lnTo>
                <a:lnTo>
                  <a:pt x="1271" y="324"/>
                </a:lnTo>
                <a:lnTo>
                  <a:pt x="784" y="324"/>
                </a:lnTo>
                <a:lnTo>
                  <a:pt x="635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0" y="46483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635" y="0"/>
                </a:moveTo>
                <a:lnTo>
                  <a:pt x="486" y="325"/>
                </a:lnTo>
                <a:lnTo>
                  <a:pt x="0" y="325"/>
                </a:lnTo>
                <a:lnTo>
                  <a:pt x="395" y="525"/>
                </a:lnTo>
                <a:lnTo>
                  <a:pt x="246" y="848"/>
                </a:lnTo>
                <a:lnTo>
                  <a:pt x="635" y="662"/>
                </a:lnTo>
                <a:lnTo>
                  <a:pt x="1024" y="848"/>
                </a:lnTo>
                <a:lnTo>
                  <a:pt x="874" y="525"/>
                </a:lnTo>
                <a:lnTo>
                  <a:pt x="1271" y="324"/>
                </a:lnTo>
                <a:lnTo>
                  <a:pt x="784" y="324"/>
                </a:lnTo>
                <a:lnTo>
                  <a:pt x="635" y="0"/>
                </a:lnTo>
                <a:close/>
              </a:path>
            </a:pathLst>
          </a:custGeom>
          <a:solidFill>
            <a:srgbClr val="33993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43200" y="46483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635" y="0"/>
                </a:moveTo>
                <a:lnTo>
                  <a:pt x="486" y="325"/>
                </a:lnTo>
                <a:lnTo>
                  <a:pt x="0" y="325"/>
                </a:lnTo>
                <a:lnTo>
                  <a:pt x="395" y="525"/>
                </a:lnTo>
                <a:lnTo>
                  <a:pt x="246" y="848"/>
                </a:lnTo>
                <a:lnTo>
                  <a:pt x="635" y="662"/>
                </a:lnTo>
                <a:lnTo>
                  <a:pt x="1024" y="848"/>
                </a:lnTo>
                <a:lnTo>
                  <a:pt x="874" y="525"/>
                </a:lnTo>
                <a:lnTo>
                  <a:pt x="1271" y="324"/>
                </a:lnTo>
                <a:lnTo>
                  <a:pt x="784" y="324"/>
                </a:lnTo>
                <a:lnTo>
                  <a:pt x="635" y="0"/>
                </a:lnTo>
                <a:close/>
              </a:path>
            </a:pathLst>
          </a:custGeom>
          <a:solidFill>
            <a:srgbClr val="33993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00400" y="46483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635" y="0"/>
                </a:moveTo>
                <a:lnTo>
                  <a:pt x="486" y="325"/>
                </a:lnTo>
                <a:lnTo>
                  <a:pt x="0" y="325"/>
                </a:lnTo>
                <a:lnTo>
                  <a:pt x="395" y="525"/>
                </a:lnTo>
                <a:lnTo>
                  <a:pt x="246" y="848"/>
                </a:lnTo>
                <a:lnTo>
                  <a:pt x="635" y="662"/>
                </a:lnTo>
                <a:lnTo>
                  <a:pt x="1024" y="848"/>
                </a:lnTo>
                <a:lnTo>
                  <a:pt x="874" y="525"/>
                </a:lnTo>
                <a:lnTo>
                  <a:pt x="1271" y="324"/>
                </a:lnTo>
                <a:lnTo>
                  <a:pt x="784" y="324"/>
                </a:lnTo>
                <a:lnTo>
                  <a:pt x="635" y="0"/>
                </a:lnTo>
                <a:close/>
              </a:path>
            </a:pathLst>
          </a:custGeom>
          <a:solidFill>
            <a:srgbClr val="33993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46483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635" y="0"/>
                </a:moveTo>
                <a:lnTo>
                  <a:pt x="486" y="325"/>
                </a:lnTo>
                <a:lnTo>
                  <a:pt x="0" y="325"/>
                </a:lnTo>
                <a:lnTo>
                  <a:pt x="395" y="525"/>
                </a:lnTo>
                <a:lnTo>
                  <a:pt x="246" y="848"/>
                </a:lnTo>
                <a:lnTo>
                  <a:pt x="635" y="662"/>
                </a:lnTo>
                <a:lnTo>
                  <a:pt x="1024" y="848"/>
                </a:lnTo>
                <a:lnTo>
                  <a:pt x="874" y="525"/>
                </a:lnTo>
                <a:lnTo>
                  <a:pt x="1271" y="324"/>
                </a:lnTo>
                <a:lnTo>
                  <a:pt x="784" y="324"/>
                </a:lnTo>
                <a:lnTo>
                  <a:pt x="635" y="0"/>
                </a:lnTo>
                <a:close/>
              </a:path>
            </a:pathLst>
          </a:custGeom>
          <a:solidFill>
            <a:srgbClr val="33993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4800" y="46483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635" y="0"/>
                </a:moveTo>
                <a:lnTo>
                  <a:pt x="486" y="325"/>
                </a:lnTo>
                <a:lnTo>
                  <a:pt x="0" y="325"/>
                </a:lnTo>
                <a:lnTo>
                  <a:pt x="395" y="525"/>
                </a:lnTo>
                <a:lnTo>
                  <a:pt x="246" y="848"/>
                </a:lnTo>
                <a:lnTo>
                  <a:pt x="635" y="662"/>
                </a:lnTo>
                <a:lnTo>
                  <a:pt x="1024" y="848"/>
                </a:lnTo>
                <a:lnTo>
                  <a:pt x="874" y="525"/>
                </a:lnTo>
                <a:lnTo>
                  <a:pt x="1271" y="324"/>
                </a:lnTo>
                <a:lnTo>
                  <a:pt x="784" y="324"/>
                </a:lnTo>
                <a:lnTo>
                  <a:pt x="635" y="0"/>
                </a:lnTo>
                <a:close/>
              </a:path>
            </a:pathLst>
          </a:custGeom>
          <a:solidFill>
            <a:srgbClr val="33993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10280" y="160020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636" y="0"/>
                </a:moveTo>
                <a:lnTo>
                  <a:pt x="487" y="325"/>
                </a:lnTo>
                <a:lnTo>
                  <a:pt x="0" y="325"/>
                </a:lnTo>
                <a:lnTo>
                  <a:pt x="396" y="525"/>
                </a:lnTo>
                <a:lnTo>
                  <a:pt x="246" y="848"/>
                </a:lnTo>
                <a:lnTo>
                  <a:pt x="636" y="662"/>
                </a:lnTo>
                <a:lnTo>
                  <a:pt x="1025" y="848"/>
                </a:lnTo>
                <a:lnTo>
                  <a:pt x="874" y="525"/>
                </a:lnTo>
                <a:lnTo>
                  <a:pt x="1271" y="324"/>
                </a:lnTo>
                <a:lnTo>
                  <a:pt x="784" y="324"/>
                </a:lnTo>
                <a:lnTo>
                  <a:pt x="636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467480" y="160020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635" y="0"/>
                </a:moveTo>
                <a:lnTo>
                  <a:pt x="486" y="325"/>
                </a:lnTo>
                <a:lnTo>
                  <a:pt x="0" y="325"/>
                </a:lnTo>
                <a:lnTo>
                  <a:pt x="395" y="525"/>
                </a:lnTo>
                <a:lnTo>
                  <a:pt x="246" y="848"/>
                </a:lnTo>
                <a:lnTo>
                  <a:pt x="635" y="662"/>
                </a:lnTo>
                <a:lnTo>
                  <a:pt x="1024" y="848"/>
                </a:lnTo>
                <a:lnTo>
                  <a:pt x="874" y="525"/>
                </a:lnTo>
                <a:lnTo>
                  <a:pt x="1271" y="324"/>
                </a:lnTo>
                <a:lnTo>
                  <a:pt x="784" y="324"/>
                </a:lnTo>
                <a:lnTo>
                  <a:pt x="635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924680" y="160020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635" y="0"/>
                </a:moveTo>
                <a:lnTo>
                  <a:pt x="486" y="325"/>
                </a:lnTo>
                <a:lnTo>
                  <a:pt x="0" y="325"/>
                </a:lnTo>
                <a:lnTo>
                  <a:pt x="395" y="525"/>
                </a:lnTo>
                <a:lnTo>
                  <a:pt x="246" y="848"/>
                </a:lnTo>
                <a:lnTo>
                  <a:pt x="635" y="662"/>
                </a:lnTo>
                <a:lnTo>
                  <a:pt x="1024" y="848"/>
                </a:lnTo>
                <a:lnTo>
                  <a:pt x="874" y="525"/>
                </a:lnTo>
                <a:lnTo>
                  <a:pt x="1271" y="324"/>
                </a:lnTo>
                <a:lnTo>
                  <a:pt x="784" y="324"/>
                </a:lnTo>
                <a:lnTo>
                  <a:pt x="635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1880" y="160020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635" y="0"/>
                </a:moveTo>
                <a:lnTo>
                  <a:pt x="486" y="325"/>
                </a:lnTo>
                <a:lnTo>
                  <a:pt x="0" y="325"/>
                </a:lnTo>
                <a:lnTo>
                  <a:pt x="395" y="525"/>
                </a:lnTo>
                <a:lnTo>
                  <a:pt x="246" y="848"/>
                </a:lnTo>
                <a:lnTo>
                  <a:pt x="635" y="662"/>
                </a:lnTo>
                <a:lnTo>
                  <a:pt x="1024" y="848"/>
                </a:lnTo>
                <a:lnTo>
                  <a:pt x="874" y="525"/>
                </a:lnTo>
                <a:lnTo>
                  <a:pt x="1271" y="324"/>
                </a:lnTo>
                <a:lnTo>
                  <a:pt x="784" y="324"/>
                </a:lnTo>
                <a:lnTo>
                  <a:pt x="635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25909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635" y="0"/>
                </a:moveTo>
                <a:lnTo>
                  <a:pt x="486" y="325"/>
                </a:lnTo>
                <a:lnTo>
                  <a:pt x="0" y="325"/>
                </a:lnTo>
                <a:lnTo>
                  <a:pt x="395" y="525"/>
                </a:lnTo>
                <a:lnTo>
                  <a:pt x="246" y="848"/>
                </a:lnTo>
                <a:lnTo>
                  <a:pt x="635" y="662"/>
                </a:lnTo>
                <a:lnTo>
                  <a:pt x="1024" y="848"/>
                </a:lnTo>
                <a:lnTo>
                  <a:pt x="874" y="525"/>
                </a:lnTo>
                <a:lnTo>
                  <a:pt x="1271" y="324"/>
                </a:lnTo>
                <a:lnTo>
                  <a:pt x="784" y="324"/>
                </a:lnTo>
                <a:lnTo>
                  <a:pt x="635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43800" y="25909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635" y="0"/>
                </a:moveTo>
                <a:lnTo>
                  <a:pt x="486" y="325"/>
                </a:lnTo>
                <a:lnTo>
                  <a:pt x="0" y="325"/>
                </a:lnTo>
                <a:lnTo>
                  <a:pt x="395" y="525"/>
                </a:lnTo>
                <a:lnTo>
                  <a:pt x="246" y="848"/>
                </a:lnTo>
                <a:lnTo>
                  <a:pt x="635" y="662"/>
                </a:lnTo>
                <a:lnTo>
                  <a:pt x="1024" y="848"/>
                </a:lnTo>
                <a:lnTo>
                  <a:pt x="874" y="525"/>
                </a:lnTo>
                <a:lnTo>
                  <a:pt x="1271" y="324"/>
                </a:lnTo>
                <a:lnTo>
                  <a:pt x="784" y="324"/>
                </a:lnTo>
                <a:lnTo>
                  <a:pt x="635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001000" y="25909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635" y="0"/>
                </a:moveTo>
                <a:lnTo>
                  <a:pt x="486" y="325"/>
                </a:lnTo>
                <a:lnTo>
                  <a:pt x="0" y="325"/>
                </a:lnTo>
                <a:lnTo>
                  <a:pt x="395" y="525"/>
                </a:lnTo>
                <a:lnTo>
                  <a:pt x="246" y="848"/>
                </a:lnTo>
                <a:lnTo>
                  <a:pt x="635" y="662"/>
                </a:lnTo>
                <a:lnTo>
                  <a:pt x="1024" y="848"/>
                </a:lnTo>
                <a:lnTo>
                  <a:pt x="874" y="525"/>
                </a:lnTo>
                <a:lnTo>
                  <a:pt x="1271" y="324"/>
                </a:lnTo>
                <a:lnTo>
                  <a:pt x="784" y="324"/>
                </a:lnTo>
                <a:lnTo>
                  <a:pt x="635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86600" y="365760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635" y="0"/>
                </a:moveTo>
                <a:lnTo>
                  <a:pt x="486" y="325"/>
                </a:lnTo>
                <a:lnTo>
                  <a:pt x="0" y="325"/>
                </a:lnTo>
                <a:lnTo>
                  <a:pt x="395" y="525"/>
                </a:lnTo>
                <a:lnTo>
                  <a:pt x="246" y="848"/>
                </a:lnTo>
                <a:lnTo>
                  <a:pt x="635" y="662"/>
                </a:lnTo>
                <a:lnTo>
                  <a:pt x="1024" y="848"/>
                </a:lnTo>
                <a:lnTo>
                  <a:pt x="874" y="525"/>
                </a:lnTo>
                <a:lnTo>
                  <a:pt x="1271" y="324"/>
                </a:lnTo>
                <a:lnTo>
                  <a:pt x="784" y="324"/>
                </a:lnTo>
                <a:lnTo>
                  <a:pt x="635" y="0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43800" y="365760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635" y="0"/>
                </a:moveTo>
                <a:lnTo>
                  <a:pt x="486" y="325"/>
                </a:lnTo>
                <a:lnTo>
                  <a:pt x="0" y="325"/>
                </a:lnTo>
                <a:lnTo>
                  <a:pt x="395" y="525"/>
                </a:lnTo>
                <a:lnTo>
                  <a:pt x="246" y="848"/>
                </a:lnTo>
                <a:lnTo>
                  <a:pt x="635" y="662"/>
                </a:lnTo>
                <a:lnTo>
                  <a:pt x="1024" y="848"/>
                </a:lnTo>
                <a:lnTo>
                  <a:pt x="874" y="525"/>
                </a:lnTo>
                <a:lnTo>
                  <a:pt x="1271" y="324"/>
                </a:lnTo>
                <a:lnTo>
                  <a:pt x="784" y="324"/>
                </a:lnTo>
                <a:lnTo>
                  <a:pt x="635" y="0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86600" y="457200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635" y="0"/>
                </a:moveTo>
                <a:lnTo>
                  <a:pt x="486" y="325"/>
                </a:lnTo>
                <a:lnTo>
                  <a:pt x="0" y="325"/>
                </a:lnTo>
                <a:lnTo>
                  <a:pt x="395" y="525"/>
                </a:lnTo>
                <a:lnTo>
                  <a:pt x="246" y="848"/>
                </a:lnTo>
                <a:lnTo>
                  <a:pt x="635" y="662"/>
                </a:lnTo>
                <a:lnTo>
                  <a:pt x="1024" y="848"/>
                </a:lnTo>
                <a:lnTo>
                  <a:pt x="874" y="525"/>
                </a:lnTo>
                <a:lnTo>
                  <a:pt x="1271" y="324"/>
                </a:lnTo>
                <a:lnTo>
                  <a:pt x="784" y="324"/>
                </a:lnTo>
                <a:lnTo>
                  <a:pt x="635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43800" y="457200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635" y="0"/>
                </a:moveTo>
                <a:lnTo>
                  <a:pt x="486" y="325"/>
                </a:lnTo>
                <a:lnTo>
                  <a:pt x="0" y="325"/>
                </a:lnTo>
                <a:lnTo>
                  <a:pt x="395" y="525"/>
                </a:lnTo>
                <a:lnTo>
                  <a:pt x="246" y="848"/>
                </a:lnTo>
                <a:lnTo>
                  <a:pt x="635" y="662"/>
                </a:lnTo>
                <a:lnTo>
                  <a:pt x="1024" y="848"/>
                </a:lnTo>
                <a:lnTo>
                  <a:pt x="874" y="525"/>
                </a:lnTo>
                <a:lnTo>
                  <a:pt x="1271" y="324"/>
                </a:lnTo>
                <a:lnTo>
                  <a:pt x="784" y="324"/>
                </a:lnTo>
                <a:lnTo>
                  <a:pt x="635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001000" y="457200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635" y="0"/>
                </a:moveTo>
                <a:lnTo>
                  <a:pt x="486" y="325"/>
                </a:lnTo>
                <a:lnTo>
                  <a:pt x="0" y="325"/>
                </a:lnTo>
                <a:lnTo>
                  <a:pt x="395" y="525"/>
                </a:lnTo>
                <a:lnTo>
                  <a:pt x="246" y="848"/>
                </a:lnTo>
                <a:lnTo>
                  <a:pt x="635" y="662"/>
                </a:lnTo>
                <a:lnTo>
                  <a:pt x="1024" y="848"/>
                </a:lnTo>
                <a:lnTo>
                  <a:pt x="874" y="525"/>
                </a:lnTo>
                <a:lnTo>
                  <a:pt x="1271" y="324"/>
                </a:lnTo>
                <a:lnTo>
                  <a:pt x="784" y="324"/>
                </a:lnTo>
                <a:lnTo>
                  <a:pt x="635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458200" y="457200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635" y="0"/>
                </a:moveTo>
                <a:lnTo>
                  <a:pt x="486" y="325"/>
                </a:lnTo>
                <a:lnTo>
                  <a:pt x="0" y="325"/>
                </a:lnTo>
                <a:lnTo>
                  <a:pt x="395" y="525"/>
                </a:lnTo>
                <a:lnTo>
                  <a:pt x="246" y="848"/>
                </a:lnTo>
                <a:lnTo>
                  <a:pt x="635" y="662"/>
                </a:lnTo>
                <a:lnTo>
                  <a:pt x="1024" y="848"/>
                </a:lnTo>
                <a:lnTo>
                  <a:pt x="874" y="525"/>
                </a:lnTo>
                <a:lnTo>
                  <a:pt x="1271" y="324"/>
                </a:lnTo>
                <a:lnTo>
                  <a:pt x="784" y="324"/>
                </a:lnTo>
                <a:lnTo>
                  <a:pt x="635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5622840"/>
            <a:ext cx="8089920" cy="135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600" spc="-1" strike="noStrike">
                <a:solidFill>
                  <a:srgbClr val="b2b2b2"/>
                </a:solidFill>
                <a:latin typeface="Clarendon Condensed"/>
                <a:ea typeface="Clarendon Condensed"/>
              </a:rPr>
              <a:t>FASA has created one of the best strategy/war games ever. Its only major low is the impossibility of some mis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4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41360" y="289080"/>
            <a:ext cx="2835360" cy="545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200" spc="-1" strike="noStrike">
                <a:solidFill>
                  <a:srgbClr val="00ff66"/>
                </a:solidFill>
                <a:latin typeface="Royal Pain"/>
                <a:ea typeface="Royal Pain"/>
              </a:rPr>
              <a:t>Lead 1 to 12 mechs against superior Clan forces and 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200" spc="-1" strike="noStrike">
                <a:solidFill>
                  <a:srgbClr val="00ff66"/>
                </a:solidFill>
                <a:latin typeface="Royal Pain"/>
                <a:ea typeface="Royal Pain"/>
              </a:rPr>
              <a:t>Train your pilot recruits; enhance their skills in gunnery, piloting and m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200" spc="-1" strike="noStrike">
                <a:solidFill>
                  <a:srgbClr val="00ff66"/>
                </a:solidFill>
                <a:latin typeface="Royal Pain"/>
                <a:ea typeface="Royal Pain"/>
              </a:rPr>
              <a:t>Salvage the weapons and Mechs of your defeated enem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392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520560" y="6459480"/>
            <a:ext cx="8204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  <a:ea typeface="Arial"/>
              </a:rPr>
              <a:t>Team-play on the net as a member of Starlance for points and rank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304920"/>
            <a:ext cx="8458200" cy="6248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727360" y="2131920"/>
            <a:ext cx="29844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b2b2b2"/>
                </a:solidFill>
                <a:latin typeface="Madrone"/>
                <a:ea typeface="Madrone"/>
              </a:rPr>
              <a:t>B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28920" y="3733920"/>
            <a:ext cx="638316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b2b2b2"/>
                </a:solidFill>
                <a:latin typeface="Madrone"/>
                <a:ea typeface="Madrone"/>
              </a:rPr>
              <a:t>DESIG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27360" y="2131920"/>
            <a:ext cx="29844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b2b2b2"/>
                </a:solidFill>
                <a:latin typeface="Madrone"/>
                <a:ea typeface="Madrone"/>
              </a:rPr>
              <a:t>B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523880" y="3733920"/>
            <a:ext cx="638316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b2b2b2"/>
                </a:solidFill>
                <a:latin typeface="Madrone"/>
                <a:ea typeface="Madrone"/>
              </a:rPr>
              <a:t>DESIG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Britannic Bold"/>
                <a:ea typeface="Britannic Bold"/>
              </a:rPr>
              <a:t>Firestarter 30T Light M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1981080"/>
            <a:ext cx="3809880" cy="43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600" spc="-1" strike="noStrike">
                <a:solidFill>
                  <a:srgbClr val="ffff00"/>
                </a:solidFill>
                <a:latin typeface="Britannic Bold"/>
                <a:ea typeface="Britannic Bold"/>
              </a:rPr>
              <a:t>30 t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600" spc="-1" strike="noStrike">
                <a:solidFill>
                  <a:srgbClr val="ffff00"/>
                </a:solidFill>
                <a:latin typeface="Britannic Bold"/>
                <a:ea typeface="Britannic Bold"/>
              </a:rPr>
              <a:t>Inner Sp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600" spc="-1" strike="noStrike">
                <a:solidFill>
                  <a:srgbClr val="ffff00"/>
                </a:solidFill>
                <a:latin typeface="Britannic Bold"/>
                <a:ea typeface="Britannic Bold"/>
              </a:rPr>
              <a:t>27 m/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600" spc="-1" strike="noStrike">
                <a:solidFill>
                  <a:srgbClr val="ffff00"/>
                </a:solidFill>
                <a:latin typeface="Britannic Bold"/>
                <a:ea typeface="Britannic Bold"/>
              </a:rPr>
              <a:t>Carries PPC, standard laser, and 1 Short Range Missle r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600" spc="-1" strike="noStrike">
                <a:solidFill>
                  <a:srgbClr val="ffff00"/>
                </a:solidFill>
                <a:latin typeface="Britannic Bold"/>
                <a:ea typeface="Britannic Bold"/>
              </a:rPr>
              <a:t>Light and fast short to mid range fire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lbertus Extra Bold"/>
                <a:ea typeface="Albertus Extra Bold"/>
              </a:rPr>
              <a:t>Hollander II 45T Medium M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562720" y="1981080"/>
            <a:ext cx="2517840" cy="4138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685800" y="1981080"/>
            <a:ext cx="3809880" cy="45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CG Omega"/>
                <a:ea typeface="CG Omega"/>
              </a:rPr>
              <a:t>45 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CG Omega"/>
                <a:ea typeface="CG Omega"/>
              </a:rPr>
              <a:t>Inner 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CG Omega"/>
                <a:ea typeface="CG Omega"/>
              </a:rPr>
              <a:t>Carries Gauss Rifle, Standard IS laser and Streak S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CG Omega"/>
                <a:ea typeface="CG Omega"/>
              </a:rPr>
              <a:t>24 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CG Omega"/>
                <a:ea typeface="CG Omega"/>
              </a:rPr>
              <a:t>Fast, long range fire support vulnerable to ammo shor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981080" y="685800"/>
            <a:ext cx="495288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b2b2b2"/>
                </a:solidFill>
                <a:latin typeface="Monotype Corsiva"/>
                <a:ea typeface="Monotype Corsiva"/>
              </a:rPr>
              <a:t>Thor 70T  Heavy Mech</a:t>
            </a:r>
            <a:r>
              <a:rPr b="0" lang="en-US" sz="3600" spc="-1" strike="noStrike">
                <a:solidFill>
                  <a:srgbClr val="c4c4c4"/>
                </a:solidFill>
                <a:latin typeface="Monotype Corsiva"/>
                <a:ea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85640" y="1709640"/>
            <a:ext cx="3705120" cy="4643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4495680" y="1905120"/>
            <a:ext cx="3809880" cy="52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b2b2b2"/>
                </a:solidFill>
                <a:latin typeface="Monotype Corsiva"/>
                <a:ea typeface="Monotype Corsiva"/>
              </a:rPr>
              <a:t>70 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b2b2b2"/>
                </a:solidFill>
                <a:latin typeface="Monotype Corsiva"/>
                <a:ea typeface="Monotype Corsiva"/>
              </a:rPr>
              <a:t>Clan Smoke Jagu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b2b2b2"/>
                </a:solidFill>
                <a:latin typeface="Monotype Corsiva"/>
                <a:ea typeface="Monotype Corsiva"/>
              </a:rPr>
              <a:t>Carries C/Heavy Ultra AC, 2 C/Pulse Lasers,  C/Streak  SRM, and 2 C/Large Pulse La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b2b2b2"/>
                </a:solidFill>
                <a:latin typeface="Monotype Corsiva"/>
                <a:ea typeface="Monotype Corsiva"/>
              </a:rPr>
              <a:t>24 m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b2b2b2"/>
                </a:solidFill>
                <a:latin typeface="Monotype Corsiva"/>
                <a:ea typeface="Monotype Corsiva"/>
              </a:rPr>
              <a:t>Fast and powerful short to medium range fighter. Lazer arsenal prevent significant ammo shor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9933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51240" y="120348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04920"/>
            <a:ext cx="8534520" cy="6248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09480" y="3276720"/>
            <a:ext cx="4343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c4c4c4"/>
                </a:solidFill>
                <a:latin typeface="Madrone"/>
                <a:ea typeface="Madrone"/>
              </a:rPr>
              <a:t>KING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32480" y="3276720"/>
            <a:ext cx="41180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b2b2b2"/>
                </a:solidFill>
                <a:latin typeface="Madrone"/>
                <a:ea typeface="Madrone"/>
              </a:rPr>
              <a:t>THE H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33360" y="181080"/>
            <a:ext cx="2371680" cy="2981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615000" y="3090960"/>
            <a:ext cx="2305080" cy="3562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3413160" y="517680"/>
            <a:ext cx="565452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3366"/>
                </a:solidFill>
                <a:latin typeface="Century Gothic"/>
                <a:ea typeface="Century Gothic"/>
              </a:rPr>
              <a:t>Mad Cat 75T  Heavy M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3366"/>
                </a:solidFill>
                <a:latin typeface="Century Gothic"/>
                <a:ea typeface="Century Gothic"/>
              </a:rPr>
              <a:t>One dual C/ERPPC &amp; Pulse Laser alpha-strike from this fast Clanner can easily incinerate many smaller mec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12760" y="3946680"/>
            <a:ext cx="6035760" cy="20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3366"/>
                </a:solidFill>
                <a:latin typeface="Century Gothic"/>
                <a:ea typeface="Century Gothic"/>
              </a:rPr>
              <a:t>Atlas 100T Assault M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3366"/>
                </a:solidFill>
                <a:latin typeface="Century Gothic"/>
                <a:ea typeface="Century Gothic"/>
              </a:rPr>
              <a:t>The most powerful of all mechs available, this heavily-armored mech serve in almost all IS attack lances with its 2 ERPPCs and Gauss Rif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ystem User</dc:creator>
  <dc:description/>
  <dc:language>en-US</dc:language>
  <cp:lastModifiedBy>System User</cp:lastModifiedBy>
  <cp:revision>0</cp:revision>
  <dc:subject/>
  <dc:title>Hunchback 50T Med Mech</dc:title>
</cp:coreProperties>
</file>