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969840"/>
          <a:ext cx="9144000" cy="14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69840"/>
                    <a:ext cx="914400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6953400" y="6529320"/>
            <a:ext cx="18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aramond"/>
              </a:rPr>
              <a:t>página </a:t>
            </a:r>
            <a:fld id="{CBF6F955-6A7A-48F2-8210-36AEF3359CB5}" type="slidenum">
              <a:rPr b="1" lang="es-ES_tradnl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27880"/>
            <a:ext cx="189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aramond"/>
              </a:rPr>
              <a:t>Jochen Helmer, Mark Olivier, Christian Patras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0" y="969840"/>
          <a:ext cx="9144000" cy="14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69840"/>
                    <a:ext cx="914400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6953400" y="6529320"/>
            <a:ext cx="18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aramond"/>
              </a:rPr>
              <a:t>página </a:t>
            </a:r>
            <a:fld id="{D7FD3057-294D-4C3B-B541-FDD927C02CAD}" type="slidenum">
              <a:rPr b="1" lang="es-ES_tradnl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920" y="304920"/>
            <a:ext cx="808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VARIA MANUFACTURING INTER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B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esentación 29. Noviembr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rección Comercial - Dr. Santos Arre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37880" y="4195800"/>
            <a:ext cx="41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Jochen Hel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Mark Oli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hristian Patrasc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ttp://all.at/ma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algn="ctr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6400" algn="ctr">
              <a:spcBef>
                <a:spcPts val="700"/>
              </a:spcBef>
              <a:buClr>
                <a:srgbClr val="ffff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49480" algn="ctr">
              <a:spcBef>
                <a:spcPts val="700"/>
              </a:spcBef>
              <a:buClr>
                <a:srgbClr val="ffff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4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4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- los competidores (19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14300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523520" y="5867280"/>
            <a:ext cx="541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556272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lidad y 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974880" y="161712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to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5840" y="1752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5840" y="4540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3600" y="59436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6120" y="5943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156204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62680" y="4152960"/>
            <a:ext cx="53316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435600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53000" y="129528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ro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3960" y="38862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n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7880" y="409572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ng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9360" y="5943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78120" y="44640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7960" y="41911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9640" y="243828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erza de 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2133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286000"/>
            <a:ext cx="68580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1040" y="201924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- el mercado de grifos (19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295280"/>
          <a:ext cx="8420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42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112560" y="3733920"/>
            <a:ext cx="115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+ 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+ 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  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96480" y="1752480"/>
            <a:ext cx="116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   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+ 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+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+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+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8320" y="4419720"/>
            <a:ext cx="1118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+ 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   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- 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-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-  est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- los segmentos II (19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3429000"/>
            <a:ext cx="30492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20932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20400" y="1905120"/>
            <a:ext cx="25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% mercado institu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8600" y="4844880"/>
            <a:ext cx="25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90% edificios resident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73392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0200" y="2406600"/>
            <a:ext cx="27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0% nuevas constru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0560" y="137160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0% reparaciones y substit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657600" y="16765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0574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2520" y="2025720"/>
            <a:ext cx="29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% financiados por el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800" y="278748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90% financiados priv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791320" y="228564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8400" y="5607000"/>
            <a:ext cx="28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5% mercado de reparat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5520" y="4191120"/>
            <a:ext cx="26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5% nuevas constru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33920" y="44956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502920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07920" y="522612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0% vivienda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09000" y="5987880"/>
            <a:ext cx="26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0% residencias colle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979960" y="54860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79960" y="5791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2080" y="358128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0% vivienda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800" y="4495680"/>
            <a:ext cx="26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0% residencias colle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59560" y="3886200"/>
            <a:ext cx="89352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9560" y="4375080"/>
            <a:ext cx="8935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- Distribución (19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158840" y="220932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13640" y="19051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%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4720" y="3048120"/>
            <a:ext cx="191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95% mayoristas de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ne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19320" y="3352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8160" y="339732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RIF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1295280"/>
            <a:ext cx="11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ontan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133720"/>
            <a:ext cx="12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sta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505320"/>
            <a:ext cx="150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tratistas de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564000" y="1523520"/>
            <a:ext cx="855720" cy="187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64000" y="2362320"/>
            <a:ext cx="855720" cy="10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400560"/>
            <a:ext cx="77940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5840" y="1158840"/>
            <a:ext cx="29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fiere trabajar con grifos de fácil instalación, el propie - tario decide del tipo de grif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057400"/>
            <a:ext cx="2745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iran el margen, la calidad y los descuentos. Por la decisión de compra consideraban las opiniones de sus fontan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42900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iran el precio, la calidad y diseño. Por la decisión de compra consideraban las opiniones de sus instalad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556272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rquit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45720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ncion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449280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iran el precio, la calidad. Por la decisión de compra consideraban las opiniones de sus arquit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342900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429000"/>
            <a:ext cx="7621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4120" y="61722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sario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429000"/>
            <a:ext cx="76212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55627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iran el precio y la 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62164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iran el precio y la 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- los productos clásicos (19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155600"/>
            <a:ext cx="0" cy="472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9320" y="5880240"/>
            <a:ext cx="541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670320" y="162972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to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640" y="1765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640" y="3213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640" y="45529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41880" y="5410080"/>
            <a:ext cx="304920" cy="24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46600" y="4800600"/>
            <a:ext cx="395280" cy="39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603520"/>
            <a:ext cx="838080" cy="74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99160" y="514980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eid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3080" y="45403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9040" y="23432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rma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3240" y="2787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25160" y="313704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ños en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580920" y="2971800"/>
            <a:ext cx="74628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4120" y="4844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3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98840" y="56070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9920" y="594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6560" y="594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28920" y="594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44800" y="594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89800" y="15238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La pregunta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 dond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cionamo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l producto Tit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- los productos clásicos (19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155600"/>
            <a:ext cx="0" cy="472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19320" y="5880240"/>
            <a:ext cx="541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670320" y="162972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to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640" y="1765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1640" y="3213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640" y="45529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41880" y="5410080"/>
            <a:ext cx="304920" cy="24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6600" y="4800600"/>
            <a:ext cx="395280" cy="39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603520"/>
            <a:ext cx="838080" cy="749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9160" y="514980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eid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080" y="45403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9040" y="23432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rma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3240" y="2787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25160" y="313704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ños en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580920" y="2895480"/>
            <a:ext cx="74628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94120" y="4844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57720" y="53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98840" y="56070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9920" y="594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6560" y="594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28920" y="594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44800" y="594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51240" y="3022560"/>
            <a:ext cx="1396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51240" y="3174840"/>
            <a:ext cx="1396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51240" y="3327480"/>
            <a:ext cx="1396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51240" y="3479760"/>
            <a:ext cx="1396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51240" y="3632040"/>
            <a:ext cx="1396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51240" y="3784680"/>
            <a:ext cx="1396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1240" y="3936960"/>
            <a:ext cx="1396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009960"/>
            <a:ext cx="0" cy="11048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11120" y="2762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65360" y="3479760"/>
            <a:ext cx="1396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92440" y="3479760"/>
            <a:ext cx="1396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6760" y="3479760"/>
            <a:ext cx="1396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479760"/>
            <a:ext cx="1396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680" y="3556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9760" y="1752480"/>
            <a:ext cx="35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&gt; hay mas que una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959120" y="2209680"/>
            <a:ext cx="51516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  El proyecto „Tita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Obj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Problemas de Producció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y de Coste/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Reducción de Co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Proyecto Titan - Obj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800" y="1219320"/>
            <a:ext cx="94280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nuevo línea de grifos económica (LGE) de tip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ásic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dirigida al mercado de bajo coste y de uso para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penetrar en los mercados sub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posicionar en los países de la cl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l más próximo posible a la competencia de bajo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respuesta a la amenaza de los „copiado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costes variables: 25% menos que aquellos del Merm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ventas de 25 millones de DM en 12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minimalizar la canibalización -&gt; claramente diferen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2280" y="1219320"/>
          <a:ext cx="861084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86108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Proyecto Titan - Problem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17240" y="3809880"/>
            <a:ext cx="7530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apaz de fundir dos grifos en un sólo mo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lido manual no totalmente eli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ción no totalmente automat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438280" y="4114800"/>
            <a:ext cx="381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648320"/>
            <a:ext cx="304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46483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1295280"/>
            <a:ext cx="26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cción de coste predi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6840" y="152388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lativamente al „Mermaid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Proyecto Titan - Problemas de Coste/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6080" y="1600200"/>
            <a:ext cx="8905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 determinación del precio estaba influenciada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Aumenta de los costes variables de producció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del originalmente proyec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Los costes variables podrían subir, si las venta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fueran inferiores a un mil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Las ventas del Titan subirían mediante una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disminuición en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Las ventas del Mermaid estarían afectada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por la caída en el precio del T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69000" y="2057400"/>
            <a:ext cx="5141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 Análisis DA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 Análisis del e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 El proyecto T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 Calculación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ción pro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proyecto Titan - Reducción de Co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5760" y="1295280"/>
            <a:ext cx="707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vitar la canibalización de Mermaid con u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ncamiento baja otra marca o marca 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poner un llave senc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reducir el número de países a introdu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743200" y="2895480"/>
          <a:ext cx="35924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95480"/>
                    <a:ext cx="3592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6095880" y="4800600"/>
            <a:ext cx="274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Clase 1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 sectores de viviendas sociales en Italia y Francia, -  gran mercado para grifos substandard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 arancel del 5% en Espa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335268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Clase 3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 arancel de 10%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 solo 5% participación del BM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 mercados proteg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4343400"/>
            <a:ext cx="289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Clase 2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 los mejores relaciones comerciales en Alemani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 tiendas de „hágaselo usted mismo“ en Alemania y Suiz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 pocos productos sub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352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 meracdo standard en millónes de marcos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28080" y="2438280"/>
            <a:ext cx="54320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.  Calculación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Datos b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Ingresos y ma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Puncto mu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ción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8600" y="1447920"/>
          <a:ext cx="8915400" cy="431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915400" cy="43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76520"/>
          <a:ext cx="8915400" cy="36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91540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ción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ción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8600" y="1295280"/>
          <a:ext cx="8686800" cy="49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ción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46160" y="1600200"/>
          <a:ext cx="8845560" cy="42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600200"/>
                    <a:ext cx="884556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ción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3114720"/>
            <a:ext cx="8686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lculación - págin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ción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114720"/>
            <a:ext cx="8686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lculación - pági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-152280" y="106200"/>
          <a:ext cx="9905760" cy="606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06200"/>
                    <a:ext cx="990576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152280"/>
          <a:ext cx="9829800" cy="601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829800" cy="60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82840" y="2057400"/>
            <a:ext cx="39416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  Análisis DA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a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ale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-76320" y="112680"/>
          <a:ext cx="9525240" cy="583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12680"/>
                    <a:ext cx="952524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-139680" y="152280"/>
          <a:ext cx="9588600" cy="58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9680" y="152280"/>
                    <a:ext cx="958860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0" y="152280"/>
          <a:ext cx="98298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8298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-76320" y="233280"/>
          <a:ext cx="9448920" cy="578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33280"/>
                    <a:ext cx="9448920" cy="57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583720" y="2362320"/>
            <a:ext cx="404856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Conclusión</a:t>
            </a:r>
            <a:br>
              <a:rPr sz="2400"/>
            </a:br>
            <a:r>
              <a:rPr b="1" lang="de-DE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Solución pro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Solución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Opciónes a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14400" y="1755720"/>
            <a:ext cx="7696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nta a un precio de 25,20 DM bajo la marca B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r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según la calculación, el margen es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así no hay influencia de canib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se evita el riesgo de posicionarlo bajo otr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ón - solución pro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90720" y="1755720"/>
            <a:ext cx="6858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nta a un precio de 24,00 DM bajo otra mar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l margen sería muy poc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dudamos que así no haya canib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habría el riesgo de no ser a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ón - Solución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1828800"/>
            <a:ext cx="7696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a inversión de un millon más en la maquineria para automatizar el proceso completamente y ahorrar unos 3 a 4 por ciento de los costes variab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recomendable, por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según la calculación se recuperará la inversión en menos que 2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ón - Opción 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90720" y="153684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iminar las variaciones nacionales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rque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según la calculación se ahorraría un 1,39 DM por unidad y disminuiría considerablemente el Punto 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rque 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se renunciaría al mercado en los países respectivos y se reduciría las ventas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ón - Opción 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14400" y="1825560"/>
            <a:ext cx="7696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 cambio en el diseño de las llaves para ahorrar un 5 a 8 por ciento de los costes variables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es recomendable, por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según el test de consumo (y la opinión de señor Schonfeld) resultaría menos atractivo para el consumidor final, porque la aparencia de las llaves es altamente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ón - Opción 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4960" y="1558800"/>
            <a:ext cx="9510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s una de las compañias más rentables del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l director comercial es un MBA 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s una de los mayores fabricantes de grifos e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s una empresa familiar con tra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distribuye sus productos en todo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s una compania tradicionalmente innov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alta calidad de productos y bu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buena reputación por la facilidad de instalación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DAFO - Fortale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838080" y="27050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chas gracias por su atenció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7280" y="1781280"/>
            <a:ext cx="926064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la cuenta de resultados está disminuy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los costes de producción podrían fluctu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los grifos representan 96% de las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poco experiencia en el mercado standard y sub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xceso de capacidad, por la caída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problemas de producción en la línea Tita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.e.: automatización total necesitaría mas inver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subida de costes previstos del proyecto T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DAFO - De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6920" y="1781280"/>
            <a:ext cx="903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el proyecto Titan - línea de grifos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oportunidades en el segmento baj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gran mercado para grifos substandard en lo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íses de cl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tendencia en las familias a construir sus propias c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mercados „hágaselo usted mismo“ (canal innovad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DAFO -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95040" y="1733400"/>
            <a:ext cx="946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la recesión en la industria constructora e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la industria había mad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un mayorista lleva la gama de sólo uno o dos fabr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diferentes especificaciones en cada uno de los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los competidores roban o copian las innovaciones de B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competencia fuerte (Grohe y Han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hay competidores más ba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DAFO - Amena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88800" y="1676520"/>
            <a:ext cx="677016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 Análisis del entor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Análisis de la competenci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&gt; saber quién d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s competidores es una amen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isis del mercado y de los segment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&gt; saber quiénes son nuestr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Análisis de la distribución -&gt; saber quié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luje la decisión de compra d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Análisis de los productos -&gt; saber cuá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nuestras mejore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31920"/>
            <a:ext cx="86868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3440" y="1295280"/>
            <a:ext cx="8952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he - competidor en el segmento de alta calida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l líder, muy bien organizado, fuerza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sa - competidor en el segmento de alta calida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mpresa familiar, buenos precios, fuerza de ventas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ción dominante sólo en Ale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ngaud - competidor en el segmento de medio calida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mpresa privada, posición dominante sólo en Fr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C - competidores en el segemento de bajo precio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tiene importancia fuera de Franc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 resto del mercado:  pequeños fabr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31920"/>
            <a:ext cx="8839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álisis - los 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5T19:02:51Z</dcterms:created>
  <dc:creator>Jochen Helmer, Mark Olivier, Christian Patrascu</dc:creator>
  <dc:description/>
  <dc:language>en-US</dc:language>
  <cp:lastModifiedBy>Mark Olivier</cp:lastModifiedBy>
  <cp:lastPrinted>2000-11-28T21:58:42Z</cp:lastPrinted>
  <dcterms:modified xsi:type="dcterms:W3CDTF">2000-11-28T22:00:58Z</dcterms:modified>
  <cp:revision>75</cp:revision>
  <dc:subject/>
  <dc:title>BMI</dc:title>
</cp:coreProperties>
</file>