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4CA-9CB6-46D5-80DF-B805DC6B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267-3D86-4346-91DF-0844D302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64A2-5AC1-4613-8732-FF7A6E3B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F55-39EE-40AE-94B5-FDBB458F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A83-93D1-4639-88B6-D961C113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E88-909C-4E41-AAEA-ED386733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7EA-01EF-40C6-BC82-48DEA270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B97-BB27-4958-8056-DD54E4E4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544-A60C-426D-A880-81B8537C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C29-05ED-4D8C-8561-5F7F6783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39C-2347-4E80-BAF2-BBB9E0A7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54E-A603-49AA-8752-7104A014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E05A-0D2F-4A01-A6EF-F946E9E51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INTRODUCTION TO DATABASE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 : An Introduction to Database Systems by C . J 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-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5B2-1D68-45EB-85D7-164021A9D6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pping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THE CONCEPTUAL/INTERNAL MAPPING: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s the correspondence between the conceptual view and the stored database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pecifies how conceptual records and fields are represented in the internal schema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change is needed to the storage structure definition the Conceptual/internal mapping must be changed accordingly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N EXTERNAL/CONCEPTUAL MAPPING: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s the correspondence b/w a particular external view and the conceptual view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FB2-011D-4BEE-AA5D-81358098B8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Administrat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is a person who makes the strategic &amp; policy decisions regarding the data of the enterprise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A is the person who provides the necessary technical support for implementing those decisions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A is responsible for the overall control of the system at a technical leve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FUNCTIONS PERFORMED BY DB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the Conceptual Schema (DBA will do the logical desig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the Internal Schema (DBA must also decide how data is stored to be represented in the stored database.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771-A8AB-4799-AE32-FD64031BA5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Administrator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con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ing with Users (He/she is supposed to liaise - act as a link - with user.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/she is suppose to ensure that the data required by user is available &amp; to write the necessary external schema using the external DD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ible for consulting on application design, providing technical education, assisting with problem determination and resolution and similar system-related professional servi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the Backup and recovery Problem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Performance and responding to changing requirements.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A4B-D594-444C-9FDB-FD10E3D501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Data Base Management Systems (DBMS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oftware that handles all access to the database conceptu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ser issues an access request e.g. using some particular data sub-language (typically SQL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BMS intercepts that request and analyz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BMS inspects, in tur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rnal schema for that us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responding external / Conceptual Mapp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eptual sche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eptual/ internal mapp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BMS executes the necessary operations on the stored database.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38A-F73E-4379-9E67-46C569D7F7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BMS Function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1. DATA DEFINITION: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of DDL Component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2. DATA MANIPULATION: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of DML Components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e to handle like retrieve, update, delete &amp; add new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L request may be “Planned” or “Unplanned”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ed request is one for which the need was foreseen well is advance of the fine at which the request is actually to be execu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planned request is an ad hoc query i.e. a request for which the need was not seen in adv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032-C512-46FF-9048-2B40E62B91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BMS Func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con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3. DATA SECURITY &amp; INTEGRITY: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MS will responsible to register any attempt to violate the security and integrity rules defined by the DBA.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4. DATA RECOVERY &amp; CONCURRENCY: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 by DBMS or a Component called “transaction Manager”.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0C4-C6AF-4302-B28C-5F92AF8956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BMS Func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con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5. DATA DICTIONARY:</a:t>
            </a:r>
            <a:r>
              <a:rPr b="0" lang="en-US" sz="2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ionary contains “data about the data” and sometimes calle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 dat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6. PERFORMANCE: </a:t>
            </a:r>
            <a:r>
              <a:rPr b="0" lang="en-US" sz="2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all the function identified above is efficiently as possible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DBMS over all function is to provide the “User Interface”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931-57E9-47DB-A020-E5DB7417B2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Communications Manag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request from an end user are actually transmitted (from workstation to online application and then to DBMS) in the form of Communication Messag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uch messages transmitted take place under the direction of another software component the “Data Communication Manager (DC Manager)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Manager is not part of the DBMS but is an autonomous syste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Manager &amp; DBMS need to work togethe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MS look after the database and DC Manager handles all messages to and from the DBMS or to and from applications that are the DBM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4F3-F38A-4B32-A612-DEB67A3797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ient/Server Architectu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is known as Backend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known as Front end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er is the DBMS itself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upports all the basic function of DBMS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provides all the external, Conceptual and internal level support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s are the various Applications that run on the top of the DBMS (both user &amp; built in application)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TWO TYPES OF APPLICATIONS: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ser written applications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er written applications are basically regular application programs written in either C, Cobol or Focus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endor-provided Application (called tool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The over all-purpose of such tools is to assist in the purpose of creating and executing other applications. For example: Query Language, Report writer, Business Graphics Subsystem, Spread Sheets, Natural Language Processors, Statistical Packages, Copy Management tools, Applicable Generators, Computer Aided Software Engineering (CASE)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684-2219-4AD3-9930-E46B0899B2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ient/Server Archite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ssignmen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1219320" cy="102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00400" y="25909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4290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4648320"/>
            <a:ext cx="83844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1981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19360" y="12603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75480" y="25560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99880" y="33940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945-6A3D-4A27-B35E-DECC052429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 Architecture for a Database System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URPO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m of this architecture is to provide a framework on which we can build in the database concept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necessary that every system can neatly be matched to this particular framework, and also it is not necessary that this particular architecture provide the only possible framework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ystems will probably not support all aspects of the architectur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iven architecture is called ANSI/SPARC architecture, proposed by the ANSI/SPARC Study Group on Data Base Management Syste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E57-C601-4E27-876B-4AF805CABC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tributed Processing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Processing means that distinct machines can be connected together in to a communications network such that a single data processing task can be span several machines in the network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“Parallel Processing” is also sometimes used with essentially the same meaning, except that the distinct machines tends to be physically closed together in a “Parallel” system &amp; need not be so in a “distributed” system e.g. might be Geographically dispersed in the letter cas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s b/w the various machines handled by some kind of network management software (Possibly the extension of the DC manager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ADB-0A22-4B0D-90C7-CFB9B87BDA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tributed Processing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n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e.g. of running the DBMS backend (Server) on one machine and the application front end (Client) on anothe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/Server is strictly speaking a purely architectural ter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many arguments, which are in favor of such Sche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 Parallel processing argument.  Many processors are now being applied to the over all task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er machine might be a custom-built machine i.e. tailored to the DBMS function (a “database” machine) and might provide better DBMS performanc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E88-4CF3-4640-ACA1-68FB42E231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tributed Processing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n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machine might be a personal workstation, tailored to the needs of the end user and able to prov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f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Availabili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respon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 improved ease of use to the us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different Client machines might be able to access the same server machines. A single database might be shared across several distinct client system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ning the client(s) and the server on separate machines e.g. Enterprise (ban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might have stored data of their own and the server machine has applications of its ow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machine will act as a sever for same user and client for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0FE-8CF3-479B-B660-41E23F3889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914400"/>
            <a:ext cx="396252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tributed Processing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n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1218960" cy="1027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3520" y="2666880"/>
            <a:ext cx="19047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74320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4038480"/>
            <a:ext cx="19047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411480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257800"/>
            <a:ext cx="990720" cy="12193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8920" y="2666880"/>
            <a:ext cx="149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lient 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4520" y="4114800"/>
            <a:ext cx="15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Server 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3352680"/>
            <a:ext cx="838080" cy="4572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61000" y="3352680"/>
            <a:ext cx="198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ransparent Rem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520" y="6411960"/>
            <a:ext cx="38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Client and server running on different mach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762120" cy="641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943600" y="1143000"/>
            <a:ext cx="762120" cy="641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7010280" y="1143000"/>
            <a:ext cx="762120" cy="641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8153280" y="1143000"/>
            <a:ext cx="762120" cy="641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681680" y="110808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19810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19810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19810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29600" y="19810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674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6104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3200400"/>
            <a:ext cx="2361960" cy="160020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24382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24382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543800" y="2438280"/>
            <a:ext cx="763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848360" y="24382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5029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5867280"/>
            <a:ext cx="685800" cy="6098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162920" y="4343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16292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01400" y="5334120"/>
            <a:ext cx="15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Server 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411040" y="2438280"/>
            <a:ext cx="73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914400"/>
            <a:ext cx="464832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65880" y="6324480"/>
            <a:ext cx="373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One server machine and many client mach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FFB-66B1-4208-8896-70017BB50E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tributed Processing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n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-client machine might be able to access several different server machi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ccess can be basically be provided in two way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iven client might be able to access any number of servers but only one at a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has to know which particular machine holds, which piece of tas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might be able to access many servers simultaneous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oes not have to know which machine hold which piece of da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example of distributed database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826-36E2-4F4C-99FA-66C9B5D166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Three Level of the Architectur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SI/SPARC architecture is divided into three levels, known as the internal, conceptual, and external leve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52480" y="2209680"/>
          <a:ext cx="57150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7150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E95-159A-4674-9AB5-A0D31E9791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Three Level of the Architectur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Internal lev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s the one closest to physical storage (i.e. one concerned with the way the data is physically stored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external lev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s the one closest to the users (i.e. the one concerned with the way the data is viewed by individual user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conceptual lev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s a “level of indirection” between the other tw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users will not be interested in the total database, but only in some restricted portion of i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619-EF87-4FAD-8EAC-D8255E6F0F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tailed System Archite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144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 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1440" y="68580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51080" y="9144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 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28120" y="68580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22680" y="9144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 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99720" y="68580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A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9144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 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2560" y="68580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A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9144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 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4160" y="68580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438280"/>
            <a:ext cx="14479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ER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EW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2438280"/>
            <a:ext cx="14475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ER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EW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16002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600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1600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16002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095520" y="16002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9560" y="2438280"/>
            <a:ext cx="81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Exter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Schema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2438280"/>
            <a:ext cx="88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Exter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Schema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1240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723920" y="31240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327672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External / Concep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app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327672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External / Concep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app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962520"/>
            <a:ext cx="19047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CETUAL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3505320"/>
            <a:ext cx="129528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DB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619760" y="1295280"/>
            <a:ext cx="15228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3124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191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464832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nceptual / 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81480" y="44197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5715000"/>
            <a:ext cx="54104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791320"/>
            <a:ext cx="533160" cy="6094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5791320"/>
            <a:ext cx="533520" cy="6094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5791320"/>
            <a:ext cx="533520" cy="6094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5791320"/>
            <a:ext cx="533520" cy="6094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5791320"/>
            <a:ext cx="533520" cy="6094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5791320"/>
            <a:ext cx="533520" cy="6094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5791320"/>
            <a:ext cx="533520" cy="6094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5791320"/>
            <a:ext cx="533520" cy="6094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800" y="594360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tored database (Internal 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4480" y="5562720"/>
            <a:ext cx="807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Stor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(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Sche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095520" y="48006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133720"/>
            <a:ext cx="457200" cy="4343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895480"/>
            <a:ext cx="1219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Sche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Built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Mainta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By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dminist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(DB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098-985F-4CE0-ACCC-260BD5FAD6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ernal View/Level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rnal level is the individual user leve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iven user can be eit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grammer or End user of Any Degr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PPLICATION PROGRAMMER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Cobol,PL/1 etc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ND US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Langu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Purpose Langu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OST LANGU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include a Data Sub-language (DS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L is said to be embedded within the corresponding host langu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ation of at least two sub-ordinate langu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689-F6AA-445D-A06A-90CCB725AD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ernal View/Level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n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ordinat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ata Definition Language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ata  Manipulation Language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DDL)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D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L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the definition or declaration of database object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L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the implementation or process of such object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L statements in particular are typically just calls to the DBM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xternal view is defined by means of an “External Schema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onsists basically of definitions of each of the various external records types in that external vie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rnal Schema is written using the DDL portion of the user’s data Sub-language (DS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1752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590560" y="17524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252-511C-463F-B23D-BB482ACE16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eptual View/Level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eptual view is a representation of the entire information content of the database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in the form in which the data is physically stor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view of the data as it really i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efined by the means of Conceptual Schem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ONCEPTUAL SCHEMA: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nclude definition of each of the various conceptual record typ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eptual Schema is written using another data definition language, the conceptual DD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eptual view is a view of the total database content, and the Conceptual Schema is a definition of that view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209-F215-4F42-B464-6B7DA1B164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rnal View/Level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low-level representation of the entire database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orm of Internal record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ffectively assumes as infinite linear address space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escribed by means of the Internal schema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TERNAL SCHEMA: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written by another definition language called Internal DD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can be used as “Stored Database” as internal view &amp; also as “Storage Structure Definition”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05560" y="652140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630-26EA-460E-87A4-5FC226E5B4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5T20:50:53Z</dcterms:created>
  <dc:creator>hayee</dc:creator>
  <dc:description/>
  <dc:language>en-US</dc:language>
  <cp:lastModifiedBy>Tariq</cp:lastModifiedBy>
  <dcterms:modified xsi:type="dcterms:W3CDTF">2009-03-01T14:21:25Z</dcterms:modified>
  <cp:revision>52</cp:revision>
  <dc:subject/>
  <dc:title>PowerPoint Presentation</dc:title>
</cp:coreProperties>
</file>