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5AA-AA8C-4BC6-B9F8-C721BF0D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715-A5B1-4D66-8DDE-76F7530D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E1B-11F5-4F92-97DF-2A2D853E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4955-F6F9-4D19-B14B-D3F34CFA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FC1-3A06-4C7F-B85B-65D1C3EF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130-E4FA-4A37-8575-94257AA9C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D5B-AB3D-483A-B435-8DF3097A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C659-CD69-4E36-9C3E-8A841764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A0C5-935C-4000-912B-8BD3E346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BC7B-646D-4B30-9506-63D6E56E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290-174B-43F7-8E73-6A5DC570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AD95-0BD1-44ED-8189-1F069938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1F51-170C-4643-859E-AA9DE9DBB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INTRODUCTION TO DATABASE SYSTE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 Entity Relation Mode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: An Introduction to Database Systems by C . J . 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28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ek-11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D55-FF82-4CA7-9AF3-677D647FF1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R Model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BTYPES (cont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programmers might belong to some professional computer society, while employees in general do no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an say that properties and relationship that apply to the super-type are “inherited” by the subtyp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programmers might be application programmers and others might be system programmer; thus we might say that APPLICATION_PROGRAMMER and SYSTEM_PROGRAMMER are both subtypes of the PROGRAMMER super-type (and so on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other words, an entity subtype is still an entity type, and can thus have subtypes of its ow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15D7-80BF-4540-BE17-228ACD067A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R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80880" y="1066680"/>
            <a:ext cx="8534160" cy="5486400"/>
            <a:chOff x="380880" y="1066680"/>
            <a:chExt cx="8534160" cy="5486400"/>
          </a:xfrm>
        </p:grpSpPr>
        <p:grpSp>
          <p:nvGrpSpPr>
            <p:cNvPr id="73" name=""/>
            <p:cNvGrpSpPr/>
            <p:nvPr/>
          </p:nvGrpSpPr>
          <p:grpSpPr>
            <a:xfrm>
              <a:off x="387360" y="1069920"/>
              <a:ext cx="8519760" cy="5478840"/>
              <a:chOff x="387360" y="1069920"/>
              <a:chExt cx="8519760" cy="547884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387360" y="1069920"/>
                <a:ext cx="2839680" cy="496440"/>
                <a:chOff x="387360" y="1069920"/>
                <a:chExt cx="2839680" cy="49644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83840" y="1069920"/>
                  <a:ext cx="2647080" cy="49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CONCEP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87360" y="1069920"/>
                  <a:ext cx="2839680" cy="4964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3227400" y="1069920"/>
                <a:ext cx="2839680" cy="496440"/>
                <a:chOff x="3227400" y="1069920"/>
                <a:chExt cx="2839680" cy="4964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3323880" y="1069920"/>
                  <a:ext cx="2647080" cy="49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INFORMAL DEFINITI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3227400" y="1069920"/>
                  <a:ext cx="2839680" cy="4964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067440" y="1069920"/>
                <a:ext cx="2839680" cy="496440"/>
                <a:chOff x="6067440" y="1069920"/>
                <a:chExt cx="2839680" cy="4964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163920" y="1069920"/>
                  <a:ext cx="2647080" cy="49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3333cc"/>
                      </a:solidFill>
                      <a:latin typeface="Times New Roman"/>
                      <a:ea typeface="Times New Roman"/>
                    </a:rPr>
                    <a:t>EXAMPL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067440" y="1069920"/>
                  <a:ext cx="2839680" cy="4964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87360" y="1566360"/>
                <a:ext cx="2839680" cy="1284840"/>
                <a:chOff x="387360" y="1566360"/>
                <a:chExt cx="2839680" cy="12848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483840" y="1566360"/>
                  <a:ext cx="2647080" cy="128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TIT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87360" y="1566360"/>
                  <a:ext cx="2839680" cy="12848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3227400" y="1566360"/>
                <a:ext cx="2839680" cy="1284840"/>
                <a:chOff x="3227400" y="1566360"/>
                <a:chExt cx="2839680" cy="12848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323880" y="1566360"/>
                  <a:ext cx="2647080" cy="128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 distinguishable objec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227400" y="1566360"/>
                  <a:ext cx="2839680" cy="12848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067440" y="1566360"/>
                <a:ext cx="2839680" cy="1284840"/>
                <a:chOff x="6067440" y="1566360"/>
                <a:chExt cx="2839680" cy="128484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163920" y="1566360"/>
                  <a:ext cx="2647080" cy="128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pplier, Part, Shipment, Employee, Department, Person, Composition, Orchestra, Purchase order, 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067440" y="1566360"/>
                  <a:ext cx="2839680" cy="128484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87360" y="2851200"/>
                <a:ext cx="2839680" cy="1285200"/>
                <a:chOff x="387360" y="2851200"/>
                <a:chExt cx="2839680" cy="12852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483840" y="2851200"/>
                  <a:ext cx="2647080" cy="128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PERT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87360" y="2851200"/>
                  <a:ext cx="2839680" cy="12852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3227400" y="2851200"/>
                <a:ext cx="2839680" cy="1285200"/>
                <a:chOff x="3227400" y="2851200"/>
                <a:chExt cx="2839680" cy="12852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323880" y="2851200"/>
                  <a:ext cx="2647080" cy="128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 piece of information that describes an entity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227400" y="2851200"/>
                  <a:ext cx="2839680" cy="12852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067440" y="2851200"/>
                <a:ext cx="2839680" cy="1285200"/>
                <a:chOff x="6067440" y="2851200"/>
                <a:chExt cx="2839680" cy="1285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163920" y="2851200"/>
                  <a:ext cx="2647080" cy="128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pplier number, Shipment quantity, Employee department, Person height, Purchase order date, 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067440" y="2851200"/>
                  <a:ext cx="2839680" cy="128520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87360" y="4136400"/>
                <a:ext cx="2839680" cy="1442520"/>
                <a:chOff x="387360" y="4136400"/>
                <a:chExt cx="2839680" cy="14425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483840" y="4136400"/>
                  <a:ext cx="2647080" cy="144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LATIONSHI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87360" y="4136400"/>
                  <a:ext cx="2839680" cy="14425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227400" y="4136400"/>
                <a:ext cx="2839680" cy="1442520"/>
                <a:chOff x="3227400" y="4136400"/>
                <a:chExt cx="2839680" cy="14425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323880" y="4136400"/>
                  <a:ext cx="2647080" cy="144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 entity that serves to interconnect two or more other entiti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227400" y="4136400"/>
                  <a:ext cx="2839680" cy="14425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067440" y="4136400"/>
                <a:ext cx="2839680" cy="1442520"/>
                <a:chOff x="6067440" y="4136400"/>
                <a:chExt cx="2839680" cy="14425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163920" y="4136400"/>
                  <a:ext cx="2647080" cy="144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hipment (supplier-part), Assignment (employee-department), Recording (composition-orchestra-conductor), 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067440" y="4136400"/>
                  <a:ext cx="2839680" cy="144252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387360" y="5579280"/>
                <a:ext cx="2839680" cy="969480"/>
                <a:chOff x="387360" y="5579280"/>
                <a:chExt cx="2839680" cy="9694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83840" y="5579280"/>
                  <a:ext cx="2647080" cy="9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BTYP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87360" y="5579280"/>
                  <a:ext cx="2839680" cy="96948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3227400" y="5579280"/>
                <a:ext cx="2839680" cy="969480"/>
                <a:chOff x="3227400" y="5579280"/>
                <a:chExt cx="2839680" cy="9694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3323880" y="5579280"/>
                  <a:ext cx="2647080" cy="9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tity type Y is a subtype of entity type X if and only if every Y is necessarily an 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227400" y="5579280"/>
                  <a:ext cx="2839680" cy="96948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6067440" y="5579280"/>
                <a:ext cx="2839680" cy="969480"/>
                <a:chOff x="6067440" y="5579280"/>
                <a:chExt cx="2839680" cy="9694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6163920" y="5579280"/>
                  <a:ext cx="2647080" cy="9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mployee is a subtype of Perso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rto is a subtype of composition, etc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6067440" y="5579280"/>
                  <a:ext cx="2839680" cy="969480"/>
                </a:xfrm>
                <a:prstGeom prst="rect">
                  <a:avLst/>
                </a:prstGeom>
                <a:noFill/>
                <a:ln w="38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9" name=""/>
            <p:cNvSpPr/>
            <p:nvPr/>
          </p:nvSpPr>
          <p:spPr>
            <a:xfrm>
              <a:off x="380880" y="1066680"/>
              <a:ext cx="8534160" cy="5486400"/>
            </a:xfrm>
            <a:prstGeom prst="rect">
              <a:avLst/>
            </a:prstGeom>
            <a:noFill/>
            <a:ln w="38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/R DIAGRA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/R diagrams constitute a technique for representing the logical structure of a database in a pictorial manner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provide a simple and readily understood means of communicating the salient features of the design of any given database.  (“A picture is worth a thousand words”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the E/R model itself, the E/R diagramming techniques has evolved somewhat over tim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llowing is an example of an incomplete E/R dia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A11D-45FA-4432-9DBE-106794FF06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/R DIAGRAM: (EXA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2480" y="1143000"/>
            <a:ext cx="12956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2819520"/>
            <a:ext cx="12952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77120" y="1676520"/>
            <a:ext cx="12952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676520" y="5486400"/>
            <a:ext cx="1447560" cy="609480"/>
            <a:chOff x="1676520" y="5486400"/>
            <a:chExt cx="1447560" cy="609480"/>
          </a:xfrm>
        </p:grpSpPr>
        <p:sp>
          <p:nvSpPr>
            <p:cNvPr id="128" name=""/>
            <p:cNvSpPr/>
            <p:nvPr/>
          </p:nvSpPr>
          <p:spPr>
            <a:xfrm>
              <a:off x="1676520" y="5486400"/>
              <a:ext cx="144756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52480" y="5562720"/>
              <a:ext cx="12956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752480" y="3048120"/>
            <a:ext cx="12956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3886200"/>
            <a:ext cx="129528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1981080"/>
            <a:ext cx="1676520" cy="45720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EPT_EM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1981080"/>
            <a:ext cx="1676520" cy="45720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J_WOR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3657600"/>
            <a:ext cx="1676160" cy="60948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J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5880" y="2438280"/>
            <a:ext cx="1676520" cy="762120"/>
            <a:chOff x="6095880" y="2438280"/>
            <a:chExt cx="1676520" cy="762120"/>
          </a:xfrm>
        </p:grpSpPr>
        <p:sp>
          <p:nvSpPr>
            <p:cNvPr id="136" name=""/>
            <p:cNvSpPr/>
            <p:nvPr/>
          </p:nvSpPr>
          <p:spPr>
            <a:xfrm>
              <a:off x="6172200" y="2438280"/>
              <a:ext cx="15238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95880" y="2438280"/>
              <a:ext cx="1676520" cy="685800"/>
            </a:xfrm>
            <a:prstGeom prst="diamond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UPP_PART_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ROJ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772400" y="2666880"/>
            <a:ext cx="1447920" cy="45720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PP_PA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553080" y="5257800"/>
            <a:ext cx="1524240" cy="762120"/>
            <a:chOff x="6553080" y="5257800"/>
            <a:chExt cx="1524240" cy="762120"/>
          </a:xfrm>
        </p:grpSpPr>
        <p:sp>
          <p:nvSpPr>
            <p:cNvPr id="140" name=""/>
            <p:cNvSpPr/>
            <p:nvPr/>
          </p:nvSpPr>
          <p:spPr>
            <a:xfrm>
              <a:off x="6553080" y="525780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553080" y="5257800"/>
              <a:ext cx="1524240" cy="762120"/>
            </a:xfrm>
            <a:prstGeom prst="diamond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ART_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TRUCTU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36232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447920" y="4038480"/>
            <a:ext cx="1904760" cy="762120"/>
            <a:chOff x="1447920" y="4038480"/>
            <a:chExt cx="1904760" cy="762120"/>
          </a:xfrm>
        </p:grpSpPr>
        <p:sp>
          <p:nvSpPr>
            <p:cNvPr id="144" name=""/>
            <p:cNvSpPr/>
            <p:nvPr/>
          </p:nvSpPr>
          <p:spPr>
            <a:xfrm>
              <a:off x="1447920" y="4038480"/>
              <a:ext cx="1904760" cy="762120"/>
            </a:xfrm>
            <a:prstGeom prst="diamond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00200" y="4114800"/>
              <a:ext cx="1600200" cy="609480"/>
            </a:xfrm>
            <a:prstGeom prst="diamond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MP_DE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2438280"/>
            <a:ext cx="75960" cy="609840"/>
            <a:chOff x="2362320" y="2438280"/>
            <a:chExt cx="75960" cy="609840"/>
          </a:xfrm>
        </p:grpSpPr>
        <p:sp>
          <p:nvSpPr>
            <p:cNvPr id="147" name=""/>
            <p:cNvSpPr/>
            <p:nvPr/>
          </p:nvSpPr>
          <p:spPr>
            <a:xfrm>
              <a:off x="2362320" y="2438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24382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3623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62320" y="4800600"/>
            <a:ext cx="75960" cy="685440"/>
            <a:chOff x="2362320" y="4800600"/>
            <a:chExt cx="75960" cy="685440"/>
          </a:xfrm>
        </p:grpSpPr>
        <p:sp>
          <p:nvSpPr>
            <p:cNvPr id="151" name=""/>
            <p:cNvSpPr/>
            <p:nvPr/>
          </p:nvSpPr>
          <p:spPr>
            <a:xfrm>
              <a:off x="2362320" y="48006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8280" y="480060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 flipH="1">
            <a:off x="3048120" y="2209680"/>
            <a:ext cx="38088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047760" y="3505320"/>
            <a:ext cx="5331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2209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267080" y="3276720"/>
            <a:ext cx="75960" cy="380880"/>
            <a:chOff x="4267080" y="3276720"/>
            <a:chExt cx="75960" cy="380880"/>
          </a:xfrm>
        </p:grpSpPr>
        <p:sp>
          <p:nvSpPr>
            <p:cNvPr id="157" name=""/>
            <p:cNvSpPr/>
            <p:nvPr/>
          </p:nvSpPr>
          <p:spPr>
            <a:xfrm>
              <a:off x="426708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343040" y="32767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9343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3124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0120" y="4343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772400" y="20574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7924680" y="312408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48604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514600"/>
            <a:ext cx="1219320" cy="2286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MP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895480"/>
            <a:ext cx="1219320" cy="2286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038480"/>
            <a:ext cx="1219320" cy="22860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429000"/>
            <a:ext cx="609480" cy="3049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429000"/>
            <a:ext cx="457200" cy="3049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3429000"/>
            <a:ext cx="457200" cy="3049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19320" y="25909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29718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1240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1240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4560" y="312408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990360" y="35053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914400"/>
            <a:ext cx="609480" cy="3049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914400"/>
            <a:ext cx="609480" cy="3049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15200" y="914400"/>
            <a:ext cx="609480" cy="3049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53280" y="914400"/>
            <a:ext cx="609840" cy="3049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3657600"/>
            <a:ext cx="609480" cy="3049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53280" y="6172200"/>
            <a:ext cx="609840" cy="3049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2193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0" y="121932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7314840" y="12193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772040" y="121932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943600" y="304776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96080" y="579132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20" y="4343400"/>
            <a:ext cx="609480" cy="30492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066680" y="350532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38280" y="167652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65760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3581280"/>
            <a:ext cx="2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14600" y="5105520"/>
            <a:ext cx="3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743200"/>
            <a:ext cx="3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266688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9720" y="327672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724280" y="2514600"/>
            <a:ext cx="3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486400" y="2819520"/>
            <a:ext cx="3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2133720"/>
            <a:ext cx="3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24680" y="1828800"/>
            <a:ext cx="3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0120" y="342900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3505320"/>
            <a:ext cx="3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4419720"/>
            <a:ext cx="32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772400" y="4419720"/>
            <a:ext cx="32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238880" y="4419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4419720"/>
            <a:ext cx="457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EX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5562720"/>
            <a:ext cx="302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ntity / relationship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(example, incomple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0B29-F20B-42EA-AFFE-BEF13771DF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/R DIAGRAMS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ASIC E/R NOTATIO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410080" cy="3864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3355560" y="6172200"/>
            <a:ext cx="27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BASIC E/R NO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1680" y="362268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840" y="1184400"/>
            <a:ext cx="127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74240" y="955800"/>
            <a:ext cx="162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pe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also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74960" y="3546360"/>
            <a:ext cx="136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D4F-7563-4448-BFDF-1C169F3D15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/R DIAGRA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NTITIE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ntity type is shown as a rectangle, labeled with the name of the entity type in questi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a weak entity type, the rectangle is doubl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are shown in previous figure indicated by green rectangl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gular entiti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I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eak entity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3080" y="3276720"/>
            <a:ext cx="12956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53080" y="5486400"/>
            <a:ext cx="12956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553080" y="4343400"/>
            <a:ext cx="12956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PL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477120" y="6019920"/>
            <a:ext cx="1447560" cy="609480"/>
            <a:chOff x="6477120" y="6019920"/>
            <a:chExt cx="1447560" cy="609480"/>
          </a:xfrm>
        </p:grpSpPr>
        <p:sp>
          <p:nvSpPr>
            <p:cNvPr id="225" name=""/>
            <p:cNvSpPr/>
            <p:nvPr/>
          </p:nvSpPr>
          <p:spPr>
            <a:xfrm>
              <a:off x="6477120" y="6019920"/>
              <a:ext cx="1447560" cy="6094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53080" y="6096240"/>
              <a:ext cx="12956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PEND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553080" y="3809880"/>
            <a:ext cx="12956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MPLOY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53080" y="4876920"/>
            <a:ext cx="129564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77D3-4BE5-4256-803E-C07695F6AA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/R DIAGRA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PROPERTIES / ATTRIBUTE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ies are shown as ellips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ed with the name of the property in question and attached to the relevant entity (or relationship) by means of a continuous lin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lipse is doted if the property is derived and doubled if the property is multi-valu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property is composite, its component properties are shown as further ellipses, connected to the ellipse for the composite property in question by means of further continuous lin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properties are underlin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4BC1-05D3-4E9D-ACB5-D89584E0E7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/R DIAGRA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OPERTIES / ATTRIBUTE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EMPLOYE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# (Ke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M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omposite, consisting of FIRST, MI, and LAS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erived attrib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SUPPLIER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# (Ke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TY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SUPP_PART_PROJ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T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r PART_STRUC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TY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943600" y="1523880"/>
            <a:ext cx="3048120" cy="2133360"/>
            <a:chOff x="5943600" y="1523880"/>
            <a:chExt cx="3048120" cy="2133360"/>
          </a:xfrm>
        </p:grpSpPr>
        <p:sp>
          <p:nvSpPr>
            <p:cNvPr id="236" name=""/>
            <p:cNvSpPr/>
            <p:nvPr/>
          </p:nvSpPr>
          <p:spPr>
            <a:xfrm>
              <a:off x="7696080" y="2057040"/>
              <a:ext cx="129564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MPLOY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943600" y="1523880"/>
              <a:ext cx="121932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MP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43600" y="1904760"/>
              <a:ext cx="121932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943600" y="3047760"/>
              <a:ext cx="1219320" cy="22860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ALA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943600" y="2438280"/>
              <a:ext cx="609480" cy="3045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IR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9400" y="2438280"/>
              <a:ext cx="457200" cy="3045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162920" y="2438280"/>
              <a:ext cx="457200" cy="3045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A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2920" y="159984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86600" y="1981080"/>
              <a:ext cx="609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58000" y="21333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629400" y="213336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248160" y="213336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933960" y="2514240"/>
              <a:ext cx="11430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477120" y="3352680"/>
              <a:ext cx="609480" cy="30456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7010280" y="2514240"/>
              <a:ext cx="11430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381880" y="2666880"/>
              <a:ext cx="252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458200" y="1752480"/>
              <a:ext cx="328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819520" y="3429000"/>
            <a:ext cx="3200400" cy="1219320"/>
            <a:chOff x="2819520" y="3429000"/>
            <a:chExt cx="3200400" cy="1219320"/>
          </a:xfrm>
        </p:grpSpPr>
        <p:sp>
          <p:nvSpPr>
            <p:cNvPr id="254" name=""/>
            <p:cNvSpPr/>
            <p:nvPr/>
          </p:nvSpPr>
          <p:spPr>
            <a:xfrm>
              <a:off x="3733920" y="4191120"/>
              <a:ext cx="12952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19520" y="3429000"/>
              <a:ext cx="609480" cy="30492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33920" y="3429000"/>
              <a:ext cx="609480" cy="30492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0" y="3429000"/>
              <a:ext cx="609480" cy="30492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410080" y="3429000"/>
              <a:ext cx="609840" cy="304920"/>
            </a:xfrm>
            <a:prstGeom prst="ellipse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76720" y="37339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3733920"/>
              <a:ext cx="76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4571640" y="37339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5028840" y="373392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6934320" y="5334120"/>
            <a:ext cx="152388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934320" y="5334120"/>
            <a:ext cx="1523880" cy="76176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ART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TRUCTU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34520" y="6248520"/>
            <a:ext cx="609480" cy="3045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77320" y="58672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114800" y="4876920"/>
            <a:ext cx="152388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038480" y="4876920"/>
            <a:ext cx="1676520" cy="68580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PP_PART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J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15000" y="5791320"/>
            <a:ext cx="609480" cy="3045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54100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9D22-E420-4B99-A1DF-4622A59C5F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/R DIAGRA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RELATIONSHIP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relationship type is shown as a diamond, labeled with the name of the relationship type in questi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amond is doubled if the relationship in question is that between a weak entity type and the entity type on which its existence depend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articipants in each relationship are connected to the relevant relationship by means of continuous lines; each line is labeled “1” or “M” to indicate whether the relationship is one-to-one, many-to-many, et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ine is doubled if the participation is total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5B7-1E91-44DD-B851-D7C2A779E8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/R DIAGRA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RELATIONSHIP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T_EM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-to-many relationship between DEPARTMENT &amp; EMPLOYE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_DEP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One-to-many relationship between EMPLOYEE &amp; DEPARTMENT, a weak entity type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_WORK &amp; PROJ_MANAG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both relationships between EMPLOYEE &amp; PROJECT, the former many-to-many, the latter one-to many)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_PART_PROJ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many-to-many-to-many relationship involving SUPPLIER, PART &amp; PROJEC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_PAR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many-to-many relationship between SUPPLIER &amp; PAR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_STRUC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ny-to-many relationship between PART &amp; PAR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_STRUCT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is an example of what is sometimes called </a:t>
            </a:r>
            <a:r>
              <a:rPr b="1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cursive relationship</a:t>
            </a:r>
            <a:r>
              <a:rPr b="0" i="1" lang="en-US" sz="1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90920" y="1523880"/>
            <a:ext cx="1676160" cy="30492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DEPT_EM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2666880"/>
            <a:ext cx="1676520" cy="38124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J_WORK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2666880"/>
            <a:ext cx="1676160" cy="45720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PROJ_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3733920" y="3505320"/>
            <a:ext cx="1676160" cy="533160"/>
            <a:chOff x="3733920" y="3505320"/>
            <a:chExt cx="1676160" cy="533160"/>
          </a:xfrm>
        </p:grpSpPr>
        <p:sp>
          <p:nvSpPr>
            <p:cNvPr id="281" name=""/>
            <p:cNvSpPr/>
            <p:nvPr/>
          </p:nvSpPr>
          <p:spPr>
            <a:xfrm>
              <a:off x="3809880" y="3505320"/>
              <a:ext cx="1523520" cy="5331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33920" y="3505320"/>
              <a:ext cx="1676160" cy="479520"/>
            </a:xfrm>
            <a:prstGeom prst="diamond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UPP_PART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RO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819520" y="4191120"/>
            <a:ext cx="1447560" cy="380880"/>
          </a:xfrm>
          <a:prstGeom prst="diamond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UPP_PA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6095880" y="4952880"/>
            <a:ext cx="1524240" cy="762120"/>
            <a:chOff x="6095880" y="4952880"/>
            <a:chExt cx="1524240" cy="762120"/>
          </a:xfrm>
        </p:grpSpPr>
        <p:sp>
          <p:nvSpPr>
            <p:cNvPr id="285" name=""/>
            <p:cNvSpPr/>
            <p:nvPr/>
          </p:nvSpPr>
          <p:spPr>
            <a:xfrm>
              <a:off x="6095880" y="4952880"/>
              <a:ext cx="152424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95880" y="4952880"/>
              <a:ext cx="1524240" cy="762120"/>
            </a:xfrm>
            <a:prstGeom prst="diamond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ART_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STRUCTUR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514600" y="2133720"/>
            <a:ext cx="1904760" cy="380880"/>
            <a:chOff x="2514600" y="2133720"/>
            <a:chExt cx="1904760" cy="380880"/>
          </a:xfrm>
        </p:grpSpPr>
        <p:sp>
          <p:nvSpPr>
            <p:cNvPr id="288" name=""/>
            <p:cNvSpPr/>
            <p:nvPr/>
          </p:nvSpPr>
          <p:spPr>
            <a:xfrm>
              <a:off x="2514600" y="2133720"/>
              <a:ext cx="1904760" cy="380880"/>
            </a:xfrm>
            <a:prstGeom prst="diamond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66880" y="2171880"/>
              <a:ext cx="1600200" cy="304560"/>
            </a:xfrm>
            <a:prstGeom prst="diamond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EMP_DE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CFFF-D9A9-4570-B961-EF232A3162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ntity Relation Model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ty-relation (E-R) model was developed by Chen to facilitate database design by the allowing the designer to express the logical properties of the database in an enterprise schem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erprise means the organization for which the database is kep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erprise schema is a description that corresponds to the conceptual level in the three-level architectur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-R diagrams are used to express the logical structure of the mode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iagrams are basically design tools and documentation for the system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n implementation of the E-R model that actually uses the diagrams to create the database structur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2CB9-99E0-4F77-8AB2-12A414417C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/R DIAGRA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UBTYPES AND SUPER-TYPES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 Y be a subtype of X.  Then we draw a continuous line from Y to X, marked with a hook to represent the mathematical “subset of” operator (because the set of all Y’s is a subset of the set of all X’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MER is a subtype of EMPLOYE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_PROGRAMMER &amp; SYSTEM_PROGRAMMER are subtypes of PROGRAMM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2F57-6093-4C54-BF8E-88F9246ED1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Design with the E/R Model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ntity / relationship diagram constructed in accordance with the rules described earlier is a database desig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we attempt to map such a design into the formalisms of a specific DBMS, however, we will soon discover that the E/R diagram is still very close in certain respects and leaves a number of details unspecified (especially integrity details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der the above exampl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 entiti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MPLOY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J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regular entity type maps into a base relati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base will thus contain five base relations, say DEPT, EMP, S, P, J, corresponding to these five entity types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EA10-06D3-438C-A82E-BFCD7D21B6C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Design with the E/R Model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more, each of those base relations will have a primary key – DEPT#, EMP#, S#, P#, J#, say – corresponding to the “keys” identified in the E/R diagra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DL statement will be a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REATE BASE RELATION DEP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(DEPT#, DOMAIN (DEPT#) …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IMARY KEY (DEPT#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rest base relations we can create DDL similarly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AC6-63C9-46C9-BCDF-C34AD4FB534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Design with the E/R Model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any-to-Many Relationship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ny-to-many (or many-to-many-to-many, etc.) relationships in the example are as follows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J_WOR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volving employees and project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PP_PA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volving suppliers and parts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PP_PART_PRO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volving suppliers, parts, and project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T_STRUCTUR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nvolving parts and part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to write appropriate DD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D2E-3AD3-4AAE-9C01-09C018EC71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Design with the E/R Model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Many-to-one Relationship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three many-to-one relationships in the exampl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ROJ_MANAG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rom project to managers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PT_EM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rom employees to departments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MP_DE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rom dependents to employees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need to write appropriate DDL for this and for weak entity, super-types and subtypes als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A1D-E117-43C3-928C-6AAC0EFD20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Design with the E/R Model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xamp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59400" y="6553080"/>
            <a:ext cx="45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From my 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172200" cy="464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A6EE-BBDE-4364-96EA-A1FF6FA0B64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Design with the E/R Model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xample (Continue)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59400" y="6553080"/>
            <a:ext cx="45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From my 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6095880" cy="413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CC56-EFB3-4F9A-9903-C5EA73ACC9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Design with the E/R Model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xample (Continue)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59400" y="6553080"/>
            <a:ext cx="45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From my 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477120" cy="452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F49B-9EA6-4416-B735-1B2EBDB584C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Design with the E/R Model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xample (Continue)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tionship Type 1: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t R, S be two entity types involved in relationshi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ck one of the relations, S, to model the relationship type as 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lude PK of relation R as FK in relation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oose the one that has total participation (why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both relations have total participation in the relationship type, appropriate to merge two entity types and relationship type into single re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lationship Type 1: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1:M or M:1 relationships, also not necessary to create separate table for relationship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.: M:1 relationship Owns between Movies and Stud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ive transla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vies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itle, ye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length, filmTyp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wns  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title, yea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studio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ios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ddr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59400" y="6553080"/>
            <a:ext cx="45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From my 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2333-3D13-47CA-9F1E-FD9405AF4D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Design with the E/R Model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xample (Continue)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59400" y="6553080"/>
            <a:ext cx="45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From my 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705720" cy="484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EDAD-6CD5-4DC4-9B03-FAB7B98EF2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R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other hand we are more interested in using them as design tools and discussing how they could be useful in implementing a variety of system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NTITI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rm entity is formally undefined, but it was described as </a:t>
            </a:r>
            <a:r>
              <a:rPr b="1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“any object that exists and can be distinguished from other object”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person, place, event, object, or concept in the real word that we wish to represent in the databas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can be a physical object or an abstracti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designers may disagree about what entities exist in the organization’s environmen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different enterprises, entity examples or instances may be particular student, a specific class, an individual customer, a particular employee, an account, a patient, a conference, an invention or a club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885-4C54-4AE7-9A6D-86EE35C21C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Design with the E/R Model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Example (Continue)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559400" y="6553080"/>
            <a:ext cx="45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From my 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248160" cy="454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B494-0703-4063-983E-1C496EBA78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Design with the E/R Model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ome other Example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559400" y="6553080"/>
            <a:ext cx="45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From my 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4876560" cy="360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4EC5-6E51-4BBC-AA76-EF463B6B97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Design with the E/R Model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ome other Example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59400" y="6553080"/>
            <a:ext cx="45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From my 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981080" y="1752480"/>
            <a:ext cx="5334120" cy="408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AF4A-0DA5-46A1-88A0-A0DF693815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base Design with the E/R Model: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ome other Examples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59400" y="6553080"/>
            <a:ext cx="45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From my No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105520" cy="3994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FE26-CF4A-4C96-98B3-1DF3A85EB1D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R Model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ITIES (cont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ity / relationship (E/R) approach, is based on the “entity / relationship model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abstraction, we can identify the common properties of entity instances and define an entity type, which is a representation in the data model of a category of real-world entiti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 is the enterprise is a University, we can consider all students in a university and identify the common properties of the Student entity typ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llection of entities of the same type is called an “entity set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all the students in the university would form the Student entity se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very entity has an identity (Property or attribute)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E7DC-381B-4ED2-B097-6D446BF30F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R Model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NTITIES (cont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property must be a property of some entity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entity can be related to other entities by means of “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relationship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ntity set is represented in E-R diagrams by a rectangle having the name of the entity set insid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weak entity is an entity that is existence-dependent on some other entity, in the sense that it cannot exist if that other entity does not also exis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normal entity is called regular entity.  A regular entity is an entity that is not weak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957B-9A85-4166-B171-AF6CEE753B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R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ATTRIBU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ttributes of an entity set are the defining properties or qualities of the entity typ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he Student entity type, the defining properties might be student ID, student name, major, and number of credits accumulated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ttribute is represented in an E-R by an ellipse with the name of the attribute insid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entities of a given type have certain kinds of properties in comm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all employees have an employee number, a name, a salary, and so 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kind of property draws its values from a corresponding value set (i.e. domain, in relational terms)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9F69-E085-4CE5-B272-B155F3C751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R Model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TTRIBUTES (cont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properties can b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mple or composi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For example the composite property “employee name” might be made up of the simple properties “first name”, “middle name”, and “last name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Key is a uniqu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ssibly within some context; e.g. a dependent’s name might be unique only within the context of a given employe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ingle- or multi- valued propert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(i.e., repeating groups are permitted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iss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.g. “unknown” or “not applicable”; 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ase or deriv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.g. “total quantity” for a given part might be derived as the sum of the individual shipment quantities for that part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D30C-B8D8-45F0-B0B3-2E3CAC5437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R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RELATIONSHIP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onship is “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n association among entiti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there is a relationship (FAC_STU) between Faculty and Students, representing the fact a given Faculty member is teaching set of student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lso necessary to distinguish between relationship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yp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common properties of relationship) and relationship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stance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embers of relationship set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ntities involved in a given relationship are said to be the “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articipant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in that relationship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number of participants in a given relationship is called the “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egre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of that relationship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/R relationship can be “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e-to-o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and “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one-to-man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(also known as “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ny-to-o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), or “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many-to-man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A1B6-A2B3-4CDC-8C07-2FBBBECD15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R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SUBTYP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y given entity is of at least one entity type, but an entity can be of several types simultaneously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if some employees are programmers (and all programmers are employees), then we might say that PROGRAMMER is a “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ubtyp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of the EMPLOYEE super-typ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properties of employees apply automatically to programmers, but the converse is not tru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programmers might have a property “primary programming language skill”, which does not apply to employees in general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wise programmers automatically participate in all relationship in which employees participate, but the converse is not true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50760" y="6553080"/>
            <a:ext cx="46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: An Introduction to Database Systems by C.J.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630B-AA85-40C9-843B-F7EFB7AFC8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riq</cp:lastModifiedBy>
  <dcterms:modified xsi:type="dcterms:W3CDTF">2009-03-01T14:19:47Z</dcterms:modified>
  <cp:revision>51</cp:revision>
  <dc:subject/>
  <dc:title>PowerPoint Presentation</dc:title>
</cp:coreProperties>
</file>