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EF8B-830F-43A2-94AE-8346877F4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AFB3-EDAD-4BA3-A06B-68BD219F9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7E5B-448F-4CCF-B79F-84DAB00BB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2F57-C4B2-44C7-9EAE-642EDBF1A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734E-9222-4CA4-91B7-9CBA7EAB3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FBDC-A3F0-40A9-97FA-77C6FD75D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AC8C-967F-4CD9-9A80-B96C337FE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B44F-26C6-4839-BAF7-D154EAFB4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1A31-4A79-44C0-B848-689D19500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D91D-2037-487A-8CAA-743D82043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F3D7-BB52-4DF7-8F8E-DF3874469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B659-7D14-4C0E-AE76-6C2725A0B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BDEF1-0847-490D-8746-8A63FF6839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INTRODUCTION TO DATABASE SYSTE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The SQL Language: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urce :Database Processing: Fundamentals, Design &amp; Implementation, 9/e, by David M. Kroenk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3049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ek-13-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ructured Query Language (SQL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xample: IN/NOT 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ECT Name, Phone, Depart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EMPLOY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ERE Department IN (‘Accounting’, ‘Finance’, ‘Marketing’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6-2 (EMPLOYEE Table onl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LECT Name, Phone, Depart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EMPLOY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ERE Department NOT IN (‘Accounting’, ‘Finance’, ‘Marketing’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6-2 (EMPLOYEE Table onl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ECT Name, Depart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EMPLOY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ERE EmployeeNumber BETWEEN 200 AND 50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 WHERE EmployeeNumber &gt;= 200 AND EmployeeNumber &lt;= 50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6-2 (EMPLOYEE table onl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358360" y="6583320"/>
            <a:ext cx="67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erence :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atabase Processing: Fundamentals, Design &amp; Implementation, 9/e, by David M. Kroen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ructured Query Language (SQL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xample: LIK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ECT 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EMPLOY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ERE Phone LIKE ‘285-____’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ECT 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EMPLOY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ERE Phone LIKE ‘285%’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6-2 (EMPLOYEE Table onl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xample: IS NU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ECT Name, Depart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EMPLOY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ERE Phone IS NUL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6-2 (EMPLOYEE Table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358360" y="6583320"/>
            <a:ext cx="67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erence :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atabase Processing: Fundamentals, Design &amp; Implementation, 9/e, by David M. Kroen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ructured Query Language (SQL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Sorting the Resul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DER BY phrase can be used to sort rows from SELECT stat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LECT Name, Depart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ROM EMPLOYE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RDER BY Departmen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wo or more columns may be used for sorting purpo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LECT Name, Depart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ROM EMPLOYE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RDER BY Department DESC, Name ASC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Built-in Fun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ve built-in functions for SELECT statemen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UNT counts the number of rows in the resu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M totals the values in a numeric colum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VG calculates an average 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X retrieves a maximum 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N retrieves a minimum 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358360" y="6583320"/>
            <a:ext cx="67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erence :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atabase Processing: Fundamentals, Design &amp; Implementation, 9/e, by David M. Kroen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ructured Query Language (SQL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Built-in Functions (Continu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ult is a single number (relation with a single row and a single colum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umn nam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anno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e mixed with built-in fun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t-in function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anno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e used in WHERE clau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: Built-in Fun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ECT COUNT (DISTINCT Departmen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PROJEC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ECT MIN(MaxHours), MAX(MaxHours), SUM(MaxHour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PROJ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ERE ProjectID &lt; 150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358360" y="6583320"/>
            <a:ext cx="67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erence :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atabase Processing: Fundamentals, Design &amp; Implementation, 9/e, by David M. Kroen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ructured Query Language (SQL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Querying Multiple T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ultiple tables can be queried by using either subqueries or joi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all of the result data comes from a single table, subqueries can be u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results come from two or more tables, joins must be u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ins cannot substitute for correlated subqueries nor for queries that involve EXISTS and NOT EXIS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-que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-queries can be extended to include many levels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Exampl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LECT DISTINCT N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ROM EMPLOYE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ERE EmployeeNumber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SELECT Employe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ROM ASSIGN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ERE HoursWorked &gt; 40 AND ProjectID IN (SELECT Project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ROM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ERE Department = ‘Accounting’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58360" y="6583320"/>
            <a:ext cx="67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erence :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atabase Processing: Fundamentals, Design &amp; Implementation, 9/e, by David M. Kroen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ructured Query Language (SQL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Joi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asic idea of a join is to form a new relation by connecting the contents of two or more other rel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joined table can be processed like any other 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ECT PROJECT.Name, HoursWorked, EMPLOYEE.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PROJECT, ASSIGNMENT, EMPLOY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ERE PROJECT.ProjectID = ASSIGNMENT.Project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EMPLOYEE.EmployeeNumber = ASSIGNMENT.EmployeeNu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358360" y="6583320"/>
            <a:ext cx="67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erence :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atabase Processing: Fundamentals, Design &amp; Implementation, 9/e, by David M. Kroen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ructured Query Language (SQL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Outer Joi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uter joins can be used to ensure that all rows from a table appear in the resu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ft (right) outer join: every row on the table on the left (right) hand side is included in the results even though the row may not have a ma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uter joins can be nes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ample: Outer Jo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ft outer jo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LECT Name, HoursWork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ROM PROJECT LEFT JOIN ASSIGN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N PROJECT.ProjectID = ASSIGNMENT.ProjectI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sted outer jo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LECT PROJECT.Name, HoursWorked, EMPLOYEE.N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ROM ((PROJECT LEFT JOIN ASSIGN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N PROJECT.ProjectID = ASSIGNMENT.ProjectI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FT JOIN EMPLOYE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N EMPLOYEE.EmployeeNumber 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ssignment.EmployeeNum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58360" y="6583320"/>
            <a:ext cx="67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erence :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atabase Processing: Fundamentals, Design &amp; Implementation, 9/e, by David M. Kroen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ructured Query Language (SQL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INSERT INTO Stat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order of the column names must match the order of the 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s for all NOT NULL columns must be provi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value needs to be provided for a surrogate primary 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t is possible to use a select statement to provide the values for bulk inserts from a second t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ample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SERT INTO PROJECT VALUES (1600, ‘Q4 Tax Prep’, ‘Accounting’, 10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SERT INTO PROJECT (Name, ProjectID) VALUES (‘Q1+ Tax Prep’, 170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358360" y="6583320"/>
            <a:ext cx="67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erence :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atabase Processing: Fundamentals, Design &amp; Implementation, 9/e, by David M. Kroen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ructured Query Language (SQL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UPDATE Stat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PDATE statement is used to modify values of existing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PDATE EMPLOYE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T Phone = ‘287-1435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ERE Name = ‘James Nestor’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PDATE can also be used to modify more than one column value at a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PDATE EMPLOYE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T Phone = ‘285-0091’, Department = ‘Production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ERE EmployeeNumber = 20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358360" y="6583320"/>
            <a:ext cx="67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erence :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atabase Processing: Fundamentals, Design &amp; Implementation, 9/e, by David M. Kroen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ructured Query Language (SQL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DELETE FROM Stat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lete statement eliminates rows from a t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LETE FROM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ERE Department = ‘Accounting’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N DELETE CASCADE removes any related referential integrity constraint of a deleted 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358360" y="6583320"/>
            <a:ext cx="67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erence :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atabase Processing: Fundamentals, Design &amp; Implementation, 9/e, by David M. Kroen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ructured Query Language (SQL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ured Query Language (SQL) is a data sub-language that has constructs for defining and processing a 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can b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stand-alone within a DBMS comm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mbedded in triggers and stored proced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in scripting or programming langu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QL was developed by IBM in late 1970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QL-92 was endorsed as a national standard by ANSI in 199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QL3 incorporates some object-oriented concepts but has not gained acceptance in indus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Definition Language (DDL) is used to define database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Manipulation Language (DML) is used to query and updat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QL statement is terminated with a semico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358360" y="6583320"/>
            <a:ext cx="67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erence :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atabase Processing: Fundamentals, Design &amp; Implementation, 9/e, by David M. Kroen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ructured Query Language (SQL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358360" y="6583320"/>
            <a:ext cx="67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erence :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atabase Processing: Fundamentals, Design &amp; Implementation, 9/e, by David M. Kroen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990720" y="1365120"/>
          <a:ext cx="7543800" cy="482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365120"/>
                    <a:ext cx="7543800" cy="482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ructured Query Language (SQL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358360" y="6583320"/>
            <a:ext cx="67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erence :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atabase Processing: Fundamentals, Design &amp; Implementation, 9/e, by David M. Kroen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023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685800" y="1371600"/>
          <a:ext cx="7543800" cy="373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371600"/>
                    <a:ext cx="7543800" cy="37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ructured Query Language (SQL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REATE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 TABLE statement is used for creating rel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column is described with three parts: column name, data type, and optional constra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ATE TABLE PROJECT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ectID      Integer            Primary Key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me           Char(25)         Unique Not Null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partment  VarChar(100)  Null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xHours    Numeric(6,1)   Default 10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358360" y="6583320"/>
            <a:ext cx="67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erence :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atabase Processing: Fundamentals, Design &amp; Implementation, 9/e, by David M. Kroen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ructured Query Language (SQL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Data Typ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ndard data typ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r for fixed-length charac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rChar for variable-length charac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t requires additional processing than Char data typ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 for whole numb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umeric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re are many more data types in the SQL-92 stand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onstra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traints can be defined within the CREATE TABLE statement, or they can be added to the table after it is created using the ALTER table stat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ve types of constraint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IMARY KEY may not have null val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IQUE may have null val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ULL/NOT N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EIGN K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358360" y="6583320"/>
            <a:ext cx="67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erence :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atabase Processing: Fundamentals, Design &amp; Implementation, 9/e, by David M. Kroen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ructured Query Language (SQL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ALTER Stat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TER statement changes table structure, properties, or constraints after it has been cre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TER TABLE ASSIGN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 CONSTRAINT EmployeeFK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REIGN KEY (EmployeeNum) REFERENCES EMPLOYEE (EmployeeNumb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N DELETE NO ACTION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DROP Stat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ROP TABLE statement removes tables and their data from the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table cannot be dropped if it contains foreign key values needed by other ta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se ALTER TABLE DROP CONSTRAINT to remove integrity constraints in the other table fir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ROP TABLE CUSTOME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TER TABLE ASSIGNMENT DROP CONSTRAINT ProjectFK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358360" y="6583320"/>
            <a:ext cx="67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erence :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atabase Processing: Fundamentals, Design &amp; Implementation, 9/e, by David M. Kroen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ructured Query Language (SQL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SELECT Stat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ECT can be used to obtain values of specific columns, specific rows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 bo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ic forma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ECT (column names or *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(table name(s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WHERE (conditions)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WHERE Clause Cond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quire quotes around values for Char and VarChar columns, but no quotes for Integer and Numeric colum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may be used for compound condi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and NOT IN indicate ‘match any’ and ‘match all’ sets of values, respectivel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ldcards _ and % can be used with LIKE to specify a single or multiple unknown characters, respective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 NULL can be used to test for null 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58360" y="6583320"/>
            <a:ext cx="67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erence :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atabase Processing: Fundamentals, Design &amp; Implementation, 9/e, by David M. Kroen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ructured Query Language (SQL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xamples: SELECT Stat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ECT Name, Department, MaxHou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PROJEC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6-2 (PROJECT Table onl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LECT DISTIN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ECT DISTINCT Depart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PROJEC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6-2 (PROJECT Table onl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LECT Stat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ECT 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PROJ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ERE Department =’Finance’ AND MaxHours &gt; 10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6-2 (PROJECT Table onl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358360" y="6583320"/>
            <a:ext cx="67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erence :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atabase Processing: Fundamentals, Design &amp; Implementation, 9/e, by David M. Kroen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2T22:08:46Z</dcterms:created>
  <dc:creator>hayee</dc:creator>
  <dc:description/>
  <dc:language>en-US</dc:language>
  <cp:lastModifiedBy>Tariq</cp:lastModifiedBy>
  <dcterms:modified xsi:type="dcterms:W3CDTF">2009-03-01T14:19:13Z</dcterms:modified>
  <cp:revision>26</cp:revision>
  <dc:subject/>
  <dc:title>INTRODUCTION TO DATABASE SYSTEMS CS3203</dc:title>
</cp:coreProperties>
</file>