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007-2781-4B1B-B248-2CAE0FD4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E25-83A2-4430-8FE7-D8E7BD3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73C-CBAE-4FBF-812A-C4B8F6AE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4AF-134E-4C57-88D3-E2574241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5E8-807D-420D-A77C-FE3EF793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F8C-E5D6-4C57-ABA2-07F96689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C8B-6A56-4400-8810-B167C54E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F0D-0E83-4C07-B089-CC9CEE0E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9B3-E910-4468-BAB4-2326CB62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22C-1F54-4C77-84B2-EB4C2FC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932-6885-4C3C-9EFE-AA76C93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F9F-48F6-4D88-9975-39E85E6F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C6A4-C4BB-4A18-8C7B-0573D7A1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Re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rocessing, Fundamentals, Design, and Implementation, 9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vid M. Kroe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Table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QL-92 command to change tab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needs to be re-created under the new name, tested, and the old table i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 table name has a surprising number of potential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using views defined as table aliases is mo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views that define the aliases would need to be changed when the source table name is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null columns to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 TABLE WORK ADD COLUMN DateCreated Date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lumn constraints, e.g., DEFAULT or UNIQUE, may be included with the colum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ly added DEFAULT constraint will be applied to only new rows, existing rows will have nul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teps to add a NOT NULL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lumn a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data to every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 the column constraint to 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opping Colum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op non-key colum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WORK DROP COLUMN DateCreat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op a foreign key column, the foreign key constraint must first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op the primary key, all foreign keys using the primary key must first be dropped; follow by dropping the primary ke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Data Type or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LTER TABLE ALTER COLUMN to change data typ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changes, data will be lost or the DBMS may refuse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a constraint from NULL to NOT NULL, all rows must have a valu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Data Type or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more specific data type, e.g., date, money, and numeric, to char or varchar will usually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a data type from char or varchar to a more specific type can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AR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COLUMN Birthdate Numeric (4,0)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and Dropping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LTER TABLE ADD (DROP) CONSTRAINT to add (remove)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TABLE AR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NSTRAINT NumericBirthYearChec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(Birthdate &gt; 1900 and Birthdate &lt; 2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Minimum Cardi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arent si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ange from zero to one, change the foreign key constraint from NULL to NO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nly be done if all the rows in the table have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ange from one to zero, change the foreign key constraint from NOT NULL to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hild si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(to change from zero to one) or drop (to change from one to zero) triggers that enforce th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Maximum Cardi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1:1 to 1: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oreign key is in the correct table, remove the unique constraint on the foreign key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oreign key is in the wrong table, move the foreign key to the correct table and do not place a unique constraint on tha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1:N to N: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new intersection table and move the key and foreign key values to the intersec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ing Cardinal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ardinalities may result in data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N:M to 1: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reign key in the parent table and move one value from the intersection table into that foreign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1:N to 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ny duplicates in the foreign key and then set a uniqueness constraint on tha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and Deleting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new table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ables and relationships using CREATE TABLE statements with FOREIGN KE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xisting table has a child relationship to the new table, add a FOREIGN KEY constraint using the exis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ing relationships an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the foreign key constraints and then drop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For Database Re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atabase re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x mistakes made during the initial databas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apt the database to changes in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nformation systems cause changes in systems requirements because information systems and organizations create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new system is installed, users can behave in new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users behave in the new ways, they will want changes to the system to accommodate their new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ables and Relationships for 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rrelated subqueries to determine whether the normalization assumption is jus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fix the data before proc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table and move the normalized data into the n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appropriate foreign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Relationsh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De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new columns in the table to be denorm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the table with exis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child table and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orward engine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applying data model changes to an exist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forward engineering should be tested before using it on an operationa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ools will show the SQL that will execute during the forward engine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that SQL should be carefully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Re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inciples for database redesig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wice and cut once: understand the current structure and contents of the database before making any struc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new changes on a test database before making re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omplete backup of the operational database before making any struc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: reverse engineering (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e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verse engine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reading and producing a data model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base sch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verse engineered (RE) data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basis to begin the database redesig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ither truly a conceptual nor an internal schema as it has characteristics of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carefully reviewed because it almost always has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E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7162920" cy="41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ency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ependency 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iagrams used to portray the dependency of one element o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929040" cy="4724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epend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Backup and Test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making any changes to an operationa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backup of the operational database should be m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posed changes should be thoroughly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copies of the database schema used in the redesig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test database for initi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test database for secondary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ration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Redesig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ables an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nd dropping tabl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data type or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nd dropp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cardi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nd deleting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nd removing relationship for de-norm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0:26:07Z</dcterms:created>
  <dc:creator>Tariq</dc:creator>
  <dc:description/>
  <dc:language>en-US</dc:language>
  <cp:lastModifiedBy>Tariq</cp:lastModifiedBy>
  <dcterms:modified xsi:type="dcterms:W3CDTF">2009-03-14T10:26:39Z</dcterms:modified>
  <cp:revision>1</cp:revision>
  <dc:subject/>
  <dc:title>Chapter 8 Database Redesign</dc:title>
</cp:coreProperties>
</file>