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CD07-E722-4531-A0E5-B9F0E1D25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FA14-79CA-48B0-A165-9F5E71BE4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8C51-6926-467C-BF92-4DD0B65FD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BBD4-1C3D-4854-9EBF-C743300F3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6740-25B1-4039-926E-C1D64198E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9001-BD80-4B67-829D-51B172318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48BE-DD2D-4E0C-AD31-E4B6D33F6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0814-F839-4F92-829A-7B5E4E79F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91A4-1C5B-441E-BB2D-3F4BB6315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B72D-83D5-4D5B-8C2A-C60447D9E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D63A-5193-43EF-B758-B425410D0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C20C-242E-4A6A-8169-C8B08E534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4FA0D-EE18-4447-9CCB-8637B14686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pter 9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naging Multi-User Datab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base Processing, Fundamentals, Design, and Implementation, 9/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David M. Kroen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Concurrent Trans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286000" y="1690560"/>
            <a:ext cx="5105520" cy="455796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Lost Update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828800" y="1517760"/>
            <a:ext cx="6248520" cy="465444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 Loc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Resource lock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events multiple applications from obtaining copies of the same record when the record is about to be chang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ck Terminolog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Implicit lock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e locks placed by the DB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Explicit lock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e issued by the application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Lock granular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fers to size of a locked re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ws, page, table, and databas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rge granularity is easy to manage but frequently causes confli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s of 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exclusive loc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rohibits other users from reading the locked re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shared loc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llows other users to read the locked resource, but they cannot update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8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8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1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9" dur="5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2" dur="500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5" dur="500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Explicit Loc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352600" y="1295280"/>
            <a:ext cx="5038920" cy="491508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rializable Trans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Serializable transac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fer to two transactions that run concurrently and generate results that are consistent with the results that would have occurred if they had run separat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Two-phased lock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one of the techniques used to achieve serializ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2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7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wo-phased Loc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Two-phased lock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actions are allowed to obtain locks as necessary (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growing pha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ce the first lock is released (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shrinking pha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no other lock can be obt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pecial case of two-phased loc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ks are obtained throughout the trans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lock is released until the COMMIT or ROLLBACK command is iss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strategy is more restrictive but easier to implement than two-phase loc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4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7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0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5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8" dur="5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1" dur="5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4" dur="5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adlock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Deadloc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or the deadly embrace, occurs when two transactions are each waiting on a resource that the other transaction ho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venting dead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w users to issue all lock requests at one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ire all application programs to lock resources in the same or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eaking dead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most every DBMS has algorithms for detecting deadl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deadlock occurs, DBMS aborts one of the transactions and rollbacks partially completed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1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6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9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2" dur="5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7" dur="5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0" dur="500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3" dur="500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Deadlo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209680" y="1523880"/>
            <a:ext cx="5639040" cy="452916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timistic/Pessimistic Loc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Optimistic lock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ssumes that no transaction conflict will occ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BMS processes a transaction; checks whether conflict occur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not, the transaction is fin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so, the transaction is repeated until there is no confli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Pessimistic lock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ssumes that conflict will occ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ks are issued before transaction is processed, and then the locks are rele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mistic locking is preferred for the Internet and for many intranet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0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3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6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9" dur="5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4" dur="5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7" dur="5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2" dur="500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base Administ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large and small databases need database adminis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Data administr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fers to a function concerning all of an organization’s data as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Database administration (DBA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fers to a person or office specific to a single database and its 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ptimistic Loc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666880" y="1371600"/>
            <a:ext cx="4532400" cy="464832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Pessimistic Loc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057400" y="1371600"/>
            <a:ext cx="5562720" cy="4680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laring Lock Characteris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application programs do not explicitly declare locks due to its com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ead, they mark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transaction boundar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declare locking behavior they want the DBMS to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action boundary markers: BEGIN, COMMIT, and ROLLBACK TRANS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an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 the locking behavior needs to be changed, only the lock declaration need be changed, not the application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9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4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7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2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5" dur="5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Marking Transaction Bound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124080" y="1676520"/>
            <a:ext cx="3759480" cy="445752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ID Trans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ronym 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ACI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ransaction is one that is 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mic, 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sistent, 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ated, and 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r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Atomi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ans either all or none of the database actions occ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Durab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ans database committed changes are perma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2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7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2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ID Transactions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Consistenc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ans either statement level or transaction level consist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Statement level consisten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each statement independently processes rows consisten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Transaction level consisten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all rows impacted by either of the SQL statements are protected from changes during the entire trans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transaction level consistency, a transaction may not see its own cha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9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2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5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8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ID Transactions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Isol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ans application programmers are able to declare the type of isolation level and to have the DBMS manage locks so as to achieve that level of iso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L-92 defines four transaction isolation level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uncommit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commit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able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ializ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5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0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3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6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9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2" dur="5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action Isolation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00200" y="2048040"/>
            <a:ext cx="7086600" cy="256824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rsor Ty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1599840"/>
            <a:ext cx="7391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curs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pointer into a set of rec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can be defined using SELECT stat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 cursor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Forward onl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the application can only move forward through the record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rollable cursors can be scrolled forward and backward through the record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Stati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processes a snapshot of the relation that was taken when the cursor was ope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Keys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combines some features of static cursors with some features of dynamic curs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Dynami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a fully featured cur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osing appropriate isolation levels and cursor types is critical to database desig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9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4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9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2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5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8" dur="5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1" dur="5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4" dur="500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9" dur="500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base Secur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Database secu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nsures that only authorized users can perform authorized activities at authorized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ing database secu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users’ processing rights and responsibilit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force security requirements using security features from both DBMS and application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6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1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4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7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BA Tas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aging database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ling concurrent proces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aging processing rights and responsi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ing database secu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ing for database recov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aging the DB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aining the data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BMS Secur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BMS products provide security facilit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limit certain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act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n certain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obje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certain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us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most all DBMS products use some form of user name and password secu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BMS Security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057400" y="1812960"/>
            <a:ext cx="6172200" cy="323208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BMS Security Guid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 DBMS behind a firewall, but plan as though the firewall has been breach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y the latest operating system and DBMS service packs and fi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the least functionality pos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 the fewest network protocols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ete unnecessary or unused system stored proced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able default logins and guest users, if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less required, never allow all users to log on to the DBMS interactive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ect the computer that runs the DB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user allowed to work at the computer that runs the DB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MS computer physically secured behind locked do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ss to the room containing the DBMS computer should be recorded in a 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4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9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4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7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0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3" dur="5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6" dur="5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1" dur="500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4" dur="500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7" dur="500"/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0" dur="500"/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BMS Security Guidelines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e accounts and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 low privilege user account for the DBMS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ect database accounts with strong pass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itor failed login attemp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equently check group and role membersh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dit accounts with null pass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ign accounts the lowest privileges pos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mit DBA account privile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 a security plan for preventing and detecting security probl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procedures for security emergencies and practice th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7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0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3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6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9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2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5" dur="5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8" dur="500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3" dur="500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6" dur="500"/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9" dur="500"/>
                                        <p:tgtEl>
                                          <p:spTgt spid="1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lication Secur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DBMS security features are inadequate, additional security code could be written in application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security in Internet applications is often provided on the Web server compu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you should use the DBMS security features fir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loser the security enforcement is to the data, the less chance there is for infilt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BMS security features are faster, cheaper, and probably result in higher quality results than developing your 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6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9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4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7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0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QL Injection Att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SQL injection attac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ccurs when data from the user is used to modify a SQL sta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input that can modify a SQL statment must be carefully edited to ensure that only valid input has been received and that no additional SQL syntax has been ent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users are asked to enter their names into a Web form tex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input: Benjamin Franklin ' OR TRUE '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* FROM EMPLOY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EMPLOYEE.Name = 'Benjamin Franklin' OR TRU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ult: every row of the EMPLOYEE table will be retur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7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2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7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0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3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6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9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base Recove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event of system failure, that database must be restored to a usable state as soon as pos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recovery technique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very via 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reproces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very via 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rollback/roll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6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1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4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7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overy via Reproces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Recovery via reprocess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the database goes back to a known point (database save) and reprocesses the workload from t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feasible strategy beca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covered system may never catch up if the computer is heavily schedu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ynchronous events, although concurrent transactions, may cause different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4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9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2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5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llback/Rollforwar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very via rollback/rollforward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iodically save the database and keep a database change log since the s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base log contains records of the data changes in chronological or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there is a failure, either rollback or rollforward is appl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Rollbac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undo the erroneous changes made to the database and reprocess valid trans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Rollforwar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restored database using saved data and valid transactions since the last s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2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5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8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3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6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9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Rollb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fore-images: a copy of every database record (or page) before it was chan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590920" y="3352680"/>
            <a:ext cx="4724280" cy="288936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naging Database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BA’s task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icipate in database and application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ist in requirements stage and data model cre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y an active role in database design and cre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ilitate changes to database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k community-wide sol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ess impact on all u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 configuration control for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 prepared for problems after changes are ma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ain docu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" dur="5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" dur="50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" dur="500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" dur="500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Rollforw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-images: a copy of every database record (or page) after it was chan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992"/>
          <a:stretch/>
        </p:blipFill>
        <p:spPr>
          <a:xfrm>
            <a:off x="2438280" y="3429000"/>
            <a:ext cx="4876920" cy="27432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Transaction Lo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981080" y="1600200"/>
            <a:ext cx="5824800" cy="451008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Database Recove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828800" y="1905120"/>
            <a:ext cx="6629400" cy="354636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Database Recove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362320" y="1371600"/>
            <a:ext cx="5029200" cy="485928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ck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checkpoi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point of synchronization between the database and the transaction 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BMS refuses new requests, finishes processing outstanding requests, and writes its buffers to d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BMS waits until the writing is successfully completed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 log and the database are synchroniz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points speed up database recovery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base can be recovered using after-images since the last check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ckpoint can be done several times per ho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DBMS products automatically checkpoint themsel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6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9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2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7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0" dur="5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3" dur="5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8" dur="500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naging the DB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BA’s Responsi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te database application performance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stigate user performance compl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ss need for changes in database structure or application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y database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e and implement new DBMS 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ne the DB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intaining the Data Reposi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BA is responsible for maintaining the data reposi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Data repositor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e collections of metadata about users, databases, and its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pository may b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rtual as it is composed of metadata from many different sources: DBMS, code libraries, Web page generation and editing tools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integrated product from a CASE tool vendor or from other compan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est repositories are active and they are part of the system development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5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0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5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8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1" dur="5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6" dur="5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urrency Contr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Concurrency contro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nsures that one user’s work does not inappropriately influence another user’s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single concurrency control technique is ideal for all circum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de-offs need to be made between level of protection and through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tomic Trans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transa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or 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logical unit of work (LUW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is a series of actions taken against the database that occurs as an atomic un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ther all  actions in a transaction occur or none of them 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Atomic Trans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6934320" cy="436896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Atomic Trans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523880" y="1371600"/>
            <a:ext cx="7239240" cy="466884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urrent Trans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Concurrent transact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fer to two or more transactions that appear to users as they are being processed against a database at the same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reality, CPU can execute only one instruction at a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Transactions are interleav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eaning that the operating system quickly switches CPU services among tasks so that some portion of each of them is carried out in a given inter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urrency problems: lost update and inconsistent re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4T10:31:49Z</dcterms:created>
  <dc:creator>Tariq</dc:creator>
  <dc:description/>
  <dc:language>en-US</dc:language>
  <cp:lastModifiedBy>Tariq</cp:lastModifiedBy>
  <dcterms:modified xsi:type="dcterms:W3CDTF">2009-03-14T10:32:01Z</dcterms:modified>
  <cp:revision>1</cp:revision>
  <dc:subject/>
  <dc:title>Chapter 9 Managing Multi-User Databases</dc:title>
</cp:coreProperties>
</file>