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F59-4DFC-48EF-BB2A-7D27D703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200-F630-4228-860C-A344582B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D53-086D-44D1-9DC3-B1D2ED29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3DF-276F-46CD-9D48-D69F4A42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912-031A-4E92-90E8-A9CC6B34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258-1D5F-4D5D-929D-D6E888D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6AB-D508-43B3-A626-50E72983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A4A-0A2E-4537-A8ED-7DDC88A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87C-FD5D-44F4-A4E3-7AC0E10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0E6-42CE-498A-9C5B-4A4E67D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479-5079-4DA9-A9B9-CD308F8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9D2-ABBB-43CE-B981-03BBB93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9BA-BBBD-4EAD-B3EA-01DF75E7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, OLE DB, ADO, and A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rocessing, Fundamentals, Design, and Implementation, 9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vid M. Kroe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Componen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river man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s the type of DBMS for a given ODBC data source and loads that driver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BMS d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ODBC requests and submits specific SQL statements to a given type of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ingle-tier dr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both ODBC calls and SQ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ltiple-tier dr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ODBC calls, but passes the SQL requests to the databas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Driver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333760" cy="4713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ormance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conformance balance the scope of OBDC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conformanc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BC conformance 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rn the features and functions that are made available through the driver’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pplication program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iver API is a set of functions that the application can call to rece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QL conformance 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y which SQL statements, expressions, and data types a driver c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Conformance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1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o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and execute SQ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from a result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 or rollback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erro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o data sources with driver-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parti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catalo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information about driver options, capabilities,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Conformance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and Level 1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possible connections and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native form of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a translation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 scrollable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QL 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, DROP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ELE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es not include subqu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, UPDATE,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express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&gt; B +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, VARCHAR, LONGVARCHAR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Conformance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SQL 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QL 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ABLE, CREATE INDEX, DROP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, DROP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, RE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ELECT (includes subqu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functions such as SUM, COUNT, MAX, MIN,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, NUMERIC, SMALLINT, INTEGER, REAL, FLOAT, DOUBLE PRECISION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Conformance Leve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SQL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SQL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nd DELETE using cursor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r functions such as SUBSTRING, 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s for date, time, and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SQ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bility of the minimum SQL grammar is very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rivers support at least the core SQL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Dat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ata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DBC data structure that identifies a database and the DBM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types of data sourc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le data 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ile that can be shared among database users having the same DBMS driver and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ystem data 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ocal to a single computer and may be used by the operating system and any user on tha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ata sources are recommended for Web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fine a system data source name, the type of driver and the database need to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data 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vailable only to the us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creat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DB is an implementation of the Microsof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objec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 DB objects are COM objects and support all required interfaces for such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DB breaks the features and functions of a DBMS into COM objects, making it easier for vendors to implement portions of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racteristic overcomes a major disadvantage of O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DBC, a vendor must create an ODBC driver for almost all DBMS features and functions in order to participate in ODBC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Object-Oriented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-oriented programming object is an abstraction that is defined by its propertie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generalization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set of characteristics of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ctions that an object can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bject that contains a group of oth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database applications today reside in a complicated environment, various standards have been developed for accessing databas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traditional standar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D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pen Database Connectivity) is the early standard for relational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LE 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icrosoft’s object-oriented interface for relational and other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tive Data Objects) is the Microsoft’s standard providing easier access to OLE DB data for the non-object-oriented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DB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bject interfaces for DBMS functionality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, update, transaction manage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data consumers to use only the objects they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data providers to expose pieces of DBMS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s can deliver functionality in multipl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are standardized and ext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nterface over any typ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and non-relational database, ODBC or native, VSAM and other files, Emai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force data to be converted or moved from where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DB Basic Constr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et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t of objects and the properties and methods they expose in tha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may expose different properties and methods in different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an object accomplishes its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s are hidden from the outside world and may be changed without impacting the users of th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DB Data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 DB has two types of data provi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abular data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ses data via row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DBMS, spreadsheets, IS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rvice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ransformer of data through OLE DB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oth a consumer and a provider of transform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query processors, XML documen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set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ow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a cu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owset interface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Row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for sequential iteration through a row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A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for setting and determining bindings between rowset and client program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Columns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for determining Information about the columns in the row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tive Data 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bject model for OLE DB data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rom VBScript, JScript, Visual Basic, Java, C#,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icrosoft data acces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objects are the same for all types of OLE DB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 Objec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334120" cy="4651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Obj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nection 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blishes a connection to a data provider and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have an isol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connection is created, it can be used to creat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cord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mman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Se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cord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represent cur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both CursorType and LockTyp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ets can be created with SQ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elds collection of a RecordSet can be processed to individually manipulat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rors collection contains one or more error messages that result from an ADO op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mmand 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execute stored parameterized queries or store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ata can be sent to the correct ASP using the HTML FORM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updates are made using the RecordSet Updat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er Data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004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 needs to publish applications that involve different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5105160" cy="41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OD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639040" cy="4646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OLE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378080"/>
            <a:ext cx="5867280" cy="487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79680" y="1371600"/>
            <a:ext cx="4759200" cy="480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pen Database Conne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tandard provides a DBMS-independent means for processing relational databa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developed in the early 1990s by an industry committee and has been implemented by Microsoft and many other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allow a developer to create a single application that can access databases supported by different DBMS products without needing to be changed or recomp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324480" cy="3692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BC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DC consists of data source, application program, drivermanager, and DBMS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ata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atabase, its associated DBMS, operating system, and network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DBC data source can be a relational database, a file server, or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pplications 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sues requests to create a connection with a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0:36:11Z</dcterms:created>
  <dc:creator>Tariq</dc:creator>
  <dc:description/>
  <dc:language>en-US</dc:language>
  <cp:lastModifiedBy>Tariq</cp:lastModifiedBy>
  <dcterms:modified xsi:type="dcterms:W3CDTF">2009-03-14T10:36:22Z</dcterms:modified>
  <cp:revision>1</cp:revision>
  <dc:subject/>
  <dc:title>Chapter 12 ODBC, OLE DB, ADO, and ASP</dc:title>
</cp:coreProperties>
</file>