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C6B-52E6-4292-9AB7-48E7194E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F84-EF8B-4C7E-A097-8A376011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83A-1FF5-4C22-B848-4E88A484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C9A-54E5-44A8-BFCB-0D2D7AC0B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193-7200-4F73-A779-B10E18F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6BF4-28DC-48EC-86A0-A362F826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89B-7928-4FFC-ADC4-84A1EFE2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EE2-DA99-4BA4-8D70-916B59F5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C17-A818-425F-8192-46EB9D95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E416-4490-4486-98C0-934AB4F4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1BB-BB66-40F7-BD2E-042ABAD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C99-6DCB-4527-B574-458BCABC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3A7-A26B-4F52-A308-AB42755D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Enterpris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Processing, Fundamentals, Design, and Implementation, 9/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David M. Kroen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Databas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84640" cy="4953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vertical part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vertical fragment, refers to a table that is broken into two or more sets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 horizontal part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horizontal fragment, refers to a table that is broken into two or more sets of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ixed partition refers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database broken into both horizontal and vertical part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Distributed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distributed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partitioned, nonrepl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ed, nonre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partitioned, re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tioned, re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er the degree of partitioning and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flexibility, independence, and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reater the expense, control difficulty, and secur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Distributed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190840" cy="473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B Distribution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867640" cy="44956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Processing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ypes of distributed databas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Downloading of read-onl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one computer updates data, but multiple computers are sent copies to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pdating by a designated comp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data update requests to originate on multiple computers, but to transmit those update requests to a designated computer fo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 at the designated computers must be periodically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Processing Techniq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Updating by multiple compu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ows multiple updates on the same data at multiple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distributed update conflict can occ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 of 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updates due to concurrent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of dele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distributed atomic transactions is difficult and requires a two-phase co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LE Distributed Transaction Server and Java Enterprise Beans are two technologies for dealing with thes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ersonal computers enable user to download enterprise data for loca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query and report on downloaded data using DBMS products on their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users are not allowed to update and return data to prevent data integrit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 server can be used to publish download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roblems of Downloaded Data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ed data must conform to databas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updates must be coordinated with 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downloaded data should not be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need features to prevent upd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should be made aware of possibl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roblems of Downloaded Databas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Contr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ay be replicated on many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to control data access are more compli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Computer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copying is difficult to pr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ettes and illegal online access are easy to conc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y prevent the development of downloaded data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base Processing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architectures for enterprise database process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rocess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-serv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-sha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ing Downloaded Data with a Web 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8242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n Line Analytical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O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new way of presen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, data is viewed in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ub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hav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men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l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e ref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ying semantic structure that is used to interpre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articular materialization of data in such a semantic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elational Sourc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486400" cy="4826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LAP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5181480" cy="4776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AP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05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AP hypercube: means a data display with an unlimited number of 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138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Cube Data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CUBE HousingSalesCube 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Time TYPE TI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Year TYPE YE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Quarter TYPE QUART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Month TYPE MONT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Loc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USA TYPE AL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Sta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L Cit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HousingCatego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NSION HousingTyp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SalesPri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A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skingPr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A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Multidimensional SELECT State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CROSSJO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{Existing Structure, New Construction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California.Children, Nevada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COLUM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998.Q1.Children, 1998.Q2, 1998.Q3, 1998.Q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.Q1.Children, 1999.Q2, 1999.Q3, 1999.Q4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HousingSalesC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(SalesPrice, HousingType = ‘SingleFamily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AP Schem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tar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very dimension table is adjacent to the table storing the measur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tables may or may not be norm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nowflake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e can be multilevel, normalize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e star schema requires greater storage, but it is faster to process than the snowflake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tar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639040" cy="4680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Snowflake 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562720" cy="476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rocess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 architecture for multi-user databas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operate dumb terminals or PC that emulate dumb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is usually simple and prim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centralized computer processes communications control program, application programs, DBMS, and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AP Storag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different means for storing OLA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RO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OLAP): relational DBMS with extensions is sufficient to meet OLA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O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ultidimensional OLAP): a specialized multidimensional processor is necessary to produce acceptable OLAP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O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ybrid OLAP): both DBMS products and specialized OLAP engines have a role and can be used to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LA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has extended OLE DB and ADO for O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 DB for OLAP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se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DO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ew objects for processing dataset objects in ways similar to recordset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ivot Table Serv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 OLAP processor available as Office 2000/XP and Windows 2000/XP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’s architecture moves much OLAP processing to client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his will be acceptable for the processing of data on enterprise servers is as yet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oft OLAP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952880" cy="484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ata wareho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e of enterprise data that is designed to facilitate management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: to increase the value of the organization’s data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: to store extracts from operational data and make those extracts available to users in a useful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be extracts from databases, files, images, recordings, photos, external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248160" cy="47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arehous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extrac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data of warehou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 DBMS(s) and OLAP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 data manage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eliver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user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training courses an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ehouse consul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Warehous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and reports with variabl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-specified data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-specified drill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domain-specific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for Data Ware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ata are integrated, inconsistencies can develop due to timing and domain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reate metadata to describe both timing and domains of sourc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many tools required in a data warehouse, tools will have different user interfaces and inconsistent means of importing and exporting data, and it may be difficult to obtain technic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for Data Ware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ools for managing the data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ization may have to develop its own tools for managing non-relational data and for maintaining appropriate metadata. Such development is difficult and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hoc nature of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requests are difficult to satis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create datamart, i.e,, limited-scope data ware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mart is a limited-scope data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mart is easier to manage than the enterprise data warehouse beca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much smaller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restri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particular type of inpu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particular busine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 particular business unit or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rocess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6782040" cy="418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prise Data Sharing Continu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6324480" cy="3391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an important organizational asset that can support both operations and management decision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urpose of offices of data administration is to guard and protect the data and to ensure that they are use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ministration Challen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ypes of data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ategories of data are not ob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data can have many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data can have many descriptions and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re changed ofte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-organizational issues complicate oper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Data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e existence of data administration to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reason for existence of standards, policies,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in a positive light the service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standard means for describing data items. Standards include name, definition, description, processing restri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data pro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of Data Admini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organization-wide data policy, e.g., security, data proponency, and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um for Data Conflict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procedures for reporting confl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eans for hearing all perspectives an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uthority to make decision to resolve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Organization's Data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attention on value of data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e new methodologi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proactive attitude toward informat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-Serv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ient-server system consists of a network of computers connected via a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l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ersonal computers used to process appli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Serv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PCs or mainframes that stores DBMS and the data-management portion of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ent-Server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391440" cy="480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-Shar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rchitecture was developed before the client-serv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 and user computers are connected through 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erver provides access to files and oth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computers must contain a copy of DBMS and application progr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 on user’s computer sends requests to the data management portion of the operating system on the file server for file-leve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use more traffic across LAN than the client-serv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-Shar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617220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Database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 systems use multiple computers to process the sam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stributed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 multiple computers for applications or DBM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file-sharing, client-server, and distributed databas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istributed database process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stribute database to multiple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istributed databas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4T10:38:49Z</dcterms:created>
  <dc:creator>Tariq</dc:creator>
  <dc:description/>
  <dc:language>en-US</dc:language>
  <cp:lastModifiedBy>Tariq</cp:lastModifiedBy>
  <dcterms:modified xsi:type="dcterms:W3CDTF">2009-03-14T10:39:14Z</dcterms:modified>
  <cp:revision>1</cp:revision>
  <dc:subject/>
  <dc:title>Chapter 15 Sharing Enterprise Data</dc:title>
</cp:coreProperties>
</file>