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A450-930D-486F-B15B-4DD90DBD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FCB9-D38E-497D-A8DB-74A59B64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814A-CA54-4297-B7A2-7EA5C73D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F0CC-4B0A-4FDD-88A7-459B5D45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95D4-7D7E-48C8-898C-C005B107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550A-7EAD-4732-9E6F-4CFBD57A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E0E4-0AA5-4A25-9512-2A180CDA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251B-7FE1-44D3-A2B2-DCA3E165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5B9B-5B6A-49C2-BE07-C33AB366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424A-B8EE-4089-A0BD-83D81883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5BD4-0232-4B11-B08A-6C607A25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0A37-B25E-41AA-B614-5E4B48E2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BA6D-FE94-451E-A25A-F251026BD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6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-Oriented Database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Processing, Fundamentals, Design, and Implementation, 9/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David M. Kroen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Persistence 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00200" y="1932120"/>
            <a:ext cx="6858000" cy="2992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Persistence Using O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cle supports object persistence using object-relational database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types can be defined and used with table structures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length ar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ted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w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 objects can also be defined to inclu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length arrays and nested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 pointers as REF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s, which can use Oracle-supplied class libraries for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BMS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QL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I and ISO proposed SQL3 as an extension to SQL-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3 begins with a database perspective and moves toward object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ODMG-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published in 1993 by the Object Data Management Gro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MG is supported by a consortium of object database vendors and other interested industry exp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MG begins with an object perspective and moves toward data management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L3 Key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Abstract Data Ty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AD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 a user-defined structure equivalent to an OOP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 ADTs have identifiers called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O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L3 table definition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3 tables have 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ow identifi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can have sub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sub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ubset of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super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it inherits all of the columns of its supertable and may also have columns of its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types of table: SET, MULTISET,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L language extensions supporting ADT methods co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MG-93 Key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are the fundamental data stru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object has a lifelong persistent, unique ident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can be arranged into types and sub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is defined by data values and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 is defined by object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al databases are not well-suited to store object-oriented programming objects because tables cannot store complex object structures includ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Object-Oriented DB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ODB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OODB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a special-purpose DBMS developed in the early 1990s to provide persistent object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products have not been commercially successful because existing data must be converted into ODBM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 products begin to support object-relational databases, hybrids of object and relational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Object-oriented programm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O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a way of designing and cod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s programs as sequences of instructions to be proc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organized around logic first and data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s programs as sets of data structures that have both data elements and program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organized around data first and logic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P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OOP o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encapsulated structure having both attributes and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Encapsula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ans that it is complete in it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s external to an object know nothing of its structure and need to know nothing of its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equences of instructions that the object exec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OP objects interact by calling each other’s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external appearance of a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encapsulated interior of a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P Terminology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ub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 inherits the attributes and methods of its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uper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olymorphis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ows several versions of the same method to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iler creates code to call the proper version, depending on the object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object 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gical structure of a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object class libr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group of objec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Obje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object insta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instances of an object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P Terminology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Object construc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methods that obtain memory and create object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Object destruc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bind objects and fre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ransient obje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ist only during the execution of a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ersistent obje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saved to storage and survive the execution of a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CUSTOMER O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5558040" cy="43484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bject 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6553080" cy="45388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Persist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Persisten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object instance data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in-memory object pointers to permanent, unique IDs (swizz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object class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can be made persistent by u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file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al DB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B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10:40:47Z</dcterms:created>
  <dc:creator>Tariq</dc:creator>
  <dc:description/>
  <dc:language>en-US</dc:language>
  <cp:lastModifiedBy>Tariq</cp:lastModifiedBy>
  <dcterms:modified xsi:type="dcterms:W3CDTF">2009-03-21T12:38:16Z</dcterms:modified>
  <cp:revision>2</cp:revision>
  <dc:subject/>
  <dc:title>Slide 1</dc:title>
</cp:coreProperties>
</file>