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765-1C0D-4049-813F-5B55AF55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392-8FC5-4D1C-B379-398629EA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881-E5F1-4C16-8852-2AF6DE57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A4C-F75F-4913-A427-1482225B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2CF-2020-486B-89F9-2C372841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F73-86E1-45D3-B465-C28BAA24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75C-60D9-4C61-9B0A-6A4961AF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47D-82A3-48E7-BF4C-69ED632D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CC1-FE40-4525-AC2C-1E69BD1E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EFB-130F-4B5A-AA16-68ACECCB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60F-86D1-4F82-AE8F-ABA2D500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440-0A17-43EC-9F13-AE549F31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A655-3BE3-4671-A202-8E22A4DD2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T1130 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7 Alkyl Ha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ophilic Subtitution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nsformation that involves the substitution of one nucleophile by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major pathways: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nd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single step without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phile attacks from a direction 1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 away from the leav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ransition state, the Nu-C bond is partially formed and the C-X bond is partially br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gative charge is shared by both nucleophile and leav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124080" y="1295280"/>
          <a:ext cx="2427480" cy="52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295280"/>
                    <a:ext cx="2427480" cy="52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s of 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e of reaction depends on the concentrations of the two reactants ( hence the “2” for bimolecula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the concentration, will double the rate of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e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ing nucleophile attacks the substrate from the opposite side of the leav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e inverts from the S configuration to R, or R to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c Effects in 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also depends on the spatial accessibility of the nucleophile to the subs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ky substrates on the alkyl halides react much slowly than the ones that are more 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reactivity: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Meth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nylic and aryl halides are unreactive due to steric hind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aving Group of 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ty of the leaving group displaced by the attacking nucleophile can also affect th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st leaving groups are the most stable a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re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B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akes place on tertiary substrates, and only under neutral or acidic conditions in a hydroxylic solvents such as water or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occurs by the spontaneous loss of the leaving group before the incoming nucleophile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leaving groups give a carbocation intermediate which then reacts with the nucleop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table the carbocation, more rapid th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447920"/>
          <a:ext cx="563868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563868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s of 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LY on the concentration of the substrate and independent of the nucleophile concen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unimolecular which means reaction depends on only one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alkyl halid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ogen-substituted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trichloro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52480" y="3352680"/>
          <a:ext cx="2743200" cy="22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352680"/>
                    <a:ext cx="274320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eochemistry of 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occurs through carbocation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cations are planar and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bridized, they are achi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bocation can react with a nucleophile from both side of the plane of molecule resulting a racemic mixture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e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1295280"/>
          <a:ext cx="8382240" cy="42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ing Group of 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leaving group are those that give the most stable a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&lt; B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2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phile eliminates HX from an alkyl halide to form an alk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3352680"/>
          <a:ext cx="746748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4674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itsev’s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difficult to determine the product of an elimination reaction because it almost always give a mixtures of alken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itsev’s rule gives a guideline to predict the major product of th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itsev’s rule says that the alkene product with the most number of substituents on the double bond is the major product of the elimina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 of E2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2362320"/>
          <a:ext cx="7772400" cy="18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777240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E2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on, bi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2819520"/>
          <a:ext cx="8001000" cy="17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001000" cy="17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1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unimolecular elimina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two steps and a carbocation inter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in competition with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when alkyl halide is treated in a hydroxylic solvent with a nonbasic nucleop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tures of substitution and elimination products are usually ob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E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905120"/>
          <a:ext cx="83059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3059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tures of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981080"/>
          <a:ext cx="807732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07732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alkyl ha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ongest chain, and name it as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the carbons of the parent chain beginning at the end nearest the first substituent, regardless if it is alkyl or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e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imary substrate reacts by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athway if a good Nu such as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, and by an E2 pathway if a strong base such as hydroxide ion or alkoxide ion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ondary substrate reacts by bo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and E2 pathways to give a mixture of both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tiary substrate reacts by E2 pathway if a strong base is used, or by a mixture of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nd E1 pathways under neutral or acidic 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43000" y="838080"/>
          <a:ext cx="6858000" cy="51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85800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ing alkyl ha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seen for preparing alkyl halides are, addition reactions of HX and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lk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general method is to make them from alcohols by treating them with hydrogen halide, H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alkyl halide from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Methylcyclohexanol is treated with HCl to make alkyl ha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3798720"/>
          <a:ext cx="777240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98720"/>
                    <a:ext cx="777240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vity of alcoh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tiary alcohol works best with the treatment of hydrogen ha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yl &gt; Primary &gt; Secondary &gt; Tert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kyl halides from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º and 2º alcoh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converted by using either thionyl chloride or phosphorous tri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3808440"/>
          <a:ext cx="769608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8440"/>
                    <a:ext cx="769608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gnard Re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yl halides react with magnesium metal in ether solvent to give organomagneisum halide, called Grignard re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gnard reagents contain a carbon-metal bond : organometall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gnard can be used in converting an alkyl halides into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5638680"/>
          <a:ext cx="784872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638680"/>
                    <a:ext cx="784872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17:19:22Z</dcterms:created>
  <dc:creator>Kulliyyah of Science</dc:creator>
  <dc:description/>
  <dc:language>en-US</dc:language>
  <cp:lastModifiedBy>new user</cp:lastModifiedBy>
  <dcterms:modified xsi:type="dcterms:W3CDTF">2005-08-24T04:10:35Z</dcterms:modified>
  <cp:revision>4</cp:revision>
  <dc:subject/>
  <dc:title>SBT1130 Organic Chemistry</dc:title>
</cp:coreProperties>
</file>