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E839-A967-42B7-BAD4-62AFA490D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4FC3-902C-4FAA-84E5-95185AC5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9EEC-C6D9-42A0-B33B-6F1D46A5B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0FA0-1468-4D3E-B91B-B6153813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7628-70AC-48B9-8B4A-545A344F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9A31-3F05-4070-84F0-423A68D0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8792-7577-41D3-A349-FD68AAA9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7A61-12B1-490F-A61A-C72307D0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F889-0323-4674-8E95-BFAB191E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085D-97E5-4EF2-9DDD-47F3FEE8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16E1-20FE-49CE-AD53-BBEA1871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5AC9-E55F-43E1-9A82-857EB825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7918-4EF7-442E-9287-03A6C354C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BT 1130: Organic Chem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k 4: Conjugated Dienes and Reaction of Alky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ing mixture of 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981080" y="1752480"/>
          <a:ext cx="5029200" cy="47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752480"/>
                    <a:ext cx="5029200" cy="47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other resonance fo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209680" y="1523880"/>
          <a:ext cx="4953240" cy="467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523880"/>
                    <a:ext cx="4953240" cy="46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idelines to draw and interpret resonance fo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nance forms are imagi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nance forms are different only in the placement of their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or nonbonding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erent resonance forms of a substance don’t have to be equiva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ust be valid Lewis structures and obey normal rules of val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sonance leads to 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ky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carbons that contain a carbon-carbon triple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iple bond results from the overlapping of the sp-hybridized carbon atoms consisting of one sp-sp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bond, and two p-p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neral formula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n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alky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d by general rules similar to alkanes and alk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ix –yne is used in the parent hydrocarbon, position of triple bond is indicated by its number in the ch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ing starts from the end closest to the triple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y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s containing both double and triple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ing of hydrocarbon starts from the end closest to the multiple bond, whether double or tr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is a choice, double bond should receive the lower number than the triple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 of 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33520" y="1523880"/>
          <a:ext cx="8305560" cy="374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8305560" cy="37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838080" y="556272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Lindlar catalyst is a specially prepared form of palladium 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 of H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 can usually be stopped after addition of 1 equiv of HX, although an excess will give vinylic dihalide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selectivity follows Markovnikov’s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80880" y="4343400"/>
          <a:ext cx="8305920" cy="16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343400"/>
                    <a:ext cx="830592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 of X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mine and chlorine add to alkynes to give dihalide addition product with anti stereochem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3886200"/>
          <a:ext cx="8381880" cy="14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86200"/>
                    <a:ext cx="8381880" cy="14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 of 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 of water takes place when alkyne is treated with aq. sulphuric acid in the presence of mercuric sulphate cataly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selectivity follows Markovnikov’s rule, but enol was not isola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sion to ketone occurs rapidly via rearran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jugated Die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bonds that alternate with single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914400" y="2971800"/>
          <a:ext cx="7315200" cy="29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971800"/>
                    <a:ext cx="7315200" cy="29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436760" y="1295280"/>
          <a:ext cx="6499080" cy="40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6760" y="1295280"/>
                    <a:ext cx="6499080" cy="40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al and Terminal Alkyne Hyd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alkyne hydration may have two possible ketones, but terminal alkyne hydration will only form a single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33520" y="3657600"/>
          <a:ext cx="8305560" cy="15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830556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tion of Acetylide An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al alkynes are weakly acidic, p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~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s acetylide anion when treated with a strong base eg, Na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4191120"/>
          <a:ext cx="822960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191120"/>
                    <a:ext cx="82296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etylide a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and nucleophi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 with primary alkyl halides to substitute for the halogen and yield a new alky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3809880"/>
          <a:ext cx="8153280" cy="26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809880"/>
                    <a:ext cx="81532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gnificance of conjugated die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n electronic interaction between the two double of conjugated diene because of p orbital overlap across the central single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X addition to conjugated di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880" y="2205000"/>
          <a:ext cx="8458200" cy="29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05000"/>
                    <a:ext cx="845820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bocation intermediates involv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2 carbocations are added, 2 possible carbocations are formed, the secondary allylic carbocation and the primary nonallylic carb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ylic carbocations are more stable, and are formed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possible carbocations form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066680" y="2093760"/>
          <a:ext cx="7467840" cy="32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93760"/>
                    <a:ext cx="7467840" cy="32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bility of Allylic Carb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ylic carbocation is stable because the positively charged carbon has a vacant p orbital that can overlap with the p orbitals of the neighbouring double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 orbital on central carbon atom can overlap equally well with p orbitals on both neighbouring carbons, so the two electrons can move freely over the entire 3-orbital ar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ways to draw the allylic carbocation. Neither structure is correct by itself because the true structure of the allylic carbocation is somewhere between th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wo individual strutures are called resonance forms, and their relationship is indicated by the double headed arrow betwee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nance 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428920" y="2473200"/>
          <a:ext cx="4132080" cy="20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8920" y="2473200"/>
                    <a:ext cx="4132080" cy="20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02:53:17Z</dcterms:created>
  <dc:creator>new user</dc:creator>
  <dc:description/>
  <dc:language>en-US</dc:language>
  <cp:lastModifiedBy>new user</cp:lastModifiedBy>
  <dcterms:modified xsi:type="dcterms:W3CDTF">2005-08-04T02:08:45Z</dcterms:modified>
  <cp:revision>6</cp:revision>
  <dc:subject/>
  <dc:title>SBT 1130: Organic Chemistry</dc:title>
</cp:coreProperties>
</file>