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6AF-0BA1-4337-896E-3C847545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D45-EBF3-4AB5-877A-A2745848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A27-6B13-4A93-B509-88331B31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92D-D078-498A-89C0-3B8279B0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3A2-ACF7-4343-B1FF-52143986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24F-2E9C-4778-9F45-50409C23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7EB-26FE-4052-863F-8773DEF0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BBA-DC39-4711-B625-BD8AF3F1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3D3-FD6C-440B-9A42-30489B02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1BA-09EB-4034-B684-A4C7D547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B2F-BD40-4EBC-A90B-179DCFDC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ABE-6FEB-49AE-8E35-96992C94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0E8C-CD15-497E-8977-567922C1E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T 1130 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 8 Carbony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tion of terminal alky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2419200"/>
          <a:ext cx="777240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9200"/>
                    <a:ext cx="777240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el Crafts ac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38080" y="2133720"/>
          <a:ext cx="754380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438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of aldehy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dehydes are oxidized to give carboxyl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tones cannot be oxidized because it does not have a –CHO proton that can be removed during 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st method to oxidize aldehydes is to use 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 in dilute ammonia, a mixture called Tollens’ reagent, silver metal is deposited. Also a method to detect presence of aldehydes in an unknown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lens’ reag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90720" y="2057400"/>
          <a:ext cx="7315200" cy="17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31520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ophilic Addi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al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in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Nucleophilic Add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09680" y="1523880"/>
          <a:ext cx="4419720" cy="42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523880"/>
                    <a:ext cx="441972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tion-base cataly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43200" y="1676520"/>
          <a:ext cx="35002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76520"/>
                    <a:ext cx="35002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tion-acid cataly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828800" y="1447920"/>
          <a:ext cx="5181480" cy="46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47920"/>
                    <a:ext cx="5181480" cy="46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etal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dehydes and ketones react with alcohols in the presence of an acid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mechanism is similar to that of acid catalyzed hyd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ward reaction is favoured with the presence of large exces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rve as a protecting group for aldehydes and ke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acetal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2133720"/>
          <a:ext cx="8153280" cy="16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815328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carbonyl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an acyl group R-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dehydes and ketones ( cannot act as leaving group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xylic acids and their derivatives ( can act as leaving group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yl carbon is electrophilic, carbonyl oxygen is nucleophilic due to high electronegativity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in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of ammonia and primary amines to aldehydes and ketones yield i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3200400"/>
          <a:ext cx="8001000" cy="19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800100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ohol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gnard reagents are used as a source of carbanions,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of Grignard reagent is irrever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: Grignard reagent cannot be prepared from organohalide that has other reactive function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4724280"/>
          <a:ext cx="7086600" cy="17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24280"/>
                    <a:ext cx="7086600" cy="17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e nucleophilic 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e (1,4) addition of a nucleophile to the C=O bond of a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unsaturated aldehyde or ke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124080" y="3581280"/>
          <a:ext cx="2743200" cy="21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581280"/>
                    <a:ext cx="274320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e 1,4 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28800" y="1752480"/>
          <a:ext cx="5105520" cy="434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5105520" cy="43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categories of carbony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0" y="1600200"/>
          <a:ext cx="487692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487692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aldehy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dehydes are named by using the suffix –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ent chain must be the longest chain that contains the –CHO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bonyl carbon is always numbered as carb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aldehydes where the –CHO group is attached to a ring, suffix –carbaldehyde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aldehy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38080" y="2057400"/>
          <a:ext cx="777240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77240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ke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ones are named by using the suffix –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ent chain is the longest chain that contains the keton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ing begins at the end nearer to the carbonyl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ke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2666880"/>
          <a:ext cx="678204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66880"/>
                    <a:ext cx="67820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COR as substitu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0" y="1523880"/>
          <a:ext cx="4800600" cy="46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80060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hesis of aldehydes and ket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method is oxidation of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alcohols give aldehydes, and secondary alcohols give ke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C is used for making aldehy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C, 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sed for making ke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ethods are by hydration of a terminal alkyne and the Friedel-Crafts ac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6:38:45Z</dcterms:created>
  <dc:creator>Kulliyyah of Science</dc:creator>
  <dc:description/>
  <dc:language>en-US</dc:language>
  <cp:lastModifiedBy>stu_lab</cp:lastModifiedBy>
  <dcterms:modified xsi:type="dcterms:W3CDTF">2005-09-01T07:42:55Z</dcterms:modified>
  <cp:revision>1</cp:revision>
  <dc:subject/>
  <dc:title>SBT 1130 Organic Chemistry</dc:title>
</cp:coreProperties>
</file>