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9A1-F1C3-467C-93AF-62795FB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3D0-F4DA-4E19-B047-7BDD5BB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84E-9E83-45F5-8BE6-BEED5377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DBA-FBC6-4746-8E54-A3021A8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36F-36CB-43FF-95DD-2586485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7D1-F813-411C-895A-3D064FC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DD2-A11F-4F4D-91D6-7407809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E8F-AB45-4B83-B775-C871942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55F-1670-4146-8829-DCFD1AE1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983-4DDD-470D-8112-96B4D30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58B-BE3F-42C3-8D13-5123DF1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B75-AE0E-4B0F-A2D8-DCC2CF3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9BC-9120-4B2B-A058-CCEB381DA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BT 1130: Organic Chemist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2: Alk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yclo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unds consist of rings of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3200400"/>
          <a:ext cx="8229600" cy="17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822960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somers in Cyclo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ic alkanes are not rigid like the open chain alk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otation around the C-C bond i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top side and bottom side, therefore, can form is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is and Trans of cyclo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isomers are stable but neither can inter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3505320"/>
          <a:ext cx="777240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7724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aming 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organic molecules has three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– indicates number of carbons in the longest continuous carbon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x – function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ix – identity, location, and number of substituents atta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assification of a Carbon a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carbon – bonded to one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carbon – bonded to 2 carb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carbon – bonded to 3 carb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ternary carbon – bonded to 4 carb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lassification of a Hydrogen atom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hydrogen – bonded to primary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hydrogen – bonded to secondary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hydrogen – bonded to tertiary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are alkane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731960"/>
          <a:ext cx="76201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31960"/>
                    <a:ext cx="76201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aturally occurring 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cane – a pheromone secreted by cock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ohexane – a component found in ma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24280" y="1865160"/>
          <a:ext cx="41148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865160"/>
                    <a:ext cx="4114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257800" y="3962520"/>
          <a:ext cx="1459080" cy="25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962520"/>
                    <a:ext cx="14590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tructure representa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can be 3 types of structure representation of hydrocarb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wi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l-and-stick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Lewis structure &amp; 3D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600200"/>
          <a:ext cx="70866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0866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More example of Lewis structure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wo structures are equivalent representation of prop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ewis structure, the bend does not mat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3862440"/>
          <a:ext cx="792468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62440"/>
                    <a:ext cx="7924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keletal drawing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keletal structure corresponds to the molecular formula of a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95680" y="3429000"/>
          <a:ext cx="358164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429000"/>
                    <a:ext cx="35816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our carbon compound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ar formula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362320"/>
          <a:ext cx="746748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46748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5334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ompounds are called constitutional or structural is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are isomers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mers are two different compounds with the same molecular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jor classes of isom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al or 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eois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al isomers differ in the way the atoms are connected to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 number of isomers increase with the number of C atoms in alk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3:06:47Z</dcterms:created>
  <dc:creator>new user</dc:creator>
  <dc:description/>
  <dc:language>en-US</dc:language>
  <cp:lastModifiedBy>new user</cp:lastModifiedBy>
  <dcterms:modified xsi:type="dcterms:W3CDTF">2005-07-21T02:55:07Z</dcterms:modified>
  <cp:revision>3</cp:revision>
  <dc:subject/>
  <dc:title>SBT 1130: Organic Chemistry</dc:title>
</cp:coreProperties>
</file>