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FEC-F412-4BA6-90E4-A601C790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91F-B625-407B-8AA3-18FD2F0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DA7-75DA-4662-8012-4F67FDC0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612-69FC-4193-918A-71833961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2F8-4AC2-49CD-AB2E-9C76035A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1AB-9AED-4464-877B-7C0C5E08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612-632D-4D1C-9A98-32909B4D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A84-2913-4B4D-B9DC-30EF4702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31F-0DF5-44F8-AAFF-50022BD1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818-88CE-40D1-95C0-9D1B5C87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5CD-1567-4C10-BB20-78A82FD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A08-6BD4-49E1-89ED-3683F5D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8D1-07CB-4288-B2E4-72E170B0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6 Ster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 of specific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served rotation ( degrees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 length (dm) x Conc. (g/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eur’s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that a 50:50 mixture of both enantiomers are optically inactive but when seperated, each were optically active with the same amount of specific rotation but opposite i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ur had discovered enantiomers ( optical isomers ) : have identical physical properties but differ in the direction in which their solutions rotate plane-polarized 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e rules for specifying config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 Assign priorities in order of atomic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2: If decision cannot be reached by ranking the first first substituents, look at the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3: Multiple bonds are equivalent to sing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nd 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rienting the molecule so the group with the lowest priority pointing to the back of the molecule, look at the three remaining substitu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d arrow is drawn from the highest to the lowest substit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lockwise, seterocenter has R configuration, if anticlockwise has S configua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 that the sign of optical rotation (+) or (-) is not related to R,S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 of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66680" y="1828800"/>
          <a:ext cx="708660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stere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isomers with more than one stereocentres can give more 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with two stereocentres may have 4 possible stereo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eroemers are stereoisomers that are not mirror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amino-3-hydroxybutano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2120" y="2057400"/>
          <a:ext cx="784836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4836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 compounds are achiral compounds that contain two stereo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n tartaric acid exists in 3 stereoisomeric forms; 2 enantiomers and 1 meso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stereoisomers of tartaric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2438280"/>
          <a:ext cx="762012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762012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cal enanti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molecules are identical because the molecule has aplane of symmetry, and therefore ach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33720" y="1447920"/>
          <a:ext cx="396216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396216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e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in organic chemistry and crucial in bi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aturally occurring molecules have ster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trahedral carbon with 4 different substituents attached have a molecule related to its mirr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lecule that is not identical to its mirror image is called enanti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lecules with more than 2 stereo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stereocentres gives 2 stere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eal, a molecule with n stereocentres  has a maximum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reoisomers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rs of enantiom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in cholesterol with 8 stereocentres, 256 stereoisomers with 128 pairs of enanti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emic mi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0:50 mixture of two chiral enanti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noted by the symbol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), or by prefix d,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mixture shows no opt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was able to resolve the mixture, but it does not always 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racemic mi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method uses an acid-base reaction between a racemic mixture of carboxylic acid and an amine to yield an ammonium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8080" y="4038480"/>
          <a:ext cx="655344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038480"/>
                    <a:ext cx="65534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resolu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mic mixture of chiral acids react with an achiral base will give a mixture of products of mirror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mic mixture of chiral acid react with a single enantiomer of a chiral amine base gives a non mirror image product, a diastereomers with different chemical and physical properties and can be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lts are acidified with HCl to isolate the pure enanti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properties of stereoiso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ntiomers have the same physical properties: melting points, solubilities, and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iffer in the sign of their rotation of plane-polarized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o isomer is a different compound altogether and has different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mates also behave as a different compound although it is a mixture of the enanti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summary of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types of isomer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eo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isomers can be classified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anti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stere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ereomers can be further classifi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al diastere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s-trans diastere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rality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iological properties of different isom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mic fluoxetine is effective antidepressant but shows no activity in mig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-fluoxetine is a very effective anti-migraine drugs, but still undergoing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205240" y="1954080"/>
          <a:ext cx="29242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1954080"/>
                    <a:ext cx="29242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52920" y="4294080"/>
          <a:ext cx="24289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2920" y="4294080"/>
                    <a:ext cx="2428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fferent biological prope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a biological action to occur, the chiral needs to fit into a chiral receptor target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38280" y="1600200"/>
          <a:ext cx="421488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42148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that are not identical to their mirror images exist in two enantiomeric forms, and are said to be ch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lecule is not chiral if it has a plane of symmetry – ach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rality is caused by the presence of a central carbon atom bonded to four different groups - stereo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2214720"/>
          <a:ext cx="617220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14720"/>
                    <a:ext cx="61722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d by French physicist Jean Baptiste Bi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beam of ordinary light passes through a polarizer, only the light waves oscillating in a single plane pass through and the light is said to be plane-pol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t observed when a beam of plane-polarized light passes through a solution of a certain organic molecule, eg. sugar, the plane polarization is rotated and said to be optically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rument used to measure the amount of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assing through the sample tube containing the organic solution, the light pass an analyzer which can be rotated until the light passe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t of rotation can be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rotation is denoted by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expressed in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tation clockwise dextrorotatory (+), rotation anticlockwise levorotatory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8188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gree of rotation depends on the structure of the sample molecyules and number of molecules encountered by the light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olecules encountered depends on sample concentration and sample path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rotation [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defined as the observed rotation when light of 589.6 nm wavelength is used with a sample path length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1 decimeter and a sample concentr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1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ght of 589.6 nm is the yellow light emitted from a common sodium lam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2:48:09Z</dcterms:created>
  <dc:creator>new user</dc:creator>
  <dc:description/>
  <dc:language>en-US</dc:language>
  <cp:lastModifiedBy>KOS</cp:lastModifiedBy>
  <dcterms:modified xsi:type="dcterms:W3CDTF">2005-08-18T04:19:50Z</dcterms:modified>
  <cp:revision>8</cp:revision>
  <dc:subject/>
  <dc:title>SBT1130 Organic Chemistry</dc:title>
</cp:coreProperties>
</file>