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image25.wmf" ContentType="image/x-wmf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A67-C267-4A69-A424-57D2DEE8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05C-A345-4C96-9FCE-A7E8702E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244-4B68-45AB-886F-26B51FB3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50E-1C0F-494B-9909-5F515B94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63F-A05A-4057-AFA0-3162050B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4D5-2194-484B-9E1C-3A168359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783-2AC4-4289-8CCD-F7F8FEDE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690-7BE9-4635-A164-9B96C5D6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29E-26F6-42E4-A1C1-DDC178B5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2D0-DBCE-43E4-BE84-4EA0FC43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ED6-2CC5-4B4D-AB7D-5CB4064D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C3D-98E0-44F6-A2B6-D473ADEA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BF9D-C776-49BB-B2AF-08F07C0A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T1130 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5 Aromat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romat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ubstituted benzenes are named using prefixes ortho (o), meta (m) or para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tho has two substituents in a 1-2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 has two substituents in a 1,3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a has two substituents in a 1,4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, Meta, P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4360" y="1989000"/>
          <a:ext cx="7848360" cy="22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romat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ing with lowest possible numbers, alphab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xceptional aromatics can serve as parent name with principal substituent assumed to be on carb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1557360"/>
          <a:ext cx="648180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557360"/>
                    <a:ext cx="648180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lectrophilic Aromatic Sub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action where an electron-poor reagent reacts with the electron-rich aromatic ring and substitues for one of the ring hyd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ce with alkenes, aromatic rings are less reactive toward electrophiles than 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71640" y="4222800"/>
          <a:ext cx="676908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222800"/>
                    <a:ext cx="676908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o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bromination to occur, a catalyst such as FeB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to make the B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lecule more electrophi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3860640"/>
          <a:ext cx="727236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860640"/>
                    <a:ext cx="72723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o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lectrophile B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n reacts with the electron rich benzene ring to yield a nonaromatic interme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arbocation is allylic and is a hybrid of 3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42960" y="4365720"/>
          <a:ext cx="793116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365720"/>
                    <a:ext cx="79311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ylic carb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though it is more stable than a typical nonallylic carbocation, it is still less stable than the reac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has a high activation energy and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zene reaction is slower than alkene because the starting material is so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048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does it differ from the alkene re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ddition occurred, the stability of the aromatic ring would be lost, energy would be absorbed, and the overall reaction would be unfavour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bstitution occurred, the stability of the ring is retained, energy is released, and the reaction is favo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omat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omatic compounds refer to  class of compounds that contain benzene-like, six-membered rings with 3 dou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 energy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4167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1727280"/>
          <a:ext cx="770436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27280"/>
                    <a:ext cx="770436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susbtitution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amples of electrophilic substituion reactions are chlorination, nitration and sulf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4360" y="3068640"/>
          <a:ext cx="7272360" cy="13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68640"/>
                    <a:ext cx="727236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16000" y="1662120"/>
          <a:ext cx="698508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62120"/>
                    <a:ext cx="698508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lfo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1773360"/>
          <a:ext cx="79930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79930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el-Crafts Alk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where an alkyl group is attached to an aromatic ring upon reaction with an alkyl chloride in the presence of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aromatic substitution where the carbocarion acts as the electrop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F-C Alk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1341360"/>
          <a:ext cx="7848720" cy="45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84872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 of F-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lkyl halides can be used. Aryl halides do not rea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do not succeed on aromatic rings that are already substituted by groups –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-CN, -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, or -C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el Crafts Ac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omatic compound treated with carboxylic acid chloride in the presence of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ntroduce an acyl group –COR to the aromatic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55960" y="3933720"/>
          <a:ext cx="4817880" cy="14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5960" y="3933720"/>
                    <a:ext cx="48178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aro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42920" y="1844640"/>
          <a:ext cx="7416720" cy="36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44640"/>
                    <a:ext cx="741672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ents effects in electrophilic aromatic sub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ents affect the reactivity of the aromatic ring – some groups activate the ring for further electrophilic substituion, some deac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ents affect the orientation of the reaction – nature of substituent present on the ring determines position of the second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rate of nitration with the presence of different types of substitu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2421000"/>
          <a:ext cx="8064360" cy="30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21000"/>
                    <a:ext cx="806436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ent effect on the ori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2133720"/>
          <a:ext cx="813600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substitu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ents can be classified into 3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rtho and para directing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rtha and para directing de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eta directing de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ents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2149560"/>
            <a:ext cx="842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ating and deactivating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ctivator donate electrons to the ring, making the ring more electron-rich, stabilizes the carbocation, and lower the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activator withdraw electrons from the ring, making ring more electron-poor, destabilizes the carbocation and raising the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ation or withdrawal occur by either inductive effects ( due to electronegativity difference ) or resonance effect ( due to p-orbital overlap between the ring and the substitu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 and Para Dir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ubstituents that has a lone pair of electrons on the atom dierectly bonded to the aromatic ring allows electron donating resonance interaction to occur and acts as ortho and para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4508640"/>
          <a:ext cx="813600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508640"/>
                    <a:ext cx="813600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ation of Phe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 Dir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ubstituent that has a positively polarized atom directly attached to the ring makes one of the resonance forms of the ortho and para intermediates unfavourable and thus acts as a meta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55640" y="4508640"/>
          <a:ext cx="755964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508640"/>
                    <a:ext cx="755964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ination of benzaldehy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2723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kul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nzene contains a ring of carbon atoms and can be formulated as 1,3,5-cyclohexatriene, which explains the monobromo substitution product from the addition of B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nzene shows non of characteristics of 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nzene does not undergo electrophilic 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C-C bonds have the same length of 139 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xidation and Reduction of Aromat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ene ring does not react with oxidizing agents or reducing agents. However, the alkyl groups attached to i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high temperatures and pressures are used does reduction of an aromatic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4819680"/>
          <a:ext cx="7632720" cy="16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819680"/>
                    <a:ext cx="76327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cyclic Aromat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87280" y="1557360"/>
          <a:ext cx="72723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72723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ick to devising an organic synthesis is to work backward – retr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Synthesize m-chloronitrobenz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19280" y="1700280"/>
          <a:ext cx="597708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59770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332000" y="2090880"/>
          <a:ext cx="691200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090880"/>
                    <a:ext cx="691200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2825640"/>
          <a:ext cx="8280360" cy="18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825640"/>
                    <a:ext cx="8280360" cy="18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nanc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 theory says that benzene cannot be described by a single single-bond structure but a resonance of two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structure is between the two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-C bonds is an average of 1.5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bital views shows cyclic conjugation of the benzene and the equivalence of the six C-C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onanc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zene has a flat symmterical hexago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d angle of 120˚, each carbon atom is s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ybridized and has p orbital perpendicular to th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ns are shared around the ring in two doughnut shaped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sonance forms account for the stability of benz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bital Picture of Benz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209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romat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omatic substance have acquired a large number of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UPAC rules only allow toluene, phenol, aniline, acetophenone, benzaldehyde, benzoic acid, benzonitrile and ortho-X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o substituted benzenes are named with –benzene used as the parent name, eg. bromobenzene and ethylbenz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enyl is used for when benzene is a substit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nzyl is used for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79640" y="1557360"/>
          <a:ext cx="5688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688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7T18:51:12Z</dcterms:created>
  <dc:creator>Faizal</dc:creator>
  <dc:description/>
  <dc:language>en-US</dc:language>
  <cp:lastModifiedBy>new user</cp:lastModifiedBy>
  <dcterms:modified xsi:type="dcterms:W3CDTF">2005-08-10T10:39:57Z</dcterms:modified>
  <cp:revision>5</cp:revision>
  <dc:subject/>
  <dc:title>SBT1130 Organic Chemistry</dc:title>
</cp:coreProperties>
</file>