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CCF-FCD2-4858-8685-C3D6FBCF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474-3B0D-461A-8E72-6AFBF4F2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1EF-1502-4C85-80E8-3B54C9FC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C9E-5970-42BB-BC09-9BF762E6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10A-FA59-459E-87BB-898D06EC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F5E-707A-464F-9F41-5FB243A4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D83-7BAC-4FE3-B027-8BF2FA00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AF9-01BA-495E-8BF1-8E7D02D7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558-C104-4E21-9E70-A588FFD5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286-4FC5-4A0B-90D2-517569B0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EC0-99C7-4435-AC16-DE47106F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D15-4A53-4780-99CA-DE45A964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5EAB-DD69-4AA6-999A-A1D403FAB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T 1130 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2: Reactions of Alk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oge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dition of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lk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ine and chlorine add readily to alk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of bromine acts as a simple laboratory test for the presence of alkene. Immediate dissapearance of reddish 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or added to an alk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eochemistry of the 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 trans product is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2286000"/>
          <a:ext cx="769644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69644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haloge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1600200"/>
          <a:ext cx="807696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7696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lkenes occurs when alkenes are exposed to an atmosphere of hydrogen gas in the presence of a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is described as hydrogenated or reduced doubl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ytic hydrogenation is a heterogenous process occurs on the surface of solid catalyst and result in syn stereo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a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 used is either palladium metal or plat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action is used in the food industry to produce saturated fats in margerine from an unsaturated vegetable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4038480"/>
          <a:ext cx="762012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038480"/>
                    <a:ext cx="762012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x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ylation of an alkene is the addition of an –OH group to each pf the alkene carb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xidation reaction using potassium permanganate as the oxidizing agent in a basic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a syn stereochemistry of 1,2-di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733400" y="1676520"/>
          <a:ext cx="5751720" cy="15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676520"/>
                    <a:ext cx="575172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xidation of the alkene is carried out with potassium permanganate in acidic solution, cleavage of the doubl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 a carbonyl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ouble bond is tetrasubstituted, the carbonyl is ke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hydrogen is present on the double bond, one of the carbonyl products is carboxylic acid, and if 2 hydrogens present, carbon dioxide is form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cleav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676520"/>
          <a:ext cx="8534160" cy="15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534160" cy="15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" y="4149720"/>
          <a:ext cx="8381880" cy="148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149720"/>
                    <a:ext cx="83818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logical addition reaction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organic chemistry takes place in the aqueous medium inside cells with catalysts called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of a biological addition reactions is the action of fumarase in the addition of water to fuma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-catalyzed reaction is more selective than cataly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haloge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of HX to alkenes to give a halosubstituted alkan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2120" y="3352680"/>
          <a:ext cx="7696080" cy="21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52680"/>
                    <a:ext cx="769608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water to fumaric aci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2057400"/>
          <a:ext cx="7696080" cy="25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6960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mer is a large molecule built up by repetitive bonding together many smaller molecules called the mon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imple alkene undergoes rapid polymerization when treated with a small amount of a radical as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polyethylene from ethy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Radicals to Alk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eps invol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begins by generating few radic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when benzoyl peroxide is used as an initiator, O-O bond is broken upon heating to form rad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3809880"/>
          <a:ext cx="822960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82296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nzoyloxy radical then adds to the C=C bond to generate a carbon 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3505320"/>
          <a:ext cx="762012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76201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erization occurs when the carbon radical formed adds to another ethylene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3505320"/>
          <a:ext cx="853416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05320"/>
                    <a:ext cx="85341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erization stops when a reaction consumes the 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3276720"/>
          <a:ext cx="807732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0773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giospecific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reaction below, only one product is formed although there two possible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8229600" cy="19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822960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ovnikov’s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by Vladimir Markovnikov in 18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les says that in the addition of HX to an alkene, the H attaches to the carbon with fewer alkyl substituents, and the X attaches to the carbon with more alkyl substitu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both double-bond carbons have same degree of substituents, a mixture of addition produc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way to express Markovnikov’s rule is to say that, in the addition of HX to alkenes, the more highly substitued carbocation intermediate is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76520" y="3276720"/>
          <a:ext cx="5638680" cy="32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76720"/>
                    <a:ext cx="5638680" cy="32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catio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evidence shows that carbocation are pla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itively charged carbon is sp2 hybri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ubstituents are oriented to form an equilateral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valence electrons used in 3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onds, p orbital extending above and below the plane is va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cation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9480" y="1992240"/>
          <a:ext cx="800100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92240"/>
                    <a:ext cx="800100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of water to yield 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2743200"/>
          <a:ext cx="80773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80773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hyd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219320" y="1371600"/>
          <a:ext cx="7086600" cy="44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8660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13:46:55Z</dcterms:created>
  <dc:creator>OneIT</dc:creator>
  <dc:description/>
  <dc:language>en-US</dc:language>
  <cp:lastModifiedBy>OneIT</cp:lastModifiedBy>
  <dcterms:modified xsi:type="dcterms:W3CDTF">2005-07-27T15:19:12Z</dcterms:modified>
  <cp:revision>2</cp:revision>
  <dc:subject/>
  <dc:title>SBT 1130 Organic Chemistry</dc:title>
</cp:coreProperties>
</file>