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B2E-01FF-4495-9308-38C400E0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E96-988F-4135-9625-42E19139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DCA-D8A2-4806-8154-04B03DDE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617-E42C-47F5-A042-542779F3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04E-097B-46AB-BC53-5308941B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4E6-05D5-4125-917E-297BE64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0DA-E4CA-4314-B900-125E585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79E-39B5-4DD3-8AB0-C2829E4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49A-58DE-4C77-8AAC-9FE42BC6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7AB-696E-4FA7-AEE4-5CDB7EA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D0F-8CBF-47F8-A309-8BE55E8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321-59ED-4CC2-BF2E-12712F76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43CC-E599-44AF-BD6A-E6E0ED15644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BT 1130: Organic Chemist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boxylic aci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heir Deriv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Mohamed Elwathig Saeed Mirgh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UM ext: 33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phone: 01234606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Arial"/>
              </a:rPr>
              <a:t>Occurrence and Physical Properties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47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xylic acids occurred widely in na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914400"/>
          <a:ext cx="8839440" cy="5727600"/>
        </p:xfrm>
        <a:graphic>
          <a:graphicData uri="http://schemas.openxmlformats.org/drawingml/2006/table">
            <a:tbl>
              <a:tblPr/>
              <a:tblGrid>
                <a:gridCol w="849600"/>
                <a:gridCol w="2808000"/>
                <a:gridCol w="518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 and source of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mic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(an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cetu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Vinega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ion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oto,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io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irst, f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y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utyrum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butt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e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Valer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valerian roo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ro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L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aper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goa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anth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Gr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enanth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vine blosso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largon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rgonium, gera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r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ris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yristic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nut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back to the references and check the Melting Points (MP), Boiling Points (BP), and solubility in water of some carboxylic ac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make some sort of comparison between physical properties and structure of carboxylic aci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ity of Carboxylic acid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xylic acids are weak acids toward water but strong acids toward the 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stronger acids than phenols and alcoh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gative charges on the are balanced by the presence of some cations, i. e. Na</a:t>
            </a:r>
            <a:r>
              <a:rPr b="1" lang="en-US" sz="3200" spc="-1" strike="noStrike" baseline="44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K</a:t>
            </a:r>
            <a:r>
              <a:rPr b="1" lang="en-US" sz="3200" spc="-1" strike="noStrike" baseline="44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xylate ions are more soluble in water than their parent acids (stearate ion in so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92000" y="152280"/>
          <a:ext cx="1449720" cy="13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52280"/>
                    <a:ext cx="144972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852640" y="380880"/>
          <a:ext cx="91620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80880"/>
                    <a:ext cx="9162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689880" y="371520"/>
          <a:ext cx="161604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89880" y="371520"/>
                    <a:ext cx="161604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692600" y="228600"/>
          <a:ext cx="143352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2600" y="228600"/>
                    <a:ext cx="14335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86000" y="533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7621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62160" y="838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609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828800"/>
            <a:ext cx="51814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44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[H</a:t>
            </a:r>
            <a:r>
              <a:rPr b="1" lang="en-US" sz="2800" spc="-1" strike="noStrike" baseline="44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 / [R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r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r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3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438280"/>
            <a:ext cx="861048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most carboxylic acids are on the order of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us they are weak acids (poor proton donors) towards water, and their percentage ionization are 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25o C in a 1M solution the % ionization of acetic acid is only about 0.5% (only one molecule in 200 ionize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 for phenols and alcohols are approximately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spective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eater acidity of carboxylic acids reflects the greater stability of carboxylate anions relative to that of the anions of alcohols or phen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+ OH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R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a.              S.b.                    W.b.               W.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+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a.                S.b.                    W.b.            W.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+ OH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tic acid                                   acetate 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+ OH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ric acid (insoluble)                            Stearate ion (solub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+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4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zoic acid (insoluble)                  benzoate ion (solu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57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Carboxylic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ids to Ester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xylic acids can be used directly or indirectly to make esters from alcoh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boxylic acids are the parents of several families that collectively are called acid derivatives. They include acid chlorides, anhydrides, esters and amides. (acid derivati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alled acid derivatives because they can be made from acids and they can be hydrolyzed back to the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CO – X            R – CO – O – CO – 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 halide                                     Acid anhyd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Cl, Br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CO – OR’              R – CO –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r                                                   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CN                      R – CO – O –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42000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ite                                                Acyl phosph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CO – S – R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oe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s and Trans of cycloalkan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somers are stable but neither can interconv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3505320"/>
          <a:ext cx="777096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777096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ccurrence of carboxylic ac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id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ccurrence, names, and physical proper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reactions of es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carboxylic acids?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2120"/>
            <a:ext cx="84582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polar organic compounds whose molecules form strong hydrogen bonds to each other. Their carbonyl carbon holds an OH group and either C or H atom. All are weak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yl group (R – CO –) bonded to an electronegative atom or substituent that can act as a leaving group in substitution reactio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types of organic acids are carboxylic acids and sulfonic ac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57600" y="4114800"/>
          <a:ext cx="5548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7600" y="4114800"/>
                    <a:ext cx="5548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495680" y="5381640"/>
          <a:ext cx="3505320" cy="14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81640"/>
                    <a:ext cx="35053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823360" y="61722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lfon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96200" y="48769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xyl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ification and Nam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arboxylic aci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rboxyl group. Formic acid is the simplest, has sharp irritating odor. Found in nettle plants and some ants. Acetic acid , gives tartness to vinegar. Butyric acid causes odor of rancid but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arboxylic aci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wo carboxyl groups per molecule. The simplest example is Oxalic acid which gives the sour taste to rhubar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arboxylic aci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ree carboxyl groups like Citric acid that causes the tartness of citrus fru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additional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tic acid has both carboxyl and secondary alcohol (OH) groups. Lactic acid gives the tartness of sour mil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17720" y="1143000"/>
          <a:ext cx="68022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143000"/>
                    <a:ext cx="6802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05320" y="2286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al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3747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t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5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yr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943600" y="3632040"/>
          <a:ext cx="22860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632040"/>
                    <a:ext cx="22860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6637320" y="4967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42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56440" y="44197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42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54920" y="44197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42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54120" y="550080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ar geometry a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bonyl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280" y="304920"/>
          <a:ext cx="8839440" cy="6119640"/>
        </p:xfrm>
        <a:graphic>
          <a:graphicData uri="http://schemas.openxmlformats.org/drawingml/2006/table">
            <a:tbl>
              <a:tblPr/>
              <a:tblGrid>
                <a:gridCol w="849600"/>
                <a:gridCol w="3146400"/>
                <a:gridCol w="2238120"/>
                <a:gridCol w="2605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no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ion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yr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t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er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t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r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x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anth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pt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ryl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largonic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r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280" y="380880"/>
          <a:ext cx="8839440" cy="6096240"/>
        </p:xfrm>
        <a:graphic>
          <a:graphicData uri="http://schemas.openxmlformats.org/drawingml/2006/table">
            <a:tbl>
              <a:tblPr/>
              <a:tblGrid>
                <a:gridCol w="849600"/>
                <a:gridCol w="3146400"/>
                <a:gridCol w="2238120"/>
                <a:gridCol w="2605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2423b"/>
                        </a:gs>
                        <a:gs pos="50000">
                          <a:srgbClr val="909082"/>
                        </a:gs>
                        <a:gs pos="100000">
                          <a:srgbClr val="42423b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canoic ~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decan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rist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decano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mit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xadecano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ar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decanoic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zo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=CH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nnamic 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CH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yl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57575"/>
                        </a:gs>
                        <a:gs pos="5000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icylic ~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09082"/>
                        </a:gs>
                        <a:gs pos="50000">
                          <a:srgbClr val="42423b"/>
                        </a:gs>
                        <a:gs pos="100000">
                          <a:srgbClr val="90908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819440" y="5619600"/>
          <a:ext cx="11523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5619600"/>
                    <a:ext cx="11523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UPAC Rules for Naming Carboxylic Acid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nt acid is that of the longest chain including the carboxylic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ending of the name of the alkane or alkene having same number of C atoms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o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number the chain of parent acid always give position 1 to the C atom of carboxy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name carboxylate ions (anions), change the ending of the name of the parent acid fro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omit the wor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This rule applies to both IUPAC and common nam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271520"/>
            <a:ext cx="853452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– CO – O</a:t>
            </a:r>
            <a:r>
              <a:rPr b="1" lang="en-US" sz="2800" spc="-1" strike="noStrike" baseline="44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or  R –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44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RCOO</a:t>
            </a:r>
            <a:r>
              <a:rPr b="1" lang="en-US" sz="2800" spc="-1" strike="noStrike" baseline="44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s of anions of carboxylic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– CO – OH  Methanoic acid (Formic ac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– CO – O-   Methanoate ion (Formate 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– CO – ONa  Sodium methanoate (Na form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3:06:47Z</dcterms:created>
  <dc:creator>new user</dc:creator>
  <dc:description/>
  <dc:language>en-US</dc:language>
  <cp:lastModifiedBy>eSeng</cp:lastModifiedBy>
  <dcterms:modified xsi:type="dcterms:W3CDTF">2005-09-25T23:05:30Z</dcterms:modified>
  <cp:revision>37</cp:revision>
  <dc:subject/>
  <dc:title>SBT 1130: Organic Chemistry</dc:title>
</cp:coreProperties>
</file>