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0E9-3F12-4A15-8F64-A02591B7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887-6866-4433-AF26-5EBBB5E1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9B8-27FE-4485-BBB0-B3DC7A42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A80-EEF5-4BCC-8AA8-8AE2DC5E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77D-76E8-4E61-9F8A-59ADE3C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305-9EB3-4B39-A8C1-075D9339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53F-0BA8-4C0A-B166-1FD50F69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012-4C04-4CD4-BBF1-83F2C99C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699-F876-427B-9E03-A36D8A67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C9A-D57D-47C5-8724-9DFA9285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314-B3C1-49EC-8E7A-E37F70D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16C-4539-4E45-8406-C697078D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A3C9-FC3A-4B82-904C-D310A4B2DCEF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Arial"/>
              </a:rPr>
              <a:t>SBT 1130: Organic Chemist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C</a:t>
            </a: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ARBOHYDRAT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1cb"/>
                </a:solidFill>
                <a:latin typeface="Arial"/>
              </a:rPr>
              <a:t>Cyclic Forms of Monosaccharid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dehyde + alcohol            hemiac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523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572000" y="1600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981080"/>
          <a:ext cx="66294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6629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57200" y="4114800"/>
            <a:ext cx="838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–OH group in the same chain as the – CH = O group, the hemiacetal will be cycl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86b5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426600"/>
            <a:ext cx="84582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cose molecules exist mostly in cyclic 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into the same molecule of 2,3,4,5,6, pentahydroxyhexanal are the two functional groups needed to make a hemiacetal, the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–O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 and the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–CH = 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.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call that hemiacetals form by the addition of an alcohol to an aldehyd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l addition of an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–O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 to an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ldehy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ke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 can produce two cyclic forms of monosacchari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2763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d1cb"/>
                </a:solidFill>
                <a:latin typeface="Arial"/>
                <a:ea typeface="Arial"/>
              </a:rPr>
              <a:t>• </a:t>
            </a:r>
            <a:r>
              <a:rPr b="0" lang="en-US" sz="2800" spc="-1" strike="noStrike">
                <a:solidFill>
                  <a:srgbClr val="d1d1cb"/>
                </a:solidFill>
                <a:latin typeface="Arial"/>
              </a:rPr>
              <a:t>The C-5 OH group adds to the aldehyde group.</a:t>
            </a:r>
            <a:br>
              <a:rPr sz="2800"/>
            </a:br>
            <a:r>
              <a:rPr b="0" lang="en-US" sz="2800" spc="-1" strike="noStrike">
                <a:solidFill>
                  <a:srgbClr val="d1d1cb"/>
                </a:solidFill>
                <a:latin typeface="Arial"/>
                <a:ea typeface="Arial"/>
              </a:rPr>
              <a:t>•</a:t>
            </a:r>
            <a:r>
              <a:rPr b="0" lang="en-US" sz="2800" spc="-1" strike="noStrike">
                <a:solidFill>
                  <a:srgbClr val="d1d1cb"/>
                </a:solidFill>
                <a:latin typeface="Arial"/>
              </a:rPr>
              <a:t> The open structure has to coil for this to happen.</a:t>
            </a:r>
            <a:br>
              <a:rPr sz="2800"/>
            </a:br>
            <a:r>
              <a:rPr b="0" lang="en-US" sz="2800" spc="-1" strike="noStrike">
                <a:solidFill>
                  <a:srgbClr val="d1d1cb"/>
                </a:solidFill>
                <a:latin typeface="Arial"/>
                <a:ea typeface="Arial"/>
              </a:rPr>
              <a:t>•</a:t>
            </a:r>
            <a:r>
              <a:rPr b="0" lang="en-US" sz="2800" spc="-1" strike="noStrike">
                <a:solidFill>
                  <a:srgbClr val="d1d1cb"/>
                </a:solidFill>
                <a:latin typeface="Arial"/>
              </a:rPr>
              <a:t> It undergoes ring closure, and the ne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d1d1cb"/>
                </a:solidFill>
                <a:latin typeface="Arial"/>
              </a:rPr>
              <a:t> group                </a:t>
            </a:r>
            <a:br>
              <a:rPr sz="2800"/>
            </a:br>
            <a:r>
              <a:rPr b="0" lang="en-US" sz="2800" spc="-1" strike="noStrike">
                <a:solidFill>
                  <a:srgbClr val="d1d1cb"/>
                </a:solidFill>
                <a:latin typeface="Arial"/>
              </a:rPr>
              <a:t>  appears (the hemiacet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d1d1cb"/>
                </a:solidFill>
                <a:latin typeface="Arial"/>
              </a:rPr>
              <a:t>) at C-1.</a:t>
            </a:r>
            <a:br>
              <a:rPr sz="2800"/>
            </a:br>
            <a:r>
              <a:rPr b="0" lang="en-US" sz="2800" spc="-1" strike="noStrike">
                <a:solidFill>
                  <a:srgbClr val="d1d1cb"/>
                </a:solidFill>
                <a:latin typeface="Arial"/>
                <a:ea typeface="Arial"/>
              </a:rPr>
              <a:t>•</a:t>
            </a:r>
            <a:r>
              <a:rPr b="0" lang="en-US" sz="2800" spc="-1" strike="noStrike">
                <a:solidFill>
                  <a:srgbClr val="d1d1cb"/>
                </a:solidFill>
                <a:latin typeface="Arial"/>
              </a:rPr>
              <a:t> Th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can emerge at one side of the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ring or the other, depending on the way the O atom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f the C=O group points prior to ring closure.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006960" y="304920"/>
          <a:ext cx="1765440" cy="31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6960" y="304920"/>
                    <a:ext cx="176544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857160" y="380880"/>
            <a:ext cx="2038320" cy="3095280"/>
            <a:chOff x="857160" y="380880"/>
            <a:chExt cx="2038320" cy="3095280"/>
          </a:xfrm>
        </p:grpSpPr>
        <p:sp>
          <p:nvSpPr>
            <p:cNvPr id="194" name=""/>
            <p:cNvSpPr/>
            <p:nvPr/>
          </p:nvSpPr>
          <p:spPr>
            <a:xfrm flipV="1">
              <a:off x="1676520" y="439560"/>
              <a:ext cx="11430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62320" y="264924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19520" y="439560"/>
              <a:ext cx="759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857160" y="380880"/>
            <a:ext cx="1581120" cy="30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7160" y="380880"/>
                      <a:ext cx="1581120" cy="30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t the moment of ring closure, the C-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es out on the side of the ring opposite to the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 unit (C-6), one cycle form glucose emerges, namely, the alpha form (</a:t>
            </a:r>
            <a:r>
              <a:rPr b="0" lang="el-GR" sz="3200" spc="-1" strike="noStrike">
                <a:solidFill>
                  <a:srgbClr val="00ff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-gluc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new C-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p comes out on the same side of the ring as the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 unit, the beta form of glucose (</a:t>
            </a:r>
            <a:r>
              <a:rPr b="0" lang="el-GR" sz="3200" spc="-1" strike="noStrike">
                <a:solidFill>
                  <a:srgbClr val="00ff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-gluc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form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447560" y="5486400"/>
            <a:ext cx="6019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form of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39960" y="563400"/>
            <a:ext cx="4789440" cy="4922640"/>
            <a:chOff x="1839960" y="563400"/>
            <a:chExt cx="4789440" cy="4922640"/>
          </a:xfrm>
        </p:grpSpPr>
        <p:graphicFrame>
          <p:nvGraphicFramePr>
            <p:cNvPr id="202" name=""/>
            <p:cNvGraphicFramePr/>
            <p:nvPr/>
          </p:nvGraphicFramePr>
          <p:xfrm>
            <a:off x="1839960" y="563400"/>
            <a:ext cx="4789440" cy="492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9960" y="563400"/>
                      <a:ext cx="4789440" cy="492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 flipH="1" flipV="1" rot="10800000">
              <a:off x="5029200" y="1707840"/>
              <a:ext cx="608760" cy="174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69" y="1866"/>
                  </a:moveTo>
                  <a:arcTo wR="10800" hR="10800" stAng="-3348601" swAng="6742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69" y="1866"/>
                  </a:moveTo>
                  <a:arcTo wR="10800" hR="10800" stAng="-3348601" swAng="6742659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866560" y="1668600"/>
              <a:ext cx="609480" cy="137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69" y="1866"/>
                  </a:moveTo>
                  <a:arcTo wR="10800" hR="10800" stAng="-3348601" swAng="6742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69" y="1866"/>
                  </a:moveTo>
                  <a:arcTo wR="10800" hR="10800" stAng="-3348601" swAng="6742659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12b"/>
            </a:gs>
            <a:gs pos="50000">
              <a:srgbClr val="ffffff"/>
            </a:gs>
            <a:gs pos="100000">
              <a:srgbClr val="30312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4465800"/>
            <a:ext cx="1371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cc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-gluc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0880" y="1890720"/>
          <a:ext cx="831852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90720"/>
                    <a:ext cx="831852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 flipH="1" flipV="1" rot="11838600">
            <a:off x="4529160" y="2421000"/>
            <a:ext cx="678600" cy="86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72" y="1016"/>
                </a:moveTo>
                <a:arcTo wR="10800" hR="10800" stAng="-3897194" swAng="6405661"/>
                <a:lnTo>
                  <a:pt x="10800" y="10800"/>
                </a:lnTo>
                <a:close/>
              </a:path>
              <a:path fill="none" w="21600" h="21600">
                <a:moveTo>
                  <a:pt x="15372" y="1016"/>
                </a:moveTo>
                <a:arcTo wR="10800" hR="10800" stAng="-3897194" swAng="6405661"/>
              </a:path>
            </a:pathLst>
          </a:custGeom>
          <a:noFill/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 rot="974400">
            <a:off x="5262480" y="2445840"/>
            <a:ext cx="609120" cy="67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72" y="1016"/>
                </a:moveTo>
                <a:arcTo wR="10800" hR="10800" stAng="-3897194" swAng="6405661"/>
                <a:lnTo>
                  <a:pt x="10800" y="10800"/>
                </a:lnTo>
                <a:close/>
              </a:path>
              <a:path fill="none" w="21600" h="21600">
                <a:moveTo>
                  <a:pt x="15372" y="1016"/>
                </a:moveTo>
                <a:arcTo wR="10800" hR="10800" stAng="-3897194" swAng="6405661"/>
              </a:path>
            </a:pathLst>
          </a:custGeom>
          <a:noFill/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4464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cc"/>
                </a:solidFill>
                <a:latin typeface="Arial"/>
              </a:rPr>
              <a:t>β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-gluc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4419720"/>
            <a:ext cx="1676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form of gluc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 rot="6590400">
            <a:off x="4492800" y="5534280"/>
            <a:ext cx="599760" cy="43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311796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3117964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7440" y="5151600"/>
            <a:ext cx="16610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" y="8752"/>
                </a:moveTo>
                <a:arcTo wR="10800" hR="10800" stAng="-10144027" swAng="8989964"/>
                <a:lnTo>
                  <a:pt x="10800" y="10800"/>
                </a:lnTo>
                <a:close/>
              </a:path>
              <a:path fill="none" w="21600" h="21600">
                <a:moveTo>
                  <a:pt x="196" y="8752"/>
                </a:moveTo>
                <a:arcTo wR="10800" hR="10800" stAng="-10144027" swAng="8989964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 rot="6590400">
            <a:off x="1650600" y="3811680"/>
            <a:ext cx="599040" cy="43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311796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3117964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15960" y="3429000"/>
            <a:ext cx="16610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" y="8752"/>
                </a:moveTo>
                <a:arcTo wR="10800" hR="10800" stAng="-10144027" swAng="8989964"/>
                <a:lnTo>
                  <a:pt x="10800" y="10800"/>
                </a:lnTo>
                <a:close/>
              </a:path>
              <a:path fill="none" w="21600" h="21600">
                <a:moveTo>
                  <a:pt x="196" y="8752"/>
                </a:moveTo>
                <a:arcTo wR="10800" hR="10800" stAng="-10144027" swAng="8989964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sher Projection Formula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simplify Absolute Configu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 molecule has several stereo-centers, it becomes quite difficult to make three dimensional drawing of an absolute configur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il Fisher a German scientist (Chemist), won the second Nobel Prize in Chemistry in 1902. He unraveled most of the carbohydrate structure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et of rules should be followed to that let us project onto a plane surface the three dimensional configuration of each stereo-center in a molecu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6095880"/>
            <a:ext cx="990720" cy="763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52280"/>
            <a:ext cx="868680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Wingdings"/>
                <a:cs typeface="Wingdings"/>
              </a:rPr>
              <a:t>۩</a:t>
            </a:r>
            <a:r>
              <a:rPr b="1" lang="en-US" sz="2800" spc="-1" strike="noStrike">
                <a:solidFill>
                  <a:srgbClr val="00ff00"/>
                </a:solidFill>
                <a:latin typeface="Wingdings"/>
                <a:ea typeface="Wingdings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ize the molecule with it’s main carbon chain vertical and with the bonds that the chain together projecting the rear at each stereo-center. (Carbon – 1 is at the t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Arial"/>
                <a:cs typeface="Arial"/>
              </a:rPr>
              <a:t>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tally flatten the structure, stereo-center by stereo-center, onto a plan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Arial"/>
                <a:cs typeface="Arial"/>
              </a:rPr>
              <a:t>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rojected structure, represent each stereo-center either as the intersection of two lines or conventionally as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Arial"/>
                <a:cs typeface="Arial"/>
              </a:rPr>
              <a:t>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orizontal lines at a stereo-center actually represents bonds that projec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wa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ut of the plane of the pap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Arial"/>
                <a:cs typeface="Arial"/>
              </a:rPr>
              <a:t>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of the lines at a stereo-center actually represent bonds that project rearward, behind the pl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055960" y="1295280"/>
          <a:ext cx="472572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5960" y="1295280"/>
                    <a:ext cx="472572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666880" y="5119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5119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685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er Pro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9ea8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4419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Fisher projection formula can have more than intersection of lines, each representing a stereo-center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e are two different tetrahedral stereocenters, so there are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= 4 stereoisomers that occur as two pairs enentiomers.</a:t>
            </a:r>
            <a:endParaRPr b="0" lang="en-US" sz="30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111640" y="228600"/>
          <a:ext cx="326412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1640" y="228600"/>
                    <a:ext cx="326412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954680" y="3352680"/>
          <a:ext cx="3579840" cy="293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4680" y="3352680"/>
                    <a:ext cx="357984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800600" y="274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-Erythr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-Erythr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5791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-Thre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-Thre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62320" y="685800"/>
            <a:ext cx="685800" cy="685800"/>
          </a:xfrm>
          <a:prstGeom prst="ellipse">
            <a:avLst/>
          </a:prstGeom>
          <a:solidFill>
            <a:srgbClr val="66ff6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1600200"/>
            <a:ext cx="685800" cy="685800"/>
          </a:xfrm>
          <a:prstGeom prst="ellipse">
            <a:avLst/>
          </a:prstGeom>
          <a:solidFill>
            <a:srgbClr val="3333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14600"/>
            <a:ext cx="685800" cy="6858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16002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600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2286000"/>
            <a:ext cx="76320" cy="2286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1905120"/>
            <a:ext cx="228600" cy="759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371600"/>
            <a:ext cx="76320" cy="2286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05120"/>
            <a:ext cx="152280" cy="759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685800"/>
            <a:ext cx="685800" cy="685800"/>
          </a:xfrm>
          <a:prstGeom prst="ellipse">
            <a:avLst/>
          </a:prstGeom>
          <a:solidFill>
            <a:srgbClr val="66ff6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600200"/>
            <a:ext cx="685800" cy="685800"/>
          </a:xfrm>
          <a:prstGeom prst="ellipse">
            <a:avLst/>
          </a:prstGeom>
          <a:solidFill>
            <a:srgbClr val="3333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2514600"/>
            <a:ext cx="685800" cy="6858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600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6002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2286000"/>
            <a:ext cx="76320" cy="2286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1905120"/>
            <a:ext cx="228600" cy="759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1371600"/>
            <a:ext cx="76320" cy="2286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1905120"/>
            <a:ext cx="152280" cy="759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685800"/>
            <a:ext cx="75960" cy="335268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9880" y="3997440"/>
          <a:ext cx="14907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997440"/>
                    <a:ext cx="14907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227600" y="350532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-(+)-Glyceraldehy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73920" y="350532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-(-)-Glyceraldehy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34600" y="583560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yceraldehy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one stereo-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43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ntiomers of glyceraldehy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809880" y="152280"/>
          <a:ext cx="73188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52280"/>
                    <a:ext cx="7318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752480" y="838080"/>
          <a:ext cx="10368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838080"/>
                    <a:ext cx="1036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772240" y="838080"/>
          <a:ext cx="116208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2240" y="838080"/>
                    <a:ext cx="11620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666880" y="2743200"/>
          <a:ext cx="116208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743200"/>
                    <a:ext cx="11620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85800" y="2666880"/>
          <a:ext cx="1036800" cy="1676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2666880"/>
                    <a:ext cx="1036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904080" y="2743200"/>
          <a:ext cx="1173240" cy="167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04080" y="2743200"/>
                    <a:ext cx="11732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743200"/>
          <a:ext cx="1182600" cy="1676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00600" y="2743200"/>
                    <a:ext cx="11826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818480" y="4495680"/>
          <a:ext cx="868320" cy="184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18480" y="4495680"/>
                    <a:ext cx="86832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675480" y="4510080"/>
          <a:ext cx="1020600" cy="1812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75480" y="4510080"/>
                    <a:ext cx="102060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599080" y="4549680"/>
          <a:ext cx="954000" cy="178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99080" y="4549680"/>
                    <a:ext cx="9540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95680" y="4549680"/>
          <a:ext cx="990720" cy="1781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95680" y="4549680"/>
                    <a:ext cx="9907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424320" y="4572000"/>
          <a:ext cx="995400" cy="1790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4320" y="4572000"/>
                    <a:ext cx="9954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438280" y="4572000"/>
          <a:ext cx="914400" cy="1790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438280" y="4572000"/>
                    <a:ext cx="9144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295280" y="4538520"/>
          <a:ext cx="990720" cy="1781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295280" y="4538520"/>
                    <a:ext cx="9907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04920" y="4533840"/>
          <a:ext cx="914400" cy="179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04920" y="4533840"/>
                    <a:ext cx="9144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24280" y="914400"/>
            <a:ext cx="7621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95120" y="91440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23623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447920" y="23623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2362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638320" y="236232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1148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1760" y="411480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41911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42840" y="41911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1911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28840" y="41911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77320" y="41911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086240" y="41911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6172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61722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r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61722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6172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n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172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ul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6172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61722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lact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6172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191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b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4235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abin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42670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yl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4267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yx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5238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-Erythr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1523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-Thre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10350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-Glyceraldehy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457200"/>
            <a:ext cx="79246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e important ketoses, such as ketopentoses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bulose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ylulose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) and the ketohexos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uctose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) are the biologically important keto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e naturally occurred are in the D-family. Could follow Fisher projection for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O – CH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– C(O) – CH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H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 =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hydroxy acetone (Ketotriose)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nd the following keo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52720" y="3997440"/>
          <a:ext cx="140508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2720" y="3997440"/>
                    <a:ext cx="140508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62520" y="76320"/>
          <a:ext cx="78552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76320"/>
                    <a:ext cx="7855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701880" y="1557360"/>
          <a:ext cx="113040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1880" y="1557360"/>
                    <a:ext cx="113040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752480" y="2057400"/>
          <a:ext cx="1117800" cy="176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057400"/>
                    <a:ext cx="111780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573880" y="2057400"/>
          <a:ext cx="1284120" cy="176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3880" y="2057400"/>
                    <a:ext cx="128412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400800" y="4114800"/>
          <a:ext cx="1284120" cy="196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114800"/>
                    <a:ext cx="128412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811760" y="4114800"/>
          <a:ext cx="1284120" cy="196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11760" y="4114800"/>
                    <a:ext cx="128412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62120" y="4114800"/>
          <a:ext cx="1143000" cy="196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4114800"/>
                    <a:ext cx="114300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362320" y="4114800"/>
          <a:ext cx="1272960" cy="1967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4114800"/>
                    <a:ext cx="127296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114800" y="1143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2209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48120" y="22096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09720" y="3886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3886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3886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172200" y="3733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371240" y="3886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886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3886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133720" y="3733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-Psic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-Fruct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-Sorb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6019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-Tagat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529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-Ribu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529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-Xylu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9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-Erythru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3:06:47Z</dcterms:created>
  <dc:creator>new user</dc:creator>
  <dc:description/>
  <dc:language>en-US</dc:language>
  <cp:lastModifiedBy>M. E. S. Mirghani</cp:lastModifiedBy>
  <dcterms:modified xsi:type="dcterms:W3CDTF">2005-09-28T07:51:42Z</dcterms:modified>
  <cp:revision>107</cp:revision>
  <dc:subject/>
  <dc:title>SBT 1130: Organic Chemistry</dc:title>
</cp:coreProperties>
</file>