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11D0-AC7F-4F0B-A840-6B73CBC6A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46AD-926B-408A-9219-59A580AF7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400D-B82E-4567-8170-56FC551F9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6F37-F39F-4A44-A907-E6CEE4CE2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7B00-A410-48D2-B86E-A3B5ACF92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BEAD-9CAD-4589-8F3A-5A44A46D2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4D72-D690-4C22-AA02-EB7348E81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1951-948D-4206-AC65-68695FC0C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6300-AD51-453E-A95A-584730813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A345-69F7-4134-9DC9-7FBD7C5A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9FFE-F5EF-4C22-B694-106F9C316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6D20-2812-4F86-9CAD-E51E7E7E9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B2846-D4C0-4593-8CA4-BE1CA049D138}" type="slidenum">
              <a:rPr b="0" lang="ar-SA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532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d1cb"/>
                </a:solidFill>
                <a:latin typeface="Arial"/>
              </a:rPr>
              <a:t>SBT 1130: Organic Chemistry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440" y="2666520"/>
            <a:ext cx="79246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cc66"/>
                </a:solidFill>
                <a:latin typeface="Arial"/>
              </a:rPr>
              <a:t>C</a:t>
            </a:r>
            <a:r>
              <a:rPr b="1" lang="en-US" sz="6000" spc="-1" strike="noStrike">
                <a:solidFill>
                  <a:srgbClr val="ffcc66"/>
                </a:solidFill>
                <a:latin typeface="Arial"/>
              </a:rPr>
              <a:t>ARBOHYDRAT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Fisher Projection Formula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t simplify Absolute Configur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f a molecule has several stereo-centers, it becomes quite difficult to make three dimensional drawing of an absolute configuration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mil Fisher a German scientist (Chemist), won the second Nobel Prize in Chemistry in 1902. He unraveled most of the carbohydrate structures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set of rules should be followed to that let us project onto a plane surface the three dimensional configuration of each stereo-center in a molecul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086600" y="6095880"/>
            <a:ext cx="990720" cy="76320"/>
          </a:xfrm>
          <a:custGeom>
            <a:avLst/>
            <a:gdLst>
              <a:gd name="textAreaLeft" fmla="*/ 154800 w 990720"/>
              <a:gd name="textAreaRight" fmla="*/ 866880 w 990720"/>
              <a:gd name="textAreaTop" fmla="*/ 19080 h 76320"/>
              <a:gd name="textAreaBottom" fmla="*/ 57240 h 763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52280" y="152280"/>
            <a:ext cx="8686800" cy="628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ff00"/>
                </a:solidFill>
                <a:latin typeface="Wingdings"/>
                <a:cs typeface="Wingdings"/>
              </a:rPr>
              <a:t>۩</a:t>
            </a:r>
            <a:r>
              <a:rPr b="1" lang="en-US" sz="2800" spc="-1" strike="noStrike">
                <a:solidFill>
                  <a:srgbClr val="00ff00"/>
                </a:solidFill>
                <a:latin typeface="Wingdings"/>
                <a:ea typeface="Wingdings"/>
              </a:rPr>
              <a:t>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isualize the molecule with it’s main carbon chain vertical and with the bonds that the chain together projecting the rear at each stereo-center. (Carbon – 1 is at the to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ff00"/>
                </a:solidFill>
                <a:latin typeface="Arial"/>
                <a:cs typeface="Arial"/>
              </a:rPr>
              <a:t>۩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ntally flatten the structure, stereo-center by stereo-center, onto a plane surfa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ff00"/>
                </a:solidFill>
                <a:latin typeface="Arial"/>
                <a:cs typeface="Arial"/>
              </a:rPr>
              <a:t>۩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the projected structure, represent each stereo-center either as the intersection of two lines or conventionally as 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ff00"/>
                </a:solidFill>
                <a:latin typeface="Arial"/>
                <a:cs typeface="Arial"/>
              </a:rPr>
              <a:t>۩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horizontal lines at a stereo-center actually represents bonds that project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forwar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out of the plane of the pap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ff00"/>
                </a:solidFill>
                <a:latin typeface="Arial"/>
                <a:cs typeface="Arial"/>
              </a:rPr>
              <a:t>۩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of The lines at a stereo-center actually represent bonds that project rearward, behind the pla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2055960" y="1295280"/>
          <a:ext cx="4725720" cy="424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5960" y="1295280"/>
                    <a:ext cx="4725720" cy="42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2666880" y="51195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867280" y="51195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33720" y="68580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sher Proj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 flipV="1" rot="6590400">
            <a:off x="4492800" y="5534280"/>
            <a:ext cx="599760" cy="434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311796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3117964"/>
              </a:path>
            </a:pathLst>
          </a:custGeom>
          <a:noFill/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57440" y="5151600"/>
            <a:ext cx="166104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6" y="8752"/>
                </a:moveTo>
                <a:arcTo wR="10800" hR="10800" stAng="-10144027" swAng="8989964"/>
                <a:lnTo>
                  <a:pt x="10800" y="10800"/>
                </a:lnTo>
                <a:close/>
              </a:path>
              <a:path fill="none" w="21600" h="21600">
                <a:moveTo>
                  <a:pt x="196" y="8752"/>
                </a:moveTo>
                <a:arcTo wR="10800" hR="10800" stAng="-10144027" swAng="8989964"/>
              </a:path>
            </a:pathLst>
          </a:custGeom>
          <a:noFill/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 flipV="1" rot="6590400">
            <a:off x="1650600" y="3811680"/>
            <a:ext cx="599040" cy="434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311796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3117964"/>
              </a:path>
            </a:pathLst>
          </a:custGeom>
          <a:noFill/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15960" y="3429000"/>
            <a:ext cx="166104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6" y="8752"/>
                </a:moveTo>
                <a:arcTo wR="10800" hR="10800" stAng="-10144027" swAng="8989964"/>
                <a:lnTo>
                  <a:pt x="10800" y="10800"/>
                </a:lnTo>
                <a:close/>
              </a:path>
              <a:path fill="none" w="21600" h="21600">
                <a:moveTo>
                  <a:pt x="196" y="8752"/>
                </a:moveTo>
                <a:arcTo wR="10800" hR="10800" stAng="-10144027" swAng="8989964"/>
              </a:path>
            </a:pathLst>
          </a:custGeom>
          <a:noFill/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51920" y="60912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rbohydrates is one of the main three main classes of foodstuff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rnstarch, potato-starch, table sugar, and cotton are all carbohydra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complex compounds in wood are made from simple, energy-poor arrangements of electrons and nuclei, namely C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, and soil minerals. Overall process is </a:t>
            </a: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photosynthesi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ff00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CO</a:t>
            </a:r>
            <a:r>
              <a:rPr b="1" lang="en-US" sz="28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 + </a:t>
            </a:r>
            <a:r>
              <a:rPr b="1" i="1" lang="en-US" sz="2800" spc="-1" strike="noStrike">
                <a:solidFill>
                  <a:srgbClr val="00ff00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O +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solar energy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                (CH</a:t>
            </a:r>
            <a:r>
              <a:rPr b="1" lang="en-US" sz="28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O)</a:t>
            </a:r>
            <a:r>
              <a:rPr b="1" i="1" lang="en-US" sz="2800" spc="-1" strike="noStrike">
                <a:solidFill>
                  <a:srgbClr val="00ff00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  + </a:t>
            </a:r>
            <a:r>
              <a:rPr b="1" i="1" lang="en-US" sz="2800" spc="-1" strike="noStrike">
                <a:solidFill>
                  <a:srgbClr val="00ff00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00600" y="5638680"/>
            <a:ext cx="12952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56240" y="5334120"/>
            <a:ext cx="1589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Chlorophy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Plant enzym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686b5d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304920"/>
            <a:ext cx="845820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onosaccharid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 algn="just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monosaccharides are carbohydrates that cannot be hydrolyz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 algn="just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l of them are reducing carbohydra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 algn="just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mple sugars do not react with w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 algn="just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lucose is nature’s most widely used organic monom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 algn="just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e form of glucose is a pentahydroxy aldehy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7777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52280" y="304920"/>
            <a:ext cx="876312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2001"/>
              </a:spcBef>
              <a:buClr>
                <a:srgbClr val="e9dc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9dcb9"/>
                </a:solidFill>
                <a:latin typeface="Arial"/>
              </a:rPr>
              <a:t>Oligosaccharides molecules yield from three to few dozen monosaccharide molecules when they are hydrolyzed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01"/>
              </a:spcBef>
              <a:buClr>
                <a:srgbClr val="e9dc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9dcb9"/>
                </a:solidFill>
                <a:latin typeface="Arial"/>
              </a:rPr>
              <a:t>Disaccharides and polysaccharides make up the other families of carbohydr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9dc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9dcb9"/>
                </a:solidFill>
                <a:latin typeface="Arial"/>
              </a:rPr>
              <a:t>All naturally occurring monosaccharides belong to the same optical famil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9dc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9dcb9"/>
                </a:solidFill>
                <a:latin typeface="Arial"/>
              </a:rPr>
              <a:t>The oxidized &amp; reduced form of polyhydroxy aldehydes and ketones, as well as certain amino derivatives, are also in the family of Carbohydr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52280" y="601560"/>
            <a:ext cx="8915400" cy="56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cc66"/>
                </a:solidFill>
                <a:latin typeface="Arial"/>
              </a:rPr>
              <a:t>Deoxy..means lacking of oxygen where one normally i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HO – CH</a:t>
            </a:r>
            <a:r>
              <a:rPr b="1" lang="en-US" sz="2800" spc="-1" strike="noStrike" baseline="-25000">
                <a:solidFill>
                  <a:srgbClr val="ffcc66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 – CH(OH) – CH(O) </a:t>
            </a:r>
            <a:r>
              <a:rPr b="1" lang="en-US" sz="2600" spc="-1" strike="noStrike">
                <a:solidFill>
                  <a:srgbClr val="ffcc66"/>
                </a:solidFill>
                <a:latin typeface="Arial"/>
              </a:rPr>
              <a:t>     = 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Glyceraldehyd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HO – CH</a:t>
            </a:r>
            <a:r>
              <a:rPr b="1" lang="en-US" sz="2800" spc="-1" strike="noStrike" baseline="-25000">
                <a:solidFill>
                  <a:srgbClr val="ffcc66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 – C(O) – CH</a:t>
            </a:r>
            <a:r>
              <a:rPr b="1" lang="en-US" sz="2800" spc="-1" strike="noStrike" baseline="-25000">
                <a:solidFill>
                  <a:srgbClr val="ffcc66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OH </a:t>
            </a:r>
            <a:r>
              <a:rPr b="1" lang="en-US" sz="2600" spc="-1" strike="noStrike">
                <a:solidFill>
                  <a:srgbClr val="ffcc66"/>
                </a:solidFill>
                <a:latin typeface="Arial"/>
              </a:rPr>
              <a:t>     =   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ihydroxy acetone</a:t>
            </a:r>
            <a:r>
              <a:rPr b="1" lang="en-US" sz="26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cc66"/>
                </a:solidFill>
                <a:latin typeface="Arial"/>
              </a:rPr>
              <a:t>OH – CH</a:t>
            </a:r>
            <a:r>
              <a:rPr b="1" lang="en-US" sz="2600" spc="-1" strike="noStrike" baseline="-25000">
                <a:solidFill>
                  <a:srgbClr val="ffcc66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ffcc66"/>
                </a:solidFill>
                <a:latin typeface="Arial"/>
              </a:rPr>
              <a:t> – CHOH – CHOH – CHOH – CHOH – CH(O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           </a:t>
            </a:r>
            <a:r>
              <a:rPr b="1" lang="en-US" sz="2800" spc="-1" strike="noStrike" baseline="46000">
                <a:solidFill>
                  <a:srgbClr val="ffffff"/>
                </a:solidFill>
                <a:latin typeface="Arial"/>
              </a:rPr>
              <a:t>6               5                 4                  3                   2                 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         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asic structure of aldohexo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8600" y="152280"/>
            <a:ext cx="8686800" cy="49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som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1- Constitutional isomers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iffers in molecular framework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: Butane and isobutane, both have C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– C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– C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– C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– CH(C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 – C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(2 methyl propan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2- Stereo isomers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iffers only in geometry, i.e.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ci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– 2- butene and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ran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– 2- beutene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905120" y="5029200"/>
          <a:ext cx="5740200" cy="152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5029200"/>
                    <a:ext cx="5740200" cy="15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Molecular Chirality's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421000" y="838080"/>
          <a:ext cx="4570200" cy="35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21000" y="838080"/>
                    <a:ext cx="4570200" cy="35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67080" y="43434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mi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4724280"/>
            <a:ext cx="8458200" cy="20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Two molecular models of Asparagine. Observe that the same four groups are attached to a central C atom (</a:t>
            </a:r>
            <a:r>
              <a:rPr b="1" lang="en-US" sz="2300" spc="-1" strike="noStrike">
                <a:solidFill>
                  <a:srgbClr val="ff9933"/>
                </a:solidFill>
                <a:latin typeface="Arial"/>
              </a:rPr>
              <a:t>Chairal carbon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) tetrahedral stereo-center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One represents a bitter-tasting comp</a:t>
            </a:r>
            <a:r>
              <a:rPr b="1" lang="en-US" sz="23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, and the other, a sweet-tasting comp</a:t>
            </a:r>
            <a:r>
              <a:rPr b="1" lang="en-US" sz="23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.  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362320" y="685800"/>
            <a:ext cx="685800" cy="685800"/>
          </a:xfrm>
          <a:prstGeom prst="ellipse">
            <a:avLst/>
          </a:prstGeom>
          <a:solidFill>
            <a:srgbClr val="66ff66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362320" y="1600200"/>
            <a:ext cx="685800" cy="685800"/>
          </a:xfrm>
          <a:prstGeom prst="ellipse">
            <a:avLst/>
          </a:prstGeom>
          <a:solidFill>
            <a:srgbClr val="33333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362320" y="2514600"/>
            <a:ext cx="685800" cy="685800"/>
          </a:xfrm>
          <a:prstGeom prst="ellipse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47920" y="160020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00400" y="1600200"/>
            <a:ext cx="685800" cy="6858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666880" y="2286000"/>
            <a:ext cx="76320" cy="228600"/>
          </a:xfrm>
          <a:prstGeom prst="ellipse">
            <a:avLst/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33720" y="1905120"/>
            <a:ext cx="228600" cy="75960"/>
          </a:xfrm>
          <a:prstGeom prst="ellipse">
            <a:avLst/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1371600"/>
            <a:ext cx="76320" cy="228600"/>
          </a:xfrm>
          <a:prstGeom prst="ellipse">
            <a:avLst/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1905120"/>
            <a:ext cx="152280" cy="75960"/>
          </a:xfrm>
          <a:prstGeom prst="ellipse">
            <a:avLst/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19920" y="685800"/>
            <a:ext cx="685800" cy="685800"/>
          </a:xfrm>
          <a:prstGeom prst="ellipse">
            <a:avLst/>
          </a:prstGeom>
          <a:solidFill>
            <a:srgbClr val="66ff66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9920" y="1600200"/>
            <a:ext cx="685800" cy="685800"/>
          </a:xfrm>
          <a:prstGeom prst="ellipse">
            <a:avLst/>
          </a:prstGeom>
          <a:solidFill>
            <a:srgbClr val="33333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9920" y="2514600"/>
            <a:ext cx="685800" cy="685800"/>
          </a:xfrm>
          <a:prstGeom prst="ellipse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05520" y="1600200"/>
            <a:ext cx="685800" cy="6858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58000" y="160020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324480" y="2286000"/>
            <a:ext cx="76320" cy="228600"/>
          </a:xfrm>
          <a:prstGeom prst="ellipse">
            <a:avLst/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91320" y="1905120"/>
            <a:ext cx="228600" cy="75960"/>
          </a:xfrm>
          <a:prstGeom prst="ellipse">
            <a:avLst/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324480" y="1371600"/>
            <a:ext cx="76320" cy="228600"/>
          </a:xfrm>
          <a:prstGeom prst="ellipse">
            <a:avLst/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705720" y="1905120"/>
            <a:ext cx="152280" cy="75960"/>
          </a:xfrm>
          <a:prstGeom prst="ellipse">
            <a:avLst/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19720" y="685800"/>
            <a:ext cx="75960" cy="3352680"/>
          </a:xfrm>
          <a:prstGeom prst="ellipse">
            <a:avLst/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809880" y="3997440"/>
          <a:ext cx="1490760" cy="202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3997440"/>
                    <a:ext cx="1490760" cy="20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1227600" y="3505320"/>
            <a:ext cx="24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-(+)-Glyceraldehy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173920" y="3505320"/>
            <a:ext cx="24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-(-)-Glyceraldehy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34600" y="5835600"/>
            <a:ext cx="224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lyceraldehy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one stereo-cent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2430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antiomers of glyceraldehy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- and L- Families of Carbohydr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938160"/>
            <a:ext cx="8610480" cy="54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3840" indent="-39384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ff00"/>
                </a:solidFill>
                <a:latin typeface="Arial"/>
                <a:cs typeface="Arial"/>
              </a:rPr>
              <a:t>۝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The C-5 position in glucose has the same   configuration as (+) – glyceraldehyde, putting glucose in D- family of stereo-isomer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3840" indent="-39384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ff00"/>
                </a:solidFill>
                <a:latin typeface="Arial"/>
                <a:cs typeface="Arial"/>
              </a:rPr>
              <a:t>۝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All naturally occurring monosaccharides belong to the same optical fami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3840" indent="-39384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ff00"/>
                </a:solidFill>
                <a:latin typeface="Arial"/>
                <a:cs typeface="Arial"/>
              </a:rPr>
              <a:t>۝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hemists have used the absolute configuration of the enentiomers of glyceraldehyde to device configurational or optical families for the rest of carbohydrat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3840" indent="-39384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ff00"/>
                </a:solidFill>
                <a:latin typeface="Arial"/>
                <a:cs typeface="Arial"/>
              </a:rPr>
              <a:t>۝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When we know the absolute configuration of D-(+) glyceraldehyde, we also know that of (-) glyceraldehyde, because it’s a mirror image of the (+) o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3T03:06:47Z</dcterms:created>
  <dc:creator>new user</dc:creator>
  <dc:description/>
  <dc:language>en-US</dc:language>
  <cp:lastModifiedBy>user</cp:lastModifiedBy>
  <dcterms:modified xsi:type="dcterms:W3CDTF">2005-09-22T02:49:18Z</dcterms:modified>
  <cp:revision>93</cp:revision>
  <dc:subject/>
  <dc:title>SBT 1130: Organic Chemistry</dc:title>
</cp:coreProperties>
</file>