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B3F-CEB8-410E-A6E1-A627538D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B5F-E95D-4C90-99B1-9C35961E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3CB-D65C-4017-88C9-F61D3A27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E61-ABD7-4F24-88A4-A076DDC6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F8F-59DD-47E2-A0C1-558C6C5F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268-9A08-4DAC-9346-C47AD856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933-0C89-42CE-BEC0-AC98832C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ACF-3455-413A-8BEA-56BC9239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3C36-4F8E-43EB-8190-AA0C3745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3A3-5074-4505-BF36-BDAF26AE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3E9-7FB9-4117-93DB-CF0159EA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412-4417-4204-8DF9-E80D67B1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F049-10BC-4B2D-A126-9F8E98A32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T1130 Organic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 8 Alcohols, Phenols and E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e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38080" y="1600200"/>
          <a:ext cx="769644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69644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gen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s, phenols and ether can be thought as organic derivatives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s and phenols have higher boiling points than other hydrocarbons because they form hydrogen bonds in the liqui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s lack in hydrogen, cannot form hydrogen bonds, lower boil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s and phenols, like water, are both weakly acidic and weakly 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eak Lewis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52480" y="3357720"/>
          <a:ext cx="5410440" cy="10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357720"/>
                    <a:ext cx="541044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33520" y="5181480"/>
            <a:ext cx="78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495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eak Lewis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5410080"/>
          <a:ext cx="594360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5410080"/>
                    <a:ext cx="59436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 with alkali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s have the same acidity as water. So they react with alkali metals to give metal alkoxides, a strong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3520" y="3541680"/>
          <a:ext cx="800100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541680"/>
                    <a:ext cx="8001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phenols are more acidic than alcoh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ls are more acidic because the phenoxide anion formed is resonance-stabilized by the aromatic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explains why phenols are soluble in dilute aqueos NaOH, because it is a stronger acid than alcoh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38080" y="4952880"/>
          <a:ext cx="7315200" cy="12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952880"/>
                    <a:ext cx="73152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 of Alcoh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of aldehydes and ke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of esters and carboxyl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of aldehydes and ket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dehydes reduced into primary alcoh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ones reduced into secondary alcoh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ng agent used: sodium borohyd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62120" y="3657600"/>
          <a:ext cx="7543800" cy="16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657600"/>
                    <a:ext cx="754380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of carboxylic acids and e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rs and carboxylic acids are reduced to give primary alcoh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slower reaction, therefore needs a stronger reducing a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ng reagent used: Lithium aluminium hydride ( LiAl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28800" y="4952880"/>
          <a:ext cx="5791320" cy="15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952880"/>
                    <a:ext cx="579132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s of alcoh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hydration of alcoh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of alcoh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into e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hydration of alcoh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hydration of alcohol eliminate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to give an alk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for secondary and tertiary alcohols is treatment with strong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Zaitsev’s rule, product with more highly substituted alkene is the major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sm is via E1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alcohol, phenol and e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 : a compound with a hydroxyl group (-OH) bonded to a saturated s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bridized carbo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l : a hydroxyl group bonded to an aromatic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: a compound with an oxygen atom bonded to two organic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chanism of dehydration via E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76520" y="1295280"/>
          <a:ext cx="6019560" cy="526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6019560" cy="52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of alcoh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of alcohols give carbony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alcohol yield an aldehyde or a carboxylic acid, secondary alcohol yield a ke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tiary alcohol do not react with oxidizing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of alcoh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2209680"/>
          <a:ext cx="8077320" cy="29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807732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alcohol oxi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alcohols are oxidized to either carbonyl or carboxylic acids depending on the oxidizing agent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57400" y="3200400"/>
          <a:ext cx="4572000" cy="33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200400"/>
                    <a:ext cx="4572000" cy="33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alcohol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38080" y="2286000"/>
          <a:ext cx="7543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7543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ion of alcohol into 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of alcohols into ethers by the formation of the corresponding alkoxide ion followed by reaction with an alkyl halide is calle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iamson ether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alkyl halides work best, or E2 elimination will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the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09480" y="1981080"/>
          <a:ext cx="7620120" cy="22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62012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 Phen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ls can be synthesized from aromatic starting material in two ste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2120" y="3124080"/>
          <a:ext cx="769608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124080"/>
                    <a:ext cx="769608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s of phen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-like reactions of phen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philic aromatic substitution reactions of phen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of phen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cohol-like reaction of phe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ls and alcohols are very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ls cannot be dehydrated or converted into ha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it can be converted into ethers in the presence of base. The conversion is easier because phenol is more acidic than alcohol, and therefore more readily converted into their a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38080" y="2057400"/>
          <a:ext cx="7696440" cy="21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696440" cy="21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ol conversion into 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09480" y="2133720"/>
          <a:ext cx="800100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80010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philic aromatic substitution reactions of phen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H group is an activating, ortha para directing substituent, therefore, phenols are reaction substrate for electrophilic halogenation, nitration and sulfo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038480" y="1600200"/>
          <a:ext cx="480060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48006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of phen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of phenol with a strong oxidation agent yields a qui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3352680"/>
          <a:ext cx="7848360" cy="23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352680"/>
                    <a:ext cx="7848360" cy="23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n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nones are class of compounds that can be easily reduced ( NaB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into hydroquinones and the hydroquinones can be easily oxidized (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back to quin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perty is crucial to the functioning of living cells, where ubiquinones function to mediate the respir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tion-oxidation of quin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752480"/>
          <a:ext cx="8153280" cy="24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153280" cy="24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 of e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s are easily prepared from alcohols by conversion into alkoxide ion followed by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reaction with a primary alkyl ha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 of e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ethers are unreactive – use as reaction sol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go only one general reaction – cleaved by strong acids eg. aqueous HI or HB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cleophilic substitution reaction, by either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or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pathway depending on the structure of 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by the S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38080" y="1447920"/>
          <a:ext cx="75438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5438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by the S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5800" y="1981080"/>
          <a:ext cx="769608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69608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thers: Epox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ic ethers behave just like the acyclic e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trahydrofuran (THF), an example of cyclic ether, is often used as solvent because it is in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cyclic ethers that behave differently than the open chain are the 3-membered ring cyclic ether called epoxides, or oxir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s are classified into primary, secondary and tertiary alcohol depending on the number of carbon substituents bonded to the hydroxy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600200" y="3962520"/>
          <a:ext cx="586728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962520"/>
                    <a:ext cx="586728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 of epox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oxides are prepared by the reaction of alkenes with a peroxyacid ( most commonly used is m-Chloroperoxybenzoic acid – more stable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23880" y="3809880"/>
          <a:ext cx="6248520" cy="26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09880"/>
                    <a:ext cx="6248520" cy="26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of epoxide 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ved by treatment of acid but under milder condition because of the strain on the 3-membered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lute aqueous acid at room temperature converts epoxide into a 1,2-diol ( glycol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vage via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tt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 of epoxide cleav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52480" y="1447920"/>
          <a:ext cx="556272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556272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ols and Sulf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ols are sulphur analogs of alcoh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phides are sulphur analogs of e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thi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way as naming alcohol, with the suffix –thi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–SH group itself is called mercapto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495680" y="1600200"/>
          <a:ext cx="414036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4036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ulph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phides are named the same way as ethers, with sulpfide used in place of ether for simple compound and with alkylthio in place of alkoxy for more complex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419720" y="1752480"/>
          <a:ext cx="4419360" cy="34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752480"/>
                    <a:ext cx="4419360" cy="34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 of thi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prepared from the corresponding alkyl halides by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displacement with a sulfur nucleophile, S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3581280"/>
          <a:ext cx="8305920" cy="11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581280"/>
                    <a:ext cx="83059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 of sulf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es are prepared by treating primary or secondary alkyl halide with a thiolate ion, R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sm analogous to Williamson ether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38080" y="4495680"/>
          <a:ext cx="7391520" cy="13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495680"/>
                    <a:ext cx="7391520" cy="13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in naming the alcohol, phenol and 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Select longest carbon chain containing hydroxyl group, and use the suffix –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Number the carbon of the parent chain at the end nearest to the hydroxy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Number all substituents according to their position on the chain, and write the listing alphabe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exampl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2209680"/>
          <a:ext cx="7162920" cy="30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162920" cy="30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common names of alcoh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362320" y="1905120"/>
          <a:ext cx="4647960" cy="42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05120"/>
                    <a:ext cx="464796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l is used as the name of a specific substance and as the family name for all hydroxy-substitued aromat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057400" y="4016520"/>
          <a:ext cx="2971800" cy="22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016520"/>
                    <a:ext cx="297180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thers that contain no other functional group are named by identifying two organic groups and adding the word 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ore than one ether linkages is present, the ether part is named as an alkoxy substituent on the parent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06:37:00Z</dcterms:created>
  <dc:creator>new user</dc:creator>
  <dc:description/>
  <dc:language>en-US</dc:language>
  <cp:lastModifiedBy>stu_lab</cp:lastModifiedBy>
  <dcterms:modified xsi:type="dcterms:W3CDTF">2005-09-01T07:43:12Z</dcterms:modified>
  <cp:revision>7</cp:revision>
  <dc:subject/>
  <dc:title>SBT1130 Organic Chemistry</dc:title>
</cp:coreProperties>
</file>