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6477000" cy="4878388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23760" y="744480"/>
            <a:ext cx="4940640" cy="37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4680" y="471024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4"/>
          </p:nvPr>
        </p:nvSpPr>
        <p:spPr>
          <a:xfrm>
            <a:off x="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5"/>
          </p:nvPr>
        </p:nvSpPr>
        <p:spPr>
          <a:xfrm>
            <a:off x="3843360" y="942336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FE6C1-A5EA-40DC-99CB-0999625AAA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23760" y="744480"/>
            <a:ext cx="4940640" cy="371952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04680" y="4710240"/>
            <a:ext cx="497196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duce risks from exposure to adverse movements in the price of an as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ake a position in the market – betting price of an asset will either increase or decr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ck in a riskless profit by simultaneously entering into transactions in two or more marke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C606B-0443-4CC9-8738-2F4B63EB22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1040" y="233280"/>
            <a:ext cx="5880240" cy="32436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10680" y="659880"/>
            <a:ext cx="5854680" cy="17528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10680" y="2579760"/>
            <a:ext cx="5854680" cy="17528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E8E66-B398-44AE-AC38-3D621F85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1040" y="233280"/>
            <a:ext cx="5880240" cy="32436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0680" y="659880"/>
            <a:ext cx="2856960" cy="17528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0920" y="659880"/>
            <a:ext cx="2856960" cy="17528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10680" y="2579760"/>
            <a:ext cx="2856960" cy="17528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310920" y="2579760"/>
            <a:ext cx="2856960" cy="17528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75332-E45E-4D71-8BFD-23F783DC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1040" y="233280"/>
            <a:ext cx="5880240" cy="32436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10680" y="659880"/>
            <a:ext cx="1884960" cy="17528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290320" y="659880"/>
            <a:ext cx="1884960" cy="17528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269960" y="659880"/>
            <a:ext cx="1884960" cy="17528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10680" y="2579760"/>
            <a:ext cx="1884960" cy="17528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290320" y="2579760"/>
            <a:ext cx="1884960" cy="17528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269960" y="2579760"/>
            <a:ext cx="1884960" cy="17528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B3AAD-2464-4476-8813-8C29D38217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1040" y="233280"/>
            <a:ext cx="5880240" cy="32436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10680" y="659880"/>
            <a:ext cx="585468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AE8A1-56E0-45AF-935E-2DCB4781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1040" y="233280"/>
            <a:ext cx="5880240" cy="32436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10680" y="659880"/>
            <a:ext cx="5854680" cy="36752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ED02E-D564-4FEC-BAA1-46C9892F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1040" y="233280"/>
            <a:ext cx="5880240" cy="32436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0680" y="659880"/>
            <a:ext cx="2856960" cy="36752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310920" y="659880"/>
            <a:ext cx="2856960" cy="36752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BDE59-ABB2-4C83-B4D4-4D277A4A4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1040" y="233280"/>
            <a:ext cx="5880240" cy="32436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BF8D-628B-44F8-B063-1B1FA891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1040" y="263520"/>
            <a:ext cx="5880240" cy="122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26C7C-FBBB-42A3-94CE-4EF3D31E9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1040" y="233280"/>
            <a:ext cx="5880240" cy="32436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0680" y="659880"/>
            <a:ext cx="2856960" cy="17528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10920" y="659880"/>
            <a:ext cx="2856960" cy="36752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0680" y="2579760"/>
            <a:ext cx="2856960" cy="17528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BF0FA-7456-47E1-92E3-A1159B47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1040" y="233280"/>
            <a:ext cx="5880240" cy="32436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0680" y="659880"/>
            <a:ext cx="2856960" cy="36752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10920" y="659880"/>
            <a:ext cx="2856960" cy="17528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310920" y="2579760"/>
            <a:ext cx="2856960" cy="17528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8042-E4DB-43F0-BB08-E9E42684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1040" y="233280"/>
            <a:ext cx="5880240" cy="32436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0680" y="659880"/>
            <a:ext cx="2856960" cy="17528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310920" y="659880"/>
            <a:ext cx="2856960" cy="17528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10680" y="2579760"/>
            <a:ext cx="5854680" cy="17528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FA2E7-A16D-4078-96C7-247358C1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4641840" y="4443480"/>
            <a:ext cx="1349280" cy="3254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291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" name=""/>
          <p:cNvGraphicFramePr/>
          <p:nvPr/>
        </p:nvGraphicFramePr>
        <p:xfrm>
          <a:off x="5442120" y="4384800"/>
          <a:ext cx="984240" cy="46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42120" y="4384800"/>
                    <a:ext cx="98424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"/>
          <p:cNvSpPr/>
          <p:nvPr/>
        </p:nvSpPr>
        <p:spPr>
          <a:xfrm>
            <a:off x="2430360" y="4495680"/>
            <a:ext cx="167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F5F9BDEE-4916-4066-8DDF-D8EEBA2D54E9}" type="slidenum">
              <a:rPr b="1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2"/>
          </p:nvPr>
        </p:nvSpPr>
        <p:spPr>
          <a:xfrm>
            <a:off x="125280" y="4613400"/>
            <a:ext cx="1710000" cy="155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  <a:defRPr b="1" lang="en-GB" sz="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fld id="{84CE3F0C-A572-473B-85C4-335A7E214F50}" type="datetime3">
              <a:rPr b="1" lang="en-GB" sz="7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310680" y="659880"/>
            <a:ext cx="5854680" cy="36752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spcBef>
                <a:spcPts val="575"/>
              </a:spcBef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243000" indent="-243000">
              <a:spcBef>
                <a:spcPts val="57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243000" indent="-243000"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3" marL="243000" indent="-243000">
              <a:spcBef>
                <a:spcPts val="575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4" marL="243000" indent="-2430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5" marL="243000" indent="-2430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6" marL="243000" indent="-243000">
              <a:spcBef>
                <a:spcPts val="575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7200" y="555480"/>
            <a:ext cx="6102360" cy="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imeche.org.uk/mx/images/BP%2520Logo.jpg&amp;imgrefurl=http://www.imeche.org.uk/mx/partners_sponsors.asp&amp;h=2120&amp;w=1801&amp;sz=172&amp;hl=en&amp;start=1&amp;tbnid=D4I5rpsflTY7BM:&amp;tbnh=150&amp;tbnw=127&amp;prev=/images%3Fq%3Dbp%26svnum%3D10%26hl%3Den%26lr%3D%26sa%3DG" TargetMode="External"/><Relationship Id="rId2" Type="http://schemas.openxmlformats.org/officeDocument/2006/relationships/hyperlink" Target="http://images.google.com/imgres?imgurl=http://www.imeche.org.uk/mx/images/BP%2520Logo.jpg&amp;imgrefurl=http://www.imeche.org.uk/mx/partners_sponsors.asp&amp;h=2120&amp;w=1801&amp;sz=172&amp;hl=en&amp;start=1&amp;tbnid=D4I5rpsflTY7BM:&amp;tbnh=150&amp;tbnw=127&amp;prev=/images%3Fq%3Dbp%26svnum%3D10%26hl%3Den%26lr%3D%26sa%3D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785960" y="1614600"/>
            <a:ext cx="298008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rivativ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8600" y="2867040"/>
            <a:ext cx="5479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680" rIns="76680" tIns="38160" bIns="381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Intern Pres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Kaya E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Heung 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Chen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ahoma"/>
              </a:rPr>
              <a:t>Jia Hong 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11040" y="233280"/>
            <a:ext cx="5880240" cy="32436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233280"/>
            <a:ext cx="55231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81280" y="762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519200" y="673200"/>
            <a:ext cx="2168280" cy="1298160"/>
            <a:chOff x="1519200" y="673200"/>
            <a:chExt cx="2168280" cy="1298160"/>
          </a:xfrm>
        </p:grpSpPr>
        <p:sp>
          <p:nvSpPr>
            <p:cNvPr id="142" name=""/>
            <p:cNvSpPr/>
            <p:nvPr/>
          </p:nvSpPr>
          <p:spPr>
            <a:xfrm>
              <a:off x="1527120" y="680760"/>
              <a:ext cx="2146680" cy="1276560"/>
            </a:xfrm>
            <a:custGeom>
              <a:avLst/>
              <a:gdLst/>
              <a:ahLst/>
              <a:rect l="l" t="t" r="r" b="b"/>
              <a:pathLst>
                <a:path w="1091" h="638">
                  <a:moveTo>
                    <a:pt x="471" y="613"/>
                  </a:moveTo>
                  <a:lnTo>
                    <a:pt x="478" y="613"/>
                  </a:lnTo>
                  <a:lnTo>
                    <a:pt x="489" y="609"/>
                  </a:lnTo>
                  <a:lnTo>
                    <a:pt x="493" y="609"/>
                  </a:lnTo>
                  <a:lnTo>
                    <a:pt x="500" y="605"/>
                  </a:lnTo>
                  <a:lnTo>
                    <a:pt x="503" y="598"/>
                  </a:lnTo>
                  <a:lnTo>
                    <a:pt x="507" y="594"/>
                  </a:lnTo>
                  <a:lnTo>
                    <a:pt x="507" y="591"/>
                  </a:lnTo>
                  <a:lnTo>
                    <a:pt x="511" y="584"/>
                  </a:lnTo>
                  <a:lnTo>
                    <a:pt x="511" y="576"/>
                  </a:lnTo>
                  <a:lnTo>
                    <a:pt x="507" y="569"/>
                  </a:lnTo>
                  <a:lnTo>
                    <a:pt x="507" y="562"/>
                  </a:lnTo>
                  <a:lnTo>
                    <a:pt x="503" y="555"/>
                  </a:lnTo>
                  <a:lnTo>
                    <a:pt x="496" y="547"/>
                  </a:lnTo>
                  <a:lnTo>
                    <a:pt x="493" y="536"/>
                  </a:lnTo>
                  <a:lnTo>
                    <a:pt x="485" y="529"/>
                  </a:lnTo>
                  <a:lnTo>
                    <a:pt x="478" y="518"/>
                  </a:lnTo>
                  <a:lnTo>
                    <a:pt x="471" y="515"/>
                  </a:lnTo>
                  <a:lnTo>
                    <a:pt x="467" y="507"/>
                  </a:lnTo>
                  <a:lnTo>
                    <a:pt x="467" y="504"/>
                  </a:lnTo>
                  <a:lnTo>
                    <a:pt x="464" y="497"/>
                  </a:lnTo>
                  <a:lnTo>
                    <a:pt x="460" y="486"/>
                  </a:lnTo>
                  <a:lnTo>
                    <a:pt x="456" y="475"/>
                  </a:lnTo>
                  <a:lnTo>
                    <a:pt x="456" y="464"/>
                  </a:lnTo>
                  <a:lnTo>
                    <a:pt x="460" y="449"/>
                  </a:lnTo>
                  <a:lnTo>
                    <a:pt x="464" y="438"/>
                  </a:lnTo>
                  <a:lnTo>
                    <a:pt x="471" y="428"/>
                  </a:lnTo>
                  <a:lnTo>
                    <a:pt x="478" y="417"/>
                  </a:lnTo>
                  <a:lnTo>
                    <a:pt x="485" y="409"/>
                  </a:lnTo>
                  <a:lnTo>
                    <a:pt x="496" y="399"/>
                  </a:lnTo>
                  <a:lnTo>
                    <a:pt x="507" y="391"/>
                  </a:lnTo>
                  <a:lnTo>
                    <a:pt x="518" y="388"/>
                  </a:lnTo>
                  <a:lnTo>
                    <a:pt x="532" y="380"/>
                  </a:lnTo>
                  <a:lnTo>
                    <a:pt x="543" y="377"/>
                  </a:lnTo>
                  <a:lnTo>
                    <a:pt x="558" y="377"/>
                  </a:lnTo>
                  <a:lnTo>
                    <a:pt x="572" y="377"/>
                  </a:lnTo>
                  <a:lnTo>
                    <a:pt x="583" y="380"/>
                  </a:lnTo>
                  <a:lnTo>
                    <a:pt x="598" y="388"/>
                  </a:lnTo>
                  <a:lnTo>
                    <a:pt x="605" y="391"/>
                  </a:lnTo>
                  <a:lnTo>
                    <a:pt x="616" y="402"/>
                  </a:lnTo>
                  <a:lnTo>
                    <a:pt x="623" y="409"/>
                  </a:lnTo>
                  <a:lnTo>
                    <a:pt x="630" y="417"/>
                  </a:lnTo>
                  <a:lnTo>
                    <a:pt x="638" y="428"/>
                  </a:lnTo>
                  <a:lnTo>
                    <a:pt x="641" y="442"/>
                  </a:lnTo>
                  <a:lnTo>
                    <a:pt x="645" y="453"/>
                  </a:lnTo>
                  <a:lnTo>
                    <a:pt x="649" y="464"/>
                  </a:lnTo>
                  <a:lnTo>
                    <a:pt x="649" y="475"/>
                  </a:lnTo>
                  <a:lnTo>
                    <a:pt x="645" y="486"/>
                  </a:lnTo>
                  <a:lnTo>
                    <a:pt x="641" y="497"/>
                  </a:lnTo>
                  <a:lnTo>
                    <a:pt x="638" y="507"/>
                  </a:lnTo>
                  <a:lnTo>
                    <a:pt x="630" y="515"/>
                  </a:lnTo>
                  <a:lnTo>
                    <a:pt x="616" y="529"/>
                  </a:lnTo>
                  <a:lnTo>
                    <a:pt x="601" y="544"/>
                  </a:lnTo>
                  <a:lnTo>
                    <a:pt x="598" y="551"/>
                  </a:lnTo>
                  <a:lnTo>
                    <a:pt x="594" y="558"/>
                  </a:lnTo>
                  <a:lnTo>
                    <a:pt x="591" y="562"/>
                  </a:lnTo>
                  <a:lnTo>
                    <a:pt x="587" y="569"/>
                  </a:lnTo>
                  <a:lnTo>
                    <a:pt x="587" y="576"/>
                  </a:lnTo>
                  <a:lnTo>
                    <a:pt x="587" y="580"/>
                  </a:lnTo>
                  <a:lnTo>
                    <a:pt x="587" y="587"/>
                  </a:lnTo>
                  <a:lnTo>
                    <a:pt x="587" y="591"/>
                  </a:lnTo>
                  <a:lnTo>
                    <a:pt x="591" y="594"/>
                  </a:lnTo>
                  <a:lnTo>
                    <a:pt x="594" y="602"/>
                  </a:lnTo>
                  <a:lnTo>
                    <a:pt x="598" y="605"/>
                  </a:lnTo>
                  <a:lnTo>
                    <a:pt x="605" y="613"/>
                  </a:lnTo>
                  <a:lnTo>
                    <a:pt x="616" y="616"/>
                  </a:lnTo>
                  <a:lnTo>
                    <a:pt x="623" y="623"/>
                  </a:lnTo>
                  <a:lnTo>
                    <a:pt x="638" y="627"/>
                  </a:lnTo>
                  <a:lnTo>
                    <a:pt x="652" y="631"/>
                  </a:lnTo>
                  <a:lnTo>
                    <a:pt x="670" y="634"/>
                  </a:lnTo>
                  <a:lnTo>
                    <a:pt x="685" y="634"/>
                  </a:lnTo>
                  <a:lnTo>
                    <a:pt x="703" y="638"/>
                  </a:lnTo>
                  <a:lnTo>
                    <a:pt x="721" y="638"/>
                  </a:lnTo>
                  <a:lnTo>
                    <a:pt x="739" y="638"/>
                  </a:lnTo>
                  <a:lnTo>
                    <a:pt x="757" y="638"/>
                  </a:lnTo>
                  <a:lnTo>
                    <a:pt x="779" y="634"/>
                  </a:lnTo>
                  <a:lnTo>
                    <a:pt x="794" y="634"/>
                  </a:lnTo>
                  <a:lnTo>
                    <a:pt x="812" y="631"/>
                  </a:lnTo>
                  <a:lnTo>
                    <a:pt x="830" y="627"/>
                  </a:lnTo>
                  <a:lnTo>
                    <a:pt x="841" y="620"/>
                  </a:lnTo>
                  <a:lnTo>
                    <a:pt x="855" y="613"/>
                  </a:lnTo>
                  <a:lnTo>
                    <a:pt x="859" y="605"/>
                  </a:lnTo>
                  <a:lnTo>
                    <a:pt x="859" y="598"/>
                  </a:lnTo>
                  <a:lnTo>
                    <a:pt x="862" y="594"/>
                  </a:lnTo>
                  <a:lnTo>
                    <a:pt x="862" y="587"/>
                  </a:lnTo>
                  <a:lnTo>
                    <a:pt x="862" y="573"/>
                  </a:lnTo>
                  <a:lnTo>
                    <a:pt x="862" y="558"/>
                  </a:lnTo>
                  <a:lnTo>
                    <a:pt x="862" y="540"/>
                  </a:lnTo>
                  <a:lnTo>
                    <a:pt x="862" y="522"/>
                  </a:lnTo>
                  <a:lnTo>
                    <a:pt x="859" y="507"/>
                  </a:lnTo>
                  <a:lnTo>
                    <a:pt x="855" y="489"/>
                  </a:lnTo>
                  <a:lnTo>
                    <a:pt x="848" y="457"/>
                  </a:lnTo>
                  <a:lnTo>
                    <a:pt x="841" y="424"/>
                  </a:lnTo>
                  <a:lnTo>
                    <a:pt x="841" y="409"/>
                  </a:lnTo>
                  <a:lnTo>
                    <a:pt x="841" y="395"/>
                  </a:lnTo>
                  <a:lnTo>
                    <a:pt x="841" y="384"/>
                  </a:lnTo>
                  <a:lnTo>
                    <a:pt x="844" y="373"/>
                  </a:lnTo>
                  <a:lnTo>
                    <a:pt x="848" y="366"/>
                  </a:lnTo>
                  <a:lnTo>
                    <a:pt x="852" y="355"/>
                  </a:lnTo>
                  <a:lnTo>
                    <a:pt x="859" y="348"/>
                  </a:lnTo>
                  <a:lnTo>
                    <a:pt x="866" y="344"/>
                  </a:lnTo>
                  <a:lnTo>
                    <a:pt x="873" y="337"/>
                  </a:lnTo>
                  <a:lnTo>
                    <a:pt x="881" y="330"/>
                  </a:lnTo>
                  <a:lnTo>
                    <a:pt x="891" y="326"/>
                  </a:lnTo>
                  <a:lnTo>
                    <a:pt x="899" y="322"/>
                  </a:lnTo>
                  <a:lnTo>
                    <a:pt x="906" y="322"/>
                  </a:lnTo>
                  <a:lnTo>
                    <a:pt x="917" y="319"/>
                  </a:lnTo>
                  <a:lnTo>
                    <a:pt x="924" y="319"/>
                  </a:lnTo>
                  <a:lnTo>
                    <a:pt x="935" y="322"/>
                  </a:lnTo>
                  <a:lnTo>
                    <a:pt x="942" y="322"/>
                  </a:lnTo>
                  <a:lnTo>
                    <a:pt x="949" y="330"/>
                  </a:lnTo>
                  <a:lnTo>
                    <a:pt x="957" y="333"/>
                  </a:lnTo>
                  <a:lnTo>
                    <a:pt x="964" y="341"/>
                  </a:lnTo>
                  <a:lnTo>
                    <a:pt x="971" y="348"/>
                  </a:lnTo>
                  <a:lnTo>
                    <a:pt x="978" y="351"/>
                  </a:lnTo>
                  <a:lnTo>
                    <a:pt x="986" y="359"/>
                  </a:lnTo>
                  <a:lnTo>
                    <a:pt x="997" y="362"/>
                  </a:lnTo>
                  <a:lnTo>
                    <a:pt x="1007" y="362"/>
                  </a:lnTo>
                  <a:lnTo>
                    <a:pt x="1018" y="362"/>
                  </a:lnTo>
                  <a:lnTo>
                    <a:pt x="1029" y="359"/>
                  </a:lnTo>
                  <a:lnTo>
                    <a:pt x="1040" y="355"/>
                  </a:lnTo>
                  <a:lnTo>
                    <a:pt x="1051" y="351"/>
                  </a:lnTo>
                  <a:lnTo>
                    <a:pt x="1058" y="344"/>
                  </a:lnTo>
                  <a:lnTo>
                    <a:pt x="1069" y="341"/>
                  </a:lnTo>
                  <a:lnTo>
                    <a:pt x="1076" y="333"/>
                  </a:lnTo>
                  <a:lnTo>
                    <a:pt x="1080" y="326"/>
                  </a:lnTo>
                  <a:lnTo>
                    <a:pt x="1087" y="315"/>
                  </a:lnTo>
                  <a:lnTo>
                    <a:pt x="1087" y="304"/>
                  </a:lnTo>
                  <a:lnTo>
                    <a:pt x="1091" y="297"/>
                  </a:lnTo>
                  <a:lnTo>
                    <a:pt x="1087" y="282"/>
                  </a:lnTo>
                  <a:lnTo>
                    <a:pt x="1087" y="268"/>
                  </a:lnTo>
                  <a:lnTo>
                    <a:pt x="1080" y="257"/>
                  </a:lnTo>
                  <a:lnTo>
                    <a:pt x="1076" y="246"/>
                  </a:lnTo>
                  <a:lnTo>
                    <a:pt x="1069" y="235"/>
                  </a:lnTo>
                  <a:lnTo>
                    <a:pt x="1058" y="228"/>
                  </a:lnTo>
                  <a:lnTo>
                    <a:pt x="1051" y="224"/>
                  </a:lnTo>
                  <a:lnTo>
                    <a:pt x="1040" y="217"/>
                  </a:lnTo>
                  <a:lnTo>
                    <a:pt x="1029" y="214"/>
                  </a:lnTo>
                  <a:lnTo>
                    <a:pt x="1018" y="210"/>
                  </a:lnTo>
                  <a:lnTo>
                    <a:pt x="1007" y="210"/>
                  </a:lnTo>
                  <a:lnTo>
                    <a:pt x="997" y="210"/>
                  </a:lnTo>
                  <a:lnTo>
                    <a:pt x="986" y="214"/>
                  </a:lnTo>
                  <a:lnTo>
                    <a:pt x="978" y="217"/>
                  </a:lnTo>
                  <a:lnTo>
                    <a:pt x="971" y="221"/>
                  </a:lnTo>
                  <a:lnTo>
                    <a:pt x="964" y="224"/>
                  </a:lnTo>
                  <a:lnTo>
                    <a:pt x="957" y="232"/>
                  </a:lnTo>
                  <a:lnTo>
                    <a:pt x="949" y="235"/>
                  </a:lnTo>
                  <a:lnTo>
                    <a:pt x="939" y="239"/>
                  </a:lnTo>
                  <a:lnTo>
                    <a:pt x="931" y="243"/>
                  </a:lnTo>
                  <a:lnTo>
                    <a:pt x="920" y="243"/>
                  </a:lnTo>
                  <a:lnTo>
                    <a:pt x="910" y="243"/>
                  </a:lnTo>
                  <a:lnTo>
                    <a:pt x="899" y="243"/>
                  </a:lnTo>
                  <a:lnTo>
                    <a:pt x="891" y="243"/>
                  </a:lnTo>
                  <a:lnTo>
                    <a:pt x="881" y="239"/>
                  </a:lnTo>
                  <a:lnTo>
                    <a:pt x="870" y="235"/>
                  </a:lnTo>
                  <a:lnTo>
                    <a:pt x="862" y="235"/>
                  </a:lnTo>
                  <a:lnTo>
                    <a:pt x="855" y="228"/>
                  </a:lnTo>
                  <a:lnTo>
                    <a:pt x="848" y="224"/>
                  </a:lnTo>
                  <a:lnTo>
                    <a:pt x="841" y="217"/>
                  </a:lnTo>
                  <a:lnTo>
                    <a:pt x="841" y="210"/>
                  </a:lnTo>
                  <a:lnTo>
                    <a:pt x="837" y="203"/>
                  </a:lnTo>
                  <a:lnTo>
                    <a:pt x="837" y="192"/>
                  </a:lnTo>
                  <a:lnTo>
                    <a:pt x="837" y="170"/>
                  </a:lnTo>
                  <a:lnTo>
                    <a:pt x="837" y="145"/>
                  </a:lnTo>
                  <a:lnTo>
                    <a:pt x="841" y="116"/>
                  </a:lnTo>
                  <a:lnTo>
                    <a:pt x="844" y="87"/>
                  </a:lnTo>
                  <a:lnTo>
                    <a:pt x="848" y="58"/>
                  </a:lnTo>
                  <a:lnTo>
                    <a:pt x="852" y="36"/>
                  </a:lnTo>
                  <a:lnTo>
                    <a:pt x="855" y="14"/>
                  </a:lnTo>
                  <a:lnTo>
                    <a:pt x="852" y="14"/>
                  </a:lnTo>
                  <a:lnTo>
                    <a:pt x="852" y="14"/>
                  </a:lnTo>
                  <a:lnTo>
                    <a:pt x="819" y="14"/>
                  </a:lnTo>
                  <a:lnTo>
                    <a:pt x="786" y="10"/>
                  </a:lnTo>
                  <a:lnTo>
                    <a:pt x="757" y="10"/>
                  </a:lnTo>
                  <a:lnTo>
                    <a:pt x="732" y="7"/>
                  </a:lnTo>
                  <a:lnTo>
                    <a:pt x="707" y="3"/>
                  </a:lnTo>
                  <a:lnTo>
                    <a:pt x="685" y="3"/>
                  </a:lnTo>
                  <a:lnTo>
                    <a:pt x="670" y="0"/>
                  </a:lnTo>
                  <a:lnTo>
                    <a:pt x="659" y="0"/>
                  </a:lnTo>
                  <a:lnTo>
                    <a:pt x="652" y="0"/>
                  </a:lnTo>
                  <a:lnTo>
                    <a:pt x="649" y="3"/>
                  </a:lnTo>
                  <a:lnTo>
                    <a:pt x="641" y="7"/>
                  </a:lnTo>
                  <a:lnTo>
                    <a:pt x="634" y="14"/>
                  </a:lnTo>
                  <a:lnTo>
                    <a:pt x="630" y="18"/>
                  </a:lnTo>
                  <a:lnTo>
                    <a:pt x="623" y="25"/>
                  </a:lnTo>
                  <a:lnTo>
                    <a:pt x="623" y="36"/>
                  </a:lnTo>
                  <a:lnTo>
                    <a:pt x="620" y="43"/>
                  </a:lnTo>
                  <a:lnTo>
                    <a:pt x="616" y="54"/>
                  </a:lnTo>
                  <a:lnTo>
                    <a:pt x="616" y="65"/>
                  </a:lnTo>
                  <a:lnTo>
                    <a:pt x="616" y="76"/>
                  </a:lnTo>
                  <a:lnTo>
                    <a:pt x="620" y="83"/>
                  </a:lnTo>
                  <a:lnTo>
                    <a:pt x="623" y="94"/>
                  </a:lnTo>
                  <a:lnTo>
                    <a:pt x="627" y="105"/>
                  </a:lnTo>
                  <a:lnTo>
                    <a:pt x="634" y="116"/>
                  </a:lnTo>
                  <a:lnTo>
                    <a:pt x="641" y="123"/>
                  </a:lnTo>
                  <a:lnTo>
                    <a:pt x="652" y="130"/>
                  </a:lnTo>
                  <a:lnTo>
                    <a:pt x="656" y="141"/>
                  </a:lnTo>
                  <a:lnTo>
                    <a:pt x="663" y="156"/>
                  </a:lnTo>
                  <a:lnTo>
                    <a:pt x="667" y="163"/>
                  </a:lnTo>
                  <a:lnTo>
                    <a:pt x="667" y="177"/>
                  </a:lnTo>
                  <a:lnTo>
                    <a:pt x="667" y="188"/>
                  </a:lnTo>
                  <a:lnTo>
                    <a:pt x="667" y="199"/>
                  </a:lnTo>
                  <a:lnTo>
                    <a:pt x="659" y="206"/>
                  </a:lnTo>
                  <a:lnTo>
                    <a:pt x="656" y="217"/>
                  </a:lnTo>
                  <a:lnTo>
                    <a:pt x="649" y="228"/>
                  </a:lnTo>
                  <a:lnTo>
                    <a:pt x="641" y="235"/>
                  </a:lnTo>
                  <a:lnTo>
                    <a:pt x="630" y="243"/>
                  </a:lnTo>
                  <a:lnTo>
                    <a:pt x="620" y="250"/>
                  </a:lnTo>
                  <a:lnTo>
                    <a:pt x="605" y="253"/>
                  </a:lnTo>
                  <a:lnTo>
                    <a:pt x="591" y="257"/>
                  </a:lnTo>
                  <a:lnTo>
                    <a:pt x="576" y="261"/>
                  </a:lnTo>
                  <a:lnTo>
                    <a:pt x="569" y="261"/>
                  </a:lnTo>
                  <a:lnTo>
                    <a:pt x="562" y="261"/>
                  </a:lnTo>
                  <a:lnTo>
                    <a:pt x="554" y="257"/>
                  </a:lnTo>
                  <a:lnTo>
                    <a:pt x="547" y="257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29" y="246"/>
                  </a:lnTo>
                  <a:lnTo>
                    <a:pt x="522" y="243"/>
                  </a:lnTo>
                  <a:lnTo>
                    <a:pt x="511" y="235"/>
                  </a:lnTo>
                  <a:lnTo>
                    <a:pt x="503" y="228"/>
                  </a:lnTo>
                  <a:lnTo>
                    <a:pt x="496" y="217"/>
                  </a:lnTo>
                  <a:lnTo>
                    <a:pt x="493" y="206"/>
                  </a:lnTo>
                  <a:lnTo>
                    <a:pt x="489" y="195"/>
                  </a:lnTo>
                  <a:lnTo>
                    <a:pt x="489" y="181"/>
                  </a:lnTo>
                  <a:lnTo>
                    <a:pt x="485" y="170"/>
                  </a:lnTo>
                  <a:lnTo>
                    <a:pt x="489" y="159"/>
                  </a:lnTo>
                  <a:lnTo>
                    <a:pt x="489" y="145"/>
                  </a:lnTo>
                  <a:lnTo>
                    <a:pt x="496" y="137"/>
                  </a:lnTo>
                  <a:lnTo>
                    <a:pt x="500" y="127"/>
                  </a:lnTo>
                  <a:lnTo>
                    <a:pt x="507" y="119"/>
                  </a:lnTo>
                  <a:lnTo>
                    <a:pt x="514" y="112"/>
                  </a:lnTo>
                  <a:lnTo>
                    <a:pt x="518" y="105"/>
                  </a:lnTo>
                  <a:lnTo>
                    <a:pt x="522" y="98"/>
                  </a:lnTo>
                  <a:lnTo>
                    <a:pt x="525" y="90"/>
                  </a:lnTo>
                  <a:lnTo>
                    <a:pt x="529" y="83"/>
                  </a:lnTo>
                  <a:lnTo>
                    <a:pt x="529" y="76"/>
                  </a:lnTo>
                  <a:lnTo>
                    <a:pt x="529" y="68"/>
                  </a:lnTo>
                  <a:lnTo>
                    <a:pt x="525" y="61"/>
                  </a:lnTo>
                  <a:lnTo>
                    <a:pt x="522" y="54"/>
                  </a:lnTo>
                  <a:lnTo>
                    <a:pt x="518" y="47"/>
                  </a:lnTo>
                  <a:lnTo>
                    <a:pt x="511" y="39"/>
                  </a:lnTo>
                  <a:lnTo>
                    <a:pt x="500" y="36"/>
                  </a:lnTo>
                  <a:lnTo>
                    <a:pt x="489" y="29"/>
                  </a:lnTo>
                  <a:lnTo>
                    <a:pt x="478" y="25"/>
                  </a:lnTo>
                  <a:lnTo>
                    <a:pt x="464" y="18"/>
                  </a:lnTo>
                  <a:lnTo>
                    <a:pt x="445" y="14"/>
                  </a:lnTo>
                  <a:lnTo>
                    <a:pt x="427" y="14"/>
                  </a:lnTo>
                  <a:lnTo>
                    <a:pt x="402" y="10"/>
                  </a:lnTo>
                  <a:lnTo>
                    <a:pt x="373" y="10"/>
                  </a:lnTo>
                  <a:lnTo>
                    <a:pt x="344" y="14"/>
                  </a:lnTo>
                  <a:lnTo>
                    <a:pt x="311" y="14"/>
                  </a:lnTo>
                  <a:lnTo>
                    <a:pt x="282" y="18"/>
                  </a:lnTo>
                  <a:lnTo>
                    <a:pt x="257" y="21"/>
                  </a:lnTo>
                  <a:lnTo>
                    <a:pt x="239" y="25"/>
                  </a:lnTo>
                  <a:lnTo>
                    <a:pt x="242" y="47"/>
                  </a:lnTo>
                  <a:lnTo>
                    <a:pt x="253" y="72"/>
                  </a:lnTo>
                  <a:lnTo>
                    <a:pt x="261" y="105"/>
                  </a:lnTo>
                  <a:lnTo>
                    <a:pt x="268" y="137"/>
                  </a:lnTo>
                  <a:lnTo>
                    <a:pt x="268" y="152"/>
                  </a:lnTo>
                  <a:lnTo>
                    <a:pt x="271" y="170"/>
                  </a:lnTo>
                  <a:lnTo>
                    <a:pt x="271" y="185"/>
                  </a:lnTo>
                  <a:lnTo>
                    <a:pt x="271" y="199"/>
                  </a:lnTo>
                  <a:lnTo>
                    <a:pt x="271" y="210"/>
                  </a:lnTo>
                  <a:lnTo>
                    <a:pt x="268" y="221"/>
                  </a:lnTo>
                  <a:lnTo>
                    <a:pt x="264" y="224"/>
                  </a:lnTo>
                  <a:lnTo>
                    <a:pt x="264" y="232"/>
                  </a:lnTo>
                  <a:lnTo>
                    <a:pt x="261" y="235"/>
                  </a:lnTo>
                  <a:lnTo>
                    <a:pt x="257" y="235"/>
                  </a:lnTo>
                  <a:lnTo>
                    <a:pt x="253" y="243"/>
                  </a:lnTo>
                  <a:lnTo>
                    <a:pt x="242" y="246"/>
                  </a:lnTo>
                  <a:lnTo>
                    <a:pt x="239" y="250"/>
                  </a:lnTo>
                  <a:lnTo>
                    <a:pt x="228" y="253"/>
                  </a:lnTo>
                  <a:lnTo>
                    <a:pt x="221" y="257"/>
                  </a:lnTo>
                  <a:lnTo>
                    <a:pt x="213" y="257"/>
                  </a:lnTo>
                  <a:lnTo>
                    <a:pt x="206" y="257"/>
                  </a:lnTo>
                  <a:lnTo>
                    <a:pt x="199" y="257"/>
                  </a:lnTo>
                  <a:lnTo>
                    <a:pt x="192" y="257"/>
                  </a:lnTo>
                  <a:lnTo>
                    <a:pt x="184" y="257"/>
                  </a:lnTo>
                  <a:lnTo>
                    <a:pt x="177" y="253"/>
                  </a:lnTo>
                  <a:lnTo>
                    <a:pt x="170" y="253"/>
                  </a:lnTo>
                  <a:lnTo>
                    <a:pt x="163" y="250"/>
                  </a:lnTo>
                  <a:lnTo>
                    <a:pt x="155" y="246"/>
                  </a:lnTo>
                  <a:lnTo>
                    <a:pt x="152" y="243"/>
                  </a:lnTo>
                  <a:lnTo>
                    <a:pt x="148" y="235"/>
                  </a:lnTo>
                  <a:lnTo>
                    <a:pt x="141" y="232"/>
                  </a:lnTo>
                  <a:lnTo>
                    <a:pt x="130" y="224"/>
                  </a:lnTo>
                  <a:lnTo>
                    <a:pt x="119" y="221"/>
                  </a:lnTo>
                  <a:lnTo>
                    <a:pt x="108" y="217"/>
                  </a:lnTo>
                  <a:lnTo>
                    <a:pt x="97" y="217"/>
                  </a:lnTo>
                  <a:lnTo>
                    <a:pt x="87" y="217"/>
                  </a:lnTo>
                  <a:lnTo>
                    <a:pt x="72" y="217"/>
                  </a:lnTo>
                  <a:lnTo>
                    <a:pt x="61" y="221"/>
                  </a:lnTo>
                  <a:lnTo>
                    <a:pt x="50" y="224"/>
                  </a:lnTo>
                  <a:lnTo>
                    <a:pt x="39" y="232"/>
                  </a:lnTo>
                  <a:lnTo>
                    <a:pt x="29" y="243"/>
                  </a:lnTo>
                  <a:lnTo>
                    <a:pt x="18" y="250"/>
                  </a:lnTo>
                  <a:lnTo>
                    <a:pt x="14" y="257"/>
                  </a:lnTo>
                  <a:lnTo>
                    <a:pt x="10" y="261"/>
                  </a:lnTo>
                  <a:lnTo>
                    <a:pt x="10" y="268"/>
                  </a:lnTo>
                  <a:lnTo>
                    <a:pt x="7" y="275"/>
                  </a:lnTo>
                  <a:lnTo>
                    <a:pt x="3" y="282"/>
                  </a:lnTo>
                  <a:lnTo>
                    <a:pt x="3" y="290"/>
                  </a:lnTo>
                  <a:lnTo>
                    <a:pt x="0" y="301"/>
                  </a:lnTo>
                  <a:lnTo>
                    <a:pt x="0" y="308"/>
                  </a:lnTo>
                  <a:lnTo>
                    <a:pt x="0" y="315"/>
                  </a:lnTo>
                  <a:lnTo>
                    <a:pt x="3" y="322"/>
                  </a:lnTo>
                  <a:lnTo>
                    <a:pt x="3" y="330"/>
                  </a:lnTo>
                  <a:lnTo>
                    <a:pt x="7" y="333"/>
                  </a:lnTo>
                  <a:lnTo>
                    <a:pt x="7" y="341"/>
                  </a:lnTo>
                  <a:lnTo>
                    <a:pt x="10" y="344"/>
                  </a:lnTo>
                  <a:lnTo>
                    <a:pt x="14" y="351"/>
                  </a:lnTo>
                  <a:lnTo>
                    <a:pt x="18" y="355"/>
                  </a:lnTo>
                  <a:lnTo>
                    <a:pt x="25" y="366"/>
                  </a:lnTo>
                  <a:lnTo>
                    <a:pt x="36" y="373"/>
                  </a:lnTo>
                  <a:lnTo>
                    <a:pt x="47" y="377"/>
                  </a:lnTo>
                  <a:lnTo>
                    <a:pt x="58" y="380"/>
                  </a:lnTo>
                  <a:lnTo>
                    <a:pt x="68" y="384"/>
                  </a:lnTo>
                  <a:lnTo>
                    <a:pt x="79" y="388"/>
                  </a:lnTo>
                  <a:lnTo>
                    <a:pt x="94" y="388"/>
                  </a:lnTo>
                  <a:lnTo>
                    <a:pt x="105" y="388"/>
                  </a:lnTo>
                  <a:lnTo>
                    <a:pt x="112" y="384"/>
                  </a:lnTo>
                  <a:lnTo>
                    <a:pt x="123" y="380"/>
                  </a:lnTo>
                  <a:lnTo>
                    <a:pt x="130" y="377"/>
                  </a:lnTo>
                  <a:lnTo>
                    <a:pt x="134" y="370"/>
                  </a:lnTo>
                  <a:lnTo>
                    <a:pt x="141" y="366"/>
                  </a:lnTo>
                  <a:lnTo>
                    <a:pt x="148" y="362"/>
                  </a:lnTo>
                  <a:lnTo>
                    <a:pt x="155" y="359"/>
                  </a:lnTo>
                  <a:lnTo>
                    <a:pt x="163" y="355"/>
                  </a:lnTo>
                  <a:lnTo>
                    <a:pt x="170" y="355"/>
                  </a:lnTo>
                  <a:lnTo>
                    <a:pt x="181" y="355"/>
                  </a:lnTo>
                  <a:lnTo>
                    <a:pt x="188" y="359"/>
                  </a:lnTo>
                  <a:lnTo>
                    <a:pt x="195" y="359"/>
                  </a:lnTo>
                  <a:lnTo>
                    <a:pt x="206" y="362"/>
                  </a:lnTo>
                  <a:lnTo>
                    <a:pt x="213" y="366"/>
                  </a:lnTo>
                  <a:lnTo>
                    <a:pt x="217" y="370"/>
                  </a:lnTo>
                  <a:lnTo>
                    <a:pt x="224" y="377"/>
                  </a:lnTo>
                  <a:lnTo>
                    <a:pt x="228" y="384"/>
                  </a:lnTo>
                  <a:lnTo>
                    <a:pt x="235" y="388"/>
                  </a:lnTo>
                  <a:lnTo>
                    <a:pt x="235" y="395"/>
                  </a:lnTo>
                  <a:lnTo>
                    <a:pt x="239" y="402"/>
                  </a:lnTo>
                  <a:lnTo>
                    <a:pt x="235" y="420"/>
                  </a:lnTo>
                  <a:lnTo>
                    <a:pt x="235" y="442"/>
                  </a:lnTo>
                  <a:lnTo>
                    <a:pt x="232" y="467"/>
                  </a:lnTo>
                  <a:lnTo>
                    <a:pt x="232" y="497"/>
                  </a:lnTo>
                  <a:lnTo>
                    <a:pt x="228" y="529"/>
                  </a:lnTo>
                  <a:lnTo>
                    <a:pt x="228" y="558"/>
                  </a:lnTo>
                  <a:lnTo>
                    <a:pt x="232" y="573"/>
                  </a:lnTo>
                  <a:lnTo>
                    <a:pt x="232" y="587"/>
                  </a:lnTo>
                  <a:lnTo>
                    <a:pt x="235" y="598"/>
                  </a:lnTo>
                  <a:lnTo>
                    <a:pt x="239" y="613"/>
                  </a:lnTo>
                  <a:lnTo>
                    <a:pt x="242" y="616"/>
                  </a:lnTo>
                  <a:lnTo>
                    <a:pt x="253" y="616"/>
                  </a:lnTo>
                  <a:lnTo>
                    <a:pt x="264" y="620"/>
                  </a:lnTo>
                  <a:lnTo>
                    <a:pt x="275" y="620"/>
                  </a:lnTo>
                  <a:lnTo>
                    <a:pt x="304" y="620"/>
                  </a:lnTo>
                  <a:lnTo>
                    <a:pt x="333" y="620"/>
                  </a:lnTo>
                  <a:lnTo>
                    <a:pt x="369" y="616"/>
                  </a:lnTo>
                  <a:lnTo>
                    <a:pt x="402" y="616"/>
                  </a:lnTo>
                  <a:lnTo>
                    <a:pt x="438" y="613"/>
                  </a:lnTo>
                  <a:lnTo>
                    <a:pt x="471" y="613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19200" y="673200"/>
              <a:ext cx="2168280" cy="1298160"/>
            </a:xfrm>
            <a:custGeom>
              <a:avLst/>
              <a:gdLst/>
              <a:ahLst/>
              <a:rect l="l" t="t" r="r" b="b"/>
              <a:pathLst>
                <a:path w="1102" h="649">
                  <a:moveTo>
                    <a:pt x="482" y="624"/>
                  </a:moveTo>
                  <a:lnTo>
                    <a:pt x="486" y="624"/>
                  </a:lnTo>
                  <a:lnTo>
                    <a:pt x="486" y="624"/>
                  </a:lnTo>
                  <a:lnTo>
                    <a:pt x="497" y="620"/>
                  </a:lnTo>
                  <a:lnTo>
                    <a:pt x="493" y="613"/>
                  </a:lnTo>
                  <a:lnTo>
                    <a:pt x="493" y="620"/>
                  </a:lnTo>
                  <a:lnTo>
                    <a:pt x="497" y="620"/>
                  </a:lnTo>
                  <a:lnTo>
                    <a:pt x="500" y="620"/>
                  </a:lnTo>
                  <a:lnTo>
                    <a:pt x="500" y="620"/>
                  </a:lnTo>
                  <a:lnTo>
                    <a:pt x="507" y="617"/>
                  </a:lnTo>
                  <a:lnTo>
                    <a:pt x="507" y="613"/>
                  </a:lnTo>
                  <a:lnTo>
                    <a:pt x="511" y="613"/>
                  </a:lnTo>
                  <a:lnTo>
                    <a:pt x="515" y="606"/>
                  </a:lnTo>
                  <a:lnTo>
                    <a:pt x="507" y="602"/>
                  </a:lnTo>
                  <a:lnTo>
                    <a:pt x="511" y="606"/>
                  </a:lnTo>
                  <a:lnTo>
                    <a:pt x="515" y="602"/>
                  </a:lnTo>
                  <a:lnTo>
                    <a:pt x="518" y="602"/>
                  </a:lnTo>
                  <a:lnTo>
                    <a:pt x="518" y="598"/>
                  </a:lnTo>
                  <a:lnTo>
                    <a:pt x="518" y="595"/>
                  </a:lnTo>
                  <a:lnTo>
                    <a:pt x="511" y="595"/>
                  </a:lnTo>
                  <a:lnTo>
                    <a:pt x="518" y="598"/>
                  </a:lnTo>
                  <a:lnTo>
                    <a:pt x="522" y="591"/>
                  </a:lnTo>
                  <a:lnTo>
                    <a:pt x="522" y="591"/>
                  </a:lnTo>
                  <a:lnTo>
                    <a:pt x="522" y="588"/>
                  </a:lnTo>
                  <a:lnTo>
                    <a:pt x="522" y="580"/>
                  </a:lnTo>
                  <a:lnTo>
                    <a:pt x="522" y="580"/>
                  </a:lnTo>
                  <a:lnTo>
                    <a:pt x="522" y="580"/>
                  </a:lnTo>
                  <a:lnTo>
                    <a:pt x="518" y="573"/>
                  </a:lnTo>
                  <a:lnTo>
                    <a:pt x="511" y="573"/>
                  </a:lnTo>
                  <a:lnTo>
                    <a:pt x="518" y="573"/>
                  </a:lnTo>
                  <a:lnTo>
                    <a:pt x="518" y="566"/>
                  </a:lnTo>
                  <a:lnTo>
                    <a:pt x="518" y="566"/>
                  </a:lnTo>
                  <a:lnTo>
                    <a:pt x="518" y="566"/>
                  </a:lnTo>
                  <a:lnTo>
                    <a:pt x="515" y="559"/>
                  </a:lnTo>
                  <a:lnTo>
                    <a:pt x="515" y="559"/>
                  </a:lnTo>
                  <a:lnTo>
                    <a:pt x="511" y="555"/>
                  </a:lnTo>
                  <a:lnTo>
                    <a:pt x="504" y="548"/>
                  </a:lnTo>
                  <a:lnTo>
                    <a:pt x="500" y="551"/>
                  </a:lnTo>
                  <a:lnTo>
                    <a:pt x="507" y="551"/>
                  </a:lnTo>
                  <a:lnTo>
                    <a:pt x="504" y="540"/>
                  </a:lnTo>
                  <a:lnTo>
                    <a:pt x="504" y="540"/>
                  </a:lnTo>
                  <a:lnTo>
                    <a:pt x="500" y="537"/>
                  </a:lnTo>
                  <a:lnTo>
                    <a:pt x="493" y="530"/>
                  </a:lnTo>
                  <a:lnTo>
                    <a:pt x="489" y="533"/>
                  </a:lnTo>
                  <a:lnTo>
                    <a:pt x="497" y="533"/>
                  </a:lnTo>
                  <a:lnTo>
                    <a:pt x="489" y="522"/>
                  </a:lnTo>
                  <a:lnTo>
                    <a:pt x="486" y="519"/>
                  </a:lnTo>
                  <a:lnTo>
                    <a:pt x="486" y="519"/>
                  </a:lnTo>
                  <a:lnTo>
                    <a:pt x="478" y="515"/>
                  </a:lnTo>
                  <a:lnTo>
                    <a:pt x="475" y="519"/>
                  </a:lnTo>
                  <a:lnTo>
                    <a:pt x="482" y="519"/>
                  </a:lnTo>
                  <a:lnTo>
                    <a:pt x="478" y="511"/>
                  </a:lnTo>
                  <a:lnTo>
                    <a:pt x="471" y="511"/>
                  </a:lnTo>
                  <a:lnTo>
                    <a:pt x="478" y="511"/>
                  </a:lnTo>
                  <a:lnTo>
                    <a:pt x="478" y="508"/>
                  </a:lnTo>
                  <a:lnTo>
                    <a:pt x="478" y="508"/>
                  </a:lnTo>
                  <a:lnTo>
                    <a:pt x="478" y="508"/>
                  </a:lnTo>
                  <a:lnTo>
                    <a:pt x="475" y="501"/>
                  </a:lnTo>
                  <a:lnTo>
                    <a:pt x="471" y="490"/>
                  </a:lnTo>
                  <a:lnTo>
                    <a:pt x="468" y="479"/>
                  </a:lnTo>
                  <a:lnTo>
                    <a:pt x="460" y="479"/>
                  </a:lnTo>
                  <a:lnTo>
                    <a:pt x="468" y="479"/>
                  </a:lnTo>
                  <a:lnTo>
                    <a:pt x="468" y="468"/>
                  </a:lnTo>
                  <a:lnTo>
                    <a:pt x="460" y="468"/>
                  </a:lnTo>
                  <a:lnTo>
                    <a:pt x="468" y="471"/>
                  </a:lnTo>
                  <a:lnTo>
                    <a:pt x="471" y="457"/>
                  </a:lnTo>
                  <a:lnTo>
                    <a:pt x="475" y="446"/>
                  </a:lnTo>
                  <a:lnTo>
                    <a:pt x="482" y="435"/>
                  </a:lnTo>
                  <a:lnTo>
                    <a:pt x="489" y="424"/>
                  </a:lnTo>
                  <a:lnTo>
                    <a:pt x="482" y="421"/>
                  </a:lnTo>
                  <a:lnTo>
                    <a:pt x="486" y="424"/>
                  </a:lnTo>
                  <a:lnTo>
                    <a:pt x="493" y="417"/>
                  </a:lnTo>
                  <a:lnTo>
                    <a:pt x="504" y="406"/>
                  </a:lnTo>
                  <a:lnTo>
                    <a:pt x="500" y="403"/>
                  </a:lnTo>
                  <a:lnTo>
                    <a:pt x="504" y="410"/>
                  </a:lnTo>
                  <a:lnTo>
                    <a:pt x="515" y="403"/>
                  </a:lnTo>
                  <a:lnTo>
                    <a:pt x="526" y="399"/>
                  </a:lnTo>
                  <a:lnTo>
                    <a:pt x="540" y="392"/>
                  </a:lnTo>
                  <a:lnTo>
                    <a:pt x="551" y="388"/>
                  </a:lnTo>
                  <a:lnTo>
                    <a:pt x="547" y="381"/>
                  </a:lnTo>
                  <a:lnTo>
                    <a:pt x="547" y="388"/>
                  </a:lnTo>
                  <a:lnTo>
                    <a:pt x="562" y="388"/>
                  </a:lnTo>
                  <a:lnTo>
                    <a:pt x="576" y="388"/>
                  </a:lnTo>
                  <a:lnTo>
                    <a:pt x="576" y="381"/>
                  </a:lnTo>
                  <a:lnTo>
                    <a:pt x="576" y="388"/>
                  </a:lnTo>
                  <a:lnTo>
                    <a:pt x="587" y="392"/>
                  </a:lnTo>
                  <a:lnTo>
                    <a:pt x="602" y="399"/>
                  </a:lnTo>
                  <a:lnTo>
                    <a:pt x="609" y="403"/>
                  </a:lnTo>
                  <a:lnTo>
                    <a:pt x="609" y="395"/>
                  </a:lnTo>
                  <a:lnTo>
                    <a:pt x="605" y="399"/>
                  </a:lnTo>
                  <a:lnTo>
                    <a:pt x="616" y="410"/>
                  </a:lnTo>
                  <a:lnTo>
                    <a:pt x="624" y="417"/>
                  </a:lnTo>
                  <a:lnTo>
                    <a:pt x="631" y="424"/>
                  </a:lnTo>
                  <a:lnTo>
                    <a:pt x="634" y="421"/>
                  </a:lnTo>
                  <a:lnTo>
                    <a:pt x="631" y="424"/>
                  </a:lnTo>
                  <a:lnTo>
                    <a:pt x="638" y="435"/>
                  </a:lnTo>
                  <a:lnTo>
                    <a:pt x="642" y="450"/>
                  </a:lnTo>
                  <a:lnTo>
                    <a:pt x="645" y="461"/>
                  </a:lnTo>
                  <a:lnTo>
                    <a:pt x="649" y="471"/>
                  </a:lnTo>
                  <a:lnTo>
                    <a:pt x="653" y="468"/>
                  </a:lnTo>
                  <a:lnTo>
                    <a:pt x="649" y="468"/>
                  </a:lnTo>
                  <a:lnTo>
                    <a:pt x="649" y="479"/>
                  </a:lnTo>
                  <a:lnTo>
                    <a:pt x="653" y="479"/>
                  </a:lnTo>
                  <a:lnTo>
                    <a:pt x="649" y="479"/>
                  </a:lnTo>
                  <a:lnTo>
                    <a:pt x="645" y="490"/>
                  </a:lnTo>
                  <a:lnTo>
                    <a:pt x="642" y="501"/>
                  </a:lnTo>
                  <a:lnTo>
                    <a:pt x="638" y="511"/>
                  </a:lnTo>
                  <a:lnTo>
                    <a:pt x="642" y="511"/>
                  </a:lnTo>
                  <a:lnTo>
                    <a:pt x="638" y="508"/>
                  </a:lnTo>
                  <a:lnTo>
                    <a:pt x="631" y="515"/>
                  </a:lnTo>
                  <a:lnTo>
                    <a:pt x="616" y="530"/>
                  </a:lnTo>
                  <a:lnTo>
                    <a:pt x="602" y="544"/>
                  </a:lnTo>
                  <a:lnTo>
                    <a:pt x="602" y="548"/>
                  </a:lnTo>
                  <a:lnTo>
                    <a:pt x="602" y="548"/>
                  </a:lnTo>
                  <a:lnTo>
                    <a:pt x="598" y="555"/>
                  </a:lnTo>
                  <a:lnTo>
                    <a:pt x="595" y="562"/>
                  </a:lnTo>
                  <a:lnTo>
                    <a:pt x="598" y="562"/>
                  </a:lnTo>
                  <a:lnTo>
                    <a:pt x="595" y="559"/>
                  </a:lnTo>
                  <a:lnTo>
                    <a:pt x="591" y="562"/>
                  </a:lnTo>
                  <a:lnTo>
                    <a:pt x="591" y="566"/>
                  </a:lnTo>
                  <a:lnTo>
                    <a:pt x="591" y="566"/>
                  </a:lnTo>
                  <a:lnTo>
                    <a:pt x="587" y="573"/>
                  </a:lnTo>
                  <a:lnTo>
                    <a:pt x="587" y="573"/>
                  </a:lnTo>
                  <a:lnTo>
                    <a:pt x="587" y="573"/>
                  </a:lnTo>
                  <a:lnTo>
                    <a:pt x="587" y="580"/>
                  </a:lnTo>
                  <a:lnTo>
                    <a:pt x="587" y="584"/>
                  </a:lnTo>
                  <a:lnTo>
                    <a:pt x="587" y="591"/>
                  </a:lnTo>
                  <a:lnTo>
                    <a:pt x="587" y="595"/>
                  </a:lnTo>
                  <a:lnTo>
                    <a:pt x="587" y="598"/>
                  </a:lnTo>
                  <a:lnTo>
                    <a:pt x="587" y="598"/>
                  </a:lnTo>
                  <a:lnTo>
                    <a:pt x="591" y="602"/>
                  </a:lnTo>
                  <a:lnTo>
                    <a:pt x="595" y="598"/>
                  </a:lnTo>
                  <a:lnTo>
                    <a:pt x="591" y="602"/>
                  </a:lnTo>
                  <a:lnTo>
                    <a:pt x="595" y="609"/>
                  </a:lnTo>
                  <a:lnTo>
                    <a:pt x="595" y="609"/>
                  </a:lnTo>
                  <a:lnTo>
                    <a:pt x="595" y="609"/>
                  </a:lnTo>
                  <a:lnTo>
                    <a:pt x="598" y="613"/>
                  </a:lnTo>
                  <a:lnTo>
                    <a:pt x="605" y="620"/>
                  </a:lnTo>
                  <a:lnTo>
                    <a:pt x="609" y="624"/>
                  </a:lnTo>
                  <a:lnTo>
                    <a:pt x="609" y="624"/>
                  </a:lnTo>
                  <a:lnTo>
                    <a:pt x="620" y="627"/>
                  </a:lnTo>
                  <a:lnTo>
                    <a:pt x="620" y="620"/>
                  </a:lnTo>
                  <a:lnTo>
                    <a:pt x="616" y="624"/>
                  </a:lnTo>
                  <a:lnTo>
                    <a:pt x="624" y="631"/>
                  </a:lnTo>
                  <a:lnTo>
                    <a:pt x="624" y="631"/>
                  </a:lnTo>
                  <a:lnTo>
                    <a:pt x="627" y="635"/>
                  </a:lnTo>
                  <a:lnTo>
                    <a:pt x="642" y="638"/>
                  </a:lnTo>
                  <a:lnTo>
                    <a:pt x="656" y="642"/>
                  </a:lnTo>
                  <a:lnTo>
                    <a:pt x="674" y="646"/>
                  </a:lnTo>
                  <a:lnTo>
                    <a:pt x="689" y="646"/>
                  </a:lnTo>
                  <a:lnTo>
                    <a:pt x="707" y="649"/>
                  </a:lnTo>
                  <a:lnTo>
                    <a:pt x="725" y="649"/>
                  </a:lnTo>
                  <a:lnTo>
                    <a:pt x="743" y="649"/>
                  </a:lnTo>
                  <a:lnTo>
                    <a:pt x="761" y="649"/>
                  </a:lnTo>
                  <a:lnTo>
                    <a:pt x="783" y="646"/>
                  </a:lnTo>
                  <a:lnTo>
                    <a:pt x="798" y="646"/>
                  </a:lnTo>
                  <a:lnTo>
                    <a:pt x="816" y="642"/>
                  </a:lnTo>
                  <a:lnTo>
                    <a:pt x="834" y="638"/>
                  </a:lnTo>
                  <a:lnTo>
                    <a:pt x="837" y="635"/>
                  </a:lnTo>
                  <a:lnTo>
                    <a:pt x="837" y="638"/>
                  </a:lnTo>
                  <a:lnTo>
                    <a:pt x="848" y="631"/>
                  </a:lnTo>
                  <a:lnTo>
                    <a:pt x="863" y="624"/>
                  </a:lnTo>
                  <a:lnTo>
                    <a:pt x="863" y="620"/>
                  </a:lnTo>
                  <a:lnTo>
                    <a:pt x="866" y="620"/>
                  </a:lnTo>
                  <a:lnTo>
                    <a:pt x="870" y="613"/>
                  </a:lnTo>
                  <a:lnTo>
                    <a:pt x="870" y="613"/>
                  </a:lnTo>
                  <a:lnTo>
                    <a:pt x="870" y="609"/>
                  </a:lnTo>
                  <a:lnTo>
                    <a:pt x="870" y="602"/>
                  </a:lnTo>
                  <a:lnTo>
                    <a:pt x="863" y="602"/>
                  </a:lnTo>
                  <a:lnTo>
                    <a:pt x="866" y="606"/>
                  </a:lnTo>
                  <a:lnTo>
                    <a:pt x="870" y="602"/>
                  </a:lnTo>
                  <a:lnTo>
                    <a:pt x="874" y="602"/>
                  </a:lnTo>
                  <a:lnTo>
                    <a:pt x="874" y="598"/>
                  </a:lnTo>
                  <a:lnTo>
                    <a:pt x="874" y="591"/>
                  </a:lnTo>
                  <a:lnTo>
                    <a:pt x="874" y="577"/>
                  </a:lnTo>
                  <a:lnTo>
                    <a:pt x="874" y="562"/>
                  </a:lnTo>
                  <a:lnTo>
                    <a:pt x="874" y="544"/>
                  </a:lnTo>
                  <a:lnTo>
                    <a:pt x="874" y="526"/>
                  </a:lnTo>
                  <a:lnTo>
                    <a:pt x="874" y="526"/>
                  </a:lnTo>
                  <a:lnTo>
                    <a:pt x="874" y="526"/>
                  </a:lnTo>
                  <a:lnTo>
                    <a:pt x="870" y="511"/>
                  </a:lnTo>
                  <a:lnTo>
                    <a:pt x="863" y="511"/>
                  </a:lnTo>
                  <a:lnTo>
                    <a:pt x="870" y="511"/>
                  </a:lnTo>
                  <a:lnTo>
                    <a:pt x="866" y="493"/>
                  </a:lnTo>
                  <a:lnTo>
                    <a:pt x="863" y="475"/>
                  </a:lnTo>
                  <a:lnTo>
                    <a:pt x="866" y="493"/>
                  </a:lnTo>
                  <a:lnTo>
                    <a:pt x="859" y="461"/>
                  </a:lnTo>
                  <a:lnTo>
                    <a:pt x="852" y="428"/>
                  </a:lnTo>
                  <a:lnTo>
                    <a:pt x="845" y="428"/>
                  </a:lnTo>
                  <a:lnTo>
                    <a:pt x="852" y="428"/>
                  </a:lnTo>
                  <a:lnTo>
                    <a:pt x="852" y="413"/>
                  </a:lnTo>
                  <a:lnTo>
                    <a:pt x="852" y="399"/>
                  </a:lnTo>
                  <a:lnTo>
                    <a:pt x="852" y="388"/>
                  </a:lnTo>
                  <a:lnTo>
                    <a:pt x="845" y="388"/>
                  </a:lnTo>
                  <a:lnTo>
                    <a:pt x="852" y="392"/>
                  </a:lnTo>
                  <a:lnTo>
                    <a:pt x="856" y="381"/>
                  </a:lnTo>
                  <a:lnTo>
                    <a:pt x="859" y="374"/>
                  </a:lnTo>
                  <a:lnTo>
                    <a:pt x="863" y="363"/>
                  </a:lnTo>
                  <a:lnTo>
                    <a:pt x="856" y="359"/>
                  </a:lnTo>
                  <a:lnTo>
                    <a:pt x="859" y="363"/>
                  </a:lnTo>
                  <a:lnTo>
                    <a:pt x="866" y="355"/>
                  </a:lnTo>
                  <a:lnTo>
                    <a:pt x="863" y="352"/>
                  </a:lnTo>
                  <a:lnTo>
                    <a:pt x="866" y="359"/>
                  </a:lnTo>
                  <a:lnTo>
                    <a:pt x="874" y="355"/>
                  </a:lnTo>
                  <a:lnTo>
                    <a:pt x="874" y="355"/>
                  </a:lnTo>
                  <a:lnTo>
                    <a:pt x="874" y="352"/>
                  </a:lnTo>
                  <a:lnTo>
                    <a:pt x="881" y="345"/>
                  </a:lnTo>
                  <a:lnTo>
                    <a:pt x="888" y="337"/>
                  </a:lnTo>
                  <a:lnTo>
                    <a:pt x="885" y="334"/>
                  </a:lnTo>
                  <a:lnTo>
                    <a:pt x="888" y="341"/>
                  </a:lnTo>
                  <a:lnTo>
                    <a:pt x="899" y="337"/>
                  </a:lnTo>
                  <a:lnTo>
                    <a:pt x="906" y="334"/>
                  </a:lnTo>
                  <a:lnTo>
                    <a:pt x="903" y="326"/>
                  </a:lnTo>
                  <a:lnTo>
                    <a:pt x="903" y="334"/>
                  </a:lnTo>
                  <a:lnTo>
                    <a:pt x="910" y="334"/>
                  </a:lnTo>
                  <a:lnTo>
                    <a:pt x="914" y="334"/>
                  </a:lnTo>
                  <a:lnTo>
                    <a:pt x="914" y="334"/>
                  </a:lnTo>
                  <a:lnTo>
                    <a:pt x="924" y="330"/>
                  </a:lnTo>
                  <a:lnTo>
                    <a:pt x="921" y="323"/>
                  </a:lnTo>
                  <a:lnTo>
                    <a:pt x="921" y="330"/>
                  </a:lnTo>
                  <a:lnTo>
                    <a:pt x="928" y="330"/>
                  </a:lnTo>
                  <a:lnTo>
                    <a:pt x="928" y="323"/>
                  </a:lnTo>
                  <a:lnTo>
                    <a:pt x="928" y="330"/>
                  </a:lnTo>
                  <a:lnTo>
                    <a:pt x="939" y="334"/>
                  </a:lnTo>
                  <a:lnTo>
                    <a:pt x="939" y="334"/>
                  </a:lnTo>
                  <a:lnTo>
                    <a:pt x="939" y="334"/>
                  </a:lnTo>
                  <a:lnTo>
                    <a:pt x="946" y="334"/>
                  </a:lnTo>
                  <a:lnTo>
                    <a:pt x="946" y="326"/>
                  </a:lnTo>
                  <a:lnTo>
                    <a:pt x="943" y="330"/>
                  </a:lnTo>
                  <a:lnTo>
                    <a:pt x="950" y="337"/>
                  </a:lnTo>
                  <a:lnTo>
                    <a:pt x="953" y="341"/>
                  </a:lnTo>
                  <a:lnTo>
                    <a:pt x="953" y="341"/>
                  </a:lnTo>
                  <a:lnTo>
                    <a:pt x="961" y="345"/>
                  </a:lnTo>
                  <a:lnTo>
                    <a:pt x="961" y="337"/>
                  </a:lnTo>
                  <a:lnTo>
                    <a:pt x="957" y="341"/>
                  </a:lnTo>
                  <a:lnTo>
                    <a:pt x="964" y="348"/>
                  </a:lnTo>
                  <a:lnTo>
                    <a:pt x="972" y="355"/>
                  </a:lnTo>
                  <a:lnTo>
                    <a:pt x="975" y="359"/>
                  </a:lnTo>
                  <a:lnTo>
                    <a:pt x="975" y="359"/>
                  </a:lnTo>
                  <a:lnTo>
                    <a:pt x="982" y="363"/>
                  </a:lnTo>
                  <a:lnTo>
                    <a:pt x="982" y="355"/>
                  </a:lnTo>
                  <a:lnTo>
                    <a:pt x="979" y="359"/>
                  </a:lnTo>
                  <a:lnTo>
                    <a:pt x="986" y="366"/>
                  </a:lnTo>
                  <a:lnTo>
                    <a:pt x="990" y="370"/>
                  </a:lnTo>
                  <a:lnTo>
                    <a:pt x="990" y="370"/>
                  </a:lnTo>
                  <a:lnTo>
                    <a:pt x="1001" y="374"/>
                  </a:lnTo>
                  <a:lnTo>
                    <a:pt x="1001" y="374"/>
                  </a:lnTo>
                  <a:lnTo>
                    <a:pt x="1001" y="374"/>
                  </a:lnTo>
                  <a:lnTo>
                    <a:pt x="1011" y="374"/>
                  </a:lnTo>
                  <a:lnTo>
                    <a:pt x="1022" y="374"/>
                  </a:lnTo>
                  <a:lnTo>
                    <a:pt x="1022" y="374"/>
                  </a:lnTo>
                  <a:lnTo>
                    <a:pt x="1026" y="374"/>
                  </a:lnTo>
                  <a:lnTo>
                    <a:pt x="1037" y="370"/>
                  </a:lnTo>
                  <a:lnTo>
                    <a:pt x="1048" y="366"/>
                  </a:lnTo>
                  <a:lnTo>
                    <a:pt x="1059" y="363"/>
                  </a:lnTo>
                  <a:lnTo>
                    <a:pt x="1059" y="363"/>
                  </a:lnTo>
                  <a:lnTo>
                    <a:pt x="1059" y="359"/>
                  </a:lnTo>
                  <a:lnTo>
                    <a:pt x="1066" y="352"/>
                  </a:lnTo>
                  <a:lnTo>
                    <a:pt x="1062" y="348"/>
                  </a:lnTo>
                  <a:lnTo>
                    <a:pt x="1066" y="355"/>
                  </a:lnTo>
                  <a:lnTo>
                    <a:pt x="1077" y="352"/>
                  </a:lnTo>
                  <a:lnTo>
                    <a:pt x="1077" y="352"/>
                  </a:lnTo>
                  <a:lnTo>
                    <a:pt x="1077" y="348"/>
                  </a:lnTo>
                  <a:lnTo>
                    <a:pt x="1084" y="341"/>
                  </a:lnTo>
                  <a:lnTo>
                    <a:pt x="1088" y="341"/>
                  </a:lnTo>
                  <a:lnTo>
                    <a:pt x="1088" y="341"/>
                  </a:lnTo>
                  <a:lnTo>
                    <a:pt x="1091" y="334"/>
                  </a:lnTo>
                  <a:lnTo>
                    <a:pt x="1098" y="323"/>
                  </a:lnTo>
                  <a:lnTo>
                    <a:pt x="1098" y="323"/>
                  </a:lnTo>
                  <a:lnTo>
                    <a:pt x="1098" y="319"/>
                  </a:lnTo>
                  <a:lnTo>
                    <a:pt x="1098" y="308"/>
                  </a:lnTo>
                  <a:lnTo>
                    <a:pt x="1091" y="308"/>
                  </a:lnTo>
                  <a:lnTo>
                    <a:pt x="1098" y="312"/>
                  </a:lnTo>
                  <a:lnTo>
                    <a:pt x="1102" y="305"/>
                  </a:lnTo>
                  <a:lnTo>
                    <a:pt x="1102" y="301"/>
                  </a:lnTo>
                  <a:lnTo>
                    <a:pt x="1102" y="301"/>
                  </a:lnTo>
                  <a:lnTo>
                    <a:pt x="1098" y="286"/>
                  </a:lnTo>
                  <a:lnTo>
                    <a:pt x="1091" y="286"/>
                  </a:lnTo>
                  <a:lnTo>
                    <a:pt x="1098" y="286"/>
                  </a:lnTo>
                  <a:lnTo>
                    <a:pt x="1098" y="272"/>
                  </a:lnTo>
                  <a:lnTo>
                    <a:pt x="1098" y="272"/>
                  </a:lnTo>
                  <a:lnTo>
                    <a:pt x="1098" y="272"/>
                  </a:lnTo>
                  <a:lnTo>
                    <a:pt x="1091" y="261"/>
                  </a:lnTo>
                  <a:lnTo>
                    <a:pt x="1088" y="250"/>
                  </a:lnTo>
                  <a:lnTo>
                    <a:pt x="1080" y="239"/>
                  </a:lnTo>
                  <a:lnTo>
                    <a:pt x="1077" y="236"/>
                  </a:lnTo>
                  <a:lnTo>
                    <a:pt x="1077" y="236"/>
                  </a:lnTo>
                  <a:lnTo>
                    <a:pt x="1066" y="228"/>
                  </a:lnTo>
                  <a:lnTo>
                    <a:pt x="1059" y="225"/>
                  </a:lnTo>
                  <a:lnTo>
                    <a:pt x="1048" y="218"/>
                  </a:lnTo>
                  <a:lnTo>
                    <a:pt x="1037" y="214"/>
                  </a:lnTo>
                  <a:lnTo>
                    <a:pt x="1026" y="210"/>
                  </a:lnTo>
                  <a:lnTo>
                    <a:pt x="1026" y="210"/>
                  </a:lnTo>
                  <a:lnTo>
                    <a:pt x="1022" y="210"/>
                  </a:lnTo>
                  <a:lnTo>
                    <a:pt x="1011" y="210"/>
                  </a:lnTo>
                  <a:lnTo>
                    <a:pt x="1001" y="210"/>
                  </a:lnTo>
                  <a:lnTo>
                    <a:pt x="1001" y="210"/>
                  </a:lnTo>
                  <a:lnTo>
                    <a:pt x="1001" y="210"/>
                  </a:lnTo>
                  <a:lnTo>
                    <a:pt x="990" y="214"/>
                  </a:lnTo>
                  <a:lnTo>
                    <a:pt x="982" y="218"/>
                  </a:lnTo>
                  <a:lnTo>
                    <a:pt x="975" y="221"/>
                  </a:lnTo>
                  <a:lnTo>
                    <a:pt x="968" y="225"/>
                  </a:lnTo>
                  <a:lnTo>
                    <a:pt x="968" y="225"/>
                  </a:lnTo>
                  <a:lnTo>
                    <a:pt x="964" y="225"/>
                  </a:lnTo>
                  <a:lnTo>
                    <a:pt x="957" y="232"/>
                  </a:lnTo>
                  <a:lnTo>
                    <a:pt x="961" y="236"/>
                  </a:lnTo>
                  <a:lnTo>
                    <a:pt x="961" y="232"/>
                  </a:lnTo>
                  <a:lnTo>
                    <a:pt x="953" y="236"/>
                  </a:lnTo>
                  <a:lnTo>
                    <a:pt x="943" y="239"/>
                  </a:lnTo>
                  <a:lnTo>
                    <a:pt x="935" y="243"/>
                  </a:lnTo>
                  <a:lnTo>
                    <a:pt x="935" y="247"/>
                  </a:lnTo>
                  <a:lnTo>
                    <a:pt x="935" y="243"/>
                  </a:lnTo>
                  <a:lnTo>
                    <a:pt x="924" y="243"/>
                  </a:lnTo>
                  <a:lnTo>
                    <a:pt x="914" y="243"/>
                  </a:lnTo>
                  <a:lnTo>
                    <a:pt x="903" y="243"/>
                  </a:lnTo>
                  <a:lnTo>
                    <a:pt x="895" y="243"/>
                  </a:lnTo>
                  <a:lnTo>
                    <a:pt x="895" y="247"/>
                  </a:lnTo>
                  <a:lnTo>
                    <a:pt x="899" y="243"/>
                  </a:lnTo>
                  <a:lnTo>
                    <a:pt x="888" y="239"/>
                  </a:lnTo>
                  <a:lnTo>
                    <a:pt x="877" y="236"/>
                  </a:lnTo>
                  <a:lnTo>
                    <a:pt x="877" y="236"/>
                  </a:lnTo>
                  <a:lnTo>
                    <a:pt x="874" y="236"/>
                  </a:lnTo>
                  <a:lnTo>
                    <a:pt x="866" y="236"/>
                  </a:lnTo>
                  <a:lnTo>
                    <a:pt x="866" y="239"/>
                  </a:lnTo>
                  <a:lnTo>
                    <a:pt x="870" y="236"/>
                  </a:lnTo>
                  <a:lnTo>
                    <a:pt x="863" y="228"/>
                  </a:lnTo>
                  <a:lnTo>
                    <a:pt x="863" y="228"/>
                  </a:lnTo>
                  <a:lnTo>
                    <a:pt x="863" y="228"/>
                  </a:lnTo>
                  <a:lnTo>
                    <a:pt x="856" y="225"/>
                  </a:lnTo>
                  <a:lnTo>
                    <a:pt x="852" y="228"/>
                  </a:lnTo>
                  <a:lnTo>
                    <a:pt x="856" y="225"/>
                  </a:lnTo>
                  <a:lnTo>
                    <a:pt x="848" y="218"/>
                  </a:lnTo>
                  <a:lnTo>
                    <a:pt x="845" y="221"/>
                  </a:lnTo>
                  <a:lnTo>
                    <a:pt x="852" y="221"/>
                  </a:lnTo>
                  <a:lnTo>
                    <a:pt x="852" y="214"/>
                  </a:lnTo>
                  <a:lnTo>
                    <a:pt x="852" y="214"/>
                  </a:lnTo>
                  <a:lnTo>
                    <a:pt x="852" y="214"/>
                  </a:lnTo>
                  <a:lnTo>
                    <a:pt x="848" y="207"/>
                  </a:lnTo>
                  <a:lnTo>
                    <a:pt x="841" y="207"/>
                  </a:lnTo>
                  <a:lnTo>
                    <a:pt x="848" y="207"/>
                  </a:lnTo>
                  <a:lnTo>
                    <a:pt x="848" y="196"/>
                  </a:lnTo>
                  <a:lnTo>
                    <a:pt x="848" y="174"/>
                  </a:lnTo>
                  <a:lnTo>
                    <a:pt x="848" y="149"/>
                  </a:lnTo>
                  <a:lnTo>
                    <a:pt x="852" y="120"/>
                  </a:lnTo>
                  <a:lnTo>
                    <a:pt x="856" y="91"/>
                  </a:lnTo>
                  <a:lnTo>
                    <a:pt x="859" y="62"/>
                  </a:lnTo>
                  <a:lnTo>
                    <a:pt x="863" y="40"/>
                  </a:lnTo>
                  <a:lnTo>
                    <a:pt x="866" y="18"/>
                  </a:lnTo>
                  <a:lnTo>
                    <a:pt x="866" y="14"/>
                  </a:lnTo>
                  <a:lnTo>
                    <a:pt x="859" y="14"/>
                  </a:lnTo>
                  <a:lnTo>
                    <a:pt x="856" y="14"/>
                  </a:lnTo>
                  <a:lnTo>
                    <a:pt x="823" y="14"/>
                  </a:lnTo>
                  <a:lnTo>
                    <a:pt x="790" y="11"/>
                  </a:lnTo>
                  <a:lnTo>
                    <a:pt x="761" y="11"/>
                  </a:lnTo>
                  <a:lnTo>
                    <a:pt x="736" y="7"/>
                  </a:lnTo>
                  <a:lnTo>
                    <a:pt x="711" y="4"/>
                  </a:lnTo>
                  <a:lnTo>
                    <a:pt x="689" y="4"/>
                  </a:lnTo>
                  <a:lnTo>
                    <a:pt x="674" y="0"/>
                  </a:lnTo>
                  <a:lnTo>
                    <a:pt x="663" y="0"/>
                  </a:lnTo>
                  <a:lnTo>
                    <a:pt x="656" y="0"/>
                  </a:lnTo>
                  <a:lnTo>
                    <a:pt x="656" y="0"/>
                  </a:lnTo>
                  <a:lnTo>
                    <a:pt x="653" y="0"/>
                  </a:lnTo>
                  <a:lnTo>
                    <a:pt x="649" y="4"/>
                  </a:lnTo>
                  <a:lnTo>
                    <a:pt x="653" y="7"/>
                  </a:lnTo>
                  <a:lnTo>
                    <a:pt x="653" y="4"/>
                  </a:lnTo>
                  <a:lnTo>
                    <a:pt x="645" y="7"/>
                  </a:lnTo>
                  <a:lnTo>
                    <a:pt x="645" y="7"/>
                  </a:lnTo>
                  <a:lnTo>
                    <a:pt x="642" y="7"/>
                  </a:lnTo>
                  <a:lnTo>
                    <a:pt x="634" y="14"/>
                  </a:lnTo>
                  <a:lnTo>
                    <a:pt x="631" y="18"/>
                  </a:lnTo>
                  <a:lnTo>
                    <a:pt x="624" y="25"/>
                  </a:lnTo>
                  <a:lnTo>
                    <a:pt x="624" y="29"/>
                  </a:lnTo>
                  <a:lnTo>
                    <a:pt x="624" y="29"/>
                  </a:lnTo>
                  <a:lnTo>
                    <a:pt x="624" y="40"/>
                  </a:lnTo>
                  <a:lnTo>
                    <a:pt x="627" y="40"/>
                  </a:lnTo>
                  <a:lnTo>
                    <a:pt x="624" y="40"/>
                  </a:lnTo>
                  <a:lnTo>
                    <a:pt x="620" y="47"/>
                  </a:lnTo>
                  <a:lnTo>
                    <a:pt x="616" y="58"/>
                  </a:lnTo>
                  <a:lnTo>
                    <a:pt x="616" y="58"/>
                  </a:lnTo>
                  <a:lnTo>
                    <a:pt x="616" y="58"/>
                  </a:lnTo>
                  <a:lnTo>
                    <a:pt x="616" y="69"/>
                  </a:lnTo>
                  <a:lnTo>
                    <a:pt x="616" y="80"/>
                  </a:lnTo>
                  <a:lnTo>
                    <a:pt x="616" y="80"/>
                  </a:lnTo>
                  <a:lnTo>
                    <a:pt x="616" y="83"/>
                  </a:lnTo>
                  <a:lnTo>
                    <a:pt x="620" y="91"/>
                  </a:lnTo>
                  <a:lnTo>
                    <a:pt x="624" y="102"/>
                  </a:lnTo>
                  <a:lnTo>
                    <a:pt x="627" y="112"/>
                  </a:lnTo>
                  <a:lnTo>
                    <a:pt x="634" y="123"/>
                  </a:lnTo>
                  <a:lnTo>
                    <a:pt x="634" y="123"/>
                  </a:lnTo>
                  <a:lnTo>
                    <a:pt x="634" y="123"/>
                  </a:lnTo>
                  <a:lnTo>
                    <a:pt x="642" y="131"/>
                  </a:lnTo>
                  <a:lnTo>
                    <a:pt x="645" y="134"/>
                  </a:lnTo>
                  <a:lnTo>
                    <a:pt x="645" y="134"/>
                  </a:lnTo>
                  <a:lnTo>
                    <a:pt x="656" y="141"/>
                  </a:lnTo>
                  <a:lnTo>
                    <a:pt x="656" y="134"/>
                  </a:lnTo>
                  <a:lnTo>
                    <a:pt x="653" y="138"/>
                  </a:lnTo>
                  <a:lnTo>
                    <a:pt x="656" y="149"/>
                  </a:lnTo>
                  <a:lnTo>
                    <a:pt x="663" y="163"/>
                  </a:lnTo>
                  <a:lnTo>
                    <a:pt x="667" y="170"/>
                  </a:lnTo>
                  <a:lnTo>
                    <a:pt x="671" y="167"/>
                  </a:lnTo>
                  <a:lnTo>
                    <a:pt x="667" y="167"/>
                  </a:lnTo>
                  <a:lnTo>
                    <a:pt x="667" y="181"/>
                  </a:lnTo>
                  <a:lnTo>
                    <a:pt x="667" y="192"/>
                  </a:lnTo>
                  <a:lnTo>
                    <a:pt x="667" y="203"/>
                  </a:lnTo>
                  <a:lnTo>
                    <a:pt x="671" y="203"/>
                  </a:lnTo>
                  <a:lnTo>
                    <a:pt x="667" y="199"/>
                  </a:lnTo>
                  <a:lnTo>
                    <a:pt x="660" y="207"/>
                  </a:lnTo>
                  <a:lnTo>
                    <a:pt x="660" y="210"/>
                  </a:lnTo>
                  <a:lnTo>
                    <a:pt x="660" y="210"/>
                  </a:lnTo>
                  <a:lnTo>
                    <a:pt x="656" y="221"/>
                  </a:lnTo>
                  <a:lnTo>
                    <a:pt x="649" y="232"/>
                  </a:lnTo>
                  <a:lnTo>
                    <a:pt x="653" y="232"/>
                  </a:lnTo>
                  <a:lnTo>
                    <a:pt x="649" y="228"/>
                  </a:lnTo>
                  <a:lnTo>
                    <a:pt x="642" y="236"/>
                  </a:lnTo>
                  <a:lnTo>
                    <a:pt x="645" y="239"/>
                  </a:lnTo>
                  <a:lnTo>
                    <a:pt x="645" y="236"/>
                  </a:lnTo>
                  <a:lnTo>
                    <a:pt x="634" y="243"/>
                  </a:lnTo>
                  <a:lnTo>
                    <a:pt x="624" y="250"/>
                  </a:lnTo>
                  <a:lnTo>
                    <a:pt x="624" y="254"/>
                  </a:lnTo>
                  <a:lnTo>
                    <a:pt x="624" y="250"/>
                  </a:lnTo>
                  <a:lnTo>
                    <a:pt x="609" y="254"/>
                  </a:lnTo>
                  <a:lnTo>
                    <a:pt x="595" y="257"/>
                  </a:lnTo>
                  <a:lnTo>
                    <a:pt x="580" y="261"/>
                  </a:lnTo>
                  <a:lnTo>
                    <a:pt x="573" y="261"/>
                  </a:lnTo>
                  <a:lnTo>
                    <a:pt x="566" y="261"/>
                  </a:lnTo>
                  <a:lnTo>
                    <a:pt x="566" y="265"/>
                  </a:lnTo>
                  <a:lnTo>
                    <a:pt x="569" y="261"/>
                  </a:lnTo>
                  <a:lnTo>
                    <a:pt x="562" y="257"/>
                  </a:lnTo>
                  <a:lnTo>
                    <a:pt x="562" y="257"/>
                  </a:lnTo>
                  <a:lnTo>
                    <a:pt x="558" y="257"/>
                  </a:lnTo>
                  <a:lnTo>
                    <a:pt x="551" y="257"/>
                  </a:lnTo>
                  <a:lnTo>
                    <a:pt x="551" y="261"/>
                  </a:lnTo>
                  <a:lnTo>
                    <a:pt x="555" y="257"/>
                  </a:lnTo>
                  <a:lnTo>
                    <a:pt x="547" y="254"/>
                  </a:lnTo>
                  <a:lnTo>
                    <a:pt x="540" y="250"/>
                  </a:lnTo>
                  <a:lnTo>
                    <a:pt x="536" y="254"/>
                  </a:lnTo>
                  <a:lnTo>
                    <a:pt x="540" y="250"/>
                  </a:lnTo>
                  <a:lnTo>
                    <a:pt x="536" y="247"/>
                  </a:lnTo>
                  <a:lnTo>
                    <a:pt x="536" y="247"/>
                  </a:lnTo>
                  <a:lnTo>
                    <a:pt x="536" y="247"/>
                  </a:lnTo>
                  <a:lnTo>
                    <a:pt x="529" y="243"/>
                  </a:lnTo>
                  <a:lnTo>
                    <a:pt x="518" y="236"/>
                  </a:lnTo>
                  <a:lnTo>
                    <a:pt x="515" y="239"/>
                  </a:lnTo>
                  <a:lnTo>
                    <a:pt x="518" y="236"/>
                  </a:lnTo>
                  <a:lnTo>
                    <a:pt x="511" y="228"/>
                  </a:lnTo>
                  <a:lnTo>
                    <a:pt x="507" y="232"/>
                  </a:lnTo>
                  <a:lnTo>
                    <a:pt x="515" y="232"/>
                  </a:lnTo>
                  <a:lnTo>
                    <a:pt x="507" y="221"/>
                  </a:lnTo>
                  <a:lnTo>
                    <a:pt x="504" y="210"/>
                  </a:lnTo>
                  <a:lnTo>
                    <a:pt x="500" y="199"/>
                  </a:lnTo>
                  <a:lnTo>
                    <a:pt x="493" y="199"/>
                  </a:lnTo>
                  <a:lnTo>
                    <a:pt x="500" y="199"/>
                  </a:lnTo>
                  <a:lnTo>
                    <a:pt x="500" y="185"/>
                  </a:lnTo>
                  <a:lnTo>
                    <a:pt x="500" y="185"/>
                  </a:lnTo>
                  <a:lnTo>
                    <a:pt x="500" y="185"/>
                  </a:lnTo>
                  <a:lnTo>
                    <a:pt x="497" y="174"/>
                  </a:lnTo>
                  <a:lnTo>
                    <a:pt x="489" y="174"/>
                  </a:lnTo>
                  <a:lnTo>
                    <a:pt x="497" y="178"/>
                  </a:lnTo>
                  <a:lnTo>
                    <a:pt x="500" y="167"/>
                  </a:lnTo>
                  <a:lnTo>
                    <a:pt x="500" y="167"/>
                  </a:lnTo>
                  <a:lnTo>
                    <a:pt x="500" y="163"/>
                  </a:lnTo>
                  <a:lnTo>
                    <a:pt x="500" y="149"/>
                  </a:lnTo>
                  <a:lnTo>
                    <a:pt x="493" y="149"/>
                  </a:lnTo>
                  <a:lnTo>
                    <a:pt x="497" y="152"/>
                  </a:lnTo>
                  <a:lnTo>
                    <a:pt x="504" y="145"/>
                  </a:lnTo>
                  <a:lnTo>
                    <a:pt x="507" y="145"/>
                  </a:lnTo>
                  <a:lnTo>
                    <a:pt x="507" y="145"/>
                  </a:lnTo>
                  <a:lnTo>
                    <a:pt x="511" y="134"/>
                  </a:lnTo>
                  <a:lnTo>
                    <a:pt x="504" y="131"/>
                  </a:lnTo>
                  <a:lnTo>
                    <a:pt x="507" y="134"/>
                  </a:lnTo>
                  <a:lnTo>
                    <a:pt x="515" y="127"/>
                  </a:lnTo>
                  <a:lnTo>
                    <a:pt x="522" y="120"/>
                  </a:lnTo>
                  <a:lnTo>
                    <a:pt x="526" y="120"/>
                  </a:lnTo>
                  <a:lnTo>
                    <a:pt x="526" y="120"/>
                  </a:lnTo>
                  <a:lnTo>
                    <a:pt x="529" y="112"/>
                  </a:lnTo>
                  <a:lnTo>
                    <a:pt x="533" y="105"/>
                  </a:lnTo>
                  <a:lnTo>
                    <a:pt x="536" y="98"/>
                  </a:lnTo>
                  <a:lnTo>
                    <a:pt x="540" y="91"/>
                  </a:lnTo>
                  <a:lnTo>
                    <a:pt x="540" y="91"/>
                  </a:lnTo>
                  <a:lnTo>
                    <a:pt x="540" y="87"/>
                  </a:lnTo>
                  <a:lnTo>
                    <a:pt x="540" y="80"/>
                  </a:lnTo>
                  <a:lnTo>
                    <a:pt x="540" y="72"/>
                  </a:lnTo>
                  <a:lnTo>
                    <a:pt x="540" y="72"/>
                  </a:lnTo>
                  <a:lnTo>
                    <a:pt x="540" y="72"/>
                  </a:lnTo>
                  <a:lnTo>
                    <a:pt x="536" y="65"/>
                  </a:lnTo>
                  <a:lnTo>
                    <a:pt x="533" y="58"/>
                  </a:lnTo>
                  <a:lnTo>
                    <a:pt x="529" y="51"/>
                  </a:lnTo>
                  <a:lnTo>
                    <a:pt x="529" y="51"/>
                  </a:lnTo>
                  <a:lnTo>
                    <a:pt x="526" y="47"/>
                  </a:lnTo>
                  <a:lnTo>
                    <a:pt x="518" y="40"/>
                  </a:lnTo>
                  <a:lnTo>
                    <a:pt x="518" y="40"/>
                  </a:lnTo>
                  <a:lnTo>
                    <a:pt x="518" y="40"/>
                  </a:lnTo>
                  <a:lnTo>
                    <a:pt x="507" y="36"/>
                  </a:lnTo>
                  <a:lnTo>
                    <a:pt x="497" y="29"/>
                  </a:lnTo>
                  <a:lnTo>
                    <a:pt x="486" y="25"/>
                  </a:lnTo>
                  <a:lnTo>
                    <a:pt x="471" y="18"/>
                  </a:lnTo>
                  <a:lnTo>
                    <a:pt x="471" y="18"/>
                  </a:lnTo>
                  <a:lnTo>
                    <a:pt x="468" y="18"/>
                  </a:lnTo>
                  <a:lnTo>
                    <a:pt x="449" y="14"/>
                  </a:lnTo>
                  <a:lnTo>
                    <a:pt x="431" y="14"/>
                  </a:lnTo>
                  <a:lnTo>
                    <a:pt x="406" y="11"/>
                  </a:lnTo>
                  <a:lnTo>
                    <a:pt x="377" y="11"/>
                  </a:lnTo>
                  <a:lnTo>
                    <a:pt x="348" y="14"/>
                  </a:lnTo>
                  <a:lnTo>
                    <a:pt x="315" y="14"/>
                  </a:lnTo>
                  <a:lnTo>
                    <a:pt x="286" y="18"/>
                  </a:lnTo>
                  <a:lnTo>
                    <a:pt x="261" y="22"/>
                  </a:lnTo>
                  <a:lnTo>
                    <a:pt x="243" y="25"/>
                  </a:lnTo>
                  <a:lnTo>
                    <a:pt x="236" y="25"/>
                  </a:lnTo>
                  <a:lnTo>
                    <a:pt x="239" y="29"/>
                  </a:lnTo>
                  <a:lnTo>
                    <a:pt x="243" y="51"/>
                  </a:lnTo>
                  <a:lnTo>
                    <a:pt x="243" y="54"/>
                  </a:lnTo>
                  <a:lnTo>
                    <a:pt x="243" y="54"/>
                  </a:lnTo>
                  <a:lnTo>
                    <a:pt x="254" y="80"/>
                  </a:lnTo>
                  <a:lnTo>
                    <a:pt x="261" y="112"/>
                  </a:lnTo>
                  <a:lnTo>
                    <a:pt x="268" y="145"/>
                  </a:lnTo>
                  <a:lnTo>
                    <a:pt x="272" y="141"/>
                  </a:lnTo>
                  <a:lnTo>
                    <a:pt x="268" y="141"/>
                  </a:lnTo>
                  <a:lnTo>
                    <a:pt x="268" y="156"/>
                  </a:lnTo>
                  <a:lnTo>
                    <a:pt x="272" y="174"/>
                  </a:lnTo>
                  <a:lnTo>
                    <a:pt x="272" y="189"/>
                  </a:lnTo>
                  <a:lnTo>
                    <a:pt x="272" y="203"/>
                  </a:lnTo>
                  <a:lnTo>
                    <a:pt x="272" y="214"/>
                  </a:lnTo>
                  <a:lnTo>
                    <a:pt x="275" y="214"/>
                  </a:lnTo>
                  <a:lnTo>
                    <a:pt x="272" y="214"/>
                  </a:lnTo>
                  <a:lnTo>
                    <a:pt x="268" y="225"/>
                  </a:lnTo>
                  <a:lnTo>
                    <a:pt x="272" y="225"/>
                  </a:lnTo>
                  <a:lnTo>
                    <a:pt x="268" y="221"/>
                  </a:lnTo>
                  <a:lnTo>
                    <a:pt x="265" y="225"/>
                  </a:lnTo>
                  <a:lnTo>
                    <a:pt x="265" y="228"/>
                  </a:lnTo>
                  <a:lnTo>
                    <a:pt x="265" y="228"/>
                  </a:lnTo>
                  <a:lnTo>
                    <a:pt x="265" y="236"/>
                  </a:lnTo>
                  <a:lnTo>
                    <a:pt x="268" y="236"/>
                  </a:lnTo>
                  <a:lnTo>
                    <a:pt x="265" y="232"/>
                  </a:lnTo>
                  <a:lnTo>
                    <a:pt x="261" y="236"/>
                  </a:lnTo>
                  <a:lnTo>
                    <a:pt x="265" y="239"/>
                  </a:lnTo>
                  <a:lnTo>
                    <a:pt x="265" y="236"/>
                  </a:lnTo>
                  <a:lnTo>
                    <a:pt x="261" y="236"/>
                  </a:lnTo>
                  <a:lnTo>
                    <a:pt x="257" y="236"/>
                  </a:lnTo>
                  <a:lnTo>
                    <a:pt x="257" y="239"/>
                  </a:lnTo>
                  <a:lnTo>
                    <a:pt x="254" y="247"/>
                  </a:lnTo>
                  <a:lnTo>
                    <a:pt x="257" y="247"/>
                  </a:lnTo>
                  <a:lnTo>
                    <a:pt x="257" y="243"/>
                  </a:lnTo>
                  <a:lnTo>
                    <a:pt x="246" y="247"/>
                  </a:lnTo>
                  <a:lnTo>
                    <a:pt x="246" y="247"/>
                  </a:lnTo>
                  <a:lnTo>
                    <a:pt x="243" y="247"/>
                  </a:lnTo>
                  <a:lnTo>
                    <a:pt x="239" y="250"/>
                  </a:lnTo>
                  <a:lnTo>
                    <a:pt x="243" y="254"/>
                  </a:lnTo>
                  <a:lnTo>
                    <a:pt x="243" y="250"/>
                  </a:lnTo>
                  <a:lnTo>
                    <a:pt x="232" y="254"/>
                  </a:lnTo>
                  <a:lnTo>
                    <a:pt x="225" y="257"/>
                  </a:lnTo>
                  <a:lnTo>
                    <a:pt x="225" y="261"/>
                  </a:lnTo>
                  <a:lnTo>
                    <a:pt x="225" y="257"/>
                  </a:lnTo>
                  <a:lnTo>
                    <a:pt x="217" y="257"/>
                  </a:lnTo>
                  <a:lnTo>
                    <a:pt x="210" y="257"/>
                  </a:lnTo>
                  <a:lnTo>
                    <a:pt x="203" y="257"/>
                  </a:lnTo>
                  <a:lnTo>
                    <a:pt x="196" y="257"/>
                  </a:lnTo>
                  <a:lnTo>
                    <a:pt x="188" y="257"/>
                  </a:lnTo>
                  <a:lnTo>
                    <a:pt x="188" y="261"/>
                  </a:lnTo>
                  <a:lnTo>
                    <a:pt x="192" y="257"/>
                  </a:lnTo>
                  <a:lnTo>
                    <a:pt x="185" y="254"/>
                  </a:lnTo>
                  <a:lnTo>
                    <a:pt x="185" y="254"/>
                  </a:lnTo>
                  <a:lnTo>
                    <a:pt x="181" y="254"/>
                  </a:lnTo>
                  <a:lnTo>
                    <a:pt x="174" y="254"/>
                  </a:lnTo>
                  <a:lnTo>
                    <a:pt x="174" y="257"/>
                  </a:lnTo>
                  <a:lnTo>
                    <a:pt x="178" y="254"/>
                  </a:lnTo>
                  <a:lnTo>
                    <a:pt x="170" y="250"/>
                  </a:lnTo>
                  <a:lnTo>
                    <a:pt x="163" y="247"/>
                  </a:lnTo>
                  <a:lnTo>
                    <a:pt x="159" y="250"/>
                  </a:lnTo>
                  <a:lnTo>
                    <a:pt x="163" y="247"/>
                  </a:lnTo>
                  <a:lnTo>
                    <a:pt x="159" y="243"/>
                  </a:lnTo>
                  <a:lnTo>
                    <a:pt x="156" y="247"/>
                  </a:lnTo>
                  <a:lnTo>
                    <a:pt x="163" y="247"/>
                  </a:lnTo>
                  <a:lnTo>
                    <a:pt x="159" y="239"/>
                  </a:lnTo>
                  <a:lnTo>
                    <a:pt x="156" y="236"/>
                  </a:lnTo>
                  <a:lnTo>
                    <a:pt x="156" y="236"/>
                  </a:lnTo>
                  <a:lnTo>
                    <a:pt x="149" y="232"/>
                  </a:lnTo>
                  <a:lnTo>
                    <a:pt x="138" y="225"/>
                  </a:lnTo>
                  <a:lnTo>
                    <a:pt x="127" y="221"/>
                  </a:lnTo>
                  <a:lnTo>
                    <a:pt x="116" y="218"/>
                  </a:lnTo>
                  <a:lnTo>
                    <a:pt x="116" y="218"/>
                  </a:lnTo>
                  <a:lnTo>
                    <a:pt x="112" y="218"/>
                  </a:lnTo>
                  <a:lnTo>
                    <a:pt x="101" y="218"/>
                  </a:lnTo>
                  <a:lnTo>
                    <a:pt x="91" y="218"/>
                  </a:lnTo>
                  <a:lnTo>
                    <a:pt x="76" y="218"/>
                  </a:lnTo>
                  <a:lnTo>
                    <a:pt x="76" y="218"/>
                  </a:lnTo>
                  <a:lnTo>
                    <a:pt x="76" y="218"/>
                  </a:lnTo>
                  <a:lnTo>
                    <a:pt x="65" y="221"/>
                  </a:lnTo>
                  <a:lnTo>
                    <a:pt x="54" y="225"/>
                  </a:lnTo>
                  <a:lnTo>
                    <a:pt x="43" y="232"/>
                  </a:lnTo>
                  <a:lnTo>
                    <a:pt x="43" y="232"/>
                  </a:lnTo>
                  <a:lnTo>
                    <a:pt x="40" y="232"/>
                  </a:lnTo>
                  <a:lnTo>
                    <a:pt x="29" y="243"/>
                  </a:lnTo>
                  <a:lnTo>
                    <a:pt x="33" y="247"/>
                  </a:lnTo>
                  <a:lnTo>
                    <a:pt x="33" y="243"/>
                  </a:lnTo>
                  <a:lnTo>
                    <a:pt x="22" y="250"/>
                  </a:lnTo>
                  <a:lnTo>
                    <a:pt x="18" y="250"/>
                  </a:lnTo>
                  <a:lnTo>
                    <a:pt x="18" y="254"/>
                  </a:lnTo>
                  <a:lnTo>
                    <a:pt x="14" y="261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11" y="261"/>
                  </a:lnTo>
                  <a:lnTo>
                    <a:pt x="11" y="265"/>
                  </a:lnTo>
                  <a:lnTo>
                    <a:pt x="11" y="265"/>
                  </a:lnTo>
                  <a:lnTo>
                    <a:pt x="11" y="272"/>
                  </a:lnTo>
                  <a:lnTo>
                    <a:pt x="14" y="272"/>
                  </a:lnTo>
                  <a:lnTo>
                    <a:pt x="11" y="272"/>
                  </a:lnTo>
                  <a:lnTo>
                    <a:pt x="7" y="279"/>
                  </a:lnTo>
                  <a:lnTo>
                    <a:pt x="4" y="286"/>
                  </a:lnTo>
                  <a:lnTo>
                    <a:pt x="4" y="286"/>
                  </a:lnTo>
                  <a:lnTo>
                    <a:pt x="4" y="286"/>
                  </a:lnTo>
                  <a:lnTo>
                    <a:pt x="4" y="294"/>
                  </a:lnTo>
                  <a:lnTo>
                    <a:pt x="7" y="294"/>
                  </a:lnTo>
                  <a:lnTo>
                    <a:pt x="4" y="294"/>
                  </a:lnTo>
                  <a:lnTo>
                    <a:pt x="0" y="305"/>
                  </a:lnTo>
                  <a:lnTo>
                    <a:pt x="0" y="305"/>
                  </a:lnTo>
                  <a:lnTo>
                    <a:pt x="0" y="305"/>
                  </a:lnTo>
                  <a:lnTo>
                    <a:pt x="0" y="312"/>
                  </a:lnTo>
                  <a:lnTo>
                    <a:pt x="0" y="319"/>
                  </a:lnTo>
                  <a:lnTo>
                    <a:pt x="0" y="323"/>
                  </a:lnTo>
                  <a:lnTo>
                    <a:pt x="0" y="323"/>
                  </a:lnTo>
                  <a:lnTo>
                    <a:pt x="4" y="330"/>
                  </a:lnTo>
                  <a:lnTo>
                    <a:pt x="7" y="326"/>
                  </a:lnTo>
                  <a:lnTo>
                    <a:pt x="4" y="326"/>
                  </a:lnTo>
                  <a:lnTo>
                    <a:pt x="4" y="334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7" y="341"/>
                  </a:lnTo>
                  <a:lnTo>
                    <a:pt x="11" y="337"/>
                  </a:lnTo>
                  <a:lnTo>
                    <a:pt x="7" y="337"/>
                  </a:lnTo>
                  <a:lnTo>
                    <a:pt x="7" y="345"/>
                  </a:lnTo>
                  <a:lnTo>
                    <a:pt x="7" y="348"/>
                  </a:lnTo>
                  <a:lnTo>
                    <a:pt x="7" y="348"/>
                  </a:lnTo>
                  <a:lnTo>
                    <a:pt x="11" y="352"/>
                  </a:lnTo>
                  <a:lnTo>
                    <a:pt x="14" y="348"/>
                  </a:lnTo>
                  <a:lnTo>
                    <a:pt x="11" y="352"/>
                  </a:lnTo>
                  <a:lnTo>
                    <a:pt x="14" y="359"/>
                  </a:lnTo>
                  <a:lnTo>
                    <a:pt x="14" y="359"/>
                  </a:lnTo>
                  <a:lnTo>
                    <a:pt x="14" y="359"/>
                  </a:lnTo>
                  <a:lnTo>
                    <a:pt x="18" y="363"/>
                  </a:lnTo>
                  <a:lnTo>
                    <a:pt x="22" y="359"/>
                  </a:lnTo>
                  <a:lnTo>
                    <a:pt x="18" y="363"/>
                  </a:lnTo>
                  <a:lnTo>
                    <a:pt x="25" y="374"/>
                  </a:lnTo>
                  <a:lnTo>
                    <a:pt x="25" y="374"/>
                  </a:lnTo>
                  <a:lnTo>
                    <a:pt x="29" y="377"/>
                  </a:lnTo>
                  <a:lnTo>
                    <a:pt x="40" y="384"/>
                  </a:lnTo>
                  <a:lnTo>
                    <a:pt x="51" y="388"/>
                  </a:lnTo>
                  <a:lnTo>
                    <a:pt x="62" y="392"/>
                  </a:lnTo>
                  <a:lnTo>
                    <a:pt x="72" y="395"/>
                  </a:lnTo>
                  <a:lnTo>
                    <a:pt x="83" y="399"/>
                  </a:lnTo>
                  <a:lnTo>
                    <a:pt x="83" y="399"/>
                  </a:lnTo>
                  <a:lnTo>
                    <a:pt x="83" y="399"/>
                  </a:lnTo>
                  <a:lnTo>
                    <a:pt x="98" y="399"/>
                  </a:lnTo>
                  <a:lnTo>
                    <a:pt x="109" y="399"/>
                  </a:lnTo>
                  <a:lnTo>
                    <a:pt x="109" y="399"/>
                  </a:lnTo>
                  <a:lnTo>
                    <a:pt x="112" y="399"/>
                  </a:lnTo>
                  <a:lnTo>
                    <a:pt x="120" y="395"/>
                  </a:lnTo>
                  <a:lnTo>
                    <a:pt x="130" y="392"/>
                  </a:lnTo>
                  <a:lnTo>
                    <a:pt x="138" y="388"/>
                  </a:lnTo>
                  <a:lnTo>
                    <a:pt x="138" y="384"/>
                  </a:lnTo>
                  <a:lnTo>
                    <a:pt x="141" y="384"/>
                  </a:lnTo>
                  <a:lnTo>
                    <a:pt x="145" y="377"/>
                  </a:lnTo>
                  <a:lnTo>
                    <a:pt x="138" y="374"/>
                  </a:lnTo>
                  <a:lnTo>
                    <a:pt x="141" y="381"/>
                  </a:lnTo>
                  <a:lnTo>
                    <a:pt x="149" y="377"/>
                  </a:lnTo>
                  <a:lnTo>
                    <a:pt x="156" y="374"/>
                  </a:lnTo>
                  <a:lnTo>
                    <a:pt x="163" y="370"/>
                  </a:lnTo>
                  <a:lnTo>
                    <a:pt x="170" y="366"/>
                  </a:lnTo>
                  <a:lnTo>
                    <a:pt x="167" y="359"/>
                  </a:lnTo>
                  <a:lnTo>
                    <a:pt x="167" y="366"/>
                  </a:lnTo>
                  <a:lnTo>
                    <a:pt x="174" y="366"/>
                  </a:lnTo>
                  <a:lnTo>
                    <a:pt x="185" y="366"/>
                  </a:lnTo>
                  <a:lnTo>
                    <a:pt x="185" y="359"/>
                  </a:lnTo>
                  <a:lnTo>
                    <a:pt x="185" y="366"/>
                  </a:lnTo>
                  <a:lnTo>
                    <a:pt x="192" y="370"/>
                  </a:lnTo>
                  <a:lnTo>
                    <a:pt x="192" y="370"/>
                  </a:lnTo>
                  <a:lnTo>
                    <a:pt x="192" y="370"/>
                  </a:lnTo>
                  <a:lnTo>
                    <a:pt x="199" y="370"/>
                  </a:lnTo>
                  <a:lnTo>
                    <a:pt x="199" y="363"/>
                  </a:lnTo>
                  <a:lnTo>
                    <a:pt x="199" y="370"/>
                  </a:lnTo>
                  <a:lnTo>
                    <a:pt x="210" y="374"/>
                  </a:lnTo>
                  <a:lnTo>
                    <a:pt x="217" y="377"/>
                  </a:lnTo>
                  <a:lnTo>
                    <a:pt x="217" y="370"/>
                  </a:lnTo>
                  <a:lnTo>
                    <a:pt x="214" y="374"/>
                  </a:lnTo>
                  <a:lnTo>
                    <a:pt x="217" y="377"/>
                  </a:lnTo>
                  <a:lnTo>
                    <a:pt x="225" y="384"/>
                  </a:lnTo>
                  <a:lnTo>
                    <a:pt x="228" y="381"/>
                  </a:lnTo>
                  <a:lnTo>
                    <a:pt x="225" y="384"/>
                  </a:lnTo>
                  <a:lnTo>
                    <a:pt x="228" y="392"/>
                  </a:lnTo>
                  <a:lnTo>
                    <a:pt x="228" y="392"/>
                  </a:lnTo>
                  <a:lnTo>
                    <a:pt x="232" y="395"/>
                  </a:lnTo>
                  <a:lnTo>
                    <a:pt x="239" y="399"/>
                  </a:lnTo>
                  <a:lnTo>
                    <a:pt x="239" y="392"/>
                  </a:lnTo>
                  <a:lnTo>
                    <a:pt x="236" y="392"/>
                  </a:lnTo>
                  <a:lnTo>
                    <a:pt x="236" y="399"/>
                  </a:lnTo>
                  <a:lnTo>
                    <a:pt x="236" y="403"/>
                  </a:lnTo>
                  <a:lnTo>
                    <a:pt x="236" y="403"/>
                  </a:lnTo>
                  <a:lnTo>
                    <a:pt x="239" y="410"/>
                  </a:lnTo>
                  <a:lnTo>
                    <a:pt x="243" y="406"/>
                  </a:lnTo>
                  <a:lnTo>
                    <a:pt x="239" y="406"/>
                  </a:lnTo>
                  <a:lnTo>
                    <a:pt x="236" y="424"/>
                  </a:lnTo>
                  <a:lnTo>
                    <a:pt x="236" y="446"/>
                  </a:lnTo>
                  <a:lnTo>
                    <a:pt x="232" y="471"/>
                  </a:lnTo>
                  <a:lnTo>
                    <a:pt x="232" y="501"/>
                  </a:lnTo>
                  <a:lnTo>
                    <a:pt x="228" y="533"/>
                  </a:lnTo>
                  <a:lnTo>
                    <a:pt x="228" y="562"/>
                  </a:lnTo>
                  <a:lnTo>
                    <a:pt x="228" y="566"/>
                  </a:lnTo>
                  <a:lnTo>
                    <a:pt x="228" y="566"/>
                  </a:lnTo>
                  <a:lnTo>
                    <a:pt x="232" y="580"/>
                  </a:lnTo>
                  <a:lnTo>
                    <a:pt x="236" y="577"/>
                  </a:lnTo>
                  <a:lnTo>
                    <a:pt x="232" y="577"/>
                  </a:lnTo>
                  <a:lnTo>
                    <a:pt x="232" y="591"/>
                  </a:lnTo>
                  <a:lnTo>
                    <a:pt x="232" y="595"/>
                  </a:lnTo>
                  <a:lnTo>
                    <a:pt x="232" y="595"/>
                  </a:lnTo>
                  <a:lnTo>
                    <a:pt x="236" y="606"/>
                  </a:lnTo>
                  <a:lnTo>
                    <a:pt x="239" y="620"/>
                  </a:lnTo>
                  <a:lnTo>
                    <a:pt x="239" y="620"/>
                  </a:lnTo>
                  <a:lnTo>
                    <a:pt x="239" y="620"/>
                  </a:lnTo>
                  <a:lnTo>
                    <a:pt x="243" y="624"/>
                  </a:lnTo>
                  <a:lnTo>
                    <a:pt x="246" y="627"/>
                  </a:lnTo>
                  <a:lnTo>
                    <a:pt x="246" y="627"/>
                  </a:lnTo>
                  <a:lnTo>
                    <a:pt x="257" y="627"/>
                  </a:lnTo>
                  <a:lnTo>
                    <a:pt x="257" y="620"/>
                  </a:lnTo>
                  <a:lnTo>
                    <a:pt x="257" y="627"/>
                  </a:lnTo>
                  <a:lnTo>
                    <a:pt x="268" y="631"/>
                  </a:lnTo>
                  <a:lnTo>
                    <a:pt x="268" y="631"/>
                  </a:lnTo>
                  <a:lnTo>
                    <a:pt x="268" y="631"/>
                  </a:lnTo>
                  <a:lnTo>
                    <a:pt x="279" y="631"/>
                  </a:lnTo>
                  <a:lnTo>
                    <a:pt x="308" y="631"/>
                  </a:lnTo>
                  <a:lnTo>
                    <a:pt x="337" y="631"/>
                  </a:lnTo>
                  <a:lnTo>
                    <a:pt x="373" y="627"/>
                  </a:lnTo>
                  <a:lnTo>
                    <a:pt x="406" y="627"/>
                  </a:lnTo>
                  <a:lnTo>
                    <a:pt x="442" y="624"/>
                  </a:lnTo>
                  <a:lnTo>
                    <a:pt x="475" y="624"/>
                  </a:lnTo>
                  <a:lnTo>
                    <a:pt x="482" y="624"/>
                  </a:lnTo>
                  <a:close/>
                  <a:moveTo>
                    <a:pt x="475" y="613"/>
                  </a:moveTo>
                  <a:lnTo>
                    <a:pt x="442" y="613"/>
                  </a:lnTo>
                  <a:lnTo>
                    <a:pt x="406" y="617"/>
                  </a:lnTo>
                  <a:lnTo>
                    <a:pt x="373" y="617"/>
                  </a:lnTo>
                  <a:lnTo>
                    <a:pt x="337" y="620"/>
                  </a:lnTo>
                  <a:lnTo>
                    <a:pt x="308" y="620"/>
                  </a:lnTo>
                  <a:lnTo>
                    <a:pt x="279" y="620"/>
                  </a:lnTo>
                  <a:lnTo>
                    <a:pt x="268" y="620"/>
                  </a:lnTo>
                  <a:lnTo>
                    <a:pt x="268" y="624"/>
                  </a:lnTo>
                  <a:lnTo>
                    <a:pt x="272" y="620"/>
                  </a:lnTo>
                  <a:lnTo>
                    <a:pt x="261" y="617"/>
                  </a:lnTo>
                  <a:lnTo>
                    <a:pt x="261" y="617"/>
                  </a:lnTo>
                  <a:lnTo>
                    <a:pt x="257" y="617"/>
                  </a:lnTo>
                  <a:lnTo>
                    <a:pt x="246" y="617"/>
                  </a:lnTo>
                  <a:lnTo>
                    <a:pt x="246" y="620"/>
                  </a:lnTo>
                  <a:lnTo>
                    <a:pt x="250" y="617"/>
                  </a:lnTo>
                  <a:lnTo>
                    <a:pt x="246" y="613"/>
                  </a:lnTo>
                  <a:lnTo>
                    <a:pt x="243" y="617"/>
                  </a:lnTo>
                  <a:lnTo>
                    <a:pt x="250" y="617"/>
                  </a:lnTo>
                  <a:lnTo>
                    <a:pt x="246" y="602"/>
                  </a:lnTo>
                  <a:lnTo>
                    <a:pt x="243" y="591"/>
                  </a:lnTo>
                  <a:lnTo>
                    <a:pt x="236" y="591"/>
                  </a:lnTo>
                  <a:lnTo>
                    <a:pt x="243" y="591"/>
                  </a:lnTo>
                  <a:lnTo>
                    <a:pt x="243" y="577"/>
                  </a:lnTo>
                  <a:lnTo>
                    <a:pt x="243" y="577"/>
                  </a:lnTo>
                  <a:lnTo>
                    <a:pt x="243" y="577"/>
                  </a:lnTo>
                  <a:lnTo>
                    <a:pt x="239" y="562"/>
                  </a:lnTo>
                  <a:lnTo>
                    <a:pt x="232" y="562"/>
                  </a:lnTo>
                  <a:lnTo>
                    <a:pt x="239" y="562"/>
                  </a:lnTo>
                  <a:lnTo>
                    <a:pt x="239" y="533"/>
                  </a:lnTo>
                  <a:lnTo>
                    <a:pt x="243" y="501"/>
                  </a:lnTo>
                  <a:lnTo>
                    <a:pt x="243" y="471"/>
                  </a:lnTo>
                  <a:lnTo>
                    <a:pt x="246" y="446"/>
                  </a:lnTo>
                  <a:lnTo>
                    <a:pt x="246" y="424"/>
                  </a:lnTo>
                  <a:lnTo>
                    <a:pt x="250" y="406"/>
                  </a:lnTo>
                  <a:lnTo>
                    <a:pt x="250" y="406"/>
                  </a:lnTo>
                  <a:lnTo>
                    <a:pt x="250" y="406"/>
                  </a:lnTo>
                  <a:lnTo>
                    <a:pt x="246" y="399"/>
                  </a:lnTo>
                  <a:lnTo>
                    <a:pt x="239" y="399"/>
                  </a:lnTo>
                  <a:lnTo>
                    <a:pt x="246" y="399"/>
                  </a:lnTo>
                  <a:lnTo>
                    <a:pt x="246" y="392"/>
                  </a:lnTo>
                  <a:lnTo>
                    <a:pt x="246" y="388"/>
                  </a:lnTo>
                  <a:lnTo>
                    <a:pt x="243" y="388"/>
                  </a:lnTo>
                  <a:lnTo>
                    <a:pt x="236" y="384"/>
                  </a:lnTo>
                  <a:lnTo>
                    <a:pt x="232" y="388"/>
                  </a:lnTo>
                  <a:lnTo>
                    <a:pt x="239" y="388"/>
                  </a:lnTo>
                  <a:lnTo>
                    <a:pt x="236" y="381"/>
                  </a:lnTo>
                  <a:lnTo>
                    <a:pt x="236" y="381"/>
                  </a:lnTo>
                  <a:lnTo>
                    <a:pt x="232" y="377"/>
                  </a:lnTo>
                  <a:lnTo>
                    <a:pt x="225" y="370"/>
                  </a:lnTo>
                  <a:lnTo>
                    <a:pt x="221" y="366"/>
                  </a:lnTo>
                  <a:lnTo>
                    <a:pt x="221" y="366"/>
                  </a:lnTo>
                  <a:lnTo>
                    <a:pt x="221" y="366"/>
                  </a:lnTo>
                  <a:lnTo>
                    <a:pt x="214" y="363"/>
                  </a:lnTo>
                  <a:lnTo>
                    <a:pt x="203" y="359"/>
                  </a:lnTo>
                  <a:lnTo>
                    <a:pt x="203" y="359"/>
                  </a:lnTo>
                  <a:lnTo>
                    <a:pt x="199" y="359"/>
                  </a:lnTo>
                  <a:lnTo>
                    <a:pt x="192" y="359"/>
                  </a:lnTo>
                  <a:lnTo>
                    <a:pt x="192" y="363"/>
                  </a:lnTo>
                  <a:lnTo>
                    <a:pt x="196" y="359"/>
                  </a:lnTo>
                  <a:lnTo>
                    <a:pt x="188" y="355"/>
                  </a:lnTo>
                  <a:lnTo>
                    <a:pt x="188" y="355"/>
                  </a:lnTo>
                  <a:lnTo>
                    <a:pt x="185" y="355"/>
                  </a:lnTo>
                  <a:lnTo>
                    <a:pt x="174" y="355"/>
                  </a:lnTo>
                  <a:lnTo>
                    <a:pt x="167" y="355"/>
                  </a:lnTo>
                  <a:lnTo>
                    <a:pt x="167" y="355"/>
                  </a:lnTo>
                  <a:lnTo>
                    <a:pt x="167" y="355"/>
                  </a:lnTo>
                  <a:lnTo>
                    <a:pt x="159" y="359"/>
                  </a:lnTo>
                  <a:lnTo>
                    <a:pt x="152" y="363"/>
                  </a:lnTo>
                  <a:lnTo>
                    <a:pt x="145" y="366"/>
                  </a:lnTo>
                  <a:lnTo>
                    <a:pt x="138" y="370"/>
                  </a:lnTo>
                  <a:lnTo>
                    <a:pt x="134" y="370"/>
                  </a:lnTo>
                  <a:lnTo>
                    <a:pt x="134" y="374"/>
                  </a:lnTo>
                  <a:lnTo>
                    <a:pt x="130" y="381"/>
                  </a:lnTo>
                  <a:lnTo>
                    <a:pt x="134" y="381"/>
                  </a:lnTo>
                  <a:lnTo>
                    <a:pt x="134" y="377"/>
                  </a:lnTo>
                  <a:lnTo>
                    <a:pt x="127" y="381"/>
                  </a:lnTo>
                  <a:lnTo>
                    <a:pt x="116" y="384"/>
                  </a:lnTo>
                  <a:lnTo>
                    <a:pt x="109" y="388"/>
                  </a:lnTo>
                  <a:lnTo>
                    <a:pt x="109" y="392"/>
                  </a:lnTo>
                  <a:lnTo>
                    <a:pt x="109" y="388"/>
                  </a:lnTo>
                  <a:lnTo>
                    <a:pt x="98" y="388"/>
                  </a:lnTo>
                  <a:lnTo>
                    <a:pt x="83" y="388"/>
                  </a:lnTo>
                  <a:lnTo>
                    <a:pt x="83" y="392"/>
                  </a:lnTo>
                  <a:lnTo>
                    <a:pt x="87" y="388"/>
                  </a:lnTo>
                  <a:lnTo>
                    <a:pt x="76" y="384"/>
                  </a:lnTo>
                  <a:lnTo>
                    <a:pt x="65" y="381"/>
                  </a:lnTo>
                  <a:lnTo>
                    <a:pt x="54" y="377"/>
                  </a:lnTo>
                  <a:lnTo>
                    <a:pt x="43" y="374"/>
                  </a:lnTo>
                  <a:lnTo>
                    <a:pt x="33" y="366"/>
                  </a:lnTo>
                  <a:lnTo>
                    <a:pt x="29" y="370"/>
                  </a:lnTo>
                  <a:lnTo>
                    <a:pt x="36" y="370"/>
                  </a:lnTo>
                  <a:lnTo>
                    <a:pt x="29" y="359"/>
                  </a:lnTo>
                  <a:lnTo>
                    <a:pt x="29" y="359"/>
                  </a:lnTo>
                  <a:lnTo>
                    <a:pt x="25" y="355"/>
                  </a:lnTo>
                  <a:lnTo>
                    <a:pt x="22" y="352"/>
                  </a:lnTo>
                  <a:lnTo>
                    <a:pt x="18" y="355"/>
                  </a:lnTo>
                  <a:lnTo>
                    <a:pt x="25" y="355"/>
                  </a:lnTo>
                  <a:lnTo>
                    <a:pt x="22" y="348"/>
                  </a:lnTo>
                  <a:lnTo>
                    <a:pt x="22" y="348"/>
                  </a:lnTo>
                  <a:lnTo>
                    <a:pt x="18" y="345"/>
                  </a:lnTo>
                  <a:lnTo>
                    <a:pt x="14" y="341"/>
                  </a:lnTo>
                  <a:lnTo>
                    <a:pt x="11" y="345"/>
                  </a:lnTo>
                  <a:lnTo>
                    <a:pt x="18" y="345"/>
                  </a:lnTo>
                  <a:lnTo>
                    <a:pt x="18" y="337"/>
                  </a:lnTo>
                  <a:lnTo>
                    <a:pt x="18" y="337"/>
                  </a:lnTo>
                  <a:lnTo>
                    <a:pt x="14" y="334"/>
                  </a:lnTo>
                  <a:lnTo>
                    <a:pt x="11" y="330"/>
                  </a:lnTo>
                  <a:lnTo>
                    <a:pt x="7" y="334"/>
                  </a:lnTo>
                  <a:lnTo>
                    <a:pt x="14" y="334"/>
                  </a:lnTo>
                  <a:lnTo>
                    <a:pt x="14" y="326"/>
                  </a:lnTo>
                  <a:lnTo>
                    <a:pt x="14" y="326"/>
                  </a:lnTo>
                  <a:lnTo>
                    <a:pt x="14" y="326"/>
                  </a:lnTo>
                  <a:lnTo>
                    <a:pt x="11" y="319"/>
                  </a:lnTo>
                  <a:lnTo>
                    <a:pt x="4" y="319"/>
                  </a:lnTo>
                  <a:lnTo>
                    <a:pt x="11" y="319"/>
                  </a:lnTo>
                  <a:lnTo>
                    <a:pt x="11" y="312"/>
                  </a:lnTo>
                  <a:lnTo>
                    <a:pt x="11" y="305"/>
                  </a:lnTo>
                  <a:lnTo>
                    <a:pt x="4" y="305"/>
                  </a:lnTo>
                  <a:lnTo>
                    <a:pt x="11" y="308"/>
                  </a:lnTo>
                  <a:lnTo>
                    <a:pt x="14" y="297"/>
                  </a:lnTo>
                  <a:lnTo>
                    <a:pt x="14" y="297"/>
                  </a:lnTo>
                  <a:lnTo>
                    <a:pt x="14" y="294"/>
                  </a:lnTo>
                  <a:lnTo>
                    <a:pt x="14" y="286"/>
                  </a:lnTo>
                  <a:lnTo>
                    <a:pt x="7" y="286"/>
                  </a:lnTo>
                  <a:lnTo>
                    <a:pt x="14" y="290"/>
                  </a:lnTo>
                  <a:lnTo>
                    <a:pt x="18" y="283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22" y="272"/>
                  </a:lnTo>
                  <a:lnTo>
                    <a:pt x="22" y="265"/>
                  </a:lnTo>
                  <a:lnTo>
                    <a:pt x="14" y="265"/>
                  </a:lnTo>
                  <a:lnTo>
                    <a:pt x="18" y="268"/>
                  </a:lnTo>
                  <a:lnTo>
                    <a:pt x="22" y="265"/>
                  </a:lnTo>
                  <a:lnTo>
                    <a:pt x="25" y="265"/>
                  </a:lnTo>
                  <a:lnTo>
                    <a:pt x="25" y="265"/>
                  </a:lnTo>
                  <a:lnTo>
                    <a:pt x="29" y="257"/>
                  </a:lnTo>
                  <a:lnTo>
                    <a:pt x="22" y="254"/>
                  </a:lnTo>
                  <a:lnTo>
                    <a:pt x="25" y="261"/>
                  </a:lnTo>
                  <a:lnTo>
                    <a:pt x="36" y="254"/>
                  </a:lnTo>
                  <a:lnTo>
                    <a:pt x="36" y="254"/>
                  </a:lnTo>
                  <a:lnTo>
                    <a:pt x="36" y="250"/>
                  </a:lnTo>
                  <a:lnTo>
                    <a:pt x="47" y="239"/>
                  </a:lnTo>
                  <a:lnTo>
                    <a:pt x="43" y="236"/>
                  </a:lnTo>
                  <a:lnTo>
                    <a:pt x="47" y="243"/>
                  </a:lnTo>
                  <a:lnTo>
                    <a:pt x="58" y="236"/>
                  </a:lnTo>
                  <a:lnTo>
                    <a:pt x="69" y="232"/>
                  </a:lnTo>
                  <a:lnTo>
                    <a:pt x="80" y="228"/>
                  </a:lnTo>
                  <a:lnTo>
                    <a:pt x="76" y="221"/>
                  </a:lnTo>
                  <a:lnTo>
                    <a:pt x="76" y="228"/>
                  </a:lnTo>
                  <a:lnTo>
                    <a:pt x="91" y="228"/>
                  </a:lnTo>
                  <a:lnTo>
                    <a:pt x="101" y="228"/>
                  </a:lnTo>
                  <a:lnTo>
                    <a:pt x="112" y="228"/>
                  </a:lnTo>
                  <a:lnTo>
                    <a:pt x="112" y="221"/>
                  </a:lnTo>
                  <a:lnTo>
                    <a:pt x="112" y="228"/>
                  </a:lnTo>
                  <a:lnTo>
                    <a:pt x="123" y="232"/>
                  </a:lnTo>
                  <a:lnTo>
                    <a:pt x="134" y="236"/>
                  </a:lnTo>
                  <a:lnTo>
                    <a:pt x="145" y="243"/>
                  </a:lnTo>
                  <a:lnTo>
                    <a:pt x="152" y="247"/>
                  </a:lnTo>
                  <a:lnTo>
                    <a:pt x="152" y="239"/>
                  </a:lnTo>
                  <a:lnTo>
                    <a:pt x="149" y="243"/>
                  </a:lnTo>
                  <a:lnTo>
                    <a:pt x="152" y="250"/>
                  </a:lnTo>
                  <a:lnTo>
                    <a:pt x="152" y="250"/>
                  </a:lnTo>
                  <a:lnTo>
                    <a:pt x="152" y="250"/>
                  </a:lnTo>
                  <a:lnTo>
                    <a:pt x="156" y="254"/>
                  </a:lnTo>
                  <a:lnTo>
                    <a:pt x="159" y="257"/>
                  </a:lnTo>
                  <a:lnTo>
                    <a:pt x="159" y="257"/>
                  </a:lnTo>
                  <a:lnTo>
                    <a:pt x="167" y="261"/>
                  </a:lnTo>
                  <a:lnTo>
                    <a:pt x="174" y="265"/>
                  </a:lnTo>
                  <a:lnTo>
                    <a:pt x="174" y="265"/>
                  </a:lnTo>
                  <a:lnTo>
                    <a:pt x="174" y="265"/>
                  </a:lnTo>
                  <a:lnTo>
                    <a:pt x="181" y="265"/>
                  </a:lnTo>
                  <a:lnTo>
                    <a:pt x="181" y="257"/>
                  </a:lnTo>
                  <a:lnTo>
                    <a:pt x="181" y="265"/>
                  </a:lnTo>
                  <a:lnTo>
                    <a:pt x="188" y="268"/>
                  </a:lnTo>
                  <a:lnTo>
                    <a:pt x="188" y="268"/>
                  </a:lnTo>
                  <a:lnTo>
                    <a:pt x="188" y="268"/>
                  </a:lnTo>
                  <a:lnTo>
                    <a:pt x="196" y="268"/>
                  </a:lnTo>
                  <a:lnTo>
                    <a:pt x="203" y="268"/>
                  </a:lnTo>
                  <a:lnTo>
                    <a:pt x="210" y="268"/>
                  </a:lnTo>
                  <a:lnTo>
                    <a:pt x="217" y="268"/>
                  </a:lnTo>
                  <a:lnTo>
                    <a:pt x="225" y="268"/>
                  </a:lnTo>
                  <a:lnTo>
                    <a:pt x="228" y="268"/>
                  </a:lnTo>
                  <a:lnTo>
                    <a:pt x="228" y="268"/>
                  </a:lnTo>
                  <a:lnTo>
                    <a:pt x="236" y="265"/>
                  </a:lnTo>
                  <a:lnTo>
                    <a:pt x="246" y="261"/>
                  </a:lnTo>
                  <a:lnTo>
                    <a:pt x="246" y="261"/>
                  </a:lnTo>
                  <a:lnTo>
                    <a:pt x="246" y="257"/>
                  </a:lnTo>
                  <a:lnTo>
                    <a:pt x="250" y="254"/>
                  </a:lnTo>
                  <a:lnTo>
                    <a:pt x="246" y="250"/>
                  </a:lnTo>
                  <a:lnTo>
                    <a:pt x="250" y="257"/>
                  </a:lnTo>
                  <a:lnTo>
                    <a:pt x="261" y="254"/>
                  </a:lnTo>
                  <a:lnTo>
                    <a:pt x="261" y="250"/>
                  </a:lnTo>
                  <a:lnTo>
                    <a:pt x="265" y="250"/>
                  </a:lnTo>
                  <a:lnTo>
                    <a:pt x="268" y="243"/>
                  </a:lnTo>
                  <a:lnTo>
                    <a:pt x="261" y="239"/>
                  </a:lnTo>
                  <a:lnTo>
                    <a:pt x="261" y="247"/>
                  </a:lnTo>
                  <a:lnTo>
                    <a:pt x="265" y="247"/>
                  </a:lnTo>
                  <a:lnTo>
                    <a:pt x="268" y="247"/>
                  </a:lnTo>
                  <a:lnTo>
                    <a:pt x="268" y="243"/>
                  </a:lnTo>
                  <a:lnTo>
                    <a:pt x="272" y="239"/>
                  </a:lnTo>
                  <a:lnTo>
                    <a:pt x="275" y="239"/>
                  </a:lnTo>
                  <a:lnTo>
                    <a:pt x="275" y="236"/>
                  </a:lnTo>
                  <a:lnTo>
                    <a:pt x="275" y="228"/>
                  </a:lnTo>
                  <a:lnTo>
                    <a:pt x="268" y="228"/>
                  </a:lnTo>
                  <a:lnTo>
                    <a:pt x="272" y="232"/>
                  </a:lnTo>
                  <a:lnTo>
                    <a:pt x="275" y="228"/>
                  </a:lnTo>
                  <a:lnTo>
                    <a:pt x="279" y="228"/>
                  </a:lnTo>
                  <a:lnTo>
                    <a:pt x="279" y="228"/>
                  </a:lnTo>
                  <a:lnTo>
                    <a:pt x="283" y="218"/>
                  </a:lnTo>
                  <a:lnTo>
                    <a:pt x="283" y="218"/>
                  </a:lnTo>
                  <a:lnTo>
                    <a:pt x="283" y="214"/>
                  </a:lnTo>
                  <a:lnTo>
                    <a:pt x="283" y="203"/>
                  </a:lnTo>
                  <a:lnTo>
                    <a:pt x="283" y="189"/>
                  </a:lnTo>
                  <a:lnTo>
                    <a:pt x="283" y="174"/>
                  </a:lnTo>
                  <a:lnTo>
                    <a:pt x="279" y="156"/>
                  </a:lnTo>
                  <a:lnTo>
                    <a:pt x="279" y="141"/>
                  </a:lnTo>
                  <a:lnTo>
                    <a:pt x="279" y="141"/>
                  </a:lnTo>
                  <a:lnTo>
                    <a:pt x="279" y="141"/>
                  </a:lnTo>
                  <a:lnTo>
                    <a:pt x="272" y="109"/>
                  </a:lnTo>
                  <a:lnTo>
                    <a:pt x="265" y="76"/>
                  </a:lnTo>
                  <a:lnTo>
                    <a:pt x="254" y="51"/>
                  </a:lnTo>
                  <a:lnTo>
                    <a:pt x="246" y="51"/>
                  </a:lnTo>
                  <a:lnTo>
                    <a:pt x="254" y="51"/>
                  </a:lnTo>
                  <a:lnTo>
                    <a:pt x="250" y="29"/>
                  </a:lnTo>
                  <a:lnTo>
                    <a:pt x="243" y="29"/>
                  </a:lnTo>
                  <a:lnTo>
                    <a:pt x="243" y="36"/>
                  </a:lnTo>
                  <a:lnTo>
                    <a:pt x="261" y="33"/>
                  </a:lnTo>
                  <a:lnTo>
                    <a:pt x="286" y="29"/>
                  </a:lnTo>
                  <a:lnTo>
                    <a:pt x="315" y="25"/>
                  </a:lnTo>
                  <a:lnTo>
                    <a:pt x="348" y="25"/>
                  </a:lnTo>
                  <a:lnTo>
                    <a:pt x="377" y="22"/>
                  </a:lnTo>
                  <a:lnTo>
                    <a:pt x="406" y="22"/>
                  </a:lnTo>
                  <a:lnTo>
                    <a:pt x="431" y="25"/>
                  </a:lnTo>
                  <a:lnTo>
                    <a:pt x="449" y="25"/>
                  </a:lnTo>
                  <a:lnTo>
                    <a:pt x="468" y="29"/>
                  </a:lnTo>
                  <a:lnTo>
                    <a:pt x="468" y="22"/>
                  </a:lnTo>
                  <a:lnTo>
                    <a:pt x="468" y="29"/>
                  </a:lnTo>
                  <a:lnTo>
                    <a:pt x="482" y="36"/>
                  </a:lnTo>
                  <a:lnTo>
                    <a:pt x="493" y="40"/>
                  </a:lnTo>
                  <a:lnTo>
                    <a:pt x="504" y="47"/>
                  </a:lnTo>
                  <a:lnTo>
                    <a:pt x="515" y="51"/>
                  </a:lnTo>
                  <a:lnTo>
                    <a:pt x="515" y="43"/>
                  </a:lnTo>
                  <a:lnTo>
                    <a:pt x="511" y="47"/>
                  </a:lnTo>
                  <a:lnTo>
                    <a:pt x="518" y="54"/>
                  </a:lnTo>
                  <a:lnTo>
                    <a:pt x="522" y="51"/>
                  </a:lnTo>
                  <a:lnTo>
                    <a:pt x="518" y="54"/>
                  </a:lnTo>
                  <a:lnTo>
                    <a:pt x="522" y="62"/>
                  </a:lnTo>
                  <a:lnTo>
                    <a:pt x="526" y="69"/>
                  </a:lnTo>
                  <a:lnTo>
                    <a:pt x="529" y="76"/>
                  </a:lnTo>
                  <a:lnTo>
                    <a:pt x="533" y="72"/>
                  </a:lnTo>
                  <a:lnTo>
                    <a:pt x="529" y="72"/>
                  </a:lnTo>
                  <a:lnTo>
                    <a:pt x="529" y="80"/>
                  </a:lnTo>
                  <a:lnTo>
                    <a:pt x="529" y="87"/>
                  </a:lnTo>
                  <a:lnTo>
                    <a:pt x="533" y="87"/>
                  </a:lnTo>
                  <a:lnTo>
                    <a:pt x="529" y="87"/>
                  </a:lnTo>
                  <a:lnTo>
                    <a:pt x="526" y="94"/>
                  </a:lnTo>
                  <a:lnTo>
                    <a:pt x="522" y="102"/>
                  </a:lnTo>
                  <a:lnTo>
                    <a:pt x="518" y="109"/>
                  </a:lnTo>
                  <a:lnTo>
                    <a:pt x="515" y="116"/>
                  </a:lnTo>
                  <a:lnTo>
                    <a:pt x="518" y="116"/>
                  </a:lnTo>
                  <a:lnTo>
                    <a:pt x="515" y="112"/>
                  </a:lnTo>
                  <a:lnTo>
                    <a:pt x="507" y="120"/>
                  </a:lnTo>
                  <a:lnTo>
                    <a:pt x="500" y="127"/>
                  </a:lnTo>
                  <a:lnTo>
                    <a:pt x="500" y="131"/>
                  </a:lnTo>
                  <a:lnTo>
                    <a:pt x="500" y="131"/>
                  </a:lnTo>
                  <a:lnTo>
                    <a:pt x="497" y="141"/>
                  </a:lnTo>
                  <a:lnTo>
                    <a:pt x="500" y="141"/>
                  </a:lnTo>
                  <a:lnTo>
                    <a:pt x="497" y="138"/>
                  </a:lnTo>
                  <a:lnTo>
                    <a:pt x="489" y="145"/>
                  </a:lnTo>
                  <a:lnTo>
                    <a:pt x="489" y="149"/>
                  </a:lnTo>
                  <a:lnTo>
                    <a:pt x="489" y="149"/>
                  </a:lnTo>
                  <a:lnTo>
                    <a:pt x="489" y="163"/>
                  </a:lnTo>
                  <a:lnTo>
                    <a:pt x="493" y="163"/>
                  </a:lnTo>
                  <a:lnTo>
                    <a:pt x="489" y="163"/>
                  </a:lnTo>
                  <a:lnTo>
                    <a:pt x="486" y="174"/>
                  </a:lnTo>
                  <a:lnTo>
                    <a:pt x="482" y="174"/>
                  </a:lnTo>
                  <a:lnTo>
                    <a:pt x="486" y="178"/>
                  </a:lnTo>
                  <a:lnTo>
                    <a:pt x="489" y="189"/>
                  </a:lnTo>
                  <a:lnTo>
                    <a:pt x="493" y="185"/>
                  </a:lnTo>
                  <a:lnTo>
                    <a:pt x="489" y="185"/>
                  </a:lnTo>
                  <a:lnTo>
                    <a:pt x="489" y="199"/>
                  </a:lnTo>
                  <a:lnTo>
                    <a:pt x="489" y="203"/>
                  </a:lnTo>
                  <a:lnTo>
                    <a:pt x="489" y="203"/>
                  </a:lnTo>
                  <a:lnTo>
                    <a:pt x="493" y="214"/>
                  </a:lnTo>
                  <a:lnTo>
                    <a:pt x="497" y="225"/>
                  </a:lnTo>
                  <a:lnTo>
                    <a:pt x="504" y="236"/>
                  </a:lnTo>
                  <a:lnTo>
                    <a:pt x="504" y="236"/>
                  </a:lnTo>
                  <a:lnTo>
                    <a:pt x="504" y="236"/>
                  </a:lnTo>
                  <a:lnTo>
                    <a:pt x="511" y="243"/>
                  </a:lnTo>
                  <a:lnTo>
                    <a:pt x="515" y="247"/>
                  </a:lnTo>
                  <a:lnTo>
                    <a:pt x="515" y="247"/>
                  </a:lnTo>
                  <a:lnTo>
                    <a:pt x="526" y="254"/>
                  </a:lnTo>
                  <a:lnTo>
                    <a:pt x="533" y="257"/>
                  </a:lnTo>
                  <a:lnTo>
                    <a:pt x="533" y="250"/>
                  </a:lnTo>
                  <a:lnTo>
                    <a:pt x="529" y="254"/>
                  </a:lnTo>
                  <a:lnTo>
                    <a:pt x="533" y="257"/>
                  </a:lnTo>
                  <a:lnTo>
                    <a:pt x="536" y="261"/>
                  </a:lnTo>
                  <a:lnTo>
                    <a:pt x="536" y="261"/>
                  </a:lnTo>
                  <a:lnTo>
                    <a:pt x="544" y="265"/>
                  </a:lnTo>
                  <a:lnTo>
                    <a:pt x="551" y="268"/>
                  </a:lnTo>
                  <a:lnTo>
                    <a:pt x="551" y="268"/>
                  </a:lnTo>
                  <a:lnTo>
                    <a:pt x="551" y="268"/>
                  </a:lnTo>
                  <a:lnTo>
                    <a:pt x="558" y="268"/>
                  </a:lnTo>
                  <a:lnTo>
                    <a:pt x="558" y="261"/>
                  </a:lnTo>
                  <a:lnTo>
                    <a:pt x="558" y="268"/>
                  </a:lnTo>
                  <a:lnTo>
                    <a:pt x="566" y="272"/>
                  </a:lnTo>
                  <a:lnTo>
                    <a:pt x="566" y="272"/>
                  </a:lnTo>
                  <a:lnTo>
                    <a:pt x="566" y="272"/>
                  </a:lnTo>
                  <a:lnTo>
                    <a:pt x="573" y="272"/>
                  </a:lnTo>
                  <a:lnTo>
                    <a:pt x="580" y="272"/>
                  </a:lnTo>
                  <a:lnTo>
                    <a:pt x="595" y="268"/>
                  </a:lnTo>
                  <a:lnTo>
                    <a:pt x="609" y="265"/>
                  </a:lnTo>
                  <a:lnTo>
                    <a:pt x="624" y="261"/>
                  </a:lnTo>
                  <a:lnTo>
                    <a:pt x="627" y="257"/>
                  </a:lnTo>
                  <a:lnTo>
                    <a:pt x="627" y="261"/>
                  </a:lnTo>
                  <a:lnTo>
                    <a:pt x="638" y="254"/>
                  </a:lnTo>
                  <a:lnTo>
                    <a:pt x="649" y="247"/>
                  </a:lnTo>
                  <a:lnTo>
                    <a:pt x="649" y="247"/>
                  </a:lnTo>
                  <a:lnTo>
                    <a:pt x="649" y="243"/>
                  </a:lnTo>
                  <a:lnTo>
                    <a:pt x="656" y="236"/>
                  </a:lnTo>
                  <a:lnTo>
                    <a:pt x="660" y="236"/>
                  </a:lnTo>
                  <a:lnTo>
                    <a:pt x="660" y="236"/>
                  </a:lnTo>
                  <a:lnTo>
                    <a:pt x="667" y="225"/>
                  </a:lnTo>
                  <a:lnTo>
                    <a:pt x="671" y="214"/>
                  </a:lnTo>
                  <a:lnTo>
                    <a:pt x="663" y="210"/>
                  </a:lnTo>
                  <a:lnTo>
                    <a:pt x="667" y="214"/>
                  </a:lnTo>
                  <a:lnTo>
                    <a:pt x="674" y="207"/>
                  </a:lnTo>
                  <a:lnTo>
                    <a:pt x="678" y="207"/>
                  </a:lnTo>
                  <a:lnTo>
                    <a:pt x="678" y="203"/>
                  </a:lnTo>
                  <a:lnTo>
                    <a:pt x="678" y="192"/>
                  </a:lnTo>
                  <a:lnTo>
                    <a:pt x="678" y="181"/>
                  </a:lnTo>
                  <a:lnTo>
                    <a:pt x="678" y="167"/>
                  </a:lnTo>
                  <a:lnTo>
                    <a:pt x="678" y="167"/>
                  </a:lnTo>
                  <a:lnTo>
                    <a:pt x="678" y="167"/>
                  </a:lnTo>
                  <a:lnTo>
                    <a:pt x="674" y="160"/>
                  </a:lnTo>
                  <a:lnTo>
                    <a:pt x="667" y="145"/>
                  </a:lnTo>
                  <a:lnTo>
                    <a:pt x="663" y="134"/>
                  </a:lnTo>
                  <a:lnTo>
                    <a:pt x="660" y="131"/>
                  </a:lnTo>
                  <a:lnTo>
                    <a:pt x="660" y="131"/>
                  </a:lnTo>
                  <a:lnTo>
                    <a:pt x="649" y="123"/>
                  </a:lnTo>
                  <a:lnTo>
                    <a:pt x="645" y="127"/>
                  </a:lnTo>
                  <a:lnTo>
                    <a:pt x="649" y="123"/>
                  </a:lnTo>
                  <a:lnTo>
                    <a:pt x="642" y="116"/>
                  </a:lnTo>
                  <a:lnTo>
                    <a:pt x="638" y="120"/>
                  </a:lnTo>
                  <a:lnTo>
                    <a:pt x="645" y="120"/>
                  </a:lnTo>
                  <a:lnTo>
                    <a:pt x="638" y="109"/>
                  </a:lnTo>
                  <a:lnTo>
                    <a:pt x="634" y="98"/>
                  </a:lnTo>
                  <a:lnTo>
                    <a:pt x="631" y="87"/>
                  </a:lnTo>
                  <a:lnTo>
                    <a:pt x="627" y="80"/>
                  </a:lnTo>
                  <a:lnTo>
                    <a:pt x="620" y="80"/>
                  </a:lnTo>
                  <a:lnTo>
                    <a:pt x="627" y="80"/>
                  </a:lnTo>
                  <a:lnTo>
                    <a:pt x="627" y="69"/>
                  </a:lnTo>
                  <a:lnTo>
                    <a:pt x="627" y="58"/>
                  </a:lnTo>
                  <a:lnTo>
                    <a:pt x="620" y="58"/>
                  </a:lnTo>
                  <a:lnTo>
                    <a:pt x="627" y="62"/>
                  </a:lnTo>
                  <a:lnTo>
                    <a:pt x="631" y="51"/>
                  </a:lnTo>
                  <a:lnTo>
                    <a:pt x="634" y="43"/>
                  </a:lnTo>
                  <a:lnTo>
                    <a:pt x="634" y="43"/>
                  </a:lnTo>
                  <a:lnTo>
                    <a:pt x="634" y="40"/>
                  </a:lnTo>
                  <a:lnTo>
                    <a:pt x="634" y="29"/>
                  </a:lnTo>
                  <a:lnTo>
                    <a:pt x="627" y="29"/>
                  </a:lnTo>
                  <a:lnTo>
                    <a:pt x="631" y="33"/>
                  </a:lnTo>
                  <a:lnTo>
                    <a:pt x="638" y="25"/>
                  </a:lnTo>
                  <a:lnTo>
                    <a:pt x="642" y="22"/>
                  </a:lnTo>
                  <a:lnTo>
                    <a:pt x="649" y="14"/>
                  </a:lnTo>
                  <a:lnTo>
                    <a:pt x="645" y="11"/>
                  </a:lnTo>
                  <a:lnTo>
                    <a:pt x="649" y="18"/>
                  </a:lnTo>
                  <a:lnTo>
                    <a:pt x="656" y="14"/>
                  </a:lnTo>
                  <a:lnTo>
                    <a:pt x="656" y="14"/>
                  </a:lnTo>
                  <a:lnTo>
                    <a:pt x="656" y="11"/>
                  </a:lnTo>
                  <a:lnTo>
                    <a:pt x="660" y="7"/>
                  </a:lnTo>
                  <a:lnTo>
                    <a:pt x="656" y="4"/>
                  </a:lnTo>
                  <a:lnTo>
                    <a:pt x="656" y="11"/>
                  </a:lnTo>
                  <a:lnTo>
                    <a:pt x="663" y="11"/>
                  </a:lnTo>
                  <a:lnTo>
                    <a:pt x="674" y="11"/>
                  </a:lnTo>
                  <a:lnTo>
                    <a:pt x="689" y="14"/>
                  </a:lnTo>
                  <a:lnTo>
                    <a:pt x="711" y="14"/>
                  </a:lnTo>
                  <a:lnTo>
                    <a:pt x="736" y="18"/>
                  </a:lnTo>
                  <a:lnTo>
                    <a:pt x="761" y="22"/>
                  </a:lnTo>
                  <a:lnTo>
                    <a:pt x="790" y="22"/>
                  </a:lnTo>
                  <a:lnTo>
                    <a:pt x="823" y="25"/>
                  </a:lnTo>
                  <a:lnTo>
                    <a:pt x="856" y="25"/>
                  </a:lnTo>
                  <a:lnTo>
                    <a:pt x="859" y="25"/>
                  </a:lnTo>
                  <a:lnTo>
                    <a:pt x="859" y="18"/>
                  </a:lnTo>
                  <a:lnTo>
                    <a:pt x="856" y="18"/>
                  </a:lnTo>
                  <a:lnTo>
                    <a:pt x="852" y="40"/>
                  </a:lnTo>
                  <a:lnTo>
                    <a:pt x="848" y="62"/>
                  </a:lnTo>
                  <a:lnTo>
                    <a:pt x="845" y="91"/>
                  </a:lnTo>
                  <a:lnTo>
                    <a:pt x="841" y="120"/>
                  </a:lnTo>
                  <a:lnTo>
                    <a:pt x="837" y="149"/>
                  </a:lnTo>
                  <a:lnTo>
                    <a:pt x="837" y="174"/>
                  </a:lnTo>
                  <a:lnTo>
                    <a:pt x="837" y="196"/>
                  </a:lnTo>
                  <a:lnTo>
                    <a:pt x="837" y="207"/>
                  </a:lnTo>
                  <a:lnTo>
                    <a:pt x="837" y="210"/>
                  </a:lnTo>
                  <a:lnTo>
                    <a:pt x="837" y="210"/>
                  </a:lnTo>
                  <a:lnTo>
                    <a:pt x="841" y="218"/>
                  </a:lnTo>
                  <a:lnTo>
                    <a:pt x="845" y="214"/>
                  </a:lnTo>
                  <a:lnTo>
                    <a:pt x="841" y="214"/>
                  </a:lnTo>
                  <a:lnTo>
                    <a:pt x="841" y="221"/>
                  </a:lnTo>
                  <a:lnTo>
                    <a:pt x="841" y="225"/>
                  </a:lnTo>
                  <a:lnTo>
                    <a:pt x="841" y="225"/>
                  </a:lnTo>
                  <a:lnTo>
                    <a:pt x="848" y="232"/>
                  </a:lnTo>
                  <a:lnTo>
                    <a:pt x="852" y="236"/>
                  </a:lnTo>
                  <a:lnTo>
                    <a:pt x="852" y="236"/>
                  </a:lnTo>
                  <a:lnTo>
                    <a:pt x="859" y="239"/>
                  </a:lnTo>
                  <a:lnTo>
                    <a:pt x="859" y="232"/>
                  </a:lnTo>
                  <a:lnTo>
                    <a:pt x="856" y="236"/>
                  </a:lnTo>
                  <a:lnTo>
                    <a:pt x="863" y="243"/>
                  </a:lnTo>
                  <a:lnTo>
                    <a:pt x="866" y="247"/>
                  </a:lnTo>
                  <a:lnTo>
                    <a:pt x="866" y="247"/>
                  </a:lnTo>
                  <a:lnTo>
                    <a:pt x="874" y="247"/>
                  </a:lnTo>
                  <a:lnTo>
                    <a:pt x="874" y="239"/>
                  </a:lnTo>
                  <a:lnTo>
                    <a:pt x="874" y="247"/>
                  </a:lnTo>
                  <a:lnTo>
                    <a:pt x="885" y="250"/>
                  </a:lnTo>
                  <a:lnTo>
                    <a:pt x="895" y="254"/>
                  </a:lnTo>
                  <a:lnTo>
                    <a:pt x="895" y="254"/>
                  </a:lnTo>
                  <a:lnTo>
                    <a:pt x="895" y="254"/>
                  </a:lnTo>
                  <a:lnTo>
                    <a:pt x="903" y="254"/>
                  </a:lnTo>
                  <a:lnTo>
                    <a:pt x="914" y="254"/>
                  </a:lnTo>
                  <a:lnTo>
                    <a:pt x="924" y="254"/>
                  </a:lnTo>
                  <a:lnTo>
                    <a:pt x="935" y="254"/>
                  </a:lnTo>
                  <a:lnTo>
                    <a:pt x="939" y="254"/>
                  </a:lnTo>
                  <a:lnTo>
                    <a:pt x="939" y="254"/>
                  </a:lnTo>
                  <a:lnTo>
                    <a:pt x="946" y="250"/>
                  </a:lnTo>
                  <a:lnTo>
                    <a:pt x="957" y="247"/>
                  </a:lnTo>
                  <a:lnTo>
                    <a:pt x="964" y="243"/>
                  </a:lnTo>
                  <a:lnTo>
                    <a:pt x="964" y="243"/>
                  </a:lnTo>
                  <a:lnTo>
                    <a:pt x="964" y="239"/>
                  </a:lnTo>
                  <a:lnTo>
                    <a:pt x="972" y="232"/>
                  </a:lnTo>
                  <a:lnTo>
                    <a:pt x="968" y="228"/>
                  </a:lnTo>
                  <a:lnTo>
                    <a:pt x="972" y="236"/>
                  </a:lnTo>
                  <a:lnTo>
                    <a:pt x="979" y="232"/>
                  </a:lnTo>
                  <a:lnTo>
                    <a:pt x="986" y="228"/>
                  </a:lnTo>
                  <a:lnTo>
                    <a:pt x="993" y="225"/>
                  </a:lnTo>
                  <a:lnTo>
                    <a:pt x="1004" y="221"/>
                  </a:lnTo>
                  <a:lnTo>
                    <a:pt x="1001" y="214"/>
                  </a:lnTo>
                  <a:lnTo>
                    <a:pt x="1001" y="221"/>
                  </a:lnTo>
                  <a:lnTo>
                    <a:pt x="1011" y="221"/>
                  </a:lnTo>
                  <a:lnTo>
                    <a:pt x="1022" y="221"/>
                  </a:lnTo>
                  <a:lnTo>
                    <a:pt x="1022" y="214"/>
                  </a:lnTo>
                  <a:lnTo>
                    <a:pt x="1022" y="221"/>
                  </a:lnTo>
                  <a:lnTo>
                    <a:pt x="1033" y="225"/>
                  </a:lnTo>
                  <a:lnTo>
                    <a:pt x="1044" y="228"/>
                  </a:lnTo>
                  <a:lnTo>
                    <a:pt x="1055" y="236"/>
                  </a:lnTo>
                  <a:lnTo>
                    <a:pt x="1062" y="239"/>
                  </a:lnTo>
                  <a:lnTo>
                    <a:pt x="1073" y="247"/>
                  </a:lnTo>
                  <a:lnTo>
                    <a:pt x="1073" y="239"/>
                  </a:lnTo>
                  <a:lnTo>
                    <a:pt x="1069" y="243"/>
                  </a:lnTo>
                  <a:lnTo>
                    <a:pt x="1077" y="254"/>
                  </a:lnTo>
                  <a:lnTo>
                    <a:pt x="1080" y="265"/>
                  </a:lnTo>
                  <a:lnTo>
                    <a:pt x="1088" y="276"/>
                  </a:lnTo>
                  <a:lnTo>
                    <a:pt x="1091" y="272"/>
                  </a:lnTo>
                  <a:lnTo>
                    <a:pt x="1088" y="272"/>
                  </a:lnTo>
                  <a:lnTo>
                    <a:pt x="1088" y="286"/>
                  </a:lnTo>
                  <a:lnTo>
                    <a:pt x="1088" y="290"/>
                  </a:lnTo>
                  <a:lnTo>
                    <a:pt x="1088" y="290"/>
                  </a:lnTo>
                  <a:lnTo>
                    <a:pt x="1091" y="305"/>
                  </a:lnTo>
                  <a:lnTo>
                    <a:pt x="1095" y="301"/>
                  </a:lnTo>
                  <a:lnTo>
                    <a:pt x="1091" y="301"/>
                  </a:lnTo>
                  <a:lnTo>
                    <a:pt x="1088" y="308"/>
                  </a:lnTo>
                  <a:lnTo>
                    <a:pt x="1088" y="308"/>
                  </a:lnTo>
                  <a:lnTo>
                    <a:pt x="1088" y="308"/>
                  </a:lnTo>
                  <a:lnTo>
                    <a:pt x="1088" y="319"/>
                  </a:lnTo>
                  <a:lnTo>
                    <a:pt x="1091" y="319"/>
                  </a:lnTo>
                  <a:lnTo>
                    <a:pt x="1088" y="319"/>
                  </a:lnTo>
                  <a:lnTo>
                    <a:pt x="1080" y="330"/>
                  </a:lnTo>
                  <a:lnTo>
                    <a:pt x="1077" y="337"/>
                  </a:lnTo>
                  <a:lnTo>
                    <a:pt x="1080" y="337"/>
                  </a:lnTo>
                  <a:lnTo>
                    <a:pt x="1077" y="334"/>
                  </a:lnTo>
                  <a:lnTo>
                    <a:pt x="1069" y="341"/>
                  </a:lnTo>
                  <a:lnTo>
                    <a:pt x="1073" y="345"/>
                  </a:lnTo>
                  <a:lnTo>
                    <a:pt x="1073" y="341"/>
                  </a:lnTo>
                  <a:lnTo>
                    <a:pt x="1062" y="345"/>
                  </a:lnTo>
                  <a:lnTo>
                    <a:pt x="1062" y="345"/>
                  </a:lnTo>
                  <a:lnTo>
                    <a:pt x="1059" y="345"/>
                  </a:lnTo>
                  <a:lnTo>
                    <a:pt x="1051" y="352"/>
                  </a:lnTo>
                  <a:lnTo>
                    <a:pt x="1055" y="355"/>
                  </a:lnTo>
                  <a:lnTo>
                    <a:pt x="1055" y="352"/>
                  </a:lnTo>
                  <a:lnTo>
                    <a:pt x="1044" y="355"/>
                  </a:lnTo>
                  <a:lnTo>
                    <a:pt x="1033" y="359"/>
                  </a:lnTo>
                  <a:lnTo>
                    <a:pt x="1022" y="363"/>
                  </a:lnTo>
                  <a:lnTo>
                    <a:pt x="1022" y="366"/>
                  </a:lnTo>
                  <a:lnTo>
                    <a:pt x="1022" y="363"/>
                  </a:lnTo>
                  <a:lnTo>
                    <a:pt x="1011" y="363"/>
                  </a:lnTo>
                  <a:lnTo>
                    <a:pt x="1001" y="363"/>
                  </a:lnTo>
                  <a:lnTo>
                    <a:pt x="1001" y="366"/>
                  </a:lnTo>
                  <a:lnTo>
                    <a:pt x="1004" y="363"/>
                  </a:lnTo>
                  <a:lnTo>
                    <a:pt x="993" y="359"/>
                  </a:lnTo>
                  <a:lnTo>
                    <a:pt x="990" y="363"/>
                  </a:lnTo>
                  <a:lnTo>
                    <a:pt x="993" y="359"/>
                  </a:lnTo>
                  <a:lnTo>
                    <a:pt x="986" y="352"/>
                  </a:lnTo>
                  <a:lnTo>
                    <a:pt x="986" y="352"/>
                  </a:lnTo>
                  <a:lnTo>
                    <a:pt x="986" y="352"/>
                  </a:lnTo>
                  <a:lnTo>
                    <a:pt x="979" y="348"/>
                  </a:lnTo>
                  <a:lnTo>
                    <a:pt x="975" y="352"/>
                  </a:lnTo>
                  <a:lnTo>
                    <a:pt x="979" y="348"/>
                  </a:lnTo>
                  <a:lnTo>
                    <a:pt x="972" y="341"/>
                  </a:lnTo>
                  <a:lnTo>
                    <a:pt x="964" y="334"/>
                  </a:lnTo>
                  <a:lnTo>
                    <a:pt x="964" y="334"/>
                  </a:lnTo>
                  <a:lnTo>
                    <a:pt x="964" y="334"/>
                  </a:lnTo>
                  <a:lnTo>
                    <a:pt x="957" y="330"/>
                  </a:lnTo>
                  <a:lnTo>
                    <a:pt x="953" y="334"/>
                  </a:lnTo>
                  <a:lnTo>
                    <a:pt x="957" y="330"/>
                  </a:lnTo>
                  <a:lnTo>
                    <a:pt x="950" y="323"/>
                  </a:lnTo>
                  <a:lnTo>
                    <a:pt x="950" y="323"/>
                  </a:lnTo>
                  <a:lnTo>
                    <a:pt x="946" y="323"/>
                  </a:lnTo>
                  <a:lnTo>
                    <a:pt x="939" y="323"/>
                  </a:lnTo>
                  <a:lnTo>
                    <a:pt x="939" y="326"/>
                  </a:lnTo>
                  <a:lnTo>
                    <a:pt x="943" y="323"/>
                  </a:lnTo>
                  <a:lnTo>
                    <a:pt x="932" y="319"/>
                  </a:lnTo>
                  <a:lnTo>
                    <a:pt x="932" y="319"/>
                  </a:lnTo>
                  <a:lnTo>
                    <a:pt x="928" y="319"/>
                  </a:lnTo>
                  <a:lnTo>
                    <a:pt x="921" y="319"/>
                  </a:lnTo>
                  <a:lnTo>
                    <a:pt x="921" y="319"/>
                  </a:lnTo>
                  <a:lnTo>
                    <a:pt x="921" y="319"/>
                  </a:lnTo>
                  <a:lnTo>
                    <a:pt x="910" y="323"/>
                  </a:lnTo>
                  <a:lnTo>
                    <a:pt x="910" y="326"/>
                  </a:lnTo>
                  <a:lnTo>
                    <a:pt x="910" y="323"/>
                  </a:lnTo>
                  <a:lnTo>
                    <a:pt x="903" y="323"/>
                  </a:lnTo>
                  <a:lnTo>
                    <a:pt x="903" y="323"/>
                  </a:lnTo>
                  <a:lnTo>
                    <a:pt x="903" y="323"/>
                  </a:lnTo>
                  <a:lnTo>
                    <a:pt x="895" y="326"/>
                  </a:lnTo>
                  <a:lnTo>
                    <a:pt x="885" y="330"/>
                  </a:lnTo>
                  <a:lnTo>
                    <a:pt x="885" y="330"/>
                  </a:lnTo>
                  <a:lnTo>
                    <a:pt x="881" y="330"/>
                  </a:lnTo>
                  <a:lnTo>
                    <a:pt x="874" y="337"/>
                  </a:lnTo>
                  <a:lnTo>
                    <a:pt x="866" y="345"/>
                  </a:lnTo>
                  <a:lnTo>
                    <a:pt x="870" y="348"/>
                  </a:lnTo>
                  <a:lnTo>
                    <a:pt x="870" y="345"/>
                  </a:lnTo>
                  <a:lnTo>
                    <a:pt x="863" y="348"/>
                  </a:lnTo>
                  <a:lnTo>
                    <a:pt x="863" y="348"/>
                  </a:lnTo>
                  <a:lnTo>
                    <a:pt x="859" y="348"/>
                  </a:lnTo>
                  <a:lnTo>
                    <a:pt x="852" y="355"/>
                  </a:lnTo>
                  <a:lnTo>
                    <a:pt x="852" y="359"/>
                  </a:lnTo>
                  <a:lnTo>
                    <a:pt x="852" y="359"/>
                  </a:lnTo>
                  <a:lnTo>
                    <a:pt x="848" y="370"/>
                  </a:lnTo>
                  <a:lnTo>
                    <a:pt x="845" y="377"/>
                  </a:lnTo>
                  <a:lnTo>
                    <a:pt x="841" y="388"/>
                  </a:lnTo>
                  <a:lnTo>
                    <a:pt x="841" y="388"/>
                  </a:lnTo>
                  <a:lnTo>
                    <a:pt x="841" y="388"/>
                  </a:lnTo>
                  <a:lnTo>
                    <a:pt x="841" y="399"/>
                  </a:lnTo>
                  <a:lnTo>
                    <a:pt x="841" y="413"/>
                  </a:lnTo>
                  <a:lnTo>
                    <a:pt x="841" y="428"/>
                  </a:lnTo>
                  <a:lnTo>
                    <a:pt x="841" y="432"/>
                  </a:lnTo>
                  <a:lnTo>
                    <a:pt x="841" y="432"/>
                  </a:lnTo>
                  <a:lnTo>
                    <a:pt x="848" y="464"/>
                  </a:lnTo>
                  <a:lnTo>
                    <a:pt x="856" y="497"/>
                  </a:lnTo>
                  <a:lnTo>
                    <a:pt x="859" y="493"/>
                  </a:lnTo>
                  <a:lnTo>
                    <a:pt x="856" y="493"/>
                  </a:lnTo>
                  <a:lnTo>
                    <a:pt x="859" y="511"/>
                  </a:lnTo>
                  <a:lnTo>
                    <a:pt x="859" y="522"/>
                  </a:lnTo>
                  <a:lnTo>
                    <a:pt x="859" y="515"/>
                  </a:lnTo>
                  <a:lnTo>
                    <a:pt x="863" y="530"/>
                  </a:lnTo>
                  <a:lnTo>
                    <a:pt x="866" y="526"/>
                  </a:lnTo>
                  <a:lnTo>
                    <a:pt x="863" y="526"/>
                  </a:lnTo>
                  <a:lnTo>
                    <a:pt x="863" y="544"/>
                  </a:lnTo>
                  <a:lnTo>
                    <a:pt x="863" y="562"/>
                  </a:lnTo>
                  <a:lnTo>
                    <a:pt x="863" y="577"/>
                  </a:lnTo>
                  <a:lnTo>
                    <a:pt x="863" y="591"/>
                  </a:lnTo>
                  <a:lnTo>
                    <a:pt x="863" y="598"/>
                  </a:lnTo>
                  <a:lnTo>
                    <a:pt x="866" y="598"/>
                  </a:lnTo>
                  <a:lnTo>
                    <a:pt x="863" y="595"/>
                  </a:lnTo>
                  <a:lnTo>
                    <a:pt x="859" y="598"/>
                  </a:lnTo>
                  <a:lnTo>
                    <a:pt x="859" y="602"/>
                  </a:lnTo>
                  <a:lnTo>
                    <a:pt x="859" y="602"/>
                  </a:lnTo>
                  <a:lnTo>
                    <a:pt x="859" y="609"/>
                  </a:lnTo>
                  <a:lnTo>
                    <a:pt x="863" y="609"/>
                  </a:lnTo>
                  <a:lnTo>
                    <a:pt x="859" y="609"/>
                  </a:lnTo>
                  <a:lnTo>
                    <a:pt x="856" y="617"/>
                  </a:lnTo>
                  <a:lnTo>
                    <a:pt x="859" y="617"/>
                  </a:lnTo>
                  <a:lnTo>
                    <a:pt x="859" y="613"/>
                  </a:lnTo>
                  <a:lnTo>
                    <a:pt x="845" y="620"/>
                  </a:lnTo>
                  <a:lnTo>
                    <a:pt x="834" y="627"/>
                  </a:lnTo>
                  <a:lnTo>
                    <a:pt x="834" y="631"/>
                  </a:lnTo>
                  <a:lnTo>
                    <a:pt x="834" y="627"/>
                  </a:lnTo>
                  <a:lnTo>
                    <a:pt x="816" y="631"/>
                  </a:lnTo>
                  <a:lnTo>
                    <a:pt x="798" y="635"/>
                  </a:lnTo>
                  <a:lnTo>
                    <a:pt x="783" y="635"/>
                  </a:lnTo>
                  <a:lnTo>
                    <a:pt x="761" y="638"/>
                  </a:lnTo>
                  <a:lnTo>
                    <a:pt x="743" y="638"/>
                  </a:lnTo>
                  <a:lnTo>
                    <a:pt x="725" y="638"/>
                  </a:lnTo>
                  <a:lnTo>
                    <a:pt x="707" y="638"/>
                  </a:lnTo>
                  <a:lnTo>
                    <a:pt x="689" y="635"/>
                  </a:lnTo>
                  <a:lnTo>
                    <a:pt x="674" y="635"/>
                  </a:lnTo>
                  <a:lnTo>
                    <a:pt x="656" y="631"/>
                  </a:lnTo>
                  <a:lnTo>
                    <a:pt x="642" y="627"/>
                  </a:lnTo>
                  <a:lnTo>
                    <a:pt x="627" y="624"/>
                  </a:lnTo>
                  <a:lnTo>
                    <a:pt x="627" y="627"/>
                  </a:lnTo>
                  <a:lnTo>
                    <a:pt x="631" y="624"/>
                  </a:lnTo>
                  <a:lnTo>
                    <a:pt x="624" y="617"/>
                  </a:lnTo>
                  <a:lnTo>
                    <a:pt x="624" y="617"/>
                  </a:lnTo>
                  <a:lnTo>
                    <a:pt x="624" y="617"/>
                  </a:lnTo>
                  <a:lnTo>
                    <a:pt x="613" y="613"/>
                  </a:lnTo>
                  <a:lnTo>
                    <a:pt x="609" y="617"/>
                  </a:lnTo>
                  <a:lnTo>
                    <a:pt x="613" y="613"/>
                  </a:lnTo>
                  <a:lnTo>
                    <a:pt x="605" y="606"/>
                  </a:lnTo>
                  <a:lnTo>
                    <a:pt x="602" y="602"/>
                  </a:lnTo>
                  <a:lnTo>
                    <a:pt x="598" y="606"/>
                  </a:lnTo>
                  <a:lnTo>
                    <a:pt x="605" y="606"/>
                  </a:lnTo>
                  <a:lnTo>
                    <a:pt x="602" y="598"/>
                  </a:lnTo>
                  <a:lnTo>
                    <a:pt x="602" y="598"/>
                  </a:lnTo>
                  <a:lnTo>
                    <a:pt x="598" y="595"/>
                  </a:lnTo>
                  <a:lnTo>
                    <a:pt x="595" y="591"/>
                  </a:lnTo>
                  <a:lnTo>
                    <a:pt x="591" y="595"/>
                  </a:lnTo>
                  <a:lnTo>
                    <a:pt x="598" y="595"/>
                  </a:lnTo>
                  <a:lnTo>
                    <a:pt x="598" y="591"/>
                  </a:lnTo>
                  <a:lnTo>
                    <a:pt x="598" y="584"/>
                  </a:lnTo>
                  <a:lnTo>
                    <a:pt x="598" y="580"/>
                  </a:lnTo>
                  <a:lnTo>
                    <a:pt x="598" y="573"/>
                  </a:lnTo>
                  <a:lnTo>
                    <a:pt x="591" y="573"/>
                  </a:lnTo>
                  <a:lnTo>
                    <a:pt x="598" y="577"/>
                  </a:lnTo>
                  <a:lnTo>
                    <a:pt x="602" y="569"/>
                  </a:lnTo>
                  <a:lnTo>
                    <a:pt x="595" y="566"/>
                  </a:lnTo>
                  <a:lnTo>
                    <a:pt x="598" y="569"/>
                  </a:lnTo>
                  <a:lnTo>
                    <a:pt x="602" y="566"/>
                  </a:lnTo>
                  <a:lnTo>
                    <a:pt x="605" y="566"/>
                  </a:lnTo>
                  <a:lnTo>
                    <a:pt x="605" y="566"/>
                  </a:lnTo>
                  <a:lnTo>
                    <a:pt x="609" y="559"/>
                  </a:lnTo>
                  <a:lnTo>
                    <a:pt x="613" y="551"/>
                  </a:lnTo>
                  <a:lnTo>
                    <a:pt x="605" y="548"/>
                  </a:lnTo>
                  <a:lnTo>
                    <a:pt x="609" y="551"/>
                  </a:lnTo>
                  <a:lnTo>
                    <a:pt x="624" y="537"/>
                  </a:lnTo>
                  <a:lnTo>
                    <a:pt x="638" y="522"/>
                  </a:lnTo>
                  <a:lnTo>
                    <a:pt x="645" y="515"/>
                  </a:lnTo>
                  <a:lnTo>
                    <a:pt x="649" y="515"/>
                  </a:lnTo>
                  <a:lnTo>
                    <a:pt x="649" y="515"/>
                  </a:lnTo>
                  <a:lnTo>
                    <a:pt x="653" y="504"/>
                  </a:lnTo>
                  <a:lnTo>
                    <a:pt x="656" y="493"/>
                  </a:lnTo>
                  <a:lnTo>
                    <a:pt x="660" y="482"/>
                  </a:lnTo>
                  <a:lnTo>
                    <a:pt x="660" y="482"/>
                  </a:lnTo>
                  <a:lnTo>
                    <a:pt x="660" y="479"/>
                  </a:lnTo>
                  <a:lnTo>
                    <a:pt x="660" y="468"/>
                  </a:lnTo>
                  <a:lnTo>
                    <a:pt x="660" y="468"/>
                  </a:lnTo>
                  <a:lnTo>
                    <a:pt x="660" y="468"/>
                  </a:lnTo>
                  <a:lnTo>
                    <a:pt x="656" y="457"/>
                  </a:lnTo>
                  <a:lnTo>
                    <a:pt x="653" y="446"/>
                  </a:lnTo>
                  <a:lnTo>
                    <a:pt x="649" y="432"/>
                  </a:lnTo>
                  <a:lnTo>
                    <a:pt x="642" y="421"/>
                  </a:lnTo>
                  <a:lnTo>
                    <a:pt x="642" y="421"/>
                  </a:lnTo>
                  <a:lnTo>
                    <a:pt x="638" y="417"/>
                  </a:lnTo>
                  <a:lnTo>
                    <a:pt x="631" y="410"/>
                  </a:lnTo>
                  <a:lnTo>
                    <a:pt x="624" y="403"/>
                  </a:lnTo>
                  <a:lnTo>
                    <a:pt x="613" y="392"/>
                  </a:lnTo>
                  <a:lnTo>
                    <a:pt x="613" y="392"/>
                  </a:lnTo>
                  <a:lnTo>
                    <a:pt x="613" y="392"/>
                  </a:lnTo>
                  <a:lnTo>
                    <a:pt x="605" y="388"/>
                  </a:lnTo>
                  <a:lnTo>
                    <a:pt x="591" y="381"/>
                  </a:lnTo>
                  <a:lnTo>
                    <a:pt x="580" y="377"/>
                  </a:lnTo>
                  <a:lnTo>
                    <a:pt x="580" y="377"/>
                  </a:lnTo>
                  <a:lnTo>
                    <a:pt x="576" y="377"/>
                  </a:lnTo>
                  <a:lnTo>
                    <a:pt x="562" y="377"/>
                  </a:lnTo>
                  <a:lnTo>
                    <a:pt x="547" y="377"/>
                  </a:lnTo>
                  <a:lnTo>
                    <a:pt x="547" y="377"/>
                  </a:lnTo>
                  <a:lnTo>
                    <a:pt x="547" y="377"/>
                  </a:lnTo>
                  <a:lnTo>
                    <a:pt x="536" y="381"/>
                  </a:lnTo>
                  <a:lnTo>
                    <a:pt x="522" y="388"/>
                  </a:lnTo>
                  <a:lnTo>
                    <a:pt x="511" y="392"/>
                  </a:lnTo>
                  <a:lnTo>
                    <a:pt x="500" y="399"/>
                  </a:lnTo>
                  <a:lnTo>
                    <a:pt x="500" y="399"/>
                  </a:lnTo>
                  <a:lnTo>
                    <a:pt x="497" y="399"/>
                  </a:lnTo>
                  <a:lnTo>
                    <a:pt x="486" y="410"/>
                  </a:lnTo>
                  <a:lnTo>
                    <a:pt x="478" y="417"/>
                  </a:lnTo>
                  <a:lnTo>
                    <a:pt x="478" y="421"/>
                  </a:lnTo>
                  <a:lnTo>
                    <a:pt x="478" y="421"/>
                  </a:lnTo>
                  <a:lnTo>
                    <a:pt x="471" y="432"/>
                  </a:lnTo>
                  <a:lnTo>
                    <a:pt x="464" y="442"/>
                  </a:lnTo>
                  <a:lnTo>
                    <a:pt x="460" y="453"/>
                  </a:lnTo>
                  <a:lnTo>
                    <a:pt x="457" y="468"/>
                  </a:lnTo>
                  <a:lnTo>
                    <a:pt x="457" y="468"/>
                  </a:lnTo>
                  <a:lnTo>
                    <a:pt x="457" y="468"/>
                  </a:lnTo>
                  <a:lnTo>
                    <a:pt x="457" y="479"/>
                  </a:lnTo>
                  <a:lnTo>
                    <a:pt x="457" y="482"/>
                  </a:lnTo>
                  <a:lnTo>
                    <a:pt x="457" y="482"/>
                  </a:lnTo>
                  <a:lnTo>
                    <a:pt x="460" y="493"/>
                  </a:lnTo>
                  <a:lnTo>
                    <a:pt x="464" y="504"/>
                  </a:lnTo>
                  <a:lnTo>
                    <a:pt x="468" y="511"/>
                  </a:lnTo>
                  <a:lnTo>
                    <a:pt x="471" y="508"/>
                  </a:lnTo>
                  <a:lnTo>
                    <a:pt x="468" y="508"/>
                  </a:lnTo>
                  <a:lnTo>
                    <a:pt x="468" y="511"/>
                  </a:lnTo>
                  <a:lnTo>
                    <a:pt x="468" y="515"/>
                  </a:lnTo>
                  <a:lnTo>
                    <a:pt x="468" y="515"/>
                  </a:lnTo>
                  <a:lnTo>
                    <a:pt x="471" y="522"/>
                  </a:lnTo>
                  <a:lnTo>
                    <a:pt x="471" y="522"/>
                  </a:lnTo>
                  <a:lnTo>
                    <a:pt x="475" y="526"/>
                  </a:lnTo>
                  <a:lnTo>
                    <a:pt x="482" y="530"/>
                  </a:lnTo>
                  <a:lnTo>
                    <a:pt x="482" y="522"/>
                  </a:lnTo>
                  <a:lnTo>
                    <a:pt x="478" y="526"/>
                  </a:lnTo>
                  <a:lnTo>
                    <a:pt x="486" y="537"/>
                  </a:lnTo>
                  <a:lnTo>
                    <a:pt x="486" y="537"/>
                  </a:lnTo>
                  <a:lnTo>
                    <a:pt x="486" y="537"/>
                  </a:lnTo>
                  <a:lnTo>
                    <a:pt x="493" y="544"/>
                  </a:lnTo>
                  <a:lnTo>
                    <a:pt x="497" y="540"/>
                  </a:lnTo>
                  <a:lnTo>
                    <a:pt x="493" y="544"/>
                  </a:lnTo>
                  <a:lnTo>
                    <a:pt x="497" y="555"/>
                  </a:lnTo>
                  <a:lnTo>
                    <a:pt x="497" y="555"/>
                  </a:lnTo>
                  <a:lnTo>
                    <a:pt x="497" y="555"/>
                  </a:lnTo>
                  <a:lnTo>
                    <a:pt x="504" y="562"/>
                  </a:lnTo>
                  <a:lnTo>
                    <a:pt x="507" y="559"/>
                  </a:lnTo>
                  <a:lnTo>
                    <a:pt x="504" y="562"/>
                  </a:lnTo>
                  <a:lnTo>
                    <a:pt x="507" y="569"/>
                  </a:lnTo>
                  <a:lnTo>
                    <a:pt x="511" y="566"/>
                  </a:lnTo>
                  <a:lnTo>
                    <a:pt x="507" y="566"/>
                  </a:lnTo>
                  <a:lnTo>
                    <a:pt x="507" y="573"/>
                  </a:lnTo>
                  <a:lnTo>
                    <a:pt x="507" y="577"/>
                  </a:lnTo>
                  <a:lnTo>
                    <a:pt x="507" y="577"/>
                  </a:lnTo>
                  <a:lnTo>
                    <a:pt x="511" y="584"/>
                  </a:lnTo>
                  <a:lnTo>
                    <a:pt x="515" y="580"/>
                  </a:lnTo>
                  <a:lnTo>
                    <a:pt x="511" y="580"/>
                  </a:lnTo>
                  <a:lnTo>
                    <a:pt x="511" y="588"/>
                  </a:lnTo>
                  <a:lnTo>
                    <a:pt x="515" y="588"/>
                  </a:lnTo>
                  <a:lnTo>
                    <a:pt x="511" y="588"/>
                  </a:lnTo>
                  <a:lnTo>
                    <a:pt x="507" y="595"/>
                  </a:lnTo>
                  <a:lnTo>
                    <a:pt x="507" y="595"/>
                  </a:lnTo>
                  <a:lnTo>
                    <a:pt x="507" y="595"/>
                  </a:lnTo>
                  <a:lnTo>
                    <a:pt x="507" y="598"/>
                  </a:lnTo>
                  <a:lnTo>
                    <a:pt x="511" y="598"/>
                  </a:lnTo>
                  <a:lnTo>
                    <a:pt x="507" y="595"/>
                  </a:lnTo>
                  <a:lnTo>
                    <a:pt x="504" y="598"/>
                  </a:lnTo>
                  <a:lnTo>
                    <a:pt x="504" y="602"/>
                  </a:lnTo>
                  <a:lnTo>
                    <a:pt x="504" y="602"/>
                  </a:lnTo>
                  <a:lnTo>
                    <a:pt x="500" y="609"/>
                  </a:lnTo>
                  <a:lnTo>
                    <a:pt x="504" y="609"/>
                  </a:lnTo>
                  <a:lnTo>
                    <a:pt x="504" y="606"/>
                  </a:lnTo>
                  <a:lnTo>
                    <a:pt x="497" y="609"/>
                  </a:lnTo>
                  <a:lnTo>
                    <a:pt x="497" y="613"/>
                  </a:lnTo>
                  <a:lnTo>
                    <a:pt x="497" y="609"/>
                  </a:lnTo>
                  <a:lnTo>
                    <a:pt x="493" y="609"/>
                  </a:lnTo>
                  <a:lnTo>
                    <a:pt x="493" y="609"/>
                  </a:lnTo>
                  <a:lnTo>
                    <a:pt x="493" y="609"/>
                  </a:lnTo>
                  <a:lnTo>
                    <a:pt x="482" y="613"/>
                  </a:lnTo>
                  <a:lnTo>
                    <a:pt x="482" y="617"/>
                  </a:lnTo>
                  <a:lnTo>
                    <a:pt x="482" y="613"/>
                  </a:lnTo>
                  <a:lnTo>
                    <a:pt x="475" y="613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657440" y="1181160"/>
            <a:ext cx="18716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-TR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253040" y="2725560"/>
            <a:ext cx="2133000" cy="1680840"/>
            <a:chOff x="4253040" y="2725560"/>
            <a:chExt cx="2133000" cy="1680840"/>
          </a:xfrm>
        </p:grpSpPr>
        <p:grpSp>
          <p:nvGrpSpPr>
            <p:cNvPr id="146" name=""/>
            <p:cNvGrpSpPr/>
            <p:nvPr/>
          </p:nvGrpSpPr>
          <p:grpSpPr>
            <a:xfrm>
              <a:off x="4253040" y="2725560"/>
              <a:ext cx="2133000" cy="1680840"/>
              <a:chOff x="4253040" y="2725560"/>
              <a:chExt cx="2133000" cy="1680840"/>
            </a:xfrm>
          </p:grpSpPr>
          <p:sp>
            <p:nvSpPr>
              <p:cNvPr id="147" name=""/>
              <p:cNvSpPr/>
              <p:nvPr/>
            </p:nvSpPr>
            <p:spPr>
              <a:xfrm>
                <a:off x="4260960" y="2731680"/>
                <a:ext cx="2111400" cy="1660680"/>
              </a:xfrm>
              <a:custGeom>
                <a:avLst/>
                <a:gdLst/>
                <a:ahLst/>
                <a:rect l="l" t="t" r="r" b="b"/>
                <a:pathLst>
                  <a:path w="1073" h="831">
                    <a:moveTo>
                      <a:pt x="210" y="475"/>
                    </a:moveTo>
                    <a:lnTo>
                      <a:pt x="206" y="479"/>
                    </a:lnTo>
                    <a:lnTo>
                      <a:pt x="199" y="483"/>
                    </a:lnTo>
                    <a:lnTo>
                      <a:pt x="192" y="486"/>
                    </a:lnTo>
                    <a:lnTo>
                      <a:pt x="188" y="490"/>
                    </a:lnTo>
                    <a:lnTo>
                      <a:pt x="181" y="490"/>
                    </a:lnTo>
                    <a:lnTo>
                      <a:pt x="174" y="490"/>
                    </a:lnTo>
                    <a:lnTo>
                      <a:pt x="170" y="486"/>
                    </a:lnTo>
                    <a:lnTo>
                      <a:pt x="163" y="486"/>
                    </a:lnTo>
                    <a:lnTo>
                      <a:pt x="148" y="479"/>
                    </a:lnTo>
                    <a:lnTo>
                      <a:pt x="137" y="475"/>
                    </a:lnTo>
                    <a:lnTo>
                      <a:pt x="127" y="468"/>
                    </a:lnTo>
                    <a:lnTo>
                      <a:pt x="112" y="461"/>
                    </a:lnTo>
                    <a:lnTo>
                      <a:pt x="101" y="454"/>
                    </a:lnTo>
                    <a:lnTo>
                      <a:pt x="87" y="450"/>
                    </a:lnTo>
                    <a:lnTo>
                      <a:pt x="79" y="450"/>
                    </a:lnTo>
                    <a:lnTo>
                      <a:pt x="76" y="446"/>
                    </a:lnTo>
                    <a:lnTo>
                      <a:pt x="69" y="446"/>
                    </a:lnTo>
                    <a:lnTo>
                      <a:pt x="61" y="446"/>
                    </a:lnTo>
                    <a:lnTo>
                      <a:pt x="54" y="450"/>
                    </a:lnTo>
                    <a:lnTo>
                      <a:pt x="47" y="450"/>
                    </a:lnTo>
                    <a:lnTo>
                      <a:pt x="40" y="454"/>
                    </a:lnTo>
                    <a:lnTo>
                      <a:pt x="36" y="461"/>
                    </a:lnTo>
                    <a:lnTo>
                      <a:pt x="29" y="465"/>
                    </a:lnTo>
                    <a:lnTo>
                      <a:pt x="21" y="472"/>
                    </a:lnTo>
                    <a:lnTo>
                      <a:pt x="14" y="483"/>
                    </a:lnTo>
                    <a:lnTo>
                      <a:pt x="7" y="494"/>
                    </a:lnTo>
                    <a:lnTo>
                      <a:pt x="3" y="497"/>
                    </a:lnTo>
                    <a:lnTo>
                      <a:pt x="0" y="505"/>
                    </a:lnTo>
                    <a:lnTo>
                      <a:pt x="0" y="515"/>
                    </a:lnTo>
                    <a:lnTo>
                      <a:pt x="0" y="526"/>
                    </a:lnTo>
                    <a:lnTo>
                      <a:pt x="0" y="534"/>
                    </a:lnTo>
                    <a:lnTo>
                      <a:pt x="3" y="544"/>
                    </a:lnTo>
                    <a:lnTo>
                      <a:pt x="11" y="555"/>
                    </a:lnTo>
                    <a:lnTo>
                      <a:pt x="14" y="563"/>
                    </a:lnTo>
                    <a:lnTo>
                      <a:pt x="21" y="573"/>
                    </a:lnTo>
                    <a:lnTo>
                      <a:pt x="32" y="581"/>
                    </a:lnTo>
                    <a:lnTo>
                      <a:pt x="36" y="581"/>
                    </a:lnTo>
                    <a:lnTo>
                      <a:pt x="40" y="584"/>
                    </a:lnTo>
                    <a:lnTo>
                      <a:pt x="47" y="588"/>
                    </a:lnTo>
                    <a:lnTo>
                      <a:pt x="54" y="588"/>
                    </a:lnTo>
                    <a:lnTo>
                      <a:pt x="61" y="592"/>
                    </a:lnTo>
                    <a:lnTo>
                      <a:pt x="69" y="592"/>
                    </a:lnTo>
                    <a:lnTo>
                      <a:pt x="76" y="592"/>
                    </a:lnTo>
                    <a:lnTo>
                      <a:pt x="83" y="592"/>
                    </a:lnTo>
                    <a:lnTo>
                      <a:pt x="94" y="592"/>
                    </a:lnTo>
                    <a:lnTo>
                      <a:pt x="101" y="588"/>
                    </a:lnTo>
                    <a:lnTo>
                      <a:pt x="108" y="588"/>
                    </a:lnTo>
                    <a:lnTo>
                      <a:pt x="119" y="584"/>
                    </a:lnTo>
                    <a:lnTo>
                      <a:pt x="137" y="577"/>
                    </a:lnTo>
                    <a:lnTo>
                      <a:pt x="148" y="573"/>
                    </a:lnTo>
                    <a:lnTo>
                      <a:pt x="163" y="570"/>
                    </a:lnTo>
                    <a:lnTo>
                      <a:pt x="174" y="570"/>
                    </a:lnTo>
                    <a:lnTo>
                      <a:pt x="181" y="570"/>
                    </a:lnTo>
                    <a:lnTo>
                      <a:pt x="185" y="573"/>
                    </a:lnTo>
                    <a:lnTo>
                      <a:pt x="188" y="573"/>
                    </a:lnTo>
                    <a:lnTo>
                      <a:pt x="195" y="577"/>
                    </a:lnTo>
                    <a:lnTo>
                      <a:pt x="199" y="581"/>
                    </a:lnTo>
                    <a:lnTo>
                      <a:pt x="203" y="588"/>
                    </a:lnTo>
                    <a:lnTo>
                      <a:pt x="206" y="592"/>
                    </a:lnTo>
                    <a:lnTo>
                      <a:pt x="210" y="602"/>
                    </a:lnTo>
                    <a:lnTo>
                      <a:pt x="214" y="610"/>
                    </a:lnTo>
                    <a:lnTo>
                      <a:pt x="217" y="621"/>
                    </a:lnTo>
                    <a:lnTo>
                      <a:pt x="221" y="631"/>
                    </a:lnTo>
                    <a:lnTo>
                      <a:pt x="224" y="642"/>
                    </a:lnTo>
                    <a:lnTo>
                      <a:pt x="224" y="657"/>
                    </a:lnTo>
                    <a:lnTo>
                      <a:pt x="228" y="671"/>
                    </a:lnTo>
                    <a:lnTo>
                      <a:pt x="228" y="686"/>
                    </a:lnTo>
                    <a:lnTo>
                      <a:pt x="228" y="700"/>
                    </a:lnTo>
                    <a:lnTo>
                      <a:pt x="228" y="715"/>
                    </a:lnTo>
                    <a:lnTo>
                      <a:pt x="228" y="729"/>
                    </a:lnTo>
                    <a:lnTo>
                      <a:pt x="224" y="744"/>
                    </a:lnTo>
                    <a:lnTo>
                      <a:pt x="224" y="758"/>
                    </a:lnTo>
                    <a:lnTo>
                      <a:pt x="221" y="773"/>
                    </a:lnTo>
                    <a:lnTo>
                      <a:pt x="217" y="787"/>
                    </a:lnTo>
                    <a:lnTo>
                      <a:pt x="214" y="802"/>
                    </a:lnTo>
                    <a:lnTo>
                      <a:pt x="210" y="813"/>
                    </a:lnTo>
                    <a:lnTo>
                      <a:pt x="235" y="813"/>
                    </a:lnTo>
                    <a:lnTo>
                      <a:pt x="261" y="813"/>
                    </a:lnTo>
                    <a:lnTo>
                      <a:pt x="286" y="813"/>
                    </a:lnTo>
                    <a:lnTo>
                      <a:pt x="308" y="813"/>
                    </a:lnTo>
                    <a:lnTo>
                      <a:pt x="330" y="813"/>
                    </a:lnTo>
                    <a:lnTo>
                      <a:pt x="351" y="813"/>
                    </a:lnTo>
                    <a:lnTo>
                      <a:pt x="369" y="813"/>
                    </a:lnTo>
                    <a:lnTo>
                      <a:pt x="380" y="813"/>
                    </a:lnTo>
                    <a:lnTo>
                      <a:pt x="398" y="809"/>
                    </a:lnTo>
                    <a:lnTo>
                      <a:pt x="413" y="806"/>
                    </a:lnTo>
                    <a:lnTo>
                      <a:pt x="424" y="795"/>
                    </a:lnTo>
                    <a:lnTo>
                      <a:pt x="438" y="787"/>
                    </a:lnTo>
                    <a:lnTo>
                      <a:pt x="446" y="780"/>
                    </a:lnTo>
                    <a:lnTo>
                      <a:pt x="453" y="773"/>
                    </a:lnTo>
                    <a:lnTo>
                      <a:pt x="460" y="762"/>
                    </a:lnTo>
                    <a:lnTo>
                      <a:pt x="464" y="751"/>
                    </a:lnTo>
                    <a:lnTo>
                      <a:pt x="467" y="740"/>
                    </a:lnTo>
                    <a:lnTo>
                      <a:pt x="467" y="733"/>
                    </a:lnTo>
                    <a:lnTo>
                      <a:pt x="467" y="722"/>
                    </a:lnTo>
                    <a:lnTo>
                      <a:pt x="467" y="711"/>
                    </a:lnTo>
                    <a:lnTo>
                      <a:pt x="464" y="700"/>
                    </a:lnTo>
                    <a:lnTo>
                      <a:pt x="456" y="693"/>
                    </a:lnTo>
                    <a:lnTo>
                      <a:pt x="453" y="682"/>
                    </a:lnTo>
                    <a:lnTo>
                      <a:pt x="442" y="675"/>
                    </a:lnTo>
                    <a:lnTo>
                      <a:pt x="435" y="664"/>
                    </a:lnTo>
                    <a:lnTo>
                      <a:pt x="427" y="657"/>
                    </a:lnTo>
                    <a:lnTo>
                      <a:pt x="424" y="646"/>
                    </a:lnTo>
                    <a:lnTo>
                      <a:pt x="420" y="635"/>
                    </a:lnTo>
                    <a:lnTo>
                      <a:pt x="420" y="621"/>
                    </a:lnTo>
                    <a:lnTo>
                      <a:pt x="420" y="610"/>
                    </a:lnTo>
                    <a:lnTo>
                      <a:pt x="420" y="599"/>
                    </a:lnTo>
                    <a:lnTo>
                      <a:pt x="424" y="588"/>
                    </a:lnTo>
                    <a:lnTo>
                      <a:pt x="427" y="577"/>
                    </a:lnTo>
                    <a:lnTo>
                      <a:pt x="435" y="566"/>
                    </a:lnTo>
                    <a:lnTo>
                      <a:pt x="442" y="563"/>
                    </a:lnTo>
                    <a:lnTo>
                      <a:pt x="446" y="555"/>
                    </a:lnTo>
                    <a:lnTo>
                      <a:pt x="449" y="552"/>
                    </a:lnTo>
                    <a:lnTo>
                      <a:pt x="456" y="552"/>
                    </a:lnTo>
                    <a:lnTo>
                      <a:pt x="460" y="548"/>
                    </a:lnTo>
                    <a:lnTo>
                      <a:pt x="467" y="544"/>
                    </a:lnTo>
                    <a:lnTo>
                      <a:pt x="475" y="541"/>
                    </a:lnTo>
                    <a:lnTo>
                      <a:pt x="482" y="537"/>
                    </a:lnTo>
                    <a:lnTo>
                      <a:pt x="489" y="537"/>
                    </a:lnTo>
                    <a:lnTo>
                      <a:pt x="500" y="534"/>
                    </a:lnTo>
                    <a:lnTo>
                      <a:pt x="511" y="534"/>
                    </a:lnTo>
                    <a:lnTo>
                      <a:pt x="518" y="534"/>
                    </a:lnTo>
                    <a:lnTo>
                      <a:pt x="529" y="534"/>
                    </a:lnTo>
                    <a:lnTo>
                      <a:pt x="540" y="534"/>
                    </a:lnTo>
                    <a:lnTo>
                      <a:pt x="547" y="537"/>
                    </a:lnTo>
                    <a:lnTo>
                      <a:pt x="558" y="541"/>
                    </a:lnTo>
                    <a:lnTo>
                      <a:pt x="565" y="541"/>
                    </a:lnTo>
                    <a:lnTo>
                      <a:pt x="573" y="544"/>
                    </a:lnTo>
                    <a:lnTo>
                      <a:pt x="576" y="548"/>
                    </a:lnTo>
                    <a:lnTo>
                      <a:pt x="583" y="552"/>
                    </a:lnTo>
                    <a:lnTo>
                      <a:pt x="591" y="555"/>
                    </a:lnTo>
                    <a:lnTo>
                      <a:pt x="594" y="563"/>
                    </a:lnTo>
                    <a:lnTo>
                      <a:pt x="598" y="566"/>
                    </a:lnTo>
                    <a:lnTo>
                      <a:pt x="602" y="573"/>
                    </a:lnTo>
                    <a:lnTo>
                      <a:pt x="605" y="584"/>
                    </a:lnTo>
                    <a:lnTo>
                      <a:pt x="609" y="595"/>
                    </a:lnTo>
                    <a:lnTo>
                      <a:pt x="609" y="610"/>
                    </a:lnTo>
                    <a:lnTo>
                      <a:pt x="609" y="621"/>
                    </a:lnTo>
                    <a:lnTo>
                      <a:pt x="609" y="635"/>
                    </a:lnTo>
                    <a:lnTo>
                      <a:pt x="605" y="646"/>
                    </a:lnTo>
                    <a:lnTo>
                      <a:pt x="602" y="657"/>
                    </a:lnTo>
                    <a:lnTo>
                      <a:pt x="598" y="668"/>
                    </a:lnTo>
                    <a:lnTo>
                      <a:pt x="591" y="675"/>
                    </a:lnTo>
                    <a:lnTo>
                      <a:pt x="583" y="682"/>
                    </a:lnTo>
                    <a:lnTo>
                      <a:pt x="576" y="686"/>
                    </a:lnTo>
                    <a:lnTo>
                      <a:pt x="569" y="693"/>
                    </a:lnTo>
                    <a:lnTo>
                      <a:pt x="565" y="700"/>
                    </a:lnTo>
                    <a:lnTo>
                      <a:pt x="562" y="711"/>
                    </a:lnTo>
                    <a:lnTo>
                      <a:pt x="558" y="719"/>
                    </a:lnTo>
                    <a:lnTo>
                      <a:pt x="558" y="726"/>
                    </a:lnTo>
                    <a:lnTo>
                      <a:pt x="554" y="737"/>
                    </a:lnTo>
                    <a:lnTo>
                      <a:pt x="554" y="748"/>
                    </a:lnTo>
                    <a:lnTo>
                      <a:pt x="558" y="755"/>
                    </a:lnTo>
                    <a:lnTo>
                      <a:pt x="562" y="766"/>
                    </a:lnTo>
                    <a:lnTo>
                      <a:pt x="565" y="777"/>
                    </a:lnTo>
                    <a:lnTo>
                      <a:pt x="573" y="784"/>
                    </a:lnTo>
                    <a:lnTo>
                      <a:pt x="580" y="795"/>
                    </a:lnTo>
                    <a:lnTo>
                      <a:pt x="591" y="802"/>
                    </a:lnTo>
                    <a:lnTo>
                      <a:pt x="602" y="809"/>
                    </a:lnTo>
                    <a:lnTo>
                      <a:pt x="616" y="813"/>
                    </a:lnTo>
                    <a:lnTo>
                      <a:pt x="623" y="816"/>
                    </a:lnTo>
                    <a:lnTo>
                      <a:pt x="638" y="820"/>
                    </a:lnTo>
                    <a:lnTo>
                      <a:pt x="663" y="824"/>
                    </a:lnTo>
                    <a:lnTo>
                      <a:pt x="692" y="827"/>
                    </a:lnTo>
                    <a:lnTo>
                      <a:pt x="710" y="827"/>
                    </a:lnTo>
                    <a:lnTo>
                      <a:pt x="728" y="831"/>
                    </a:lnTo>
                    <a:lnTo>
                      <a:pt x="747" y="831"/>
                    </a:lnTo>
                    <a:lnTo>
                      <a:pt x="765" y="831"/>
                    </a:lnTo>
                    <a:lnTo>
                      <a:pt x="783" y="831"/>
                    </a:lnTo>
                    <a:lnTo>
                      <a:pt x="805" y="831"/>
                    </a:lnTo>
                    <a:lnTo>
                      <a:pt x="819" y="827"/>
                    </a:lnTo>
                    <a:lnTo>
                      <a:pt x="837" y="824"/>
                    </a:lnTo>
                    <a:lnTo>
                      <a:pt x="837" y="816"/>
                    </a:lnTo>
                    <a:lnTo>
                      <a:pt x="834" y="806"/>
                    </a:lnTo>
                    <a:lnTo>
                      <a:pt x="830" y="795"/>
                    </a:lnTo>
                    <a:lnTo>
                      <a:pt x="830" y="784"/>
                    </a:lnTo>
                    <a:lnTo>
                      <a:pt x="830" y="758"/>
                    </a:lnTo>
                    <a:lnTo>
                      <a:pt x="830" y="733"/>
                    </a:lnTo>
                    <a:lnTo>
                      <a:pt x="830" y="704"/>
                    </a:lnTo>
                    <a:lnTo>
                      <a:pt x="834" y="679"/>
                    </a:lnTo>
                    <a:lnTo>
                      <a:pt x="837" y="653"/>
                    </a:lnTo>
                    <a:lnTo>
                      <a:pt x="837" y="631"/>
                    </a:lnTo>
                    <a:lnTo>
                      <a:pt x="841" y="621"/>
                    </a:lnTo>
                    <a:lnTo>
                      <a:pt x="844" y="613"/>
                    </a:lnTo>
                    <a:lnTo>
                      <a:pt x="848" y="606"/>
                    </a:lnTo>
                    <a:lnTo>
                      <a:pt x="855" y="602"/>
                    </a:lnTo>
                    <a:lnTo>
                      <a:pt x="859" y="599"/>
                    </a:lnTo>
                    <a:lnTo>
                      <a:pt x="866" y="595"/>
                    </a:lnTo>
                    <a:lnTo>
                      <a:pt x="873" y="595"/>
                    </a:lnTo>
                    <a:lnTo>
                      <a:pt x="881" y="595"/>
                    </a:lnTo>
                    <a:lnTo>
                      <a:pt x="888" y="595"/>
                    </a:lnTo>
                    <a:lnTo>
                      <a:pt x="899" y="599"/>
                    </a:lnTo>
                    <a:lnTo>
                      <a:pt x="906" y="602"/>
                    </a:lnTo>
                    <a:lnTo>
                      <a:pt x="913" y="606"/>
                    </a:lnTo>
                    <a:lnTo>
                      <a:pt x="921" y="610"/>
                    </a:lnTo>
                    <a:lnTo>
                      <a:pt x="928" y="613"/>
                    </a:lnTo>
                    <a:lnTo>
                      <a:pt x="939" y="621"/>
                    </a:lnTo>
                    <a:lnTo>
                      <a:pt x="942" y="628"/>
                    </a:lnTo>
                    <a:lnTo>
                      <a:pt x="950" y="635"/>
                    </a:lnTo>
                    <a:lnTo>
                      <a:pt x="957" y="639"/>
                    </a:lnTo>
                    <a:lnTo>
                      <a:pt x="968" y="642"/>
                    </a:lnTo>
                    <a:lnTo>
                      <a:pt x="979" y="646"/>
                    </a:lnTo>
                    <a:lnTo>
                      <a:pt x="986" y="646"/>
                    </a:lnTo>
                    <a:lnTo>
                      <a:pt x="997" y="650"/>
                    </a:lnTo>
                    <a:lnTo>
                      <a:pt x="1008" y="646"/>
                    </a:lnTo>
                    <a:lnTo>
                      <a:pt x="1018" y="646"/>
                    </a:lnTo>
                    <a:lnTo>
                      <a:pt x="1026" y="642"/>
                    </a:lnTo>
                    <a:lnTo>
                      <a:pt x="1037" y="639"/>
                    </a:lnTo>
                    <a:lnTo>
                      <a:pt x="1044" y="631"/>
                    </a:lnTo>
                    <a:lnTo>
                      <a:pt x="1051" y="624"/>
                    </a:lnTo>
                    <a:lnTo>
                      <a:pt x="1058" y="617"/>
                    </a:lnTo>
                    <a:lnTo>
                      <a:pt x="1066" y="606"/>
                    </a:lnTo>
                    <a:lnTo>
                      <a:pt x="1069" y="595"/>
                    </a:lnTo>
                    <a:lnTo>
                      <a:pt x="1073" y="581"/>
                    </a:lnTo>
                    <a:lnTo>
                      <a:pt x="1073" y="573"/>
                    </a:lnTo>
                    <a:lnTo>
                      <a:pt x="1073" y="566"/>
                    </a:lnTo>
                    <a:lnTo>
                      <a:pt x="1073" y="559"/>
                    </a:lnTo>
                    <a:lnTo>
                      <a:pt x="1073" y="552"/>
                    </a:lnTo>
                    <a:lnTo>
                      <a:pt x="1069" y="548"/>
                    </a:lnTo>
                    <a:lnTo>
                      <a:pt x="1066" y="541"/>
                    </a:lnTo>
                    <a:lnTo>
                      <a:pt x="1066" y="534"/>
                    </a:lnTo>
                    <a:lnTo>
                      <a:pt x="1062" y="530"/>
                    </a:lnTo>
                    <a:lnTo>
                      <a:pt x="1055" y="519"/>
                    </a:lnTo>
                    <a:lnTo>
                      <a:pt x="1044" y="512"/>
                    </a:lnTo>
                    <a:lnTo>
                      <a:pt x="1033" y="505"/>
                    </a:lnTo>
                    <a:lnTo>
                      <a:pt x="1022" y="497"/>
                    </a:lnTo>
                    <a:lnTo>
                      <a:pt x="1011" y="494"/>
                    </a:lnTo>
                    <a:lnTo>
                      <a:pt x="1000" y="490"/>
                    </a:lnTo>
                    <a:lnTo>
                      <a:pt x="986" y="490"/>
                    </a:lnTo>
                    <a:lnTo>
                      <a:pt x="975" y="490"/>
                    </a:lnTo>
                    <a:lnTo>
                      <a:pt x="964" y="494"/>
                    </a:lnTo>
                    <a:lnTo>
                      <a:pt x="953" y="497"/>
                    </a:lnTo>
                    <a:lnTo>
                      <a:pt x="950" y="497"/>
                    </a:lnTo>
                    <a:lnTo>
                      <a:pt x="946" y="501"/>
                    </a:lnTo>
                    <a:lnTo>
                      <a:pt x="942" y="505"/>
                    </a:lnTo>
                    <a:lnTo>
                      <a:pt x="939" y="512"/>
                    </a:lnTo>
                    <a:lnTo>
                      <a:pt x="931" y="519"/>
                    </a:lnTo>
                    <a:lnTo>
                      <a:pt x="924" y="526"/>
                    </a:lnTo>
                    <a:lnTo>
                      <a:pt x="917" y="530"/>
                    </a:lnTo>
                    <a:lnTo>
                      <a:pt x="910" y="534"/>
                    </a:lnTo>
                    <a:lnTo>
                      <a:pt x="902" y="534"/>
                    </a:lnTo>
                    <a:lnTo>
                      <a:pt x="892" y="534"/>
                    </a:lnTo>
                    <a:lnTo>
                      <a:pt x="884" y="534"/>
                    </a:lnTo>
                    <a:lnTo>
                      <a:pt x="877" y="530"/>
                    </a:lnTo>
                    <a:lnTo>
                      <a:pt x="870" y="530"/>
                    </a:lnTo>
                    <a:lnTo>
                      <a:pt x="863" y="526"/>
                    </a:lnTo>
                    <a:lnTo>
                      <a:pt x="855" y="519"/>
                    </a:lnTo>
                    <a:lnTo>
                      <a:pt x="848" y="515"/>
                    </a:lnTo>
                    <a:lnTo>
                      <a:pt x="844" y="512"/>
                    </a:lnTo>
                    <a:lnTo>
                      <a:pt x="841" y="505"/>
                    </a:lnTo>
                    <a:lnTo>
                      <a:pt x="837" y="501"/>
                    </a:lnTo>
                    <a:lnTo>
                      <a:pt x="837" y="494"/>
                    </a:lnTo>
                    <a:lnTo>
                      <a:pt x="837" y="475"/>
                    </a:lnTo>
                    <a:lnTo>
                      <a:pt x="837" y="450"/>
                    </a:lnTo>
                    <a:lnTo>
                      <a:pt x="837" y="410"/>
                    </a:lnTo>
                    <a:lnTo>
                      <a:pt x="837" y="370"/>
                    </a:lnTo>
                    <a:lnTo>
                      <a:pt x="837" y="330"/>
                    </a:lnTo>
                    <a:lnTo>
                      <a:pt x="837" y="287"/>
                    </a:lnTo>
                    <a:lnTo>
                      <a:pt x="837" y="251"/>
                    </a:lnTo>
                    <a:lnTo>
                      <a:pt x="837" y="222"/>
                    </a:lnTo>
                    <a:lnTo>
                      <a:pt x="826" y="225"/>
                    </a:lnTo>
                    <a:lnTo>
                      <a:pt x="815" y="232"/>
                    </a:lnTo>
                    <a:lnTo>
                      <a:pt x="801" y="236"/>
                    </a:lnTo>
                    <a:lnTo>
                      <a:pt x="786" y="240"/>
                    </a:lnTo>
                    <a:lnTo>
                      <a:pt x="772" y="243"/>
                    </a:lnTo>
                    <a:lnTo>
                      <a:pt x="757" y="243"/>
                    </a:lnTo>
                    <a:lnTo>
                      <a:pt x="739" y="243"/>
                    </a:lnTo>
                    <a:lnTo>
                      <a:pt x="721" y="243"/>
                    </a:lnTo>
                    <a:lnTo>
                      <a:pt x="707" y="243"/>
                    </a:lnTo>
                    <a:lnTo>
                      <a:pt x="689" y="243"/>
                    </a:lnTo>
                    <a:lnTo>
                      <a:pt x="670" y="240"/>
                    </a:lnTo>
                    <a:lnTo>
                      <a:pt x="656" y="236"/>
                    </a:lnTo>
                    <a:lnTo>
                      <a:pt x="641" y="232"/>
                    </a:lnTo>
                    <a:lnTo>
                      <a:pt x="627" y="229"/>
                    </a:lnTo>
                    <a:lnTo>
                      <a:pt x="612" y="225"/>
                    </a:lnTo>
                    <a:lnTo>
                      <a:pt x="602" y="222"/>
                    </a:lnTo>
                    <a:lnTo>
                      <a:pt x="594" y="218"/>
                    </a:lnTo>
                    <a:lnTo>
                      <a:pt x="587" y="211"/>
                    </a:lnTo>
                    <a:lnTo>
                      <a:pt x="580" y="207"/>
                    </a:lnTo>
                    <a:lnTo>
                      <a:pt x="573" y="203"/>
                    </a:lnTo>
                    <a:lnTo>
                      <a:pt x="569" y="200"/>
                    </a:lnTo>
                    <a:lnTo>
                      <a:pt x="565" y="196"/>
                    </a:lnTo>
                    <a:lnTo>
                      <a:pt x="565" y="189"/>
                    </a:lnTo>
                    <a:lnTo>
                      <a:pt x="565" y="185"/>
                    </a:lnTo>
                    <a:lnTo>
                      <a:pt x="565" y="182"/>
                    </a:lnTo>
                    <a:lnTo>
                      <a:pt x="565" y="174"/>
                    </a:lnTo>
                    <a:lnTo>
                      <a:pt x="569" y="171"/>
                    </a:lnTo>
                    <a:lnTo>
                      <a:pt x="573" y="164"/>
                    </a:lnTo>
                    <a:lnTo>
                      <a:pt x="580" y="149"/>
                    </a:lnTo>
                    <a:lnTo>
                      <a:pt x="594" y="135"/>
                    </a:lnTo>
                    <a:lnTo>
                      <a:pt x="602" y="127"/>
                    </a:lnTo>
                    <a:lnTo>
                      <a:pt x="609" y="116"/>
                    </a:lnTo>
                    <a:lnTo>
                      <a:pt x="612" y="106"/>
                    </a:lnTo>
                    <a:lnTo>
                      <a:pt x="616" y="95"/>
                    </a:lnTo>
                    <a:lnTo>
                      <a:pt x="616" y="84"/>
                    </a:lnTo>
                    <a:lnTo>
                      <a:pt x="616" y="73"/>
                    </a:lnTo>
                    <a:lnTo>
                      <a:pt x="616" y="62"/>
                    </a:lnTo>
                    <a:lnTo>
                      <a:pt x="612" y="51"/>
                    </a:lnTo>
                    <a:lnTo>
                      <a:pt x="609" y="40"/>
                    </a:lnTo>
                    <a:lnTo>
                      <a:pt x="602" y="29"/>
                    </a:lnTo>
                    <a:lnTo>
                      <a:pt x="598" y="26"/>
                    </a:lnTo>
                    <a:lnTo>
                      <a:pt x="591" y="22"/>
                    </a:lnTo>
                    <a:lnTo>
                      <a:pt x="587" y="18"/>
                    </a:lnTo>
                    <a:lnTo>
                      <a:pt x="580" y="15"/>
                    </a:lnTo>
                    <a:lnTo>
                      <a:pt x="576" y="11"/>
                    </a:lnTo>
                    <a:lnTo>
                      <a:pt x="569" y="8"/>
                    </a:lnTo>
                    <a:lnTo>
                      <a:pt x="562" y="8"/>
                    </a:lnTo>
                    <a:lnTo>
                      <a:pt x="554" y="4"/>
                    </a:lnTo>
                    <a:lnTo>
                      <a:pt x="544" y="4"/>
                    </a:lnTo>
                    <a:lnTo>
                      <a:pt x="536" y="0"/>
                    </a:lnTo>
                    <a:lnTo>
                      <a:pt x="529" y="0"/>
                    </a:lnTo>
                    <a:lnTo>
                      <a:pt x="518" y="0"/>
                    </a:lnTo>
                    <a:lnTo>
                      <a:pt x="511" y="0"/>
                    </a:lnTo>
                    <a:lnTo>
                      <a:pt x="500" y="4"/>
                    </a:lnTo>
                    <a:lnTo>
                      <a:pt x="493" y="4"/>
                    </a:lnTo>
                    <a:lnTo>
                      <a:pt x="485" y="4"/>
                    </a:lnTo>
                    <a:lnTo>
                      <a:pt x="482" y="8"/>
                    </a:lnTo>
                    <a:lnTo>
                      <a:pt x="475" y="11"/>
                    </a:lnTo>
                    <a:lnTo>
                      <a:pt x="471" y="15"/>
                    </a:lnTo>
                    <a:lnTo>
                      <a:pt x="464" y="18"/>
                    </a:lnTo>
                    <a:lnTo>
                      <a:pt x="460" y="22"/>
                    </a:lnTo>
                    <a:lnTo>
                      <a:pt x="456" y="26"/>
                    </a:lnTo>
                    <a:lnTo>
                      <a:pt x="453" y="29"/>
                    </a:lnTo>
                    <a:lnTo>
                      <a:pt x="449" y="37"/>
                    </a:lnTo>
                    <a:lnTo>
                      <a:pt x="446" y="47"/>
                    </a:lnTo>
                    <a:lnTo>
                      <a:pt x="442" y="58"/>
                    </a:lnTo>
                    <a:lnTo>
                      <a:pt x="442" y="69"/>
                    </a:lnTo>
                    <a:lnTo>
                      <a:pt x="442" y="80"/>
                    </a:lnTo>
                    <a:lnTo>
                      <a:pt x="442" y="95"/>
                    </a:lnTo>
                    <a:lnTo>
                      <a:pt x="446" y="106"/>
                    </a:lnTo>
                    <a:lnTo>
                      <a:pt x="449" y="120"/>
                    </a:lnTo>
                    <a:lnTo>
                      <a:pt x="456" y="131"/>
                    </a:lnTo>
                    <a:lnTo>
                      <a:pt x="460" y="142"/>
                    </a:lnTo>
                    <a:lnTo>
                      <a:pt x="471" y="149"/>
                    </a:lnTo>
                    <a:lnTo>
                      <a:pt x="475" y="156"/>
                    </a:lnTo>
                    <a:lnTo>
                      <a:pt x="482" y="164"/>
                    </a:lnTo>
                    <a:lnTo>
                      <a:pt x="482" y="171"/>
                    </a:lnTo>
                    <a:lnTo>
                      <a:pt x="485" y="178"/>
                    </a:lnTo>
                    <a:lnTo>
                      <a:pt x="485" y="185"/>
                    </a:lnTo>
                    <a:lnTo>
                      <a:pt x="485" y="193"/>
                    </a:lnTo>
                    <a:lnTo>
                      <a:pt x="482" y="200"/>
                    </a:lnTo>
                    <a:lnTo>
                      <a:pt x="478" y="207"/>
                    </a:lnTo>
                    <a:lnTo>
                      <a:pt x="475" y="211"/>
                    </a:lnTo>
                    <a:lnTo>
                      <a:pt x="467" y="218"/>
                    </a:lnTo>
                    <a:lnTo>
                      <a:pt x="456" y="222"/>
                    </a:lnTo>
                    <a:lnTo>
                      <a:pt x="449" y="222"/>
                    </a:lnTo>
                    <a:lnTo>
                      <a:pt x="438" y="222"/>
                    </a:lnTo>
                    <a:lnTo>
                      <a:pt x="427" y="222"/>
                    </a:lnTo>
                    <a:lnTo>
                      <a:pt x="413" y="218"/>
                    </a:lnTo>
                    <a:lnTo>
                      <a:pt x="398" y="211"/>
                    </a:lnTo>
                    <a:lnTo>
                      <a:pt x="388" y="211"/>
                    </a:lnTo>
                    <a:lnTo>
                      <a:pt x="380" y="207"/>
                    </a:lnTo>
                    <a:lnTo>
                      <a:pt x="369" y="203"/>
                    </a:lnTo>
                    <a:lnTo>
                      <a:pt x="359" y="203"/>
                    </a:lnTo>
                    <a:lnTo>
                      <a:pt x="337" y="203"/>
                    </a:lnTo>
                    <a:lnTo>
                      <a:pt x="311" y="203"/>
                    </a:lnTo>
                    <a:lnTo>
                      <a:pt x="286" y="207"/>
                    </a:lnTo>
                    <a:lnTo>
                      <a:pt x="261" y="211"/>
                    </a:lnTo>
                    <a:lnTo>
                      <a:pt x="235" y="214"/>
                    </a:lnTo>
                    <a:lnTo>
                      <a:pt x="210" y="222"/>
                    </a:lnTo>
                    <a:lnTo>
                      <a:pt x="210" y="225"/>
                    </a:lnTo>
                    <a:lnTo>
                      <a:pt x="210" y="240"/>
                    </a:lnTo>
                    <a:lnTo>
                      <a:pt x="210" y="251"/>
                    </a:lnTo>
                    <a:lnTo>
                      <a:pt x="210" y="269"/>
                    </a:lnTo>
                    <a:lnTo>
                      <a:pt x="214" y="305"/>
                    </a:lnTo>
                    <a:lnTo>
                      <a:pt x="217" y="349"/>
                    </a:lnTo>
                    <a:lnTo>
                      <a:pt x="221" y="367"/>
                    </a:lnTo>
                    <a:lnTo>
                      <a:pt x="221" y="388"/>
                    </a:lnTo>
                    <a:lnTo>
                      <a:pt x="221" y="410"/>
                    </a:lnTo>
                    <a:lnTo>
                      <a:pt x="224" y="425"/>
                    </a:lnTo>
                    <a:lnTo>
                      <a:pt x="221" y="443"/>
                    </a:lnTo>
                    <a:lnTo>
                      <a:pt x="221" y="457"/>
                    </a:lnTo>
                    <a:lnTo>
                      <a:pt x="217" y="465"/>
                    </a:lnTo>
                    <a:lnTo>
                      <a:pt x="217" y="468"/>
                    </a:lnTo>
                    <a:lnTo>
                      <a:pt x="214" y="472"/>
                    </a:lnTo>
                    <a:lnTo>
                      <a:pt x="210" y="475"/>
                    </a:lnTo>
                    <a:close/>
                  </a:path>
                </a:pathLst>
              </a:custGeom>
              <a:solidFill>
                <a:srgbClr val="ffff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253040" y="2725560"/>
                <a:ext cx="2133000" cy="1680840"/>
              </a:xfrm>
              <a:custGeom>
                <a:avLst/>
                <a:gdLst/>
                <a:ahLst/>
                <a:rect l="l" t="t" r="r" b="b"/>
                <a:pathLst>
                  <a:path w="1084" h="841">
                    <a:moveTo>
                      <a:pt x="207" y="478"/>
                    </a:moveTo>
                    <a:lnTo>
                      <a:pt x="210" y="482"/>
                    </a:lnTo>
                    <a:lnTo>
                      <a:pt x="210" y="478"/>
                    </a:lnTo>
                    <a:lnTo>
                      <a:pt x="203" y="482"/>
                    </a:lnTo>
                    <a:lnTo>
                      <a:pt x="196" y="486"/>
                    </a:lnTo>
                    <a:lnTo>
                      <a:pt x="196" y="486"/>
                    </a:lnTo>
                    <a:lnTo>
                      <a:pt x="192" y="486"/>
                    </a:lnTo>
                    <a:lnTo>
                      <a:pt x="189" y="489"/>
                    </a:lnTo>
                    <a:lnTo>
                      <a:pt x="192" y="493"/>
                    </a:lnTo>
                    <a:lnTo>
                      <a:pt x="192" y="489"/>
                    </a:lnTo>
                    <a:lnTo>
                      <a:pt x="185" y="489"/>
                    </a:lnTo>
                    <a:lnTo>
                      <a:pt x="178" y="489"/>
                    </a:lnTo>
                    <a:lnTo>
                      <a:pt x="178" y="493"/>
                    </a:lnTo>
                    <a:lnTo>
                      <a:pt x="181" y="489"/>
                    </a:lnTo>
                    <a:lnTo>
                      <a:pt x="178" y="486"/>
                    </a:lnTo>
                    <a:lnTo>
                      <a:pt x="178" y="486"/>
                    </a:lnTo>
                    <a:lnTo>
                      <a:pt x="174" y="486"/>
                    </a:lnTo>
                    <a:lnTo>
                      <a:pt x="167" y="486"/>
                    </a:lnTo>
                    <a:lnTo>
                      <a:pt x="167" y="489"/>
                    </a:lnTo>
                    <a:lnTo>
                      <a:pt x="170" y="486"/>
                    </a:lnTo>
                    <a:lnTo>
                      <a:pt x="156" y="478"/>
                    </a:lnTo>
                    <a:lnTo>
                      <a:pt x="145" y="475"/>
                    </a:lnTo>
                    <a:lnTo>
                      <a:pt x="134" y="468"/>
                    </a:lnTo>
                    <a:lnTo>
                      <a:pt x="120" y="460"/>
                    </a:lnTo>
                    <a:lnTo>
                      <a:pt x="109" y="453"/>
                    </a:lnTo>
                    <a:lnTo>
                      <a:pt x="109" y="453"/>
                    </a:lnTo>
                    <a:lnTo>
                      <a:pt x="105" y="453"/>
                    </a:lnTo>
                    <a:lnTo>
                      <a:pt x="91" y="449"/>
                    </a:lnTo>
                    <a:lnTo>
                      <a:pt x="83" y="449"/>
                    </a:lnTo>
                    <a:lnTo>
                      <a:pt x="83" y="453"/>
                    </a:lnTo>
                    <a:lnTo>
                      <a:pt x="87" y="449"/>
                    </a:lnTo>
                    <a:lnTo>
                      <a:pt x="83" y="446"/>
                    </a:lnTo>
                    <a:lnTo>
                      <a:pt x="83" y="446"/>
                    </a:lnTo>
                    <a:lnTo>
                      <a:pt x="80" y="446"/>
                    </a:lnTo>
                    <a:lnTo>
                      <a:pt x="73" y="446"/>
                    </a:lnTo>
                    <a:lnTo>
                      <a:pt x="65" y="446"/>
                    </a:lnTo>
                    <a:lnTo>
                      <a:pt x="65" y="446"/>
                    </a:lnTo>
                    <a:lnTo>
                      <a:pt x="65" y="446"/>
                    </a:lnTo>
                    <a:lnTo>
                      <a:pt x="58" y="449"/>
                    </a:lnTo>
                    <a:lnTo>
                      <a:pt x="58" y="453"/>
                    </a:lnTo>
                    <a:lnTo>
                      <a:pt x="58" y="449"/>
                    </a:lnTo>
                    <a:lnTo>
                      <a:pt x="51" y="449"/>
                    </a:lnTo>
                    <a:lnTo>
                      <a:pt x="51" y="449"/>
                    </a:lnTo>
                    <a:lnTo>
                      <a:pt x="51" y="449"/>
                    </a:lnTo>
                    <a:lnTo>
                      <a:pt x="44" y="453"/>
                    </a:lnTo>
                    <a:lnTo>
                      <a:pt x="40" y="453"/>
                    </a:lnTo>
                    <a:lnTo>
                      <a:pt x="40" y="457"/>
                    </a:lnTo>
                    <a:lnTo>
                      <a:pt x="36" y="464"/>
                    </a:lnTo>
                    <a:lnTo>
                      <a:pt x="40" y="464"/>
                    </a:lnTo>
                    <a:lnTo>
                      <a:pt x="40" y="460"/>
                    </a:lnTo>
                    <a:lnTo>
                      <a:pt x="33" y="464"/>
                    </a:lnTo>
                    <a:lnTo>
                      <a:pt x="33" y="464"/>
                    </a:lnTo>
                    <a:lnTo>
                      <a:pt x="29" y="464"/>
                    </a:lnTo>
                    <a:lnTo>
                      <a:pt x="22" y="471"/>
                    </a:lnTo>
                    <a:lnTo>
                      <a:pt x="22" y="475"/>
                    </a:lnTo>
                    <a:lnTo>
                      <a:pt x="22" y="475"/>
                    </a:lnTo>
                    <a:lnTo>
                      <a:pt x="15" y="486"/>
                    </a:lnTo>
                    <a:lnTo>
                      <a:pt x="7" y="497"/>
                    </a:lnTo>
                    <a:lnTo>
                      <a:pt x="11" y="497"/>
                    </a:lnTo>
                    <a:lnTo>
                      <a:pt x="7" y="493"/>
                    </a:lnTo>
                    <a:lnTo>
                      <a:pt x="4" y="497"/>
                    </a:lnTo>
                    <a:lnTo>
                      <a:pt x="4" y="500"/>
                    </a:lnTo>
                    <a:lnTo>
                      <a:pt x="4" y="500"/>
                    </a:lnTo>
                    <a:lnTo>
                      <a:pt x="0" y="508"/>
                    </a:lnTo>
                    <a:lnTo>
                      <a:pt x="0" y="508"/>
                    </a:lnTo>
                    <a:lnTo>
                      <a:pt x="0" y="508"/>
                    </a:lnTo>
                    <a:lnTo>
                      <a:pt x="0" y="518"/>
                    </a:lnTo>
                    <a:lnTo>
                      <a:pt x="0" y="529"/>
                    </a:lnTo>
                    <a:lnTo>
                      <a:pt x="0" y="537"/>
                    </a:lnTo>
                    <a:lnTo>
                      <a:pt x="0" y="540"/>
                    </a:lnTo>
                    <a:lnTo>
                      <a:pt x="0" y="540"/>
                    </a:lnTo>
                    <a:lnTo>
                      <a:pt x="4" y="551"/>
                    </a:lnTo>
                    <a:lnTo>
                      <a:pt x="11" y="562"/>
                    </a:lnTo>
                    <a:lnTo>
                      <a:pt x="15" y="569"/>
                    </a:lnTo>
                    <a:lnTo>
                      <a:pt x="22" y="580"/>
                    </a:lnTo>
                    <a:lnTo>
                      <a:pt x="22" y="580"/>
                    </a:lnTo>
                    <a:lnTo>
                      <a:pt x="25" y="584"/>
                    </a:lnTo>
                    <a:lnTo>
                      <a:pt x="36" y="591"/>
                    </a:lnTo>
                    <a:lnTo>
                      <a:pt x="36" y="591"/>
                    </a:lnTo>
                    <a:lnTo>
                      <a:pt x="36" y="591"/>
                    </a:lnTo>
                    <a:lnTo>
                      <a:pt x="40" y="591"/>
                    </a:lnTo>
                    <a:lnTo>
                      <a:pt x="40" y="584"/>
                    </a:lnTo>
                    <a:lnTo>
                      <a:pt x="36" y="587"/>
                    </a:lnTo>
                    <a:lnTo>
                      <a:pt x="40" y="591"/>
                    </a:lnTo>
                    <a:lnTo>
                      <a:pt x="44" y="595"/>
                    </a:lnTo>
                    <a:lnTo>
                      <a:pt x="44" y="595"/>
                    </a:lnTo>
                    <a:lnTo>
                      <a:pt x="51" y="598"/>
                    </a:lnTo>
                    <a:lnTo>
                      <a:pt x="51" y="598"/>
                    </a:lnTo>
                    <a:lnTo>
                      <a:pt x="51" y="598"/>
                    </a:lnTo>
                    <a:lnTo>
                      <a:pt x="58" y="598"/>
                    </a:lnTo>
                    <a:lnTo>
                      <a:pt x="58" y="591"/>
                    </a:lnTo>
                    <a:lnTo>
                      <a:pt x="58" y="598"/>
                    </a:lnTo>
                    <a:lnTo>
                      <a:pt x="65" y="602"/>
                    </a:lnTo>
                    <a:lnTo>
                      <a:pt x="65" y="602"/>
                    </a:lnTo>
                    <a:lnTo>
                      <a:pt x="65" y="602"/>
                    </a:lnTo>
                    <a:lnTo>
                      <a:pt x="73" y="602"/>
                    </a:lnTo>
                    <a:lnTo>
                      <a:pt x="80" y="602"/>
                    </a:lnTo>
                    <a:lnTo>
                      <a:pt x="87" y="602"/>
                    </a:lnTo>
                    <a:lnTo>
                      <a:pt x="98" y="602"/>
                    </a:lnTo>
                    <a:lnTo>
                      <a:pt x="98" y="602"/>
                    </a:lnTo>
                    <a:lnTo>
                      <a:pt x="102" y="602"/>
                    </a:lnTo>
                    <a:lnTo>
                      <a:pt x="109" y="598"/>
                    </a:lnTo>
                    <a:lnTo>
                      <a:pt x="105" y="591"/>
                    </a:lnTo>
                    <a:lnTo>
                      <a:pt x="105" y="598"/>
                    </a:lnTo>
                    <a:lnTo>
                      <a:pt x="112" y="598"/>
                    </a:lnTo>
                    <a:lnTo>
                      <a:pt x="116" y="598"/>
                    </a:lnTo>
                    <a:lnTo>
                      <a:pt x="116" y="598"/>
                    </a:lnTo>
                    <a:lnTo>
                      <a:pt x="127" y="595"/>
                    </a:lnTo>
                    <a:lnTo>
                      <a:pt x="145" y="587"/>
                    </a:lnTo>
                    <a:lnTo>
                      <a:pt x="156" y="584"/>
                    </a:lnTo>
                    <a:lnTo>
                      <a:pt x="152" y="576"/>
                    </a:lnTo>
                    <a:lnTo>
                      <a:pt x="152" y="584"/>
                    </a:lnTo>
                    <a:lnTo>
                      <a:pt x="167" y="580"/>
                    </a:lnTo>
                    <a:lnTo>
                      <a:pt x="178" y="580"/>
                    </a:lnTo>
                    <a:lnTo>
                      <a:pt x="185" y="580"/>
                    </a:lnTo>
                    <a:lnTo>
                      <a:pt x="185" y="573"/>
                    </a:lnTo>
                    <a:lnTo>
                      <a:pt x="181" y="576"/>
                    </a:lnTo>
                    <a:lnTo>
                      <a:pt x="185" y="580"/>
                    </a:lnTo>
                    <a:lnTo>
                      <a:pt x="189" y="584"/>
                    </a:lnTo>
                    <a:lnTo>
                      <a:pt x="189" y="584"/>
                    </a:lnTo>
                    <a:lnTo>
                      <a:pt x="192" y="584"/>
                    </a:lnTo>
                    <a:lnTo>
                      <a:pt x="192" y="576"/>
                    </a:lnTo>
                    <a:lnTo>
                      <a:pt x="192" y="584"/>
                    </a:lnTo>
                    <a:lnTo>
                      <a:pt x="199" y="587"/>
                    </a:lnTo>
                    <a:lnTo>
                      <a:pt x="199" y="580"/>
                    </a:lnTo>
                    <a:lnTo>
                      <a:pt x="196" y="584"/>
                    </a:lnTo>
                    <a:lnTo>
                      <a:pt x="199" y="587"/>
                    </a:lnTo>
                    <a:lnTo>
                      <a:pt x="203" y="584"/>
                    </a:lnTo>
                    <a:lnTo>
                      <a:pt x="199" y="587"/>
                    </a:lnTo>
                    <a:lnTo>
                      <a:pt x="203" y="595"/>
                    </a:lnTo>
                    <a:lnTo>
                      <a:pt x="203" y="595"/>
                    </a:lnTo>
                    <a:lnTo>
                      <a:pt x="203" y="595"/>
                    </a:lnTo>
                    <a:lnTo>
                      <a:pt x="207" y="598"/>
                    </a:lnTo>
                    <a:lnTo>
                      <a:pt x="210" y="595"/>
                    </a:lnTo>
                    <a:lnTo>
                      <a:pt x="207" y="598"/>
                    </a:lnTo>
                    <a:lnTo>
                      <a:pt x="210" y="609"/>
                    </a:lnTo>
                    <a:lnTo>
                      <a:pt x="214" y="616"/>
                    </a:lnTo>
                    <a:lnTo>
                      <a:pt x="218" y="627"/>
                    </a:lnTo>
                    <a:lnTo>
                      <a:pt x="221" y="638"/>
                    </a:lnTo>
                    <a:lnTo>
                      <a:pt x="225" y="649"/>
                    </a:lnTo>
                    <a:lnTo>
                      <a:pt x="228" y="645"/>
                    </a:lnTo>
                    <a:lnTo>
                      <a:pt x="225" y="645"/>
                    </a:lnTo>
                    <a:lnTo>
                      <a:pt x="225" y="660"/>
                    </a:lnTo>
                    <a:lnTo>
                      <a:pt x="225" y="663"/>
                    </a:lnTo>
                    <a:lnTo>
                      <a:pt x="225" y="663"/>
                    </a:lnTo>
                    <a:lnTo>
                      <a:pt x="228" y="678"/>
                    </a:lnTo>
                    <a:lnTo>
                      <a:pt x="232" y="674"/>
                    </a:lnTo>
                    <a:lnTo>
                      <a:pt x="228" y="674"/>
                    </a:lnTo>
                    <a:lnTo>
                      <a:pt x="228" y="689"/>
                    </a:lnTo>
                    <a:lnTo>
                      <a:pt x="228" y="703"/>
                    </a:lnTo>
                    <a:lnTo>
                      <a:pt x="228" y="718"/>
                    </a:lnTo>
                    <a:lnTo>
                      <a:pt x="228" y="732"/>
                    </a:lnTo>
                    <a:lnTo>
                      <a:pt x="232" y="732"/>
                    </a:lnTo>
                    <a:lnTo>
                      <a:pt x="228" y="732"/>
                    </a:lnTo>
                    <a:lnTo>
                      <a:pt x="225" y="747"/>
                    </a:lnTo>
                    <a:lnTo>
                      <a:pt x="225" y="747"/>
                    </a:lnTo>
                    <a:lnTo>
                      <a:pt x="225" y="747"/>
                    </a:lnTo>
                    <a:lnTo>
                      <a:pt x="225" y="761"/>
                    </a:lnTo>
                    <a:lnTo>
                      <a:pt x="228" y="761"/>
                    </a:lnTo>
                    <a:lnTo>
                      <a:pt x="225" y="761"/>
                    </a:lnTo>
                    <a:lnTo>
                      <a:pt x="221" y="776"/>
                    </a:lnTo>
                    <a:lnTo>
                      <a:pt x="218" y="790"/>
                    </a:lnTo>
                    <a:lnTo>
                      <a:pt x="214" y="805"/>
                    </a:lnTo>
                    <a:lnTo>
                      <a:pt x="210" y="816"/>
                    </a:lnTo>
                    <a:lnTo>
                      <a:pt x="207" y="819"/>
                    </a:lnTo>
                    <a:lnTo>
                      <a:pt x="214" y="823"/>
                    </a:lnTo>
                    <a:lnTo>
                      <a:pt x="239" y="823"/>
                    </a:lnTo>
                    <a:lnTo>
                      <a:pt x="265" y="823"/>
                    </a:lnTo>
                    <a:lnTo>
                      <a:pt x="290" y="823"/>
                    </a:lnTo>
                    <a:lnTo>
                      <a:pt x="312" y="823"/>
                    </a:lnTo>
                    <a:lnTo>
                      <a:pt x="334" y="823"/>
                    </a:lnTo>
                    <a:lnTo>
                      <a:pt x="355" y="823"/>
                    </a:lnTo>
                    <a:lnTo>
                      <a:pt x="373" y="823"/>
                    </a:lnTo>
                    <a:lnTo>
                      <a:pt x="384" y="823"/>
                    </a:lnTo>
                    <a:lnTo>
                      <a:pt x="402" y="819"/>
                    </a:lnTo>
                    <a:lnTo>
                      <a:pt x="417" y="816"/>
                    </a:lnTo>
                    <a:lnTo>
                      <a:pt x="421" y="812"/>
                    </a:lnTo>
                    <a:lnTo>
                      <a:pt x="421" y="812"/>
                    </a:lnTo>
                    <a:lnTo>
                      <a:pt x="431" y="801"/>
                    </a:lnTo>
                    <a:lnTo>
                      <a:pt x="428" y="798"/>
                    </a:lnTo>
                    <a:lnTo>
                      <a:pt x="431" y="805"/>
                    </a:lnTo>
                    <a:lnTo>
                      <a:pt x="446" y="798"/>
                    </a:lnTo>
                    <a:lnTo>
                      <a:pt x="446" y="798"/>
                    </a:lnTo>
                    <a:lnTo>
                      <a:pt x="446" y="794"/>
                    </a:lnTo>
                    <a:lnTo>
                      <a:pt x="453" y="787"/>
                    </a:lnTo>
                    <a:lnTo>
                      <a:pt x="460" y="780"/>
                    </a:lnTo>
                    <a:lnTo>
                      <a:pt x="464" y="780"/>
                    </a:lnTo>
                    <a:lnTo>
                      <a:pt x="464" y="780"/>
                    </a:lnTo>
                    <a:lnTo>
                      <a:pt x="471" y="769"/>
                    </a:lnTo>
                    <a:lnTo>
                      <a:pt x="475" y="758"/>
                    </a:lnTo>
                    <a:lnTo>
                      <a:pt x="479" y="747"/>
                    </a:lnTo>
                    <a:lnTo>
                      <a:pt x="479" y="747"/>
                    </a:lnTo>
                    <a:lnTo>
                      <a:pt x="479" y="743"/>
                    </a:lnTo>
                    <a:lnTo>
                      <a:pt x="479" y="736"/>
                    </a:lnTo>
                    <a:lnTo>
                      <a:pt x="479" y="725"/>
                    </a:lnTo>
                    <a:lnTo>
                      <a:pt x="479" y="714"/>
                    </a:lnTo>
                    <a:lnTo>
                      <a:pt x="479" y="714"/>
                    </a:lnTo>
                    <a:lnTo>
                      <a:pt x="479" y="714"/>
                    </a:lnTo>
                    <a:lnTo>
                      <a:pt x="475" y="703"/>
                    </a:lnTo>
                    <a:lnTo>
                      <a:pt x="475" y="703"/>
                    </a:lnTo>
                    <a:lnTo>
                      <a:pt x="471" y="700"/>
                    </a:lnTo>
                    <a:lnTo>
                      <a:pt x="464" y="692"/>
                    </a:lnTo>
                    <a:lnTo>
                      <a:pt x="460" y="696"/>
                    </a:lnTo>
                    <a:lnTo>
                      <a:pt x="468" y="696"/>
                    </a:lnTo>
                    <a:lnTo>
                      <a:pt x="464" y="685"/>
                    </a:lnTo>
                    <a:lnTo>
                      <a:pt x="460" y="682"/>
                    </a:lnTo>
                    <a:lnTo>
                      <a:pt x="460" y="682"/>
                    </a:lnTo>
                    <a:lnTo>
                      <a:pt x="450" y="674"/>
                    </a:lnTo>
                    <a:lnTo>
                      <a:pt x="446" y="678"/>
                    </a:lnTo>
                    <a:lnTo>
                      <a:pt x="453" y="678"/>
                    </a:lnTo>
                    <a:lnTo>
                      <a:pt x="446" y="667"/>
                    </a:lnTo>
                    <a:lnTo>
                      <a:pt x="446" y="667"/>
                    </a:lnTo>
                    <a:lnTo>
                      <a:pt x="442" y="663"/>
                    </a:lnTo>
                    <a:lnTo>
                      <a:pt x="435" y="656"/>
                    </a:lnTo>
                    <a:lnTo>
                      <a:pt x="431" y="660"/>
                    </a:lnTo>
                    <a:lnTo>
                      <a:pt x="439" y="660"/>
                    </a:lnTo>
                    <a:lnTo>
                      <a:pt x="435" y="649"/>
                    </a:lnTo>
                    <a:lnTo>
                      <a:pt x="431" y="638"/>
                    </a:lnTo>
                    <a:lnTo>
                      <a:pt x="424" y="638"/>
                    </a:lnTo>
                    <a:lnTo>
                      <a:pt x="431" y="638"/>
                    </a:lnTo>
                    <a:lnTo>
                      <a:pt x="431" y="624"/>
                    </a:lnTo>
                    <a:lnTo>
                      <a:pt x="431" y="613"/>
                    </a:lnTo>
                    <a:lnTo>
                      <a:pt x="431" y="602"/>
                    </a:lnTo>
                    <a:lnTo>
                      <a:pt x="424" y="602"/>
                    </a:lnTo>
                    <a:lnTo>
                      <a:pt x="431" y="605"/>
                    </a:lnTo>
                    <a:lnTo>
                      <a:pt x="435" y="595"/>
                    </a:lnTo>
                    <a:lnTo>
                      <a:pt x="439" y="584"/>
                    </a:lnTo>
                    <a:lnTo>
                      <a:pt x="446" y="573"/>
                    </a:lnTo>
                    <a:lnTo>
                      <a:pt x="439" y="569"/>
                    </a:lnTo>
                    <a:lnTo>
                      <a:pt x="442" y="576"/>
                    </a:lnTo>
                    <a:lnTo>
                      <a:pt x="450" y="573"/>
                    </a:lnTo>
                    <a:lnTo>
                      <a:pt x="450" y="569"/>
                    </a:lnTo>
                    <a:lnTo>
                      <a:pt x="453" y="569"/>
                    </a:lnTo>
                    <a:lnTo>
                      <a:pt x="457" y="562"/>
                    </a:lnTo>
                    <a:lnTo>
                      <a:pt x="450" y="558"/>
                    </a:lnTo>
                    <a:lnTo>
                      <a:pt x="453" y="562"/>
                    </a:lnTo>
                    <a:lnTo>
                      <a:pt x="457" y="558"/>
                    </a:lnTo>
                    <a:lnTo>
                      <a:pt x="453" y="555"/>
                    </a:lnTo>
                    <a:lnTo>
                      <a:pt x="453" y="562"/>
                    </a:lnTo>
                    <a:lnTo>
                      <a:pt x="460" y="562"/>
                    </a:lnTo>
                    <a:lnTo>
                      <a:pt x="464" y="562"/>
                    </a:lnTo>
                    <a:lnTo>
                      <a:pt x="464" y="558"/>
                    </a:lnTo>
                    <a:lnTo>
                      <a:pt x="468" y="555"/>
                    </a:lnTo>
                    <a:lnTo>
                      <a:pt x="464" y="551"/>
                    </a:lnTo>
                    <a:lnTo>
                      <a:pt x="468" y="558"/>
                    </a:lnTo>
                    <a:lnTo>
                      <a:pt x="475" y="555"/>
                    </a:lnTo>
                    <a:lnTo>
                      <a:pt x="482" y="551"/>
                    </a:lnTo>
                    <a:lnTo>
                      <a:pt x="489" y="547"/>
                    </a:lnTo>
                    <a:lnTo>
                      <a:pt x="486" y="540"/>
                    </a:lnTo>
                    <a:lnTo>
                      <a:pt x="486" y="547"/>
                    </a:lnTo>
                    <a:lnTo>
                      <a:pt x="493" y="547"/>
                    </a:lnTo>
                    <a:lnTo>
                      <a:pt x="497" y="547"/>
                    </a:lnTo>
                    <a:lnTo>
                      <a:pt x="497" y="547"/>
                    </a:lnTo>
                    <a:lnTo>
                      <a:pt x="508" y="544"/>
                    </a:lnTo>
                    <a:lnTo>
                      <a:pt x="504" y="537"/>
                    </a:lnTo>
                    <a:lnTo>
                      <a:pt x="504" y="544"/>
                    </a:lnTo>
                    <a:lnTo>
                      <a:pt x="515" y="544"/>
                    </a:lnTo>
                    <a:lnTo>
                      <a:pt x="522" y="544"/>
                    </a:lnTo>
                    <a:lnTo>
                      <a:pt x="533" y="544"/>
                    </a:lnTo>
                    <a:lnTo>
                      <a:pt x="544" y="544"/>
                    </a:lnTo>
                    <a:lnTo>
                      <a:pt x="544" y="537"/>
                    </a:lnTo>
                    <a:lnTo>
                      <a:pt x="544" y="544"/>
                    </a:lnTo>
                    <a:lnTo>
                      <a:pt x="551" y="547"/>
                    </a:lnTo>
                    <a:lnTo>
                      <a:pt x="562" y="551"/>
                    </a:lnTo>
                    <a:lnTo>
                      <a:pt x="562" y="551"/>
                    </a:lnTo>
                    <a:lnTo>
                      <a:pt x="562" y="551"/>
                    </a:lnTo>
                    <a:lnTo>
                      <a:pt x="569" y="551"/>
                    </a:lnTo>
                    <a:lnTo>
                      <a:pt x="569" y="544"/>
                    </a:lnTo>
                    <a:lnTo>
                      <a:pt x="569" y="551"/>
                    </a:lnTo>
                    <a:lnTo>
                      <a:pt x="577" y="555"/>
                    </a:lnTo>
                    <a:lnTo>
                      <a:pt x="577" y="547"/>
                    </a:lnTo>
                    <a:lnTo>
                      <a:pt x="573" y="551"/>
                    </a:lnTo>
                    <a:lnTo>
                      <a:pt x="577" y="555"/>
                    </a:lnTo>
                    <a:lnTo>
                      <a:pt x="580" y="558"/>
                    </a:lnTo>
                    <a:lnTo>
                      <a:pt x="580" y="558"/>
                    </a:lnTo>
                    <a:lnTo>
                      <a:pt x="587" y="562"/>
                    </a:lnTo>
                    <a:lnTo>
                      <a:pt x="595" y="566"/>
                    </a:lnTo>
                    <a:lnTo>
                      <a:pt x="595" y="558"/>
                    </a:lnTo>
                    <a:lnTo>
                      <a:pt x="591" y="562"/>
                    </a:lnTo>
                    <a:lnTo>
                      <a:pt x="595" y="569"/>
                    </a:lnTo>
                    <a:lnTo>
                      <a:pt x="595" y="569"/>
                    </a:lnTo>
                    <a:lnTo>
                      <a:pt x="595" y="569"/>
                    </a:lnTo>
                    <a:lnTo>
                      <a:pt x="598" y="573"/>
                    </a:lnTo>
                    <a:lnTo>
                      <a:pt x="602" y="569"/>
                    </a:lnTo>
                    <a:lnTo>
                      <a:pt x="598" y="573"/>
                    </a:lnTo>
                    <a:lnTo>
                      <a:pt x="602" y="580"/>
                    </a:lnTo>
                    <a:lnTo>
                      <a:pt x="606" y="591"/>
                    </a:lnTo>
                    <a:lnTo>
                      <a:pt x="609" y="602"/>
                    </a:lnTo>
                    <a:lnTo>
                      <a:pt x="613" y="598"/>
                    </a:lnTo>
                    <a:lnTo>
                      <a:pt x="609" y="598"/>
                    </a:lnTo>
                    <a:lnTo>
                      <a:pt x="609" y="613"/>
                    </a:lnTo>
                    <a:lnTo>
                      <a:pt x="609" y="624"/>
                    </a:lnTo>
                    <a:lnTo>
                      <a:pt x="609" y="638"/>
                    </a:lnTo>
                    <a:lnTo>
                      <a:pt x="613" y="638"/>
                    </a:lnTo>
                    <a:lnTo>
                      <a:pt x="609" y="638"/>
                    </a:lnTo>
                    <a:lnTo>
                      <a:pt x="606" y="649"/>
                    </a:lnTo>
                    <a:lnTo>
                      <a:pt x="602" y="660"/>
                    </a:lnTo>
                    <a:lnTo>
                      <a:pt x="598" y="671"/>
                    </a:lnTo>
                    <a:lnTo>
                      <a:pt x="602" y="671"/>
                    </a:lnTo>
                    <a:lnTo>
                      <a:pt x="598" y="667"/>
                    </a:lnTo>
                    <a:lnTo>
                      <a:pt x="591" y="674"/>
                    </a:lnTo>
                    <a:lnTo>
                      <a:pt x="584" y="682"/>
                    </a:lnTo>
                    <a:lnTo>
                      <a:pt x="587" y="685"/>
                    </a:lnTo>
                    <a:lnTo>
                      <a:pt x="587" y="682"/>
                    </a:lnTo>
                    <a:lnTo>
                      <a:pt x="580" y="685"/>
                    </a:lnTo>
                    <a:lnTo>
                      <a:pt x="580" y="685"/>
                    </a:lnTo>
                    <a:lnTo>
                      <a:pt x="577" y="685"/>
                    </a:lnTo>
                    <a:lnTo>
                      <a:pt x="569" y="692"/>
                    </a:lnTo>
                    <a:lnTo>
                      <a:pt x="569" y="696"/>
                    </a:lnTo>
                    <a:lnTo>
                      <a:pt x="569" y="696"/>
                    </a:lnTo>
                    <a:lnTo>
                      <a:pt x="566" y="703"/>
                    </a:lnTo>
                    <a:lnTo>
                      <a:pt x="562" y="714"/>
                    </a:lnTo>
                    <a:lnTo>
                      <a:pt x="558" y="722"/>
                    </a:lnTo>
                    <a:lnTo>
                      <a:pt x="558" y="722"/>
                    </a:lnTo>
                    <a:lnTo>
                      <a:pt x="558" y="722"/>
                    </a:lnTo>
                    <a:lnTo>
                      <a:pt x="558" y="729"/>
                    </a:lnTo>
                    <a:lnTo>
                      <a:pt x="562" y="729"/>
                    </a:lnTo>
                    <a:lnTo>
                      <a:pt x="558" y="729"/>
                    </a:lnTo>
                    <a:lnTo>
                      <a:pt x="555" y="740"/>
                    </a:lnTo>
                    <a:lnTo>
                      <a:pt x="555" y="740"/>
                    </a:lnTo>
                    <a:lnTo>
                      <a:pt x="555" y="740"/>
                    </a:lnTo>
                    <a:lnTo>
                      <a:pt x="555" y="751"/>
                    </a:lnTo>
                    <a:lnTo>
                      <a:pt x="555" y="751"/>
                    </a:lnTo>
                    <a:lnTo>
                      <a:pt x="555" y="754"/>
                    </a:lnTo>
                    <a:lnTo>
                      <a:pt x="558" y="761"/>
                    </a:lnTo>
                    <a:lnTo>
                      <a:pt x="562" y="772"/>
                    </a:lnTo>
                    <a:lnTo>
                      <a:pt x="566" y="783"/>
                    </a:lnTo>
                    <a:lnTo>
                      <a:pt x="566" y="783"/>
                    </a:lnTo>
                    <a:lnTo>
                      <a:pt x="566" y="783"/>
                    </a:lnTo>
                    <a:lnTo>
                      <a:pt x="573" y="790"/>
                    </a:lnTo>
                    <a:lnTo>
                      <a:pt x="577" y="787"/>
                    </a:lnTo>
                    <a:lnTo>
                      <a:pt x="573" y="790"/>
                    </a:lnTo>
                    <a:lnTo>
                      <a:pt x="580" y="801"/>
                    </a:lnTo>
                    <a:lnTo>
                      <a:pt x="580" y="801"/>
                    </a:lnTo>
                    <a:lnTo>
                      <a:pt x="584" y="805"/>
                    </a:lnTo>
                    <a:lnTo>
                      <a:pt x="595" y="812"/>
                    </a:lnTo>
                    <a:lnTo>
                      <a:pt x="606" y="819"/>
                    </a:lnTo>
                    <a:lnTo>
                      <a:pt x="602" y="816"/>
                    </a:lnTo>
                    <a:lnTo>
                      <a:pt x="606" y="819"/>
                    </a:lnTo>
                    <a:lnTo>
                      <a:pt x="620" y="823"/>
                    </a:lnTo>
                    <a:lnTo>
                      <a:pt x="620" y="816"/>
                    </a:lnTo>
                    <a:lnTo>
                      <a:pt x="620" y="823"/>
                    </a:lnTo>
                    <a:lnTo>
                      <a:pt x="627" y="827"/>
                    </a:lnTo>
                    <a:lnTo>
                      <a:pt x="624" y="823"/>
                    </a:lnTo>
                    <a:lnTo>
                      <a:pt x="627" y="827"/>
                    </a:lnTo>
                    <a:lnTo>
                      <a:pt x="642" y="830"/>
                    </a:lnTo>
                    <a:lnTo>
                      <a:pt x="667" y="834"/>
                    </a:lnTo>
                    <a:lnTo>
                      <a:pt x="696" y="838"/>
                    </a:lnTo>
                    <a:lnTo>
                      <a:pt x="714" y="838"/>
                    </a:lnTo>
                    <a:lnTo>
                      <a:pt x="732" y="841"/>
                    </a:lnTo>
                    <a:lnTo>
                      <a:pt x="751" y="841"/>
                    </a:lnTo>
                    <a:lnTo>
                      <a:pt x="769" y="841"/>
                    </a:lnTo>
                    <a:lnTo>
                      <a:pt x="787" y="841"/>
                    </a:lnTo>
                    <a:lnTo>
                      <a:pt x="809" y="841"/>
                    </a:lnTo>
                    <a:lnTo>
                      <a:pt x="823" y="838"/>
                    </a:lnTo>
                    <a:lnTo>
                      <a:pt x="841" y="834"/>
                    </a:lnTo>
                    <a:lnTo>
                      <a:pt x="845" y="830"/>
                    </a:lnTo>
                    <a:lnTo>
                      <a:pt x="848" y="827"/>
                    </a:lnTo>
                    <a:lnTo>
                      <a:pt x="848" y="819"/>
                    </a:lnTo>
                    <a:lnTo>
                      <a:pt x="848" y="819"/>
                    </a:lnTo>
                    <a:lnTo>
                      <a:pt x="848" y="819"/>
                    </a:lnTo>
                    <a:lnTo>
                      <a:pt x="845" y="809"/>
                    </a:lnTo>
                    <a:lnTo>
                      <a:pt x="841" y="798"/>
                    </a:lnTo>
                    <a:lnTo>
                      <a:pt x="834" y="798"/>
                    </a:lnTo>
                    <a:lnTo>
                      <a:pt x="841" y="798"/>
                    </a:lnTo>
                    <a:lnTo>
                      <a:pt x="841" y="787"/>
                    </a:lnTo>
                    <a:lnTo>
                      <a:pt x="841" y="761"/>
                    </a:lnTo>
                    <a:lnTo>
                      <a:pt x="841" y="736"/>
                    </a:lnTo>
                    <a:lnTo>
                      <a:pt x="841" y="707"/>
                    </a:lnTo>
                    <a:lnTo>
                      <a:pt x="845" y="682"/>
                    </a:lnTo>
                    <a:lnTo>
                      <a:pt x="848" y="656"/>
                    </a:lnTo>
                    <a:lnTo>
                      <a:pt x="848" y="634"/>
                    </a:lnTo>
                    <a:lnTo>
                      <a:pt x="841" y="634"/>
                    </a:lnTo>
                    <a:lnTo>
                      <a:pt x="848" y="638"/>
                    </a:lnTo>
                    <a:lnTo>
                      <a:pt x="852" y="627"/>
                    </a:lnTo>
                    <a:lnTo>
                      <a:pt x="856" y="620"/>
                    </a:lnTo>
                    <a:lnTo>
                      <a:pt x="859" y="613"/>
                    </a:lnTo>
                    <a:lnTo>
                      <a:pt x="852" y="609"/>
                    </a:lnTo>
                    <a:lnTo>
                      <a:pt x="856" y="616"/>
                    </a:lnTo>
                    <a:lnTo>
                      <a:pt x="863" y="613"/>
                    </a:lnTo>
                    <a:lnTo>
                      <a:pt x="863" y="613"/>
                    </a:lnTo>
                    <a:lnTo>
                      <a:pt x="863" y="609"/>
                    </a:lnTo>
                    <a:lnTo>
                      <a:pt x="867" y="605"/>
                    </a:lnTo>
                    <a:lnTo>
                      <a:pt x="863" y="602"/>
                    </a:lnTo>
                    <a:lnTo>
                      <a:pt x="867" y="609"/>
                    </a:lnTo>
                    <a:lnTo>
                      <a:pt x="874" y="605"/>
                    </a:lnTo>
                    <a:lnTo>
                      <a:pt x="870" y="598"/>
                    </a:lnTo>
                    <a:lnTo>
                      <a:pt x="870" y="605"/>
                    </a:lnTo>
                    <a:lnTo>
                      <a:pt x="877" y="605"/>
                    </a:lnTo>
                    <a:lnTo>
                      <a:pt x="885" y="605"/>
                    </a:lnTo>
                    <a:lnTo>
                      <a:pt x="892" y="605"/>
                    </a:lnTo>
                    <a:lnTo>
                      <a:pt x="892" y="598"/>
                    </a:lnTo>
                    <a:lnTo>
                      <a:pt x="892" y="605"/>
                    </a:lnTo>
                    <a:lnTo>
                      <a:pt x="903" y="609"/>
                    </a:lnTo>
                    <a:lnTo>
                      <a:pt x="910" y="613"/>
                    </a:lnTo>
                    <a:lnTo>
                      <a:pt x="917" y="616"/>
                    </a:lnTo>
                    <a:lnTo>
                      <a:pt x="925" y="620"/>
                    </a:lnTo>
                    <a:lnTo>
                      <a:pt x="932" y="624"/>
                    </a:lnTo>
                    <a:lnTo>
                      <a:pt x="943" y="631"/>
                    </a:lnTo>
                    <a:lnTo>
                      <a:pt x="943" y="624"/>
                    </a:lnTo>
                    <a:lnTo>
                      <a:pt x="939" y="627"/>
                    </a:lnTo>
                    <a:lnTo>
                      <a:pt x="943" y="634"/>
                    </a:lnTo>
                    <a:lnTo>
                      <a:pt x="943" y="634"/>
                    </a:lnTo>
                    <a:lnTo>
                      <a:pt x="943" y="634"/>
                    </a:lnTo>
                    <a:lnTo>
                      <a:pt x="950" y="642"/>
                    </a:lnTo>
                    <a:lnTo>
                      <a:pt x="954" y="645"/>
                    </a:lnTo>
                    <a:lnTo>
                      <a:pt x="954" y="645"/>
                    </a:lnTo>
                    <a:lnTo>
                      <a:pt x="961" y="649"/>
                    </a:lnTo>
                    <a:lnTo>
                      <a:pt x="972" y="653"/>
                    </a:lnTo>
                    <a:lnTo>
                      <a:pt x="983" y="656"/>
                    </a:lnTo>
                    <a:lnTo>
                      <a:pt x="983" y="656"/>
                    </a:lnTo>
                    <a:lnTo>
                      <a:pt x="983" y="656"/>
                    </a:lnTo>
                    <a:lnTo>
                      <a:pt x="990" y="656"/>
                    </a:lnTo>
                    <a:lnTo>
                      <a:pt x="990" y="649"/>
                    </a:lnTo>
                    <a:lnTo>
                      <a:pt x="990" y="656"/>
                    </a:lnTo>
                    <a:lnTo>
                      <a:pt x="1001" y="660"/>
                    </a:lnTo>
                    <a:lnTo>
                      <a:pt x="1001" y="660"/>
                    </a:lnTo>
                    <a:lnTo>
                      <a:pt x="1004" y="660"/>
                    </a:lnTo>
                    <a:lnTo>
                      <a:pt x="1015" y="656"/>
                    </a:lnTo>
                    <a:lnTo>
                      <a:pt x="1012" y="649"/>
                    </a:lnTo>
                    <a:lnTo>
                      <a:pt x="1012" y="656"/>
                    </a:lnTo>
                    <a:lnTo>
                      <a:pt x="1022" y="656"/>
                    </a:lnTo>
                    <a:lnTo>
                      <a:pt x="1022" y="656"/>
                    </a:lnTo>
                    <a:lnTo>
                      <a:pt x="1026" y="656"/>
                    </a:lnTo>
                    <a:lnTo>
                      <a:pt x="1033" y="653"/>
                    </a:lnTo>
                    <a:lnTo>
                      <a:pt x="1044" y="649"/>
                    </a:lnTo>
                    <a:lnTo>
                      <a:pt x="1044" y="649"/>
                    </a:lnTo>
                    <a:lnTo>
                      <a:pt x="1044" y="645"/>
                    </a:lnTo>
                    <a:lnTo>
                      <a:pt x="1051" y="638"/>
                    </a:lnTo>
                    <a:lnTo>
                      <a:pt x="1059" y="631"/>
                    </a:lnTo>
                    <a:lnTo>
                      <a:pt x="1066" y="624"/>
                    </a:lnTo>
                    <a:lnTo>
                      <a:pt x="1070" y="624"/>
                    </a:lnTo>
                    <a:lnTo>
                      <a:pt x="1070" y="624"/>
                    </a:lnTo>
                    <a:lnTo>
                      <a:pt x="1077" y="613"/>
                    </a:lnTo>
                    <a:lnTo>
                      <a:pt x="1080" y="602"/>
                    </a:lnTo>
                    <a:lnTo>
                      <a:pt x="1084" y="587"/>
                    </a:lnTo>
                    <a:lnTo>
                      <a:pt x="1084" y="587"/>
                    </a:lnTo>
                    <a:lnTo>
                      <a:pt x="1084" y="584"/>
                    </a:lnTo>
                    <a:lnTo>
                      <a:pt x="1084" y="576"/>
                    </a:lnTo>
                    <a:lnTo>
                      <a:pt x="1084" y="569"/>
                    </a:lnTo>
                    <a:lnTo>
                      <a:pt x="1084" y="562"/>
                    </a:lnTo>
                    <a:lnTo>
                      <a:pt x="1084" y="555"/>
                    </a:lnTo>
                    <a:lnTo>
                      <a:pt x="1084" y="555"/>
                    </a:lnTo>
                    <a:lnTo>
                      <a:pt x="1080" y="551"/>
                    </a:lnTo>
                    <a:lnTo>
                      <a:pt x="1077" y="547"/>
                    </a:lnTo>
                    <a:lnTo>
                      <a:pt x="1073" y="551"/>
                    </a:lnTo>
                    <a:lnTo>
                      <a:pt x="1080" y="551"/>
                    </a:lnTo>
                    <a:lnTo>
                      <a:pt x="1077" y="544"/>
                    </a:lnTo>
                    <a:lnTo>
                      <a:pt x="1070" y="544"/>
                    </a:lnTo>
                    <a:lnTo>
                      <a:pt x="1077" y="544"/>
                    </a:lnTo>
                    <a:lnTo>
                      <a:pt x="1077" y="537"/>
                    </a:lnTo>
                    <a:lnTo>
                      <a:pt x="1077" y="537"/>
                    </a:lnTo>
                    <a:lnTo>
                      <a:pt x="1073" y="533"/>
                    </a:lnTo>
                    <a:lnTo>
                      <a:pt x="1070" y="529"/>
                    </a:lnTo>
                    <a:lnTo>
                      <a:pt x="1066" y="533"/>
                    </a:lnTo>
                    <a:lnTo>
                      <a:pt x="1073" y="533"/>
                    </a:lnTo>
                    <a:lnTo>
                      <a:pt x="1066" y="522"/>
                    </a:lnTo>
                    <a:lnTo>
                      <a:pt x="1062" y="518"/>
                    </a:lnTo>
                    <a:lnTo>
                      <a:pt x="1062" y="518"/>
                    </a:lnTo>
                    <a:lnTo>
                      <a:pt x="1051" y="511"/>
                    </a:lnTo>
                    <a:lnTo>
                      <a:pt x="1041" y="504"/>
                    </a:lnTo>
                    <a:lnTo>
                      <a:pt x="1030" y="497"/>
                    </a:lnTo>
                    <a:lnTo>
                      <a:pt x="1019" y="493"/>
                    </a:lnTo>
                    <a:lnTo>
                      <a:pt x="1008" y="489"/>
                    </a:lnTo>
                    <a:lnTo>
                      <a:pt x="1008" y="489"/>
                    </a:lnTo>
                    <a:lnTo>
                      <a:pt x="1004" y="489"/>
                    </a:lnTo>
                    <a:lnTo>
                      <a:pt x="990" y="489"/>
                    </a:lnTo>
                    <a:lnTo>
                      <a:pt x="979" y="489"/>
                    </a:lnTo>
                    <a:lnTo>
                      <a:pt x="979" y="489"/>
                    </a:lnTo>
                    <a:lnTo>
                      <a:pt x="979" y="489"/>
                    </a:lnTo>
                    <a:lnTo>
                      <a:pt x="968" y="493"/>
                    </a:lnTo>
                    <a:lnTo>
                      <a:pt x="957" y="497"/>
                    </a:lnTo>
                    <a:lnTo>
                      <a:pt x="957" y="500"/>
                    </a:lnTo>
                    <a:lnTo>
                      <a:pt x="957" y="497"/>
                    </a:lnTo>
                    <a:lnTo>
                      <a:pt x="954" y="497"/>
                    </a:lnTo>
                    <a:lnTo>
                      <a:pt x="954" y="497"/>
                    </a:lnTo>
                    <a:lnTo>
                      <a:pt x="950" y="497"/>
                    </a:lnTo>
                    <a:lnTo>
                      <a:pt x="946" y="500"/>
                    </a:lnTo>
                    <a:lnTo>
                      <a:pt x="943" y="504"/>
                    </a:lnTo>
                    <a:lnTo>
                      <a:pt x="943" y="508"/>
                    </a:lnTo>
                    <a:lnTo>
                      <a:pt x="943" y="508"/>
                    </a:lnTo>
                    <a:lnTo>
                      <a:pt x="939" y="515"/>
                    </a:lnTo>
                    <a:lnTo>
                      <a:pt x="943" y="515"/>
                    </a:lnTo>
                    <a:lnTo>
                      <a:pt x="939" y="511"/>
                    </a:lnTo>
                    <a:lnTo>
                      <a:pt x="932" y="518"/>
                    </a:lnTo>
                    <a:lnTo>
                      <a:pt x="925" y="526"/>
                    </a:lnTo>
                    <a:lnTo>
                      <a:pt x="928" y="529"/>
                    </a:lnTo>
                    <a:lnTo>
                      <a:pt x="928" y="526"/>
                    </a:lnTo>
                    <a:lnTo>
                      <a:pt x="921" y="529"/>
                    </a:lnTo>
                    <a:lnTo>
                      <a:pt x="914" y="533"/>
                    </a:lnTo>
                    <a:lnTo>
                      <a:pt x="914" y="537"/>
                    </a:lnTo>
                    <a:lnTo>
                      <a:pt x="914" y="533"/>
                    </a:lnTo>
                    <a:lnTo>
                      <a:pt x="906" y="533"/>
                    </a:lnTo>
                    <a:lnTo>
                      <a:pt x="896" y="533"/>
                    </a:lnTo>
                    <a:lnTo>
                      <a:pt x="888" y="533"/>
                    </a:lnTo>
                    <a:lnTo>
                      <a:pt x="888" y="537"/>
                    </a:lnTo>
                    <a:lnTo>
                      <a:pt x="892" y="533"/>
                    </a:lnTo>
                    <a:lnTo>
                      <a:pt x="885" y="529"/>
                    </a:lnTo>
                    <a:lnTo>
                      <a:pt x="885" y="529"/>
                    </a:lnTo>
                    <a:lnTo>
                      <a:pt x="881" y="529"/>
                    </a:lnTo>
                    <a:lnTo>
                      <a:pt x="874" y="529"/>
                    </a:lnTo>
                    <a:lnTo>
                      <a:pt x="874" y="533"/>
                    </a:lnTo>
                    <a:lnTo>
                      <a:pt x="877" y="529"/>
                    </a:lnTo>
                    <a:lnTo>
                      <a:pt x="870" y="526"/>
                    </a:lnTo>
                    <a:lnTo>
                      <a:pt x="867" y="529"/>
                    </a:lnTo>
                    <a:lnTo>
                      <a:pt x="870" y="526"/>
                    </a:lnTo>
                    <a:lnTo>
                      <a:pt x="863" y="518"/>
                    </a:lnTo>
                    <a:lnTo>
                      <a:pt x="863" y="518"/>
                    </a:lnTo>
                    <a:lnTo>
                      <a:pt x="863" y="518"/>
                    </a:lnTo>
                    <a:lnTo>
                      <a:pt x="856" y="515"/>
                    </a:lnTo>
                    <a:lnTo>
                      <a:pt x="852" y="518"/>
                    </a:lnTo>
                    <a:lnTo>
                      <a:pt x="856" y="515"/>
                    </a:lnTo>
                    <a:lnTo>
                      <a:pt x="852" y="511"/>
                    </a:lnTo>
                    <a:lnTo>
                      <a:pt x="848" y="515"/>
                    </a:lnTo>
                    <a:lnTo>
                      <a:pt x="856" y="515"/>
                    </a:lnTo>
                    <a:lnTo>
                      <a:pt x="852" y="508"/>
                    </a:lnTo>
                    <a:lnTo>
                      <a:pt x="852" y="508"/>
                    </a:lnTo>
                    <a:lnTo>
                      <a:pt x="848" y="504"/>
                    </a:lnTo>
                    <a:lnTo>
                      <a:pt x="845" y="500"/>
                    </a:lnTo>
                    <a:lnTo>
                      <a:pt x="841" y="504"/>
                    </a:lnTo>
                    <a:lnTo>
                      <a:pt x="848" y="504"/>
                    </a:lnTo>
                    <a:lnTo>
                      <a:pt x="848" y="497"/>
                    </a:lnTo>
                    <a:lnTo>
                      <a:pt x="848" y="478"/>
                    </a:lnTo>
                    <a:lnTo>
                      <a:pt x="848" y="453"/>
                    </a:lnTo>
                    <a:lnTo>
                      <a:pt x="848" y="413"/>
                    </a:lnTo>
                    <a:lnTo>
                      <a:pt x="848" y="373"/>
                    </a:lnTo>
                    <a:lnTo>
                      <a:pt x="848" y="333"/>
                    </a:lnTo>
                    <a:lnTo>
                      <a:pt x="848" y="290"/>
                    </a:lnTo>
                    <a:lnTo>
                      <a:pt x="848" y="254"/>
                    </a:lnTo>
                    <a:lnTo>
                      <a:pt x="848" y="225"/>
                    </a:lnTo>
                    <a:lnTo>
                      <a:pt x="848" y="217"/>
                    </a:lnTo>
                    <a:lnTo>
                      <a:pt x="841" y="221"/>
                    </a:lnTo>
                    <a:lnTo>
                      <a:pt x="830" y="225"/>
                    </a:lnTo>
                    <a:lnTo>
                      <a:pt x="819" y="232"/>
                    </a:lnTo>
                    <a:lnTo>
                      <a:pt x="819" y="235"/>
                    </a:lnTo>
                    <a:lnTo>
                      <a:pt x="819" y="232"/>
                    </a:lnTo>
                    <a:lnTo>
                      <a:pt x="805" y="235"/>
                    </a:lnTo>
                    <a:lnTo>
                      <a:pt x="790" y="239"/>
                    </a:lnTo>
                    <a:lnTo>
                      <a:pt x="776" y="243"/>
                    </a:lnTo>
                    <a:lnTo>
                      <a:pt x="761" y="243"/>
                    </a:lnTo>
                    <a:lnTo>
                      <a:pt x="743" y="243"/>
                    </a:lnTo>
                    <a:lnTo>
                      <a:pt x="725" y="243"/>
                    </a:lnTo>
                    <a:lnTo>
                      <a:pt x="711" y="243"/>
                    </a:lnTo>
                    <a:lnTo>
                      <a:pt x="693" y="243"/>
                    </a:lnTo>
                    <a:lnTo>
                      <a:pt x="674" y="239"/>
                    </a:lnTo>
                    <a:lnTo>
                      <a:pt x="660" y="235"/>
                    </a:lnTo>
                    <a:lnTo>
                      <a:pt x="645" y="232"/>
                    </a:lnTo>
                    <a:lnTo>
                      <a:pt x="631" y="228"/>
                    </a:lnTo>
                    <a:lnTo>
                      <a:pt x="616" y="225"/>
                    </a:lnTo>
                    <a:lnTo>
                      <a:pt x="616" y="228"/>
                    </a:lnTo>
                    <a:lnTo>
                      <a:pt x="620" y="225"/>
                    </a:lnTo>
                    <a:lnTo>
                      <a:pt x="609" y="221"/>
                    </a:lnTo>
                    <a:lnTo>
                      <a:pt x="602" y="217"/>
                    </a:lnTo>
                    <a:lnTo>
                      <a:pt x="598" y="221"/>
                    </a:lnTo>
                    <a:lnTo>
                      <a:pt x="602" y="217"/>
                    </a:lnTo>
                    <a:lnTo>
                      <a:pt x="595" y="210"/>
                    </a:lnTo>
                    <a:lnTo>
                      <a:pt x="595" y="210"/>
                    </a:lnTo>
                    <a:lnTo>
                      <a:pt x="595" y="210"/>
                    </a:lnTo>
                    <a:lnTo>
                      <a:pt x="587" y="206"/>
                    </a:lnTo>
                    <a:lnTo>
                      <a:pt x="580" y="203"/>
                    </a:lnTo>
                    <a:lnTo>
                      <a:pt x="577" y="206"/>
                    </a:lnTo>
                    <a:lnTo>
                      <a:pt x="580" y="203"/>
                    </a:lnTo>
                    <a:lnTo>
                      <a:pt x="577" y="199"/>
                    </a:lnTo>
                    <a:lnTo>
                      <a:pt x="573" y="196"/>
                    </a:lnTo>
                    <a:lnTo>
                      <a:pt x="569" y="199"/>
                    </a:lnTo>
                    <a:lnTo>
                      <a:pt x="577" y="199"/>
                    </a:lnTo>
                    <a:lnTo>
                      <a:pt x="577" y="192"/>
                    </a:lnTo>
                    <a:lnTo>
                      <a:pt x="577" y="188"/>
                    </a:lnTo>
                    <a:lnTo>
                      <a:pt x="577" y="185"/>
                    </a:lnTo>
                    <a:lnTo>
                      <a:pt x="577" y="177"/>
                    </a:lnTo>
                    <a:lnTo>
                      <a:pt x="569" y="177"/>
                    </a:lnTo>
                    <a:lnTo>
                      <a:pt x="573" y="181"/>
                    </a:lnTo>
                    <a:lnTo>
                      <a:pt x="577" y="177"/>
                    </a:lnTo>
                    <a:lnTo>
                      <a:pt x="580" y="177"/>
                    </a:lnTo>
                    <a:lnTo>
                      <a:pt x="580" y="177"/>
                    </a:lnTo>
                    <a:lnTo>
                      <a:pt x="584" y="170"/>
                    </a:lnTo>
                    <a:lnTo>
                      <a:pt x="591" y="156"/>
                    </a:lnTo>
                    <a:lnTo>
                      <a:pt x="584" y="152"/>
                    </a:lnTo>
                    <a:lnTo>
                      <a:pt x="587" y="156"/>
                    </a:lnTo>
                    <a:lnTo>
                      <a:pt x="602" y="141"/>
                    </a:lnTo>
                    <a:lnTo>
                      <a:pt x="609" y="134"/>
                    </a:lnTo>
                    <a:lnTo>
                      <a:pt x="613" y="134"/>
                    </a:lnTo>
                    <a:lnTo>
                      <a:pt x="613" y="134"/>
                    </a:lnTo>
                    <a:lnTo>
                      <a:pt x="620" y="123"/>
                    </a:lnTo>
                    <a:lnTo>
                      <a:pt x="624" y="112"/>
                    </a:lnTo>
                    <a:lnTo>
                      <a:pt x="627" y="101"/>
                    </a:lnTo>
                    <a:lnTo>
                      <a:pt x="627" y="101"/>
                    </a:lnTo>
                    <a:lnTo>
                      <a:pt x="627" y="98"/>
                    </a:lnTo>
                    <a:lnTo>
                      <a:pt x="627" y="87"/>
                    </a:lnTo>
                    <a:lnTo>
                      <a:pt x="627" y="76"/>
                    </a:lnTo>
                    <a:lnTo>
                      <a:pt x="627" y="65"/>
                    </a:lnTo>
                    <a:lnTo>
                      <a:pt x="627" y="65"/>
                    </a:lnTo>
                    <a:lnTo>
                      <a:pt x="627" y="65"/>
                    </a:lnTo>
                    <a:lnTo>
                      <a:pt x="624" y="54"/>
                    </a:lnTo>
                    <a:lnTo>
                      <a:pt x="620" y="43"/>
                    </a:lnTo>
                    <a:lnTo>
                      <a:pt x="613" y="32"/>
                    </a:lnTo>
                    <a:lnTo>
                      <a:pt x="613" y="32"/>
                    </a:lnTo>
                    <a:lnTo>
                      <a:pt x="609" y="29"/>
                    </a:lnTo>
                    <a:lnTo>
                      <a:pt x="606" y="25"/>
                    </a:lnTo>
                    <a:lnTo>
                      <a:pt x="606" y="25"/>
                    </a:lnTo>
                    <a:lnTo>
                      <a:pt x="606" y="25"/>
                    </a:lnTo>
                    <a:lnTo>
                      <a:pt x="598" y="21"/>
                    </a:lnTo>
                    <a:lnTo>
                      <a:pt x="595" y="25"/>
                    </a:lnTo>
                    <a:lnTo>
                      <a:pt x="598" y="21"/>
                    </a:lnTo>
                    <a:lnTo>
                      <a:pt x="595" y="18"/>
                    </a:lnTo>
                    <a:lnTo>
                      <a:pt x="595" y="18"/>
                    </a:lnTo>
                    <a:lnTo>
                      <a:pt x="595" y="18"/>
                    </a:lnTo>
                    <a:lnTo>
                      <a:pt x="587" y="14"/>
                    </a:lnTo>
                    <a:lnTo>
                      <a:pt x="584" y="18"/>
                    </a:lnTo>
                    <a:lnTo>
                      <a:pt x="587" y="14"/>
                    </a:lnTo>
                    <a:lnTo>
                      <a:pt x="584" y="11"/>
                    </a:lnTo>
                    <a:lnTo>
                      <a:pt x="584" y="11"/>
                    </a:lnTo>
                    <a:lnTo>
                      <a:pt x="584" y="11"/>
                    </a:lnTo>
                    <a:lnTo>
                      <a:pt x="577" y="7"/>
                    </a:lnTo>
                    <a:lnTo>
                      <a:pt x="577" y="7"/>
                    </a:lnTo>
                    <a:lnTo>
                      <a:pt x="573" y="7"/>
                    </a:lnTo>
                    <a:lnTo>
                      <a:pt x="566" y="7"/>
                    </a:lnTo>
                    <a:lnTo>
                      <a:pt x="566" y="11"/>
                    </a:lnTo>
                    <a:lnTo>
                      <a:pt x="569" y="7"/>
                    </a:lnTo>
                    <a:lnTo>
                      <a:pt x="562" y="3"/>
                    </a:lnTo>
                    <a:lnTo>
                      <a:pt x="562" y="3"/>
                    </a:lnTo>
                    <a:lnTo>
                      <a:pt x="558" y="3"/>
                    </a:lnTo>
                    <a:lnTo>
                      <a:pt x="548" y="3"/>
                    </a:lnTo>
                    <a:lnTo>
                      <a:pt x="548" y="7"/>
                    </a:lnTo>
                    <a:lnTo>
                      <a:pt x="551" y="3"/>
                    </a:lnTo>
                    <a:lnTo>
                      <a:pt x="544" y="0"/>
                    </a:lnTo>
                    <a:lnTo>
                      <a:pt x="544" y="0"/>
                    </a:lnTo>
                    <a:lnTo>
                      <a:pt x="540" y="0"/>
                    </a:lnTo>
                    <a:lnTo>
                      <a:pt x="533" y="0"/>
                    </a:lnTo>
                    <a:lnTo>
                      <a:pt x="522" y="0"/>
                    </a:lnTo>
                    <a:lnTo>
                      <a:pt x="515" y="0"/>
                    </a:lnTo>
                    <a:lnTo>
                      <a:pt x="515" y="0"/>
                    </a:lnTo>
                    <a:lnTo>
                      <a:pt x="515" y="0"/>
                    </a:lnTo>
                    <a:lnTo>
                      <a:pt x="504" y="3"/>
                    </a:lnTo>
                    <a:lnTo>
                      <a:pt x="504" y="7"/>
                    </a:lnTo>
                    <a:lnTo>
                      <a:pt x="504" y="3"/>
                    </a:lnTo>
                    <a:lnTo>
                      <a:pt x="497" y="3"/>
                    </a:lnTo>
                    <a:lnTo>
                      <a:pt x="489" y="3"/>
                    </a:lnTo>
                    <a:lnTo>
                      <a:pt x="489" y="3"/>
                    </a:lnTo>
                    <a:lnTo>
                      <a:pt x="486" y="3"/>
                    </a:lnTo>
                    <a:lnTo>
                      <a:pt x="482" y="7"/>
                    </a:lnTo>
                    <a:lnTo>
                      <a:pt x="486" y="11"/>
                    </a:lnTo>
                    <a:lnTo>
                      <a:pt x="486" y="7"/>
                    </a:lnTo>
                    <a:lnTo>
                      <a:pt x="479" y="11"/>
                    </a:lnTo>
                    <a:lnTo>
                      <a:pt x="479" y="11"/>
                    </a:lnTo>
                    <a:lnTo>
                      <a:pt x="475" y="11"/>
                    </a:lnTo>
                    <a:lnTo>
                      <a:pt x="471" y="14"/>
                    </a:lnTo>
                    <a:lnTo>
                      <a:pt x="475" y="18"/>
                    </a:lnTo>
                    <a:lnTo>
                      <a:pt x="475" y="14"/>
                    </a:lnTo>
                    <a:lnTo>
                      <a:pt x="468" y="18"/>
                    </a:lnTo>
                    <a:lnTo>
                      <a:pt x="468" y="18"/>
                    </a:lnTo>
                    <a:lnTo>
                      <a:pt x="464" y="18"/>
                    </a:lnTo>
                    <a:lnTo>
                      <a:pt x="460" y="21"/>
                    </a:lnTo>
                    <a:lnTo>
                      <a:pt x="457" y="25"/>
                    </a:lnTo>
                    <a:lnTo>
                      <a:pt x="453" y="29"/>
                    </a:lnTo>
                    <a:lnTo>
                      <a:pt x="453" y="32"/>
                    </a:lnTo>
                    <a:lnTo>
                      <a:pt x="453" y="32"/>
                    </a:lnTo>
                    <a:lnTo>
                      <a:pt x="450" y="40"/>
                    </a:lnTo>
                    <a:lnTo>
                      <a:pt x="446" y="50"/>
                    </a:lnTo>
                    <a:lnTo>
                      <a:pt x="442" y="61"/>
                    </a:lnTo>
                    <a:lnTo>
                      <a:pt x="442" y="61"/>
                    </a:lnTo>
                    <a:lnTo>
                      <a:pt x="442" y="61"/>
                    </a:lnTo>
                    <a:lnTo>
                      <a:pt x="442" y="72"/>
                    </a:lnTo>
                    <a:lnTo>
                      <a:pt x="442" y="83"/>
                    </a:lnTo>
                    <a:lnTo>
                      <a:pt x="442" y="98"/>
                    </a:lnTo>
                    <a:lnTo>
                      <a:pt x="442" y="101"/>
                    </a:lnTo>
                    <a:lnTo>
                      <a:pt x="442" y="101"/>
                    </a:lnTo>
                    <a:lnTo>
                      <a:pt x="446" y="112"/>
                    </a:lnTo>
                    <a:lnTo>
                      <a:pt x="450" y="127"/>
                    </a:lnTo>
                    <a:lnTo>
                      <a:pt x="457" y="138"/>
                    </a:lnTo>
                    <a:lnTo>
                      <a:pt x="460" y="148"/>
                    </a:lnTo>
                    <a:lnTo>
                      <a:pt x="460" y="148"/>
                    </a:lnTo>
                    <a:lnTo>
                      <a:pt x="464" y="152"/>
                    </a:lnTo>
                    <a:lnTo>
                      <a:pt x="475" y="159"/>
                    </a:lnTo>
                    <a:lnTo>
                      <a:pt x="475" y="152"/>
                    </a:lnTo>
                    <a:lnTo>
                      <a:pt x="471" y="156"/>
                    </a:lnTo>
                    <a:lnTo>
                      <a:pt x="475" y="163"/>
                    </a:lnTo>
                    <a:lnTo>
                      <a:pt x="475" y="163"/>
                    </a:lnTo>
                    <a:lnTo>
                      <a:pt x="475" y="163"/>
                    </a:lnTo>
                    <a:lnTo>
                      <a:pt x="482" y="170"/>
                    </a:lnTo>
                    <a:lnTo>
                      <a:pt x="486" y="167"/>
                    </a:lnTo>
                    <a:lnTo>
                      <a:pt x="482" y="167"/>
                    </a:lnTo>
                    <a:lnTo>
                      <a:pt x="482" y="174"/>
                    </a:lnTo>
                    <a:lnTo>
                      <a:pt x="482" y="177"/>
                    </a:lnTo>
                    <a:lnTo>
                      <a:pt x="482" y="177"/>
                    </a:lnTo>
                    <a:lnTo>
                      <a:pt x="486" y="185"/>
                    </a:lnTo>
                    <a:lnTo>
                      <a:pt x="489" y="181"/>
                    </a:lnTo>
                    <a:lnTo>
                      <a:pt x="486" y="181"/>
                    </a:lnTo>
                    <a:lnTo>
                      <a:pt x="486" y="188"/>
                    </a:lnTo>
                    <a:lnTo>
                      <a:pt x="486" y="196"/>
                    </a:lnTo>
                    <a:lnTo>
                      <a:pt x="489" y="196"/>
                    </a:lnTo>
                    <a:lnTo>
                      <a:pt x="486" y="196"/>
                    </a:lnTo>
                    <a:lnTo>
                      <a:pt x="482" y="203"/>
                    </a:lnTo>
                    <a:lnTo>
                      <a:pt x="479" y="210"/>
                    </a:lnTo>
                    <a:lnTo>
                      <a:pt x="482" y="210"/>
                    </a:lnTo>
                    <a:lnTo>
                      <a:pt x="479" y="206"/>
                    </a:lnTo>
                    <a:lnTo>
                      <a:pt x="475" y="210"/>
                    </a:lnTo>
                    <a:lnTo>
                      <a:pt x="468" y="217"/>
                    </a:lnTo>
                    <a:lnTo>
                      <a:pt x="471" y="221"/>
                    </a:lnTo>
                    <a:lnTo>
                      <a:pt x="471" y="217"/>
                    </a:lnTo>
                    <a:lnTo>
                      <a:pt x="460" y="221"/>
                    </a:lnTo>
                    <a:lnTo>
                      <a:pt x="460" y="225"/>
                    </a:lnTo>
                    <a:lnTo>
                      <a:pt x="460" y="221"/>
                    </a:lnTo>
                    <a:lnTo>
                      <a:pt x="453" y="221"/>
                    </a:lnTo>
                    <a:lnTo>
                      <a:pt x="442" y="221"/>
                    </a:lnTo>
                    <a:lnTo>
                      <a:pt x="431" y="221"/>
                    </a:lnTo>
                    <a:lnTo>
                      <a:pt x="417" y="217"/>
                    </a:lnTo>
                    <a:lnTo>
                      <a:pt x="417" y="221"/>
                    </a:lnTo>
                    <a:lnTo>
                      <a:pt x="421" y="217"/>
                    </a:lnTo>
                    <a:lnTo>
                      <a:pt x="406" y="210"/>
                    </a:lnTo>
                    <a:lnTo>
                      <a:pt x="406" y="210"/>
                    </a:lnTo>
                    <a:lnTo>
                      <a:pt x="402" y="210"/>
                    </a:lnTo>
                    <a:lnTo>
                      <a:pt x="392" y="210"/>
                    </a:lnTo>
                    <a:lnTo>
                      <a:pt x="392" y="214"/>
                    </a:lnTo>
                    <a:lnTo>
                      <a:pt x="395" y="210"/>
                    </a:lnTo>
                    <a:lnTo>
                      <a:pt x="388" y="206"/>
                    </a:lnTo>
                    <a:lnTo>
                      <a:pt x="377" y="203"/>
                    </a:lnTo>
                    <a:lnTo>
                      <a:pt x="377" y="203"/>
                    </a:lnTo>
                    <a:lnTo>
                      <a:pt x="373" y="203"/>
                    </a:lnTo>
                    <a:lnTo>
                      <a:pt x="363" y="203"/>
                    </a:lnTo>
                    <a:lnTo>
                      <a:pt x="341" y="203"/>
                    </a:lnTo>
                    <a:lnTo>
                      <a:pt x="315" y="203"/>
                    </a:lnTo>
                    <a:lnTo>
                      <a:pt x="290" y="206"/>
                    </a:lnTo>
                    <a:lnTo>
                      <a:pt x="265" y="210"/>
                    </a:lnTo>
                    <a:lnTo>
                      <a:pt x="239" y="214"/>
                    </a:lnTo>
                    <a:lnTo>
                      <a:pt x="236" y="214"/>
                    </a:lnTo>
                    <a:lnTo>
                      <a:pt x="239" y="214"/>
                    </a:lnTo>
                    <a:lnTo>
                      <a:pt x="214" y="221"/>
                    </a:lnTo>
                    <a:lnTo>
                      <a:pt x="210" y="221"/>
                    </a:lnTo>
                    <a:lnTo>
                      <a:pt x="210" y="225"/>
                    </a:lnTo>
                    <a:lnTo>
                      <a:pt x="210" y="228"/>
                    </a:lnTo>
                    <a:lnTo>
                      <a:pt x="210" y="243"/>
                    </a:lnTo>
                    <a:lnTo>
                      <a:pt x="210" y="254"/>
                    </a:lnTo>
                    <a:lnTo>
                      <a:pt x="210" y="272"/>
                    </a:lnTo>
                    <a:lnTo>
                      <a:pt x="214" y="308"/>
                    </a:lnTo>
                    <a:lnTo>
                      <a:pt x="218" y="352"/>
                    </a:lnTo>
                    <a:lnTo>
                      <a:pt x="221" y="370"/>
                    </a:lnTo>
                    <a:lnTo>
                      <a:pt x="221" y="391"/>
                    </a:lnTo>
                    <a:lnTo>
                      <a:pt x="221" y="413"/>
                    </a:lnTo>
                    <a:lnTo>
                      <a:pt x="221" y="413"/>
                    </a:lnTo>
                    <a:lnTo>
                      <a:pt x="221" y="417"/>
                    </a:lnTo>
                    <a:lnTo>
                      <a:pt x="225" y="431"/>
                    </a:lnTo>
                    <a:lnTo>
                      <a:pt x="228" y="428"/>
                    </a:lnTo>
                    <a:lnTo>
                      <a:pt x="225" y="428"/>
                    </a:lnTo>
                    <a:lnTo>
                      <a:pt x="221" y="446"/>
                    </a:lnTo>
                    <a:lnTo>
                      <a:pt x="221" y="460"/>
                    </a:lnTo>
                    <a:lnTo>
                      <a:pt x="225" y="460"/>
                    </a:lnTo>
                    <a:lnTo>
                      <a:pt x="221" y="460"/>
                    </a:lnTo>
                    <a:lnTo>
                      <a:pt x="218" y="468"/>
                    </a:lnTo>
                    <a:lnTo>
                      <a:pt x="218" y="468"/>
                    </a:lnTo>
                    <a:lnTo>
                      <a:pt x="218" y="468"/>
                    </a:lnTo>
                    <a:lnTo>
                      <a:pt x="218" y="471"/>
                    </a:lnTo>
                    <a:lnTo>
                      <a:pt x="221" y="471"/>
                    </a:lnTo>
                    <a:lnTo>
                      <a:pt x="218" y="468"/>
                    </a:lnTo>
                    <a:lnTo>
                      <a:pt x="214" y="471"/>
                    </a:lnTo>
                    <a:lnTo>
                      <a:pt x="210" y="475"/>
                    </a:lnTo>
                    <a:lnTo>
                      <a:pt x="207" y="478"/>
                    </a:lnTo>
                    <a:close/>
                    <a:moveTo>
                      <a:pt x="218" y="482"/>
                    </a:moveTo>
                    <a:lnTo>
                      <a:pt x="221" y="478"/>
                    </a:lnTo>
                    <a:lnTo>
                      <a:pt x="225" y="475"/>
                    </a:lnTo>
                    <a:lnTo>
                      <a:pt x="228" y="475"/>
                    </a:lnTo>
                    <a:lnTo>
                      <a:pt x="228" y="471"/>
                    </a:lnTo>
                    <a:lnTo>
                      <a:pt x="228" y="468"/>
                    </a:lnTo>
                    <a:lnTo>
                      <a:pt x="221" y="468"/>
                    </a:lnTo>
                    <a:lnTo>
                      <a:pt x="228" y="471"/>
                    </a:lnTo>
                    <a:lnTo>
                      <a:pt x="232" y="464"/>
                    </a:lnTo>
                    <a:lnTo>
                      <a:pt x="232" y="464"/>
                    </a:lnTo>
                    <a:lnTo>
                      <a:pt x="232" y="460"/>
                    </a:lnTo>
                    <a:lnTo>
                      <a:pt x="232" y="446"/>
                    </a:lnTo>
                    <a:lnTo>
                      <a:pt x="236" y="428"/>
                    </a:lnTo>
                    <a:lnTo>
                      <a:pt x="236" y="428"/>
                    </a:lnTo>
                    <a:lnTo>
                      <a:pt x="236" y="428"/>
                    </a:lnTo>
                    <a:lnTo>
                      <a:pt x="232" y="413"/>
                    </a:lnTo>
                    <a:lnTo>
                      <a:pt x="225" y="413"/>
                    </a:lnTo>
                    <a:lnTo>
                      <a:pt x="232" y="413"/>
                    </a:lnTo>
                    <a:lnTo>
                      <a:pt x="232" y="391"/>
                    </a:lnTo>
                    <a:lnTo>
                      <a:pt x="232" y="370"/>
                    </a:lnTo>
                    <a:lnTo>
                      <a:pt x="228" y="352"/>
                    </a:lnTo>
                    <a:lnTo>
                      <a:pt x="225" y="308"/>
                    </a:lnTo>
                    <a:lnTo>
                      <a:pt x="221" y="272"/>
                    </a:lnTo>
                    <a:lnTo>
                      <a:pt x="221" y="254"/>
                    </a:lnTo>
                    <a:lnTo>
                      <a:pt x="221" y="243"/>
                    </a:lnTo>
                    <a:lnTo>
                      <a:pt x="221" y="228"/>
                    </a:lnTo>
                    <a:lnTo>
                      <a:pt x="221" y="225"/>
                    </a:lnTo>
                    <a:lnTo>
                      <a:pt x="214" y="225"/>
                    </a:lnTo>
                    <a:lnTo>
                      <a:pt x="218" y="232"/>
                    </a:lnTo>
                    <a:lnTo>
                      <a:pt x="243" y="225"/>
                    </a:lnTo>
                    <a:lnTo>
                      <a:pt x="239" y="217"/>
                    </a:lnTo>
                    <a:lnTo>
                      <a:pt x="239" y="225"/>
                    </a:lnTo>
                    <a:lnTo>
                      <a:pt x="265" y="221"/>
                    </a:lnTo>
                    <a:lnTo>
                      <a:pt x="290" y="217"/>
                    </a:lnTo>
                    <a:lnTo>
                      <a:pt x="315" y="214"/>
                    </a:lnTo>
                    <a:lnTo>
                      <a:pt x="341" y="214"/>
                    </a:lnTo>
                    <a:lnTo>
                      <a:pt x="363" y="214"/>
                    </a:lnTo>
                    <a:lnTo>
                      <a:pt x="373" y="214"/>
                    </a:lnTo>
                    <a:lnTo>
                      <a:pt x="373" y="206"/>
                    </a:lnTo>
                    <a:lnTo>
                      <a:pt x="373" y="214"/>
                    </a:lnTo>
                    <a:lnTo>
                      <a:pt x="384" y="217"/>
                    </a:lnTo>
                    <a:lnTo>
                      <a:pt x="392" y="221"/>
                    </a:lnTo>
                    <a:lnTo>
                      <a:pt x="392" y="221"/>
                    </a:lnTo>
                    <a:lnTo>
                      <a:pt x="392" y="221"/>
                    </a:lnTo>
                    <a:lnTo>
                      <a:pt x="402" y="221"/>
                    </a:lnTo>
                    <a:lnTo>
                      <a:pt x="402" y="214"/>
                    </a:lnTo>
                    <a:lnTo>
                      <a:pt x="402" y="221"/>
                    </a:lnTo>
                    <a:lnTo>
                      <a:pt x="417" y="228"/>
                    </a:lnTo>
                    <a:lnTo>
                      <a:pt x="413" y="225"/>
                    </a:lnTo>
                    <a:lnTo>
                      <a:pt x="417" y="228"/>
                    </a:lnTo>
                    <a:lnTo>
                      <a:pt x="431" y="232"/>
                    </a:lnTo>
                    <a:lnTo>
                      <a:pt x="442" y="232"/>
                    </a:lnTo>
                    <a:lnTo>
                      <a:pt x="453" y="232"/>
                    </a:lnTo>
                    <a:lnTo>
                      <a:pt x="460" y="232"/>
                    </a:lnTo>
                    <a:lnTo>
                      <a:pt x="464" y="232"/>
                    </a:lnTo>
                    <a:lnTo>
                      <a:pt x="464" y="232"/>
                    </a:lnTo>
                    <a:lnTo>
                      <a:pt x="475" y="228"/>
                    </a:lnTo>
                    <a:lnTo>
                      <a:pt x="475" y="228"/>
                    </a:lnTo>
                    <a:lnTo>
                      <a:pt x="475" y="225"/>
                    </a:lnTo>
                    <a:lnTo>
                      <a:pt x="482" y="217"/>
                    </a:lnTo>
                    <a:lnTo>
                      <a:pt x="486" y="214"/>
                    </a:lnTo>
                    <a:lnTo>
                      <a:pt x="489" y="214"/>
                    </a:lnTo>
                    <a:lnTo>
                      <a:pt x="489" y="214"/>
                    </a:lnTo>
                    <a:lnTo>
                      <a:pt x="493" y="206"/>
                    </a:lnTo>
                    <a:lnTo>
                      <a:pt x="497" y="199"/>
                    </a:lnTo>
                    <a:lnTo>
                      <a:pt x="497" y="199"/>
                    </a:lnTo>
                    <a:lnTo>
                      <a:pt x="497" y="196"/>
                    </a:lnTo>
                    <a:lnTo>
                      <a:pt x="497" y="188"/>
                    </a:lnTo>
                    <a:lnTo>
                      <a:pt x="497" y="181"/>
                    </a:lnTo>
                    <a:lnTo>
                      <a:pt x="497" y="181"/>
                    </a:lnTo>
                    <a:lnTo>
                      <a:pt x="497" y="181"/>
                    </a:lnTo>
                    <a:lnTo>
                      <a:pt x="493" y="174"/>
                    </a:lnTo>
                    <a:lnTo>
                      <a:pt x="486" y="174"/>
                    </a:lnTo>
                    <a:lnTo>
                      <a:pt x="493" y="174"/>
                    </a:lnTo>
                    <a:lnTo>
                      <a:pt x="493" y="167"/>
                    </a:lnTo>
                    <a:lnTo>
                      <a:pt x="493" y="167"/>
                    </a:lnTo>
                    <a:lnTo>
                      <a:pt x="489" y="163"/>
                    </a:lnTo>
                    <a:lnTo>
                      <a:pt x="482" y="156"/>
                    </a:lnTo>
                    <a:lnTo>
                      <a:pt x="479" y="159"/>
                    </a:lnTo>
                    <a:lnTo>
                      <a:pt x="486" y="159"/>
                    </a:lnTo>
                    <a:lnTo>
                      <a:pt x="482" y="152"/>
                    </a:lnTo>
                    <a:lnTo>
                      <a:pt x="479" y="148"/>
                    </a:lnTo>
                    <a:lnTo>
                      <a:pt x="479" y="148"/>
                    </a:lnTo>
                    <a:lnTo>
                      <a:pt x="468" y="141"/>
                    </a:lnTo>
                    <a:lnTo>
                      <a:pt x="464" y="145"/>
                    </a:lnTo>
                    <a:lnTo>
                      <a:pt x="471" y="145"/>
                    </a:lnTo>
                    <a:lnTo>
                      <a:pt x="468" y="134"/>
                    </a:lnTo>
                    <a:lnTo>
                      <a:pt x="460" y="123"/>
                    </a:lnTo>
                    <a:lnTo>
                      <a:pt x="457" y="109"/>
                    </a:lnTo>
                    <a:lnTo>
                      <a:pt x="453" y="98"/>
                    </a:lnTo>
                    <a:lnTo>
                      <a:pt x="446" y="98"/>
                    </a:lnTo>
                    <a:lnTo>
                      <a:pt x="453" y="98"/>
                    </a:lnTo>
                    <a:lnTo>
                      <a:pt x="453" y="83"/>
                    </a:lnTo>
                    <a:lnTo>
                      <a:pt x="453" y="72"/>
                    </a:lnTo>
                    <a:lnTo>
                      <a:pt x="453" y="61"/>
                    </a:lnTo>
                    <a:lnTo>
                      <a:pt x="446" y="61"/>
                    </a:lnTo>
                    <a:lnTo>
                      <a:pt x="453" y="65"/>
                    </a:lnTo>
                    <a:lnTo>
                      <a:pt x="457" y="54"/>
                    </a:lnTo>
                    <a:lnTo>
                      <a:pt x="460" y="43"/>
                    </a:lnTo>
                    <a:lnTo>
                      <a:pt x="464" y="36"/>
                    </a:lnTo>
                    <a:lnTo>
                      <a:pt x="457" y="32"/>
                    </a:lnTo>
                    <a:lnTo>
                      <a:pt x="460" y="36"/>
                    </a:lnTo>
                    <a:lnTo>
                      <a:pt x="464" y="32"/>
                    </a:lnTo>
                    <a:lnTo>
                      <a:pt x="468" y="29"/>
                    </a:lnTo>
                    <a:lnTo>
                      <a:pt x="471" y="25"/>
                    </a:lnTo>
                    <a:lnTo>
                      <a:pt x="468" y="21"/>
                    </a:lnTo>
                    <a:lnTo>
                      <a:pt x="471" y="29"/>
                    </a:lnTo>
                    <a:lnTo>
                      <a:pt x="479" y="25"/>
                    </a:lnTo>
                    <a:lnTo>
                      <a:pt x="479" y="25"/>
                    </a:lnTo>
                    <a:lnTo>
                      <a:pt x="479" y="21"/>
                    </a:lnTo>
                    <a:lnTo>
                      <a:pt x="482" y="18"/>
                    </a:lnTo>
                    <a:lnTo>
                      <a:pt x="479" y="14"/>
                    </a:lnTo>
                    <a:lnTo>
                      <a:pt x="482" y="21"/>
                    </a:lnTo>
                    <a:lnTo>
                      <a:pt x="489" y="18"/>
                    </a:lnTo>
                    <a:lnTo>
                      <a:pt x="489" y="18"/>
                    </a:lnTo>
                    <a:lnTo>
                      <a:pt x="489" y="14"/>
                    </a:lnTo>
                    <a:lnTo>
                      <a:pt x="493" y="11"/>
                    </a:lnTo>
                    <a:lnTo>
                      <a:pt x="489" y="7"/>
                    </a:lnTo>
                    <a:lnTo>
                      <a:pt x="489" y="14"/>
                    </a:lnTo>
                    <a:lnTo>
                      <a:pt x="497" y="14"/>
                    </a:lnTo>
                    <a:lnTo>
                      <a:pt x="504" y="14"/>
                    </a:lnTo>
                    <a:lnTo>
                      <a:pt x="508" y="14"/>
                    </a:lnTo>
                    <a:lnTo>
                      <a:pt x="508" y="14"/>
                    </a:lnTo>
                    <a:lnTo>
                      <a:pt x="518" y="11"/>
                    </a:lnTo>
                    <a:lnTo>
                      <a:pt x="515" y="3"/>
                    </a:lnTo>
                    <a:lnTo>
                      <a:pt x="515" y="11"/>
                    </a:lnTo>
                    <a:lnTo>
                      <a:pt x="522" y="11"/>
                    </a:lnTo>
                    <a:lnTo>
                      <a:pt x="533" y="11"/>
                    </a:lnTo>
                    <a:lnTo>
                      <a:pt x="540" y="11"/>
                    </a:lnTo>
                    <a:lnTo>
                      <a:pt x="540" y="3"/>
                    </a:lnTo>
                    <a:lnTo>
                      <a:pt x="540" y="11"/>
                    </a:lnTo>
                    <a:lnTo>
                      <a:pt x="548" y="14"/>
                    </a:lnTo>
                    <a:lnTo>
                      <a:pt x="548" y="14"/>
                    </a:lnTo>
                    <a:lnTo>
                      <a:pt x="548" y="14"/>
                    </a:lnTo>
                    <a:lnTo>
                      <a:pt x="558" y="14"/>
                    </a:lnTo>
                    <a:lnTo>
                      <a:pt x="558" y="7"/>
                    </a:lnTo>
                    <a:lnTo>
                      <a:pt x="558" y="14"/>
                    </a:lnTo>
                    <a:lnTo>
                      <a:pt x="566" y="18"/>
                    </a:lnTo>
                    <a:lnTo>
                      <a:pt x="566" y="18"/>
                    </a:lnTo>
                    <a:lnTo>
                      <a:pt x="566" y="18"/>
                    </a:lnTo>
                    <a:lnTo>
                      <a:pt x="573" y="18"/>
                    </a:lnTo>
                    <a:lnTo>
                      <a:pt x="573" y="11"/>
                    </a:lnTo>
                    <a:lnTo>
                      <a:pt x="573" y="18"/>
                    </a:lnTo>
                    <a:lnTo>
                      <a:pt x="580" y="21"/>
                    </a:lnTo>
                    <a:lnTo>
                      <a:pt x="580" y="14"/>
                    </a:lnTo>
                    <a:lnTo>
                      <a:pt x="577" y="18"/>
                    </a:lnTo>
                    <a:lnTo>
                      <a:pt x="580" y="21"/>
                    </a:lnTo>
                    <a:lnTo>
                      <a:pt x="584" y="25"/>
                    </a:lnTo>
                    <a:lnTo>
                      <a:pt x="584" y="25"/>
                    </a:lnTo>
                    <a:lnTo>
                      <a:pt x="591" y="29"/>
                    </a:lnTo>
                    <a:lnTo>
                      <a:pt x="591" y="21"/>
                    </a:lnTo>
                    <a:lnTo>
                      <a:pt x="587" y="25"/>
                    </a:lnTo>
                    <a:lnTo>
                      <a:pt x="591" y="29"/>
                    </a:lnTo>
                    <a:lnTo>
                      <a:pt x="595" y="32"/>
                    </a:lnTo>
                    <a:lnTo>
                      <a:pt x="595" y="32"/>
                    </a:lnTo>
                    <a:lnTo>
                      <a:pt x="602" y="36"/>
                    </a:lnTo>
                    <a:lnTo>
                      <a:pt x="602" y="29"/>
                    </a:lnTo>
                    <a:lnTo>
                      <a:pt x="598" y="32"/>
                    </a:lnTo>
                    <a:lnTo>
                      <a:pt x="602" y="36"/>
                    </a:lnTo>
                    <a:lnTo>
                      <a:pt x="606" y="32"/>
                    </a:lnTo>
                    <a:lnTo>
                      <a:pt x="602" y="36"/>
                    </a:lnTo>
                    <a:lnTo>
                      <a:pt x="609" y="47"/>
                    </a:lnTo>
                    <a:lnTo>
                      <a:pt x="613" y="58"/>
                    </a:lnTo>
                    <a:lnTo>
                      <a:pt x="616" y="69"/>
                    </a:lnTo>
                    <a:lnTo>
                      <a:pt x="620" y="65"/>
                    </a:lnTo>
                    <a:lnTo>
                      <a:pt x="616" y="65"/>
                    </a:lnTo>
                    <a:lnTo>
                      <a:pt x="616" y="76"/>
                    </a:lnTo>
                    <a:lnTo>
                      <a:pt x="616" y="87"/>
                    </a:lnTo>
                    <a:lnTo>
                      <a:pt x="616" y="98"/>
                    </a:lnTo>
                    <a:lnTo>
                      <a:pt x="620" y="98"/>
                    </a:lnTo>
                    <a:lnTo>
                      <a:pt x="616" y="98"/>
                    </a:lnTo>
                    <a:lnTo>
                      <a:pt x="613" y="109"/>
                    </a:lnTo>
                    <a:lnTo>
                      <a:pt x="609" y="119"/>
                    </a:lnTo>
                    <a:lnTo>
                      <a:pt x="602" y="130"/>
                    </a:lnTo>
                    <a:lnTo>
                      <a:pt x="606" y="130"/>
                    </a:lnTo>
                    <a:lnTo>
                      <a:pt x="602" y="127"/>
                    </a:lnTo>
                    <a:lnTo>
                      <a:pt x="595" y="134"/>
                    </a:lnTo>
                    <a:lnTo>
                      <a:pt x="580" y="148"/>
                    </a:lnTo>
                    <a:lnTo>
                      <a:pt x="580" y="152"/>
                    </a:lnTo>
                    <a:lnTo>
                      <a:pt x="580" y="152"/>
                    </a:lnTo>
                    <a:lnTo>
                      <a:pt x="573" y="167"/>
                    </a:lnTo>
                    <a:lnTo>
                      <a:pt x="569" y="174"/>
                    </a:lnTo>
                    <a:lnTo>
                      <a:pt x="573" y="174"/>
                    </a:lnTo>
                    <a:lnTo>
                      <a:pt x="569" y="170"/>
                    </a:lnTo>
                    <a:lnTo>
                      <a:pt x="566" y="174"/>
                    </a:lnTo>
                    <a:lnTo>
                      <a:pt x="566" y="177"/>
                    </a:lnTo>
                    <a:lnTo>
                      <a:pt x="566" y="177"/>
                    </a:lnTo>
                    <a:lnTo>
                      <a:pt x="566" y="185"/>
                    </a:lnTo>
                    <a:lnTo>
                      <a:pt x="566" y="188"/>
                    </a:lnTo>
                    <a:lnTo>
                      <a:pt x="566" y="192"/>
                    </a:lnTo>
                    <a:lnTo>
                      <a:pt x="566" y="199"/>
                    </a:lnTo>
                    <a:lnTo>
                      <a:pt x="566" y="203"/>
                    </a:lnTo>
                    <a:lnTo>
                      <a:pt x="566" y="203"/>
                    </a:lnTo>
                    <a:lnTo>
                      <a:pt x="569" y="206"/>
                    </a:lnTo>
                    <a:lnTo>
                      <a:pt x="573" y="210"/>
                    </a:lnTo>
                    <a:lnTo>
                      <a:pt x="577" y="214"/>
                    </a:lnTo>
                    <a:lnTo>
                      <a:pt x="577" y="214"/>
                    </a:lnTo>
                    <a:lnTo>
                      <a:pt x="584" y="217"/>
                    </a:lnTo>
                    <a:lnTo>
                      <a:pt x="591" y="221"/>
                    </a:lnTo>
                    <a:lnTo>
                      <a:pt x="591" y="214"/>
                    </a:lnTo>
                    <a:lnTo>
                      <a:pt x="587" y="217"/>
                    </a:lnTo>
                    <a:lnTo>
                      <a:pt x="595" y="225"/>
                    </a:lnTo>
                    <a:lnTo>
                      <a:pt x="598" y="228"/>
                    </a:lnTo>
                    <a:lnTo>
                      <a:pt x="598" y="228"/>
                    </a:lnTo>
                    <a:lnTo>
                      <a:pt x="606" y="232"/>
                    </a:lnTo>
                    <a:lnTo>
                      <a:pt x="616" y="235"/>
                    </a:lnTo>
                    <a:lnTo>
                      <a:pt x="609" y="232"/>
                    </a:lnTo>
                    <a:lnTo>
                      <a:pt x="616" y="235"/>
                    </a:lnTo>
                    <a:lnTo>
                      <a:pt x="631" y="239"/>
                    </a:lnTo>
                    <a:lnTo>
                      <a:pt x="645" y="243"/>
                    </a:lnTo>
                    <a:lnTo>
                      <a:pt x="660" y="246"/>
                    </a:lnTo>
                    <a:lnTo>
                      <a:pt x="674" y="250"/>
                    </a:lnTo>
                    <a:lnTo>
                      <a:pt x="693" y="254"/>
                    </a:lnTo>
                    <a:lnTo>
                      <a:pt x="711" y="254"/>
                    </a:lnTo>
                    <a:lnTo>
                      <a:pt x="725" y="254"/>
                    </a:lnTo>
                    <a:lnTo>
                      <a:pt x="743" y="254"/>
                    </a:lnTo>
                    <a:lnTo>
                      <a:pt x="761" y="254"/>
                    </a:lnTo>
                    <a:lnTo>
                      <a:pt x="776" y="254"/>
                    </a:lnTo>
                    <a:lnTo>
                      <a:pt x="790" y="250"/>
                    </a:lnTo>
                    <a:lnTo>
                      <a:pt x="805" y="246"/>
                    </a:lnTo>
                    <a:lnTo>
                      <a:pt x="819" y="243"/>
                    </a:lnTo>
                    <a:lnTo>
                      <a:pt x="823" y="239"/>
                    </a:lnTo>
                    <a:lnTo>
                      <a:pt x="823" y="243"/>
                    </a:lnTo>
                    <a:lnTo>
                      <a:pt x="834" y="235"/>
                    </a:lnTo>
                    <a:lnTo>
                      <a:pt x="845" y="232"/>
                    </a:lnTo>
                    <a:lnTo>
                      <a:pt x="841" y="225"/>
                    </a:lnTo>
                    <a:lnTo>
                      <a:pt x="838" y="225"/>
                    </a:lnTo>
                    <a:lnTo>
                      <a:pt x="838" y="254"/>
                    </a:lnTo>
                    <a:lnTo>
                      <a:pt x="838" y="290"/>
                    </a:lnTo>
                    <a:lnTo>
                      <a:pt x="838" y="333"/>
                    </a:lnTo>
                    <a:lnTo>
                      <a:pt x="838" y="373"/>
                    </a:lnTo>
                    <a:lnTo>
                      <a:pt x="838" y="413"/>
                    </a:lnTo>
                    <a:lnTo>
                      <a:pt x="838" y="453"/>
                    </a:lnTo>
                    <a:lnTo>
                      <a:pt x="838" y="478"/>
                    </a:lnTo>
                    <a:lnTo>
                      <a:pt x="838" y="497"/>
                    </a:lnTo>
                    <a:lnTo>
                      <a:pt x="838" y="504"/>
                    </a:lnTo>
                    <a:lnTo>
                      <a:pt x="838" y="508"/>
                    </a:lnTo>
                    <a:lnTo>
                      <a:pt x="838" y="508"/>
                    </a:lnTo>
                    <a:lnTo>
                      <a:pt x="841" y="511"/>
                    </a:lnTo>
                    <a:lnTo>
                      <a:pt x="845" y="508"/>
                    </a:lnTo>
                    <a:lnTo>
                      <a:pt x="841" y="511"/>
                    </a:lnTo>
                    <a:lnTo>
                      <a:pt x="845" y="518"/>
                    </a:lnTo>
                    <a:lnTo>
                      <a:pt x="845" y="518"/>
                    </a:lnTo>
                    <a:lnTo>
                      <a:pt x="845" y="518"/>
                    </a:lnTo>
                    <a:lnTo>
                      <a:pt x="848" y="522"/>
                    </a:lnTo>
                    <a:lnTo>
                      <a:pt x="852" y="526"/>
                    </a:lnTo>
                    <a:lnTo>
                      <a:pt x="852" y="526"/>
                    </a:lnTo>
                    <a:lnTo>
                      <a:pt x="859" y="529"/>
                    </a:lnTo>
                    <a:lnTo>
                      <a:pt x="859" y="522"/>
                    </a:lnTo>
                    <a:lnTo>
                      <a:pt x="856" y="526"/>
                    </a:lnTo>
                    <a:lnTo>
                      <a:pt x="863" y="533"/>
                    </a:lnTo>
                    <a:lnTo>
                      <a:pt x="867" y="537"/>
                    </a:lnTo>
                    <a:lnTo>
                      <a:pt x="867" y="537"/>
                    </a:lnTo>
                    <a:lnTo>
                      <a:pt x="874" y="540"/>
                    </a:lnTo>
                    <a:lnTo>
                      <a:pt x="874" y="540"/>
                    </a:lnTo>
                    <a:lnTo>
                      <a:pt x="874" y="540"/>
                    </a:lnTo>
                    <a:lnTo>
                      <a:pt x="881" y="540"/>
                    </a:lnTo>
                    <a:lnTo>
                      <a:pt x="881" y="533"/>
                    </a:lnTo>
                    <a:lnTo>
                      <a:pt x="881" y="540"/>
                    </a:lnTo>
                    <a:lnTo>
                      <a:pt x="888" y="544"/>
                    </a:lnTo>
                    <a:lnTo>
                      <a:pt x="888" y="544"/>
                    </a:lnTo>
                    <a:lnTo>
                      <a:pt x="888" y="544"/>
                    </a:lnTo>
                    <a:lnTo>
                      <a:pt x="896" y="544"/>
                    </a:lnTo>
                    <a:lnTo>
                      <a:pt x="906" y="544"/>
                    </a:lnTo>
                    <a:lnTo>
                      <a:pt x="914" y="544"/>
                    </a:lnTo>
                    <a:lnTo>
                      <a:pt x="917" y="544"/>
                    </a:lnTo>
                    <a:lnTo>
                      <a:pt x="917" y="544"/>
                    </a:lnTo>
                    <a:lnTo>
                      <a:pt x="925" y="540"/>
                    </a:lnTo>
                    <a:lnTo>
                      <a:pt x="932" y="537"/>
                    </a:lnTo>
                    <a:lnTo>
                      <a:pt x="932" y="537"/>
                    </a:lnTo>
                    <a:lnTo>
                      <a:pt x="932" y="533"/>
                    </a:lnTo>
                    <a:lnTo>
                      <a:pt x="939" y="526"/>
                    </a:lnTo>
                    <a:lnTo>
                      <a:pt x="946" y="518"/>
                    </a:lnTo>
                    <a:lnTo>
                      <a:pt x="950" y="518"/>
                    </a:lnTo>
                    <a:lnTo>
                      <a:pt x="950" y="518"/>
                    </a:lnTo>
                    <a:lnTo>
                      <a:pt x="954" y="511"/>
                    </a:lnTo>
                    <a:lnTo>
                      <a:pt x="946" y="508"/>
                    </a:lnTo>
                    <a:lnTo>
                      <a:pt x="950" y="511"/>
                    </a:lnTo>
                    <a:lnTo>
                      <a:pt x="954" y="508"/>
                    </a:lnTo>
                    <a:lnTo>
                      <a:pt x="957" y="504"/>
                    </a:lnTo>
                    <a:lnTo>
                      <a:pt x="954" y="500"/>
                    </a:lnTo>
                    <a:lnTo>
                      <a:pt x="954" y="508"/>
                    </a:lnTo>
                    <a:lnTo>
                      <a:pt x="957" y="508"/>
                    </a:lnTo>
                    <a:lnTo>
                      <a:pt x="961" y="508"/>
                    </a:lnTo>
                    <a:lnTo>
                      <a:pt x="961" y="508"/>
                    </a:lnTo>
                    <a:lnTo>
                      <a:pt x="972" y="504"/>
                    </a:lnTo>
                    <a:lnTo>
                      <a:pt x="983" y="500"/>
                    </a:lnTo>
                    <a:lnTo>
                      <a:pt x="979" y="493"/>
                    </a:lnTo>
                    <a:lnTo>
                      <a:pt x="979" y="500"/>
                    </a:lnTo>
                    <a:lnTo>
                      <a:pt x="990" y="500"/>
                    </a:lnTo>
                    <a:lnTo>
                      <a:pt x="1004" y="500"/>
                    </a:lnTo>
                    <a:lnTo>
                      <a:pt x="1004" y="493"/>
                    </a:lnTo>
                    <a:lnTo>
                      <a:pt x="1004" y="500"/>
                    </a:lnTo>
                    <a:lnTo>
                      <a:pt x="1015" y="504"/>
                    </a:lnTo>
                    <a:lnTo>
                      <a:pt x="1026" y="508"/>
                    </a:lnTo>
                    <a:lnTo>
                      <a:pt x="1037" y="515"/>
                    </a:lnTo>
                    <a:lnTo>
                      <a:pt x="1048" y="522"/>
                    </a:lnTo>
                    <a:lnTo>
                      <a:pt x="1059" y="529"/>
                    </a:lnTo>
                    <a:lnTo>
                      <a:pt x="1059" y="522"/>
                    </a:lnTo>
                    <a:lnTo>
                      <a:pt x="1055" y="526"/>
                    </a:lnTo>
                    <a:lnTo>
                      <a:pt x="1062" y="537"/>
                    </a:lnTo>
                    <a:lnTo>
                      <a:pt x="1062" y="537"/>
                    </a:lnTo>
                    <a:lnTo>
                      <a:pt x="1062" y="537"/>
                    </a:lnTo>
                    <a:lnTo>
                      <a:pt x="1066" y="540"/>
                    </a:lnTo>
                    <a:lnTo>
                      <a:pt x="1070" y="537"/>
                    </a:lnTo>
                    <a:lnTo>
                      <a:pt x="1066" y="537"/>
                    </a:lnTo>
                    <a:lnTo>
                      <a:pt x="1066" y="544"/>
                    </a:lnTo>
                    <a:lnTo>
                      <a:pt x="1066" y="547"/>
                    </a:lnTo>
                    <a:lnTo>
                      <a:pt x="1066" y="547"/>
                    </a:lnTo>
                    <a:lnTo>
                      <a:pt x="1070" y="555"/>
                    </a:lnTo>
                    <a:lnTo>
                      <a:pt x="1070" y="555"/>
                    </a:lnTo>
                    <a:lnTo>
                      <a:pt x="1070" y="555"/>
                    </a:lnTo>
                    <a:lnTo>
                      <a:pt x="1073" y="558"/>
                    </a:lnTo>
                    <a:lnTo>
                      <a:pt x="1077" y="555"/>
                    </a:lnTo>
                    <a:lnTo>
                      <a:pt x="1073" y="555"/>
                    </a:lnTo>
                    <a:lnTo>
                      <a:pt x="1073" y="562"/>
                    </a:lnTo>
                    <a:lnTo>
                      <a:pt x="1073" y="569"/>
                    </a:lnTo>
                    <a:lnTo>
                      <a:pt x="1073" y="576"/>
                    </a:lnTo>
                    <a:lnTo>
                      <a:pt x="1073" y="584"/>
                    </a:lnTo>
                    <a:lnTo>
                      <a:pt x="1077" y="584"/>
                    </a:lnTo>
                    <a:lnTo>
                      <a:pt x="1073" y="584"/>
                    </a:lnTo>
                    <a:lnTo>
                      <a:pt x="1070" y="598"/>
                    </a:lnTo>
                    <a:lnTo>
                      <a:pt x="1066" y="609"/>
                    </a:lnTo>
                    <a:lnTo>
                      <a:pt x="1059" y="620"/>
                    </a:lnTo>
                    <a:lnTo>
                      <a:pt x="1062" y="620"/>
                    </a:lnTo>
                    <a:lnTo>
                      <a:pt x="1059" y="616"/>
                    </a:lnTo>
                    <a:lnTo>
                      <a:pt x="1051" y="624"/>
                    </a:lnTo>
                    <a:lnTo>
                      <a:pt x="1044" y="631"/>
                    </a:lnTo>
                    <a:lnTo>
                      <a:pt x="1037" y="638"/>
                    </a:lnTo>
                    <a:lnTo>
                      <a:pt x="1041" y="642"/>
                    </a:lnTo>
                    <a:lnTo>
                      <a:pt x="1041" y="638"/>
                    </a:lnTo>
                    <a:lnTo>
                      <a:pt x="1030" y="642"/>
                    </a:lnTo>
                    <a:lnTo>
                      <a:pt x="1022" y="645"/>
                    </a:lnTo>
                    <a:lnTo>
                      <a:pt x="1022" y="649"/>
                    </a:lnTo>
                    <a:lnTo>
                      <a:pt x="1022" y="645"/>
                    </a:lnTo>
                    <a:lnTo>
                      <a:pt x="1012" y="645"/>
                    </a:lnTo>
                    <a:lnTo>
                      <a:pt x="1012" y="645"/>
                    </a:lnTo>
                    <a:lnTo>
                      <a:pt x="1012" y="645"/>
                    </a:lnTo>
                    <a:lnTo>
                      <a:pt x="1001" y="649"/>
                    </a:lnTo>
                    <a:lnTo>
                      <a:pt x="1001" y="653"/>
                    </a:lnTo>
                    <a:lnTo>
                      <a:pt x="1004" y="649"/>
                    </a:lnTo>
                    <a:lnTo>
                      <a:pt x="993" y="645"/>
                    </a:lnTo>
                    <a:lnTo>
                      <a:pt x="993" y="645"/>
                    </a:lnTo>
                    <a:lnTo>
                      <a:pt x="990" y="645"/>
                    </a:lnTo>
                    <a:lnTo>
                      <a:pt x="983" y="645"/>
                    </a:lnTo>
                    <a:lnTo>
                      <a:pt x="983" y="649"/>
                    </a:lnTo>
                    <a:lnTo>
                      <a:pt x="986" y="645"/>
                    </a:lnTo>
                    <a:lnTo>
                      <a:pt x="975" y="642"/>
                    </a:lnTo>
                    <a:lnTo>
                      <a:pt x="964" y="638"/>
                    </a:lnTo>
                    <a:lnTo>
                      <a:pt x="957" y="634"/>
                    </a:lnTo>
                    <a:lnTo>
                      <a:pt x="954" y="638"/>
                    </a:lnTo>
                    <a:lnTo>
                      <a:pt x="957" y="634"/>
                    </a:lnTo>
                    <a:lnTo>
                      <a:pt x="950" y="627"/>
                    </a:lnTo>
                    <a:lnTo>
                      <a:pt x="946" y="631"/>
                    </a:lnTo>
                    <a:lnTo>
                      <a:pt x="954" y="631"/>
                    </a:lnTo>
                    <a:lnTo>
                      <a:pt x="950" y="624"/>
                    </a:lnTo>
                    <a:lnTo>
                      <a:pt x="946" y="620"/>
                    </a:lnTo>
                    <a:lnTo>
                      <a:pt x="946" y="620"/>
                    </a:lnTo>
                    <a:lnTo>
                      <a:pt x="935" y="613"/>
                    </a:lnTo>
                    <a:lnTo>
                      <a:pt x="928" y="609"/>
                    </a:lnTo>
                    <a:lnTo>
                      <a:pt x="921" y="605"/>
                    </a:lnTo>
                    <a:lnTo>
                      <a:pt x="914" y="602"/>
                    </a:lnTo>
                    <a:lnTo>
                      <a:pt x="906" y="598"/>
                    </a:lnTo>
                    <a:lnTo>
                      <a:pt x="896" y="595"/>
                    </a:lnTo>
                    <a:lnTo>
                      <a:pt x="896" y="595"/>
                    </a:lnTo>
                    <a:lnTo>
                      <a:pt x="892" y="595"/>
                    </a:lnTo>
                    <a:lnTo>
                      <a:pt x="885" y="595"/>
                    </a:lnTo>
                    <a:lnTo>
                      <a:pt x="877" y="595"/>
                    </a:lnTo>
                    <a:lnTo>
                      <a:pt x="870" y="595"/>
                    </a:lnTo>
                    <a:lnTo>
                      <a:pt x="870" y="595"/>
                    </a:lnTo>
                    <a:lnTo>
                      <a:pt x="870" y="595"/>
                    </a:lnTo>
                    <a:lnTo>
                      <a:pt x="863" y="598"/>
                    </a:lnTo>
                    <a:lnTo>
                      <a:pt x="863" y="598"/>
                    </a:lnTo>
                    <a:lnTo>
                      <a:pt x="859" y="598"/>
                    </a:lnTo>
                    <a:lnTo>
                      <a:pt x="856" y="602"/>
                    </a:lnTo>
                    <a:lnTo>
                      <a:pt x="859" y="605"/>
                    </a:lnTo>
                    <a:lnTo>
                      <a:pt x="859" y="602"/>
                    </a:lnTo>
                    <a:lnTo>
                      <a:pt x="852" y="605"/>
                    </a:lnTo>
                    <a:lnTo>
                      <a:pt x="848" y="605"/>
                    </a:lnTo>
                    <a:lnTo>
                      <a:pt x="848" y="609"/>
                    </a:lnTo>
                    <a:lnTo>
                      <a:pt x="845" y="616"/>
                    </a:lnTo>
                    <a:lnTo>
                      <a:pt x="841" y="624"/>
                    </a:lnTo>
                    <a:lnTo>
                      <a:pt x="838" y="634"/>
                    </a:lnTo>
                    <a:lnTo>
                      <a:pt x="838" y="634"/>
                    </a:lnTo>
                    <a:lnTo>
                      <a:pt x="838" y="634"/>
                    </a:lnTo>
                    <a:lnTo>
                      <a:pt x="838" y="656"/>
                    </a:lnTo>
                    <a:lnTo>
                      <a:pt x="834" y="682"/>
                    </a:lnTo>
                    <a:lnTo>
                      <a:pt x="830" y="707"/>
                    </a:lnTo>
                    <a:lnTo>
                      <a:pt x="830" y="736"/>
                    </a:lnTo>
                    <a:lnTo>
                      <a:pt x="830" y="761"/>
                    </a:lnTo>
                    <a:lnTo>
                      <a:pt x="830" y="787"/>
                    </a:lnTo>
                    <a:lnTo>
                      <a:pt x="830" y="798"/>
                    </a:lnTo>
                    <a:lnTo>
                      <a:pt x="830" y="801"/>
                    </a:lnTo>
                    <a:lnTo>
                      <a:pt x="830" y="801"/>
                    </a:lnTo>
                    <a:lnTo>
                      <a:pt x="834" y="812"/>
                    </a:lnTo>
                    <a:lnTo>
                      <a:pt x="838" y="823"/>
                    </a:lnTo>
                    <a:lnTo>
                      <a:pt x="841" y="819"/>
                    </a:lnTo>
                    <a:lnTo>
                      <a:pt x="838" y="819"/>
                    </a:lnTo>
                    <a:lnTo>
                      <a:pt x="838" y="827"/>
                    </a:lnTo>
                    <a:lnTo>
                      <a:pt x="841" y="827"/>
                    </a:lnTo>
                    <a:lnTo>
                      <a:pt x="841" y="823"/>
                    </a:lnTo>
                    <a:lnTo>
                      <a:pt x="823" y="827"/>
                    </a:lnTo>
                    <a:lnTo>
                      <a:pt x="809" y="830"/>
                    </a:lnTo>
                    <a:lnTo>
                      <a:pt x="787" y="830"/>
                    </a:lnTo>
                    <a:lnTo>
                      <a:pt x="769" y="830"/>
                    </a:lnTo>
                    <a:lnTo>
                      <a:pt x="751" y="830"/>
                    </a:lnTo>
                    <a:lnTo>
                      <a:pt x="732" y="830"/>
                    </a:lnTo>
                    <a:lnTo>
                      <a:pt x="714" y="827"/>
                    </a:lnTo>
                    <a:lnTo>
                      <a:pt x="696" y="827"/>
                    </a:lnTo>
                    <a:lnTo>
                      <a:pt x="667" y="823"/>
                    </a:lnTo>
                    <a:lnTo>
                      <a:pt x="642" y="819"/>
                    </a:lnTo>
                    <a:lnTo>
                      <a:pt x="627" y="816"/>
                    </a:lnTo>
                    <a:lnTo>
                      <a:pt x="627" y="819"/>
                    </a:lnTo>
                    <a:lnTo>
                      <a:pt x="631" y="816"/>
                    </a:lnTo>
                    <a:lnTo>
                      <a:pt x="624" y="812"/>
                    </a:lnTo>
                    <a:lnTo>
                      <a:pt x="624" y="812"/>
                    </a:lnTo>
                    <a:lnTo>
                      <a:pt x="620" y="812"/>
                    </a:lnTo>
                    <a:lnTo>
                      <a:pt x="606" y="809"/>
                    </a:lnTo>
                    <a:lnTo>
                      <a:pt x="606" y="812"/>
                    </a:lnTo>
                    <a:lnTo>
                      <a:pt x="609" y="809"/>
                    </a:lnTo>
                    <a:lnTo>
                      <a:pt x="598" y="801"/>
                    </a:lnTo>
                    <a:lnTo>
                      <a:pt x="587" y="794"/>
                    </a:lnTo>
                    <a:lnTo>
                      <a:pt x="584" y="798"/>
                    </a:lnTo>
                    <a:lnTo>
                      <a:pt x="591" y="798"/>
                    </a:lnTo>
                    <a:lnTo>
                      <a:pt x="584" y="787"/>
                    </a:lnTo>
                    <a:lnTo>
                      <a:pt x="584" y="787"/>
                    </a:lnTo>
                    <a:lnTo>
                      <a:pt x="580" y="783"/>
                    </a:lnTo>
                    <a:lnTo>
                      <a:pt x="573" y="776"/>
                    </a:lnTo>
                    <a:lnTo>
                      <a:pt x="569" y="780"/>
                    </a:lnTo>
                    <a:lnTo>
                      <a:pt x="577" y="780"/>
                    </a:lnTo>
                    <a:lnTo>
                      <a:pt x="573" y="769"/>
                    </a:lnTo>
                    <a:lnTo>
                      <a:pt x="569" y="758"/>
                    </a:lnTo>
                    <a:lnTo>
                      <a:pt x="566" y="751"/>
                    </a:lnTo>
                    <a:lnTo>
                      <a:pt x="558" y="751"/>
                    </a:lnTo>
                    <a:lnTo>
                      <a:pt x="566" y="751"/>
                    </a:lnTo>
                    <a:lnTo>
                      <a:pt x="566" y="740"/>
                    </a:lnTo>
                    <a:lnTo>
                      <a:pt x="558" y="740"/>
                    </a:lnTo>
                    <a:lnTo>
                      <a:pt x="566" y="743"/>
                    </a:lnTo>
                    <a:lnTo>
                      <a:pt x="569" y="732"/>
                    </a:lnTo>
                    <a:lnTo>
                      <a:pt x="569" y="732"/>
                    </a:lnTo>
                    <a:lnTo>
                      <a:pt x="569" y="729"/>
                    </a:lnTo>
                    <a:lnTo>
                      <a:pt x="569" y="722"/>
                    </a:lnTo>
                    <a:lnTo>
                      <a:pt x="562" y="722"/>
                    </a:lnTo>
                    <a:lnTo>
                      <a:pt x="569" y="725"/>
                    </a:lnTo>
                    <a:lnTo>
                      <a:pt x="573" y="718"/>
                    </a:lnTo>
                    <a:lnTo>
                      <a:pt x="577" y="707"/>
                    </a:lnTo>
                    <a:lnTo>
                      <a:pt x="580" y="700"/>
                    </a:lnTo>
                    <a:lnTo>
                      <a:pt x="573" y="696"/>
                    </a:lnTo>
                    <a:lnTo>
                      <a:pt x="577" y="700"/>
                    </a:lnTo>
                    <a:lnTo>
                      <a:pt x="584" y="692"/>
                    </a:lnTo>
                    <a:lnTo>
                      <a:pt x="580" y="689"/>
                    </a:lnTo>
                    <a:lnTo>
                      <a:pt x="584" y="696"/>
                    </a:lnTo>
                    <a:lnTo>
                      <a:pt x="591" y="692"/>
                    </a:lnTo>
                    <a:lnTo>
                      <a:pt x="591" y="692"/>
                    </a:lnTo>
                    <a:lnTo>
                      <a:pt x="591" y="689"/>
                    </a:lnTo>
                    <a:lnTo>
                      <a:pt x="598" y="682"/>
                    </a:lnTo>
                    <a:lnTo>
                      <a:pt x="606" y="674"/>
                    </a:lnTo>
                    <a:lnTo>
                      <a:pt x="609" y="674"/>
                    </a:lnTo>
                    <a:lnTo>
                      <a:pt x="609" y="674"/>
                    </a:lnTo>
                    <a:lnTo>
                      <a:pt x="613" y="663"/>
                    </a:lnTo>
                    <a:lnTo>
                      <a:pt x="616" y="653"/>
                    </a:lnTo>
                    <a:lnTo>
                      <a:pt x="620" y="642"/>
                    </a:lnTo>
                    <a:lnTo>
                      <a:pt x="620" y="642"/>
                    </a:lnTo>
                    <a:lnTo>
                      <a:pt x="620" y="638"/>
                    </a:lnTo>
                    <a:lnTo>
                      <a:pt x="620" y="624"/>
                    </a:lnTo>
                    <a:lnTo>
                      <a:pt x="620" y="613"/>
                    </a:lnTo>
                    <a:lnTo>
                      <a:pt x="620" y="598"/>
                    </a:lnTo>
                    <a:lnTo>
                      <a:pt x="620" y="598"/>
                    </a:lnTo>
                    <a:lnTo>
                      <a:pt x="620" y="598"/>
                    </a:lnTo>
                    <a:lnTo>
                      <a:pt x="616" y="587"/>
                    </a:lnTo>
                    <a:lnTo>
                      <a:pt x="613" y="576"/>
                    </a:lnTo>
                    <a:lnTo>
                      <a:pt x="609" y="569"/>
                    </a:lnTo>
                    <a:lnTo>
                      <a:pt x="609" y="569"/>
                    </a:lnTo>
                    <a:lnTo>
                      <a:pt x="606" y="566"/>
                    </a:lnTo>
                    <a:lnTo>
                      <a:pt x="602" y="562"/>
                    </a:lnTo>
                    <a:lnTo>
                      <a:pt x="598" y="566"/>
                    </a:lnTo>
                    <a:lnTo>
                      <a:pt x="606" y="566"/>
                    </a:lnTo>
                    <a:lnTo>
                      <a:pt x="602" y="558"/>
                    </a:lnTo>
                    <a:lnTo>
                      <a:pt x="598" y="555"/>
                    </a:lnTo>
                    <a:lnTo>
                      <a:pt x="598" y="555"/>
                    </a:lnTo>
                    <a:lnTo>
                      <a:pt x="591" y="551"/>
                    </a:lnTo>
                    <a:lnTo>
                      <a:pt x="584" y="547"/>
                    </a:lnTo>
                    <a:lnTo>
                      <a:pt x="580" y="551"/>
                    </a:lnTo>
                    <a:lnTo>
                      <a:pt x="584" y="547"/>
                    </a:lnTo>
                    <a:lnTo>
                      <a:pt x="580" y="544"/>
                    </a:lnTo>
                    <a:lnTo>
                      <a:pt x="580" y="544"/>
                    </a:lnTo>
                    <a:lnTo>
                      <a:pt x="580" y="544"/>
                    </a:lnTo>
                    <a:lnTo>
                      <a:pt x="573" y="540"/>
                    </a:lnTo>
                    <a:lnTo>
                      <a:pt x="573" y="540"/>
                    </a:lnTo>
                    <a:lnTo>
                      <a:pt x="569" y="540"/>
                    </a:lnTo>
                    <a:lnTo>
                      <a:pt x="562" y="540"/>
                    </a:lnTo>
                    <a:lnTo>
                      <a:pt x="562" y="544"/>
                    </a:lnTo>
                    <a:lnTo>
                      <a:pt x="566" y="540"/>
                    </a:lnTo>
                    <a:lnTo>
                      <a:pt x="555" y="537"/>
                    </a:lnTo>
                    <a:lnTo>
                      <a:pt x="548" y="533"/>
                    </a:lnTo>
                    <a:lnTo>
                      <a:pt x="548" y="533"/>
                    </a:lnTo>
                    <a:lnTo>
                      <a:pt x="544" y="533"/>
                    </a:lnTo>
                    <a:lnTo>
                      <a:pt x="533" y="533"/>
                    </a:lnTo>
                    <a:lnTo>
                      <a:pt x="522" y="533"/>
                    </a:lnTo>
                    <a:lnTo>
                      <a:pt x="515" y="533"/>
                    </a:lnTo>
                    <a:lnTo>
                      <a:pt x="504" y="533"/>
                    </a:lnTo>
                    <a:lnTo>
                      <a:pt x="504" y="533"/>
                    </a:lnTo>
                    <a:lnTo>
                      <a:pt x="504" y="533"/>
                    </a:lnTo>
                    <a:lnTo>
                      <a:pt x="493" y="537"/>
                    </a:lnTo>
                    <a:lnTo>
                      <a:pt x="493" y="540"/>
                    </a:lnTo>
                    <a:lnTo>
                      <a:pt x="493" y="537"/>
                    </a:lnTo>
                    <a:lnTo>
                      <a:pt x="486" y="537"/>
                    </a:lnTo>
                    <a:lnTo>
                      <a:pt x="486" y="537"/>
                    </a:lnTo>
                    <a:lnTo>
                      <a:pt x="486" y="537"/>
                    </a:lnTo>
                    <a:lnTo>
                      <a:pt x="479" y="540"/>
                    </a:lnTo>
                    <a:lnTo>
                      <a:pt x="471" y="544"/>
                    </a:lnTo>
                    <a:lnTo>
                      <a:pt x="464" y="547"/>
                    </a:lnTo>
                    <a:lnTo>
                      <a:pt x="464" y="547"/>
                    </a:lnTo>
                    <a:lnTo>
                      <a:pt x="460" y="547"/>
                    </a:lnTo>
                    <a:lnTo>
                      <a:pt x="457" y="551"/>
                    </a:lnTo>
                    <a:lnTo>
                      <a:pt x="460" y="555"/>
                    </a:lnTo>
                    <a:lnTo>
                      <a:pt x="460" y="551"/>
                    </a:lnTo>
                    <a:lnTo>
                      <a:pt x="453" y="551"/>
                    </a:lnTo>
                    <a:lnTo>
                      <a:pt x="453" y="551"/>
                    </a:lnTo>
                    <a:lnTo>
                      <a:pt x="450" y="551"/>
                    </a:lnTo>
                    <a:lnTo>
                      <a:pt x="446" y="555"/>
                    </a:lnTo>
                    <a:lnTo>
                      <a:pt x="446" y="558"/>
                    </a:lnTo>
                    <a:lnTo>
                      <a:pt x="446" y="558"/>
                    </a:lnTo>
                    <a:lnTo>
                      <a:pt x="442" y="566"/>
                    </a:lnTo>
                    <a:lnTo>
                      <a:pt x="446" y="566"/>
                    </a:lnTo>
                    <a:lnTo>
                      <a:pt x="446" y="562"/>
                    </a:lnTo>
                    <a:lnTo>
                      <a:pt x="439" y="566"/>
                    </a:lnTo>
                    <a:lnTo>
                      <a:pt x="435" y="566"/>
                    </a:lnTo>
                    <a:lnTo>
                      <a:pt x="435" y="569"/>
                    </a:lnTo>
                    <a:lnTo>
                      <a:pt x="428" y="580"/>
                    </a:lnTo>
                    <a:lnTo>
                      <a:pt x="424" y="591"/>
                    </a:lnTo>
                    <a:lnTo>
                      <a:pt x="421" y="602"/>
                    </a:lnTo>
                    <a:lnTo>
                      <a:pt x="421" y="602"/>
                    </a:lnTo>
                    <a:lnTo>
                      <a:pt x="421" y="602"/>
                    </a:lnTo>
                    <a:lnTo>
                      <a:pt x="421" y="613"/>
                    </a:lnTo>
                    <a:lnTo>
                      <a:pt x="421" y="624"/>
                    </a:lnTo>
                    <a:lnTo>
                      <a:pt x="421" y="638"/>
                    </a:lnTo>
                    <a:lnTo>
                      <a:pt x="421" y="642"/>
                    </a:lnTo>
                    <a:lnTo>
                      <a:pt x="421" y="642"/>
                    </a:lnTo>
                    <a:lnTo>
                      <a:pt x="424" y="653"/>
                    </a:lnTo>
                    <a:lnTo>
                      <a:pt x="428" y="663"/>
                    </a:lnTo>
                    <a:lnTo>
                      <a:pt x="428" y="663"/>
                    </a:lnTo>
                    <a:lnTo>
                      <a:pt x="428" y="663"/>
                    </a:lnTo>
                    <a:lnTo>
                      <a:pt x="435" y="671"/>
                    </a:lnTo>
                    <a:lnTo>
                      <a:pt x="439" y="667"/>
                    </a:lnTo>
                    <a:lnTo>
                      <a:pt x="435" y="671"/>
                    </a:lnTo>
                    <a:lnTo>
                      <a:pt x="442" y="682"/>
                    </a:lnTo>
                    <a:lnTo>
                      <a:pt x="442" y="682"/>
                    </a:lnTo>
                    <a:lnTo>
                      <a:pt x="446" y="685"/>
                    </a:lnTo>
                    <a:lnTo>
                      <a:pt x="457" y="692"/>
                    </a:lnTo>
                    <a:lnTo>
                      <a:pt x="457" y="685"/>
                    </a:lnTo>
                    <a:lnTo>
                      <a:pt x="453" y="689"/>
                    </a:lnTo>
                    <a:lnTo>
                      <a:pt x="457" y="700"/>
                    </a:lnTo>
                    <a:lnTo>
                      <a:pt x="457" y="700"/>
                    </a:lnTo>
                    <a:lnTo>
                      <a:pt x="457" y="700"/>
                    </a:lnTo>
                    <a:lnTo>
                      <a:pt x="464" y="707"/>
                    </a:lnTo>
                    <a:lnTo>
                      <a:pt x="468" y="703"/>
                    </a:lnTo>
                    <a:lnTo>
                      <a:pt x="464" y="707"/>
                    </a:lnTo>
                    <a:lnTo>
                      <a:pt x="468" y="718"/>
                    </a:lnTo>
                    <a:lnTo>
                      <a:pt x="471" y="714"/>
                    </a:lnTo>
                    <a:lnTo>
                      <a:pt x="468" y="714"/>
                    </a:lnTo>
                    <a:lnTo>
                      <a:pt x="468" y="725"/>
                    </a:lnTo>
                    <a:lnTo>
                      <a:pt x="468" y="736"/>
                    </a:lnTo>
                    <a:lnTo>
                      <a:pt x="468" y="743"/>
                    </a:lnTo>
                    <a:lnTo>
                      <a:pt x="471" y="743"/>
                    </a:lnTo>
                    <a:lnTo>
                      <a:pt x="468" y="743"/>
                    </a:lnTo>
                    <a:lnTo>
                      <a:pt x="464" y="754"/>
                    </a:lnTo>
                    <a:lnTo>
                      <a:pt x="460" y="765"/>
                    </a:lnTo>
                    <a:lnTo>
                      <a:pt x="453" y="776"/>
                    </a:lnTo>
                    <a:lnTo>
                      <a:pt x="457" y="776"/>
                    </a:lnTo>
                    <a:lnTo>
                      <a:pt x="453" y="772"/>
                    </a:lnTo>
                    <a:lnTo>
                      <a:pt x="446" y="780"/>
                    </a:lnTo>
                    <a:lnTo>
                      <a:pt x="439" y="787"/>
                    </a:lnTo>
                    <a:lnTo>
                      <a:pt x="442" y="790"/>
                    </a:lnTo>
                    <a:lnTo>
                      <a:pt x="442" y="787"/>
                    </a:lnTo>
                    <a:lnTo>
                      <a:pt x="428" y="794"/>
                    </a:lnTo>
                    <a:lnTo>
                      <a:pt x="428" y="794"/>
                    </a:lnTo>
                    <a:lnTo>
                      <a:pt x="424" y="794"/>
                    </a:lnTo>
                    <a:lnTo>
                      <a:pt x="413" y="805"/>
                    </a:lnTo>
                    <a:lnTo>
                      <a:pt x="417" y="809"/>
                    </a:lnTo>
                    <a:lnTo>
                      <a:pt x="417" y="805"/>
                    </a:lnTo>
                    <a:lnTo>
                      <a:pt x="402" y="809"/>
                    </a:lnTo>
                    <a:lnTo>
                      <a:pt x="384" y="812"/>
                    </a:lnTo>
                    <a:lnTo>
                      <a:pt x="373" y="812"/>
                    </a:lnTo>
                    <a:lnTo>
                      <a:pt x="355" y="812"/>
                    </a:lnTo>
                    <a:lnTo>
                      <a:pt x="334" y="812"/>
                    </a:lnTo>
                    <a:lnTo>
                      <a:pt x="312" y="812"/>
                    </a:lnTo>
                    <a:lnTo>
                      <a:pt x="290" y="812"/>
                    </a:lnTo>
                    <a:lnTo>
                      <a:pt x="265" y="812"/>
                    </a:lnTo>
                    <a:lnTo>
                      <a:pt x="239" y="812"/>
                    </a:lnTo>
                    <a:lnTo>
                      <a:pt x="214" y="812"/>
                    </a:lnTo>
                    <a:lnTo>
                      <a:pt x="214" y="816"/>
                    </a:lnTo>
                    <a:lnTo>
                      <a:pt x="221" y="819"/>
                    </a:lnTo>
                    <a:lnTo>
                      <a:pt x="225" y="809"/>
                    </a:lnTo>
                    <a:lnTo>
                      <a:pt x="228" y="794"/>
                    </a:lnTo>
                    <a:lnTo>
                      <a:pt x="232" y="780"/>
                    </a:lnTo>
                    <a:lnTo>
                      <a:pt x="236" y="765"/>
                    </a:lnTo>
                    <a:lnTo>
                      <a:pt x="236" y="765"/>
                    </a:lnTo>
                    <a:lnTo>
                      <a:pt x="236" y="761"/>
                    </a:lnTo>
                    <a:lnTo>
                      <a:pt x="236" y="747"/>
                    </a:lnTo>
                    <a:lnTo>
                      <a:pt x="228" y="747"/>
                    </a:lnTo>
                    <a:lnTo>
                      <a:pt x="236" y="751"/>
                    </a:lnTo>
                    <a:lnTo>
                      <a:pt x="239" y="736"/>
                    </a:lnTo>
                    <a:lnTo>
                      <a:pt x="239" y="736"/>
                    </a:lnTo>
                    <a:lnTo>
                      <a:pt x="239" y="732"/>
                    </a:lnTo>
                    <a:lnTo>
                      <a:pt x="239" y="718"/>
                    </a:lnTo>
                    <a:lnTo>
                      <a:pt x="239" y="703"/>
                    </a:lnTo>
                    <a:lnTo>
                      <a:pt x="239" y="689"/>
                    </a:lnTo>
                    <a:lnTo>
                      <a:pt x="239" y="674"/>
                    </a:lnTo>
                    <a:lnTo>
                      <a:pt x="239" y="674"/>
                    </a:lnTo>
                    <a:lnTo>
                      <a:pt x="239" y="674"/>
                    </a:lnTo>
                    <a:lnTo>
                      <a:pt x="236" y="660"/>
                    </a:lnTo>
                    <a:lnTo>
                      <a:pt x="228" y="660"/>
                    </a:lnTo>
                    <a:lnTo>
                      <a:pt x="236" y="660"/>
                    </a:lnTo>
                    <a:lnTo>
                      <a:pt x="236" y="645"/>
                    </a:lnTo>
                    <a:lnTo>
                      <a:pt x="236" y="645"/>
                    </a:lnTo>
                    <a:lnTo>
                      <a:pt x="236" y="645"/>
                    </a:lnTo>
                    <a:lnTo>
                      <a:pt x="232" y="634"/>
                    </a:lnTo>
                    <a:lnTo>
                      <a:pt x="228" y="624"/>
                    </a:lnTo>
                    <a:lnTo>
                      <a:pt x="225" y="613"/>
                    </a:lnTo>
                    <a:lnTo>
                      <a:pt x="221" y="605"/>
                    </a:lnTo>
                    <a:lnTo>
                      <a:pt x="218" y="595"/>
                    </a:lnTo>
                    <a:lnTo>
                      <a:pt x="218" y="595"/>
                    </a:lnTo>
                    <a:lnTo>
                      <a:pt x="214" y="591"/>
                    </a:lnTo>
                    <a:lnTo>
                      <a:pt x="210" y="587"/>
                    </a:lnTo>
                    <a:lnTo>
                      <a:pt x="207" y="591"/>
                    </a:lnTo>
                    <a:lnTo>
                      <a:pt x="214" y="591"/>
                    </a:lnTo>
                    <a:lnTo>
                      <a:pt x="210" y="584"/>
                    </a:lnTo>
                    <a:lnTo>
                      <a:pt x="210" y="584"/>
                    </a:lnTo>
                    <a:lnTo>
                      <a:pt x="207" y="580"/>
                    </a:lnTo>
                    <a:lnTo>
                      <a:pt x="203" y="576"/>
                    </a:lnTo>
                    <a:lnTo>
                      <a:pt x="203" y="576"/>
                    </a:lnTo>
                    <a:lnTo>
                      <a:pt x="203" y="576"/>
                    </a:lnTo>
                    <a:lnTo>
                      <a:pt x="196" y="573"/>
                    </a:lnTo>
                    <a:lnTo>
                      <a:pt x="196" y="573"/>
                    </a:lnTo>
                    <a:lnTo>
                      <a:pt x="192" y="573"/>
                    </a:lnTo>
                    <a:lnTo>
                      <a:pt x="189" y="573"/>
                    </a:lnTo>
                    <a:lnTo>
                      <a:pt x="189" y="576"/>
                    </a:lnTo>
                    <a:lnTo>
                      <a:pt x="192" y="573"/>
                    </a:lnTo>
                    <a:lnTo>
                      <a:pt x="189" y="569"/>
                    </a:lnTo>
                    <a:lnTo>
                      <a:pt x="189" y="569"/>
                    </a:lnTo>
                    <a:lnTo>
                      <a:pt x="185" y="569"/>
                    </a:lnTo>
                    <a:lnTo>
                      <a:pt x="178" y="569"/>
                    </a:lnTo>
                    <a:lnTo>
                      <a:pt x="167" y="569"/>
                    </a:lnTo>
                    <a:lnTo>
                      <a:pt x="152" y="573"/>
                    </a:lnTo>
                    <a:lnTo>
                      <a:pt x="145" y="573"/>
                    </a:lnTo>
                    <a:lnTo>
                      <a:pt x="152" y="573"/>
                    </a:lnTo>
                    <a:lnTo>
                      <a:pt x="141" y="576"/>
                    </a:lnTo>
                    <a:lnTo>
                      <a:pt x="123" y="584"/>
                    </a:lnTo>
                    <a:lnTo>
                      <a:pt x="112" y="587"/>
                    </a:lnTo>
                    <a:lnTo>
                      <a:pt x="112" y="591"/>
                    </a:lnTo>
                    <a:lnTo>
                      <a:pt x="112" y="587"/>
                    </a:lnTo>
                    <a:lnTo>
                      <a:pt x="105" y="587"/>
                    </a:lnTo>
                    <a:lnTo>
                      <a:pt x="105" y="587"/>
                    </a:lnTo>
                    <a:lnTo>
                      <a:pt x="105" y="587"/>
                    </a:lnTo>
                    <a:lnTo>
                      <a:pt x="98" y="591"/>
                    </a:lnTo>
                    <a:lnTo>
                      <a:pt x="98" y="595"/>
                    </a:lnTo>
                    <a:lnTo>
                      <a:pt x="98" y="591"/>
                    </a:lnTo>
                    <a:lnTo>
                      <a:pt x="87" y="591"/>
                    </a:lnTo>
                    <a:lnTo>
                      <a:pt x="80" y="591"/>
                    </a:lnTo>
                    <a:lnTo>
                      <a:pt x="73" y="591"/>
                    </a:lnTo>
                    <a:lnTo>
                      <a:pt x="65" y="591"/>
                    </a:lnTo>
                    <a:lnTo>
                      <a:pt x="65" y="595"/>
                    </a:lnTo>
                    <a:lnTo>
                      <a:pt x="69" y="591"/>
                    </a:lnTo>
                    <a:lnTo>
                      <a:pt x="62" y="587"/>
                    </a:lnTo>
                    <a:lnTo>
                      <a:pt x="62" y="587"/>
                    </a:lnTo>
                    <a:lnTo>
                      <a:pt x="58" y="587"/>
                    </a:lnTo>
                    <a:lnTo>
                      <a:pt x="51" y="587"/>
                    </a:lnTo>
                    <a:lnTo>
                      <a:pt x="51" y="591"/>
                    </a:lnTo>
                    <a:lnTo>
                      <a:pt x="54" y="587"/>
                    </a:lnTo>
                    <a:lnTo>
                      <a:pt x="47" y="584"/>
                    </a:lnTo>
                    <a:lnTo>
                      <a:pt x="44" y="587"/>
                    </a:lnTo>
                    <a:lnTo>
                      <a:pt x="47" y="584"/>
                    </a:lnTo>
                    <a:lnTo>
                      <a:pt x="44" y="580"/>
                    </a:lnTo>
                    <a:lnTo>
                      <a:pt x="44" y="580"/>
                    </a:lnTo>
                    <a:lnTo>
                      <a:pt x="40" y="580"/>
                    </a:lnTo>
                    <a:lnTo>
                      <a:pt x="36" y="580"/>
                    </a:lnTo>
                    <a:lnTo>
                      <a:pt x="36" y="584"/>
                    </a:lnTo>
                    <a:lnTo>
                      <a:pt x="40" y="580"/>
                    </a:lnTo>
                    <a:lnTo>
                      <a:pt x="29" y="573"/>
                    </a:lnTo>
                    <a:lnTo>
                      <a:pt x="25" y="576"/>
                    </a:lnTo>
                    <a:lnTo>
                      <a:pt x="33" y="576"/>
                    </a:lnTo>
                    <a:lnTo>
                      <a:pt x="25" y="566"/>
                    </a:lnTo>
                    <a:lnTo>
                      <a:pt x="22" y="558"/>
                    </a:lnTo>
                    <a:lnTo>
                      <a:pt x="15" y="547"/>
                    </a:lnTo>
                    <a:lnTo>
                      <a:pt x="11" y="537"/>
                    </a:lnTo>
                    <a:lnTo>
                      <a:pt x="4" y="537"/>
                    </a:lnTo>
                    <a:lnTo>
                      <a:pt x="11" y="537"/>
                    </a:lnTo>
                    <a:lnTo>
                      <a:pt x="11" y="529"/>
                    </a:lnTo>
                    <a:lnTo>
                      <a:pt x="11" y="518"/>
                    </a:lnTo>
                    <a:lnTo>
                      <a:pt x="11" y="508"/>
                    </a:lnTo>
                    <a:lnTo>
                      <a:pt x="4" y="508"/>
                    </a:lnTo>
                    <a:lnTo>
                      <a:pt x="11" y="511"/>
                    </a:lnTo>
                    <a:lnTo>
                      <a:pt x="15" y="504"/>
                    </a:lnTo>
                    <a:lnTo>
                      <a:pt x="7" y="500"/>
                    </a:lnTo>
                    <a:lnTo>
                      <a:pt x="11" y="504"/>
                    </a:lnTo>
                    <a:lnTo>
                      <a:pt x="15" y="500"/>
                    </a:lnTo>
                    <a:lnTo>
                      <a:pt x="18" y="500"/>
                    </a:lnTo>
                    <a:lnTo>
                      <a:pt x="18" y="500"/>
                    </a:lnTo>
                    <a:lnTo>
                      <a:pt x="25" y="489"/>
                    </a:lnTo>
                    <a:lnTo>
                      <a:pt x="33" y="478"/>
                    </a:lnTo>
                    <a:lnTo>
                      <a:pt x="25" y="475"/>
                    </a:lnTo>
                    <a:lnTo>
                      <a:pt x="29" y="478"/>
                    </a:lnTo>
                    <a:lnTo>
                      <a:pt x="36" y="471"/>
                    </a:lnTo>
                    <a:lnTo>
                      <a:pt x="33" y="468"/>
                    </a:lnTo>
                    <a:lnTo>
                      <a:pt x="36" y="475"/>
                    </a:lnTo>
                    <a:lnTo>
                      <a:pt x="44" y="471"/>
                    </a:lnTo>
                    <a:lnTo>
                      <a:pt x="44" y="468"/>
                    </a:lnTo>
                    <a:lnTo>
                      <a:pt x="47" y="468"/>
                    </a:lnTo>
                    <a:lnTo>
                      <a:pt x="51" y="460"/>
                    </a:lnTo>
                    <a:lnTo>
                      <a:pt x="44" y="457"/>
                    </a:lnTo>
                    <a:lnTo>
                      <a:pt x="47" y="464"/>
                    </a:lnTo>
                    <a:lnTo>
                      <a:pt x="54" y="460"/>
                    </a:lnTo>
                    <a:lnTo>
                      <a:pt x="51" y="453"/>
                    </a:lnTo>
                    <a:lnTo>
                      <a:pt x="51" y="460"/>
                    </a:lnTo>
                    <a:lnTo>
                      <a:pt x="58" y="460"/>
                    </a:lnTo>
                    <a:lnTo>
                      <a:pt x="62" y="460"/>
                    </a:lnTo>
                    <a:lnTo>
                      <a:pt x="62" y="460"/>
                    </a:lnTo>
                    <a:lnTo>
                      <a:pt x="69" y="457"/>
                    </a:lnTo>
                    <a:lnTo>
                      <a:pt x="65" y="449"/>
                    </a:lnTo>
                    <a:lnTo>
                      <a:pt x="65" y="457"/>
                    </a:lnTo>
                    <a:lnTo>
                      <a:pt x="73" y="457"/>
                    </a:lnTo>
                    <a:lnTo>
                      <a:pt x="80" y="457"/>
                    </a:lnTo>
                    <a:lnTo>
                      <a:pt x="80" y="449"/>
                    </a:lnTo>
                    <a:lnTo>
                      <a:pt x="76" y="453"/>
                    </a:lnTo>
                    <a:lnTo>
                      <a:pt x="80" y="457"/>
                    </a:lnTo>
                    <a:lnTo>
                      <a:pt x="83" y="460"/>
                    </a:lnTo>
                    <a:lnTo>
                      <a:pt x="83" y="460"/>
                    </a:lnTo>
                    <a:lnTo>
                      <a:pt x="91" y="460"/>
                    </a:lnTo>
                    <a:lnTo>
                      <a:pt x="105" y="464"/>
                    </a:lnTo>
                    <a:lnTo>
                      <a:pt x="105" y="457"/>
                    </a:lnTo>
                    <a:lnTo>
                      <a:pt x="105" y="464"/>
                    </a:lnTo>
                    <a:lnTo>
                      <a:pt x="116" y="471"/>
                    </a:lnTo>
                    <a:lnTo>
                      <a:pt x="131" y="478"/>
                    </a:lnTo>
                    <a:lnTo>
                      <a:pt x="141" y="486"/>
                    </a:lnTo>
                    <a:lnTo>
                      <a:pt x="152" y="489"/>
                    </a:lnTo>
                    <a:lnTo>
                      <a:pt x="167" y="497"/>
                    </a:lnTo>
                    <a:lnTo>
                      <a:pt x="167" y="497"/>
                    </a:lnTo>
                    <a:lnTo>
                      <a:pt x="167" y="497"/>
                    </a:lnTo>
                    <a:lnTo>
                      <a:pt x="174" y="497"/>
                    </a:lnTo>
                    <a:lnTo>
                      <a:pt x="174" y="489"/>
                    </a:lnTo>
                    <a:lnTo>
                      <a:pt x="170" y="493"/>
                    </a:lnTo>
                    <a:lnTo>
                      <a:pt x="174" y="497"/>
                    </a:lnTo>
                    <a:lnTo>
                      <a:pt x="178" y="500"/>
                    </a:lnTo>
                    <a:lnTo>
                      <a:pt x="178" y="500"/>
                    </a:lnTo>
                    <a:lnTo>
                      <a:pt x="185" y="500"/>
                    </a:lnTo>
                    <a:lnTo>
                      <a:pt x="192" y="500"/>
                    </a:lnTo>
                    <a:lnTo>
                      <a:pt x="196" y="500"/>
                    </a:lnTo>
                    <a:lnTo>
                      <a:pt x="196" y="497"/>
                    </a:lnTo>
                    <a:lnTo>
                      <a:pt x="199" y="493"/>
                    </a:lnTo>
                    <a:lnTo>
                      <a:pt x="196" y="489"/>
                    </a:lnTo>
                    <a:lnTo>
                      <a:pt x="199" y="497"/>
                    </a:lnTo>
                    <a:lnTo>
                      <a:pt x="207" y="493"/>
                    </a:lnTo>
                    <a:lnTo>
                      <a:pt x="214" y="489"/>
                    </a:lnTo>
                    <a:lnTo>
                      <a:pt x="214" y="489"/>
                    </a:lnTo>
                    <a:lnTo>
                      <a:pt x="214" y="486"/>
                    </a:lnTo>
                    <a:lnTo>
                      <a:pt x="218" y="482"/>
                    </a:lnTo>
                    <a:close/>
                  </a:path>
                </a:pathLst>
              </a:custGeom>
              <a:solidFill>
                <a:srgbClr val="ffff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4527720" y="3328920"/>
              <a:ext cx="157140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49440"/>
                  <a:tab algn="l" pos="1298520"/>
                  <a:tab algn="l" pos="1947960"/>
                  <a:tab algn="l" pos="2597040"/>
                  <a:tab algn="l" pos="3246480"/>
                  <a:tab algn="l" pos="3895560"/>
                  <a:tab algn="l" pos="4545000"/>
                  <a:tab algn="l" pos="5194440"/>
                  <a:tab algn="l" pos="5843520"/>
                  <a:tab algn="l" pos="6492960"/>
                  <a:tab algn="l" pos="7142040"/>
                  <a:tab algn="l" pos="7791480"/>
                  <a:tab algn="l" pos="8440560"/>
                  <a:tab algn="l" pos="9090000"/>
                  <a:tab algn="l" pos="9739440"/>
                  <a:tab algn="l" pos="10388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2597040" y="2679840"/>
            <a:ext cx="1290240" cy="2153880"/>
            <a:chOff x="2597040" y="2679840"/>
            <a:chExt cx="1290240" cy="2153880"/>
          </a:xfrm>
        </p:grpSpPr>
        <p:grpSp>
          <p:nvGrpSpPr>
            <p:cNvPr id="151" name=""/>
            <p:cNvGrpSpPr/>
            <p:nvPr/>
          </p:nvGrpSpPr>
          <p:grpSpPr>
            <a:xfrm>
              <a:off x="2597040" y="2679840"/>
              <a:ext cx="1290240" cy="2153880"/>
              <a:chOff x="2597040" y="2679840"/>
              <a:chExt cx="1290240" cy="2153880"/>
            </a:xfrm>
          </p:grpSpPr>
          <p:sp>
            <p:nvSpPr>
              <p:cNvPr id="152" name=""/>
              <p:cNvSpPr/>
              <p:nvPr/>
            </p:nvSpPr>
            <p:spPr>
              <a:xfrm>
                <a:off x="2602800" y="2685600"/>
                <a:ext cx="1270800" cy="2134080"/>
              </a:xfrm>
              <a:custGeom>
                <a:avLst/>
                <a:gdLst/>
                <a:ahLst/>
                <a:rect l="l" t="t" r="r" b="b"/>
                <a:pathLst>
                  <a:path w="646" h="1067">
                    <a:moveTo>
                      <a:pt x="113" y="523"/>
                    </a:moveTo>
                    <a:lnTo>
                      <a:pt x="116" y="519"/>
                    </a:lnTo>
                    <a:lnTo>
                      <a:pt x="120" y="512"/>
                    </a:lnTo>
                    <a:lnTo>
                      <a:pt x="124" y="512"/>
                    </a:lnTo>
                    <a:lnTo>
                      <a:pt x="127" y="508"/>
                    </a:lnTo>
                    <a:lnTo>
                      <a:pt x="138" y="505"/>
                    </a:lnTo>
                    <a:lnTo>
                      <a:pt x="149" y="501"/>
                    </a:lnTo>
                    <a:lnTo>
                      <a:pt x="160" y="501"/>
                    </a:lnTo>
                    <a:lnTo>
                      <a:pt x="174" y="501"/>
                    </a:lnTo>
                    <a:lnTo>
                      <a:pt x="185" y="505"/>
                    </a:lnTo>
                    <a:lnTo>
                      <a:pt x="196" y="508"/>
                    </a:lnTo>
                    <a:lnTo>
                      <a:pt x="207" y="516"/>
                    </a:lnTo>
                    <a:lnTo>
                      <a:pt x="218" y="523"/>
                    </a:lnTo>
                    <a:lnTo>
                      <a:pt x="229" y="530"/>
                    </a:lnTo>
                    <a:lnTo>
                      <a:pt x="236" y="541"/>
                    </a:lnTo>
                    <a:lnTo>
                      <a:pt x="236" y="548"/>
                    </a:lnTo>
                    <a:lnTo>
                      <a:pt x="240" y="552"/>
                    </a:lnTo>
                    <a:lnTo>
                      <a:pt x="243" y="559"/>
                    </a:lnTo>
                    <a:lnTo>
                      <a:pt x="247" y="563"/>
                    </a:lnTo>
                    <a:lnTo>
                      <a:pt x="247" y="570"/>
                    </a:lnTo>
                    <a:lnTo>
                      <a:pt x="247" y="577"/>
                    </a:lnTo>
                    <a:lnTo>
                      <a:pt x="247" y="584"/>
                    </a:lnTo>
                    <a:lnTo>
                      <a:pt x="247" y="592"/>
                    </a:lnTo>
                    <a:lnTo>
                      <a:pt x="243" y="603"/>
                    </a:lnTo>
                    <a:lnTo>
                      <a:pt x="240" y="617"/>
                    </a:lnTo>
                    <a:lnTo>
                      <a:pt x="232" y="624"/>
                    </a:lnTo>
                    <a:lnTo>
                      <a:pt x="225" y="635"/>
                    </a:lnTo>
                    <a:lnTo>
                      <a:pt x="218" y="642"/>
                    </a:lnTo>
                    <a:lnTo>
                      <a:pt x="211" y="650"/>
                    </a:lnTo>
                    <a:lnTo>
                      <a:pt x="200" y="653"/>
                    </a:lnTo>
                    <a:lnTo>
                      <a:pt x="189" y="657"/>
                    </a:lnTo>
                    <a:lnTo>
                      <a:pt x="182" y="661"/>
                    </a:lnTo>
                    <a:lnTo>
                      <a:pt x="171" y="661"/>
                    </a:lnTo>
                    <a:lnTo>
                      <a:pt x="160" y="661"/>
                    </a:lnTo>
                    <a:lnTo>
                      <a:pt x="149" y="657"/>
                    </a:lnTo>
                    <a:lnTo>
                      <a:pt x="138" y="653"/>
                    </a:lnTo>
                    <a:lnTo>
                      <a:pt x="131" y="650"/>
                    </a:lnTo>
                    <a:lnTo>
                      <a:pt x="124" y="646"/>
                    </a:lnTo>
                    <a:lnTo>
                      <a:pt x="116" y="639"/>
                    </a:lnTo>
                    <a:lnTo>
                      <a:pt x="109" y="632"/>
                    </a:lnTo>
                    <a:lnTo>
                      <a:pt x="102" y="624"/>
                    </a:lnTo>
                    <a:lnTo>
                      <a:pt x="95" y="621"/>
                    </a:lnTo>
                    <a:lnTo>
                      <a:pt x="84" y="617"/>
                    </a:lnTo>
                    <a:lnTo>
                      <a:pt x="76" y="613"/>
                    </a:lnTo>
                    <a:lnTo>
                      <a:pt x="69" y="610"/>
                    </a:lnTo>
                    <a:lnTo>
                      <a:pt x="62" y="606"/>
                    </a:lnTo>
                    <a:lnTo>
                      <a:pt x="55" y="606"/>
                    </a:lnTo>
                    <a:lnTo>
                      <a:pt x="47" y="606"/>
                    </a:lnTo>
                    <a:lnTo>
                      <a:pt x="40" y="606"/>
                    </a:lnTo>
                    <a:lnTo>
                      <a:pt x="33" y="610"/>
                    </a:lnTo>
                    <a:lnTo>
                      <a:pt x="26" y="613"/>
                    </a:lnTo>
                    <a:lnTo>
                      <a:pt x="18" y="617"/>
                    </a:lnTo>
                    <a:lnTo>
                      <a:pt x="15" y="624"/>
                    </a:lnTo>
                    <a:lnTo>
                      <a:pt x="11" y="632"/>
                    </a:lnTo>
                    <a:lnTo>
                      <a:pt x="11" y="642"/>
                    </a:lnTo>
                    <a:lnTo>
                      <a:pt x="8" y="664"/>
                    </a:lnTo>
                    <a:lnTo>
                      <a:pt x="4" y="690"/>
                    </a:lnTo>
                    <a:lnTo>
                      <a:pt x="0" y="715"/>
                    </a:lnTo>
                    <a:lnTo>
                      <a:pt x="0" y="740"/>
                    </a:lnTo>
                    <a:lnTo>
                      <a:pt x="0" y="769"/>
                    </a:lnTo>
                    <a:lnTo>
                      <a:pt x="0" y="795"/>
                    </a:lnTo>
                    <a:lnTo>
                      <a:pt x="4" y="806"/>
                    </a:lnTo>
                    <a:lnTo>
                      <a:pt x="4" y="817"/>
                    </a:lnTo>
                    <a:lnTo>
                      <a:pt x="8" y="827"/>
                    </a:lnTo>
                    <a:lnTo>
                      <a:pt x="11" y="835"/>
                    </a:lnTo>
                    <a:lnTo>
                      <a:pt x="29" y="831"/>
                    </a:lnTo>
                    <a:lnTo>
                      <a:pt x="55" y="827"/>
                    </a:lnTo>
                    <a:lnTo>
                      <a:pt x="84" y="824"/>
                    </a:lnTo>
                    <a:lnTo>
                      <a:pt x="116" y="824"/>
                    </a:lnTo>
                    <a:lnTo>
                      <a:pt x="149" y="820"/>
                    </a:lnTo>
                    <a:lnTo>
                      <a:pt x="174" y="820"/>
                    </a:lnTo>
                    <a:lnTo>
                      <a:pt x="200" y="824"/>
                    </a:lnTo>
                    <a:lnTo>
                      <a:pt x="218" y="824"/>
                    </a:lnTo>
                    <a:lnTo>
                      <a:pt x="236" y="827"/>
                    </a:lnTo>
                    <a:lnTo>
                      <a:pt x="250" y="831"/>
                    </a:lnTo>
                    <a:lnTo>
                      <a:pt x="265" y="838"/>
                    </a:lnTo>
                    <a:lnTo>
                      <a:pt x="276" y="846"/>
                    </a:lnTo>
                    <a:lnTo>
                      <a:pt x="283" y="849"/>
                    </a:lnTo>
                    <a:lnTo>
                      <a:pt x="290" y="856"/>
                    </a:lnTo>
                    <a:lnTo>
                      <a:pt x="298" y="864"/>
                    </a:lnTo>
                    <a:lnTo>
                      <a:pt x="301" y="871"/>
                    </a:lnTo>
                    <a:lnTo>
                      <a:pt x="301" y="878"/>
                    </a:lnTo>
                    <a:lnTo>
                      <a:pt x="301" y="885"/>
                    </a:lnTo>
                    <a:lnTo>
                      <a:pt x="301" y="893"/>
                    </a:lnTo>
                    <a:lnTo>
                      <a:pt x="301" y="900"/>
                    </a:lnTo>
                    <a:lnTo>
                      <a:pt x="298" y="907"/>
                    </a:lnTo>
                    <a:lnTo>
                      <a:pt x="294" y="915"/>
                    </a:lnTo>
                    <a:lnTo>
                      <a:pt x="287" y="922"/>
                    </a:lnTo>
                    <a:lnTo>
                      <a:pt x="279" y="925"/>
                    </a:lnTo>
                    <a:lnTo>
                      <a:pt x="272" y="936"/>
                    </a:lnTo>
                    <a:lnTo>
                      <a:pt x="269" y="944"/>
                    </a:lnTo>
                    <a:lnTo>
                      <a:pt x="265" y="954"/>
                    </a:lnTo>
                    <a:lnTo>
                      <a:pt x="261" y="965"/>
                    </a:lnTo>
                    <a:lnTo>
                      <a:pt x="261" y="976"/>
                    </a:lnTo>
                    <a:lnTo>
                      <a:pt x="261" y="991"/>
                    </a:lnTo>
                    <a:lnTo>
                      <a:pt x="261" y="1002"/>
                    </a:lnTo>
                    <a:lnTo>
                      <a:pt x="265" y="1012"/>
                    </a:lnTo>
                    <a:lnTo>
                      <a:pt x="272" y="1023"/>
                    </a:lnTo>
                    <a:lnTo>
                      <a:pt x="279" y="1034"/>
                    </a:lnTo>
                    <a:lnTo>
                      <a:pt x="287" y="1041"/>
                    </a:lnTo>
                    <a:lnTo>
                      <a:pt x="294" y="1052"/>
                    </a:lnTo>
                    <a:lnTo>
                      <a:pt x="301" y="1056"/>
                    </a:lnTo>
                    <a:lnTo>
                      <a:pt x="308" y="1060"/>
                    </a:lnTo>
                    <a:lnTo>
                      <a:pt x="312" y="1060"/>
                    </a:lnTo>
                    <a:lnTo>
                      <a:pt x="319" y="1063"/>
                    </a:lnTo>
                    <a:lnTo>
                      <a:pt x="327" y="1067"/>
                    </a:lnTo>
                    <a:lnTo>
                      <a:pt x="334" y="1067"/>
                    </a:lnTo>
                    <a:lnTo>
                      <a:pt x="341" y="1067"/>
                    </a:lnTo>
                    <a:lnTo>
                      <a:pt x="348" y="1067"/>
                    </a:lnTo>
                    <a:lnTo>
                      <a:pt x="367" y="1067"/>
                    </a:lnTo>
                    <a:lnTo>
                      <a:pt x="381" y="1063"/>
                    </a:lnTo>
                    <a:lnTo>
                      <a:pt x="392" y="1056"/>
                    </a:lnTo>
                    <a:lnTo>
                      <a:pt x="403" y="1052"/>
                    </a:lnTo>
                    <a:lnTo>
                      <a:pt x="414" y="1041"/>
                    </a:lnTo>
                    <a:lnTo>
                      <a:pt x="425" y="1034"/>
                    </a:lnTo>
                    <a:lnTo>
                      <a:pt x="432" y="1027"/>
                    </a:lnTo>
                    <a:lnTo>
                      <a:pt x="435" y="1016"/>
                    </a:lnTo>
                    <a:lnTo>
                      <a:pt x="439" y="1005"/>
                    </a:lnTo>
                    <a:lnTo>
                      <a:pt x="439" y="994"/>
                    </a:lnTo>
                    <a:lnTo>
                      <a:pt x="443" y="983"/>
                    </a:lnTo>
                    <a:lnTo>
                      <a:pt x="439" y="973"/>
                    </a:lnTo>
                    <a:lnTo>
                      <a:pt x="435" y="962"/>
                    </a:lnTo>
                    <a:lnTo>
                      <a:pt x="432" y="951"/>
                    </a:lnTo>
                    <a:lnTo>
                      <a:pt x="425" y="940"/>
                    </a:lnTo>
                    <a:lnTo>
                      <a:pt x="414" y="933"/>
                    </a:lnTo>
                    <a:lnTo>
                      <a:pt x="406" y="922"/>
                    </a:lnTo>
                    <a:lnTo>
                      <a:pt x="403" y="915"/>
                    </a:lnTo>
                    <a:lnTo>
                      <a:pt x="396" y="904"/>
                    </a:lnTo>
                    <a:lnTo>
                      <a:pt x="392" y="893"/>
                    </a:lnTo>
                    <a:lnTo>
                      <a:pt x="392" y="882"/>
                    </a:lnTo>
                    <a:lnTo>
                      <a:pt x="392" y="871"/>
                    </a:lnTo>
                    <a:lnTo>
                      <a:pt x="392" y="864"/>
                    </a:lnTo>
                    <a:lnTo>
                      <a:pt x="392" y="853"/>
                    </a:lnTo>
                    <a:lnTo>
                      <a:pt x="396" y="846"/>
                    </a:lnTo>
                    <a:lnTo>
                      <a:pt x="399" y="835"/>
                    </a:lnTo>
                    <a:lnTo>
                      <a:pt x="403" y="827"/>
                    </a:lnTo>
                    <a:lnTo>
                      <a:pt x="410" y="824"/>
                    </a:lnTo>
                    <a:lnTo>
                      <a:pt x="414" y="817"/>
                    </a:lnTo>
                    <a:lnTo>
                      <a:pt x="421" y="813"/>
                    </a:lnTo>
                    <a:lnTo>
                      <a:pt x="428" y="809"/>
                    </a:lnTo>
                    <a:lnTo>
                      <a:pt x="432" y="809"/>
                    </a:lnTo>
                    <a:lnTo>
                      <a:pt x="443" y="809"/>
                    </a:lnTo>
                    <a:lnTo>
                      <a:pt x="461" y="813"/>
                    </a:lnTo>
                    <a:lnTo>
                      <a:pt x="479" y="813"/>
                    </a:lnTo>
                    <a:lnTo>
                      <a:pt x="504" y="817"/>
                    </a:lnTo>
                    <a:lnTo>
                      <a:pt x="533" y="820"/>
                    </a:lnTo>
                    <a:lnTo>
                      <a:pt x="562" y="820"/>
                    </a:lnTo>
                    <a:lnTo>
                      <a:pt x="591" y="824"/>
                    </a:lnTo>
                    <a:lnTo>
                      <a:pt x="624" y="824"/>
                    </a:lnTo>
                    <a:lnTo>
                      <a:pt x="631" y="813"/>
                    </a:lnTo>
                    <a:lnTo>
                      <a:pt x="635" y="798"/>
                    </a:lnTo>
                    <a:lnTo>
                      <a:pt x="638" y="784"/>
                    </a:lnTo>
                    <a:lnTo>
                      <a:pt x="642" y="769"/>
                    </a:lnTo>
                    <a:lnTo>
                      <a:pt x="646" y="755"/>
                    </a:lnTo>
                    <a:lnTo>
                      <a:pt x="646" y="740"/>
                    </a:lnTo>
                    <a:lnTo>
                      <a:pt x="646" y="726"/>
                    </a:lnTo>
                    <a:lnTo>
                      <a:pt x="646" y="711"/>
                    </a:lnTo>
                    <a:lnTo>
                      <a:pt x="646" y="697"/>
                    </a:lnTo>
                    <a:lnTo>
                      <a:pt x="646" y="682"/>
                    </a:lnTo>
                    <a:lnTo>
                      <a:pt x="642" y="668"/>
                    </a:lnTo>
                    <a:lnTo>
                      <a:pt x="642" y="653"/>
                    </a:lnTo>
                    <a:lnTo>
                      <a:pt x="638" y="642"/>
                    </a:lnTo>
                    <a:lnTo>
                      <a:pt x="635" y="632"/>
                    </a:lnTo>
                    <a:lnTo>
                      <a:pt x="631" y="621"/>
                    </a:lnTo>
                    <a:lnTo>
                      <a:pt x="628" y="613"/>
                    </a:lnTo>
                    <a:lnTo>
                      <a:pt x="624" y="603"/>
                    </a:lnTo>
                    <a:lnTo>
                      <a:pt x="620" y="599"/>
                    </a:lnTo>
                    <a:lnTo>
                      <a:pt x="617" y="592"/>
                    </a:lnTo>
                    <a:lnTo>
                      <a:pt x="613" y="588"/>
                    </a:lnTo>
                    <a:lnTo>
                      <a:pt x="606" y="584"/>
                    </a:lnTo>
                    <a:lnTo>
                      <a:pt x="602" y="584"/>
                    </a:lnTo>
                    <a:lnTo>
                      <a:pt x="599" y="581"/>
                    </a:lnTo>
                    <a:lnTo>
                      <a:pt x="591" y="581"/>
                    </a:lnTo>
                    <a:lnTo>
                      <a:pt x="580" y="581"/>
                    </a:lnTo>
                    <a:lnTo>
                      <a:pt x="566" y="584"/>
                    </a:lnTo>
                    <a:lnTo>
                      <a:pt x="551" y="588"/>
                    </a:lnTo>
                    <a:lnTo>
                      <a:pt x="537" y="595"/>
                    </a:lnTo>
                    <a:lnTo>
                      <a:pt x="526" y="599"/>
                    </a:lnTo>
                    <a:lnTo>
                      <a:pt x="519" y="599"/>
                    </a:lnTo>
                    <a:lnTo>
                      <a:pt x="508" y="603"/>
                    </a:lnTo>
                    <a:lnTo>
                      <a:pt x="501" y="603"/>
                    </a:lnTo>
                    <a:lnTo>
                      <a:pt x="490" y="603"/>
                    </a:lnTo>
                    <a:lnTo>
                      <a:pt x="483" y="603"/>
                    </a:lnTo>
                    <a:lnTo>
                      <a:pt x="479" y="603"/>
                    </a:lnTo>
                    <a:lnTo>
                      <a:pt x="468" y="599"/>
                    </a:lnTo>
                    <a:lnTo>
                      <a:pt x="464" y="599"/>
                    </a:lnTo>
                    <a:lnTo>
                      <a:pt x="457" y="595"/>
                    </a:lnTo>
                    <a:lnTo>
                      <a:pt x="454" y="595"/>
                    </a:lnTo>
                    <a:lnTo>
                      <a:pt x="446" y="592"/>
                    </a:lnTo>
                    <a:lnTo>
                      <a:pt x="439" y="584"/>
                    </a:lnTo>
                    <a:lnTo>
                      <a:pt x="432" y="574"/>
                    </a:lnTo>
                    <a:lnTo>
                      <a:pt x="425" y="566"/>
                    </a:lnTo>
                    <a:lnTo>
                      <a:pt x="421" y="555"/>
                    </a:lnTo>
                    <a:lnTo>
                      <a:pt x="417" y="545"/>
                    </a:lnTo>
                    <a:lnTo>
                      <a:pt x="417" y="537"/>
                    </a:lnTo>
                    <a:lnTo>
                      <a:pt x="417" y="526"/>
                    </a:lnTo>
                    <a:lnTo>
                      <a:pt x="417" y="519"/>
                    </a:lnTo>
                    <a:lnTo>
                      <a:pt x="421" y="512"/>
                    </a:lnTo>
                    <a:lnTo>
                      <a:pt x="425" y="505"/>
                    </a:lnTo>
                    <a:lnTo>
                      <a:pt x="428" y="494"/>
                    </a:lnTo>
                    <a:lnTo>
                      <a:pt x="435" y="483"/>
                    </a:lnTo>
                    <a:lnTo>
                      <a:pt x="443" y="476"/>
                    </a:lnTo>
                    <a:lnTo>
                      <a:pt x="450" y="472"/>
                    </a:lnTo>
                    <a:lnTo>
                      <a:pt x="457" y="468"/>
                    </a:lnTo>
                    <a:lnTo>
                      <a:pt x="464" y="465"/>
                    </a:lnTo>
                    <a:lnTo>
                      <a:pt x="472" y="461"/>
                    </a:lnTo>
                    <a:lnTo>
                      <a:pt x="479" y="457"/>
                    </a:lnTo>
                    <a:lnTo>
                      <a:pt x="486" y="457"/>
                    </a:lnTo>
                    <a:lnTo>
                      <a:pt x="490" y="457"/>
                    </a:lnTo>
                    <a:lnTo>
                      <a:pt x="497" y="461"/>
                    </a:lnTo>
                    <a:lnTo>
                      <a:pt x="504" y="461"/>
                    </a:lnTo>
                    <a:lnTo>
                      <a:pt x="519" y="468"/>
                    </a:lnTo>
                    <a:lnTo>
                      <a:pt x="530" y="472"/>
                    </a:lnTo>
                    <a:lnTo>
                      <a:pt x="544" y="479"/>
                    </a:lnTo>
                    <a:lnTo>
                      <a:pt x="555" y="486"/>
                    </a:lnTo>
                    <a:lnTo>
                      <a:pt x="566" y="494"/>
                    </a:lnTo>
                    <a:lnTo>
                      <a:pt x="580" y="497"/>
                    </a:lnTo>
                    <a:lnTo>
                      <a:pt x="588" y="497"/>
                    </a:lnTo>
                    <a:lnTo>
                      <a:pt x="591" y="501"/>
                    </a:lnTo>
                    <a:lnTo>
                      <a:pt x="599" y="501"/>
                    </a:lnTo>
                    <a:lnTo>
                      <a:pt x="606" y="497"/>
                    </a:lnTo>
                    <a:lnTo>
                      <a:pt x="609" y="497"/>
                    </a:lnTo>
                    <a:lnTo>
                      <a:pt x="617" y="494"/>
                    </a:lnTo>
                    <a:lnTo>
                      <a:pt x="624" y="490"/>
                    </a:lnTo>
                    <a:lnTo>
                      <a:pt x="628" y="486"/>
                    </a:lnTo>
                    <a:lnTo>
                      <a:pt x="631" y="483"/>
                    </a:lnTo>
                    <a:lnTo>
                      <a:pt x="635" y="479"/>
                    </a:lnTo>
                    <a:lnTo>
                      <a:pt x="635" y="476"/>
                    </a:lnTo>
                    <a:lnTo>
                      <a:pt x="638" y="468"/>
                    </a:lnTo>
                    <a:lnTo>
                      <a:pt x="642" y="454"/>
                    </a:lnTo>
                    <a:lnTo>
                      <a:pt x="642" y="439"/>
                    </a:lnTo>
                    <a:lnTo>
                      <a:pt x="642" y="421"/>
                    </a:lnTo>
                    <a:lnTo>
                      <a:pt x="638" y="399"/>
                    </a:lnTo>
                    <a:lnTo>
                      <a:pt x="638" y="381"/>
                    </a:lnTo>
                    <a:lnTo>
                      <a:pt x="635" y="360"/>
                    </a:lnTo>
                    <a:lnTo>
                      <a:pt x="631" y="316"/>
                    </a:lnTo>
                    <a:lnTo>
                      <a:pt x="628" y="280"/>
                    </a:lnTo>
                    <a:lnTo>
                      <a:pt x="628" y="265"/>
                    </a:lnTo>
                    <a:lnTo>
                      <a:pt x="628" y="251"/>
                    </a:lnTo>
                    <a:lnTo>
                      <a:pt x="628" y="240"/>
                    </a:lnTo>
                    <a:lnTo>
                      <a:pt x="628" y="233"/>
                    </a:lnTo>
                    <a:lnTo>
                      <a:pt x="617" y="240"/>
                    </a:lnTo>
                    <a:lnTo>
                      <a:pt x="602" y="247"/>
                    </a:lnTo>
                    <a:lnTo>
                      <a:pt x="588" y="251"/>
                    </a:lnTo>
                    <a:lnTo>
                      <a:pt x="570" y="254"/>
                    </a:lnTo>
                    <a:lnTo>
                      <a:pt x="551" y="258"/>
                    </a:lnTo>
                    <a:lnTo>
                      <a:pt x="533" y="258"/>
                    </a:lnTo>
                    <a:lnTo>
                      <a:pt x="515" y="258"/>
                    </a:lnTo>
                    <a:lnTo>
                      <a:pt x="497" y="258"/>
                    </a:lnTo>
                    <a:lnTo>
                      <a:pt x="479" y="258"/>
                    </a:lnTo>
                    <a:lnTo>
                      <a:pt x="457" y="258"/>
                    </a:lnTo>
                    <a:lnTo>
                      <a:pt x="443" y="254"/>
                    </a:lnTo>
                    <a:lnTo>
                      <a:pt x="425" y="251"/>
                    </a:lnTo>
                    <a:lnTo>
                      <a:pt x="410" y="247"/>
                    </a:lnTo>
                    <a:lnTo>
                      <a:pt x="399" y="243"/>
                    </a:lnTo>
                    <a:lnTo>
                      <a:pt x="388" y="236"/>
                    </a:lnTo>
                    <a:lnTo>
                      <a:pt x="377" y="233"/>
                    </a:lnTo>
                    <a:lnTo>
                      <a:pt x="370" y="225"/>
                    </a:lnTo>
                    <a:lnTo>
                      <a:pt x="367" y="222"/>
                    </a:lnTo>
                    <a:lnTo>
                      <a:pt x="363" y="218"/>
                    </a:lnTo>
                    <a:lnTo>
                      <a:pt x="359" y="211"/>
                    </a:lnTo>
                    <a:lnTo>
                      <a:pt x="359" y="207"/>
                    </a:lnTo>
                    <a:lnTo>
                      <a:pt x="359" y="200"/>
                    </a:lnTo>
                    <a:lnTo>
                      <a:pt x="359" y="196"/>
                    </a:lnTo>
                    <a:lnTo>
                      <a:pt x="359" y="189"/>
                    </a:lnTo>
                    <a:lnTo>
                      <a:pt x="363" y="185"/>
                    </a:lnTo>
                    <a:lnTo>
                      <a:pt x="367" y="178"/>
                    </a:lnTo>
                    <a:lnTo>
                      <a:pt x="370" y="171"/>
                    </a:lnTo>
                    <a:lnTo>
                      <a:pt x="377" y="167"/>
                    </a:lnTo>
                    <a:lnTo>
                      <a:pt x="388" y="153"/>
                    </a:lnTo>
                    <a:lnTo>
                      <a:pt x="403" y="138"/>
                    </a:lnTo>
                    <a:lnTo>
                      <a:pt x="410" y="127"/>
                    </a:lnTo>
                    <a:lnTo>
                      <a:pt x="414" y="117"/>
                    </a:lnTo>
                    <a:lnTo>
                      <a:pt x="417" y="106"/>
                    </a:lnTo>
                    <a:lnTo>
                      <a:pt x="421" y="98"/>
                    </a:lnTo>
                    <a:lnTo>
                      <a:pt x="421" y="84"/>
                    </a:lnTo>
                    <a:lnTo>
                      <a:pt x="421" y="73"/>
                    </a:lnTo>
                    <a:lnTo>
                      <a:pt x="417" y="62"/>
                    </a:lnTo>
                    <a:lnTo>
                      <a:pt x="414" y="51"/>
                    </a:lnTo>
                    <a:lnTo>
                      <a:pt x="406" y="40"/>
                    </a:lnTo>
                    <a:lnTo>
                      <a:pt x="399" y="33"/>
                    </a:lnTo>
                    <a:lnTo>
                      <a:pt x="392" y="22"/>
                    </a:lnTo>
                    <a:lnTo>
                      <a:pt x="381" y="15"/>
                    </a:lnTo>
                    <a:lnTo>
                      <a:pt x="370" y="11"/>
                    </a:lnTo>
                    <a:lnTo>
                      <a:pt x="359" y="4"/>
                    </a:lnTo>
                    <a:lnTo>
                      <a:pt x="345" y="0"/>
                    </a:lnTo>
                    <a:lnTo>
                      <a:pt x="330" y="0"/>
                    </a:lnTo>
                    <a:lnTo>
                      <a:pt x="316" y="0"/>
                    </a:lnTo>
                    <a:lnTo>
                      <a:pt x="305" y="4"/>
                    </a:lnTo>
                    <a:lnTo>
                      <a:pt x="294" y="11"/>
                    </a:lnTo>
                    <a:lnTo>
                      <a:pt x="279" y="15"/>
                    </a:lnTo>
                    <a:lnTo>
                      <a:pt x="269" y="22"/>
                    </a:lnTo>
                    <a:lnTo>
                      <a:pt x="258" y="33"/>
                    </a:lnTo>
                    <a:lnTo>
                      <a:pt x="250" y="40"/>
                    </a:lnTo>
                    <a:lnTo>
                      <a:pt x="243" y="51"/>
                    </a:lnTo>
                    <a:lnTo>
                      <a:pt x="240" y="62"/>
                    </a:lnTo>
                    <a:lnTo>
                      <a:pt x="236" y="73"/>
                    </a:lnTo>
                    <a:lnTo>
                      <a:pt x="232" y="84"/>
                    </a:lnTo>
                    <a:lnTo>
                      <a:pt x="232" y="98"/>
                    </a:lnTo>
                    <a:lnTo>
                      <a:pt x="232" y="109"/>
                    </a:lnTo>
                    <a:lnTo>
                      <a:pt x="236" y="120"/>
                    </a:lnTo>
                    <a:lnTo>
                      <a:pt x="240" y="124"/>
                    </a:lnTo>
                    <a:lnTo>
                      <a:pt x="243" y="131"/>
                    </a:lnTo>
                    <a:lnTo>
                      <a:pt x="247" y="135"/>
                    </a:lnTo>
                    <a:lnTo>
                      <a:pt x="250" y="138"/>
                    </a:lnTo>
                    <a:lnTo>
                      <a:pt x="258" y="149"/>
                    </a:lnTo>
                    <a:lnTo>
                      <a:pt x="265" y="156"/>
                    </a:lnTo>
                    <a:lnTo>
                      <a:pt x="272" y="167"/>
                    </a:lnTo>
                    <a:lnTo>
                      <a:pt x="276" y="175"/>
                    </a:lnTo>
                    <a:lnTo>
                      <a:pt x="279" y="185"/>
                    </a:lnTo>
                    <a:lnTo>
                      <a:pt x="283" y="193"/>
                    </a:lnTo>
                    <a:lnTo>
                      <a:pt x="283" y="200"/>
                    </a:lnTo>
                    <a:lnTo>
                      <a:pt x="283" y="204"/>
                    </a:lnTo>
                    <a:lnTo>
                      <a:pt x="283" y="211"/>
                    </a:lnTo>
                    <a:lnTo>
                      <a:pt x="279" y="218"/>
                    </a:lnTo>
                    <a:lnTo>
                      <a:pt x="276" y="222"/>
                    </a:lnTo>
                    <a:lnTo>
                      <a:pt x="272" y="225"/>
                    </a:lnTo>
                    <a:lnTo>
                      <a:pt x="269" y="229"/>
                    </a:lnTo>
                    <a:lnTo>
                      <a:pt x="261" y="233"/>
                    </a:lnTo>
                    <a:lnTo>
                      <a:pt x="254" y="233"/>
                    </a:lnTo>
                    <a:lnTo>
                      <a:pt x="243" y="233"/>
                    </a:lnTo>
                    <a:lnTo>
                      <a:pt x="211" y="233"/>
                    </a:lnTo>
                    <a:lnTo>
                      <a:pt x="174" y="236"/>
                    </a:lnTo>
                    <a:lnTo>
                      <a:pt x="142" y="236"/>
                    </a:lnTo>
                    <a:lnTo>
                      <a:pt x="109" y="240"/>
                    </a:lnTo>
                    <a:lnTo>
                      <a:pt x="76" y="240"/>
                    </a:lnTo>
                    <a:lnTo>
                      <a:pt x="51" y="240"/>
                    </a:lnTo>
                    <a:lnTo>
                      <a:pt x="37" y="240"/>
                    </a:lnTo>
                    <a:lnTo>
                      <a:pt x="26" y="240"/>
                    </a:lnTo>
                    <a:lnTo>
                      <a:pt x="18" y="236"/>
                    </a:lnTo>
                    <a:lnTo>
                      <a:pt x="11" y="233"/>
                    </a:lnTo>
                    <a:lnTo>
                      <a:pt x="11" y="262"/>
                    </a:lnTo>
                    <a:lnTo>
                      <a:pt x="11" y="301"/>
                    </a:lnTo>
                    <a:lnTo>
                      <a:pt x="11" y="341"/>
                    </a:lnTo>
                    <a:lnTo>
                      <a:pt x="11" y="385"/>
                    </a:lnTo>
                    <a:lnTo>
                      <a:pt x="11" y="425"/>
                    </a:lnTo>
                    <a:lnTo>
                      <a:pt x="11" y="461"/>
                    </a:lnTo>
                    <a:lnTo>
                      <a:pt x="11" y="490"/>
                    </a:lnTo>
                    <a:lnTo>
                      <a:pt x="11" y="505"/>
                    </a:lnTo>
                    <a:lnTo>
                      <a:pt x="11" y="512"/>
                    </a:lnTo>
                    <a:lnTo>
                      <a:pt x="15" y="516"/>
                    </a:lnTo>
                    <a:lnTo>
                      <a:pt x="15" y="523"/>
                    </a:lnTo>
                    <a:lnTo>
                      <a:pt x="22" y="526"/>
                    </a:lnTo>
                    <a:lnTo>
                      <a:pt x="26" y="534"/>
                    </a:lnTo>
                    <a:lnTo>
                      <a:pt x="33" y="537"/>
                    </a:lnTo>
                    <a:lnTo>
                      <a:pt x="40" y="541"/>
                    </a:lnTo>
                    <a:lnTo>
                      <a:pt x="47" y="541"/>
                    </a:lnTo>
                    <a:lnTo>
                      <a:pt x="55" y="545"/>
                    </a:lnTo>
                    <a:lnTo>
                      <a:pt x="66" y="545"/>
                    </a:lnTo>
                    <a:lnTo>
                      <a:pt x="73" y="545"/>
                    </a:lnTo>
                    <a:lnTo>
                      <a:pt x="80" y="545"/>
                    </a:lnTo>
                    <a:lnTo>
                      <a:pt x="91" y="541"/>
                    </a:lnTo>
                    <a:lnTo>
                      <a:pt x="98" y="537"/>
                    </a:lnTo>
                    <a:lnTo>
                      <a:pt x="105" y="530"/>
                    </a:lnTo>
                    <a:lnTo>
                      <a:pt x="113" y="523"/>
                    </a:lnTo>
                    <a:close/>
                  </a:path>
                </a:pathLst>
              </a:custGeom>
              <a:solidFill>
                <a:srgbClr val="ccffcc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597040" y="2679840"/>
                <a:ext cx="1290240" cy="2153880"/>
              </a:xfrm>
              <a:custGeom>
                <a:avLst/>
                <a:gdLst/>
                <a:ahLst/>
                <a:rect l="l" t="t" r="r" b="b"/>
                <a:pathLst>
                  <a:path w="656" h="1077">
                    <a:moveTo>
                      <a:pt x="123" y="526"/>
                    </a:moveTo>
                    <a:lnTo>
                      <a:pt x="127" y="526"/>
                    </a:lnTo>
                    <a:lnTo>
                      <a:pt x="127" y="526"/>
                    </a:lnTo>
                    <a:lnTo>
                      <a:pt x="130" y="519"/>
                    </a:lnTo>
                    <a:lnTo>
                      <a:pt x="123" y="515"/>
                    </a:lnTo>
                    <a:lnTo>
                      <a:pt x="123" y="522"/>
                    </a:lnTo>
                    <a:lnTo>
                      <a:pt x="127" y="522"/>
                    </a:lnTo>
                    <a:lnTo>
                      <a:pt x="130" y="522"/>
                    </a:lnTo>
                    <a:lnTo>
                      <a:pt x="130" y="519"/>
                    </a:lnTo>
                    <a:lnTo>
                      <a:pt x="134" y="515"/>
                    </a:lnTo>
                    <a:lnTo>
                      <a:pt x="130" y="511"/>
                    </a:lnTo>
                    <a:lnTo>
                      <a:pt x="134" y="519"/>
                    </a:lnTo>
                    <a:lnTo>
                      <a:pt x="145" y="515"/>
                    </a:lnTo>
                    <a:lnTo>
                      <a:pt x="156" y="511"/>
                    </a:lnTo>
                    <a:lnTo>
                      <a:pt x="152" y="504"/>
                    </a:lnTo>
                    <a:lnTo>
                      <a:pt x="152" y="511"/>
                    </a:lnTo>
                    <a:lnTo>
                      <a:pt x="163" y="511"/>
                    </a:lnTo>
                    <a:lnTo>
                      <a:pt x="177" y="511"/>
                    </a:lnTo>
                    <a:lnTo>
                      <a:pt x="177" y="504"/>
                    </a:lnTo>
                    <a:lnTo>
                      <a:pt x="177" y="511"/>
                    </a:lnTo>
                    <a:lnTo>
                      <a:pt x="188" y="515"/>
                    </a:lnTo>
                    <a:lnTo>
                      <a:pt x="199" y="519"/>
                    </a:lnTo>
                    <a:lnTo>
                      <a:pt x="210" y="526"/>
                    </a:lnTo>
                    <a:lnTo>
                      <a:pt x="221" y="533"/>
                    </a:lnTo>
                    <a:lnTo>
                      <a:pt x="232" y="540"/>
                    </a:lnTo>
                    <a:lnTo>
                      <a:pt x="232" y="533"/>
                    </a:lnTo>
                    <a:lnTo>
                      <a:pt x="228" y="537"/>
                    </a:lnTo>
                    <a:lnTo>
                      <a:pt x="235" y="548"/>
                    </a:lnTo>
                    <a:lnTo>
                      <a:pt x="239" y="544"/>
                    </a:lnTo>
                    <a:lnTo>
                      <a:pt x="235" y="544"/>
                    </a:lnTo>
                    <a:lnTo>
                      <a:pt x="235" y="551"/>
                    </a:lnTo>
                    <a:lnTo>
                      <a:pt x="235" y="555"/>
                    </a:lnTo>
                    <a:lnTo>
                      <a:pt x="235" y="555"/>
                    </a:lnTo>
                    <a:lnTo>
                      <a:pt x="239" y="558"/>
                    </a:lnTo>
                    <a:lnTo>
                      <a:pt x="243" y="555"/>
                    </a:lnTo>
                    <a:lnTo>
                      <a:pt x="239" y="558"/>
                    </a:lnTo>
                    <a:lnTo>
                      <a:pt x="243" y="566"/>
                    </a:lnTo>
                    <a:lnTo>
                      <a:pt x="243" y="566"/>
                    </a:lnTo>
                    <a:lnTo>
                      <a:pt x="243" y="566"/>
                    </a:lnTo>
                    <a:lnTo>
                      <a:pt x="246" y="569"/>
                    </a:lnTo>
                    <a:lnTo>
                      <a:pt x="250" y="566"/>
                    </a:lnTo>
                    <a:lnTo>
                      <a:pt x="246" y="566"/>
                    </a:lnTo>
                    <a:lnTo>
                      <a:pt x="246" y="573"/>
                    </a:lnTo>
                    <a:lnTo>
                      <a:pt x="246" y="580"/>
                    </a:lnTo>
                    <a:lnTo>
                      <a:pt x="246" y="587"/>
                    </a:lnTo>
                    <a:lnTo>
                      <a:pt x="246" y="595"/>
                    </a:lnTo>
                    <a:lnTo>
                      <a:pt x="250" y="595"/>
                    </a:lnTo>
                    <a:lnTo>
                      <a:pt x="246" y="595"/>
                    </a:lnTo>
                    <a:lnTo>
                      <a:pt x="243" y="606"/>
                    </a:lnTo>
                    <a:lnTo>
                      <a:pt x="239" y="620"/>
                    </a:lnTo>
                    <a:lnTo>
                      <a:pt x="243" y="620"/>
                    </a:lnTo>
                    <a:lnTo>
                      <a:pt x="239" y="616"/>
                    </a:lnTo>
                    <a:lnTo>
                      <a:pt x="232" y="624"/>
                    </a:lnTo>
                    <a:lnTo>
                      <a:pt x="232" y="627"/>
                    </a:lnTo>
                    <a:lnTo>
                      <a:pt x="232" y="627"/>
                    </a:lnTo>
                    <a:lnTo>
                      <a:pt x="224" y="638"/>
                    </a:lnTo>
                    <a:lnTo>
                      <a:pt x="228" y="638"/>
                    </a:lnTo>
                    <a:lnTo>
                      <a:pt x="224" y="635"/>
                    </a:lnTo>
                    <a:lnTo>
                      <a:pt x="217" y="642"/>
                    </a:lnTo>
                    <a:lnTo>
                      <a:pt x="210" y="649"/>
                    </a:lnTo>
                    <a:lnTo>
                      <a:pt x="214" y="653"/>
                    </a:lnTo>
                    <a:lnTo>
                      <a:pt x="214" y="649"/>
                    </a:lnTo>
                    <a:lnTo>
                      <a:pt x="203" y="653"/>
                    </a:lnTo>
                    <a:lnTo>
                      <a:pt x="192" y="656"/>
                    </a:lnTo>
                    <a:lnTo>
                      <a:pt x="185" y="660"/>
                    </a:lnTo>
                    <a:lnTo>
                      <a:pt x="185" y="664"/>
                    </a:lnTo>
                    <a:lnTo>
                      <a:pt x="185" y="660"/>
                    </a:lnTo>
                    <a:lnTo>
                      <a:pt x="174" y="660"/>
                    </a:lnTo>
                    <a:lnTo>
                      <a:pt x="163" y="660"/>
                    </a:lnTo>
                    <a:lnTo>
                      <a:pt x="163" y="664"/>
                    </a:lnTo>
                    <a:lnTo>
                      <a:pt x="166" y="660"/>
                    </a:lnTo>
                    <a:lnTo>
                      <a:pt x="156" y="656"/>
                    </a:lnTo>
                    <a:lnTo>
                      <a:pt x="145" y="653"/>
                    </a:lnTo>
                    <a:lnTo>
                      <a:pt x="137" y="649"/>
                    </a:lnTo>
                    <a:lnTo>
                      <a:pt x="130" y="645"/>
                    </a:lnTo>
                    <a:lnTo>
                      <a:pt x="127" y="649"/>
                    </a:lnTo>
                    <a:lnTo>
                      <a:pt x="130" y="645"/>
                    </a:lnTo>
                    <a:lnTo>
                      <a:pt x="123" y="638"/>
                    </a:lnTo>
                    <a:lnTo>
                      <a:pt x="116" y="631"/>
                    </a:lnTo>
                    <a:lnTo>
                      <a:pt x="108" y="624"/>
                    </a:lnTo>
                    <a:lnTo>
                      <a:pt x="108" y="624"/>
                    </a:lnTo>
                    <a:lnTo>
                      <a:pt x="108" y="624"/>
                    </a:lnTo>
                    <a:lnTo>
                      <a:pt x="101" y="620"/>
                    </a:lnTo>
                    <a:lnTo>
                      <a:pt x="90" y="616"/>
                    </a:lnTo>
                    <a:lnTo>
                      <a:pt x="83" y="613"/>
                    </a:lnTo>
                    <a:lnTo>
                      <a:pt x="76" y="609"/>
                    </a:lnTo>
                    <a:lnTo>
                      <a:pt x="69" y="606"/>
                    </a:lnTo>
                    <a:lnTo>
                      <a:pt x="69" y="606"/>
                    </a:lnTo>
                    <a:lnTo>
                      <a:pt x="65" y="606"/>
                    </a:lnTo>
                    <a:lnTo>
                      <a:pt x="58" y="606"/>
                    </a:lnTo>
                    <a:lnTo>
                      <a:pt x="50" y="606"/>
                    </a:lnTo>
                    <a:lnTo>
                      <a:pt x="43" y="606"/>
                    </a:lnTo>
                    <a:lnTo>
                      <a:pt x="43" y="606"/>
                    </a:lnTo>
                    <a:lnTo>
                      <a:pt x="43" y="606"/>
                    </a:lnTo>
                    <a:lnTo>
                      <a:pt x="36" y="609"/>
                    </a:lnTo>
                    <a:lnTo>
                      <a:pt x="29" y="613"/>
                    </a:lnTo>
                    <a:lnTo>
                      <a:pt x="21" y="616"/>
                    </a:lnTo>
                    <a:lnTo>
                      <a:pt x="18" y="616"/>
                    </a:lnTo>
                    <a:lnTo>
                      <a:pt x="18" y="620"/>
                    </a:lnTo>
                    <a:lnTo>
                      <a:pt x="14" y="627"/>
                    </a:lnTo>
                    <a:lnTo>
                      <a:pt x="11" y="635"/>
                    </a:lnTo>
                    <a:lnTo>
                      <a:pt x="11" y="635"/>
                    </a:lnTo>
                    <a:lnTo>
                      <a:pt x="11" y="635"/>
                    </a:lnTo>
                    <a:lnTo>
                      <a:pt x="11" y="645"/>
                    </a:lnTo>
                    <a:lnTo>
                      <a:pt x="7" y="667"/>
                    </a:lnTo>
                    <a:lnTo>
                      <a:pt x="3" y="693"/>
                    </a:lnTo>
                    <a:lnTo>
                      <a:pt x="0" y="718"/>
                    </a:lnTo>
                    <a:lnTo>
                      <a:pt x="0" y="743"/>
                    </a:lnTo>
                    <a:lnTo>
                      <a:pt x="0" y="772"/>
                    </a:lnTo>
                    <a:lnTo>
                      <a:pt x="0" y="798"/>
                    </a:lnTo>
                    <a:lnTo>
                      <a:pt x="0" y="798"/>
                    </a:lnTo>
                    <a:lnTo>
                      <a:pt x="0" y="801"/>
                    </a:lnTo>
                    <a:lnTo>
                      <a:pt x="3" y="812"/>
                    </a:lnTo>
                    <a:lnTo>
                      <a:pt x="7" y="809"/>
                    </a:lnTo>
                    <a:lnTo>
                      <a:pt x="3" y="809"/>
                    </a:lnTo>
                    <a:lnTo>
                      <a:pt x="3" y="820"/>
                    </a:lnTo>
                    <a:lnTo>
                      <a:pt x="3" y="820"/>
                    </a:lnTo>
                    <a:lnTo>
                      <a:pt x="3" y="823"/>
                    </a:lnTo>
                    <a:lnTo>
                      <a:pt x="7" y="834"/>
                    </a:lnTo>
                    <a:lnTo>
                      <a:pt x="11" y="841"/>
                    </a:lnTo>
                    <a:lnTo>
                      <a:pt x="11" y="845"/>
                    </a:lnTo>
                    <a:lnTo>
                      <a:pt x="14" y="845"/>
                    </a:lnTo>
                    <a:lnTo>
                      <a:pt x="32" y="841"/>
                    </a:lnTo>
                    <a:lnTo>
                      <a:pt x="58" y="838"/>
                    </a:lnTo>
                    <a:lnTo>
                      <a:pt x="87" y="834"/>
                    </a:lnTo>
                    <a:lnTo>
                      <a:pt x="119" y="834"/>
                    </a:lnTo>
                    <a:lnTo>
                      <a:pt x="152" y="830"/>
                    </a:lnTo>
                    <a:lnTo>
                      <a:pt x="177" y="830"/>
                    </a:lnTo>
                    <a:lnTo>
                      <a:pt x="203" y="834"/>
                    </a:lnTo>
                    <a:lnTo>
                      <a:pt x="221" y="834"/>
                    </a:lnTo>
                    <a:lnTo>
                      <a:pt x="239" y="838"/>
                    </a:lnTo>
                    <a:lnTo>
                      <a:pt x="253" y="841"/>
                    </a:lnTo>
                    <a:lnTo>
                      <a:pt x="253" y="834"/>
                    </a:lnTo>
                    <a:lnTo>
                      <a:pt x="253" y="841"/>
                    </a:lnTo>
                    <a:lnTo>
                      <a:pt x="268" y="849"/>
                    </a:lnTo>
                    <a:lnTo>
                      <a:pt x="279" y="856"/>
                    </a:lnTo>
                    <a:lnTo>
                      <a:pt x="286" y="859"/>
                    </a:lnTo>
                    <a:lnTo>
                      <a:pt x="286" y="852"/>
                    </a:lnTo>
                    <a:lnTo>
                      <a:pt x="282" y="856"/>
                    </a:lnTo>
                    <a:lnTo>
                      <a:pt x="290" y="863"/>
                    </a:lnTo>
                    <a:lnTo>
                      <a:pt x="297" y="870"/>
                    </a:lnTo>
                    <a:lnTo>
                      <a:pt x="301" y="867"/>
                    </a:lnTo>
                    <a:lnTo>
                      <a:pt x="297" y="870"/>
                    </a:lnTo>
                    <a:lnTo>
                      <a:pt x="301" y="878"/>
                    </a:lnTo>
                    <a:lnTo>
                      <a:pt x="304" y="874"/>
                    </a:lnTo>
                    <a:lnTo>
                      <a:pt x="301" y="874"/>
                    </a:lnTo>
                    <a:lnTo>
                      <a:pt x="301" y="881"/>
                    </a:lnTo>
                    <a:lnTo>
                      <a:pt x="301" y="888"/>
                    </a:lnTo>
                    <a:lnTo>
                      <a:pt x="301" y="896"/>
                    </a:lnTo>
                    <a:lnTo>
                      <a:pt x="301" y="903"/>
                    </a:lnTo>
                    <a:lnTo>
                      <a:pt x="304" y="903"/>
                    </a:lnTo>
                    <a:lnTo>
                      <a:pt x="301" y="903"/>
                    </a:lnTo>
                    <a:lnTo>
                      <a:pt x="297" y="910"/>
                    </a:lnTo>
                    <a:lnTo>
                      <a:pt x="293" y="918"/>
                    </a:lnTo>
                    <a:lnTo>
                      <a:pt x="297" y="918"/>
                    </a:lnTo>
                    <a:lnTo>
                      <a:pt x="293" y="914"/>
                    </a:lnTo>
                    <a:lnTo>
                      <a:pt x="286" y="921"/>
                    </a:lnTo>
                    <a:lnTo>
                      <a:pt x="290" y="925"/>
                    </a:lnTo>
                    <a:lnTo>
                      <a:pt x="290" y="921"/>
                    </a:lnTo>
                    <a:lnTo>
                      <a:pt x="282" y="925"/>
                    </a:lnTo>
                    <a:lnTo>
                      <a:pt x="279" y="925"/>
                    </a:lnTo>
                    <a:lnTo>
                      <a:pt x="279" y="928"/>
                    </a:lnTo>
                    <a:lnTo>
                      <a:pt x="272" y="939"/>
                    </a:lnTo>
                    <a:lnTo>
                      <a:pt x="268" y="947"/>
                    </a:lnTo>
                    <a:lnTo>
                      <a:pt x="264" y="957"/>
                    </a:lnTo>
                    <a:lnTo>
                      <a:pt x="261" y="968"/>
                    </a:lnTo>
                    <a:lnTo>
                      <a:pt x="261" y="968"/>
                    </a:lnTo>
                    <a:lnTo>
                      <a:pt x="261" y="968"/>
                    </a:lnTo>
                    <a:lnTo>
                      <a:pt x="261" y="979"/>
                    </a:lnTo>
                    <a:lnTo>
                      <a:pt x="261" y="994"/>
                    </a:lnTo>
                    <a:lnTo>
                      <a:pt x="261" y="1005"/>
                    </a:lnTo>
                    <a:lnTo>
                      <a:pt x="261" y="1005"/>
                    </a:lnTo>
                    <a:lnTo>
                      <a:pt x="261" y="1008"/>
                    </a:lnTo>
                    <a:lnTo>
                      <a:pt x="264" y="1019"/>
                    </a:lnTo>
                    <a:lnTo>
                      <a:pt x="272" y="1030"/>
                    </a:lnTo>
                    <a:lnTo>
                      <a:pt x="279" y="1041"/>
                    </a:lnTo>
                    <a:lnTo>
                      <a:pt x="279" y="1041"/>
                    </a:lnTo>
                    <a:lnTo>
                      <a:pt x="279" y="1041"/>
                    </a:lnTo>
                    <a:lnTo>
                      <a:pt x="286" y="1048"/>
                    </a:lnTo>
                    <a:lnTo>
                      <a:pt x="290" y="1044"/>
                    </a:lnTo>
                    <a:lnTo>
                      <a:pt x="286" y="1048"/>
                    </a:lnTo>
                    <a:lnTo>
                      <a:pt x="293" y="1059"/>
                    </a:lnTo>
                    <a:lnTo>
                      <a:pt x="293" y="1059"/>
                    </a:lnTo>
                    <a:lnTo>
                      <a:pt x="297" y="1063"/>
                    </a:lnTo>
                    <a:lnTo>
                      <a:pt x="304" y="1066"/>
                    </a:lnTo>
                    <a:lnTo>
                      <a:pt x="311" y="1070"/>
                    </a:lnTo>
                    <a:lnTo>
                      <a:pt x="311" y="1070"/>
                    </a:lnTo>
                    <a:lnTo>
                      <a:pt x="311" y="1070"/>
                    </a:lnTo>
                    <a:lnTo>
                      <a:pt x="315" y="1070"/>
                    </a:lnTo>
                    <a:lnTo>
                      <a:pt x="315" y="1063"/>
                    </a:lnTo>
                    <a:lnTo>
                      <a:pt x="315" y="1070"/>
                    </a:lnTo>
                    <a:lnTo>
                      <a:pt x="322" y="1073"/>
                    </a:lnTo>
                    <a:lnTo>
                      <a:pt x="330" y="1077"/>
                    </a:lnTo>
                    <a:lnTo>
                      <a:pt x="330" y="1077"/>
                    </a:lnTo>
                    <a:lnTo>
                      <a:pt x="330" y="1077"/>
                    </a:lnTo>
                    <a:lnTo>
                      <a:pt x="337" y="1077"/>
                    </a:lnTo>
                    <a:lnTo>
                      <a:pt x="344" y="1077"/>
                    </a:lnTo>
                    <a:lnTo>
                      <a:pt x="351" y="1077"/>
                    </a:lnTo>
                    <a:lnTo>
                      <a:pt x="370" y="1077"/>
                    </a:lnTo>
                    <a:lnTo>
                      <a:pt x="384" y="1073"/>
                    </a:lnTo>
                    <a:lnTo>
                      <a:pt x="388" y="1070"/>
                    </a:lnTo>
                    <a:lnTo>
                      <a:pt x="388" y="1073"/>
                    </a:lnTo>
                    <a:lnTo>
                      <a:pt x="399" y="1066"/>
                    </a:lnTo>
                    <a:lnTo>
                      <a:pt x="409" y="1063"/>
                    </a:lnTo>
                    <a:lnTo>
                      <a:pt x="409" y="1063"/>
                    </a:lnTo>
                    <a:lnTo>
                      <a:pt x="409" y="1059"/>
                    </a:lnTo>
                    <a:lnTo>
                      <a:pt x="420" y="1048"/>
                    </a:lnTo>
                    <a:lnTo>
                      <a:pt x="417" y="1044"/>
                    </a:lnTo>
                    <a:lnTo>
                      <a:pt x="420" y="1052"/>
                    </a:lnTo>
                    <a:lnTo>
                      <a:pt x="431" y="1044"/>
                    </a:lnTo>
                    <a:lnTo>
                      <a:pt x="431" y="1044"/>
                    </a:lnTo>
                    <a:lnTo>
                      <a:pt x="431" y="1041"/>
                    </a:lnTo>
                    <a:lnTo>
                      <a:pt x="438" y="1034"/>
                    </a:lnTo>
                    <a:lnTo>
                      <a:pt x="442" y="1034"/>
                    </a:lnTo>
                    <a:lnTo>
                      <a:pt x="442" y="1034"/>
                    </a:lnTo>
                    <a:lnTo>
                      <a:pt x="446" y="1023"/>
                    </a:lnTo>
                    <a:lnTo>
                      <a:pt x="449" y="1012"/>
                    </a:lnTo>
                    <a:lnTo>
                      <a:pt x="449" y="1012"/>
                    </a:lnTo>
                    <a:lnTo>
                      <a:pt x="449" y="1008"/>
                    </a:lnTo>
                    <a:lnTo>
                      <a:pt x="449" y="997"/>
                    </a:lnTo>
                    <a:lnTo>
                      <a:pt x="442" y="997"/>
                    </a:lnTo>
                    <a:lnTo>
                      <a:pt x="449" y="1001"/>
                    </a:lnTo>
                    <a:lnTo>
                      <a:pt x="453" y="990"/>
                    </a:lnTo>
                    <a:lnTo>
                      <a:pt x="453" y="986"/>
                    </a:lnTo>
                    <a:lnTo>
                      <a:pt x="453" y="986"/>
                    </a:lnTo>
                    <a:lnTo>
                      <a:pt x="449" y="976"/>
                    </a:lnTo>
                    <a:lnTo>
                      <a:pt x="446" y="965"/>
                    </a:lnTo>
                    <a:lnTo>
                      <a:pt x="442" y="954"/>
                    </a:lnTo>
                    <a:lnTo>
                      <a:pt x="435" y="943"/>
                    </a:lnTo>
                    <a:lnTo>
                      <a:pt x="431" y="939"/>
                    </a:lnTo>
                    <a:lnTo>
                      <a:pt x="431" y="939"/>
                    </a:lnTo>
                    <a:lnTo>
                      <a:pt x="420" y="932"/>
                    </a:lnTo>
                    <a:lnTo>
                      <a:pt x="417" y="936"/>
                    </a:lnTo>
                    <a:lnTo>
                      <a:pt x="424" y="936"/>
                    </a:lnTo>
                    <a:lnTo>
                      <a:pt x="417" y="925"/>
                    </a:lnTo>
                    <a:lnTo>
                      <a:pt x="413" y="918"/>
                    </a:lnTo>
                    <a:lnTo>
                      <a:pt x="406" y="907"/>
                    </a:lnTo>
                    <a:lnTo>
                      <a:pt x="402" y="896"/>
                    </a:lnTo>
                    <a:lnTo>
                      <a:pt x="395" y="896"/>
                    </a:lnTo>
                    <a:lnTo>
                      <a:pt x="402" y="896"/>
                    </a:lnTo>
                    <a:lnTo>
                      <a:pt x="402" y="885"/>
                    </a:lnTo>
                    <a:lnTo>
                      <a:pt x="402" y="874"/>
                    </a:lnTo>
                    <a:lnTo>
                      <a:pt x="402" y="867"/>
                    </a:lnTo>
                    <a:lnTo>
                      <a:pt x="402" y="856"/>
                    </a:lnTo>
                    <a:lnTo>
                      <a:pt x="395" y="856"/>
                    </a:lnTo>
                    <a:lnTo>
                      <a:pt x="402" y="859"/>
                    </a:lnTo>
                    <a:lnTo>
                      <a:pt x="406" y="852"/>
                    </a:lnTo>
                    <a:lnTo>
                      <a:pt x="409" y="841"/>
                    </a:lnTo>
                    <a:lnTo>
                      <a:pt x="413" y="834"/>
                    </a:lnTo>
                    <a:lnTo>
                      <a:pt x="406" y="830"/>
                    </a:lnTo>
                    <a:lnTo>
                      <a:pt x="409" y="838"/>
                    </a:lnTo>
                    <a:lnTo>
                      <a:pt x="417" y="834"/>
                    </a:lnTo>
                    <a:lnTo>
                      <a:pt x="417" y="830"/>
                    </a:lnTo>
                    <a:lnTo>
                      <a:pt x="420" y="830"/>
                    </a:lnTo>
                    <a:lnTo>
                      <a:pt x="424" y="823"/>
                    </a:lnTo>
                    <a:lnTo>
                      <a:pt x="417" y="820"/>
                    </a:lnTo>
                    <a:lnTo>
                      <a:pt x="420" y="827"/>
                    </a:lnTo>
                    <a:lnTo>
                      <a:pt x="428" y="823"/>
                    </a:lnTo>
                    <a:lnTo>
                      <a:pt x="435" y="820"/>
                    </a:lnTo>
                    <a:lnTo>
                      <a:pt x="431" y="812"/>
                    </a:lnTo>
                    <a:lnTo>
                      <a:pt x="431" y="820"/>
                    </a:lnTo>
                    <a:lnTo>
                      <a:pt x="435" y="820"/>
                    </a:lnTo>
                    <a:lnTo>
                      <a:pt x="446" y="820"/>
                    </a:lnTo>
                    <a:lnTo>
                      <a:pt x="464" y="823"/>
                    </a:lnTo>
                    <a:lnTo>
                      <a:pt x="482" y="823"/>
                    </a:lnTo>
                    <a:lnTo>
                      <a:pt x="507" y="827"/>
                    </a:lnTo>
                    <a:lnTo>
                      <a:pt x="536" y="830"/>
                    </a:lnTo>
                    <a:lnTo>
                      <a:pt x="565" y="830"/>
                    </a:lnTo>
                    <a:lnTo>
                      <a:pt x="594" y="834"/>
                    </a:lnTo>
                    <a:lnTo>
                      <a:pt x="627" y="834"/>
                    </a:lnTo>
                    <a:lnTo>
                      <a:pt x="631" y="834"/>
                    </a:lnTo>
                    <a:lnTo>
                      <a:pt x="634" y="830"/>
                    </a:lnTo>
                    <a:lnTo>
                      <a:pt x="641" y="820"/>
                    </a:lnTo>
                    <a:lnTo>
                      <a:pt x="645" y="805"/>
                    </a:lnTo>
                    <a:lnTo>
                      <a:pt x="649" y="791"/>
                    </a:lnTo>
                    <a:lnTo>
                      <a:pt x="652" y="776"/>
                    </a:lnTo>
                    <a:lnTo>
                      <a:pt x="656" y="762"/>
                    </a:lnTo>
                    <a:lnTo>
                      <a:pt x="656" y="762"/>
                    </a:lnTo>
                    <a:lnTo>
                      <a:pt x="656" y="758"/>
                    </a:lnTo>
                    <a:lnTo>
                      <a:pt x="656" y="743"/>
                    </a:lnTo>
                    <a:lnTo>
                      <a:pt x="656" y="729"/>
                    </a:lnTo>
                    <a:lnTo>
                      <a:pt x="656" y="714"/>
                    </a:lnTo>
                    <a:lnTo>
                      <a:pt x="656" y="700"/>
                    </a:lnTo>
                    <a:lnTo>
                      <a:pt x="656" y="685"/>
                    </a:lnTo>
                    <a:lnTo>
                      <a:pt x="656" y="685"/>
                    </a:lnTo>
                    <a:lnTo>
                      <a:pt x="656" y="685"/>
                    </a:lnTo>
                    <a:lnTo>
                      <a:pt x="652" y="671"/>
                    </a:lnTo>
                    <a:lnTo>
                      <a:pt x="645" y="671"/>
                    </a:lnTo>
                    <a:lnTo>
                      <a:pt x="652" y="671"/>
                    </a:lnTo>
                    <a:lnTo>
                      <a:pt x="652" y="656"/>
                    </a:lnTo>
                    <a:lnTo>
                      <a:pt x="652" y="656"/>
                    </a:lnTo>
                    <a:lnTo>
                      <a:pt x="652" y="656"/>
                    </a:lnTo>
                    <a:lnTo>
                      <a:pt x="649" y="645"/>
                    </a:lnTo>
                    <a:lnTo>
                      <a:pt x="645" y="635"/>
                    </a:lnTo>
                    <a:lnTo>
                      <a:pt x="641" y="624"/>
                    </a:lnTo>
                    <a:lnTo>
                      <a:pt x="638" y="616"/>
                    </a:lnTo>
                    <a:lnTo>
                      <a:pt x="634" y="606"/>
                    </a:lnTo>
                    <a:lnTo>
                      <a:pt x="634" y="606"/>
                    </a:lnTo>
                    <a:lnTo>
                      <a:pt x="631" y="602"/>
                    </a:lnTo>
                    <a:lnTo>
                      <a:pt x="627" y="598"/>
                    </a:lnTo>
                    <a:lnTo>
                      <a:pt x="623" y="602"/>
                    </a:lnTo>
                    <a:lnTo>
                      <a:pt x="631" y="602"/>
                    </a:lnTo>
                    <a:lnTo>
                      <a:pt x="627" y="595"/>
                    </a:lnTo>
                    <a:lnTo>
                      <a:pt x="627" y="595"/>
                    </a:lnTo>
                    <a:lnTo>
                      <a:pt x="623" y="591"/>
                    </a:lnTo>
                    <a:lnTo>
                      <a:pt x="620" y="587"/>
                    </a:lnTo>
                    <a:lnTo>
                      <a:pt x="620" y="587"/>
                    </a:lnTo>
                    <a:lnTo>
                      <a:pt x="620" y="587"/>
                    </a:lnTo>
                    <a:lnTo>
                      <a:pt x="612" y="584"/>
                    </a:lnTo>
                    <a:lnTo>
                      <a:pt x="612" y="584"/>
                    </a:lnTo>
                    <a:lnTo>
                      <a:pt x="609" y="584"/>
                    </a:lnTo>
                    <a:lnTo>
                      <a:pt x="605" y="584"/>
                    </a:lnTo>
                    <a:lnTo>
                      <a:pt x="605" y="587"/>
                    </a:lnTo>
                    <a:lnTo>
                      <a:pt x="609" y="584"/>
                    </a:lnTo>
                    <a:lnTo>
                      <a:pt x="605" y="580"/>
                    </a:lnTo>
                    <a:lnTo>
                      <a:pt x="605" y="580"/>
                    </a:lnTo>
                    <a:lnTo>
                      <a:pt x="602" y="580"/>
                    </a:lnTo>
                    <a:lnTo>
                      <a:pt x="594" y="580"/>
                    </a:lnTo>
                    <a:lnTo>
                      <a:pt x="583" y="580"/>
                    </a:lnTo>
                    <a:lnTo>
                      <a:pt x="569" y="584"/>
                    </a:lnTo>
                    <a:lnTo>
                      <a:pt x="554" y="587"/>
                    </a:lnTo>
                    <a:lnTo>
                      <a:pt x="551" y="587"/>
                    </a:lnTo>
                    <a:lnTo>
                      <a:pt x="554" y="587"/>
                    </a:lnTo>
                    <a:lnTo>
                      <a:pt x="540" y="595"/>
                    </a:lnTo>
                    <a:lnTo>
                      <a:pt x="529" y="598"/>
                    </a:lnTo>
                    <a:lnTo>
                      <a:pt x="529" y="602"/>
                    </a:lnTo>
                    <a:lnTo>
                      <a:pt x="529" y="598"/>
                    </a:lnTo>
                    <a:lnTo>
                      <a:pt x="522" y="598"/>
                    </a:lnTo>
                    <a:lnTo>
                      <a:pt x="522" y="598"/>
                    </a:lnTo>
                    <a:lnTo>
                      <a:pt x="522" y="598"/>
                    </a:lnTo>
                    <a:lnTo>
                      <a:pt x="511" y="602"/>
                    </a:lnTo>
                    <a:lnTo>
                      <a:pt x="511" y="606"/>
                    </a:lnTo>
                    <a:lnTo>
                      <a:pt x="511" y="602"/>
                    </a:lnTo>
                    <a:lnTo>
                      <a:pt x="504" y="602"/>
                    </a:lnTo>
                    <a:lnTo>
                      <a:pt x="493" y="602"/>
                    </a:lnTo>
                    <a:lnTo>
                      <a:pt x="486" y="602"/>
                    </a:lnTo>
                    <a:lnTo>
                      <a:pt x="482" y="602"/>
                    </a:lnTo>
                    <a:lnTo>
                      <a:pt x="482" y="606"/>
                    </a:lnTo>
                    <a:lnTo>
                      <a:pt x="486" y="602"/>
                    </a:lnTo>
                    <a:lnTo>
                      <a:pt x="475" y="598"/>
                    </a:lnTo>
                    <a:lnTo>
                      <a:pt x="475" y="598"/>
                    </a:lnTo>
                    <a:lnTo>
                      <a:pt x="471" y="598"/>
                    </a:lnTo>
                    <a:lnTo>
                      <a:pt x="467" y="598"/>
                    </a:lnTo>
                    <a:lnTo>
                      <a:pt x="467" y="602"/>
                    </a:lnTo>
                    <a:lnTo>
                      <a:pt x="471" y="598"/>
                    </a:lnTo>
                    <a:lnTo>
                      <a:pt x="464" y="595"/>
                    </a:lnTo>
                    <a:lnTo>
                      <a:pt x="464" y="595"/>
                    </a:lnTo>
                    <a:lnTo>
                      <a:pt x="460" y="595"/>
                    </a:lnTo>
                    <a:lnTo>
                      <a:pt x="457" y="595"/>
                    </a:lnTo>
                    <a:lnTo>
                      <a:pt x="457" y="598"/>
                    </a:lnTo>
                    <a:lnTo>
                      <a:pt x="460" y="595"/>
                    </a:lnTo>
                    <a:lnTo>
                      <a:pt x="453" y="591"/>
                    </a:lnTo>
                    <a:lnTo>
                      <a:pt x="449" y="595"/>
                    </a:lnTo>
                    <a:lnTo>
                      <a:pt x="453" y="591"/>
                    </a:lnTo>
                    <a:lnTo>
                      <a:pt x="446" y="584"/>
                    </a:lnTo>
                    <a:lnTo>
                      <a:pt x="442" y="587"/>
                    </a:lnTo>
                    <a:lnTo>
                      <a:pt x="449" y="587"/>
                    </a:lnTo>
                    <a:lnTo>
                      <a:pt x="442" y="577"/>
                    </a:lnTo>
                    <a:lnTo>
                      <a:pt x="442" y="577"/>
                    </a:lnTo>
                    <a:lnTo>
                      <a:pt x="438" y="573"/>
                    </a:lnTo>
                    <a:lnTo>
                      <a:pt x="431" y="566"/>
                    </a:lnTo>
                    <a:lnTo>
                      <a:pt x="428" y="569"/>
                    </a:lnTo>
                    <a:lnTo>
                      <a:pt x="435" y="569"/>
                    </a:lnTo>
                    <a:lnTo>
                      <a:pt x="431" y="558"/>
                    </a:lnTo>
                    <a:lnTo>
                      <a:pt x="428" y="548"/>
                    </a:lnTo>
                    <a:lnTo>
                      <a:pt x="420" y="548"/>
                    </a:lnTo>
                    <a:lnTo>
                      <a:pt x="428" y="548"/>
                    </a:lnTo>
                    <a:lnTo>
                      <a:pt x="428" y="540"/>
                    </a:lnTo>
                    <a:lnTo>
                      <a:pt x="428" y="529"/>
                    </a:lnTo>
                    <a:lnTo>
                      <a:pt x="428" y="522"/>
                    </a:lnTo>
                    <a:lnTo>
                      <a:pt x="420" y="522"/>
                    </a:lnTo>
                    <a:lnTo>
                      <a:pt x="428" y="526"/>
                    </a:lnTo>
                    <a:lnTo>
                      <a:pt x="431" y="519"/>
                    </a:lnTo>
                    <a:lnTo>
                      <a:pt x="435" y="511"/>
                    </a:lnTo>
                    <a:lnTo>
                      <a:pt x="438" y="500"/>
                    </a:lnTo>
                    <a:lnTo>
                      <a:pt x="446" y="489"/>
                    </a:lnTo>
                    <a:lnTo>
                      <a:pt x="438" y="486"/>
                    </a:lnTo>
                    <a:lnTo>
                      <a:pt x="442" y="489"/>
                    </a:lnTo>
                    <a:lnTo>
                      <a:pt x="449" y="482"/>
                    </a:lnTo>
                    <a:lnTo>
                      <a:pt x="446" y="479"/>
                    </a:lnTo>
                    <a:lnTo>
                      <a:pt x="449" y="486"/>
                    </a:lnTo>
                    <a:lnTo>
                      <a:pt x="457" y="482"/>
                    </a:lnTo>
                    <a:lnTo>
                      <a:pt x="464" y="479"/>
                    </a:lnTo>
                    <a:lnTo>
                      <a:pt x="471" y="475"/>
                    </a:lnTo>
                    <a:lnTo>
                      <a:pt x="478" y="471"/>
                    </a:lnTo>
                    <a:lnTo>
                      <a:pt x="486" y="468"/>
                    </a:lnTo>
                    <a:lnTo>
                      <a:pt x="482" y="460"/>
                    </a:lnTo>
                    <a:lnTo>
                      <a:pt x="482" y="468"/>
                    </a:lnTo>
                    <a:lnTo>
                      <a:pt x="489" y="468"/>
                    </a:lnTo>
                    <a:lnTo>
                      <a:pt x="493" y="468"/>
                    </a:lnTo>
                    <a:lnTo>
                      <a:pt x="493" y="460"/>
                    </a:lnTo>
                    <a:lnTo>
                      <a:pt x="493" y="468"/>
                    </a:lnTo>
                    <a:lnTo>
                      <a:pt x="500" y="471"/>
                    </a:lnTo>
                    <a:lnTo>
                      <a:pt x="500" y="471"/>
                    </a:lnTo>
                    <a:lnTo>
                      <a:pt x="500" y="471"/>
                    </a:lnTo>
                    <a:lnTo>
                      <a:pt x="507" y="471"/>
                    </a:lnTo>
                    <a:lnTo>
                      <a:pt x="507" y="464"/>
                    </a:lnTo>
                    <a:lnTo>
                      <a:pt x="507" y="471"/>
                    </a:lnTo>
                    <a:lnTo>
                      <a:pt x="522" y="479"/>
                    </a:lnTo>
                    <a:lnTo>
                      <a:pt x="533" y="482"/>
                    </a:lnTo>
                    <a:lnTo>
                      <a:pt x="547" y="489"/>
                    </a:lnTo>
                    <a:lnTo>
                      <a:pt x="558" y="497"/>
                    </a:lnTo>
                    <a:lnTo>
                      <a:pt x="569" y="504"/>
                    </a:lnTo>
                    <a:lnTo>
                      <a:pt x="565" y="500"/>
                    </a:lnTo>
                    <a:lnTo>
                      <a:pt x="569" y="504"/>
                    </a:lnTo>
                    <a:lnTo>
                      <a:pt x="583" y="508"/>
                    </a:lnTo>
                    <a:lnTo>
                      <a:pt x="591" y="508"/>
                    </a:lnTo>
                    <a:lnTo>
                      <a:pt x="591" y="500"/>
                    </a:lnTo>
                    <a:lnTo>
                      <a:pt x="587" y="504"/>
                    </a:lnTo>
                    <a:lnTo>
                      <a:pt x="591" y="508"/>
                    </a:lnTo>
                    <a:lnTo>
                      <a:pt x="594" y="511"/>
                    </a:lnTo>
                    <a:lnTo>
                      <a:pt x="594" y="511"/>
                    </a:lnTo>
                    <a:lnTo>
                      <a:pt x="602" y="511"/>
                    </a:lnTo>
                    <a:lnTo>
                      <a:pt x="605" y="511"/>
                    </a:lnTo>
                    <a:lnTo>
                      <a:pt x="605" y="511"/>
                    </a:lnTo>
                    <a:lnTo>
                      <a:pt x="612" y="508"/>
                    </a:lnTo>
                    <a:lnTo>
                      <a:pt x="609" y="500"/>
                    </a:lnTo>
                    <a:lnTo>
                      <a:pt x="609" y="508"/>
                    </a:lnTo>
                    <a:lnTo>
                      <a:pt x="612" y="508"/>
                    </a:lnTo>
                    <a:lnTo>
                      <a:pt x="616" y="508"/>
                    </a:lnTo>
                    <a:lnTo>
                      <a:pt x="616" y="508"/>
                    </a:lnTo>
                    <a:lnTo>
                      <a:pt x="623" y="504"/>
                    </a:lnTo>
                    <a:lnTo>
                      <a:pt x="631" y="500"/>
                    </a:lnTo>
                    <a:lnTo>
                      <a:pt x="631" y="500"/>
                    </a:lnTo>
                    <a:lnTo>
                      <a:pt x="631" y="497"/>
                    </a:lnTo>
                    <a:lnTo>
                      <a:pt x="634" y="493"/>
                    </a:lnTo>
                    <a:lnTo>
                      <a:pt x="638" y="489"/>
                    </a:lnTo>
                    <a:lnTo>
                      <a:pt x="641" y="486"/>
                    </a:lnTo>
                    <a:lnTo>
                      <a:pt x="645" y="486"/>
                    </a:lnTo>
                    <a:lnTo>
                      <a:pt x="645" y="482"/>
                    </a:lnTo>
                    <a:lnTo>
                      <a:pt x="645" y="479"/>
                    </a:lnTo>
                    <a:lnTo>
                      <a:pt x="638" y="479"/>
                    </a:lnTo>
                    <a:lnTo>
                      <a:pt x="645" y="482"/>
                    </a:lnTo>
                    <a:lnTo>
                      <a:pt x="649" y="475"/>
                    </a:lnTo>
                    <a:lnTo>
                      <a:pt x="652" y="460"/>
                    </a:lnTo>
                    <a:lnTo>
                      <a:pt x="652" y="460"/>
                    </a:lnTo>
                    <a:lnTo>
                      <a:pt x="652" y="457"/>
                    </a:lnTo>
                    <a:lnTo>
                      <a:pt x="652" y="442"/>
                    </a:lnTo>
                    <a:lnTo>
                      <a:pt x="652" y="424"/>
                    </a:lnTo>
                    <a:lnTo>
                      <a:pt x="649" y="402"/>
                    </a:lnTo>
                    <a:lnTo>
                      <a:pt x="649" y="384"/>
                    </a:lnTo>
                    <a:lnTo>
                      <a:pt x="645" y="363"/>
                    </a:lnTo>
                    <a:lnTo>
                      <a:pt x="641" y="319"/>
                    </a:lnTo>
                    <a:lnTo>
                      <a:pt x="638" y="283"/>
                    </a:lnTo>
                    <a:lnTo>
                      <a:pt x="638" y="268"/>
                    </a:lnTo>
                    <a:lnTo>
                      <a:pt x="638" y="254"/>
                    </a:lnTo>
                    <a:lnTo>
                      <a:pt x="638" y="243"/>
                    </a:lnTo>
                    <a:lnTo>
                      <a:pt x="638" y="236"/>
                    </a:lnTo>
                    <a:lnTo>
                      <a:pt x="638" y="225"/>
                    </a:lnTo>
                    <a:lnTo>
                      <a:pt x="631" y="232"/>
                    </a:lnTo>
                    <a:lnTo>
                      <a:pt x="620" y="239"/>
                    </a:lnTo>
                    <a:lnTo>
                      <a:pt x="605" y="246"/>
                    </a:lnTo>
                    <a:lnTo>
                      <a:pt x="605" y="250"/>
                    </a:lnTo>
                    <a:lnTo>
                      <a:pt x="605" y="246"/>
                    </a:lnTo>
                    <a:lnTo>
                      <a:pt x="591" y="250"/>
                    </a:lnTo>
                    <a:lnTo>
                      <a:pt x="573" y="254"/>
                    </a:lnTo>
                    <a:lnTo>
                      <a:pt x="554" y="257"/>
                    </a:lnTo>
                    <a:lnTo>
                      <a:pt x="536" y="257"/>
                    </a:lnTo>
                    <a:lnTo>
                      <a:pt x="518" y="257"/>
                    </a:lnTo>
                    <a:lnTo>
                      <a:pt x="500" y="257"/>
                    </a:lnTo>
                    <a:lnTo>
                      <a:pt x="482" y="257"/>
                    </a:lnTo>
                    <a:lnTo>
                      <a:pt x="460" y="257"/>
                    </a:lnTo>
                    <a:lnTo>
                      <a:pt x="446" y="254"/>
                    </a:lnTo>
                    <a:lnTo>
                      <a:pt x="428" y="250"/>
                    </a:lnTo>
                    <a:lnTo>
                      <a:pt x="413" y="246"/>
                    </a:lnTo>
                    <a:lnTo>
                      <a:pt x="413" y="250"/>
                    </a:lnTo>
                    <a:lnTo>
                      <a:pt x="417" y="246"/>
                    </a:lnTo>
                    <a:lnTo>
                      <a:pt x="406" y="243"/>
                    </a:lnTo>
                    <a:lnTo>
                      <a:pt x="395" y="236"/>
                    </a:lnTo>
                    <a:lnTo>
                      <a:pt x="384" y="232"/>
                    </a:lnTo>
                    <a:lnTo>
                      <a:pt x="380" y="236"/>
                    </a:lnTo>
                    <a:lnTo>
                      <a:pt x="384" y="232"/>
                    </a:lnTo>
                    <a:lnTo>
                      <a:pt x="377" y="225"/>
                    </a:lnTo>
                    <a:lnTo>
                      <a:pt x="373" y="221"/>
                    </a:lnTo>
                    <a:lnTo>
                      <a:pt x="370" y="217"/>
                    </a:lnTo>
                    <a:lnTo>
                      <a:pt x="366" y="221"/>
                    </a:lnTo>
                    <a:lnTo>
                      <a:pt x="373" y="221"/>
                    </a:lnTo>
                    <a:lnTo>
                      <a:pt x="370" y="214"/>
                    </a:lnTo>
                    <a:lnTo>
                      <a:pt x="362" y="214"/>
                    </a:lnTo>
                    <a:lnTo>
                      <a:pt x="370" y="214"/>
                    </a:lnTo>
                    <a:lnTo>
                      <a:pt x="370" y="210"/>
                    </a:lnTo>
                    <a:lnTo>
                      <a:pt x="370" y="203"/>
                    </a:lnTo>
                    <a:lnTo>
                      <a:pt x="370" y="199"/>
                    </a:lnTo>
                    <a:lnTo>
                      <a:pt x="370" y="192"/>
                    </a:lnTo>
                    <a:lnTo>
                      <a:pt x="362" y="192"/>
                    </a:lnTo>
                    <a:lnTo>
                      <a:pt x="366" y="196"/>
                    </a:lnTo>
                    <a:lnTo>
                      <a:pt x="370" y="192"/>
                    </a:lnTo>
                    <a:lnTo>
                      <a:pt x="373" y="192"/>
                    </a:lnTo>
                    <a:lnTo>
                      <a:pt x="373" y="192"/>
                    </a:lnTo>
                    <a:lnTo>
                      <a:pt x="377" y="185"/>
                    </a:lnTo>
                    <a:lnTo>
                      <a:pt x="380" y="178"/>
                    </a:lnTo>
                    <a:lnTo>
                      <a:pt x="373" y="174"/>
                    </a:lnTo>
                    <a:lnTo>
                      <a:pt x="377" y="181"/>
                    </a:lnTo>
                    <a:lnTo>
                      <a:pt x="384" y="178"/>
                    </a:lnTo>
                    <a:lnTo>
                      <a:pt x="384" y="174"/>
                    </a:lnTo>
                    <a:lnTo>
                      <a:pt x="384" y="174"/>
                    </a:lnTo>
                    <a:lnTo>
                      <a:pt x="395" y="159"/>
                    </a:lnTo>
                    <a:lnTo>
                      <a:pt x="409" y="145"/>
                    </a:lnTo>
                    <a:lnTo>
                      <a:pt x="413" y="145"/>
                    </a:lnTo>
                    <a:lnTo>
                      <a:pt x="413" y="145"/>
                    </a:lnTo>
                    <a:lnTo>
                      <a:pt x="420" y="134"/>
                    </a:lnTo>
                    <a:lnTo>
                      <a:pt x="424" y="123"/>
                    </a:lnTo>
                    <a:lnTo>
                      <a:pt x="428" y="112"/>
                    </a:lnTo>
                    <a:lnTo>
                      <a:pt x="431" y="105"/>
                    </a:lnTo>
                    <a:lnTo>
                      <a:pt x="431" y="105"/>
                    </a:lnTo>
                    <a:lnTo>
                      <a:pt x="431" y="101"/>
                    </a:lnTo>
                    <a:lnTo>
                      <a:pt x="431" y="87"/>
                    </a:lnTo>
                    <a:lnTo>
                      <a:pt x="431" y="76"/>
                    </a:lnTo>
                    <a:lnTo>
                      <a:pt x="431" y="76"/>
                    </a:lnTo>
                    <a:lnTo>
                      <a:pt x="431" y="76"/>
                    </a:lnTo>
                    <a:lnTo>
                      <a:pt x="428" y="65"/>
                    </a:lnTo>
                    <a:lnTo>
                      <a:pt x="424" y="54"/>
                    </a:lnTo>
                    <a:lnTo>
                      <a:pt x="417" y="43"/>
                    </a:lnTo>
                    <a:lnTo>
                      <a:pt x="417" y="43"/>
                    </a:lnTo>
                    <a:lnTo>
                      <a:pt x="413" y="40"/>
                    </a:lnTo>
                    <a:lnTo>
                      <a:pt x="406" y="32"/>
                    </a:lnTo>
                    <a:lnTo>
                      <a:pt x="402" y="36"/>
                    </a:lnTo>
                    <a:lnTo>
                      <a:pt x="409" y="36"/>
                    </a:lnTo>
                    <a:lnTo>
                      <a:pt x="402" y="25"/>
                    </a:lnTo>
                    <a:lnTo>
                      <a:pt x="399" y="22"/>
                    </a:lnTo>
                    <a:lnTo>
                      <a:pt x="399" y="22"/>
                    </a:lnTo>
                    <a:lnTo>
                      <a:pt x="388" y="14"/>
                    </a:lnTo>
                    <a:lnTo>
                      <a:pt x="377" y="11"/>
                    </a:lnTo>
                    <a:lnTo>
                      <a:pt x="366" y="3"/>
                    </a:lnTo>
                    <a:lnTo>
                      <a:pt x="366" y="3"/>
                    </a:lnTo>
                    <a:lnTo>
                      <a:pt x="362" y="3"/>
                    </a:lnTo>
                    <a:lnTo>
                      <a:pt x="348" y="0"/>
                    </a:lnTo>
                    <a:lnTo>
                      <a:pt x="333" y="0"/>
                    </a:lnTo>
                    <a:lnTo>
                      <a:pt x="319" y="0"/>
                    </a:lnTo>
                    <a:lnTo>
                      <a:pt x="319" y="0"/>
                    </a:lnTo>
                    <a:lnTo>
                      <a:pt x="319" y="0"/>
                    </a:lnTo>
                    <a:lnTo>
                      <a:pt x="308" y="3"/>
                    </a:lnTo>
                    <a:lnTo>
                      <a:pt x="297" y="11"/>
                    </a:lnTo>
                    <a:lnTo>
                      <a:pt x="297" y="14"/>
                    </a:lnTo>
                    <a:lnTo>
                      <a:pt x="297" y="11"/>
                    </a:lnTo>
                    <a:lnTo>
                      <a:pt x="282" y="14"/>
                    </a:lnTo>
                    <a:lnTo>
                      <a:pt x="279" y="14"/>
                    </a:lnTo>
                    <a:lnTo>
                      <a:pt x="282" y="14"/>
                    </a:lnTo>
                    <a:lnTo>
                      <a:pt x="272" y="22"/>
                    </a:lnTo>
                    <a:lnTo>
                      <a:pt x="272" y="22"/>
                    </a:lnTo>
                    <a:lnTo>
                      <a:pt x="268" y="22"/>
                    </a:lnTo>
                    <a:lnTo>
                      <a:pt x="257" y="32"/>
                    </a:lnTo>
                    <a:lnTo>
                      <a:pt x="250" y="40"/>
                    </a:lnTo>
                    <a:lnTo>
                      <a:pt x="250" y="43"/>
                    </a:lnTo>
                    <a:lnTo>
                      <a:pt x="250" y="43"/>
                    </a:lnTo>
                    <a:lnTo>
                      <a:pt x="243" y="54"/>
                    </a:lnTo>
                    <a:lnTo>
                      <a:pt x="239" y="65"/>
                    </a:lnTo>
                    <a:lnTo>
                      <a:pt x="235" y="76"/>
                    </a:lnTo>
                    <a:lnTo>
                      <a:pt x="232" y="87"/>
                    </a:lnTo>
                    <a:lnTo>
                      <a:pt x="232" y="87"/>
                    </a:lnTo>
                    <a:lnTo>
                      <a:pt x="232" y="87"/>
                    </a:lnTo>
                    <a:lnTo>
                      <a:pt x="232" y="101"/>
                    </a:lnTo>
                    <a:lnTo>
                      <a:pt x="232" y="112"/>
                    </a:lnTo>
                    <a:lnTo>
                      <a:pt x="232" y="112"/>
                    </a:lnTo>
                    <a:lnTo>
                      <a:pt x="232" y="116"/>
                    </a:lnTo>
                    <a:lnTo>
                      <a:pt x="235" y="127"/>
                    </a:lnTo>
                    <a:lnTo>
                      <a:pt x="235" y="127"/>
                    </a:lnTo>
                    <a:lnTo>
                      <a:pt x="235" y="127"/>
                    </a:lnTo>
                    <a:lnTo>
                      <a:pt x="239" y="130"/>
                    </a:lnTo>
                    <a:lnTo>
                      <a:pt x="243" y="127"/>
                    </a:lnTo>
                    <a:lnTo>
                      <a:pt x="239" y="130"/>
                    </a:lnTo>
                    <a:lnTo>
                      <a:pt x="243" y="138"/>
                    </a:lnTo>
                    <a:lnTo>
                      <a:pt x="243" y="138"/>
                    </a:lnTo>
                    <a:lnTo>
                      <a:pt x="243" y="138"/>
                    </a:lnTo>
                    <a:lnTo>
                      <a:pt x="246" y="141"/>
                    </a:lnTo>
                    <a:lnTo>
                      <a:pt x="250" y="145"/>
                    </a:lnTo>
                    <a:lnTo>
                      <a:pt x="253" y="141"/>
                    </a:lnTo>
                    <a:lnTo>
                      <a:pt x="250" y="145"/>
                    </a:lnTo>
                    <a:lnTo>
                      <a:pt x="257" y="156"/>
                    </a:lnTo>
                    <a:lnTo>
                      <a:pt x="257" y="156"/>
                    </a:lnTo>
                    <a:lnTo>
                      <a:pt x="257" y="156"/>
                    </a:lnTo>
                    <a:lnTo>
                      <a:pt x="264" y="163"/>
                    </a:lnTo>
                    <a:lnTo>
                      <a:pt x="268" y="159"/>
                    </a:lnTo>
                    <a:lnTo>
                      <a:pt x="264" y="163"/>
                    </a:lnTo>
                    <a:lnTo>
                      <a:pt x="272" y="174"/>
                    </a:lnTo>
                    <a:lnTo>
                      <a:pt x="275" y="181"/>
                    </a:lnTo>
                    <a:lnTo>
                      <a:pt x="279" y="192"/>
                    </a:lnTo>
                    <a:lnTo>
                      <a:pt x="282" y="199"/>
                    </a:lnTo>
                    <a:lnTo>
                      <a:pt x="286" y="196"/>
                    </a:lnTo>
                    <a:lnTo>
                      <a:pt x="282" y="196"/>
                    </a:lnTo>
                    <a:lnTo>
                      <a:pt x="282" y="203"/>
                    </a:lnTo>
                    <a:lnTo>
                      <a:pt x="282" y="207"/>
                    </a:lnTo>
                    <a:lnTo>
                      <a:pt x="282" y="214"/>
                    </a:lnTo>
                    <a:lnTo>
                      <a:pt x="286" y="214"/>
                    </a:lnTo>
                    <a:lnTo>
                      <a:pt x="282" y="214"/>
                    </a:lnTo>
                    <a:lnTo>
                      <a:pt x="279" y="221"/>
                    </a:lnTo>
                    <a:lnTo>
                      <a:pt x="282" y="221"/>
                    </a:lnTo>
                    <a:lnTo>
                      <a:pt x="279" y="217"/>
                    </a:lnTo>
                    <a:lnTo>
                      <a:pt x="275" y="221"/>
                    </a:lnTo>
                    <a:lnTo>
                      <a:pt x="272" y="225"/>
                    </a:lnTo>
                    <a:lnTo>
                      <a:pt x="268" y="228"/>
                    </a:lnTo>
                    <a:lnTo>
                      <a:pt x="272" y="232"/>
                    </a:lnTo>
                    <a:lnTo>
                      <a:pt x="272" y="228"/>
                    </a:lnTo>
                    <a:lnTo>
                      <a:pt x="264" y="232"/>
                    </a:lnTo>
                    <a:lnTo>
                      <a:pt x="264" y="236"/>
                    </a:lnTo>
                    <a:lnTo>
                      <a:pt x="264" y="232"/>
                    </a:lnTo>
                    <a:lnTo>
                      <a:pt x="257" y="232"/>
                    </a:lnTo>
                    <a:lnTo>
                      <a:pt x="246" y="232"/>
                    </a:lnTo>
                    <a:lnTo>
                      <a:pt x="214" y="232"/>
                    </a:lnTo>
                    <a:lnTo>
                      <a:pt x="177" y="236"/>
                    </a:lnTo>
                    <a:lnTo>
                      <a:pt x="145" y="236"/>
                    </a:lnTo>
                    <a:lnTo>
                      <a:pt x="112" y="239"/>
                    </a:lnTo>
                    <a:lnTo>
                      <a:pt x="79" y="239"/>
                    </a:lnTo>
                    <a:lnTo>
                      <a:pt x="54" y="239"/>
                    </a:lnTo>
                    <a:lnTo>
                      <a:pt x="40" y="239"/>
                    </a:lnTo>
                    <a:lnTo>
                      <a:pt x="29" y="239"/>
                    </a:lnTo>
                    <a:lnTo>
                      <a:pt x="29" y="243"/>
                    </a:lnTo>
                    <a:lnTo>
                      <a:pt x="32" y="239"/>
                    </a:lnTo>
                    <a:lnTo>
                      <a:pt x="25" y="236"/>
                    </a:lnTo>
                    <a:lnTo>
                      <a:pt x="18" y="232"/>
                    </a:lnTo>
                    <a:lnTo>
                      <a:pt x="11" y="228"/>
                    </a:lnTo>
                    <a:lnTo>
                      <a:pt x="11" y="236"/>
                    </a:lnTo>
                    <a:lnTo>
                      <a:pt x="11" y="265"/>
                    </a:lnTo>
                    <a:lnTo>
                      <a:pt x="11" y="304"/>
                    </a:lnTo>
                    <a:lnTo>
                      <a:pt x="11" y="344"/>
                    </a:lnTo>
                    <a:lnTo>
                      <a:pt x="11" y="388"/>
                    </a:lnTo>
                    <a:lnTo>
                      <a:pt x="11" y="428"/>
                    </a:lnTo>
                    <a:lnTo>
                      <a:pt x="11" y="464"/>
                    </a:lnTo>
                    <a:lnTo>
                      <a:pt x="11" y="493"/>
                    </a:lnTo>
                    <a:lnTo>
                      <a:pt x="11" y="508"/>
                    </a:lnTo>
                    <a:lnTo>
                      <a:pt x="11" y="515"/>
                    </a:lnTo>
                    <a:lnTo>
                      <a:pt x="11" y="519"/>
                    </a:lnTo>
                    <a:lnTo>
                      <a:pt x="11" y="519"/>
                    </a:lnTo>
                    <a:lnTo>
                      <a:pt x="14" y="522"/>
                    </a:lnTo>
                    <a:lnTo>
                      <a:pt x="18" y="519"/>
                    </a:lnTo>
                    <a:lnTo>
                      <a:pt x="14" y="519"/>
                    </a:lnTo>
                    <a:lnTo>
                      <a:pt x="14" y="526"/>
                    </a:lnTo>
                    <a:lnTo>
                      <a:pt x="14" y="529"/>
                    </a:lnTo>
                    <a:lnTo>
                      <a:pt x="18" y="533"/>
                    </a:lnTo>
                    <a:lnTo>
                      <a:pt x="25" y="537"/>
                    </a:lnTo>
                    <a:lnTo>
                      <a:pt x="25" y="529"/>
                    </a:lnTo>
                    <a:lnTo>
                      <a:pt x="21" y="533"/>
                    </a:lnTo>
                    <a:lnTo>
                      <a:pt x="25" y="540"/>
                    </a:lnTo>
                    <a:lnTo>
                      <a:pt x="25" y="540"/>
                    </a:lnTo>
                    <a:lnTo>
                      <a:pt x="29" y="544"/>
                    </a:lnTo>
                    <a:lnTo>
                      <a:pt x="36" y="548"/>
                    </a:lnTo>
                    <a:lnTo>
                      <a:pt x="43" y="551"/>
                    </a:lnTo>
                    <a:lnTo>
                      <a:pt x="43" y="551"/>
                    </a:lnTo>
                    <a:lnTo>
                      <a:pt x="43" y="551"/>
                    </a:lnTo>
                    <a:lnTo>
                      <a:pt x="50" y="551"/>
                    </a:lnTo>
                    <a:lnTo>
                      <a:pt x="50" y="544"/>
                    </a:lnTo>
                    <a:lnTo>
                      <a:pt x="50" y="551"/>
                    </a:lnTo>
                    <a:lnTo>
                      <a:pt x="58" y="555"/>
                    </a:lnTo>
                    <a:lnTo>
                      <a:pt x="58" y="555"/>
                    </a:lnTo>
                    <a:lnTo>
                      <a:pt x="58" y="555"/>
                    </a:lnTo>
                    <a:lnTo>
                      <a:pt x="69" y="555"/>
                    </a:lnTo>
                    <a:lnTo>
                      <a:pt x="76" y="555"/>
                    </a:lnTo>
                    <a:lnTo>
                      <a:pt x="83" y="555"/>
                    </a:lnTo>
                    <a:lnTo>
                      <a:pt x="87" y="555"/>
                    </a:lnTo>
                    <a:lnTo>
                      <a:pt x="87" y="555"/>
                    </a:lnTo>
                    <a:lnTo>
                      <a:pt x="98" y="551"/>
                    </a:lnTo>
                    <a:lnTo>
                      <a:pt x="105" y="548"/>
                    </a:lnTo>
                    <a:lnTo>
                      <a:pt x="105" y="548"/>
                    </a:lnTo>
                    <a:lnTo>
                      <a:pt x="105" y="544"/>
                    </a:lnTo>
                    <a:lnTo>
                      <a:pt x="112" y="537"/>
                    </a:lnTo>
                    <a:lnTo>
                      <a:pt x="119" y="529"/>
                    </a:lnTo>
                    <a:lnTo>
                      <a:pt x="123" y="526"/>
                    </a:lnTo>
                    <a:close/>
                    <a:moveTo>
                      <a:pt x="112" y="522"/>
                    </a:moveTo>
                    <a:lnTo>
                      <a:pt x="105" y="529"/>
                    </a:lnTo>
                    <a:lnTo>
                      <a:pt x="98" y="537"/>
                    </a:lnTo>
                    <a:lnTo>
                      <a:pt x="101" y="540"/>
                    </a:lnTo>
                    <a:lnTo>
                      <a:pt x="101" y="537"/>
                    </a:lnTo>
                    <a:lnTo>
                      <a:pt x="94" y="540"/>
                    </a:lnTo>
                    <a:lnTo>
                      <a:pt x="83" y="544"/>
                    </a:lnTo>
                    <a:lnTo>
                      <a:pt x="83" y="548"/>
                    </a:lnTo>
                    <a:lnTo>
                      <a:pt x="83" y="544"/>
                    </a:lnTo>
                    <a:lnTo>
                      <a:pt x="76" y="544"/>
                    </a:lnTo>
                    <a:lnTo>
                      <a:pt x="69" y="544"/>
                    </a:lnTo>
                    <a:lnTo>
                      <a:pt x="58" y="544"/>
                    </a:lnTo>
                    <a:lnTo>
                      <a:pt x="58" y="548"/>
                    </a:lnTo>
                    <a:lnTo>
                      <a:pt x="61" y="544"/>
                    </a:lnTo>
                    <a:lnTo>
                      <a:pt x="54" y="540"/>
                    </a:lnTo>
                    <a:lnTo>
                      <a:pt x="54" y="540"/>
                    </a:lnTo>
                    <a:lnTo>
                      <a:pt x="50" y="540"/>
                    </a:lnTo>
                    <a:lnTo>
                      <a:pt x="43" y="540"/>
                    </a:lnTo>
                    <a:lnTo>
                      <a:pt x="43" y="544"/>
                    </a:lnTo>
                    <a:lnTo>
                      <a:pt x="47" y="540"/>
                    </a:lnTo>
                    <a:lnTo>
                      <a:pt x="40" y="537"/>
                    </a:lnTo>
                    <a:lnTo>
                      <a:pt x="32" y="533"/>
                    </a:lnTo>
                    <a:lnTo>
                      <a:pt x="29" y="537"/>
                    </a:lnTo>
                    <a:lnTo>
                      <a:pt x="36" y="537"/>
                    </a:lnTo>
                    <a:lnTo>
                      <a:pt x="32" y="529"/>
                    </a:lnTo>
                    <a:lnTo>
                      <a:pt x="29" y="526"/>
                    </a:lnTo>
                    <a:lnTo>
                      <a:pt x="29" y="526"/>
                    </a:lnTo>
                    <a:lnTo>
                      <a:pt x="21" y="522"/>
                    </a:lnTo>
                    <a:lnTo>
                      <a:pt x="18" y="526"/>
                    </a:lnTo>
                    <a:lnTo>
                      <a:pt x="25" y="526"/>
                    </a:lnTo>
                    <a:lnTo>
                      <a:pt x="25" y="519"/>
                    </a:lnTo>
                    <a:lnTo>
                      <a:pt x="25" y="519"/>
                    </a:lnTo>
                    <a:lnTo>
                      <a:pt x="21" y="515"/>
                    </a:lnTo>
                    <a:lnTo>
                      <a:pt x="18" y="511"/>
                    </a:lnTo>
                    <a:lnTo>
                      <a:pt x="14" y="515"/>
                    </a:lnTo>
                    <a:lnTo>
                      <a:pt x="21" y="515"/>
                    </a:lnTo>
                    <a:lnTo>
                      <a:pt x="21" y="508"/>
                    </a:lnTo>
                    <a:lnTo>
                      <a:pt x="21" y="493"/>
                    </a:lnTo>
                    <a:lnTo>
                      <a:pt x="21" y="464"/>
                    </a:lnTo>
                    <a:lnTo>
                      <a:pt x="21" y="428"/>
                    </a:lnTo>
                    <a:lnTo>
                      <a:pt x="21" y="388"/>
                    </a:lnTo>
                    <a:lnTo>
                      <a:pt x="21" y="344"/>
                    </a:lnTo>
                    <a:lnTo>
                      <a:pt x="21" y="304"/>
                    </a:lnTo>
                    <a:lnTo>
                      <a:pt x="21" y="265"/>
                    </a:lnTo>
                    <a:lnTo>
                      <a:pt x="21" y="236"/>
                    </a:lnTo>
                    <a:lnTo>
                      <a:pt x="14" y="236"/>
                    </a:lnTo>
                    <a:lnTo>
                      <a:pt x="14" y="243"/>
                    </a:lnTo>
                    <a:lnTo>
                      <a:pt x="21" y="246"/>
                    </a:lnTo>
                    <a:lnTo>
                      <a:pt x="29" y="250"/>
                    </a:lnTo>
                    <a:lnTo>
                      <a:pt x="29" y="250"/>
                    </a:lnTo>
                    <a:lnTo>
                      <a:pt x="29" y="250"/>
                    </a:lnTo>
                    <a:lnTo>
                      <a:pt x="40" y="250"/>
                    </a:lnTo>
                    <a:lnTo>
                      <a:pt x="54" y="250"/>
                    </a:lnTo>
                    <a:lnTo>
                      <a:pt x="79" y="250"/>
                    </a:lnTo>
                    <a:lnTo>
                      <a:pt x="112" y="250"/>
                    </a:lnTo>
                    <a:lnTo>
                      <a:pt x="145" y="246"/>
                    </a:lnTo>
                    <a:lnTo>
                      <a:pt x="177" y="246"/>
                    </a:lnTo>
                    <a:lnTo>
                      <a:pt x="214" y="243"/>
                    </a:lnTo>
                    <a:lnTo>
                      <a:pt x="246" y="243"/>
                    </a:lnTo>
                    <a:lnTo>
                      <a:pt x="257" y="243"/>
                    </a:lnTo>
                    <a:lnTo>
                      <a:pt x="264" y="243"/>
                    </a:lnTo>
                    <a:lnTo>
                      <a:pt x="268" y="243"/>
                    </a:lnTo>
                    <a:lnTo>
                      <a:pt x="268" y="243"/>
                    </a:lnTo>
                    <a:lnTo>
                      <a:pt x="275" y="239"/>
                    </a:lnTo>
                    <a:lnTo>
                      <a:pt x="275" y="239"/>
                    </a:lnTo>
                    <a:lnTo>
                      <a:pt x="275" y="236"/>
                    </a:lnTo>
                    <a:lnTo>
                      <a:pt x="279" y="232"/>
                    </a:lnTo>
                    <a:lnTo>
                      <a:pt x="282" y="228"/>
                    </a:lnTo>
                    <a:lnTo>
                      <a:pt x="286" y="225"/>
                    </a:lnTo>
                    <a:lnTo>
                      <a:pt x="290" y="225"/>
                    </a:lnTo>
                    <a:lnTo>
                      <a:pt x="290" y="225"/>
                    </a:lnTo>
                    <a:lnTo>
                      <a:pt x="293" y="217"/>
                    </a:lnTo>
                    <a:lnTo>
                      <a:pt x="293" y="217"/>
                    </a:lnTo>
                    <a:lnTo>
                      <a:pt x="293" y="214"/>
                    </a:lnTo>
                    <a:lnTo>
                      <a:pt x="293" y="207"/>
                    </a:lnTo>
                    <a:lnTo>
                      <a:pt x="293" y="203"/>
                    </a:lnTo>
                    <a:lnTo>
                      <a:pt x="293" y="196"/>
                    </a:lnTo>
                    <a:lnTo>
                      <a:pt x="293" y="196"/>
                    </a:lnTo>
                    <a:lnTo>
                      <a:pt x="293" y="196"/>
                    </a:lnTo>
                    <a:lnTo>
                      <a:pt x="290" y="188"/>
                    </a:lnTo>
                    <a:lnTo>
                      <a:pt x="286" y="178"/>
                    </a:lnTo>
                    <a:lnTo>
                      <a:pt x="282" y="170"/>
                    </a:lnTo>
                    <a:lnTo>
                      <a:pt x="275" y="159"/>
                    </a:lnTo>
                    <a:lnTo>
                      <a:pt x="275" y="159"/>
                    </a:lnTo>
                    <a:lnTo>
                      <a:pt x="272" y="156"/>
                    </a:lnTo>
                    <a:lnTo>
                      <a:pt x="264" y="149"/>
                    </a:lnTo>
                    <a:lnTo>
                      <a:pt x="261" y="152"/>
                    </a:lnTo>
                    <a:lnTo>
                      <a:pt x="268" y="152"/>
                    </a:lnTo>
                    <a:lnTo>
                      <a:pt x="261" y="141"/>
                    </a:lnTo>
                    <a:lnTo>
                      <a:pt x="261" y="141"/>
                    </a:lnTo>
                    <a:lnTo>
                      <a:pt x="257" y="138"/>
                    </a:lnTo>
                    <a:lnTo>
                      <a:pt x="253" y="134"/>
                    </a:lnTo>
                    <a:lnTo>
                      <a:pt x="250" y="130"/>
                    </a:lnTo>
                    <a:lnTo>
                      <a:pt x="246" y="134"/>
                    </a:lnTo>
                    <a:lnTo>
                      <a:pt x="253" y="134"/>
                    </a:lnTo>
                    <a:lnTo>
                      <a:pt x="250" y="127"/>
                    </a:lnTo>
                    <a:lnTo>
                      <a:pt x="250" y="127"/>
                    </a:lnTo>
                    <a:lnTo>
                      <a:pt x="246" y="123"/>
                    </a:lnTo>
                    <a:lnTo>
                      <a:pt x="243" y="120"/>
                    </a:lnTo>
                    <a:lnTo>
                      <a:pt x="239" y="123"/>
                    </a:lnTo>
                    <a:lnTo>
                      <a:pt x="246" y="123"/>
                    </a:lnTo>
                    <a:lnTo>
                      <a:pt x="243" y="112"/>
                    </a:lnTo>
                    <a:lnTo>
                      <a:pt x="235" y="112"/>
                    </a:lnTo>
                    <a:lnTo>
                      <a:pt x="243" y="112"/>
                    </a:lnTo>
                    <a:lnTo>
                      <a:pt x="243" y="101"/>
                    </a:lnTo>
                    <a:lnTo>
                      <a:pt x="243" y="87"/>
                    </a:lnTo>
                    <a:lnTo>
                      <a:pt x="235" y="87"/>
                    </a:lnTo>
                    <a:lnTo>
                      <a:pt x="243" y="90"/>
                    </a:lnTo>
                    <a:lnTo>
                      <a:pt x="246" y="80"/>
                    </a:lnTo>
                    <a:lnTo>
                      <a:pt x="250" y="69"/>
                    </a:lnTo>
                    <a:lnTo>
                      <a:pt x="253" y="58"/>
                    </a:lnTo>
                    <a:lnTo>
                      <a:pt x="261" y="47"/>
                    </a:lnTo>
                    <a:lnTo>
                      <a:pt x="253" y="43"/>
                    </a:lnTo>
                    <a:lnTo>
                      <a:pt x="257" y="47"/>
                    </a:lnTo>
                    <a:lnTo>
                      <a:pt x="264" y="40"/>
                    </a:lnTo>
                    <a:lnTo>
                      <a:pt x="275" y="29"/>
                    </a:lnTo>
                    <a:lnTo>
                      <a:pt x="272" y="25"/>
                    </a:lnTo>
                    <a:lnTo>
                      <a:pt x="275" y="32"/>
                    </a:lnTo>
                    <a:lnTo>
                      <a:pt x="286" y="25"/>
                    </a:lnTo>
                    <a:lnTo>
                      <a:pt x="282" y="18"/>
                    </a:lnTo>
                    <a:lnTo>
                      <a:pt x="282" y="25"/>
                    </a:lnTo>
                    <a:lnTo>
                      <a:pt x="297" y="22"/>
                    </a:lnTo>
                    <a:lnTo>
                      <a:pt x="301" y="18"/>
                    </a:lnTo>
                    <a:lnTo>
                      <a:pt x="301" y="22"/>
                    </a:lnTo>
                    <a:lnTo>
                      <a:pt x="311" y="14"/>
                    </a:lnTo>
                    <a:lnTo>
                      <a:pt x="322" y="11"/>
                    </a:lnTo>
                    <a:lnTo>
                      <a:pt x="319" y="3"/>
                    </a:lnTo>
                    <a:lnTo>
                      <a:pt x="319" y="11"/>
                    </a:lnTo>
                    <a:lnTo>
                      <a:pt x="333" y="11"/>
                    </a:lnTo>
                    <a:lnTo>
                      <a:pt x="348" y="11"/>
                    </a:lnTo>
                    <a:lnTo>
                      <a:pt x="362" y="14"/>
                    </a:lnTo>
                    <a:lnTo>
                      <a:pt x="362" y="7"/>
                    </a:lnTo>
                    <a:lnTo>
                      <a:pt x="362" y="14"/>
                    </a:lnTo>
                    <a:lnTo>
                      <a:pt x="373" y="22"/>
                    </a:lnTo>
                    <a:lnTo>
                      <a:pt x="384" y="25"/>
                    </a:lnTo>
                    <a:lnTo>
                      <a:pt x="395" y="32"/>
                    </a:lnTo>
                    <a:lnTo>
                      <a:pt x="395" y="25"/>
                    </a:lnTo>
                    <a:lnTo>
                      <a:pt x="391" y="29"/>
                    </a:lnTo>
                    <a:lnTo>
                      <a:pt x="399" y="40"/>
                    </a:lnTo>
                    <a:lnTo>
                      <a:pt x="399" y="40"/>
                    </a:lnTo>
                    <a:lnTo>
                      <a:pt x="399" y="40"/>
                    </a:lnTo>
                    <a:lnTo>
                      <a:pt x="406" y="47"/>
                    </a:lnTo>
                    <a:lnTo>
                      <a:pt x="409" y="43"/>
                    </a:lnTo>
                    <a:lnTo>
                      <a:pt x="406" y="47"/>
                    </a:lnTo>
                    <a:lnTo>
                      <a:pt x="413" y="58"/>
                    </a:lnTo>
                    <a:lnTo>
                      <a:pt x="417" y="69"/>
                    </a:lnTo>
                    <a:lnTo>
                      <a:pt x="420" y="80"/>
                    </a:lnTo>
                    <a:lnTo>
                      <a:pt x="424" y="76"/>
                    </a:lnTo>
                    <a:lnTo>
                      <a:pt x="420" y="76"/>
                    </a:lnTo>
                    <a:lnTo>
                      <a:pt x="420" y="87"/>
                    </a:lnTo>
                    <a:lnTo>
                      <a:pt x="420" y="101"/>
                    </a:lnTo>
                    <a:lnTo>
                      <a:pt x="424" y="101"/>
                    </a:lnTo>
                    <a:lnTo>
                      <a:pt x="420" y="101"/>
                    </a:lnTo>
                    <a:lnTo>
                      <a:pt x="417" y="109"/>
                    </a:lnTo>
                    <a:lnTo>
                      <a:pt x="413" y="120"/>
                    </a:lnTo>
                    <a:lnTo>
                      <a:pt x="409" y="130"/>
                    </a:lnTo>
                    <a:lnTo>
                      <a:pt x="402" y="141"/>
                    </a:lnTo>
                    <a:lnTo>
                      <a:pt x="406" y="141"/>
                    </a:lnTo>
                    <a:lnTo>
                      <a:pt x="402" y="138"/>
                    </a:lnTo>
                    <a:lnTo>
                      <a:pt x="388" y="152"/>
                    </a:lnTo>
                    <a:lnTo>
                      <a:pt x="377" y="167"/>
                    </a:lnTo>
                    <a:lnTo>
                      <a:pt x="380" y="170"/>
                    </a:lnTo>
                    <a:lnTo>
                      <a:pt x="380" y="167"/>
                    </a:lnTo>
                    <a:lnTo>
                      <a:pt x="373" y="170"/>
                    </a:lnTo>
                    <a:lnTo>
                      <a:pt x="370" y="170"/>
                    </a:lnTo>
                    <a:lnTo>
                      <a:pt x="370" y="174"/>
                    </a:lnTo>
                    <a:lnTo>
                      <a:pt x="366" y="181"/>
                    </a:lnTo>
                    <a:lnTo>
                      <a:pt x="362" y="188"/>
                    </a:lnTo>
                    <a:lnTo>
                      <a:pt x="366" y="188"/>
                    </a:lnTo>
                    <a:lnTo>
                      <a:pt x="362" y="185"/>
                    </a:lnTo>
                    <a:lnTo>
                      <a:pt x="359" y="188"/>
                    </a:lnTo>
                    <a:lnTo>
                      <a:pt x="359" y="192"/>
                    </a:lnTo>
                    <a:lnTo>
                      <a:pt x="359" y="192"/>
                    </a:lnTo>
                    <a:lnTo>
                      <a:pt x="359" y="199"/>
                    </a:lnTo>
                    <a:lnTo>
                      <a:pt x="359" y="203"/>
                    </a:lnTo>
                    <a:lnTo>
                      <a:pt x="359" y="210"/>
                    </a:lnTo>
                    <a:lnTo>
                      <a:pt x="359" y="214"/>
                    </a:lnTo>
                    <a:lnTo>
                      <a:pt x="359" y="217"/>
                    </a:lnTo>
                    <a:lnTo>
                      <a:pt x="359" y="217"/>
                    </a:lnTo>
                    <a:lnTo>
                      <a:pt x="362" y="225"/>
                    </a:lnTo>
                    <a:lnTo>
                      <a:pt x="362" y="225"/>
                    </a:lnTo>
                    <a:lnTo>
                      <a:pt x="362" y="225"/>
                    </a:lnTo>
                    <a:lnTo>
                      <a:pt x="366" y="228"/>
                    </a:lnTo>
                    <a:lnTo>
                      <a:pt x="370" y="232"/>
                    </a:lnTo>
                    <a:lnTo>
                      <a:pt x="377" y="239"/>
                    </a:lnTo>
                    <a:lnTo>
                      <a:pt x="380" y="243"/>
                    </a:lnTo>
                    <a:lnTo>
                      <a:pt x="380" y="243"/>
                    </a:lnTo>
                    <a:lnTo>
                      <a:pt x="391" y="246"/>
                    </a:lnTo>
                    <a:lnTo>
                      <a:pt x="402" y="254"/>
                    </a:lnTo>
                    <a:lnTo>
                      <a:pt x="413" y="257"/>
                    </a:lnTo>
                    <a:lnTo>
                      <a:pt x="406" y="254"/>
                    </a:lnTo>
                    <a:lnTo>
                      <a:pt x="413" y="257"/>
                    </a:lnTo>
                    <a:lnTo>
                      <a:pt x="428" y="261"/>
                    </a:lnTo>
                    <a:lnTo>
                      <a:pt x="446" y="265"/>
                    </a:lnTo>
                    <a:lnTo>
                      <a:pt x="460" y="268"/>
                    </a:lnTo>
                    <a:lnTo>
                      <a:pt x="482" y="268"/>
                    </a:lnTo>
                    <a:lnTo>
                      <a:pt x="500" y="268"/>
                    </a:lnTo>
                    <a:lnTo>
                      <a:pt x="518" y="268"/>
                    </a:lnTo>
                    <a:lnTo>
                      <a:pt x="536" y="268"/>
                    </a:lnTo>
                    <a:lnTo>
                      <a:pt x="554" y="268"/>
                    </a:lnTo>
                    <a:lnTo>
                      <a:pt x="573" y="265"/>
                    </a:lnTo>
                    <a:lnTo>
                      <a:pt x="591" y="261"/>
                    </a:lnTo>
                    <a:lnTo>
                      <a:pt x="605" y="257"/>
                    </a:lnTo>
                    <a:lnTo>
                      <a:pt x="609" y="254"/>
                    </a:lnTo>
                    <a:lnTo>
                      <a:pt x="609" y="257"/>
                    </a:lnTo>
                    <a:lnTo>
                      <a:pt x="623" y="250"/>
                    </a:lnTo>
                    <a:lnTo>
                      <a:pt x="634" y="243"/>
                    </a:lnTo>
                    <a:lnTo>
                      <a:pt x="631" y="236"/>
                    </a:lnTo>
                    <a:lnTo>
                      <a:pt x="627" y="236"/>
                    </a:lnTo>
                    <a:lnTo>
                      <a:pt x="627" y="243"/>
                    </a:lnTo>
                    <a:lnTo>
                      <a:pt x="627" y="254"/>
                    </a:lnTo>
                    <a:lnTo>
                      <a:pt x="627" y="268"/>
                    </a:lnTo>
                    <a:lnTo>
                      <a:pt x="627" y="283"/>
                    </a:lnTo>
                    <a:lnTo>
                      <a:pt x="631" y="319"/>
                    </a:lnTo>
                    <a:lnTo>
                      <a:pt x="634" y="363"/>
                    </a:lnTo>
                    <a:lnTo>
                      <a:pt x="638" y="384"/>
                    </a:lnTo>
                    <a:lnTo>
                      <a:pt x="638" y="402"/>
                    </a:lnTo>
                    <a:lnTo>
                      <a:pt x="641" y="424"/>
                    </a:lnTo>
                    <a:lnTo>
                      <a:pt x="641" y="442"/>
                    </a:lnTo>
                    <a:lnTo>
                      <a:pt x="641" y="457"/>
                    </a:lnTo>
                    <a:lnTo>
                      <a:pt x="645" y="457"/>
                    </a:lnTo>
                    <a:lnTo>
                      <a:pt x="641" y="457"/>
                    </a:lnTo>
                    <a:lnTo>
                      <a:pt x="638" y="471"/>
                    </a:lnTo>
                    <a:lnTo>
                      <a:pt x="634" y="479"/>
                    </a:lnTo>
                    <a:lnTo>
                      <a:pt x="634" y="479"/>
                    </a:lnTo>
                    <a:lnTo>
                      <a:pt x="634" y="479"/>
                    </a:lnTo>
                    <a:lnTo>
                      <a:pt x="634" y="482"/>
                    </a:lnTo>
                    <a:lnTo>
                      <a:pt x="638" y="482"/>
                    </a:lnTo>
                    <a:lnTo>
                      <a:pt x="634" y="479"/>
                    </a:lnTo>
                    <a:lnTo>
                      <a:pt x="631" y="482"/>
                    </a:lnTo>
                    <a:lnTo>
                      <a:pt x="627" y="486"/>
                    </a:lnTo>
                    <a:lnTo>
                      <a:pt x="623" y="489"/>
                    </a:lnTo>
                    <a:lnTo>
                      <a:pt x="627" y="493"/>
                    </a:lnTo>
                    <a:lnTo>
                      <a:pt x="627" y="489"/>
                    </a:lnTo>
                    <a:lnTo>
                      <a:pt x="620" y="493"/>
                    </a:lnTo>
                    <a:lnTo>
                      <a:pt x="612" y="497"/>
                    </a:lnTo>
                    <a:lnTo>
                      <a:pt x="612" y="500"/>
                    </a:lnTo>
                    <a:lnTo>
                      <a:pt x="612" y="497"/>
                    </a:lnTo>
                    <a:lnTo>
                      <a:pt x="609" y="497"/>
                    </a:lnTo>
                    <a:lnTo>
                      <a:pt x="609" y="497"/>
                    </a:lnTo>
                    <a:lnTo>
                      <a:pt x="609" y="497"/>
                    </a:lnTo>
                    <a:lnTo>
                      <a:pt x="602" y="500"/>
                    </a:lnTo>
                    <a:lnTo>
                      <a:pt x="602" y="504"/>
                    </a:lnTo>
                    <a:lnTo>
                      <a:pt x="602" y="500"/>
                    </a:lnTo>
                    <a:lnTo>
                      <a:pt x="594" y="500"/>
                    </a:lnTo>
                    <a:lnTo>
                      <a:pt x="594" y="504"/>
                    </a:lnTo>
                    <a:lnTo>
                      <a:pt x="598" y="500"/>
                    </a:lnTo>
                    <a:lnTo>
                      <a:pt x="594" y="497"/>
                    </a:lnTo>
                    <a:lnTo>
                      <a:pt x="594" y="497"/>
                    </a:lnTo>
                    <a:lnTo>
                      <a:pt x="591" y="497"/>
                    </a:lnTo>
                    <a:lnTo>
                      <a:pt x="583" y="497"/>
                    </a:lnTo>
                    <a:lnTo>
                      <a:pt x="569" y="493"/>
                    </a:lnTo>
                    <a:lnTo>
                      <a:pt x="569" y="497"/>
                    </a:lnTo>
                    <a:lnTo>
                      <a:pt x="573" y="493"/>
                    </a:lnTo>
                    <a:lnTo>
                      <a:pt x="562" y="486"/>
                    </a:lnTo>
                    <a:lnTo>
                      <a:pt x="551" y="479"/>
                    </a:lnTo>
                    <a:lnTo>
                      <a:pt x="536" y="471"/>
                    </a:lnTo>
                    <a:lnTo>
                      <a:pt x="525" y="468"/>
                    </a:lnTo>
                    <a:lnTo>
                      <a:pt x="511" y="460"/>
                    </a:lnTo>
                    <a:lnTo>
                      <a:pt x="511" y="460"/>
                    </a:lnTo>
                    <a:lnTo>
                      <a:pt x="507" y="460"/>
                    </a:lnTo>
                    <a:lnTo>
                      <a:pt x="500" y="460"/>
                    </a:lnTo>
                    <a:lnTo>
                      <a:pt x="500" y="464"/>
                    </a:lnTo>
                    <a:lnTo>
                      <a:pt x="504" y="460"/>
                    </a:lnTo>
                    <a:lnTo>
                      <a:pt x="496" y="457"/>
                    </a:lnTo>
                    <a:lnTo>
                      <a:pt x="496" y="457"/>
                    </a:lnTo>
                    <a:lnTo>
                      <a:pt x="493" y="457"/>
                    </a:lnTo>
                    <a:lnTo>
                      <a:pt x="489" y="457"/>
                    </a:lnTo>
                    <a:lnTo>
                      <a:pt x="482" y="457"/>
                    </a:lnTo>
                    <a:lnTo>
                      <a:pt x="482" y="457"/>
                    </a:lnTo>
                    <a:lnTo>
                      <a:pt x="482" y="457"/>
                    </a:lnTo>
                    <a:lnTo>
                      <a:pt x="475" y="460"/>
                    </a:lnTo>
                    <a:lnTo>
                      <a:pt x="467" y="464"/>
                    </a:lnTo>
                    <a:lnTo>
                      <a:pt x="460" y="468"/>
                    </a:lnTo>
                    <a:lnTo>
                      <a:pt x="453" y="471"/>
                    </a:lnTo>
                    <a:lnTo>
                      <a:pt x="446" y="475"/>
                    </a:lnTo>
                    <a:lnTo>
                      <a:pt x="446" y="475"/>
                    </a:lnTo>
                    <a:lnTo>
                      <a:pt x="442" y="475"/>
                    </a:lnTo>
                    <a:lnTo>
                      <a:pt x="435" y="482"/>
                    </a:lnTo>
                    <a:lnTo>
                      <a:pt x="435" y="486"/>
                    </a:lnTo>
                    <a:lnTo>
                      <a:pt x="435" y="486"/>
                    </a:lnTo>
                    <a:lnTo>
                      <a:pt x="428" y="497"/>
                    </a:lnTo>
                    <a:lnTo>
                      <a:pt x="424" y="508"/>
                    </a:lnTo>
                    <a:lnTo>
                      <a:pt x="420" y="515"/>
                    </a:lnTo>
                    <a:lnTo>
                      <a:pt x="417" y="522"/>
                    </a:lnTo>
                    <a:lnTo>
                      <a:pt x="417" y="522"/>
                    </a:lnTo>
                    <a:lnTo>
                      <a:pt x="417" y="522"/>
                    </a:lnTo>
                    <a:lnTo>
                      <a:pt x="417" y="529"/>
                    </a:lnTo>
                    <a:lnTo>
                      <a:pt x="417" y="540"/>
                    </a:lnTo>
                    <a:lnTo>
                      <a:pt x="417" y="548"/>
                    </a:lnTo>
                    <a:lnTo>
                      <a:pt x="417" y="551"/>
                    </a:lnTo>
                    <a:lnTo>
                      <a:pt x="417" y="551"/>
                    </a:lnTo>
                    <a:lnTo>
                      <a:pt x="420" y="562"/>
                    </a:lnTo>
                    <a:lnTo>
                      <a:pt x="424" y="573"/>
                    </a:lnTo>
                    <a:lnTo>
                      <a:pt x="424" y="573"/>
                    </a:lnTo>
                    <a:lnTo>
                      <a:pt x="424" y="573"/>
                    </a:lnTo>
                    <a:lnTo>
                      <a:pt x="431" y="580"/>
                    </a:lnTo>
                    <a:lnTo>
                      <a:pt x="435" y="577"/>
                    </a:lnTo>
                    <a:lnTo>
                      <a:pt x="431" y="580"/>
                    </a:lnTo>
                    <a:lnTo>
                      <a:pt x="438" y="591"/>
                    </a:lnTo>
                    <a:lnTo>
                      <a:pt x="438" y="591"/>
                    </a:lnTo>
                    <a:lnTo>
                      <a:pt x="438" y="591"/>
                    </a:lnTo>
                    <a:lnTo>
                      <a:pt x="446" y="598"/>
                    </a:lnTo>
                    <a:lnTo>
                      <a:pt x="449" y="602"/>
                    </a:lnTo>
                    <a:lnTo>
                      <a:pt x="449" y="602"/>
                    </a:lnTo>
                    <a:lnTo>
                      <a:pt x="457" y="606"/>
                    </a:lnTo>
                    <a:lnTo>
                      <a:pt x="457" y="606"/>
                    </a:lnTo>
                    <a:lnTo>
                      <a:pt x="457" y="606"/>
                    </a:lnTo>
                    <a:lnTo>
                      <a:pt x="460" y="606"/>
                    </a:lnTo>
                    <a:lnTo>
                      <a:pt x="460" y="598"/>
                    </a:lnTo>
                    <a:lnTo>
                      <a:pt x="460" y="606"/>
                    </a:lnTo>
                    <a:lnTo>
                      <a:pt x="467" y="609"/>
                    </a:lnTo>
                    <a:lnTo>
                      <a:pt x="467" y="609"/>
                    </a:lnTo>
                    <a:lnTo>
                      <a:pt x="467" y="609"/>
                    </a:lnTo>
                    <a:lnTo>
                      <a:pt x="471" y="609"/>
                    </a:lnTo>
                    <a:lnTo>
                      <a:pt x="471" y="602"/>
                    </a:lnTo>
                    <a:lnTo>
                      <a:pt x="471" y="609"/>
                    </a:lnTo>
                    <a:lnTo>
                      <a:pt x="482" y="613"/>
                    </a:lnTo>
                    <a:lnTo>
                      <a:pt x="482" y="613"/>
                    </a:lnTo>
                    <a:lnTo>
                      <a:pt x="482" y="613"/>
                    </a:lnTo>
                    <a:lnTo>
                      <a:pt x="486" y="613"/>
                    </a:lnTo>
                    <a:lnTo>
                      <a:pt x="493" y="613"/>
                    </a:lnTo>
                    <a:lnTo>
                      <a:pt x="504" y="613"/>
                    </a:lnTo>
                    <a:lnTo>
                      <a:pt x="511" y="613"/>
                    </a:lnTo>
                    <a:lnTo>
                      <a:pt x="515" y="613"/>
                    </a:lnTo>
                    <a:lnTo>
                      <a:pt x="515" y="613"/>
                    </a:lnTo>
                    <a:lnTo>
                      <a:pt x="525" y="609"/>
                    </a:lnTo>
                    <a:lnTo>
                      <a:pt x="522" y="602"/>
                    </a:lnTo>
                    <a:lnTo>
                      <a:pt x="522" y="609"/>
                    </a:lnTo>
                    <a:lnTo>
                      <a:pt x="529" y="609"/>
                    </a:lnTo>
                    <a:lnTo>
                      <a:pt x="533" y="609"/>
                    </a:lnTo>
                    <a:lnTo>
                      <a:pt x="533" y="609"/>
                    </a:lnTo>
                    <a:lnTo>
                      <a:pt x="544" y="606"/>
                    </a:lnTo>
                    <a:lnTo>
                      <a:pt x="558" y="598"/>
                    </a:lnTo>
                    <a:lnTo>
                      <a:pt x="554" y="591"/>
                    </a:lnTo>
                    <a:lnTo>
                      <a:pt x="554" y="598"/>
                    </a:lnTo>
                    <a:lnTo>
                      <a:pt x="569" y="595"/>
                    </a:lnTo>
                    <a:lnTo>
                      <a:pt x="583" y="591"/>
                    </a:lnTo>
                    <a:lnTo>
                      <a:pt x="594" y="591"/>
                    </a:lnTo>
                    <a:lnTo>
                      <a:pt x="602" y="591"/>
                    </a:lnTo>
                    <a:lnTo>
                      <a:pt x="602" y="584"/>
                    </a:lnTo>
                    <a:lnTo>
                      <a:pt x="598" y="587"/>
                    </a:lnTo>
                    <a:lnTo>
                      <a:pt x="602" y="591"/>
                    </a:lnTo>
                    <a:lnTo>
                      <a:pt x="605" y="595"/>
                    </a:lnTo>
                    <a:lnTo>
                      <a:pt x="605" y="595"/>
                    </a:lnTo>
                    <a:lnTo>
                      <a:pt x="609" y="595"/>
                    </a:lnTo>
                    <a:lnTo>
                      <a:pt x="609" y="587"/>
                    </a:lnTo>
                    <a:lnTo>
                      <a:pt x="609" y="595"/>
                    </a:lnTo>
                    <a:lnTo>
                      <a:pt x="616" y="598"/>
                    </a:lnTo>
                    <a:lnTo>
                      <a:pt x="616" y="591"/>
                    </a:lnTo>
                    <a:lnTo>
                      <a:pt x="612" y="595"/>
                    </a:lnTo>
                    <a:lnTo>
                      <a:pt x="616" y="598"/>
                    </a:lnTo>
                    <a:lnTo>
                      <a:pt x="620" y="595"/>
                    </a:lnTo>
                    <a:lnTo>
                      <a:pt x="616" y="598"/>
                    </a:lnTo>
                    <a:lnTo>
                      <a:pt x="620" y="606"/>
                    </a:lnTo>
                    <a:lnTo>
                      <a:pt x="620" y="606"/>
                    </a:lnTo>
                    <a:lnTo>
                      <a:pt x="620" y="606"/>
                    </a:lnTo>
                    <a:lnTo>
                      <a:pt x="623" y="609"/>
                    </a:lnTo>
                    <a:lnTo>
                      <a:pt x="627" y="606"/>
                    </a:lnTo>
                    <a:lnTo>
                      <a:pt x="623" y="609"/>
                    </a:lnTo>
                    <a:lnTo>
                      <a:pt x="627" y="620"/>
                    </a:lnTo>
                    <a:lnTo>
                      <a:pt x="631" y="627"/>
                    </a:lnTo>
                    <a:lnTo>
                      <a:pt x="634" y="638"/>
                    </a:lnTo>
                    <a:lnTo>
                      <a:pt x="638" y="649"/>
                    </a:lnTo>
                    <a:lnTo>
                      <a:pt x="641" y="660"/>
                    </a:lnTo>
                    <a:lnTo>
                      <a:pt x="645" y="656"/>
                    </a:lnTo>
                    <a:lnTo>
                      <a:pt x="641" y="656"/>
                    </a:lnTo>
                    <a:lnTo>
                      <a:pt x="641" y="671"/>
                    </a:lnTo>
                    <a:lnTo>
                      <a:pt x="641" y="674"/>
                    </a:lnTo>
                    <a:lnTo>
                      <a:pt x="641" y="674"/>
                    </a:lnTo>
                    <a:lnTo>
                      <a:pt x="645" y="689"/>
                    </a:lnTo>
                    <a:lnTo>
                      <a:pt x="649" y="685"/>
                    </a:lnTo>
                    <a:lnTo>
                      <a:pt x="645" y="685"/>
                    </a:lnTo>
                    <a:lnTo>
                      <a:pt x="645" y="700"/>
                    </a:lnTo>
                    <a:lnTo>
                      <a:pt x="645" y="714"/>
                    </a:lnTo>
                    <a:lnTo>
                      <a:pt x="645" y="729"/>
                    </a:lnTo>
                    <a:lnTo>
                      <a:pt x="645" y="743"/>
                    </a:lnTo>
                    <a:lnTo>
                      <a:pt x="645" y="758"/>
                    </a:lnTo>
                    <a:lnTo>
                      <a:pt x="649" y="758"/>
                    </a:lnTo>
                    <a:lnTo>
                      <a:pt x="645" y="758"/>
                    </a:lnTo>
                    <a:lnTo>
                      <a:pt x="641" y="772"/>
                    </a:lnTo>
                    <a:lnTo>
                      <a:pt x="638" y="787"/>
                    </a:lnTo>
                    <a:lnTo>
                      <a:pt x="634" y="801"/>
                    </a:lnTo>
                    <a:lnTo>
                      <a:pt x="631" y="816"/>
                    </a:lnTo>
                    <a:lnTo>
                      <a:pt x="623" y="827"/>
                    </a:lnTo>
                    <a:lnTo>
                      <a:pt x="627" y="827"/>
                    </a:lnTo>
                    <a:lnTo>
                      <a:pt x="627" y="823"/>
                    </a:lnTo>
                    <a:lnTo>
                      <a:pt x="594" y="823"/>
                    </a:lnTo>
                    <a:lnTo>
                      <a:pt x="565" y="820"/>
                    </a:lnTo>
                    <a:lnTo>
                      <a:pt x="536" y="820"/>
                    </a:lnTo>
                    <a:lnTo>
                      <a:pt x="507" y="816"/>
                    </a:lnTo>
                    <a:lnTo>
                      <a:pt x="482" y="812"/>
                    </a:lnTo>
                    <a:lnTo>
                      <a:pt x="464" y="812"/>
                    </a:lnTo>
                    <a:lnTo>
                      <a:pt x="446" y="809"/>
                    </a:lnTo>
                    <a:lnTo>
                      <a:pt x="435" y="809"/>
                    </a:lnTo>
                    <a:lnTo>
                      <a:pt x="431" y="809"/>
                    </a:lnTo>
                    <a:lnTo>
                      <a:pt x="431" y="809"/>
                    </a:lnTo>
                    <a:lnTo>
                      <a:pt x="431" y="809"/>
                    </a:lnTo>
                    <a:lnTo>
                      <a:pt x="424" y="812"/>
                    </a:lnTo>
                    <a:lnTo>
                      <a:pt x="417" y="816"/>
                    </a:lnTo>
                    <a:lnTo>
                      <a:pt x="413" y="816"/>
                    </a:lnTo>
                    <a:lnTo>
                      <a:pt x="413" y="820"/>
                    </a:lnTo>
                    <a:lnTo>
                      <a:pt x="409" y="827"/>
                    </a:lnTo>
                    <a:lnTo>
                      <a:pt x="413" y="827"/>
                    </a:lnTo>
                    <a:lnTo>
                      <a:pt x="413" y="823"/>
                    </a:lnTo>
                    <a:lnTo>
                      <a:pt x="406" y="827"/>
                    </a:lnTo>
                    <a:lnTo>
                      <a:pt x="402" y="827"/>
                    </a:lnTo>
                    <a:lnTo>
                      <a:pt x="402" y="830"/>
                    </a:lnTo>
                    <a:lnTo>
                      <a:pt x="399" y="838"/>
                    </a:lnTo>
                    <a:lnTo>
                      <a:pt x="395" y="849"/>
                    </a:lnTo>
                    <a:lnTo>
                      <a:pt x="391" y="856"/>
                    </a:lnTo>
                    <a:lnTo>
                      <a:pt x="391" y="856"/>
                    </a:lnTo>
                    <a:lnTo>
                      <a:pt x="391" y="856"/>
                    </a:lnTo>
                    <a:lnTo>
                      <a:pt x="391" y="867"/>
                    </a:lnTo>
                    <a:lnTo>
                      <a:pt x="391" y="874"/>
                    </a:lnTo>
                    <a:lnTo>
                      <a:pt x="391" y="885"/>
                    </a:lnTo>
                    <a:lnTo>
                      <a:pt x="391" y="896"/>
                    </a:lnTo>
                    <a:lnTo>
                      <a:pt x="391" y="899"/>
                    </a:lnTo>
                    <a:lnTo>
                      <a:pt x="391" y="899"/>
                    </a:lnTo>
                    <a:lnTo>
                      <a:pt x="395" y="910"/>
                    </a:lnTo>
                    <a:lnTo>
                      <a:pt x="402" y="921"/>
                    </a:lnTo>
                    <a:lnTo>
                      <a:pt x="406" y="928"/>
                    </a:lnTo>
                    <a:lnTo>
                      <a:pt x="413" y="939"/>
                    </a:lnTo>
                    <a:lnTo>
                      <a:pt x="413" y="939"/>
                    </a:lnTo>
                    <a:lnTo>
                      <a:pt x="417" y="943"/>
                    </a:lnTo>
                    <a:lnTo>
                      <a:pt x="428" y="950"/>
                    </a:lnTo>
                    <a:lnTo>
                      <a:pt x="428" y="943"/>
                    </a:lnTo>
                    <a:lnTo>
                      <a:pt x="424" y="947"/>
                    </a:lnTo>
                    <a:lnTo>
                      <a:pt x="431" y="957"/>
                    </a:lnTo>
                    <a:lnTo>
                      <a:pt x="435" y="968"/>
                    </a:lnTo>
                    <a:lnTo>
                      <a:pt x="438" y="979"/>
                    </a:lnTo>
                    <a:lnTo>
                      <a:pt x="442" y="990"/>
                    </a:lnTo>
                    <a:lnTo>
                      <a:pt x="446" y="986"/>
                    </a:lnTo>
                    <a:lnTo>
                      <a:pt x="442" y="986"/>
                    </a:lnTo>
                    <a:lnTo>
                      <a:pt x="438" y="997"/>
                    </a:lnTo>
                    <a:lnTo>
                      <a:pt x="438" y="997"/>
                    </a:lnTo>
                    <a:lnTo>
                      <a:pt x="438" y="997"/>
                    </a:lnTo>
                    <a:lnTo>
                      <a:pt x="438" y="1008"/>
                    </a:lnTo>
                    <a:lnTo>
                      <a:pt x="442" y="1008"/>
                    </a:lnTo>
                    <a:lnTo>
                      <a:pt x="438" y="1008"/>
                    </a:lnTo>
                    <a:lnTo>
                      <a:pt x="435" y="1019"/>
                    </a:lnTo>
                    <a:lnTo>
                      <a:pt x="431" y="1030"/>
                    </a:lnTo>
                    <a:lnTo>
                      <a:pt x="435" y="1030"/>
                    </a:lnTo>
                    <a:lnTo>
                      <a:pt x="431" y="1026"/>
                    </a:lnTo>
                    <a:lnTo>
                      <a:pt x="424" y="1034"/>
                    </a:lnTo>
                    <a:lnTo>
                      <a:pt x="428" y="1037"/>
                    </a:lnTo>
                    <a:lnTo>
                      <a:pt x="428" y="1034"/>
                    </a:lnTo>
                    <a:lnTo>
                      <a:pt x="417" y="1041"/>
                    </a:lnTo>
                    <a:lnTo>
                      <a:pt x="417" y="1041"/>
                    </a:lnTo>
                    <a:lnTo>
                      <a:pt x="413" y="1041"/>
                    </a:lnTo>
                    <a:lnTo>
                      <a:pt x="402" y="1052"/>
                    </a:lnTo>
                    <a:lnTo>
                      <a:pt x="406" y="1055"/>
                    </a:lnTo>
                    <a:lnTo>
                      <a:pt x="406" y="1052"/>
                    </a:lnTo>
                    <a:lnTo>
                      <a:pt x="395" y="1055"/>
                    </a:lnTo>
                    <a:lnTo>
                      <a:pt x="384" y="1063"/>
                    </a:lnTo>
                    <a:lnTo>
                      <a:pt x="384" y="1066"/>
                    </a:lnTo>
                    <a:lnTo>
                      <a:pt x="384" y="1063"/>
                    </a:lnTo>
                    <a:lnTo>
                      <a:pt x="370" y="1066"/>
                    </a:lnTo>
                    <a:lnTo>
                      <a:pt x="351" y="1066"/>
                    </a:lnTo>
                    <a:lnTo>
                      <a:pt x="344" y="1066"/>
                    </a:lnTo>
                    <a:lnTo>
                      <a:pt x="337" y="1066"/>
                    </a:lnTo>
                    <a:lnTo>
                      <a:pt x="330" y="1066"/>
                    </a:lnTo>
                    <a:lnTo>
                      <a:pt x="330" y="1070"/>
                    </a:lnTo>
                    <a:lnTo>
                      <a:pt x="333" y="1066"/>
                    </a:lnTo>
                    <a:lnTo>
                      <a:pt x="326" y="1063"/>
                    </a:lnTo>
                    <a:lnTo>
                      <a:pt x="319" y="1059"/>
                    </a:lnTo>
                    <a:lnTo>
                      <a:pt x="319" y="1059"/>
                    </a:lnTo>
                    <a:lnTo>
                      <a:pt x="315" y="1059"/>
                    </a:lnTo>
                    <a:lnTo>
                      <a:pt x="311" y="1059"/>
                    </a:lnTo>
                    <a:lnTo>
                      <a:pt x="311" y="1063"/>
                    </a:lnTo>
                    <a:lnTo>
                      <a:pt x="315" y="1059"/>
                    </a:lnTo>
                    <a:lnTo>
                      <a:pt x="308" y="1055"/>
                    </a:lnTo>
                    <a:lnTo>
                      <a:pt x="301" y="1052"/>
                    </a:lnTo>
                    <a:lnTo>
                      <a:pt x="297" y="1055"/>
                    </a:lnTo>
                    <a:lnTo>
                      <a:pt x="304" y="1055"/>
                    </a:lnTo>
                    <a:lnTo>
                      <a:pt x="297" y="1044"/>
                    </a:lnTo>
                    <a:lnTo>
                      <a:pt x="297" y="1044"/>
                    </a:lnTo>
                    <a:lnTo>
                      <a:pt x="293" y="1041"/>
                    </a:lnTo>
                    <a:lnTo>
                      <a:pt x="286" y="1034"/>
                    </a:lnTo>
                    <a:lnTo>
                      <a:pt x="282" y="1037"/>
                    </a:lnTo>
                    <a:lnTo>
                      <a:pt x="290" y="1037"/>
                    </a:lnTo>
                    <a:lnTo>
                      <a:pt x="282" y="1026"/>
                    </a:lnTo>
                    <a:lnTo>
                      <a:pt x="275" y="1015"/>
                    </a:lnTo>
                    <a:lnTo>
                      <a:pt x="272" y="1005"/>
                    </a:lnTo>
                    <a:lnTo>
                      <a:pt x="264" y="1005"/>
                    </a:lnTo>
                    <a:lnTo>
                      <a:pt x="272" y="1005"/>
                    </a:lnTo>
                    <a:lnTo>
                      <a:pt x="272" y="994"/>
                    </a:lnTo>
                    <a:lnTo>
                      <a:pt x="272" y="979"/>
                    </a:lnTo>
                    <a:lnTo>
                      <a:pt x="272" y="968"/>
                    </a:lnTo>
                    <a:lnTo>
                      <a:pt x="264" y="968"/>
                    </a:lnTo>
                    <a:lnTo>
                      <a:pt x="272" y="972"/>
                    </a:lnTo>
                    <a:lnTo>
                      <a:pt x="275" y="961"/>
                    </a:lnTo>
                    <a:lnTo>
                      <a:pt x="279" y="950"/>
                    </a:lnTo>
                    <a:lnTo>
                      <a:pt x="282" y="943"/>
                    </a:lnTo>
                    <a:lnTo>
                      <a:pt x="290" y="932"/>
                    </a:lnTo>
                    <a:lnTo>
                      <a:pt x="282" y="928"/>
                    </a:lnTo>
                    <a:lnTo>
                      <a:pt x="286" y="936"/>
                    </a:lnTo>
                    <a:lnTo>
                      <a:pt x="293" y="932"/>
                    </a:lnTo>
                    <a:lnTo>
                      <a:pt x="293" y="932"/>
                    </a:lnTo>
                    <a:lnTo>
                      <a:pt x="293" y="928"/>
                    </a:lnTo>
                    <a:lnTo>
                      <a:pt x="301" y="921"/>
                    </a:lnTo>
                    <a:lnTo>
                      <a:pt x="304" y="921"/>
                    </a:lnTo>
                    <a:lnTo>
                      <a:pt x="304" y="921"/>
                    </a:lnTo>
                    <a:lnTo>
                      <a:pt x="308" y="914"/>
                    </a:lnTo>
                    <a:lnTo>
                      <a:pt x="311" y="907"/>
                    </a:lnTo>
                    <a:lnTo>
                      <a:pt x="311" y="907"/>
                    </a:lnTo>
                    <a:lnTo>
                      <a:pt x="311" y="903"/>
                    </a:lnTo>
                    <a:lnTo>
                      <a:pt x="311" y="896"/>
                    </a:lnTo>
                    <a:lnTo>
                      <a:pt x="311" y="888"/>
                    </a:lnTo>
                    <a:lnTo>
                      <a:pt x="311" y="881"/>
                    </a:lnTo>
                    <a:lnTo>
                      <a:pt x="311" y="874"/>
                    </a:lnTo>
                    <a:lnTo>
                      <a:pt x="311" y="874"/>
                    </a:lnTo>
                    <a:lnTo>
                      <a:pt x="311" y="874"/>
                    </a:lnTo>
                    <a:lnTo>
                      <a:pt x="308" y="867"/>
                    </a:lnTo>
                    <a:lnTo>
                      <a:pt x="308" y="867"/>
                    </a:lnTo>
                    <a:lnTo>
                      <a:pt x="304" y="863"/>
                    </a:lnTo>
                    <a:lnTo>
                      <a:pt x="297" y="856"/>
                    </a:lnTo>
                    <a:lnTo>
                      <a:pt x="290" y="849"/>
                    </a:lnTo>
                    <a:lnTo>
                      <a:pt x="290" y="849"/>
                    </a:lnTo>
                    <a:lnTo>
                      <a:pt x="290" y="849"/>
                    </a:lnTo>
                    <a:lnTo>
                      <a:pt x="282" y="845"/>
                    </a:lnTo>
                    <a:lnTo>
                      <a:pt x="272" y="838"/>
                    </a:lnTo>
                    <a:lnTo>
                      <a:pt x="257" y="830"/>
                    </a:lnTo>
                    <a:lnTo>
                      <a:pt x="257" y="830"/>
                    </a:lnTo>
                    <a:lnTo>
                      <a:pt x="253" y="830"/>
                    </a:lnTo>
                    <a:lnTo>
                      <a:pt x="239" y="827"/>
                    </a:lnTo>
                    <a:lnTo>
                      <a:pt x="221" y="823"/>
                    </a:lnTo>
                    <a:lnTo>
                      <a:pt x="203" y="823"/>
                    </a:lnTo>
                    <a:lnTo>
                      <a:pt x="177" y="820"/>
                    </a:lnTo>
                    <a:lnTo>
                      <a:pt x="152" y="820"/>
                    </a:lnTo>
                    <a:lnTo>
                      <a:pt x="119" y="823"/>
                    </a:lnTo>
                    <a:lnTo>
                      <a:pt x="87" y="823"/>
                    </a:lnTo>
                    <a:lnTo>
                      <a:pt x="58" y="827"/>
                    </a:lnTo>
                    <a:lnTo>
                      <a:pt x="32" y="830"/>
                    </a:lnTo>
                    <a:lnTo>
                      <a:pt x="14" y="834"/>
                    </a:lnTo>
                    <a:lnTo>
                      <a:pt x="14" y="838"/>
                    </a:lnTo>
                    <a:lnTo>
                      <a:pt x="21" y="838"/>
                    </a:lnTo>
                    <a:lnTo>
                      <a:pt x="18" y="830"/>
                    </a:lnTo>
                    <a:lnTo>
                      <a:pt x="14" y="820"/>
                    </a:lnTo>
                    <a:lnTo>
                      <a:pt x="7" y="820"/>
                    </a:lnTo>
                    <a:lnTo>
                      <a:pt x="14" y="820"/>
                    </a:lnTo>
                    <a:lnTo>
                      <a:pt x="14" y="809"/>
                    </a:lnTo>
                    <a:lnTo>
                      <a:pt x="14" y="809"/>
                    </a:lnTo>
                    <a:lnTo>
                      <a:pt x="14" y="809"/>
                    </a:lnTo>
                    <a:lnTo>
                      <a:pt x="11" y="798"/>
                    </a:lnTo>
                    <a:lnTo>
                      <a:pt x="3" y="798"/>
                    </a:lnTo>
                    <a:lnTo>
                      <a:pt x="11" y="798"/>
                    </a:lnTo>
                    <a:lnTo>
                      <a:pt x="11" y="772"/>
                    </a:lnTo>
                    <a:lnTo>
                      <a:pt x="11" y="743"/>
                    </a:lnTo>
                    <a:lnTo>
                      <a:pt x="11" y="718"/>
                    </a:lnTo>
                    <a:lnTo>
                      <a:pt x="14" y="693"/>
                    </a:lnTo>
                    <a:lnTo>
                      <a:pt x="18" y="667"/>
                    </a:lnTo>
                    <a:lnTo>
                      <a:pt x="21" y="645"/>
                    </a:lnTo>
                    <a:lnTo>
                      <a:pt x="21" y="635"/>
                    </a:lnTo>
                    <a:lnTo>
                      <a:pt x="14" y="635"/>
                    </a:lnTo>
                    <a:lnTo>
                      <a:pt x="21" y="638"/>
                    </a:lnTo>
                    <a:lnTo>
                      <a:pt x="25" y="631"/>
                    </a:lnTo>
                    <a:lnTo>
                      <a:pt x="29" y="624"/>
                    </a:lnTo>
                    <a:lnTo>
                      <a:pt x="21" y="620"/>
                    </a:lnTo>
                    <a:lnTo>
                      <a:pt x="25" y="627"/>
                    </a:lnTo>
                    <a:lnTo>
                      <a:pt x="32" y="624"/>
                    </a:lnTo>
                    <a:lnTo>
                      <a:pt x="40" y="620"/>
                    </a:lnTo>
                    <a:lnTo>
                      <a:pt x="47" y="616"/>
                    </a:lnTo>
                    <a:lnTo>
                      <a:pt x="43" y="609"/>
                    </a:lnTo>
                    <a:lnTo>
                      <a:pt x="43" y="616"/>
                    </a:lnTo>
                    <a:lnTo>
                      <a:pt x="50" y="616"/>
                    </a:lnTo>
                    <a:lnTo>
                      <a:pt x="58" y="616"/>
                    </a:lnTo>
                    <a:lnTo>
                      <a:pt x="65" y="616"/>
                    </a:lnTo>
                    <a:lnTo>
                      <a:pt x="65" y="609"/>
                    </a:lnTo>
                    <a:lnTo>
                      <a:pt x="65" y="616"/>
                    </a:lnTo>
                    <a:lnTo>
                      <a:pt x="72" y="620"/>
                    </a:lnTo>
                    <a:lnTo>
                      <a:pt x="79" y="624"/>
                    </a:lnTo>
                    <a:lnTo>
                      <a:pt x="87" y="627"/>
                    </a:lnTo>
                    <a:lnTo>
                      <a:pt x="98" y="631"/>
                    </a:lnTo>
                    <a:lnTo>
                      <a:pt x="105" y="635"/>
                    </a:lnTo>
                    <a:lnTo>
                      <a:pt x="105" y="627"/>
                    </a:lnTo>
                    <a:lnTo>
                      <a:pt x="101" y="631"/>
                    </a:lnTo>
                    <a:lnTo>
                      <a:pt x="108" y="638"/>
                    </a:lnTo>
                    <a:lnTo>
                      <a:pt x="116" y="645"/>
                    </a:lnTo>
                    <a:lnTo>
                      <a:pt x="123" y="653"/>
                    </a:lnTo>
                    <a:lnTo>
                      <a:pt x="127" y="656"/>
                    </a:lnTo>
                    <a:lnTo>
                      <a:pt x="127" y="656"/>
                    </a:lnTo>
                    <a:lnTo>
                      <a:pt x="134" y="660"/>
                    </a:lnTo>
                    <a:lnTo>
                      <a:pt x="141" y="664"/>
                    </a:lnTo>
                    <a:lnTo>
                      <a:pt x="152" y="667"/>
                    </a:lnTo>
                    <a:lnTo>
                      <a:pt x="163" y="671"/>
                    </a:lnTo>
                    <a:lnTo>
                      <a:pt x="163" y="671"/>
                    </a:lnTo>
                    <a:lnTo>
                      <a:pt x="163" y="671"/>
                    </a:lnTo>
                    <a:lnTo>
                      <a:pt x="174" y="671"/>
                    </a:lnTo>
                    <a:lnTo>
                      <a:pt x="185" y="671"/>
                    </a:lnTo>
                    <a:lnTo>
                      <a:pt x="188" y="671"/>
                    </a:lnTo>
                    <a:lnTo>
                      <a:pt x="188" y="671"/>
                    </a:lnTo>
                    <a:lnTo>
                      <a:pt x="195" y="667"/>
                    </a:lnTo>
                    <a:lnTo>
                      <a:pt x="206" y="664"/>
                    </a:lnTo>
                    <a:lnTo>
                      <a:pt x="217" y="660"/>
                    </a:lnTo>
                    <a:lnTo>
                      <a:pt x="217" y="660"/>
                    </a:lnTo>
                    <a:lnTo>
                      <a:pt x="217" y="656"/>
                    </a:lnTo>
                    <a:lnTo>
                      <a:pt x="224" y="649"/>
                    </a:lnTo>
                    <a:lnTo>
                      <a:pt x="232" y="642"/>
                    </a:lnTo>
                    <a:lnTo>
                      <a:pt x="235" y="642"/>
                    </a:lnTo>
                    <a:lnTo>
                      <a:pt x="235" y="642"/>
                    </a:lnTo>
                    <a:lnTo>
                      <a:pt x="243" y="631"/>
                    </a:lnTo>
                    <a:lnTo>
                      <a:pt x="235" y="627"/>
                    </a:lnTo>
                    <a:lnTo>
                      <a:pt x="239" y="631"/>
                    </a:lnTo>
                    <a:lnTo>
                      <a:pt x="246" y="624"/>
                    </a:lnTo>
                    <a:lnTo>
                      <a:pt x="250" y="624"/>
                    </a:lnTo>
                    <a:lnTo>
                      <a:pt x="250" y="624"/>
                    </a:lnTo>
                    <a:lnTo>
                      <a:pt x="253" y="609"/>
                    </a:lnTo>
                    <a:lnTo>
                      <a:pt x="257" y="598"/>
                    </a:lnTo>
                    <a:lnTo>
                      <a:pt x="257" y="598"/>
                    </a:lnTo>
                    <a:lnTo>
                      <a:pt x="257" y="595"/>
                    </a:lnTo>
                    <a:lnTo>
                      <a:pt x="257" y="587"/>
                    </a:lnTo>
                    <a:lnTo>
                      <a:pt x="257" y="580"/>
                    </a:lnTo>
                    <a:lnTo>
                      <a:pt x="257" y="573"/>
                    </a:lnTo>
                    <a:lnTo>
                      <a:pt x="257" y="566"/>
                    </a:lnTo>
                    <a:lnTo>
                      <a:pt x="257" y="566"/>
                    </a:lnTo>
                    <a:lnTo>
                      <a:pt x="253" y="562"/>
                    </a:lnTo>
                    <a:lnTo>
                      <a:pt x="250" y="558"/>
                    </a:lnTo>
                    <a:lnTo>
                      <a:pt x="246" y="562"/>
                    </a:lnTo>
                    <a:lnTo>
                      <a:pt x="253" y="562"/>
                    </a:lnTo>
                    <a:lnTo>
                      <a:pt x="250" y="555"/>
                    </a:lnTo>
                    <a:lnTo>
                      <a:pt x="250" y="555"/>
                    </a:lnTo>
                    <a:lnTo>
                      <a:pt x="246" y="551"/>
                    </a:lnTo>
                    <a:lnTo>
                      <a:pt x="243" y="548"/>
                    </a:lnTo>
                    <a:lnTo>
                      <a:pt x="239" y="551"/>
                    </a:lnTo>
                    <a:lnTo>
                      <a:pt x="246" y="551"/>
                    </a:lnTo>
                    <a:lnTo>
                      <a:pt x="246" y="544"/>
                    </a:lnTo>
                    <a:lnTo>
                      <a:pt x="246" y="544"/>
                    </a:lnTo>
                    <a:lnTo>
                      <a:pt x="246" y="544"/>
                    </a:lnTo>
                    <a:lnTo>
                      <a:pt x="239" y="533"/>
                    </a:lnTo>
                    <a:lnTo>
                      <a:pt x="235" y="529"/>
                    </a:lnTo>
                    <a:lnTo>
                      <a:pt x="235" y="529"/>
                    </a:lnTo>
                    <a:lnTo>
                      <a:pt x="224" y="522"/>
                    </a:lnTo>
                    <a:lnTo>
                      <a:pt x="214" y="515"/>
                    </a:lnTo>
                    <a:lnTo>
                      <a:pt x="203" y="508"/>
                    </a:lnTo>
                    <a:lnTo>
                      <a:pt x="192" y="504"/>
                    </a:lnTo>
                    <a:lnTo>
                      <a:pt x="181" y="500"/>
                    </a:lnTo>
                    <a:lnTo>
                      <a:pt x="181" y="500"/>
                    </a:lnTo>
                    <a:lnTo>
                      <a:pt x="177" y="500"/>
                    </a:lnTo>
                    <a:lnTo>
                      <a:pt x="163" y="500"/>
                    </a:lnTo>
                    <a:lnTo>
                      <a:pt x="152" y="500"/>
                    </a:lnTo>
                    <a:lnTo>
                      <a:pt x="152" y="500"/>
                    </a:lnTo>
                    <a:lnTo>
                      <a:pt x="152" y="500"/>
                    </a:lnTo>
                    <a:lnTo>
                      <a:pt x="141" y="504"/>
                    </a:lnTo>
                    <a:lnTo>
                      <a:pt x="130" y="508"/>
                    </a:lnTo>
                    <a:lnTo>
                      <a:pt x="130" y="508"/>
                    </a:lnTo>
                    <a:lnTo>
                      <a:pt x="127" y="508"/>
                    </a:lnTo>
                    <a:lnTo>
                      <a:pt x="123" y="511"/>
                    </a:lnTo>
                    <a:lnTo>
                      <a:pt x="127" y="515"/>
                    </a:lnTo>
                    <a:lnTo>
                      <a:pt x="127" y="511"/>
                    </a:lnTo>
                    <a:lnTo>
                      <a:pt x="123" y="511"/>
                    </a:lnTo>
                    <a:lnTo>
                      <a:pt x="119" y="511"/>
                    </a:lnTo>
                    <a:lnTo>
                      <a:pt x="119" y="515"/>
                    </a:lnTo>
                    <a:lnTo>
                      <a:pt x="116" y="522"/>
                    </a:lnTo>
                    <a:lnTo>
                      <a:pt x="119" y="522"/>
                    </a:lnTo>
                    <a:lnTo>
                      <a:pt x="116" y="519"/>
                    </a:lnTo>
                    <a:lnTo>
                      <a:pt x="112" y="522"/>
                    </a:lnTo>
                    <a:close/>
                  </a:path>
                </a:pathLst>
              </a:custGeom>
              <a:solidFill>
                <a:srgbClr val="ccffcc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716200" y="3272040"/>
              <a:ext cx="108108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49440"/>
                  <a:tab algn="l" pos="1298520"/>
                  <a:tab algn="l" pos="1947960"/>
                  <a:tab algn="l" pos="2597040"/>
                  <a:tab algn="l" pos="3246480"/>
                  <a:tab algn="l" pos="3895560"/>
                  <a:tab algn="l" pos="4545000"/>
                  <a:tab algn="l" pos="5194440"/>
                  <a:tab algn="l" pos="5843520"/>
                  <a:tab algn="l" pos="6492960"/>
                  <a:tab algn="l" pos="7142040"/>
                  <a:tab algn="l" pos="7791480"/>
                  <a:tab algn="l" pos="8440560"/>
                  <a:tab algn="l" pos="9090000"/>
                  <a:tab algn="l" pos="9739440"/>
                  <a:tab algn="l" pos="10388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42920" y="2732040"/>
            <a:ext cx="2133360" cy="1682280"/>
            <a:chOff x="142920" y="2732040"/>
            <a:chExt cx="2133360" cy="1682280"/>
          </a:xfrm>
        </p:grpSpPr>
        <p:grpSp>
          <p:nvGrpSpPr>
            <p:cNvPr id="156" name=""/>
            <p:cNvGrpSpPr/>
            <p:nvPr/>
          </p:nvGrpSpPr>
          <p:grpSpPr>
            <a:xfrm>
              <a:off x="142920" y="2732040"/>
              <a:ext cx="2133360" cy="1682280"/>
              <a:chOff x="142920" y="2732040"/>
              <a:chExt cx="2133360" cy="1682280"/>
            </a:xfrm>
          </p:grpSpPr>
          <p:sp>
            <p:nvSpPr>
              <p:cNvPr id="157" name=""/>
              <p:cNvSpPr/>
              <p:nvPr/>
            </p:nvSpPr>
            <p:spPr>
              <a:xfrm>
                <a:off x="150840" y="2738160"/>
                <a:ext cx="2111760" cy="1662120"/>
              </a:xfrm>
              <a:custGeom>
                <a:avLst/>
                <a:gdLst/>
                <a:ahLst/>
                <a:rect l="l" t="t" r="r" b="b"/>
                <a:pathLst>
                  <a:path w="1073" h="831">
                    <a:moveTo>
                      <a:pt x="210" y="475"/>
                    </a:moveTo>
                    <a:lnTo>
                      <a:pt x="206" y="479"/>
                    </a:lnTo>
                    <a:lnTo>
                      <a:pt x="199" y="483"/>
                    </a:lnTo>
                    <a:lnTo>
                      <a:pt x="192" y="486"/>
                    </a:lnTo>
                    <a:lnTo>
                      <a:pt x="188" y="490"/>
                    </a:lnTo>
                    <a:lnTo>
                      <a:pt x="181" y="490"/>
                    </a:lnTo>
                    <a:lnTo>
                      <a:pt x="174" y="490"/>
                    </a:lnTo>
                    <a:lnTo>
                      <a:pt x="170" y="486"/>
                    </a:lnTo>
                    <a:lnTo>
                      <a:pt x="163" y="486"/>
                    </a:lnTo>
                    <a:lnTo>
                      <a:pt x="148" y="479"/>
                    </a:lnTo>
                    <a:lnTo>
                      <a:pt x="137" y="475"/>
                    </a:lnTo>
                    <a:lnTo>
                      <a:pt x="127" y="468"/>
                    </a:lnTo>
                    <a:lnTo>
                      <a:pt x="112" y="461"/>
                    </a:lnTo>
                    <a:lnTo>
                      <a:pt x="101" y="454"/>
                    </a:lnTo>
                    <a:lnTo>
                      <a:pt x="87" y="450"/>
                    </a:lnTo>
                    <a:lnTo>
                      <a:pt x="79" y="450"/>
                    </a:lnTo>
                    <a:lnTo>
                      <a:pt x="76" y="446"/>
                    </a:lnTo>
                    <a:lnTo>
                      <a:pt x="69" y="446"/>
                    </a:lnTo>
                    <a:lnTo>
                      <a:pt x="61" y="446"/>
                    </a:lnTo>
                    <a:lnTo>
                      <a:pt x="54" y="450"/>
                    </a:lnTo>
                    <a:lnTo>
                      <a:pt x="47" y="450"/>
                    </a:lnTo>
                    <a:lnTo>
                      <a:pt x="40" y="454"/>
                    </a:lnTo>
                    <a:lnTo>
                      <a:pt x="36" y="461"/>
                    </a:lnTo>
                    <a:lnTo>
                      <a:pt x="29" y="465"/>
                    </a:lnTo>
                    <a:lnTo>
                      <a:pt x="21" y="472"/>
                    </a:lnTo>
                    <a:lnTo>
                      <a:pt x="14" y="483"/>
                    </a:lnTo>
                    <a:lnTo>
                      <a:pt x="7" y="494"/>
                    </a:lnTo>
                    <a:lnTo>
                      <a:pt x="3" y="497"/>
                    </a:lnTo>
                    <a:lnTo>
                      <a:pt x="0" y="505"/>
                    </a:lnTo>
                    <a:lnTo>
                      <a:pt x="0" y="515"/>
                    </a:lnTo>
                    <a:lnTo>
                      <a:pt x="0" y="526"/>
                    </a:lnTo>
                    <a:lnTo>
                      <a:pt x="0" y="534"/>
                    </a:lnTo>
                    <a:lnTo>
                      <a:pt x="3" y="544"/>
                    </a:lnTo>
                    <a:lnTo>
                      <a:pt x="11" y="555"/>
                    </a:lnTo>
                    <a:lnTo>
                      <a:pt x="14" y="563"/>
                    </a:lnTo>
                    <a:lnTo>
                      <a:pt x="21" y="573"/>
                    </a:lnTo>
                    <a:lnTo>
                      <a:pt x="32" y="581"/>
                    </a:lnTo>
                    <a:lnTo>
                      <a:pt x="36" y="581"/>
                    </a:lnTo>
                    <a:lnTo>
                      <a:pt x="40" y="584"/>
                    </a:lnTo>
                    <a:lnTo>
                      <a:pt x="47" y="588"/>
                    </a:lnTo>
                    <a:lnTo>
                      <a:pt x="54" y="588"/>
                    </a:lnTo>
                    <a:lnTo>
                      <a:pt x="61" y="592"/>
                    </a:lnTo>
                    <a:lnTo>
                      <a:pt x="69" y="592"/>
                    </a:lnTo>
                    <a:lnTo>
                      <a:pt x="76" y="592"/>
                    </a:lnTo>
                    <a:lnTo>
                      <a:pt x="83" y="592"/>
                    </a:lnTo>
                    <a:lnTo>
                      <a:pt x="94" y="592"/>
                    </a:lnTo>
                    <a:lnTo>
                      <a:pt x="101" y="588"/>
                    </a:lnTo>
                    <a:lnTo>
                      <a:pt x="108" y="588"/>
                    </a:lnTo>
                    <a:lnTo>
                      <a:pt x="119" y="584"/>
                    </a:lnTo>
                    <a:lnTo>
                      <a:pt x="137" y="577"/>
                    </a:lnTo>
                    <a:lnTo>
                      <a:pt x="148" y="573"/>
                    </a:lnTo>
                    <a:lnTo>
                      <a:pt x="163" y="570"/>
                    </a:lnTo>
                    <a:lnTo>
                      <a:pt x="174" y="570"/>
                    </a:lnTo>
                    <a:lnTo>
                      <a:pt x="181" y="570"/>
                    </a:lnTo>
                    <a:lnTo>
                      <a:pt x="185" y="573"/>
                    </a:lnTo>
                    <a:lnTo>
                      <a:pt x="188" y="573"/>
                    </a:lnTo>
                    <a:lnTo>
                      <a:pt x="195" y="577"/>
                    </a:lnTo>
                    <a:lnTo>
                      <a:pt x="199" y="581"/>
                    </a:lnTo>
                    <a:lnTo>
                      <a:pt x="203" y="588"/>
                    </a:lnTo>
                    <a:lnTo>
                      <a:pt x="206" y="592"/>
                    </a:lnTo>
                    <a:lnTo>
                      <a:pt x="210" y="602"/>
                    </a:lnTo>
                    <a:lnTo>
                      <a:pt x="214" y="610"/>
                    </a:lnTo>
                    <a:lnTo>
                      <a:pt x="217" y="621"/>
                    </a:lnTo>
                    <a:lnTo>
                      <a:pt x="221" y="631"/>
                    </a:lnTo>
                    <a:lnTo>
                      <a:pt x="224" y="642"/>
                    </a:lnTo>
                    <a:lnTo>
                      <a:pt x="224" y="657"/>
                    </a:lnTo>
                    <a:lnTo>
                      <a:pt x="228" y="671"/>
                    </a:lnTo>
                    <a:lnTo>
                      <a:pt x="228" y="686"/>
                    </a:lnTo>
                    <a:lnTo>
                      <a:pt x="228" y="700"/>
                    </a:lnTo>
                    <a:lnTo>
                      <a:pt x="228" y="715"/>
                    </a:lnTo>
                    <a:lnTo>
                      <a:pt x="228" y="729"/>
                    </a:lnTo>
                    <a:lnTo>
                      <a:pt x="224" y="744"/>
                    </a:lnTo>
                    <a:lnTo>
                      <a:pt x="224" y="758"/>
                    </a:lnTo>
                    <a:lnTo>
                      <a:pt x="221" y="773"/>
                    </a:lnTo>
                    <a:lnTo>
                      <a:pt x="217" y="787"/>
                    </a:lnTo>
                    <a:lnTo>
                      <a:pt x="214" y="802"/>
                    </a:lnTo>
                    <a:lnTo>
                      <a:pt x="210" y="813"/>
                    </a:lnTo>
                    <a:lnTo>
                      <a:pt x="235" y="813"/>
                    </a:lnTo>
                    <a:lnTo>
                      <a:pt x="261" y="813"/>
                    </a:lnTo>
                    <a:lnTo>
                      <a:pt x="286" y="813"/>
                    </a:lnTo>
                    <a:lnTo>
                      <a:pt x="308" y="813"/>
                    </a:lnTo>
                    <a:lnTo>
                      <a:pt x="330" y="813"/>
                    </a:lnTo>
                    <a:lnTo>
                      <a:pt x="351" y="813"/>
                    </a:lnTo>
                    <a:lnTo>
                      <a:pt x="369" y="813"/>
                    </a:lnTo>
                    <a:lnTo>
                      <a:pt x="380" y="813"/>
                    </a:lnTo>
                    <a:lnTo>
                      <a:pt x="398" y="809"/>
                    </a:lnTo>
                    <a:lnTo>
                      <a:pt x="413" y="806"/>
                    </a:lnTo>
                    <a:lnTo>
                      <a:pt x="424" y="795"/>
                    </a:lnTo>
                    <a:lnTo>
                      <a:pt x="438" y="787"/>
                    </a:lnTo>
                    <a:lnTo>
                      <a:pt x="446" y="780"/>
                    </a:lnTo>
                    <a:lnTo>
                      <a:pt x="453" y="773"/>
                    </a:lnTo>
                    <a:lnTo>
                      <a:pt x="460" y="762"/>
                    </a:lnTo>
                    <a:lnTo>
                      <a:pt x="464" y="751"/>
                    </a:lnTo>
                    <a:lnTo>
                      <a:pt x="467" y="740"/>
                    </a:lnTo>
                    <a:lnTo>
                      <a:pt x="467" y="733"/>
                    </a:lnTo>
                    <a:lnTo>
                      <a:pt x="467" y="722"/>
                    </a:lnTo>
                    <a:lnTo>
                      <a:pt x="467" y="711"/>
                    </a:lnTo>
                    <a:lnTo>
                      <a:pt x="464" y="700"/>
                    </a:lnTo>
                    <a:lnTo>
                      <a:pt x="456" y="693"/>
                    </a:lnTo>
                    <a:lnTo>
                      <a:pt x="453" y="682"/>
                    </a:lnTo>
                    <a:lnTo>
                      <a:pt x="442" y="675"/>
                    </a:lnTo>
                    <a:lnTo>
                      <a:pt x="435" y="664"/>
                    </a:lnTo>
                    <a:lnTo>
                      <a:pt x="427" y="657"/>
                    </a:lnTo>
                    <a:lnTo>
                      <a:pt x="424" y="646"/>
                    </a:lnTo>
                    <a:lnTo>
                      <a:pt x="420" y="635"/>
                    </a:lnTo>
                    <a:lnTo>
                      <a:pt x="420" y="621"/>
                    </a:lnTo>
                    <a:lnTo>
                      <a:pt x="420" y="610"/>
                    </a:lnTo>
                    <a:lnTo>
                      <a:pt x="420" y="599"/>
                    </a:lnTo>
                    <a:lnTo>
                      <a:pt x="424" y="588"/>
                    </a:lnTo>
                    <a:lnTo>
                      <a:pt x="427" y="577"/>
                    </a:lnTo>
                    <a:lnTo>
                      <a:pt x="435" y="566"/>
                    </a:lnTo>
                    <a:lnTo>
                      <a:pt x="442" y="563"/>
                    </a:lnTo>
                    <a:lnTo>
                      <a:pt x="446" y="555"/>
                    </a:lnTo>
                    <a:lnTo>
                      <a:pt x="449" y="552"/>
                    </a:lnTo>
                    <a:lnTo>
                      <a:pt x="456" y="552"/>
                    </a:lnTo>
                    <a:lnTo>
                      <a:pt x="460" y="548"/>
                    </a:lnTo>
                    <a:lnTo>
                      <a:pt x="467" y="544"/>
                    </a:lnTo>
                    <a:lnTo>
                      <a:pt x="475" y="541"/>
                    </a:lnTo>
                    <a:lnTo>
                      <a:pt x="482" y="537"/>
                    </a:lnTo>
                    <a:lnTo>
                      <a:pt x="489" y="537"/>
                    </a:lnTo>
                    <a:lnTo>
                      <a:pt x="500" y="534"/>
                    </a:lnTo>
                    <a:lnTo>
                      <a:pt x="511" y="534"/>
                    </a:lnTo>
                    <a:lnTo>
                      <a:pt x="518" y="534"/>
                    </a:lnTo>
                    <a:lnTo>
                      <a:pt x="529" y="534"/>
                    </a:lnTo>
                    <a:lnTo>
                      <a:pt x="540" y="534"/>
                    </a:lnTo>
                    <a:lnTo>
                      <a:pt x="547" y="537"/>
                    </a:lnTo>
                    <a:lnTo>
                      <a:pt x="558" y="541"/>
                    </a:lnTo>
                    <a:lnTo>
                      <a:pt x="565" y="541"/>
                    </a:lnTo>
                    <a:lnTo>
                      <a:pt x="573" y="544"/>
                    </a:lnTo>
                    <a:lnTo>
                      <a:pt x="576" y="548"/>
                    </a:lnTo>
                    <a:lnTo>
                      <a:pt x="583" y="552"/>
                    </a:lnTo>
                    <a:lnTo>
                      <a:pt x="591" y="555"/>
                    </a:lnTo>
                    <a:lnTo>
                      <a:pt x="594" y="563"/>
                    </a:lnTo>
                    <a:lnTo>
                      <a:pt x="598" y="566"/>
                    </a:lnTo>
                    <a:lnTo>
                      <a:pt x="602" y="573"/>
                    </a:lnTo>
                    <a:lnTo>
                      <a:pt x="605" y="584"/>
                    </a:lnTo>
                    <a:lnTo>
                      <a:pt x="609" y="595"/>
                    </a:lnTo>
                    <a:lnTo>
                      <a:pt x="609" y="610"/>
                    </a:lnTo>
                    <a:lnTo>
                      <a:pt x="609" y="621"/>
                    </a:lnTo>
                    <a:lnTo>
                      <a:pt x="609" y="635"/>
                    </a:lnTo>
                    <a:lnTo>
                      <a:pt x="605" y="646"/>
                    </a:lnTo>
                    <a:lnTo>
                      <a:pt x="602" y="657"/>
                    </a:lnTo>
                    <a:lnTo>
                      <a:pt x="598" y="668"/>
                    </a:lnTo>
                    <a:lnTo>
                      <a:pt x="591" y="675"/>
                    </a:lnTo>
                    <a:lnTo>
                      <a:pt x="583" y="682"/>
                    </a:lnTo>
                    <a:lnTo>
                      <a:pt x="576" y="686"/>
                    </a:lnTo>
                    <a:lnTo>
                      <a:pt x="569" y="693"/>
                    </a:lnTo>
                    <a:lnTo>
                      <a:pt x="565" y="700"/>
                    </a:lnTo>
                    <a:lnTo>
                      <a:pt x="562" y="711"/>
                    </a:lnTo>
                    <a:lnTo>
                      <a:pt x="558" y="719"/>
                    </a:lnTo>
                    <a:lnTo>
                      <a:pt x="558" y="726"/>
                    </a:lnTo>
                    <a:lnTo>
                      <a:pt x="554" y="737"/>
                    </a:lnTo>
                    <a:lnTo>
                      <a:pt x="554" y="748"/>
                    </a:lnTo>
                    <a:lnTo>
                      <a:pt x="558" y="755"/>
                    </a:lnTo>
                    <a:lnTo>
                      <a:pt x="562" y="766"/>
                    </a:lnTo>
                    <a:lnTo>
                      <a:pt x="565" y="777"/>
                    </a:lnTo>
                    <a:lnTo>
                      <a:pt x="573" y="784"/>
                    </a:lnTo>
                    <a:lnTo>
                      <a:pt x="580" y="795"/>
                    </a:lnTo>
                    <a:lnTo>
                      <a:pt x="591" y="802"/>
                    </a:lnTo>
                    <a:lnTo>
                      <a:pt x="602" y="809"/>
                    </a:lnTo>
                    <a:lnTo>
                      <a:pt x="616" y="813"/>
                    </a:lnTo>
                    <a:lnTo>
                      <a:pt x="623" y="816"/>
                    </a:lnTo>
                    <a:lnTo>
                      <a:pt x="638" y="820"/>
                    </a:lnTo>
                    <a:lnTo>
                      <a:pt x="663" y="824"/>
                    </a:lnTo>
                    <a:lnTo>
                      <a:pt x="692" y="827"/>
                    </a:lnTo>
                    <a:lnTo>
                      <a:pt x="710" y="827"/>
                    </a:lnTo>
                    <a:lnTo>
                      <a:pt x="728" y="831"/>
                    </a:lnTo>
                    <a:lnTo>
                      <a:pt x="747" y="831"/>
                    </a:lnTo>
                    <a:lnTo>
                      <a:pt x="765" y="831"/>
                    </a:lnTo>
                    <a:lnTo>
                      <a:pt x="783" y="831"/>
                    </a:lnTo>
                    <a:lnTo>
                      <a:pt x="805" y="831"/>
                    </a:lnTo>
                    <a:lnTo>
                      <a:pt x="819" y="827"/>
                    </a:lnTo>
                    <a:lnTo>
                      <a:pt x="837" y="824"/>
                    </a:lnTo>
                    <a:lnTo>
                      <a:pt x="837" y="816"/>
                    </a:lnTo>
                    <a:lnTo>
                      <a:pt x="834" y="806"/>
                    </a:lnTo>
                    <a:lnTo>
                      <a:pt x="830" y="795"/>
                    </a:lnTo>
                    <a:lnTo>
                      <a:pt x="830" y="784"/>
                    </a:lnTo>
                    <a:lnTo>
                      <a:pt x="830" y="758"/>
                    </a:lnTo>
                    <a:lnTo>
                      <a:pt x="830" y="733"/>
                    </a:lnTo>
                    <a:lnTo>
                      <a:pt x="830" y="704"/>
                    </a:lnTo>
                    <a:lnTo>
                      <a:pt x="834" y="679"/>
                    </a:lnTo>
                    <a:lnTo>
                      <a:pt x="837" y="653"/>
                    </a:lnTo>
                    <a:lnTo>
                      <a:pt x="837" y="631"/>
                    </a:lnTo>
                    <a:lnTo>
                      <a:pt x="841" y="621"/>
                    </a:lnTo>
                    <a:lnTo>
                      <a:pt x="844" y="613"/>
                    </a:lnTo>
                    <a:lnTo>
                      <a:pt x="848" y="606"/>
                    </a:lnTo>
                    <a:lnTo>
                      <a:pt x="855" y="602"/>
                    </a:lnTo>
                    <a:lnTo>
                      <a:pt x="859" y="599"/>
                    </a:lnTo>
                    <a:lnTo>
                      <a:pt x="866" y="595"/>
                    </a:lnTo>
                    <a:lnTo>
                      <a:pt x="873" y="595"/>
                    </a:lnTo>
                    <a:lnTo>
                      <a:pt x="881" y="595"/>
                    </a:lnTo>
                    <a:lnTo>
                      <a:pt x="888" y="595"/>
                    </a:lnTo>
                    <a:lnTo>
                      <a:pt x="899" y="599"/>
                    </a:lnTo>
                    <a:lnTo>
                      <a:pt x="906" y="602"/>
                    </a:lnTo>
                    <a:lnTo>
                      <a:pt x="913" y="606"/>
                    </a:lnTo>
                    <a:lnTo>
                      <a:pt x="921" y="610"/>
                    </a:lnTo>
                    <a:lnTo>
                      <a:pt x="928" y="613"/>
                    </a:lnTo>
                    <a:lnTo>
                      <a:pt x="939" y="621"/>
                    </a:lnTo>
                    <a:lnTo>
                      <a:pt x="942" y="628"/>
                    </a:lnTo>
                    <a:lnTo>
                      <a:pt x="950" y="635"/>
                    </a:lnTo>
                    <a:lnTo>
                      <a:pt x="957" y="639"/>
                    </a:lnTo>
                    <a:lnTo>
                      <a:pt x="968" y="642"/>
                    </a:lnTo>
                    <a:lnTo>
                      <a:pt x="979" y="646"/>
                    </a:lnTo>
                    <a:lnTo>
                      <a:pt x="986" y="646"/>
                    </a:lnTo>
                    <a:lnTo>
                      <a:pt x="997" y="650"/>
                    </a:lnTo>
                    <a:lnTo>
                      <a:pt x="1008" y="646"/>
                    </a:lnTo>
                    <a:lnTo>
                      <a:pt x="1018" y="646"/>
                    </a:lnTo>
                    <a:lnTo>
                      <a:pt x="1026" y="642"/>
                    </a:lnTo>
                    <a:lnTo>
                      <a:pt x="1037" y="639"/>
                    </a:lnTo>
                    <a:lnTo>
                      <a:pt x="1044" y="631"/>
                    </a:lnTo>
                    <a:lnTo>
                      <a:pt x="1051" y="624"/>
                    </a:lnTo>
                    <a:lnTo>
                      <a:pt x="1058" y="617"/>
                    </a:lnTo>
                    <a:lnTo>
                      <a:pt x="1066" y="606"/>
                    </a:lnTo>
                    <a:lnTo>
                      <a:pt x="1069" y="595"/>
                    </a:lnTo>
                    <a:lnTo>
                      <a:pt x="1073" y="581"/>
                    </a:lnTo>
                    <a:lnTo>
                      <a:pt x="1073" y="573"/>
                    </a:lnTo>
                    <a:lnTo>
                      <a:pt x="1073" y="566"/>
                    </a:lnTo>
                    <a:lnTo>
                      <a:pt x="1073" y="559"/>
                    </a:lnTo>
                    <a:lnTo>
                      <a:pt x="1073" y="552"/>
                    </a:lnTo>
                    <a:lnTo>
                      <a:pt x="1069" y="548"/>
                    </a:lnTo>
                    <a:lnTo>
                      <a:pt x="1066" y="541"/>
                    </a:lnTo>
                    <a:lnTo>
                      <a:pt x="1066" y="534"/>
                    </a:lnTo>
                    <a:lnTo>
                      <a:pt x="1062" y="530"/>
                    </a:lnTo>
                    <a:lnTo>
                      <a:pt x="1055" y="519"/>
                    </a:lnTo>
                    <a:lnTo>
                      <a:pt x="1044" y="512"/>
                    </a:lnTo>
                    <a:lnTo>
                      <a:pt x="1033" y="505"/>
                    </a:lnTo>
                    <a:lnTo>
                      <a:pt x="1022" y="497"/>
                    </a:lnTo>
                    <a:lnTo>
                      <a:pt x="1011" y="494"/>
                    </a:lnTo>
                    <a:lnTo>
                      <a:pt x="1000" y="490"/>
                    </a:lnTo>
                    <a:lnTo>
                      <a:pt x="986" y="490"/>
                    </a:lnTo>
                    <a:lnTo>
                      <a:pt x="975" y="490"/>
                    </a:lnTo>
                    <a:lnTo>
                      <a:pt x="964" y="494"/>
                    </a:lnTo>
                    <a:lnTo>
                      <a:pt x="953" y="497"/>
                    </a:lnTo>
                    <a:lnTo>
                      <a:pt x="950" y="497"/>
                    </a:lnTo>
                    <a:lnTo>
                      <a:pt x="946" y="501"/>
                    </a:lnTo>
                    <a:lnTo>
                      <a:pt x="942" y="505"/>
                    </a:lnTo>
                    <a:lnTo>
                      <a:pt x="939" y="512"/>
                    </a:lnTo>
                    <a:lnTo>
                      <a:pt x="931" y="519"/>
                    </a:lnTo>
                    <a:lnTo>
                      <a:pt x="924" y="526"/>
                    </a:lnTo>
                    <a:lnTo>
                      <a:pt x="917" y="530"/>
                    </a:lnTo>
                    <a:lnTo>
                      <a:pt x="910" y="534"/>
                    </a:lnTo>
                    <a:lnTo>
                      <a:pt x="902" y="534"/>
                    </a:lnTo>
                    <a:lnTo>
                      <a:pt x="892" y="534"/>
                    </a:lnTo>
                    <a:lnTo>
                      <a:pt x="884" y="534"/>
                    </a:lnTo>
                    <a:lnTo>
                      <a:pt x="877" y="530"/>
                    </a:lnTo>
                    <a:lnTo>
                      <a:pt x="870" y="530"/>
                    </a:lnTo>
                    <a:lnTo>
                      <a:pt x="863" y="526"/>
                    </a:lnTo>
                    <a:lnTo>
                      <a:pt x="855" y="519"/>
                    </a:lnTo>
                    <a:lnTo>
                      <a:pt x="848" y="515"/>
                    </a:lnTo>
                    <a:lnTo>
                      <a:pt x="844" y="512"/>
                    </a:lnTo>
                    <a:lnTo>
                      <a:pt x="841" y="505"/>
                    </a:lnTo>
                    <a:lnTo>
                      <a:pt x="837" y="501"/>
                    </a:lnTo>
                    <a:lnTo>
                      <a:pt x="837" y="494"/>
                    </a:lnTo>
                    <a:lnTo>
                      <a:pt x="837" y="475"/>
                    </a:lnTo>
                    <a:lnTo>
                      <a:pt x="837" y="450"/>
                    </a:lnTo>
                    <a:lnTo>
                      <a:pt x="837" y="410"/>
                    </a:lnTo>
                    <a:lnTo>
                      <a:pt x="837" y="370"/>
                    </a:lnTo>
                    <a:lnTo>
                      <a:pt x="837" y="330"/>
                    </a:lnTo>
                    <a:lnTo>
                      <a:pt x="837" y="287"/>
                    </a:lnTo>
                    <a:lnTo>
                      <a:pt x="837" y="251"/>
                    </a:lnTo>
                    <a:lnTo>
                      <a:pt x="837" y="222"/>
                    </a:lnTo>
                    <a:lnTo>
                      <a:pt x="826" y="225"/>
                    </a:lnTo>
                    <a:lnTo>
                      <a:pt x="815" y="232"/>
                    </a:lnTo>
                    <a:lnTo>
                      <a:pt x="801" y="236"/>
                    </a:lnTo>
                    <a:lnTo>
                      <a:pt x="786" y="240"/>
                    </a:lnTo>
                    <a:lnTo>
                      <a:pt x="772" y="243"/>
                    </a:lnTo>
                    <a:lnTo>
                      <a:pt x="757" y="243"/>
                    </a:lnTo>
                    <a:lnTo>
                      <a:pt x="739" y="243"/>
                    </a:lnTo>
                    <a:lnTo>
                      <a:pt x="721" y="243"/>
                    </a:lnTo>
                    <a:lnTo>
                      <a:pt x="707" y="243"/>
                    </a:lnTo>
                    <a:lnTo>
                      <a:pt x="689" y="243"/>
                    </a:lnTo>
                    <a:lnTo>
                      <a:pt x="670" y="240"/>
                    </a:lnTo>
                    <a:lnTo>
                      <a:pt x="656" y="236"/>
                    </a:lnTo>
                    <a:lnTo>
                      <a:pt x="641" y="232"/>
                    </a:lnTo>
                    <a:lnTo>
                      <a:pt x="627" y="229"/>
                    </a:lnTo>
                    <a:lnTo>
                      <a:pt x="612" y="225"/>
                    </a:lnTo>
                    <a:lnTo>
                      <a:pt x="602" y="222"/>
                    </a:lnTo>
                    <a:lnTo>
                      <a:pt x="594" y="218"/>
                    </a:lnTo>
                    <a:lnTo>
                      <a:pt x="587" y="211"/>
                    </a:lnTo>
                    <a:lnTo>
                      <a:pt x="580" y="207"/>
                    </a:lnTo>
                    <a:lnTo>
                      <a:pt x="573" y="203"/>
                    </a:lnTo>
                    <a:lnTo>
                      <a:pt x="569" y="200"/>
                    </a:lnTo>
                    <a:lnTo>
                      <a:pt x="565" y="196"/>
                    </a:lnTo>
                    <a:lnTo>
                      <a:pt x="565" y="189"/>
                    </a:lnTo>
                    <a:lnTo>
                      <a:pt x="565" y="185"/>
                    </a:lnTo>
                    <a:lnTo>
                      <a:pt x="565" y="182"/>
                    </a:lnTo>
                    <a:lnTo>
                      <a:pt x="565" y="174"/>
                    </a:lnTo>
                    <a:lnTo>
                      <a:pt x="569" y="171"/>
                    </a:lnTo>
                    <a:lnTo>
                      <a:pt x="573" y="164"/>
                    </a:lnTo>
                    <a:lnTo>
                      <a:pt x="580" y="149"/>
                    </a:lnTo>
                    <a:lnTo>
                      <a:pt x="594" y="135"/>
                    </a:lnTo>
                    <a:lnTo>
                      <a:pt x="602" y="127"/>
                    </a:lnTo>
                    <a:lnTo>
                      <a:pt x="609" y="116"/>
                    </a:lnTo>
                    <a:lnTo>
                      <a:pt x="612" y="106"/>
                    </a:lnTo>
                    <a:lnTo>
                      <a:pt x="616" y="95"/>
                    </a:lnTo>
                    <a:lnTo>
                      <a:pt x="616" y="84"/>
                    </a:lnTo>
                    <a:lnTo>
                      <a:pt x="616" y="73"/>
                    </a:lnTo>
                    <a:lnTo>
                      <a:pt x="616" y="62"/>
                    </a:lnTo>
                    <a:lnTo>
                      <a:pt x="612" y="51"/>
                    </a:lnTo>
                    <a:lnTo>
                      <a:pt x="609" y="40"/>
                    </a:lnTo>
                    <a:lnTo>
                      <a:pt x="602" y="29"/>
                    </a:lnTo>
                    <a:lnTo>
                      <a:pt x="598" y="26"/>
                    </a:lnTo>
                    <a:lnTo>
                      <a:pt x="591" y="22"/>
                    </a:lnTo>
                    <a:lnTo>
                      <a:pt x="587" y="18"/>
                    </a:lnTo>
                    <a:lnTo>
                      <a:pt x="580" y="15"/>
                    </a:lnTo>
                    <a:lnTo>
                      <a:pt x="576" y="11"/>
                    </a:lnTo>
                    <a:lnTo>
                      <a:pt x="569" y="8"/>
                    </a:lnTo>
                    <a:lnTo>
                      <a:pt x="562" y="8"/>
                    </a:lnTo>
                    <a:lnTo>
                      <a:pt x="554" y="4"/>
                    </a:lnTo>
                    <a:lnTo>
                      <a:pt x="544" y="4"/>
                    </a:lnTo>
                    <a:lnTo>
                      <a:pt x="536" y="0"/>
                    </a:lnTo>
                    <a:lnTo>
                      <a:pt x="529" y="0"/>
                    </a:lnTo>
                    <a:lnTo>
                      <a:pt x="518" y="0"/>
                    </a:lnTo>
                    <a:lnTo>
                      <a:pt x="511" y="0"/>
                    </a:lnTo>
                    <a:lnTo>
                      <a:pt x="500" y="4"/>
                    </a:lnTo>
                    <a:lnTo>
                      <a:pt x="493" y="4"/>
                    </a:lnTo>
                    <a:lnTo>
                      <a:pt x="485" y="4"/>
                    </a:lnTo>
                    <a:lnTo>
                      <a:pt x="482" y="8"/>
                    </a:lnTo>
                    <a:lnTo>
                      <a:pt x="475" y="11"/>
                    </a:lnTo>
                    <a:lnTo>
                      <a:pt x="471" y="15"/>
                    </a:lnTo>
                    <a:lnTo>
                      <a:pt x="464" y="18"/>
                    </a:lnTo>
                    <a:lnTo>
                      <a:pt x="460" y="22"/>
                    </a:lnTo>
                    <a:lnTo>
                      <a:pt x="456" y="26"/>
                    </a:lnTo>
                    <a:lnTo>
                      <a:pt x="453" y="29"/>
                    </a:lnTo>
                    <a:lnTo>
                      <a:pt x="449" y="37"/>
                    </a:lnTo>
                    <a:lnTo>
                      <a:pt x="446" y="47"/>
                    </a:lnTo>
                    <a:lnTo>
                      <a:pt x="442" y="58"/>
                    </a:lnTo>
                    <a:lnTo>
                      <a:pt x="442" y="69"/>
                    </a:lnTo>
                    <a:lnTo>
                      <a:pt x="442" y="80"/>
                    </a:lnTo>
                    <a:lnTo>
                      <a:pt x="442" y="95"/>
                    </a:lnTo>
                    <a:lnTo>
                      <a:pt x="446" y="106"/>
                    </a:lnTo>
                    <a:lnTo>
                      <a:pt x="449" y="120"/>
                    </a:lnTo>
                    <a:lnTo>
                      <a:pt x="456" y="131"/>
                    </a:lnTo>
                    <a:lnTo>
                      <a:pt x="460" y="142"/>
                    </a:lnTo>
                    <a:lnTo>
                      <a:pt x="471" y="149"/>
                    </a:lnTo>
                    <a:lnTo>
                      <a:pt x="475" y="156"/>
                    </a:lnTo>
                    <a:lnTo>
                      <a:pt x="482" y="164"/>
                    </a:lnTo>
                    <a:lnTo>
                      <a:pt x="482" y="171"/>
                    </a:lnTo>
                    <a:lnTo>
                      <a:pt x="485" y="178"/>
                    </a:lnTo>
                    <a:lnTo>
                      <a:pt x="485" y="185"/>
                    </a:lnTo>
                    <a:lnTo>
                      <a:pt x="485" y="193"/>
                    </a:lnTo>
                    <a:lnTo>
                      <a:pt x="482" y="200"/>
                    </a:lnTo>
                    <a:lnTo>
                      <a:pt x="478" y="207"/>
                    </a:lnTo>
                    <a:lnTo>
                      <a:pt x="475" y="211"/>
                    </a:lnTo>
                    <a:lnTo>
                      <a:pt x="467" y="218"/>
                    </a:lnTo>
                    <a:lnTo>
                      <a:pt x="456" y="222"/>
                    </a:lnTo>
                    <a:lnTo>
                      <a:pt x="449" y="222"/>
                    </a:lnTo>
                    <a:lnTo>
                      <a:pt x="438" y="222"/>
                    </a:lnTo>
                    <a:lnTo>
                      <a:pt x="427" y="222"/>
                    </a:lnTo>
                    <a:lnTo>
                      <a:pt x="413" y="218"/>
                    </a:lnTo>
                    <a:lnTo>
                      <a:pt x="398" y="211"/>
                    </a:lnTo>
                    <a:lnTo>
                      <a:pt x="388" y="211"/>
                    </a:lnTo>
                    <a:lnTo>
                      <a:pt x="380" y="207"/>
                    </a:lnTo>
                    <a:lnTo>
                      <a:pt x="369" y="203"/>
                    </a:lnTo>
                    <a:lnTo>
                      <a:pt x="359" y="203"/>
                    </a:lnTo>
                    <a:lnTo>
                      <a:pt x="337" y="203"/>
                    </a:lnTo>
                    <a:lnTo>
                      <a:pt x="311" y="203"/>
                    </a:lnTo>
                    <a:lnTo>
                      <a:pt x="286" y="207"/>
                    </a:lnTo>
                    <a:lnTo>
                      <a:pt x="261" y="211"/>
                    </a:lnTo>
                    <a:lnTo>
                      <a:pt x="235" y="214"/>
                    </a:lnTo>
                    <a:lnTo>
                      <a:pt x="210" y="222"/>
                    </a:lnTo>
                    <a:lnTo>
                      <a:pt x="210" y="225"/>
                    </a:lnTo>
                    <a:lnTo>
                      <a:pt x="210" y="240"/>
                    </a:lnTo>
                    <a:lnTo>
                      <a:pt x="210" y="251"/>
                    </a:lnTo>
                    <a:lnTo>
                      <a:pt x="210" y="269"/>
                    </a:lnTo>
                    <a:lnTo>
                      <a:pt x="214" y="305"/>
                    </a:lnTo>
                    <a:lnTo>
                      <a:pt x="217" y="349"/>
                    </a:lnTo>
                    <a:lnTo>
                      <a:pt x="221" y="367"/>
                    </a:lnTo>
                    <a:lnTo>
                      <a:pt x="221" y="388"/>
                    </a:lnTo>
                    <a:lnTo>
                      <a:pt x="221" y="410"/>
                    </a:lnTo>
                    <a:lnTo>
                      <a:pt x="224" y="425"/>
                    </a:lnTo>
                    <a:lnTo>
                      <a:pt x="221" y="443"/>
                    </a:lnTo>
                    <a:lnTo>
                      <a:pt x="221" y="457"/>
                    </a:lnTo>
                    <a:lnTo>
                      <a:pt x="217" y="465"/>
                    </a:lnTo>
                    <a:lnTo>
                      <a:pt x="217" y="468"/>
                    </a:lnTo>
                    <a:lnTo>
                      <a:pt x="214" y="472"/>
                    </a:lnTo>
                    <a:lnTo>
                      <a:pt x="210" y="475"/>
                    </a:lnTo>
                    <a:close/>
                  </a:path>
                </a:pathLst>
              </a:custGeom>
              <a:solidFill>
                <a:srgbClr val="ffcc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42920" y="2732040"/>
                <a:ext cx="2133360" cy="1682280"/>
              </a:xfrm>
              <a:custGeom>
                <a:avLst/>
                <a:gdLst/>
                <a:ahLst/>
                <a:rect l="l" t="t" r="r" b="b"/>
                <a:pathLst>
                  <a:path w="1084" h="841">
                    <a:moveTo>
                      <a:pt x="207" y="478"/>
                    </a:moveTo>
                    <a:lnTo>
                      <a:pt x="210" y="482"/>
                    </a:lnTo>
                    <a:lnTo>
                      <a:pt x="210" y="478"/>
                    </a:lnTo>
                    <a:lnTo>
                      <a:pt x="203" y="482"/>
                    </a:lnTo>
                    <a:lnTo>
                      <a:pt x="196" y="486"/>
                    </a:lnTo>
                    <a:lnTo>
                      <a:pt x="196" y="486"/>
                    </a:lnTo>
                    <a:lnTo>
                      <a:pt x="192" y="486"/>
                    </a:lnTo>
                    <a:lnTo>
                      <a:pt x="189" y="489"/>
                    </a:lnTo>
                    <a:lnTo>
                      <a:pt x="192" y="493"/>
                    </a:lnTo>
                    <a:lnTo>
                      <a:pt x="192" y="489"/>
                    </a:lnTo>
                    <a:lnTo>
                      <a:pt x="185" y="489"/>
                    </a:lnTo>
                    <a:lnTo>
                      <a:pt x="178" y="489"/>
                    </a:lnTo>
                    <a:lnTo>
                      <a:pt x="178" y="493"/>
                    </a:lnTo>
                    <a:lnTo>
                      <a:pt x="181" y="489"/>
                    </a:lnTo>
                    <a:lnTo>
                      <a:pt x="178" y="486"/>
                    </a:lnTo>
                    <a:lnTo>
                      <a:pt x="178" y="486"/>
                    </a:lnTo>
                    <a:lnTo>
                      <a:pt x="174" y="486"/>
                    </a:lnTo>
                    <a:lnTo>
                      <a:pt x="167" y="486"/>
                    </a:lnTo>
                    <a:lnTo>
                      <a:pt x="167" y="489"/>
                    </a:lnTo>
                    <a:lnTo>
                      <a:pt x="170" y="486"/>
                    </a:lnTo>
                    <a:lnTo>
                      <a:pt x="156" y="478"/>
                    </a:lnTo>
                    <a:lnTo>
                      <a:pt x="145" y="475"/>
                    </a:lnTo>
                    <a:lnTo>
                      <a:pt x="134" y="468"/>
                    </a:lnTo>
                    <a:lnTo>
                      <a:pt x="120" y="460"/>
                    </a:lnTo>
                    <a:lnTo>
                      <a:pt x="109" y="453"/>
                    </a:lnTo>
                    <a:lnTo>
                      <a:pt x="109" y="453"/>
                    </a:lnTo>
                    <a:lnTo>
                      <a:pt x="105" y="453"/>
                    </a:lnTo>
                    <a:lnTo>
                      <a:pt x="91" y="449"/>
                    </a:lnTo>
                    <a:lnTo>
                      <a:pt x="83" y="449"/>
                    </a:lnTo>
                    <a:lnTo>
                      <a:pt x="83" y="453"/>
                    </a:lnTo>
                    <a:lnTo>
                      <a:pt x="87" y="449"/>
                    </a:lnTo>
                    <a:lnTo>
                      <a:pt x="83" y="446"/>
                    </a:lnTo>
                    <a:lnTo>
                      <a:pt x="83" y="446"/>
                    </a:lnTo>
                    <a:lnTo>
                      <a:pt x="80" y="446"/>
                    </a:lnTo>
                    <a:lnTo>
                      <a:pt x="73" y="446"/>
                    </a:lnTo>
                    <a:lnTo>
                      <a:pt x="65" y="446"/>
                    </a:lnTo>
                    <a:lnTo>
                      <a:pt x="65" y="446"/>
                    </a:lnTo>
                    <a:lnTo>
                      <a:pt x="65" y="446"/>
                    </a:lnTo>
                    <a:lnTo>
                      <a:pt x="58" y="449"/>
                    </a:lnTo>
                    <a:lnTo>
                      <a:pt x="58" y="453"/>
                    </a:lnTo>
                    <a:lnTo>
                      <a:pt x="58" y="449"/>
                    </a:lnTo>
                    <a:lnTo>
                      <a:pt x="51" y="449"/>
                    </a:lnTo>
                    <a:lnTo>
                      <a:pt x="51" y="449"/>
                    </a:lnTo>
                    <a:lnTo>
                      <a:pt x="51" y="449"/>
                    </a:lnTo>
                    <a:lnTo>
                      <a:pt x="44" y="453"/>
                    </a:lnTo>
                    <a:lnTo>
                      <a:pt x="40" y="453"/>
                    </a:lnTo>
                    <a:lnTo>
                      <a:pt x="40" y="457"/>
                    </a:lnTo>
                    <a:lnTo>
                      <a:pt x="36" y="464"/>
                    </a:lnTo>
                    <a:lnTo>
                      <a:pt x="40" y="464"/>
                    </a:lnTo>
                    <a:lnTo>
                      <a:pt x="40" y="460"/>
                    </a:lnTo>
                    <a:lnTo>
                      <a:pt x="33" y="464"/>
                    </a:lnTo>
                    <a:lnTo>
                      <a:pt x="33" y="464"/>
                    </a:lnTo>
                    <a:lnTo>
                      <a:pt x="29" y="464"/>
                    </a:lnTo>
                    <a:lnTo>
                      <a:pt x="22" y="471"/>
                    </a:lnTo>
                    <a:lnTo>
                      <a:pt x="22" y="475"/>
                    </a:lnTo>
                    <a:lnTo>
                      <a:pt x="22" y="475"/>
                    </a:lnTo>
                    <a:lnTo>
                      <a:pt x="15" y="486"/>
                    </a:lnTo>
                    <a:lnTo>
                      <a:pt x="7" y="497"/>
                    </a:lnTo>
                    <a:lnTo>
                      <a:pt x="11" y="497"/>
                    </a:lnTo>
                    <a:lnTo>
                      <a:pt x="7" y="493"/>
                    </a:lnTo>
                    <a:lnTo>
                      <a:pt x="4" y="497"/>
                    </a:lnTo>
                    <a:lnTo>
                      <a:pt x="4" y="500"/>
                    </a:lnTo>
                    <a:lnTo>
                      <a:pt x="4" y="500"/>
                    </a:lnTo>
                    <a:lnTo>
                      <a:pt x="0" y="508"/>
                    </a:lnTo>
                    <a:lnTo>
                      <a:pt x="0" y="508"/>
                    </a:lnTo>
                    <a:lnTo>
                      <a:pt x="0" y="508"/>
                    </a:lnTo>
                    <a:lnTo>
                      <a:pt x="0" y="518"/>
                    </a:lnTo>
                    <a:lnTo>
                      <a:pt x="0" y="529"/>
                    </a:lnTo>
                    <a:lnTo>
                      <a:pt x="0" y="537"/>
                    </a:lnTo>
                    <a:lnTo>
                      <a:pt x="0" y="540"/>
                    </a:lnTo>
                    <a:lnTo>
                      <a:pt x="0" y="540"/>
                    </a:lnTo>
                    <a:lnTo>
                      <a:pt x="4" y="551"/>
                    </a:lnTo>
                    <a:lnTo>
                      <a:pt x="11" y="562"/>
                    </a:lnTo>
                    <a:lnTo>
                      <a:pt x="15" y="569"/>
                    </a:lnTo>
                    <a:lnTo>
                      <a:pt x="22" y="580"/>
                    </a:lnTo>
                    <a:lnTo>
                      <a:pt x="22" y="580"/>
                    </a:lnTo>
                    <a:lnTo>
                      <a:pt x="25" y="584"/>
                    </a:lnTo>
                    <a:lnTo>
                      <a:pt x="36" y="591"/>
                    </a:lnTo>
                    <a:lnTo>
                      <a:pt x="36" y="591"/>
                    </a:lnTo>
                    <a:lnTo>
                      <a:pt x="36" y="591"/>
                    </a:lnTo>
                    <a:lnTo>
                      <a:pt x="40" y="591"/>
                    </a:lnTo>
                    <a:lnTo>
                      <a:pt x="40" y="584"/>
                    </a:lnTo>
                    <a:lnTo>
                      <a:pt x="36" y="587"/>
                    </a:lnTo>
                    <a:lnTo>
                      <a:pt x="40" y="591"/>
                    </a:lnTo>
                    <a:lnTo>
                      <a:pt x="44" y="595"/>
                    </a:lnTo>
                    <a:lnTo>
                      <a:pt x="44" y="595"/>
                    </a:lnTo>
                    <a:lnTo>
                      <a:pt x="51" y="598"/>
                    </a:lnTo>
                    <a:lnTo>
                      <a:pt x="51" y="598"/>
                    </a:lnTo>
                    <a:lnTo>
                      <a:pt x="51" y="598"/>
                    </a:lnTo>
                    <a:lnTo>
                      <a:pt x="58" y="598"/>
                    </a:lnTo>
                    <a:lnTo>
                      <a:pt x="58" y="591"/>
                    </a:lnTo>
                    <a:lnTo>
                      <a:pt x="58" y="598"/>
                    </a:lnTo>
                    <a:lnTo>
                      <a:pt x="65" y="602"/>
                    </a:lnTo>
                    <a:lnTo>
                      <a:pt x="65" y="602"/>
                    </a:lnTo>
                    <a:lnTo>
                      <a:pt x="65" y="602"/>
                    </a:lnTo>
                    <a:lnTo>
                      <a:pt x="73" y="602"/>
                    </a:lnTo>
                    <a:lnTo>
                      <a:pt x="80" y="602"/>
                    </a:lnTo>
                    <a:lnTo>
                      <a:pt x="87" y="602"/>
                    </a:lnTo>
                    <a:lnTo>
                      <a:pt x="98" y="602"/>
                    </a:lnTo>
                    <a:lnTo>
                      <a:pt x="98" y="602"/>
                    </a:lnTo>
                    <a:lnTo>
                      <a:pt x="102" y="602"/>
                    </a:lnTo>
                    <a:lnTo>
                      <a:pt x="109" y="598"/>
                    </a:lnTo>
                    <a:lnTo>
                      <a:pt x="105" y="591"/>
                    </a:lnTo>
                    <a:lnTo>
                      <a:pt x="105" y="598"/>
                    </a:lnTo>
                    <a:lnTo>
                      <a:pt x="112" y="598"/>
                    </a:lnTo>
                    <a:lnTo>
                      <a:pt x="116" y="598"/>
                    </a:lnTo>
                    <a:lnTo>
                      <a:pt x="116" y="598"/>
                    </a:lnTo>
                    <a:lnTo>
                      <a:pt x="127" y="595"/>
                    </a:lnTo>
                    <a:lnTo>
                      <a:pt x="145" y="587"/>
                    </a:lnTo>
                    <a:lnTo>
                      <a:pt x="156" y="584"/>
                    </a:lnTo>
                    <a:lnTo>
                      <a:pt x="152" y="576"/>
                    </a:lnTo>
                    <a:lnTo>
                      <a:pt x="152" y="584"/>
                    </a:lnTo>
                    <a:lnTo>
                      <a:pt x="167" y="580"/>
                    </a:lnTo>
                    <a:lnTo>
                      <a:pt x="178" y="580"/>
                    </a:lnTo>
                    <a:lnTo>
                      <a:pt x="185" y="580"/>
                    </a:lnTo>
                    <a:lnTo>
                      <a:pt x="185" y="573"/>
                    </a:lnTo>
                    <a:lnTo>
                      <a:pt x="181" y="576"/>
                    </a:lnTo>
                    <a:lnTo>
                      <a:pt x="185" y="580"/>
                    </a:lnTo>
                    <a:lnTo>
                      <a:pt x="189" y="584"/>
                    </a:lnTo>
                    <a:lnTo>
                      <a:pt x="189" y="584"/>
                    </a:lnTo>
                    <a:lnTo>
                      <a:pt x="192" y="584"/>
                    </a:lnTo>
                    <a:lnTo>
                      <a:pt x="192" y="576"/>
                    </a:lnTo>
                    <a:lnTo>
                      <a:pt x="192" y="584"/>
                    </a:lnTo>
                    <a:lnTo>
                      <a:pt x="199" y="587"/>
                    </a:lnTo>
                    <a:lnTo>
                      <a:pt x="199" y="580"/>
                    </a:lnTo>
                    <a:lnTo>
                      <a:pt x="196" y="584"/>
                    </a:lnTo>
                    <a:lnTo>
                      <a:pt x="199" y="587"/>
                    </a:lnTo>
                    <a:lnTo>
                      <a:pt x="203" y="584"/>
                    </a:lnTo>
                    <a:lnTo>
                      <a:pt x="199" y="587"/>
                    </a:lnTo>
                    <a:lnTo>
                      <a:pt x="203" y="595"/>
                    </a:lnTo>
                    <a:lnTo>
                      <a:pt x="203" y="595"/>
                    </a:lnTo>
                    <a:lnTo>
                      <a:pt x="203" y="595"/>
                    </a:lnTo>
                    <a:lnTo>
                      <a:pt x="207" y="598"/>
                    </a:lnTo>
                    <a:lnTo>
                      <a:pt x="210" y="595"/>
                    </a:lnTo>
                    <a:lnTo>
                      <a:pt x="207" y="598"/>
                    </a:lnTo>
                    <a:lnTo>
                      <a:pt x="210" y="609"/>
                    </a:lnTo>
                    <a:lnTo>
                      <a:pt x="214" y="616"/>
                    </a:lnTo>
                    <a:lnTo>
                      <a:pt x="218" y="627"/>
                    </a:lnTo>
                    <a:lnTo>
                      <a:pt x="221" y="638"/>
                    </a:lnTo>
                    <a:lnTo>
                      <a:pt x="225" y="649"/>
                    </a:lnTo>
                    <a:lnTo>
                      <a:pt x="228" y="645"/>
                    </a:lnTo>
                    <a:lnTo>
                      <a:pt x="225" y="645"/>
                    </a:lnTo>
                    <a:lnTo>
                      <a:pt x="225" y="660"/>
                    </a:lnTo>
                    <a:lnTo>
                      <a:pt x="225" y="663"/>
                    </a:lnTo>
                    <a:lnTo>
                      <a:pt x="225" y="663"/>
                    </a:lnTo>
                    <a:lnTo>
                      <a:pt x="228" y="678"/>
                    </a:lnTo>
                    <a:lnTo>
                      <a:pt x="232" y="674"/>
                    </a:lnTo>
                    <a:lnTo>
                      <a:pt x="228" y="674"/>
                    </a:lnTo>
                    <a:lnTo>
                      <a:pt x="228" y="689"/>
                    </a:lnTo>
                    <a:lnTo>
                      <a:pt x="228" y="703"/>
                    </a:lnTo>
                    <a:lnTo>
                      <a:pt x="228" y="718"/>
                    </a:lnTo>
                    <a:lnTo>
                      <a:pt x="228" y="732"/>
                    </a:lnTo>
                    <a:lnTo>
                      <a:pt x="232" y="732"/>
                    </a:lnTo>
                    <a:lnTo>
                      <a:pt x="228" y="732"/>
                    </a:lnTo>
                    <a:lnTo>
                      <a:pt x="225" y="747"/>
                    </a:lnTo>
                    <a:lnTo>
                      <a:pt x="225" y="747"/>
                    </a:lnTo>
                    <a:lnTo>
                      <a:pt x="225" y="747"/>
                    </a:lnTo>
                    <a:lnTo>
                      <a:pt x="225" y="761"/>
                    </a:lnTo>
                    <a:lnTo>
                      <a:pt x="228" y="761"/>
                    </a:lnTo>
                    <a:lnTo>
                      <a:pt x="225" y="761"/>
                    </a:lnTo>
                    <a:lnTo>
                      <a:pt x="221" y="776"/>
                    </a:lnTo>
                    <a:lnTo>
                      <a:pt x="218" y="790"/>
                    </a:lnTo>
                    <a:lnTo>
                      <a:pt x="214" y="805"/>
                    </a:lnTo>
                    <a:lnTo>
                      <a:pt x="210" y="816"/>
                    </a:lnTo>
                    <a:lnTo>
                      <a:pt x="207" y="819"/>
                    </a:lnTo>
                    <a:lnTo>
                      <a:pt x="214" y="823"/>
                    </a:lnTo>
                    <a:lnTo>
                      <a:pt x="239" y="823"/>
                    </a:lnTo>
                    <a:lnTo>
                      <a:pt x="265" y="823"/>
                    </a:lnTo>
                    <a:lnTo>
                      <a:pt x="290" y="823"/>
                    </a:lnTo>
                    <a:lnTo>
                      <a:pt x="312" y="823"/>
                    </a:lnTo>
                    <a:lnTo>
                      <a:pt x="334" y="823"/>
                    </a:lnTo>
                    <a:lnTo>
                      <a:pt x="355" y="823"/>
                    </a:lnTo>
                    <a:lnTo>
                      <a:pt x="373" y="823"/>
                    </a:lnTo>
                    <a:lnTo>
                      <a:pt x="384" y="823"/>
                    </a:lnTo>
                    <a:lnTo>
                      <a:pt x="402" y="819"/>
                    </a:lnTo>
                    <a:lnTo>
                      <a:pt x="417" y="816"/>
                    </a:lnTo>
                    <a:lnTo>
                      <a:pt x="421" y="812"/>
                    </a:lnTo>
                    <a:lnTo>
                      <a:pt x="421" y="812"/>
                    </a:lnTo>
                    <a:lnTo>
                      <a:pt x="431" y="801"/>
                    </a:lnTo>
                    <a:lnTo>
                      <a:pt x="428" y="798"/>
                    </a:lnTo>
                    <a:lnTo>
                      <a:pt x="431" y="805"/>
                    </a:lnTo>
                    <a:lnTo>
                      <a:pt x="446" y="798"/>
                    </a:lnTo>
                    <a:lnTo>
                      <a:pt x="446" y="798"/>
                    </a:lnTo>
                    <a:lnTo>
                      <a:pt x="446" y="794"/>
                    </a:lnTo>
                    <a:lnTo>
                      <a:pt x="453" y="787"/>
                    </a:lnTo>
                    <a:lnTo>
                      <a:pt x="460" y="780"/>
                    </a:lnTo>
                    <a:lnTo>
                      <a:pt x="464" y="780"/>
                    </a:lnTo>
                    <a:lnTo>
                      <a:pt x="464" y="780"/>
                    </a:lnTo>
                    <a:lnTo>
                      <a:pt x="471" y="769"/>
                    </a:lnTo>
                    <a:lnTo>
                      <a:pt x="475" y="758"/>
                    </a:lnTo>
                    <a:lnTo>
                      <a:pt x="479" y="747"/>
                    </a:lnTo>
                    <a:lnTo>
                      <a:pt x="479" y="747"/>
                    </a:lnTo>
                    <a:lnTo>
                      <a:pt x="479" y="743"/>
                    </a:lnTo>
                    <a:lnTo>
                      <a:pt x="479" y="736"/>
                    </a:lnTo>
                    <a:lnTo>
                      <a:pt x="479" y="725"/>
                    </a:lnTo>
                    <a:lnTo>
                      <a:pt x="479" y="714"/>
                    </a:lnTo>
                    <a:lnTo>
                      <a:pt x="479" y="714"/>
                    </a:lnTo>
                    <a:lnTo>
                      <a:pt x="479" y="714"/>
                    </a:lnTo>
                    <a:lnTo>
                      <a:pt x="475" y="703"/>
                    </a:lnTo>
                    <a:lnTo>
                      <a:pt x="475" y="703"/>
                    </a:lnTo>
                    <a:lnTo>
                      <a:pt x="471" y="700"/>
                    </a:lnTo>
                    <a:lnTo>
                      <a:pt x="464" y="692"/>
                    </a:lnTo>
                    <a:lnTo>
                      <a:pt x="460" y="696"/>
                    </a:lnTo>
                    <a:lnTo>
                      <a:pt x="468" y="696"/>
                    </a:lnTo>
                    <a:lnTo>
                      <a:pt x="464" y="685"/>
                    </a:lnTo>
                    <a:lnTo>
                      <a:pt x="460" y="682"/>
                    </a:lnTo>
                    <a:lnTo>
                      <a:pt x="460" y="682"/>
                    </a:lnTo>
                    <a:lnTo>
                      <a:pt x="450" y="674"/>
                    </a:lnTo>
                    <a:lnTo>
                      <a:pt x="446" y="678"/>
                    </a:lnTo>
                    <a:lnTo>
                      <a:pt x="453" y="678"/>
                    </a:lnTo>
                    <a:lnTo>
                      <a:pt x="446" y="667"/>
                    </a:lnTo>
                    <a:lnTo>
                      <a:pt x="446" y="667"/>
                    </a:lnTo>
                    <a:lnTo>
                      <a:pt x="442" y="663"/>
                    </a:lnTo>
                    <a:lnTo>
                      <a:pt x="435" y="656"/>
                    </a:lnTo>
                    <a:lnTo>
                      <a:pt x="431" y="660"/>
                    </a:lnTo>
                    <a:lnTo>
                      <a:pt x="439" y="660"/>
                    </a:lnTo>
                    <a:lnTo>
                      <a:pt x="435" y="649"/>
                    </a:lnTo>
                    <a:lnTo>
                      <a:pt x="431" y="638"/>
                    </a:lnTo>
                    <a:lnTo>
                      <a:pt x="424" y="638"/>
                    </a:lnTo>
                    <a:lnTo>
                      <a:pt x="431" y="638"/>
                    </a:lnTo>
                    <a:lnTo>
                      <a:pt x="431" y="624"/>
                    </a:lnTo>
                    <a:lnTo>
                      <a:pt x="431" y="613"/>
                    </a:lnTo>
                    <a:lnTo>
                      <a:pt x="431" y="602"/>
                    </a:lnTo>
                    <a:lnTo>
                      <a:pt x="424" y="602"/>
                    </a:lnTo>
                    <a:lnTo>
                      <a:pt x="431" y="605"/>
                    </a:lnTo>
                    <a:lnTo>
                      <a:pt x="435" y="595"/>
                    </a:lnTo>
                    <a:lnTo>
                      <a:pt x="439" y="584"/>
                    </a:lnTo>
                    <a:lnTo>
                      <a:pt x="446" y="573"/>
                    </a:lnTo>
                    <a:lnTo>
                      <a:pt x="439" y="569"/>
                    </a:lnTo>
                    <a:lnTo>
                      <a:pt x="442" y="576"/>
                    </a:lnTo>
                    <a:lnTo>
                      <a:pt x="450" y="573"/>
                    </a:lnTo>
                    <a:lnTo>
                      <a:pt x="450" y="569"/>
                    </a:lnTo>
                    <a:lnTo>
                      <a:pt x="453" y="569"/>
                    </a:lnTo>
                    <a:lnTo>
                      <a:pt x="457" y="562"/>
                    </a:lnTo>
                    <a:lnTo>
                      <a:pt x="450" y="558"/>
                    </a:lnTo>
                    <a:lnTo>
                      <a:pt x="453" y="562"/>
                    </a:lnTo>
                    <a:lnTo>
                      <a:pt x="457" y="558"/>
                    </a:lnTo>
                    <a:lnTo>
                      <a:pt x="453" y="555"/>
                    </a:lnTo>
                    <a:lnTo>
                      <a:pt x="453" y="562"/>
                    </a:lnTo>
                    <a:lnTo>
                      <a:pt x="460" y="562"/>
                    </a:lnTo>
                    <a:lnTo>
                      <a:pt x="464" y="562"/>
                    </a:lnTo>
                    <a:lnTo>
                      <a:pt x="464" y="558"/>
                    </a:lnTo>
                    <a:lnTo>
                      <a:pt x="468" y="555"/>
                    </a:lnTo>
                    <a:lnTo>
                      <a:pt x="464" y="551"/>
                    </a:lnTo>
                    <a:lnTo>
                      <a:pt x="468" y="558"/>
                    </a:lnTo>
                    <a:lnTo>
                      <a:pt x="475" y="555"/>
                    </a:lnTo>
                    <a:lnTo>
                      <a:pt x="482" y="551"/>
                    </a:lnTo>
                    <a:lnTo>
                      <a:pt x="489" y="547"/>
                    </a:lnTo>
                    <a:lnTo>
                      <a:pt x="486" y="540"/>
                    </a:lnTo>
                    <a:lnTo>
                      <a:pt x="486" y="547"/>
                    </a:lnTo>
                    <a:lnTo>
                      <a:pt x="493" y="547"/>
                    </a:lnTo>
                    <a:lnTo>
                      <a:pt x="497" y="547"/>
                    </a:lnTo>
                    <a:lnTo>
                      <a:pt x="497" y="547"/>
                    </a:lnTo>
                    <a:lnTo>
                      <a:pt x="508" y="544"/>
                    </a:lnTo>
                    <a:lnTo>
                      <a:pt x="504" y="537"/>
                    </a:lnTo>
                    <a:lnTo>
                      <a:pt x="504" y="544"/>
                    </a:lnTo>
                    <a:lnTo>
                      <a:pt x="515" y="544"/>
                    </a:lnTo>
                    <a:lnTo>
                      <a:pt x="522" y="544"/>
                    </a:lnTo>
                    <a:lnTo>
                      <a:pt x="533" y="544"/>
                    </a:lnTo>
                    <a:lnTo>
                      <a:pt x="544" y="544"/>
                    </a:lnTo>
                    <a:lnTo>
                      <a:pt x="544" y="537"/>
                    </a:lnTo>
                    <a:lnTo>
                      <a:pt x="544" y="544"/>
                    </a:lnTo>
                    <a:lnTo>
                      <a:pt x="551" y="547"/>
                    </a:lnTo>
                    <a:lnTo>
                      <a:pt x="562" y="551"/>
                    </a:lnTo>
                    <a:lnTo>
                      <a:pt x="562" y="551"/>
                    </a:lnTo>
                    <a:lnTo>
                      <a:pt x="562" y="551"/>
                    </a:lnTo>
                    <a:lnTo>
                      <a:pt x="569" y="551"/>
                    </a:lnTo>
                    <a:lnTo>
                      <a:pt x="569" y="544"/>
                    </a:lnTo>
                    <a:lnTo>
                      <a:pt x="569" y="551"/>
                    </a:lnTo>
                    <a:lnTo>
                      <a:pt x="577" y="555"/>
                    </a:lnTo>
                    <a:lnTo>
                      <a:pt x="577" y="547"/>
                    </a:lnTo>
                    <a:lnTo>
                      <a:pt x="573" y="551"/>
                    </a:lnTo>
                    <a:lnTo>
                      <a:pt x="577" y="555"/>
                    </a:lnTo>
                    <a:lnTo>
                      <a:pt x="580" y="558"/>
                    </a:lnTo>
                    <a:lnTo>
                      <a:pt x="580" y="558"/>
                    </a:lnTo>
                    <a:lnTo>
                      <a:pt x="587" y="562"/>
                    </a:lnTo>
                    <a:lnTo>
                      <a:pt x="595" y="566"/>
                    </a:lnTo>
                    <a:lnTo>
                      <a:pt x="595" y="558"/>
                    </a:lnTo>
                    <a:lnTo>
                      <a:pt x="591" y="562"/>
                    </a:lnTo>
                    <a:lnTo>
                      <a:pt x="595" y="569"/>
                    </a:lnTo>
                    <a:lnTo>
                      <a:pt x="595" y="569"/>
                    </a:lnTo>
                    <a:lnTo>
                      <a:pt x="595" y="569"/>
                    </a:lnTo>
                    <a:lnTo>
                      <a:pt x="598" y="573"/>
                    </a:lnTo>
                    <a:lnTo>
                      <a:pt x="602" y="569"/>
                    </a:lnTo>
                    <a:lnTo>
                      <a:pt x="598" y="573"/>
                    </a:lnTo>
                    <a:lnTo>
                      <a:pt x="602" y="580"/>
                    </a:lnTo>
                    <a:lnTo>
                      <a:pt x="606" y="591"/>
                    </a:lnTo>
                    <a:lnTo>
                      <a:pt x="609" y="602"/>
                    </a:lnTo>
                    <a:lnTo>
                      <a:pt x="613" y="598"/>
                    </a:lnTo>
                    <a:lnTo>
                      <a:pt x="609" y="598"/>
                    </a:lnTo>
                    <a:lnTo>
                      <a:pt x="609" y="613"/>
                    </a:lnTo>
                    <a:lnTo>
                      <a:pt x="609" y="624"/>
                    </a:lnTo>
                    <a:lnTo>
                      <a:pt x="609" y="638"/>
                    </a:lnTo>
                    <a:lnTo>
                      <a:pt x="613" y="638"/>
                    </a:lnTo>
                    <a:lnTo>
                      <a:pt x="609" y="638"/>
                    </a:lnTo>
                    <a:lnTo>
                      <a:pt x="606" y="649"/>
                    </a:lnTo>
                    <a:lnTo>
                      <a:pt x="602" y="660"/>
                    </a:lnTo>
                    <a:lnTo>
                      <a:pt x="598" y="671"/>
                    </a:lnTo>
                    <a:lnTo>
                      <a:pt x="602" y="671"/>
                    </a:lnTo>
                    <a:lnTo>
                      <a:pt x="598" y="667"/>
                    </a:lnTo>
                    <a:lnTo>
                      <a:pt x="591" y="674"/>
                    </a:lnTo>
                    <a:lnTo>
                      <a:pt x="584" y="682"/>
                    </a:lnTo>
                    <a:lnTo>
                      <a:pt x="587" y="685"/>
                    </a:lnTo>
                    <a:lnTo>
                      <a:pt x="587" y="682"/>
                    </a:lnTo>
                    <a:lnTo>
                      <a:pt x="580" y="685"/>
                    </a:lnTo>
                    <a:lnTo>
                      <a:pt x="580" y="685"/>
                    </a:lnTo>
                    <a:lnTo>
                      <a:pt x="577" y="685"/>
                    </a:lnTo>
                    <a:lnTo>
                      <a:pt x="569" y="692"/>
                    </a:lnTo>
                    <a:lnTo>
                      <a:pt x="569" y="696"/>
                    </a:lnTo>
                    <a:lnTo>
                      <a:pt x="569" y="696"/>
                    </a:lnTo>
                    <a:lnTo>
                      <a:pt x="566" y="703"/>
                    </a:lnTo>
                    <a:lnTo>
                      <a:pt x="562" y="714"/>
                    </a:lnTo>
                    <a:lnTo>
                      <a:pt x="558" y="722"/>
                    </a:lnTo>
                    <a:lnTo>
                      <a:pt x="558" y="722"/>
                    </a:lnTo>
                    <a:lnTo>
                      <a:pt x="558" y="722"/>
                    </a:lnTo>
                    <a:lnTo>
                      <a:pt x="558" y="729"/>
                    </a:lnTo>
                    <a:lnTo>
                      <a:pt x="562" y="729"/>
                    </a:lnTo>
                    <a:lnTo>
                      <a:pt x="558" y="729"/>
                    </a:lnTo>
                    <a:lnTo>
                      <a:pt x="555" y="740"/>
                    </a:lnTo>
                    <a:lnTo>
                      <a:pt x="555" y="740"/>
                    </a:lnTo>
                    <a:lnTo>
                      <a:pt x="555" y="740"/>
                    </a:lnTo>
                    <a:lnTo>
                      <a:pt x="555" y="751"/>
                    </a:lnTo>
                    <a:lnTo>
                      <a:pt x="555" y="751"/>
                    </a:lnTo>
                    <a:lnTo>
                      <a:pt x="555" y="754"/>
                    </a:lnTo>
                    <a:lnTo>
                      <a:pt x="558" y="761"/>
                    </a:lnTo>
                    <a:lnTo>
                      <a:pt x="562" y="772"/>
                    </a:lnTo>
                    <a:lnTo>
                      <a:pt x="566" y="783"/>
                    </a:lnTo>
                    <a:lnTo>
                      <a:pt x="566" y="783"/>
                    </a:lnTo>
                    <a:lnTo>
                      <a:pt x="566" y="783"/>
                    </a:lnTo>
                    <a:lnTo>
                      <a:pt x="573" y="790"/>
                    </a:lnTo>
                    <a:lnTo>
                      <a:pt x="577" y="787"/>
                    </a:lnTo>
                    <a:lnTo>
                      <a:pt x="573" y="790"/>
                    </a:lnTo>
                    <a:lnTo>
                      <a:pt x="580" y="801"/>
                    </a:lnTo>
                    <a:lnTo>
                      <a:pt x="580" y="801"/>
                    </a:lnTo>
                    <a:lnTo>
                      <a:pt x="584" y="805"/>
                    </a:lnTo>
                    <a:lnTo>
                      <a:pt x="595" y="812"/>
                    </a:lnTo>
                    <a:lnTo>
                      <a:pt x="606" y="819"/>
                    </a:lnTo>
                    <a:lnTo>
                      <a:pt x="602" y="816"/>
                    </a:lnTo>
                    <a:lnTo>
                      <a:pt x="606" y="819"/>
                    </a:lnTo>
                    <a:lnTo>
                      <a:pt x="620" y="823"/>
                    </a:lnTo>
                    <a:lnTo>
                      <a:pt x="620" y="816"/>
                    </a:lnTo>
                    <a:lnTo>
                      <a:pt x="620" y="823"/>
                    </a:lnTo>
                    <a:lnTo>
                      <a:pt x="627" y="827"/>
                    </a:lnTo>
                    <a:lnTo>
                      <a:pt x="624" y="823"/>
                    </a:lnTo>
                    <a:lnTo>
                      <a:pt x="627" y="827"/>
                    </a:lnTo>
                    <a:lnTo>
                      <a:pt x="642" y="830"/>
                    </a:lnTo>
                    <a:lnTo>
                      <a:pt x="667" y="834"/>
                    </a:lnTo>
                    <a:lnTo>
                      <a:pt x="696" y="838"/>
                    </a:lnTo>
                    <a:lnTo>
                      <a:pt x="714" y="838"/>
                    </a:lnTo>
                    <a:lnTo>
                      <a:pt x="732" y="841"/>
                    </a:lnTo>
                    <a:lnTo>
                      <a:pt x="751" y="841"/>
                    </a:lnTo>
                    <a:lnTo>
                      <a:pt x="769" y="841"/>
                    </a:lnTo>
                    <a:lnTo>
                      <a:pt x="787" y="841"/>
                    </a:lnTo>
                    <a:lnTo>
                      <a:pt x="809" y="841"/>
                    </a:lnTo>
                    <a:lnTo>
                      <a:pt x="823" y="838"/>
                    </a:lnTo>
                    <a:lnTo>
                      <a:pt x="841" y="834"/>
                    </a:lnTo>
                    <a:lnTo>
                      <a:pt x="845" y="830"/>
                    </a:lnTo>
                    <a:lnTo>
                      <a:pt x="848" y="827"/>
                    </a:lnTo>
                    <a:lnTo>
                      <a:pt x="848" y="819"/>
                    </a:lnTo>
                    <a:lnTo>
                      <a:pt x="848" y="819"/>
                    </a:lnTo>
                    <a:lnTo>
                      <a:pt x="848" y="819"/>
                    </a:lnTo>
                    <a:lnTo>
                      <a:pt x="845" y="809"/>
                    </a:lnTo>
                    <a:lnTo>
                      <a:pt x="841" y="798"/>
                    </a:lnTo>
                    <a:lnTo>
                      <a:pt x="834" y="798"/>
                    </a:lnTo>
                    <a:lnTo>
                      <a:pt x="841" y="798"/>
                    </a:lnTo>
                    <a:lnTo>
                      <a:pt x="841" y="787"/>
                    </a:lnTo>
                    <a:lnTo>
                      <a:pt x="841" y="761"/>
                    </a:lnTo>
                    <a:lnTo>
                      <a:pt x="841" y="736"/>
                    </a:lnTo>
                    <a:lnTo>
                      <a:pt x="841" y="707"/>
                    </a:lnTo>
                    <a:lnTo>
                      <a:pt x="845" y="682"/>
                    </a:lnTo>
                    <a:lnTo>
                      <a:pt x="848" y="656"/>
                    </a:lnTo>
                    <a:lnTo>
                      <a:pt x="848" y="634"/>
                    </a:lnTo>
                    <a:lnTo>
                      <a:pt x="841" y="634"/>
                    </a:lnTo>
                    <a:lnTo>
                      <a:pt x="848" y="638"/>
                    </a:lnTo>
                    <a:lnTo>
                      <a:pt x="852" y="627"/>
                    </a:lnTo>
                    <a:lnTo>
                      <a:pt x="856" y="620"/>
                    </a:lnTo>
                    <a:lnTo>
                      <a:pt x="859" y="613"/>
                    </a:lnTo>
                    <a:lnTo>
                      <a:pt x="852" y="609"/>
                    </a:lnTo>
                    <a:lnTo>
                      <a:pt x="856" y="616"/>
                    </a:lnTo>
                    <a:lnTo>
                      <a:pt x="863" y="613"/>
                    </a:lnTo>
                    <a:lnTo>
                      <a:pt x="863" y="613"/>
                    </a:lnTo>
                    <a:lnTo>
                      <a:pt x="863" y="609"/>
                    </a:lnTo>
                    <a:lnTo>
                      <a:pt x="867" y="605"/>
                    </a:lnTo>
                    <a:lnTo>
                      <a:pt x="863" y="602"/>
                    </a:lnTo>
                    <a:lnTo>
                      <a:pt x="867" y="609"/>
                    </a:lnTo>
                    <a:lnTo>
                      <a:pt x="874" y="605"/>
                    </a:lnTo>
                    <a:lnTo>
                      <a:pt x="870" y="598"/>
                    </a:lnTo>
                    <a:lnTo>
                      <a:pt x="870" y="605"/>
                    </a:lnTo>
                    <a:lnTo>
                      <a:pt x="877" y="605"/>
                    </a:lnTo>
                    <a:lnTo>
                      <a:pt x="885" y="605"/>
                    </a:lnTo>
                    <a:lnTo>
                      <a:pt x="892" y="605"/>
                    </a:lnTo>
                    <a:lnTo>
                      <a:pt x="892" y="598"/>
                    </a:lnTo>
                    <a:lnTo>
                      <a:pt x="892" y="605"/>
                    </a:lnTo>
                    <a:lnTo>
                      <a:pt x="903" y="609"/>
                    </a:lnTo>
                    <a:lnTo>
                      <a:pt x="910" y="613"/>
                    </a:lnTo>
                    <a:lnTo>
                      <a:pt x="917" y="616"/>
                    </a:lnTo>
                    <a:lnTo>
                      <a:pt x="925" y="620"/>
                    </a:lnTo>
                    <a:lnTo>
                      <a:pt x="932" y="624"/>
                    </a:lnTo>
                    <a:lnTo>
                      <a:pt x="943" y="631"/>
                    </a:lnTo>
                    <a:lnTo>
                      <a:pt x="943" y="624"/>
                    </a:lnTo>
                    <a:lnTo>
                      <a:pt x="939" y="627"/>
                    </a:lnTo>
                    <a:lnTo>
                      <a:pt x="943" y="634"/>
                    </a:lnTo>
                    <a:lnTo>
                      <a:pt x="943" y="634"/>
                    </a:lnTo>
                    <a:lnTo>
                      <a:pt x="943" y="634"/>
                    </a:lnTo>
                    <a:lnTo>
                      <a:pt x="950" y="642"/>
                    </a:lnTo>
                    <a:lnTo>
                      <a:pt x="954" y="645"/>
                    </a:lnTo>
                    <a:lnTo>
                      <a:pt x="954" y="645"/>
                    </a:lnTo>
                    <a:lnTo>
                      <a:pt x="961" y="649"/>
                    </a:lnTo>
                    <a:lnTo>
                      <a:pt x="972" y="653"/>
                    </a:lnTo>
                    <a:lnTo>
                      <a:pt x="983" y="656"/>
                    </a:lnTo>
                    <a:lnTo>
                      <a:pt x="983" y="656"/>
                    </a:lnTo>
                    <a:lnTo>
                      <a:pt x="983" y="656"/>
                    </a:lnTo>
                    <a:lnTo>
                      <a:pt x="990" y="656"/>
                    </a:lnTo>
                    <a:lnTo>
                      <a:pt x="990" y="649"/>
                    </a:lnTo>
                    <a:lnTo>
                      <a:pt x="990" y="656"/>
                    </a:lnTo>
                    <a:lnTo>
                      <a:pt x="1001" y="660"/>
                    </a:lnTo>
                    <a:lnTo>
                      <a:pt x="1001" y="660"/>
                    </a:lnTo>
                    <a:lnTo>
                      <a:pt x="1004" y="660"/>
                    </a:lnTo>
                    <a:lnTo>
                      <a:pt x="1015" y="656"/>
                    </a:lnTo>
                    <a:lnTo>
                      <a:pt x="1012" y="649"/>
                    </a:lnTo>
                    <a:lnTo>
                      <a:pt x="1012" y="656"/>
                    </a:lnTo>
                    <a:lnTo>
                      <a:pt x="1022" y="656"/>
                    </a:lnTo>
                    <a:lnTo>
                      <a:pt x="1022" y="656"/>
                    </a:lnTo>
                    <a:lnTo>
                      <a:pt x="1026" y="656"/>
                    </a:lnTo>
                    <a:lnTo>
                      <a:pt x="1033" y="653"/>
                    </a:lnTo>
                    <a:lnTo>
                      <a:pt x="1044" y="649"/>
                    </a:lnTo>
                    <a:lnTo>
                      <a:pt x="1044" y="649"/>
                    </a:lnTo>
                    <a:lnTo>
                      <a:pt x="1044" y="645"/>
                    </a:lnTo>
                    <a:lnTo>
                      <a:pt x="1051" y="638"/>
                    </a:lnTo>
                    <a:lnTo>
                      <a:pt x="1059" y="631"/>
                    </a:lnTo>
                    <a:lnTo>
                      <a:pt x="1066" y="624"/>
                    </a:lnTo>
                    <a:lnTo>
                      <a:pt x="1070" y="624"/>
                    </a:lnTo>
                    <a:lnTo>
                      <a:pt x="1070" y="624"/>
                    </a:lnTo>
                    <a:lnTo>
                      <a:pt x="1077" y="613"/>
                    </a:lnTo>
                    <a:lnTo>
                      <a:pt x="1080" y="602"/>
                    </a:lnTo>
                    <a:lnTo>
                      <a:pt x="1084" y="587"/>
                    </a:lnTo>
                    <a:lnTo>
                      <a:pt x="1084" y="587"/>
                    </a:lnTo>
                    <a:lnTo>
                      <a:pt x="1084" y="584"/>
                    </a:lnTo>
                    <a:lnTo>
                      <a:pt x="1084" y="576"/>
                    </a:lnTo>
                    <a:lnTo>
                      <a:pt x="1084" y="569"/>
                    </a:lnTo>
                    <a:lnTo>
                      <a:pt x="1084" y="562"/>
                    </a:lnTo>
                    <a:lnTo>
                      <a:pt x="1084" y="555"/>
                    </a:lnTo>
                    <a:lnTo>
                      <a:pt x="1084" y="555"/>
                    </a:lnTo>
                    <a:lnTo>
                      <a:pt x="1080" y="551"/>
                    </a:lnTo>
                    <a:lnTo>
                      <a:pt x="1077" y="547"/>
                    </a:lnTo>
                    <a:lnTo>
                      <a:pt x="1073" y="551"/>
                    </a:lnTo>
                    <a:lnTo>
                      <a:pt x="1080" y="551"/>
                    </a:lnTo>
                    <a:lnTo>
                      <a:pt x="1077" y="544"/>
                    </a:lnTo>
                    <a:lnTo>
                      <a:pt x="1070" y="544"/>
                    </a:lnTo>
                    <a:lnTo>
                      <a:pt x="1077" y="544"/>
                    </a:lnTo>
                    <a:lnTo>
                      <a:pt x="1077" y="537"/>
                    </a:lnTo>
                    <a:lnTo>
                      <a:pt x="1077" y="537"/>
                    </a:lnTo>
                    <a:lnTo>
                      <a:pt x="1073" y="533"/>
                    </a:lnTo>
                    <a:lnTo>
                      <a:pt x="1070" y="529"/>
                    </a:lnTo>
                    <a:lnTo>
                      <a:pt x="1066" y="533"/>
                    </a:lnTo>
                    <a:lnTo>
                      <a:pt x="1073" y="533"/>
                    </a:lnTo>
                    <a:lnTo>
                      <a:pt x="1066" y="522"/>
                    </a:lnTo>
                    <a:lnTo>
                      <a:pt x="1062" y="518"/>
                    </a:lnTo>
                    <a:lnTo>
                      <a:pt x="1062" y="518"/>
                    </a:lnTo>
                    <a:lnTo>
                      <a:pt x="1051" y="511"/>
                    </a:lnTo>
                    <a:lnTo>
                      <a:pt x="1041" y="504"/>
                    </a:lnTo>
                    <a:lnTo>
                      <a:pt x="1030" y="497"/>
                    </a:lnTo>
                    <a:lnTo>
                      <a:pt x="1019" y="493"/>
                    </a:lnTo>
                    <a:lnTo>
                      <a:pt x="1008" y="489"/>
                    </a:lnTo>
                    <a:lnTo>
                      <a:pt x="1008" y="489"/>
                    </a:lnTo>
                    <a:lnTo>
                      <a:pt x="1004" y="489"/>
                    </a:lnTo>
                    <a:lnTo>
                      <a:pt x="990" y="489"/>
                    </a:lnTo>
                    <a:lnTo>
                      <a:pt x="979" y="489"/>
                    </a:lnTo>
                    <a:lnTo>
                      <a:pt x="979" y="489"/>
                    </a:lnTo>
                    <a:lnTo>
                      <a:pt x="979" y="489"/>
                    </a:lnTo>
                    <a:lnTo>
                      <a:pt x="968" y="493"/>
                    </a:lnTo>
                    <a:lnTo>
                      <a:pt x="957" y="497"/>
                    </a:lnTo>
                    <a:lnTo>
                      <a:pt x="957" y="500"/>
                    </a:lnTo>
                    <a:lnTo>
                      <a:pt x="957" y="497"/>
                    </a:lnTo>
                    <a:lnTo>
                      <a:pt x="954" y="497"/>
                    </a:lnTo>
                    <a:lnTo>
                      <a:pt x="954" y="497"/>
                    </a:lnTo>
                    <a:lnTo>
                      <a:pt x="950" y="497"/>
                    </a:lnTo>
                    <a:lnTo>
                      <a:pt x="946" y="500"/>
                    </a:lnTo>
                    <a:lnTo>
                      <a:pt x="943" y="504"/>
                    </a:lnTo>
                    <a:lnTo>
                      <a:pt x="943" y="508"/>
                    </a:lnTo>
                    <a:lnTo>
                      <a:pt x="943" y="508"/>
                    </a:lnTo>
                    <a:lnTo>
                      <a:pt x="939" y="515"/>
                    </a:lnTo>
                    <a:lnTo>
                      <a:pt x="943" y="515"/>
                    </a:lnTo>
                    <a:lnTo>
                      <a:pt x="939" y="511"/>
                    </a:lnTo>
                    <a:lnTo>
                      <a:pt x="932" y="518"/>
                    </a:lnTo>
                    <a:lnTo>
                      <a:pt x="925" y="526"/>
                    </a:lnTo>
                    <a:lnTo>
                      <a:pt x="928" y="529"/>
                    </a:lnTo>
                    <a:lnTo>
                      <a:pt x="928" y="526"/>
                    </a:lnTo>
                    <a:lnTo>
                      <a:pt x="921" y="529"/>
                    </a:lnTo>
                    <a:lnTo>
                      <a:pt x="914" y="533"/>
                    </a:lnTo>
                    <a:lnTo>
                      <a:pt x="914" y="537"/>
                    </a:lnTo>
                    <a:lnTo>
                      <a:pt x="914" y="533"/>
                    </a:lnTo>
                    <a:lnTo>
                      <a:pt x="906" y="533"/>
                    </a:lnTo>
                    <a:lnTo>
                      <a:pt x="896" y="533"/>
                    </a:lnTo>
                    <a:lnTo>
                      <a:pt x="888" y="533"/>
                    </a:lnTo>
                    <a:lnTo>
                      <a:pt x="888" y="537"/>
                    </a:lnTo>
                    <a:lnTo>
                      <a:pt x="892" y="533"/>
                    </a:lnTo>
                    <a:lnTo>
                      <a:pt x="885" y="529"/>
                    </a:lnTo>
                    <a:lnTo>
                      <a:pt x="885" y="529"/>
                    </a:lnTo>
                    <a:lnTo>
                      <a:pt x="881" y="529"/>
                    </a:lnTo>
                    <a:lnTo>
                      <a:pt x="874" y="529"/>
                    </a:lnTo>
                    <a:lnTo>
                      <a:pt x="874" y="533"/>
                    </a:lnTo>
                    <a:lnTo>
                      <a:pt x="877" y="529"/>
                    </a:lnTo>
                    <a:lnTo>
                      <a:pt x="870" y="526"/>
                    </a:lnTo>
                    <a:lnTo>
                      <a:pt x="867" y="529"/>
                    </a:lnTo>
                    <a:lnTo>
                      <a:pt x="870" y="526"/>
                    </a:lnTo>
                    <a:lnTo>
                      <a:pt x="863" y="518"/>
                    </a:lnTo>
                    <a:lnTo>
                      <a:pt x="863" y="518"/>
                    </a:lnTo>
                    <a:lnTo>
                      <a:pt x="863" y="518"/>
                    </a:lnTo>
                    <a:lnTo>
                      <a:pt x="856" y="515"/>
                    </a:lnTo>
                    <a:lnTo>
                      <a:pt x="852" y="518"/>
                    </a:lnTo>
                    <a:lnTo>
                      <a:pt x="856" y="515"/>
                    </a:lnTo>
                    <a:lnTo>
                      <a:pt x="852" y="511"/>
                    </a:lnTo>
                    <a:lnTo>
                      <a:pt x="848" y="515"/>
                    </a:lnTo>
                    <a:lnTo>
                      <a:pt x="856" y="515"/>
                    </a:lnTo>
                    <a:lnTo>
                      <a:pt x="852" y="508"/>
                    </a:lnTo>
                    <a:lnTo>
                      <a:pt x="852" y="508"/>
                    </a:lnTo>
                    <a:lnTo>
                      <a:pt x="848" y="504"/>
                    </a:lnTo>
                    <a:lnTo>
                      <a:pt x="845" y="500"/>
                    </a:lnTo>
                    <a:lnTo>
                      <a:pt x="841" y="504"/>
                    </a:lnTo>
                    <a:lnTo>
                      <a:pt x="848" y="504"/>
                    </a:lnTo>
                    <a:lnTo>
                      <a:pt x="848" y="497"/>
                    </a:lnTo>
                    <a:lnTo>
                      <a:pt x="848" y="478"/>
                    </a:lnTo>
                    <a:lnTo>
                      <a:pt x="848" y="453"/>
                    </a:lnTo>
                    <a:lnTo>
                      <a:pt x="848" y="413"/>
                    </a:lnTo>
                    <a:lnTo>
                      <a:pt x="848" y="373"/>
                    </a:lnTo>
                    <a:lnTo>
                      <a:pt x="848" y="333"/>
                    </a:lnTo>
                    <a:lnTo>
                      <a:pt x="848" y="290"/>
                    </a:lnTo>
                    <a:lnTo>
                      <a:pt x="848" y="254"/>
                    </a:lnTo>
                    <a:lnTo>
                      <a:pt x="848" y="225"/>
                    </a:lnTo>
                    <a:lnTo>
                      <a:pt x="848" y="217"/>
                    </a:lnTo>
                    <a:lnTo>
                      <a:pt x="841" y="221"/>
                    </a:lnTo>
                    <a:lnTo>
                      <a:pt x="830" y="225"/>
                    </a:lnTo>
                    <a:lnTo>
                      <a:pt x="819" y="232"/>
                    </a:lnTo>
                    <a:lnTo>
                      <a:pt x="819" y="235"/>
                    </a:lnTo>
                    <a:lnTo>
                      <a:pt x="819" y="232"/>
                    </a:lnTo>
                    <a:lnTo>
                      <a:pt x="805" y="235"/>
                    </a:lnTo>
                    <a:lnTo>
                      <a:pt x="790" y="239"/>
                    </a:lnTo>
                    <a:lnTo>
                      <a:pt x="776" y="243"/>
                    </a:lnTo>
                    <a:lnTo>
                      <a:pt x="761" y="243"/>
                    </a:lnTo>
                    <a:lnTo>
                      <a:pt x="743" y="243"/>
                    </a:lnTo>
                    <a:lnTo>
                      <a:pt x="725" y="243"/>
                    </a:lnTo>
                    <a:lnTo>
                      <a:pt x="711" y="243"/>
                    </a:lnTo>
                    <a:lnTo>
                      <a:pt x="693" y="243"/>
                    </a:lnTo>
                    <a:lnTo>
                      <a:pt x="674" y="239"/>
                    </a:lnTo>
                    <a:lnTo>
                      <a:pt x="660" y="235"/>
                    </a:lnTo>
                    <a:lnTo>
                      <a:pt x="645" y="232"/>
                    </a:lnTo>
                    <a:lnTo>
                      <a:pt x="631" y="228"/>
                    </a:lnTo>
                    <a:lnTo>
                      <a:pt x="616" y="225"/>
                    </a:lnTo>
                    <a:lnTo>
                      <a:pt x="616" y="228"/>
                    </a:lnTo>
                    <a:lnTo>
                      <a:pt x="620" y="225"/>
                    </a:lnTo>
                    <a:lnTo>
                      <a:pt x="609" y="221"/>
                    </a:lnTo>
                    <a:lnTo>
                      <a:pt x="602" y="217"/>
                    </a:lnTo>
                    <a:lnTo>
                      <a:pt x="598" y="221"/>
                    </a:lnTo>
                    <a:lnTo>
                      <a:pt x="602" y="217"/>
                    </a:lnTo>
                    <a:lnTo>
                      <a:pt x="595" y="210"/>
                    </a:lnTo>
                    <a:lnTo>
                      <a:pt x="595" y="210"/>
                    </a:lnTo>
                    <a:lnTo>
                      <a:pt x="595" y="210"/>
                    </a:lnTo>
                    <a:lnTo>
                      <a:pt x="587" y="206"/>
                    </a:lnTo>
                    <a:lnTo>
                      <a:pt x="580" y="203"/>
                    </a:lnTo>
                    <a:lnTo>
                      <a:pt x="577" y="206"/>
                    </a:lnTo>
                    <a:lnTo>
                      <a:pt x="580" y="203"/>
                    </a:lnTo>
                    <a:lnTo>
                      <a:pt x="577" y="199"/>
                    </a:lnTo>
                    <a:lnTo>
                      <a:pt x="573" y="196"/>
                    </a:lnTo>
                    <a:lnTo>
                      <a:pt x="569" y="199"/>
                    </a:lnTo>
                    <a:lnTo>
                      <a:pt x="577" y="199"/>
                    </a:lnTo>
                    <a:lnTo>
                      <a:pt x="577" y="192"/>
                    </a:lnTo>
                    <a:lnTo>
                      <a:pt x="577" y="188"/>
                    </a:lnTo>
                    <a:lnTo>
                      <a:pt x="577" y="185"/>
                    </a:lnTo>
                    <a:lnTo>
                      <a:pt x="577" y="177"/>
                    </a:lnTo>
                    <a:lnTo>
                      <a:pt x="569" y="177"/>
                    </a:lnTo>
                    <a:lnTo>
                      <a:pt x="573" y="181"/>
                    </a:lnTo>
                    <a:lnTo>
                      <a:pt x="577" y="177"/>
                    </a:lnTo>
                    <a:lnTo>
                      <a:pt x="580" y="177"/>
                    </a:lnTo>
                    <a:lnTo>
                      <a:pt x="580" y="177"/>
                    </a:lnTo>
                    <a:lnTo>
                      <a:pt x="584" y="170"/>
                    </a:lnTo>
                    <a:lnTo>
                      <a:pt x="591" y="156"/>
                    </a:lnTo>
                    <a:lnTo>
                      <a:pt x="584" y="152"/>
                    </a:lnTo>
                    <a:lnTo>
                      <a:pt x="587" y="156"/>
                    </a:lnTo>
                    <a:lnTo>
                      <a:pt x="602" y="141"/>
                    </a:lnTo>
                    <a:lnTo>
                      <a:pt x="609" y="134"/>
                    </a:lnTo>
                    <a:lnTo>
                      <a:pt x="613" y="134"/>
                    </a:lnTo>
                    <a:lnTo>
                      <a:pt x="613" y="134"/>
                    </a:lnTo>
                    <a:lnTo>
                      <a:pt x="620" y="123"/>
                    </a:lnTo>
                    <a:lnTo>
                      <a:pt x="624" y="112"/>
                    </a:lnTo>
                    <a:lnTo>
                      <a:pt x="627" y="101"/>
                    </a:lnTo>
                    <a:lnTo>
                      <a:pt x="627" y="101"/>
                    </a:lnTo>
                    <a:lnTo>
                      <a:pt x="627" y="98"/>
                    </a:lnTo>
                    <a:lnTo>
                      <a:pt x="627" y="87"/>
                    </a:lnTo>
                    <a:lnTo>
                      <a:pt x="627" y="76"/>
                    </a:lnTo>
                    <a:lnTo>
                      <a:pt x="627" y="65"/>
                    </a:lnTo>
                    <a:lnTo>
                      <a:pt x="627" y="65"/>
                    </a:lnTo>
                    <a:lnTo>
                      <a:pt x="627" y="65"/>
                    </a:lnTo>
                    <a:lnTo>
                      <a:pt x="624" y="54"/>
                    </a:lnTo>
                    <a:lnTo>
                      <a:pt x="620" y="43"/>
                    </a:lnTo>
                    <a:lnTo>
                      <a:pt x="613" y="32"/>
                    </a:lnTo>
                    <a:lnTo>
                      <a:pt x="613" y="32"/>
                    </a:lnTo>
                    <a:lnTo>
                      <a:pt x="609" y="29"/>
                    </a:lnTo>
                    <a:lnTo>
                      <a:pt x="606" y="25"/>
                    </a:lnTo>
                    <a:lnTo>
                      <a:pt x="606" y="25"/>
                    </a:lnTo>
                    <a:lnTo>
                      <a:pt x="606" y="25"/>
                    </a:lnTo>
                    <a:lnTo>
                      <a:pt x="598" y="21"/>
                    </a:lnTo>
                    <a:lnTo>
                      <a:pt x="595" y="25"/>
                    </a:lnTo>
                    <a:lnTo>
                      <a:pt x="598" y="21"/>
                    </a:lnTo>
                    <a:lnTo>
                      <a:pt x="595" y="18"/>
                    </a:lnTo>
                    <a:lnTo>
                      <a:pt x="595" y="18"/>
                    </a:lnTo>
                    <a:lnTo>
                      <a:pt x="595" y="18"/>
                    </a:lnTo>
                    <a:lnTo>
                      <a:pt x="587" y="14"/>
                    </a:lnTo>
                    <a:lnTo>
                      <a:pt x="584" y="18"/>
                    </a:lnTo>
                    <a:lnTo>
                      <a:pt x="587" y="14"/>
                    </a:lnTo>
                    <a:lnTo>
                      <a:pt x="584" y="11"/>
                    </a:lnTo>
                    <a:lnTo>
                      <a:pt x="584" y="11"/>
                    </a:lnTo>
                    <a:lnTo>
                      <a:pt x="584" y="11"/>
                    </a:lnTo>
                    <a:lnTo>
                      <a:pt x="577" y="7"/>
                    </a:lnTo>
                    <a:lnTo>
                      <a:pt x="577" y="7"/>
                    </a:lnTo>
                    <a:lnTo>
                      <a:pt x="573" y="7"/>
                    </a:lnTo>
                    <a:lnTo>
                      <a:pt x="566" y="7"/>
                    </a:lnTo>
                    <a:lnTo>
                      <a:pt x="566" y="11"/>
                    </a:lnTo>
                    <a:lnTo>
                      <a:pt x="569" y="7"/>
                    </a:lnTo>
                    <a:lnTo>
                      <a:pt x="562" y="3"/>
                    </a:lnTo>
                    <a:lnTo>
                      <a:pt x="562" y="3"/>
                    </a:lnTo>
                    <a:lnTo>
                      <a:pt x="558" y="3"/>
                    </a:lnTo>
                    <a:lnTo>
                      <a:pt x="548" y="3"/>
                    </a:lnTo>
                    <a:lnTo>
                      <a:pt x="548" y="7"/>
                    </a:lnTo>
                    <a:lnTo>
                      <a:pt x="551" y="3"/>
                    </a:lnTo>
                    <a:lnTo>
                      <a:pt x="544" y="0"/>
                    </a:lnTo>
                    <a:lnTo>
                      <a:pt x="544" y="0"/>
                    </a:lnTo>
                    <a:lnTo>
                      <a:pt x="540" y="0"/>
                    </a:lnTo>
                    <a:lnTo>
                      <a:pt x="533" y="0"/>
                    </a:lnTo>
                    <a:lnTo>
                      <a:pt x="522" y="0"/>
                    </a:lnTo>
                    <a:lnTo>
                      <a:pt x="515" y="0"/>
                    </a:lnTo>
                    <a:lnTo>
                      <a:pt x="515" y="0"/>
                    </a:lnTo>
                    <a:lnTo>
                      <a:pt x="515" y="0"/>
                    </a:lnTo>
                    <a:lnTo>
                      <a:pt x="504" y="3"/>
                    </a:lnTo>
                    <a:lnTo>
                      <a:pt x="504" y="7"/>
                    </a:lnTo>
                    <a:lnTo>
                      <a:pt x="504" y="3"/>
                    </a:lnTo>
                    <a:lnTo>
                      <a:pt x="497" y="3"/>
                    </a:lnTo>
                    <a:lnTo>
                      <a:pt x="489" y="3"/>
                    </a:lnTo>
                    <a:lnTo>
                      <a:pt x="489" y="3"/>
                    </a:lnTo>
                    <a:lnTo>
                      <a:pt x="486" y="3"/>
                    </a:lnTo>
                    <a:lnTo>
                      <a:pt x="482" y="7"/>
                    </a:lnTo>
                    <a:lnTo>
                      <a:pt x="486" y="11"/>
                    </a:lnTo>
                    <a:lnTo>
                      <a:pt x="486" y="7"/>
                    </a:lnTo>
                    <a:lnTo>
                      <a:pt x="479" y="11"/>
                    </a:lnTo>
                    <a:lnTo>
                      <a:pt x="479" y="11"/>
                    </a:lnTo>
                    <a:lnTo>
                      <a:pt x="475" y="11"/>
                    </a:lnTo>
                    <a:lnTo>
                      <a:pt x="471" y="14"/>
                    </a:lnTo>
                    <a:lnTo>
                      <a:pt x="475" y="18"/>
                    </a:lnTo>
                    <a:lnTo>
                      <a:pt x="475" y="14"/>
                    </a:lnTo>
                    <a:lnTo>
                      <a:pt x="468" y="18"/>
                    </a:lnTo>
                    <a:lnTo>
                      <a:pt x="468" y="18"/>
                    </a:lnTo>
                    <a:lnTo>
                      <a:pt x="464" y="18"/>
                    </a:lnTo>
                    <a:lnTo>
                      <a:pt x="460" y="21"/>
                    </a:lnTo>
                    <a:lnTo>
                      <a:pt x="457" y="25"/>
                    </a:lnTo>
                    <a:lnTo>
                      <a:pt x="453" y="29"/>
                    </a:lnTo>
                    <a:lnTo>
                      <a:pt x="453" y="32"/>
                    </a:lnTo>
                    <a:lnTo>
                      <a:pt x="453" y="32"/>
                    </a:lnTo>
                    <a:lnTo>
                      <a:pt x="450" y="40"/>
                    </a:lnTo>
                    <a:lnTo>
                      <a:pt x="446" y="50"/>
                    </a:lnTo>
                    <a:lnTo>
                      <a:pt x="442" y="61"/>
                    </a:lnTo>
                    <a:lnTo>
                      <a:pt x="442" y="61"/>
                    </a:lnTo>
                    <a:lnTo>
                      <a:pt x="442" y="61"/>
                    </a:lnTo>
                    <a:lnTo>
                      <a:pt x="442" y="72"/>
                    </a:lnTo>
                    <a:lnTo>
                      <a:pt x="442" y="83"/>
                    </a:lnTo>
                    <a:lnTo>
                      <a:pt x="442" y="98"/>
                    </a:lnTo>
                    <a:lnTo>
                      <a:pt x="442" y="101"/>
                    </a:lnTo>
                    <a:lnTo>
                      <a:pt x="442" y="101"/>
                    </a:lnTo>
                    <a:lnTo>
                      <a:pt x="446" y="112"/>
                    </a:lnTo>
                    <a:lnTo>
                      <a:pt x="450" y="127"/>
                    </a:lnTo>
                    <a:lnTo>
                      <a:pt x="457" y="138"/>
                    </a:lnTo>
                    <a:lnTo>
                      <a:pt x="460" y="148"/>
                    </a:lnTo>
                    <a:lnTo>
                      <a:pt x="460" y="148"/>
                    </a:lnTo>
                    <a:lnTo>
                      <a:pt x="464" y="152"/>
                    </a:lnTo>
                    <a:lnTo>
                      <a:pt x="475" y="159"/>
                    </a:lnTo>
                    <a:lnTo>
                      <a:pt x="475" y="152"/>
                    </a:lnTo>
                    <a:lnTo>
                      <a:pt x="471" y="156"/>
                    </a:lnTo>
                    <a:lnTo>
                      <a:pt x="475" y="163"/>
                    </a:lnTo>
                    <a:lnTo>
                      <a:pt x="475" y="163"/>
                    </a:lnTo>
                    <a:lnTo>
                      <a:pt x="475" y="163"/>
                    </a:lnTo>
                    <a:lnTo>
                      <a:pt x="482" y="170"/>
                    </a:lnTo>
                    <a:lnTo>
                      <a:pt x="486" y="167"/>
                    </a:lnTo>
                    <a:lnTo>
                      <a:pt x="482" y="167"/>
                    </a:lnTo>
                    <a:lnTo>
                      <a:pt x="482" y="174"/>
                    </a:lnTo>
                    <a:lnTo>
                      <a:pt x="482" y="177"/>
                    </a:lnTo>
                    <a:lnTo>
                      <a:pt x="482" y="177"/>
                    </a:lnTo>
                    <a:lnTo>
                      <a:pt x="486" y="185"/>
                    </a:lnTo>
                    <a:lnTo>
                      <a:pt x="489" y="181"/>
                    </a:lnTo>
                    <a:lnTo>
                      <a:pt x="486" y="181"/>
                    </a:lnTo>
                    <a:lnTo>
                      <a:pt x="486" y="188"/>
                    </a:lnTo>
                    <a:lnTo>
                      <a:pt x="486" y="196"/>
                    </a:lnTo>
                    <a:lnTo>
                      <a:pt x="489" y="196"/>
                    </a:lnTo>
                    <a:lnTo>
                      <a:pt x="486" y="196"/>
                    </a:lnTo>
                    <a:lnTo>
                      <a:pt x="482" y="203"/>
                    </a:lnTo>
                    <a:lnTo>
                      <a:pt x="479" y="210"/>
                    </a:lnTo>
                    <a:lnTo>
                      <a:pt x="482" y="210"/>
                    </a:lnTo>
                    <a:lnTo>
                      <a:pt x="479" y="206"/>
                    </a:lnTo>
                    <a:lnTo>
                      <a:pt x="475" y="210"/>
                    </a:lnTo>
                    <a:lnTo>
                      <a:pt x="468" y="217"/>
                    </a:lnTo>
                    <a:lnTo>
                      <a:pt x="471" y="221"/>
                    </a:lnTo>
                    <a:lnTo>
                      <a:pt x="471" y="217"/>
                    </a:lnTo>
                    <a:lnTo>
                      <a:pt x="460" y="221"/>
                    </a:lnTo>
                    <a:lnTo>
                      <a:pt x="460" y="225"/>
                    </a:lnTo>
                    <a:lnTo>
                      <a:pt x="460" y="221"/>
                    </a:lnTo>
                    <a:lnTo>
                      <a:pt x="453" y="221"/>
                    </a:lnTo>
                    <a:lnTo>
                      <a:pt x="442" y="221"/>
                    </a:lnTo>
                    <a:lnTo>
                      <a:pt x="431" y="221"/>
                    </a:lnTo>
                    <a:lnTo>
                      <a:pt x="417" y="217"/>
                    </a:lnTo>
                    <a:lnTo>
                      <a:pt x="417" y="221"/>
                    </a:lnTo>
                    <a:lnTo>
                      <a:pt x="421" y="217"/>
                    </a:lnTo>
                    <a:lnTo>
                      <a:pt x="406" y="210"/>
                    </a:lnTo>
                    <a:lnTo>
                      <a:pt x="406" y="210"/>
                    </a:lnTo>
                    <a:lnTo>
                      <a:pt x="402" y="210"/>
                    </a:lnTo>
                    <a:lnTo>
                      <a:pt x="392" y="210"/>
                    </a:lnTo>
                    <a:lnTo>
                      <a:pt x="392" y="214"/>
                    </a:lnTo>
                    <a:lnTo>
                      <a:pt x="395" y="210"/>
                    </a:lnTo>
                    <a:lnTo>
                      <a:pt x="388" y="206"/>
                    </a:lnTo>
                    <a:lnTo>
                      <a:pt x="377" y="203"/>
                    </a:lnTo>
                    <a:lnTo>
                      <a:pt x="377" y="203"/>
                    </a:lnTo>
                    <a:lnTo>
                      <a:pt x="373" y="203"/>
                    </a:lnTo>
                    <a:lnTo>
                      <a:pt x="363" y="203"/>
                    </a:lnTo>
                    <a:lnTo>
                      <a:pt x="341" y="203"/>
                    </a:lnTo>
                    <a:lnTo>
                      <a:pt x="315" y="203"/>
                    </a:lnTo>
                    <a:lnTo>
                      <a:pt x="290" y="206"/>
                    </a:lnTo>
                    <a:lnTo>
                      <a:pt x="265" y="210"/>
                    </a:lnTo>
                    <a:lnTo>
                      <a:pt x="239" y="214"/>
                    </a:lnTo>
                    <a:lnTo>
                      <a:pt x="236" y="214"/>
                    </a:lnTo>
                    <a:lnTo>
                      <a:pt x="239" y="214"/>
                    </a:lnTo>
                    <a:lnTo>
                      <a:pt x="214" y="221"/>
                    </a:lnTo>
                    <a:lnTo>
                      <a:pt x="210" y="221"/>
                    </a:lnTo>
                    <a:lnTo>
                      <a:pt x="210" y="225"/>
                    </a:lnTo>
                    <a:lnTo>
                      <a:pt x="210" y="228"/>
                    </a:lnTo>
                    <a:lnTo>
                      <a:pt x="210" y="243"/>
                    </a:lnTo>
                    <a:lnTo>
                      <a:pt x="210" y="254"/>
                    </a:lnTo>
                    <a:lnTo>
                      <a:pt x="210" y="272"/>
                    </a:lnTo>
                    <a:lnTo>
                      <a:pt x="214" y="308"/>
                    </a:lnTo>
                    <a:lnTo>
                      <a:pt x="218" y="352"/>
                    </a:lnTo>
                    <a:lnTo>
                      <a:pt x="221" y="370"/>
                    </a:lnTo>
                    <a:lnTo>
                      <a:pt x="221" y="391"/>
                    </a:lnTo>
                    <a:lnTo>
                      <a:pt x="221" y="413"/>
                    </a:lnTo>
                    <a:lnTo>
                      <a:pt x="221" y="413"/>
                    </a:lnTo>
                    <a:lnTo>
                      <a:pt x="221" y="417"/>
                    </a:lnTo>
                    <a:lnTo>
                      <a:pt x="225" y="431"/>
                    </a:lnTo>
                    <a:lnTo>
                      <a:pt x="228" y="428"/>
                    </a:lnTo>
                    <a:lnTo>
                      <a:pt x="225" y="428"/>
                    </a:lnTo>
                    <a:lnTo>
                      <a:pt x="221" y="446"/>
                    </a:lnTo>
                    <a:lnTo>
                      <a:pt x="221" y="460"/>
                    </a:lnTo>
                    <a:lnTo>
                      <a:pt x="225" y="460"/>
                    </a:lnTo>
                    <a:lnTo>
                      <a:pt x="221" y="460"/>
                    </a:lnTo>
                    <a:lnTo>
                      <a:pt x="218" y="468"/>
                    </a:lnTo>
                    <a:lnTo>
                      <a:pt x="218" y="468"/>
                    </a:lnTo>
                    <a:lnTo>
                      <a:pt x="218" y="468"/>
                    </a:lnTo>
                    <a:lnTo>
                      <a:pt x="218" y="471"/>
                    </a:lnTo>
                    <a:lnTo>
                      <a:pt x="221" y="471"/>
                    </a:lnTo>
                    <a:lnTo>
                      <a:pt x="218" y="468"/>
                    </a:lnTo>
                    <a:lnTo>
                      <a:pt x="214" y="471"/>
                    </a:lnTo>
                    <a:lnTo>
                      <a:pt x="210" y="475"/>
                    </a:lnTo>
                    <a:lnTo>
                      <a:pt x="207" y="478"/>
                    </a:lnTo>
                    <a:close/>
                    <a:moveTo>
                      <a:pt x="218" y="482"/>
                    </a:moveTo>
                    <a:lnTo>
                      <a:pt x="221" y="478"/>
                    </a:lnTo>
                    <a:lnTo>
                      <a:pt x="225" y="475"/>
                    </a:lnTo>
                    <a:lnTo>
                      <a:pt x="228" y="475"/>
                    </a:lnTo>
                    <a:lnTo>
                      <a:pt x="228" y="471"/>
                    </a:lnTo>
                    <a:lnTo>
                      <a:pt x="228" y="468"/>
                    </a:lnTo>
                    <a:lnTo>
                      <a:pt x="221" y="468"/>
                    </a:lnTo>
                    <a:lnTo>
                      <a:pt x="228" y="471"/>
                    </a:lnTo>
                    <a:lnTo>
                      <a:pt x="232" y="464"/>
                    </a:lnTo>
                    <a:lnTo>
                      <a:pt x="232" y="464"/>
                    </a:lnTo>
                    <a:lnTo>
                      <a:pt x="232" y="460"/>
                    </a:lnTo>
                    <a:lnTo>
                      <a:pt x="232" y="446"/>
                    </a:lnTo>
                    <a:lnTo>
                      <a:pt x="236" y="428"/>
                    </a:lnTo>
                    <a:lnTo>
                      <a:pt x="236" y="428"/>
                    </a:lnTo>
                    <a:lnTo>
                      <a:pt x="236" y="428"/>
                    </a:lnTo>
                    <a:lnTo>
                      <a:pt x="232" y="413"/>
                    </a:lnTo>
                    <a:lnTo>
                      <a:pt x="225" y="413"/>
                    </a:lnTo>
                    <a:lnTo>
                      <a:pt x="232" y="413"/>
                    </a:lnTo>
                    <a:lnTo>
                      <a:pt x="232" y="391"/>
                    </a:lnTo>
                    <a:lnTo>
                      <a:pt x="232" y="370"/>
                    </a:lnTo>
                    <a:lnTo>
                      <a:pt x="228" y="352"/>
                    </a:lnTo>
                    <a:lnTo>
                      <a:pt x="225" y="308"/>
                    </a:lnTo>
                    <a:lnTo>
                      <a:pt x="221" y="272"/>
                    </a:lnTo>
                    <a:lnTo>
                      <a:pt x="221" y="254"/>
                    </a:lnTo>
                    <a:lnTo>
                      <a:pt x="221" y="243"/>
                    </a:lnTo>
                    <a:lnTo>
                      <a:pt x="221" y="228"/>
                    </a:lnTo>
                    <a:lnTo>
                      <a:pt x="221" y="225"/>
                    </a:lnTo>
                    <a:lnTo>
                      <a:pt x="214" y="225"/>
                    </a:lnTo>
                    <a:lnTo>
                      <a:pt x="218" y="232"/>
                    </a:lnTo>
                    <a:lnTo>
                      <a:pt x="243" y="225"/>
                    </a:lnTo>
                    <a:lnTo>
                      <a:pt x="239" y="217"/>
                    </a:lnTo>
                    <a:lnTo>
                      <a:pt x="239" y="225"/>
                    </a:lnTo>
                    <a:lnTo>
                      <a:pt x="265" y="221"/>
                    </a:lnTo>
                    <a:lnTo>
                      <a:pt x="290" y="217"/>
                    </a:lnTo>
                    <a:lnTo>
                      <a:pt x="315" y="214"/>
                    </a:lnTo>
                    <a:lnTo>
                      <a:pt x="341" y="214"/>
                    </a:lnTo>
                    <a:lnTo>
                      <a:pt x="363" y="214"/>
                    </a:lnTo>
                    <a:lnTo>
                      <a:pt x="373" y="214"/>
                    </a:lnTo>
                    <a:lnTo>
                      <a:pt x="373" y="206"/>
                    </a:lnTo>
                    <a:lnTo>
                      <a:pt x="373" y="214"/>
                    </a:lnTo>
                    <a:lnTo>
                      <a:pt x="384" y="217"/>
                    </a:lnTo>
                    <a:lnTo>
                      <a:pt x="392" y="221"/>
                    </a:lnTo>
                    <a:lnTo>
                      <a:pt x="392" y="221"/>
                    </a:lnTo>
                    <a:lnTo>
                      <a:pt x="392" y="221"/>
                    </a:lnTo>
                    <a:lnTo>
                      <a:pt x="402" y="221"/>
                    </a:lnTo>
                    <a:lnTo>
                      <a:pt x="402" y="214"/>
                    </a:lnTo>
                    <a:lnTo>
                      <a:pt x="402" y="221"/>
                    </a:lnTo>
                    <a:lnTo>
                      <a:pt x="417" y="228"/>
                    </a:lnTo>
                    <a:lnTo>
                      <a:pt x="413" y="225"/>
                    </a:lnTo>
                    <a:lnTo>
                      <a:pt x="417" y="228"/>
                    </a:lnTo>
                    <a:lnTo>
                      <a:pt x="431" y="232"/>
                    </a:lnTo>
                    <a:lnTo>
                      <a:pt x="442" y="232"/>
                    </a:lnTo>
                    <a:lnTo>
                      <a:pt x="453" y="232"/>
                    </a:lnTo>
                    <a:lnTo>
                      <a:pt x="460" y="232"/>
                    </a:lnTo>
                    <a:lnTo>
                      <a:pt x="464" y="232"/>
                    </a:lnTo>
                    <a:lnTo>
                      <a:pt x="464" y="232"/>
                    </a:lnTo>
                    <a:lnTo>
                      <a:pt x="475" y="228"/>
                    </a:lnTo>
                    <a:lnTo>
                      <a:pt x="475" y="228"/>
                    </a:lnTo>
                    <a:lnTo>
                      <a:pt x="475" y="225"/>
                    </a:lnTo>
                    <a:lnTo>
                      <a:pt x="482" y="217"/>
                    </a:lnTo>
                    <a:lnTo>
                      <a:pt x="486" y="214"/>
                    </a:lnTo>
                    <a:lnTo>
                      <a:pt x="489" y="214"/>
                    </a:lnTo>
                    <a:lnTo>
                      <a:pt x="489" y="214"/>
                    </a:lnTo>
                    <a:lnTo>
                      <a:pt x="493" y="206"/>
                    </a:lnTo>
                    <a:lnTo>
                      <a:pt x="497" y="199"/>
                    </a:lnTo>
                    <a:lnTo>
                      <a:pt x="497" y="199"/>
                    </a:lnTo>
                    <a:lnTo>
                      <a:pt x="497" y="196"/>
                    </a:lnTo>
                    <a:lnTo>
                      <a:pt x="497" y="188"/>
                    </a:lnTo>
                    <a:lnTo>
                      <a:pt x="497" y="181"/>
                    </a:lnTo>
                    <a:lnTo>
                      <a:pt x="497" y="181"/>
                    </a:lnTo>
                    <a:lnTo>
                      <a:pt x="497" y="181"/>
                    </a:lnTo>
                    <a:lnTo>
                      <a:pt x="493" y="174"/>
                    </a:lnTo>
                    <a:lnTo>
                      <a:pt x="486" y="174"/>
                    </a:lnTo>
                    <a:lnTo>
                      <a:pt x="493" y="174"/>
                    </a:lnTo>
                    <a:lnTo>
                      <a:pt x="493" y="167"/>
                    </a:lnTo>
                    <a:lnTo>
                      <a:pt x="493" y="167"/>
                    </a:lnTo>
                    <a:lnTo>
                      <a:pt x="489" y="163"/>
                    </a:lnTo>
                    <a:lnTo>
                      <a:pt x="482" y="156"/>
                    </a:lnTo>
                    <a:lnTo>
                      <a:pt x="479" y="159"/>
                    </a:lnTo>
                    <a:lnTo>
                      <a:pt x="486" y="159"/>
                    </a:lnTo>
                    <a:lnTo>
                      <a:pt x="482" y="152"/>
                    </a:lnTo>
                    <a:lnTo>
                      <a:pt x="479" y="148"/>
                    </a:lnTo>
                    <a:lnTo>
                      <a:pt x="479" y="148"/>
                    </a:lnTo>
                    <a:lnTo>
                      <a:pt x="468" y="141"/>
                    </a:lnTo>
                    <a:lnTo>
                      <a:pt x="464" y="145"/>
                    </a:lnTo>
                    <a:lnTo>
                      <a:pt x="471" y="145"/>
                    </a:lnTo>
                    <a:lnTo>
                      <a:pt x="468" y="134"/>
                    </a:lnTo>
                    <a:lnTo>
                      <a:pt x="460" y="123"/>
                    </a:lnTo>
                    <a:lnTo>
                      <a:pt x="457" y="109"/>
                    </a:lnTo>
                    <a:lnTo>
                      <a:pt x="453" y="98"/>
                    </a:lnTo>
                    <a:lnTo>
                      <a:pt x="446" y="98"/>
                    </a:lnTo>
                    <a:lnTo>
                      <a:pt x="453" y="98"/>
                    </a:lnTo>
                    <a:lnTo>
                      <a:pt x="453" y="83"/>
                    </a:lnTo>
                    <a:lnTo>
                      <a:pt x="453" y="72"/>
                    </a:lnTo>
                    <a:lnTo>
                      <a:pt x="453" y="61"/>
                    </a:lnTo>
                    <a:lnTo>
                      <a:pt x="446" y="61"/>
                    </a:lnTo>
                    <a:lnTo>
                      <a:pt x="453" y="65"/>
                    </a:lnTo>
                    <a:lnTo>
                      <a:pt x="457" y="54"/>
                    </a:lnTo>
                    <a:lnTo>
                      <a:pt x="460" y="43"/>
                    </a:lnTo>
                    <a:lnTo>
                      <a:pt x="464" y="36"/>
                    </a:lnTo>
                    <a:lnTo>
                      <a:pt x="457" y="32"/>
                    </a:lnTo>
                    <a:lnTo>
                      <a:pt x="460" y="36"/>
                    </a:lnTo>
                    <a:lnTo>
                      <a:pt x="464" y="32"/>
                    </a:lnTo>
                    <a:lnTo>
                      <a:pt x="468" y="29"/>
                    </a:lnTo>
                    <a:lnTo>
                      <a:pt x="471" y="25"/>
                    </a:lnTo>
                    <a:lnTo>
                      <a:pt x="468" y="21"/>
                    </a:lnTo>
                    <a:lnTo>
                      <a:pt x="471" y="29"/>
                    </a:lnTo>
                    <a:lnTo>
                      <a:pt x="479" y="25"/>
                    </a:lnTo>
                    <a:lnTo>
                      <a:pt x="479" y="25"/>
                    </a:lnTo>
                    <a:lnTo>
                      <a:pt x="479" y="21"/>
                    </a:lnTo>
                    <a:lnTo>
                      <a:pt x="482" y="18"/>
                    </a:lnTo>
                    <a:lnTo>
                      <a:pt x="479" y="14"/>
                    </a:lnTo>
                    <a:lnTo>
                      <a:pt x="482" y="21"/>
                    </a:lnTo>
                    <a:lnTo>
                      <a:pt x="489" y="18"/>
                    </a:lnTo>
                    <a:lnTo>
                      <a:pt x="489" y="18"/>
                    </a:lnTo>
                    <a:lnTo>
                      <a:pt x="489" y="14"/>
                    </a:lnTo>
                    <a:lnTo>
                      <a:pt x="493" y="11"/>
                    </a:lnTo>
                    <a:lnTo>
                      <a:pt x="489" y="7"/>
                    </a:lnTo>
                    <a:lnTo>
                      <a:pt x="489" y="14"/>
                    </a:lnTo>
                    <a:lnTo>
                      <a:pt x="497" y="14"/>
                    </a:lnTo>
                    <a:lnTo>
                      <a:pt x="504" y="14"/>
                    </a:lnTo>
                    <a:lnTo>
                      <a:pt x="508" y="14"/>
                    </a:lnTo>
                    <a:lnTo>
                      <a:pt x="508" y="14"/>
                    </a:lnTo>
                    <a:lnTo>
                      <a:pt x="518" y="11"/>
                    </a:lnTo>
                    <a:lnTo>
                      <a:pt x="515" y="3"/>
                    </a:lnTo>
                    <a:lnTo>
                      <a:pt x="515" y="11"/>
                    </a:lnTo>
                    <a:lnTo>
                      <a:pt x="522" y="11"/>
                    </a:lnTo>
                    <a:lnTo>
                      <a:pt x="533" y="11"/>
                    </a:lnTo>
                    <a:lnTo>
                      <a:pt x="540" y="11"/>
                    </a:lnTo>
                    <a:lnTo>
                      <a:pt x="540" y="3"/>
                    </a:lnTo>
                    <a:lnTo>
                      <a:pt x="540" y="11"/>
                    </a:lnTo>
                    <a:lnTo>
                      <a:pt x="548" y="14"/>
                    </a:lnTo>
                    <a:lnTo>
                      <a:pt x="548" y="14"/>
                    </a:lnTo>
                    <a:lnTo>
                      <a:pt x="548" y="14"/>
                    </a:lnTo>
                    <a:lnTo>
                      <a:pt x="558" y="14"/>
                    </a:lnTo>
                    <a:lnTo>
                      <a:pt x="558" y="7"/>
                    </a:lnTo>
                    <a:lnTo>
                      <a:pt x="558" y="14"/>
                    </a:lnTo>
                    <a:lnTo>
                      <a:pt x="566" y="18"/>
                    </a:lnTo>
                    <a:lnTo>
                      <a:pt x="566" y="18"/>
                    </a:lnTo>
                    <a:lnTo>
                      <a:pt x="566" y="18"/>
                    </a:lnTo>
                    <a:lnTo>
                      <a:pt x="573" y="18"/>
                    </a:lnTo>
                    <a:lnTo>
                      <a:pt x="573" y="11"/>
                    </a:lnTo>
                    <a:lnTo>
                      <a:pt x="573" y="18"/>
                    </a:lnTo>
                    <a:lnTo>
                      <a:pt x="580" y="21"/>
                    </a:lnTo>
                    <a:lnTo>
                      <a:pt x="580" y="14"/>
                    </a:lnTo>
                    <a:lnTo>
                      <a:pt x="577" y="18"/>
                    </a:lnTo>
                    <a:lnTo>
                      <a:pt x="580" y="21"/>
                    </a:lnTo>
                    <a:lnTo>
                      <a:pt x="584" y="25"/>
                    </a:lnTo>
                    <a:lnTo>
                      <a:pt x="584" y="25"/>
                    </a:lnTo>
                    <a:lnTo>
                      <a:pt x="591" y="29"/>
                    </a:lnTo>
                    <a:lnTo>
                      <a:pt x="591" y="21"/>
                    </a:lnTo>
                    <a:lnTo>
                      <a:pt x="587" y="25"/>
                    </a:lnTo>
                    <a:lnTo>
                      <a:pt x="591" y="29"/>
                    </a:lnTo>
                    <a:lnTo>
                      <a:pt x="595" y="32"/>
                    </a:lnTo>
                    <a:lnTo>
                      <a:pt x="595" y="32"/>
                    </a:lnTo>
                    <a:lnTo>
                      <a:pt x="602" y="36"/>
                    </a:lnTo>
                    <a:lnTo>
                      <a:pt x="602" y="29"/>
                    </a:lnTo>
                    <a:lnTo>
                      <a:pt x="598" y="32"/>
                    </a:lnTo>
                    <a:lnTo>
                      <a:pt x="602" y="36"/>
                    </a:lnTo>
                    <a:lnTo>
                      <a:pt x="606" y="32"/>
                    </a:lnTo>
                    <a:lnTo>
                      <a:pt x="602" y="36"/>
                    </a:lnTo>
                    <a:lnTo>
                      <a:pt x="609" y="47"/>
                    </a:lnTo>
                    <a:lnTo>
                      <a:pt x="613" y="58"/>
                    </a:lnTo>
                    <a:lnTo>
                      <a:pt x="616" y="69"/>
                    </a:lnTo>
                    <a:lnTo>
                      <a:pt x="620" y="65"/>
                    </a:lnTo>
                    <a:lnTo>
                      <a:pt x="616" y="65"/>
                    </a:lnTo>
                    <a:lnTo>
                      <a:pt x="616" y="76"/>
                    </a:lnTo>
                    <a:lnTo>
                      <a:pt x="616" y="87"/>
                    </a:lnTo>
                    <a:lnTo>
                      <a:pt x="616" y="98"/>
                    </a:lnTo>
                    <a:lnTo>
                      <a:pt x="620" y="98"/>
                    </a:lnTo>
                    <a:lnTo>
                      <a:pt x="616" y="98"/>
                    </a:lnTo>
                    <a:lnTo>
                      <a:pt x="613" y="109"/>
                    </a:lnTo>
                    <a:lnTo>
                      <a:pt x="609" y="119"/>
                    </a:lnTo>
                    <a:lnTo>
                      <a:pt x="602" y="130"/>
                    </a:lnTo>
                    <a:lnTo>
                      <a:pt x="606" y="130"/>
                    </a:lnTo>
                    <a:lnTo>
                      <a:pt x="602" y="127"/>
                    </a:lnTo>
                    <a:lnTo>
                      <a:pt x="595" y="134"/>
                    </a:lnTo>
                    <a:lnTo>
                      <a:pt x="580" y="148"/>
                    </a:lnTo>
                    <a:lnTo>
                      <a:pt x="580" y="152"/>
                    </a:lnTo>
                    <a:lnTo>
                      <a:pt x="580" y="152"/>
                    </a:lnTo>
                    <a:lnTo>
                      <a:pt x="573" y="167"/>
                    </a:lnTo>
                    <a:lnTo>
                      <a:pt x="569" y="174"/>
                    </a:lnTo>
                    <a:lnTo>
                      <a:pt x="573" y="174"/>
                    </a:lnTo>
                    <a:lnTo>
                      <a:pt x="569" y="170"/>
                    </a:lnTo>
                    <a:lnTo>
                      <a:pt x="566" y="174"/>
                    </a:lnTo>
                    <a:lnTo>
                      <a:pt x="566" y="177"/>
                    </a:lnTo>
                    <a:lnTo>
                      <a:pt x="566" y="177"/>
                    </a:lnTo>
                    <a:lnTo>
                      <a:pt x="566" y="185"/>
                    </a:lnTo>
                    <a:lnTo>
                      <a:pt x="566" y="188"/>
                    </a:lnTo>
                    <a:lnTo>
                      <a:pt x="566" y="192"/>
                    </a:lnTo>
                    <a:lnTo>
                      <a:pt x="566" y="199"/>
                    </a:lnTo>
                    <a:lnTo>
                      <a:pt x="566" y="203"/>
                    </a:lnTo>
                    <a:lnTo>
                      <a:pt x="566" y="203"/>
                    </a:lnTo>
                    <a:lnTo>
                      <a:pt x="569" y="206"/>
                    </a:lnTo>
                    <a:lnTo>
                      <a:pt x="573" y="210"/>
                    </a:lnTo>
                    <a:lnTo>
                      <a:pt x="577" y="214"/>
                    </a:lnTo>
                    <a:lnTo>
                      <a:pt x="577" y="214"/>
                    </a:lnTo>
                    <a:lnTo>
                      <a:pt x="584" y="217"/>
                    </a:lnTo>
                    <a:lnTo>
                      <a:pt x="591" y="221"/>
                    </a:lnTo>
                    <a:lnTo>
                      <a:pt x="591" y="214"/>
                    </a:lnTo>
                    <a:lnTo>
                      <a:pt x="587" y="217"/>
                    </a:lnTo>
                    <a:lnTo>
                      <a:pt x="595" y="225"/>
                    </a:lnTo>
                    <a:lnTo>
                      <a:pt x="598" y="228"/>
                    </a:lnTo>
                    <a:lnTo>
                      <a:pt x="598" y="228"/>
                    </a:lnTo>
                    <a:lnTo>
                      <a:pt x="606" y="232"/>
                    </a:lnTo>
                    <a:lnTo>
                      <a:pt x="616" y="235"/>
                    </a:lnTo>
                    <a:lnTo>
                      <a:pt x="609" y="232"/>
                    </a:lnTo>
                    <a:lnTo>
                      <a:pt x="616" y="235"/>
                    </a:lnTo>
                    <a:lnTo>
                      <a:pt x="631" y="239"/>
                    </a:lnTo>
                    <a:lnTo>
                      <a:pt x="645" y="243"/>
                    </a:lnTo>
                    <a:lnTo>
                      <a:pt x="660" y="246"/>
                    </a:lnTo>
                    <a:lnTo>
                      <a:pt x="674" y="250"/>
                    </a:lnTo>
                    <a:lnTo>
                      <a:pt x="693" y="254"/>
                    </a:lnTo>
                    <a:lnTo>
                      <a:pt x="711" y="254"/>
                    </a:lnTo>
                    <a:lnTo>
                      <a:pt x="725" y="254"/>
                    </a:lnTo>
                    <a:lnTo>
                      <a:pt x="743" y="254"/>
                    </a:lnTo>
                    <a:lnTo>
                      <a:pt x="761" y="254"/>
                    </a:lnTo>
                    <a:lnTo>
                      <a:pt x="776" y="254"/>
                    </a:lnTo>
                    <a:lnTo>
                      <a:pt x="790" y="250"/>
                    </a:lnTo>
                    <a:lnTo>
                      <a:pt x="805" y="246"/>
                    </a:lnTo>
                    <a:lnTo>
                      <a:pt x="819" y="243"/>
                    </a:lnTo>
                    <a:lnTo>
                      <a:pt x="823" y="239"/>
                    </a:lnTo>
                    <a:lnTo>
                      <a:pt x="823" y="243"/>
                    </a:lnTo>
                    <a:lnTo>
                      <a:pt x="834" y="235"/>
                    </a:lnTo>
                    <a:lnTo>
                      <a:pt x="845" y="232"/>
                    </a:lnTo>
                    <a:lnTo>
                      <a:pt x="841" y="225"/>
                    </a:lnTo>
                    <a:lnTo>
                      <a:pt x="838" y="225"/>
                    </a:lnTo>
                    <a:lnTo>
                      <a:pt x="838" y="254"/>
                    </a:lnTo>
                    <a:lnTo>
                      <a:pt x="838" y="290"/>
                    </a:lnTo>
                    <a:lnTo>
                      <a:pt x="838" y="333"/>
                    </a:lnTo>
                    <a:lnTo>
                      <a:pt x="838" y="373"/>
                    </a:lnTo>
                    <a:lnTo>
                      <a:pt x="838" y="413"/>
                    </a:lnTo>
                    <a:lnTo>
                      <a:pt x="838" y="453"/>
                    </a:lnTo>
                    <a:lnTo>
                      <a:pt x="838" y="478"/>
                    </a:lnTo>
                    <a:lnTo>
                      <a:pt x="838" y="497"/>
                    </a:lnTo>
                    <a:lnTo>
                      <a:pt x="838" y="504"/>
                    </a:lnTo>
                    <a:lnTo>
                      <a:pt x="838" y="508"/>
                    </a:lnTo>
                    <a:lnTo>
                      <a:pt x="838" y="508"/>
                    </a:lnTo>
                    <a:lnTo>
                      <a:pt x="841" y="511"/>
                    </a:lnTo>
                    <a:lnTo>
                      <a:pt x="845" y="508"/>
                    </a:lnTo>
                    <a:lnTo>
                      <a:pt x="841" y="511"/>
                    </a:lnTo>
                    <a:lnTo>
                      <a:pt x="845" y="518"/>
                    </a:lnTo>
                    <a:lnTo>
                      <a:pt x="845" y="518"/>
                    </a:lnTo>
                    <a:lnTo>
                      <a:pt x="845" y="518"/>
                    </a:lnTo>
                    <a:lnTo>
                      <a:pt x="848" y="522"/>
                    </a:lnTo>
                    <a:lnTo>
                      <a:pt x="852" y="526"/>
                    </a:lnTo>
                    <a:lnTo>
                      <a:pt x="852" y="526"/>
                    </a:lnTo>
                    <a:lnTo>
                      <a:pt x="859" y="529"/>
                    </a:lnTo>
                    <a:lnTo>
                      <a:pt x="859" y="522"/>
                    </a:lnTo>
                    <a:lnTo>
                      <a:pt x="856" y="526"/>
                    </a:lnTo>
                    <a:lnTo>
                      <a:pt x="863" y="533"/>
                    </a:lnTo>
                    <a:lnTo>
                      <a:pt x="867" y="537"/>
                    </a:lnTo>
                    <a:lnTo>
                      <a:pt x="867" y="537"/>
                    </a:lnTo>
                    <a:lnTo>
                      <a:pt x="874" y="540"/>
                    </a:lnTo>
                    <a:lnTo>
                      <a:pt x="874" y="540"/>
                    </a:lnTo>
                    <a:lnTo>
                      <a:pt x="874" y="540"/>
                    </a:lnTo>
                    <a:lnTo>
                      <a:pt x="881" y="540"/>
                    </a:lnTo>
                    <a:lnTo>
                      <a:pt x="881" y="533"/>
                    </a:lnTo>
                    <a:lnTo>
                      <a:pt x="881" y="540"/>
                    </a:lnTo>
                    <a:lnTo>
                      <a:pt x="888" y="544"/>
                    </a:lnTo>
                    <a:lnTo>
                      <a:pt x="888" y="544"/>
                    </a:lnTo>
                    <a:lnTo>
                      <a:pt x="888" y="544"/>
                    </a:lnTo>
                    <a:lnTo>
                      <a:pt x="896" y="544"/>
                    </a:lnTo>
                    <a:lnTo>
                      <a:pt x="906" y="544"/>
                    </a:lnTo>
                    <a:lnTo>
                      <a:pt x="914" y="544"/>
                    </a:lnTo>
                    <a:lnTo>
                      <a:pt x="917" y="544"/>
                    </a:lnTo>
                    <a:lnTo>
                      <a:pt x="917" y="544"/>
                    </a:lnTo>
                    <a:lnTo>
                      <a:pt x="925" y="540"/>
                    </a:lnTo>
                    <a:lnTo>
                      <a:pt x="932" y="537"/>
                    </a:lnTo>
                    <a:lnTo>
                      <a:pt x="932" y="537"/>
                    </a:lnTo>
                    <a:lnTo>
                      <a:pt x="932" y="533"/>
                    </a:lnTo>
                    <a:lnTo>
                      <a:pt x="939" y="526"/>
                    </a:lnTo>
                    <a:lnTo>
                      <a:pt x="946" y="518"/>
                    </a:lnTo>
                    <a:lnTo>
                      <a:pt x="950" y="518"/>
                    </a:lnTo>
                    <a:lnTo>
                      <a:pt x="950" y="518"/>
                    </a:lnTo>
                    <a:lnTo>
                      <a:pt x="954" y="511"/>
                    </a:lnTo>
                    <a:lnTo>
                      <a:pt x="946" y="508"/>
                    </a:lnTo>
                    <a:lnTo>
                      <a:pt x="950" y="511"/>
                    </a:lnTo>
                    <a:lnTo>
                      <a:pt x="954" y="508"/>
                    </a:lnTo>
                    <a:lnTo>
                      <a:pt x="957" y="504"/>
                    </a:lnTo>
                    <a:lnTo>
                      <a:pt x="954" y="500"/>
                    </a:lnTo>
                    <a:lnTo>
                      <a:pt x="954" y="508"/>
                    </a:lnTo>
                    <a:lnTo>
                      <a:pt x="957" y="508"/>
                    </a:lnTo>
                    <a:lnTo>
                      <a:pt x="961" y="508"/>
                    </a:lnTo>
                    <a:lnTo>
                      <a:pt x="961" y="508"/>
                    </a:lnTo>
                    <a:lnTo>
                      <a:pt x="972" y="504"/>
                    </a:lnTo>
                    <a:lnTo>
                      <a:pt x="983" y="500"/>
                    </a:lnTo>
                    <a:lnTo>
                      <a:pt x="979" y="493"/>
                    </a:lnTo>
                    <a:lnTo>
                      <a:pt x="979" y="500"/>
                    </a:lnTo>
                    <a:lnTo>
                      <a:pt x="990" y="500"/>
                    </a:lnTo>
                    <a:lnTo>
                      <a:pt x="1004" y="500"/>
                    </a:lnTo>
                    <a:lnTo>
                      <a:pt x="1004" y="493"/>
                    </a:lnTo>
                    <a:lnTo>
                      <a:pt x="1004" y="500"/>
                    </a:lnTo>
                    <a:lnTo>
                      <a:pt x="1015" y="504"/>
                    </a:lnTo>
                    <a:lnTo>
                      <a:pt x="1026" y="508"/>
                    </a:lnTo>
                    <a:lnTo>
                      <a:pt x="1037" y="515"/>
                    </a:lnTo>
                    <a:lnTo>
                      <a:pt x="1048" y="522"/>
                    </a:lnTo>
                    <a:lnTo>
                      <a:pt x="1059" y="529"/>
                    </a:lnTo>
                    <a:lnTo>
                      <a:pt x="1059" y="522"/>
                    </a:lnTo>
                    <a:lnTo>
                      <a:pt x="1055" y="526"/>
                    </a:lnTo>
                    <a:lnTo>
                      <a:pt x="1062" y="537"/>
                    </a:lnTo>
                    <a:lnTo>
                      <a:pt x="1062" y="537"/>
                    </a:lnTo>
                    <a:lnTo>
                      <a:pt x="1062" y="537"/>
                    </a:lnTo>
                    <a:lnTo>
                      <a:pt x="1066" y="540"/>
                    </a:lnTo>
                    <a:lnTo>
                      <a:pt x="1070" y="537"/>
                    </a:lnTo>
                    <a:lnTo>
                      <a:pt x="1066" y="537"/>
                    </a:lnTo>
                    <a:lnTo>
                      <a:pt x="1066" y="544"/>
                    </a:lnTo>
                    <a:lnTo>
                      <a:pt x="1066" y="547"/>
                    </a:lnTo>
                    <a:lnTo>
                      <a:pt x="1066" y="547"/>
                    </a:lnTo>
                    <a:lnTo>
                      <a:pt x="1070" y="555"/>
                    </a:lnTo>
                    <a:lnTo>
                      <a:pt x="1070" y="555"/>
                    </a:lnTo>
                    <a:lnTo>
                      <a:pt x="1070" y="555"/>
                    </a:lnTo>
                    <a:lnTo>
                      <a:pt x="1073" y="558"/>
                    </a:lnTo>
                    <a:lnTo>
                      <a:pt x="1077" y="555"/>
                    </a:lnTo>
                    <a:lnTo>
                      <a:pt x="1073" y="555"/>
                    </a:lnTo>
                    <a:lnTo>
                      <a:pt x="1073" y="562"/>
                    </a:lnTo>
                    <a:lnTo>
                      <a:pt x="1073" y="569"/>
                    </a:lnTo>
                    <a:lnTo>
                      <a:pt x="1073" y="576"/>
                    </a:lnTo>
                    <a:lnTo>
                      <a:pt x="1073" y="584"/>
                    </a:lnTo>
                    <a:lnTo>
                      <a:pt x="1077" y="584"/>
                    </a:lnTo>
                    <a:lnTo>
                      <a:pt x="1073" y="584"/>
                    </a:lnTo>
                    <a:lnTo>
                      <a:pt x="1070" y="598"/>
                    </a:lnTo>
                    <a:lnTo>
                      <a:pt x="1066" y="609"/>
                    </a:lnTo>
                    <a:lnTo>
                      <a:pt x="1059" y="620"/>
                    </a:lnTo>
                    <a:lnTo>
                      <a:pt x="1062" y="620"/>
                    </a:lnTo>
                    <a:lnTo>
                      <a:pt x="1059" y="616"/>
                    </a:lnTo>
                    <a:lnTo>
                      <a:pt x="1051" y="624"/>
                    </a:lnTo>
                    <a:lnTo>
                      <a:pt x="1044" y="631"/>
                    </a:lnTo>
                    <a:lnTo>
                      <a:pt x="1037" y="638"/>
                    </a:lnTo>
                    <a:lnTo>
                      <a:pt x="1041" y="642"/>
                    </a:lnTo>
                    <a:lnTo>
                      <a:pt x="1041" y="638"/>
                    </a:lnTo>
                    <a:lnTo>
                      <a:pt x="1030" y="642"/>
                    </a:lnTo>
                    <a:lnTo>
                      <a:pt x="1022" y="645"/>
                    </a:lnTo>
                    <a:lnTo>
                      <a:pt x="1022" y="649"/>
                    </a:lnTo>
                    <a:lnTo>
                      <a:pt x="1022" y="645"/>
                    </a:lnTo>
                    <a:lnTo>
                      <a:pt x="1012" y="645"/>
                    </a:lnTo>
                    <a:lnTo>
                      <a:pt x="1012" y="645"/>
                    </a:lnTo>
                    <a:lnTo>
                      <a:pt x="1012" y="645"/>
                    </a:lnTo>
                    <a:lnTo>
                      <a:pt x="1001" y="649"/>
                    </a:lnTo>
                    <a:lnTo>
                      <a:pt x="1001" y="653"/>
                    </a:lnTo>
                    <a:lnTo>
                      <a:pt x="1004" y="649"/>
                    </a:lnTo>
                    <a:lnTo>
                      <a:pt x="993" y="645"/>
                    </a:lnTo>
                    <a:lnTo>
                      <a:pt x="993" y="645"/>
                    </a:lnTo>
                    <a:lnTo>
                      <a:pt x="990" y="645"/>
                    </a:lnTo>
                    <a:lnTo>
                      <a:pt x="983" y="645"/>
                    </a:lnTo>
                    <a:lnTo>
                      <a:pt x="983" y="649"/>
                    </a:lnTo>
                    <a:lnTo>
                      <a:pt x="986" y="645"/>
                    </a:lnTo>
                    <a:lnTo>
                      <a:pt x="975" y="642"/>
                    </a:lnTo>
                    <a:lnTo>
                      <a:pt x="964" y="638"/>
                    </a:lnTo>
                    <a:lnTo>
                      <a:pt x="957" y="634"/>
                    </a:lnTo>
                    <a:lnTo>
                      <a:pt x="954" y="638"/>
                    </a:lnTo>
                    <a:lnTo>
                      <a:pt x="957" y="634"/>
                    </a:lnTo>
                    <a:lnTo>
                      <a:pt x="950" y="627"/>
                    </a:lnTo>
                    <a:lnTo>
                      <a:pt x="946" y="631"/>
                    </a:lnTo>
                    <a:lnTo>
                      <a:pt x="954" y="631"/>
                    </a:lnTo>
                    <a:lnTo>
                      <a:pt x="950" y="624"/>
                    </a:lnTo>
                    <a:lnTo>
                      <a:pt x="946" y="620"/>
                    </a:lnTo>
                    <a:lnTo>
                      <a:pt x="946" y="620"/>
                    </a:lnTo>
                    <a:lnTo>
                      <a:pt x="935" y="613"/>
                    </a:lnTo>
                    <a:lnTo>
                      <a:pt x="928" y="609"/>
                    </a:lnTo>
                    <a:lnTo>
                      <a:pt x="921" y="605"/>
                    </a:lnTo>
                    <a:lnTo>
                      <a:pt x="914" y="602"/>
                    </a:lnTo>
                    <a:lnTo>
                      <a:pt x="906" y="598"/>
                    </a:lnTo>
                    <a:lnTo>
                      <a:pt x="896" y="595"/>
                    </a:lnTo>
                    <a:lnTo>
                      <a:pt x="896" y="595"/>
                    </a:lnTo>
                    <a:lnTo>
                      <a:pt x="892" y="595"/>
                    </a:lnTo>
                    <a:lnTo>
                      <a:pt x="885" y="595"/>
                    </a:lnTo>
                    <a:lnTo>
                      <a:pt x="877" y="595"/>
                    </a:lnTo>
                    <a:lnTo>
                      <a:pt x="870" y="595"/>
                    </a:lnTo>
                    <a:lnTo>
                      <a:pt x="870" y="595"/>
                    </a:lnTo>
                    <a:lnTo>
                      <a:pt x="870" y="595"/>
                    </a:lnTo>
                    <a:lnTo>
                      <a:pt x="863" y="598"/>
                    </a:lnTo>
                    <a:lnTo>
                      <a:pt x="863" y="598"/>
                    </a:lnTo>
                    <a:lnTo>
                      <a:pt x="859" y="598"/>
                    </a:lnTo>
                    <a:lnTo>
                      <a:pt x="856" y="602"/>
                    </a:lnTo>
                    <a:lnTo>
                      <a:pt x="859" y="605"/>
                    </a:lnTo>
                    <a:lnTo>
                      <a:pt x="859" y="602"/>
                    </a:lnTo>
                    <a:lnTo>
                      <a:pt x="852" y="605"/>
                    </a:lnTo>
                    <a:lnTo>
                      <a:pt x="848" y="605"/>
                    </a:lnTo>
                    <a:lnTo>
                      <a:pt x="848" y="609"/>
                    </a:lnTo>
                    <a:lnTo>
                      <a:pt x="845" y="616"/>
                    </a:lnTo>
                    <a:lnTo>
                      <a:pt x="841" y="624"/>
                    </a:lnTo>
                    <a:lnTo>
                      <a:pt x="838" y="634"/>
                    </a:lnTo>
                    <a:lnTo>
                      <a:pt x="838" y="634"/>
                    </a:lnTo>
                    <a:lnTo>
                      <a:pt x="838" y="634"/>
                    </a:lnTo>
                    <a:lnTo>
                      <a:pt x="838" y="656"/>
                    </a:lnTo>
                    <a:lnTo>
                      <a:pt x="834" y="682"/>
                    </a:lnTo>
                    <a:lnTo>
                      <a:pt x="830" y="707"/>
                    </a:lnTo>
                    <a:lnTo>
                      <a:pt x="830" y="736"/>
                    </a:lnTo>
                    <a:lnTo>
                      <a:pt x="830" y="761"/>
                    </a:lnTo>
                    <a:lnTo>
                      <a:pt x="830" y="787"/>
                    </a:lnTo>
                    <a:lnTo>
                      <a:pt x="830" y="798"/>
                    </a:lnTo>
                    <a:lnTo>
                      <a:pt x="830" y="801"/>
                    </a:lnTo>
                    <a:lnTo>
                      <a:pt x="830" y="801"/>
                    </a:lnTo>
                    <a:lnTo>
                      <a:pt x="834" y="812"/>
                    </a:lnTo>
                    <a:lnTo>
                      <a:pt x="838" y="823"/>
                    </a:lnTo>
                    <a:lnTo>
                      <a:pt x="841" y="819"/>
                    </a:lnTo>
                    <a:lnTo>
                      <a:pt x="838" y="819"/>
                    </a:lnTo>
                    <a:lnTo>
                      <a:pt x="838" y="827"/>
                    </a:lnTo>
                    <a:lnTo>
                      <a:pt x="841" y="827"/>
                    </a:lnTo>
                    <a:lnTo>
                      <a:pt x="841" y="823"/>
                    </a:lnTo>
                    <a:lnTo>
                      <a:pt x="823" y="827"/>
                    </a:lnTo>
                    <a:lnTo>
                      <a:pt x="809" y="830"/>
                    </a:lnTo>
                    <a:lnTo>
                      <a:pt x="787" y="830"/>
                    </a:lnTo>
                    <a:lnTo>
                      <a:pt x="769" y="830"/>
                    </a:lnTo>
                    <a:lnTo>
                      <a:pt x="751" y="830"/>
                    </a:lnTo>
                    <a:lnTo>
                      <a:pt x="732" y="830"/>
                    </a:lnTo>
                    <a:lnTo>
                      <a:pt x="714" y="827"/>
                    </a:lnTo>
                    <a:lnTo>
                      <a:pt x="696" y="827"/>
                    </a:lnTo>
                    <a:lnTo>
                      <a:pt x="667" y="823"/>
                    </a:lnTo>
                    <a:lnTo>
                      <a:pt x="642" y="819"/>
                    </a:lnTo>
                    <a:lnTo>
                      <a:pt x="627" y="816"/>
                    </a:lnTo>
                    <a:lnTo>
                      <a:pt x="627" y="819"/>
                    </a:lnTo>
                    <a:lnTo>
                      <a:pt x="631" y="816"/>
                    </a:lnTo>
                    <a:lnTo>
                      <a:pt x="624" y="812"/>
                    </a:lnTo>
                    <a:lnTo>
                      <a:pt x="624" y="812"/>
                    </a:lnTo>
                    <a:lnTo>
                      <a:pt x="620" y="812"/>
                    </a:lnTo>
                    <a:lnTo>
                      <a:pt x="606" y="809"/>
                    </a:lnTo>
                    <a:lnTo>
                      <a:pt x="606" y="812"/>
                    </a:lnTo>
                    <a:lnTo>
                      <a:pt x="609" y="809"/>
                    </a:lnTo>
                    <a:lnTo>
                      <a:pt x="598" y="801"/>
                    </a:lnTo>
                    <a:lnTo>
                      <a:pt x="587" y="794"/>
                    </a:lnTo>
                    <a:lnTo>
                      <a:pt x="584" y="798"/>
                    </a:lnTo>
                    <a:lnTo>
                      <a:pt x="591" y="798"/>
                    </a:lnTo>
                    <a:lnTo>
                      <a:pt x="584" y="787"/>
                    </a:lnTo>
                    <a:lnTo>
                      <a:pt x="584" y="787"/>
                    </a:lnTo>
                    <a:lnTo>
                      <a:pt x="580" y="783"/>
                    </a:lnTo>
                    <a:lnTo>
                      <a:pt x="573" y="776"/>
                    </a:lnTo>
                    <a:lnTo>
                      <a:pt x="569" y="780"/>
                    </a:lnTo>
                    <a:lnTo>
                      <a:pt x="577" y="780"/>
                    </a:lnTo>
                    <a:lnTo>
                      <a:pt x="573" y="769"/>
                    </a:lnTo>
                    <a:lnTo>
                      <a:pt x="569" y="758"/>
                    </a:lnTo>
                    <a:lnTo>
                      <a:pt x="566" y="751"/>
                    </a:lnTo>
                    <a:lnTo>
                      <a:pt x="558" y="751"/>
                    </a:lnTo>
                    <a:lnTo>
                      <a:pt x="566" y="751"/>
                    </a:lnTo>
                    <a:lnTo>
                      <a:pt x="566" y="740"/>
                    </a:lnTo>
                    <a:lnTo>
                      <a:pt x="558" y="740"/>
                    </a:lnTo>
                    <a:lnTo>
                      <a:pt x="566" y="743"/>
                    </a:lnTo>
                    <a:lnTo>
                      <a:pt x="569" y="732"/>
                    </a:lnTo>
                    <a:lnTo>
                      <a:pt x="569" y="732"/>
                    </a:lnTo>
                    <a:lnTo>
                      <a:pt x="569" y="729"/>
                    </a:lnTo>
                    <a:lnTo>
                      <a:pt x="569" y="722"/>
                    </a:lnTo>
                    <a:lnTo>
                      <a:pt x="562" y="722"/>
                    </a:lnTo>
                    <a:lnTo>
                      <a:pt x="569" y="725"/>
                    </a:lnTo>
                    <a:lnTo>
                      <a:pt x="573" y="718"/>
                    </a:lnTo>
                    <a:lnTo>
                      <a:pt x="577" y="707"/>
                    </a:lnTo>
                    <a:lnTo>
                      <a:pt x="580" y="700"/>
                    </a:lnTo>
                    <a:lnTo>
                      <a:pt x="573" y="696"/>
                    </a:lnTo>
                    <a:lnTo>
                      <a:pt x="577" y="700"/>
                    </a:lnTo>
                    <a:lnTo>
                      <a:pt x="584" y="692"/>
                    </a:lnTo>
                    <a:lnTo>
                      <a:pt x="580" y="689"/>
                    </a:lnTo>
                    <a:lnTo>
                      <a:pt x="584" y="696"/>
                    </a:lnTo>
                    <a:lnTo>
                      <a:pt x="591" y="692"/>
                    </a:lnTo>
                    <a:lnTo>
                      <a:pt x="591" y="692"/>
                    </a:lnTo>
                    <a:lnTo>
                      <a:pt x="591" y="689"/>
                    </a:lnTo>
                    <a:lnTo>
                      <a:pt x="598" y="682"/>
                    </a:lnTo>
                    <a:lnTo>
                      <a:pt x="606" y="674"/>
                    </a:lnTo>
                    <a:lnTo>
                      <a:pt x="609" y="674"/>
                    </a:lnTo>
                    <a:lnTo>
                      <a:pt x="609" y="674"/>
                    </a:lnTo>
                    <a:lnTo>
                      <a:pt x="613" y="663"/>
                    </a:lnTo>
                    <a:lnTo>
                      <a:pt x="616" y="653"/>
                    </a:lnTo>
                    <a:lnTo>
                      <a:pt x="620" y="642"/>
                    </a:lnTo>
                    <a:lnTo>
                      <a:pt x="620" y="642"/>
                    </a:lnTo>
                    <a:lnTo>
                      <a:pt x="620" y="638"/>
                    </a:lnTo>
                    <a:lnTo>
                      <a:pt x="620" y="624"/>
                    </a:lnTo>
                    <a:lnTo>
                      <a:pt x="620" y="613"/>
                    </a:lnTo>
                    <a:lnTo>
                      <a:pt x="620" y="598"/>
                    </a:lnTo>
                    <a:lnTo>
                      <a:pt x="620" y="598"/>
                    </a:lnTo>
                    <a:lnTo>
                      <a:pt x="620" y="598"/>
                    </a:lnTo>
                    <a:lnTo>
                      <a:pt x="616" y="587"/>
                    </a:lnTo>
                    <a:lnTo>
                      <a:pt x="613" y="576"/>
                    </a:lnTo>
                    <a:lnTo>
                      <a:pt x="609" y="569"/>
                    </a:lnTo>
                    <a:lnTo>
                      <a:pt x="609" y="569"/>
                    </a:lnTo>
                    <a:lnTo>
                      <a:pt x="606" y="566"/>
                    </a:lnTo>
                    <a:lnTo>
                      <a:pt x="602" y="562"/>
                    </a:lnTo>
                    <a:lnTo>
                      <a:pt x="598" y="566"/>
                    </a:lnTo>
                    <a:lnTo>
                      <a:pt x="606" y="566"/>
                    </a:lnTo>
                    <a:lnTo>
                      <a:pt x="602" y="558"/>
                    </a:lnTo>
                    <a:lnTo>
                      <a:pt x="598" y="555"/>
                    </a:lnTo>
                    <a:lnTo>
                      <a:pt x="598" y="555"/>
                    </a:lnTo>
                    <a:lnTo>
                      <a:pt x="591" y="551"/>
                    </a:lnTo>
                    <a:lnTo>
                      <a:pt x="584" y="547"/>
                    </a:lnTo>
                    <a:lnTo>
                      <a:pt x="580" y="551"/>
                    </a:lnTo>
                    <a:lnTo>
                      <a:pt x="584" y="547"/>
                    </a:lnTo>
                    <a:lnTo>
                      <a:pt x="580" y="544"/>
                    </a:lnTo>
                    <a:lnTo>
                      <a:pt x="580" y="544"/>
                    </a:lnTo>
                    <a:lnTo>
                      <a:pt x="580" y="544"/>
                    </a:lnTo>
                    <a:lnTo>
                      <a:pt x="573" y="540"/>
                    </a:lnTo>
                    <a:lnTo>
                      <a:pt x="573" y="540"/>
                    </a:lnTo>
                    <a:lnTo>
                      <a:pt x="569" y="540"/>
                    </a:lnTo>
                    <a:lnTo>
                      <a:pt x="562" y="540"/>
                    </a:lnTo>
                    <a:lnTo>
                      <a:pt x="562" y="544"/>
                    </a:lnTo>
                    <a:lnTo>
                      <a:pt x="566" y="540"/>
                    </a:lnTo>
                    <a:lnTo>
                      <a:pt x="555" y="537"/>
                    </a:lnTo>
                    <a:lnTo>
                      <a:pt x="548" y="533"/>
                    </a:lnTo>
                    <a:lnTo>
                      <a:pt x="548" y="533"/>
                    </a:lnTo>
                    <a:lnTo>
                      <a:pt x="544" y="533"/>
                    </a:lnTo>
                    <a:lnTo>
                      <a:pt x="533" y="533"/>
                    </a:lnTo>
                    <a:lnTo>
                      <a:pt x="522" y="533"/>
                    </a:lnTo>
                    <a:lnTo>
                      <a:pt x="515" y="533"/>
                    </a:lnTo>
                    <a:lnTo>
                      <a:pt x="504" y="533"/>
                    </a:lnTo>
                    <a:lnTo>
                      <a:pt x="504" y="533"/>
                    </a:lnTo>
                    <a:lnTo>
                      <a:pt x="504" y="533"/>
                    </a:lnTo>
                    <a:lnTo>
                      <a:pt x="493" y="537"/>
                    </a:lnTo>
                    <a:lnTo>
                      <a:pt x="493" y="540"/>
                    </a:lnTo>
                    <a:lnTo>
                      <a:pt x="493" y="537"/>
                    </a:lnTo>
                    <a:lnTo>
                      <a:pt x="486" y="537"/>
                    </a:lnTo>
                    <a:lnTo>
                      <a:pt x="486" y="537"/>
                    </a:lnTo>
                    <a:lnTo>
                      <a:pt x="486" y="537"/>
                    </a:lnTo>
                    <a:lnTo>
                      <a:pt x="479" y="540"/>
                    </a:lnTo>
                    <a:lnTo>
                      <a:pt x="471" y="544"/>
                    </a:lnTo>
                    <a:lnTo>
                      <a:pt x="464" y="547"/>
                    </a:lnTo>
                    <a:lnTo>
                      <a:pt x="464" y="547"/>
                    </a:lnTo>
                    <a:lnTo>
                      <a:pt x="460" y="547"/>
                    </a:lnTo>
                    <a:lnTo>
                      <a:pt x="457" y="551"/>
                    </a:lnTo>
                    <a:lnTo>
                      <a:pt x="460" y="555"/>
                    </a:lnTo>
                    <a:lnTo>
                      <a:pt x="460" y="551"/>
                    </a:lnTo>
                    <a:lnTo>
                      <a:pt x="453" y="551"/>
                    </a:lnTo>
                    <a:lnTo>
                      <a:pt x="453" y="551"/>
                    </a:lnTo>
                    <a:lnTo>
                      <a:pt x="450" y="551"/>
                    </a:lnTo>
                    <a:lnTo>
                      <a:pt x="446" y="555"/>
                    </a:lnTo>
                    <a:lnTo>
                      <a:pt x="446" y="558"/>
                    </a:lnTo>
                    <a:lnTo>
                      <a:pt x="446" y="558"/>
                    </a:lnTo>
                    <a:lnTo>
                      <a:pt x="442" y="566"/>
                    </a:lnTo>
                    <a:lnTo>
                      <a:pt x="446" y="566"/>
                    </a:lnTo>
                    <a:lnTo>
                      <a:pt x="446" y="562"/>
                    </a:lnTo>
                    <a:lnTo>
                      <a:pt x="439" y="566"/>
                    </a:lnTo>
                    <a:lnTo>
                      <a:pt x="435" y="566"/>
                    </a:lnTo>
                    <a:lnTo>
                      <a:pt x="435" y="569"/>
                    </a:lnTo>
                    <a:lnTo>
                      <a:pt x="428" y="580"/>
                    </a:lnTo>
                    <a:lnTo>
                      <a:pt x="424" y="591"/>
                    </a:lnTo>
                    <a:lnTo>
                      <a:pt x="421" y="602"/>
                    </a:lnTo>
                    <a:lnTo>
                      <a:pt x="421" y="602"/>
                    </a:lnTo>
                    <a:lnTo>
                      <a:pt x="421" y="602"/>
                    </a:lnTo>
                    <a:lnTo>
                      <a:pt x="421" y="613"/>
                    </a:lnTo>
                    <a:lnTo>
                      <a:pt x="421" y="624"/>
                    </a:lnTo>
                    <a:lnTo>
                      <a:pt x="421" y="638"/>
                    </a:lnTo>
                    <a:lnTo>
                      <a:pt x="421" y="642"/>
                    </a:lnTo>
                    <a:lnTo>
                      <a:pt x="421" y="642"/>
                    </a:lnTo>
                    <a:lnTo>
                      <a:pt x="424" y="653"/>
                    </a:lnTo>
                    <a:lnTo>
                      <a:pt x="428" y="663"/>
                    </a:lnTo>
                    <a:lnTo>
                      <a:pt x="428" y="663"/>
                    </a:lnTo>
                    <a:lnTo>
                      <a:pt x="428" y="663"/>
                    </a:lnTo>
                    <a:lnTo>
                      <a:pt x="435" y="671"/>
                    </a:lnTo>
                    <a:lnTo>
                      <a:pt x="439" y="667"/>
                    </a:lnTo>
                    <a:lnTo>
                      <a:pt x="435" y="671"/>
                    </a:lnTo>
                    <a:lnTo>
                      <a:pt x="442" y="682"/>
                    </a:lnTo>
                    <a:lnTo>
                      <a:pt x="442" y="682"/>
                    </a:lnTo>
                    <a:lnTo>
                      <a:pt x="446" y="685"/>
                    </a:lnTo>
                    <a:lnTo>
                      <a:pt x="457" y="692"/>
                    </a:lnTo>
                    <a:lnTo>
                      <a:pt x="457" y="685"/>
                    </a:lnTo>
                    <a:lnTo>
                      <a:pt x="453" y="689"/>
                    </a:lnTo>
                    <a:lnTo>
                      <a:pt x="457" y="700"/>
                    </a:lnTo>
                    <a:lnTo>
                      <a:pt x="457" y="700"/>
                    </a:lnTo>
                    <a:lnTo>
                      <a:pt x="457" y="700"/>
                    </a:lnTo>
                    <a:lnTo>
                      <a:pt x="464" y="707"/>
                    </a:lnTo>
                    <a:lnTo>
                      <a:pt x="468" y="703"/>
                    </a:lnTo>
                    <a:lnTo>
                      <a:pt x="464" y="707"/>
                    </a:lnTo>
                    <a:lnTo>
                      <a:pt x="468" y="718"/>
                    </a:lnTo>
                    <a:lnTo>
                      <a:pt x="471" y="714"/>
                    </a:lnTo>
                    <a:lnTo>
                      <a:pt x="468" y="714"/>
                    </a:lnTo>
                    <a:lnTo>
                      <a:pt x="468" y="725"/>
                    </a:lnTo>
                    <a:lnTo>
                      <a:pt x="468" y="736"/>
                    </a:lnTo>
                    <a:lnTo>
                      <a:pt x="468" y="743"/>
                    </a:lnTo>
                    <a:lnTo>
                      <a:pt x="471" y="743"/>
                    </a:lnTo>
                    <a:lnTo>
                      <a:pt x="468" y="743"/>
                    </a:lnTo>
                    <a:lnTo>
                      <a:pt x="464" y="754"/>
                    </a:lnTo>
                    <a:lnTo>
                      <a:pt x="460" y="765"/>
                    </a:lnTo>
                    <a:lnTo>
                      <a:pt x="453" y="776"/>
                    </a:lnTo>
                    <a:lnTo>
                      <a:pt x="457" y="776"/>
                    </a:lnTo>
                    <a:lnTo>
                      <a:pt x="453" y="772"/>
                    </a:lnTo>
                    <a:lnTo>
                      <a:pt x="446" y="780"/>
                    </a:lnTo>
                    <a:lnTo>
                      <a:pt x="439" y="787"/>
                    </a:lnTo>
                    <a:lnTo>
                      <a:pt x="442" y="790"/>
                    </a:lnTo>
                    <a:lnTo>
                      <a:pt x="442" y="787"/>
                    </a:lnTo>
                    <a:lnTo>
                      <a:pt x="428" y="794"/>
                    </a:lnTo>
                    <a:lnTo>
                      <a:pt x="428" y="794"/>
                    </a:lnTo>
                    <a:lnTo>
                      <a:pt x="424" y="794"/>
                    </a:lnTo>
                    <a:lnTo>
                      <a:pt x="413" y="805"/>
                    </a:lnTo>
                    <a:lnTo>
                      <a:pt x="417" y="809"/>
                    </a:lnTo>
                    <a:lnTo>
                      <a:pt x="417" y="805"/>
                    </a:lnTo>
                    <a:lnTo>
                      <a:pt x="402" y="809"/>
                    </a:lnTo>
                    <a:lnTo>
                      <a:pt x="384" y="812"/>
                    </a:lnTo>
                    <a:lnTo>
                      <a:pt x="373" y="812"/>
                    </a:lnTo>
                    <a:lnTo>
                      <a:pt x="355" y="812"/>
                    </a:lnTo>
                    <a:lnTo>
                      <a:pt x="334" y="812"/>
                    </a:lnTo>
                    <a:lnTo>
                      <a:pt x="312" y="812"/>
                    </a:lnTo>
                    <a:lnTo>
                      <a:pt x="290" y="812"/>
                    </a:lnTo>
                    <a:lnTo>
                      <a:pt x="265" y="812"/>
                    </a:lnTo>
                    <a:lnTo>
                      <a:pt x="239" y="812"/>
                    </a:lnTo>
                    <a:lnTo>
                      <a:pt x="214" y="812"/>
                    </a:lnTo>
                    <a:lnTo>
                      <a:pt x="214" y="816"/>
                    </a:lnTo>
                    <a:lnTo>
                      <a:pt x="221" y="819"/>
                    </a:lnTo>
                    <a:lnTo>
                      <a:pt x="225" y="809"/>
                    </a:lnTo>
                    <a:lnTo>
                      <a:pt x="228" y="794"/>
                    </a:lnTo>
                    <a:lnTo>
                      <a:pt x="232" y="780"/>
                    </a:lnTo>
                    <a:lnTo>
                      <a:pt x="236" y="765"/>
                    </a:lnTo>
                    <a:lnTo>
                      <a:pt x="236" y="765"/>
                    </a:lnTo>
                    <a:lnTo>
                      <a:pt x="236" y="761"/>
                    </a:lnTo>
                    <a:lnTo>
                      <a:pt x="236" y="747"/>
                    </a:lnTo>
                    <a:lnTo>
                      <a:pt x="228" y="747"/>
                    </a:lnTo>
                    <a:lnTo>
                      <a:pt x="236" y="751"/>
                    </a:lnTo>
                    <a:lnTo>
                      <a:pt x="239" y="736"/>
                    </a:lnTo>
                    <a:lnTo>
                      <a:pt x="239" y="736"/>
                    </a:lnTo>
                    <a:lnTo>
                      <a:pt x="239" y="732"/>
                    </a:lnTo>
                    <a:lnTo>
                      <a:pt x="239" y="718"/>
                    </a:lnTo>
                    <a:lnTo>
                      <a:pt x="239" y="703"/>
                    </a:lnTo>
                    <a:lnTo>
                      <a:pt x="239" y="689"/>
                    </a:lnTo>
                    <a:lnTo>
                      <a:pt x="239" y="674"/>
                    </a:lnTo>
                    <a:lnTo>
                      <a:pt x="239" y="674"/>
                    </a:lnTo>
                    <a:lnTo>
                      <a:pt x="239" y="674"/>
                    </a:lnTo>
                    <a:lnTo>
                      <a:pt x="236" y="660"/>
                    </a:lnTo>
                    <a:lnTo>
                      <a:pt x="228" y="660"/>
                    </a:lnTo>
                    <a:lnTo>
                      <a:pt x="236" y="660"/>
                    </a:lnTo>
                    <a:lnTo>
                      <a:pt x="236" y="645"/>
                    </a:lnTo>
                    <a:lnTo>
                      <a:pt x="236" y="645"/>
                    </a:lnTo>
                    <a:lnTo>
                      <a:pt x="236" y="645"/>
                    </a:lnTo>
                    <a:lnTo>
                      <a:pt x="232" y="634"/>
                    </a:lnTo>
                    <a:lnTo>
                      <a:pt x="228" y="624"/>
                    </a:lnTo>
                    <a:lnTo>
                      <a:pt x="225" y="613"/>
                    </a:lnTo>
                    <a:lnTo>
                      <a:pt x="221" y="605"/>
                    </a:lnTo>
                    <a:lnTo>
                      <a:pt x="218" y="595"/>
                    </a:lnTo>
                    <a:lnTo>
                      <a:pt x="218" y="595"/>
                    </a:lnTo>
                    <a:lnTo>
                      <a:pt x="214" y="591"/>
                    </a:lnTo>
                    <a:lnTo>
                      <a:pt x="210" y="587"/>
                    </a:lnTo>
                    <a:lnTo>
                      <a:pt x="207" y="591"/>
                    </a:lnTo>
                    <a:lnTo>
                      <a:pt x="214" y="591"/>
                    </a:lnTo>
                    <a:lnTo>
                      <a:pt x="210" y="584"/>
                    </a:lnTo>
                    <a:lnTo>
                      <a:pt x="210" y="584"/>
                    </a:lnTo>
                    <a:lnTo>
                      <a:pt x="207" y="580"/>
                    </a:lnTo>
                    <a:lnTo>
                      <a:pt x="203" y="576"/>
                    </a:lnTo>
                    <a:lnTo>
                      <a:pt x="203" y="576"/>
                    </a:lnTo>
                    <a:lnTo>
                      <a:pt x="203" y="576"/>
                    </a:lnTo>
                    <a:lnTo>
                      <a:pt x="196" y="573"/>
                    </a:lnTo>
                    <a:lnTo>
                      <a:pt x="196" y="573"/>
                    </a:lnTo>
                    <a:lnTo>
                      <a:pt x="192" y="573"/>
                    </a:lnTo>
                    <a:lnTo>
                      <a:pt x="189" y="573"/>
                    </a:lnTo>
                    <a:lnTo>
                      <a:pt x="189" y="576"/>
                    </a:lnTo>
                    <a:lnTo>
                      <a:pt x="192" y="573"/>
                    </a:lnTo>
                    <a:lnTo>
                      <a:pt x="189" y="569"/>
                    </a:lnTo>
                    <a:lnTo>
                      <a:pt x="189" y="569"/>
                    </a:lnTo>
                    <a:lnTo>
                      <a:pt x="185" y="569"/>
                    </a:lnTo>
                    <a:lnTo>
                      <a:pt x="178" y="569"/>
                    </a:lnTo>
                    <a:lnTo>
                      <a:pt x="167" y="569"/>
                    </a:lnTo>
                    <a:lnTo>
                      <a:pt x="152" y="573"/>
                    </a:lnTo>
                    <a:lnTo>
                      <a:pt x="145" y="573"/>
                    </a:lnTo>
                    <a:lnTo>
                      <a:pt x="152" y="573"/>
                    </a:lnTo>
                    <a:lnTo>
                      <a:pt x="141" y="576"/>
                    </a:lnTo>
                    <a:lnTo>
                      <a:pt x="123" y="584"/>
                    </a:lnTo>
                    <a:lnTo>
                      <a:pt x="112" y="587"/>
                    </a:lnTo>
                    <a:lnTo>
                      <a:pt x="112" y="591"/>
                    </a:lnTo>
                    <a:lnTo>
                      <a:pt x="112" y="587"/>
                    </a:lnTo>
                    <a:lnTo>
                      <a:pt x="105" y="587"/>
                    </a:lnTo>
                    <a:lnTo>
                      <a:pt x="105" y="587"/>
                    </a:lnTo>
                    <a:lnTo>
                      <a:pt x="105" y="587"/>
                    </a:lnTo>
                    <a:lnTo>
                      <a:pt x="98" y="591"/>
                    </a:lnTo>
                    <a:lnTo>
                      <a:pt x="98" y="595"/>
                    </a:lnTo>
                    <a:lnTo>
                      <a:pt x="98" y="591"/>
                    </a:lnTo>
                    <a:lnTo>
                      <a:pt x="87" y="591"/>
                    </a:lnTo>
                    <a:lnTo>
                      <a:pt x="80" y="591"/>
                    </a:lnTo>
                    <a:lnTo>
                      <a:pt x="73" y="591"/>
                    </a:lnTo>
                    <a:lnTo>
                      <a:pt x="65" y="591"/>
                    </a:lnTo>
                    <a:lnTo>
                      <a:pt x="65" y="595"/>
                    </a:lnTo>
                    <a:lnTo>
                      <a:pt x="69" y="591"/>
                    </a:lnTo>
                    <a:lnTo>
                      <a:pt x="62" y="587"/>
                    </a:lnTo>
                    <a:lnTo>
                      <a:pt x="62" y="587"/>
                    </a:lnTo>
                    <a:lnTo>
                      <a:pt x="58" y="587"/>
                    </a:lnTo>
                    <a:lnTo>
                      <a:pt x="51" y="587"/>
                    </a:lnTo>
                    <a:lnTo>
                      <a:pt x="51" y="591"/>
                    </a:lnTo>
                    <a:lnTo>
                      <a:pt x="54" y="587"/>
                    </a:lnTo>
                    <a:lnTo>
                      <a:pt x="47" y="584"/>
                    </a:lnTo>
                    <a:lnTo>
                      <a:pt x="44" y="587"/>
                    </a:lnTo>
                    <a:lnTo>
                      <a:pt x="47" y="584"/>
                    </a:lnTo>
                    <a:lnTo>
                      <a:pt x="44" y="580"/>
                    </a:lnTo>
                    <a:lnTo>
                      <a:pt x="44" y="580"/>
                    </a:lnTo>
                    <a:lnTo>
                      <a:pt x="40" y="580"/>
                    </a:lnTo>
                    <a:lnTo>
                      <a:pt x="36" y="580"/>
                    </a:lnTo>
                    <a:lnTo>
                      <a:pt x="36" y="584"/>
                    </a:lnTo>
                    <a:lnTo>
                      <a:pt x="40" y="580"/>
                    </a:lnTo>
                    <a:lnTo>
                      <a:pt x="29" y="573"/>
                    </a:lnTo>
                    <a:lnTo>
                      <a:pt x="25" y="576"/>
                    </a:lnTo>
                    <a:lnTo>
                      <a:pt x="33" y="576"/>
                    </a:lnTo>
                    <a:lnTo>
                      <a:pt x="25" y="566"/>
                    </a:lnTo>
                    <a:lnTo>
                      <a:pt x="22" y="558"/>
                    </a:lnTo>
                    <a:lnTo>
                      <a:pt x="15" y="547"/>
                    </a:lnTo>
                    <a:lnTo>
                      <a:pt x="11" y="537"/>
                    </a:lnTo>
                    <a:lnTo>
                      <a:pt x="4" y="537"/>
                    </a:lnTo>
                    <a:lnTo>
                      <a:pt x="11" y="537"/>
                    </a:lnTo>
                    <a:lnTo>
                      <a:pt x="11" y="529"/>
                    </a:lnTo>
                    <a:lnTo>
                      <a:pt x="11" y="518"/>
                    </a:lnTo>
                    <a:lnTo>
                      <a:pt x="11" y="508"/>
                    </a:lnTo>
                    <a:lnTo>
                      <a:pt x="4" y="508"/>
                    </a:lnTo>
                    <a:lnTo>
                      <a:pt x="11" y="511"/>
                    </a:lnTo>
                    <a:lnTo>
                      <a:pt x="15" y="504"/>
                    </a:lnTo>
                    <a:lnTo>
                      <a:pt x="7" y="500"/>
                    </a:lnTo>
                    <a:lnTo>
                      <a:pt x="11" y="504"/>
                    </a:lnTo>
                    <a:lnTo>
                      <a:pt x="15" y="500"/>
                    </a:lnTo>
                    <a:lnTo>
                      <a:pt x="18" y="500"/>
                    </a:lnTo>
                    <a:lnTo>
                      <a:pt x="18" y="500"/>
                    </a:lnTo>
                    <a:lnTo>
                      <a:pt x="25" y="489"/>
                    </a:lnTo>
                    <a:lnTo>
                      <a:pt x="33" y="478"/>
                    </a:lnTo>
                    <a:lnTo>
                      <a:pt x="25" y="475"/>
                    </a:lnTo>
                    <a:lnTo>
                      <a:pt x="29" y="478"/>
                    </a:lnTo>
                    <a:lnTo>
                      <a:pt x="36" y="471"/>
                    </a:lnTo>
                    <a:lnTo>
                      <a:pt x="33" y="468"/>
                    </a:lnTo>
                    <a:lnTo>
                      <a:pt x="36" y="475"/>
                    </a:lnTo>
                    <a:lnTo>
                      <a:pt x="44" y="471"/>
                    </a:lnTo>
                    <a:lnTo>
                      <a:pt x="44" y="468"/>
                    </a:lnTo>
                    <a:lnTo>
                      <a:pt x="47" y="468"/>
                    </a:lnTo>
                    <a:lnTo>
                      <a:pt x="51" y="460"/>
                    </a:lnTo>
                    <a:lnTo>
                      <a:pt x="44" y="457"/>
                    </a:lnTo>
                    <a:lnTo>
                      <a:pt x="47" y="464"/>
                    </a:lnTo>
                    <a:lnTo>
                      <a:pt x="54" y="460"/>
                    </a:lnTo>
                    <a:lnTo>
                      <a:pt x="51" y="453"/>
                    </a:lnTo>
                    <a:lnTo>
                      <a:pt x="51" y="460"/>
                    </a:lnTo>
                    <a:lnTo>
                      <a:pt x="58" y="460"/>
                    </a:lnTo>
                    <a:lnTo>
                      <a:pt x="62" y="460"/>
                    </a:lnTo>
                    <a:lnTo>
                      <a:pt x="62" y="460"/>
                    </a:lnTo>
                    <a:lnTo>
                      <a:pt x="69" y="457"/>
                    </a:lnTo>
                    <a:lnTo>
                      <a:pt x="65" y="449"/>
                    </a:lnTo>
                    <a:lnTo>
                      <a:pt x="65" y="457"/>
                    </a:lnTo>
                    <a:lnTo>
                      <a:pt x="73" y="457"/>
                    </a:lnTo>
                    <a:lnTo>
                      <a:pt x="80" y="457"/>
                    </a:lnTo>
                    <a:lnTo>
                      <a:pt x="80" y="449"/>
                    </a:lnTo>
                    <a:lnTo>
                      <a:pt x="76" y="453"/>
                    </a:lnTo>
                    <a:lnTo>
                      <a:pt x="80" y="457"/>
                    </a:lnTo>
                    <a:lnTo>
                      <a:pt x="83" y="460"/>
                    </a:lnTo>
                    <a:lnTo>
                      <a:pt x="83" y="460"/>
                    </a:lnTo>
                    <a:lnTo>
                      <a:pt x="91" y="460"/>
                    </a:lnTo>
                    <a:lnTo>
                      <a:pt x="105" y="464"/>
                    </a:lnTo>
                    <a:lnTo>
                      <a:pt x="105" y="457"/>
                    </a:lnTo>
                    <a:lnTo>
                      <a:pt x="105" y="464"/>
                    </a:lnTo>
                    <a:lnTo>
                      <a:pt x="116" y="471"/>
                    </a:lnTo>
                    <a:lnTo>
                      <a:pt x="131" y="478"/>
                    </a:lnTo>
                    <a:lnTo>
                      <a:pt x="141" y="486"/>
                    </a:lnTo>
                    <a:lnTo>
                      <a:pt x="152" y="489"/>
                    </a:lnTo>
                    <a:lnTo>
                      <a:pt x="167" y="497"/>
                    </a:lnTo>
                    <a:lnTo>
                      <a:pt x="167" y="497"/>
                    </a:lnTo>
                    <a:lnTo>
                      <a:pt x="167" y="497"/>
                    </a:lnTo>
                    <a:lnTo>
                      <a:pt x="174" y="497"/>
                    </a:lnTo>
                    <a:lnTo>
                      <a:pt x="174" y="489"/>
                    </a:lnTo>
                    <a:lnTo>
                      <a:pt x="170" y="493"/>
                    </a:lnTo>
                    <a:lnTo>
                      <a:pt x="174" y="497"/>
                    </a:lnTo>
                    <a:lnTo>
                      <a:pt x="178" y="500"/>
                    </a:lnTo>
                    <a:lnTo>
                      <a:pt x="178" y="500"/>
                    </a:lnTo>
                    <a:lnTo>
                      <a:pt x="185" y="500"/>
                    </a:lnTo>
                    <a:lnTo>
                      <a:pt x="192" y="500"/>
                    </a:lnTo>
                    <a:lnTo>
                      <a:pt x="196" y="500"/>
                    </a:lnTo>
                    <a:lnTo>
                      <a:pt x="196" y="497"/>
                    </a:lnTo>
                    <a:lnTo>
                      <a:pt x="199" y="493"/>
                    </a:lnTo>
                    <a:lnTo>
                      <a:pt x="196" y="489"/>
                    </a:lnTo>
                    <a:lnTo>
                      <a:pt x="199" y="497"/>
                    </a:lnTo>
                    <a:lnTo>
                      <a:pt x="207" y="493"/>
                    </a:lnTo>
                    <a:lnTo>
                      <a:pt x="214" y="489"/>
                    </a:lnTo>
                    <a:lnTo>
                      <a:pt x="214" y="489"/>
                    </a:lnTo>
                    <a:lnTo>
                      <a:pt x="214" y="486"/>
                    </a:lnTo>
                    <a:lnTo>
                      <a:pt x="218" y="482"/>
                    </a:lnTo>
                    <a:close/>
                  </a:path>
                </a:pathLst>
              </a:custGeom>
              <a:solidFill>
                <a:srgbClr val="00ff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380880" y="3328920"/>
              <a:ext cx="16160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649440"/>
                  <a:tab algn="l" pos="1298520"/>
                  <a:tab algn="l" pos="1947960"/>
                  <a:tab algn="l" pos="2597040"/>
                  <a:tab algn="l" pos="3246480"/>
                  <a:tab algn="l" pos="3895560"/>
                  <a:tab algn="l" pos="4545000"/>
                  <a:tab algn="l" pos="5194440"/>
                  <a:tab algn="l" pos="5843520"/>
                  <a:tab algn="l" pos="6492960"/>
                  <a:tab algn="l" pos="7142040"/>
                  <a:tab algn="l" pos="7791480"/>
                  <a:tab algn="l" pos="8440560"/>
                  <a:tab algn="l" pos="9090000"/>
                  <a:tab algn="l" pos="9739440"/>
                  <a:tab algn="l" pos="103885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UCTU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751280" y="658800"/>
            <a:ext cx="1333080" cy="1850760"/>
            <a:chOff x="4751280" y="658800"/>
            <a:chExt cx="1333080" cy="1850760"/>
          </a:xfrm>
        </p:grpSpPr>
        <p:grpSp>
          <p:nvGrpSpPr>
            <p:cNvPr id="161" name=""/>
            <p:cNvGrpSpPr/>
            <p:nvPr/>
          </p:nvGrpSpPr>
          <p:grpSpPr>
            <a:xfrm>
              <a:off x="4751280" y="658800"/>
              <a:ext cx="1333080" cy="1850760"/>
              <a:chOff x="4751280" y="658800"/>
              <a:chExt cx="1333080" cy="1850760"/>
            </a:xfrm>
          </p:grpSpPr>
          <p:sp>
            <p:nvSpPr>
              <p:cNvPr id="162" name=""/>
              <p:cNvSpPr/>
              <p:nvPr/>
            </p:nvSpPr>
            <p:spPr>
              <a:xfrm>
                <a:off x="4759200" y="666720"/>
                <a:ext cx="1311480" cy="1829160"/>
              </a:xfrm>
              <a:custGeom>
                <a:avLst/>
                <a:gdLst/>
                <a:ahLst/>
                <a:rect l="l" t="t" r="r" b="b"/>
                <a:pathLst>
                  <a:path w="667" h="914">
                    <a:moveTo>
                      <a:pt x="203" y="881"/>
                    </a:moveTo>
                    <a:lnTo>
                      <a:pt x="218" y="885"/>
                    </a:lnTo>
                    <a:lnTo>
                      <a:pt x="228" y="888"/>
                    </a:lnTo>
                    <a:lnTo>
                      <a:pt x="243" y="888"/>
                    </a:lnTo>
                    <a:lnTo>
                      <a:pt x="254" y="888"/>
                    </a:lnTo>
                    <a:lnTo>
                      <a:pt x="261" y="888"/>
                    </a:lnTo>
                    <a:lnTo>
                      <a:pt x="268" y="885"/>
                    </a:lnTo>
                    <a:lnTo>
                      <a:pt x="276" y="881"/>
                    </a:lnTo>
                    <a:lnTo>
                      <a:pt x="279" y="874"/>
                    </a:lnTo>
                    <a:lnTo>
                      <a:pt x="286" y="870"/>
                    </a:lnTo>
                    <a:lnTo>
                      <a:pt x="286" y="863"/>
                    </a:lnTo>
                    <a:lnTo>
                      <a:pt x="286" y="856"/>
                    </a:lnTo>
                    <a:lnTo>
                      <a:pt x="286" y="845"/>
                    </a:lnTo>
                    <a:lnTo>
                      <a:pt x="286" y="837"/>
                    </a:lnTo>
                    <a:lnTo>
                      <a:pt x="283" y="830"/>
                    </a:lnTo>
                    <a:lnTo>
                      <a:pt x="279" y="823"/>
                    </a:lnTo>
                    <a:lnTo>
                      <a:pt x="272" y="816"/>
                    </a:lnTo>
                    <a:lnTo>
                      <a:pt x="265" y="808"/>
                    </a:lnTo>
                    <a:lnTo>
                      <a:pt x="257" y="794"/>
                    </a:lnTo>
                    <a:lnTo>
                      <a:pt x="254" y="783"/>
                    </a:lnTo>
                    <a:lnTo>
                      <a:pt x="250" y="772"/>
                    </a:lnTo>
                    <a:lnTo>
                      <a:pt x="247" y="761"/>
                    </a:lnTo>
                    <a:lnTo>
                      <a:pt x="243" y="747"/>
                    </a:lnTo>
                    <a:lnTo>
                      <a:pt x="243" y="736"/>
                    </a:lnTo>
                    <a:lnTo>
                      <a:pt x="247" y="721"/>
                    </a:lnTo>
                    <a:lnTo>
                      <a:pt x="250" y="710"/>
                    </a:lnTo>
                    <a:lnTo>
                      <a:pt x="254" y="700"/>
                    </a:lnTo>
                    <a:lnTo>
                      <a:pt x="257" y="696"/>
                    </a:lnTo>
                    <a:lnTo>
                      <a:pt x="261" y="689"/>
                    </a:lnTo>
                    <a:lnTo>
                      <a:pt x="265" y="685"/>
                    </a:lnTo>
                    <a:lnTo>
                      <a:pt x="268" y="681"/>
                    </a:lnTo>
                    <a:lnTo>
                      <a:pt x="272" y="678"/>
                    </a:lnTo>
                    <a:lnTo>
                      <a:pt x="279" y="674"/>
                    </a:lnTo>
                    <a:lnTo>
                      <a:pt x="283" y="674"/>
                    </a:lnTo>
                    <a:lnTo>
                      <a:pt x="290" y="671"/>
                    </a:lnTo>
                    <a:lnTo>
                      <a:pt x="297" y="667"/>
                    </a:lnTo>
                    <a:lnTo>
                      <a:pt x="305" y="667"/>
                    </a:lnTo>
                    <a:lnTo>
                      <a:pt x="312" y="663"/>
                    </a:lnTo>
                    <a:lnTo>
                      <a:pt x="319" y="663"/>
                    </a:lnTo>
                    <a:lnTo>
                      <a:pt x="330" y="663"/>
                    </a:lnTo>
                    <a:lnTo>
                      <a:pt x="337" y="663"/>
                    </a:lnTo>
                    <a:lnTo>
                      <a:pt x="348" y="667"/>
                    </a:lnTo>
                    <a:lnTo>
                      <a:pt x="355" y="667"/>
                    </a:lnTo>
                    <a:lnTo>
                      <a:pt x="363" y="671"/>
                    </a:lnTo>
                    <a:lnTo>
                      <a:pt x="370" y="674"/>
                    </a:lnTo>
                    <a:lnTo>
                      <a:pt x="377" y="674"/>
                    </a:lnTo>
                    <a:lnTo>
                      <a:pt x="381" y="678"/>
                    </a:lnTo>
                    <a:lnTo>
                      <a:pt x="388" y="681"/>
                    </a:lnTo>
                    <a:lnTo>
                      <a:pt x="392" y="685"/>
                    </a:lnTo>
                    <a:lnTo>
                      <a:pt x="399" y="689"/>
                    </a:lnTo>
                    <a:lnTo>
                      <a:pt x="403" y="696"/>
                    </a:lnTo>
                    <a:lnTo>
                      <a:pt x="406" y="703"/>
                    </a:lnTo>
                    <a:lnTo>
                      <a:pt x="413" y="714"/>
                    </a:lnTo>
                    <a:lnTo>
                      <a:pt x="417" y="725"/>
                    </a:lnTo>
                    <a:lnTo>
                      <a:pt x="417" y="736"/>
                    </a:lnTo>
                    <a:lnTo>
                      <a:pt x="417" y="750"/>
                    </a:lnTo>
                    <a:lnTo>
                      <a:pt x="417" y="761"/>
                    </a:lnTo>
                    <a:lnTo>
                      <a:pt x="413" y="772"/>
                    </a:lnTo>
                    <a:lnTo>
                      <a:pt x="410" y="783"/>
                    </a:lnTo>
                    <a:lnTo>
                      <a:pt x="403" y="790"/>
                    </a:lnTo>
                    <a:lnTo>
                      <a:pt x="395" y="801"/>
                    </a:lnTo>
                    <a:lnTo>
                      <a:pt x="381" y="816"/>
                    </a:lnTo>
                    <a:lnTo>
                      <a:pt x="374" y="830"/>
                    </a:lnTo>
                    <a:lnTo>
                      <a:pt x="370" y="837"/>
                    </a:lnTo>
                    <a:lnTo>
                      <a:pt x="366" y="841"/>
                    </a:lnTo>
                    <a:lnTo>
                      <a:pt x="366" y="848"/>
                    </a:lnTo>
                    <a:lnTo>
                      <a:pt x="366" y="852"/>
                    </a:lnTo>
                    <a:lnTo>
                      <a:pt x="366" y="859"/>
                    </a:lnTo>
                    <a:lnTo>
                      <a:pt x="366" y="863"/>
                    </a:lnTo>
                    <a:lnTo>
                      <a:pt x="370" y="866"/>
                    </a:lnTo>
                    <a:lnTo>
                      <a:pt x="374" y="870"/>
                    </a:lnTo>
                    <a:lnTo>
                      <a:pt x="381" y="877"/>
                    </a:lnTo>
                    <a:lnTo>
                      <a:pt x="384" y="881"/>
                    </a:lnTo>
                    <a:lnTo>
                      <a:pt x="392" y="885"/>
                    </a:lnTo>
                    <a:lnTo>
                      <a:pt x="403" y="888"/>
                    </a:lnTo>
                    <a:lnTo>
                      <a:pt x="413" y="892"/>
                    </a:lnTo>
                    <a:lnTo>
                      <a:pt x="428" y="895"/>
                    </a:lnTo>
                    <a:lnTo>
                      <a:pt x="442" y="903"/>
                    </a:lnTo>
                    <a:lnTo>
                      <a:pt x="457" y="903"/>
                    </a:lnTo>
                    <a:lnTo>
                      <a:pt x="471" y="906"/>
                    </a:lnTo>
                    <a:lnTo>
                      <a:pt x="486" y="910"/>
                    </a:lnTo>
                    <a:lnTo>
                      <a:pt x="504" y="914"/>
                    </a:lnTo>
                    <a:lnTo>
                      <a:pt x="522" y="914"/>
                    </a:lnTo>
                    <a:lnTo>
                      <a:pt x="537" y="914"/>
                    </a:lnTo>
                    <a:lnTo>
                      <a:pt x="555" y="914"/>
                    </a:lnTo>
                    <a:lnTo>
                      <a:pt x="569" y="914"/>
                    </a:lnTo>
                    <a:lnTo>
                      <a:pt x="584" y="910"/>
                    </a:lnTo>
                    <a:lnTo>
                      <a:pt x="598" y="906"/>
                    </a:lnTo>
                    <a:lnTo>
                      <a:pt x="613" y="903"/>
                    </a:lnTo>
                    <a:lnTo>
                      <a:pt x="624" y="895"/>
                    </a:lnTo>
                    <a:lnTo>
                      <a:pt x="635" y="888"/>
                    </a:lnTo>
                    <a:lnTo>
                      <a:pt x="631" y="877"/>
                    </a:lnTo>
                    <a:lnTo>
                      <a:pt x="631" y="863"/>
                    </a:lnTo>
                    <a:lnTo>
                      <a:pt x="627" y="848"/>
                    </a:lnTo>
                    <a:lnTo>
                      <a:pt x="627" y="834"/>
                    </a:lnTo>
                    <a:lnTo>
                      <a:pt x="627" y="805"/>
                    </a:lnTo>
                    <a:lnTo>
                      <a:pt x="627" y="772"/>
                    </a:lnTo>
                    <a:lnTo>
                      <a:pt x="631" y="743"/>
                    </a:lnTo>
                    <a:lnTo>
                      <a:pt x="631" y="714"/>
                    </a:lnTo>
                    <a:lnTo>
                      <a:pt x="635" y="692"/>
                    </a:lnTo>
                    <a:lnTo>
                      <a:pt x="635" y="674"/>
                    </a:lnTo>
                    <a:lnTo>
                      <a:pt x="635" y="671"/>
                    </a:lnTo>
                    <a:lnTo>
                      <a:pt x="631" y="663"/>
                    </a:lnTo>
                    <a:lnTo>
                      <a:pt x="627" y="656"/>
                    </a:lnTo>
                    <a:lnTo>
                      <a:pt x="624" y="649"/>
                    </a:lnTo>
                    <a:lnTo>
                      <a:pt x="616" y="645"/>
                    </a:lnTo>
                    <a:lnTo>
                      <a:pt x="609" y="642"/>
                    </a:lnTo>
                    <a:lnTo>
                      <a:pt x="602" y="634"/>
                    </a:lnTo>
                    <a:lnTo>
                      <a:pt x="595" y="634"/>
                    </a:lnTo>
                    <a:lnTo>
                      <a:pt x="587" y="631"/>
                    </a:lnTo>
                    <a:lnTo>
                      <a:pt x="580" y="627"/>
                    </a:lnTo>
                    <a:lnTo>
                      <a:pt x="573" y="627"/>
                    </a:lnTo>
                    <a:lnTo>
                      <a:pt x="562" y="627"/>
                    </a:lnTo>
                    <a:lnTo>
                      <a:pt x="555" y="631"/>
                    </a:lnTo>
                    <a:lnTo>
                      <a:pt x="548" y="634"/>
                    </a:lnTo>
                    <a:lnTo>
                      <a:pt x="540" y="638"/>
                    </a:lnTo>
                    <a:lnTo>
                      <a:pt x="537" y="645"/>
                    </a:lnTo>
                    <a:lnTo>
                      <a:pt x="529" y="649"/>
                    </a:lnTo>
                    <a:lnTo>
                      <a:pt x="522" y="652"/>
                    </a:lnTo>
                    <a:lnTo>
                      <a:pt x="515" y="656"/>
                    </a:lnTo>
                    <a:lnTo>
                      <a:pt x="504" y="660"/>
                    </a:lnTo>
                    <a:lnTo>
                      <a:pt x="493" y="660"/>
                    </a:lnTo>
                    <a:lnTo>
                      <a:pt x="482" y="660"/>
                    </a:lnTo>
                    <a:lnTo>
                      <a:pt x="471" y="660"/>
                    </a:lnTo>
                    <a:lnTo>
                      <a:pt x="461" y="656"/>
                    </a:lnTo>
                    <a:lnTo>
                      <a:pt x="450" y="652"/>
                    </a:lnTo>
                    <a:lnTo>
                      <a:pt x="439" y="645"/>
                    </a:lnTo>
                    <a:lnTo>
                      <a:pt x="432" y="638"/>
                    </a:lnTo>
                    <a:lnTo>
                      <a:pt x="421" y="631"/>
                    </a:lnTo>
                    <a:lnTo>
                      <a:pt x="417" y="623"/>
                    </a:lnTo>
                    <a:lnTo>
                      <a:pt x="413" y="620"/>
                    </a:lnTo>
                    <a:lnTo>
                      <a:pt x="413" y="613"/>
                    </a:lnTo>
                    <a:lnTo>
                      <a:pt x="410" y="609"/>
                    </a:lnTo>
                    <a:lnTo>
                      <a:pt x="406" y="602"/>
                    </a:lnTo>
                    <a:lnTo>
                      <a:pt x="406" y="594"/>
                    </a:lnTo>
                    <a:lnTo>
                      <a:pt x="406" y="587"/>
                    </a:lnTo>
                    <a:lnTo>
                      <a:pt x="406" y="580"/>
                    </a:lnTo>
                    <a:lnTo>
                      <a:pt x="406" y="573"/>
                    </a:lnTo>
                    <a:lnTo>
                      <a:pt x="406" y="562"/>
                    </a:lnTo>
                    <a:lnTo>
                      <a:pt x="406" y="554"/>
                    </a:lnTo>
                    <a:lnTo>
                      <a:pt x="410" y="547"/>
                    </a:lnTo>
                    <a:lnTo>
                      <a:pt x="413" y="540"/>
                    </a:lnTo>
                    <a:lnTo>
                      <a:pt x="413" y="533"/>
                    </a:lnTo>
                    <a:lnTo>
                      <a:pt x="417" y="529"/>
                    </a:lnTo>
                    <a:lnTo>
                      <a:pt x="424" y="522"/>
                    </a:lnTo>
                    <a:lnTo>
                      <a:pt x="432" y="515"/>
                    </a:lnTo>
                    <a:lnTo>
                      <a:pt x="442" y="504"/>
                    </a:lnTo>
                    <a:lnTo>
                      <a:pt x="453" y="496"/>
                    </a:lnTo>
                    <a:lnTo>
                      <a:pt x="464" y="493"/>
                    </a:lnTo>
                    <a:lnTo>
                      <a:pt x="475" y="489"/>
                    </a:lnTo>
                    <a:lnTo>
                      <a:pt x="486" y="489"/>
                    </a:lnTo>
                    <a:lnTo>
                      <a:pt x="500" y="489"/>
                    </a:lnTo>
                    <a:lnTo>
                      <a:pt x="511" y="489"/>
                    </a:lnTo>
                    <a:lnTo>
                      <a:pt x="522" y="493"/>
                    </a:lnTo>
                    <a:lnTo>
                      <a:pt x="533" y="496"/>
                    </a:lnTo>
                    <a:lnTo>
                      <a:pt x="540" y="504"/>
                    </a:lnTo>
                    <a:lnTo>
                      <a:pt x="548" y="507"/>
                    </a:lnTo>
                    <a:lnTo>
                      <a:pt x="551" y="515"/>
                    </a:lnTo>
                    <a:lnTo>
                      <a:pt x="558" y="518"/>
                    </a:lnTo>
                    <a:lnTo>
                      <a:pt x="562" y="522"/>
                    </a:lnTo>
                    <a:lnTo>
                      <a:pt x="569" y="522"/>
                    </a:lnTo>
                    <a:lnTo>
                      <a:pt x="577" y="525"/>
                    </a:lnTo>
                    <a:lnTo>
                      <a:pt x="584" y="529"/>
                    </a:lnTo>
                    <a:lnTo>
                      <a:pt x="591" y="529"/>
                    </a:lnTo>
                    <a:lnTo>
                      <a:pt x="598" y="529"/>
                    </a:lnTo>
                    <a:lnTo>
                      <a:pt x="606" y="529"/>
                    </a:lnTo>
                    <a:lnTo>
                      <a:pt x="613" y="529"/>
                    </a:lnTo>
                    <a:lnTo>
                      <a:pt x="620" y="525"/>
                    </a:lnTo>
                    <a:lnTo>
                      <a:pt x="627" y="525"/>
                    </a:lnTo>
                    <a:lnTo>
                      <a:pt x="635" y="522"/>
                    </a:lnTo>
                    <a:lnTo>
                      <a:pt x="642" y="518"/>
                    </a:lnTo>
                    <a:lnTo>
                      <a:pt x="649" y="515"/>
                    </a:lnTo>
                    <a:lnTo>
                      <a:pt x="656" y="507"/>
                    </a:lnTo>
                    <a:lnTo>
                      <a:pt x="656" y="504"/>
                    </a:lnTo>
                    <a:lnTo>
                      <a:pt x="660" y="504"/>
                    </a:lnTo>
                    <a:lnTo>
                      <a:pt x="664" y="496"/>
                    </a:lnTo>
                    <a:lnTo>
                      <a:pt x="664" y="493"/>
                    </a:lnTo>
                    <a:lnTo>
                      <a:pt x="667" y="482"/>
                    </a:lnTo>
                    <a:lnTo>
                      <a:pt x="667" y="467"/>
                    </a:lnTo>
                    <a:lnTo>
                      <a:pt x="667" y="453"/>
                    </a:lnTo>
                    <a:lnTo>
                      <a:pt x="667" y="438"/>
                    </a:lnTo>
                    <a:lnTo>
                      <a:pt x="667" y="424"/>
                    </a:lnTo>
                    <a:lnTo>
                      <a:pt x="664" y="406"/>
                    </a:lnTo>
                    <a:lnTo>
                      <a:pt x="656" y="373"/>
                    </a:lnTo>
                    <a:lnTo>
                      <a:pt x="649" y="344"/>
                    </a:lnTo>
                    <a:lnTo>
                      <a:pt x="642" y="315"/>
                    </a:lnTo>
                    <a:lnTo>
                      <a:pt x="635" y="293"/>
                    </a:lnTo>
                    <a:lnTo>
                      <a:pt x="616" y="297"/>
                    </a:lnTo>
                    <a:lnTo>
                      <a:pt x="598" y="297"/>
                    </a:lnTo>
                    <a:lnTo>
                      <a:pt x="580" y="301"/>
                    </a:lnTo>
                    <a:lnTo>
                      <a:pt x="562" y="301"/>
                    </a:lnTo>
                    <a:lnTo>
                      <a:pt x="544" y="301"/>
                    </a:lnTo>
                    <a:lnTo>
                      <a:pt x="526" y="301"/>
                    </a:lnTo>
                    <a:lnTo>
                      <a:pt x="508" y="297"/>
                    </a:lnTo>
                    <a:lnTo>
                      <a:pt x="493" y="297"/>
                    </a:lnTo>
                    <a:lnTo>
                      <a:pt x="461" y="293"/>
                    </a:lnTo>
                    <a:lnTo>
                      <a:pt x="439" y="290"/>
                    </a:lnTo>
                    <a:lnTo>
                      <a:pt x="421" y="286"/>
                    </a:lnTo>
                    <a:lnTo>
                      <a:pt x="417" y="282"/>
                    </a:lnTo>
                    <a:lnTo>
                      <a:pt x="403" y="279"/>
                    </a:lnTo>
                    <a:lnTo>
                      <a:pt x="392" y="272"/>
                    </a:lnTo>
                    <a:lnTo>
                      <a:pt x="381" y="264"/>
                    </a:lnTo>
                    <a:lnTo>
                      <a:pt x="374" y="253"/>
                    </a:lnTo>
                    <a:lnTo>
                      <a:pt x="366" y="243"/>
                    </a:lnTo>
                    <a:lnTo>
                      <a:pt x="363" y="235"/>
                    </a:lnTo>
                    <a:lnTo>
                      <a:pt x="359" y="224"/>
                    </a:lnTo>
                    <a:lnTo>
                      <a:pt x="355" y="217"/>
                    </a:lnTo>
                    <a:lnTo>
                      <a:pt x="355" y="206"/>
                    </a:lnTo>
                    <a:lnTo>
                      <a:pt x="359" y="195"/>
                    </a:lnTo>
                    <a:lnTo>
                      <a:pt x="359" y="185"/>
                    </a:lnTo>
                    <a:lnTo>
                      <a:pt x="363" y="177"/>
                    </a:lnTo>
                    <a:lnTo>
                      <a:pt x="366" y="170"/>
                    </a:lnTo>
                    <a:lnTo>
                      <a:pt x="374" y="163"/>
                    </a:lnTo>
                    <a:lnTo>
                      <a:pt x="377" y="155"/>
                    </a:lnTo>
                    <a:lnTo>
                      <a:pt x="384" y="148"/>
                    </a:lnTo>
                    <a:lnTo>
                      <a:pt x="392" y="141"/>
                    </a:lnTo>
                    <a:lnTo>
                      <a:pt x="395" y="134"/>
                    </a:lnTo>
                    <a:lnTo>
                      <a:pt x="403" y="123"/>
                    </a:lnTo>
                    <a:lnTo>
                      <a:pt x="406" y="112"/>
                    </a:lnTo>
                    <a:lnTo>
                      <a:pt x="410" y="101"/>
                    </a:lnTo>
                    <a:lnTo>
                      <a:pt x="410" y="87"/>
                    </a:lnTo>
                    <a:lnTo>
                      <a:pt x="410" y="76"/>
                    </a:lnTo>
                    <a:lnTo>
                      <a:pt x="410" y="61"/>
                    </a:lnTo>
                    <a:lnTo>
                      <a:pt x="406" y="50"/>
                    </a:lnTo>
                    <a:lnTo>
                      <a:pt x="403" y="36"/>
                    </a:lnTo>
                    <a:lnTo>
                      <a:pt x="399" y="32"/>
                    </a:lnTo>
                    <a:lnTo>
                      <a:pt x="395" y="29"/>
                    </a:lnTo>
                    <a:lnTo>
                      <a:pt x="388" y="21"/>
                    </a:lnTo>
                    <a:lnTo>
                      <a:pt x="384" y="18"/>
                    </a:lnTo>
                    <a:lnTo>
                      <a:pt x="381" y="14"/>
                    </a:lnTo>
                    <a:lnTo>
                      <a:pt x="374" y="10"/>
                    </a:lnTo>
                    <a:lnTo>
                      <a:pt x="366" y="7"/>
                    </a:lnTo>
                    <a:lnTo>
                      <a:pt x="359" y="3"/>
                    </a:lnTo>
                    <a:lnTo>
                      <a:pt x="348" y="0"/>
                    </a:lnTo>
                    <a:lnTo>
                      <a:pt x="341" y="0"/>
                    </a:lnTo>
                    <a:lnTo>
                      <a:pt x="330" y="0"/>
                    </a:lnTo>
                    <a:lnTo>
                      <a:pt x="319" y="0"/>
                    </a:lnTo>
                    <a:lnTo>
                      <a:pt x="312" y="0"/>
                    </a:lnTo>
                    <a:lnTo>
                      <a:pt x="301" y="0"/>
                    </a:lnTo>
                    <a:lnTo>
                      <a:pt x="294" y="0"/>
                    </a:lnTo>
                    <a:lnTo>
                      <a:pt x="286" y="3"/>
                    </a:lnTo>
                    <a:lnTo>
                      <a:pt x="279" y="3"/>
                    </a:lnTo>
                    <a:lnTo>
                      <a:pt x="272" y="7"/>
                    </a:lnTo>
                    <a:lnTo>
                      <a:pt x="265" y="10"/>
                    </a:lnTo>
                    <a:lnTo>
                      <a:pt x="257" y="14"/>
                    </a:lnTo>
                    <a:lnTo>
                      <a:pt x="254" y="18"/>
                    </a:lnTo>
                    <a:lnTo>
                      <a:pt x="247" y="21"/>
                    </a:lnTo>
                    <a:lnTo>
                      <a:pt x="243" y="25"/>
                    </a:lnTo>
                    <a:lnTo>
                      <a:pt x="239" y="32"/>
                    </a:lnTo>
                    <a:lnTo>
                      <a:pt x="232" y="39"/>
                    </a:lnTo>
                    <a:lnTo>
                      <a:pt x="228" y="54"/>
                    </a:lnTo>
                    <a:lnTo>
                      <a:pt x="225" y="65"/>
                    </a:lnTo>
                    <a:lnTo>
                      <a:pt x="225" y="76"/>
                    </a:lnTo>
                    <a:lnTo>
                      <a:pt x="225" y="87"/>
                    </a:lnTo>
                    <a:lnTo>
                      <a:pt x="225" y="101"/>
                    </a:lnTo>
                    <a:lnTo>
                      <a:pt x="228" y="112"/>
                    </a:lnTo>
                    <a:lnTo>
                      <a:pt x="232" y="123"/>
                    </a:lnTo>
                    <a:lnTo>
                      <a:pt x="239" y="130"/>
                    </a:lnTo>
                    <a:lnTo>
                      <a:pt x="247" y="141"/>
                    </a:lnTo>
                    <a:lnTo>
                      <a:pt x="254" y="148"/>
                    </a:lnTo>
                    <a:lnTo>
                      <a:pt x="261" y="159"/>
                    </a:lnTo>
                    <a:lnTo>
                      <a:pt x="265" y="170"/>
                    </a:lnTo>
                    <a:lnTo>
                      <a:pt x="268" y="177"/>
                    </a:lnTo>
                    <a:lnTo>
                      <a:pt x="272" y="188"/>
                    </a:lnTo>
                    <a:lnTo>
                      <a:pt x="272" y="199"/>
                    </a:lnTo>
                    <a:lnTo>
                      <a:pt x="268" y="210"/>
                    </a:lnTo>
                    <a:lnTo>
                      <a:pt x="268" y="221"/>
                    </a:lnTo>
                    <a:lnTo>
                      <a:pt x="261" y="232"/>
                    </a:lnTo>
                    <a:lnTo>
                      <a:pt x="257" y="239"/>
                    </a:lnTo>
                    <a:lnTo>
                      <a:pt x="250" y="250"/>
                    </a:lnTo>
                    <a:lnTo>
                      <a:pt x="239" y="257"/>
                    </a:lnTo>
                    <a:lnTo>
                      <a:pt x="228" y="264"/>
                    </a:lnTo>
                    <a:lnTo>
                      <a:pt x="218" y="272"/>
                    </a:lnTo>
                    <a:lnTo>
                      <a:pt x="199" y="279"/>
                    </a:lnTo>
                    <a:lnTo>
                      <a:pt x="185" y="282"/>
                    </a:lnTo>
                    <a:lnTo>
                      <a:pt x="174" y="282"/>
                    </a:lnTo>
                    <a:lnTo>
                      <a:pt x="156" y="282"/>
                    </a:lnTo>
                    <a:lnTo>
                      <a:pt x="138" y="282"/>
                    </a:lnTo>
                    <a:lnTo>
                      <a:pt x="116" y="282"/>
                    </a:lnTo>
                    <a:lnTo>
                      <a:pt x="94" y="282"/>
                    </a:lnTo>
                    <a:lnTo>
                      <a:pt x="69" y="282"/>
                    </a:lnTo>
                    <a:lnTo>
                      <a:pt x="44" y="282"/>
                    </a:lnTo>
                    <a:lnTo>
                      <a:pt x="18" y="282"/>
                    </a:lnTo>
                    <a:lnTo>
                      <a:pt x="15" y="301"/>
                    </a:lnTo>
                    <a:lnTo>
                      <a:pt x="11" y="326"/>
                    </a:lnTo>
                    <a:lnTo>
                      <a:pt x="7" y="355"/>
                    </a:lnTo>
                    <a:lnTo>
                      <a:pt x="4" y="384"/>
                    </a:lnTo>
                    <a:lnTo>
                      <a:pt x="0" y="413"/>
                    </a:lnTo>
                    <a:lnTo>
                      <a:pt x="0" y="438"/>
                    </a:lnTo>
                    <a:lnTo>
                      <a:pt x="0" y="460"/>
                    </a:lnTo>
                    <a:lnTo>
                      <a:pt x="0" y="475"/>
                    </a:lnTo>
                    <a:lnTo>
                      <a:pt x="4" y="482"/>
                    </a:lnTo>
                    <a:lnTo>
                      <a:pt x="7" y="489"/>
                    </a:lnTo>
                    <a:lnTo>
                      <a:pt x="11" y="493"/>
                    </a:lnTo>
                    <a:lnTo>
                      <a:pt x="18" y="500"/>
                    </a:lnTo>
                    <a:lnTo>
                      <a:pt x="25" y="504"/>
                    </a:lnTo>
                    <a:lnTo>
                      <a:pt x="33" y="507"/>
                    </a:lnTo>
                    <a:lnTo>
                      <a:pt x="44" y="511"/>
                    </a:lnTo>
                    <a:lnTo>
                      <a:pt x="51" y="515"/>
                    </a:lnTo>
                    <a:lnTo>
                      <a:pt x="62" y="515"/>
                    </a:lnTo>
                    <a:lnTo>
                      <a:pt x="73" y="515"/>
                    </a:lnTo>
                    <a:lnTo>
                      <a:pt x="80" y="515"/>
                    </a:lnTo>
                    <a:lnTo>
                      <a:pt x="91" y="515"/>
                    </a:lnTo>
                    <a:lnTo>
                      <a:pt x="102" y="511"/>
                    </a:lnTo>
                    <a:lnTo>
                      <a:pt x="109" y="507"/>
                    </a:lnTo>
                    <a:lnTo>
                      <a:pt x="116" y="504"/>
                    </a:lnTo>
                    <a:lnTo>
                      <a:pt x="123" y="496"/>
                    </a:lnTo>
                    <a:lnTo>
                      <a:pt x="131" y="493"/>
                    </a:lnTo>
                    <a:lnTo>
                      <a:pt x="138" y="486"/>
                    </a:lnTo>
                    <a:lnTo>
                      <a:pt x="149" y="486"/>
                    </a:lnTo>
                    <a:lnTo>
                      <a:pt x="156" y="482"/>
                    </a:lnTo>
                    <a:lnTo>
                      <a:pt x="167" y="482"/>
                    </a:lnTo>
                    <a:lnTo>
                      <a:pt x="178" y="482"/>
                    </a:lnTo>
                    <a:lnTo>
                      <a:pt x="189" y="486"/>
                    </a:lnTo>
                    <a:lnTo>
                      <a:pt x="199" y="489"/>
                    </a:lnTo>
                    <a:lnTo>
                      <a:pt x="207" y="493"/>
                    </a:lnTo>
                    <a:lnTo>
                      <a:pt x="218" y="500"/>
                    </a:lnTo>
                    <a:lnTo>
                      <a:pt x="225" y="507"/>
                    </a:lnTo>
                    <a:lnTo>
                      <a:pt x="232" y="518"/>
                    </a:lnTo>
                    <a:lnTo>
                      <a:pt x="239" y="529"/>
                    </a:lnTo>
                    <a:lnTo>
                      <a:pt x="243" y="540"/>
                    </a:lnTo>
                    <a:lnTo>
                      <a:pt x="247" y="554"/>
                    </a:lnTo>
                    <a:lnTo>
                      <a:pt x="247" y="569"/>
                    </a:lnTo>
                    <a:lnTo>
                      <a:pt x="247" y="580"/>
                    </a:lnTo>
                    <a:lnTo>
                      <a:pt x="243" y="587"/>
                    </a:lnTo>
                    <a:lnTo>
                      <a:pt x="239" y="598"/>
                    </a:lnTo>
                    <a:lnTo>
                      <a:pt x="232" y="605"/>
                    </a:lnTo>
                    <a:lnTo>
                      <a:pt x="225" y="613"/>
                    </a:lnTo>
                    <a:lnTo>
                      <a:pt x="218" y="620"/>
                    </a:lnTo>
                    <a:lnTo>
                      <a:pt x="207" y="623"/>
                    </a:lnTo>
                    <a:lnTo>
                      <a:pt x="199" y="627"/>
                    </a:lnTo>
                    <a:lnTo>
                      <a:pt x="189" y="631"/>
                    </a:lnTo>
                    <a:lnTo>
                      <a:pt x="178" y="634"/>
                    </a:lnTo>
                    <a:lnTo>
                      <a:pt x="167" y="634"/>
                    </a:lnTo>
                    <a:lnTo>
                      <a:pt x="156" y="634"/>
                    </a:lnTo>
                    <a:lnTo>
                      <a:pt x="149" y="631"/>
                    </a:lnTo>
                    <a:lnTo>
                      <a:pt x="138" y="627"/>
                    </a:lnTo>
                    <a:lnTo>
                      <a:pt x="131" y="620"/>
                    </a:lnTo>
                    <a:lnTo>
                      <a:pt x="123" y="613"/>
                    </a:lnTo>
                    <a:lnTo>
                      <a:pt x="116" y="605"/>
                    </a:lnTo>
                    <a:lnTo>
                      <a:pt x="109" y="602"/>
                    </a:lnTo>
                    <a:lnTo>
                      <a:pt x="102" y="598"/>
                    </a:lnTo>
                    <a:lnTo>
                      <a:pt x="94" y="594"/>
                    </a:lnTo>
                    <a:lnTo>
                      <a:pt x="87" y="594"/>
                    </a:lnTo>
                    <a:lnTo>
                      <a:pt x="80" y="594"/>
                    </a:lnTo>
                    <a:lnTo>
                      <a:pt x="69" y="594"/>
                    </a:lnTo>
                    <a:lnTo>
                      <a:pt x="62" y="594"/>
                    </a:lnTo>
                    <a:lnTo>
                      <a:pt x="54" y="602"/>
                    </a:lnTo>
                    <a:lnTo>
                      <a:pt x="44" y="605"/>
                    </a:lnTo>
                    <a:lnTo>
                      <a:pt x="36" y="609"/>
                    </a:lnTo>
                    <a:lnTo>
                      <a:pt x="29" y="616"/>
                    </a:lnTo>
                    <a:lnTo>
                      <a:pt x="22" y="623"/>
                    </a:lnTo>
                    <a:lnTo>
                      <a:pt x="18" y="631"/>
                    </a:lnTo>
                    <a:lnTo>
                      <a:pt x="11" y="638"/>
                    </a:lnTo>
                    <a:lnTo>
                      <a:pt x="7" y="649"/>
                    </a:lnTo>
                    <a:lnTo>
                      <a:pt x="4" y="656"/>
                    </a:lnTo>
                    <a:lnTo>
                      <a:pt x="4" y="671"/>
                    </a:lnTo>
                    <a:lnTo>
                      <a:pt x="4" y="681"/>
                    </a:lnTo>
                    <a:lnTo>
                      <a:pt x="7" y="696"/>
                    </a:lnTo>
                    <a:lnTo>
                      <a:pt x="11" y="729"/>
                    </a:lnTo>
                    <a:lnTo>
                      <a:pt x="18" y="765"/>
                    </a:lnTo>
                    <a:lnTo>
                      <a:pt x="22" y="783"/>
                    </a:lnTo>
                    <a:lnTo>
                      <a:pt x="25" y="798"/>
                    </a:lnTo>
                    <a:lnTo>
                      <a:pt x="25" y="816"/>
                    </a:lnTo>
                    <a:lnTo>
                      <a:pt x="29" y="834"/>
                    </a:lnTo>
                    <a:lnTo>
                      <a:pt x="29" y="848"/>
                    </a:lnTo>
                    <a:lnTo>
                      <a:pt x="25" y="863"/>
                    </a:lnTo>
                    <a:lnTo>
                      <a:pt x="25" y="870"/>
                    </a:lnTo>
                    <a:lnTo>
                      <a:pt x="22" y="877"/>
                    </a:lnTo>
                    <a:lnTo>
                      <a:pt x="22" y="885"/>
                    </a:lnTo>
                    <a:lnTo>
                      <a:pt x="18" y="888"/>
                    </a:lnTo>
                    <a:lnTo>
                      <a:pt x="44" y="885"/>
                    </a:lnTo>
                    <a:lnTo>
                      <a:pt x="69" y="877"/>
                    </a:lnTo>
                    <a:lnTo>
                      <a:pt x="94" y="877"/>
                    </a:lnTo>
                    <a:lnTo>
                      <a:pt x="116" y="874"/>
                    </a:lnTo>
                    <a:lnTo>
                      <a:pt x="141" y="870"/>
                    </a:lnTo>
                    <a:lnTo>
                      <a:pt x="163" y="870"/>
                    </a:lnTo>
                    <a:lnTo>
                      <a:pt x="174" y="874"/>
                    </a:lnTo>
                    <a:lnTo>
                      <a:pt x="185" y="874"/>
                    </a:lnTo>
                    <a:lnTo>
                      <a:pt x="192" y="877"/>
                    </a:lnTo>
                    <a:lnTo>
                      <a:pt x="203" y="881"/>
                    </a:lnTo>
                    <a:close/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51280" y="658800"/>
                <a:ext cx="1333080" cy="1850760"/>
              </a:xfrm>
              <a:custGeom>
                <a:avLst/>
                <a:gdLst/>
                <a:ahLst/>
                <a:rect l="l" t="t" r="r" b="b"/>
                <a:pathLst>
                  <a:path w="678" h="925">
                    <a:moveTo>
                      <a:pt x="222" y="896"/>
                    </a:moveTo>
                    <a:lnTo>
                      <a:pt x="222" y="889"/>
                    </a:lnTo>
                    <a:lnTo>
                      <a:pt x="222" y="896"/>
                    </a:lnTo>
                    <a:lnTo>
                      <a:pt x="232" y="899"/>
                    </a:lnTo>
                    <a:lnTo>
                      <a:pt x="232" y="899"/>
                    </a:lnTo>
                    <a:lnTo>
                      <a:pt x="232" y="899"/>
                    </a:lnTo>
                    <a:lnTo>
                      <a:pt x="247" y="899"/>
                    </a:lnTo>
                    <a:lnTo>
                      <a:pt x="258" y="899"/>
                    </a:lnTo>
                    <a:lnTo>
                      <a:pt x="265" y="899"/>
                    </a:lnTo>
                    <a:lnTo>
                      <a:pt x="269" y="899"/>
                    </a:lnTo>
                    <a:lnTo>
                      <a:pt x="269" y="899"/>
                    </a:lnTo>
                    <a:lnTo>
                      <a:pt x="276" y="896"/>
                    </a:lnTo>
                    <a:lnTo>
                      <a:pt x="283" y="892"/>
                    </a:lnTo>
                    <a:lnTo>
                      <a:pt x="283" y="889"/>
                    </a:lnTo>
                    <a:lnTo>
                      <a:pt x="287" y="889"/>
                    </a:lnTo>
                    <a:lnTo>
                      <a:pt x="290" y="881"/>
                    </a:lnTo>
                    <a:lnTo>
                      <a:pt x="283" y="878"/>
                    </a:lnTo>
                    <a:lnTo>
                      <a:pt x="287" y="885"/>
                    </a:lnTo>
                    <a:lnTo>
                      <a:pt x="294" y="881"/>
                    </a:lnTo>
                    <a:lnTo>
                      <a:pt x="298" y="878"/>
                    </a:lnTo>
                    <a:lnTo>
                      <a:pt x="298" y="874"/>
                    </a:lnTo>
                    <a:lnTo>
                      <a:pt x="298" y="867"/>
                    </a:lnTo>
                    <a:lnTo>
                      <a:pt x="298" y="860"/>
                    </a:lnTo>
                    <a:lnTo>
                      <a:pt x="298" y="849"/>
                    </a:lnTo>
                    <a:lnTo>
                      <a:pt x="298" y="841"/>
                    </a:lnTo>
                    <a:lnTo>
                      <a:pt x="298" y="841"/>
                    </a:lnTo>
                    <a:lnTo>
                      <a:pt x="298" y="841"/>
                    </a:lnTo>
                    <a:lnTo>
                      <a:pt x="294" y="834"/>
                    </a:lnTo>
                    <a:lnTo>
                      <a:pt x="290" y="827"/>
                    </a:lnTo>
                    <a:lnTo>
                      <a:pt x="290" y="827"/>
                    </a:lnTo>
                    <a:lnTo>
                      <a:pt x="287" y="823"/>
                    </a:lnTo>
                    <a:lnTo>
                      <a:pt x="280" y="816"/>
                    </a:lnTo>
                    <a:lnTo>
                      <a:pt x="272" y="809"/>
                    </a:lnTo>
                    <a:lnTo>
                      <a:pt x="269" y="812"/>
                    </a:lnTo>
                    <a:lnTo>
                      <a:pt x="276" y="812"/>
                    </a:lnTo>
                    <a:lnTo>
                      <a:pt x="269" y="798"/>
                    </a:lnTo>
                    <a:lnTo>
                      <a:pt x="265" y="787"/>
                    </a:lnTo>
                    <a:lnTo>
                      <a:pt x="261" y="776"/>
                    </a:lnTo>
                    <a:lnTo>
                      <a:pt x="258" y="765"/>
                    </a:lnTo>
                    <a:lnTo>
                      <a:pt x="254" y="751"/>
                    </a:lnTo>
                    <a:lnTo>
                      <a:pt x="247" y="751"/>
                    </a:lnTo>
                    <a:lnTo>
                      <a:pt x="254" y="751"/>
                    </a:lnTo>
                    <a:lnTo>
                      <a:pt x="254" y="740"/>
                    </a:lnTo>
                    <a:lnTo>
                      <a:pt x="247" y="740"/>
                    </a:lnTo>
                    <a:lnTo>
                      <a:pt x="254" y="743"/>
                    </a:lnTo>
                    <a:lnTo>
                      <a:pt x="258" y="729"/>
                    </a:lnTo>
                    <a:lnTo>
                      <a:pt x="261" y="718"/>
                    </a:lnTo>
                    <a:lnTo>
                      <a:pt x="265" y="707"/>
                    </a:lnTo>
                    <a:lnTo>
                      <a:pt x="258" y="704"/>
                    </a:lnTo>
                    <a:lnTo>
                      <a:pt x="261" y="707"/>
                    </a:lnTo>
                    <a:lnTo>
                      <a:pt x="265" y="704"/>
                    </a:lnTo>
                    <a:lnTo>
                      <a:pt x="269" y="704"/>
                    </a:lnTo>
                    <a:lnTo>
                      <a:pt x="269" y="704"/>
                    </a:lnTo>
                    <a:lnTo>
                      <a:pt x="272" y="696"/>
                    </a:lnTo>
                    <a:lnTo>
                      <a:pt x="265" y="693"/>
                    </a:lnTo>
                    <a:lnTo>
                      <a:pt x="269" y="696"/>
                    </a:lnTo>
                    <a:lnTo>
                      <a:pt x="272" y="693"/>
                    </a:lnTo>
                    <a:lnTo>
                      <a:pt x="276" y="689"/>
                    </a:lnTo>
                    <a:lnTo>
                      <a:pt x="280" y="685"/>
                    </a:lnTo>
                    <a:lnTo>
                      <a:pt x="276" y="682"/>
                    </a:lnTo>
                    <a:lnTo>
                      <a:pt x="280" y="689"/>
                    </a:lnTo>
                    <a:lnTo>
                      <a:pt x="287" y="685"/>
                    </a:lnTo>
                    <a:lnTo>
                      <a:pt x="283" y="678"/>
                    </a:lnTo>
                    <a:lnTo>
                      <a:pt x="283" y="685"/>
                    </a:lnTo>
                    <a:lnTo>
                      <a:pt x="287" y="685"/>
                    </a:lnTo>
                    <a:lnTo>
                      <a:pt x="290" y="685"/>
                    </a:lnTo>
                    <a:lnTo>
                      <a:pt x="290" y="685"/>
                    </a:lnTo>
                    <a:lnTo>
                      <a:pt x="298" y="682"/>
                    </a:lnTo>
                    <a:lnTo>
                      <a:pt x="305" y="678"/>
                    </a:lnTo>
                    <a:lnTo>
                      <a:pt x="301" y="671"/>
                    </a:lnTo>
                    <a:lnTo>
                      <a:pt x="301" y="678"/>
                    </a:lnTo>
                    <a:lnTo>
                      <a:pt x="309" y="678"/>
                    </a:lnTo>
                    <a:lnTo>
                      <a:pt x="312" y="678"/>
                    </a:lnTo>
                    <a:lnTo>
                      <a:pt x="312" y="678"/>
                    </a:lnTo>
                    <a:lnTo>
                      <a:pt x="319" y="675"/>
                    </a:lnTo>
                    <a:lnTo>
                      <a:pt x="316" y="667"/>
                    </a:lnTo>
                    <a:lnTo>
                      <a:pt x="316" y="675"/>
                    </a:lnTo>
                    <a:lnTo>
                      <a:pt x="323" y="675"/>
                    </a:lnTo>
                    <a:lnTo>
                      <a:pt x="334" y="675"/>
                    </a:lnTo>
                    <a:lnTo>
                      <a:pt x="341" y="675"/>
                    </a:lnTo>
                    <a:lnTo>
                      <a:pt x="341" y="667"/>
                    </a:lnTo>
                    <a:lnTo>
                      <a:pt x="341" y="675"/>
                    </a:lnTo>
                    <a:lnTo>
                      <a:pt x="352" y="678"/>
                    </a:lnTo>
                    <a:lnTo>
                      <a:pt x="352" y="678"/>
                    </a:lnTo>
                    <a:lnTo>
                      <a:pt x="352" y="678"/>
                    </a:lnTo>
                    <a:lnTo>
                      <a:pt x="359" y="678"/>
                    </a:lnTo>
                    <a:lnTo>
                      <a:pt x="359" y="671"/>
                    </a:lnTo>
                    <a:lnTo>
                      <a:pt x="359" y="678"/>
                    </a:lnTo>
                    <a:lnTo>
                      <a:pt x="367" y="682"/>
                    </a:lnTo>
                    <a:lnTo>
                      <a:pt x="374" y="685"/>
                    </a:lnTo>
                    <a:lnTo>
                      <a:pt x="374" y="685"/>
                    </a:lnTo>
                    <a:lnTo>
                      <a:pt x="374" y="685"/>
                    </a:lnTo>
                    <a:lnTo>
                      <a:pt x="381" y="685"/>
                    </a:lnTo>
                    <a:lnTo>
                      <a:pt x="381" y="678"/>
                    </a:lnTo>
                    <a:lnTo>
                      <a:pt x="378" y="682"/>
                    </a:lnTo>
                    <a:lnTo>
                      <a:pt x="381" y="685"/>
                    </a:lnTo>
                    <a:lnTo>
                      <a:pt x="385" y="689"/>
                    </a:lnTo>
                    <a:lnTo>
                      <a:pt x="385" y="689"/>
                    </a:lnTo>
                    <a:lnTo>
                      <a:pt x="392" y="693"/>
                    </a:lnTo>
                    <a:lnTo>
                      <a:pt x="392" y="685"/>
                    </a:lnTo>
                    <a:lnTo>
                      <a:pt x="388" y="689"/>
                    </a:lnTo>
                    <a:lnTo>
                      <a:pt x="392" y="693"/>
                    </a:lnTo>
                    <a:lnTo>
                      <a:pt x="396" y="696"/>
                    </a:lnTo>
                    <a:lnTo>
                      <a:pt x="396" y="696"/>
                    </a:lnTo>
                    <a:lnTo>
                      <a:pt x="403" y="700"/>
                    </a:lnTo>
                    <a:lnTo>
                      <a:pt x="403" y="693"/>
                    </a:lnTo>
                    <a:lnTo>
                      <a:pt x="399" y="696"/>
                    </a:lnTo>
                    <a:lnTo>
                      <a:pt x="403" y="704"/>
                    </a:lnTo>
                    <a:lnTo>
                      <a:pt x="407" y="711"/>
                    </a:lnTo>
                    <a:lnTo>
                      <a:pt x="414" y="722"/>
                    </a:lnTo>
                    <a:lnTo>
                      <a:pt x="417" y="733"/>
                    </a:lnTo>
                    <a:lnTo>
                      <a:pt x="421" y="729"/>
                    </a:lnTo>
                    <a:lnTo>
                      <a:pt x="417" y="729"/>
                    </a:lnTo>
                    <a:lnTo>
                      <a:pt x="417" y="740"/>
                    </a:lnTo>
                    <a:lnTo>
                      <a:pt x="417" y="754"/>
                    </a:lnTo>
                    <a:lnTo>
                      <a:pt x="417" y="765"/>
                    </a:lnTo>
                    <a:lnTo>
                      <a:pt x="421" y="765"/>
                    </a:lnTo>
                    <a:lnTo>
                      <a:pt x="417" y="765"/>
                    </a:lnTo>
                    <a:lnTo>
                      <a:pt x="414" y="776"/>
                    </a:lnTo>
                    <a:lnTo>
                      <a:pt x="410" y="787"/>
                    </a:lnTo>
                    <a:lnTo>
                      <a:pt x="414" y="787"/>
                    </a:lnTo>
                    <a:lnTo>
                      <a:pt x="410" y="783"/>
                    </a:lnTo>
                    <a:lnTo>
                      <a:pt x="403" y="791"/>
                    </a:lnTo>
                    <a:lnTo>
                      <a:pt x="403" y="794"/>
                    </a:lnTo>
                    <a:lnTo>
                      <a:pt x="403" y="794"/>
                    </a:lnTo>
                    <a:lnTo>
                      <a:pt x="396" y="805"/>
                    </a:lnTo>
                    <a:lnTo>
                      <a:pt x="399" y="805"/>
                    </a:lnTo>
                    <a:lnTo>
                      <a:pt x="396" y="802"/>
                    </a:lnTo>
                    <a:lnTo>
                      <a:pt x="381" y="816"/>
                    </a:lnTo>
                    <a:lnTo>
                      <a:pt x="381" y="820"/>
                    </a:lnTo>
                    <a:lnTo>
                      <a:pt x="381" y="820"/>
                    </a:lnTo>
                    <a:lnTo>
                      <a:pt x="374" y="834"/>
                    </a:lnTo>
                    <a:lnTo>
                      <a:pt x="370" y="841"/>
                    </a:lnTo>
                    <a:lnTo>
                      <a:pt x="374" y="841"/>
                    </a:lnTo>
                    <a:lnTo>
                      <a:pt x="370" y="838"/>
                    </a:lnTo>
                    <a:lnTo>
                      <a:pt x="367" y="841"/>
                    </a:lnTo>
                    <a:lnTo>
                      <a:pt x="367" y="845"/>
                    </a:lnTo>
                    <a:lnTo>
                      <a:pt x="367" y="845"/>
                    </a:lnTo>
                    <a:lnTo>
                      <a:pt x="367" y="852"/>
                    </a:lnTo>
                    <a:lnTo>
                      <a:pt x="367" y="856"/>
                    </a:lnTo>
                    <a:lnTo>
                      <a:pt x="367" y="863"/>
                    </a:lnTo>
                    <a:lnTo>
                      <a:pt x="367" y="867"/>
                    </a:lnTo>
                    <a:lnTo>
                      <a:pt x="367" y="870"/>
                    </a:lnTo>
                    <a:lnTo>
                      <a:pt x="367" y="870"/>
                    </a:lnTo>
                    <a:lnTo>
                      <a:pt x="370" y="874"/>
                    </a:lnTo>
                    <a:lnTo>
                      <a:pt x="374" y="878"/>
                    </a:lnTo>
                    <a:lnTo>
                      <a:pt x="381" y="885"/>
                    </a:lnTo>
                    <a:lnTo>
                      <a:pt x="385" y="889"/>
                    </a:lnTo>
                    <a:lnTo>
                      <a:pt x="388" y="892"/>
                    </a:lnTo>
                    <a:lnTo>
                      <a:pt x="388" y="892"/>
                    </a:lnTo>
                    <a:lnTo>
                      <a:pt x="396" y="896"/>
                    </a:lnTo>
                    <a:lnTo>
                      <a:pt x="407" y="899"/>
                    </a:lnTo>
                    <a:lnTo>
                      <a:pt x="417" y="903"/>
                    </a:lnTo>
                    <a:lnTo>
                      <a:pt x="410" y="899"/>
                    </a:lnTo>
                    <a:lnTo>
                      <a:pt x="417" y="903"/>
                    </a:lnTo>
                    <a:lnTo>
                      <a:pt x="432" y="907"/>
                    </a:lnTo>
                    <a:lnTo>
                      <a:pt x="432" y="899"/>
                    </a:lnTo>
                    <a:lnTo>
                      <a:pt x="432" y="907"/>
                    </a:lnTo>
                    <a:lnTo>
                      <a:pt x="446" y="914"/>
                    </a:lnTo>
                    <a:lnTo>
                      <a:pt x="446" y="914"/>
                    </a:lnTo>
                    <a:lnTo>
                      <a:pt x="446" y="914"/>
                    </a:lnTo>
                    <a:lnTo>
                      <a:pt x="461" y="914"/>
                    </a:lnTo>
                    <a:lnTo>
                      <a:pt x="475" y="918"/>
                    </a:lnTo>
                    <a:lnTo>
                      <a:pt x="490" y="921"/>
                    </a:lnTo>
                    <a:lnTo>
                      <a:pt x="508" y="925"/>
                    </a:lnTo>
                    <a:lnTo>
                      <a:pt x="526" y="925"/>
                    </a:lnTo>
                    <a:lnTo>
                      <a:pt x="541" y="925"/>
                    </a:lnTo>
                    <a:lnTo>
                      <a:pt x="559" y="925"/>
                    </a:lnTo>
                    <a:lnTo>
                      <a:pt x="573" y="925"/>
                    </a:lnTo>
                    <a:lnTo>
                      <a:pt x="588" y="921"/>
                    </a:lnTo>
                    <a:lnTo>
                      <a:pt x="602" y="918"/>
                    </a:lnTo>
                    <a:lnTo>
                      <a:pt x="617" y="914"/>
                    </a:lnTo>
                    <a:lnTo>
                      <a:pt x="620" y="910"/>
                    </a:lnTo>
                    <a:lnTo>
                      <a:pt x="620" y="914"/>
                    </a:lnTo>
                    <a:lnTo>
                      <a:pt x="631" y="907"/>
                    </a:lnTo>
                    <a:lnTo>
                      <a:pt x="642" y="899"/>
                    </a:lnTo>
                    <a:lnTo>
                      <a:pt x="646" y="896"/>
                    </a:lnTo>
                    <a:lnTo>
                      <a:pt x="646" y="892"/>
                    </a:lnTo>
                    <a:lnTo>
                      <a:pt x="642" y="881"/>
                    </a:lnTo>
                    <a:lnTo>
                      <a:pt x="635" y="881"/>
                    </a:lnTo>
                    <a:lnTo>
                      <a:pt x="642" y="881"/>
                    </a:lnTo>
                    <a:lnTo>
                      <a:pt x="642" y="867"/>
                    </a:lnTo>
                    <a:lnTo>
                      <a:pt x="642" y="867"/>
                    </a:lnTo>
                    <a:lnTo>
                      <a:pt x="642" y="867"/>
                    </a:lnTo>
                    <a:lnTo>
                      <a:pt x="639" y="852"/>
                    </a:lnTo>
                    <a:lnTo>
                      <a:pt x="631" y="852"/>
                    </a:lnTo>
                    <a:lnTo>
                      <a:pt x="639" y="852"/>
                    </a:lnTo>
                    <a:lnTo>
                      <a:pt x="639" y="838"/>
                    </a:lnTo>
                    <a:lnTo>
                      <a:pt x="639" y="809"/>
                    </a:lnTo>
                    <a:lnTo>
                      <a:pt x="639" y="776"/>
                    </a:lnTo>
                    <a:lnTo>
                      <a:pt x="642" y="747"/>
                    </a:lnTo>
                    <a:lnTo>
                      <a:pt x="642" y="718"/>
                    </a:lnTo>
                    <a:lnTo>
                      <a:pt x="646" y="696"/>
                    </a:lnTo>
                    <a:lnTo>
                      <a:pt x="646" y="678"/>
                    </a:lnTo>
                    <a:lnTo>
                      <a:pt x="646" y="675"/>
                    </a:lnTo>
                    <a:lnTo>
                      <a:pt x="646" y="675"/>
                    </a:lnTo>
                    <a:lnTo>
                      <a:pt x="646" y="675"/>
                    </a:lnTo>
                    <a:lnTo>
                      <a:pt x="642" y="667"/>
                    </a:lnTo>
                    <a:lnTo>
                      <a:pt x="639" y="660"/>
                    </a:lnTo>
                    <a:lnTo>
                      <a:pt x="635" y="653"/>
                    </a:lnTo>
                    <a:lnTo>
                      <a:pt x="631" y="649"/>
                    </a:lnTo>
                    <a:lnTo>
                      <a:pt x="631" y="649"/>
                    </a:lnTo>
                    <a:lnTo>
                      <a:pt x="624" y="646"/>
                    </a:lnTo>
                    <a:lnTo>
                      <a:pt x="617" y="642"/>
                    </a:lnTo>
                    <a:lnTo>
                      <a:pt x="613" y="646"/>
                    </a:lnTo>
                    <a:lnTo>
                      <a:pt x="617" y="642"/>
                    </a:lnTo>
                    <a:lnTo>
                      <a:pt x="610" y="635"/>
                    </a:lnTo>
                    <a:lnTo>
                      <a:pt x="610" y="635"/>
                    </a:lnTo>
                    <a:lnTo>
                      <a:pt x="606" y="635"/>
                    </a:lnTo>
                    <a:lnTo>
                      <a:pt x="599" y="635"/>
                    </a:lnTo>
                    <a:lnTo>
                      <a:pt x="599" y="638"/>
                    </a:lnTo>
                    <a:lnTo>
                      <a:pt x="602" y="635"/>
                    </a:lnTo>
                    <a:lnTo>
                      <a:pt x="595" y="631"/>
                    </a:lnTo>
                    <a:lnTo>
                      <a:pt x="588" y="627"/>
                    </a:lnTo>
                    <a:lnTo>
                      <a:pt x="588" y="627"/>
                    </a:lnTo>
                    <a:lnTo>
                      <a:pt x="584" y="627"/>
                    </a:lnTo>
                    <a:lnTo>
                      <a:pt x="577" y="627"/>
                    </a:lnTo>
                    <a:lnTo>
                      <a:pt x="566" y="627"/>
                    </a:lnTo>
                    <a:lnTo>
                      <a:pt x="566" y="627"/>
                    </a:lnTo>
                    <a:lnTo>
                      <a:pt x="566" y="627"/>
                    </a:lnTo>
                    <a:lnTo>
                      <a:pt x="559" y="631"/>
                    </a:lnTo>
                    <a:lnTo>
                      <a:pt x="552" y="635"/>
                    </a:lnTo>
                    <a:lnTo>
                      <a:pt x="544" y="638"/>
                    </a:lnTo>
                    <a:lnTo>
                      <a:pt x="541" y="638"/>
                    </a:lnTo>
                    <a:lnTo>
                      <a:pt x="541" y="642"/>
                    </a:lnTo>
                    <a:lnTo>
                      <a:pt x="537" y="649"/>
                    </a:lnTo>
                    <a:lnTo>
                      <a:pt x="541" y="649"/>
                    </a:lnTo>
                    <a:lnTo>
                      <a:pt x="541" y="646"/>
                    </a:lnTo>
                    <a:lnTo>
                      <a:pt x="533" y="649"/>
                    </a:lnTo>
                    <a:lnTo>
                      <a:pt x="526" y="653"/>
                    </a:lnTo>
                    <a:lnTo>
                      <a:pt x="519" y="656"/>
                    </a:lnTo>
                    <a:lnTo>
                      <a:pt x="508" y="660"/>
                    </a:lnTo>
                    <a:lnTo>
                      <a:pt x="508" y="664"/>
                    </a:lnTo>
                    <a:lnTo>
                      <a:pt x="508" y="660"/>
                    </a:lnTo>
                    <a:lnTo>
                      <a:pt x="497" y="660"/>
                    </a:lnTo>
                    <a:lnTo>
                      <a:pt x="486" y="660"/>
                    </a:lnTo>
                    <a:lnTo>
                      <a:pt x="475" y="660"/>
                    </a:lnTo>
                    <a:lnTo>
                      <a:pt x="475" y="664"/>
                    </a:lnTo>
                    <a:lnTo>
                      <a:pt x="479" y="660"/>
                    </a:lnTo>
                    <a:lnTo>
                      <a:pt x="468" y="656"/>
                    </a:lnTo>
                    <a:lnTo>
                      <a:pt x="457" y="653"/>
                    </a:lnTo>
                    <a:lnTo>
                      <a:pt x="446" y="646"/>
                    </a:lnTo>
                    <a:lnTo>
                      <a:pt x="443" y="649"/>
                    </a:lnTo>
                    <a:lnTo>
                      <a:pt x="446" y="646"/>
                    </a:lnTo>
                    <a:lnTo>
                      <a:pt x="439" y="638"/>
                    </a:lnTo>
                    <a:lnTo>
                      <a:pt x="439" y="638"/>
                    </a:lnTo>
                    <a:lnTo>
                      <a:pt x="439" y="638"/>
                    </a:lnTo>
                    <a:lnTo>
                      <a:pt x="428" y="631"/>
                    </a:lnTo>
                    <a:lnTo>
                      <a:pt x="425" y="635"/>
                    </a:lnTo>
                    <a:lnTo>
                      <a:pt x="432" y="635"/>
                    </a:lnTo>
                    <a:lnTo>
                      <a:pt x="428" y="627"/>
                    </a:lnTo>
                    <a:lnTo>
                      <a:pt x="428" y="627"/>
                    </a:lnTo>
                    <a:lnTo>
                      <a:pt x="425" y="624"/>
                    </a:lnTo>
                    <a:lnTo>
                      <a:pt x="421" y="620"/>
                    </a:lnTo>
                    <a:lnTo>
                      <a:pt x="417" y="624"/>
                    </a:lnTo>
                    <a:lnTo>
                      <a:pt x="425" y="624"/>
                    </a:lnTo>
                    <a:lnTo>
                      <a:pt x="425" y="617"/>
                    </a:lnTo>
                    <a:lnTo>
                      <a:pt x="425" y="617"/>
                    </a:lnTo>
                    <a:lnTo>
                      <a:pt x="421" y="613"/>
                    </a:lnTo>
                    <a:lnTo>
                      <a:pt x="417" y="609"/>
                    </a:lnTo>
                    <a:lnTo>
                      <a:pt x="414" y="613"/>
                    </a:lnTo>
                    <a:lnTo>
                      <a:pt x="421" y="613"/>
                    </a:lnTo>
                    <a:lnTo>
                      <a:pt x="417" y="606"/>
                    </a:lnTo>
                    <a:lnTo>
                      <a:pt x="410" y="606"/>
                    </a:lnTo>
                    <a:lnTo>
                      <a:pt x="417" y="606"/>
                    </a:lnTo>
                    <a:lnTo>
                      <a:pt x="417" y="598"/>
                    </a:lnTo>
                    <a:lnTo>
                      <a:pt x="417" y="591"/>
                    </a:lnTo>
                    <a:lnTo>
                      <a:pt x="417" y="584"/>
                    </a:lnTo>
                    <a:lnTo>
                      <a:pt x="417" y="577"/>
                    </a:lnTo>
                    <a:lnTo>
                      <a:pt x="417" y="566"/>
                    </a:lnTo>
                    <a:lnTo>
                      <a:pt x="417" y="558"/>
                    </a:lnTo>
                    <a:lnTo>
                      <a:pt x="410" y="558"/>
                    </a:lnTo>
                    <a:lnTo>
                      <a:pt x="417" y="562"/>
                    </a:lnTo>
                    <a:lnTo>
                      <a:pt x="421" y="555"/>
                    </a:lnTo>
                    <a:lnTo>
                      <a:pt x="425" y="548"/>
                    </a:lnTo>
                    <a:lnTo>
                      <a:pt x="425" y="548"/>
                    </a:lnTo>
                    <a:lnTo>
                      <a:pt x="425" y="544"/>
                    </a:lnTo>
                    <a:lnTo>
                      <a:pt x="425" y="537"/>
                    </a:lnTo>
                    <a:lnTo>
                      <a:pt x="417" y="537"/>
                    </a:lnTo>
                    <a:lnTo>
                      <a:pt x="421" y="540"/>
                    </a:lnTo>
                    <a:lnTo>
                      <a:pt x="425" y="537"/>
                    </a:lnTo>
                    <a:lnTo>
                      <a:pt x="432" y="529"/>
                    </a:lnTo>
                    <a:lnTo>
                      <a:pt x="439" y="522"/>
                    </a:lnTo>
                    <a:lnTo>
                      <a:pt x="450" y="511"/>
                    </a:lnTo>
                    <a:lnTo>
                      <a:pt x="446" y="508"/>
                    </a:lnTo>
                    <a:lnTo>
                      <a:pt x="450" y="515"/>
                    </a:lnTo>
                    <a:lnTo>
                      <a:pt x="461" y="508"/>
                    </a:lnTo>
                    <a:lnTo>
                      <a:pt x="472" y="504"/>
                    </a:lnTo>
                    <a:lnTo>
                      <a:pt x="483" y="500"/>
                    </a:lnTo>
                    <a:lnTo>
                      <a:pt x="479" y="493"/>
                    </a:lnTo>
                    <a:lnTo>
                      <a:pt x="479" y="500"/>
                    </a:lnTo>
                    <a:lnTo>
                      <a:pt x="490" y="500"/>
                    </a:lnTo>
                    <a:lnTo>
                      <a:pt x="504" y="500"/>
                    </a:lnTo>
                    <a:lnTo>
                      <a:pt x="515" y="500"/>
                    </a:lnTo>
                    <a:lnTo>
                      <a:pt x="515" y="493"/>
                    </a:lnTo>
                    <a:lnTo>
                      <a:pt x="515" y="500"/>
                    </a:lnTo>
                    <a:lnTo>
                      <a:pt x="526" y="504"/>
                    </a:lnTo>
                    <a:lnTo>
                      <a:pt x="537" y="508"/>
                    </a:lnTo>
                    <a:lnTo>
                      <a:pt x="537" y="500"/>
                    </a:lnTo>
                    <a:lnTo>
                      <a:pt x="533" y="504"/>
                    </a:lnTo>
                    <a:lnTo>
                      <a:pt x="541" y="511"/>
                    </a:lnTo>
                    <a:lnTo>
                      <a:pt x="544" y="515"/>
                    </a:lnTo>
                    <a:lnTo>
                      <a:pt x="544" y="515"/>
                    </a:lnTo>
                    <a:lnTo>
                      <a:pt x="552" y="519"/>
                    </a:lnTo>
                    <a:lnTo>
                      <a:pt x="552" y="511"/>
                    </a:lnTo>
                    <a:lnTo>
                      <a:pt x="548" y="515"/>
                    </a:lnTo>
                    <a:lnTo>
                      <a:pt x="552" y="522"/>
                    </a:lnTo>
                    <a:lnTo>
                      <a:pt x="552" y="522"/>
                    </a:lnTo>
                    <a:lnTo>
                      <a:pt x="555" y="526"/>
                    </a:lnTo>
                    <a:lnTo>
                      <a:pt x="562" y="529"/>
                    </a:lnTo>
                    <a:lnTo>
                      <a:pt x="562" y="522"/>
                    </a:lnTo>
                    <a:lnTo>
                      <a:pt x="559" y="526"/>
                    </a:lnTo>
                    <a:lnTo>
                      <a:pt x="562" y="529"/>
                    </a:lnTo>
                    <a:lnTo>
                      <a:pt x="566" y="533"/>
                    </a:lnTo>
                    <a:lnTo>
                      <a:pt x="566" y="533"/>
                    </a:lnTo>
                    <a:lnTo>
                      <a:pt x="573" y="533"/>
                    </a:lnTo>
                    <a:lnTo>
                      <a:pt x="573" y="526"/>
                    </a:lnTo>
                    <a:lnTo>
                      <a:pt x="573" y="533"/>
                    </a:lnTo>
                    <a:lnTo>
                      <a:pt x="581" y="537"/>
                    </a:lnTo>
                    <a:lnTo>
                      <a:pt x="588" y="540"/>
                    </a:lnTo>
                    <a:lnTo>
                      <a:pt x="588" y="540"/>
                    </a:lnTo>
                    <a:lnTo>
                      <a:pt x="588" y="540"/>
                    </a:lnTo>
                    <a:lnTo>
                      <a:pt x="595" y="540"/>
                    </a:lnTo>
                    <a:lnTo>
                      <a:pt x="602" y="540"/>
                    </a:lnTo>
                    <a:lnTo>
                      <a:pt x="610" y="540"/>
                    </a:lnTo>
                    <a:lnTo>
                      <a:pt x="617" y="540"/>
                    </a:lnTo>
                    <a:lnTo>
                      <a:pt x="620" y="540"/>
                    </a:lnTo>
                    <a:lnTo>
                      <a:pt x="620" y="540"/>
                    </a:lnTo>
                    <a:lnTo>
                      <a:pt x="628" y="537"/>
                    </a:lnTo>
                    <a:lnTo>
                      <a:pt x="624" y="529"/>
                    </a:lnTo>
                    <a:lnTo>
                      <a:pt x="624" y="537"/>
                    </a:lnTo>
                    <a:lnTo>
                      <a:pt x="631" y="537"/>
                    </a:lnTo>
                    <a:lnTo>
                      <a:pt x="635" y="537"/>
                    </a:lnTo>
                    <a:lnTo>
                      <a:pt x="635" y="537"/>
                    </a:lnTo>
                    <a:lnTo>
                      <a:pt x="642" y="533"/>
                    </a:lnTo>
                    <a:lnTo>
                      <a:pt x="649" y="529"/>
                    </a:lnTo>
                    <a:lnTo>
                      <a:pt x="657" y="526"/>
                    </a:lnTo>
                    <a:lnTo>
                      <a:pt x="657" y="526"/>
                    </a:lnTo>
                    <a:lnTo>
                      <a:pt x="657" y="522"/>
                    </a:lnTo>
                    <a:lnTo>
                      <a:pt x="664" y="515"/>
                    </a:lnTo>
                    <a:lnTo>
                      <a:pt x="668" y="515"/>
                    </a:lnTo>
                    <a:lnTo>
                      <a:pt x="668" y="511"/>
                    </a:lnTo>
                    <a:lnTo>
                      <a:pt x="668" y="508"/>
                    </a:lnTo>
                    <a:lnTo>
                      <a:pt x="660" y="508"/>
                    </a:lnTo>
                    <a:lnTo>
                      <a:pt x="660" y="515"/>
                    </a:lnTo>
                    <a:lnTo>
                      <a:pt x="664" y="515"/>
                    </a:lnTo>
                    <a:lnTo>
                      <a:pt x="668" y="515"/>
                    </a:lnTo>
                    <a:lnTo>
                      <a:pt x="671" y="511"/>
                    </a:lnTo>
                    <a:lnTo>
                      <a:pt x="675" y="504"/>
                    </a:lnTo>
                    <a:lnTo>
                      <a:pt x="675" y="504"/>
                    </a:lnTo>
                    <a:lnTo>
                      <a:pt x="675" y="500"/>
                    </a:lnTo>
                    <a:lnTo>
                      <a:pt x="675" y="497"/>
                    </a:lnTo>
                    <a:lnTo>
                      <a:pt x="668" y="497"/>
                    </a:lnTo>
                    <a:lnTo>
                      <a:pt x="675" y="500"/>
                    </a:lnTo>
                    <a:lnTo>
                      <a:pt x="678" y="490"/>
                    </a:lnTo>
                    <a:lnTo>
                      <a:pt x="678" y="490"/>
                    </a:lnTo>
                    <a:lnTo>
                      <a:pt x="678" y="486"/>
                    </a:lnTo>
                    <a:lnTo>
                      <a:pt x="678" y="471"/>
                    </a:lnTo>
                    <a:lnTo>
                      <a:pt x="678" y="457"/>
                    </a:lnTo>
                    <a:lnTo>
                      <a:pt x="678" y="442"/>
                    </a:lnTo>
                    <a:lnTo>
                      <a:pt x="678" y="428"/>
                    </a:lnTo>
                    <a:lnTo>
                      <a:pt x="675" y="410"/>
                    </a:lnTo>
                    <a:lnTo>
                      <a:pt x="671" y="392"/>
                    </a:lnTo>
                    <a:lnTo>
                      <a:pt x="675" y="410"/>
                    </a:lnTo>
                    <a:lnTo>
                      <a:pt x="668" y="377"/>
                    </a:lnTo>
                    <a:lnTo>
                      <a:pt x="660" y="348"/>
                    </a:lnTo>
                    <a:lnTo>
                      <a:pt x="653" y="319"/>
                    </a:lnTo>
                    <a:lnTo>
                      <a:pt x="646" y="297"/>
                    </a:lnTo>
                    <a:lnTo>
                      <a:pt x="642" y="290"/>
                    </a:lnTo>
                    <a:lnTo>
                      <a:pt x="639" y="294"/>
                    </a:lnTo>
                    <a:lnTo>
                      <a:pt x="620" y="297"/>
                    </a:lnTo>
                    <a:lnTo>
                      <a:pt x="602" y="297"/>
                    </a:lnTo>
                    <a:lnTo>
                      <a:pt x="584" y="301"/>
                    </a:lnTo>
                    <a:lnTo>
                      <a:pt x="566" y="301"/>
                    </a:lnTo>
                    <a:lnTo>
                      <a:pt x="548" y="301"/>
                    </a:lnTo>
                    <a:lnTo>
                      <a:pt x="530" y="301"/>
                    </a:lnTo>
                    <a:lnTo>
                      <a:pt x="512" y="297"/>
                    </a:lnTo>
                    <a:lnTo>
                      <a:pt x="497" y="297"/>
                    </a:lnTo>
                    <a:lnTo>
                      <a:pt x="465" y="294"/>
                    </a:lnTo>
                    <a:lnTo>
                      <a:pt x="443" y="290"/>
                    </a:lnTo>
                    <a:lnTo>
                      <a:pt x="425" y="286"/>
                    </a:lnTo>
                    <a:lnTo>
                      <a:pt x="425" y="290"/>
                    </a:lnTo>
                    <a:lnTo>
                      <a:pt x="428" y="286"/>
                    </a:lnTo>
                    <a:lnTo>
                      <a:pt x="425" y="283"/>
                    </a:lnTo>
                    <a:lnTo>
                      <a:pt x="425" y="283"/>
                    </a:lnTo>
                    <a:lnTo>
                      <a:pt x="421" y="283"/>
                    </a:lnTo>
                    <a:lnTo>
                      <a:pt x="407" y="279"/>
                    </a:lnTo>
                    <a:lnTo>
                      <a:pt x="407" y="283"/>
                    </a:lnTo>
                    <a:lnTo>
                      <a:pt x="410" y="279"/>
                    </a:lnTo>
                    <a:lnTo>
                      <a:pt x="399" y="272"/>
                    </a:lnTo>
                    <a:lnTo>
                      <a:pt x="388" y="265"/>
                    </a:lnTo>
                    <a:lnTo>
                      <a:pt x="385" y="268"/>
                    </a:lnTo>
                    <a:lnTo>
                      <a:pt x="392" y="268"/>
                    </a:lnTo>
                    <a:lnTo>
                      <a:pt x="385" y="257"/>
                    </a:lnTo>
                    <a:lnTo>
                      <a:pt x="378" y="247"/>
                    </a:lnTo>
                    <a:lnTo>
                      <a:pt x="374" y="239"/>
                    </a:lnTo>
                    <a:lnTo>
                      <a:pt x="370" y="228"/>
                    </a:lnTo>
                    <a:lnTo>
                      <a:pt x="367" y="221"/>
                    </a:lnTo>
                    <a:lnTo>
                      <a:pt x="359" y="221"/>
                    </a:lnTo>
                    <a:lnTo>
                      <a:pt x="367" y="221"/>
                    </a:lnTo>
                    <a:lnTo>
                      <a:pt x="367" y="210"/>
                    </a:lnTo>
                    <a:lnTo>
                      <a:pt x="359" y="210"/>
                    </a:lnTo>
                    <a:lnTo>
                      <a:pt x="367" y="214"/>
                    </a:lnTo>
                    <a:lnTo>
                      <a:pt x="370" y="203"/>
                    </a:lnTo>
                    <a:lnTo>
                      <a:pt x="370" y="203"/>
                    </a:lnTo>
                    <a:lnTo>
                      <a:pt x="370" y="199"/>
                    </a:lnTo>
                    <a:lnTo>
                      <a:pt x="370" y="189"/>
                    </a:lnTo>
                    <a:lnTo>
                      <a:pt x="363" y="189"/>
                    </a:lnTo>
                    <a:lnTo>
                      <a:pt x="370" y="192"/>
                    </a:lnTo>
                    <a:lnTo>
                      <a:pt x="374" y="185"/>
                    </a:lnTo>
                    <a:lnTo>
                      <a:pt x="378" y="178"/>
                    </a:lnTo>
                    <a:lnTo>
                      <a:pt x="370" y="174"/>
                    </a:lnTo>
                    <a:lnTo>
                      <a:pt x="374" y="178"/>
                    </a:lnTo>
                    <a:lnTo>
                      <a:pt x="381" y="170"/>
                    </a:lnTo>
                    <a:lnTo>
                      <a:pt x="385" y="170"/>
                    </a:lnTo>
                    <a:lnTo>
                      <a:pt x="385" y="170"/>
                    </a:lnTo>
                    <a:lnTo>
                      <a:pt x="388" y="163"/>
                    </a:lnTo>
                    <a:lnTo>
                      <a:pt x="381" y="159"/>
                    </a:lnTo>
                    <a:lnTo>
                      <a:pt x="385" y="163"/>
                    </a:lnTo>
                    <a:lnTo>
                      <a:pt x="392" y="156"/>
                    </a:lnTo>
                    <a:lnTo>
                      <a:pt x="399" y="149"/>
                    </a:lnTo>
                    <a:lnTo>
                      <a:pt x="403" y="149"/>
                    </a:lnTo>
                    <a:lnTo>
                      <a:pt x="403" y="149"/>
                    </a:lnTo>
                    <a:lnTo>
                      <a:pt x="407" y="141"/>
                    </a:lnTo>
                    <a:lnTo>
                      <a:pt x="414" y="130"/>
                    </a:lnTo>
                    <a:lnTo>
                      <a:pt x="417" y="120"/>
                    </a:lnTo>
                    <a:lnTo>
                      <a:pt x="421" y="109"/>
                    </a:lnTo>
                    <a:lnTo>
                      <a:pt x="421" y="109"/>
                    </a:lnTo>
                    <a:lnTo>
                      <a:pt x="421" y="105"/>
                    </a:lnTo>
                    <a:lnTo>
                      <a:pt x="421" y="91"/>
                    </a:lnTo>
                    <a:lnTo>
                      <a:pt x="421" y="80"/>
                    </a:lnTo>
                    <a:lnTo>
                      <a:pt x="421" y="65"/>
                    </a:lnTo>
                    <a:lnTo>
                      <a:pt x="421" y="65"/>
                    </a:lnTo>
                    <a:lnTo>
                      <a:pt x="421" y="65"/>
                    </a:lnTo>
                    <a:lnTo>
                      <a:pt x="417" y="54"/>
                    </a:lnTo>
                    <a:lnTo>
                      <a:pt x="414" y="40"/>
                    </a:lnTo>
                    <a:lnTo>
                      <a:pt x="414" y="40"/>
                    </a:lnTo>
                    <a:lnTo>
                      <a:pt x="410" y="36"/>
                    </a:lnTo>
                    <a:lnTo>
                      <a:pt x="407" y="33"/>
                    </a:lnTo>
                    <a:lnTo>
                      <a:pt x="403" y="29"/>
                    </a:lnTo>
                    <a:lnTo>
                      <a:pt x="396" y="22"/>
                    </a:lnTo>
                    <a:lnTo>
                      <a:pt x="392" y="18"/>
                    </a:lnTo>
                    <a:lnTo>
                      <a:pt x="388" y="14"/>
                    </a:lnTo>
                    <a:lnTo>
                      <a:pt x="388" y="14"/>
                    </a:lnTo>
                    <a:lnTo>
                      <a:pt x="388" y="14"/>
                    </a:lnTo>
                    <a:lnTo>
                      <a:pt x="381" y="11"/>
                    </a:lnTo>
                    <a:lnTo>
                      <a:pt x="374" y="7"/>
                    </a:lnTo>
                    <a:lnTo>
                      <a:pt x="367" y="4"/>
                    </a:lnTo>
                    <a:lnTo>
                      <a:pt x="356" y="0"/>
                    </a:lnTo>
                    <a:lnTo>
                      <a:pt x="356" y="0"/>
                    </a:lnTo>
                    <a:lnTo>
                      <a:pt x="352" y="0"/>
                    </a:lnTo>
                    <a:lnTo>
                      <a:pt x="345" y="0"/>
                    </a:lnTo>
                    <a:lnTo>
                      <a:pt x="334" y="0"/>
                    </a:lnTo>
                    <a:lnTo>
                      <a:pt x="323" y="0"/>
                    </a:lnTo>
                    <a:lnTo>
                      <a:pt x="316" y="0"/>
                    </a:lnTo>
                    <a:lnTo>
                      <a:pt x="305" y="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290" y="4"/>
                    </a:lnTo>
                    <a:lnTo>
                      <a:pt x="290" y="7"/>
                    </a:lnTo>
                    <a:lnTo>
                      <a:pt x="290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76" y="7"/>
                    </a:lnTo>
                    <a:lnTo>
                      <a:pt x="269" y="11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58" y="14"/>
                    </a:lnTo>
                    <a:lnTo>
                      <a:pt x="254" y="18"/>
                    </a:lnTo>
                    <a:lnTo>
                      <a:pt x="258" y="22"/>
                    </a:lnTo>
                    <a:lnTo>
                      <a:pt x="258" y="18"/>
                    </a:lnTo>
                    <a:lnTo>
                      <a:pt x="251" y="22"/>
                    </a:lnTo>
                    <a:lnTo>
                      <a:pt x="251" y="22"/>
                    </a:lnTo>
                    <a:lnTo>
                      <a:pt x="247" y="22"/>
                    </a:lnTo>
                    <a:lnTo>
                      <a:pt x="243" y="25"/>
                    </a:lnTo>
                    <a:lnTo>
                      <a:pt x="243" y="29"/>
                    </a:lnTo>
                    <a:lnTo>
                      <a:pt x="243" y="29"/>
                    </a:lnTo>
                    <a:lnTo>
                      <a:pt x="240" y="36"/>
                    </a:lnTo>
                    <a:lnTo>
                      <a:pt x="243" y="36"/>
                    </a:lnTo>
                    <a:lnTo>
                      <a:pt x="240" y="33"/>
                    </a:lnTo>
                    <a:lnTo>
                      <a:pt x="232" y="40"/>
                    </a:lnTo>
                    <a:lnTo>
                      <a:pt x="232" y="43"/>
                    </a:lnTo>
                    <a:lnTo>
                      <a:pt x="232" y="43"/>
                    </a:lnTo>
                    <a:lnTo>
                      <a:pt x="229" y="58"/>
                    </a:lnTo>
                    <a:lnTo>
                      <a:pt x="225" y="69"/>
                    </a:lnTo>
                    <a:lnTo>
                      <a:pt x="225" y="69"/>
                    </a:lnTo>
                    <a:lnTo>
                      <a:pt x="225" y="69"/>
                    </a:lnTo>
                    <a:lnTo>
                      <a:pt x="225" y="80"/>
                    </a:lnTo>
                    <a:lnTo>
                      <a:pt x="225" y="91"/>
                    </a:lnTo>
                    <a:lnTo>
                      <a:pt x="225" y="105"/>
                    </a:lnTo>
                    <a:lnTo>
                      <a:pt x="225" y="109"/>
                    </a:lnTo>
                    <a:lnTo>
                      <a:pt x="225" y="109"/>
                    </a:lnTo>
                    <a:lnTo>
                      <a:pt x="229" y="120"/>
                    </a:lnTo>
                    <a:lnTo>
                      <a:pt x="232" y="130"/>
                    </a:lnTo>
                    <a:lnTo>
                      <a:pt x="232" y="130"/>
                    </a:lnTo>
                    <a:lnTo>
                      <a:pt x="232" y="130"/>
                    </a:lnTo>
                    <a:lnTo>
                      <a:pt x="240" y="138"/>
                    </a:lnTo>
                    <a:lnTo>
                      <a:pt x="243" y="134"/>
                    </a:lnTo>
                    <a:lnTo>
                      <a:pt x="240" y="138"/>
                    </a:lnTo>
                    <a:lnTo>
                      <a:pt x="247" y="149"/>
                    </a:lnTo>
                    <a:lnTo>
                      <a:pt x="247" y="149"/>
                    </a:lnTo>
                    <a:lnTo>
                      <a:pt x="247" y="149"/>
                    </a:lnTo>
                    <a:lnTo>
                      <a:pt x="254" y="156"/>
                    </a:lnTo>
                    <a:lnTo>
                      <a:pt x="258" y="152"/>
                    </a:lnTo>
                    <a:lnTo>
                      <a:pt x="254" y="156"/>
                    </a:lnTo>
                    <a:lnTo>
                      <a:pt x="261" y="167"/>
                    </a:lnTo>
                    <a:lnTo>
                      <a:pt x="265" y="178"/>
                    </a:lnTo>
                    <a:lnTo>
                      <a:pt x="269" y="185"/>
                    </a:lnTo>
                    <a:lnTo>
                      <a:pt x="272" y="196"/>
                    </a:lnTo>
                    <a:lnTo>
                      <a:pt x="276" y="192"/>
                    </a:lnTo>
                    <a:lnTo>
                      <a:pt x="272" y="192"/>
                    </a:lnTo>
                    <a:lnTo>
                      <a:pt x="272" y="203"/>
                    </a:lnTo>
                    <a:lnTo>
                      <a:pt x="276" y="203"/>
                    </a:lnTo>
                    <a:lnTo>
                      <a:pt x="272" y="203"/>
                    </a:lnTo>
                    <a:lnTo>
                      <a:pt x="269" y="214"/>
                    </a:lnTo>
                    <a:lnTo>
                      <a:pt x="269" y="214"/>
                    </a:lnTo>
                    <a:lnTo>
                      <a:pt x="269" y="214"/>
                    </a:lnTo>
                    <a:lnTo>
                      <a:pt x="269" y="225"/>
                    </a:lnTo>
                    <a:lnTo>
                      <a:pt x="272" y="225"/>
                    </a:lnTo>
                    <a:lnTo>
                      <a:pt x="269" y="225"/>
                    </a:lnTo>
                    <a:lnTo>
                      <a:pt x="261" y="236"/>
                    </a:lnTo>
                    <a:lnTo>
                      <a:pt x="258" y="243"/>
                    </a:lnTo>
                    <a:lnTo>
                      <a:pt x="251" y="254"/>
                    </a:lnTo>
                    <a:lnTo>
                      <a:pt x="254" y="254"/>
                    </a:lnTo>
                    <a:lnTo>
                      <a:pt x="254" y="250"/>
                    </a:lnTo>
                    <a:lnTo>
                      <a:pt x="243" y="257"/>
                    </a:lnTo>
                    <a:lnTo>
                      <a:pt x="232" y="265"/>
                    </a:lnTo>
                    <a:lnTo>
                      <a:pt x="222" y="272"/>
                    </a:lnTo>
                    <a:lnTo>
                      <a:pt x="203" y="279"/>
                    </a:lnTo>
                    <a:lnTo>
                      <a:pt x="203" y="283"/>
                    </a:lnTo>
                    <a:lnTo>
                      <a:pt x="203" y="279"/>
                    </a:lnTo>
                    <a:lnTo>
                      <a:pt x="189" y="283"/>
                    </a:lnTo>
                    <a:lnTo>
                      <a:pt x="178" y="283"/>
                    </a:lnTo>
                    <a:lnTo>
                      <a:pt x="160" y="283"/>
                    </a:lnTo>
                    <a:lnTo>
                      <a:pt x="142" y="283"/>
                    </a:lnTo>
                    <a:lnTo>
                      <a:pt x="120" y="283"/>
                    </a:lnTo>
                    <a:lnTo>
                      <a:pt x="98" y="283"/>
                    </a:lnTo>
                    <a:lnTo>
                      <a:pt x="73" y="283"/>
                    </a:lnTo>
                    <a:lnTo>
                      <a:pt x="48" y="283"/>
                    </a:lnTo>
                    <a:lnTo>
                      <a:pt x="22" y="283"/>
                    </a:lnTo>
                    <a:lnTo>
                      <a:pt x="19" y="283"/>
                    </a:lnTo>
                    <a:lnTo>
                      <a:pt x="19" y="286"/>
                    </a:lnTo>
                    <a:lnTo>
                      <a:pt x="15" y="305"/>
                    </a:lnTo>
                    <a:lnTo>
                      <a:pt x="11" y="330"/>
                    </a:lnTo>
                    <a:lnTo>
                      <a:pt x="8" y="359"/>
                    </a:lnTo>
                    <a:lnTo>
                      <a:pt x="4" y="388"/>
                    </a:lnTo>
                    <a:lnTo>
                      <a:pt x="0" y="417"/>
                    </a:lnTo>
                    <a:lnTo>
                      <a:pt x="0" y="442"/>
                    </a:lnTo>
                    <a:lnTo>
                      <a:pt x="0" y="464"/>
                    </a:lnTo>
                    <a:lnTo>
                      <a:pt x="0" y="479"/>
                    </a:lnTo>
                    <a:lnTo>
                      <a:pt x="0" y="482"/>
                    </a:lnTo>
                    <a:lnTo>
                      <a:pt x="0" y="482"/>
                    </a:lnTo>
                    <a:lnTo>
                      <a:pt x="4" y="490"/>
                    </a:lnTo>
                    <a:lnTo>
                      <a:pt x="8" y="497"/>
                    </a:lnTo>
                    <a:lnTo>
                      <a:pt x="8" y="497"/>
                    </a:lnTo>
                    <a:lnTo>
                      <a:pt x="8" y="497"/>
                    </a:lnTo>
                    <a:lnTo>
                      <a:pt x="11" y="500"/>
                    </a:lnTo>
                    <a:lnTo>
                      <a:pt x="19" y="508"/>
                    </a:lnTo>
                    <a:lnTo>
                      <a:pt x="22" y="511"/>
                    </a:lnTo>
                    <a:lnTo>
                      <a:pt x="22" y="511"/>
                    </a:lnTo>
                    <a:lnTo>
                      <a:pt x="29" y="515"/>
                    </a:lnTo>
                    <a:lnTo>
                      <a:pt x="37" y="519"/>
                    </a:lnTo>
                    <a:lnTo>
                      <a:pt x="48" y="522"/>
                    </a:lnTo>
                    <a:lnTo>
                      <a:pt x="55" y="526"/>
                    </a:lnTo>
                    <a:lnTo>
                      <a:pt x="55" y="526"/>
                    </a:lnTo>
                    <a:lnTo>
                      <a:pt x="55" y="526"/>
                    </a:lnTo>
                    <a:lnTo>
                      <a:pt x="66" y="526"/>
                    </a:lnTo>
                    <a:lnTo>
                      <a:pt x="77" y="526"/>
                    </a:lnTo>
                    <a:lnTo>
                      <a:pt x="84" y="526"/>
                    </a:lnTo>
                    <a:lnTo>
                      <a:pt x="95" y="526"/>
                    </a:lnTo>
                    <a:lnTo>
                      <a:pt x="95" y="526"/>
                    </a:lnTo>
                    <a:lnTo>
                      <a:pt x="98" y="526"/>
                    </a:lnTo>
                    <a:lnTo>
                      <a:pt x="109" y="522"/>
                    </a:lnTo>
                    <a:lnTo>
                      <a:pt x="116" y="519"/>
                    </a:lnTo>
                    <a:lnTo>
                      <a:pt x="124" y="515"/>
                    </a:lnTo>
                    <a:lnTo>
                      <a:pt x="124" y="515"/>
                    </a:lnTo>
                    <a:lnTo>
                      <a:pt x="124" y="511"/>
                    </a:lnTo>
                    <a:lnTo>
                      <a:pt x="131" y="504"/>
                    </a:lnTo>
                    <a:lnTo>
                      <a:pt x="127" y="500"/>
                    </a:lnTo>
                    <a:lnTo>
                      <a:pt x="131" y="508"/>
                    </a:lnTo>
                    <a:lnTo>
                      <a:pt x="138" y="504"/>
                    </a:lnTo>
                    <a:lnTo>
                      <a:pt x="138" y="504"/>
                    </a:lnTo>
                    <a:lnTo>
                      <a:pt x="138" y="500"/>
                    </a:lnTo>
                    <a:lnTo>
                      <a:pt x="145" y="493"/>
                    </a:lnTo>
                    <a:lnTo>
                      <a:pt x="142" y="490"/>
                    </a:lnTo>
                    <a:lnTo>
                      <a:pt x="142" y="497"/>
                    </a:lnTo>
                    <a:lnTo>
                      <a:pt x="153" y="497"/>
                    </a:lnTo>
                    <a:lnTo>
                      <a:pt x="153" y="497"/>
                    </a:lnTo>
                    <a:lnTo>
                      <a:pt x="156" y="497"/>
                    </a:lnTo>
                    <a:lnTo>
                      <a:pt x="164" y="493"/>
                    </a:lnTo>
                    <a:lnTo>
                      <a:pt x="160" y="486"/>
                    </a:lnTo>
                    <a:lnTo>
                      <a:pt x="160" y="493"/>
                    </a:lnTo>
                    <a:lnTo>
                      <a:pt x="171" y="493"/>
                    </a:lnTo>
                    <a:lnTo>
                      <a:pt x="182" y="493"/>
                    </a:lnTo>
                    <a:lnTo>
                      <a:pt x="182" y="486"/>
                    </a:lnTo>
                    <a:lnTo>
                      <a:pt x="182" y="493"/>
                    </a:lnTo>
                    <a:lnTo>
                      <a:pt x="193" y="497"/>
                    </a:lnTo>
                    <a:lnTo>
                      <a:pt x="203" y="500"/>
                    </a:lnTo>
                    <a:lnTo>
                      <a:pt x="211" y="504"/>
                    </a:lnTo>
                    <a:lnTo>
                      <a:pt x="222" y="511"/>
                    </a:lnTo>
                    <a:lnTo>
                      <a:pt x="222" y="504"/>
                    </a:lnTo>
                    <a:lnTo>
                      <a:pt x="218" y="508"/>
                    </a:lnTo>
                    <a:lnTo>
                      <a:pt x="225" y="515"/>
                    </a:lnTo>
                    <a:lnTo>
                      <a:pt x="229" y="511"/>
                    </a:lnTo>
                    <a:lnTo>
                      <a:pt x="225" y="515"/>
                    </a:lnTo>
                    <a:lnTo>
                      <a:pt x="232" y="526"/>
                    </a:lnTo>
                    <a:lnTo>
                      <a:pt x="240" y="537"/>
                    </a:lnTo>
                    <a:lnTo>
                      <a:pt x="243" y="548"/>
                    </a:lnTo>
                    <a:lnTo>
                      <a:pt x="247" y="562"/>
                    </a:lnTo>
                    <a:lnTo>
                      <a:pt x="251" y="558"/>
                    </a:lnTo>
                    <a:lnTo>
                      <a:pt x="247" y="558"/>
                    </a:lnTo>
                    <a:lnTo>
                      <a:pt x="247" y="573"/>
                    </a:lnTo>
                    <a:lnTo>
                      <a:pt x="247" y="584"/>
                    </a:lnTo>
                    <a:lnTo>
                      <a:pt x="251" y="584"/>
                    </a:lnTo>
                    <a:lnTo>
                      <a:pt x="247" y="584"/>
                    </a:lnTo>
                    <a:lnTo>
                      <a:pt x="243" y="591"/>
                    </a:lnTo>
                    <a:lnTo>
                      <a:pt x="240" y="602"/>
                    </a:lnTo>
                    <a:lnTo>
                      <a:pt x="243" y="602"/>
                    </a:lnTo>
                    <a:lnTo>
                      <a:pt x="240" y="598"/>
                    </a:lnTo>
                    <a:lnTo>
                      <a:pt x="232" y="606"/>
                    </a:lnTo>
                    <a:lnTo>
                      <a:pt x="225" y="613"/>
                    </a:lnTo>
                    <a:lnTo>
                      <a:pt x="218" y="620"/>
                    </a:lnTo>
                    <a:lnTo>
                      <a:pt x="222" y="624"/>
                    </a:lnTo>
                    <a:lnTo>
                      <a:pt x="222" y="620"/>
                    </a:lnTo>
                    <a:lnTo>
                      <a:pt x="211" y="624"/>
                    </a:lnTo>
                    <a:lnTo>
                      <a:pt x="203" y="627"/>
                    </a:lnTo>
                    <a:lnTo>
                      <a:pt x="193" y="631"/>
                    </a:lnTo>
                    <a:lnTo>
                      <a:pt x="182" y="635"/>
                    </a:lnTo>
                    <a:lnTo>
                      <a:pt x="182" y="638"/>
                    </a:lnTo>
                    <a:lnTo>
                      <a:pt x="182" y="635"/>
                    </a:lnTo>
                    <a:lnTo>
                      <a:pt x="171" y="635"/>
                    </a:lnTo>
                    <a:lnTo>
                      <a:pt x="160" y="635"/>
                    </a:lnTo>
                    <a:lnTo>
                      <a:pt x="160" y="638"/>
                    </a:lnTo>
                    <a:lnTo>
                      <a:pt x="164" y="635"/>
                    </a:lnTo>
                    <a:lnTo>
                      <a:pt x="156" y="631"/>
                    </a:lnTo>
                    <a:lnTo>
                      <a:pt x="145" y="627"/>
                    </a:lnTo>
                    <a:lnTo>
                      <a:pt x="142" y="631"/>
                    </a:lnTo>
                    <a:lnTo>
                      <a:pt x="145" y="627"/>
                    </a:lnTo>
                    <a:lnTo>
                      <a:pt x="138" y="620"/>
                    </a:lnTo>
                    <a:lnTo>
                      <a:pt x="131" y="613"/>
                    </a:lnTo>
                    <a:lnTo>
                      <a:pt x="124" y="606"/>
                    </a:lnTo>
                    <a:lnTo>
                      <a:pt x="124" y="606"/>
                    </a:lnTo>
                    <a:lnTo>
                      <a:pt x="124" y="606"/>
                    </a:lnTo>
                    <a:lnTo>
                      <a:pt x="116" y="602"/>
                    </a:lnTo>
                    <a:lnTo>
                      <a:pt x="109" y="598"/>
                    </a:lnTo>
                    <a:lnTo>
                      <a:pt x="102" y="595"/>
                    </a:lnTo>
                    <a:lnTo>
                      <a:pt x="102" y="595"/>
                    </a:lnTo>
                    <a:lnTo>
                      <a:pt x="98" y="595"/>
                    </a:lnTo>
                    <a:lnTo>
                      <a:pt x="91" y="595"/>
                    </a:lnTo>
                    <a:lnTo>
                      <a:pt x="84" y="595"/>
                    </a:lnTo>
                    <a:lnTo>
                      <a:pt x="73" y="595"/>
                    </a:lnTo>
                    <a:lnTo>
                      <a:pt x="66" y="595"/>
                    </a:lnTo>
                    <a:lnTo>
                      <a:pt x="66" y="595"/>
                    </a:lnTo>
                    <a:lnTo>
                      <a:pt x="62" y="595"/>
                    </a:lnTo>
                    <a:lnTo>
                      <a:pt x="55" y="602"/>
                    </a:lnTo>
                    <a:lnTo>
                      <a:pt x="58" y="606"/>
                    </a:lnTo>
                    <a:lnTo>
                      <a:pt x="58" y="602"/>
                    </a:lnTo>
                    <a:lnTo>
                      <a:pt x="48" y="606"/>
                    </a:lnTo>
                    <a:lnTo>
                      <a:pt x="40" y="609"/>
                    </a:lnTo>
                    <a:lnTo>
                      <a:pt x="40" y="609"/>
                    </a:lnTo>
                    <a:lnTo>
                      <a:pt x="37" y="609"/>
                    </a:lnTo>
                    <a:lnTo>
                      <a:pt x="29" y="617"/>
                    </a:lnTo>
                    <a:lnTo>
                      <a:pt x="22" y="624"/>
                    </a:lnTo>
                    <a:lnTo>
                      <a:pt x="22" y="627"/>
                    </a:lnTo>
                    <a:lnTo>
                      <a:pt x="22" y="627"/>
                    </a:lnTo>
                    <a:lnTo>
                      <a:pt x="19" y="635"/>
                    </a:lnTo>
                    <a:lnTo>
                      <a:pt x="22" y="635"/>
                    </a:lnTo>
                    <a:lnTo>
                      <a:pt x="19" y="631"/>
                    </a:lnTo>
                    <a:lnTo>
                      <a:pt x="11" y="638"/>
                    </a:lnTo>
                    <a:lnTo>
                      <a:pt x="11" y="642"/>
                    </a:lnTo>
                    <a:lnTo>
                      <a:pt x="11" y="642"/>
                    </a:lnTo>
                    <a:lnTo>
                      <a:pt x="8" y="653"/>
                    </a:lnTo>
                    <a:lnTo>
                      <a:pt x="4" y="660"/>
                    </a:lnTo>
                    <a:lnTo>
                      <a:pt x="4" y="660"/>
                    </a:lnTo>
                    <a:lnTo>
                      <a:pt x="4" y="660"/>
                    </a:lnTo>
                    <a:lnTo>
                      <a:pt x="4" y="675"/>
                    </a:lnTo>
                    <a:lnTo>
                      <a:pt x="4" y="685"/>
                    </a:lnTo>
                    <a:lnTo>
                      <a:pt x="4" y="685"/>
                    </a:lnTo>
                    <a:lnTo>
                      <a:pt x="4" y="689"/>
                    </a:lnTo>
                    <a:lnTo>
                      <a:pt x="8" y="704"/>
                    </a:lnTo>
                    <a:lnTo>
                      <a:pt x="11" y="700"/>
                    </a:lnTo>
                    <a:lnTo>
                      <a:pt x="8" y="700"/>
                    </a:lnTo>
                    <a:lnTo>
                      <a:pt x="11" y="733"/>
                    </a:lnTo>
                    <a:lnTo>
                      <a:pt x="19" y="769"/>
                    </a:lnTo>
                    <a:lnTo>
                      <a:pt x="22" y="787"/>
                    </a:lnTo>
                    <a:lnTo>
                      <a:pt x="22" y="798"/>
                    </a:lnTo>
                    <a:lnTo>
                      <a:pt x="22" y="791"/>
                    </a:lnTo>
                    <a:lnTo>
                      <a:pt x="26" y="805"/>
                    </a:lnTo>
                    <a:lnTo>
                      <a:pt x="29" y="802"/>
                    </a:lnTo>
                    <a:lnTo>
                      <a:pt x="26" y="802"/>
                    </a:lnTo>
                    <a:lnTo>
                      <a:pt x="26" y="820"/>
                    </a:lnTo>
                    <a:lnTo>
                      <a:pt x="29" y="838"/>
                    </a:lnTo>
                    <a:lnTo>
                      <a:pt x="29" y="852"/>
                    </a:lnTo>
                    <a:lnTo>
                      <a:pt x="33" y="852"/>
                    </a:lnTo>
                    <a:lnTo>
                      <a:pt x="29" y="852"/>
                    </a:lnTo>
                    <a:lnTo>
                      <a:pt x="26" y="867"/>
                    </a:lnTo>
                    <a:lnTo>
                      <a:pt x="26" y="867"/>
                    </a:lnTo>
                    <a:lnTo>
                      <a:pt x="26" y="867"/>
                    </a:lnTo>
                    <a:lnTo>
                      <a:pt x="26" y="874"/>
                    </a:lnTo>
                    <a:lnTo>
                      <a:pt x="29" y="874"/>
                    </a:lnTo>
                    <a:lnTo>
                      <a:pt x="26" y="874"/>
                    </a:lnTo>
                    <a:lnTo>
                      <a:pt x="22" y="881"/>
                    </a:lnTo>
                    <a:lnTo>
                      <a:pt x="22" y="881"/>
                    </a:lnTo>
                    <a:lnTo>
                      <a:pt x="22" y="881"/>
                    </a:lnTo>
                    <a:lnTo>
                      <a:pt x="22" y="889"/>
                    </a:lnTo>
                    <a:lnTo>
                      <a:pt x="26" y="889"/>
                    </a:lnTo>
                    <a:lnTo>
                      <a:pt x="22" y="885"/>
                    </a:lnTo>
                    <a:lnTo>
                      <a:pt x="19" y="889"/>
                    </a:lnTo>
                    <a:lnTo>
                      <a:pt x="8" y="899"/>
                    </a:lnTo>
                    <a:lnTo>
                      <a:pt x="22" y="899"/>
                    </a:lnTo>
                    <a:lnTo>
                      <a:pt x="48" y="896"/>
                    </a:lnTo>
                    <a:lnTo>
                      <a:pt x="51" y="892"/>
                    </a:lnTo>
                    <a:lnTo>
                      <a:pt x="51" y="896"/>
                    </a:lnTo>
                    <a:lnTo>
                      <a:pt x="77" y="889"/>
                    </a:lnTo>
                    <a:lnTo>
                      <a:pt x="73" y="881"/>
                    </a:lnTo>
                    <a:lnTo>
                      <a:pt x="73" y="889"/>
                    </a:lnTo>
                    <a:lnTo>
                      <a:pt x="98" y="889"/>
                    </a:lnTo>
                    <a:lnTo>
                      <a:pt x="120" y="885"/>
                    </a:lnTo>
                    <a:lnTo>
                      <a:pt x="145" y="881"/>
                    </a:lnTo>
                    <a:lnTo>
                      <a:pt x="167" y="881"/>
                    </a:lnTo>
                    <a:lnTo>
                      <a:pt x="167" y="874"/>
                    </a:lnTo>
                    <a:lnTo>
                      <a:pt x="167" y="881"/>
                    </a:lnTo>
                    <a:lnTo>
                      <a:pt x="178" y="885"/>
                    </a:lnTo>
                    <a:lnTo>
                      <a:pt x="178" y="885"/>
                    </a:lnTo>
                    <a:lnTo>
                      <a:pt x="178" y="885"/>
                    </a:lnTo>
                    <a:lnTo>
                      <a:pt x="189" y="885"/>
                    </a:lnTo>
                    <a:lnTo>
                      <a:pt x="189" y="878"/>
                    </a:lnTo>
                    <a:lnTo>
                      <a:pt x="189" y="885"/>
                    </a:lnTo>
                    <a:lnTo>
                      <a:pt x="196" y="889"/>
                    </a:lnTo>
                    <a:lnTo>
                      <a:pt x="207" y="892"/>
                    </a:lnTo>
                    <a:lnTo>
                      <a:pt x="200" y="889"/>
                    </a:lnTo>
                    <a:lnTo>
                      <a:pt x="207" y="892"/>
                    </a:lnTo>
                    <a:lnTo>
                      <a:pt x="222" y="896"/>
                    </a:lnTo>
                    <a:close/>
                    <a:moveTo>
                      <a:pt x="207" y="881"/>
                    </a:moveTo>
                    <a:lnTo>
                      <a:pt x="207" y="885"/>
                    </a:lnTo>
                    <a:lnTo>
                      <a:pt x="211" y="881"/>
                    </a:lnTo>
                    <a:lnTo>
                      <a:pt x="200" y="878"/>
                    </a:lnTo>
                    <a:lnTo>
                      <a:pt x="193" y="874"/>
                    </a:lnTo>
                    <a:lnTo>
                      <a:pt x="193" y="874"/>
                    </a:lnTo>
                    <a:lnTo>
                      <a:pt x="189" y="874"/>
                    </a:lnTo>
                    <a:lnTo>
                      <a:pt x="178" y="874"/>
                    </a:lnTo>
                    <a:lnTo>
                      <a:pt x="178" y="878"/>
                    </a:lnTo>
                    <a:lnTo>
                      <a:pt x="182" y="874"/>
                    </a:lnTo>
                    <a:lnTo>
                      <a:pt x="171" y="870"/>
                    </a:lnTo>
                    <a:lnTo>
                      <a:pt x="171" y="870"/>
                    </a:lnTo>
                    <a:lnTo>
                      <a:pt x="167" y="870"/>
                    </a:lnTo>
                    <a:lnTo>
                      <a:pt x="145" y="870"/>
                    </a:lnTo>
                    <a:lnTo>
                      <a:pt x="120" y="874"/>
                    </a:lnTo>
                    <a:lnTo>
                      <a:pt x="98" y="878"/>
                    </a:lnTo>
                    <a:lnTo>
                      <a:pt x="73" y="878"/>
                    </a:lnTo>
                    <a:lnTo>
                      <a:pt x="73" y="878"/>
                    </a:lnTo>
                    <a:lnTo>
                      <a:pt x="73" y="878"/>
                    </a:lnTo>
                    <a:lnTo>
                      <a:pt x="48" y="885"/>
                    </a:lnTo>
                    <a:lnTo>
                      <a:pt x="48" y="889"/>
                    </a:lnTo>
                    <a:lnTo>
                      <a:pt x="48" y="885"/>
                    </a:lnTo>
                    <a:lnTo>
                      <a:pt x="22" y="889"/>
                    </a:lnTo>
                    <a:lnTo>
                      <a:pt x="22" y="892"/>
                    </a:lnTo>
                    <a:lnTo>
                      <a:pt x="26" y="896"/>
                    </a:lnTo>
                    <a:lnTo>
                      <a:pt x="29" y="892"/>
                    </a:lnTo>
                    <a:lnTo>
                      <a:pt x="33" y="892"/>
                    </a:lnTo>
                    <a:lnTo>
                      <a:pt x="33" y="889"/>
                    </a:lnTo>
                    <a:lnTo>
                      <a:pt x="33" y="881"/>
                    </a:lnTo>
                    <a:lnTo>
                      <a:pt x="26" y="881"/>
                    </a:lnTo>
                    <a:lnTo>
                      <a:pt x="33" y="885"/>
                    </a:lnTo>
                    <a:lnTo>
                      <a:pt x="37" y="878"/>
                    </a:lnTo>
                    <a:lnTo>
                      <a:pt x="37" y="878"/>
                    </a:lnTo>
                    <a:lnTo>
                      <a:pt x="37" y="874"/>
                    </a:lnTo>
                    <a:lnTo>
                      <a:pt x="37" y="867"/>
                    </a:lnTo>
                    <a:lnTo>
                      <a:pt x="29" y="867"/>
                    </a:lnTo>
                    <a:lnTo>
                      <a:pt x="37" y="870"/>
                    </a:lnTo>
                    <a:lnTo>
                      <a:pt x="40" y="856"/>
                    </a:lnTo>
                    <a:lnTo>
                      <a:pt x="40" y="856"/>
                    </a:lnTo>
                    <a:lnTo>
                      <a:pt x="40" y="852"/>
                    </a:lnTo>
                    <a:lnTo>
                      <a:pt x="40" y="838"/>
                    </a:lnTo>
                    <a:lnTo>
                      <a:pt x="37" y="820"/>
                    </a:lnTo>
                    <a:lnTo>
                      <a:pt x="37" y="802"/>
                    </a:lnTo>
                    <a:lnTo>
                      <a:pt x="37" y="802"/>
                    </a:lnTo>
                    <a:lnTo>
                      <a:pt x="37" y="802"/>
                    </a:lnTo>
                    <a:lnTo>
                      <a:pt x="33" y="787"/>
                    </a:lnTo>
                    <a:lnTo>
                      <a:pt x="26" y="787"/>
                    </a:lnTo>
                    <a:lnTo>
                      <a:pt x="33" y="787"/>
                    </a:lnTo>
                    <a:lnTo>
                      <a:pt x="29" y="769"/>
                    </a:lnTo>
                    <a:lnTo>
                      <a:pt x="22" y="733"/>
                    </a:lnTo>
                    <a:lnTo>
                      <a:pt x="19" y="700"/>
                    </a:lnTo>
                    <a:lnTo>
                      <a:pt x="15" y="696"/>
                    </a:lnTo>
                    <a:lnTo>
                      <a:pt x="19" y="700"/>
                    </a:lnTo>
                    <a:lnTo>
                      <a:pt x="15" y="685"/>
                    </a:lnTo>
                    <a:lnTo>
                      <a:pt x="8" y="685"/>
                    </a:lnTo>
                    <a:lnTo>
                      <a:pt x="15" y="685"/>
                    </a:lnTo>
                    <a:lnTo>
                      <a:pt x="15" y="675"/>
                    </a:lnTo>
                    <a:lnTo>
                      <a:pt x="15" y="660"/>
                    </a:lnTo>
                    <a:lnTo>
                      <a:pt x="8" y="660"/>
                    </a:lnTo>
                    <a:lnTo>
                      <a:pt x="15" y="664"/>
                    </a:lnTo>
                    <a:lnTo>
                      <a:pt x="19" y="656"/>
                    </a:lnTo>
                    <a:lnTo>
                      <a:pt x="22" y="646"/>
                    </a:lnTo>
                    <a:lnTo>
                      <a:pt x="15" y="642"/>
                    </a:lnTo>
                    <a:lnTo>
                      <a:pt x="19" y="646"/>
                    </a:lnTo>
                    <a:lnTo>
                      <a:pt x="26" y="638"/>
                    </a:lnTo>
                    <a:lnTo>
                      <a:pt x="29" y="638"/>
                    </a:lnTo>
                    <a:lnTo>
                      <a:pt x="29" y="638"/>
                    </a:lnTo>
                    <a:lnTo>
                      <a:pt x="33" y="631"/>
                    </a:lnTo>
                    <a:lnTo>
                      <a:pt x="26" y="627"/>
                    </a:lnTo>
                    <a:lnTo>
                      <a:pt x="29" y="631"/>
                    </a:lnTo>
                    <a:lnTo>
                      <a:pt x="37" y="624"/>
                    </a:lnTo>
                    <a:lnTo>
                      <a:pt x="44" y="617"/>
                    </a:lnTo>
                    <a:lnTo>
                      <a:pt x="40" y="613"/>
                    </a:lnTo>
                    <a:lnTo>
                      <a:pt x="44" y="620"/>
                    </a:lnTo>
                    <a:lnTo>
                      <a:pt x="51" y="617"/>
                    </a:lnTo>
                    <a:lnTo>
                      <a:pt x="62" y="613"/>
                    </a:lnTo>
                    <a:lnTo>
                      <a:pt x="62" y="613"/>
                    </a:lnTo>
                    <a:lnTo>
                      <a:pt x="62" y="609"/>
                    </a:lnTo>
                    <a:lnTo>
                      <a:pt x="69" y="602"/>
                    </a:lnTo>
                    <a:lnTo>
                      <a:pt x="66" y="598"/>
                    </a:lnTo>
                    <a:lnTo>
                      <a:pt x="66" y="606"/>
                    </a:lnTo>
                    <a:lnTo>
                      <a:pt x="73" y="606"/>
                    </a:lnTo>
                    <a:lnTo>
                      <a:pt x="84" y="606"/>
                    </a:lnTo>
                    <a:lnTo>
                      <a:pt x="91" y="606"/>
                    </a:lnTo>
                    <a:lnTo>
                      <a:pt x="98" y="606"/>
                    </a:lnTo>
                    <a:lnTo>
                      <a:pt x="98" y="598"/>
                    </a:lnTo>
                    <a:lnTo>
                      <a:pt x="98" y="606"/>
                    </a:lnTo>
                    <a:lnTo>
                      <a:pt x="106" y="609"/>
                    </a:lnTo>
                    <a:lnTo>
                      <a:pt x="113" y="613"/>
                    </a:lnTo>
                    <a:lnTo>
                      <a:pt x="120" y="617"/>
                    </a:lnTo>
                    <a:lnTo>
                      <a:pt x="120" y="609"/>
                    </a:lnTo>
                    <a:lnTo>
                      <a:pt x="116" y="613"/>
                    </a:lnTo>
                    <a:lnTo>
                      <a:pt x="124" y="620"/>
                    </a:lnTo>
                    <a:lnTo>
                      <a:pt x="131" y="627"/>
                    </a:lnTo>
                    <a:lnTo>
                      <a:pt x="138" y="635"/>
                    </a:lnTo>
                    <a:lnTo>
                      <a:pt x="142" y="638"/>
                    </a:lnTo>
                    <a:lnTo>
                      <a:pt x="142" y="638"/>
                    </a:lnTo>
                    <a:lnTo>
                      <a:pt x="153" y="642"/>
                    </a:lnTo>
                    <a:lnTo>
                      <a:pt x="160" y="646"/>
                    </a:lnTo>
                    <a:lnTo>
                      <a:pt x="160" y="646"/>
                    </a:lnTo>
                    <a:lnTo>
                      <a:pt x="160" y="646"/>
                    </a:lnTo>
                    <a:lnTo>
                      <a:pt x="171" y="646"/>
                    </a:lnTo>
                    <a:lnTo>
                      <a:pt x="182" y="646"/>
                    </a:lnTo>
                    <a:lnTo>
                      <a:pt x="185" y="646"/>
                    </a:lnTo>
                    <a:lnTo>
                      <a:pt x="185" y="646"/>
                    </a:lnTo>
                    <a:lnTo>
                      <a:pt x="196" y="642"/>
                    </a:lnTo>
                    <a:lnTo>
                      <a:pt x="207" y="638"/>
                    </a:lnTo>
                    <a:lnTo>
                      <a:pt x="214" y="635"/>
                    </a:lnTo>
                    <a:lnTo>
                      <a:pt x="225" y="631"/>
                    </a:lnTo>
                    <a:lnTo>
                      <a:pt x="225" y="631"/>
                    </a:lnTo>
                    <a:lnTo>
                      <a:pt x="225" y="627"/>
                    </a:lnTo>
                    <a:lnTo>
                      <a:pt x="232" y="620"/>
                    </a:lnTo>
                    <a:lnTo>
                      <a:pt x="240" y="613"/>
                    </a:lnTo>
                    <a:lnTo>
                      <a:pt x="247" y="606"/>
                    </a:lnTo>
                    <a:lnTo>
                      <a:pt x="251" y="606"/>
                    </a:lnTo>
                    <a:lnTo>
                      <a:pt x="251" y="606"/>
                    </a:lnTo>
                    <a:lnTo>
                      <a:pt x="254" y="595"/>
                    </a:lnTo>
                    <a:lnTo>
                      <a:pt x="258" y="588"/>
                    </a:lnTo>
                    <a:lnTo>
                      <a:pt x="258" y="588"/>
                    </a:lnTo>
                    <a:lnTo>
                      <a:pt x="258" y="584"/>
                    </a:lnTo>
                    <a:lnTo>
                      <a:pt x="258" y="573"/>
                    </a:lnTo>
                    <a:lnTo>
                      <a:pt x="258" y="558"/>
                    </a:lnTo>
                    <a:lnTo>
                      <a:pt x="258" y="558"/>
                    </a:lnTo>
                    <a:lnTo>
                      <a:pt x="258" y="558"/>
                    </a:lnTo>
                    <a:lnTo>
                      <a:pt x="254" y="544"/>
                    </a:lnTo>
                    <a:lnTo>
                      <a:pt x="251" y="533"/>
                    </a:lnTo>
                    <a:lnTo>
                      <a:pt x="243" y="522"/>
                    </a:lnTo>
                    <a:lnTo>
                      <a:pt x="236" y="511"/>
                    </a:lnTo>
                    <a:lnTo>
                      <a:pt x="236" y="511"/>
                    </a:lnTo>
                    <a:lnTo>
                      <a:pt x="232" y="508"/>
                    </a:lnTo>
                    <a:lnTo>
                      <a:pt x="225" y="500"/>
                    </a:lnTo>
                    <a:lnTo>
                      <a:pt x="225" y="500"/>
                    </a:lnTo>
                    <a:lnTo>
                      <a:pt x="225" y="500"/>
                    </a:lnTo>
                    <a:lnTo>
                      <a:pt x="214" y="493"/>
                    </a:lnTo>
                    <a:lnTo>
                      <a:pt x="207" y="490"/>
                    </a:lnTo>
                    <a:lnTo>
                      <a:pt x="196" y="486"/>
                    </a:lnTo>
                    <a:lnTo>
                      <a:pt x="185" y="482"/>
                    </a:lnTo>
                    <a:lnTo>
                      <a:pt x="185" y="482"/>
                    </a:lnTo>
                    <a:lnTo>
                      <a:pt x="182" y="482"/>
                    </a:lnTo>
                    <a:lnTo>
                      <a:pt x="171" y="482"/>
                    </a:lnTo>
                    <a:lnTo>
                      <a:pt x="160" y="482"/>
                    </a:lnTo>
                    <a:lnTo>
                      <a:pt x="160" y="482"/>
                    </a:lnTo>
                    <a:lnTo>
                      <a:pt x="160" y="482"/>
                    </a:lnTo>
                    <a:lnTo>
                      <a:pt x="153" y="486"/>
                    </a:lnTo>
                    <a:lnTo>
                      <a:pt x="153" y="490"/>
                    </a:lnTo>
                    <a:lnTo>
                      <a:pt x="153" y="486"/>
                    </a:lnTo>
                    <a:lnTo>
                      <a:pt x="142" y="486"/>
                    </a:lnTo>
                    <a:lnTo>
                      <a:pt x="142" y="486"/>
                    </a:lnTo>
                    <a:lnTo>
                      <a:pt x="138" y="486"/>
                    </a:lnTo>
                    <a:lnTo>
                      <a:pt x="131" y="493"/>
                    </a:lnTo>
                    <a:lnTo>
                      <a:pt x="135" y="497"/>
                    </a:lnTo>
                    <a:lnTo>
                      <a:pt x="135" y="493"/>
                    </a:lnTo>
                    <a:lnTo>
                      <a:pt x="127" y="497"/>
                    </a:lnTo>
                    <a:lnTo>
                      <a:pt x="127" y="497"/>
                    </a:lnTo>
                    <a:lnTo>
                      <a:pt x="124" y="497"/>
                    </a:lnTo>
                    <a:lnTo>
                      <a:pt x="116" y="504"/>
                    </a:lnTo>
                    <a:lnTo>
                      <a:pt x="120" y="508"/>
                    </a:lnTo>
                    <a:lnTo>
                      <a:pt x="120" y="504"/>
                    </a:lnTo>
                    <a:lnTo>
                      <a:pt x="113" y="508"/>
                    </a:lnTo>
                    <a:lnTo>
                      <a:pt x="106" y="511"/>
                    </a:lnTo>
                    <a:lnTo>
                      <a:pt x="95" y="515"/>
                    </a:lnTo>
                    <a:lnTo>
                      <a:pt x="95" y="519"/>
                    </a:lnTo>
                    <a:lnTo>
                      <a:pt x="95" y="515"/>
                    </a:lnTo>
                    <a:lnTo>
                      <a:pt x="84" y="515"/>
                    </a:lnTo>
                    <a:lnTo>
                      <a:pt x="77" y="515"/>
                    </a:lnTo>
                    <a:lnTo>
                      <a:pt x="66" y="515"/>
                    </a:lnTo>
                    <a:lnTo>
                      <a:pt x="55" y="515"/>
                    </a:lnTo>
                    <a:lnTo>
                      <a:pt x="55" y="519"/>
                    </a:lnTo>
                    <a:lnTo>
                      <a:pt x="58" y="515"/>
                    </a:lnTo>
                    <a:lnTo>
                      <a:pt x="51" y="511"/>
                    </a:lnTo>
                    <a:lnTo>
                      <a:pt x="40" y="508"/>
                    </a:lnTo>
                    <a:lnTo>
                      <a:pt x="33" y="504"/>
                    </a:lnTo>
                    <a:lnTo>
                      <a:pt x="26" y="500"/>
                    </a:lnTo>
                    <a:lnTo>
                      <a:pt x="22" y="504"/>
                    </a:lnTo>
                    <a:lnTo>
                      <a:pt x="26" y="500"/>
                    </a:lnTo>
                    <a:lnTo>
                      <a:pt x="19" y="493"/>
                    </a:lnTo>
                    <a:lnTo>
                      <a:pt x="15" y="490"/>
                    </a:lnTo>
                    <a:lnTo>
                      <a:pt x="11" y="493"/>
                    </a:lnTo>
                    <a:lnTo>
                      <a:pt x="19" y="493"/>
                    </a:lnTo>
                    <a:lnTo>
                      <a:pt x="15" y="486"/>
                    </a:lnTo>
                    <a:lnTo>
                      <a:pt x="11" y="479"/>
                    </a:lnTo>
                    <a:lnTo>
                      <a:pt x="4" y="479"/>
                    </a:lnTo>
                    <a:lnTo>
                      <a:pt x="11" y="479"/>
                    </a:lnTo>
                    <a:lnTo>
                      <a:pt x="11" y="464"/>
                    </a:lnTo>
                    <a:lnTo>
                      <a:pt x="11" y="442"/>
                    </a:lnTo>
                    <a:lnTo>
                      <a:pt x="11" y="417"/>
                    </a:lnTo>
                    <a:lnTo>
                      <a:pt x="15" y="388"/>
                    </a:lnTo>
                    <a:lnTo>
                      <a:pt x="19" y="359"/>
                    </a:lnTo>
                    <a:lnTo>
                      <a:pt x="22" y="330"/>
                    </a:lnTo>
                    <a:lnTo>
                      <a:pt x="26" y="305"/>
                    </a:lnTo>
                    <a:lnTo>
                      <a:pt x="29" y="286"/>
                    </a:lnTo>
                    <a:lnTo>
                      <a:pt x="22" y="286"/>
                    </a:lnTo>
                    <a:lnTo>
                      <a:pt x="22" y="294"/>
                    </a:lnTo>
                    <a:lnTo>
                      <a:pt x="48" y="294"/>
                    </a:lnTo>
                    <a:lnTo>
                      <a:pt x="73" y="294"/>
                    </a:lnTo>
                    <a:lnTo>
                      <a:pt x="98" y="294"/>
                    </a:lnTo>
                    <a:lnTo>
                      <a:pt x="120" y="294"/>
                    </a:lnTo>
                    <a:lnTo>
                      <a:pt x="142" y="294"/>
                    </a:lnTo>
                    <a:lnTo>
                      <a:pt x="160" y="294"/>
                    </a:lnTo>
                    <a:lnTo>
                      <a:pt x="178" y="294"/>
                    </a:lnTo>
                    <a:lnTo>
                      <a:pt x="189" y="294"/>
                    </a:lnTo>
                    <a:lnTo>
                      <a:pt x="203" y="290"/>
                    </a:lnTo>
                    <a:lnTo>
                      <a:pt x="207" y="286"/>
                    </a:lnTo>
                    <a:lnTo>
                      <a:pt x="207" y="290"/>
                    </a:lnTo>
                    <a:lnTo>
                      <a:pt x="225" y="283"/>
                    </a:lnTo>
                    <a:lnTo>
                      <a:pt x="236" y="276"/>
                    </a:lnTo>
                    <a:lnTo>
                      <a:pt x="247" y="268"/>
                    </a:lnTo>
                    <a:lnTo>
                      <a:pt x="258" y="261"/>
                    </a:lnTo>
                    <a:lnTo>
                      <a:pt x="258" y="257"/>
                    </a:lnTo>
                    <a:lnTo>
                      <a:pt x="261" y="257"/>
                    </a:lnTo>
                    <a:lnTo>
                      <a:pt x="269" y="247"/>
                    </a:lnTo>
                    <a:lnTo>
                      <a:pt x="272" y="239"/>
                    </a:lnTo>
                    <a:lnTo>
                      <a:pt x="280" y="228"/>
                    </a:lnTo>
                    <a:lnTo>
                      <a:pt x="280" y="228"/>
                    </a:lnTo>
                    <a:lnTo>
                      <a:pt x="280" y="225"/>
                    </a:lnTo>
                    <a:lnTo>
                      <a:pt x="280" y="214"/>
                    </a:lnTo>
                    <a:lnTo>
                      <a:pt x="272" y="214"/>
                    </a:lnTo>
                    <a:lnTo>
                      <a:pt x="280" y="218"/>
                    </a:lnTo>
                    <a:lnTo>
                      <a:pt x="283" y="207"/>
                    </a:lnTo>
                    <a:lnTo>
                      <a:pt x="283" y="207"/>
                    </a:lnTo>
                    <a:lnTo>
                      <a:pt x="283" y="203"/>
                    </a:lnTo>
                    <a:lnTo>
                      <a:pt x="283" y="192"/>
                    </a:lnTo>
                    <a:lnTo>
                      <a:pt x="283" y="192"/>
                    </a:lnTo>
                    <a:lnTo>
                      <a:pt x="283" y="192"/>
                    </a:lnTo>
                    <a:lnTo>
                      <a:pt x="280" y="181"/>
                    </a:lnTo>
                    <a:lnTo>
                      <a:pt x="276" y="174"/>
                    </a:lnTo>
                    <a:lnTo>
                      <a:pt x="272" y="163"/>
                    </a:lnTo>
                    <a:lnTo>
                      <a:pt x="265" y="152"/>
                    </a:lnTo>
                    <a:lnTo>
                      <a:pt x="265" y="152"/>
                    </a:lnTo>
                    <a:lnTo>
                      <a:pt x="261" y="149"/>
                    </a:lnTo>
                    <a:lnTo>
                      <a:pt x="254" y="141"/>
                    </a:lnTo>
                    <a:lnTo>
                      <a:pt x="251" y="145"/>
                    </a:lnTo>
                    <a:lnTo>
                      <a:pt x="258" y="145"/>
                    </a:lnTo>
                    <a:lnTo>
                      <a:pt x="251" y="134"/>
                    </a:lnTo>
                    <a:lnTo>
                      <a:pt x="251" y="134"/>
                    </a:lnTo>
                    <a:lnTo>
                      <a:pt x="247" y="130"/>
                    </a:lnTo>
                    <a:lnTo>
                      <a:pt x="240" y="123"/>
                    </a:lnTo>
                    <a:lnTo>
                      <a:pt x="236" y="127"/>
                    </a:lnTo>
                    <a:lnTo>
                      <a:pt x="243" y="127"/>
                    </a:lnTo>
                    <a:lnTo>
                      <a:pt x="240" y="116"/>
                    </a:lnTo>
                    <a:lnTo>
                      <a:pt x="236" y="105"/>
                    </a:lnTo>
                    <a:lnTo>
                      <a:pt x="229" y="105"/>
                    </a:lnTo>
                    <a:lnTo>
                      <a:pt x="236" y="105"/>
                    </a:lnTo>
                    <a:lnTo>
                      <a:pt x="236" y="91"/>
                    </a:lnTo>
                    <a:lnTo>
                      <a:pt x="236" y="80"/>
                    </a:lnTo>
                    <a:lnTo>
                      <a:pt x="236" y="69"/>
                    </a:lnTo>
                    <a:lnTo>
                      <a:pt x="229" y="69"/>
                    </a:lnTo>
                    <a:lnTo>
                      <a:pt x="236" y="72"/>
                    </a:lnTo>
                    <a:lnTo>
                      <a:pt x="240" y="62"/>
                    </a:lnTo>
                    <a:lnTo>
                      <a:pt x="243" y="47"/>
                    </a:lnTo>
                    <a:lnTo>
                      <a:pt x="236" y="43"/>
                    </a:lnTo>
                    <a:lnTo>
                      <a:pt x="240" y="47"/>
                    </a:lnTo>
                    <a:lnTo>
                      <a:pt x="247" y="40"/>
                    </a:lnTo>
                    <a:lnTo>
                      <a:pt x="251" y="40"/>
                    </a:lnTo>
                    <a:lnTo>
                      <a:pt x="251" y="40"/>
                    </a:lnTo>
                    <a:lnTo>
                      <a:pt x="254" y="33"/>
                    </a:lnTo>
                    <a:lnTo>
                      <a:pt x="247" y="29"/>
                    </a:lnTo>
                    <a:lnTo>
                      <a:pt x="251" y="33"/>
                    </a:lnTo>
                    <a:lnTo>
                      <a:pt x="254" y="29"/>
                    </a:lnTo>
                    <a:lnTo>
                      <a:pt x="251" y="25"/>
                    </a:lnTo>
                    <a:lnTo>
                      <a:pt x="254" y="33"/>
                    </a:lnTo>
                    <a:lnTo>
                      <a:pt x="261" y="29"/>
                    </a:lnTo>
                    <a:lnTo>
                      <a:pt x="261" y="29"/>
                    </a:lnTo>
                    <a:lnTo>
                      <a:pt x="261" y="25"/>
                    </a:lnTo>
                    <a:lnTo>
                      <a:pt x="265" y="22"/>
                    </a:lnTo>
                    <a:lnTo>
                      <a:pt x="261" y="18"/>
                    </a:lnTo>
                    <a:lnTo>
                      <a:pt x="265" y="25"/>
                    </a:lnTo>
                    <a:lnTo>
                      <a:pt x="272" y="22"/>
                    </a:lnTo>
                    <a:lnTo>
                      <a:pt x="280" y="18"/>
                    </a:lnTo>
                    <a:lnTo>
                      <a:pt x="287" y="14"/>
                    </a:lnTo>
                    <a:lnTo>
                      <a:pt x="283" y="7"/>
                    </a:lnTo>
                    <a:lnTo>
                      <a:pt x="283" y="14"/>
                    </a:lnTo>
                    <a:lnTo>
                      <a:pt x="290" y="14"/>
                    </a:lnTo>
                    <a:lnTo>
                      <a:pt x="294" y="14"/>
                    </a:lnTo>
                    <a:lnTo>
                      <a:pt x="294" y="14"/>
                    </a:lnTo>
                    <a:lnTo>
                      <a:pt x="301" y="11"/>
                    </a:lnTo>
                    <a:lnTo>
                      <a:pt x="298" y="4"/>
                    </a:lnTo>
                    <a:lnTo>
                      <a:pt x="298" y="11"/>
                    </a:lnTo>
                    <a:lnTo>
                      <a:pt x="305" y="11"/>
                    </a:lnTo>
                    <a:lnTo>
                      <a:pt x="316" y="11"/>
                    </a:lnTo>
                    <a:lnTo>
                      <a:pt x="323" y="11"/>
                    </a:lnTo>
                    <a:lnTo>
                      <a:pt x="334" y="11"/>
                    </a:lnTo>
                    <a:lnTo>
                      <a:pt x="345" y="11"/>
                    </a:lnTo>
                    <a:lnTo>
                      <a:pt x="352" y="11"/>
                    </a:lnTo>
                    <a:lnTo>
                      <a:pt x="352" y="4"/>
                    </a:lnTo>
                    <a:lnTo>
                      <a:pt x="352" y="11"/>
                    </a:lnTo>
                    <a:lnTo>
                      <a:pt x="363" y="14"/>
                    </a:lnTo>
                    <a:lnTo>
                      <a:pt x="370" y="18"/>
                    </a:lnTo>
                    <a:lnTo>
                      <a:pt x="378" y="22"/>
                    </a:lnTo>
                    <a:lnTo>
                      <a:pt x="385" y="25"/>
                    </a:lnTo>
                    <a:lnTo>
                      <a:pt x="385" y="18"/>
                    </a:lnTo>
                    <a:lnTo>
                      <a:pt x="381" y="22"/>
                    </a:lnTo>
                    <a:lnTo>
                      <a:pt x="385" y="25"/>
                    </a:lnTo>
                    <a:lnTo>
                      <a:pt x="388" y="29"/>
                    </a:lnTo>
                    <a:lnTo>
                      <a:pt x="396" y="36"/>
                    </a:lnTo>
                    <a:lnTo>
                      <a:pt x="399" y="40"/>
                    </a:lnTo>
                    <a:lnTo>
                      <a:pt x="403" y="43"/>
                    </a:lnTo>
                    <a:lnTo>
                      <a:pt x="407" y="40"/>
                    </a:lnTo>
                    <a:lnTo>
                      <a:pt x="403" y="43"/>
                    </a:lnTo>
                    <a:lnTo>
                      <a:pt x="407" y="58"/>
                    </a:lnTo>
                    <a:lnTo>
                      <a:pt x="410" y="69"/>
                    </a:lnTo>
                    <a:lnTo>
                      <a:pt x="414" y="65"/>
                    </a:lnTo>
                    <a:lnTo>
                      <a:pt x="410" y="65"/>
                    </a:lnTo>
                    <a:lnTo>
                      <a:pt x="410" y="80"/>
                    </a:lnTo>
                    <a:lnTo>
                      <a:pt x="410" y="91"/>
                    </a:lnTo>
                    <a:lnTo>
                      <a:pt x="410" y="105"/>
                    </a:lnTo>
                    <a:lnTo>
                      <a:pt x="414" y="105"/>
                    </a:lnTo>
                    <a:lnTo>
                      <a:pt x="410" y="105"/>
                    </a:lnTo>
                    <a:lnTo>
                      <a:pt x="407" y="116"/>
                    </a:lnTo>
                    <a:lnTo>
                      <a:pt x="403" y="127"/>
                    </a:lnTo>
                    <a:lnTo>
                      <a:pt x="396" y="138"/>
                    </a:lnTo>
                    <a:lnTo>
                      <a:pt x="392" y="145"/>
                    </a:lnTo>
                    <a:lnTo>
                      <a:pt x="396" y="145"/>
                    </a:lnTo>
                    <a:lnTo>
                      <a:pt x="392" y="141"/>
                    </a:lnTo>
                    <a:lnTo>
                      <a:pt x="385" y="149"/>
                    </a:lnTo>
                    <a:lnTo>
                      <a:pt x="378" y="156"/>
                    </a:lnTo>
                    <a:lnTo>
                      <a:pt x="378" y="159"/>
                    </a:lnTo>
                    <a:lnTo>
                      <a:pt x="378" y="159"/>
                    </a:lnTo>
                    <a:lnTo>
                      <a:pt x="374" y="167"/>
                    </a:lnTo>
                    <a:lnTo>
                      <a:pt x="378" y="167"/>
                    </a:lnTo>
                    <a:lnTo>
                      <a:pt x="374" y="163"/>
                    </a:lnTo>
                    <a:lnTo>
                      <a:pt x="367" y="170"/>
                    </a:lnTo>
                    <a:lnTo>
                      <a:pt x="367" y="174"/>
                    </a:lnTo>
                    <a:lnTo>
                      <a:pt x="367" y="174"/>
                    </a:lnTo>
                    <a:lnTo>
                      <a:pt x="363" y="181"/>
                    </a:lnTo>
                    <a:lnTo>
                      <a:pt x="359" y="189"/>
                    </a:lnTo>
                    <a:lnTo>
                      <a:pt x="359" y="189"/>
                    </a:lnTo>
                    <a:lnTo>
                      <a:pt x="359" y="189"/>
                    </a:lnTo>
                    <a:lnTo>
                      <a:pt x="359" y="199"/>
                    </a:lnTo>
                    <a:lnTo>
                      <a:pt x="363" y="199"/>
                    </a:lnTo>
                    <a:lnTo>
                      <a:pt x="359" y="199"/>
                    </a:lnTo>
                    <a:lnTo>
                      <a:pt x="356" y="210"/>
                    </a:lnTo>
                    <a:lnTo>
                      <a:pt x="356" y="210"/>
                    </a:lnTo>
                    <a:lnTo>
                      <a:pt x="356" y="210"/>
                    </a:lnTo>
                    <a:lnTo>
                      <a:pt x="356" y="221"/>
                    </a:lnTo>
                    <a:lnTo>
                      <a:pt x="356" y="225"/>
                    </a:lnTo>
                    <a:lnTo>
                      <a:pt x="356" y="225"/>
                    </a:lnTo>
                    <a:lnTo>
                      <a:pt x="359" y="232"/>
                    </a:lnTo>
                    <a:lnTo>
                      <a:pt x="363" y="243"/>
                    </a:lnTo>
                    <a:lnTo>
                      <a:pt x="367" y="250"/>
                    </a:lnTo>
                    <a:lnTo>
                      <a:pt x="374" y="261"/>
                    </a:lnTo>
                    <a:lnTo>
                      <a:pt x="381" y="272"/>
                    </a:lnTo>
                    <a:lnTo>
                      <a:pt x="381" y="272"/>
                    </a:lnTo>
                    <a:lnTo>
                      <a:pt x="385" y="276"/>
                    </a:lnTo>
                    <a:lnTo>
                      <a:pt x="396" y="283"/>
                    </a:lnTo>
                    <a:lnTo>
                      <a:pt x="407" y="290"/>
                    </a:lnTo>
                    <a:lnTo>
                      <a:pt x="403" y="286"/>
                    </a:lnTo>
                    <a:lnTo>
                      <a:pt x="407" y="290"/>
                    </a:lnTo>
                    <a:lnTo>
                      <a:pt x="421" y="294"/>
                    </a:lnTo>
                    <a:lnTo>
                      <a:pt x="421" y="286"/>
                    </a:lnTo>
                    <a:lnTo>
                      <a:pt x="417" y="290"/>
                    </a:lnTo>
                    <a:lnTo>
                      <a:pt x="421" y="294"/>
                    </a:lnTo>
                    <a:lnTo>
                      <a:pt x="421" y="294"/>
                    </a:lnTo>
                    <a:lnTo>
                      <a:pt x="425" y="297"/>
                    </a:lnTo>
                    <a:lnTo>
                      <a:pt x="443" y="301"/>
                    </a:lnTo>
                    <a:lnTo>
                      <a:pt x="465" y="305"/>
                    </a:lnTo>
                    <a:lnTo>
                      <a:pt x="497" y="308"/>
                    </a:lnTo>
                    <a:lnTo>
                      <a:pt x="512" y="308"/>
                    </a:lnTo>
                    <a:lnTo>
                      <a:pt x="530" y="312"/>
                    </a:lnTo>
                    <a:lnTo>
                      <a:pt x="548" y="312"/>
                    </a:lnTo>
                    <a:lnTo>
                      <a:pt x="566" y="312"/>
                    </a:lnTo>
                    <a:lnTo>
                      <a:pt x="584" y="312"/>
                    </a:lnTo>
                    <a:lnTo>
                      <a:pt x="602" y="308"/>
                    </a:lnTo>
                    <a:lnTo>
                      <a:pt x="620" y="308"/>
                    </a:lnTo>
                    <a:lnTo>
                      <a:pt x="639" y="305"/>
                    </a:lnTo>
                    <a:lnTo>
                      <a:pt x="639" y="297"/>
                    </a:lnTo>
                    <a:lnTo>
                      <a:pt x="635" y="301"/>
                    </a:lnTo>
                    <a:lnTo>
                      <a:pt x="642" y="323"/>
                    </a:lnTo>
                    <a:lnTo>
                      <a:pt x="649" y="352"/>
                    </a:lnTo>
                    <a:lnTo>
                      <a:pt x="657" y="381"/>
                    </a:lnTo>
                    <a:lnTo>
                      <a:pt x="664" y="413"/>
                    </a:lnTo>
                    <a:lnTo>
                      <a:pt x="668" y="410"/>
                    </a:lnTo>
                    <a:lnTo>
                      <a:pt x="664" y="410"/>
                    </a:lnTo>
                    <a:lnTo>
                      <a:pt x="668" y="428"/>
                    </a:lnTo>
                    <a:lnTo>
                      <a:pt x="668" y="442"/>
                    </a:lnTo>
                    <a:lnTo>
                      <a:pt x="668" y="457"/>
                    </a:lnTo>
                    <a:lnTo>
                      <a:pt x="668" y="471"/>
                    </a:lnTo>
                    <a:lnTo>
                      <a:pt x="668" y="486"/>
                    </a:lnTo>
                    <a:lnTo>
                      <a:pt x="671" y="486"/>
                    </a:lnTo>
                    <a:lnTo>
                      <a:pt x="668" y="486"/>
                    </a:lnTo>
                    <a:lnTo>
                      <a:pt x="664" y="497"/>
                    </a:lnTo>
                    <a:lnTo>
                      <a:pt x="664" y="497"/>
                    </a:lnTo>
                    <a:lnTo>
                      <a:pt x="664" y="497"/>
                    </a:lnTo>
                    <a:lnTo>
                      <a:pt x="664" y="500"/>
                    </a:lnTo>
                    <a:lnTo>
                      <a:pt x="668" y="500"/>
                    </a:lnTo>
                    <a:lnTo>
                      <a:pt x="664" y="500"/>
                    </a:lnTo>
                    <a:lnTo>
                      <a:pt x="660" y="508"/>
                    </a:lnTo>
                    <a:lnTo>
                      <a:pt x="664" y="508"/>
                    </a:lnTo>
                    <a:lnTo>
                      <a:pt x="664" y="504"/>
                    </a:lnTo>
                    <a:lnTo>
                      <a:pt x="660" y="504"/>
                    </a:lnTo>
                    <a:lnTo>
                      <a:pt x="657" y="504"/>
                    </a:lnTo>
                    <a:lnTo>
                      <a:pt x="657" y="508"/>
                    </a:lnTo>
                    <a:lnTo>
                      <a:pt x="657" y="511"/>
                    </a:lnTo>
                    <a:lnTo>
                      <a:pt x="660" y="511"/>
                    </a:lnTo>
                    <a:lnTo>
                      <a:pt x="657" y="508"/>
                    </a:lnTo>
                    <a:lnTo>
                      <a:pt x="649" y="515"/>
                    </a:lnTo>
                    <a:lnTo>
                      <a:pt x="653" y="519"/>
                    </a:lnTo>
                    <a:lnTo>
                      <a:pt x="653" y="515"/>
                    </a:lnTo>
                    <a:lnTo>
                      <a:pt x="646" y="519"/>
                    </a:lnTo>
                    <a:lnTo>
                      <a:pt x="639" y="522"/>
                    </a:lnTo>
                    <a:lnTo>
                      <a:pt x="631" y="526"/>
                    </a:lnTo>
                    <a:lnTo>
                      <a:pt x="631" y="529"/>
                    </a:lnTo>
                    <a:lnTo>
                      <a:pt x="631" y="526"/>
                    </a:lnTo>
                    <a:lnTo>
                      <a:pt x="624" y="526"/>
                    </a:lnTo>
                    <a:lnTo>
                      <a:pt x="624" y="526"/>
                    </a:lnTo>
                    <a:lnTo>
                      <a:pt x="624" y="526"/>
                    </a:lnTo>
                    <a:lnTo>
                      <a:pt x="617" y="529"/>
                    </a:lnTo>
                    <a:lnTo>
                      <a:pt x="617" y="533"/>
                    </a:lnTo>
                    <a:lnTo>
                      <a:pt x="617" y="529"/>
                    </a:lnTo>
                    <a:lnTo>
                      <a:pt x="610" y="529"/>
                    </a:lnTo>
                    <a:lnTo>
                      <a:pt x="602" y="529"/>
                    </a:lnTo>
                    <a:lnTo>
                      <a:pt x="595" y="529"/>
                    </a:lnTo>
                    <a:lnTo>
                      <a:pt x="588" y="529"/>
                    </a:lnTo>
                    <a:lnTo>
                      <a:pt x="588" y="533"/>
                    </a:lnTo>
                    <a:lnTo>
                      <a:pt x="591" y="529"/>
                    </a:lnTo>
                    <a:lnTo>
                      <a:pt x="584" y="526"/>
                    </a:lnTo>
                    <a:lnTo>
                      <a:pt x="577" y="522"/>
                    </a:lnTo>
                    <a:lnTo>
                      <a:pt x="577" y="522"/>
                    </a:lnTo>
                    <a:lnTo>
                      <a:pt x="573" y="522"/>
                    </a:lnTo>
                    <a:lnTo>
                      <a:pt x="566" y="522"/>
                    </a:lnTo>
                    <a:lnTo>
                      <a:pt x="566" y="526"/>
                    </a:lnTo>
                    <a:lnTo>
                      <a:pt x="570" y="522"/>
                    </a:lnTo>
                    <a:lnTo>
                      <a:pt x="566" y="519"/>
                    </a:lnTo>
                    <a:lnTo>
                      <a:pt x="566" y="519"/>
                    </a:lnTo>
                    <a:lnTo>
                      <a:pt x="566" y="519"/>
                    </a:lnTo>
                    <a:lnTo>
                      <a:pt x="559" y="515"/>
                    </a:lnTo>
                    <a:lnTo>
                      <a:pt x="555" y="519"/>
                    </a:lnTo>
                    <a:lnTo>
                      <a:pt x="562" y="519"/>
                    </a:lnTo>
                    <a:lnTo>
                      <a:pt x="559" y="511"/>
                    </a:lnTo>
                    <a:lnTo>
                      <a:pt x="555" y="508"/>
                    </a:lnTo>
                    <a:lnTo>
                      <a:pt x="555" y="508"/>
                    </a:lnTo>
                    <a:lnTo>
                      <a:pt x="548" y="504"/>
                    </a:lnTo>
                    <a:lnTo>
                      <a:pt x="544" y="508"/>
                    </a:lnTo>
                    <a:lnTo>
                      <a:pt x="548" y="504"/>
                    </a:lnTo>
                    <a:lnTo>
                      <a:pt x="541" y="497"/>
                    </a:lnTo>
                    <a:lnTo>
                      <a:pt x="541" y="497"/>
                    </a:lnTo>
                    <a:lnTo>
                      <a:pt x="541" y="497"/>
                    </a:lnTo>
                    <a:lnTo>
                      <a:pt x="530" y="493"/>
                    </a:lnTo>
                    <a:lnTo>
                      <a:pt x="519" y="490"/>
                    </a:lnTo>
                    <a:lnTo>
                      <a:pt x="519" y="490"/>
                    </a:lnTo>
                    <a:lnTo>
                      <a:pt x="515" y="490"/>
                    </a:lnTo>
                    <a:lnTo>
                      <a:pt x="504" y="490"/>
                    </a:lnTo>
                    <a:lnTo>
                      <a:pt x="490" y="490"/>
                    </a:lnTo>
                    <a:lnTo>
                      <a:pt x="479" y="490"/>
                    </a:lnTo>
                    <a:lnTo>
                      <a:pt x="479" y="490"/>
                    </a:lnTo>
                    <a:lnTo>
                      <a:pt x="479" y="490"/>
                    </a:lnTo>
                    <a:lnTo>
                      <a:pt x="468" y="493"/>
                    </a:lnTo>
                    <a:lnTo>
                      <a:pt x="457" y="497"/>
                    </a:lnTo>
                    <a:lnTo>
                      <a:pt x="446" y="504"/>
                    </a:lnTo>
                    <a:lnTo>
                      <a:pt x="446" y="504"/>
                    </a:lnTo>
                    <a:lnTo>
                      <a:pt x="443" y="504"/>
                    </a:lnTo>
                    <a:lnTo>
                      <a:pt x="432" y="515"/>
                    </a:lnTo>
                    <a:lnTo>
                      <a:pt x="425" y="522"/>
                    </a:lnTo>
                    <a:lnTo>
                      <a:pt x="417" y="529"/>
                    </a:lnTo>
                    <a:lnTo>
                      <a:pt x="414" y="533"/>
                    </a:lnTo>
                    <a:lnTo>
                      <a:pt x="414" y="537"/>
                    </a:lnTo>
                    <a:lnTo>
                      <a:pt x="414" y="537"/>
                    </a:lnTo>
                    <a:lnTo>
                      <a:pt x="414" y="544"/>
                    </a:lnTo>
                    <a:lnTo>
                      <a:pt x="417" y="544"/>
                    </a:lnTo>
                    <a:lnTo>
                      <a:pt x="414" y="544"/>
                    </a:lnTo>
                    <a:lnTo>
                      <a:pt x="410" y="551"/>
                    </a:lnTo>
                    <a:lnTo>
                      <a:pt x="407" y="558"/>
                    </a:lnTo>
                    <a:lnTo>
                      <a:pt x="407" y="558"/>
                    </a:lnTo>
                    <a:lnTo>
                      <a:pt x="407" y="558"/>
                    </a:lnTo>
                    <a:lnTo>
                      <a:pt x="407" y="566"/>
                    </a:lnTo>
                    <a:lnTo>
                      <a:pt x="407" y="577"/>
                    </a:lnTo>
                    <a:lnTo>
                      <a:pt x="407" y="584"/>
                    </a:lnTo>
                    <a:lnTo>
                      <a:pt x="407" y="591"/>
                    </a:lnTo>
                    <a:lnTo>
                      <a:pt x="407" y="598"/>
                    </a:lnTo>
                    <a:lnTo>
                      <a:pt x="407" y="606"/>
                    </a:lnTo>
                    <a:lnTo>
                      <a:pt x="407" y="609"/>
                    </a:lnTo>
                    <a:lnTo>
                      <a:pt x="407" y="609"/>
                    </a:lnTo>
                    <a:lnTo>
                      <a:pt x="410" y="617"/>
                    </a:lnTo>
                    <a:lnTo>
                      <a:pt x="410" y="617"/>
                    </a:lnTo>
                    <a:lnTo>
                      <a:pt x="410" y="617"/>
                    </a:lnTo>
                    <a:lnTo>
                      <a:pt x="414" y="620"/>
                    </a:lnTo>
                    <a:lnTo>
                      <a:pt x="417" y="617"/>
                    </a:lnTo>
                    <a:lnTo>
                      <a:pt x="414" y="617"/>
                    </a:lnTo>
                    <a:lnTo>
                      <a:pt x="414" y="624"/>
                    </a:lnTo>
                    <a:lnTo>
                      <a:pt x="414" y="627"/>
                    </a:lnTo>
                    <a:lnTo>
                      <a:pt x="414" y="627"/>
                    </a:lnTo>
                    <a:lnTo>
                      <a:pt x="417" y="631"/>
                    </a:lnTo>
                    <a:lnTo>
                      <a:pt x="421" y="627"/>
                    </a:lnTo>
                    <a:lnTo>
                      <a:pt x="417" y="631"/>
                    </a:lnTo>
                    <a:lnTo>
                      <a:pt x="421" y="638"/>
                    </a:lnTo>
                    <a:lnTo>
                      <a:pt x="421" y="638"/>
                    </a:lnTo>
                    <a:lnTo>
                      <a:pt x="425" y="642"/>
                    </a:lnTo>
                    <a:lnTo>
                      <a:pt x="436" y="649"/>
                    </a:lnTo>
                    <a:lnTo>
                      <a:pt x="436" y="642"/>
                    </a:lnTo>
                    <a:lnTo>
                      <a:pt x="432" y="646"/>
                    </a:lnTo>
                    <a:lnTo>
                      <a:pt x="439" y="653"/>
                    </a:lnTo>
                    <a:lnTo>
                      <a:pt x="443" y="656"/>
                    </a:lnTo>
                    <a:lnTo>
                      <a:pt x="443" y="656"/>
                    </a:lnTo>
                    <a:lnTo>
                      <a:pt x="454" y="664"/>
                    </a:lnTo>
                    <a:lnTo>
                      <a:pt x="465" y="667"/>
                    </a:lnTo>
                    <a:lnTo>
                      <a:pt x="475" y="671"/>
                    </a:lnTo>
                    <a:lnTo>
                      <a:pt x="475" y="671"/>
                    </a:lnTo>
                    <a:lnTo>
                      <a:pt x="475" y="671"/>
                    </a:lnTo>
                    <a:lnTo>
                      <a:pt x="486" y="671"/>
                    </a:lnTo>
                    <a:lnTo>
                      <a:pt x="497" y="671"/>
                    </a:lnTo>
                    <a:lnTo>
                      <a:pt x="508" y="671"/>
                    </a:lnTo>
                    <a:lnTo>
                      <a:pt x="512" y="671"/>
                    </a:lnTo>
                    <a:lnTo>
                      <a:pt x="512" y="671"/>
                    </a:lnTo>
                    <a:lnTo>
                      <a:pt x="523" y="667"/>
                    </a:lnTo>
                    <a:lnTo>
                      <a:pt x="530" y="664"/>
                    </a:lnTo>
                    <a:lnTo>
                      <a:pt x="537" y="660"/>
                    </a:lnTo>
                    <a:lnTo>
                      <a:pt x="544" y="656"/>
                    </a:lnTo>
                    <a:lnTo>
                      <a:pt x="544" y="653"/>
                    </a:lnTo>
                    <a:lnTo>
                      <a:pt x="548" y="653"/>
                    </a:lnTo>
                    <a:lnTo>
                      <a:pt x="552" y="646"/>
                    </a:lnTo>
                    <a:lnTo>
                      <a:pt x="544" y="642"/>
                    </a:lnTo>
                    <a:lnTo>
                      <a:pt x="548" y="649"/>
                    </a:lnTo>
                    <a:lnTo>
                      <a:pt x="555" y="646"/>
                    </a:lnTo>
                    <a:lnTo>
                      <a:pt x="562" y="642"/>
                    </a:lnTo>
                    <a:lnTo>
                      <a:pt x="570" y="638"/>
                    </a:lnTo>
                    <a:lnTo>
                      <a:pt x="566" y="631"/>
                    </a:lnTo>
                    <a:lnTo>
                      <a:pt x="566" y="638"/>
                    </a:lnTo>
                    <a:lnTo>
                      <a:pt x="577" y="638"/>
                    </a:lnTo>
                    <a:lnTo>
                      <a:pt x="584" y="638"/>
                    </a:lnTo>
                    <a:lnTo>
                      <a:pt x="584" y="631"/>
                    </a:lnTo>
                    <a:lnTo>
                      <a:pt x="584" y="638"/>
                    </a:lnTo>
                    <a:lnTo>
                      <a:pt x="591" y="642"/>
                    </a:lnTo>
                    <a:lnTo>
                      <a:pt x="599" y="646"/>
                    </a:lnTo>
                    <a:lnTo>
                      <a:pt x="599" y="646"/>
                    </a:lnTo>
                    <a:lnTo>
                      <a:pt x="599" y="646"/>
                    </a:lnTo>
                    <a:lnTo>
                      <a:pt x="606" y="646"/>
                    </a:lnTo>
                    <a:lnTo>
                      <a:pt x="606" y="638"/>
                    </a:lnTo>
                    <a:lnTo>
                      <a:pt x="602" y="642"/>
                    </a:lnTo>
                    <a:lnTo>
                      <a:pt x="610" y="649"/>
                    </a:lnTo>
                    <a:lnTo>
                      <a:pt x="613" y="653"/>
                    </a:lnTo>
                    <a:lnTo>
                      <a:pt x="613" y="653"/>
                    </a:lnTo>
                    <a:lnTo>
                      <a:pt x="620" y="656"/>
                    </a:lnTo>
                    <a:lnTo>
                      <a:pt x="628" y="660"/>
                    </a:lnTo>
                    <a:lnTo>
                      <a:pt x="628" y="653"/>
                    </a:lnTo>
                    <a:lnTo>
                      <a:pt x="624" y="656"/>
                    </a:lnTo>
                    <a:lnTo>
                      <a:pt x="628" y="664"/>
                    </a:lnTo>
                    <a:lnTo>
                      <a:pt x="631" y="671"/>
                    </a:lnTo>
                    <a:lnTo>
                      <a:pt x="635" y="678"/>
                    </a:lnTo>
                    <a:lnTo>
                      <a:pt x="639" y="675"/>
                    </a:lnTo>
                    <a:lnTo>
                      <a:pt x="635" y="675"/>
                    </a:lnTo>
                    <a:lnTo>
                      <a:pt x="635" y="678"/>
                    </a:lnTo>
                    <a:lnTo>
                      <a:pt x="635" y="696"/>
                    </a:lnTo>
                    <a:lnTo>
                      <a:pt x="631" y="718"/>
                    </a:lnTo>
                    <a:lnTo>
                      <a:pt x="631" y="747"/>
                    </a:lnTo>
                    <a:lnTo>
                      <a:pt x="628" y="776"/>
                    </a:lnTo>
                    <a:lnTo>
                      <a:pt x="628" y="809"/>
                    </a:lnTo>
                    <a:lnTo>
                      <a:pt x="628" y="838"/>
                    </a:lnTo>
                    <a:lnTo>
                      <a:pt x="628" y="852"/>
                    </a:lnTo>
                    <a:lnTo>
                      <a:pt x="628" y="856"/>
                    </a:lnTo>
                    <a:lnTo>
                      <a:pt x="628" y="856"/>
                    </a:lnTo>
                    <a:lnTo>
                      <a:pt x="631" y="870"/>
                    </a:lnTo>
                    <a:lnTo>
                      <a:pt x="635" y="867"/>
                    </a:lnTo>
                    <a:lnTo>
                      <a:pt x="631" y="867"/>
                    </a:lnTo>
                    <a:lnTo>
                      <a:pt x="631" y="881"/>
                    </a:lnTo>
                    <a:lnTo>
                      <a:pt x="631" y="885"/>
                    </a:lnTo>
                    <a:lnTo>
                      <a:pt x="631" y="885"/>
                    </a:lnTo>
                    <a:lnTo>
                      <a:pt x="635" y="896"/>
                    </a:lnTo>
                    <a:lnTo>
                      <a:pt x="639" y="892"/>
                    </a:lnTo>
                    <a:lnTo>
                      <a:pt x="639" y="889"/>
                    </a:lnTo>
                    <a:lnTo>
                      <a:pt x="628" y="896"/>
                    </a:lnTo>
                    <a:lnTo>
                      <a:pt x="617" y="903"/>
                    </a:lnTo>
                    <a:lnTo>
                      <a:pt x="617" y="907"/>
                    </a:lnTo>
                    <a:lnTo>
                      <a:pt x="617" y="903"/>
                    </a:lnTo>
                    <a:lnTo>
                      <a:pt x="602" y="907"/>
                    </a:lnTo>
                    <a:lnTo>
                      <a:pt x="588" y="910"/>
                    </a:lnTo>
                    <a:lnTo>
                      <a:pt x="573" y="914"/>
                    </a:lnTo>
                    <a:lnTo>
                      <a:pt x="559" y="914"/>
                    </a:lnTo>
                    <a:lnTo>
                      <a:pt x="541" y="914"/>
                    </a:lnTo>
                    <a:lnTo>
                      <a:pt x="526" y="914"/>
                    </a:lnTo>
                    <a:lnTo>
                      <a:pt x="508" y="914"/>
                    </a:lnTo>
                    <a:lnTo>
                      <a:pt x="490" y="910"/>
                    </a:lnTo>
                    <a:lnTo>
                      <a:pt x="475" y="907"/>
                    </a:lnTo>
                    <a:lnTo>
                      <a:pt x="461" y="903"/>
                    </a:lnTo>
                    <a:lnTo>
                      <a:pt x="446" y="903"/>
                    </a:lnTo>
                    <a:lnTo>
                      <a:pt x="446" y="907"/>
                    </a:lnTo>
                    <a:lnTo>
                      <a:pt x="450" y="903"/>
                    </a:lnTo>
                    <a:lnTo>
                      <a:pt x="436" y="896"/>
                    </a:lnTo>
                    <a:lnTo>
                      <a:pt x="436" y="896"/>
                    </a:lnTo>
                    <a:lnTo>
                      <a:pt x="432" y="896"/>
                    </a:lnTo>
                    <a:lnTo>
                      <a:pt x="417" y="892"/>
                    </a:lnTo>
                    <a:lnTo>
                      <a:pt x="417" y="896"/>
                    </a:lnTo>
                    <a:lnTo>
                      <a:pt x="421" y="892"/>
                    </a:lnTo>
                    <a:lnTo>
                      <a:pt x="410" y="889"/>
                    </a:lnTo>
                    <a:lnTo>
                      <a:pt x="399" y="885"/>
                    </a:lnTo>
                    <a:lnTo>
                      <a:pt x="392" y="881"/>
                    </a:lnTo>
                    <a:lnTo>
                      <a:pt x="388" y="885"/>
                    </a:lnTo>
                    <a:lnTo>
                      <a:pt x="392" y="881"/>
                    </a:lnTo>
                    <a:lnTo>
                      <a:pt x="388" y="878"/>
                    </a:lnTo>
                    <a:lnTo>
                      <a:pt x="381" y="870"/>
                    </a:lnTo>
                    <a:lnTo>
                      <a:pt x="378" y="867"/>
                    </a:lnTo>
                    <a:lnTo>
                      <a:pt x="374" y="863"/>
                    </a:lnTo>
                    <a:lnTo>
                      <a:pt x="370" y="867"/>
                    </a:lnTo>
                    <a:lnTo>
                      <a:pt x="378" y="867"/>
                    </a:lnTo>
                    <a:lnTo>
                      <a:pt x="378" y="863"/>
                    </a:lnTo>
                    <a:lnTo>
                      <a:pt x="378" y="856"/>
                    </a:lnTo>
                    <a:lnTo>
                      <a:pt x="378" y="852"/>
                    </a:lnTo>
                    <a:lnTo>
                      <a:pt x="378" y="845"/>
                    </a:lnTo>
                    <a:lnTo>
                      <a:pt x="370" y="845"/>
                    </a:lnTo>
                    <a:lnTo>
                      <a:pt x="374" y="849"/>
                    </a:lnTo>
                    <a:lnTo>
                      <a:pt x="378" y="845"/>
                    </a:lnTo>
                    <a:lnTo>
                      <a:pt x="381" y="845"/>
                    </a:lnTo>
                    <a:lnTo>
                      <a:pt x="381" y="845"/>
                    </a:lnTo>
                    <a:lnTo>
                      <a:pt x="385" y="838"/>
                    </a:lnTo>
                    <a:lnTo>
                      <a:pt x="392" y="823"/>
                    </a:lnTo>
                    <a:lnTo>
                      <a:pt x="385" y="820"/>
                    </a:lnTo>
                    <a:lnTo>
                      <a:pt x="388" y="823"/>
                    </a:lnTo>
                    <a:lnTo>
                      <a:pt x="403" y="809"/>
                    </a:lnTo>
                    <a:lnTo>
                      <a:pt x="407" y="809"/>
                    </a:lnTo>
                    <a:lnTo>
                      <a:pt x="407" y="809"/>
                    </a:lnTo>
                    <a:lnTo>
                      <a:pt x="414" y="798"/>
                    </a:lnTo>
                    <a:lnTo>
                      <a:pt x="407" y="794"/>
                    </a:lnTo>
                    <a:lnTo>
                      <a:pt x="410" y="798"/>
                    </a:lnTo>
                    <a:lnTo>
                      <a:pt x="417" y="791"/>
                    </a:lnTo>
                    <a:lnTo>
                      <a:pt x="421" y="791"/>
                    </a:lnTo>
                    <a:lnTo>
                      <a:pt x="421" y="791"/>
                    </a:lnTo>
                    <a:lnTo>
                      <a:pt x="425" y="780"/>
                    </a:lnTo>
                    <a:lnTo>
                      <a:pt x="428" y="769"/>
                    </a:lnTo>
                    <a:lnTo>
                      <a:pt x="428" y="769"/>
                    </a:lnTo>
                    <a:lnTo>
                      <a:pt x="428" y="765"/>
                    </a:lnTo>
                    <a:lnTo>
                      <a:pt x="428" y="754"/>
                    </a:lnTo>
                    <a:lnTo>
                      <a:pt x="428" y="740"/>
                    </a:lnTo>
                    <a:lnTo>
                      <a:pt x="428" y="729"/>
                    </a:lnTo>
                    <a:lnTo>
                      <a:pt x="428" y="729"/>
                    </a:lnTo>
                    <a:lnTo>
                      <a:pt x="428" y="729"/>
                    </a:lnTo>
                    <a:lnTo>
                      <a:pt x="425" y="718"/>
                    </a:lnTo>
                    <a:lnTo>
                      <a:pt x="417" y="707"/>
                    </a:lnTo>
                    <a:lnTo>
                      <a:pt x="414" y="700"/>
                    </a:lnTo>
                    <a:lnTo>
                      <a:pt x="410" y="693"/>
                    </a:lnTo>
                    <a:lnTo>
                      <a:pt x="407" y="689"/>
                    </a:lnTo>
                    <a:lnTo>
                      <a:pt x="407" y="689"/>
                    </a:lnTo>
                    <a:lnTo>
                      <a:pt x="399" y="685"/>
                    </a:lnTo>
                    <a:lnTo>
                      <a:pt x="396" y="689"/>
                    </a:lnTo>
                    <a:lnTo>
                      <a:pt x="399" y="685"/>
                    </a:lnTo>
                    <a:lnTo>
                      <a:pt x="396" y="682"/>
                    </a:lnTo>
                    <a:lnTo>
                      <a:pt x="396" y="682"/>
                    </a:lnTo>
                    <a:lnTo>
                      <a:pt x="396" y="682"/>
                    </a:lnTo>
                    <a:lnTo>
                      <a:pt x="388" y="678"/>
                    </a:lnTo>
                    <a:lnTo>
                      <a:pt x="385" y="682"/>
                    </a:lnTo>
                    <a:lnTo>
                      <a:pt x="388" y="678"/>
                    </a:lnTo>
                    <a:lnTo>
                      <a:pt x="385" y="675"/>
                    </a:lnTo>
                    <a:lnTo>
                      <a:pt x="385" y="675"/>
                    </a:lnTo>
                    <a:lnTo>
                      <a:pt x="381" y="675"/>
                    </a:lnTo>
                    <a:lnTo>
                      <a:pt x="374" y="675"/>
                    </a:lnTo>
                    <a:lnTo>
                      <a:pt x="374" y="678"/>
                    </a:lnTo>
                    <a:lnTo>
                      <a:pt x="378" y="675"/>
                    </a:lnTo>
                    <a:lnTo>
                      <a:pt x="370" y="671"/>
                    </a:lnTo>
                    <a:lnTo>
                      <a:pt x="363" y="667"/>
                    </a:lnTo>
                    <a:lnTo>
                      <a:pt x="363" y="667"/>
                    </a:lnTo>
                    <a:lnTo>
                      <a:pt x="359" y="667"/>
                    </a:lnTo>
                    <a:lnTo>
                      <a:pt x="352" y="667"/>
                    </a:lnTo>
                    <a:lnTo>
                      <a:pt x="352" y="671"/>
                    </a:lnTo>
                    <a:lnTo>
                      <a:pt x="356" y="667"/>
                    </a:lnTo>
                    <a:lnTo>
                      <a:pt x="345" y="664"/>
                    </a:lnTo>
                    <a:lnTo>
                      <a:pt x="345" y="664"/>
                    </a:lnTo>
                    <a:lnTo>
                      <a:pt x="341" y="664"/>
                    </a:lnTo>
                    <a:lnTo>
                      <a:pt x="334" y="664"/>
                    </a:lnTo>
                    <a:lnTo>
                      <a:pt x="323" y="664"/>
                    </a:lnTo>
                    <a:lnTo>
                      <a:pt x="316" y="664"/>
                    </a:lnTo>
                    <a:lnTo>
                      <a:pt x="316" y="664"/>
                    </a:lnTo>
                    <a:lnTo>
                      <a:pt x="316" y="664"/>
                    </a:lnTo>
                    <a:lnTo>
                      <a:pt x="309" y="667"/>
                    </a:lnTo>
                    <a:lnTo>
                      <a:pt x="309" y="671"/>
                    </a:lnTo>
                    <a:lnTo>
                      <a:pt x="309" y="667"/>
                    </a:lnTo>
                    <a:lnTo>
                      <a:pt x="301" y="667"/>
                    </a:lnTo>
                    <a:lnTo>
                      <a:pt x="301" y="667"/>
                    </a:lnTo>
                    <a:lnTo>
                      <a:pt x="301" y="667"/>
                    </a:lnTo>
                    <a:lnTo>
                      <a:pt x="294" y="671"/>
                    </a:lnTo>
                    <a:lnTo>
                      <a:pt x="287" y="675"/>
                    </a:lnTo>
                    <a:lnTo>
                      <a:pt x="287" y="678"/>
                    </a:lnTo>
                    <a:lnTo>
                      <a:pt x="287" y="675"/>
                    </a:lnTo>
                    <a:lnTo>
                      <a:pt x="283" y="675"/>
                    </a:lnTo>
                    <a:lnTo>
                      <a:pt x="283" y="675"/>
                    </a:lnTo>
                    <a:lnTo>
                      <a:pt x="283" y="675"/>
                    </a:lnTo>
                    <a:lnTo>
                      <a:pt x="276" y="678"/>
                    </a:lnTo>
                    <a:lnTo>
                      <a:pt x="276" y="678"/>
                    </a:lnTo>
                    <a:lnTo>
                      <a:pt x="272" y="678"/>
                    </a:lnTo>
                    <a:lnTo>
                      <a:pt x="269" y="682"/>
                    </a:lnTo>
                    <a:lnTo>
                      <a:pt x="265" y="685"/>
                    </a:lnTo>
                    <a:lnTo>
                      <a:pt x="261" y="689"/>
                    </a:lnTo>
                    <a:lnTo>
                      <a:pt x="261" y="693"/>
                    </a:lnTo>
                    <a:lnTo>
                      <a:pt x="261" y="693"/>
                    </a:lnTo>
                    <a:lnTo>
                      <a:pt x="258" y="700"/>
                    </a:lnTo>
                    <a:lnTo>
                      <a:pt x="261" y="700"/>
                    </a:lnTo>
                    <a:lnTo>
                      <a:pt x="258" y="696"/>
                    </a:lnTo>
                    <a:lnTo>
                      <a:pt x="254" y="700"/>
                    </a:lnTo>
                    <a:lnTo>
                      <a:pt x="254" y="704"/>
                    </a:lnTo>
                    <a:lnTo>
                      <a:pt x="254" y="704"/>
                    </a:lnTo>
                    <a:lnTo>
                      <a:pt x="251" y="714"/>
                    </a:lnTo>
                    <a:lnTo>
                      <a:pt x="247" y="725"/>
                    </a:lnTo>
                    <a:lnTo>
                      <a:pt x="243" y="740"/>
                    </a:lnTo>
                    <a:lnTo>
                      <a:pt x="243" y="740"/>
                    </a:lnTo>
                    <a:lnTo>
                      <a:pt x="243" y="740"/>
                    </a:lnTo>
                    <a:lnTo>
                      <a:pt x="243" y="751"/>
                    </a:lnTo>
                    <a:lnTo>
                      <a:pt x="243" y="754"/>
                    </a:lnTo>
                    <a:lnTo>
                      <a:pt x="243" y="754"/>
                    </a:lnTo>
                    <a:lnTo>
                      <a:pt x="247" y="769"/>
                    </a:lnTo>
                    <a:lnTo>
                      <a:pt x="251" y="780"/>
                    </a:lnTo>
                    <a:lnTo>
                      <a:pt x="254" y="791"/>
                    </a:lnTo>
                    <a:lnTo>
                      <a:pt x="258" y="802"/>
                    </a:lnTo>
                    <a:lnTo>
                      <a:pt x="265" y="816"/>
                    </a:lnTo>
                    <a:lnTo>
                      <a:pt x="265" y="816"/>
                    </a:lnTo>
                    <a:lnTo>
                      <a:pt x="265" y="816"/>
                    </a:lnTo>
                    <a:lnTo>
                      <a:pt x="272" y="823"/>
                    </a:lnTo>
                    <a:lnTo>
                      <a:pt x="280" y="831"/>
                    </a:lnTo>
                    <a:lnTo>
                      <a:pt x="283" y="827"/>
                    </a:lnTo>
                    <a:lnTo>
                      <a:pt x="280" y="831"/>
                    </a:lnTo>
                    <a:lnTo>
                      <a:pt x="283" y="838"/>
                    </a:lnTo>
                    <a:lnTo>
                      <a:pt x="287" y="845"/>
                    </a:lnTo>
                    <a:lnTo>
                      <a:pt x="290" y="841"/>
                    </a:lnTo>
                    <a:lnTo>
                      <a:pt x="287" y="841"/>
                    </a:lnTo>
                    <a:lnTo>
                      <a:pt x="287" y="849"/>
                    </a:lnTo>
                    <a:lnTo>
                      <a:pt x="287" y="860"/>
                    </a:lnTo>
                    <a:lnTo>
                      <a:pt x="287" y="867"/>
                    </a:lnTo>
                    <a:lnTo>
                      <a:pt x="287" y="874"/>
                    </a:lnTo>
                    <a:lnTo>
                      <a:pt x="290" y="874"/>
                    </a:lnTo>
                    <a:lnTo>
                      <a:pt x="290" y="870"/>
                    </a:lnTo>
                    <a:lnTo>
                      <a:pt x="283" y="874"/>
                    </a:lnTo>
                    <a:lnTo>
                      <a:pt x="280" y="874"/>
                    </a:lnTo>
                    <a:lnTo>
                      <a:pt x="280" y="878"/>
                    </a:lnTo>
                    <a:lnTo>
                      <a:pt x="276" y="885"/>
                    </a:lnTo>
                    <a:lnTo>
                      <a:pt x="280" y="885"/>
                    </a:lnTo>
                    <a:lnTo>
                      <a:pt x="280" y="881"/>
                    </a:lnTo>
                    <a:lnTo>
                      <a:pt x="272" y="885"/>
                    </a:lnTo>
                    <a:lnTo>
                      <a:pt x="265" y="889"/>
                    </a:lnTo>
                    <a:lnTo>
                      <a:pt x="265" y="892"/>
                    </a:lnTo>
                    <a:lnTo>
                      <a:pt x="265" y="889"/>
                    </a:lnTo>
                    <a:lnTo>
                      <a:pt x="258" y="889"/>
                    </a:lnTo>
                    <a:lnTo>
                      <a:pt x="247" y="889"/>
                    </a:lnTo>
                    <a:lnTo>
                      <a:pt x="232" y="889"/>
                    </a:lnTo>
                    <a:lnTo>
                      <a:pt x="232" y="892"/>
                    </a:lnTo>
                    <a:lnTo>
                      <a:pt x="236" y="889"/>
                    </a:lnTo>
                    <a:lnTo>
                      <a:pt x="225" y="885"/>
                    </a:lnTo>
                    <a:lnTo>
                      <a:pt x="229" y="885"/>
                    </a:lnTo>
                    <a:lnTo>
                      <a:pt x="222" y="885"/>
                    </a:lnTo>
                    <a:lnTo>
                      <a:pt x="207" y="881"/>
                    </a:lnTo>
                    <a:close/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4851360" y="1300320"/>
              <a:ext cx="108108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49440"/>
                  <a:tab algn="l" pos="1298520"/>
                  <a:tab algn="l" pos="1947960"/>
                  <a:tab algn="l" pos="2597040"/>
                  <a:tab algn="l" pos="3246480"/>
                  <a:tab algn="l" pos="3895560"/>
                  <a:tab algn="l" pos="4545000"/>
                  <a:tab algn="l" pos="5194440"/>
                  <a:tab algn="l" pos="5843520"/>
                  <a:tab algn="l" pos="6492960"/>
                  <a:tab algn="l" pos="7142040"/>
                  <a:tab algn="l" pos="7791480"/>
                  <a:tab algn="l" pos="8440560"/>
                  <a:tab algn="l" pos="9090000"/>
                  <a:tab algn="l" pos="9739440"/>
                  <a:tab algn="l" pos="10388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1901880" y="2125800"/>
            <a:ext cx="253044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G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11040" y="233280"/>
            <a:ext cx="5880240" cy="32436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33280"/>
            <a:ext cx="55231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quity Derivatives team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762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2092320" y="1176480"/>
            <a:ext cx="2168280" cy="1298160"/>
            <a:chOff x="2092320" y="1176480"/>
            <a:chExt cx="2168280" cy="1298160"/>
          </a:xfrm>
        </p:grpSpPr>
        <p:sp>
          <p:nvSpPr>
            <p:cNvPr id="170" name=""/>
            <p:cNvSpPr/>
            <p:nvPr/>
          </p:nvSpPr>
          <p:spPr>
            <a:xfrm>
              <a:off x="2100240" y="1184040"/>
              <a:ext cx="2146680" cy="1276560"/>
            </a:xfrm>
            <a:custGeom>
              <a:avLst/>
              <a:gdLst/>
              <a:ahLst/>
              <a:rect l="l" t="t" r="r" b="b"/>
              <a:pathLst>
                <a:path w="1091" h="638">
                  <a:moveTo>
                    <a:pt x="471" y="613"/>
                  </a:moveTo>
                  <a:lnTo>
                    <a:pt x="478" y="613"/>
                  </a:lnTo>
                  <a:lnTo>
                    <a:pt x="489" y="609"/>
                  </a:lnTo>
                  <a:lnTo>
                    <a:pt x="493" y="609"/>
                  </a:lnTo>
                  <a:lnTo>
                    <a:pt x="500" y="605"/>
                  </a:lnTo>
                  <a:lnTo>
                    <a:pt x="503" y="598"/>
                  </a:lnTo>
                  <a:lnTo>
                    <a:pt x="507" y="594"/>
                  </a:lnTo>
                  <a:lnTo>
                    <a:pt x="507" y="591"/>
                  </a:lnTo>
                  <a:lnTo>
                    <a:pt x="511" y="584"/>
                  </a:lnTo>
                  <a:lnTo>
                    <a:pt x="511" y="576"/>
                  </a:lnTo>
                  <a:lnTo>
                    <a:pt x="507" y="569"/>
                  </a:lnTo>
                  <a:lnTo>
                    <a:pt x="507" y="562"/>
                  </a:lnTo>
                  <a:lnTo>
                    <a:pt x="503" y="555"/>
                  </a:lnTo>
                  <a:lnTo>
                    <a:pt x="496" y="547"/>
                  </a:lnTo>
                  <a:lnTo>
                    <a:pt x="493" y="536"/>
                  </a:lnTo>
                  <a:lnTo>
                    <a:pt x="485" y="529"/>
                  </a:lnTo>
                  <a:lnTo>
                    <a:pt x="478" y="518"/>
                  </a:lnTo>
                  <a:lnTo>
                    <a:pt x="471" y="515"/>
                  </a:lnTo>
                  <a:lnTo>
                    <a:pt x="467" y="507"/>
                  </a:lnTo>
                  <a:lnTo>
                    <a:pt x="467" y="504"/>
                  </a:lnTo>
                  <a:lnTo>
                    <a:pt x="464" y="497"/>
                  </a:lnTo>
                  <a:lnTo>
                    <a:pt x="460" y="486"/>
                  </a:lnTo>
                  <a:lnTo>
                    <a:pt x="456" y="475"/>
                  </a:lnTo>
                  <a:lnTo>
                    <a:pt x="456" y="464"/>
                  </a:lnTo>
                  <a:lnTo>
                    <a:pt x="460" y="449"/>
                  </a:lnTo>
                  <a:lnTo>
                    <a:pt x="464" y="438"/>
                  </a:lnTo>
                  <a:lnTo>
                    <a:pt x="471" y="428"/>
                  </a:lnTo>
                  <a:lnTo>
                    <a:pt x="478" y="417"/>
                  </a:lnTo>
                  <a:lnTo>
                    <a:pt x="485" y="409"/>
                  </a:lnTo>
                  <a:lnTo>
                    <a:pt x="496" y="399"/>
                  </a:lnTo>
                  <a:lnTo>
                    <a:pt x="507" y="391"/>
                  </a:lnTo>
                  <a:lnTo>
                    <a:pt x="518" y="388"/>
                  </a:lnTo>
                  <a:lnTo>
                    <a:pt x="532" y="380"/>
                  </a:lnTo>
                  <a:lnTo>
                    <a:pt x="543" y="377"/>
                  </a:lnTo>
                  <a:lnTo>
                    <a:pt x="558" y="377"/>
                  </a:lnTo>
                  <a:lnTo>
                    <a:pt x="572" y="377"/>
                  </a:lnTo>
                  <a:lnTo>
                    <a:pt x="583" y="380"/>
                  </a:lnTo>
                  <a:lnTo>
                    <a:pt x="598" y="388"/>
                  </a:lnTo>
                  <a:lnTo>
                    <a:pt x="605" y="391"/>
                  </a:lnTo>
                  <a:lnTo>
                    <a:pt x="616" y="402"/>
                  </a:lnTo>
                  <a:lnTo>
                    <a:pt x="623" y="409"/>
                  </a:lnTo>
                  <a:lnTo>
                    <a:pt x="630" y="417"/>
                  </a:lnTo>
                  <a:lnTo>
                    <a:pt x="638" y="428"/>
                  </a:lnTo>
                  <a:lnTo>
                    <a:pt x="641" y="442"/>
                  </a:lnTo>
                  <a:lnTo>
                    <a:pt x="645" y="453"/>
                  </a:lnTo>
                  <a:lnTo>
                    <a:pt x="649" y="464"/>
                  </a:lnTo>
                  <a:lnTo>
                    <a:pt x="649" y="475"/>
                  </a:lnTo>
                  <a:lnTo>
                    <a:pt x="645" y="486"/>
                  </a:lnTo>
                  <a:lnTo>
                    <a:pt x="641" y="497"/>
                  </a:lnTo>
                  <a:lnTo>
                    <a:pt x="638" y="507"/>
                  </a:lnTo>
                  <a:lnTo>
                    <a:pt x="630" y="515"/>
                  </a:lnTo>
                  <a:lnTo>
                    <a:pt x="616" y="529"/>
                  </a:lnTo>
                  <a:lnTo>
                    <a:pt x="601" y="544"/>
                  </a:lnTo>
                  <a:lnTo>
                    <a:pt x="598" y="551"/>
                  </a:lnTo>
                  <a:lnTo>
                    <a:pt x="594" y="558"/>
                  </a:lnTo>
                  <a:lnTo>
                    <a:pt x="591" y="562"/>
                  </a:lnTo>
                  <a:lnTo>
                    <a:pt x="587" y="569"/>
                  </a:lnTo>
                  <a:lnTo>
                    <a:pt x="587" y="576"/>
                  </a:lnTo>
                  <a:lnTo>
                    <a:pt x="587" y="580"/>
                  </a:lnTo>
                  <a:lnTo>
                    <a:pt x="587" y="587"/>
                  </a:lnTo>
                  <a:lnTo>
                    <a:pt x="587" y="591"/>
                  </a:lnTo>
                  <a:lnTo>
                    <a:pt x="591" y="594"/>
                  </a:lnTo>
                  <a:lnTo>
                    <a:pt x="594" y="602"/>
                  </a:lnTo>
                  <a:lnTo>
                    <a:pt x="598" y="605"/>
                  </a:lnTo>
                  <a:lnTo>
                    <a:pt x="605" y="613"/>
                  </a:lnTo>
                  <a:lnTo>
                    <a:pt x="616" y="616"/>
                  </a:lnTo>
                  <a:lnTo>
                    <a:pt x="623" y="623"/>
                  </a:lnTo>
                  <a:lnTo>
                    <a:pt x="638" y="627"/>
                  </a:lnTo>
                  <a:lnTo>
                    <a:pt x="652" y="631"/>
                  </a:lnTo>
                  <a:lnTo>
                    <a:pt x="670" y="634"/>
                  </a:lnTo>
                  <a:lnTo>
                    <a:pt x="685" y="634"/>
                  </a:lnTo>
                  <a:lnTo>
                    <a:pt x="703" y="638"/>
                  </a:lnTo>
                  <a:lnTo>
                    <a:pt x="721" y="638"/>
                  </a:lnTo>
                  <a:lnTo>
                    <a:pt x="739" y="638"/>
                  </a:lnTo>
                  <a:lnTo>
                    <a:pt x="757" y="638"/>
                  </a:lnTo>
                  <a:lnTo>
                    <a:pt x="779" y="634"/>
                  </a:lnTo>
                  <a:lnTo>
                    <a:pt x="794" y="634"/>
                  </a:lnTo>
                  <a:lnTo>
                    <a:pt x="812" y="631"/>
                  </a:lnTo>
                  <a:lnTo>
                    <a:pt x="830" y="627"/>
                  </a:lnTo>
                  <a:lnTo>
                    <a:pt x="841" y="620"/>
                  </a:lnTo>
                  <a:lnTo>
                    <a:pt x="855" y="613"/>
                  </a:lnTo>
                  <a:lnTo>
                    <a:pt x="859" y="605"/>
                  </a:lnTo>
                  <a:lnTo>
                    <a:pt x="859" y="598"/>
                  </a:lnTo>
                  <a:lnTo>
                    <a:pt x="862" y="594"/>
                  </a:lnTo>
                  <a:lnTo>
                    <a:pt x="862" y="587"/>
                  </a:lnTo>
                  <a:lnTo>
                    <a:pt x="862" y="573"/>
                  </a:lnTo>
                  <a:lnTo>
                    <a:pt x="862" y="558"/>
                  </a:lnTo>
                  <a:lnTo>
                    <a:pt x="862" y="540"/>
                  </a:lnTo>
                  <a:lnTo>
                    <a:pt x="862" y="522"/>
                  </a:lnTo>
                  <a:lnTo>
                    <a:pt x="859" y="507"/>
                  </a:lnTo>
                  <a:lnTo>
                    <a:pt x="855" y="489"/>
                  </a:lnTo>
                  <a:lnTo>
                    <a:pt x="848" y="457"/>
                  </a:lnTo>
                  <a:lnTo>
                    <a:pt x="841" y="424"/>
                  </a:lnTo>
                  <a:lnTo>
                    <a:pt x="841" y="409"/>
                  </a:lnTo>
                  <a:lnTo>
                    <a:pt x="841" y="395"/>
                  </a:lnTo>
                  <a:lnTo>
                    <a:pt x="841" y="384"/>
                  </a:lnTo>
                  <a:lnTo>
                    <a:pt x="844" y="373"/>
                  </a:lnTo>
                  <a:lnTo>
                    <a:pt x="848" y="366"/>
                  </a:lnTo>
                  <a:lnTo>
                    <a:pt x="852" y="355"/>
                  </a:lnTo>
                  <a:lnTo>
                    <a:pt x="859" y="348"/>
                  </a:lnTo>
                  <a:lnTo>
                    <a:pt x="866" y="344"/>
                  </a:lnTo>
                  <a:lnTo>
                    <a:pt x="873" y="337"/>
                  </a:lnTo>
                  <a:lnTo>
                    <a:pt x="881" y="330"/>
                  </a:lnTo>
                  <a:lnTo>
                    <a:pt x="891" y="326"/>
                  </a:lnTo>
                  <a:lnTo>
                    <a:pt x="899" y="322"/>
                  </a:lnTo>
                  <a:lnTo>
                    <a:pt x="906" y="322"/>
                  </a:lnTo>
                  <a:lnTo>
                    <a:pt x="917" y="319"/>
                  </a:lnTo>
                  <a:lnTo>
                    <a:pt x="924" y="319"/>
                  </a:lnTo>
                  <a:lnTo>
                    <a:pt x="935" y="322"/>
                  </a:lnTo>
                  <a:lnTo>
                    <a:pt x="942" y="322"/>
                  </a:lnTo>
                  <a:lnTo>
                    <a:pt x="949" y="330"/>
                  </a:lnTo>
                  <a:lnTo>
                    <a:pt x="957" y="333"/>
                  </a:lnTo>
                  <a:lnTo>
                    <a:pt x="964" y="341"/>
                  </a:lnTo>
                  <a:lnTo>
                    <a:pt x="971" y="348"/>
                  </a:lnTo>
                  <a:lnTo>
                    <a:pt x="978" y="351"/>
                  </a:lnTo>
                  <a:lnTo>
                    <a:pt x="986" y="359"/>
                  </a:lnTo>
                  <a:lnTo>
                    <a:pt x="997" y="362"/>
                  </a:lnTo>
                  <a:lnTo>
                    <a:pt x="1007" y="362"/>
                  </a:lnTo>
                  <a:lnTo>
                    <a:pt x="1018" y="362"/>
                  </a:lnTo>
                  <a:lnTo>
                    <a:pt x="1029" y="359"/>
                  </a:lnTo>
                  <a:lnTo>
                    <a:pt x="1040" y="355"/>
                  </a:lnTo>
                  <a:lnTo>
                    <a:pt x="1051" y="351"/>
                  </a:lnTo>
                  <a:lnTo>
                    <a:pt x="1058" y="344"/>
                  </a:lnTo>
                  <a:lnTo>
                    <a:pt x="1069" y="341"/>
                  </a:lnTo>
                  <a:lnTo>
                    <a:pt x="1076" y="333"/>
                  </a:lnTo>
                  <a:lnTo>
                    <a:pt x="1080" y="326"/>
                  </a:lnTo>
                  <a:lnTo>
                    <a:pt x="1087" y="315"/>
                  </a:lnTo>
                  <a:lnTo>
                    <a:pt x="1087" y="304"/>
                  </a:lnTo>
                  <a:lnTo>
                    <a:pt x="1091" y="297"/>
                  </a:lnTo>
                  <a:lnTo>
                    <a:pt x="1087" y="282"/>
                  </a:lnTo>
                  <a:lnTo>
                    <a:pt x="1087" y="268"/>
                  </a:lnTo>
                  <a:lnTo>
                    <a:pt x="1080" y="257"/>
                  </a:lnTo>
                  <a:lnTo>
                    <a:pt x="1076" y="246"/>
                  </a:lnTo>
                  <a:lnTo>
                    <a:pt x="1069" y="235"/>
                  </a:lnTo>
                  <a:lnTo>
                    <a:pt x="1058" y="228"/>
                  </a:lnTo>
                  <a:lnTo>
                    <a:pt x="1051" y="224"/>
                  </a:lnTo>
                  <a:lnTo>
                    <a:pt x="1040" y="217"/>
                  </a:lnTo>
                  <a:lnTo>
                    <a:pt x="1029" y="214"/>
                  </a:lnTo>
                  <a:lnTo>
                    <a:pt x="1018" y="210"/>
                  </a:lnTo>
                  <a:lnTo>
                    <a:pt x="1007" y="210"/>
                  </a:lnTo>
                  <a:lnTo>
                    <a:pt x="997" y="210"/>
                  </a:lnTo>
                  <a:lnTo>
                    <a:pt x="986" y="214"/>
                  </a:lnTo>
                  <a:lnTo>
                    <a:pt x="978" y="217"/>
                  </a:lnTo>
                  <a:lnTo>
                    <a:pt x="971" y="221"/>
                  </a:lnTo>
                  <a:lnTo>
                    <a:pt x="964" y="224"/>
                  </a:lnTo>
                  <a:lnTo>
                    <a:pt x="957" y="232"/>
                  </a:lnTo>
                  <a:lnTo>
                    <a:pt x="949" y="235"/>
                  </a:lnTo>
                  <a:lnTo>
                    <a:pt x="939" y="239"/>
                  </a:lnTo>
                  <a:lnTo>
                    <a:pt x="931" y="243"/>
                  </a:lnTo>
                  <a:lnTo>
                    <a:pt x="920" y="243"/>
                  </a:lnTo>
                  <a:lnTo>
                    <a:pt x="910" y="243"/>
                  </a:lnTo>
                  <a:lnTo>
                    <a:pt x="899" y="243"/>
                  </a:lnTo>
                  <a:lnTo>
                    <a:pt x="891" y="243"/>
                  </a:lnTo>
                  <a:lnTo>
                    <a:pt x="881" y="239"/>
                  </a:lnTo>
                  <a:lnTo>
                    <a:pt x="870" y="235"/>
                  </a:lnTo>
                  <a:lnTo>
                    <a:pt x="862" y="235"/>
                  </a:lnTo>
                  <a:lnTo>
                    <a:pt x="855" y="228"/>
                  </a:lnTo>
                  <a:lnTo>
                    <a:pt x="848" y="224"/>
                  </a:lnTo>
                  <a:lnTo>
                    <a:pt x="841" y="217"/>
                  </a:lnTo>
                  <a:lnTo>
                    <a:pt x="841" y="210"/>
                  </a:lnTo>
                  <a:lnTo>
                    <a:pt x="837" y="203"/>
                  </a:lnTo>
                  <a:lnTo>
                    <a:pt x="837" y="192"/>
                  </a:lnTo>
                  <a:lnTo>
                    <a:pt x="837" y="170"/>
                  </a:lnTo>
                  <a:lnTo>
                    <a:pt x="837" y="145"/>
                  </a:lnTo>
                  <a:lnTo>
                    <a:pt x="841" y="116"/>
                  </a:lnTo>
                  <a:lnTo>
                    <a:pt x="844" y="87"/>
                  </a:lnTo>
                  <a:lnTo>
                    <a:pt x="848" y="58"/>
                  </a:lnTo>
                  <a:lnTo>
                    <a:pt x="852" y="36"/>
                  </a:lnTo>
                  <a:lnTo>
                    <a:pt x="855" y="14"/>
                  </a:lnTo>
                  <a:lnTo>
                    <a:pt x="852" y="14"/>
                  </a:lnTo>
                  <a:lnTo>
                    <a:pt x="852" y="14"/>
                  </a:lnTo>
                  <a:lnTo>
                    <a:pt x="819" y="14"/>
                  </a:lnTo>
                  <a:lnTo>
                    <a:pt x="786" y="10"/>
                  </a:lnTo>
                  <a:lnTo>
                    <a:pt x="757" y="10"/>
                  </a:lnTo>
                  <a:lnTo>
                    <a:pt x="732" y="7"/>
                  </a:lnTo>
                  <a:lnTo>
                    <a:pt x="707" y="3"/>
                  </a:lnTo>
                  <a:lnTo>
                    <a:pt x="685" y="3"/>
                  </a:lnTo>
                  <a:lnTo>
                    <a:pt x="670" y="0"/>
                  </a:lnTo>
                  <a:lnTo>
                    <a:pt x="659" y="0"/>
                  </a:lnTo>
                  <a:lnTo>
                    <a:pt x="652" y="0"/>
                  </a:lnTo>
                  <a:lnTo>
                    <a:pt x="649" y="3"/>
                  </a:lnTo>
                  <a:lnTo>
                    <a:pt x="641" y="7"/>
                  </a:lnTo>
                  <a:lnTo>
                    <a:pt x="634" y="14"/>
                  </a:lnTo>
                  <a:lnTo>
                    <a:pt x="630" y="18"/>
                  </a:lnTo>
                  <a:lnTo>
                    <a:pt x="623" y="25"/>
                  </a:lnTo>
                  <a:lnTo>
                    <a:pt x="623" y="36"/>
                  </a:lnTo>
                  <a:lnTo>
                    <a:pt x="620" y="43"/>
                  </a:lnTo>
                  <a:lnTo>
                    <a:pt x="616" y="54"/>
                  </a:lnTo>
                  <a:lnTo>
                    <a:pt x="616" y="65"/>
                  </a:lnTo>
                  <a:lnTo>
                    <a:pt x="616" y="76"/>
                  </a:lnTo>
                  <a:lnTo>
                    <a:pt x="620" y="83"/>
                  </a:lnTo>
                  <a:lnTo>
                    <a:pt x="623" y="94"/>
                  </a:lnTo>
                  <a:lnTo>
                    <a:pt x="627" y="105"/>
                  </a:lnTo>
                  <a:lnTo>
                    <a:pt x="634" y="116"/>
                  </a:lnTo>
                  <a:lnTo>
                    <a:pt x="641" y="123"/>
                  </a:lnTo>
                  <a:lnTo>
                    <a:pt x="652" y="130"/>
                  </a:lnTo>
                  <a:lnTo>
                    <a:pt x="656" y="141"/>
                  </a:lnTo>
                  <a:lnTo>
                    <a:pt x="663" y="156"/>
                  </a:lnTo>
                  <a:lnTo>
                    <a:pt x="667" y="163"/>
                  </a:lnTo>
                  <a:lnTo>
                    <a:pt x="667" y="177"/>
                  </a:lnTo>
                  <a:lnTo>
                    <a:pt x="667" y="188"/>
                  </a:lnTo>
                  <a:lnTo>
                    <a:pt x="667" y="199"/>
                  </a:lnTo>
                  <a:lnTo>
                    <a:pt x="659" y="206"/>
                  </a:lnTo>
                  <a:lnTo>
                    <a:pt x="656" y="217"/>
                  </a:lnTo>
                  <a:lnTo>
                    <a:pt x="649" y="228"/>
                  </a:lnTo>
                  <a:lnTo>
                    <a:pt x="641" y="235"/>
                  </a:lnTo>
                  <a:lnTo>
                    <a:pt x="630" y="243"/>
                  </a:lnTo>
                  <a:lnTo>
                    <a:pt x="620" y="250"/>
                  </a:lnTo>
                  <a:lnTo>
                    <a:pt x="605" y="253"/>
                  </a:lnTo>
                  <a:lnTo>
                    <a:pt x="591" y="257"/>
                  </a:lnTo>
                  <a:lnTo>
                    <a:pt x="576" y="261"/>
                  </a:lnTo>
                  <a:lnTo>
                    <a:pt x="569" y="261"/>
                  </a:lnTo>
                  <a:lnTo>
                    <a:pt x="562" y="261"/>
                  </a:lnTo>
                  <a:lnTo>
                    <a:pt x="554" y="257"/>
                  </a:lnTo>
                  <a:lnTo>
                    <a:pt x="547" y="257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29" y="246"/>
                  </a:lnTo>
                  <a:lnTo>
                    <a:pt x="522" y="243"/>
                  </a:lnTo>
                  <a:lnTo>
                    <a:pt x="511" y="235"/>
                  </a:lnTo>
                  <a:lnTo>
                    <a:pt x="503" y="228"/>
                  </a:lnTo>
                  <a:lnTo>
                    <a:pt x="496" y="217"/>
                  </a:lnTo>
                  <a:lnTo>
                    <a:pt x="493" y="206"/>
                  </a:lnTo>
                  <a:lnTo>
                    <a:pt x="489" y="195"/>
                  </a:lnTo>
                  <a:lnTo>
                    <a:pt x="489" y="181"/>
                  </a:lnTo>
                  <a:lnTo>
                    <a:pt x="485" y="170"/>
                  </a:lnTo>
                  <a:lnTo>
                    <a:pt x="489" y="159"/>
                  </a:lnTo>
                  <a:lnTo>
                    <a:pt x="489" y="145"/>
                  </a:lnTo>
                  <a:lnTo>
                    <a:pt x="496" y="137"/>
                  </a:lnTo>
                  <a:lnTo>
                    <a:pt x="500" y="127"/>
                  </a:lnTo>
                  <a:lnTo>
                    <a:pt x="507" y="119"/>
                  </a:lnTo>
                  <a:lnTo>
                    <a:pt x="514" y="112"/>
                  </a:lnTo>
                  <a:lnTo>
                    <a:pt x="518" y="105"/>
                  </a:lnTo>
                  <a:lnTo>
                    <a:pt x="522" y="98"/>
                  </a:lnTo>
                  <a:lnTo>
                    <a:pt x="525" y="90"/>
                  </a:lnTo>
                  <a:lnTo>
                    <a:pt x="529" y="83"/>
                  </a:lnTo>
                  <a:lnTo>
                    <a:pt x="529" y="76"/>
                  </a:lnTo>
                  <a:lnTo>
                    <a:pt x="529" y="68"/>
                  </a:lnTo>
                  <a:lnTo>
                    <a:pt x="525" y="61"/>
                  </a:lnTo>
                  <a:lnTo>
                    <a:pt x="522" y="54"/>
                  </a:lnTo>
                  <a:lnTo>
                    <a:pt x="518" y="47"/>
                  </a:lnTo>
                  <a:lnTo>
                    <a:pt x="511" y="39"/>
                  </a:lnTo>
                  <a:lnTo>
                    <a:pt x="500" y="36"/>
                  </a:lnTo>
                  <a:lnTo>
                    <a:pt x="489" y="29"/>
                  </a:lnTo>
                  <a:lnTo>
                    <a:pt x="478" y="25"/>
                  </a:lnTo>
                  <a:lnTo>
                    <a:pt x="464" y="18"/>
                  </a:lnTo>
                  <a:lnTo>
                    <a:pt x="445" y="14"/>
                  </a:lnTo>
                  <a:lnTo>
                    <a:pt x="427" y="14"/>
                  </a:lnTo>
                  <a:lnTo>
                    <a:pt x="402" y="10"/>
                  </a:lnTo>
                  <a:lnTo>
                    <a:pt x="373" y="10"/>
                  </a:lnTo>
                  <a:lnTo>
                    <a:pt x="344" y="14"/>
                  </a:lnTo>
                  <a:lnTo>
                    <a:pt x="311" y="14"/>
                  </a:lnTo>
                  <a:lnTo>
                    <a:pt x="282" y="18"/>
                  </a:lnTo>
                  <a:lnTo>
                    <a:pt x="257" y="21"/>
                  </a:lnTo>
                  <a:lnTo>
                    <a:pt x="239" y="25"/>
                  </a:lnTo>
                  <a:lnTo>
                    <a:pt x="242" y="47"/>
                  </a:lnTo>
                  <a:lnTo>
                    <a:pt x="253" y="72"/>
                  </a:lnTo>
                  <a:lnTo>
                    <a:pt x="261" y="105"/>
                  </a:lnTo>
                  <a:lnTo>
                    <a:pt x="268" y="137"/>
                  </a:lnTo>
                  <a:lnTo>
                    <a:pt x="268" y="152"/>
                  </a:lnTo>
                  <a:lnTo>
                    <a:pt x="271" y="170"/>
                  </a:lnTo>
                  <a:lnTo>
                    <a:pt x="271" y="185"/>
                  </a:lnTo>
                  <a:lnTo>
                    <a:pt x="271" y="199"/>
                  </a:lnTo>
                  <a:lnTo>
                    <a:pt x="271" y="210"/>
                  </a:lnTo>
                  <a:lnTo>
                    <a:pt x="268" y="221"/>
                  </a:lnTo>
                  <a:lnTo>
                    <a:pt x="264" y="224"/>
                  </a:lnTo>
                  <a:lnTo>
                    <a:pt x="264" y="232"/>
                  </a:lnTo>
                  <a:lnTo>
                    <a:pt x="261" y="235"/>
                  </a:lnTo>
                  <a:lnTo>
                    <a:pt x="257" y="235"/>
                  </a:lnTo>
                  <a:lnTo>
                    <a:pt x="253" y="243"/>
                  </a:lnTo>
                  <a:lnTo>
                    <a:pt x="242" y="246"/>
                  </a:lnTo>
                  <a:lnTo>
                    <a:pt x="239" y="250"/>
                  </a:lnTo>
                  <a:lnTo>
                    <a:pt x="228" y="253"/>
                  </a:lnTo>
                  <a:lnTo>
                    <a:pt x="221" y="257"/>
                  </a:lnTo>
                  <a:lnTo>
                    <a:pt x="213" y="257"/>
                  </a:lnTo>
                  <a:lnTo>
                    <a:pt x="206" y="257"/>
                  </a:lnTo>
                  <a:lnTo>
                    <a:pt x="199" y="257"/>
                  </a:lnTo>
                  <a:lnTo>
                    <a:pt x="192" y="257"/>
                  </a:lnTo>
                  <a:lnTo>
                    <a:pt x="184" y="257"/>
                  </a:lnTo>
                  <a:lnTo>
                    <a:pt x="177" y="253"/>
                  </a:lnTo>
                  <a:lnTo>
                    <a:pt x="170" y="253"/>
                  </a:lnTo>
                  <a:lnTo>
                    <a:pt x="163" y="250"/>
                  </a:lnTo>
                  <a:lnTo>
                    <a:pt x="155" y="246"/>
                  </a:lnTo>
                  <a:lnTo>
                    <a:pt x="152" y="243"/>
                  </a:lnTo>
                  <a:lnTo>
                    <a:pt x="148" y="235"/>
                  </a:lnTo>
                  <a:lnTo>
                    <a:pt x="141" y="232"/>
                  </a:lnTo>
                  <a:lnTo>
                    <a:pt x="130" y="224"/>
                  </a:lnTo>
                  <a:lnTo>
                    <a:pt x="119" y="221"/>
                  </a:lnTo>
                  <a:lnTo>
                    <a:pt x="108" y="217"/>
                  </a:lnTo>
                  <a:lnTo>
                    <a:pt x="97" y="217"/>
                  </a:lnTo>
                  <a:lnTo>
                    <a:pt x="87" y="217"/>
                  </a:lnTo>
                  <a:lnTo>
                    <a:pt x="72" y="217"/>
                  </a:lnTo>
                  <a:lnTo>
                    <a:pt x="61" y="221"/>
                  </a:lnTo>
                  <a:lnTo>
                    <a:pt x="50" y="224"/>
                  </a:lnTo>
                  <a:lnTo>
                    <a:pt x="39" y="232"/>
                  </a:lnTo>
                  <a:lnTo>
                    <a:pt x="29" y="243"/>
                  </a:lnTo>
                  <a:lnTo>
                    <a:pt x="18" y="250"/>
                  </a:lnTo>
                  <a:lnTo>
                    <a:pt x="14" y="257"/>
                  </a:lnTo>
                  <a:lnTo>
                    <a:pt x="10" y="261"/>
                  </a:lnTo>
                  <a:lnTo>
                    <a:pt x="10" y="268"/>
                  </a:lnTo>
                  <a:lnTo>
                    <a:pt x="7" y="275"/>
                  </a:lnTo>
                  <a:lnTo>
                    <a:pt x="3" y="282"/>
                  </a:lnTo>
                  <a:lnTo>
                    <a:pt x="3" y="290"/>
                  </a:lnTo>
                  <a:lnTo>
                    <a:pt x="0" y="301"/>
                  </a:lnTo>
                  <a:lnTo>
                    <a:pt x="0" y="308"/>
                  </a:lnTo>
                  <a:lnTo>
                    <a:pt x="0" y="315"/>
                  </a:lnTo>
                  <a:lnTo>
                    <a:pt x="3" y="322"/>
                  </a:lnTo>
                  <a:lnTo>
                    <a:pt x="3" y="330"/>
                  </a:lnTo>
                  <a:lnTo>
                    <a:pt x="7" y="333"/>
                  </a:lnTo>
                  <a:lnTo>
                    <a:pt x="7" y="341"/>
                  </a:lnTo>
                  <a:lnTo>
                    <a:pt x="10" y="344"/>
                  </a:lnTo>
                  <a:lnTo>
                    <a:pt x="14" y="351"/>
                  </a:lnTo>
                  <a:lnTo>
                    <a:pt x="18" y="355"/>
                  </a:lnTo>
                  <a:lnTo>
                    <a:pt x="25" y="366"/>
                  </a:lnTo>
                  <a:lnTo>
                    <a:pt x="36" y="373"/>
                  </a:lnTo>
                  <a:lnTo>
                    <a:pt x="47" y="377"/>
                  </a:lnTo>
                  <a:lnTo>
                    <a:pt x="58" y="380"/>
                  </a:lnTo>
                  <a:lnTo>
                    <a:pt x="68" y="384"/>
                  </a:lnTo>
                  <a:lnTo>
                    <a:pt x="79" y="388"/>
                  </a:lnTo>
                  <a:lnTo>
                    <a:pt x="94" y="388"/>
                  </a:lnTo>
                  <a:lnTo>
                    <a:pt x="105" y="388"/>
                  </a:lnTo>
                  <a:lnTo>
                    <a:pt x="112" y="384"/>
                  </a:lnTo>
                  <a:lnTo>
                    <a:pt x="123" y="380"/>
                  </a:lnTo>
                  <a:lnTo>
                    <a:pt x="130" y="377"/>
                  </a:lnTo>
                  <a:lnTo>
                    <a:pt x="134" y="370"/>
                  </a:lnTo>
                  <a:lnTo>
                    <a:pt x="141" y="366"/>
                  </a:lnTo>
                  <a:lnTo>
                    <a:pt x="148" y="362"/>
                  </a:lnTo>
                  <a:lnTo>
                    <a:pt x="155" y="359"/>
                  </a:lnTo>
                  <a:lnTo>
                    <a:pt x="163" y="355"/>
                  </a:lnTo>
                  <a:lnTo>
                    <a:pt x="170" y="355"/>
                  </a:lnTo>
                  <a:lnTo>
                    <a:pt x="181" y="355"/>
                  </a:lnTo>
                  <a:lnTo>
                    <a:pt x="188" y="359"/>
                  </a:lnTo>
                  <a:lnTo>
                    <a:pt x="195" y="359"/>
                  </a:lnTo>
                  <a:lnTo>
                    <a:pt x="206" y="362"/>
                  </a:lnTo>
                  <a:lnTo>
                    <a:pt x="213" y="366"/>
                  </a:lnTo>
                  <a:lnTo>
                    <a:pt x="217" y="370"/>
                  </a:lnTo>
                  <a:lnTo>
                    <a:pt x="224" y="377"/>
                  </a:lnTo>
                  <a:lnTo>
                    <a:pt x="228" y="384"/>
                  </a:lnTo>
                  <a:lnTo>
                    <a:pt x="235" y="388"/>
                  </a:lnTo>
                  <a:lnTo>
                    <a:pt x="235" y="395"/>
                  </a:lnTo>
                  <a:lnTo>
                    <a:pt x="239" y="402"/>
                  </a:lnTo>
                  <a:lnTo>
                    <a:pt x="235" y="420"/>
                  </a:lnTo>
                  <a:lnTo>
                    <a:pt x="235" y="442"/>
                  </a:lnTo>
                  <a:lnTo>
                    <a:pt x="232" y="467"/>
                  </a:lnTo>
                  <a:lnTo>
                    <a:pt x="232" y="497"/>
                  </a:lnTo>
                  <a:lnTo>
                    <a:pt x="228" y="529"/>
                  </a:lnTo>
                  <a:lnTo>
                    <a:pt x="228" y="558"/>
                  </a:lnTo>
                  <a:lnTo>
                    <a:pt x="232" y="573"/>
                  </a:lnTo>
                  <a:lnTo>
                    <a:pt x="232" y="587"/>
                  </a:lnTo>
                  <a:lnTo>
                    <a:pt x="235" y="598"/>
                  </a:lnTo>
                  <a:lnTo>
                    <a:pt x="239" y="613"/>
                  </a:lnTo>
                  <a:lnTo>
                    <a:pt x="242" y="616"/>
                  </a:lnTo>
                  <a:lnTo>
                    <a:pt x="253" y="616"/>
                  </a:lnTo>
                  <a:lnTo>
                    <a:pt x="264" y="620"/>
                  </a:lnTo>
                  <a:lnTo>
                    <a:pt x="275" y="620"/>
                  </a:lnTo>
                  <a:lnTo>
                    <a:pt x="304" y="620"/>
                  </a:lnTo>
                  <a:lnTo>
                    <a:pt x="333" y="620"/>
                  </a:lnTo>
                  <a:lnTo>
                    <a:pt x="369" y="616"/>
                  </a:lnTo>
                  <a:lnTo>
                    <a:pt x="402" y="616"/>
                  </a:lnTo>
                  <a:lnTo>
                    <a:pt x="438" y="613"/>
                  </a:lnTo>
                  <a:lnTo>
                    <a:pt x="471" y="613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92320" y="1176480"/>
              <a:ext cx="2168280" cy="1298160"/>
            </a:xfrm>
            <a:custGeom>
              <a:avLst/>
              <a:gdLst/>
              <a:ahLst/>
              <a:rect l="l" t="t" r="r" b="b"/>
              <a:pathLst>
                <a:path w="1102" h="649">
                  <a:moveTo>
                    <a:pt x="482" y="624"/>
                  </a:moveTo>
                  <a:lnTo>
                    <a:pt x="486" y="624"/>
                  </a:lnTo>
                  <a:lnTo>
                    <a:pt x="486" y="624"/>
                  </a:lnTo>
                  <a:lnTo>
                    <a:pt x="497" y="620"/>
                  </a:lnTo>
                  <a:lnTo>
                    <a:pt x="493" y="613"/>
                  </a:lnTo>
                  <a:lnTo>
                    <a:pt x="493" y="620"/>
                  </a:lnTo>
                  <a:lnTo>
                    <a:pt x="497" y="620"/>
                  </a:lnTo>
                  <a:lnTo>
                    <a:pt x="500" y="620"/>
                  </a:lnTo>
                  <a:lnTo>
                    <a:pt x="500" y="620"/>
                  </a:lnTo>
                  <a:lnTo>
                    <a:pt x="507" y="617"/>
                  </a:lnTo>
                  <a:lnTo>
                    <a:pt x="507" y="613"/>
                  </a:lnTo>
                  <a:lnTo>
                    <a:pt x="511" y="613"/>
                  </a:lnTo>
                  <a:lnTo>
                    <a:pt x="515" y="606"/>
                  </a:lnTo>
                  <a:lnTo>
                    <a:pt x="507" y="602"/>
                  </a:lnTo>
                  <a:lnTo>
                    <a:pt x="511" y="606"/>
                  </a:lnTo>
                  <a:lnTo>
                    <a:pt x="515" y="602"/>
                  </a:lnTo>
                  <a:lnTo>
                    <a:pt x="518" y="602"/>
                  </a:lnTo>
                  <a:lnTo>
                    <a:pt x="518" y="598"/>
                  </a:lnTo>
                  <a:lnTo>
                    <a:pt x="518" y="595"/>
                  </a:lnTo>
                  <a:lnTo>
                    <a:pt x="511" y="595"/>
                  </a:lnTo>
                  <a:lnTo>
                    <a:pt x="518" y="598"/>
                  </a:lnTo>
                  <a:lnTo>
                    <a:pt x="522" y="591"/>
                  </a:lnTo>
                  <a:lnTo>
                    <a:pt x="522" y="591"/>
                  </a:lnTo>
                  <a:lnTo>
                    <a:pt x="522" y="588"/>
                  </a:lnTo>
                  <a:lnTo>
                    <a:pt x="522" y="580"/>
                  </a:lnTo>
                  <a:lnTo>
                    <a:pt x="522" y="580"/>
                  </a:lnTo>
                  <a:lnTo>
                    <a:pt x="522" y="580"/>
                  </a:lnTo>
                  <a:lnTo>
                    <a:pt x="518" y="573"/>
                  </a:lnTo>
                  <a:lnTo>
                    <a:pt x="511" y="573"/>
                  </a:lnTo>
                  <a:lnTo>
                    <a:pt x="518" y="573"/>
                  </a:lnTo>
                  <a:lnTo>
                    <a:pt x="518" y="566"/>
                  </a:lnTo>
                  <a:lnTo>
                    <a:pt x="518" y="566"/>
                  </a:lnTo>
                  <a:lnTo>
                    <a:pt x="518" y="566"/>
                  </a:lnTo>
                  <a:lnTo>
                    <a:pt x="515" y="559"/>
                  </a:lnTo>
                  <a:lnTo>
                    <a:pt x="515" y="559"/>
                  </a:lnTo>
                  <a:lnTo>
                    <a:pt x="511" y="555"/>
                  </a:lnTo>
                  <a:lnTo>
                    <a:pt x="504" y="548"/>
                  </a:lnTo>
                  <a:lnTo>
                    <a:pt x="500" y="551"/>
                  </a:lnTo>
                  <a:lnTo>
                    <a:pt x="507" y="551"/>
                  </a:lnTo>
                  <a:lnTo>
                    <a:pt x="504" y="540"/>
                  </a:lnTo>
                  <a:lnTo>
                    <a:pt x="504" y="540"/>
                  </a:lnTo>
                  <a:lnTo>
                    <a:pt x="500" y="537"/>
                  </a:lnTo>
                  <a:lnTo>
                    <a:pt x="493" y="530"/>
                  </a:lnTo>
                  <a:lnTo>
                    <a:pt x="489" y="533"/>
                  </a:lnTo>
                  <a:lnTo>
                    <a:pt x="497" y="533"/>
                  </a:lnTo>
                  <a:lnTo>
                    <a:pt x="489" y="522"/>
                  </a:lnTo>
                  <a:lnTo>
                    <a:pt x="486" y="519"/>
                  </a:lnTo>
                  <a:lnTo>
                    <a:pt x="486" y="519"/>
                  </a:lnTo>
                  <a:lnTo>
                    <a:pt x="478" y="515"/>
                  </a:lnTo>
                  <a:lnTo>
                    <a:pt x="475" y="519"/>
                  </a:lnTo>
                  <a:lnTo>
                    <a:pt x="482" y="519"/>
                  </a:lnTo>
                  <a:lnTo>
                    <a:pt x="478" y="511"/>
                  </a:lnTo>
                  <a:lnTo>
                    <a:pt x="471" y="511"/>
                  </a:lnTo>
                  <a:lnTo>
                    <a:pt x="478" y="511"/>
                  </a:lnTo>
                  <a:lnTo>
                    <a:pt x="478" y="508"/>
                  </a:lnTo>
                  <a:lnTo>
                    <a:pt x="478" y="508"/>
                  </a:lnTo>
                  <a:lnTo>
                    <a:pt x="478" y="508"/>
                  </a:lnTo>
                  <a:lnTo>
                    <a:pt x="475" y="501"/>
                  </a:lnTo>
                  <a:lnTo>
                    <a:pt x="471" y="490"/>
                  </a:lnTo>
                  <a:lnTo>
                    <a:pt x="468" y="479"/>
                  </a:lnTo>
                  <a:lnTo>
                    <a:pt x="460" y="479"/>
                  </a:lnTo>
                  <a:lnTo>
                    <a:pt x="468" y="479"/>
                  </a:lnTo>
                  <a:lnTo>
                    <a:pt x="468" y="468"/>
                  </a:lnTo>
                  <a:lnTo>
                    <a:pt x="460" y="468"/>
                  </a:lnTo>
                  <a:lnTo>
                    <a:pt x="468" y="471"/>
                  </a:lnTo>
                  <a:lnTo>
                    <a:pt x="471" y="457"/>
                  </a:lnTo>
                  <a:lnTo>
                    <a:pt x="475" y="446"/>
                  </a:lnTo>
                  <a:lnTo>
                    <a:pt x="482" y="435"/>
                  </a:lnTo>
                  <a:lnTo>
                    <a:pt x="489" y="424"/>
                  </a:lnTo>
                  <a:lnTo>
                    <a:pt x="482" y="421"/>
                  </a:lnTo>
                  <a:lnTo>
                    <a:pt x="486" y="424"/>
                  </a:lnTo>
                  <a:lnTo>
                    <a:pt x="493" y="417"/>
                  </a:lnTo>
                  <a:lnTo>
                    <a:pt x="504" y="406"/>
                  </a:lnTo>
                  <a:lnTo>
                    <a:pt x="500" y="403"/>
                  </a:lnTo>
                  <a:lnTo>
                    <a:pt x="504" y="410"/>
                  </a:lnTo>
                  <a:lnTo>
                    <a:pt x="515" y="403"/>
                  </a:lnTo>
                  <a:lnTo>
                    <a:pt x="526" y="399"/>
                  </a:lnTo>
                  <a:lnTo>
                    <a:pt x="540" y="392"/>
                  </a:lnTo>
                  <a:lnTo>
                    <a:pt x="551" y="388"/>
                  </a:lnTo>
                  <a:lnTo>
                    <a:pt x="547" y="381"/>
                  </a:lnTo>
                  <a:lnTo>
                    <a:pt x="547" y="388"/>
                  </a:lnTo>
                  <a:lnTo>
                    <a:pt x="562" y="388"/>
                  </a:lnTo>
                  <a:lnTo>
                    <a:pt x="576" y="388"/>
                  </a:lnTo>
                  <a:lnTo>
                    <a:pt x="576" y="381"/>
                  </a:lnTo>
                  <a:lnTo>
                    <a:pt x="576" y="388"/>
                  </a:lnTo>
                  <a:lnTo>
                    <a:pt x="587" y="392"/>
                  </a:lnTo>
                  <a:lnTo>
                    <a:pt x="602" y="399"/>
                  </a:lnTo>
                  <a:lnTo>
                    <a:pt x="609" y="403"/>
                  </a:lnTo>
                  <a:lnTo>
                    <a:pt x="609" y="395"/>
                  </a:lnTo>
                  <a:lnTo>
                    <a:pt x="605" y="399"/>
                  </a:lnTo>
                  <a:lnTo>
                    <a:pt x="616" y="410"/>
                  </a:lnTo>
                  <a:lnTo>
                    <a:pt x="624" y="417"/>
                  </a:lnTo>
                  <a:lnTo>
                    <a:pt x="631" y="424"/>
                  </a:lnTo>
                  <a:lnTo>
                    <a:pt x="634" y="421"/>
                  </a:lnTo>
                  <a:lnTo>
                    <a:pt x="631" y="424"/>
                  </a:lnTo>
                  <a:lnTo>
                    <a:pt x="638" y="435"/>
                  </a:lnTo>
                  <a:lnTo>
                    <a:pt x="642" y="450"/>
                  </a:lnTo>
                  <a:lnTo>
                    <a:pt x="645" y="461"/>
                  </a:lnTo>
                  <a:lnTo>
                    <a:pt x="649" y="471"/>
                  </a:lnTo>
                  <a:lnTo>
                    <a:pt x="653" y="468"/>
                  </a:lnTo>
                  <a:lnTo>
                    <a:pt x="649" y="468"/>
                  </a:lnTo>
                  <a:lnTo>
                    <a:pt x="649" y="479"/>
                  </a:lnTo>
                  <a:lnTo>
                    <a:pt x="653" y="479"/>
                  </a:lnTo>
                  <a:lnTo>
                    <a:pt x="649" y="479"/>
                  </a:lnTo>
                  <a:lnTo>
                    <a:pt x="645" y="490"/>
                  </a:lnTo>
                  <a:lnTo>
                    <a:pt x="642" y="501"/>
                  </a:lnTo>
                  <a:lnTo>
                    <a:pt x="638" y="511"/>
                  </a:lnTo>
                  <a:lnTo>
                    <a:pt x="642" y="511"/>
                  </a:lnTo>
                  <a:lnTo>
                    <a:pt x="638" y="508"/>
                  </a:lnTo>
                  <a:lnTo>
                    <a:pt x="631" y="515"/>
                  </a:lnTo>
                  <a:lnTo>
                    <a:pt x="616" y="530"/>
                  </a:lnTo>
                  <a:lnTo>
                    <a:pt x="602" y="544"/>
                  </a:lnTo>
                  <a:lnTo>
                    <a:pt x="602" y="548"/>
                  </a:lnTo>
                  <a:lnTo>
                    <a:pt x="602" y="548"/>
                  </a:lnTo>
                  <a:lnTo>
                    <a:pt x="598" y="555"/>
                  </a:lnTo>
                  <a:lnTo>
                    <a:pt x="595" y="562"/>
                  </a:lnTo>
                  <a:lnTo>
                    <a:pt x="598" y="562"/>
                  </a:lnTo>
                  <a:lnTo>
                    <a:pt x="595" y="559"/>
                  </a:lnTo>
                  <a:lnTo>
                    <a:pt x="591" y="562"/>
                  </a:lnTo>
                  <a:lnTo>
                    <a:pt x="591" y="566"/>
                  </a:lnTo>
                  <a:lnTo>
                    <a:pt x="591" y="566"/>
                  </a:lnTo>
                  <a:lnTo>
                    <a:pt x="587" y="573"/>
                  </a:lnTo>
                  <a:lnTo>
                    <a:pt x="587" y="573"/>
                  </a:lnTo>
                  <a:lnTo>
                    <a:pt x="587" y="573"/>
                  </a:lnTo>
                  <a:lnTo>
                    <a:pt x="587" y="580"/>
                  </a:lnTo>
                  <a:lnTo>
                    <a:pt x="587" y="584"/>
                  </a:lnTo>
                  <a:lnTo>
                    <a:pt x="587" y="591"/>
                  </a:lnTo>
                  <a:lnTo>
                    <a:pt x="587" y="595"/>
                  </a:lnTo>
                  <a:lnTo>
                    <a:pt x="587" y="598"/>
                  </a:lnTo>
                  <a:lnTo>
                    <a:pt x="587" y="598"/>
                  </a:lnTo>
                  <a:lnTo>
                    <a:pt x="591" y="602"/>
                  </a:lnTo>
                  <a:lnTo>
                    <a:pt x="595" y="598"/>
                  </a:lnTo>
                  <a:lnTo>
                    <a:pt x="591" y="602"/>
                  </a:lnTo>
                  <a:lnTo>
                    <a:pt x="595" y="609"/>
                  </a:lnTo>
                  <a:lnTo>
                    <a:pt x="595" y="609"/>
                  </a:lnTo>
                  <a:lnTo>
                    <a:pt x="595" y="609"/>
                  </a:lnTo>
                  <a:lnTo>
                    <a:pt x="598" y="613"/>
                  </a:lnTo>
                  <a:lnTo>
                    <a:pt x="605" y="620"/>
                  </a:lnTo>
                  <a:lnTo>
                    <a:pt x="609" y="624"/>
                  </a:lnTo>
                  <a:lnTo>
                    <a:pt x="609" y="624"/>
                  </a:lnTo>
                  <a:lnTo>
                    <a:pt x="620" y="627"/>
                  </a:lnTo>
                  <a:lnTo>
                    <a:pt x="620" y="620"/>
                  </a:lnTo>
                  <a:lnTo>
                    <a:pt x="616" y="624"/>
                  </a:lnTo>
                  <a:lnTo>
                    <a:pt x="624" y="631"/>
                  </a:lnTo>
                  <a:lnTo>
                    <a:pt x="624" y="631"/>
                  </a:lnTo>
                  <a:lnTo>
                    <a:pt x="627" y="635"/>
                  </a:lnTo>
                  <a:lnTo>
                    <a:pt x="642" y="638"/>
                  </a:lnTo>
                  <a:lnTo>
                    <a:pt x="656" y="642"/>
                  </a:lnTo>
                  <a:lnTo>
                    <a:pt x="674" y="646"/>
                  </a:lnTo>
                  <a:lnTo>
                    <a:pt x="689" y="646"/>
                  </a:lnTo>
                  <a:lnTo>
                    <a:pt x="707" y="649"/>
                  </a:lnTo>
                  <a:lnTo>
                    <a:pt x="725" y="649"/>
                  </a:lnTo>
                  <a:lnTo>
                    <a:pt x="743" y="649"/>
                  </a:lnTo>
                  <a:lnTo>
                    <a:pt x="761" y="649"/>
                  </a:lnTo>
                  <a:lnTo>
                    <a:pt x="783" y="646"/>
                  </a:lnTo>
                  <a:lnTo>
                    <a:pt x="798" y="646"/>
                  </a:lnTo>
                  <a:lnTo>
                    <a:pt x="816" y="642"/>
                  </a:lnTo>
                  <a:lnTo>
                    <a:pt x="834" y="638"/>
                  </a:lnTo>
                  <a:lnTo>
                    <a:pt x="837" y="635"/>
                  </a:lnTo>
                  <a:lnTo>
                    <a:pt x="837" y="638"/>
                  </a:lnTo>
                  <a:lnTo>
                    <a:pt x="848" y="631"/>
                  </a:lnTo>
                  <a:lnTo>
                    <a:pt x="863" y="624"/>
                  </a:lnTo>
                  <a:lnTo>
                    <a:pt x="863" y="620"/>
                  </a:lnTo>
                  <a:lnTo>
                    <a:pt x="866" y="620"/>
                  </a:lnTo>
                  <a:lnTo>
                    <a:pt x="870" y="613"/>
                  </a:lnTo>
                  <a:lnTo>
                    <a:pt x="870" y="613"/>
                  </a:lnTo>
                  <a:lnTo>
                    <a:pt x="870" y="609"/>
                  </a:lnTo>
                  <a:lnTo>
                    <a:pt x="870" y="602"/>
                  </a:lnTo>
                  <a:lnTo>
                    <a:pt x="863" y="602"/>
                  </a:lnTo>
                  <a:lnTo>
                    <a:pt x="866" y="606"/>
                  </a:lnTo>
                  <a:lnTo>
                    <a:pt x="870" y="602"/>
                  </a:lnTo>
                  <a:lnTo>
                    <a:pt x="874" y="602"/>
                  </a:lnTo>
                  <a:lnTo>
                    <a:pt x="874" y="598"/>
                  </a:lnTo>
                  <a:lnTo>
                    <a:pt x="874" y="591"/>
                  </a:lnTo>
                  <a:lnTo>
                    <a:pt x="874" y="577"/>
                  </a:lnTo>
                  <a:lnTo>
                    <a:pt x="874" y="562"/>
                  </a:lnTo>
                  <a:lnTo>
                    <a:pt x="874" y="544"/>
                  </a:lnTo>
                  <a:lnTo>
                    <a:pt x="874" y="526"/>
                  </a:lnTo>
                  <a:lnTo>
                    <a:pt x="874" y="526"/>
                  </a:lnTo>
                  <a:lnTo>
                    <a:pt x="874" y="526"/>
                  </a:lnTo>
                  <a:lnTo>
                    <a:pt x="870" y="511"/>
                  </a:lnTo>
                  <a:lnTo>
                    <a:pt x="863" y="511"/>
                  </a:lnTo>
                  <a:lnTo>
                    <a:pt x="870" y="511"/>
                  </a:lnTo>
                  <a:lnTo>
                    <a:pt x="866" y="493"/>
                  </a:lnTo>
                  <a:lnTo>
                    <a:pt x="863" y="475"/>
                  </a:lnTo>
                  <a:lnTo>
                    <a:pt x="866" y="493"/>
                  </a:lnTo>
                  <a:lnTo>
                    <a:pt x="859" y="461"/>
                  </a:lnTo>
                  <a:lnTo>
                    <a:pt x="852" y="428"/>
                  </a:lnTo>
                  <a:lnTo>
                    <a:pt x="845" y="428"/>
                  </a:lnTo>
                  <a:lnTo>
                    <a:pt x="852" y="428"/>
                  </a:lnTo>
                  <a:lnTo>
                    <a:pt x="852" y="413"/>
                  </a:lnTo>
                  <a:lnTo>
                    <a:pt x="852" y="399"/>
                  </a:lnTo>
                  <a:lnTo>
                    <a:pt x="852" y="388"/>
                  </a:lnTo>
                  <a:lnTo>
                    <a:pt x="845" y="388"/>
                  </a:lnTo>
                  <a:lnTo>
                    <a:pt x="852" y="392"/>
                  </a:lnTo>
                  <a:lnTo>
                    <a:pt x="856" y="381"/>
                  </a:lnTo>
                  <a:lnTo>
                    <a:pt x="859" y="374"/>
                  </a:lnTo>
                  <a:lnTo>
                    <a:pt x="863" y="363"/>
                  </a:lnTo>
                  <a:lnTo>
                    <a:pt x="856" y="359"/>
                  </a:lnTo>
                  <a:lnTo>
                    <a:pt x="859" y="363"/>
                  </a:lnTo>
                  <a:lnTo>
                    <a:pt x="866" y="355"/>
                  </a:lnTo>
                  <a:lnTo>
                    <a:pt x="863" y="352"/>
                  </a:lnTo>
                  <a:lnTo>
                    <a:pt x="866" y="359"/>
                  </a:lnTo>
                  <a:lnTo>
                    <a:pt x="874" y="355"/>
                  </a:lnTo>
                  <a:lnTo>
                    <a:pt x="874" y="355"/>
                  </a:lnTo>
                  <a:lnTo>
                    <a:pt x="874" y="352"/>
                  </a:lnTo>
                  <a:lnTo>
                    <a:pt x="881" y="345"/>
                  </a:lnTo>
                  <a:lnTo>
                    <a:pt x="888" y="337"/>
                  </a:lnTo>
                  <a:lnTo>
                    <a:pt x="885" y="334"/>
                  </a:lnTo>
                  <a:lnTo>
                    <a:pt x="888" y="341"/>
                  </a:lnTo>
                  <a:lnTo>
                    <a:pt x="899" y="337"/>
                  </a:lnTo>
                  <a:lnTo>
                    <a:pt x="906" y="334"/>
                  </a:lnTo>
                  <a:lnTo>
                    <a:pt x="903" y="326"/>
                  </a:lnTo>
                  <a:lnTo>
                    <a:pt x="903" y="334"/>
                  </a:lnTo>
                  <a:lnTo>
                    <a:pt x="910" y="334"/>
                  </a:lnTo>
                  <a:lnTo>
                    <a:pt x="914" y="334"/>
                  </a:lnTo>
                  <a:lnTo>
                    <a:pt x="914" y="334"/>
                  </a:lnTo>
                  <a:lnTo>
                    <a:pt x="924" y="330"/>
                  </a:lnTo>
                  <a:lnTo>
                    <a:pt x="921" y="323"/>
                  </a:lnTo>
                  <a:lnTo>
                    <a:pt x="921" y="330"/>
                  </a:lnTo>
                  <a:lnTo>
                    <a:pt x="928" y="330"/>
                  </a:lnTo>
                  <a:lnTo>
                    <a:pt x="928" y="323"/>
                  </a:lnTo>
                  <a:lnTo>
                    <a:pt x="928" y="330"/>
                  </a:lnTo>
                  <a:lnTo>
                    <a:pt x="939" y="334"/>
                  </a:lnTo>
                  <a:lnTo>
                    <a:pt x="939" y="334"/>
                  </a:lnTo>
                  <a:lnTo>
                    <a:pt x="939" y="334"/>
                  </a:lnTo>
                  <a:lnTo>
                    <a:pt x="946" y="334"/>
                  </a:lnTo>
                  <a:lnTo>
                    <a:pt x="946" y="326"/>
                  </a:lnTo>
                  <a:lnTo>
                    <a:pt x="943" y="330"/>
                  </a:lnTo>
                  <a:lnTo>
                    <a:pt x="950" y="337"/>
                  </a:lnTo>
                  <a:lnTo>
                    <a:pt x="953" y="341"/>
                  </a:lnTo>
                  <a:lnTo>
                    <a:pt x="953" y="341"/>
                  </a:lnTo>
                  <a:lnTo>
                    <a:pt x="961" y="345"/>
                  </a:lnTo>
                  <a:lnTo>
                    <a:pt x="961" y="337"/>
                  </a:lnTo>
                  <a:lnTo>
                    <a:pt x="957" y="341"/>
                  </a:lnTo>
                  <a:lnTo>
                    <a:pt x="964" y="348"/>
                  </a:lnTo>
                  <a:lnTo>
                    <a:pt x="972" y="355"/>
                  </a:lnTo>
                  <a:lnTo>
                    <a:pt x="975" y="359"/>
                  </a:lnTo>
                  <a:lnTo>
                    <a:pt x="975" y="359"/>
                  </a:lnTo>
                  <a:lnTo>
                    <a:pt x="982" y="363"/>
                  </a:lnTo>
                  <a:lnTo>
                    <a:pt x="982" y="355"/>
                  </a:lnTo>
                  <a:lnTo>
                    <a:pt x="979" y="359"/>
                  </a:lnTo>
                  <a:lnTo>
                    <a:pt x="986" y="366"/>
                  </a:lnTo>
                  <a:lnTo>
                    <a:pt x="990" y="370"/>
                  </a:lnTo>
                  <a:lnTo>
                    <a:pt x="990" y="370"/>
                  </a:lnTo>
                  <a:lnTo>
                    <a:pt x="1001" y="374"/>
                  </a:lnTo>
                  <a:lnTo>
                    <a:pt x="1001" y="374"/>
                  </a:lnTo>
                  <a:lnTo>
                    <a:pt x="1001" y="374"/>
                  </a:lnTo>
                  <a:lnTo>
                    <a:pt x="1011" y="374"/>
                  </a:lnTo>
                  <a:lnTo>
                    <a:pt x="1022" y="374"/>
                  </a:lnTo>
                  <a:lnTo>
                    <a:pt x="1022" y="374"/>
                  </a:lnTo>
                  <a:lnTo>
                    <a:pt x="1026" y="374"/>
                  </a:lnTo>
                  <a:lnTo>
                    <a:pt x="1037" y="370"/>
                  </a:lnTo>
                  <a:lnTo>
                    <a:pt x="1048" y="366"/>
                  </a:lnTo>
                  <a:lnTo>
                    <a:pt x="1059" y="363"/>
                  </a:lnTo>
                  <a:lnTo>
                    <a:pt x="1059" y="363"/>
                  </a:lnTo>
                  <a:lnTo>
                    <a:pt x="1059" y="359"/>
                  </a:lnTo>
                  <a:lnTo>
                    <a:pt x="1066" y="352"/>
                  </a:lnTo>
                  <a:lnTo>
                    <a:pt x="1062" y="348"/>
                  </a:lnTo>
                  <a:lnTo>
                    <a:pt x="1066" y="355"/>
                  </a:lnTo>
                  <a:lnTo>
                    <a:pt x="1077" y="352"/>
                  </a:lnTo>
                  <a:lnTo>
                    <a:pt x="1077" y="352"/>
                  </a:lnTo>
                  <a:lnTo>
                    <a:pt x="1077" y="348"/>
                  </a:lnTo>
                  <a:lnTo>
                    <a:pt x="1084" y="341"/>
                  </a:lnTo>
                  <a:lnTo>
                    <a:pt x="1088" y="341"/>
                  </a:lnTo>
                  <a:lnTo>
                    <a:pt x="1088" y="341"/>
                  </a:lnTo>
                  <a:lnTo>
                    <a:pt x="1091" y="334"/>
                  </a:lnTo>
                  <a:lnTo>
                    <a:pt x="1098" y="323"/>
                  </a:lnTo>
                  <a:lnTo>
                    <a:pt x="1098" y="323"/>
                  </a:lnTo>
                  <a:lnTo>
                    <a:pt x="1098" y="319"/>
                  </a:lnTo>
                  <a:lnTo>
                    <a:pt x="1098" y="308"/>
                  </a:lnTo>
                  <a:lnTo>
                    <a:pt x="1091" y="308"/>
                  </a:lnTo>
                  <a:lnTo>
                    <a:pt x="1098" y="312"/>
                  </a:lnTo>
                  <a:lnTo>
                    <a:pt x="1102" y="305"/>
                  </a:lnTo>
                  <a:lnTo>
                    <a:pt x="1102" y="301"/>
                  </a:lnTo>
                  <a:lnTo>
                    <a:pt x="1102" y="301"/>
                  </a:lnTo>
                  <a:lnTo>
                    <a:pt x="1098" y="286"/>
                  </a:lnTo>
                  <a:lnTo>
                    <a:pt x="1091" y="286"/>
                  </a:lnTo>
                  <a:lnTo>
                    <a:pt x="1098" y="286"/>
                  </a:lnTo>
                  <a:lnTo>
                    <a:pt x="1098" y="272"/>
                  </a:lnTo>
                  <a:lnTo>
                    <a:pt x="1098" y="272"/>
                  </a:lnTo>
                  <a:lnTo>
                    <a:pt x="1098" y="272"/>
                  </a:lnTo>
                  <a:lnTo>
                    <a:pt x="1091" y="261"/>
                  </a:lnTo>
                  <a:lnTo>
                    <a:pt x="1088" y="250"/>
                  </a:lnTo>
                  <a:lnTo>
                    <a:pt x="1080" y="239"/>
                  </a:lnTo>
                  <a:lnTo>
                    <a:pt x="1077" y="236"/>
                  </a:lnTo>
                  <a:lnTo>
                    <a:pt x="1077" y="236"/>
                  </a:lnTo>
                  <a:lnTo>
                    <a:pt x="1066" y="228"/>
                  </a:lnTo>
                  <a:lnTo>
                    <a:pt x="1059" y="225"/>
                  </a:lnTo>
                  <a:lnTo>
                    <a:pt x="1048" y="218"/>
                  </a:lnTo>
                  <a:lnTo>
                    <a:pt x="1037" y="214"/>
                  </a:lnTo>
                  <a:lnTo>
                    <a:pt x="1026" y="210"/>
                  </a:lnTo>
                  <a:lnTo>
                    <a:pt x="1026" y="210"/>
                  </a:lnTo>
                  <a:lnTo>
                    <a:pt x="1022" y="210"/>
                  </a:lnTo>
                  <a:lnTo>
                    <a:pt x="1011" y="210"/>
                  </a:lnTo>
                  <a:lnTo>
                    <a:pt x="1001" y="210"/>
                  </a:lnTo>
                  <a:lnTo>
                    <a:pt x="1001" y="210"/>
                  </a:lnTo>
                  <a:lnTo>
                    <a:pt x="1001" y="210"/>
                  </a:lnTo>
                  <a:lnTo>
                    <a:pt x="990" y="214"/>
                  </a:lnTo>
                  <a:lnTo>
                    <a:pt x="982" y="218"/>
                  </a:lnTo>
                  <a:lnTo>
                    <a:pt x="975" y="221"/>
                  </a:lnTo>
                  <a:lnTo>
                    <a:pt x="968" y="225"/>
                  </a:lnTo>
                  <a:lnTo>
                    <a:pt x="968" y="225"/>
                  </a:lnTo>
                  <a:lnTo>
                    <a:pt x="964" y="225"/>
                  </a:lnTo>
                  <a:lnTo>
                    <a:pt x="957" y="232"/>
                  </a:lnTo>
                  <a:lnTo>
                    <a:pt x="961" y="236"/>
                  </a:lnTo>
                  <a:lnTo>
                    <a:pt x="961" y="232"/>
                  </a:lnTo>
                  <a:lnTo>
                    <a:pt x="953" y="236"/>
                  </a:lnTo>
                  <a:lnTo>
                    <a:pt x="943" y="239"/>
                  </a:lnTo>
                  <a:lnTo>
                    <a:pt x="935" y="243"/>
                  </a:lnTo>
                  <a:lnTo>
                    <a:pt x="935" y="247"/>
                  </a:lnTo>
                  <a:lnTo>
                    <a:pt x="935" y="243"/>
                  </a:lnTo>
                  <a:lnTo>
                    <a:pt x="924" y="243"/>
                  </a:lnTo>
                  <a:lnTo>
                    <a:pt x="914" y="243"/>
                  </a:lnTo>
                  <a:lnTo>
                    <a:pt x="903" y="243"/>
                  </a:lnTo>
                  <a:lnTo>
                    <a:pt x="895" y="243"/>
                  </a:lnTo>
                  <a:lnTo>
                    <a:pt x="895" y="247"/>
                  </a:lnTo>
                  <a:lnTo>
                    <a:pt x="899" y="243"/>
                  </a:lnTo>
                  <a:lnTo>
                    <a:pt x="888" y="239"/>
                  </a:lnTo>
                  <a:lnTo>
                    <a:pt x="877" y="236"/>
                  </a:lnTo>
                  <a:lnTo>
                    <a:pt x="877" y="236"/>
                  </a:lnTo>
                  <a:lnTo>
                    <a:pt x="874" y="236"/>
                  </a:lnTo>
                  <a:lnTo>
                    <a:pt x="866" y="236"/>
                  </a:lnTo>
                  <a:lnTo>
                    <a:pt x="866" y="239"/>
                  </a:lnTo>
                  <a:lnTo>
                    <a:pt x="870" y="236"/>
                  </a:lnTo>
                  <a:lnTo>
                    <a:pt x="863" y="228"/>
                  </a:lnTo>
                  <a:lnTo>
                    <a:pt x="863" y="228"/>
                  </a:lnTo>
                  <a:lnTo>
                    <a:pt x="863" y="228"/>
                  </a:lnTo>
                  <a:lnTo>
                    <a:pt x="856" y="225"/>
                  </a:lnTo>
                  <a:lnTo>
                    <a:pt x="852" y="228"/>
                  </a:lnTo>
                  <a:lnTo>
                    <a:pt x="856" y="225"/>
                  </a:lnTo>
                  <a:lnTo>
                    <a:pt x="848" y="218"/>
                  </a:lnTo>
                  <a:lnTo>
                    <a:pt x="845" y="221"/>
                  </a:lnTo>
                  <a:lnTo>
                    <a:pt x="852" y="221"/>
                  </a:lnTo>
                  <a:lnTo>
                    <a:pt x="852" y="214"/>
                  </a:lnTo>
                  <a:lnTo>
                    <a:pt x="852" y="214"/>
                  </a:lnTo>
                  <a:lnTo>
                    <a:pt x="852" y="214"/>
                  </a:lnTo>
                  <a:lnTo>
                    <a:pt x="848" y="207"/>
                  </a:lnTo>
                  <a:lnTo>
                    <a:pt x="841" y="207"/>
                  </a:lnTo>
                  <a:lnTo>
                    <a:pt x="848" y="207"/>
                  </a:lnTo>
                  <a:lnTo>
                    <a:pt x="848" y="196"/>
                  </a:lnTo>
                  <a:lnTo>
                    <a:pt x="848" y="174"/>
                  </a:lnTo>
                  <a:lnTo>
                    <a:pt x="848" y="149"/>
                  </a:lnTo>
                  <a:lnTo>
                    <a:pt x="852" y="120"/>
                  </a:lnTo>
                  <a:lnTo>
                    <a:pt x="856" y="91"/>
                  </a:lnTo>
                  <a:lnTo>
                    <a:pt x="859" y="62"/>
                  </a:lnTo>
                  <a:lnTo>
                    <a:pt x="863" y="40"/>
                  </a:lnTo>
                  <a:lnTo>
                    <a:pt x="866" y="18"/>
                  </a:lnTo>
                  <a:lnTo>
                    <a:pt x="866" y="14"/>
                  </a:lnTo>
                  <a:lnTo>
                    <a:pt x="859" y="14"/>
                  </a:lnTo>
                  <a:lnTo>
                    <a:pt x="856" y="14"/>
                  </a:lnTo>
                  <a:lnTo>
                    <a:pt x="823" y="14"/>
                  </a:lnTo>
                  <a:lnTo>
                    <a:pt x="790" y="11"/>
                  </a:lnTo>
                  <a:lnTo>
                    <a:pt x="761" y="11"/>
                  </a:lnTo>
                  <a:lnTo>
                    <a:pt x="736" y="7"/>
                  </a:lnTo>
                  <a:lnTo>
                    <a:pt x="711" y="4"/>
                  </a:lnTo>
                  <a:lnTo>
                    <a:pt x="689" y="4"/>
                  </a:lnTo>
                  <a:lnTo>
                    <a:pt x="674" y="0"/>
                  </a:lnTo>
                  <a:lnTo>
                    <a:pt x="663" y="0"/>
                  </a:lnTo>
                  <a:lnTo>
                    <a:pt x="656" y="0"/>
                  </a:lnTo>
                  <a:lnTo>
                    <a:pt x="656" y="0"/>
                  </a:lnTo>
                  <a:lnTo>
                    <a:pt x="653" y="0"/>
                  </a:lnTo>
                  <a:lnTo>
                    <a:pt x="649" y="4"/>
                  </a:lnTo>
                  <a:lnTo>
                    <a:pt x="653" y="7"/>
                  </a:lnTo>
                  <a:lnTo>
                    <a:pt x="653" y="4"/>
                  </a:lnTo>
                  <a:lnTo>
                    <a:pt x="645" y="7"/>
                  </a:lnTo>
                  <a:lnTo>
                    <a:pt x="645" y="7"/>
                  </a:lnTo>
                  <a:lnTo>
                    <a:pt x="642" y="7"/>
                  </a:lnTo>
                  <a:lnTo>
                    <a:pt x="634" y="14"/>
                  </a:lnTo>
                  <a:lnTo>
                    <a:pt x="631" y="18"/>
                  </a:lnTo>
                  <a:lnTo>
                    <a:pt x="624" y="25"/>
                  </a:lnTo>
                  <a:lnTo>
                    <a:pt x="624" y="29"/>
                  </a:lnTo>
                  <a:lnTo>
                    <a:pt x="624" y="29"/>
                  </a:lnTo>
                  <a:lnTo>
                    <a:pt x="624" y="40"/>
                  </a:lnTo>
                  <a:lnTo>
                    <a:pt x="627" y="40"/>
                  </a:lnTo>
                  <a:lnTo>
                    <a:pt x="624" y="40"/>
                  </a:lnTo>
                  <a:lnTo>
                    <a:pt x="620" y="47"/>
                  </a:lnTo>
                  <a:lnTo>
                    <a:pt x="616" y="58"/>
                  </a:lnTo>
                  <a:lnTo>
                    <a:pt x="616" y="58"/>
                  </a:lnTo>
                  <a:lnTo>
                    <a:pt x="616" y="58"/>
                  </a:lnTo>
                  <a:lnTo>
                    <a:pt x="616" y="69"/>
                  </a:lnTo>
                  <a:lnTo>
                    <a:pt x="616" y="80"/>
                  </a:lnTo>
                  <a:lnTo>
                    <a:pt x="616" y="80"/>
                  </a:lnTo>
                  <a:lnTo>
                    <a:pt x="616" y="83"/>
                  </a:lnTo>
                  <a:lnTo>
                    <a:pt x="620" y="91"/>
                  </a:lnTo>
                  <a:lnTo>
                    <a:pt x="624" y="102"/>
                  </a:lnTo>
                  <a:lnTo>
                    <a:pt x="627" y="112"/>
                  </a:lnTo>
                  <a:lnTo>
                    <a:pt x="634" y="123"/>
                  </a:lnTo>
                  <a:lnTo>
                    <a:pt x="634" y="123"/>
                  </a:lnTo>
                  <a:lnTo>
                    <a:pt x="634" y="123"/>
                  </a:lnTo>
                  <a:lnTo>
                    <a:pt x="642" y="131"/>
                  </a:lnTo>
                  <a:lnTo>
                    <a:pt x="645" y="134"/>
                  </a:lnTo>
                  <a:lnTo>
                    <a:pt x="645" y="134"/>
                  </a:lnTo>
                  <a:lnTo>
                    <a:pt x="656" y="141"/>
                  </a:lnTo>
                  <a:lnTo>
                    <a:pt x="656" y="134"/>
                  </a:lnTo>
                  <a:lnTo>
                    <a:pt x="653" y="138"/>
                  </a:lnTo>
                  <a:lnTo>
                    <a:pt x="656" y="149"/>
                  </a:lnTo>
                  <a:lnTo>
                    <a:pt x="663" y="163"/>
                  </a:lnTo>
                  <a:lnTo>
                    <a:pt x="667" y="170"/>
                  </a:lnTo>
                  <a:lnTo>
                    <a:pt x="671" y="167"/>
                  </a:lnTo>
                  <a:lnTo>
                    <a:pt x="667" y="167"/>
                  </a:lnTo>
                  <a:lnTo>
                    <a:pt x="667" y="181"/>
                  </a:lnTo>
                  <a:lnTo>
                    <a:pt x="667" y="192"/>
                  </a:lnTo>
                  <a:lnTo>
                    <a:pt x="667" y="203"/>
                  </a:lnTo>
                  <a:lnTo>
                    <a:pt x="671" y="203"/>
                  </a:lnTo>
                  <a:lnTo>
                    <a:pt x="667" y="199"/>
                  </a:lnTo>
                  <a:lnTo>
                    <a:pt x="660" y="207"/>
                  </a:lnTo>
                  <a:lnTo>
                    <a:pt x="660" y="210"/>
                  </a:lnTo>
                  <a:lnTo>
                    <a:pt x="660" y="210"/>
                  </a:lnTo>
                  <a:lnTo>
                    <a:pt x="656" y="221"/>
                  </a:lnTo>
                  <a:lnTo>
                    <a:pt x="649" y="232"/>
                  </a:lnTo>
                  <a:lnTo>
                    <a:pt x="653" y="232"/>
                  </a:lnTo>
                  <a:lnTo>
                    <a:pt x="649" y="228"/>
                  </a:lnTo>
                  <a:lnTo>
                    <a:pt x="642" y="236"/>
                  </a:lnTo>
                  <a:lnTo>
                    <a:pt x="645" y="239"/>
                  </a:lnTo>
                  <a:lnTo>
                    <a:pt x="645" y="236"/>
                  </a:lnTo>
                  <a:lnTo>
                    <a:pt x="634" y="243"/>
                  </a:lnTo>
                  <a:lnTo>
                    <a:pt x="624" y="250"/>
                  </a:lnTo>
                  <a:lnTo>
                    <a:pt x="624" y="254"/>
                  </a:lnTo>
                  <a:lnTo>
                    <a:pt x="624" y="250"/>
                  </a:lnTo>
                  <a:lnTo>
                    <a:pt x="609" y="254"/>
                  </a:lnTo>
                  <a:lnTo>
                    <a:pt x="595" y="257"/>
                  </a:lnTo>
                  <a:lnTo>
                    <a:pt x="580" y="261"/>
                  </a:lnTo>
                  <a:lnTo>
                    <a:pt x="573" y="261"/>
                  </a:lnTo>
                  <a:lnTo>
                    <a:pt x="566" y="261"/>
                  </a:lnTo>
                  <a:lnTo>
                    <a:pt x="566" y="265"/>
                  </a:lnTo>
                  <a:lnTo>
                    <a:pt x="569" y="261"/>
                  </a:lnTo>
                  <a:lnTo>
                    <a:pt x="562" y="257"/>
                  </a:lnTo>
                  <a:lnTo>
                    <a:pt x="562" y="257"/>
                  </a:lnTo>
                  <a:lnTo>
                    <a:pt x="558" y="257"/>
                  </a:lnTo>
                  <a:lnTo>
                    <a:pt x="551" y="257"/>
                  </a:lnTo>
                  <a:lnTo>
                    <a:pt x="551" y="261"/>
                  </a:lnTo>
                  <a:lnTo>
                    <a:pt x="555" y="257"/>
                  </a:lnTo>
                  <a:lnTo>
                    <a:pt x="547" y="254"/>
                  </a:lnTo>
                  <a:lnTo>
                    <a:pt x="540" y="250"/>
                  </a:lnTo>
                  <a:lnTo>
                    <a:pt x="536" y="254"/>
                  </a:lnTo>
                  <a:lnTo>
                    <a:pt x="540" y="250"/>
                  </a:lnTo>
                  <a:lnTo>
                    <a:pt x="536" y="247"/>
                  </a:lnTo>
                  <a:lnTo>
                    <a:pt x="536" y="247"/>
                  </a:lnTo>
                  <a:lnTo>
                    <a:pt x="536" y="247"/>
                  </a:lnTo>
                  <a:lnTo>
                    <a:pt x="529" y="243"/>
                  </a:lnTo>
                  <a:lnTo>
                    <a:pt x="518" y="236"/>
                  </a:lnTo>
                  <a:lnTo>
                    <a:pt x="515" y="239"/>
                  </a:lnTo>
                  <a:lnTo>
                    <a:pt x="518" y="236"/>
                  </a:lnTo>
                  <a:lnTo>
                    <a:pt x="511" y="228"/>
                  </a:lnTo>
                  <a:lnTo>
                    <a:pt x="507" y="232"/>
                  </a:lnTo>
                  <a:lnTo>
                    <a:pt x="515" y="232"/>
                  </a:lnTo>
                  <a:lnTo>
                    <a:pt x="507" y="221"/>
                  </a:lnTo>
                  <a:lnTo>
                    <a:pt x="504" y="210"/>
                  </a:lnTo>
                  <a:lnTo>
                    <a:pt x="500" y="199"/>
                  </a:lnTo>
                  <a:lnTo>
                    <a:pt x="493" y="199"/>
                  </a:lnTo>
                  <a:lnTo>
                    <a:pt x="500" y="199"/>
                  </a:lnTo>
                  <a:lnTo>
                    <a:pt x="500" y="185"/>
                  </a:lnTo>
                  <a:lnTo>
                    <a:pt x="500" y="185"/>
                  </a:lnTo>
                  <a:lnTo>
                    <a:pt x="500" y="185"/>
                  </a:lnTo>
                  <a:lnTo>
                    <a:pt x="497" y="174"/>
                  </a:lnTo>
                  <a:lnTo>
                    <a:pt x="489" y="174"/>
                  </a:lnTo>
                  <a:lnTo>
                    <a:pt x="497" y="178"/>
                  </a:lnTo>
                  <a:lnTo>
                    <a:pt x="500" y="167"/>
                  </a:lnTo>
                  <a:lnTo>
                    <a:pt x="500" y="167"/>
                  </a:lnTo>
                  <a:lnTo>
                    <a:pt x="500" y="163"/>
                  </a:lnTo>
                  <a:lnTo>
                    <a:pt x="500" y="149"/>
                  </a:lnTo>
                  <a:lnTo>
                    <a:pt x="493" y="149"/>
                  </a:lnTo>
                  <a:lnTo>
                    <a:pt x="497" y="152"/>
                  </a:lnTo>
                  <a:lnTo>
                    <a:pt x="504" y="145"/>
                  </a:lnTo>
                  <a:lnTo>
                    <a:pt x="507" y="145"/>
                  </a:lnTo>
                  <a:lnTo>
                    <a:pt x="507" y="145"/>
                  </a:lnTo>
                  <a:lnTo>
                    <a:pt x="511" y="134"/>
                  </a:lnTo>
                  <a:lnTo>
                    <a:pt x="504" y="131"/>
                  </a:lnTo>
                  <a:lnTo>
                    <a:pt x="507" y="134"/>
                  </a:lnTo>
                  <a:lnTo>
                    <a:pt x="515" y="127"/>
                  </a:lnTo>
                  <a:lnTo>
                    <a:pt x="522" y="120"/>
                  </a:lnTo>
                  <a:lnTo>
                    <a:pt x="526" y="120"/>
                  </a:lnTo>
                  <a:lnTo>
                    <a:pt x="526" y="120"/>
                  </a:lnTo>
                  <a:lnTo>
                    <a:pt x="529" y="112"/>
                  </a:lnTo>
                  <a:lnTo>
                    <a:pt x="533" y="105"/>
                  </a:lnTo>
                  <a:lnTo>
                    <a:pt x="536" y="98"/>
                  </a:lnTo>
                  <a:lnTo>
                    <a:pt x="540" y="91"/>
                  </a:lnTo>
                  <a:lnTo>
                    <a:pt x="540" y="91"/>
                  </a:lnTo>
                  <a:lnTo>
                    <a:pt x="540" y="87"/>
                  </a:lnTo>
                  <a:lnTo>
                    <a:pt x="540" y="80"/>
                  </a:lnTo>
                  <a:lnTo>
                    <a:pt x="540" y="72"/>
                  </a:lnTo>
                  <a:lnTo>
                    <a:pt x="540" y="72"/>
                  </a:lnTo>
                  <a:lnTo>
                    <a:pt x="540" y="72"/>
                  </a:lnTo>
                  <a:lnTo>
                    <a:pt x="536" y="65"/>
                  </a:lnTo>
                  <a:lnTo>
                    <a:pt x="533" y="58"/>
                  </a:lnTo>
                  <a:lnTo>
                    <a:pt x="529" y="51"/>
                  </a:lnTo>
                  <a:lnTo>
                    <a:pt x="529" y="51"/>
                  </a:lnTo>
                  <a:lnTo>
                    <a:pt x="526" y="47"/>
                  </a:lnTo>
                  <a:lnTo>
                    <a:pt x="518" y="40"/>
                  </a:lnTo>
                  <a:lnTo>
                    <a:pt x="518" y="40"/>
                  </a:lnTo>
                  <a:lnTo>
                    <a:pt x="518" y="40"/>
                  </a:lnTo>
                  <a:lnTo>
                    <a:pt x="507" y="36"/>
                  </a:lnTo>
                  <a:lnTo>
                    <a:pt x="497" y="29"/>
                  </a:lnTo>
                  <a:lnTo>
                    <a:pt x="486" y="25"/>
                  </a:lnTo>
                  <a:lnTo>
                    <a:pt x="471" y="18"/>
                  </a:lnTo>
                  <a:lnTo>
                    <a:pt x="471" y="18"/>
                  </a:lnTo>
                  <a:lnTo>
                    <a:pt x="468" y="18"/>
                  </a:lnTo>
                  <a:lnTo>
                    <a:pt x="449" y="14"/>
                  </a:lnTo>
                  <a:lnTo>
                    <a:pt x="431" y="14"/>
                  </a:lnTo>
                  <a:lnTo>
                    <a:pt x="406" y="11"/>
                  </a:lnTo>
                  <a:lnTo>
                    <a:pt x="377" y="11"/>
                  </a:lnTo>
                  <a:lnTo>
                    <a:pt x="348" y="14"/>
                  </a:lnTo>
                  <a:lnTo>
                    <a:pt x="315" y="14"/>
                  </a:lnTo>
                  <a:lnTo>
                    <a:pt x="286" y="18"/>
                  </a:lnTo>
                  <a:lnTo>
                    <a:pt x="261" y="22"/>
                  </a:lnTo>
                  <a:lnTo>
                    <a:pt x="243" y="25"/>
                  </a:lnTo>
                  <a:lnTo>
                    <a:pt x="236" y="25"/>
                  </a:lnTo>
                  <a:lnTo>
                    <a:pt x="239" y="29"/>
                  </a:lnTo>
                  <a:lnTo>
                    <a:pt x="243" y="51"/>
                  </a:lnTo>
                  <a:lnTo>
                    <a:pt x="243" y="54"/>
                  </a:lnTo>
                  <a:lnTo>
                    <a:pt x="243" y="54"/>
                  </a:lnTo>
                  <a:lnTo>
                    <a:pt x="254" y="80"/>
                  </a:lnTo>
                  <a:lnTo>
                    <a:pt x="261" y="112"/>
                  </a:lnTo>
                  <a:lnTo>
                    <a:pt x="268" y="145"/>
                  </a:lnTo>
                  <a:lnTo>
                    <a:pt x="272" y="141"/>
                  </a:lnTo>
                  <a:lnTo>
                    <a:pt x="268" y="141"/>
                  </a:lnTo>
                  <a:lnTo>
                    <a:pt x="268" y="156"/>
                  </a:lnTo>
                  <a:lnTo>
                    <a:pt x="272" y="174"/>
                  </a:lnTo>
                  <a:lnTo>
                    <a:pt x="272" y="189"/>
                  </a:lnTo>
                  <a:lnTo>
                    <a:pt x="272" y="203"/>
                  </a:lnTo>
                  <a:lnTo>
                    <a:pt x="272" y="214"/>
                  </a:lnTo>
                  <a:lnTo>
                    <a:pt x="275" y="214"/>
                  </a:lnTo>
                  <a:lnTo>
                    <a:pt x="272" y="214"/>
                  </a:lnTo>
                  <a:lnTo>
                    <a:pt x="268" y="225"/>
                  </a:lnTo>
                  <a:lnTo>
                    <a:pt x="272" y="225"/>
                  </a:lnTo>
                  <a:lnTo>
                    <a:pt x="268" y="221"/>
                  </a:lnTo>
                  <a:lnTo>
                    <a:pt x="265" y="225"/>
                  </a:lnTo>
                  <a:lnTo>
                    <a:pt x="265" y="228"/>
                  </a:lnTo>
                  <a:lnTo>
                    <a:pt x="265" y="228"/>
                  </a:lnTo>
                  <a:lnTo>
                    <a:pt x="265" y="236"/>
                  </a:lnTo>
                  <a:lnTo>
                    <a:pt x="268" y="236"/>
                  </a:lnTo>
                  <a:lnTo>
                    <a:pt x="265" y="232"/>
                  </a:lnTo>
                  <a:lnTo>
                    <a:pt x="261" y="236"/>
                  </a:lnTo>
                  <a:lnTo>
                    <a:pt x="265" y="239"/>
                  </a:lnTo>
                  <a:lnTo>
                    <a:pt x="265" y="236"/>
                  </a:lnTo>
                  <a:lnTo>
                    <a:pt x="261" y="236"/>
                  </a:lnTo>
                  <a:lnTo>
                    <a:pt x="257" y="236"/>
                  </a:lnTo>
                  <a:lnTo>
                    <a:pt x="257" y="239"/>
                  </a:lnTo>
                  <a:lnTo>
                    <a:pt x="254" y="247"/>
                  </a:lnTo>
                  <a:lnTo>
                    <a:pt x="257" y="247"/>
                  </a:lnTo>
                  <a:lnTo>
                    <a:pt x="257" y="243"/>
                  </a:lnTo>
                  <a:lnTo>
                    <a:pt x="246" y="247"/>
                  </a:lnTo>
                  <a:lnTo>
                    <a:pt x="246" y="247"/>
                  </a:lnTo>
                  <a:lnTo>
                    <a:pt x="243" y="247"/>
                  </a:lnTo>
                  <a:lnTo>
                    <a:pt x="239" y="250"/>
                  </a:lnTo>
                  <a:lnTo>
                    <a:pt x="243" y="254"/>
                  </a:lnTo>
                  <a:lnTo>
                    <a:pt x="243" y="250"/>
                  </a:lnTo>
                  <a:lnTo>
                    <a:pt x="232" y="254"/>
                  </a:lnTo>
                  <a:lnTo>
                    <a:pt x="225" y="257"/>
                  </a:lnTo>
                  <a:lnTo>
                    <a:pt x="225" y="261"/>
                  </a:lnTo>
                  <a:lnTo>
                    <a:pt x="225" y="257"/>
                  </a:lnTo>
                  <a:lnTo>
                    <a:pt x="217" y="257"/>
                  </a:lnTo>
                  <a:lnTo>
                    <a:pt x="210" y="257"/>
                  </a:lnTo>
                  <a:lnTo>
                    <a:pt x="203" y="257"/>
                  </a:lnTo>
                  <a:lnTo>
                    <a:pt x="196" y="257"/>
                  </a:lnTo>
                  <a:lnTo>
                    <a:pt x="188" y="257"/>
                  </a:lnTo>
                  <a:lnTo>
                    <a:pt x="188" y="261"/>
                  </a:lnTo>
                  <a:lnTo>
                    <a:pt x="192" y="257"/>
                  </a:lnTo>
                  <a:lnTo>
                    <a:pt x="185" y="254"/>
                  </a:lnTo>
                  <a:lnTo>
                    <a:pt x="185" y="254"/>
                  </a:lnTo>
                  <a:lnTo>
                    <a:pt x="181" y="254"/>
                  </a:lnTo>
                  <a:lnTo>
                    <a:pt x="174" y="254"/>
                  </a:lnTo>
                  <a:lnTo>
                    <a:pt x="174" y="257"/>
                  </a:lnTo>
                  <a:lnTo>
                    <a:pt x="178" y="254"/>
                  </a:lnTo>
                  <a:lnTo>
                    <a:pt x="170" y="250"/>
                  </a:lnTo>
                  <a:lnTo>
                    <a:pt x="163" y="247"/>
                  </a:lnTo>
                  <a:lnTo>
                    <a:pt x="159" y="250"/>
                  </a:lnTo>
                  <a:lnTo>
                    <a:pt x="163" y="247"/>
                  </a:lnTo>
                  <a:lnTo>
                    <a:pt x="159" y="243"/>
                  </a:lnTo>
                  <a:lnTo>
                    <a:pt x="156" y="247"/>
                  </a:lnTo>
                  <a:lnTo>
                    <a:pt x="163" y="247"/>
                  </a:lnTo>
                  <a:lnTo>
                    <a:pt x="159" y="239"/>
                  </a:lnTo>
                  <a:lnTo>
                    <a:pt x="156" y="236"/>
                  </a:lnTo>
                  <a:lnTo>
                    <a:pt x="156" y="236"/>
                  </a:lnTo>
                  <a:lnTo>
                    <a:pt x="149" y="232"/>
                  </a:lnTo>
                  <a:lnTo>
                    <a:pt x="138" y="225"/>
                  </a:lnTo>
                  <a:lnTo>
                    <a:pt x="127" y="221"/>
                  </a:lnTo>
                  <a:lnTo>
                    <a:pt x="116" y="218"/>
                  </a:lnTo>
                  <a:lnTo>
                    <a:pt x="116" y="218"/>
                  </a:lnTo>
                  <a:lnTo>
                    <a:pt x="112" y="218"/>
                  </a:lnTo>
                  <a:lnTo>
                    <a:pt x="101" y="218"/>
                  </a:lnTo>
                  <a:lnTo>
                    <a:pt x="91" y="218"/>
                  </a:lnTo>
                  <a:lnTo>
                    <a:pt x="76" y="218"/>
                  </a:lnTo>
                  <a:lnTo>
                    <a:pt x="76" y="218"/>
                  </a:lnTo>
                  <a:lnTo>
                    <a:pt x="76" y="218"/>
                  </a:lnTo>
                  <a:lnTo>
                    <a:pt x="65" y="221"/>
                  </a:lnTo>
                  <a:lnTo>
                    <a:pt x="54" y="225"/>
                  </a:lnTo>
                  <a:lnTo>
                    <a:pt x="43" y="232"/>
                  </a:lnTo>
                  <a:lnTo>
                    <a:pt x="43" y="232"/>
                  </a:lnTo>
                  <a:lnTo>
                    <a:pt x="40" y="232"/>
                  </a:lnTo>
                  <a:lnTo>
                    <a:pt x="29" y="243"/>
                  </a:lnTo>
                  <a:lnTo>
                    <a:pt x="33" y="247"/>
                  </a:lnTo>
                  <a:lnTo>
                    <a:pt x="33" y="243"/>
                  </a:lnTo>
                  <a:lnTo>
                    <a:pt x="22" y="250"/>
                  </a:lnTo>
                  <a:lnTo>
                    <a:pt x="18" y="250"/>
                  </a:lnTo>
                  <a:lnTo>
                    <a:pt x="18" y="254"/>
                  </a:lnTo>
                  <a:lnTo>
                    <a:pt x="14" y="261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11" y="261"/>
                  </a:lnTo>
                  <a:lnTo>
                    <a:pt x="11" y="265"/>
                  </a:lnTo>
                  <a:lnTo>
                    <a:pt x="11" y="265"/>
                  </a:lnTo>
                  <a:lnTo>
                    <a:pt x="11" y="272"/>
                  </a:lnTo>
                  <a:lnTo>
                    <a:pt x="14" y="272"/>
                  </a:lnTo>
                  <a:lnTo>
                    <a:pt x="11" y="272"/>
                  </a:lnTo>
                  <a:lnTo>
                    <a:pt x="7" y="279"/>
                  </a:lnTo>
                  <a:lnTo>
                    <a:pt x="4" y="286"/>
                  </a:lnTo>
                  <a:lnTo>
                    <a:pt x="4" y="286"/>
                  </a:lnTo>
                  <a:lnTo>
                    <a:pt x="4" y="286"/>
                  </a:lnTo>
                  <a:lnTo>
                    <a:pt x="4" y="294"/>
                  </a:lnTo>
                  <a:lnTo>
                    <a:pt x="7" y="294"/>
                  </a:lnTo>
                  <a:lnTo>
                    <a:pt x="4" y="294"/>
                  </a:lnTo>
                  <a:lnTo>
                    <a:pt x="0" y="305"/>
                  </a:lnTo>
                  <a:lnTo>
                    <a:pt x="0" y="305"/>
                  </a:lnTo>
                  <a:lnTo>
                    <a:pt x="0" y="305"/>
                  </a:lnTo>
                  <a:lnTo>
                    <a:pt x="0" y="312"/>
                  </a:lnTo>
                  <a:lnTo>
                    <a:pt x="0" y="319"/>
                  </a:lnTo>
                  <a:lnTo>
                    <a:pt x="0" y="323"/>
                  </a:lnTo>
                  <a:lnTo>
                    <a:pt x="0" y="323"/>
                  </a:lnTo>
                  <a:lnTo>
                    <a:pt x="4" y="330"/>
                  </a:lnTo>
                  <a:lnTo>
                    <a:pt x="7" y="326"/>
                  </a:lnTo>
                  <a:lnTo>
                    <a:pt x="4" y="326"/>
                  </a:lnTo>
                  <a:lnTo>
                    <a:pt x="4" y="334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7" y="341"/>
                  </a:lnTo>
                  <a:lnTo>
                    <a:pt x="11" y="337"/>
                  </a:lnTo>
                  <a:lnTo>
                    <a:pt x="7" y="337"/>
                  </a:lnTo>
                  <a:lnTo>
                    <a:pt x="7" y="345"/>
                  </a:lnTo>
                  <a:lnTo>
                    <a:pt x="7" y="348"/>
                  </a:lnTo>
                  <a:lnTo>
                    <a:pt x="7" y="348"/>
                  </a:lnTo>
                  <a:lnTo>
                    <a:pt x="11" y="352"/>
                  </a:lnTo>
                  <a:lnTo>
                    <a:pt x="14" y="348"/>
                  </a:lnTo>
                  <a:lnTo>
                    <a:pt x="11" y="352"/>
                  </a:lnTo>
                  <a:lnTo>
                    <a:pt x="14" y="359"/>
                  </a:lnTo>
                  <a:lnTo>
                    <a:pt x="14" y="359"/>
                  </a:lnTo>
                  <a:lnTo>
                    <a:pt x="14" y="359"/>
                  </a:lnTo>
                  <a:lnTo>
                    <a:pt x="18" y="363"/>
                  </a:lnTo>
                  <a:lnTo>
                    <a:pt x="22" y="359"/>
                  </a:lnTo>
                  <a:lnTo>
                    <a:pt x="18" y="363"/>
                  </a:lnTo>
                  <a:lnTo>
                    <a:pt x="25" y="374"/>
                  </a:lnTo>
                  <a:lnTo>
                    <a:pt x="25" y="374"/>
                  </a:lnTo>
                  <a:lnTo>
                    <a:pt x="29" y="377"/>
                  </a:lnTo>
                  <a:lnTo>
                    <a:pt x="40" y="384"/>
                  </a:lnTo>
                  <a:lnTo>
                    <a:pt x="51" y="388"/>
                  </a:lnTo>
                  <a:lnTo>
                    <a:pt x="62" y="392"/>
                  </a:lnTo>
                  <a:lnTo>
                    <a:pt x="72" y="395"/>
                  </a:lnTo>
                  <a:lnTo>
                    <a:pt x="83" y="399"/>
                  </a:lnTo>
                  <a:lnTo>
                    <a:pt x="83" y="399"/>
                  </a:lnTo>
                  <a:lnTo>
                    <a:pt x="83" y="399"/>
                  </a:lnTo>
                  <a:lnTo>
                    <a:pt x="98" y="399"/>
                  </a:lnTo>
                  <a:lnTo>
                    <a:pt x="109" y="399"/>
                  </a:lnTo>
                  <a:lnTo>
                    <a:pt x="109" y="399"/>
                  </a:lnTo>
                  <a:lnTo>
                    <a:pt x="112" y="399"/>
                  </a:lnTo>
                  <a:lnTo>
                    <a:pt x="120" y="395"/>
                  </a:lnTo>
                  <a:lnTo>
                    <a:pt x="130" y="392"/>
                  </a:lnTo>
                  <a:lnTo>
                    <a:pt x="138" y="388"/>
                  </a:lnTo>
                  <a:lnTo>
                    <a:pt x="138" y="384"/>
                  </a:lnTo>
                  <a:lnTo>
                    <a:pt x="141" y="384"/>
                  </a:lnTo>
                  <a:lnTo>
                    <a:pt x="145" y="377"/>
                  </a:lnTo>
                  <a:lnTo>
                    <a:pt x="138" y="374"/>
                  </a:lnTo>
                  <a:lnTo>
                    <a:pt x="141" y="381"/>
                  </a:lnTo>
                  <a:lnTo>
                    <a:pt x="149" y="377"/>
                  </a:lnTo>
                  <a:lnTo>
                    <a:pt x="156" y="374"/>
                  </a:lnTo>
                  <a:lnTo>
                    <a:pt x="163" y="370"/>
                  </a:lnTo>
                  <a:lnTo>
                    <a:pt x="170" y="366"/>
                  </a:lnTo>
                  <a:lnTo>
                    <a:pt x="167" y="359"/>
                  </a:lnTo>
                  <a:lnTo>
                    <a:pt x="167" y="366"/>
                  </a:lnTo>
                  <a:lnTo>
                    <a:pt x="174" y="366"/>
                  </a:lnTo>
                  <a:lnTo>
                    <a:pt x="185" y="366"/>
                  </a:lnTo>
                  <a:lnTo>
                    <a:pt x="185" y="359"/>
                  </a:lnTo>
                  <a:lnTo>
                    <a:pt x="185" y="366"/>
                  </a:lnTo>
                  <a:lnTo>
                    <a:pt x="192" y="370"/>
                  </a:lnTo>
                  <a:lnTo>
                    <a:pt x="192" y="370"/>
                  </a:lnTo>
                  <a:lnTo>
                    <a:pt x="192" y="370"/>
                  </a:lnTo>
                  <a:lnTo>
                    <a:pt x="199" y="370"/>
                  </a:lnTo>
                  <a:lnTo>
                    <a:pt x="199" y="363"/>
                  </a:lnTo>
                  <a:lnTo>
                    <a:pt x="199" y="370"/>
                  </a:lnTo>
                  <a:lnTo>
                    <a:pt x="210" y="374"/>
                  </a:lnTo>
                  <a:lnTo>
                    <a:pt x="217" y="377"/>
                  </a:lnTo>
                  <a:lnTo>
                    <a:pt x="217" y="370"/>
                  </a:lnTo>
                  <a:lnTo>
                    <a:pt x="214" y="374"/>
                  </a:lnTo>
                  <a:lnTo>
                    <a:pt x="217" y="377"/>
                  </a:lnTo>
                  <a:lnTo>
                    <a:pt x="225" y="384"/>
                  </a:lnTo>
                  <a:lnTo>
                    <a:pt x="228" y="381"/>
                  </a:lnTo>
                  <a:lnTo>
                    <a:pt x="225" y="384"/>
                  </a:lnTo>
                  <a:lnTo>
                    <a:pt x="228" y="392"/>
                  </a:lnTo>
                  <a:lnTo>
                    <a:pt x="228" y="392"/>
                  </a:lnTo>
                  <a:lnTo>
                    <a:pt x="232" y="395"/>
                  </a:lnTo>
                  <a:lnTo>
                    <a:pt x="239" y="399"/>
                  </a:lnTo>
                  <a:lnTo>
                    <a:pt x="239" y="392"/>
                  </a:lnTo>
                  <a:lnTo>
                    <a:pt x="236" y="392"/>
                  </a:lnTo>
                  <a:lnTo>
                    <a:pt x="236" y="399"/>
                  </a:lnTo>
                  <a:lnTo>
                    <a:pt x="236" y="403"/>
                  </a:lnTo>
                  <a:lnTo>
                    <a:pt x="236" y="403"/>
                  </a:lnTo>
                  <a:lnTo>
                    <a:pt x="239" y="410"/>
                  </a:lnTo>
                  <a:lnTo>
                    <a:pt x="243" y="406"/>
                  </a:lnTo>
                  <a:lnTo>
                    <a:pt x="239" y="406"/>
                  </a:lnTo>
                  <a:lnTo>
                    <a:pt x="236" y="424"/>
                  </a:lnTo>
                  <a:lnTo>
                    <a:pt x="236" y="446"/>
                  </a:lnTo>
                  <a:lnTo>
                    <a:pt x="232" y="471"/>
                  </a:lnTo>
                  <a:lnTo>
                    <a:pt x="232" y="501"/>
                  </a:lnTo>
                  <a:lnTo>
                    <a:pt x="228" y="533"/>
                  </a:lnTo>
                  <a:lnTo>
                    <a:pt x="228" y="562"/>
                  </a:lnTo>
                  <a:lnTo>
                    <a:pt x="228" y="566"/>
                  </a:lnTo>
                  <a:lnTo>
                    <a:pt x="228" y="566"/>
                  </a:lnTo>
                  <a:lnTo>
                    <a:pt x="232" y="580"/>
                  </a:lnTo>
                  <a:lnTo>
                    <a:pt x="236" y="577"/>
                  </a:lnTo>
                  <a:lnTo>
                    <a:pt x="232" y="577"/>
                  </a:lnTo>
                  <a:lnTo>
                    <a:pt x="232" y="591"/>
                  </a:lnTo>
                  <a:lnTo>
                    <a:pt x="232" y="595"/>
                  </a:lnTo>
                  <a:lnTo>
                    <a:pt x="232" y="595"/>
                  </a:lnTo>
                  <a:lnTo>
                    <a:pt x="236" y="606"/>
                  </a:lnTo>
                  <a:lnTo>
                    <a:pt x="239" y="620"/>
                  </a:lnTo>
                  <a:lnTo>
                    <a:pt x="239" y="620"/>
                  </a:lnTo>
                  <a:lnTo>
                    <a:pt x="239" y="620"/>
                  </a:lnTo>
                  <a:lnTo>
                    <a:pt x="243" y="624"/>
                  </a:lnTo>
                  <a:lnTo>
                    <a:pt x="246" y="627"/>
                  </a:lnTo>
                  <a:lnTo>
                    <a:pt x="246" y="627"/>
                  </a:lnTo>
                  <a:lnTo>
                    <a:pt x="257" y="627"/>
                  </a:lnTo>
                  <a:lnTo>
                    <a:pt x="257" y="620"/>
                  </a:lnTo>
                  <a:lnTo>
                    <a:pt x="257" y="627"/>
                  </a:lnTo>
                  <a:lnTo>
                    <a:pt x="268" y="631"/>
                  </a:lnTo>
                  <a:lnTo>
                    <a:pt x="268" y="631"/>
                  </a:lnTo>
                  <a:lnTo>
                    <a:pt x="268" y="631"/>
                  </a:lnTo>
                  <a:lnTo>
                    <a:pt x="279" y="631"/>
                  </a:lnTo>
                  <a:lnTo>
                    <a:pt x="308" y="631"/>
                  </a:lnTo>
                  <a:lnTo>
                    <a:pt x="337" y="631"/>
                  </a:lnTo>
                  <a:lnTo>
                    <a:pt x="373" y="627"/>
                  </a:lnTo>
                  <a:lnTo>
                    <a:pt x="406" y="627"/>
                  </a:lnTo>
                  <a:lnTo>
                    <a:pt x="442" y="624"/>
                  </a:lnTo>
                  <a:lnTo>
                    <a:pt x="475" y="624"/>
                  </a:lnTo>
                  <a:lnTo>
                    <a:pt x="482" y="624"/>
                  </a:lnTo>
                  <a:close/>
                  <a:moveTo>
                    <a:pt x="475" y="613"/>
                  </a:moveTo>
                  <a:lnTo>
                    <a:pt x="442" y="613"/>
                  </a:lnTo>
                  <a:lnTo>
                    <a:pt x="406" y="617"/>
                  </a:lnTo>
                  <a:lnTo>
                    <a:pt x="373" y="617"/>
                  </a:lnTo>
                  <a:lnTo>
                    <a:pt x="337" y="620"/>
                  </a:lnTo>
                  <a:lnTo>
                    <a:pt x="308" y="620"/>
                  </a:lnTo>
                  <a:lnTo>
                    <a:pt x="279" y="620"/>
                  </a:lnTo>
                  <a:lnTo>
                    <a:pt x="268" y="620"/>
                  </a:lnTo>
                  <a:lnTo>
                    <a:pt x="268" y="624"/>
                  </a:lnTo>
                  <a:lnTo>
                    <a:pt x="272" y="620"/>
                  </a:lnTo>
                  <a:lnTo>
                    <a:pt x="261" y="617"/>
                  </a:lnTo>
                  <a:lnTo>
                    <a:pt x="261" y="617"/>
                  </a:lnTo>
                  <a:lnTo>
                    <a:pt x="257" y="617"/>
                  </a:lnTo>
                  <a:lnTo>
                    <a:pt x="246" y="617"/>
                  </a:lnTo>
                  <a:lnTo>
                    <a:pt x="246" y="620"/>
                  </a:lnTo>
                  <a:lnTo>
                    <a:pt x="250" y="617"/>
                  </a:lnTo>
                  <a:lnTo>
                    <a:pt x="246" y="613"/>
                  </a:lnTo>
                  <a:lnTo>
                    <a:pt x="243" y="617"/>
                  </a:lnTo>
                  <a:lnTo>
                    <a:pt x="250" y="617"/>
                  </a:lnTo>
                  <a:lnTo>
                    <a:pt x="246" y="602"/>
                  </a:lnTo>
                  <a:lnTo>
                    <a:pt x="243" y="591"/>
                  </a:lnTo>
                  <a:lnTo>
                    <a:pt x="236" y="591"/>
                  </a:lnTo>
                  <a:lnTo>
                    <a:pt x="243" y="591"/>
                  </a:lnTo>
                  <a:lnTo>
                    <a:pt x="243" y="577"/>
                  </a:lnTo>
                  <a:lnTo>
                    <a:pt x="243" y="577"/>
                  </a:lnTo>
                  <a:lnTo>
                    <a:pt x="243" y="577"/>
                  </a:lnTo>
                  <a:lnTo>
                    <a:pt x="239" y="562"/>
                  </a:lnTo>
                  <a:lnTo>
                    <a:pt x="232" y="562"/>
                  </a:lnTo>
                  <a:lnTo>
                    <a:pt x="239" y="562"/>
                  </a:lnTo>
                  <a:lnTo>
                    <a:pt x="239" y="533"/>
                  </a:lnTo>
                  <a:lnTo>
                    <a:pt x="243" y="501"/>
                  </a:lnTo>
                  <a:lnTo>
                    <a:pt x="243" y="471"/>
                  </a:lnTo>
                  <a:lnTo>
                    <a:pt x="246" y="446"/>
                  </a:lnTo>
                  <a:lnTo>
                    <a:pt x="246" y="424"/>
                  </a:lnTo>
                  <a:lnTo>
                    <a:pt x="250" y="406"/>
                  </a:lnTo>
                  <a:lnTo>
                    <a:pt x="250" y="406"/>
                  </a:lnTo>
                  <a:lnTo>
                    <a:pt x="250" y="406"/>
                  </a:lnTo>
                  <a:lnTo>
                    <a:pt x="246" y="399"/>
                  </a:lnTo>
                  <a:lnTo>
                    <a:pt x="239" y="399"/>
                  </a:lnTo>
                  <a:lnTo>
                    <a:pt x="246" y="399"/>
                  </a:lnTo>
                  <a:lnTo>
                    <a:pt x="246" y="392"/>
                  </a:lnTo>
                  <a:lnTo>
                    <a:pt x="246" y="388"/>
                  </a:lnTo>
                  <a:lnTo>
                    <a:pt x="243" y="388"/>
                  </a:lnTo>
                  <a:lnTo>
                    <a:pt x="236" y="384"/>
                  </a:lnTo>
                  <a:lnTo>
                    <a:pt x="232" y="388"/>
                  </a:lnTo>
                  <a:lnTo>
                    <a:pt x="239" y="388"/>
                  </a:lnTo>
                  <a:lnTo>
                    <a:pt x="236" y="381"/>
                  </a:lnTo>
                  <a:lnTo>
                    <a:pt x="236" y="381"/>
                  </a:lnTo>
                  <a:lnTo>
                    <a:pt x="232" y="377"/>
                  </a:lnTo>
                  <a:lnTo>
                    <a:pt x="225" y="370"/>
                  </a:lnTo>
                  <a:lnTo>
                    <a:pt x="221" y="366"/>
                  </a:lnTo>
                  <a:lnTo>
                    <a:pt x="221" y="366"/>
                  </a:lnTo>
                  <a:lnTo>
                    <a:pt x="221" y="366"/>
                  </a:lnTo>
                  <a:lnTo>
                    <a:pt x="214" y="363"/>
                  </a:lnTo>
                  <a:lnTo>
                    <a:pt x="203" y="359"/>
                  </a:lnTo>
                  <a:lnTo>
                    <a:pt x="203" y="359"/>
                  </a:lnTo>
                  <a:lnTo>
                    <a:pt x="199" y="359"/>
                  </a:lnTo>
                  <a:lnTo>
                    <a:pt x="192" y="359"/>
                  </a:lnTo>
                  <a:lnTo>
                    <a:pt x="192" y="363"/>
                  </a:lnTo>
                  <a:lnTo>
                    <a:pt x="196" y="359"/>
                  </a:lnTo>
                  <a:lnTo>
                    <a:pt x="188" y="355"/>
                  </a:lnTo>
                  <a:lnTo>
                    <a:pt x="188" y="355"/>
                  </a:lnTo>
                  <a:lnTo>
                    <a:pt x="185" y="355"/>
                  </a:lnTo>
                  <a:lnTo>
                    <a:pt x="174" y="355"/>
                  </a:lnTo>
                  <a:lnTo>
                    <a:pt x="167" y="355"/>
                  </a:lnTo>
                  <a:lnTo>
                    <a:pt x="167" y="355"/>
                  </a:lnTo>
                  <a:lnTo>
                    <a:pt x="167" y="355"/>
                  </a:lnTo>
                  <a:lnTo>
                    <a:pt x="159" y="359"/>
                  </a:lnTo>
                  <a:lnTo>
                    <a:pt x="152" y="363"/>
                  </a:lnTo>
                  <a:lnTo>
                    <a:pt x="145" y="366"/>
                  </a:lnTo>
                  <a:lnTo>
                    <a:pt x="138" y="370"/>
                  </a:lnTo>
                  <a:lnTo>
                    <a:pt x="134" y="370"/>
                  </a:lnTo>
                  <a:lnTo>
                    <a:pt x="134" y="374"/>
                  </a:lnTo>
                  <a:lnTo>
                    <a:pt x="130" y="381"/>
                  </a:lnTo>
                  <a:lnTo>
                    <a:pt x="134" y="381"/>
                  </a:lnTo>
                  <a:lnTo>
                    <a:pt x="134" y="377"/>
                  </a:lnTo>
                  <a:lnTo>
                    <a:pt x="127" y="381"/>
                  </a:lnTo>
                  <a:lnTo>
                    <a:pt x="116" y="384"/>
                  </a:lnTo>
                  <a:lnTo>
                    <a:pt x="109" y="388"/>
                  </a:lnTo>
                  <a:lnTo>
                    <a:pt x="109" y="392"/>
                  </a:lnTo>
                  <a:lnTo>
                    <a:pt x="109" y="388"/>
                  </a:lnTo>
                  <a:lnTo>
                    <a:pt x="98" y="388"/>
                  </a:lnTo>
                  <a:lnTo>
                    <a:pt x="83" y="388"/>
                  </a:lnTo>
                  <a:lnTo>
                    <a:pt x="83" y="392"/>
                  </a:lnTo>
                  <a:lnTo>
                    <a:pt x="87" y="388"/>
                  </a:lnTo>
                  <a:lnTo>
                    <a:pt x="76" y="384"/>
                  </a:lnTo>
                  <a:lnTo>
                    <a:pt x="65" y="381"/>
                  </a:lnTo>
                  <a:lnTo>
                    <a:pt x="54" y="377"/>
                  </a:lnTo>
                  <a:lnTo>
                    <a:pt x="43" y="374"/>
                  </a:lnTo>
                  <a:lnTo>
                    <a:pt x="33" y="366"/>
                  </a:lnTo>
                  <a:lnTo>
                    <a:pt x="29" y="370"/>
                  </a:lnTo>
                  <a:lnTo>
                    <a:pt x="36" y="370"/>
                  </a:lnTo>
                  <a:lnTo>
                    <a:pt x="29" y="359"/>
                  </a:lnTo>
                  <a:lnTo>
                    <a:pt x="29" y="359"/>
                  </a:lnTo>
                  <a:lnTo>
                    <a:pt x="25" y="355"/>
                  </a:lnTo>
                  <a:lnTo>
                    <a:pt x="22" y="352"/>
                  </a:lnTo>
                  <a:lnTo>
                    <a:pt x="18" y="355"/>
                  </a:lnTo>
                  <a:lnTo>
                    <a:pt x="25" y="355"/>
                  </a:lnTo>
                  <a:lnTo>
                    <a:pt x="22" y="348"/>
                  </a:lnTo>
                  <a:lnTo>
                    <a:pt x="22" y="348"/>
                  </a:lnTo>
                  <a:lnTo>
                    <a:pt x="18" y="345"/>
                  </a:lnTo>
                  <a:lnTo>
                    <a:pt x="14" y="341"/>
                  </a:lnTo>
                  <a:lnTo>
                    <a:pt x="11" y="345"/>
                  </a:lnTo>
                  <a:lnTo>
                    <a:pt x="18" y="345"/>
                  </a:lnTo>
                  <a:lnTo>
                    <a:pt x="18" y="337"/>
                  </a:lnTo>
                  <a:lnTo>
                    <a:pt x="18" y="337"/>
                  </a:lnTo>
                  <a:lnTo>
                    <a:pt x="14" y="334"/>
                  </a:lnTo>
                  <a:lnTo>
                    <a:pt x="11" y="330"/>
                  </a:lnTo>
                  <a:lnTo>
                    <a:pt x="7" y="334"/>
                  </a:lnTo>
                  <a:lnTo>
                    <a:pt x="14" y="334"/>
                  </a:lnTo>
                  <a:lnTo>
                    <a:pt x="14" y="326"/>
                  </a:lnTo>
                  <a:lnTo>
                    <a:pt x="14" y="326"/>
                  </a:lnTo>
                  <a:lnTo>
                    <a:pt x="14" y="326"/>
                  </a:lnTo>
                  <a:lnTo>
                    <a:pt x="11" y="319"/>
                  </a:lnTo>
                  <a:lnTo>
                    <a:pt x="4" y="319"/>
                  </a:lnTo>
                  <a:lnTo>
                    <a:pt x="11" y="319"/>
                  </a:lnTo>
                  <a:lnTo>
                    <a:pt x="11" y="312"/>
                  </a:lnTo>
                  <a:lnTo>
                    <a:pt x="11" y="305"/>
                  </a:lnTo>
                  <a:lnTo>
                    <a:pt x="4" y="305"/>
                  </a:lnTo>
                  <a:lnTo>
                    <a:pt x="11" y="308"/>
                  </a:lnTo>
                  <a:lnTo>
                    <a:pt x="14" y="297"/>
                  </a:lnTo>
                  <a:lnTo>
                    <a:pt x="14" y="297"/>
                  </a:lnTo>
                  <a:lnTo>
                    <a:pt x="14" y="294"/>
                  </a:lnTo>
                  <a:lnTo>
                    <a:pt x="14" y="286"/>
                  </a:lnTo>
                  <a:lnTo>
                    <a:pt x="7" y="286"/>
                  </a:lnTo>
                  <a:lnTo>
                    <a:pt x="14" y="290"/>
                  </a:lnTo>
                  <a:lnTo>
                    <a:pt x="18" y="283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22" y="272"/>
                  </a:lnTo>
                  <a:lnTo>
                    <a:pt x="22" y="265"/>
                  </a:lnTo>
                  <a:lnTo>
                    <a:pt x="14" y="265"/>
                  </a:lnTo>
                  <a:lnTo>
                    <a:pt x="18" y="268"/>
                  </a:lnTo>
                  <a:lnTo>
                    <a:pt x="22" y="265"/>
                  </a:lnTo>
                  <a:lnTo>
                    <a:pt x="25" y="265"/>
                  </a:lnTo>
                  <a:lnTo>
                    <a:pt x="25" y="265"/>
                  </a:lnTo>
                  <a:lnTo>
                    <a:pt x="29" y="257"/>
                  </a:lnTo>
                  <a:lnTo>
                    <a:pt x="22" y="254"/>
                  </a:lnTo>
                  <a:lnTo>
                    <a:pt x="25" y="261"/>
                  </a:lnTo>
                  <a:lnTo>
                    <a:pt x="36" y="254"/>
                  </a:lnTo>
                  <a:lnTo>
                    <a:pt x="36" y="254"/>
                  </a:lnTo>
                  <a:lnTo>
                    <a:pt x="36" y="250"/>
                  </a:lnTo>
                  <a:lnTo>
                    <a:pt x="47" y="239"/>
                  </a:lnTo>
                  <a:lnTo>
                    <a:pt x="43" y="236"/>
                  </a:lnTo>
                  <a:lnTo>
                    <a:pt x="47" y="243"/>
                  </a:lnTo>
                  <a:lnTo>
                    <a:pt x="58" y="236"/>
                  </a:lnTo>
                  <a:lnTo>
                    <a:pt x="69" y="232"/>
                  </a:lnTo>
                  <a:lnTo>
                    <a:pt x="80" y="228"/>
                  </a:lnTo>
                  <a:lnTo>
                    <a:pt x="76" y="221"/>
                  </a:lnTo>
                  <a:lnTo>
                    <a:pt x="76" y="228"/>
                  </a:lnTo>
                  <a:lnTo>
                    <a:pt x="91" y="228"/>
                  </a:lnTo>
                  <a:lnTo>
                    <a:pt x="101" y="228"/>
                  </a:lnTo>
                  <a:lnTo>
                    <a:pt x="112" y="228"/>
                  </a:lnTo>
                  <a:lnTo>
                    <a:pt x="112" y="221"/>
                  </a:lnTo>
                  <a:lnTo>
                    <a:pt x="112" y="228"/>
                  </a:lnTo>
                  <a:lnTo>
                    <a:pt x="123" y="232"/>
                  </a:lnTo>
                  <a:lnTo>
                    <a:pt x="134" y="236"/>
                  </a:lnTo>
                  <a:lnTo>
                    <a:pt x="145" y="243"/>
                  </a:lnTo>
                  <a:lnTo>
                    <a:pt x="152" y="247"/>
                  </a:lnTo>
                  <a:lnTo>
                    <a:pt x="152" y="239"/>
                  </a:lnTo>
                  <a:lnTo>
                    <a:pt x="149" y="243"/>
                  </a:lnTo>
                  <a:lnTo>
                    <a:pt x="152" y="250"/>
                  </a:lnTo>
                  <a:lnTo>
                    <a:pt x="152" y="250"/>
                  </a:lnTo>
                  <a:lnTo>
                    <a:pt x="152" y="250"/>
                  </a:lnTo>
                  <a:lnTo>
                    <a:pt x="156" y="254"/>
                  </a:lnTo>
                  <a:lnTo>
                    <a:pt x="159" y="257"/>
                  </a:lnTo>
                  <a:lnTo>
                    <a:pt x="159" y="257"/>
                  </a:lnTo>
                  <a:lnTo>
                    <a:pt x="167" y="261"/>
                  </a:lnTo>
                  <a:lnTo>
                    <a:pt x="174" y="265"/>
                  </a:lnTo>
                  <a:lnTo>
                    <a:pt x="174" y="265"/>
                  </a:lnTo>
                  <a:lnTo>
                    <a:pt x="174" y="265"/>
                  </a:lnTo>
                  <a:lnTo>
                    <a:pt x="181" y="265"/>
                  </a:lnTo>
                  <a:lnTo>
                    <a:pt x="181" y="257"/>
                  </a:lnTo>
                  <a:lnTo>
                    <a:pt x="181" y="265"/>
                  </a:lnTo>
                  <a:lnTo>
                    <a:pt x="188" y="268"/>
                  </a:lnTo>
                  <a:lnTo>
                    <a:pt x="188" y="268"/>
                  </a:lnTo>
                  <a:lnTo>
                    <a:pt x="188" y="268"/>
                  </a:lnTo>
                  <a:lnTo>
                    <a:pt x="196" y="268"/>
                  </a:lnTo>
                  <a:lnTo>
                    <a:pt x="203" y="268"/>
                  </a:lnTo>
                  <a:lnTo>
                    <a:pt x="210" y="268"/>
                  </a:lnTo>
                  <a:lnTo>
                    <a:pt x="217" y="268"/>
                  </a:lnTo>
                  <a:lnTo>
                    <a:pt x="225" y="268"/>
                  </a:lnTo>
                  <a:lnTo>
                    <a:pt x="228" y="268"/>
                  </a:lnTo>
                  <a:lnTo>
                    <a:pt x="228" y="268"/>
                  </a:lnTo>
                  <a:lnTo>
                    <a:pt x="236" y="265"/>
                  </a:lnTo>
                  <a:lnTo>
                    <a:pt x="246" y="261"/>
                  </a:lnTo>
                  <a:lnTo>
                    <a:pt x="246" y="261"/>
                  </a:lnTo>
                  <a:lnTo>
                    <a:pt x="246" y="257"/>
                  </a:lnTo>
                  <a:lnTo>
                    <a:pt x="250" y="254"/>
                  </a:lnTo>
                  <a:lnTo>
                    <a:pt x="246" y="250"/>
                  </a:lnTo>
                  <a:lnTo>
                    <a:pt x="250" y="257"/>
                  </a:lnTo>
                  <a:lnTo>
                    <a:pt x="261" y="254"/>
                  </a:lnTo>
                  <a:lnTo>
                    <a:pt x="261" y="250"/>
                  </a:lnTo>
                  <a:lnTo>
                    <a:pt x="265" y="250"/>
                  </a:lnTo>
                  <a:lnTo>
                    <a:pt x="268" y="243"/>
                  </a:lnTo>
                  <a:lnTo>
                    <a:pt x="261" y="239"/>
                  </a:lnTo>
                  <a:lnTo>
                    <a:pt x="261" y="247"/>
                  </a:lnTo>
                  <a:lnTo>
                    <a:pt x="265" y="247"/>
                  </a:lnTo>
                  <a:lnTo>
                    <a:pt x="268" y="247"/>
                  </a:lnTo>
                  <a:lnTo>
                    <a:pt x="268" y="243"/>
                  </a:lnTo>
                  <a:lnTo>
                    <a:pt x="272" y="239"/>
                  </a:lnTo>
                  <a:lnTo>
                    <a:pt x="275" y="239"/>
                  </a:lnTo>
                  <a:lnTo>
                    <a:pt x="275" y="236"/>
                  </a:lnTo>
                  <a:lnTo>
                    <a:pt x="275" y="228"/>
                  </a:lnTo>
                  <a:lnTo>
                    <a:pt x="268" y="228"/>
                  </a:lnTo>
                  <a:lnTo>
                    <a:pt x="272" y="232"/>
                  </a:lnTo>
                  <a:lnTo>
                    <a:pt x="275" y="228"/>
                  </a:lnTo>
                  <a:lnTo>
                    <a:pt x="279" y="228"/>
                  </a:lnTo>
                  <a:lnTo>
                    <a:pt x="279" y="228"/>
                  </a:lnTo>
                  <a:lnTo>
                    <a:pt x="283" y="218"/>
                  </a:lnTo>
                  <a:lnTo>
                    <a:pt x="283" y="218"/>
                  </a:lnTo>
                  <a:lnTo>
                    <a:pt x="283" y="214"/>
                  </a:lnTo>
                  <a:lnTo>
                    <a:pt x="283" y="203"/>
                  </a:lnTo>
                  <a:lnTo>
                    <a:pt x="283" y="189"/>
                  </a:lnTo>
                  <a:lnTo>
                    <a:pt x="283" y="174"/>
                  </a:lnTo>
                  <a:lnTo>
                    <a:pt x="279" y="156"/>
                  </a:lnTo>
                  <a:lnTo>
                    <a:pt x="279" y="141"/>
                  </a:lnTo>
                  <a:lnTo>
                    <a:pt x="279" y="141"/>
                  </a:lnTo>
                  <a:lnTo>
                    <a:pt x="279" y="141"/>
                  </a:lnTo>
                  <a:lnTo>
                    <a:pt x="272" y="109"/>
                  </a:lnTo>
                  <a:lnTo>
                    <a:pt x="265" y="76"/>
                  </a:lnTo>
                  <a:lnTo>
                    <a:pt x="254" y="51"/>
                  </a:lnTo>
                  <a:lnTo>
                    <a:pt x="246" y="51"/>
                  </a:lnTo>
                  <a:lnTo>
                    <a:pt x="254" y="51"/>
                  </a:lnTo>
                  <a:lnTo>
                    <a:pt x="250" y="29"/>
                  </a:lnTo>
                  <a:lnTo>
                    <a:pt x="243" y="29"/>
                  </a:lnTo>
                  <a:lnTo>
                    <a:pt x="243" y="36"/>
                  </a:lnTo>
                  <a:lnTo>
                    <a:pt x="261" y="33"/>
                  </a:lnTo>
                  <a:lnTo>
                    <a:pt x="286" y="29"/>
                  </a:lnTo>
                  <a:lnTo>
                    <a:pt x="315" y="25"/>
                  </a:lnTo>
                  <a:lnTo>
                    <a:pt x="348" y="25"/>
                  </a:lnTo>
                  <a:lnTo>
                    <a:pt x="377" y="22"/>
                  </a:lnTo>
                  <a:lnTo>
                    <a:pt x="406" y="22"/>
                  </a:lnTo>
                  <a:lnTo>
                    <a:pt x="431" y="25"/>
                  </a:lnTo>
                  <a:lnTo>
                    <a:pt x="449" y="25"/>
                  </a:lnTo>
                  <a:lnTo>
                    <a:pt x="468" y="29"/>
                  </a:lnTo>
                  <a:lnTo>
                    <a:pt x="468" y="22"/>
                  </a:lnTo>
                  <a:lnTo>
                    <a:pt x="468" y="29"/>
                  </a:lnTo>
                  <a:lnTo>
                    <a:pt x="482" y="36"/>
                  </a:lnTo>
                  <a:lnTo>
                    <a:pt x="493" y="40"/>
                  </a:lnTo>
                  <a:lnTo>
                    <a:pt x="504" y="47"/>
                  </a:lnTo>
                  <a:lnTo>
                    <a:pt x="515" y="51"/>
                  </a:lnTo>
                  <a:lnTo>
                    <a:pt x="515" y="43"/>
                  </a:lnTo>
                  <a:lnTo>
                    <a:pt x="511" y="47"/>
                  </a:lnTo>
                  <a:lnTo>
                    <a:pt x="518" y="54"/>
                  </a:lnTo>
                  <a:lnTo>
                    <a:pt x="522" y="51"/>
                  </a:lnTo>
                  <a:lnTo>
                    <a:pt x="518" y="54"/>
                  </a:lnTo>
                  <a:lnTo>
                    <a:pt x="522" y="62"/>
                  </a:lnTo>
                  <a:lnTo>
                    <a:pt x="526" y="69"/>
                  </a:lnTo>
                  <a:lnTo>
                    <a:pt x="529" y="76"/>
                  </a:lnTo>
                  <a:lnTo>
                    <a:pt x="533" y="72"/>
                  </a:lnTo>
                  <a:lnTo>
                    <a:pt x="529" y="72"/>
                  </a:lnTo>
                  <a:lnTo>
                    <a:pt x="529" y="80"/>
                  </a:lnTo>
                  <a:lnTo>
                    <a:pt x="529" y="87"/>
                  </a:lnTo>
                  <a:lnTo>
                    <a:pt x="533" y="87"/>
                  </a:lnTo>
                  <a:lnTo>
                    <a:pt x="529" y="87"/>
                  </a:lnTo>
                  <a:lnTo>
                    <a:pt x="526" y="94"/>
                  </a:lnTo>
                  <a:lnTo>
                    <a:pt x="522" y="102"/>
                  </a:lnTo>
                  <a:lnTo>
                    <a:pt x="518" y="109"/>
                  </a:lnTo>
                  <a:lnTo>
                    <a:pt x="515" y="116"/>
                  </a:lnTo>
                  <a:lnTo>
                    <a:pt x="518" y="116"/>
                  </a:lnTo>
                  <a:lnTo>
                    <a:pt x="515" y="112"/>
                  </a:lnTo>
                  <a:lnTo>
                    <a:pt x="507" y="120"/>
                  </a:lnTo>
                  <a:lnTo>
                    <a:pt x="500" y="127"/>
                  </a:lnTo>
                  <a:lnTo>
                    <a:pt x="500" y="131"/>
                  </a:lnTo>
                  <a:lnTo>
                    <a:pt x="500" y="131"/>
                  </a:lnTo>
                  <a:lnTo>
                    <a:pt x="497" y="141"/>
                  </a:lnTo>
                  <a:lnTo>
                    <a:pt x="500" y="141"/>
                  </a:lnTo>
                  <a:lnTo>
                    <a:pt x="497" y="138"/>
                  </a:lnTo>
                  <a:lnTo>
                    <a:pt x="489" y="145"/>
                  </a:lnTo>
                  <a:lnTo>
                    <a:pt x="489" y="149"/>
                  </a:lnTo>
                  <a:lnTo>
                    <a:pt x="489" y="149"/>
                  </a:lnTo>
                  <a:lnTo>
                    <a:pt x="489" y="163"/>
                  </a:lnTo>
                  <a:lnTo>
                    <a:pt x="493" y="163"/>
                  </a:lnTo>
                  <a:lnTo>
                    <a:pt x="489" y="163"/>
                  </a:lnTo>
                  <a:lnTo>
                    <a:pt x="486" y="174"/>
                  </a:lnTo>
                  <a:lnTo>
                    <a:pt x="482" y="174"/>
                  </a:lnTo>
                  <a:lnTo>
                    <a:pt x="486" y="178"/>
                  </a:lnTo>
                  <a:lnTo>
                    <a:pt x="489" y="189"/>
                  </a:lnTo>
                  <a:lnTo>
                    <a:pt x="493" y="185"/>
                  </a:lnTo>
                  <a:lnTo>
                    <a:pt x="489" y="185"/>
                  </a:lnTo>
                  <a:lnTo>
                    <a:pt x="489" y="199"/>
                  </a:lnTo>
                  <a:lnTo>
                    <a:pt x="489" y="203"/>
                  </a:lnTo>
                  <a:lnTo>
                    <a:pt x="489" y="203"/>
                  </a:lnTo>
                  <a:lnTo>
                    <a:pt x="493" y="214"/>
                  </a:lnTo>
                  <a:lnTo>
                    <a:pt x="497" y="225"/>
                  </a:lnTo>
                  <a:lnTo>
                    <a:pt x="504" y="236"/>
                  </a:lnTo>
                  <a:lnTo>
                    <a:pt x="504" y="236"/>
                  </a:lnTo>
                  <a:lnTo>
                    <a:pt x="504" y="236"/>
                  </a:lnTo>
                  <a:lnTo>
                    <a:pt x="511" y="243"/>
                  </a:lnTo>
                  <a:lnTo>
                    <a:pt x="515" y="247"/>
                  </a:lnTo>
                  <a:lnTo>
                    <a:pt x="515" y="247"/>
                  </a:lnTo>
                  <a:lnTo>
                    <a:pt x="526" y="254"/>
                  </a:lnTo>
                  <a:lnTo>
                    <a:pt x="533" y="257"/>
                  </a:lnTo>
                  <a:lnTo>
                    <a:pt x="533" y="250"/>
                  </a:lnTo>
                  <a:lnTo>
                    <a:pt x="529" y="254"/>
                  </a:lnTo>
                  <a:lnTo>
                    <a:pt x="533" y="257"/>
                  </a:lnTo>
                  <a:lnTo>
                    <a:pt x="536" y="261"/>
                  </a:lnTo>
                  <a:lnTo>
                    <a:pt x="536" y="261"/>
                  </a:lnTo>
                  <a:lnTo>
                    <a:pt x="544" y="265"/>
                  </a:lnTo>
                  <a:lnTo>
                    <a:pt x="551" y="268"/>
                  </a:lnTo>
                  <a:lnTo>
                    <a:pt x="551" y="268"/>
                  </a:lnTo>
                  <a:lnTo>
                    <a:pt x="551" y="268"/>
                  </a:lnTo>
                  <a:lnTo>
                    <a:pt x="558" y="268"/>
                  </a:lnTo>
                  <a:lnTo>
                    <a:pt x="558" y="261"/>
                  </a:lnTo>
                  <a:lnTo>
                    <a:pt x="558" y="268"/>
                  </a:lnTo>
                  <a:lnTo>
                    <a:pt x="566" y="272"/>
                  </a:lnTo>
                  <a:lnTo>
                    <a:pt x="566" y="272"/>
                  </a:lnTo>
                  <a:lnTo>
                    <a:pt x="566" y="272"/>
                  </a:lnTo>
                  <a:lnTo>
                    <a:pt x="573" y="272"/>
                  </a:lnTo>
                  <a:lnTo>
                    <a:pt x="580" y="272"/>
                  </a:lnTo>
                  <a:lnTo>
                    <a:pt x="595" y="268"/>
                  </a:lnTo>
                  <a:lnTo>
                    <a:pt x="609" y="265"/>
                  </a:lnTo>
                  <a:lnTo>
                    <a:pt x="624" y="261"/>
                  </a:lnTo>
                  <a:lnTo>
                    <a:pt x="627" y="257"/>
                  </a:lnTo>
                  <a:lnTo>
                    <a:pt x="627" y="261"/>
                  </a:lnTo>
                  <a:lnTo>
                    <a:pt x="638" y="254"/>
                  </a:lnTo>
                  <a:lnTo>
                    <a:pt x="649" y="247"/>
                  </a:lnTo>
                  <a:lnTo>
                    <a:pt x="649" y="247"/>
                  </a:lnTo>
                  <a:lnTo>
                    <a:pt x="649" y="243"/>
                  </a:lnTo>
                  <a:lnTo>
                    <a:pt x="656" y="236"/>
                  </a:lnTo>
                  <a:lnTo>
                    <a:pt x="660" y="236"/>
                  </a:lnTo>
                  <a:lnTo>
                    <a:pt x="660" y="236"/>
                  </a:lnTo>
                  <a:lnTo>
                    <a:pt x="667" y="225"/>
                  </a:lnTo>
                  <a:lnTo>
                    <a:pt x="671" y="214"/>
                  </a:lnTo>
                  <a:lnTo>
                    <a:pt x="663" y="210"/>
                  </a:lnTo>
                  <a:lnTo>
                    <a:pt x="667" y="214"/>
                  </a:lnTo>
                  <a:lnTo>
                    <a:pt x="674" y="207"/>
                  </a:lnTo>
                  <a:lnTo>
                    <a:pt x="678" y="207"/>
                  </a:lnTo>
                  <a:lnTo>
                    <a:pt x="678" y="203"/>
                  </a:lnTo>
                  <a:lnTo>
                    <a:pt x="678" y="192"/>
                  </a:lnTo>
                  <a:lnTo>
                    <a:pt x="678" y="181"/>
                  </a:lnTo>
                  <a:lnTo>
                    <a:pt x="678" y="167"/>
                  </a:lnTo>
                  <a:lnTo>
                    <a:pt x="678" y="167"/>
                  </a:lnTo>
                  <a:lnTo>
                    <a:pt x="678" y="167"/>
                  </a:lnTo>
                  <a:lnTo>
                    <a:pt x="674" y="160"/>
                  </a:lnTo>
                  <a:lnTo>
                    <a:pt x="667" y="145"/>
                  </a:lnTo>
                  <a:lnTo>
                    <a:pt x="663" y="134"/>
                  </a:lnTo>
                  <a:lnTo>
                    <a:pt x="660" y="131"/>
                  </a:lnTo>
                  <a:lnTo>
                    <a:pt x="660" y="131"/>
                  </a:lnTo>
                  <a:lnTo>
                    <a:pt x="649" y="123"/>
                  </a:lnTo>
                  <a:lnTo>
                    <a:pt x="645" y="127"/>
                  </a:lnTo>
                  <a:lnTo>
                    <a:pt x="649" y="123"/>
                  </a:lnTo>
                  <a:lnTo>
                    <a:pt x="642" y="116"/>
                  </a:lnTo>
                  <a:lnTo>
                    <a:pt x="638" y="120"/>
                  </a:lnTo>
                  <a:lnTo>
                    <a:pt x="645" y="120"/>
                  </a:lnTo>
                  <a:lnTo>
                    <a:pt x="638" y="109"/>
                  </a:lnTo>
                  <a:lnTo>
                    <a:pt x="634" y="98"/>
                  </a:lnTo>
                  <a:lnTo>
                    <a:pt x="631" y="87"/>
                  </a:lnTo>
                  <a:lnTo>
                    <a:pt x="627" y="80"/>
                  </a:lnTo>
                  <a:lnTo>
                    <a:pt x="620" y="80"/>
                  </a:lnTo>
                  <a:lnTo>
                    <a:pt x="627" y="80"/>
                  </a:lnTo>
                  <a:lnTo>
                    <a:pt x="627" y="69"/>
                  </a:lnTo>
                  <a:lnTo>
                    <a:pt x="627" y="58"/>
                  </a:lnTo>
                  <a:lnTo>
                    <a:pt x="620" y="58"/>
                  </a:lnTo>
                  <a:lnTo>
                    <a:pt x="627" y="62"/>
                  </a:lnTo>
                  <a:lnTo>
                    <a:pt x="631" y="51"/>
                  </a:lnTo>
                  <a:lnTo>
                    <a:pt x="634" y="43"/>
                  </a:lnTo>
                  <a:lnTo>
                    <a:pt x="634" y="43"/>
                  </a:lnTo>
                  <a:lnTo>
                    <a:pt x="634" y="40"/>
                  </a:lnTo>
                  <a:lnTo>
                    <a:pt x="634" y="29"/>
                  </a:lnTo>
                  <a:lnTo>
                    <a:pt x="627" y="29"/>
                  </a:lnTo>
                  <a:lnTo>
                    <a:pt x="631" y="33"/>
                  </a:lnTo>
                  <a:lnTo>
                    <a:pt x="638" y="25"/>
                  </a:lnTo>
                  <a:lnTo>
                    <a:pt x="642" y="22"/>
                  </a:lnTo>
                  <a:lnTo>
                    <a:pt x="649" y="14"/>
                  </a:lnTo>
                  <a:lnTo>
                    <a:pt x="645" y="11"/>
                  </a:lnTo>
                  <a:lnTo>
                    <a:pt x="649" y="18"/>
                  </a:lnTo>
                  <a:lnTo>
                    <a:pt x="656" y="14"/>
                  </a:lnTo>
                  <a:lnTo>
                    <a:pt x="656" y="14"/>
                  </a:lnTo>
                  <a:lnTo>
                    <a:pt x="656" y="11"/>
                  </a:lnTo>
                  <a:lnTo>
                    <a:pt x="660" y="7"/>
                  </a:lnTo>
                  <a:lnTo>
                    <a:pt x="656" y="4"/>
                  </a:lnTo>
                  <a:lnTo>
                    <a:pt x="656" y="11"/>
                  </a:lnTo>
                  <a:lnTo>
                    <a:pt x="663" y="11"/>
                  </a:lnTo>
                  <a:lnTo>
                    <a:pt x="674" y="11"/>
                  </a:lnTo>
                  <a:lnTo>
                    <a:pt x="689" y="14"/>
                  </a:lnTo>
                  <a:lnTo>
                    <a:pt x="711" y="14"/>
                  </a:lnTo>
                  <a:lnTo>
                    <a:pt x="736" y="18"/>
                  </a:lnTo>
                  <a:lnTo>
                    <a:pt x="761" y="22"/>
                  </a:lnTo>
                  <a:lnTo>
                    <a:pt x="790" y="22"/>
                  </a:lnTo>
                  <a:lnTo>
                    <a:pt x="823" y="25"/>
                  </a:lnTo>
                  <a:lnTo>
                    <a:pt x="856" y="25"/>
                  </a:lnTo>
                  <a:lnTo>
                    <a:pt x="859" y="25"/>
                  </a:lnTo>
                  <a:lnTo>
                    <a:pt x="859" y="18"/>
                  </a:lnTo>
                  <a:lnTo>
                    <a:pt x="856" y="18"/>
                  </a:lnTo>
                  <a:lnTo>
                    <a:pt x="852" y="40"/>
                  </a:lnTo>
                  <a:lnTo>
                    <a:pt x="848" y="62"/>
                  </a:lnTo>
                  <a:lnTo>
                    <a:pt x="845" y="91"/>
                  </a:lnTo>
                  <a:lnTo>
                    <a:pt x="841" y="120"/>
                  </a:lnTo>
                  <a:lnTo>
                    <a:pt x="837" y="149"/>
                  </a:lnTo>
                  <a:lnTo>
                    <a:pt x="837" y="174"/>
                  </a:lnTo>
                  <a:lnTo>
                    <a:pt x="837" y="196"/>
                  </a:lnTo>
                  <a:lnTo>
                    <a:pt x="837" y="207"/>
                  </a:lnTo>
                  <a:lnTo>
                    <a:pt x="837" y="210"/>
                  </a:lnTo>
                  <a:lnTo>
                    <a:pt x="837" y="210"/>
                  </a:lnTo>
                  <a:lnTo>
                    <a:pt x="841" y="218"/>
                  </a:lnTo>
                  <a:lnTo>
                    <a:pt x="845" y="214"/>
                  </a:lnTo>
                  <a:lnTo>
                    <a:pt x="841" y="214"/>
                  </a:lnTo>
                  <a:lnTo>
                    <a:pt x="841" y="221"/>
                  </a:lnTo>
                  <a:lnTo>
                    <a:pt x="841" y="225"/>
                  </a:lnTo>
                  <a:lnTo>
                    <a:pt x="841" y="225"/>
                  </a:lnTo>
                  <a:lnTo>
                    <a:pt x="848" y="232"/>
                  </a:lnTo>
                  <a:lnTo>
                    <a:pt x="852" y="236"/>
                  </a:lnTo>
                  <a:lnTo>
                    <a:pt x="852" y="236"/>
                  </a:lnTo>
                  <a:lnTo>
                    <a:pt x="859" y="239"/>
                  </a:lnTo>
                  <a:lnTo>
                    <a:pt x="859" y="232"/>
                  </a:lnTo>
                  <a:lnTo>
                    <a:pt x="856" y="236"/>
                  </a:lnTo>
                  <a:lnTo>
                    <a:pt x="863" y="243"/>
                  </a:lnTo>
                  <a:lnTo>
                    <a:pt x="866" y="247"/>
                  </a:lnTo>
                  <a:lnTo>
                    <a:pt x="866" y="247"/>
                  </a:lnTo>
                  <a:lnTo>
                    <a:pt x="874" y="247"/>
                  </a:lnTo>
                  <a:lnTo>
                    <a:pt x="874" y="239"/>
                  </a:lnTo>
                  <a:lnTo>
                    <a:pt x="874" y="247"/>
                  </a:lnTo>
                  <a:lnTo>
                    <a:pt x="885" y="250"/>
                  </a:lnTo>
                  <a:lnTo>
                    <a:pt x="895" y="254"/>
                  </a:lnTo>
                  <a:lnTo>
                    <a:pt x="895" y="254"/>
                  </a:lnTo>
                  <a:lnTo>
                    <a:pt x="895" y="254"/>
                  </a:lnTo>
                  <a:lnTo>
                    <a:pt x="903" y="254"/>
                  </a:lnTo>
                  <a:lnTo>
                    <a:pt x="914" y="254"/>
                  </a:lnTo>
                  <a:lnTo>
                    <a:pt x="924" y="254"/>
                  </a:lnTo>
                  <a:lnTo>
                    <a:pt x="935" y="254"/>
                  </a:lnTo>
                  <a:lnTo>
                    <a:pt x="939" y="254"/>
                  </a:lnTo>
                  <a:lnTo>
                    <a:pt x="939" y="254"/>
                  </a:lnTo>
                  <a:lnTo>
                    <a:pt x="946" y="250"/>
                  </a:lnTo>
                  <a:lnTo>
                    <a:pt x="957" y="247"/>
                  </a:lnTo>
                  <a:lnTo>
                    <a:pt x="964" y="243"/>
                  </a:lnTo>
                  <a:lnTo>
                    <a:pt x="964" y="243"/>
                  </a:lnTo>
                  <a:lnTo>
                    <a:pt x="964" y="239"/>
                  </a:lnTo>
                  <a:lnTo>
                    <a:pt x="972" y="232"/>
                  </a:lnTo>
                  <a:lnTo>
                    <a:pt x="968" y="228"/>
                  </a:lnTo>
                  <a:lnTo>
                    <a:pt x="972" y="236"/>
                  </a:lnTo>
                  <a:lnTo>
                    <a:pt x="979" y="232"/>
                  </a:lnTo>
                  <a:lnTo>
                    <a:pt x="986" y="228"/>
                  </a:lnTo>
                  <a:lnTo>
                    <a:pt x="993" y="225"/>
                  </a:lnTo>
                  <a:lnTo>
                    <a:pt x="1004" y="221"/>
                  </a:lnTo>
                  <a:lnTo>
                    <a:pt x="1001" y="214"/>
                  </a:lnTo>
                  <a:lnTo>
                    <a:pt x="1001" y="221"/>
                  </a:lnTo>
                  <a:lnTo>
                    <a:pt x="1011" y="221"/>
                  </a:lnTo>
                  <a:lnTo>
                    <a:pt x="1022" y="221"/>
                  </a:lnTo>
                  <a:lnTo>
                    <a:pt x="1022" y="214"/>
                  </a:lnTo>
                  <a:lnTo>
                    <a:pt x="1022" y="221"/>
                  </a:lnTo>
                  <a:lnTo>
                    <a:pt x="1033" y="225"/>
                  </a:lnTo>
                  <a:lnTo>
                    <a:pt x="1044" y="228"/>
                  </a:lnTo>
                  <a:lnTo>
                    <a:pt x="1055" y="236"/>
                  </a:lnTo>
                  <a:lnTo>
                    <a:pt x="1062" y="239"/>
                  </a:lnTo>
                  <a:lnTo>
                    <a:pt x="1073" y="247"/>
                  </a:lnTo>
                  <a:lnTo>
                    <a:pt x="1073" y="239"/>
                  </a:lnTo>
                  <a:lnTo>
                    <a:pt x="1069" y="243"/>
                  </a:lnTo>
                  <a:lnTo>
                    <a:pt x="1077" y="254"/>
                  </a:lnTo>
                  <a:lnTo>
                    <a:pt x="1080" y="265"/>
                  </a:lnTo>
                  <a:lnTo>
                    <a:pt x="1088" y="276"/>
                  </a:lnTo>
                  <a:lnTo>
                    <a:pt x="1091" y="272"/>
                  </a:lnTo>
                  <a:lnTo>
                    <a:pt x="1088" y="272"/>
                  </a:lnTo>
                  <a:lnTo>
                    <a:pt x="1088" y="286"/>
                  </a:lnTo>
                  <a:lnTo>
                    <a:pt x="1088" y="290"/>
                  </a:lnTo>
                  <a:lnTo>
                    <a:pt x="1088" y="290"/>
                  </a:lnTo>
                  <a:lnTo>
                    <a:pt x="1091" y="305"/>
                  </a:lnTo>
                  <a:lnTo>
                    <a:pt x="1095" y="301"/>
                  </a:lnTo>
                  <a:lnTo>
                    <a:pt x="1091" y="301"/>
                  </a:lnTo>
                  <a:lnTo>
                    <a:pt x="1088" y="308"/>
                  </a:lnTo>
                  <a:lnTo>
                    <a:pt x="1088" y="308"/>
                  </a:lnTo>
                  <a:lnTo>
                    <a:pt x="1088" y="308"/>
                  </a:lnTo>
                  <a:lnTo>
                    <a:pt x="1088" y="319"/>
                  </a:lnTo>
                  <a:lnTo>
                    <a:pt x="1091" y="319"/>
                  </a:lnTo>
                  <a:lnTo>
                    <a:pt x="1088" y="319"/>
                  </a:lnTo>
                  <a:lnTo>
                    <a:pt x="1080" y="330"/>
                  </a:lnTo>
                  <a:lnTo>
                    <a:pt x="1077" y="337"/>
                  </a:lnTo>
                  <a:lnTo>
                    <a:pt x="1080" y="337"/>
                  </a:lnTo>
                  <a:lnTo>
                    <a:pt x="1077" y="334"/>
                  </a:lnTo>
                  <a:lnTo>
                    <a:pt x="1069" y="341"/>
                  </a:lnTo>
                  <a:lnTo>
                    <a:pt x="1073" y="345"/>
                  </a:lnTo>
                  <a:lnTo>
                    <a:pt x="1073" y="341"/>
                  </a:lnTo>
                  <a:lnTo>
                    <a:pt x="1062" y="345"/>
                  </a:lnTo>
                  <a:lnTo>
                    <a:pt x="1062" y="345"/>
                  </a:lnTo>
                  <a:lnTo>
                    <a:pt x="1059" y="345"/>
                  </a:lnTo>
                  <a:lnTo>
                    <a:pt x="1051" y="352"/>
                  </a:lnTo>
                  <a:lnTo>
                    <a:pt x="1055" y="355"/>
                  </a:lnTo>
                  <a:lnTo>
                    <a:pt x="1055" y="352"/>
                  </a:lnTo>
                  <a:lnTo>
                    <a:pt x="1044" y="355"/>
                  </a:lnTo>
                  <a:lnTo>
                    <a:pt x="1033" y="359"/>
                  </a:lnTo>
                  <a:lnTo>
                    <a:pt x="1022" y="363"/>
                  </a:lnTo>
                  <a:lnTo>
                    <a:pt x="1022" y="366"/>
                  </a:lnTo>
                  <a:lnTo>
                    <a:pt x="1022" y="363"/>
                  </a:lnTo>
                  <a:lnTo>
                    <a:pt x="1011" y="363"/>
                  </a:lnTo>
                  <a:lnTo>
                    <a:pt x="1001" y="363"/>
                  </a:lnTo>
                  <a:lnTo>
                    <a:pt x="1001" y="366"/>
                  </a:lnTo>
                  <a:lnTo>
                    <a:pt x="1004" y="363"/>
                  </a:lnTo>
                  <a:lnTo>
                    <a:pt x="993" y="359"/>
                  </a:lnTo>
                  <a:lnTo>
                    <a:pt x="990" y="363"/>
                  </a:lnTo>
                  <a:lnTo>
                    <a:pt x="993" y="359"/>
                  </a:lnTo>
                  <a:lnTo>
                    <a:pt x="986" y="352"/>
                  </a:lnTo>
                  <a:lnTo>
                    <a:pt x="986" y="352"/>
                  </a:lnTo>
                  <a:lnTo>
                    <a:pt x="986" y="352"/>
                  </a:lnTo>
                  <a:lnTo>
                    <a:pt x="979" y="348"/>
                  </a:lnTo>
                  <a:lnTo>
                    <a:pt x="975" y="352"/>
                  </a:lnTo>
                  <a:lnTo>
                    <a:pt x="979" y="348"/>
                  </a:lnTo>
                  <a:lnTo>
                    <a:pt x="972" y="341"/>
                  </a:lnTo>
                  <a:lnTo>
                    <a:pt x="964" y="334"/>
                  </a:lnTo>
                  <a:lnTo>
                    <a:pt x="964" y="334"/>
                  </a:lnTo>
                  <a:lnTo>
                    <a:pt x="964" y="334"/>
                  </a:lnTo>
                  <a:lnTo>
                    <a:pt x="957" y="330"/>
                  </a:lnTo>
                  <a:lnTo>
                    <a:pt x="953" y="334"/>
                  </a:lnTo>
                  <a:lnTo>
                    <a:pt x="957" y="330"/>
                  </a:lnTo>
                  <a:lnTo>
                    <a:pt x="950" y="323"/>
                  </a:lnTo>
                  <a:lnTo>
                    <a:pt x="950" y="323"/>
                  </a:lnTo>
                  <a:lnTo>
                    <a:pt x="946" y="323"/>
                  </a:lnTo>
                  <a:lnTo>
                    <a:pt x="939" y="323"/>
                  </a:lnTo>
                  <a:lnTo>
                    <a:pt x="939" y="326"/>
                  </a:lnTo>
                  <a:lnTo>
                    <a:pt x="943" y="323"/>
                  </a:lnTo>
                  <a:lnTo>
                    <a:pt x="932" y="319"/>
                  </a:lnTo>
                  <a:lnTo>
                    <a:pt x="932" y="319"/>
                  </a:lnTo>
                  <a:lnTo>
                    <a:pt x="928" y="319"/>
                  </a:lnTo>
                  <a:lnTo>
                    <a:pt x="921" y="319"/>
                  </a:lnTo>
                  <a:lnTo>
                    <a:pt x="921" y="319"/>
                  </a:lnTo>
                  <a:lnTo>
                    <a:pt x="921" y="319"/>
                  </a:lnTo>
                  <a:lnTo>
                    <a:pt x="910" y="323"/>
                  </a:lnTo>
                  <a:lnTo>
                    <a:pt x="910" y="326"/>
                  </a:lnTo>
                  <a:lnTo>
                    <a:pt x="910" y="323"/>
                  </a:lnTo>
                  <a:lnTo>
                    <a:pt x="903" y="323"/>
                  </a:lnTo>
                  <a:lnTo>
                    <a:pt x="903" y="323"/>
                  </a:lnTo>
                  <a:lnTo>
                    <a:pt x="903" y="323"/>
                  </a:lnTo>
                  <a:lnTo>
                    <a:pt x="895" y="326"/>
                  </a:lnTo>
                  <a:lnTo>
                    <a:pt x="885" y="330"/>
                  </a:lnTo>
                  <a:lnTo>
                    <a:pt x="885" y="330"/>
                  </a:lnTo>
                  <a:lnTo>
                    <a:pt x="881" y="330"/>
                  </a:lnTo>
                  <a:lnTo>
                    <a:pt x="874" y="337"/>
                  </a:lnTo>
                  <a:lnTo>
                    <a:pt x="866" y="345"/>
                  </a:lnTo>
                  <a:lnTo>
                    <a:pt x="870" y="348"/>
                  </a:lnTo>
                  <a:lnTo>
                    <a:pt x="870" y="345"/>
                  </a:lnTo>
                  <a:lnTo>
                    <a:pt x="863" y="348"/>
                  </a:lnTo>
                  <a:lnTo>
                    <a:pt x="863" y="348"/>
                  </a:lnTo>
                  <a:lnTo>
                    <a:pt x="859" y="348"/>
                  </a:lnTo>
                  <a:lnTo>
                    <a:pt x="852" y="355"/>
                  </a:lnTo>
                  <a:lnTo>
                    <a:pt x="852" y="359"/>
                  </a:lnTo>
                  <a:lnTo>
                    <a:pt x="852" y="359"/>
                  </a:lnTo>
                  <a:lnTo>
                    <a:pt x="848" y="370"/>
                  </a:lnTo>
                  <a:lnTo>
                    <a:pt x="845" y="377"/>
                  </a:lnTo>
                  <a:lnTo>
                    <a:pt x="841" y="388"/>
                  </a:lnTo>
                  <a:lnTo>
                    <a:pt x="841" y="388"/>
                  </a:lnTo>
                  <a:lnTo>
                    <a:pt x="841" y="388"/>
                  </a:lnTo>
                  <a:lnTo>
                    <a:pt x="841" y="399"/>
                  </a:lnTo>
                  <a:lnTo>
                    <a:pt x="841" y="413"/>
                  </a:lnTo>
                  <a:lnTo>
                    <a:pt x="841" y="428"/>
                  </a:lnTo>
                  <a:lnTo>
                    <a:pt x="841" y="432"/>
                  </a:lnTo>
                  <a:lnTo>
                    <a:pt x="841" y="432"/>
                  </a:lnTo>
                  <a:lnTo>
                    <a:pt x="848" y="464"/>
                  </a:lnTo>
                  <a:lnTo>
                    <a:pt x="856" y="497"/>
                  </a:lnTo>
                  <a:lnTo>
                    <a:pt x="859" y="493"/>
                  </a:lnTo>
                  <a:lnTo>
                    <a:pt x="856" y="493"/>
                  </a:lnTo>
                  <a:lnTo>
                    <a:pt x="859" y="511"/>
                  </a:lnTo>
                  <a:lnTo>
                    <a:pt x="859" y="522"/>
                  </a:lnTo>
                  <a:lnTo>
                    <a:pt x="859" y="515"/>
                  </a:lnTo>
                  <a:lnTo>
                    <a:pt x="863" y="530"/>
                  </a:lnTo>
                  <a:lnTo>
                    <a:pt x="866" y="526"/>
                  </a:lnTo>
                  <a:lnTo>
                    <a:pt x="863" y="526"/>
                  </a:lnTo>
                  <a:lnTo>
                    <a:pt x="863" y="544"/>
                  </a:lnTo>
                  <a:lnTo>
                    <a:pt x="863" y="562"/>
                  </a:lnTo>
                  <a:lnTo>
                    <a:pt x="863" y="577"/>
                  </a:lnTo>
                  <a:lnTo>
                    <a:pt x="863" y="591"/>
                  </a:lnTo>
                  <a:lnTo>
                    <a:pt x="863" y="598"/>
                  </a:lnTo>
                  <a:lnTo>
                    <a:pt x="866" y="598"/>
                  </a:lnTo>
                  <a:lnTo>
                    <a:pt x="863" y="595"/>
                  </a:lnTo>
                  <a:lnTo>
                    <a:pt x="859" y="598"/>
                  </a:lnTo>
                  <a:lnTo>
                    <a:pt x="859" y="602"/>
                  </a:lnTo>
                  <a:lnTo>
                    <a:pt x="859" y="602"/>
                  </a:lnTo>
                  <a:lnTo>
                    <a:pt x="859" y="609"/>
                  </a:lnTo>
                  <a:lnTo>
                    <a:pt x="863" y="609"/>
                  </a:lnTo>
                  <a:lnTo>
                    <a:pt x="859" y="609"/>
                  </a:lnTo>
                  <a:lnTo>
                    <a:pt x="856" y="617"/>
                  </a:lnTo>
                  <a:lnTo>
                    <a:pt x="859" y="617"/>
                  </a:lnTo>
                  <a:lnTo>
                    <a:pt x="859" y="613"/>
                  </a:lnTo>
                  <a:lnTo>
                    <a:pt x="845" y="620"/>
                  </a:lnTo>
                  <a:lnTo>
                    <a:pt x="834" y="627"/>
                  </a:lnTo>
                  <a:lnTo>
                    <a:pt x="834" y="631"/>
                  </a:lnTo>
                  <a:lnTo>
                    <a:pt x="834" y="627"/>
                  </a:lnTo>
                  <a:lnTo>
                    <a:pt x="816" y="631"/>
                  </a:lnTo>
                  <a:lnTo>
                    <a:pt x="798" y="635"/>
                  </a:lnTo>
                  <a:lnTo>
                    <a:pt x="783" y="635"/>
                  </a:lnTo>
                  <a:lnTo>
                    <a:pt x="761" y="638"/>
                  </a:lnTo>
                  <a:lnTo>
                    <a:pt x="743" y="638"/>
                  </a:lnTo>
                  <a:lnTo>
                    <a:pt x="725" y="638"/>
                  </a:lnTo>
                  <a:lnTo>
                    <a:pt x="707" y="638"/>
                  </a:lnTo>
                  <a:lnTo>
                    <a:pt x="689" y="635"/>
                  </a:lnTo>
                  <a:lnTo>
                    <a:pt x="674" y="635"/>
                  </a:lnTo>
                  <a:lnTo>
                    <a:pt x="656" y="631"/>
                  </a:lnTo>
                  <a:lnTo>
                    <a:pt x="642" y="627"/>
                  </a:lnTo>
                  <a:lnTo>
                    <a:pt x="627" y="624"/>
                  </a:lnTo>
                  <a:lnTo>
                    <a:pt x="627" y="627"/>
                  </a:lnTo>
                  <a:lnTo>
                    <a:pt x="631" y="624"/>
                  </a:lnTo>
                  <a:lnTo>
                    <a:pt x="624" y="617"/>
                  </a:lnTo>
                  <a:lnTo>
                    <a:pt x="624" y="617"/>
                  </a:lnTo>
                  <a:lnTo>
                    <a:pt x="624" y="617"/>
                  </a:lnTo>
                  <a:lnTo>
                    <a:pt x="613" y="613"/>
                  </a:lnTo>
                  <a:lnTo>
                    <a:pt x="609" y="617"/>
                  </a:lnTo>
                  <a:lnTo>
                    <a:pt x="613" y="613"/>
                  </a:lnTo>
                  <a:lnTo>
                    <a:pt x="605" y="606"/>
                  </a:lnTo>
                  <a:lnTo>
                    <a:pt x="602" y="602"/>
                  </a:lnTo>
                  <a:lnTo>
                    <a:pt x="598" y="606"/>
                  </a:lnTo>
                  <a:lnTo>
                    <a:pt x="605" y="606"/>
                  </a:lnTo>
                  <a:lnTo>
                    <a:pt x="602" y="598"/>
                  </a:lnTo>
                  <a:lnTo>
                    <a:pt x="602" y="598"/>
                  </a:lnTo>
                  <a:lnTo>
                    <a:pt x="598" y="595"/>
                  </a:lnTo>
                  <a:lnTo>
                    <a:pt x="595" y="591"/>
                  </a:lnTo>
                  <a:lnTo>
                    <a:pt x="591" y="595"/>
                  </a:lnTo>
                  <a:lnTo>
                    <a:pt x="598" y="595"/>
                  </a:lnTo>
                  <a:lnTo>
                    <a:pt x="598" y="591"/>
                  </a:lnTo>
                  <a:lnTo>
                    <a:pt x="598" y="584"/>
                  </a:lnTo>
                  <a:lnTo>
                    <a:pt x="598" y="580"/>
                  </a:lnTo>
                  <a:lnTo>
                    <a:pt x="598" y="573"/>
                  </a:lnTo>
                  <a:lnTo>
                    <a:pt x="591" y="573"/>
                  </a:lnTo>
                  <a:lnTo>
                    <a:pt x="598" y="577"/>
                  </a:lnTo>
                  <a:lnTo>
                    <a:pt x="602" y="569"/>
                  </a:lnTo>
                  <a:lnTo>
                    <a:pt x="595" y="566"/>
                  </a:lnTo>
                  <a:lnTo>
                    <a:pt x="598" y="569"/>
                  </a:lnTo>
                  <a:lnTo>
                    <a:pt x="602" y="566"/>
                  </a:lnTo>
                  <a:lnTo>
                    <a:pt x="605" y="566"/>
                  </a:lnTo>
                  <a:lnTo>
                    <a:pt x="605" y="566"/>
                  </a:lnTo>
                  <a:lnTo>
                    <a:pt x="609" y="559"/>
                  </a:lnTo>
                  <a:lnTo>
                    <a:pt x="613" y="551"/>
                  </a:lnTo>
                  <a:lnTo>
                    <a:pt x="605" y="548"/>
                  </a:lnTo>
                  <a:lnTo>
                    <a:pt x="609" y="551"/>
                  </a:lnTo>
                  <a:lnTo>
                    <a:pt x="624" y="537"/>
                  </a:lnTo>
                  <a:lnTo>
                    <a:pt x="638" y="522"/>
                  </a:lnTo>
                  <a:lnTo>
                    <a:pt x="645" y="515"/>
                  </a:lnTo>
                  <a:lnTo>
                    <a:pt x="649" y="515"/>
                  </a:lnTo>
                  <a:lnTo>
                    <a:pt x="649" y="515"/>
                  </a:lnTo>
                  <a:lnTo>
                    <a:pt x="653" y="504"/>
                  </a:lnTo>
                  <a:lnTo>
                    <a:pt x="656" y="493"/>
                  </a:lnTo>
                  <a:lnTo>
                    <a:pt x="660" y="482"/>
                  </a:lnTo>
                  <a:lnTo>
                    <a:pt x="660" y="482"/>
                  </a:lnTo>
                  <a:lnTo>
                    <a:pt x="660" y="479"/>
                  </a:lnTo>
                  <a:lnTo>
                    <a:pt x="660" y="468"/>
                  </a:lnTo>
                  <a:lnTo>
                    <a:pt x="660" y="468"/>
                  </a:lnTo>
                  <a:lnTo>
                    <a:pt x="660" y="468"/>
                  </a:lnTo>
                  <a:lnTo>
                    <a:pt x="656" y="457"/>
                  </a:lnTo>
                  <a:lnTo>
                    <a:pt x="653" y="446"/>
                  </a:lnTo>
                  <a:lnTo>
                    <a:pt x="649" y="432"/>
                  </a:lnTo>
                  <a:lnTo>
                    <a:pt x="642" y="421"/>
                  </a:lnTo>
                  <a:lnTo>
                    <a:pt x="642" y="421"/>
                  </a:lnTo>
                  <a:lnTo>
                    <a:pt x="638" y="417"/>
                  </a:lnTo>
                  <a:lnTo>
                    <a:pt x="631" y="410"/>
                  </a:lnTo>
                  <a:lnTo>
                    <a:pt x="624" y="403"/>
                  </a:lnTo>
                  <a:lnTo>
                    <a:pt x="613" y="392"/>
                  </a:lnTo>
                  <a:lnTo>
                    <a:pt x="613" y="392"/>
                  </a:lnTo>
                  <a:lnTo>
                    <a:pt x="613" y="392"/>
                  </a:lnTo>
                  <a:lnTo>
                    <a:pt x="605" y="388"/>
                  </a:lnTo>
                  <a:lnTo>
                    <a:pt x="591" y="381"/>
                  </a:lnTo>
                  <a:lnTo>
                    <a:pt x="580" y="377"/>
                  </a:lnTo>
                  <a:lnTo>
                    <a:pt x="580" y="377"/>
                  </a:lnTo>
                  <a:lnTo>
                    <a:pt x="576" y="377"/>
                  </a:lnTo>
                  <a:lnTo>
                    <a:pt x="562" y="377"/>
                  </a:lnTo>
                  <a:lnTo>
                    <a:pt x="547" y="377"/>
                  </a:lnTo>
                  <a:lnTo>
                    <a:pt x="547" y="377"/>
                  </a:lnTo>
                  <a:lnTo>
                    <a:pt x="547" y="377"/>
                  </a:lnTo>
                  <a:lnTo>
                    <a:pt x="536" y="381"/>
                  </a:lnTo>
                  <a:lnTo>
                    <a:pt x="522" y="388"/>
                  </a:lnTo>
                  <a:lnTo>
                    <a:pt x="511" y="392"/>
                  </a:lnTo>
                  <a:lnTo>
                    <a:pt x="500" y="399"/>
                  </a:lnTo>
                  <a:lnTo>
                    <a:pt x="500" y="399"/>
                  </a:lnTo>
                  <a:lnTo>
                    <a:pt x="497" y="399"/>
                  </a:lnTo>
                  <a:lnTo>
                    <a:pt x="486" y="410"/>
                  </a:lnTo>
                  <a:lnTo>
                    <a:pt x="478" y="417"/>
                  </a:lnTo>
                  <a:lnTo>
                    <a:pt x="478" y="421"/>
                  </a:lnTo>
                  <a:lnTo>
                    <a:pt x="478" y="421"/>
                  </a:lnTo>
                  <a:lnTo>
                    <a:pt x="471" y="432"/>
                  </a:lnTo>
                  <a:lnTo>
                    <a:pt x="464" y="442"/>
                  </a:lnTo>
                  <a:lnTo>
                    <a:pt x="460" y="453"/>
                  </a:lnTo>
                  <a:lnTo>
                    <a:pt x="457" y="468"/>
                  </a:lnTo>
                  <a:lnTo>
                    <a:pt x="457" y="468"/>
                  </a:lnTo>
                  <a:lnTo>
                    <a:pt x="457" y="468"/>
                  </a:lnTo>
                  <a:lnTo>
                    <a:pt x="457" y="479"/>
                  </a:lnTo>
                  <a:lnTo>
                    <a:pt x="457" y="482"/>
                  </a:lnTo>
                  <a:lnTo>
                    <a:pt x="457" y="482"/>
                  </a:lnTo>
                  <a:lnTo>
                    <a:pt x="460" y="493"/>
                  </a:lnTo>
                  <a:lnTo>
                    <a:pt x="464" y="504"/>
                  </a:lnTo>
                  <a:lnTo>
                    <a:pt x="468" y="511"/>
                  </a:lnTo>
                  <a:lnTo>
                    <a:pt x="471" y="508"/>
                  </a:lnTo>
                  <a:lnTo>
                    <a:pt x="468" y="508"/>
                  </a:lnTo>
                  <a:lnTo>
                    <a:pt x="468" y="511"/>
                  </a:lnTo>
                  <a:lnTo>
                    <a:pt x="468" y="515"/>
                  </a:lnTo>
                  <a:lnTo>
                    <a:pt x="468" y="515"/>
                  </a:lnTo>
                  <a:lnTo>
                    <a:pt x="471" y="522"/>
                  </a:lnTo>
                  <a:lnTo>
                    <a:pt x="471" y="522"/>
                  </a:lnTo>
                  <a:lnTo>
                    <a:pt x="475" y="526"/>
                  </a:lnTo>
                  <a:lnTo>
                    <a:pt x="482" y="530"/>
                  </a:lnTo>
                  <a:lnTo>
                    <a:pt x="482" y="522"/>
                  </a:lnTo>
                  <a:lnTo>
                    <a:pt x="478" y="526"/>
                  </a:lnTo>
                  <a:lnTo>
                    <a:pt x="486" y="537"/>
                  </a:lnTo>
                  <a:lnTo>
                    <a:pt x="486" y="537"/>
                  </a:lnTo>
                  <a:lnTo>
                    <a:pt x="486" y="537"/>
                  </a:lnTo>
                  <a:lnTo>
                    <a:pt x="493" y="544"/>
                  </a:lnTo>
                  <a:lnTo>
                    <a:pt x="497" y="540"/>
                  </a:lnTo>
                  <a:lnTo>
                    <a:pt x="493" y="544"/>
                  </a:lnTo>
                  <a:lnTo>
                    <a:pt x="497" y="555"/>
                  </a:lnTo>
                  <a:lnTo>
                    <a:pt x="497" y="555"/>
                  </a:lnTo>
                  <a:lnTo>
                    <a:pt x="497" y="555"/>
                  </a:lnTo>
                  <a:lnTo>
                    <a:pt x="504" y="562"/>
                  </a:lnTo>
                  <a:lnTo>
                    <a:pt x="507" y="559"/>
                  </a:lnTo>
                  <a:lnTo>
                    <a:pt x="504" y="562"/>
                  </a:lnTo>
                  <a:lnTo>
                    <a:pt x="507" y="569"/>
                  </a:lnTo>
                  <a:lnTo>
                    <a:pt x="511" y="566"/>
                  </a:lnTo>
                  <a:lnTo>
                    <a:pt x="507" y="566"/>
                  </a:lnTo>
                  <a:lnTo>
                    <a:pt x="507" y="573"/>
                  </a:lnTo>
                  <a:lnTo>
                    <a:pt x="507" y="577"/>
                  </a:lnTo>
                  <a:lnTo>
                    <a:pt x="507" y="577"/>
                  </a:lnTo>
                  <a:lnTo>
                    <a:pt x="511" y="584"/>
                  </a:lnTo>
                  <a:lnTo>
                    <a:pt x="515" y="580"/>
                  </a:lnTo>
                  <a:lnTo>
                    <a:pt x="511" y="580"/>
                  </a:lnTo>
                  <a:lnTo>
                    <a:pt x="511" y="588"/>
                  </a:lnTo>
                  <a:lnTo>
                    <a:pt x="515" y="588"/>
                  </a:lnTo>
                  <a:lnTo>
                    <a:pt x="511" y="588"/>
                  </a:lnTo>
                  <a:lnTo>
                    <a:pt x="507" y="595"/>
                  </a:lnTo>
                  <a:lnTo>
                    <a:pt x="507" y="595"/>
                  </a:lnTo>
                  <a:lnTo>
                    <a:pt x="507" y="595"/>
                  </a:lnTo>
                  <a:lnTo>
                    <a:pt x="507" y="598"/>
                  </a:lnTo>
                  <a:lnTo>
                    <a:pt x="511" y="598"/>
                  </a:lnTo>
                  <a:lnTo>
                    <a:pt x="507" y="595"/>
                  </a:lnTo>
                  <a:lnTo>
                    <a:pt x="504" y="598"/>
                  </a:lnTo>
                  <a:lnTo>
                    <a:pt x="504" y="602"/>
                  </a:lnTo>
                  <a:lnTo>
                    <a:pt x="504" y="602"/>
                  </a:lnTo>
                  <a:lnTo>
                    <a:pt x="500" y="609"/>
                  </a:lnTo>
                  <a:lnTo>
                    <a:pt x="504" y="609"/>
                  </a:lnTo>
                  <a:lnTo>
                    <a:pt x="504" y="606"/>
                  </a:lnTo>
                  <a:lnTo>
                    <a:pt x="497" y="609"/>
                  </a:lnTo>
                  <a:lnTo>
                    <a:pt x="497" y="613"/>
                  </a:lnTo>
                  <a:lnTo>
                    <a:pt x="497" y="609"/>
                  </a:lnTo>
                  <a:lnTo>
                    <a:pt x="493" y="609"/>
                  </a:lnTo>
                  <a:lnTo>
                    <a:pt x="493" y="609"/>
                  </a:lnTo>
                  <a:lnTo>
                    <a:pt x="493" y="609"/>
                  </a:lnTo>
                  <a:lnTo>
                    <a:pt x="482" y="613"/>
                  </a:lnTo>
                  <a:lnTo>
                    <a:pt x="482" y="617"/>
                  </a:lnTo>
                  <a:lnTo>
                    <a:pt x="482" y="613"/>
                  </a:lnTo>
                  <a:lnTo>
                    <a:pt x="475" y="613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381400" y="1698480"/>
            <a:ext cx="15350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-TR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365640" y="1989000"/>
            <a:ext cx="2133000" cy="1680840"/>
            <a:chOff x="3365640" y="1989000"/>
            <a:chExt cx="2133000" cy="1680840"/>
          </a:xfrm>
        </p:grpSpPr>
        <p:grpSp>
          <p:nvGrpSpPr>
            <p:cNvPr id="174" name=""/>
            <p:cNvGrpSpPr/>
            <p:nvPr/>
          </p:nvGrpSpPr>
          <p:grpSpPr>
            <a:xfrm>
              <a:off x="3365640" y="1989000"/>
              <a:ext cx="2133000" cy="1680840"/>
              <a:chOff x="3365640" y="1989000"/>
              <a:chExt cx="2133000" cy="1680840"/>
            </a:xfrm>
          </p:grpSpPr>
          <p:sp>
            <p:nvSpPr>
              <p:cNvPr id="175" name=""/>
              <p:cNvSpPr/>
              <p:nvPr/>
            </p:nvSpPr>
            <p:spPr>
              <a:xfrm>
                <a:off x="3373560" y="1995120"/>
                <a:ext cx="2111400" cy="1660680"/>
              </a:xfrm>
              <a:custGeom>
                <a:avLst/>
                <a:gdLst/>
                <a:ahLst/>
                <a:rect l="l" t="t" r="r" b="b"/>
                <a:pathLst>
                  <a:path w="1073" h="831">
                    <a:moveTo>
                      <a:pt x="210" y="475"/>
                    </a:moveTo>
                    <a:lnTo>
                      <a:pt x="206" y="479"/>
                    </a:lnTo>
                    <a:lnTo>
                      <a:pt x="199" y="483"/>
                    </a:lnTo>
                    <a:lnTo>
                      <a:pt x="192" y="486"/>
                    </a:lnTo>
                    <a:lnTo>
                      <a:pt x="188" y="490"/>
                    </a:lnTo>
                    <a:lnTo>
                      <a:pt x="181" y="490"/>
                    </a:lnTo>
                    <a:lnTo>
                      <a:pt x="174" y="490"/>
                    </a:lnTo>
                    <a:lnTo>
                      <a:pt x="170" y="486"/>
                    </a:lnTo>
                    <a:lnTo>
                      <a:pt x="163" y="486"/>
                    </a:lnTo>
                    <a:lnTo>
                      <a:pt x="148" y="479"/>
                    </a:lnTo>
                    <a:lnTo>
                      <a:pt x="137" y="475"/>
                    </a:lnTo>
                    <a:lnTo>
                      <a:pt x="127" y="468"/>
                    </a:lnTo>
                    <a:lnTo>
                      <a:pt x="112" y="461"/>
                    </a:lnTo>
                    <a:lnTo>
                      <a:pt x="101" y="454"/>
                    </a:lnTo>
                    <a:lnTo>
                      <a:pt x="87" y="450"/>
                    </a:lnTo>
                    <a:lnTo>
                      <a:pt x="79" y="450"/>
                    </a:lnTo>
                    <a:lnTo>
                      <a:pt x="76" y="446"/>
                    </a:lnTo>
                    <a:lnTo>
                      <a:pt x="69" y="446"/>
                    </a:lnTo>
                    <a:lnTo>
                      <a:pt x="61" y="446"/>
                    </a:lnTo>
                    <a:lnTo>
                      <a:pt x="54" y="450"/>
                    </a:lnTo>
                    <a:lnTo>
                      <a:pt x="47" y="450"/>
                    </a:lnTo>
                    <a:lnTo>
                      <a:pt x="40" y="454"/>
                    </a:lnTo>
                    <a:lnTo>
                      <a:pt x="36" y="461"/>
                    </a:lnTo>
                    <a:lnTo>
                      <a:pt x="29" y="465"/>
                    </a:lnTo>
                    <a:lnTo>
                      <a:pt x="21" y="472"/>
                    </a:lnTo>
                    <a:lnTo>
                      <a:pt x="14" y="483"/>
                    </a:lnTo>
                    <a:lnTo>
                      <a:pt x="7" y="494"/>
                    </a:lnTo>
                    <a:lnTo>
                      <a:pt x="3" y="497"/>
                    </a:lnTo>
                    <a:lnTo>
                      <a:pt x="0" y="505"/>
                    </a:lnTo>
                    <a:lnTo>
                      <a:pt x="0" y="515"/>
                    </a:lnTo>
                    <a:lnTo>
                      <a:pt x="0" y="526"/>
                    </a:lnTo>
                    <a:lnTo>
                      <a:pt x="0" y="534"/>
                    </a:lnTo>
                    <a:lnTo>
                      <a:pt x="3" y="544"/>
                    </a:lnTo>
                    <a:lnTo>
                      <a:pt x="11" y="555"/>
                    </a:lnTo>
                    <a:lnTo>
                      <a:pt x="14" y="563"/>
                    </a:lnTo>
                    <a:lnTo>
                      <a:pt x="21" y="573"/>
                    </a:lnTo>
                    <a:lnTo>
                      <a:pt x="32" y="581"/>
                    </a:lnTo>
                    <a:lnTo>
                      <a:pt x="36" y="581"/>
                    </a:lnTo>
                    <a:lnTo>
                      <a:pt x="40" y="584"/>
                    </a:lnTo>
                    <a:lnTo>
                      <a:pt x="47" y="588"/>
                    </a:lnTo>
                    <a:lnTo>
                      <a:pt x="54" y="588"/>
                    </a:lnTo>
                    <a:lnTo>
                      <a:pt x="61" y="592"/>
                    </a:lnTo>
                    <a:lnTo>
                      <a:pt x="69" y="592"/>
                    </a:lnTo>
                    <a:lnTo>
                      <a:pt x="76" y="592"/>
                    </a:lnTo>
                    <a:lnTo>
                      <a:pt x="83" y="592"/>
                    </a:lnTo>
                    <a:lnTo>
                      <a:pt x="94" y="592"/>
                    </a:lnTo>
                    <a:lnTo>
                      <a:pt x="101" y="588"/>
                    </a:lnTo>
                    <a:lnTo>
                      <a:pt x="108" y="588"/>
                    </a:lnTo>
                    <a:lnTo>
                      <a:pt x="119" y="584"/>
                    </a:lnTo>
                    <a:lnTo>
                      <a:pt x="137" y="577"/>
                    </a:lnTo>
                    <a:lnTo>
                      <a:pt x="148" y="573"/>
                    </a:lnTo>
                    <a:lnTo>
                      <a:pt x="163" y="570"/>
                    </a:lnTo>
                    <a:lnTo>
                      <a:pt x="174" y="570"/>
                    </a:lnTo>
                    <a:lnTo>
                      <a:pt x="181" y="570"/>
                    </a:lnTo>
                    <a:lnTo>
                      <a:pt x="185" y="573"/>
                    </a:lnTo>
                    <a:lnTo>
                      <a:pt x="188" y="573"/>
                    </a:lnTo>
                    <a:lnTo>
                      <a:pt x="195" y="577"/>
                    </a:lnTo>
                    <a:lnTo>
                      <a:pt x="199" y="581"/>
                    </a:lnTo>
                    <a:lnTo>
                      <a:pt x="203" y="588"/>
                    </a:lnTo>
                    <a:lnTo>
                      <a:pt x="206" y="592"/>
                    </a:lnTo>
                    <a:lnTo>
                      <a:pt x="210" y="602"/>
                    </a:lnTo>
                    <a:lnTo>
                      <a:pt x="214" y="610"/>
                    </a:lnTo>
                    <a:lnTo>
                      <a:pt x="217" y="621"/>
                    </a:lnTo>
                    <a:lnTo>
                      <a:pt x="221" y="631"/>
                    </a:lnTo>
                    <a:lnTo>
                      <a:pt x="224" y="642"/>
                    </a:lnTo>
                    <a:lnTo>
                      <a:pt x="224" y="657"/>
                    </a:lnTo>
                    <a:lnTo>
                      <a:pt x="228" y="671"/>
                    </a:lnTo>
                    <a:lnTo>
                      <a:pt x="228" y="686"/>
                    </a:lnTo>
                    <a:lnTo>
                      <a:pt x="228" y="700"/>
                    </a:lnTo>
                    <a:lnTo>
                      <a:pt x="228" y="715"/>
                    </a:lnTo>
                    <a:lnTo>
                      <a:pt x="228" y="729"/>
                    </a:lnTo>
                    <a:lnTo>
                      <a:pt x="224" y="744"/>
                    </a:lnTo>
                    <a:lnTo>
                      <a:pt x="224" y="758"/>
                    </a:lnTo>
                    <a:lnTo>
                      <a:pt x="221" y="773"/>
                    </a:lnTo>
                    <a:lnTo>
                      <a:pt x="217" y="787"/>
                    </a:lnTo>
                    <a:lnTo>
                      <a:pt x="214" y="802"/>
                    </a:lnTo>
                    <a:lnTo>
                      <a:pt x="210" y="813"/>
                    </a:lnTo>
                    <a:lnTo>
                      <a:pt x="235" y="813"/>
                    </a:lnTo>
                    <a:lnTo>
                      <a:pt x="261" y="813"/>
                    </a:lnTo>
                    <a:lnTo>
                      <a:pt x="286" y="813"/>
                    </a:lnTo>
                    <a:lnTo>
                      <a:pt x="308" y="813"/>
                    </a:lnTo>
                    <a:lnTo>
                      <a:pt x="330" y="813"/>
                    </a:lnTo>
                    <a:lnTo>
                      <a:pt x="351" y="813"/>
                    </a:lnTo>
                    <a:lnTo>
                      <a:pt x="369" y="813"/>
                    </a:lnTo>
                    <a:lnTo>
                      <a:pt x="380" y="813"/>
                    </a:lnTo>
                    <a:lnTo>
                      <a:pt x="398" y="809"/>
                    </a:lnTo>
                    <a:lnTo>
                      <a:pt x="413" y="806"/>
                    </a:lnTo>
                    <a:lnTo>
                      <a:pt x="424" y="795"/>
                    </a:lnTo>
                    <a:lnTo>
                      <a:pt x="438" y="787"/>
                    </a:lnTo>
                    <a:lnTo>
                      <a:pt x="446" y="780"/>
                    </a:lnTo>
                    <a:lnTo>
                      <a:pt x="453" y="773"/>
                    </a:lnTo>
                    <a:lnTo>
                      <a:pt x="460" y="762"/>
                    </a:lnTo>
                    <a:lnTo>
                      <a:pt x="464" y="751"/>
                    </a:lnTo>
                    <a:lnTo>
                      <a:pt x="467" y="740"/>
                    </a:lnTo>
                    <a:lnTo>
                      <a:pt x="467" y="733"/>
                    </a:lnTo>
                    <a:lnTo>
                      <a:pt x="467" y="722"/>
                    </a:lnTo>
                    <a:lnTo>
                      <a:pt x="467" y="711"/>
                    </a:lnTo>
                    <a:lnTo>
                      <a:pt x="464" y="700"/>
                    </a:lnTo>
                    <a:lnTo>
                      <a:pt x="456" y="693"/>
                    </a:lnTo>
                    <a:lnTo>
                      <a:pt x="453" y="682"/>
                    </a:lnTo>
                    <a:lnTo>
                      <a:pt x="442" y="675"/>
                    </a:lnTo>
                    <a:lnTo>
                      <a:pt x="435" y="664"/>
                    </a:lnTo>
                    <a:lnTo>
                      <a:pt x="427" y="657"/>
                    </a:lnTo>
                    <a:lnTo>
                      <a:pt x="424" y="646"/>
                    </a:lnTo>
                    <a:lnTo>
                      <a:pt x="420" y="635"/>
                    </a:lnTo>
                    <a:lnTo>
                      <a:pt x="420" y="621"/>
                    </a:lnTo>
                    <a:lnTo>
                      <a:pt x="420" y="610"/>
                    </a:lnTo>
                    <a:lnTo>
                      <a:pt x="420" y="599"/>
                    </a:lnTo>
                    <a:lnTo>
                      <a:pt x="424" y="588"/>
                    </a:lnTo>
                    <a:lnTo>
                      <a:pt x="427" y="577"/>
                    </a:lnTo>
                    <a:lnTo>
                      <a:pt x="435" y="566"/>
                    </a:lnTo>
                    <a:lnTo>
                      <a:pt x="442" y="563"/>
                    </a:lnTo>
                    <a:lnTo>
                      <a:pt x="446" y="555"/>
                    </a:lnTo>
                    <a:lnTo>
                      <a:pt x="449" y="552"/>
                    </a:lnTo>
                    <a:lnTo>
                      <a:pt x="456" y="552"/>
                    </a:lnTo>
                    <a:lnTo>
                      <a:pt x="460" y="548"/>
                    </a:lnTo>
                    <a:lnTo>
                      <a:pt x="467" y="544"/>
                    </a:lnTo>
                    <a:lnTo>
                      <a:pt x="475" y="541"/>
                    </a:lnTo>
                    <a:lnTo>
                      <a:pt x="482" y="537"/>
                    </a:lnTo>
                    <a:lnTo>
                      <a:pt x="489" y="537"/>
                    </a:lnTo>
                    <a:lnTo>
                      <a:pt x="500" y="534"/>
                    </a:lnTo>
                    <a:lnTo>
                      <a:pt x="511" y="534"/>
                    </a:lnTo>
                    <a:lnTo>
                      <a:pt x="518" y="534"/>
                    </a:lnTo>
                    <a:lnTo>
                      <a:pt x="529" y="534"/>
                    </a:lnTo>
                    <a:lnTo>
                      <a:pt x="540" y="534"/>
                    </a:lnTo>
                    <a:lnTo>
                      <a:pt x="547" y="537"/>
                    </a:lnTo>
                    <a:lnTo>
                      <a:pt x="558" y="541"/>
                    </a:lnTo>
                    <a:lnTo>
                      <a:pt x="565" y="541"/>
                    </a:lnTo>
                    <a:lnTo>
                      <a:pt x="573" y="544"/>
                    </a:lnTo>
                    <a:lnTo>
                      <a:pt x="576" y="548"/>
                    </a:lnTo>
                    <a:lnTo>
                      <a:pt x="583" y="552"/>
                    </a:lnTo>
                    <a:lnTo>
                      <a:pt x="591" y="555"/>
                    </a:lnTo>
                    <a:lnTo>
                      <a:pt x="594" y="563"/>
                    </a:lnTo>
                    <a:lnTo>
                      <a:pt x="598" y="566"/>
                    </a:lnTo>
                    <a:lnTo>
                      <a:pt x="602" y="573"/>
                    </a:lnTo>
                    <a:lnTo>
                      <a:pt x="605" y="584"/>
                    </a:lnTo>
                    <a:lnTo>
                      <a:pt x="609" y="595"/>
                    </a:lnTo>
                    <a:lnTo>
                      <a:pt x="609" y="610"/>
                    </a:lnTo>
                    <a:lnTo>
                      <a:pt x="609" y="621"/>
                    </a:lnTo>
                    <a:lnTo>
                      <a:pt x="609" y="635"/>
                    </a:lnTo>
                    <a:lnTo>
                      <a:pt x="605" y="646"/>
                    </a:lnTo>
                    <a:lnTo>
                      <a:pt x="602" y="657"/>
                    </a:lnTo>
                    <a:lnTo>
                      <a:pt x="598" y="668"/>
                    </a:lnTo>
                    <a:lnTo>
                      <a:pt x="591" y="675"/>
                    </a:lnTo>
                    <a:lnTo>
                      <a:pt x="583" y="682"/>
                    </a:lnTo>
                    <a:lnTo>
                      <a:pt x="576" y="686"/>
                    </a:lnTo>
                    <a:lnTo>
                      <a:pt x="569" y="693"/>
                    </a:lnTo>
                    <a:lnTo>
                      <a:pt x="565" y="700"/>
                    </a:lnTo>
                    <a:lnTo>
                      <a:pt x="562" y="711"/>
                    </a:lnTo>
                    <a:lnTo>
                      <a:pt x="558" y="719"/>
                    </a:lnTo>
                    <a:lnTo>
                      <a:pt x="558" y="726"/>
                    </a:lnTo>
                    <a:lnTo>
                      <a:pt x="554" y="737"/>
                    </a:lnTo>
                    <a:lnTo>
                      <a:pt x="554" y="748"/>
                    </a:lnTo>
                    <a:lnTo>
                      <a:pt x="558" y="755"/>
                    </a:lnTo>
                    <a:lnTo>
                      <a:pt x="562" y="766"/>
                    </a:lnTo>
                    <a:lnTo>
                      <a:pt x="565" y="777"/>
                    </a:lnTo>
                    <a:lnTo>
                      <a:pt x="573" y="784"/>
                    </a:lnTo>
                    <a:lnTo>
                      <a:pt x="580" y="795"/>
                    </a:lnTo>
                    <a:lnTo>
                      <a:pt x="591" y="802"/>
                    </a:lnTo>
                    <a:lnTo>
                      <a:pt x="602" y="809"/>
                    </a:lnTo>
                    <a:lnTo>
                      <a:pt x="616" y="813"/>
                    </a:lnTo>
                    <a:lnTo>
                      <a:pt x="623" y="816"/>
                    </a:lnTo>
                    <a:lnTo>
                      <a:pt x="638" y="820"/>
                    </a:lnTo>
                    <a:lnTo>
                      <a:pt x="663" y="824"/>
                    </a:lnTo>
                    <a:lnTo>
                      <a:pt x="692" y="827"/>
                    </a:lnTo>
                    <a:lnTo>
                      <a:pt x="710" y="827"/>
                    </a:lnTo>
                    <a:lnTo>
                      <a:pt x="728" y="831"/>
                    </a:lnTo>
                    <a:lnTo>
                      <a:pt x="747" y="831"/>
                    </a:lnTo>
                    <a:lnTo>
                      <a:pt x="765" y="831"/>
                    </a:lnTo>
                    <a:lnTo>
                      <a:pt x="783" y="831"/>
                    </a:lnTo>
                    <a:lnTo>
                      <a:pt x="805" y="831"/>
                    </a:lnTo>
                    <a:lnTo>
                      <a:pt x="819" y="827"/>
                    </a:lnTo>
                    <a:lnTo>
                      <a:pt x="837" y="824"/>
                    </a:lnTo>
                    <a:lnTo>
                      <a:pt x="837" y="816"/>
                    </a:lnTo>
                    <a:lnTo>
                      <a:pt x="834" y="806"/>
                    </a:lnTo>
                    <a:lnTo>
                      <a:pt x="830" y="795"/>
                    </a:lnTo>
                    <a:lnTo>
                      <a:pt x="830" y="784"/>
                    </a:lnTo>
                    <a:lnTo>
                      <a:pt x="830" y="758"/>
                    </a:lnTo>
                    <a:lnTo>
                      <a:pt x="830" y="733"/>
                    </a:lnTo>
                    <a:lnTo>
                      <a:pt x="830" y="704"/>
                    </a:lnTo>
                    <a:lnTo>
                      <a:pt x="834" y="679"/>
                    </a:lnTo>
                    <a:lnTo>
                      <a:pt x="837" y="653"/>
                    </a:lnTo>
                    <a:lnTo>
                      <a:pt x="837" y="631"/>
                    </a:lnTo>
                    <a:lnTo>
                      <a:pt x="841" y="621"/>
                    </a:lnTo>
                    <a:lnTo>
                      <a:pt x="844" y="613"/>
                    </a:lnTo>
                    <a:lnTo>
                      <a:pt x="848" y="606"/>
                    </a:lnTo>
                    <a:lnTo>
                      <a:pt x="855" y="602"/>
                    </a:lnTo>
                    <a:lnTo>
                      <a:pt x="859" y="599"/>
                    </a:lnTo>
                    <a:lnTo>
                      <a:pt x="866" y="595"/>
                    </a:lnTo>
                    <a:lnTo>
                      <a:pt x="873" y="595"/>
                    </a:lnTo>
                    <a:lnTo>
                      <a:pt x="881" y="595"/>
                    </a:lnTo>
                    <a:lnTo>
                      <a:pt x="888" y="595"/>
                    </a:lnTo>
                    <a:lnTo>
                      <a:pt x="899" y="599"/>
                    </a:lnTo>
                    <a:lnTo>
                      <a:pt x="906" y="602"/>
                    </a:lnTo>
                    <a:lnTo>
                      <a:pt x="913" y="606"/>
                    </a:lnTo>
                    <a:lnTo>
                      <a:pt x="921" y="610"/>
                    </a:lnTo>
                    <a:lnTo>
                      <a:pt x="928" y="613"/>
                    </a:lnTo>
                    <a:lnTo>
                      <a:pt x="939" y="621"/>
                    </a:lnTo>
                    <a:lnTo>
                      <a:pt x="942" y="628"/>
                    </a:lnTo>
                    <a:lnTo>
                      <a:pt x="950" y="635"/>
                    </a:lnTo>
                    <a:lnTo>
                      <a:pt x="957" y="639"/>
                    </a:lnTo>
                    <a:lnTo>
                      <a:pt x="968" y="642"/>
                    </a:lnTo>
                    <a:lnTo>
                      <a:pt x="979" y="646"/>
                    </a:lnTo>
                    <a:lnTo>
                      <a:pt x="986" y="646"/>
                    </a:lnTo>
                    <a:lnTo>
                      <a:pt x="997" y="650"/>
                    </a:lnTo>
                    <a:lnTo>
                      <a:pt x="1008" y="646"/>
                    </a:lnTo>
                    <a:lnTo>
                      <a:pt x="1018" y="646"/>
                    </a:lnTo>
                    <a:lnTo>
                      <a:pt x="1026" y="642"/>
                    </a:lnTo>
                    <a:lnTo>
                      <a:pt x="1037" y="639"/>
                    </a:lnTo>
                    <a:lnTo>
                      <a:pt x="1044" y="631"/>
                    </a:lnTo>
                    <a:lnTo>
                      <a:pt x="1051" y="624"/>
                    </a:lnTo>
                    <a:lnTo>
                      <a:pt x="1058" y="617"/>
                    </a:lnTo>
                    <a:lnTo>
                      <a:pt x="1066" y="606"/>
                    </a:lnTo>
                    <a:lnTo>
                      <a:pt x="1069" y="595"/>
                    </a:lnTo>
                    <a:lnTo>
                      <a:pt x="1073" y="581"/>
                    </a:lnTo>
                    <a:lnTo>
                      <a:pt x="1073" y="573"/>
                    </a:lnTo>
                    <a:lnTo>
                      <a:pt x="1073" y="566"/>
                    </a:lnTo>
                    <a:lnTo>
                      <a:pt x="1073" y="559"/>
                    </a:lnTo>
                    <a:lnTo>
                      <a:pt x="1073" y="552"/>
                    </a:lnTo>
                    <a:lnTo>
                      <a:pt x="1069" y="548"/>
                    </a:lnTo>
                    <a:lnTo>
                      <a:pt x="1066" y="541"/>
                    </a:lnTo>
                    <a:lnTo>
                      <a:pt x="1066" y="534"/>
                    </a:lnTo>
                    <a:lnTo>
                      <a:pt x="1062" y="530"/>
                    </a:lnTo>
                    <a:lnTo>
                      <a:pt x="1055" y="519"/>
                    </a:lnTo>
                    <a:lnTo>
                      <a:pt x="1044" y="512"/>
                    </a:lnTo>
                    <a:lnTo>
                      <a:pt x="1033" y="505"/>
                    </a:lnTo>
                    <a:lnTo>
                      <a:pt x="1022" y="497"/>
                    </a:lnTo>
                    <a:lnTo>
                      <a:pt x="1011" y="494"/>
                    </a:lnTo>
                    <a:lnTo>
                      <a:pt x="1000" y="490"/>
                    </a:lnTo>
                    <a:lnTo>
                      <a:pt x="986" y="490"/>
                    </a:lnTo>
                    <a:lnTo>
                      <a:pt x="975" y="490"/>
                    </a:lnTo>
                    <a:lnTo>
                      <a:pt x="964" y="494"/>
                    </a:lnTo>
                    <a:lnTo>
                      <a:pt x="953" y="497"/>
                    </a:lnTo>
                    <a:lnTo>
                      <a:pt x="950" y="497"/>
                    </a:lnTo>
                    <a:lnTo>
                      <a:pt x="946" y="501"/>
                    </a:lnTo>
                    <a:lnTo>
                      <a:pt x="942" y="505"/>
                    </a:lnTo>
                    <a:lnTo>
                      <a:pt x="939" y="512"/>
                    </a:lnTo>
                    <a:lnTo>
                      <a:pt x="931" y="519"/>
                    </a:lnTo>
                    <a:lnTo>
                      <a:pt x="924" y="526"/>
                    </a:lnTo>
                    <a:lnTo>
                      <a:pt x="917" y="530"/>
                    </a:lnTo>
                    <a:lnTo>
                      <a:pt x="910" y="534"/>
                    </a:lnTo>
                    <a:lnTo>
                      <a:pt x="902" y="534"/>
                    </a:lnTo>
                    <a:lnTo>
                      <a:pt x="892" y="534"/>
                    </a:lnTo>
                    <a:lnTo>
                      <a:pt x="884" y="534"/>
                    </a:lnTo>
                    <a:lnTo>
                      <a:pt x="877" y="530"/>
                    </a:lnTo>
                    <a:lnTo>
                      <a:pt x="870" y="530"/>
                    </a:lnTo>
                    <a:lnTo>
                      <a:pt x="863" y="526"/>
                    </a:lnTo>
                    <a:lnTo>
                      <a:pt x="855" y="519"/>
                    </a:lnTo>
                    <a:lnTo>
                      <a:pt x="848" y="515"/>
                    </a:lnTo>
                    <a:lnTo>
                      <a:pt x="844" y="512"/>
                    </a:lnTo>
                    <a:lnTo>
                      <a:pt x="841" y="505"/>
                    </a:lnTo>
                    <a:lnTo>
                      <a:pt x="837" y="501"/>
                    </a:lnTo>
                    <a:lnTo>
                      <a:pt x="837" y="494"/>
                    </a:lnTo>
                    <a:lnTo>
                      <a:pt x="837" y="475"/>
                    </a:lnTo>
                    <a:lnTo>
                      <a:pt x="837" y="450"/>
                    </a:lnTo>
                    <a:lnTo>
                      <a:pt x="837" y="410"/>
                    </a:lnTo>
                    <a:lnTo>
                      <a:pt x="837" y="370"/>
                    </a:lnTo>
                    <a:lnTo>
                      <a:pt x="837" y="330"/>
                    </a:lnTo>
                    <a:lnTo>
                      <a:pt x="837" y="287"/>
                    </a:lnTo>
                    <a:lnTo>
                      <a:pt x="837" y="251"/>
                    </a:lnTo>
                    <a:lnTo>
                      <a:pt x="837" y="222"/>
                    </a:lnTo>
                    <a:lnTo>
                      <a:pt x="826" y="225"/>
                    </a:lnTo>
                    <a:lnTo>
                      <a:pt x="815" y="232"/>
                    </a:lnTo>
                    <a:lnTo>
                      <a:pt x="801" y="236"/>
                    </a:lnTo>
                    <a:lnTo>
                      <a:pt x="786" y="240"/>
                    </a:lnTo>
                    <a:lnTo>
                      <a:pt x="772" y="243"/>
                    </a:lnTo>
                    <a:lnTo>
                      <a:pt x="757" y="243"/>
                    </a:lnTo>
                    <a:lnTo>
                      <a:pt x="739" y="243"/>
                    </a:lnTo>
                    <a:lnTo>
                      <a:pt x="721" y="243"/>
                    </a:lnTo>
                    <a:lnTo>
                      <a:pt x="707" y="243"/>
                    </a:lnTo>
                    <a:lnTo>
                      <a:pt x="689" y="243"/>
                    </a:lnTo>
                    <a:lnTo>
                      <a:pt x="670" y="240"/>
                    </a:lnTo>
                    <a:lnTo>
                      <a:pt x="656" y="236"/>
                    </a:lnTo>
                    <a:lnTo>
                      <a:pt x="641" y="232"/>
                    </a:lnTo>
                    <a:lnTo>
                      <a:pt x="627" y="229"/>
                    </a:lnTo>
                    <a:lnTo>
                      <a:pt x="612" y="225"/>
                    </a:lnTo>
                    <a:lnTo>
                      <a:pt x="602" y="222"/>
                    </a:lnTo>
                    <a:lnTo>
                      <a:pt x="594" y="218"/>
                    </a:lnTo>
                    <a:lnTo>
                      <a:pt x="587" y="211"/>
                    </a:lnTo>
                    <a:lnTo>
                      <a:pt x="580" y="207"/>
                    </a:lnTo>
                    <a:lnTo>
                      <a:pt x="573" y="203"/>
                    </a:lnTo>
                    <a:lnTo>
                      <a:pt x="569" y="200"/>
                    </a:lnTo>
                    <a:lnTo>
                      <a:pt x="565" y="196"/>
                    </a:lnTo>
                    <a:lnTo>
                      <a:pt x="565" y="189"/>
                    </a:lnTo>
                    <a:lnTo>
                      <a:pt x="565" y="185"/>
                    </a:lnTo>
                    <a:lnTo>
                      <a:pt x="565" y="182"/>
                    </a:lnTo>
                    <a:lnTo>
                      <a:pt x="565" y="174"/>
                    </a:lnTo>
                    <a:lnTo>
                      <a:pt x="569" y="171"/>
                    </a:lnTo>
                    <a:lnTo>
                      <a:pt x="573" y="164"/>
                    </a:lnTo>
                    <a:lnTo>
                      <a:pt x="580" y="149"/>
                    </a:lnTo>
                    <a:lnTo>
                      <a:pt x="594" y="135"/>
                    </a:lnTo>
                    <a:lnTo>
                      <a:pt x="602" y="127"/>
                    </a:lnTo>
                    <a:lnTo>
                      <a:pt x="609" y="116"/>
                    </a:lnTo>
                    <a:lnTo>
                      <a:pt x="612" y="106"/>
                    </a:lnTo>
                    <a:lnTo>
                      <a:pt x="616" y="95"/>
                    </a:lnTo>
                    <a:lnTo>
                      <a:pt x="616" y="84"/>
                    </a:lnTo>
                    <a:lnTo>
                      <a:pt x="616" y="73"/>
                    </a:lnTo>
                    <a:lnTo>
                      <a:pt x="616" y="62"/>
                    </a:lnTo>
                    <a:lnTo>
                      <a:pt x="612" y="51"/>
                    </a:lnTo>
                    <a:lnTo>
                      <a:pt x="609" y="40"/>
                    </a:lnTo>
                    <a:lnTo>
                      <a:pt x="602" y="29"/>
                    </a:lnTo>
                    <a:lnTo>
                      <a:pt x="598" y="26"/>
                    </a:lnTo>
                    <a:lnTo>
                      <a:pt x="591" y="22"/>
                    </a:lnTo>
                    <a:lnTo>
                      <a:pt x="587" y="18"/>
                    </a:lnTo>
                    <a:lnTo>
                      <a:pt x="580" y="15"/>
                    </a:lnTo>
                    <a:lnTo>
                      <a:pt x="576" y="11"/>
                    </a:lnTo>
                    <a:lnTo>
                      <a:pt x="569" y="8"/>
                    </a:lnTo>
                    <a:lnTo>
                      <a:pt x="562" y="8"/>
                    </a:lnTo>
                    <a:lnTo>
                      <a:pt x="554" y="4"/>
                    </a:lnTo>
                    <a:lnTo>
                      <a:pt x="544" y="4"/>
                    </a:lnTo>
                    <a:lnTo>
                      <a:pt x="536" y="0"/>
                    </a:lnTo>
                    <a:lnTo>
                      <a:pt x="529" y="0"/>
                    </a:lnTo>
                    <a:lnTo>
                      <a:pt x="518" y="0"/>
                    </a:lnTo>
                    <a:lnTo>
                      <a:pt x="511" y="0"/>
                    </a:lnTo>
                    <a:lnTo>
                      <a:pt x="500" y="4"/>
                    </a:lnTo>
                    <a:lnTo>
                      <a:pt x="493" y="4"/>
                    </a:lnTo>
                    <a:lnTo>
                      <a:pt x="485" y="4"/>
                    </a:lnTo>
                    <a:lnTo>
                      <a:pt x="482" y="8"/>
                    </a:lnTo>
                    <a:lnTo>
                      <a:pt x="475" y="11"/>
                    </a:lnTo>
                    <a:lnTo>
                      <a:pt x="471" y="15"/>
                    </a:lnTo>
                    <a:lnTo>
                      <a:pt x="464" y="18"/>
                    </a:lnTo>
                    <a:lnTo>
                      <a:pt x="460" y="22"/>
                    </a:lnTo>
                    <a:lnTo>
                      <a:pt x="456" y="26"/>
                    </a:lnTo>
                    <a:lnTo>
                      <a:pt x="453" y="29"/>
                    </a:lnTo>
                    <a:lnTo>
                      <a:pt x="449" y="37"/>
                    </a:lnTo>
                    <a:lnTo>
                      <a:pt x="446" y="47"/>
                    </a:lnTo>
                    <a:lnTo>
                      <a:pt x="442" y="58"/>
                    </a:lnTo>
                    <a:lnTo>
                      <a:pt x="442" y="69"/>
                    </a:lnTo>
                    <a:lnTo>
                      <a:pt x="442" y="80"/>
                    </a:lnTo>
                    <a:lnTo>
                      <a:pt x="442" y="95"/>
                    </a:lnTo>
                    <a:lnTo>
                      <a:pt x="446" y="106"/>
                    </a:lnTo>
                    <a:lnTo>
                      <a:pt x="449" y="120"/>
                    </a:lnTo>
                    <a:lnTo>
                      <a:pt x="456" y="131"/>
                    </a:lnTo>
                    <a:lnTo>
                      <a:pt x="460" y="142"/>
                    </a:lnTo>
                    <a:lnTo>
                      <a:pt x="471" y="149"/>
                    </a:lnTo>
                    <a:lnTo>
                      <a:pt x="475" y="156"/>
                    </a:lnTo>
                    <a:lnTo>
                      <a:pt x="482" y="164"/>
                    </a:lnTo>
                    <a:lnTo>
                      <a:pt x="482" y="171"/>
                    </a:lnTo>
                    <a:lnTo>
                      <a:pt x="485" y="178"/>
                    </a:lnTo>
                    <a:lnTo>
                      <a:pt x="485" y="185"/>
                    </a:lnTo>
                    <a:lnTo>
                      <a:pt x="485" y="193"/>
                    </a:lnTo>
                    <a:lnTo>
                      <a:pt x="482" y="200"/>
                    </a:lnTo>
                    <a:lnTo>
                      <a:pt x="478" y="207"/>
                    </a:lnTo>
                    <a:lnTo>
                      <a:pt x="475" y="211"/>
                    </a:lnTo>
                    <a:lnTo>
                      <a:pt x="467" y="218"/>
                    </a:lnTo>
                    <a:lnTo>
                      <a:pt x="456" y="222"/>
                    </a:lnTo>
                    <a:lnTo>
                      <a:pt x="449" y="222"/>
                    </a:lnTo>
                    <a:lnTo>
                      <a:pt x="438" y="222"/>
                    </a:lnTo>
                    <a:lnTo>
                      <a:pt x="427" y="222"/>
                    </a:lnTo>
                    <a:lnTo>
                      <a:pt x="413" y="218"/>
                    </a:lnTo>
                    <a:lnTo>
                      <a:pt x="398" y="211"/>
                    </a:lnTo>
                    <a:lnTo>
                      <a:pt x="388" y="211"/>
                    </a:lnTo>
                    <a:lnTo>
                      <a:pt x="380" y="207"/>
                    </a:lnTo>
                    <a:lnTo>
                      <a:pt x="369" y="203"/>
                    </a:lnTo>
                    <a:lnTo>
                      <a:pt x="359" y="203"/>
                    </a:lnTo>
                    <a:lnTo>
                      <a:pt x="337" y="203"/>
                    </a:lnTo>
                    <a:lnTo>
                      <a:pt x="311" y="203"/>
                    </a:lnTo>
                    <a:lnTo>
                      <a:pt x="286" y="207"/>
                    </a:lnTo>
                    <a:lnTo>
                      <a:pt x="261" y="211"/>
                    </a:lnTo>
                    <a:lnTo>
                      <a:pt x="235" y="214"/>
                    </a:lnTo>
                    <a:lnTo>
                      <a:pt x="210" y="222"/>
                    </a:lnTo>
                    <a:lnTo>
                      <a:pt x="210" y="225"/>
                    </a:lnTo>
                    <a:lnTo>
                      <a:pt x="210" y="240"/>
                    </a:lnTo>
                    <a:lnTo>
                      <a:pt x="210" y="251"/>
                    </a:lnTo>
                    <a:lnTo>
                      <a:pt x="210" y="269"/>
                    </a:lnTo>
                    <a:lnTo>
                      <a:pt x="214" y="305"/>
                    </a:lnTo>
                    <a:lnTo>
                      <a:pt x="217" y="349"/>
                    </a:lnTo>
                    <a:lnTo>
                      <a:pt x="221" y="367"/>
                    </a:lnTo>
                    <a:lnTo>
                      <a:pt x="221" y="388"/>
                    </a:lnTo>
                    <a:lnTo>
                      <a:pt x="221" y="410"/>
                    </a:lnTo>
                    <a:lnTo>
                      <a:pt x="224" y="425"/>
                    </a:lnTo>
                    <a:lnTo>
                      <a:pt x="221" y="443"/>
                    </a:lnTo>
                    <a:lnTo>
                      <a:pt x="221" y="457"/>
                    </a:lnTo>
                    <a:lnTo>
                      <a:pt x="217" y="465"/>
                    </a:lnTo>
                    <a:lnTo>
                      <a:pt x="217" y="468"/>
                    </a:lnTo>
                    <a:lnTo>
                      <a:pt x="214" y="472"/>
                    </a:lnTo>
                    <a:lnTo>
                      <a:pt x="210" y="475"/>
                    </a:lnTo>
                    <a:close/>
                  </a:path>
                </a:pathLst>
              </a:custGeom>
              <a:solidFill>
                <a:srgbClr val="ffff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65640" y="1989000"/>
                <a:ext cx="2133000" cy="1680840"/>
              </a:xfrm>
              <a:custGeom>
                <a:avLst/>
                <a:gdLst/>
                <a:ahLst/>
                <a:rect l="l" t="t" r="r" b="b"/>
                <a:pathLst>
                  <a:path w="1084" h="841">
                    <a:moveTo>
                      <a:pt x="207" y="478"/>
                    </a:moveTo>
                    <a:lnTo>
                      <a:pt x="210" y="482"/>
                    </a:lnTo>
                    <a:lnTo>
                      <a:pt x="210" y="478"/>
                    </a:lnTo>
                    <a:lnTo>
                      <a:pt x="203" y="482"/>
                    </a:lnTo>
                    <a:lnTo>
                      <a:pt x="196" y="486"/>
                    </a:lnTo>
                    <a:lnTo>
                      <a:pt x="196" y="486"/>
                    </a:lnTo>
                    <a:lnTo>
                      <a:pt x="192" y="486"/>
                    </a:lnTo>
                    <a:lnTo>
                      <a:pt x="189" y="489"/>
                    </a:lnTo>
                    <a:lnTo>
                      <a:pt x="192" y="493"/>
                    </a:lnTo>
                    <a:lnTo>
                      <a:pt x="192" y="489"/>
                    </a:lnTo>
                    <a:lnTo>
                      <a:pt x="185" y="489"/>
                    </a:lnTo>
                    <a:lnTo>
                      <a:pt x="178" y="489"/>
                    </a:lnTo>
                    <a:lnTo>
                      <a:pt x="178" y="493"/>
                    </a:lnTo>
                    <a:lnTo>
                      <a:pt x="181" y="489"/>
                    </a:lnTo>
                    <a:lnTo>
                      <a:pt x="178" y="486"/>
                    </a:lnTo>
                    <a:lnTo>
                      <a:pt x="178" y="486"/>
                    </a:lnTo>
                    <a:lnTo>
                      <a:pt x="174" y="486"/>
                    </a:lnTo>
                    <a:lnTo>
                      <a:pt x="167" y="486"/>
                    </a:lnTo>
                    <a:lnTo>
                      <a:pt x="167" y="489"/>
                    </a:lnTo>
                    <a:lnTo>
                      <a:pt x="170" y="486"/>
                    </a:lnTo>
                    <a:lnTo>
                      <a:pt x="156" y="478"/>
                    </a:lnTo>
                    <a:lnTo>
                      <a:pt x="145" y="475"/>
                    </a:lnTo>
                    <a:lnTo>
                      <a:pt x="134" y="468"/>
                    </a:lnTo>
                    <a:lnTo>
                      <a:pt x="120" y="460"/>
                    </a:lnTo>
                    <a:lnTo>
                      <a:pt x="109" y="453"/>
                    </a:lnTo>
                    <a:lnTo>
                      <a:pt x="109" y="453"/>
                    </a:lnTo>
                    <a:lnTo>
                      <a:pt x="105" y="453"/>
                    </a:lnTo>
                    <a:lnTo>
                      <a:pt x="91" y="449"/>
                    </a:lnTo>
                    <a:lnTo>
                      <a:pt x="83" y="449"/>
                    </a:lnTo>
                    <a:lnTo>
                      <a:pt x="83" y="453"/>
                    </a:lnTo>
                    <a:lnTo>
                      <a:pt x="87" y="449"/>
                    </a:lnTo>
                    <a:lnTo>
                      <a:pt x="83" y="446"/>
                    </a:lnTo>
                    <a:lnTo>
                      <a:pt x="83" y="446"/>
                    </a:lnTo>
                    <a:lnTo>
                      <a:pt x="80" y="446"/>
                    </a:lnTo>
                    <a:lnTo>
                      <a:pt x="73" y="446"/>
                    </a:lnTo>
                    <a:lnTo>
                      <a:pt x="65" y="446"/>
                    </a:lnTo>
                    <a:lnTo>
                      <a:pt x="65" y="446"/>
                    </a:lnTo>
                    <a:lnTo>
                      <a:pt x="65" y="446"/>
                    </a:lnTo>
                    <a:lnTo>
                      <a:pt x="58" y="449"/>
                    </a:lnTo>
                    <a:lnTo>
                      <a:pt x="58" y="453"/>
                    </a:lnTo>
                    <a:lnTo>
                      <a:pt x="58" y="449"/>
                    </a:lnTo>
                    <a:lnTo>
                      <a:pt x="51" y="449"/>
                    </a:lnTo>
                    <a:lnTo>
                      <a:pt x="51" y="449"/>
                    </a:lnTo>
                    <a:lnTo>
                      <a:pt x="51" y="449"/>
                    </a:lnTo>
                    <a:lnTo>
                      <a:pt x="44" y="453"/>
                    </a:lnTo>
                    <a:lnTo>
                      <a:pt x="40" y="453"/>
                    </a:lnTo>
                    <a:lnTo>
                      <a:pt x="40" y="457"/>
                    </a:lnTo>
                    <a:lnTo>
                      <a:pt x="36" y="464"/>
                    </a:lnTo>
                    <a:lnTo>
                      <a:pt x="40" y="464"/>
                    </a:lnTo>
                    <a:lnTo>
                      <a:pt x="40" y="460"/>
                    </a:lnTo>
                    <a:lnTo>
                      <a:pt x="33" y="464"/>
                    </a:lnTo>
                    <a:lnTo>
                      <a:pt x="33" y="464"/>
                    </a:lnTo>
                    <a:lnTo>
                      <a:pt x="29" y="464"/>
                    </a:lnTo>
                    <a:lnTo>
                      <a:pt x="22" y="471"/>
                    </a:lnTo>
                    <a:lnTo>
                      <a:pt x="22" y="475"/>
                    </a:lnTo>
                    <a:lnTo>
                      <a:pt x="22" y="475"/>
                    </a:lnTo>
                    <a:lnTo>
                      <a:pt x="15" y="486"/>
                    </a:lnTo>
                    <a:lnTo>
                      <a:pt x="7" y="497"/>
                    </a:lnTo>
                    <a:lnTo>
                      <a:pt x="11" y="497"/>
                    </a:lnTo>
                    <a:lnTo>
                      <a:pt x="7" y="493"/>
                    </a:lnTo>
                    <a:lnTo>
                      <a:pt x="4" y="497"/>
                    </a:lnTo>
                    <a:lnTo>
                      <a:pt x="4" y="500"/>
                    </a:lnTo>
                    <a:lnTo>
                      <a:pt x="4" y="500"/>
                    </a:lnTo>
                    <a:lnTo>
                      <a:pt x="0" y="508"/>
                    </a:lnTo>
                    <a:lnTo>
                      <a:pt x="0" y="508"/>
                    </a:lnTo>
                    <a:lnTo>
                      <a:pt x="0" y="508"/>
                    </a:lnTo>
                    <a:lnTo>
                      <a:pt x="0" y="518"/>
                    </a:lnTo>
                    <a:lnTo>
                      <a:pt x="0" y="529"/>
                    </a:lnTo>
                    <a:lnTo>
                      <a:pt x="0" y="537"/>
                    </a:lnTo>
                    <a:lnTo>
                      <a:pt x="0" y="540"/>
                    </a:lnTo>
                    <a:lnTo>
                      <a:pt x="0" y="540"/>
                    </a:lnTo>
                    <a:lnTo>
                      <a:pt x="4" y="551"/>
                    </a:lnTo>
                    <a:lnTo>
                      <a:pt x="11" y="562"/>
                    </a:lnTo>
                    <a:lnTo>
                      <a:pt x="15" y="569"/>
                    </a:lnTo>
                    <a:lnTo>
                      <a:pt x="22" y="580"/>
                    </a:lnTo>
                    <a:lnTo>
                      <a:pt x="22" y="580"/>
                    </a:lnTo>
                    <a:lnTo>
                      <a:pt x="25" y="584"/>
                    </a:lnTo>
                    <a:lnTo>
                      <a:pt x="36" y="591"/>
                    </a:lnTo>
                    <a:lnTo>
                      <a:pt x="36" y="591"/>
                    </a:lnTo>
                    <a:lnTo>
                      <a:pt x="36" y="591"/>
                    </a:lnTo>
                    <a:lnTo>
                      <a:pt x="40" y="591"/>
                    </a:lnTo>
                    <a:lnTo>
                      <a:pt x="40" y="584"/>
                    </a:lnTo>
                    <a:lnTo>
                      <a:pt x="36" y="587"/>
                    </a:lnTo>
                    <a:lnTo>
                      <a:pt x="40" y="591"/>
                    </a:lnTo>
                    <a:lnTo>
                      <a:pt x="44" y="595"/>
                    </a:lnTo>
                    <a:lnTo>
                      <a:pt x="44" y="595"/>
                    </a:lnTo>
                    <a:lnTo>
                      <a:pt x="51" y="598"/>
                    </a:lnTo>
                    <a:lnTo>
                      <a:pt x="51" y="598"/>
                    </a:lnTo>
                    <a:lnTo>
                      <a:pt x="51" y="598"/>
                    </a:lnTo>
                    <a:lnTo>
                      <a:pt x="58" y="598"/>
                    </a:lnTo>
                    <a:lnTo>
                      <a:pt x="58" y="591"/>
                    </a:lnTo>
                    <a:lnTo>
                      <a:pt x="58" y="598"/>
                    </a:lnTo>
                    <a:lnTo>
                      <a:pt x="65" y="602"/>
                    </a:lnTo>
                    <a:lnTo>
                      <a:pt x="65" y="602"/>
                    </a:lnTo>
                    <a:lnTo>
                      <a:pt x="65" y="602"/>
                    </a:lnTo>
                    <a:lnTo>
                      <a:pt x="73" y="602"/>
                    </a:lnTo>
                    <a:lnTo>
                      <a:pt x="80" y="602"/>
                    </a:lnTo>
                    <a:lnTo>
                      <a:pt x="87" y="602"/>
                    </a:lnTo>
                    <a:lnTo>
                      <a:pt x="98" y="602"/>
                    </a:lnTo>
                    <a:lnTo>
                      <a:pt x="98" y="602"/>
                    </a:lnTo>
                    <a:lnTo>
                      <a:pt x="102" y="602"/>
                    </a:lnTo>
                    <a:lnTo>
                      <a:pt x="109" y="598"/>
                    </a:lnTo>
                    <a:lnTo>
                      <a:pt x="105" y="591"/>
                    </a:lnTo>
                    <a:lnTo>
                      <a:pt x="105" y="598"/>
                    </a:lnTo>
                    <a:lnTo>
                      <a:pt x="112" y="598"/>
                    </a:lnTo>
                    <a:lnTo>
                      <a:pt x="116" y="598"/>
                    </a:lnTo>
                    <a:lnTo>
                      <a:pt x="116" y="598"/>
                    </a:lnTo>
                    <a:lnTo>
                      <a:pt x="127" y="595"/>
                    </a:lnTo>
                    <a:lnTo>
                      <a:pt x="145" y="587"/>
                    </a:lnTo>
                    <a:lnTo>
                      <a:pt x="156" y="584"/>
                    </a:lnTo>
                    <a:lnTo>
                      <a:pt x="152" y="576"/>
                    </a:lnTo>
                    <a:lnTo>
                      <a:pt x="152" y="584"/>
                    </a:lnTo>
                    <a:lnTo>
                      <a:pt x="167" y="580"/>
                    </a:lnTo>
                    <a:lnTo>
                      <a:pt x="178" y="580"/>
                    </a:lnTo>
                    <a:lnTo>
                      <a:pt x="185" y="580"/>
                    </a:lnTo>
                    <a:lnTo>
                      <a:pt x="185" y="573"/>
                    </a:lnTo>
                    <a:lnTo>
                      <a:pt x="181" y="576"/>
                    </a:lnTo>
                    <a:lnTo>
                      <a:pt x="185" y="580"/>
                    </a:lnTo>
                    <a:lnTo>
                      <a:pt x="189" y="584"/>
                    </a:lnTo>
                    <a:lnTo>
                      <a:pt x="189" y="584"/>
                    </a:lnTo>
                    <a:lnTo>
                      <a:pt x="192" y="584"/>
                    </a:lnTo>
                    <a:lnTo>
                      <a:pt x="192" y="576"/>
                    </a:lnTo>
                    <a:lnTo>
                      <a:pt x="192" y="584"/>
                    </a:lnTo>
                    <a:lnTo>
                      <a:pt x="199" y="587"/>
                    </a:lnTo>
                    <a:lnTo>
                      <a:pt x="199" y="580"/>
                    </a:lnTo>
                    <a:lnTo>
                      <a:pt x="196" y="584"/>
                    </a:lnTo>
                    <a:lnTo>
                      <a:pt x="199" y="587"/>
                    </a:lnTo>
                    <a:lnTo>
                      <a:pt x="203" y="584"/>
                    </a:lnTo>
                    <a:lnTo>
                      <a:pt x="199" y="587"/>
                    </a:lnTo>
                    <a:lnTo>
                      <a:pt x="203" y="595"/>
                    </a:lnTo>
                    <a:lnTo>
                      <a:pt x="203" y="595"/>
                    </a:lnTo>
                    <a:lnTo>
                      <a:pt x="203" y="595"/>
                    </a:lnTo>
                    <a:lnTo>
                      <a:pt x="207" y="598"/>
                    </a:lnTo>
                    <a:lnTo>
                      <a:pt x="210" y="595"/>
                    </a:lnTo>
                    <a:lnTo>
                      <a:pt x="207" y="598"/>
                    </a:lnTo>
                    <a:lnTo>
                      <a:pt x="210" y="609"/>
                    </a:lnTo>
                    <a:lnTo>
                      <a:pt x="214" y="616"/>
                    </a:lnTo>
                    <a:lnTo>
                      <a:pt x="218" y="627"/>
                    </a:lnTo>
                    <a:lnTo>
                      <a:pt x="221" y="638"/>
                    </a:lnTo>
                    <a:lnTo>
                      <a:pt x="225" y="649"/>
                    </a:lnTo>
                    <a:lnTo>
                      <a:pt x="228" y="645"/>
                    </a:lnTo>
                    <a:lnTo>
                      <a:pt x="225" y="645"/>
                    </a:lnTo>
                    <a:lnTo>
                      <a:pt x="225" y="660"/>
                    </a:lnTo>
                    <a:lnTo>
                      <a:pt x="225" y="663"/>
                    </a:lnTo>
                    <a:lnTo>
                      <a:pt x="225" y="663"/>
                    </a:lnTo>
                    <a:lnTo>
                      <a:pt x="228" y="678"/>
                    </a:lnTo>
                    <a:lnTo>
                      <a:pt x="232" y="674"/>
                    </a:lnTo>
                    <a:lnTo>
                      <a:pt x="228" y="674"/>
                    </a:lnTo>
                    <a:lnTo>
                      <a:pt x="228" y="689"/>
                    </a:lnTo>
                    <a:lnTo>
                      <a:pt x="228" y="703"/>
                    </a:lnTo>
                    <a:lnTo>
                      <a:pt x="228" y="718"/>
                    </a:lnTo>
                    <a:lnTo>
                      <a:pt x="228" y="732"/>
                    </a:lnTo>
                    <a:lnTo>
                      <a:pt x="232" y="732"/>
                    </a:lnTo>
                    <a:lnTo>
                      <a:pt x="228" y="732"/>
                    </a:lnTo>
                    <a:lnTo>
                      <a:pt x="225" y="747"/>
                    </a:lnTo>
                    <a:lnTo>
                      <a:pt x="225" y="747"/>
                    </a:lnTo>
                    <a:lnTo>
                      <a:pt x="225" y="747"/>
                    </a:lnTo>
                    <a:lnTo>
                      <a:pt x="225" y="761"/>
                    </a:lnTo>
                    <a:lnTo>
                      <a:pt x="228" y="761"/>
                    </a:lnTo>
                    <a:lnTo>
                      <a:pt x="225" y="761"/>
                    </a:lnTo>
                    <a:lnTo>
                      <a:pt x="221" y="776"/>
                    </a:lnTo>
                    <a:lnTo>
                      <a:pt x="218" y="790"/>
                    </a:lnTo>
                    <a:lnTo>
                      <a:pt x="214" y="805"/>
                    </a:lnTo>
                    <a:lnTo>
                      <a:pt x="210" y="816"/>
                    </a:lnTo>
                    <a:lnTo>
                      <a:pt x="207" y="819"/>
                    </a:lnTo>
                    <a:lnTo>
                      <a:pt x="214" y="823"/>
                    </a:lnTo>
                    <a:lnTo>
                      <a:pt x="239" y="823"/>
                    </a:lnTo>
                    <a:lnTo>
                      <a:pt x="265" y="823"/>
                    </a:lnTo>
                    <a:lnTo>
                      <a:pt x="290" y="823"/>
                    </a:lnTo>
                    <a:lnTo>
                      <a:pt x="312" y="823"/>
                    </a:lnTo>
                    <a:lnTo>
                      <a:pt x="334" y="823"/>
                    </a:lnTo>
                    <a:lnTo>
                      <a:pt x="355" y="823"/>
                    </a:lnTo>
                    <a:lnTo>
                      <a:pt x="373" y="823"/>
                    </a:lnTo>
                    <a:lnTo>
                      <a:pt x="384" y="823"/>
                    </a:lnTo>
                    <a:lnTo>
                      <a:pt x="402" y="819"/>
                    </a:lnTo>
                    <a:lnTo>
                      <a:pt x="417" y="816"/>
                    </a:lnTo>
                    <a:lnTo>
                      <a:pt x="421" y="812"/>
                    </a:lnTo>
                    <a:lnTo>
                      <a:pt x="421" y="812"/>
                    </a:lnTo>
                    <a:lnTo>
                      <a:pt x="431" y="801"/>
                    </a:lnTo>
                    <a:lnTo>
                      <a:pt x="428" y="798"/>
                    </a:lnTo>
                    <a:lnTo>
                      <a:pt x="431" y="805"/>
                    </a:lnTo>
                    <a:lnTo>
                      <a:pt x="446" y="798"/>
                    </a:lnTo>
                    <a:lnTo>
                      <a:pt x="446" y="798"/>
                    </a:lnTo>
                    <a:lnTo>
                      <a:pt x="446" y="794"/>
                    </a:lnTo>
                    <a:lnTo>
                      <a:pt x="453" y="787"/>
                    </a:lnTo>
                    <a:lnTo>
                      <a:pt x="460" y="780"/>
                    </a:lnTo>
                    <a:lnTo>
                      <a:pt x="464" y="780"/>
                    </a:lnTo>
                    <a:lnTo>
                      <a:pt x="464" y="780"/>
                    </a:lnTo>
                    <a:lnTo>
                      <a:pt x="471" y="769"/>
                    </a:lnTo>
                    <a:lnTo>
                      <a:pt x="475" y="758"/>
                    </a:lnTo>
                    <a:lnTo>
                      <a:pt x="479" y="747"/>
                    </a:lnTo>
                    <a:lnTo>
                      <a:pt x="479" y="747"/>
                    </a:lnTo>
                    <a:lnTo>
                      <a:pt x="479" y="743"/>
                    </a:lnTo>
                    <a:lnTo>
                      <a:pt x="479" y="736"/>
                    </a:lnTo>
                    <a:lnTo>
                      <a:pt x="479" y="725"/>
                    </a:lnTo>
                    <a:lnTo>
                      <a:pt x="479" y="714"/>
                    </a:lnTo>
                    <a:lnTo>
                      <a:pt x="479" y="714"/>
                    </a:lnTo>
                    <a:lnTo>
                      <a:pt x="479" y="714"/>
                    </a:lnTo>
                    <a:lnTo>
                      <a:pt x="475" y="703"/>
                    </a:lnTo>
                    <a:lnTo>
                      <a:pt x="475" y="703"/>
                    </a:lnTo>
                    <a:lnTo>
                      <a:pt x="471" y="700"/>
                    </a:lnTo>
                    <a:lnTo>
                      <a:pt x="464" y="692"/>
                    </a:lnTo>
                    <a:lnTo>
                      <a:pt x="460" y="696"/>
                    </a:lnTo>
                    <a:lnTo>
                      <a:pt x="468" y="696"/>
                    </a:lnTo>
                    <a:lnTo>
                      <a:pt x="464" y="685"/>
                    </a:lnTo>
                    <a:lnTo>
                      <a:pt x="460" y="682"/>
                    </a:lnTo>
                    <a:lnTo>
                      <a:pt x="460" y="682"/>
                    </a:lnTo>
                    <a:lnTo>
                      <a:pt x="450" y="674"/>
                    </a:lnTo>
                    <a:lnTo>
                      <a:pt x="446" y="678"/>
                    </a:lnTo>
                    <a:lnTo>
                      <a:pt x="453" y="678"/>
                    </a:lnTo>
                    <a:lnTo>
                      <a:pt x="446" y="667"/>
                    </a:lnTo>
                    <a:lnTo>
                      <a:pt x="446" y="667"/>
                    </a:lnTo>
                    <a:lnTo>
                      <a:pt x="442" y="663"/>
                    </a:lnTo>
                    <a:lnTo>
                      <a:pt x="435" y="656"/>
                    </a:lnTo>
                    <a:lnTo>
                      <a:pt x="431" y="660"/>
                    </a:lnTo>
                    <a:lnTo>
                      <a:pt x="439" y="660"/>
                    </a:lnTo>
                    <a:lnTo>
                      <a:pt x="435" y="649"/>
                    </a:lnTo>
                    <a:lnTo>
                      <a:pt x="431" y="638"/>
                    </a:lnTo>
                    <a:lnTo>
                      <a:pt x="424" y="638"/>
                    </a:lnTo>
                    <a:lnTo>
                      <a:pt x="431" y="638"/>
                    </a:lnTo>
                    <a:lnTo>
                      <a:pt x="431" y="624"/>
                    </a:lnTo>
                    <a:lnTo>
                      <a:pt x="431" y="613"/>
                    </a:lnTo>
                    <a:lnTo>
                      <a:pt x="431" y="602"/>
                    </a:lnTo>
                    <a:lnTo>
                      <a:pt x="424" y="602"/>
                    </a:lnTo>
                    <a:lnTo>
                      <a:pt x="431" y="605"/>
                    </a:lnTo>
                    <a:lnTo>
                      <a:pt x="435" y="595"/>
                    </a:lnTo>
                    <a:lnTo>
                      <a:pt x="439" y="584"/>
                    </a:lnTo>
                    <a:lnTo>
                      <a:pt x="446" y="573"/>
                    </a:lnTo>
                    <a:lnTo>
                      <a:pt x="439" y="569"/>
                    </a:lnTo>
                    <a:lnTo>
                      <a:pt x="442" y="576"/>
                    </a:lnTo>
                    <a:lnTo>
                      <a:pt x="450" y="573"/>
                    </a:lnTo>
                    <a:lnTo>
                      <a:pt x="450" y="569"/>
                    </a:lnTo>
                    <a:lnTo>
                      <a:pt x="453" y="569"/>
                    </a:lnTo>
                    <a:lnTo>
                      <a:pt x="457" y="562"/>
                    </a:lnTo>
                    <a:lnTo>
                      <a:pt x="450" y="558"/>
                    </a:lnTo>
                    <a:lnTo>
                      <a:pt x="453" y="562"/>
                    </a:lnTo>
                    <a:lnTo>
                      <a:pt x="457" y="558"/>
                    </a:lnTo>
                    <a:lnTo>
                      <a:pt x="453" y="555"/>
                    </a:lnTo>
                    <a:lnTo>
                      <a:pt x="453" y="562"/>
                    </a:lnTo>
                    <a:lnTo>
                      <a:pt x="460" y="562"/>
                    </a:lnTo>
                    <a:lnTo>
                      <a:pt x="464" y="562"/>
                    </a:lnTo>
                    <a:lnTo>
                      <a:pt x="464" y="558"/>
                    </a:lnTo>
                    <a:lnTo>
                      <a:pt x="468" y="555"/>
                    </a:lnTo>
                    <a:lnTo>
                      <a:pt x="464" y="551"/>
                    </a:lnTo>
                    <a:lnTo>
                      <a:pt x="468" y="558"/>
                    </a:lnTo>
                    <a:lnTo>
                      <a:pt x="475" y="555"/>
                    </a:lnTo>
                    <a:lnTo>
                      <a:pt x="482" y="551"/>
                    </a:lnTo>
                    <a:lnTo>
                      <a:pt x="489" y="547"/>
                    </a:lnTo>
                    <a:lnTo>
                      <a:pt x="486" y="540"/>
                    </a:lnTo>
                    <a:lnTo>
                      <a:pt x="486" y="547"/>
                    </a:lnTo>
                    <a:lnTo>
                      <a:pt x="493" y="547"/>
                    </a:lnTo>
                    <a:lnTo>
                      <a:pt x="497" y="547"/>
                    </a:lnTo>
                    <a:lnTo>
                      <a:pt x="497" y="547"/>
                    </a:lnTo>
                    <a:lnTo>
                      <a:pt x="508" y="544"/>
                    </a:lnTo>
                    <a:lnTo>
                      <a:pt x="504" y="537"/>
                    </a:lnTo>
                    <a:lnTo>
                      <a:pt x="504" y="544"/>
                    </a:lnTo>
                    <a:lnTo>
                      <a:pt x="515" y="544"/>
                    </a:lnTo>
                    <a:lnTo>
                      <a:pt x="522" y="544"/>
                    </a:lnTo>
                    <a:lnTo>
                      <a:pt x="533" y="544"/>
                    </a:lnTo>
                    <a:lnTo>
                      <a:pt x="544" y="544"/>
                    </a:lnTo>
                    <a:lnTo>
                      <a:pt x="544" y="537"/>
                    </a:lnTo>
                    <a:lnTo>
                      <a:pt x="544" y="544"/>
                    </a:lnTo>
                    <a:lnTo>
                      <a:pt x="551" y="547"/>
                    </a:lnTo>
                    <a:lnTo>
                      <a:pt x="562" y="551"/>
                    </a:lnTo>
                    <a:lnTo>
                      <a:pt x="562" y="551"/>
                    </a:lnTo>
                    <a:lnTo>
                      <a:pt x="562" y="551"/>
                    </a:lnTo>
                    <a:lnTo>
                      <a:pt x="569" y="551"/>
                    </a:lnTo>
                    <a:lnTo>
                      <a:pt x="569" y="544"/>
                    </a:lnTo>
                    <a:lnTo>
                      <a:pt x="569" y="551"/>
                    </a:lnTo>
                    <a:lnTo>
                      <a:pt x="577" y="555"/>
                    </a:lnTo>
                    <a:lnTo>
                      <a:pt x="577" y="547"/>
                    </a:lnTo>
                    <a:lnTo>
                      <a:pt x="573" y="551"/>
                    </a:lnTo>
                    <a:lnTo>
                      <a:pt x="577" y="555"/>
                    </a:lnTo>
                    <a:lnTo>
                      <a:pt x="580" y="558"/>
                    </a:lnTo>
                    <a:lnTo>
                      <a:pt x="580" y="558"/>
                    </a:lnTo>
                    <a:lnTo>
                      <a:pt x="587" y="562"/>
                    </a:lnTo>
                    <a:lnTo>
                      <a:pt x="595" y="566"/>
                    </a:lnTo>
                    <a:lnTo>
                      <a:pt x="595" y="558"/>
                    </a:lnTo>
                    <a:lnTo>
                      <a:pt x="591" y="562"/>
                    </a:lnTo>
                    <a:lnTo>
                      <a:pt x="595" y="569"/>
                    </a:lnTo>
                    <a:lnTo>
                      <a:pt x="595" y="569"/>
                    </a:lnTo>
                    <a:lnTo>
                      <a:pt x="595" y="569"/>
                    </a:lnTo>
                    <a:lnTo>
                      <a:pt x="598" y="573"/>
                    </a:lnTo>
                    <a:lnTo>
                      <a:pt x="602" y="569"/>
                    </a:lnTo>
                    <a:lnTo>
                      <a:pt x="598" y="573"/>
                    </a:lnTo>
                    <a:lnTo>
                      <a:pt x="602" y="580"/>
                    </a:lnTo>
                    <a:lnTo>
                      <a:pt x="606" y="591"/>
                    </a:lnTo>
                    <a:lnTo>
                      <a:pt x="609" y="602"/>
                    </a:lnTo>
                    <a:lnTo>
                      <a:pt x="613" y="598"/>
                    </a:lnTo>
                    <a:lnTo>
                      <a:pt x="609" y="598"/>
                    </a:lnTo>
                    <a:lnTo>
                      <a:pt x="609" y="613"/>
                    </a:lnTo>
                    <a:lnTo>
                      <a:pt x="609" y="624"/>
                    </a:lnTo>
                    <a:lnTo>
                      <a:pt x="609" y="638"/>
                    </a:lnTo>
                    <a:lnTo>
                      <a:pt x="613" y="638"/>
                    </a:lnTo>
                    <a:lnTo>
                      <a:pt x="609" y="638"/>
                    </a:lnTo>
                    <a:lnTo>
                      <a:pt x="606" y="649"/>
                    </a:lnTo>
                    <a:lnTo>
                      <a:pt x="602" y="660"/>
                    </a:lnTo>
                    <a:lnTo>
                      <a:pt x="598" y="671"/>
                    </a:lnTo>
                    <a:lnTo>
                      <a:pt x="602" y="671"/>
                    </a:lnTo>
                    <a:lnTo>
                      <a:pt x="598" y="667"/>
                    </a:lnTo>
                    <a:lnTo>
                      <a:pt x="591" y="674"/>
                    </a:lnTo>
                    <a:lnTo>
                      <a:pt x="584" y="682"/>
                    </a:lnTo>
                    <a:lnTo>
                      <a:pt x="587" y="685"/>
                    </a:lnTo>
                    <a:lnTo>
                      <a:pt x="587" y="682"/>
                    </a:lnTo>
                    <a:lnTo>
                      <a:pt x="580" y="685"/>
                    </a:lnTo>
                    <a:lnTo>
                      <a:pt x="580" y="685"/>
                    </a:lnTo>
                    <a:lnTo>
                      <a:pt x="577" y="685"/>
                    </a:lnTo>
                    <a:lnTo>
                      <a:pt x="569" y="692"/>
                    </a:lnTo>
                    <a:lnTo>
                      <a:pt x="569" y="696"/>
                    </a:lnTo>
                    <a:lnTo>
                      <a:pt x="569" y="696"/>
                    </a:lnTo>
                    <a:lnTo>
                      <a:pt x="566" y="703"/>
                    </a:lnTo>
                    <a:lnTo>
                      <a:pt x="562" y="714"/>
                    </a:lnTo>
                    <a:lnTo>
                      <a:pt x="558" y="722"/>
                    </a:lnTo>
                    <a:lnTo>
                      <a:pt x="558" y="722"/>
                    </a:lnTo>
                    <a:lnTo>
                      <a:pt x="558" y="722"/>
                    </a:lnTo>
                    <a:lnTo>
                      <a:pt x="558" y="729"/>
                    </a:lnTo>
                    <a:lnTo>
                      <a:pt x="562" y="729"/>
                    </a:lnTo>
                    <a:lnTo>
                      <a:pt x="558" y="729"/>
                    </a:lnTo>
                    <a:lnTo>
                      <a:pt x="555" y="740"/>
                    </a:lnTo>
                    <a:lnTo>
                      <a:pt x="555" y="740"/>
                    </a:lnTo>
                    <a:lnTo>
                      <a:pt x="555" y="740"/>
                    </a:lnTo>
                    <a:lnTo>
                      <a:pt x="555" y="751"/>
                    </a:lnTo>
                    <a:lnTo>
                      <a:pt x="555" y="751"/>
                    </a:lnTo>
                    <a:lnTo>
                      <a:pt x="555" y="754"/>
                    </a:lnTo>
                    <a:lnTo>
                      <a:pt x="558" y="761"/>
                    </a:lnTo>
                    <a:lnTo>
                      <a:pt x="562" y="772"/>
                    </a:lnTo>
                    <a:lnTo>
                      <a:pt x="566" y="783"/>
                    </a:lnTo>
                    <a:lnTo>
                      <a:pt x="566" y="783"/>
                    </a:lnTo>
                    <a:lnTo>
                      <a:pt x="566" y="783"/>
                    </a:lnTo>
                    <a:lnTo>
                      <a:pt x="573" y="790"/>
                    </a:lnTo>
                    <a:lnTo>
                      <a:pt x="577" y="787"/>
                    </a:lnTo>
                    <a:lnTo>
                      <a:pt x="573" y="790"/>
                    </a:lnTo>
                    <a:lnTo>
                      <a:pt x="580" y="801"/>
                    </a:lnTo>
                    <a:lnTo>
                      <a:pt x="580" y="801"/>
                    </a:lnTo>
                    <a:lnTo>
                      <a:pt x="584" y="805"/>
                    </a:lnTo>
                    <a:lnTo>
                      <a:pt x="595" y="812"/>
                    </a:lnTo>
                    <a:lnTo>
                      <a:pt x="606" y="819"/>
                    </a:lnTo>
                    <a:lnTo>
                      <a:pt x="602" y="816"/>
                    </a:lnTo>
                    <a:lnTo>
                      <a:pt x="606" y="819"/>
                    </a:lnTo>
                    <a:lnTo>
                      <a:pt x="620" y="823"/>
                    </a:lnTo>
                    <a:lnTo>
                      <a:pt x="620" y="816"/>
                    </a:lnTo>
                    <a:lnTo>
                      <a:pt x="620" y="823"/>
                    </a:lnTo>
                    <a:lnTo>
                      <a:pt x="627" y="827"/>
                    </a:lnTo>
                    <a:lnTo>
                      <a:pt x="624" y="823"/>
                    </a:lnTo>
                    <a:lnTo>
                      <a:pt x="627" y="827"/>
                    </a:lnTo>
                    <a:lnTo>
                      <a:pt x="642" y="830"/>
                    </a:lnTo>
                    <a:lnTo>
                      <a:pt x="667" y="834"/>
                    </a:lnTo>
                    <a:lnTo>
                      <a:pt x="696" y="838"/>
                    </a:lnTo>
                    <a:lnTo>
                      <a:pt x="714" y="838"/>
                    </a:lnTo>
                    <a:lnTo>
                      <a:pt x="732" y="841"/>
                    </a:lnTo>
                    <a:lnTo>
                      <a:pt x="751" y="841"/>
                    </a:lnTo>
                    <a:lnTo>
                      <a:pt x="769" y="841"/>
                    </a:lnTo>
                    <a:lnTo>
                      <a:pt x="787" y="841"/>
                    </a:lnTo>
                    <a:lnTo>
                      <a:pt x="809" y="841"/>
                    </a:lnTo>
                    <a:lnTo>
                      <a:pt x="823" y="838"/>
                    </a:lnTo>
                    <a:lnTo>
                      <a:pt x="841" y="834"/>
                    </a:lnTo>
                    <a:lnTo>
                      <a:pt x="845" y="830"/>
                    </a:lnTo>
                    <a:lnTo>
                      <a:pt x="848" y="827"/>
                    </a:lnTo>
                    <a:lnTo>
                      <a:pt x="848" y="819"/>
                    </a:lnTo>
                    <a:lnTo>
                      <a:pt x="848" y="819"/>
                    </a:lnTo>
                    <a:lnTo>
                      <a:pt x="848" y="819"/>
                    </a:lnTo>
                    <a:lnTo>
                      <a:pt x="845" y="809"/>
                    </a:lnTo>
                    <a:lnTo>
                      <a:pt x="841" y="798"/>
                    </a:lnTo>
                    <a:lnTo>
                      <a:pt x="834" y="798"/>
                    </a:lnTo>
                    <a:lnTo>
                      <a:pt x="841" y="798"/>
                    </a:lnTo>
                    <a:lnTo>
                      <a:pt x="841" y="787"/>
                    </a:lnTo>
                    <a:lnTo>
                      <a:pt x="841" y="761"/>
                    </a:lnTo>
                    <a:lnTo>
                      <a:pt x="841" y="736"/>
                    </a:lnTo>
                    <a:lnTo>
                      <a:pt x="841" y="707"/>
                    </a:lnTo>
                    <a:lnTo>
                      <a:pt x="845" y="682"/>
                    </a:lnTo>
                    <a:lnTo>
                      <a:pt x="848" y="656"/>
                    </a:lnTo>
                    <a:lnTo>
                      <a:pt x="848" y="634"/>
                    </a:lnTo>
                    <a:lnTo>
                      <a:pt x="841" y="634"/>
                    </a:lnTo>
                    <a:lnTo>
                      <a:pt x="848" y="638"/>
                    </a:lnTo>
                    <a:lnTo>
                      <a:pt x="852" y="627"/>
                    </a:lnTo>
                    <a:lnTo>
                      <a:pt x="856" y="620"/>
                    </a:lnTo>
                    <a:lnTo>
                      <a:pt x="859" y="613"/>
                    </a:lnTo>
                    <a:lnTo>
                      <a:pt x="852" y="609"/>
                    </a:lnTo>
                    <a:lnTo>
                      <a:pt x="856" y="616"/>
                    </a:lnTo>
                    <a:lnTo>
                      <a:pt x="863" y="613"/>
                    </a:lnTo>
                    <a:lnTo>
                      <a:pt x="863" y="613"/>
                    </a:lnTo>
                    <a:lnTo>
                      <a:pt x="863" y="609"/>
                    </a:lnTo>
                    <a:lnTo>
                      <a:pt x="867" y="605"/>
                    </a:lnTo>
                    <a:lnTo>
                      <a:pt x="863" y="602"/>
                    </a:lnTo>
                    <a:lnTo>
                      <a:pt x="867" y="609"/>
                    </a:lnTo>
                    <a:lnTo>
                      <a:pt x="874" y="605"/>
                    </a:lnTo>
                    <a:lnTo>
                      <a:pt x="870" y="598"/>
                    </a:lnTo>
                    <a:lnTo>
                      <a:pt x="870" y="605"/>
                    </a:lnTo>
                    <a:lnTo>
                      <a:pt x="877" y="605"/>
                    </a:lnTo>
                    <a:lnTo>
                      <a:pt x="885" y="605"/>
                    </a:lnTo>
                    <a:lnTo>
                      <a:pt x="892" y="605"/>
                    </a:lnTo>
                    <a:lnTo>
                      <a:pt x="892" y="598"/>
                    </a:lnTo>
                    <a:lnTo>
                      <a:pt x="892" y="605"/>
                    </a:lnTo>
                    <a:lnTo>
                      <a:pt x="903" y="609"/>
                    </a:lnTo>
                    <a:lnTo>
                      <a:pt x="910" y="613"/>
                    </a:lnTo>
                    <a:lnTo>
                      <a:pt x="917" y="616"/>
                    </a:lnTo>
                    <a:lnTo>
                      <a:pt x="925" y="620"/>
                    </a:lnTo>
                    <a:lnTo>
                      <a:pt x="932" y="624"/>
                    </a:lnTo>
                    <a:lnTo>
                      <a:pt x="943" y="631"/>
                    </a:lnTo>
                    <a:lnTo>
                      <a:pt x="943" y="624"/>
                    </a:lnTo>
                    <a:lnTo>
                      <a:pt x="939" y="627"/>
                    </a:lnTo>
                    <a:lnTo>
                      <a:pt x="943" y="634"/>
                    </a:lnTo>
                    <a:lnTo>
                      <a:pt x="943" y="634"/>
                    </a:lnTo>
                    <a:lnTo>
                      <a:pt x="943" y="634"/>
                    </a:lnTo>
                    <a:lnTo>
                      <a:pt x="950" y="642"/>
                    </a:lnTo>
                    <a:lnTo>
                      <a:pt x="954" y="645"/>
                    </a:lnTo>
                    <a:lnTo>
                      <a:pt x="954" y="645"/>
                    </a:lnTo>
                    <a:lnTo>
                      <a:pt x="961" y="649"/>
                    </a:lnTo>
                    <a:lnTo>
                      <a:pt x="972" y="653"/>
                    </a:lnTo>
                    <a:lnTo>
                      <a:pt x="983" y="656"/>
                    </a:lnTo>
                    <a:lnTo>
                      <a:pt x="983" y="656"/>
                    </a:lnTo>
                    <a:lnTo>
                      <a:pt x="983" y="656"/>
                    </a:lnTo>
                    <a:lnTo>
                      <a:pt x="990" y="656"/>
                    </a:lnTo>
                    <a:lnTo>
                      <a:pt x="990" y="649"/>
                    </a:lnTo>
                    <a:lnTo>
                      <a:pt x="990" y="656"/>
                    </a:lnTo>
                    <a:lnTo>
                      <a:pt x="1001" y="660"/>
                    </a:lnTo>
                    <a:lnTo>
                      <a:pt x="1001" y="660"/>
                    </a:lnTo>
                    <a:lnTo>
                      <a:pt x="1004" y="660"/>
                    </a:lnTo>
                    <a:lnTo>
                      <a:pt x="1015" y="656"/>
                    </a:lnTo>
                    <a:lnTo>
                      <a:pt x="1012" y="649"/>
                    </a:lnTo>
                    <a:lnTo>
                      <a:pt x="1012" y="656"/>
                    </a:lnTo>
                    <a:lnTo>
                      <a:pt x="1022" y="656"/>
                    </a:lnTo>
                    <a:lnTo>
                      <a:pt x="1022" y="656"/>
                    </a:lnTo>
                    <a:lnTo>
                      <a:pt x="1026" y="656"/>
                    </a:lnTo>
                    <a:lnTo>
                      <a:pt x="1033" y="653"/>
                    </a:lnTo>
                    <a:lnTo>
                      <a:pt x="1044" y="649"/>
                    </a:lnTo>
                    <a:lnTo>
                      <a:pt x="1044" y="649"/>
                    </a:lnTo>
                    <a:lnTo>
                      <a:pt x="1044" y="645"/>
                    </a:lnTo>
                    <a:lnTo>
                      <a:pt x="1051" y="638"/>
                    </a:lnTo>
                    <a:lnTo>
                      <a:pt x="1059" y="631"/>
                    </a:lnTo>
                    <a:lnTo>
                      <a:pt x="1066" y="624"/>
                    </a:lnTo>
                    <a:lnTo>
                      <a:pt x="1070" y="624"/>
                    </a:lnTo>
                    <a:lnTo>
                      <a:pt x="1070" y="624"/>
                    </a:lnTo>
                    <a:lnTo>
                      <a:pt x="1077" y="613"/>
                    </a:lnTo>
                    <a:lnTo>
                      <a:pt x="1080" y="602"/>
                    </a:lnTo>
                    <a:lnTo>
                      <a:pt x="1084" y="587"/>
                    </a:lnTo>
                    <a:lnTo>
                      <a:pt x="1084" y="587"/>
                    </a:lnTo>
                    <a:lnTo>
                      <a:pt x="1084" y="584"/>
                    </a:lnTo>
                    <a:lnTo>
                      <a:pt x="1084" y="576"/>
                    </a:lnTo>
                    <a:lnTo>
                      <a:pt x="1084" y="569"/>
                    </a:lnTo>
                    <a:lnTo>
                      <a:pt x="1084" y="562"/>
                    </a:lnTo>
                    <a:lnTo>
                      <a:pt x="1084" y="555"/>
                    </a:lnTo>
                    <a:lnTo>
                      <a:pt x="1084" y="555"/>
                    </a:lnTo>
                    <a:lnTo>
                      <a:pt x="1080" y="551"/>
                    </a:lnTo>
                    <a:lnTo>
                      <a:pt x="1077" y="547"/>
                    </a:lnTo>
                    <a:lnTo>
                      <a:pt x="1073" y="551"/>
                    </a:lnTo>
                    <a:lnTo>
                      <a:pt x="1080" y="551"/>
                    </a:lnTo>
                    <a:lnTo>
                      <a:pt x="1077" y="544"/>
                    </a:lnTo>
                    <a:lnTo>
                      <a:pt x="1070" y="544"/>
                    </a:lnTo>
                    <a:lnTo>
                      <a:pt x="1077" y="544"/>
                    </a:lnTo>
                    <a:lnTo>
                      <a:pt x="1077" y="537"/>
                    </a:lnTo>
                    <a:lnTo>
                      <a:pt x="1077" y="537"/>
                    </a:lnTo>
                    <a:lnTo>
                      <a:pt x="1073" y="533"/>
                    </a:lnTo>
                    <a:lnTo>
                      <a:pt x="1070" y="529"/>
                    </a:lnTo>
                    <a:lnTo>
                      <a:pt x="1066" y="533"/>
                    </a:lnTo>
                    <a:lnTo>
                      <a:pt x="1073" y="533"/>
                    </a:lnTo>
                    <a:lnTo>
                      <a:pt x="1066" y="522"/>
                    </a:lnTo>
                    <a:lnTo>
                      <a:pt x="1062" y="518"/>
                    </a:lnTo>
                    <a:lnTo>
                      <a:pt x="1062" y="518"/>
                    </a:lnTo>
                    <a:lnTo>
                      <a:pt x="1051" y="511"/>
                    </a:lnTo>
                    <a:lnTo>
                      <a:pt x="1041" y="504"/>
                    </a:lnTo>
                    <a:lnTo>
                      <a:pt x="1030" y="497"/>
                    </a:lnTo>
                    <a:lnTo>
                      <a:pt x="1019" y="493"/>
                    </a:lnTo>
                    <a:lnTo>
                      <a:pt x="1008" y="489"/>
                    </a:lnTo>
                    <a:lnTo>
                      <a:pt x="1008" y="489"/>
                    </a:lnTo>
                    <a:lnTo>
                      <a:pt x="1004" y="489"/>
                    </a:lnTo>
                    <a:lnTo>
                      <a:pt x="990" y="489"/>
                    </a:lnTo>
                    <a:lnTo>
                      <a:pt x="979" y="489"/>
                    </a:lnTo>
                    <a:lnTo>
                      <a:pt x="979" y="489"/>
                    </a:lnTo>
                    <a:lnTo>
                      <a:pt x="979" y="489"/>
                    </a:lnTo>
                    <a:lnTo>
                      <a:pt x="968" y="493"/>
                    </a:lnTo>
                    <a:lnTo>
                      <a:pt x="957" y="497"/>
                    </a:lnTo>
                    <a:lnTo>
                      <a:pt x="957" y="500"/>
                    </a:lnTo>
                    <a:lnTo>
                      <a:pt x="957" y="497"/>
                    </a:lnTo>
                    <a:lnTo>
                      <a:pt x="954" y="497"/>
                    </a:lnTo>
                    <a:lnTo>
                      <a:pt x="954" y="497"/>
                    </a:lnTo>
                    <a:lnTo>
                      <a:pt x="950" y="497"/>
                    </a:lnTo>
                    <a:lnTo>
                      <a:pt x="946" y="500"/>
                    </a:lnTo>
                    <a:lnTo>
                      <a:pt x="943" y="504"/>
                    </a:lnTo>
                    <a:lnTo>
                      <a:pt x="943" y="508"/>
                    </a:lnTo>
                    <a:lnTo>
                      <a:pt x="943" y="508"/>
                    </a:lnTo>
                    <a:lnTo>
                      <a:pt x="939" y="515"/>
                    </a:lnTo>
                    <a:lnTo>
                      <a:pt x="943" y="515"/>
                    </a:lnTo>
                    <a:lnTo>
                      <a:pt x="939" y="511"/>
                    </a:lnTo>
                    <a:lnTo>
                      <a:pt x="932" y="518"/>
                    </a:lnTo>
                    <a:lnTo>
                      <a:pt x="925" y="526"/>
                    </a:lnTo>
                    <a:lnTo>
                      <a:pt x="928" y="529"/>
                    </a:lnTo>
                    <a:lnTo>
                      <a:pt x="928" y="526"/>
                    </a:lnTo>
                    <a:lnTo>
                      <a:pt x="921" y="529"/>
                    </a:lnTo>
                    <a:lnTo>
                      <a:pt x="914" y="533"/>
                    </a:lnTo>
                    <a:lnTo>
                      <a:pt x="914" y="537"/>
                    </a:lnTo>
                    <a:lnTo>
                      <a:pt x="914" y="533"/>
                    </a:lnTo>
                    <a:lnTo>
                      <a:pt x="906" y="533"/>
                    </a:lnTo>
                    <a:lnTo>
                      <a:pt x="896" y="533"/>
                    </a:lnTo>
                    <a:lnTo>
                      <a:pt x="888" y="533"/>
                    </a:lnTo>
                    <a:lnTo>
                      <a:pt x="888" y="537"/>
                    </a:lnTo>
                    <a:lnTo>
                      <a:pt x="892" y="533"/>
                    </a:lnTo>
                    <a:lnTo>
                      <a:pt x="885" y="529"/>
                    </a:lnTo>
                    <a:lnTo>
                      <a:pt x="885" y="529"/>
                    </a:lnTo>
                    <a:lnTo>
                      <a:pt x="881" y="529"/>
                    </a:lnTo>
                    <a:lnTo>
                      <a:pt x="874" y="529"/>
                    </a:lnTo>
                    <a:lnTo>
                      <a:pt x="874" y="533"/>
                    </a:lnTo>
                    <a:lnTo>
                      <a:pt x="877" y="529"/>
                    </a:lnTo>
                    <a:lnTo>
                      <a:pt x="870" y="526"/>
                    </a:lnTo>
                    <a:lnTo>
                      <a:pt x="867" y="529"/>
                    </a:lnTo>
                    <a:lnTo>
                      <a:pt x="870" y="526"/>
                    </a:lnTo>
                    <a:lnTo>
                      <a:pt x="863" y="518"/>
                    </a:lnTo>
                    <a:lnTo>
                      <a:pt x="863" y="518"/>
                    </a:lnTo>
                    <a:lnTo>
                      <a:pt x="863" y="518"/>
                    </a:lnTo>
                    <a:lnTo>
                      <a:pt x="856" y="515"/>
                    </a:lnTo>
                    <a:lnTo>
                      <a:pt x="852" y="518"/>
                    </a:lnTo>
                    <a:lnTo>
                      <a:pt x="856" y="515"/>
                    </a:lnTo>
                    <a:lnTo>
                      <a:pt x="852" y="511"/>
                    </a:lnTo>
                    <a:lnTo>
                      <a:pt x="848" y="515"/>
                    </a:lnTo>
                    <a:lnTo>
                      <a:pt x="856" y="515"/>
                    </a:lnTo>
                    <a:lnTo>
                      <a:pt x="852" y="508"/>
                    </a:lnTo>
                    <a:lnTo>
                      <a:pt x="852" y="508"/>
                    </a:lnTo>
                    <a:lnTo>
                      <a:pt x="848" y="504"/>
                    </a:lnTo>
                    <a:lnTo>
                      <a:pt x="845" y="500"/>
                    </a:lnTo>
                    <a:lnTo>
                      <a:pt x="841" y="504"/>
                    </a:lnTo>
                    <a:lnTo>
                      <a:pt x="848" y="504"/>
                    </a:lnTo>
                    <a:lnTo>
                      <a:pt x="848" y="497"/>
                    </a:lnTo>
                    <a:lnTo>
                      <a:pt x="848" y="478"/>
                    </a:lnTo>
                    <a:lnTo>
                      <a:pt x="848" y="453"/>
                    </a:lnTo>
                    <a:lnTo>
                      <a:pt x="848" y="413"/>
                    </a:lnTo>
                    <a:lnTo>
                      <a:pt x="848" y="373"/>
                    </a:lnTo>
                    <a:lnTo>
                      <a:pt x="848" y="333"/>
                    </a:lnTo>
                    <a:lnTo>
                      <a:pt x="848" y="290"/>
                    </a:lnTo>
                    <a:lnTo>
                      <a:pt x="848" y="254"/>
                    </a:lnTo>
                    <a:lnTo>
                      <a:pt x="848" y="225"/>
                    </a:lnTo>
                    <a:lnTo>
                      <a:pt x="848" y="217"/>
                    </a:lnTo>
                    <a:lnTo>
                      <a:pt x="841" y="221"/>
                    </a:lnTo>
                    <a:lnTo>
                      <a:pt x="830" y="225"/>
                    </a:lnTo>
                    <a:lnTo>
                      <a:pt x="819" y="232"/>
                    </a:lnTo>
                    <a:lnTo>
                      <a:pt x="819" y="235"/>
                    </a:lnTo>
                    <a:lnTo>
                      <a:pt x="819" y="232"/>
                    </a:lnTo>
                    <a:lnTo>
                      <a:pt x="805" y="235"/>
                    </a:lnTo>
                    <a:lnTo>
                      <a:pt x="790" y="239"/>
                    </a:lnTo>
                    <a:lnTo>
                      <a:pt x="776" y="243"/>
                    </a:lnTo>
                    <a:lnTo>
                      <a:pt x="761" y="243"/>
                    </a:lnTo>
                    <a:lnTo>
                      <a:pt x="743" y="243"/>
                    </a:lnTo>
                    <a:lnTo>
                      <a:pt x="725" y="243"/>
                    </a:lnTo>
                    <a:lnTo>
                      <a:pt x="711" y="243"/>
                    </a:lnTo>
                    <a:lnTo>
                      <a:pt x="693" y="243"/>
                    </a:lnTo>
                    <a:lnTo>
                      <a:pt x="674" y="239"/>
                    </a:lnTo>
                    <a:lnTo>
                      <a:pt x="660" y="235"/>
                    </a:lnTo>
                    <a:lnTo>
                      <a:pt x="645" y="232"/>
                    </a:lnTo>
                    <a:lnTo>
                      <a:pt x="631" y="228"/>
                    </a:lnTo>
                    <a:lnTo>
                      <a:pt x="616" y="225"/>
                    </a:lnTo>
                    <a:lnTo>
                      <a:pt x="616" y="228"/>
                    </a:lnTo>
                    <a:lnTo>
                      <a:pt x="620" y="225"/>
                    </a:lnTo>
                    <a:lnTo>
                      <a:pt x="609" y="221"/>
                    </a:lnTo>
                    <a:lnTo>
                      <a:pt x="602" y="217"/>
                    </a:lnTo>
                    <a:lnTo>
                      <a:pt x="598" y="221"/>
                    </a:lnTo>
                    <a:lnTo>
                      <a:pt x="602" y="217"/>
                    </a:lnTo>
                    <a:lnTo>
                      <a:pt x="595" y="210"/>
                    </a:lnTo>
                    <a:lnTo>
                      <a:pt x="595" y="210"/>
                    </a:lnTo>
                    <a:lnTo>
                      <a:pt x="595" y="210"/>
                    </a:lnTo>
                    <a:lnTo>
                      <a:pt x="587" y="206"/>
                    </a:lnTo>
                    <a:lnTo>
                      <a:pt x="580" y="203"/>
                    </a:lnTo>
                    <a:lnTo>
                      <a:pt x="577" y="206"/>
                    </a:lnTo>
                    <a:lnTo>
                      <a:pt x="580" y="203"/>
                    </a:lnTo>
                    <a:lnTo>
                      <a:pt x="577" y="199"/>
                    </a:lnTo>
                    <a:lnTo>
                      <a:pt x="573" y="196"/>
                    </a:lnTo>
                    <a:lnTo>
                      <a:pt x="569" y="199"/>
                    </a:lnTo>
                    <a:lnTo>
                      <a:pt x="577" y="199"/>
                    </a:lnTo>
                    <a:lnTo>
                      <a:pt x="577" y="192"/>
                    </a:lnTo>
                    <a:lnTo>
                      <a:pt x="577" y="188"/>
                    </a:lnTo>
                    <a:lnTo>
                      <a:pt x="577" y="185"/>
                    </a:lnTo>
                    <a:lnTo>
                      <a:pt x="577" y="177"/>
                    </a:lnTo>
                    <a:lnTo>
                      <a:pt x="569" y="177"/>
                    </a:lnTo>
                    <a:lnTo>
                      <a:pt x="573" y="181"/>
                    </a:lnTo>
                    <a:lnTo>
                      <a:pt x="577" y="177"/>
                    </a:lnTo>
                    <a:lnTo>
                      <a:pt x="580" y="177"/>
                    </a:lnTo>
                    <a:lnTo>
                      <a:pt x="580" y="177"/>
                    </a:lnTo>
                    <a:lnTo>
                      <a:pt x="584" y="170"/>
                    </a:lnTo>
                    <a:lnTo>
                      <a:pt x="591" y="156"/>
                    </a:lnTo>
                    <a:lnTo>
                      <a:pt x="584" y="152"/>
                    </a:lnTo>
                    <a:lnTo>
                      <a:pt x="587" y="156"/>
                    </a:lnTo>
                    <a:lnTo>
                      <a:pt x="602" y="141"/>
                    </a:lnTo>
                    <a:lnTo>
                      <a:pt x="609" y="134"/>
                    </a:lnTo>
                    <a:lnTo>
                      <a:pt x="613" y="134"/>
                    </a:lnTo>
                    <a:lnTo>
                      <a:pt x="613" y="134"/>
                    </a:lnTo>
                    <a:lnTo>
                      <a:pt x="620" y="123"/>
                    </a:lnTo>
                    <a:lnTo>
                      <a:pt x="624" y="112"/>
                    </a:lnTo>
                    <a:lnTo>
                      <a:pt x="627" y="101"/>
                    </a:lnTo>
                    <a:lnTo>
                      <a:pt x="627" y="101"/>
                    </a:lnTo>
                    <a:lnTo>
                      <a:pt x="627" y="98"/>
                    </a:lnTo>
                    <a:lnTo>
                      <a:pt x="627" y="87"/>
                    </a:lnTo>
                    <a:lnTo>
                      <a:pt x="627" y="76"/>
                    </a:lnTo>
                    <a:lnTo>
                      <a:pt x="627" y="65"/>
                    </a:lnTo>
                    <a:lnTo>
                      <a:pt x="627" y="65"/>
                    </a:lnTo>
                    <a:lnTo>
                      <a:pt x="627" y="65"/>
                    </a:lnTo>
                    <a:lnTo>
                      <a:pt x="624" y="54"/>
                    </a:lnTo>
                    <a:lnTo>
                      <a:pt x="620" y="43"/>
                    </a:lnTo>
                    <a:lnTo>
                      <a:pt x="613" y="32"/>
                    </a:lnTo>
                    <a:lnTo>
                      <a:pt x="613" y="32"/>
                    </a:lnTo>
                    <a:lnTo>
                      <a:pt x="609" y="29"/>
                    </a:lnTo>
                    <a:lnTo>
                      <a:pt x="606" y="25"/>
                    </a:lnTo>
                    <a:lnTo>
                      <a:pt x="606" y="25"/>
                    </a:lnTo>
                    <a:lnTo>
                      <a:pt x="606" y="25"/>
                    </a:lnTo>
                    <a:lnTo>
                      <a:pt x="598" y="21"/>
                    </a:lnTo>
                    <a:lnTo>
                      <a:pt x="595" y="25"/>
                    </a:lnTo>
                    <a:lnTo>
                      <a:pt x="598" y="21"/>
                    </a:lnTo>
                    <a:lnTo>
                      <a:pt x="595" y="18"/>
                    </a:lnTo>
                    <a:lnTo>
                      <a:pt x="595" y="18"/>
                    </a:lnTo>
                    <a:lnTo>
                      <a:pt x="595" y="18"/>
                    </a:lnTo>
                    <a:lnTo>
                      <a:pt x="587" y="14"/>
                    </a:lnTo>
                    <a:lnTo>
                      <a:pt x="584" y="18"/>
                    </a:lnTo>
                    <a:lnTo>
                      <a:pt x="587" y="14"/>
                    </a:lnTo>
                    <a:lnTo>
                      <a:pt x="584" y="11"/>
                    </a:lnTo>
                    <a:lnTo>
                      <a:pt x="584" y="11"/>
                    </a:lnTo>
                    <a:lnTo>
                      <a:pt x="584" y="11"/>
                    </a:lnTo>
                    <a:lnTo>
                      <a:pt x="577" y="7"/>
                    </a:lnTo>
                    <a:lnTo>
                      <a:pt x="577" y="7"/>
                    </a:lnTo>
                    <a:lnTo>
                      <a:pt x="573" y="7"/>
                    </a:lnTo>
                    <a:lnTo>
                      <a:pt x="566" y="7"/>
                    </a:lnTo>
                    <a:lnTo>
                      <a:pt x="566" y="11"/>
                    </a:lnTo>
                    <a:lnTo>
                      <a:pt x="569" y="7"/>
                    </a:lnTo>
                    <a:lnTo>
                      <a:pt x="562" y="3"/>
                    </a:lnTo>
                    <a:lnTo>
                      <a:pt x="562" y="3"/>
                    </a:lnTo>
                    <a:lnTo>
                      <a:pt x="558" y="3"/>
                    </a:lnTo>
                    <a:lnTo>
                      <a:pt x="548" y="3"/>
                    </a:lnTo>
                    <a:lnTo>
                      <a:pt x="548" y="7"/>
                    </a:lnTo>
                    <a:lnTo>
                      <a:pt x="551" y="3"/>
                    </a:lnTo>
                    <a:lnTo>
                      <a:pt x="544" y="0"/>
                    </a:lnTo>
                    <a:lnTo>
                      <a:pt x="544" y="0"/>
                    </a:lnTo>
                    <a:lnTo>
                      <a:pt x="540" y="0"/>
                    </a:lnTo>
                    <a:lnTo>
                      <a:pt x="533" y="0"/>
                    </a:lnTo>
                    <a:lnTo>
                      <a:pt x="522" y="0"/>
                    </a:lnTo>
                    <a:lnTo>
                      <a:pt x="515" y="0"/>
                    </a:lnTo>
                    <a:lnTo>
                      <a:pt x="515" y="0"/>
                    </a:lnTo>
                    <a:lnTo>
                      <a:pt x="515" y="0"/>
                    </a:lnTo>
                    <a:lnTo>
                      <a:pt x="504" y="3"/>
                    </a:lnTo>
                    <a:lnTo>
                      <a:pt x="504" y="7"/>
                    </a:lnTo>
                    <a:lnTo>
                      <a:pt x="504" y="3"/>
                    </a:lnTo>
                    <a:lnTo>
                      <a:pt x="497" y="3"/>
                    </a:lnTo>
                    <a:lnTo>
                      <a:pt x="489" y="3"/>
                    </a:lnTo>
                    <a:lnTo>
                      <a:pt x="489" y="3"/>
                    </a:lnTo>
                    <a:lnTo>
                      <a:pt x="486" y="3"/>
                    </a:lnTo>
                    <a:lnTo>
                      <a:pt x="482" y="7"/>
                    </a:lnTo>
                    <a:lnTo>
                      <a:pt x="486" y="11"/>
                    </a:lnTo>
                    <a:lnTo>
                      <a:pt x="486" y="7"/>
                    </a:lnTo>
                    <a:lnTo>
                      <a:pt x="479" y="11"/>
                    </a:lnTo>
                    <a:lnTo>
                      <a:pt x="479" y="11"/>
                    </a:lnTo>
                    <a:lnTo>
                      <a:pt x="475" y="11"/>
                    </a:lnTo>
                    <a:lnTo>
                      <a:pt x="471" y="14"/>
                    </a:lnTo>
                    <a:lnTo>
                      <a:pt x="475" y="18"/>
                    </a:lnTo>
                    <a:lnTo>
                      <a:pt x="475" y="14"/>
                    </a:lnTo>
                    <a:lnTo>
                      <a:pt x="468" y="18"/>
                    </a:lnTo>
                    <a:lnTo>
                      <a:pt x="468" y="18"/>
                    </a:lnTo>
                    <a:lnTo>
                      <a:pt x="464" y="18"/>
                    </a:lnTo>
                    <a:lnTo>
                      <a:pt x="460" y="21"/>
                    </a:lnTo>
                    <a:lnTo>
                      <a:pt x="457" y="25"/>
                    </a:lnTo>
                    <a:lnTo>
                      <a:pt x="453" y="29"/>
                    </a:lnTo>
                    <a:lnTo>
                      <a:pt x="453" y="32"/>
                    </a:lnTo>
                    <a:lnTo>
                      <a:pt x="453" y="32"/>
                    </a:lnTo>
                    <a:lnTo>
                      <a:pt x="450" y="40"/>
                    </a:lnTo>
                    <a:lnTo>
                      <a:pt x="446" y="50"/>
                    </a:lnTo>
                    <a:lnTo>
                      <a:pt x="442" y="61"/>
                    </a:lnTo>
                    <a:lnTo>
                      <a:pt x="442" y="61"/>
                    </a:lnTo>
                    <a:lnTo>
                      <a:pt x="442" y="61"/>
                    </a:lnTo>
                    <a:lnTo>
                      <a:pt x="442" y="72"/>
                    </a:lnTo>
                    <a:lnTo>
                      <a:pt x="442" y="83"/>
                    </a:lnTo>
                    <a:lnTo>
                      <a:pt x="442" y="98"/>
                    </a:lnTo>
                    <a:lnTo>
                      <a:pt x="442" y="101"/>
                    </a:lnTo>
                    <a:lnTo>
                      <a:pt x="442" y="101"/>
                    </a:lnTo>
                    <a:lnTo>
                      <a:pt x="446" y="112"/>
                    </a:lnTo>
                    <a:lnTo>
                      <a:pt x="450" y="127"/>
                    </a:lnTo>
                    <a:lnTo>
                      <a:pt x="457" y="138"/>
                    </a:lnTo>
                    <a:lnTo>
                      <a:pt x="460" y="148"/>
                    </a:lnTo>
                    <a:lnTo>
                      <a:pt x="460" y="148"/>
                    </a:lnTo>
                    <a:lnTo>
                      <a:pt x="464" y="152"/>
                    </a:lnTo>
                    <a:lnTo>
                      <a:pt x="475" y="159"/>
                    </a:lnTo>
                    <a:lnTo>
                      <a:pt x="475" y="152"/>
                    </a:lnTo>
                    <a:lnTo>
                      <a:pt x="471" y="156"/>
                    </a:lnTo>
                    <a:lnTo>
                      <a:pt x="475" y="163"/>
                    </a:lnTo>
                    <a:lnTo>
                      <a:pt x="475" y="163"/>
                    </a:lnTo>
                    <a:lnTo>
                      <a:pt x="475" y="163"/>
                    </a:lnTo>
                    <a:lnTo>
                      <a:pt x="482" y="170"/>
                    </a:lnTo>
                    <a:lnTo>
                      <a:pt x="486" y="167"/>
                    </a:lnTo>
                    <a:lnTo>
                      <a:pt x="482" y="167"/>
                    </a:lnTo>
                    <a:lnTo>
                      <a:pt x="482" y="174"/>
                    </a:lnTo>
                    <a:lnTo>
                      <a:pt x="482" y="177"/>
                    </a:lnTo>
                    <a:lnTo>
                      <a:pt x="482" y="177"/>
                    </a:lnTo>
                    <a:lnTo>
                      <a:pt x="486" y="185"/>
                    </a:lnTo>
                    <a:lnTo>
                      <a:pt x="489" y="181"/>
                    </a:lnTo>
                    <a:lnTo>
                      <a:pt x="486" y="181"/>
                    </a:lnTo>
                    <a:lnTo>
                      <a:pt x="486" y="188"/>
                    </a:lnTo>
                    <a:lnTo>
                      <a:pt x="486" y="196"/>
                    </a:lnTo>
                    <a:lnTo>
                      <a:pt x="489" y="196"/>
                    </a:lnTo>
                    <a:lnTo>
                      <a:pt x="486" y="196"/>
                    </a:lnTo>
                    <a:lnTo>
                      <a:pt x="482" y="203"/>
                    </a:lnTo>
                    <a:lnTo>
                      <a:pt x="479" y="210"/>
                    </a:lnTo>
                    <a:lnTo>
                      <a:pt x="482" y="210"/>
                    </a:lnTo>
                    <a:lnTo>
                      <a:pt x="479" y="206"/>
                    </a:lnTo>
                    <a:lnTo>
                      <a:pt x="475" y="210"/>
                    </a:lnTo>
                    <a:lnTo>
                      <a:pt x="468" y="217"/>
                    </a:lnTo>
                    <a:lnTo>
                      <a:pt x="471" y="221"/>
                    </a:lnTo>
                    <a:lnTo>
                      <a:pt x="471" y="217"/>
                    </a:lnTo>
                    <a:lnTo>
                      <a:pt x="460" y="221"/>
                    </a:lnTo>
                    <a:lnTo>
                      <a:pt x="460" y="225"/>
                    </a:lnTo>
                    <a:lnTo>
                      <a:pt x="460" y="221"/>
                    </a:lnTo>
                    <a:lnTo>
                      <a:pt x="453" y="221"/>
                    </a:lnTo>
                    <a:lnTo>
                      <a:pt x="442" y="221"/>
                    </a:lnTo>
                    <a:lnTo>
                      <a:pt x="431" y="221"/>
                    </a:lnTo>
                    <a:lnTo>
                      <a:pt x="417" y="217"/>
                    </a:lnTo>
                    <a:lnTo>
                      <a:pt x="417" y="221"/>
                    </a:lnTo>
                    <a:lnTo>
                      <a:pt x="421" y="217"/>
                    </a:lnTo>
                    <a:lnTo>
                      <a:pt x="406" y="210"/>
                    </a:lnTo>
                    <a:lnTo>
                      <a:pt x="406" y="210"/>
                    </a:lnTo>
                    <a:lnTo>
                      <a:pt x="402" y="210"/>
                    </a:lnTo>
                    <a:lnTo>
                      <a:pt x="392" y="210"/>
                    </a:lnTo>
                    <a:lnTo>
                      <a:pt x="392" y="214"/>
                    </a:lnTo>
                    <a:lnTo>
                      <a:pt x="395" y="210"/>
                    </a:lnTo>
                    <a:lnTo>
                      <a:pt x="388" y="206"/>
                    </a:lnTo>
                    <a:lnTo>
                      <a:pt x="377" y="203"/>
                    </a:lnTo>
                    <a:lnTo>
                      <a:pt x="377" y="203"/>
                    </a:lnTo>
                    <a:lnTo>
                      <a:pt x="373" y="203"/>
                    </a:lnTo>
                    <a:lnTo>
                      <a:pt x="363" y="203"/>
                    </a:lnTo>
                    <a:lnTo>
                      <a:pt x="341" y="203"/>
                    </a:lnTo>
                    <a:lnTo>
                      <a:pt x="315" y="203"/>
                    </a:lnTo>
                    <a:lnTo>
                      <a:pt x="290" y="206"/>
                    </a:lnTo>
                    <a:lnTo>
                      <a:pt x="265" y="210"/>
                    </a:lnTo>
                    <a:lnTo>
                      <a:pt x="239" y="214"/>
                    </a:lnTo>
                    <a:lnTo>
                      <a:pt x="236" y="214"/>
                    </a:lnTo>
                    <a:lnTo>
                      <a:pt x="239" y="214"/>
                    </a:lnTo>
                    <a:lnTo>
                      <a:pt x="214" y="221"/>
                    </a:lnTo>
                    <a:lnTo>
                      <a:pt x="210" y="221"/>
                    </a:lnTo>
                    <a:lnTo>
                      <a:pt x="210" y="225"/>
                    </a:lnTo>
                    <a:lnTo>
                      <a:pt x="210" y="228"/>
                    </a:lnTo>
                    <a:lnTo>
                      <a:pt x="210" y="243"/>
                    </a:lnTo>
                    <a:lnTo>
                      <a:pt x="210" y="254"/>
                    </a:lnTo>
                    <a:lnTo>
                      <a:pt x="210" y="272"/>
                    </a:lnTo>
                    <a:lnTo>
                      <a:pt x="214" y="308"/>
                    </a:lnTo>
                    <a:lnTo>
                      <a:pt x="218" y="352"/>
                    </a:lnTo>
                    <a:lnTo>
                      <a:pt x="221" y="370"/>
                    </a:lnTo>
                    <a:lnTo>
                      <a:pt x="221" y="391"/>
                    </a:lnTo>
                    <a:lnTo>
                      <a:pt x="221" y="413"/>
                    </a:lnTo>
                    <a:lnTo>
                      <a:pt x="221" y="413"/>
                    </a:lnTo>
                    <a:lnTo>
                      <a:pt x="221" y="417"/>
                    </a:lnTo>
                    <a:lnTo>
                      <a:pt x="225" y="431"/>
                    </a:lnTo>
                    <a:lnTo>
                      <a:pt x="228" y="428"/>
                    </a:lnTo>
                    <a:lnTo>
                      <a:pt x="225" y="428"/>
                    </a:lnTo>
                    <a:lnTo>
                      <a:pt x="221" y="446"/>
                    </a:lnTo>
                    <a:lnTo>
                      <a:pt x="221" y="460"/>
                    </a:lnTo>
                    <a:lnTo>
                      <a:pt x="225" y="460"/>
                    </a:lnTo>
                    <a:lnTo>
                      <a:pt x="221" y="460"/>
                    </a:lnTo>
                    <a:lnTo>
                      <a:pt x="218" y="468"/>
                    </a:lnTo>
                    <a:lnTo>
                      <a:pt x="218" y="468"/>
                    </a:lnTo>
                    <a:lnTo>
                      <a:pt x="218" y="468"/>
                    </a:lnTo>
                    <a:lnTo>
                      <a:pt x="218" y="471"/>
                    </a:lnTo>
                    <a:lnTo>
                      <a:pt x="221" y="471"/>
                    </a:lnTo>
                    <a:lnTo>
                      <a:pt x="218" y="468"/>
                    </a:lnTo>
                    <a:lnTo>
                      <a:pt x="214" y="471"/>
                    </a:lnTo>
                    <a:lnTo>
                      <a:pt x="210" y="475"/>
                    </a:lnTo>
                    <a:lnTo>
                      <a:pt x="207" y="478"/>
                    </a:lnTo>
                    <a:close/>
                    <a:moveTo>
                      <a:pt x="218" y="482"/>
                    </a:moveTo>
                    <a:lnTo>
                      <a:pt x="221" y="478"/>
                    </a:lnTo>
                    <a:lnTo>
                      <a:pt x="225" y="475"/>
                    </a:lnTo>
                    <a:lnTo>
                      <a:pt x="228" y="475"/>
                    </a:lnTo>
                    <a:lnTo>
                      <a:pt x="228" y="471"/>
                    </a:lnTo>
                    <a:lnTo>
                      <a:pt x="228" y="468"/>
                    </a:lnTo>
                    <a:lnTo>
                      <a:pt x="221" y="468"/>
                    </a:lnTo>
                    <a:lnTo>
                      <a:pt x="228" y="471"/>
                    </a:lnTo>
                    <a:lnTo>
                      <a:pt x="232" y="464"/>
                    </a:lnTo>
                    <a:lnTo>
                      <a:pt x="232" y="464"/>
                    </a:lnTo>
                    <a:lnTo>
                      <a:pt x="232" y="460"/>
                    </a:lnTo>
                    <a:lnTo>
                      <a:pt x="232" y="446"/>
                    </a:lnTo>
                    <a:lnTo>
                      <a:pt x="236" y="428"/>
                    </a:lnTo>
                    <a:lnTo>
                      <a:pt x="236" y="428"/>
                    </a:lnTo>
                    <a:lnTo>
                      <a:pt x="236" y="428"/>
                    </a:lnTo>
                    <a:lnTo>
                      <a:pt x="232" y="413"/>
                    </a:lnTo>
                    <a:lnTo>
                      <a:pt x="225" y="413"/>
                    </a:lnTo>
                    <a:lnTo>
                      <a:pt x="232" y="413"/>
                    </a:lnTo>
                    <a:lnTo>
                      <a:pt x="232" y="391"/>
                    </a:lnTo>
                    <a:lnTo>
                      <a:pt x="232" y="370"/>
                    </a:lnTo>
                    <a:lnTo>
                      <a:pt x="228" y="352"/>
                    </a:lnTo>
                    <a:lnTo>
                      <a:pt x="225" y="308"/>
                    </a:lnTo>
                    <a:lnTo>
                      <a:pt x="221" y="272"/>
                    </a:lnTo>
                    <a:lnTo>
                      <a:pt x="221" y="254"/>
                    </a:lnTo>
                    <a:lnTo>
                      <a:pt x="221" y="243"/>
                    </a:lnTo>
                    <a:lnTo>
                      <a:pt x="221" y="228"/>
                    </a:lnTo>
                    <a:lnTo>
                      <a:pt x="221" y="225"/>
                    </a:lnTo>
                    <a:lnTo>
                      <a:pt x="214" y="225"/>
                    </a:lnTo>
                    <a:lnTo>
                      <a:pt x="218" y="232"/>
                    </a:lnTo>
                    <a:lnTo>
                      <a:pt x="243" y="225"/>
                    </a:lnTo>
                    <a:lnTo>
                      <a:pt x="239" y="217"/>
                    </a:lnTo>
                    <a:lnTo>
                      <a:pt x="239" y="225"/>
                    </a:lnTo>
                    <a:lnTo>
                      <a:pt x="265" y="221"/>
                    </a:lnTo>
                    <a:lnTo>
                      <a:pt x="290" y="217"/>
                    </a:lnTo>
                    <a:lnTo>
                      <a:pt x="315" y="214"/>
                    </a:lnTo>
                    <a:lnTo>
                      <a:pt x="341" y="214"/>
                    </a:lnTo>
                    <a:lnTo>
                      <a:pt x="363" y="214"/>
                    </a:lnTo>
                    <a:lnTo>
                      <a:pt x="373" y="214"/>
                    </a:lnTo>
                    <a:lnTo>
                      <a:pt x="373" y="206"/>
                    </a:lnTo>
                    <a:lnTo>
                      <a:pt x="373" y="214"/>
                    </a:lnTo>
                    <a:lnTo>
                      <a:pt x="384" y="217"/>
                    </a:lnTo>
                    <a:lnTo>
                      <a:pt x="392" y="221"/>
                    </a:lnTo>
                    <a:lnTo>
                      <a:pt x="392" y="221"/>
                    </a:lnTo>
                    <a:lnTo>
                      <a:pt x="392" y="221"/>
                    </a:lnTo>
                    <a:lnTo>
                      <a:pt x="402" y="221"/>
                    </a:lnTo>
                    <a:lnTo>
                      <a:pt x="402" y="214"/>
                    </a:lnTo>
                    <a:lnTo>
                      <a:pt x="402" y="221"/>
                    </a:lnTo>
                    <a:lnTo>
                      <a:pt x="417" y="228"/>
                    </a:lnTo>
                    <a:lnTo>
                      <a:pt x="413" y="225"/>
                    </a:lnTo>
                    <a:lnTo>
                      <a:pt x="417" y="228"/>
                    </a:lnTo>
                    <a:lnTo>
                      <a:pt x="431" y="232"/>
                    </a:lnTo>
                    <a:lnTo>
                      <a:pt x="442" y="232"/>
                    </a:lnTo>
                    <a:lnTo>
                      <a:pt x="453" y="232"/>
                    </a:lnTo>
                    <a:lnTo>
                      <a:pt x="460" y="232"/>
                    </a:lnTo>
                    <a:lnTo>
                      <a:pt x="464" y="232"/>
                    </a:lnTo>
                    <a:lnTo>
                      <a:pt x="464" y="232"/>
                    </a:lnTo>
                    <a:lnTo>
                      <a:pt x="475" y="228"/>
                    </a:lnTo>
                    <a:lnTo>
                      <a:pt x="475" y="228"/>
                    </a:lnTo>
                    <a:lnTo>
                      <a:pt x="475" y="225"/>
                    </a:lnTo>
                    <a:lnTo>
                      <a:pt x="482" y="217"/>
                    </a:lnTo>
                    <a:lnTo>
                      <a:pt x="486" y="214"/>
                    </a:lnTo>
                    <a:lnTo>
                      <a:pt x="489" y="214"/>
                    </a:lnTo>
                    <a:lnTo>
                      <a:pt x="489" y="214"/>
                    </a:lnTo>
                    <a:lnTo>
                      <a:pt x="493" y="206"/>
                    </a:lnTo>
                    <a:lnTo>
                      <a:pt x="497" y="199"/>
                    </a:lnTo>
                    <a:lnTo>
                      <a:pt x="497" y="199"/>
                    </a:lnTo>
                    <a:lnTo>
                      <a:pt x="497" y="196"/>
                    </a:lnTo>
                    <a:lnTo>
                      <a:pt x="497" y="188"/>
                    </a:lnTo>
                    <a:lnTo>
                      <a:pt x="497" y="181"/>
                    </a:lnTo>
                    <a:lnTo>
                      <a:pt x="497" y="181"/>
                    </a:lnTo>
                    <a:lnTo>
                      <a:pt x="497" y="181"/>
                    </a:lnTo>
                    <a:lnTo>
                      <a:pt x="493" y="174"/>
                    </a:lnTo>
                    <a:lnTo>
                      <a:pt x="486" y="174"/>
                    </a:lnTo>
                    <a:lnTo>
                      <a:pt x="493" y="174"/>
                    </a:lnTo>
                    <a:lnTo>
                      <a:pt x="493" y="167"/>
                    </a:lnTo>
                    <a:lnTo>
                      <a:pt x="493" y="167"/>
                    </a:lnTo>
                    <a:lnTo>
                      <a:pt x="489" y="163"/>
                    </a:lnTo>
                    <a:lnTo>
                      <a:pt x="482" y="156"/>
                    </a:lnTo>
                    <a:lnTo>
                      <a:pt x="479" y="159"/>
                    </a:lnTo>
                    <a:lnTo>
                      <a:pt x="486" y="159"/>
                    </a:lnTo>
                    <a:lnTo>
                      <a:pt x="482" y="152"/>
                    </a:lnTo>
                    <a:lnTo>
                      <a:pt x="479" y="148"/>
                    </a:lnTo>
                    <a:lnTo>
                      <a:pt x="479" y="148"/>
                    </a:lnTo>
                    <a:lnTo>
                      <a:pt x="468" y="141"/>
                    </a:lnTo>
                    <a:lnTo>
                      <a:pt x="464" y="145"/>
                    </a:lnTo>
                    <a:lnTo>
                      <a:pt x="471" y="145"/>
                    </a:lnTo>
                    <a:lnTo>
                      <a:pt x="468" y="134"/>
                    </a:lnTo>
                    <a:lnTo>
                      <a:pt x="460" y="123"/>
                    </a:lnTo>
                    <a:lnTo>
                      <a:pt x="457" y="109"/>
                    </a:lnTo>
                    <a:lnTo>
                      <a:pt x="453" y="98"/>
                    </a:lnTo>
                    <a:lnTo>
                      <a:pt x="446" y="98"/>
                    </a:lnTo>
                    <a:lnTo>
                      <a:pt x="453" y="98"/>
                    </a:lnTo>
                    <a:lnTo>
                      <a:pt x="453" y="83"/>
                    </a:lnTo>
                    <a:lnTo>
                      <a:pt x="453" y="72"/>
                    </a:lnTo>
                    <a:lnTo>
                      <a:pt x="453" y="61"/>
                    </a:lnTo>
                    <a:lnTo>
                      <a:pt x="446" y="61"/>
                    </a:lnTo>
                    <a:lnTo>
                      <a:pt x="453" y="65"/>
                    </a:lnTo>
                    <a:lnTo>
                      <a:pt x="457" y="54"/>
                    </a:lnTo>
                    <a:lnTo>
                      <a:pt x="460" y="43"/>
                    </a:lnTo>
                    <a:lnTo>
                      <a:pt x="464" y="36"/>
                    </a:lnTo>
                    <a:lnTo>
                      <a:pt x="457" y="32"/>
                    </a:lnTo>
                    <a:lnTo>
                      <a:pt x="460" y="36"/>
                    </a:lnTo>
                    <a:lnTo>
                      <a:pt x="464" y="32"/>
                    </a:lnTo>
                    <a:lnTo>
                      <a:pt x="468" y="29"/>
                    </a:lnTo>
                    <a:lnTo>
                      <a:pt x="471" y="25"/>
                    </a:lnTo>
                    <a:lnTo>
                      <a:pt x="468" y="21"/>
                    </a:lnTo>
                    <a:lnTo>
                      <a:pt x="471" y="29"/>
                    </a:lnTo>
                    <a:lnTo>
                      <a:pt x="479" y="25"/>
                    </a:lnTo>
                    <a:lnTo>
                      <a:pt x="479" y="25"/>
                    </a:lnTo>
                    <a:lnTo>
                      <a:pt x="479" y="21"/>
                    </a:lnTo>
                    <a:lnTo>
                      <a:pt x="482" y="18"/>
                    </a:lnTo>
                    <a:lnTo>
                      <a:pt x="479" y="14"/>
                    </a:lnTo>
                    <a:lnTo>
                      <a:pt x="482" y="21"/>
                    </a:lnTo>
                    <a:lnTo>
                      <a:pt x="489" y="18"/>
                    </a:lnTo>
                    <a:lnTo>
                      <a:pt x="489" y="18"/>
                    </a:lnTo>
                    <a:lnTo>
                      <a:pt x="489" y="14"/>
                    </a:lnTo>
                    <a:lnTo>
                      <a:pt x="493" y="11"/>
                    </a:lnTo>
                    <a:lnTo>
                      <a:pt x="489" y="7"/>
                    </a:lnTo>
                    <a:lnTo>
                      <a:pt x="489" y="14"/>
                    </a:lnTo>
                    <a:lnTo>
                      <a:pt x="497" y="14"/>
                    </a:lnTo>
                    <a:lnTo>
                      <a:pt x="504" y="14"/>
                    </a:lnTo>
                    <a:lnTo>
                      <a:pt x="508" y="14"/>
                    </a:lnTo>
                    <a:lnTo>
                      <a:pt x="508" y="14"/>
                    </a:lnTo>
                    <a:lnTo>
                      <a:pt x="518" y="11"/>
                    </a:lnTo>
                    <a:lnTo>
                      <a:pt x="515" y="3"/>
                    </a:lnTo>
                    <a:lnTo>
                      <a:pt x="515" y="11"/>
                    </a:lnTo>
                    <a:lnTo>
                      <a:pt x="522" y="11"/>
                    </a:lnTo>
                    <a:lnTo>
                      <a:pt x="533" y="11"/>
                    </a:lnTo>
                    <a:lnTo>
                      <a:pt x="540" y="11"/>
                    </a:lnTo>
                    <a:lnTo>
                      <a:pt x="540" y="3"/>
                    </a:lnTo>
                    <a:lnTo>
                      <a:pt x="540" y="11"/>
                    </a:lnTo>
                    <a:lnTo>
                      <a:pt x="548" y="14"/>
                    </a:lnTo>
                    <a:lnTo>
                      <a:pt x="548" y="14"/>
                    </a:lnTo>
                    <a:lnTo>
                      <a:pt x="548" y="14"/>
                    </a:lnTo>
                    <a:lnTo>
                      <a:pt x="558" y="14"/>
                    </a:lnTo>
                    <a:lnTo>
                      <a:pt x="558" y="7"/>
                    </a:lnTo>
                    <a:lnTo>
                      <a:pt x="558" y="14"/>
                    </a:lnTo>
                    <a:lnTo>
                      <a:pt x="566" y="18"/>
                    </a:lnTo>
                    <a:lnTo>
                      <a:pt x="566" y="18"/>
                    </a:lnTo>
                    <a:lnTo>
                      <a:pt x="566" y="18"/>
                    </a:lnTo>
                    <a:lnTo>
                      <a:pt x="573" y="18"/>
                    </a:lnTo>
                    <a:lnTo>
                      <a:pt x="573" y="11"/>
                    </a:lnTo>
                    <a:lnTo>
                      <a:pt x="573" y="18"/>
                    </a:lnTo>
                    <a:lnTo>
                      <a:pt x="580" y="21"/>
                    </a:lnTo>
                    <a:lnTo>
                      <a:pt x="580" y="14"/>
                    </a:lnTo>
                    <a:lnTo>
                      <a:pt x="577" y="18"/>
                    </a:lnTo>
                    <a:lnTo>
                      <a:pt x="580" y="21"/>
                    </a:lnTo>
                    <a:lnTo>
                      <a:pt x="584" y="25"/>
                    </a:lnTo>
                    <a:lnTo>
                      <a:pt x="584" y="25"/>
                    </a:lnTo>
                    <a:lnTo>
                      <a:pt x="591" y="29"/>
                    </a:lnTo>
                    <a:lnTo>
                      <a:pt x="591" y="21"/>
                    </a:lnTo>
                    <a:lnTo>
                      <a:pt x="587" y="25"/>
                    </a:lnTo>
                    <a:lnTo>
                      <a:pt x="591" y="29"/>
                    </a:lnTo>
                    <a:lnTo>
                      <a:pt x="595" y="32"/>
                    </a:lnTo>
                    <a:lnTo>
                      <a:pt x="595" y="32"/>
                    </a:lnTo>
                    <a:lnTo>
                      <a:pt x="602" y="36"/>
                    </a:lnTo>
                    <a:lnTo>
                      <a:pt x="602" y="29"/>
                    </a:lnTo>
                    <a:lnTo>
                      <a:pt x="598" y="32"/>
                    </a:lnTo>
                    <a:lnTo>
                      <a:pt x="602" y="36"/>
                    </a:lnTo>
                    <a:lnTo>
                      <a:pt x="606" y="32"/>
                    </a:lnTo>
                    <a:lnTo>
                      <a:pt x="602" y="36"/>
                    </a:lnTo>
                    <a:lnTo>
                      <a:pt x="609" y="47"/>
                    </a:lnTo>
                    <a:lnTo>
                      <a:pt x="613" y="58"/>
                    </a:lnTo>
                    <a:lnTo>
                      <a:pt x="616" y="69"/>
                    </a:lnTo>
                    <a:lnTo>
                      <a:pt x="620" y="65"/>
                    </a:lnTo>
                    <a:lnTo>
                      <a:pt x="616" y="65"/>
                    </a:lnTo>
                    <a:lnTo>
                      <a:pt x="616" y="76"/>
                    </a:lnTo>
                    <a:lnTo>
                      <a:pt x="616" y="87"/>
                    </a:lnTo>
                    <a:lnTo>
                      <a:pt x="616" y="98"/>
                    </a:lnTo>
                    <a:lnTo>
                      <a:pt x="620" y="98"/>
                    </a:lnTo>
                    <a:lnTo>
                      <a:pt x="616" y="98"/>
                    </a:lnTo>
                    <a:lnTo>
                      <a:pt x="613" y="109"/>
                    </a:lnTo>
                    <a:lnTo>
                      <a:pt x="609" y="119"/>
                    </a:lnTo>
                    <a:lnTo>
                      <a:pt x="602" y="130"/>
                    </a:lnTo>
                    <a:lnTo>
                      <a:pt x="606" y="130"/>
                    </a:lnTo>
                    <a:lnTo>
                      <a:pt x="602" y="127"/>
                    </a:lnTo>
                    <a:lnTo>
                      <a:pt x="595" y="134"/>
                    </a:lnTo>
                    <a:lnTo>
                      <a:pt x="580" y="148"/>
                    </a:lnTo>
                    <a:lnTo>
                      <a:pt x="580" y="152"/>
                    </a:lnTo>
                    <a:lnTo>
                      <a:pt x="580" y="152"/>
                    </a:lnTo>
                    <a:lnTo>
                      <a:pt x="573" y="167"/>
                    </a:lnTo>
                    <a:lnTo>
                      <a:pt x="569" y="174"/>
                    </a:lnTo>
                    <a:lnTo>
                      <a:pt x="573" y="174"/>
                    </a:lnTo>
                    <a:lnTo>
                      <a:pt x="569" y="170"/>
                    </a:lnTo>
                    <a:lnTo>
                      <a:pt x="566" y="174"/>
                    </a:lnTo>
                    <a:lnTo>
                      <a:pt x="566" y="177"/>
                    </a:lnTo>
                    <a:lnTo>
                      <a:pt x="566" y="177"/>
                    </a:lnTo>
                    <a:lnTo>
                      <a:pt x="566" y="185"/>
                    </a:lnTo>
                    <a:lnTo>
                      <a:pt x="566" y="188"/>
                    </a:lnTo>
                    <a:lnTo>
                      <a:pt x="566" y="192"/>
                    </a:lnTo>
                    <a:lnTo>
                      <a:pt x="566" y="199"/>
                    </a:lnTo>
                    <a:lnTo>
                      <a:pt x="566" y="203"/>
                    </a:lnTo>
                    <a:lnTo>
                      <a:pt x="566" y="203"/>
                    </a:lnTo>
                    <a:lnTo>
                      <a:pt x="569" y="206"/>
                    </a:lnTo>
                    <a:lnTo>
                      <a:pt x="573" y="210"/>
                    </a:lnTo>
                    <a:lnTo>
                      <a:pt x="577" y="214"/>
                    </a:lnTo>
                    <a:lnTo>
                      <a:pt x="577" y="214"/>
                    </a:lnTo>
                    <a:lnTo>
                      <a:pt x="584" y="217"/>
                    </a:lnTo>
                    <a:lnTo>
                      <a:pt x="591" y="221"/>
                    </a:lnTo>
                    <a:lnTo>
                      <a:pt x="591" y="214"/>
                    </a:lnTo>
                    <a:lnTo>
                      <a:pt x="587" y="217"/>
                    </a:lnTo>
                    <a:lnTo>
                      <a:pt x="595" y="225"/>
                    </a:lnTo>
                    <a:lnTo>
                      <a:pt x="598" y="228"/>
                    </a:lnTo>
                    <a:lnTo>
                      <a:pt x="598" y="228"/>
                    </a:lnTo>
                    <a:lnTo>
                      <a:pt x="606" y="232"/>
                    </a:lnTo>
                    <a:lnTo>
                      <a:pt x="616" y="235"/>
                    </a:lnTo>
                    <a:lnTo>
                      <a:pt x="609" y="232"/>
                    </a:lnTo>
                    <a:lnTo>
                      <a:pt x="616" y="235"/>
                    </a:lnTo>
                    <a:lnTo>
                      <a:pt x="631" y="239"/>
                    </a:lnTo>
                    <a:lnTo>
                      <a:pt x="645" y="243"/>
                    </a:lnTo>
                    <a:lnTo>
                      <a:pt x="660" y="246"/>
                    </a:lnTo>
                    <a:lnTo>
                      <a:pt x="674" y="250"/>
                    </a:lnTo>
                    <a:lnTo>
                      <a:pt x="693" y="254"/>
                    </a:lnTo>
                    <a:lnTo>
                      <a:pt x="711" y="254"/>
                    </a:lnTo>
                    <a:lnTo>
                      <a:pt x="725" y="254"/>
                    </a:lnTo>
                    <a:lnTo>
                      <a:pt x="743" y="254"/>
                    </a:lnTo>
                    <a:lnTo>
                      <a:pt x="761" y="254"/>
                    </a:lnTo>
                    <a:lnTo>
                      <a:pt x="776" y="254"/>
                    </a:lnTo>
                    <a:lnTo>
                      <a:pt x="790" y="250"/>
                    </a:lnTo>
                    <a:lnTo>
                      <a:pt x="805" y="246"/>
                    </a:lnTo>
                    <a:lnTo>
                      <a:pt x="819" y="243"/>
                    </a:lnTo>
                    <a:lnTo>
                      <a:pt x="823" y="239"/>
                    </a:lnTo>
                    <a:lnTo>
                      <a:pt x="823" y="243"/>
                    </a:lnTo>
                    <a:lnTo>
                      <a:pt x="834" y="235"/>
                    </a:lnTo>
                    <a:lnTo>
                      <a:pt x="845" y="232"/>
                    </a:lnTo>
                    <a:lnTo>
                      <a:pt x="841" y="225"/>
                    </a:lnTo>
                    <a:lnTo>
                      <a:pt x="838" y="225"/>
                    </a:lnTo>
                    <a:lnTo>
                      <a:pt x="838" y="254"/>
                    </a:lnTo>
                    <a:lnTo>
                      <a:pt x="838" y="290"/>
                    </a:lnTo>
                    <a:lnTo>
                      <a:pt x="838" y="333"/>
                    </a:lnTo>
                    <a:lnTo>
                      <a:pt x="838" y="373"/>
                    </a:lnTo>
                    <a:lnTo>
                      <a:pt x="838" y="413"/>
                    </a:lnTo>
                    <a:lnTo>
                      <a:pt x="838" y="453"/>
                    </a:lnTo>
                    <a:lnTo>
                      <a:pt x="838" y="478"/>
                    </a:lnTo>
                    <a:lnTo>
                      <a:pt x="838" y="497"/>
                    </a:lnTo>
                    <a:lnTo>
                      <a:pt x="838" y="504"/>
                    </a:lnTo>
                    <a:lnTo>
                      <a:pt x="838" y="508"/>
                    </a:lnTo>
                    <a:lnTo>
                      <a:pt x="838" y="508"/>
                    </a:lnTo>
                    <a:lnTo>
                      <a:pt x="841" y="511"/>
                    </a:lnTo>
                    <a:lnTo>
                      <a:pt x="845" y="508"/>
                    </a:lnTo>
                    <a:lnTo>
                      <a:pt x="841" y="511"/>
                    </a:lnTo>
                    <a:lnTo>
                      <a:pt x="845" y="518"/>
                    </a:lnTo>
                    <a:lnTo>
                      <a:pt x="845" y="518"/>
                    </a:lnTo>
                    <a:lnTo>
                      <a:pt x="845" y="518"/>
                    </a:lnTo>
                    <a:lnTo>
                      <a:pt x="848" y="522"/>
                    </a:lnTo>
                    <a:lnTo>
                      <a:pt x="852" y="526"/>
                    </a:lnTo>
                    <a:lnTo>
                      <a:pt x="852" y="526"/>
                    </a:lnTo>
                    <a:lnTo>
                      <a:pt x="859" y="529"/>
                    </a:lnTo>
                    <a:lnTo>
                      <a:pt x="859" y="522"/>
                    </a:lnTo>
                    <a:lnTo>
                      <a:pt x="856" y="526"/>
                    </a:lnTo>
                    <a:lnTo>
                      <a:pt x="863" y="533"/>
                    </a:lnTo>
                    <a:lnTo>
                      <a:pt x="867" y="537"/>
                    </a:lnTo>
                    <a:lnTo>
                      <a:pt x="867" y="537"/>
                    </a:lnTo>
                    <a:lnTo>
                      <a:pt x="874" y="540"/>
                    </a:lnTo>
                    <a:lnTo>
                      <a:pt x="874" y="540"/>
                    </a:lnTo>
                    <a:lnTo>
                      <a:pt x="874" y="540"/>
                    </a:lnTo>
                    <a:lnTo>
                      <a:pt x="881" y="540"/>
                    </a:lnTo>
                    <a:lnTo>
                      <a:pt x="881" y="533"/>
                    </a:lnTo>
                    <a:lnTo>
                      <a:pt x="881" y="540"/>
                    </a:lnTo>
                    <a:lnTo>
                      <a:pt x="888" y="544"/>
                    </a:lnTo>
                    <a:lnTo>
                      <a:pt x="888" y="544"/>
                    </a:lnTo>
                    <a:lnTo>
                      <a:pt x="888" y="544"/>
                    </a:lnTo>
                    <a:lnTo>
                      <a:pt x="896" y="544"/>
                    </a:lnTo>
                    <a:lnTo>
                      <a:pt x="906" y="544"/>
                    </a:lnTo>
                    <a:lnTo>
                      <a:pt x="914" y="544"/>
                    </a:lnTo>
                    <a:lnTo>
                      <a:pt x="917" y="544"/>
                    </a:lnTo>
                    <a:lnTo>
                      <a:pt x="917" y="544"/>
                    </a:lnTo>
                    <a:lnTo>
                      <a:pt x="925" y="540"/>
                    </a:lnTo>
                    <a:lnTo>
                      <a:pt x="932" y="537"/>
                    </a:lnTo>
                    <a:lnTo>
                      <a:pt x="932" y="537"/>
                    </a:lnTo>
                    <a:lnTo>
                      <a:pt x="932" y="533"/>
                    </a:lnTo>
                    <a:lnTo>
                      <a:pt x="939" y="526"/>
                    </a:lnTo>
                    <a:lnTo>
                      <a:pt x="946" y="518"/>
                    </a:lnTo>
                    <a:lnTo>
                      <a:pt x="950" y="518"/>
                    </a:lnTo>
                    <a:lnTo>
                      <a:pt x="950" y="518"/>
                    </a:lnTo>
                    <a:lnTo>
                      <a:pt x="954" y="511"/>
                    </a:lnTo>
                    <a:lnTo>
                      <a:pt x="946" y="508"/>
                    </a:lnTo>
                    <a:lnTo>
                      <a:pt x="950" y="511"/>
                    </a:lnTo>
                    <a:lnTo>
                      <a:pt x="954" y="508"/>
                    </a:lnTo>
                    <a:lnTo>
                      <a:pt x="957" y="504"/>
                    </a:lnTo>
                    <a:lnTo>
                      <a:pt x="954" y="500"/>
                    </a:lnTo>
                    <a:lnTo>
                      <a:pt x="954" y="508"/>
                    </a:lnTo>
                    <a:lnTo>
                      <a:pt x="957" y="508"/>
                    </a:lnTo>
                    <a:lnTo>
                      <a:pt x="961" y="508"/>
                    </a:lnTo>
                    <a:lnTo>
                      <a:pt x="961" y="508"/>
                    </a:lnTo>
                    <a:lnTo>
                      <a:pt x="972" y="504"/>
                    </a:lnTo>
                    <a:lnTo>
                      <a:pt x="983" y="500"/>
                    </a:lnTo>
                    <a:lnTo>
                      <a:pt x="979" y="493"/>
                    </a:lnTo>
                    <a:lnTo>
                      <a:pt x="979" y="500"/>
                    </a:lnTo>
                    <a:lnTo>
                      <a:pt x="990" y="500"/>
                    </a:lnTo>
                    <a:lnTo>
                      <a:pt x="1004" y="500"/>
                    </a:lnTo>
                    <a:lnTo>
                      <a:pt x="1004" y="493"/>
                    </a:lnTo>
                    <a:lnTo>
                      <a:pt x="1004" y="500"/>
                    </a:lnTo>
                    <a:lnTo>
                      <a:pt x="1015" y="504"/>
                    </a:lnTo>
                    <a:lnTo>
                      <a:pt x="1026" y="508"/>
                    </a:lnTo>
                    <a:lnTo>
                      <a:pt x="1037" y="515"/>
                    </a:lnTo>
                    <a:lnTo>
                      <a:pt x="1048" y="522"/>
                    </a:lnTo>
                    <a:lnTo>
                      <a:pt x="1059" y="529"/>
                    </a:lnTo>
                    <a:lnTo>
                      <a:pt x="1059" y="522"/>
                    </a:lnTo>
                    <a:lnTo>
                      <a:pt x="1055" y="526"/>
                    </a:lnTo>
                    <a:lnTo>
                      <a:pt x="1062" y="537"/>
                    </a:lnTo>
                    <a:lnTo>
                      <a:pt x="1062" y="537"/>
                    </a:lnTo>
                    <a:lnTo>
                      <a:pt x="1062" y="537"/>
                    </a:lnTo>
                    <a:lnTo>
                      <a:pt x="1066" y="540"/>
                    </a:lnTo>
                    <a:lnTo>
                      <a:pt x="1070" y="537"/>
                    </a:lnTo>
                    <a:lnTo>
                      <a:pt x="1066" y="537"/>
                    </a:lnTo>
                    <a:lnTo>
                      <a:pt x="1066" y="544"/>
                    </a:lnTo>
                    <a:lnTo>
                      <a:pt x="1066" y="547"/>
                    </a:lnTo>
                    <a:lnTo>
                      <a:pt x="1066" y="547"/>
                    </a:lnTo>
                    <a:lnTo>
                      <a:pt x="1070" y="555"/>
                    </a:lnTo>
                    <a:lnTo>
                      <a:pt x="1070" y="555"/>
                    </a:lnTo>
                    <a:lnTo>
                      <a:pt x="1070" y="555"/>
                    </a:lnTo>
                    <a:lnTo>
                      <a:pt x="1073" y="558"/>
                    </a:lnTo>
                    <a:lnTo>
                      <a:pt x="1077" y="555"/>
                    </a:lnTo>
                    <a:lnTo>
                      <a:pt x="1073" y="555"/>
                    </a:lnTo>
                    <a:lnTo>
                      <a:pt x="1073" y="562"/>
                    </a:lnTo>
                    <a:lnTo>
                      <a:pt x="1073" y="569"/>
                    </a:lnTo>
                    <a:lnTo>
                      <a:pt x="1073" y="576"/>
                    </a:lnTo>
                    <a:lnTo>
                      <a:pt x="1073" y="584"/>
                    </a:lnTo>
                    <a:lnTo>
                      <a:pt x="1077" y="584"/>
                    </a:lnTo>
                    <a:lnTo>
                      <a:pt x="1073" y="584"/>
                    </a:lnTo>
                    <a:lnTo>
                      <a:pt x="1070" y="598"/>
                    </a:lnTo>
                    <a:lnTo>
                      <a:pt x="1066" y="609"/>
                    </a:lnTo>
                    <a:lnTo>
                      <a:pt x="1059" y="620"/>
                    </a:lnTo>
                    <a:lnTo>
                      <a:pt x="1062" y="620"/>
                    </a:lnTo>
                    <a:lnTo>
                      <a:pt x="1059" y="616"/>
                    </a:lnTo>
                    <a:lnTo>
                      <a:pt x="1051" y="624"/>
                    </a:lnTo>
                    <a:lnTo>
                      <a:pt x="1044" y="631"/>
                    </a:lnTo>
                    <a:lnTo>
                      <a:pt x="1037" y="638"/>
                    </a:lnTo>
                    <a:lnTo>
                      <a:pt x="1041" y="642"/>
                    </a:lnTo>
                    <a:lnTo>
                      <a:pt x="1041" y="638"/>
                    </a:lnTo>
                    <a:lnTo>
                      <a:pt x="1030" y="642"/>
                    </a:lnTo>
                    <a:lnTo>
                      <a:pt x="1022" y="645"/>
                    </a:lnTo>
                    <a:lnTo>
                      <a:pt x="1022" y="649"/>
                    </a:lnTo>
                    <a:lnTo>
                      <a:pt x="1022" y="645"/>
                    </a:lnTo>
                    <a:lnTo>
                      <a:pt x="1012" y="645"/>
                    </a:lnTo>
                    <a:lnTo>
                      <a:pt x="1012" y="645"/>
                    </a:lnTo>
                    <a:lnTo>
                      <a:pt x="1012" y="645"/>
                    </a:lnTo>
                    <a:lnTo>
                      <a:pt x="1001" y="649"/>
                    </a:lnTo>
                    <a:lnTo>
                      <a:pt x="1001" y="653"/>
                    </a:lnTo>
                    <a:lnTo>
                      <a:pt x="1004" y="649"/>
                    </a:lnTo>
                    <a:lnTo>
                      <a:pt x="993" y="645"/>
                    </a:lnTo>
                    <a:lnTo>
                      <a:pt x="993" y="645"/>
                    </a:lnTo>
                    <a:lnTo>
                      <a:pt x="990" y="645"/>
                    </a:lnTo>
                    <a:lnTo>
                      <a:pt x="983" y="645"/>
                    </a:lnTo>
                    <a:lnTo>
                      <a:pt x="983" y="649"/>
                    </a:lnTo>
                    <a:lnTo>
                      <a:pt x="986" y="645"/>
                    </a:lnTo>
                    <a:lnTo>
                      <a:pt x="975" y="642"/>
                    </a:lnTo>
                    <a:lnTo>
                      <a:pt x="964" y="638"/>
                    </a:lnTo>
                    <a:lnTo>
                      <a:pt x="957" y="634"/>
                    </a:lnTo>
                    <a:lnTo>
                      <a:pt x="954" y="638"/>
                    </a:lnTo>
                    <a:lnTo>
                      <a:pt x="957" y="634"/>
                    </a:lnTo>
                    <a:lnTo>
                      <a:pt x="950" y="627"/>
                    </a:lnTo>
                    <a:lnTo>
                      <a:pt x="946" y="631"/>
                    </a:lnTo>
                    <a:lnTo>
                      <a:pt x="954" y="631"/>
                    </a:lnTo>
                    <a:lnTo>
                      <a:pt x="950" y="624"/>
                    </a:lnTo>
                    <a:lnTo>
                      <a:pt x="946" y="620"/>
                    </a:lnTo>
                    <a:lnTo>
                      <a:pt x="946" y="620"/>
                    </a:lnTo>
                    <a:lnTo>
                      <a:pt x="935" y="613"/>
                    </a:lnTo>
                    <a:lnTo>
                      <a:pt x="928" y="609"/>
                    </a:lnTo>
                    <a:lnTo>
                      <a:pt x="921" y="605"/>
                    </a:lnTo>
                    <a:lnTo>
                      <a:pt x="914" y="602"/>
                    </a:lnTo>
                    <a:lnTo>
                      <a:pt x="906" y="598"/>
                    </a:lnTo>
                    <a:lnTo>
                      <a:pt x="896" y="595"/>
                    </a:lnTo>
                    <a:lnTo>
                      <a:pt x="896" y="595"/>
                    </a:lnTo>
                    <a:lnTo>
                      <a:pt x="892" y="595"/>
                    </a:lnTo>
                    <a:lnTo>
                      <a:pt x="885" y="595"/>
                    </a:lnTo>
                    <a:lnTo>
                      <a:pt x="877" y="595"/>
                    </a:lnTo>
                    <a:lnTo>
                      <a:pt x="870" y="595"/>
                    </a:lnTo>
                    <a:lnTo>
                      <a:pt x="870" y="595"/>
                    </a:lnTo>
                    <a:lnTo>
                      <a:pt x="870" y="595"/>
                    </a:lnTo>
                    <a:lnTo>
                      <a:pt x="863" y="598"/>
                    </a:lnTo>
                    <a:lnTo>
                      <a:pt x="863" y="598"/>
                    </a:lnTo>
                    <a:lnTo>
                      <a:pt x="859" y="598"/>
                    </a:lnTo>
                    <a:lnTo>
                      <a:pt x="856" y="602"/>
                    </a:lnTo>
                    <a:lnTo>
                      <a:pt x="859" y="605"/>
                    </a:lnTo>
                    <a:lnTo>
                      <a:pt x="859" y="602"/>
                    </a:lnTo>
                    <a:lnTo>
                      <a:pt x="852" y="605"/>
                    </a:lnTo>
                    <a:lnTo>
                      <a:pt x="848" y="605"/>
                    </a:lnTo>
                    <a:lnTo>
                      <a:pt x="848" y="609"/>
                    </a:lnTo>
                    <a:lnTo>
                      <a:pt x="845" y="616"/>
                    </a:lnTo>
                    <a:lnTo>
                      <a:pt x="841" y="624"/>
                    </a:lnTo>
                    <a:lnTo>
                      <a:pt x="838" y="634"/>
                    </a:lnTo>
                    <a:lnTo>
                      <a:pt x="838" y="634"/>
                    </a:lnTo>
                    <a:lnTo>
                      <a:pt x="838" y="634"/>
                    </a:lnTo>
                    <a:lnTo>
                      <a:pt x="838" y="656"/>
                    </a:lnTo>
                    <a:lnTo>
                      <a:pt x="834" y="682"/>
                    </a:lnTo>
                    <a:lnTo>
                      <a:pt x="830" y="707"/>
                    </a:lnTo>
                    <a:lnTo>
                      <a:pt x="830" y="736"/>
                    </a:lnTo>
                    <a:lnTo>
                      <a:pt x="830" y="761"/>
                    </a:lnTo>
                    <a:lnTo>
                      <a:pt x="830" y="787"/>
                    </a:lnTo>
                    <a:lnTo>
                      <a:pt x="830" y="798"/>
                    </a:lnTo>
                    <a:lnTo>
                      <a:pt x="830" y="801"/>
                    </a:lnTo>
                    <a:lnTo>
                      <a:pt x="830" y="801"/>
                    </a:lnTo>
                    <a:lnTo>
                      <a:pt x="834" y="812"/>
                    </a:lnTo>
                    <a:lnTo>
                      <a:pt x="838" y="823"/>
                    </a:lnTo>
                    <a:lnTo>
                      <a:pt x="841" y="819"/>
                    </a:lnTo>
                    <a:lnTo>
                      <a:pt x="838" y="819"/>
                    </a:lnTo>
                    <a:lnTo>
                      <a:pt x="838" y="827"/>
                    </a:lnTo>
                    <a:lnTo>
                      <a:pt x="841" y="827"/>
                    </a:lnTo>
                    <a:lnTo>
                      <a:pt x="841" y="823"/>
                    </a:lnTo>
                    <a:lnTo>
                      <a:pt x="823" y="827"/>
                    </a:lnTo>
                    <a:lnTo>
                      <a:pt x="809" y="830"/>
                    </a:lnTo>
                    <a:lnTo>
                      <a:pt x="787" y="830"/>
                    </a:lnTo>
                    <a:lnTo>
                      <a:pt x="769" y="830"/>
                    </a:lnTo>
                    <a:lnTo>
                      <a:pt x="751" y="830"/>
                    </a:lnTo>
                    <a:lnTo>
                      <a:pt x="732" y="830"/>
                    </a:lnTo>
                    <a:lnTo>
                      <a:pt x="714" y="827"/>
                    </a:lnTo>
                    <a:lnTo>
                      <a:pt x="696" y="827"/>
                    </a:lnTo>
                    <a:lnTo>
                      <a:pt x="667" y="823"/>
                    </a:lnTo>
                    <a:lnTo>
                      <a:pt x="642" y="819"/>
                    </a:lnTo>
                    <a:lnTo>
                      <a:pt x="627" y="816"/>
                    </a:lnTo>
                    <a:lnTo>
                      <a:pt x="627" y="819"/>
                    </a:lnTo>
                    <a:lnTo>
                      <a:pt x="631" y="816"/>
                    </a:lnTo>
                    <a:lnTo>
                      <a:pt x="624" y="812"/>
                    </a:lnTo>
                    <a:lnTo>
                      <a:pt x="624" y="812"/>
                    </a:lnTo>
                    <a:lnTo>
                      <a:pt x="620" y="812"/>
                    </a:lnTo>
                    <a:lnTo>
                      <a:pt x="606" y="809"/>
                    </a:lnTo>
                    <a:lnTo>
                      <a:pt x="606" y="812"/>
                    </a:lnTo>
                    <a:lnTo>
                      <a:pt x="609" y="809"/>
                    </a:lnTo>
                    <a:lnTo>
                      <a:pt x="598" y="801"/>
                    </a:lnTo>
                    <a:lnTo>
                      <a:pt x="587" y="794"/>
                    </a:lnTo>
                    <a:lnTo>
                      <a:pt x="584" y="798"/>
                    </a:lnTo>
                    <a:lnTo>
                      <a:pt x="591" y="798"/>
                    </a:lnTo>
                    <a:lnTo>
                      <a:pt x="584" y="787"/>
                    </a:lnTo>
                    <a:lnTo>
                      <a:pt x="584" y="787"/>
                    </a:lnTo>
                    <a:lnTo>
                      <a:pt x="580" y="783"/>
                    </a:lnTo>
                    <a:lnTo>
                      <a:pt x="573" y="776"/>
                    </a:lnTo>
                    <a:lnTo>
                      <a:pt x="569" y="780"/>
                    </a:lnTo>
                    <a:lnTo>
                      <a:pt x="577" y="780"/>
                    </a:lnTo>
                    <a:lnTo>
                      <a:pt x="573" y="769"/>
                    </a:lnTo>
                    <a:lnTo>
                      <a:pt x="569" y="758"/>
                    </a:lnTo>
                    <a:lnTo>
                      <a:pt x="566" y="751"/>
                    </a:lnTo>
                    <a:lnTo>
                      <a:pt x="558" y="751"/>
                    </a:lnTo>
                    <a:lnTo>
                      <a:pt x="566" y="751"/>
                    </a:lnTo>
                    <a:lnTo>
                      <a:pt x="566" y="740"/>
                    </a:lnTo>
                    <a:lnTo>
                      <a:pt x="558" y="740"/>
                    </a:lnTo>
                    <a:lnTo>
                      <a:pt x="566" y="743"/>
                    </a:lnTo>
                    <a:lnTo>
                      <a:pt x="569" y="732"/>
                    </a:lnTo>
                    <a:lnTo>
                      <a:pt x="569" y="732"/>
                    </a:lnTo>
                    <a:lnTo>
                      <a:pt x="569" y="729"/>
                    </a:lnTo>
                    <a:lnTo>
                      <a:pt x="569" y="722"/>
                    </a:lnTo>
                    <a:lnTo>
                      <a:pt x="562" y="722"/>
                    </a:lnTo>
                    <a:lnTo>
                      <a:pt x="569" y="725"/>
                    </a:lnTo>
                    <a:lnTo>
                      <a:pt x="573" y="718"/>
                    </a:lnTo>
                    <a:lnTo>
                      <a:pt x="577" y="707"/>
                    </a:lnTo>
                    <a:lnTo>
                      <a:pt x="580" y="700"/>
                    </a:lnTo>
                    <a:lnTo>
                      <a:pt x="573" y="696"/>
                    </a:lnTo>
                    <a:lnTo>
                      <a:pt x="577" y="700"/>
                    </a:lnTo>
                    <a:lnTo>
                      <a:pt x="584" y="692"/>
                    </a:lnTo>
                    <a:lnTo>
                      <a:pt x="580" y="689"/>
                    </a:lnTo>
                    <a:lnTo>
                      <a:pt x="584" y="696"/>
                    </a:lnTo>
                    <a:lnTo>
                      <a:pt x="591" y="692"/>
                    </a:lnTo>
                    <a:lnTo>
                      <a:pt x="591" y="692"/>
                    </a:lnTo>
                    <a:lnTo>
                      <a:pt x="591" y="689"/>
                    </a:lnTo>
                    <a:lnTo>
                      <a:pt x="598" y="682"/>
                    </a:lnTo>
                    <a:lnTo>
                      <a:pt x="606" y="674"/>
                    </a:lnTo>
                    <a:lnTo>
                      <a:pt x="609" y="674"/>
                    </a:lnTo>
                    <a:lnTo>
                      <a:pt x="609" y="674"/>
                    </a:lnTo>
                    <a:lnTo>
                      <a:pt x="613" y="663"/>
                    </a:lnTo>
                    <a:lnTo>
                      <a:pt x="616" y="653"/>
                    </a:lnTo>
                    <a:lnTo>
                      <a:pt x="620" y="642"/>
                    </a:lnTo>
                    <a:lnTo>
                      <a:pt x="620" y="642"/>
                    </a:lnTo>
                    <a:lnTo>
                      <a:pt x="620" y="638"/>
                    </a:lnTo>
                    <a:lnTo>
                      <a:pt x="620" y="624"/>
                    </a:lnTo>
                    <a:lnTo>
                      <a:pt x="620" y="613"/>
                    </a:lnTo>
                    <a:lnTo>
                      <a:pt x="620" y="598"/>
                    </a:lnTo>
                    <a:lnTo>
                      <a:pt x="620" y="598"/>
                    </a:lnTo>
                    <a:lnTo>
                      <a:pt x="620" y="598"/>
                    </a:lnTo>
                    <a:lnTo>
                      <a:pt x="616" y="587"/>
                    </a:lnTo>
                    <a:lnTo>
                      <a:pt x="613" y="576"/>
                    </a:lnTo>
                    <a:lnTo>
                      <a:pt x="609" y="569"/>
                    </a:lnTo>
                    <a:lnTo>
                      <a:pt x="609" y="569"/>
                    </a:lnTo>
                    <a:lnTo>
                      <a:pt x="606" y="566"/>
                    </a:lnTo>
                    <a:lnTo>
                      <a:pt x="602" y="562"/>
                    </a:lnTo>
                    <a:lnTo>
                      <a:pt x="598" y="566"/>
                    </a:lnTo>
                    <a:lnTo>
                      <a:pt x="606" y="566"/>
                    </a:lnTo>
                    <a:lnTo>
                      <a:pt x="602" y="558"/>
                    </a:lnTo>
                    <a:lnTo>
                      <a:pt x="598" y="555"/>
                    </a:lnTo>
                    <a:lnTo>
                      <a:pt x="598" y="555"/>
                    </a:lnTo>
                    <a:lnTo>
                      <a:pt x="591" y="551"/>
                    </a:lnTo>
                    <a:lnTo>
                      <a:pt x="584" y="547"/>
                    </a:lnTo>
                    <a:lnTo>
                      <a:pt x="580" y="551"/>
                    </a:lnTo>
                    <a:lnTo>
                      <a:pt x="584" y="547"/>
                    </a:lnTo>
                    <a:lnTo>
                      <a:pt x="580" y="544"/>
                    </a:lnTo>
                    <a:lnTo>
                      <a:pt x="580" y="544"/>
                    </a:lnTo>
                    <a:lnTo>
                      <a:pt x="580" y="544"/>
                    </a:lnTo>
                    <a:lnTo>
                      <a:pt x="573" y="540"/>
                    </a:lnTo>
                    <a:lnTo>
                      <a:pt x="573" y="540"/>
                    </a:lnTo>
                    <a:lnTo>
                      <a:pt x="569" y="540"/>
                    </a:lnTo>
                    <a:lnTo>
                      <a:pt x="562" y="540"/>
                    </a:lnTo>
                    <a:lnTo>
                      <a:pt x="562" y="544"/>
                    </a:lnTo>
                    <a:lnTo>
                      <a:pt x="566" y="540"/>
                    </a:lnTo>
                    <a:lnTo>
                      <a:pt x="555" y="537"/>
                    </a:lnTo>
                    <a:lnTo>
                      <a:pt x="548" y="533"/>
                    </a:lnTo>
                    <a:lnTo>
                      <a:pt x="548" y="533"/>
                    </a:lnTo>
                    <a:lnTo>
                      <a:pt x="544" y="533"/>
                    </a:lnTo>
                    <a:lnTo>
                      <a:pt x="533" y="533"/>
                    </a:lnTo>
                    <a:lnTo>
                      <a:pt x="522" y="533"/>
                    </a:lnTo>
                    <a:lnTo>
                      <a:pt x="515" y="533"/>
                    </a:lnTo>
                    <a:lnTo>
                      <a:pt x="504" y="533"/>
                    </a:lnTo>
                    <a:lnTo>
                      <a:pt x="504" y="533"/>
                    </a:lnTo>
                    <a:lnTo>
                      <a:pt x="504" y="533"/>
                    </a:lnTo>
                    <a:lnTo>
                      <a:pt x="493" y="537"/>
                    </a:lnTo>
                    <a:lnTo>
                      <a:pt x="493" y="540"/>
                    </a:lnTo>
                    <a:lnTo>
                      <a:pt x="493" y="537"/>
                    </a:lnTo>
                    <a:lnTo>
                      <a:pt x="486" y="537"/>
                    </a:lnTo>
                    <a:lnTo>
                      <a:pt x="486" y="537"/>
                    </a:lnTo>
                    <a:lnTo>
                      <a:pt x="486" y="537"/>
                    </a:lnTo>
                    <a:lnTo>
                      <a:pt x="479" y="540"/>
                    </a:lnTo>
                    <a:lnTo>
                      <a:pt x="471" y="544"/>
                    </a:lnTo>
                    <a:lnTo>
                      <a:pt x="464" y="547"/>
                    </a:lnTo>
                    <a:lnTo>
                      <a:pt x="464" y="547"/>
                    </a:lnTo>
                    <a:lnTo>
                      <a:pt x="460" y="547"/>
                    </a:lnTo>
                    <a:lnTo>
                      <a:pt x="457" y="551"/>
                    </a:lnTo>
                    <a:lnTo>
                      <a:pt x="460" y="555"/>
                    </a:lnTo>
                    <a:lnTo>
                      <a:pt x="460" y="551"/>
                    </a:lnTo>
                    <a:lnTo>
                      <a:pt x="453" y="551"/>
                    </a:lnTo>
                    <a:lnTo>
                      <a:pt x="453" y="551"/>
                    </a:lnTo>
                    <a:lnTo>
                      <a:pt x="450" y="551"/>
                    </a:lnTo>
                    <a:lnTo>
                      <a:pt x="446" y="555"/>
                    </a:lnTo>
                    <a:lnTo>
                      <a:pt x="446" y="558"/>
                    </a:lnTo>
                    <a:lnTo>
                      <a:pt x="446" y="558"/>
                    </a:lnTo>
                    <a:lnTo>
                      <a:pt x="442" y="566"/>
                    </a:lnTo>
                    <a:lnTo>
                      <a:pt x="446" y="566"/>
                    </a:lnTo>
                    <a:lnTo>
                      <a:pt x="446" y="562"/>
                    </a:lnTo>
                    <a:lnTo>
                      <a:pt x="439" y="566"/>
                    </a:lnTo>
                    <a:lnTo>
                      <a:pt x="435" y="566"/>
                    </a:lnTo>
                    <a:lnTo>
                      <a:pt x="435" y="569"/>
                    </a:lnTo>
                    <a:lnTo>
                      <a:pt x="428" y="580"/>
                    </a:lnTo>
                    <a:lnTo>
                      <a:pt x="424" y="591"/>
                    </a:lnTo>
                    <a:lnTo>
                      <a:pt x="421" y="602"/>
                    </a:lnTo>
                    <a:lnTo>
                      <a:pt x="421" y="602"/>
                    </a:lnTo>
                    <a:lnTo>
                      <a:pt x="421" y="602"/>
                    </a:lnTo>
                    <a:lnTo>
                      <a:pt x="421" y="613"/>
                    </a:lnTo>
                    <a:lnTo>
                      <a:pt x="421" y="624"/>
                    </a:lnTo>
                    <a:lnTo>
                      <a:pt x="421" y="638"/>
                    </a:lnTo>
                    <a:lnTo>
                      <a:pt x="421" y="642"/>
                    </a:lnTo>
                    <a:lnTo>
                      <a:pt x="421" y="642"/>
                    </a:lnTo>
                    <a:lnTo>
                      <a:pt x="424" y="653"/>
                    </a:lnTo>
                    <a:lnTo>
                      <a:pt x="428" y="663"/>
                    </a:lnTo>
                    <a:lnTo>
                      <a:pt x="428" y="663"/>
                    </a:lnTo>
                    <a:lnTo>
                      <a:pt x="428" y="663"/>
                    </a:lnTo>
                    <a:lnTo>
                      <a:pt x="435" y="671"/>
                    </a:lnTo>
                    <a:lnTo>
                      <a:pt x="439" y="667"/>
                    </a:lnTo>
                    <a:lnTo>
                      <a:pt x="435" y="671"/>
                    </a:lnTo>
                    <a:lnTo>
                      <a:pt x="442" y="682"/>
                    </a:lnTo>
                    <a:lnTo>
                      <a:pt x="442" y="682"/>
                    </a:lnTo>
                    <a:lnTo>
                      <a:pt x="446" y="685"/>
                    </a:lnTo>
                    <a:lnTo>
                      <a:pt x="457" y="692"/>
                    </a:lnTo>
                    <a:lnTo>
                      <a:pt x="457" y="685"/>
                    </a:lnTo>
                    <a:lnTo>
                      <a:pt x="453" y="689"/>
                    </a:lnTo>
                    <a:lnTo>
                      <a:pt x="457" y="700"/>
                    </a:lnTo>
                    <a:lnTo>
                      <a:pt x="457" y="700"/>
                    </a:lnTo>
                    <a:lnTo>
                      <a:pt x="457" y="700"/>
                    </a:lnTo>
                    <a:lnTo>
                      <a:pt x="464" y="707"/>
                    </a:lnTo>
                    <a:lnTo>
                      <a:pt x="468" y="703"/>
                    </a:lnTo>
                    <a:lnTo>
                      <a:pt x="464" y="707"/>
                    </a:lnTo>
                    <a:lnTo>
                      <a:pt x="468" y="718"/>
                    </a:lnTo>
                    <a:lnTo>
                      <a:pt x="471" y="714"/>
                    </a:lnTo>
                    <a:lnTo>
                      <a:pt x="468" y="714"/>
                    </a:lnTo>
                    <a:lnTo>
                      <a:pt x="468" y="725"/>
                    </a:lnTo>
                    <a:lnTo>
                      <a:pt x="468" y="736"/>
                    </a:lnTo>
                    <a:lnTo>
                      <a:pt x="468" y="743"/>
                    </a:lnTo>
                    <a:lnTo>
                      <a:pt x="471" y="743"/>
                    </a:lnTo>
                    <a:lnTo>
                      <a:pt x="468" y="743"/>
                    </a:lnTo>
                    <a:lnTo>
                      <a:pt x="464" y="754"/>
                    </a:lnTo>
                    <a:lnTo>
                      <a:pt x="460" y="765"/>
                    </a:lnTo>
                    <a:lnTo>
                      <a:pt x="453" y="776"/>
                    </a:lnTo>
                    <a:lnTo>
                      <a:pt x="457" y="776"/>
                    </a:lnTo>
                    <a:lnTo>
                      <a:pt x="453" y="772"/>
                    </a:lnTo>
                    <a:lnTo>
                      <a:pt x="446" y="780"/>
                    </a:lnTo>
                    <a:lnTo>
                      <a:pt x="439" y="787"/>
                    </a:lnTo>
                    <a:lnTo>
                      <a:pt x="442" y="790"/>
                    </a:lnTo>
                    <a:lnTo>
                      <a:pt x="442" y="787"/>
                    </a:lnTo>
                    <a:lnTo>
                      <a:pt x="428" y="794"/>
                    </a:lnTo>
                    <a:lnTo>
                      <a:pt x="428" y="794"/>
                    </a:lnTo>
                    <a:lnTo>
                      <a:pt x="424" y="794"/>
                    </a:lnTo>
                    <a:lnTo>
                      <a:pt x="413" y="805"/>
                    </a:lnTo>
                    <a:lnTo>
                      <a:pt x="417" y="809"/>
                    </a:lnTo>
                    <a:lnTo>
                      <a:pt x="417" y="805"/>
                    </a:lnTo>
                    <a:lnTo>
                      <a:pt x="402" y="809"/>
                    </a:lnTo>
                    <a:lnTo>
                      <a:pt x="384" y="812"/>
                    </a:lnTo>
                    <a:lnTo>
                      <a:pt x="373" y="812"/>
                    </a:lnTo>
                    <a:lnTo>
                      <a:pt x="355" y="812"/>
                    </a:lnTo>
                    <a:lnTo>
                      <a:pt x="334" y="812"/>
                    </a:lnTo>
                    <a:lnTo>
                      <a:pt x="312" y="812"/>
                    </a:lnTo>
                    <a:lnTo>
                      <a:pt x="290" y="812"/>
                    </a:lnTo>
                    <a:lnTo>
                      <a:pt x="265" y="812"/>
                    </a:lnTo>
                    <a:lnTo>
                      <a:pt x="239" y="812"/>
                    </a:lnTo>
                    <a:lnTo>
                      <a:pt x="214" y="812"/>
                    </a:lnTo>
                    <a:lnTo>
                      <a:pt x="214" y="816"/>
                    </a:lnTo>
                    <a:lnTo>
                      <a:pt x="221" y="819"/>
                    </a:lnTo>
                    <a:lnTo>
                      <a:pt x="225" y="809"/>
                    </a:lnTo>
                    <a:lnTo>
                      <a:pt x="228" y="794"/>
                    </a:lnTo>
                    <a:lnTo>
                      <a:pt x="232" y="780"/>
                    </a:lnTo>
                    <a:lnTo>
                      <a:pt x="236" y="765"/>
                    </a:lnTo>
                    <a:lnTo>
                      <a:pt x="236" y="765"/>
                    </a:lnTo>
                    <a:lnTo>
                      <a:pt x="236" y="761"/>
                    </a:lnTo>
                    <a:lnTo>
                      <a:pt x="236" y="747"/>
                    </a:lnTo>
                    <a:lnTo>
                      <a:pt x="228" y="747"/>
                    </a:lnTo>
                    <a:lnTo>
                      <a:pt x="236" y="751"/>
                    </a:lnTo>
                    <a:lnTo>
                      <a:pt x="239" y="736"/>
                    </a:lnTo>
                    <a:lnTo>
                      <a:pt x="239" y="736"/>
                    </a:lnTo>
                    <a:lnTo>
                      <a:pt x="239" y="732"/>
                    </a:lnTo>
                    <a:lnTo>
                      <a:pt x="239" y="718"/>
                    </a:lnTo>
                    <a:lnTo>
                      <a:pt x="239" y="703"/>
                    </a:lnTo>
                    <a:lnTo>
                      <a:pt x="239" y="689"/>
                    </a:lnTo>
                    <a:lnTo>
                      <a:pt x="239" y="674"/>
                    </a:lnTo>
                    <a:lnTo>
                      <a:pt x="239" y="674"/>
                    </a:lnTo>
                    <a:lnTo>
                      <a:pt x="239" y="674"/>
                    </a:lnTo>
                    <a:lnTo>
                      <a:pt x="236" y="660"/>
                    </a:lnTo>
                    <a:lnTo>
                      <a:pt x="228" y="660"/>
                    </a:lnTo>
                    <a:lnTo>
                      <a:pt x="236" y="660"/>
                    </a:lnTo>
                    <a:lnTo>
                      <a:pt x="236" y="645"/>
                    </a:lnTo>
                    <a:lnTo>
                      <a:pt x="236" y="645"/>
                    </a:lnTo>
                    <a:lnTo>
                      <a:pt x="236" y="645"/>
                    </a:lnTo>
                    <a:lnTo>
                      <a:pt x="232" y="634"/>
                    </a:lnTo>
                    <a:lnTo>
                      <a:pt x="228" y="624"/>
                    </a:lnTo>
                    <a:lnTo>
                      <a:pt x="225" y="613"/>
                    </a:lnTo>
                    <a:lnTo>
                      <a:pt x="221" y="605"/>
                    </a:lnTo>
                    <a:lnTo>
                      <a:pt x="218" y="595"/>
                    </a:lnTo>
                    <a:lnTo>
                      <a:pt x="218" y="595"/>
                    </a:lnTo>
                    <a:lnTo>
                      <a:pt x="214" y="591"/>
                    </a:lnTo>
                    <a:lnTo>
                      <a:pt x="210" y="587"/>
                    </a:lnTo>
                    <a:lnTo>
                      <a:pt x="207" y="591"/>
                    </a:lnTo>
                    <a:lnTo>
                      <a:pt x="214" y="591"/>
                    </a:lnTo>
                    <a:lnTo>
                      <a:pt x="210" y="584"/>
                    </a:lnTo>
                    <a:lnTo>
                      <a:pt x="210" y="584"/>
                    </a:lnTo>
                    <a:lnTo>
                      <a:pt x="207" y="580"/>
                    </a:lnTo>
                    <a:lnTo>
                      <a:pt x="203" y="576"/>
                    </a:lnTo>
                    <a:lnTo>
                      <a:pt x="203" y="576"/>
                    </a:lnTo>
                    <a:lnTo>
                      <a:pt x="203" y="576"/>
                    </a:lnTo>
                    <a:lnTo>
                      <a:pt x="196" y="573"/>
                    </a:lnTo>
                    <a:lnTo>
                      <a:pt x="196" y="573"/>
                    </a:lnTo>
                    <a:lnTo>
                      <a:pt x="192" y="573"/>
                    </a:lnTo>
                    <a:lnTo>
                      <a:pt x="189" y="573"/>
                    </a:lnTo>
                    <a:lnTo>
                      <a:pt x="189" y="576"/>
                    </a:lnTo>
                    <a:lnTo>
                      <a:pt x="192" y="573"/>
                    </a:lnTo>
                    <a:lnTo>
                      <a:pt x="189" y="569"/>
                    </a:lnTo>
                    <a:lnTo>
                      <a:pt x="189" y="569"/>
                    </a:lnTo>
                    <a:lnTo>
                      <a:pt x="185" y="569"/>
                    </a:lnTo>
                    <a:lnTo>
                      <a:pt x="178" y="569"/>
                    </a:lnTo>
                    <a:lnTo>
                      <a:pt x="167" y="569"/>
                    </a:lnTo>
                    <a:lnTo>
                      <a:pt x="152" y="573"/>
                    </a:lnTo>
                    <a:lnTo>
                      <a:pt x="145" y="573"/>
                    </a:lnTo>
                    <a:lnTo>
                      <a:pt x="152" y="573"/>
                    </a:lnTo>
                    <a:lnTo>
                      <a:pt x="141" y="576"/>
                    </a:lnTo>
                    <a:lnTo>
                      <a:pt x="123" y="584"/>
                    </a:lnTo>
                    <a:lnTo>
                      <a:pt x="112" y="587"/>
                    </a:lnTo>
                    <a:lnTo>
                      <a:pt x="112" y="591"/>
                    </a:lnTo>
                    <a:lnTo>
                      <a:pt x="112" y="587"/>
                    </a:lnTo>
                    <a:lnTo>
                      <a:pt x="105" y="587"/>
                    </a:lnTo>
                    <a:lnTo>
                      <a:pt x="105" y="587"/>
                    </a:lnTo>
                    <a:lnTo>
                      <a:pt x="105" y="587"/>
                    </a:lnTo>
                    <a:lnTo>
                      <a:pt x="98" y="591"/>
                    </a:lnTo>
                    <a:lnTo>
                      <a:pt x="98" y="595"/>
                    </a:lnTo>
                    <a:lnTo>
                      <a:pt x="98" y="591"/>
                    </a:lnTo>
                    <a:lnTo>
                      <a:pt x="87" y="591"/>
                    </a:lnTo>
                    <a:lnTo>
                      <a:pt x="80" y="591"/>
                    </a:lnTo>
                    <a:lnTo>
                      <a:pt x="73" y="591"/>
                    </a:lnTo>
                    <a:lnTo>
                      <a:pt x="65" y="591"/>
                    </a:lnTo>
                    <a:lnTo>
                      <a:pt x="65" y="595"/>
                    </a:lnTo>
                    <a:lnTo>
                      <a:pt x="69" y="591"/>
                    </a:lnTo>
                    <a:lnTo>
                      <a:pt x="62" y="587"/>
                    </a:lnTo>
                    <a:lnTo>
                      <a:pt x="62" y="587"/>
                    </a:lnTo>
                    <a:lnTo>
                      <a:pt x="58" y="587"/>
                    </a:lnTo>
                    <a:lnTo>
                      <a:pt x="51" y="587"/>
                    </a:lnTo>
                    <a:lnTo>
                      <a:pt x="51" y="591"/>
                    </a:lnTo>
                    <a:lnTo>
                      <a:pt x="54" y="587"/>
                    </a:lnTo>
                    <a:lnTo>
                      <a:pt x="47" y="584"/>
                    </a:lnTo>
                    <a:lnTo>
                      <a:pt x="44" y="587"/>
                    </a:lnTo>
                    <a:lnTo>
                      <a:pt x="47" y="584"/>
                    </a:lnTo>
                    <a:lnTo>
                      <a:pt x="44" y="580"/>
                    </a:lnTo>
                    <a:lnTo>
                      <a:pt x="44" y="580"/>
                    </a:lnTo>
                    <a:lnTo>
                      <a:pt x="40" y="580"/>
                    </a:lnTo>
                    <a:lnTo>
                      <a:pt x="36" y="580"/>
                    </a:lnTo>
                    <a:lnTo>
                      <a:pt x="36" y="584"/>
                    </a:lnTo>
                    <a:lnTo>
                      <a:pt x="40" y="580"/>
                    </a:lnTo>
                    <a:lnTo>
                      <a:pt x="29" y="573"/>
                    </a:lnTo>
                    <a:lnTo>
                      <a:pt x="25" y="576"/>
                    </a:lnTo>
                    <a:lnTo>
                      <a:pt x="33" y="576"/>
                    </a:lnTo>
                    <a:lnTo>
                      <a:pt x="25" y="566"/>
                    </a:lnTo>
                    <a:lnTo>
                      <a:pt x="22" y="558"/>
                    </a:lnTo>
                    <a:lnTo>
                      <a:pt x="15" y="547"/>
                    </a:lnTo>
                    <a:lnTo>
                      <a:pt x="11" y="537"/>
                    </a:lnTo>
                    <a:lnTo>
                      <a:pt x="4" y="537"/>
                    </a:lnTo>
                    <a:lnTo>
                      <a:pt x="11" y="537"/>
                    </a:lnTo>
                    <a:lnTo>
                      <a:pt x="11" y="529"/>
                    </a:lnTo>
                    <a:lnTo>
                      <a:pt x="11" y="518"/>
                    </a:lnTo>
                    <a:lnTo>
                      <a:pt x="11" y="508"/>
                    </a:lnTo>
                    <a:lnTo>
                      <a:pt x="4" y="508"/>
                    </a:lnTo>
                    <a:lnTo>
                      <a:pt x="11" y="511"/>
                    </a:lnTo>
                    <a:lnTo>
                      <a:pt x="15" y="504"/>
                    </a:lnTo>
                    <a:lnTo>
                      <a:pt x="7" y="500"/>
                    </a:lnTo>
                    <a:lnTo>
                      <a:pt x="11" y="504"/>
                    </a:lnTo>
                    <a:lnTo>
                      <a:pt x="15" y="500"/>
                    </a:lnTo>
                    <a:lnTo>
                      <a:pt x="18" y="500"/>
                    </a:lnTo>
                    <a:lnTo>
                      <a:pt x="18" y="500"/>
                    </a:lnTo>
                    <a:lnTo>
                      <a:pt x="25" y="489"/>
                    </a:lnTo>
                    <a:lnTo>
                      <a:pt x="33" y="478"/>
                    </a:lnTo>
                    <a:lnTo>
                      <a:pt x="25" y="475"/>
                    </a:lnTo>
                    <a:lnTo>
                      <a:pt x="29" y="478"/>
                    </a:lnTo>
                    <a:lnTo>
                      <a:pt x="36" y="471"/>
                    </a:lnTo>
                    <a:lnTo>
                      <a:pt x="33" y="468"/>
                    </a:lnTo>
                    <a:lnTo>
                      <a:pt x="36" y="475"/>
                    </a:lnTo>
                    <a:lnTo>
                      <a:pt x="44" y="471"/>
                    </a:lnTo>
                    <a:lnTo>
                      <a:pt x="44" y="468"/>
                    </a:lnTo>
                    <a:lnTo>
                      <a:pt x="47" y="468"/>
                    </a:lnTo>
                    <a:lnTo>
                      <a:pt x="51" y="460"/>
                    </a:lnTo>
                    <a:lnTo>
                      <a:pt x="44" y="457"/>
                    </a:lnTo>
                    <a:lnTo>
                      <a:pt x="47" y="464"/>
                    </a:lnTo>
                    <a:lnTo>
                      <a:pt x="54" y="460"/>
                    </a:lnTo>
                    <a:lnTo>
                      <a:pt x="51" y="453"/>
                    </a:lnTo>
                    <a:lnTo>
                      <a:pt x="51" y="460"/>
                    </a:lnTo>
                    <a:lnTo>
                      <a:pt x="58" y="460"/>
                    </a:lnTo>
                    <a:lnTo>
                      <a:pt x="62" y="460"/>
                    </a:lnTo>
                    <a:lnTo>
                      <a:pt x="62" y="460"/>
                    </a:lnTo>
                    <a:lnTo>
                      <a:pt x="69" y="457"/>
                    </a:lnTo>
                    <a:lnTo>
                      <a:pt x="65" y="449"/>
                    </a:lnTo>
                    <a:lnTo>
                      <a:pt x="65" y="457"/>
                    </a:lnTo>
                    <a:lnTo>
                      <a:pt x="73" y="457"/>
                    </a:lnTo>
                    <a:lnTo>
                      <a:pt x="80" y="457"/>
                    </a:lnTo>
                    <a:lnTo>
                      <a:pt x="80" y="449"/>
                    </a:lnTo>
                    <a:lnTo>
                      <a:pt x="76" y="453"/>
                    </a:lnTo>
                    <a:lnTo>
                      <a:pt x="80" y="457"/>
                    </a:lnTo>
                    <a:lnTo>
                      <a:pt x="83" y="460"/>
                    </a:lnTo>
                    <a:lnTo>
                      <a:pt x="83" y="460"/>
                    </a:lnTo>
                    <a:lnTo>
                      <a:pt x="91" y="460"/>
                    </a:lnTo>
                    <a:lnTo>
                      <a:pt x="105" y="464"/>
                    </a:lnTo>
                    <a:lnTo>
                      <a:pt x="105" y="457"/>
                    </a:lnTo>
                    <a:lnTo>
                      <a:pt x="105" y="464"/>
                    </a:lnTo>
                    <a:lnTo>
                      <a:pt x="116" y="471"/>
                    </a:lnTo>
                    <a:lnTo>
                      <a:pt x="131" y="478"/>
                    </a:lnTo>
                    <a:lnTo>
                      <a:pt x="141" y="486"/>
                    </a:lnTo>
                    <a:lnTo>
                      <a:pt x="152" y="489"/>
                    </a:lnTo>
                    <a:lnTo>
                      <a:pt x="167" y="497"/>
                    </a:lnTo>
                    <a:lnTo>
                      <a:pt x="167" y="497"/>
                    </a:lnTo>
                    <a:lnTo>
                      <a:pt x="167" y="497"/>
                    </a:lnTo>
                    <a:lnTo>
                      <a:pt x="174" y="497"/>
                    </a:lnTo>
                    <a:lnTo>
                      <a:pt x="174" y="489"/>
                    </a:lnTo>
                    <a:lnTo>
                      <a:pt x="170" y="493"/>
                    </a:lnTo>
                    <a:lnTo>
                      <a:pt x="174" y="497"/>
                    </a:lnTo>
                    <a:lnTo>
                      <a:pt x="178" y="500"/>
                    </a:lnTo>
                    <a:lnTo>
                      <a:pt x="178" y="500"/>
                    </a:lnTo>
                    <a:lnTo>
                      <a:pt x="185" y="500"/>
                    </a:lnTo>
                    <a:lnTo>
                      <a:pt x="192" y="500"/>
                    </a:lnTo>
                    <a:lnTo>
                      <a:pt x="196" y="500"/>
                    </a:lnTo>
                    <a:lnTo>
                      <a:pt x="196" y="497"/>
                    </a:lnTo>
                    <a:lnTo>
                      <a:pt x="199" y="493"/>
                    </a:lnTo>
                    <a:lnTo>
                      <a:pt x="196" y="489"/>
                    </a:lnTo>
                    <a:lnTo>
                      <a:pt x="199" y="497"/>
                    </a:lnTo>
                    <a:lnTo>
                      <a:pt x="207" y="493"/>
                    </a:lnTo>
                    <a:lnTo>
                      <a:pt x="214" y="489"/>
                    </a:lnTo>
                    <a:lnTo>
                      <a:pt x="214" y="489"/>
                    </a:lnTo>
                    <a:lnTo>
                      <a:pt x="214" y="486"/>
                    </a:lnTo>
                    <a:lnTo>
                      <a:pt x="218" y="482"/>
                    </a:lnTo>
                    <a:close/>
                  </a:path>
                </a:pathLst>
              </a:custGeom>
              <a:solidFill>
                <a:srgbClr val="ffff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3640320" y="2592360"/>
              <a:ext cx="157140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49440"/>
                  <a:tab algn="l" pos="1298520"/>
                  <a:tab algn="l" pos="1947960"/>
                  <a:tab algn="l" pos="2597040"/>
                  <a:tab algn="l" pos="3246480"/>
                  <a:tab algn="l" pos="3895560"/>
                  <a:tab algn="l" pos="4545000"/>
                  <a:tab algn="l" pos="5194440"/>
                  <a:tab algn="l" pos="5843520"/>
                  <a:tab algn="l" pos="6492960"/>
                  <a:tab algn="l" pos="7142040"/>
                  <a:tab algn="l" pos="7791480"/>
                  <a:tab algn="l" pos="8440560"/>
                  <a:tab algn="l" pos="9090000"/>
                  <a:tab algn="l" pos="9739440"/>
                  <a:tab algn="l" pos="10388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2554200" y="1955880"/>
            <a:ext cx="1290240" cy="2153880"/>
            <a:chOff x="2554200" y="1955880"/>
            <a:chExt cx="1290240" cy="2153880"/>
          </a:xfrm>
        </p:grpSpPr>
        <p:grpSp>
          <p:nvGrpSpPr>
            <p:cNvPr id="179" name=""/>
            <p:cNvGrpSpPr/>
            <p:nvPr/>
          </p:nvGrpSpPr>
          <p:grpSpPr>
            <a:xfrm>
              <a:off x="2554200" y="1955880"/>
              <a:ext cx="1290240" cy="2153880"/>
              <a:chOff x="2554200" y="1955880"/>
              <a:chExt cx="1290240" cy="2153880"/>
            </a:xfrm>
          </p:grpSpPr>
          <p:sp>
            <p:nvSpPr>
              <p:cNvPr id="180" name=""/>
              <p:cNvSpPr/>
              <p:nvPr/>
            </p:nvSpPr>
            <p:spPr>
              <a:xfrm>
                <a:off x="2559960" y="1961640"/>
                <a:ext cx="1270800" cy="2134080"/>
              </a:xfrm>
              <a:custGeom>
                <a:avLst/>
                <a:gdLst/>
                <a:ahLst/>
                <a:rect l="l" t="t" r="r" b="b"/>
                <a:pathLst>
                  <a:path w="646" h="1067">
                    <a:moveTo>
                      <a:pt x="113" y="523"/>
                    </a:moveTo>
                    <a:lnTo>
                      <a:pt x="116" y="519"/>
                    </a:lnTo>
                    <a:lnTo>
                      <a:pt x="120" y="512"/>
                    </a:lnTo>
                    <a:lnTo>
                      <a:pt x="124" y="512"/>
                    </a:lnTo>
                    <a:lnTo>
                      <a:pt x="127" y="508"/>
                    </a:lnTo>
                    <a:lnTo>
                      <a:pt x="138" y="505"/>
                    </a:lnTo>
                    <a:lnTo>
                      <a:pt x="149" y="501"/>
                    </a:lnTo>
                    <a:lnTo>
                      <a:pt x="160" y="501"/>
                    </a:lnTo>
                    <a:lnTo>
                      <a:pt x="174" y="501"/>
                    </a:lnTo>
                    <a:lnTo>
                      <a:pt x="185" y="505"/>
                    </a:lnTo>
                    <a:lnTo>
                      <a:pt x="196" y="508"/>
                    </a:lnTo>
                    <a:lnTo>
                      <a:pt x="207" y="516"/>
                    </a:lnTo>
                    <a:lnTo>
                      <a:pt x="218" y="523"/>
                    </a:lnTo>
                    <a:lnTo>
                      <a:pt x="229" y="530"/>
                    </a:lnTo>
                    <a:lnTo>
                      <a:pt x="236" y="541"/>
                    </a:lnTo>
                    <a:lnTo>
                      <a:pt x="236" y="548"/>
                    </a:lnTo>
                    <a:lnTo>
                      <a:pt x="240" y="552"/>
                    </a:lnTo>
                    <a:lnTo>
                      <a:pt x="243" y="559"/>
                    </a:lnTo>
                    <a:lnTo>
                      <a:pt x="247" y="563"/>
                    </a:lnTo>
                    <a:lnTo>
                      <a:pt x="247" y="570"/>
                    </a:lnTo>
                    <a:lnTo>
                      <a:pt x="247" y="577"/>
                    </a:lnTo>
                    <a:lnTo>
                      <a:pt x="247" y="584"/>
                    </a:lnTo>
                    <a:lnTo>
                      <a:pt x="247" y="592"/>
                    </a:lnTo>
                    <a:lnTo>
                      <a:pt x="243" y="603"/>
                    </a:lnTo>
                    <a:lnTo>
                      <a:pt x="240" y="617"/>
                    </a:lnTo>
                    <a:lnTo>
                      <a:pt x="232" y="624"/>
                    </a:lnTo>
                    <a:lnTo>
                      <a:pt x="225" y="635"/>
                    </a:lnTo>
                    <a:lnTo>
                      <a:pt x="218" y="642"/>
                    </a:lnTo>
                    <a:lnTo>
                      <a:pt x="211" y="650"/>
                    </a:lnTo>
                    <a:lnTo>
                      <a:pt x="200" y="653"/>
                    </a:lnTo>
                    <a:lnTo>
                      <a:pt x="189" y="657"/>
                    </a:lnTo>
                    <a:lnTo>
                      <a:pt x="182" y="661"/>
                    </a:lnTo>
                    <a:lnTo>
                      <a:pt x="171" y="661"/>
                    </a:lnTo>
                    <a:lnTo>
                      <a:pt x="160" y="661"/>
                    </a:lnTo>
                    <a:lnTo>
                      <a:pt x="149" y="657"/>
                    </a:lnTo>
                    <a:lnTo>
                      <a:pt x="138" y="653"/>
                    </a:lnTo>
                    <a:lnTo>
                      <a:pt x="131" y="650"/>
                    </a:lnTo>
                    <a:lnTo>
                      <a:pt x="124" y="646"/>
                    </a:lnTo>
                    <a:lnTo>
                      <a:pt x="116" y="639"/>
                    </a:lnTo>
                    <a:lnTo>
                      <a:pt x="109" y="632"/>
                    </a:lnTo>
                    <a:lnTo>
                      <a:pt x="102" y="624"/>
                    </a:lnTo>
                    <a:lnTo>
                      <a:pt x="95" y="621"/>
                    </a:lnTo>
                    <a:lnTo>
                      <a:pt x="84" y="617"/>
                    </a:lnTo>
                    <a:lnTo>
                      <a:pt x="76" y="613"/>
                    </a:lnTo>
                    <a:lnTo>
                      <a:pt x="69" y="610"/>
                    </a:lnTo>
                    <a:lnTo>
                      <a:pt x="62" y="606"/>
                    </a:lnTo>
                    <a:lnTo>
                      <a:pt x="55" y="606"/>
                    </a:lnTo>
                    <a:lnTo>
                      <a:pt x="47" y="606"/>
                    </a:lnTo>
                    <a:lnTo>
                      <a:pt x="40" y="606"/>
                    </a:lnTo>
                    <a:lnTo>
                      <a:pt x="33" y="610"/>
                    </a:lnTo>
                    <a:lnTo>
                      <a:pt x="26" y="613"/>
                    </a:lnTo>
                    <a:lnTo>
                      <a:pt x="18" y="617"/>
                    </a:lnTo>
                    <a:lnTo>
                      <a:pt x="15" y="624"/>
                    </a:lnTo>
                    <a:lnTo>
                      <a:pt x="11" y="632"/>
                    </a:lnTo>
                    <a:lnTo>
                      <a:pt x="11" y="642"/>
                    </a:lnTo>
                    <a:lnTo>
                      <a:pt x="8" y="664"/>
                    </a:lnTo>
                    <a:lnTo>
                      <a:pt x="4" y="690"/>
                    </a:lnTo>
                    <a:lnTo>
                      <a:pt x="0" y="715"/>
                    </a:lnTo>
                    <a:lnTo>
                      <a:pt x="0" y="740"/>
                    </a:lnTo>
                    <a:lnTo>
                      <a:pt x="0" y="769"/>
                    </a:lnTo>
                    <a:lnTo>
                      <a:pt x="0" y="795"/>
                    </a:lnTo>
                    <a:lnTo>
                      <a:pt x="4" y="806"/>
                    </a:lnTo>
                    <a:lnTo>
                      <a:pt x="4" y="817"/>
                    </a:lnTo>
                    <a:lnTo>
                      <a:pt x="8" y="827"/>
                    </a:lnTo>
                    <a:lnTo>
                      <a:pt x="11" y="835"/>
                    </a:lnTo>
                    <a:lnTo>
                      <a:pt x="29" y="831"/>
                    </a:lnTo>
                    <a:lnTo>
                      <a:pt x="55" y="827"/>
                    </a:lnTo>
                    <a:lnTo>
                      <a:pt x="84" y="824"/>
                    </a:lnTo>
                    <a:lnTo>
                      <a:pt x="116" y="824"/>
                    </a:lnTo>
                    <a:lnTo>
                      <a:pt x="149" y="820"/>
                    </a:lnTo>
                    <a:lnTo>
                      <a:pt x="174" y="820"/>
                    </a:lnTo>
                    <a:lnTo>
                      <a:pt x="200" y="824"/>
                    </a:lnTo>
                    <a:lnTo>
                      <a:pt x="218" y="824"/>
                    </a:lnTo>
                    <a:lnTo>
                      <a:pt x="236" y="827"/>
                    </a:lnTo>
                    <a:lnTo>
                      <a:pt x="250" y="831"/>
                    </a:lnTo>
                    <a:lnTo>
                      <a:pt x="265" y="838"/>
                    </a:lnTo>
                    <a:lnTo>
                      <a:pt x="276" y="846"/>
                    </a:lnTo>
                    <a:lnTo>
                      <a:pt x="283" y="849"/>
                    </a:lnTo>
                    <a:lnTo>
                      <a:pt x="290" y="856"/>
                    </a:lnTo>
                    <a:lnTo>
                      <a:pt x="298" y="864"/>
                    </a:lnTo>
                    <a:lnTo>
                      <a:pt x="301" y="871"/>
                    </a:lnTo>
                    <a:lnTo>
                      <a:pt x="301" y="878"/>
                    </a:lnTo>
                    <a:lnTo>
                      <a:pt x="301" y="885"/>
                    </a:lnTo>
                    <a:lnTo>
                      <a:pt x="301" y="893"/>
                    </a:lnTo>
                    <a:lnTo>
                      <a:pt x="301" y="900"/>
                    </a:lnTo>
                    <a:lnTo>
                      <a:pt x="298" y="907"/>
                    </a:lnTo>
                    <a:lnTo>
                      <a:pt x="294" y="915"/>
                    </a:lnTo>
                    <a:lnTo>
                      <a:pt x="287" y="922"/>
                    </a:lnTo>
                    <a:lnTo>
                      <a:pt x="279" y="925"/>
                    </a:lnTo>
                    <a:lnTo>
                      <a:pt x="272" y="936"/>
                    </a:lnTo>
                    <a:lnTo>
                      <a:pt x="269" y="944"/>
                    </a:lnTo>
                    <a:lnTo>
                      <a:pt x="265" y="954"/>
                    </a:lnTo>
                    <a:lnTo>
                      <a:pt x="261" y="965"/>
                    </a:lnTo>
                    <a:lnTo>
                      <a:pt x="261" y="976"/>
                    </a:lnTo>
                    <a:lnTo>
                      <a:pt x="261" y="991"/>
                    </a:lnTo>
                    <a:lnTo>
                      <a:pt x="261" y="1002"/>
                    </a:lnTo>
                    <a:lnTo>
                      <a:pt x="265" y="1012"/>
                    </a:lnTo>
                    <a:lnTo>
                      <a:pt x="272" y="1023"/>
                    </a:lnTo>
                    <a:lnTo>
                      <a:pt x="279" y="1034"/>
                    </a:lnTo>
                    <a:lnTo>
                      <a:pt x="287" y="1041"/>
                    </a:lnTo>
                    <a:lnTo>
                      <a:pt x="294" y="1052"/>
                    </a:lnTo>
                    <a:lnTo>
                      <a:pt x="301" y="1056"/>
                    </a:lnTo>
                    <a:lnTo>
                      <a:pt x="308" y="1060"/>
                    </a:lnTo>
                    <a:lnTo>
                      <a:pt x="312" y="1060"/>
                    </a:lnTo>
                    <a:lnTo>
                      <a:pt x="319" y="1063"/>
                    </a:lnTo>
                    <a:lnTo>
                      <a:pt x="327" y="1067"/>
                    </a:lnTo>
                    <a:lnTo>
                      <a:pt x="334" y="1067"/>
                    </a:lnTo>
                    <a:lnTo>
                      <a:pt x="341" y="1067"/>
                    </a:lnTo>
                    <a:lnTo>
                      <a:pt x="348" y="1067"/>
                    </a:lnTo>
                    <a:lnTo>
                      <a:pt x="367" y="1067"/>
                    </a:lnTo>
                    <a:lnTo>
                      <a:pt x="381" y="1063"/>
                    </a:lnTo>
                    <a:lnTo>
                      <a:pt x="392" y="1056"/>
                    </a:lnTo>
                    <a:lnTo>
                      <a:pt x="403" y="1052"/>
                    </a:lnTo>
                    <a:lnTo>
                      <a:pt x="414" y="1041"/>
                    </a:lnTo>
                    <a:lnTo>
                      <a:pt x="425" y="1034"/>
                    </a:lnTo>
                    <a:lnTo>
                      <a:pt x="432" y="1027"/>
                    </a:lnTo>
                    <a:lnTo>
                      <a:pt x="435" y="1016"/>
                    </a:lnTo>
                    <a:lnTo>
                      <a:pt x="439" y="1005"/>
                    </a:lnTo>
                    <a:lnTo>
                      <a:pt x="439" y="994"/>
                    </a:lnTo>
                    <a:lnTo>
                      <a:pt x="443" y="983"/>
                    </a:lnTo>
                    <a:lnTo>
                      <a:pt x="439" y="973"/>
                    </a:lnTo>
                    <a:lnTo>
                      <a:pt x="435" y="962"/>
                    </a:lnTo>
                    <a:lnTo>
                      <a:pt x="432" y="951"/>
                    </a:lnTo>
                    <a:lnTo>
                      <a:pt x="425" y="940"/>
                    </a:lnTo>
                    <a:lnTo>
                      <a:pt x="414" y="933"/>
                    </a:lnTo>
                    <a:lnTo>
                      <a:pt x="406" y="922"/>
                    </a:lnTo>
                    <a:lnTo>
                      <a:pt x="403" y="915"/>
                    </a:lnTo>
                    <a:lnTo>
                      <a:pt x="396" y="904"/>
                    </a:lnTo>
                    <a:lnTo>
                      <a:pt x="392" y="893"/>
                    </a:lnTo>
                    <a:lnTo>
                      <a:pt x="392" y="882"/>
                    </a:lnTo>
                    <a:lnTo>
                      <a:pt x="392" y="871"/>
                    </a:lnTo>
                    <a:lnTo>
                      <a:pt x="392" y="864"/>
                    </a:lnTo>
                    <a:lnTo>
                      <a:pt x="392" y="853"/>
                    </a:lnTo>
                    <a:lnTo>
                      <a:pt x="396" y="846"/>
                    </a:lnTo>
                    <a:lnTo>
                      <a:pt x="399" y="835"/>
                    </a:lnTo>
                    <a:lnTo>
                      <a:pt x="403" y="827"/>
                    </a:lnTo>
                    <a:lnTo>
                      <a:pt x="410" y="824"/>
                    </a:lnTo>
                    <a:lnTo>
                      <a:pt x="414" y="817"/>
                    </a:lnTo>
                    <a:lnTo>
                      <a:pt x="421" y="813"/>
                    </a:lnTo>
                    <a:lnTo>
                      <a:pt x="428" y="809"/>
                    </a:lnTo>
                    <a:lnTo>
                      <a:pt x="432" y="809"/>
                    </a:lnTo>
                    <a:lnTo>
                      <a:pt x="443" y="809"/>
                    </a:lnTo>
                    <a:lnTo>
                      <a:pt x="461" y="813"/>
                    </a:lnTo>
                    <a:lnTo>
                      <a:pt x="479" y="813"/>
                    </a:lnTo>
                    <a:lnTo>
                      <a:pt x="504" y="817"/>
                    </a:lnTo>
                    <a:lnTo>
                      <a:pt x="533" y="820"/>
                    </a:lnTo>
                    <a:lnTo>
                      <a:pt x="562" y="820"/>
                    </a:lnTo>
                    <a:lnTo>
                      <a:pt x="591" y="824"/>
                    </a:lnTo>
                    <a:lnTo>
                      <a:pt x="624" y="824"/>
                    </a:lnTo>
                    <a:lnTo>
                      <a:pt x="631" y="813"/>
                    </a:lnTo>
                    <a:lnTo>
                      <a:pt x="635" y="798"/>
                    </a:lnTo>
                    <a:lnTo>
                      <a:pt x="638" y="784"/>
                    </a:lnTo>
                    <a:lnTo>
                      <a:pt x="642" y="769"/>
                    </a:lnTo>
                    <a:lnTo>
                      <a:pt x="646" y="755"/>
                    </a:lnTo>
                    <a:lnTo>
                      <a:pt x="646" y="740"/>
                    </a:lnTo>
                    <a:lnTo>
                      <a:pt x="646" y="726"/>
                    </a:lnTo>
                    <a:lnTo>
                      <a:pt x="646" y="711"/>
                    </a:lnTo>
                    <a:lnTo>
                      <a:pt x="646" y="697"/>
                    </a:lnTo>
                    <a:lnTo>
                      <a:pt x="646" y="682"/>
                    </a:lnTo>
                    <a:lnTo>
                      <a:pt x="642" y="668"/>
                    </a:lnTo>
                    <a:lnTo>
                      <a:pt x="642" y="653"/>
                    </a:lnTo>
                    <a:lnTo>
                      <a:pt x="638" y="642"/>
                    </a:lnTo>
                    <a:lnTo>
                      <a:pt x="635" y="632"/>
                    </a:lnTo>
                    <a:lnTo>
                      <a:pt x="631" y="621"/>
                    </a:lnTo>
                    <a:lnTo>
                      <a:pt x="628" y="613"/>
                    </a:lnTo>
                    <a:lnTo>
                      <a:pt x="624" y="603"/>
                    </a:lnTo>
                    <a:lnTo>
                      <a:pt x="620" y="599"/>
                    </a:lnTo>
                    <a:lnTo>
                      <a:pt x="617" y="592"/>
                    </a:lnTo>
                    <a:lnTo>
                      <a:pt x="613" y="588"/>
                    </a:lnTo>
                    <a:lnTo>
                      <a:pt x="606" y="584"/>
                    </a:lnTo>
                    <a:lnTo>
                      <a:pt x="602" y="584"/>
                    </a:lnTo>
                    <a:lnTo>
                      <a:pt x="599" y="581"/>
                    </a:lnTo>
                    <a:lnTo>
                      <a:pt x="591" y="581"/>
                    </a:lnTo>
                    <a:lnTo>
                      <a:pt x="580" y="581"/>
                    </a:lnTo>
                    <a:lnTo>
                      <a:pt x="566" y="584"/>
                    </a:lnTo>
                    <a:lnTo>
                      <a:pt x="551" y="588"/>
                    </a:lnTo>
                    <a:lnTo>
                      <a:pt x="537" y="595"/>
                    </a:lnTo>
                    <a:lnTo>
                      <a:pt x="526" y="599"/>
                    </a:lnTo>
                    <a:lnTo>
                      <a:pt x="519" y="599"/>
                    </a:lnTo>
                    <a:lnTo>
                      <a:pt x="508" y="603"/>
                    </a:lnTo>
                    <a:lnTo>
                      <a:pt x="501" y="603"/>
                    </a:lnTo>
                    <a:lnTo>
                      <a:pt x="490" y="603"/>
                    </a:lnTo>
                    <a:lnTo>
                      <a:pt x="483" y="603"/>
                    </a:lnTo>
                    <a:lnTo>
                      <a:pt x="479" y="603"/>
                    </a:lnTo>
                    <a:lnTo>
                      <a:pt x="468" y="599"/>
                    </a:lnTo>
                    <a:lnTo>
                      <a:pt x="464" y="599"/>
                    </a:lnTo>
                    <a:lnTo>
                      <a:pt x="457" y="595"/>
                    </a:lnTo>
                    <a:lnTo>
                      <a:pt x="454" y="595"/>
                    </a:lnTo>
                    <a:lnTo>
                      <a:pt x="446" y="592"/>
                    </a:lnTo>
                    <a:lnTo>
                      <a:pt x="439" y="584"/>
                    </a:lnTo>
                    <a:lnTo>
                      <a:pt x="432" y="574"/>
                    </a:lnTo>
                    <a:lnTo>
                      <a:pt x="425" y="566"/>
                    </a:lnTo>
                    <a:lnTo>
                      <a:pt x="421" y="555"/>
                    </a:lnTo>
                    <a:lnTo>
                      <a:pt x="417" y="545"/>
                    </a:lnTo>
                    <a:lnTo>
                      <a:pt x="417" y="537"/>
                    </a:lnTo>
                    <a:lnTo>
                      <a:pt x="417" y="526"/>
                    </a:lnTo>
                    <a:lnTo>
                      <a:pt x="417" y="519"/>
                    </a:lnTo>
                    <a:lnTo>
                      <a:pt x="421" y="512"/>
                    </a:lnTo>
                    <a:lnTo>
                      <a:pt x="425" y="505"/>
                    </a:lnTo>
                    <a:lnTo>
                      <a:pt x="428" y="494"/>
                    </a:lnTo>
                    <a:lnTo>
                      <a:pt x="435" y="483"/>
                    </a:lnTo>
                    <a:lnTo>
                      <a:pt x="443" y="476"/>
                    </a:lnTo>
                    <a:lnTo>
                      <a:pt x="450" y="472"/>
                    </a:lnTo>
                    <a:lnTo>
                      <a:pt x="457" y="468"/>
                    </a:lnTo>
                    <a:lnTo>
                      <a:pt x="464" y="465"/>
                    </a:lnTo>
                    <a:lnTo>
                      <a:pt x="472" y="461"/>
                    </a:lnTo>
                    <a:lnTo>
                      <a:pt x="479" y="457"/>
                    </a:lnTo>
                    <a:lnTo>
                      <a:pt x="486" y="457"/>
                    </a:lnTo>
                    <a:lnTo>
                      <a:pt x="490" y="457"/>
                    </a:lnTo>
                    <a:lnTo>
                      <a:pt x="497" y="461"/>
                    </a:lnTo>
                    <a:lnTo>
                      <a:pt x="504" y="461"/>
                    </a:lnTo>
                    <a:lnTo>
                      <a:pt x="519" y="468"/>
                    </a:lnTo>
                    <a:lnTo>
                      <a:pt x="530" y="472"/>
                    </a:lnTo>
                    <a:lnTo>
                      <a:pt x="544" y="479"/>
                    </a:lnTo>
                    <a:lnTo>
                      <a:pt x="555" y="486"/>
                    </a:lnTo>
                    <a:lnTo>
                      <a:pt x="566" y="494"/>
                    </a:lnTo>
                    <a:lnTo>
                      <a:pt x="580" y="497"/>
                    </a:lnTo>
                    <a:lnTo>
                      <a:pt x="588" y="497"/>
                    </a:lnTo>
                    <a:lnTo>
                      <a:pt x="591" y="501"/>
                    </a:lnTo>
                    <a:lnTo>
                      <a:pt x="599" y="501"/>
                    </a:lnTo>
                    <a:lnTo>
                      <a:pt x="606" y="497"/>
                    </a:lnTo>
                    <a:lnTo>
                      <a:pt x="609" y="497"/>
                    </a:lnTo>
                    <a:lnTo>
                      <a:pt x="617" y="494"/>
                    </a:lnTo>
                    <a:lnTo>
                      <a:pt x="624" y="490"/>
                    </a:lnTo>
                    <a:lnTo>
                      <a:pt x="628" y="486"/>
                    </a:lnTo>
                    <a:lnTo>
                      <a:pt x="631" y="483"/>
                    </a:lnTo>
                    <a:lnTo>
                      <a:pt x="635" y="479"/>
                    </a:lnTo>
                    <a:lnTo>
                      <a:pt x="635" y="476"/>
                    </a:lnTo>
                    <a:lnTo>
                      <a:pt x="638" y="468"/>
                    </a:lnTo>
                    <a:lnTo>
                      <a:pt x="642" y="454"/>
                    </a:lnTo>
                    <a:lnTo>
                      <a:pt x="642" y="439"/>
                    </a:lnTo>
                    <a:lnTo>
                      <a:pt x="642" y="421"/>
                    </a:lnTo>
                    <a:lnTo>
                      <a:pt x="638" y="399"/>
                    </a:lnTo>
                    <a:lnTo>
                      <a:pt x="638" y="381"/>
                    </a:lnTo>
                    <a:lnTo>
                      <a:pt x="635" y="360"/>
                    </a:lnTo>
                    <a:lnTo>
                      <a:pt x="631" y="316"/>
                    </a:lnTo>
                    <a:lnTo>
                      <a:pt x="628" y="280"/>
                    </a:lnTo>
                    <a:lnTo>
                      <a:pt x="628" y="265"/>
                    </a:lnTo>
                    <a:lnTo>
                      <a:pt x="628" y="251"/>
                    </a:lnTo>
                    <a:lnTo>
                      <a:pt x="628" y="240"/>
                    </a:lnTo>
                    <a:lnTo>
                      <a:pt x="628" y="233"/>
                    </a:lnTo>
                    <a:lnTo>
                      <a:pt x="617" y="240"/>
                    </a:lnTo>
                    <a:lnTo>
                      <a:pt x="602" y="247"/>
                    </a:lnTo>
                    <a:lnTo>
                      <a:pt x="588" y="251"/>
                    </a:lnTo>
                    <a:lnTo>
                      <a:pt x="570" y="254"/>
                    </a:lnTo>
                    <a:lnTo>
                      <a:pt x="551" y="258"/>
                    </a:lnTo>
                    <a:lnTo>
                      <a:pt x="533" y="258"/>
                    </a:lnTo>
                    <a:lnTo>
                      <a:pt x="515" y="258"/>
                    </a:lnTo>
                    <a:lnTo>
                      <a:pt x="497" y="258"/>
                    </a:lnTo>
                    <a:lnTo>
                      <a:pt x="479" y="258"/>
                    </a:lnTo>
                    <a:lnTo>
                      <a:pt x="457" y="258"/>
                    </a:lnTo>
                    <a:lnTo>
                      <a:pt x="443" y="254"/>
                    </a:lnTo>
                    <a:lnTo>
                      <a:pt x="425" y="251"/>
                    </a:lnTo>
                    <a:lnTo>
                      <a:pt x="410" y="247"/>
                    </a:lnTo>
                    <a:lnTo>
                      <a:pt x="399" y="243"/>
                    </a:lnTo>
                    <a:lnTo>
                      <a:pt x="388" y="236"/>
                    </a:lnTo>
                    <a:lnTo>
                      <a:pt x="377" y="233"/>
                    </a:lnTo>
                    <a:lnTo>
                      <a:pt x="370" y="225"/>
                    </a:lnTo>
                    <a:lnTo>
                      <a:pt x="367" y="222"/>
                    </a:lnTo>
                    <a:lnTo>
                      <a:pt x="363" y="218"/>
                    </a:lnTo>
                    <a:lnTo>
                      <a:pt x="359" y="211"/>
                    </a:lnTo>
                    <a:lnTo>
                      <a:pt x="359" y="207"/>
                    </a:lnTo>
                    <a:lnTo>
                      <a:pt x="359" y="200"/>
                    </a:lnTo>
                    <a:lnTo>
                      <a:pt x="359" y="196"/>
                    </a:lnTo>
                    <a:lnTo>
                      <a:pt x="359" y="189"/>
                    </a:lnTo>
                    <a:lnTo>
                      <a:pt x="363" y="185"/>
                    </a:lnTo>
                    <a:lnTo>
                      <a:pt x="367" y="178"/>
                    </a:lnTo>
                    <a:lnTo>
                      <a:pt x="370" y="171"/>
                    </a:lnTo>
                    <a:lnTo>
                      <a:pt x="377" y="167"/>
                    </a:lnTo>
                    <a:lnTo>
                      <a:pt x="388" y="153"/>
                    </a:lnTo>
                    <a:lnTo>
                      <a:pt x="403" y="138"/>
                    </a:lnTo>
                    <a:lnTo>
                      <a:pt x="410" y="127"/>
                    </a:lnTo>
                    <a:lnTo>
                      <a:pt x="414" y="117"/>
                    </a:lnTo>
                    <a:lnTo>
                      <a:pt x="417" y="106"/>
                    </a:lnTo>
                    <a:lnTo>
                      <a:pt x="421" y="98"/>
                    </a:lnTo>
                    <a:lnTo>
                      <a:pt x="421" y="84"/>
                    </a:lnTo>
                    <a:lnTo>
                      <a:pt x="421" y="73"/>
                    </a:lnTo>
                    <a:lnTo>
                      <a:pt x="417" y="62"/>
                    </a:lnTo>
                    <a:lnTo>
                      <a:pt x="414" y="51"/>
                    </a:lnTo>
                    <a:lnTo>
                      <a:pt x="406" y="40"/>
                    </a:lnTo>
                    <a:lnTo>
                      <a:pt x="399" y="33"/>
                    </a:lnTo>
                    <a:lnTo>
                      <a:pt x="392" y="22"/>
                    </a:lnTo>
                    <a:lnTo>
                      <a:pt x="381" y="15"/>
                    </a:lnTo>
                    <a:lnTo>
                      <a:pt x="370" y="11"/>
                    </a:lnTo>
                    <a:lnTo>
                      <a:pt x="359" y="4"/>
                    </a:lnTo>
                    <a:lnTo>
                      <a:pt x="345" y="0"/>
                    </a:lnTo>
                    <a:lnTo>
                      <a:pt x="330" y="0"/>
                    </a:lnTo>
                    <a:lnTo>
                      <a:pt x="316" y="0"/>
                    </a:lnTo>
                    <a:lnTo>
                      <a:pt x="305" y="4"/>
                    </a:lnTo>
                    <a:lnTo>
                      <a:pt x="294" y="11"/>
                    </a:lnTo>
                    <a:lnTo>
                      <a:pt x="279" y="15"/>
                    </a:lnTo>
                    <a:lnTo>
                      <a:pt x="269" y="22"/>
                    </a:lnTo>
                    <a:lnTo>
                      <a:pt x="258" y="33"/>
                    </a:lnTo>
                    <a:lnTo>
                      <a:pt x="250" y="40"/>
                    </a:lnTo>
                    <a:lnTo>
                      <a:pt x="243" y="51"/>
                    </a:lnTo>
                    <a:lnTo>
                      <a:pt x="240" y="62"/>
                    </a:lnTo>
                    <a:lnTo>
                      <a:pt x="236" y="73"/>
                    </a:lnTo>
                    <a:lnTo>
                      <a:pt x="232" y="84"/>
                    </a:lnTo>
                    <a:lnTo>
                      <a:pt x="232" y="98"/>
                    </a:lnTo>
                    <a:lnTo>
                      <a:pt x="232" y="109"/>
                    </a:lnTo>
                    <a:lnTo>
                      <a:pt x="236" y="120"/>
                    </a:lnTo>
                    <a:lnTo>
                      <a:pt x="240" y="124"/>
                    </a:lnTo>
                    <a:lnTo>
                      <a:pt x="243" y="131"/>
                    </a:lnTo>
                    <a:lnTo>
                      <a:pt x="247" y="135"/>
                    </a:lnTo>
                    <a:lnTo>
                      <a:pt x="250" y="138"/>
                    </a:lnTo>
                    <a:lnTo>
                      <a:pt x="258" y="149"/>
                    </a:lnTo>
                    <a:lnTo>
                      <a:pt x="265" y="156"/>
                    </a:lnTo>
                    <a:lnTo>
                      <a:pt x="272" y="167"/>
                    </a:lnTo>
                    <a:lnTo>
                      <a:pt x="276" y="175"/>
                    </a:lnTo>
                    <a:lnTo>
                      <a:pt x="279" y="185"/>
                    </a:lnTo>
                    <a:lnTo>
                      <a:pt x="283" y="193"/>
                    </a:lnTo>
                    <a:lnTo>
                      <a:pt x="283" y="200"/>
                    </a:lnTo>
                    <a:lnTo>
                      <a:pt x="283" y="204"/>
                    </a:lnTo>
                    <a:lnTo>
                      <a:pt x="283" y="211"/>
                    </a:lnTo>
                    <a:lnTo>
                      <a:pt x="279" y="218"/>
                    </a:lnTo>
                    <a:lnTo>
                      <a:pt x="276" y="222"/>
                    </a:lnTo>
                    <a:lnTo>
                      <a:pt x="272" y="225"/>
                    </a:lnTo>
                    <a:lnTo>
                      <a:pt x="269" y="229"/>
                    </a:lnTo>
                    <a:lnTo>
                      <a:pt x="261" y="233"/>
                    </a:lnTo>
                    <a:lnTo>
                      <a:pt x="254" y="233"/>
                    </a:lnTo>
                    <a:lnTo>
                      <a:pt x="243" y="233"/>
                    </a:lnTo>
                    <a:lnTo>
                      <a:pt x="211" y="233"/>
                    </a:lnTo>
                    <a:lnTo>
                      <a:pt x="174" y="236"/>
                    </a:lnTo>
                    <a:lnTo>
                      <a:pt x="142" y="236"/>
                    </a:lnTo>
                    <a:lnTo>
                      <a:pt x="109" y="240"/>
                    </a:lnTo>
                    <a:lnTo>
                      <a:pt x="76" y="240"/>
                    </a:lnTo>
                    <a:lnTo>
                      <a:pt x="51" y="240"/>
                    </a:lnTo>
                    <a:lnTo>
                      <a:pt x="37" y="240"/>
                    </a:lnTo>
                    <a:lnTo>
                      <a:pt x="26" y="240"/>
                    </a:lnTo>
                    <a:lnTo>
                      <a:pt x="18" y="236"/>
                    </a:lnTo>
                    <a:lnTo>
                      <a:pt x="11" y="233"/>
                    </a:lnTo>
                    <a:lnTo>
                      <a:pt x="11" y="262"/>
                    </a:lnTo>
                    <a:lnTo>
                      <a:pt x="11" y="301"/>
                    </a:lnTo>
                    <a:lnTo>
                      <a:pt x="11" y="341"/>
                    </a:lnTo>
                    <a:lnTo>
                      <a:pt x="11" y="385"/>
                    </a:lnTo>
                    <a:lnTo>
                      <a:pt x="11" y="425"/>
                    </a:lnTo>
                    <a:lnTo>
                      <a:pt x="11" y="461"/>
                    </a:lnTo>
                    <a:lnTo>
                      <a:pt x="11" y="490"/>
                    </a:lnTo>
                    <a:lnTo>
                      <a:pt x="11" y="505"/>
                    </a:lnTo>
                    <a:lnTo>
                      <a:pt x="11" y="512"/>
                    </a:lnTo>
                    <a:lnTo>
                      <a:pt x="15" y="516"/>
                    </a:lnTo>
                    <a:lnTo>
                      <a:pt x="15" y="523"/>
                    </a:lnTo>
                    <a:lnTo>
                      <a:pt x="22" y="526"/>
                    </a:lnTo>
                    <a:lnTo>
                      <a:pt x="26" y="534"/>
                    </a:lnTo>
                    <a:lnTo>
                      <a:pt x="33" y="537"/>
                    </a:lnTo>
                    <a:lnTo>
                      <a:pt x="40" y="541"/>
                    </a:lnTo>
                    <a:lnTo>
                      <a:pt x="47" y="541"/>
                    </a:lnTo>
                    <a:lnTo>
                      <a:pt x="55" y="545"/>
                    </a:lnTo>
                    <a:lnTo>
                      <a:pt x="66" y="545"/>
                    </a:lnTo>
                    <a:lnTo>
                      <a:pt x="73" y="545"/>
                    </a:lnTo>
                    <a:lnTo>
                      <a:pt x="80" y="545"/>
                    </a:lnTo>
                    <a:lnTo>
                      <a:pt x="91" y="541"/>
                    </a:lnTo>
                    <a:lnTo>
                      <a:pt x="98" y="537"/>
                    </a:lnTo>
                    <a:lnTo>
                      <a:pt x="105" y="530"/>
                    </a:lnTo>
                    <a:lnTo>
                      <a:pt x="113" y="523"/>
                    </a:lnTo>
                    <a:close/>
                  </a:path>
                </a:pathLst>
              </a:custGeom>
              <a:solidFill>
                <a:srgbClr val="ccffcc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554200" y="1955880"/>
                <a:ext cx="1290240" cy="2153880"/>
              </a:xfrm>
              <a:custGeom>
                <a:avLst/>
                <a:gdLst/>
                <a:ahLst/>
                <a:rect l="l" t="t" r="r" b="b"/>
                <a:pathLst>
                  <a:path w="656" h="1077">
                    <a:moveTo>
                      <a:pt x="123" y="526"/>
                    </a:moveTo>
                    <a:lnTo>
                      <a:pt x="127" y="526"/>
                    </a:lnTo>
                    <a:lnTo>
                      <a:pt x="127" y="526"/>
                    </a:lnTo>
                    <a:lnTo>
                      <a:pt x="130" y="519"/>
                    </a:lnTo>
                    <a:lnTo>
                      <a:pt x="123" y="515"/>
                    </a:lnTo>
                    <a:lnTo>
                      <a:pt x="123" y="522"/>
                    </a:lnTo>
                    <a:lnTo>
                      <a:pt x="127" y="522"/>
                    </a:lnTo>
                    <a:lnTo>
                      <a:pt x="130" y="522"/>
                    </a:lnTo>
                    <a:lnTo>
                      <a:pt x="130" y="519"/>
                    </a:lnTo>
                    <a:lnTo>
                      <a:pt x="134" y="515"/>
                    </a:lnTo>
                    <a:lnTo>
                      <a:pt x="130" y="511"/>
                    </a:lnTo>
                    <a:lnTo>
                      <a:pt x="134" y="519"/>
                    </a:lnTo>
                    <a:lnTo>
                      <a:pt x="145" y="515"/>
                    </a:lnTo>
                    <a:lnTo>
                      <a:pt x="156" y="511"/>
                    </a:lnTo>
                    <a:lnTo>
                      <a:pt x="152" y="504"/>
                    </a:lnTo>
                    <a:lnTo>
                      <a:pt x="152" y="511"/>
                    </a:lnTo>
                    <a:lnTo>
                      <a:pt x="163" y="511"/>
                    </a:lnTo>
                    <a:lnTo>
                      <a:pt x="177" y="511"/>
                    </a:lnTo>
                    <a:lnTo>
                      <a:pt x="177" y="504"/>
                    </a:lnTo>
                    <a:lnTo>
                      <a:pt x="177" y="511"/>
                    </a:lnTo>
                    <a:lnTo>
                      <a:pt x="188" y="515"/>
                    </a:lnTo>
                    <a:lnTo>
                      <a:pt x="199" y="519"/>
                    </a:lnTo>
                    <a:lnTo>
                      <a:pt x="210" y="526"/>
                    </a:lnTo>
                    <a:lnTo>
                      <a:pt x="221" y="533"/>
                    </a:lnTo>
                    <a:lnTo>
                      <a:pt x="232" y="540"/>
                    </a:lnTo>
                    <a:lnTo>
                      <a:pt x="232" y="533"/>
                    </a:lnTo>
                    <a:lnTo>
                      <a:pt x="228" y="537"/>
                    </a:lnTo>
                    <a:lnTo>
                      <a:pt x="235" y="548"/>
                    </a:lnTo>
                    <a:lnTo>
                      <a:pt x="239" y="544"/>
                    </a:lnTo>
                    <a:lnTo>
                      <a:pt x="235" y="544"/>
                    </a:lnTo>
                    <a:lnTo>
                      <a:pt x="235" y="551"/>
                    </a:lnTo>
                    <a:lnTo>
                      <a:pt x="235" y="555"/>
                    </a:lnTo>
                    <a:lnTo>
                      <a:pt x="235" y="555"/>
                    </a:lnTo>
                    <a:lnTo>
                      <a:pt x="239" y="558"/>
                    </a:lnTo>
                    <a:lnTo>
                      <a:pt x="243" y="555"/>
                    </a:lnTo>
                    <a:lnTo>
                      <a:pt x="239" y="558"/>
                    </a:lnTo>
                    <a:lnTo>
                      <a:pt x="243" y="566"/>
                    </a:lnTo>
                    <a:lnTo>
                      <a:pt x="243" y="566"/>
                    </a:lnTo>
                    <a:lnTo>
                      <a:pt x="243" y="566"/>
                    </a:lnTo>
                    <a:lnTo>
                      <a:pt x="246" y="569"/>
                    </a:lnTo>
                    <a:lnTo>
                      <a:pt x="250" y="566"/>
                    </a:lnTo>
                    <a:lnTo>
                      <a:pt x="246" y="566"/>
                    </a:lnTo>
                    <a:lnTo>
                      <a:pt x="246" y="573"/>
                    </a:lnTo>
                    <a:lnTo>
                      <a:pt x="246" y="580"/>
                    </a:lnTo>
                    <a:lnTo>
                      <a:pt x="246" y="587"/>
                    </a:lnTo>
                    <a:lnTo>
                      <a:pt x="246" y="595"/>
                    </a:lnTo>
                    <a:lnTo>
                      <a:pt x="250" y="595"/>
                    </a:lnTo>
                    <a:lnTo>
                      <a:pt x="246" y="595"/>
                    </a:lnTo>
                    <a:lnTo>
                      <a:pt x="243" y="606"/>
                    </a:lnTo>
                    <a:lnTo>
                      <a:pt x="239" y="620"/>
                    </a:lnTo>
                    <a:lnTo>
                      <a:pt x="243" y="620"/>
                    </a:lnTo>
                    <a:lnTo>
                      <a:pt x="239" y="616"/>
                    </a:lnTo>
                    <a:lnTo>
                      <a:pt x="232" y="624"/>
                    </a:lnTo>
                    <a:lnTo>
                      <a:pt x="232" y="627"/>
                    </a:lnTo>
                    <a:lnTo>
                      <a:pt x="232" y="627"/>
                    </a:lnTo>
                    <a:lnTo>
                      <a:pt x="224" y="638"/>
                    </a:lnTo>
                    <a:lnTo>
                      <a:pt x="228" y="638"/>
                    </a:lnTo>
                    <a:lnTo>
                      <a:pt x="224" y="635"/>
                    </a:lnTo>
                    <a:lnTo>
                      <a:pt x="217" y="642"/>
                    </a:lnTo>
                    <a:lnTo>
                      <a:pt x="210" y="649"/>
                    </a:lnTo>
                    <a:lnTo>
                      <a:pt x="214" y="653"/>
                    </a:lnTo>
                    <a:lnTo>
                      <a:pt x="214" y="649"/>
                    </a:lnTo>
                    <a:lnTo>
                      <a:pt x="203" y="653"/>
                    </a:lnTo>
                    <a:lnTo>
                      <a:pt x="192" y="656"/>
                    </a:lnTo>
                    <a:lnTo>
                      <a:pt x="185" y="660"/>
                    </a:lnTo>
                    <a:lnTo>
                      <a:pt x="185" y="664"/>
                    </a:lnTo>
                    <a:lnTo>
                      <a:pt x="185" y="660"/>
                    </a:lnTo>
                    <a:lnTo>
                      <a:pt x="174" y="660"/>
                    </a:lnTo>
                    <a:lnTo>
                      <a:pt x="163" y="660"/>
                    </a:lnTo>
                    <a:lnTo>
                      <a:pt x="163" y="664"/>
                    </a:lnTo>
                    <a:lnTo>
                      <a:pt x="166" y="660"/>
                    </a:lnTo>
                    <a:lnTo>
                      <a:pt x="156" y="656"/>
                    </a:lnTo>
                    <a:lnTo>
                      <a:pt x="145" y="653"/>
                    </a:lnTo>
                    <a:lnTo>
                      <a:pt x="137" y="649"/>
                    </a:lnTo>
                    <a:lnTo>
                      <a:pt x="130" y="645"/>
                    </a:lnTo>
                    <a:lnTo>
                      <a:pt x="127" y="649"/>
                    </a:lnTo>
                    <a:lnTo>
                      <a:pt x="130" y="645"/>
                    </a:lnTo>
                    <a:lnTo>
                      <a:pt x="123" y="638"/>
                    </a:lnTo>
                    <a:lnTo>
                      <a:pt x="116" y="631"/>
                    </a:lnTo>
                    <a:lnTo>
                      <a:pt x="108" y="624"/>
                    </a:lnTo>
                    <a:lnTo>
                      <a:pt x="108" y="624"/>
                    </a:lnTo>
                    <a:lnTo>
                      <a:pt x="108" y="624"/>
                    </a:lnTo>
                    <a:lnTo>
                      <a:pt x="101" y="620"/>
                    </a:lnTo>
                    <a:lnTo>
                      <a:pt x="90" y="616"/>
                    </a:lnTo>
                    <a:lnTo>
                      <a:pt x="83" y="613"/>
                    </a:lnTo>
                    <a:lnTo>
                      <a:pt x="76" y="609"/>
                    </a:lnTo>
                    <a:lnTo>
                      <a:pt x="69" y="606"/>
                    </a:lnTo>
                    <a:lnTo>
                      <a:pt x="69" y="606"/>
                    </a:lnTo>
                    <a:lnTo>
                      <a:pt x="65" y="606"/>
                    </a:lnTo>
                    <a:lnTo>
                      <a:pt x="58" y="606"/>
                    </a:lnTo>
                    <a:lnTo>
                      <a:pt x="50" y="606"/>
                    </a:lnTo>
                    <a:lnTo>
                      <a:pt x="43" y="606"/>
                    </a:lnTo>
                    <a:lnTo>
                      <a:pt x="43" y="606"/>
                    </a:lnTo>
                    <a:lnTo>
                      <a:pt x="43" y="606"/>
                    </a:lnTo>
                    <a:lnTo>
                      <a:pt x="36" y="609"/>
                    </a:lnTo>
                    <a:lnTo>
                      <a:pt x="29" y="613"/>
                    </a:lnTo>
                    <a:lnTo>
                      <a:pt x="21" y="616"/>
                    </a:lnTo>
                    <a:lnTo>
                      <a:pt x="18" y="616"/>
                    </a:lnTo>
                    <a:lnTo>
                      <a:pt x="18" y="620"/>
                    </a:lnTo>
                    <a:lnTo>
                      <a:pt x="14" y="627"/>
                    </a:lnTo>
                    <a:lnTo>
                      <a:pt x="11" y="635"/>
                    </a:lnTo>
                    <a:lnTo>
                      <a:pt x="11" y="635"/>
                    </a:lnTo>
                    <a:lnTo>
                      <a:pt x="11" y="635"/>
                    </a:lnTo>
                    <a:lnTo>
                      <a:pt x="11" y="645"/>
                    </a:lnTo>
                    <a:lnTo>
                      <a:pt x="7" y="667"/>
                    </a:lnTo>
                    <a:lnTo>
                      <a:pt x="3" y="693"/>
                    </a:lnTo>
                    <a:lnTo>
                      <a:pt x="0" y="718"/>
                    </a:lnTo>
                    <a:lnTo>
                      <a:pt x="0" y="743"/>
                    </a:lnTo>
                    <a:lnTo>
                      <a:pt x="0" y="772"/>
                    </a:lnTo>
                    <a:lnTo>
                      <a:pt x="0" y="798"/>
                    </a:lnTo>
                    <a:lnTo>
                      <a:pt x="0" y="798"/>
                    </a:lnTo>
                    <a:lnTo>
                      <a:pt x="0" y="801"/>
                    </a:lnTo>
                    <a:lnTo>
                      <a:pt x="3" y="812"/>
                    </a:lnTo>
                    <a:lnTo>
                      <a:pt x="7" y="809"/>
                    </a:lnTo>
                    <a:lnTo>
                      <a:pt x="3" y="809"/>
                    </a:lnTo>
                    <a:lnTo>
                      <a:pt x="3" y="820"/>
                    </a:lnTo>
                    <a:lnTo>
                      <a:pt x="3" y="820"/>
                    </a:lnTo>
                    <a:lnTo>
                      <a:pt x="3" y="823"/>
                    </a:lnTo>
                    <a:lnTo>
                      <a:pt x="7" y="834"/>
                    </a:lnTo>
                    <a:lnTo>
                      <a:pt x="11" y="841"/>
                    </a:lnTo>
                    <a:lnTo>
                      <a:pt x="11" y="845"/>
                    </a:lnTo>
                    <a:lnTo>
                      <a:pt x="14" y="845"/>
                    </a:lnTo>
                    <a:lnTo>
                      <a:pt x="32" y="841"/>
                    </a:lnTo>
                    <a:lnTo>
                      <a:pt x="58" y="838"/>
                    </a:lnTo>
                    <a:lnTo>
                      <a:pt x="87" y="834"/>
                    </a:lnTo>
                    <a:lnTo>
                      <a:pt x="119" y="834"/>
                    </a:lnTo>
                    <a:lnTo>
                      <a:pt x="152" y="830"/>
                    </a:lnTo>
                    <a:lnTo>
                      <a:pt x="177" y="830"/>
                    </a:lnTo>
                    <a:lnTo>
                      <a:pt x="203" y="834"/>
                    </a:lnTo>
                    <a:lnTo>
                      <a:pt x="221" y="834"/>
                    </a:lnTo>
                    <a:lnTo>
                      <a:pt x="239" y="838"/>
                    </a:lnTo>
                    <a:lnTo>
                      <a:pt x="253" y="841"/>
                    </a:lnTo>
                    <a:lnTo>
                      <a:pt x="253" y="834"/>
                    </a:lnTo>
                    <a:lnTo>
                      <a:pt x="253" y="841"/>
                    </a:lnTo>
                    <a:lnTo>
                      <a:pt x="268" y="849"/>
                    </a:lnTo>
                    <a:lnTo>
                      <a:pt x="279" y="856"/>
                    </a:lnTo>
                    <a:lnTo>
                      <a:pt x="286" y="859"/>
                    </a:lnTo>
                    <a:lnTo>
                      <a:pt x="286" y="852"/>
                    </a:lnTo>
                    <a:lnTo>
                      <a:pt x="282" y="856"/>
                    </a:lnTo>
                    <a:lnTo>
                      <a:pt x="290" y="863"/>
                    </a:lnTo>
                    <a:lnTo>
                      <a:pt x="297" y="870"/>
                    </a:lnTo>
                    <a:lnTo>
                      <a:pt x="301" y="867"/>
                    </a:lnTo>
                    <a:lnTo>
                      <a:pt x="297" y="870"/>
                    </a:lnTo>
                    <a:lnTo>
                      <a:pt x="301" y="878"/>
                    </a:lnTo>
                    <a:lnTo>
                      <a:pt x="304" y="874"/>
                    </a:lnTo>
                    <a:lnTo>
                      <a:pt x="301" y="874"/>
                    </a:lnTo>
                    <a:lnTo>
                      <a:pt x="301" y="881"/>
                    </a:lnTo>
                    <a:lnTo>
                      <a:pt x="301" y="888"/>
                    </a:lnTo>
                    <a:lnTo>
                      <a:pt x="301" y="896"/>
                    </a:lnTo>
                    <a:lnTo>
                      <a:pt x="301" y="903"/>
                    </a:lnTo>
                    <a:lnTo>
                      <a:pt x="304" y="903"/>
                    </a:lnTo>
                    <a:lnTo>
                      <a:pt x="301" y="903"/>
                    </a:lnTo>
                    <a:lnTo>
                      <a:pt x="297" y="910"/>
                    </a:lnTo>
                    <a:lnTo>
                      <a:pt x="293" y="918"/>
                    </a:lnTo>
                    <a:lnTo>
                      <a:pt x="297" y="918"/>
                    </a:lnTo>
                    <a:lnTo>
                      <a:pt x="293" y="914"/>
                    </a:lnTo>
                    <a:lnTo>
                      <a:pt x="286" y="921"/>
                    </a:lnTo>
                    <a:lnTo>
                      <a:pt x="290" y="925"/>
                    </a:lnTo>
                    <a:lnTo>
                      <a:pt x="290" y="921"/>
                    </a:lnTo>
                    <a:lnTo>
                      <a:pt x="282" y="925"/>
                    </a:lnTo>
                    <a:lnTo>
                      <a:pt x="279" y="925"/>
                    </a:lnTo>
                    <a:lnTo>
                      <a:pt x="279" y="928"/>
                    </a:lnTo>
                    <a:lnTo>
                      <a:pt x="272" y="939"/>
                    </a:lnTo>
                    <a:lnTo>
                      <a:pt x="268" y="947"/>
                    </a:lnTo>
                    <a:lnTo>
                      <a:pt x="264" y="957"/>
                    </a:lnTo>
                    <a:lnTo>
                      <a:pt x="261" y="968"/>
                    </a:lnTo>
                    <a:lnTo>
                      <a:pt x="261" y="968"/>
                    </a:lnTo>
                    <a:lnTo>
                      <a:pt x="261" y="968"/>
                    </a:lnTo>
                    <a:lnTo>
                      <a:pt x="261" y="979"/>
                    </a:lnTo>
                    <a:lnTo>
                      <a:pt x="261" y="994"/>
                    </a:lnTo>
                    <a:lnTo>
                      <a:pt x="261" y="1005"/>
                    </a:lnTo>
                    <a:lnTo>
                      <a:pt x="261" y="1005"/>
                    </a:lnTo>
                    <a:lnTo>
                      <a:pt x="261" y="1008"/>
                    </a:lnTo>
                    <a:lnTo>
                      <a:pt x="264" y="1019"/>
                    </a:lnTo>
                    <a:lnTo>
                      <a:pt x="272" y="1030"/>
                    </a:lnTo>
                    <a:lnTo>
                      <a:pt x="279" y="1041"/>
                    </a:lnTo>
                    <a:lnTo>
                      <a:pt x="279" y="1041"/>
                    </a:lnTo>
                    <a:lnTo>
                      <a:pt x="279" y="1041"/>
                    </a:lnTo>
                    <a:lnTo>
                      <a:pt x="286" y="1048"/>
                    </a:lnTo>
                    <a:lnTo>
                      <a:pt x="290" y="1044"/>
                    </a:lnTo>
                    <a:lnTo>
                      <a:pt x="286" y="1048"/>
                    </a:lnTo>
                    <a:lnTo>
                      <a:pt x="293" y="1059"/>
                    </a:lnTo>
                    <a:lnTo>
                      <a:pt x="293" y="1059"/>
                    </a:lnTo>
                    <a:lnTo>
                      <a:pt x="297" y="1063"/>
                    </a:lnTo>
                    <a:lnTo>
                      <a:pt x="304" y="1066"/>
                    </a:lnTo>
                    <a:lnTo>
                      <a:pt x="311" y="1070"/>
                    </a:lnTo>
                    <a:lnTo>
                      <a:pt x="311" y="1070"/>
                    </a:lnTo>
                    <a:lnTo>
                      <a:pt x="311" y="1070"/>
                    </a:lnTo>
                    <a:lnTo>
                      <a:pt x="315" y="1070"/>
                    </a:lnTo>
                    <a:lnTo>
                      <a:pt x="315" y="1063"/>
                    </a:lnTo>
                    <a:lnTo>
                      <a:pt x="315" y="1070"/>
                    </a:lnTo>
                    <a:lnTo>
                      <a:pt x="322" y="1073"/>
                    </a:lnTo>
                    <a:lnTo>
                      <a:pt x="330" y="1077"/>
                    </a:lnTo>
                    <a:lnTo>
                      <a:pt x="330" y="1077"/>
                    </a:lnTo>
                    <a:lnTo>
                      <a:pt x="330" y="1077"/>
                    </a:lnTo>
                    <a:lnTo>
                      <a:pt x="337" y="1077"/>
                    </a:lnTo>
                    <a:lnTo>
                      <a:pt x="344" y="1077"/>
                    </a:lnTo>
                    <a:lnTo>
                      <a:pt x="351" y="1077"/>
                    </a:lnTo>
                    <a:lnTo>
                      <a:pt x="370" y="1077"/>
                    </a:lnTo>
                    <a:lnTo>
                      <a:pt x="384" y="1073"/>
                    </a:lnTo>
                    <a:lnTo>
                      <a:pt x="388" y="1070"/>
                    </a:lnTo>
                    <a:lnTo>
                      <a:pt x="388" y="1073"/>
                    </a:lnTo>
                    <a:lnTo>
                      <a:pt x="399" y="1066"/>
                    </a:lnTo>
                    <a:lnTo>
                      <a:pt x="409" y="1063"/>
                    </a:lnTo>
                    <a:lnTo>
                      <a:pt x="409" y="1063"/>
                    </a:lnTo>
                    <a:lnTo>
                      <a:pt x="409" y="1059"/>
                    </a:lnTo>
                    <a:lnTo>
                      <a:pt x="420" y="1048"/>
                    </a:lnTo>
                    <a:lnTo>
                      <a:pt x="417" y="1044"/>
                    </a:lnTo>
                    <a:lnTo>
                      <a:pt x="420" y="1052"/>
                    </a:lnTo>
                    <a:lnTo>
                      <a:pt x="431" y="1044"/>
                    </a:lnTo>
                    <a:lnTo>
                      <a:pt x="431" y="1044"/>
                    </a:lnTo>
                    <a:lnTo>
                      <a:pt x="431" y="1041"/>
                    </a:lnTo>
                    <a:lnTo>
                      <a:pt x="438" y="1034"/>
                    </a:lnTo>
                    <a:lnTo>
                      <a:pt x="442" y="1034"/>
                    </a:lnTo>
                    <a:lnTo>
                      <a:pt x="442" y="1034"/>
                    </a:lnTo>
                    <a:lnTo>
                      <a:pt x="446" y="1023"/>
                    </a:lnTo>
                    <a:lnTo>
                      <a:pt x="449" y="1012"/>
                    </a:lnTo>
                    <a:lnTo>
                      <a:pt x="449" y="1012"/>
                    </a:lnTo>
                    <a:lnTo>
                      <a:pt x="449" y="1008"/>
                    </a:lnTo>
                    <a:lnTo>
                      <a:pt x="449" y="997"/>
                    </a:lnTo>
                    <a:lnTo>
                      <a:pt x="442" y="997"/>
                    </a:lnTo>
                    <a:lnTo>
                      <a:pt x="449" y="1001"/>
                    </a:lnTo>
                    <a:lnTo>
                      <a:pt x="453" y="990"/>
                    </a:lnTo>
                    <a:lnTo>
                      <a:pt x="453" y="986"/>
                    </a:lnTo>
                    <a:lnTo>
                      <a:pt x="453" y="986"/>
                    </a:lnTo>
                    <a:lnTo>
                      <a:pt x="449" y="976"/>
                    </a:lnTo>
                    <a:lnTo>
                      <a:pt x="446" y="965"/>
                    </a:lnTo>
                    <a:lnTo>
                      <a:pt x="442" y="954"/>
                    </a:lnTo>
                    <a:lnTo>
                      <a:pt x="435" y="943"/>
                    </a:lnTo>
                    <a:lnTo>
                      <a:pt x="431" y="939"/>
                    </a:lnTo>
                    <a:lnTo>
                      <a:pt x="431" y="939"/>
                    </a:lnTo>
                    <a:lnTo>
                      <a:pt x="420" y="932"/>
                    </a:lnTo>
                    <a:lnTo>
                      <a:pt x="417" y="936"/>
                    </a:lnTo>
                    <a:lnTo>
                      <a:pt x="424" y="936"/>
                    </a:lnTo>
                    <a:lnTo>
                      <a:pt x="417" y="925"/>
                    </a:lnTo>
                    <a:lnTo>
                      <a:pt x="413" y="918"/>
                    </a:lnTo>
                    <a:lnTo>
                      <a:pt x="406" y="907"/>
                    </a:lnTo>
                    <a:lnTo>
                      <a:pt x="402" y="896"/>
                    </a:lnTo>
                    <a:lnTo>
                      <a:pt x="395" y="896"/>
                    </a:lnTo>
                    <a:lnTo>
                      <a:pt x="402" y="896"/>
                    </a:lnTo>
                    <a:lnTo>
                      <a:pt x="402" y="885"/>
                    </a:lnTo>
                    <a:lnTo>
                      <a:pt x="402" y="874"/>
                    </a:lnTo>
                    <a:lnTo>
                      <a:pt x="402" y="867"/>
                    </a:lnTo>
                    <a:lnTo>
                      <a:pt x="402" y="856"/>
                    </a:lnTo>
                    <a:lnTo>
                      <a:pt x="395" y="856"/>
                    </a:lnTo>
                    <a:lnTo>
                      <a:pt x="402" y="859"/>
                    </a:lnTo>
                    <a:lnTo>
                      <a:pt x="406" y="852"/>
                    </a:lnTo>
                    <a:lnTo>
                      <a:pt x="409" y="841"/>
                    </a:lnTo>
                    <a:lnTo>
                      <a:pt x="413" y="834"/>
                    </a:lnTo>
                    <a:lnTo>
                      <a:pt x="406" y="830"/>
                    </a:lnTo>
                    <a:lnTo>
                      <a:pt x="409" y="838"/>
                    </a:lnTo>
                    <a:lnTo>
                      <a:pt x="417" y="834"/>
                    </a:lnTo>
                    <a:lnTo>
                      <a:pt x="417" y="830"/>
                    </a:lnTo>
                    <a:lnTo>
                      <a:pt x="420" y="830"/>
                    </a:lnTo>
                    <a:lnTo>
                      <a:pt x="424" y="823"/>
                    </a:lnTo>
                    <a:lnTo>
                      <a:pt x="417" y="820"/>
                    </a:lnTo>
                    <a:lnTo>
                      <a:pt x="420" y="827"/>
                    </a:lnTo>
                    <a:lnTo>
                      <a:pt x="428" y="823"/>
                    </a:lnTo>
                    <a:lnTo>
                      <a:pt x="435" y="820"/>
                    </a:lnTo>
                    <a:lnTo>
                      <a:pt x="431" y="812"/>
                    </a:lnTo>
                    <a:lnTo>
                      <a:pt x="431" y="820"/>
                    </a:lnTo>
                    <a:lnTo>
                      <a:pt x="435" y="820"/>
                    </a:lnTo>
                    <a:lnTo>
                      <a:pt x="446" y="820"/>
                    </a:lnTo>
                    <a:lnTo>
                      <a:pt x="464" y="823"/>
                    </a:lnTo>
                    <a:lnTo>
                      <a:pt x="482" y="823"/>
                    </a:lnTo>
                    <a:lnTo>
                      <a:pt x="507" y="827"/>
                    </a:lnTo>
                    <a:lnTo>
                      <a:pt x="536" y="830"/>
                    </a:lnTo>
                    <a:lnTo>
                      <a:pt x="565" y="830"/>
                    </a:lnTo>
                    <a:lnTo>
                      <a:pt x="594" y="834"/>
                    </a:lnTo>
                    <a:lnTo>
                      <a:pt x="627" y="834"/>
                    </a:lnTo>
                    <a:lnTo>
                      <a:pt x="631" y="834"/>
                    </a:lnTo>
                    <a:lnTo>
                      <a:pt x="634" y="830"/>
                    </a:lnTo>
                    <a:lnTo>
                      <a:pt x="641" y="820"/>
                    </a:lnTo>
                    <a:lnTo>
                      <a:pt x="645" y="805"/>
                    </a:lnTo>
                    <a:lnTo>
                      <a:pt x="649" y="791"/>
                    </a:lnTo>
                    <a:lnTo>
                      <a:pt x="652" y="776"/>
                    </a:lnTo>
                    <a:lnTo>
                      <a:pt x="656" y="762"/>
                    </a:lnTo>
                    <a:lnTo>
                      <a:pt x="656" y="762"/>
                    </a:lnTo>
                    <a:lnTo>
                      <a:pt x="656" y="758"/>
                    </a:lnTo>
                    <a:lnTo>
                      <a:pt x="656" y="743"/>
                    </a:lnTo>
                    <a:lnTo>
                      <a:pt x="656" y="729"/>
                    </a:lnTo>
                    <a:lnTo>
                      <a:pt x="656" y="714"/>
                    </a:lnTo>
                    <a:lnTo>
                      <a:pt x="656" y="700"/>
                    </a:lnTo>
                    <a:lnTo>
                      <a:pt x="656" y="685"/>
                    </a:lnTo>
                    <a:lnTo>
                      <a:pt x="656" y="685"/>
                    </a:lnTo>
                    <a:lnTo>
                      <a:pt x="656" y="685"/>
                    </a:lnTo>
                    <a:lnTo>
                      <a:pt x="652" y="671"/>
                    </a:lnTo>
                    <a:lnTo>
                      <a:pt x="645" y="671"/>
                    </a:lnTo>
                    <a:lnTo>
                      <a:pt x="652" y="671"/>
                    </a:lnTo>
                    <a:lnTo>
                      <a:pt x="652" y="656"/>
                    </a:lnTo>
                    <a:lnTo>
                      <a:pt x="652" y="656"/>
                    </a:lnTo>
                    <a:lnTo>
                      <a:pt x="652" y="656"/>
                    </a:lnTo>
                    <a:lnTo>
                      <a:pt x="649" y="645"/>
                    </a:lnTo>
                    <a:lnTo>
                      <a:pt x="645" y="635"/>
                    </a:lnTo>
                    <a:lnTo>
                      <a:pt x="641" y="624"/>
                    </a:lnTo>
                    <a:lnTo>
                      <a:pt x="638" y="616"/>
                    </a:lnTo>
                    <a:lnTo>
                      <a:pt x="634" y="606"/>
                    </a:lnTo>
                    <a:lnTo>
                      <a:pt x="634" y="606"/>
                    </a:lnTo>
                    <a:lnTo>
                      <a:pt x="631" y="602"/>
                    </a:lnTo>
                    <a:lnTo>
                      <a:pt x="627" y="598"/>
                    </a:lnTo>
                    <a:lnTo>
                      <a:pt x="623" y="602"/>
                    </a:lnTo>
                    <a:lnTo>
                      <a:pt x="631" y="602"/>
                    </a:lnTo>
                    <a:lnTo>
                      <a:pt x="627" y="595"/>
                    </a:lnTo>
                    <a:lnTo>
                      <a:pt x="627" y="595"/>
                    </a:lnTo>
                    <a:lnTo>
                      <a:pt x="623" y="591"/>
                    </a:lnTo>
                    <a:lnTo>
                      <a:pt x="620" y="587"/>
                    </a:lnTo>
                    <a:lnTo>
                      <a:pt x="620" y="587"/>
                    </a:lnTo>
                    <a:lnTo>
                      <a:pt x="620" y="587"/>
                    </a:lnTo>
                    <a:lnTo>
                      <a:pt x="612" y="584"/>
                    </a:lnTo>
                    <a:lnTo>
                      <a:pt x="612" y="584"/>
                    </a:lnTo>
                    <a:lnTo>
                      <a:pt x="609" y="584"/>
                    </a:lnTo>
                    <a:lnTo>
                      <a:pt x="605" y="584"/>
                    </a:lnTo>
                    <a:lnTo>
                      <a:pt x="605" y="587"/>
                    </a:lnTo>
                    <a:lnTo>
                      <a:pt x="609" y="584"/>
                    </a:lnTo>
                    <a:lnTo>
                      <a:pt x="605" y="580"/>
                    </a:lnTo>
                    <a:lnTo>
                      <a:pt x="605" y="580"/>
                    </a:lnTo>
                    <a:lnTo>
                      <a:pt x="602" y="580"/>
                    </a:lnTo>
                    <a:lnTo>
                      <a:pt x="594" y="580"/>
                    </a:lnTo>
                    <a:lnTo>
                      <a:pt x="583" y="580"/>
                    </a:lnTo>
                    <a:lnTo>
                      <a:pt x="569" y="584"/>
                    </a:lnTo>
                    <a:lnTo>
                      <a:pt x="554" y="587"/>
                    </a:lnTo>
                    <a:lnTo>
                      <a:pt x="551" y="587"/>
                    </a:lnTo>
                    <a:lnTo>
                      <a:pt x="554" y="587"/>
                    </a:lnTo>
                    <a:lnTo>
                      <a:pt x="540" y="595"/>
                    </a:lnTo>
                    <a:lnTo>
                      <a:pt x="529" y="598"/>
                    </a:lnTo>
                    <a:lnTo>
                      <a:pt x="529" y="602"/>
                    </a:lnTo>
                    <a:lnTo>
                      <a:pt x="529" y="598"/>
                    </a:lnTo>
                    <a:lnTo>
                      <a:pt x="522" y="598"/>
                    </a:lnTo>
                    <a:lnTo>
                      <a:pt x="522" y="598"/>
                    </a:lnTo>
                    <a:lnTo>
                      <a:pt x="522" y="598"/>
                    </a:lnTo>
                    <a:lnTo>
                      <a:pt x="511" y="602"/>
                    </a:lnTo>
                    <a:lnTo>
                      <a:pt x="511" y="606"/>
                    </a:lnTo>
                    <a:lnTo>
                      <a:pt x="511" y="602"/>
                    </a:lnTo>
                    <a:lnTo>
                      <a:pt x="504" y="602"/>
                    </a:lnTo>
                    <a:lnTo>
                      <a:pt x="493" y="602"/>
                    </a:lnTo>
                    <a:lnTo>
                      <a:pt x="486" y="602"/>
                    </a:lnTo>
                    <a:lnTo>
                      <a:pt x="482" y="602"/>
                    </a:lnTo>
                    <a:lnTo>
                      <a:pt x="482" y="606"/>
                    </a:lnTo>
                    <a:lnTo>
                      <a:pt x="486" y="602"/>
                    </a:lnTo>
                    <a:lnTo>
                      <a:pt x="475" y="598"/>
                    </a:lnTo>
                    <a:lnTo>
                      <a:pt x="475" y="598"/>
                    </a:lnTo>
                    <a:lnTo>
                      <a:pt x="471" y="598"/>
                    </a:lnTo>
                    <a:lnTo>
                      <a:pt x="467" y="598"/>
                    </a:lnTo>
                    <a:lnTo>
                      <a:pt x="467" y="602"/>
                    </a:lnTo>
                    <a:lnTo>
                      <a:pt x="471" y="598"/>
                    </a:lnTo>
                    <a:lnTo>
                      <a:pt x="464" y="595"/>
                    </a:lnTo>
                    <a:lnTo>
                      <a:pt x="464" y="595"/>
                    </a:lnTo>
                    <a:lnTo>
                      <a:pt x="460" y="595"/>
                    </a:lnTo>
                    <a:lnTo>
                      <a:pt x="457" y="595"/>
                    </a:lnTo>
                    <a:lnTo>
                      <a:pt x="457" y="598"/>
                    </a:lnTo>
                    <a:lnTo>
                      <a:pt x="460" y="595"/>
                    </a:lnTo>
                    <a:lnTo>
                      <a:pt x="453" y="591"/>
                    </a:lnTo>
                    <a:lnTo>
                      <a:pt x="449" y="595"/>
                    </a:lnTo>
                    <a:lnTo>
                      <a:pt x="453" y="591"/>
                    </a:lnTo>
                    <a:lnTo>
                      <a:pt x="446" y="584"/>
                    </a:lnTo>
                    <a:lnTo>
                      <a:pt x="442" y="587"/>
                    </a:lnTo>
                    <a:lnTo>
                      <a:pt x="449" y="587"/>
                    </a:lnTo>
                    <a:lnTo>
                      <a:pt x="442" y="577"/>
                    </a:lnTo>
                    <a:lnTo>
                      <a:pt x="442" y="577"/>
                    </a:lnTo>
                    <a:lnTo>
                      <a:pt x="438" y="573"/>
                    </a:lnTo>
                    <a:lnTo>
                      <a:pt x="431" y="566"/>
                    </a:lnTo>
                    <a:lnTo>
                      <a:pt x="428" y="569"/>
                    </a:lnTo>
                    <a:lnTo>
                      <a:pt x="435" y="569"/>
                    </a:lnTo>
                    <a:lnTo>
                      <a:pt x="431" y="558"/>
                    </a:lnTo>
                    <a:lnTo>
                      <a:pt x="428" y="548"/>
                    </a:lnTo>
                    <a:lnTo>
                      <a:pt x="420" y="548"/>
                    </a:lnTo>
                    <a:lnTo>
                      <a:pt x="428" y="548"/>
                    </a:lnTo>
                    <a:lnTo>
                      <a:pt x="428" y="540"/>
                    </a:lnTo>
                    <a:lnTo>
                      <a:pt x="428" y="529"/>
                    </a:lnTo>
                    <a:lnTo>
                      <a:pt x="428" y="522"/>
                    </a:lnTo>
                    <a:lnTo>
                      <a:pt x="420" y="522"/>
                    </a:lnTo>
                    <a:lnTo>
                      <a:pt x="428" y="526"/>
                    </a:lnTo>
                    <a:lnTo>
                      <a:pt x="431" y="519"/>
                    </a:lnTo>
                    <a:lnTo>
                      <a:pt x="435" y="511"/>
                    </a:lnTo>
                    <a:lnTo>
                      <a:pt x="438" y="500"/>
                    </a:lnTo>
                    <a:lnTo>
                      <a:pt x="446" y="489"/>
                    </a:lnTo>
                    <a:lnTo>
                      <a:pt x="438" y="486"/>
                    </a:lnTo>
                    <a:lnTo>
                      <a:pt x="442" y="489"/>
                    </a:lnTo>
                    <a:lnTo>
                      <a:pt x="449" y="482"/>
                    </a:lnTo>
                    <a:lnTo>
                      <a:pt x="446" y="479"/>
                    </a:lnTo>
                    <a:lnTo>
                      <a:pt x="449" y="486"/>
                    </a:lnTo>
                    <a:lnTo>
                      <a:pt x="457" y="482"/>
                    </a:lnTo>
                    <a:lnTo>
                      <a:pt x="464" y="479"/>
                    </a:lnTo>
                    <a:lnTo>
                      <a:pt x="471" y="475"/>
                    </a:lnTo>
                    <a:lnTo>
                      <a:pt x="478" y="471"/>
                    </a:lnTo>
                    <a:lnTo>
                      <a:pt x="486" y="468"/>
                    </a:lnTo>
                    <a:lnTo>
                      <a:pt x="482" y="460"/>
                    </a:lnTo>
                    <a:lnTo>
                      <a:pt x="482" y="468"/>
                    </a:lnTo>
                    <a:lnTo>
                      <a:pt x="489" y="468"/>
                    </a:lnTo>
                    <a:lnTo>
                      <a:pt x="493" y="468"/>
                    </a:lnTo>
                    <a:lnTo>
                      <a:pt x="493" y="460"/>
                    </a:lnTo>
                    <a:lnTo>
                      <a:pt x="493" y="468"/>
                    </a:lnTo>
                    <a:lnTo>
                      <a:pt x="500" y="471"/>
                    </a:lnTo>
                    <a:lnTo>
                      <a:pt x="500" y="471"/>
                    </a:lnTo>
                    <a:lnTo>
                      <a:pt x="500" y="471"/>
                    </a:lnTo>
                    <a:lnTo>
                      <a:pt x="507" y="471"/>
                    </a:lnTo>
                    <a:lnTo>
                      <a:pt x="507" y="464"/>
                    </a:lnTo>
                    <a:lnTo>
                      <a:pt x="507" y="471"/>
                    </a:lnTo>
                    <a:lnTo>
                      <a:pt x="522" y="479"/>
                    </a:lnTo>
                    <a:lnTo>
                      <a:pt x="533" y="482"/>
                    </a:lnTo>
                    <a:lnTo>
                      <a:pt x="547" y="489"/>
                    </a:lnTo>
                    <a:lnTo>
                      <a:pt x="558" y="497"/>
                    </a:lnTo>
                    <a:lnTo>
                      <a:pt x="569" y="504"/>
                    </a:lnTo>
                    <a:lnTo>
                      <a:pt x="565" y="500"/>
                    </a:lnTo>
                    <a:lnTo>
                      <a:pt x="569" y="504"/>
                    </a:lnTo>
                    <a:lnTo>
                      <a:pt x="583" y="508"/>
                    </a:lnTo>
                    <a:lnTo>
                      <a:pt x="591" y="508"/>
                    </a:lnTo>
                    <a:lnTo>
                      <a:pt x="591" y="500"/>
                    </a:lnTo>
                    <a:lnTo>
                      <a:pt x="587" y="504"/>
                    </a:lnTo>
                    <a:lnTo>
                      <a:pt x="591" y="508"/>
                    </a:lnTo>
                    <a:lnTo>
                      <a:pt x="594" y="511"/>
                    </a:lnTo>
                    <a:lnTo>
                      <a:pt x="594" y="511"/>
                    </a:lnTo>
                    <a:lnTo>
                      <a:pt x="602" y="511"/>
                    </a:lnTo>
                    <a:lnTo>
                      <a:pt x="605" y="511"/>
                    </a:lnTo>
                    <a:lnTo>
                      <a:pt x="605" y="511"/>
                    </a:lnTo>
                    <a:lnTo>
                      <a:pt x="612" y="508"/>
                    </a:lnTo>
                    <a:lnTo>
                      <a:pt x="609" y="500"/>
                    </a:lnTo>
                    <a:lnTo>
                      <a:pt x="609" y="508"/>
                    </a:lnTo>
                    <a:lnTo>
                      <a:pt x="612" y="508"/>
                    </a:lnTo>
                    <a:lnTo>
                      <a:pt x="616" y="508"/>
                    </a:lnTo>
                    <a:lnTo>
                      <a:pt x="616" y="508"/>
                    </a:lnTo>
                    <a:lnTo>
                      <a:pt x="623" y="504"/>
                    </a:lnTo>
                    <a:lnTo>
                      <a:pt x="631" y="500"/>
                    </a:lnTo>
                    <a:lnTo>
                      <a:pt x="631" y="500"/>
                    </a:lnTo>
                    <a:lnTo>
                      <a:pt x="631" y="497"/>
                    </a:lnTo>
                    <a:lnTo>
                      <a:pt x="634" y="493"/>
                    </a:lnTo>
                    <a:lnTo>
                      <a:pt x="638" y="489"/>
                    </a:lnTo>
                    <a:lnTo>
                      <a:pt x="641" y="486"/>
                    </a:lnTo>
                    <a:lnTo>
                      <a:pt x="645" y="486"/>
                    </a:lnTo>
                    <a:lnTo>
                      <a:pt x="645" y="482"/>
                    </a:lnTo>
                    <a:lnTo>
                      <a:pt x="645" y="479"/>
                    </a:lnTo>
                    <a:lnTo>
                      <a:pt x="638" y="479"/>
                    </a:lnTo>
                    <a:lnTo>
                      <a:pt x="645" y="482"/>
                    </a:lnTo>
                    <a:lnTo>
                      <a:pt x="649" y="475"/>
                    </a:lnTo>
                    <a:lnTo>
                      <a:pt x="652" y="460"/>
                    </a:lnTo>
                    <a:lnTo>
                      <a:pt x="652" y="460"/>
                    </a:lnTo>
                    <a:lnTo>
                      <a:pt x="652" y="457"/>
                    </a:lnTo>
                    <a:lnTo>
                      <a:pt x="652" y="442"/>
                    </a:lnTo>
                    <a:lnTo>
                      <a:pt x="652" y="424"/>
                    </a:lnTo>
                    <a:lnTo>
                      <a:pt x="649" y="402"/>
                    </a:lnTo>
                    <a:lnTo>
                      <a:pt x="649" y="384"/>
                    </a:lnTo>
                    <a:lnTo>
                      <a:pt x="645" y="363"/>
                    </a:lnTo>
                    <a:lnTo>
                      <a:pt x="641" y="319"/>
                    </a:lnTo>
                    <a:lnTo>
                      <a:pt x="638" y="283"/>
                    </a:lnTo>
                    <a:lnTo>
                      <a:pt x="638" y="268"/>
                    </a:lnTo>
                    <a:lnTo>
                      <a:pt x="638" y="254"/>
                    </a:lnTo>
                    <a:lnTo>
                      <a:pt x="638" y="243"/>
                    </a:lnTo>
                    <a:lnTo>
                      <a:pt x="638" y="236"/>
                    </a:lnTo>
                    <a:lnTo>
                      <a:pt x="638" y="225"/>
                    </a:lnTo>
                    <a:lnTo>
                      <a:pt x="631" y="232"/>
                    </a:lnTo>
                    <a:lnTo>
                      <a:pt x="620" y="239"/>
                    </a:lnTo>
                    <a:lnTo>
                      <a:pt x="605" y="246"/>
                    </a:lnTo>
                    <a:lnTo>
                      <a:pt x="605" y="250"/>
                    </a:lnTo>
                    <a:lnTo>
                      <a:pt x="605" y="246"/>
                    </a:lnTo>
                    <a:lnTo>
                      <a:pt x="591" y="250"/>
                    </a:lnTo>
                    <a:lnTo>
                      <a:pt x="573" y="254"/>
                    </a:lnTo>
                    <a:lnTo>
                      <a:pt x="554" y="257"/>
                    </a:lnTo>
                    <a:lnTo>
                      <a:pt x="536" y="257"/>
                    </a:lnTo>
                    <a:lnTo>
                      <a:pt x="518" y="257"/>
                    </a:lnTo>
                    <a:lnTo>
                      <a:pt x="500" y="257"/>
                    </a:lnTo>
                    <a:lnTo>
                      <a:pt x="482" y="257"/>
                    </a:lnTo>
                    <a:lnTo>
                      <a:pt x="460" y="257"/>
                    </a:lnTo>
                    <a:lnTo>
                      <a:pt x="446" y="254"/>
                    </a:lnTo>
                    <a:lnTo>
                      <a:pt x="428" y="250"/>
                    </a:lnTo>
                    <a:lnTo>
                      <a:pt x="413" y="246"/>
                    </a:lnTo>
                    <a:lnTo>
                      <a:pt x="413" y="250"/>
                    </a:lnTo>
                    <a:lnTo>
                      <a:pt x="417" y="246"/>
                    </a:lnTo>
                    <a:lnTo>
                      <a:pt x="406" y="243"/>
                    </a:lnTo>
                    <a:lnTo>
                      <a:pt x="395" y="236"/>
                    </a:lnTo>
                    <a:lnTo>
                      <a:pt x="384" y="232"/>
                    </a:lnTo>
                    <a:lnTo>
                      <a:pt x="380" y="236"/>
                    </a:lnTo>
                    <a:lnTo>
                      <a:pt x="384" y="232"/>
                    </a:lnTo>
                    <a:lnTo>
                      <a:pt x="377" y="225"/>
                    </a:lnTo>
                    <a:lnTo>
                      <a:pt x="373" y="221"/>
                    </a:lnTo>
                    <a:lnTo>
                      <a:pt x="370" y="217"/>
                    </a:lnTo>
                    <a:lnTo>
                      <a:pt x="366" y="221"/>
                    </a:lnTo>
                    <a:lnTo>
                      <a:pt x="373" y="221"/>
                    </a:lnTo>
                    <a:lnTo>
                      <a:pt x="370" y="214"/>
                    </a:lnTo>
                    <a:lnTo>
                      <a:pt x="362" y="214"/>
                    </a:lnTo>
                    <a:lnTo>
                      <a:pt x="370" y="214"/>
                    </a:lnTo>
                    <a:lnTo>
                      <a:pt x="370" y="210"/>
                    </a:lnTo>
                    <a:lnTo>
                      <a:pt x="370" y="203"/>
                    </a:lnTo>
                    <a:lnTo>
                      <a:pt x="370" y="199"/>
                    </a:lnTo>
                    <a:lnTo>
                      <a:pt x="370" y="192"/>
                    </a:lnTo>
                    <a:lnTo>
                      <a:pt x="362" y="192"/>
                    </a:lnTo>
                    <a:lnTo>
                      <a:pt x="366" y="196"/>
                    </a:lnTo>
                    <a:lnTo>
                      <a:pt x="370" y="192"/>
                    </a:lnTo>
                    <a:lnTo>
                      <a:pt x="373" y="192"/>
                    </a:lnTo>
                    <a:lnTo>
                      <a:pt x="373" y="192"/>
                    </a:lnTo>
                    <a:lnTo>
                      <a:pt x="377" y="185"/>
                    </a:lnTo>
                    <a:lnTo>
                      <a:pt x="380" y="178"/>
                    </a:lnTo>
                    <a:lnTo>
                      <a:pt x="373" y="174"/>
                    </a:lnTo>
                    <a:lnTo>
                      <a:pt x="377" y="181"/>
                    </a:lnTo>
                    <a:lnTo>
                      <a:pt x="384" y="178"/>
                    </a:lnTo>
                    <a:lnTo>
                      <a:pt x="384" y="174"/>
                    </a:lnTo>
                    <a:lnTo>
                      <a:pt x="384" y="174"/>
                    </a:lnTo>
                    <a:lnTo>
                      <a:pt x="395" y="159"/>
                    </a:lnTo>
                    <a:lnTo>
                      <a:pt x="409" y="145"/>
                    </a:lnTo>
                    <a:lnTo>
                      <a:pt x="413" y="145"/>
                    </a:lnTo>
                    <a:lnTo>
                      <a:pt x="413" y="145"/>
                    </a:lnTo>
                    <a:lnTo>
                      <a:pt x="420" y="134"/>
                    </a:lnTo>
                    <a:lnTo>
                      <a:pt x="424" y="123"/>
                    </a:lnTo>
                    <a:lnTo>
                      <a:pt x="428" y="112"/>
                    </a:lnTo>
                    <a:lnTo>
                      <a:pt x="431" y="105"/>
                    </a:lnTo>
                    <a:lnTo>
                      <a:pt x="431" y="105"/>
                    </a:lnTo>
                    <a:lnTo>
                      <a:pt x="431" y="101"/>
                    </a:lnTo>
                    <a:lnTo>
                      <a:pt x="431" y="87"/>
                    </a:lnTo>
                    <a:lnTo>
                      <a:pt x="431" y="76"/>
                    </a:lnTo>
                    <a:lnTo>
                      <a:pt x="431" y="76"/>
                    </a:lnTo>
                    <a:lnTo>
                      <a:pt x="431" y="76"/>
                    </a:lnTo>
                    <a:lnTo>
                      <a:pt x="428" y="65"/>
                    </a:lnTo>
                    <a:lnTo>
                      <a:pt x="424" y="54"/>
                    </a:lnTo>
                    <a:lnTo>
                      <a:pt x="417" y="43"/>
                    </a:lnTo>
                    <a:lnTo>
                      <a:pt x="417" y="43"/>
                    </a:lnTo>
                    <a:lnTo>
                      <a:pt x="413" y="40"/>
                    </a:lnTo>
                    <a:lnTo>
                      <a:pt x="406" y="32"/>
                    </a:lnTo>
                    <a:lnTo>
                      <a:pt x="402" y="36"/>
                    </a:lnTo>
                    <a:lnTo>
                      <a:pt x="409" y="36"/>
                    </a:lnTo>
                    <a:lnTo>
                      <a:pt x="402" y="25"/>
                    </a:lnTo>
                    <a:lnTo>
                      <a:pt x="399" y="22"/>
                    </a:lnTo>
                    <a:lnTo>
                      <a:pt x="399" y="22"/>
                    </a:lnTo>
                    <a:lnTo>
                      <a:pt x="388" y="14"/>
                    </a:lnTo>
                    <a:lnTo>
                      <a:pt x="377" y="11"/>
                    </a:lnTo>
                    <a:lnTo>
                      <a:pt x="366" y="3"/>
                    </a:lnTo>
                    <a:lnTo>
                      <a:pt x="366" y="3"/>
                    </a:lnTo>
                    <a:lnTo>
                      <a:pt x="362" y="3"/>
                    </a:lnTo>
                    <a:lnTo>
                      <a:pt x="348" y="0"/>
                    </a:lnTo>
                    <a:lnTo>
                      <a:pt x="333" y="0"/>
                    </a:lnTo>
                    <a:lnTo>
                      <a:pt x="319" y="0"/>
                    </a:lnTo>
                    <a:lnTo>
                      <a:pt x="319" y="0"/>
                    </a:lnTo>
                    <a:lnTo>
                      <a:pt x="319" y="0"/>
                    </a:lnTo>
                    <a:lnTo>
                      <a:pt x="308" y="3"/>
                    </a:lnTo>
                    <a:lnTo>
                      <a:pt x="297" y="11"/>
                    </a:lnTo>
                    <a:lnTo>
                      <a:pt x="297" y="14"/>
                    </a:lnTo>
                    <a:lnTo>
                      <a:pt x="297" y="11"/>
                    </a:lnTo>
                    <a:lnTo>
                      <a:pt x="282" y="14"/>
                    </a:lnTo>
                    <a:lnTo>
                      <a:pt x="279" y="14"/>
                    </a:lnTo>
                    <a:lnTo>
                      <a:pt x="282" y="14"/>
                    </a:lnTo>
                    <a:lnTo>
                      <a:pt x="272" y="22"/>
                    </a:lnTo>
                    <a:lnTo>
                      <a:pt x="272" y="22"/>
                    </a:lnTo>
                    <a:lnTo>
                      <a:pt x="268" y="22"/>
                    </a:lnTo>
                    <a:lnTo>
                      <a:pt x="257" y="32"/>
                    </a:lnTo>
                    <a:lnTo>
                      <a:pt x="250" y="40"/>
                    </a:lnTo>
                    <a:lnTo>
                      <a:pt x="250" y="43"/>
                    </a:lnTo>
                    <a:lnTo>
                      <a:pt x="250" y="43"/>
                    </a:lnTo>
                    <a:lnTo>
                      <a:pt x="243" y="54"/>
                    </a:lnTo>
                    <a:lnTo>
                      <a:pt x="239" y="65"/>
                    </a:lnTo>
                    <a:lnTo>
                      <a:pt x="235" y="76"/>
                    </a:lnTo>
                    <a:lnTo>
                      <a:pt x="232" y="87"/>
                    </a:lnTo>
                    <a:lnTo>
                      <a:pt x="232" y="87"/>
                    </a:lnTo>
                    <a:lnTo>
                      <a:pt x="232" y="87"/>
                    </a:lnTo>
                    <a:lnTo>
                      <a:pt x="232" y="101"/>
                    </a:lnTo>
                    <a:lnTo>
                      <a:pt x="232" y="112"/>
                    </a:lnTo>
                    <a:lnTo>
                      <a:pt x="232" y="112"/>
                    </a:lnTo>
                    <a:lnTo>
                      <a:pt x="232" y="116"/>
                    </a:lnTo>
                    <a:lnTo>
                      <a:pt x="235" y="127"/>
                    </a:lnTo>
                    <a:lnTo>
                      <a:pt x="235" y="127"/>
                    </a:lnTo>
                    <a:lnTo>
                      <a:pt x="235" y="127"/>
                    </a:lnTo>
                    <a:lnTo>
                      <a:pt x="239" y="130"/>
                    </a:lnTo>
                    <a:lnTo>
                      <a:pt x="243" y="127"/>
                    </a:lnTo>
                    <a:lnTo>
                      <a:pt x="239" y="130"/>
                    </a:lnTo>
                    <a:lnTo>
                      <a:pt x="243" y="138"/>
                    </a:lnTo>
                    <a:lnTo>
                      <a:pt x="243" y="138"/>
                    </a:lnTo>
                    <a:lnTo>
                      <a:pt x="243" y="138"/>
                    </a:lnTo>
                    <a:lnTo>
                      <a:pt x="246" y="141"/>
                    </a:lnTo>
                    <a:lnTo>
                      <a:pt x="250" y="145"/>
                    </a:lnTo>
                    <a:lnTo>
                      <a:pt x="253" y="141"/>
                    </a:lnTo>
                    <a:lnTo>
                      <a:pt x="250" y="145"/>
                    </a:lnTo>
                    <a:lnTo>
                      <a:pt x="257" y="156"/>
                    </a:lnTo>
                    <a:lnTo>
                      <a:pt x="257" y="156"/>
                    </a:lnTo>
                    <a:lnTo>
                      <a:pt x="257" y="156"/>
                    </a:lnTo>
                    <a:lnTo>
                      <a:pt x="264" y="163"/>
                    </a:lnTo>
                    <a:lnTo>
                      <a:pt x="268" y="159"/>
                    </a:lnTo>
                    <a:lnTo>
                      <a:pt x="264" y="163"/>
                    </a:lnTo>
                    <a:lnTo>
                      <a:pt x="272" y="174"/>
                    </a:lnTo>
                    <a:lnTo>
                      <a:pt x="275" y="181"/>
                    </a:lnTo>
                    <a:lnTo>
                      <a:pt x="279" y="192"/>
                    </a:lnTo>
                    <a:lnTo>
                      <a:pt x="282" y="199"/>
                    </a:lnTo>
                    <a:lnTo>
                      <a:pt x="286" y="196"/>
                    </a:lnTo>
                    <a:lnTo>
                      <a:pt x="282" y="196"/>
                    </a:lnTo>
                    <a:lnTo>
                      <a:pt x="282" y="203"/>
                    </a:lnTo>
                    <a:lnTo>
                      <a:pt x="282" y="207"/>
                    </a:lnTo>
                    <a:lnTo>
                      <a:pt x="282" y="214"/>
                    </a:lnTo>
                    <a:lnTo>
                      <a:pt x="286" y="214"/>
                    </a:lnTo>
                    <a:lnTo>
                      <a:pt x="282" y="214"/>
                    </a:lnTo>
                    <a:lnTo>
                      <a:pt x="279" y="221"/>
                    </a:lnTo>
                    <a:lnTo>
                      <a:pt x="282" y="221"/>
                    </a:lnTo>
                    <a:lnTo>
                      <a:pt x="279" y="217"/>
                    </a:lnTo>
                    <a:lnTo>
                      <a:pt x="275" y="221"/>
                    </a:lnTo>
                    <a:lnTo>
                      <a:pt x="272" y="225"/>
                    </a:lnTo>
                    <a:lnTo>
                      <a:pt x="268" y="228"/>
                    </a:lnTo>
                    <a:lnTo>
                      <a:pt x="272" y="232"/>
                    </a:lnTo>
                    <a:lnTo>
                      <a:pt x="272" y="228"/>
                    </a:lnTo>
                    <a:lnTo>
                      <a:pt x="264" y="232"/>
                    </a:lnTo>
                    <a:lnTo>
                      <a:pt x="264" y="236"/>
                    </a:lnTo>
                    <a:lnTo>
                      <a:pt x="264" y="232"/>
                    </a:lnTo>
                    <a:lnTo>
                      <a:pt x="257" y="232"/>
                    </a:lnTo>
                    <a:lnTo>
                      <a:pt x="246" y="232"/>
                    </a:lnTo>
                    <a:lnTo>
                      <a:pt x="214" y="232"/>
                    </a:lnTo>
                    <a:lnTo>
                      <a:pt x="177" y="236"/>
                    </a:lnTo>
                    <a:lnTo>
                      <a:pt x="145" y="236"/>
                    </a:lnTo>
                    <a:lnTo>
                      <a:pt x="112" y="239"/>
                    </a:lnTo>
                    <a:lnTo>
                      <a:pt x="79" y="239"/>
                    </a:lnTo>
                    <a:lnTo>
                      <a:pt x="54" y="239"/>
                    </a:lnTo>
                    <a:lnTo>
                      <a:pt x="40" y="239"/>
                    </a:lnTo>
                    <a:lnTo>
                      <a:pt x="29" y="239"/>
                    </a:lnTo>
                    <a:lnTo>
                      <a:pt x="29" y="243"/>
                    </a:lnTo>
                    <a:lnTo>
                      <a:pt x="32" y="239"/>
                    </a:lnTo>
                    <a:lnTo>
                      <a:pt x="25" y="236"/>
                    </a:lnTo>
                    <a:lnTo>
                      <a:pt x="18" y="232"/>
                    </a:lnTo>
                    <a:lnTo>
                      <a:pt x="11" y="228"/>
                    </a:lnTo>
                    <a:lnTo>
                      <a:pt x="11" y="236"/>
                    </a:lnTo>
                    <a:lnTo>
                      <a:pt x="11" y="265"/>
                    </a:lnTo>
                    <a:lnTo>
                      <a:pt x="11" y="304"/>
                    </a:lnTo>
                    <a:lnTo>
                      <a:pt x="11" y="344"/>
                    </a:lnTo>
                    <a:lnTo>
                      <a:pt x="11" y="388"/>
                    </a:lnTo>
                    <a:lnTo>
                      <a:pt x="11" y="428"/>
                    </a:lnTo>
                    <a:lnTo>
                      <a:pt x="11" y="464"/>
                    </a:lnTo>
                    <a:lnTo>
                      <a:pt x="11" y="493"/>
                    </a:lnTo>
                    <a:lnTo>
                      <a:pt x="11" y="508"/>
                    </a:lnTo>
                    <a:lnTo>
                      <a:pt x="11" y="515"/>
                    </a:lnTo>
                    <a:lnTo>
                      <a:pt x="11" y="519"/>
                    </a:lnTo>
                    <a:lnTo>
                      <a:pt x="11" y="519"/>
                    </a:lnTo>
                    <a:lnTo>
                      <a:pt x="14" y="522"/>
                    </a:lnTo>
                    <a:lnTo>
                      <a:pt x="18" y="519"/>
                    </a:lnTo>
                    <a:lnTo>
                      <a:pt x="14" y="519"/>
                    </a:lnTo>
                    <a:lnTo>
                      <a:pt x="14" y="526"/>
                    </a:lnTo>
                    <a:lnTo>
                      <a:pt x="14" y="529"/>
                    </a:lnTo>
                    <a:lnTo>
                      <a:pt x="18" y="533"/>
                    </a:lnTo>
                    <a:lnTo>
                      <a:pt x="25" y="537"/>
                    </a:lnTo>
                    <a:lnTo>
                      <a:pt x="25" y="529"/>
                    </a:lnTo>
                    <a:lnTo>
                      <a:pt x="21" y="533"/>
                    </a:lnTo>
                    <a:lnTo>
                      <a:pt x="25" y="540"/>
                    </a:lnTo>
                    <a:lnTo>
                      <a:pt x="25" y="540"/>
                    </a:lnTo>
                    <a:lnTo>
                      <a:pt x="29" y="544"/>
                    </a:lnTo>
                    <a:lnTo>
                      <a:pt x="36" y="548"/>
                    </a:lnTo>
                    <a:lnTo>
                      <a:pt x="43" y="551"/>
                    </a:lnTo>
                    <a:lnTo>
                      <a:pt x="43" y="551"/>
                    </a:lnTo>
                    <a:lnTo>
                      <a:pt x="43" y="551"/>
                    </a:lnTo>
                    <a:lnTo>
                      <a:pt x="50" y="551"/>
                    </a:lnTo>
                    <a:lnTo>
                      <a:pt x="50" y="544"/>
                    </a:lnTo>
                    <a:lnTo>
                      <a:pt x="50" y="551"/>
                    </a:lnTo>
                    <a:lnTo>
                      <a:pt x="58" y="555"/>
                    </a:lnTo>
                    <a:lnTo>
                      <a:pt x="58" y="555"/>
                    </a:lnTo>
                    <a:lnTo>
                      <a:pt x="58" y="555"/>
                    </a:lnTo>
                    <a:lnTo>
                      <a:pt x="69" y="555"/>
                    </a:lnTo>
                    <a:lnTo>
                      <a:pt x="76" y="555"/>
                    </a:lnTo>
                    <a:lnTo>
                      <a:pt x="83" y="555"/>
                    </a:lnTo>
                    <a:lnTo>
                      <a:pt x="87" y="555"/>
                    </a:lnTo>
                    <a:lnTo>
                      <a:pt x="87" y="555"/>
                    </a:lnTo>
                    <a:lnTo>
                      <a:pt x="98" y="551"/>
                    </a:lnTo>
                    <a:lnTo>
                      <a:pt x="105" y="548"/>
                    </a:lnTo>
                    <a:lnTo>
                      <a:pt x="105" y="548"/>
                    </a:lnTo>
                    <a:lnTo>
                      <a:pt x="105" y="544"/>
                    </a:lnTo>
                    <a:lnTo>
                      <a:pt x="112" y="537"/>
                    </a:lnTo>
                    <a:lnTo>
                      <a:pt x="119" y="529"/>
                    </a:lnTo>
                    <a:lnTo>
                      <a:pt x="123" y="526"/>
                    </a:lnTo>
                    <a:close/>
                    <a:moveTo>
                      <a:pt x="112" y="522"/>
                    </a:moveTo>
                    <a:lnTo>
                      <a:pt x="105" y="529"/>
                    </a:lnTo>
                    <a:lnTo>
                      <a:pt x="98" y="537"/>
                    </a:lnTo>
                    <a:lnTo>
                      <a:pt x="101" y="540"/>
                    </a:lnTo>
                    <a:lnTo>
                      <a:pt x="101" y="537"/>
                    </a:lnTo>
                    <a:lnTo>
                      <a:pt x="94" y="540"/>
                    </a:lnTo>
                    <a:lnTo>
                      <a:pt x="83" y="544"/>
                    </a:lnTo>
                    <a:lnTo>
                      <a:pt x="83" y="548"/>
                    </a:lnTo>
                    <a:lnTo>
                      <a:pt x="83" y="544"/>
                    </a:lnTo>
                    <a:lnTo>
                      <a:pt x="76" y="544"/>
                    </a:lnTo>
                    <a:lnTo>
                      <a:pt x="69" y="544"/>
                    </a:lnTo>
                    <a:lnTo>
                      <a:pt x="58" y="544"/>
                    </a:lnTo>
                    <a:lnTo>
                      <a:pt x="58" y="548"/>
                    </a:lnTo>
                    <a:lnTo>
                      <a:pt x="61" y="544"/>
                    </a:lnTo>
                    <a:lnTo>
                      <a:pt x="54" y="540"/>
                    </a:lnTo>
                    <a:lnTo>
                      <a:pt x="54" y="540"/>
                    </a:lnTo>
                    <a:lnTo>
                      <a:pt x="50" y="540"/>
                    </a:lnTo>
                    <a:lnTo>
                      <a:pt x="43" y="540"/>
                    </a:lnTo>
                    <a:lnTo>
                      <a:pt x="43" y="544"/>
                    </a:lnTo>
                    <a:lnTo>
                      <a:pt x="47" y="540"/>
                    </a:lnTo>
                    <a:lnTo>
                      <a:pt x="40" y="537"/>
                    </a:lnTo>
                    <a:lnTo>
                      <a:pt x="32" y="533"/>
                    </a:lnTo>
                    <a:lnTo>
                      <a:pt x="29" y="537"/>
                    </a:lnTo>
                    <a:lnTo>
                      <a:pt x="36" y="537"/>
                    </a:lnTo>
                    <a:lnTo>
                      <a:pt x="32" y="529"/>
                    </a:lnTo>
                    <a:lnTo>
                      <a:pt x="29" y="526"/>
                    </a:lnTo>
                    <a:lnTo>
                      <a:pt x="29" y="526"/>
                    </a:lnTo>
                    <a:lnTo>
                      <a:pt x="21" y="522"/>
                    </a:lnTo>
                    <a:lnTo>
                      <a:pt x="18" y="526"/>
                    </a:lnTo>
                    <a:lnTo>
                      <a:pt x="25" y="526"/>
                    </a:lnTo>
                    <a:lnTo>
                      <a:pt x="25" y="519"/>
                    </a:lnTo>
                    <a:lnTo>
                      <a:pt x="25" y="519"/>
                    </a:lnTo>
                    <a:lnTo>
                      <a:pt x="21" y="515"/>
                    </a:lnTo>
                    <a:lnTo>
                      <a:pt x="18" y="511"/>
                    </a:lnTo>
                    <a:lnTo>
                      <a:pt x="14" y="515"/>
                    </a:lnTo>
                    <a:lnTo>
                      <a:pt x="21" y="515"/>
                    </a:lnTo>
                    <a:lnTo>
                      <a:pt x="21" y="508"/>
                    </a:lnTo>
                    <a:lnTo>
                      <a:pt x="21" y="493"/>
                    </a:lnTo>
                    <a:lnTo>
                      <a:pt x="21" y="464"/>
                    </a:lnTo>
                    <a:lnTo>
                      <a:pt x="21" y="428"/>
                    </a:lnTo>
                    <a:lnTo>
                      <a:pt x="21" y="388"/>
                    </a:lnTo>
                    <a:lnTo>
                      <a:pt x="21" y="344"/>
                    </a:lnTo>
                    <a:lnTo>
                      <a:pt x="21" y="304"/>
                    </a:lnTo>
                    <a:lnTo>
                      <a:pt x="21" y="265"/>
                    </a:lnTo>
                    <a:lnTo>
                      <a:pt x="21" y="236"/>
                    </a:lnTo>
                    <a:lnTo>
                      <a:pt x="14" y="236"/>
                    </a:lnTo>
                    <a:lnTo>
                      <a:pt x="14" y="243"/>
                    </a:lnTo>
                    <a:lnTo>
                      <a:pt x="21" y="246"/>
                    </a:lnTo>
                    <a:lnTo>
                      <a:pt x="29" y="250"/>
                    </a:lnTo>
                    <a:lnTo>
                      <a:pt x="29" y="250"/>
                    </a:lnTo>
                    <a:lnTo>
                      <a:pt x="29" y="250"/>
                    </a:lnTo>
                    <a:lnTo>
                      <a:pt x="40" y="250"/>
                    </a:lnTo>
                    <a:lnTo>
                      <a:pt x="54" y="250"/>
                    </a:lnTo>
                    <a:lnTo>
                      <a:pt x="79" y="250"/>
                    </a:lnTo>
                    <a:lnTo>
                      <a:pt x="112" y="250"/>
                    </a:lnTo>
                    <a:lnTo>
                      <a:pt x="145" y="246"/>
                    </a:lnTo>
                    <a:lnTo>
                      <a:pt x="177" y="246"/>
                    </a:lnTo>
                    <a:lnTo>
                      <a:pt x="214" y="243"/>
                    </a:lnTo>
                    <a:lnTo>
                      <a:pt x="246" y="243"/>
                    </a:lnTo>
                    <a:lnTo>
                      <a:pt x="257" y="243"/>
                    </a:lnTo>
                    <a:lnTo>
                      <a:pt x="264" y="243"/>
                    </a:lnTo>
                    <a:lnTo>
                      <a:pt x="268" y="243"/>
                    </a:lnTo>
                    <a:lnTo>
                      <a:pt x="268" y="243"/>
                    </a:lnTo>
                    <a:lnTo>
                      <a:pt x="275" y="239"/>
                    </a:lnTo>
                    <a:lnTo>
                      <a:pt x="275" y="239"/>
                    </a:lnTo>
                    <a:lnTo>
                      <a:pt x="275" y="236"/>
                    </a:lnTo>
                    <a:lnTo>
                      <a:pt x="279" y="232"/>
                    </a:lnTo>
                    <a:lnTo>
                      <a:pt x="282" y="228"/>
                    </a:lnTo>
                    <a:lnTo>
                      <a:pt x="286" y="225"/>
                    </a:lnTo>
                    <a:lnTo>
                      <a:pt x="290" y="225"/>
                    </a:lnTo>
                    <a:lnTo>
                      <a:pt x="290" y="225"/>
                    </a:lnTo>
                    <a:lnTo>
                      <a:pt x="293" y="217"/>
                    </a:lnTo>
                    <a:lnTo>
                      <a:pt x="293" y="217"/>
                    </a:lnTo>
                    <a:lnTo>
                      <a:pt x="293" y="214"/>
                    </a:lnTo>
                    <a:lnTo>
                      <a:pt x="293" y="207"/>
                    </a:lnTo>
                    <a:lnTo>
                      <a:pt x="293" y="203"/>
                    </a:lnTo>
                    <a:lnTo>
                      <a:pt x="293" y="196"/>
                    </a:lnTo>
                    <a:lnTo>
                      <a:pt x="293" y="196"/>
                    </a:lnTo>
                    <a:lnTo>
                      <a:pt x="293" y="196"/>
                    </a:lnTo>
                    <a:lnTo>
                      <a:pt x="290" y="188"/>
                    </a:lnTo>
                    <a:lnTo>
                      <a:pt x="286" y="178"/>
                    </a:lnTo>
                    <a:lnTo>
                      <a:pt x="282" y="170"/>
                    </a:lnTo>
                    <a:lnTo>
                      <a:pt x="275" y="159"/>
                    </a:lnTo>
                    <a:lnTo>
                      <a:pt x="275" y="159"/>
                    </a:lnTo>
                    <a:lnTo>
                      <a:pt x="272" y="156"/>
                    </a:lnTo>
                    <a:lnTo>
                      <a:pt x="264" y="149"/>
                    </a:lnTo>
                    <a:lnTo>
                      <a:pt x="261" y="152"/>
                    </a:lnTo>
                    <a:lnTo>
                      <a:pt x="268" y="152"/>
                    </a:lnTo>
                    <a:lnTo>
                      <a:pt x="261" y="141"/>
                    </a:lnTo>
                    <a:lnTo>
                      <a:pt x="261" y="141"/>
                    </a:lnTo>
                    <a:lnTo>
                      <a:pt x="257" y="138"/>
                    </a:lnTo>
                    <a:lnTo>
                      <a:pt x="253" y="134"/>
                    </a:lnTo>
                    <a:lnTo>
                      <a:pt x="250" y="130"/>
                    </a:lnTo>
                    <a:lnTo>
                      <a:pt x="246" y="134"/>
                    </a:lnTo>
                    <a:lnTo>
                      <a:pt x="253" y="134"/>
                    </a:lnTo>
                    <a:lnTo>
                      <a:pt x="250" y="127"/>
                    </a:lnTo>
                    <a:lnTo>
                      <a:pt x="250" y="127"/>
                    </a:lnTo>
                    <a:lnTo>
                      <a:pt x="246" y="123"/>
                    </a:lnTo>
                    <a:lnTo>
                      <a:pt x="243" y="120"/>
                    </a:lnTo>
                    <a:lnTo>
                      <a:pt x="239" y="123"/>
                    </a:lnTo>
                    <a:lnTo>
                      <a:pt x="246" y="123"/>
                    </a:lnTo>
                    <a:lnTo>
                      <a:pt x="243" y="112"/>
                    </a:lnTo>
                    <a:lnTo>
                      <a:pt x="235" y="112"/>
                    </a:lnTo>
                    <a:lnTo>
                      <a:pt x="243" y="112"/>
                    </a:lnTo>
                    <a:lnTo>
                      <a:pt x="243" y="101"/>
                    </a:lnTo>
                    <a:lnTo>
                      <a:pt x="243" y="87"/>
                    </a:lnTo>
                    <a:lnTo>
                      <a:pt x="235" y="87"/>
                    </a:lnTo>
                    <a:lnTo>
                      <a:pt x="243" y="90"/>
                    </a:lnTo>
                    <a:lnTo>
                      <a:pt x="246" y="80"/>
                    </a:lnTo>
                    <a:lnTo>
                      <a:pt x="250" y="69"/>
                    </a:lnTo>
                    <a:lnTo>
                      <a:pt x="253" y="58"/>
                    </a:lnTo>
                    <a:lnTo>
                      <a:pt x="261" y="47"/>
                    </a:lnTo>
                    <a:lnTo>
                      <a:pt x="253" y="43"/>
                    </a:lnTo>
                    <a:lnTo>
                      <a:pt x="257" y="47"/>
                    </a:lnTo>
                    <a:lnTo>
                      <a:pt x="264" y="40"/>
                    </a:lnTo>
                    <a:lnTo>
                      <a:pt x="275" y="29"/>
                    </a:lnTo>
                    <a:lnTo>
                      <a:pt x="272" y="25"/>
                    </a:lnTo>
                    <a:lnTo>
                      <a:pt x="275" y="32"/>
                    </a:lnTo>
                    <a:lnTo>
                      <a:pt x="286" y="25"/>
                    </a:lnTo>
                    <a:lnTo>
                      <a:pt x="282" y="18"/>
                    </a:lnTo>
                    <a:lnTo>
                      <a:pt x="282" y="25"/>
                    </a:lnTo>
                    <a:lnTo>
                      <a:pt x="297" y="22"/>
                    </a:lnTo>
                    <a:lnTo>
                      <a:pt x="301" y="18"/>
                    </a:lnTo>
                    <a:lnTo>
                      <a:pt x="301" y="22"/>
                    </a:lnTo>
                    <a:lnTo>
                      <a:pt x="311" y="14"/>
                    </a:lnTo>
                    <a:lnTo>
                      <a:pt x="322" y="11"/>
                    </a:lnTo>
                    <a:lnTo>
                      <a:pt x="319" y="3"/>
                    </a:lnTo>
                    <a:lnTo>
                      <a:pt x="319" y="11"/>
                    </a:lnTo>
                    <a:lnTo>
                      <a:pt x="333" y="11"/>
                    </a:lnTo>
                    <a:lnTo>
                      <a:pt x="348" y="11"/>
                    </a:lnTo>
                    <a:lnTo>
                      <a:pt x="362" y="14"/>
                    </a:lnTo>
                    <a:lnTo>
                      <a:pt x="362" y="7"/>
                    </a:lnTo>
                    <a:lnTo>
                      <a:pt x="362" y="14"/>
                    </a:lnTo>
                    <a:lnTo>
                      <a:pt x="373" y="22"/>
                    </a:lnTo>
                    <a:lnTo>
                      <a:pt x="384" y="25"/>
                    </a:lnTo>
                    <a:lnTo>
                      <a:pt x="395" y="32"/>
                    </a:lnTo>
                    <a:lnTo>
                      <a:pt x="395" y="25"/>
                    </a:lnTo>
                    <a:lnTo>
                      <a:pt x="391" y="29"/>
                    </a:lnTo>
                    <a:lnTo>
                      <a:pt x="399" y="40"/>
                    </a:lnTo>
                    <a:lnTo>
                      <a:pt x="399" y="40"/>
                    </a:lnTo>
                    <a:lnTo>
                      <a:pt x="399" y="40"/>
                    </a:lnTo>
                    <a:lnTo>
                      <a:pt x="406" y="47"/>
                    </a:lnTo>
                    <a:lnTo>
                      <a:pt x="409" y="43"/>
                    </a:lnTo>
                    <a:lnTo>
                      <a:pt x="406" y="47"/>
                    </a:lnTo>
                    <a:lnTo>
                      <a:pt x="413" y="58"/>
                    </a:lnTo>
                    <a:lnTo>
                      <a:pt x="417" y="69"/>
                    </a:lnTo>
                    <a:lnTo>
                      <a:pt x="420" y="80"/>
                    </a:lnTo>
                    <a:lnTo>
                      <a:pt x="424" y="76"/>
                    </a:lnTo>
                    <a:lnTo>
                      <a:pt x="420" y="76"/>
                    </a:lnTo>
                    <a:lnTo>
                      <a:pt x="420" y="87"/>
                    </a:lnTo>
                    <a:lnTo>
                      <a:pt x="420" y="101"/>
                    </a:lnTo>
                    <a:lnTo>
                      <a:pt x="424" y="101"/>
                    </a:lnTo>
                    <a:lnTo>
                      <a:pt x="420" y="101"/>
                    </a:lnTo>
                    <a:lnTo>
                      <a:pt x="417" y="109"/>
                    </a:lnTo>
                    <a:lnTo>
                      <a:pt x="413" y="120"/>
                    </a:lnTo>
                    <a:lnTo>
                      <a:pt x="409" y="130"/>
                    </a:lnTo>
                    <a:lnTo>
                      <a:pt x="402" y="141"/>
                    </a:lnTo>
                    <a:lnTo>
                      <a:pt x="406" y="141"/>
                    </a:lnTo>
                    <a:lnTo>
                      <a:pt x="402" y="138"/>
                    </a:lnTo>
                    <a:lnTo>
                      <a:pt x="388" y="152"/>
                    </a:lnTo>
                    <a:lnTo>
                      <a:pt x="377" y="167"/>
                    </a:lnTo>
                    <a:lnTo>
                      <a:pt x="380" y="170"/>
                    </a:lnTo>
                    <a:lnTo>
                      <a:pt x="380" y="167"/>
                    </a:lnTo>
                    <a:lnTo>
                      <a:pt x="373" y="170"/>
                    </a:lnTo>
                    <a:lnTo>
                      <a:pt x="370" y="170"/>
                    </a:lnTo>
                    <a:lnTo>
                      <a:pt x="370" y="174"/>
                    </a:lnTo>
                    <a:lnTo>
                      <a:pt x="366" y="181"/>
                    </a:lnTo>
                    <a:lnTo>
                      <a:pt x="362" y="188"/>
                    </a:lnTo>
                    <a:lnTo>
                      <a:pt x="366" y="188"/>
                    </a:lnTo>
                    <a:lnTo>
                      <a:pt x="362" y="185"/>
                    </a:lnTo>
                    <a:lnTo>
                      <a:pt x="359" y="188"/>
                    </a:lnTo>
                    <a:lnTo>
                      <a:pt x="359" y="192"/>
                    </a:lnTo>
                    <a:lnTo>
                      <a:pt x="359" y="192"/>
                    </a:lnTo>
                    <a:lnTo>
                      <a:pt x="359" y="199"/>
                    </a:lnTo>
                    <a:lnTo>
                      <a:pt x="359" y="203"/>
                    </a:lnTo>
                    <a:lnTo>
                      <a:pt x="359" y="210"/>
                    </a:lnTo>
                    <a:lnTo>
                      <a:pt x="359" y="214"/>
                    </a:lnTo>
                    <a:lnTo>
                      <a:pt x="359" y="217"/>
                    </a:lnTo>
                    <a:lnTo>
                      <a:pt x="359" y="217"/>
                    </a:lnTo>
                    <a:lnTo>
                      <a:pt x="362" y="225"/>
                    </a:lnTo>
                    <a:lnTo>
                      <a:pt x="362" y="225"/>
                    </a:lnTo>
                    <a:lnTo>
                      <a:pt x="362" y="225"/>
                    </a:lnTo>
                    <a:lnTo>
                      <a:pt x="366" y="228"/>
                    </a:lnTo>
                    <a:lnTo>
                      <a:pt x="370" y="232"/>
                    </a:lnTo>
                    <a:lnTo>
                      <a:pt x="377" y="239"/>
                    </a:lnTo>
                    <a:lnTo>
                      <a:pt x="380" y="243"/>
                    </a:lnTo>
                    <a:lnTo>
                      <a:pt x="380" y="243"/>
                    </a:lnTo>
                    <a:lnTo>
                      <a:pt x="391" y="246"/>
                    </a:lnTo>
                    <a:lnTo>
                      <a:pt x="402" y="254"/>
                    </a:lnTo>
                    <a:lnTo>
                      <a:pt x="413" y="257"/>
                    </a:lnTo>
                    <a:lnTo>
                      <a:pt x="406" y="254"/>
                    </a:lnTo>
                    <a:lnTo>
                      <a:pt x="413" y="257"/>
                    </a:lnTo>
                    <a:lnTo>
                      <a:pt x="428" y="261"/>
                    </a:lnTo>
                    <a:lnTo>
                      <a:pt x="446" y="265"/>
                    </a:lnTo>
                    <a:lnTo>
                      <a:pt x="460" y="268"/>
                    </a:lnTo>
                    <a:lnTo>
                      <a:pt x="482" y="268"/>
                    </a:lnTo>
                    <a:lnTo>
                      <a:pt x="500" y="268"/>
                    </a:lnTo>
                    <a:lnTo>
                      <a:pt x="518" y="268"/>
                    </a:lnTo>
                    <a:lnTo>
                      <a:pt x="536" y="268"/>
                    </a:lnTo>
                    <a:lnTo>
                      <a:pt x="554" y="268"/>
                    </a:lnTo>
                    <a:lnTo>
                      <a:pt x="573" y="265"/>
                    </a:lnTo>
                    <a:lnTo>
                      <a:pt x="591" y="261"/>
                    </a:lnTo>
                    <a:lnTo>
                      <a:pt x="605" y="257"/>
                    </a:lnTo>
                    <a:lnTo>
                      <a:pt x="609" y="254"/>
                    </a:lnTo>
                    <a:lnTo>
                      <a:pt x="609" y="257"/>
                    </a:lnTo>
                    <a:lnTo>
                      <a:pt x="623" y="250"/>
                    </a:lnTo>
                    <a:lnTo>
                      <a:pt x="634" y="243"/>
                    </a:lnTo>
                    <a:lnTo>
                      <a:pt x="631" y="236"/>
                    </a:lnTo>
                    <a:lnTo>
                      <a:pt x="627" y="236"/>
                    </a:lnTo>
                    <a:lnTo>
                      <a:pt x="627" y="243"/>
                    </a:lnTo>
                    <a:lnTo>
                      <a:pt x="627" y="254"/>
                    </a:lnTo>
                    <a:lnTo>
                      <a:pt x="627" y="268"/>
                    </a:lnTo>
                    <a:lnTo>
                      <a:pt x="627" y="283"/>
                    </a:lnTo>
                    <a:lnTo>
                      <a:pt x="631" y="319"/>
                    </a:lnTo>
                    <a:lnTo>
                      <a:pt x="634" y="363"/>
                    </a:lnTo>
                    <a:lnTo>
                      <a:pt x="638" y="384"/>
                    </a:lnTo>
                    <a:lnTo>
                      <a:pt x="638" y="402"/>
                    </a:lnTo>
                    <a:lnTo>
                      <a:pt x="641" y="424"/>
                    </a:lnTo>
                    <a:lnTo>
                      <a:pt x="641" y="442"/>
                    </a:lnTo>
                    <a:lnTo>
                      <a:pt x="641" y="457"/>
                    </a:lnTo>
                    <a:lnTo>
                      <a:pt x="645" y="457"/>
                    </a:lnTo>
                    <a:lnTo>
                      <a:pt x="641" y="457"/>
                    </a:lnTo>
                    <a:lnTo>
                      <a:pt x="638" y="471"/>
                    </a:lnTo>
                    <a:lnTo>
                      <a:pt x="634" y="479"/>
                    </a:lnTo>
                    <a:lnTo>
                      <a:pt x="634" y="479"/>
                    </a:lnTo>
                    <a:lnTo>
                      <a:pt x="634" y="479"/>
                    </a:lnTo>
                    <a:lnTo>
                      <a:pt x="634" y="482"/>
                    </a:lnTo>
                    <a:lnTo>
                      <a:pt x="638" y="482"/>
                    </a:lnTo>
                    <a:lnTo>
                      <a:pt x="634" y="479"/>
                    </a:lnTo>
                    <a:lnTo>
                      <a:pt x="631" y="482"/>
                    </a:lnTo>
                    <a:lnTo>
                      <a:pt x="627" y="486"/>
                    </a:lnTo>
                    <a:lnTo>
                      <a:pt x="623" y="489"/>
                    </a:lnTo>
                    <a:lnTo>
                      <a:pt x="627" y="493"/>
                    </a:lnTo>
                    <a:lnTo>
                      <a:pt x="627" y="489"/>
                    </a:lnTo>
                    <a:lnTo>
                      <a:pt x="620" y="493"/>
                    </a:lnTo>
                    <a:lnTo>
                      <a:pt x="612" y="497"/>
                    </a:lnTo>
                    <a:lnTo>
                      <a:pt x="612" y="500"/>
                    </a:lnTo>
                    <a:lnTo>
                      <a:pt x="612" y="497"/>
                    </a:lnTo>
                    <a:lnTo>
                      <a:pt x="609" y="497"/>
                    </a:lnTo>
                    <a:lnTo>
                      <a:pt x="609" y="497"/>
                    </a:lnTo>
                    <a:lnTo>
                      <a:pt x="609" y="497"/>
                    </a:lnTo>
                    <a:lnTo>
                      <a:pt x="602" y="500"/>
                    </a:lnTo>
                    <a:lnTo>
                      <a:pt x="602" y="504"/>
                    </a:lnTo>
                    <a:lnTo>
                      <a:pt x="602" y="500"/>
                    </a:lnTo>
                    <a:lnTo>
                      <a:pt x="594" y="500"/>
                    </a:lnTo>
                    <a:lnTo>
                      <a:pt x="594" y="504"/>
                    </a:lnTo>
                    <a:lnTo>
                      <a:pt x="598" y="500"/>
                    </a:lnTo>
                    <a:lnTo>
                      <a:pt x="594" y="497"/>
                    </a:lnTo>
                    <a:lnTo>
                      <a:pt x="594" y="497"/>
                    </a:lnTo>
                    <a:lnTo>
                      <a:pt x="591" y="497"/>
                    </a:lnTo>
                    <a:lnTo>
                      <a:pt x="583" y="497"/>
                    </a:lnTo>
                    <a:lnTo>
                      <a:pt x="569" y="493"/>
                    </a:lnTo>
                    <a:lnTo>
                      <a:pt x="569" y="497"/>
                    </a:lnTo>
                    <a:lnTo>
                      <a:pt x="573" y="493"/>
                    </a:lnTo>
                    <a:lnTo>
                      <a:pt x="562" y="486"/>
                    </a:lnTo>
                    <a:lnTo>
                      <a:pt x="551" y="479"/>
                    </a:lnTo>
                    <a:lnTo>
                      <a:pt x="536" y="471"/>
                    </a:lnTo>
                    <a:lnTo>
                      <a:pt x="525" y="468"/>
                    </a:lnTo>
                    <a:lnTo>
                      <a:pt x="511" y="460"/>
                    </a:lnTo>
                    <a:lnTo>
                      <a:pt x="511" y="460"/>
                    </a:lnTo>
                    <a:lnTo>
                      <a:pt x="507" y="460"/>
                    </a:lnTo>
                    <a:lnTo>
                      <a:pt x="500" y="460"/>
                    </a:lnTo>
                    <a:lnTo>
                      <a:pt x="500" y="464"/>
                    </a:lnTo>
                    <a:lnTo>
                      <a:pt x="504" y="460"/>
                    </a:lnTo>
                    <a:lnTo>
                      <a:pt x="496" y="457"/>
                    </a:lnTo>
                    <a:lnTo>
                      <a:pt x="496" y="457"/>
                    </a:lnTo>
                    <a:lnTo>
                      <a:pt x="493" y="457"/>
                    </a:lnTo>
                    <a:lnTo>
                      <a:pt x="489" y="457"/>
                    </a:lnTo>
                    <a:lnTo>
                      <a:pt x="482" y="457"/>
                    </a:lnTo>
                    <a:lnTo>
                      <a:pt x="482" y="457"/>
                    </a:lnTo>
                    <a:lnTo>
                      <a:pt x="482" y="457"/>
                    </a:lnTo>
                    <a:lnTo>
                      <a:pt x="475" y="460"/>
                    </a:lnTo>
                    <a:lnTo>
                      <a:pt x="467" y="464"/>
                    </a:lnTo>
                    <a:lnTo>
                      <a:pt x="460" y="468"/>
                    </a:lnTo>
                    <a:lnTo>
                      <a:pt x="453" y="471"/>
                    </a:lnTo>
                    <a:lnTo>
                      <a:pt x="446" y="475"/>
                    </a:lnTo>
                    <a:lnTo>
                      <a:pt x="446" y="475"/>
                    </a:lnTo>
                    <a:lnTo>
                      <a:pt x="442" y="475"/>
                    </a:lnTo>
                    <a:lnTo>
                      <a:pt x="435" y="482"/>
                    </a:lnTo>
                    <a:lnTo>
                      <a:pt x="435" y="486"/>
                    </a:lnTo>
                    <a:lnTo>
                      <a:pt x="435" y="486"/>
                    </a:lnTo>
                    <a:lnTo>
                      <a:pt x="428" y="497"/>
                    </a:lnTo>
                    <a:lnTo>
                      <a:pt x="424" y="508"/>
                    </a:lnTo>
                    <a:lnTo>
                      <a:pt x="420" y="515"/>
                    </a:lnTo>
                    <a:lnTo>
                      <a:pt x="417" y="522"/>
                    </a:lnTo>
                    <a:lnTo>
                      <a:pt x="417" y="522"/>
                    </a:lnTo>
                    <a:lnTo>
                      <a:pt x="417" y="522"/>
                    </a:lnTo>
                    <a:lnTo>
                      <a:pt x="417" y="529"/>
                    </a:lnTo>
                    <a:lnTo>
                      <a:pt x="417" y="540"/>
                    </a:lnTo>
                    <a:lnTo>
                      <a:pt x="417" y="548"/>
                    </a:lnTo>
                    <a:lnTo>
                      <a:pt x="417" y="551"/>
                    </a:lnTo>
                    <a:lnTo>
                      <a:pt x="417" y="551"/>
                    </a:lnTo>
                    <a:lnTo>
                      <a:pt x="420" y="562"/>
                    </a:lnTo>
                    <a:lnTo>
                      <a:pt x="424" y="573"/>
                    </a:lnTo>
                    <a:lnTo>
                      <a:pt x="424" y="573"/>
                    </a:lnTo>
                    <a:lnTo>
                      <a:pt x="424" y="573"/>
                    </a:lnTo>
                    <a:lnTo>
                      <a:pt x="431" y="580"/>
                    </a:lnTo>
                    <a:lnTo>
                      <a:pt x="435" y="577"/>
                    </a:lnTo>
                    <a:lnTo>
                      <a:pt x="431" y="580"/>
                    </a:lnTo>
                    <a:lnTo>
                      <a:pt x="438" y="591"/>
                    </a:lnTo>
                    <a:lnTo>
                      <a:pt x="438" y="591"/>
                    </a:lnTo>
                    <a:lnTo>
                      <a:pt x="438" y="591"/>
                    </a:lnTo>
                    <a:lnTo>
                      <a:pt x="446" y="598"/>
                    </a:lnTo>
                    <a:lnTo>
                      <a:pt x="449" y="602"/>
                    </a:lnTo>
                    <a:lnTo>
                      <a:pt x="449" y="602"/>
                    </a:lnTo>
                    <a:lnTo>
                      <a:pt x="457" y="606"/>
                    </a:lnTo>
                    <a:lnTo>
                      <a:pt x="457" y="606"/>
                    </a:lnTo>
                    <a:lnTo>
                      <a:pt x="457" y="606"/>
                    </a:lnTo>
                    <a:lnTo>
                      <a:pt x="460" y="606"/>
                    </a:lnTo>
                    <a:lnTo>
                      <a:pt x="460" y="598"/>
                    </a:lnTo>
                    <a:lnTo>
                      <a:pt x="460" y="606"/>
                    </a:lnTo>
                    <a:lnTo>
                      <a:pt x="467" y="609"/>
                    </a:lnTo>
                    <a:lnTo>
                      <a:pt x="467" y="609"/>
                    </a:lnTo>
                    <a:lnTo>
                      <a:pt x="467" y="609"/>
                    </a:lnTo>
                    <a:lnTo>
                      <a:pt x="471" y="609"/>
                    </a:lnTo>
                    <a:lnTo>
                      <a:pt x="471" y="602"/>
                    </a:lnTo>
                    <a:lnTo>
                      <a:pt x="471" y="609"/>
                    </a:lnTo>
                    <a:lnTo>
                      <a:pt x="482" y="613"/>
                    </a:lnTo>
                    <a:lnTo>
                      <a:pt x="482" y="613"/>
                    </a:lnTo>
                    <a:lnTo>
                      <a:pt x="482" y="613"/>
                    </a:lnTo>
                    <a:lnTo>
                      <a:pt x="486" y="613"/>
                    </a:lnTo>
                    <a:lnTo>
                      <a:pt x="493" y="613"/>
                    </a:lnTo>
                    <a:lnTo>
                      <a:pt x="504" y="613"/>
                    </a:lnTo>
                    <a:lnTo>
                      <a:pt x="511" y="613"/>
                    </a:lnTo>
                    <a:lnTo>
                      <a:pt x="515" y="613"/>
                    </a:lnTo>
                    <a:lnTo>
                      <a:pt x="515" y="613"/>
                    </a:lnTo>
                    <a:lnTo>
                      <a:pt x="525" y="609"/>
                    </a:lnTo>
                    <a:lnTo>
                      <a:pt x="522" y="602"/>
                    </a:lnTo>
                    <a:lnTo>
                      <a:pt x="522" y="609"/>
                    </a:lnTo>
                    <a:lnTo>
                      <a:pt x="529" y="609"/>
                    </a:lnTo>
                    <a:lnTo>
                      <a:pt x="533" y="609"/>
                    </a:lnTo>
                    <a:lnTo>
                      <a:pt x="533" y="609"/>
                    </a:lnTo>
                    <a:lnTo>
                      <a:pt x="544" y="606"/>
                    </a:lnTo>
                    <a:lnTo>
                      <a:pt x="558" y="598"/>
                    </a:lnTo>
                    <a:lnTo>
                      <a:pt x="554" y="591"/>
                    </a:lnTo>
                    <a:lnTo>
                      <a:pt x="554" y="598"/>
                    </a:lnTo>
                    <a:lnTo>
                      <a:pt x="569" y="595"/>
                    </a:lnTo>
                    <a:lnTo>
                      <a:pt x="583" y="591"/>
                    </a:lnTo>
                    <a:lnTo>
                      <a:pt x="594" y="591"/>
                    </a:lnTo>
                    <a:lnTo>
                      <a:pt x="602" y="591"/>
                    </a:lnTo>
                    <a:lnTo>
                      <a:pt x="602" y="584"/>
                    </a:lnTo>
                    <a:lnTo>
                      <a:pt x="598" y="587"/>
                    </a:lnTo>
                    <a:lnTo>
                      <a:pt x="602" y="591"/>
                    </a:lnTo>
                    <a:lnTo>
                      <a:pt x="605" y="595"/>
                    </a:lnTo>
                    <a:lnTo>
                      <a:pt x="605" y="595"/>
                    </a:lnTo>
                    <a:lnTo>
                      <a:pt x="609" y="595"/>
                    </a:lnTo>
                    <a:lnTo>
                      <a:pt x="609" y="587"/>
                    </a:lnTo>
                    <a:lnTo>
                      <a:pt x="609" y="595"/>
                    </a:lnTo>
                    <a:lnTo>
                      <a:pt x="616" y="598"/>
                    </a:lnTo>
                    <a:lnTo>
                      <a:pt x="616" y="591"/>
                    </a:lnTo>
                    <a:lnTo>
                      <a:pt x="612" y="595"/>
                    </a:lnTo>
                    <a:lnTo>
                      <a:pt x="616" y="598"/>
                    </a:lnTo>
                    <a:lnTo>
                      <a:pt x="620" y="595"/>
                    </a:lnTo>
                    <a:lnTo>
                      <a:pt x="616" y="598"/>
                    </a:lnTo>
                    <a:lnTo>
                      <a:pt x="620" y="606"/>
                    </a:lnTo>
                    <a:lnTo>
                      <a:pt x="620" y="606"/>
                    </a:lnTo>
                    <a:lnTo>
                      <a:pt x="620" y="606"/>
                    </a:lnTo>
                    <a:lnTo>
                      <a:pt x="623" y="609"/>
                    </a:lnTo>
                    <a:lnTo>
                      <a:pt x="627" y="606"/>
                    </a:lnTo>
                    <a:lnTo>
                      <a:pt x="623" y="609"/>
                    </a:lnTo>
                    <a:lnTo>
                      <a:pt x="627" y="620"/>
                    </a:lnTo>
                    <a:lnTo>
                      <a:pt x="631" y="627"/>
                    </a:lnTo>
                    <a:lnTo>
                      <a:pt x="634" y="638"/>
                    </a:lnTo>
                    <a:lnTo>
                      <a:pt x="638" y="649"/>
                    </a:lnTo>
                    <a:lnTo>
                      <a:pt x="641" y="660"/>
                    </a:lnTo>
                    <a:lnTo>
                      <a:pt x="645" y="656"/>
                    </a:lnTo>
                    <a:lnTo>
                      <a:pt x="641" y="656"/>
                    </a:lnTo>
                    <a:lnTo>
                      <a:pt x="641" y="671"/>
                    </a:lnTo>
                    <a:lnTo>
                      <a:pt x="641" y="674"/>
                    </a:lnTo>
                    <a:lnTo>
                      <a:pt x="641" y="674"/>
                    </a:lnTo>
                    <a:lnTo>
                      <a:pt x="645" y="689"/>
                    </a:lnTo>
                    <a:lnTo>
                      <a:pt x="649" y="685"/>
                    </a:lnTo>
                    <a:lnTo>
                      <a:pt x="645" y="685"/>
                    </a:lnTo>
                    <a:lnTo>
                      <a:pt x="645" y="700"/>
                    </a:lnTo>
                    <a:lnTo>
                      <a:pt x="645" y="714"/>
                    </a:lnTo>
                    <a:lnTo>
                      <a:pt x="645" y="729"/>
                    </a:lnTo>
                    <a:lnTo>
                      <a:pt x="645" y="743"/>
                    </a:lnTo>
                    <a:lnTo>
                      <a:pt x="645" y="758"/>
                    </a:lnTo>
                    <a:lnTo>
                      <a:pt x="649" y="758"/>
                    </a:lnTo>
                    <a:lnTo>
                      <a:pt x="645" y="758"/>
                    </a:lnTo>
                    <a:lnTo>
                      <a:pt x="641" y="772"/>
                    </a:lnTo>
                    <a:lnTo>
                      <a:pt x="638" y="787"/>
                    </a:lnTo>
                    <a:lnTo>
                      <a:pt x="634" y="801"/>
                    </a:lnTo>
                    <a:lnTo>
                      <a:pt x="631" y="816"/>
                    </a:lnTo>
                    <a:lnTo>
                      <a:pt x="623" y="827"/>
                    </a:lnTo>
                    <a:lnTo>
                      <a:pt x="627" y="827"/>
                    </a:lnTo>
                    <a:lnTo>
                      <a:pt x="627" y="823"/>
                    </a:lnTo>
                    <a:lnTo>
                      <a:pt x="594" y="823"/>
                    </a:lnTo>
                    <a:lnTo>
                      <a:pt x="565" y="820"/>
                    </a:lnTo>
                    <a:lnTo>
                      <a:pt x="536" y="820"/>
                    </a:lnTo>
                    <a:lnTo>
                      <a:pt x="507" y="816"/>
                    </a:lnTo>
                    <a:lnTo>
                      <a:pt x="482" y="812"/>
                    </a:lnTo>
                    <a:lnTo>
                      <a:pt x="464" y="812"/>
                    </a:lnTo>
                    <a:lnTo>
                      <a:pt x="446" y="809"/>
                    </a:lnTo>
                    <a:lnTo>
                      <a:pt x="435" y="809"/>
                    </a:lnTo>
                    <a:lnTo>
                      <a:pt x="431" y="809"/>
                    </a:lnTo>
                    <a:lnTo>
                      <a:pt x="431" y="809"/>
                    </a:lnTo>
                    <a:lnTo>
                      <a:pt x="431" y="809"/>
                    </a:lnTo>
                    <a:lnTo>
                      <a:pt x="424" y="812"/>
                    </a:lnTo>
                    <a:lnTo>
                      <a:pt x="417" y="816"/>
                    </a:lnTo>
                    <a:lnTo>
                      <a:pt x="413" y="816"/>
                    </a:lnTo>
                    <a:lnTo>
                      <a:pt x="413" y="820"/>
                    </a:lnTo>
                    <a:lnTo>
                      <a:pt x="409" y="827"/>
                    </a:lnTo>
                    <a:lnTo>
                      <a:pt x="413" y="827"/>
                    </a:lnTo>
                    <a:lnTo>
                      <a:pt x="413" y="823"/>
                    </a:lnTo>
                    <a:lnTo>
                      <a:pt x="406" y="827"/>
                    </a:lnTo>
                    <a:lnTo>
                      <a:pt x="402" y="827"/>
                    </a:lnTo>
                    <a:lnTo>
                      <a:pt x="402" y="830"/>
                    </a:lnTo>
                    <a:lnTo>
                      <a:pt x="399" y="838"/>
                    </a:lnTo>
                    <a:lnTo>
                      <a:pt x="395" y="849"/>
                    </a:lnTo>
                    <a:lnTo>
                      <a:pt x="391" y="856"/>
                    </a:lnTo>
                    <a:lnTo>
                      <a:pt x="391" y="856"/>
                    </a:lnTo>
                    <a:lnTo>
                      <a:pt x="391" y="856"/>
                    </a:lnTo>
                    <a:lnTo>
                      <a:pt x="391" y="867"/>
                    </a:lnTo>
                    <a:lnTo>
                      <a:pt x="391" y="874"/>
                    </a:lnTo>
                    <a:lnTo>
                      <a:pt x="391" y="885"/>
                    </a:lnTo>
                    <a:lnTo>
                      <a:pt x="391" y="896"/>
                    </a:lnTo>
                    <a:lnTo>
                      <a:pt x="391" y="899"/>
                    </a:lnTo>
                    <a:lnTo>
                      <a:pt x="391" y="899"/>
                    </a:lnTo>
                    <a:lnTo>
                      <a:pt x="395" y="910"/>
                    </a:lnTo>
                    <a:lnTo>
                      <a:pt x="402" y="921"/>
                    </a:lnTo>
                    <a:lnTo>
                      <a:pt x="406" y="928"/>
                    </a:lnTo>
                    <a:lnTo>
                      <a:pt x="413" y="939"/>
                    </a:lnTo>
                    <a:lnTo>
                      <a:pt x="413" y="939"/>
                    </a:lnTo>
                    <a:lnTo>
                      <a:pt x="417" y="943"/>
                    </a:lnTo>
                    <a:lnTo>
                      <a:pt x="428" y="950"/>
                    </a:lnTo>
                    <a:lnTo>
                      <a:pt x="428" y="943"/>
                    </a:lnTo>
                    <a:lnTo>
                      <a:pt x="424" y="947"/>
                    </a:lnTo>
                    <a:lnTo>
                      <a:pt x="431" y="957"/>
                    </a:lnTo>
                    <a:lnTo>
                      <a:pt x="435" y="968"/>
                    </a:lnTo>
                    <a:lnTo>
                      <a:pt x="438" y="979"/>
                    </a:lnTo>
                    <a:lnTo>
                      <a:pt x="442" y="990"/>
                    </a:lnTo>
                    <a:lnTo>
                      <a:pt x="446" y="986"/>
                    </a:lnTo>
                    <a:lnTo>
                      <a:pt x="442" y="986"/>
                    </a:lnTo>
                    <a:lnTo>
                      <a:pt x="438" y="997"/>
                    </a:lnTo>
                    <a:lnTo>
                      <a:pt x="438" y="997"/>
                    </a:lnTo>
                    <a:lnTo>
                      <a:pt x="438" y="997"/>
                    </a:lnTo>
                    <a:lnTo>
                      <a:pt x="438" y="1008"/>
                    </a:lnTo>
                    <a:lnTo>
                      <a:pt x="442" y="1008"/>
                    </a:lnTo>
                    <a:lnTo>
                      <a:pt x="438" y="1008"/>
                    </a:lnTo>
                    <a:lnTo>
                      <a:pt x="435" y="1019"/>
                    </a:lnTo>
                    <a:lnTo>
                      <a:pt x="431" y="1030"/>
                    </a:lnTo>
                    <a:lnTo>
                      <a:pt x="435" y="1030"/>
                    </a:lnTo>
                    <a:lnTo>
                      <a:pt x="431" y="1026"/>
                    </a:lnTo>
                    <a:lnTo>
                      <a:pt x="424" y="1034"/>
                    </a:lnTo>
                    <a:lnTo>
                      <a:pt x="428" y="1037"/>
                    </a:lnTo>
                    <a:lnTo>
                      <a:pt x="428" y="1034"/>
                    </a:lnTo>
                    <a:lnTo>
                      <a:pt x="417" y="1041"/>
                    </a:lnTo>
                    <a:lnTo>
                      <a:pt x="417" y="1041"/>
                    </a:lnTo>
                    <a:lnTo>
                      <a:pt x="413" y="1041"/>
                    </a:lnTo>
                    <a:lnTo>
                      <a:pt x="402" y="1052"/>
                    </a:lnTo>
                    <a:lnTo>
                      <a:pt x="406" y="1055"/>
                    </a:lnTo>
                    <a:lnTo>
                      <a:pt x="406" y="1052"/>
                    </a:lnTo>
                    <a:lnTo>
                      <a:pt x="395" y="1055"/>
                    </a:lnTo>
                    <a:lnTo>
                      <a:pt x="384" y="1063"/>
                    </a:lnTo>
                    <a:lnTo>
                      <a:pt x="384" y="1066"/>
                    </a:lnTo>
                    <a:lnTo>
                      <a:pt x="384" y="1063"/>
                    </a:lnTo>
                    <a:lnTo>
                      <a:pt x="370" y="1066"/>
                    </a:lnTo>
                    <a:lnTo>
                      <a:pt x="351" y="1066"/>
                    </a:lnTo>
                    <a:lnTo>
                      <a:pt x="344" y="1066"/>
                    </a:lnTo>
                    <a:lnTo>
                      <a:pt x="337" y="1066"/>
                    </a:lnTo>
                    <a:lnTo>
                      <a:pt x="330" y="1066"/>
                    </a:lnTo>
                    <a:lnTo>
                      <a:pt x="330" y="1070"/>
                    </a:lnTo>
                    <a:lnTo>
                      <a:pt x="333" y="1066"/>
                    </a:lnTo>
                    <a:lnTo>
                      <a:pt x="326" y="1063"/>
                    </a:lnTo>
                    <a:lnTo>
                      <a:pt x="319" y="1059"/>
                    </a:lnTo>
                    <a:lnTo>
                      <a:pt x="319" y="1059"/>
                    </a:lnTo>
                    <a:lnTo>
                      <a:pt x="315" y="1059"/>
                    </a:lnTo>
                    <a:lnTo>
                      <a:pt x="311" y="1059"/>
                    </a:lnTo>
                    <a:lnTo>
                      <a:pt x="311" y="1063"/>
                    </a:lnTo>
                    <a:lnTo>
                      <a:pt x="315" y="1059"/>
                    </a:lnTo>
                    <a:lnTo>
                      <a:pt x="308" y="1055"/>
                    </a:lnTo>
                    <a:lnTo>
                      <a:pt x="301" y="1052"/>
                    </a:lnTo>
                    <a:lnTo>
                      <a:pt x="297" y="1055"/>
                    </a:lnTo>
                    <a:lnTo>
                      <a:pt x="304" y="1055"/>
                    </a:lnTo>
                    <a:lnTo>
                      <a:pt x="297" y="1044"/>
                    </a:lnTo>
                    <a:lnTo>
                      <a:pt x="297" y="1044"/>
                    </a:lnTo>
                    <a:lnTo>
                      <a:pt x="293" y="1041"/>
                    </a:lnTo>
                    <a:lnTo>
                      <a:pt x="286" y="1034"/>
                    </a:lnTo>
                    <a:lnTo>
                      <a:pt x="282" y="1037"/>
                    </a:lnTo>
                    <a:lnTo>
                      <a:pt x="290" y="1037"/>
                    </a:lnTo>
                    <a:lnTo>
                      <a:pt x="282" y="1026"/>
                    </a:lnTo>
                    <a:lnTo>
                      <a:pt x="275" y="1015"/>
                    </a:lnTo>
                    <a:lnTo>
                      <a:pt x="272" y="1005"/>
                    </a:lnTo>
                    <a:lnTo>
                      <a:pt x="264" y="1005"/>
                    </a:lnTo>
                    <a:lnTo>
                      <a:pt x="272" y="1005"/>
                    </a:lnTo>
                    <a:lnTo>
                      <a:pt x="272" y="994"/>
                    </a:lnTo>
                    <a:lnTo>
                      <a:pt x="272" y="979"/>
                    </a:lnTo>
                    <a:lnTo>
                      <a:pt x="272" y="968"/>
                    </a:lnTo>
                    <a:lnTo>
                      <a:pt x="264" y="968"/>
                    </a:lnTo>
                    <a:lnTo>
                      <a:pt x="272" y="972"/>
                    </a:lnTo>
                    <a:lnTo>
                      <a:pt x="275" y="961"/>
                    </a:lnTo>
                    <a:lnTo>
                      <a:pt x="279" y="950"/>
                    </a:lnTo>
                    <a:lnTo>
                      <a:pt x="282" y="943"/>
                    </a:lnTo>
                    <a:lnTo>
                      <a:pt x="290" y="932"/>
                    </a:lnTo>
                    <a:lnTo>
                      <a:pt x="282" y="928"/>
                    </a:lnTo>
                    <a:lnTo>
                      <a:pt x="286" y="936"/>
                    </a:lnTo>
                    <a:lnTo>
                      <a:pt x="293" y="932"/>
                    </a:lnTo>
                    <a:lnTo>
                      <a:pt x="293" y="932"/>
                    </a:lnTo>
                    <a:lnTo>
                      <a:pt x="293" y="928"/>
                    </a:lnTo>
                    <a:lnTo>
                      <a:pt x="301" y="921"/>
                    </a:lnTo>
                    <a:lnTo>
                      <a:pt x="304" y="921"/>
                    </a:lnTo>
                    <a:lnTo>
                      <a:pt x="304" y="921"/>
                    </a:lnTo>
                    <a:lnTo>
                      <a:pt x="308" y="914"/>
                    </a:lnTo>
                    <a:lnTo>
                      <a:pt x="311" y="907"/>
                    </a:lnTo>
                    <a:lnTo>
                      <a:pt x="311" y="907"/>
                    </a:lnTo>
                    <a:lnTo>
                      <a:pt x="311" y="903"/>
                    </a:lnTo>
                    <a:lnTo>
                      <a:pt x="311" y="896"/>
                    </a:lnTo>
                    <a:lnTo>
                      <a:pt x="311" y="888"/>
                    </a:lnTo>
                    <a:lnTo>
                      <a:pt x="311" y="881"/>
                    </a:lnTo>
                    <a:lnTo>
                      <a:pt x="311" y="874"/>
                    </a:lnTo>
                    <a:lnTo>
                      <a:pt x="311" y="874"/>
                    </a:lnTo>
                    <a:lnTo>
                      <a:pt x="311" y="874"/>
                    </a:lnTo>
                    <a:lnTo>
                      <a:pt x="308" y="867"/>
                    </a:lnTo>
                    <a:lnTo>
                      <a:pt x="308" y="867"/>
                    </a:lnTo>
                    <a:lnTo>
                      <a:pt x="304" y="863"/>
                    </a:lnTo>
                    <a:lnTo>
                      <a:pt x="297" y="856"/>
                    </a:lnTo>
                    <a:lnTo>
                      <a:pt x="290" y="849"/>
                    </a:lnTo>
                    <a:lnTo>
                      <a:pt x="290" y="849"/>
                    </a:lnTo>
                    <a:lnTo>
                      <a:pt x="290" y="849"/>
                    </a:lnTo>
                    <a:lnTo>
                      <a:pt x="282" y="845"/>
                    </a:lnTo>
                    <a:lnTo>
                      <a:pt x="272" y="838"/>
                    </a:lnTo>
                    <a:lnTo>
                      <a:pt x="257" y="830"/>
                    </a:lnTo>
                    <a:lnTo>
                      <a:pt x="257" y="830"/>
                    </a:lnTo>
                    <a:lnTo>
                      <a:pt x="253" y="830"/>
                    </a:lnTo>
                    <a:lnTo>
                      <a:pt x="239" y="827"/>
                    </a:lnTo>
                    <a:lnTo>
                      <a:pt x="221" y="823"/>
                    </a:lnTo>
                    <a:lnTo>
                      <a:pt x="203" y="823"/>
                    </a:lnTo>
                    <a:lnTo>
                      <a:pt x="177" y="820"/>
                    </a:lnTo>
                    <a:lnTo>
                      <a:pt x="152" y="820"/>
                    </a:lnTo>
                    <a:lnTo>
                      <a:pt x="119" y="823"/>
                    </a:lnTo>
                    <a:lnTo>
                      <a:pt x="87" y="823"/>
                    </a:lnTo>
                    <a:lnTo>
                      <a:pt x="58" y="827"/>
                    </a:lnTo>
                    <a:lnTo>
                      <a:pt x="32" y="830"/>
                    </a:lnTo>
                    <a:lnTo>
                      <a:pt x="14" y="834"/>
                    </a:lnTo>
                    <a:lnTo>
                      <a:pt x="14" y="838"/>
                    </a:lnTo>
                    <a:lnTo>
                      <a:pt x="21" y="838"/>
                    </a:lnTo>
                    <a:lnTo>
                      <a:pt x="18" y="830"/>
                    </a:lnTo>
                    <a:lnTo>
                      <a:pt x="14" y="820"/>
                    </a:lnTo>
                    <a:lnTo>
                      <a:pt x="7" y="820"/>
                    </a:lnTo>
                    <a:lnTo>
                      <a:pt x="14" y="820"/>
                    </a:lnTo>
                    <a:lnTo>
                      <a:pt x="14" y="809"/>
                    </a:lnTo>
                    <a:lnTo>
                      <a:pt x="14" y="809"/>
                    </a:lnTo>
                    <a:lnTo>
                      <a:pt x="14" y="809"/>
                    </a:lnTo>
                    <a:lnTo>
                      <a:pt x="11" y="798"/>
                    </a:lnTo>
                    <a:lnTo>
                      <a:pt x="3" y="798"/>
                    </a:lnTo>
                    <a:lnTo>
                      <a:pt x="11" y="798"/>
                    </a:lnTo>
                    <a:lnTo>
                      <a:pt x="11" y="772"/>
                    </a:lnTo>
                    <a:lnTo>
                      <a:pt x="11" y="743"/>
                    </a:lnTo>
                    <a:lnTo>
                      <a:pt x="11" y="718"/>
                    </a:lnTo>
                    <a:lnTo>
                      <a:pt x="14" y="693"/>
                    </a:lnTo>
                    <a:lnTo>
                      <a:pt x="18" y="667"/>
                    </a:lnTo>
                    <a:lnTo>
                      <a:pt x="21" y="645"/>
                    </a:lnTo>
                    <a:lnTo>
                      <a:pt x="21" y="635"/>
                    </a:lnTo>
                    <a:lnTo>
                      <a:pt x="14" y="635"/>
                    </a:lnTo>
                    <a:lnTo>
                      <a:pt x="21" y="638"/>
                    </a:lnTo>
                    <a:lnTo>
                      <a:pt x="25" y="631"/>
                    </a:lnTo>
                    <a:lnTo>
                      <a:pt x="29" y="624"/>
                    </a:lnTo>
                    <a:lnTo>
                      <a:pt x="21" y="620"/>
                    </a:lnTo>
                    <a:lnTo>
                      <a:pt x="25" y="627"/>
                    </a:lnTo>
                    <a:lnTo>
                      <a:pt x="32" y="624"/>
                    </a:lnTo>
                    <a:lnTo>
                      <a:pt x="40" y="620"/>
                    </a:lnTo>
                    <a:lnTo>
                      <a:pt x="47" y="616"/>
                    </a:lnTo>
                    <a:lnTo>
                      <a:pt x="43" y="609"/>
                    </a:lnTo>
                    <a:lnTo>
                      <a:pt x="43" y="616"/>
                    </a:lnTo>
                    <a:lnTo>
                      <a:pt x="50" y="616"/>
                    </a:lnTo>
                    <a:lnTo>
                      <a:pt x="58" y="616"/>
                    </a:lnTo>
                    <a:lnTo>
                      <a:pt x="65" y="616"/>
                    </a:lnTo>
                    <a:lnTo>
                      <a:pt x="65" y="609"/>
                    </a:lnTo>
                    <a:lnTo>
                      <a:pt x="65" y="616"/>
                    </a:lnTo>
                    <a:lnTo>
                      <a:pt x="72" y="620"/>
                    </a:lnTo>
                    <a:lnTo>
                      <a:pt x="79" y="624"/>
                    </a:lnTo>
                    <a:lnTo>
                      <a:pt x="87" y="627"/>
                    </a:lnTo>
                    <a:lnTo>
                      <a:pt x="98" y="631"/>
                    </a:lnTo>
                    <a:lnTo>
                      <a:pt x="105" y="635"/>
                    </a:lnTo>
                    <a:lnTo>
                      <a:pt x="105" y="627"/>
                    </a:lnTo>
                    <a:lnTo>
                      <a:pt x="101" y="631"/>
                    </a:lnTo>
                    <a:lnTo>
                      <a:pt x="108" y="638"/>
                    </a:lnTo>
                    <a:lnTo>
                      <a:pt x="116" y="645"/>
                    </a:lnTo>
                    <a:lnTo>
                      <a:pt x="123" y="653"/>
                    </a:lnTo>
                    <a:lnTo>
                      <a:pt x="127" y="656"/>
                    </a:lnTo>
                    <a:lnTo>
                      <a:pt x="127" y="656"/>
                    </a:lnTo>
                    <a:lnTo>
                      <a:pt x="134" y="660"/>
                    </a:lnTo>
                    <a:lnTo>
                      <a:pt x="141" y="664"/>
                    </a:lnTo>
                    <a:lnTo>
                      <a:pt x="152" y="667"/>
                    </a:lnTo>
                    <a:lnTo>
                      <a:pt x="163" y="671"/>
                    </a:lnTo>
                    <a:lnTo>
                      <a:pt x="163" y="671"/>
                    </a:lnTo>
                    <a:lnTo>
                      <a:pt x="163" y="671"/>
                    </a:lnTo>
                    <a:lnTo>
                      <a:pt x="174" y="671"/>
                    </a:lnTo>
                    <a:lnTo>
                      <a:pt x="185" y="671"/>
                    </a:lnTo>
                    <a:lnTo>
                      <a:pt x="188" y="671"/>
                    </a:lnTo>
                    <a:lnTo>
                      <a:pt x="188" y="671"/>
                    </a:lnTo>
                    <a:lnTo>
                      <a:pt x="195" y="667"/>
                    </a:lnTo>
                    <a:lnTo>
                      <a:pt x="206" y="664"/>
                    </a:lnTo>
                    <a:lnTo>
                      <a:pt x="217" y="660"/>
                    </a:lnTo>
                    <a:lnTo>
                      <a:pt x="217" y="660"/>
                    </a:lnTo>
                    <a:lnTo>
                      <a:pt x="217" y="656"/>
                    </a:lnTo>
                    <a:lnTo>
                      <a:pt x="224" y="649"/>
                    </a:lnTo>
                    <a:lnTo>
                      <a:pt x="232" y="642"/>
                    </a:lnTo>
                    <a:lnTo>
                      <a:pt x="235" y="642"/>
                    </a:lnTo>
                    <a:lnTo>
                      <a:pt x="235" y="642"/>
                    </a:lnTo>
                    <a:lnTo>
                      <a:pt x="243" y="631"/>
                    </a:lnTo>
                    <a:lnTo>
                      <a:pt x="235" y="627"/>
                    </a:lnTo>
                    <a:lnTo>
                      <a:pt x="239" y="631"/>
                    </a:lnTo>
                    <a:lnTo>
                      <a:pt x="246" y="624"/>
                    </a:lnTo>
                    <a:lnTo>
                      <a:pt x="250" y="624"/>
                    </a:lnTo>
                    <a:lnTo>
                      <a:pt x="250" y="624"/>
                    </a:lnTo>
                    <a:lnTo>
                      <a:pt x="253" y="609"/>
                    </a:lnTo>
                    <a:lnTo>
                      <a:pt x="257" y="598"/>
                    </a:lnTo>
                    <a:lnTo>
                      <a:pt x="257" y="598"/>
                    </a:lnTo>
                    <a:lnTo>
                      <a:pt x="257" y="595"/>
                    </a:lnTo>
                    <a:lnTo>
                      <a:pt x="257" y="587"/>
                    </a:lnTo>
                    <a:lnTo>
                      <a:pt x="257" y="580"/>
                    </a:lnTo>
                    <a:lnTo>
                      <a:pt x="257" y="573"/>
                    </a:lnTo>
                    <a:lnTo>
                      <a:pt x="257" y="566"/>
                    </a:lnTo>
                    <a:lnTo>
                      <a:pt x="257" y="566"/>
                    </a:lnTo>
                    <a:lnTo>
                      <a:pt x="253" y="562"/>
                    </a:lnTo>
                    <a:lnTo>
                      <a:pt x="250" y="558"/>
                    </a:lnTo>
                    <a:lnTo>
                      <a:pt x="246" y="562"/>
                    </a:lnTo>
                    <a:lnTo>
                      <a:pt x="253" y="562"/>
                    </a:lnTo>
                    <a:lnTo>
                      <a:pt x="250" y="555"/>
                    </a:lnTo>
                    <a:lnTo>
                      <a:pt x="250" y="555"/>
                    </a:lnTo>
                    <a:lnTo>
                      <a:pt x="246" y="551"/>
                    </a:lnTo>
                    <a:lnTo>
                      <a:pt x="243" y="548"/>
                    </a:lnTo>
                    <a:lnTo>
                      <a:pt x="239" y="551"/>
                    </a:lnTo>
                    <a:lnTo>
                      <a:pt x="246" y="551"/>
                    </a:lnTo>
                    <a:lnTo>
                      <a:pt x="246" y="544"/>
                    </a:lnTo>
                    <a:lnTo>
                      <a:pt x="246" y="544"/>
                    </a:lnTo>
                    <a:lnTo>
                      <a:pt x="246" y="544"/>
                    </a:lnTo>
                    <a:lnTo>
                      <a:pt x="239" y="533"/>
                    </a:lnTo>
                    <a:lnTo>
                      <a:pt x="235" y="529"/>
                    </a:lnTo>
                    <a:lnTo>
                      <a:pt x="235" y="529"/>
                    </a:lnTo>
                    <a:lnTo>
                      <a:pt x="224" y="522"/>
                    </a:lnTo>
                    <a:lnTo>
                      <a:pt x="214" y="515"/>
                    </a:lnTo>
                    <a:lnTo>
                      <a:pt x="203" y="508"/>
                    </a:lnTo>
                    <a:lnTo>
                      <a:pt x="192" y="504"/>
                    </a:lnTo>
                    <a:lnTo>
                      <a:pt x="181" y="500"/>
                    </a:lnTo>
                    <a:lnTo>
                      <a:pt x="181" y="500"/>
                    </a:lnTo>
                    <a:lnTo>
                      <a:pt x="177" y="500"/>
                    </a:lnTo>
                    <a:lnTo>
                      <a:pt x="163" y="500"/>
                    </a:lnTo>
                    <a:lnTo>
                      <a:pt x="152" y="500"/>
                    </a:lnTo>
                    <a:lnTo>
                      <a:pt x="152" y="500"/>
                    </a:lnTo>
                    <a:lnTo>
                      <a:pt x="152" y="500"/>
                    </a:lnTo>
                    <a:lnTo>
                      <a:pt x="141" y="504"/>
                    </a:lnTo>
                    <a:lnTo>
                      <a:pt x="130" y="508"/>
                    </a:lnTo>
                    <a:lnTo>
                      <a:pt x="130" y="508"/>
                    </a:lnTo>
                    <a:lnTo>
                      <a:pt x="127" y="508"/>
                    </a:lnTo>
                    <a:lnTo>
                      <a:pt x="123" y="511"/>
                    </a:lnTo>
                    <a:lnTo>
                      <a:pt x="127" y="515"/>
                    </a:lnTo>
                    <a:lnTo>
                      <a:pt x="127" y="511"/>
                    </a:lnTo>
                    <a:lnTo>
                      <a:pt x="123" y="511"/>
                    </a:lnTo>
                    <a:lnTo>
                      <a:pt x="119" y="511"/>
                    </a:lnTo>
                    <a:lnTo>
                      <a:pt x="119" y="515"/>
                    </a:lnTo>
                    <a:lnTo>
                      <a:pt x="116" y="522"/>
                    </a:lnTo>
                    <a:lnTo>
                      <a:pt x="119" y="522"/>
                    </a:lnTo>
                    <a:lnTo>
                      <a:pt x="116" y="519"/>
                    </a:lnTo>
                    <a:lnTo>
                      <a:pt x="112" y="522"/>
                    </a:lnTo>
                    <a:close/>
                  </a:path>
                </a:pathLst>
              </a:custGeom>
              <a:solidFill>
                <a:srgbClr val="ccffcc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2673360" y="2548080"/>
              <a:ext cx="108108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49440"/>
                  <a:tab algn="l" pos="1298520"/>
                  <a:tab algn="l" pos="1947960"/>
                  <a:tab algn="l" pos="2597040"/>
                  <a:tab algn="l" pos="3246480"/>
                  <a:tab algn="l" pos="3895560"/>
                  <a:tab algn="l" pos="4545000"/>
                  <a:tab algn="l" pos="5194440"/>
                  <a:tab algn="l" pos="5843520"/>
                  <a:tab algn="l" pos="6492960"/>
                  <a:tab algn="l" pos="7142040"/>
                  <a:tab algn="l" pos="7791480"/>
                  <a:tab algn="l" pos="8440560"/>
                  <a:tab algn="l" pos="9090000"/>
                  <a:tab algn="l" pos="9739440"/>
                  <a:tab algn="l" pos="10388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905040" y="1982880"/>
            <a:ext cx="2133000" cy="1682280"/>
            <a:chOff x="905040" y="1982880"/>
            <a:chExt cx="2133000" cy="1682280"/>
          </a:xfrm>
        </p:grpSpPr>
        <p:grpSp>
          <p:nvGrpSpPr>
            <p:cNvPr id="184" name=""/>
            <p:cNvGrpSpPr/>
            <p:nvPr/>
          </p:nvGrpSpPr>
          <p:grpSpPr>
            <a:xfrm>
              <a:off x="905040" y="1982880"/>
              <a:ext cx="2133000" cy="1682280"/>
              <a:chOff x="905040" y="1982880"/>
              <a:chExt cx="2133000" cy="1682280"/>
            </a:xfrm>
          </p:grpSpPr>
          <p:sp>
            <p:nvSpPr>
              <p:cNvPr id="185" name=""/>
              <p:cNvSpPr/>
              <p:nvPr/>
            </p:nvSpPr>
            <p:spPr>
              <a:xfrm>
                <a:off x="912960" y="1989000"/>
                <a:ext cx="2111400" cy="1662120"/>
              </a:xfrm>
              <a:custGeom>
                <a:avLst/>
                <a:gdLst/>
                <a:ahLst/>
                <a:rect l="l" t="t" r="r" b="b"/>
                <a:pathLst>
                  <a:path w="1073" h="831">
                    <a:moveTo>
                      <a:pt x="210" y="475"/>
                    </a:moveTo>
                    <a:lnTo>
                      <a:pt x="206" y="479"/>
                    </a:lnTo>
                    <a:lnTo>
                      <a:pt x="199" y="483"/>
                    </a:lnTo>
                    <a:lnTo>
                      <a:pt x="192" y="486"/>
                    </a:lnTo>
                    <a:lnTo>
                      <a:pt x="188" y="490"/>
                    </a:lnTo>
                    <a:lnTo>
                      <a:pt x="181" y="490"/>
                    </a:lnTo>
                    <a:lnTo>
                      <a:pt x="174" y="490"/>
                    </a:lnTo>
                    <a:lnTo>
                      <a:pt x="170" y="486"/>
                    </a:lnTo>
                    <a:lnTo>
                      <a:pt x="163" y="486"/>
                    </a:lnTo>
                    <a:lnTo>
                      <a:pt x="148" y="479"/>
                    </a:lnTo>
                    <a:lnTo>
                      <a:pt x="137" y="475"/>
                    </a:lnTo>
                    <a:lnTo>
                      <a:pt x="127" y="468"/>
                    </a:lnTo>
                    <a:lnTo>
                      <a:pt x="112" y="461"/>
                    </a:lnTo>
                    <a:lnTo>
                      <a:pt x="101" y="454"/>
                    </a:lnTo>
                    <a:lnTo>
                      <a:pt x="87" y="450"/>
                    </a:lnTo>
                    <a:lnTo>
                      <a:pt x="79" y="450"/>
                    </a:lnTo>
                    <a:lnTo>
                      <a:pt x="76" y="446"/>
                    </a:lnTo>
                    <a:lnTo>
                      <a:pt x="69" y="446"/>
                    </a:lnTo>
                    <a:lnTo>
                      <a:pt x="61" y="446"/>
                    </a:lnTo>
                    <a:lnTo>
                      <a:pt x="54" y="450"/>
                    </a:lnTo>
                    <a:lnTo>
                      <a:pt x="47" y="450"/>
                    </a:lnTo>
                    <a:lnTo>
                      <a:pt x="40" y="454"/>
                    </a:lnTo>
                    <a:lnTo>
                      <a:pt x="36" y="461"/>
                    </a:lnTo>
                    <a:lnTo>
                      <a:pt x="29" y="465"/>
                    </a:lnTo>
                    <a:lnTo>
                      <a:pt x="21" y="472"/>
                    </a:lnTo>
                    <a:lnTo>
                      <a:pt x="14" y="483"/>
                    </a:lnTo>
                    <a:lnTo>
                      <a:pt x="7" y="494"/>
                    </a:lnTo>
                    <a:lnTo>
                      <a:pt x="3" y="497"/>
                    </a:lnTo>
                    <a:lnTo>
                      <a:pt x="0" y="505"/>
                    </a:lnTo>
                    <a:lnTo>
                      <a:pt x="0" y="515"/>
                    </a:lnTo>
                    <a:lnTo>
                      <a:pt x="0" y="526"/>
                    </a:lnTo>
                    <a:lnTo>
                      <a:pt x="0" y="534"/>
                    </a:lnTo>
                    <a:lnTo>
                      <a:pt x="3" y="544"/>
                    </a:lnTo>
                    <a:lnTo>
                      <a:pt x="11" y="555"/>
                    </a:lnTo>
                    <a:lnTo>
                      <a:pt x="14" y="563"/>
                    </a:lnTo>
                    <a:lnTo>
                      <a:pt x="21" y="573"/>
                    </a:lnTo>
                    <a:lnTo>
                      <a:pt x="32" y="581"/>
                    </a:lnTo>
                    <a:lnTo>
                      <a:pt x="36" y="581"/>
                    </a:lnTo>
                    <a:lnTo>
                      <a:pt x="40" y="584"/>
                    </a:lnTo>
                    <a:lnTo>
                      <a:pt x="47" y="588"/>
                    </a:lnTo>
                    <a:lnTo>
                      <a:pt x="54" y="588"/>
                    </a:lnTo>
                    <a:lnTo>
                      <a:pt x="61" y="592"/>
                    </a:lnTo>
                    <a:lnTo>
                      <a:pt x="69" y="592"/>
                    </a:lnTo>
                    <a:lnTo>
                      <a:pt x="76" y="592"/>
                    </a:lnTo>
                    <a:lnTo>
                      <a:pt x="83" y="592"/>
                    </a:lnTo>
                    <a:lnTo>
                      <a:pt x="94" y="592"/>
                    </a:lnTo>
                    <a:lnTo>
                      <a:pt x="101" y="588"/>
                    </a:lnTo>
                    <a:lnTo>
                      <a:pt x="108" y="588"/>
                    </a:lnTo>
                    <a:lnTo>
                      <a:pt x="119" y="584"/>
                    </a:lnTo>
                    <a:lnTo>
                      <a:pt x="137" y="577"/>
                    </a:lnTo>
                    <a:lnTo>
                      <a:pt x="148" y="573"/>
                    </a:lnTo>
                    <a:lnTo>
                      <a:pt x="163" y="570"/>
                    </a:lnTo>
                    <a:lnTo>
                      <a:pt x="174" y="570"/>
                    </a:lnTo>
                    <a:lnTo>
                      <a:pt x="181" y="570"/>
                    </a:lnTo>
                    <a:lnTo>
                      <a:pt x="185" y="573"/>
                    </a:lnTo>
                    <a:lnTo>
                      <a:pt x="188" y="573"/>
                    </a:lnTo>
                    <a:lnTo>
                      <a:pt x="195" y="577"/>
                    </a:lnTo>
                    <a:lnTo>
                      <a:pt x="199" y="581"/>
                    </a:lnTo>
                    <a:lnTo>
                      <a:pt x="203" y="588"/>
                    </a:lnTo>
                    <a:lnTo>
                      <a:pt x="206" y="592"/>
                    </a:lnTo>
                    <a:lnTo>
                      <a:pt x="210" y="602"/>
                    </a:lnTo>
                    <a:lnTo>
                      <a:pt x="214" y="610"/>
                    </a:lnTo>
                    <a:lnTo>
                      <a:pt x="217" y="621"/>
                    </a:lnTo>
                    <a:lnTo>
                      <a:pt x="221" y="631"/>
                    </a:lnTo>
                    <a:lnTo>
                      <a:pt x="224" y="642"/>
                    </a:lnTo>
                    <a:lnTo>
                      <a:pt x="224" y="657"/>
                    </a:lnTo>
                    <a:lnTo>
                      <a:pt x="228" y="671"/>
                    </a:lnTo>
                    <a:lnTo>
                      <a:pt x="228" y="686"/>
                    </a:lnTo>
                    <a:lnTo>
                      <a:pt x="228" y="700"/>
                    </a:lnTo>
                    <a:lnTo>
                      <a:pt x="228" y="715"/>
                    </a:lnTo>
                    <a:lnTo>
                      <a:pt x="228" y="729"/>
                    </a:lnTo>
                    <a:lnTo>
                      <a:pt x="224" y="744"/>
                    </a:lnTo>
                    <a:lnTo>
                      <a:pt x="224" y="758"/>
                    </a:lnTo>
                    <a:lnTo>
                      <a:pt x="221" y="773"/>
                    </a:lnTo>
                    <a:lnTo>
                      <a:pt x="217" y="787"/>
                    </a:lnTo>
                    <a:lnTo>
                      <a:pt x="214" y="802"/>
                    </a:lnTo>
                    <a:lnTo>
                      <a:pt x="210" y="813"/>
                    </a:lnTo>
                    <a:lnTo>
                      <a:pt x="235" y="813"/>
                    </a:lnTo>
                    <a:lnTo>
                      <a:pt x="261" y="813"/>
                    </a:lnTo>
                    <a:lnTo>
                      <a:pt x="286" y="813"/>
                    </a:lnTo>
                    <a:lnTo>
                      <a:pt x="308" y="813"/>
                    </a:lnTo>
                    <a:lnTo>
                      <a:pt x="330" y="813"/>
                    </a:lnTo>
                    <a:lnTo>
                      <a:pt x="351" y="813"/>
                    </a:lnTo>
                    <a:lnTo>
                      <a:pt x="369" y="813"/>
                    </a:lnTo>
                    <a:lnTo>
                      <a:pt x="380" y="813"/>
                    </a:lnTo>
                    <a:lnTo>
                      <a:pt x="398" y="809"/>
                    </a:lnTo>
                    <a:lnTo>
                      <a:pt x="413" y="806"/>
                    </a:lnTo>
                    <a:lnTo>
                      <a:pt x="424" y="795"/>
                    </a:lnTo>
                    <a:lnTo>
                      <a:pt x="438" y="787"/>
                    </a:lnTo>
                    <a:lnTo>
                      <a:pt x="446" y="780"/>
                    </a:lnTo>
                    <a:lnTo>
                      <a:pt x="453" y="773"/>
                    </a:lnTo>
                    <a:lnTo>
                      <a:pt x="460" y="762"/>
                    </a:lnTo>
                    <a:lnTo>
                      <a:pt x="464" y="751"/>
                    </a:lnTo>
                    <a:lnTo>
                      <a:pt x="467" y="740"/>
                    </a:lnTo>
                    <a:lnTo>
                      <a:pt x="467" y="733"/>
                    </a:lnTo>
                    <a:lnTo>
                      <a:pt x="467" y="722"/>
                    </a:lnTo>
                    <a:lnTo>
                      <a:pt x="467" y="711"/>
                    </a:lnTo>
                    <a:lnTo>
                      <a:pt x="464" y="700"/>
                    </a:lnTo>
                    <a:lnTo>
                      <a:pt x="456" y="693"/>
                    </a:lnTo>
                    <a:lnTo>
                      <a:pt x="453" y="682"/>
                    </a:lnTo>
                    <a:lnTo>
                      <a:pt x="442" y="675"/>
                    </a:lnTo>
                    <a:lnTo>
                      <a:pt x="435" y="664"/>
                    </a:lnTo>
                    <a:lnTo>
                      <a:pt x="427" y="657"/>
                    </a:lnTo>
                    <a:lnTo>
                      <a:pt x="424" y="646"/>
                    </a:lnTo>
                    <a:lnTo>
                      <a:pt x="420" y="635"/>
                    </a:lnTo>
                    <a:lnTo>
                      <a:pt x="420" y="621"/>
                    </a:lnTo>
                    <a:lnTo>
                      <a:pt x="420" y="610"/>
                    </a:lnTo>
                    <a:lnTo>
                      <a:pt x="420" y="599"/>
                    </a:lnTo>
                    <a:lnTo>
                      <a:pt x="424" y="588"/>
                    </a:lnTo>
                    <a:lnTo>
                      <a:pt x="427" y="577"/>
                    </a:lnTo>
                    <a:lnTo>
                      <a:pt x="435" y="566"/>
                    </a:lnTo>
                    <a:lnTo>
                      <a:pt x="442" y="563"/>
                    </a:lnTo>
                    <a:lnTo>
                      <a:pt x="446" y="555"/>
                    </a:lnTo>
                    <a:lnTo>
                      <a:pt x="449" y="552"/>
                    </a:lnTo>
                    <a:lnTo>
                      <a:pt x="456" y="552"/>
                    </a:lnTo>
                    <a:lnTo>
                      <a:pt x="460" y="548"/>
                    </a:lnTo>
                    <a:lnTo>
                      <a:pt x="467" y="544"/>
                    </a:lnTo>
                    <a:lnTo>
                      <a:pt x="475" y="541"/>
                    </a:lnTo>
                    <a:lnTo>
                      <a:pt x="482" y="537"/>
                    </a:lnTo>
                    <a:lnTo>
                      <a:pt x="489" y="537"/>
                    </a:lnTo>
                    <a:lnTo>
                      <a:pt x="500" y="534"/>
                    </a:lnTo>
                    <a:lnTo>
                      <a:pt x="511" y="534"/>
                    </a:lnTo>
                    <a:lnTo>
                      <a:pt x="518" y="534"/>
                    </a:lnTo>
                    <a:lnTo>
                      <a:pt x="529" y="534"/>
                    </a:lnTo>
                    <a:lnTo>
                      <a:pt x="540" y="534"/>
                    </a:lnTo>
                    <a:lnTo>
                      <a:pt x="547" y="537"/>
                    </a:lnTo>
                    <a:lnTo>
                      <a:pt x="558" y="541"/>
                    </a:lnTo>
                    <a:lnTo>
                      <a:pt x="565" y="541"/>
                    </a:lnTo>
                    <a:lnTo>
                      <a:pt x="573" y="544"/>
                    </a:lnTo>
                    <a:lnTo>
                      <a:pt x="576" y="548"/>
                    </a:lnTo>
                    <a:lnTo>
                      <a:pt x="583" y="552"/>
                    </a:lnTo>
                    <a:lnTo>
                      <a:pt x="591" y="555"/>
                    </a:lnTo>
                    <a:lnTo>
                      <a:pt x="594" y="563"/>
                    </a:lnTo>
                    <a:lnTo>
                      <a:pt x="598" y="566"/>
                    </a:lnTo>
                    <a:lnTo>
                      <a:pt x="602" y="573"/>
                    </a:lnTo>
                    <a:lnTo>
                      <a:pt x="605" y="584"/>
                    </a:lnTo>
                    <a:lnTo>
                      <a:pt x="609" y="595"/>
                    </a:lnTo>
                    <a:lnTo>
                      <a:pt x="609" y="610"/>
                    </a:lnTo>
                    <a:lnTo>
                      <a:pt x="609" y="621"/>
                    </a:lnTo>
                    <a:lnTo>
                      <a:pt x="609" y="635"/>
                    </a:lnTo>
                    <a:lnTo>
                      <a:pt x="605" y="646"/>
                    </a:lnTo>
                    <a:lnTo>
                      <a:pt x="602" y="657"/>
                    </a:lnTo>
                    <a:lnTo>
                      <a:pt x="598" y="668"/>
                    </a:lnTo>
                    <a:lnTo>
                      <a:pt x="591" y="675"/>
                    </a:lnTo>
                    <a:lnTo>
                      <a:pt x="583" y="682"/>
                    </a:lnTo>
                    <a:lnTo>
                      <a:pt x="576" y="686"/>
                    </a:lnTo>
                    <a:lnTo>
                      <a:pt x="569" y="693"/>
                    </a:lnTo>
                    <a:lnTo>
                      <a:pt x="565" y="700"/>
                    </a:lnTo>
                    <a:lnTo>
                      <a:pt x="562" y="711"/>
                    </a:lnTo>
                    <a:lnTo>
                      <a:pt x="558" y="719"/>
                    </a:lnTo>
                    <a:lnTo>
                      <a:pt x="558" y="726"/>
                    </a:lnTo>
                    <a:lnTo>
                      <a:pt x="554" y="737"/>
                    </a:lnTo>
                    <a:lnTo>
                      <a:pt x="554" y="748"/>
                    </a:lnTo>
                    <a:lnTo>
                      <a:pt x="558" y="755"/>
                    </a:lnTo>
                    <a:lnTo>
                      <a:pt x="562" y="766"/>
                    </a:lnTo>
                    <a:lnTo>
                      <a:pt x="565" y="777"/>
                    </a:lnTo>
                    <a:lnTo>
                      <a:pt x="573" y="784"/>
                    </a:lnTo>
                    <a:lnTo>
                      <a:pt x="580" y="795"/>
                    </a:lnTo>
                    <a:lnTo>
                      <a:pt x="591" y="802"/>
                    </a:lnTo>
                    <a:lnTo>
                      <a:pt x="602" y="809"/>
                    </a:lnTo>
                    <a:lnTo>
                      <a:pt x="616" y="813"/>
                    </a:lnTo>
                    <a:lnTo>
                      <a:pt x="623" y="816"/>
                    </a:lnTo>
                    <a:lnTo>
                      <a:pt x="638" y="820"/>
                    </a:lnTo>
                    <a:lnTo>
                      <a:pt x="663" y="824"/>
                    </a:lnTo>
                    <a:lnTo>
                      <a:pt x="692" y="827"/>
                    </a:lnTo>
                    <a:lnTo>
                      <a:pt x="710" y="827"/>
                    </a:lnTo>
                    <a:lnTo>
                      <a:pt x="728" y="831"/>
                    </a:lnTo>
                    <a:lnTo>
                      <a:pt x="747" y="831"/>
                    </a:lnTo>
                    <a:lnTo>
                      <a:pt x="765" y="831"/>
                    </a:lnTo>
                    <a:lnTo>
                      <a:pt x="783" y="831"/>
                    </a:lnTo>
                    <a:lnTo>
                      <a:pt x="805" y="831"/>
                    </a:lnTo>
                    <a:lnTo>
                      <a:pt x="819" y="827"/>
                    </a:lnTo>
                    <a:lnTo>
                      <a:pt x="837" y="824"/>
                    </a:lnTo>
                    <a:lnTo>
                      <a:pt x="837" y="816"/>
                    </a:lnTo>
                    <a:lnTo>
                      <a:pt x="834" y="806"/>
                    </a:lnTo>
                    <a:lnTo>
                      <a:pt x="830" y="795"/>
                    </a:lnTo>
                    <a:lnTo>
                      <a:pt x="830" y="784"/>
                    </a:lnTo>
                    <a:lnTo>
                      <a:pt x="830" y="758"/>
                    </a:lnTo>
                    <a:lnTo>
                      <a:pt x="830" y="733"/>
                    </a:lnTo>
                    <a:lnTo>
                      <a:pt x="830" y="704"/>
                    </a:lnTo>
                    <a:lnTo>
                      <a:pt x="834" y="679"/>
                    </a:lnTo>
                    <a:lnTo>
                      <a:pt x="837" y="653"/>
                    </a:lnTo>
                    <a:lnTo>
                      <a:pt x="837" y="631"/>
                    </a:lnTo>
                    <a:lnTo>
                      <a:pt x="841" y="621"/>
                    </a:lnTo>
                    <a:lnTo>
                      <a:pt x="844" y="613"/>
                    </a:lnTo>
                    <a:lnTo>
                      <a:pt x="848" y="606"/>
                    </a:lnTo>
                    <a:lnTo>
                      <a:pt x="855" y="602"/>
                    </a:lnTo>
                    <a:lnTo>
                      <a:pt x="859" y="599"/>
                    </a:lnTo>
                    <a:lnTo>
                      <a:pt x="866" y="595"/>
                    </a:lnTo>
                    <a:lnTo>
                      <a:pt x="873" y="595"/>
                    </a:lnTo>
                    <a:lnTo>
                      <a:pt x="881" y="595"/>
                    </a:lnTo>
                    <a:lnTo>
                      <a:pt x="888" y="595"/>
                    </a:lnTo>
                    <a:lnTo>
                      <a:pt x="899" y="599"/>
                    </a:lnTo>
                    <a:lnTo>
                      <a:pt x="906" y="602"/>
                    </a:lnTo>
                    <a:lnTo>
                      <a:pt x="913" y="606"/>
                    </a:lnTo>
                    <a:lnTo>
                      <a:pt x="921" y="610"/>
                    </a:lnTo>
                    <a:lnTo>
                      <a:pt x="928" y="613"/>
                    </a:lnTo>
                    <a:lnTo>
                      <a:pt x="939" y="621"/>
                    </a:lnTo>
                    <a:lnTo>
                      <a:pt x="942" y="628"/>
                    </a:lnTo>
                    <a:lnTo>
                      <a:pt x="950" y="635"/>
                    </a:lnTo>
                    <a:lnTo>
                      <a:pt x="957" y="639"/>
                    </a:lnTo>
                    <a:lnTo>
                      <a:pt x="968" y="642"/>
                    </a:lnTo>
                    <a:lnTo>
                      <a:pt x="979" y="646"/>
                    </a:lnTo>
                    <a:lnTo>
                      <a:pt x="986" y="646"/>
                    </a:lnTo>
                    <a:lnTo>
                      <a:pt x="997" y="650"/>
                    </a:lnTo>
                    <a:lnTo>
                      <a:pt x="1008" y="646"/>
                    </a:lnTo>
                    <a:lnTo>
                      <a:pt x="1018" y="646"/>
                    </a:lnTo>
                    <a:lnTo>
                      <a:pt x="1026" y="642"/>
                    </a:lnTo>
                    <a:lnTo>
                      <a:pt x="1037" y="639"/>
                    </a:lnTo>
                    <a:lnTo>
                      <a:pt x="1044" y="631"/>
                    </a:lnTo>
                    <a:lnTo>
                      <a:pt x="1051" y="624"/>
                    </a:lnTo>
                    <a:lnTo>
                      <a:pt x="1058" y="617"/>
                    </a:lnTo>
                    <a:lnTo>
                      <a:pt x="1066" y="606"/>
                    </a:lnTo>
                    <a:lnTo>
                      <a:pt x="1069" y="595"/>
                    </a:lnTo>
                    <a:lnTo>
                      <a:pt x="1073" y="581"/>
                    </a:lnTo>
                    <a:lnTo>
                      <a:pt x="1073" y="573"/>
                    </a:lnTo>
                    <a:lnTo>
                      <a:pt x="1073" y="566"/>
                    </a:lnTo>
                    <a:lnTo>
                      <a:pt x="1073" y="559"/>
                    </a:lnTo>
                    <a:lnTo>
                      <a:pt x="1073" y="552"/>
                    </a:lnTo>
                    <a:lnTo>
                      <a:pt x="1069" y="548"/>
                    </a:lnTo>
                    <a:lnTo>
                      <a:pt x="1066" y="541"/>
                    </a:lnTo>
                    <a:lnTo>
                      <a:pt x="1066" y="534"/>
                    </a:lnTo>
                    <a:lnTo>
                      <a:pt x="1062" y="530"/>
                    </a:lnTo>
                    <a:lnTo>
                      <a:pt x="1055" y="519"/>
                    </a:lnTo>
                    <a:lnTo>
                      <a:pt x="1044" y="512"/>
                    </a:lnTo>
                    <a:lnTo>
                      <a:pt x="1033" y="505"/>
                    </a:lnTo>
                    <a:lnTo>
                      <a:pt x="1022" y="497"/>
                    </a:lnTo>
                    <a:lnTo>
                      <a:pt x="1011" y="494"/>
                    </a:lnTo>
                    <a:lnTo>
                      <a:pt x="1000" y="490"/>
                    </a:lnTo>
                    <a:lnTo>
                      <a:pt x="986" y="490"/>
                    </a:lnTo>
                    <a:lnTo>
                      <a:pt x="975" y="490"/>
                    </a:lnTo>
                    <a:lnTo>
                      <a:pt x="964" y="494"/>
                    </a:lnTo>
                    <a:lnTo>
                      <a:pt x="953" y="497"/>
                    </a:lnTo>
                    <a:lnTo>
                      <a:pt x="950" y="497"/>
                    </a:lnTo>
                    <a:lnTo>
                      <a:pt x="946" y="501"/>
                    </a:lnTo>
                    <a:lnTo>
                      <a:pt x="942" y="505"/>
                    </a:lnTo>
                    <a:lnTo>
                      <a:pt x="939" y="512"/>
                    </a:lnTo>
                    <a:lnTo>
                      <a:pt x="931" y="519"/>
                    </a:lnTo>
                    <a:lnTo>
                      <a:pt x="924" y="526"/>
                    </a:lnTo>
                    <a:lnTo>
                      <a:pt x="917" y="530"/>
                    </a:lnTo>
                    <a:lnTo>
                      <a:pt x="910" y="534"/>
                    </a:lnTo>
                    <a:lnTo>
                      <a:pt x="902" y="534"/>
                    </a:lnTo>
                    <a:lnTo>
                      <a:pt x="892" y="534"/>
                    </a:lnTo>
                    <a:lnTo>
                      <a:pt x="884" y="534"/>
                    </a:lnTo>
                    <a:lnTo>
                      <a:pt x="877" y="530"/>
                    </a:lnTo>
                    <a:lnTo>
                      <a:pt x="870" y="530"/>
                    </a:lnTo>
                    <a:lnTo>
                      <a:pt x="863" y="526"/>
                    </a:lnTo>
                    <a:lnTo>
                      <a:pt x="855" y="519"/>
                    </a:lnTo>
                    <a:lnTo>
                      <a:pt x="848" y="515"/>
                    </a:lnTo>
                    <a:lnTo>
                      <a:pt x="844" y="512"/>
                    </a:lnTo>
                    <a:lnTo>
                      <a:pt x="841" y="505"/>
                    </a:lnTo>
                    <a:lnTo>
                      <a:pt x="837" y="501"/>
                    </a:lnTo>
                    <a:lnTo>
                      <a:pt x="837" y="494"/>
                    </a:lnTo>
                    <a:lnTo>
                      <a:pt x="837" y="475"/>
                    </a:lnTo>
                    <a:lnTo>
                      <a:pt x="837" y="450"/>
                    </a:lnTo>
                    <a:lnTo>
                      <a:pt x="837" y="410"/>
                    </a:lnTo>
                    <a:lnTo>
                      <a:pt x="837" y="370"/>
                    </a:lnTo>
                    <a:lnTo>
                      <a:pt x="837" y="330"/>
                    </a:lnTo>
                    <a:lnTo>
                      <a:pt x="837" y="287"/>
                    </a:lnTo>
                    <a:lnTo>
                      <a:pt x="837" y="251"/>
                    </a:lnTo>
                    <a:lnTo>
                      <a:pt x="837" y="222"/>
                    </a:lnTo>
                    <a:lnTo>
                      <a:pt x="826" y="225"/>
                    </a:lnTo>
                    <a:lnTo>
                      <a:pt x="815" y="232"/>
                    </a:lnTo>
                    <a:lnTo>
                      <a:pt x="801" y="236"/>
                    </a:lnTo>
                    <a:lnTo>
                      <a:pt x="786" y="240"/>
                    </a:lnTo>
                    <a:lnTo>
                      <a:pt x="772" y="243"/>
                    </a:lnTo>
                    <a:lnTo>
                      <a:pt x="757" y="243"/>
                    </a:lnTo>
                    <a:lnTo>
                      <a:pt x="739" y="243"/>
                    </a:lnTo>
                    <a:lnTo>
                      <a:pt x="721" y="243"/>
                    </a:lnTo>
                    <a:lnTo>
                      <a:pt x="707" y="243"/>
                    </a:lnTo>
                    <a:lnTo>
                      <a:pt x="689" y="243"/>
                    </a:lnTo>
                    <a:lnTo>
                      <a:pt x="670" y="240"/>
                    </a:lnTo>
                    <a:lnTo>
                      <a:pt x="656" y="236"/>
                    </a:lnTo>
                    <a:lnTo>
                      <a:pt x="641" y="232"/>
                    </a:lnTo>
                    <a:lnTo>
                      <a:pt x="627" y="229"/>
                    </a:lnTo>
                    <a:lnTo>
                      <a:pt x="612" y="225"/>
                    </a:lnTo>
                    <a:lnTo>
                      <a:pt x="602" y="222"/>
                    </a:lnTo>
                    <a:lnTo>
                      <a:pt x="594" y="218"/>
                    </a:lnTo>
                    <a:lnTo>
                      <a:pt x="587" y="211"/>
                    </a:lnTo>
                    <a:lnTo>
                      <a:pt x="580" y="207"/>
                    </a:lnTo>
                    <a:lnTo>
                      <a:pt x="573" y="203"/>
                    </a:lnTo>
                    <a:lnTo>
                      <a:pt x="569" y="200"/>
                    </a:lnTo>
                    <a:lnTo>
                      <a:pt x="565" y="196"/>
                    </a:lnTo>
                    <a:lnTo>
                      <a:pt x="565" y="189"/>
                    </a:lnTo>
                    <a:lnTo>
                      <a:pt x="565" y="185"/>
                    </a:lnTo>
                    <a:lnTo>
                      <a:pt x="565" y="182"/>
                    </a:lnTo>
                    <a:lnTo>
                      <a:pt x="565" y="174"/>
                    </a:lnTo>
                    <a:lnTo>
                      <a:pt x="569" y="171"/>
                    </a:lnTo>
                    <a:lnTo>
                      <a:pt x="573" y="164"/>
                    </a:lnTo>
                    <a:lnTo>
                      <a:pt x="580" y="149"/>
                    </a:lnTo>
                    <a:lnTo>
                      <a:pt x="594" y="135"/>
                    </a:lnTo>
                    <a:lnTo>
                      <a:pt x="602" y="127"/>
                    </a:lnTo>
                    <a:lnTo>
                      <a:pt x="609" y="116"/>
                    </a:lnTo>
                    <a:lnTo>
                      <a:pt x="612" y="106"/>
                    </a:lnTo>
                    <a:lnTo>
                      <a:pt x="616" y="95"/>
                    </a:lnTo>
                    <a:lnTo>
                      <a:pt x="616" y="84"/>
                    </a:lnTo>
                    <a:lnTo>
                      <a:pt x="616" y="73"/>
                    </a:lnTo>
                    <a:lnTo>
                      <a:pt x="616" y="62"/>
                    </a:lnTo>
                    <a:lnTo>
                      <a:pt x="612" y="51"/>
                    </a:lnTo>
                    <a:lnTo>
                      <a:pt x="609" y="40"/>
                    </a:lnTo>
                    <a:lnTo>
                      <a:pt x="602" y="29"/>
                    </a:lnTo>
                    <a:lnTo>
                      <a:pt x="598" y="26"/>
                    </a:lnTo>
                    <a:lnTo>
                      <a:pt x="591" y="22"/>
                    </a:lnTo>
                    <a:lnTo>
                      <a:pt x="587" y="18"/>
                    </a:lnTo>
                    <a:lnTo>
                      <a:pt x="580" y="15"/>
                    </a:lnTo>
                    <a:lnTo>
                      <a:pt x="576" y="11"/>
                    </a:lnTo>
                    <a:lnTo>
                      <a:pt x="569" y="8"/>
                    </a:lnTo>
                    <a:lnTo>
                      <a:pt x="562" y="8"/>
                    </a:lnTo>
                    <a:lnTo>
                      <a:pt x="554" y="4"/>
                    </a:lnTo>
                    <a:lnTo>
                      <a:pt x="544" y="4"/>
                    </a:lnTo>
                    <a:lnTo>
                      <a:pt x="536" y="0"/>
                    </a:lnTo>
                    <a:lnTo>
                      <a:pt x="529" y="0"/>
                    </a:lnTo>
                    <a:lnTo>
                      <a:pt x="518" y="0"/>
                    </a:lnTo>
                    <a:lnTo>
                      <a:pt x="511" y="0"/>
                    </a:lnTo>
                    <a:lnTo>
                      <a:pt x="500" y="4"/>
                    </a:lnTo>
                    <a:lnTo>
                      <a:pt x="493" y="4"/>
                    </a:lnTo>
                    <a:lnTo>
                      <a:pt x="485" y="4"/>
                    </a:lnTo>
                    <a:lnTo>
                      <a:pt x="482" y="8"/>
                    </a:lnTo>
                    <a:lnTo>
                      <a:pt x="475" y="11"/>
                    </a:lnTo>
                    <a:lnTo>
                      <a:pt x="471" y="15"/>
                    </a:lnTo>
                    <a:lnTo>
                      <a:pt x="464" y="18"/>
                    </a:lnTo>
                    <a:lnTo>
                      <a:pt x="460" y="22"/>
                    </a:lnTo>
                    <a:lnTo>
                      <a:pt x="456" y="26"/>
                    </a:lnTo>
                    <a:lnTo>
                      <a:pt x="453" y="29"/>
                    </a:lnTo>
                    <a:lnTo>
                      <a:pt x="449" y="37"/>
                    </a:lnTo>
                    <a:lnTo>
                      <a:pt x="446" y="47"/>
                    </a:lnTo>
                    <a:lnTo>
                      <a:pt x="442" y="58"/>
                    </a:lnTo>
                    <a:lnTo>
                      <a:pt x="442" y="69"/>
                    </a:lnTo>
                    <a:lnTo>
                      <a:pt x="442" y="80"/>
                    </a:lnTo>
                    <a:lnTo>
                      <a:pt x="442" y="95"/>
                    </a:lnTo>
                    <a:lnTo>
                      <a:pt x="446" y="106"/>
                    </a:lnTo>
                    <a:lnTo>
                      <a:pt x="449" y="120"/>
                    </a:lnTo>
                    <a:lnTo>
                      <a:pt x="456" y="131"/>
                    </a:lnTo>
                    <a:lnTo>
                      <a:pt x="460" y="142"/>
                    </a:lnTo>
                    <a:lnTo>
                      <a:pt x="471" y="149"/>
                    </a:lnTo>
                    <a:lnTo>
                      <a:pt x="475" y="156"/>
                    </a:lnTo>
                    <a:lnTo>
                      <a:pt x="482" y="164"/>
                    </a:lnTo>
                    <a:lnTo>
                      <a:pt x="482" y="171"/>
                    </a:lnTo>
                    <a:lnTo>
                      <a:pt x="485" y="178"/>
                    </a:lnTo>
                    <a:lnTo>
                      <a:pt x="485" y="185"/>
                    </a:lnTo>
                    <a:lnTo>
                      <a:pt x="485" y="193"/>
                    </a:lnTo>
                    <a:lnTo>
                      <a:pt x="482" y="200"/>
                    </a:lnTo>
                    <a:lnTo>
                      <a:pt x="478" y="207"/>
                    </a:lnTo>
                    <a:lnTo>
                      <a:pt x="475" y="211"/>
                    </a:lnTo>
                    <a:lnTo>
                      <a:pt x="467" y="218"/>
                    </a:lnTo>
                    <a:lnTo>
                      <a:pt x="456" y="222"/>
                    </a:lnTo>
                    <a:lnTo>
                      <a:pt x="449" y="222"/>
                    </a:lnTo>
                    <a:lnTo>
                      <a:pt x="438" y="222"/>
                    </a:lnTo>
                    <a:lnTo>
                      <a:pt x="427" y="222"/>
                    </a:lnTo>
                    <a:lnTo>
                      <a:pt x="413" y="218"/>
                    </a:lnTo>
                    <a:lnTo>
                      <a:pt x="398" y="211"/>
                    </a:lnTo>
                    <a:lnTo>
                      <a:pt x="388" y="211"/>
                    </a:lnTo>
                    <a:lnTo>
                      <a:pt x="380" y="207"/>
                    </a:lnTo>
                    <a:lnTo>
                      <a:pt x="369" y="203"/>
                    </a:lnTo>
                    <a:lnTo>
                      <a:pt x="359" y="203"/>
                    </a:lnTo>
                    <a:lnTo>
                      <a:pt x="337" y="203"/>
                    </a:lnTo>
                    <a:lnTo>
                      <a:pt x="311" y="203"/>
                    </a:lnTo>
                    <a:lnTo>
                      <a:pt x="286" y="207"/>
                    </a:lnTo>
                    <a:lnTo>
                      <a:pt x="261" y="211"/>
                    </a:lnTo>
                    <a:lnTo>
                      <a:pt x="235" y="214"/>
                    </a:lnTo>
                    <a:lnTo>
                      <a:pt x="210" y="222"/>
                    </a:lnTo>
                    <a:lnTo>
                      <a:pt x="210" y="225"/>
                    </a:lnTo>
                    <a:lnTo>
                      <a:pt x="210" y="240"/>
                    </a:lnTo>
                    <a:lnTo>
                      <a:pt x="210" y="251"/>
                    </a:lnTo>
                    <a:lnTo>
                      <a:pt x="210" y="269"/>
                    </a:lnTo>
                    <a:lnTo>
                      <a:pt x="214" y="305"/>
                    </a:lnTo>
                    <a:lnTo>
                      <a:pt x="217" y="349"/>
                    </a:lnTo>
                    <a:lnTo>
                      <a:pt x="221" y="367"/>
                    </a:lnTo>
                    <a:lnTo>
                      <a:pt x="221" y="388"/>
                    </a:lnTo>
                    <a:lnTo>
                      <a:pt x="221" y="410"/>
                    </a:lnTo>
                    <a:lnTo>
                      <a:pt x="224" y="425"/>
                    </a:lnTo>
                    <a:lnTo>
                      <a:pt x="221" y="443"/>
                    </a:lnTo>
                    <a:lnTo>
                      <a:pt x="221" y="457"/>
                    </a:lnTo>
                    <a:lnTo>
                      <a:pt x="217" y="465"/>
                    </a:lnTo>
                    <a:lnTo>
                      <a:pt x="217" y="468"/>
                    </a:lnTo>
                    <a:lnTo>
                      <a:pt x="214" y="472"/>
                    </a:lnTo>
                    <a:lnTo>
                      <a:pt x="210" y="475"/>
                    </a:lnTo>
                    <a:close/>
                  </a:path>
                </a:pathLst>
              </a:custGeom>
              <a:solidFill>
                <a:srgbClr val="ffcc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05040" y="1982880"/>
                <a:ext cx="2133000" cy="1682280"/>
              </a:xfrm>
              <a:custGeom>
                <a:avLst/>
                <a:gdLst/>
                <a:ahLst/>
                <a:rect l="l" t="t" r="r" b="b"/>
                <a:pathLst>
                  <a:path w="1084" h="841">
                    <a:moveTo>
                      <a:pt x="207" y="478"/>
                    </a:moveTo>
                    <a:lnTo>
                      <a:pt x="210" y="482"/>
                    </a:lnTo>
                    <a:lnTo>
                      <a:pt x="210" y="478"/>
                    </a:lnTo>
                    <a:lnTo>
                      <a:pt x="203" y="482"/>
                    </a:lnTo>
                    <a:lnTo>
                      <a:pt x="196" y="486"/>
                    </a:lnTo>
                    <a:lnTo>
                      <a:pt x="196" y="486"/>
                    </a:lnTo>
                    <a:lnTo>
                      <a:pt x="192" y="486"/>
                    </a:lnTo>
                    <a:lnTo>
                      <a:pt x="189" y="489"/>
                    </a:lnTo>
                    <a:lnTo>
                      <a:pt x="192" y="493"/>
                    </a:lnTo>
                    <a:lnTo>
                      <a:pt x="192" y="489"/>
                    </a:lnTo>
                    <a:lnTo>
                      <a:pt x="185" y="489"/>
                    </a:lnTo>
                    <a:lnTo>
                      <a:pt x="178" y="489"/>
                    </a:lnTo>
                    <a:lnTo>
                      <a:pt x="178" y="493"/>
                    </a:lnTo>
                    <a:lnTo>
                      <a:pt x="181" y="489"/>
                    </a:lnTo>
                    <a:lnTo>
                      <a:pt x="178" y="486"/>
                    </a:lnTo>
                    <a:lnTo>
                      <a:pt x="178" y="486"/>
                    </a:lnTo>
                    <a:lnTo>
                      <a:pt x="174" y="486"/>
                    </a:lnTo>
                    <a:lnTo>
                      <a:pt x="167" y="486"/>
                    </a:lnTo>
                    <a:lnTo>
                      <a:pt x="167" y="489"/>
                    </a:lnTo>
                    <a:lnTo>
                      <a:pt x="170" y="486"/>
                    </a:lnTo>
                    <a:lnTo>
                      <a:pt x="156" y="478"/>
                    </a:lnTo>
                    <a:lnTo>
                      <a:pt x="145" y="475"/>
                    </a:lnTo>
                    <a:lnTo>
                      <a:pt x="134" y="468"/>
                    </a:lnTo>
                    <a:lnTo>
                      <a:pt x="120" y="460"/>
                    </a:lnTo>
                    <a:lnTo>
                      <a:pt x="109" y="453"/>
                    </a:lnTo>
                    <a:lnTo>
                      <a:pt x="109" y="453"/>
                    </a:lnTo>
                    <a:lnTo>
                      <a:pt x="105" y="453"/>
                    </a:lnTo>
                    <a:lnTo>
                      <a:pt x="91" y="449"/>
                    </a:lnTo>
                    <a:lnTo>
                      <a:pt x="83" y="449"/>
                    </a:lnTo>
                    <a:lnTo>
                      <a:pt x="83" y="453"/>
                    </a:lnTo>
                    <a:lnTo>
                      <a:pt x="87" y="449"/>
                    </a:lnTo>
                    <a:lnTo>
                      <a:pt x="83" y="446"/>
                    </a:lnTo>
                    <a:lnTo>
                      <a:pt x="83" y="446"/>
                    </a:lnTo>
                    <a:lnTo>
                      <a:pt x="80" y="446"/>
                    </a:lnTo>
                    <a:lnTo>
                      <a:pt x="73" y="446"/>
                    </a:lnTo>
                    <a:lnTo>
                      <a:pt x="65" y="446"/>
                    </a:lnTo>
                    <a:lnTo>
                      <a:pt x="65" y="446"/>
                    </a:lnTo>
                    <a:lnTo>
                      <a:pt x="65" y="446"/>
                    </a:lnTo>
                    <a:lnTo>
                      <a:pt x="58" y="449"/>
                    </a:lnTo>
                    <a:lnTo>
                      <a:pt x="58" y="453"/>
                    </a:lnTo>
                    <a:lnTo>
                      <a:pt x="58" y="449"/>
                    </a:lnTo>
                    <a:lnTo>
                      <a:pt x="51" y="449"/>
                    </a:lnTo>
                    <a:lnTo>
                      <a:pt x="51" y="449"/>
                    </a:lnTo>
                    <a:lnTo>
                      <a:pt x="51" y="449"/>
                    </a:lnTo>
                    <a:lnTo>
                      <a:pt x="44" y="453"/>
                    </a:lnTo>
                    <a:lnTo>
                      <a:pt x="40" y="453"/>
                    </a:lnTo>
                    <a:lnTo>
                      <a:pt x="40" y="457"/>
                    </a:lnTo>
                    <a:lnTo>
                      <a:pt x="36" y="464"/>
                    </a:lnTo>
                    <a:lnTo>
                      <a:pt x="40" y="464"/>
                    </a:lnTo>
                    <a:lnTo>
                      <a:pt x="40" y="460"/>
                    </a:lnTo>
                    <a:lnTo>
                      <a:pt x="33" y="464"/>
                    </a:lnTo>
                    <a:lnTo>
                      <a:pt x="33" y="464"/>
                    </a:lnTo>
                    <a:lnTo>
                      <a:pt x="29" y="464"/>
                    </a:lnTo>
                    <a:lnTo>
                      <a:pt x="22" y="471"/>
                    </a:lnTo>
                    <a:lnTo>
                      <a:pt x="22" y="475"/>
                    </a:lnTo>
                    <a:lnTo>
                      <a:pt x="22" y="475"/>
                    </a:lnTo>
                    <a:lnTo>
                      <a:pt x="15" y="486"/>
                    </a:lnTo>
                    <a:lnTo>
                      <a:pt x="7" y="497"/>
                    </a:lnTo>
                    <a:lnTo>
                      <a:pt x="11" y="497"/>
                    </a:lnTo>
                    <a:lnTo>
                      <a:pt x="7" y="493"/>
                    </a:lnTo>
                    <a:lnTo>
                      <a:pt x="4" y="497"/>
                    </a:lnTo>
                    <a:lnTo>
                      <a:pt x="4" y="500"/>
                    </a:lnTo>
                    <a:lnTo>
                      <a:pt x="4" y="500"/>
                    </a:lnTo>
                    <a:lnTo>
                      <a:pt x="0" y="508"/>
                    </a:lnTo>
                    <a:lnTo>
                      <a:pt x="0" y="508"/>
                    </a:lnTo>
                    <a:lnTo>
                      <a:pt x="0" y="508"/>
                    </a:lnTo>
                    <a:lnTo>
                      <a:pt x="0" y="518"/>
                    </a:lnTo>
                    <a:lnTo>
                      <a:pt x="0" y="529"/>
                    </a:lnTo>
                    <a:lnTo>
                      <a:pt x="0" y="537"/>
                    </a:lnTo>
                    <a:lnTo>
                      <a:pt x="0" y="540"/>
                    </a:lnTo>
                    <a:lnTo>
                      <a:pt x="0" y="540"/>
                    </a:lnTo>
                    <a:lnTo>
                      <a:pt x="4" y="551"/>
                    </a:lnTo>
                    <a:lnTo>
                      <a:pt x="11" y="562"/>
                    </a:lnTo>
                    <a:lnTo>
                      <a:pt x="15" y="569"/>
                    </a:lnTo>
                    <a:lnTo>
                      <a:pt x="22" y="580"/>
                    </a:lnTo>
                    <a:lnTo>
                      <a:pt x="22" y="580"/>
                    </a:lnTo>
                    <a:lnTo>
                      <a:pt x="25" y="584"/>
                    </a:lnTo>
                    <a:lnTo>
                      <a:pt x="36" y="591"/>
                    </a:lnTo>
                    <a:lnTo>
                      <a:pt x="36" y="591"/>
                    </a:lnTo>
                    <a:lnTo>
                      <a:pt x="36" y="591"/>
                    </a:lnTo>
                    <a:lnTo>
                      <a:pt x="40" y="591"/>
                    </a:lnTo>
                    <a:lnTo>
                      <a:pt x="40" y="584"/>
                    </a:lnTo>
                    <a:lnTo>
                      <a:pt x="36" y="587"/>
                    </a:lnTo>
                    <a:lnTo>
                      <a:pt x="40" y="591"/>
                    </a:lnTo>
                    <a:lnTo>
                      <a:pt x="44" y="595"/>
                    </a:lnTo>
                    <a:lnTo>
                      <a:pt x="44" y="595"/>
                    </a:lnTo>
                    <a:lnTo>
                      <a:pt x="51" y="598"/>
                    </a:lnTo>
                    <a:lnTo>
                      <a:pt x="51" y="598"/>
                    </a:lnTo>
                    <a:lnTo>
                      <a:pt x="51" y="598"/>
                    </a:lnTo>
                    <a:lnTo>
                      <a:pt x="58" y="598"/>
                    </a:lnTo>
                    <a:lnTo>
                      <a:pt x="58" y="591"/>
                    </a:lnTo>
                    <a:lnTo>
                      <a:pt x="58" y="598"/>
                    </a:lnTo>
                    <a:lnTo>
                      <a:pt x="65" y="602"/>
                    </a:lnTo>
                    <a:lnTo>
                      <a:pt x="65" y="602"/>
                    </a:lnTo>
                    <a:lnTo>
                      <a:pt x="65" y="602"/>
                    </a:lnTo>
                    <a:lnTo>
                      <a:pt x="73" y="602"/>
                    </a:lnTo>
                    <a:lnTo>
                      <a:pt x="80" y="602"/>
                    </a:lnTo>
                    <a:lnTo>
                      <a:pt x="87" y="602"/>
                    </a:lnTo>
                    <a:lnTo>
                      <a:pt x="98" y="602"/>
                    </a:lnTo>
                    <a:lnTo>
                      <a:pt x="98" y="602"/>
                    </a:lnTo>
                    <a:lnTo>
                      <a:pt x="102" y="602"/>
                    </a:lnTo>
                    <a:lnTo>
                      <a:pt x="109" y="598"/>
                    </a:lnTo>
                    <a:lnTo>
                      <a:pt x="105" y="591"/>
                    </a:lnTo>
                    <a:lnTo>
                      <a:pt x="105" y="598"/>
                    </a:lnTo>
                    <a:lnTo>
                      <a:pt x="112" y="598"/>
                    </a:lnTo>
                    <a:lnTo>
                      <a:pt x="116" y="598"/>
                    </a:lnTo>
                    <a:lnTo>
                      <a:pt x="116" y="598"/>
                    </a:lnTo>
                    <a:lnTo>
                      <a:pt x="127" y="595"/>
                    </a:lnTo>
                    <a:lnTo>
                      <a:pt x="145" y="587"/>
                    </a:lnTo>
                    <a:lnTo>
                      <a:pt x="156" y="584"/>
                    </a:lnTo>
                    <a:lnTo>
                      <a:pt x="152" y="576"/>
                    </a:lnTo>
                    <a:lnTo>
                      <a:pt x="152" y="584"/>
                    </a:lnTo>
                    <a:lnTo>
                      <a:pt x="167" y="580"/>
                    </a:lnTo>
                    <a:lnTo>
                      <a:pt x="178" y="580"/>
                    </a:lnTo>
                    <a:lnTo>
                      <a:pt x="185" y="580"/>
                    </a:lnTo>
                    <a:lnTo>
                      <a:pt x="185" y="573"/>
                    </a:lnTo>
                    <a:lnTo>
                      <a:pt x="181" y="576"/>
                    </a:lnTo>
                    <a:lnTo>
                      <a:pt x="185" y="580"/>
                    </a:lnTo>
                    <a:lnTo>
                      <a:pt x="189" y="584"/>
                    </a:lnTo>
                    <a:lnTo>
                      <a:pt x="189" y="584"/>
                    </a:lnTo>
                    <a:lnTo>
                      <a:pt x="192" y="584"/>
                    </a:lnTo>
                    <a:lnTo>
                      <a:pt x="192" y="576"/>
                    </a:lnTo>
                    <a:lnTo>
                      <a:pt x="192" y="584"/>
                    </a:lnTo>
                    <a:lnTo>
                      <a:pt x="199" y="587"/>
                    </a:lnTo>
                    <a:lnTo>
                      <a:pt x="199" y="580"/>
                    </a:lnTo>
                    <a:lnTo>
                      <a:pt x="196" y="584"/>
                    </a:lnTo>
                    <a:lnTo>
                      <a:pt x="199" y="587"/>
                    </a:lnTo>
                    <a:lnTo>
                      <a:pt x="203" y="584"/>
                    </a:lnTo>
                    <a:lnTo>
                      <a:pt x="199" y="587"/>
                    </a:lnTo>
                    <a:lnTo>
                      <a:pt x="203" y="595"/>
                    </a:lnTo>
                    <a:lnTo>
                      <a:pt x="203" y="595"/>
                    </a:lnTo>
                    <a:lnTo>
                      <a:pt x="203" y="595"/>
                    </a:lnTo>
                    <a:lnTo>
                      <a:pt x="207" y="598"/>
                    </a:lnTo>
                    <a:lnTo>
                      <a:pt x="210" y="595"/>
                    </a:lnTo>
                    <a:lnTo>
                      <a:pt x="207" y="598"/>
                    </a:lnTo>
                    <a:lnTo>
                      <a:pt x="210" y="609"/>
                    </a:lnTo>
                    <a:lnTo>
                      <a:pt x="214" y="616"/>
                    </a:lnTo>
                    <a:lnTo>
                      <a:pt x="218" y="627"/>
                    </a:lnTo>
                    <a:lnTo>
                      <a:pt x="221" y="638"/>
                    </a:lnTo>
                    <a:lnTo>
                      <a:pt x="225" y="649"/>
                    </a:lnTo>
                    <a:lnTo>
                      <a:pt x="228" y="645"/>
                    </a:lnTo>
                    <a:lnTo>
                      <a:pt x="225" y="645"/>
                    </a:lnTo>
                    <a:lnTo>
                      <a:pt x="225" y="660"/>
                    </a:lnTo>
                    <a:lnTo>
                      <a:pt x="225" y="663"/>
                    </a:lnTo>
                    <a:lnTo>
                      <a:pt x="225" y="663"/>
                    </a:lnTo>
                    <a:lnTo>
                      <a:pt x="228" y="678"/>
                    </a:lnTo>
                    <a:lnTo>
                      <a:pt x="232" y="674"/>
                    </a:lnTo>
                    <a:lnTo>
                      <a:pt x="228" y="674"/>
                    </a:lnTo>
                    <a:lnTo>
                      <a:pt x="228" y="689"/>
                    </a:lnTo>
                    <a:lnTo>
                      <a:pt x="228" y="703"/>
                    </a:lnTo>
                    <a:lnTo>
                      <a:pt x="228" y="718"/>
                    </a:lnTo>
                    <a:lnTo>
                      <a:pt x="228" y="732"/>
                    </a:lnTo>
                    <a:lnTo>
                      <a:pt x="232" y="732"/>
                    </a:lnTo>
                    <a:lnTo>
                      <a:pt x="228" y="732"/>
                    </a:lnTo>
                    <a:lnTo>
                      <a:pt x="225" y="747"/>
                    </a:lnTo>
                    <a:lnTo>
                      <a:pt x="225" y="747"/>
                    </a:lnTo>
                    <a:lnTo>
                      <a:pt x="225" y="747"/>
                    </a:lnTo>
                    <a:lnTo>
                      <a:pt x="225" y="761"/>
                    </a:lnTo>
                    <a:lnTo>
                      <a:pt x="228" y="761"/>
                    </a:lnTo>
                    <a:lnTo>
                      <a:pt x="225" y="761"/>
                    </a:lnTo>
                    <a:lnTo>
                      <a:pt x="221" y="776"/>
                    </a:lnTo>
                    <a:lnTo>
                      <a:pt x="218" y="790"/>
                    </a:lnTo>
                    <a:lnTo>
                      <a:pt x="214" y="805"/>
                    </a:lnTo>
                    <a:lnTo>
                      <a:pt x="210" y="816"/>
                    </a:lnTo>
                    <a:lnTo>
                      <a:pt x="207" y="819"/>
                    </a:lnTo>
                    <a:lnTo>
                      <a:pt x="214" y="823"/>
                    </a:lnTo>
                    <a:lnTo>
                      <a:pt x="239" y="823"/>
                    </a:lnTo>
                    <a:lnTo>
                      <a:pt x="265" y="823"/>
                    </a:lnTo>
                    <a:lnTo>
                      <a:pt x="290" y="823"/>
                    </a:lnTo>
                    <a:lnTo>
                      <a:pt x="312" y="823"/>
                    </a:lnTo>
                    <a:lnTo>
                      <a:pt x="334" y="823"/>
                    </a:lnTo>
                    <a:lnTo>
                      <a:pt x="355" y="823"/>
                    </a:lnTo>
                    <a:lnTo>
                      <a:pt x="373" y="823"/>
                    </a:lnTo>
                    <a:lnTo>
                      <a:pt x="384" y="823"/>
                    </a:lnTo>
                    <a:lnTo>
                      <a:pt x="402" y="819"/>
                    </a:lnTo>
                    <a:lnTo>
                      <a:pt x="417" y="816"/>
                    </a:lnTo>
                    <a:lnTo>
                      <a:pt x="421" y="812"/>
                    </a:lnTo>
                    <a:lnTo>
                      <a:pt x="421" y="812"/>
                    </a:lnTo>
                    <a:lnTo>
                      <a:pt x="431" y="801"/>
                    </a:lnTo>
                    <a:lnTo>
                      <a:pt x="428" y="798"/>
                    </a:lnTo>
                    <a:lnTo>
                      <a:pt x="431" y="805"/>
                    </a:lnTo>
                    <a:lnTo>
                      <a:pt x="446" y="798"/>
                    </a:lnTo>
                    <a:lnTo>
                      <a:pt x="446" y="798"/>
                    </a:lnTo>
                    <a:lnTo>
                      <a:pt x="446" y="794"/>
                    </a:lnTo>
                    <a:lnTo>
                      <a:pt x="453" y="787"/>
                    </a:lnTo>
                    <a:lnTo>
                      <a:pt x="460" y="780"/>
                    </a:lnTo>
                    <a:lnTo>
                      <a:pt x="464" y="780"/>
                    </a:lnTo>
                    <a:lnTo>
                      <a:pt x="464" y="780"/>
                    </a:lnTo>
                    <a:lnTo>
                      <a:pt x="471" y="769"/>
                    </a:lnTo>
                    <a:lnTo>
                      <a:pt x="475" y="758"/>
                    </a:lnTo>
                    <a:lnTo>
                      <a:pt x="479" y="747"/>
                    </a:lnTo>
                    <a:lnTo>
                      <a:pt x="479" y="747"/>
                    </a:lnTo>
                    <a:lnTo>
                      <a:pt x="479" y="743"/>
                    </a:lnTo>
                    <a:lnTo>
                      <a:pt x="479" y="736"/>
                    </a:lnTo>
                    <a:lnTo>
                      <a:pt x="479" y="725"/>
                    </a:lnTo>
                    <a:lnTo>
                      <a:pt x="479" y="714"/>
                    </a:lnTo>
                    <a:lnTo>
                      <a:pt x="479" y="714"/>
                    </a:lnTo>
                    <a:lnTo>
                      <a:pt x="479" y="714"/>
                    </a:lnTo>
                    <a:lnTo>
                      <a:pt x="475" y="703"/>
                    </a:lnTo>
                    <a:lnTo>
                      <a:pt x="475" y="703"/>
                    </a:lnTo>
                    <a:lnTo>
                      <a:pt x="471" y="700"/>
                    </a:lnTo>
                    <a:lnTo>
                      <a:pt x="464" y="692"/>
                    </a:lnTo>
                    <a:lnTo>
                      <a:pt x="460" y="696"/>
                    </a:lnTo>
                    <a:lnTo>
                      <a:pt x="468" y="696"/>
                    </a:lnTo>
                    <a:lnTo>
                      <a:pt x="464" y="685"/>
                    </a:lnTo>
                    <a:lnTo>
                      <a:pt x="460" y="682"/>
                    </a:lnTo>
                    <a:lnTo>
                      <a:pt x="460" y="682"/>
                    </a:lnTo>
                    <a:lnTo>
                      <a:pt x="450" y="674"/>
                    </a:lnTo>
                    <a:lnTo>
                      <a:pt x="446" y="678"/>
                    </a:lnTo>
                    <a:lnTo>
                      <a:pt x="453" y="678"/>
                    </a:lnTo>
                    <a:lnTo>
                      <a:pt x="446" y="667"/>
                    </a:lnTo>
                    <a:lnTo>
                      <a:pt x="446" y="667"/>
                    </a:lnTo>
                    <a:lnTo>
                      <a:pt x="442" y="663"/>
                    </a:lnTo>
                    <a:lnTo>
                      <a:pt x="435" y="656"/>
                    </a:lnTo>
                    <a:lnTo>
                      <a:pt x="431" y="660"/>
                    </a:lnTo>
                    <a:lnTo>
                      <a:pt x="439" y="660"/>
                    </a:lnTo>
                    <a:lnTo>
                      <a:pt x="435" y="649"/>
                    </a:lnTo>
                    <a:lnTo>
                      <a:pt x="431" y="638"/>
                    </a:lnTo>
                    <a:lnTo>
                      <a:pt x="424" y="638"/>
                    </a:lnTo>
                    <a:lnTo>
                      <a:pt x="431" y="638"/>
                    </a:lnTo>
                    <a:lnTo>
                      <a:pt x="431" y="624"/>
                    </a:lnTo>
                    <a:lnTo>
                      <a:pt x="431" y="613"/>
                    </a:lnTo>
                    <a:lnTo>
                      <a:pt x="431" y="602"/>
                    </a:lnTo>
                    <a:lnTo>
                      <a:pt x="424" y="602"/>
                    </a:lnTo>
                    <a:lnTo>
                      <a:pt x="431" y="605"/>
                    </a:lnTo>
                    <a:lnTo>
                      <a:pt x="435" y="595"/>
                    </a:lnTo>
                    <a:lnTo>
                      <a:pt x="439" y="584"/>
                    </a:lnTo>
                    <a:lnTo>
                      <a:pt x="446" y="573"/>
                    </a:lnTo>
                    <a:lnTo>
                      <a:pt x="439" y="569"/>
                    </a:lnTo>
                    <a:lnTo>
                      <a:pt x="442" y="576"/>
                    </a:lnTo>
                    <a:lnTo>
                      <a:pt x="450" y="573"/>
                    </a:lnTo>
                    <a:lnTo>
                      <a:pt x="450" y="569"/>
                    </a:lnTo>
                    <a:lnTo>
                      <a:pt x="453" y="569"/>
                    </a:lnTo>
                    <a:lnTo>
                      <a:pt x="457" y="562"/>
                    </a:lnTo>
                    <a:lnTo>
                      <a:pt x="450" y="558"/>
                    </a:lnTo>
                    <a:lnTo>
                      <a:pt x="453" y="562"/>
                    </a:lnTo>
                    <a:lnTo>
                      <a:pt x="457" y="558"/>
                    </a:lnTo>
                    <a:lnTo>
                      <a:pt x="453" y="555"/>
                    </a:lnTo>
                    <a:lnTo>
                      <a:pt x="453" y="562"/>
                    </a:lnTo>
                    <a:lnTo>
                      <a:pt x="460" y="562"/>
                    </a:lnTo>
                    <a:lnTo>
                      <a:pt x="464" y="562"/>
                    </a:lnTo>
                    <a:lnTo>
                      <a:pt x="464" y="558"/>
                    </a:lnTo>
                    <a:lnTo>
                      <a:pt x="468" y="555"/>
                    </a:lnTo>
                    <a:lnTo>
                      <a:pt x="464" y="551"/>
                    </a:lnTo>
                    <a:lnTo>
                      <a:pt x="468" y="558"/>
                    </a:lnTo>
                    <a:lnTo>
                      <a:pt x="475" y="555"/>
                    </a:lnTo>
                    <a:lnTo>
                      <a:pt x="482" y="551"/>
                    </a:lnTo>
                    <a:lnTo>
                      <a:pt x="489" y="547"/>
                    </a:lnTo>
                    <a:lnTo>
                      <a:pt x="486" y="540"/>
                    </a:lnTo>
                    <a:lnTo>
                      <a:pt x="486" y="547"/>
                    </a:lnTo>
                    <a:lnTo>
                      <a:pt x="493" y="547"/>
                    </a:lnTo>
                    <a:lnTo>
                      <a:pt x="497" y="547"/>
                    </a:lnTo>
                    <a:lnTo>
                      <a:pt x="497" y="547"/>
                    </a:lnTo>
                    <a:lnTo>
                      <a:pt x="508" y="544"/>
                    </a:lnTo>
                    <a:lnTo>
                      <a:pt x="504" y="537"/>
                    </a:lnTo>
                    <a:lnTo>
                      <a:pt x="504" y="544"/>
                    </a:lnTo>
                    <a:lnTo>
                      <a:pt x="515" y="544"/>
                    </a:lnTo>
                    <a:lnTo>
                      <a:pt x="522" y="544"/>
                    </a:lnTo>
                    <a:lnTo>
                      <a:pt x="533" y="544"/>
                    </a:lnTo>
                    <a:lnTo>
                      <a:pt x="544" y="544"/>
                    </a:lnTo>
                    <a:lnTo>
                      <a:pt x="544" y="537"/>
                    </a:lnTo>
                    <a:lnTo>
                      <a:pt x="544" y="544"/>
                    </a:lnTo>
                    <a:lnTo>
                      <a:pt x="551" y="547"/>
                    </a:lnTo>
                    <a:lnTo>
                      <a:pt x="562" y="551"/>
                    </a:lnTo>
                    <a:lnTo>
                      <a:pt x="562" y="551"/>
                    </a:lnTo>
                    <a:lnTo>
                      <a:pt x="562" y="551"/>
                    </a:lnTo>
                    <a:lnTo>
                      <a:pt x="569" y="551"/>
                    </a:lnTo>
                    <a:lnTo>
                      <a:pt x="569" y="544"/>
                    </a:lnTo>
                    <a:lnTo>
                      <a:pt x="569" y="551"/>
                    </a:lnTo>
                    <a:lnTo>
                      <a:pt x="577" y="555"/>
                    </a:lnTo>
                    <a:lnTo>
                      <a:pt x="577" y="547"/>
                    </a:lnTo>
                    <a:lnTo>
                      <a:pt x="573" y="551"/>
                    </a:lnTo>
                    <a:lnTo>
                      <a:pt x="577" y="555"/>
                    </a:lnTo>
                    <a:lnTo>
                      <a:pt x="580" y="558"/>
                    </a:lnTo>
                    <a:lnTo>
                      <a:pt x="580" y="558"/>
                    </a:lnTo>
                    <a:lnTo>
                      <a:pt x="587" y="562"/>
                    </a:lnTo>
                    <a:lnTo>
                      <a:pt x="595" y="566"/>
                    </a:lnTo>
                    <a:lnTo>
                      <a:pt x="595" y="558"/>
                    </a:lnTo>
                    <a:lnTo>
                      <a:pt x="591" y="562"/>
                    </a:lnTo>
                    <a:lnTo>
                      <a:pt x="595" y="569"/>
                    </a:lnTo>
                    <a:lnTo>
                      <a:pt x="595" y="569"/>
                    </a:lnTo>
                    <a:lnTo>
                      <a:pt x="595" y="569"/>
                    </a:lnTo>
                    <a:lnTo>
                      <a:pt x="598" y="573"/>
                    </a:lnTo>
                    <a:lnTo>
                      <a:pt x="602" y="569"/>
                    </a:lnTo>
                    <a:lnTo>
                      <a:pt x="598" y="573"/>
                    </a:lnTo>
                    <a:lnTo>
                      <a:pt x="602" y="580"/>
                    </a:lnTo>
                    <a:lnTo>
                      <a:pt x="606" y="591"/>
                    </a:lnTo>
                    <a:lnTo>
                      <a:pt x="609" y="602"/>
                    </a:lnTo>
                    <a:lnTo>
                      <a:pt x="613" y="598"/>
                    </a:lnTo>
                    <a:lnTo>
                      <a:pt x="609" y="598"/>
                    </a:lnTo>
                    <a:lnTo>
                      <a:pt x="609" y="613"/>
                    </a:lnTo>
                    <a:lnTo>
                      <a:pt x="609" y="624"/>
                    </a:lnTo>
                    <a:lnTo>
                      <a:pt x="609" y="638"/>
                    </a:lnTo>
                    <a:lnTo>
                      <a:pt x="613" y="638"/>
                    </a:lnTo>
                    <a:lnTo>
                      <a:pt x="609" y="638"/>
                    </a:lnTo>
                    <a:lnTo>
                      <a:pt x="606" y="649"/>
                    </a:lnTo>
                    <a:lnTo>
                      <a:pt x="602" y="660"/>
                    </a:lnTo>
                    <a:lnTo>
                      <a:pt x="598" y="671"/>
                    </a:lnTo>
                    <a:lnTo>
                      <a:pt x="602" y="671"/>
                    </a:lnTo>
                    <a:lnTo>
                      <a:pt x="598" y="667"/>
                    </a:lnTo>
                    <a:lnTo>
                      <a:pt x="591" y="674"/>
                    </a:lnTo>
                    <a:lnTo>
                      <a:pt x="584" y="682"/>
                    </a:lnTo>
                    <a:lnTo>
                      <a:pt x="587" y="685"/>
                    </a:lnTo>
                    <a:lnTo>
                      <a:pt x="587" y="682"/>
                    </a:lnTo>
                    <a:lnTo>
                      <a:pt x="580" y="685"/>
                    </a:lnTo>
                    <a:lnTo>
                      <a:pt x="580" y="685"/>
                    </a:lnTo>
                    <a:lnTo>
                      <a:pt x="577" y="685"/>
                    </a:lnTo>
                    <a:lnTo>
                      <a:pt x="569" y="692"/>
                    </a:lnTo>
                    <a:lnTo>
                      <a:pt x="569" y="696"/>
                    </a:lnTo>
                    <a:lnTo>
                      <a:pt x="569" y="696"/>
                    </a:lnTo>
                    <a:lnTo>
                      <a:pt x="566" y="703"/>
                    </a:lnTo>
                    <a:lnTo>
                      <a:pt x="562" y="714"/>
                    </a:lnTo>
                    <a:lnTo>
                      <a:pt x="558" y="722"/>
                    </a:lnTo>
                    <a:lnTo>
                      <a:pt x="558" y="722"/>
                    </a:lnTo>
                    <a:lnTo>
                      <a:pt x="558" y="722"/>
                    </a:lnTo>
                    <a:lnTo>
                      <a:pt x="558" y="729"/>
                    </a:lnTo>
                    <a:lnTo>
                      <a:pt x="562" y="729"/>
                    </a:lnTo>
                    <a:lnTo>
                      <a:pt x="558" y="729"/>
                    </a:lnTo>
                    <a:lnTo>
                      <a:pt x="555" y="740"/>
                    </a:lnTo>
                    <a:lnTo>
                      <a:pt x="555" y="740"/>
                    </a:lnTo>
                    <a:lnTo>
                      <a:pt x="555" y="740"/>
                    </a:lnTo>
                    <a:lnTo>
                      <a:pt x="555" y="751"/>
                    </a:lnTo>
                    <a:lnTo>
                      <a:pt x="555" y="751"/>
                    </a:lnTo>
                    <a:lnTo>
                      <a:pt x="555" y="754"/>
                    </a:lnTo>
                    <a:lnTo>
                      <a:pt x="558" y="761"/>
                    </a:lnTo>
                    <a:lnTo>
                      <a:pt x="562" y="772"/>
                    </a:lnTo>
                    <a:lnTo>
                      <a:pt x="566" y="783"/>
                    </a:lnTo>
                    <a:lnTo>
                      <a:pt x="566" y="783"/>
                    </a:lnTo>
                    <a:lnTo>
                      <a:pt x="566" y="783"/>
                    </a:lnTo>
                    <a:lnTo>
                      <a:pt x="573" y="790"/>
                    </a:lnTo>
                    <a:lnTo>
                      <a:pt x="577" y="787"/>
                    </a:lnTo>
                    <a:lnTo>
                      <a:pt x="573" y="790"/>
                    </a:lnTo>
                    <a:lnTo>
                      <a:pt x="580" y="801"/>
                    </a:lnTo>
                    <a:lnTo>
                      <a:pt x="580" y="801"/>
                    </a:lnTo>
                    <a:lnTo>
                      <a:pt x="584" y="805"/>
                    </a:lnTo>
                    <a:lnTo>
                      <a:pt x="595" y="812"/>
                    </a:lnTo>
                    <a:lnTo>
                      <a:pt x="606" y="819"/>
                    </a:lnTo>
                    <a:lnTo>
                      <a:pt x="602" y="816"/>
                    </a:lnTo>
                    <a:lnTo>
                      <a:pt x="606" y="819"/>
                    </a:lnTo>
                    <a:lnTo>
                      <a:pt x="620" y="823"/>
                    </a:lnTo>
                    <a:lnTo>
                      <a:pt x="620" y="816"/>
                    </a:lnTo>
                    <a:lnTo>
                      <a:pt x="620" y="823"/>
                    </a:lnTo>
                    <a:lnTo>
                      <a:pt x="627" y="827"/>
                    </a:lnTo>
                    <a:lnTo>
                      <a:pt x="624" y="823"/>
                    </a:lnTo>
                    <a:lnTo>
                      <a:pt x="627" y="827"/>
                    </a:lnTo>
                    <a:lnTo>
                      <a:pt x="642" y="830"/>
                    </a:lnTo>
                    <a:lnTo>
                      <a:pt x="667" y="834"/>
                    </a:lnTo>
                    <a:lnTo>
                      <a:pt x="696" y="838"/>
                    </a:lnTo>
                    <a:lnTo>
                      <a:pt x="714" y="838"/>
                    </a:lnTo>
                    <a:lnTo>
                      <a:pt x="732" y="841"/>
                    </a:lnTo>
                    <a:lnTo>
                      <a:pt x="751" y="841"/>
                    </a:lnTo>
                    <a:lnTo>
                      <a:pt x="769" y="841"/>
                    </a:lnTo>
                    <a:lnTo>
                      <a:pt x="787" y="841"/>
                    </a:lnTo>
                    <a:lnTo>
                      <a:pt x="809" y="841"/>
                    </a:lnTo>
                    <a:lnTo>
                      <a:pt x="823" y="838"/>
                    </a:lnTo>
                    <a:lnTo>
                      <a:pt x="841" y="834"/>
                    </a:lnTo>
                    <a:lnTo>
                      <a:pt x="845" y="830"/>
                    </a:lnTo>
                    <a:lnTo>
                      <a:pt x="848" y="827"/>
                    </a:lnTo>
                    <a:lnTo>
                      <a:pt x="848" y="819"/>
                    </a:lnTo>
                    <a:lnTo>
                      <a:pt x="848" y="819"/>
                    </a:lnTo>
                    <a:lnTo>
                      <a:pt x="848" y="819"/>
                    </a:lnTo>
                    <a:lnTo>
                      <a:pt x="845" y="809"/>
                    </a:lnTo>
                    <a:lnTo>
                      <a:pt x="841" y="798"/>
                    </a:lnTo>
                    <a:lnTo>
                      <a:pt x="834" y="798"/>
                    </a:lnTo>
                    <a:lnTo>
                      <a:pt x="841" y="798"/>
                    </a:lnTo>
                    <a:lnTo>
                      <a:pt x="841" y="787"/>
                    </a:lnTo>
                    <a:lnTo>
                      <a:pt x="841" y="761"/>
                    </a:lnTo>
                    <a:lnTo>
                      <a:pt x="841" y="736"/>
                    </a:lnTo>
                    <a:lnTo>
                      <a:pt x="841" y="707"/>
                    </a:lnTo>
                    <a:lnTo>
                      <a:pt x="845" y="682"/>
                    </a:lnTo>
                    <a:lnTo>
                      <a:pt x="848" y="656"/>
                    </a:lnTo>
                    <a:lnTo>
                      <a:pt x="848" y="634"/>
                    </a:lnTo>
                    <a:lnTo>
                      <a:pt x="841" y="634"/>
                    </a:lnTo>
                    <a:lnTo>
                      <a:pt x="848" y="638"/>
                    </a:lnTo>
                    <a:lnTo>
                      <a:pt x="852" y="627"/>
                    </a:lnTo>
                    <a:lnTo>
                      <a:pt x="856" y="620"/>
                    </a:lnTo>
                    <a:lnTo>
                      <a:pt x="859" y="613"/>
                    </a:lnTo>
                    <a:lnTo>
                      <a:pt x="852" y="609"/>
                    </a:lnTo>
                    <a:lnTo>
                      <a:pt x="856" y="616"/>
                    </a:lnTo>
                    <a:lnTo>
                      <a:pt x="863" y="613"/>
                    </a:lnTo>
                    <a:lnTo>
                      <a:pt x="863" y="613"/>
                    </a:lnTo>
                    <a:lnTo>
                      <a:pt x="863" y="609"/>
                    </a:lnTo>
                    <a:lnTo>
                      <a:pt x="867" y="605"/>
                    </a:lnTo>
                    <a:lnTo>
                      <a:pt x="863" y="602"/>
                    </a:lnTo>
                    <a:lnTo>
                      <a:pt x="867" y="609"/>
                    </a:lnTo>
                    <a:lnTo>
                      <a:pt x="874" y="605"/>
                    </a:lnTo>
                    <a:lnTo>
                      <a:pt x="870" y="598"/>
                    </a:lnTo>
                    <a:lnTo>
                      <a:pt x="870" y="605"/>
                    </a:lnTo>
                    <a:lnTo>
                      <a:pt x="877" y="605"/>
                    </a:lnTo>
                    <a:lnTo>
                      <a:pt x="885" y="605"/>
                    </a:lnTo>
                    <a:lnTo>
                      <a:pt x="892" y="605"/>
                    </a:lnTo>
                    <a:lnTo>
                      <a:pt x="892" y="598"/>
                    </a:lnTo>
                    <a:lnTo>
                      <a:pt x="892" y="605"/>
                    </a:lnTo>
                    <a:lnTo>
                      <a:pt x="903" y="609"/>
                    </a:lnTo>
                    <a:lnTo>
                      <a:pt x="910" y="613"/>
                    </a:lnTo>
                    <a:lnTo>
                      <a:pt x="917" y="616"/>
                    </a:lnTo>
                    <a:lnTo>
                      <a:pt x="925" y="620"/>
                    </a:lnTo>
                    <a:lnTo>
                      <a:pt x="932" y="624"/>
                    </a:lnTo>
                    <a:lnTo>
                      <a:pt x="943" y="631"/>
                    </a:lnTo>
                    <a:lnTo>
                      <a:pt x="943" y="624"/>
                    </a:lnTo>
                    <a:lnTo>
                      <a:pt x="939" y="627"/>
                    </a:lnTo>
                    <a:lnTo>
                      <a:pt x="943" y="634"/>
                    </a:lnTo>
                    <a:lnTo>
                      <a:pt x="943" y="634"/>
                    </a:lnTo>
                    <a:lnTo>
                      <a:pt x="943" y="634"/>
                    </a:lnTo>
                    <a:lnTo>
                      <a:pt x="950" y="642"/>
                    </a:lnTo>
                    <a:lnTo>
                      <a:pt x="954" y="645"/>
                    </a:lnTo>
                    <a:lnTo>
                      <a:pt x="954" y="645"/>
                    </a:lnTo>
                    <a:lnTo>
                      <a:pt x="961" y="649"/>
                    </a:lnTo>
                    <a:lnTo>
                      <a:pt x="972" y="653"/>
                    </a:lnTo>
                    <a:lnTo>
                      <a:pt x="983" y="656"/>
                    </a:lnTo>
                    <a:lnTo>
                      <a:pt x="983" y="656"/>
                    </a:lnTo>
                    <a:lnTo>
                      <a:pt x="983" y="656"/>
                    </a:lnTo>
                    <a:lnTo>
                      <a:pt x="990" y="656"/>
                    </a:lnTo>
                    <a:lnTo>
                      <a:pt x="990" y="649"/>
                    </a:lnTo>
                    <a:lnTo>
                      <a:pt x="990" y="656"/>
                    </a:lnTo>
                    <a:lnTo>
                      <a:pt x="1001" y="660"/>
                    </a:lnTo>
                    <a:lnTo>
                      <a:pt x="1001" y="660"/>
                    </a:lnTo>
                    <a:lnTo>
                      <a:pt x="1004" y="660"/>
                    </a:lnTo>
                    <a:lnTo>
                      <a:pt x="1015" y="656"/>
                    </a:lnTo>
                    <a:lnTo>
                      <a:pt x="1012" y="649"/>
                    </a:lnTo>
                    <a:lnTo>
                      <a:pt x="1012" y="656"/>
                    </a:lnTo>
                    <a:lnTo>
                      <a:pt x="1022" y="656"/>
                    </a:lnTo>
                    <a:lnTo>
                      <a:pt x="1022" y="656"/>
                    </a:lnTo>
                    <a:lnTo>
                      <a:pt x="1026" y="656"/>
                    </a:lnTo>
                    <a:lnTo>
                      <a:pt x="1033" y="653"/>
                    </a:lnTo>
                    <a:lnTo>
                      <a:pt x="1044" y="649"/>
                    </a:lnTo>
                    <a:lnTo>
                      <a:pt x="1044" y="649"/>
                    </a:lnTo>
                    <a:lnTo>
                      <a:pt x="1044" y="645"/>
                    </a:lnTo>
                    <a:lnTo>
                      <a:pt x="1051" y="638"/>
                    </a:lnTo>
                    <a:lnTo>
                      <a:pt x="1059" y="631"/>
                    </a:lnTo>
                    <a:lnTo>
                      <a:pt x="1066" y="624"/>
                    </a:lnTo>
                    <a:lnTo>
                      <a:pt x="1070" y="624"/>
                    </a:lnTo>
                    <a:lnTo>
                      <a:pt x="1070" y="624"/>
                    </a:lnTo>
                    <a:lnTo>
                      <a:pt x="1077" y="613"/>
                    </a:lnTo>
                    <a:lnTo>
                      <a:pt x="1080" y="602"/>
                    </a:lnTo>
                    <a:lnTo>
                      <a:pt x="1084" y="587"/>
                    </a:lnTo>
                    <a:lnTo>
                      <a:pt x="1084" y="587"/>
                    </a:lnTo>
                    <a:lnTo>
                      <a:pt x="1084" y="584"/>
                    </a:lnTo>
                    <a:lnTo>
                      <a:pt x="1084" y="576"/>
                    </a:lnTo>
                    <a:lnTo>
                      <a:pt x="1084" y="569"/>
                    </a:lnTo>
                    <a:lnTo>
                      <a:pt x="1084" y="562"/>
                    </a:lnTo>
                    <a:lnTo>
                      <a:pt x="1084" y="555"/>
                    </a:lnTo>
                    <a:lnTo>
                      <a:pt x="1084" y="555"/>
                    </a:lnTo>
                    <a:lnTo>
                      <a:pt x="1080" y="551"/>
                    </a:lnTo>
                    <a:lnTo>
                      <a:pt x="1077" y="547"/>
                    </a:lnTo>
                    <a:lnTo>
                      <a:pt x="1073" y="551"/>
                    </a:lnTo>
                    <a:lnTo>
                      <a:pt x="1080" y="551"/>
                    </a:lnTo>
                    <a:lnTo>
                      <a:pt x="1077" y="544"/>
                    </a:lnTo>
                    <a:lnTo>
                      <a:pt x="1070" y="544"/>
                    </a:lnTo>
                    <a:lnTo>
                      <a:pt x="1077" y="544"/>
                    </a:lnTo>
                    <a:lnTo>
                      <a:pt x="1077" y="537"/>
                    </a:lnTo>
                    <a:lnTo>
                      <a:pt x="1077" y="537"/>
                    </a:lnTo>
                    <a:lnTo>
                      <a:pt x="1073" y="533"/>
                    </a:lnTo>
                    <a:lnTo>
                      <a:pt x="1070" y="529"/>
                    </a:lnTo>
                    <a:lnTo>
                      <a:pt x="1066" y="533"/>
                    </a:lnTo>
                    <a:lnTo>
                      <a:pt x="1073" y="533"/>
                    </a:lnTo>
                    <a:lnTo>
                      <a:pt x="1066" y="522"/>
                    </a:lnTo>
                    <a:lnTo>
                      <a:pt x="1062" y="518"/>
                    </a:lnTo>
                    <a:lnTo>
                      <a:pt x="1062" y="518"/>
                    </a:lnTo>
                    <a:lnTo>
                      <a:pt x="1051" y="511"/>
                    </a:lnTo>
                    <a:lnTo>
                      <a:pt x="1041" y="504"/>
                    </a:lnTo>
                    <a:lnTo>
                      <a:pt x="1030" y="497"/>
                    </a:lnTo>
                    <a:lnTo>
                      <a:pt x="1019" y="493"/>
                    </a:lnTo>
                    <a:lnTo>
                      <a:pt x="1008" y="489"/>
                    </a:lnTo>
                    <a:lnTo>
                      <a:pt x="1008" y="489"/>
                    </a:lnTo>
                    <a:lnTo>
                      <a:pt x="1004" y="489"/>
                    </a:lnTo>
                    <a:lnTo>
                      <a:pt x="990" y="489"/>
                    </a:lnTo>
                    <a:lnTo>
                      <a:pt x="979" y="489"/>
                    </a:lnTo>
                    <a:lnTo>
                      <a:pt x="979" y="489"/>
                    </a:lnTo>
                    <a:lnTo>
                      <a:pt x="979" y="489"/>
                    </a:lnTo>
                    <a:lnTo>
                      <a:pt x="968" y="493"/>
                    </a:lnTo>
                    <a:lnTo>
                      <a:pt x="957" y="497"/>
                    </a:lnTo>
                    <a:lnTo>
                      <a:pt x="957" y="500"/>
                    </a:lnTo>
                    <a:lnTo>
                      <a:pt x="957" y="497"/>
                    </a:lnTo>
                    <a:lnTo>
                      <a:pt x="954" y="497"/>
                    </a:lnTo>
                    <a:lnTo>
                      <a:pt x="954" y="497"/>
                    </a:lnTo>
                    <a:lnTo>
                      <a:pt x="950" y="497"/>
                    </a:lnTo>
                    <a:lnTo>
                      <a:pt x="946" y="500"/>
                    </a:lnTo>
                    <a:lnTo>
                      <a:pt x="943" y="504"/>
                    </a:lnTo>
                    <a:lnTo>
                      <a:pt x="943" y="508"/>
                    </a:lnTo>
                    <a:lnTo>
                      <a:pt x="943" y="508"/>
                    </a:lnTo>
                    <a:lnTo>
                      <a:pt x="939" y="515"/>
                    </a:lnTo>
                    <a:lnTo>
                      <a:pt x="943" y="515"/>
                    </a:lnTo>
                    <a:lnTo>
                      <a:pt x="939" y="511"/>
                    </a:lnTo>
                    <a:lnTo>
                      <a:pt x="932" y="518"/>
                    </a:lnTo>
                    <a:lnTo>
                      <a:pt x="925" y="526"/>
                    </a:lnTo>
                    <a:lnTo>
                      <a:pt x="928" y="529"/>
                    </a:lnTo>
                    <a:lnTo>
                      <a:pt x="928" y="526"/>
                    </a:lnTo>
                    <a:lnTo>
                      <a:pt x="921" y="529"/>
                    </a:lnTo>
                    <a:lnTo>
                      <a:pt x="914" y="533"/>
                    </a:lnTo>
                    <a:lnTo>
                      <a:pt x="914" y="537"/>
                    </a:lnTo>
                    <a:lnTo>
                      <a:pt x="914" y="533"/>
                    </a:lnTo>
                    <a:lnTo>
                      <a:pt x="906" y="533"/>
                    </a:lnTo>
                    <a:lnTo>
                      <a:pt x="896" y="533"/>
                    </a:lnTo>
                    <a:lnTo>
                      <a:pt x="888" y="533"/>
                    </a:lnTo>
                    <a:lnTo>
                      <a:pt x="888" y="537"/>
                    </a:lnTo>
                    <a:lnTo>
                      <a:pt x="892" y="533"/>
                    </a:lnTo>
                    <a:lnTo>
                      <a:pt x="885" y="529"/>
                    </a:lnTo>
                    <a:lnTo>
                      <a:pt x="885" y="529"/>
                    </a:lnTo>
                    <a:lnTo>
                      <a:pt x="881" y="529"/>
                    </a:lnTo>
                    <a:lnTo>
                      <a:pt x="874" y="529"/>
                    </a:lnTo>
                    <a:lnTo>
                      <a:pt x="874" y="533"/>
                    </a:lnTo>
                    <a:lnTo>
                      <a:pt x="877" y="529"/>
                    </a:lnTo>
                    <a:lnTo>
                      <a:pt x="870" y="526"/>
                    </a:lnTo>
                    <a:lnTo>
                      <a:pt x="867" y="529"/>
                    </a:lnTo>
                    <a:lnTo>
                      <a:pt x="870" y="526"/>
                    </a:lnTo>
                    <a:lnTo>
                      <a:pt x="863" y="518"/>
                    </a:lnTo>
                    <a:lnTo>
                      <a:pt x="863" y="518"/>
                    </a:lnTo>
                    <a:lnTo>
                      <a:pt x="863" y="518"/>
                    </a:lnTo>
                    <a:lnTo>
                      <a:pt x="856" y="515"/>
                    </a:lnTo>
                    <a:lnTo>
                      <a:pt x="852" y="518"/>
                    </a:lnTo>
                    <a:lnTo>
                      <a:pt x="856" y="515"/>
                    </a:lnTo>
                    <a:lnTo>
                      <a:pt x="852" y="511"/>
                    </a:lnTo>
                    <a:lnTo>
                      <a:pt x="848" y="515"/>
                    </a:lnTo>
                    <a:lnTo>
                      <a:pt x="856" y="515"/>
                    </a:lnTo>
                    <a:lnTo>
                      <a:pt x="852" y="508"/>
                    </a:lnTo>
                    <a:lnTo>
                      <a:pt x="852" y="508"/>
                    </a:lnTo>
                    <a:lnTo>
                      <a:pt x="848" y="504"/>
                    </a:lnTo>
                    <a:lnTo>
                      <a:pt x="845" y="500"/>
                    </a:lnTo>
                    <a:lnTo>
                      <a:pt x="841" y="504"/>
                    </a:lnTo>
                    <a:lnTo>
                      <a:pt x="848" y="504"/>
                    </a:lnTo>
                    <a:lnTo>
                      <a:pt x="848" y="497"/>
                    </a:lnTo>
                    <a:lnTo>
                      <a:pt x="848" y="478"/>
                    </a:lnTo>
                    <a:lnTo>
                      <a:pt x="848" y="453"/>
                    </a:lnTo>
                    <a:lnTo>
                      <a:pt x="848" y="413"/>
                    </a:lnTo>
                    <a:lnTo>
                      <a:pt x="848" y="373"/>
                    </a:lnTo>
                    <a:lnTo>
                      <a:pt x="848" y="333"/>
                    </a:lnTo>
                    <a:lnTo>
                      <a:pt x="848" y="290"/>
                    </a:lnTo>
                    <a:lnTo>
                      <a:pt x="848" y="254"/>
                    </a:lnTo>
                    <a:lnTo>
                      <a:pt x="848" y="225"/>
                    </a:lnTo>
                    <a:lnTo>
                      <a:pt x="848" y="217"/>
                    </a:lnTo>
                    <a:lnTo>
                      <a:pt x="841" y="221"/>
                    </a:lnTo>
                    <a:lnTo>
                      <a:pt x="830" y="225"/>
                    </a:lnTo>
                    <a:lnTo>
                      <a:pt x="819" y="232"/>
                    </a:lnTo>
                    <a:lnTo>
                      <a:pt x="819" y="235"/>
                    </a:lnTo>
                    <a:lnTo>
                      <a:pt x="819" y="232"/>
                    </a:lnTo>
                    <a:lnTo>
                      <a:pt x="805" y="235"/>
                    </a:lnTo>
                    <a:lnTo>
                      <a:pt x="790" y="239"/>
                    </a:lnTo>
                    <a:lnTo>
                      <a:pt x="776" y="243"/>
                    </a:lnTo>
                    <a:lnTo>
                      <a:pt x="761" y="243"/>
                    </a:lnTo>
                    <a:lnTo>
                      <a:pt x="743" y="243"/>
                    </a:lnTo>
                    <a:lnTo>
                      <a:pt x="725" y="243"/>
                    </a:lnTo>
                    <a:lnTo>
                      <a:pt x="711" y="243"/>
                    </a:lnTo>
                    <a:lnTo>
                      <a:pt x="693" y="243"/>
                    </a:lnTo>
                    <a:lnTo>
                      <a:pt x="674" y="239"/>
                    </a:lnTo>
                    <a:lnTo>
                      <a:pt x="660" y="235"/>
                    </a:lnTo>
                    <a:lnTo>
                      <a:pt x="645" y="232"/>
                    </a:lnTo>
                    <a:lnTo>
                      <a:pt x="631" y="228"/>
                    </a:lnTo>
                    <a:lnTo>
                      <a:pt x="616" y="225"/>
                    </a:lnTo>
                    <a:lnTo>
                      <a:pt x="616" y="228"/>
                    </a:lnTo>
                    <a:lnTo>
                      <a:pt x="620" y="225"/>
                    </a:lnTo>
                    <a:lnTo>
                      <a:pt x="609" y="221"/>
                    </a:lnTo>
                    <a:lnTo>
                      <a:pt x="602" y="217"/>
                    </a:lnTo>
                    <a:lnTo>
                      <a:pt x="598" y="221"/>
                    </a:lnTo>
                    <a:lnTo>
                      <a:pt x="602" y="217"/>
                    </a:lnTo>
                    <a:lnTo>
                      <a:pt x="595" y="210"/>
                    </a:lnTo>
                    <a:lnTo>
                      <a:pt x="595" y="210"/>
                    </a:lnTo>
                    <a:lnTo>
                      <a:pt x="595" y="210"/>
                    </a:lnTo>
                    <a:lnTo>
                      <a:pt x="587" y="206"/>
                    </a:lnTo>
                    <a:lnTo>
                      <a:pt x="580" y="203"/>
                    </a:lnTo>
                    <a:lnTo>
                      <a:pt x="577" y="206"/>
                    </a:lnTo>
                    <a:lnTo>
                      <a:pt x="580" y="203"/>
                    </a:lnTo>
                    <a:lnTo>
                      <a:pt x="577" y="199"/>
                    </a:lnTo>
                    <a:lnTo>
                      <a:pt x="573" y="196"/>
                    </a:lnTo>
                    <a:lnTo>
                      <a:pt x="569" y="199"/>
                    </a:lnTo>
                    <a:lnTo>
                      <a:pt x="577" y="199"/>
                    </a:lnTo>
                    <a:lnTo>
                      <a:pt x="577" y="192"/>
                    </a:lnTo>
                    <a:lnTo>
                      <a:pt x="577" y="188"/>
                    </a:lnTo>
                    <a:lnTo>
                      <a:pt x="577" y="185"/>
                    </a:lnTo>
                    <a:lnTo>
                      <a:pt x="577" y="177"/>
                    </a:lnTo>
                    <a:lnTo>
                      <a:pt x="569" y="177"/>
                    </a:lnTo>
                    <a:lnTo>
                      <a:pt x="573" y="181"/>
                    </a:lnTo>
                    <a:lnTo>
                      <a:pt x="577" y="177"/>
                    </a:lnTo>
                    <a:lnTo>
                      <a:pt x="580" y="177"/>
                    </a:lnTo>
                    <a:lnTo>
                      <a:pt x="580" y="177"/>
                    </a:lnTo>
                    <a:lnTo>
                      <a:pt x="584" y="170"/>
                    </a:lnTo>
                    <a:lnTo>
                      <a:pt x="591" y="156"/>
                    </a:lnTo>
                    <a:lnTo>
                      <a:pt x="584" y="152"/>
                    </a:lnTo>
                    <a:lnTo>
                      <a:pt x="587" y="156"/>
                    </a:lnTo>
                    <a:lnTo>
                      <a:pt x="602" y="141"/>
                    </a:lnTo>
                    <a:lnTo>
                      <a:pt x="609" y="134"/>
                    </a:lnTo>
                    <a:lnTo>
                      <a:pt x="613" y="134"/>
                    </a:lnTo>
                    <a:lnTo>
                      <a:pt x="613" y="134"/>
                    </a:lnTo>
                    <a:lnTo>
                      <a:pt x="620" y="123"/>
                    </a:lnTo>
                    <a:lnTo>
                      <a:pt x="624" y="112"/>
                    </a:lnTo>
                    <a:lnTo>
                      <a:pt x="627" y="101"/>
                    </a:lnTo>
                    <a:lnTo>
                      <a:pt x="627" y="101"/>
                    </a:lnTo>
                    <a:lnTo>
                      <a:pt x="627" y="98"/>
                    </a:lnTo>
                    <a:lnTo>
                      <a:pt x="627" y="87"/>
                    </a:lnTo>
                    <a:lnTo>
                      <a:pt x="627" y="76"/>
                    </a:lnTo>
                    <a:lnTo>
                      <a:pt x="627" y="65"/>
                    </a:lnTo>
                    <a:lnTo>
                      <a:pt x="627" y="65"/>
                    </a:lnTo>
                    <a:lnTo>
                      <a:pt x="627" y="65"/>
                    </a:lnTo>
                    <a:lnTo>
                      <a:pt x="624" y="54"/>
                    </a:lnTo>
                    <a:lnTo>
                      <a:pt x="620" y="43"/>
                    </a:lnTo>
                    <a:lnTo>
                      <a:pt x="613" y="32"/>
                    </a:lnTo>
                    <a:lnTo>
                      <a:pt x="613" y="32"/>
                    </a:lnTo>
                    <a:lnTo>
                      <a:pt x="609" y="29"/>
                    </a:lnTo>
                    <a:lnTo>
                      <a:pt x="606" y="25"/>
                    </a:lnTo>
                    <a:lnTo>
                      <a:pt x="606" y="25"/>
                    </a:lnTo>
                    <a:lnTo>
                      <a:pt x="606" y="25"/>
                    </a:lnTo>
                    <a:lnTo>
                      <a:pt x="598" y="21"/>
                    </a:lnTo>
                    <a:lnTo>
                      <a:pt x="595" y="25"/>
                    </a:lnTo>
                    <a:lnTo>
                      <a:pt x="598" y="21"/>
                    </a:lnTo>
                    <a:lnTo>
                      <a:pt x="595" y="18"/>
                    </a:lnTo>
                    <a:lnTo>
                      <a:pt x="595" y="18"/>
                    </a:lnTo>
                    <a:lnTo>
                      <a:pt x="595" y="18"/>
                    </a:lnTo>
                    <a:lnTo>
                      <a:pt x="587" y="14"/>
                    </a:lnTo>
                    <a:lnTo>
                      <a:pt x="584" y="18"/>
                    </a:lnTo>
                    <a:lnTo>
                      <a:pt x="587" y="14"/>
                    </a:lnTo>
                    <a:lnTo>
                      <a:pt x="584" y="11"/>
                    </a:lnTo>
                    <a:lnTo>
                      <a:pt x="584" y="11"/>
                    </a:lnTo>
                    <a:lnTo>
                      <a:pt x="584" y="11"/>
                    </a:lnTo>
                    <a:lnTo>
                      <a:pt x="577" y="7"/>
                    </a:lnTo>
                    <a:lnTo>
                      <a:pt x="577" y="7"/>
                    </a:lnTo>
                    <a:lnTo>
                      <a:pt x="573" y="7"/>
                    </a:lnTo>
                    <a:lnTo>
                      <a:pt x="566" y="7"/>
                    </a:lnTo>
                    <a:lnTo>
                      <a:pt x="566" y="11"/>
                    </a:lnTo>
                    <a:lnTo>
                      <a:pt x="569" y="7"/>
                    </a:lnTo>
                    <a:lnTo>
                      <a:pt x="562" y="3"/>
                    </a:lnTo>
                    <a:lnTo>
                      <a:pt x="562" y="3"/>
                    </a:lnTo>
                    <a:lnTo>
                      <a:pt x="558" y="3"/>
                    </a:lnTo>
                    <a:lnTo>
                      <a:pt x="548" y="3"/>
                    </a:lnTo>
                    <a:lnTo>
                      <a:pt x="548" y="7"/>
                    </a:lnTo>
                    <a:lnTo>
                      <a:pt x="551" y="3"/>
                    </a:lnTo>
                    <a:lnTo>
                      <a:pt x="544" y="0"/>
                    </a:lnTo>
                    <a:lnTo>
                      <a:pt x="544" y="0"/>
                    </a:lnTo>
                    <a:lnTo>
                      <a:pt x="540" y="0"/>
                    </a:lnTo>
                    <a:lnTo>
                      <a:pt x="533" y="0"/>
                    </a:lnTo>
                    <a:lnTo>
                      <a:pt x="522" y="0"/>
                    </a:lnTo>
                    <a:lnTo>
                      <a:pt x="515" y="0"/>
                    </a:lnTo>
                    <a:lnTo>
                      <a:pt x="515" y="0"/>
                    </a:lnTo>
                    <a:lnTo>
                      <a:pt x="515" y="0"/>
                    </a:lnTo>
                    <a:lnTo>
                      <a:pt x="504" y="3"/>
                    </a:lnTo>
                    <a:lnTo>
                      <a:pt x="504" y="7"/>
                    </a:lnTo>
                    <a:lnTo>
                      <a:pt x="504" y="3"/>
                    </a:lnTo>
                    <a:lnTo>
                      <a:pt x="497" y="3"/>
                    </a:lnTo>
                    <a:lnTo>
                      <a:pt x="489" y="3"/>
                    </a:lnTo>
                    <a:lnTo>
                      <a:pt x="489" y="3"/>
                    </a:lnTo>
                    <a:lnTo>
                      <a:pt x="486" y="3"/>
                    </a:lnTo>
                    <a:lnTo>
                      <a:pt x="482" y="7"/>
                    </a:lnTo>
                    <a:lnTo>
                      <a:pt x="486" y="11"/>
                    </a:lnTo>
                    <a:lnTo>
                      <a:pt x="486" y="7"/>
                    </a:lnTo>
                    <a:lnTo>
                      <a:pt x="479" y="11"/>
                    </a:lnTo>
                    <a:lnTo>
                      <a:pt x="479" y="11"/>
                    </a:lnTo>
                    <a:lnTo>
                      <a:pt x="475" y="11"/>
                    </a:lnTo>
                    <a:lnTo>
                      <a:pt x="471" y="14"/>
                    </a:lnTo>
                    <a:lnTo>
                      <a:pt x="475" y="18"/>
                    </a:lnTo>
                    <a:lnTo>
                      <a:pt x="475" y="14"/>
                    </a:lnTo>
                    <a:lnTo>
                      <a:pt x="468" y="18"/>
                    </a:lnTo>
                    <a:lnTo>
                      <a:pt x="468" y="18"/>
                    </a:lnTo>
                    <a:lnTo>
                      <a:pt x="464" y="18"/>
                    </a:lnTo>
                    <a:lnTo>
                      <a:pt x="460" y="21"/>
                    </a:lnTo>
                    <a:lnTo>
                      <a:pt x="457" y="25"/>
                    </a:lnTo>
                    <a:lnTo>
                      <a:pt x="453" y="29"/>
                    </a:lnTo>
                    <a:lnTo>
                      <a:pt x="453" y="32"/>
                    </a:lnTo>
                    <a:lnTo>
                      <a:pt x="453" y="32"/>
                    </a:lnTo>
                    <a:lnTo>
                      <a:pt x="450" y="40"/>
                    </a:lnTo>
                    <a:lnTo>
                      <a:pt x="446" y="50"/>
                    </a:lnTo>
                    <a:lnTo>
                      <a:pt x="442" y="61"/>
                    </a:lnTo>
                    <a:lnTo>
                      <a:pt x="442" y="61"/>
                    </a:lnTo>
                    <a:lnTo>
                      <a:pt x="442" y="61"/>
                    </a:lnTo>
                    <a:lnTo>
                      <a:pt x="442" y="72"/>
                    </a:lnTo>
                    <a:lnTo>
                      <a:pt x="442" y="83"/>
                    </a:lnTo>
                    <a:lnTo>
                      <a:pt x="442" y="98"/>
                    </a:lnTo>
                    <a:lnTo>
                      <a:pt x="442" y="101"/>
                    </a:lnTo>
                    <a:lnTo>
                      <a:pt x="442" y="101"/>
                    </a:lnTo>
                    <a:lnTo>
                      <a:pt x="446" y="112"/>
                    </a:lnTo>
                    <a:lnTo>
                      <a:pt x="450" y="127"/>
                    </a:lnTo>
                    <a:lnTo>
                      <a:pt x="457" y="138"/>
                    </a:lnTo>
                    <a:lnTo>
                      <a:pt x="460" y="148"/>
                    </a:lnTo>
                    <a:lnTo>
                      <a:pt x="460" y="148"/>
                    </a:lnTo>
                    <a:lnTo>
                      <a:pt x="464" y="152"/>
                    </a:lnTo>
                    <a:lnTo>
                      <a:pt x="475" y="159"/>
                    </a:lnTo>
                    <a:lnTo>
                      <a:pt x="475" y="152"/>
                    </a:lnTo>
                    <a:lnTo>
                      <a:pt x="471" y="156"/>
                    </a:lnTo>
                    <a:lnTo>
                      <a:pt x="475" y="163"/>
                    </a:lnTo>
                    <a:lnTo>
                      <a:pt x="475" y="163"/>
                    </a:lnTo>
                    <a:lnTo>
                      <a:pt x="475" y="163"/>
                    </a:lnTo>
                    <a:lnTo>
                      <a:pt x="482" y="170"/>
                    </a:lnTo>
                    <a:lnTo>
                      <a:pt x="486" y="167"/>
                    </a:lnTo>
                    <a:lnTo>
                      <a:pt x="482" y="167"/>
                    </a:lnTo>
                    <a:lnTo>
                      <a:pt x="482" y="174"/>
                    </a:lnTo>
                    <a:lnTo>
                      <a:pt x="482" y="177"/>
                    </a:lnTo>
                    <a:lnTo>
                      <a:pt x="482" y="177"/>
                    </a:lnTo>
                    <a:lnTo>
                      <a:pt x="486" y="185"/>
                    </a:lnTo>
                    <a:lnTo>
                      <a:pt x="489" y="181"/>
                    </a:lnTo>
                    <a:lnTo>
                      <a:pt x="486" y="181"/>
                    </a:lnTo>
                    <a:lnTo>
                      <a:pt x="486" y="188"/>
                    </a:lnTo>
                    <a:lnTo>
                      <a:pt x="486" y="196"/>
                    </a:lnTo>
                    <a:lnTo>
                      <a:pt x="489" y="196"/>
                    </a:lnTo>
                    <a:lnTo>
                      <a:pt x="486" y="196"/>
                    </a:lnTo>
                    <a:lnTo>
                      <a:pt x="482" y="203"/>
                    </a:lnTo>
                    <a:lnTo>
                      <a:pt x="479" y="210"/>
                    </a:lnTo>
                    <a:lnTo>
                      <a:pt x="482" y="210"/>
                    </a:lnTo>
                    <a:lnTo>
                      <a:pt x="479" y="206"/>
                    </a:lnTo>
                    <a:lnTo>
                      <a:pt x="475" y="210"/>
                    </a:lnTo>
                    <a:lnTo>
                      <a:pt x="468" y="217"/>
                    </a:lnTo>
                    <a:lnTo>
                      <a:pt x="471" y="221"/>
                    </a:lnTo>
                    <a:lnTo>
                      <a:pt x="471" y="217"/>
                    </a:lnTo>
                    <a:lnTo>
                      <a:pt x="460" y="221"/>
                    </a:lnTo>
                    <a:lnTo>
                      <a:pt x="460" y="225"/>
                    </a:lnTo>
                    <a:lnTo>
                      <a:pt x="460" y="221"/>
                    </a:lnTo>
                    <a:lnTo>
                      <a:pt x="453" y="221"/>
                    </a:lnTo>
                    <a:lnTo>
                      <a:pt x="442" y="221"/>
                    </a:lnTo>
                    <a:lnTo>
                      <a:pt x="431" y="221"/>
                    </a:lnTo>
                    <a:lnTo>
                      <a:pt x="417" y="217"/>
                    </a:lnTo>
                    <a:lnTo>
                      <a:pt x="417" y="221"/>
                    </a:lnTo>
                    <a:lnTo>
                      <a:pt x="421" y="217"/>
                    </a:lnTo>
                    <a:lnTo>
                      <a:pt x="406" y="210"/>
                    </a:lnTo>
                    <a:lnTo>
                      <a:pt x="406" y="210"/>
                    </a:lnTo>
                    <a:lnTo>
                      <a:pt x="402" y="210"/>
                    </a:lnTo>
                    <a:lnTo>
                      <a:pt x="392" y="210"/>
                    </a:lnTo>
                    <a:lnTo>
                      <a:pt x="392" y="214"/>
                    </a:lnTo>
                    <a:lnTo>
                      <a:pt x="395" y="210"/>
                    </a:lnTo>
                    <a:lnTo>
                      <a:pt x="388" y="206"/>
                    </a:lnTo>
                    <a:lnTo>
                      <a:pt x="377" y="203"/>
                    </a:lnTo>
                    <a:lnTo>
                      <a:pt x="377" y="203"/>
                    </a:lnTo>
                    <a:lnTo>
                      <a:pt x="373" y="203"/>
                    </a:lnTo>
                    <a:lnTo>
                      <a:pt x="363" y="203"/>
                    </a:lnTo>
                    <a:lnTo>
                      <a:pt x="341" y="203"/>
                    </a:lnTo>
                    <a:lnTo>
                      <a:pt x="315" y="203"/>
                    </a:lnTo>
                    <a:lnTo>
                      <a:pt x="290" y="206"/>
                    </a:lnTo>
                    <a:lnTo>
                      <a:pt x="265" y="210"/>
                    </a:lnTo>
                    <a:lnTo>
                      <a:pt x="239" y="214"/>
                    </a:lnTo>
                    <a:lnTo>
                      <a:pt x="236" y="214"/>
                    </a:lnTo>
                    <a:lnTo>
                      <a:pt x="239" y="214"/>
                    </a:lnTo>
                    <a:lnTo>
                      <a:pt x="214" y="221"/>
                    </a:lnTo>
                    <a:lnTo>
                      <a:pt x="210" y="221"/>
                    </a:lnTo>
                    <a:lnTo>
                      <a:pt x="210" y="225"/>
                    </a:lnTo>
                    <a:lnTo>
                      <a:pt x="210" y="228"/>
                    </a:lnTo>
                    <a:lnTo>
                      <a:pt x="210" y="243"/>
                    </a:lnTo>
                    <a:lnTo>
                      <a:pt x="210" y="254"/>
                    </a:lnTo>
                    <a:lnTo>
                      <a:pt x="210" y="272"/>
                    </a:lnTo>
                    <a:lnTo>
                      <a:pt x="214" y="308"/>
                    </a:lnTo>
                    <a:lnTo>
                      <a:pt x="218" y="352"/>
                    </a:lnTo>
                    <a:lnTo>
                      <a:pt x="221" y="370"/>
                    </a:lnTo>
                    <a:lnTo>
                      <a:pt x="221" y="391"/>
                    </a:lnTo>
                    <a:lnTo>
                      <a:pt x="221" y="413"/>
                    </a:lnTo>
                    <a:lnTo>
                      <a:pt x="221" y="413"/>
                    </a:lnTo>
                    <a:lnTo>
                      <a:pt x="221" y="417"/>
                    </a:lnTo>
                    <a:lnTo>
                      <a:pt x="225" y="431"/>
                    </a:lnTo>
                    <a:lnTo>
                      <a:pt x="228" y="428"/>
                    </a:lnTo>
                    <a:lnTo>
                      <a:pt x="225" y="428"/>
                    </a:lnTo>
                    <a:lnTo>
                      <a:pt x="221" y="446"/>
                    </a:lnTo>
                    <a:lnTo>
                      <a:pt x="221" y="460"/>
                    </a:lnTo>
                    <a:lnTo>
                      <a:pt x="225" y="460"/>
                    </a:lnTo>
                    <a:lnTo>
                      <a:pt x="221" y="460"/>
                    </a:lnTo>
                    <a:lnTo>
                      <a:pt x="218" y="468"/>
                    </a:lnTo>
                    <a:lnTo>
                      <a:pt x="218" y="468"/>
                    </a:lnTo>
                    <a:lnTo>
                      <a:pt x="218" y="468"/>
                    </a:lnTo>
                    <a:lnTo>
                      <a:pt x="218" y="471"/>
                    </a:lnTo>
                    <a:lnTo>
                      <a:pt x="221" y="471"/>
                    </a:lnTo>
                    <a:lnTo>
                      <a:pt x="218" y="468"/>
                    </a:lnTo>
                    <a:lnTo>
                      <a:pt x="214" y="471"/>
                    </a:lnTo>
                    <a:lnTo>
                      <a:pt x="210" y="475"/>
                    </a:lnTo>
                    <a:lnTo>
                      <a:pt x="207" y="478"/>
                    </a:lnTo>
                    <a:close/>
                    <a:moveTo>
                      <a:pt x="218" y="482"/>
                    </a:moveTo>
                    <a:lnTo>
                      <a:pt x="221" y="478"/>
                    </a:lnTo>
                    <a:lnTo>
                      <a:pt x="225" y="475"/>
                    </a:lnTo>
                    <a:lnTo>
                      <a:pt x="228" y="475"/>
                    </a:lnTo>
                    <a:lnTo>
                      <a:pt x="228" y="471"/>
                    </a:lnTo>
                    <a:lnTo>
                      <a:pt x="228" y="468"/>
                    </a:lnTo>
                    <a:lnTo>
                      <a:pt x="221" y="468"/>
                    </a:lnTo>
                    <a:lnTo>
                      <a:pt x="228" y="471"/>
                    </a:lnTo>
                    <a:lnTo>
                      <a:pt x="232" y="464"/>
                    </a:lnTo>
                    <a:lnTo>
                      <a:pt x="232" y="464"/>
                    </a:lnTo>
                    <a:lnTo>
                      <a:pt x="232" y="460"/>
                    </a:lnTo>
                    <a:lnTo>
                      <a:pt x="232" y="446"/>
                    </a:lnTo>
                    <a:lnTo>
                      <a:pt x="236" y="428"/>
                    </a:lnTo>
                    <a:lnTo>
                      <a:pt x="236" y="428"/>
                    </a:lnTo>
                    <a:lnTo>
                      <a:pt x="236" y="428"/>
                    </a:lnTo>
                    <a:lnTo>
                      <a:pt x="232" y="413"/>
                    </a:lnTo>
                    <a:lnTo>
                      <a:pt x="225" y="413"/>
                    </a:lnTo>
                    <a:lnTo>
                      <a:pt x="232" y="413"/>
                    </a:lnTo>
                    <a:lnTo>
                      <a:pt x="232" y="391"/>
                    </a:lnTo>
                    <a:lnTo>
                      <a:pt x="232" y="370"/>
                    </a:lnTo>
                    <a:lnTo>
                      <a:pt x="228" y="352"/>
                    </a:lnTo>
                    <a:lnTo>
                      <a:pt x="225" y="308"/>
                    </a:lnTo>
                    <a:lnTo>
                      <a:pt x="221" y="272"/>
                    </a:lnTo>
                    <a:lnTo>
                      <a:pt x="221" y="254"/>
                    </a:lnTo>
                    <a:lnTo>
                      <a:pt x="221" y="243"/>
                    </a:lnTo>
                    <a:lnTo>
                      <a:pt x="221" y="228"/>
                    </a:lnTo>
                    <a:lnTo>
                      <a:pt x="221" y="225"/>
                    </a:lnTo>
                    <a:lnTo>
                      <a:pt x="214" y="225"/>
                    </a:lnTo>
                    <a:lnTo>
                      <a:pt x="218" y="232"/>
                    </a:lnTo>
                    <a:lnTo>
                      <a:pt x="243" y="225"/>
                    </a:lnTo>
                    <a:lnTo>
                      <a:pt x="239" y="217"/>
                    </a:lnTo>
                    <a:lnTo>
                      <a:pt x="239" y="225"/>
                    </a:lnTo>
                    <a:lnTo>
                      <a:pt x="265" y="221"/>
                    </a:lnTo>
                    <a:lnTo>
                      <a:pt x="290" y="217"/>
                    </a:lnTo>
                    <a:lnTo>
                      <a:pt x="315" y="214"/>
                    </a:lnTo>
                    <a:lnTo>
                      <a:pt x="341" y="214"/>
                    </a:lnTo>
                    <a:lnTo>
                      <a:pt x="363" y="214"/>
                    </a:lnTo>
                    <a:lnTo>
                      <a:pt x="373" y="214"/>
                    </a:lnTo>
                    <a:lnTo>
                      <a:pt x="373" y="206"/>
                    </a:lnTo>
                    <a:lnTo>
                      <a:pt x="373" y="214"/>
                    </a:lnTo>
                    <a:lnTo>
                      <a:pt x="384" y="217"/>
                    </a:lnTo>
                    <a:lnTo>
                      <a:pt x="392" y="221"/>
                    </a:lnTo>
                    <a:lnTo>
                      <a:pt x="392" y="221"/>
                    </a:lnTo>
                    <a:lnTo>
                      <a:pt x="392" y="221"/>
                    </a:lnTo>
                    <a:lnTo>
                      <a:pt x="402" y="221"/>
                    </a:lnTo>
                    <a:lnTo>
                      <a:pt x="402" y="214"/>
                    </a:lnTo>
                    <a:lnTo>
                      <a:pt x="402" y="221"/>
                    </a:lnTo>
                    <a:lnTo>
                      <a:pt x="417" y="228"/>
                    </a:lnTo>
                    <a:lnTo>
                      <a:pt x="413" y="225"/>
                    </a:lnTo>
                    <a:lnTo>
                      <a:pt x="417" y="228"/>
                    </a:lnTo>
                    <a:lnTo>
                      <a:pt x="431" y="232"/>
                    </a:lnTo>
                    <a:lnTo>
                      <a:pt x="442" y="232"/>
                    </a:lnTo>
                    <a:lnTo>
                      <a:pt x="453" y="232"/>
                    </a:lnTo>
                    <a:lnTo>
                      <a:pt x="460" y="232"/>
                    </a:lnTo>
                    <a:lnTo>
                      <a:pt x="464" y="232"/>
                    </a:lnTo>
                    <a:lnTo>
                      <a:pt x="464" y="232"/>
                    </a:lnTo>
                    <a:lnTo>
                      <a:pt x="475" y="228"/>
                    </a:lnTo>
                    <a:lnTo>
                      <a:pt x="475" y="228"/>
                    </a:lnTo>
                    <a:lnTo>
                      <a:pt x="475" y="225"/>
                    </a:lnTo>
                    <a:lnTo>
                      <a:pt x="482" y="217"/>
                    </a:lnTo>
                    <a:lnTo>
                      <a:pt x="486" y="214"/>
                    </a:lnTo>
                    <a:lnTo>
                      <a:pt x="489" y="214"/>
                    </a:lnTo>
                    <a:lnTo>
                      <a:pt x="489" y="214"/>
                    </a:lnTo>
                    <a:lnTo>
                      <a:pt x="493" y="206"/>
                    </a:lnTo>
                    <a:lnTo>
                      <a:pt x="497" y="199"/>
                    </a:lnTo>
                    <a:lnTo>
                      <a:pt x="497" y="199"/>
                    </a:lnTo>
                    <a:lnTo>
                      <a:pt x="497" y="196"/>
                    </a:lnTo>
                    <a:lnTo>
                      <a:pt x="497" y="188"/>
                    </a:lnTo>
                    <a:lnTo>
                      <a:pt x="497" y="181"/>
                    </a:lnTo>
                    <a:lnTo>
                      <a:pt x="497" y="181"/>
                    </a:lnTo>
                    <a:lnTo>
                      <a:pt x="497" y="181"/>
                    </a:lnTo>
                    <a:lnTo>
                      <a:pt x="493" y="174"/>
                    </a:lnTo>
                    <a:lnTo>
                      <a:pt x="486" y="174"/>
                    </a:lnTo>
                    <a:lnTo>
                      <a:pt x="493" y="174"/>
                    </a:lnTo>
                    <a:lnTo>
                      <a:pt x="493" y="167"/>
                    </a:lnTo>
                    <a:lnTo>
                      <a:pt x="493" y="167"/>
                    </a:lnTo>
                    <a:lnTo>
                      <a:pt x="489" y="163"/>
                    </a:lnTo>
                    <a:lnTo>
                      <a:pt x="482" y="156"/>
                    </a:lnTo>
                    <a:lnTo>
                      <a:pt x="479" y="159"/>
                    </a:lnTo>
                    <a:lnTo>
                      <a:pt x="486" y="159"/>
                    </a:lnTo>
                    <a:lnTo>
                      <a:pt x="482" y="152"/>
                    </a:lnTo>
                    <a:lnTo>
                      <a:pt x="479" y="148"/>
                    </a:lnTo>
                    <a:lnTo>
                      <a:pt x="479" y="148"/>
                    </a:lnTo>
                    <a:lnTo>
                      <a:pt x="468" y="141"/>
                    </a:lnTo>
                    <a:lnTo>
                      <a:pt x="464" y="145"/>
                    </a:lnTo>
                    <a:lnTo>
                      <a:pt x="471" y="145"/>
                    </a:lnTo>
                    <a:lnTo>
                      <a:pt x="468" y="134"/>
                    </a:lnTo>
                    <a:lnTo>
                      <a:pt x="460" y="123"/>
                    </a:lnTo>
                    <a:lnTo>
                      <a:pt x="457" y="109"/>
                    </a:lnTo>
                    <a:lnTo>
                      <a:pt x="453" y="98"/>
                    </a:lnTo>
                    <a:lnTo>
                      <a:pt x="446" y="98"/>
                    </a:lnTo>
                    <a:lnTo>
                      <a:pt x="453" y="98"/>
                    </a:lnTo>
                    <a:lnTo>
                      <a:pt x="453" y="83"/>
                    </a:lnTo>
                    <a:lnTo>
                      <a:pt x="453" y="72"/>
                    </a:lnTo>
                    <a:lnTo>
                      <a:pt x="453" y="61"/>
                    </a:lnTo>
                    <a:lnTo>
                      <a:pt x="446" y="61"/>
                    </a:lnTo>
                    <a:lnTo>
                      <a:pt x="453" y="65"/>
                    </a:lnTo>
                    <a:lnTo>
                      <a:pt x="457" y="54"/>
                    </a:lnTo>
                    <a:lnTo>
                      <a:pt x="460" y="43"/>
                    </a:lnTo>
                    <a:lnTo>
                      <a:pt x="464" y="36"/>
                    </a:lnTo>
                    <a:lnTo>
                      <a:pt x="457" y="32"/>
                    </a:lnTo>
                    <a:lnTo>
                      <a:pt x="460" y="36"/>
                    </a:lnTo>
                    <a:lnTo>
                      <a:pt x="464" y="32"/>
                    </a:lnTo>
                    <a:lnTo>
                      <a:pt x="468" y="29"/>
                    </a:lnTo>
                    <a:lnTo>
                      <a:pt x="471" y="25"/>
                    </a:lnTo>
                    <a:lnTo>
                      <a:pt x="468" y="21"/>
                    </a:lnTo>
                    <a:lnTo>
                      <a:pt x="471" y="29"/>
                    </a:lnTo>
                    <a:lnTo>
                      <a:pt x="479" y="25"/>
                    </a:lnTo>
                    <a:lnTo>
                      <a:pt x="479" y="25"/>
                    </a:lnTo>
                    <a:lnTo>
                      <a:pt x="479" y="21"/>
                    </a:lnTo>
                    <a:lnTo>
                      <a:pt x="482" y="18"/>
                    </a:lnTo>
                    <a:lnTo>
                      <a:pt x="479" y="14"/>
                    </a:lnTo>
                    <a:lnTo>
                      <a:pt x="482" y="21"/>
                    </a:lnTo>
                    <a:lnTo>
                      <a:pt x="489" y="18"/>
                    </a:lnTo>
                    <a:lnTo>
                      <a:pt x="489" y="18"/>
                    </a:lnTo>
                    <a:lnTo>
                      <a:pt x="489" y="14"/>
                    </a:lnTo>
                    <a:lnTo>
                      <a:pt x="493" y="11"/>
                    </a:lnTo>
                    <a:lnTo>
                      <a:pt x="489" y="7"/>
                    </a:lnTo>
                    <a:lnTo>
                      <a:pt x="489" y="14"/>
                    </a:lnTo>
                    <a:lnTo>
                      <a:pt x="497" y="14"/>
                    </a:lnTo>
                    <a:lnTo>
                      <a:pt x="504" y="14"/>
                    </a:lnTo>
                    <a:lnTo>
                      <a:pt x="508" y="14"/>
                    </a:lnTo>
                    <a:lnTo>
                      <a:pt x="508" y="14"/>
                    </a:lnTo>
                    <a:lnTo>
                      <a:pt x="518" y="11"/>
                    </a:lnTo>
                    <a:lnTo>
                      <a:pt x="515" y="3"/>
                    </a:lnTo>
                    <a:lnTo>
                      <a:pt x="515" y="11"/>
                    </a:lnTo>
                    <a:lnTo>
                      <a:pt x="522" y="11"/>
                    </a:lnTo>
                    <a:lnTo>
                      <a:pt x="533" y="11"/>
                    </a:lnTo>
                    <a:lnTo>
                      <a:pt x="540" y="11"/>
                    </a:lnTo>
                    <a:lnTo>
                      <a:pt x="540" y="3"/>
                    </a:lnTo>
                    <a:lnTo>
                      <a:pt x="540" y="11"/>
                    </a:lnTo>
                    <a:lnTo>
                      <a:pt x="548" y="14"/>
                    </a:lnTo>
                    <a:lnTo>
                      <a:pt x="548" y="14"/>
                    </a:lnTo>
                    <a:lnTo>
                      <a:pt x="548" y="14"/>
                    </a:lnTo>
                    <a:lnTo>
                      <a:pt x="558" y="14"/>
                    </a:lnTo>
                    <a:lnTo>
                      <a:pt x="558" y="7"/>
                    </a:lnTo>
                    <a:lnTo>
                      <a:pt x="558" y="14"/>
                    </a:lnTo>
                    <a:lnTo>
                      <a:pt x="566" y="18"/>
                    </a:lnTo>
                    <a:lnTo>
                      <a:pt x="566" y="18"/>
                    </a:lnTo>
                    <a:lnTo>
                      <a:pt x="566" y="18"/>
                    </a:lnTo>
                    <a:lnTo>
                      <a:pt x="573" y="18"/>
                    </a:lnTo>
                    <a:lnTo>
                      <a:pt x="573" y="11"/>
                    </a:lnTo>
                    <a:lnTo>
                      <a:pt x="573" y="18"/>
                    </a:lnTo>
                    <a:lnTo>
                      <a:pt x="580" y="21"/>
                    </a:lnTo>
                    <a:lnTo>
                      <a:pt x="580" y="14"/>
                    </a:lnTo>
                    <a:lnTo>
                      <a:pt x="577" y="18"/>
                    </a:lnTo>
                    <a:lnTo>
                      <a:pt x="580" y="21"/>
                    </a:lnTo>
                    <a:lnTo>
                      <a:pt x="584" y="25"/>
                    </a:lnTo>
                    <a:lnTo>
                      <a:pt x="584" y="25"/>
                    </a:lnTo>
                    <a:lnTo>
                      <a:pt x="591" y="29"/>
                    </a:lnTo>
                    <a:lnTo>
                      <a:pt x="591" y="21"/>
                    </a:lnTo>
                    <a:lnTo>
                      <a:pt x="587" y="25"/>
                    </a:lnTo>
                    <a:lnTo>
                      <a:pt x="591" y="29"/>
                    </a:lnTo>
                    <a:lnTo>
                      <a:pt x="595" y="32"/>
                    </a:lnTo>
                    <a:lnTo>
                      <a:pt x="595" y="32"/>
                    </a:lnTo>
                    <a:lnTo>
                      <a:pt x="602" y="36"/>
                    </a:lnTo>
                    <a:lnTo>
                      <a:pt x="602" y="29"/>
                    </a:lnTo>
                    <a:lnTo>
                      <a:pt x="598" y="32"/>
                    </a:lnTo>
                    <a:lnTo>
                      <a:pt x="602" y="36"/>
                    </a:lnTo>
                    <a:lnTo>
                      <a:pt x="606" y="32"/>
                    </a:lnTo>
                    <a:lnTo>
                      <a:pt x="602" y="36"/>
                    </a:lnTo>
                    <a:lnTo>
                      <a:pt x="609" y="47"/>
                    </a:lnTo>
                    <a:lnTo>
                      <a:pt x="613" y="58"/>
                    </a:lnTo>
                    <a:lnTo>
                      <a:pt x="616" y="69"/>
                    </a:lnTo>
                    <a:lnTo>
                      <a:pt x="620" y="65"/>
                    </a:lnTo>
                    <a:lnTo>
                      <a:pt x="616" y="65"/>
                    </a:lnTo>
                    <a:lnTo>
                      <a:pt x="616" y="76"/>
                    </a:lnTo>
                    <a:lnTo>
                      <a:pt x="616" y="87"/>
                    </a:lnTo>
                    <a:lnTo>
                      <a:pt x="616" y="98"/>
                    </a:lnTo>
                    <a:lnTo>
                      <a:pt x="620" y="98"/>
                    </a:lnTo>
                    <a:lnTo>
                      <a:pt x="616" y="98"/>
                    </a:lnTo>
                    <a:lnTo>
                      <a:pt x="613" y="109"/>
                    </a:lnTo>
                    <a:lnTo>
                      <a:pt x="609" y="119"/>
                    </a:lnTo>
                    <a:lnTo>
                      <a:pt x="602" y="130"/>
                    </a:lnTo>
                    <a:lnTo>
                      <a:pt x="606" y="130"/>
                    </a:lnTo>
                    <a:lnTo>
                      <a:pt x="602" y="127"/>
                    </a:lnTo>
                    <a:lnTo>
                      <a:pt x="595" y="134"/>
                    </a:lnTo>
                    <a:lnTo>
                      <a:pt x="580" y="148"/>
                    </a:lnTo>
                    <a:lnTo>
                      <a:pt x="580" y="152"/>
                    </a:lnTo>
                    <a:lnTo>
                      <a:pt x="580" y="152"/>
                    </a:lnTo>
                    <a:lnTo>
                      <a:pt x="573" y="167"/>
                    </a:lnTo>
                    <a:lnTo>
                      <a:pt x="569" y="174"/>
                    </a:lnTo>
                    <a:lnTo>
                      <a:pt x="573" y="174"/>
                    </a:lnTo>
                    <a:lnTo>
                      <a:pt x="569" y="170"/>
                    </a:lnTo>
                    <a:lnTo>
                      <a:pt x="566" y="174"/>
                    </a:lnTo>
                    <a:lnTo>
                      <a:pt x="566" y="177"/>
                    </a:lnTo>
                    <a:lnTo>
                      <a:pt x="566" y="177"/>
                    </a:lnTo>
                    <a:lnTo>
                      <a:pt x="566" y="185"/>
                    </a:lnTo>
                    <a:lnTo>
                      <a:pt x="566" y="188"/>
                    </a:lnTo>
                    <a:lnTo>
                      <a:pt x="566" y="192"/>
                    </a:lnTo>
                    <a:lnTo>
                      <a:pt x="566" y="199"/>
                    </a:lnTo>
                    <a:lnTo>
                      <a:pt x="566" y="203"/>
                    </a:lnTo>
                    <a:lnTo>
                      <a:pt x="566" y="203"/>
                    </a:lnTo>
                    <a:lnTo>
                      <a:pt x="569" y="206"/>
                    </a:lnTo>
                    <a:lnTo>
                      <a:pt x="573" y="210"/>
                    </a:lnTo>
                    <a:lnTo>
                      <a:pt x="577" y="214"/>
                    </a:lnTo>
                    <a:lnTo>
                      <a:pt x="577" y="214"/>
                    </a:lnTo>
                    <a:lnTo>
                      <a:pt x="584" y="217"/>
                    </a:lnTo>
                    <a:lnTo>
                      <a:pt x="591" y="221"/>
                    </a:lnTo>
                    <a:lnTo>
                      <a:pt x="591" y="214"/>
                    </a:lnTo>
                    <a:lnTo>
                      <a:pt x="587" y="217"/>
                    </a:lnTo>
                    <a:lnTo>
                      <a:pt x="595" y="225"/>
                    </a:lnTo>
                    <a:lnTo>
                      <a:pt x="598" y="228"/>
                    </a:lnTo>
                    <a:lnTo>
                      <a:pt x="598" y="228"/>
                    </a:lnTo>
                    <a:lnTo>
                      <a:pt x="606" y="232"/>
                    </a:lnTo>
                    <a:lnTo>
                      <a:pt x="616" y="235"/>
                    </a:lnTo>
                    <a:lnTo>
                      <a:pt x="609" y="232"/>
                    </a:lnTo>
                    <a:lnTo>
                      <a:pt x="616" y="235"/>
                    </a:lnTo>
                    <a:lnTo>
                      <a:pt x="631" y="239"/>
                    </a:lnTo>
                    <a:lnTo>
                      <a:pt x="645" y="243"/>
                    </a:lnTo>
                    <a:lnTo>
                      <a:pt x="660" y="246"/>
                    </a:lnTo>
                    <a:lnTo>
                      <a:pt x="674" y="250"/>
                    </a:lnTo>
                    <a:lnTo>
                      <a:pt x="693" y="254"/>
                    </a:lnTo>
                    <a:lnTo>
                      <a:pt x="711" y="254"/>
                    </a:lnTo>
                    <a:lnTo>
                      <a:pt x="725" y="254"/>
                    </a:lnTo>
                    <a:lnTo>
                      <a:pt x="743" y="254"/>
                    </a:lnTo>
                    <a:lnTo>
                      <a:pt x="761" y="254"/>
                    </a:lnTo>
                    <a:lnTo>
                      <a:pt x="776" y="254"/>
                    </a:lnTo>
                    <a:lnTo>
                      <a:pt x="790" y="250"/>
                    </a:lnTo>
                    <a:lnTo>
                      <a:pt x="805" y="246"/>
                    </a:lnTo>
                    <a:lnTo>
                      <a:pt x="819" y="243"/>
                    </a:lnTo>
                    <a:lnTo>
                      <a:pt x="823" y="239"/>
                    </a:lnTo>
                    <a:lnTo>
                      <a:pt x="823" y="243"/>
                    </a:lnTo>
                    <a:lnTo>
                      <a:pt x="834" y="235"/>
                    </a:lnTo>
                    <a:lnTo>
                      <a:pt x="845" y="232"/>
                    </a:lnTo>
                    <a:lnTo>
                      <a:pt x="841" y="225"/>
                    </a:lnTo>
                    <a:lnTo>
                      <a:pt x="838" y="225"/>
                    </a:lnTo>
                    <a:lnTo>
                      <a:pt x="838" y="254"/>
                    </a:lnTo>
                    <a:lnTo>
                      <a:pt x="838" y="290"/>
                    </a:lnTo>
                    <a:lnTo>
                      <a:pt x="838" y="333"/>
                    </a:lnTo>
                    <a:lnTo>
                      <a:pt x="838" y="373"/>
                    </a:lnTo>
                    <a:lnTo>
                      <a:pt x="838" y="413"/>
                    </a:lnTo>
                    <a:lnTo>
                      <a:pt x="838" y="453"/>
                    </a:lnTo>
                    <a:lnTo>
                      <a:pt x="838" y="478"/>
                    </a:lnTo>
                    <a:lnTo>
                      <a:pt x="838" y="497"/>
                    </a:lnTo>
                    <a:lnTo>
                      <a:pt x="838" y="504"/>
                    </a:lnTo>
                    <a:lnTo>
                      <a:pt x="838" y="508"/>
                    </a:lnTo>
                    <a:lnTo>
                      <a:pt x="838" y="508"/>
                    </a:lnTo>
                    <a:lnTo>
                      <a:pt x="841" y="511"/>
                    </a:lnTo>
                    <a:lnTo>
                      <a:pt x="845" y="508"/>
                    </a:lnTo>
                    <a:lnTo>
                      <a:pt x="841" y="511"/>
                    </a:lnTo>
                    <a:lnTo>
                      <a:pt x="845" y="518"/>
                    </a:lnTo>
                    <a:lnTo>
                      <a:pt x="845" y="518"/>
                    </a:lnTo>
                    <a:lnTo>
                      <a:pt x="845" y="518"/>
                    </a:lnTo>
                    <a:lnTo>
                      <a:pt x="848" y="522"/>
                    </a:lnTo>
                    <a:lnTo>
                      <a:pt x="852" y="526"/>
                    </a:lnTo>
                    <a:lnTo>
                      <a:pt x="852" y="526"/>
                    </a:lnTo>
                    <a:lnTo>
                      <a:pt x="859" y="529"/>
                    </a:lnTo>
                    <a:lnTo>
                      <a:pt x="859" y="522"/>
                    </a:lnTo>
                    <a:lnTo>
                      <a:pt x="856" y="526"/>
                    </a:lnTo>
                    <a:lnTo>
                      <a:pt x="863" y="533"/>
                    </a:lnTo>
                    <a:lnTo>
                      <a:pt x="867" y="537"/>
                    </a:lnTo>
                    <a:lnTo>
                      <a:pt x="867" y="537"/>
                    </a:lnTo>
                    <a:lnTo>
                      <a:pt x="874" y="540"/>
                    </a:lnTo>
                    <a:lnTo>
                      <a:pt x="874" y="540"/>
                    </a:lnTo>
                    <a:lnTo>
                      <a:pt x="874" y="540"/>
                    </a:lnTo>
                    <a:lnTo>
                      <a:pt x="881" y="540"/>
                    </a:lnTo>
                    <a:lnTo>
                      <a:pt x="881" y="533"/>
                    </a:lnTo>
                    <a:lnTo>
                      <a:pt x="881" y="540"/>
                    </a:lnTo>
                    <a:lnTo>
                      <a:pt x="888" y="544"/>
                    </a:lnTo>
                    <a:lnTo>
                      <a:pt x="888" y="544"/>
                    </a:lnTo>
                    <a:lnTo>
                      <a:pt x="888" y="544"/>
                    </a:lnTo>
                    <a:lnTo>
                      <a:pt x="896" y="544"/>
                    </a:lnTo>
                    <a:lnTo>
                      <a:pt x="906" y="544"/>
                    </a:lnTo>
                    <a:lnTo>
                      <a:pt x="914" y="544"/>
                    </a:lnTo>
                    <a:lnTo>
                      <a:pt x="917" y="544"/>
                    </a:lnTo>
                    <a:lnTo>
                      <a:pt x="917" y="544"/>
                    </a:lnTo>
                    <a:lnTo>
                      <a:pt x="925" y="540"/>
                    </a:lnTo>
                    <a:lnTo>
                      <a:pt x="932" y="537"/>
                    </a:lnTo>
                    <a:lnTo>
                      <a:pt x="932" y="537"/>
                    </a:lnTo>
                    <a:lnTo>
                      <a:pt x="932" y="533"/>
                    </a:lnTo>
                    <a:lnTo>
                      <a:pt x="939" y="526"/>
                    </a:lnTo>
                    <a:lnTo>
                      <a:pt x="946" y="518"/>
                    </a:lnTo>
                    <a:lnTo>
                      <a:pt x="950" y="518"/>
                    </a:lnTo>
                    <a:lnTo>
                      <a:pt x="950" y="518"/>
                    </a:lnTo>
                    <a:lnTo>
                      <a:pt x="954" y="511"/>
                    </a:lnTo>
                    <a:lnTo>
                      <a:pt x="946" y="508"/>
                    </a:lnTo>
                    <a:lnTo>
                      <a:pt x="950" y="511"/>
                    </a:lnTo>
                    <a:lnTo>
                      <a:pt x="954" y="508"/>
                    </a:lnTo>
                    <a:lnTo>
                      <a:pt x="957" y="504"/>
                    </a:lnTo>
                    <a:lnTo>
                      <a:pt x="954" y="500"/>
                    </a:lnTo>
                    <a:lnTo>
                      <a:pt x="954" y="508"/>
                    </a:lnTo>
                    <a:lnTo>
                      <a:pt x="957" y="508"/>
                    </a:lnTo>
                    <a:lnTo>
                      <a:pt x="961" y="508"/>
                    </a:lnTo>
                    <a:lnTo>
                      <a:pt x="961" y="508"/>
                    </a:lnTo>
                    <a:lnTo>
                      <a:pt x="972" y="504"/>
                    </a:lnTo>
                    <a:lnTo>
                      <a:pt x="983" y="500"/>
                    </a:lnTo>
                    <a:lnTo>
                      <a:pt x="979" y="493"/>
                    </a:lnTo>
                    <a:lnTo>
                      <a:pt x="979" y="500"/>
                    </a:lnTo>
                    <a:lnTo>
                      <a:pt x="990" y="500"/>
                    </a:lnTo>
                    <a:lnTo>
                      <a:pt x="1004" y="500"/>
                    </a:lnTo>
                    <a:lnTo>
                      <a:pt x="1004" y="493"/>
                    </a:lnTo>
                    <a:lnTo>
                      <a:pt x="1004" y="500"/>
                    </a:lnTo>
                    <a:lnTo>
                      <a:pt x="1015" y="504"/>
                    </a:lnTo>
                    <a:lnTo>
                      <a:pt x="1026" y="508"/>
                    </a:lnTo>
                    <a:lnTo>
                      <a:pt x="1037" y="515"/>
                    </a:lnTo>
                    <a:lnTo>
                      <a:pt x="1048" y="522"/>
                    </a:lnTo>
                    <a:lnTo>
                      <a:pt x="1059" y="529"/>
                    </a:lnTo>
                    <a:lnTo>
                      <a:pt x="1059" y="522"/>
                    </a:lnTo>
                    <a:lnTo>
                      <a:pt x="1055" y="526"/>
                    </a:lnTo>
                    <a:lnTo>
                      <a:pt x="1062" y="537"/>
                    </a:lnTo>
                    <a:lnTo>
                      <a:pt x="1062" y="537"/>
                    </a:lnTo>
                    <a:lnTo>
                      <a:pt x="1062" y="537"/>
                    </a:lnTo>
                    <a:lnTo>
                      <a:pt x="1066" y="540"/>
                    </a:lnTo>
                    <a:lnTo>
                      <a:pt x="1070" y="537"/>
                    </a:lnTo>
                    <a:lnTo>
                      <a:pt x="1066" y="537"/>
                    </a:lnTo>
                    <a:lnTo>
                      <a:pt x="1066" y="544"/>
                    </a:lnTo>
                    <a:lnTo>
                      <a:pt x="1066" y="547"/>
                    </a:lnTo>
                    <a:lnTo>
                      <a:pt x="1066" y="547"/>
                    </a:lnTo>
                    <a:lnTo>
                      <a:pt x="1070" y="555"/>
                    </a:lnTo>
                    <a:lnTo>
                      <a:pt x="1070" y="555"/>
                    </a:lnTo>
                    <a:lnTo>
                      <a:pt x="1070" y="555"/>
                    </a:lnTo>
                    <a:lnTo>
                      <a:pt x="1073" y="558"/>
                    </a:lnTo>
                    <a:lnTo>
                      <a:pt x="1077" y="555"/>
                    </a:lnTo>
                    <a:lnTo>
                      <a:pt x="1073" y="555"/>
                    </a:lnTo>
                    <a:lnTo>
                      <a:pt x="1073" y="562"/>
                    </a:lnTo>
                    <a:lnTo>
                      <a:pt x="1073" y="569"/>
                    </a:lnTo>
                    <a:lnTo>
                      <a:pt x="1073" y="576"/>
                    </a:lnTo>
                    <a:lnTo>
                      <a:pt x="1073" y="584"/>
                    </a:lnTo>
                    <a:lnTo>
                      <a:pt x="1077" y="584"/>
                    </a:lnTo>
                    <a:lnTo>
                      <a:pt x="1073" y="584"/>
                    </a:lnTo>
                    <a:lnTo>
                      <a:pt x="1070" y="598"/>
                    </a:lnTo>
                    <a:lnTo>
                      <a:pt x="1066" y="609"/>
                    </a:lnTo>
                    <a:lnTo>
                      <a:pt x="1059" y="620"/>
                    </a:lnTo>
                    <a:lnTo>
                      <a:pt x="1062" y="620"/>
                    </a:lnTo>
                    <a:lnTo>
                      <a:pt x="1059" y="616"/>
                    </a:lnTo>
                    <a:lnTo>
                      <a:pt x="1051" y="624"/>
                    </a:lnTo>
                    <a:lnTo>
                      <a:pt x="1044" y="631"/>
                    </a:lnTo>
                    <a:lnTo>
                      <a:pt x="1037" y="638"/>
                    </a:lnTo>
                    <a:lnTo>
                      <a:pt x="1041" y="642"/>
                    </a:lnTo>
                    <a:lnTo>
                      <a:pt x="1041" y="638"/>
                    </a:lnTo>
                    <a:lnTo>
                      <a:pt x="1030" y="642"/>
                    </a:lnTo>
                    <a:lnTo>
                      <a:pt x="1022" y="645"/>
                    </a:lnTo>
                    <a:lnTo>
                      <a:pt x="1022" y="649"/>
                    </a:lnTo>
                    <a:lnTo>
                      <a:pt x="1022" y="645"/>
                    </a:lnTo>
                    <a:lnTo>
                      <a:pt x="1012" y="645"/>
                    </a:lnTo>
                    <a:lnTo>
                      <a:pt x="1012" y="645"/>
                    </a:lnTo>
                    <a:lnTo>
                      <a:pt x="1012" y="645"/>
                    </a:lnTo>
                    <a:lnTo>
                      <a:pt x="1001" y="649"/>
                    </a:lnTo>
                    <a:lnTo>
                      <a:pt x="1001" y="653"/>
                    </a:lnTo>
                    <a:lnTo>
                      <a:pt x="1004" y="649"/>
                    </a:lnTo>
                    <a:lnTo>
                      <a:pt x="993" y="645"/>
                    </a:lnTo>
                    <a:lnTo>
                      <a:pt x="993" y="645"/>
                    </a:lnTo>
                    <a:lnTo>
                      <a:pt x="990" y="645"/>
                    </a:lnTo>
                    <a:lnTo>
                      <a:pt x="983" y="645"/>
                    </a:lnTo>
                    <a:lnTo>
                      <a:pt x="983" y="649"/>
                    </a:lnTo>
                    <a:lnTo>
                      <a:pt x="986" y="645"/>
                    </a:lnTo>
                    <a:lnTo>
                      <a:pt x="975" y="642"/>
                    </a:lnTo>
                    <a:lnTo>
                      <a:pt x="964" y="638"/>
                    </a:lnTo>
                    <a:lnTo>
                      <a:pt x="957" y="634"/>
                    </a:lnTo>
                    <a:lnTo>
                      <a:pt x="954" y="638"/>
                    </a:lnTo>
                    <a:lnTo>
                      <a:pt x="957" y="634"/>
                    </a:lnTo>
                    <a:lnTo>
                      <a:pt x="950" y="627"/>
                    </a:lnTo>
                    <a:lnTo>
                      <a:pt x="946" y="631"/>
                    </a:lnTo>
                    <a:lnTo>
                      <a:pt x="954" y="631"/>
                    </a:lnTo>
                    <a:lnTo>
                      <a:pt x="950" y="624"/>
                    </a:lnTo>
                    <a:lnTo>
                      <a:pt x="946" y="620"/>
                    </a:lnTo>
                    <a:lnTo>
                      <a:pt x="946" y="620"/>
                    </a:lnTo>
                    <a:lnTo>
                      <a:pt x="935" y="613"/>
                    </a:lnTo>
                    <a:lnTo>
                      <a:pt x="928" y="609"/>
                    </a:lnTo>
                    <a:lnTo>
                      <a:pt x="921" y="605"/>
                    </a:lnTo>
                    <a:lnTo>
                      <a:pt x="914" y="602"/>
                    </a:lnTo>
                    <a:lnTo>
                      <a:pt x="906" y="598"/>
                    </a:lnTo>
                    <a:lnTo>
                      <a:pt x="896" y="595"/>
                    </a:lnTo>
                    <a:lnTo>
                      <a:pt x="896" y="595"/>
                    </a:lnTo>
                    <a:lnTo>
                      <a:pt x="892" y="595"/>
                    </a:lnTo>
                    <a:lnTo>
                      <a:pt x="885" y="595"/>
                    </a:lnTo>
                    <a:lnTo>
                      <a:pt x="877" y="595"/>
                    </a:lnTo>
                    <a:lnTo>
                      <a:pt x="870" y="595"/>
                    </a:lnTo>
                    <a:lnTo>
                      <a:pt x="870" y="595"/>
                    </a:lnTo>
                    <a:lnTo>
                      <a:pt x="870" y="595"/>
                    </a:lnTo>
                    <a:lnTo>
                      <a:pt x="863" y="598"/>
                    </a:lnTo>
                    <a:lnTo>
                      <a:pt x="863" y="598"/>
                    </a:lnTo>
                    <a:lnTo>
                      <a:pt x="859" y="598"/>
                    </a:lnTo>
                    <a:lnTo>
                      <a:pt x="856" y="602"/>
                    </a:lnTo>
                    <a:lnTo>
                      <a:pt x="859" y="605"/>
                    </a:lnTo>
                    <a:lnTo>
                      <a:pt x="859" y="602"/>
                    </a:lnTo>
                    <a:lnTo>
                      <a:pt x="852" y="605"/>
                    </a:lnTo>
                    <a:lnTo>
                      <a:pt x="848" y="605"/>
                    </a:lnTo>
                    <a:lnTo>
                      <a:pt x="848" y="609"/>
                    </a:lnTo>
                    <a:lnTo>
                      <a:pt x="845" y="616"/>
                    </a:lnTo>
                    <a:lnTo>
                      <a:pt x="841" y="624"/>
                    </a:lnTo>
                    <a:lnTo>
                      <a:pt x="838" y="634"/>
                    </a:lnTo>
                    <a:lnTo>
                      <a:pt x="838" y="634"/>
                    </a:lnTo>
                    <a:lnTo>
                      <a:pt x="838" y="634"/>
                    </a:lnTo>
                    <a:lnTo>
                      <a:pt x="838" y="656"/>
                    </a:lnTo>
                    <a:lnTo>
                      <a:pt x="834" y="682"/>
                    </a:lnTo>
                    <a:lnTo>
                      <a:pt x="830" y="707"/>
                    </a:lnTo>
                    <a:lnTo>
                      <a:pt x="830" y="736"/>
                    </a:lnTo>
                    <a:lnTo>
                      <a:pt x="830" y="761"/>
                    </a:lnTo>
                    <a:lnTo>
                      <a:pt x="830" y="787"/>
                    </a:lnTo>
                    <a:lnTo>
                      <a:pt x="830" y="798"/>
                    </a:lnTo>
                    <a:lnTo>
                      <a:pt x="830" y="801"/>
                    </a:lnTo>
                    <a:lnTo>
                      <a:pt x="830" y="801"/>
                    </a:lnTo>
                    <a:lnTo>
                      <a:pt x="834" y="812"/>
                    </a:lnTo>
                    <a:lnTo>
                      <a:pt x="838" y="823"/>
                    </a:lnTo>
                    <a:lnTo>
                      <a:pt x="841" y="819"/>
                    </a:lnTo>
                    <a:lnTo>
                      <a:pt x="838" y="819"/>
                    </a:lnTo>
                    <a:lnTo>
                      <a:pt x="838" y="827"/>
                    </a:lnTo>
                    <a:lnTo>
                      <a:pt x="841" y="827"/>
                    </a:lnTo>
                    <a:lnTo>
                      <a:pt x="841" y="823"/>
                    </a:lnTo>
                    <a:lnTo>
                      <a:pt x="823" y="827"/>
                    </a:lnTo>
                    <a:lnTo>
                      <a:pt x="809" y="830"/>
                    </a:lnTo>
                    <a:lnTo>
                      <a:pt x="787" y="830"/>
                    </a:lnTo>
                    <a:lnTo>
                      <a:pt x="769" y="830"/>
                    </a:lnTo>
                    <a:lnTo>
                      <a:pt x="751" y="830"/>
                    </a:lnTo>
                    <a:lnTo>
                      <a:pt x="732" y="830"/>
                    </a:lnTo>
                    <a:lnTo>
                      <a:pt x="714" y="827"/>
                    </a:lnTo>
                    <a:lnTo>
                      <a:pt x="696" y="827"/>
                    </a:lnTo>
                    <a:lnTo>
                      <a:pt x="667" y="823"/>
                    </a:lnTo>
                    <a:lnTo>
                      <a:pt x="642" y="819"/>
                    </a:lnTo>
                    <a:lnTo>
                      <a:pt x="627" y="816"/>
                    </a:lnTo>
                    <a:lnTo>
                      <a:pt x="627" y="819"/>
                    </a:lnTo>
                    <a:lnTo>
                      <a:pt x="631" y="816"/>
                    </a:lnTo>
                    <a:lnTo>
                      <a:pt x="624" y="812"/>
                    </a:lnTo>
                    <a:lnTo>
                      <a:pt x="624" y="812"/>
                    </a:lnTo>
                    <a:lnTo>
                      <a:pt x="620" y="812"/>
                    </a:lnTo>
                    <a:lnTo>
                      <a:pt x="606" y="809"/>
                    </a:lnTo>
                    <a:lnTo>
                      <a:pt x="606" y="812"/>
                    </a:lnTo>
                    <a:lnTo>
                      <a:pt x="609" y="809"/>
                    </a:lnTo>
                    <a:lnTo>
                      <a:pt x="598" y="801"/>
                    </a:lnTo>
                    <a:lnTo>
                      <a:pt x="587" y="794"/>
                    </a:lnTo>
                    <a:lnTo>
                      <a:pt x="584" y="798"/>
                    </a:lnTo>
                    <a:lnTo>
                      <a:pt x="591" y="798"/>
                    </a:lnTo>
                    <a:lnTo>
                      <a:pt x="584" y="787"/>
                    </a:lnTo>
                    <a:lnTo>
                      <a:pt x="584" y="787"/>
                    </a:lnTo>
                    <a:lnTo>
                      <a:pt x="580" y="783"/>
                    </a:lnTo>
                    <a:lnTo>
                      <a:pt x="573" y="776"/>
                    </a:lnTo>
                    <a:lnTo>
                      <a:pt x="569" y="780"/>
                    </a:lnTo>
                    <a:lnTo>
                      <a:pt x="577" y="780"/>
                    </a:lnTo>
                    <a:lnTo>
                      <a:pt x="573" y="769"/>
                    </a:lnTo>
                    <a:lnTo>
                      <a:pt x="569" y="758"/>
                    </a:lnTo>
                    <a:lnTo>
                      <a:pt x="566" y="751"/>
                    </a:lnTo>
                    <a:lnTo>
                      <a:pt x="558" y="751"/>
                    </a:lnTo>
                    <a:lnTo>
                      <a:pt x="566" y="751"/>
                    </a:lnTo>
                    <a:lnTo>
                      <a:pt x="566" y="740"/>
                    </a:lnTo>
                    <a:lnTo>
                      <a:pt x="558" y="740"/>
                    </a:lnTo>
                    <a:lnTo>
                      <a:pt x="566" y="743"/>
                    </a:lnTo>
                    <a:lnTo>
                      <a:pt x="569" y="732"/>
                    </a:lnTo>
                    <a:lnTo>
                      <a:pt x="569" y="732"/>
                    </a:lnTo>
                    <a:lnTo>
                      <a:pt x="569" y="729"/>
                    </a:lnTo>
                    <a:lnTo>
                      <a:pt x="569" y="722"/>
                    </a:lnTo>
                    <a:lnTo>
                      <a:pt x="562" y="722"/>
                    </a:lnTo>
                    <a:lnTo>
                      <a:pt x="569" y="725"/>
                    </a:lnTo>
                    <a:lnTo>
                      <a:pt x="573" y="718"/>
                    </a:lnTo>
                    <a:lnTo>
                      <a:pt x="577" y="707"/>
                    </a:lnTo>
                    <a:lnTo>
                      <a:pt x="580" y="700"/>
                    </a:lnTo>
                    <a:lnTo>
                      <a:pt x="573" y="696"/>
                    </a:lnTo>
                    <a:lnTo>
                      <a:pt x="577" y="700"/>
                    </a:lnTo>
                    <a:lnTo>
                      <a:pt x="584" y="692"/>
                    </a:lnTo>
                    <a:lnTo>
                      <a:pt x="580" y="689"/>
                    </a:lnTo>
                    <a:lnTo>
                      <a:pt x="584" y="696"/>
                    </a:lnTo>
                    <a:lnTo>
                      <a:pt x="591" y="692"/>
                    </a:lnTo>
                    <a:lnTo>
                      <a:pt x="591" y="692"/>
                    </a:lnTo>
                    <a:lnTo>
                      <a:pt x="591" y="689"/>
                    </a:lnTo>
                    <a:lnTo>
                      <a:pt x="598" y="682"/>
                    </a:lnTo>
                    <a:lnTo>
                      <a:pt x="606" y="674"/>
                    </a:lnTo>
                    <a:lnTo>
                      <a:pt x="609" y="674"/>
                    </a:lnTo>
                    <a:lnTo>
                      <a:pt x="609" y="674"/>
                    </a:lnTo>
                    <a:lnTo>
                      <a:pt x="613" y="663"/>
                    </a:lnTo>
                    <a:lnTo>
                      <a:pt x="616" y="653"/>
                    </a:lnTo>
                    <a:lnTo>
                      <a:pt x="620" y="642"/>
                    </a:lnTo>
                    <a:lnTo>
                      <a:pt x="620" y="642"/>
                    </a:lnTo>
                    <a:lnTo>
                      <a:pt x="620" y="638"/>
                    </a:lnTo>
                    <a:lnTo>
                      <a:pt x="620" y="624"/>
                    </a:lnTo>
                    <a:lnTo>
                      <a:pt x="620" y="613"/>
                    </a:lnTo>
                    <a:lnTo>
                      <a:pt x="620" y="598"/>
                    </a:lnTo>
                    <a:lnTo>
                      <a:pt x="620" y="598"/>
                    </a:lnTo>
                    <a:lnTo>
                      <a:pt x="620" y="598"/>
                    </a:lnTo>
                    <a:lnTo>
                      <a:pt x="616" y="587"/>
                    </a:lnTo>
                    <a:lnTo>
                      <a:pt x="613" y="576"/>
                    </a:lnTo>
                    <a:lnTo>
                      <a:pt x="609" y="569"/>
                    </a:lnTo>
                    <a:lnTo>
                      <a:pt x="609" y="569"/>
                    </a:lnTo>
                    <a:lnTo>
                      <a:pt x="606" y="566"/>
                    </a:lnTo>
                    <a:lnTo>
                      <a:pt x="602" y="562"/>
                    </a:lnTo>
                    <a:lnTo>
                      <a:pt x="598" y="566"/>
                    </a:lnTo>
                    <a:lnTo>
                      <a:pt x="606" y="566"/>
                    </a:lnTo>
                    <a:lnTo>
                      <a:pt x="602" y="558"/>
                    </a:lnTo>
                    <a:lnTo>
                      <a:pt x="598" y="555"/>
                    </a:lnTo>
                    <a:lnTo>
                      <a:pt x="598" y="555"/>
                    </a:lnTo>
                    <a:lnTo>
                      <a:pt x="591" y="551"/>
                    </a:lnTo>
                    <a:lnTo>
                      <a:pt x="584" y="547"/>
                    </a:lnTo>
                    <a:lnTo>
                      <a:pt x="580" y="551"/>
                    </a:lnTo>
                    <a:lnTo>
                      <a:pt x="584" y="547"/>
                    </a:lnTo>
                    <a:lnTo>
                      <a:pt x="580" y="544"/>
                    </a:lnTo>
                    <a:lnTo>
                      <a:pt x="580" y="544"/>
                    </a:lnTo>
                    <a:lnTo>
                      <a:pt x="580" y="544"/>
                    </a:lnTo>
                    <a:lnTo>
                      <a:pt x="573" y="540"/>
                    </a:lnTo>
                    <a:lnTo>
                      <a:pt x="573" y="540"/>
                    </a:lnTo>
                    <a:lnTo>
                      <a:pt x="569" y="540"/>
                    </a:lnTo>
                    <a:lnTo>
                      <a:pt x="562" y="540"/>
                    </a:lnTo>
                    <a:lnTo>
                      <a:pt x="562" y="544"/>
                    </a:lnTo>
                    <a:lnTo>
                      <a:pt x="566" y="540"/>
                    </a:lnTo>
                    <a:lnTo>
                      <a:pt x="555" y="537"/>
                    </a:lnTo>
                    <a:lnTo>
                      <a:pt x="548" y="533"/>
                    </a:lnTo>
                    <a:lnTo>
                      <a:pt x="548" y="533"/>
                    </a:lnTo>
                    <a:lnTo>
                      <a:pt x="544" y="533"/>
                    </a:lnTo>
                    <a:lnTo>
                      <a:pt x="533" y="533"/>
                    </a:lnTo>
                    <a:lnTo>
                      <a:pt x="522" y="533"/>
                    </a:lnTo>
                    <a:lnTo>
                      <a:pt x="515" y="533"/>
                    </a:lnTo>
                    <a:lnTo>
                      <a:pt x="504" y="533"/>
                    </a:lnTo>
                    <a:lnTo>
                      <a:pt x="504" y="533"/>
                    </a:lnTo>
                    <a:lnTo>
                      <a:pt x="504" y="533"/>
                    </a:lnTo>
                    <a:lnTo>
                      <a:pt x="493" y="537"/>
                    </a:lnTo>
                    <a:lnTo>
                      <a:pt x="493" y="540"/>
                    </a:lnTo>
                    <a:lnTo>
                      <a:pt x="493" y="537"/>
                    </a:lnTo>
                    <a:lnTo>
                      <a:pt x="486" y="537"/>
                    </a:lnTo>
                    <a:lnTo>
                      <a:pt x="486" y="537"/>
                    </a:lnTo>
                    <a:lnTo>
                      <a:pt x="486" y="537"/>
                    </a:lnTo>
                    <a:lnTo>
                      <a:pt x="479" y="540"/>
                    </a:lnTo>
                    <a:lnTo>
                      <a:pt x="471" y="544"/>
                    </a:lnTo>
                    <a:lnTo>
                      <a:pt x="464" y="547"/>
                    </a:lnTo>
                    <a:lnTo>
                      <a:pt x="464" y="547"/>
                    </a:lnTo>
                    <a:lnTo>
                      <a:pt x="460" y="547"/>
                    </a:lnTo>
                    <a:lnTo>
                      <a:pt x="457" y="551"/>
                    </a:lnTo>
                    <a:lnTo>
                      <a:pt x="460" y="555"/>
                    </a:lnTo>
                    <a:lnTo>
                      <a:pt x="460" y="551"/>
                    </a:lnTo>
                    <a:lnTo>
                      <a:pt x="453" y="551"/>
                    </a:lnTo>
                    <a:lnTo>
                      <a:pt x="453" y="551"/>
                    </a:lnTo>
                    <a:lnTo>
                      <a:pt x="450" y="551"/>
                    </a:lnTo>
                    <a:lnTo>
                      <a:pt x="446" y="555"/>
                    </a:lnTo>
                    <a:lnTo>
                      <a:pt x="446" y="558"/>
                    </a:lnTo>
                    <a:lnTo>
                      <a:pt x="446" y="558"/>
                    </a:lnTo>
                    <a:lnTo>
                      <a:pt x="442" y="566"/>
                    </a:lnTo>
                    <a:lnTo>
                      <a:pt x="446" y="566"/>
                    </a:lnTo>
                    <a:lnTo>
                      <a:pt x="446" y="562"/>
                    </a:lnTo>
                    <a:lnTo>
                      <a:pt x="439" y="566"/>
                    </a:lnTo>
                    <a:lnTo>
                      <a:pt x="435" y="566"/>
                    </a:lnTo>
                    <a:lnTo>
                      <a:pt x="435" y="569"/>
                    </a:lnTo>
                    <a:lnTo>
                      <a:pt x="428" y="580"/>
                    </a:lnTo>
                    <a:lnTo>
                      <a:pt x="424" y="591"/>
                    </a:lnTo>
                    <a:lnTo>
                      <a:pt x="421" y="602"/>
                    </a:lnTo>
                    <a:lnTo>
                      <a:pt x="421" y="602"/>
                    </a:lnTo>
                    <a:lnTo>
                      <a:pt x="421" y="602"/>
                    </a:lnTo>
                    <a:lnTo>
                      <a:pt x="421" y="613"/>
                    </a:lnTo>
                    <a:lnTo>
                      <a:pt x="421" y="624"/>
                    </a:lnTo>
                    <a:lnTo>
                      <a:pt x="421" y="638"/>
                    </a:lnTo>
                    <a:lnTo>
                      <a:pt x="421" y="642"/>
                    </a:lnTo>
                    <a:lnTo>
                      <a:pt x="421" y="642"/>
                    </a:lnTo>
                    <a:lnTo>
                      <a:pt x="424" y="653"/>
                    </a:lnTo>
                    <a:lnTo>
                      <a:pt x="428" y="663"/>
                    </a:lnTo>
                    <a:lnTo>
                      <a:pt x="428" y="663"/>
                    </a:lnTo>
                    <a:lnTo>
                      <a:pt x="428" y="663"/>
                    </a:lnTo>
                    <a:lnTo>
                      <a:pt x="435" y="671"/>
                    </a:lnTo>
                    <a:lnTo>
                      <a:pt x="439" y="667"/>
                    </a:lnTo>
                    <a:lnTo>
                      <a:pt x="435" y="671"/>
                    </a:lnTo>
                    <a:lnTo>
                      <a:pt x="442" y="682"/>
                    </a:lnTo>
                    <a:lnTo>
                      <a:pt x="442" y="682"/>
                    </a:lnTo>
                    <a:lnTo>
                      <a:pt x="446" y="685"/>
                    </a:lnTo>
                    <a:lnTo>
                      <a:pt x="457" y="692"/>
                    </a:lnTo>
                    <a:lnTo>
                      <a:pt x="457" y="685"/>
                    </a:lnTo>
                    <a:lnTo>
                      <a:pt x="453" y="689"/>
                    </a:lnTo>
                    <a:lnTo>
                      <a:pt x="457" y="700"/>
                    </a:lnTo>
                    <a:lnTo>
                      <a:pt x="457" y="700"/>
                    </a:lnTo>
                    <a:lnTo>
                      <a:pt x="457" y="700"/>
                    </a:lnTo>
                    <a:lnTo>
                      <a:pt x="464" y="707"/>
                    </a:lnTo>
                    <a:lnTo>
                      <a:pt x="468" y="703"/>
                    </a:lnTo>
                    <a:lnTo>
                      <a:pt x="464" y="707"/>
                    </a:lnTo>
                    <a:lnTo>
                      <a:pt x="468" y="718"/>
                    </a:lnTo>
                    <a:lnTo>
                      <a:pt x="471" y="714"/>
                    </a:lnTo>
                    <a:lnTo>
                      <a:pt x="468" y="714"/>
                    </a:lnTo>
                    <a:lnTo>
                      <a:pt x="468" y="725"/>
                    </a:lnTo>
                    <a:lnTo>
                      <a:pt x="468" y="736"/>
                    </a:lnTo>
                    <a:lnTo>
                      <a:pt x="468" y="743"/>
                    </a:lnTo>
                    <a:lnTo>
                      <a:pt x="471" y="743"/>
                    </a:lnTo>
                    <a:lnTo>
                      <a:pt x="468" y="743"/>
                    </a:lnTo>
                    <a:lnTo>
                      <a:pt x="464" y="754"/>
                    </a:lnTo>
                    <a:lnTo>
                      <a:pt x="460" y="765"/>
                    </a:lnTo>
                    <a:lnTo>
                      <a:pt x="453" y="776"/>
                    </a:lnTo>
                    <a:lnTo>
                      <a:pt x="457" y="776"/>
                    </a:lnTo>
                    <a:lnTo>
                      <a:pt x="453" y="772"/>
                    </a:lnTo>
                    <a:lnTo>
                      <a:pt x="446" y="780"/>
                    </a:lnTo>
                    <a:lnTo>
                      <a:pt x="439" y="787"/>
                    </a:lnTo>
                    <a:lnTo>
                      <a:pt x="442" y="790"/>
                    </a:lnTo>
                    <a:lnTo>
                      <a:pt x="442" y="787"/>
                    </a:lnTo>
                    <a:lnTo>
                      <a:pt x="428" y="794"/>
                    </a:lnTo>
                    <a:lnTo>
                      <a:pt x="428" y="794"/>
                    </a:lnTo>
                    <a:lnTo>
                      <a:pt x="424" y="794"/>
                    </a:lnTo>
                    <a:lnTo>
                      <a:pt x="413" y="805"/>
                    </a:lnTo>
                    <a:lnTo>
                      <a:pt x="417" y="809"/>
                    </a:lnTo>
                    <a:lnTo>
                      <a:pt x="417" y="805"/>
                    </a:lnTo>
                    <a:lnTo>
                      <a:pt x="402" y="809"/>
                    </a:lnTo>
                    <a:lnTo>
                      <a:pt x="384" y="812"/>
                    </a:lnTo>
                    <a:lnTo>
                      <a:pt x="373" y="812"/>
                    </a:lnTo>
                    <a:lnTo>
                      <a:pt x="355" y="812"/>
                    </a:lnTo>
                    <a:lnTo>
                      <a:pt x="334" y="812"/>
                    </a:lnTo>
                    <a:lnTo>
                      <a:pt x="312" y="812"/>
                    </a:lnTo>
                    <a:lnTo>
                      <a:pt x="290" y="812"/>
                    </a:lnTo>
                    <a:lnTo>
                      <a:pt x="265" y="812"/>
                    </a:lnTo>
                    <a:lnTo>
                      <a:pt x="239" y="812"/>
                    </a:lnTo>
                    <a:lnTo>
                      <a:pt x="214" y="812"/>
                    </a:lnTo>
                    <a:lnTo>
                      <a:pt x="214" y="816"/>
                    </a:lnTo>
                    <a:lnTo>
                      <a:pt x="221" y="819"/>
                    </a:lnTo>
                    <a:lnTo>
                      <a:pt x="225" y="809"/>
                    </a:lnTo>
                    <a:lnTo>
                      <a:pt x="228" y="794"/>
                    </a:lnTo>
                    <a:lnTo>
                      <a:pt x="232" y="780"/>
                    </a:lnTo>
                    <a:lnTo>
                      <a:pt x="236" y="765"/>
                    </a:lnTo>
                    <a:lnTo>
                      <a:pt x="236" y="765"/>
                    </a:lnTo>
                    <a:lnTo>
                      <a:pt x="236" y="761"/>
                    </a:lnTo>
                    <a:lnTo>
                      <a:pt x="236" y="747"/>
                    </a:lnTo>
                    <a:lnTo>
                      <a:pt x="228" y="747"/>
                    </a:lnTo>
                    <a:lnTo>
                      <a:pt x="236" y="751"/>
                    </a:lnTo>
                    <a:lnTo>
                      <a:pt x="239" y="736"/>
                    </a:lnTo>
                    <a:lnTo>
                      <a:pt x="239" y="736"/>
                    </a:lnTo>
                    <a:lnTo>
                      <a:pt x="239" y="732"/>
                    </a:lnTo>
                    <a:lnTo>
                      <a:pt x="239" y="718"/>
                    </a:lnTo>
                    <a:lnTo>
                      <a:pt x="239" y="703"/>
                    </a:lnTo>
                    <a:lnTo>
                      <a:pt x="239" y="689"/>
                    </a:lnTo>
                    <a:lnTo>
                      <a:pt x="239" y="674"/>
                    </a:lnTo>
                    <a:lnTo>
                      <a:pt x="239" y="674"/>
                    </a:lnTo>
                    <a:lnTo>
                      <a:pt x="239" y="674"/>
                    </a:lnTo>
                    <a:lnTo>
                      <a:pt x="236" y="660"/>
                    </a:lnTo>
                    <a:lnTo>
                      <a:pt x="228" y="660"/>
                    </a:lnTo>
                    <a:lnTo>
                      <a:pt x="236" y="660"/>
                    </a:lnTo>
                    <a:lnTo>
                      <a:pt x="236" y="645"/>
                    </a:lnTo>
                    <a:lnTo>
                      <a:pt x="236" y="645"/>
                    </a:lnTo>
                    <a:lnTo>
                      <a:pt x="236" y="645"/>
                    </a:lnTo>
                    <a:lnTo>
                      <a:pt x="232" y="634"/>
                    </a:lnTo>
                    <a:lnTo>
                      <a:pt x="228" y="624"/>
                    </a:lnTo>
                    <a:lnTo>
                      <a:pt x="225" y="613"/>
                    </a:lnTo>
                    <a:lnTo>
                      <a:pt x="221" y="605"/>
                    </a:lnTo>
                    <a:lnTo>
                      <a:pt x="218" y="595"/>
                    </a:lnTo>
                    <a:lnTo>
                      <a:pt x="218" y="595"/>
                    </a:lnTo>
                    <a:lnTo>
                      <a:pt x="214" y="591"/>
                    </a:lnTo>
                    <a:lnTo>
                      <a:pt x="210" y="587"/>
                    </a:lnTo>
                    <a:lnTo>
                      <a:pt x="207" y="591"/>
                    </a:lnTo>
                    <a:lnTo>
                      <a:pt x="214" y="591"/>
                    </a:lnTo>
                    <a:lnTo>
                      <a:pt x="210" y="584"/>
                    </a:lnTo>
                    <a:lnTo>
                      <a:pt x="210" y="584"/>
                    </a:lnTo>
                    <a:lnTo>
                      <a:pt x="207" y="580"/>
                    </a:lnTo>
                    <a:lnTo>
                      <a:pt x="203" y="576"/>
                    </a:lnTo>
                    <a:lnTo>
                      <a:pt x="203" y="576"/>
                    </a:lnTo>
                    <a:lnTo>
                      <a:pt x="203" y="576"/>
                    </a:lnTo>
                    <a:lnTo>
                      <a:pt x="196" y="573"/>
                    </a:lnTo>
                    <a:lnTo>
                      <a:pt x="196" y="573"/>
                    </a:lnTo>
                    <a:lnTo>
                      <a:pt x="192" y="573"/>
                    </a:lnTo>
                    <a:lnTo>
                      <a:pt x="189" y="573"/>
                    </a:lnTo>
                    <a:lnTo>
                      <a:pt x="189" y="576"/>
                    </a:lnTo>
                    <a:lnTo>
                      <a:pt x="192" y="573"/>
                    </a:lnTo>
                    <a:lnTo>
                      <a:pt x="189" y="569"/>
                    </a:lnTo>
                    <a:lnTo>
                      <a:pt x="189" y="569"/>
                    </a:lnTo>
                    <a:lnTo>
                      <a:pt x="185" y="569"/>
                    </a:lnTo>
                    <a:lnTo>
                      <a:pt x="178" y="569"/>
                    </a:lnTo>
                    <a:lnTo>
                      <a:pt x="167" y="569"/>
                    </a:lnTo>
                    <a:lnTo>
                      <a:pt x="152" y="573"/>
                    </a:lnTo>
                    <a:lnTo>
                      <a:pt x="145" y="573"/>
                    </a:lnTo>
                    <a:lnTo>
                      <a:pt x="152" y="573"/>
                    </a:lnTo>
                    <a:lnTo>
                      <a:pt x="141" y="576"/>
                    </a:lnTo>
                    <a:lnTo>
                      <a:pt x="123" y="584"/>
                    </a:lnTo>
                    <a:lnTo>
                      <a:pt x="112" y="587"/>
                    </a:lnTo>
                    <a:lnTo>
                      <a:pt x="112" y="591"/>
                    </a:lnTo>
                    <a:lnTo>
                      <a:pt x="112" y="587"/>
                    </a:lnTo>
                    <a:lnTo>
                      <a:pt x="105" y="587"/>
                    </a:lnTo>
                    <a:lnTo>
                      <a:pt x="105" y="587"/>
                    </a:lnTo>
                    <a:lnTo>
                      <a:pt x="105" y="587"/>
                    </a:lnTo>
                    <a:lnTo>
                      <a:pt x="98" y="591"/>
                    </a:lnTo>
                    <a:lnTo>
                      <a:pt x="98" y="595"/>
                    </a:lnTo>
                    <a:lnTo>
                      <a:pt x="98" y="591"/>
                    </a:lnTo>
                    <a:lnTo>
                      <a:pt x="87" y="591"/>
                    </a:lnTo>
                    <a:lnTo>
                      <a:pt x="80" y="591"/>
                    </a:lnTo>
                    <a:lnTo>
                      <a:pt x="73" y="591"/>
                    </a:lnTo>
                    <a:lnTo>
                      <a:pt x="65" y="591"/>
                    </a:lnTo>
                    <a:lnTo>
                      <a:pt x="65" y="595"/>
                    </a:lnTo>
                    <a:lnTo>
                      <a:pt x="69" y="591"/>
                    </a:lnTo>
                    <a:lnTo>
                      <a:pt x="62" y="587"/>
                    </a:lnTo>
                    <a:lnTo>
                      <a:pt x="62" y="587"/>
                    </a:lnTo>
                    <a:lnTo>
                      <a:pt x="58" y="587"/>
                    </a:lnTo>
                    <a:lnTo>
                      <a:pt x="51" y="587"/>
                    </a:lnTo>
                    <a:lnTo>
                      <a:pt x="51" y="591"/>
                    </a:lnTo>
                    <a:lnTo>
                      <a:pt x="54" y="587"/>
                    </a:lnTo>
                    <a:lnTo>
                      <a:pt x="47" y="584"/>
                    </a:lnTo>
                    <a:lnTo>
                      <a:pt x="44" y="587"/>
                    </a:lnTo>
                    <a:lnTo>
                      <a:pt x="47" y="584"/>
                    </a:lnTo>
                    <a:lnTo>
                      <a:pt x="44" y="580"/>
                    </a:lnTo>
                    <a:lnTo>
                      <a:pt x="44" y="580"/>
                    </a:lnTo>
                    <a:lnTo>
                      <a:pt x="40" y="580"/>
                    </a:lnTo>
                    <a:lnTo>
                      <a:pt x="36" y="580"/>
                    </a:lnTo>
                    <a:lnTo>
                      <a:pt x="36" y="584"/>
                    </a:lnTo>
                    <a:lnTo>
                      <a:pt x="40" y="580"/>
                    </a:lnTo>
                    <a:lnTo>
                      <a:pt x="29" y="573"/>
                    </a:lnTo>
                    <a:lnTo>
                      <a:pt x="25" y="576"/>
                    </a:lnTo>
                    <a:lnTo>
                      <a:pt x="33" y="576"/>
                    </a:lnTo>
                    <a:lnTo>
                      <a:pt x="25" y="566"/>
                    </a:lnTo>
                    <a:lnTo>
                      <a:pt x="22" y="558"/>
                    </a:lnTo>
                    <a:lnTo>
                      <a:pt x="15" y="547"/>
                    </a:lnTo>
                    <a:lnTo>
                      <a:pt x="11" y="537"/>
                    </a:lnTo>
                    <a:lnTo>
                      <a:pt x="4" y="537"/>
                    </a:lnTo>
                    <a:lnTo>
                      <a:pt x="11" y="537"/>
                    </a:lnTo>
                    <a:lnTo>
                      <a:pt x="11" y="529"/>
                    </a:lnTo>
                    <a:lnTo>
                      <a:pt x="11" y="518"/>
                    </a:lnTo>
                    <a:lnTo>
                      <a:pt x="11" y="508"/>
                    </a:lnTo>
                    <a:lnTo>
                      <a:pt x="4" y="508"/>
                    </a:lnTo>
                    <a:lnTo>
                      <a:pt x="11" y="511"/>
                    </a:lnTo>
                    <a:lnTo>
                      <a:pt x="15" y="504"/>
                    </a:lnTo>
                    <a:lnTo>
                      <a:pt x="7" y="500"/>
                    </a:lnTo>
                    <a:lnTo>
                      <a:pt x="11" y="504"/>
                    </a:lnTo>
                    <a:lnTo>
                      <a:pt x="15" y="500"/>
                    </a:lnTo>
                    <a:lnTo>
                      <a:pt x="18" y="500"/>
                    </a:lnTo>
                    <a:lnTo>
                      <a:pt x="18" y="500"/>
                    </a:lnTo>
                    <a:lnTo>
                      <a:pt x="25" y="489"/>
                    </a:lnTo>
                    <a:lnTo>
                      <a:pt x="33" y="478"/>
                    </a:lnTo>
                    <a:lnTo>
                      <a:pt x="25" y="475"/>
                    </a:lnTo>
                    <a:lnTo>
                      <a:pt x="29" y="478"/>
                    </a:lnTo>
                    <a:lnTo>
                      <a:pt x="36" y="471"/>
                    </a:lnTo>
                    <a:lnTo>
                      <a:pt x="33" y="468"/>
                    </a:lnTo>
                    <a:lnTo>
                      <a:pt x="36" y="475"/>
                    </a:lnTo>
                    <a:lnTo>
                      <a:pt x="44" y="471"/>
                    </a:lnTo>
                    <a:lnTo>
                      <a:pt x="44" y="468"/>
                    </a:lnTo>
                    <a:lnTo>
                      <a:pt x="47" y="468"/>
                    </a:lnTo>
                    <a:lnTo>
                      <a:pt x="51" y="460"/>
                    </a:lnTo>
                    <a:lnTo>
                      <a:pt x="44" y="457"/>
                    </a:lnTo>
                    <a:lnTo>
                      <a:pt x="47" y="464"/>
                    </a:lnTo>
                    <a:lnTo>
                      <a:pt x="54" y="460"/>
                    </a:lnTo>
                    <a:lnTo>
                      <a:pt x="51" y="453"/>
                    </a:lnTo>
                    <a:lnTo>
                      <a:pt x="51" y="460"/>
                    </a:lnTo>
                    <a:lnTo>
                      <a:pt x="58" y="460"/>
                    </a:lnTo>
                    <a:lnTo>
                      <a:pt x="62" y="460"/>
                    </a:lnTo>
                    <a:lnTo>
                      <a:pt x="62" y="460"/>
                    </a:lnTo>
                    <a:lnTo>
                      <a:pt x="69" y="457"/>
                    </a:lnTo>
                    <a:lnTo>
                      <a:pt x="65" y="449"/>
                    </a:lnTo>
                    <a:lnTo>
                      <a:pt x="65" y="457"/>
                    </a:lnTo>
                    <a:lnTo>
                      <a:pt x="73" y="457"/>
                    </a:lnTo>
                    <a:lnTo>
                      <a:pt x="80" y="457"/>
                    </a:lnTo>
                    <a:lnTo>
                      <a:pt x="80" y="449"/>
                    </a:lnTo>
                    <a:lnTo>
                      <a:pt x="76" y="453"/>
                    </a:lnTo>
                    <a:lnTo>
                      <a:pt x="80" y="457"/>
                    </a:lnTo>
                    <a:lnTo>
                      <a:pt x="83" y="460"/>
                    </a:lnTo>
                    <a:lnTo>
                      <a:pt x="83" y="460"/>
                    </a:lnTo>
                    <a:lnTo>
                      <a:pt x="91" y="460"/>
                    </a:lnTo>
                    <a:lnTo>
                      <a:pt x="105" y="464"/>
                    </a:lnTo>
                    <a:lnTo>
                      <a:pt x="105" y="457"/>
                    </a:lnTo>
                    <a:lnTo>
                      <a:pt x="105" y="464"/>
                    </a:lnTo>
                    <a:lnTo>
                      <a:pt x="116" y="471"/>
                    </a:lnTo>
                    <a:lnTo>
                      <a:pt x="131" y="478"/>
                    </a:lnTo>
                    <a:lnTo>
                      <a:pt x="141" y="486"/>
                    </a:lnTo>
                    <a:lnTo>
                      <a:pt x="152" y="489"/>
                    </a:lnTo>
                    <a:lnTo>
                      <a:pt x="167" y="497"/>
                    </a:lnTo>
                    <a:lnTo>
                      <a:pt x="167" y="497"/>
                    </a:lnTo>
                    <a:lnTo>
                      <a:pt x="167" y="497"/>
                    </a:lnTo>
                    <a:lnTo>
                      <a:pt x="174" y="497"/>
                    </a:lnTo>
                    <a:lnTo>
                      <a:pt x="174" y="489"/>
                    </a:lnTo>
                    <a:lnTo>
                      <a:pt x="170" y="493"/>
                    </a:lnTo>
                    <a:lnTo>
                      <a:pt x="174" y="497"/>
                    </a:lnTo>
                    <a:lnTo>
                      <a:pt x="178" y="500"/>
                    </a:lnTo>
                    <a:lnTo>
                      <a:pt x="178" y="500"/>
                    </a:lnTo>
                    <a:lnTo>
                      <a:pt x="185" y="500"/>
                    </a:lnTo>
                    <a:lnTo>
                      <a:pt x="192" y="500"/>
                    </a:lnTo>
                    <a:lnTo>
                      <a:pt x="196" y="500"/>
                    </a:lnTo>
                    <a:lnTo>
                      <a:pt x="196" y="497"/>
                    </a:lnTo>
                    <a:lnTo>
                      <a:pt x="199" y="493"/>
                    </a:lnTo>
                    <a:lnTo>
                      <a:pt x="196" y="489"/>
                    </a:lnTo>
                    <a:lnTo>
                      <a:pt x="199" y="497"/>
                    </a:lnTo>
                    <a:lnTo>
                      <a:pt x="207" y="493"/>
                    </a:lnTo>
                    <a:lnTo>
                      <a:pt x="214" y="489"/>
                    </a:lnTo>
                    <a:lnTo>
                      <a:pt x="214" y="489"/>
                    </a:lnTo>
                    <a:lnTo>
                      <a:pt x="214" y="486"/>
                    </a:lnTo>
                    <a:lnTo>
                      <a:pt x="218" y="482"/>
                    </a:lnTo>
                    <a:close/>
                  </a:path>
                </a:pathLst>
              </a:custGeom>
              <a:solidFill>
                <a:srgbClr val="00ff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1142640" y="2579760"/>
              <a:ext cx="1615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649440"/>
                  <a:tab algn="l" pos="1298520"/>
                  <a:tab algn="l" pos="1947960"/>
                  <a:tab algn="l" pos="2597040"/>
                  <a:tab algn="l" pos="3246480"/>
                  <a:tab algn="l" pos="3895560"/>
                  <a:tab algn="l" pos="4545000"/>
                  <a:tab algn="l" pos="5194440"/>
                  <a:tab algn="l" pos="5843520"/>
                  <a:tab algn="l" pos="6492960"/>
                  <a:tab algn="l" pos="7142040"/>
                  <a:tab algn="l" pos="7791480"/>
                  <a:tab algn="l" pos="8440560"/>
                  <a:tab algn="l" pos="9090000"/>
                  <a:tab algn="l" pos="9739440"/>
                  <a:tab algn="l" pos="103885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UCTU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751200" y="646200"/>
            <a:ext cx="1333080" cy="1850400"/>
            <a:chOff x="3751200" y="646200"/>
            <a:chExt cx="1333080" cy="1850400"/>
          </a:xfrm>
        </p:grpSpPr>
        <p:grpSp>
          <p:nvGrpSpPr>
            <p:cNvPr id="189" name=""/>
            <p:cNvGrpSpPr/>
            <p:nvPr/>
          </p:nvGrpSpPr>
          <p:grpSpPr>
            <a:xfrm>
              <a:off x="3751200" y="646200"/>
              <a:ext cx="1333080" cy="1850400"/>
              <a:chOff x="3751200" y="646200"/>
              <a:chExt cx="1333080" cy="1850400"/>
            </a:xfrm>
          </p:grpSpPr>
          <p:sp>
            <p:nvSpPr>
              <p:cNvPr id="190" name=""/>
              <p:cNvSpPr/>
              <p:nvPr/>
            </p:nvSpPr>
            <p:spPr>
              <a:xfrm>
                <a:off x="3759120" y="654120"/>
                <a:ext cx="1311480" cy="1828800"/>
              </a:xfrm>
              <a:custGeom>
                <a:avLst/>
                <a:gdLst/>
                <a:ahLst/>
                <a:rect l="l" t="t" r="r" b="b"/>
                <a:pathLst>
                  <a:path w="667" h="914">
                    <a:moveTo>
                      <a:pt x="203" y="881"/>
                    </a:moveTo>
                    <a:lnTo>
                      <a:pt x="218" y="885"/>
                    </a:lnTo>
                    <a:lnTo>
                      <a:pt x="228" y="888"/>
                    </a:lnTo>
                    <a:lnTo>
                      <a:pt x="243" y="888"/>
                    </a:lnTo>
                    <a:lnTo>
                      <a:pt x="254" y="888"/>
                    </a:lnTo>
                    <a:lnTo>
                      <a:pt x="261" y="888"/>
                    </a:lnTo>
                    <a:lnTo>
                      <a:pt x="268" y="885"/>
                    </a:lnTo>
                    <a:lnTo>
                      <a:pt x="276" y="881"/>
                    </a:lnTo>
                    <a:lnTo>
                      <a:pt x="279" y="874"/>
                    </a:lnTo>
                    <a:lnTo>
                      <a:pt x="286" y="870"/>
                    </a:lnTo>
                    <a:lnTo>
                      <a:pt x="286" y="863"/>
                    </a:lnTo>
                    <a:lnTo>
                      <a:pt x="286" y="856"/>
                    </a:lnTo>
                    <a:lnTo>
                      <a:pt x="286" y="845"/>
                    </a:lnTo>
                    <a:lnTo>
                      <a:pt x="286" y="837"/>
                    </a:lnTo>
                    <a:lnTo>
                      <a:pt x="283" y="830"/>
                    </a:lnTo>
                    <a:lnTo>
                      <a:pt x="279" y="823"/>
                    </a:lnTo>
                    <a:lnTo>
                      <a:pt x="272" y="816"/>
                    </a:lnTo>
                    <a:lnTo>
                      <a:pt x="265" y="808"/>
                    </a:lnTo>
                    <a:lnTo>
                      <a:pt x="257" y="794"/>
                    </a:lnTo>
                    <a:lnTo>
                      <a:pt x="254" y="783"/>
                    </a:lnTo>
                    <a:lnTo>
                      <a:pt x="250" y="772"/>
                    </a:lnTo>
                    <a:lnTo>
                      <a:pt x="247" y="761"/>
                    </a:lnTo>
                    <a:lnTo>
                      <a:pt x="243" y="747"/>
                    </a:lnTo>
                    <a:lnTo>
                      <a:pt x="243" y="736"/>
                    </a:lnTo>
                    <a:lnTo>
                      <a:pt x="247" y="721"/>
                    </a:lnTo>
                    <a:lnTo>
                      <a:pt x="250" y="710"/>
                    </a:lnTo>
                    <a:lnTo>
                      <a:pt x="254" y="700"/>
                    </a:lnTo>
                    <a:lnTo>
                      <a:pt x="257" y="696"/>
                    </a:lnTo>
                    <a:lnTo>
                      <a:pt x="261" y="689"/>
                    </a:lnTo>
                    <a:lnTo>
                      <a:pt x="265" y="685"/>
                    </a:lnTo>
                    <a:lnTo>
                      <a:pt x="268" y="681"/>
                    </a:lnTo>
                    <a:lnTo>
                      <a:pt x="272" y="678"/>
                    </a:lnTo>
                    <a:lnTo>
                      <a:pt x="279" y="674"/>
                    </a:lnTo>
                    <a:lnTo>
                      <a:pt x="283" y="674"/>
                    </a:lnTo>
                    <a:lnTo>
                      <a:pt x="290" y="671"/>
                    </a:lnTo>
                    <a:lnTo>
                      <a:pt x="297" y="667"/>
                    </a:lnTo>
                    <a:lnTo>
                      <a:pt x="305" y="667"/>
                    </a:lnTo>
                    <a:lnTo>
                      <a:pt x="312" y="663"/>
                    </a:lnTo>
                    <a:lnTo>
                      <a:pt x="319" y="663"/>
                    </a:lnTo>
                    <a:lnTo>
                      <a:pt x="330" y="663"/>
                    </a:lnTo>
                    <a:lnTo>
                      <a:pt x="337" y="663"/>
                    </a:lnTo>
                    <a:lnTo>
                      <a:pt x="348" y="667"/>
                    </a:lnTo>
                    <a:lnTo>
                      <a:pt x="355" y="667"/>
                    </a:lnTo>
                    <a:lnTo>
                      <a:pt x="363" y="671"/>
                    </a:lnTo>
                    <a:lnTo>
                      <a:pt x="370" y="674"/>
                    </a:lnTo>
                    <a:lnTo>
                      <a:pt x="377" y="674"/>
                    </a:lnTo>
                    <a:lnTo>
                      <a:pt x="381" y="678"/>
                    </a:lnTo>
                    <a:lnTo>
                      <a:pt x="388" y="681"/>
                    </a:lnTo>
                    <a:lnTo>
                      <a:pt x="392" y="685"/>
                    </a:lnTo>
                    <a:lnTo>
                      <a:pt x="399" y="689"/>
                    </a:lnTo>
                    <a:lnTo>
                      <a:pt x="403" y="696"/>
                    </a:lnTo>
                    <a:lnTo>
                      <a:pt x="406" y="703"/>
                    </a:lnTo>
                    <a:lnTo>
                      <a:pt x="413" y="714"/>
                    </a:lnTo>
                    <a:lnTo>
                      <a:pt x="417" y="725"/>
                    </a:lnTo>
                    <a:lnTo>
                      <a:pt x="417" y="736"/>
                    </a:lnTo>
                    <a:lnTo>
                      <a:pt x="417" y="750"/>
                    </a:lnTo>
                    <a:lnTo>
                      <a:pt x="417" y="761"/>
                    </a:lnTo>
                    <a:lnTo>
                      <a:pt x="413" y="772"/>
                    </a:lnTo>
                    <a:lnTo>
                      <a:pt x="410" y="783"/>
                    </a:lnTo>
                    <a:lnTo>
                      <a:pt x="403" y="790"/>
                    </a:lnTo>
                    <a:lnTo>
                      <a:pt x="395" y="801"/>
                    </a:lnTo>
                    <a:lnTo>
                      <a:pt x="381" y="816"/>
                    </a:lnTo>
                    <a:lnTo>
                      <a:pt x="374" y="830"/>
                    </a:lnTo>
                    <a:lnTo>
                      <a:pt x="370" y="837"/>
                    </a:lnTo>
                    <a:lnTo>
                      <a:pt x="366" y="841"/>
                    </a:lnTo>
                    <a:lnTo>
                      <a:pt x="366" y="848"/>
                    </a:lnTo>
                    <a:lnTo>
                      <a:pt x="366" y="852"/>
                    </a:lnTo>
                    <a:lnTo>
                      <a:pt x="366" y="859"/>
                    </a:lnTo>
                    <a:lnTo>
                      <a:pt x="366" y="863"/>
                    </a:lnTo>
                    <a:lnTo>
                      <a:pt x="370" y="866"/>
                    </a:lnTo>
                    <a:lnTo>
                      <a:pt x="374" y="870"/>
                    </a:lnTo>
                    <a:lnTo>
                      <a:pt x="381" y="877"/>
                    </a:lnTo>
                    <a:lnTo>
                      <a:pt x="384" y="881"/>
                    </a:lnTo>
                    <a:lnTo>
                      <a:pt x="392" y="885"/>
                    </a:lnTo>
                    <a:lnTo>
                      <a:pt x="403" y="888"/>
                    </a:lnTo>
                    <a:lnTo>
                      <a:pt x="413" y="892"/>
                    </a:lnTo>
                    <a:lnTo>
                      <a:pt x="428" y="895"/>
                    </a:lnTo>
                    <a:lnTo>
                      <a:pt x="442" y="903"/>
                    </a:lnTo>
                    <a:lnTo>
                      <a:pt x="457" y="903"/>
                    </a:lnTo>
                    <a:lnTo>
                      <a:pt x="471" y="906"/>
                    </a:lnTo>
                    <a:lnTo>
                      <a:pt x="486" y="910"/>
                    </a:lnTo>
                    <a:lnTo>
                      <a:pt x="504" y="914"/>
                    </a:lnTo>
                    <a:lnTo>
                      <a:pt x="522" y="914"/>
                    </a:lnTo>
                    <a:lnTo>
                      <a:pt x="537" y="914"/>
                    </a:lnTo>
                    <a:lnTo>
                      <a:pt x="555" y="914"/>
                    </a:lnTo>
                    <a:lnTo>
                      <a:pt x="569" y="914"/>
                    </a:lnTo>
                    <a:lnTo>
                      <a:pt x="584" y="910"/>
                    </a:lnTo>
                    <a:lnTo>
                      <a:pt x="598" y="906"/>
                    </a:lnTo>
                    <a:lnTo>
                      <a:pt x="613" y="903"/>
                    </a:lnTo>
                    <a:lnTo>
                      <a:pt x="624" y="895"/>
                    </a:lnTo>
                    <a:lnTo>
                      <a:pt x="635" y="888"/>
                    </a:lnTo>
                    <a:lnTo>
                      <a:pt x="631" y="877"/>
                    </a:lnTo>
                    <a:lnTo>
                      <a:pt x="631" y="863"/>
                    </a:lnTo>
                    <a:lnTo>
                      <a:pt x="627" y="848"/>
                    </a:lnTo>
                    <a:lnTo>
                      <a:pt x="627" y="834"/>
                    </a:lnTo>
                    <a:lnTo>
                      <a:pt x="627" y="805"/>
                    </a:lnTo>
                    <a:lnTo>
                      <a:pt x="627" y="772"/>
                    </a:lnTo>
                    <a:lnTo>
                      <a:pt x="631" y="743"/>
                    </a:lnTo>
                    <a:lnTo>
                      <a:pt x="631" y="714"/>
                    </a:lnTo>
                    <a:lnTo>
                      <a:pt x="635" y="692"/>
                    </a:lnTo>
                    <a:lnTo>
                      <a:pt x="635" y="674"/>
                    </a:lnTo>
                    <a:lnTo>
                      <a:pt x="635" y="671"/>
                    </a:lnTo>
                    <a:lnTo>
                      <a:pt x="631" y="663"/>
                    </a:lnTo>
                    <a:lnTo>
                      <a:pt x="627" y="656"/>
                    </a:lnTo>
                    <a:lnTo>
                      <a:pt x="624" y="649"/>
                    </a:lnTo>
                    <a:lnTo>
                      <a:pt x="616" y="645"/>
                    </a:lnTo>
                    <a:lnTo>
                      <a:pt x="609" y="642"/>
                    </a:lnTo>
                    <a:lnTo>
                      <a:pt x="602" y="634"/>
                    </a:lnTo>
                    <a:lnTo>
                      <a:pt x="595" y="634"/>
                    </a:lnTo>
                    <a:lnTo>
                      <a:pt x="587" y="631"/>
                    </a:lnTo>
                    <a:lnTo>
                      <a:pt x="580" y="627"/>
                    </a:lnTo>
                    <a:lnTo>
                      <a:pt x="573" y="627"/>
                    </a:lnTo>
                    <a:lnTo>
                      <a:pt x="562" y="627"/>
                    </a:lnTo>
                    <a:lnTo>
                      <a:pt x="555" y="631"/>
                    </a:lnTo>
                    <a:lnTo>
                      <a:pt x="548" y="634"/>
                    </a:lnTo>
                    <a:lnTo>
                      <a:pt x="540" y="638"/>
                    </a:lnTo>
                    <a:lnTo>
                      <a:pt x="537" y="645"/>
                    </a:lnTo>
                    <a:lnTo>
                      <a:pt x="529" y="649"/>
                    </a:lnTo>
                    <a:lnTo>
                      <a:pt x="522" y="652"/>
                    </a:lnTo>
                    <a:lnTo>
                      <a:pt x="515" y="656"/>
                    </a:lnTo>
                    <a:lnTo>
                      <a:pt x="504" y="660"/>
                    </a:lnTo>
                    <a:lnTo>
                      <a:pt x="493" y="660"/>
                    </a:lnTo>
                    <a:lnTo>
                      <a:pt x="482" y="660"/>
                    </a:lnTo>
                    <a:lnTo>
                      <a:pt x="471" y="660"/>
                    </a:lnTo>
                    <a:lnTo>
                      <a:pt x="461" y="656"/>
                    </a:lnTo>
                    <a:lnTo>
                      <a:pt x="450" y="652"/>
                    </a:lnTo>
                    <a:lnTo>
                      <a:pt x="439" y="645"/>
                    </a:lnTo>
                    <a:lnTo>
                      <a:pt x="432" y="638"/>
                    </a:lnTo>
                    <a:lnTo>
                      <a:pt x="421" y="631"/>
                    </a:lnTo>
                    <a:lnTo>
                      <a:pt x="417" y="623"/>
                    </a:lnTo>
                    <a:lnTo>
                      <a:pt x="413" y="620"/>
                    </a:lnTo>
                    <a:lnTo>
                      <a:pt x="413" y="613"/>
                    </a:lnTo>
                    <a:lnTo>
                      <a:pt x="410" y="609"/>
                    </a:lnTo>
                    <a:lnTo>
                      <a:pt x="406" y="602"/>
                    </a:lnTo>
                    <a:lnTo>
                      <a:pt x="406" y="594"/>
                    </a:lnTo>
                    <a:lnTo>
                      <a:pt x="406" y="587"/>
                    </a:lnTo>
                    <a:lnTo>
                      <a:pt x="406" y="580"/>
                    </a:lnTo>
                    <a:lnTo>
                      <a:pt x="406" y="573"/>
                    </a:lnTo>
                    <a:lnTo>
                      <a:pt x="406" y="562"/>
                    </a:lnTo>
                    <a:lnTo>
                      <a:pt x="406" y="554"/>
                    </a:lnTo>
                    <a:lnTo>
                      <a:pt x="410" y="547"/>
                    </a:lnTo>
                    <a:lnTo>
                      <a:pt x="413" y="540"/>
                    </a:lnTo>
                    <a:lnTo>
                      <a:pt x="413" y="533"/>
                    </a:lnTo>
                    <a:lnTo>
                      <a:pt x="417" y="529"/>
                    </a:lnTo>
                    <a:lnTo>
                      <a:pt x="424" y="522"/>
                    </a:lnTo>
                    <a:lnTo>
                      <a:pt x="432" y="515"/>
                    </a:lnTo>
                    <a:lnTo>
                      <a:pt x="442" y="504"/>
                    </a:lnTo>
                    <a:lnTo>
                      <a:pt x="453" y="496"/>
                    </a:lnTo>
                    <a:lnTo>
                      <a:pt x="464" y="493"/>
                    </a:lnTo>
                    <a:lnTo>
                      <a:pt x="475" y="489"/>
                    </a:lnTo>
                    <a:lnTo>
                      <a:pt x="486" y="489"/>
                    </a:lnTo>
                    <a:lnTo>
                      <a:pt x="500" y="489"/>
                    </a:lnTo>
                    <a:lnTo>
                      <a:pt x="511" y="489"/>
                    </a:lnTo>
                    <a:lnTo>
                      <a:pt x="522" y="493"/>
                    </a:lnTo>
                    <a:lnTo>
                      <a:pt x="533" y="496"/>
                    </a:lnTo>
                    <a:lnTo>
                      <a:pt x="540" y="504"/>
                    </a:lnTo>
                    <a:lnTo>
                      <a:pt x="548" y="507"/>
                    </a:lnTo>
                    <a:lnTo>
                      <a:pt x="551" y="515"/>
                    </a:lnTo>
                    <a:lnTo>
                      <a:pt x="558" y="518"/>
                    </a:lnTo>
                    <a:lnTo>
                      <a:pt x="562" y="522"/>
                    </a:lnTo>
                    <a:lnTo>
                      <a:pt x="569" y="522"/>
                    </a:lnTo>
                    <a:lnTo>
                      <a:pt x="577" y="525"/>
                    </a:lnTo>
                    <a:lnTo>
                      <a:pt x="584" y="529"/>
                    </a:lnTo>
                    <a:lnTo>
                      <a:pt x="591" y="529"/>
                    </a:lnTo>
                    <a:lnTo>
                      <a:pt x="598" y="529"/>
                    </a:lnTo>
                    <a:lnTo>
                      <a:pt x="606" y="529"/>
                    </a:lnTo>
                    <a:lnTo>
                      <a:pt x="613" y="529"/>
                    </a:lnTo>
                    <a:lnTo>
                      <a:pt x="620" y="525"/>
                    </a:lnTo>
                    <a:lnTo>
                      <a:pt x="627" y="525"/>
                    </a:lnTo>
                    <a:lnTo>
                      <a:pt x="635" y="522"/>
                    </a:lnTo>
                    <a:lnTo>
                      <a:pt x="642" y="518"/>
                    </a:lnTo>
                    <a:lnTo>
                      <a:pt x="649" y="515"/>
                    </a:lnTo>
                    <a:lnTo>
                      <a:pt x="656" y="507"/>
                    </a:lnTo>
                    <a:lnTo>
                      <a:pt x="656" y="504"/>
                    </a:lnTo>
                    <a:lnTo>
                      <a:pt x="660" y="504"/>
                    </a:lnTo>
                    <a:lnTo>
                      <a:pt x="664" y="496"/>
                    </a:lnTo>
                    <a:lnTo>
                      <a:pt x="664" y="493"/>
                    </a:lnTo>
                    <a:lnTo>
                      <a:pt x="667" y="482"/>
                    </a:lnTo>
                    <a:lnTo>
                      <a:pt x="667" y="467"/>
                    </a:lnTo>
                    <a:lnTo>
                      <a:pt x="667" y="453"/>
                    </a:lnTo>
                    <a:lnTo>
                      <a:pt x="667" y="438"/>
                    </a:lnTo>
                    <a:lnTo>
                      <a:pt x="667" y="424"/>
                    </a:lnTo>
                    <a:lnTo>
                      <a:pt x="664" y="406"/>
                    </a:lnTo>
                    <a:lnTo>
                      <a:pt x="656" y="373"/>
                    </a:lnTo>
                    <a:lnTo>
                      <a:pt x="649" y="344"/>
                    </a:lnTo>
                    <a:lnTo>
                      <a:pt x="642" y="315"/>
                    </a:lnTo>
                    <a:lnTo>
                      <a:pt x="635" y="293"/>
                    </a:lnTo>
                    <a:lnTo>
                      <a:pt x="616" y="297"/>
                    </a:lnTo>
                    <a:lnTo>
                      <a:pt x="598" y="297"/>
                    </a:lnTo>
                    <a:lnTo>
                      <a:pt x="580" y="301"/>
                    </a:lnTo>
                    <a:lnTo>
                      <a:pt x="562" y="301"/>
                    </a:lnTo>
                    <a:lnTo>
                      <a:pt x="544" y="301"/>
                    </a:lnTo>
                    <a:lnTo>
                      <a:pt x="526" y="301"/>
                    </a:lnTo>
                    <a:lnTo>
                      <a:pt x="508" y="297"/>
                    </a:lnTo>
                    <a:lnTo>
                      <a:pt x="493" y="297"/>
                    </a:lnTo>
                    <a:lnTo>
                      <a:pt x="461" y="293"/>
                    </a:lnTo>
                    <a:lnTo>
                      <a:pt x="439" y="290"/>
                    </a:lnTo>
                    <a:lnTo>
                      <a:pt x="421" y="286"/>
                    </a:lnTo>
                    <a:lnTo>
                      <a:pt x="417" y="282"/>
                    </a:lnTo>
                    <a:lnTo>
                      <a:pt x="403" y="279"/>
                    </a:lnTo>
                    <a:lnTo>
                      <a:pt x="392" y="272"/>
                    </a:lnTo>
                    <a:lnTo>
                      <a:pt x="381" y="264"/>
                    </a:lnTo>
                    <a:lnTo>
                      <a:pt x="374" y="253"/>
                    </a:lnTo>
                    <a:lnTo>
                      <a:pt x="366" y="243"/>
                    </a:lnTo>
                    <a:lnTo>
                      <a:pt x="363" y="235"/>
                    </a:lnTo>
                    <a:lnTo>
                      <a:pt x="359" y="224"/>
                    </a:lnTo>
                    <a:lnTo>
                      <a:pt x="355" y="217"/>
                    </a:lnTo>
                    <a:lnTo>
                      <a:pt x="355" y="206"/>
                    </a:lnTo>
                    <a:lnTo>
                      <a:pt x="359" y="195"/>
                    </a:lnTo>
                    <a:lnTo>
                      <a:pt x="359" y="185"/>
                    </a:lnTo>
                    <a:lnTo>
                      <a:pt x="363" y="177"/>
                    </a:lnTo>
                    <a:lnTo>
                      <a:pt x="366" y="170"/>
                    </a:lnTo>
                    <a:lnTo>
                      <a:pt x="374" y="163"/>
                    </a:lnTo>
                    <a:lnTo>
                      <a:pt x="377" y="155"/>
                    </a:lnTo>
                    <a:lnTo>
                      <a:pt x="384" y="148"/>
                    </a:lnTo>
                    <a:lnTo>
                      <a:pt x="392" y="141"/>
                    </a:lnTo>
                    <a:lnTo>
                      <a:pt x="395" y="134"/>
                    </a:lnTo>
                    <a:lnTo>
                      <a:pt x="403" y="123"/>
                    </a:lnTo>
                    <a:lnTo>
                      <a:pt x="406" y="112"/>
                    </a:lnTo>
                    <a:lnTo>
                      <a:pt x="410" y="101"/>
                    </a:lnTo>
                    <a:lnTo>
                      <a:pt x="410" y="87"/>
                    </a:lnTo>
                    <a:lnTo>
                      <a:pt x="410" y="76"/>
                    </a:lnTo>
                    <a:lnTo>
                      <a:pt x="410" y="61"/>
                    </a:lnTo>
                    <a:lnTo>
                      <a:pt x="406" y="50"/>
                    </a:lnTo>
                    <a:lnTo>
                      <a:pt x="403" y="36"/>
                    </a:lnTo>
                    <a:lnTo>
                      <a:pt x="399" y="32"/>
                    </a:lnTo>
                    <a:lnTo>
                      <a:pt x="395" y="29"/>
                    </a:lnTo>
                    <a:lnTo>
                      <a:pt x="388" y="21"/>
                    </a:lnTo>
                    <a:lnTo>
                      <a:pt x="384" y="18"/>
                    </a:lnTo>
                    <a:lnTo>
                      <a:pt x="381" y="14"/>
                    </a:lnTo>
                    <a:lnTo>
                      <a:pt x="374" y="10"/>
                    </a:lnTo>
                    <a:lnTo>
                      <a:pt x="366" y="7"/>
                    </a:lnTo>
                    <a:lnTo>
                      <a:pt x="359" y="3"/>
                    </a:lnTo>
                    <a:lnTo>
                      <a:pt x="348" y="0"/>
                    </a:lnTo>
                    <a:lnTo>
                      <a:pt x="341" y="0"/>
                    </a:lnTo>
                    <a:lnTo>
                      <a:pt x="330" y="0"/>
                    </a:lnTo>
                    <a:lnTo>
                      <a:pt x="319" y="0"/>
                    </a:lnTo>
                    <a:lnTo>
                      <a:pt x="312" y="0"/>
                    </a:lnTo>
                    <a:lnTo>
                      <a:pt x="301" y="0"/>
                    </a:lnTo>
                    <a:lnTo>
                      <a:pt x="294" y="0"/>
                    </a:lnTo>
                    <a:lnTo>
                      <a:pt x="286" y="3"/>
                    </a:lnTo>
                    <a:lnTo>
                      <a:pt x="279" y="3"/>
                    </a:lnTo>
                    <a:lnTo>
                      <a:pt x="272" y="7"/>
                    </a:lnTo>
                    <a:lnTo>
                      <a:pt x="265" y="10"/>
                    </a:lnTo>
                    <a:lnTo>
                      <a:pt x="257" y="14"/>
                    </a:lnTo>
                    <a:lnTo>
                      <a:pt x="254" y="18"/>
                    </a:lnTo>
                    <a:lnTo>
                      <a:pt x="247" y="21"/>
                    </a:lnTo>
                    <a:lnTo>
                      <a:pt x="243" y="25"/>
                    </a:lnTo>
                    <a:lnTo>
                      <a:pt x="239" y="32"/>
                    </a:lnTo>
                    <a:lnTo>
                      <a:pt x="232" y="39"/>
                    </a:lnTo>
                    <a:lnTo>
                      <a:pt x="228" y="54"/>
                    </a:lnTo>
                    <a:lnTo>
                      <a:pt x="225" y="65"/>
                    </a:lnTo>
                    <a:lnTo>
                      <a:pt x="225" y="76"/>
                    </a:lnTo>
                    <a:lnTo>
                      <a:pt x="225" y="87"/>
                    </a:lnTo>
                    <a:lnTo>
                      <a:pt x="225" y="101"/>
                    </a:lnTo>
                    <a:lnTo>
                      <a:pt x="228" y="112"/>
                    </a:lnTo>
                    <a:lnTo>
                      <a:pt x="232" y="123"/>
                    </a:lnTo>
                    <a:lnTo>
                      <a:pt x="239" y="130"/>
                    </a:lnTo>
                    <a:lnTo>
                      <a:pt x="247" y="141"/>
                    </a:lnTo>
                    <a:lnTo>
                      <a:pt x="254" y="148"/>
                    </a:lnTo>
                    <a:lnTo>
                      <a:pt x="261" y="159"/>
                    </a:lnTo>
                    <a:lnTo>
                      <a:pt x="265" y="170"/>
                    </a:lnTo>
                    <a:lnTo>
                      <a:pt x="268" y="177"/>
                    </a:lnTo>
                    <a:lnTo>
                      <a:pt x="272" y="188"/>
                    </a:lnTo>
                    <a:lnTo>
                      <a:pt x="272" y="199"/>
                    </a:lnTo>
                    <a:lnTo>
                      <a:pt x="268" y="210"/>
                    </a:lnTo>
                    <a:lnTo>
                      <a:pt x="268" y="221"/>
                    </a:lnTo>
                    <a:lnTo>
                      <a:pt x="261" y="232"/>
                    </a:lnTo>
                    <a:lnTo>
                      <a:pt x="257" y="239"/>
                    </a:lnTo>
                    <a:lnTo>
                      <a:pt x="250" y="250"/>
                    </a:lnTo>
                    <a:lnTo>
                      <a:pt x="239" y="257"/>
                    </a:lnTo>
                    <a:lnTo>
                      <a:pt x="228" y="264"/>
                    </a:lnTo>
                    <a:lnTo>
                      <a:pt x="218" y="272"/>
                    </a:lnTo>
                    <a:lnTo>
                      <a:pt x="199" y="279"/>
                    </a:lnTo>
                    <a:lnTo>
                      <a:pt x="185" y="282"/>
                    </a:lnTo>
                    <a:lnTo>
                      <a:pt x="174" y="282"/>
                    </a:lnTo>
                    <a:lnTo>
                      <a:pt x="156" y="282"/>
                    </a:lnTo>
                    <a:lnTo>
                      <a:pt x="138" y="282"/>
                    </a:lnTo>
                    <a:lnTo>
                      <a:pt x="116" y="282"/>
                    </a:lnTo>
                    <a:lnTo>
                      <a:pt x="94" y="282"/>
                    </a:lnTo>
                    <a:lnTo>
                      <a:pt x="69" y="282"/>
                    </a:lnTo>
                    <a:lnTo>
                      <a:pt x="44" y="282"/>
                    </a:lnTo>
                    <a:lnTo>
                      <a:pt x="18" y="282"/>
                    </a:lnTo>
                    <a:lnTo>
                      <a:pt x="15" y="301"/>
                    </a:lnTo>
                    <a:lnTo>
                      <a:pt x="11" y="326"/>
                    </a:lnTo>
                    <a:lnTo>
                      <a:pt x="7" y="355"/>
                    </a:lnTo>
                    <a:lnTo>
                      <a:pt x="4" y="384"/>
                    </a:lnTo>
                    <a:lnTo>
                      <a:pt x="0" y="413"/>
                    </a:lnTo>
                    <a:lnTo>
                      <a:pt x="0" y="438"/>
                    </a:lnTo>
                    <a:lnTo>
                      <a:pt x="0" y="460"/>
                    </a:lnTo>
                    <a:lnTo>
                      <a:pt x="0" y="475"/>
                    </a:lnTo>
                    <a:lnTo>
                      <a:pt x="4" y="482"/>
                    </a:lnTo>
                    <a:lnTo>
                      <a:pt x="7" y="489"/>
                    </a:lnTo>
                    <a:lnTo>
                      <a:pt x="11" y="493"/>
                    </a:lnTo>
                    <a:lnTo>
                      <a:pt x="18" y="500"/>
                    </a:lnTo>
                    <a:lnTo>
                      <a:pt x="25" y="504"/>
                    </a:lnTo>
                    <a:lnTo>
                      <a:pt x="33" y="507"/>
                    </a:lnTo>
                    <a:lnTo>
                      <a:pt x="44" y="511"/>
                    </a:lnTo>
                    <a:lnTo>
                      <a:pt x="51" y="515"/>
                    </a:lnTo>
                    <a:lnTo>
                      <a:pt x="62" y="515"/>
                    </a:lnTo>
                    <a:lnTo>
                      <a:pt x="73" y="515"/>
                    </a:lnTo>
                    <a:lnTo>
                      <a:pt x="80" y="515"/>
                    </a:lnTo>
                    <a:lnTo>
                      <a:pt x="91" y="515"/>
                    </a:lnTo>
                    <a:lnTo>
                      <a:pt x="102" y="511"/>
                    </a:lnTo>
                    <a:lnTo>
                      <a:pt x="109" y="507"/>
                    </a:lnTo>
                    <a:lnTo>
                      <a:pt x="116" y="504"/>
                    </a:lnTo>
                    <a:lnTo>
                      <a:pt x="123" y="496"/>
                    </a:lnTo>
                    <a:lnTo>
                      <a:pt x="131" y="493"/>
                    </a:lnTo>
                    <a:lnTo>
                      <a:pt x="138" y="486"/>
                    </a:lnTo>
                    <a:lnTo>
                      <a:pt x="149" y="486"/>
                    </a:lnTo>
                    <a:lnTo>
                      <a:pt x="156" y="482"/>
                    </a:lnTo>
                    <a:lnTo>
                      <a:pt x="167" y="482"/>
                    </a:lnTo>
                    <a:lnTo>
                      <a:pt x="178" y="482"/>
                    </a:lnTo>
                    <a:lnTo>
                      <a:pt x="189" y="486"/>
                    </a:lnTo>
                    <a:lnTo>
                      <a:pt x="199" y="489"/>
                    </a:lnTo>
                    <a:lnTo>
                      <a:pt x="207" y="493"/>
                    </a:lnTo>
                    <a:lnTo>
                      <a:pt x="218" y="500"/>
                    </a:lnTo>
                    <a:lnTo>
                      <a:pt x="225" y="507"/>
                    </a:lnTo>
                    <a:lnTo>
                      <a:pt x="232" y="518"/>
                    </a:lnTo>
                    <a:lnTo>
                      <a:pt x="239" y="529"/>
                    </a:lnTo>
                    <a:lnTo>
                      <a:pt x="243" y="540"/>
                    </a:lnTo>
                    <a:lnTo>
                      <a:pt x="247" y="554"/>
                    </a:lnTo>
                    <a:lnTo>
                      <a:pt x="247" y="569"/>
                    </a:lnTo>
                    <a:lnTo>
                      <a:pt x="247" y="580"/>
                    </a:lnTo>
                    <a:lnTo>
                      <a:pt x="243" y="587"/>
                    </a:lnTo>
                    <a:lnTo>
                      <a:pt x="239" y="598"/>
                    </a:lnTo>
                    <a:lnTo>
                      <a:pt x="232" y="605"/>
                    </a:lnTo>
                    <a:lnTo>
                      <a:pt x="225" y="613"/>
                    </a:lnTo>
                    <a:lnTo>
                      <a:pt x="218" y="620"/>
                    </a:lnTo>
                    <a:lnTo>
                      <a:pt x="207" y="623"/>
                    </a:lnTo>
                    <a:lnTo>
                      <a:pt x="199" y="627"/>
                    </a:lnTo>
                    <a:lnTo>
                      <a:pt x="189" y="631"/>
                    </a:lnTo>
                    <a:lnTo>
                      <a:pt x="178" y="634"/>
                    </a:lnTo>
                    <a:lnTo>
                      <a:pt x="167" y="634"/>
                    </a:lnTo>
                    <a:lnTo>
                      <a:pt x="156" y="634"/>
                    </a:lnTo>
                    <a:lnTo>
                      <a:pt x="149" y="631"/>
                    </a:lnTo>
                    <a:lnTo>
                      <a:pt x="138" y="627"/>
                    </a:lnTo>
                    <a:lnTo>
                      <a:pt x="131" y="620"/>
                    </a:lnTo>
                    <a:lnTo>
                      <a:pt x="123" y="613"/>
                    </a:lnTo>
                    <a:lnTo>
                      <a:pt x="116" y="605"/>
                    </a:lnTo>
                    <a:lnTo>
                      <a:pt x="109" y="602"/>
                    </a:lnTo>
                    <a:lnTo>
                      <a:pt x="102" y="598"/>
                    </a:lnTo>
                    <a:lnTo>
                      <a:pt x="94" y="594"/>
                    </a:lnTo>
                    <a:lnTo>
                      <a:pt x="87" y="594"/>
                    </a:lnTo>
                    <a:lnTo>
                      <a:pt x="80" y="594"/>
                    </a:lnTo>
                    <a:lnTo>
                      <a:pt x="69" y="594"/>
                    </a:lnTo>
                    <a:lnTo>
                      <a:pt x="62" y="594"/>
                    </a:lnTo>
                    <a:lnTo>
                      <a:pt x="54" y="602"/>
                    </a:lnTo>
                    <a:lnTo>
                      <a:pt x="44" y="605"/>
                    </a:lnTo>
                    <a:lnTo>
                      <a:pt x="36" y="609"/>
                    </a:lnTo>
                    <a:lnTo>
                      <a:pt x="29" y="616"/>
                    </a:lnTo>
                    <a:lnTo>
                      <a:pt x="22" y="623"/>
                    </a:lnTo>
                    <a:lnTo>
                      <a:pt x="18" y="631"/>
                    </a:lnTo>
                    <a:lnTo>
                      <a:pt x="11" y="638"/>
                    </a:lnTo>
                    <a:lnTo>
                      <a:pt x="7" y="649"/>
                    </a:lnTo>
                    <a:lnTo>
                      <a:pt x="4" y="656"/>
                    </a:lnTo>
                    <a:lnTo>
                      <a:pt x="4" y="671"/>
                    </a:lnTo>
                    <a:lnTo>
                      <a:pt x="4" y="681"/>
                    </a:lnTo>
                    <a:lnTo>
                      <a:pt x="7" y="696"/>
                    </a:lnTo>
                    <a:lnTo>
                      <a:pt x="11" y="729"/>
                    </a:lnTo>
                    <a:lnTo>
                      <a:pt x="18" y="765"/>
                    </a:lnTo>
                    <a:lnTo>
                      <a:pt x="22" y="783"/>
                    </a:lnTo>
                    <a:lnTo>
                      <a:pt x="25" y="798"/>
                    </a:lnTo>
                    <a:lnTo>
                      <a:pt x="25" y="816"/>
                    </a:lnTo>
                    <a:lnTo>
                      <a:pt x="29" y="834"/>
                    </a:lnTo>
                    <a:lnTo>
                      <a:pt x="29" y="848"/>
                    </a:lnTo>
                    <a:lnTo>
                      <a:pt x="25" y="863"/>
                    </a:lnTo>
                    <a:lnTo>
                      <a:pt x="25" y="870"/>
                    </a:lnTo>
                    <a:lnTo>
                      <a:pt x="22" y="877"/>
                    </a:lnTo>
                    <a:lnTo>
                      <a:pt x="22" y="885"/>
                    </a:lnTo>
                    <a:lnTo>
                      <a:pt x="18" y="888"/>
                    </a:lnTo>
                    <a:lnTo>
                      <a:pt x="44" y="885"/>
                    </a:lnTo>
                    <a:lnTo>
                      <a:pt x="69" y="877"/>
                    </a:lnTo>
                    <a:lnTo>
                      <a:pt x="94" y="877"/>
                    </a:lnTo>
                    <a:lnTo>
                      <a:pt x="116" y="874"/>
                    </a:lnTo>
                    <a:lnTo>
                      <a:pt x="141" y="870"/>
                    </a:lnTo>
                    <a:lnTo>
                      <a:pt x="163" y="870"/>
                    </a:lnTo>
                    <a:lnTo>
                      <a:pt x="174" y="874"/>
                    </a:lnTo>
                    <a:lnTo>
                      <a:pt x="185" y="874"/>
                    </a:lnTo>
                    <a:lnTo>
                      <a:pt x="192" y="877"/>
                    </a:lnTo>
                    <a:lnTo>
                      <a:pt x="203" y="881"/>
                    </a:lnTo>
                    <a:close/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751200" y="646200"/>
                <a:ext cx="1333080" cy="1850400"/>
              </a:xfrm>
              <a:custGeom>
                <a:avLst/>
                <a:gdLst/>
                <a:ahLst/>
                <a:rect l="l" t="t" r="r" b="b"/>
                <a:pathLst>
                  <a:path w="678" h="925">
                    <a:moveTo>
                      <a:pt x="222" y="896"/>
                    </a:moveTo>
                    <a:lnTo>
                      <a:pt x="222" y="889"/>
                    </a:lnTo>
                    <a:lnTo>
                      <a:pt x="222" y="896"/>
                    </a:lnTo>
                    <a:lnTo>
                      <a:pt x="232" y="899"/>
                    </a:lnTo>
                    <a:lnTo>
                      <a:pt x="232" y="899"/>
                    </a:lnTo>
                    <a:lnTo>
                      <a:pt x="232" y="899"/>
                    </a:lnTo>
                    <a:lnTo>
                      <a:pt x="247" y="899"/>
                    </a:lnTo>
                    <a:lnTo>
                      <a:pt x="258" y="899"/>
                    </a:lnTo>
                    <a:lnTo>
                      <a:pt x="265" y="899"/>
                    </a:lnTo>
                    <a:lnTo>
                      <a:pt x="269" y="899"/>
                    </a:lnTo>
                    <a:lnTo>
                      <a:pt x="269" y="899"/>
                    </a:lnTo>
                    <a:lnTo>
                      <a:pt x="276" y="896"/>
                    </a:lnTo>
                    <a:lnTo>
                      <a:pt x="283" y="892"/>
                    </a:lnTo>
                    <a:lnTo>
                      <a:pt x="283" y="889"/>
                    </a:lnTo>
                    <a:lnTo>
                      <a:pt x="287" y="889"/>
                    </a:lnTo>
                    <a:lnTo>
                      <a:pt x="290" y="881"/>
                    </a:lnTo>
                    <a:lnTo>
                      <a:pt x="283" y="878"/>
                    </a:lnTo>
                    <a:lnTo>
                      <a:pt x="287" y="885"/>
                    </a:lnTo>
                    <a:lnTo>
                      <a:pt x="294" y="881"/>
                    </a:lnTo>
                    <a:lnTo>
                      <a:pt x="298" y="878"/>
                    </a:lnTo>
                    <a:lnTo>
                      <a:pt x="298" y="874"/>
                    </a:lnTo>
                    <a:lnTo>
                      <a:pt x="298" y="867"/>
                    </a:lnTo>
                    <a:lnTo>
                      <a:pt x="298" y="860"/>
                    </a:lnTo>
                    <a:lnTo>
                      <a:pt x="298" y="849"/>
                    </a:lnTo>
                    <a:lnTo>
                      <a:pt x="298" y="841"/>
                    </a:lnTo>
                    <a:lnTo>
                      <a:pt x="298" y="841"/>
                    </a:lnTo>
                    <a:lnTo>
                      <a:pt x="298" y="841"/>
                    </a:lnTo>
                    <a:lnTo>
                      <a:pt x="294" y="834"/>
                    </a:lnTo>
                    <a:lnTo>
                      <a:pt x="290" y="827"/>
                    </a:lnTo>
                    <a:lnTo>
                      <a:pt x="290" y="827"/>
                    </a:lnTo>
                    <a:lnTo>
                      <a:pt x="287" y="823"/>
                    </a:lnTo>
                    <a:lnTo>
                      <a:pt x="280" y="816"/>
                    </a:lnTo>
                    <a:lnTo>
                      <a:pt x="272" y="809"/>
                    </a:lnTo>
                    <a:lnTo>
                      <a:pt x="269" y="812"/>
                    </a:lnTo>
                    <a:lnTo>
                      <a:pt x="276" y="812"/>
                    </a:lnTo>
                    <a:lnTo>
                      <a:pt x="269" y="798"/>
                    </a:lnTo>
                    <a:lnTo>
                      <a:pt x="265" y="787"/>
                    </a:lnTo>
                    <a:lnTo>
                      <a:pt x="261" y="776"/>
                    </a:lnTo>
                    <a:lnTo>
                      <a:pt x="258" y="765"/>
                    </a:lnTo>
                    <a:lnTo>
                      <a:pt x="254" y="751"/>
                    </a:lnTo>
                    <a:lnTo>
                      <a:pt x="247" y="751"/>
                    </a:lnTo>
                    <a:lnTo>
                      <a:pt x="254" y="751"/>
                    </a:lnTo>
                    <a:lnTo>
                      <a:pt x="254" y="740"/>
                    </a:lnTo>
                    <a:lnTo>
                      <a:pt x="247" y="740"/>
                    </a:lnTo>
                    <a:lnTo>
                      <a:pt x="254" y="743"/>
                    </a:lnTo>
                    <a:lnTo>
                      <a:pt x="258" y="729"/>
                    </a:lnTo>
                    <a:lnTo>
                      <a:pt x="261" y="718"/>
                    </a:lnTo>
                    <a:lnTo>
                      <a:pt x="265" y="707"/>
                    </a:lnTo>
                    <a:lnTo>
                      <a:pt x="258" y="704"/>
                    </a:lnTo>
                    <a:lnTo>
                      <a:pt x="261" y="707"/>
                    </a:lnTo>
                    <a:lnTo>
                      <a:pt x="265" y="704"/>
                    </a:lnTo>
                    <a:lnTo>
                      <a:pt x="269" y="704"/>
                    </a:lnTo>
                    <a:lnTo>
                      <a:pt x="269" y="704"/>
                    </a:lnTo>
                    <a:lnTo>
                      <a:pt x="272" y="696"/>
                    </a:lnTo>
                    <a:lnTo>
                      <a:pt x="265" y="693"/>
                    </a:lnTo>
                    <a:lnTo>
                      <a:pt x="269" y="696"/>
                    </a:lnTo>
                    <a:lnTo>
                      <a:pt x="272" y="693"/>
                    </a:lnTo>
                    <a:lnTo>
                      <a:pt x="276" y="689"/>
                    </a:lnTo>
                    <a:lnTo>
                      <a:pt x="280" y="685"/>
                    </a:lnTo>
                    <a:lnTo>
                      <a:pt x="276" y="682"/>
                    </a:lnTo>
                    <a:lnTo>
                      <a:pt x="280" y="689"/>
                    </a:lnTo>
                    <a:lnTo>
                      <a:pt x="287" y="685"/>
                    </a:lnTo>
                    <a:lnTo>
                      <a:pt x="283" y="678"/>
                    </a:lnTo>
                    <a:lnTo>
                      <a:pt x="283" y="685"/>
                    </a:lnTo>
                    <a:lnTo>
                      <a:pt x="287" y="685"/>
                    </a:lnTo>
                    <a:lnTo>
                      <a:pt x="290" y="685"/>
                    </a:lnTo>
                    <a:lnTo>
                      <a:pt x="290" y="685"/>
                    </a:lnTo>
                    <a:lnTo>
                      <a:pt x="298" y="682"/>
                    </a:lnTo>
                    <a:lnTo>
                      <a:pt x="305" y="678"/>
                    </a:lnTo>
                    <a:lnTo>
                      <a:pt x="301" y="671"/>
                    </a:lnTo>
                    <a:lnTo>
                      <a:pt x="301" y="678"/>
                    </a:lnTo>
                    <a:lnTo>
                      <a:pt x="309" y="678"/>
                    </a:lnTo>
                    <a:lnTo>
                      <a:pt x="312" y="678"/>
                    </a:lnTo>
                    <a:lnTo>
                      <a:pt x="312" y="678"/>
                    </a:lnTo>
                    <a:lnTo>
                      <a:pt x="319" y="675"/>
                    </a:lnTo>
                    <a:lnTo>
                      <a:pt x="316" y="667"/>
                    </a:lnTo>
                    <a:lnTo>
                      <a:pt x="316" y="675"/>
                    </a:lnTo>
                    <a:lnTo>
                      <a:pt x="323" y="675"/>
                    </a:lnTo>
                    <a:lnTo>
                      <a:pt x="334" y="675"/>
                    </a:lnTo>
                    <a:lnTo>
                      <a:pt x="341" y="675"/>
                    </a:lnTo>
                    <a:lnTo>
                      <a:pt x="341" y="667"/>
                    </a:lnTo>
                    <a:lnTo>
                      <a:pt x="341" y="675"/>
                    </a:lnTo>
                    <a:lnTo>
                      <a:pt x="352" y="678"/>
                    </a:lnTo>
                    <a:lnTo>
                      <a:pt x="352" y="678"/>
                    </a:lnTo>
                    <a:lnTo>
                      <a:pt x="352" y="678"/>
                    </a:lnTo>
                    <a:lnTo>
                      <a:pt x="359" y="678"/>
                    </a:lnTo>
                    <a:lnTo>
                      <a:pt x="359" y="671"/>
                    </a:lnTo>
                    <a:lnTo>
                      <a:pt x="359" y="678"/>
                    </a:lnTo>
                    <a:lnTo>
                      <a:pt x="367" y="682"/>
                    </a:lnTo>
                    <a:lnTo>
                      <a:pt x="374" y="685"/>
                    </a:lnTo>
                    <a:lnTo>
                      <a:pt x="374" y="685"/>
                    </a:lnTo>
                    <a:lnTo>
                      <a:pt x="374" y="685"/>
                    </a:lnTo>
                    <a:lnTo>
                      <a:pt x="381" y="685"/>
                    </a:lnTo>
                    <a:lnTo>
                      <a:pt x="381" y="678"/>
                    </a:lnTo>
                    <a:lnTo>
                      <a:pt x="378" y="682"/>
                    </a:lnTo>
                    <a:lnTo>
                      <a:pt x="381" y="685"/>
                    </a:lnTo>
                    <a:lnTo>
                      <a:pt x="385" y="689"/>
                    </a:lnTo>
                    <a:lnTo>
                      <a:pt x="385" y="689"/>
                    </a:lnTo>
                    <a:lnTo>
                      <a:pt x="392" y="693"/>
                    </a:lnTo>
                    <a:lnTo>
                      <a:pt x="392" y="685"/>
                    </a:lnTo>
                    <a:lnTo>
                      <a:pt x="388" y="689"/>
                    </a:lnTo>
                    <a:lnTo>
                      <a:pt x="392" y="693"/>
                    </a:lnTo>
                    <a:lnTo>
                      <a:pt x="396" y="696"/>
                    </a:lnTo>
                    <a:lnTo>
                      <a:pt x="396" y="696"/>
                    </a:lnTo>
                    <a:lnTo>
                      <a:pt x="403" y="700"/>
                    </a:lnTo>
                    <a:lnTo>
                      <a:pt x="403" y="693"/>
                    </a:lnTo>
                    <a:lnTo>
                      <a:pt x="399" y="696"/>
                    </a:lnTo>
                    <a:lnTo>
                      <a:pt x="403" y="704"/>
                    </a:lnTo>
                    <a:lnTo>
                      <a:pt x="407" y="711"/>
                    </a:lnTo>
                    <a:lnTo>
                      <a:pt x="414" y="722"/>
                    </a:lnTo>
                    <a:lnTo>
                      <a:pt x="417" y="733"/>
                    </a:lnTo>
                    <a:lnTo>
                      <a:pt x="421" y="729"/>
                    </a:lnTo>
                    <a:lnTo>
                      <a:pt x="417" y="729"/>
                    </a:lnTo>
                    <a:lnTo>
                      <a:pt x="417" y="740"/>
                    </a:lnTo>
                    <a:lnTo>
                      <a:pt x="417" y="754"/>
                    </a:lnTo>
                    <a:lnTo>
                      <a:pt x="417" y="765"/>
                    </a:lnTo>
                    <a:lnTo>
                      <a:pt x="421" y="765"/>
                    </a:lnTo>
                    <a:lnTo>
                      <a:pt x="417" y="765"/>
                    </a:lnTo>
                    <a:lnTo>
                      <a:pt x="414" y="776"/>
                    </a:lnTo>
                    <a:lnTo>
                      <a:pt x="410" y="787"/>
                    </a:lnTo>
                    <a:lnTo>
                      <a:pt x="414" y="787"/>
                    </a:lnTo>
                    <a:lnTo>
                      <a:pt x="410" y="783"/>
                    </a:lnTo>
                    <a:lnTo>
                      <a:pt x="403" y="791"/>
                    </a:lnTo>
                    <a:lnTo>
                      <a:pt x="403" y="794"/>
                    </a:lnTo>
                    <a:lnTo>
                      <a:pt x="403" y="794"/>
                    </a:lnTo>
                    <a:lnTo>
                      <a:pt x="396" y="805"/>
                    </a:lnTo>
                    <a:lnTo>
                      <a:pt x="399" y="805"/>
                    </a:lnTo>
                    <a:lnTo>
                      <a:pt x="396" y="802"/>
                    </a:lnTo>
                    <a:lnTo>
                      <a:pt x="381" y="816"/>
                    </a:lnTo>
                    <a:lnTo>
                      <a:pt x="381" y="820"/>
                    </a:lnTo>
                    <a:lnTo>
                      <a:pt x="381" y="820"/>
                    </a:lnTo>
                    <a:lnTo>
                      <a:pt x="374" y="834"/>
                    </a:lnTo>
                    <a:lnTo>
                      <a:pt x="370" y="841"/>
                    </a:lnTo>
                    <a:lnTo>
                      <a:pt x="374" y="841"/>
                    </a:lnTo>
                    <a:lnTo>
                      <a:pt x="370" y="838"/>
                    </a:lnTo>
                    <a:lnTo>
                      <a:pt x="367" y="841"/>
                    </a:lnTo>
                    <a:lnTo>
                      <a:pt x="367" y="845"/>
                    </a:lnTo>
                    <a:lnTo>
                      <a:pt x="367" y="845"/>
                    </a:lnTo>
                    <a:lnTo>
                      <a:pt x="367" y="852"/>
                    </a:lnTo>
                    <a:lnTo>
                      <a:pt x="367" y="856"/>
                    </a:lnTo>
                    <a:lnTo>
                      <a:pt x="367" y="863"/>
                    </a:lnTo>
                    <a:lnTo>
                      <a:pt x="367" y="867"/>
                    </a:lnTo>
                    <a:lnTo>
                      <a:pt x="367" y="870"/>
                    </a:lnTo>
                    <a:lnTo>
                      <a:pt x="367" y="870"/>
                    </a:lnTo>
                    <a:lnTo>
                      <a:pt x="370" y="874"/>
                    </a:lnTo>
                    <a:lnTo>
                      <a:pt x="374" y="878"/>
                    </a:lnTo>
                    <a:lnTo>
                      <a:pt x="381" y="885"/>
                    </a:lnTo>
                    <a:lnTo>
                      <a:pt x="385" y="889"/>
                    </a:lnTo>
                    <a:lnTo>
                      <a:pt x="388" y="892"/>
                    </a:lnTo>
                    <a:lnTo>
                      <a:pt x="388" y="892"/>
                    </a:lnTo>
                    <a:lnTo>
                      <a:pt x="396" y="896"/>
                    </a:lnTo>
                    <a:lnTo>
                      <a:pt x="407" y="899"/>
                    </a:lnTo>
                    <a:lnTo>
                      <a:pt x="417" y="903"/>
                    </a:lnTo>
                    <a:lnTo>
                      <a:pt x="410" y="899"/>
                    </a:lnTo>
                    <a:lnTo>
                      <a:pt x="417" y="903"/>
                    </a:lnTo>
                    <a:lnTo>
                      <a:pt x="432" y="907"/>
                    </a:lnTo>
                    <a:lnTo>
                      <a:pt x="432" y="899"/>
                    </a:lnTo>
                    <a:lnTo>
                      <a:pt x="432" y="907"/>
                    </a:lnTo>
                    <a:lnTo>
                      <a:pt x="446" y="914"/>
                    </a:lnTo>
                    <a:lnTo>
                      <a:pt x="446" y="914"/>
                    </a:lnTo>
                    <a:lnTo>
                      <a:pt x="446" y="914"/>
                    </a:lnTo>
                    <a:lnTo>
                      <a:pt x="461" y="914"/>
                    </a:lnTo>
                    <a:lnTo>
                      <a:pt x="475" y="918"/>
                    </a:lnTo>
                    <a:lnTo>
                      <a:pt x="490" y="921"/>
                    </a:lnTo>
                    <a:lnTo>
                      <a:pt x="508" y="925"/>
                    </a:lnTo>
                    <a:lnTo>
                      <a:pt x="526" y="925"/>
                    </a:lnTo>
                    <a:lnTo>
                      <a:pt x="541" y="925"/>
                    </a:lnTo>
                    <a:lnTo>
                      <a:pt x="559" y="925"/>
                    </a:lnTo>
                    <a:lnTo>
                      <a:pt x="573" y="925"/>
                    </a:lnTo>
                    <a:lnTo>
                      <a:pt x="588" y="921"/>
                    </a:lnTo>
                    <a:lnTo>
                      <a:pt x="602" y="918"/>
                    </a:lnTo>
                    <a:lnTo>
                      <a:pt x="617" y="914"/>
                    </a:lnTo>
                    <a:lnTo>
                      <a:pt x="620" y="910"/>
                    </a:lnTo>
                    <a:lnTo>
                      <a:pt x="620" y="914"/>
                    </a:lnTo>
                    <a:lnTo>
                      <a:pt x="631" y="907"/>
                    </a:lnTo>
                    <a:lnTo>
                      <a:pt x="642" y="899"/>
                    </a:lnTo>
                    <a:lnTo>
                      <a:pt x="646" y="896"/>
                    </a:lnTo>
                    <a:lnTo>
                      <a:pt x="646" y="892"/>
                    </a:lnTo>
                    <a:lnTo>
                      <a:pt x="642" y="881"/>
                    </a:lnTo>
                    <a:lnTo>
                      <a:pt x="635" y="881"/>
                    </a:lnTo>
                    <a:lnTo>
                      <a:pt x="642" y="881"/>
                    </a:lnTo>
                    <a:lnTo>
                      <a:pt x="642" y="867"/>
                    </a:lnTo>
                    <a:lnTo>
                      <a:pt x="642" y="867"/>
                    </a:lnTo>
                    <a:lnTo>
                      <a:pt x="642" y="867"/>
                    </a:lnTo>
                    <a:lnTo>
                      <a:pt x="639" y="852"/>
                    </a:lnTo>
                    <a:lnTo>
                      <a:pt x="631" y="852"/>
                    </a:lnTo>
                    <a:lnTo>
                      <a:pt x="639" y="852"/>
                    </a:lnTo>
                    <a:lnTo>
                      <a:pt x="639" y="838"/>
                    </a:lnTo>
                    <a:lnTo>
                      <a:pt x="639" y="809"/>
                    </a:lnTo>
                    <a:lnTo>
                      <a:pt x="639" y="776"/>
                    </a:lnTo>
                    <a:lnTo>
                      <a:pt x="642" y="747"/>
                    </a:lnTo>
                    <a:lnTo>
                      <a:pt x="642" y="718"/>
                    </a:lnTo>
                    <a:lnTo>
                      <a:pt x="646" y="696"/>
                    </a:lnTo>
                    <a:lnTo>
                      <a:pt x="646" y="678"/>
                    </a:lnTo>
                    <a:lnTo>
                      <a:pt x="646" y="675"/>
                    </a:lnTo>
                    <a:lnTo>
                      <a:pt x="646" y="675"/>
                    </a:lnTo>
                    <a:lnTo>
                      <a:pt x="646" y="675"/>
                    </a:lnTo>
                    <a:lnTo>
                      <a:pt x="642" y="667"/>
                    </a:lnTo>
                    <a:lnTo>
                      <a:pt x="639" y="660"/>
                    </a:lnTo>
                    <a:lnTo>
                      <a:pt x="635" y="653"/>
                    </a:lnTo>
                    <a:lnTo>
                      <a:pt x="631" y="649"/>
                    </a:lnTo>
                    <a:lnTo>
                      <a:pt x="631" y="649"/>
                    </a:lnTo>
                    <a:lnTo>
                      <a:pt x="624" y="646"/>
                    </a:lnTo>
                    <a:lnTo>
                      <a:pt x="617" y="642"/>
                    </a:lnTo>
                    <a:lnTo>
                      <a:pt x="613" y="646"/>
                    </a:lnTo>
                    <a:lnTo>
                      <a:pt x="617" y="642"/>
                    </a:lnTo>
                    <a:lnTo>
                      <a:pt x="610" y="635"/>
                    </a:lnTo>
                    <a:lnTo>
                      <a:pt x="610" y="635"/>
                    </a:lnTo>
                    <a:lnTo>
                      <a:pt x="606" y="635"/>
                    </a:lnTo>
                    <a:lnTo>
                      <a:pt x="599" y="635"/>
                    </a:lnTo>
                    <a:lnTo>
                      <a:pt x="599" y="638"/>
                    </a:lnTo>
                    <a:lnTo>
                      <a:pt x="602" y="635"/>
                    </a:lnTo>
                    <a:lnTo>
                      <a:pt x="595" y="631"/>
                    </a:lnTo>
                    <a:lnTo>
                      <a:pt x="588" y="627"/>
                    </a:lnTo>
                    <a:lnTo>
                      <a:pt x="588" y="627"/>
                    </a:lnTo>
                    <a:lnTo>
                      <a:pt x="584" y="627"/>
                    </a:lnTo>
                    <a:lnTo>
                      <a:pt x="577" y="627"/>
                    </a:lnTo>
                    <a:lnTo>
                      <a:pt x="566" y="627"/>
                    </a:lnTo>
                    <a:lnTo>
                      <a:pt x="566" y="627"/>
                    </a:lnTo>
                    <a:lnTo>
                      <a:pt x="566" y="627"/>
                    </a:lnTo>
                    <a:lnTo>
                      <a:pt x="559" y="631"/>
                    </a:lnTo>
                    <a:lnTo>
                      <a:pt x="552" y="635"/>
                    </a:lnTo>
                    <a:lnTo>
                      <a:pt x="544" y="638"/>
                    </a:lnTo>
                    <a:lnTo>
                      <a:pt x="541" y="638"/>
                    </a:lnTo>
                    <a:lnTo>
                      <a:pt x="541" y="642"/>
                    </a:lnTo>
                    <a:lnTo>
                      <a:pt x="537" y="649"/>
                    </a:lnTo>
                    <a:lnTo>
                      <a:pt x="541" y="649"/>
                    </a:lnTo>
                    <a:lnTo>
                      <a:pt x="541" y="646"/>
                    </a:lnTo>
                    <a:lnTo>
                      <a:pt x="533" y="649"/>
                    </a:lnTo>
                    <a:lnTo>
                      <a:pt x="526" y="653"/>
                    </a:lnTo>
                    <a:lnTo>
                      <a:pt x="519" y="656"/>
                    </a:lnTo>
                    <a:lnTo>
                      <a:pt x="508" y="660"/>
                    </a:lnTo>
                    <a:lnTo>
                      <a:pt x="508" y="664"/>
                    </a:lnTo>
                    <a:lnTo>
                      <a:pt x="508" y="660"/>
                    </a:lnTo>
                    <a:lnTo>
                      <a:pt x="497" y="660"/>
                    </a:lnTo>
                    <a:lnTo>
                      <a:pt x="486" y="660"/>
                    </a:lnTo>
                    <a:lnTo>
                      <a:pt x="475" y="660"/>
                    </a:lnTo>
                    <a:lnTo>
                      <a:pt x="475" y="664"/>
                    </a:lnTo>
                    <a:lnTo>
                      <a:pt x="479" y="660"/>
                    </a:lnTo>
                    <a:lnTo>
                      <a:pt x="468" y="656"/>
                    </a:lnTo>
                    <a:lnTo>
                      <a:pt x="457" y="653"/>
                    </a:lnTo>
                    <a:lnTo>
                      <a:pt x="446" y="646"/>
                    </a:lnTo>
                    <a:lnTo>
                      <a:pt x="443" y="649"/>
                    </a:lnTo>
                    <a:lnTo>
                      <a:pt x="446" y="646"/>
                    </a:lnTo>
                    <a:lnTo>
                      <a:pt x="439" y="638"/>
                    </a:lnTo>
                    <a:lnTo>
                      <a:pt x="439" y="638"/>
                    </a:lnTo>
                    <a:lnTo>
                      <a:pt x="439" y="638"/>
                    </a:lnTo>
                    <a:lnTo>
                      <a:pt x="428" y="631"/>
                    </a:lnTo>
                    <a:lnTo>
                      <a:pt x="425" y="635"/>
                    </a:lnTo>
                    <a:lnTo>
                      <a:pt x="432" y="635"/>
                    </a:lnTo>
                    <a:lnTo>
                      <a:pt x="428" y="627"/>
                    </a:lnTo>
                    <a:lnTo>
                      <a:pt x="428" y="627"/>
                    </a:lnTo>
                    <a:lnTo>
                      <a:pt x="425" y="624"/>
                    </a:lnTo>
                    <a:lnTo>
                      <a:pt x="421" y="620"/>
                    </a:lnTo>
                    <a:lnTo>
                      <a:pt x="417" y="624"/>
                    </a:lnTo>
                    <a:lnTo>
                      <a:pt x="425" y="624"/>
                    </a:lnTo>
                    <a:lnTo>
                      <a:pt x="425" y="617"/>
                    </a:lnTo>
                    <a:lnTo>
                      <a:pt x="425" y="617"/>
                    </a:lnTo>
                    <a:lnTo>
                      <a:pt x="421" y="613"/>
                    </a:lnTo>
                    <a:lnTo>
                      <a:pt x="417" y="609"/>
                    </a:lnTo>
                    <a:lnTo>
                      <a:pt x="414" y="613"/>
                    </a:lnTo>
                    <a:lnTo>
                      <a:pt x="421" y="613"/>
                    </a:lnTo>
                    <a:lnTo>
                      <a:pt x="417" y="606"/>
                    </a:lnTo>
                    <a:lnTo>
                      <a:pt x="410" y="606"/>
                    </a:lnTo>
                    <a:lnTo>
                      <a:pt x="417" y="606"/>
                    </a:lnTo>
                    <a:lnTo>
                      <a:pt x="417" y="598"/>
                    </a:lnTo>
                    <a:lnTo>
                      <a:pt x="417" y="591"/>
                    </a:lnTo>
                    <a:lnTo>
                      <a:pt x="417" y="584"/>
                    </a:lnTo>
                    <a:lnTo>
                      <a:pt x="417" y="577"/>
                    </a:lnTo>
                    <a:lnTo>
                      <a:pt x="417" y="566"/>
                    </a:lnTo>
                    <a:lnTo>
                      <a:pt x="417" y="558"/>
                    </a:lnTo>
                    <a:lnTo>
                      <a:pt x="410" y="558"/>
                    </a:lnTo>
                    <a:lnTo>
                      <a:pt x="417" y="562"/>
                    </a:lnTo>
                    <a:lnTo>
                      <a:pt x="421" y="555"/>
                    </a:lnTo>
                    <a:lnTo>
                      <a:pt x="425" y="548"/>
                    </a:lnTo>
                    <a:lnTo>
                      <a:pt x="425" y="548"/>
                    </a:lnTo>
                    <a:lnTo>
                      <a:pt x="425" y="544"/>
                    </a:lnTo>
                    <a:lnTo>
                      <a:pt x="425" y="537"/>
                    </a:lnTo>
                    <a:lnTo>
                      <a:pt x="417" y="537"/>
                    </a:lnTo>
                    <a:lnTo>
                      <a:pt x="421" y="540"/>
                    </a:lnTo>
                    <a:lnTo>
                      <a:pt x="425" y="537"/>
                    </a:lnTo>
                    <a:lnTo>
                      <a:pt x="432" y="529"/>
                    </a:lnTo>
                    <a:lnTo>
                      <a:pt x="439" y="522"/>
                    </a:lnTo>
                    <a:lnTo>
                      <a:pt x="450" y="511"/>
                    </a:lnTo>
                    <a:lnTo>
                      <a:pt x="446" y="508"/>
                    </a:lnTo>
                    <a:lnTo>
                      <a:pt x="450" y="515"/>
                    </a:lnTo>
                    <a:lnTo>
                      <a:pt x="461" y="508"/>
                    </a:lnTo>
                    <a:lnTo>
                      <a:pt x="472" y="504"/>
                    </a:lnTo>
                    <a:lnTo>
                      <a:pt x="483" y="500"/>
                    </a:lnTo>
                    <a:lnTo>
                      <a:pt x="479" y="493"/>
                    </a:lnTo>
                    <a:lnTo>
                      <a:pt x="479" y="500"/>
                    </a:lnTo>
                    <a:lnTo>
                      <a:pt x="490" y="500"/>
                    </a:lnTo>
                    <a:lnTo>
                      <a:pt x="504" y="500"/>
                    </a:lnTo>
                    <a:lnTo>
                      <a:pt x="515" y="500"/>
                    </a:lnTo>
                    <a:lnTo>
                      <a:pt x="515" y="493"/>
                    </a:lnTo>
                    <a:lnTo>
                      <a:pt x="515" y="500"/>
                    </a:lnTo>
                    <a:lnTo>
                      <a:pt x="526" y="504"/>
                    </a:lnTo>
                    <a:lnTo>
                      <a:pt x="537" y="508"/>
                    </a:lnTo>
                    <a:lnTo>
                      <a:pt x="537" y="500"/>
                    </a:lnTo>
                    <a:lnTo>
                      <a:pt x="533" y="504"/>
                    </a:lnTo>
                    <a:lnTo>
                      <a:pt x="541" y="511"/>
                    </a:lnTo>
                    <a:lnTo>
                      <a:pt x="544" y="515"/>
                    </a:lnTo>
                    <a:lnTo>
                      <a:pt x="544" y="515"/>
                    </a:lnTo>
                    <a:lnTo>
                      <a:pt x="552" y="519"/>
                    </a:lnTo>
                    <a:lnTo>
                      <a:pt x="552" y="511"/>
                    </a:lnTo>
                    <a:lnTo>
                      <a:pt x="548" y="515"/>
                    </a:lnTo>
                    <a:lnTo>
                      <a:pt x="552" y="522"/>
                    </a:lnTo>
                    <a:lnTo>
                      <a:pt x="552" y="522"/>
                    </a:lnTo>
                    <a:lnTo>
                      <a:pt x="555" y="526"/>
                    </a:lnTo>
                    <a:lnTo>
                      <a:pt x="562" y="529"/>
                    </a:lnTo>
                    <a:lnTo>
                      <a:pt x="562" y="522"/>
                    </a:lnTo>
                    <a:lnTo>
                      <a:pt x="559" y="526"/>
                    </a:lnTo>
                    <a:lnTo>
                      <a:pt x="562" y="529"/>
                    </a:lnTo>
                    <a:lnTo>
                      <a:pt x="566" y="533"/>
                    </a:lnTo>
                    <a:lnTo>
                      <a:pt x="566" y="533"/>
                    </a:lnTo>
                    <a:lnTo>
                      <a:pt x="573" y="533"/>
                    </a:lnTo>
                    <a:lnTo>
                      <a:pt x="573" y="526"/>
                    </a:lnTo>
                    <a:lnTo>
                      <a:pt x="573" y="533"/>
                    </a:lnTo>
                    <a:lnTo>
                      <a:pt x="581" y="537"/>
                    </a:lnTo>
                    <a:lnTo>
                      <a:pt x="588" y="540"/>
                    </a:lnTo>
                    <a:lnTo>
                      <a:pt x="588" y="540"/>
                    </a:lnTo>
                    <a:lnTo>
                      <a:pt x="588" y="540"/>
                    </a:lnTo>
                    <a:lnTo>
                      <a:pt x="595" y="540"/>
                    </a:lnTo>
                    <a:lnTo>
                      <a:pt x="602" y="540"/>
                    </a:lnTo>
                    <a:lnTo>
                      <a:pt x="610" y="540"/>
                    </a:lnTo>
                    <a:lnTo>
                      <a:pt x="617" y="540"/>
                    </a:lnTo>
                    <a:lnTo>
                      <a:pt x="620" y="540"/>
                    </a:lnTo>
                    <a:lnTo>
                      <a:pt x="620" y="540"/>
                    </a:lnTo>
                    <a:lnTo>
                      <a:pt x="628" y="537"/>
                    </a:lnTo>
                    <a:lnTo>
                      <a:pt x="624" y="529"/>
                    </a:lnTo>
                    <a:lnTo>
                      <a:pt x="624" y="537"/>
                    </a:lnTo>
                    <a:lnTo>
                      <a:pt x="631" y="537"/>
                    </a:lnTo>
                    <a:lnTo>
                      <a:pt x="635" y="537"/>
                    </a:lnTo>
                    <a:lnTo>
                      <a:pt x="635" y="537"/>
                    </a:lnTo>
                    <a:lnTo>
                      <a:pt x="642" y="533"/>
                    </a:lnTo>
                    <a:lnTo>
                      <a:pt x="649" y="529"/>
                    </a:lnTo>
                    <a:lnTo>
                      <a:pt x="657" y="526"/>
                    </a:lnTo>
                    <a:lnTo>
                      <a:pt x="657" y="526"/>
                    </a:lnTo>
                    <a:lnTo>
                      <a:pt x="657" y="522"/>
                    </a:lnTo>
                    <a:lnTo>
                      <a:pt x="664" y="515"/>
                    </a:lnTo>
                    <a:lnTo>
                      <a:pt x="668" y="515"/>
                    </a:lnTo>
                    <a:lnTo>
                      <a:pt x="668" y="511"/>
                    </a:lnTo>
                    <a:lnTo>
                      <a:pt x="668" y="508"/>
                    </a:lnTo>
                    <a:lnTo>
                      <a:pt x="660" y="508"/>
                    </a:lnTo>
                    <a:lnTo>
                      <a:pt x="660" y="515"/>
                    </a:lnTo>
                    <a:lnTo>
                      <a:pt x="664" y="515"/>
                    </a:lnTo>
                    <a:lnTo>
                      <a:pt x="668" y="515"/>
                    </a:lnTo>
                    <a:lnTo>
                      <a:pt x="671" y="511"/>
                    </a:lnTo>
                    <a:lnTo>
                      <a:pt x="675" y="504"/>
                    </a:lnTo>
                    <a:lnTo>
                      <a:pt x="675" y="504"/>
                    </a:lnTo>
                    <a:lnTo>
                      <a:pt x="675" y="500"/>
                    </a:lnTo>
                    <a:lnTo>
                      <a:pt x="675" y="497"/>
                    </a:lnTo>
                    <a:lnTo>
                      <a:pt x="668" y="497"/>
                    </a:lnTo>
                    <a:lnTo>
                      <a:pt x="675" y="500"/>
                    </a:lnTo>
                    <a:lnTo>
                      <a:pt x="678" y="490"/>
                    </a:lnTo>
                    <a:lnTo>
                      <a:pt x="678" y="490"/>
                    </a:lnTo>
                    <a:lnTo>
                      <a:pt x="678" y="486"/>
                    </a:lnTo>
                    <a:lnTo>
                      <a:pt x="678" y="471"/>
                    </a:lnTo>
                    <a:lnTo>
                      <a:pt x="678" y="457"/>
                    </a:lnTo>
                    <a:lnTo>
                      <a:pt x="678" y="442"/>
                    </a:lnTo>
                    <a:lnTo>
                      <a:pt x="678" y="428"/>
                    </a:lnTo>
                    <a:lnTo>
                      <a:pt x="675" y="410"/>
                    </a:lnTo>
                    <a:lnTo>
                      <a:pt x="671" y="392"/>
                    </a:lnTo>
                    <a:lnTo>
                      <a:pt x="675" y="410"/>
                    </a:lnTo>
                    <a:lnTo>
                      <a:pt x="668" y="377"/>
                    </a:lnTo>
                    <a:lnTo>
                      <a:pt x="660" y="348"/>
                    </a:lnTo>
                    <a:lnTo>
                      <a:pt x="653" y="319"/>
                    </a:lnTo>
                    <a:lnTo>
                      <a:pt x="646" y="297"/>
                    </a:lnTo>
                    <a:lnTo>
                      <a:pt x="642" y="290"/>
                    </a:lnTo>
                    <a:lnTo>
                      <a:pt x="639" y="294"/>
                    </a:lnTo>
                    <a:lnTo>
                      <a:pt x="620" y="297"/>
                    </a:lnTo>
                    <a:lnTo>
                      <a:pt x="602" y="297"/>
                    </a:lnTo>
                    <a:lnTo>
                      <a:pt x="584" y="301"/>
                    </a:lnTo>
                    <a:lnTo>
                      <a:pt x="566" y="301"/>
                    </a:lnTo>
                    <a:lnTo>
                      <a:pt x="548" y="301"/>
                    </a:lnTo>
                    <a:lnTo>
                      <a:pt x="530" y="301"/>
                    </a:lnTo>
                    <a:lnTo>
                      <a:pt x="512" y="297"/>
                    </a:lnTo>
                    <a:lnTo>
                      <a:pt x="497" y="297"/>
                    </a:lnTo>
                    <a:lnTo>
                      <a:pt x="465" y="294"/>
                    </a:lnTo>
                    <a:lnTo>
                      <a:pt x="443" y="290"/>
                    </a:lnTo>
                    <a:lnTo>
                      <a:pt x="425" y="286"/>
                    </a:lnTo>
                    <a:lnTo>
                      <a:pt x="425" y="290"/>
                    </a:lnTo>
                    <a:lnTo>
                      <a:pt x="428" y="286"/>
                    </a:lnTo>
                    <a:lnTo>
                      <a:pt x="425" y="283"/>
                    </a:lnTo>
                    <a:lnTo>
                      <a:pt x="425" y="283"/>
                    </a:lnTo>
                    <a:lnTo>
                      <a:pt x="421" y="283"/>
                    </a:lnTo>
                    <a:lnTo>
                      <a:pt x="407" y="279"/>
                    </a:lnTo>
                    <a:lnTo>
                      <a:pt x="407" y="283"/>
                    </a:lnTo>
                    <a:lnTo>
                      <a:pt x="410" y="279"/>
                    </a:lnTo>
                    <a:lnTo>
                      <a:pt x="399" y="272"/>
                    </a:lnTo>
                    <a:lnTo>
                      <a:pt x="388" y="265"/>
                    </a:lnTo>
                    <a:lnTo>
                      <a:pt x="385" y="268"/>
                    </a:lnTo>
                    <a:lnTo>
                      <a:pt x="392" y="268"/>
                    </a:lnTo>
                    <a:lnTo>
                      <a:pt x="385" y="257"/>
                    </a:lnTo>
                    <a:lnTo>
                      <a:pt x="378" y="247"/>
                    </a:lnTo>
                    <a:lnTo>
                      <a:pt x="374" y="239"/>
                    </a:lnTo>
                    <a:lnTo>
                      <a:pt x="370" y="228"/>
                    </a:lnTo>
                    <a:lnTo>
                      <a:pt x="367" y="221"/>
                    </a:lnTo>
                    <a:lnTo>
                      <a:pt x="359" y="221"/>
                    </a:lnTo>
                    <a:lnTo>
                      <a:pt x="367" y="221"/>
                    </a:lnTo>
                    <a:lnTo>
                      <a:pt x="367" y="210"/>
                    </a:lnTo>
                    <a:lnTo>
                      <a:pt x="359" y="210"/>
                    </a:lnTo>
                    <a:lnTo>
                      <a:pt x="367" y="214"/>
                    </a:lnTo>
                    <a:lnTo>
                      <a:pt x="370" y="203"/>
                    </a:lnTo>
                    <a:lnTo>
                      <a:pt x="370" y="203"/>
                    </a:lnTo>
                    <a:lnTo>
                      <a:pt x="370" y="199"/>
                    </a:lnTo>
                    <a:lnTo>
                      <a:pt x="370" y="189"/>
                    </a:lnTo>
                    <a:lnTo>
                      <a:pt x="363" y="189"/>
                    </a:lnTo>
                    <a:lnTo>
                      <a:pt x="370" y="192"/>
                    </a:lnTo>
                    <a:lnTo>
                      <a:pt x="374" y="185"/>
                    </a:lnTo>
                    <a:lnTo>
                      <a:pt x="378" y="178"/>
                    </a:lnTo>
                    <a:lnTo>
                      <a:pt x="370" y="174"/>
                    </a:lnTo>
                    <a:lnTo>
                      <a:pt x="374" y="178"/>
                    </a:lnTo>
                    <a:lnTo>
                      <a:pt x="381" y="170"/>
                    </a:lnTo>
                    <a:lnTo>
                      <a:pt x="385" y="170"/>
                    </a:lnTo>
                    <a:lnTo>
                      <a:pt x="385" y="170"/>
                    </a:lnTo>
                    <a:lnTo>
                      <a:pt x="388" y="163"/>
                    </a:lnTo>
                    <a:lnTo>
                      <a:pt x="381" y="159"/>
                    </a:lnTo>
                    <a:lnTo>
                      <a:pt x="385" y="163"/>
                    </a:lnTo>
                    <a:lnTo>
                      <a:pt x="392" y="156"/>
                    </a:lnTo>
                    <a:lnTo>
                      <a:pt x="399" y="149"/>
                    </a:lnTo>
                    <a:lnTo>
                      <a:pt x="403" y="149"/>
                    </a:lnTo>
                    <a:lnTo>
                      <a:pt x="403" y="149"/>
                    </a:lnTo>
                    <a:lnTo>
                      <a:pt x="407" y="141"/>
                    </a:lnTo>
                    <a:lnTo>
                      <a:pt x="414" y="130"/>
                    </a:lnTo>
                    <a:lnTo>
                      <a:pt x="417" y="120"/>
                    </a:lnTo>
                    <a:lnTo>
                      <a:pt x="421" y="109"/>
                    </a:lnTo>
                    <a:lnTo>
                      <a:pt x="421" y="109"/>
                    </a:lnTo>
                    <a:lnTo>
                      <a:pt x="421" y="105"/>
                    </a:lnTo>
                    <a:lnTo>
                      <a:pt x="421" y="91"/>
                    </a:lnTo>
                    <a:lnTo>
                      <a:pt x="421" y="80"/>
                    </a:lnTo>
                    <a:lnTo>
                      <a:pt x="421" y="65"/>
                    </a:lnTo>
                    <a:lnTo>
                      <a:pt x="421" y="65"/>
                    </a:lnTo>
                    <a:lnTo>
                      <a:pt x="421" y="65"/>
                    </a:lnTo>
                    <a:lnTo>
                      <a:pt x="417" y="54"/>
                    </a:lnTo>
                    <a:lnTo>
                      <a:pt x="414" y="40"/>
                    </a:lnTo>
                    <a:lnTo>
                      <a:pt x="414" y="40"/>
                    </a:lnTo>
                    <a:lnTo>
                      <a:pt x="410" y="36"/>
                    </a:lnTo>
                    <a:lnTo>
                      <a:pt x="407" y="33"/>
                    </a:lnTo>
                    <a:lnTo>
                      <a:pt x="403" y="29"/>
                    </a:lnTo>
                    <a:lnTo>
                      <a:pt x="396" y="22"/>
                    </a:lnTo>
                    <a:lnTo>
                      <a:pt x="392" y="18"/>
                    </a:lnTo>
                    <a:lnTo>
                      <a:pt x="388" y="14"/>
                    </a:lnTo>
                    <a:lnTo>
                      <a:pt x="388" y="14"/>
                    </a:lnTo>
                    <a:lnTo>
                      <a:pt x="388" y="14"/>
                    </a:lnTo>
                    <a:lnTo>
                      <a:pt x="381" y="11"/>
                    </a:lnTo>
                    <a:lnTo>
                      <a:pt x="374" y="7"/>
                    </a:lnTo>
                    <a:lnTo>
                      <a:pt x="367" y="4"/>
                    </a:lnTo>
                    <a:lnTo>
                      <a:pt x="356" y="0"/>
                    </a:lnTo>
                    <a:lnTo>
                      <a:pt x="356" y="0"/>
                    </a:lnTo>
                    <a:lnTo>
                      <a:pt x="352" y="0"/>
                    </a:lnTo>
                    <a:lnTo>
                      <a:pt x="345" y="0"/>
                    </a:lnTo>
                    <a:lnTo>
                      <a:pt x="334" y="0"/>
                    </a:lnTo>
                    <a:lnTo>
                      <a:pt x="323" y="0"/>
                    </a:lnTo>
                    <a:lnTo>
                      <a:pt x="316" y="0"/>
                    </a:lnTo>
                    <a:lnTo>
                      <a:pt x="305" y="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290" y="4"/>
                    </a:lnTo>
                    <a:lnTo>
                      <a:pt x="290" y="7"/>
                    </a:lnTo>
                    <a:lnTo>
                      <a:pt x="290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76" y="7"/>
                    </a:lnTo>
                    <a:lnTo>
                      <a:pt x="269" y="11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58" y="14"/>
                    </a:lnTo>
                    <a:lnTo>
                      <a:pt x="254" y="18"/>
                    </a:lnTo>
                    <a:lnTo>
                      <a:pt x="258" y="22"/>
                    </a:lnTo>
                    <a:lnTo>
                      <a:pt x="258" y="18"/>
                    </a:lnTo>
                    <a:lnTo>
                      <a:pt x="251" y="22"/>
                    </a:lnTo>
                    <a:lnTo>
                      <a:pt x="251" y="22"/>
                    </a:lnTo>
                    <a:lnTo>
                      <a:pt x="247" y="22"/>
                    </a:lnTo>
                    <a:lnTo>
                      <a:pt x="243" y="25"/>
                    </a:lnTo>
                    <a:lnTo>
                      <a:pt x="243" y="29"/>
                    </a:lnTo>
                    <a:lnTo>
                      <a:pt x="243" y="29"/>
                    </a:lnTo>
                    <a:lnTo>
                      <a:pt x="240" y="36"/>
                    </a:lnTo>
                    <a:lnTo>
                      <a:pt x="243" y="36"/>
                    </a:lnTo>
                    <a:lnTo>
                      <a:pt x="240" y="33"/>
                    </a:lnTo>
                    <a:lnTo>
                      <a:pt x="232" y="40"/>
                    </a:lnTo>
                    <a:lnTo>
                      <a:pt x="232" y="43"/>
                    </a:lnTo>
                    <a:lnTo>
                      <a:pt x="232" y="43"/>
                    </a:lnTo>
                    <a:lnTo>
                      <a:pt x="229" y="58"/>
                    </a:lnTo>
                    <a:lnTo>
                      <a:pt x="225" y="69"/>
                    </a:lnTo>
                    <a:lnTo>
                      <a:pt x="225" y="69"/>
                    </a:lnTo>
                    <a:lnTo>
                      <a:pt x="225" y="69"/>
                    </a:lnTo>
                    <a:lnTo>
                      <a:pt x="225" y="80"/>
                    </a:lnTo>
                    <a:lnTo>
                      <a:pt x="225" y="91"/>
                    </a:lnTo>
                    <a:lnTo>
                      <a:pt x="225" y="105"/>
                    </a:lnTo>
                    <a:lnTo>
                      <a:pt x="225" y="109"/>
                    </a:lnTo>
                    <a:lnTo>
                      <a:pt x="225" y="109"/>
                    </a:lnTo>
                    <a:lnTo>
                      <a:pt x="229" y="120"/>
                    </a:lnTo>
                    <a:lnTo>
                      <a:pt x="232" y="130"/>
                    </a:lnTo>
                    <a:lnTo>
                      <a:pt x="232" y="130"/>
                    </a:lnTo>
                    <a:lnTo>
                      <a:pt x="232" y="130"/>
                    </a:lnTo>
                    <a:lnTo>
                      <a:pt x="240" y="138"/>
                    </a:lnTo>
                    <a:lnTo>
                      <a:pt x="243" y="134"/>
                    </a:lnTo>
                    <a:lnTo>
                      <a:pt x="240" y="138"/>
                    </a:lnTo>
                    <a:lnTo>
                      <a:pt x="247" y="149"/>
                    </a:lnTo>
                    <a:lnTo>
                      <a:pt x="247" y="149"/>
                    </a:lnTo>
                    <a:lnTo>
                      <a:pt x="247" y="149"/>
                    </a:lnTo>
                    <a:lnTo>
                      <a:pt x="254" y="156"/>
                    </a:lnTo>
                    <a:lnTo>
                      <a:pt x="258" y="152"/>
                    </a:lnTo>
                    <a:lnTo>
                      <a:pt x="254" y="156"/>
                    </a:lnTo>
                    <a:lnTo>
                      <a:pt x="261" y="167"/>
                    </a:lnTo>
                    <a:lnTo>
                      <a:pt x="265" y="178"/>
                    </a:lnTo>
                    <a:lnTo>
                      <a:pt x="269" y="185"/>
                    </a:lnTo>
                    <a:lnTo>
                      <a:pt x="272" y="196"/>
                    </a:lnTo>
                    <a:lnTo>
                      <a:pt x="276" y="192"/>
                    </a:lnTo>
                    <a:lnTo>
                      <a:pt x="272" y="192"/>
                    </a:lnTo>
                    <a:lnTo>
                      <a:pt x="272" y="203"/>
                    </a:lnTo>
                    <a:lnTo>
                      <a:pt x="276" y="203"/>
                    </a:lnTo>
                    <a:lnTo>
                      <a:pt x="272" y="203"/>
                    </a:lnTo>
                    <a:lnTo>
                      <a:pt x="269" y="214"/>
                    </a:lnTo>
                    <a:lnTo>
                      <a:pt x="269" y="214"/>
                    </a:lnTo>
                    <a:lnTo>
                      <a:pt x="269" y="214"/>
                    </a:lnTo>
                    <a:lnTo>
                      <a:pt x="269" y="225"/>
                    </a:lnTo>
                    <a:lnTo>
                      <a:pt x="272" y="225"/>
                    </a:lnTo>
                    <a:lnTo>
                      <a:pt x="269" y="225"/>
                    </a:lnTo>
                    <a:lnTo>
                      <a:pt x="261" y="236"/>
                    </a:lnTo>
                    <a:lnTo>
                      <a:pt x="258" y="243"/>
                    </a:lnTo>
                    <a:lnTo>
                      <a:pt x="251" y="254"/>
                    </a:lnTo>
                    <a:lnTo>
                      <a:pt x="254" y="254"/>
                    </a:lnTo>
                    <a:lnTo>
                      <a:pt x="254" y="250"/>
                    </a:lnTo>
                    <a:lnTo>
                      <a:pt x="243" y="257"/>
                    </a:lnTo>
                    <a:lnTo>
                      <a:pt x="232" y="265"/>
                    </a:lnTo>
                    <a:lnTo>
                      <a:pt x="222" y="272"/>
                    </a:lnTo>
                    <a:lnTo>
                      <a:pt x="203" y="279"/>
                    </a:lnTo>
                    <a:lnTo>
                      <a:pt x="203" y="283"/>
                    </a:lnTo>
                    <a:lnTo>
                      <a:pt x="203" y="279"/>
                    </a:lnTo>
                    <a:lnTo>
                      <a:pt x="189" y="283"/>
                    </a:lnTo>
                    <a:lnTo>
                      <a:pt x="178" y="283"/>
                    </a:lnTo>
                    <a:lnTo>
                      <a:pt x="160" y="283"/>
                    </a:lnTo>
                    <a:lnTo>
                      <a:pt x="142" y="283"/>
                    </a:lnTo>
                    <a:lnTo>
                      <a:pt x="120" y="283"/>
                    </a:lnTo>
                    <a:lnTo>
                      <a:pt x="98" y="283"/>
                    </a:lnTo>
                    <a:lnTo>
                      <a:pt x="73" y="283"/>
                    </a:lnTo>
                    <a:lnTo>
                      <a:pt x="48" y="283"/>
                    </a:lnTo>
                    <a:lnTo>
                      <a:pt x="22" y="283"/>
                    </a:lnTo>
                    <a:lnTo>
                      <a:pt x="19" y="283"/>
                    </a:lnTo>
                    <a:lnTo>
                      <a:pt x="19" y="286"/>
                    </a:lnTo>
                    <a:lnTo>
                      <a:pt x="15" y="305"/>
                    </a:lnTo>
                    <a:lnTo>
                      <a:pt x="11" y="330"/>
                    </a:lnTo>
                    <a:lnTo>
                      <a:pt x="8" y="359"/>
                    </a:lnTo>
                    <a:lnTo>
                      <a:pt x="4" y="388"/>
                    </a:lnTo>
                    <a:lnTo>
                      <a:pt x="0" y="417"/>
                    </a:lnTo>
                    <a:lnTo>
                      <a:pt x="0" y="442"/>
                    </a:lnTo>
                    <a:lnTo>
                      <a:pt x="0" y="464"/>
                    </a:lnTo>
                    <a:lnTo>
                      <a:pt x="0" y="479"/>
                    </a:lnTo>
                    <a:lnTo>
                      <a:pt x="0" y="482"/>
                    </a:lnTo>
                    <a:lnTo>
                      <a:pt x="0" y="482"/>
                    </a:lnTo>
                    <a:lnTo>
                      <a:pt x="4" y="490"/>
                    </a:lnTo>
                    <a:lnTo>
                      <a:pt x="8" y="497"/>
                    </a:lnTo>
                    <a:lnTo>
                      <a:pt x="8" y="497"/>
                    </a:lnTo>
                    <a:lnTo>
                      <a:pt x="8" y="497"/>
                    </a:lnTo>
                    <a:lnTo>
                      <a:pt x="11" y="500"/>
                    </a:lnTo>
                    <a:lnTo>
                      <a:pt x="19" y="508"/>
                    </a:lnTo>
                    <a:lnTo>
                      <a:pt x="22" y="511"/>
                    </a:lnTo>
                    <a:lnTo>
                      <a:pt x="22" y="511"/>
                    </a:lnTo>
                    <a:lnTo>
                      <a:pt x="29" y="515"/>
                    </a:lnTo>
                    <a:lnTo>
                      <a:pt x="37" y="519"/>
                    </a:lnTo>
                    <a:lnTo>
                      <a:pt x="48" y="522"/>
                    </a:lnTo>
                    <a:lnTo>
                      <a:pt x="55" y="526"/>
                    </a:lnTo>
                    <a:lnTo>
                      <a:pt x="55" y="526"/>
                    </a:lnTo>
                    <a:lnTo>
                      <a:pt x="55" y="526"/>
                    </a:lnTo>
                    <a:lnTo>
                      <a:pt x="66" y="526"/>
                    </a:lnTo>
                    <a:lnTo>
                      <a:pt x="77" y="526"/>
                    </a:lnTo>
                    <a:lnTo>
                      <a:pt x="84" y="526"/>
                    </a:lnTo>
                    <a:lnTo>
                      <a:pt x="95" y="526"/>
                    </a:lnTo>
                    <a:lnTo>
                      <a:pt x="95" y="526"/>
                    </a:lnTo>
                    <a:lnTo>
                      <a:pt x="98" y="526"/>
                    </a:lnTo>
                    <a:lnTo>
                      <a:pt x="109" y="522"/>
                    </a:lnTo>
                    <a:lnTo>
                      <a:pt x="116" y="519"/>
                    </a:lnTo>
                    <a:lnTo>
                      <a:pt x="124" y="515"/>
                    </a:lnTo>
                    <a:lnTo>
                      <a:pt x="124" y="515"/>
                    </a:lnTo>
                    <a:lnTo>
                      <a:pt x="124" y="511"/>
                    </a:lnTo>
                    <a:lnTo>
                      <a:pt x="131" y="504"/>
                    </a:lnTo>
                    <a:lnTo>
                      <a:pt x="127" y="500"/>
                    </a:lnTo>
                    <a:lnTo>
                      <a:pt x="131" y="508"/>
                    </a:lnTo>
                    <a:lnTo>
                      <a:pt x="138" y="504"/>
                    </a:lnTo>
                    <a:lnTo>
                      <a:pt x="138" y="504"/>
                    </a:lnTo>
                    <a:lnTo>
                      <a:pt x="138" y="500"/>
                    </a:lnTo>
                    <a:lnTo>
                      <a:pt x="145" y="493"/>
                    </a:lnTo>
                    <a:lnTo>
                      <a:pt x="142" y="490"/>
                    </a:lnTo>
                    <a:lnTo>
                      <a:pt x="142" y="497"/>
                    </a:lnTo>
                    <a:lnTo>
                      <a:pt x="153" y="497"/>
                    </a:lnTo>
                    <a:lnTo>
                      <a:pt x="153" y="497"/>
                    </a:lnTo>
                    <a:lnTo>
                      <a:pt x="156" y="497"/>
                    </a:lnTo>
                    <a:lnTo>
                      <a:pt x="164" y="493"/>
                    </a:lnTo>
                    <a:lnTo>
                      <a:pt x="160" y="486"/>
                    </a:lnTo>
                    <a:lnTo>
                      <a:pt x="160" y="493"/>
                    </a:lnTo>
                    <a:lnTo>
                      <a:pt x="171" y="493"/>
                    </a:lnTo>
                    <a:lnTo>
                      <a:pt x="182" y="493"/>
                    </a:lnTo>
                    <a:lnTo>
                      <a:pt x="182" y="486"/>
                    </a:lnTo>
                    <a:lnTo>
                      <a:pt x="182" y="493"/>
                    </a:lnTo>
                    <a:lnTo>
                      <a:pt x="193" y="497"/>
                    </a:lnTo>
                    <a:lnTo>
                      <a:pt x="203" y="500"/>
                    </a:lnTo>
                    <a:lnTo>
                      <a:pt x="211" y="504"/>
                    </a:lnTo>
                    <a:lnTo>
                      <a:pt x="222" y="511"/>
                    </a:lnTo>
                    <a:lnTo>
                      <a:pt x="222" y="504"/>
                    </a:lnTo>
                    <a:lnTo>
                      <a:pt x="218" y="508"/>
                    </a:lnTo>
                    <a:lnTo>
                      <a:pt x="225" y="515"/>
                    </a:lnTo>
                    <a:lnTo>
                      <a:pt x="229" y="511"/>
                    </a:lnTo>
                    <a:lnTo>
                      <a:pt x="225" y="515"/>
                    </a:lnTo>
                    <a:lnTo>
                      <a:pt x="232" y="526"/>
                    </a:lnTo>
                    <a:lnTo>
                      <a:pt x="240" y="537"/>
                    </a:lnTo>
                    <a:lnTo>
                      <a:pt x="243" y="548"/>
                    </a:lnTo>
                    <a:lnTo>
                      <a:pt x="247" y="562"/>
                    </a:lnTo>
                    <a:lnTo>
                      <a:pt x="251" y="558"/>
                    </a:lnTo>
                    <a:lnTo>
                      <a:pt x="247" y="558"/>
                    </a:lnTo>
                    <a:lnTo>
                      <a:pt x="247" y="573"/>
                    </a:lnTo>
                    <a:lnTo>
                      <a:pt x="247" y="584"/>
                    </a:lnTo>
                    <a:lnTo>
                      <a:pt x="251" y="584"/>
                    </a:lnTo>
                    <a:lnTo>
                      <a:pt x="247" y="584"/>
                    </a:lnTo>
                    <a:lnTo>
                      <a:pt x="243" y="591"/>
                    </a:lnTo>
                    <a:lnTo>
                      <a:pt x="240" y="602"/>
                    </a:lnTo>
                    <a:lnTo>
                      <a:pt x="243" y="602"/>
                    </a:lnTo>
                    <a:lnTo>
                      <a:pt x="240" y="598"/>
                    </a:lnTo>
                    <a:lnTo>
                      <a:pt x="232" y="606"/>
                    </a:lnTo>
                    <a:lnTo>
                      <a:pt x="225" y="613"/>
                    </a:lnTo>
                    <a:lnTo>
                      <a:pt x="218" y="620"/>
                    </a:lnTo>
                    <a:lnTo>
                      <a:pt x="222" y="624"/>
                    </a:lnTo>
                    <a:lnTo>
                      <a:pt x="222" y="620"/>
                    </a:lnTo>
                    <a:lnTo>
                      <a:pt x="211" y="624"/>
                    </a:lnTo>
                    <a:lnTo>
                      <a:pt x="203" y="627"/>
                    </a:lnTo>
                    <a:lnTo>
                      <a:pt x="193" y="631"/>
                    </a:lnTo>
                    <a:lnTo>
                      <a:pt x="182" y="635"/>
                    </a:lnTo>
                    <a:lnTo>
                      <a:pt x="182" y="638"/>
                    </a:lnTo>
                    <a:lnTo>
                      <a:pt x="182" y="635"/>
                    </a:lnTo>
                    <a:lnTo>
                      <a:pt x="171" y="635"/>
                    </a:lnTo>
                    <a:lnTo>
                      <a:pt x="160" y="635"/>
                    </a:lnTo>
                    <a:lnTo>
                      <a:pt x="160" y="638"/>
                    </a:lnTo>
                    <a:lnTo>
                      <a:pt x="164" y="635"/>
                    </a:lnTo>
                    <a:lnTo>
                      <a:pt x="156" y="631"/>
                    </a:lnTo>
                    <a:lnTo>
                      <a:pt x="145" y="627"/>
                    </a:lnTo>
                    <a:lnTo>
                      <a:pt x="142" y="631"/>
                    </a:lnTo>
                    <a:lnTo>
                      <a:pt x="145" y="627"/>
                    </a:lnTo>
                    <a:lnTo>
                      <a:pt x="138" y="620"/>
                    </a:lnTo>
                    <a:lnTo>
                      <a:pt x="131" y="613"/>
                    </a:lnTo>
                    <a:lnTo>
                      <a:pt x="124" y="606"/>
                    </a:lnTo>
                    <a:lnTo>
                      <a:pt x="124" y="606"/>
                    </a:lnTo>
                    <a:lnTo>
                      <a:pt x="124" y="606"/>
                    </a:lnTo>
                    <a:lnTo>
                      <a:pt x="116" y="602"/>
                    </a:lnTo>
                    <a:lnTo>
                      <a:pt x="109" y="598"/>
                    </a:lnTo>
                    <a:lnTo>
                      <a:pt x="102" y="595"/>
                    </a:lnTo>
                    <a:lnTo>
                      <a:pt x="102" y="595"/>
                    </a:lnTo>
                    <a:lnTo>
                      <a:pt x="98" y="595"/>
                    </a:lnTo>
                    <a:lnTo>
                      <a:pt x="91" y="595"/>
                    </a:lnTo>
                    <a:lnTo>
                      <a:pt x="84" y="595"/>
                    </a:lnTo>
                    <a:lnTo>
                      <a:pt x="73" y="595"/>
                    </a:lnTo>
                    <a:lnTo>
                      <a:pt x="66" y="595"/>
                    </a:lnTo>
                    <a:lnTo>
                      <a:pt x="66" y="595"/>
                    </a:lnTo>
                    <a:lnTo>
                      <a:pt x="62" y="595"/>
                    </a:lnTo>
                    <a:lnTo>
                      <a:pt x="55" y="602"/>
                    </a:lnTo>
                    <a:lnTo>
                      <a:pt x="58" y="606"/>
                    </a:lnTo>
                    <a:lnTo>
                      <a:pt x="58" y="602"/>
                    </a:lnTo>
                    <a:lnTo>
                      <a:pt x="48" y="606"/>
                    </a:lnTo>
                    <a:lnTo>
                      <a:pt x="40" y="609"/>
                    </a:lnTo>
                    <a:lnTo>
                      <a:pt x="40" y="609"/>
                    </a:lnTo>
                    <a:lnTo>
                      <a:pt x="37" y="609"/>
                    </a:lnTo>
                    <a:lnTo>
                      <a:pt x="29" y="617"/>
                    </a:lnTo>
                    <a:lnTo>
                      <a:pt x="22" y="624"/>
                    </a:lnTo>
                    <a:lnTo>
                      <a:pt x="22" y="627"/>
                    </a:lnTo>
                    <a:lnTo>
                      <a:pt x="22" y="627"/>
                    </a:lnTo>
                    <a:lnTo>
                      <a:pt x="19" y="635"/>
                    </a:lnTo>
                    <a:lnTo>
                      <a:pt x="22" y="635"/>
                    </a:lnTo>
                    <a:lnTo>
                      <a:pt x="19" y="631"/>
                    </a:lnTo>
                    <a:lnTo>
                      <a:pt x="11" y="638"/>
                    </a:lnTo>
                    <a:lnTo>
                      <a:pt x="11" y="642"/>
                    </a:lnTo>
                    <a:lnTo>
                      <a:pt x="11" y="642"/>
                    </a:lnTo>
                    <a:lnTo>
                      <a:pt x="8" y="653"/>
                    </a:lnTo>
                    <a:lnTo>
                      <a:pt x="4" y="660"/>
                    </a:lnTo>
                    <a:lnTo>
                      <a:pt x="4" y="660"/>
                    </a:lnTo>
                    <a:lnTo>
                      <a:pt x="4" y="660"/>
                    </a:lnTo>
                    <a:lnTo>
                      <a:pt x="4" y="675"/>
                    </a:lnTo>
                    <a:lnTo>
                      <a:pt x="4" y="685"/>
                    </a:lnTo>
                    <a:lnTo>
                      <a:pt x="4" y="685"/>
                    </a:lnTo>
                    <a:lnTo>
                      <a:pt x="4" y="689"/>
                    </a:lnTo>
                    <a:lnTo>
                      <a:pt x="8" y="704"/>
                    </a:lnTo>
                    <a:lnTo>
                      <a:pt x="11" y="700"/>
                    </a:lnTo>
                    <a:lnTo>
                      <a:pt x="8" y="700"/>
                    </a:lnTo>
                    <a:lnTo>
                      <a:pt x="11" y="733"/>
                    </a:lnTo>
                    <a:lnTo>
                      <a:pt x="19" y="769"/>
                    </a:lnTo>
                    <a:lnTo>
                      <a:pt x="22" y="787"/>
                    </a:lnTo>
                    <a:lnTo>
                      <a:pt x="22" y="798"/>
                    </a:lnTo>
                    <a:lnTo>
                      <a:pt x="22" y="791"/>
                    </a:lnTo>
                    <a:lnTo>
                      <a:pt x="26" y="805"/>
                    </a:lnTo>
                    <a:lnTo>
                      <a:pt x="29" y="802"/>
                    </a:lnTo>
                    <a:lnTo>
                      <a:pt x="26" y="802"/>
                    </a:lnTo>
                    <a:lnTo>
                      <a:pt x="26" y="820"/>
                    </a:lnTo>
                    <a:lnTo>
                      <a:pt x="29" y="838"/>
                    </a:lnTo>
                    <a:lnTo>
                      <a:pt x="29" y="852"/>
                    </a:lnTo>
                    <a:lnTo>
                      <a:pt x="33" y="852"/>
                    </a:lnTo>
                    <a:lnTo>
                      <a:pt x="29" y="852"/>
                    </a:lnTo>
                    <a:lnTo>
                      <a:pt x="26" y="867"/>
                    </a:lnTo>
                    <a:lnTo>
                      <a:pt x="26" y="867"/>
                    </a:lnTo>
                    <a:lnTo>
                      <a:pt x="26" y="867"/>
                    </a:lnTo>
                    <a:lnTo>
                      <a:pt x="26" y="874"/>
                    </a:lnTo>
                    <a:lnTo>
                      <a:pt x="29" y="874"/>
                    </a:lnTo>
                    <a:lnTo>
                      <a:pt x="26" y="874"/>
                    </a:lnTo>
                    <a:lnTo>
                      <a:pt x="22" y="881"/>
                    </a:lnTo>
                    <a:lnTo>
                      <a:pt x="22" y="881"/>
                    </a:lnTo>
                    <a:lnTo>
                      <a:pt x="22" y="881"/>
                    </a:lnTo>
                    <a:lnTo>
                      <a:pt x="22" y="889"/>
                    </a:lnTo>
                    <a:lnTo>
                      <a:pt x="26" y="889"/>
                    </a:lnTo>
                    <a:lnTo>
                      <a:pt x="22" y="885"/>
                    </a:lnTo>
                    <a:lnTo>
                      <a:pt x="19" y="889"/>
                    </a:lnTo>
                    <a:lnTo>
                      <a:pt x="8" y="899"/>
                    </a:lnTo>
                    <a:lnTo>
                      <a:pt x="22" y="899"/>
                    </a:lnTo>
                    <a:lnTo>
                      <a:pt x="48" y="896"/>
                    </a:lnTo>
                    <a:lnTo>
                      <a:pt x="51" y="892"/>
                    </a:lnTo>
                    <a:lnTo>
                      <a:pt x="51" y="896"/>
                    </a:lnTo>
                    <a:lnTo>
                      <a:pt x="77" y="889"/>
                    </a:lnTo>
                    <a:lnTo>
                      <a:pt x="73" y="881"/>
                    </a:lnTo>
                    <a:lnTo>
                      <a:pt x="73" y="889"/>
                    </a:lnTo>
                    <a:lnTo>
                      <a:pt x="98" y="889"/>
                    </a:lnTo>
                    <a:lnTo>
                      <a:pt x="120" y="885"/>
                    </a:lnTo>
                    <a:lnTo>
                      <a:pt x="145" y="881"/>
                    </a:lnTo>
                    <a:lnTo>
                      <a:pt x="167" y="881"/>
                    </a:lnTo>
                    <a:lnTo>
                      <a:pt x="167" y="874"/>
                    </a:lnTo>
                    <a:lnTo>
                      <a:pt x="167" y="881"/>
                    </a:lnTo>
                    <a:lnTo>
                      <a:pt x="178" y="885"/>
                    </a:lnTo>
                    <a:lnTo>
                      <a:pt x="178" y="885"/>
                    </a:lnTo>
                    <a:lnTo>
                      <a:pt x="178" y="885"/>
                    </a:lnTo>
                    <a:lnTo>
                      <a:pt x="189" y="885"/>
                    </a:lnTo>
                    <a:lnTo>
                      <a:pt x="189" y="878"/>
                    </a:lnTo>
                    <a:lnTo>
                      <a:pt x="189" y="885"/>
                    </a:lnTo>
                    <a:lnTo>
                      <a:pt x="196" y="889"/>
                    </a:lnTo>
                    <a:lnTo>
                      <a:pt x="207" y="892"/>
                    </a:lnTo>
                    <a:lnTo>
                      <a:pt x="200" y="889"/>
                    </a:lnTo>
                    <a:lnTo>
                      <a:pt x="207" y="892"/>
                    </a:lnTo>
                    <a:lnTo>
                      <a:pt x="222" y="896"/>
                    </a:lnTo>
                    <a:close/>
                    <a:moveTo>
                      <a:pt x="207" y="881"/>
                    </a:moveTo>
                    <a:lnTo>
                      <a:pt x="207" y="885"/>
                    </a:lnTo>
                    <a:lnTo>
                      <a:pt x="211" y="881"/>
                    </a:lnTo>
                    <a:lnTo>
                      <a:pt x="200" y="878"/>
                    </a:lnTo>
                    <a:lnTo>
                      <a:pt x="193" y="874"/>
                    </a:lnTo>
                    <a:lnTo>
                      <a:pt x="193" y="874"/>
                    </a:lnTo>
                    <a:lnTo>
                      <a:pt x="189" y="874"/>
                    </a:lnTo>
                    <a:lnTo>
                      <a:pt x="178" y="874"/>
                    </a:lnTo>
                    <a:lnTo>
                      <a:pt x="178" y="878"/>
                    </a:lnTo>
                    <a:lnTo>
                      <a:pt x="182" y="874"/>
                    </a:lnTo>
                    <a:lnTo>
                      <a:pt x="171" y="870"/>
                    </a:lnTo>
                    <a:lnTo>
                      <a:pt x="171" y="870"/>
                    </a:lnTo>
                    <a:lnTo>
                      <a:pt x="167" y="870"/>
                    </a:lnTo>
                    <a:lnTo>
                      <a:pt x="145" y="870"/>
                    </a:lnTo>
                    <a:lnTo>
                      <a:pt x="120" y="874"/>
                    </a:lnTo>
                    <a:lnTo>
                      <a:pt x="98" y="878"/>
                    </a:lnTo>
                    <a:lnTo>
                      <a:pt x="73" y="878"/>
                    </a:lnTo>
                    <a:lnTo>
                      <a:pt x="73" y="878"/>
                    </a:lnTo>
                    <a:lnTo>
                      <a:pt x="73" y="878"/>
                    </a:lnTo>
                    <a:lnTo>
                      <a:pt x="48" y="885"/>
                    </a:lnTo>
                    <a:lnTo>
                      <a:pt x="48" y="889"/>
                    </a:lnTo>
                    <a:lnTo>
                      <a:pt x="48" y="885"/>
                    </a:lnTo>
                    <a:lnTo>
                      <a:pt x="22" y="889"/>
                    </a:lnTo>
                    <a:lnTo>
                      <a:pt x="22" y="892"/>
                    </a:lnTo>
                    <a:lnTo>
                      <a:pt x="26" y="896"/>
                    </a:lnTo>
                    <a:lnTo>
                      <a:pt x="29" y="892"/>
                    </a:lnTo>
                    <a:lnTo>
                      <a:pt x="33" y="892"/>
                    </a:lnTo>
                    <a:lnTo>
                      <a:pt x="33" y="889"/>
                    </a:lnTo>
                    <a:lnTo>
                      <a:pt x="33" y="881"/>
                    </a:lnTo>
                    <a:lnTo>
                      <a:pt x="26" y="881"/>
                    </a:lnTo>
                    <a:lnTo>
                      <a:pt x="33" y="885"/>
                    </a:lnTo>
                    <a:lnTo>
                      <a:pt x="37" y="878"/>
                    </a:lnTo>
                    <a:lnTo>
                      <a:pt x="37" y="878"/>
                    </a:lnTo>
                    <a:lnTo>
                      <a:pt x="37" y="874"/>
                    </a:lnTo>
                    <a:lnTo>
                      <a:pt x="37" y="867"/>
                    </a:lnTo>
                    <a:lnTo>
                      <a:pt x="29" y="867"/>
                    </a:lnTo>
                    <a:lnTo>
                      <a:pt x="37" y="870"/>
                    </a:lnTo>
                    <a:lnTo>
                      <a:pt x="40" y="856"/>
                    </a:lnTo>
                    <a:lnTo>
                      <a:pt x="40" y="856"/>
                    </a:lnTo>
                    <a:lnTo>
                      <a:pt x="40" y="852"/>
                    </a:lnTo>
                    <a:lnTo>
                      <a:pt x="40" y="838"/>
                    </a:lnTo>
                    <a:lnTo>
                      <a:pt x="37" y="820"/>
                    </a:lnTo>
                    <a:lnTo>
                      <a:pt x="37" y="802"/>
                    </a:lnTo>
                    <a:lnTo>
                      <a:pt x="37" y="802"/>
                    </a:lnTo>
                    <a:lnTo>
                      <a:pt x="37" y="802"/>
                    </a:lnTo>
                    <a:lnTo>
                      <a:pt x="33" y="787"/>
                    </a:lnTo>
                    <a:lnTo>
                      <a:pt x="26" y="787"/>
                    </a:lnTo>
                    <a:lnTo>
                      <a:pt x="33" y="787"/>
                    </a:lnTo>
                    <a:lnTo>
                      <a:pt x="29" y="769"/>
                    </a:lnTo>
                    <a:lnTo>
                      <a:pt x="22" y="733"/>
                    </a:lnTo>
                    <a:lnTo>
                      <a:pt x="19" y="700"/>
                    </a:lnTo>
                    <a:lnTo>
                      <a:pt x="15" y="696"/>
                    </a:lnTo>
                    <a:lnTo>
                      <a:pt x="19" y="700"/>
                    </a:lnTo>
                    <a:lnTo>
                      <a:pt x="15" y="685"/>
                    </a:lnTo>
                    <a:lnTo>
                      <a:pt x="8" y="685"/>
                    </a:lnTo>
                    <a:lnTo>
                      <a:pt x="15" y="685"/>
                    </a:lnTo>
                    <a:lnTo>
                      <a:pt x="15" y="675"/>
                    </a:lnTo>
                    <a:lnTo>
                      <a:pt x="15" y="660"/>
                    </a:lnTo>
                    <a:lnTo>
                      <a:pt x="8" y="660"/>
                    </a:lnTo>
                    <a:lnTo>
                      <a:pt x="15" y="664"/>
                    </a:lnTo>
                    <a:lnTo>
                      <a:pt x="19" y="656"/>
                    </a:lnTo>
                    <a:lnTo>
                      <a:pt x="22" y="646"/>
                    </a:lnTo>
                    <a:lnTo>
                      <a:pt x="15" y="642"/>
                    </a:lnTo>
                    <a:lnTo>
                      <a:pt x="19" y="646"/>
                    </a:lnTo>
                    <a:lnTo>
                      <a:pt x="26" y="638"/>
                    </a:lnTo>
                    <a:lnTo>
                      <a:pt x="29" y="638"/>
                    </a:lnTo>
                    <a:lnTo>
                      <a:pt x="29" y="638"/>
                    </a:lnTo>
                    <a:lnTo>
                      <a:pt x="33" y="631"/>
                    </a:lnTo>
                    <a:lnTo>
                      <a:pt x="26" y="627"/>
                    </a:lnTo>
                    <a:lnTo>
                      <a:pt x="29" y="631"/>
                    </a:lnTo>
                    <a:lnTo>
                      <a:pt x="37" y="624"/>
                    </a:lnTo>
                    <a:lnTo>
                      <a:pt x="44" y="617"/>
                    </a:lnTo>
                    <a:lnTo>
                      <a:pt x="40" y="613"/>
                    </a:lnTo>
                    <a:lnTo>
                      <a:pt x="44" y="620"/>
                    </a:lnTo>
                    <a:lnTo>
                      <a:pt x="51" y="617"/>
                    </a:lnTo>
                    <a:lnTo>
                      <a:pt x="62" y="613"/>
                    </a:lnTo>
                    <a:lnTo>
                      <a:pt x="62" y="613"/>
                    </a:lnTo>
                    <a:lnTo>
                      <a:pt x="62" y="609"/>
                    </a:lnTo>
                    <a:lnTo>
                      <a:pt x="69" y="602"/>
                    </a:lnTo>
                    <a:lnTo>
                      <a:pt x="66" y="598"/>
                    </a:lnTo>
                    <a:lnTo>
                      <a:pt x="66" y="606"/>
                    </a:lnTo>
                    <a:lnTo>
                      <a:pt x="73" y="606"/>
                    </a:lnTo>
                    <a:lnTo>
                      <a:pt x="84" y="606"/>
                    </a:lnTo>
                    <a:lnTo>
                      <a:pt x="91" y="606"/>
                    </a:lnTo>
                    <a:lnTo>
                      <a:pt x="98" y="606"/>
                    </a:lnTo>
                    <a:lnTo>
                      <a:pt x="98" y="598"/>
                    </a:lnTo>
                    <a:lnTo>
                      <a:pt x="98" y="606"/>
                    </a:lnTo>
                    <a:lnTo>
                      <a:pt x="106" y="609"/>
                    </a:lnTo>
                    <a:lnTo>
                      <a:pt x="113" y="613"/>
                    </a:lnTo>
                    <a:lnTo>
                      <a:pt x="120" y="617"/>
                    </a:lnTo>
                    <a:lnTo>
                      <a:pt x="120" y="609"/>
                    </a:lnTo>
                    <a:lnTo>
                      <a:pt x="116" y="613"/>
                    </a:lnTo>
                    <a:lnTo>
                      <a:pt x="124" y="620"/>
                    </a:lnTo>
                    <a:lnTo>
                      <a:pt x="131" y="627"/>
                    </a:lnTo>
                    <a:lnTo>
                      <a:pt x="138" y="635"/>
                    </a:lnTo>
                    <a:lnTo>
                      <a:pt x="142" y="638"/>
                    </a:lnTo>
                    <a:lnTo>
                      <a:pt x="142" y="638"/>
                    </a:lnTo>
                    <a:lnTo>
                      <a:pt x="153" y="642"/>
                    </a:lnTo>
                    <a:lnTo>
                      <a:pt x="160" y="646"/>
                    </a:lnTo>
                    <a:lnTo>
                      <a:pt x="160" y="646"/>
                    </a:lnTo>
                    <a:lnTo>
                      <a:pt x="160" y="646"/>
                    </a:lnTo>
                    <a:lnTo>
                      <a:pt x="171" y="646"/>
                    </a:lnTo>
                    <a:lnTo>
                      <a:pt x="182" y="646"/>
                    </a:lnTo>
                    <a:lnTo>
                      <a:pt x="185" y="646"/>
                    </a:lnTo>
                    <a:lnTo>
                      <a:pt x="185" y="646"/>
                    </a:lnTo>
                    <a:lnTo>
                      <a:pt x="196" y="642"/>
                    </a:lnTo>
                    <a:lnTo>
                      <a:pt x="207" y="638"/>
                    </a:lnTo>
                    <a:lnTo>
                      <a:pt x="214" y="635"/>
                    </a:lnTo>
                    <a:lnTo>
                      <a:pt x="225" y="631"/>
                    </a:lnTo>
                    <a:lnTo>
                      <a:pt x="225" y="631"/>
                    </a:lnTo>
                    <a:lnTo>
                      <a:pt x="225" y="627"/>
                    </a:lnTo>
                    <a:lnTo>
                      <a:pt x="232" y="620"/>
                    </a:lnTo>
                    <a:lnTo>
                      <a:pt x="240" y="613"/>
                    </a:lnTo>
                    <a:lnTo>
                      <a:pt x="247" y="606"/>
                    </a:lnTo>
                    <a:lnTo>
                      <a:pt x="251" y="606"/>
                    </a:lnTo>
                    <a:lnTo>
                      <a:pt x="251" y="606"/>
                    </a:lnTo>
                    <a:lnTo>
                      <a:pt x="254" y="595"/>
                    </a:lnTo>
                    <a:lnTo>
                      <a:pt x="258" y="588"/>
                    </a:lnTo>
                    <a:lnTo>
                      <a:pt x="258" y="588"/>
                    </a:lnTo>
                    <a:lnTo>
                      <a:pt x="258" y="584"/>
                    </a:lnTo>
                    <a:lnTo>
                      <a:pt x="258" y="573"/>
                    </a:lnTo>
                    <a:lnTo>
                      <a:pt x="258" y="558"/>
                    </a:lnTo>
                    <a:lnTo>
                      <a:pt x="258" y="558"/>
                    </a:lnTo>
                    <a:lnTo>
                      <a:pt x="258" y="558"/>
                    </a:lnTo>
                    <a:lnTo>
                      <a:pt x="254" y="544"/>
                    </a:lnTo>
                    <a:lnTo>
                      <a:pt x="251" y="533"/>
                    </a:lnTo>
                    <a:lnTo>
                      <a:pt x="243" y="522"/>
                    </a:lnTo>
                    <a:lnTo>
                      <a:pt x="236" y="511"/>
                    </a:lnTo>
                    <a:lnTo>
                      <a:pt x="236" y="511"/>
                    </a:lnTo>
                    <a:lnTo>
                      <a:pt x="232" y="508"/>
                    </a:lnTo>
                    <a:lnTo>
                      <a:pt x="225" y="500"/>
                    </a:lnTo>
                    <a:lnTo>
                      <a:pt x="225" y="500"/>
                    </a:lnTo>
                    <a:lnTo>
                      <a:pt x="225" y="500"/>
                    </a:lnTo>
                    <a:lnTo>
                      <a:pt x="214" y="493"/>
                    </a:lnTo>
                    <a:lnTo>
                      <a:pt x="207" y="490"/>
                    </a:lnTo>
                    <a:lnTo>
                      <a:pt x="196" y="486"/>
                    </a:lnTo>
                    <a:lnTo>
                      <a:pt x="185" y="482"/>
                    </a:lnTo>
                    <a:lnTo>
                      <a:pt x="185" y="482"/>
                    </a:lnTo>
                    <a:lnTo>
                      <a:pt x="182" y="482"/>
                    </a:lnTo>
                    <a:lnTo>
                      <a:pt x="171" y="482"/>
                    </a:lnTo>
                    <a:lnTo>
                      <a:pt x="160" y="482"/>
                    </a:lnTo>
                    <a:lnTo>
                      <a:pt x="160" y="482"/>
                    </a:lnTo>
                    <a:lnTo>
                      <a:pt x="160" y="482"/>
                    </a:lnTo>
                    <a:lnTo>
                      <a:pt x="153" y="486"/>
                    </a:lnTo>
                    <a:lnTo>
                      <a:pt x="153" y="490"/>
                    </a:lnTo>
                    <a:lnTo>
                      <a:pt x="153" y="486"/>
                    </a:lnTo>
                    <a:lnTo>
                      <a:pt x="142" y="486"/>
                    </a:lnTo>
                    <a:lnTo>
                      <a:pt x="142" y="486"/>
                    </a:lnTo>
                    <a:lnTo>
                      <a:pt x="138" y="486"/>
                    </a:lnTo>
                    <a:lnTo>
                      <a:pt x="131" y="493"/>
                    </a:lnTo>
                    <a:lnTo>
                      <a:pt x="135" y="497"/>
                    </a:lnTo>
                    <a:lnTo>
                      <a:pt x="135" y="493"/>
                    </a:lnTo>
                    <a:lnTo>
                      <a:pt x="127" y="497"/>
                    </a:lnTo>
                    <a:lnTo>
                      <a:pt x="127" y="497"/>
                    </a:lnTo>
                    <a:lnTo>
                      <a:pt x="124" y="497"/>
                    </a:lnTo>
                    <a:lnTo>
                      <a:pt x="116" y="504"/>
                    </a:lnTo>
                    <a:lnTo>
                      <a:pt x="120" y="508"/>
                    </a:lnTo>
                    <a:lnTo>
                      <a:pt x="120" y="504"/>
                    </a:lnTo>
                    <a:lnTo>
                      <a:pt x="113" y="508"/>
                    </a:lnTo>
                    <a:lnTo>
                      <a:pt x="106" y="511"/>
                    </a:lnTo>
                    <a:lnTo>
                      <a:pt x="95" y="515"/>
                    </a:lnTo>
                    <a:lnTo>
                      <a:pt x="95" y="519"/>
                    </a:lnTo>
                    <a:lnTo>
                      <a:pt x="95" y="515"/>
                    </a:lnTo>
                    <a:lnTo>
                      <a:pt x="84" y="515"/>
                    </a:lnTo>
                    <a:lnTo>
                      <a:pt x="77" y="515"/>
                    </a:lnTo>
                    <a:lnTo>
                      <a:pt x="66" y="515"/>
                    </a:lnTo>
                    <a:lnTo>
                      <a:pt x="55" y="515"/>
                    </a:lnTo>
                    <a:lnTo>
                      <a:pt x="55" y="519"/>
                    </a:lnTo>
                    <a:lnTo>
                      <a:pt x="58" y="515"/>
                    </a:lnTo>
                    <a:lnTo>
                      <a:pt x="51" y="511"/>
                    </a:lnTo>
                    <a:lnTo>
                      <a:pt x="40" y="508"/>
                    </a:lnTo>
                    <a:lnTo>
                      <a:pt x="33" y="504"/>
                    </a:lnTo>
                    <a:lnTo>
                      <a:pt x="26" y="500"/>
                    </a:lnTo>
                    <a:lnTo>
                      <a:pt x="22" y="504"/>
                    </a:lnTo>
                    <a:lnTo>
                      <a:pt x="26" y="500"/>
                    </a:lnTo>
                    <a:lnTo>
                      <a:pt x="19" y="493"/>
                    </a:lnTo>
                    <a:lnTo>
                      <a:pt x="15" y="490"/>
                    </a:lnTo>
                    <a:lnTo>
                      <a:pt x="11" y="493"/>
                    </a:lnTo>
                    <a:lnTo>
                      <a:pt x="19" y="493"/>
                    </a:lnTo>
                    <a:lnTo>
                      <a:pt x="15" y="486"/>
                    </a:lnTo>
                    <a:lnTo>
                      <a:pt x="11" y="479"/>
                    </a:lnTo>
                    <a:lnTo>
                      <a:pt x="4" y="479"/>
                    </a:lnTo>
                    <a:lnTo>
                      <a:pt x="11" y="479"/>
                    </a:lnTo>
                    <a:lnTo>
                      <a:pt x="11" y="464"/>
                    </a:lnTo>
                    <a:lnTo>
                      <a:pt x="11" y="442"/>
                    </a:lnTo>
                    <a:lnTo>
                      <a:pt x="11" y="417"/>
                    </a:lnTo>
                    <a:lnTo>
                      <a:pt x="15" y="388"/>
                    </a:lnTo>
                    <a:lnTo>
                      <a:pt x="19" y="359"/>
                    </a:lnTo>
                    <a:lnTo>
                      <a:pt x="22" y="330"/>
                    </a:lnTo>
                    <a:lnTo>
                      <a:pt x="26" y="305"/>
                    </a:lnTo>
                    <a:lnTo>
                      <a:pt x="29" y="286"/>
                    </a:lnTo>
                    <a:lnTo>
                      <a:pt x="22" y="286"/>
                    </a:lnTo>
                    <a:lnTo>
                      <a:pt x="22" y="294"/>
                    </a:lnTo>
                    <a:lnTo>
                      <a:pt x="48" y="294"/>
                    </a:lnTo>
                    <a:lnTo>
                      <a:pt x="73" y="294"/>
                    </a:lnTo>
                    <a:lnTo>
                      <a:pt x="98" y="294"/>
                    </a:lnTo>
                    <a:lnTo>
                      <a:pt x="120" y="294"/>
                    </a:lnTo>
                    <a:lnTo>
                      <a:pt x="142" y="294"/>
                    </a:lnTo>
                    <a:lnTo>
                      <a:pt x="160" y="294"/>
                    </a:lnTo>
                    <a:lnTo>
                      <a:pt x="178" y="294"/>
                    </a:lnTo>
                    <a:lnTo>
                      <a:pt x="189" y="294"/>
                    </a:lnTo>
                    <a:lnTo>
                      <a:pt x="203" y="290"/>
                    </a:lnTo>
                    <a:lnTo>
                      <a:pt x="207" y="286"/>
                    </a:lnTo>
                    <a:lnTo>
                      <a:pt x="207" y="290"/>
                    </a:lnTo>
                    <a:lnTo>
                      <a:pt x="225" y="283"/>
                    </a:lnTo>
                    <a:lnTo>
                      <a:pt x="236" y="276"/>
                    </a:lnTo>
                    <a:lnTo>
                      <a:pt x="247" y="268"/>
                    </a:lnTo>
                    <a:lnTo>
                      <a:pt x="258" y="261"/>
                    </a:lnTo>
                    <a:lnTo>
                      <a:pt x="258" y="257"/>
                    </a:lnTo>
                    <a:lnTo>
                      <a:pt x="261" y="257"/>
                    </a:lnTo>
                    <a:lnTo>
                      <a:pt x="269" y="247"/>
                    </a:lnTo>
                    <a:lnTo>
                      <a:pt x="272" y="239"/>
                    </a:lnTo>
                    <a:lnTo>
                      <a:pt x="280" y="228"/>
                    </a:lnTo>
                    <a:lnTo>
                      <a:pt x="280" y="228"/>
                    </a:lnTo>
                    <a:lnTo>
                      <a:pt x="280" y="225"/>
                    </a:lnTo>
                    <a:lnTo>
                      <a:pt x="280" y="214"/>
                    </a:lnTo>
                    <a:lnTo>
                      <a:pt x="272" y="214"/>
                    </a:lnTo>
                    <a:lnTo>
                      <a:pt x="280" y="218"/>
                    </a:lnTo>
                    <a:lnTo>
                      <a:pt x="283" y="207"/>
                    </a:lnTo>
                    <a:lnTo>
                      <a:pt x="283" y="207"/>
                    </a:lnTo>
                    <a:lnTo>
                      <a:pt x="283" y="203"/>
                    </a:lnTo>
                    <a:lnTo>
                      <a:pt x="283" y="192"/>
                    </a:lnTo>
                    <a:lnTo>
                      <a:pt x="283" y="192"/>
                    </a:lnTo>
                    <a:lnTo>
                      <a:pt x="283" y="192"/>
                    </a:lnTo>
                    <a:lnTo>
                      <a:pt x="280" y="181"/>
                    </a:lnTo>
                    <a:lnTo>
                      <a:pt x="276" y="174"/>
                    </a:lnTo>
                    <a:lnTo>
                      <a:pt x="272" y="163"/>
                    </a:lnTo>
                    <a:lnTo>
                      <a:pt x="265" y="152"/>
                    </a:lnTo>
                    <a:lnTo>
                      <a:pt x="265" y="152"/>
                    </a:lnTo>
                    <a:lnTo>
                      <a:pt x="261" y="149"/>
                    </a:lnTo>
                    <a:lnTo>
                      <a:pt x="254" y="141"/>
                    </a:lnTo>
                    <a:lnTo>
                      <a:pt x="251" y="145"/>
                    </a:lnTo>
                    <a:lnTo>
                      <a:pt x="258" y="145"/>
                    </a:lnTo>
                    <a:lnTo>
                      <a:pt x="251" y="134"/>
                    </a:lnTo>
                    <a:lnTo>
                      <a:pt x="251" y="134"/>
                    </a:lnTo>
                    <a:lnTo>
                      <a:pt x="247" y="130"/>
                    </a:lnTo>
                    <a:lnTo>
                      <a:pt x="240" y="123"/>
                    </a:lnTo>
                    <a:lnTo>
                      <a:pt x="236" y="127"/>
                    </a:lnTo>
                    <a:lnTo>
                      <a:pt x="243" y="127"/>
                    </a:lnTo>
                    <a:lnTo>
                      <a:pt x="240" y="116"/>
                    </a:lnTo>
                    <a:lnTo>
                      <a:pt x="236" y="105"/>
                    </a:lnTo>
                    <a:lnTo>
                      <a:pt x="229" y="105"/>
                    </a:lnTo>
                    <a:lnTo>
                      <a:pt x="236" y="105"/>
                    </a:lnTo>
                    <a:lnTo>
                      <a:pt x="236" y="91"/>
                    </a:lnTo>
                    <a:lnTo>
                      <a:pt x="236" y="80"/>
                    </a:lnTo>
                    <a:lnTo>
                      <a:pt x="236" y="69"/>
                    </a:lnTo>
                    <a:lnTo>
                      <a:pt x="229" y="69"/>
                    </a:lnTo>
                    <a:lnTo>
                      <a:pt x="236" y="72"/>
                    </a:lnTo>
                    <a:lnTo>
                      <a:pt x="240" y="62"/>
                    </a:lnTo>
                    <a:lnTo>
                      <a:pt x="243" y="47"/>
                    </a:lnTo>
                    <a:lnTo>
                      <a:pt x="236" y="43"/>
                    </a:lnTo>
                    <a:lnTo>
                      <a:pt x="240" y="47"/>
                    </a:lnTo>
                    <a:lnTo>
                      <a:pt x="247" y="40"/>
                    </a:lnTo>
                    <a:lnTo>
                      <a:pt x="251" y="40"/>
                    </a:lnTo>
                    <a:lnTo>
                      <a:pt x="251" y="40"/>
                    </a:lnTo>
                    <a:lnTo>
                      <a:pt x="254" y="33"/>
                    </a:lnTo>
                    <a:lnTo>
                      <a:pt x="247" y="29"/>
                    </a:lnTo>
                    <a:lnTo>
                      <a:pt x="251" y="33"/>
                    </a:lnTo>
                    <a:lnTo>
                      <a:pt x="254" y="29"/>
                    </a:lnTo>
                    <a:lnTo>
                      <a:pt x="251" y="25"/>
                    </a:lnTo>
                    <a:lnTo>
                      <a:pt x="254" y="33"/>
                    </a:lnTo>
                    <a:lnTo>
                      <a:pt x="261" y="29"/>
                    </a:lnTo>
                    <a:lnTo>
                      <a:pt x="261" y="29"/>
                    </a:lnTo>
                    <a:lnTo>
                      <a:pt x="261" y="25"/>
                    </a:lnTo>
                    <a:lnTo>
                      <a:pt x="265" y="22"/>
                    </a:lnTo>
                    <a:lnTo>
                      <a:pt x="261" y="18"/>
                    </a:lnTo>
                    <a:lnTo>
                      <a:pt x="265" y="25"/>
                    </a:lnTo>
                    <a:lnTo>
                      <a:pt x="272" y="22"/>
                    </a:lnTo>
                    <a:lnTo>
                      <a:pt x="280" y="18"/>
                    </a:lnTo>
                    <a:lnTo>
                      <a:pt x="287" y="14"/>
                    </a:lnTo>
                    <a:lnTo>
                      <a:pt x="283" y="7"/>
                    </a:lnTo>
                    <a:lnTo>
                      <a:pt x="283" y="14"/>
                    </a:lnTo>
                    <a:lnTo>
                      <a:pt x="290" y="14"/>
                    </a:lnTo>
                    <a:lnTo>
                      <a:pt x="294" y="14"/>
                    </a:lnTo>
                    <a:lnTo>
                      <a:pt x="294" y="14"/>
                    </a:lnTo>
                    <a:lnTo>
                      <a:pt x="301" y="11"/>
                    </a:lnTo>
                    <a:lnTo>
                      <a:pt x="298" y="4"/>
                    </a:lnTo>
                    <a:lnTo>
                      <a:pt x="298" y="11"/>
                    </a:lnTo>
                    <a:lnTo>
                      <a:pt x="305" y="11"/>
                    </a:lnTo>
                    <a:lnTo>
                      <a:pt x="316" y="11"/>
                    </a:lnTo>
                    <a:lnTo>
                      <a:pt x="323" y="11"/>
                    </a:lnTo>
                    <a:lnTo>
                      <a:pt x="334" y="11"/>
                    </a:lnTo>
                    <a:lnTo>
                      <a:pt x="345" y="11"/>
                    </a:lnTo>
                    <a:lnTo>
                      <a:pt x="352" y="11"/>
                    </a:lnTo>
                    <a:lnTo>
                      <a:pt x="352" y="4"/>
                    </a:lnTo>
                    <a:lnTo>
                      <a:pt x="352" y="11"/>
                    </a:lnTo>
                    <a:lnTo>
                      <a:pt x="363" y="14"/>
                    </a:lnTo>
                    <a:lnTo>
                      <a:pt x="370" y="18"/>
                    </a:lnTo>
                    <a:lnTo>
                      <a:pt x="378" y="22"/>
                    </a:lnTo>
                    <a:lnTo>
                      <a:pt x="385" y="25"/>
                    </a:lnTo>
                    <a:lnTo>
                      <a:pt x="385" y="18"/>
                    </a:lnTo>
                    <a:lnTo>
                      <a:pt x="381" y="22"/>
                    </a:lnTo>
                    <a:lnTo>
                      <a:pt x="385" y="25"/>
                    </a:lnTo>
                    <a:lnTo>
                      <a:pt x="388" y="29"/>
                    </a:lnTo>
                    <a:lnTo>
                      <a:pt x="396" y="36"/>
                    </a:lnTo>
                    <a:lnTo>
                      <a:pt x="399" y="40"/>
                    </a:lnTo>
                    <a:lnTo>
                      <a:pt x="403" y="43"/>
                    </a:lnTo>
                    <a:lnTo>
                      <a:pt x="407" y="40"/>
                    </a:lnTo>
                    <a:lnTo>
                      <a:pt x="403" y="43"/>
                    </a:lnTo>
                    <a:lnTo>
                      <a:pt x="407" y="58"/>
                    </a:lnTo>
                    <a:lnTo>
                      <a:pt x="410" y="69"/>
                    </a:lnTo>
                    <a:lnTo>
                      <a:pt x="414" y="65"/>
                    </a:lnTo>
                    <a:lnTo>
                      <a:pt x="410" y="65"/>
                    </a:lnTo>
                    <a:lnTo>
                      <a:pt x="410" y="80"/>
                    </a:lnTo>
                    <a:lnTo>
                      <a:pt x="410" y="91"/>
                    </a:lnTo>
                    <a:lnTo>
                      <a:pt x="410" y="105"/>
                    </a:lnTo>
                    <a:lnTo>
                      <a:pt x="414" y="105"/>
                    </a:lnTo>
                    <a:lnTo>
                      <a:pt x="410" y="105"/>
                    </a:lnTo>
                    <a:lnTo>
                      <a:pt x="407" y="116"/>
                    </a:lnTo>
                    <a:lnTo>
                      <a:pt x="403" y="127"/>
                    </a:lnTo>
                    <a:lnTo>
                      <a:pt x="396" y="138"/>
                    </a:lnTo>
                    <a:lnTo>
                      <a:pt x="392" y="145"/>
                    </a:lnTo>
                    <a:lnTo>
                      <a:pt x="396" y="145"/>
                    </a:lnTo>
                    <a:lnTo>
                      <a:pt x="392" y="141"/>
                    </a:lnTo>
                    <a:lnTo>
                      <a:pt x="385" y="149"/>
                    </a:lnTo>
                    <a:lnTo>
                      <a:pt x="378" y="156"/>
                    </a:lnTo>
                    <a:lnTo>
                      <a:pt x="378" y="159"/>
                    </a:lnTo>
                    <a:lnTo>
                      <a:pt x="378" y="159"/>
                    </a:lnTo>
                    <a:lnTo>
                      <a:pt x="374" y="167"/>
                    </a:lnTo>
                    <a:lnTo>
                      <a:pt x="378" y="167"/>
                    </a:lnTo>
                    <a:lnTo>
                      <a:pt x="374" y="163"/>
                    </a:lnTo>
                    <a:lnTo>
                      <a:pt x="367" y="170"/>
                    </a:lnTo>
                    <a:lnTo>
                      <a:pt x="367" y="174"/>
                    </a:lnTo>
                    <a:lnTo>
                      <a:pt x="367" y="174"/>
                    </a:lnTo>
                    <a:lnTo>
                      <a:pt x="363" y="181"/>
                    </a:lnTo>
                    <a:lnTo>
                      <a:pt x="359" y="189"/>
                    </a:lnTo>
                    <a:lnTo>
                      <a:pt x="359" y="189"/>
                    </a:lnTo>
                    <a:lnTo>
                      <a:pt x="359" y="189"/>
                    </a:lnTo>
                    <a:lnTo>
                      <a:pt x="359" y="199"/>
                    </a:lnTo>
                    <a:lnTo>
                      <a:pt x="363" y="199"/>
                    </a:lnTo>
                    <a:lnTo>
                      <a:pt x="359" y="199"/>
                    </a:lnTo>
                    <a:lnTo>
                      <a:pt x="356" y="210"/>
                    </a:lnTo>
                    <a:lnTo>
                      <a:pt x="356" y="210"/>
                    </a:lnTo>
                    <a:lnTo>
                      <a:pt x="356" y="210"/>
                    </a:lnTo>
                    <a:lnTo>
                      <a:pt x="356" y="221"/>
                    </a:lnTo>
                    <a:lnTo>
                      <a:pt x="356" y="225"/>
                    </a:lnTo>
                    <a:lnTo>
                      <a:pt x="356" y="225"/>
                    </a:lnTo>
                    <a:lnTo>
                      <a:pt x="359" y="232"/>
                    </a:lnTo>
                    <a:lnTo>
                      <a:pt x="363" y="243"/>
                    </a:lnTo>
                    <a:lnTo>
                      <a:pt x="367" y="250"/>
                    </a:lnTo>
                    <a:lnTo>
                      <a:pt x="374" y="261"/>
                    </a:lnTo>
                    <a:lnTo>
                      <a:pt x="381" y="272"/>
                    </a:lnTo>
                    <a:lnTo>
                      <a:pt x="381" y="272"/>
                    </a:lnTo>
                    <a:lnTo>
                      <a:pt x="385" y="276"/>
                    </a:lnTo>
                    <a:lnTo>
                      <a:pt x="396" y="283"/>
                    </a:lnTo>
                    <a:lnTo>
                      <a:pt x="407" y="290"/>
                    </a:lnTo>
                    <a:lnTo>
                      <a:pt x="403" y="286"/>
                    </a:lnTo>
                    <a:lnTo>
                      <a:pt x="407" y="290"/>
                    </a:lnTo>
                    <a:lnTo>
                      <a:pt x="421" y="294"/>
                    </a:lnTo>
                    <a:lnTo>
                      <a:pt x="421" y="286"/>
                    </a:lnTo>
                    <a:lnTo>
                      <a:pt x="417" y="290"/>
                    </a:lnTo>
                    <a:lnTo>
                      <a:pt x="421" y="294"/>
                    </a:lnTo>
                    <a:lnTo>
                      <a:pt x="421" y="294"/>
                    </a:lnTo>
                    <a:lnTo>
                      <a:pt x="425" y="297"/>
                    </a:lnTo>
                    <a:lnTo>
                      <a:pt x="443" y="301"/>
                    </a:lnTo>
                    <a:lnTo>
                      <a:pt x="465" y="305"/>
                    </a:lnTo>
                    <a:lnTo>
                      <a:pt x="497" y="308"/>
                    </a:lnTo>
                    <a:lnTo>
                      <a:pt x="512" y="308"/>
                    </a:lnTo>
                    <a:lnTo>
                      <a:pt x="530" y="312"/>
                    </a:lnTo>
                    <a:lnTo>
                      <a:pt x="548" y="312"/>
                    </a:lnTo>
                    <a:lnTo>
                      <a:pt x="566" y="312"/>
                    </a:lnTo>
                    <a:lnTo>
                      <a:pt x="584" y="312"/>
                    </a:lnTo>
                    <a:lnTo>
                      <a:pt x="602" y="308"/>
                    </a:lnTo>
                    <a:lnTo>
                      <a:pt x="620" y="308"/>
                    </a:lnTo>
                    <a:lnTo>
                      <a:pt x="639" y="305"/>
                    </a:lnTo>
                    <a:lnTo>
                      <a:pt x="639" y="297"/>
                    </a:lnTo>
                    <a:lnTo>
                      <a:pt x="635" y="301"/>
                    </a:lnTo>
                    <a:lnTo>
                      <a:pt x="642" y="323"/>
                    </a:lnTo>
                    <a:lnTo>
                      <a:pt x="649" y="352"/>
                    </a:lnTo>
                    <a:lnTo>
                      <a:pt x="657" y="381"/>
                    </a:lnTo>
                    <a:lnTo>
                      <a:pt x="664" y="413"/>
                    </a:lnTo>
                    <a:lnTo>
                      <a:pt x="668" y="410"/>
                    </a:lnTo>
                    <a:lnTo>
                      <a:pt x="664" y="410"/>
                    </a:lnTo>
                    <a:lnTo>
                      <a:pt x="668" y="428"/>
                    </a:lnTo>
                    <a:lnTo>
                      <a:pt x="668" y="442"/>
                    </a:lnTo>
                    <a:lnTo>
                      <a:pt x="668" y="457"/>
                    </a:lnTo>
                    <a:lnTo>
                      <a:pt x="668" y="471"/>
                    </a:lnTo>
                    <a:lnTo>
                      <a:pt x="668" y="486"/>
                    </a:lnTo>
                    <a:lnTo>
                      <a:pt x="671" y="486"/>
                    </a:lnTo>
                    <a:lnTo>
                      <a:pt x="668" y="486"/>
                    </a:lnTo>
                    <a:lnTo>
                      <a:pt x="664" y="497"/>
                    </a:lnTo>
                    <a:lnTo>
                      <a:pt x="664" y="497"/>
                    </a:lnTo>
                    <a:lnTo>
                      <a:pt x="664" y="497"/>
                    </a:lnTo>
                    <a:lnTo>
                      <a:pt x="664" y="500"/>
                    </a:lnTo>
                    <a:lnTo>
                      <a:pt x="668" y="500"/>
                    </a:lnTo>
                    <a:lnTo>
                      <a:pt x="664" y="500"/>
                    </a:lnTo>
                    <a:lnTo>
                      <a:pt x="660" y="508"/>
                    </a:lnTo>
                    <a:lnTo>
                      <a:pt x="664" y="508"/>
                    </a:lnTo>
                    <a:lnTo>
                      <a:pt x="664" y="504"/>
                    </a:lnTo>
                    <a:lnTo>
                      <a:pt x="660" y="504"/>
                    </a:lnTo>
                    <a:lnTo>
                      <a:pt x="657" y="504"/>
                    </a:lnTo>
                    <a:lnTo>
                      <a:pt x="657" y="508"/>
                    </a:lnTo>
                    <a:lnTo>
                      <a:pt x="657" y="511"/>
                    </a:lnTo>
                    <a:lnTo>
                      <a:pt x="660" y="511"/>
                    </a:lnTo>
                    <a:lnTo>
                      <a:pt x="657" y="508"/>
                    </a:lnTo>
                    <a:lnTo>
                      <a:pt x="649" y="515"/>
                    </a:lnTo>
                    <a:lnTo>
                      <a:pt x="653" y="519"/>
                    </a:lnTo>
                    <a:lnTo>
                      <a:pt x="653" y="515"/>
                    </a:lnTo>
                    <a:lnTo>
                      <a:pt x="646" y="519"/>
                    </a:lnTo>
                    <a:lnTo>
                      <a:pt x="639" y="522"/>
                    </a:lnTo>
                    <a:lnTo>
                      <a:pt x="631" y="526"/>
                    </a:lnTo>
                    <a:lnTo>
                      <a:pt x="631" y="529"/>
                    </a:lnTo>
                    <a:lnTo>
                      <a:pt x="631" y="526"/>
                    </a:lnTo>
                    <a:lnTo>
                      <a:pt x="624" y="526"/>
                    </a:lnTo>
                    <a:lnTo>
                      <a:pt x="624" y="526"/>
                    </a:lnTo>
                    <a:lnTo>
                      <a:pt x="624" y="526"/>
                    </a:lnTo>
                    <a:lnTo>
                      <a:pt x="617" y="529"/>
                    </a:lnTo>
                    <a:lnTo>
                      <a:pt x="617" y="533"/>
                    </a:lnTo>
                    <a:lnTo>
                      <a:pt x="617" y="529"/>
                    </a:lnTo>
                    <a:lnTo>
                      <a:pt x="610" y="529"/>
                    </a:lnTo>
                    <a:lnTo>
                      <a:pt x="602" y="529"/>
                    </a:lnTo>
                    <a:lnTo>
                      <a:pt x="595" y="529"/>
                    </a:lnTo>
                    <a:lnTo>
                      <a:pt x="588" y="529"/>
                    </a:lnTo>
                    <a:lnTo>
                      <a:pt x="588" y="533"/>
                    </a:lnTo>
                    <a:lnTo>
                      <a:pt x="591" y="529"/>
                    </a:lnTo>
                    <a:lnTo>
                      <a:pt x="584" y="526"/>
                    </a:lnTo>
                    <a:lnTo>
                      <a:pt x="577" y="522"/>
                    </a:lnTo>
                    <a:lnTo>
                      <a:pt x="577" y="522"/>
                    </a:lnTo>
                    <a:lnTo>
                      <a:pt x="573" y="522"/>
                    </a:lnTo>
                    <a:lnTo>
                      <a:pt x="566" y="522"/>
                    </a:lnTo>
                    <a:lnTo>
                      <a:pt x="566" y="526"/>
                    </a:lnTo>
                    <a:lnTo>
                      <a:pt x="570" y="522"/>
                    </a:lnTo>
                    <a:lnTo>
                      <a:pt x="566" y="519"/>
                    </a:lnTo>
                    <a:lnTo>
                      <a:pt x="566" y="519"/>
                    </a:lnTo>
                    <a:lnTo>
                      <a:pt x="566" y="519"/>
                    </a:lnTo>
                    <a:lnTo>
                      <a:pt x="559" y="515"/>
                    </a:lnTo>
                    <a:lnTo>
                      <a:pt x="555" y="519"/>
                    </a:lnTo>
                    <a:lnTo>
                      <a:pt x="562" y="519"/>
                    </a:lnTo>
                    <a:lnTo>
                      <a:pt x="559" y="511"/>
                    </a:lnTo>
                    <a:lnTo>
                      <a:pt x="555" y="508"/>
                    </a:lnTo>
                    <a:lnTo>
                      <a:pt x="555" y="508"/>
                    </a:lnTo>
                    <a:lnTo>
                      <a:pt x="548" y="504"/>
                    </a:lnTo>
                    <a:lnTo>
                      <a:pt x="544" y="508"/>
                    </a:lnTo>
                    <a:lnTo>
                      <a:pt x="548" y="504"/>
                    </a:lnTo>
                    <a:lnTo>
                      <a:pt x="541" y="497"/>
                    </a:lnTo>
                    <a:lnTo>
                      <a:pt x="541" y="497"/>
                    </a:lnTo>
                    <a:lnTo>
                      <a:pt x="541" y="497"/>
                    </a:lnTo>
                    <a:lnTo>
                      <a:pt x="530" y="493"/>
                    </a:lnTo>
                    <a:lnTo>
                      <a:pt x="519" y="490"/>
                    </a:lnTo>
                    <a:lnTo>
                      <a:pt x="519" y="490"/>
                    </a:lnTo>
                    <a:lnTo>
                      <a:pt x="515" y="490"/>
                    </a:lnTo>
                    <a:lnTo>
                      <a:pt x="504" y="490"/>
                    </a:lnTo>
                    <a:lnTo>
                      <a:pt x="490" y="490"/>
                    </a:lnTo>
                    <a:lnTo>
                      <a:pt x="479" y="490"/>
                    </a:lnTo>
                    <a:lnTo>
                      <a:pt x="479" y="490"/>
                    </a:lnTo>
                    <a:lnTo>
                      <a:pt x="479" y="490"/>
                    </a:lnTo>
                    <a:lnTo>
                      <a:pt x="468" y="493"/>
                    </a:lnTo>
                    <a:lnTo>
                      <a:pt x="457" y="497"/>
                    </a:lnTo>
                    <a:lnTo>
                      <a:pt x="446" y="504"/>
                    </a:lnTo>
                    <a:lnTo>
                      <a:pt x="446" y="504"/>
                    </a:lnTo>
                    <a:lnTo>
                      <a:pt x="443" y="504"/>
                    </a:lnTo>
                    <a:lnTo>
                      <a:pt x="432" y="515"/>
                    </a:lnTo>
                    <a:lnTo>
                      <a:pt x="425" y="522"/>
                    </a:lnTo>
                    <a:lnTo>
                      <a:pt x="417" y="529"/>
                    </a:lnTo>
                    <a:lnTo>
                      <a:pt x="414" y="533"/>
                    </a:lnTo>
                    <a:lnTo>
                      <a:pt x="414" y="537"/>
                    </a:lnTo>
                    <a:lnTo>
                      <a:pt x="414" y="537"/>
                    </a:lnTo>
                    <a:lnTo>
                      <a:pt x="414" y="544"/>
                    </a:lnTo>
                    <a:lnTo>
                      <a:pt x="417" y="544"/>
                    </a:lnTo>
                    <a:lnTo>
                      <a:pt x="414" y="544"/>
                    </a:lnTo>
                    <a:lnTo>
                      <a:pt x="410" y="551"/>
                    </a:lnTo>
                    <a:lnTo>
                      <a:pt x="407" y="558"/>
                    </a:lnTo>
                    <a:lnTo>
                      <a:pt x="407" y="558"/>
                    </a:lnTo>
                    <a:lnTo>
                      <a:pt x="407" y="558"/>
                    </a:lnTo>
                    <a:lnTo>
                      <a:pt x="407" y="566"/>
                    </a:lnTo>
                    <a:lnTo>
                      <a:pt x="407" y="577"/>
                    </a:lnTo>
                    <a:lnTo>
                      <a:pt x="407" y="584"/>
                    </a:lnTo>
                    <a:lnTo>
                      <a:pt x="407" y="591"/>
                    </a:lnTo>
                    <a:lnTo>
                      <a:pt x="407" y="598"/>
                    </a:lnTo>
                    <a:lnTo>
                      <a:pt x="407" y="606"/>
                    </a:lnTo>
                    <a:lnTo>
                      <a:pt x="407" y="609"/>
                    </a:lnTo>
                    <a:lnTo>
                      <a:pt x="407" y="609"/>
                    </a:lnTo>
                    <a:lnTo>
                      <a:pt x="410" y="617"/>
                    </a:lnTo>
                    <a:lnTo>
                      <a:pt x="410" y="617"/>
                    </a:lnTo>
                    <a:lnTo>
                      <a:pt x="410" y="617"/>
                    </a:lnTo>
                    <a:lnTo>
                      <a:pt x="414" y="620"/>
                    </a:lnTo>
                    <a:lnTo>
                      <a:pt x="417" y="617"/>
                    </a:lnTo>
                    <a:lnTo>
                      <a:pt x="414" y="617"/>
                    </a:lnTo>
                    <a:lnTo>
                      <a:pt x="414" y="624"/>
                    </a:lnTo>
                    <a:lnTo>
                      <a:pt x="414" y="627"/>
                    </a:lnTo>
                    <a:lnTo>
                      <a:pt x="414" y="627"/>
                    </a:lnTo>
                    <a:lnTo>
                      <a:pt x="417" y="631"/>
                    </a:lnTo>
                    <a:lnTo>
                      <a:pt x="421" y="627"/>
                    </a:lnTo>
                    <a:lnTo>
                      <a:pt x="417" y="631"/>
                    </a:lnTo>
                    <a:lnTo>
                      <a:pt x="421" y="638"/>
                    </a:lnTo>
                    <a:lnTo>
                      <a:pt x="421" y="638"/>
                    </a:lnTo>
                    <a:lnTo>
                      <a:pt x="425" y="642"/>
                    </a:lnTo>
                    <a:lnTo>
                      <a:pt x="436" y="649"/>
                    </a:lnTo>
                    <a:lnTo>
                      <a:pt x="436" y="642"/>
                    </a:lnTo>
                    <a:lnTo>
                      <a:pt x="432" y="646"/>
                    </a:lnTo>
                    <a:lnTo>
                      <a:pt x="439" y="653"/>
                    </a:lnTo>
                    <a:lnTo>
                      <a:pt x="443" y="656"/>
                    </a:lnTo>
                    <a:lnTo>
                      <a:pt x="443" y="656"/>
                    </a:lnTo>
                    <a:lnTo>
                      <a:pt x="454" y="664"/>
                    </a:lnTo>
                    <a:lnTo>
                      <a:pt x="465" y="667"/>
                    </a:lnTo>
                    <a:lnTo>
                      <a:pt x="475" y="671"/>
                    </a:lnTo>
                    <a:lnTo>
                      <a:pt x="475" y="671"/>
                    </a:lnTo>
                    <a:lnTo>
                      <a:pt x="475" y="671"/>
                    </a:lnTo>
                    <a:lnTo>
                      <a:pt x="486" y="671"/>
                    </a:lnTo>
                    <a:lnTo>
                      <a:pt x="497" y="671"/>
                    </a:lnTo>
                    <a:lnTo>
                      <a:pt x="508" y="671"/>
                    </a:lnTo>
                    <a:lnTo>
                      <a:pt x="512" y="671"/>
                    </a:lnTo>
                    <a:lnTo>
                      <a:pt x="512" y="671"/>
                    </a:lnTo>
                    <a:lnTo>
                      <a:pt x="523" y="667"/>
                    </a:lnTo>
                    <a:lnTo>
                      <a:pt x="530" y="664"/>
                    </a:lnTo>
                    <a:lnTo>
                      <a:pt x="537" y="660"/>
                    </a:lnTo>
                    <a:lnTo>
                      <a:pt x="544" y="656"/>
                    </a:lnTo>
                    <a:lnTo>
                      <a:pt x="544" y="653"/>
                    </a:lnTo>
                    <a:lnTo>
                      <a:pt x="548" y="653"/>
                    </a:lnTo>
                    <a:lnTo>
                      <a:pt x="552" y="646"/>
                    </a:lnTo>
                    <a:lnTo>
                      <a:pt x="544" y="642"/>
                    </a:lnTo>
                    <a:lnTo>
                      <a:pt x="548" y="649"/>
                    </a:lnTo>
                    <a:lnTo>
                      <a:pt x="555" y="646"/>
                    </a:lnTo>
                    <a:lnTo>
                      <a:pt x="562" y="642"/>
                    </a:lnTo>
                    <a:lnTo>
                      <a:pt x="570" y="638"/>
                    </a:lnTo>
                    <a:lnTo>
                      <a:pt x="566" y="631"/>
                    </a:lnTo>
                    <a:lnTo>
                      <a:pt x="566" y="638"/>
                    </a:lnTo>
                    <a:lnTo>
                      <a:pt x="577" y="638"/>
                    </a:lnTo>
                    <a:lnTo>
                      <a:pt x="584" y="638"/>
                    </a:lnTo>
                    <a:lnTo>
                      <a:pt x="584" y="631"/>
                    </a:lnTo>
                    <a:lnTo>
                      <a:pt x="584" y="638"/>
                    </a:lnTo>
                    <a:lnTo>
                      <a:pt x="591" y="642"/>
                    </a:lnTo>
                    <a:lnTo>
                      <a:pt x="599" y="646"/>
                    </a:lnTo>
                    <a:lnTo>
                      <a:pt x="599" y="646"/>
                    </a:lnTo>
                    <a:lnTo>
                      <a:pt x="599" y="646"/>
                    </a:lnTo>
                    <a:lnTo>
                      <a:pt x="606" y="646"/>
                    </a:lnTo>
                    <a:lnTo>
                      <a:pt x="606" y="638"/>
                    </a:lnTo>
                    <a:lnTo>
                      <a:pt x="602" y="642"/>
                    </a:lnTo>
                    <a:lnTo>
                      <a:pt x="610" y="649"/>
                    </a:lnTo>
                    <a:lnTo>
                      <a:pt x="613" y="653"/>
                    </a:lnTo>
                    <a:lnTo>
                      <a:pt x="613" y="653"/>
                    </a:lnTo>
                    <a:lnTo>
                      <a:pt x="620" y="656"/>
                    </a:lnTo>
                    <a:lnTo>
                      <a:pt x="628" y="660"/>
                    </a:lnTo>
                    <a:lnTo>
                      <a:pt x="628" y="653"/>
                    </a:lnTo>
                    <a:lnTo>
                      <a:pt x="624" y="656"/>
                    </a:lnTo>
                    <a:lnTo>
                      <a:pt x="628" y="664"/>
                    </a:lnTo>
                    <a:lnTo>
                      <a:pt x="631" y="671"/>
                    </a:lnTo>
                    <a:lnTo>
                      <a:pt x="635" y="678"/>
                    </a:lnTo>
                    <a:lnTo>
                      <a:pt x="639" y="675"/>
                    </a:lnTo>
                    <a:lnTo>
                      <a:pt x="635" y="675"/>
                    </a:lnTo>
                    <a:lnTo>
                      <a:pt x="635" y="678"/>
                    </a:lnTo>
                    <a:lnTo>
                      <a:pt x="635" y="696"/>
                    </a:lnTo>
                    <a:lnTo>
                      <a:pt x="631" y="718"/>
                    </a:lnTo>
                    <a:lnTo>
                      <a:pt x="631" y="747"/>
                    </a:lnTo>
                    <a:lnTo>
                      <a:pt x="628" y="776"/>
                    </a:lnTo>
                    <a:lnTo>
                      <a:pt x="628" y="809"/>
                    </a:lnTo>
                    <a:lnTo>
                      <a:pt x="628" y="838"/>
                    </a:lnTo>
                    <a:lnTo>
                      <a:pt x="628" y="852"/>
                    </a:lnTo>
                    <a:lnTo>
                      <a:pt x="628" y="856"/>
                    </a:lnTo>
                    <a:lnTo>
                      <a:pt x="628" y="856"/>
                    </a:lnTo>
                    <a:lnTo>
                      <a:pt x="631" y="870"/>
                    </a:lnTo>
                    <a:lnTo>
                      <a:pt x="635" y="867"/>
                    </a:lnTo>
                    <a:lnTo>
                      <a:pt x="631" y="867"/>
                    </a:lnTo>
                    <a:lnTo>
                      <a:pt x="631" y="881"/>
                    </a:lnTo>
                    <a:lnTo>
                      <a:pt x="631" y="885"/>
                    </a:lnTo>
                    <a:lnTo>
                      <a:pt x="631" y="885"/>
                    </a:lnTo>
                    <a:lnTo>
                      <a:pt x="635" y="896"/>
                    </a:lnTo>
                    <a:lnTo>
                      <a:pt x="639" y="892"/>
                    </a:lnTo>
                    <a:lnTo>
                      <a:pt x="639" y="889"/>
                    </a:lnTo>
                    <a:lnTo>
                      <a:pt x="628" y="896"/>
                    </a:lnTo>
                    <a:lnTo>
                      <a:pt x="617" y="903"/>
                    </a:lnTo>
                    <a:lnTo>
                      <a:pt x="617" y="907"/>
                    </a:lnTo>
                    <a:lnTo>
                      <a:pt x="617" y="903"/>
                    </a:lnTo>
                    <a:lnTo>
                      <a:pt x="602" y="907"/>
                    </a:lnTo>
                    <a:lnTo>
                      <a:pt x="588" y="910"/>
                    </a:lnTo>
                    <a:lnTo>
                      <a:pt x="573" y="914"/>
                    </a:lnTo>
                    <a:lnTo>
                      <a:pt x="559" y="914"/>
                    </a:lnTo>
                    <a:lnTo>
                      <a:pt x="541" y="914"/>
                    </a:lnTo>
                    <a:lnTo>
                      <a:pt x="526" y="914"/>
                    </a:lnTo>
                    <a:lnTo>
                      <a:pt x="508" y="914"/>
                    </a:lnTo>
                    <a:lnTo>
                      <a:pt x="490" y="910"/>
                    </a:lnTo>
                    <a:lnTo>
                      <a:pt x="475" y="907"/>
                    </a:lnTo>
                    <a:lnTo>
                      <a:pt x="461" y="903"/>
                    </a:lnTo>
                    <a:lnTo>
                      <a:pt x="446" y="903"/>
                    </a:lnTo>
                    <a:lnTo>
                      <a:pt x="446" y="907"/>
                    </a:lnTo>
                    <a:lnTo>
                      <a:pt x="450" y="903"/>
                    </a:lnTo>
                    <a:lnTo>
                      <a:pt x="436" y="896"/>
                    </a:lnTo>
                    <a:lnTo>
                      <a:pt x="436" y="896"/>
                    </a:lnTo>
                    <a:lnTo>
                      <a:pt x="432" y="896"/>
                    </a:lnTo>
                    <a:lnTo>
                      <a:pt x="417" y="892"/>
                    </a:lnTo>
                    <a:lnTo>
                      <a:pt x="417" y="896"/>
                    </a:lnTo>
                    <a:lnTo>
                      <a:pt x="421" y="892"/>
                    </a:lnTo>
                    <a:lnTo>
                      <a:pt x="410" y="889"/>
                    </a:lnTo>
                    <a:lnTo>
                      <a:pt x="399" y="885"/>
                    </a:lnTo>
                    <a:lnTo>
                      <a:pt x="392" y="881"/>
                    </a:lnTo>
                    <a:lnTo>
                      <a:pt x="388" y="885"/>
                    </a:lnTo>
                    <a:lnTo>
                      <a:pt x="392" y="881"/>
                    </a:lnTo>
                    <a:lnTo>
                      <a:pt x="388" y="878"/>
                    </a:lnTo>
                    <a:lnTo>
                      <a:pt x="381" y="870"/>
                    </a:lnTo>
                    <a:lnTo>
                      <a:pt x="378" y="867"/>
                    </a:lnTo>
                    <a:lnTo>
                      <a:pt x="374" y="863"/>
                    </a:lnTo>
                    <a:lnTo>
                      <a:pt x="370" y="867"/>
                    </a:lnTo>
                    <a:lnTo>
                      <a:pt x="378" y="867"/>
                    </a:lnTo>
                    <a:lnTo>
                      <a:pt x="378" y="863"/>
                    </a:lnTo>
                    <a:lnTo>
                      <a:pt x="378" y="856"/>
                    </a:lnTo>
                    <a:lnTo>
                      <a:pt x="378" y="852"/>
                    </a:lnTo>
                    <a:lnTo>
                      <a:pt x="378" y="845"/>
                    </a:lnTo>
                    <a:lnTo>
                      <a:pt x="370" y="845"/>
                    </a:lnTo>
                    <a:lnTo>
                      <a:pt x="374" y="849"/>
                    </a:lnTo>
                    <a:lnTo>
                      <a:pt x="378" y="845"/>
                    </a:lnTo>
                    <a:lnTo>
                      <a:pt x="381" y="845"/>
                    </a:lnTo>
                    <a:lnTo>
                      <a:pt x="381" y="845"/>
                    </a:lnTo>
                    <a:lnTo>
                      <a:pt x="385" y="838"/>
                    </a:lnTo>
                    <a:lnTo>
                      <a:pt x="392" y="823"/>
                    </a:lnTo>
                    <a:lnTo>
                      <a:pt x="385" y="820"/>
                    </a:lnTo>
                    <a:lnTo>
                      <a:pt x="388" y="823"/>
                    </a:lnTo>
                    <a:lnTo>
                      <a:pt x="403" y="809"/>
                    </a:lnTo>
                    <a:lnTo>
                      <a:pt x="407" y="809"/>
                    </a:lnTo>
                    <a:lnTo>
                      <a:pt x="407" y="809"/>
                    </a:lnTo>
                    <a:lnTo>
                      <a:pt x="414" y="798"/>
                    </a:lnTo>
                    <a:lnTo>
                      <a:pt x="407" y="794"/>
                    </a:lnTo>
                    <a:lnTo>
                      <a:pt x="410" y="798"/>
                    </a:lnTo>
                    <a:lnTo>
                      <a:pt x="417" y="791"/>
                    </a:lnTo>
                    <a:lnTo>
                      <a:pt x="421" y="791"/>
                    </a:lnTo>
                    <a:lnTo>
                      <a:pt x="421" y="791"/>
                    </a:lnTo>
                    <a:lnTo>
                      <a:pt x="425" y="780"/>
                    </a:lnTo>
                    <a:lnTo>
                      <a:pt x="428" y="769"/>
                    </a:lnTo>
                    <a:lnTo>
                      <a:pt x="428" y="769"/>
                    </a:lnTo>
                    <a:lnTo>
                      <a:pt x="428" y="765"/>
                    </a:lnTo>
                    <a:lnTo>
                      <a:pt x="428" y="754"/>
                    </a:lnTo>
                    <a:lnTo>
                      <a:pt x="428" y="740"/>
                    </a:lnTo>
                    <a:lnTo>
                      <a:pt x="428" y="729"/>
                    </a:lnTo>
                    <a:lnTo>
                      <a:pt x="428" y="729"/>
                    </a:lnTo>
                    <a:lnTo>
                      <a:pt x="428" y="729"/>
                    </a:lnTo>
                    <a:lnTo>
                      <a:pt x="425" y="718"/>
                    </a:lnTo>
                    <a:lnTo>
                      <a:pt x="417" y="707"/>
                    </a:lnTo>
                    <a:lnTo>
                      <a:pt x="414" y="700"/>
                    </a:lnTo>
                    <a:lnTo>
                      <a:pt x="410" y="693"/>
                    </a:lnTo>
                    <a:lnTo>
                      <a:pt x="407" y="689"/>
                    </a:lnTo>
                    <a:lnTo>
                      <a:pt x="407" y="689"/>
                    </a:lnTo>
                    <a:lnTo>
                      <a:pt x="399" y="685"/>
                    </a:lnTo>
                    <a:lnTo>
                      <a:pt x="396" y="689"/>
                    </a:lnTo>
                    <a:lnTo>
                      <a:pt x="399" y="685"/>
                    </a:lnTo>
                    <a:lnTo>
                      <a:pt x="396" y="682"/>
                    </a:lnTo>
                    <a:lnTo>
                      <a:pt x="396" y="682"/>
                    </a:lnTo>
                    <a:lnTo>
                      <a:pt x="396" y="682"/>
                    </a:lnTo>
                    <a:lnTo>
                      <a:pt x="388" y="678"/>
                    </a:lnTo>
                    <a:lnTo>
                      <a:pt x="385" y="682"/>
                    </a:lnTo>
                    <a:lnTo>
                      <a:pt x="388" y="678"/>
                    </a:lnTo>
                    <a:lnTo>
                      <a:pt x="385" y="675"/>
                    </a:lnTo>
                    <a:lnTo>
                      <a:pt x="385" y="675"/>
                    </a:lnTo>
                    <a:lnTo>
                      <a:pt x="381" y="675"/>
                    </a:lnTo>
                    <a:lnTo>
                      <a:pt x="374" y="675"/>
                    </a:lnTo>
                    <a:lnTo>
                      <a:pt x="374" y="678"/>
                    </a:lnTo>
                    <a:lnTo>
                      <a:pt x="378" y="675"/>
                    </a:lnTo>
                    <a:lnTo>
                      <a:pt x="370" y="671"/>
                    </a:lnTo>
                    <a:lnTo>
                      <a:pt x="363" y="667"/>
                    </a:lnTo>
                    <a:lnTo>
                      <a:pt x="363" y="667"/>
                    </a:lnTo>
                    <a:lnTo>
                      <a:pt x="359" y="667"/>
                    </a:lnTo>
                    <a:lnTo>
                      <a:pt x="352" y="667"/>
                    </a:lnTo>
                    <a:lnTo>
                      <a:pt x="352" y="671"/>
                    </a:lnTo>
                    <a:lnTo>
                      <a:pt x="356" y="667"/>
                    </a:lnTo>
                    <a:lnTo>
                      <a:pt x="345" y="664"/>
                    </a:lnTo>
                    <a:lnTo>
                      <a:pt x="345" y="664"/>
                    </a:lnTo>
                    <a:lnTo>
                      <a:pt x="341" y="664"/>
                    </a:lnTo>
                    <a:lnTo>
                      <a:pt x="334" y="664"/>
                    </a:lnTo>
                    <a:lnTo>
                      <a:pt x="323" y="664"/>
                    </a:lnTo>
                    <a:lnTo>
                      <a:pt x="316" y="664"/>
                    </a:lnTo>
                    <a:lnTo>
                      <a:pt x="316" y="664"/>
                    </a:lnTo>
                    <a:lnTo>
                      <a:pt x="316" y="664"/>
                    </a:lnTo>
                    <a:lnTo>
                      <a:pt x="309" y="667"/>
                    </a:lnTo>
                    <a:lnTo>
                      <a:pt x="309" y="671"/>
                    </a:lnTo>
                    <a:lnTo>
                      <a:pt x="309" y="667"/>
                    </a:lnTo>
                    <a:lnTo>
                      <a:pt x="301" y="667"/>
                    </a:lnTo>
                    <a:lnTo>
                      <a:pt x="301" y="667"/>
                    </a:lnTo>
                    <a:lnTo>
                      <a:pt x="301" y="667"/>
                    </a:lnTo>
                    <a:lnTo>
                      <a:pt x="294" y="671"/>
                    </a:lnTo>
                    <a:lnTo>
                      <a:pt x="287" y="675"/>
                    </a:lnTo>
                    <a:lnTo>
                      <a:pt x="287" y="678"/>
                    </a:lnTo>
                    <a:lnTo>
                      <a:pt x="287" y="675"/>
                    </a:lnTo>
                    <a:lnTo>
                      <a:pt x="283" y="675"/>
                    </a:lnTo>
                    <a:lnTo>
                      <a:pt x="283" y="675"/>
                    </a:lnTo>
                    <a:lnTo>
                      <a:pt x="283" y="675"/>
                    </a:lnTo>
                    <a:lnTo>
                      <a:pt x="276" y="678"/>
                    </a:lnTo>
                    <a:lnTo>
                      <a:pt x="276" y="678"/>
                    </a:lnTo>
                    <a:lnTo>
                      <a:pt x="272" y="678"/>
                    </a:lnTo>
                    <a:lnTo>
                      <a:pt x="269" y="682"/>
                    </a:lnTo>
                    <a:lnTo>
                      <a:pt x="265" y="685"/>
                    </a:lnTo>
                    <a:lnTo>
                      <a:pt x="261" y="689"/>
                    </a:lnTo>
                    <a:lnTo>
                      <a:pt x="261" y="693"/>
                    </a:lnTo>
                    <a:lnTo>
                      <a:pt x="261" y="693"/>
                    </a:lnTo>
                    <a:lnTo>
                      <a:pt x="258" y="700"/>
                    </a:lnTo>
                    <a:lnTo>
                      <a:pt x="261" y="700"/>
                    </a:lnTo>
                    <a:lnTo>
                      <a:pt x="258" y="696"/>
                    </a:lnTo>
                    <a:lnTo>
                      <a:pt x="254" y="700"/>
                    </a:lnTo>
                    <a:lnTo>
                      <a:pt x="254" y="704"/>
                    </a:lnTo>
                    <a:lnTo>
                      <a:pt x="254" y="704"/>
                    </a:lnTo>
                    <a:lnTo>
                      <a:pt x="251" y="714"/>
                    </a:lnTo>
                    <a:lnTo>
                      <a:pt x="247" y="725"/>
                    </a:lnTo>
                    <a:lnTo>
                      <a:pt x="243" y="740"/>
                    </a:lnTo>
                    <a:lnTo>
                      <a:pt x="243" y="740"/>
                    </a:lnTo>
                    <a:lnTo>
                      <a:pt x="243" y="740"/>
                    </a:lnTo>
                    <a:lnTo>
                      <a:pt x="243" y="751"/>
                    </a:lnTo>
                    <a:lnTo>
                      <a:pt x="243" y="754"/>
                    </a:lnTo>
                    <a:lnTo>
                      <a:pt x="243" y="754"/>
                    </a:lnTo>
                    <a:lnTo>
                      <a:pt x="247" y="769"/>
                    </a:lnTo>
                    <a:lnTo>
                      <a:pt x="251" y="780"/>
                    </a:lnTo>
                    <a:lnTo>
                      <a:pt x="254" y="791"/>
                    </a:lnTo>
                    <a:lnTo>
                      <a:pt x="258" y="802"/>
                    </a:lnTo>
                    <a:lnTo>
                      <a:pt x="265" y="816"/>
                    </a:lnTo>
                    <a:lnTo>
                      <a:pt x="265" y="816"/>
                    </a:lnTo>
                    <a:lnTo>
                      <a:pt x="265" y="816"/>
                    </a:lnTo>
                    <a:lnTo>
                      <a:pt x="272" y="823"/>
                    </a:lnTo>
                    <a:lnTo>
                      <a:pt x="280" y="831"/>
                    </a:lnTo>
                    <a:lnTo>
                      <a:pt x="283" y="827"/>
                    </a:lnTo>
                    <a:lnTo>
                      <a:pt x="280" y="831"/>
                    </a:lnTo>
                    <a:lnTo>
                      <a:pt x="283" y="838"/>
                    </a:lnTo>
                    <a:lnTo>
                      <a:pt x="287" y="845"/>
                    </a:lnTo>
                    <a:lnTo>
                      <a:pt x="290" y="841"/>
                    </a:lnTo>
                    <a:lnTo>
                      <a:pt x="287" y="841"/>
                    </a:lnTo>
                    <a:lnTo>
                      <a:pt x="287" y="849"/>
                    </a:lnTo>
                    <a:lnTo>
                      <a:pt x="287" y="860"/>
                    </a:lnTo>
                    <a:lnTo>
                      <a:pt x="287" y="867"/>
                    </a:lnTo>
                    <a:lnTo>
                      <a:pt x="287" y="874"/>
                    </a:lnTo>
                    <a:lnTo>
                      <a:pt x="290" y="874"/>
                    </a:lnTo>
                    <a:lnTo>
                      <a:pt x="290" y="870"/>
                    </a:lnTo>
                    <a:lnTo>
                      <a:pt x="283" y="874"/>
                    </a:lnTo>
                    <a:lnTo>
                      <a:pt x="280" y="874"/>
                    </a:lnTo>
                    <a:lnTo>
                      <a:pt x="280" y="878"/>
                    </a:lnTo>
                    <a:lnTo>
                      <a:pt x="276" y="885"/>
                    </a:lnTo>
                    <a:lnTo>
                      <a:pt x="280" y="885"/>
                    </a:lnTo>
                    <a:lnTo>
                      <a:pt x="280" y="881"/>
                    </a:lnTo>
                    <a:lnTo>
                      <a:pt x="272" y="885"/>
                    </a:lnTo>
                    <a:lnTo>
                      <a:pt x="265" y="889"/>
                    </a:lnTo>
                    <a:lnTo>
                      <a:pt x="265" y="892"/>
                    </a:lnTo>
                    <a:lnTo>
                      <a:pt x="265" y="889"/>
                    </a:lnTo>
                    <a:lnTo>
                      <a:pt x="258" y="889"/>
                    </a:lnTo>
                    <a:lnTo>
                      <a:pt x="247" y="889"/>
                    </a:lnTo>
                    <a:lnTo>
                      <a:pt x="232" y="889"/>
                    </a:lnTo>
                    <a:lnTo>
                      <a:pt x="232" y="892"/>
                    </a:lnTo>
                    <a:lnTo>
                      <a:pt x="236" y="889"/>
                    </a:lnTo>
                    <a:lnTo>
                      <a:pt x="225" y="885"/>
                    </a:lnTo>
                    <a:lnTo>
                      <a:pt x="229" y="885"/>
                    </a:lnTo>
                    <a:lnTo>
                      <a:pt x="222" y="885"/>
                    </a:lnTo>
                    <a:lnTo>
                      <a:pt x="207" y="881"/>
                    </a:lnTo>
                    <a:close/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3851280" y="1287360"/>
              <a:ext cx="108108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49440"/>
                  <a:tab algn="l" pos="1298520"/>
                  <a:tab algn="l" pos="1947960"/>
                  <a:tab algn="l" pos="2597040"/>
                  <a:tab algn="l" pos="3246480"/>
                  <a:tab algn="l" pos="3895560"/>
                  <a:tab algn="l" pos="4545000"/>
                  <a:tab algn="l" pos="5194440"/>
                  <a:tab algn="l" pos="5843520"/>
                  <a:tab algn="l" pos="6492960"/>
                  <a:tab algn="l" pos="7142040"/>
                  <a:tab algn="l" pos="7791480"/>
                  <a:tab algn="l" pos="8440560"/>
                  <a:tab algn="l" pos="9090000"/>
                  <a:tab algn="l" pos="9739440"/>
                  <a:tab algn="l" pos="10388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roduction to Equity Derivativ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5854680" cy="36752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ed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peculat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rbitra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Uses of Derivati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Two Types of Derviative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5854680" cy="36752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438120" indent="-438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AutoNum type="arabicParenR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inear (Delta 1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) Futures &amp; forward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) Equity swap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438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AutoNum type="arabicParenR" startAt="2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on linear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) Opti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ition: Futures &amp; Forward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5854680" cy="367488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1904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GB" sz="1700" spc="-1" strike="noStrike" u="sng">
                <a:solidFill>
                  <a:srgbClr val="000000"/>
                </a:solidFill>
                <a:uFillTx/>
                <a:latin typeface="Arial"/>
              </a:rPr>
              <a:t>What is it?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312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 agreement between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two partie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o buy or sell an asset at a certain time in the future for a certain 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6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TURES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GB" sz="1400" spc="-1" strike="noStrike">
                <a:solidFill>
                  <a:srgbClr val="ff0000"/>
                </a:solidFill>
                <a:latin typeface="Arial"/>
              </a:rPr>
              <a:t>exchange-trade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greement to buy or sell an asset at a certain time in the future for a certain p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0">
              <a:lnSpc>
                <a:spcPct val="100000"/>
              </a:lnSpc>
              <a:spcBef>
                <a:spcPts val="264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Forward and Futures - Pricing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10680" y="660240"/>
            <a:ext cx="5854680" cy="299736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438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ce= S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= £69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1"/>
              </a:rPr>
              <a:t>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mple annual interest rate = r = 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vidend rate = q = 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 order to avoid arbitrage, the two must be equ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4381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y a forward contract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4381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arenR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y now and keep stock for 3mths (Cash &amp; Car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97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3962520"/>
            <a:ext cx="221004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F = S</a:t>
            </a:r>
            <a:r>
              <a:rPr b="1" lang="en-GB" sz="1800" spc="-1" strike="noStrike" baseline="-25000">
                <a:solidFill>
                  <a:srgbClr val="ff0000"/>
                </a:solidFill>
                <a:latin typeface="Arial"/>
              </a:rPr>
              <a:t>0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GB" sz="1800" spc="-1" strike="noStrike" baseline="12000">
                <a:solidFill>
                  <a:srgbClr val="ff0000"/>
                </a:solidFill>
                <a:latin typeface="Arial"/>
              </a:rPr>
              <a:t>x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 e </a:t>
            </a:r>
            <a:r>
              <a:rPr b="1" lang="en-GB" sz="1800" spc="-1" strike="noStrike" baseline="30000">
                <a:solidFill>
                  <a:srgbClr val="ff0000"/>
                </a:solidFill>
                <a:latin typeface="Arial"/>
              </a:rPr>
              <a:t>(r-q)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bp" descr=""/>
          <p:cNvPicPr/>
          <p:nvPr/>
        </p:nvPicPr>
        <p:blipFill>
          <a:blip r:embed="rId3"/>
          <a:stretch/>
        </p:blipFill>
        <p:spPr>
          <a:xfrm>
            <a:off x="4952880" y="685800"/>
            <a:ext cx="1160640" cy="13716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5943600" y="685800"/>
            <a:ext cx="38088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T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90720" y="3276720"/>
            <a:ext cx="3429000" cy="7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marL="457200" indent="-45720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oday: Borrow S</a:t>
            </a:r>
            <a:r>
              <a:rPr b="0" lang="en-US" sz="10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for 3mth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oday: Buy at 6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3mths: Pay back loan = 69* e 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ヒラギノ角ゴ Pro W3"/>
              </a:rPr>
              <a:t>6% *  0.2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= 7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quity Swap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10680" y="837720"/>
            <a:ext cx="5854680" cy="36752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An agreement between two counterparties wher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one party receives the return of an asset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ays the other party a fixed or floating rate of interes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quity Swap Exampl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659880"/>
            <a:ext cx="5867280" cy="139716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Example:Believe Renault shares will rise  in next 3mth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rice return swap on a €1mi notiona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Payments made in 3mth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715000" y="566640"/>
            <a:ext cx="782280" cy="881280"/>
            <a:chOff x="5715000" y="566640"/>
            <a:chExt cx="782280" cy="881280"/>
          </a:xfrm>
        </p:grpSpPr>
        <p:pic>
          <p:nvPicPr>
            <p:cNvPr id="211" name="renault" descr=""/>
            <p:cNvPicPr/>
            <p:nvPr/>
          </p:nvPicPr>
          <p:blipFill>
            <a:blip r:embed="rId1"/>
            <a:stretch/>
          </p:blipFill>
          <p:spPr>
            <a:xfrm>
              <a:off x="5715000" y="685800"/>
              <a:ext cx="63324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255720" y="566640"/>
              <a:ext cx="241560" cy="1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1306440" y="3451320"/>
            <a:ext cx="40276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3352680"/>
            <a:ext cx="609624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As if you have exposure to €1,000,000 / €100 = 10,000 shares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2139840"/>
            <a:ext cx="5562720" cy="762120"/>
            <a:chOff x="457200" y="2139840"/>
            <a:chExt cx="5562720" cy="762120"/>
          </a:xfrm>
        </p:grpSpPr>
        <p:sp>
          <p:nvSpPr>
            <p:cNvPr id="216" name=""/>
            <p:cNvSpPr/>
            <p:nvPr/>
          </p:nvSpPr>
          <p:spPr>
            <a:xfrm>
              <a:off x="457200" y="2139840"/>
              <a:ext cx="5410080" cy="7621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0" rIns="64800" tIns="32400" bIns="32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9480" y="2228760"/>
              <a:ext cx="5410440" cy="58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3mth Euribor = 2%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pay Euribor + 50 b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S</a:t>
              </a:r>
              <a:r>
                <a:rPr b="0" lang="en-GB" sz="1600" spc="-1" strike="noStrike" baseline="-25000">
                  <a:solidFill>
                    <a:srgbClr val="000000"/>
                  </a:solidFill>
                  <a:latin typeface="Arial"/>
                  <a:ea typeface="ヒラギノ角ゴ Pro W3"/>
                </a:rPr>
                <a:t>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 = €100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	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Notional = €1m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xample (2)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609480"/>
            <a:ext cx="609588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Stock price =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€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105 at maturit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o investor: €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105 -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€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100 =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€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 5 x 10,000 shares = </a:t>
            </a: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€50,0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To counterparty: €1mi x (2.5%/ 4) = €6,25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484640" y="2168640"/>
            <a:ext cx="595080" cy="1448640"/>
            <a:chOff x="1484640" y="2168640"/>
            <a:chExt cx="595080" cy="1448640"/>
          </a:xfrm>
        </p:grpSpPr>
        <p:grpSp>
          <p:nvGrpSpPr>
            <p:cNvPr id="221" name=""/>
            <p:cNvGrpSpPr/>
            <p:nvPr/>
          </p:nvGrpSpPr>
          <p:grpSpPr>
            <a:xfrm>
              <a:off x="1501560" y="2549520"/>
              <a:ext cx="578160" cy="609120"/>
              <a:chOff x="1501560" y="2549520"/>
              <a:chExt cx="578160" cy="609120"/>
            </a:xfrm>
          </p:grpSpPr>
          <p:sp>
            <p:nvSpPr>
              <p:cNvPr id="222" name=""/>
              <p:cNvSpPr/>
              <p:nvPr/>
            </p:nvSpPr>
            <p:spPr>
              <a:xfrm>
                <a:off x="1791000" y="2549520"/>
                <a:ext cx="0" cy="48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1501560" y="3038040"/>
                <a:ext cx="289080" cy="1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791000" y="3038040"/>
                <a:ext cx="216720" cy="12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1501560" y="2555640"/>
                <a:ext cx="289080" cy="12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791000" y="2555640"/>
                <a:ext cx="288720" cy="12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1622520" y="2168640"/>
              <a:ext cx="380880" cy="380880"/>
              <a:chOff x="1622520" y="2168640"/>
              <a:chExt cx="380880" cy="380880"/>
            </a:xfrm>
          </p:grpSpPr>
          <p:sp>
            <p:nvSpPr>
              <p:cNvPr id="228" name=""/>
              <p:cNvSpPr/>
              <p:nvPr/>
            </p:nvSpPr>
            <p:spPr>
              <a:xfrm>
                <a:off x="1622520" y="2168640"/>
                <a:ext cx="38088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800" rIns="64800" tIns="32400" bIns="324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859040" y="2292120"/>
                <a:ext cx="61920" cy="61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800" rIns="64800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706400" y="2292120"/>
                <a:ext cx="61920" cy="61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64800" rIns="64800" tIns="11160" bIns="11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1651320" y="2318400"/>
                <a:ext cx="283320" cy="15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64" y="7073"/>
                    </a:moveTo>
                    <a:arcTo wR="10800" hR="10800" stAng="-9588645" swAng="81894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64" y="7073"/>
                    </a:moveTo>
                    <a:arcTo wR="10800" hR="10800" stAng="-9588645" swAng="818941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ctr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1484640" y="3430440"/>
              <a:ext cx="52668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Investo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3974760" y="2168640"/>
            <a:ext cx="1064520" cy="1490040"/>
            <a:chOff x="3974760" y="2168640"/>
            <a:chExt cx="1064520" cy="1490040"/>
          </a:xfrm>
        </p:grpSpPr>
        <p:pic>
          <p:nvPicPr>
            <p:cNvPr id="234" name="" descr=""/>
            <p:cNvPicPr/>
            <p:nvPr/>
          </p:nvPicPr>
          <p:blipFill>
            <a:blip r:embed="rId1"/>
            <a:stretch/>
          </p:blipFill>
          <p:spPr>
            <a:xfrm>
              <a:off x="4060800" y="2168640"/>
              <a:ext cx="8319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3974760" y="3471840"/>
              <a:ext cx="106452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wap Counterpart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246060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800" rIns="648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460240" y="28954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800" rIns="648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590920" y="2362320"/>
            <a:ext cx="990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€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6,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2971800"/>
            <a:ext cx="68580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€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50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066680" y="3962520"/>
            <a:ext cx="41911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700" spc="-1" strike="noStrike">
                <a:solidFill>
                  <a:srgbClr val="ff0000"/>
                </a:solidFill>
                <a:latin typeface="Arial"/>
              </a:rPr>
              <a:t>Net payoff = </a:t>
            </a:r>
            <a:r>
              <a:rPr b="0" lang="en-GB" sz="17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€50,000 - €6250 = €43,75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581280" y="762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81200" y="1568520"/>
            <a:ext cx="495288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elcom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quity Deriv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dvantages of Delta 1 Product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10680" y="659880"/>
            <a:ext cx="5854680" cy="36752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438120" indent="-438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AutoNum type="arabicParenR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venient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438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AutoNum type="arabicParenR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vercomes market fri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438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AutoNum type="arabicParenR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Quick prox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43812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Arial"/>
              <a:buAutoNum type="arabicParenR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reate synthetic derivativ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 Linear Derivatives - Options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34720" y="660240"/>
            <a:ext cx="6165720" cy="353088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 fontScale="99000"/>
          </a:bodyPr>
          <a:p>
            <a:pPr marL="240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ontract that gives the buyer th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igh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ut not the obligation to buy/sell an underlying asset at a specific price at or before a certain 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0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40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inology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40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Lo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40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Shor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40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40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European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40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America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40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40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Call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40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Pu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40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40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40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40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xample: European Long call on BP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660240"/>
            <a:ext cx="3047760" cy="20066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actors affecting option pric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 mth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=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3333cc"/>
                </a:solidFill>
                <a:latin typeface="Arial"/>
              </a:rPr>
              <a:t>£70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strik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4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£6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olatility =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vidend rate =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52280" y="609480"/>
            <a:ext cx="2971800" cy="19814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295280" y="3479760"/>
            <a:ext cx="441972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Exercise the right, make money from breakeven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ay it’s </a:t>
            </a:r>
            <a:r>
              <a:rPr b="0" lang="en-US" sz="1400" spc="-1" strike="noStrike">
                <a:solidFill>
                  <a:srgbClr val="00cc99"/>
                </a:solidFill>
                <a:latin typeface="Arial"/>
                <a:ea typeface="ヒラギノ角ゴ Pro W3"/>
              </a:rPr>
              <a:t>£80</a:t>
            </a:r>
            <a:r>
              <a:rPr b="0" lang="en-US" sz="1400" spc="-1" strike="noStrike">
                <a:solidFill>
                  <a:srgbClr val="00cc99"/>
                </a:solidFill>
                <a:latin typeface="Arial"/>
                <a:ea typeface="ヒラギノ角ゴ Pro W3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(</a:t>
            </a:r>
            <a:r>
              <a:rPr b="0" lang="en-US" sz="1400" spc="-1" strike="noStrike">
                <a:solidFill>
                  <a:srgbClr val="00cc99"/>
                </a:solidFill>
                <a:latin typeface="Arial"/>
                <a:ea typeface="ヒラギノ角ゴ Pro W3"/>
              </a:rPr>
              <a:t>£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- </a:t>
            </a:r>
            <a:r>
              <a:rPr b="0" lang="en-US" sz="1400" spc="-1" strike="noStrike">
                <a:solidFill>
                  <a:srgbClr val="3333cc"/>
                </a:solidFill>
                <a:latin typeface="Arial"/>
                <a:ea typeface="ヒラギノ角ゴ Pro W3"/>
              </a:rPr>
              <a:t>£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) - 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ヒラギノ角ゴ Pro W3"/>
              </a:rPr>
              <a:t>£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= £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Payoff = MAX [ S</a:t>
            </a:r>
            <a:r>
              <a:rPr b="1" lang="en-US" sz="15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 – K, 0 ]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5181480" y="609480"/>
            <a:ext cx="1295640" cy="1371600"/>
            <a:chOff x="5181480" y="609480"/>
            <a:chExt cx="1295640" cy="1371600"/>
          </a:xfrm>
        </p:grpSpPr>
        <p:pic>
          <p:nvPicPr>
            <p:cNvPr id="250" name="bp" descr=""/>
            <p:cNvPicPr/>
            <p:nvPr/>
          </p:nvPicPr>
          <p:blipFill>
            <a:blip r:embed="rId1"/>
            <a:stretch/>
          </p:blipFill>
          <p:spPr>
            <a:xfrm>
              <a:off x="5181480" y="609480"/>
              <a:ext cx="116064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6095880" y="685800"/>
              <a:ext cx="381240" cy="1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TM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3200400" y="1523880"/>
            <a:ext cx="2176560" cy="613080"/>
            <a:chOff x="3200400" y="1523880"/>
            <a:chExt cx="2176560" cy="613080"/>
          </a:xfrm>
        </p:grpSpPr>
        <p:sp>
          <p:nvSpPr>
            <p:cNvPr id="253" name=""/>
            <p:cNvSpPr/>
            <p:nvPr/>
          </p:nvSpPr>
          <p:spPr>
            <a:xfrm>
              <a:off x="3200400" y="1523880"/>
              <a:ext cx="457200" cy="304920"/>
            </a:xfrm>
            <a:prstGeom prst="rightArrow">
              <a:avLst>
                <a:gd name="adj1" fmla="val 41667"/>
                <a:gd name="adj2" fmla="val 55332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60680" y="1555920"/>
              <a:ext cx="1916280" cy="58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9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ヒラギノ角ゴ Pro W3"/>
                </a:rPr>
                <a:t>Price of call =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  <a:ea typeface="ヒラギノ角ゴ Pro W3"/>
                </a:rPr>
                <a:t>£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09240" y="2819520"/>
            <a:ext cx="754920" cy="3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&lt; 7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6200" y="3689280"/>
            <a:ext cx="794520" cy="3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  <a:ea typeface="ヒラギノ角ゴ Pro W3"/>
              </a:rPr>
              <a:t>T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7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95280" y="2900520"/>
            <a:ext cx="28195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Don’t exerci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all expires worthl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Loss = Premium pa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2840" y="2603520"/>
            <a:ext cx="225180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What happens at expiry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ll Payoff at Maturit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420920" y="1062000"/>
            <a:ext cx="3125520" cy="3083040"/>
            <a:chOff x="1420920" y="1062000"/>
            <a:chExt cx="3125520" cy="3083040"/>
          </a:xfrm>
        </p:grpSpPr>
        <p:sp>
          <p:nvSpPr>
            <p:cNvPr id="261" name=""/>
            <p:cNvSpPr/>
            <p:nvPr/>
          </p:nvSpPr>
          <p:spPr>
            <a:xfrm>
              <a:off x="1424160" y="1062000"/>
              <a:ext cx="3122280" cy="308304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20920" y="1062000"/>
              <a:ext cx="0" cy="293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20920" y="2530440"/>
              <a:ext cx="312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380880" y="914400"/>
            <a:ext cx="5815080" cy="1756800"/>
            <a:chOff x="380880" y="914400"/>
            <a:chExt cx="5815080" cy="1756800"/>
          </a:xfrm>
        </p:grpSpPr>
        <p:sp>
          <p:nvSpPr>
            <p:cNvPr id="265" name=""/>
            <p:cNvSpPr/>
            <p:nvPr/>
          </p:nvSpPr>
          <p:spPr>
            <a:xfrm>
              <a:off x="380880" y="914400"/>
              <a:ext cx="13384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114800" y="2398680"/>
              <a:ext cx="208116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ock Price 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32080" y="2068560"/>
            <a:ext cx="3978000" cy="1992600"/>
            <a:chOff x="1432080" y="2068560"/>
            <a:chExt cx="3978000" cy="1992600"/>
          </a:xfrm>
        </p:grpSpPr>
        <p:sp>
          <p:nvSpPr>
            <p:cNvPr id="268" name=""/>
            <p:cNvSpPr/>
            <p:nvPr/>
          </p:nvSpPr>
          <p:spPr>
            <a:xfrm>
              <a:off x="2397240" y="2550960"/>
              <a:ext cx="59508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c99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432080" y="2068560"/>
              <a:ext cx="1188720" cy="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20800" y="2068560"/>
              <a:ext cx="1486080" cy="1189080"/>
            </a:xfrm>
            <a:prstGeom prst="line">
              <a:avLst/>
            </a:prstGeom>
            <a:ln w="1908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627360" y="3137040"/>
              <a:ext cx="17827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Arial"/>
                </a:rPr>
                <a:t>Short C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432080" y="3822840"/>
              <a:ext cx="341784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Arial"/>
                </a:rPr>
                <a:t>Payoff = MIN [ K – S</a:t>
              </a:r>
              <a:r>
                <a:rPr b="1" lang="en-US" sz="1000" spc="-1" strike="noStrike" baseline="-25000">
                  <a:solidFill>
                    <a:srgbClr val="00cc99"/>
                  </a:solidFill>
                  <a:latin typeface="Arial"/>
                </a:rPr>
                <a:t>T,</a:t>
              </a:r>
              <a:r>
                <a:rPr b="1" lang="en-US" sz="1000" spc="-1" strike="noStrike">
                  <a:solidFill>
                    <a:srgbClr val="00cc99"/>
                  </a:solidFill>
                  <a:latin typeface="Arial"/>
                </a:rPr>
                <a:t>, 0 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20800" y="2068560"/>
              <a:ext cx="0" cy="465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1432080" y="1693800"/>
            <a:ext cx="3849480" cy="2109960"/>
            <a:chOff x="1432080" y="1693800"/>
            <a:chExt cx="3849480" cy="2109960"/>
          </a:xfrm>
        </p:grpSpPr>
        <p:sp>
          <p:nvSpPr>
            <p:cNvPr id="275" name=""/>
            <p:cNvSpPr/>
            <p:nvPr/>
          </p:nvSpPr>
          <p:spPr>
            <a:xfrm>
              <a:off x="1432080" y="2994120"/>
              <a:ext cx="118872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2620800" y="1804680"/>
              <a:ext cx="1484640" cy="118908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322360" y="3143160"/>
              <a:ext cx="59544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95840" y="1693800"/>
              <a:ext cx="14857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Long Ca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432080" y="3565440"/>
              <a:ext cx="341604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Payoff = MAX [ S</a:t>
              </a:r>
              <a:r>
                <a:rPr b="1" lang="en-US" sz="1000" spc="-1" strike="noStrike" baseline="-25000">
                  <a:solidFill>
                    <a:srgbClr val="3333cc"/>
                  </a:solidFill>
                  <a:latin typeface="Arial"/>
                </a:rPr>
                <a:t>T</a:t>
              </a:r>
              <a:r>
                <a:rPr b="1" lang="en-US" sz="1000" spc="-1" strike="noStrike">
                  <a:solidFill>
                    <a:srgbClr val="3333cc"/>
                  </a:solidFill>
                  <a:latin typeface="Arial"/>
                </a:rPr>
                <a:t> – K, 0 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20800" y="2548080"/>
              <a:ext cx="0" cy="465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0" y="546120"/>
            <a:ext cx="5867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ong and short positions are mirror images of each o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41240" y="1079640"/>
            <a:ext cx="80712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ll 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52000" y="2919240"/>
            <a:ext cx="2203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-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0" y="3276720"/>
            <a:ext cx="2430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5840" y="2598840"/>
            <a:ext cx="2430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ut Payoff at Maturity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85800" y="1143000"/>
            <a:ext cx="5815080" cy="3268800"/>
            <a:chOff x="685800" y="1143000"/>
            <a:chExt cx="5815080" cy="3268800"/>
          </a:xfrm>
        </p:grpSpPr>
        <p:sp>
          <p:nvSpPr>
            <p:cNvPr id="288" name=""/>
            <p:cNvSpPr/>
            <p:nvPr/>
          </p:nvSpPr>
          <p:spPr>
            <a:xfrm>
              <a:off x="1725480" y="1292400"/>
              <a:ext cx="3122640" cy="31194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725480" y="1292400"/>
              <a:ext cx="0" cy="29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25480" y="2778120"/>
              <a:ext cx="312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5800" y="1143000"/>
              <a:ext cx="13381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419720" y="2652840"/>
              <a:ext cx="208116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ock Price S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819520" y="1295280"/>
            <a:ext cx="9144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ut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685800"/>
            <a:ext cx="5867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ong and short positions are mirror images of each o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579680" y="2206800"/>
            <a:ext cx="4481280" cy="2158920"/>
            <a:chOff x="1579680" y="2206800"/>
            <a:chExt cx="4481280" cy="2158920"/>
          </a:xfrm>
        </p:grpSpPr>
        <p:grpSp>
          <p:nvGrpSpPr>
            <p:cNvPr id="296" name=""/>
            <p:cNvGrpSpPr/>
            <p:nvPr/>
          </p:nvGrpSpPr>
          <p:grpSpPr>
            <a:xfrm>
              <a:off x="1728360" y="2206800"/>
              <a:ext cx="4332600" cy="1450800"/>
              <a:chOff x="1728360" y="2206800"/>
              <a:chExt cx="4332600" cy="1450800"/>
            </a:xfrm>
          </p:grpSpPr>
          <p:sp>
            <p:nvSpPr>
              <p:cNvPr id="297" name=""/>
              <p:cNvSpPr/>
              <p:nvPr/>
            </p:nvSpPr>
            <p:spPr>
              <a:xfrm>
                <a:off x="2619360" y="3041640"/>
                <a:ext cx="103968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8" name=""/>
              <p:cNvGrpSpPr/>
              <p:nvPr/>
            </p:nvGrpSpPr>
            <p:grpSpPr>
              <a:xfrm>
                <a:off x="1728360" y="2206800"/>
                <a:ext cx="4332600" cy="1450800"/>
                <a:chOff x="1728360" y="2206800"/>
                <a:chExt cx="4332600" cy="145080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063960" y="2320920"/>
                  <a:ext cx="1631880" cy="0"/>
                </a:xfrm>
                <a:prstGeom prst="line">
                  <a:avLst/>
                </a:prstGeom>
                <a:ln w="1908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800" rIns="648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flipH="1">
                  <a:off x="1728360" y="2320920"/>
                  <a:ext cx="1336680" cy="1336680"/>
                </a:xfrm>
                <a:prstGeom prst="line">
                  <a:avLst/>
                </a:prstGeom>
                <a:ln w="1908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800" rIns="648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280040" y="2206800"/>
                  <a:ext cx="17809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800" rIns="64800" tIns="32400" bIns="324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cc99"/>
                      </a:solidFill>
                      <a:latin typeface="Arial"/>
                    </a:rPr>
                    <a:t>Short Cal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3073320" y="2324160"/>
                  <a:ext cx="0" cy="463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64800" rIns="648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3" name=""/>
            <p:cNvSpPr/>
            <p:nvPr/>
          </p:nvSpPr>
          <p:spPr>
            <a:xfrm>
              <a:off x="1579680" y="4127400"/>
              <a:ext cx="341460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Payoff = MIN [S</a:t>
              </a:r>
              <a:r>
                <a:rPr b="1" lang="en-US" sz="1000" spc="-1" strike="noStrike" baseline="-25000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 – K; 0 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608120" y="1904760"/>
            <a:ext cx="4183200" cy="2219760"/>
            <a:chOff x="1608120" y="1904760"/>
            <a:chExt cx="4183200" cy="2219760"/>
          </a:xfrm>
        </p:grpSpPr>
        <p:sp>
          <p:nvSpPr>
            <p:cNvPr id="305" name=""/>
            <p:cNvSpPr/>
            <p:nvPr/>
          </p:nvSpPr>
          <p:spPr>
            <a:xfrm>
              <a:off x="1608120" y="3886200"/>
              <a:ext cx="342108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Payoff = MAX [ K - S</a:t>
              </a:r>
              <a:r>
                <a:rPr b="1" lang="en-US" sz="1000" spc="-1" strike="noStrike" baseline="-25000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1" lang="en-US" sz="1000" spc="-1" strike="noStrike">
                  <a:solidFill>
                    <a:srgbClr val="ff0000"/>
                  </a:solidFill>
                  <a:latin typeface="Arial"/>
                </a:rPr>
                <a:t> ; 0 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722240" y="1904760"/>
              <a:ext cx="4069080" cy="1668240"/>
              <a:chOff x="1722240" y="1904760"/>
              <a:chExt cx="4069080" cy="1668240"/>
            </a:xfrm>
          </p:grpSpPr>
          <p:sp>
            <p:nvSpPr>
              <p:cNvPr id="307" name=""/>
              <p:cNvSpPr/>
              <p:nvPr/>
            </p:nvSpPr>
            <p:spPr>
              <a:xfrm>
                <a:off x="3054240" y="3236760"/>
                <a:ext cx="1635120" cy="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flipV="1">
                <a:off x="1722240" y="1904760"/>
                <a:ext cx="1338120" cy="1338120"/>
              </a:xfrm>
              <a:prstGeom prst="line">
                <a:avLst/>
              </a:prstGeom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602240" y="3124080"/>
                <a:ext cx="11890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3333cc"/>
                    </a:solidFill>
                    <a:latin typeface="Arial"/>
                  </a:rPr>
                  <a:t>Long P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00440" y="3386160"/>
                <a:ext cx="595080" cy="18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073320" y="2774880"/>
                <a:ext cx="0" cy="47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4800" rIns="648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reeks – Delta &amp; Gamma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1370160" y="914400"/>
            <a:ext cx="3946320" cy="574560"/>
            <a:chOff x="1370160" y="914400"/>
            <a:chExt cx="3946320" cy="574560"/>
          </a:xfrm>
        </p:grpSpPr>
        <p:sp>
          <p:nvSpPr>
            <p:cNvPr id="314" name=""/>
            <p:cNvSpPr/>
            <p:nvPr/>
          </p:nvSpPr>
          <p:spPr>
            <a:xfrm>
              <a:off x="1887480" y="914400"/>
              <a:ext cx="34290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nge in value of the o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22880" y="1241280"/>
              <a:ext cx="215568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hange in value of underly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70160" y="1074600"/>
              <a:ext cx="70020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lta =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192400" y="1211040"/>
              <a:ext cx="2819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 flipV="1">
            <a:off x="-1288800" y="-48600"/>
            <a:ext cx="4559400" cy="360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2" y="0"/>
                </a:moveTo>
                <a:arcTo wR="10800" hR="10800" stAng="-5399382" swAng="4343611"/>
                <a:lnTo>
                  <a:pt x="10800" y="10800"/>
                </a:lnTo>
                <a:close/>
              </a:path>
              <a:path fill="none" w="21600" h="21600">
                <a:moveTo>
                  <a:pt x="10802" y="0"/>
                </a:moveTo>
                <a:arcTo wR="10800" hR="10800" stAng="-5399382" swAng="4343611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ctr" rot="10800000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763640" y="2660760"/>
            <a:ext cx="144792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99036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353160" y="1868400"/>
            <a:ext cx="3228120" cy="1823760"/>
            <a:chOff x="353160" y="1868400"/>
            <a:chExt cx="3228120" cy="1823760"/>
          </a:xfrm>
        </p:grpSpPr>
        <p:sp>
          <p:nvSpPr>
            <p:cNvPr id="322" name=""/>
            <p:cNvSpPr/>
            <p:nvPr/>
          </p:nvSpPr>
          <p:spPr>
            <a:xfrm>
              <a:off x="990720" y="20574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990720" y="3581280"/>
              <a:ext cx="19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3160" y="1868400"/>
              <a:ext cx="73836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Option Pr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43200" y="3505320"/>
              <a:ext cx="838080" cy="18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ric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2514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81880" y="1614600"/>
            <a:ext cx="6003720" cy="7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amples of Strategi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28600" y="914400"/>
            <a:ext cx="47862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the money:  when strike = underlying spot 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2057400"/>
            <a:ext cx="557676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money:  when strike = a value that option holder ga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3200400"/>
            <a:ext cx="60958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 of the money:  when strike = a value that option holder lo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cash4" descr=""/>
          <p:cNvPicPr/>
          <p:nvPr/>
        </p:nvPicPr>
        <p:blipFill>
          <a:blip r:embed="rId1"/>
          <a:stretch/>
        </p:blipFill>
        <p:spPr>
          <a:xfrm>
            <a:off x="5029200" y="2438280"/>
            <a:ext cx="1031760" cy="444600"/>
          </a:xfrm>
          <a:prstGeom prst="rect">
            <a:avLst/>
          </a:prstGeom>
          <a:ln w="0">
            <a:noFill/>
          </a:ln>
        </p:spPr>
      </p:pic>
      <p:pic>
        <p:nvPicPr>
          <p:cNvPr id="332" name="amsad" descr=""/>
          <p:cNvPicPr/>
          <p:nvPr/>
        </p:nvPicPr>
        <p:blipFill>
          <a:blip r:embed="rId2"/>
          <a:stretch/>
        </p:blipFill>
        <p:spPr>
          <a:xfrm>
            <a:off x="4724280" y="3657600"/>
            <a:ext cx="38592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1295280" y="1219320"/>
            <a:ext cx="3886200" cy="3047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14400" y="152280"/>
            <a:ext cx="4876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raddle—same strike (K), same mat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95280" y="2743200"/>
            <a:ext cx="4191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1295280" y="914040"/>
            <a:ext cx="0" cy="335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276720" y="1599840"/>
            <a:ext cx="1676160" cy="1676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1523520" y="1523520"/>
            <a:ext cx="1752840" cy="17528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295280" y="2971800"/>
            <a:ext cx="1981440" cy="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76720" y="2209680"/>
            <a:ext cx="0" cy="2057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62320" y="4267080"/>
            <a:ext cx="24382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the money   K = 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81480" y="2819520"/>
            <a:ext cx="16002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of underlying at maturity 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" y="990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920" y="40384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276720" y="2971800"/>
            <a:ext cx="1828800" cy="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276720" y="1371240"/>
            <a:ext cx="1600200" cy="160020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1523520" y="1219320"/>
            <a:ext cx="1752840" cy="175248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971080" y="762120"/>
            <a:ext cx="63468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219320" y="76320"/>
            <a:ext cx="4038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Strangle—diff strike, same mat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9320" y="1219320"/>
            <a:ext cx="3886200" cy="30477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266688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1219320" y="83772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657600" y="1828800"/>
            <a:ext cx="1447920" cy="1447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 flipV="1">
            <a:off x="1218960" y="1828800"/>
            <a:ext cx="1447560" cy="1447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19320" y="2895480"/>
            <a:ext cx="2438280" cy="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95480" y="4114800"/>
            <a:ext cx="609840" cy="4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666880" y="2971800"/>
            <a:ext cx="2438640" cy="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657600" y="1447560"/>
            <a:ext cx="1447920" cy="144756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H="1" flipV="1">
            <a:off x="1218960" y="1523880"/>
            <a:ext cx="1447560" cy="144792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666880" y="3276720"/>
            <a:ext cx="990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00400" y="2666880"/>
            <a:ext cx="0" cy="16002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990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40384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5520" y="2666880"/>
            <a:ext cx="1600200" cy="7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of underlying at maturity 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895120" y="685800"/>
            <a:ext cx="63468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10680" y="659880"/>
            <a:ext cx="5854680" cy="36752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438120" indent="-4381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arenR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verview of the business structure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4381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arenR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tion to equity derivativ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4381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arenR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amples of strategi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438120" indent="-43812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AutoNum type="arabicParenR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ption pricing &amp; new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523880" y="1676520"/>
            <a:ext cx="2590920" cy="2590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523880" y="15238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3880" y="30481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1523880" y="1676520"/>
            <a:ext cx="2590920" cy="2590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38280" y="3048120"/>
            <a:ext cx="1676520" cy="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523880" y="2133720"/>
            <a:ext cx="914400" cy="914400"/>
          </a:xfrm>
          <a:prstGeom prst="line">
            <a:avLst/>
          </a:prstGeom>
          <a:ln w="190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1523520" y="3048120"/>
            <a:ext cx="1600200" cy="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3048120"/>
            <a:ext cx="990720" cy="990360"/>
          </a:xfrm>
          <a:prstGeom prst="line">
            <a:avLst/>
          </a:prstGeom>
          <a:ln w="1908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1523880" y="3352680"/>
            <a:ext cx="9144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3124080" y="2666880"/>
            <a:ext cx="9907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438280" y="2666520"/>
            <a:ext cx="685800" cy="685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1600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396252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267080" y="3124080"/>
            <a:ext cx="19814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ce of underlying at maturity, S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457200"/>
            <a:ext cx="5181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ollar or zero-cost collar on existing long</a:t>
            </a:r>
            <a:br>
              <a:rPr sz="1800"/>
            </a:br>
            <a:br>
              <a:rPr sz="17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8600" y="685800"/>
            <a:ext cx="586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in vanilla option is very expensive. If one finance the cost of buying one through selling one, reduce the cost of derivative strateg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13880" y="1219320"/>
            <a:ext cx="63468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1371600" y="228600"/>
            <a:ext cx="35812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/Put Sp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85800" y="1905120"/>
            <a:ext cx="2209680" cy="213336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685800" y="170496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85800" y="300024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800" rIns="648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57600" y="1933560"/>
            <a:ext cx="2209680" cy="213372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3657600" y="178128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657600" y="29718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800" rIns="648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85800" y="3000240"/>
            <a:ext cx="9907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1752480" y="1981080"/>
            <a:ext cx="990720" cy="9907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057400" y="3000240"/>
            <a:ext cx="838080" cy="838440"/>
          </a:xfrm>
          <a:prstGeom prst="line">
            <a:avLst/>
          </a:prstGeom>
          <a:ln w="1908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3000240"/>
            <a:ext cx="1371600" cy="0"/>
          </a:xfrm>
          <a:prstGeom prst="line">
            <a:avLst/>
          </a:prstGeom>
          <a:ln w="1908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25800" y="2598840"/>
            <a:ext cx="7617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90720" y="1476360"/>
            <a:ext cx="152388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Call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1476360"/>
            <a:ext cx="152388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ng Put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320" y="1752480"/>
            <a:ext cx="5331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52280" y="3762360"/>
            <a:ext cx="5335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124080" y="3762360"/>
            <a:ext cx="5335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048120" y="1781280"/>
            <a:ext cx="5331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00" y="4191120"/>
            <a:ext cx="22096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Put Sp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990720"/>
            <a:ext cx="5562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—you pay, thus the option you buy is more expensive. So the option you buy is more in the money (thus cost more) than the option you sel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76520" y="685800"/>
            <a:ext cx="28191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 Spread = Buy a call + Sell a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4191120"/>
            <a:ext cx="21337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Call Sp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952520" y="2971800"/>
            <a:ext cx="838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4648320" y="2971800"/>
            <a:ext cx="121896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H="1" flipV="1">
            <a:off x="3657600" y="1981080"/>
            <a:ext cx="990720" cy="9907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4266720" y="2971800"/>
            <a:ext cx="1600200" cy="0"/>
          </a:xfrm>
          <a:prstGeom prst="line">
            <a:avLst/>
          </a:prstGeom>
          <a:ln w="1908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657240" y="2971800"/>
            <a:ext cx="609480" cy="609480"/>
          </a:xfrm>
          <a:prstGeom prst="line">
            <a:avLst/>
          </a:prstGeom>
          <a:ln w="1908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2971800"/>
            <a:ext cx="121896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4266720" y="2590920"/>
            <a:ext cx="381240" cy="380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657240" y="2590920"/>
            <a:ext cx="6094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819520" y="3048120"/>
            <a:ext cx="533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91320" y="3048120"/>
            <a:ext cx="5331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1752120" y="2590920"/>
            <a:ext cx="38124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736280" y="2606760"/>
            <a:ext cx="381240" cy="3808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3003480"/>
            <a:ext cx="10666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1447920" y="0"/>
            <a:ext cx="3809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3276720" y="609120"/>
            <a:ext cx="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419112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666880" y="2057400"/>
            <a:ext cx="121932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19520" y="213372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u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24280" y="1981080"/>
            <a:ext cx="990720" cy="8384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724280" y="3124080"/>
            <a:ext cx="106704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48320" y="20574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y strad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724280" y="3276720"/>
            <a:ext cx="15242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ll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ver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62120" y="1905120"/>
            <a:ext cx="99036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38080" y="205740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y stra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62120" y="3048120"/>
            <a:ext cx="114300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62120" y="685800"/>
            <a:ext cx="1066680" cy="99072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62120" y="3200400"/>
            <a:ext cx="1295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y puts and sell call (coll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62120" y="838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y stock &amp; buy c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971800" y="41911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6920" y="41911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ield Enhan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0880" y="41911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folio Prot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48320" y="762120"/>
            <a:ext cx="1218960" cy="9144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724280" y="91440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y call &amp; sell 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43200" y="228600"/>
            <a:ext cx="10666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Sword" descr=""/>
          <p:cNvPicPr/>
          <p:nvPr/>
        </p:nvPicPr>
        <p:blipFill>
          <a:blip r:embed="rId1"/>
          <a:stretch/>
        </p:blipFill>
        <p:spPr>
          <a:xfrm>
            <a:off x="3581280" y="152280"/>
            <a:ext cx="1390680" cy="432000"/>
          </a:xfrm>
          <a:prstGeom prst="rect">
            <a:avLst/>
          </a:prstGeom>
          <a:ln w="0">
            <a:noFill/>
          </a:ln>
        </p:spPr>
      </p:pic>
      <p:pic>
        <p:nvPicPr>
          <p:cNvPr id="440" name="Armor" descr=""/>
          <p:cNvPicPr/>
          <p:nvPr/>
        </p:nvPicPr>
        <p:blipFill>
          <a:blip r:embed="rId2"/>
          <a:stretch/>
        </p:blipFill>
        <p:spPr>
          <a:xfrm>
            <a:off x="2286000" y="0"/>
            <a:ext cx="534960" cy="7318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2666880" y="3276720"/>
            <a:ext cx="1219320" cy="6094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895480" y="34290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ar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666880" y="838080"/>
            <a:ext cx="1219320" cy="60984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9907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lli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990720" y="228600"/>
            <a:ext cx="441936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fundamental thing—Delta Hedg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838080" y="685800"/>
            <a:ext cx="42674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lta: dC/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38080" y="1523880"/>
            <a:ext cx="1600200" cy="16002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838080" y="22860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800" rIns="648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838080" y="1371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8080" y="2286000"/>
            <a:ext cx="8384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1676520" y="1523520"/>
            <a:ext cx="761760" cy="7621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38080" y="1498680"/>
            <a:ext cx="1575000" cy="736560"/>
          </a:xfrm>
          <a:custGeom>
            <a:avLst/>
            <a:gdLst/>
            <a:ahLst/>
            <a:rect l="l" t="t" r="r" b="b"/>
            <a:pathLst>
              <a:path w="992" h="464">
                <a:moveTo>
                  <a:pt x="0" y="448"/>
                </a:moveTo>
                <a:cubicBezTo>
                  <a:pt x="164" y="456"/>
                  <a:pt x="328" y="464"/>
                  <a:pt x="480" y="400"/>
                </a:cubicBezTo>
                <a:cubicBezTo>
                  <a:pt x="632" y="336"/>
                  <a:pt x="832" y="128"/>
                  <a:pt x="912" y="64"/>
                </a:cubicBezTo>
                <a:cubicBezTo>
                  <a:pt x="992" y="0"/>
                  <a:pt x="976" y="8"/>
                  <a:pt x="960" y="16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1676520" y="2057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>
            <a:off x="1447560" y="21337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90720" y="2590920"/>
            <a:ext cx="9144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 valu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43200" y="20574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86200" y="1523880"/>
            <a:ext cx="1600200" cy="160020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86200" y="25909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800" rIns="648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886200" y="1371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886200" y="1600200"/>
            <a:ext cx="1600200" cy="990720"/>
          </a:xfrm>
          <a:custGeom>
            <a:avLst/>
            <a:gdLst/>
            <a:ahLst/>
            <a:rect l="l" t="t" r="r" b="b"/>
            <a:pathLst>
              <a:path w="1008" h="624">
                <a:moveTo>
                  <a:pt x="0" y="624"/>
                </a:moveTo>
                <a:cubicBezTo>
                  <a:pt x="172" y="600"/>
                  <a:pt x="344" y="576"/>
                  <a:pt x="432" y="528"/>
                </a:cubicBezTo>
                <a:cubicBezTo>
                  <a:pt x="520" y="480"/>
                  <a:pt x="512" y="376"/>
                  <a:pt x="528" y="336"/>
                </a:cubicBezTo>
                <a:cubicBezTo>
                  <a:pt x="544" y="296"/>
                  <a:pt x="520" y="320"/>
                  <a:pt x="528" y="288"/>
                </a:cubicBezTo>
                <a:cubicBezTo>
                  <a:pt x="536" y="256"/>
                  <a:pt x="544" y="184"/>
                  <a:pt x="576" y="144"/>
                </a:cubicBezTo>
                <a:cubicBezTo>
                  <a:pt x="608" y="104"/>
                  <a:pt x="648" y="72"/>
                  <a:pt x="720" y="48"/>
                </a:cubicBezTo>
                <a:cubicBezTo>
                  <a:pt x="792" y="24"/>
                  <a:pt x="960" y="8"/>
                  <a:pt x="100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590920" y="2514600"/>
            <a:ext cx="11430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429000" y="1905120"/>
            <a:ext cx="4572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t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1523880"/>
            <a:ext cx="2286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657600" y="2514600"/>
            <a:ext cx="22860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90720" y="1295280"/>
            <a:ext cx="990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ta is the gradient, change max at A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76520" y="17524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66680" y="3352680"/>
            <a:ext cx="4114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ta Hedging is about maintaining delta-neutral position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219320" y="3962520"/>
            <a:ext cx="4114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Long call </a:t>
            </a:r>
            <a:r>
              <a:rPr b="1" lang="en-US" sz="1200" spc="-1" strike="noStrike" u="sng">
                <a:solidFill>
                  <a:srgbClr val="0000ff"/>
                </a:solidFill>
                <a:uFillTx/>
                <a:latin typeface="Wingdings"/>
                <a:ea typeface="Wingdings"/>
              </a:rPr>
              <a:t></a:t>
            </a:r>
            <a:r>
              <a:rPr b="1" lang="en-US" sz="1200" spc="-1" strike="noStrike" u="sng">
                <a:solidFill>
                  <a:srgbClr val="0000ff"/>
                </a:solidFill>
                <a:uFillTx/>
                <a:latin typeface="Arial"/>
              </a:rPr>
              <a:t> short stock to h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1523880"/>
            <a:ext cx="5335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fi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" y="2895480"/>
            <a:ext cx="53352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s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676520" y="2286000"/>
            <a:ext cx="0" cy="838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724280" y="21337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600200" y="2362320"/>
            <a:ext cx="6094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M strik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648320" y="2666880"/>
            <a:ext cx="60948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M strik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514960" y="2286000"/>
            <a:ext cx="235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563080" y="2590920"/>
            <a:ext cx="235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609480" y="762120"/>
            <a:ext cx="5639040" cy="13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f underlying go from 100 to 11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increas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t 110 level, higher delt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fall in underlying from 110 will have a greater negative impact on call option price, thus, need to short more stock to cover that.                    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480" y="2286000"/>
            <a:ext cx="5029200" cy="13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f underlying go from 100 to 9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ta decrease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 fall in underlying from 90 will have a smaller negative impact on call option price, thus need to short less stock now to be delta neutral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uy back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480" y="3733920"/>
            <a:ext cx="4876920" cy="60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y Low Sell High, if very volatile, gains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1752480" y="228600"/>
            <a:ext cx="281952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m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685800"/>
            <a:ext cx="396216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ding Vol </a:t>
            </a:r>
            <a:r>
              <a:rPr b="0" lang="en-GB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so, Vol increase, earn???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971800" y="1295280"/>
            <a:ext cx="397080" cy="2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0" y="1981080"/>
            <a:ext cx="629748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ly earn if volatility is high around the ATM strike, where the gamma is highest. I.e. change of delta is highest, I.e. amount of buy-low-sell-high largest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71600" y="2971800"/>
            <a:ext cx="38973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not purely a volatility trade. Only capture vol around strike, not all the vol at different level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" y="3733920"/>
            <a:ext cx="568656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 variance swap capture vol at all levels, as it buy options of various strike, 1/K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weighted, to create a flat veg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hat is the price of an Option?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10680" y="659880"/>
            <a:ext cx="5854680" cy="36752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ow much is the premium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pends on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e To Matu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ike Price, Spot Pr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AT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obody knows the answer until 1973…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10680" y="659880"/>
            <a:ext cx="5854680" cy="36752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ck &amp; Scholes model (1973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bitrage-free (delta hedging) argument! (BUY underlying according to % in the mon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 price is a stochastic (random) proces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9005394f2fd5aeed7fb43a78b427c4a8" descr="dS_t = \mu S_t\,dt + \sigma S_t\,dW_t \,"/>
          <p:cNvPicPr/>
          <p:nvPr/>
        </p:nvPicPr>
        <p:blipFill>
          <a:blip r:embed="rId1"/>
          <a:stretch/>
        </p:blipFill>
        <p:spPr>
          <a:xfrm>
            <a:off x="1600200" y="3200400"/>
            <a:ext cx="289548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A clearer picture of ‘Diffusion’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10680" y="659880"/>
            <a:ext cx="5854680" cy="36752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e simulations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ption Price = Max ( S – K; 0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3" name=""/>
          <p:cNvGraphicFramePr/>
          <p:nvPr/>
        </p:nvGraphicFramePr>
        <p:xfrm>
          <a:off x="304920" y="990720"/>
          <a:ext cx="5715000" cy="268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90720"/>
                    <a:ext cx="5715000" cy="26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hen you know the FAIR price, you won’t get cheated! 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10680" y="660240"/>
            <a:ext cx="5861160" cy="345456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 key tools : So, we ca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ither simulate /solve equation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ackScholes &gt;&gt; Lognormal: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nk about options strategi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just a start. …there are a lot of assumptions and the real world is not that simp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3809880" y="685800"/>
          <a:ext cx="256716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685800"/>
                    <a:ext cx="25671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80880" y="233280"/>
            <a:ext cx="55231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762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519200" y="673200"/>
            <a:ext cx="2168280" cy="1298160"/>
            <a:chOff x="1519200" y="673200"/>
            <a:chExt cx="2168280" cy="1298160"/>
          </a:xfrm>
        </p:grpSpPr>
        <p:sp>
          <p:nvSpPr>
            <p:cNvPr id="61" name=""/>
            <p:cNvSpPr/>
            <p:nvPr/>
          </p:nvSpPr>
          <p:spPr>
            <a:xfrm>
              <a:off x="1527120" y="680760"/>
              <a:ext cx="2146680" cy="1276560"/>
            </a:xfrm>
            <a:custGeom>
              <a:avLst/>
              <a:gdLst/>
              <a:ahLst/>
              <a:rect l="l" t="t" r="r" b="b"/>
              <a:pathLst>
                <a:path w="1091" h="638">
                  <a:moveTo>
                    <a:pt x="471" y="613"/>
                  </a:moveTo>
                  <a:lnTo>
                    <a:pt x="478" y="613"/>
                  </a:lnTo>
                  <a:lnTo>
                    <a:pt x="489" y="609"/>
                  </a:lnTo>
                  <a:lnTo>
                    <a:pt x="493" y="609"/>
                  </a:lnTo>
                  <a:lnTo>
                    <a:pt x="500" y="605"/>
                  </a:lnTo>
                  <a:lnTo>
                    <a:pt x="503" y="598"/>
                  </a:lnTo>
                  <a:lnTo>
                    <a:pt x="507" y="594"/>
                  </a:lnTo>
                  <a:lnTo>
                    <a:pt x="507" y="591"/>
                  </a:lnTo>
                  <a:lnTo>
                    <a:pt x="511" y="584"/>
                  </a:lnTo>
                  <a:lnTo>
                    <a:pt x="511" y="576"/>
                  </a:lnTo>
                  <a:lnTo>
                    <a:pt x="507" y="569"/>
                  </a:lnTo>
                  <a:lnTo>
                    <a:pt x="507" y="562"/>
                  </a:lnTo>
                  <a:lnTo>
                    <a:pt x="503" y="555"/>
                  </a:lnTo>
                  <a:lnTo>
                    <a:pt x="496" y="547"/>
                  </a:lnTo>
                  <a:lnTo>
                    <a:pt x="493" y="536"/>
                  </a:lnTo>
                  <a:lnTo>
                    <a:pt x="485" y="529"/>
                  </a:lnTo>
                  <a:lnTo>
                    <a:pt x="478" y="518"/>
                  </a:lnTo>
                  <a:lnTo>
                    <a:pt x="471" y="515"/>
                  </a:lnTo>
                  <a:lnTo>
                    <a:pt x="467" y="507"/>
                  </a:lnTo>
                  <a:lnTo>
                    <a:pt x="467" y="504"/>
                  </a:lnTo>
                  <a:lnTo>
                    <a:pt x="464" y="497"/>
                  </a:lnTo>
                  <a:lnTo>
                    <a:pt x="460" y="486"/>
                  </a:lnTo>
                  <a:lnTo>
                    <a:pt x="456" y="475"/>
                  </a:lnTo>
                  <a:lnTo>
                    <a:pt x="456" y="464"/>
                  </a:lnTo>
                  <a:lnTo>
                    <a:pt x="460" y="449"/>
                  </a:lnTo>
                  <a:lnTo>
                    <a:pt x="464" y="438"/>
                  </a:lnTo>
                  <a:lnTo>
                    <a:pt x="471" y="428"/>
                  </a:lnTo>
                  <a:lnTo>
                    <a:pt x="478" y="417"/>
                  </a:lnTo>
                  <a:lnTo>
                    <a:pt x="485" y="409"/>
                  </a:lnTo>
                  <a:lnTo>
                    <a:pt x="496" y="399"/>
                  </a:lnTo>
                  <a:lnTo>
                    <a:pt x="507" y="391"/>
                  </a:lnTo>
                  <a:lnTo>
                    <a:pt x="518" y="388"/>
                  </a:lnTo>
                  <a:lnTo>
                    <a:pt x="532" y="380"/>
                  </a:lnTo>
                  <a:lnTo>
                    <a:pt x="543" y="377"/>
                  </a:lnTo>
                  <a:lnTo>
                    <a:pt x="558" y="377"/>
                  </a:lnTo>
                  <a:lnTo>
                    <a:pt x="572" y="377"/>
                  </a:lnTo>
                  <a:lnTo>
                    <a:pt x="583" y="380"/>
                  </a:lnTo>
                  <a:lnTo>
                    <a:pt x="598" y="388"/>
                  </a:lnTo>
                  <a:lnTo>
                    <a:pt x="605" y="391"/>
                  </a:lnTo>
                  <a:lnTo>
                    <a:pt x="616" y="402"/>
                  </a:lnTo>
                  <a:lnTo>
                    <a:pt x="623" y="409"/>
                  </a:lnTo>
                  <a:lnTo>
                    <a:pt x="630" y="417"/>
                  </a:lnTo>
                  <a:lnTo>
                    <a:pt x="638" y="428"/>
                  </a:lnTo>
                  <a:lnTo>
                    <a:pt x="641" y="442"/>
                  </a:lnTo>
                  <a:lnTo>
                    <a:pt x="645" y="453"/>
                  </a:lnTo>
                  <a:lnTo>
                    <a:pt x="649" y="464"/>
                  </a:lnTo>
                  <a:lnTo>
                    <a:pt x="649" y="475"/>
                  </a:lnTo>
                  <a:lnTo>
                    <a:pt x="645" y="486"/>
                  </a:lnTo>
                  <a:lnTo>
                    <a:pt x="641" y="497"/>
                  </a:lnTo>
                  <a:lnTo>
                    <a:pt x="638" y="507"/>
                  </a:lnTo>
                  <a:lnTo>
                    <a:pt x="630" y="515"/>
                  </a:lnTo>
                  <a:lnTo>
                    <a:pt x="616" y="529"/>
                  </a:lnTo>
                  <a:lnTo>
                    <a:pt x="601" y="544"/>
                  </a:lnTo>
                  <a:lnTo>
                    <a:pt x="598" y="551"/>
                  </a:lnTo>
                  <a:lnTo>
                    <a:pt x="594" y="558"/>
                  </a:lnTo>
                  <a:lnTo>
                    <a:pt x="591" y="562"/>
                  </a:lnTo>
                  <a:lnTo>
                    <a:pt x="587" y="569"/>
                  </a:lnTo>
                  <a:lnTo>
                    <a:pt x="587" y="576"/>
                  </a:lnTo>
                  <a:lnTo>
                    <a:pt x="587" y="580"/>
                  </a:lnTo>
                  <a:lnTo>
                    <a:pt x="587" y="587"/>
                  </a:lnTo>
                  <a:lnTo>
                    <a:pt x="587" y="591"/>
                  </a:lnTo>
                  <a:lnTo>
                    <a:pt x="591" y="594"/>
                  </a:lnTo>
                  <a:lnTo>
                    <a:pt x="594" y="602"/>
                  </a:lnTo>
                  <a:lnTo>
                    <a:pt x="598" y="605"/>
                  </a:lnTo>
                  <a:lnTo>
                    <a:pt x="605" y="613"/>
                  </a:lnTo>
                  <a:lnTo>
                    <a:pt x="616" y="616"/>
                  </a:lnTo>
                  <a:lnTo>
                    <a:pt x="623" y="623"/>
                  </a:lnTo>
                  <a:lnTo>
                    <a:pt x="638" y="627"/>
                  </a:lnTo>
                  <a:lnTo>
                    <a:pt x="652" y="631"/>
                  </a:lnTo>
                  <a:lnTo>
                    <a:pt x="670" y="634"/>
                  </a:lnTo>
                  <a:lnTo>
                    <a:pt x="685" y="634"/>
                  </a:lnTo>
                  <a:lnTo>
                    <a:pt x="703" y="638"/>
                  </a:lnTo>
                  <a:lnTo>
                    <a:pt x="721" y="638"/>
                  </a:lnTo>
                  <a:lnTo>
                    <a:pt x="739" y="638"/>
                  </a:lnTo>
                  <a:lnTo>
                    <a:pt x="757" y="638"/>
                  </a:lnTo>
                  <a:lnTo>
                    <a:pt x="779" y="634"/>
                  </a:lnTo>
                  <a:lnTo>
                    <a:pt x="794" y="634"/>
                  </a:lnTo>
                  <a:lnTo>
                    <a:pt x="812" y="631"/>
                  </a:lnTo>
                  <a:lnTo>
                    <a:pt x="830" y="627"/>
                  </a:lnTo>
                  <a:lnTo>
                    <a:pt x="841" y="620"/>
                  </a:lnTo>
                  <a:lnTo>
                    <a:pt x="855" y="613"/>
                  </a:lnTo>
                  <a:lnTo>
                    <a:pt x="859" y="605"/>
                  </a:lnTo>
                  <a:lnTo>
                    <a:pt x="859" y="598"/>
                  </a:lnTo>
                  <a:lnTo>
                    <a:pt x="862" y="594"/>
                  </a:lnTo>
                  <a:lnTo>
                    <a:pt x="862" y="587"/>
                  </a:lnTo>
                  <a:lnTo>
                    <a:pt x="862" y="573"/>
                  </a:lnTo>
                  <a:lnTo>
                    <a:pt x="862" y="558"/>
                  </a:lnTo>
                  <a:lnTo>
                    <a:pt x="862" y="540"/>
                  </a:lnTo>
                  <a:lnTo>
                    <a:pt x="862" y="522"/>
                  </a:lnTo>
                  <a:lnTo>
                    <a:pt x="859" y="507"/>
                  </a:lnTo>
                  <a:lnTo>
                    <a:pt x="855" y="489"/>
                  </a:lnTo>
                  <a:lnTo>
                    <a:pt x="848" y="457"/>
                  </a:lnTo>
                  <a:lnTo>
                    <a:pt x="841" y="424"/>
                  </a:lnTo>
                  <a:lnTo>
                    <a:pt x="841" y="409"/>
                  </a:lnTo>
                  <a:lnTo>
                    <a:pt x="841" y="395"/>
                  </a:lnTo>
                  <a:lnTo>
                    <a:pt x="841" y="384"/>
                  </a:lnTo>
                  <a:lnTo>
                    <a:pt x="844" y="373"/>
                  </a:lnTo>
                  <a:lnTo>
                    <a:pt x="848" y="366"/>
                  </a:lnTo>
                  <a:lnTo>
                    <a:pt x="852" y="355"/>
                  </a:lnTo>
                  <a:lnTo>
                    <a:pt x="859" y="348"/>
                  </a:lnTo>
                  <a:lnTo>
                    <a:pt x="866" y="344"/>
                  </a:lnTo>
                  <a:lnTo>
                    <a:pt x="873" y="337"/>
                  </a:lnTo>
                  <a:lnTo>
                    <a:pt x="881" y="330"/>
                  </a:lnTo>
                  <a:lnTo>
                    <a:pt x="891" y="326"/>
                  </a:lnTo>
                  <a:lnTo>
                    <a:pt x="899" y="322"/>
                  </a:lnTo>
                  <a:lnTo>
                    <a:pt x="906" y="322"/>
                  </a:lnTo>
                  <a:lnTo>
                    <a:pt x="917" y="319"/>
                  </a:lnTo>
                  <a:lnTo>
                    <a:pt x="924" y="319"/>
                  </a:lnTo>
                  <a:lnTo>
                    <a:pt x="935" y="322"/>
                  </a:lnTo>
                  <a:lnTo>
                    <a:pt x="942" y="322"/>
                  </a:lnTo>
                  <a:lnTo>
                    <a:pt x="949" y="330"/>
                  </a:lnTo>
                  <a:lnTo>
                    <a:pt x="957" y="333"/>
                  </a:lnTo>
                  <a:lnTo>
                    <a:pt x="964" y="341"/>
                  </a:lnTo>
                  <a:lnTo>
                    <a:pt x="971" y="348"/>
                  </a:lnTo>
                  <a:lnTo>
                    <a:pt x="978" y="351"/>
                  </a:lnTo>
                  <a:lnTo>
                    <a:pt x="986" y="359"/>
                  </a:lnTo>
                  <a:lnTo>
                    <a:pt x="997" y="362"/>
                  </a:lnTo>
                  <a:lnTo>
                    <a:pt x="1007" y="362"/>
                  </a:lnTo>
                  <a:lnTo>
                    <a:pt x="1018" y="362"/>
                  </a:lnTo>
                  <a:lnTo>
                    <a:pt x="1029" y="359"/>
                  </a:lnTo>
                  <a:lnTo>
                    <a:pt x="1040" y="355"/>
                  </a:lnTo>
                  <a:lnTo>
                    <a:pt x="1051" y="351"/>
                  </a:lnTo>
                  <a:lnTo>
                    <a:pt x="1058" y="344"/>
                  </a:lnTo>
                  <a:lnTo>
                    <a:pt x="1069" y="341"/>
                  </a:lnTo>
                  <a:lnTo>
                    <a:pt x="1076" y="333"/>
                  </a:lnTo>
                  <a:lnTo>
                    <a:pt x="1080" y="326"/>
                  </a:lnTo>
                  <a:lnTo>
                    <a:pt x="1087" y="315"/>
                  </a:lnTo>
                  <a:lnTo>
                    <a:pt x="1087" y="304"/>
                  </a:lnTo>
                  <a:lnTo>
                    <a:pt x="1091" y="297"/>
                  </a:lnTo>
                  <a:lnTo>
                    <a:pt x="1087" y="282"/>
                  </a:lnTo>
                  <a:lnTo>
                    <a:pt x="1087" y="268"/>
                  </a:lnTo>
                  <a:lnTo>
                    <a:pt x="1080" y="257"/>
                  </a:lnTo>
                  <a:lnTo>
                    <a:pt x="1076" y="246"/>
                  </a:lnTo>
                  <a:lnTo>
                    <a:pt x="1069" y="235"/>
                  </a:lnTo>
                  <a:lnTo>
                    <a:pt x="1058" y="228"/>
                  </a:lnTo>
                  <a:lnTo>
                    <a:pt x="1051" y="224"/>
                  </a:lnTo>
                  <a:lnTo>
                    <a:pt x="1040" y="217"/>
                  </a:lnTo>
                  <a:lnTo>
                    <a:pt x="1029" y="214"/>
                  </a:lnTo>
                  <a:lnTo>
                    <a:pt x="1018" y="210"/>
                  </a:lnTo>
                  <a:lnTo>
                    <a:pt x="1007" y="210"/>
                  </a:lnTo>
                  <a:lnTo>
                    <a:pt x="997" y="210"/>
                  </a:lnTo>
                  <a:lnTo>
                    <a:pt x="986" y="214"/>
                  </a:lnTo>
                  <a:lnTo>
                    <a:pt x="978" y="217"/>
                  </a:lnTo>
                  <a:lnTo>
                    <a:pt x="971" y="221"/>
                  </a:lnTo>
                  <a:lnTo>
                    <a:pt x="964" y="224"/>
                  </a:lnTo>
                  <a:lnTo>
                    <a:pt x="957" y="232"/>
                  </a:lnTo>
                  <a:lnTo>
                    <a:pt x="949" y="235"/>
                  </a:lnTo>
                  <a:lnTo>
                    <a:pt x="939" y="239"/>
                  </a:lnTo>
                  <a:lnTo>
                    <a:pt x="931" y="243"/>
                  </a:lnTo>
                  <a:lnTo>
                    <a:pt x="920" y="243"/>
                  </a:lnTo>
                  <a:lnTo>
                    <a:pt x="910" y="243"/>
                  </a:lnTo>
                  <a:lnTo>
                    <a:pt x="899" y="243"/>
                  </a:lnTo>
                  <a:lnTo>
                    <a:pt x="891" y="243"/>
                  </a:lnTo>
                  <a:lnTo>
                    <a:pt x="881" y="239"/>
                  </a:lnTo>
                  <a:lnTo>
                    <a:pt x="870" y="235"/>
                  </a:lnTo>
                  <a:lnTo>
                    <a:pt x="862" y="235"/>
                  </a:lnTo>
                  <a:lnTo>
                    <a:pt x="855" y="228"/>
                  </a:lnTo>
                  <a:lnTo>
                    <a:pt x="848" y="224"/>
                  </a:lnTo>
                  <a:lnTo>
                    <a:pt x="841" y="217"/>
                  </a:lnTo>
                  <a:lnTo>
                    <a:pt x="841" y="210"/>
                  </a:lnTo>
                  <a:lnTo>
                    <a:pt x="837" y="203"/>
                  </a:lnTo>
                  <a:lnTo>
                    <a:pt x="837" y="192"/>
                  </a:lnTo>
                  <a:lnTo>
                    <a:pt x="837" y="170"/>
                  </a:lnTo>
                  <a:lnTo>
                    <a:pt x="837" y="145"/>
                  </a:lnTo>
                  <a:lnTo>
                    <a:pt x="841" y="116"/>
                  </a:lnTo>
                  <a:lnTo>
                    <a:pt x="844" y="87"/>
                  </a:lnTo>
                  <a:lnTo>
                    <a:pt x="848" y="58"/>
                  </a:lnTo>
                  <a:lnTo>
                    <a:pt x="852" y="36"/>
                  </a:lnTo>
                  <a:lnTo>
                    <a:pt x="855" y="14"/>
                  </a:lnTo>
                  <a:lnTo>
                    <a:pt x="852" y="14"/>
                  </a:lnTo>
                  <a:lnTo>
                    <a:pt x="852" y="14"/>
                  </a:lnTo>
                  <a:lnTo>
                    <a:pt x="819" y="14"/>
                  </a:lnTo>
                  <a:lnTo>
                    <a:pt x="786" y="10"/>
                  </a:lnTo>
                  <a:lnTo>
                    <a:pt x="757" y="10"/>
                  </a:lnTo>
                  <a:lnTo>
                    <a:pt x="732" y="7"/>
                  </a:lnTo>
                  <a:lnTo>
                    <a:pt x="707" y="3"/>
                  </a:lnTo>
                  <a:lnTo>
                    <a:pt x="685" y="3"/>
                  </a:lnTo>
                  <a:lnTo>
                    <a:pt x="670" y="0"/>
                  </a:lnTo>
                  <a:lnTo>
                    <a:pt x="659" y="0"/>
                  </a:lnTo>
                  <a:lnTo>
                    <a:pt x="652" y="0"/>
                  </a:lnTo>
                  <a:lnTo>
                    <a:pt x="649" y="3"/>
                  </a:lnTo>
                  <a:lnTo>
                    <a:pt x="641" y="7"/>
                  </a:lnTo>
                  <a:lnTo>
                    <a:pt x="634" y="14"/>
                  </a:lnTo>
                  <a:lnTo>
                    <a:pt x="630" y="18"/>
                  </a:lnTo>
                  <a:lnTo>
                    <a:pt x="623" y="25"/>
                  </a:lnTo>
                  <a:lnTo>
                    <a:pt x="623" y="36"/>
                  </a:lnTo>
                  <a:lnTo>
                    <a:pt x="620" y="43"/>
                  </a:lnTo>
                  <a:lnTo>
                    <a:pt x="616" y="54"/>
                  </a:lnTo>
                  <a:lnTo>
                    <a:pt x="616" y="65"/>
                  </a:lnTo>
                  <a:lnTo>
                    <a:pt x="616" y="76"/>
                  </a:lnTo>
                  <a:lnTo>
                    <a:pt x="620" y="83"/>
                  </a:lnTo>
                  <a:lnTo>
                    <a:pt x="623" y="94"/>
                  </a:lnTo>
                  <a:lnTo>
                    <a:pt x="627" y="105"/>
                  </a:lnTo>
                  <a:lnTo>
                    <a:pt x="634" y="116"/>
                  </a:lnTo>
                  <a:lnTo>
                    <a:pt x="641" y="123"/>
                  </a:lnTo>
                  <a:lnTo>
                    <a:pt x="652" y="130"/>
                  </a:lnTo>
                  <a:lnTo>
                    <a:pt x="656" y="141"/>
                  </a:lnTo>
                  <a:lnTo>
                    <a:pt x="663" y="156"/>
                  </a:lnTo>
                  <a:lnTo>
                    <a:pt x="667" y="163"/>
                  </a:lnTo>
                  <a:lnTo>
                    <a:pt x="667" y="177"/>
                  </a:lnTo>
                  <a:lnTo>
                    <a:pt x="667" y="188"/>
                  </a:lnTo>
                  <a:lnTo>
                    <a:pt x="667" y="199"/>
                  </a:lnTo>
                  <a:lnTo>
                    <a:pt x="659" y="206"/>
                  </a:lnTo>
                  <a:lnTo>
                    <a:pt x="656" y="217"/>
                  </a:lnTo>
                  <a:lnTo>
                    <a:pt x="649" y="228"/>
                  </a:lnTo>
                  <a:lnTo>
                    <a:pt x="641" y="235"/>
                  </a:lnTo>
                  <a:lnTo>
                    <a:pt x="630" y="243"/>
                  </a:lnTo>
                  <a:lnTo>
                    <a:pt x="620" y="250"/>
                  </a:lnTo>
                  <a:lnTo>
                    <a:pt x="605" y="253"/>
                  </a:lnTo>
                  <a:lnTo>
                    <a:pt x="591" y="257"/>
                  </a:lnTo>
                  <a:lnTo>
                    <a:pt x="576" y="261"/>
                  </a:lnTo>
                  <a:lnTo>
                    <a:pt x="569" y="261"/>
                  </a:lnTo>
                  <a:lnTo>
                    <a:pt x="562" y="261"/>
                  </a:lnTo>
                  <a:lnTo>
                    <a:pt x="554" y="257"/>
                  </a:lnTo>
                  <a:lnTo>
                    <a:pt x="547" y="257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29" y="246"/>
                  </a:lnTo>
                  <a:lnTo>
                    <a:pt x="522" y="243"/>
                  </a:lnTo>
                  <a:lnTo>
                    <a:pt x="511" y="235"/>
                  </a:lnTo>
                  <a:lnTo>
                    <a:pt x="503" y="228"/>
                  </a:lnTo>
                  <a:lnTo>
                    <a:pt x="496" y="217"/>
                  </a:lnTo>
                  <a:lnTo>
                    <a:pt x="493" y="206"/>
                  </a:lnTo>
                  <a:lnTo>
                    <a:pt x="489" y="195"/>
                  </a:lnTo>
                  <a:lnTo>
                    <a:pt x="489" y="181"/>
                  </a:lnTo>
                  <a:lnTo>
                    <a:pt x="485" y="170"/>
                  </a:lnTo>
                  <a:lnTo>
                    <a:pt x="489" y="159"/>
                  </a:lnTo>
                  <a:lnTo>
                    <a:pt x="489" y="145"/>
                  </a:lnTo>
                  <a:lnTo>
                    <a:pt x="496" y="137"/>
                  </a:lnTo>
                  <a:lnTo>
                    <a:pt x="500" y="127"/>
                  </a:lnTo>
                  <a:lnTo>
                    <a:pt x="507" y="119"/>
                  </a:lnTo>
                  <a:lnTo>
                    <a:pt x="514" y="112"/>
                  </a:lnTo>
                  <a:lnTo>
                    <a:pt x="518" y="105"/>
                  </a:lnTo>
                  <a:lnTo>
                    <a:pt x="522" y="98"/>
                  </a:lnTo>
                  <a:lnTo>
                    <a:pt x="525" y="90"/>
                  </a:lnTo>
                  <a:lnTo>
                    <a:pt x="529" y="83"/>
                  </a:lnTo>
                  <a:lnTo>
                    <a:pt x="529" y="76"/>
                  </a:lnTo>
                  <a:lnTo>
                    <a:pt x="529" y="68"/>
                  </a:lnTo>
                  <a:lnTo>
                    <a:pt x="525" y="61"/>
                  </a:lnTo>
                  <a:lnTo>
                    <a:pt x="522" y="54"/>
                  </a:lnTo>
                  <a:lnTo>
                    <a:pt x="518" y="47"/>
                  </a:lnTo>
                  <a:lnTo>
                    <a:pt x="511" y="39"/>
                  </a:lnTo>
                  <a:lnTo>
                    <a:pt x="500" y="36"/>
                  </a:lnTo>
                  <a:lnTo>
                    <a:pt x="489" y="29"/>
                  </a:lnTo>
                  <a:lnTo>
                    <a:pt x="478" y="25"/>
                  </a:lnTo>
                  <a:lnTo>
                    <a:pt x="464" y="18"/>
                  </a:lnTo>
                  <a:lnTo>
                    <a:pt x="445" y="14"/>
                  </a:lnTo>
                  <a:lnTo>
                    <a:pt x="427" y="14"/>
                  </a:lnTo>
                  <a:lnTo>
                    <a:pt x="402" y="10"/>
                  </a:lnTo>
                  <a:lnTo>
                    <a:pt x="373" y="10"/>
                  </a:lnTo>
                  <a:lnTo>
                    <a:pt x="344" y="14"/>
                  </a:lnTo>
                  <a:lnTo>
                    <a:pt x="311" y="14"/>
                  </a:lnTo>
                  <a:lnTo>
                    <a:pt x="282" y="18"/>
                  </a:lnTo>
                  <a:lnTo>
                    <a:pt x="257" y="21"/>
                  </a:lnTo>
                  <a:lnTo>
                    <a:pt x="239" y="25"/>
                  </a:lnTo>
                  <a:lnTo>
                    <a:pt x="242" y="47"/>
                  </a:lnTo>
                  <a:lnTo>
                    <a:pt x="253" y="72"/>
                  </a:lnTo>
                  <a:lnTo>
                    <a:pt x="261" y="105"/>
                  </a:lnTo>
                  <a:lnTo>
                    <a:pt x="268" y="137"/>
                  </a:lnTo>
                  <a:lnTo>
                    <a:pt x="268" y="152"/>
                  </a:lnTo>
                  <a:lnTo>
                    <a:pt x="271" y="170"/>
                  </a:lnTo>
                  <a:lnTo>
                    <a:pt x="271" y="185"/>
                  </a:lnTo>
                  <a:lnTo>
                    <a:pt x="271" y="199"/>
                  </a:lnTo>
                  <a:lnTo>
                    <a:pt x="271" y="210"/>
                  </a:lnTo>
                  <a:lnTo>
                    <a:pt x="268" y="221"/>
                  </a:lnTo>
                  <a:lnTo>
                    <a:pt x="264" y="224"/>
                  </a:lnTo>
                  <a:lnTo>
                    <a:pt x="264" y="232"/>
                  </a:lnTo>
                  <a:lnTo>
                    <a:pt x="261" y="235"/>
                  </a:lnTo>
                  <a:lnTo>
                    <a:pt x="257" y="235"/>
                  </a:lnTo>
                  <a:lnTo>
                    <a:pt x="253" y="243"/>
                  </a:lnTo>
                  <a:lnTo>
                    <a:pt x="242" y="246"/>
                  </a:lnTo>
                  <a:lnTo>
                    <a:pt x="239" y="250"/>
                  </a:lnTo>
                  <a:lnTo>
                    <a:pt x="228" y="253"/>
                  </a:lnTo>
                  <a:lnTo>
                    <a:pt x="221" y="257"/>
                  </a:lnTo>
                  <a:lnTo>
                    <a:pt x="213" y="257"/>
                  </a:lnTo>
                  <a:lnTo>
                    <a:pt x="206" y="257"/>
                  </a:lnTo>
                  <a:lnTo>
                    <a:pt x="199" y="257"/>
                  </a:lnTo>
                  <a:lnTo>
                    <a:pt x="192" y="257"/>
                  </a:lnTo>
                  <a:lnTo>
                    <a:pt x="184" y="257"/>
                  </a:lnTo>
                  <a:lnTo>
                    <a:pt x="177" y="253"/>
                  </a:lnTo>
                  <a:lnTo>
                    <a:pt x="170" y="253"/>
                  </a:lnTo>
                  <a:lnTo>
                    <a:pt x="163" y="250"/>
                  </a:lnTo>
                  <a:lnTo>
                    <a:pt x="155" y="246"/>
                  </a:lnTo>
                  <a:lnTo>
                    <a:pt x="152" y="243"/>
                  </a:lnTo>
                  <a:lnTo>
                    <a:pt x="148" y="235"/>
                  </a:lnTo>
                  <a:lnTo>
                    <a:pt x="141" y="232"/>
                  </a:lnTo>
                  <a:lnTo>
                    <a:pt x="130" y="224"/>
                  </a:lnTo>
                  <a:lnTo>
                    <a:pt x="119" y="221"/>
                  </a:lnTo>
                  <a:lnTo>
                    <a:pt x="108" y="217"/>
                  </a:lnTo>
                  <a:lnTo>
                    <a:pt x="97" y="217"/>
                  </a:lnTo>
                  <a:lnTo>
                    <a:pt x="87" y="217"/>
                  </a:lnTo>
                  <a:lnTo>
                    <a:pt x="72" y="217"/>
                  </a:lnTo>
                  <a:lnTo>
                    <a:pt x="61" y="221"/>
                  </a:lnTo>
                  <a:lnTo>
                    <a:pt x="50" y="224"/>
                  </a:lnTo>
                  <a:lnTo>
                    <a:pt x="39" y="232"/>
                  </a:lnTo>
                  <a:lnTo>
                    <a:pt x="29" y="243"/>
                  </a:lnTo>
                  <a:lnTo>
                    <a:pt x="18" y="250"/>
                  </a:lnTo>
                  <a:lnTo>
                    <a:pt x="14" y="257"/>
                  </a:lnTo>
                  <a:lnTo>
                    <a:pt x="10" y="261"/>
                  </a:lnTo>
                  <a:lnTo>
                    <a:pt x="10" y="268"/>
                  </a:lnTo>
                  <a:lnTo>
                    <a:pt x="7" y="275"/>
                  </a:lnTo>
                  <a:lnTo>
                    <a:pt x="3" y="282"/>
                  </a:lnTo>
                  <a:lnTo>
                    <a:pt x="3" y="290"/>
                  </a:lnTo>
                  <a:lnTo>
                    <a:pt x="0" y="301"/>
                  </a:lnTo>
                  <a:lnTo>
                    <a:pt x="0" y="308"/>
                  </a:lnTo>
                  <a:lnTo>
                    <a:pt x="0" y="315"/>
                  </a:lnTo>
                  <a:lnTo>
                    <a:pt x="3" y="322"/>
                  </a:lnTo>
                  <a:lnTo>
                    <a:pt x="3" y="330"/>
                  </a:lnTo>
                  <a:lnTo>
                    <a:pt x="7" y="333"/>
                  </a:lnTo>
                  <a:lnTo>
                    <a:pt x="7" y="341"/>
                  </a:lnTo>
                  <a:lnTo>
                    <a:pt x="10" y="344"/>
                  </a:lnTo>
                  <a:lnTo>
                    <a:pt x="14" y="351"/>
                  </a:lnTo>
                  <a:lnTo>
                    <a:pt x="18" y="355"/>
                  </a:lnTo>
                  <a:lnTo>
                    <a:pt x="25" y="366"/>
                  </a:lnTo>
                  <a:lnTo>
                    <a:pt x="36" y="373"/>
                  </a:lnTo>
                  <a:lnTo>
                    <a:pt x="47" y="377"/>
                  </a:lnTo>
                  <a:lnTo>
                    <a:pt x="58" y="380"/>
                  </a:lnTo>
                  <a:lnTo>
                    <a:pt x="68" y="384"/>
                  </a:lnTo>
                  <a:lnTo>
                    <a:pt x="79" y="388"/>
                  </a:lnTo>
                  <a:lnTo>
                    <a:pt x="94" y="388"/>
                  </a:lnTo>
                  <a:lnTo>
                    <a:pt x="105" y="388"/>
                  </a:lnTo>
                  <a:lnTo>
                    <a:pt x="112" y="384"/>
                  </a:lnTo>
                  <a:lnTo>
                    <a:pt x="123" y="380"/>
                  </a:lnTo>
                  <a:lnTo>
                    <a:pt x="130" y="377"/>
                  </a:lnTo>
                  <a:lnTo>
                    <a:pt x="134" y="370"/>
                  </a:lnTo>
                  <a:lnTo>
                    <a:pt x="141" y="366"/>
                  </a:lnTo>
                  <a:lnTo>
                    <a:pt x="148" y="362"/>
                  </a:lnTo>
                  <a:lnTo>
                    <a:pt x="155" y="359"/>
                  </a:lnTo>
                  <a:lnTo>
                    <a:pt x="163" y="355"/>
                  </a:lnTo>
                  <a:lnTo>
                    <a:pt x="170" y="355"/>
                  </a:lnTo>
                  <a:lnTo>
                    <a:pt x="181" y="355"/>
                  </a:lnTo>
                  <a:lnTo>
                    <a:pt x="188" y="359"/>
                  </a:lnTo>
                  <a:lnTo>
                    <a:pt x="195" y="359"/>
                  </a:lnTo>
                  <a:lnTo>
                    <a:pt x="206" y="362"/>
                  </a:lnTo>
                  <a:lnTo>
                    <a:pt x="213" y="366"/>
                  </a:lnTo>
                  <a:lnTo>
                    <a:pt x="217" y="370"/>
                  </a:lnTo>
                  <a:lnTo>
                    <a:pt x="224" y="377"/>
                  </a:lnTo>
                  <a:lnTo>
                    <a:pt x="228" y="384"/>
                  </a:lnTo>
                  <a:lnTo>
                    <a:pt x="235" y="388"/>
                  </a:lnTo>
                  <a:lnTo>
                    <a:pt x="235" y="395"/>
                  </a:lnTo>
                  <a:lnTo>
                    <a:pt x="239" y="402"/>
                  </a:lnTo>
                  <a:lnTo>
                    <a:pt x="235" y="420"/>
                  </a:lnTo>
                  <a:lnTo>
                    <a:pt x="235" y="442"/>
                  </a:lnTo>
                  <a:lnTo>
                    <a:pt x="232" y="467"/>
                  </a:lnTo>
                  <a:lnTo>
                    <a:pt x="232" y="497"/>
                  </a:lnTo>
                  <a:lnTo>
                    <a:pt x="228" y="529"/>
                  </a:lnTo>
                  <a:lnTo>
                    <a:pt x="228" y="558"/>
                  </a:lnTo>
                  <a:lnTo>
                    <a:pt x="232" y="573"/>
                  </a:lnTo>
                  <a:lnTo>
                    <a:pt x="232" y="587"/>
                  </a:lnTo>
                  <a:lnTo>
                    <a:pt x="235" y="598"/>
                  </a:lnTo>
                  <a:lnTo>
                    <a:pt x="239" y="613"/>
                  </a:lnTo>
                  <a:lnTo>
                    <a:pt x="242" y="616"/>
                  </a:lnTo>
                  <a:lnTo>
                    <a:pt x="253" y="616"/>
                  </a:lnTo>
                  <a:lnTo>
                    <a:pt x="264" y="620"/>
                  </a:lnTo>
                  <a:lnTo>
                    <a:pt x="275" y="620"/>
                  </a:lnTo>
                  <a:lnTo>
                    <a:pt x="304" y="620"/>
                  </a:lnTo>
                  <a:lnTo>
                    <a:pt x="333" y="620"/>
                  </a:lnTo>
                  <a:lnTo>
                    <a:pt x="369" y="616"/>
                  </a:lnTo>
                  <a:lnTo>
                    <a:pt x="402" y="616"/>
                  </a:lnTo>
                  <a:lnTo>
                    <a:pt x="438" y="613"/>
                  </a:lnTo>
                  <a:lnTo>
                    <a:pt x="471" y="613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519200" y="673200"/>
              <a:ext cx="2168280" cy="1298160"/>
            </a:xfrm>
            <a:custGeom>
              <a:avLst/>
              <a:gdLst/>
              <a:ahLst/>
              <a:rect l="l" t="t" r="r" b="b"/>
              <a:pathLst>
                <a:path w="1102" h="649">
                  <a:moveTo>
                    <a:pt x="482" y="624"/>
                  </a:moveTo>
                  <a:lnTo>
                    <a:pt x="486" y="624"/>
                  </a:lnTo>
                  <a:lnTo>
                    <a:pt x="486" y="624"/>
                  </a:lnTo>
                  <a:lnTo>
                    <a:pt x="497" y="620"/>
                  </a:lnTo>
                  <a:lnTo>
                    <a:pt x="493" y="613"/>
                  </a:lnTo>
                  <a:lnTo>
                    <a:pt x="493" y="620"/>
                  </a:lnTo>
                  <a:lnTo>
                    <a:pt x="497" y="620"/>
                  </a:lnTo>
                  <a:lnTo>
                    <a:pt x="500" y="620"/>
                  </a:lnTo>
                  <a:lnTo>
                    <a:pt x="500" y="620"/>
                  </a:lnTo>
                  <a:lnTo>
                    <a:pt x="507" y="617"/>
                  </a:lnTo>
                  <a:lnTo>
                    <a:pt x="507" y="613"/>
                  </a:lnTo>
                  <a:lnTo>
                    <a:pt x="511" y="613"/>
                  </a:lnTo>
                  <a:lnTo>
                    <a:pt x="515" y="606"/>
                  </a:lnTo>
                  <a:lnTo>
                    <a:pt x="507" y="602"/>
                  </a:lnTo>
                  <a:lnTo>
                    <a:pt x="511" y="606"/>
                  </a:lnTo>
                  <a:lnTo>
                    <a:pt x="515" y="602"/>
                  </a:lnTo>
                  <a:lnTo>
                    <a:pt x="518" y="602"/>
                  </a:lnTo>
                  <a:lnTo>
                    <a:pt x="518" y="598"/>
                  </a:lnTo>
                  <a:lnTo>
                    <a:pt x="518" y="595"/>
                  </a:lnTo>
                  <a:lnTo>
                    <a:pt x="511" y="595"/>
                  </a:lnTo>
                  <a:lnTo>
                    <a:pt x="518" y="598"/>
                  </a:lnTo>
                  <a:lnTo>
                    <a:pt x="522" y="591"/>
                  </a:lnTo>
                  <a:lnTo>
                    <a:pt x="522" y="591"/>
                  </a:lnTo>
                  <a:lnTo>
                    <a:pt x="522" y="588"/>
                  </a:lnTo>
                  <a:lnTo>
                    <a:pt x="522" y="580"/>
                  </a:lnTo>
                  <a:lnTo>
                    <a:pt x="522" y="580"/>
                  </a:lnTo>
                  <a:lnTo>
                    <a:pt x="522" y="580"/>
                  </a:lnTo>
                  <a:lnTo>
                    <a:pt x="518" y="573"/>
                  </a:lnTo>
                  <a:lnTo>
                    <a:pt x="511" y="573"/>
                  </a:lnTo>
                  <a:lnTo>
                    <a:pt x="518" y="573"/>
                  </a:lnTo>
                  <a:lnTo>
                    <a:pt x="518" y="566"/>
                  </a:lnTo>
                  <a:lnTo>
                    <a:pt x="518" y="566"/>
                  </a:lnTo>
                  <a:lnTo>
                    <a:pt x="518" y="566"/>
                  </a:lnTo>
                  <a:lnTo>
                    <a:pt x="515" y="559"/>
                  </a:lnTo>
                  <a:lnTo>
                    <a:pt x="515" y="559"/>
                  </a:lnTo>
                  <a:lnTo>
                    <a:pt x="511" y="555"/>
                  </a:lnTo>
                  <a:lnTo>
                    <a:pt x="504" y="548"/>
                  </a:lnTo>
                  <a:lnTo>
                    <a:pt x="500" y="551"/>
                  </a:lnTo>
                  <a:lnTo>
                    <a:pt x="507" y="551"/>
                  </a:lnTo>
                  <a:lnTo>
                    <a:pt x="504" y="540"/>
                  </a:lnTo>
                  <a:lnTo>
                    <a:pt x="504" y="540"/>
                  </a:lnTo>
                  <a:lnTo>
                    <a:pt x="500" y="537"/>
                  </a:lnTo>
                  <a:lnTo>
                    <a:pt x="493" y="530"/>
                  </a:lnTo>
                  <a:lnTo>
                    <a:pt x="489" y="533"/>
                  </a:lnTo>
                  <a:lnTo>
                    <a:pt x="497" y="533"/>
                  </a:lnTo>
                  <a:lnTo>
                    <a:pt x="489" y="522"/>
                  </a:lnTo>
                  <a:lnTo>
                    <a:pt x="486" y="519"/>
                  </a:lnTo>
                  <a:lnTo>
                    <a:pt x="486" y="519"/>
                  </a:lnTo>
                  <a:lnTo>
                    <a:pt x="478" y="515"/>
                  </a:lnTo>
                  <a:lnTo>
                    <a:pt x="475" y="519"/>
                  </a:lnTo>
                  <a:lnTo>
                    <a:pt x="482" y="519"/>
                  </a:lnTo>
                  <a:lnTo>
                    <a:pt x="478" y="511"/>
                  </a:lnTo>
                  <a:lnTo>
                    <a:pt x="471" y="511"/>
                  </a:lnTo>
                  <a:lnTo>
                    <a:pt x="478" y="511"/>
                  </a:lnTo>
                  <a:lnTo>
                    <a:pt x="478" y="508"/>
                  </a:lnTo>
                  <a:lnTo>
                    <a:pt x="478" y="508"/>
                  </a:lnTo>
                  <a:lnTo>
                    <a:pt x="478" y="508"/>
                  </a:lnTo>
                  <a:lnTo>
                    <a:pt x="475" y="501"/>
                  </a:lnTo>
                  <a:lnTo>
                    <a:pt x="471" y="490"/>
                  </a:lnTo>
                  <a:lnTo>
                    <a:pt x="468" y="479"/>
                  </a:lnTo>
                  <a:lnTo>
                    <a:pt x="460" y="479"/>
                  </a:lnTo>
                  <a:lnTo>
                    <a:pt x="468" y="479"/>
                  </a:lnTo>
                  <a:lnTo>
                    <a:pt x="468" y="468"/>
                  </a:lnTo>
                  <a:lnTo>
                    <a:pt x="460" y="468"/>
                  </a:lnTo>
                  <a:lnTo>
                    <a:pt x="468" y="471"/>
                  </a:lnTo>
                  <a:lnTo>
                    <a:pt x="471" y="457"/>
                  </a:lnTo>
                  <a:lnTo>
                    <a:pt x="475" y="446"/>
                  </a:lnTo>
                  <a:lnTo>
                    <a:pt x="482" y="435"/>
                  </a:lnTo>
                  <a:lnTo>
                    <a:pt x="489" y="424"/>
                  </a:lnTo>
                  <a:lnTo>
                    <a:pt x="482" y="421"/>
                  </a:lnTo>
                  <a:lnTo>
                    <a:pt x="486" y="424"/>
                  </a:lnTo>
                  <a:lnTo>
                    <a:pt x="493" y="417"/>
                  </a:lnTo>
                  <a:lnTo>
                    <a:pt x="504" y="406"/>
                  </a:lnTo>
                  <a:lnTo>
                    <a:pt x="500" y="403"/>
                  </a:lnTo>
                  <a:lnTo>
                    <a:pt x="504" y="410"/>
                  </a:lnTo>
                  <a:lnTo>
                    <a:pt x="515" y="403"/>
                  </a:lnTo>
                  <a:lnTo>
                    <a:pt x="526" y="399"/>
                  </a:lnTo>
                  <a:lnTo>
                    <a:pt x="540" y="392"/>
                  </a:lnTo>
                  <a:lnTo>
                    <a:pt x="551" y="388"/>
                  </a:lnTo>
                  <a:lnTo>
                    <a:pt x="547" y="381"/>
                  </a:lnTo>
                  <a:lnTo>
                    <a:pt x="547" y="388"/>
                  </a:lnTo>
                  <a:lnTo>
                    <a:pt x="562" y="388"/>
                  </a:lnTo>
                  <a:lnTo>
                    <a:pt x="576" y="388"/>
                  </a:lnTo>
                  <a:lnTo>
                    <a:pt x="576" y="381"/>
                  </a:lnTo>
                  <a:lnTo>
                    <a:pt x="576" y="388"/>
                  </a:lnTo>
                  <a:lnTo>
                    <a:pt x="587" y="392"/>
                  </a:lnTo>
                  <a:lnTo>
                    <a:pt x="602" y="399"/>
                  </a:lnTo>
                  <a:lnTo>
                    <a:pt x="609" y="403"/>
                  </a:lnTo>
                  <a:lnTo>
                    <a:pt x="609" y="395"/>
                  </a:lnTo>
                  <a:lnTo>
                    <a:pt x="605" y="399"/>
                  </a:lnTo>
                  <a:lnTo>
                    <a:pt x="616" y="410"/>
                  </a:lnTo>
                  <a:lnTo>
                    <a:pt x="624" y="417"/>
                  </a:lnTo>
                  <a:lnTo>
                    <a:pt x="631" y="424"/>
                  </a:lnTo>
                  <a:lnTo>
                    <a:pt x="634" y="421"/>
                  </a:lnTo>
                  <a:lnTo>
                    <a:pt x="631" y="424"/>
                  </a:lnTo>
                  <a:lnTo>
                    <a:pt x="638" y="435"/>
                  </a:lnTo>
                  <a:lnTo>
                    <a:pt x="642" y="450"/>
                  </a:lnTo>
                  <a:lnTo>
                    <a:pt x="645" y="461"/>
                  </a:lnTo>
                  <a:lnTo>
                    <a:pt x="649" y="471"/>
                  </a:lnTo>
                  <a:lnTo>
                    <a:pt x="653" y="468"/>
                  </a:lnTo>
                  <a:lnTo>
                    <a:pt x="649" y="468"/>
                  </a:lnTo>
                  <a:lnTo>
                    <a:pt x="649" y="479"/>
                  </a:lnTo>
                  <a:lnTo>
                    <a:pt x="653" y="479"/>
                  </a:lnTo>
                  <a:lnTo>
                    <a:pt x="649" y="479"/>
                  </a:lnTo>
                  <a:lnTo>
                    <a:pt x="645" y="490"/>
                  </a:lnTo>
                  <a:lnTo>
                    <a:pt x="642" y="501"/>
                  </a:lnTo>
                  <a:lnTo>
                    <a:pt x="638" y="511"/>
                  </a:lnTo>
                  <a:lnTo>
                    <a:pt x="642" y="511"/>
                  </a:lnTo>
                  <a:lnTo>
                    <a:pt x="638" y="508"/>
                  </a:lnTo>
                  <a:lnTo>
                    <a:pt x="631" y="515"/>
                  </a:lnTo>
                  <a:lnTo>
                    <a:pt x="616" y="530"/>
                  </a:lnTo>
                  <a:lnTo>
                    <a:pt x="602" y="544"/>
                  </a:lnTo>
                  <a:lnTo>
                    <a:pt x="602" y="548"/>
                  </a:lnTo>
                  <a:lnTo>
                    <a:pt x="602" y="548"/>
                  </a:lnTo>
                  <a:lnTo>
                    <a:pt x="598" y="555"/>
                  </a:lnTo>
                  <a:lnTo>
                    <a:pt x="595" y="562"/>
                  </a:lnTo>
                  <a:lnTo>
                    <a:pt x="598" y="562"/>
                  </a:lnTo>
                  <a:lnTo>
                    <a:pt x="595" y="559"/>
                  </a:lnTo>
                  <a:lnTo>
                    <a:pt x="591" y="562"/>
                  </a:lnTo>
                  <a:lnTo>
                    <a:pt x="591" y="566"/>
                  </a:lnTo>
                  <a:lnTo>
                    <a:pt x="591" y="566"/>
                  </a:lnTo>
                  <a:lnTo>
                    <a:pt x="587" y="573"/>
                  </a:lnTo>
                  <a:lnTo>
                    <a:pt x="587" y="573"/>
                  </a:lnTo>
                  <a:lnTo>
                    <a:pt x="587" y="573"/>
                  </a:lnTo>
                  <a:lnTo>
                    <a:pt x="587" y="580"/>
                  </a:lnTo>
                  <a:lnTo>
                    <a:pt x="587" y="584"/>
                  </a:lnTo>
                  <a:lnTo>
                    <a:pt x="587" y="591"/>
                  </a:lnTo>
                  <a:lnTo>
                    <a:pt x="587" y="595"/>
                  </a:lnTo>
                  <a:lnTo>
                    <a:pt x="587" y="598"/>
                  </a:lnTo>
                  <a:lnTo>
                    <a:pt x="587" y="598"/>
                  </a:lnTo>
                  <a:lnTo>
                    <a:pt x="591" y="602"/>
                  </a:lnTo>
                  <a:lnTo>
                    <a:pt x="595" y="598"/>
                  </a:lnTo>
                  <a:lnTo>
                    <a:pt x="591" y="602"/>
                  </a:lnTo>
                  <a:lnTo>
                    <a:pt x="595" y="609"/>
                  </a:lnTo>
                  <a:lnTo>
                    <a:pt x="595" y="609"/>
                  </a:lnTo>
                  <a:lnTo>
                    <a:pt x="595" y="609"/>
                  </a:lnTo>
                  <a:lnTo>
                    <a:pt x="598" y="613"/>
                  </a:lnTo>
                  <a:lnTo>
                    <a:pt x="605" y="620"/>
                  </a:lnTo>
                  <a:lnTo>
                    <a:pt x="609" y="624"/>
                  </a:lnTo>
                  <a:lnTo>
                    <a:pt x="609" y="624"/>
                  </a:lnTo>
                  <a:lnTo>
                    <a:pt x="620" y="627"/>
                  </a:lnTo>
                  <a:lnTo>
                    <a:pt x="620" y="620"/>
                  </a:lnTo>
                  <a:lnTo>
                    <a:pt x="616" y="624"/>
                  </a:lnTo>
                  <a:lnTo>
                    <a:pt x="624" y="631"/>
                  </a:lnTo>
                  <a:lnTo>
                    <a:pt x="624" y="631"/>
                  </a:lnTo>
                  <a:lnTo>
                    <a:pt x="627" y="635"/>
                  </a:lnTo>
                  <a:lnTo>
                    <a:pt x="642" y="638"/>
                  </a:lnTo>
                  <a:lnTo>
                    <a:pt x="656" y="642"/>
                  </a:lnTo>
                  <a:lnTo>
                    <a:pt x="674" y="646"/>
                  </a:lnTo>
                  <a:lnTo>
                    <a:pt x="689" y="646"/>
                  </a:lnTo>
                  <a:lnTo>
                    <a:pt x="707" y="649"/>
                  </a:lnTo>
                  <a:lnTo>
                    <a:pt x="725" y="649"/>
                  </a:lnTo>
                  <a:lnTo>
                    <a:pt x="743" y="649"/>
                  </a:lnTo>
                  <a:lnTo>
                    <a:pt x="761" y="649"/>
                  </a:lnTo>
                  <a:lnTo>
                    <a:pt x="783" y="646"/>
                  </a:lnTo>
                  <a:lnTo>
                    <a:pt x="798" y="646"/>
                  </a:lnTo>
                  <a:lnTo>
                    <a:pt x="816" y="642"/>
                  </a:lnTo>
                  <a:lnTo>
                    <a:pt x="834" y="638"/>
                  </a:lnTo>
                  <a:lnTo>
                    <a:pt x="837" y="635"/>
                  </a:lnTo>
                  <a:lnTo>
                    <a:pt x="837" y="638"/>
                  </a:lnTo>
                  <a:lnTo>
                    <a:pt x="848" y="631"/>
                  </a:lnTo>
                  <a:lnTo>
                    <a:pt x="863" y="624"/>
                  </a:lnTo>
                  <a:lnTo>
                    <a:pt x="863" y="620"/>
                  </a:lnTo>
                  <a:lnTo>
                    <a:pt x="866" y="620"/>
                  </a:lnTo>
                  <a:lnTo>
                    <a:pt x="870" y="613"/>
                  </a:lnTo>
                  <a:lnTo>
                    <a:pt x="870" y="613"/>
                  </a:lnTo>
                  <a:lnTo>
                    <a:pt x="870" y="609"/>
                  </a:lnTo>
                  <a:lnTo>
                    <a:pt x="870" y="602"/>
                  </a:lnTo>
                  <a:lnTo>
                    <a:pt x="863" y="602"/>
                  </a:lnTo>
                  <a:lnTo>
                    <a:pt x="866" y="606"/>
                  </a:lnTo>
                  <a:lnTo>
                    <a:pt x="870" y="602"/>
                  </a:lnTo>
                  <a:lnTo>
                    <a:pt x="874" y="602"/>
                  </a:lnTo>
                  <a:lnTo>
                    <a:pt x="874" y="598"/>
                  </a:lnTo>
                  <a:lnTo>
                    <a:pt x="874" y="591"/>
                  </a:lnTo>
                  <a:lnTo>
                    <a:pt x="874" y="577"/>
                  </a:lnTo>
                  <a:lnTo>
                    <a:pt x="874" y="562"/>
                  </a:lnTo>
                  <a:lnTo>
                    <a:pt x="874" y="544"/>
                  </a:lnTo>
                  <a:lnTo>
                    <a:pt x="874" y="526"/>
                  </a:lnTo>
                  <a:lnTo>
                    <a:pt x="874" y="526"/>
                  </a:lnTo>
                  <a:lnTo>
                    <a:pt x="874" y="526"/>
                  </a:lnTo>
                  <a:lnTo>
                    <a:pt x="870" y="511"/>
                  </a:lnTo>
                  <a:lnTo>
                    <a:pt x="863" y="511"/>
                  </a:lnTo>
                  <a:lnTo>
                    <a:pt x="870" y="511"/>
                  </a:lnTo>
                  <a:lnTo>
                    <a:pt x="866" y="493"/>
                  </a:lnTo>
                  <a:lnTo>
                    <a:pt x="863" y="475"/>
                  </a:lnTo>
                  <a:lnTo>
                    <a:pt x="866" y="493"/>
                  </a:lnTo>
                  <a:lnTo>
                    <a:pt x="859" y="461"/>
                  </a:lnTo>
                  <a:lnTo>
                    <a:pt x="852" y="428"/>
                  </a:lnTo>
                  <a:lnTo>
                    <a:pt x="845" y="428"/>
                  </a:lnTo>
                  <a:lnTo>
                    <a:pt x="852" y="428"/>
                  </a:lnTo>
                  <a:lnTo>
                    <a:pt x="852" y="413"/>
                  </a:lnTo>
                  <a:lnTo>
                    <a:pt x="852" y="399"/>
                  </a:lnTo>
                  <a:lnTo>
                    <a:pt x="852" y="388"/>
                  </a:lnTo>
                  <a:lnTo>
                    <a:pt x="845" y="388"/>
                  </a:lnTo>
                  <a:lnTo>
                    <a:pt x="852" y="392"/>
                  </a:lnTo>
                  <a:lnTo>
                    <a:pt x="856" y="381"/>
                  </a:lnTo>
                  <a:lnTo>
                    <a:pt x="859" y="374"/>
                  </a:lnTo>
                  <a:lnTo>
                    <a:pt x="863" y="363"/>
                  </a:lnTo>
                  <a:lnTo>
                    <a:pt x="856" y="359"/>
                  </a:lnTo>
                  <a:lnTo>
                    <a:pt x="859" y="363"/>
                  </a:lnTo>
                  <a:lnTo>
                    <a:pt x="866" y="355"/>
                  </a:lnTo>
                  <a:lnTo>
                    <a:pt x="863" y="352"/>
                  </a:lnTo>
                  <a:lnTo>
                    <a:pt x="866" y="359"/>
                  </a:lnTo>
                  <a:lnTo>
                    <a:pt x="874" y="355"/>
                  </a:lnTo>
                  <a:lnTo>
                    <a:pt x="874" y="355"/>
                  </a:lnTo>
                  <a:lnTo>
                    <a:pt x="874" y="352"/>
                  </a:lnTo>
                  <a:lnTo>
                    <a:pt x="881" y="345"/>
                  </a:lnTo>
                  <a:lnTo>
                    <a:pt x="888" y="337"/>
                  </a:lnTo>
                  <a:lnTo>
                    <a:pt x="885" y="334"/>
                  </a:lnTo>
                  <a:lnTo>
                    <a:pt x="888" y="341"/>
                  </a:lnTo>
                  <a:lnTo>
                    <a:pt x="899" y="337"/>
                  </a:lnTo>
                  <a:lnTo>
                    <a:pt x="906" y="334"/>
                  </a:lnTo>
                  <a:lnTo>
                    <a:pt x="903" y="326"/>
                  </a:lnTo>
                  <a:lnTo>
                    <a:pt x="903" y="334"/>
                  </a:lnTo>
                  <a:lnTo>
                    <a:pt x="910" y="334"/>
                  </a:lnTo>
                  <a:lnTo>
                    <a:pt x="914" y="334"/>
                  </a:lnTo>
                  <a:lnTo>
                    <a:pt x="914" y="334"/>
                  </a:lnTo>
                  <a:lnTo>
                    <a:pt x="924" y="330"/>
                  </a:lnTo>
                  <a:lnTo>
                    <a:pt x="921" y="323"/>
                  </a:lnTo>
                  <a:lnTo>
                    <a:pt x="921" y="330"/>
                  </a:lnTo>
                  <a:lnTo>
                    <a:pt x="928" y="330"/>
                  </a:lnTo>
                  <a:lnTo>
                    <a:pt x="928" y="323"/>
                  </a:lnTo>
                  <a:lnTo>
                    <a:pt x="928" y="330"/>
                  </a:lnTo>
                  <a:lnTo>
                    <a:pt x="939" y="334"/>
                  </a:lnTo>
                  <a:lnTo>
                    <a:pt x="939" y="334"/>
                  </a:lnTo>
                  <a:lnTo>
                    <a:pt x="939" y="334"/>
                  </a:lnTo>
                  <a:lnTo>
                    <a:pt x="946" y="334"/>
                  </a:lnTo>
                  <a:lnTo>
                    <a:pt x="946" y="326"/>
                  </a:lnTo>
                  <a:lnTo>
                    <a:pt x="943" y="330"/>
                  </a:lnTo>
                  <a:lnTo>
                    <a:pt x="950" y="337"/>
                  </a:lnTo>
                  <a:lnTo>
                    <a:pt x="953" y="341"/>
                  </a:lnTo>
                  <a:lnTo>
                    <a:pt x="953" y="341"/>
                  </a:lnTo>
                  <a:lnTo>
                    <a:pt x="961" y="345"/>
                  </a:lnTo>
                  <a:lnTo>
                    <a:pt x="961" y="337"/>
                  </a:lnTo>
                  <a:lnTo>
                    <a:pt x="957" y="341"/>
                  </a:lnTo>
                  <a:lnTo>
                    <a:pt x="964" y="348"/>
                  </a:lnTo>
                  <a:lnTo>
                    <a:pt x="972" y="355"/>
                  </a:lnTo>
                  <a:lnTo>
                    <a:pt x="975" y="359"/>
                  </a:lnTo>
                  <a:lnTo>
                    <a:pt x="975" y="359"/>
                  </a:lnTo>
                  <a:lnTo>
                    <a:pt x="982" y="363"/>
                  </a:lnTo>
                  <a:lnTo>
                    <a:pt x="982" y="355"/>
                  </a:lnTo>
                  <a:lnTo>
                    <a:pt x="979" y="359"/>
                  </a:lnTo>
                  <a:lnTo>
                    <a:pt x="986" y="366"/>
                  </a:lnTo>
                  <a:lnTo>
                    <a:pt x="990" y="370"/>
                  </a:lnTo>
                  <a:lnTo>
                    <a:pt x="990" y="370"/>
                  </a:lnTo>
                  <a:lnTo>
                    <a:pt x="1001" y="374"/>
                  </a:lnTo>
                  <a:lnTo>
                    <a:pt x="1001" y="374"/>
                  </a:lnTo>
                  <a:lnTo>
                    <a:pt x="1001" y="374"/>
                  </a:lnTo>
                  <a:lnTo>
                    <a:pt x="1011" y="374"/>
                  </a:lnTo>
                  <a:lnTo>
                    <a:pt x="1022" y="374"/>
                  </a:lnTo>
                  <a:lnTo>
                    <a:pt x="1022" y="374"/>
                  </a:lnTo>
                  <a:lnTo>
                    <a:pt x="1026" y="374"/>
                  </a:lnTo>
                  <a:lnTo>
                    <a:pt x="1037" y="370"/>
                  </a:lnTo>
                  <a:lnTo>
                    <a:pt x="1048" y="366"/>
                  </a:lnTo>
                  <a:lnTo>
                    <a:pt x="1059" y="363"/>
                  </a:lnTo>
                  <a:lnTo>
                    <a:pt x="1059" y="363"/>
                  </a:lnTo>
                  <a:lnTo>
                    <a:pt x="1059" y="359"/>
                  </a:lnTo>
                  <a:lnTo>
                    <a:pt x="1066" y="352"/>
                  </a:lnTo>
                  <a:lnTo>
                    <a:pt x="1062" y="348"/>
                  </a:lnTo>
                  <a:lnTo>
                    <a:pt x="1066" y="355"/>
                  </a:lnTo>
                  <a:lnTo>
                    <a:pt x="1077" y="352"/>
                  </a:lnTo>
                  <a:lnTo>
                    <a:pt x="1077" y="352"/>
                  </a:lnTo>
                  <a:lnTo>
                    <a:pt x="1077" y="348"/>
                  </a:lnTo>
                  <a:lnTo>
                    <a:pt x="1084" y="341"/>
                  </a:lnTo>
                  <a:lnTo>
                    <a:pt x="1088" y="341"/>
                  </a:lnTo>
                  <a:lnTo>
                    <a:pt x="1088" y="341"/>
                  </a:lnTo>
                  <a:lnTo>
                    <a:pt x="1091" y="334"/>
                  </a:lnTo>
                  <a:lnTo>
                    <a:pt x="1098" y="323"/>
                  </a:lnTo>
                  <a:lnTo>
                    <a:pt x="1098" y="323"/>
                  </a:lnTo>
                  <a:lnTo>
                    <a:pt x="1098" y="319"/>
                  </a:lnTo>
                  <a:lnTo>
                    <a:pt x="1098" y="308"/>
                  </a:lnTo>
                  <a:lnTo>
                    <a:pt x="1091" y="308"/>
                  </a:lnTo>
                  <a:lnTo>
                    <a:pt x="1098" y="312"/>
                  </a:lnTo>
                  <a:lnTo>
                    <a:pt x="1102" y="305"/>
                  </a:lnTo>
                  <a:lnTo>
                    <a:pt x="1102" y="301"/>
                  </a:lnTo>
                  <a:lnTo>
                    <a:pt x="1102" y="301"/>
                  </a:lnTo>
                  <a:lnTo>
                    <a:pt x="1098" y="286"/>
                  </a:lnTo>
                  <a:lnTo>
                    <a:pt x="1091" y="286"/>
                  </a:lnTo>
                  <a:lnTo>
                    <a:pt x="1098" y="286"/>
                  </a:lnTo>
                  <a:lnTo>
                    <a:pt x="1098" y="272"/>
                  </a:lnTo>
                  <a:lnTo>
                    <a:pt x="1098" y="272"/>
                  </a:lnTo>
                  <a:lnTo>
                    <a:pt x="1098" y="272"/>
                  </a:lnTo>
                  <a:lnTo>
                    <a:pt x="1091" y="261"/>
                  </a:lnTo>
                  <a:lnTo>
                    <a:pt x="1088" y="250"/>
                  </a:lnTo>
                  <a:lnTo>
                    <a:pt x="1080" y="239"/>
                  </a:lnTo>
                  <a:lnTo>
                    <a:pt x="1077" y="236"/>
                  </a:lnTo>
                  <a:lnTo>
                    <a:pt x="1077" y="236"/>
                  </a:lnTo>
                  <a:lnTo>
                    <a:pt x="1066" y="228"/>
                  </a:lnTo>
                  <a:lnTo>
                    <a:pt x="1059" y="225"/>
                  </a:lnTo>
                  <a:lnTo>
                    <a:pt x="1048" y="218"/>
                  </a:lnTo>
                  <a:lnTo>
                    <a:pt x="1037" y="214"/>
                  </a:lnTo>
                  <a:lnTo>
                    <a:pt x="1026" y="210"/>
                  </a:lnTo>
                  <a:lnTo>
                    <a:pt x="1026" y="210"/>
                  </a:lnTo>
                  <a:lnTo>
                    <a:pt x="1022" y="210"/>
                  </a:lnTo>
                  <a:lnTo>
                    <a:pt x="1011" y="210"/>
                  </a:lnTo>
                  <a:lnTo>
                    <a:pt x="1001" y="210"/>
                  </a:lnTo>
                  <a:lnTo>
                    <a:pt x="1001" y="210"/>
                  </a:lnTo>
                  <a:lnTo>
                    <a:pt x="1001" y="210"/>
                  </a:lnTo>
                  <a:lnTo>
                    <a:pt x="990" y="214"/>
                  </a:lnTo>
                  <a:lnTo>
                    <a:pt x="982" y="218"/>
                  </a:lnTo>
                  <a:lnTo>
                    <a:pt x="975" y="221"/>
                  </a:lnTo>
                  <a:lnTo>
                    <a:pt x="968" y="225"/>
                  </a:lnTo>
                  <a:lnTo>
                    <a:pt x="968" y="225"/>
                  </a:lnTo>
                  <a:lnTo>
                    <a:pt x="964" y="225"/>
                  </a:lnTo>
                  <a:lnTo>
                    <a:pt x="957" y="232"/>
                  </a:lnTo>
                  <a:lnTo>
                    <a:pt x="961" y="236"/>
                  </a:lnTo>
                  <a:lnTo>
                    <a:pt x="961" y="232"/>
                  </a:lnTo>
                  <a:lnTo>
                    <a:pt x="953" y="236"/>
                  </a:lnTo>
                  <a:lnTo>
                    <a:pt x="943" y="239"/>
                  </a:lnTo>
                  <a:lnTo>
                    <a:pt x="935" y="243"/>
                  </a:lnTo>
                  <a:lnTo>
                    <a:pt x="935" y="247"/>
                  </a:lnTo>
                  <a:lnTo>
                    <a:pt x="935" y="243"/>
                  </a:lnTo>
                  <a:lnTo>
                    <a:pt x="924" y="243"/>
                  </a:lnTo>
                  <a:lnTo>
                    <a:pt x="914" y="243"/>
                  </a:lnTo>
                  <a:lnTo>
                    <a:pt x="903" y="243"/>
                  </a:lnTo>
                  <a:lnTo>
                    <a:pt x="895" y="243"/>
                  </a:lnTo>
                  <a:lnTo>
                    <a:pt x="895" y="247"/>
                  </a:lnTo>
                  <a:lnTo>
                    <a:pt x="899" y="243"/>
                  </a:lnTo>
                  <a:lnTo>
                    <a:pt x="888" y="239"/>
                  </a:lnTo>
                  <a:lnTo>
                    <a:pt x="877" y="236"/>
                  </a:lnTo>
                  <a:lnTo>
                    <a:pt x="877" y="236"/>
                  </a:lnTo>
                  <a:lnTo>
                    <a:pt x="874" y="236"/>
                  </a:lnTo>
                  <a:lnTo>
                    <a:pt x="866" y="236"/>
                  </a:lnTo>
                  <a:lnTo>
                    <a:pt x="866" y="239"/>
                  </a:lnTo>
                  <a:lnTo>
                    <a:pt x="870" y="236"/>
                  </a:lnTo>
                  <a:lnTo>
                    <a:pt x="863" y="228"/>
                  </a:lnTo>
                  <a:lnTo>
                    <a:pt x="863" y="228"/>
                  </a:lnTo>
                  <a:lnTo>
                    <a:pt x="863" y="228"/>
                  </a:lnTo>
                  <a:lnTo>
                    <a:pt x="856" y="225"/>
                  </a:lnTo>
                  <a:lnTo>
                    <a:pt x="852" y="228"/>
                  </a:lnTo>
                  <a:lnTo>
                    <a:pt x="856" y="225"/>
                  </a:lnTo>
                  <a:lnTo>
                    <a:pt x="848" y="218"/>
                  </a:lnTo>
                  <a:lnTo>
                    <a:pt x="845" y="221"/>
                  </a:lnTo>
                  <a:lnTo>
                    <a:pt x="852" y="221"/>
                  </a:lnTo>
                  <a:lnTo>
                    <a:pt x="852" y="214"/>
                  </a:lnTo>
                  <a:lnTo>
                    <a:pt x="852" y="214"/>
                  </a:lnTo>
                  <a:lnTo>
                    <a:pt x="852" y="214"/>
                  </a:lnTo>
                  <a:lnTo>
                    <a:pt x="848" y="207"/>
                  </a:lnTo>
                  <a:lnTo>
                    <a:pt x="841" y="207"/>
                  </a:lnTo>
                  <a:lnTo>
                    <a:pt x="848" y="207"/>
                  </a:lnTo>
                  <a:lnTo>
                    <a:pt x="848" y="196"/>
                  </a:lnTo>
                  <a:lnTo>
                    <a:pt x="848" y="174"/>
                  </a:lnTo>
                  <a:lnTo>
                    <a:pt x="848" y="149"/>
                  </a:lnTo>
                  <a:lnTo>
                    <a:pt x="852" y="120"/>
                  </a:lnTo>
                  <a:lnTo>
                    <a:pt x="856" y="91"/>
                  </a:lnTo>
                  <a:lnTo>
                    <a:pt x="859" y="62"/>
                  </a:lnTo>
                  <a:lnTo>
                    <a:pt x="863" y="40"/>
                  </a:lnTo>
                  <a:lnTo>
                    <a:pt x="866" y="18"/>
                  </a:lnTo>
                  <a:lnTo>
                    <a:pt x="866" y="14"/>
                  </a:lnTo>
                  <a:lnTo>
                    <a:pt x="859" y="14"/>
                  </a:lnTo>
                  <a:lnTo>
                    <a:pt x="856" y="14"/>
                  </a:lnTo>
                  <a:lnTo>
                    <a:pt x="823" y="14"/>
                  </a:lnTo>
                  <a:lnTo>
                    <a:pt x="790" y="11"/>
                  </a:lnTo>
                  <a:lnTo>
                    <a:pt x="761" y="11"/>
                  </a:lnTo>
                  <a:lnTo>
                    <a:pt x="736" y="7"/>
                  </a:lnTo>
                  <a:lnTo>
                    <a:pt x="711" y="4"/>
                  </a:lnTo>
                  <a:lnTo>
                    <a:pt x="689" y="4"/>
                  </a:lnTo>
                  <a:lnTo>
                    <a:pt x="674" y="0"/>
                  </a:lnTo>
                  <a:lnTo>
                    <a:pt x="663" y="0"/>
                  </a:lnTo>
                  <a:lnTo>
                    <a:pt x="656" y="0"/>
                  </a:lnTo>
                  <a:lnTo>
                    <a:pt x="656" y="0"/>
                  </a:lnTo>
                  <a:lnTo>
                    <a:pt x="653" y="0"/>
                  </a:lnTo>
                  <a:lnTo>
                    <a:pt x="649" y="4"/>
                  </a:lnTo>
                  <a:lnTo>
                    <a:pt x="653" y="7"/>
                  </a:lnTo>
                  <a:lnTo>
                    <a:pt x="653" y="4"/>
                  </a:lnTo>
                  <a:lnTo>
                    <a:pt x="645" y="7"/>
                  </a:lnTo>
                  <a:lnTo>
                    <a:pt x="645" y="7"/>
                  </a:lnTo>
                  <a:lnTo>
                    <a:pt x="642" y="7"/>
                  </a:lnTo>
                  <a:lnTo>
                    <a:pt x="634" y="14"/>
                  </a:lnTo>
                  <a:lnTo>
                    <a:pt x="631" y="18"/>
                  </a:lnTo>
                  <a:lnTo>
                    <a:pt x="624" y="25"/>
                  </a:lnTo>
                  <a:lnTo>
                    <a:pt x="624" y="29"/>
                  </a:lnTo>
                  <a:lnTo>
                    <a:pt x="624" y="29"/>
                  </a:lnTo>
                  <a:lnTo>
                    <a:pt x="624" y="40"/>
                  </a:lnTo>
                  <a:lnTo>
                    <a:pt x="627" y="40"/>
                  </a:lnTo>
                  <a:lnTo>
                    <a:pt x="624" y="40"/>
                  </a:lnTo>
                  <a:lnTo>
                    <a:pt x="620" y="47"/>
                  </a:lnTo>
                  <a:lnTo>
                    <a:pt x="616" y="58"/>
                  </a:lnTo>
                  <a:lnTo>
                    <a:pt x="616" y="58"/>
                  </a:lnTo>
                  <a:lnTo>
                    <a:pt x="616" y="58"/>
                  </a:lnTo>
                  <a:lnTo>
                    <a:pt x="616" y="69"/>
                  </a:lnTo>
                  <a:lnTo>
                    <a:pt x="616" y="80"/>
                  </a:lnTo>
                  <a:lnTo>
                    <a:pt x="616" y="80"/>
                  </a:lnTo>
                  <a:lnTo>
                    <a:pt x="616" y="83"/>
                  </a:lnTo>
                  <a:lnTo>
                    <a:pt x="620" y="91"/>
                  </a:lnTo>
                  <a:lnTo>
                    <a:pt x="624" y="102"/>
                  </a:lnTo>
                  <a:lnTo>
                    <a:pt x="627" y="112"/>
                  </a:lnTo>
                  <a:lnTo>
                    <a:pt x="634" y="123"/>
                  </a:lnTo>
                  <a:lnTo>
                    <a:pt x="634" y="123"/>
                  </a:lnTo>
                  <a:lnTo>
                    <a:pt x="634" y="123"/>
                  </a:lnTo>
                  <a:lnTo>
                    <a:pt x="642" y="131"/>
                  </a:lnTo>
                  <a:lnTo>
                    <a:pt x="645" y="134"/>
                  </a:lnTo>
                  <a:lnTo>
                    <a:pt x="645" y="134"/>
                  </a:lnTo>
                  <a:lnTo>
                    <a:pt x="656" y="141"/>
                  </a:lnTo>
                  <a:lnTo>
                    <a:pt x="656" y="134"/>
                  </a:lnTo>
                  <a:lnTo>
                    <a:pt x="653" y="138"/>
                  </a:lnTo>
                  <a:lnTo>
                    <a:pt x="656" y="149"/>
                  </a:lnTo>
                  <a:lnTo>
                    <a:pt x="663" y="163"/>
                  </a:lnTo>
                  <a:lnTo>
                    <a:pt x="667" y="170"/>
                  </a:lnTo>
                  <a:lnTo>
                    <a:pt x="671" y="167"/>
                  </a:lnTo>
                  <a:lnTo>
                    <a:pt x="667" y="167"/>
                  </a:lnTo>
                  <a:lnTo>
                    <a:pt x="667" y="181"/>
                  </a:lnTo>
                  <a:lnTo>
                    <a:pt x="667" y="192"/>
                  </a:lnTo>
                  <a:lnTo>
                    <a:pt x="667" y="203"/>
                  </a:lnTo>
                  <a:lnTo>
                    <a:pt x="671" y="203"/>
                  </a:lnTo>
                  <a:lnTo>
                    <a:pt x="667" y="199"/>
                  </a:lnTo>
                  <a:lnTo>
                    <a:pt x="660" y="207"/>
                  </a:lnTo>
                  <a:lnTo>
                    <a:pt x="660" y="210"/>
                  </a:lnTo>
                  <a:lnTo>
                    <a:pt x="660" y="210"/>
                  </a:lnTo>
                  <a:lnTo>
                    <a:pt x="656" y="221"/>
                  </a:lnTo>
                  <a:lnTo>
                    <a:pt x="649" y="232"/>
                  </a:lnTo>
                  <a:lnTo>
                    <a:pt x="653" y="232"/>
                  </a:lnTo>
                  <a:lnTo>
                    <a:pt x="649" y="228"/>
                  </a:lnTo>
                  <a:lnTo>
                    <a:pt x="642" y="236"/>
                  </a:lnTo>
                  <a:lnTo>
                    <a:pt x="645" y="239"/>
                  </a:lnTo>
                  <a:lnTo>
                    <a:pt x="645" y="236"/>
                  </a:lnTo>
                  <a:lnTo>
                    <a:pt x="634" y="243"/>
                  </a:lnTo>
                  <a:lnTo>
                    <a:pt x="624" y="250"/>
                  </a:lnTo>
                  <a:lnTo>
                    <a:pt x="624" y="254"/>
                  </a:lnTo>
                  <a:lnTo>
                    <a:pt x="624" y="250"/>
                  </a:lnTo>
                  <a:lnTo>
                    <a:pt x="609" y="254"/>
                  </a:lnTo>
                  <a:lnTo>
                    <a:pt x="595" y="257"/>
                  </a:lnTo>
                  <a:lnTo>
                    <a:pt x="580" y="261"/>
                  </a:lnTo>
                  <a:lnTo>
                    <a:pt x="573" y="261"/>
                  </a:lnTo>
                  <a:lnTo>
                    <a:pt x="566" y="261"/>
                  </a:lnTo>
                  <a:lnTo>
                    <a:pt x="566" y="265"/>
                  </a:lnTo>
                  <a:lnTo>
                    <a:pt x="569" y="261"/>
                  </a:lnTo>
                  <a:lnTo>
                    <a:pt x="562" y="257"/>
                  </a:lnTo>
                  <a:lnTo>
                    <a:pt x="562" y="257"/>
                  </a:lnTo>
                  <a:lnTo>
                    <a:pt x="558" y="257"/>
                  </a:lnTo>
                  <a:lnTo>
                    <a:pt x="551" y="257"/>
                  </a:lnTo>
                  <a:lnTo>
                    <a:pt x="551" y="261"/>
                  </a:lnTo>
                  <a:lnTo>
                    <a:pt x="555" y="257"/>
                  </a:lnTo>
                  <a:lnTo>
                    <a:pt x="547" y="254"/>
                  </a:lnTo>
                  <a:lnTo>
                    <a:pt x="540" y="250"/>
                  </a:lnTo>
                  <a:lnTo>
                    <a:pt x="536" y="254"/>
                  </a:lnTo>
                  <a:lnTo>
                    <a:pt x="540" y="250"/>
                  </a:lnTo>
                  <a:lnTo>
                    <a:pt x="536" y="247"/>
                  </a:lnTo>
                  <a:lnTo>
                    <a:pt x="536" y="247"/>
                  </a:lnTo>
                  <a:lnTo>
                    <a:pt x="536" y="247"/>
                  </a:lnTo>
                  <a:lnTo>
                    <a:pt x="529" y="243"/>
                  </a:lnTo>
                  <a:lnTo>
                    <a:pt x="518" y="236"/>
                  </a:lnTo>
                  <a:lnTo>
                    <a:pt x="515" y="239"/>
                  </a:lnTo>
                  <a:lnTo>
                    <a:pt x="518" y="236"/>
                  </a:lnTo>
                  <a:lnTo>
                    <a:pt x="511" y="228"/>
                  </a:lnTo>
                  <a:lnTo>
                    <a:pt x="507" y="232"/>
                  </a:lnTo>
                  <a:lnTo>
                    <a:pt x="515" y="232"/>
                  </a:lnTo>
                  <a:lnTo>
                    <a:pt x="507" y="221"/>
                  </a:lnTo>
                  <a:lnTo>
                    <a:pt x="504" y="210"/>
                  </a:lnTo>
                  <a:lnTo>
                    <a:pt x="500" y="199"/>
                  </a:lnTo>
                  <a:lnTo>
                    <a:pt x="493" y="199"/>
                  </a:lnTo>
                  <a:lnTo>
                    <a:pt x="500" y="199"/>
                  </a:lnTo>
                  <a:lnTo>
                    <a:pt x="500" y="185"/>
                  </a:lnTo>
                  <a:lnTo>
                    <a:pt x="500" y="185"/>
                  </a:lnTo>
                  <a:lnTo>
                    <a:pt x="500" y="185"/>
                  </a:lnTo>
                  <a:lnTo>
                    <a:pt x="497" y="174"/>
                  </a:lnTo>
                  <a:lnTo>
                    <a:pt x="489" y="174"/>
                  </a:lnTo>
                  <a:lnTo>
                    <a:pt x="497" y="178"/>
                  </a:lnTo>
                  <a:lnTo>
                    <a:pt x="500" y="167"/>
                  </a:lnTo>
                  <a:lnTo>
                    <a:pt x="500" y="167"/>
                  </a:lnTo>
                  <a:lnTo>
                    <a:pt x="500" y="163"/>
                  </a:lnTo>
                  <a:lnTo>
                    <a:pt x="500" y="149"/>
                  </a:lnTo>
                  <a:lnTo>
                    <a:pt x="493" y="149"/>
                  </a:lnTo>
                  <a:lnTo>
                    <a:pt x="497" y="152"/>
                  </a:lnTo>
                  <a:lnTo>
                    <a:pt x="504" y="145"/>
                  </a:lnTo>
                  <a:lnTo>
                    <a:pt x="507" y="145"/>
                  </a:lnTo>
                  <a:lnTo>
                    <a:pt x="507" y="145"/>
                  </a:lnTo>
                  <a:lnTo>
                    <a:pt x="511" y="134"/>
                  </a:lnTo>
                  <a:lnTo>
                    <a:pt x="504" y="131"/>
                  </a:lnTo>
                  <a:lnTo>
                    <a:pt x="507" y="134"/>
                  </a:lnTo>
                  <a:lnTo>
                    <a:pt x="515" y="127"/>
                  </a:lnTo>
                  <a:lnTo>
                    <a:pt x="522" y="120"/>
                  </a:lnTo>
                  <a:lnTo>
                    <a:pt x="526" y="120"/>
                  </a:lnTo>
                  <a:lnTo>
                    <a:pt x="526" y="120"/>
                  </a:lnTo>
                  <a:lnTo>
                    <a:pt x="529" y="112"/>
                  </a:lnTo>
                  <a:lnTo>
                    <a:pt x="533" y="105"/>
                  </a:lnTo>
                  <a:lnTo>
                    <a:pt x="536" y="98"/>
                  </a:lnTo>
                  <a:lnTo>
                    <a:pt x="540" y="91"/>
                  </a:lnTo>
                  <a:lnTo>
                    <a:pt x="540" y="91"/>
                  </a:lnTo>
                  <a:lnTo>
                    <a:pt x="540" y="87"/>
                  </a:lnTo>
                  <a:lnTo>
                    <a:pt x="540" y="80"/>
                  </a:lnTo>
                  <a:lnTo>
                    <a:pt x="540" y="72"/>
                  </a:lnTo>
                  <a:lnTo>
                    <a:pt x="540" y="72"/>
                  </a:lnTo>
                  <a:lnTo>
                    <a:pt x="540" y="72"/>
                  </a:lnTo>
                  <a:lnTo>
                    <a:pt x="536" y="65"/>
                  </a:lnTo>
                  <a:lnTo>
                    <a:pt x="533" y="58"/>
                  </a:lnTo>
                  <a:lnTo>
                    <a:pt x="529" y="51"/>
                  </a:lnTo>
                  <a:lnTo>
                    <a:pt x="529" y="51"/>
                  </a:lnTo>
                  <a:lnTo>
                    <a:pt x="526" y="47"/>
                  </a:lnTo>
                  <a:lnTo>
                    <a:pt x="518" y="40"/>
                  </a:lnTo>
                  <a:lnTo>
                    <a:pt x="518" y="40"/>
                  </a:lnTo>
                  <a:lnTo>
                    <a:pt x="518" y="40"/>
                  </a:lnTo>
                  <a:lnTo>
                    <a:pt x="507" y="36"/>
                  </a:lnTo>
                  <a:lnTo>
                    <a:pt x="497" y="29"/>
                  </a:lnTo>
                  <a:lnTo>
                    <a:pt x="486" y="25"/>
                  </a:lnTo>
                  <a:lnTo>
                    <a:pt x="471" y="18"/>
                  </a:lnTo>
                  <a:lnTo>
                    <a:pt x="471" y="18"/>
                  </a:lnTo>
                  <a:lnTo>
                    <a:pt x="468" y="18"/>
                  </a:lnTo>
                  <a:lnTo>
                    <a:pt x="449" y="14"/>
                  </a:lnTo>
                  <a:lnTo>
                    <a:pt x="431" y="14"/>
                  </a:lnTo>
                  <a:lnTo>
                    <a:pt x="406" y="11"/>
                  </a:lnTo>
                  <a:lnTo>
                    <a:pt x="377" y="11"/>
                  </a:lnTo>
                  <a:lnTo>
                    <a:pt x="348" y="14"/>
                  </a:lnTo>
                  <a:lnTo>
                    <a:pt x="315" y="14"/>
                  </a:lnTo>
                  <a:lnTo>
                    <a:pt x="286" y="18"/>
                  </a:lnTo>
                  <a:lnTo>
                    <a:pt x="261" y="22"/>
                  </a:lnTo>
                  <a:lnTo>
                    <a:pt x="243" y="25"/>
                  </a:lnTo>
                  <a:lnTo>
                    <a:pt x="236" y="25"/>
                  </a:lnTo>
                  <a:lnTo>
                    <a:pt x="239" y="29"/>
                  </a:lnTo>
                  <a:lnTo>
                    <a:pt x="243" y="51"/>
                  </a:lnTo>
                  <a:lnTo>
                    <a:pt x="243" y="54"/>
                  </a:lnTo>
                  <a:lnTo>
                    <a:pt x="243" y="54"/>
                  </a:lnTo>
                  <a:lnTo>
                    <a:pt x="254" y="80"/>
                  </a:lnTo>
                  <a:lnTo>
                    <a:pt x="261" y="112"/>
                  </a:lnTo>
                  <a:lnTo>
                    <a:pt x="268" y="145"/>
                  </a:lnTo>
                  <a:lnTo>
                    <a:pt x="272" y="141"/>
                  </a:lnTo>
                  <a:lnTo>
                    <a:pt x="268" y="141"/>
                  </a:lnTo>
                  <a:lnTo>
                    <a:pt x="268" y="156"/>
                  </a:lnTo>
                  <a:lnTo>
                    <a:pt x="272" y="174"/>
                  </a:lnTo>
                  <a:lnTo>
                    <a:pt x="272" y="189"/>
                  </a:lnTo>
                  <a:lnTo>
                    <a:pt x="272" y="203"/>
                  </a:lnTo>
                  <a:lnTo>
                    <a:pt x="272" y="214"/>
                  </a:lnTo>
                  <a:lnTo>
                    <a:pt x="275" y="214"/>
                  </a:lnTo>
                  <a:lnTo>
                    <a:pt x="272" y="214"/>
                  </a:lnTo>
                  <a:lnTo>
                    <a:pt x="268" y="225"/>
                  </a:lnTo>
                  <a:lnTo>
                    <a:pt x="272" y="225"/>
                  </a:lnTo>
                  <a:lnTo>
                    <a:pt x="268" y="221"/>
                  </a:lnTo>
                  <a:lnTo>
                    <a:pt x="265" y="225"/>
                  </a:lnTo>
                  <a:lnTo>
                    <a:pt x="265" y="228"/>
                  </a:lnTo>
                  <a:lnTo>
                    <a:pt x="265" y="228"/>
                  </a:lnTo>
                  <a:lnTo>
                    <a:pt x="265" y="236"/>
                  </a:lnTo>
                  <a:lnTo>
                    <a:pt x="268" y="236"/>
                  </a:lnTo>
                  <a:lnTo>
                    <a:pt x="265" y="232"/>
                  </a:lnTo>
                  <a:lnTo>
                    <a:pt x="261" y="236"/>
                  </a:lnTo>
                  <a:lnTo>
                    <a:pt x="265" y="239"/>
                  </a:lnTo>
                  <a:lnTo>
                    <a:pt x="265" y="236"/>
                  </a:lnTo>
                  <a:lnTo>
                    <a:pt x="261" y="236"/>
                  </a:lnTo>
                  <a:lnTo>
                    <a:pt x="257" y="236"/>
                  </a:lnTo>
                  <a:lnTo>
                    <a:pt x="257" y="239"/>
                  </a:lnTo>
                  <a:lnTo>
                    <a:pt x="254" y="247"/>
                  </a:lnTo>
                  <a:lnTo>
                    <a:pt x="257" y="247"/>
                  </a:lnTo>
                  <a:lnTo>
                    <a:pt x="257" y="243"/>
                  </a:lnTo>
                  <a:lnTo>
                    <a:pt x="246" y="247"/>
                  </a:lnTo>
                  <a:lnTo>
                    <a:pt x="246" y="247"/>
                  </a:lnTo>
                  <a:lnTo>
                    <a:pt x="243" y="247"/>
                  </a:lnTo>
                  <a:lnTo>
                    <a:pt x="239" y="250"/>
                  </a:lnTo>
                  <a:lnTo>
                    <a:pt x="243" y="254"/>
                  </a:lnTo>
                  <a:lnTo>
                    <a:pt x="243" y="250"/>
                  </a:lnTo>
                  <a:lnTo>
                    <a:pt x="232" y="254"/>
                  </a:lnTo>
                  <a:lnTo>
                    <a:pt x="225" y="257"/>
                  </a:lnTo>
                  <a:lnTo>
                    <a:pt x="225" y="261"/>
                  </a:lnTo>
                  <a:lnTo>
                    <a:pt x="225" y="257"/>
                  </a:lnTo>
                  <a:lnTo>
                    <a:pt x="217" y="257"/>
                  </a:lnTo>
                  <a:lnTo>
                    <a:pt x="210" y="257"/>
                  </a:lnTo>
                  <a:lnTo>
                    <a:pt x="203" y="257"/>
                  </a:lnTo>
                  <a:lnTo>
                    <a:pt x="196" y="257"/>
                  </a:lnTo>
                  <a:lnTo>
                    <a:pt x="188" y="257"/>
                  </a:lnTo>
                  <a:lnTo>
                    <a:pt x="188" y="261"/>
                  </a:lnTo>
                  <a:lnTo>
                    <a:pt x="192" y="257"/>
                  </a:lnTo>
                  <a:lnTo>
                    <a:pt x="185" y="254"/>
                  </a:lnTo>
                  <a:lnTo>
                    <a:pt x="185" y="254"/>
                  </a:lnTo>
                  <a:lnTo>
                    <a:pt x="181" y="254"/>
                  </a:lnTo>
                  <a:lnTo>
                    <a:pt x="174" y="254"/>
                  </a:lnTo>
                  <a:lnTo>
                    <a:pt x="174" y="257"/>
                  </a:lnTo>
                  <a:lnTo>
                    <a:pt x="178" y="254"/>
                  </a:lnTo>
                  <a:lnTo>
                    <a:pt x="170" y="250"/>
                  </a:lnTo>
                  <a:lnTo>
                    <a:pt x="163" y="247"/>
                  </a:lnTo>
                  <a:lnTo>
                    <a:pt x="159" y="250"/>
                  </a:lnTo>
                  <a:lnTo>
                    <a:pt x="163" y="247"/>
                  </a:lnTo>
                  <a:lnTo>
                    <a:pt x="159" y="243"/>
                  </a:lnTo>
                  <a:lnTo>
                    <a:pt x="156" y="247"/>
                  </a:lnTo>
                  <a:lnTo>
                    <a:pt x="163" y="247"/>
                  </a:lnTo>
                  <a:lnTo>
                    <a:pt x="159" y="239"/>
                  </a:lnTo>
                  <a:lnTo>
                    <a:pt x="156" y="236"/>
                  </a:lnTo>
                  <a:lnTo>
                    <a:pt x="156" y="236"/>
                  </a:lnTo>
                  <a:lnTo>
                    <a:pt x="149" y="232"/>
                  </a:lnTo>
                  <a:lnTo>
                    <a:pt x="138" y="225"/>
                  </a:lnTo>
                  <a:lnTo>
                    <a:pt x="127" y="221"/>
                  </a:lnTo>
                  <a:lnTo>
                    <a:pt x="116" y="218"/>
                  </a:lnTo>
                  <a:lnTo>
                    <a:pt x="116" y="218"/>
                  </a:lnTo>
                  <a:lnTo>
                    <a:pt x="112" y="218"/>
                  </a:lnTo>
                  <a:lnTo>
                    <a:pt x="101" y="218"/>
                  </a:lnTo>
                  <a:lnTo>
                    <a:pt x="91" y="218"/>
                  </a:lnTo>
                  <a:lnTo>
                    <a:pt x="76" y="218"/>
                  </a:lnTo>
                  <a:lnTo>
                    <a:pt x="76" y="218"/>
                  </a:lnTo>
                  <a:lnTo>
                    <a:pt x="76" y="218"/>
                  </a:lnTo>
                  <a:lnTo>
                    <a:pt x="65" y="221"/>
                  </a:lnTo>
                  <a:lnTo>
                    <a:pt x="54" y="225"/>
                  </a:lnTo>
                  <a:lnTo>
                    <a:pt x="43" y="232"/>
                  </a:lnTo>
                  <a:lnTo>
                    <a:pt x="43" y="232"/>
                  </a:lnTo>
                  <a:lnTo>
                    <a:pt x="40" y="232"/>
                  </a:lnTo>
                  <a:lnTo>
                    <a:pt x="29" y="243"/>
                  </a:lnTo>
                  <a:lnTo>
                    <a:pt x="33" y="247"/>
                  </a:lnTo>
                  <a:lnTo>
                    <a:pt x="33" y="243"/>
                  </a:lnTo>
                  <a:lnTo>
                    <a:pt x="22" y="250"/>
                  </a:lnTo>
                  <a:lnTo>
                    <a:pt x="18" y="250"/>
                  </a:lnTo>
                  <a:lnTo>
                    <a:pt x="18" y="254"/>
                  </a:lnTo>
                  <a:lnTo>
                    <a:pt x="14" y="261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11" y="261"/>
                  </a:lnTo>
                  <a:lnTo>
                    <a:pt x="11" y="265"/>
                  </a:lnTo>
                  <a:lnTo>
                    <a:pt x="11" y="265"/>
                  </a:lnTo>
                  <a:lnTo>
                    <a:pt x="11" y="272"/>
                  </a:lnTo>
                  <a:lnTo>
                    <a:pt x="14" y="272"/>
                  </a:lnTo>
                  <a:lnTo>
                    <a:pt x="11" y="272"/>
                  </a:lnTo>
                  <a:lnTo>
                    <a:pt x="7" y="279"/>
                  </a:lnTo>
                  <a:lnTo>
                    <a:pt x="4" y="286"/>
                  </a:lnTo>
                  <a:lnTo>
                    <a:pt x="4" y="286"/>
                  </a:lnTo>
                  <a:lnTo>
                    <a:pt x="4" y="286"/>
                  </a:lnTo>
                  <a:lnTo>
                    <a:pt x="4" y="294"/>
                  </a:lnTo>
                  <a:lnTo>
                    <a:pt x="7" y="294"/>
                  </a:lnTo>
                  <a:lnTo>
                    <a:pt x="4" y="294"/>
                  </a:lnTo>
                  <a:lnTo>
                    <a:pt x="0" y="305"/>
                  </a:lnTo>
                  <a:lnTo>
                    <a:pt x="0" y="305"/>
                  </a:lnTo>
                  <a:lnTo>
                    <a:pt x="0" y="305"/>
                  </a:lnTo>
                  <a:lnTo>
                    <a:pt x="0" y="312"/>
                  </a:lnTo>
                  <a:lnTo>
                    <a:pt x="0" y="319"/>
                  </a:lnTo>
                  <a:lnTo>
                    <a:pt x="0" y="323"/>
                  </a:lnTo>
                  <a:lnTo>
                    <a:pt x="0" y="323"/>
                  </a:lnTo>
                  <a:lnTo>
                    <a:pt x="4" y="330"/>
                  </a:lnTo>
                  <a:lnTo>
                    <a:pt x="7" y="326"/>
                  </a:lnTo>
                  <a:lnTo>
                    <a:pt x="4" y="326"/>
                  </a:lnTo>
                  <a:lnTo>
                    <a:pt x="4" y="334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7" y="341"/>
                  </a:lnTo>
                  <a:lnTo>
                    <a:pt x="11" y="337"/>
                  </a:lnTo>
                  <a:lnTo>
                    <a:pt x="7" y="337"/>
                  </a:lnTo>
                  <a:lnTo>
                    <a:pt x="7" y="345"/>
                  </a:lnTo>
                  <a:lnTo>
                    <a:pt x="7" y="348"/>
                  </a:lnTo>
                  <a:lnTo>
                    <a:pt x="7" y="348"/>
                  </a:lnTo>
                  <a:lnTo>
                    <a:pt x="11" y="352"/>
                  </a:lnTo>
                  <a:lnTo>
                    <a:pt x="14" y="348"/>
                  </a:lnTo>
                  <a:lnTo>
                    <a:pt x="11" y="352"/>
                  </a:lnTo>
                  <a:lnTo>
                    <a:pt x="14" y="359"/>
                  </a:lnTo>
                  <a:lnTo>
                    <a:pt x="14" y="359"/>
                  </a:lnTo>
                  <a:lnTo>
                    <a:pt x="14" y="359"/>
                  </a:lnTo>
                  <a:lnTo>
                    <a:pt x="18" y="363"/>
                  </a:lnTo>
                  <a:lnTo>
                    <a:pt x="22" y="359"/>
                  </a:lnTo>
                  <a:lnTo>
                    <a:pt x="18" y="363"/>
                  </a:lnTo>
                  <a:lnTo>
                    <a:pt x="25" y="374"/>
                  </a:lnTo>
                  <a:lnTo>
                    <a:pt x="25" y="374"/>
                  </a:lnTo>
                  <a:lnTo>
                    <a:pt x="29" y="377"/>
                  </a:lnTo>
                  <a:lnTo>
                    <a:pt x="40" y="384"/>
                  </a:lnTo>
                  <a:lnTo>
                    <a:pt x="51" y="388"/>
                  </a:lnTo>
                  <a:lnTo>
                    <a:pt x="62" y="392"/>
                  </a:lnTo>
                  <a:lnTo>
                    <a:pt x="72" y="395"/>
                  </a:lnTo>
                  <a:lnTo>
                    <a:pt x="83" y="399"/>
                  </a:lnTo>
                  <a:lnTo>
                    <a:pt x="83" y="399"/>
                  </a:lnTo>
                  <a:lnTo>
                    <a:pt x="83" y="399"/>
                  </a:lnTo>
                  <a:lnTo>
                    <a:pt x="98" y="399"/>
                  </a:lnTo>
                  <a:lnTo>
                    <a:pt x="109" y="399"/>
                  </a:lnTo>
                  <a:lnTo>
                    <a:pt x="109" y="399"/>
                  </a:lnTo>
                  <a:lnTo>
                    <a:pt x="112" y="399"/>
                  </a:lnTo>
                  <a:lnTo>
                    <a:pt x="120" y="395"/>
                  </a:lnTo>
                  <a:lnTo>
                    <a:pt x="130" y="392"/>
                  </a:lnTo>
                  <a:lnTo>
                    <a:pt x="138" y="388"/>
                  </a:lnTo>
                  <a:lnTo>
                    <a:pt x="138" y="384"/>
                  </a:lnTo>
                  <a:lnTo>
                    <a:pt x="141" y="384"/>
                  </a:lnTo>
                  <a:lnTo>
                    <a:pt x="145" y="377"/>
                  </a:lnTo>
                  <a:lnTo>
                    <a:pt x="138" y="374"/>
                  </a:lnTo>
                  <a:lnTo>
                    <a:pt x="141" y="381"/>
                  </a:lnTo>
                  <a:lnTo>
                    <a:pt x="149" y="377"/>
                  </a:lnTo>
                  <a:lnTo>
                    <a:pt x="156" y="374"/>
                  </a:lnTo>
                  <a:lnTo>
                    <a:pt x="163" y="370"/>
                  </a:lnTo>
                  <a:lnTo>
                    <a:pt x="170" y="366"/>
                  </a:lnTo>
                  <a:lnTo>
                    <a:pt x="167" y="359"/>
                  </a:lnTo>
                  <a:lnTo>
                    <a:pt x="167" y="366"/>
                  </a:lnTo>
                  <a:lnTo>
                    <a:pt x="174" y="366"/>
                  </a:lnTo>
                  <a:lnTo>
                    <a:pt x="185" y="366"/>
                  </a:lnTo>
                  <a:lnTo>
                    <a:pt x="185" y="359"/>
                  </a:lnTo>
                  <a:lnTo>
                    <a:pt x="185" y="366"/>
                  </a:lnTo>
                  <a:lnTo>
                    <a:pt x="192" y="370"/>
                  </a:lnTo>
                  <a:lnTo>
                    <a:pt x="192" y="370"/>
                  </a:lnTo>
                  <a:lnTo>
                    <a:pt x="192" y="370"/>
                  </a:lnTo>
                  <a:lnTo>
                    <a:pt x="199" y="370"/>
                  </a:lnTo>
                  <a:lnTo>
                    <a:pt x="199" y="363"/>
                  </a:lnTo>
                  <a:lnTo>
                    <a:pt x="199" y="370"/>
                  </a:lnTo>
                  <a:lnTo>
                    <a:pt x="210" y="374"/>
                  </a:lnTo>
                  <a:lnTo>
                    <a:pt x="217" y="377"/>
                  </a:lnTo>
                  <a:lnTo>
                    <a:pt x="217" y="370"/>
                  </a:lnTo>
                  <a:lnTo>
                    <a:pt x="214" y="374"/>
                  </a:lnTo>
                  <a:lnTo>
                    <a:pt x="217" y="377"/>
                  </a:lnTo>
                  <a:lnTo>
                    <a:pt x="225" y="384"/>
                  </a:lnTo>
                  <a:lnTo>
                    <a:pt x="228" y="381"/>
                  </a:lnTo>
                  <a:lnTo>
                    <a:pt x="225" y="384"/>
                  </a:lnTo>
                  <a:lnTo>
                    <a:pt x="228" y="392"/>
                  </a:lnTo>
                  <a:lnTo>
                    <a:pt x="228" y="392"/>
                  </a:lnTo>
                  <a:lnTo>
                    <a:pt x="232" y="395"/>
                  </a:lnTo>
                  <a:lnTo>
                    <a:pt x="239" y="399"/>
                  </a:lnTo>
                  <a:lnTo>
                    <a:pt x="239" y="392"/>
                  </a:lnTo>
                  <a:lnTo>
                    <a:pt x="236" y="392"/>
                  </a:lnTo>
                  <a:lnTo>
                    <a:pt x="236" y="399"/>
                  </a:lnTo>
                  <a:lnTo>
                    <a:pt x="236" y="403"/>
                  </a:lnTo>
                  <a:lnTo>
                    <a:pt x="236" y="403"/>
                  </a:lnTo>
                  <a:lnTo>
                    <a:pt x="239" y="410"/>
                  </a:lnTo>
                  <a:lnTo>
                    <a:pt x="243" y="406"/>
                  </a:lnTo>
                  <a:lnTo>
                    <a:pt x="239" y="406"/>
                  </a:lnTo>
                  <a:lnTo>
                    <a:pt x="236" y="424"/>
                  </a:lnTo>
                  <a:lnTo>
                    <a:pt x="236" y="446"/>
                  </a:lnTo>
                  <a:lnTo>
                    <a:pt x="232" y="471"/>
                  </a:lnTo>
                  <a:lnTo>
                    <a:pt x="232" y="501"/>
                  </a:lnTo>
                  <a:lnTo>
                    <a:pt x="228" y="533"/>
                  </a:lnTo>
                  <a:lnTo>
                    <a:pt x="228" y="562"/>
                  </a:lnTo>
                  <a:lnTo>
                    <a:pt x="228" y="566"/>
                  </a:lnTo>
                  <a:lnTo>
                    <a:pt x="228" y="566"/>
                  </a:lnTo>
                  <a:lnTo>
                    <a:pt x="232" y="580"/>
                  </a:lnTo>
                  <a:lnTo>
                    <a:pt x="236" y="577"/>
                  </a:lnTo>
                  <a:lnTo>
                    <a:pt x="232" y="577"/>
                  </a:lnTo>
                  <a:lnTo>
                    <a:pt x="232" y="591"/>
                  </a:lnTo>
                  <a:lnTo>
                    <a:pt x="232" y="595"/>
                  </a:lnTo>
                  <a:lnTo>
                    <a:pt x="232" y="595"/>
                  </a:lnTo>
                  <a:lnTo>
                    <a:pt x="236" y="606"/>
                  </a:lnTo>
                  <a:lnTo>
                    <a:pt x="239" y="620"/>
                  </a:lnTo>
                  <a:lnTo>
                    <a:pt x="239" y="620"/>
                  </a:lnTo>
                  <a:lnTo>
                    <a:pt x="239" y="620"/>
                  </a:lnTo>
                  <a:lnTo>
                    <a:pt x="243" y="624"/>
                  </a:lnTo>
                  <a:lnTo>
                    <a:pt x="246" y="627"/>
                  </a:lnTo>
                  <a:lnTo>
                    <a:pt x="246" y="627"/>
                  </a:lnTo>
                  <a:lnTo>
                    <a:pt x="257" y="627"/>
                  </a:lnTo>
                  <a:lnTo>
                    <a:pt x="257" y="620"/>
                  </a:lnTo>
                  <a:lnTo>
                    <a:pt x="257" y="627"/>
                  </a:lnTo>
                  <a:lnTo>
                    <a:pt x="268" y="631"/>
                  </a:lnTo>
                  <a:lnTo>
                    <a:pt x="268" y="631"/>
                  </a:lnTo>
                  <a:lnTo>
                    <a:pt x="268" y="631"/>
                  </a:lnTo>
                  <a:lnTo>
                    <a:pt x="279" y="631"/>
                  </a:lnTo>
                  <a:lnTo>
                    <a:pt x="308" y="631"/>
                  </a:lnTo>
                  <a:lnTo>
                    <a:pt x="337" y="631"/>
                  </a:lnTo>
                  <a:lnTo>
                    <a:pt x="373" y="627"/>
                  </a:lnTo>
                  <a:lnTo>
                    <a:pt x="406" y="627"/>
                  </a:lnTo>
                  <a:lnTo>
                    <a:pt x="442" y="624"/>
                  </a:lnTo>
                  <a:lnTo>
                    <a:pt x="475" y="624"/>
                  </a:lnTo>
                  <a:lnTo>
                    <a:pt x="482" y="624"/>
                  </a:lnTo>
                  <a:close/>
                  <a:moveTo>
                    <a:pt x="475" y="613"/>
                  </a:moveTo>
                  <a:lnTo>
                    <a:pt x="442" y="613"/>
                  </a:lnTo>
                  <a:lnTo>
                    <a:pt x="406" y="617"/>
                  </a:lnTo>
                  <a:lnTo>
                    <a:pt x="373" y="617"/>
                  </a:lnTo>
                  <a:lnTo>
                    <a:pt x="337" y="620"/>
                  </a:lnTo>
                  <a:lnTo>
                    <a:pt x="308" y="620"/>
                  </a:lnTo>
                  <a:lnTo>
                    <a:pt x="279" y="620"/>
                  </a:lnTo>
                  <a:lnTo>
                    <a:pt x="268" y="620"/>
                  </a:lnTo>
                  <a:lnTo>
                    <a:pt x="268" y="624"/>
                  </a:lnTo>
                  <a:lnTo>
                    <a:pt x="272" y="620"/>
                  </a:lnTo>
                  <a:lnTo>
                    <a:pt x="261" y="617"/>
                  </a:lnTo>
                  <a:lnTo>
                    <a:pt x="261" y="617"/>
                  </a:lnTo>
                  <a:lnTo>
                    <a:pt x="257" y="617"/>
                  </a:lnTo>
                  <a:lnTo>
                    <a:pt x="246" y="617"/>
                  </a:lnTo>
                  <a:lnTo>
                    <a:pt x="246" y="620"/>
                  </a:lnTo>
                  <a:lnTo>
                    <a:pt x="250" y="617"/>
                  </a:lnTo>
                  <a:lnTo>
                    <a:pt x="246" y="613"/>
                  </a:lnTo>
                  <a:lnTo>
                    <a:pt x="243" y="617"/>
                  </a:lnTo>
                  <a:lnTo>
                    <a:pt x="250" y="617"/>
                  </a:lnTo>
                  <a:lnTo>
                    <a:pt x="246" y="602"/>
                  </a:lnTo>
                  <a:lnTo>
                    <a:pt x="243" y="591"/>
                  </a:lnTo>
                  <a:lnTo>
                    <a:pt x="236" y="591"/>
                  </a:lnTo>
                  <a:lnTo>
                    <a:pt x="243" y="591"/>
                  </a:lnTo>
                  <a:lnTo>
                    <a:pt x="243" y="577"/>
                  </a:lnTo>
                  <a:lnTo>
                    <a:pt x="243" y="577"/>
                  </a:lnTo>
                  <a:lnTo>
                    <a:pt x="243" y="577"/>
                  </a:lnTo>
                  <a:lnTo>
                    <a:pt x="239" y="562"/>
                  </a:lnTo>
                  <a:lnTo>
                    <a:pt x="232" y="562"/>
                  </a:lnTo>
                  <a:lnTo>
                    <a:pt x="239" y="562"/>
                  </a:lnTo>
                  <a:lnTo>
                    <a:pt x="239" y="533"/>
                  </a:lnTo>
                  <a:lnTo>
                    <a:pt x="243" y="501"/>
                  </a:lnTo>
                  <a:lnTo>
                    <a:pt x="243" y="471"/>
                  </a:lnTo>
                  <a:lnTo>
                    <a:pt x="246" y="446"/>
                  </a:lnTo>
                  <a:lnTo>
                    <a:pt x="246" y="424"/>
                  </a:lnTo>
                  <a:lnTo>
                    <a:pt x="250" y="406"/>
                  </a:lnTo>
                  <a:lnTo>
                    <a:pt x="250" y="406"/>
                  </a:lnTo>
                  <a:lnTo>
                    <a:pt x="250" y="406"/>
                  </a:lnTo>
                  <a:lnTo>
                    <a:pt x="246" y="399"/>
                  </a:lnTo>
                  <a:lnTo>
                    <a:pt x="239" y="399"/>
                  </a:lnTo>
                  <a:lnTo>
                    <a:pt x="246" y="399"/>
                  </a:lnTo>
                  <a:lnTo>
                    <a:pt x="246" y="392"/>
                  </a:lnTo>
                  <a:lnTo>
                    <a:pt x="246" y="388"/>
                  </a:lnTo>
                  <a:lnTo>
                    <a:pt x="243" y="388"/>
                  </a:lnTo>
                  <a:lnTo>
                    <a:pt x="236" y="384"/>
                  </a:lnTo>
                  <a:lnTo>
                    <a:pt x="232" y="388"/>
                  </a:lnTo>
                  <a:lnTo>
                    <a:pt x="239" y="388"/>
                  </a:lnTo>
                  <a:lnTo>
                    <a:pt x="236" y="381"/>
                  </a:lnTo>
                  <a:lnTo>
                    <a:pt x="236" y="381"/>
                  </a:lnTo>
                  <a:lnTo>
                    <a:pt x="232" y="377"/>
                  </a:lnTo>
                  <a:lnTo>
                    <a:pt x="225" y="370"/>
                  </a:lnTo>
                  <a:lnTo>
                    <a:pt x="221" y="366"/>
                  </a:lnTo>
                  <a:lnTo>
                    <a:pt x="221" y="366"/>
                  </a:lnTo>
                  <a:lnTo>
                    <a:pt x="221" y="366"/>
                  </a:lnTo>
                  <a:lnTo>
                    <a:pt x="214" y="363"/>
                  </a:lnTo>
                  <a:lnTo>
                    <a:pt x="203" y="359"/>
                  </a:lnTo>
                  <a:lnTo>
                    <a:pt x="203" y="359"/>
                  </a:lnTo>
                  <a:lnTo>
                    <a:pt x="199" y="359"/>
                  </a:lnTo>
                  <a:lnTo>
                    <a:pt x="192" y="359"/>
                  </a:lnTo>
                  <a:lnTo>
                    <a:pt x="192" y="363"/>
                  </a:lnTo>
                  <a:lnTo>
                    <a:pt x="196" y="359"/>
                  </a:lnTo>
                  <a:lnTo>
                    <a:pt x="188" y="355"/>
                  </a:lnTo>
                  <a:lnTo>
                    <a:pt x="188" y="355"/>
                  </a:lnTo>
                  <a:lnTo>
                    <a:pt x="185" y="355"/>
                  </a:lnTo>
                  <a:lnTo>
                    <a:pt x="174" y="355"/>
                  </a:lnTo>
                  <a:lnTo>
                    <a:pt x="167" y="355"/>
                  </a:lnTo>
                  <a:lnTo>
                    <a:pt x="167" y="355"/>
                  </a:lnTo>
                  <a:lnTo>
                    <a:pt x="167" y="355"/>
                  </a:lnTo>
                  <a:lnTo>
                    <a:pt x="159" y="359"/>
                  </a:lnTo>
                  <a:lnTo>
                    <a:pt x="152" y="363"/>
                  </a:lnTo>
                  <a:lnTo>
                    <a:pt x="145" y="366"/>
                  </a:lnTo>
                  <a:lnTo>
                    <a:pt x="138" y="370"/>
                  </a:lnTo>
                  <a:lnTo>
                    <a:pt x="134" y="370"/>
                  </a:lnTo>
                  <a:lnTo>
                    <a:pt x="134" y="374"/>
                  </a:lnTo>
                  <a:lnTo>
                    <a:pt x="130" y="381"/>
                  </a:lnTo>
                  <a:lnTo>
                    <a:pt x="134" y="381"/>
                  </a:lnTo>
                  <a:lnTo>
                    <a:pt x="134" y="377"/>
                  </a:lnTo>
                  <a:lnTo>
                    <a:pt x="127" y="381"/>
                  </a:lnTo>
                  <a:lnTo>
                    <a:pt x="116" y="384"/>
                  </a:lnTo>
                  <a:lnTo>
                    <a:pt x="109" y="388"/>
                  </a:lnTo>
                  <a:lnTo>
                    <a:pt x="109" y="392"/>
                  </a:lnTo>
                  <a:lnTo>
                    <a:pt x="109" y="388"/>
                  </a:lnTo>
                  <a:lnTo>
                    <a:pt x="98" y="388"/>
                  </a:lnTo>
                  <a:lnTo>
                    <a:pt x="83" y="388"/>
                  </a:lnTo>
                  <a:lnTo>
                    <a:pt x="83" y="392"/>
                  </a:lnTo>
                  <a:lnTo>
                    <a:pt x="87" y="388"/>
                  </a:lnTo>
                  <a:lnTo>
                    <a:pt x="76" y="384"/>
                  </a:lnTo>
                  <a:lnTo>
                    <a:pt x="65" y="381"/>
                  </a:lnTo>
                  <a:lnTo>
                    <a:pt x="54" y="377"/>
                  </a:lnTo>
                  <a:lnTo>
                    <a:pt x="43" y="374"/>
                  </a:lnTo>
                  <a:lnTo>
                    <a:pt x="33" y="366"/>
                  </a:lnTo>
                  <a:lnTo>
                    <a:pt x="29" y="370"/>
                  </a:lnTo>
                  <a:lnTo>
                    <a:pt x="36" y="370"/>
                  </a:lnTo>
                  <a:lnTo>
                    <a:pt x="29" y="359"/>
                  </a:lnTo>
                  <a:lnTo>
                    <a:pt x="29" y="359"/>
                  </a:lnTo>
                  <a:lnTo>
                    <a:pt x="25" y="355"/>
                  </a:lnTo>
                  <a:lnTo>
                    <a:pt x="22" y="352"/>
                  </a:lnTo>
                  <a:lnTo>
                    <a:pt x="18" y="355"/>
                  </a:lnTo>
                  <a:lnTo>
                    <a:pt x="25" y="355"/>
                  </a:lnTo>
                  <a:lnTo>
                    <a:pt x="22" y="348"/>
                  </a:lnTo>
                  <a:lnTo>
                    <a:pt x="22" y="348"/>
                  </a:lnTo>
                  <a:lnTo>
                    <a:pt x="18" y="345"/>
                  </a:lnTo>
                  <a:lnTo>
                    <a:pt x="14" y="341"/>
                  </a:lnTo>
                  <a:lnTo>
                    <a:pt x="11" y="345"/>
                  </a:lnTo>
                  <a:lnTo>
                    <a:pt x="18" y="345"/>
                  </a:lnTo>
                  <a:lnTo>
                    <a:pt x="18" y="337"/>
                  </a:lnTo>
                  <a:lnTo>
                    <a:pt x="18" y="337"/>
                  </a:lnTo>
                  <a:lnTo>
                    <a:pt x="14" y="334"/>
                  </a:lnTo>
                  <a:lnTo>
                    <a:pt x="11" y="330"/>
                  </a:lnTo>
                  <a:lnTo>
                    <a:pt x="7" y="334"/>
                  </a:lnTo>
                  <a:lnTo>
                    <a:pt x="14" y="334"/>
                  </a:lnTo>
                  <a:lnTo>
                    <a:pt x="14" y="326"/>
                  </a:lnTo>
                  <a:lnTo>
                    <a:pt x="14" y="326"/>
                  </a:lnTo>
                  <a:lnTo>
                    <a:pt x="14" y="326"/>
                  </a:lnTo>
                  <a:lnTo>
                    <a:pt x="11" y="319"/>
                  </a:lnTo>
                  <a:lnTo>
                    <a:pt x="4" y="319"/>
                  </a:lnTo>
                  <a:lnTo>
                    <a:pt x="11" y="319"/>
                  </a:lnTo>
                  <a:lnTo>
                    <a:pt x="11" y="312"/>
                  </a:lnTo>
                  <a:lnTo>
                    <a:pt x="11" y="305"/>
                  </a:lnTo>
                  <a:lnTo>
                    <a:pt x="4" y="305"/>
                  </a:lnTo>
                  <a:lnTo>
                    <a:pt x="11" y="308"/>
                  </a:lnTo>
                  <a:lnTo>
                    <a:pt x="14" y="297"/>
                  </a:lnTo>
                  <a:lnTo>
                    <a:pt x="14" y="297"/>
                  </a:lnTo>
                  <a:lnTo>
                    <a:pt x="14" y="294"/>
                  </a:lnTo>
                  <a:lnTo>
                    <a:pt x="14" y="286"/>
                  </a:lnTo>
                  <a:lnTo>
                    <a:pt x="7" y="286"/>
                  </a:lnTo>
                  <a:lnTo>
                    <a:pt x="14" y="290"/>
                  </a:lnTo>
                  <a:lnTo>
                    <a:pt x="18" y="283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22" y="272"/>
                  </a:lnTo>
                  <a:lnTo>
                    <a:pt x="22" y="265"/>
                  </a:lnTo>
                  <a:lnTo>
                    <a:pt x="14" y="265"/>
                  </a:lnTo>
                  <a:lnTo>
                    <a:pt x="18" y="268"/>
                  </a:lnTo>
                  <a:lnTo>
                    <a:pt x="22" y="265"/>
                  </a:lnTo>
                  <a:lnTo>
                    <a:pt x="25" y="265"/>
                  </a:lnTo>
                  <a:lnTo>
                    <a:pt x="25" y="265"/>
                  </a:lnTo>
                  <a:lnTo>
                    <a:pt x="29" y="257"/>
                  </a:lnTo>
                  <a:lnTo>
                    <a:pt x="22" y="254"/>
                  </a:lnTo>
                  <a:lnTo>
                    <a:pt x="25" y="261"/>
                  </a:lnTo>
                  <a:lnTo>
                    <a:pt x="36" y="254"/>
                  </a:lnTo>
                  <a:lnTo>
                    <a:pt x="36" y="254"/>
                  </a:lnTo>
                  <a:lnTo>
                    <a:pt x="36" y="250"/>
                  </a:lnTo>
                  <a:lnTo>
                    <a:pt x="47" y="239"/>
                  </a:lnTo>
                  <a:lnTo>
                    <a:pt x="43" y="236"/>
                  </a:lnTo>
                  <a:lnTo>
                    <a:pt x="47" y="243"/>
                  </a:lnTo>
                  <a:lnTo>
                    <a:pt x="58" y="236"/>
                  </a:lnTo>
                  <a:lnTo>
                    <a:pt x="69" y="232"/>
                  </a:lnTo>
                  <a:lnTo>
                    <a:pt x="80" y="228"/>
                  </a:lnTo>
                  <a:lnTo>
                    <a:pt x="76" y="221"/>
                  </a:lnTo>
                  <a:lnTo>
                    <a:pt x="76" y="228"/>
                  </a:lnTo>
                  <a:lnTo>
                    <a:pt x="91" y="228"/>
                  </a:lnTo>
                  <a:lnTo>
                    <a:pt x="101" y="228"/>
                  </a:lnTo>
                  <a:lnTo>
                    <a:pt x="112" y="228"/>
                  </a:lnTo>
                  <a:lnTo>
                    <a:pt x="112" y="221"/>
                  </a:lnTo>
                  <a:lnTo>
                    <a:pt x="112" y="228"/>
                  </a:lnTo>
                  <a:lnTo>
                    <a:pt x="123" y="232"/>
                  </a:lnTo>
                  <a:lnTo>
                    <a:pt x="134" y="236"/>
                  </a:lnTo>
                  <a:lnTo>
                    <a:pt x="145" y="243"/>
                  </a:lnTo>
                  <a:lnTo>
                    <a:pt x="152" y="247"/>
                  </a:lnTo>
                  <a:lnTo>
                    <a:pt x="152" y="239"/>
                  </a:lnTo>
                  <a:lnTo>
                    <a:pt x="149" y="243"/>
                  </a:lnTo>
                  <a:lnTo>
                    <a:pt x="152" y="250"/>
                  </a:lnTo>
                  <a:lnTo>
                    <a:pt x="152" y="250"/>
                  </a:lnTo>
                  <a:lnTo>
                    <a:pt x="152" y="250"/>
                  </a:lnTo>
                  <a:lnTo>
                    <a:pt x="156" y="254"/>
                  </a:lnTo>
                  <a:lnTo>
                    <a:pt x="159" y="257"/>
                  </a:lnTo>
                  <a:lnTo>
                    <a:pt x="159" y="257"/>
                  </a:lnTo>
                  <a:lnTo>
                    <a:pt x="167" y="261"/>
                  </a:lnTo>
                  <a:lnTo>
                    <a:pt x="174" y="265"/>
                  </a:lnTo>
                  <a:lnTo>
                    <a:pt x="174" y="265"/>
                  </a:lnTo>
                  <a:lnTo>
                    <a:pt x="174" y="265"/>
                  </a:lnTo>
                  <a:lnTo>
                    <a:pt x="181" y="265"/>
                  </a:lnTo>
                  <a:lnTo>
                    <a:pt x="181" y="257"/>
                  </a:lnTo>
                  <a:lnTo>
                    <a:pt x="181" y="265"/>
                  </a:lnTo>
                  <a:lnTo>
                    <a:pt x="188" y="268"/>
                  </a:lnTo>
                  <a:lnTo>
                    <a:pt x="188" y="268"/>
                  </a:lnTo>
                  <a:lnTo>
                    <a:pt x="188" y="268"/>
                  </a:lnTo>
                  <a:lnTo>
                    <a:pt x="196" y="268"/>
                  </a:lnTo>
                  <a:lnTo>
                    <a:pt x="203" y="268"/>
                  </a:lnTo>
                  <a:lnTo>
                    <a:pt x="210" y="268"/>
                  </a:lnTo>
                  <a:lnTo>
                    <a:pt x="217" y="268"/>
                  </a:lnTo>
                  <a:lnTo>
                    <a:pt x="225" y="268"/>
                  </a:lnTo>
                  <a:lnTo>
                    <a:pt x="228" y="268"/>
                  </a:lnTo>
                  <a:lnTo>
                    <a:pt x="228" y="268"/>
                  </a:lnTo>
                  <a:lnTo>
                    <a:pt x="236" y="265"/>
                  </a:lnTo>
                  <a:lnTo>
                    <a:pt x="246" y="261"/>
                  </a:lnTo>
                  <a:lnTo>
                    <a:pt x="246" y="261"/>
                  </a:lnTo>
                  <a:lnTo>
                    <a:pt x="246" y="257"/>
                  </a:lnTo>
                  <a:lnTo>
                    <a:pt x="250" y="254"/>
                  </a:lnTo>
                  <a:lnTo>
                    <a:pt x="246" y="250"/>
                  </a:lnTo>
                  <a:lnTo>
                    <a:pt x="250" y="257"/>
                  </a:lnTo>
                  <a:lnTo>
                    <a:pt x="261" y="254"/>
                  </a:lnTo>
                  <a:lnTo>
                    <a:pt x="261" y="250"/>
                  </a:lnTo>
                  <a:lnTo>
                    <a:pt x="265" y="250"/>
                  </a:lnTo>
                  <a:lnTo>
                    <a:pt x="268" y="243"/>
                  </a:lnTo>
                  <a:lnTo>
                    <a:pt x="261" y="239"/>
                  </a:lnTo>
                  <a:lnTo>
                    <a:pt x="261" y="247"/>
                  </a:lnTo>
                  <a:lnTo>
                    <a:pt x="265" y="247"/>
                  </a:lnTo>
                  <a:lnTo>
                    <a:pt x="268" y="247"/>
                  </a:lnTo>
                  <a:lnTo>
                    <a:pt x="268" y="243"/>
                  </a:lnTo>
                  <a:lnTo>
                    <a:pt x="272" y="239"/>
                  </a:lnTo>
                  <a:lnTo>
                    <a:pt x="275" y="239"/>
                  </a:lnTo>
                  <a:lnTo>
                    <a:pt x="275" y="236"/>
                  </a:lnTo>
                  <a:lnTo>
                    <a:pt x="275" y="228"/>
                  </a:lnTo>
                  <a:lnTo>
                    <a:pt x="268" y="228"/>
                  </a:lnTo>
                  <a:lnTo>
                    <a:pt x="272" y="232"/>
                  </a:lnTo>
                  <a:lnTo>
                    <a:pt x="275" y="228"/>
                  </a:lnTo>
                  <a:lnTo>
                    <a:pt x="279" y="228"/>
                  </a:lnTo>
                  <a:lnTo>
                    <a:pt x="279" y="228"/>
                  </a:lnTo>
                  <a:lnTo>
                    <a:pt x="283" y="218"/>
                  </a:lnTo>
                  <a:lnTo>
                    <a:pt x="283" y="218"/>
                  </a:lnTo>
                  <a:lnTo>
                    <a:pt x="283" y="214"/>
                  </a:lnTo>
                  <a:lnTo>
                    <a:pt x="283" y="203"/>
                  </a:lnTo>
                  <a:lnTo>
                    <a:pt x="283" y="189"/>
                  </a:lnTo>
                  <a:lnTo>
                    <a:pt x="283" y="174"/>
                  </a:lnTo>
                  <a:lnTo>
                    <a:pt x="279" y="156"/>
                  </a:lnTo>
                  <a:lnTo>
                    <a:pt x="279" y="141"/>
                  </a:lnTo>
                  <a:lnTo>
                    <a:pt x="279" y="141"/>
                  </a:lnTo>
                  <a:lnTo>
                    <a:pt x="279" y="141"/>
                  </a:lnTo>
                  <a:lnTo>
                    <a:pt x="272" y="109"/>
                  </a:lnTo>
                  <a:lnTo>
                    <a:pt x="265" y="76"/>
                  </a:lnTo>
                  <a:lnTo>
                    <a:pt x="254" y="51"/>
                  </a:lnTo>
                  <a:lnTo>
                    <a:pt x="246" y="51"/>
                  </a:lnTo>
                  <a:lnTo>
                    <a:pt x="254" y="51"/>
                  </a:lnTo>
                  <a:lnTo>
                    <a:pt x="250" y="29"/>
                  </a:lnTo>
                  <a:lnTo>
                    <a:pt x="243" y="29"/>
                  </a:lnTo>
                  <a:lnTo>
                    <a:pt x="243" y="36"/>
                  </a:lnTo>
                  <a:lnTo>
                    <a:pt x="261" y="33"/>
                  </a:lnTo>
                  <a:lnTo>
                    <a:pt x="286" y="29"/>
                  </a:lnTo>
                  <a:lnTo>
                    <a:pt x="315" y="25"/>
                  </a:lnTo>
                  <a:lnTo>
                    <a:pt x="348" y="25"/>
                  </a:lnTo>
                  <a:lnTo>
                    <a:pt x="377" y="22"/>
                  </a:lnTo>
                  <a:lnTo>
                    <a:pt x="406" y="22"/>
                  </a:lnTo>
                  <a:lnTo>
                    <a:pt x="431" y="25"/>
                  </a:lnTo>
                  <a:lnTo>
                    <a:pt x="449" y="25"/>
                  </a:lnTo>
                  <a:lnTo>
                    <a:pt x="468" y="29"/>
                  </a:lnTo>
                  <a:lnTo>
                    <a:pt x="468" y="22"/>
                  </a:lnTo>
                  <a:lnTo>
                    <a:pt x="468" y="29"/>
                  </a:lnTo>
                  <a:lnTo>
                    <a:pt x="482" y="36"/>
                  </a:lnTo>
                  <a:lnTo>
                    <a:pt x="493" y="40"/>
                  </a:lnTo>
                  <a:lnTo>
                    <a:pt x="504" y="47"/>
                  </a:lnTo>
                  <a:lnTo>
                    <a:pt x="515" y="51"/>
                  </a:lnTo>
                  <a:lnTo>
                    <a:pt x="515" y="43"/>
                  </a:lnTo>
                  <a:lnTo>
                    <a:pt x="511" y="47"/>
                  </a:lnTo>
                  <a:lnTo>
                    <a:pt x="518" y="54"/>
                  </a:lnTo>
                  <a:lnTo>
                    <a:pt x="522" y="51"/>
                  </a:lnTo>
                  <a:lnTo>
                    <a:pt x="518" y="54"/>
                  </a:lnTo>
                  <a:lnTo>
                    <a:pt x="522" y="62"/>
                  </a:lnTo>
                  <a:lnTo>
                    <a:pt x="526" y="69"/>
                  </a:lnTo>
                  <a:lnTo>
                    <a:pt x="529" y="76"/>
                  </a:lnTo>
                  <a:lnTo>
                    <a:pt x="533" y="72"/>
                  </a:lnTo>
                  <a:lnTo>
                    <a:pt x="529" y="72"/>
                  </a:lnTo>
                  <a:lnTo>
                    <a:pt x="529" y="80"/>
                  </a:lnTo>
                  <a:lnTo>
                    <a:pt x="529" y="87"/>
                  </a:lnTo>
                  <a:lnTo>
                    <a:pt x="533" y="87"/>
                  </a:lnTo>
                  <a:lnTo>
                    <a:pt x="529" y="87"/>
                  </a:lnTo>
                  <a:lnTo>
                    <a:pt x="526" y="94"/>
                  </a:lnTo>
                  <a:lnTo>
                    <a:pt x="522" y="102"/>
                  </a:lnTo>
                  <a:lnTo>
                    <a:pt x="518" y="109"/>
                  </a:lnTo>
                  <a:lnTo>
                    <a:pt x="515" y="116"/>
                  </a:lnTo>
                  <a:lnTo>
                    <a:pt x="518" y="116"/>
                  </a:lnTo>
                  <a:lnTo>
                    <a:pt x="515" y="112"/>
                  </a:lnTo>
                  <a:lnTo>
                    <a:pt x="507" y="120"/>
                  </a:lnTo>
                  <a:lnTo>
                    <a:pt x="500" y="127"/>
                  </a:lnTo>
                  <a:lnTo>
                    <a:pt x="500" y="131"/>
                  </a:lnTo>
                  <a:lnTo>
                    <a:pt x="500" y="131"/>
                  </a:lnTo>
                  <a:lnTo>
                    <a:pt x="497" y="141"/>
                  </a:lnTo>
                  <a:lnTo>
                    <a:pt x="500" y="141"/>
                  </a:lnTo>
                  <a:lnTo>
                    <a:pt x="497" y="138"/>
                  </a:lnTo>
                  <a:lnTo>
                    <a:pt x="489" y="145"/>
                  </a:lnTo>
                  <a:lnTo>
                    <a:pt x="489" y="149"/>
                  </a:lnTo>
                  <a:lnTo>
                    <a:pt x="489" y="149"/>
                  </a:lnTo>
                  <a:lnTo>
                    <a:pt x="489" y="163"/>
                  </a:lnTo>
                  <a:lnTo>
                    <a:pt x="493" y="163"/>
                  </a:lnTo>
                  <a:lnTo>
                    <a:pt x="489" y="163"/>
                  </a:lnTo>
                  <a:lnTo>
                    <a:pt x="486" y="174"/>
                  </a:lnTo>
                  <a:lnTo>
                    <a:pt x="482" y="174"/>
                  </a:lnTo>
                  <a:lnTo>
                    <a:pt x="486" y="178"/>
                  </a:lnTo>
                  <a:lnTo>
                    <a:pt x="489" y="189"/>
                  </a:lnTo>
                  <a:lnTo>
                    <a:pt x="493" y="185"/>
                  </a:lnTo>
                  <a:lnTo>
                    <a:pt x="489" y="185"/>
                  </a:lnTo>
                  <a:lnTo>
                    <a:pt x="489" y="199"/>
                  </a:lnTo>
                  <a:lnTo>
                    <a:pt x="489" y="203"/>
                  </a:lnTo>
                  <a:lnTo>
                    <a:pt x="489" y="203"/>
                  </a:lnTo>
                  <a:lnTo>
                    <a:pt x="493" y="214"/>
                  </a:lnTo>
                  <a:lnTo>
                    <a:pt x="497" y="225"/>
                  </a:lnTo>
                  <a:lnTo>
                    <a:pt x="504" y="236"/>
                  </a:lnTo>
                  <a:lnTo>
                    <a:pt x="504" y="236"/>
                  </a:lnTo>
                  <a:lnTo>
                    <a:pt x="504" y="236"/>
                  </a:lnTo>
                  <a:lnTo>
                    <a:pt x="511" y="243"/>
                  </a:lnTo>
                  <a:lnTo>
                    <a:pt x="515" y="247"/>
                  </a:lnTo>
                  <a:lnTo>
                    <a:pt x="515" y="247"/>
                  </a:lnTo>
                  <a:lnTo>
                    <a:pt x="526" y="254"/>
                  </a:lnTo>
                  <a:lnTo>
                    <a:pt x="533" y="257"/>
                  </a:lnTo>
                  <a:lnTo>
                    <a:pt x="533" y="250"/>
                  </a:lnTo>
                  <a:lnTo>
                    <a:pt x="529" y="254"/>
                  </a:lnTo>
                  <a:lnTo>
                    <a:pt x="533" y="257"/>
                  </a:lnTo>
                  <a:lnTo>
                    <a:pt x="536" y="261"/>
                  </a:lnTo>
                  <a:lnTo>
                    <a:pt x="536" y="261"/>
                  </a:lnTo>
                  <a:lnTo>
                    <a:pt x="544" y="265"/>
                  </a:lnTo>
                  <a:lnTo>
                    <a:pt x="551" y="268"/>
                  </a:lnTo>
                  <a:lnTo>
                    <a:pt x="551" y="268"/>
                  </a:lnTo>
                  <a:lnTo>
                    <a:pt x="551" y="268"/>
                  </a:lnTo>
                  <a:lnTo>
                    <a:pt x="558" y="268"/>
                  </a:lnTo>
                  <a:lnTo>
                    <a:pt x="558" y="261"/>
                  </a:lnTo>
                  <a:lnTo>
                    <a:pt x="558" y="268"/>
                  </a:lnTo>
                  <a:lnTo>
                    <a:pt x="566" y="272"/>
                  </a:lnTo>
                  <a:lnTo>
                    <a:pt x="566" y="272"/>
                  </a:lnTo>
                  <a:lnTo>
                    <a:pt x="566" y="272"/>
                  </a:lnTo>
                  <a:lnTo>
                    <a:pt x="573" y="272"/>
                  </a:lnTo>
                  <a:lnTo>
                    <a:pt x="580" y="272"/>
                  </a:lnTo>
                  <a:lnTo>
                    <a:pt x="595" y="268"/>
                  </a:lnTo>
                  <a:lnTo>
                    <a:pt x="609" y="265"/>
                  </a:lnTo>
                  <a:lnTo>
                    <a:pt x="624" y="261"/>
                  </a:lnTo>
                  <a:lnTo>
                    <a:pt x="627" y="257"/>
                  </a:lnTo>
                  <a:lnTo>
                    <a:pt x="627" y="261"/>
                  </a:lnTo>
                  <a:lnTo>
                    <a:pt x="638" y="254"/>
                  </a:lnTo>
                  <a:lnTo>
                    <a:pt x="649" y="247"/>
                  </a:lnTo>
                  <a:lnTo>
                    <a:pt x="649" y="247"/>
                  </a:lnTo>
                  <a:lnTo>
                    <a:pt x="649" y="243"/>
                  </a:lnTo>
                  <a:lnTo>
                    <a:pt x="656" y="236"/>
                  </a:lnTo>
                  <a:lnTo>
                    <a:pt x="660" y="236"/>
                  </a:lnTo>
                  <a:lnTo>
                    <a:pt x="660" y="236"/>
                  </a:lnTo>
                  <a:lnTo>
                    <a:pt x="667" y="225"/>
                  </a:lnTo>
                  <a:lnTo>
                    <a:pt x="671" y="214"/>
                  </a:lnTo>
                  <a:lnTo>
                    <a:pt x="663" y="210"/>
                  </a:lnTo>
                  <a:lnTo>
                    <a:pt x="667" y="214"/>
                  </a:lnTo>
                  <a:lnTo>
                    <a:pt x="674" y="207"/>
                  </a:lnTo>
                  <a:lnTo>
                    <a:pt x="678" y="207"/>
                  </a:lnTo>
                  <a:lnTo>
                    <a:pt x="678" y="203"/>
                  </a:lnTo>
                  <a:lnTo>
                    <a:pt x="678" y="192"/>
                  </a:lnTo>
                  <a:lnTo>
                    <a:pt x="678" y="181"/>
                  </a:lnTo>
                  <a:lnTo>
                    <a:pt x="678" y="167"/>
                  </a:lnTo>
                  <a:lnTo>
                    <a:pt x="678" y="167"/>
                  </a:lnTo>
                  <a:lnTo>
                    <a:pt x="678" y="167"/>
                  </a:lnTo>
                  <a:lnTo>
                    <a:pt x="674" y="160"/>
                  </a:lnTo>
                  <a:lnTo>
                    <a:pt x="667" y="145"/>
                  </a:lnTo>
                  <a:lnTo>
                    <a:pt x="663" y="134"/>
                  </a:lnTo>
                  <a:lnTo>
                    <a:pt x="660" y="131"/>
                  </a:lnTo>
                  <a:lnTo>
                    <a:pt x="660" y="131"/>
                  </a:lnTo>
                  <a:lnTo>
                    <a:pt x="649" y="123"/>
                  </a:lnTo>
                  <a:lnTo>
                    <a:pt x="645" y="127"/>
                  </a:lnTo>
                  <a:lnTo>
                    <a:pt x="649" y="123"/>
                  </a:lnTo>
                  <a:lnTo>
                    <a:pt x="642" y="116"/>
                  </a:lnTo>
                  <a:lnTo>
                    <a:pt x="638" y="120"/>
                  </a:lnTo>
                  <a:lnTo>
                    <a:pt x="645" y="120"/>
                  </a:lnTo>
                  <a:lnTo>
                    <a:pt x="638" y="109"/>
                  </a:lnTo>
                  <a:lnTo>
                    <a:pt x="634" y="98"/>
                  </a:lnTo>
                  <a:lnTo>
                    <a:pt x="631" y="87"/>
                  </a:lnTo>
                  <a:lnTo>
                    <a:pt x="627" y="80"/>
                  </a:lnTo>
                  <a:lnTo>
                    <a:pt x="620" y="80"/>
                  </a:lnTo>
                  <a:lnTo>
                    <a:pt x="627" y="80"/>
                  </a:lnTo>
                  <a:lnTo>
                    <a:pt x="627" y="69"/>
                  </a:lnTo>
                  <a:lnTo>
                    <a:pt x="627" y="58"/>
                  </a:lnTo>
                  <a:lnTo>
                    <a:pt x="620" y="58"/>
                  </a:lnTo>
                  <a:lnTo>
                    <a:pt x="627" y="62"/>
                  </a:lnTo>
                  <a:lnTo>
                    <a:pt x="631" y="51"/>
                  </a:lnTo>
                  <a:lnTo>
                    <a:pt x="634" y="43"/>
                  </a:lnTo>
                  <a:lnTo>
                    <a:pt x="634" y="43"/>
                  </a:lnTo>
                  <a:lnTo>
                    <a:pt x="634" y="40"/>
                  </a:lnTo>
                  <a:lnTo>
                    <a:pt x="634" y="29"/>
                  </a:lnTo>
                  <a:lnTo>
                    <a:pt x="627" y="29"/>
                  </a:lnTo>
                  <a:lnTo>
                    <a:pt x="631" y="33"/>
                  </a:lnTo>
                  <a:lnTo>
                    <a:pt x="638" y="25"/>
                  </a:lnTo>
                  <a:lnTo>
                    <a:pt x="642" y="22"/>
                  </a:lnTo>
                  <a:lnTo>
                    <a:pt x="649" y="14"/>
                  </a:lnTo>
                  <a:lnTo>
                    <a:pt x="645" y="11"/>
                  </a:lnTo>
                  <a:lnTo>
                    <a:pt x="649" y="18"/>
                  </a:lnTo>
                  <a:lnTo>
                    <a:pt x="656" y="14"/>
                  </a:lnTo>
                  <a:lnTo>
                    <a:pt x="656" y="14"/>
                  </a:lnTo>
                  <a:lnTo>
                    <a:pt x="656" y="11"/>
                  </a:lnTo>
                  <a:lnTo>
                    <a:pt x="660" y="7"/>
                  </a:lnTo>
                  <a:lnTo>
                    <a:pt x="656" y="4"/>
                  </a:lnTo>
                  <a:lnTo>
                    <a:pt x="656" y="11"/>
                  </a:lnTo>
                  <a:lnTo>
                    <a:pt x="663" y="11"/>
                  </a:lnTo>
                  <a:lnTo>
                    <a:pt x="674" y="11"/>
                  </a:lnTo>
                  <a:lnTo>
                    <a:pt x="689" y="14"/>
                  </a:lnTo>
                  <a:lnTo>
                    <a:pt x="711" y="14"/>
                  </a:lnTo>
                  <a:lnTo>
                    <a:pt x="736" y="18"/>
                  </a:lnTo>
                  <a:lnTo>
                    <a:pt x="761" y="22"/>
                  </a:lnTo>
                  <a:lnTo>
                    <a:pt x="790" y="22"/>
                  </a:lnTo>
                  <a:lnTo>
                    <a:pt x="823" y="25"/>
                  </a:lnTo>
                  <a:lnTo>
                    <a:pt x="856" y="25"/>
                  </a:lnTo>
                  <a:lnTo>
                    <a:pt x="859" y="25"/>
                  </a:lnTo>
                  <a:lnTo>
                    <a:pt x="859" y="18"/>
                  </a:lnTo>
                  <a:lnTo>
                    <a:pt x="856" y="18"/>
                  </a:lnTo>
                  <a:lnTo>
                    <a:pt x="852" y="40"/>
                  </a:lnTo>
                  <a:lnTo>
                    <a:pt x="848" y="62"/>
                  </a:lnTo>
                  <a:lnTo>
                    <a:pt x="845" y="91"/>
                  </a:lnTo>
                  <a:lnTo>
                    <a:pt x="841" y="120"/>
                  </a:lnTo>
                  <a:lnTo>
                    <a:pt x="837" y="149"/>
                  </a:lnTo>
                  <a:lnTo>
                    <a:pt x="837" y="174"/>
                  </a:lnTo>
                  <a:lnTo>
                    <a:pt x="837" y="196"/>
                  </a:lnTo>
                  <a:lnTo>
                    <a:pt x="837" y="207"/>
                  </a:lnTo>
                  <a:lnTo>
                    <a:pt x="837" y="210"/>
                  </a:lnTo>
                  <a:lnTo>
                    <a:pt x="837" y="210"/>
                  </a:lnTo>
                  <a:lnTo>
                    <a:pt x="841" y="218"/>
                  </a:lnTo>
                  <a:lnTo>
                    <a:pt x="845" y="214"/>
                  </a:lnTo>
                  <a:lnTo>
                    <a:pt x="841" y="214"/>
                  </a:lnTo>
                  <a:lnTo>
                    <a:pt x="841" y="221"/>
                  </a:lnTo>
                  <a:lnTo>
                    <a:pt x="841" y="225"/>
                  </a:lnTo>
                  <a:lnTo>
                    <a:pt x="841" y="225"/>
                  </a:lnTo>
                  <a:lnTo>
                    <a:pt x="848" y="232"/>
                  </a:lnTo>
                  <a:lnTo>
                    <a:pt x="852" y="236"/>
                  </a:lnTo>
                  <a:lnTo>
                    <a:pt x="852" y="236"/>
                  </a:lnTo>
                  <a:lnTo>
                    <a:pt x="859" y="239"/>
                  </a:lnTo>
                  <a:lnTo>
                    <a:pt x="859" y="232"/>
                  </a:lnTo>
                  <a:lnTo>
                    <a:pt x="856" y="236"/>
                  </a:lnTo>
                  <a:lnTo>
                    <a:pt x="863" y="243"/>
                  </a:lnTo>
                  <a:lnTo>
                    <a:pt x="866" y="247"/>
                  </a:lnTo>
                  <a:lnTo>
                    <a:pt x="866" y="247"/>
                  </a:lnTo>
                  <a:lnTo>
                    <a:pt x="874" y="247"/>
                  </a:lnTo>
                  <a:lnTo>
                    <a:pt x="874" y="239"/>
                  </a:lnTo>
                  <a:lnTo>
                    <a:pt x="874" y="247"/>
                  </a:lnTo>
                  <a:lnTo>
                    <a:pt x="885" y="250"/>
                  </a:lnTo>
                  <a:lnTo>
                    <a:pt x="895" y="254"/>
                  </a:lnTo>
                  <a:lnTo>
                    <a:pt x="895" y="254"/>
                  </a:lnTo>
                  <a:lnTo>
                    <a:pt x="895" y="254"/>
                  </a:lnTo>
                  <a:lnTo>
                    <a:pt x="903" y="254"/>
                  </a:lnTo>
                  <a:lnTo>
                    <a:pt x="914" y="254"/>
                  </a:lnTo>
                  <a:lnTo>
                    <a:pt x="924" y="254"/>
                  </a:lnTo>
                  <a:lnTo>
                    <a:pt x="935" y="254"/>
                  </a:lnTo>
                  <a:lnTo>
                    <a:pt x="939" y="254"/>
                  </a:lnTo>
                  <a:lnTo>
                    <a:pt x="939" y="254"/>
                  </a:lnTo>
                  <a:lnTo>
                    <a:pt x="946" y="250"/>
                  </a:lnTo>
                  <a:lnTo>
                    <a:pt x="957" y="247"/>
                  </a:lnTo>
                  <a:lnTo>
                    <a:pt x="964" y="243"/>
                  </a:lnTo>
                  <a:lnTo>
                    <a:pt x="964" y="243"/>
                  </a:lnTo>
                  <a:lnTo>
                    <a:pt x="964" y="239"/>
                  </a:lnTo>
                  <a:lnTo>
                    <a:pt x="972" y="232"/>
                  </a:lnTo>
                  <a:lnTo>
                    <a:pt x="968" y="228"/>
                  </a:lnTo>
                  <a:lnTo>
                    <a:pt x="972" y="236"/>
                  </a:lnTo>
                  <a:lnTo>
                    <a:pt x="979" y="232"/>
                  </a:lnTo>
                  <a:lnTo>
                    <a:pt x="986" y="228"/>
                  </a:lnTo>
                  <a:lnTo>
                    <a:pt x="993" y="225"/>
                  </a:lnTo>
                  <a:lnTo>
                    <a:pt x="1004" y="221"/>
                  </a:lnTo>
                  <a:lnTo>
                    <a:pt x="1001" y="214"/>
                  </a:lnTo>
                  <a:lnTo>
                    <a:pt x="1001" y="221"/>
                  </a:lnTo>
                  <a:lnTo>
                    <a:pt x="1011" y="221"/>
                  </a:lnTo>
                  <a:lnTo>
                    <a:pt x="1022" y="221"/>
                  </a:lnTo>
                  <a:lnTo>
                    <a:pt x="1022" y="214"/>
                  </a:lnTo>
                  <a:lnTo>
                    <a:pt x="1022" y="221"/>
                  </a:lnTo>
                  <a:lnTo>
                    <a:pt x="1033" y="225"/>
                  </a:lnTo>
                  <a:lnTo>
                    <a:pt x="1044" y="228"/>
                  </a:lnTo>
                  <a:lnTo>
                    <a:pt x="1055" y="236"/>
                  </a:lnTo>
                  <a:lnTo>
                    <a:pt x="1062" y="239"/>
                  </a:lnTo>
                  <a:lnTo>
                    <a:pt x="1073" y="247"/>
                  </a:lnTo>
                  <a:lnTo>
                    <a:pt x="1073" y="239"/>
                  </a:lnTo>
                  <a:lnTo>
                    <a:pt x="1069" y="243"/>
                  </a:lnTo>
                  <a:lnTo>
                    <a:pt x="1077" y="254"/>
                  </a:lnTo>
                  <a:lnTo>
                    <a:pt x="1080" y="265"/>
                  </a:lnTo>
                  <a:lnTo>
                    <a:pt x="1088" y="276"/>
                  </a:lnTo>
                  <a:lnTo>
                    <a:pt x="1091" y="272"/>
                  </a:lnTo>
                  <a:lnTo>
                    <a:pt x="1088" y="272"/>
                  </a:lnTo>
                  <a:lnTo>
                    <a:pt x="1088" y="286"/>
                  </a:lnTo>
                  <a:lnTo>
                    <a:pt x="1088" y="290"/>
                  </a:lnTo>
                  <a:lnTo>
                    <a:pt x="1088" y="290"/>
                  </a:lnTo>
                  <a:lnTo>
                    <a:pt x="1091" y="305"/>
                  </a:lnTo>
                  <a:lnTo>
                    <a:pt x="1095" y="301"/>
                  </a:lnTo>
                  <a:lnTo>
                    <a:pt x="1091" y="301"/>
                  </a:lnTo>
                  <a:lnTo>
                    <a:pt x="1088" y="308"/>
                  </a:lnTo>
                  <a:lnTo>
                    <a:pt x="1088" y="308"/>
                  </a:lnTo>
                  <a:lnTo>
                    <a:pt x="1088" y="308"/>
                  </a:lnTo>
                  <a:lnTo>
                    <a:pt x="1088" y="319"/>
                  </a:lnTo>
                  <a:lnTo>
                    <a:pt x="1091" y="319"/>
                  </a:lnTo>
                  <a:lnTo>
                    <a:pt x="1088" y="319"/>
                  </a:lnTo>
                  <a:lnTo>
                    <a:pt x="1080" y="330"/>
                  </a:lnTo>
                  <a:lnTo>
                    <a:pt x="1077" y="337"/>
                  </a:lnTo>
                  <a:lnTo>
                    <a:pt x="1080" y="337"/>
                  </a:lnTo>
                  <a:lnTo>
                    <a:pt x="1077" y="334"/>
                  </a:lnTo>
                  <a:lnTo>
                    <a:pt x="1069" y="341"/>
                  </a:lnTo>
                  <a:lnTo>
                    <a:pt x="1073" y="345"/>
                  </a:lnTo>
                  <a:lnTo>
                    <a:pt x="1073" y="341"/>
                  </a:lnTo>
                  <a:lnTo>
                    <a:pt x="1062" y="345"/>
                  </a:lnTo>
                  <a:lnTo>
                    <a:pt x="1062" y="345"/>
                  </a:lnTo>
                  <a:lnTo>
                    <a:pt x="1059" y="345"/>
                  </a:lnTo>
                  <a:lnTo>
                    <a:pt x="1051" y="352"/>
                  </a:lnTo>
                  <a:lnTo>
                    <a:pt x="1055" y="355"/>
                  </a:lnTo>
                  <a:lnTo>
                    <a:pt x="1055" y="352"/>
                  </a:lnTo>
                  <a:lnTo>
                    <a:pt x="1044" y="355"/>
                  </a:lnTo>
                  <a:lnTo>
                    <a:pt x="1033" y="359"/>
                  </a:lnTo>
                  <a:lnTo>
                    <a:pt x="1022" y="363"/>
                  </a:lnTo>
                  <a:lnTo>
                    <a:pt x="1022" y="366"/>
                  </a:lnTo>
                  <a:lnTo>
                    <a:pt x="1022" y="363"/>
                  </a:lnTo>
                  <a:lnTo>
                    <a:pt x="1011" y="363"/>
                  </a:lnTo>
                  <a:lnTo>
                    <a:pt x="1001" y="363"/>
                  </a:lnTo>
                  <a:lnTo>
                    <a:pt x="1001" y="366"/>
                  </a:lnTo>
                  <a:lnTo>
                    <a:pt x="1004" y="363"/>
                  </a:lnTo>
                  <a:lnTo>
                    <a:pt x="993" y="359"/>
                  </a:lnTo>
                  <a:lnTo>
                    <a:pt x="990" y="363"/>
                  </a:lnTo>
                  <a:lnTo>
                    <a:pt x="993" y="359"/>
                  </a:lnTo>
                  <a:lnTo>
                    <a:pt x="986" y="352"/>
                  </a:lnTo>
                  <a:lnTo>
                    <a:pt x="986" y="352"/>
                  </a:lnTo>
                  <a:lnTo>
                    <a:pt x="986" y="352"/>
                  </a:lnTo>
                  <a:lnTo>
                    <a:pt x="979" y="348"/>
                  </a:lnTo>
                  <a:lnTo>
                    <a:pt x="975" y="352"/>
                  </a:lnTo>
                  <a:lnTo>
                    <a:pt x="979" y="348"/>
                  </a:lnTo>
                  <a:lnTo>
                    <a:pt x="972" y="341"/>
                  </a:lnTo>
                  <a:lnTo>
                    <a:pt x="964" y="334"/>
                  </a:lnTo>
                  <a:lnTo>
                    <a:pt x="964" y="334"/>
                  </a:lnTo>
                  <a:lnTo>
                    <a:pt x="964" y="334"/>
                  </a:lnTo>
                  <a:lnTo>
                    <a:pt x="957" y="330"/>
                  </a:lnTo>
                  <a:lnTo>
                    <a:pt x="953" y="334"/>
                  </a:lnTo>
                  <a:lnTo>
                    <a:pt x="957" y="330"/>
                  </a:lnTo>
                  <a:lnTo>
                    <a:pt x="950" y="323"/>
                  </a:lnTo>
                  <a:lnTo>
                    <a:pt x="950" y="323"/>
                  </a:lnTo>
                  <a:lnTo>
                    <a:pt x="946" y="323"/>
                  </a:lnTo>
                  <a:lnTo>
                    <a:pt x="939" y="323"/>
                  </a:lnTo>
                  <a:lnTo>
                    <a:pt x="939" y="326"/>
                  </a:lnTo>
                  <a:lnTo>
                    <a:pt x="943" y="323"/>
                  </a:lnTo>
                  <a:lnTo>
                    <a:pt x="932" y="319"/>
                  </a:lnTo>
                  <a:lnTo>
                    <a:pt x="932" y="319"/>
                  </a:lnTo>
                  <a:lnTo>
                    <a:pt x="928" y="319"/>
                  </a:lnTo>
                  <a:lnTo>
                    <a:pt x="921" y="319"/>
                  </a:lnTo>
                  <a:lnTo>
                    <a:pt x="921" y="319"/>
                  </a:lnTo>
                  <a:lnTo>
                    <a:pt x="921" y="319"/>
                  </a:lnTo>
                  <a:lnTo>
                    <a:pt x="910" y="323"/>
                  </a:lnTo>
                  <a:lnTo>
                    <a:pt x="910" y="326"/>
                  </a:lnTo>
                  <a:lnTo>
                    <a:pt x="910" y="323"/>
                  </a:lnTo>
                  <a:lnTo>
                    <a:pt x="903" y="323"/>
                  </a:lnTo>
                  <a:lnTo>
                    <a:pt x="903" y="323"/>
                  </a:lnTo>
                  <a:lnTo>
                    <a:pt x="903" y="323"/>
                  </a:lnTo>
                  <a:lnTo>
                    <a:pt x="895" y="326"/>
                  </a:lnTo>
                  <a:lnTo>
                    <a:pt x="885" y="330"/>
                  </a:lnTo>
                  <a:lnTo>
                    <a:pt x="885" y="330"/>
                  </a:lnTo>
                  <a:lnTo>
                    <a:pt x="881" y="330"/>
                  </a:lnTo>
                  <a:lnTo>
                    <a:pt x="874" y="337"/>
                  </a:lnTo>
                  <a:lnTo>
                    <a:pt x="866" y="345"/>
                  </a:lnTo>
                  <a:lnTo>
                    <a:pt x="870" y="348"/>
                  </a:lnTo>
                  <a:lnTo>
                    <a:pt x="870" y="345"/>
                  </a:lnTo>
                  <a:lnTo>
                    <a:pt x="863" y="348"/>
                  </a:lnTo>
                  <a:lnTo>
                    <a:pt x="863" y="348"/>
                  </a:lnTo>
                  <a:lnTo>
                    <a:pt x="859" y="348"/>
                  </a:lnTo>
                  <a:lnTo>
                    <a:pt x="852" y="355"/>
                  </a:lnTo>
                  <a:lnTo>
                    <a:pt x="852" y="359"/>
                  </a:lnTo>
                  <a:lnTo>
                    <a:pt x="852" y="359"/>
                  </a:lnTo>
                  <a:lnTo>
                    <a:pt x="848" y="370"/>
                  </a:lnTo>
                  <a:lnTo>
                    <a:pt x="845" y="377"/>
                  </a:lnTo>
                  <a:lnTo>
                    <a:pt x="841" y="388"/>
                  </a:lnTo>
                  <a:lnTo>
                    <a:pt x="841" y="388"/>
                  </a:lnTo>
                  <a:lnTo>
                    <a:pt x="841" y="388"/>
                  </a:lnTo>
                  <a:lnTo>
                    <a:pt x="841" y="399"/>
                  </a:lnTo>
                  <a:lnTo>
                    <a:pt x="841" y="413"/>
                  </a:lnTo>
                  <a:lnTo>
                    <a:pt x="841" y="428"/>
                  </a:lnTo>
                  <a:lnTo>
                    <a:pt x="841" y="432"/>
                  </a:lnTo>
                  <a:lnTo>
                    <a:pt x="841" y="432"/>
                  </a:lnTo>
                  <a:lnTo>
                    <a:pt x="848" y="464"/>
                  </a:lnTo>
                  <a:lnTo>
                    <a:pt x="856" y="497"/>
                  </a:lnTo>
                  <a:lnTo>
                    <a:pt x="859" y="493"/>
                  </a:lnTo>
                  <a:lnTo>
                    <a:pt x="856" y="493"/>
                  </a:lnTo>
                  <a:lnTo>
                    <a:pt x="859" y="511"/>
                  </a:lnTo>
                  <a:lnTo>
                    <a:pt x="859" y="522"/>
                  </a:lnTo>
                  <a:lnTo>
                    <a:pt x="859" y="515"/>
                  </a:lnTo>
                  <a:lnTo>
                    <a:pt x="863" y="530"/>
                  </a:lnTo>
                  <a:lnTo>
                    <a:pt x="866" y="526"/>
                  </a:lnTo>
                  <a:lnTo>
                    <a:pt x="863" y="526"/>
                  </a:lnTo>
                  <a:lnTo>
                    <a:pt x="863" y="544"/>
                  </a:lnTo>
                  <a:lnTo>
                    <a:pt x="863" y="562"/>
                  </a:lnTo>
                  <a:lnTo>
                    <a:pt x="863" y="577"/>
                  </a:lnTo>
                  <a:lnTo>
                    <a:pt x="863" y="591"/>
                  </a:lnTo>
                  <a:lnTo>
                    <a:pt x="863" y="598"/>
                  </a:lnTo>
                  <a:lnTo>
                    <a:pt x="866" y="598"/>
                  </a:lnTo>
                  <a:lnTo>
                    <a:pt x="863" y="595"/>
                  </a:lnTo>
                  <a:lnTo>
                    <a:pt x="859" y="598"/>
                  </a:lnTo>
                  <a:lnTo>
                    <a:pt x="859" y="602"/>
                  </a:lnTo>
                  <a:lnTo>
                    <a:pt x="859" y="602"/>
                  </a:lnTo>
                  <a:lnTo>
                    <a:pt x="859" y="609"/>
                  </a:lnTo>
                  <a:lnTo>
                    <a:pt x="863" y="609"/>
                  </a:lnTo>
                  <a:lnTo>
                    <a:pt x="859" y="609"/>
                  </a:lnTo>
                  <a:lnTo>
                    <a:pt x="856" y="617"/>
                  </a:lnTo>
                  <a:lnTo>
                    <a:pt x="859" y="617"/>
                  </a:lnTo>
                  <a:lnTo>
                    <a:pt x="859" y="613"/>
                  </a:lnTo>
                  <a:lnTo>
                    <a:pt x="845" y="620"/>
                  </a:lnTo>
                  <a:lnTo>
                    <a:pt x="834" y="627"/>
                  </a:lnTo>
                  <a:lnTo>
                    <a:pt x="834" y="631"/>
                  </a:lnTo>
                  <a:lnTo>
                    <a:pt x="834" y="627"/>
                  </a:lnTo>
                  <a:lnTo>
                    <a:pt x="816" y="631"/>
                  </a:lnTo>
                  <a:lnTo>
                    <a:pt x="798" y="635"/>
                  </a:lnTo>
                  <a:lnTo>
                    <a:pt x="783" y="635"/>
                  </a:lnTo>
                  <a:lnTo>
                    <a:pt x="761" y="638"/>
                  </a:lnTo>
                  <a:lnTo>
                    <a:pt x="743" y="638"/>
                  </a:lnTo>
                  <a:lnTo>
                    <a:pt x="725" y="638"/>
                  </a:lnTo>
                  <a:lnTo>
                    <a:pt x="707" y="638"/>
                  </a:lnTo>
                  <a:lnTo>
                    <a:pt x="689" y="635"/>
                  </a:lnTo>
                  <a:lnTo>
                    <a:pt x="674" y="635"/>
                  </a:lnTo>
                  <a:lnTo>
                    <a:pt x="656" y="631"/>
                  </a:lnTo>
                  <a:lnTo>
                    <a:pt x="642" y="627"/>
                  </a:lnTo>
                  <a:lnTo>
                    <a:pt x="627" y="624"/>
                  </a:lnTo>
                  <a:lnTo>
                    <a:pt x="627" y="627"/>
                  </a:lnTo>
                  <a:lnTo>
                    <a:pt x="631" y="624"/>
                  </a:lnTo>
                  <a:lnTo>
                    <a:pt x="624" y="617"/>
                  </a:lnTo>
                  <a:lnTo>
                    <a:pt x="624" y="617"/>
                  </a:lnTo>
                  <a:lnTo>
                    <a:pt x="624" y="617"/>
                  </a:lnTo>
                  <a:lnTo>
                    <a:pt x="613" y="613"/>
                  </a:lnTo>
                  <a:lnTo>
                    <a:pt x="609" y="617"/>
                  </a:lnTo>
                  <a:lnTo>
                    <a:pt x="613" y="613"/>
                  </a:lnTo>
                  <a:lnTo>
                    <a:pt x="605" y="606"/>
                  </a:lnTo>
                  <a:lnTo>
                    <a:pt x="602" y="602"/>
                  </a:lnTo>
                  <a:lnTo>
                    <a:pt x="598" y="606"/>
                  </a:lnTo>
                  <a:lnTo>
                    <a:pt x="605" y="606"/>
                  </a:lnTo>
                  <a:lnTo>
                    <a:pt x="602" y="598"/>
                  </a:lnTo>
                  <a:lnTo>
                    <a:pt x="602" y="598"/>
                  </a:lnTo>
                  <a:lnTo>
                    <a:pt x="598" y="595"/>
                  </a:lnTo>
                  <a:lnTo>
                    <a:pt x="595" y="591"/>
                  </a:lnTo>
                  <a:lnTo>
                    <a:pt x="591" y="595"/>
                  </a:lnTo>
                  <a:lnTo>
                    <a:pt x="598" y="595"/>
                  </a:lnTo>
                  <a:lnTo>
                    <a:pt x="598" y="591"/>
                  </a:lnTo>
                  <a:lnTo>
                    <a:pt x="598" y="584"/>
                  </a:lnTo>
                  <a:lnTo>
                    <a:pt x="598" y="580"/>
                  </a:lnTo>
                  <a:lnTo>
                    <a:pt x="598" y="573"/>
                  </a:lnTo>
                  <a:lnTo>
                    <a:pt x="591" y="573"/>
                  </a:lnTo>
                  <a:lnTo>
                    <a:pt x="598" y="577"/>
                  </a:lnTo>
                  <a:lnTo>
                    <a:pt x="602" y="569"/>
                  </a:lnTo>
                  <a:lnTo>
                    <a:pt x="595" y="566"/>
                  </a:lnTo>
                  <a:lnTo>
                    <a:pt x="598" y="569"/>
                  </a:lnTo>
                  <a:lnTo>
                    <a:pt x="602" y="566"/>
                  </a:lnTo>
                  <a:lnTo>
                    <a:pt x="605" y="566"/>
                  </a:lnTo>
                  <a:lnTo>
                    <a:pt x="605" y="566"/>
                  </a:lnTo>
                  <a:lnTo>
                    <a:pt x="609" y="559"/>
                  </a:lnTo>
                  <a:lnTo>
                    <a:pt x="613" y="551"/>
                  </a:lnTo>
                  <a:lnTo>
                    <a:pt x="605" y="548"/>
                  </a:lnTo>
                  <a:lnTo>
                    <a:pt x="609" y="551"/>
                  </a:lnTo>
                  <a:lnTo>
                    <a:pt x="624" y="537"/>
                  </a:lnTo>
                  <a:lnTo>
                    <a:pt x="638" y="522"/>
                  </a:lnTo>
                  <a:lnTo>
                    <a:pt x="645" y="515"/>
                  </a:lnTo>
                  <a:lnTo>
                    <a:pt x="649" y="515"/>
                  </a:lnTo>
                  <a:lnTo>
                    <a:pt x="649" y="515"/>
                  </a:lnTo>
                  <a:lnTo>
                    <a:pt x="653" y="504"/>
                  </a:lnTo>
                  <a:lnTo>
                    <a:pt x="656" y="493"/>
                  </a:lnTo>
                  <a:lnTo>
                    <a:pt x="660" y="482"/>
                  </a:lnTo>
                  <a:lnTo>
                    <a:pt x="660" y="482"/>
                  </a:lnTo>
                  <a:lnTo>
                    <a:pt x="660" y="479"/>
                  </a:lnTo>
                  <a:lnTo>
                    <a:pt x="660" y="468"/>
                  </a:lnTo>
                  <a:lnTo>
                    <a:pt x="660" y="468"/>
                  </a:lnTo>
                  <a:lnTo>
                    <a:pt x="660" y="468"/>
                  </a:lnTo>
                  <a:lnTo>
                    <a:pt x="656" y="457"/>
                  </a:lnTo>
                  <a:lnTo>
                    <a:pt x="653" y="446"/>
                  </a:lnTo>
                  <a:lnTo>
                    <a:pt x="649" y="432"/>
                  </a:lnTo>
                  <a:lnTo>
                    <a:pt x="642" y="421"/>
                  </a:lnTo>
                  <a:lnTo>
                    <a:pt x="642" y="421"/>
                  </a:lnTo>
                  <a:lnTo>
                    <a:pt x="638" y="417"/>
                  </a:lnTo>
                  <a:lnTo>
                    <a:pt x="631" y="410"/>
                  </a:lnTo>
                  <a:lnTo>
                    <a:pt x="624" y="403"/>
                  </a:lnTo>
                  <a:lnTo>
                    <a:pt x="613" y="392"/>
                  </a:lnTo>
                  <a:lnTo>
                    <a:pt x="613" y="392"/>
                  </a:lnTo>
                  <a:lnTo>
                    <a:pt x="613" y="392"/>
                  </a:lnTo>
                  <a:lnTo>
                    <a:pt x="605" y="388"/>
                  </a:lnTo>
                  <a:lnTo>
                    <a:pt x="591" y="381"/>
                  </a:lnTo>
                  <a:lnTo>
                    <a:pt x="580" y="377"/>
                  </a:lnTo>
                  <a:lnTo>
                    <a:pt x="580" y="377"/>
                  </a:lnTo>
                  <a:lnTo>
                    <a:pt x="576" y="377"/>
                  </a:lnTo>
                  <a:lnTo>
                    <a:pt x="562" y="377"/>
                  </a:lnTo>
                  <a:lnTo>
                    <a:pt x="547" y="377"/>
                  </a:lnTo>
                  <a:lnTo>
                    <a:pt x="547" y="377"/>
                  </a:lnTo>
                  <a:lnTo>
                    <a:pt x="547" y="377"/>
                  </a:lnTo>
                  <a:lnTo>
                    <a:pt x="536" y="381"/>
                  </a:lnTo>
                  <a:lnTo>
                    <a:pt x="522" y="388"/>
                  </a:lnTo>
                  <a:lnTo>
                    <a:pt x="511" y="392"/>
                  </a:lnTo>
                  <a:lnTo>
                    <a:pt x="500" y="399"/>
                  </a:lnTo>
                  <a:lnTo>
                    <a:pt x="500" y="399"/>
                  </a:lnTo>
                  <a:lnTo>
                    <a:pt x="497" y="399"/>
                  </a:lnTo>
                  <a:lnTo>
                    <a:pt x="486" y="410"/>
                  </a:lnTo>
                  <a:lnTo>
                    <a:pt x="478" y="417"/>
                  </a:lnTo>
                  <a:lnTo>
                    <a:pt x="478" y="421"/>
                  </a:lnTo>
                  <a:lnTo>
                    <a:pt x="478" y="421"/>
                  </a:lnTo>
                  <a:lnTo>
                    <a:pt x="471" y="432"/>
                  </a:lnTo>
                  <a:lnTo>
                    <a:pt x="464" y="442"/>
                  </a:lnTo>
                  <a:lnTo>
                    <a:pt x="460" y="453"/>
                  </a:lnTo>
                  <a:lnTo>
                    <a:pt x="457" y="468"/>
                  </a:lnTo>
                  <a:lnTo>
                    <a:pt x="457" y="468"/>
                  </a:lnTo>
                  <a:lnTo>
                    <a:pt x="457" y="468"/>
                  </a:lnTo>
                  <a:lnTo>
                    <a:pt x="457" y="479"/>
                  </a:lnTo>
                  <a:lnTo>
                    <a:pt x="457" y="482"/>
                  </a:lnTo>
                  <a:lnTo>
                    <a:pt x="457" y="482"/>
                  </a:lnTo>
                  <a:lnTo>
                    <a:pt x="460" y="493"/>
                  </a:lnTo>
                  <a:lnTo>
                    <a:pt x="464" y="504"/>
                  </a:lnTo>
                  <a:lnTo>
                    <a:pt x="468" y="511"/>
                  </a:lnTo>
                  <a:lnTo>
                    <a:pt x="471" y="508"/>
                  </a:lnTo>
                  <a:lnTo>
                    <a:pt x="468" y="508"/>
                  </a:lnTo>
                  <a:lnTo>
                    <a:pt x="468" y="511"/>
                  </a:lnTo>
                  <a:lnTo>
                    <a:pt x="468" y="515"/>
                  </a:lnTo>
                  <a:lnTo>
                    <a:pt x="468" y="515"/>
                  </a:lnTo>
                  <a:lnTo>
                    <a:pt x="471" y="522"/>
                  </a:lnTo>
                  <a:lnTo>
                    <a:pt x="471" y="522"/>
                  </a:lnTo>
                  <a:lnTo>
                    <a:pt x="475" y="526"/>
                  </a:lnTo>
                  <a:lnTo>
                    <a:pt x="482" y="530"/>
                  </a:lnTo>
                  <a:lnTo>
                    <a:pt x="482" y="522"/>
                  </a:lnTo>
                  <a:lnTo>
                    <a:pt x="478" y="526"/>
                  </a:lnTo>
                  <a:lnTo>
                    <a:pt x="486" y="537"/>
                  </a:lnTo>
                  <a:lnTo>
                    <a:pt x="486" y="537"/>
                  </a:lnTo>
                  <a:lnTo>
                    <a:pt x="486" y="537"/>
                  </a:lnTo>
                  <a:lnTo>
                    <a:pt x="493" y="544"/>
                  </a:lnTo>
                  <a:lnTo>
                    <a:pt x="497" y="540"/>
                  </a:lnTo>
                  <a:lnTo>
                    <a:pt x="493" y="544"/>
                  </a:lnTo>
                  <a:lnTo>
                    <a:pt x="497" y="555"/>
                  </a:lnTo>
                  <a:lnTo>
                    <a:pt x="497" y="555"/>
                  </a:lnTo>
                  <a:lnTo>
                    <a:pt x="497" y="555"/>
                  </a:lnTo>
                  <a:lnTo>
                    <a:pt x="504" y="562"/>
                  </a:lnTo>
                  <a:lnTo>
                    <a:pt x="507" y="559"/>
                  </a:lnTo>
                  <a:lnTo>
                    <a:pt x="504" y="562"/>
                  </a:lnTo>
                  <a:lnTo>
                    <a:pt x="507" y="569"/>
                  </a:lnTo>
                  <a:lnTo>
                    <a:pt x="511" y="566"/>
                  </a:lnTo>
                  <a:lnTo>
                    <a:pt x="507" y="566"/>
                  </a:lnTo>
                  <a:lnTo>
                    <a:pt x="507" y="573"/>
                  </a:lnTo>
                  <a:lnTo>
                    <a:pt x="507" y="577"/>
                  </a:lnTo>
                  <a:lnTo>
                    <a:pt x="507" y="577"/>
                  </a:lnTo>
                  <a:lnTo>
                    <a:pt x="511" y="584"/>
                  </a:lnTo>
                  <a:lnTo>
                    <a:pt x="515" y="580"/>
                  </a:lnTo>
                  <a:lnTo>
                    <a:pt x="511" y="580"/>
                  </a:lnTo>
                  <a:lnTo>
                    <a:pt x="511" y="588"/>
                  </a:lnTo>
                  <a:lnTo>
                    <a:pt x="515" y="588"/>
                  </a:lnTo>
                  <a:lnTo>
                    <a:pt x="511" y="588"/>
                  </a:lnTo>
                  <a:lnTo>
                    <a:pt x="507" y="595"/>
                  </a:lnTo>
                  <a:lnTo>
                    <a:pt x="507" y="595"/>
                  </a:lnTo>
                  <a:lnTo>
                    <a:pt x="507" y="595"/>
                  </a:lnTo>
                  <a:lnTo>
                    <a:pt x="507" y="598"/>
                  </a:lnTo>
                  <a:lnTo>
                    <a:pt x="511" y="598"/>
                  </a:lnTo>
                  <a:lnTo>
                    <a:pt x="507" y="595"/>
                  </a:lnTo>
                  <a:lnTo>
                    <a:pt x="504" y="598"/>
                  </a:lnTo>
                  <a:lnTo>
                    <a:pt x="504" y="602"/>
                  </a:lnTo>
                  <a:lnTo>
                    <a:pt x="504" y="602"/>
                  </a:lnTo>
                  <a:lnTo>
                    <a:pt x="500" y="609"/>
                  </a:lnTo>
                  <a:lnTo>
                    <a:pt x="504" y="609"/>
                  </a:lnTo>
                  <a:lnTo>
                    <a:pt x="504" y="606"/>
                  </a:lnTo>
                  <a:lnTo>
                    <a:pt x="497" y="609"/>
                  </a:lnTo>
                  <a:lnTo>
                    <a:pt x="497" y="613"/>
                  </a:lnTo>
                  <a:lnTo>
                    <a:pt x="497" y="609"/>
                  </a:lnTo>
                  <a:lnTo>
                    <a:pt x="493" y="609"/>
                  </a:lnTo>
                  <a:lnTo>
                    <a:pt x="493" y="609"/>
                  </a:lnTo>
                  <a:lnTo>
                    <a:pt x="493" y="609"/>
                  </a:lnTo>
                  <a:lnTo>
                    <a:pt x="482" y="613"/>
                  </a:lnTo>
                  <a:lnTo>
                    <a:pt x="482" y="617"/>
                  </a:lnTo>
                  <a:lnTo>
                    <a:pt x="482" y="613"/>
                  </a:lnTo>
                  <a:lnTo>
                    <a:pt x="475" y="613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670040" y="1193760"/>
            <a:ext cx="1828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-TR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2293920"/>
            <a:ext cx="441648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stitutional – listed and O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tail – Structured Products – O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 foc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hat is happening now?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10680" y="659880"/>
            <a:ext cx="5854680" cy="36752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itigroup: 14 people (1994), 100+ peop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 news: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WTH STOR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11040" y="263520"/>
            <a:ext cx="5880240" cy="26352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ell, that’s sum up our presentation…some News</a:t>
            </a: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10680" y="659880"/>
            <a:ext cx="5854680" cy="367524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t">
            <a:normAutofit/>
          </a:bodyPr>
          <a:p>
            <a:pPr marL="2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ave you heard about this before?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range County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ick Lees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-24300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ron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 you may have heard, they have painted a bad picture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243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t truth is…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1040" y="233280"/>
            <a:ext cx="5880240" cy="32436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33280"/>
            <a:ext cx="55231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Trad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762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751280" y="658800"/>
            <a:ext cx="1333080" cy="1850760"/>
            <a:chOff x="4751280" y="658800"/>
            <a:chExt cx="1333080" cy="1850760"/>
          </a:xfrm>
        </p:grpSpPr>
        <p:grpSp>
          <p:nvGrpSpPr>
            <p:cNvPr id="70" name=""/>
            <p:cNvGrpSpPr/>
            <p:nvPr/>
          </p:nvGrpSpPr>
          <p:grpSpPr>
            <a:xfrm>
              <a:off x="4751280" y="658800"/>
              <a:ext cx="1333080" cy="1850760"/>
              <a:chOff x="4751280" y="658800"/>
              <a:chExt cx="1333080" cy="1850760"/>
            </a:xfrm>
          </p:grpSpPr>
          <p:sp>
            <p:nvSpPr>
              <p:cNvPr id="71" name=""/>
              <p:cNvSpPr/>
              <p:nvPr/>
            </p:nvSpPr>
            <p:spPr>
              <a:xfrm>
                <a:off x="4759200" y="666720"/>
                <a:ext cx="1311480" cy="1829160"/>
              </a:xfrm>
              <a:custGeom>
                <a:avLst/>
                <a:gdLst/>
                <a:ahLst/>
                <a:rect l="l" t="t" r="r" b="b"/>
                <a:pathLst>
                  <a:path w="667" h="914">
                    <a:moveTo>
                      <a:pt x="203" y="881"/>
                    </a:moveTo>
                    <a:lnTo>
                      <a:pt x="218" y="885"/>
                    </a:lnTo>
                    <a:lnTo>
                      <a:pt x="228" y="888"/>
                    </a:lnTo>
                    <a:lnTo>
                      <a:pt x="243" y="888"/>
                    </a:lnTo>
                    <a:lnTo>
                      <a:pt x="254" y="888"/>
                    </a:lnTo>
                    <a:lnTo>
                      <a:pt x="261" y="888"/>
                    </a:lnTo>
                    <a:lnTo>
                      <a:pt x="268" y="885"/>
                    </a:lnTo>
                    <a:lnTo>
                      <a:pt x="276" y="881"/>
                    </a:lnTo>
                    <a:lnTo>
                      <a:pt x="279" y="874"/>
                    </a:lnTo>
                    <a:lnTo>
                      <a:pt x="286" y="870"/>
                    </a:lnTo>
                    <a:lnTo>
                      <a:pt x="286" y="863"/>
                    </a:lnTo>
                    <a:lnTo>
                      <a:pt x="286" y="856"/>
                    </a:lnTo>
                    <a:lnTo>
                      <a:pt x="286" y="845"/>
                    </a:lnTo>
                    <a:lnTo>
                      <a:pt x="286" y="837"/>
                    </a:lnTo>
                    <a:lnTo>
                      <a:pt x="283" y="830"/>
                    </a:lnTo>
                    <a:lnTo>
                      <a:pt x="279" y="823"/>
                    </a:lnTo>
                    <a:lnTo>
                      <a:pt x="272" y="816"/>
                    </a:lnTo>
                    <a:lnTo>
                      <a:pt x="265" y="808"/>
                    </a:lnTo>
                    <a:lnTo>
                      <a:pt x="257" y="794"/>
                    </a:lnTo>
                    <a:lnTo>
                      <a:pt x="254" y="783"/>
                    </a:lnTo>
                    <a:lnTo>
                      <a:pt x="250" y="772"/>
                    </a:lnTo>
                    <a:lnTo>
                      <a:pt x="247" y="761"/>
                    </a:lnTo>
                    <a:lnTo>
                      <a:pt x="243" y="747"/>
                    </a:lnTo>
                    <a:lnTo>
                      <a:pt x="243" y="736"/>
                    </a:lnTo>
                    <a:lnTo>
                      <a:pt x="247" y="721"/>
                    </a:lnTo>
                    <a:lnTo>
                      <a:pt x="250" y="710"/>
                    </a:lnTo>
                    <a:lnTo>
                      <a:pt x="254" y="700"/>
                    </a:lnTo>
                    <a:lnTo>
                      <a:pt x="257" y="696"/>
                    </a:lnTo>
                    <a:lnTo>
                      <a:pt x="261" y="689"/>
                    </a:lnTo>
                    <a:lnTo>
                      <a:pt x="265" y="685"/>
                    </a:lnTo>
                    <a:lnTo>
                      <a:pt x="268" y="681"/>
                    </a:lnTo>
                    <a:lnTo>
                      <a:pt x="272" y="678"/>
                    </a:lnTo>
                    <a:lnTo>
                      <a:pt x="279" y="674"/>
                    </a:lnTo>
                    <a:lnTo>
                      <a:pt x="283" y="674"/>
                    </a:lnTo>
                    <a:lnTo>
                      <a:pt x="290" y="671"/>
                    </a:lnTo>
                    <a:lnTo>
                      <a:pt x="297" y="667"/>
                    </a:lnTo>
                    <a:lnTo>
                      <a:pt x="305" y="667"/>
                    </a:lnTo>
                    <a:lnTo>
                      <a:pt x="312" y="663"/>
                    </a:lnTo>
                    <a:lnTo>
                      <a:pt x="319" y="663"/>
                    </a:lnTo>
                    <a:lnTo>
                      <a:pt x="330" y="663"/>
                    </a:lnTo>
                    <a:lnTo>
                      <a:pt x="337" y="663"/>
                    </a:lnTo>
                    <a:lnTo>
                      <a:pt x="348" y="667"/>
                    </a:lnTo>
                    <a:lnTo>
                      <a:pt x="355" y="667"/>
                    </a:lnTo>
                    <a:lnTo>
                      <a:pt x="363" y="671"/>
                    </a:lnTo>
                    <a:lnTo>
                      <a:pt x="370" y="674"/>
                    </a:lnTo>
                    <a:lnTo>
                      <a:pt x="377" y="674"/>
                    </a:lnTo>
                    <a:lnTo>
                      <a:pt x="381" y="678"/>
                    </a:lnTo>
                    <a:lnTo>
                      <a:pt x="388" y="681"/>
                    </a:lnTo>
                    <a:lnTo>
                      <a:pt x="392" y="685"/>
                    </a:lnTo>
                    <a:lnTo>
                      <a:pt x="399" y="689"/>
                    </a:lnTo>
                    <a:lnTo>
                      <a:pt x="403" y="696"/>
                    </a:lnTo>
                    <a:lnTo>
                      <a:pt x="406" y="703"/>
                    </a:lnTo>
                    <a:lnTo>
                      <a:pt x="413" y="714"/>
                    </a:lnTo>
                    <a:lnTo>
                      <a:pt x="417" y="725"/>
                    </a:lnTo>
                    <a:lnTo>
                      <a:pt x="417" y="736"/>
                    </a:lnTo>
                    <a:lnTo>
                      <a:pt x="417" y="750"/>
                    </a:lnTo>
                    <a:lnTo>
                      <a:pt x="417" y="761"/>
                    </a:lnTo>
                    <a:lnTo>
                      <a:pt x="413" y="772"/>
                    </a:lnTo>
                    <a:lnTo>
                      <a:pt x="410" y="783"/>
                    </a:lnTo>
                    <a:lnTo>
                      <a:pt x="403" y="790"/>
                    </a:lnTo>
                    <a:lnTo>
                      <a:pt x="395" y="801"/>
                    </a:lnTo>
                    <a:lnTo>
                      <a:pt x="381" y="816"/>
                    </a:lnTo>
                    <a:lnTo>
                      <a:pt x="374" y="830"/>
                    </a:lnTo>
                    <a:lnTo>
                      <a:pt x="370" y="837"/>
                    </a:lnTo>
                    <a:lnTo>
                      <a:pt x="366" y="841"/>
                    </a:lnTo>
                    <a:lnTo>
                      <a:pt x="366" y="848"/>
                    </a:lnTo>
                    <a:lnTo>
                      <a:pt x="366" y="852"/>
                    </a:lnTo>
                    <a:lnTo>
                      <a:pt x="366" y="859"/>
                    </a:lnTo>
                    <a:lnTo>
                      <a:pt x="366" y="863"/>
                    </a:lnTo>
                    <a:lnTo>
                      <a:pt x="370" y="866"/>
                    </a:lnTo>
                    <a:lnTo>
                      <a:pt x="374" y="870"/>
                    </a:lnTo>
                    <a:lnTo>
                      <a:pt x="381" y="877"/>
                    </a:lnTo>
                    <a:lnTo>
                      <a:pt x="384" y="881"/>
                    </a:lnTo>
                    <a:lnTo>
                      <a:pt x="392" y="885"/>
                    </a:lnTo>
                    <a:lnTo>
                      <a:pt x="403" y="888"/>
                    </a:lnTo>
                    <a:lnTo>
                      <a:pt x="413" y="892"/>
                    </a:lnTo>
                    <a:lnTo>
                      <a:pt x="428" y="895"/>
                    </a:lnTo>
                    <a:lnTo>
                      <a:pt x="442" y="903"/>
                    </a:lnTo>
                    <a:lnTo>
                      <a:pt x="457" y="903"/>
                    </a:lnTo>
                    <a:lnTo>
                      <a:pt x="471" y="906"/>
                    </a:lnTo>
                    <a:lnTo>
                      <a:pt x="486" y="910"/>
                    </a:lnTo>
                    <a:lnTo>
                      <a:pt x="504" y="914"/>
                    </a:lnTo>
                    <a:lnTo>
                      <a:pt x="522" y="914"/>
                    </a:lnTo>
                    <a:lnTo>
                      <a:pt x="537" y="914"/>
                    </a:lnTo>
                    <a:lnTo>
                      <a:pt x="555" y="914"/>
                    </a:lnTo>
                    <a:lnTo>
                      <a:pt x="569" y="914"/>
                    </a:lnTo>
                    <a:lnTo>
                      <a:pt x="584" y="910"/>
                    </a:lnTo>
                    <a:lnTo>
                      <a:pt x="598" y="906"/>
                    </a:lnTo>
                    <a:lnTo>
                      <a:pt x="613" y="903"/>
                    </a:lnTo>
                    <a:lnTo>
                      <a:pt x="624" y="895"/>
                    </a:lnTo>
                    <a:lnTo>
                      <a:pt x="635" y="888"/>
                    </a:lnTo>
                    <a:lnTo>
                      <a:pt x="631" y="877"/>
                    </a:lnTo>
                    <a:lnTo>
                      <a:pt x="631" y="863"/>
                    </a:lnTo>
                    <a:lnTo>
                      <a:pt x="627" y="848"/>
                    </a:lnTo>
                    <a:lnTo>
                      <a:pt x="627" y="834"/>
                    </a:lnTo>
                    <a:lnTo>
                      <a:pt x="627" y="805"/>
                    </a:lnTo>
                    <a:lnTo>
                      <a:pt x="627" y="772"/>
                    </a:lnTo>
                    <a:lnTo>
                      <a:pt x="631" y="743"/>
                    </a:lnTo>
                    <a:lnTo>
                      <a:pt x="631" y="714"/>
                    </a:lnTo>
                    <a:lnTo>
                      <a:pt x="635" y="692"/>
                    </a:lnTo>
                    <a:lnTo>
                      <a:pt x="635" y="674"/>
                    </a:lnTo>
                    <a:lnTo>
                      <a:pt x="635" y="671"/>
                    </a:lnTo>
                    <a:lnTo>
                      <a:pt x="631" y="663"/>
                    </a:lnTo>
                    <a:lnTo>
                      <a:pt x="627" y="656"/>
                    </a:lnTo>
                    <a:lnTo>
                      <a:pt x="624" y="649"/>
                    </a:lnTo>
                    <a:lnTo>
                      <a:pt x="616" y="645"/>
                    </a:lnTo>
                    <a:lnTo>
                      <a:pt x="609" y="642"/>
                    </a:lnTo>
                    <a:lnTo>
                      <a:pt x="602" y="634"/>
                    </a:lnTo>
                    <a:lnTo>
                      <a:pt x="595" y="634"/>
                    </a:lnTo>
                    <a:lnTo>
                      <a:pt x="587" y="631"/>
                    </a:lnTo>
                    <a:lnTo>
                      <a:pt x="580" y="627"/>
                    </a:lnTo>
                    <a:lnTo>
                      <a:pt x="573" y="627"/>
                    </a:lnTo>
                    <a:lnTo>
                      <a:pt x="562" y="627"/>
                    </a:lnTo>
                    <a:lnTo>
                      <a:pt x="555" y="631"/>
                    </a:lnTo>
                    <a:lnTo>
                      <a:pt x="548" y="634"/>
                    </a:lnTo>
                    <a:lnTo>
                      <a:pt x="540" y="638"/>
                    </a:lnTo>
                    <a:lnTo>
                      <a:pt x="537" y="645"/>
                    </a:lnTo>
                    <a:lnTo>
                      <a:pt x="529" y="649"/>
                    </a:lnTo>
                    <a:lnTo>
                      <a:pt x="522" y="652"/>
                    </a:lnTo>
                    <a:lnTo>
                      <a:pt x="515" y="656"/>
                    </a:lnTo>
                    <a:lnTo>
                      <a:pt x="504" y="660"/>
                    </a:lnTo>
                    <a:lnTo>
                      <a:pt x="493" y="660"/>
                    </a:lnTo>
                    <a:lnTo>
                      <a:pt x="482" y="660"/>
                    </a:lnTo>
                    <a:lnTo>
                      <a:pt x="471" y="660"/>
                    </a:lnTo>
                    <a:lnTo>
                      <a:pt x="461" y="656"/>
                    </a:lnTo>
                    <a:lnTo>
                      <a:pt x="450" y="652"/>
                    </a:lnTo>
                    <a:lnTo>
                      <a:pt x="439" y="645"/>
                    </a:lnTo>
                    <a:lnTo>
                      <a:pt x="432" y="638"/>
                    </a:lnTo>
                    <a:lnTo>
                      <a:pt x="421" y="631"/>
                    </a:lnTo>
                    <a:lnTo>
                      <a:pt x="417" y="623"/>
                    </a:lnTo>
                    <a:lnTo>
                      <a:pt x="413" y="620"/>
                    </a:lnTo>
                    <a:lnTo>
                      <a:pt x="413" y="613"/>
                    </a:lnTo>
                    <a:lnTo>
                      <a:pt x="410" y="609"/>
                    </a:lnTo>
                    <a:lnTo>
                      <a:pt x="406" y="602"/>
                    </a:lnTo>
                    <a:lnTo>
                      <a:pt x="406" y="594"/>
                    </a:lnTo>
                    <a:lnTo>
                      <a:pt x="406" y="587"/>
                    </a:lnTo>
                    <a:lnTo>
                      <a:pt x="406" y="580"/>
                    </a:lnTo>
                    <a:lnTo>
                      <a:pt x="406" y="573"/>
                    </a:lnTo>
                    <a:lnTo>
                      <a:pt x="406" y="562"/>
                    </a:lnTo>
                    <a:lnTo>
                      <a:pt x="406" y="554"/>
                    </a:lnTo>
                    <a:lnTo>
                      <a:pt x="410" y="547"/>
                    </a:lnTo>
                    <a:lnTo>
                      <a:pt x="413" y="540"/>
                    </a:lnTo>
                    <a:lnTo>
                      <a:pt x="413" y="533"/>
                    </a:lnTo>
                    <a:lnTo>
                      <a:pt x="417" y="529"/>
                    </a:lnTo>
                    <a:lnTo>
                      <a:pt x="424" y="522"/>
                    </a:lnTo>
                    <a:lnTo>
                      <a:pt x="432" y="515"/>
                    </a:lnTo>
                    <a:lnTo>
                      <a:pt x="442" y="504"/>
                    </a:lnTo>
                    <a:lnTo>
                      <a:pt x="453" y="496"/>
                    </a:lnTo>
                    <a:lnTo>
                      <a:pt x="464" y="493"/>
                    </a:lnTo>
                    <a:lnTo>
                      <a:pt x="475" y="489"/>
                    </a:lnTo>
                    <a:lnTo>
                      <a:pt x="486" y="489"/>
                    </a:lnTo>
                    <a:lnTo>
                      <a:pt x="500" y="489"/>
                    </a:lnTo>
                    <a:lnTo>
                      <a:pt x="511" y="489"/>
                    </a:lnTo>
                    <a:lnTo>
                      <a:pt x="522" y="493"/>
                    </a:lnTo>
                    <a:lnTo>
                      <a:pt x="533" y="496"/>
                    </a:lnTo>
                    <a:lnTo>
                      <a:pt x="540" y="504"/>
                    </a:lnTo>
                    <a:lnTo>
                      <a:pt x="548" y="507"/>
                    </a:lnTo>
                    <a:lnTo>
                      <a:pt x="551" y="515"/>
                    </a:lnTo>
                    <a:lnTo>
                      <a:pt x="558" y="518"/>
                    </a:lnTo>
                    <a:lnTo>
                      <a:pt x="562" y="522"/>
                    </a:lnTo>
                    <a:lnTo>
                      <a:pt x="569" y="522"/>
                    </a:lnTo>
                    <a:lnTo>
                      <a:pt x="577" y="525"/>
                    </a:lnTo>
                    <a:lnTo>
                      <a:pt x="584" y="529"/>
                    </a:lnTo>
                    <a:lnTo>
                      <a:pt x="591" y="529"/>
                    </a:lnTo>
                    <a:lnTo>
                      <a:pt x="598" y="529"/>
                    </a:lnTo>
                    <a:lnTo>
                      <a:pt x="606" y="529"/>
                    </a:lnTo>
                    <a:lnTo>
                      <a:pt x="613" y="529"/>
                    </a:lnTo>
                    <a:lnTo>
                      <a:pt x="620" y="525"/>
                    </a:lnTo>
                    <a:lnTo>
                      <a:pt x="627" y="525"/>
                    </a:lnTo>
                    <a:lnTo>
                      <a:pt x="635" y="522"/>
                    </a:lnTo>
                    <a:lnTo>
                      <a:pt x="642" y="518"/>
                    </a:lnTo>
                    <a:lnTo>
                      <a:pt x="649" y="515"/>
                    </a:lnTo>
                    <a:lnTo>
                      <a:pt x="656" y="507"/>
                    </a:lnTo>
                    <a:lnTo>
                      <a:pt x="656" y="504"/>
                    </a:lnTo>
                    <a:lnTo>
                      <a:pt x="660" y="504"/>
                    </a:lnTo>
                    <a:lnTo>
                      <a:pt x="664" y="496"/>
                    </a:lnTo>
                    <a:lnTo>
                      <a:pt x="664" y="493"/>
                    </a:lnTo>
                    <a:lnTo>
                      <a:pt x="667" y="482"/>
                    </a:lnTo>
                    <a:lnTo>
                      <a:pt x="667" y="467"/>
                    </a:lnTo>
                    <a:lnTo>
                      <a:pt x="667" y="453"/>
                    </a:lnTo>
                    <a:lnTo>
                      <a:pt x="667" y="438"/>
                    </a:lnTo>
                    <a:lnTo>
                      <a:pt x="667" y="424"/>
                    </a:lnTo>
                    <a:lnTo>
                      <a:pt x="664" y="406"/>
                    </a:lnTo>
                    <a:lnTo>
                      <a:pt x="656" y="373"/>
                    </a:lnTo>
                    <a:lnTo>
                      <a:pt x="649" y="344"/>
                    </a:lnTo>
                    <a:lnTo>
                      <a:pt x="642" y="315"/>
                    </a:lnTo>
                    <a:lnTo>
                      <a:pt x="635" y="293"/>
                    </a:lnTo>
                    <a:lnTo>
                      <a:pt x="616" y="297"/>
                    </a:lnTo>
                    <a:lnTo>
                      <a:pt x="598" y="297"/>
                    </a:lnTo>
                    <a:lnTo>
                      <a:pt x="580" y="301"/>
                    </a:lnTo>
                    <a:lnTo>
                      <a:pt x="562" y="301"/>
                    </a:lnTo>
                    <a:lnTo>
                      <a:pt x="544" y="301"/>
                    </a:lnTo>
                    <a:lnTo>
                      <a:pt x="526" y="301"/>
                    </a:lnTo>
                    <a:lnTo>
                      <a:pt x="508" y="297"/>
                    </a:lnTo>
                    <a:lnTo>
                      <a:pt x="493" y="297"/>
                    </a:lnTo>
                    <a:lnTo>
                      <a:pt x="461" y="293"/>
                    </a:lnTo>
                    <a:lnTo>
                      <a:pt x="439" y="290"/>
                    </a:lnTo>
                    <a:lnTo>
                      <a:pt x="421" y="286"/>
                    </a:lnTo>
                    <a:lnTo>
                      <a:pt x="417" y="282"/>
                    </a:lnTo>
                    <a:lnTo>
                      <a:pt x="403" y="279"/>
                    </a:lnTo>
                    <a:lnTo>
                      <a:pt x="392" y="272"/>
                    </a:lnTo>
                    <a:lnTo>
                      <a:pt x="381" y="264"/>
                    </a:lnTo>
                    <a:lnTo>
                      <a:pt x="374" y="253"/>
                    </a:lnTo>
                    <a:lnTo>
                      <a:pt x="366" y="243"/>
                    </a:lnTo>
                    <a:lnTo>
                      <a:pt x="363" y="235"/>
                    </a:lnTo>
                    <a:lnTo>
                      <a:pt x="359" y="224"/>
                    </a:lnTo>
                    <a:lnTo>
                      <a:pt x="355" y="217"/>
                    </a:lnTo>
                    <a:lnTo>
                      <a:pt x="355" y="206"/>
                    </a:lnTo>
                    <a:lnTo>
                      <a:pt x="359" y="195"/>
                    </a:lnTo>
                    <a:lnTo>
                      <a:pt x="359" y="185"/>
                    </a:lnTo>
                    <a:lnTo>
                      <a:pt x="363" y="177"/>
                    </a:lnTo>
                    <a:lnTo>
                      <a:pt x="366" y="170"/>
                    </a:lnTo>
                    <a:lnTo>
                      <a:pt x="374" y="163"/>
                    </a:lnTo>
                    <a:lnTo>
                      <a:pt x="377" y="155"/>
                    </a:lnTo>
                    <a:lnTo>
                      <a:pt x="384" y="148"/>
                    </a:lnTo>
                    <a:lnTo>
                      <a:pt x="392" y="141"/>
                    </a:lnTo>
                    <a:lnTo>
                      <a:pt x="395" y="134"/>
                    </a:lnTo>
                    <a:lnTo>
                      <a:pt x="403" y="123"/>
                    </a:lnTo>
                    <a:lnTo>
                      <a:pt x="406" y="112"/>
                    </a:lnTo>
                    <a:lnTo>
                      <a:pt x="410" y="101"/>
                    </a:lnTo>
                    <a:lnTo>
                      <a:pt x="410" y="87"/>
                    </a:lnTo>
                    <a:lnTo>
                      <a:pt x="410" y="76"/>
                    </a:lnTo>
                    <a:lnTo>
                      <a:pt x="410" y="61"/>
                    </a:lnTo>
                    <a:lnTo>
                      <a:pt x="406" y="50"/>
                    </a:lnTo>
                    <a:lnTo>
                      <a:pt x="403" y="36"/>
                    </a:lnTo>
                    <a:lnTo>
                      <a:pt x="399" y="32"/>
                    </a:lnTo>
                    <a:lnTo>
                      <a:pt x="395" y="29"/>
                    </a:lnTo>
                    <a:lnTo>
                      <a:pt x="388" y="21"/>
                    </a:lnTo>
                    <a:lnTo>
                      <a:pt x="384" y="18"/>
                    </a:lnTo>
                    <a:lnTo>
                      <a:pt x="381" y="14"/>
                    </a:lnTo>
                    <a:lnTo>
                      <a:pt x="374" y="10"/>
                    </a:lnTo>
                    <a:lnTo>
                      <a:pt x="366" y="7"/>
                    </a:lnTo>
                    <a:lnTo>
                      <a:pt x="359" y="3"/>
                    </a:lnTo>
                    <a:lnTo>
                      <a:pt x="348" y="0"/>
                    </a:lnTo>
                    <a:lnTo>
                      <a:pt x="341" y="0"/>
                    </a:lnTo>
                    <a:lnTo>
                      <a:pt x="330" y="0"/>
                    </a:lnTo>
                    <a:lnTo>
                      <a:pt x="319" y="0"/>
                    </a:lnTo>
                    <a:lnTo>
                      <a:pt x="312" y="0"/>
                    </a:lnTo>
                    <a:lnTo>
                      <a:pt x="301" y="0"/>
                    </a:lnTo>
                    <a:lnTo>
                      <a:pt x="294" y="0"/>
                    </a:lnTo>
                    <a:lnTo>
                      <a:pt x="286" y="3"/>
                    </a:lnTo>
                    <a:lnTo>
                      <a:pt x="279" y="3"/>
                    </a:lnTo>
                    <a:lnTo>
                      <a:pt x="272" y="7"/>
                    </a:lnTo>
                    <a:lnTo>
                      <a:pt x="265" y="10"/>
                    </a:lnTo>
                    <a:lnTo>
                      <a:pt x="257" y="14"/>
                    </a:lnTo>
                    <a:lnTo>
                      <a:pt x="254" y="18"/>
                    </a:lnTo>
                    <a:lnTo>
                      <a:pt x="247" y="21"/>
                    </a:lnTo>
                    <a:lnTo>
                      <a:pt x="243" y="25"/>
                    </a:lnTo>
                    <a:lnTo>
                      <a:pt x="239" y="32"/>
                    </a:lnTo>
                    <a:lnTo>
                      <a:pt x="232" y="39"/>
                    </a:lnTo>
                    <a:lnTo>
                      <a:pt x="228" y="54"/>
                    </a:lnTo>
                    <a:lnTo>
                      <a:pt x="225" y="65"/>
                    </a:lnTo>
                    <a:lnTo>
                      <a:pt x="225" y="76"/>
                    </a:lnTo>
                    <a:lnTo>
                      <a:pt x="225" y="87"/>
                    </a:lnTo>
                    <a:lnTo>
                      <a:pt x="225" y="101"/>
                    </a:lnTo>
                    <a:lnTo>
                      <a:pt x="228" y="112"/>
                    </a:lnTo>
                    <a:lnTo>
                      <a:pt x="232" y="123"/>
                    </a:lnTo>
                    <a:lnTo>
                      <a:pt x="239" y="130"/>
                    </a:lnTo>
                    <a:lnTo>
                      <a:pt x="247" y="141"/>
                    </a:lnTo>
                    <a:lnTo>
                      <a:pt x="254" y="148"/>
                    </a:lnTo>
                    <a:lnTo>
                      <a:pt x="261" y="159"/>
                    </a:lnTo>
                    <a:lnTo>
                      <a:pt x="265" y="170"/>
                    </a:lnTo>
                    <a:lnTo>
                      <a:pt x="268" y="177"/>
                    </a:lnTo>
                    <a:lnTo>
                      <a:pt x="272" y="188"/>
                    </a:lnTo>
                    <a:lnTo>
                      <a:pt x="272" y="199"/>
                    </a:lnTo>
                    <a:lnTo>
                      <a:pt x="268" y="210"/>
                    </a:lnTo>
                    <a:lnTo>
                      <a:pt x="268" y="221"/>
                    </a:lnTo>
                    <a:lnTo>
                      <a:pt x="261" y="232"/>
                    </a:lnTo>
                    <a:lnTo>
                      <a:pt x="257" y="239"/>
                    </a:lnTo>
                    <a:lnTo>
                      <a:pt x="250" y="250"/>
                    </a:lnTo>
                    <a:lnTo>
                      <a:pt x="239" y="257"/>
                    </a:lnTo>
                    <a:lnTo>
                      <a:pt x="228" y="264"/>
                    </a:lnTo>
                    <a:lnTo>
                      <a:pt x="218" y="272"/>
                    </a:lnTo>
                    <a:lnTo>
                      <a:pt x="199" y="279"/>
                    </a:lnTo>
                    <a:lnTo>
                      <a:pt x="185" y="282"/>
                    </a:lnTo>
                    <a:lnTo>
                      <a:pt x="174" y="282"/>
                    </a:lnTo>
                    <a:lnTo>
                      <a:pt x="156" y="282"/>
                    </a:lnTo>
                    <a:lnTo>
                      <a:pt x="138" y="282"/>
                    </a:lnTo>
                    <a:lnTo>
                      <a:pt x="116" y="282"/>
                    </a:lnTo>
                    <a:lnTo>
                      <a:pt x="94" y="282"/>
                    </a:lnTo>
                    <a:lnTo>
                      <a:pt x="69" y="282"/>
                    </a:lnTo>
                    <a:lnTo>
                      <a:pt x="44" y="282"/>
                    </a:lnTo>
                    <a:lnTo>
                      <a:pt x="18" y="282"/>
                    </a:lnTo>
                    <a:lnTo>
                      <a:pt x="15" y="301"/>
                    </a:lnTo>
                    <a:lnTo>
                      <a:pt x="11" y="326"/>
                    </a:lnTo>
                    <a:lnTo>
                      <a:pt x="7" y="355"/>
                    </a:lnTo>
                    <a:lnTo>
                      <a:pt x="4" y="384"/>
                    </a:lnTo>
                    <a:lnTo>
                      <a:pt x="0" y="413"/>
                    </a:lnTo>
                    <a:lnTo>
                      <a:pt x="0" y="438"/>
                    </a:lnTo>
                    <a:lnTo>
                      <a:pt x="0" y="460"/>
                    </a:lnTo>
                    <a:lnTo>
                      <a:pt x="0" y="475"/>
                    </a:lnTo>
                    <a:lnTo>
                      <a:pt x="4" y="482"/>
                    </a:lnTo>
                    <a:lnTo>
                      <a:pt x="7" y="489"/>
                    </a:lnTo>
                    <a:lnTo>
                      <a:pt x="11" y="493"/>
                    </a:lnTo>
                    <a:lnTo>
                      <a:pt x="18" y="500"/>
                    </a:lnTo>
                    <a:lnTo>
                      <a:pt x="25" y="504"/>
                    </a:lnTo>
                    <a:lnTo>
                      <a:pt x="33" y="507"/>
                    </a:lnTo>
                    <a:lnTo>
                      <a:pt x="44" y="511"/>
                    </a:lnTo>
                    <a:lnTo>
                      <a:pt x="51" y="515"/>
                    </a:lnTo>
                    <a:lnTo>
                      <a:pt x="62" y="515"/>
                    </a:lnTo>
                    <a:lnTo>
                      <a:pt x="73" y="515"/>
                    </a:lnTo>
                    <a:lnTo>
                      <a:pt x="80" y="515"/>
                    </a:lnTo>
                    <a:lnTo>
                      <a:pt x="91" y="515"/>
                    </a:lnTo>
                    <a:lnTo>
                      <a:pt x="102" y="511"/>
                    </a:lnTo>
                    <a:lnTo>
                      <a:pt x="109" y="507"/>
                    </a:lnTo>
                    <a:lnTo>
                      <a:pt x="116" y="504"/>
                    </a:lnTo>
                    <a:lnTo>
                      <a:pt x="123" y="496"/>
                    </a:lnTo>
                    <a:lnTo>
                      <a:pt x="131" y="493"/>
                    </a:lnTo>
                    <a:lnTo>
                      <a:pt x="138" y="486"/>
                    </a:lnTo>
                    <a:lnTo>
                      <a:pt x="149" y="486"/>
                    </a:lnTo>
                    <a:lnTo>
                      <a:pt x="156" y="482"/>
                    </a:lnTo>
                    <a:lnTo>
                      <a:pt x="167" y="482"/>
                    </a:lnTo>
                    <a:lnTo>
                      <a:pt x="178" y="482"/>
                    </a:lnTo>
                    <a:lnTo>
                      <a:pt x="189" y="486"/>
                    </a:lnTo>
                    <a:lnTo>
                      <a:pt x="199" y="489"/>
                    </a:lnTo>
                    <a:lnTo>
                      <a:pt x="207" y="493"/>
                    </a:lnTo>
                    <a:lnTo>
                      <a:pt x="218" y="500"/>
                    </a:lnTo>
                    <a:lnTo>
                      <a:pt x="225" y="507"/>
                    </a:lnTo>
                    <a:lnTo>
                      <a:pt x="232" y="518"/>
                    </a:lnTo>
                    <a:lnTo>
                      <a:pt x="239" y="529"/>
                    </a:lnTo>
                    <a:lnTo>
                      <a:pt x="243" y="540"/>
                    </a:lnTo>
                    <a:lnTo>
                      <a:pt x="247" y="554"/>
                    </a:lnTo>
                    <a:lnTo>
                      <a:pt x="247" y="569"/>
                    </a:lnTo>
                    <a:lnTo>
                      <a:pt x="247" y="580"/>
                    </a:lnTo>
                    <a:lnTo>
                      <a:pt x="243" y="587"/>
                    </a:lnTo>
                    <a:lnTo>
                      <a:pt x="239" y="598"/>
                    </a:lnTo>
                    <a:lnTo>
                      <a:pt x="232" y="605"/>
                    </a:lnTo>
                    <a:lnTo>
                      <a:pt x="225" y="613"/>
                    </a:lnTo>
                    <a:lnTo>
                      <a:pt x="218" y="620"/>
                    </a:lnTo>
                    <a:lnTo>
                      <a:pt x="207" y="623"/>
                    </a:lnTo>
                    <a:lnTo>
                      <a:pt x="199" y="627"/>
                    </a:lnTo>
                    <a:lnTo>
                      <a:pt x="189" y="631"/>
                    </a:lnTo>
                    <a:lnTo>
                      <a:pt x="178" y="634"/>
                    </a:lnTo>
                    <a:lnTo>
                      <a:pt x="167" y="634"/>
                    </a:lnTo>
                    <a:lnTo>
                      <a:pt x="156" y="634"/>
                    </a:lnTo>
                    <a:lnTo>
                      <a:pt x="149" y="631"/>
                    </a:lnTo>
                    <a:lnTo>
                      <a:pt x="138" y="627"/>
                    </a:lnTo>
                    <a:lnTo>
                      <a:pt x="131" y="620"/>
                    </a:lnTo>
                    <a:lnTo>
                      <a:pt x="123" y="613"/>
                    </a:lnTo>
                    <a:lnTo>
                      <a:pt x="116" y="605"/>
                    </a:lnTo>
                    <a:lnTo>
                      <a:pt x="109" y="602"/>
                    </a:lnTo>
                    <a:lnTo>
                      <a:pt x="102" y="598"/>
                    </a:lnTo>
                    <a:lnTo>
                      <a:pt x="94" y="594"/>
                    </a:lnTo>
                    <a:lnTo>
                      <a:pt x="87" y="594"/>
                    </a:lnTo>
                    <a:lnTo>
                      <a:pt x="80" y="594"/>
                    </a:lnTo>
                    <a:lnTo>
                      <a:pt x="69" y="594"/>
                    </a:lnTo>
                    <a:lnTo>
                      <a:pt x="62" y="594"/>
                    </a:lnTo>
                    <a:lnTo>
                      <a:pt x="54" y="602"/>
                    </a:lnTo>
                    <a:lnTo>
                      <a:pt x="44" y="605"/>
                    </a:lnTo>
                    <a:lnTo>
                      <a:pt x="36" y="609"/>
                    </a:lnTo>
                    <a:lnTo>
                      <a:pt x="29" y="616"/>
                    </a:lnTo>
                    <a:lnTo>
                      <a:pt x="22" y="623"/>
                    </a:lnTo>
                    <a:lnTo>
                      <a:pt x="18" y="631"/>
                    </a:lnTo>
                    <a:lnTo>
                      <a:pt x="11" y="638"/>
                    </a:lnTo>
                    <a:lnTo>
                      <a:pt x="7" y="649"/>
                    </a:lnTo>
                    <a:lnTo>
                      <a:pt x="4" y="656"/>
                    </a:lnTo>
                    <a:lnTo>
                      <a:pt x="4" y="671"/>
                    </a:lnTo>
                    <a:lnTo>
                      <a:pt x="4" y="681"/>
                    </a:lnTo>
                    <a:lnTo>
                      <a:pt x="7" y="696"/>
                    </a:lnTo>
                    <a:lnTo>
                      <a:pt x="11" y="729"/>
                    </a:lnTo>
                    <a:lnTo>
                      <a:pt x="18" y="765"/>
                    </a:lnTo>
                    <a:lnTo>
                      <a:pt x="22" y="783"/>
                    </a:lnTo>
                    <a:lnTo>
                      <a:pt x="25" y="798"/>
                    </a:lnTo>
                    <a:lnTo>
                      <a:pt x="25" y="816"/>
                    </a:lnTo>
                    <a:lnTo>
                      <a:pt x="29" y="834"/>
                    </a:lnTo>
                    <a:lnTo>
                      <a:pt x="29" y="848"/>
                    </a:lnTo>
                    <a:lnTo>
                      <a:pt x="25" y="863"/>
                    </a:lnTo>
                    <a:lnTo>
                      <a:pt x="25" y="870"/>
                    </a:lnTo>
                    <a:lnTo>
                      <a:pt x="22" y="877"/>
                    </a:lnTo>
                    <a:lnTo>
                      <a:pt x="22" y="885"/>
                    </a:lnTo>
                    <a:lnTo>
                      <a:pt x="18" y="888"/>
                    </a:lnTo>
                    <a:lnTo>
                      <a:pt x="44" y="885"/>
                    </a:lnTo>
                    <a:lnTo>
                      <a:pt x="69" y="877"/>
                    </a:lnTo>
                    <a:lnTo>
                      <a:pt x="94" y="877"/>
                    </a:lnTo>
                    <a:lnTo>
                      <a:pt x="116" y="874"/>
                    </a:lnTo>
                    <a:lnTo>
                      <a:pt x="141" y="870"/>
                    </a:lnTo>
                    <a:lnTo>
                      <a:pt x="163" y="870"/>
                    </a:lnTo>
                    <a:lnTo>
                      <a:pt x="174" y="874"/>
                    </a:lnTo>
                    <a:lnTo>
                      <a:pt x="185" y="874"/>
                    </a:lnTo>
                    <a:lnTo>
                      <a:pt x="192" y="877"/>
                    </a:lnTo>
                    <a:lnTo>
                      <a:pt x="203" y="881"/>
                    </a:lnTo>
                    <a:close/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751280" y="658800"/>
                <a:ext cx="1333080" cy="1850760"/>
              </a:xfrm>
              <a:custGeom>
                <a:avLst/>
                <a:gdLst/>
                <a:ahLst/>
                <a:rect l="l" t="t" r="r" b="b"/>
                <a:pathLst>
                  <a:path w="678" h="925">
                    <a:moveTo>
                      <a:pt x="222" y="896"/>
                    </a:moveTo>
                    <a:lnTo>
                      <a:pt x="222" y="889"/>
                    </a:lnTo>
                    <a:lnTo>
                      <a:pt x="222" y="896"/>
                    </a:lnTo>
                    <a:lnTo>
                      <a:pt x="232" y="899"/>
                    </a:lnTo>
                    <a:lnTo>
                      <a:pt x="232" y="899"/>
                    </a:lnTo>
                    <a:lnTo>
                      <a:pt x="232" y="899"/>
                    </a:lnTo>
                    <a:lnTo>
                      <a:pt x="247" y="899"/>
                    </a:lnTo>
                    <a:lnTo>
                      <a:pt x="258" y="899"/>
                    </a:lnTo>
                    <a:lnTo>
                      <a:pt x="265" y="899"/>
                    </a:lnTo>
                    <a:lnTo>
                      <a:pt x="269" y="899"/>
                    </a:lnTo>
                    <a:lnTo>
                      <a:pt x="269" y="899"/>
                    </a:lnTo>
                    <a:lnTo>
                      <a:pt x="276" y="896"/>
                    </a:lnTo>
                    <a:lnTo>
                      <a:pt x="283" y="892"/>
                    </a:lnTo>
                    <a:lnTo>
                      <a:pt x="283" y="889"/>
                    </a:lnTo>
                    <a:lnTo>
                      <a:pt x="287" y="889"/>
                    </a:lnTo>
                    <a:lnTo>
                      <a:pt x="290" y="881"/>
                    </a:lnTo>
                    <a:lnTo>
                      <a:pt x="283" y="878"/>
                    </a:lnTo>
                    <a:lnTo>
                      <a:pt x="287" y="885"/>
                    </a:lnTo>
                    <a:lnTo>
                      <a:pt x="294" y="881"/>
                    </a:lnTo>
                    <a:lnTo>
                      <a:pt x="298" y="878"/>
                    </a:lnTo>
                    <a:lnTo>
                      <a:pt x="298" y="874"/>
                    </a:lnTo>
                    <a:lnTo>
                      <a:pt x="298" y="867"/>
                    </a:lnTo>
                    <a:lnTo>
                      <a:pt x="298" y="860"/>
                    </a:lnTo>
                    <a:lnTo>
                      <a:pt x="298" y="849"/>
                    </a:lnTo>
                    <a:lnTo>
                      <a:pt x="298" y="841"/>
                    </a:lnTo>
                    <a:lnTo>
                      <a:pt x="298" y="841"/>
                    </a:lnTo>
                    <a:lnTo>
                      <a:pt x="298" y="841"/>
                    </a:lnTo>
                    <a:lnTo>
                      <a:pt x="294" y="834"/>
                    </a:lnTo>
                    <a:lnTo>
                      <a:pt x="290" y="827"/>
                    </a:lnTo>
                    <a:lnTo>
                      <a:pt x="290" y="827"/>
                    </a:lnTo>
                    <a:lnTo>
                      <a:pt x="287" y="823"/>
                    </a:lnTo>
                    <a:lnTo>
                      <a:pt x="280" y="816"/>
                    </a:lnTo>
                    <a:lnTo>
                      <a:pt x="272" y="809"/>
                    </a:lnTo>
                    <a:lnTo>
                      <a:pt x="269" y="812"/>
                    </a:lnTo>
                    <a:lnTo>
                      <a:pt x="276" y="812"/>
                    </a:lnTo>
                    <a:lnTo>
                      <a:pt x="269" y="798"/>
                    </a:lnTo>
                    <a:lnTo>
                      <a:pt x="265" y="787"/>
                    </a:lnTo>
                    <a:lnTo>
                      <a:pt x="261" y="776"/>
                    </a:lnTo>
                    <a:lnTo>
                      <a:pt x="258" y="765"/>
                    </a:lnTo>
                    <a:lnTo>
                      <a:pt x="254" y="751"/>
                    </a:lnTo>
                    <a:lnTo>
                      <a:pt x="247" y="751"/>
                    </a:lnTo>
                    <a:lnTo>
                      <a:pt x="254" y="751"/>
                    </a:lnTo>
                    <a:lnTo>
                      <a:pt x="254" y="740"/>
                    </a:lnTo>
                    <a:lnTo>
                      <a:pt x="247" y="740"/>
                    </a:lnTo>
                    <a:lnTo>
                      <a:pt x="254" y="743"/>
                    </a:lnTo>
                    <a:lnTo>
                      <a:pt x="258" y="729"/>
                    </a:lnTo>
                    <a:lnTo>
                      <a:pt x="261" y="718"/>
                    </a:lnTo>
                    <a:lnTo>
                      <a:pt x="265" y="707"/>
                    </a:lnTo>
                    <a:lnTo>
                      <a:pt x="258" y="704"/>
                    </a:lnTo>
                    <a:lnTo>
                      <a:pt x="261" y="707"/>
                    </a:lnTo>
                    <a:lnTo>
                      <a:pt x="265" y="704"/>
                    </a:lnTo>
                    <a:lnTo>
                      <a:pt x="269" y="704"/>
                    </a:lnTo>
                    <a:lnTo>
                      <a:pt x="269" y="704"/>
                    </a:lnTo>
                    <a:lnTo>
                      <a:pt x="272" y="696"/>
                    </a:lnTo>
                    <a:lnTo>
                      <a:pt x="265" y="693"/>
                    </a:lnTo>
                    <a:lnTo>
                      <a:pt x="269" y="696"/>
                    </a:lnTo>
                    <a:lnTo>
                      <a:pt x="272" y="693"/>
                    </a:lnTo>
                    <a:lnTo>
                      <a:pt x="276" y="689"/>
                    </a:lnTo>
                    <a:lnTo>
                      <a:pt x="280" y="685"/>
                    </a:lnTo>
                    <a:lnTo>
                      <a:pt x="276" y="682"/>
                    </a:lnTo>
                    <a:lnTo>
                      <a:pt x="280" y="689"/>
                    </a:lnTo>
                    <a:lnTo>
                      <a:pt x="287" y="685"/>
                    </a:lnTo>
                    <a:lnTo>
                      <a:pt x="283" y="678"/>
                    </a:lnTo>
                    <a:lnTo>
                      <a:pt x="283" y="685"/>
                    </a:lnTo>
                    <a:lnTo>
                      <a:pt x="287" y="685"/>
                    </a:lnTo>
                    <a:lnTo>
                      <a:pt x="290" y="685"/>
                    </a:lnTo>
                    <a:lnTo>
                      <a:pt x="290" y="685"/>
                    </a:lnTo>
                    <a:lnTo>
                      <a:pt x="298" y="682"/>
                    </a:lnTo>
                    <a:lnTo>
                      <a:pt x="305" y="678"/>
                    </a:lnTo>
                    <a:lnTo>
                      <a:pt x="301" y="671"/>
                    </a:lnTo>
                    <a:lnTo>
                      <a:pt x="301" y="678"/>
                    </a:lnTo>
                    <a:lnTo>
                      <a:pt x="309" y="678"/>
                    </a:lnTo>
                    <a:lnTo>
                      <a:pt x="312" y="678"/>
                    </a:lnTo>
                    <a:lnTo>
                      <a:pt x="312" y="678"/>
                    </a:lnTo>
                    <a:lnTo>
                      <a:pt x="319" y="675"/>
                    </a:lnTo>
                    <a:lnTo>
                      <a:pt x="316" y="667"/>
                    </a:lnTo>
                    <a:lnTo>
                      <a:pt x="316" y="675"/>
                    </a:lnTo>
                    <a:lnTo>
                      <a:pt x="323" y="675"/>
                    </a:lnTo>
                    <a:lnTo>
                      <a:pt x="334" y="675"/>
                    </a:lnTo>
                    <a:lnTo>
                      <a:pt x="341" y="675"/>
                    </a:lnTo>
                    <a:lnTo>
                      <a:pt x="341" y="667"/>
                    </a:lnTo>
                    <a:lnTo>
                      <a:pt x="341" y="675"/>
                    </a:lnTo>
                    <a:lnTo>
                      <a:pt x="352" y="678"/>
                    </a:lnTo>
                    <a:lnTo>
                      <a:pt x="352" y="678"/>
                    </a:lnTo>
                    <a:lnTo>
                      <a:pt x="352" y="678"/>
                    </a:lnTo>
                    <a:lnTo>
                      <a:pt x="359" y="678"/>
                    </a:lnTo>
                    <a:lnTo>
                      <a:pt x="359" y="671"/>
                    </a:lnTo>
                    <a:lnTo>
                      <a:pt x="359" y="678"/>
                    </a:lnTo>
                    <a:lnTo>
                      <a:pt x="367" y="682"/>
                    </a:lnTo>
                    <a:lnTo>
                      <a:pt x="374" y="685"/>
                    </a:lnTo>
                    <a:lnTo>
                      <a:pt x="374" y="685"/>
                    </a:lnTo>
                    <a:lnTo>
                      <a:pt x="374" y="685"/>
                    </a:lnTo>
                    <a:lnTo>
                      <a:pt x="381" y="685"/>
                    </a:lnTo>
                    <a:lnTo>
                      <a:pt x="381" y="678"/>
                    </a:lnTo>
                    <a:lnTo>
                      <a:pt x="378" y="682"/>
                    </a:lnTo>
                    <a:lnTo>
                      <a:pt x="381" y="685"/>
                    </a:lnTo>
                    <a:lnTo>
                      <a:pt x="385" y="689"/>
                    </a:lnTo>
                    <a:lnTo>
                      <a:pt x="385" y="689"/>
                    </a:lnTo>
                    <a:lnTo>
                      <a:pt x="392" y="693"/>
                    </a:lnTo>
                    <a:lnTo>
                      <a:pt x="392" y="685"/>
                    </a:lnTo>
                    <a:lnTo>
                      <a:pt x="388" y="689"/>
                    </a:lnTo>
                    <a:lnTo>
                      <a:pt x="392" y="693"/>
                    </a:lnTo>
                    <a:lnTo>
                      <a:pt x="396" y="696"/>
                    </a:lnTo>
                    <a:lnTo>
                      <a:pt x="396" y="696"/>
                    </a:lnTo>
                    <a:lnTo>
                      <a:pt x="403" y="700"/>
                    </a:lnTo>
                    <a:lnTo>
                      <a:pt x="403" y="693"/>
                    </a:lnTo>
                    <a:lnTo>
                      <a:pt x="399" y="696"/>
                    </a:lnTo>
                    <a:lnTo>
                      <a:pt x="403" y="704"/>
                    </a:lnTo>
                    <a:lnTo>
                      <a:pt x="407" y="711"/>
                    </a:lnTo>
                    <a:lnTo>
                      <a:pt x="414" y="722"/>
                    </a:lnTo>
                    <a:lnTo>
                      <a:pt x="417" y="733"/>
                    </a:lnTo>
                    <a:lnTo>
                      <a:pt x="421" y="729"/>
                    </a:lnTo>
                    <a:lnTo>
                      <a:pt x="417" y="729"/>
                    </a:lnTo>
                    <a:lnTo>
                      <a:pt x="417" y="740"/>
                    </a:lnTo>
                    <a:lnTo>
                      <a:pt x="417" y="754"/>
                    </a:lnTo>
                    <a:lnTo>
                      <a:pt x="417" y="765"/>
                    </a:lnTo>
                    <a:lnTo>
                      <a:pt x="421" y="765"/>
                    </a:lnTo>
                    <a:lnTo>
                      <a:pt x="417" y="765"/>
                    </a:lnTo>
                    <a:lnTo>
                      <a:pt x="414" y="776"/>
                    </a:lnTo>
                    <a:lnTo>
                      <a:pt x="410" y="787"/>
                    </a:lnTo>
                    <a:lnTo>
                      <a:pt x="414" y="787"/>
                    </a:lnTo>
                    <a:lnTo>
                      <a:pt x="410" y="783"/>
                    </a:lnTo>
                    <a:lnTo>
                      <a:pt x="403" y="791"/>
                    </a:lnTo>
                    <a:lnTo>
                      <a:pt x="403" y="794"/>
                    </a:lnTo>
                    <a:lnTo>
                      <a:pt x="403" y="794"/>
                    </a:lnTo>
                    <a:lnTo>
                      <a:pt x="396" y="805"/>
                    </a:lnTo>
                    <a:lnTo>
                      <a:pt x="399" y="805"/>
                    </a:lnTo>
                    <a:lnTo>
                      <a:pt x="396" y="802"/>
                    </a:lnTo>
                    <a:lnTo>
                      <a:pt x="381" y="816"/>
                    </a:lnTo>
                    <a:lnTo>
                      <a:pt x="381" y="820"/>
                    </a:lnTo>
                    <a:lnTo>
                      <a:pt x="381" y="820"/>
                    </a:lnTo>
                    <a:lnTo>
                      <a:pt x="374" y="834"/>
                    </a:lnTo>
                    <a:lnTo>
                      <a:pt x="370" y="841"/>
                    </a:lnTo>
                    <a:lnTo>
                      <a:pt x="374" y="841"/>
                    </a:lnTo>
                    <a:lnTo>
                      <a:pt x="370" y="838"/>
                    </a:lnTo>
                    <a:lnTo>
                      <a:pt x="367" y="841"/>
                    </a:lnTo>
                    <a:lnTo>
                      <a:pt x="367" y="845"/>
                    </a:lnTo>
                    <a:lnTo>
                      <a:pt x="367" y="845"/>
                    </a:lnTo>
                    <a:lnTo>
                      <a:pt x="367" y="852"/>
                    </a:lnTo>
                    <a:lnTo>
                      <a:pt x="367" y="856"/>
                    </a:lnTo>
                    <a:lnTo>
                      <a:pt x="367" y="863"/>
                    </a:lnTo>
                    <a:lnTo>
                      <a:pt x="367" y="867"/>
                    </a:lnTo>
                    <a:lnTo>
                      <a:pt x="367" y="870"/>
                    </a:lnTo>
                    <a:lnTo>
                      <a:pt x="367" y="870"/>
                    </a:lnTo>
                    <a:lnTo>
                      <a:pt x="370" y="874"/>
                    </a:lnTo>
                    <a:lnTo>
                      <a:pt x="374" y="878"/>
                    </a:lnTo>
                    <a:lnTo>
                      <a:pt x="381" y="885"/>
                    </a:lnTo>
                    <a:lnTo>
                      <a:pt x="385" y="889"/>
                    </a:lnTo>
                    <a:lnTo>
                      <a:pt x="388" y="892"/>
                    </a:lnTo>
                    <a:lnTo>
                      <a:pt x="388" y="892"/>
                    </a:lnTo>
                    <a:lnTo>
                      <a:pt x="396" y="896"/>
                    </a:lnTo>
                    <a:lnTo>
                      <a:pt x="407" y="899"/>
                    </a:lnTo>
                    <a:lnTo>
                      <a:pt x="417" y="903"/>
                    </a:lnTo>
                    <a:lnTo>
                      <a:pt x="410" y="899"/>
                    </a:lnTo>
                    <a:lnTo>
                      <a:pt x="417" y="903"/>
                    </a:lnTo>
                    <a:lnTo>
                      <a:pt x="432" y="907"/>
                    </a:lnTo>
                    <a:lnTo>
                      <a:pt x="432" y="899"/>
                    </a:lnTo>
                    <a:lnTo>
                      <a:pt x="432" y="907"/>
                    </a:lnTo>
                    <a:lnTo>
                      <a:pt x="446" y="914"/>
                    </a:lnTo>
                    <a:lnTo>
                      <a:pt x="446" y="914"/>
                    </a:lnTo>
                    <a:lnTo>
                      <a:pt x="446" y="914"/>
                    </a:lnTo>
                    <a:lnTo>
                      <a:pt x="461" y="914"/>
                    </a:lnTo>
                    <a:lnTo>
                      <a:pt x="475" y="918"/>
                    </a:lnTo>
                    <a:lnTo>
                      <a:pt x="490" y="921"/>
                    </a:lnTo>
                    <a:lnTo>
                      <a:pt x="508" y="925"/>
                    </a:lnTo>
                    <a:lnTo>
                      <a:pt x="526" y="925"/>
                    </a:lnTo>
                    <a:lnTo>
                      <a:pt x="541" y="925"/>
                    </a:lnTo>
                    <a:lnTo>
                      <a:pt x="559" y="925"/>
                    </a:lnTo>
                    <a:lnTo>
                      <a:pt x="573" y="925"/>
                    </a:lnTo>
                    <a:lnTo>
                      <a:pt x="588" y="921"/>
                    </a:lnTo>
                    <a:lnTo>
                      <a:pt x="602" y="918"/>
                    </a:lnTo>
                    <a:lnTo>
                      <a:pt x="617" y="914"/>
                    </a:lnTo>
                    <a:lnTo>
                      <a:pt x="620" y="910"/>
                    </a:lnTo>
                    <a:lnTo>
                      <a:pt x="620" y="914"/>
                    </a:lnTo>
                    <a:lnTo>
                      <a:pt x="631" y="907"/>
                    </a:lnTo>
                    <a:lnTo>
                      <a:pt x="642" y="899"/>
                    </a:lnTo>
                    <a:lnTo>
                      <a:pt x="646" y="896"/>
                    </a:lnTo>
                    <a:lnTo>
                      <a:pt x="646" y="892"/>
                    </a:lnTo>
                    <a:lnTo>
                      <a:pt x="642" y="881"/>
                    </a:lnTo>
                    <a:lnTo>
                      <a:pt x="635" y="881"/>
                    </a:lnTo>
                    <a:lnTo>
                      <a:pt x="642" y="881"/>
                    </a:lnTo>
                    <a:lnTo>
                      <a:pt x="642" y="867"/>
                    </a:lnTo>
                    <a:lnTo>
                      <a:pt x="642" y="867"/>
                    </a:lnTo>
                    <a:lnTo>
                      <a:pt x="642" y="867"/>
                    </a:lnTo>
                    <a:lnTo>
                      <a:pt x="639" y="852"/>
                    </a:lnTo>
                    <a:lnTo>
                      <a:pt x="631" y="852"/>
                    </a:lnTo>
                    <a:lnTo>
                      <a:pt x="639" y="852"/>
                    </a:lnTo>
                    <a:lnTo>
                      <a:pt x="639" y="838"/>
                    </a:lnTo>
                    <a:lnTo>
                      <a:pt x="639" y="809"/>
                    </a:lnTo>
                    <a:lnTo>
                      <a:pt x="639" y="776"/>
                    </a:lnTo>
                    <a:lnTo>
                      <a:pt x="642" y="747"/>
                    </a:lnTo>
                    <a:lnTo>
                      <a:pt x="642" y="718"/>
                    </a:lnTo>
                    <a:lnTo>
                      <a:pt x="646" y="696"/>
                    </a:lnTo>
                    <a:lnTo>
                      <a:pt x="646" y="678"/>
                    </a:lnTo>
                    <a:lnTo>
                      <a:pt x="646" y="675"/>
                    </a:lnTo>
                    <a:lnTo>
                      <a:pt x="646" y="675"/>
                    </a:lnTo>
                    <a:lnTo>
                      <a:pt x="646" y="675"/>
                    </a:lnTo>
                    <a:lnTo>
                      <a:pt x="642" y="667"/>
                    </a:lnTo>
                    <a:lnTo>
                      <a:pt x="639" y="660"/>
                    </a:lnTo>
                    <a:lnTo>
                      <a:pt x="635" y="653"/>
                    </a:lnTo>
                    <a:lnTo>
                      <a:pt x="631" y="649"/>
                    </a:lnTo>
                    <a:lnTo>
                      <a:pt x="631" y="649"/>
                    </a:lnTo>
                    <a:lnTo>
                      <a:pt x="624" y="646"/>
                    </a:lnTo>
                    <a:lnTo>
                      <a:pt x="617" y="642"/>
                    </a:lnTo>
                    <a:lnTo>
                      <a:pt x="613" y="646"/>
                    </a:lnTo>
                    <a:lnTo>
                      <a:pt x="617" y="642"/>
                    </a:lnTo>
                    <a:lnTo>
                      <a:pt x="610" y="635"/>
                    </a:lnTo>
                    <a:lnTo>
                      <a:pt x="610" y="635"/>
                    </a:lnTo>
                    <a:lnTo>
                      <a:pt x="606" y="635"/>
                    </a:lnTo>
                    <a:lnTo>
                      <a:pt x="599" y="635"/>
                    </a:lnTo>
                    <a:lnTo>
                      <a:pt x="599" y="638"/>
                    </a:lnTo>
                    <a:lnTo>
                      <a:pt x="602" y="635"/>
                    </a:lnTo>
                    <a:lnTo>
                      <a:pt x="595" y="631"/>
                    </a:lnTo>
                    <a:lnTo>
                      <a:pt x="588" y="627"/>
                    </a:lnTo>
                    <a:lnTo>
                      <a:pt x="588" y="627"/>
                    </a:lnTo>
                    <a:lnTo>
                      <a:pt x="584" y="627"/>
                    </a:lnTo>
                    <a:lnTo>
                      <a:pt x="577" y="627"/>
                    </a:lnTo>
                    <a:lnTo>
                      <a:pt x="566" y="627"/>
                    </a:lnTo>
                    <a:lnTo>
                      <a:pt x="566" y="627"/>
                    </a:lnTo>
                    <a:lnTo>
                      <a:pt x="566" y="627"/>
                    </a:lnTo>
                    <a:lnTo>
                      <a:pt x="559" y="631"/>
                    </a:lnTo>
                    <a:lnTo>
                      <a:pt x="552" y="635"/>
                    </a:lnTo>
                    <a:lnTo>
                      <a:pt x="544" y="638"/>
                    </a:lnTo>
                    <a:lnTo>
                      <a:pt x="541" y="638"/>
                    </a:lnTo>
                    <a:lnTo>
                      <a:pt x="541" y="642"/>
                    </a:lnTo>
                    <a:lnTo>
                      <a:pt x="537" y="649"/>
                    </a:lnTo>
                    <a:lnTo>
                      <a:pt x="541" y="649"/>
                    </a:lnTo>
                    <a:lnTo>
                      <a:pt x="541" y="646"/>
                    </a:lnTo>
                    <a:lnTo>
                      <a:pt x="533" y="649"/>
                    </a:lnTo>
                    <a:lnTo>
                      <a:pt x="526" y="653"/>
                    </a:lnTo>
                    <a:lnTo>
                      <a:pt x="519" y="656"/>
                    </a:lnTo>
                    <a:lnTo>
                      <a:pt x="508" y="660"/>
                    </a:lnTo>
                    <a:lnTo>
                      <a:pt x="508" y="664"/>
                    </a:lnTo>
                    <a:lnTo>
                      <a:pt x="508" y="660"/>
                    </a:lnTo>
                    <a:lnTo>
                      <a:pt x="497" y="660"/>
                    </a:lnTo>
                    <a:lnTo>
                      <a:pt x="486" y="660"/>
                    </a:lnTo>
                    <a:lnTo>
                      <a:pt x="475" y="660"/>
                    </a:lnTo>
                    <a:lnTo>
                      <a:pt x="475" y="664"/>
                    </a:lnTo>
                    <a:lnTo>
                      <a:pt x="479" y="660"/>
                    </a:lnTo>
                    <a:lnTo>
                      <a:pt x="468" y="656"/>
                    </a:lnTo>
                    <a:lnTo>
                      <a:pt x="457" y="653"/>
                    </a:lnTo>
                    <a:lnTo>
                      <a:pt x="446" y="646"/>
                    </a:lnTo>
                    <a:lnTo>
                      <a:pt x="443" y="649"/>
                    </a:lnTo>
                    <a:lnTo>
                      <a:pt x="446" y="646"/>
                    </a:lnTo>
                    <a:lnTo>
                      <a:pt x="439" y="638"/>
                    </a:lnTo>
                    <a:lnTo>
                      <a:pt x="439" y="638"/>
                    </a:lnTo>
                    <a:lnTo>
                      <a:pt x="439" y="638"/>
                    </a:lnTo>
                    <a:lnTo>
                      <a:pt x="428" y="631"/>
                    </a:lnTo>
                    <a:lnTo>
                      <a:pt x="425" y="635"/>
                    </a:lnTo>
                    <a:lnTo>
                      <a:pt x="432" y="635"/>
                    </a:lnTo>
                    <a:lnTo>
                      <a:pt x="428" y="627"/>
                    </a:lnTo>
                    <a:lnTo>
                      <a:pt x="428" y="627"/>
                    </a:lnTo>
                    <a:lnTo>
                      <a:pt x="425" y="624"/>
                    </a:lnTo>
                    <a:lnTo>
                      <a:pt x="421" y="620"/>
                    </a:lnTo>
                    <a:lnTo>
                      <a:pt x="417" y="624"/>
                    </a:lnTo>
                    <a:lnTo>
                      <a:pt x="425" y="624"/>
                    </a:lnTo>
                    <a:lnTo>
                      <a:pt x="425" y="617"/>
                    </a:lnTo>
                    <a:lnTo>
                      <a:pt x="425" y="617"/>
                    </a:lnTo>
                    <a:lnTo>
                      <a:pt x="421" y="613"/>
                    </a:lnTo>
                    <a:lnTo>
                      <a:pt x="417" y="609"/>
                    </a:lnTo>
                    <a:lnTo>
                      <a:pt x="414" y="613"/>
                    </a:lnTo>
                    <a:lnTo>
                      <a:pt x="421" y="613"/>
                    </a:lnTo>
                    <a:lnTo>
                      <a:pt x="417" y="606"/>
                    </a:lnTo>
                    <a:lnTo>
                      <a:pt x="410" y="606"/>
                    </a:lnTo>
                    <a:lnTo>
                      <a:pt x="417" y="606"/>
                    </a:lnTo>
                    <a:lnTo>
                      <a:pt x="417" y="598"/>
                    </a:lnTo>
                    <a:lnTo>
                      <a:pt x="417" y="591"/>
                    </a:lnTo>
                    <a:lnTo>
                      <a:pt x="417" y="584"/>
                    </a:lnTo>
                    <a:lnTo>
                      <a:pt x="417" y="577"/>
                    </a:lnTo>
                    <a:lnTo>
                      <a:pt x="417" y="566"/>
                    </a:lnTo>
                    <a:lnTo>
                      <a:pt x="417" y="558"/>
                    </a:lnTo>
                    <a:lnTo>
                      <a:pt x="410" y="558"/>
                    </a:lnTo>
                    <a:lnTo>
                      <a:pt x="417" y="562"/>
                    </a:lnTo>
                    <a:lnTo>
                      <a:pt x="421" y="555"/>
                    </a:lnTo>
                    <a:lnTo>
                      <a:pt x="425" y="548"/>
                    </a:lnTo>
                    <a:lnTo>
                      <a:pt x="425" y="548"/>
                    </a:lnTo>
                    <a:lnTo>
                      <a:pt x="425" y="544"/>
                    </a:lnTo>
                    <a:lnTo>
                      <a:pt x="425" y="537"/>
                    </a:lnTo>
                    <a:lnTo>
                      <a:pt x="417" y="537"/>
                    </a:lnTo>
                    <a:lnTo>
                      <a:pt x="421" y="540"/>
                    </a:lnTo>
                    <a:lnTo>
                      <a:pt x="425" y="537"/>
                    </a:lnTo>
                    <a:lnTo>
                      <a:pt x="432" y="529"/>
                    </a:lnTo>
                    <a:lnTo>
                      <a:pt x="439" y="522"/>
                    </a:lnTo>
                    <a:lnTo>
                      <a:pt x="450" y="511"/>
                    </a:lnTo>
                    <a:lnTo>
                      <a:pt x="446" y="508"/>
                    </a:lnTo>
                    <a:lnTo>
                      <a:pt x="450" y="515"/>
                    </a:lnTo>
                    <a:lnTo>
                      <a:pt x="461" y="508"/>
                    </a:lnTo>
                    <a:lnTo>
                      <a:pt x="472" y="504"/>
                    </a:lnTo>
                    <a:lnTo>
                      <a:pt x="483" y="500"/>
                    </a:lnTo>
                    <a:lnTo>
                      <a:pt x="479" y="493"/>
                    </a:lnTo>
                    <a:lnTo>
                      <a:pt x="479" y="500"/>
                    </a:lnTo>
                    <a:lnTo>
                      <a:pt x="490" y="500"/>
                    </a:lnTo>
                    <a:lnTo>
                      <a:pt x="504" y="500"/>
                    </a:lnTo>
                    <a:lnTo>
                      <a:pt x="515" y="500"/>
                    </a:lnTo>
                    <a:lnTo>
                      <a:pt x="515" y="493"/>
                    </a:lnTo>
                    <a:lnTo>
                      <a:pt x="515" y="500"/>
                    </a:lnTo>
                    <a:lnTo>
                      <a:pt x="526" y="504"/>
                    </a:lnTo>
                    <a:lnTo>
                      <a:pt x="537" y="508"/>
                    </a:lnTo>
                    <a:lnTo>
                      <a:pt x="537" y="500"/>
                    </a:lnTo>
                    <a:lnTo>
                      <a:pt x="533" y="504"/>
                    </a:lnTo>
                    <a:lnTo>
                      <a:pt x="541" y="511"/>
                    </a:lnTo>
                    <a:lnTo>
                      <a:pt x="544" y="515"/>
                    </a:lnTo>
                    <a:lnTo>
                      <a:pt x="544" y="515"/>
                    </a:lnTo>
                    <a:lnTo>
                      <a:pt x="552" y="519"/>
                    </a:lnTo>
                    <a:lnTo>
                      <a:pt x="552" y="511"/>
                    </a:lnTo>
                    <a:lnTo>
                      <a:pt x="548" y="515"/>
                    </a:lnTo>
                    <a:lnTo>
                      <a:pt x="552" y="522"/>
                    </a:lnTo>
                    <a:lnTo>
                      <a:pt x="552" y="522"/>
                    </a:lnTo>
                    <a:lnTo>
                      <a:pt x="555" y="526"/>
                    </a:lnTo>
                    <a:lnTo>
                      <a:pt x="562" y="529"/>
                    </a:lnTo>
                    <a:lnTo>
                      <a:pt x="562" y="522"/>
                    </a:lnTo>
                    <a:lnTo>
                      <a:pt x="559" y="526"/>
                    </a:lnTo>
                    <a:lnTo>
                      <a:pt x="562" y="529"/>
                    </a:lnTo>
                    <a:lnTo>
                      <a:pt x="566" y="533"/>
                    </a:lnTo>
                    <a:lnTo>
                      <a:pt x="566" y="533"/>
                    </a:lnTo>
                    <a:lnTo>
                      <a:pt x="573" y="533"/>
                    </a:lnTo>
                    <a:lnTo>
                      <a:pt x="573" y="526"/>
                    </a:lnTo>
                    <a:lnTo>
                      <a:pt x="573" y="533"/>
                    </a:lnTo>
                    <a:lnTo>
                      <a:pt x="581" y="537"/>
                    </a:lnTo>
                    <a:lnTo>
                      <a:pt x="588" y="540"/>
                    </a:lnTo>
                    <a:lnTo>
                      <a:pt x="588" y="540"/>
                    </a:lnTo>
                    <a:lnTo>
                      <a:pt x="588" y="540"/>
                    </a:lnTo>
                    <a:lnTo>
                      <a:pt x="595" y="540"/>
                    </a:lnTo>
                    <a:lnTo>
                      <a:pt x="602" y="540"/>
                    </a:lnTo>
                    <a:lnTo>
                      <a:pt x="610" y="540"/>
                    </a:lnTo>
                    <a:lnTo>
                      <a:pt x="617" y="540"/>
                    </a:lnTo>
                    <a:lnTo>
                      <a:pt x="620" y="540"/>
                    </a:lnTo>
                    <a:lnTo>
                      <a:pt x="620" y="540"/>
                    </a:lnTo>
                    <a:lnTo>
                      <a:pt x="628" y="537"/>
                    </a:lnTo>
                    <a:lnTo>
                      <a:pt x="624" y="529"/>
                    </a:lnTo>
                    <a:lnTo>
                      <a:pt x="624" y="537"/>
                    </a:lnTo>
                    <a:lnTo>
                      <a:pt x="631" y="537"/>
                    </a:lnTo>
                    <a:lnTo>
                      <a:pt x="635" y="537"/>
                    </a:lnTo>
                    <a:lnTo>
                      <a:pt x="635" y="537"/>
                    </a:lnTo>
                    <a:lnTo>
                      <a:pt x="642" y="533"/>
                    </a:lnTo>
                    <a:lnTo>
                      <a:pt x="649" y="529"/>
                    </a:lnTo>
                    <a:lnTo>
                      <a:pt x="657" y="526"/>
                    </a:lnTo>
                    <a:lnTo>
                      <a:pt x="657" y="526"/>
                    </a:lnTo>
                    <a:lnTo>
                      <a:pt x="657" y="522"/>
                    </a:lnTo>
                    <a:lnTo>
                      <a:pt x="664" y="515"/>
                    </a:lnTo>
                    <a:lnTo>
                      <a:pt x="668" y="515"/>
                    </a:lnTo>
                    <a:lnTo>
                      <a:pt x="668" y="511"/>
                    </a:lnTo>
                    <a:lnTo>
                      <a:pt x="668" y="508"/>
                    </a:lnTo>
                    <a:lnTo>
                      <a:pt x="660" y="508"/>
                    </a:lnTo>
                    <a:lnTo>
                      <a:pt x="660" y="515"/>
                    </a:lnTo>
                    <a:lnTo>
                      <a:pt x="664" y="515"/>
                    </a:lnTo>
                    <a:lnTo>
                      <a:pt x="668" y="515"/>
                    </a:lnTo>
                    <a:lnTo>
                      <a:pt x="671" y="511"/>
                    </a:lnTo>
                    <a:lnTo>
                      <a:pt x="675" y="504"/>
                    </a:lnTo>
                    <a:lnTo>
                      <a:pt x="675" y="504"/>
                    </a:lnTo>
                    <a:lnTo>
                      <a:pt x="675" y="500"/>
                    </a:lnTo>
                    <a:lnTo>
                      <a:pt x="675" y="497"/>
                    </a:lnTo>
                    <a:lnTo>
                      <a:pt x="668" y="497"/>
                    </a:lnTo>
                    <a:lnTo>
                      <a:pt x="675" y="500"/>
                    </a:lnTo>
                    <a:lnTo>
                      <a:pt x="678" y="490"/>
                    </a:lnTo>
                    <a:lnTo>
                      <a:pt x="678" y="490"/>
                    </a:lnTo>
                    <a:lnTo>
                      <a:pt x="678" y="486"/>
                    </a:lnTo>
                    <a:lnTo>
                      <a:pt x="678" y="471"/>
                    </a:lnTo>
                    <a:lnTo>
                      <a:pt x="678" y="457"/>
                    </a:lnTo>
                    <a:lnTo>
                      <a:pt x="678" y="442"/>
                    </a:lnTo>
                    <a:lnTo>
                      <a:pt x="678" y="428"/>
                    </a:lnTo>
                    <a:lnTo>
                      <a:pt x="675" y="410"/>
                    </a:lnTo>
                    <a:lnTo>
                      <a:pt x="671" y="392"/>
                    </a:lnTo>
                    <a:lnTo>
                      <a:pt x="675" y="410"/>
                    </a:lnTo>
                    <a:lnTo>
                      <a:pt x="668" y="377"/>
                    </a:lnTo>
                    <a:lnTo>
                      <a:pt x="660" y="348"/>
                    </a:lnTo>
                    <a:lnTo>
                      <a:pt x="653" y="319"/>
                    </a:lnTo>
                    <a:lnTo>
                      <a:pt x="646" y="297"/>
                    </a:lnTo>
                    <a:lnTo>
                      <a:pt x="642" y="290"/>
                    </a:lnTo>
                    <a:lnTo>
                      <a:pt x="639" y="294"/>
                    </a:lnTo>
                    <a:lnTo>
                      <a:pt x="620" y="297"/>
                    </a:lnTo>
                    <a:lnTo>
                      <a:pt x="602" y="297"/>
                    </a:lnTo>
                    <a:lnTo>
                      <a:pt x="584" y="301"/>
                    </a:lnTo>
                    <a:lnTo>
                      <a:pt x="566" y="301"/>
                    </a:lnTo>
                    <a:lnTo>
                      <a:pt x="548" y="301"/>
                    </a:lnTo>
                    <a:lnTo>
                      <a:pt x="530" y="301"/>
                    </a:lnTo>
                    <a:lnTo>
                      <a:pt x="512" y="297"/>
                    </a:lnTo>
                    <a:lnTo>
                      <a:pt x="497" y="297"/>
                    </a:lnTo>
                    <a:lnTo>
                      <a:pt x="465" y="294"/>
                    </a:lnTo>
                    <a:lnTo>
                      <a:pt x="443" y="290"/>
                    </a:lnTo>
                    <a:lnTo>
                      <a:pt x="425" y="286"/>
                    </a:lnTo>
                    <a:lnTo>
                      <a:pt x="425" y="290"/>
                    </a:lnTo>
                    <a:lnTo>
                      <a:pt x="428" y="286"/>
                    </a:lnTo>
                    <a:lnTo>
                      <a:pt x="425" y="283"/>
                    </a:lnTo>
                    <a:lnTo>
                      <a:pt x="425" y="283"/>
                    </a:lnTo>
                    <a:lnTo>
                      <a:pt x="421" y="283"/>
                    </a:lnTo>
                    <a:lnTo>
                      <a:pt x="407" y="279"/>
                    </a:lnTo>
                    <a:lnTo>
                      <a:pt x="407" y="283"/>
                    </a:lnTo>
                    <a:lnTo>
                      <a:pt x="410" y="279"/>
                    </a:lnTo>
                    <a:lnTo>
                      <a:pt x="399" y="272"/>
                    </a:lnTo>
                    <a:lnTo>
                      <a:pt x="388" y="265"/>
                    </a:lnTo>
                    <a:lnTo>
                      <a:pt x="385" y="268"/>
                    </a:lnTo>
                    <a:lnTo>
                      <a:pt x="392" y="268"/>
                    </a:lnTo>
                    <a:lnTo>
                      <a:pt x="385" y="257"/>
                    </a:lnTo>
                    <a:lnTo>
                      <a:pt x="378" y="247"/>
                    </a:lnTo>
                    <a:lnTo>
                      <a:pt x="374" y="239"/>
                    </a:lnTo>
                    <a:lnTo>
                      <a:pt x="370" y="228"/>
                    </a:lnTo>
                    <a:lnTo>
                      <a:pt x="367" y="221"/>
                    </a:lnTo>
                    <a:lnTo>
                      <a:pt x="359" y="221"/>
                    </a:lnTo>
                    <a:lnTo>
                      <a:pt x="367" y="221"/>
                    </a:lnTo>
                    <a:lnTo>
                      <a:pt x="367" y="210"/>
                    </a:lnTo>
                    <a:lnTo>
                      <a:pt x="359" y="210"/>
                    </a:lnTo>
                    <a:lnTo>
                      <a:pt x="367" y="214"/>
                    </a:lnTo>
                    <a:lnTo>
                      <a:pt x="370" y="203"/>
                    </a:lnTo>
                    <a:lnTo>
                      <a:pt x="370" y="203"/>
                    </a:lnTo>
                    <a:lnTo>
                      <a:pt x="370" y="199"/>
                    </a:lnTo>
                    <a:lnTo>
                      <a:pt x="370" y="189"/>
                    </a:lnTo>
                    <a:lnTo>
                      <a:pt x="363" y="189"/>
                    </a:lnTo>
                    <a:lnTo>
                      <a:pt x="370" y="192"/>
                    </a:lnTo>
                    <a:lnTo>
                      <a:pt x="374" y="185"/>
                    </a:lnTo>
                    <a:lnTo>
                      <a:pt x="378" y="178"/>
                    </a:lnTo>
                    <a:lnTo>
                      <a:pt x="370" y="174"/>
                    </a:lnTo>
                    <a:lnTo>
                      <a:pt x="374" y="178"/>
                    </a:lnTo>
                    <a:lnTo>
                      <a:pt x="381" y="170"/>
                    </a:lnTo>
                    <a:lnTo>
                      <a:pt x="385" y="170"/>
                    </a:lnTo>
                    <a:lnTo>
                      <a:pt x="385" y="170"/>
                    </a:lnTo>
                    <a:lnTo>
                      <a:pt x="388" y="163"/>
                    </a:lnTo>
                    <a:lnTo>
                      <a:pt x="381" y="159"/>
                    </a:lnTo>
                    <a:lnTo>
                      <a:pt x="385" y="163"/>
                    </a:lnTo>
                    <a:lnTo>
                      <a:pt x="392" y="156"/>
                    </a:lnTo>
                    <a:lnTo>
                      <a:pt x="399" y="149"/>
                    </a:lnTo>
                    <a:lnTo>
                      <a:pt x="403" y="149"/>
                    </a:lnTo>
                    <a:lnTo>
                      <a:pt x="403" y="149"/>
                    </a:lnTo>
                    <a:lnTo>
                      <a:pt x="407" y="141"/>
                    </a:lnTo>
                    <a:lnTo>
                      <a:pt x="414" y="130"/>
                    </a:lnTo>
                    <a:lnTo>
                      <a:pt x="417" y="120"/>
                    </a:lnTo>
                    <a:lnTo>
                      <a:pt x="421" y="109"/>
                    </a:lnTo>
                    <a:lnTo>
                      <a:pt x="421" y="109"/>
                    </a:lnTo>
                    <a:lnTo>
                      <a:pt x="421" y="105"/>
                    </a:lnTo>
                    <a:lnTo>
                      <a:pt x="421" y="91"/>
                    </a:lnTo>
                    <a:lnTo>
                      <a:pt x="421" y="80"/>
                    </a:lnTo>
                    <a:lnTo>
                      <a:pt x="421" y="65"/>
                    </a:lnTo>
                    <a:lnTo>
                      <a:pt x="421" y="65"/>
                    </a:lnTo>
                    <a:lnTo>
                      <a:pt x="421" y="65"/>
                    </a:lnTo>
                    <a:lnTo>
                      <a:pt x="417" y="54"/>
                    </a:lnTo>
                    <a:lnTo>
                      <a:pt x="414" y="40"/>
                    </a:lnTo>
                    <a:lnTo>
                      <a:pt x="414" y="40"/>
                    </a:lnTo>
                    <a:lnTo>
                      <a:pt x="410" y="36"/>
                    </a:lnTo>
                    <a:lnTo>
                      <a:pt x="407" y="33"/>
                    </a:lnTo>
                    <a:lnTo>
                      <a:pt x="403" y="29"/>
                    </a:lnTo>
                    <a:lnTo>
                      <a:pt x="396" y="22"/>
                    </a:lnTo>
                    <a:lnTo>
                      <a:pt x="392" y="18"/>
                    </a:lnTo>
                    <a:lnTo>
                      <a:pt x="388" y="14"/>
                    </a:lnTo>
                    <a:lnTo>
                      <a:pt x="388" y="14"/>
                    </a:lnTo>
                    <a:lnTo>
                      <a:pt x="388" y="14"/>
                    </a:lnTo>
                    <a:lnTo>
                      <a:pt x="381" y="11"/>
                    </a:lnTo>
                    <a:lnTo>
                      <a:pt x="374" y="7"/>
                    </a:lnTo>
                    <a:lnTo>
                      <a:pt x="367" y="4"/>
                    </a:lnTo>
                    <a:lnTo>
                      <a:pt x="356" y="0"/>
                    </a:lnTo>
                    <a:lnTo>
                      <a:pt x="356" y="0"/>
                    </a:lnTo>
                    <a:lnTo>
                      <a:pt x="352" y="0"/>
                    </a:lnTo>
                    <a:lnTo>
                      <a:pt x="345" y="0"/>
                    </a:lnTo>
                    <a:lnTo>
                      <a:pt x="334" y="0"/>
                    </a:lnTo>
                    <a:lnTo>
                      <a:pt x="323" y="0"/>
                    </a:lnTo>
                    <a:lnTo>
                      <a:pt x="316" y="0"/>
                    </a:lnTo>
                    <a:lnTo>
                      <a:pt x="305" y="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290" y="4"/>
                    </a:lnTo>
                    <a:lnTo>
                      <a:pt x="290" y="7"/>
                    </a:lnTo>
                    <a:lnTo>
                      <a:pt x="290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76" y="7"/>
                    </a:lnTo>
                    <a:lnTo>
                      <a:pt x="269" y="11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58" y="14"/>
                    </a:lnTo>
                    <a:lnTo>
                      <a:pt x="254" y="18"/>
                    </a:lnTo>
                    <a:lnTo>
                      <a:pt x="258" y="22"/>
                    </a:lnTo>
                    <a:lnTo>
                      <a:pt x="258" y="18"/>
                    </a:lnTo>
                    <a:lnTo>
                      <a:pt x="251" y="22"/>
                    </a:lnTo>
                    <a:lnTo>
                      <a:pt x="251" y="22"/>
                    </a:lnTo>
                    <a:lnTo>
                      <a:pt x="247" y="22"/>
                    </a:lnTo>
                    <a:lnTo>
                      <a:pt x="243" y="25"/>
                    </a:lnTo>
                    <a:lnTo>
                      <a:pt x="243" y="29"/>
                    </a:lnTo>
                    <a:lnTo>
                      <a:pt x="243" y="29"/>
                    </a:lnTo>
                    <a:lnTo>
                      <a:pt x="240" y="36"/>
                    </a:lnTo>
                    <a:lnTo>
                      <a:pt x="243" y="36"/>
                    </a:lnTo>
                    <a:lnTo>
                      <a:pt x="240" y="33"/>
                    </a:lnTo>
                    <a:lnTo>
                      <a:pt x="232" y="40"/>
                    </a:lnTo>
                    <a:lnTo>
                      <a:pt x="232" y="43"/>
                    </a:lnTo>
                    <a:lnTo>
                      <a:pt x="232" y="43"/>
                    </a:lnTo>
                    <a:lnTo>
                      <a:pt x="229" y="58"/>
                    </a:lnTo>
                    <a:lnTo>
                      <a:pt x="225" y="69"/>
                    </a:lnTo>
                    <a:lnTo>
                      <a:pt x="225" y="69"/>
                    </a:lnTo>
                    <a:lnTo>
                      <a:pt x="225" y="69"/>
                    </a:lnTo>
                    <a:lnTo>
                      <a:pt x="225" y="80"/>
                    </a:lnTo>
                    <a:lnTo>
                      <a:pt x="225" y="91"/>
                    </a:lnTo>
                    <a:lnTo>
                      <a:pt x="225" y="105"/>
                    </a:lnTo>
                    <a:lnTo>
                      <a:pt x="225" y="109"/>
                    </a:lnTo>
                    <a:lnTo>
                      <a:pt x="225" y="109"/>
                    </a:lnTo>
                    <a:lnTo>
                      <a:pt x="229" y="120"/>
                    </a:lnTo>
                    <a:lnTo>
                      <a:pt x="232" y="130"/>
                    </a:lnTo>
                    <a:lnTo>
                      <a:pt x="232" y="130"/>
                    </a:lnTo>
                    <a:lnTo>
                      <a:pt x="232" y="130"/>
                    </a:lnTo>
                    <a:lnTo>
                      <a:pt x="240" y="138"/>
                    </a:lnTo>
                    <a:lnTo>
                      <a:pt x="243" y="134"/>
                    </a:lnTo>
                    <a:lnTo>
                      <a:pt x="240" y="138"/>
                    </a:lnTo>
                    <a:lnTo>
                      <a:pt x="247" y="149"/>
                    </a:lnTo>
                    <a:lnTo>
                      <a:pt x="247" y="149"/>
                    </a:lnTo>
                    <a:lnTo>
                      <a:pt x="247" y="149"/>
                    </a:lnTo>
                    <a:lnTo>
                      <a:pt x="254" y="156"/>
                    </a:lnTo>
                    <a:lnTo>
                      <a:pt x="258" y="152"/>
                    </a:lnTo>
                    <a:lnTo>
                      <a:pt x="254" y="156"/>
                    </a:lnTo>
                    <a:lnTo>
                      <a:pt x="261" y="167"/>
                    </a:lnTo>
                    <a:lnTo>
                      <a:pt x="265" y="178"/>
                    </a:lnTo>
                    <a:lnTo>
                      <a:pt x="269" y="185"/>
                    </a:lnTo>
                    <a:lnTo>
                      <a:pt x="272" y="196"/>
                    </a:lnTo>
                    <a:lnTo>
                      <a:pt x="276" y="192"/>
                    </a:lnTo>
                    <a:lnTo>
                      <a:pt x="272" y="192"/>
                    </a:lnTo>
                    <a:lnTo>
                      <a:pt x="272" y="203"/>
                    </a:lnTo>
                    <a:lnTo>
                      <a:pt x="276" y="203"/>
                    </a:lnTo>
                    <a:lnTo>
                      <a:pt x="272" y="203"/>
                    </a:lnTo>
                    <a:lnTo>
                      <a:pt x="269" y="214"/>
                    </a:lnTo>
                    <a:lnTo>
                      <a:pt x="269" y="214"/>
                    </a:lnTo>
                    <a:lnTo>
                      <a:pt x="269" y="214"/>
                    </a:lnTo>
                    <a:lnTo>
                      <a:pt x="269" y="225"/>
                    </a:lnTo>
                    <a:lnTo>
                      <a:pt x="272" y="225"/>
                    </a:lnTo>
                    <a:lnTo>
                      <a:pt x="269" y="225"/>
                    </a:lnTo>
                    <a:lnTo>
                      <a:pt x="261" y="236"/>
                    </a:lnTo>
                    <a:lnTo>
                      <a:pt x="258" y="243"/>
                    </a:lnTo>
                    <a:lnTo>
                      <a:pt x="251" y="254"/>
                    </a:lnTo>
                    <a:lnTo>
                      <a:pt x="254" y="254"/>
                    </a:lnTo>
                    <a:lnTo>
                      <a:pt x="254" y="250"/>
                    </a:lnTo>
                    <a:lnTo>
                      <a:pt x="243" y="257"/>
                    </a:lnTo>
                    <a:lnTo>
                      <a:pt x="232" y="265"/>
                    </a:lnTo>
                    <a:lnTo>
                      <a:pt x="222" y="272"/>
                    </a:lnTo>
                    <a:lnTo>
                      <a:pt x="203" y="279"/>
                    </a:lnTo>
                    <a:lnTo>
                      <a:pt x="203" y="283"/>
                    </a:lnTo>
                    <a:lnTo>
                      <a:pt x="203" y="279"/>
                    </a:lnTo>
                    <a:lnTo>
                      <a:pt x="189" y="283"/>
                    </a:lnTo>
                    <a:lnTo>
                      <a:pt x="178" y="283"/>
                    </a:lnTo>
                    <a:lnTo>
                      <a:pt x="160" y="283"/>
                    </a:lnTo>
                    <a:lnTo>
                      <a:pt x="142" y="283"/>
                    </a:lnTo>
                    <a:lnTo>
                      <a:pt x="120" y="283"/>
                    </a:lnTo>
                    <a:lnTo>
                      <a:pt x="98" y="283"/>
                    </a:lnTo>
                    <a:lnTo>
                      <a:pt x="73" y="283"/>
                    </a:lnTo>
                    <a:lnTo>
                      <a:pt x="48" y="283"/>
                    </a:lnTo>
                    <a:lnTo>
                      <a:pt x="22" y="283"/>
                    </a:lnTo>
                    <a:lnTo>
                      <a:pt x="19" y="283"/>
                    </a:lnTo>
                    <a:lnTo>
                      <a:pt x="19" y="286"/>
                    </a:lnTo>
                    <a:lnTo>
                      <a:pt x="15" y="305"/>
                    </a:lnTo>
                    <a:lnTo>
                      <a:pt x="11" y="330"/>
                    </a:lnTo>
                    <a:lnTo>
                      <a:pt x="8" y="359"/>
                    </a:lnTo>
                    <a:lnTo>
                      <a:pt x="4" y="388"/>
                    </a:lnTo>
                    <a:lnTo>
                      <a:pt x="0" y="417"/>
                    </a:lnTo>
                    <a:lnTo>
                      <a:pt x="0" y="442"/>
                    </a:lnTo>
                    <a:lnTo>
                      <a:pt x="0" y="464"/>
                    </a:lnTo>
                    <a:lnTo>
                      <a:pt x="0" y="479"/>
                    </a:lnTo>
                    <a:lnTo>
                      <a:pt x="0" y="482"/>
                    </a:lnTo>
                    <a:lnTo>
                      <a:pt x="0" y="482"/>
                    </a:lnTo>
                    <a:lnTo>
                      <a:pt x="4" y="490"/>
                    </a:lnTo>
                    <a:lnTo>
                      <a:pt x="8" y="497"/>
                    </a:lnTo>
                    <a:lnTo>
                      <a:pt x="8" y="497"/>
                    </a:lnTo>
                    <a:lnTo>
                      <a:pt x="8" y="497"/>
                    </a:lnTo>
                    <a:lnTo>
                      <a:pt x="11" y="500"/>
                    </a:lnTo>
                    <a:lnTo>
                      <a:pt x="19" y="508"/>
                    </a:lnTo>
                    <a:lnTo>
                      <a:pt x="22" y="511"/>
                    </a:lnTo>
                    <a:lnTo>
                      <a:pt x="22" y="511"/>
                    </a:lnTo>
                    <a:lnTo>
                      <a:pt x="29" y="515"/>
                    </a:lnTo>
                    <a:lnTo>
                      <a:pt x="37" y="519"/>
                    </a:lnTo>
                    <a:lnTo>
                      <a:pt x="48" y="522"/>
                    </a:lnTo>
                    <a:lnTo>
                      <a:pt x="55" y="526"/>
                    </a:lnTo>
                    <a:lnTo>
                      <a:pt x="55" y="526"/>
                    </a:lnTo>
                    <a:lnTo>
                      <a:pt x="55" y="526"/>
                    </a:lnTo>
                    <a:lnTo>
                      <a:pt x="66" y="526"/>
                    </a:lnTo>
                    <a:lnTo>
                      <a:pt x="77" y="526"/>
                    </a:lnTo>
                    <a:lnTo>
                      <a:pt x="84" y="526"/>
                    </a:lnTo>
                    <a:lnTo>
                      <a:pt x="95" y="526"/>
                    </a:lnTo>
                    <a:lnTo>
                      <a:pt x="95" y="526"/>
                    </a:lnTo>
                    <a:lnTo>
                      <a:pt x="98" y="526"/>
                    </a:lnTo>
                    <a:lnTo>
                      <a:pt x="109" y="522"/>
                    </a:lnTo>
                    <a:lnTo>
                      <a:pt x="116" y="519"/>
                    </a:lnTo>
                    <a:lnTo>
                      <a:pt x="124" y="515"/>
                    </a:lnTo>
                    <a:lnTo>
                      <a:pt x="124" y="515"/>
                    </a:lnTo>
                    <a:lnTo>
                      <a:pt x="124" y="511"/>
                    </a:lnTo>
                    <a:lnTo>
                      <a:pt x="131" y="504"/>
                    </a:lnTo>
                    <a:lnTo>
                      <a:pt x="127" y="500"/>
                    </a:lnTo>
                    <a:lnTo>
                      <a:pt x="131" y="508"/>
                    </a:lnTo>
                    <a:lnTo>
                      <a:pt x="138" y="504"/>
                    </a:lnTo>
                    <a:lnTo>
                      <a:pt x="138" y="504"/>
                    </a:lnTo>
                    <a:lnTo>
                      <a:pt x="138" y="500"/>
                    </a:lnTo>
                    <a:lnTo>
                      <a:pt x="145" y="493"/>
                    </a:lnTo>
                    <a:lnTo>
                      <a:pt x="142" y="490"/>
                    </a:lnTo>
                    <a:lnTo>
                      <a:pt x="142" y="497"/>
                    </a:lnTo>
                    <a:lnTo>
                      <a:pt x="153" y="497"/>
                    </a:lnTo>
                    <a:lnTo>
                      <a:pt x="153" y="497"/>
                    </a:lnTo>
                    <a:lnTo>
                      <a:pt x="156" y="497"/>
                    </a:lnTo>
                    <a:lnTo>
                      <a:pt x="164" y="493"/>
                    </a:lnTo>
                    <a:lnTo>
                      <a:pt x="160" y="486"/>
                    </a:lnTo>
                    <a:lnTo>
                      <a:pt x="160" y="493"/>
                    </a:lnTo>
                    <a:lnTo>
                      <a:pt x="171" y="493"/>
                    </a:lnTo>
                    <a:lnTo>
                      <a:pt x="182" y="493"/>
                    </a:lnTo>
                    <a:lnTo>
                      <a:pt x="182" y="486"/>
                    </a:lnTo>
                    <a:lnTo>
                      <a:pt x="182" y="493"/>
                    </a:lnTo>
                    <a:lnTo>
                      <a:pt x="193" y="497"/>
                    </a:lnTo>
                    <a:lnTo>
                      <a:pt x="203" y="500"/>
                    </a:lnTo>
                    <a:lnTo>
                      <a:pt x="211" y="504"/>
                    </a:lnTo>
                    <a:lnTo>
                      <a:pt x="222" y="511"/>
                    </a:lnTo>
                    <a:lnTo>
                      <a:pt x="222" y="504"/>
                    </a:lnTo>
                    <a:lnTo>
                      <a:pt x="218" y="508"/>
                    </a:lnTo>
                    <a:lnTo>
                      <a:pt x="225" y="515"/>
                    </a:lnTo>
                    <a:lnTo>
                      <a:pt x="229" y="511"/>
                    </a:lnTo>
                    <a:lnTo>
                      <a:pt x="225" y="515"/>
                    </a:lnTo>
                    <a:lnTo>
                      <a:pt x="232" y="526"/>
                    </a:lnTo>
                    <a:lnTo>
                      <a:pt x="240" y="537"/>
                    </a:lnTo>
                    <a:lnTo>
                      <a:pt x="243" y="548"/>
                    </a:lnTo>
                    <a:lnTo>
                      <a:pt x="247" y="562"/>
                    </a:lnTo>
                    <a:lnTo>
                      <a:pt x="251" y="558"/>
                    </a:lnTo>
                    <a:lnTo>
                      <a:pt x="247" y="558"/>
                    </a:lnTo>
                    <a:lnTo>
                      <a:pt x="247" y="573"/>
                    </a:lnTo>
                    <a:lnTo>
                      <a:pt x="247" y="584"/>
                    </a:lnTo>
                    <a:lnTo>
                      <a:pt x="251" y="584"/>
                    </a:lnTo>
                    <a:lnTo>
                      <a:pt x="247" y="584"/>
                    </a:lnTo>
                    <a:lnTo>
                      <a:pt x="243" y="591"/>
                    </a:lnTo>
                    <a:lnTo>
                      <a:pt x="240" y="602"/>
                    </a:lnTo>
                    <a:lnTo>
                      <a:pt x="243" y="602"/>
                    </a:lnTo>
                    <a:lnTo>
                      <a:pt x="240" y="598"/>
                    </a:lnTo>
                    <a:lnTo>
                      <a:pt x="232" y="606"/>
                    </a:lnTo>
                    <a:lnTo>
                      <a:pt x="225" y="613"/>
                    </a:lnTo>
                    <a:lnTo>
                      <a:pt x="218" y="620"/>
                    </a:lnTo>
                    <a:lnTo>
                      <a:pt x="222" y="624"/>
                    </a:lnTo>
                    <a:lnTo>
                      <a:pt x="222" y="620"/>
                    </a:lnTo>
                    <a:lnTo>
                      <a:pt x="211" y="624"/>
                    </a:lnTo>
                    <a:lnTo>
                      <a:pt x="203" y="627"/>
                    </a:lnTo>
                    <a:lnTo>
                      <a:pt x="193" y="631"/>
                    </a:lnTo>
                    <a:lnTo>
                      <a:pt x="182" y="635"/>
                    </a:lnTo>
                    <a:lnTo>
                      <a:pt x="182" y="638"/>
                    </a:lnTo>
                    <a:lnTo>
                      <a:pt x="182" y="635"/>
                    </a:lnTo>
                    <a:lnTo>
                      <a:pt x="171" y="635"/>
                    </a:lnTo>
                    <a:lnTo>
                      <a:pt x="160" y="635"/>
                    </a:lnTo>
                    <a:lnTo>
                      <a:pt x="160" y="638"/>
                    </a:lnTo>
                    <a:lnTo>
                      <a:pt x="164" y="635"/>
                    </a:lnTo>
                    <a:lnTo>
                      <a:pt x="156" y="631"/>
                    </a:lnTo>
                    <a:lnTo>
                      <a:pt x="145" y="627"/>
                    </a:lnTo>
                    <a:lnTo>
                      <a:pt x="142" y="631"/>
                    </a:lnTo>
                    <a:lnTo>
                      <a:pt x="145" y="627"/>
                    </a:lnTo>
                    <a:lnTo>
                      <a:pt x="138" y="620"/>
                    </a:lnTo>
                    <a:lnTo>
                      <a:pt x="131" y="613"/>
                    </a:lnTo>
                    <a:lnTo>
                      <a:pt x="124" y="606"/>
                    </a:lnTo>
                    <a:lnTo>
                      <a:pt x="124" y="606"/>
                    </a:lnTo>
                    <a:lnTo>
                      <a:pt x="124" y="606"/>
                    </a:lnTo>
                    <a:lnTo>
                      <a:pt x="116" y="602"/>
                    </a:lnTo>
                    <a:lnTo>
                      <a:pt x="109" y="598"/>
                    </a:lnTo>
                    <a:lnTo>
                      <a:pt x="102" y="595"/>
                    </a:lnTo>
                    <a:lnTo>
                      <a:pt x="102" y="595"/>
                    </a:lnTo>
                    <a:lnTo>
                      <a:pt x="98" y="595"/>
                    </a:lnTo>
                    <a:lnTo>
                      <a:pt x="91" y="595"/>
                    </a:lnTo>
                    <a:lnTo>
                      <a:pt x="84" y="595"/>
                    </a:lnTo>
                    <a:lnTo>
                      <a:pt x="73" y="595"/>
                    </a:lnTo>
                    <a:lnTo>
                      <a:pt x="66" y="595"/>
                    </a:lnTo>
                    <a:lnTo>
                      <a:pt x="66" y="595"/>
                    </a:lnTo>
                    <a:lnTo>
                      <a:pt x="62" y="595"/>
                    </a:lnTo>
                    <a:lnTo>
                      <a:pt x="55" y="602"/>
                    </a:lnTo>
                    <a:lnTo>
                      <a:pt x="58" y="606"/>
                    </a:lnTo>
                    <a:lnTo>
                      <a:pt x="58" y="602"/>
                    </a:lnTo>
                    <a:lnTo>
                      <a:pt x="48" y="606"/>
                    </a:lnTo>
                    <a:lnTo>
                      <a:pt x="40" y="609"/>
                    </a:lnTo>
                    <a:lnTo>
                      <a:pt x="40" y="609"/>
                    </a:lnTo>
                    <a:lnTo>
                      <a:pt x="37" y="609"/>
                    </a:lnTo>
                    <a:lnTo>
                      <a:pt x="29" y="617"/>
                    </a:lnTo>
                    <a:lnTo>
                      <a:pt x="22" y="624"/>
                    </a:lnTo>
                    <a:lnTo>
                      <a:pt x="22" y="627"/>
                    </a:lnTo>
                    <a:lnTo>
                      <a:pt x="22" y="627"/>
                    </a:lnTo>
                    <a:lnTo>
                      <a:pt x="19" y="635"/>
                    </a:lnTo>
                    <a:lnTo>
                      <a:pt x="22" y="635"/>
                    </a:lnTo>
                    <a:lnTo>
                      <a:pt x="19" y="631"/>
                    </a:lnTo>
                    <a:lnTo>
                      <a:pt x="11" y="638"/>
                    </a:lnTo>
                    <a:lnTo>
                      <a:pt x="11" y="642"/>
                    </a:lnTo>
                    <a:lnTo>
                      <a:pt x="11" y="642"/>
                    </a:lnTo>
                    <a:lnTo>
                      <a:pt x="8" y="653"/>
                    </a:lnTo>
                    <a:lnTo>
                      <a:pt x="4" y="660"/>
                    </a:lnTo>
                    <a:lnTo>
                      <a:pt x="4" y="660"/>
                    </a:lnTo>
                    <a:lnTo>
                      <a:pt x="4" y="660"/>
                    </a:lnTo>
                    <a:lnTo>
                      <a:pt x="4" y="675"/>
                    </a:lnTo>
                    <a:lnTo>
                      <a:pt x="4" y="685"/>
                    </a:lnTo>
                    <a:lnTo>
                      <a:pt x="4" y="685"/>
                    </a:lnTo>
                    <a:lnTo>
                      <a:pt x="4" y="689"/>
                    </a:lnTo>
                    <a:lnTo>
                      <a:pt x="8" y="704"/>
                    </a:lnTo>
                    <a:lnTo>
                      <a:pt x="11" y="700"/>
                    </a:lnTo>
                    <a:lnTo>
                      <a:pt x="8" y="700"/>
                    </a:lnTo>
                    <a:lnTo>
                      <a:pt x="11" y="733"/>
                    </a:lnTo>
                    <a:lnTo>
                      <a:pt x="19" y="769"/>
                    </a:lnTo>
                    <a:lnTo>
                      <a:pt x="22" y="787"/>
                    </a:lnTo>
                    <a:lnTo>
                      <a:pt x="22" y="798"/>
                    </a:lnTo>
                    <a:lnTo>
                      <a:pt x="22" y="791"/>
                    </a:lnTo>
                    <a:lnTo>
                      <a:pt x="26" y="805"/>
                    </a:lnTo>
                    <a:lnTo>
                      <a:pt x="29" y="802"/>
                    </a:lnTo>
                    <a:lnTo>
                      <a:pt x="26" y="802"/>
                    </a:lnTo>
                    <a:lnTo>
                      <a:pt x="26" y="820"/>
                    </a:lnTo>
                    <a:lnTo>
                      <a:pt x="29" y="838"/>
                    </a:lnTo>
                    <a:lnTo>
                      <a:pt x="29" y="852"/>
                    </a:lnTo>
                    <a:lnTo>
                      <a:pt x="33" y="852"/>
                    </a:lnTo>
                    <a:lnTo>
                      <a:pt x="29" y="852"/>
                    </a:lnTo>
                    <a:lnTo>
                      <a:pt x="26" y="867"/>
                    </a:lnTo>
                    <a:lnTo>
                      <a:pt x="26" y="867"/>
                    </a:lnTo>
                    <a:lnTo>
                      <a:pt x="26" y="867"/>
                    </a:lnTo>
                    <a:lnTo>
                      <a:pt x="26" y="874"/>
                    </a:lnTo>
                    <a:lnTo>
                      <a:pt x="29" y="874"/>
                    </a:lnTo>
                    <a:lnTo>
                      <a:pt x="26" y="874"/>
                    </a:lnTo>
                    <a:lnTo>
                      <a:pt x="22" y="881"/>
                    </a:lnTo>
                    <a:lnTo>
                      <a:pt x="22" y="881"/>
                    </a:lnTo>
                    <a:lnTo>
                      <a:pt x="22" y="881"/>
                    </a:lnTo>
                    <a:lnTo>
                      <a:pt x="22" y="889"/>
                    </a:lnTo>
                    <a:lnTo>
                      <a:pt x="26" y="889"/>
                    </a:lnTo>
                    <a:lnTo>
                      <a:pt x="22" y="885"/>
                    </a:lnTo>
                    <a:lnTo>
                      <a:pt x="19" y="889"/>
                    </a:lnTo>
                    <a:lnTo>
                      <a:pt x="8" y="899"/>
                    </a:lnTo>
                    <a:lnTo>
                      <a:pt x="22" y="899"/>
                    </a:lnTo>
                    <a:lnTo>
                      <a:pt x="48" y="896"/>
                    </a:lnTo>
                    <a:lnTo>
                      <a:pt x="51" y="892"/>
                    </a:lnTo>
                    <a:lnTo>
                      <a:pt x="51" y="896"/>
                    </a:lnTo>
                    <a:lnTo>
                      <a:pt x="77" y="889"/>
                    </a:lnTo>
                    <a:lnTo>
                      <a:pt x="73" y="881"/>
                    </a:lnTo>
                    <a:lnTo>
                      <a:pt x="73" y="889"/>
                    </a:lnTo>
                    <a:lnTo>
                      <a:pt x="98" y="889"/>
                    </a:lnTo>
                    <a:lnTo>
                      <a:pt x="120" y="885"/>
                    </a:lnTo>
                    <a:lnTo>
                      <a:pt x="145" y="881"/>
                    </a:lnTo>
                    <a:lnTo>
                      <a:pt x="167" y="881"/>
                    </a:lnTo>
                    <a:lnTo>
                      <a:pt x="167" y="874"/>
                    </a:lnTo>
                    <a:lnTo>
                      <a:pt x="167" y="881"/>
                    </a:lnTo>
                    <a:lnTo>
                      <a:pt x="178" y="885"/>
                    </a:lnTo>
                    <a:lnTo>
                      <a:pt x="178" y="885"/>
                    </a:lnTo>
                    <a:lnTo>
                      <a:pt x="178" y="885"/>
                    </a:lnTo>
                    <a:lnTo>
                      <a:pt x="189" y="885"/>
                    </a:lnTo>
                    <a:lnTo>
                      <a:pt x="189" y="878"/>
                    </a:lnTo>
                    <a:lnTo>
                      <a:pt x="189" y="885"/>
                    </a:lnTo>
                    <a:lnTo>
                      <a:pt x="196" y="889"/>
                    </a:lnTo>
                    <a:lnTo>
                      <a:pt x="207" y="892"/>
                    </a:lnTo>
                    <a:lnTo>
                      <a:pt x="200" y="889"/>
                    </a:lnTo>
                    <a:lnTo>
                      <a:pt x="207" y="892"/>
                    </a:lnTo>
                    <a:lnTo>
                      <a:pt x="222" y="896"/>
                    </a:lnTo>
                    <a:close/>
                    <a:moveTo>
                      <a:pt x="207" y="881"/>
                    </a:moveTo>
                    <a:lnTo>
                      <a:pt x="207" y="885"/>
                    </a:lnTo>
                    <a:lnTo>
                      <a:pt x="211" y="881"/>
                    </a:lnTo>
                    <a:lnTo>
                      <a:pt x="200" y="878"/>
                    </a:lnTo>
                    <a:lnTo>
                      <a:pt x="193" y="874"/>
                    </a:lnTo>
                    <a:lnTo>
                      <a:pt x="193" y="874"/>
                    </a:lnTo>
                    <a:lnTo>
                      <a:pt x="189" y="874"/>
                    </a:lnTo>
                    <a:lnTo>
                      <a:pt x="178" y="874"/>
                    </a:lnTo>
                    <a:lnTo>
                      <a:pt x="178" y="878"/>
                    </a:lnTo>
                    <a:lnTo>
                      <a:pt x="182" y="874"/>
                    </a:lnTo>
                    <a:lnTo>
                      <a:pt x="171" y="870"/>
                    </a:lnTo>
                    <a:lnTo>
                      <a:pt x="171" y="870"/>
                    </a:lnTo>
                    <a:lnTo>
                      <a:pt x="167" y="870"/>
                    </a:lnTo>
                    <a:lnTo>
                      <a:pt x="145" y="870"/>
                    </a:lnTo>
                    <a:lnTo>
                      <a:pt x="120" y="874"/>
                    </a:lnTo>
                    <a:lnTo>
                      <a:pt x="98" y="878"/>
                    </a:lnTo>
                    <a:lnTo>
                      <a:pt x="73" y="878"/>
                    </a:lnTo>
                    <a:lnTo>
                      <a:pt x="73" y="878"/>
                    </a:lnTo>
                    <a:lnTo>
                      <a:pt x="73" y="878"/>
                    </a:lnTo>
                    <a:lnTo>
                      <a:pt x="48" y="885"/>
                    </a:lnTo>
                    <a:lnTo>
                      <a:pt x="48" y="889"/>
                    </a:lnTo>
                    <a:lnTo>
                      <a:pt x="48" y="885"/>
                    </a:lnTo>
                    <a:lnTo>
                      <a:pt x="22" y="889"/>
                    </a:lnTo>
                    <a:lnTo>
                      <a:pt x="22" y="892"/>
                    </a:lnTo>
                    <a:lnTo>
                      <a:pt x="26" y="896"/>
                    </a:lnTo>
                    <a:lnTo>
                      <a:pt x="29" y="892"/>
                    </a:lnTo>
                    <a:lnTo>
                      <a:pt x="33" y="892"/>
                    </a:lnTo>
                    <a:lnTo>
                      <a:pt x="33" y="889"/>
                    </a:lnTo>
                    <a:lnTo>
                      <a:pt x="33" y="881"/>
                    </a:lnTo>
                    <a:lnTo>
                      <a:pt x="26" y="881"/>
                    </a:lnTo>
                    <a:lnTo>
                      <a:pt x="33" y="885"/>
                    </a:lnTo>
                    <a:lnTo>
                      <a:pt x="37" y="878"/>
                    </a:lnTo>
                    <a:lnTo>
                      <a:pt x="37" y="878"/>
                    </a:lnTo>
                    <a:lnTo>
                      <a:pt x="37" y="874"/>
                    </a:lnTo>
                    <a:lnTo>
                      <a:pt x="37" y="867"/>
                    </a:lnTo>
                    <a:lnTo>
                      <a:pt x="29" y="867"/>
                    </a:lnTo>
                    <a:lnTo>
                      <a:pt x="37" y="870"/>
                    </a:lnTo>
                    <a:lnTo>
                      <a:pt x="40" y="856"/>
                    </a:lnTo>
                    <a:lnTo>
                      <a:pt x="40" y="856"/>
                    </a:lnTo>
                    <a:lnTo>
                      <a:pt x="40" y="852"/>
                    </a:lnTo>
                    <a:lnTo>
                      <a:pt x="40" y="838"/>
                    </a:lnTo>
                    <a:lnTo>
                      <a:pt x="37" y="820"/>
                    </a:lnTo>
                    <a:lnTo>
                      <a:pt x="37" y="802"/>
                    </a:lnTo>
                    <a:lnTo>
                      <a:pt x="37" y="802"/>
                    </a:lnTo>
                    <a:lnTo>
                      <a:pt x="37" y="802"/>
                    </a:lnTo>
                    <a:lnTo>
                      <a:pt x="33" y="787"/>
                    </a:lnTo>
                    <a:lnTo>
                      <a:pt x="26" y="787"/>
                    </a:lnTo>
                    <a:lnTo>
                      <a:pt x="33" y="787"/>
                    </a:lnTo>
                    <a:lnTo>
                      <a:pt x="29" y="769"/>
                    </a:lnTo>
                    <a:lnTo>
                      <a:pt x="22" y="733"/>
                    </a:lnTo>
                    <a:lnTo>
                      <a:pt x="19" y="700"/>
                    </a:lnTo>
                    <a:lnTo>
                      <a:pt x="15" y="696"/>
                    </a:lnTo>
                    <a:lnTo>
                      <a:pt x="19" y="700"/>
                    </a:lnTo>
                    <a:lnTo>
                      <a:pt x="15" y="685"/>
                    </a:lnTo>
                    <a:lnTo>
                      <a:pt x="8" y="685"/>
                    </a:lnTo>
                    <a:lnTo>
                      <a:pt x="15" y="685"/>
                    </a:lnTo>
                    <a:lnTo>
                      <a:pt x="15" y="675"/>
                    </a:lnTo>
                    <a:lnTo>
                      <a:pt x="15" y="660"/>
                    </a:lnTo>
                    <a:lnTo>
                      <a:pt x="8" y="660"/>
                    </a:lnTo>
                    <a:lnTo>
                      <a:pt x="15" y="664"/>
                    </a:lnTo>
                    <a:lnTo>
                      <a:pt x="19" y="656"/>
                    </a:lnTo>
                    <a:lnTo>
                      <a:pt x="22" y="646"/>
                    </a:lnTo>
                    <a:lnTo>
                      <a:pt x="15" y="642"/>
                    </a:lnTo>
                    <a:lnTo>
                      <a:pt x="19" y="646"/>
                    </a:lnTo>
                    <a:lnTo>
                      <a:pt x="26" y="638"/>
                    </a:lnTo>
                    <a:lnTo>
                      <a:pt x="29" y="638"/>
                    </a:lnTo>
                    <a:lnTo>
                      <a:pt x="29" y="638"/>
                    </a:lnTo>
                    <a:lnTo>
                      <a:pt x="33" y="631"/>
                    </a:lnTo>
                    <a:lnTo>
                      <a:pt x="26" y="627"/>
                    </a:lnTo>
                    <a:lnTo>
                      <a:pt x="29" y="631"/>
                    </a:lnTo>
                    <a:lnTo>
                      <a:pt x="37" y="624"/>
                    </a:lnTo>
                    <a:lnTo>
                      <a:pt x="44" y="617"/>
                    </a:lnTo>
                    <a:lnTo>
                      <a:pt x="40" y="613"/>
                    </a:lnTo>
                    <a:lnTo>
                      <a:pt x="44" y="620"/>
                    </a:lnTo>
                    <a:lnTo>
                      <a:pt x="51" y="617"/>
                    </a:lnTo>
                    <a:lnTo>
                      <a:pt x="62" y="613"/>
                    </a:lnTo>
                    <a:lnTo>
                      <a:pt x="62" y="613"/>
                    </a:lnTo>
                    <a:lnTo>
                      <a:pt x="62" y="609"/>
                    </a:lnTo>
                    <a:lnTo>
                      <a:pt x="69" y="602"/>
                    </a:lnTo>
                    <a:lnTo>
                      <a:pt x="66" y="598"/>
                    </a:lnTo>
                    <a:lnTo>
                      <a:pt x="66" y="606"/>
                    </a:lnTo>
                    <a:lnTo>
                      <a:pt x="73" y="606"/>
                    </a:lnTo>
                    <a:lnTo>
                      <a:pt x="84" y="606"/>
                    </a:lnTo>
                    <a:lnTo>
                      <a:pt x="91" y="606"/>
                    </a:lnTo>
                    <a:lnTo>
                      <a:pt x="98" y="606"/>
                    </a:lnTo>
                    <a:lnTo>
                      <a:pt x="98" y="598"/>
                    </a:lnTo>
                    <a:lnTo>
                      <a:pt x="98" y="606"/>
                    </a:lnTo>
                    <a:lnTo>
                      <a:pt x="106" y="609"/>
                    </a:lnTo>
                    <a:lnTo>
                      <a:pt x="113" y="613"/>
                    </a:lnTo>
                    <a:lnTo>
                      <a:pt x="120" y="617"/>
                    </a:lnTo>
                    <a:lnTo>
                      <a:pt x="120" y="609"/>
                    </a:lnTo>
                    <a:lnTo>
                      <a:pt x="116" y="613"/>
                    </a:lnTo>
                    <a:lnTo>
                      <a:pt x="124" y="620"/>
                    </a:lnTo>
                    <a:lnTo>
                      <a:pt x="131" y="627"/>
                    </a:lnTo>
                    <a:lnTo>
                      <a:pt x="138" y="635"/>
                    </a:lnTo>
                    <a:lnTo>
                      <a:pt x="142" y="638"/>
                    </a:lnTo>
                    <a:lnTo>
                      <a:pt x="142" y="638"/>
                    </a:lnTo>
                    <a:lnTo>
                      <a:pt x="153" y="642"/>
                    </a:lnTo>
                    <a:lnTo>
                      <a:pt x="160" y="646"/>
                    </a:lnTo>
                    <a:lnTo>
                      <a:pt x="160" y="646"/>
                    </a:lnTo>
                    <a:lnTo>
                      <a:pt x="160" y="646"/>
                    </a:lnTo>
                    <a:lnTo>
                      <a:pt x="171" y="646"/>
                    </a:lnTo>
                    <a:lnTo>
                      <a:pt x="182" y="646"/>
                    </a:lnTo>
                    <a:lnTo>
                      <a:pt x="185" y="646"/>
                    </a:lnTo>
                    <a:lnTo>
                      <a:pt x="185" y="646"/>
                    </a:lnTo>
                    <a:lnTo>
                      <a:pt x="196" y="642"/>
                    </a:lnTo>
                    <a:lnTo>
                      <a:pt x="207" y="638"/>
                    </a:lnTo>
                    <a:lnTo>
                      <a:pt x="214" y="635"/>
                    </a:lnTo>
                    <a:lnTo>
                      <a:pt x="225" y="631"/>
                    </a:lnTo>
                    <a:lnTo>
                      <a:pt x="225" y="631"/>
                    </a:lnTo>
                    <a:lnTo>
                      <a:pt x="225" y="627"/>
                    </a:lnTo>
                    <a:lnTo>
                      <a:pt x="232" y="620"/>
                    </a:lnTo>
                    <a:lnTo>
                      <a:pt x="240" y="613"/>
                    </a:lnTo>
                    <a:lnTo>
                      <a:pt x="247" y="606"/>
                    </a:lnTo>
                    <a:lnTo>
                      <a:pt x="251" y="606"/>
                    </a:lnTo>
                    <a:lnTo>
                      <a:pt x="251" y="606"/>
                    </a:lnTo>
                    <a:lnTo>
                      <a:pt x="254" y="595"/>
                    </a:lnTo>
                    <a:lnTo>
                      <a:pt x="258" y="588"/>
                    </a:lnTo>
                    <a:lnTo>
                      <a:pt x="258" y="588"/>
                    </a:lnTo>
                    <a:lnTo>
                      <a:pt x="258" y="584"/>
                    </a:lnTo>
                    <a:lnTo>
                      <a:pt x="258" y="573"/>
                    </a:lnTo>
                    <a:lnTo>
                      <a:pt x="258" y="558"/>
                    </a:lnTo>
                    <a:lnTo>
                      <a:pt x="258" y="558"/>
                    </a:lnTo>
                    <a:lnTo>
                      <a:pt x="258" y="558"/>
                    </a:lnTo>
                    <a:lnTo>
                      <a:pt x="254" y="544"/>
                    </a:lnTo>
                    <a:lnTo>
                      <a:pt x="251" y="533"/>
                    </a:lnTo>
                    <a:lnTo>
                      <a:pt x="243" y="522"/>
                    </a:lnTo>
                    <a:lnTo>
                      <a:pt x="236" y="511"/>
                    </a:lnTo>
                    <a:lnTo>
                      <a:pt x="236" y="511"/>
                    </a:lnTo>
                    <a:lnTo>
                      <a:pt x="232" y="508"/>
                    </a:lnTo>
                    <a:lnTo>
                      <a:pt x="225" y="500"/>
                    </a:lnTo>
                    <a:lnTo>
                      <a:pt x="225" y="500"/>
                    </a:lnTo>
                    <a:lnTo>
                      <a:pt x="225" y="500"/>
                    </a:lnTo>
                    <a:lnTo>
                      <a:pt x="214" y="493"/>
                    </a:lnTo>
                    <a:lnTo>
                      <a:pt x="207" y="490"/>
                    </a:lnTo>
                    <a:lnTo>
                      <a:pt x="196" y="486"/>
                    </a:lnTo>
                    <a:lnTo>
                      <a:pt x="185" y="482"/>
                    </a:lnTo>
                    <a:lnTo>
                      <a:pt x="185" y="482"/>
                    </a:lnTo>
                    <a:lnTo>
                      <a:pt x="182" y="482"/>
                    </a:lnTo>
                    <a:lnTo>
                      <a:pt x="171" y="482"/>
                    </a:lnTo>
                    <a:lnTo>
                      <a:pt x="160" y="482"/>
                    </a:lnTo>
                    <a:lnTo>
                      <a:pt x="160" y="482"/>
                    </a:lnTo>
                    <a:lnTo>
                      <a:pt x="160" y="482"/>
                    </a:lnTo>
                    <a:lnTo>
                      <a:pt x="153" y="486"/>
                    </a:lnTo>
                    <a:lnTo>
                      <a:pt x="153" y="490"/>
                    </a:lnTo>
                    <a:lnTo>
                      <a:pt x="153" y="486"/>
                    </a:lnTo>
                    <a:lnTo>
                      <a:pt x="142" y="486"/>
                    </a:lnTo>
                    <a:lnTo>
                      <a:pt x="142" y="486"/>
                    </a:lnTo>
                    <a:lnTo>
                      <a:pt x="138" y="486"/>
                    </a:lnTo>
                    <a:lnTo>
                      <a:pt x="131" y="493"/>
                    </a:lnTo>
                    <a:lnTo>
                      <a:pt x="135" y="497"/>
                    </a:lnTo>
                    <a:lnTo>
                      <a:pt x="135" y="493"/>
                    </a:lnTo>
                    <a:lnTo>
                      <a:pt x="127" y="497"/>
                    </a:lnTo>
                    <a:lnTo>
                      <a:pt x="127" y="497"/>
                    </a:lnTo>
                    <a:lnTo>
                      <a:pt x="124" y="497"/>
                    </a:lnTo>
                    <a:lnTo>
                      <a:pt x="116" y="504"/>
                    </a:lnTo>
                    <a:lnTo>
                      <a:pt x="120" y="508"/>
                    </a:lnTo>
                    <a:lnTo>
                      <a:pt x="120" y="504"/>
                    </a:lnTo>
                    <a:lnTo>
                      <a:pt x="113" y="508"/>
                    </a:lnTo>
                    <a:lnTo>
                      <a:pt x="106" y="511"/>
                    </a:lnTo>
                    <a:lnTo>
                      <a:pt x="95" y="515"/>
                    </a:lnTo>
                    <a:lnTo>
                      <a:pt x="95" y="519"/>
                    </a:lnTo>
                    <a:lnTo>
                      <a:pt x="95" y="515"/>
                    </a:lnTo>
                    <a:lnTo>
                      <a:pt x="84" y="515"/>
                    </a:lnTo>
                    <a:lnTo>
                      <a:pt x="77" y="515"/>
                    </a:lnTo>
                    <a:lnTo>
                      <a:pt x="66" y="515"/>
                    </a:lnTo>
                    <a:lnTo>
                      <a:pt x="55" y="515"/>
                    </a:lnTo>
                    <a:lnTo>
                      <a:pt x="55" y="519"/>
                    </a:lnTo>
                    <a:lnTo>
                      <a:pt x="58" y="515"/>
                    </a:lnTo>
                    <a:lnTo>
                      <a:pt x="51" y="511"/>
                    </a:lnTo>
                    <a:lnTo>
                      <a:pt x="40" y="508"/>
                    </a:lnTo>
                    <a:lnTo>
                      <a:pt x="33" y="504"/>
                    </a:lnTo>
                    <a:lnTo>
                      <a:pt x="26" y="500"/>
                    </a:lnTo>
                    <a:lnTo>
                      <a:pt x="22" y="504"/>
                    </a:lnTo>
                    <a:lnTo>
                      <a:pt x="26" y="500"/>
                    </a:lnTo>
                    <a:lnTo>
                      <a:pt x="19" y="493"/>
                    </a:lnTo>
                    <a:lnTo>
                      <a:pt x="15" y="490"/>
                    </a:lnTo>
                    <a:lnTo>
                      <a:pt x="11" y="493"/>
                    </a:lnTo>
                    <a:lnTo>
                      <a:pt x="19" y="493"/>
                    </a:lnTo>
                    <a:lnTo>
                      <a:pt x="15" y="486"/>
                    </a:lnTo>
                    <a:lnTo>
                      <a:pt x="11" y="479"/>
                    </a:lnTo>
                    <a:lnTo>
                      <a:pt x="4" y="479"/>
                    </a:lnTo>
                    <a:lnTo>
                      <a:pt x="11" y="479"/>
                    </a:lnTo>
                    <a:lnTo>
                      <a:pt x="11" y="464"/>
                    </a:lnTo>
                    <a:lnTo>
                      <a:pt x="11" y="442"/>
                    </a:lnTo>
                    <a:lnTo>
                      <a:pt x="11" y="417"/>
                    </a:lnTo>
                    <a:lnTo>
                      <a:pt x="15" y="388"/>
                    </a:lnTo>
                    <a:lnTo>
                      <a:pt x="19" y="359"/>
                    </a:lnTo>
                    <a:lnTo>
                      <a:pt x="22" y="330"/>
                    </a:lnTo>
                    <a:lnTo>
                      <a:pt x="26" y="305"/>
                    </a:lnTo>
                    <a:lnTo>
                      <a:pt x="29" y="286"/>
                    </a:lnTo>
                    <a:lnTo>
                      <a:pt x="22" y="286"/>
                    </a:lnTo>
                    <a:lnTo>
                      <a:pt x="22" y="294"/>
                    </a:lnTo>
                    <a:lnTo>
                      <a:pt x="48" y="294"/>
                    </a:lnTo>
                    <a:lnTo>
                      <a:pt x="73" y="294"/>
                    </a:lnTo>
                    <a:lnTo>
                      <a:pt x="98" y="294"/>
                    </a:lnTo>
                    <a:lnTo>
                      <a:pt x="120" y="294"/>
                    </a:lnTo>
                    <a:lnTo>
                      <a:pt x="142" y="294"/>
                    </a:lnTo>
                    <a:lnTo>
                      <a:pt x="160" y="294"/>
                    </a:lnTo>
                    <a:lnTo>
                      <a:pt x="178" y="294"/>
                    </a:lnTo>
                    <a:lnTo>
                      <a:pt x="189" y="294"/>
                    </a:lnTo>
                    <a:lnTo>
                      <a:pt x="203" y="290"/>
                    </a:lnTo>
                    <a:lnTo>
                      <a:pt x="207" y="286"/>
                    </a:lnTo>
                    <a:lnTo>
                      <a:pt x="207" y="290"/>
                    </a:lnTo>
                    <a:lnTo>
                      <a:pt x="225" y="283"/>
                    </a:lnTo>
                    <a:lnTo>
                      <a:pt x="236" y="276"/>
                    </a:lnTo>
                    <a:lnTo>
                      <a:pt x="247" y="268"/>
                    </a:lnTo>
                    <a:lnTo>
                      <a:pt x="258" y="261"/>
                    </a:lnTo>
                    <a:lnTo>
                      <a:pt x="258" y="257"/>
                    </a:lnTo>
                    <a:lnTo>
                      <a:pt x="261" y="257"/>
                    </a:lnTo>
                    <a:lnTo>
                      <a:pt x="269" y="247"/>
                    </a:lnTo>
                    <a:lnTo>
                      <a:pt x="272" y="239"/>
                    </a:lnTo>
                    <a:lnTo>
                      <a:pt x="280" y="228"/>
                    </a:lnTo>
                    <a:lnTo>
                      <a:pt x="280" y="228"/>
                    </a:lnTo>
                    <a:lnTo>
                      <a:pt x="280" y="225"/>
                    </a:lnTo>
                    <a:lnTo>
                      <a:pt x="280" y="214"/>
                    </a:lnTo>
                    <a:lnTo>
                      <a:pt x="272" y="214"/>
                    </a:lnTo>
                    <a:lnTo>
                      <a:pt x="280" y="218"/>
                    </a:lnTo>
                    <a:lnTo>
                      <a:pt x="283" y="207"/>
                    </a:lnTo>
                    <a:lnTo>
                      <a:pt x="283" y="207"/>
                    </a:lnTo>
                    <a:lnTo>
                      <a:pt x="283" y="203"/>
                    </a:lnTo>
                    <a:lnTo>
                      <a:pt x="283" y="192"/>
                    </a:lnTo>
                    <a:lnTo>
                      <a:pt x="283" y="192"/>
                    </a:lnTo>
                    <a:lnTo>
                      <a:pt x="283" y="192"/>
                    </a:lnTo>
                    <a:lnTo>
                      <a:pt x="280" y="181"/>
                    </a:lnTo>
                    <a:lnTo>
                      <a:pt x="276" y="174"/>
                    </a:lnTo>
                    <a:lnTo>
                      <a:pt x="272" y="163"/>
                    </a:lnTo>
                    <a:lnTo>
                      <a:pt x="265" y="152"/>
                    </a:lnTo>
                    <a:lnTo>
                      <a:pt x="265" y="152"/>
                    </a:lnTo>
                    <a:lnTo>
                      <a:pt x="261" y="149"/>
                    </a:lnTo>
                    <a:lnTo>
                      <a:pt x="254" y="141"/>
                    </a:lnTo>
                    <a:lnTo>
                      <a:pt x="251" y="145"/>
                    </a:lnTo>
                    <a:lnTo>
                      <a:pt x="258" y="145"/>
                    </a:lnTo>
                    <a:lnTo>
                      <a:pt x="251" y="134"/>
                    </a:lnTo>
                    <a:lnTo>
                      <a:pt x="251" y="134"/>
                    </a:lnTo>
                    <a:lnTo>
                      <a:pt x="247" y="130"/>
                    </a:lnTo>
                    <a:lnTo>
                      <a:pt x="240" y="123"/>
                    </a:lnTo>
                    <a:lnTo>
                      <a:pt x="236" y="127"/>
                    </a:lnTo>
                    <a:lnTo>
                      <a:pt x="243" y="127"/>
                    </a:lnTo>
                    <a:lnTo>
                      <a:pt x="240" y="116"/>
                    </a:lnTo>
                    <a:lnTo>
                      <a:pt x="236" y="105"/>
                    </a:lnTo>
                    <a:lnTo>
                      <a:pt x="229" y="105"/>
                    </a:lnTo>
                    <a:lnTo>
                      <a:pt x="236" y="105"/>
                    </a:lnTo>
                    <a:lnTo>
                      <a:pt x="236" y="91"/>
                    </a:lnTo>
                    <a:lnTo>
                      <a:pt x="236" y="80"/>
                    </a:lnTo>
                    <a:lnTo>
                      <a:pt x="236" y="69"/>
                    </a:lnTo>
                    <a:lnTo>
                      <a:pt x="229" y="69"/>
                    </a:lnTo>
                    <a:lnTo>
                      <a:pt x="236" y="72"/>
                    </a:lnTo>
                    <a:lnTo>
                      <a:pt x="240" y="62"/>
                    </a:lnTo>
                    <a:lnTo>
                      <a:pt x="243" y="47"/>
                    </a:lnTo>
                    <a:lnTo>
                      <a:pt x="236" y="43"/>
                    </a:lnTo>
                    <a:lnTo>
                      <a:pt x="240" y="47"/>
                    </a:lnTo>
                    <a:lnTo>
                      <a:pt x="247" y="40"/>
                    </a:lnTo>
                    <a:lnTo>
                      <a:pt x="251" y="40"/>
                    </a:lnTo>
                    <a:lnTo>
                      <a:pt x="251" y="40"/>
                    </a:lnTo>
                    <a:lnTo>
                      <a:pt x="254" y="33"/>
                    </a:lnTo>
                    <a:lnTo>
                      <a:pt x="247" y="29"/>
                    </a:lnTo>
                    <a:lnTo>
                      <a:pt x="251" y="33"/>
                    </a:lnTo>
                    <a:lnTo>
                      <a:pt x="254" y="29"/>
                    </a:lnTo>
                    <a:lnTo>
                      <a:pt x="251" y="25"/>
                    </a:lnTo>
                    <a:lnTo>
                      <a:pt x="254" y="33"/>
                    </a:lnTo>
                    <a:lnTo>
                      <a:pt x="261" y="29"/>
                    </a:lnTo>
                    <a:lnTo>
                      <a:pt x="261" y="29"/>
                    </a:lnTo>
                    <a:lnTo>
                      <a:pt x="261" y="25"/>
                    </a:lnTo>
                    <a:lnTo>
                      <a:pt x="265" y="22"/>
                    </a:lnTo>
                    <a:lnTo>
                      <a:pt x="261" y="18"/>
                    </a:lnTo>
                    <a:lnTo>
                      <a:pt x="265" y="25"/>
                    </a:lnTo>
                    <a:lnTo>
                      <a:pt x="272" y="22"/>
                    </a:lnTo>
                    <a:lnTo>
                      <a:pt x="280" y="18"/>
                    </a:lnTo>
                    <a:lnTo>
                      <a:pt x="287" y="14"/>
                    </a:lnTo>
                    <a:lnTo>
                      <a:pt x="283" y="7"/>
                    </a:lnTo>
                    <a:lnTo>
                      <a:pt x="283" y="14"/>
                    </a:lnTo>
                    <a:lnTo>
                      <a:pt x="290" y="14"/>
                    </a:lnTo>
                    <a:lnTo>
                      <a:pt x="294" y="14"/>
                    </a:lnTo>
                    <a:lnTo>
                      <a:pt x="294" y="14"/>
                    </a:lnTo>
                    <a:lnTo>
                      <a:pt x="301" y="11"/>
                    </a:lnTo>
                    <a:lnTo>
                      <a:pt x="298" y="4"/>
                    </a:lnTo>
                    <a:lnTo>
                      <a:pt x="298" y="11"/>
                    </a:lnTo>
                    <a:lnTo>
                      <a:pt x="305" y="11"/>
                    </a:lnTo>
                    <a:lnTo>
                      <a:pt x="316" y="11"/>
                    </a:lnTo>
                    <a:lnTo>
                      <a:pt x="323" y="11"/>
                    </a:lnTo>
                    <a:lnTo>
                      <a:pt x="334" y="11"/>
                    </a:lnTo>
                    <a:lnTo>
                      <a:pt x="345" y="11"/>
                    </a:lnTo>
                    <a:lnTo>
                      <a:pt x="352" y="11"/>
                    </a:lnTo>
                    <a:lnTo>
                      <a:pt x="352" y="4"/>
                    </a:lnTo>
                    <a:lnTo>
                      <a:pt x="352" y="11"/>
                    </a:lnTo>
                    <a:lnTo>
                      <a:pt x="363" y="14"/>
                    </a:lnTo>
                    <a:lnTo>
                      <a:pt x="370" y="18"/>
                    </a:lnTo>
                    <a:lnTo>
                      <a:pt x="378" y="22"/>
                    </a:lnTo>
                    <a:lnTo>
                      <a:pt x="385" y="25"/>
                    </a:lnTo>
                    <a:lnTo>
                      <a:pt x="385" y="18"/>
                    </a:lnTo>
                    <a:lnTo>
                      <a:pt x="381" y="22"/>
                    </a:lnTo>
                    <a:lnTo>
                      <a:pt x="385" y="25"/>
                    </a:lnTo>
                    <a:lnTo>
                      <a:pt x="388" y="29"/>
                    </a:lnTo>
                    <a:lnTo>
                      <a:pt x="396" y="36"/>
                    </a:lnTo>
                    <a:lnTo>
                      <a:pt x="399" y="40"/>
                    </a:lnTo>
                    <a:lnTo>
                      <a:pt x="403" y="43"/>
                    </a:lnTo>
                    <a:lnTo>
                      <a:pt x="407" y="40"/>
                    </a:lnTo>
                    <a:lnTo>
                      <a:pt x="403" y="43"/>
                    </a:lnTo>
                    <a:lnTo>
                      <a:pt x="407" y="58"/>
                    </a:lnTo>
                    <a:lnTo>
                      <a:pt x="410" y="69"/>
                    </a:lnTo>
                    <a:lnTo>
                      <a:pt x="414" y="65"/>
                    </a:lnTo>
                    <a:lnTo>
                      <a:pt x="410" y="65"/>
                    </a:lnTo>
                    <a:lnTo>
                      <a:pt x="410" y="80"/>
                    </a:lnTo>
                    <a:lnTo>
                      <a:pt x="410" y="91"/>
                    </a:lnTo>
                    <a:lnTo>
                      <a:pt x="410" y="105"/>
                    </a:lnTo>
                    <a:lnTo>
                      <a:pt x="414" y="105"/>
                    </a:lnTo>
                    <a:lnTo>
                      <a:pt x="410" y="105"/>
                    </a:lnTo>
                    <a:lnTo>
                      <a:pt x="407" y="116"/>
                    </a:lnTo>
                    <a:lnTo>
                      <a:pt x="403" y="127"/>
                    </a:lnTo>
                    <a:lnTo>
                      <a:pt x="396" y="138"/>
                    </a:lnTo>
                    <a:lnTo>
                      <a:pt x="392" y="145"/>
                    </a:lnTo>
                    <a:lnTo>
                      <a:pt x="396" y="145"/>
                    </a:lnTo>
                    <a:lnTo>
                      <a:pt x="392" y="141"/>
                    </a:lnTo>
                    <a:lnTo>
                      <a:pt x="385" y="149"/>
                    </a:lnTo>
                    <a:lnTo>
                      <a:pt x="378" y="156"/>
                    </a:lnTo>
                    <a:lnTo>
                      <a:pt x="378" y="159"/>
                    </a:lnTo>
                    <a:lnTo>
                      <a:pt x="378" y="159"/>
                    </a:lnTo>
                    <a:lnTo>
                      <a:pt x="374" y="167"/>
                    </a:lnTo>
                    <a:lnTo>
                      <a:pt x="378" y="167"/>
                    </a:lnTo>
                    <a:lnTo>
                      <a:pt x="374" y="163"/>
                    </a:lnTo>
                    <a:lnTo>
                      <a:pt x="367" y="170"/>
                    </a:lnTo>
                    <a:lnTo>
                      <a:pt x="367" y="174"/>
                    </a:lnTo>
                    <a:lnTo>
                      <a:pt x="367" y="174"/>
                    </a:lnTo>
                    <a:lnTo>
                      <a:pt x="363" y="181"/>
                    </a:lnTo>
                    <a:lnTo>
                      <a:pt x="359" y="189"/>
                    </a:lnTo>
                    <a:lnTo>
                      <a:pt x="359" y="189"/>
                    </a:lnTo>
                    <a:lnTo>
                      <a:pt x="359" y="189"/>
                    </a:lnTo>
                    <a:lnTo>
                      <a:pt x="359" y="199"/>
                    </a:lnTo>
                    <a:lnTo>
                      <a:pt x="363" y="199"/>
                    </a:lnTo>
                    <a:lnTo>
                      <a:pt x="359" y="199"/>
                    </a:lnTo>
                    <a:lnTo>
                      <a:pt x="356" y="210"/>
                    </a:lnTo>
                    <a:lnTo>
                      <a:pt x="356" y="210"/>
                    </a:lnTo>
                    <a:lnTo>
                      <a:pt x="356" y="210"/>
                    </a:lnTo>
                    <a:lnTo>
                      <a:pt x="356" y="221"/>
                    </a:lnTo>
                    <a:lnTo>
                      <a:pt x="356" y="225"/>
                    </a:lnTo>
                    <a:lnTo>
                      <a:pt x="356" y="225"/>
                    </a:lnTo>
                    <a:lnTo>
                      <a:pt x="359" y="232"/>
                    </a:lnTo>
                    <a:lnTo>
                      <a:pt x="363" y="243"/>
                    </a:lnTo>
                    <a:lnTo>
                      <a:pt x="367" y="250"/>
                    </a:lnTo>
                    <a:lnTo>
                      <a:pt x="374" y="261"/>
                    </a:lnTo>
                    <a:lnTo>
                      <a:pt x="381" y="272"/>
                    </a:lnTo>
                    <a:lnTo>
                      <a:pt x="381" y="272"/>
                    </a:lnTo>
                    <a:lnTo>
                      <a:pt x="385" y="276"/>
                    </a:lnTo>
                    <a:lnTo>
                      <a:pt x="396" y="283"/>
                    </a:lnTo>
                    <a:lnTo>
                      <a:pt x="407" y="290"/>
                    </a:lnTo>
                    <a:lnTo>
                      <a:pt x="403" y="286"/>
                    </a:lnTo>
                    <a:lnTo>
                      <a:pt x="407" y="290"/>
                    </a:lnTo>
                    <a:lnTo>
                      <a:pt x="421" y="294"/>
                    </a:lnTo>
                    <a:lnTo>
                      <a:pt x="421" y="286"/>
                    </a:lnTo>
                    <a:lnTo>
                      <a:pt x="417" y="290"/>
                    </a:lnTo>
                    <a:lnTo>
                      <a:pt x="421" y="294"/>
                    </a:lnTo>
                    <a:lnTo>
                      <a:pt x="421" y="294"/>
                    </a:lnTo>
                    <a:lnTo>
                      <a:pt x="425" y="297"/>
                    </a:lnTo>
                    <a:lnTo>
                      <a:pt x="443" y="301"/>
                    </a:lnTo>
                    <a:lnTo>
                      <a:pt x="465" y="305"/>
                    </a:lnTo>
                    <a:lnTo>
                      <a:pt x="497" y="308"/>
                    </a:lnTo>
                    <a:lnTo>
                      <a:pt x="512" y="308"/>
                    </a:lnTo>
                    <a:lnTo>
                      <a:pt x="530" y="312"/>
                    </a:lnTo>
                    <a:lnTo>
                      <a:pt x="548" y="312"/>
                    </a:lnTo>
                    <a:lnTo>
                      <a:pt x="566" y="312"/>
                    </a:lnTo>
                    <a:lnTo>
                      <a:pt x="584" y="312"/>
                    </a:lnTo>
                    <a:lnTo>
                      <a:pt x="602" y="308"/>
                    </a:lnTo>
                    <a:lnTo>
                      <a:pt x="620" y="308"/>
                    </a:lnTo>
                    <a:lnTo>
                      <a:pt x="639" y="305"/>
                    </a:lnTo>
                    <a:lnTo>
                      <a:pt x="639" y="297"/>
                    </a:lnTo>
                    <a:lnTo>
                      <a:pt x="635" y="301"/>
                    </a:lnTo>
                    <a:lnTo>
                      <a:pt x="642" y="323"/>
                    </a:lnTo>
                    <a:lnTo>
                      <a:pt x="649" y="352"/>
                    </a:lnTo>
                    <a:lnTo>
                      <a:pt x="657" y="381"/>
                    </a:lnTo>
                    <a:lnTo>
                      <a:pt x="664" y="413"/>
                    </a:lnTo>
                    <a:lnTo>
                      <a:pt x="668" y="410"/>
                    </a:lnTo>
                    <a:lnTo>
                      <a:pt x="664" y="410"/>
                    </a:lnTo>
                    <a:lnTo>
                      <a:pt x="668" y="428"/>
                    </a:lnTo>
                    <a:lnTo>
                      <a:pt x="668" y="442"/>
                    </a:lnTo>
                    <a:lnTo>
                      <a:pt x="668" y="457"/>
                    </a:lnTo>
                    <a:lnTo>
                      <a:pt x="668" y="471"/>
                    </a:lnTo>
                    <a:lnTo>
                      <a:pt x="668" y="486"/>
                    </a:lnTo>
                    <a:lnTo>
                      <a:pt x="671" y="486"/>
                    </a:lnTo>
                    <a:lnTo>
                      <a:pt x="668" y="486"/>
                    </a:lnTo>
                    <a:lnTo>
                      <a:pt x="664" y="497"/>
                    </a:lnTo>
                    <a:lnTo>
                      <a:pt x="664" y="497"/>
                    </a:lnTo>
                    <a:lnTo>
                      <a:pt x="664" y="497"/>
                    </a:lnTo>
                    <a:lnTo>
                      <a:pt x="664" y="500"/>
                    </a:lnTo>
                    <a:lnTo>
                      <a:pt x="668" y="500"/>
                    </a:lnTo>
                    <a:lnTo>
                      <a:pt x="664" y="500"/>
                    </a:lnTo>
                    <a:lnTo>
                      <a:pt x="660" y="508"/>
                    </a:lnTo>
                    <a:lnTo>
                      <a:pt x="664" y="508"/>
                    </a:lnTo>
                    <a:lnTo>
                      <a:pt x="664" y="504"/>
                    </a:lnTo>
                    <a:lnTo>
                      <a:pt x="660" y="504"/>
                    </a:lnTo>
                    <a:lnTo>
                      <a:pt x="657" y="504"/>
                    </a:lnTo>
                    <a:lnTo>
                      <a:pt x="657" y="508"/>
                    </a:lnTo>
                    <a:lnTo>
                      <a:pt x="657" y="511"/>
                    </a:lnTo>
                    <a:lnTo>
                      <a:pt x="660" y="511"/>
                    </a:lnTo>
                    <a:lnTo>
                      <a:pt x="657" y="508"/>
                    </a:lnTo>
                    <a:lnTo>
                      <a:pt x="649" y="515"/>
                    </a:lnTo>
                    <a:lnTo>
                      <a:pt x="653" y="519"/>
                    </a:lnTo>
                    <a:lnTo>
                      <a:pt x="653" y="515"/>
                    </a:lnTo>
                    <a:lnTo>
                      <a:pt x="646" y="519"/>
                    </a:lnTo>
                    <a:lnTo>
                      <a:pt x="639" y="522"/>
                    </a:lnTo>
                    <a:lnTo>
                      <a:pt x="631" y="526"/>
                    </a:lnTo>
                    <a:lnTo>
                      <a:pt x="631" y="529"/>
                    </a:lnTo>
                    <a:lnTo>
                      <a:pt x="631" y="526"/>
                    </a:lnTo>
                    <a:lnTo>
                      <a:pt x="624" y="526"/>
                    </a:lnTo>
                    <a:lnTo>
                      <a:pt x="624" y="526"/>
                    </a:lnTo>
                    <a:lnTo>
                      <a:pt x="624" y="526"/>
                    </a:lnTo>
                    <a:lnTo>
                      <a:pt x="617" y="529"/>
                    </a:lnTo>
                    <a:lnTo>
                      <a:pt x="617" y="533"/>
                    </a:lnTo>
                    <a:lnTo>
                      <a:pt x="617" y="529"/>
                    </a:lnTo>
                    <a:lnTo>
                      <a:pt x="610" y="529"/>
                    </a:lnTo>
                    <a:lnTo>
                      <a:pt x="602" y="529"/>
                    </a:lnTo>
                    <a:lnTo>
                      <a:pt x="595" y="529"/>
                    </a:lnTo>
                    <a:lnTo>
                      <a:pt x="588" y="529"/>
                    </a:lnTo>
                    <a:lnTo>
                      <a:pt x="588" y="533"/>
                    </a:lnTo>
                    <a:lnTo>
                      <a:pt x="591" y="529"/>
                    </a:lnTo>
                    <a:lnTo>
                      <a:pt x="584" y="526"/>
                    </a:lnTo>
                    <a:lnTo>
                      <a:pt x="577" y="522"/>
                    </a:lnTo>
                    <a:lnTo>
                      <a:pt x="577" y="522"/>
                    </a:lnTo>
                    <a:lnTo>
                      <a:pt x="573" y="522"/>
                    </a:lnTo>
                    <a:lnTo>
                      <a:pt x="566" y="522"/>
                    </a:lnTo>
                    <a:lnTo>
                      <a:pt x="566" y="526"/>
                    </a:lnTo>
                    <a:lnTo>
                      <a:pt x="570" y="522"/>
                    </a:lnTo>
                    <a:lnTo>
                      <a:pt x="566" y="519"/>
                    </a:lnTo>
                    <a:lnTo>
                      <a:pt x="566" y="519"/>
                    </a:lnTo>
                    <a:lnTo>
                      <a:pt x="566" y="519"/>
                    </a:lnTo>
                    <a:lnTo>
                      <a:pt x="559" y="515"/>
                    </a:lnTo>
                    <a:lnTo>
                      <a:pt x="555" y="519"/>
                    </a:lnTo>
                    <a:lnTo>
                      <a:pt x="562" y="519"/>
                    </a:lnTo>
                    <a:lnTo>
                      <a:pt x="559" y="511"/>
                    </a:lnTo>
                    <a:lnTo>
                      <a:pt x="555" y="508"/>
                    </a:lnTo>
                    <a:lnTo>
                      <a:pt x="555" y="508"/>
                    </a:lnTo>
                    <a:lnTo>
                      <a:pt x="548" y="504"/>
                    </a:lnTo>
                    <a:lnTo>
                      <a:pt x="544" y="508"/>
                    </a:lnTo>
                    <a:lnTo>
                      <a:pt x="548" y="504"/>
                    </a:lnTo>
                    <a:lnTo>
                      <a:pt x="541" y="497"/>
                    </a:lnTo>
                    <a:lnTo>
                      <a:pt x="541" y="497"/>
                    </a:lnTo>
                    <a:lnTo>
                      <a:pt x="541" y="497"/>
                    </a:lnTo>
                    <a:lnTo>
                      <a:pt x="530" y="493"/>
                    </a:lnTo>
                    <a:lnTo>
                      <a:pt x="519" y="490"/>
                    </a:lnTo>
                    <a:lnTo>
                      <a:pt x="519" y="490"/>
                    </a:lnTo>
                    <a:lnTo>
                      <a:pt x="515" y="490"/>
                    </a:lnTo>
                    <a:lnTo>
                      <a:pt x="504" y="490"/>
                    </a:lnTo>
                    <a:lnTo>
                      <a:pt x="490" y="490"/>
                    </a:lnTo>
                    <a:lnTo>
                      <a:pt x="479" y="490"/>
                    </a:lnTo>
                    <a:lnTo>
                      <a:pt x="479" y="490"/>
                    </a:lnTo>
                    <a:lnTo>
                      <a:pt x="479" y="490"/>
                    </a:lnTo>
                    <a:lnTo>
                      <a:pt x="468" y="493"/>
                    </a:lnTo>
                    <a:lnTo>
                      <a:pt x="457" y="497"/>
                    </a:lnTo>
                    <a:lnTo>
                      <a:pt x="446" y="504"/>
                    </a:lnTo>
                    <a:lnTo>
                      <a:pt x="446" y="504"/>
                    </a:lnTo>
                    <a:lnTo>
                      <a:pt x="443" y="504"/>
                    </a:lnTo>
                    <a:lnTo>
                      <a:pt x="432" y="515"/>
                    </a:lnTo>
                    <a:lnTo>
                      <a:pt x="425" y="522"/>
                    </a:lnTo>
                    <a:lnTo>
                      <a:pt x="417" y="529"/>
                    </a:lnTo>
                    <a:lnTo>
                      <a:pt x="414" y="533"/>
                    </a:lnTo>
                    <a:lnTo>
                      <a:pt x="414" y="537"/>
                    </a:lnTo>
                    <a:lnTo>
                      <a:pt x="414" y="537"/>
                    </a:lnTo>
                    <a:lnTo>
                      <a:pt x="414" y="544"/>
                    </a:lnTo>
                    <a:lnTo>
                      <a:pt x="417" y="544"/>
                    </a:lnTo>
                    <a:lnTo>
                      <a:pt x="414" y="544"/>
                    </a:lnTo>
                    <a:lnTo>
                      <a:pt x="410" y="551"/>
                    </a:lnTo>
                    <a:lnTo>
                      <a:pt x="407" y="558"/>
                    </a:lnTo>
                    <a:lnTo>
                      <a:pt x="407" y="558"/>
                    </a:lnTo>
                    <a:lnTo>
                      <a:pt x="407" y="558"/>
                    </a:lnTo>
                    <a:lnTo>
                      <a:pt x="407" y="566"/>
                    </a:lnTo>
                    <a:lnTo>
                      <a:pt x="407" y="577"/>
                    </a:lnTo>
                    <a:lnTo>
                      <a:pt x="407" y="584"/>
                    </a:lnTo>
                    <a:lnTo>
                      <a:pt x="407" y="591"/>
                    </a:lnTo>
                    <a:lnTo>
                      <a:pt x="407" y="598"/>
                    </a:lnTo>
                    <a:lnTo>
                      <a:pt x="407" y="606"/>
                    </a:lnTo>
                    <a:lnTo>
                      <a:pt x="407" y="609"/>
                    </a:lnTo>
                    <a:lnTo>
                      <a:pt x="407" y="609"/>
                    </a:lnTo>
                    <a:lnTo>
                      <a:pt x="410" y="617"/>
                    </a:lnTo>
                    <a:lnTo>
                      <a:pt x="410" y="617"/>
                    </a:lnTo>
                    <a:lnTo>
                      <a:pt x="410" y="617"/>
                    </a:lnTo>
                    <a:lnTo>
                      <a:pt x="414" y="620"/>
                    </a:lnTo>
                    <a:lnTo>
                      <a:pt x="417" y="617"/>
                    </a:lnTo>
                    <a:lnTo>
                      <a:pt x="414" y="617"/>
                    </a:lnTo>
                    <a:lnTo>
                      <a:pt x="414" y="624"/>
                    </a:lnTo>
                    <a:lnTo>
                      <a:pt x="414" y="627"/>
                    </a:lnTo>
                    <a:lnTo>
                      <a:pt x="414" y="627"/>
                    </a:lnTo>
                    <a:lnTo>
                      <a:pt x="417" y="631"/>
                    </a:lnTo>
                    <a:lnTo>
                      <a:pt x="421" y="627"/>
                    </a:lnTo>
                    <a:lnTo>
                      <a:pt x="417" y="631"/>
                    </a:lnTo>
                    <a:lnTo>
                      <a:pt x="421" y="638"/>
                    </a:lnTo>
                    <a:lnTo>
                      <a:pt x="421" y="638"/>
                    </a:lnTo>
                    <a:lnTo>
                      <a:pt x="425" y="642"/>
                    </a:lnTo>
                    <a:lnTo>
                      <a:pt x="436" y="649"/>
                    </a:lnTo>
                    <a:lnTo>
                      <a:pt x="436" y="642"/>
                    </a:lnTo>
                    <a:lnTo>
                      <a:pt x="432" y="646"/>
                    </a:lnTo>
                    <a:lnTo>
                      <a:pt x="439" y="653"/>
                    </a:lnTo>
                    <a:lnTo>
                      <a:pt x="443" y="656"/>
                    </a:lnTo>
                    <a:lnTo>
                      <a:pt x="443" y="656"/>
                    </a:lnTo>
                    <a:lnTo>
                      <a:pt x="454" y="664"/>
                    </a:lnTo>
                    <a:lnTo>
                      <a:pt x="465" y="667"/>
                    </a:lnTo>
                    <a:lnTo>
                      <a:pt x="475" y="671"/>
                    </a:lnTo>
                    <a:lnTo>
                      <a:pt x="475" y="671"/>
                    </a:lnTo>
                    <a:lnTo>
                      <a:pt x="475" y="671"/>
                    </a:lnTo>
                    <a:lnTo>
                      <a:pt x="486" y="671"/>
                    </a:lnTo>
                    <a:lnTo>
                      <a:pt x="497" y="671"/>
                    </a:lnTo>
                    <a:lnTo>
                      <a:pt x="508" y="671"/>
                    </a:lnTo>
                    <a:lnTo>
                      <a:pt x="512" y="671"/>
                    </a:lnTo>
                    <a:lnTo>
                      <a:pt x="512" y="671"/>
                    </a:lnTo>
                    <a:lnTo>
                      <a:pt x="523" y="667"/>
                    </a:lnTo>
                    <a:lnTo>
                      <a:pt x="530" y="664"/>
                    </a:lnTo>
                    <a:lnTo>
                      <a:pt x="537" y="660"/>
                    </a:lnTo>
                    <a:lnTo>
                      <a:pt x="544" y="656"/>
                    </a:lnTo>
                    <a:lnTo>
                      <a:pt x="544" y="653"/>
                    </a:lnTo>
                    <a:lnTo>
                      <a:pt x="548" y="653"/>
                    </a:lnTo>
                    <a:lnTo>
                      <a:pt x="552" y="646"/>
                    </a:lnTo>
                    <a:lnTo>
                      <a:pt x="544" y="642"/>
                    </a:lnTo>
                    <a:lnTo>
                      <a:pt x="548" y="649"/>
                    </a:lnTo>
                    <a:lnTo>
                      <a:pt x="555" y="646"/>
                    </a:lnTo>
                    <a:lnTo>
                      <a:pt x="562" y="642"/>
                    </a:lnTo>
                    <a:lnTo>
                      <a:pt x="570" y="638"/>
                    </a:lnTo>
                    <a:lnTo>
                      <a:pt x="566" y="631"/>
                    </a:lnTo>
                    <a:lnTo>
                      <a:pt x="566" y="638"/>
                    </a:lnTo>
                    <a:lnTo>
                      <a:pt x="577" y="638"/>
                    </a:lnTo>
                    <a:lnTo>
                      <a:pt x="584" y="638"/>
                    </a:lnTo>
                    <a:lnTo>
                      <a:pt x="584" y="631"/>
                    </a:lnTo>
                    <a:lnTo>
                      <a:pt x="584" y="638"/>
                    </a:lnTo>
                    <a:lnTo>
                      <a:pt x="591" y="642"/>
                    </a:lnTo>
                    <a:lnTo>
                      <a:pt x="599" y="646"/>
                    </a:lnTo>
                    <a:lnTo>
                      <a:pt x="599" y="646"/>
                    </a:lnTo>
                    <a:lnTo>
                      <a:pt x="599" y="646"/>
                    </a:lnTo>
                    <a:lnTo>
                      <a:pt x="606" y="646"/>
                    </a:lnTo>
                    <a:lnTo>
                      <a:pt x="606" y="638"/>
                    </a:lnTo>
                    <a:lnTo>
                      <a:pt x="602" y="642"/>
                    </a:lnTo>
                    <a:lnTo>
                      <a:pt x="610" y="649"/>
                    </a:lnTo>
                    <a:lnTo>
                      <a:pt x="613" y="653"/>
                    </a:lnTo>
                    <a:lnTo>
                      <a:pt x="613" y="653"/>
                    </a:lnTo>
                    <a:lnTo>
                      <a:pt x="620" y="656"/>
                    </a:lnTo>
                    <a:lnTo>
                      <a:pt x="628" y="660"/>
                    </a:lnTo>
                    <a:lnTo>
                      <a:pt x="628" y="653"/>
                    </a:lnTo>
                    <a:lnTo>
                      <a:pt x="624" y="656"/>
                    </a:lnTo>
                    <a:lnTo>
                      <a:pt x="628" y="664"/>
                    </a:lnTo>
                    <a:lnTo>
                      <a:pt x="631" y="671"/>
                    </a:lnTo>
                    <a:lnTo>
                      <a:pt x="635" y="678"/>
                    </a:lnTo>
                    <a:lnTo>
                      <a:pt x="639" y="675"/>
                    </a:lnTo>
                    <a:lnTo>
                      <a:pt x="635" y="675"/>
                    </a:lnTo>
                    <a:lnTo>
                      <a:pt x="635" y="678"/>
                    </a:lnTo>
                    <a:lnTo>
                      <a:pt x="635" y="696"/>
                    </a:lnTo>
                    <a:lnTo>
                      <a:pt x="631" y="718"/>
                    </a:lnTo>
                    <a:lnTo>
                      <a:pt x="631" y="747"/>
                    </a:lnTo>
                    <a:lnTo>
                      <a:pt x="628" y="776"/>
                    </a:lnTo>
                    <a:lnTo>
                      <a:pt x="628" y="809"/>
                    </a:lnTo>
                    <a:lnTo>
                      <a:pt x="628" y="838"/>
                    </a:lnTo>
                    <a:lnTo>
                      <a:pt x="628" y="852"/>
                    </a:lnTo>
                    <a:lnTo>
                      <a:pt x="628" y="856"/>
                    </a:lnTo>
                    <a:lnTo>
                      <a:pt x="628" y="856"/>
                    </a:lnTo>
                    <a:lnTo>
                      <a:pt x="631" y="870"/>
                    </a:lnTo>
                    <a:lnTo>
                      <a:pt x="635" y="867"/>
                    </a:lnTo>
                    <a:lnTo>
                      <a:pt x="631" y="867"/>
                    </a:lnTo>
                    <a:lnTo>
                      <a:pt x="631" y="881"/>
                    </a:lnTo>
                    <a:lnTo>
                      <a:pt x="631" y="885"/>
                    </a:lnTo>
                    <a:lnTo>
                      <a:pt x="631" y="885"/>
                    </a:lnTo>
                    <a:lnTo>
                      <a:pt x="635" y="896"/>
                    </a:lnTo>
                    <a:lnTo>
                      <a:pt x="639" y="892"/>
                    </a:lnTo>
                    <a:lnTo>
                      <a:pt x="639" y="889"/>
                    </a:lnTo>
                    <a:lnTo>
                      <a:pt x="628" y="896"/>
                    </a:lnTo>
                    <a:lnTo>
                      <a:pt x="617" y="903"/>
                    </a:lnTo>
                    <a:lnTo>
                      <a:pt x="617" y="907"/>
                    </a:lnTo>
                    <a:lnTo>
                      <a:pt x="617" y="903"/>
                    </a:lnTo>
                    <a:lnTo>
                      <a:pt x="602" y="907"/>
                    </a:lnTo>
                    <a:lnTo>
                      <a:pt x="588" y="910"/>
                    </a:lnTo>
                    <a:lnTo>
                      <a:pt x="573" y="914"/>
                    </a:lnTo>
                    <a:lnTo>
                      <a:pt x="559" y="914"/>
                    </a:lnTo>
                    <a:lnTo>
                      <a:pt x="541" y="914"/>
                    </a:lnTo>
                    <a:lnTo>
                      <a:pt x="526" y="914"/>
                    </a:lnTo>
                    <a:lnTo>
                      <a:pt x="508" y="914"/>
                    </a:lnTo>
                    <a:lnTo>
                      <a:pt x="490" y="910"/>
                    </a:lnTo>
                    <a:lnTo>
                      <a:pt x="475" y="907"/>
                    </a:lnTo>
                    <a:lnTo>
                      <a:pt x="461" y="903"/>
                    </a:lnTo>
                    <a:lnTo>
                      <a:pt x="446" y="903"/>
                    </a:lnTo>
                    <a:lnTo>
                      <a:pt x="446" y="907"/>
                    </a:lnTo>
                    <a:lnTo>
                      <a:pt x="450" y="903"/>
                    </a:lnTo>
                    <a:lnTo>
                      <a:pt x="436" y="896"/>
                    </a:lnTo>
                    <a:lnTo>
                      <a:pt x="436" y="896"/>
                    </a:lnTo>
                    <a:lnTo>
                      <a:pt x="432" y="896"/>
                    </a:lnTo>
                    <a:lnTo>
                      <a:pt x="417" y="892"/>
                    </a:lnTo>
                    <a:lnTo>
                      <a:pt x="417" y="896"/>
                    </a:lnTo>
                    <a:lnTo>
                      <a:pt x="421" y="892"/>
                    </a:lnTo>
                    <a:lnTo>
                      <a:pt x="410" y="889"/>
                    </a:lnTo>
                    <a:lnTo>
                      <a:pt x="399" y="885"/>
                    </a:lnTo>
                    <a:lnTo>
                      <a:pt x="392" y="881"/>
                    </a:lnTo>
                    <a:lnTo>
                      <a:pt x="388" y="885"/>
                    </a:lnTo>
                    <a:lnTo>
                      <a:pt x="392" y="881"/>
                    </a:lnTo>
                    <a:lnTo>
                      <a:pt x="388" y="878"/>
                    </a:lnTo>
                    <a:lnTo>
                      <a:pt x="381" y="870"/>
                    </a:lnTo>
                    <a:lnTo>
                      <a:pt x="378" y="867"/>
                    </a:lnTo>
                    <a:lnTo>
                      <a:pt x="374" y="863"/>
                    </a:lnTo>
                    <a:lnTo>
                      <a:pt x="370" y="867"/>
                    </a:lnTo>
                    <a:lnTo>
                      <a:pt x="378" y="867"/>
                    </a:lnTo>
                    <a:lnTo>
                      <a:pt x="378" y="863"/>
                    </a:lnTo>
                    <a:lnTo>
                      <a:pt x="378" y="856"/>
                    </a:lnTo>
                    <a:lnTo>
                      <a:pt x="378" y="852"/>
                    </a:lnTo>
                    <a:lnTo>
                      <a:pt x="378" y="845"/>
                    </a:lnTo>
                    <a:lnTo>
                      <a:pt x="370" y="845"/>
                    </a:lnTo>
                    <a:lnTo>
                      <a:pt x="374" y="849"/>
                    </a:lnTo>
                    <a:lnTo>
                      <a:pt x="378" y="845"/>
                    </a:lnTo>
                    <a:lnTo>
                      <a:pt x="381" y="845"/>
                    </a:lnTo>
                    <a:lnTo>
                      <a:pt x="381" y="845"/>
                    </a:lnTo>
                    <a:lnTo>
                      <a:pt x="385" y="838"/>
                    </a:lnTo>
                    <a:lnTo>
                      <a:pt x="392" y="823"/>
                    </a:lnTo>
                    <a:lnTo>
                      <a:pt x="385" y="820"/>
                    </a:lnTo>
                    <a:lnTo>
                      <a:pt x="388" y="823"/>
                    </a:lnTo>
                    <a:lnTo>
                      <a:pt x="403" y="809"/>
                    </a:lnTo>
                    <a:lnTo>
                      <a:pt x="407" y="809"/>
                    </a:lnTo>
                    <a:lnTo>
                      <a:pt x="407" y="809"/>
                    </a:lnTo>
                    <a:lnTo>
                      <a:pt x="414" y="798"/>
                    </a:lnTo>
                    <a:lnTo>
                      <a:pt x="407" y="794"/>
                    </a:lnTo>
                    <a:lnTo>
                      <a:pt x="410" y="798"/>
                    </a:lnTo>
                    <a:lnTo>
                      <a:pt x="417" y="791"/>
                    </a:lnTo>
                    <a:lnTo>
                      <a:pt x="421" y="791"/>
                    </a:lnTo>
                    <a:lnTo>
                      <a:pt x="421" y="791"/>
                    </a:lnTo>
                    <a:lnTo>
                      <a:pt x="425" y="780"/>
                    </a:lnTo>
                    <a:lnTo>
                      <a:pt x="428" y="769"/>
                    </a:lnTo>
                    <a:lnTo>
                      <a:pt x="428" y="769"/>
                    </a:lnTo>
                    <a:lnTo>
                      <a:pt x="428" y="765"/>
                    </a:lnTo>
                    <a:lnTo>
                      <a:pt x="428" y="754"/>
                    </a:lnTo>
                    <a:lnTo>
                      <a:pt x="428" y="740"/>
                    </a:lnTo>
                    <a:lnTo>
                      <a:pt x="428" y="729"/>
                    </a:lnTo>
                    <a:lnTo>
                      <a:pt x="428" y="729"/>
                    </a:lnTo>
                    <a:lnTo>
                      <a:pt x="428" y="729"/>
                    </a:lnTo>
                    <a:lnTo>
                      <a:pt x="425" y="718"/>
                    </a:lnTo>
                    <a:lnTo>
                      <a:pt x="417" y="707"/>
                    </a:lnTo>
                    <a:lnTo>
                      <a:pt x="414" y="700"/>
                    </a:lnTo>
                    <a:lnTo>
                      <a:pt x="410" y="693"/>
                    </a:lnTo>
                    <a:lnTo>
                      <a:pt x="407" y="689"/>
                    </a:lnTo>
                    <a:lnTo>
                      <a:pt x="407" y="689"/>
                    </a:lnTo>
                    <a:lnTo>
                      <a:pt x="399" y="685"/>
                    </a:lnTo>
                    <a:lnTo>
                      <a:pt x="396" y="689"/>
                    </a:lnTo>
                    <a:lnTo>
                      <a:pt x="399" y="685"/>
                    </a:lnTo>
                    <a:lnTo>
                      <a:pt x="396" y="682"/>
                    </a:lnTo>
                    <a:lnTo>
                      <a:pt x="396" y="682"/>
                    </a:lnTo>
                    <a:lnTo>
                      <a:pt x="396" y="682"/>
                    </a:lnTo>
                    <a:lnTo>
                      <a:pt x="388" y="678"/>
                    </a:lnTo>
                    <a:lnTo>
                      <a:pt x="385" y="682"/>
                    </a:lnTo>
                    <a:lnTo>
                      <a:pt x="388" y="678"/>
                    </a:lnTo>
                    <a:lnTo>
                      <a:pt x="385" y="675"/>
                    </a:lnTo>
                    <a:lnTo>
                      <a:pt x="385" y="675"/>
                    </a:lnTo>
                    <a:lnTo>
                      <a:pt x="381" y="675"/>
                    </a:lnTo>
                    <a:lnTo>
                      <a:pt x="374" y="675"/>
                    </a:lnTo>
                    <a:lnTo>
                      <a:pt x="374" y="678"/>
                    </a:lnTo>
                    <a:lnTo>
                      <a:pt x="378" y="675"/>
                    </a:lnTo>
                    <a:lnTo>
                      <a:pt x="370" y="671"/>
                    </a:lnTo>
                    <a:lnTo>
                      <a:pt x="363" y="667"/>
                    </a:lnTo>
                    <a:lnTo>
                      <a:pt x="363" y="667"/>
                    </a:lnTo>
                    <a:lnTo>
                      <a:pt x="359" y="667"/>
                    </a:lnTo>
                    <a:lnTo>
                      <a:pt x="352" y="667"/>
                    </a:lnTo>
                    <a:lnTo>
                      <a:pt x="352" y="671"/>
                    </a:lnTo>
                    <a:lnTo>
                      <a:pt x="356" y="667"/>
                    </a:lnTo>
                    <a:lnTo>
                      <a:pt x="345" y="664"/>
                    </a:lnTo>
                    <a:lnTo>
                      <a:pt x="345" y="664"/>
                    </a:lnTo>
                    <a:lnTo>
                      <a:pt x="341" y="664"/>
                    </a:lnTo>
                    <a:lnTo>
                      <a:pt x="334" y="664"/>
                    </a:lnTo>
                    <a:lnTo>
                      <a:pt x="323" y="664"/>
                    </a:lnTo>
                    <a:lnTo>
                      <a:pt x="316" y="664"/>
                    </a:lnTo>
                    <a:lnTo>
                      <a:pt x="316" y="664"/>
                    </a:lnTo>
                    <a:lnTo>
                      <a:pt x="316" y="664"/>
                    </a:lnTo>
                    <a:lnTo>
                      <a:pt x="309" y="667"/>
                    </a:lnTo>
                    <a:lnTo>
                      <a:pt x="309" y="671"/>
                    </a:lnTo>
                    <a:lnTo>
                      <a:pt x="309" y="667"/>
                    </a:lnTo>
                    <a:lnTo>
                      <a:pt x="301" y="667"/>
                    </a:lnTo>
                    <a:lnTo>
                      <a:pt x="301" y="667"/>
                    </a:lnTo>
                    <a:lnTo>
                      <a:pt x="301" y="667"/>
                    </a:lnTo>
                    <a:lnTo>
                      <a:pt x="294" y="671"/>
                    </a:lnTo>
                    <a:lnTo>
                      <a:pt x="287" y="675"/>
                    </a:lnTo>
                    <a:lnTo>
                      <a:pt x="287" y="678"/>
                    </a:lnTo>
                    <a:lnTo>
                      <a:pt x="287" y="675"/>
                    </a:lnTo>
                    <a:lnTo>
                      <a:pt x="283" y="675"/>
                    </a:lnTo>
                    <a:lnTo>
                      <a:pt x="283" y="675"/>
                    </a:lnTo>
                    <a:lnTo>
                      <a:pt x="283" y="675"/>
                    </a:lnTo>
                    <a:lnTo>
                      <a:pt x="276" y="678"/>
                    </a:lnTo>
                    <a:lnTo>
                      <a:pt x="276" y="678"/>
                    </a:lnTo>
                    <a:lnTo>
                      <a:pt x="272" y="678"/>
                    </a:lnTo>
                    <a:lnTo>
                      <a:pt x="269" y="682"/>
                    </a:lnTo>
                    <a:lnTo>
                      <a:pt x="265" y="685"/>
                    </a:lnTo>
                    <a:lnTo>
                      <a:pt x="261" y="689"/>
                    </a:lnTo>
                    <a:lnTo>
                      <a:pt x="261" y="693"/>
                    </a:lnTo>
                    <a:lnTo>
                      <a:pt x="261" y="693"/>
                    </a:lnTo>
                    <a:lnTo>
                      <a:pt x="258" y="700"/>
                    </a:lnTo>
                    <a:lnTo>
                      <a:pt x="261" y="700"/>
                    </a:lnTo>
                    <a:lnTo>
                      <a:pt x="258" y="696"/>
                    </a:lnTo>
                    <a:lnTo>
                      <a:pt x="254" y="700"/>
                    </a:lnTo>
                    <a:lnTo>
                      <a:pt x="254" y="704"/>
                    </a:lnTo>
                    <a:lnTo>
                      <a:pt x="254" y="704"/>
                    </a:lnTo>
                    <a:lnTo>
                      <a:pt x="251" y="714"/>
                    </a:lnTo>
                    <a:lnTo>
                      <a:pt x="247" y="725"/>
                    </a:lnTo>
                    <a:lnTo>
                      <a:pt x="243" y="740"/>
                    </a:lnTo>
                    <a:lnTo>
                      <a:pt x="243" y="740"/>
                    </a:lnTo>
                    <a:lnTo>
                      <a:pt x="243" y="740"/>
                    </a:lnTo>
                    <a:lnTo>
                      <a:pt x="243" y="751"/>
                    </a:lnTo>
                    <a:lnTo>
                      <a:pt x="243" y="754"/>
                    </a:lnTo>
                    <a:lnTo>
                      <a:pt x="243" y="754"/>
                    </a:lnTo>
                    <a:lnTo>
                      <a:pt x="247" y="769"/>
                    </a:lnTo>
                    <a:lnTo>
                      <a:pt x="251" y="780"/>
                    </a:lnTo>
                    <a:lnTo>
                      <a:pt x="254" y="791"/>
                    </a:lnTo>
                    <a:lnTo>
                      <a:pt x="258" y="802"/>
                    </a:lnTo>
                    <a:lnTo>
                      <a:pt x="265" y="816"/>
                    </a:lnTo>
                    <a:lnTo>
                      <a:pt x="265" y="816"/>
                    </a:lnTo>
                    <a:lnTo>
                      <a:pt x="265" y="816"/>
                    </a:lnTo>
                    <a:lnTo>
                      <a:pt x="272" y="823"/>
                    </a:lnTo>
                    <a:lnTo>
                      <a:pt x="280" y="831"/>
                    </a:lnTo>
                    <a:lnTo>
                      <a:pt x="283" y="827"/>
                    </a:lnTo>
                    <a:lnTo>
                      <a:pt x="280" y="831"/>
                    </a:lnTo>
                    <a:lnTo>
                      <a:pt x="283" y="838"/>
                    </a:lnTo>
                    <a:lnTo>
                      <a:pt x="287" y="845"/>
                    </a:lnTo>
                    <a:lnTo>
                      <a:pt x="290" y="841"/>
                    </a:lnTo>
                    <a:lnTo>
                      <a:pt x="287" y="841"/>
                    </a:lnTo>
                    <a:lnTo>
                      <a:pt x="287" y="849"/>
                    </a:lnTo>
                    <a:lnTo>
                      <a:pt x="287" y="860"/>
                    </a:lnTo>
                    <a:lnTo>
                      <a:pt x="287" y="867"/>
                    </a:lnTo>
                    <a:lnTo>
                      <a:pt x="287" y="874"/>
                    </a:lnTo>
                    <a:lnTo>
                      <a:pt x="290" y="874"/>
                    </a:lnTo>
                    <a:lnTo>
                      <a:pt x="290" y="870"/>
                    </a:lnTo>
                    <a:lnTo>
                      <a:pt x="283" y="874"/>
                    </a:lnTo>
                    <a:lnTo>
                      <a:pt x="280" y="874"/>
                    </a:lnTo>
                    <a:lnTo>
                      <a:pt x="280" y="878"/>
                    </a:lnTo>
                    <a:lnTo>
                      <a:pt x="276" y="885"/>
                    </a:lnTo>
                    <a:lnTo>
                      <a:pt x="280" y="885"/>
                    </a:lnTo>
                    <a:lnTo>
                      <a:pt x="280" y="881"/>
                    </a:lnTo>
                    <a:lnTo>
                      <a:pt x="272" y="885"/>
                    </a:lnTo>
                    <a:lnTo>
                      <a:pt x="265" y="889"/>
                    </a:lnTo>
                    <a:lnTo>
                      <a:pt x="265" y="892"/>
                    </a:lnTo>
                    <a:lnTo>
                      <a:pt x="265" y="889"/>
                    </a:lnTo>
                    <a:lnTo>
                      <a:pt x="258" y="889"/>
                    </a:lnTo>
                    <a:lnTo>
                      <a:pt x="247" y="889"/>
                    </a:lnTo>
                    <a:lnTo>
                      <a:pt x="232" y="889"/>
                    </a:lnTo>
                    <a:lnTo>
                      <a:pt x="232" y="892"/>
                    </a:lnTo>
                    <a:lnTo>
                      <a:pt x="236" y="889"/>
                    </a:lnTo>
                    <a:lnTo>
                      <a:pt x="225" y="885"/>
                    </a:lnTo>
                    <a:lnTo>
                      <a:pt x="229" y="885"/>
                    </a:lnTo>
                    <a:lnTo>
                      <a:pt x="222" y="885"/>
                    </a:lnTo>
                    <a:lnTo>
                      <a:pt x="207" y="881"/>
                    </a:lnTo>
                    <a:close/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4851360" y="1300320"/>
              <a:ext cx="108108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49440"/>
                  <a:tab algn="l" pos="1298520"/>
                  <a:tab algn="l" pos="1947960"/>
                  <a:tab algn="l" pos="2597040"/>
                  <a:tab algn="l" pos="3246480"/>
                  <a:tab algn="l" pos="3895560"/>
                  <a:tab algn="l" pos="4545000"/>
                  <a:tab algn="l" pos="5194440"/>
                  <a:tab algn="l" pos="5843520"/>
                  <a:tab algn="l" pos="6492960"/>
                  <a:tab algn="l" pos="7142040"/>
                  <a:tab algn="l" pos="7791480"/>
                  <a:tab algn="l" pos="8440560"/>
                  <a:tab algn="l" pos="9090000"/>
                  <a:tab algn="l" pos="9739440"/>
                  <a:tab algn="l" pos="10388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934920" y="1608120"/>
            <a:ext cx="316728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ex and Single Sto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o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 ris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ncipal tr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1040" y="233280"/>
            <a:ext cx="5880240" cy="32436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233280"/>
            <a:ext cx="55231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tructuri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762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42920" y="2732040"/>
            <a:ext cx="2133360" cy="1682280"/>
            <a:chOff x="142920" y="2732040"/>
            <a:chExt cx="2133360" cy="1682280"/>
          </a:xfrm>
        </p:grpSpPr>
        <p:grpSp>
          <p:nvGrpSpPr>
            <p:cNvPr id="79" name=""/>
            <p:cNvGrpSpPr/>
            <p:nvPr/>
          </p:nvGrpSpPr>
          <p:grpSpPr>
            <a:xfrm>
              <a:off x="142920" y="2732040"/>
              <a:ext cx="2133360" cy="1682280"/>
              <a:chOff x="142920" y="2732040"/>
              <a:chExt cx="2133360" cy="1682280"/>
            </a:xfrm>
          </p:grpSpPr>
          <p:sp>
            <p:nvSpPr>
              <p:cNvPr id="80" name=""/>
              <p:cNvSpPr/>
              <p:nvPr/>
            </p:nvSpPr>
            <p:spPr>
              <a:xfrm>
                <a:off x="150840" y="2738160"/>
                <a:ext cx="2111760" cy="1662120"/>
              </a:xfrm>
              <a:custGeom>
                <a:avLst/>
                <a:gdLst/>
                <a:ahLst/>
                <a:rect l="l" t="t" r="r" b="b"/>
                <a:pathLst>
                  <a:path w="1073" h="831">
                    <a:moveTo>
                      <a:pt x="210" y="475"/>
                    </a:moveTo>
                    <a:lnTo>
                      <a:pt x="206" y="479"/>
                    </a:lnTo>
                    <a:lnTo>
                      <a:pt x="199" y="483"/>
                    </a:lnTo>
                    <a:lnTo>
                      <a:pt x="192" y="486"/>
                    </a:lnTo>
                    <a:lnTo>
                      <a:pt x="188" y="490"/>
                    </a:lnTo>
                    <a:lnTo>
                      <a:pt x="181" y="490"/>
                    </a:lnTo>
                    <a:lnTo>
                      <a:pt x="174" y="490"/>
                    </a:lnTo>
                    <a:lnTo>
                      <a:pt x="170" y="486"/>
                    </a:lnTo>
                    <a:lnTo>
                      <a:pt x="163" y="486"/>
                    </a:lnTo>
                    <a:lnTo>
                      <a:pt x="148" y="479"/>
                    </a:lnTo>
                    <a:lnTo>
                      <a:pt x="137" y="475"/>
                    </a:lnTo>
                    <a:lnTo>
                      <a:pt x="127" y="468"/>
                    </a:lnTo>
                    <a:lnTo>
                      <a:pt x="112" y="461"/>
                    </a:lnTo>
                    <a:lnTo>
                      <a:pt x="101" y="454"/>
                    </a:lnTo>
                    <a:lnTo>
                      <a:pt x="87" y="450"/>
                    </a:lnTo>
                    <a:lnTo>
                      <a:pt x="79" y="450"/>
                    </a:lnTo>
                    <a:lnTo>
                      <a:pt x="76" y="446"/>
                    </a:lnTo>
                    <a:lnTo>
                      <a:pt x="69" y="446"/>
                    </a:lnTo>
                    <a:lnTo>
                      <a:pt x="61" y="446"/>
                    </a:lnTo>
                    <a:lnTo>
                      <a:pt x="54" y="450"/>
                    </a:lnTo>
                    <a:lnTo>
                      <a:pt x="47" y="450"/>
                    </a:lnTo>
                    <a:lnTo>
                      <a:pt x="40" y="454"/>
                    </a:lnTo>
                    <a:lnTo>
                      <a:pt x="36" y="461"/>
                    </a:lnTo>
                    <a:lnTo>
                      <a:pt x="29" y="465"/>
                    </a:lnTo>
                    <a:lnTo>
                      <a:pt x="21" y="472"/>
                    </a:lnTo>
                    <a:lnTo>
                      <a:pt x="14" y="483"/>
                    </a:lnTo>
                    <a:lnTo>
                      <a:pt x="7" y="494"/>
                    </a:lnTo>
                    <a:lnTo>
                      <a:pt x="3" y="497"/>
                    </a:lnTo>
                    <a:lnTo>
                      <a:pt x="0" y="505"/>
                    </a:lnTo>
                    <a:lnTo>
                      <a:pt x="0" y="515"/>
                    </a:lnTo>
                    <a:lnTo>
                      <a:pt x="0" y="526"/>
                    </a:lnTo>
                    <a:lnTo>
                      <a:pt x="0" y="534"/>
                    </a:lnTo>
                    <a:lnTo>
                      <a:pt x="3" y="544"/>
                    </a:lnTo>
                    <a:lnTo>
                      <a:pt x="11" y="555"/>
                    </a:lnTo>
                    <a:lnTo>
                      <a:pt x="14" y="563"/>
                    </a:lnTo>
                    <a:lnTo>
                      <a:pt x="21" y="573"/>
                    </a:lnTo>
                    <a:lnTo>
                      <a:pt x="32" y="581"/>
                    </a:lnTo>
                    <a:lnTo>
                      <a:pt x="36" y="581"/>
                    </a:lnTo>
                    <a:lnTo>
                      <a:pt x="40" y="584"/>
                    </a:lnTo>
                    <a:lnTo>
                      <a:pt x="47" y="588"/>
                    </a:lnTo>
                    <a:lnTo>
                      <a:pt x="54" y="588"/>
                    </a:lnTo>
                    <a:lnTo>
                      <a:pt x="61" y="592"/>
                    </a:lnTo>
                    <a:lnTo>
                      <a:pt x="69" y="592"/>
                    </a:lnTo>
                    <a:lnTo>
                      <a:pt x="76" y="592"/>
                    </a:lnTo>
                    <a:lnTo>
                      <a:pt x="83" y="592"/>
                    </a:lnTo>
                    <a:lnTo>
                      <a:pt x="94" y="592"/>
                    </a:lnTo>
                    <a:lnTo>
                      <a:pt x="101" y="588"/>
                    </a:lnTo>
                    <a:lnTo>
                      <a:pt x="108" y="588"/>
                    </a:lnTo>
                    <a:lnTo>
                      <a:pt x="119" y="584"/>
                    </a:lnTo>
                    <a:lnTo>
                      <a:pt x="137" y="577"/>
                    </a:lnTo>
                    <a:lnTo>
                      <a:pt x="148" y="573"/>
                    </a:lnTo>
                    <a:lnTo>
                      <a:pt x="163" y="570"/>
                    </a:lnTo>
                    <a:lnTo>
                      <a:pt x="174" y="570"/>
                    </a:lnTo>
                    <a:lnTo>
                      <a:pt x="181" y="570"/>
                    </a:lnTo>
                    <a:lnTo>
                      <a:pt x="185" y="573"/>
                    </a:lnTo>
                    <a:lnTo>
                      <a:pt x="188" y="573"/>
                    </a:lnTo>
                    <a:lnTo>
                      <a:pt x="195" y="577"/>
                    </a:lnTo>
                    <a:lnTo>
                      <a:pt x="199" y="581"/>
                    </a:lnTo>
                    <a:lnTo>
                      <a:pt x="203" y="588"/>
                    </a:lnTo>
                    <a:lnTo>
                      <a:pt x="206" y="592"/>
                    </a:lnTo>
                    <a:lnTo>
                      <a:pt x="210" y="602"/>
                    </a:lnTo>
                    <a:lnTo>
                      <a:pt x="214" y="610"/>
                    </a:lnTo>
                    <a:lnTo>
                      <a:pt x="217" y="621"/>
                    </a:lnTo>
                    <a:lnTo>
                      <a:pt x="221" y="631"/>
                    </a:lnTo>
                    <a:lnTo>
                      <a:pt x="224" y="642"/>
                    </a:lnTo>
                    <a:lnTo>
                      <a:pt x="224" y="657"/>
                    </a:lnTo>
                    <a:lnTo>
                      <a:pt x="228" y="671"/>
                    </a:lnTo>
                    <a:lnTo>
                      <a:pt x="228" y="686"/>
                    </a:lnTo>
                    <a:lnTo>
                      <a:pt x="228" y="700"/>
                    </a:lnTo>
                    <a:lnTo>
                      <a:pt x="228" y="715"/>
                    </a:lnTo>
                    <a:lnTo>
                      <a:pt x="228" y="729"/>
                    </a:lnTo>
                    <a:lnTo>
                      <a:pt x="224" y="744"/>
                    </a:lnTo>
                    <a:lnTo>
                      <a:pt x="224" y="758"/>
                    </a:lnTo>
                    <a:lnTo>
                      <a:pt x="221" y="773"/>
                    </a:lnTo>
                    <a:lnTo>
                      <a:pt x="217" y="787"/>
                    </a:lnTo>
                    <a:lnTo>
                      <a:pt x="214" y="802"/>
                    </a:lnTo>
                    <a:lnTo>
                      <a:pt x="210" y="813"/>
                    </a:lnTo>
                    <a:lnTo>
                      <a:pt x="235" y="813"/>
                    </a:lnTo>
                    <a:lnTo>
                      <a:pt x="261" y="813"/>
                    </a:lnTo>
                    <a:lnTo>
                      <a:pt x="286" y="813"/>
                    </a:lnTo>
                    <a:lnTo>
                      <a:pt x="308" y="813"/>
                    </a:lnTo>
                    <a:lnTo>
                      <a:pt x="330" y="813"/>
                    </a:lnTo>
                    <a:lnTo>
                      <a:pt x="351" y="813"/>
                    </a:lnTo>
                    <a:lnTo>
                      <a:pt x="369" y="813"/>
                    </a:lnTo>
                    <a:lnTo>
                      <a:pt x="380" y="813"/>
                    </a:lnTo>
                    <a:lnTo>
                      <a:pt x="398" y="809"/>
                    </a:lnTo>
                    <a:lnTo>
                      <a:pt x="413" y="806"/>
                    </a:lnTo>
                    <a:lnTo>
                      <a:pt x="424" y="795"/>
                    </a:lnTo>
                    <a:lnTo>
                      <a:pt x="438" y="787"/>
                    </a:lnTo>
                    <a:lnTo>
                      <a:pt x="446" y="780"/>
                    </a:lnTo>
                    <a:lnTo>
                      <a:pt x="453" y="773"/>
                    </a:lnTo>
                    <a:lnTo>
                      <a:pt x="460" y="762"/>
                    </a:lnTo>
                    <a:lnTo>
                      <a:pt x="464" y="751"/>
                    </a:lnTo>
                    <a:lnTo>
                      <a:pt x="467" y="740"/>
                    </a:lnTo>
                    <a:lnTo>
                      <a:pt x="467" y="733"/>
                    </a:lnTo>
                    <a:lnTo>
                      <a:pt x="467" y="722"/>
                    </a:lnTo>
                    <a:lnTo>
                      <a:pt x="467" y="711"/>
                    </a:lnTo>
                    <a:lnTo>
                      <a:pt x="464" y="700"/>
                    </a:lnTo>
                    <a:lnTo>
                      <a:pt x="456" y="693"/>
                    </a:lnTo>
                    <a:lnTo>
                      <a:pt x="453" y="682"/>
                    </a:lnTo>
                    <a:lnTo>
                      <a:pt x="442" y="675"/>
                    </a:lnTo>
                    <a:lnTo>
                      <a:pt x="435" y="664"/>
                    </a:lnTo>
                    <a:lnTo>
                      <a:pt x="427" y="657"/>
                    </a:lnTo>
                    <a:lnTo>
                      <a:pt x="424" y="646"/>
                    </a:lnTo>
                    <a:lnTo>
                      <a:pt x="420" y="635"/>
                    </a:lnTo>
                    <a:lnTo>
                      <a:pt x="420" y="621"/>
                    </a:lnTo>
                    <a:lnTo>
                      <a:pt x="420" y="610"/>
                    </a:lnTo>
                    <a:lnTo>
                      <a:pt x="420" y="599"/>
                    </a:lnTo>
                    <a:lnTo>
                      <a:pt x="424" y="588"/>
                    </a:lnTo>
                    <a:lnTo>
                      <a:pt x="427" y="577"/>
                    </a:lnTo>
                    <a:lnTo>
                      <a:pt x="435" y="566"/>
                    </a:lnTo>
                    <a:lnTo>
                      <a:pt x="442" y="563"/>
                    </a:lnTo>
                    <a:lnTo>
                      <a:pt x="446" y="555"/>
                    </a:lnTo>
                    <a:lnTo>
                      <a:pt x="449" y="552"/>
                    </a:lnTo>
                    <a:lnTo>
                      <a:pt x="456" y="552"/>
                    </a:lnTo>
                    <a:lnTo>
                      <a:pt x="460" y="548"/>
                    </a:lnTo>
                    <a:lnTo>
                      <a:pt x="467" y="544"/>
                    </a:lnTo>
                    <a:lnTo>
                      <a:pt x="475" y="541"/>
                    </a:lnTo>
                    <a:lnTo>
                      <a:pt x="482" y="537"/>
                    </a:lnTo>
                    <a:lnTo>
                      <a:pt x="489" y="537"/>
                    </a:lnTo>
                    <a:lnTo>
                      <a:pt x="500" y="534"/>
                    </a:lnTo>
                    <a:lnTo>
                      <a:pt x="511" y="534"/>
                    </a:lnTo>
                    <a:lnTo>
                      <a:pt x="518" y="534"/>
                    </a:lnTo>
                    <a:lnTo>
                      <a:pt x="529" y="534"/>
                    </a:lnTo>
                    <a:lnTo>
                      <a:pt x="540" y="534"/>
                    </a:lnTo>
                    <a:lnTo>
                      <a:pt x="547" y="537"/>
                    </a:lnTo>
                    <a:lnTo>
                      <a:pt x="558" y="541"/>
                    </a:lnTo>
                    <a:lnTo>
                      <a:pt x="565" y="541"/>
                    </a:lnTo>
                    <a:lnTo>
                      <a:pt x="573" y="544"/>
                    </a:lnTo>
                    <a:lnTo>
                      <a:pt x="576" y="548"/>
                    </a:lnTo>
                    <a:lnTo>
                      <a:pt x="583" y="552"/>
                    </a:lnTo>
                    <a:lnTo>
                      <a:pt x="591" y="555"/>
                    </a:lnTo>
                    <a:lnTo>
                      <a:pt x="594" y="563"/>
                    </a:lnTo>
                    <a:lnTo>
                      <a:pt x="598" y="566"/>
                    </a:lnTo>
                    <a:lnTo>
                      <a:pt x="602" y="573"/>
                    </a:lnTo>
                    <a:lnTo>
                      <a:pt x="605" y="584"/>
                    </a:lnTo>
                    <a:lnTo>
                      <a:pt x="609" y="595"/>
                    </a:lnTo>
                    <a:lnTo>
                      <a:pt x="609" y="610"/>
                    </a:lnTo>
                    <a:lnTo>
                      <a:pt x="609" y="621"/>
                    </a:lnTo>
                    <a:lnTo>
                      <a:pt x="609" y="635"/>
                    </a:lnTo>
                    <a:lnTo>
                      <a:pt x="605" y="646"/>
                    </a:lnTo>
                    <a:lnTo>
                      <a:pt x="602" y="657"/>
                    </a:lnTo>
                    <a:lnTo>
                      <a:pt x="598" y="668"/>
                    </a:lnTo>
                    <a:lnTo>
                      <a:pt x="591" y="675"/>
                    </a:lnTo>
                    <a:lnTo>
                      <a:pt x="583" y="682"/>
                    </a:lnTo>
                    <a:lnTo>
                      <a:pt x="576" y="686"/>
                    </a:lnTo>
                    <a:lnTo>
                      <a:pt x="569" y="693"/>
                    </a:lnTo>
                    <a:lnTo>
                      <a:pt x="565" y="700"/>
                    </a:lnTo>
                    <a:lnTo>
                      <a:pt x="562" y="711"/>
                    </a:lnTo>
                    <a:lnTo>
                      <a:pt x="558" y="719"/>
                    </a:lnTo>
                    <a:lnTo>
                      <a:pt x="558" y="726"/>
                    </a:lnTo>
                    <a:lnTo>
                      <a:pt x="554" y="737"/>
                    </a:lnTo>
                    <a:lnTo>
                      <a:pt x="554" y="748"/>
                    </a:lnTo>
                    <a:lnTo>
                      <a:pt x="558" y="755"/>
                    </a:lnTo>
                    <a:lnTo>
                      <a:pt x="562" y="766"/>
                    </a:lnTo>
                    <a:lnTo>
                      <a:pt x="565" y="777"/>
                    </a:lnTo>
                    <a:lnTo>
                      <a:pt x="573" y="784"/>
                    </a:lnTo>
                    <a:lnTo>
                      <a:pt x="580" y="795"/>
                    </a:lnTo>
                    <a:lnTo>
                      <a:pt x="591" y="802"/>
                    </a:lnTo>
                    <a:lnTo>
                      <a:pt x="602" y="809"/>
                    </a:lnTo>
                    <a:lnTo>
                      <a:pt x="616" y="813"/>
                    </a:lnTo>
                    <a:lnTo>
                      <a:pt x="623" y="816"/>
                    </a:lnTo>
                    <a:lnTo>
                      <a:pt x="638" y="820"/>
                    </a:lnTo>
                    <a:lnTo>
                      <a:pt x="663" y="824"/>
                    </a:lnTo>
                    <a:lnTo>
                      <a:pt x="692" y="827"/>
                    </a:lnTo>
                    <a:lnTo>
                      <a:pt x="710" y="827"/>
                    </a:lnTo>
                    <a:lnTo>
                      <a:pt x="728" y="831"/>
                    </a:lnTo>
                    <a:lnTo>
                      <a:pt x="747" y="831"/>
                    </a:lnTo>
                    <a:lnTo>
                      <a:pt x="765" y="831"/>
                    </a:lnTo>
                    <a:lnTo>
                      <a:pt x="783" y="831"/>
                    </a:lnTo>
                    <a:lnTo>
                      <a:pt x="805" y="831"/>
                    </a:lnTo>
                    <a:lnTo>
                      <a:pt x="819" y="827"/>
                    </a:lnTo>
                    <a:lnTo>
                      <a:pt x="837" y="824"/>
                    </a:lnTo>
                    <a:lnTo>
                      <a:pt x="837" y="816"/>
                    </a:lnTo>
                    <a:lnTo>
                      <a:pt x="834" y="806"/>
                    </a:lnTo>
                    <a:lnTo>
                      <a:pt x="830" y="795"/>
                    </a:lnTo>
                    <a:lnTo>
                      <a:pt x="830" y="784"/>
                    </a:lnTo>
                    <a:lnTo>
                      <a:pt x="830" y="758"/>
                    </a:lnTo>
                    <a:lnTo>
                      <a:pt x="830" y="733"/>
                    </a:lnTo>
                    <a:lnTo>
                      <a:pt x="830" y="704"/>
                    </a:lnTo>
                    <a:lnTo>
                      <a:pt x="834" y="679"/>
                    </a:lnTo>
                    <a:lnTo>
                      <a:pt x="837" y="653"/>
                    </a:lnTo>
                    <a:lnTo>
                      <a:pt x="837" y="631"/>
                    </a:lnTo>
                    <a:lnTo>
                      <a:pt x="841" y="621"/>
                    </a:lnTo>
                    <a:lnTo>
                      <a:pt x="844" y="613"/>
                    </a:lnTo>
                    <a:lnTo>
                      <a:pt x="848" y="606"/>
                    </a:lnTo>
                    <a:lnTo>
                      <a:pt x="855" y="602"/>
                    </a:lnTo>
                    <a:lnTo>
                      <a:pt x="859" y="599"/>
                    </a:lnTo>
                    <a:lnTo>
                      <a:pt x="866" y="595"/>
                    </a:lnTo>
                    <a:lnTo>
                      <a:pt x="873" y="595"/>
                    </a:lnTo>
                    <a:lnTo>
                      <a:pt x="881" y="595"/>
                    </a:lnTo>
                    <a:lnTo>
                      <a:pt x="888" y="595"/>
                    </a:lnTo>
                    <a:lnTo>
                      <a:pt x="899" y="599"/>
                    </a:lnTo>
                    <a:lnTo>
                      <a:pt x="906" y="602"/>
                    </a:lnTo>
                    <a:lnTo>
                      <a:pt x="913" y="606"/>
                    </a:lnTo>
                    <a:lnTo>
                      <a:pt x="921" y="610"/>
                    </a:lnTo>
                    <a:lnTo>
                      <a:pt x="928" y="613"/>
                    </a:lnTo>
                    <a:lnTo>
                      <a:pt x="939" y="621"/>
                    </a:lnTo>
                    <a:lnTo>
                      <a:pt x="942" y="628"/>
                    </a:lnTo>
                    <a:lnTo>
                      <a:pt x="950" y="635"/>
                    </a:lnTo>
                    <a:lnTo>
                      <a:pt x="957" y="639"/>
                    </a:lnTo>
                    <a:lnTo>
                      <a:pt x="968" y="642"/>
                    </a:lnTo>
                    <a:lnTo>
                      <a:pt x="979" y="646"/>
                    </a:lnTo>
                    <a:lnTo>
                      <a:pt x="986" y="646"/>
                    </a:lnTo>
                    <a:lnTo>
                      <a:pt x="997" y="650"/>
                    </a:lnTo>
                    <a:lnTo>
                      <a:pt x="1008" y="646"/>
                    </a:lnTo>
                    <a:lnTo>
                      <a:pt x="1018" y="646"/>
                    </a:lnTo>
                    <a:lnTo>
                      <a:pt x="1026" y="642"/>
                    </a:lnTo>
                    <a:lnTo>
                      <a:pt x="1037" y="639"/>
                    </a:lnTo>
                    <a:lnTo>
                      <a:pt x="1044" y="631"/>
                    </a:lnTo>
                    <a:lnTo>
                      <a:pt x="1051" y="624"/>
                    </a:lnTo>
                    <a:lnTo>
                      <a:pt x="1058" y="617"/>
                    </a:lnTo>
                    <a:lnTo>
                      <a:pt x="1066" y="606"/>
                    </a:lnTo>
                    <a:lnTo>
                      <a:pt x="1069" y="595"/>
                    </a:lnTo>
                    <a:lnTo>
                      <a:pt x="1073" y="581"/>
                    </a:lnTo>
                    <a:lnTo>
                      <a:pt x="1073" y="573"/>
                    </a:lnTo>
                    <a:lnTo>
                      <a:pt x="1073" y="566"/>
                    </a:lnTo>
                    <a:lnTo>
                      <a:pt x="1073" y="559"/>
                    </a:lnTo>
                    <a:lnTo>
                      <a:pt x="1073" y="552"/>
                    </a:lnTo>
                    <a:lnTo>
                      <a:pt x="1069" y="548"/>
                    </a:lnTo>
                    <a:lnTo>
                      <a:pt x="1066" y="541"/>
                    </a:lnTo>
                    <a:lnTo>
                      <a:pt x="1066" y="534"/>
                    </a:lnTo>
                    <a:lnTo>
                      <a:pt x="1062" y="530"/>
                    </a:lnTo>
                    <a:lnTo>
                      <a:pt x="1055" y="519"/>
                    </a:lnTo>
                    <a:lnTo>
                      <a:pt x="1044" y="512"/>
                    </a:lnTo>
                    <a:lnTo>
                      <a:pt x="1033" y="505"/>
                    </a:lnTo>
                    <a:lnTo>
                      <a:pt x="1022" y="497"/>
                    </a:lnTo>
                    <a:lnTo>
                      <a:pt x="1011" y="494"/>
                    </a:lnTo>
                    <a:lnTo>
                      <a:pt x="1000" y="490"/>
                    </a:lnTo>
                    <a:lnTo>
                      <a:pt x="986" y="490"/>
                    </a:lnTo>
                    <a:lnTo>
                      <a:pt x="975" y="490"/>
                    </a:lnTo>
                    <a:lnTo>
                      <a:pt x="964" y="494"/>
                    </a:lnTo>
                    <a:lnTo>
                      <a:pt x="953" y="497"/>
                    </a:lnTo>
                    <a:lnTo>
                      <a:pt x="950" y="497"/>
                    </a:lnTo>
                    <a:lnTo>
                      <a:pt x="946" y="501"/>
                    </a:lnTo>
                    <a:lnTo>
                      <a:pt x="942" y="505"/>
                    </a:lnTo>
                    <a:lnTo>
                      <a:pt x="939" y="512"/>
                    </a:lnTo>
                    <a:lnTo>
                      <a:pt x="931" y="519"/>
                    </a:lnTo>
                    <a:lnTo>
                      <a:pt x="924" y="526"/>
                    </a:lnTo>
                    <a:lnTo>
                      <a:pt x="917" y="530"/>
                    </a:lnTo>
                    <a:lnTo>
                      <a:pt x="910" y="534"/>
                    </a:lnTo>
                    <a:lnTo>
                      <a:pt x="902" y="534"/>
                    </a:lnTo>
                    <a:lnTo>
                      <a:pt x="892" y="534"/>
                    </a:lnTo>
                    <a:lnTo>
                      <a:pt x="884" y="534"/>
                    </a:lnTo>
                    <a:lnTo>
                      <a:pt x="877" y="530"/>
                    </a:lnTo>
                    <a:lnTo>
                      <a:pt x="870" y="530"/>
                    </a:lnTo>
                    <a:lnTo>
                      <a:pt x="863" y="526"/>
                    </a:lnTo>
                    <a:lnTo>
                      <a:pt x="855" y="519"/>
                    </a:lnTo>
                    <a:lnTo>
                      <a:pt x="848" y="515"/>
                    </a:lnTo>
                    <a:lnTo>
                      <a:pt x="844" y="512"/>
                    </a:lnTo>
                    <a:lnTo>
                      <a:pt x="841" y="505"/>
                    </a:lnTo>
                    <a:lnTo>
                      <a:pt x="837" y="501"/>
                    </a:lnTo>
                    <a:lnTo>
                      <a:pt x="837" y="494"/>
                    </a:lnTo>
                    <a:lnTo>
                      <a:pt x="837" y="475"/>
                    </a:lnTo>
                    <a:lnTo>
                      <a:pt x="837" y="450"/>
                    </a:lnTo>
                    <a:lnTo>
                      <a:pt x="837" y="410"/>
                    </a:lnTo>
                    <a:lnTo>
                      <a:pt x="837" y="370"/>
                    </a:lnTo>
                    <a:lnTo>
                      <a:pt x="837" y="330"/>
                    </a:lnTo>
                    <a:lnTo>
                      <a:pt x="837" y="287"/>
                    </a:lnTo>
                    <a:lnTo>
                      <a:pt x="837" y="251"/>
                    </a:lnTo>
                    <a:lnTo>
                      <a:pt x="837" y="222"/>
                    </a:lnTo>
                    <a:lnTo>
                      <a:pt x="826" y="225"/>
                    </a:lnTo>
                    <a:lnTo>
                      <a:pt x="815" y="232"/>
                    </a:lnTo>
                    <a:lnTo>
                      <a:pt x="801" y="236"/>
                    </a:lnTo>
                    <a:lnTo>
                      <a:pt x="786" y="240"/>
                    </a:lnTo>
                    <a:lnTo>
                      <a:pt x="772" y="243"/>
                    </a:lnTo>
                    <a:lnTo>
                      <a:pt x="757" y="243"/>
                    </a:lnTo>
                    <a:lnTo>
                      <a:pt x="739" y="243"/>
                    </a:lnTo>
                    <a:lnTo>
                      <a:pt x="721" y="243"/>
                    </a:lnTo>
                    <a:lnTo>
                      <a:pt x="707" y="243"/>
                    </a:lnTo>
                    <a:lnTo>
                      <a:pt x="689" y="243"/>
                    </a:lnTo>
                    <a:lnTo>
                      <a:pt x="670" y="240"/>
                    </a:lnTo>
                    <a:lnTo>
                      <a:pt x="656" y="236"/>
                    </a:lnTo>
                    <a:lnTo>
                      <a:pt x="641" y="232"/>
                    </a:lnTo>
                    <a:lnTo>
                      <a:pt x="627" y="229"/>
                    </a:lnTo>
                    <a:lnTo>
                      <a:pt x="612" y="225"/>
                    </a:lnTo>
                    <a:lnTo>
                      <a:pt x="602" y="222"/>
                    </a:lnTo>
                    <a:lnTo>
                      <a:pt x="594" y="218"/>
                    </a:lnTo>
                    <a:lnTo>
                      <a:pt x="587" y="211"/>
                    </a:lnTo>
                    <a:lnTo>
                      <a:pt x="580" y="207"/>
                    </a:lnTo>
                    <a:lnTo>
                      <a:pt x="573" y="203"/>
                    </a:lnTo>
                    <a:lnTo>
                      <a:pt x="569" y="200"/>
                    </a:lnTo>
                    <a:lnTo>
                      <a:pt x="565" y="196"/>
                    </a:lnTo>
                    <a:lnTo>
                      <a:pt x="565" y="189"/>
                    </a:lnTo>
                    <a:lnTo>
                      <a:pt x="565" y="185"/>
                    </a:lnTo>
                    <a:lnTo>
                      <a:pt x="565" y="182"/>
                    </a:lnTo>
                    <a:lnTo>
                      <a:pt x="565" y="174"/>
                    </a:lnTo>
                    <a:lnTo>
                      <a:pt x="569" y="171"/>
                    </a:lnTo>
                    <a:lnTo>
                      <a:pt x="573" y="164"/>
                    </a:lnTo>
                    <a:lnTo>
                      <a:pt x="580" y="149"/>
                    </a:lnTo>
                    <a:lnTo>
                      <a:pt x="594" y="135"/>
                    </a:lnTo>
                    <a:lnTo>
                      <a:pt x="602" y="127"/>
                    </a:lnTo>
                    <a:lnTo>
                      <a:pt x="609" y="116"/>
                    </a:lnTo>
                    <a:lnTo>
                      <a:pt x="612" y="106"/>
                    </a:lnTo>
                    <a:lnTo>
                      <a:pt x="616" y="95"/>
                    </a:lnTo>
                    <a:lnTo>
                      <a:pt x="616" y="84"/>
                    </a:lnTo>
                    <a:lnTo>
                      <a:pt x="616" y="73"/>
                    </a:lnTo>
                    <a:lnTo>
                      <a:pt x="616" y="62"/>
                    </a:lnTo>
                    <a:lnTo>
                      <a:pt x="612" y="51"/>
                    </a:lnTo>
                    <a:lnTo>
                      <a:pt x="609" y="40"/>
                    </a:lnTo>
                    <a:lnTo>
                      <a:pt x="602" y="29"/>
                    </a:lnTo>
                    <a:lnTo>
                      <a:pt x="598" y="26"/>
                    </a:lnTo>
                    <a:lnTo>
                      <a:pt x="591" y="22"/>
                    </a:lnTo>
                    <a:lnTo>
                      <a:pt x="587" y="18"/>
                    </a:lnTo>
                    <a:lnTo>
                      <a:pt x="580" y="15"/>
                    </a:lnTo>
                    <a:lnTo>
                      <a:pt x="576" y="11"/>
                    </a:lnTo>
                    <a:lnTo>
                      <a:pt x="569" y="8"/>
                    </a:lnTo>
                    <a:lnTo>
                      <a:pt x="562" y="8"/>
                    </a:lnTo>
                    <a:lnTo>
                      <a:pt x="554" y="4"/>
                    </a:lnTo>
                    <a:lnTo>
                      <a:pt x="544" y="4"/>
                    </a:lnTo>
                    <a:lnTo>
                      <a:pt x="536" y="0"/>
                    </a:lnTo>
                    <a:lnTo>
                      <a:pt x="529" y="0"/>
                    </a:lnTo>
                    <a:lnTo>
                      <a:pt x="518" y="0"/>
                    </a:lnTo>
                    <a:lnTo>
                      <a:pt x="511" y="0"/>
                    </a:lnTo>
                    <a:lnTo>
                      <a:pt x="500" y="4"/>
                    </a:lnTo>
                    <a:lnTo>
                      <a:pt x="493" y="4"/>
                    </a:lnTo>
                    <a:lnTo>
                      <a:pt x="485" y="4"/>
                    </a:lnTo>
                    <a:lnTo>
                      <a:pt x="482" y="8"/>
                    </a:lnTo>
                    <a:lnTo>
                      <a:pt x="475" y="11"/>
                    </a:lnTo>
                    <a:lnTo>
                      <a:pt x="471" y="15"/>
                    </a:lnTo>
                    <a:lnTo>
                      <a:pt x="464" y="18"/>
                    </a:lnTo>
                    <a:lnTo>
                      <a:pt x="460" y="22"/>
                    </a:lnTo>
                    <a:lnTo>
                      <a:pt x="456" y="26"/>
                    </a:lnTo>
                    <a:lnTo>
                      <a:pt x="453" y="29"/>
                    </a:lnTo>
                    <a:lnTo>
                      <a:pt x="449" y="37"/>
                    </a:lnTo>
                    <a:lnTo>
                      <a:pt x="446" y="47"/>
                    </a:lnTo>
                    <a:lnTo>
                      <a:pt x="442" y="58"/>
                    </a:lnTo>
                    <a:lnTo>
                      <a:pt x="442" y="69"/>
                    </a:lnTo>
                    <a:lnTo>
                      <a:pt x="442" y="80"/>
                    </a:lnTo>
                    <a:lnTo>
                      <a:pt x="442" y="95"/>
                    </a:lnTo>
                    <a:lnTo>
                      <a:pt x="446" y="106"/>
                    </a:lnTo>
                    <a:lnTo>
                      <a:pt x="449" y="120"/>
                    </a:lnTo>
                    <a:lnTo>
                      <a:pt x="456" y="131"/>
                    </a:lnTo>
                    <a:lnTo>
                      <a:pt x="460" y="142"/>
                    </a:lnTo>
                    <a:lnTo>
                      <a:pt x="471" y="149"/>
                    </a:lnTo>
                    <a:lnTo>
                      <a:pt x="475" y="156"/>
                    </a:lnTo>
                    <a:lnTo>
                      <a:pt x="482" y="164"/>
                    </a:lnTo>
                    <a:lnTo>
                      <a:pt x="482" y="171"/>
                    </a:lnTo>
                    <a:lnTo>
                      <a:pt x="485" y="178"/>
                    </a:lnTo>
                    <a:lnTo>
                      <a:pt x="485" y="185"/>
                    </a:lnTo>
                    <a:lnTo>
                      <a:pt x="485" y="193"/>
                    </a:lnTo>
                    <a:lnTo>
                      <a:pt x="482" y="200"/>
                    </a:lnTo>
                    <a:lnTo>
                      <a:pt x="478" y="207"/>
                    </a:lnTo>
                    <a:lnTo>
                      <a:pt x="475" y="211"/>
                    </a:lnTo>
                    <a:lnTo>
                      <a:pt x="467" y="218"/>
                    </a:lnTo>
                    <a:lnTo>
                      <a:pt x="456" y="222"/>
                    </a:lnTo>
                    <a:lnTo>
                      <a:pt x="449" y="222"/>
                    </a:lnTo>
                    <a:lnTo>
                      <a:pt x="438" y="222"/>
                    </a:lnTo>
                    <a:lnTo>
                      <a:pt x="427" y="222"/>
                    </a:lnTo>
                    <a:lnTo>
                      <a:pt x="413" y="218"/>
                    </a:lnTo>
                    <a:lnTo>
                      <a:pt x="398" y="211"/>
                    </a:lnTo>
                    <a:lnTo>
                      <a:pt x="388" y="211"/>
                    </a:lnTo>
                    <a:lnTo>
                      <a:pt x="380" y="207"/>
                    </a:lnTo>
                    <a:lnTo>
                      <a:pt x="369" y="203"/>
                    </a:lnTo>
                    <a:lnTo>
                      <a:pt x="359" y="203"/>
                    </a:lnTo>
                    <a:lnTo>
                      <a:pt x="337" y="203"/>
                    </a:lnTo>
                    <a:lnTo>
                      <a:pt x="311" y="203"/>
                    </a:lnTo>
                    <a:lnTo>
                      <a:pt x="286" y="207"/>
                    </a:lnTo>
                    <a:lnTo>
                      <a:pt x="261" y="211"/>
                    </a:lnTo>
                    <a:lnTo>
                      <a:pt x="235" y="214"/>
                    </a:lnTo>
                    <a:lnTo>
                      <a:pt x="210" y="222"/>
                    </a:lnTo>
                    <a:lnTo>
                      <a:pt x="210" y="225"/>
                    </a:lnTo>
                    <a:lnTo>
                      <a:pt x="210" y="240"/>
                    </a:lnTo>
                    <a:lnTo>
                      <a:pt x="210" y="251"/>
                    </a:lnTo>
                    <a:lnTo>
                      <a:pt x="210" y="269"/>
                    </a:lnTo>
                    <a:lnTo>
                      <a:pt x="214" y="305"/>
                    </a:lnTo>
                    <a:lnTo>
                      <a:pt x="217" y="349"/>
                    </a:lnTo>
                    <a:lnTo>
                      <a:pt x="221" y="367"/>
                    </a:lnTo>
                    <a:lnTo>
                      <a:pt x="221" y="388"/>
                    </a:lnTo>
                    <a:lnTo>
                      <a:pt x="221" y="410"/>
                    </a:lnTo>
                    <a:lnTo>
                      <a:pt x="224" y="425"/>
                    </a:lnTo>
                    <a:lnTo>
                      <a:pt x="221" y="443"/>
                    </a:lnTo>
                    <a:lnTo>
                      <a:pt x="221" y="457"/>
                    </a:lnTo>
                    <a:lnTo>
                      <a:pt x="217" y="465"/>
                    </a:lnTo>
                    <a:lnTo>
                      <a:pt x="217" y="468"/>
                    </a:lnTo>
                    <a:lnTo>
                      <a:pt x="214" y="472"/>
                    </a:lnTo>
                    <a:lnTo>
                      <a:pt x="210" y="475"/>
                    </a:lnTo>
                    <a:close/>
                  </a:path>
                </a:pathLst>
              </a:custGeom>
              <a:solidFill>
                <a:srgbClr val="ffcc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42920" y="2732040"/>
                <a:ext cx="2133360" cy="1682280"/>
              </a:xfrm>
              <a:custGeom>
                <a:avLst/>
                <a:gdLst/>
                <a:ahLst/>
                <a:rect l="l" t="t" r="r" b="b"/>
                <a:pathLst>
                  <a:path w="1084" h="841">
                    <a:moveTo>
                      <a:pt x="207" y="478"/>
                    </a:moveTo>
                    <a:lnTo>
                      <a:pt x="210" y="482"/>
                    </a:lnTo>
                    <a:lnTo>
                      <a:pt x="210" y="478"/>
                    </a:lnTo>
                    <a:lnTo>
                      <a:pt x="203" y="482"/>
                    </a:lnTo>
                    <a:lnTo>
                      <a:pt x="196" y="486"/>
                    </a:lnTo>
                    <a:lnTo>
                      <a:pt x="196" y="486"/>
                    </a:lnTo>
                    <a:lnTo>
                      <a:pt x="192" y="486"/>
                    </a:lnTo>
                    <a:lnTo>
                      <a:pt x="189" y="489"/>
                    </a:lnTo>
                    <a:lnTo>
                      <a:pt x="192" y="493"/>
                    </a:lnTo>
                    <a:lnTo>
                      <a:pt x="192" y="489"/>
                    </a:lnTo>
                    <a:lnTo>
                      <a:pt x="185" y="489"/>
                    </a:lnTo>
                    <a:lnTo>
                      <a:pt x="178" y="489"/>
                    </a:lnTo>
                    <a:lnTo>
                      <a:pt x="178" y="493"/>
                    </a:lnTo>
                    <a:lnTo>
                      <a:pt x="181" y="489"/>
                    </a:lnTo>
                    <a:lnTo>
                      <a:pt x="178" y="486"/>
                    </a:lnTo>
                    <a:lnTo>
                      <a:pt x="178" y="486"/>
                    </a:lnTo>
                    <a:lnTo>
                      <a:pt x="174" y="486"/>
                    </a:lnTo>
                    <a:lnTo>
                      <a:pt x="167" y="486"/>
                    </a:lnTo>
                    <a:lnTo>
                      <a:pt x="167" y="489"/>
                    </a:lnTo>
                    <a:lnTo>
                      <a:pt x="170" y="486"/>
                    </a:lnTo>
                    <a:lnTo>
                      <a:pt x="156" y="478"/>
                    </a:lnTo>
                    <a:lnTo>
                      <a:pt x="145" y="475"/>
                    </a:lnTo>
                    <a:lnTo>
                      <a:pt x="134" y="468"/>
                    </a:lnTo>
                    <a:lnTo>
                      <a:pt x="120" y="460"/>
                    </a:lnTo>
                    <a:lnTo>
                      <a:pt x="109" y="453"/>
                    </a:lnTo>
                    <a:lnTo>
                      <a:pt x="109" y="453"/>
                    </a:lnTo>
                    <a:lnTo>
                      <a:pt x="105" y="453"/>
                    </a:lnTo>
                    <a:lnTo>
                      <a:pt x="91" y="449"/>
                    </a:lnTo>
                    <a:lnTo>
                      <a:pt x="83" y="449"/>
                    </a:lnTo>
                    <a:lnTo>
                      <a:pt x="83" y="453"/>
                    </a:lnTo>
                    <a:lnTo>
                      <a:pt x="87" y="449"/>
                    </a:lnTo>
                    <a:lnTo>
                      <a:pt x="83" y="446"/>
                    </a:lnTo>
                    <a:lnTo>
                      <a:pt x="83" y="446"/>
                    </a:lnTo>
                    <a:lnTo>
                      <a:pt x="80" y="446"/>
                    </a:lnTo>
                    <a:lnTo>
                      <a:pt x="73" y="446"/>
                    </a:lnTo>
                    <a:lnTo>
                      <a:pt x="65" y="446"/>
                    </a:lnTo>
                    <a:lnTo>
                      <a:pt x="65" y="446"/>
                    </a:lnTo>
                    <a:lnTo>
                      <a:pt x="65" y="446"/>
                    </a:lnTo>
                    <a:lnTo>
                      <a:pt x="58" y="449"/>
                    </a:lnTo>
                    <a:lnTo>
                      <a:pt x="58" y="453"/>
                    </a:lnTo>
                    <a:lnTo>
                      <a:pt x="58" y="449"/>
                    </a:lnTo>
                    <a:lnTo>
                      <a:pt x="51" y="449"/>
                    </a:lnTo>
                    <a:lnTo>
                      <a:pt x="51" y="449"/>
                    </a:lnTo>
                    <a:lnTo>
                      <a:pt x="51" y="449"/>
                    </a:lnTo>
                    <a:lnTo>
                      <a:pt x="44" y="453"/>
                    </a:lnTo>
                    <a:lnTo>
                      <a:pt x="40" y="453"/>
                    </a:lnTo>
                    <a:lnTo>
                      <a:pt x="40" y="457"/>
                    </a:lnTo>
                    <a:lnTo>
                      <a:pt x="36" y="464"/>
                    </a:lnTo>
                    <a:lnTo>
                      <a:pt x="40" y="464"/>
                    </a:lnTo>
                    <a:lnTo>
                      <a:pt x="40" y="460"/>
                    </a:lnTo>
                    <a:lnTo>
                      <a:pt x="33" y="464"/>
                    </a:lnTo>
                    <a:lnTo>
                      <a:pt x="33" y="464"/>
                    </a:lnTo>
                    <a:lnTo>
                      <a:pt x="29" y="464"/>
                    </a:lnTo>
                    <a:lnTo>
                      <a:pt x="22" y="471"/>
                    </a:lnTo>
                    <a:lnTo>
                      <a:pt x="22" y="475"/>
                    </a:lnTo>
                    <a:lnTo>
                      <a:pt x="22" y="475"/>
                    </a:lnTo>
                    <a:lnTo>
                      <a:pt x="15" y="486"/>
                    </a:lnTo>
                    <a:lnTo>
                      <a:pt x="7" y="497"/>
                    </a:lnTo>
                    <a:lnTo>
                      <a:pt x="11" y="497"/>
                    </a:lnTo>
                    <a:lnTo>
                      <a:pt x="7" y="493"/>
                    </a:lnTo>
                    <a:lnTo>
                      <a:pt x="4" y="497"/>
                    </a:lnTo>
                    <a:lnTo>
                      <a:pt x="4" y="500"/>
                    </a:lnTo>
                    <a:lnTo>
                      <a:pt x="4" y="500"/>
                    </a:lnTo>
                    <a:lnTo>
                      <a:pt x="0" y="508"/>
                    </a:lnTo>
                    <a:lnTo>
                      <a:pt x="0" y="508"/>
                    </a:lnTo>
                    <a:lnTo>
                      <a:pt x="0" y="508"/>
                    </a:lnTo>
                    <a:lnTo>
                      <a:pt x="0" y="518"/>
                    </a:lnTo>
                    <a:lnTo>
                      <a:pt x="0" y="529"/>
                    </a:lnTo>
                    <a:lnTo>
                      <a:pt x="0" y="537"/>
                    </a:lnTo>
                    <a:lnTo>
                      <a:pt x="0" y="540"/>
                    </a:lnTo>
                    <a:lnTo>
                      <a:pt x="0" y="540"/>
                    </a:lnTo>
                    <a:lnTo>
                      <a:pt x="4" y="551"/>
                    </a:lnTo>
                    <a:lnTo>
                      <a:pt x="11" y="562"/>
                    </a:lnTo>
                    <a:lnTo>
                      <a:pt x="15" y="569"/>
                    </a:lnTo>
                    <a:lnTo>
                      <a:pt x="22" y="580"/>
                    </a:lnTo>
                    <a:lnTo>
                      <a:pt x="22" y="580"/>
                    </a:lnTo>
                    <a:lnTo>
                      <a:pt x="25" y="584"/>
                    </a:lnTo>
                    <a:lnTo>
                      <a:pt x="36" y="591"/>
                    </a:lnTo>
                    <a:lnTo>
                      <a:pt x="36" y="591"/>
                    </a:lnTo>
                    <a:lnTo>
                      <a:pt x="36" y="591"/>
                    </a:lnTo>
                    <a:lnTo>
                      <a:pt x="40" y="591"/>
                    </a:lnTo>
                    <a:lnTo>
                      <a:pt x="40" y="584"/>
                    </a:lnTo>
                    <a:lnTo>
                      <a:pt x="36" y="587"/>
                    </a:lnTo>
                    <a:lnTo>
                      <a:pt x="40" y="591"/>
                    </a:lnTo>
                    <a:lnTo>
                      <a:pt x="44" y="595"/>
                    </a:lnTo>
                    <a:lnTo>
                      <a:pt x="44" y="595"/>
                    </a:lnTo>
                    <a:lnTo>
                      <a:pt x="51" y="598"/>
                    </a:lnTo>
                    <a:lnTo>
                      <a:pt x="51" y="598"/>
                    </a:lnTo>
                    <a:lnTo>
                      <a:pt x="51" y="598"/>
                    </a:lnTo>
                    <a:lnTo>
                      <a:pt x="58" y="598"/>
                    </a:lnTo>
                    <a:lnTo>
                      <a:pt x="58" y="591"/>
                    </a:lnTo>
                    <a:lnTo>
                      <a:pt x="58" y="598"/>
                    </a:lnTo>
                    <a:lnTo>
                      <a:pt x="65" y="602"/>
                    </a:lnTo>
                    <a:lnTo>
                      <a:pt x="65" y="602"/>
                    </a:lnTo>
                    <a:lnTo>
                      <a:pt x="65" y="602"/>
                    </a:lnTo>
                    <a:lnTo>
                      <a:pt x="73" y="602"/>
                    </a:lnTo>
                    <a:lnTo>
                      <a:pt x="80" y="602"/>
                    </a:lnTo>
                    <a:lnTo>
                      <a:pt x="87" y="602"/>
                    </a:lnTo>
                    <a:lnTo>
                      <a:pt x="98" y="602"/>
                    </a:lnTo>
                    <a:lnTo>
                      <a:pt x="98" y="602"/>
                    </a:lnTo>
                    <a:lnTo>
                      <a:pt x="102" y="602"/>
                    </a:lnTo>
                    <a:lnTo>
                      <a:pt x="109" y="598"/>
                    </a:lnTo>
                    <a:lnTo>
                      <a:pt x="105" y="591"/>
                    </a:lnTo>
                    <a:lnTo>
                      <a:pt x="105" y="598"/>
                    </a:lnTo>
                    <a:lnTo>
                      <a:pt x="112" y="598"/>
                    </a:lnTo>
                    <a:lnTo>
                      <a:pt x="116" y="598"/>
                    </a:lnTo>
                    <a:lnTo>
                      <a:pt x="116" y="598"/>
                    </a:lnTo>
                    <a:lnTo>
                      <a:pt x="127" y="595"/>
                    </a:lnTo>
                    <a:lnTo>
                      <a:pt x="145" y="587"/>
                    </a:lnTo>
                    <a:lnTo>
                      <a:pt x="156" y="584"/>
                    </a:lnTo>
                    <a:lnTo>
                      <a:pt x="152" y="576"/>
                    </a:lnTo>
                    <a:lnTo>
                      <a:pt x="152" y="584"/>
                    </a:lnTo>
                    <a:lnTo>
                      <a:pt x="167" y="580"/>
                    </a:lnTo>
                    <a:lnTo>
                      <a:pt x="178" y="580"/>
                    </a:lnTo>
                    <a:lnTo>
                      <a:pt x="185" y="580"/>
                    </a:lnTo>
                    <a:lnTo>
                      <a:pt x="185" y="573"/>
                    </a:lnTo>
                    <a:lnTo>
                      <a:pt x="181" y="576"/>
                    </a:lnTo>
                    <a:lnTo>
                      <a:pt x="185" y="580"/>
                    </a:lnTo>
                    <a:lnTo>
                      <a:pt x="189" y="584"/>
                    </a:lnTo>
                    <a:lnTo>
                      <a:pt x="189" y="584"/>
                    </a:lnTo>
                    <a:lnTo>
                      <a:pt x="192" y="584"/>
                    </a:lnTo>
                    <a:lnTo>
                      <a:pt x="192" y="576"/>
                    </a:lnTo>
                    <a:lnTo>
                      <a:pt x="192" y="584"/>
                    </a:lnTo>
                    <a:lnTo>
                      <a:pt x="199" y="587"/>
                    </a:lnTo>
                    <a:lnTo>
                      <a:pt x="199" y="580"/>
                    </a:lnTo>
                    <a:lnTo>
                      <a:pt x="196" y="584"/>
                    </a:lnTo>
                    <a:lnTo>
                      <a:pt x="199" y="587"/>
                    </a:lnTo>
                    <a:lnTo>
                      <a:pt x="203" y="584"/>
                    </a:lnTo>
                    <a:lnTo>
                      <a:pt x="199" y="587"/>
                    </a:lnTo>
                    <a:lnTo>
                      <a:pt x="203" y="595"/>
                    </a:lnTo>
                    <a:lnTo>
                      <a:pt x="203" y="595"/>
                    </a:lnTo>
                    <a:lnTo>
                      <a:pt x="203" y="595"/>
                    </a:lnTo>
                    <a:lnTo>
                      <a:pt x="207" y="598"/>
                    </a:lnTo>
                    <a:lnTo>
                      <a:pt x="210" y="595"/>
                    </a:lnTo>
                    <a:lnTo>
                      <a:pt x="207" y="598"/>
                    </a:lnTo>
                    <a:lnTo>
                      <a:pt x="210" y="609"/>
                    </a:lnTo>
                    <a:lnTo>
                      <a:pt x="214" y="616"/>
                    </a:lnTo>
                    <a:lnTo>
                      <a:pt x="218" y="627"/>
                    </a:lnTo>
                    <a:lnTo>
                      <a:pt x="221" y="638"/>
                    </a:lnTo>
                    <a:lnTo>
                      <a:pt x="225" y="649"/>
                    </a:lnTo>
                    <a:lnTo>
                      <a:pt x="228" y="645"/>
                    </a:lnTo>
                    <a:lnTo>
                      <a:pt x="225" y="645"/>
                    </a:lnTo>
                    <a:lnTo>
                      <a:pt x="225" y="660"/>
                    </a:lnTo>
                    <a:lnTo>
                      <a:pt x="225" y="663"/>
                    </a:lnTo>
                    <a:lnTo>
                      <a:pt x="225" y="663"/>
                    </a:lnTo>
                    <a:lnTo>
                      <a:pt x="228" y="678"/>
                    </a:lnTo>
                    <a:lnTo>
                      <a:pt x="232" y="674"/>
                    </a:lnTo>
                    <a:lnTo>
                      <a:pt x="228" y="674"/>
                    </a:lnTo>
                    <a:lnTo>
                      <a:pt x="228" y="689"/>
                    </a:lnTo>
                    <a:lnTo>
                      <a:pt x="228" y="703"/>
                    </a:lnTo>
                    <a:lnTo>
                      <a:pt x="228" y="718"/>
                    </a:lnTo>
                    <a:lnTo>
                      <a:pt x="228" y="732"/>
                    </a:lnTo>
                    <a:lnTo>
                      <a:pt x="232" y="732"/>
                    </a:lnTo>
                    <a:lnTo>
                      <a:pt x="228" y="732"/>
                    </a:lnTo>
                    <a:lnTo>
                      <a:pt x="225" y="747"/>
                    </a:lnTo>
                    <a:lnTo>
                      <a:pt x="225" y="747"/>
                    </a:lnTo>
                    <a:lnTo>
                      <a:pt x="225" y="747"/>
                    </a:lnTo>
                    <a:lnTo>
                      <a:pt x="225" y="761"/>
                    </a:lnTo>
                    <a:lnTo>
                      <a:pt x="228" y="761"/>
                    </a:lnTo>
                    <a:lnTo>
                      <a:pt x="225" y="761"/>
                    </a:lnTo>
                    <a:lnTo>
                      <a:pt x="221" y="776"/>
                    </a:lnTo>
                    <a:lnTo>
                      <a:pt x="218" y="790"/>
                    </a:lnTo>
                    <a:lnTo>
                      <a:pt x="214" y="805"/>
                    </a:lnTo>
                    <a:lnTo>
                      <a:pt x="210" y="816"/>
                    </a:lnTo>
                    <a:lnTo>
                      <a:pt x="207" y="819"/>
                    </a:lnTo>
                    <a:lnTo>
                      <a:pt x="214" y="823"/>
                    </a:lnTo>
                    <a:lnTo>
                      <a:pt x="239" y="823"/>
                    </a:lnTo>
                    <a:lnTo>
                      <a:pt x="265" y="823"/>
                    </a:lnTo>
                    <a:lnTo>
                      <a:pt x="290" y="823"/>
                    </a:lnTo>
                    <a:lnTo>
                      <a:pt x="312" y="823"/>
                    </a:lnTo>
                    <a:lnTo>
                      <a:pt x="334" y="823"/>
                    </a:lnTo>
                    <a:lnTo>
                      <a:pt x="355" y="823"/>
                    </a:lnTo>
                    <a:lnTo>
                      <a:pt x="373" y="823"/>
                    </a:lnTo>
                    <a:lnTo>
                      <a:pt x="384" y="823"/>
                    </a:lnTo>
                    <a:lnTo>
                      <a:pt x="402" y="819"/>
                    </a:lnTo>
                    <a:lnTo>
                      <a:pt x="417" y="816"/>
                    </a:lnTo>
                    <a:lnTo>
                      <a:pt x="421" y="812"/>
                    </a:lnTo>
                    <a:lnTo>
                      <a:pt x="421" y="812"/>
                    </a:lnTo>
                    <a:lnTo>
                      <a:pt x="431" y="801"/>
                    </a:lnTo>
                    <a:lnTo>
                      <a:pt x="428" y="798"/>
                    </a:lnTo>
                    <a:lnTo>
                      <a:pt x="431" y="805"/>
                    </a:lnTo>
                    <a:lnTo>
                      <a:pt x="446" y="798"/>
                    </a:lnTo>
                    <a:lnTo>
                      <a:pt x="446" y="798"/>
                    </a:lnTo>
                    <a:lnTo>
                      <a:pt x="446" y="794"/>
                    </a:lnTo>
                    <a:lnTo>
                      <a:pt x="453" y="787"/>
                    </a:lnTo>
                    <a:lnTo>
                      <a:pt x="460" y="780"/>
                    </a:lnTo>
                    <a:lnTo>
                      <a:pt x="464" y="780"/>
                    </a:lnTo>
                    <a:lnTo>
                      <a:pt x="464" y="780"/>
                    </a:lnTo>
                    <a:lnTo>
                      <a:pt x="471" y="769"/>
                    </a:lnTo>
                    <a:lnTo>
                      <a:pt x="475" y="758"/>
                    </a:lnTo>
                    <a:lnTo>
                      <a:pt x="479" y="747"/>
                    </a:lnTo>
                    <a:lnTo>
                      <a:pt x="479" y="747"/>
                    </a:lnTo>
                    <a:lnTo>
                      <a:pt x="479" y="743"/>
                    </a:lnTo>
                    <a:lnTo>
                      <a:pt x="479" y="736"/>
                    </a:lnTo>
                    <a:lnTo>
                      <a:pt x="479" y="725"/>
                    </a:lnTo>
                    <a:lnTo>
                      <a:pt x="479" y="714"/>
                    </a:lnTo>
                    <a:lnTo>
                      <a:pt x="479" y="714"/>
                    </a:lnTo>
                    <a:lnTo>
                      <a:pt x="479" y="714"/>
                    </a:lnTo>
                    <a:lnTo>
                      <a:pt x="475" y="703"/>
                    </a:lnTo>
                    <a:lnTo>
                      <a:pt x="475" y="703"/>
                    </a:lnTo>
                    <a:lnTo>
                      <a:pt x="471" y="700"/>
                    </a:lnTo>
                    <a:lnTo>
                      <a:pt x="464" y="692"/>
                    </a:lnTo>
                    <a:lnTo>
                      <a:pt x="460" y="696"/>
                    </a:lnTo>
                    <a:lnTo>
                      <a:pt x="468" y="696"/>
                    </a:lnTo>
                    <a:lnTo>
                      <a:pt x="464" y="685"/>
                    </a:lnTo>
                    <a:lnTo>
                      <a:pt x="460" y="682"/>
                    </a:lnTo>
                    <a:lnTo>
                      <a:pt x="460" y="682"/>
                    </a:lnTo>
                    <a:lnTo>
                      <a:pt x="450" y="674"/>
                    </a:lnTo>
                    <a:lnTo>
                      <a:pt x="446" y="678"/>
                    </a:lnTo>
                    <a:lnTo>
                      <a:pt x="453" y="678"/>
                    </a:lnTo>
                    <a:lnTo>
                      <a:pt x="446" y="667"/>
                    </a:lnTo>
                    <a:lnTo>
                      <a:pt x="446" y="667"/>
                    </a:lnTo>
                    <a:lnTo>
                      <a:pt x="442" y="663"/>
                    </a:lnTo>
                    <a:lnTo>
                      <a:pt x="435" y="656"/>
                    </a:lnTo>
                    <a:lnTo>
                      <a:pt x="431" y="660"/>
                    </a:lnTo>
                    <a:lnTo>
                      <a:pt x="439" y="660"/>
                    </a:lnTo>
                    <a:lnTo>
                      <a:pt x="435" y="649"/>
                    </a:lnTo>
                    <a:lnTo>
                      <a:pt x="431" y="638"/>
                    </a:lnTo>
                    <a:lnTo>
                      <a:pt x="424" y="638"/>
                    </a:lnTo>
                    <a:lnTo>
                      <a:pt x="431" y="638"/>
                    </a:lnTo>
                    <a:lnTo>
                      <a:pt x="431" y="624"/>
                    </a:lnTo>
                    <a:lnTo>
                      <a:pt x="431" y="613"/>
                    </a:lnTo>
                    <a:lnTo>
                      <a:pt x="431" y="602"/>
                    </a:lnTo>
                    <a:lnTo>
                      <a:pt x="424" y="602"/>
                    </a:lnTo>
                    <a:lnTo>
                      <a:pt x="431" y="605"/>
                    </a:lnTo>
                    <a:lnTo>
                      <a:pt x="435" y="595"/>
                    </a:lnTo>
                    <a:lnTo>
                      <a:pt x="439" y="584"/>
                    </a:lnTo>
                    <a:lnTo>
                      <a:pt x="446" y="573"/>
                    </a:lnTo>
                    <a:lnTo>
                      <a:pt x="439" y="569"/>
                    </a:lnTo>
                    <a:lnTo>
                      <a:pt x="442" y="576"/>
                    </a:lnTo>
                    <a:lnTo>
                      <a:pt x="450" y="573"/>
                    </a:lnTo>
                    <a:lnTo>
                      <a:pt x="450" y="569"/>
                    </a:lnTo>
                    <a:lnTo>
                      <a:pt x="453" y="569"/>
                    </a:lnTo>
                    <a:lnTo>
                      <a:pt x="457" y="562"/>
                    </a:lnTo>
                    <a:lnTo>
                      <a:pt x="450" y="558"/>
                    </a:lnTo>
                    <a:lnTo>
                      <a:pt x="453" y="562"/>
                    </a:lnTo>
                    <a:lnTo>
                      <a:pt x="457" y="558"/>
                    </a:lnTo>
                    <a:lnTo>
                      <a:pt x="453" y="555"/>
                    </a:lnTo>
                    <a:lnTo>
                      <a:pt x="453" y="562"/>
                    </a:lnTo>
                    <a:lnTo>
                      <a:pt x="460" y="562"/>
                    </a:lnTo>
                    <a:lnTo>
                      <a:pt x="464" y="562"/>
                    </a:lnTo>
                    <a:lnTo>
                      <a:pt x="464" y="558"/>
                    </a:lnTo>
                    <a:lnTo>
                      <a:pt x="468" y="555"/>
                    </a:lnTo>
                    <a:lnTo>
                      <a:pt x="464" y="551"/>
                    </a:lnTo>
                    <a:lnTo>
                      <a:pt x="468" y="558"/>
                    </a:lnTo>
                    <a:lnTo>
                      <a:pt x="475" y="555"/>
                    </a:lnTo>
                    <a:lnTo>
                      <a:pt x="482" y="551"/>
                    </a:lnTo>
                    <a:lnTo>
                      <a:pt x="489" y="547"/>
                    </a:lnTo>
                    <a:lnTo>
                      <a:pt x="486" y="540"/>
                    </a:lnTo>
                    <a:lnTo>
                      <a:pt x="486" y="547"/>
                    </a:lnTo>
                    <a:lnTo>
                      <a:pt x="493" y="547"/>
                    </a:lnTo>
                    <a:lnTo>
                      <a:pt x="497" y="547"/>
                    </a:lnTo>
                    <a:lnTo>
                      <a:pt x="497" y="547"/>
                    </a:lnTo>
                    <a:lnTo>
                      <a:pt x="508" y="544"/>
                    </a:lnTo>
                    <a:lnTo>
                      <a:pt x="504" y="537"/>
                    </a:lnTo>
                    <a:lnTo>
                      <a:pt x="504" y="544"/>
                    </a:lnTo>
                    <a:lnTo>
                      <a:pt x="515" y="544"/>
                    </a:lnTo>
                    <a:lnTo>
                      <a:pt x="522" y="544"/>
                    </a:lnTo>
                    <a:lnTo>
                      <a:pt x="533" y="544"/>
                    </a:lnTo>
                    <a:lnTo>
                      <a:pt x="544" y="544"/>
                    </a:lnTo>
                    <a:lnTo>
                      <a:pt x="544" y="537"/>
                    </a:lnTo>
                    <a:lnTo>
                      <a:pt x="544" y="544"/>
                    </a:lnTo>
                    <a:lnTo>
                      <a:pt x="551" y="547"/>
                    </a:lnTo>
                    <a:lnTo>
                      <a:pt x="562" y="551"/>
                    </a:lnTo>
                    <a:lnTo>
                      <a:pt x="562" y="551"/>
                    </a:lnTo>
                    <a:lnTo>
                      <a:pt x="562" y="551"/>
                    </a:lnTo>
                    <a:lnTo>
                      <a:pt x="569" y="551"/>
                    </a:lnTo>
                    <a:lnTo>
                      <a:pt x="569" y="544"/>
                    </a:lnTo>
                    <a:lnTo>
                      <a:pt x="569" y="551"/>
                    </a:lnTo>
                    <a:lnTo>
                      <a:pt x="577" y="555"/>
                    </a:lnTo>
                    <a:lnTo>
                      <a:pt x="577" y="547"/>
                    </a:lnTo>
                    <a:lnTo>
                      <a:pt x="573" y="551"/>
                    </a:lnTo>
                    <a:lnTo>
                      <a:pt x="577" y="555"/>
                    </a:lnTo>
                    <a:lnTo>
                      <a:pt x="580" y="558"/>
                    </a:lnTo>
                    <a:lnTo>
                      <a:pt x="580" y="558"/>
                    </a:lnTo>
                    <a:lnTo>
                      <a:pt x="587" y="562"/>
                    </a:lnTo>
                    <a:lnTo>
                      <a:pt x="595" y="566"/>
                    </a:lnTo>
                    <a:lnTo>
                      <a:pt x="595" y="558"/>
                    </a:lnTo>
                    <a:lnTo>
                      <a:pt x="591" y="562"/>
                    </a:lnTo>
                    <a:lnTo>
                      <a:pt x="595" y="569"/>
                    </a:lnTo>
                    <a:lnTo>
                      <a:pt x="595" y="569"/>
                    </a:lnTo>
                    <a:lnTo>
                      <a:pt x="595" y="569"/>
                    </a:lnTo>
                    <a:lnTo>
                      <a:pt x="598" y="573"/>
                    </a:lnTo>
                    <a:lnTo>
                      <a:pt x="602" y="569"/>
                    </a:lnTo>
                    <a:lnTo>
                      <a:pt x="598" y="573"/>
                    </a:lnTo>
                    <a:lnTo>
                      <a:pt x="602" y="580"/>
                    </a:lnTo>
                    <a:lnTo>
                      <a:pt x="606" y="591"/>
                    </a:lnTo>
                    <a:lnTo>
                      <a:pt x="609" y="602"/>
                    </a:lnTo>
                    <a:lnTo>
                      <a:pt x="613" y="598"/>
                    </a:lnTo>
                    <a:lnTo>
                      <a:pt x="609" y="598"/>
                    </a:lnTo>
                    <a:lnTo>
                      <a:pt x="609" y="613"/>
                    </a:lnTo>
                    <a:lnTo>
                      <a:pt x="609" y="624"/>
                    </a:lnTo>
                    <a:lnTo>
                      <a:pt x="609" y="638"/>
                    </a:lnTo>
                    <a:lnTo>
                      <a:pt x="613" y="638"/>
                    </a:lnTo>
                    <a:lnTo>
                      <a:pt x="609" y="638"/>
                    </a:lnTo>
                    <a:lnTo>
                      <a:pt x="606" y="649"/>
                    </a:lnTo>
                    <a:lnTo>
                      <a:pt x="602" y="660"/>
                    </a:lnTo>
                    <a:lnTo>
                      <a:pt x="598" y="671"/>
                    </a:lnTo>
                    <a:lnTo>
                      <a:pt x="602" y="671"/>
                    </a:lnTo>
                    <a:lnTo>
                      <a:pt x="598" y="667"/>
                    </a:lnTo>
                    <a:lnTo>
                      <a:pt x="591" y="674"/>
                    </a:lnTo>
                    <a:lnTo>
                      <a:pt x="584" y="682"/>
                    </a:lnTo>
                    <a:lnTo>
                      <a:pt x="587" y="685"/>
                    </a:lnTo>
                    <a:lnTo>
                      <a:pt x="587" y="682"/>
                    </a:lnTo>
                    <a:lnTo>
                      <a:pt x="580" y="685"/>
                    </a:lnTo>
                    <a:lnTo>
                      <a:pt x="580" y="685"/>
                    </a:lnTo>
                    <a:lnTo>
                      <a:pt x="577" y="685"/>
                    </a:lnTo>
                    <a:lnTo>
                      <a:pt x="569" y="692"/>
                    </a:lnTo>
                    <a:lnTo>
                      <a:pt x="569" y="696"/>
                    </a:lnTo>
                    <a:lnTo>
                      <a:pt x="569" y="696"/>
                    </a:lnTo>
                    <a:lnTo>
                      <a:pt x="566" y="703"/>
                    </a:lnTo>
                    <a:lnTo>
                      <a:pt x="562" y="714"/>
                    </a:lnTo>
                    <a:lnTo>
                      <a:pt x="558" y="722"/>
                    </a:lnTo>
                    <a:lnTo>
                      <a:pt x="558" y="722"/>
                    </a:lnTo>
                    <a:lnTo>
                      <a:pt x="558" y="722"/>
                    </a:lnTo>
                    <a:lnTo>
                      <a:pt x="558" y="729"/>
                    </a:lnTo>
                    <a:lnTo>
                      <a:pt x="562" y="729"/>
                    </a:lnTo>
                    <a:lnTo>
                      <a:pt x="558" y="729"/>
                    </a:lnTo>
                    <a:lnTo>
                      <a:pt x="555" y="740"/>
                    </a:lnTo>
                    <a:lnTo>
                      <a:pt x="555" y="740"/>
                    </a:lnTo>
                    <a:lnTo>
                      <a:pt x="555" y="740"/>
                    </a:lnTo>
                    <a:lnTo>
                      <a:pt x="555" y="751"/>
                    </a:lnTo>
                    <a:lnTo>
                      <a:pt x="555" y="751"/>
                    </a:lnTo>
                    <a:lnTo>
                      <a:pt x="555" y="754"/>
                    </a:lnTo>
                    <a:lnTo>
                      <a:pt x="558" y="761"/>
                    </a:lnTo>
                    <a:lnTo>
                      <a:pt x="562" y="772"/>
                    </a:lnTo>
                    <a:lnTo>
                      <a:pt x="566" y="783"/>
                    </a:lnTo>
                    <a:lnTo>
                      <a:pt x="566" y="783"/>
                    </a:lnTo>
                    <a:lnTo>
                      <a:pt x="566" y="783"/>
                    </a:lnTo>
                    <a:lnTo>
                      <a:pt x="573" y="790"/>
                    </a:lnTo>
                    <a:lnTo>
                      <a:pt x="577" y="787"/>
                    </a:lnTo>
                    <a:lnTo>
                      <a:pt x="573" y="790"/>
                    </a:lnTo>
                    <a:lnTo>
                      <a:pt x="580" y="801"/>
                    </a:lnTo>
                    <a:lnTo>
                      <a:pt x="580" y="801"/>
                    </a:lnTo>
                    <a:lnTo>
                      <a:pt x="584" y="805"/>
                    </a:lnTo>
                    <a:lnTo>
                      <a:pt x="595" y="812"/>
                    </a:lnTo>
                    <a:lnTo>
                      <a:pt x="606" y="819"/>
                    </a:lnTo>
                    <a:lnTo>
                      <a:pt x="602" y="816"/>
                    </a:lnTo>
                    <a:lnTo>
                      <a:pt x="606" y="819"/>
                    </a:lnTo>
                    <a:lnTo>
                      <a:pt x="620" y="823"/>
                    </a:lnTo>
                    <a:lnTo>
                      <a:pt x="620" y="816"/>
                    </a:lnTo>
                    <a:lnTo>
                      <a:pt x="620" y="823"/>
                    </a:lnTo>
                    <a:lnTo>
                      <a:pt x="627" y="827"/>
                    </a:lnTo>
                    <a:lnTo>
                      <a:pt x="624" y="823"/>
                    </a:lnTo>
                    <a:lnTo>
                      <a:pt x="627" y="827"/>
                    </a:lnTo>
                    <a:lnTo>
                      <a:pt x="642" y="830"/>
                    </a:lnTo>
                    <a:lnTo>
                      <a:pt x="667" y="834"/>
                    </a:lnTo>
                    <a:lnTo>
                      <a:pt x="696" y="838"/>
                    </a:lnTo>
                    <a:lnTo>
                      <a:pt x="714" y="838"/>
                    </a:lnTo>
                    <a:lnTo>
                      <a:pt x="732" y="841"/>
                    </a:lnTo>
                    <a:lnTo>
                      <a:pt x="751" y="841"/>
                    </a:lnTo>
                    <a:lnTo>
                      <a:pt x="769" y="841"/>
                    </a:lnTo>
                    <a:lnTo>
                      <a:pt x="787" y="841"/>
                    </a:lnTo>
                    <a:lnTo>
                      <a:pt x="809" y="841"/>
                    </a:lnTo>
                    <a:lnTo>
                      <a:pt x="823" y="838"/>
                    </a:lnTo>
                    <a:lnTo>
                      <a:pt x="841" y="834"/>
                    </a:lnTo>
                    <a:lnTo>
                      <a:pt x="845" y="830"/>
                    </a:lnTo>
                    <a:lnTo>
                      <a:pt x="848" y="827"/>
                    </a:lnTo>
                    <a:lnTo>
                      <a:pt x="848" y="819"/>
                    </a:lnTo>
                    <a:lnTo>
                      <a:pt x="848" y="819"/>
                    </a:lnTo>
                    <a:lnTo>
                      <a:pt x="848" y="819"/>
                    </a:lnTo>
                    <a:lnTo>
                      <a:pt x="845" y="809"/>
                    </a:lnTo>
                    <a:lnTo>
                      <a:pt x="841" y="798"/>
                    </a:lnTo>
                    <a:lnTo>
                      <a:pt x="834" y="798"/>
                    </a:lnTo>
                    <a:lnTo>
                      <a:pt x="841" y="798"/>
                    </a:lnTo>
                    <a:lnTo>
                      <a:pt x="841" y="787"/>
                    </a:lnTo>
                    <a:lnTo>
                      <a:pt x="841" y="761"/>
                    </a:lnTo>
                    <a:lnTo>
                      <a:pt x="841" y="736"/>
                    </a:lnTo>
                    <a:lnTo>
                      <a:pt x="841" y="707"/>
                    </a:lnTo>
                    <a:lnTo>
                      <a:pt x="845" y="682"/>
                    </a:lnTo>
                    <a:lnTo>
                      <a:pt x="848" y="656"/>
                    </a:lnTo>
                    <a:lnTo>
                      <a:pt x="848" y="634"/>
                    </a:lnTo>
                    <a:lnTo>
                      <a:pt x="841" y="634"/>
                    </a:lnTo>
                    <a:lnTo>
                      <a:pt x="848" y="638"/>
                    </a:lnTo>
                    <a:lnTo>
                      <a:pt x="852" y="627"/>
                    </a:lnTo>
                    <a:lnTo>
                      <a:pt x="856" y="620"/>
                    </a:lnTo>
                    <a:lnTo>
                      <a:pt x="859" y="613"/>
                    </a:lnTo>
                    <a:lnTo>
                      <a:pt x="852" y="609"/>
                    </a:lnTo>
                    <a:lnTo>
                      <a:pt x="856" y="616"/>
                    </a:lnTo>
                    <a:lnTo>
                      <a:pt x="863" y="613"/>
                    </a:lnTo>
                    <a:lnTo>
                      <a:pt x="863" y="613"/>
                    </a:lnTo>
                    <a:lnTo>
                      <a:pt x="863" y="609"/>
                    </a:lnTo>
                    <a:lnTo>
                      <a:pt x="867" y="605"/>
                    </a:lnTo>
                    <a:lnTo>
                      <a:pt x="863" y="602"/>
                    </a:lnTo>
                    <a:lnTo>
                      <a:pt x="867" y="609"/>
                    </a:lnTo>
                    <a:lnTo>
                      <a:pt x="874" y="605"/>
                    </a:lnTo>
                    <a:lnTo>
                      <a:pt x="870" y="598"/>
                    </a:lnTo>
                    <a:lnTo>
                      <a:pt x="870" y="605"/>
                    </a:lnTo>
                    <a:lnTo>
                      <a:pt x="877" y="605"/>
                    </a:lnTo>
                    <a:lnTo>
                      <a:pt x="885" y="605"/>
                    </a:lnTo>
                    <a:lnTo>
                      <a:pt x="892" y="605"/>
                    </a:lnTo>
                    <a:lnTo>
                      <a:pt x="892" y="598"/>
                    </a:lnTo>
                    <a:lnTo>
                      <a:pt x="892" y="605"/>
                    </a:lnTo>
                    <a:lnTo>
                      <a:pt x="903" y="609"/>
                    </a:lnTo>
                    <a:lnTo>
                      <a:pt x="910" y="613"/>
                    </a:lnTo>
                    <a:lnTo>
                      <a:pt x="917" y="616"/>
                    </a:lnTo>
                    <a:lnTo>
                      <a:pt x="925" y="620"/>
                    </a:lnTo>
                    <a:lnTo>
                      <a:pt x="932" y="624"/>
                    </a:lnTo>
                    <a:lnTo>
                      <a:pt x="943" y="631"/>
                    </a:lnTo>
                    <a:lnTo>
                      <a:pt x="943" y="624"/>
                    </a:lnTo>
                    <a:lnTo>
                      <a:pt x="939" y="627"/>
                    </a:lnTo>
                    <a:lnTo>
                      <a:pt x="943" y="634"/>
                    </a:lnTo>
                    <a:lnTo>
                      <a:pt x="943" y="634"/>
                    </a:lnTo>
                    <a:lnTo>
                      <a:pt x="943" y="634"/>
                    </a:lnTo>
                    <a:lnTo>
                      <a:pt x="950" y="642"/>
                    </a:lnTo>
                    <a:lnTo>
                      <a:pt x="954" y="645"/>
                    </a:lnTo>
                    <a:lnTo>
                      <a:pt x="954" y="645"/>
                    </a:lnTo>
                    <a:lnTo>
                      <a:pt x="961" y="649"/>
                    </a:lnTo>
                    <a:lnTo>
                      <a:pt x="972" y="653"/>
                    </a:lnTo>
                    <a:lnTo>
                      <a:pt x="983" y="656"/>
                    </a:lnTo>
                    <a:lnTo>
                      <a:pt x="983" y="656"/>
                    </a:lnTo>
                    <a:lnTo>
                      <a:pt x="983" y="656"/>
                    </a:lnTo>
                    <a:lnTo>
                      <a:pt x="990" y="656"/>
                    </a:lnTo>
                    <a:lnTo>
                      <a:pt x="990" y="649"/>
                    </a:lnTo>
                    <a:lnTo>
                      <a:pt x="990" y="656"/>
                    </a:lnTo>
                    <a:lnTo>
                      <a:pt x="1001" y="660"/>
                    </a:lnTo>
                    <a:lnTo>
                      <a:pt x="1001" y="660"/>
                    </a:lnTo>
                    <a:lnTo>
                      <a:pt x="1004" y="660"/>
                    </a:lnTo>
                    <a:lnTo>
                      <a:pt x="1015" y="656"/>
                    </a:lnTo>
                    <a:lnTo>
                      <a:pt x="1012" y="649"/>
                    </a:lnTo>
                    <a:lnTo>
                      <a:pt x="1012" y="656"/>
                    </a:lnTo>
                    <a:lnTo>
                      <a:pt x="1022" y="656"/>
                    </a:lnTo>
                    <a:lnTo>
                      <a:pt x="1022" y="656"/>
                    </a:lnTo>
                    <a:lnTo>
                      <a:pt x="1026" y="656"/>
                    </a:lnTo>
                    <a:lnTo>
                      <a:pt x="1033" y="653"/>
                    </a:lnTo>
                    <a:lnTo>
                      <a:pt x="1044" y="649"/>
                    </a:lnTo>
                    <a:lnTo>
                      <a:pt x="1044" y="649"/>
                    </a:lnTo>
                    <a:lnTo>
                      <a:pt x="1044" y="645"/>
                    </a:lnTo>
                    <a:lnTo>
                      <a:pt x="1051" y="638"/>
                    </a:lnTo>
                    <a:lnTo>
                      <a:pt x="1059" y="631"/>
                    </a:lnTo>
                    <a:lnTo>
                      <a:pt x="1066" y="624"/>
                    </a:lnTo>
                    <a:lnTo>
                      <a:pt x="1070" y="624"/>
                    </a:lnTo>
                    <a:lnTo>
                      <a:pt x="1070" y="624"/>
                    </a:lnTo>
                    <a:lnTo>
                      <a:pt x="1077" y="613"/>
                    </a:lnTo>
                    <a:lnTo>
                      <a:pt x="1080" y="602"/>
                    </a:lnTo>
                    <a:lnTo>
                      <a:pt x="1084" y="587"/>
                    </a:lnTo>
                    <a:lnTo>
                      <a:pt x="1084" y="587"/>
                    </a:lnTo>
                    <a:lnTo>
                      <a:pt x="1084" y="584"/>
                    </a:lnTo>
                    <a:lnTo>
                      <a:pt x="1084" y="576"/>
                    </a:lnTo>
                    <a:lnTo>
                      <a:pt x="1084" y="569"/>
                    </a:lnTo>
                    <a:lnTo>
                      <a:pt x="1084" y="562"/>
                    </a:lnTo>
                    <a:lnTo>
                      <a:pt x="1084" y="555"/>
                    </a:lnTo>
                    <a:lnTo>
                      <a:pt x="1084" y="555"/>
                    </a:lnTo>
                    <a:lnTo>
                      <a:pt x="1080" y="551"/>
                    </a:lnTo>
                    <a:lnTo>
                      <a:pt x="1077" y="547"/>
                    </a:lnTo>
                    <a:lnTo>
                      <a:pt x="1073" y="551"/>
                    </a:lnTo>
                    <a:lnTo>
                      <a:pt x="1080" y="551"/>
                    </a:lnTo>
                    <a:lnTo>
                      <a:pt x="1077" y="544"/>
                    </a:lnTo>
                    <a:lnTo>
                      <a:pt x="1070" y="544"/>
                    </a:lnTo>
                    <a:lnTo>
                      <a:pt x="1077" y="544"/>
                    </a:lnTo>
                    <a:lnTo>
                      <a:pt x="1077" y="537"/>
                    </a:lnTo>
                    <a:lnTo>
                      <a:pt x="1077" y="537"/>
                    </a:lnTo>
                    <a:lnTo>
                      <a:pt x="1073" y="533"/>
                    </a:lnTo>
                    <a:lnTo>
                      <a:pt x="1070" y="529"/>
                    </a:lnTo>
                    <a:lnTo>
                      <a:pt x="1066" y="533"/>
                    </a:lnTo>
                    <a:lnTo>
                      <a:pt x="1073" y="533"/>
                    </a:lnTo>
                    <a:lnTo>
                      <a:pt x="1066" y="522"/>
                    </a:lnTo>
                    <a:lnTo>
                      <a:pt x="1062" y="518"/>
                    </a:lnTo>
                    <a:lnTo>
                      <a:pt x="1062" y="518"/>
                    </a:lnTo>
                    <a:lnTo>
                      <a:pt x="1051" y="511"/>
                    </a:lnTo>
                    <a:lnTo>
                      <a:pt x="1041" y="504"/>
                    </a:lnTo>
                    <a:lnTo>
                      <a:pt x="1030" y="497"/>
                    </a:lnTo>
                    <a:lnTo>
                      <a:pt x="1019" y="493"/>
                    </a:lnTo>
                    <a:lnTo>
                      <a:pt x="1008" y="489"/>
                    </a:lnTo>
                    <a:lnTo>
                      <a:pt x="1008" y="489"/>
                    </a:lnTo>
                    <a:lnTo>
                      <a:pt x="1004" y="489"/>
                    </a:lnTo>
                    <a:lnTo>
                      <a:pt x="990" y="489"/>
                    </a:lnTo>
                    <a:lnTo>
                      <a:pt x="979" y="489"/>
                    </a:lnTo>
                    <a:lnTo>
                      <a:pt x="979" y="489"/>
                    </a:lnTo>
                    <a:lnTo>
                      <a:pt x="979" y="489"/>
                    </a:lnTo>
                    <a:lnTo>
                      <a:pt x="968" y="493"/>
                    </a:lnTo>
                    <a:lnTo>
                      <a:pt x="957" y="497"/>
                    </a:lnTo>
                    <a:lnTo>
                      <a:pt x="957" y="500"/>
                    </a:lnTo>
                    <a:lnTo>
                      <a:pt x="957" y="497"/>
                    </a:lnTo>
                    <a:lnTo>
                      <a:pt x="954" y="497"/>
                    </a:lnTo>
                    <a:lnTo>
                      <a:pt x="954" y="497"/>
                    </a:lnTo>
                    <a:lnTo>
                      <a:pt x="950" y="497"/>
                    </a:lnTo>
                    <a:lnTo>
                      <a:pt x="946" y="500"/>
                    </a:lnTo>
                    <a:lnTo>
                      <a:pt x="943" y="504"/>
                    </a:lnTo>
                    <a:lnTo>
                      <a:pt x="943" y="508"/>
                    </a:lnTo>
                    <a:lnTo>
                      <a:pt x="943" y="508"/>
                    </a:lnTo>
                    <a:lnTo>
                      <a:pt x="939" y="515"/>
                    </a:lnTo>
                    <a:lnTo>
                      <a:pt x="943" y="515"/>
                    </a:lnTo>
                    <a:lnTo>
                      <a:pt x="939" y="511"/>
                    </a:lnTo>
                    <a:lnTo>
                      <a:pt x="932" y="518"/>
                    </a:lnTo>
                    <a:lnTo>
                      <a:pt x="925" y="526"/>
                    </a:lnTo>
                    <a:lnTo>
                      <a:pt x="928" y="529"/>
                    </a:lnTo>
                    <a:lnTo>
                      <a:pt x="928" y="526"/>
                    </a:lnTo>
                    <a:lnTo>
                      <a:pt x="921" y="529"/>
                    </a:lnTo>
                    <a:lnTo>
                      <a:pt x="914" y="533"/>
                    </a:lnTo>
                    <a:lnTo>
                      <a:pt x="914" y="537"/>
                    </a:lnTo>
                    <a:lnTo>
                      <a:pt x="914" y="533"/>
                    </a:lnTo>
                    <a:lnTo>
                      <a:pt x="906" y="533"/>
                    </a:lnTo>
                    <a:lnTo>
                      <a:pt x="896" y="533"/>
                    </a:lnTo>
                    <a:lnTo>
                      <a:pt x="888" y="533"/>
                    </a:lnTo>
                    <a:lnTo>
                      <a:pt x="888" y="537"/>
                    </a:lnTo>
                    <a:lnTo>
                      <a:pt x="892" y="533"/>
                    </a:lnTo>
                    <a:lnTo>
                      <a:pt x="885" y="529"/>
                    </a:lnTo>
                    <a:lnTo>
                      <a:pt x="885" y="529"/>
                    </a:lnTo>
                    <a:lnTo>
                      <a:pt x="881" y="529"/>
                    </a:lnTo>
                    <a:lnTo>
                      <a:pt x="874" y="529"/>
                    </a:lnTo>
                    <a:lnTo>
                      <a:pt x="874" y="533"/>
                    </a:lnTo>
                    <a:lnTo>
                      <a:pt x="877" y="529"/>
                    </a:lnTo>
                    <a:lnTo>
                      <a:pt x="870" y="526"/>
                    </a:lnTo>
                    <a:lnTo>
                      <a:pt x="867" y="529"/>
                    </a:lnTo>
                    <a:lnTo>
                      <a:pt x="870" y="526"/>
                    </a:lnTo>
                    <a:lnTo>
                      <a:pt x="863" y="518"/>
                    </a:lnTo>
                    <a:lnTo>
                      <a:pt x="863" y="518"/>
                    </a:lnTo>
                    <a:lnTo>
                      <a:pt x="863" y="518"/>
                    </a:lnTo>
                    <a:lnTo>
                      <a:pt x="856" y="515"/>
                    </a:lnTo>
                    <a:lnTo>
                      <a:pt x="852" y="518"/>
                    </a:lnTo>
                    <a:lnTo>
                      <a:pt x="856" y="515"/>
                    </a:lnTo>
                    <a:lnTo>
                      <a:pt x="852" y="511"/>
                    </a:lnTo>
                    <a:lnTo>
                      <a:pt x="848" y="515"/>
                    </a:lnTo>
                    <a:lnTo>
                      <a:pt x="856" y="515"/>
                    </a:lnTo>
                    <a:lnTo>
                      <a:pt x="852" y="508"/>
                    </a:lnTo>
                    <a:lnTo>
                      <a:pt x="852" y="508"/>
                    </a:lnTo>
                    <a:lnTo>
                      <a:pt x="848" y="504"/>
                    </a:lnTo>
                    <a:lnTo>
                      <a:pt x="845" y="500"/>
                    </a:lnTo>
                    <a:lnTo>
                      <a:pt x="841" y="504"/>
                    </a:lnTo>
                    <a:lnTo>
                      <a:pt x="848" y="504"/>
                    </a:lnTo>
                    <a:lnTo>
                      <a:pt x="848" y="497"/>
                    </a:lnTo>
                    <a:lnTo>
                      <a:pt x="848" y="478"/>
                    </a:lnTo>
                    <a:lnTo>
                      <a:pt x="848" y="453"/>
                    </a:lnTo>
                    <a:lnTo>
                      <a:pt x="848" y="413"/>
                    </a:lnTo>
                    <a:lnTo>
                      <a:pt x="848" y="373"/>
                    </a:lnTo>
                    <a:lnTo>
                      <a:pt x="848" y="333"/>
                    </a:lnTo>
                    <a:lnTo>
                      <a:pt x="848" y="290"/>
                    </a:lnTo>
                    <a:lnTo>
                      <a:pt x="848" y="254"/>
                    </a:lnTo>
                    <a:lnTo>
                      <a:pt x="848" y="225"/>
                    </a:lnTo>
                    <a:lnTo>
                      <a:pt x="848" y="217"/>
                    </a:lnTo>
                    <a:lnTo>
                      <a:pt x="841" y="221"/>
                    </a:lnTo>
                    <a:lnTo>
                      <a:pt x="830" y="225"/>
                    </a:lnTo>
                    <a:lnTo>
                      <a:pt x="819" y="232"/>
                    </a:lnTo>
                    <a:lnTo>
                      <a:pt x="819" y="235"/>
                    </a:lnTo>
                    <a:lnTo>
                      <a:pt x="819" y="232"/>
                    </a:lnTo>
                    <a:lnTo>
                      <a:pt x="805" y="235"/>
                    </a:lnTo>
                    <a:lnTo>
                      <a:pt x="790" y="239"/>
                    </a:lnTo>
                    <a:lnTo>
                      <a:pt x="776" y="243"/>
                    </a:lnTo>
                    <a:lnTo>
                      <a:pt x="761" y="243"/>
                    </a:lnTo>
                    <a:lnTo>
                      <a:pt x="743" y="243"/>
                    </a:lnTo>
                    <a:lnTo>
                      <a:pt x="725" y="243"/>
                    </a:lnTo>
                    <a:lnTo>
                      <a:pt x="711" y="243"/>
                    </a:lnTo>
                    <a:lnTo>
                      <a:pt x="693" y="243"/>
                    </a:lnTo>
                    <a:lnTo>
                      <a:pt x="674" y="239"/>
                    </a:lnTo>
                    <a:lnTo>
                      <a:pt x="660" y="235"/>
                    </a:lnTo>
                    <a:lnTo>
                      <a:pt x="645" y="232"/>
                    </a:lnTo>
                    <a:lnTo>
                      <a:pt x="631" y="228"/>
                    </a:lnTo>
                    <a:lnTo>
                      <a:pt x="616" y="225"/>
                    </a:lnTo>
                    <a:lnTo>
                      <a:pt x="616" y="228"/>
                    </a:lnTo>
                    <a:lnTo>
                      <a:pt x="620" y="225"/>
                    </a:lnTo>
                    <a:lnTo>
                      <a:pt x="609" y="221"/>
                    </a:lnTo>
                    <a:lnTo>
                      <a:pt x="602" y="217"/>
                    </a:lnTo>
                    <a:lnTo>
                      <a:pt x="598" y="221"/>
                    </a:lnTo>
                    <a:lnTo>
                      <a:pt x="602" y="217"/>
                    </a:lnTo>
                    <a:lnTo>
                      <a:pt x="595" y="210"/>
                    </a:lnTo>
                    <a:lnTo>
                      <a:pt x="595" y="210"/>
                    </a:lnTo>
                    <a:lnTo>
                      <a:pt x="595" y="210"/>
                    </a:lnTo>
                    <a:lnTo>
                      <a:pt x="587" y="206"/>
                    </a:lnTo>
                    <a:lnTo>
                      <a:pt x="580" y="203"/>
                    </a:lnTo>
                    <a:lnTo>
                      <a:pt x="577" y="206"/>
                    </a:lnTo>
                    <a:lnTo>
                      <a:pt x="580" y="203"/>
                    </a:lnTo>
                    <a:lnTo>
                      <a:pt x="577" y="199"/>
                    </a:lnTo>
                    <a:lnTo>
                      <a:pt x="573" y="196"/>
                    </a:lnTo>
                    <a:lnTo>
                      <a:pt x="569" y="199"/>
                    </a:lnTo>
                    <a:lnTo>
                      <a:pt x="577" y="199"/>
                    </a:lnTo>
                    <a:lnTo>
                      <a:pt x="577" y="192"/>
                    </a:lnTo>
                    <a:lnTo>
                      <a:pt x="577" y="188"/>
                    </a:lnTo>
                    <a:lnTo>
                      <a:pt x="577" y="185"/>
                    </a:lnTo>
                    <a:lnTo>
                      <a:pt x="577" y="177"/>
                    </a:lnTo>
                    <a:lnTo>
                      <a:pt x="569" y="177"/>
                    </a:lnTo>
                    <a:lnTo>
                      <a:pt x="573" y="181"/>
                    </a:lnTo>
                    <a:lnTo>
                      <a:pt x="577" y="177"/>
                    </a:lnTo>
                    <a:lnTo>
                      <a:pt x="580" y="177"/>
                    </a:lnTo>
                    <a:lnTo>
                      <a:pt x="580" y="177"/>
                    </a:lnTo>
                    <a:lnTo>
                      <a:pt x="584" y="170"/>
                    </a:lnTo>
                    <a:lnTo>
                      <a:pt x="591" y="156"/>
                    </a:lnTo>
                    <a:lnTo>
                      <a:pt x="584" y="152"/>
                    </a:lnTo>
                    <a:lnTo>
                      <a:pt x="587" y="156"/>
                    </a:lnTo>
                    <a:lnTo>
                      <a:pt x="602" y="141"/>
                    </a:lnTo>
                    <a:lnTo>
                      <a:pt x="609" y="134"/>
                    </a:lnTo>
                    <a:lnTo>
                      <a:pt x="613" y="134"/>
                    </a:lnTo>
                    <a:lnTo>
                      <a:pt x="613" y="134"/>
                    </a:lnTo>
                    <a:lnTo>
                      <a:pt x="620" y="123"/>
                    </a:lnTo>
                    <a:lnTo>
                      <a:pt x="624" y="112"/>
                    </a:lnTo>
                    <a:lnTo>
                      <a:pt x="627" y="101"/>
                    </a:lnTo>
                    <a:lnTo>
                      <a:pt x="627" y="101"/>
                    </a:lnTo>
                    <a:lnTo>
                      <a:pt x="627" y="98"/>
                    </a:lnTo>
                    <a:lnTo>
                      <a:pt x="627" y="87"/>
                    </a:lnTo>
                    <a:lnTo>
                      <a:pt x="627" y="76"/>
                    </a:lnTo>
                    <a:lnTo>
                      <a:pt x="627" y="65"/>
                    </a:lnTo>
                    <a:lnTo>
                      <a:pt x="627" y="65"/>
                    </a:lnTo>
                    <a:lnTo>
                      <a:pt x="627" y="65"/>
                    </a:lnTo>
                    <a:lnTo>
                      <a:pt x="624" y="54"/>
                    </a:lnTo>
                    <a:lnTo>
                      <a:pt x="620" y="43"/>
                    </a:lnTo>
                    <a:lnTo>
                      <a:pt x="613" y="32"/>
                    </a:lnTo>
                    <a:lnTo>
                      <a:pt x="613" y="32"/>
                    </a:lnTo>
                    <a:lnTo>
                      <a:pt x="609" y="29"/>
                    </a:lnTo>
                    <a:lnTo>
                      <a:pt x="606" y="25"/>
                    </a:lnTo>
                    <a:lnTo>
                      <a:pt x="606" y="25"/>
                    </a:lnTo>
                    <a:lnTo>
                      <a:pt x="606" y="25"/>
                    </a:lnTo>
                    <a:lnTo>
                      <a:pt x="598" y="21"/>
                    </a:lnTo>
                    <a:lnTo>
                      <a:pt x="595" y="25"/>
                    </a:lnTo>
                    <a:lnTo>
                      <a:pt x="598" y="21"/>
                    </a:lnTo>
                    <a:lnTo>
                      <a:pt x="595" y="18"/>
                    </a:lnTo>
                    <a:lnTo>
                      <a:pt x="595" y="18"/>
                    </a:lnTo>
                    <a:lnTo>
                      <a:pt x="595" y="18"/>
                    </a:lnTo>
                    <a:lnTo>
                      <a:pt x="587" y="14"/>
                    </a:lnTo>
                    <a:lnTo>
                      <a:pt x="584" y="18"/>
                    </a:lnTo>
                    <a:lnTo>
                      <a:pt x="587" y="14"/>
                    </a:lnTo>
                    <a:lnTo>
                      <a:pt x="584" y="11"/>
                    </a:lnTo>
                    <a:lnTo>
                      <a:pt x="584" y="11"/>
                    </a:lnTo>
                    <a:lnTo>
                      <a:pt x="584" y="11"/>
                    </a:lnTo>
                    <a:lnTo>
                      <a:pt x="577" y="7"/>
                    </a:lnTo>
                    <a:lnTo>
                      <a:pt x="577" y="7"/>
                    </a:lnTo>
                    <a:lnTo>
                      <a:pt x="573" y="7"/>
                    </a:lnTo>
                    <a:lnTo>
                      <a:pt x="566" y="7"/>
                    </a:lnTo>
                    <a:lnTo>
                      <a:pt x="566" y="11"/>
                    </a:lnTo>
                    <a:lnTo>
                      <a:pt x="569" y="7"/>
                    </a:lnTo>
                    <a:lnTo>
                      <a:pt x="562" y="3"/>
                    </a:lnTo>
                    <a:lnTo>
                      <a:pt x="562" y="3"/>
                    </a:lnTo>
                    <a:lnTo>
                      <a:pt x="558" y="3"/>
                    </a:lnTo>
                    <a:lnTo>
                      <a:pt x="548" y="3"/>
                    </a:lnTo>
                    <a:lnTo>
                      <a:pt x="548" y="7"/>
                    </a:lnTo>
                    <a:lnTo>
                      <a:pt x="551" y="3"/>
                    </a:lnTo>
                    <a:lnTo>
                      <a:pt x="544" y="0"/>
                    </a:lnTo>
                    <a:lnTo>
                      <a:pt x="544" y="0"/>
                    </a:lnTo>
                    <a:lnTo>
                      <a:pt x="540" y="0"/>
                    </a:lnTo>
                    <a:lnTo>
                      <a:pt x="533" y="0"/>
                    </a:lnTo>
                    <a:lnTo>
                      <a:pt x="522" y="0"/>
                    </a:lnTo>
                    <a:lnTo>
                      <a:pt x="515" y="0"/>
                    </a:lnTo>
                    <a:lnTo>
                      <a:pt x="515" y="0"/>
                    </a:lnTo>
                    <a:lnTo>
                      <a:pt x="515" y="0"/>
                    </a:lnTo>
                    <a:lnTo>
                      <a:pt x="504" y="3"/>
                    </a:lnTo>
                    <a:lnTo>
                      <a:pt x="504" y="7"/>
                    </a:lnTo>
                    <a:lnTo>
                      <a:pt x="504" y="3"/>
                    </a:lnTo>
                    <a:lnTo>
                      <a:pt x="497" y="3"/>
                    </a:lnTo>
                    <a:lnTo>
                      <a:pt x="489" y="3"/>
                    </a:lnTo>
                    <a:lnTo>
                      <a:pt x="489" y="3"/>
                    </a:lnTo>
                    <a:lnTo>
                      <a:pt x="486" y="3"/>
                    </a:lnTo>
                    <a:lnTo>
                      <a:pt x="482" y="7"/>
                    </a:lnTo>
                    <a:lnTo>
                      <a:pt x="486" y="11"/>
                    </a:lnTo>
                    <a:lnTo>
                      <a:pt x="486" y="7"/>
                    </a:lnTo>
                    <a:lnTo>
                      <a:pt x="479" y="11"/>
                    </a:lnTo>
                    <a:lnTo>
                      <a:pt x="479" y="11"/>
                    </a:lnTo>
                    <a:lnTo>
                      <a:pt x="475" y="11"/>
                    </a:lnTo>
                    <a:lnTo>
                      <a:pt x="471" y="14"/>
                    </a:lnTo>
                    <a:lnTo>
                      <a:pt x="475" y="18"/>
                    </a:lnTo>
                    <a:lnTo>
                      <a:pt x="475" y="14"/>
                    </a:lnTo>
                    <a:lnTo>
                      <a:pt x="468" y="18"/>
                    </a:lnTo>
                    <a:lnTo>
                      <a:pt x="468" y="18"/>
                    </a:lnTo>
                    <a:lnTo>
                      <a:pt x="464" y="18"/>
                    </a:lnTo>
                    <a:lnTo>
                      <a:pt x="460" y="21"/>
                    </a:lnTo>
                    <a:lnTo>
                      <a:pt x="457" y="25"/>
                    </a:lnTo>
                    <a:lnTo>
                      <a:pt x="453" y="29"/>
                    </a:lnTo>
                    <a:lnTo>
                      <a:pt x="453" y="32"/>
                    </a:lnTo>
                    <a:lnTo>
                      <a:pt x="453" y="32"/>
                    </a:lnTo>
                    <a:lnTo>
                      <a:pt x="450" y="40"/>
                    </a:lnTo>
                    <a:lnTo>
                      <a:pt x="446" y="50"/>
                    </a:lnTo>
                    <a:lnTo>
                      <a:pt x="442" y="61"/>
                    </a:lnTo>
                    <a:lnTo>
                      <a:pt x="442" y="61"/>
                    </a:lnTo>
                    <a:lnTo>
                      <a:pt x="442" y="61"/>
                    </a:lnTo>
                    <a:lnTo>
                      <a:pt x="442" y="72"/>
                    </a:lnTo>
                    <a:lnTo>
                      <a:pt x="442" y="83"/>
                    </a:lnTo>
                    <a:lnTo>
                      <a:pt x="442" y="98"/>
                    </a:lnTo>
                    <a:lnTo>
                      <a:pt x="442" y="101"/>
                    </a:lnTo>
                    <a:lnTo>
                      <a:pt x="442" y="101"/>
                    </a:lnTo>
                    <a:lnTo>
                      <a:pt x="446" y="112"/>
                    </a:lnTo>
                    <a:lnTo>
                      <a:pt x="450" y="127"/>
                    </a:lnTo>
                    <a:lnTo>
                      <a:pt x="457" y="138"/>
                    </a:lnTo>
                    <a:lnTo>
                      <a:pt x="460" y="148"/>
                    </a:lnTo>
                    <a:lnTo>
                      <a:pt x="460" y="148"/>
                    </a:lnTo>
                    <a:lnTo>
                      <a:pt x="464" y="152"/>
                    </a:lnTo>
                    <a:lnTo>
                      <a:pt x="475" y="159"/>
                    </a:lnTo>
                    <a:lnTo>
                      <a:pt x="475" y="152"/>
                    </a:lnTo>
                    <a:lnTo>
                      <a:pt x="471" y="156"/>
                    </a:lnTo>
                    <a:lnTo>
                      <a:pt x="475" y="163"/>
                    </a:lnTo>
                    <a:lnTo>
                      <a:pt x="475" y="163"/>
                    </a:lnTo>
                    <a:lnTo>
                      <a:pt x="475" y="163"/>
                    </a:lnTo>
                    <a:lnTo>
                      <a:pt x="482" y="170"/>
                    </a:lnTo>
                    <a:lnTo>
                      <a:pt x="486" y="167"/>
                    </a:lnTo>
                    <a:lnTo>
                      <a:pt x="482" y="167"/>
                    </a:lnTo>
                    <a:lnTo>
                      <a:pt x="482" y="174"/>
                    </a:lnTo>
                    <a:lnTo>
                      <a:pt x="482" y="177"/>
                    </a:lnTo>
                    <a:lnTo>
                      <a:pt x="482" y="177"/>
                    </a:lnTo>
                    <a:lnTo>
                      <a:pt x="486" y="185"/>
                    </a:lnTo>
                    <a:lnTo>
                      <a:pt x="489" y="181"/>
                    </a:lnTo>
                    <a:lnTo>
                      <a:pt x="486" y="181"/>
                    </a:lnTo>
                    <a:lnTo>
                      <a:pt x="486" y="188"/>
                    </a:lnTo>
                    <a:lnTo>
                      <a:pt x="486" y="196"/>
                    </a:lnTo>
                    <a:lnTo>
                      <a:pt x="489" y="196"/>
                    </a:lnTo>
                    <a:lnTo>
                      <a:pt x="486" y="196"/>
                    </a:lnTo>
                    <a:lnTo>
                      <a:pt x="482" y="203"/>
                    </a:lnTo>
                    <a:lnTo>
                      <a:pt x="479" y="210"/>
                    </a:lnTo>
                    <a:lnTo>
                      <a:pt x="482" y="210"/>
                    </a:lnTo>
                    <a:lnTo>
                      <a:pt x="479" y="206"/>
                    </a:lnTo>
                    <a:lnTo>
                      <a:pt x="475" y="210"/>
                    </a:lnTo>
                    <a:lnTo>
                      <a:pt x="468" y="217"/>
                    </a:lnTo>
                    <a:lnTo>
                      <a:pt x="471" y="221"/>
                    </a:lnTo>
                    <a:lnTo>
                      <a:pt x="471" y="217"/>
                    </a:lnTo>
                    <a:lnTo>
                      <a:pt x="460" y="221"/>
                    </a:lnTo>
                    <a:lnTo>
                      <a:pt x="460" y="225"/>
                    </a:lnTo>
                    <a:lnTo>
                      <a:pt x="460" y="221"/>
                    </a:lnTo>
                    <a:lnTo>
                      <a:pt x="453" y="221"/>
                    </a:lnTo>
                    <a:lnTo>
                      <a:pt x="442" y="221"/>
                    </a:lnTo>
                    <a:lnTo>
                      <a:pt x="431" y="221"/>
                    </a:lnTo>
                    <a:lnTo>
                      <a:pt x="417" y="217"/>
                    </a:lnTo>
                    <a:lnTo>
                      <a:pt x="417" y="221"/>
                    </a:lnTo>
                    <a:lnTo>
                      <a:pt x="421" y="217"/>
                    </a:lnTo>
                    <a:lnTo>
                      <a:pt x="406" y="210"/>
                    </a:lnTo>
                    <a:lnTo>
                      <a:pt x="406" y="210"/>
                    </a:lnTo>
                    <a:lnTo>
                      <a:pt x="402" y="210"/>
                    </a:lnTo>
                    <a:lnTo>
                      <a:pt x="392" y="210"/>
                    </a:lnTo>
                    <a:lnTo>
                      <a:pt x="392" y="214"/>
                    </a:lnTo>
                    <a:lnTo>
                      <a:pt x="395" y="210"/>
                    </a:lnTo>
                    <a:lnTo>
                      <a:pt x="388" y="206"/>
                    </a:lnTo>
                    <a:lnTo>
                      <a:pt x="377" y="203"/>
                    </a:lnTo>
                    <a:lnTo>
                      <a:pt x="377" y="203"/>
                    </a:lnTo>
                    <a:lnTo>
                      <a:pt x="373" y="203"/>
                    </a:lnTo>
                    <a:lnTo>
                      <a:pt x="363" y="203"/>
                    </a:lnTo>
                    <a:lnTo>
                      <a:pt x="341" y="203"/>
                    </a:lnTo>
                    <a:lnTo>
                      <a:pt x="315" y="203"/>
                    </a:lnTo>
                    <a:lnTo>
                      <a:pt x="290" y="206"/>
                    </a:lnTo>
                    <a:lnTo>
                      <a:pt x="265" y="210"/>
                    </a:lnTo>
                    <a:lnTo>
                      <a:pt x="239" y="214"/>
                    </a:lnTo>
                    <a:lnTo>
                      <a:pt x="236" y="214"/>
                    </a:lnTo>
                    <a:lnTo>
                      <a:pt x="239" y="214"/>
                    </a:lnTo>
                    <a:lnTo>
                      <a:pt x="214" y="221"/>
                    </a:lnTo>
                    <a:lnTo>
                      <a:pt x="210" y="221"/>
                    </a:lnTo>
                    <a:lnTo>
                      <a:pt x="210" y="225"/>
                    </a:lnTo>
                    <a:lnTo>
                      <a:pt x="210" y="228"/>
                    </a:lnTo>
                    <a:lnTo>
                      <a:pt x="210" y="243"/>
                    </a:lnTo>
                    <a:lnTo>
                      <a:pt x="210" y="254"/>
                    </a:lnTo>
                    <a:lnTo>
                      <a:pt x="210" y="272"/>
                    </a:lnTo>
                    <a:lnTo>
                      <a:pt x="214" y="308"/>
                    </a:lnTo>
                    <a:lnTo>
                      <a:pt x="218" y="352"/>
                    </a:lnTo>
                    <a:lnTo>
                      <a:pt x="221" y="370"/>
                    </a:lnTo>
                    <a:lnTo>
                      <a:pt x="221" y="391"/>
                    </a:lnTo>
                    <a:lnTo>
                      <a:pt x="221" y="413"/>
                    </a:lnTo>
                    <a:lnTo>
                      <a:pt x="221" y="413"/>
                    </a:lnTo>
                    <a:lnTo>
                      <a:pt x="221" y="417"/>
                    </a:lnTo>
                    <a:lnTo>
                      <a:pt x="225" y="431"/>
                    </a:lnTo>
                    <a:lnTo>
                      <a:pt x="228" y="428"/>
                    </a:lnTo>
                    <a:lnTo>
                      <a:pt x="225" y="428"/>
                    </a:lnTo>
                    <a:lnTo>
                      <a:pt x="221" y="446"/>
                    </a:lnTo>
                    <a:lnTo>
                      <a:pt x="221" y="460"/>
                    </a:lnTo>
                    <a:lnTo>
                      <a:pt x="225" y="460"/>
                    </a:lnTo>
                    <a:lnTo>
                      <a:pt x="221" y="460"/>
                    </a:lnTo>
                    <a:lnTo>
                      <a:pt x="218" y="468"/>
                    </a:lnTo>
                    <a:lnTo>
                      <a:pt x="218" y="468"/>
                    </a:lnTo>
                    <a:lnTo>
                      <a:pt x="218" y="468"/>
                    </a:lnTo>
                    <a:lnTo>
                      <a:pt x="218" y="471"/>
                    </a:lnTo>
                    <a:lnTo>
                      <a:pt x="221" y="471"/>
                    </a:lnTo>
                    <a:lnTo>
                      <a:pt x="218" y="468"/>
                    </a:lnTo>
                    <a:lnTo>
                      <a:pt x="214" y="471"/>
                    </a:lnTo>
                    <a:lnTo>
                      <a:pt x="210" y="475"/>
                    </a:lnTo>
                    <a:lnTo>
                      <a:pt x="207" y="478"/>
                    </a:lnTo>
                    <a:close/>
                    <a:moveTo>
                      <a:pt x="218" y="482"/>
                    </a:moveTo>
                    <a:lnTo>
                      <a:pt x="221" y="478"/>
                    </a:lnTo>
                    <a:lnTo>
                      <a:pt x="225" y="475"/>
                    </a:lnTo>
                    <a:lnTo>
                      <a:pt x="228" y="475"/>
                    </a:lnTo>
                    <a:lnTo>
                      <a:pt x="228" y="471"/>
                    </a:lnTo>
                    <a:lnTo>
                      <a:pt x="228" y="468"/>
                    </a:lnTo>
                    <a:lnTo>
                      <a:pt x="221" y="468"/>
                    </a:lnTo>
                    <a:lnTo>
                      <a:pt x="228" y="471"/>
                    </a:lnTo>
                    <a:lnTo>
                      <a:pt x="232" y="464"/>
                    </a:lnTo>
                    <a:lnTo>
                      <a:pt x="232" y="464"/>
                    </a:lnTo>
                    <a:lnTo>
                      <a:pt x="232" y="460"/>
                    </a:lnTo>
                    <a:lnTo>
                      <a:pt x="232" y="446"/>
                    </a:lnTo>
                    <a:lnTo>
                      <a:pt x="236" y="428"/>
                    </a:lnTo>
                    <a:lnTo>
                      <a:pt x="236" y="428"/>
                    </a:lnTo>
                    <a:lnTo>
                      <a:pt x="236" y="428"/>
                    </a:lnTo>
                    <a:lnTo>
                      <a:pt x="232" y="413"/>
                    </a:lnTo>
                    <a:lnTo>
                      <a:pt x="225" y="413"/>
                    </a:lnTo>
                    <a:lnTo>
                      <a:pt x="232" y="413"/>
                    </a:lnTo>
                    <a:lnTo>
                      <a:pt x="232" y="391"/>
                    </a:lnTo>
                    <a:lnTo>
                      <a:pt x="232" y="370"/>
                    </a:lnTo>
                    <a:lnTo>
                      <a:pt x="228" y="352"/>
                    </a:lnTo>
                    <a:lnTo>
                      <a:pt x="225" y="308"/>
                    </a:lnTo>
                    <a:lnTo>
                      <a:pt x="221" y="272"/>
                    </a:lnTo>
                    <a:lnTo>
                      <a:pt x="221" y="254"/>
                    </a:lnTo>
                    <a:lnTo>
                      <a:pt x="221" y="243"/>
                    </a:lnTo>
                    <a:lnTo>
                      <a:pt x="221" y="228"/>
                    </a:lnTo>
                    <a:lnTo>
                      <a:pt x="221" y="225"/>
                    </a:lnTo>
                    <a:lnTo>
                      <a:pt x="214" y="225"/>
                    </a:lnTo>
                    <a:lnTo>
                      <a:pt x="218" y="232"/>
                    </a:lnTo>
                    <a:lnTo>
                      <a:pt x="243" y="225"/>
                    </a:lnTo>
                    <a:lnTo>
                      <a:pt x="239" y="217"/>
                    </a:lnTo>
                    <a:lnTo>
                      <a:pt x="239" y="225"/>
                    </a:lnTo>
                    <a:lnTo>
                      <a:pt x="265" y="221"/>
                    </a:lnTo>
                    <a:lnTo>
                      <a:pt x="290" y="217"/>
                    </a:lnTo>
                    <a:lnTo>
                      <a:pt x="315" y="214"/>
                    </a:lnTo>
                    <a:lnTo>
                      <a:pt x="341" y="214"/>
                    </a:lnTo>
                    <a:lnTo>
                      <a:pt x="363" y="214"/>
                    </a:lnTo>
                    <a:lnTo>
                      <a:pt x="373" y="214"/>
                    </a:lnTo>
                    <a:lnTo>
                      <a:pt x="373" y="206"/>
                    </a:lnTo>
                    <a:lnTo>
                      <a:pt x="373" y="214"/>
                    </a:lnTo>
                    <a:lnTo>
                      <a:pt x="384" y="217"/>
                    </a:lnTo>
                    <a:lnTo>
                      <a:pt x="392" y="221"/>
                    </a:lnTo>
                    <a:lnTo>
                      <a:pt x="392" y="221"/>
                    </a:lnTo>
                    <a:lnTo>
                      <a:pt x="392" y="221"/>
                    </a:lnTo>
                    <a:lnTo>
                      <a:pt x="402" y="221"/>
                    </a:lnTo>
                    <a:lnTo>
                      <a:pt x="402" y="214"/>
                    </a:lnTo>
                    <a:lnTo>
                      <a:pt x="402" y="221"/>
                    </a:lnTo>
                    <a:lnTo>
                      <a:pt x="417" y="228"/>
                    </a:lnTo>
                    <a:lnTo>
                      <a:pt x="413" y="225"/>
                    </a:lnTo>
                    <a:lnTo>
                      <a:pt x="417" y="228"/>
                    </a:lnTo>
                    <a:lnTo>
                      <a:pt x="431" y="232"/>
                    </a:lnTo>
                    <a:lnTo>
                      <a:pt x="442" y="232"/>
                    </a:lnTo>
                    <a:lnTo>
                      <a:pt x="453" y="232"/>
                    </a:lnTo>
                    <a:lnTo>
                      <a:pt x="460" y="232"/>
                    </a:lnTo>
                    <a:lnTo>
                      <a:pt x="464" y="232"/>
                    </a:lnTo>
                    <a:lnTo>
                      <a:pt x="464" y="232"/>
                    </a:lnTo>
                    <a:lnTo>
                      <a:pt x="475" y="228"/>
                    </a:lnTo>
                    <a:lnTo>
                      <a:pt x="475" y="228"/>
                    </a:lnTo>
                    <a:lnTo>
                      <a:pt x="475" y="225"/>
                    </a:lnTo>
                    <a:lnTo>
                      <a:pt x="482" y="217"/>
                    </a:lnTo>
                    <a:lnTo>
                      <a:pt x="486" y="214"/>
                    </a:lnTo>
                    <a:lnTo>
                      <a:pt x="489" y="214"/>
                    </a:lnTo>
                    <a:lnTo>
                      <a:pt x="489" y="214"/>
                    </a:lnTo>
                    <a:lnTo>
                      <a:pt x="493" y="206"/>
                    </a:lnTo>
                    <a:lnTo>
                      <a:pt x="497" y="199"/>
                    </a:lnTo>
                    <a:lnTo>
                      <a:pt x="497" y="199"/>
                    </a:lnTo>
                    <a:lnTo>
                      <a:pt x="497" y="196"/>
                    </a:lnTo>
                    <a:lnTo>
                      <a:pt x="497" y="188"/>
                    </a:lnTo>
                    <a:lnTo>
                      <a:pt x="497" y="181"/>
                    </a:lnTo>
                    <a:lnTo>
                      <a:pt x="497" y="181"/>
                    </a:lnTo>
                    <a:lnTo>
                      <a:pt x="497" y="181"/>
                    </a:lnTo>
                    <a:lnTo>
                      <a:pt x="493" y="174"/>
                    </a:lnTo>
                    <a:lnTo>
                      <a:pt x="486" y="174"/>
                    </a:lnTo>
                    <a:lnTo>
                      <a:pt x="493" y="174"/>
                    </a:lnTo>
                    <a:lnTo>
                      <a:pt x="493" y="167"/>
                    </a:lnTo>
                    <a:lnTo>
                      <a:pt x="493" y="167"/>
                    </a:lnTo>
                    <a:lnTo>
                      <a:pt x="489" y="163"/>
                    </a:lnTo>
                    <a:lnTo>
                      <a:pt x="482" y="156"/>
                    </a:lnTo>
                    <a:lnTo>
                      <a:pt x="479" y="159"/>
                    </a:lnTo>
                    <a:lnTo>
                      <a:pt x="486" y="159"/>
                    </a:lnTo>
                    <a:lnTo>
                      <a:pt x="482" y="152"/>
                    </a:lnTo>
                    <a:lnTo>
                      <a:pt x="479" y="148"/>
                    </a:lnTo>
                    <a:lnTo>
                      <a:pt x="479" y="148"/>
                    </a:lnTo>
                    <a:lnTo>
                      <a:pt x="468" y="141"/>
                    </a:lnTo>
                    <a:lnTo>
                      <a:pt x="464" y="145"/>
                    </a:lnTo>
                    <a:lnTo>
                      <a:pt x="471" y="145"/>
                    </a:lnTo>
                    <a:lnTo>
                      <a:pt x="468" y="134"/>
                    </a:lnTo>
                    <a:lnTo>
                      <a:pt x="460" y="123"/>
                    </a:lnTo>
                    <a:lnTo>
                      <a:pt x="457" y="109"/>
                    </a:lnTo>
                    <a:lnTo>
                      <a:pt x="453" y="98"/>
                    </a:lnTo>
                    <a:lnTo>
                      <a:pt x="446" y="98"/>
                    </a:lnTo>
                    <a:lnTo>
                      <a:pt x="453" y="98"/>
                    </a:lnTo>
                    <a:lnTo>
                      <a:pt x="453" y="83"/>
                    </a:lnTo>
                    <a:lnTo>
                      <a:pt x="453" y="72"/>
                    </a:lnTo>
                    <a:lnTo>
                      <a:pt x="453" y="61"/>
                    </a:lnTo>
                    <a:lnTo>
                      <a:pt x="446" y="61"/>
                    </a:lnTo>
                    <a:lnTo>
                      <a:pt x="453" y="65"/>
                    </a:lnTo>
                    <a:lnTo>
                      <a:pt x="457" y="54"/>
                    </a:lnTo>
                    <a:lnTo>
                      <a:pt x="460" y="43"/>
                    </a:lnTo>
                    <a:lnTo>
                      <a:pt x="464" y="36"/>
                    </a:lnTo>
                    <a:lnTo>
                      <a:pt x="457" y="32"/>
                    </a:lnTo>
                    <a:lnTo>
                      <a:pt x="460" y="36"/>
                    </a:lnTo>
                    <a:lnTo>
                      <a:pt x="464" y="32"/>
                    </a:lnTo>
                    <a:lnTo>
                      <a:pt x="468" y="29"/>
                    </a:lnTo>
                    <a:lnTo>
                      <a:pt x="471" y="25"/>
                    </a:lnTo>
                    <a:lnTo>
                      <a:pt x="468" y="21"/>
                    </a:lnTo>
                    <a:lnTo>
                      <a:pt x="471" y="29"/>
                    </a:lnTo>
                    <a:lnTo>
                      <a:pt x="479" y="25"/>
                    </a:lnTo>
                    <a:lnTo>
                      <a:pt x="479" y="25"/>
                    </a:lnTo>
                    <a:lnTo>
                      <a:pt x="479" y="21"/>
                    </a:lnTo>
                    <a:lnTo>
                      <a:pt x="482" y="18"/>
                    </a:lnTo>
                    <a:lnTo>
                      <a:pt x="479" y="14"/>
                    </a:lnTo>
                    <a:lnTo>
                      <a:pt x="482" y="21"/>
                    </a:lnTo>
                    <a:lnTo>
                      <a:pt x="489" y="18"/>
                    </a:lnTo>
                    <a:lnTo>
                      <a:pt x="489" y="18"/>
                    </a:lnTo>
                    <a:lnTo>
                      <a:pt x="489" y="14"/>
                    </a:lnTo>
                    <a:lnTo>
                      <a:pt x="493" y="11"/>
                    </a:lnTo>
                    <a:lnTo>
                      <a:pt x="489" y="7"/>
                    </a:lnTo>
                    <a:lnTo>
                      <a:pt x="489" y="14"/>
                    </a:lnTo>
                    <a:lnTo>
                      <a:pt x="497" y="14"/>
                    </a:lnTo>
                    <a:lnTo>
                      <a:pt x="504" y="14"/>
                    </a:lnTo>
                    <a:lnTo>
                      <a:pt x="508" y="14"/>
                    </a:lnTo>
                    <a:lnTo>
                      <a:pt x="508" y="14"/>
                    </a:lnTo>
                    <a:lnTo>
                      <a:pt x="518" y="11"/>
                    </a:lnTo>
                    <a:lnTo>
                      <a:pt x="515" y="3"/>
                    </a:lnTo>
                    <a:lnTo>
                      <a:pt x="515" y="11"/>
                    </a:lnTo>
                    <a:lnTo>
                      <a:pt x="522" y="11"/>
                    </a:lnTo>
                    <a:lnTo>
                      <a:pt x="533" y="11"/>
                    </a:lnTo>
                    <a:lnTo>
                      <a:pt x="540" y="11"/>
                    </a:lnTo>
                    <a:lnTo>
                      <a:pt x="540" y="3"/>
                    </a:lnTo>
                    <a:lnTo>
                      <a:pt x="540" y="11"/>
                    </a:lnTo>
                    <a:lnTo>
                      <a:pt x="548" y="14"/>
                    </a:lnTo>
                    <a:lnTo>
                      <a:pt x="548" y="14"/>
                    </a:lnTo>
                    <a:lnTo>
                      <a:pt x="548" y="14"/>
                    </a:lnTo>
                    <a:lnTo>
                      <a:pt x="558" y="14"/>
                    </a:lnTo>
                    <a:lnTo>
                      <a:pt x="558" y="7"/>
                    </a:lnTo>
                    <a:lnTo>
                      <a:pt x="558" y="14"/>
                    </a:lnTo>
                    <a:lnTo>
                      <a:pt x="566" y="18"/>
                    </a:lnTo>
                    <a:lnTo>
                      <a:pt x="566" y="18"/>
                    </a:lnTo>
                    <a:lnTo>
                      <a:pt x="566" y="18"/>
                    </a:lnTo>
                    <a:lnTo>
                      <a:pt x="573" y="18"/>
                    </a:lnTo>
                    <a:lnTo>
                      <a:pt x="573" y="11"/>
                    </a:lnTo>
                    <a:lnTo>
                      <a:pt x="573" y="18"/>
                    </a:lnTo>
                    <a:lnTo>
                      <a:pt x="580" y="21"/>
                    </a:lnTo>
                    <a:lnTo>
                      <a:pt x="580" y="14"/>
                    </a:lnTo>
                    <a:lnTo>
                      <a:pt x="577" y="18"/>
                    </a:lnTo>
                    <a:lnTo>
                      <a:pt x="580" y="21"/>
                    </a:lnTo>
                    <a:lnTo>
                      <a:pt x="584" y="25"/>
                    </a:lnTo>
                    <a:lnTo>
                      <a:pt x="584" y="25"/>
                    </a:lnTo>
                    <a:lnTo>
                      <a:pt x="591" y="29"/>
                    </a:lnTo>
                    <a:lnTo>
                      <a:pt x="591" y="21"/>
                    </a:lnTo>
                    <a:lnTo>
                      <a:pt x="587" y="25"/>
                    </a:lnTo>
                    <a:lnTo>
                      <a:pt x="591" y="29"/>
                    </a:lnTo>
                    <a:lnTo>
                      <a:pt x="595" y="32"/>
                    </a:lnTo>
                    <a:lnTo>
                      <a:pt x="595" y="32"/>
                    </a:lnTo>
                    <a:lnTo>
                      <a:pt x="602" y="36"/>
                    </a:lnTo>
                    <a:lnTo>
                      <a:pt x="602" y="29"/>
                    </a:lnTo>
                    <a:lnTo>
                      <a:pt x="598" y="32"/>
                    </a:lnTo>
                    <a:lnTo>
                      <a:pt x="602" y="36"/>
                    </a:lnTo>
                    <a:lnTo>
                      <a:pt x="606" y="32"/>
                    </a:lnTo>
                    <a:lnTo>
                      <a:pt x="602" y="36"/>
                    </a:lnTo>
                    <a:lnTo>
                      <a:pt x="609" y="47"/>
                    </a:lnTo>
                    <a:lnTo>
                      <a:pt x="613" y="58"/>
                    </a:lnTo>
                    <a:lnTo>
                      <a:pt x="616" y="69"/>
                    </a:lnTo>
                    <a:lnTo>
                      <a:pt x="620" y="65"/>
                    </a:lnTo>
                    <a:lnTo>
                      <a:pt x="616" y="65"/>
                    </a:lnTo>
                    <a:lnTo>
                      <a:pt x="616" y="76"/>
                    </a:lnTo>
                    <a:lnTo>
                      <a:pt x="616" y="87"/>
                    </a:lnTo>
                    <a:lnTo>
                      <a:pt x="616" y="98"/>
                    </a:lnTo>
                    <a:lnTo>
                      <a:pt x="620" y="98"/>
                    </a:lnTo>
                    <a:lnTo>
                      <a:pt x="616" y="98"/>
                    </a:lnTo>
                    <a:lnTo>
                      <a:pt x="613" y="109"/>
                    </a:lnTo>
                    <a:lnTo>
                      <a:pt x="609" y="119"/>
                    </a:lnTo>
                    <a:lnTo>
                      <a:pt x="602" y="130"/>
                    </a:lnTo>
                    <a:lnTo>
                      <a:pt x="606" y="130"/>
                    </a:lnTo>
                    <a:lnTo>
                      <a:pt x="602" y="127"/>
                    </a:lnTo>
                    <a:lnTo>
                      <a:pt x="595" y="134"/>
                    </a:lnTo>
                    <a:lnTo>
                      <a:pt x="580" y="148"/>
                    </a:lnTo>
                    <a:lnTo>
                      <a:pt x="580" y="152"/>
                    </a:lnTo>
                    <a:lnTo>
                      <a:pt x="580" y="152"/>
                    </a:lnTo>
                    <a:lnTo>
                      <a:pt x="573" y="167"/>
                    </a:lnTo>
                    <a:lnTo>
                      <a:pt x="569" y="174"/>
                    </a:lnTo>
                    <a:lnTo>
                      <a:pt x="573" y="174"/>
                    </a:lnTo>
                    <a:lnTo>
                      <a:pt x="569" y="170"/>
                    </a:lnTo>
                    <a:lnTo>
                      <a:pt x="566" y="174"/>
                    </a:lnTo>
                    <a:lnTo>
                      <a:pt x="566" y="177"/>
                    </a:lnTo>
                    <a:lnTo>
                      <a:pt x="566" y="177"/>
                    </a:lnTo>
                    <a:lnTo>
                      <a:pt x="566" y="185"/>
                    </a:lnTo>
                    <a:lnTo>
                      <a:pt x="566" y="188"/>
                    </a:lnTo>
                    <a:lnTo>
                      <a:pt x="566" y="192"/>
                    </a:lnTo>
                    <a:lnTo>
                      <a:pt x="566" y="199"/>
                    </a:lnTo>
                    <a:lnTo>
                      <a:pt x="566" y="203"/>
                    </a:lnTo>
                    <a:lnTo>
                      <a:pt x="566" y="203"/>
                    </a:lnTo>
                    <a:lnTo>
                      <a:pt x="569" y="206"/>
                    </a:lnTo>
                    <a:lnTo>
                      <a:pt x="573" y="210"/>
                    </a:lnTo>
                    <a:lnTo>
                      <a:pt x="577" y="214"/>
                    </a:lnTo>
                    <a:lnTo>
                      <a:pt x="577" y="214"/>
                    </a:lnTo>
                    <a:lnTo>
                      <a:pt x="584" y="217"/>
                    </a:lnTo>
                    <a:lnTo>
                      <a:pt x="591" y="221"/>
                    </a:lnTo>
                    <a:lnTo>
                      <a:pt x="591" y="214"/>
                    </a:lnTo>
                    <a:lnTo>
                      <a:pt x="587" y="217"/>
                    </a:lnTo>
                    <a:lnTo>
                      <a:pt x="595" y="225"/>
                    </a:lnTo>
                    <a:lnTo>
                      <a:pt x="598" y="228"/>
                    </a:lnTo>
                    <a:lnTo>
                      <a:pt x="598" y="228"/>
                    </a:lnTo>
                    <a:lnTo>
                      <a:pt x="606" y="232"/>
                    </a:lnTo>
                    <a:lnTo>
                      <a:pt x="616" y="235"/>
                    </a:lnTo>
                    <a:lnTo>
                      <a:pt x="609" y="232"/>
                    </a:lnTo>
                    <a:lnTo>
                      <a:pt x="616" y="235"/>
                    </a:lnTo>
                    <a:lnTo>
                      <a:pt x="631" y="239"/>
                    </a:lnTo>
                    <a:lnTo>
                      <a:pt x="645" y="243"/>
                    </a:lnTo>
                    <a:lnTo>
                      <a:pt x="660" y="246"/>
                    </a:lnTo>
                    <a:lnTo>
                      <a:pt x="674" y="250"/>
                    </a:lnTo>
                    <a:lnTo>
                      <a:pt x="693" y="254"/>
                    </a:lnTo>
                    <a:lnTo>
                      <a:pt x="711" y="254"/>
                    </a:lnTo>
                    <a:lnTo>
                      <a:pt x="725" y="254"/>
                    </a:lnTo>
                    <a:lnTo>
                      <a:pt x="743" y="254"/>
                    </a:lnTo>
                    <a:lnTo>
                      <a:pt x="761" y="254"/>
                    </a:lnTo>
                    <a:lnTo>
                      <a:pt x="776" y="254"/>
                    </a:lnTo>
                    <a:lnTo>
                      <a:pt x="790" y="250"/>
                    </a:lnTo>
                    <a:lnTo>
                      <a:pt x="805" y="246"/>
                    </a:lnTo>
                    <a:lnTo>
                      <a:pt x="819" y="243"/>
                    </a:lnTo>
                    <a:lnTo>
                      <a:pt x="823" y="239"/>
                    </a:lnTo>
                    <a:lnTo>
                      <a:pt x="823" y="243"/>
                    </a:lnTo>
                    <a:lnTo>
                      <a:pt x="834" y="235"/>
                    </a:lnTo>
                    <a:lnTo>
                      <a:pt x="845" y="232"/>
                    </a:lnTo>
                    <a:lnTo>
                      <a:pt x="841" y="225"/>
                    </a:lnTo>
                    <a:lnTo>
                      <a:pt x="838" y="225"/>
                    </a:lnTo>
                    <a:lnTo>
                      <a:pt x="838" y="254"/>
                    </a:lnTo>
                    <a:lnTo>
                      <a:pt x="838" y="290"/>
                    </a:lnTo>
                    <a:lnTo>
                      <a:pt x="838" y="333"/>
                    </a:lnTo>
                    <a:lnTo>
                      <a:pt x="838" y="373"/>
                    </a:lnTo>
                    <a:lnTo>
                      <a:pt x="838" y="413"/>
                    </a:lnTo>
                    <a:lnTo>
                      <a:pt x="838" y="453"/>
                    </a:lnTo>
                    <a:lnTo>
                      <a:pt x="838" y="478"/>
                    </a:lnTo>
                    <a:lnTo>
                      <a:pt x="838" y="497"/>
                    </a:lnTo>
                    <a:lnTo>
                      <a:pt x="838" y="504"/>
                    </a:lnTo>
                    <a:lnTo>
                      <a:pt x="838" y="508"/>
                    </a:lnTo>
                    <a:lnTo>
                      <a:pt x="838" y="508"/>
                    </a:lnTo>
                    <a:lnTo>
                      <a:pt x="841" y="511"/>
                    </a:lnTo>
                    <a:lnTo>
                      <a:pt x="845" y="508"/>
                    </a:lnTo>
                    <a:lnTo>
                      <a:pt x="841" y="511"/>
                    </a:lnTo>
                    <a:lnTo>
                      <a:pt x="845" y="518"/>
                    </a:lnTo>
                    <a:lnTo>
                      <a:pt x="845" y="518"/>
                    </a:lnTo>
                    <a:lnTo>
                      <a:pt x="845" y="518"/>
                    </a:lnTo>
                    <a:lnTo>
                      <a:pt x="848" y="522"/>
                    </a:lnTo>
                    <a:lnTo>
                      <a:pt x="852" y="526"/>
                    </a:lnTo>
                    <a:lnTo>
                      <a:pt x="852" y="526"/>
                    </a:lnTo>
                    <a:lnTo>
                      <a:pt x="859" y="529"/>
                    </a:lnTo>
                    <a:lnTo>
                      <a:pt x="859" y="522"/>
                    </a:lnTo>
                    <a:lnTo>
                      <a:pt x="856" y="526"/>
                    </a:lnTo>
                    <a:lnTo>
                      <a:pt x="863" y="533"/>
                    </a:lnTo>
                    <a:lnTo>
                      <a:pt x="867" y="537"/>
                    </a:lnTo>
                    <a:lnTo>
                      <a:pt x="867" y="537"/>
                    </a:lnTo>
                    <a:lnTo>
                      <a:pt x="874" y="540"/>
                    </a:lnTo>
                    <a:lnTo>
                      <a:pt x="874" y="540"/>
                    </a:lnTo>
                    <a:lnTo>
                      <a:pt x="874" y="540"/>
                    </a:lnTo>
                    <a:lnTo>
                      <a:pt x="881" y="540"/>
                    </a:lnTo>
                    <a:lnTo>
                      <a:pt x="881" y="533"/>
                    </a:lnTo>
                    <a:lnTo>
                      <a:pt x="881" y="540"/>
                    </a:lnTo>
                    <a:lnTo>
                      <a:pt x="888" y="544"/>
                    </a:lnTo>
                    <a:lnTo>
                      <a:pt x="888" y="544"/>
                    </a:lnTo>
                    <a:lnTo>
                      <a:pt x="888" y="544"/>
                    </a:lnTo>
                    <a:lnTo>
                      <a:pt x="896" y="544"/>
                    </a:lnTo>
                    <a:lnTo>
                      <a:pt x="906" y="544"/>
                    </a:lnTo>
                    <a:lnTo>
                      <a:pt x="914" y="544"/>
                    </a:lnTo>
                    <a:lnTo>
                      <a:pt x="917" y="544"/>
                    </a:lnTo>
                    <a:lnTo>
                      <a:pt x="917" y="544"/>
                    </a:lnTo>
                    <a:lnTo>
                      <a:pt x="925" y="540"/>
                    </a:lnTo>
                    <a:lnTo>
                      <a:pt x="932" y="537"/>
                    </a:lnTo>
                    <a:lnTo>
                      <a:pt x="932" y="537"/>
                    </a:lnTo>
                    <a:lnTo>
                      <a:pt x="932" y="533"/>
                    </a:lnTo>
                    <a:lnTo>
                      <a:pt x="939" y="526"/>
                    </a:lnTo>
                    <a:lnTo>
                      <a:pt x="946" y="518"/>
                    </a:lnTo>
                    <a:lnTo>
                      <a:pt x="950" y="518"/>
                    </a:lnTo>
                    <a:lnTo>
                      <a:pt x="950" y="518"/>
                    </a:lnTo>
                    <a:lnTo>
                      <a:pt x="954" y="511"/>
                    </a:lnTo>
                    <a:lnTo>
                      <a:pt x="946" y="508"/>
                    </a:lnTo>
                    <a:lnTo>
                      <a:pt x="950" y="511"/>
                    </a:lnTo>
                    <a:lnTo>
                      <a:pt x="954" y="508"/>
                    </a:lnTo>
                    <a:lnTo>
                      <a:pt x="957" y="504"/>
                    </a:lnTo>
                    <a:lnTo>
                      <a:pt x="954" y="500"/>
                    </a:lnTo>
                    <a:lnTo>
                      <a:pt x="954" y="508"/>
                    </a:lnTo>
                    <a:lnTo>
                      <a:pt x="957" y="508"/>
                    </a:lnTo>
                    <a:lnTo>
                      <a:pt x="961" y="508"/>
                    </a:lnTo>
                    <a:lnTo>
                      <a:pt x="961" y="508"/>
                    </a:lnTo>
                    <a:lnTo>
                      <a:pt x="972" y="504"/>
                    </a:lnTo>
                    <a:lnTo>
                      <a:pt x="983" y="500"/>
                    </a:lnTo>
                    <a:lnTo>
                      <a:pt x="979" y="493"/>
                    </a:lnTo>
                    <a:lnTo>
                      <a:pt x="979" y="500"/>
                    </a:lnTo>
                    <a:lnTo>
                      <a:pt x="990" y="500"/>
                    </a:lnTo>
                    <a:lnTo>
                      <a:pt x="1004" y="500"/>
                    </a:lnTo>
                    <a:lnTo>
                      <a:pt x="1004" y="493"/>
                    </a:lnTo>
                    <a:lnTo>
                      <a:pt x="1004" y="500"/>
                    </a:lnTo>
                    <a:lnTo>
                      <a:pt x="1015" y="504"/>
                    </a:lnTo>
                    <a:lnTo>
                      <a:pt x="1026" y="508"/>
                    </a:lnTo>
                    <a:lnTo>
                      <a:pt x="1037" y="515"/>
                    </a:lnTo>
                    <a:lnTo>
                      <a:pt x="1048" y="522"/>
                    </a:lnTo>
                    <a:lnTo>
                      <a:pt x="1059" y="529"/>
                    </a:lnTo>
                    <a:lnTo>
                      <a:pt x="1059" y="522"/>
                    </a:lnTo>
                    <a:lnTo>
                      <a:pt x="1055" y="526"/>
                    </a:lnTo>
                    <a:lnTo>
                      <a:pt x="1062" y="537"/>
                    </a:lnTo>
                    <a:lnTo>
                      <a:pt x="1062" y="537"/>
                    </a:lnTo>
                    <a:lnTo>
                      <a:pt x="1062" y="537"/>
                    </a:lnTo>
                    <a:lnTo>
                      <a:pt x="1066" y="540"/>
                    </a:lnTo>
                    <a:lnTo>
                      <a:pt x="1070" y="537"/>
                    </a:lnTo>
                    <a:lnTo>
                      <a:pt x="1066" y="537"/>
                    </a:lnTo>
                    <a:lnTo>
                      <a:pt x="1066" y="544"/>
                    </a:lnTo>
                    <a:lnTo>
                      <a:pt x="1066" y="547"/>
                    </a:lnTo>
                    <a:lnTo>
                      <a:pt x="1066" y="547"/>
                    </a:lnTo>
                    <a:lnTo>
                      <a:pt x="1070" y="555"/>
                    </a:lnTo>
                    <a:lnTo>
                      <a:pt x="1070" y="555"/>
                    </a:lnTo>
                    <a:lnTo>
                      <a:pt x="1070" y="555"/>
                    </a:lnTo>
                    <a:lnTo>
                      <a:pt x="1073" y="558"/>
                    </a:lnTo>
                    <a:lnTo>
                      <a:pt x="1077" y="555"/>
                    </a:lnTo>
                    <a:lnTo>
                      <a:pt x="1073" y="555"/>
                    </a:lnTo>
                    <a:lnTo>
                      <a:pt x="1073" y="562"/>
                    </a:lnTo>
                    <a:lnTo>
                      <a:pt x="1073" y="569"/>
                    </a:lnTo>
                    <a:lnTo>
                      <a:pt x="1073" y="576"/>
                    </a:lnTo>
                    <a:lnTo>
                      <a:pt x="1073" y="584"/>
                    </a:lnTo>
                    <a:lnTo>
                      <a:pt x="1077" y="584"/>
                    </a:lnTo>
                    <a:lnTo>
                      <a:pt x="1073" y="584"/>
                    </a:lnTo>
                    <a:lnTo>
                      <a:pt x="1070" y="598"/>
                    </a:lnTo>
                    <a:lnTo>
                      <a:pt x="1066" y="609"/>
                    </a:lnTo>
                    <a:lnTo>
                      <a:pt x="1059" y="620"/>
                    </a:lnTo>
                    <a:lnTo>
                      <a:pt x="1062" y="620"/>
                    </a:lnTo>
                    <a:lnTo>
                      <a:pt x="1059" y="616"/>
                    </a:lnTo>
                    <a:lnTo>
                      <a:pt x="1051" y="624"/>
                    </a:lnTo>
                    <a:lnTo>
                      <a:pt x="1044" y="631"/>
                    </a:lnTo>
                    <a:lnTo>
                      <a:pt x="1037" y="638"/>
                    </a:lnTo>
                    <a:lnTo>
                      <a:pt x="1041" y="642"/>
                    </a:lnTo>
                    <a:lnTo>
                      <a:pt x="1041" y="638"/>
                    </a:lnTo>
                    <a:lnTo>
                      <a:pt x="1030" y="642"/>
                    </a:lnTo>
                    <a:lnTo>
                      <a:pt x="1022" y="645"/>
                    </a:lnTo>
                    <a:lnTo>
                      <a:pt x="1022" y="649"/>
                    </a:lnTo>
                    <a:lnTo>
                      <a:pt x="1022" y="645"/>
                    </a:lnTo>
                    <a:lnTo>
                      <a:pt x="1012" y="645"/>
                    </a:lnTo>
                    <a:lnTo>
                      <a:pt x="1012" y="645"/>
                    </a:lnTo>
                    <a:lnTo>
                      <a:pt x="1012" y="645"/>
                    </a:lnTo>
                    <a:lnTo>
                      <a:pt x="1001" y="649"/>
                    </a:lnTo>
                    <a:lnTo>
                      <a:pt x="1001" y="653"/>
                    </a:lnTo>
                    <a:lnTo>
                      <a:pt x="1004" y="649"/>
                    </a:lnTo>
                    <a:lnTo>
                      <a:pt x="993" y="645"/>
                    </a:lnTo>
                    <a:lnTo>
                      <a:pt x="993" y="645"/>
                    </a:lnTo>
                    <a:lnTo>
                      <a:pt x="990" y="645"/>
                    </a:lnTo>
                    <a:lnTo>
                      <a:pt x="983" y="645"/>
                    </a:lnTo>
                    <a:lnTo>
                      <a:pt x="983" y="649"/>
                    </a:lnTo>
                    <a:lnTo>
                      <a:pt x="986" y="645"/>
                    </a:lnTo>
                    <a:lnTo>
                      <a:pt x="975" y="642"/>
                    </a:lnTo>
                    <a:lnTo>
                      <a:pt x="964" y="638"/>
                    </a:lnTo>
                    <a:lnTo>
                      <a:pt x="957" y="634"/>
                    </a:lnTo>
                    <a:lnTo>
                      <a:pt x="954" y="638"/>
                    </a:lnTo>
                    <a:lnTo>
                      <a:pt x="957" y="634"/>
                    </a:lnTo>
                    <a:lnTo>
                      <a:pt x="950" y="627"/>
                    </a:lnTo>
                    <a:lnTo>
                      <a:pt x="946" y="631"/>
                    </a:lnTo>
                    <a:lnTo>
                      <a:pt x="954" y="631"/>
                    </a:lnTo>
                    <a:lnTo>
                      <a:pt x="950" y="624"/>
                    </a:lnTo>
                    <a:lnTo>
                      <a:pt x="946" y="620"/>
                    </a:lnTo>
                    <a:lnTo>
                      <a:pt x="946" y="620"/>
                    </a:lnTo>
                    <a:lnTo>
                      <a:pt x="935" y="613"/>
                    </a:lnTo>
                    <a:lnTo>
                      <a:pt x="928" y="609"/>
                    </a:lnTo>
                    <a:lnTo>
                      <a:pt x="921" y="605"/>
                    </a:lnTo>
                    <a:lnTo>
                      <a:pt x="914" y="602"/>
                    </a:lnTo>
                    <a:lnTo>
                      <a:pt x="906" y="598"/>
                    </a:lnTo>
                    <a:lnTo>
                      <a:pt x="896" y="595"/>
                    </a:lnTo>
                    <a:lnTo>
                      <a:pt x="896" y="595"/>
                    </a:lnTo>
                    <a:lnTo>
                      <a:pt x="892" y="595"/>
                    </a:lnTo>
                    <a:lnTo>
                      <a:pt x="885" y="595"/>
                    </a:lnTo>
                    <a:lnTo>
                      <a:pt x="877" y="595"/>
                    </a:lnTo>
                    <a:lnTo>
                      <a:pt x="870" y="595"/>
                    </a:lnTo>
                    <a:lnTo>
                      <a:pt x="870" y="595"/>
                    </a:lnTo>
                    <a:lnTo>
                      <a:pt x="870" y="595"/>
                    </a:lnTo>
                    <a:lnTo>
                      <a:pt x="863" y="598"/>
                    </a:lnTo>
                    <a:lnTo>
                      <a:pt x="863" y="598"/>
                    </a:lnTo>
                    <a:lnTo>
                      <a:pt x="859" y="598"/>
                    </a:lnTo>
                    <a:lnTo>
                      <a:pt x="856" y="602"/>
                    </a:lnTo>
                    <a:lnTo>
                      <a:pt x="859" y="605"/>
                    </a:lnTo>
                    <a:lnTo>
                      <a:pt x="859" y="602"/>
                    </a:lnTo>
                    <a:lnTo>
                      <a:pt x="852" y="605"/>
                    </a:lnTo>
                    <a:lnTo>
                      <a:pt x="848" y="605"/>
                    </a:lnTo>
                    <a:lnTo>
                      <a:pt x="848" y="609"/>
                    </a:lnTo>
                    <a:lnTo>
                      <a:pt x="845" y="616"/>
                    </a:lnTo>
                    <a:lnTo>
                      <a:pt x="841" y="624"/>
                    </a:lnTo>
                    <a:lnTo>
                      <a:pt x="838" y="634"/>
                    </a:lnTo>
                    <a:lnTo>
                      <a:pt x="838" y="634"/>
                    </a:lnTo>
                    <a:lnTo>
                      <a:pt x="838" y="634"/>
                    </a:lnTo>
                    <a:lnTo>
                      <a:pt x="838" y="656"/>
                    </a:lnTo>
                    <a:lnTo>
                      <a:pt x="834" y="682"/>
                    </a:lnTo>
                    <a:lnTo>
                      <a:pt x="830" y="707"/>
                    </a:lnTo>
                    <a:lnTo>
                      <a:pt x="830" y="736"/>
                    </a:lnTo>
                    <a:lnTo>
                      <a:pt x="830" y="761"/>
                    </a:lnTo>
                    <a:lnTo>
                      <a:pt x="830" y="787"/>
                    </a:lnTo>
                    <a:lnTo>
                      <a:pt x="830" y="798"/>
                    </a:lnTo>
                    <a:lnTo>
                      <a:pt x="830" y="801"/>
                    </a:lnTo>
                    <a:lnTo>
                      <a:pt x="830" y="801"/>
                    </a:lnTo>
                    <a:lnTo>
                      <a:pt x="834" y="812"/>
                    </a:lnTo>
                    <a:lnTo>
                      <a:pt x="838" y="823"/>
                    </a:lnTo>
                    <a:lnTo>
                      <a:pt x="841" y="819"/>
                    </a:lnTo>
                    <a:lnTo>
                      <a:pt x="838" y="819"/>
                    </a:lnTo>
                    <a:lnTo>
                      <a:pt x="838" y="827"/>
                    </a:lnTo>
                    <a:lnTo>
                      <a:pt x="841" y="827"/>
                    </a:lnTo>
                    <a:lnTo>
                      <a:pt x="841" y="823"/>
                    </a:lnTo>
                    <a:lnTo>
                      <a:pt x="823" y="827"/>
                    </a:lnTo>
                    <a:lnTo>
                      <a:pt x="809" y="830"/>
                    </a:lnTo>
                    <a:lnTo>
                      <a:pt x="787" y="830"/>
                    </a:lnTo>
                    <a:lnTo>
                      <a:pt x="769" y="830"/>
                    </a:lnTo>
                    <a:lnTo>
                      <a:pt x="751" y="830"/>
                    </a:lnTo>
                    <a:lnTo>
                      <a:pt x="732" y="830"/>
                    </a:lnTo>
                    <a:lnTo>
                      <a:pt x="714" y="827"/>
                    </a:lnTo>
                    <a:lnTo>
                      <a:pt x="696" y="827"/>
                    </a:lnTo>
                    <a:lnTo>
                      <a:pt x="667" y="823"/>
                    </a:lnTo>
                    <a:lnTo>
                      <a:pt x="642" y="819"/>
                    </a:lnTo>
                    <a:lnTo>
                      <a:pt x="627" y="816"/>
                    </a:lnTo>
                    <a:lnTo>
                      <a:pt x="627" y="819"/>
                    </a:lnTo>
                    <a:lnTo>
                      <a:pt x="631" y="816"/>
                    </a:lnTo>
                    <a:lnTo>
                      <a:pt x="624" y="812"/>
                    </a:lnTo>
                    <a:lnTo>
                      <a:pt x="624" y="812"/>
                    </a:lnTo>
                    <a:lnTo>
                      <a:pt x="620" y="812"/>
                    </a:lnTo>
                    <a:lnTo>
                      <a:pt x="606" y="809"/>
                    </a:lnTo>
                    <a:lnTo>
                      <a:pt x="606" y="812"/>
                    </a:lnTo>
                    <a:lnTo>
                      <a:pt x="609" y="809"/>
                    </a:lnTo>
                    <a:lnTo>
                      <a:pt x="598" y="801"/>
                    </a:lnTo>
                    <a:lnTo>
                      <a:pt x="587" y="794"/>
                    </a:lnTo>
                    <a:lnTo>
                      <a:pt x="584" y="798"/>
                    </a:lnTo>
                    <a:lnTo>
                      <a:pt x="591" y="798"/>
                    </a:lnTo>
                    <a:lnTo>
                      <a:pt x="584" y="787"/>
                    </a:lnTo>
                    <a:lnTo>
                      <a:pt x="584" y="787"/>
                    </a:lnTo>
                    <a:lnTo>
                      <a:pt x="580" y="783"/>
                    </a:lnTo>
                    <a:lnTo>
                      <a:pt x="573" y="776"/>
                    </a:lnTo>
                    <a:lnTo>
                      <a:pt x="569" y="780"/>
                    </a:lnTo>
                    <a:lnTo>
                      <a:pt x="577" y="780"/>
                    </a:lnTo>
                    <a:lnTo>
                      <a:pt x="573" y="769"/>
                    </a:lnTo>
                    <a:lnTo>
                      <a:pt x="569" y="758"/>
                    </a:lnTo>
                    <a:lnTo>
                      <a:pt x="566" y="751"/>
                    </a:lnTo>
                    <a:lnTo>
                      <a:pt x="558" y="751"/>
                    </a:lnTo>
                    <a:lnTo>
                      <a:pt x="566" y="751"/>
                    </a:lnTo>
                    <a:lnTo>
                      <a:pt x="566" y="740"/>
                    </a:lnTo>
                    <a:lnTo>
                      <a:pt x="558" y="740"/>
                    </a:lnTo>
                    <a:lnTo>
                      <a:pt x="566" y="743"/>
                    </a:lnTo>
                    <a:lnTo>
                      <a:pt x="569" y="732"/>
                    </a:lnTo>
                    <a:lnTo>
                      <a:pt x="569" y="732"/>
                    </a:lnTo>
                    <a:lnTo>
                      <a:pt x="569" y="729"/>
                    </a:lnTo>
                    <a:lnTo>
                      <a:pt x="569" y="722"/>
                    </a:lnTo>
                    <a:lnTo>
                      <a:pt x="562" y="722"/>
                    </a:lnTo>
                    <a:lnTo>
                      <a:pt x="569" y="725"/>
                    </a:lnTo>
                    <a:lnTo>
                      <a:pt x="573" y="718"/>
                    </a:lnTo>
                    <a:lnTo>
                      <a:pt x="577" y="707"/>
                    </a:lnTo>
                    <a:lnTo>
                      <a:pt x="580" y="700"/>
                    </a:lnTo>
                    <a:lnTo>
                      <a:pt x="573" y="696"/>
                    </a:lnTo>
                    <a:lnTo>
                      <a:pt x="577" y="700"/>
                    </a:lnTo>
                    <a:lnTo>
                      <a:pt x="584" y="692"/>
                    </a:lnTo>
                    <a:lnTo>
                      <a:pt x="580" y="689"/>
                    </a:lnTo>
                    <a:lnTo>
                      <a:pt x="584" y="696"/>
                    </a:lnTo>
                    <a:lnTo>
                      <a:pt x="591" y="692"/>
                    </a:lnTo>
                    <a:lnTo>
                      <a:pt x="591" y="692"/>
                    </a:lnTo>
                    <a:lnTo>
                      <a:pt x="591" y="689"/>
                    </a:lnTo>
                    <a:lnTo>
                      <a:pt x="598" y="682"/>
                    </a:lnTo>
                    <a:lnTo>
                      <a:pt x="606" y="674"/>
                    </a:lnTo>
                    <a:lnTo>
                      <a:pt x="609" y="674"/>
                    </a:lnTo>
                    <a:lnTo>
                      <a:pt x="609" y="674"/>
                    </a:lnTo>
                    <a:lnTo>
                      <a:pt x="613" y="663"/>
                    </a:lnTo>
                    <a:lnTo>
                      <a:pt x="616" y="653"/>
                    </a:lnTo>
                    <a:lnTo>
                      <a:pt x="620" y="642"/>
                    </a:lnTo>
                    <a:lnTo>
                      <a:pt x="620" y="642"/>
                    </a:lnTo>
                    <a:lnTo>
                      <a:pt x="620" y="638"/>
                    </a:lnTo>
                    <a:lnTo>
                      <a:pt x="620" y="624"/>
                    </a:lnTo>
                    <a:lnTo>
                      <a:pt x="620" y="613"/>
                    </a:lnTo>
                    <a:lnTo>
                      <a:pt x="620" y="598"/>
                    </a:lnTo>
                    <a:lnTo>
                      <a:pt x="620" y="598"/>
                    </a:lnTo>
                    <a:lnTo>
                      <a:pt x="620" y="598"/>
                    </a:lnTo>
                    <a:lnTo>
                      <a:pt x="616" y="587"/>
                    </a:lnTo>
                    <a:lnTo>
                      <a:pt x="613" y="576"/>
                    </a:lnTo>
                    <a:lnTo>
                      <a:pt x="609" y="569"/>
                    </a:lnTo>
                    <a:lnTo>
                      <a:pt x="609" y="569"/>
                    </a:lnTo>
                    <a:lnTo>
                      <a:pt x="606" y="566"/>
                    </a:lnTo>
                    <a:lnTo>
                      <a:pt x="602" y="562"/>
                    </a:lnTo>
                    <a:lnTo>
                      <a:pt x="598" y="566"/>
                    </a:lnTo>
                    <a:lnTo>
                      <a:pt x="606" y="566"/>
                    </a:lnTo>
                    <a:lnTo>
                      <a:pt x="602" y="558"/>
                    </a:lnTo>
                    <a:lnTo>
                      <a:pt x="598" y="555"/>
                    </a:lnTo>
                    <a:lnTo>
                      <a:pt x="598" y="555"/>
                    </a:lnTo>
                    <a:lnTo>
                      <a:pt x="591" y="551"/>
                    </a:lnTo>
                    <a:lnTo>
                      <a:pt x="584" y="547"/>
                    </a:lnTo>
                    <a:lnTo>
                      <a:pt x="580" y="551"/>
                    </a:lnTo>
                    <a:lnTo>
                      <a:pt x="584" y="547"/>
                    </a:lnTo>
                    <a:lnTo>
                      <a:pt x="580" y="544"/>
                    </a:lnTo>
                    <a:lnTo>
                      <a:pt x="580" y="544"/>
                    </a:lnTo>
                    <a:lnTo>
                      <a:pt x="580" y="544"/>
                    </a:lnTo>
                    <a:lnTo>
                      <a:pt x="573" y="540"/>
                    </a:lnTo>
                    <a:lnTo>
                      <a:pt x="573" y="540"/>
                    </a:lnTo>
                    <a:lnTo>
                      <a:pt x="569" y="540"/>
                    </a:lnTo>
                    <a:lnTo>
                      <a:pt x="562" y="540"/>
                    </a:lnTo>
                    <a:lnTo>
                      <a:pt x="562" y="544"/>
                    </a:lnTo>
                    <a:lnTo>
                      <a:pt x="566" y="540"/>
                    </a:lnTo>
                    <a:lnTo>
                      <a:pt x="555" y="537"/>
                    </a:lnTo>
                    <a:lnTo>
                      <a:pt x="548" y="533"/>
                    </a:lnTo>
                    <a:lnTo>
                      <a:pt x="548" y="533"/>
                    </a:lnTo>
                    <a:lnTo>
                      <a:pt x="544" y="533"/>
                    </a:lnTo>
                    <a:lnTo>
                      <a:pt x="533" y="533"/>
                    </a:lnTo>
                    <a:lnTo>
                      <a:pt x="522" y="533"/>
                    </a:lnTo>
                    <a:lnTo>
                      <a:pt x="515" y="533"/>
                    </a:lnTo>
                    <a:lnTo>
                      <a:pt x="504" y="533"/>
                    </a:lnTo>
                    <a:lnTo>
                      <a:pt x="504" y="533"/>
                    </a:lnTo>
                    <a:lnTo>
                      <a:pt x="504" y="533"/>
                    </a:lnTo>
                    <a:lnTo>
                      <a:pt x="493" y="537"/>
                    </a:lnTo>
                    <a:lnTo>
                      <a:pt x="493" y="540"/>
                    </a:lnTo>
                    <a:lnTo>
                      <a:pt x="493" y="537"/>
                    </a:lnTo>
                    <a:lnTo>
                      <a:pt x="486" y="537"/>
                    </a:lnTo>
                    <a:lnTo>
                      <a:pt x="486" y="537"/>
                    </a:lnTo>
                    <a:lnTo>
                      <a:pt x="486" y="537"/>
                    </a:lnTo>
                    <a:lnTo>
                      <a:pt x="479" y="540"/>
                    </a:lnTo>
                    <a:lnTo>
                      <a:pt x="471" y="544"/>
                    </a:lnTo>
                    <a:lnTo>
                      <a:pt x="464" y="547"/>
                    </a:lnTo>
                    <a:lnTo>
                      <a:pt x="464" y="547"/>
                    </a:lnTo>
                    <a:lnTo>
                      <a:pt x="460" y="547"/>
                    </a:lnTo>
                    <a:lnTo>
                      <a:pt x="457" y="551"/>
                    </a:lnTo>
                    <a:lnTo>
                      <a:pt x="460" y="555"/>
                    </a:lnTo>
                    <a:lnTo>
                      <a:pt x="460" y="551"/>
                    </a:lnTo>
                    <a:lnTo>
                      <a:pt x="453" y="551"/>
                    </a:lnTo>
                    <a:lnTo>
                      <a:pt x="453" y="551"/>
                    </a:lnTo>
                    <a:lnTo>
                      <a:pt x="450" y="551"/>
                    </a:lnTo>
                    <a:lnTo>
                      <a:pt x="446" y="555"/>
                    </a:lnTo>
                    <a:lnTo>
                      <a:pt x="446" y="558"/>
                    </a:lnTo>
                    <a:lnTo>
                      <a:pt x="446" y="558"/>
                    </a:lnTo>
                    <a:lnTo>
                      <a:pt x="442" y="566"/>
                    </a:lnTo>
                    <a:lnTo>
                      <a:pt x="446" y="566"/>
                    </a:lnTo>
                    <a:lnTo>
                      <a:pt x="446" y="562"/>
                    </a:lnTo>
                    <a:lnTo>
                      <a:pt x="439" y="566"/>
                    </a:lnTo>
                    <a:lnTo>
                      <a:pt x="435" y="566"/>
                    </a:lnTo>
                    <a:lnTo>
                      <a:pt x="435" y="569"/>
                    </a:lnTo>
                    <a:lnTo>
                      <a:pt x="428" y="580"/>
                    </a:lnTo>
                    <a:lnTo>
                      <a:pt x="424" y="591"/>
                    </a:lnTo>
                    <a:lnTo>
                      <a:pt x="421" y="602"/>
                    </a:lnTo>
                    <a:lnTo>
                      <a:pt x="421" y="602"/>
                    </a:lnTo>
                    <a:lnTo>
                      <a:pt x="421" y="602"/>
                    </a:lnTo>
                    <a:lnTo>
                      <a:pt x="421" y="613"/>
                    </a:lnTo>
                    <a:lnTo>
                      <a:pt x="421" y="624"/>
                    </a:lnTo>
                    <a:lnTo>
                      <a:pt x="421" y="638"/>
                    </a:lnTo>
                    <a:lnTo>
                      <a:pt x="421" y="642"/>
                    </a:lnTo>
                    <a:lnTo>
                      <a:pt x="421" y="642"/>
                    </a:lnTo>
                    <a:lnTo>
                      <a:pt x="424" y="653"/>
                    </a:lnTo>
                    <a:lnTo>
                      <a:pt x="428" y="663"/>
                    </a:lnTo>
                    <a:lnTo>
                      <a:pt x="428" y="663"/>
                    </a:lnTo>
                    <a:lnTo>
                      <a:pt x="428" y="663"/>
                    </a:lnTo>
                    <a:lnTo>
                      <a:pt x="435" y="671"/>
                    </a:lnTo>
                    <a:lnTo>
                      <a:pt x="439" y="667"/>
                    </a:lnTo>
                    <a:lnTo>
                      <a:pt x="435" y="671"/>
                    </a:lnTo>
                    <a:lnTo>
                      <a:pt x="442" y="682"/>
                    </a:lnTo>
                    <a:lnTo>
                      <a:pt x="442" y="682"/>
                    </a:lnTo>
                    <a:lnTo>
                      <a:pt x="446" y="685"/>
                    </a:lnTo>
                    <a:lnTo>
                      <a:pt x="457" y="692"/>
                    </a:lnTo>
                    <a:lnTo>
                      <a:pt x="457" y="685"/>
                    </a:lnTo>
                    <a:lnTo>
                      <a:pt x="453" y="689"/>
                    </a:lnTo>
                    <a:lnTo>
                      <a:pt x="457" y="700"/>
                    </a:lnTo>
                    <a:lnTo>
                      <a:pt x="457" y="700"/>
                    </a:lnTo>
                    <a:lnTo>
                      <a:pt x="457" y="700"/>
                    </a:lnTo>
                    <a:lnTo>
                      <a:pt x="464" y="707"/>
                    </a:lnTo>
                    <a:lnTo>
                      <a:pt x="468" y="703"/>
                    </a:lnTo>
                    <a:lnTo>
                      <a:pt x="464" y="707"/>
                    </a:lnTo>
                    <a:lnTo>
                      <a:pt x="468" y="718"/>
                    </a:lnTo>
                    <a:lnTo>
                      <a:pt x="471" y="714"/>
                    </a:lnTo>
                    <a:lnTo>
                      <a:pt x="468" y="714"/>
                    </a:lnTo>
                    <a:lnTo>
                      <a:pt x="468" y="725"/>
                    </a:lnTo>
                    <a:lnTo>
                      <a:pt x="468" y="736"/>
                    </a:lnTo>
                    <a:lnTo>
                      <a:pt x="468" y="743"/>
                    </a:lnTo>
                    <a:lnTo>
                      <a:pt x="471" y="743"/>
                    </a:lnTo>
                    <a:lnTo>
                      <a:pt x="468" y="743"/>
                    </a:lnTo>
                    <a:lnTo>
                      <a:pt x="464" y="754"/>
                    </a:lnTo>
                    <a:lnTo>
                      <a:pt x="460" y="765"/>
                    </a:lnTo>
                    <a:lnTo>
                      <a:pt x="453" y="776"/>
                    </a:lnTo>
                    <a:lnTo>
                      <a:pt x="457" y="776"/>
                    </a:lnTo>
                    <a:lnTo>
                      <a:pt x="453" y="772"/>
                    </a:lnTo>
                    <a:lnTo>
                      <a:pt x="446" y="780"/>
                    </a:lnTo>
                    <a:lnTo>
                      <a:pt x="439" y="787"/>
                    </a:lnTo>
                    <a:lnTo>
                      <a:pt x="442" y="790"/>
                    </a:lnTo>
                    <a:lnTo>
                      <a:pt x="442" y="787"/>
                    </a:lnTo>
                    <a:lnTo>
                      <a:pt x="428" y="794"/>
                    </a:lnTo>
                    <a:lnTo>
                      <a:pt x="428" y="794"/>
                    </a:lnTo>
                    <a:lnTo>
                      <a:pt x="424" y="794"/>
                    </a:lnTo>
                    <a:lnTo>
                      <a:pt x="413" y="805"/>
                    </a:lnTo>
                    <a:lnTo>
                      <a:pt x="417" y="809"/>
                    </a:lnTo>
                    <a:lnTo>
                      <a:pt x="417" y="805"/>
                    </a:lnTo>
                    <a:lnTo>
                      <a:pt x="402" y="809"/>
                    </a:lnTo>
                    <a:lnTo>
                      <a:pt x="384" y="812"/>
                    </a:lnTo>
                    <a:lnTo>
                      <a:pt x="373" y="812"/>
                    </a:lnTo>
                    <a:lnTo>
                      <a:pt x="355" y="812"/>
                    </a:lnTo>
                    <a:lnTo>
                      <a:pt x="334" y="812"/>
                    </a:lnTo>
                    <a:lnTo>
                      <a:pt x="312" y="812"/>
                    </a:lnTo>
                    <a:lnTo>
                      <a:pt x="290" y="812"/>
                    </a:lnTo>
                    <a:lnTo>
                      <a:pt x="265" y="812"/>
                    </a:lnTo>
                    <a:lnTo>
                      <a:pt x="239" y="812"/>
                    </a:lnTo>
                    <a:lnTo>
                      <a:pt x="214" y="812"/>
                    </a:lnTo>
                    <a:lnTo>
                      <a:pt x="214" y="816"/>
                    </a:lnTo>
                    <a:lnTo>
                      <a:pt x="221" y="819"/>
                    </a:lnTo>
                    <a:lnTo>
                      <a:pt x="225" y="809"/>
                    </a:lnTo>
                    <a:lnTo>
                      <a:pt x="228" y="794"/>
                    </a:lnTo>
                    <a:lnTo>
                      <a:pt x="232" y="780"/>
                    </a:lnTo>
                    <a:lnTo>
                      <a:pt x="236" y="765"/>
                    </a:lnTo>
                    <a:lnTo>
                      <a:pt x="236" y="765"/>
                    </a:lnTo>
                    <a:lnTo>
                      <a:pt x="236" y="761"/>
                    </a:lnTo>
                    <a:lnTo>
                      <a:pt x="236" y="747"/>
                    </a:lnTo>
                    <a:lnTo>
                      <a:pt x="228" y="747"/>
                    </a:lnTo>
                    <a:lnTo>
                      <a:pt x="236" y="751"/>
                    </a:lnTo>
                    <a:lnTo>
                      <a:pt x="239" y="736"/>
                    </a:lnTo>
                    <a:lnTo>
                      <a:pt x="239" y="736"/>
                    </a:lnTo>
                    <a:lnTo>
                      <a:pt x="239" y="732"/>
                    </a:lnTo>
                    <a:lnTo>
                      <a:pt x="239" y="718"/>
                    </a:lnTo>
                    <a:lnTo>
                      <a:pt x="239" y="703"/>
                    </a:lnTo>
                    <a:lnTo>
                      <a:pt x="239" y="689"/>
                    </a:lnTo>
                    <a:lnTo>
                      <a:pt x="239" y="674"/>
                    </a:lnTo>
                    <a:lnTo>
                      <a:pt x="239" y="674"/>
                    </a:lnTo>
                    <a:lnTo>
                      <a:pt x="239" y="674"/>
                    </a:lnTo>
                    <a:lnTo>
                      <a:pt x="236" y="660"/>
                    </a:lnTo>
                    <a:lnTo>
                      <a:pt x="228" y="660"/>
                    </a:lnTo>
                    <a:lnTo>
                      <a:pt x="236" y="660"/>
                    </a:lnTo>
                    <a:lnTo>
                      <a:pt x="236" y="645"/>
                    </a:lnTo>
                    <a:lnTo>
                      <a:pt x="236" y="645"/>
                    </a:lnTo>
                    <a:lnTo>
                      <a:pt x="236" y="645"/>
                    </a:lnTo>
                    <a:lnTo>
                      <a:pt x="232" y="634"/>
                    </a:lnTo>
                    <a:lnTo>
                      <a:pt x="228" y="624"/>
                    </a:lnTo>
                    <a:lnTo>
                      <a:pt x="225" y="613"/>
                    </a:lnTo>
                    <a:lnTo>
                      <a:pt x="221" y="605"/>
                    </a:lnTo>
                    <a:lnTo>
                      <a:pt x="218" y="595"/>
                    </a:lnTo>
                    <a:lnTo>
                      <a:pt x="218" y="595"/>
                    </a:lnTo>
                    <a:lnTo>
                      <a:pt x="214" y="591"/>
                    </a:lnTo>
                    <a:lnTo>
                      <a:pt x="210" y="587"/>
                    </a:lnTo>
                    <a:lnTo>
                      <a:pt x="207" y="591"/>
                    </a:lnTo>
                    <a:lnTo>
                      <a:pt x="214" y="591"/>
                    </a:lnTo>
                    <a:lnTo>
                      <a:pt x="210" y="584"/>
                    </a:lnTo>
                    <a:lnTo>
                      <a:pt x="210" y="584"/>
                    </a:lnTo>
                    <a:lnTo>
                      <a:pt x="207" y="580"/>
                    </a:lnTo>
                    <a:lnTo>
                      <a:pt x="203" y="576"/>
                    </a:lnTo>
                    <a:lnTo>
                      <a:pt x="203" y="576"/>
                    </a:lnTo>
                    <a:lnTo>
                      <a:pt x="203" y="576"/>
                    </a:lnTo>
                    <a:lnTo>
                      <a:pt x="196" y="573"/>
                    </a:lnTo>
                    <a:lnTo>
                      <a:pt x="196" y="573"/>
                    </a:lnTo>
                    <a:lnTo>
                      <a:pt x="192" y="573"/>
                    </a:lnTo>
                    <a:lnTo>
                      <a:pt x="189" y="573"/>
                    </a:lnTo>
                    <a:lnTo>
                      <a:pt x="189" y="576"/>
                    </a:lnTo>
                    <a:lnTo>
                      <a:pt x="192" y="573"/>
                    </a:lnTo>
                    <a:lnTo>
                      <a:pt x="189" y="569"/>
                    </a:lnTo>
                    <a:lnTo>
                      <a:pt x="189" y="569"/>
                    </a:lnTo>
                    <a:lnTo>
                      <a:pt x="185" y="569"/>
                    </a:lnTo>
                    <a:lnTo>
                      <a:pt x="178" y="569"/>
                    </a:lnTo>
                    <a:lnTo>
                      <a:pt x="167" y="569"/>
                    </a:lnTo>
                    <a:lnTo>
                      <a:pt x="152" y="573"/>
                    </a:lnTo>
                    <a:lnTo>
                      <a:pt x="145" y="573"/>
                    </a:lnTo>
                    <a:lnTo>
                      <a:pt x="152" y="573"/>
                    </a:lnTo>
                    <a:lnTo>
                      <a:pt x="141" y="576"/>
                    </a:lnTo>
                    <a:lnTo>
                      <a:pt x="123" y="584"/>
                    </a:lnTo>
                    <a:lnTo>
                      <a:pt x="112" y="587"/>
                    </a:lnTo>
                    <a:lnTo>
                      <a:pt x="112" y="591"/>
                    </a:lnTo>
                    <a:lnTo>
                      <a:pt x="112" y="587"/>
                    </a:lnTo>
                    <a:lnTo>
                      <a:pt x="105" y="587"/>
                    </a:lnTo>
                    <a:lnTo>
                      <a:pt x="105" y="587"/>
                    </a:lnTo>
                    <a:lnTo>
                      <a:pt x="105" y="587"/>
                    </a:lnTo>
                    <a:lnTo>
                      <a:pt x="98" y="591"/>
                    </a:lnTo>
                    <a:lnTo>
                      <a:pt x="98" y="595"/>
                    </a:lnTo>
                    <a:lnTo>
                      <a:pt x="98" y="591"/>
                    </a:lnTo>
                    <a:lnTo>
                      <a:pt x="87" y="591"/>
                    </a:lnTo>
                    <a:lnTo>
                      <a:pt x="80" y="591"/>
                    </a:lnTo>
                    <a:lnTo>
                      <a:pt x="73" y="591"/>
                    </a:lnTo>
                    <a:lnTo>
                      <a:pt x="65" y="591"/>
                    </a:lnTo>
                    <a:lnTo>
                      <a:pt x="65" y="595"/>
                    </a:lnTo>
                    <a:lnTo>
                      <a:pt x="69" y="591"/>
                    </a:lnTo>
                    <a:lnTo>
                      <a:pt x="62" y="587"/>
                    </a:lnTo>
                    <a:lnTo>
                      <a:pt x="62" y="587"/>
                    </a:lnTo>
                    <a:lnTo>
                      <a:pt x="58" y="587"/>
                    </a:lnTo>
                    <a:lnTo>
                      <a:pt x="51" y="587"/>
                    </a:lnTo>
                    <a:lnTo>
                      <a:pt x="51" y="591"/>
                    </a:lnTo>
                    <a:lnTo>
                      <a:pt x="54" y="587"/>
                    </a:lnTo>
                    <a:lnTo>
                      <a:pt x="47" y="584"/>
                    </a:lnTo>
                    <a:lnTo>
                      <a:pt x="44" y="587"/>
                    </a:lnTo>
                    <a:lnTo>
                      <a:pt x="47" y="584"/>
                    </a:lnTo>
                    <a:lnTo>
                      <a:pt x="44" y="580"/>
                    </a:lnTo>
                    <a:lnTo>
                      <a:pt x="44" y="580"/>
                    </a:lnTo>
                    <a:lnTo>
                      <a:pt x="40" y="580"/>
                    </a:lnTo>
                    <a:lnTo>
                      <a:pt x="36" y="580"/>
                    </a:lnTo>
                    <a:lnTo>
                      <a:pt x="36" y="584"/>
                    </a:lnTo>
                    <a:lnTo>
                      <a:pt x="40" y="580"/>
                    </a:lnTo>
                    <a:lnTo>
                      <a:pt x="29" y="573"/>
                    </a:lnTo>
                    <a:lnTo>
                      <a:pt x="25" y="576"/>
                    </a:lnTo>
                    <a:lnTo>
                      <a:pt x="33" y="576"/>
                    </a:lnTo>
                    <a:lnTo>
                      <a:pt x="25" y="566"/>
                    </a:lnTo>
                    <a:lnTo>
                      <a:pt x="22" y="558"/>
                    </a:lnTo>
                    <a:lnTo>
                      <a:pt x="15" y="547"/>
                    </a:lnTo>
                    <a:lnTo>
                      <a:pt x="11" y="537"/>
                    </a:lnTo>
                    <a:lnTo>
                      <a:pt x="4" y="537"/>
                    </a:lnTo>
                    <a:lnTo>
                      <a:pt x="11" y="537"/>
                    </a:lnTo>
                    <a:lnTo>
                      <a:pt x="11" y="529"/>
                    </a:lnTo>
                    <a:lnTo>
                      <a:pt x="11" y="518"/>
                    </a:lnTo>
                    <a:lnTo>
                      <a:pt x="11" y="508"/>
                    </a:lnTo>
                    <a:lnTo>
                      <a:pt x="4" y="508"/>
                    </a:lnTo>
                    <a:lnTo>
                      <a:pt x="11" y="511"/>
                    </a:lnTo>
                    <a:lnTo>
                      <a:pt x="15" y="504"/>
                    </a:lnTo>
                    <a:lnTo>
                      <a:pt x="7" y="500"/>
                    </a:lnTo>
                    <a:lnTo>
                      <a:pt x="11" y="504"/>
                    </a:lnTo>
                    <a:lnTo>
                      <a:pt x="15" y="500"/>
                    </a:lnTo>
                    <a:lnTo>
                      <a:pt x="18" y="500"/>
                    </a:lnTo>
                    <a:lnTo>
                      <a:pt x="18" y="500"/>
                    </a:lnTo>
                    <a:lnTo>
                      <a:pt x="25" y="489"/>
                    </a:lnTo>
                    <a:lnTo>
                      <a:pt x="33" y="478"/>
                    </a:lnTo>
                    <a:lnTo>
                      <a:pt x="25" y="475"/>
                    </a:lnTo>
                    <a:lnTo>
                      <a:pt x="29" y="478"/>
                    </a:lnTo>
                    <a:lnTo>
                      <a:pt x="36" y="471"/>
                    </a:lnTo>
                    <a:lnTo>
                      <a:pt x="33" y="468"/>
                    </a:lnTo>
                    <a:lnTo>
                      <a:pt x="36" y="475"/>
                    </a:lnTo>
                    <a:lnTo>
                      <a:pt x="44" y="471"/>
                    </a:lnTo>
                    <a:lnTo>
                      <a:pt x="44" y="468"/>
                    </a:lnTo>
                    <a:lnTo>
                      <a:pt x="47" y="468"/>
                    </a:lnTo>
                    <a:lnTo>
                      <a:pt x="51" y="460"/>
                    </a:lnTo>
                    <a:lnTo>
                      <a:pt x="44" y="457"/>
                    </a:lnTo>
                    <a:lnTo>
                      <a:pt x="47" y="464"/>
                    </a:lnTo>
                    <a:lnTo>
                      <a:pt x="54" y="460"/>
                    </a:lnTo>
                    <a:lnTo>
                      <a:pt x="51" y="453"/>
                    </a:lnTo>
                    <a:lnTo>
                      <a:pt x="51" y="460"/>
                    </a:lnTo>
                    <a:lnTo>
                      <a:pt x="58" y="460"/>
                    </a:lnTo>
                    <a:lnTo>
                      <a:pt x="62" y="460"/>
                    </a:lnTo>
                    <a:lnTo>
                      <a:pt x="62" y="460"/>
                    </a:lnTo>
                    <a:lnTo>
                      <a:pt x="69" y="457"/>
                    </a:lnTo>
                    <a:lnTo>
                      <a:pt x="65" y="449"/>
                    </a:lnTo>
                    <a:lnTo>
                      <a:pt x="65" y="457"/>
                    </a:lnTo>
                    <a:lnTo>
                      <a:pt x="73" y="457"/>
                    </a:lnTo>
                    <a:lnTo>
                      <a:pt x="80" y="457"/>
                    </a:lnTo>
                    <a:lnTo>
                      <a:pt x="80" y="449"/>
                    </a:lnTo>
                    <a:lnTo>
                      <a:pt x="76" y="453"/>
                    </a:lnTo>
                    <a:lnTo>
                      <a:pt x="80" y="457"/>
                    </a:lnTo>
                    <a:lnTo>
                      <a:pt x="83" y="460"/>
                    </a:lnTo>
                    <a:lnTo>
                      <a:pt x="83" y="460"/>
                    </a:lnTo>
                    <a:lnTo>
                      <a:pt x="91" y="460"/>
                    </a:lnTo>
                    <a:lnTo>
                      <a:pt x="105" y="464"/>
                    </a:lnTo>
                    <a:lnTo>
                      <a:pt x="105" y="457"/>
                    </a:lnTo>
                    <a:lnTo>
                      <a:pt x="105" y="464"/>
                    </a:lnTo>
                    <a:lnTo>
                      <a:pt x="116" y="471"/>
                    </a:lnTo>
                    <a:lnTo>
                      <a:pt x="131" y="478"/>
                    </a:lnTo>
                    <a:lnTo>
                      <a:pt x="141" y="486"/>
                    </a:lnTo>
                    <a:lnTo>
                      <a:pt x="152" y="489"/>
                    </a:lnTo>
                    <a:lnTo>
                      <a:pt x="167" y="497"/>
                    </a:lnTo>
                    <a:lnTo>
                      <a:pt x="167" y="497"/>
                    </a:lnTo>
                    <a:lnTo>
                      <a:pt x="167" y="497"/>
                    </a:lnTo>
                    <a:lnTo>
                      <a:pt x="174" y="497"/>
                    </a:lnTo>
                    <a:lnTo>
                      <a:pt x="174" y="489"/>
                    </a:lnTo>
                    <a:lnTo>
                      <a:pt x="170" y="493"/>
                    </a:lnTo>
                    <a:lnTo>
                      <a:pt x="174" y="497"/>
                    </a:lnTo>
                    <a:lnTo>
                      <a:pt x="178" y="500"/>
                    </a:lnTo>
                    <a:lnTo>
                      <a:pt x="178" y="500"/>
                    </a:lnTo>
                    <a:lnTo>
                      <a:pt x="185" y="500"/>
                    </a:lnTo>
                    <a:lnTo>
                      <a:pt x="192" y="500"/>
                    </a:lnTo>
                    <a:lnTo>
                      <a:pt x="196" y="500"/>
                    </a:lnTo>
                    <a:lnTo>
                      <a:pt x="196" y="497"/>
                    </a:lnTo>
                    <a:lnTo>
                      <a:pt x="199" y="493"/>
                    </a:lnTo>
                    <a:lnTo>
                      <a:pt x="196" y="489"/>
                    </a:lnTo>
                    <a:lnTo>
                      <a:pt x="199" y="497"/>
                    </a:lnTo>
                    <a:lnTo>
                      <a:pt x="207" y="493"/>
                    </a:lnTo>
                    <a:lnTo>
                      <a:pt x="214" y="489"/>
                    </a:lnTo>
                    <a:lnTo>
                      <a:pt x="214" y="489"/>
                    </a:lnTo>
                    <a:lnTo>
                      <a:pt x="214" y="486"/>
                    </a:lnTo>
                    <a:lnTo>
                      <a:pt x="218" y="482"/>
                    </a:lnTo>
                    <a:close/>
                  </a:path>
                </a:pathLst>
              </a:custGeom>
              <a:solidFill>
                <a:srgbClr val="00ff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>
              <a:off x="380880" y="3328920"/>
              <a:ext cx="16160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649440"/>
                  <a:tab algn="l" pos="1298520"/>
                  <a:tab algn="l" pos="1947960"/>
                  <a:tab algn="l" pos="2597040"/>
                  <a:tab algn="l" pos="3246480"/>
                  <a:tab algn="l" pos="3895560"/>
                  <a:tab algn="l" pos="4545000"/>
                  <a:tab algn="l" pos="5194440"/>
                  <a:tab algn="l" pos="5843520"/>
                  <a:tab algn="l" pos="6492960"/>
                  <a:tab algn="l" pos="7142040"/>
                  <a:tab algn="l" pos="7791480"/>
                  <a:tab algn="l" pos="8440560"/>
                  <a:tab algn="l" pos="9090000"/>
                  <a:tab algn="l" pos="9739440"/>
                  <a:tab algn="l" pos="103885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UCTU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2806560" y="1430280"/>
            <a:ext cx="2880000" cy="17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ing the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pri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al compli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s of the Week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11040" y="233280"/>
            <a:ext cx="5880240" cy="32436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33280"/>
            <a:ext cx="55231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Arial"/>
              </a:rPr>
              <a:t>Quant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762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597040" y="2684520"/>
            <a:ext cx="1290240" cy="2153880"/>
            <a:chOff x="2597040" y="2684520"/>
            <a:chExt cx="1290240" cy="2153880"/>
          </a:xfrm>
        </p:grpSpPr>
        <p:grpSp>
          <p:nvGrpSpPr>
            <p:cNvPr id="88" name=""/>
            <p:cNvGrpSpPr/>
            <p:nvPr/>
          </p:nvGrpSpPr>
          <p:grpSpPr>
            <a:xfrm>
              <a:off x="2597040" y="2684520"/>
              <a:ext cx="1290240" cy="2153880"/>
              <a:chOff x="2597040" y="2684520"/>
              <a:chExt cx="1290240" cy="2153880"/>
            </a:xfrm>
          </p:grpSpPr>
          <p:sp>
            <p:nvSpPr>
              <p:cNvPr id="89" name=""/>
              <p:cNvSpPr/>
              <p:nvPr/>
            </p:nvSpPr>
            <p:spPr>
              <a:xfrm>
                <a:off x="2602800" y="2690280"/>
                <a:ext cx="1270800" cy="2134080"/>
              </a:xfrm>
              <a:custGeom>
                <a:avLst/>
                <a:gdLst/>
                <a:ahLst/>
                <a:rect l="l" t="t" r="r" b="b"/>
                <a:pathLst>
                  <a:path w="646" h="1067">
                    <a:moveTo>
                      <a:pt x="113" y="523"/>
                    </a:moveTo>
                    <a:lnTo>
                      <a:pt x="116" y="519"/>
                    </a:lnTo>
                    <a:lnTo>
                      <a:pt x="120" y="512"/>
                    </a:lnTo>
                    <a:lnTo>
                      <a:pt x="124" y="512"/>
                    </a:lnTo>
                    <a:lnTo>
                      <a:pt x="127" y="508"/>
                    </a:lnTo>
                    <a:lnTo>
                      <a:pt x="138" y="505"/>
                    </a:lnTo>
                    <a:lnTo>
                      <a:pt x="149" y="501"/>
                    </a:lnTo>
                    <a:lnTo>
                      <a:pt x="160" y="501"/>
                    </a:lnTo>
                    <a:lnTo>
                      <a:pt x="174" y="501"/>
                    </a:lnTo>
                    <a:lnTo>
                      <a:pt x="185" y="505"/>
                    </a:lnTo>
                    <a:lnTo>
                      <a:pt x="196" y="508"/>
                    </a:lnTo>
                    <a:lnTo>
                      <a:pt x="207" y="516"/>
                    </a:lnTo>
                    <a:lnTo>
                      <a:pt x="218" y="523"/>
                    </a:lnTo>
                    <a:lnTo>
                      <a:pt x="229" y="530"/>
                    </a:lnTo>
                    <a:lnTo>
                      <a:pt x="236" y="541"/>
                    </a:lnTo>
                    <a:lnTo>
                      <a:pt x="236" y="548"/>
                    </a:lnTo>
                    <a:lnTo>
                      <a:pt x="240" y="552"/>
                    </a:lnTo>
                    <a:lnTo>
                      <a:pt x="243" y="559"/>
                    </a:lnTo>
                    <a:lnTo>
                      <a:pt x="247" y="563"/>
                    </a:lnTo>
                    <a:lnTo>
                      <a:pt x="247" y="570"/>
                    </a:lnTo>
                    <a:lnTo>
                      <a:pt x="247" y="577"/>
                    </a:lnTo>
                    <a:lnTo>
                      <a:pt x="247" y="584"/>
                    </a:lnTo>
                    <a:lnTo>
                      <a:pt x="247" y="592"/>
                    </a:lnTo>
                    <a:lnTo>
                      <a:pt x="243" y="603"/>
                    </a:lnTo>
                    <a:lnTo>
                      <a:pt x="240" y="617"/>
                    </a:lnTo>
                    <a:lnTo>
                      <a:pt x="232" y="624"/>
                    </a:lnTo>
                    <a:lnTo>
                      <a:pt x="225" y="635"/>
                    </a:lnTo>
                    <a:lnTo>
                      <a:pt x="218" y="642"/>
                    </a:lnTo>
                    <a:lnTo>
                      <a:pt x="211" y="650"/>
                    </a:lnTo>
                    <a:lnTo>
                      <a:pt x="200" y="653"/>
                    </a:lnTo>
                    <a:lnTo>
                      <a:pt x="189" y="657"/>
                    </a:lnTo>
                    <a:lnTo>
                      <a:pt x="182" y="661"/>
                    </a:lnTo>
                    <a:lnTo>
                      <a:pt x="171" y="661"/>
                    </a:lnTo>
                    <a:lnTo>
                      <a:pt x="160" y="661"/>
                    </a:lnTo>
                    <a:lnTo>
                      <a:pt x="149" y="657"/>
                    </a:lnTo>
                    <a:lnTo>
                      <a:pt x="138" y="653"/>
                    </a:lnTo>
                    <a:lnTo>
                      <a:pt x="131" y="650"/>
                    </a:lnTo>
                    <a:lnTo>
                      <a:pt x="124" y="646"/>
                    </a:lnTo>
                    <a:lnTo>
                      <a:pt x="116" y="639"/>
                    </a:lnTo>
                    <a:lnTo>
                      <a:pt x="109" y="632"/>
                    </a:lnTo>
                    <a:lnTo>
                      <a:pt x="102" y="624"/>
                    </a:lnTo>
                    <a:lnTo>
                      <a:pt x="95" y="621"/>
                    </a:lnTo>
                    <a:lnTo>
                      <a:pt x="84" y="617"/>
                    </a:lnTo>
                    <a:lnTo>
                      <a:pt x="76" y="613"/>
                    </a:lnTo>
                    <a:lnTo>
                      <a:pt x="69" y="610"/>
                    </a:lnTo>
                    <a:lnTo>
                      <a:pt x="62" y="606"/>
                    </a:lnTo>
                    <a:lnTo>
                      <a:pt x="55" y="606"/>
                    </a:lnTo>
                    <a:lnTo>
                      <a:pt x="47" y="606"/>
                    </a:lnTo>
                    <a:lnTo>
                      <a:pt x="40" y="606"/>
                    </a:lnTo>
                    <a:lnTo>
                      <a:pt x="33" y="610"/>
                    </a:lnTo>
                    <a:lnTo>
                      <a:pt x="26" y="613"/>
                    </a:lnTo>
                    <a:lnTo>
                      <a:pt x="18" y="617"/>
                    </a:lnTo>
                    <a:lnTo>
                      <a:pt x="15" y="624"/>
                    </a:lnTo>
                    <a:lnTo>
                      <a:pt x="11" y="632"/>
                    </a:lnTo>
                    <a:lnTo>
                      <a:pt x="11" y="642"/>
                    </a:lnTo>
                    <a:lnTo>
                      <a:pt x="8" y="664"/>
                    </a:lnTo>
                    <a:lnTo>
                      <a:pt x="4" y="690"/>
                    </a:lnTo>
                    <a:lnTo>
                      <a:pt x="0" y="715"/>
                    </a:lnTo>
                    <a:lnTo>
                      <a:pt x="0" y="740"/>
                    </a:lnTo>
                    <a:lnTo>
                      <a:pt x="0" y="769"/>
                    </a:lnTo>
                    <a:lnTo>
                      <a:pt x="0" y="795"/>
                    </a:lnTo>
                    <a:lnTo>
                      <a:pt x="4" y="806"/>
                    </a:lnTo>
                    <a:lnTo>
                      <a:pt x="4" y="817"/>
                    </a:lnTo>
                    <a:lnTo>
                      <a:pt x="8" y="827"/>
                    </a:lnTo>
                    <a:lnTo>
                      <a:pt x="11" y="835"/>
                    </a:lnTo>
                    <a:lnTo>
                      <a:pt x="29" y="831"/>
                    </a:lnTo>
                    <a:lnTo>
                      <a:pt x="55" y="827"/>
                    </a:lnTo>
                    <a:lnTo>
                      <a:pt x="84" y="824"/>
                    </a:lnTo>
                    <a:lnTo>
                      <a:pt x="116" y="824"/>
                    </a:lnTo>
                    <a:lnTo>
                      <a:pt x="149" y="820"/>
                    </a:lnTo>
                    <a:lnTo>
                      <a:pt x="174" y="820"/>
                    </a:lnTo>
                    <a:lnTo>
                      <a:pt x="200" y="824"/>
                    </a:lnTo>
                    <a:lnTo>
                      <a:pt x="218" y="824"/>
                    </a:lnTo>
                    <a:lnTo>
                      <a:pt x="236" y="827"/>
                    </a:lnTo>
                    <a:lnTo>
                      <a:pt x="250" y="831"/>
                    </a:lnTo>
                    <a:lnTo>
                      <a:pt x="265" y="838"/>
                    </a:lnTo>
                    <a:lnTo>
                      <a:pt x="276" y="846"/>
                    </a:lnTo>
                    <a:lnTo>
                      <a:pt x="283" y="849"/>
                    </a:lnTo>
                    <a:lnTo>
                      <a:pt x="290" y="856"/>
                    </a:lnTo>
                    <a:lnTo>
                      <a:pt x="298" y="864"/>
                    </a:lnTo>
                    <a:lnTo>
                      <a:pt x="301" y="871"/>
                    </a:lnTo>
                    <a:lnTo>
                      <a:pt x="301" y="878"/>
                    </a:lnTo>
                    <a:lnTo>
                      <a:pt x="301" y="885"/>
                    </a:lnTo>
                    <a:lnTo>
                      <a:pt x="301" y="893"/>
                    </a:lnTo>
                    <a:lnTo>
                      <a:pt x="301" y="900"/>
                    </a:lnTo>
                    <a:lnTo>
                      <a:pt x="298" y="907"/>
                    </a:lnTo>
                    <a:lnTo>
                      <a:pt x="294" y="915"/>
                    </a:lnTo>
                    <a:lnTo>
                      <a:pt x="287" y="922"/>
                    </a:lnTo>
                    <a:lnTo>
                      <a:pt x="279" y="925"/>
                    </a:lnTo>
                    <a:lnTo>
                      <a:pt x="272" y="936"/>
                    </a:lnTo>
                    <a:lnTo>
                      <a:pt x="269" y="944"/>
                    </a:lnTo>
                    <a:lnTo>
                      <a:pt x="265" y="954"/>
                    </a:lnTo>
                    <a:lnTo>
                      <a:pt x="261" y="965"/>
                    </a:lnTo>
                    <a:lnTo>
                      <a:pt x="261" y="976"/>
                    </a:lnTo>
                    <a:lnTo>
                      <a:pt x="261" y="991"/>
                    </a:lnTo>
                    <a:lnTo>
                      <a:pt x="261" y="1002"/>
                    </a:lnTo>
                    <a:lnTo>
                      <a:pt x="265" y="1012"/>
                    </a:lnTo>
                    <a:lnTo>
                      <a:pt x="272" y="1023"/>
                    </a:lnTo>
                    <a:lnTo>
                      <a:pt x="279" y="1034"/>
                    </a:lnTo>
                    <a:lnTo>
                      <a:pt x="287" y="1041"/>
                    </a:lnTo>
                    <a:lnTo>
                      <a:pt x="294" y="1052"/>
                    </a:lnTo>
                    <a:lnTo>
                      <a:pt x="301" y="1056"/>
                    </a:lnTo>
                    <a:lnTo>
                      <a:pt x="308" y="1060"/>
                    </a:lnTo>
                    <a:lnTo>
                      <a:pt x="312" y="1060"/>
                    </a:lnTo>
                    <a:lnTo>
                      <a:pt x="319" y="1063"/>
                    </a:lnTo>
                    <a:lnTo>
                      <a:pt x="327" y="1067"/>
                    </a:lnTo>
                    <a:lnTo>
                      <a:pt x="334" y="1067"/>
                    </a:lnTo>
                    <a:lnTo>
                      <a:pt x="341" y="1067"/>
                    </a:lnTo>
                    <a:lnTo>
                      <a:pt x="348" y="1067"/>
                    </a:lnTo>
                    <a:lnTo>
                      <a:pt x="367" y="1067"/>
                    </a:lnTo>
                    <a:lnTo>
                      <a:pt x="381" y="1063"/>
                    </a:lnTo>
                    <a:lnTo>
                      <a:pt x="392" y="1056"/>
                    </a:lnTo>
                    <a:lnTo>
                      <a:pt x="403" y="1052"/>
                    </a:lnTo>
                    <a:lnTo>
                      <a:pt x="414" y="1041"/>
                    </a:lnTo>
                    <a:lnTo>
                      <a:pt x="425" y="1034"/>
                    </a:lnTo>
                    <a:lnTo>
                      <a:pt x="432" y="1027"/>
                    </a:lnTo>
                    <a:lnTo>
                      <a:pt x="435" y="1016"/>
                    </a:lnTo>
                    <a:lnTo>
                      <a:pt x="439" y="1005"/>
                    </a:lnTo>
                    <a:lnTo>
                      <a:pt x="439" y="994"/>
                    </a:lnTo>
                    <a:lnTo>
                      <a:pt x="443" y="983"/>
                    </a:lnTo>
                    <a:lnTo>
                      <a:pt x="439" y="973"/>
                    </a:lnTo>
                    <a:lnTo>
                      <a:pt x="435" y="962"/>
                    </a:lnTo>
                    <a:lnTo>
                      <a:pt x="432" y="951"/>
                    </a:lnTo>
                    <a:lnTo>
                      <a:pt x="425" y="940"/>
                    </a:lnTo>
                    <a:lnTo>
                      <a:pt x="414" y="933"/>
                    </a:lnTo>
                    <a:lnTo>
                      <a:pt x="406" y="922"/>
                    </a:lnTo>
                    <a:lnTo>
                      <a:pt x="403" y="915"/>
                    </a:lnTo>
                    <a:lnTo>
                      <a:pt x="396" y="904"/>
                    </a:lnTo>
                    <a:lnTo>
                      <a:pt x="392" y="893"/>
                    </a:lnTo>
                    <a:lnTo>
                      <a:pt x="392" y="882"/>
                    </a:lnTo>
                    <a:lnTo>
                      <a:pt x="392" y="871"/>
                    </a:lnTo>
                    <a:lnTo>
                      <a:pt x="392" y="864"/>
                    </a:lnTo>
                    <a:lnTo>
                      <a:pt x="392" y="853"/>
                    </a:lnTo>
                    <a:lnTo>
                      <a:pt x="396" y="846"/>
                    </a:lnTo>
                    <a:lnTo>
                      <a:pt x="399" y="835"/>
                    </a:lnTo>
                    <a:lnTo>
                      <a:pt x="403" y="827"/>
                    </a:lnTo>
                    <a:lnTo>
                      <a:pt x="410" y="824"/>
                    </a:lnTo>
                    <a:lnTo>
                      <a:pt x="414" y="817"/>
                    </a:lnTo>
                    <a:lnTo>
                      <a:pt x="421" y="813"/>
                    </a:lnTo>
                    <a:lnTo>
                      <a:pt x="428" y="809"/>
                    </a:lnTo>
                    <a:lnTo>
                      <a:pt x="432" y="809"/>
                    </a:lnTo>
                    <a:lnTo>
                      <a:pt x="443" y="809"/>
                    </a:lnTo>
                    <a:lnTo>
                      <a:pt x="461" y="813"/>
                    </a:lnTo>
                    <a:lnTo>
                      <a:pt x="479" y="813"/>
                    </a:lnTo>
                    <a:lnTo>
                      <a:pt x="504" y="817"/>
                    </a:lnTo>
                    <a:lnTo>
                      <a:pt x="533" y="820"/>
                    </a:lnTo>
                    <a:lnTo>
                      <a:pt x="562" y="820"/>
                    </a:lnTo>
                    <a:lnTo>
                      <a:pt x="591" y="824"/>
                    </a:lnTo>
                    <a:lnTo>
                      <a:pt x="624" y="824"/>
                    </a:lnTo>
                    <a:lnTo>
                      <a:pt x="631" y="813"/>
                    </a:lnTo>
                    <a:lnTo>
                      <a:pt x="635" y="798"/>
                    </a:lnTo>
                    <a:lnTo>
                      <a:pt x="638" y="784"/>
                    </a:lnTo>
                    <a:lnTo>
                      <a:pt x="642" y="769"/>
                    </a:lnTo>
                    <a:lnTo>
                      <a:pt x="646" y="755"/>
                    </a:lnTo>
                    <a:lnTo>
                      <a:pt x="646" y="740"/>
                    </a:lnTo>
                    <a:lnTo>
                      <a:pt x="646" y="726"/>
                    </a:lnTo>
                    <a:lnTo>
                      <a:pt x="646" y="711"/>
                    </a:lnTo>
                    <a:lnTo>
                      <a:pt x="646" y="697"/>
                    </a:lnTo>
                    <a:lnTo>
                      <a:pt x="646" y="682"/>
                    </a:lnTo>
                    <a:lnTo>
                      <a:pt x="642" y="668"/>
                    </a:lnTo>
                    <a:lnTo>
                      <a:pt x="642" y="653"/>
                    </a:lnTo>
                    <a:lnTo>
                      <a:pt x="638" y="642"/>
                    </a:lnTo>
                    <a:lnTo>
                      <a:pt x="635" y="632"/>
                    </a:lnTo>
                    <a:lnTo>
                      <a:pt x="631" y="621"/>
                    </a:lnTo>
                    <a:lnTo>
                      <a:pt x="628" y="613"/>
                    </a:lnTo>
                    <a:lnTo>
                      <a:pt x="624" y="603"/>
                    </a:lnTo>
                    <a:lnTo>
                      <a:pt x="620" y="599"/>
                    </a:lnTo>
                    <a:lnTo>
                      <a:pt x="617" y="592"/>
                    </a:lnTo>
                    <a:lnTo>
                      <a:pt x="613" y="588"/>
                    </a:lnTo>
                    <a:lnTo>
                      <a:pt x="606" y="584"/>
                    </a:lnTo>
                    <a:lnTo>
                      <a:pt x="602" y="584"/>
                    </a:lnTo>
                    <a:lnTo>
                      <a:pt x="599" y="581"/>
                    </a:lnTo>
                    <a:lnTo>
                      <a:pt x="591" y="581"/>
                    </a:lnTo>
                    <a:lnTo>
                      <a:pt x="580" y="581"/>
                    </a:lnTo>
                    <a:lnTo>
                      <a:pt x="566" y="584"/>
                    </a:lnTo>
                    <a:lnTo>
                      <a:pt x="551" y="588"/>
                    </a:lnTo>
                    <a:lnTo>
                      <a:pt x="537" y="595"/>
                    </a:lnTo>
                    <a:lnTo>
                      <a:pt x="526" y="599"/>
                    </a:lnTo>
                    <a:lnTo>
                      <a:pt x="519" y="599"/>
                    </a:lnTo>
                    <a:lnTo>
                      <a:pt x="508" y="603"/>
                    </a:lnTo>
                    <a:lnTo>
                      <a:pt x="501" y="603"/>
                    </a:lnTo>
                    <a:lnTo>
                      <a:pt x="490" y="603"/>
                    </a:lnTo>
                    <a:lnTo>
                      <a:pt x="483" y="603"/>
                    </a:lnTo>
                    <a:lnTo>
                      <a:pt x="479" y="603"/>
                    </a:lnTo>
                    <a:lnTo>
                      <a:pt x="468" y="599"/>
                    </a:lnTo>
                    <a:lnTo>
                      <a:pt x="464" y="599"/>
                    </a:lnTo>
                    <a:lnTo>
                      <a:pt x="457" y="595"/>
                    </a:lnTo>
                    <a:lnTo>
                      <a:pt x="454" y="595"/>
                    </a:lnTo>
                    <a:lnTo>
                      <a:pt x="446" y="592"/>
                    </a:lnTo>
                    <a:lnTo>
                      <a:pt x="439" y="584"/>
                    </a:lnTo>
                    <a:lnTo>
                      <a:pt x="432" y="574"/>
                    </a:lnTo>
                    <a:lnTo>
                      <a:pt x="425" y="566"/>
                    </a:lnTo>
                    <a:lnTo>
                      <a:pt x="421" y="555"/>
                    </a:lnTo>
                    <a:lnTo>
                      <a:pt x="417" y="545"/>
                    </a:lnTo>
                    <a:lnTo>
                      <a:pt x="417" y="537"/>
                    </a:lnTo>
                    <a:lnTo>
                      <a:pt x="417" y="526"/>
                    </a:lnTo>
                    <a:lnTo>
                      <a:pt x="417" y="519"/>
                    </a:lnTo>
                    <a:lnTo>
                      <a:pt x="421" y="512"/>
                    </a:lnTo>
                    <a:lnTo>
                      <a:pt x="425" y="505"/>
                    </a:lnTo>
                    <a:lnTo>
                      <a:pt x="428" y="494"/>
                    </a:lnTo>
                    <a:lnTo>
                      <a:pt x="435" y="483"/>
                    </a:lnTo>
                    <a:lnTo>
                      <a:pt x="443" y="476"/>
                    </a:lnTo>
                    <a:lnTo>
                      <a:pt x="450" y="472"/>
                    </a:lnTo>
                    <a:lnTo>
                      <a:pt x="457" y="468"/>
                    </a:lnTo>
                    <a:lnTo>
                      <a:pt x="464" y="465"/>
                    </a:lnTo>
                    <a:lnTo>
                      <a:pt x="472" y="461"/>
                    </a:lnTo>
                    <a:lnTo>
                      <a:pt x="479" y="457"/>
                    </a:lnTo>
                    <a:lnTo>
                      <a:pt x="486" y="457"/>
                    </a:lnTo>
                    <a:lnTo>
                      <a:pt x="490" y="457"/>
                    </a:lnTo>
                    <a:lnTo>
                      <a:pt x="497" y="461"/>
                    </a:lnTo>
                    <a:lnTo>
                      <a:pt x="504" y="461"/>
                    </a:lnTo>
                    <a:lnTo>
                      <a:pt x="519" y="468"/>
                    </a:lnTo>
                    <a:lnTo>
                      <a:pt x="530" y="472"/>
                    </a:lnTo>
                    <a:lnTo>
                      <a:pt x="544" y="479"/>
                    </a:lnTo>
                    <a:lnTo>
                      <a:pt x="555" y="486"/>
                    </a:lnTo>
                    <a:lnTo>
                      <a:pt x="566" y="494"/>
                    </a:lnTo>
                    <a:lnTo>
                      <a:pt x="580" y="497"/>
                    </a:lnTo>
                    <a:lnTo>
                      <a:pt x="588" y="497"/>
                    </a:lnTo>
                    <a:lnTo>
                      <a:pt x="591" y="501"/>
                    </a:lnTo>
                    <a:lnTo>
                      <a:pt x="599" y="501"/>
                    </a:lnTo>
                    <a:lnTo>
                      <a:pt x="606" y="497"/>
                    </a:lnTo>
                    <a:lnTo>
                      <a:pt x="609" y="497"/>
                    </a:lnTo>
                    <a:lnTo>
                      <a:pt x="617" y="494"/>
                    </a:lnTo>
                    <a:lnTo>
                      <a:pt x="624" y="490"/>
                    </a:lnTo>
                    <a:lnTo>
                      <a:pt x="628" y="486"/>
                    </a:lnTo>
                    <a:lnTo>
                      <a:pt x="631" y="483"/>
                    </a:lnTo>
                    <a:lnTo>
                      <a:pt x="635" y="479"/>
                    </a:lnTo>
                    <a:lnTo>
                      <a:pt x="635" y="476"/>
                    </a:lnTo>
                    <a:lnTo>
                      <a:pt x="638" y="468"/>
                    </a:lnTo>
                    <a:lnTo>
                      <a:pt x="642" y="454"/>
                    </a:lnTo>
                    <a:lnTo>
                      <a:pt x="642" y="439"/>
                    </a:lnTo>
                    <a:lnTo>
                      <a:pt x="642" y="421"/>
                    </a:lnTo>
                    <a:lnTo>
                      <a:pt x="638" y="399"/>
                    </a:lnTo>
                    <a:lnTo>
                      <a:pt x="638" y="381"/>
                    </a:lnTo>
                    <a:lnTo>
                      <a:pt x="635" y="360"/>
                    </a:lnTo>
                    <a:lnTo>
                      <a:pt x="631" y="316"/>
                    </a:lnTo>
                    <a:lnTo>
                      <a:pt x="628" y="280"/>
                    </a:lnTo>
                    <a:lnTo>
                      <a:pt x="628" y="265"/>
                    </a:lnTo>
                    <a:lnTo>
                      <a:pt x="628" y="251"/>
                    </a:lnTo>
                    <a:lnTo>
                      <a:pt x="628" y="240"/>
                    </a:lnTo>
                    <a:lnTo>
                      <a:pt x="628" y="233"/>
                    </a:lnTo>
                    <a:lnTo>
                      <a:pt x="617" y="240"/>
                    </a:lnTo>
                    <a:lnTo>
                      <a:pt x="602" y="247"/>
                    </a:lnTo>
                    <a:lnTo>
                      <a:pt x="588" y="251"/>
                    </a:lnTo>
                    <a:lnTo>
                      <a:pt x="570" y="254"/>
                    </a:lnTo>
                    <a:lnTo>
                      <a:pt x="551" y="258"/>
                    </a:lnTo>
                    <a:lnTo>
                      <a:pt x="533" y="258"/>
                    </a:lnTo>
                    <a:lnTo>
                      <a:pt x="515" y="258"/>
                    </a:lnTo>
                    <a:lnTo>
                      <a:pt x="497" y="258"/>
                    </a:lnTo>
                    <a:lnTo>
                      <a:pt x="479" y="258"/>
                    </a:lnTo>
                    <a:lnTo>
                      <a:pt x="457" y="258"/>
                    </a:lnTo>
                    <a:lnTo>
                      <a:pt x="443" y="254"/>
                    </a:lnTo>
                    <a:lnTo>
                      <a:pt x="425" y="251"/>
                    </a:lnTo>
                    <a:lnTo>
                      <a:pt x="410" y="247"/>
                    </a:lnTo>
                    <a:lnTo>
                      <a:pt x="399" y="243"/>
                    </a:lnTo>
                    <a:lnTo>
                      <a:pt x="388" y="236"/>
                    </a:lnTo>
                    <a:lnTo>
                      <a:pt x="377" y="233"/>
                    </a:lnTo>
                    <a:lnTo>
                      <a:pt x="370" y="225"/>
                    </a:lnTo>
                    <a:lnTo>
                      <a:pt x="367" y="222"/>
                    </a:lnTo>
                    <a:lnTo>
                      <a:pt x="363" y="218"/>
                    </a:lnTo>
                    <a:lnTo>
                      <a:pt x="359" y="211"/>
                    </a:lnTo>
                    <a:lnTo>
                      <a:pt x="359" y="207"/>
                    </a:lnTo>
                    <a:lnTo>
                      <a:pt x="359" y="200"/>
                    </a:lnTo>
                    <a:lnTo>
                      <a:pt x="359" y="196"/>
                    </a:lnTo>
                    <a:lnTo>
                      <a:pt x="359" y="189"/>
                    </a:lnTo>
                    <a:lnTo>
                      <a:pt x="363" y="185"/>
                    </a:lnTo>
                    <a:lnTo>
                      <a:pt x="367" y="178"/>
                    </a:lnTo>
                    <a:lnTo>
                      <a:pt x="370" y="171"/>
                    </a:lnTo>
                    <a:lnTo>
                      <a:pt x="377" y="167"/>
                    </a:lnTo>
                    <a:lnTo>
                      <a:pt x="388" y="153"/>
                    </a:lnTo>
                    <a:lnTo>
                      <a:pt x="403" y="138"/>
                    </a:lnTo>
                    <a:lnTo>
                      <a:pt x="410" y="127"/>
                    </a:lnTo>
                    <a:lnTo>
                      <a:pt x="414" y="117"/>
                    </a:lnTo>
                    <a:lnTo>
                      <a:pt x="417" y="106"/>
                    </a:lnTo>
                    <a:lnTo>
                      <a:pt x="421" y="98"/>
                    </a:lnTo>
                    <a:lnTo>
                      <a:pt x="421" y="84"/>
                    </a:lnTo>
                    <a:lnTo>
                      <a:pt x="421" y="73"/>
                    </a:lnTo>
                    <a:lnTo>
                      <a:pt x="417" y="62"/>
                    </a:lnTo>
                    <a:lnTo>
                      <a:pt x="414" y="51"/>
                    </a:lnTo>
                    <a:lnTo>
                      <a:pt x="406" y="40"/>
                    </a:lnTo>
                    <a:lnTo>
                      <a:pt x="399" y="33"/>
                    </a:lnTo>
                    <a:lnTo>
                      <a:pt x="392" y="22"/>
                    </a:lnTo>
                    <a:lnTo>
                      <a:pt x="381" y="15"/>
                    </a:lnTo>
                    <a:lnTo>
                      <a:pt x="370" y="11"/>
                    </a:lnTo>
                    <a:lnTo>
                      <a:pt x="359" y="4"/>
                    </a:lnTo>
                    <a:lnTo>
                      <a:pt x="345" y="0"/>
                    </a:lnTo>
                    <a:lnTo>
                      <a:pt x="330" y="0"/>
                    </a:lnTo>
                    <a:lnTo>
                      <a:pt x="316" y="0"/>
                    </a:lnTo>
                    <a:lnTo>
                      <a:pt x="305" y="4"/>
                    </a:lnTo>
                    <a:lnTo>
                      <a:pt x="294" y="11"/>
                    </a:lnTo>
                    <a:lnTo>
                      <a:pt x="279" y="15"/>
                    </a:lnTo>
                    <a:lnTo>
                      <a:pt x="269" y="22"/>
                    </a:lnTo>
                    <a:lnTo>
                      <a:pt x="258" y="33"/>
                    </a:lnTo>
                    <a:lnTo>
                      <a:pt x="250" y="40"/>
                    </a:lnTo>
                    <a:lnTo>
                      <a:pt x="243" y="51"/>
                    </a:lnTo>
                    <a:lnTo>
                      <a:pt x="240" y="62"/>
                    </a:lnTo>
                    <a:lnTo>
                      <a:pt x="236" y="73"/>
                    </a:lnTo>
                    <a:lnTo>
                      <a:pt x="232" y="84"/>
                    </a:lnTo>
                    <a:lnTo>
                      <a:pt x="232" y="98"/>
                    </a:lnTo>
                    <a:lnTo>
                      <a:pt x="232" y="109"/>
                    </a:lnTo>
                    <a:lnTo>
                      <a:pt x="236" y="120"/>
                    </a:lnTo>
                    <a:lnTo>
                      <a:pt x="240" y="124"/>
                    </a:lnTo>
                    <a:lnTo>
                      <a:pt x="243" y="131"/>
                    </a:lnTo>
                    <a:lnTo>
                      <a:pt x="247" y="135"/>
                    </a:lnTo>
                    <a:lnTo>
                      <a:pt x="250" y="138"/>
                    </a:lnTo>
                    <a:lnTo>
                      <a:pt x="258" y="149"/>
                    </a:lnTo>
                    <a:lnTo>
                      <a:pt x="265" y="156"/>
                    </a:lnTo>
                    <a:lnTo>
                      <a:pt x="272" y="167"/>
                    </a:lnTo>
                    <a:lnTo>
                      <a:pt x="276" y="175"/>
                    </a:lnTo>
                    <a:lnTo>
                      <a:pt x="279" y="185"/>
                    </a:lnTo>
                    <a:lnTo>
                      <a:pt x="283" y="193"/>
                    </a:lnTo>
                    <a:lnTo>
                      <a:pt x="283" y="200"/>
                    </a:lnTo>
                    <a:lnTo>
                      <a:pt x="283" y="204"/>
                    </a:lnTo>
                    <a:lnTo>
                      <a:pt x="283" y="211"/>
                    </a:lnTo>
                    <a:lnTo>
                      <a:pt x="279" y="218"/>
                    </a:lnTo>
                    <a:lnTo>
                      <a:pt x="276" y="222"/>
                    </a:lnTo>
                    <a:lnTo>
                      <a:pt x="272" y="225"/>
                    </a:lnTo>
                    <a:lnTo>
                      <a:pt x="269" y="229"/>
                    </a:lnTo>
                    <a:lnTo>
                      <a:pt x="261" y="233"/>
                    </a:lnTo>
                    <a:lnTo>
                      <a:pt x="254" y="233"/>
                    </a:lnTo>
                    <a:lnTo>
                      <a:pt x="243" y="233"/>
                    </a:lnTo>
                    <a:lnTo>
                      <a:pt x="211" y="233"/>
                    </a:lnTo>
                    <a:lnTo>
                      <a:pt x="174" y="236"/>
                    </a:lnTo>
                    <a:lnTo>
                      <a:pt x="142" y="236"/>
                    </a:lnTo>
                    <a:lnTo>
                      <a:pt x="109" y="240"/>
                    </a:lnTo>
                    <a:lnTo>
                      <a:pt x="76" y="240"/>
                    </a:lnTo>
                    <a:lnTo>
                      <a:pt x="51" y="240"/>
                    </a:lnTo>
                    <a:lnTo>
                      <a:pt x="37" y="240"/>
                    </a:lnTo>
                    <a:lnTo>
                      <a:pt x="26" y="240"/>
                    </a:lnTo>
                    <a:lnTo>
                      <a:pt x="18" y="236"/>
                    </a:lnTo>
                    <a:lnTo>
                      <a:pt x="11" y="233"/>
                    </a:lnTo>
                    <a:lnTo>
                      <a:pt x="11" y="262"/>
                    </a:lnTo>
                    <a:lnTo>
                      <a:pt x="11" y="301"/>
                    </a:lnTo>
                    <a:lnTo>
                      <a:pt x="11" y="341"/>
                    </a:lnTo>
                    <a:lnTo>
                      <a:pt x="11" y="385"/>
                    </a:lnTo>
                    <a:lnTo>
                      <a:pt x="11" y="425"/>
                    </a:lnTo>
                    <a:lnTo>
                      <a:pt x="11" y="461"/>
                    </a:lnTo>
                    <a:lnTo>
                      <a:pt x="11" y="490"/>
                    </a:lnTo>
                    <a:lnTo>
                      <a:pt x="11" y="505"/>
                    </a:lnTo>
                    <a:lnTo>
                      <a:pt x="11" y="512"/>
                    </a:lnTo>
                    <a:lnTo>
                      <a:pt x="15" y="516"/>
                    </a:lnTo>
                    <a:lnTo>
                      <a:pt x="15" y="523"/>
                    </a:lnTo>
                    <a:lnTo>
                      <a:pt x="22" y="526"/>
                    </a:lnTo>
                    <a:lnTo>
                      <a:pt x="26" y="534"/>
                    </a:lnTo>
                    <a:lnTo>
                      <a:pt x="33" y="537"/>
                    </a:lnTo>
                    <a:lnTo>
                      <a:pt x="40" y="541"/>
                    </a:lnTo>
                    <a:lnTo>
                      <a:pt x="47" y="541"/>
                    </a:lnTo>
                    <a:lnTo>
                      <a:pt x="55" y="545"/>
                    </a:lnTo>
                    <a:lnTo>
                      <a:pt x="66" y="545"/>
                    </a:lnTo>
                    <a:lnTo>
                      <a:pt x="73" y="545"/>
                    </a:lnTo>
                    <a:lnTo>
                      <a:pt x="80" y="545"/>
                    </a:lnTo>
                    <a:lnTo>
                      <a:pt x="91" y="541"/>
                    </a:lnTo>
                    <a:lnTo>
                      <a:pt x="98" y="537"/>
                    </a:lnTo>
                    <a:lnTo>
                      <a:pt x="105" y="530"/>
                    </a:lnTo>
                    <a:lnTo>
                      <a:pt x="113" y="523"/>
                    </a:lnTo>
                    <a:close/>
                  </a:path>
                </a:pathLst>
              </a:custGeom>
              <a:solidFill>
                <a:srgbClr val="ccffcc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597040" y="2684520"/>
                <a:ext cx="1290240" cy="2153880"/>
              </a:xfrm>
              <a:custGeom>
                <a:avLst/>
                <a:gdLst/>
                <a:ahLst/>
                <a:rect l="l" t="t" r="r" b="b"/>
                <a:pathLst>
                  <a:path w="656" h="1077">
                    <a:moveTo>
                      <a:pt x="123" y="526"/>
                    </a:moveTo>
                    <a:lnTo>
                      <a:pt x="127" y="526"/>
                    </a:lnTo>
                    <a:lnTo>
                      <a:pt x="127" y="526"/>
                    </a:lnTo>
                    <a:lnTo>
                      <a:pt x="130" y="519"/>
                    </a:lnTo>
                    <a:lnTo>
                      <a:pt x="123" y="515"/>
                    </a:lnTo>
                    <a:lnTo>
                      <a:pt x="123" y="522"/>
                    </a:lnTo>
                    <a:lnTo>
                      <a:pt x="127" y="522"/>
                    </a:lnTo>
                    <a:lnTo>
                      <a:pt x="130" y="522"/>
                    </a:lnTo>
                    <a:lnTo>
                      <a:pt x="130" y="519"/>
                    </a:lnTo>
                    <a:lnTo>
                      <a:pt x="134" y="515"/>
                    </a:lnTo>
                    <a:lnTo>
                      <a:pt x="130" y="511"/>
                    </a:lnTo>
                    <a:lnTo>
                      <a:pt x="134" y="519"/>
                    </a:lnTo>
                    <a:lnTo>
                      <a:pt x="145" y="515"/>
                    </a:lnTo>
                    <a:lnTo>
                      <a:pt x="156" y="511"/>
                    </a:lnTo>
                    <a:lnTo>
                      <a:pt x="152" y="504"/>
                    </a:lnTo>
                    <a:lnTo>
                      <a:pt x="152" y="511"/>
                    </a:lnTo>
                    <a:lnTo>
                      <a:pt x="163" y="511"/>
                    </a:lnTo>
                    <a:lnTo>
                      <a:pt x="177" y="511"/>
                    </a:lnTo>
                    <a:lnTo>
                      <a:pt x="177" y="504"/>
                    </a:lnTo>
                    <a:lnTo>
                      <a:pt x="177" y="511"/>
                    </a:lnTo>
                    <a:lnTo>
                      <a:pt x="188" y="515"/>
                    </a:lnTo>
                    <a:lnTo>
                      <a:pt x="199" y="519"/>
                    </a:lnTo>
                    <a:lnTo>
                      <a:pt x="210" y="526"/>
                    </a:lnTo>
                    <a:lnTo>
                      <a:pt x="221" y="533"/>
                    </a:lnTo>
                    <a:lnTo>
                      <a:pt x="232" y="540"/>
                    </a:lnTo>
                    <a:lnTo>
                      <a:pt x="232" y="533"/>
                    </a:lnTo>
                    <a:lnTo>
                      <a:pt x="228" y="537"/>
                    </a:lnTo>
                    <a:lnTo>
                      <a:pt x="235" y="548"/>
                    </a:lnTo>
                    <a:lnTo>
                      <a:pt x="239" y="544"/>
                    </a:lnTo>
                    <a:lnTo>
                      <a:pt x="235" y="544"/>
                    </a:lnTo>
                    <a:lnTo>
                      <a:pt x="235" y="551"/>
                    </a:lnTo>
                    <a:lnTo>
                      <a:pt x="235" y="555"/>
                    </a:lnTo>
                    <a:lnTo>
                      <a:pt x="235" y="555"/>
                    </a:lnTo>
                    <a:lnTo>
                      <a:pt x="239" y="558"/>
                    </a:lnTo>
                    <a:lnTo>
                      <a:pt x="243" y="555"/>
                    </a:lnTo>
                    <a:lnTo>
                      <a:pt x="239" y="558"/>
                    </a:lnTo>
                    <a:lnTo>
                      <a:pt x="243" y="566"/>
                    </a:lnTo>
                    <a:lnTo>
                      <a:pt x="243" y="566"/>
                    </a:lnTo>
                    <a:lnTo>
                      <a:pt x="243" y="566"/>
                    </a:lnTo>
                    <a:lnTo>
                      <a:pt x="246" y="569"/>
                    </a:lnTo>
                    <a:lnTo>
                      <a:pt x="250" y="566"/>
                    </a:lnTo>
                    <a:lnTo>
                      <a:pt x="246" y="566"/>
                    </a:lnTo>
                    <a:lnTo>
                      <a:pt x="246" y="573"/>
                    </a:lnTo>
                    <a:lnTo>
                      <a:pt x="246" y="580"/>
                    </a:lnTo>
                    <a:lnTo>
                      <a:pt x="246" y="587"/>
                    </a:lnTo>
                    <a:lnTo>
                      <a:pt x="246" y="595"/>
                    </a:lnTo>
                    <a:lnTo>
                      <a:pt x="250" y="595"/>
                    </a:lnTo>
                    <a:lnTo>
                      <a:pt x="246" y="595"/>
                    </a:lnTo>
                    <a:lnTo>
                      <a:pt x="243" y="606"/>
                    </a:lnTo>
                    <a:lnTo>
                      <a:pt x="239" y="620"/>
                    </a:lnTo>
                    <a:lnTo>
                      <a:pt x="243" y="620"/>
                    </a:lnTo>
                    <a:lnTo>
                      <a:pt x="239" y="616"/>
                    </a:lnTo>
                    <a:lnTo>
                      <a:pt x="232" y="624"/>
                    </a:lnTo>
                    <a:lnTo>
                      <a:pt x="232" y="627"/>
                    </a:lnTo>
                    <a:lnTo>
                      <a:pt x="232" y="627"/>
                    </a:lnTo>
                    <a:lnTo>
                      <a:pt x="224" y="638"/>
                    </a:lnTo>
                    <a:lnTo>
                      <a:pt x="228" y="638"/>
                    </a:lnTo>
                    <a:lnTo>
                      <a:pt x="224" y="635"/>
                    </a:lnTo>
                    <a:lnTo>
                      <a:pt x="217" y="642"/>
                    </a:lnTo>
                    <a:lnTo>
                      <a:pt x="210" y="649"/>
                    </a:lnTo>
                    <a:lnTo>
                      <a:pt x="214" y="653"/>
                    </a:lnTo>
                    <a:lnTo>
                      <a:pt x="214" y="649"/>
                    </a:lnTo>
                    <a:lnTo>
                      <a:pt x="203" y="653"/>
                    </a:lnTo>
                    <a:lnTo>
                      <a:pt x="192" y="656"/>
                    </a:lnTo>
                    <a:lnTo>
                      <a:pt x="185" y="660"/>
                    </a:lnTo>
                    <a:lnTo>
                      <a:pt x="185" y="664"/>
                    </a:lnTo>
                    <a:lnTo>
                      <a:pt x="185" y="660"/>
                    </a:lnTo>
                    <a:lnTo>
                      <a:pt x="174" y="660"/>
                    </a:lnTo>
                    <a:lnTo>
                      <a:pt x="163" y="660"/>
                    </a:lnTo>
                    <a:lnTo>
                      <a:pt x="163" y="664"/>
                    </a:lnTo>
                    <a:lnTo>
                      <a:pt x="166" y="660"/>
                    </a:lnTo>
                    <a:lnTo>
                      <a:pt x="156" y="656"/>
                    </a:lnTo>
                    <a:lnTo>
                      <a:pt x="145" y="653"/>
                    </a:lnTo>
                    <a:lnTo>
                      <a:pt x="137" y="649"/>
                    </a:lnTo>
                    <a:lnTo>
                      <a:pt x="130" y="645"/>
                    </a:lnTo>
                    <a:lnTo>
                      <a:pt x="127" y="649"/>
                    </a:lnTo>
                    <a:lnTo>
                      <a:pt x="130" y="645"/>
                    </a:lnTo>
                    <a:lnTo>
                      <a:pt x="123" y="638"/>
                    </a:lnTo>
                    <a:lnTo>
                      <a:pt x="116" y="631"/>
                    </a:lnTo>
                    <a:lnTo>
                      <a:pt x="108" y="624"/>
                    </a:lnTo>
                    <a:lnTo>
                      <a:pt x="108" y="624"/>
                    </a:lnTo>
                    <a:lnTo>
                      <a:pt x="108" y="624"/>
                    </a:lnTo>
                    <a:lnTo>
                      <a:pt x="101" y="620"/>
                    </a:lnTo>
                    <a:lnTo>
                      <a:pt x="90" y="616"/>
                    </a:lnTo>
                    <a:lnTo>
                      <a:pt x="83" y="613"/>
                    </a:lnTo>
                    <a:lnTo>
                      <a:pt x="76" y="609"/>
                    </a:lnTo>
                    <a:lnTo>
                      <a:pt x="69" y="606"/>
                    </a:lnTo>
                    <a:lnTo>
                      <a:pt x="69" y="606"/>
                    </a:lnTo>
                    <a:lnTo>
                      <a:pt x="65" y="606"/>
                    </a:lnTo>
                    <a:lnTo>
                      <a:pt x="58" y="606"/>
                    </a:lnTo>
                    <a:lnTo>
                      <a:pt x="50" y="606"/>
                    </a:lnTo>
                    <a:lnTo>
                      <a:pt x="43" y="606"/>
                    </a:lnTo>
                    <a:lnTo>
                      <a:pt x="43" y="606"/>
                    </a:lnTo>
                    <a:lnTo>
                      <a:pt x="43" y="606"/>
                    </a:lnTo>
                    <a:lnTo>
                      <a:pt x="36" y="609"/>
                    </a:lnTo>
                    <a:lnTo>
                      <a:pt x="29" y="613"/>
                    </a:lnTo>
                    <a:lnTo>
                      <a:pt x="21" y="616"/>
                    </a:lnTo>
                    <a:lnTo>
                      <a:pt x="18" y="616"/>
                    </a:lnTo>
                    <a:lnTo>
                      <a:pt x="18" y="620"/>
                    </a:lnTo>
                    <a:lnTo>
                      <a:pt x="14" y="627"/>
                    </a:lnTo>
                    <a:lnTo>
                      <a:pt x="11" y="635"/>
                    </a:lnTo>
                    <a:lnTo>
                      <a:pt x="11" y="635"/>
                    </a:lnTo>
                    <a:lnTo>
                      <a:pt x="11" y="635"/>
                    </a:lnTo>
                    <a:lnTo>
                      <a:pt x="11" y="645"/>
                    </a:lnTo>
                    <a:lnTo>
                      <a:pt x="7" y="667"/>
                    </a:lnTo>
                    <a:lnTo>
                      <a:pt x="3" y="693"/>
                    </a:lnTo>
                    <a:lnTo>
                      <a:pt x="0" y="718"/>
                    </a:lnTo>
                    <a:lnTo>
                      <a:pt x="0" y="743"/>
                    </a:lnTo>
                    <a:lnTo>
                      <a:pt x="0" y="772"/>
                    </a:lnTo>
                    <a:lnTo>
                      <a:pt x="0" y="798"/>
                    </a:lnTo>
                    <a:lnTo>
                      <a:pt x="0" y="798"/>
                    </a:lnTo>
                    <a:lnTo>
                      <a:pt x="0" y="801"/>
                    </a:lnTo>
                    <a:lnTo>
                      <a:pt x="3" y="812"/>
                    </a:lnTo>
                    <a:lnTo>
                      <a:pt x="7" y="809"/>
                    </a:lnTo>
                    <a:lnTo>
                      <a:pt x="3" y="809"/>
                    </a:lnTo>
                    <a:lnTo>
                      <a:pt x="3" y="820"/>
                    </a:lnTo>
                    <a:lnTo>
                      <a:pt x="3" y="820"/>
                    </a:lnTo>
                    <a:lnTo>
                      <a:pt x="3" y="823"/>
                    </a:lnTo>
                    <a:lnTo>
                      <a:pt x="7" y="834"/>
                    </a:lnTo>
                    <a:lnTo>
                      <a:pt x="11" y="841"/>
                    </a:lnTo>
                    <a:lnTo>
                      <a:pt x="11" y="845"/>
                    </a:lnTo>
                    <a:lnTo>
                      <a:pt x="14" y="845"/>
                    </a:lnTo>
                    <a:lnTo>
                      <a:pt x="32" y="841"/>
                    </a:lnTo>
                    <a:lnTo>
                      <a:pt x="58" y="838"/>
                    </a:lnTo>
                    <a:lnTo>
                      <a:pt x="87" y="834"/>
                    </a:lnTo>
                    <a:lnTo>
                      <a:pt x="119" y="834"/>
                    </a:lnTo>
                    <a:lnTo>
                      <a:pt x="152" y="830"/>
                    </a:lnTo>
                    <a:lnTo>
                      <a:pt x="177" y="830"/>
                    </a:lnTo>
                    <a:lnTo>
                      <a:pt x="203" y="834"/>
                    </a:lnTo>
                    <a:lnTo>
                      <a:pt x="221" y="834"/>
                    </a:lnTo>
                    <a:lnTo>
                      <a:pt x="239" y="838"/>
                    </a:lnTo>
                    <a:lnTo>
                      <a:pt x="253" y="841"/>
                    </a:lnTo>
                    <a:lnTo>
                      <a:pt x="253" y="834"/>
                    </a:lnTo>
                    <a:lnTo>
                      <a:pt x="253" y="841"/>
                    </a:lnTo>
                    <a:lnTo>
                      <a:pt x="268" y="849"/>
                    </a:lnTo>
                    <a:lnTo>
                      <a:pt x="279" y="856"/>
                    </a:lnTo>
                    <a:lnTo>
                      <a:pt x="286" y="859"/>
                    </a:lnTo>
                    <a:lnTo>
                      <a:pt x="286" y="852"/>
                    </a:lnTo>
                    <a:lnTo>
                      <a:pt x="282" y="856"/>
                    </a:lnTo>
                    <a:lnTo>
                      <a:pt x="290" y="863"/>
                    </a:lnTo>
                    <a:lnTo>
                      <a:pt x="297" y="870"/>
                    </a:lnTo>
                    <a:lnTo>
                      <a:pt x="301" y="867"/>
                    </a:lnTo>
                    <a:lnTo>
                      <a:pt x="297" y="870"/>
                    </a:lnTo>
                    <a:lnTo>
                      <a:pt x="301" y="878"/>
                    </a:lnTo>
                    <a:lnTo>
                      <a:pt x="304" y="874"/>
                    </a:lnTo>
                    <a:lnTo>
                      <a:pt x="301" y="874"/>
                    </a:lnTo>
                    <a:lnTo>
                      <a:pt x="301" y="881"/>
                    </a:lnTo>
                    <a:lnTo>
                      <a:pt x="301" y="888"/>
                    </a:lnTo>
                    <a:lnTo>
                      <a:pt x="301" y="896"/>
                    </a:lnTo>
                    <a:lnTo>
                      <a:pt x="301" y="903"/>
                    </a:lnTo>
                    <a:lnTo>
                      <a:pt x="304" y="903"/>
                    </a:lnTo>
                    <a:lnTo>
                      <a:pt x="301" y="903"/>
                    </a:lnTo>
                    <a:lnTo>
                      <a:pt x="297" y="910"/>
                    </a:lnTo>
                    <a:lnTo>
                      <a:pt x="293" y="918"/>
                    </a:lnTo>
                    <a:lnTo>
                      <a:pt x="297" y="918"/>
                    </a:lnTo>
                    <a:lnTo>
                      <a:pt x="293" y="914"/>
                    </a:lnTo>
                    <a:lnTo>
                      <a:pt x="286" y="921"/>
                    </a:lnTo>
                    <a:lnTo>
                      <a:pt x="290" y="925"/>
                    </a:lnTo>
                    <a:lnTo>
                      <a:pt x="290" y="921"/>
                    </a:lnTo>
                    <a:lnTo>
                      <a:pt x="282" y="925"/>
                    </a:lnTo>
                    <a:lnTo>
                      <a:pt x="279" y="925"/>
                    </a:lnTo>
                    <a:lnTo>
                      <a:pt x="279" y="928"/>
                    </a:lnTo>
                    <a:lnTo>
                      <a:pt x="272" y="939"/>
                    </a:lnTo>
                    <a:lnTo>
                      <a:pt x="268" y="947"/>
                    </a:lnTo>
                    <a:lnTo>
                      <a:pt x="264" y="957"/>
                    </a:lnTo>
                    <a:lnTo>
                      <a:pt x="261" y="968"/>
                    </a:lnTo>
                    <a:lnTo>
                      <a:pt x="261" y="968"/>
                    </a:lnTo>
                    <a:lnTo>
                      <a:pt x="261" y="968"/>
                    </a:lnTo>
                    <a:lnTo>
                      <a:pt x="261" y="979"/>
                    </a:lnTo>
                    <a:lnTo>
                      <a:pt x="261" y="994"/>
                    </a:lnTo>
                    <a:lnTo>
                      <a:pt x="261" y="1005"/>
                    </a:lnTo>
                    <a:lnTo>
                      <a:pt x="261" y="1005"/>
                    </a:lnTo>
                    <a:lnTo>
                      <a:pt x="261" y="1008"/>
                    </a:lnTo>
                    <a:lnTo>
                      <a:pt x="264" y="1019"/>
                    </a:lnTo>
                    <a:lnTo>
                      <a:pt x="272" y="1030"/>
                    </a:lnTo>
                    <a:lnTo>
                      <a:pt x="279" y="1041"/>
                    </a:lnTo>
                    <a:lnTo>
                      <a:pt x="279" y="1041"/>
                    </a:lnTo>
                    <a:lnTo>
                      <a:pt x="279" y="1041"/>
                    </a:lnTo>
                    <a:lnTo>
                      <a:pt x="286" y="1048"/>
                    </a:lnTo>
                    <a:lnTo>
                      <a:pt x="290" y="1044"/>
                    </a:lnTo>
                    <a:lnTo>
                      <a:pt x="286" y="1048"/>
                    </a:lnTo>
                    <a:lnTo>
                      <a:pt x="293" y="1059"/>
                    </a:lnTo>
                    <a:lnTo>
                      <a:pt x="293" y="1059"/>
                    </a:lnTo>
                    <a:lnTo>
                      <a:pt x="297" y="1063"/>
                    </a:lnTo>
                    <a:lnTo>
                      <a:pt x="304" y="1066"/>
                    </a:lnTo>
                    <a:lnTo>
                      <a:pt x="311" y="1070"/>
                    </a:lnTo>
                    <a:lnTo>
                      <a:pt x="311" y="1070"/>
                    </a:lnTo>
                    <a:lnTo>
                      <a:pt x="311" y="1070"/>
                    </a:lnTo>
                    <a:lnTo>
                      <a:pt x="315" y="1070"/>
                    </a:lnTo>
                    <a:lnTo>
                      <a:pt x="315" y="1063"/>
                    </a:lnTo>
                    <a:lnTo>
                      <a:pt x="315" y="1070"/>
                    </a:lnTo>
                    <a:lnTo>
                      <a:pt x="322" y="1073"/>
                    </a:lnTo>
                    <a:lnTo>
                      <a:pt x="330" y="1077"/>
                    </a:lnTo>
                    <a:lnTo>
                      <a:pt x="330" y="1077"/>
                    </a:lnTo>
                    <a:lnTo>
                      <a:pt x="330" y="1077"/>
                    </a:lnTo>
                    <a:lnTo>
                      <a:pt x="337" y="1077"/>
                    </a:lnTo>
                    <a:lnTo>
                      <a:pt x="344" y="1077"/>
                    </a:lnTo>
                    <a:lnTo>
                      <a:pt x="351" y="1077"/>
                    </a:lnTo>
                    <a:lnTo>
                      <a:pt x="370" y="1077"/>
                    </a:lnTo>
                    <a:lnTo>
                      <a:pt x="384" y="1073"/>
                    </a:lnTo>
                    <a:lnTo>
                      <a:pt x="388" y="1070"/>
                    </a:lnTo>
                    <a:lnTo>
                      <a:pt x="388" y="1073"/>
                    </a:lnTo>
                    <a:lnTo>
                      <a:pt x="399" y="1066"/>
                    </a:lnTo>
                    <a:lnTo>
                      <a:pt x="409" y="1063"/>
                    </a:lnTo>
                    <a:lnTo>
                      <a:pt x="409" y="1063"/>
                    </a:lnTo>
                    <a:lnTo>
                      <a:pt x="409" y="1059"/>
                    </a:lnTo>
                    <a:lnTo>
                      <a:pt x="420" y="1048"/>
                    </a:lnTo>
                    <a:lnTo>
                      <a:pt x="417" y="1044"/>
                    </a:lnTo>
                    <a:lnTo>
                      <a:pt x="420" y="1052"/>
                    </a:lnTo>
                    <a:lnTo>
                      <a:pt x="431" y="1044"/>
                    </a:lnTo>
                    <a:lnTo>
                      <a:pt x="431" y="1044"/>
                    </a:lnTo>
                    <a:lnTo>
                      <a:pt x="431" y="1041"/>
                    </a:lnTo>
                    <a:lnTo>
                      <a:pt x="438" y="1034"/>
                    </a:lnTo>
                    <a:lnTo>
                      <a:pt x="442" y="1034"/>
                    </a:lnTo>
                    <a:lnTo>
                      <a:pt x="442" y="1034"/>
                    </a:lnTo>
                    <a:lnTo>
                      <a:pt x="446" y="1023"/>
                    </a:lnTo>
                    <a:lnTo>
                      <a:pt x="449" y="1012"/>
                    </a:lnTo>
                    <a:lnTo>
                      <a:pt x="449" y="1012"/>
                    </a:lnTo>
                    <a:lnTo>
                      <a:pt x="449" y="1008"/>
                    </a:lnTo>
                    <a:lnTo>
                      <a:pt x="449" y="997"/>
                    </a:lnTo>
                    <a:lnTo>
                      <a:pt x="442" y="997"/>
                    </a:lnTo>
                    <a:lnTo>
                      <a:pt x="449" y="1001"/>
                    </a:lnTo>
                    <a:lnTo>
                      <a:pt x="453" y="990"/>
                    </a:lnTo>
                    <a:lnTo>
                      <a:pt x="453" y="986"/>
                    </a:lnTo>
                    <a:lnTo>
                      <a:pt x="453" y="986"/>
                    </a:lnTo>
                    <a:lnTo>
                      <a:pt x="449" y="976"/>
                    </a:lnTo>
                    <a:lnTo>
                      <a:pt x="446" y="965"/>
                    </a:lnTo>
                    <a:lnTo>
                      <a:pt x="442" y="954"/>
                    </a:lnTo>
                    <a:lnTo>
                      <a:pt x="435" y="943"/>
                    </a:lnTo>
                    <a:lnTo>
                      <a:pt x="431" y="939"/>
                    </a:lnTo>
                    <a:lnTo>
                      <a:pt x="431" y="939"/>
                    </a:lnTo>
                    <a:lnTo>
                      <a:pt x="420" y="932"/>
                    </a:lnTo>
                    <a:lnTo>
                      <a:pt x="417" y="936"/>
                    </a:lnTo>
                    <a:lnTo>
                      <a:pt x="424" y="936"/>
                    </a:lnTo>
                    <a:lnTo>
                      <a:pt x="417" y="925"/>
                    </a:lnTo>
                    <a:lnTo>
                      <a:pt x="413" y="918"/>
                    </a:lnTo>
                    <a:lnTo>
                      <a:pt x="406" y="907"/>
                    </a:lnTo>
                    <a:lnTo>
                      <a:pt x="402" y="896"/>
                    </a:lnTo>
                    <a:lnTo>
                      <a:pt x="395" y="896"/>
                    </a:lnTo>
                    <a:lnTo>
                      <a:pt x="402" y="896"/>
                    </a:lnTo>
                    <a:lnTo>
                      <a:pt x="402" y="885"/>
                    </a:lnTo>
                    <a:lnTo>
                      <a:pt x="402" y="874"/>
                    </a:lnTo>
                    <a:lnTo>
                      <a:pt x="402" y="867"/>
                    </a:lnTo>
                    <a:lnTo>
                      <a:pt x="402" y="856"/>
                    </a:lnTo>
                    <a:lnTo>
                      <a:pt x="395" y="856"/>
                    </a:lnTo>
                    <a:lnTo>
                      <a:pt x="402" y="859"/>
                    </a:lnTo>
                    <a:lnTo>
                      <a:pt x="406" y="852"/>
                    </a:lnTo>
                    <a:lnTo>
                      <a:pt x="409" y="841"/>
                    </a:lnTo>
                    <a:lnTo>
                      <a:pt x="413" y="834"/>
                    </a:lnTo>
                    <a:lnTo>
                      <a:pt x="406" y="830"/>
                    </a:lnTo>
                    <a:lnTo>
                      <a:pt x="409" y="838"/>
                    </a:lnTo>
                    <a:lnTo>
                      <a:pt x="417" y="834"/>
                    </a:lnTo>
                    <a:lnTo>
                      <a:pt x="417" y="830"/>
                    </a:lnTo>
                    <a:lnTo>
                      <a:pt x="420" y="830"/>
                    </a:lnTo>
                    <a:lnTo>
                      <a:pt x="424" y="823"/>
                    </a:lnTo>
                    <a:lnTo>
                      <a:pt x="417" y="820"/>
                    </a:lnTo>
                    <a:lnTo>
                      <a:pt x="420" y="827"/>
                    </a:lnTo>
                    <a:lnTo>
                      <a:pt x="428" y="823"/>
                    </a:lnTo>
                    <a:lnTo>
                      <a:pt x="435" y="820"/>
                    </a:lnTo>
                    <a:lnTo>
                      <a:pt x="431" y="812"/>
                    </a:lnTo>
                    <a:lnTo>
                      <a:pt x="431" y="820"/>
                    </a:lnTo>
                    <a:lnTo>
                      <a:pt x="435" y="820"/>
                    </a:lnTo>
                    <a:lnTo>
                      <a:pt x="446" y="820"/>
                    </a:lnTo>
                    <a:lnTo>
                      <a:pt x="464" y="823"/>
                    </a:lnTo>
                    <a:lnTo>
                      <a:pt x="482" y="823"/>
                    </a:lnTo>
                    <a:lnTo>
                      <a:pt x="507" y="827"/>
                    </a:lnTo>
                    <a:lnTo>
                      <a:pt x="536" y="830"/>
                    </a:lnTo>
                    <a:lnTo>
                      <a:pt x="565" y="830"/>
                    </a:lnTo>
                    <a:lnTo>
                      <a:pt x="594" y="834"/>
                    </a:lnTo>
                    <a:lnTo>
                      <a:pt x="627" y="834"/>
                    </a:lnTo>
                    <a:lnTo>
                      <a:pt x="631" y="834"/>
                    </a:lnTo>
                    <a:lnTo>
                      <a:pt x="634" y="830"/>
                    </a:lnTo>
                    <a:lnTo>
                      <a:pt x="641" y="820"/>
                    </a:lnTo>
                    <a:lnTo>
                      <a:pt x="645" y="805"/>
                    </a:lnTo>
                    <a:lnTo>
                      <a:pt x="649" y="791"/>
                    </a:lnTo>
                    <a:lnTo>
                      <a:pt x="652" y="776"/>
                    </a:lnTo>
                    <a:lnTo>
                      <a:pt x="656" y="762"/>
                    </a:lnTo>
                    <a:lnTo>
                      <a:pt x="656" y="762"/>
                    </a:lnTo>
                    <a:lnTo>
                      <a:pt x="656" y="758"/>
                    </a:lnTo>
                    <a:lnTo>
                      <a:pt x="656" y="743"/>
                    </a:lnTo>
                    <a:lnTo>
                      <a:pt x="656" y="729"/>
                    </a:lnTo>
                    <a:lnTo>
                      <a:pt x="656" y="714"/>
                    </a:lnTo>
                    <a:lnTo>
                      <a:pt x="656" y="700"/>
                    </a:lnTo>
                    <a:lnTo>
                      <a:pt x="656" y="685"/>
                    </a:lnTo>
                    <a:lnTo>
                      <a:pt x="656" y="685"/>
                    </a:lnTo>
                    <a:lnTo>
                      <a:pt x="656" y="685"/>
                    </a:lnTo>
                    <a:lnTo>
                      <a:pt x="652" y="671"/>
                    </a:lnTo>
                    <a:lnTo>
                      <a:pt x="645" y="671"/>
                    </a:lnTo>
                    <a:lnTo>
                      <a:pt x="652" y="671"/>
                    </a:lnTo>
                    <a:lnTo>
                      <a:pt x="652" y="656"/>
                    </a:lnTo>
                    <a:lnTo>
                      <a:pt x="652" y="656"/>
                    </a:lnTo>
                    <a:lnTo>
                      <a:pt x="652" y="656"/>
                    </a:lnTo>
                    <a:lnTo>
                      <a:pt x="649" y="645"/>
                    </a:lnTo>
                    <a:lnTo>
                      <a:pt x="645" y="635"/>
                    </a:lnTo>
                    <a:lnTo>
                      <a:pt x="641" y="624"/>
                    </a:lnTo>
                    <a:lnTo>
                      <a:pt x="638" y="616"/>
                    </a:lnTo>
                    <a:lnTo>
                      <a:pt x="634" y="606"/>
                    </a:lnTo>
                    <a:lnTo>
                      <a:pt x="634" y="606"/>
                    </a:lnTo>
                    <a:lnTo>
                      <a:pt x="631" y="602"/>
                    </a:lnTo>
                    <a:lnTo>
                      <a:pt x="627" y="598"/>
                    </a:lnTo>
                    <a:lnTo>
                      <a:pt x="623" y="602"/>
                    </a:lnTo>
                    <a:lnTo>
                      <a:pt x="631" y="602"/>
                    </a:lnTo>
                    <a:lnTo>
                      <a:pt x="627" y="595"/>
                    </a:lnTo>
                    <a:lnTo>
                      <a:pt x="627" y="595"/>
                    </a:lnTo>
                    <a:lnTo>
                      <a:pt x="623" y="591"/>
                    </a:lnTo>
                    <a:lnTo>
                      <a:pt x="620" y="587"/>
                    </a:lnTo>
                    <a:lnTo>
                      <a:pt x="620" y="587"/>
                    </a:lnTo>
                    <a:lnTo>
                      <a:pt x="620" y="587"/>
                    </a:lnTo>
                    <a:lnTo>
                      <a:pt x="612" y="584"/>
                    </a:lnTo>
                    <a:lnTo>
                      <a:pt x="612" y="584"/>
                    </a:lnTo>
                    <a:lnTo>
                      <a:pt x="609" y="584"/>
                    </a:lnTo>
                    <a:lnTo>
                      <a:pt x="605" y="584"/>
                    </a:lnTo>
                    <a:lnTo>
                      <a:pt x="605" y="587"/>
                    </a:lnTo>
                    <a:lnTo>
                      <a:pt x="609" y="584"/>
                    </a:lnTo>
                    <a:lnTo>
                      <a:pt x="605" y="580"/>
                    </a:lnTo>
                    <a:lnTo>
                      <a:pt x="605" y="580"/>
                    </a:lnTo>
                    <a:lnTo>
                      <a:pt x="602" y="580"/>
                    </a:lnTo>
                    <a:lnTo>
                      <a:pt x="594" y="580"/>
                    </a:lnTo>
                    <a:lnTo>
                      <a:pt x="583" y="580"/>
                    </a:lnTo>
                    <a:lnTo>
                      <a:pt x="569" y="584"/>
                    </a:lnTo>
                    <a:lnTo>
                      <a:pt x="554" y="587"/>
                    </a:lnTo>
                    <a:lnTo>
                      <a:pt x="551" y="587"/>
                    </a:lnTo>
                    <a:lnTo>
                      <a:pt x="554" y="587"/>
                    </a:lnTo>
                    <a:lnTo>
                      <a:pt x="540" y="595"/>
                    </a:lnTo>
                    <a:lnTo>
                      <a:pt x="529" y="598"/>
                    </a:lnTo>
                    <a:lnTo>
                      <a:pt x="529" y="602"/>
                    </a:lnTo>
                    <a:lnTo>
                      <a:pt x="529" y="598"/>
                    </a:lnTo>
                    <a:lnTo>
                      <a:pt x="522" y="598"/>
                    </a:lnTo>
                    <a:lnTo>
                      <a:pt x="522" y="598"/>
                    </a:lnTo>
                    <a:lnTo>
                      <a:pt x="522" y="598"/>
                    </a:lnTo>
                    <a:lnTo>
                      <a:pt x="511" y="602"/>
                    </a:lnTo>
                    <a:lnTo>
                      <a:pt x="511" y="606"/>
                    </a:lnTo>
                    <a:lnTo>
                      <a:pt x="511" y="602"/>
                    </a:lnTo>
                    <a:lnTo>
                      <a:pt x="504" y="602"/>
                    </a:lnTo>
                    <a:lnTo>
                      <a:pt x="493" y="602"/>
                    </a:lnTo>
                    <a:lnTo>
                      <a:pt x="486" y="602"/>
                    </a:lnTo>
                    <a:lnTo>
                      <a:pt x="482" y="602"/>
                    </a:lnTo>
                    <a:lnTo>
                      <a:pt x="482" y="606"/>
                    </a:lnTo>
                    <a:lnTo>
                      <a:pt x="486" y="602"/>
                    </a:lnTo>
                    <a:lnTo>
                      <a:pt x="475" y="598"/>
                    </a:lnTo>
                    <a:lnTo>
                      <a:pt x="475" y="598"/>
                    </a:lnTo>
                    <a:lnTo>
                      <a:pt x="471" y="598"/>
                    </a:lnTo>
                    <a:lnTo>
                      <a:pt x="467" y="598"/>
                    </a:lnTo>
                    <a:lnTo>
                      <a:pt x="467" y="602"/>
                    </a:lnTo>
                    <a:lnTo>
                      <a:pt x="471" y="598"/>
                    </a:lnTo>
                    <a:lnTo>
                      <a:pt x="464" y="595"/>
                    </a:lnTo>
                    <a:lnTo>
                      <a:pt x="464" y="595"/>
                    </a:lnTo>
                    <a:lnTo>
                      <a:pt x="460" y="595"/>
                    </a:lnTo>
                    <a:lnTo>
                      <a:pt x="457" y="595"/>
                    </a:lnTo>
                    <a:lnTo>
                      <a:pt x="457" y="598"/>
                    </a:lnTo>
                    <a:lnTo>
                      <a:pt x="460" y="595"/>
                    </a:lnTo>
                    <a:lnTo>
                      <a:pt x="453" y="591"/>
                    </a:lnTo>
                    <a:lnTo>
                      <a:pt x="449" y="595"/>
                    </a:lnTo>
                    <a:lnTo>
                      <a:pt x="453" y="591"/>
                    </a:lnTo>
                    <a:lnTo>
                      <a:pt x="446" y="584"/>
                    </a:lnTo>
                    <a:lnTo>
                      <a:pt x="442" y="587"/>
                    </a:lnTo>
                    <a:lnTo>
                      <a:pt x="449" y="587"/>
                    </a:lnTo>
                    <a:lnTo>
                      <a:pt x="442" y="577"/>
                    </a:lnTo>
                    <a:lnTo>
                      <a:pt x="442" y="577"/>
                    </a:lnTo>
                    <a:lnTo>
                      <a:pt x="438" y="573"/>
                    </a:lnTo>
                    <a:lnTo>
                      <a:pt x="431" y="566"/>
                    </a:lnTo>
                    <a:lnTo>
                      <a:pt x="428" y="569"/>
                    </a:lnTo>
                    <a:lnTo>
                      <a:pt x="435" y="569"/>
                    </a:lnTo>
                    <a:lnTo>
                      <a:pt x="431" y="558"/>
                    </a:lnTo>
                    <a:lnTo>
                      <a:pt x="428" y="548"/>
                    </a:lnTo>
                    <a:lnTo>
                      <a:pt x="420" y="548"/>
                    </a:lnTo>
                    <a:lnTo>
                      <a:pt x="428" y="548"/>
                    </a:lnTo>
                    <a:lnTo>
                      <a:pt x="428" y="540"/>
                    </a:lnTo>
                    <a:lnTo>
                      <a:pt x="428" y="529"/>
                    </a:lnTo>
                    <a:lnTo>
                      <a:pt x="428" y="522"/>
                    </a:lnTo>
                    <a:lnTo>
                      <a:pt x="420" y="522"/>
                    </a:lnTo>
                    <a:lnTo>
                      <a:pt x="428" y="526"/>
                    </a:lnTo>
                    <a:lnTo>
                      <a:pt x="431" y="519"/>
                    </a:lnTo>
                    <a:lnTo>
                      <a:pt x="435" y="511"/>
                    </a:lnTo>
                    <a:lnTo>
                      <a:pt x="438" y="500"/>
                    </a:lnTo>
                    <a:lnTo>
                      <a:pt x="446" y="489"/>
                    </a:lnTo>
                    <a:lnTo>
                      <a:pt x="438" y="486"/>
                    </a:lnTo>
                    <a:lnTo>
                      <a:pt x="442" y="489"/>
                    </a:lnTo>
                    <a:lnTo>
                      <a:pt x="449" y="482"/>
                    </a:lnTo>
                    <a:lnTo>
                      <a:pt x="446" y="479"/>
                    </a:lnTo>
                    <a:lnTo>
                      <a:pt x="449" y="486"/>
                    </a:lnTo>
                    <a:lnTo>
                      <a:pt x="457" y="482"/>
                    </a:lnTo>
                    <a:lnTo>
                      <a:pt x="464" y="479"/>
                    </a:lnTo>
                    <a:lnTo>
                      <a:pt x="471" y="475"/>
                    </a:lnTo>
                    <a:lnTo>
                      <a:pt x="478" y="471"/>
                    </a:lnTo>
                    <a:lnTo>
                      <a:pt x="486" y="468"/>
                    </a:lnTo>
                    <a:lnTo>
                      <a:pt x="482" y="460"/>
                    </a:lnTo>
                    <a:lnTo>
                      <a:pt x="482" y="468"/>
                    </a:lnTo>
                    <a:lnTo>
                      <a:pt x="489" y="468"/>
                    </a:lnTo>
                    <a:lnTo>
                      <a:pt x="493" y="468"/>
                    </a:lnTo>
                    <a:lnTo>
                      <a:pt x="493" y="460"/>
                    </a:lnTo>
                    <a:lnTo>
                      <a:pt x="493" y="468"/>
                    </a:lnTo>
                    <a:lnTo>
                      <a:pt x="500" y="471"/>
                    </a:lnTo>
                    <a:lnTo>
                      <a:pt x="500" y="471"/>
                    </a:lnTo>
                    <a:lnTo>
                      <a:pt x="500" y="471"/>
                    </a:lnTo>
                    <a:lnTo>
                      <a:pt x="507" y="471"/>
                    </a:lnTo>
                    <a:lnTo>
                      <a:pt x="507" y="464"/>
                    </a:lnTo>
                    <a:lnTo>
                      <a:pt x="507" y="471"/>
                    </a:lnTo>
                    <a:lnTo>
                      <a:pt x="522" y="479"/>
                    </a:lnTo>
                    <a:lnTo>
                      <a:pt x="533" y="482"/>
                    </a:lnTo>
                    <a:lnTo>
                      <a:pt x="547" y="489"/>
                    </a:lnTo>
                    <a:lnTo>
                      <a:pt x="558" y="497"/>
                    </a:lnTo>
                    <a:lnTo>
                      <a:pt x="569" y="504"/>
                    </a:lnTo>
                    <a:lnTo>
                      <a:pt x="565" y="500"/>
                    </a:lnTo>
                    <a:lnTo>
                      <a:pt x="569" y="504"/>
                    </a:lnTo>
                    <a:lnTo>
                      <a:pt x="583" y="508"/>
                    </a:lnTo>
                    <a:lnTo>
                      <a:pt x="591" y="508"/>
                    </a:lnTo>
                    <a:lnTo>
                      <a:pt x="591" y="500"/>
                    </a:lnTo>
                    <a:lnTo>
                      <a:pt x="587" y="504"/>
                    </a:lnTo>
                    <a:lnTo>
                      <a:pt x="591" y="508"/>
                    </a:lnTo>
                    <a:lnTo>
                      <a:pt x="594" y="511"/>
                    </a:lnTo>
                    <a:lnTo>
                      <a:pt x="594" y="511"/>
                    </a:lnTo>
                    <a:lnTo>
                      <a:pt x="602" y="511"/>
                    </a:lnTo>
                    <a:lnTo>
                      <a:pt x="605" y="511"/>
                    </a:lnTo>
                    <a:lnTo>
                      <a:pt x="605" y="511"/>
                    </a:lnTo>
                    <a:lnTo>
                      <a:pt x="612" y="508"/>
                    </a:lnTo>
                    <a:lnTo>
                      <a:pt x="609" y="500"/>
                    </a:lnTo>
                    <a:lnTo>
                      <a:pt x="609" y="508"/>
                    </a:lnTo>
                    <a:lnTo>
                      <a:pt x="612" y="508"/>
                    </a:lnTo>
                    <a:lnTo>
                      <a:pt x="616" y="508"/>
                    </a:lnTo>
                    <a:lnTo>
                      <a:pt x="616" y="508"/>
                    </a:lnTo>
                    <a:lnTo>
                      <a:pt x="623" y="504"/>
                    </a:lnTo>
                    <a:lnTo>
                      <a:pt x="631" y="500"/>
                    </a:lnTo>
                    <a:lnTo>
                      <a:pt x="631" y="500"/>
                    </a:lnTo>
                    <a:lnTo>
                      <a:pt x="631" y="497"/>
                    </a:lnTo>
                    <a:lnTo>
                      <a:pt x="634" y="493"/>
                    </a:lnTo>
                    <a:lnTo>
                      <a:pt x="638" y="489"/>
                    </a:lnTo>
                    <a:lnTo>
                      <a:pt x="641" y="486"/>
                    </a:lnTo>
                    <a:lnTo>
                      <a:pt x="645" y="486"/>
                    </a:lnTo>
                    <a:lnTo>
                      <a:pt x="645" y="482"/>
                    </a:lnTo>
                    <a:lnTo>
                      <a:pt x="645" y="479"/>
                    </a:lnTo>
                    <a:lnTo>
                      <a:pt x="638" y="479"/>
                    </a:lnTo>
                    <a:lnTo>
                      <a:pt x="645" y="482"/>
                    </a:lnTo>
                    <a:lnTo>
                      <a:pt x="649" y="475"/>
                    </a:lnTo>
                    <a:lnTo>
                      <a:pt x="652" y="460"/>
                    </a:lnTo>
                    <a:lnTo>
                      <a:pt x="652" y="460"/>
                    </a:lnTo>
                    <a:lnTo>
                      <a:pt x="652" y="457"/>
                    </a:lnTo>
                    <a:lnTo>
                      <a:pt x="652" y="442"/>
                    </a:lnTo>
                    <a:lnTo>
                      <a:pt x="652" y="424"/>
                    </a:lnTo>
                    <a:lnTo>
                      <a:pt x="649" y="402"/>
                    </a:lnTo>
                    <a:lnTo>
                      <a:pt x="649" y="384"/>
                    </a:lnTo>
                    <a:lnTo>
                      <a:pt x="645" y="363"/>
                    </a:lnTo>
                    <a:lnTo>
                      <a:pt x="641" y="319"/>
                    </a:lnTo>
                    <a:lnTo>
                      <a:pt x="638" y="283"/>
                    </a:lnTo>
                    <a:lnTo>
                      <a:pt x="638" y="268"/>
                    </a:lnTo>
                    <a:lnTo>
                      <a:pt x="638" y="254"/>
                    </a:lnTo>
                    <a:lnTo>
                      <a:pt x="638" y="243"/>
                    </a:lnTo>
                    <a:lnTo>
                      <a:pt x="638" y="236"/>
                    </a:lnTo>
                    <a:lnTo>
                      <a:pt x="638" y="225"/>
                    </a:lnTo>
                    <a:lnTo>
                      <a:pt x="631" y="232"/>
                    </a:lnTo>
                    <a:lnTo>
                      <a:pt x="620" y="239"/>
                    </a:lnTo>
                    <a:lnTo>
                      <a:pt x="605" y="246"/>
                    </a:lnTo>
                    <a:lnTo>
                      <a:pt x="605" y="250"/>
                    </a:lnTo>
                    <a:lnTo>
                      <a:pt x="605" y="246"/>
                    </a:lnTo>
                    <a:lnTo>
                      <a:pt x="591" y="250"/>
                    </a:lnTo>
                    <a:lnTo>
                      <a:pt x="573" y="254"/>
                    </a:lnTo>
                    <a:lnTo>
                      <a:pt x="554" y="257"/>
                    </a:lnTo>
                    <a:lnTo>
                      <a:pt x="536" y="257"/>
                    </a:lnTo>
                    <a:lnTo>
                      <a:pt x="518" y="257"/>
                    </a:lnTo>
                    <a:lnTo>
                      <a:pt x="500" y="257"/>
                    </a:lnTo>
                    <a:lnTo>
                      <a:pt x="482" y="257"/>
                    </a:lnTo>
                    <a:lnTo>
                      <a:pt x="460" y="257"/>
                    </a:lnTo>
                    <a:lnTo>
                      <a:pt x="446" y="254"/>
                    </a:lnTo>
                    <a:lnTo>
                      <a:pt x="428" y="250"/>
                    </a:lnTo>
                    <a:lnTo>
                      <a:pt x="413" y="246"/>
                    </a:lnTo>
                    <a:lnTo>
                      <a:pt x="413" y="250"/>
                    </a:lnTo>
                    <a:lnTo>
                      <a:pt x="417" y="246"/>
                    </a:lnTo>
                    <a:lnTo>
                      <a:pt x="406" y="243"/>
                    </a:lnTo>
                    <a:lnTo>
                      <a:pt x="395" y="236"/>
                    </a:lnTo>
                    <a:lnTo>
                      <a:pt x="384" y="232"/>
                    </a:lnTo>
                    <a:lnTo>
                      <a:pt x="380" y="236"/>
                    </a:lnTo>
                    <a:lnTo>
                      <a:pt x="384" y="232"/>
                    </a:lnTo>
                    <a:lnTo>
                      <a:pt x="377" y="225"/>
                    </a:lnTo>
                    <a:lnTo>
                      <a:pt x="373" y="221"/>
                    </a:lnTo>
                    <a:lnTo>
                      <a:pt x="370" y="217"/>
                    </a:lnTo>
                    <a:lnTo>
                      <a:pt x="366" y="221"/>
                    </a:lnTo>
                    <a:lnTo>
                      <a:pt x="373" y="221"/>
                    </a:lnTo>
                    <a:lnTo>
                      <a:pt x="370" y="214"/>
                    </a:lnTo>
                    <a:lnTo>
                      <a:pt x="362" y="214"/>
                    </a:lnTo>
                    <a:lnTo>
                      <a:pt x="370" y="214"/>
                    </a:lnTo>
                    <a:lnTo>
                      <a:pt x="370" y="210"/>
                    </a:lnTo>
                    <a:lnTo>
                      <a:pt x="370" y="203"/>
                    </a:lnTo>
                    <a:lnTo>
                      <a:pt x="370" y="199"/>
                    </a:lnTo>
                    <a:lnTo>
                      <a:pt x="370" y="192"/>
                    </a:lnTo>
                    <a:lnTo>
                      <a:pt x="362" y="192"/>
                    </a:lnTo>
                    <a:lnTo>
                      <a:pt x="366" y="196"/>
                    </a:lnTo>
                    <a:lnTo>
                      <a:pt x="370" y="192"/>
                    </a:lnTo>
                    <a:lnTo>
                      <a:pt x="373" y="192"/>
                    </a:lnTo>
                    <a:lnTo>
                      <a:pt x="373" y="192"/>
                    </a:lnTo>
                    <a:lnTo>
                      <a:pt x="377" y="185"/>
                    </a:lnTo>
                    <a:lnTo>
                      <a:pt x="380" y="178"/>
                    </a:lnTo>
                    <a:lnTo>
                      <a:pt x="373" y="174"/>
                    </a:lnTo>
                    <a:lnTo>
                      <a:pt x="377" y="181"/>
                    </a:lnTo>
                    <a:lnTo>
                      <a:pt x="384" y="178"/>
                    </a:lnTo>
                    <a:lnTo>
                      <a:pt x="384" y="174"/>
                    </a:lnTo>
                    <a:lnTo>
                      <a:pt x="384" y="174"/>
                    </a:lnTo>
                    <a:lnTo>
                      <a:pt x="395" y="159"/>
                    </a:lnTo>
                    <a:lnTo>
                      <a:pt x="409" y="145"/>
                    </a:lnTo>
                    <a:lnTo>
                      <a:pt x="413" y="145"/>
                    </a:lnTo>
                    <a:lnTo>
                      <a:pt x="413" y="145"/>
                    </a:lnTo>
                    <a:lnTo>
                      <a:pt x="420" y="134"/>
                    </a:lnTo>
                    <a:lnTo>
                      <a:pt x="424" y="123"/>
                    </a:lnTo>
                    <a:lnTo>
                      <a:pt x="428" y="112"/>
                    </a:lnTo>
                    <a:lnTo>
                      <a:pt x="431" y="105"/>
                    </a:lnTo>
                    <a:lnTo>
                      <a:pt x="431" y="105"/>
                    </a:lnTo>
                    <a:lnTo>
                      <a:pt x="431" y="101"/>
                    </a:lnTo>
                    <a:lnTo>
                      <a:pt x="431" y="87"/>
                    </a:lnTo>
                    <a:lnTo>
                      <a:pt x="431" y="76"/>
                    </a:lnTo>
                    <a:lnTo>
                      <a:pt x="431" y="76"/>
                    </a:lnTo>
                    <a:lnTo>
                      <a:pt x="431" y="76"/>
                    </a:lnTo>
                    <a:lnTo>
                      <a:pt x="428" y="65"/>
                    </a:lnTo>
                    <a:lnTo>
                      <a:pt x="424" y="54"/>
                    </a:lnTo>
                    <a:lnTo>
                      <a:pt x="417" y="43"/>
                    </a:lnTo>
                    <a:lnTo>
                      <a:pt x="417" y="43"/>
                    </a:lnTo>
                    <a:lnTo>
                      <a:pt x="413" y="40"/>
                    </a:lnTo>
                    <a:lnTo>
                      <a:pt x="406" y="32"/>
                    </a:lnTo>
                    <a:lnTo>
                      <a:pt x="402" y="36"/>
                    </a:lnTo>
                    <a:lnTo>
                      <a:pt x="409" y="36"/>
                    </a:lnTo>
                    <a:lnTo>
                      <a:pt x="402" y="25"/>
                    </a:lnTo>
                    <a:lnTo>
                      <a:pt x="399" y="22"/>
                    </a:lnTo>
                    <a:lnTo>
                      <a:pt x="399" y="22"/>
                    </a:lnTo>
                    <a:lnTo>
                      <a:pt x="388" y="14"/>
                    </a:lnTo>
                    <a:lnTo>
                      <a:pt x="377" y="11"/>
                    </a:lnTo>
                    <a:lnTo>
                      <a:pt x="366" y="3"/>
                    </a:lnTo>
                    <a:lnTo>
                      <a:pt x="366" y="3"/>
                    </a:lnTo>
                    <a:lnTo>
                      <a:pt x="362" y="3"/>
                    </a:lnTo>
                    <a:lnTo>
                      <a:pt x="348" y="0"/>
                    </a:lnTo>
                    <a:lnTo>
                      <a:pt x="333" y="0"/>
                    </a:lnTo>
                    <a:lnTo>
                      <a:pt x="319" y="0"/>
                    </a:lnTo>
                    <a:lnTo>
                      <a:pt x="319" y="0"/>
                    </a:lnTo>
                    <a:lnTo>
                      <a:pt x="319" y="0"/>
                    </a:lnTo>
                    <a:lnTo>
                      <a:pt x="308" y="3"/>
                    </a:lnTo>
                    <a:lnTo>
                      <a:pt x="297" y="11"/>
                    </a:lnTo>
                    <a:lnTo>
                      <a:pt x="297" y="14"/>
                    </a:lnTo>
                    <a:lnTo>
                      <a:pt x="297" y="11"/>
                    </a:lnTo>
                    <a:lnTo>
                      <a:pt x="282" y="14"/>
                    </a:lnTo>
                    <a:lnTo>
                      <a:pt x="279" y="14"/>
                    </a:lnTo>
                    <a:lnTo>
                      <a:pt x="282" y="14"/>
                    </a:lnTo>
                    <a:lnTo>
                      <a:pt x="272" y="22"/>
                    </a:lnTo>
                    <a:lnTo>
                      <a:pt x="272" y="22"/>
                    </a:lnTo>
                    <a:lnTo>
                      <a:pt x="268" y="22"/>
                    </a:lnTo>
                    <a:lnTo>
                      <a:pt x="257" y="32"/>
                    </a:lnTo>
                    <a:lnTo>
                      <a:pt x="250" y="40"/>
                    </a:lnTo>
                    <a:lnTo>
                      <a:pt x="250" y="43"/>
                    </a:lnTo>
                    <a:lnTo>
                      <a:pt x="250" y="43"/>
                    </a:lnTo>
                    <a:lnTo>
                      <a:pt x="243" y="54"/>
                    </a:lnTo>
                    <a:lnTo>
                      <a:pt x="239" y="65"/>
                    </a:lnTo>
                    <a:lnTo>
                      <a:pt x="235" y="76"/>
                    </a:lnTo>
                    <a:lnTo>
                      <a:pt x="232" y="87"/>
                    </a:lnTo>
                    <a:lnTo>
                      <a:pt x="232" y="87"/>
                    </a:lnTo>
                    <a:lnTo>
                      <a:pt x="232" y="87"/>
                    </a:lnTo>
                    <a:lnTo>
                      <a:pt x="232" y="101"/>
                    </a:lnTo>
                    <a:lnTo>
                      <a:pt x="232" y="112"/>
                    </a:lnTo>
                    <a:lnTo>
                      <a:pt x="232" y="112"/>
                    </a:lnTo>
                    <a:lnTo>
                      <a:pt x="232" y="116"/>
                    </a:lnTo>
                    <a:lnTo>
                      <a:pt x="235" y="127"/>
                    </a:lnTo>
                    <a:lnTo>
                      <a:pt x="235" y="127"/>
                    </a:lnTo>
                    <a:lnTo>
                      <a:pt x="235" y="127"/>
                    </a:lnTo>
                    <a:lnTo>
                      <a:pt x="239" y="130"/>
                    </a:lnTo>
                    <a:lnTo>
                      <a:pt x="243" y="127"/>
                    </a:lnTo>
                    <a:lnTo>
                      <a:pt x="239" y="130"/>
                    </a:lnTo>
                    <a:lnTo>
                      <a:pt x="243" y="138"/>
                    </a:lnTo>
                    <a:lnTo>
                      <a:pt x="243" y="138"/>
                    </a:lnTo>
                    <a:lnTo>
                      <a:pt x="243" y="138"/>
                    </a:lnTo>
                    <a:lnTo>
                      <a:pt x="246" y="141"/>
                    </a:lnTo>
                    <a:lnTo>
                      <a:pt x="250" y="145"/>
                    </a:lnTo>
                    <a:lnTo>
                      <a:pt x="253" y="141"/>
                    </a:lnTo>
                    <a:lnTo>
                      <a:pt x="250" y="145"/>
                    </a:lnTo>
                    <a:lnTo>
                      <a:pt x="257" y="156"/>
                    </a:lnTo>
                    <a:lnTo>
                      <a:pt x="257" y="156"/>
                    </a:lnTo>
                    <a:lnTo>
                      <a:pt x="257" y="156"/>
                    </a:lnTo>
                    <a:lnTo>
                      <a:pt x="264" y="163"/>
                    </a:lnTo>
                    <a:lnTo>
                      <a:pt x="268" y="159"/>
                    </a:lnTo>
                    <a:lnTo>
                      <a:pt x="264" y="163"/>
                    </a:lnTo>
                    <a:lnTo>
                      <a:pt x="272" y="174"/>
                    </a:lnTo>
                    <a:lnTo>
                      <a:pt x="275" y="181"/>
                    </a:lnTo>
                    <a:lnTo>
                      <a:pt x="279" y="192"/>
                    </a:lnTo>
                    <a:lnTo>
                      <a:pt x="282" y="199"/>
                    </a:lnTo>
                    <a:lnTo>
                      <a:pt x="286" y="196"/>
                    </a:lnTo>
                    <a:lnTo>
                      <a:pt x="282" y="196"/>
                    </a:lnTo>
                    <a:lnTo>
                      <a:pt x="282" y="203"/>
                    </a:lnTo>
                    <a:lnTo>
                      <a:pt x="282" y="207"/>
                    </a:lnTo>
                    <a:lnTo>
                      <a:pt x="282" y="214"/>
                    </a:lnTo>
                    <a:lnTo>
                      <a:pt x="286" y="214"/>
                    </a:lnTo>
                    <a:lnTo>
                      <a:pt x="282" y="214"/>
                    </a:lnTo>
                    <a:lnTo>
                      <a:pt x="279" y="221"/>
                    </a:lnTo>
                    <a:lnTo>
                      <a:pt x="282" y="221"/>
                    </a:lnTo>
                    <a:lnTo>
                      <a:pt x="279" y="217"/>
                    </a:lnTo>
                    <a:lnTo>
                      <a:pt x="275" y="221"/>
                    </a:lnTo>
                    <a:lnTo>
                      <a:pt x="272" y="225"/>
                    </a:lnTo>
                    <a:lnTo>
                      <a:pt x="268" y="228"/>
                    </a:lnTo>
                    <a:lnTo>
                      <a:pt x="272" y="232"/>
                    </a:lnTo>
                    <a:lnTo>
                      <a:pt x="272" y="228"/>
                    </a:lnTo>
                    <a:lnTo>
                      <a:pt x="264" y="232"/>
                    </a:lnTo>
                    <a:lnTo>
                      <a:pt x="264" y="236"/>
                    </a:lnTo>
                    <a:lnTo>
                      <a:pt x="264" y="232"/>
                    </a:lnTo>
                    <a:lnTo>
                      <a:pt x="257" y="232"/>
                    </a:lnTo>
                    <a:lnTo>
                      <a:pt x="246" y="232"/>
                    </a:lnTo>
                    <a:lnTo>
                      <a:pt x="214" y="232"/>
                    </a:lnTo>
                    <a:lnTo>
                      <a:pt x="177" y="236"/>
                    </a:lnTo>
                    <a:lnTo>
                      <a:pt x="145" y="236"/>
                    </a:lnTo>
                    <a:lnTo>
                      <a:pt x="112" y="239"/>
                    </a:lnTo>
                    <a:lnTo>
                      <a:pt x="79" y="239"/>
                    </a:lnTo>
                    <a:lnTo>
                      <a:pt x="54" y="239"/>
                    </a:lnTo>
                    <a:lnTo>
                      <a:pt x="40" y="239"/>
                    </a:lnTo>
                    <a:lnTo>
                      <a:pt x="29" y="239"/>
                    </a:lnTo>
                    <a:lnTo>
                      <a:pt x="29" y="243"/>
                    </a:lnTo>
                    <a:lnTo>
                      <a:pt x="32" y="239"/>
                    </a:lnTo>
                    <a:lnTo>
                      <a:pt x="25" y="236"/>
                    </a:lnTo>
                    <a:lnTo>
                      <a:pt x="18" y="232"/>
                    </a:lnTo>
                    <a:lnTo>
                      <a:pt x="11" y="228"/>
                    </a:lnTo>
                    <a:lnTo>
                      <a:pt x="11" y="236"/>
                    </a:lnTo>
                    <a:lnTo>
                      <a:pt x="11" y="265"/>
                    </a:lnTo>
                    <a:lnTo>
                      <a:pt x="11" y="304"/>
                    </a:lnTo>
                    <a:lnTo>
                      <a:pt x="11" y="344"/>
                    </a:lnTo>
                    <a:lnTo>
                      <a:pt x="11" y="388"/>
                    </a:lnTo>
                    <a:lnTo>
                      <a:pt x="11" y="428"/>
                    </a:lnTo>
                    <a:lnTo>
                      <a:pt x="11" y="464"/>
                    </a:lnTo>
                    <a:lnTo>
                      <a:pt x="11" y="493"/>
                    </a:lnTo>
                    <a:lnTo>
                      <a:pt x="11" y="508"/>
                    </a:lnTo>
                    <a:lnTo>
                      <a:pt x="11" y="515"/>
                    </a:lnTo>
                    <a:lnTo>
                      <a:pt x="11" y="519"/>
                    </a:lnTo>
                    <a:lnTo>
                      <a:pt x="11" y="519"/>
                    </a:lnTo>
                    <a:lnTo>
                      <a:pt x="14" y="522"/>
                    </a:lnTo>
                    <a:lnTo>
                      <a:pt x="18" y="519"/>
                    </a:lnTo>
                    <a:lnTo>
                      <a:pt x="14" y="519"/>
                    </a:lnTo>
                    <a:lnTo>
                      <a:pt x="14" y="526"/>
                    </a:lnTo>
                    <a:lnTo>
                      <a:pt x="14" y="529"/>
                    </a:lnTo>
                    <a:lnTo>
                      <a:pt x="18" y="533"/>
                    </a:lnTo>
                    <a:lnTo>
                      <a:pt x="25" y="537"/>
                    </a:lnTo>
                    <a:lnTo>
                      <a:pt x="25" y="529"/>
                    </a:lnTo>
                    <a:lnTo>
                      <a:pt x="21" y="533"/>
                    </a:lnTo>
                    <a:lnTo>
                      <a:pt x="25" y="540"/>
                    </a:lnTo>
                    <a:lnTo>
                      <a:pt x="25" y="540"/>
                    </a:lnTo>
                    <a:lnTo>
                      <a:pt x="29" y="544"/>
                    </a:lnTo>
                    <a:lnTo>
                      <a:pt x="36" y="548"/>
                    </a:lnTo>
                    <a:lnTo>
                      <a:pt x="43" y="551"/>
                    </a:lnTo>
                    <a:lnTo>
                      <a:pt x="43" y="551"/>
                    </a:lnTo>
                    <a:lnTo>
                      <a:pt x="43" y="551"/>
                    </a:lnTo>
                    <a:lnTo>
                      <a:pt x="50" y="551"/>
                    </a:lnTo>
                    <a:lnTo>
                      <a:pt x="50" y="544"/>
                    </a:lnTo>
                    <a:lnTo>
                      <a:pt x="50" y="551"/>
                    </a:lnTo>
                    <a:lnTo>
                      <a:pt x="58" y="555"/>
                    </a:lnTo>
                    <a:lnTo>
                      <a:pt x="58" y="555"/>
                    </a:lnTo>
                    <a:lnTo>
                      <a:pt x="58" y="555"/>
                    </a:lnTo>
                    <a:lnTo>
                      <a:pt x="69" y="555"/>
                    </a:lnTo>
                    <a:lnTo>
                      <a:pt x="76" y="555"/>
                    </a:lnTo>
                    <a:lnTo>
                      <a:pt x="83" y="555"/>
                    </a:lnTo>
                    <a:lnTo>
                      <a:pt x="87" y="555"/>
                    </a:lnTo>
                    <a:lnTo>
                      <a:pt x="87" y="555"/>
                    </a:lnTo>
                    <a:lnTo>
                      <a:pt x="98" y="551"/>
                    </a:lnTo>
                    <a:lnTo>
                      <a:pt x="105" y="548"/>
                    </a:lnTo>
                    <a:lnTo>
                      <a:pt x="105" y="548"/>
                    </a:lnTo>
                    <a:lnTo>
                      <a:pt x="105" y="544"/>
                    </a:lnTo>
                    <a:lnTo>
                      <a:pt x="112" y="537"/>
                    </a:lnTo>
                    <a:lnTo>
                      <a:pt x="119" y="529"/>
                    </a:lnTo>
                    <a:lnTo>
                      <a:pt x="123" y="526"/>
                    </a:lnTo>
                    <a:close/>
                    <a:moveTo>
                      <a:pt x="112" y="522"/>
                    </a:moveTo>
                    <a:lnTo>
                      <a:pt x="105" y="529"/>
                    </a:lnTo>
                    <a:lnTo>
                      <a:pt x="98" y="537"/>
                    </a:lnTo>
                    <a:lnTo>
                      <a:pt x="101" y="540"/>
                    </a:lnTo>
                    <a:lnTo>
                      <a:pt x="101" y="537"/>
                    </a:lnTo>
                    <a:lnTo>
                      <a:pt x="94" y="540"/>
                    </a:lnTo>
                    <a:lnTo>
                      <a:pt x="83" y="544"/>
                    </a:lnTo>
                    <a:lnTo>
                      <a:pt x="83" y="548"/>
                    </a:lnTo>
                    <a:lnTo>
                      <a:pt x="83" y="544"/>
                    </a:lnTo>
                    <a:lnTo>
                      <a:pt x="76" y="544"/>
                    </a:lnTo>
                    <a:lnTo>
                      <a:pt x="69" y="544"/>
                    </a:lnTo>
                    <a:lnTo>
                      <a:pt x="58" y="544"/>
                    </a:lnTo>
                    <a:lnTo>
                      <a:pt x="58" y="548"/>
                    </a:lnTo>
                    <a:lnTo>
                      <a:pt x="61" y="544"/>
                    </a:lnTo>
                    <a:lnTo>
                      <a:pt x="54" y="540"/>
                    </a:lnTo>
                    <a:lnTo>
                      <a:pt x="54" y="540"/>
                    </a:lnTo>
                    <a:lnTo>
                      <a:pt x="50" y="540"/>
                    </a:lnTo>
                    <a:lnTo>
                      <a:pt x="43" y="540"/>
                    </a:lnTo>
                    <a:lnTo>
                      <a:pt x="43" y="544"/>
                    </a:lnTo>
                    <a:lnTo>
                      <a:pt x="47" y="540"/>
                    </a:lnTo>
                    <a:lnTo>
                      <a:pt x="40" y="537"/>
                    </a:lnTo>
                    <a:lnTo>
                      <a:pt x="32" y="533"/>
                    </a:lnTo>
                    <a:lnTo>
                      <a:pt x="29" y="537"/>
                    </a:lnTo>
                    <a:lnTo>
                      <a:pt x="36" y="537"/>
                    </a:lnTo>
                    <a:lnTo>
                      <a:pt x="32" y="529"/>
                    </a:lnTo>
                    <a:lnTo>
                      <a:pt x="29" y="526"/>
                    </a:lnTo>
                    <a:lnTo>
                      <a:pt x="29" y="526"/>
                    </a:lnTo>
                    <a:lnTo>
                      <a:pt x="21" y="522"/>
                    </a:lnTo>
                    <a:lnTo>
                      <a:pt x="18" y="526"/>
                    </a:lnTo>
                    <a:lnTo>
                      <a:pt x="25" y="526"/>
                    </a:lnTo>
                    <a:lnTo>
                      <a:pt x="25" y="519"/>
                    </a:lnTo>
                    <a:lnTo>
                      <a:pt x="25" y="519"/>
                    </a:lnTo>
                    <a:lnTo>
                      <a:pt x="21" y="515"/>
                    </a:lnTo>
                    <a:lnTo>
                      <a:pt x="18" y="511"/>
                    </a:lnTo>
                    <a:lnTo>
                      <a:pt x="14" y="515"/>
                    </a:lnTo>
                    <a:lnTo>
                      <a:pt x="21" y="515"/>
                    </a:lnTo>
                    <a:lnTo>
                      <a:pt x="21" y="508"/>
                    </a:lnTo>
                    <a:lnTo>
                      <a:pt x="21" y="493"/>
                    </a:lnTo>
                    <a:lnTo>
                      <a:pt x="21" y="464"/>
                    </a:lnTo>
                    <a:lnTo>
                      <a:pt x="21" y="428"/>
                    </a:lnTo>
                    <a:lnTo>
                      <a:pt x="21" y="388"/>
                    </a:lnTo>
                    <a:lnTo>
                      <a:pt x="21" y="344"/>
                    </a:lnTo>
                    <a:lnTo>
                      <a:pt x="21" y="304"/>
                    </a:lnTo>
                    <a:lnTo>
                      <a:pt x="21" y="265"/>
                    </a:lnTo>
                    <a:lnTo>
                      <a:pt x="21" y="236"/>
                    </a:lnTo>
                    <a:lnTo>
                      <a:pt x="14" y="236"/>
                    </a:lnTo>
                    <a:lnTo>
                      <a:pt x="14" y="243"/>
                    </a:lnTo>
                    <a:lnTo>
                      <a:pt x="21" y="246"/>
                    </a:lnTo>
                    <a:lnTo>
                      <a:pt x="29" y="250"/>
                    </a:lnTo>
                    <a:lnTo>
                      <a:pt x="29" y="250"/>
                    </a:lnTo>
                    <a:lnTo>
                      <a:pt x="29" y="250"/>
                    </a:lnTo>
                    <a:lnTo>
                      <a:pt x="40" y="250"/>
                    </a:lnTo>
                    <a:lnTo>
                      <a:pt x="54" y="250"/>
                    </a:lnTo>
                    <a:lnTo>
                      <a:pt x="79" y="250"/>
                    </a:lnTo>
                    <a:lnTo>
                      <a:pt x="112" y="250"/>
                    </a:lnTo>
                    <a:lnTo>
                      <a:pt x="145" y="246"/>
                    </a:lnTo>
                    <a:lnTo>
                      <a:pt x="177" y="246"/>
                    </a:lnTo>
                    <a:lnTo>
                      <a:pt x="214" y="243"/>
                    </a:lnTo>
                    <a:lnTo>
                      <a:pt x="246" y="243"/>
                    </a:lnTo>
                    <a:lnTo>
                      <a:pt x="257" y="243"/>
                    </a:lnTo>
                    <a:lnTo>
                      <a:pt x="264" y="243"/>
                    </a:lnTo>
                    <a:lnTo>
                      <a:pt x="268" y="243"/>
                    </a:lnTo>
                    <a:lnTo>
                      <a:pt x="268" y="243"/>
                    </a:lnTo>
                    <a:lnTo>
                      <a:pt x="275" y="239"/>
                    </a:lnTo>
                    <a:lnTo>
                      <a:pt x="275" y="239"/>
                    </a:lnTo>
                    <a:lnTo>
                      <a:pt x="275" y="236"/>
                    </a:lnTo>
                    <a:lnTo>
                      <a:pt x="279" y="232"/>
                    </a:lnTo>
                    <a:lnTo>
                      <a:pt x="282" y="228"/>
                    </a:lnTo>
                    <a:lnTo>
                      <a:pt x="286" y="225"/>
                    </a:lnTo>
                    <a:lnTo>
                      <a:pt x="290" y="225"/>
                    </a:lnTo>
                    <a:lnTo>
                      <a:pt x="290" y="225"/>
                    </a:lnTo>
                    <a:lnTo>
                      <a:pt x="293" y="217"/>
                    </a:lnTo>
                    <a:lnTo>
                      <a:pt x="293" y="217"/>
                    </a:lnTo>
                    <a:lnTo>
                      <a:pt x="293" y="214"/>
                    </a:lnTo>
                    <a:lnTo>
                      <a:pt x="293" y="207"/>
                    </a:lnTo>
                    <a:lnTo>
                      <a:pt x="293" y="203"/>
                    </a:lnTo>
                    <a:lnTo>
                      <a:pt x="293" y="196"/>
                    </a:lnTo>
                    <a:lnTo>
                      <a:pt x="293" y="196"/>
                    </a:lnTo>
                    <a:lnTo>
                      <a:pt x="293" y="196"/>
                    </a:lnTo>
                    <a:lnTo>
                      <a:pt x="290" y="188"/>
                    </a:lnTo>
                    <a:lnTo>
                      <a:pt x="286" y="178"/>
                    </a:lnTo>
                    <a:lnTo>
                      <a:pt x="282" y="170"/>
                    </a:lnTo>
                    <a:lnTo>
                      <a:pt x="275" y="159"/>
                    </a:lnTo>
                    <a:lnTo>
                      <a:pt x="275" y="159"/>
                    </a:lnTo>
                    <a:lnTo>
                      <a:pt x="272" y="156"/>
                    </a:lnTo>
                    <a:lnTo>
                      <a:pt x="264" y="149"/>
                    </a:lnTo>
                    <a:lnTo>
                      <a:pt x="261" y="152"/>
                    </a:lnTo>
                    <a:lnTo>
                      <a:pt x="268" y="152"/>
                    </a:lnTo>
                    <a:lnTo>
                      <a:pt x="261" y="141"/>
                    </a:lnTo>
                    <a:lnTo>
                      <a:pt x="261" y="141"/>
                    </a:lnTo>
                    <a:lnTo>
                      <a:pt x="257" y="138"/>
                    </a:lnTo>
                    <a:lnTo>
                      <a:pt x="253" y="134"/>
                    </a:lnTo>
                    <a:lnTo>
                      <a:pt x="250" y="130"/>
                    </a:lnTo>
                    <a:lnTo>
                      <a:pt x="246" y="134"/>
                    </a:lnTo>
                    <a:lnTo>
                      <a:pt x="253" y="134"/>
                    </a:lnTo>
                    <a:lnTo>
                      <a:pt x="250" y="127"/>
                    </a:lnTo>
                    <a:lnTo>
                      <a:pt x="250" y="127"/>
                    </a:lnTo>
                    <a:lnTo>
                      <a:pt x="246" y="123"/>
                    </a:lnTo>
                    <a:lnTo>
                      <a:pt x="243" y="120"/>
                    </a:lnTo>
                    <a:lnTo>
                      <a:pt x="239" y="123"/>
                    </a:lnTo>
                    <a:lnTo>
                      <a:pt x="246" y="123"/>
                    </a:lnTo>
                    <a:lnTo>
                      <a:pt x="243" y="112"/>
                    </a:lnTo>
                    <a:lnTo>
                      <a:pt x="235" y="112"/>
                    </a:lnTo>
                    <a:lnTo>
                      <a:pt x="243" y="112"/>
                    </a:lnTo>
                    <a:lnTo>
                      <a:pt x="243" y="101"/>
                    </a:lnTo>
                    <a:lnTo>
                      <a:pt x="243" y="87"/>
                    </a:lnTo>
                    <a:lnTo>
                      <a:pt x="235" y="87"/>
                    </a:lnTo>
                    <a:lnTo>
                      <a:pt x="243" y="90"/>
                    </a:lnTo>
                    <a:lnTo>
                      <a:pt x="246" y="80"/>
                    </a:lnTo>
                    <a:lnTo>
                      <a:pt x="250" y="69"/>
                    </a:lnTo>
                    <a:lnTo>
                      <a:pt x="253" y="58"/>
                    </a:lnTo>
                    <a:lnTo>
                      <a:pt x="261" y="47"/>
                    </a:lnTo>
                    <a:lnTo>
                      <a:pt x="253" y="43"/>
                    </a:lnTo>
                    <a:lnTo>
                      <a:pt x="257" y="47"/>
                    </a:lnTo>
                    <a:lnTo>
                      <a:pt x="264" y="40"/>
                    </a:lnTo>
                    <a:lnTo>
                      <a:pt x="275" y="29"/>
                    </a:lnTo>
                    <a:lnTo>
                      <a:pt x="272" y="25"/>
                    </a:lnTo>
                    <a:lnTo>
                      <a:pt x="275" y="32"/>
                    </a:lnTo>
                    <a:lnTo>
                      <a:pt x="286" y="25"/>
                    </a:lnTo>
                    <a:lnTo>
                      <a:pt x="282" y="18"/>
                    </a:lnTo>
                    <a:lnTo>
                      <a:pt x="282" y="25"/>
                    </a:lnTo>
                    <a:lnTo>
                      <a:pt x="297" y="22"/>
                    </a:lnTo>
                    <a:lnTo>
                      <a:pt x="301" y="18"/>
                    </a:lnTo>
                    <a:lnTo>
                      <a:pt x="301" y="22"/>
                    </a:lnTo>
                    <a:lnTo>
                      <a:pt x="311" y="14"/>
                    </a:lnTo>
                    <a:lnTo>
                      <a:pt x="322" y="11"/>
                    </a:lnTo>
                    <a:lnTo>
                      <a:pt x="319" y="3"/>
                    </a:lnTo>
                    <a:lnTo>
                      <a:pt x="319" y="11"/>
                    </a:lnTo>
                    <a:lnTo>
                      <a:pt x="333" y="11"/>
                    </a:lnTo>
                    <a:lnTo>
                      <a:pt x="348" y="11"/>
                    </a:lnTo>
                    <a:lnTo>
                      <a:pt x="362" y="14"/>
                    </a:lnTo>
                    <a:lnTo>
                      <a:pt x="362" y="7"/>
                    </a:lnTo>
                    <a:lnTo>
                      <a:pt x="362" y="14"/>
                    </a:lnTo>
                    <a:lnTo>
                      <a:pt x="373" y="22"/>
                    </a:lnTo>
                    <a:lnTo>
                      <a:pt x="384" y="25"/>
                    </a:lnTo>
                    <a:lnTo>
                      <a:pt x="395" y="32"/>
                    </a:lnTo>
                    <a:lnTo>
                      <a:pt x="395" y="25"/>
                    </a:lnTo>
                    <a:lnTo>
                      <a:pt x="391" y="29"/>
                    </a:lnTo>
                    <a:lnTo>
                      <a:pt x="399" y="40"/>
                    </a:lnTo>
                    <a:lnTo>
                      <a:pt x="399" y="40"/>
                    </a:lnTo>
                    <a:lnTo>
                      <a:pt x="399" y="40"/>
                    </a:lnTo>
                    <a:lnTo>
                      <a:pt x="406" y="47"/>
                    </a:lnTo>
                    <a:lnTo>
                      <a:pt x="409" y="43"/>
                    </a:lnTo>
                    <a:lnTo>
                      <a:pt x="406" y="47"/>
                    </a:lnTo>
                    <a:lnTo>
                      <a:pt x="413" y="58"/>
                    </a:lnTo>
                    <a:lnTo>
                      <a:pt x="417" y="69"/>
                    </a:lnTo>
                    <a:lnTo>
                      <a:pt x="420" y="80"/>
                    </a:lnTo>
                    <a:lnTo>
                      <a:pt x="424" y="76"/>
                    </a:lnTo>
                    <a:lnTo>
                      <a:pt x="420" y="76"/>
                    </a:lnTo>
                    <a:lnTo>
                      <a:pt x="420" y="87"/>
                    </a:lnTo>
                    <a:lnTo>
                      <a:pt x="420" y="101"/>
                    </a:lnTo>
                    <a:lnTo>
                      <a:pt x="424" y="101"/>
                    </a:lnTo>
                    <a:lnTo>
                      <a:pt x="420" y="101"/>
                    </a:lnTo>
                    <a:lnTo>
                      <a:pt x="417" y="109"/>
                    </a:lnTo>
                    <a:lnTo>
                      <a:pt x="413" y="120"/>
                    </a:lnTo>
                    <a:lnTo>
                      <a:pt x="409" y="130"/>
                    </a:lnTo>
                    <a:lnTo>
                      <a:pt x="402" y="141"/>
                    </a:lnTo>
                    <a:lnTo>
                      <a:pt x="406" y="141"/>
                    </a:lnTo>
                    <a:lnTo>
                      <a:pt x="402" y="138"/>
                    </a:lnTo>
                    <a:lnTo>
                      <a:pt x="388" y="152"/>
                    </a:lnTo>
                    <a:lnTo>
                      <a:pt x="377" y="167"/>
                    </a:lnTo>
                    <a:lnTo>
                      <a:pt x="380" y="170"/>
                    </a:lnTo>
                    <a:lnTo>
                      <a:pt x="380" y="167"/>
                    </a:lnTo>
                    <a:lnTo>
                      <a:pt x="373" y="170"/>
                    </a:lnTo>
                    <a:lnTo>
                      <a:pt x="370" y="170"/>
                    </a:lnTo>
                    <a:lnTo>
                      <a:pt x="370" y="174"/>
                    </a:lnTo>
                    <a:lnTo>
                      <a:pt x="366" y="181"/>
                    </a:lnTo>
                    <a:lnTo>
                      <a:pt x="362" y="188"/>
                    </a:lnTo>
                    <a:lnTo>
                      <a:pt x="366" y="188"/>
                    </a:lnTo>
                    <a:lnTo>
                      <a:pt x="362" y="185"/>
                    </a:lnTo>
                    <a:lnTo>
                      <a:pt x="359" y="188"/>
                    </a:lnTo>
                    <a:lnTo>
                      <a:pt x="359" y="192"/>
                    </a:lnTo>
                    <a:lnTo>
                      <a:pt x="359" y="192"/>
                    </a:lnTo>
                    <a:lnTo>
                      <a:pt x="359" y="199"/>
                    </a:lnTo>
                    <a:lnTo>
                      <a:pt x="359" y="203"/>
                    </a:lnTo>
                    <a:lnTo>
                      <a:pt x="359" y="210"/>
                    </a:lnTo>
                    <a:lnTo>
                      <a:pt x="359" y="214"/>
                    </a:lnTo>
                    <a:lnTo>
                      <a:pt x="359" y="217"/>
                    </a:lnTo>
                    <a:lnTo>
                      <a:pt x="359" y="217"/>
                    </a:lnTo>
                    <a:lnTo>
                      <a:pt x="362" y="225"/>
                    </a:lnTo>
                    <a:lnTo>
                      <a:pt x="362" y="225"/>
                    </a:lnTo>
                    <a:lnTo>
                      <a:pt x="362" y="225"/>
                    </a:lnTo>
                    <a:lnTo>
                      <a:pt x="366" y="228"/>
                    </a:lnTo>
                    <a:lnTo>
                      <a:pt x="370" y="232"/>
                    </a:lnTo>
                    <a:lnTo>
                      <a:pt x="377" y="239"/>
                    </a:lnTo>
                    <a:lnTo>
                      <a:pt x="380" y="243"/>
                    </a:lnTo>
                    <a:lnTo>
                      <a:pt x="380" y="243"/>
                    </a:lnTo>
                    <a:lnTo>
                      <a:pt x="391" y="246"/>
                    </a:lnTo>
                    <a:lnTo>
                      <a:pt x="402" y="254"/>
                    </a:lnTo>
                    <a:lnTo>
                      <a:pt x="413" y="257"/>
                    </a:lnTo>
                    <a:lnTo>
                      <a:pt x="406" y="254"/>
                    </a:lnTo>
                    <a:lnTo>
                      <a:pt x="413" y="257"/>
                    </a:lnTo>
                    <a:lnTo>
                      <a:pt x="428" y="261"/>
                    </a:lnTo>
                    <a:lnTo>
                      <a:pt x="446" y="265"/>
                    </a:lnTo>
                    <a:lnTo>
                      <a:pt x="460" y="268"/>
                    </a:lnTo>
                    <a:lnTo>
                      <a:pt x="482" y="268"/>
                    </a:lnTo>
                    <a:lnTo>
                      <a:pt x="500" y="268"/>
                    </a:lnTo>
                    <a:lnTo>
                      <a:pt x="518" y="268"/>
                    </a:lnTo>
                    <a:lnTo>
                      <a:pt x="536" y="268"/>
                    </a:lnTo>
                    <a:lnTo>
                      <a:pt x="554" y="268"/>
                    </a:lnTo>
                    <a:lnTo>
                      <a:pt x="573" y="265"/>
                    </a:lnTo>
                    <a:lnTo>
                      <a:pt x="591" y="261"/>
                    </a:lnTo>
                    <a:lnTo>
                      <a:pt x="605" y="257"/>
                    </a:lnTo>
                    <a:lnTo>
                      <a:pt x="609" y="254"/>
                    </a:lnTo>
                    <a:lnTo>
                      <a:pt x="609" y="257"/>
                    </a:lnTo>
                    <a:lnTo>
                      <a:pt x="623" y="250"/>
                    </a:lnTo>
                    <a:lnTo>
                      <a:pt x="634" y="243"/>
                    </a:lnTo>
                    <a:lnTo>
                      <a:pt x="631" y="236"/>
                    </a:lnTo>
                    <a:lnTo>
                      <a:pt x="627" y="236"/>
                    </a:lnTo>
                    <a:lnTo>
                      <a:pt x="627" y="243"/>
                    </a:lnTo>
                    <a:lnTo>
                      <a:pt x="627" y="254"/>
                    </a:lnTo>
                    <a:lnTo>
                      <a:pt x="627" y="268"/>
                    </a:lnTo>
                    <a:lnTo>
                      <a:pt x="627" y="283"/>
                    </a:lnTo>
                    <a:lnTo>
                      <a:pt x="631" y="319"/>
                    </a:lnTo>
                    <a:lnTo>
                      <a:pt x="634" y="363"/>
                    </a:lnTo>
                    <a:lnTo>
                      <a:pt x="638" y="384"/>
                    </a:lnTo>
                    <a:lnTo>
                      <a:pt x="638" y="402"/>
                    </a:lnTo>
                    <a:lnTo>
                      <a:pt x="641" y="424"/>
                    </a:lnTo>
                    <a:lnTo>
                      <a:pt x="641" y="442"/>
                    </a:lnTo>
                    <a:lnTo>
                      <a:pt x="641" y="457"/>
                    </a:lnTo>
                    <a:lnTo>
                      <a:pt x="645" y="457"/>
                    </a:lnTo>
                    <a:lnTo>
                      <a:pt x="641" y="457"/>
                    </a:lnTo>
                    <a:lnTo>
                      <a:pt x="638" y="471"/>
                    </a:lnTo>
                    <a:lnTo>
                      <a:pt x="634" y="479"/>
                    </a:lnTo>
                    <a:lnTo>
                      <a:pt x="634" y="479"/>
                    </a:lnTo>
                    <a:lnTo>
                      <a:pt x="634" y="479"/>
                    </a:lnTo>
                    <a:lnTo>
                      <a:pt x="634" y="482"/>
                    </a:lnTo>
                    <a:lnTo>
                      <a:pt x="638" y="482"/>
                    </a:lnTo>
                    <a:lnTo>
                      <a:pt x="634" y="479"/>
                    </a:lnTo>
                    <a:lnTo>
                      <a:pt x="631" y="482"/>
                    </a:lnTo>
                    <a:lnTo>
                      <a:pt x="627" y="486"/>
                    </a:lnTo>
                    <a:lnTo>
                      <a:pt x="623" y="489"/>
                    </a:lnTo>
                    <a:lnTo>
                      <a:pt x="627" y="493"/>
                    </a:lnTo>
                    <a:lnTo>
                      <a:pt x="627" y="489"/>
                    </a:lnTo>
                    <a:lnTo>
                      <a:pt x="620" y="493"/>
                    </a:lnTo>
                    <a:lnTo>
                      <a:pt x="612" y="497"/>
                    </a:lnTo>
                    <a:lnTo>
                      <a:pt x="612" y="500"/>
                    </a:lnTo>
                    <a:lnTo>
                      <a:pt x="612" y="497"/>
                    </a:lnTo>
                    <a:lnTo>
                      <a:pt x="609" y="497"/>
                    </a:lnTo>
                    <a:lnTo>
                      <a:pt x="609" y="497"/>
                    </a:lnTo>
                    <a:lnTo>
                      <a:pt x="609" y="497"/>
                    </a:lnTo>
                    <a:lnTo>
                      <a:pt x="602" y="500"/>
                    </a:lnTo>
                    <a:lnTo>
                      <a:pt x="602" y="504"/>
                    </a:lnTo>
                    <a:lnTo>
                      <a:pt x="602" y="500"/>
                    </a:lnTo>
                    <a:lnTo>
                      <a:pt x="594" y="500"/>
                    </a:lnTo>
                    <a:lnTo>
                      <a:pt x="594" y="504"/>
                    </a:lnTo>
                    <a:lnTo>
                      <a:pt x="598" y="500"/>
                    </a:lnTo>
                    <a:lnTo>
                      <a:pt x="594" y="497"/>
                    </a:lnTo>
                    <a:lnTo>
                      <a:pt x="594" y="497"/>
                    </a:lnTo>
                    <a:lnTo>
                      <a:pt x="591" y="497"/>
                    </a:lnTo>
                    <a:lnTo>
                      <a:pt x="583" y="497"/>
                    </a:lnTo>
                    <a:lnTo>
                      <a:pt x="569" y="493"/>
                    </a:lnTo>
                    <a:lnTo>
                      <a:pt x="569" y="497"/>
                    </a:lnTo>
                    <a:lnTo>
                      <a:pt x="573" y="493"/>
                    </a:lnTo>
                    <a:lnTo>
                      <a:pt x="562" y="486"/>
                    </a:lnTo>
                    <a:lnTo>
                      <a:pt x="551" y="479"/>
                    </a:lnTo>
                    <a:lnTo>
                      <a:pt x="536" y="471"/>
                    </a:lnTo>
                    <a:lnTo>
                      <a:pt x="525" y="468"/>
                    </a:lnTo>
                    <a:lnTo>
                      <a:pt x="511" y="460"/>
                    </a:lnTo>
                    <a:lnTo>
                      <a:pt x="511" y="460"/>
                    </a:lnTo>
                    <a:lnTo>
                      <a:pt x="507" y="460"/>
                    </a:lnTo>
                    <a:lnTo>
                      <a:pt x="500" y="460"/>
                    </a:lnTo>
                    <a:lnTo>
                      <a:pt x="500" y="464"/>
                    </a:lnTo>
                    <a:lnTo>
                      <a:pt x="504" y="460"/>
                    </a:lnTo>
                    <a:lnTo>
                      <a:pt x="496" y="457"/>
                    </a:lnTo>
                    <a:lnTo>
                      <a:pt x="496" y="457"/>
                    </a:lnTo>
                    <a:lnTo>
                      <a:pt x="493" y="457"/>
                    </a:lnTo>
                    <a:lnTo>
                      <a:pt x="489" y="457"/>
                    </a:lnTo>
                    <a:lnTo>
                      <a:pt x="482" y="457"/>
                    </a:lnTo>
                    <a:lnTo>
                      <a:pt x="482" y="457"/>
                    </a:lnTo>
                    <a:lnTo>
                      <a:pt x="482" y="457"/>
                    </a:lnTo>
                    <a:lnTo>
                      <a:pt x="475" y="460"/>
                    </a:lnTo>
                    <a:lnTo>
                      <a:pt x="467" y="464"/>
                    </a:lnTo>
                    <a:lnTo>
                      <a:pt x="460" y="468"/>
                    </a:lnTo>
                    <a:lnTo>
                      <a:pt x="453" y="471"/>
                    </a:lnTo>
                    <a:lnTo>
                      <a:pt x="446" y="475"/>
                    </a:lnTo>
                    <a:lnTo>
                      <a:pt x="446" y="475"/>
                    </a:lnTo>
                    <a:lnTo>
                      <a:pt x="442" y="475"/>
                    </a:lnTo>
                    <a:lnTo>
                      <a:pt x="435" y="482"/>
                    </a:lnTo>
                    <a:lnTo>
                      <a:pt x="435" y="486"/>
                    </a:lnTo>
                    <a:lnTo>
                      <a:pt x="435" y="486"/>
                    </a:lnTo>
                    <a:lnTo>
                      <a:pt x="428" y="497"/>
                    </a:lnTo>
                    <a:lnTo>
                      <a:pt x="424" y="508"/>
                    </a:lnTo>
                    <a:lnTo>
                      <a:pt x="420" y="515"/>
                    </a:lnTo>
                    <a:lnTo>
                      <a:pt x="417" y="522"/>
                    </a:lnTo>
                    <a:lnTo>
                      <a:pt x="417" y="522"/>
                    </a:lnTo>
                    <a:lnTo>
                      <a:pt x="417" y="522"/>
                    </a:lnTo>
                    <a:lnTo>
                      <a:pt x="417" y="529"/>
                    </a:lnTo>
                    <a:lnTo>
                      <a:pt x="417" y="540"/>
                    </a:lnTo>
                    <a:lnTo>
                      <a:pt x="417" y="548"/>
                    </a:lnTo>
                    <a:lnTo>
                      <a:pt x="417" y="551"/>
                    </a:lnTo>
                    <a:lnTo>
                      <a:pt x="417" y="551"/>
                    </a:lnTo>
                    <a:lnTo>
                      <a:pt x="420" y="562"/>
                    </a:lnTo>
                    <a:lnTo>
                      <a:pt x="424" y="573"/>
                    </a:lnTo>
                    <a:lnTo>
                      <a:pt x="424" y="573"/>
                    </a:lnTo>
                    <a:lnTo>
                      <a:pt x="424" y="573"/>
                    </a:lnTo>
                    <a:lnTo>
                      <a:pt x="431" y="580"/>
                    </a:lnTo>
                    <a:lnTo>
                      <a:pt x="435" y="577"/>
                    </a:lnTo>
                    <a:lnTo>
                      <a:pt x="431" y="580"/>
                    </a:lnTo>
                    <a:lnTo>
                      <a:pt x="438" y="591"/>
                    </a:lnTo>
                    <a:lnTo>
                      <a:pt x="438" y="591"/>
                    </a:lnTo>
                    <a:lnTo>
                      <a:pt x="438" y="591"/>
                    </a:lnTo>
                    <a:lnTo>
                      <a:pt x="446" y="598"/>
                    </a:lnTo>
                    <a:lnTo>
                      <a:pt x="449" y="602"/>
                    </a:lnTo>
                    <a:lnTo>
                      <a:pt x="449" y="602"/>
                    </a:lnTo>
                    <a:lnTo>
                      <a:pt x="457" y="606"/>
                    </a:lnTo>
                    <a:lnTo>
                      <a:pt x="457" y="606"/>
                    </a:lnTo>
                    <a:lnTo>
                      <a:pt x="457" y="606"/>
                    </a:lnTo>
                    <a:lnTo>
                      <a:pt x="460" y="606"/>
                    </a:lnTo>
                    <a:lnTo>
                      <a:pt x="460" y="598"/>
                    </a:lnTo>
                    <a:lnTo>
                      <a:pt x="460" y="606"/>
                    </a:lnTo>
                    <a:lnTo>
                      <a:pt x="467" y="609"/>
                    </a:lnTo>
                    <a:lnTo>
                      <a:pt x="467" y="609"/>
                    </a:lnTo>
                    <a:lnTo>
                      <a:pt x="467" y="609"/>
                    </a:lnTo>
                    <a:lnTo>
                      <a:pt x="471" y="609"/>
                    </a:lnTo>
                    <a:lnTo>
                      <a:pt x="471" y="602"/>
                    </a:lnTo>
                    <a:lnTo>
                      <a:pt x="471" y="609"/>
                    </a:lnTo>
                    <a:lnTo>
                      <a:pt x="482" y="613"/>
                    </a:lnTo>
                    <a:lnTo>
                      <a:pt x="482" y="613"/>
                    </a:lnTo>
                    <a:lnTo>
                      <a:pt x="482" y="613"/>
                    </a:lnTo>
                    <a:lnTo>
                      <a:pt x="486" y="613"/>
                    </a:lnTo>
                    <a:lnTo>
                      <a:pt x="493" y="613"/>
                    </a:lnTo>
                    <a:lnTo>
                      <a:pt x="504" y="613"/>
                    </a:lnTo>
                    <a:lnTo>
                      <a:pt x="511" y="613"/>
                    </a:lnTo>
                    <a:lnTo>
                      <a:pt x="515" y="613"/>
                    </a:lnTo>
                    <a:lnTo>
                      <a:pt x="515" y="613"/>
                    </a:lnTo>
                    <a:lnTo>
                      <a:pt x="525" y="609"/>
                    </a:lnTo>
                    <a:lnTo>
                      <a:pt x="522" y="602"/>
                    </a:lnTo>
                    <a:lnTo>
                      <a:pt x="522" y="609"/>
                    </a:lnTo>
                    <a:lnTo>
                      <a:pt x="529" y="609"/>
                    </a:lnTo>
                    <a:lnTo>
                      <a:pt x="533" y="609"/>
                    </a:lnTo>
                    <a:lnTo>
                      <a:pt x="533" y="609"/>
                    </a:lnTo>
                    <a:lnTo>
                      <a:pt x="544" y="606"/>
                    </a:lnTo>
                    <a:lnTo>
                      <a:pt x="558" y="598"/>
                    </a:lnTo>
                    <a:lnTo>
                      <a:pt x="554" y="591"/>
                    </a:lnTo>
                    <a:lnTo>
                      <a:pt x="554" y="598"/>
                    </a:lnTo>
                    <a:lnTo>
                      <a:pt x="569" y="595"/>
                    </a:lnTo>
                    <a:lnTo>
                      <a:pt x="583" y="591"/>
                    </a:lnTo>
                    <a:lnTo>
                      <a:pt x="594" y="591"/>
                    </a:lnTo>
                    <a:lnTo>
                      <a:pt x="602" y="591"/>
                    </a:lnTo>
                    <a:lnTo>
                      <a:pt x="602" y="584"/>
                    </a:lnTo>
                    <a:lnTo>
                      <a:pt x="598" y="587"/>
                    </a:lnTo>
                    <a:lnTo>
                      <a:pt x="602" y="591"/>
                    </a:lnTo>
                    <a:lnTo>
                      <a:pt x="605" y="595"/>
                    </a:lnTo>
                    <a:lnTo>
                      <a:pt x="605" y="595"/>
                    </a:lnTo>
                    <a:lnTo>
                      <a:pt x="609" y="595"/>
                    </a:lnTo>
                    <a:lnTo>
                      <a:pt x="609" y="587"/>
                    </a:lnTo>
                    <a:lnTo>
                      <a:pt x="609" y="595"/>
                    </a:lnTo>
                    <a:lnTo>
                      <a:pt x="616" y="598"/>
                    </a:lnTo>
                    <a:lnTo>
                      <a:pt x="616" y="591"/>
                    </a:lnTo>
                    <a:lnTo>
                      <a:pt x="612" y="595"/>
                    </a:lnTo>
                    <a:lnTo>
                      <a:pt x="616" y="598"/>
                    </a:lnTo>
                    <a:lnTo>
                      <a:pt x="620" y="595"/>
                    </a:lnTo>
                    <a:lnTo>
                      <a:pt x="616" y="598"/>
                    </a:lnTo>
                    <a:lnTo>
                      <a:pt x="620" y="606"/>
                    </a:lnTo>
                    <a:lnTo>
                      <a:pt x="620" y="606"/>
                    </a:lnTo>
                    <a:lnTo>
                      <a:pt x="620" y="606"/>
                    </a:lnTo>
                    <a:lnTo>
                      <a:pt x="623" y="609"/>
                    </a:lnTo>
                    <a:lnTo>
                      <a:pt x="627" y="606"/>
                    </a:lnTo>
                    <a:lnTo>
                      <a:pt x="623" y="609"/>
                    </a:lnTo>
                    <a:lnTo>
                      <a:pt x="627" y="620"/>
                    </a:lnTo>
                    <a:lnTo>
                      <a:pt x="631" y="627"/>
                    </a:lnTo>
                    <a:lnTo>
                      <a:pt x="634" y="638"/>
                    </a:lnTo>
                    <a:lnTo>
                      <a:pt x="638" y="649"/>
                    </a:lnTo>
                    <a:lnTo>
                      <a:pt x="641" y="660"/>
                    </a:lnTo>
                    <a:lnTo>
                      <a:pt x="645" y="656"/>
                    </a:lnTo>
                    <a:lnTo>
                      <a:pt x="641" y="656"/>
                    </a:lnTo>
                    <a:lnTo>
                      <a:pt x="641" y="671"/>
                    </a:lnTo>
                    <a:lnTo>
                      <a:pt x="641" y="674"/>
                    </a:lnTo>
                    <a:lnTo>
                      <a:pt x="641" y="674"/>
                    </a:lnTo>
                    <a:lnTo>
                      <a:pt x="645" y="689"/>
                    </a:lnTo>
                    <a:lnTo>
                      <a:pt x="649" y="685"/>
                    </a:lnTo>
                    <a:lnTo>
                      <a:pt x="645" y="685"/>
                    </a:lnTo>
                    <a:lnTo>
                      <a:pt x="645" y="700"/>
                    </a:lnTo>
                    <a:lnTo>
                      <a:pt x="645" y="714"/>
                    </a:lnTo>
                    <a:lnTo>
                      <a:pt x="645" y="729"/>
                    </a:lnTo>
                    <a:lnTo>
                      <a:pt x="645" y="743"/>
                    </a:lnTo>
                    <a:lnTo>
                      <a:pt x="645" y="758"/>
                    </a:lnTo>
                    <a:lnTo>
                      <a:pt x="649" y="758"/>
                    </a:lnTo>
                    <a:lnTo>
                      <a:pt x="645" y="758"/>
                    </a:lnTo>
                    <a:lnTo>
                      <a:pt x="641" y="772"/>
                    </a:lnTo>
                    <a:lnTo>
                      <a:pt x="638" y="787"/>
                    </a:lnTo>
                    <a:lnTo>
                      <a:pt x="634" y="801"/>
                    </a:lnTo>
                    <a:lnTo>
                      <a:pt x="631" y="816"/>
                    </a:lnTo>
                    <a:lnTo>
                      <a:pt x="623" y="827"/>
                    </a:lnTo>
                    <a:lnTo>
                      <a:pt x="627" y="827"/>
                    </a:lnTo>
                    <a:lnTo>
                      <a:pt x="627" y="823"/>
                    </a:lnTo>
                    <a:lnTo>
                      <a:pt x="594" y="823"/>
                    </a:lnTo>
                    <a:lnTo>
                      <a:pt x="565" y="820"/>
                    </a:lnTo>
                    <a:lnTo>
                      <a:pt x="536" y="820"/>
                    </a:lnTo>
                    <a:lnTo>
                      <a:pt x="507" y="816"/>
                    </a:lnTo>
                    <a:lnTo>
                      <a:pt x="482" y="812"/>
                    </a:lnTo>
                    <a:lnTo>
                      <a:pt x="464" y="812"/>
                    </a:lnTo>
                    <a:lnTo>
                      <a:pt x="446" y="809"/>
                    </a:lnTo>
                    <a:lnTo>
                      <a:pt x="435" y="809"/>
                    </a:lnTo>
                    <a:lnTo>
                      <a:pt x="431" y="809"/>
                    </a:lnTo>
                    <a:lnTo>
                      <a:pt x="431" y="809"/>
                    </a:lnTo>
                    <a:lnTo>
                      <a:pt x="431" y="809"/>
                    </a:lnTo>
                    <a:lnTo>
                      <a:pt x="424" y="812"/>
                    </a:lnTo>
                    <a:lnTo>
                      <a:pt x="417" y="816"/>
                    </a:lnTo>
                    <a:lnTo>
                      <a:pt x="413" y="816"/>
                    </a:lnTo>
                    <a:lnTo>
                      <a:pt x="413" y="820"/>
                    </a:lnTo>
                    <a:lnTo>
                      <a:pt x="409" y="827"/>
                    </a:lnTo>
                    <a:lnTo>
                      <a:pt x="413" y="827"/>
                    </a:lnTo>
                    <a:lnTo>
                      <a:pt x="413" y="823"/>
                    </a:lnTo>
                    <a:lnTo>
                      <a:pt x="406" y="827"/>
                    </a:lnTo>
                    <a:lnTo>
                      <a:pt x="402" y="827"/>
                    </a:lnTo>
                    <a:lnTo>
                      <a:pt x="402" y="830"/>
                    </a:lnTo>
                    <a:lnTo>
                      <a:pt x="399" y="838"/>
                    </a:lnTo>
                    <a:lnTo>
                      <a:pt x="395" y="849"/>
                    </a:lnTo>
                    <a:lnTo>
                      <a:pt x="391" y="856"/>
                    </a:lnTo>
                    <a:lnTo>
                      <a:pt x="391" y="856"/>
                    </a:lnTo>
                    <a:lnTo>
                      <a:pt x="391" y="856"/>
                    </a:lnTo>
                    <a:lnTo>
                      <a:pt x="391" y="867"/>
                    </a:lnTo>
                    <a:lnTo>
                      <a:pt x="391" y="874"/>
                    </a:lnTo>
                    <a:lnTo>
                      <a:pt x="391" y="885"/>
                    </a:lnTo>
                    <a:lnTo>
                      <a:pt x="391" y="896"/>
                    </a:lnTo>
                    <a:lnTo>
                      <a:pt x="391" y="899"/>
                    </a:lnTo>
                    <a:lnTo>
                      <a:pt x="391" y="899"/>
                    </a:lnTo>
                    <a:lnTo>
                      <a:pt x="395" y="910"/>
                    </a:lnTo>
                    <a:lnTo>
                      <a:pt x="402" y="921"/>
                    </a:lnTo>
                    <a:lnTo>
                      <a:pt x="406" y="928"/>
                    </a:lnTo>
                    <a:lnTo>
                      <a:pt x="413" y="939"/>
                    </a:lnTo>
                    <a:lnTo>
                      <a:pt x="413" y="939"/>
                    </a:lnTo>
                    <a:lnTo>
                      <a:pt x="417" y="943"/>
                    </a:lnTo>
                    <a:lnTo>
                      <a:pt x="428" y="950"/>
                    </a:lnTo>
                    <a:lnTo>
                      <a:pt x="428" y="943"/>
                    </a:lnTo>
                    <a:lnTo>
                      <a:pt x="424" y="947"/>
                    </a:lnTo>
                    <a:lnTo>
                      <a:pt x="431" y="957"/>
                    </a:lnTo>
                    <a:lnTo>
                      <a:pt x="435" y="968"/>
                    </a:lnTo>
                    <a:lnTo>
                      <a:pt x="438" y="979"/>
                    </a:lnTo>
                    <a:lnTo>
                      <a:pt x="442" y="990"/>
                    </a:lnTo>
                    <a:lnTo>
                      <a:pt x="446" y="986"/>
                    </a:lnTo>
                    <a:lnTo>
                      <a:pt x="442" y="986"/>
                    </a:lnTo>
                    <a:lnTo>
                      <a:pt x="438" y="997"/>
                    </a:lnTo>
                    <a:lnTo>
                      <a:pt x="438" y="997"/>
                    </a:lnTo>
                    <a:lnTo>
                      <a:pt x="438" y="997"/>
                    </a:lnTo>
                    <a:lnTo>
                      <a:pt x="438" y="1008"/>
                    </a:lnTo>
                    <a:lnTo>
                      <a:pt x="442" y="1008"/>
                    </a:lnTo>
                    <a:lnTo>
                      <a:pt x="438" y="1008"/>
                    </a:lnTo>
                    <a:lnTo>
                      <a:pt x="435" y="1019"/>
                    </a:lnTo>
                    <a:lnTo>
                      <a:pt x="431" y="1030"/>
                    </a:lnTo>
                    <a:lnTo>
                      <a:pt x="435" y="1030"/>
                    </a:lnTo>
                    <a:lnTo>
                      <a:pt x="431" y="1026"/>
                    </a:lnTo>
                    <a:lnTo>
                      <a:pt x="424" y="1034"/>
                    </a:lnTo>
                    <a:lnTo>
                      <a:pt x="428" y="1037"/>
                    </a:lnTo>
                    <a:lnTo>
                      <a:pt x="428" y="1034"/>
                    </a:lnTo>
                    <a:lnTo>
                      <a:pt x="417" y="1041"/>
                    </a:lnTo>
                    <a:lnTo>
                      <a:pt x="417" y="1041"/>
                    </a:lnTo>
                    <a:lnTo>
                      <a:pt x="413" y="1041"/>
                    </a:lnTo>
                    <a:lnTo>
                      <a:pt x="402" y="1052"/>
                    </a:lnTo>
                    <a:lnTo>
                      <a:pt x="406" y="1055"/>
                    </a:lnTo>
                    <a:lnTo>
                      <a:pt x="406" y="1052"/>
                    </a:lnTo>
                    <a:lnTo>
                      <a:pt x="395" y="1055"/>
                    </a:lnTo>
                    <a:lnTo>
                      <a:pt x="384" y="1063"/>
                    </a:lnTo>
                    <a:lnTo>
                      <a:pt x="384" y="1066"/>
                    </a:lnTo>
                    <a:lnTo>
                      <a:pt x="384" y="1063"/>
                    </a:lnTo>
                    <a:lnTo>
                      <a:pt x="370" y="1066"/>
                    </a:lnTo>
                    <a:lnTo>
                      <a:pt x="351" y="1066"/>
                    </a:lnTo>
                    <a:lnTo>
                      <a:pt x="344" y="1066"/>
                    </a:lnTo>
                    <a:lnTo>
                      <a:pt x="337" y="1066"/>
                    </a:lnTo>
                    <a:lnTo>
                      <a:pt x="330" y="1066"/>
                    </a:lnTo>
                    <a:lnTo>
                      <a:pt x="330" y="1070"/>
                    </a:lnTo>
                    <a:lnTo>
                      <a:pt x="333" y="1066"/>
                    </a:lnTo>
                    <a:lnTo>
                      <a:pt x="326" y="1063"/>
                    </a:lnTo>
                    <a:lnTo>
                      <a:pt x="319" y="1059"/>
                    </a:lnTo>
                    <a:lnTo>
                      <a:pt x="319" y="1059"/>
                    </a:lnTo>
                    <a:lnTo>
                      <a:pt x="315" y="1059"/>
                    </a:lnTo>
                    <a:lnTo>
                      <a:pt x="311" y="1059"/>
                    </a:lnTo>
                    <a:lnTo>
                      <a:pt x="311" y="1063"/>
                    </a:lnTo>
                    <a:lnTo>
                      <a:pt x="315" y="1059"/>
                    </a:lnTo>
                    <a:lnTo>
                      <a:pt x="308" y="1055"/>
                    </a:lnTo>
                    <a:lnTo>
                      <a:pt x="301" y="1052"/>
                    </a:lnTo>
                    <a:lnTo>
                      <a:pt x="297" y="1055"/>
                    </a:lnTo>
                    <a:lnTo>
                      <a:pt x="304" y="1055"/>
                    </a:lnTo>
                    <a:lnTo>
                      <a:pt x="297" y="1044"/>
                    </a:lnTo>
                    <a:lnTo>
                      <a:pt x="297" y="1044"/>
                    </a:lnTo>
                    <a:lnTo>
                      <a:pt x="293" y="1041"/>
                    </a:lnTo>
                    <a:lnTo>
                      <a:pt x="286" y="1034"/>
                    </a:lnTo>
                    <a:lnTo>
                      <a:pt x="282" y="1037"/>
                    </a:lnTo>
                    <a:lnTo>
                      <a:pt x="290" y="1037"/>
                    </a:lnTo>
                    <a:lnTo>
                      <a:pt x="282" y="1026"/>
                    </a:lnTo>
                    <a:lnTo>
                      <a:pt x="275" y="1015"/>
                    </a:lnTo>
                    <a:lnTo>
                      <a:pt x="272" y="1005"/>
                    </a:lnTo>
                    <a:lnTo>
                      <a:pt x="264" y="1005"/>
                    </a:lnTo>
                    <a:lnTo>
                      <a:pt x="272" y="1005"/>
                    </a:lnTo>
                    <a:lnTo>
                      <a:pt x="272" y="994"/>
                    </a:lnTo>
                    <a:lnTo>
                      <a:pt x="272" y="979"/>
                    </a:lnTo>
                    <a:lnTo>
                      <a:pt x="272" y="968"/>
                    </a:lnTo>
                    <a:lnTo>
                      <a:pt x="264" y="968"/>
                    </a:lnTo>
                    <a:lnTo>
                      <a:pt x="272" y="972"/>
                    </a:lnTo>
                    <a:lnTo>
                      <a:pt x="275" y="961"/>
                    </a:lnTo>
                    <a:lnTo>
                      <a:pt x="279" y="950"/>
                    </a:lnTo>
                    <a:lnTo>
                      <a:pt x="282" y="943"/>
                    </a:lnTo>
                    <a:lnTo>
                      <a:pt x="290" y="932"/>
                    </a:lnTo>
                    <a:lnTo>
                      <a:pt x="282" y="928"/>
                    </a:lnTo>
                    <a:lnTo>
                      <a:pt x="286" y="936"/>
                    </a:lnTo>
                    <a:lnTo>
                      <a:pt x="293" y="932"/>
                    </a:lnTo>
                    <a:lnTo>
                      <a:pt x="293" y="932"/>
                    </a:lnTo>
                    <a:lnTo>
                      <a:pt x="293" y="928"/>
                    </a:lnTo>
                    <a:lnTo>
                      <a:pt x="301" y="921"/>
                    </a:lnTo>
                    <a:lnTo>
                      <a:pt x="304" y="921"/>
                    </a:lnTo>
                    <a:lnTo>
                      <a:pt x="304" y="921"/>
                    </a:lnTo>
                    <a:lnTo>
                      <a:pt x="308" y="914"/>
                    </a:lnTo>
                    <a:lnTo>
                      <a:pt x="311" y="907"/>
                    </a:lnTo>
                    <a:lnTo>
                      <a:pt x="311" y="907"/>
                    </a:lnTo>
                    <a:lnTo>
                      <a:pt x="311" y="903"/>
                    </a:lnTo>
                    <a:lnTo>
                      <a:pt x="311" y="896"/>
                    </a:lnTo>
                    <a:lnTo>
                      <a:pt x="311" y="888"/>
                    </a:lnTo>
                    <a:lnTo>
                      <a:pt x="311" y="881"/>
                    </a:lnTo>
                    <a:lnTo>
                      <a:pt x="311" y="874"/>
                    </a:lnTo>
                    <a:lnTo>
                      <a:pt x="311" y="874"/>
                    </a:lnTo>
                    <a:lnTo>
                      <a:pt x="311" y="874"/>
                    </a:lnTo>
                    <a:lnTo>
                      <a:pt x="308" y="867"/>
                    </a:lnTo>
                    <a:lnTo>
                      <a:pt x="308" y="867"/>
                    </a:lnTo>
                    <a:lnTo>
                      <a:pt x="304" y="863"/>
                    </a:lnTo>
                    <a:lnTo>
                      <a:pt x="297" y="856"/>
                    </a:lnTo>
                    <a:lnTo>
                      <a:pt x="290" y="849"/>
                    </a:lnTo>
                    <a:lnTo>
                      <a:pt x="290" y="849"/>
                    </a:lnTo>
                    <a:lnTo>
                      <a:pt x="290" y="849"/>
                    </a:lnTo>
                    <a:lnTo>
                      <a:pt x="282" y="845"/>
                    </a:lnTo>
                    <a:lnTo>
                      <a:pt x="272" y="838"/>
                    </a:lnTo>
                    <a:lnTo>
                      <a:pt x="257" y="830"/>
                    </a:lnTo>
                    <a:lnTo>
                      <a:pt x="257" y="830"/>
                    </a:lnTo>
                    <a:lnTo>
                      <a:pt x="253" y="830"/>
                    </a:lnTo>
                    <a:lnTo>
                      <a:pt x="239" y="827"/>
                    </a:lnTo>
                    <a:lnTo>
                      <a:pt x="221" y="823"/>
                    </a:lnTo>
                    <a:lnTo>
                      <a:pt x="203" y="823"/>
                    </a:lnTo>
                    <a:lnTo>
                      <a:pt x="177" y="820"/>
                    </a:lnTo>
                    <a:lnTo>
                      <a:pt x="152" y="820"/>
                    </a:lnTo>
                    <a:lnTo>
                      <a:pt x="119" y="823"/>
                    </a:lnTo>
                    <a:lnTo>
                      <a:pt x="87" y="823"/>
                    </a:lnTo>
                    <a:lnTo>
                      <a:pt x="58" y="827"/>
                    </a:lnTo>
                    <a:lnTo>
                      <a:pt x="32" y="830"/>
                    </a:lnTo>
                    <a:lnTo>
                      <a:pt x="14" y="834"/>
                    </a:lnTo>
                    <a:lnTo>
                      <a:pt x="14" y="838"/>
                    </a:lnTo>
                    <a:lnTo>
                      <a:pt x="21" y="838"/>
                    </a:lnTo>
                    <a:lnTo>
                      <a:pt x="18" y="830"/>
                    </a:lnTo>
                    <a:lnTo>
                      <a:pt x="14" y="820"/>
                    </a:lnTo>
                    <a:lnTo>
                      <a:pt x="7" y="820"/>
                    </a:lnTo>
                    <a:lnTo>
                      <a:pt x="14" y="820"/>
                    </a:lnTo>
                    <a:lnTo>
                      <a:pt x="14" y="809"/>
                    </a:lnTo>
                    <a:lnTo>
                      <a:pt x="14" y="809"/>
                    </a:lnTo>
                    <a:lnTo>
                      <a:pt x="14" y="809"/>
                    </a:lnTo>
                    <a:lnTo>
                      <a:pt x="11" y="798"/>
                    </a:lnTo>
                    <a:lnTo>
                      <a:pt x="3" y="798"/>
                    </a:lnTo>
                    <a:lnTo>
                      <a:pt x="11" y="798"/>
                    </a:lnTo>
                    <a:lnTo>
                      <a:pt x="11" y="772"/>
                    </a:lnTo>
                    <a:lnTo>
                      <a:pt x="11" y="743"/>
                    </a:lnTo>
                    <a:lnTo>
                      <a:pt x="11" y="718"/>
                    </a:lnTo>
                    <a:lnTo>
                      <a:pt x="14" y="693"/>
                    </a:lnTo>
                    <a:lnTo>
                      <a:pt x="18" y="667"/>
                    </a:lnTo>
                    <a:lnTo>
                      <a:pt x="21" y="645"/>
                    </a:lnTo>
                    <a:lnTo>
                      <a:pt x="21" y="635"/>
                    </a:lnTo>
                    <a:lnTo>
                      <a:pt x="14" y="635"/>
                    </a:lnTo>
                    <a:lnTo>
                      <a:pt x="21" y="638"/>
                    </a:lnTo>
                    <a:lnTo>
                      <a:pt x="25" y="631"/>
                    </a:lnTo>
                    <a:lnTo>
                      <a:pt x="29" y="624"/>
                    </a:lnTo>
                    <a:lnTo>
                      <a:pt x="21" y="620"/>
                    </a:lnTo>
                    <a:lnTo>
                      <a:pt x="25" y="627"/>
                    </a:lnTo>
                    <a:lnTo>
                      <a:pt x="32" y="624"/>
                    </a:lnTo>
                    <a:lnTo>
                      <a:pt x="40" y="620"/>
                    </a:lnTo>
                    <a:lnTo>
                      <a:pt x="47" y="616"/>
                    </a:lnTo>
                    <a:lnTo>
                      <a:pt x="43" y="609"/>
                    </a:lnTo>
                    <a:lnTo>
                      <a:pt x="43" y="616"/>
                    </a:lnTo>
                    <a:lnTo>
                      <a:pt x="50" y="616"/>
                    </a:lnTo>
                    <a:lnTo>
                      <a:pt x="58" y="616"/>
                    </a:lnTo>
                    <a:lnTo>
                      <a:pt x="65" y="616"/>
                    </a:lnTo>
                    <a:lnTo>
                      <a:pt x="65" y="609"/>
                    </a:lnTo>
                    <a:lnTo>
                      <a:pt x="65" y="616"/>
                    </a:lnTo>
                    <a:lnTo>
                      <a:pt x="72" y="620"/>
                    </a:lnTo>
                    <a:lnTo>
                      <a:pt x="79" y="624"/>
                    </a:lnTo>
                    <a:lnTo>
                      <a:pt x="87" y="627"/>
                    </a:lnTo>
                    <a:lnTo>
                      <a:pt x="98" y="631"/>
                    </a:lnTo>
                    <a:lnTo>
                      <a:pt x="105" y="635"/>
                    </a:lnTo>
                    <a:lnTo>
                      <a:pt x="105" y="627"/>
                    </a:lnTo>
                    <a:lnTo>
                      <a:pt x="101" y="631"/>
                    </a:lnTo>
                    <a:lnTo>
                      <a:pt x="108" y="638"/>
                    </a:lnTo>
                    <a:lnTo>
                      <a:pt x="116" y="645"/>
                    </a:lnTo>
                    <a:lnTo>
                      <a:pt x="123" y="653"/>
                    </a:lnTo>
                    <a:lnTo>
                      <a:pt x="127" y="656"/>
                    </a:lnTo>
                    <a:lnTo>
                      <a:pt x="127" y="656"/>
                    </a:lnTo>
                    <a:lnTo>
                      <a:pt x="134" y="660"/>
                    </a:lnTo>
                    <a:lnTo>
                      <a:pt x="141" y="664"/>
                    </a:lnTo>
                    <a:lnTo>
                      <a:pt x="152" y="667"/>
                    </a:lnTo>
                    <a:lnTo>
                      <a:pt x="163" y="671"/>
                    </a:lnTo>
                    <a:lnTo>
                      <a:pt x="163" y="671"/>
                    </a:lnTo>
                    <a:lnTo>
                      <a:pt x="163" y="671"/>
                    </a:lnTo>
                    <a:lnTo>
                      <a:pt x="174" y="671"/>
                    </a:lnTo>
                    <a:lnTo>
                      <a:pt x="185" y="671"/>
                    </a:lnTo>
                    <a:lnTo>
                      <a:pt x="188" y="671"/>
                    </a:lnTo>
                    <a:lnTo>
                      <a:pt x="188" y="671"/>
                    </a:lnTo>
                    <a:lnTo>
                      <a:pt x="195" y="667"/>
                    </a:lnTo>
                    <a:lnTo>
                      <a:pt x="206" y="664"/>
                    </a:lnTo>
                    <a:lnTo>
                      <a:pt x="217" y="660"/>
                    </a:lnTo>
                    <a:lnTo>
                      <a:pt x="217" y="660"/>
                    </a:lnTo>
                    <a:lnTo>
                      <a:pt x="217" y="656"/>
                    </a:lnTo>
                    <a:lnTo>
                      <a:pt x="224" y="649"/>
                    </a:lnTo>
                    <a:lnTo>
                      <a:pt x="232" y="642"/>
                    </a:lnTo>
                    <a:lnTo>
                      <a:pt x="235" y="642"/>
                    </a:lnTo>
                    <a:lnTo>
                      <a:pt x="235" y="642"/>
                    </a:lnTo>
                    <a:lnTo>
                      <a:pt x="243" y="631"/>
                    </a:lnTo>
                    <a:lnTo>
                      <a:pt x="235" y="627"/>
                    </a:lnTo>
                    <a:lnTo>
                      <a:pt x="239" y="631"/>
                    </a:lnTo>
                    <a:lnTo>
                      <a:pt x="246" y="624"/>
                    </a:lnTo>
                    <a:lnTo>
                      <a:pt x="250" y="624"/>
                    </a:lnTo>
                    <a:lnTo>
                      <a:pt x="250" y="624"/>
                    </a:lnTo>
                    <a:lnTo>
                      <a:pt x="253" y="609"/>
                    </a:lnTo>
                    <a:lnTo>
                      <a:pt x="257" y="598"/>
                    </a:lnTo>
                    <a:lnTo>
                      <a:pt x="257" y="598"/>
                    </a:lnTo>
                    <a:lnTo>
                      <a:pt x="257" y="595"/>
                    </a:lnTo>
                    <a:lnTo>
                      <a:pt x="257" y="587"/>
                    </a:lnTo>
                    <a:lnTo>
                      <a:pt x="257" y="580"/>
                    </a:lnTo>
                    <a:lnTo>
                      <a:pt x="257" y="573"/>
                    </a:lnTo>
                    <a:lnTo>
                      <a:pt x="257" y="566"/>
                    </a:lnTo>
                    <a:lnTo>
                      <a:pt x="257" y="566"/>
                    </a:lnTo>
                    <a:lnTo>
                      <a:pt x="253" y="562"/>
                    </a:lnTo>
                    <a:lnTo>
                      <a:pt x="250" y="558"/>
                    </a:lnTo>
                    <a:lnTo>
                      <a:pt x="246" y="562"/>
                    </a:lnTo>
                    <a:lnTo>
                      <a:pt x="253" y="562"/>
                    </a:lnTo>
                    <a:lnTo>
                      <a:pt x="250" y="555"/>
                    </a:lnTo>
                    <a:lnTo>
                      <a:pt x="250" y="555"/>
                    </a:lnTo>
                    <a:lnTo>
                      <a:pt x="246" y="551"/>
                    </a:lnTo>
                    <a:lnTo>
                      <a:pt x="243" y="548"/>
                    </a:lnTo>
                    <a:lnTo>
                      <a:pt x="239" y="551"/>
                    </a:lnTo>
                    <a:lnTo>
                      <a:pt x="246" y="551"/>
                    </a:lnTo>
                    <a:lnTo>
                      <a:pt x="246" y="544"/>
                    </a:lnTo>
                    <a:lnTo>
                      <a:pt x="246" y="544"/>
                    </a:lnTo>
                    <a:lnTo>
                      <a:pt x="246" y="544"/>
                    </a:lnTo>
                    <a:lnTo>
                      <a:pt x="239" y="533"/>
                    </a:lnTo>
                    <a:lnTo>
                      <a:pt x="235" y="529"/>
                    </a:lnTo>
                    <a:lnTo>
                      <a:pt x="235" y="529"/>
                    </a:lnTo>
                    <a:lnTo>
                      <a:pt x="224" y="522"/>
                    </a:lnTo>
                    <a:lnTo>
                      <a:pt x="214" y="515"/>
                    </a:lnTo>
                    <a:lnTo>
                      <a:pt x="203" y="508"/>
                    </a:lnTo>
                    <a:lnTo>
                      <a:pt x="192" y="504"/>
                    </a:lnTo>
                    <a:lnTo>
                      <a:pt x="181" y="500"/>
                    </a:lnTo>
                    <a:lnTo>
                      <a:pt x="181" y="500"/>
                    </a:lnTo>
                    <a:lnTo>
                      <a:pt x="177" y="500"/>
                    </a:lnTo>
                    <a:lnTo>
                      <a:pt x="163" y="500"/>
                    </a:lnTo>
                    <a:lnTo>
                      <a:pt x="152" y="500"/>
                    </a:lnTo>
                    <a:lnTo>
                      <a:pt x="152" y="500"/>
                    </a:lnTo>
                    <a:lnTo>
                      <a:pt x="152" y="500"/>
                    </a:lnTo>
                    <a:lnTo>
                      <a:pt x="141" y="504"/>
                    </a:lnTo>
                    <a:lnTo>
                      <a:pt x="130" y="508"/>
                    </a:lnTo>
                    <a:lnTo>
                      <a:pt x="130" y="508"/>
                    </a:lnTo>
                    <a:lnTo>
                      <a:pt x="127" y="508"/>
                    </a:lnTo>
                    <a:lnTo>
                      <a:pt x="123" y="511"/>
                    </a:lnTo>
                    <a:lnTo>
                      <a:pt x="127" y="515"/>
                    </a:lnTo>
                    <a:lnTo>
                      <a:pt x="127" y="511"/>
                    </a:lnTo>
                    <a:lnTo>
                      <a:pt x="123" y="511"/>
                    </a:lnTo>
                    <a:lnTo>
                      <a:pt x="119" y="511"/>
                    </a:lnTo>
                    <a:lnTo>
                      <a:pt x="119" y="515"/>
                    </a:lnTo>
                    <a:lnTo>
                      <a:pt x="116" y="522"/>
                    </a:lnTo>
                    <a:lnTo>
                      <a:pt x="119" y="522"/>
                    </a:lnTo>
                    <a:lnTo>
                      <a:pt x="116" y="519"/>
                    </a:lnTo>
                    <a:lnTo>
                      <a:pt x="112" y="522"/>
                    </a:lnTo>
                    <a:close/>
                  </a:path>
                </a:pathLst>
              </a:custGeom>
              <a:solidFill>
                <a:srgbClr val="ccffcc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2716200" y="3276720"/>
              <a:ext cx="108108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49440"/>
                  <a:tab algn="l" pos="1298520"/>
                  <a:tab algn="l" pos="1947960"/>
                  <a:tab algn="l" pos="2597040"/>
                  <a:tab algn="l" pos="3246480"/>
                  <a:tab algn="l" pos="3895560"/>
                  <a:tab algn="l" pos="4545000"/>
                  <a:tab algn="l" pos="5194440"/>
                  <a:tab algn="l" pos="5843520"/>
                  <a:tab algn="l" pos="6492960"/>
                  <a:tab algn="l" pos="7142040"/>
                  <a:tab algn="l" pos="7791480"/>
                  <a:tab algn="l" pos="8440560"/>
                  <a:tab algn="l" pos="9090000"/>
                  <a:tab algn="l" pos="9739440"/>
                  <a:tab algn="l" pos="10388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38080" y="1371600"/>
            <a:ext cx="464832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the models using Excel, C++ and V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tantly improving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11040" y="233280"/>
            <a:ext cx="5880240" cy="32436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233280"/>
            <a:ext cx="55231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762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253040" y="2725560"/>
            <a:ext cx="2133000" cy="1680840"/>
            <a:chOff x="4253040" y="2725560"/>
            <a:chExt cx="2133000" cy="1680840"/>
          </a:xfrm>
        </p:grpSpPr>
        <p:grpSp>
          <p:nvGrpSpPr>
            <p:cNvPr id="97" name=""/>
            <p:cNvGrpSpPr/>
            <p:nvPr/>
          </p:nvGrpSpPr>
          <p:grpSpPr>
            <a:xfrm>
              <a:off x="4253040" y="2725560"/>
              <a:ext cx="2133000" cy="1680840"/>
              <a:chOff x="4253040" y="2725560"/>
              <a:chExt cx="2133000" cy="1680840"/>
            </a:xfrm>
          </p:grpSpPr>
          <p:sp>
            <p:nvSpPr>
              <p:cNvPr id="98" name=""/>
              <p:cNvSpPr/>
              <p:nvPr/>
            </p:nvSpPr>
            <p:spPr>
              <a:xfrm>
                <a:off x="4260960" y="2731680"/>
                <a:ext cx="2111400" cy="1660680"/>
              </a:xfrm>
              <a:custGeom>
                <a:avLst/>
                <a:gdLst/>
                <a:ahLst/>
                <a:rect l="l" t="t" r="r" b="b"/>
                <a:pathLst>
                  <a:path w="1073" h="831">
                    <a:moveTo>
                      <a:pt x="210" y="475"/>
                    </a:moveTo>
                    <a:lnTo>
                      <a:pt x="206" y="479"/>
                    </a:lnTo>
                    <a:lnTo>
                      <a:pt x="199" y="483"/>
                    </a:lnTo>
                    <a:lnTo>
                      <a:pt x="192" y="486"/>
                    </a:lnTo>
                    <a:lnTo>
                      <a:pt x="188" y="490"/>
                    </a:lnTo>
                    <a:lnTo>
                      <a:pt x="181" y="490"/>
                    </a:lnTo>
                    <a:lnTo>
                      <a:pt x="174" y="490"/>
                    </a:lnTo>
                    <a:lnTo>
                      <a:pt x="170" y="486"/>
                    </a:lnTo>
                    <a:lnTo>
                      <a:pt x="163" y="486"/>
                    </a:lnTo>
                    <a:lnTo>
                      <a:pt x="148" y="479"/>
                    </a:lnTo>
                    <a:lnTo>
                      <a:pt x="137" y="475"/>
                    </a:lnTo>
                    <a:lnTo>
                      <a:pt x="127" y="468"/>
                    </a:lnTo>
                    <a:lnTo>
                      <a:pt x="112" y="461"/>
                    </a:lnTo>
                    <a:lnTo>
                      <a:pt x="101" y="454"/>
                    </a:lnTo>
                    <a:lnTo>
                      <a:pt x="87" y="450"/>
                    </a:lnTo>
                    <a:lnTo>
                      <a:pt x="79" y="450"/>
                    </a:lnTo>
                    <a:lnTo>
                      <a:pt x="76" y="446"/>
                    </a:lnTo>
                    <a:lnTo>
                      <a:pt x="69" y="446"/>
                    </a:lnTo>
                    <a:lnTo>
                      <a:pt x="61" y="446"/>
                    </a:lnTo>
                    <a:lnTo>
                      <a:pt x="54" y="450"/>
                    </a:lnTo>
                    <a:lnTo>
                      <a:pt x="47" y="450"/>
                    </a:lnTo>
                    <a:lnTo>
                      <a:pt x="40" y="454"/>
                    </a:lnTo>
                    <a:lnTo>
                      <a:pt x="36" y="461"/>
                    </a:lnTo>
                    <a:lnTo>
                      <a:pt x="29" y="465"/>
                    </a:lnTo>
                    <a:lnTo>
                      <a:pt x="21" y="472"/>
                    </a:lnTo>
                    <a:lnTo>
                      <a:pt x="14" y="483"/>
                    </a:lnTo>
                    <a:lnTo>
                      <a:pt x="7" y="494"/>
                    </a:lnTo>
                    <a:lnTo>
                      <a:pt x="3" y="497"/>
                    </a:lnTo>
                    <a:lnTo>
                      <a:pt x="0" y="505"/>
                    </a:lnTo>
                    <a:lnTo>
                      <a:pt x="0" y="515"/>
                    </a:lnTo>
                    <a:lnTo>
                      <a:pt x="0" y="526"/>
                    </a:lnTo>
                    <a:lnTo>
                      <a:pt x="0" y="534"/>
                    </a:lnTo>
                    <a:lnTo>
                      <a:pt x="3" y="544"/>
                    </a:lnTo>
                    <a:lnTo>
                      <a:pt x="11" y="555"/>
                    </a:lnTo>
                    <a:lnTo>
                      <a:pt x="14" y="563"/>
                    </a:lnTo>
                    <a:lnTo>
                      <a:pt x="21" y="573"/>
                    </a:lnTo>
                    <a:lnTo>
                      <a:pt x="32" y="581"/>
                    </a:lnTo>
                    <a:lnTo>
                      <a:pt x="36" y="581"/>
                    </a:lnTo>
                    <a:lnTo>
                      <a:pt x="40" y="584"/>
                    </a:lnTo>
                    <a:lnTo>
                      <a:pt x="47" y="588"/>
                    </a:lnTo>
                    <a:lnTo>
                      <a:pt x="54" y="588"/>
                    </a:lnTo>
                    <a:lnTo>
                      <a:pt x="61" y="592"/>
                    </a:lnTo>
                    <a:lnTo>
                      <a:pt x="69" y="592"/>
                    </a:lnTo>
                    <a:lnTo>
                      <a:pt x="76" y="592"/>
                    </a:lnTo>
                    <a:lnTo>
                      <a:pt x="83" y="592"/>
                    </a:lnTo>
                    <a:lnTo>
                      <a:pt x="94" y="592"/>
                    </a:lnTo>
                    <a:lnTo>
                      <a:pt x="101" y="588"/>
                    </a:lnTo>
                    <a:lnTo>
                      <a:pt x="108" y="588"/>
                    </a:lnTo>
                    <a:lnTo>
                      <a:pt x="119" y="584"/>
                    </a:lnTo>
                    <a:lnTo>
                      <a:pt x="137" y="577"/>
                    </a:lnTo>
                    <a:lnTo>
                      <a:pt x="148" y="573"/>
                    </a:lnTo>
                    <a:lnTo>
                      <a:pt x="163" y="570"/>
                    </a:lnTo>
                    <a:lnTo>
                      <a:pt x="174" y="570"/>
                    </a:lnTo>
                    <a:lnTo>
                      <a:pt x="181" y="570"/>
                    </a:lnTo>
                    <a:lnTo>
                      <a:pt x="185" y="573"/>
                    </a:lnTo>
                    <a:lnTo>
                      <a:pt x="188" y="573"/>
                    </a:lnTo>
                    <a:lnTo>
                      <a:pt x="195" y="577"/>
                    </a:lnTo>
                    <a:lnTo>
                      <a:pt x="199" y="581"/>
                    </a:lnTo>
                    <a:lnTo>
                      <a:pt x="203" y="588"/>
                    </a:lnTo>
                    <a:lnTo>
                      <a:pt x="206" y="592"/>
                    </a:lnTo>
                    <a:lnTo>
                      <a:pt x="210" y="602"/>
                    </a:lnTo>
                    <a:lnTo>
                      <a:pt x="214" y="610"/>
                    </a:lnTo>
                    <a:lnTo>
                      <a:pt x="217" y="621"/>
                    </a:lnTo>
                    <a:lnTo>
                      <a:pt x="221" y="631"/>
                    </a:lnTo>
                    <a:lnTo>
                      <a:pt x="224" y="642"/>
                    </a:lnTo>
                    <a:lnTo>
                      <a:pt x="224" y="657"/>
                    </a:lnTo>
                    <a:lnTo>
                      <a:pt x="228" y="671"/>
                    </a:lnTo>
                    <a:lnTo>
                      <a:pt x="228" y="686"/>
                    </a:lnTo>
                    <a:lnTo>
                      <a:pt x="228" y="700"/>
                    </a:lnTo>
                    <a:lnTo>
                      <a:pt x="228" y="715"/>
                    </a:lnTo>
                    <a:lnTo>
                      <a:pt x="228" y="729"/>
                    </a:lnTo>
                    <a:lnTo>
                      <a:pt x="224" y="744"/>
                    </a:lnTo>
                    <a:lnTo>
                      <a:pt x="224" y="758"/>
                    </a:lnTo>
                    <a:lnTo>
                      <a:pt x="221" y="773"/>
                    </a:lnTo>
                    <a:lnTo>
                      <a:pt x="217" y="787"/>
                    </a:lnTo>
                    <a:lnTo>
                      <a:pt x="214" y="802"/>
                    </a:lnTo>
                    <a:lnTo>
                      <a:pt x="210" y="813"/>
                    </a:lnTo>
                    <a:lnTo>
                      <a:pt x="235" y="813"/>
                    </a:lnTo>
                    <a:lnTo>
                      <a:pt x="261" y="813"/>
                    </a:lnTo>
                    <a:lnTo>
                      <a:pt x="286" y="813"/>
                    </a:lnTo>
                    <a:lnTo>
                      <a:pt x="308" y="813"/>
                    </a:lnTo>
                    <a:lnTo>
                      <a:pt x="330" y="813"/>
                    </a:lnTo>
                    <a:lnTo>
                      <a:pt x="351" y="813"/>
                    </a:lnTo>
                    <a:lnTo>
                      <a:pt x="369" y="813"/>
                    </a:lnTo>
                    <a:lnTo>
                      <a:pt x="380" y="813"/>
                    </a:lnTo>
                    <a:lnTo>
                      <a:pt x="398" y="809"/>
                    </a:lnTo>
                    <a:lnTo>
                      <a:pt x="413" y="806"/>
                    </a:lnTo>
                    <a:lnTo>
                      <a:pt x="424" y="795"/>
                    </a:lnTo>
                    <a:lnTo>
                      <a:pt x="438" y="787"/>
                    </a:lnTo>
                    <a:lnTo>
                      <a:pt x="446" y="780"/>
                    </a:lnTo>
                    <a:lnTo>
                      <a:pt x="453" y="773"/>
                    </a:lnTo>
                    <a:lnTo>
                      <a:pt x="460" y="762"/>
                    </a:lnTo>
                    <a:lnTo>
                      <a:pt x="464" y="751"/>
                    </a:lnTo>
                    <a:lnTo>
                      <a:pt x="467" y="740"/>
                    </a:lnTo>
                    <a:lnTo>
                      <a:pt x="467" y="733"/>
                    </a:lnTo>
                    <a:lnTo>
                      <a:pt x="467" y="722"/>
                    </a:lnTo>
                    <a:lnTo>
                      <a:pt x="467" y="711"/>
                    </a:lnTo>
                    <a:lnTo>
                      <a:pt x="464" y="700"/>
                    </a:lnTo>
                    <a:lnTo>
                      <a:pt x="456" y="693"/>
                    </a:lnTo>
                    <a:lnTo>
                      <a:pt x="453" y="682"/>
                    </a:lnTo>
                    <a:lnTo>
                      <a:pt x="442" y="675"/>
                    </a:lnTo>
                    <a:lnTo>
                      <a:pt x="435" y="664"/>
                    </a:lnTo>
                    <a:lnTo>
                      <a:pt x="427" y="657"/>
                    </a:lnTo>
                    <a:lnTo>
                      <a:pt x="424" y="646"/>
                    </a:lnTo>
                    <a:lnTo>
                      <a:pt x="420" y="635"/>
                    </a:lnTo>
                    <a:lnTo>
                      <a:pt x="420" y="621"/>
                    </a:lnTo>
                    <a:lnTo>
                      <a:pt x="420" y="610"/>
                    </a:lnTo>
                    <a:lnTo>
                      <a:pt x="420" y="599"/>
                    </a:lnTo>
                    <a:lnTo>
                      <a:pt x="424" y="588"/>
                    </a:lnTo>
                    <a:lnTo>
                      <a:pt x="427" y="577"/>
                    </a:lnTo>
                    <a:lnTo>
                      <a:pt x="435" y="566"/>
                    </a:lnTo>
                    <a:lnTo>
                      <a:pt x="442" y="563"/>
                    </a:lnTo>
                    <a:lnTo>
                      <a:pt x="446" y="555"/>
                    </a:lnTo>
                    <a:lnTo>
                      <a:pt x="449" y="552"/>
                    </a:lnTo>
                    <a:lnTo>
                      <a:pt x="456" y="552"/>
                    </a:lnTo>
                    <a:lnTo>
                      <a:pt x="460" y="548"/>
                    </a:lnTo>
                    <a:lnTo>
                      <a:pt x="467" y="544"/>
                    </a:lnTo>
                    <a:lnTo>
                      <a:pt x="475" y="541"/>
                    </a:lnTo>
                    <a:lnTo>
                      <a:pt x="482" y="537"/>
                    </a:lnTo>
                    <a:lnTo>
                      <a:pt x="489" y="537"/>
                    </a:lnTo>
                    <a:lnTo>
                      <a:pt x="500" y="534"/>
                    </a:lnTo>
                    <a:lnTo>
                      <a:pt x="511" y="534"/>
                    </a:lnTo>
                    <a:lnTo>
                      <a:pt x="518" y="534"/>
                    </a:lnTo>
                    <a:lnTo>
                      <a:pt x="529" y="534"/>
                    </a:lnTo>
                    <a:lnTo>
                      <a:pt x="540" y="534"/>
                    </a:lnTo>
                    <a:lnTo>
                      <a:pt x="547" y="537"/>
                    </a:lnTo>
                    <a:lnTo>
                      <a:pt x="558" y="541"/>
                    </a:lnTo>
                    <a:lnTo>
                      <a:pt x="565" y="541"/>
                    </a:lnTo>
                    <a:lnTo>
                      <a:pt x="573" y="544"/>
                    </a:lnTo>
                    <a:lnTo>
                      <a:pt x="576" y="548"/>
                    </a:lnTo>
                    <a:lnTo>
                      <a:pt x="583" y="552"/>
                    </a:lnTo>
                    <a:lnTo>
                      <a:pt x="591" y="555"/>
                    </a:lnTo>
                    <a:lnTo>
                      <a:pt x="594" y="563"/>
                    </a:lnTo>
                    <a:lnTo>
                      <a:pt x="598" y="566"/>
                    </a:lnTo>
                    <a:lnTo>
                      <a:pt x="602" y="573"/>
                    </a:lnTo>
                    <a:lnTo>
                      <a:pt x="605" y="584"/>
                    </a:lnTo>
                    <a:lnTo>
                      <a:pt x="609" y="595"/>
                    </a:lnTo>
                    <a:lnTo>
                      <a:pt x="609" y="610"/>
                    </a:lnTo>
                    <a:lnTo>
                      <a:pt x="609" y="621"/>
                    </a:lnTo>
                    <a:lnTo>
                      <a:pt x="609" y="635"/>
                    </a:lnTo>
                    <a:lnTo>
                      <a:pt x="605" y="646"/>
                    </a:lnTo>
                    <a:lnTo>
                      <a:pt x="602" y="657"/>
                    </a:lnTo>
                    <a:lnTo>
                      <a:pt x="598" y="668"/>
                    </a:lnTo>
                    <a:lnTo>
                      <a:pt x="591" y="675"/>
                    </a:lnTo>
                    <a:lnTo>
                      <a:pt x="583" y="682"/>
                    </a:lnTo>
                    <a:lnTo>
                      <a:pt x="576" y="686"/>
                    </a:lnTo>
                    <a:lnTo>
                      <a:pt x="569" y="693"/>
                    </a:lnTo>
                    <a:lnTo>
                      <a:pt x="565" y="700"/>
                    </a:lnTo>
                    <a:lnTo>
                      <a:pt x="562" y="711"/>
                    </a:lnTo>
                    <a:lnTo>
                      <a:pt x="558" y="719"/>
                    </a:lnTo>
                    <a:lnTo>
                      <a:pt x="558" y="726"/>
                    </a:lnTo>
                    <a:lnTo>
                      <a:pt x="554" y="737"/>
                    </a:lnTo>
                    <a:lnTo>
                      <a:pt x="554" y="748"/>
                    </a:lnTo>
                    <a:lnTo>
                      <a:pt x="558" y="755"/>
                    </a:lnTo>
                    <a:lnTo>
                      <a:pt x="562" y="766"/>
                    </a:lnTo>
                    <a:lnTo>
                      <a:pt x="565" y="777"/>
                    </a:lnTo>
                    <a:lnTo>
                      <a:pt x="573" y="784"/>
                    </a:lnTo>
                    <a:lnTo>
                      <a:pt x="580" y="795"/>
                    </a:lnTo>
                    <a:lnTo>
                      <a:pt x="591" y="802"/>
                    </a:lnTo>
                    <a:lnTo>
                      <a:pt x="602" y="809"/>
                    </a:lnTo>
                    <a:lnTo>
                      <a:pt x="616" y="813"/>
                    </a:lnTo>
                    <a:lnTo>
                      <a:pt x="623" y="816"/>
                    </a:lnTo>
                    <a:lnTo>
                      <a:pt x="638" y="820"/>
                    </a:lnTo>
                    <a:lnTo>
                      <a:pt x="663" y="824"/>
                    </a:lnTo>
                    <a:lnTo>
                      <a:pt x="692" y="827"/>
                    </a:lnTo>
                    <a:lnTo>
                      <a:pt x="710" y="827"/>
                    </a:lnTo>
                    <a:lnTo>
                      <a:pt x="728" y="831"/>
                    </a:lnTo>
                    <a:lnTo>
                      <a:pt x="747" y="831"/>
                    </a:lnTo>
                    <a:lnTo>
                      <a:pt x="765" y="831"/>
                    </a:lnTo>
                    <a:lnTo>
                      <a:pt x="783" y="831"/>
                    </a:lnTo>
                    <a:lnTo>
                      <a:pt x="805" y="831"/>
                    </a:lnTo>
                    <a:lnTo>
                      <a:pt x="819" y="827"/>
                    </a:lnTo>
                    <a:lnTo>
                      <a:pt x="837" y="824"/>
                    </a:lnTo>
                    <a:lnTo>
                      <a:pt x="837" y="816"/>
                    </a:lnTo>
                    <a:lnTo>
                      <a:pt x="834" y="806"/>
                    </a:lnTo>
                    <a:lnTo>
                      <a:pt x="830" y="795"/>
                    </a:lnTo>
                    <a:lnTo>
                      <a:pt x="830" y="784"/>
                    </a:lnTo>
                    <a:lnTo>
                      <a:pt x="830" y="758"/>
                    </a:lnTo>
                    <a:lnTo>
                      <a:pt x="830" y="733"/>
                    </a:lnTo>
                    <a:lnTo>
                      <a:pt x="830" y="704"/>
                    </a:lnTo>
                    <a:lnTo>
                      <a:pt x="834" y="679"/>
                    </a:lnTo>
                    <a:lnTo>
                      <a:pt x="837" y="653"/>
                    </a:lnTo>
                    <a:lnTo>
                      <a:pt x="837" y="631"/>
                    </a:lnTo>
                    <a:lnTo>
                      <a:pt x="841" y="621"/>
                    </a:lnTo>
                    <a:lnTo>
                      <a:pt x="844" y="613"/>
                    </a:lnTo>
                    <a:lnTo>
                      <a:pt x="848" y="606"/>
                    </a:lnTo>
                    <a:lnTo>
                      <a:pt x="855" y="602"/>
                    </a:lnTo>
                    <a:lnTo>
                      <a:pt x="859" y="599"/>
                    </a:lnTo>
                    <a:lnTo>
                      <a:pt x="866" y="595"/>
                    </a:lnTo>
                    <a:lnTo>
                      <a:pt x="873" y="595"/>
                    </a:lnTo>
                    <a:lnTo>
                      <a:pt x="881" y="595"/>
                    </a:lnTo>
                    <a:lnTo>
                      <a:pt x="888" y="595"/>
                    </a:lnTo>
                    <a:lnTo>
                      <a:pt x="899" y="599"/>
                    </a:lnTo>
                    <a:lnTo>
                      <a:pt x="906" y="602"/>
                    </a:lnTo>
                    <a:lnTo>
                      <a:pt x="913" y="606"/>
                    </a:lnTo>
                    <a:lnTo>
                      <a:pt x="921" y="610"/>
                    </a:lnTo>
                    <a:lnTo>
                      <a:pt x="928" y="613"/>
                    </a:lnTo>
                    <a:lnTo>
                      <a:pt x="939" y="621"/>
                    </a:lnTo>
                    <a:lnTo>
                      <a:pt x="942" y="628"/>
                    </a:lnTo>
                    <a:lnTo>
                      <a:pt x="950" y="635"/>
                    </a:lnTo>
                    <a:lnTo>
                      <a:pt x="957" y="639"/>
                    </a:lnTo>
                    <a:lnTo>
                      <a:pt x="968" y="642"/>
                    </a:lnTo>
                    <a:lnTo>
                      <a:pt x="979" y="646"/>
                    </a:lnTo>
                    <a:lnTo>
                      <a:pt x="986" y="646"/>
                    </a:lnTo>
                    <a:lnTo>
                      <a:pt x="997" y="650"/>
                    </a:lnTo>
                    <a:lnTo>
                      <a:pt x="1008" y="646"/>
                    </a:lnTo>
                    <a:lnTo>
                      <a:pt x="1018" y="646"/>
                    </a:lnTo>
                    <a:lnTo>
                      <a:pt x="1026" y="642"/>
                    </a:lnTo>
                    <a:lnTo>
                      <a:pt x="1037" y="639"/>
                    </a:lnTo>
                    <a:lnTo>
                      <a:pt x="1044" y="631"/>
                    </a:lnTo>
                    <a:lnTo>
                      <a:pt x="1051" y="624"/>
                    </a:lnTo>
                    <a:lnTo>
                      <a:pt x="1058" y="617"/>
                    </a:lnTo>
                    <a:lnTo>
                      <a:pt x="1066" y="606"/>
                    </a:lnTo>
                    <a:lnTo>
                      <a:pt x="1069" y="595"/>
                    </a:lnTo>
                    <a:lnTo>
                      <a:pt x="1073" y="581"/>
                    </a:lnTo>
                    <a:lnTo>
                      <a:pt x="1073" y="573"/>
                    </a:lnTo>
                    <a:lnTo>
                      <a:pt x="1073" y="566"/>
                    </a:lnTo>
                    <a:lnTo>
                      <a:pt x="1073" y="559"/>
                    </a:lnTo>
                    <a:lnTo>
                      <a:pt x="1073" y="552"/>
                    </a:lnTo>
                    <a:lnTo>
                      <a:pt x="1069" y="548"/>
                    </a:lnTo>
                    <a:lnTo>
                      <a:pt x="1066" y="541"/>
                    </a:lnTo>
                    <a:lnTo>
                      <a:pt x="1066" y="534"/>
                    </a:lnTo>
                    <a:lnTo>
                      <a:pt x="1062" y="530"/>
                    </a:lnTo>
                    <a:lnTo>
                      <a:pt x="1055" y="519"/>
                    </a:lnTo>
                    <a:lnTo>
                      <a:pt x="1044" y="512"/>
                    </a:lnTo>
                    <a:lnTo>
                      <a:pt x="1033" y="505"/>
                    </a:lnTo>
                    <a:lnTo>
                      <a:pt x="1022" y="497"/>
                    </a:lnTo>
                    <a:lnTo>
                      <a:pt x="1011" y="494"/>
                    </a:lnTo>
                    <a:lnTo>
                      <a:pt x="1000" y="490"/>
                    </a:lnTo>
                    <a:lnTo>
                      <a:pt x="986" y="490"/>
                    </a:lnTo>
                    <a:lnTo>
                      <a:pt x="975" y="490"/>
                    </a:lnTo>
                    <a:lnTo>
                      <a:pt x="964" y="494"/>
                    </a:lnTo>
                    <a:lnTo>
                      <a:pt x="953" y="497"/>
                    </a:lnTo>
                    <a:lnTo>
                      <a:pt x="950" y="497"/>
                    </a:lnTo>
                    <a:lnTo>
                      <a:pt x="946" y="501"/>
                    </a:lnTo>
                    <a:lnTo>
                      <a:pt x="942" y="505"/>
                    </a:lnTo>
                    <a:lnTo>
                      <a:pt x="939" y="512"/>
                    </a:lnTo>
                    <a:lnTo>
                      <a:pt x="931" y="519"/>
                    </a:lnTo>
                    <a:lnTo>
                      <a:pt x="924" y="526"/>
                    </a:lnTo>
                    <a:lnTo>
                      <a:pt x="917" y="530"/>
                    </a:lnTo>
                    <a:lnTo>
                      <a:pt x="910" y="534"/>
                    </a:lnTo>
                    <a:lnTo>
                      <a:pt x="902" y="534"/>
                    </a:lnTo>
                    <a:lnTo>
                      <a:pt x="892" y="534"/>
                    </a:lnTo>
                    <a:lnTo>
                      <a:pt x="884" y="534"/>
                    </a:lnTo>
                    <a:lnTo>
                      <a:pt x="877" y="530"/>
                    </a:lnTo>
                    <a:lnTo>
                      <a:pt x="870" y="530"/>
                    </a:lnTo>
                    <a:lnTo>
                      <a:pt x="863" y="526"/>
                    </a:lnTo>
                    <a:lnTo>
                      <a:pt x="855" y="519"/>
                    </a:lnTo>
                    <a:lnTo>
                      <a:pt x="848" y="515"/>
                    </a:lnTo>
                    <a:lnTo>
                      <a:pt x="844" y="512"/>
                    </a:lnTo>
                    <a:lnTo>
                      <a:pt x="841" y="505"/>
                    </a:lnTo>
                    <a:lnTo>
                      <a:pt x="837" y="501"/>
                    </a:lnTo>
                    <a:lnTo>
                      <a:pt x="837" y="494"/>
                    </a:lnTo>
                    <a:lnTo>
                      <a:pt x="837" y="475"/>
                    </a:lnTo>
                    <a:lnTo>
                      <a:pt x="837" y="450"/>
                    </a:lnTo>
                    <a:lnTo>
                      <a:pt x="837" y="410"/>
                    </a:lnTo>
                    <a:lnTo>
                      <a:pt x="837" y="370"/>
                    </a:lnTo>
                    <a:lnTo>
                      <a:pt x="837" y="330"/>
                    </a:lnTo>
                    <a:lnTo>
                      <a:pt x="837" y="287"/>
                    </a:lnTo>
                    <a:lnTo>
                      <a:pt x="837" y="251"/>
                    </a:lnTo>
                    <a:lnTo>
                      <a:pt x="837" y="222"/>
                    </a:lnTo>
                    <a:lnTo>
                      <a:pt x="826" y="225"/>
                    </a:lnTo>
                    <a:lnTo>
                      <a:pt x="815" y="232"/>
                    </a:lnTo>
                    <a:lnTo>
                      <a:pt x="801" y="236"/>
                    </a:lnTo>
                    <a:lnTo>
                      <a:pt x="786" y="240"/>
                    </a:lnTo>
                    <a:lnTo>
                      <a:pt x="772" y="243"/>
                    </a:lnTo>
                    <a:lnTo>
                      <a:pt x="757" y="243"/>
                    </a:lnTo>
                    <a:lnTo>
                      <a:pt x="739" y="243"/>
                    </a:lnTo>
                    <a:lnTo>
                      <a:pt x="721" y="243"/>
                    </a:lnTo>
                    <a:lnTo>
                      <a:pt x="707" y="243"/>
                    </a:lnTo>
                    <a:lnTo>
                      <a:pt x="689" y="243"/>
                    </a:lnTo>
                    <a:lnTo>
                      <a:pt x="670" y="240"/>
                    </a:lnTo>
                    <a:lnTo>
                      <a:pt x="656" y="236"/>
                    </a:lnTo>
                    <a:lnTo>
                      <a:pt x="641" y="232"/>
                    </a:lnTo>
                    <a:lnTo>
                      <a:pt x="627" y="229"/>
                    </a:lnTo>
                    <a:lnTo>
                      <a:pt x="612" y="225"/>
                    </a:lnTo>
                    <a:lnTo>
                      <a:pt x="602" y="222"/>
                    </a:lnTo>
                    <a:lnTo>
                      <a:pt x="594" y="218"/>
                    </a:lnTo>
                    <a:lnTo>
                      <a:pt x="587" y="211"/>
                    </a:lnTo>
                    <a:lnTo>
                      <a:pt x="580" y="207"/>
                    </a:lnTo>
                    <a:lnTo>
                      <a:pt x="573" y="203"/>
                    </a:lnTo>
                    <a:lnTo>
                      <a:pt x="569" y="200"/>
                    </a:lnTo>
                    <a:lnTo>
                      <a:pt x="565" y="196"/>
                    </a:lnTo>
                    <a:lnTo>
                      <a:pt x="565" y="189"/>
                    </a:lnTo>
                    <a:lnTo>
                      <a:pt x="565" y="185"/>
                    </a:lnTo>
                    <a:lnTo>
                      <a:pt x="565" y="182"/>
                    </a:lnTo>
                    <a:lnTo>
                      <a:pt x="565" y="174"/>
                    </a:lnTo>
                    <a:lnTo>
                      <a:pt x="569" y="171"/>
                    </a:lnTo>
                    <a:lnTo>
                      <a:pt x="573" y="164"/>
                    </a:lnTo>
                    <a:lnTo>
                      <a:pt x="580" y="149"/>
                    </a:lnTo>
                    <a:lnTo>
                      <a:pt x="594" y="135"/>
                    </a:lnTo>
                    <a:lnTo>
                      <a:pt x="602" y="127"/>
                    </a:lnTo>
                    <a:lnTo>
                      <a:pt x="609" y="116"/>
                    </a:lnTo>
                    <a:lnTo>
                      <a:pt x="612" y="106"/>
                    </a:lnTo>
                    <a:lnTo>
                      <a:pt x="616" y="95"/>
                    </a:lnTo>
                    <a:lnTo>
                      <a:pt x="616" y="84"/>
                    </a:lnTo>
                    <a:lnTo>
                      <a:pt x="616" y="73"/>
                    </a:lnTo>
                    <a:lnTo>
                      <a:pt x="616" y="62"/>
                    </a:lnTo>
                    <a:lnTo>
                      <a:pt x="612" y="51"/>
                    </a:lnTo>
                    <a:lnTo>
                      <a:pt x="609" y="40"/>
                    </a:lnTo>
                    <a:lnTo>
                      <a:pt x="602" y="29"/>
                    </a:lnTo>
                    <a:lnTo>
                      <a:pt x="598" y="26"/>
                    </a:lnTo>
                    <a:lnTo>
                      <a:pt x="591" y="22"/>
                    </a:lnTo>
                    <a:lnTo>
                      <a:pt x="587" y="18"/>
                    </a:lnTo>
                    <a:lnTo>
                      <a:pt x="580" y="15"/>
                    </a:lnTo>
                    <a:lnTo>
                      <a:pt x="576" y="11"/>
                    </a:lnTo>
                    <a:lnTo>
                      <a:pt x="569" y="8"/>
                    </a:lnTo>
                    <a:lnTo>
                      <a:pt x="562" y="8"/>
                    </a:lnTo>
                    <a:lnTo>
                      <a:pt x="554" y="4"/>
                    </a:lnTo>
                    <a:lnTo>
                      <a:pt x="544" y="4"/>
                    </a:lnTo>
                    <a:lnTo>
                      <a:pt x="536" y="0"/>
                    </a:lnTo>
                    <a:lnTo>
                      <a:pt x="529" y="0"/>
                    </a:lnTo>
                    <a:lnTo>
                      <a:pt x="518" y="0"/>
                    </a:lnTo>
                    <a:lnTo>
                      <a:pt x="511" y="0"/>
                    </a:lnTo>
                    <a:lnTo>
                      <a:pt x="500" y="4"/>
                    </a:lnTo>
                    <a:lnTo>
                      <a:pt x="493" y="4"/>
                    </a:lnTo>
                    <a:lnTo>
                      <a:pt x="485" y="4"/>
                    </a:lnTo>
                    <a:lnTo>
                      <a:pt x="482" y="8"/>
                    </a:lnTo>
                    <a:lnTo>
                      <a:pt x="475" y="11"/>
                    </a:lnTo>
                    <a:lnTo>
                      <a:pt x="471" y="15"/>
                    </a:lnTo>
                    <a:lnTo>
                      <a:pt x="464" y="18"/>
                    </a:lnTo>
                    <a:lnTo>
                      <a:pt x="460" y="22"/>
                    </a:lnTo>
                    <a:lnTo>
                      <a:pt x="456" y="26"/>
                    </a:lnTo>
                    <a:lnTo>
                      <a:pt x="453" y="29"/>
                    </a:lnTo>
                    <a:lnTo>
                      <a:pt x="449" y="37"/>
                    </a:lnTo>
                    <a:lnTo>
                      <a:pt x="446" y="47"/>
                    </a:lnTo>
                    <a:lnTo>
                      <a:pt x="442" y="58"/>
                    </a:lnTo>
                    <a:lnTo>
                      <a:pt x="442" y="69"/>
                    </a:lnTo>
                    <a:lnTo>
                      <a:pt x="442" y="80"/>
                    </a:lnTo>
                    <a:lnTo>
                      <a:pt x="442" y="95"/>
                    </a:lnTo>
                    <a:lnTo>
                      <a:pt x="446" y="106"/>
                    </a:lnTo>
                    <a:lnTo>
                      <a:pt x="449" y="120"/>
                    </a:lnTo>
                    <a:lnTo>
                      <a:pt x="456" y="131"/>
                    </a:lnTo>
                    <a:lnTo>
                      <a:pt x="460" y="142"/>
                    </a:lnTo>
                    <a:lnTo>
                      <a:pt x="471" y="149"/>
                    </a:lnTo>
                    <a:lnTo>
                      <a:pt x="475" y="156"/>
                    </a:lnTo>
                    <a:lnTo>
                      <a:pt x="482" y="164"/>
                    </a:lnTo>
                    <a:lnTo>
                      <a:pt x="482" y="171"/>
                    </a:lnTo>
                    <a:lnTo>
                      <a:pt x="485" y="178"/>
                    </a:lnTo>
                    <a:lnTo>
                      <a:pt x="485" y="185"/>
                    </a:lnTo>
                    <a:lnTo>
                      <a:pt x="485" y="193"/>
                    </a:lnTo>
                    <a:lnTo>
                      <a:pt x="482" y="200"/>
                    </a:lnTo>
                    <a:lnTo>
                      <a:pt x="478" y="207"/>
                    </a:lnTo>
                    <a:lnTo>
                      <a:pt x="475" y="211"/>
                    </a:lnTo>
                    <a:lnTo>
                      <a:pt x="467" y="218"/>
                    </a:lnTo>
                    <a:lnTo>
                      <a:pt x="456" y="222"/>
                    </a:lnTo>
                    <a:lnTo>
                      <a:pt x="449" y="222"/>
                    </a:lnTo>
                    <a:lnTo>
                      <a:pt x="438" y="222"/>
                    </a:lnTo>
                    <a:lnTo>
                      <a:pt x="427" y="222"/>
                    </a:lnTo>
                    <a:lnTo>
                      <a:pt x="413" y="218"/>
                    </a:lnTo>
                    <a:lnTo>
                      <a:pt x="398" y="211"/>
                    </a:lnTo>
                    <a:lnTo>
                      <a:pt x="388" y="211"/>
                    </a:lnTo>
                    <a:lnTo>
                      <a:pt x="380" y="207"/>
                    </a:lnTo>
                    <a:lnTo>
                      <a:pt x="369" y="203"/>
                    </a:lnTo>
                    <a:lnTo>
                      <a:pt x="359" y="203"/>
                    </a:lnTo>
                    <a:lnTo>
                      <a:pt x="337" y="203"/>
                    </a:lnTo>
                    <a:lnTo>
                      <a:pt x="311" y="203"/>
                    </a:lnTo>
                    <a:lnTo>
                      <a:pt x="286" y="207"/>
                    </a:lnTo>
                    <a:lnTo>
                      <a:pt x="261" y="211"/>
                    </a:lnTo>
                    <a:lnTo>
                      <a:pt x="235" y="214"/>
                    </a:lnTo>
                    <a:lnTo>
                      <a:pt x="210" y="222"/>
                    </a:lnTo>
                    <a:lnTo>
                      <a:pt x="210" y="225"/>
                    </a:lnTo>
                    <a:lnTo>
                      <a:pt x="210" y="240"/>
                    </a:lnTo>
                    <a:lnTo>
                      <a:pt x="210" y="251"/>
                    </a:lnTo>
                    <a:lnTo>
                      <a:pt x="210" y="269"/>
                    </a:lnTo>
                    <a:lnTo>
                      <a:pt x="214" y="305"/>
                    </a:lnTo>
                    <a:lnTo>
                      <a:pt x="217" y="349"/>
                    </a:lnTo>
                    <a:lnTo>
                      <a:pt x="221" y="367"/>
                    </a:lnTo>
                    <a:lnTo>
                      <a:pt x="221" y="388"/>
                    </a:lnTo>
                    <a:lnTo>
                      <a:pt x="221" y="410"/>
                    </a:lnTo>
                    <a:lnTo>
                      <a:pt x="224" y="425"/>
                    </a:lnTo>
                    <a:lnTo>
                      <a:pt x="221" y="443"/>
                    </a:lnTo>
                    <a:lnTo>
                      <a:pt x="221" y="457"/>
                    </a:lnTo>
                    <a:lnTo>
                      <a:pt x="217" y="465"/>
                    </a:lnTo>
                    <a:lnTo>
                      <a:pt x="217" y="468"/>
                    </a:lnTo>
                    <a:lnTo>
                      <a:pt x="214" y="472"/>
                    </a:lnTo>
                    <a:lnTo>
                      <a:pt x="210" y="475"/>
                    </a:lnTo>
                    <a:close/>
                  </a:path>
                </a:pathLst>
              </a:custGeom>
              <a:solidFill>
                <a:srgbClr val="ffff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253040" y="2725560"/>
                <a:ext cx="2133000" cy="1680840"/>
              </a:xfrm>
              <a:custGeom>
                <a:avLst/>
                <a:gdLst/>
                <a:ahLst/>
                <a:rect l="l" t="t" r="r" b="b"/>
                <a:pathLst>
                  <a:path w="1084" h="841">
                    <a:moveTo>
                      <a:pt x="207" y="478"/>
                    </a:moveTo>
                    <a:lnTo>
                      <a:pt x="210" y="482"/>
                    </a:lnTo>
                    <a:lnTo>
                      <a:pt x="210" y="478"/>
                    </a:lnTo>
                    <a:lnTo>
                      <a:pt x="203" y="482"/>
                    </a:lnTo>
                    <a:lnTo>
                      <a:pt x="196" y="486"/>
                    </a:lnTo>
                    <a:lnTo>
                      <a:pt x="196" y="486"/>
                    </a:lnTo>
                    <a:lnTo>
                      <a:pt x="192" y="486"/>
                    </a:lnTo>
                    <a:lnTo>
                      <a:pt x="189" y="489"/>
                    </a:lnTo>
                    <a:lnTo>
                      <a:pt x="192" y="493"/>
                    </a:lnTo>
                    <a:lnTo>
                      <a:pt x="192" y="489"/>
                    </a:lnTo>
                    <a:lnTo>
                      <a:pt x="185" y="489"/>
                    </a:lnTo>
                    <a:lnTo>
                      <a:pt x="178" y="489"/>
                    </a:lnTo>
                    <a:lnTo>
                      <a:pt x="178" y="493"/>
                    </a:lnTo>
                    <a:lnTo>
                      <a:pt x="181" y="489"/>
                    </a:lnTo>
                    <a:lnTo>
                      <a:pt x="178" y="486"/>
                    </a:lnTo>
                    <a:lnTo>
                      <a:pt x="178" y="486"/>
                    </a:lnTo>
                    <a:lnTo>
                      <a:pt x="174" y="486"/>
                    </a:lnTo>
                    <a:lnTo>
                      <a:pt x="167" y="486"/>
                    </a:lnTo>
                    <a:lnTo>
                      <a:pt x="167" y="489"/>
                    </a:lnTo>
                    <a:lnTo>
                      <a:pt x="170" y="486"/>
                    </a:lnTo>
                    <a:lnTo>
                      <a:pt x="156" y="478"/>
                    </a:lnTo>
                    <a:lnTo>
                      <a:pt x="145" y="475"/>
                    </a:lnTo>
                    <a:lnTo>
                      <a:pt x="134" y="468"/>
                    </a:lnTo>
                    <a:lnTo>
                      <a:pt x="120" y="460"/>
                    </a:lnTo>
                    <a:lnTo>
                      <a:pt x="109" y="453"/>
                    </a:lnTo>
                    <a:lnTo>
                      <a:pt x="109" y="453"/>
                    </a:lnTo>
                    <a:lnTo>
                      <a:pt x="105" y="453"/>
                    </a:lnTo>
                    <a:lnTo>
                      <a:pt x="91" y="449"/>
                    </a:lnTo>
                    <a:lnTo>
                      <a:pt x="83" y="449"/>
                    </a:lnTo>
                    <a:lnTo>
                      <a:pt x="83" y="453"/>
                    </a:lnTo>
                    <a:lnTo>
                      <a:pt x="87" y="449"/>
                    </a:lnTo>
                    <a:lnTo>
                      <a:pt x="83" y="446"/>
                    </a:lnTo>
                    <a:lnTo>
                      <a:pt x="83" y="446"/>
                    </a:lnTo>
                    <a:lnTo>
                      <a:pt x="80" y="446"/>
                    </a:lnTo>
                    <a:lnTo>
                      <a:pt x="73" y="446"/>
                    </a:lnTo>
                    <a:lnTo>
                      <a:pt x="65" y="446"/>
                    </a:lnTo>
                    <a:lnTo>
                      <a:pt x="65" y="446"/>
                    </a:lnTo>
                    <a:lnTo>
                      <a:pt x="65" y="446"/>
                    </a:lnTo>
                    <a:lnTo>
                      <a:pt x="58" y="449"/>
                    </a:lnTo>
                    <a:lnTo>
                      <a:pt x="58" y="453"/>
                    </a:lnTo>
                    <a:lnTo>
                      <a:pt x="58" y="449"/>
                    </a:lnTo>
                    <a:lnTo>
                      <a:pt x="51" y="449"/>
                    </a:lnTo>
                    <a:lnTo>
                      <a:pt x="51" y="449"/>
                    </a:lnTo>
                    <a:lnTo>
                      <a:pt x="51" y="449"/>
                    </a:lnTo>
                    <a:lnTo>
                      <a:pt x="44" y="453"/>
                    </a:lnTo>
                    <a:lnTo>
                      <a:pt x="40" y="453"/>
                    </a:lnTo>
                    <a:lnTo>
                      <a:pt x="40" y="457"/>
                    </a:lnTo>
                    <a:lnTo>
                      <a:pt x="36" y="464"/>
                    </a:lnTo>
                    <a:lnTo>
                      <a:pt x="40" y="464"/>
                    </a:lnTo>
                    <a:lnTo>
                      <a:pt x="40" y="460"/>
                    </a:lnTo>
                    <a:lnTo>
                      <a:pt x="33" y="464"/>
                    </a:lnTo>
                    <a:lnTo>
                      <a:pt x="33" y="464"/>
                    </a:lnTo>
                    <a:lnTo>
                      <a:pt x="29" y="464"/>
                    </a:lnTo>
                    <a:lnTo>
                      <a:pt x="22" y="471"/>
                    </a:lnTo>
                    <a:lnTo>
                      <a:pt x="22" y="475"/>
                    </a:lnTo>
                    <a:lnTo>
                      <a:pt x="22" y="475"/>
                    </a:lnTo>
                    <a:lnTo>
                      <a:pt x="15" y="486"/>
                    </a:lnTo>
                    <a:lnTo>
                      <a:pt x="7" y="497"/>
                    </a:lnTo>
                    <a:lnTo>
                      <a:pt x="11" y="497"/>
                    </a:lnTo>
                    <a:lnTo>
                      <a:pt x="7" y="493"/>
                    </a:lnTo>
                    <a:lnTo>
                      <a:pt x="4" y="497"/>
                    </a:lnTo>
                    <a:lnTo>
                      <a:pt x="4" y="500"/>
                    </a:lnTo>
                    <a:lnTo>
                      <a:pt x="4" y="500"/>
                    </a:lnTo>
                    <a:lnTo>
                      <a:pt x="0" y="508"/>
                    </a:lnTo>
                    <a:lnTo>
                      <a:pt x="0" y="508"/>
                    </a:lnTo>
                    <a:lnTo>
                      <a:pt x="0" y="508"/>
                    </a:lnTo>
                    <a:lnTo>
                      <a:pt x="0" y="518"/>
                    </a:lnTo>
                    <a:lnTo>
                      <a:pt x="0" y="529"/>
                    </a:lnTo>
                    <a:lnTo>
                      <a:pt x="0" y="537"/>
                    </a:lnTo>
                    <a:lnTo>
                      <a:pt x="0" y="540"/>
                    </a:lnTo>
                    <a:lnTo>
                      <a:pt x="0" y="540"/>
                    </a:lnTo>
                    <a:lnTo>
                      <a:pt x="4" y="551"/>
                    </a:lnTo>
                    <a:lnTo>
                      <a:pt x="11" y="562"/>
                    </a:lnTo>
                    <a:lnTo>
                      <a:pt x="15" y="569"/>
                    </a:lnTo>
                    <a:lnTo>
                      <a:pt x="22" y="580"/>
                    </a:lnTo>
                    <a:lnTo>
                      <a:pt x="22" y="580"/>
                    </a:lnTo>
                    <a:lnTo>
                      <a:pt x="25" y="584"/>
                    </a:lnTo>
                    <a:lnTo>
                      <a:pt x="36" y="591"/>
                    </a:lnTo>
                    <a:lnTo>
                      <a:pt x="36" y="591"/>
                    </a:lnTo>
                    <a:lnTo>
                      <a:pt x="36" y="591"/>
                    </a:lnTo>
                    <a:lnTo>
                      <a:pt x="40" y="591"/>
                    </a:lnTo>
                    <a:lnTo>
                      <a:pt x="40" y="584"/>
                    </a:lnTo>
                    <a:lnTo>
                      <a:pt x="36" y="587"/>
                    </a:lnTo>
                    <a:lnTo>
                      <a:pt x="40" y="591"/>
                    </a:lnTo>
                    <a:lnTo>
                      <a:pt x="44" y="595"/>
                    </a:lnTo>
                    <a:lnTo>
                      <a:pt x="44" y="595"/>
                    </a:lnTo>
                    <a:lnTo>
                      <a:pt x="51" y="598"/>
                    </a:lnTo>
                    <a:lnTo>
                      <a:pt x="51" y="598"/>
                    </a:lnTo>
                    <a:lnTo>
                      <a:pt x="51" y="598"/>
                    </a:lnTo>
                    <a:lnTo>
                      <a:pt x="58" y="598"/>
                    </a:lnTo>
                    <a:lnTo>
                      <a:pt x="58" y="591"/>
                    </a:lnTo>
                    <a:lnTo>
                      <a:pt x="58" y="598"/>
                    </a:lnTo>
                    <a:lnTo>
                      <a:pt x="65" y="602"/>
                    </a:lnTo>
                    <a:lnTo>
                      <a:pt x="65" y="602"/>
                    </a:lnTo>
                    <a:lnTo>
                      <a:pt x="65" y="602"/>
                    </a:lnTo>
                    <a:lnTo>
                      <a:pt x="73" y="602"/>
                    </a:lnTo>
                    <a:lnTo>
                      <a:pt x="80" y="602"/>
                    </a:lnTo>
                    <a:lnTo>
                      <a:pt x="87" y="602"/>
                    </a:lnTo>
                    <a:lnTo>
                      <a:pt x="98" y="602"/>
                    </a:lnTo>
                    <a:lnTo>
                      <a:pt x="98" y="602"/>
                    </a:lnTo>
                    <a:lnTo>
                      <a:pt x="102" y="602"/>
                    </a:lnTo>
                    <a:lnTo>
                      <a:pt x="109" y="598"/>
                    </a:lnTo>
                    <a:lnTo>
                      <a:pt x="105" y="591"/>
                    </a:lnTo>
                    <a:lnTo>
                      <a:pt x="105" y="598"/>
                    </a:lnTo>
                    <a:lnTo>
                      <a:pt x="112" y="598"/>
                    </a:lnTo>
                    <a:lnTo>
                      <a:pt x="116" y="598"/>
                    </a:lnTo>
                    <a:lnTo>
                      <a:pt x="116" y="598"/>
                    </a:lnTo>
                    <a:lnTo>
                      <a:pt x="127" y="595"/>
                    </a:lnTo>
                    <a:lnTo>
                      <a:pt x="145" y="587"/>
                    </a:lnTo>
                    <a:lnTo>
                      <a:pt x="156" y="584"/>
                    </a:lnTo>
                    <a:lnTo>
                      <a:pt x="152" y="576"/>
                    </a:lnTo>
                    <a:lnTo>
                      <a:pt x="152" y="584"/>
                    </a:lnTo>
                    <a:lnTo>
                      <a:pt x="167" y="580"/>
                    </a:lnTo>
                    <a:lnTo>
                      <a:pt x="178" y="580"/>
                    </a:lnTo>
                    <a:lnTo>
                      <a:pt x="185" y="580"/>
                    </a:lnTo>
                    <a:lnTo>
                      <a:pt x="185" y="573"/>
                    </a:lnTo>
                    <a:lnTo>
                      <a:pt x="181" y="576"/>
                    </a:lnTo>
                    <a:lnTo>
                      <a:pt x="185" y="580"/>
                    </a:lnTo>
                    <a:lnTo>
                      <a:pt x="189" y="584"/>
                    </a:lnTo>
                    <a:lnTo>
                      <a:pt x="189" y="584"/>
                    </a:lnTo>
                    <a:lnTo>
                      <a:pt x="192" y="584"/>
                    </a:lnTo>
                    <a:lnTo>
                      <a:pt x="192" y="576"/>
                    </a:lnTo>
                    <a:lnTo>
                      <a:pt x="192" y="584"/>
                    </a:lnTo>
                    <a:lnTo>
                      <a:pt x="199" y="587"/>
                    </a:lnTo>
                    <a:lnTo>
                      <a:pt x="199" y="580"/>
                    </a:lnTo>
                    <a:lnTo>
                      <a:pt x="196" y="584"/>
                    </a:lnTo>
                    <a:lnTo>
                      <a:pt x="199" y="587"/>
                    </a:lnTo>
                    <a:lnTo>
                      <a:pt x="203" y="584"/>
                    </a:lnTo>
                    <a:lnTo>
                      <a:pt x="199" y="587"/>
                    </a:lnTo>
                    <a:lnTo>
                      <a:pt x="203" y="595"/>
                    </a:lnTo>
                    <a:lnTo>
                      <a:pt x="203" y="595"/>
                    </a:lnTo>
                    <a:lnTo>
                      <a:pt x="203" y="595"/>
                    </a:lnTo>
                    <a:lnTo>
                      <a:pt x="207" y="598"/>
                    </a:lnTo>
                    <a:lnTo>
                      <a:pt x="210" y="595"/>
                    </a:lnTo>
                    <a:lnTo>
                      <a:pt x="207" y="598"/>
                    </a:lnTo>
                    <a:lnTo>
                      <a:pt x="210" y="609"/>
                    </a:lnTo>
                    <a:lnTo>
                      <a:pt x="214" y="616"/>
                    </a:lnTo>
                    <a:lnTo>
                      <a:pt x="218" y="627"/>
                    </a:lnTo>
                    <a:lnTo>
                      <a:pt x="221" y="638"/>
                    </a:lnTo>
                    <a:lnTo>
                      <a:pt x="225" y="649"/>
                    </a:lnTo>
                    <a:lnTo>
                      <a:pt x="228" y="645"/>
                    </a:lnTo>
                    <a:lnTo>
                      <a:pt x="225" y="645"/>
                    </a:lnTo>
                    <a:lnTo>
                      <a:pt x="225" y="660"/>
                    </a:lnTo>
                    <a:lnTo>
                      <a:pt x="225" y="663"/>
                    </a:lnTo>
                    <a:lnTo>
                      <a:pt x="225" y="663"/>
                    </a:lnTo>
                    <a:lnTo>
                      <a:pt x="228" y="678"/>
                    </a:lnTo>
                    <a:lnTo>
                      <a:pt x="232" y="674"/>
                    </a:lnTo>
                    <a:lnTo>
                      <a:pt x="228" y="674"/>
                    </a:lnTo>
                    <a:lnTo>
                      <a:pt x="228" y="689"/>
                    </a:lnTo>
                    <a:lnTo>
                      <a:pt x="228" y="703"/>
                    </a:lnTo>
                    <a:lnTo>
                      <a:pt x="228" y="718"/>
                    </a:lnTo>
                    <a:lnTo>
                      <a:pt x="228" y="732"/>
                    </a:lnTo>
                    <a:lnTo>
                      <a:pt x="232" y="732"/>
                    </a:lnTo>
                    <a:lnTo>
                      <a:pt x="228" y="732"/>
                    </a:lnTo>
                    <a:lnTo>
                      <a:pt x="225" y="747"/>
                    </a:lnTo>
                    <a:lnTo>
                      <a:pt x="225" y="747"/>
                    </a:lnTo>
                    <a:lnTo>
                      <a:pt x="225" y="747"/>
                    </a:lnTo>
                    <a:lnTo>
                      <a:pt x="225" y="761"/>
                    </a:lnTo>
                    <a:lnTo>
                      <a:pt x="228" y="761"/>
                    </a:lnTo>
                    <a:lnTo>
                      <a:pt x="225" y="761"/>
                    </a:lnTo>
                    <a:lnTo>
                      <a:pt x="221" y="776"/>
                    </a:lnTo>
                    <a:lnTo>
                      <a:pt x="218" y="790"/>
                    </a:lnTo>
                    <a:lnTo>
                      <a:pt x="214" y="805"/>
                    </a:lnTo>
                    <a:lnTo>
                      <a:pt x="210" y="816"/>
                    </a:lnTo>
                    <a:lnTo>
                      <a:pt x="207" y="819"/>
                    </a:lnTo>
                    <a:lnTo>
                      <a:pt x="214" y="823"/>
                    </a:lnTo>
                    <a:lnTo>
                      <a:pt x="239" y="823"/>
                    </a:lnTo>
                    <a:lnTo>
                      <a:pt x="265" y="823"/>
                    </a:lnTo>
                    <a:lnTo>
                      <a:pt x="290" y="823"/>
                    </a:lnTo>
                    <a:lnTo>
                      <a:pt x="312" y="823"/>
                    </a:lnTo>
                    <a:lnTo>
                      <a:pt x="334" y="823"/>
                    </a:lnTo>
                    <a:lnTo>
                      <a:pt x="355" y="823"/>
                    </a:lnTo>
                    <a:lnTo>
                      <a:pt x="373" y="823"/>
                    </a:lnTo>
                    <a:lnTo>
                      <a:pt x="384" y="823"/>
                    </a:lnTo>
                    <a:lnTo>
                      <a:pt x="402" y="819"/>
                    </a:lnTo>
                    <a:lnTo>
                      <a:pt x="417" y="816"/>
                    </a:lnTo>
                    <a:lnTo>
                      <a:pt x="421" y="812"/>
                    </a:lnTo>
                    <a:lnTo>
                      <a:pt x="421" y="812"/>
                    </a:lnTo>
                    <a:lnTo>
                      <a:pt x="431" y="801"/>
                    </a:lnTo>
                    <a:lnTo>
                      <a:pt x="428" y="798"/>
                    </a:lnTo>
                    <a:lnTo>
                      <a:pt x="431" y="805"/>
                    </a:lnTo>
                    <a:lnTo>
                      <a:pt x="446" y="798"/>
                    </a:lnTo>
                    <a:lnTo>
                      <a:pt x="446" y="798"/>
                    </a:lnTo>
                    <a:lnTo>
                      <a:pt x="446" y="794"/>
                    </a:lnTo>
                    <a:lnTo>
                      <a:pt x="453" y="787"/>
                    </a:lnTo>
                    <a:lnTo>
                      <a:pt x="460" y="780"/>
                    </a:lnTo>
                    <a:lnTo>
                      <a:pt x="464" y="780"/>
                    </a:lnTo>
                    <a:lnTo>
                      <a:pt x="464" y="780"/>
                    </a:lnTo>
                    <a:lnTo>
                      <a:pt x="471" y="769"/>
                    </a:lnTo>
                    <a:lnTo>
                      <a:pt x="475" y="758"/>
                    </a:lnTo>
                    <a:lnTo>
                      <a:pt x="479" y="747"/>
                    </a:lnTo>
                    <a:lnTo>
                      <a:pt x="479" y="747"/>
                    </a:lnTo>
                    <a:lnTo>
                      <a:pt x="479" y="743"/>
                    </a:lnTo>
                    <a:lnTo>
                      <a:pt x="479" y="736"/>
                    </a:lnTo>
                    <a:lnTo>
                      <a:pt x="479" y="725"/>
                    </a:lnTo>
                    <a:lnTo>
                      <a:pt x="479" y="714"/>
                    </a:lnTo>
                    <a:lnTo>
                      <a:pt x="479" y="714"/>
                    </a:lnTo>
                    <a:lnTo>
                      <a:pt x="479" y="714"/>
                    </a:lnTo>
                    <a:lnTo>
                      <a:pt x="475" y="703"/>
                    </a:lnTo>
                    <a:lnTo>
                      <a:pt x="475" y="703"/>
                    </a:lnTo>
                    <a:lnTo>
                      <a:pt x="471" y="700"/>
                    </a:lnTo>
                    <a:lnTo>
                      <a:pt x="464" y="692"/>
                    </a:lnTo>
                    <a:lnTo>
                      <a:pt x="460" y="696"/>
                    </a:lnTo>
                    <a:lnTo>
                      <a:pt x="468" y="696"/>
                    </a:lnTo>
                    <a:lnTo>
                      <a:pt x="464" y="685"/>
                    </a:lnTo>
                    <a:lnTo>
                      <a:pt x="460" y="682"/>
                    </a:lnTo>
                    <a:lnTo>
                      <a:pt x="460" y="682"/>
                    </a:lnTo>
                    <a:lnTo>
                      <a:pt x="450" y="674"/>
                    </a:lnTo>
                    <a:lnTo>
                      <a:pt x="446" y="678"/>
                    </a:lnTo>
                    <a:lnTo>
                      <a:pt x="453" y="678"/>
                    </a:lnTo>
                    <a:lnTo>
                      <a:pt x="446" y="667"/>
                    </a:lnTo>
                    <a:lnTo>
                      <a:pt x="446" y="667"/>
                    </a:lnTo>
                    <a:lnTo>
                      <a:pt x="442" y="663"/>
                    </a:lnTo>
                    <a:lnTo>
                      <a:pt x="435" y="656"/>
                    </a:lnTo>
                    <a:lnTo>
                      <a:pt x="431" y="660"/>
                    </a:lnTo>
                    <a:lnTo>
                      <a:pt x="439" y="660"/>
                    </a:lnTo>
                    <a:lnTo>
                      <a:pt x="435" y="649"/>
                    </a:lnTo>
                    <a:lnTo>
                      <a:pt x="431" y="638"/>
                    </a:lnTo>
                    <a:lnTo>
                      <a:pt x="424" y="638"/>
                    </a:lnTo>
                    <a:lnTo>
                      <a:pt x="431" y="638"/>
                    </a:lnTo>
                    <a:lnTo>
                      <a:pt x="431" y="624"/>
                    </a:lnTo>
                    <a:lnTo>
                      <a:pt x="431" y="613"/>
                    </a:lnTo>
                    <a:lnTo>
                      <a:pt x="431" y="602"/>
                    </a:lnTo>
                    <a:lnTo>
                      <a:pt x="424" y="602"/>
                    </a:lnTo>
                    <a:lnTo>
                      <a:pt x="431" y="605"/>
                    </a:lnTo>
                    <a:lnTo>
                      <a:pt x="435" y="595"/>
                    </a:lnTo>
                    <a:lnTo>
                      <a:pt x="439" y="584"/>
                    </a:lnTo>
                    <a:lnTo>
                      <a:pt x="446" y="573"/>
                    </a:lnTo>
                    <a:lnTo>
                      <a:pt x="439" y="569"/>
                    </a:lnTo>
                    <a:lnTo>
                      <a:pt x="442" y="576"/>
                    </a:lnTo>
                    <a:lnTo>
                      <a:pt x="450" y="573"/>
                    </a:lnTo>
                    <a:lnTo>
                      <a:pt x="450" y="569"/>
                    </a:lnTo>
                    <a:lnTo>
                      <a:pt x="453" y="569"/>
                    </a:lnTo>
                    <a:lnTo>
                      <a:pt x="457" y="562"/>
                    </a:lnTo>
                    <a:lnTo>
                      <a:pt x="450" y="558"/>
                    </a:lnTo>
                    <a:lnTo>
                      <a:pt x="453" y="562"/>
                    </a:lnTo>
                    <a:lnTo>
                      <a:pt x="457" y="558"/>
                    </a:lnTo>
                    <a:lnTo>
                      <a:pt x="453" y="555"/>
                    </a:lnTo>
                    <a:lnTo>
                      <a:pt x="453" y="562"/>
                    </a:lnTo>
                    <a:lnTo>
                      <a:pt x="460" y="562"/>
                    </a:lnTo>
                    <a:lnTo>
                      <a:pt x="464" y="562"/>
                    </a:lnTo>
                    <a:lnTo>
                      <a:pt x="464" y="558"/>
                    </a:lnTo>
                    <a:lnTo>
                      <a:pt x="468" y="555"/>
                    </a:lnTo>
                    <a:lnTo>
                      <a:pt x="464" y="551"/>
                    </a:lnTo>
                    <a:lnTo>
                      <a:pt x="468" y="558"/>
                    </a:lnTo>
                    <a:lnTo>
                      <a:pt x="475" y="555"/>
                    </a:lnTo>
                    <a:lnTo>
                      <a:pt x="482" y="551"/>
                    </a:lnTo>
                    <a:lnTo>
                      <a:pt x="489" y="547"/>
                    </a:lnTo>
                    <a:lnTo>
                      <a:pt x="486" y="540"/>
                    </a:lnTo>
                    <a:lnTo>
                      <a:pt x="486" y="547"/>
                    </a:lnTo>
                    <a:lnTo>
                      <a:pt x="493" y="547"/>
                    </a:lnTo>
                    <a:lnTo>
                      <a:pt x="497" y="547"/>
                    </a:lnTo>
                    <a:lnTo>
                      <a:pt x="497" y="547"/>
                    </a:lnTo>
                    <a:lnTo>
                      <a:pt x="508" y="544"/>
                    </a:lnTo>
                    <a:lnTo>
                      <a:pt x="504" y="537"/>
                    </a:lnTo>
                    <a:lnTo>
                      <a:pt x="504" y="544"/>
                    </a:lnTo>
                    <a:lnTo>
                      <a:pt x="515" y="544"/>
                    </a:lnTo>
                    <a:lnTo>
                      <a:pt x="522" y="544"/>
                    </a:lnTo>
                    <a:lnTo>
                      <a:pt x="533" y="544"/>
                    </a:lnTo>
                    <a:lnTo>
                      <a:pt x="544" y="544"/>
                    </a:lnTo>
                    <a:lnTo>
                      <a:pt x="544" y="537"/>
                    </a:lnTo>
                    <a:lnTo>
                      <a:pt x="544" y="544"/>
                    </a:lnTo>
                    <a:lnTo>
                      <a:pt x="551" y="547"/>
                    </a:lnTo>
                    <a:lnTo>
                      <a:pt x="562" y="551"/>
                    </a:lnTo>
                    <a:lnTo>
                      <a:pt x="562" y="551"/>
                    </a:lnTo>
                    <a:lnTo>
                      <a:pt x="562" y="551"/>
                    </a:lnTo>
                    <a:lnTo>
                      <a:pt x="569" y="551"/>
                    </a:lnTo>
                    <a:lnTo>
                      <a:pt x="569" y="544"/>
                    </a:lnTo>
                    <a:lnTo>
                      <a:pt x="569" y="551"/>
                    </a:lnTo>
                    <a:lnTo>
                      <a:pt x="577" y="555"/>
                    </a:lnTo>
                    <a:lnTo>
                      <a:pt x="577" y="547"/>
                    </a:lnTo>
                    <a:lnTo>
                      <a:pt x="573" y="551"/>
                    </a:lnTo>
                    <a:lnTo>
                      <a:pt x="577" y="555"/>
                    </a:lnTo>
                    <a:lnTo>
                      <a:pt x="580" y="558"/>
                    </a:lnTo>
                    <a:lnTo>
                      <a:pt x="580" y="558"/>
                    </a:lnTo>
                    <a:lnTo>
                      <a:pt x="587" y="562"/>
                    </a:lnTo>
                    <a:lnTo>
                      <a:pt x="595" y="566"/>
                    </a:lnTo>
                    <a:lnTo>
                      <a:pt x="595" y="558"/>
                    </a:lnTo>
                    <a:lnTo>
                      <a:pt x="591" y="562"/>
                    </a:lnTo>
                    <a:lnTo>
                      <a:pt x="595" y="569"/>
                    </a:lnTo>
                    <a:lnTo>
                      <a:pt x="595" y="569"/>
                    </a:lnTo>
                    <a:lnTo>
                      <a:pt x="595" y="569"/>
                    </a:lnTo>
                    <a:lnTo>
                      <a:pt x="598" y="573"/>
                    </a:lnTo>
                    <a:lnTo>
                      <a:pt x="602" y="569"/>
                    </a:lnTo>
                    <a:lnTo>
                      <a:pt x="598" y="573"/>
                    </a:lnTo>
                    <a:lnTo>
                      <a:pt x="602" y="580"/>
                    </a:lnTo>
                    <a:lnTo>
                      <a:pt x="606" y="591"/>
                    </a:lnTo>
                    <a:lnTo>
                      <a:pt x="609" y="602"/>
                    </a:lnTo>
                    <a:lnTo>
                      <a:pt x="613" y="598"/>
                    </a:lnTo>
                    <a:lnTo>
                      <a:pt x="609" y="598"/>
                    </a:lnTo>
                    <a:lnTo>
                      <a:pt x="609" y="613"/>
                    </a:lnTo>
                    <a:lnTo>
                      <a:pt x="609" y="624"/>
                    </a:lnTo>
                    <a:lnTo>
                      <a:pt x="609" y="638"/>
                    </a:lnTo>
                    <a:lnTo>
                      <a:pt x="613" y="638"/>
                    </a:lnTo>
                    <a:lnTo>
                      <a:pt x="609" y="638"/>
                    </a:lnTo>
                    <a:lnTo>
                      <a:pt x="606" y="649"/>
                    </a:lnTo>
                    <a:lnTo>
                      <a:pt x="602" y="660"/>
                    </a:lnTo>
                    <a:lnTo>
                      <a:pt x="598" y="671"/>
                    </a:lnTo>
                    <a:lnTo>
                      <a:pt x="602" y="671"/>
                    </a:lnTo>
                    <a:lnTo>
                      <a:pt x="598" y="667"/>
                    </a:lnTo>
                    <a:lnTo>
                      <a:pt x="591" y="674"/>
                    </a:lnTo>
                    <a:lnTo>
                      <a:pt x="584" y="682"/>
                    </a:lnTo>
                    <a:lnTo>
                      <a:pt x="587" y="685"/>
                    </a:lnTo>
                    <a:lnTo>
                      <a:pt x="587" y="682"/>
                    </a:lnTo>
                    <a:lnTo>
                      <a:pt x="580" y="685"/>
                    </a:lnTo>
                    <a:lnTo>
                      <a:pt x="580" y="685"/>
                    </a:lnTo>
                    <a:lnTo>
                      <a:pt x="577" y="685"/>
                    </a:lnTo>
                    <a:lnTo>
                      <a:pt x="569" y="692"/>
                    </a:lnTo>
                    <a:lnTo>
                      <a:pt x="569" y="696"/>
                    </a:lnTo>
                    <a:lnTo>
                      <a:pt x="569" y="696"/>
                    </a:lnTo>
                    <a:lnTo>
                      <a:pt x="566" y="703"/>
                    </a:lnTo>
                    <a:lnTo>
                      <a:pt x="562" y="714"/>
                    </a:lnTo>
                    <a:lnTo>
                      <a:pt x="558" y="722"/>
                    </a:lnTo>
                    <a:lnTo>
                      <a:pt x="558" y="722"/>
                    </a:lnTo>
                    <a:lnTo>
                      <a:pt x="558" y="722"/>
                    </a:lnTo>
                    <a:lnTo>
                      <a:pt x="558" y="729"/>
                    </a:lnTo>
                    <a:lnTo>
                      <a:pt x="562" y="729"/>
                    </a:lnTo>
                    <a:lnTo>
                      <a:pt x="558" y="729"/>
                    </a:lnTo>
                    <a:lnTo>
                      <a:pt x="555" y="740"/>
                    </a:lnTo>
                    <a:lnTo>
                      <a:pt x="555" y="740"/>
                    </a:lnTo>
                    <a:lnTo>
                      <a:pt x="555" y="740"/>
                    </a:lnTo>
                    <a:lnTo>
                      <a:pt x="555" y="751"/>
                    </a:lnTo>
                    <a:lnTo>
                      <a:pt x="555" y="751"/>
                    </a:lnTo>
                    <a:lnTo>
                      <a:pt x="555" y="754"/>
                    </a:lnTo>
                    <a:lnTo>
                      <a:pt x="558" y="761"/>
                    </a:lnTo>
                    <a:lnTo>
                      <a:pt x="562" y="772"/>
                    </a:lnTo>
                    <a:lnTo>
                      <a:pt x="566" y="783"/>
                    </a:lnTo>
                    <a:lnTo>
                      <a:pt x="566" y="783"/>
                    </a:lnTo>
                    <a:lnTo>
                      <a:pt x="566" y="783"/>
                    </a:lnTo>
                    <a:lnTo>
                      <a:pt x="573" y="790"/>
                    </a:lnTo>
                    <a:lnTo>
                      <a:pt x="577" y="787"/>
                    </a:lnTo>
                    <a:lnTo>
                      <a:pt x="573" y="790"/>
                    </a:lnTo>
                    <a:lnTo>
                      <a:pt x="580" y="801"/>
                    </a:lnTo>
                    <a:lnTo>
                      <a:pt x="580" y="801"/>
                    </a:lnTo>
                    <a:lnTo>
                      <a:pt x="584" y="805"/>
                    </a:lnTo>
                    <a:lnTo>
                      <a:pt x="595" y="812"/>
                    </a:lnTo>
                    <a:lnTo>
                      <a:pt x="606" y="819"/>
                    </a:lnTo>
                    <a:lnTo>
                      <a:pt x="602" y="816"/>
                    </a:lnTo>
                    <a:lnTo>
                      <a:pt x="606" y="819"/>
                    </a:lnTo>
                    <a:lnTo>
                      <a:pt x="620" y="823"/>
                    </a:lnTo>
                    <a:lnTo>
                      <a:pt x="620" y="816"/>
                    </a:lnTo>
                    <a:lnTo>
                      <a:pt x="620" y="823"/>
                    </a:lnTo>
                    <a:lnTo>
                      <a:pt x="627" y="827"/>
                    </a:lnTo>
                    <a:lnTo>
                      <a:pt x="624" y="823"/>
                    </a:lnTo>
                    <a:lnTo>
                      <a:pt x="627" y="827"/>
                    </a:lnTo>
                    <a:lnTo>
                      <a:pt x="642" y="830"/>
                    </a:lnTo>
                    <a:lnTo>
                      <a:pt x="667" y="834"/>
                    </a:lnTo>
                    <a:lnTo>
                      <a:pt x="696" y="838"/>
                    </a:lnTo>
                    <a:lnTo>
                      <a:pt x="714" y="838"/>
                    </a:lnTo>
                    <a:lnTo>
                      <a:pt x="732" y="841"/>
                    </a:lnTo>
                    <a:lnTo>
                      <a:pt x="751" y="841"/>
                    </a:lnTo>
                    <a:lnTo>
                      <a:pt x="769" y="841"/>
                    </a:lnTo>
                    <a:lnTo>
                      <a:pt x="787" y="841"/>
                    </a:lnTo>
                    <a:lnTo>
                      <a:pt x="809" y="841"/>
                    </a:lnTo>
                    <a:lnTo>
                      <a:pt x="823" y="838"/>
                    </a:lnTo>
                    <a:lnTo>
                      <a:pt x="841" y="834"/>
                    </a:lnTo>
                    <a:lnTo>
                      <a:pt x="845" y="830"/>
                    </a:lnTo>
                    <a:lnTo>
                      <a:pt x="848" y="827"/>
                    </a:lnTo>
                    <a:lnTo>
                      <a:pt x="848" y="819"/>
                    </a:lnTo>
                    <a:lnTo>
                      <a:pt x="848" y="819"/>
                    </a:lnTo>
                    <a:lnTo>
                      <a:pt x="848" y="819"/>
                    </a:lnTo>
                    <a:lnTo>
                      <a:pt x="845" y="809"/>
                    </a:lnTo>
                    <a:lnTo>
                      <a:pt x="841" y="798"/>
                    </a:lnTo>
                    <a:lnTo>
                      <a:pt x="834" y="798"/>
                    </a:lnTo>
                    <a:lnTo>
                      <a:pt x="841" y="798"/>
                    </a:lnTo>
                    <a:lnTo>
                      <a:pt x="841" y="787"/>
                    </a:lnTo>
                    <a:lnTo>
                      <a:pt x="841" y="761"/>
                    </a:lnTo>
                    <a:lnTo>
                      <a:pt x="841" y="736"/>
                    </a:lnTo>
                    <a:lnTo>
                      <a:pt x="841" y="707"/>
                    </a:lnTo>
                    <a:lnTo>
                      <a:pt x="845" y="682"/>
                    </a:lnTo>
                    <a:lnTo>
                      <a:pt x="848" y="656"/>
                    </a:lnTo>
                    <a:lnTo>
                      <a:pt x="848" y="634"/>
                    </a:lnTo>
                    <a:lnTo>
                      <a:pt x="841" y="634"/>
                    </a:lnTo>
                    <a:lnTo>
                      <a:pt x="848" y="638"/>
                    </a:lnTo>
                    <a:lnTo>
                      <a:pt x="852" y="627"/>
                    </a:lnTo>
                    <a:lnTo>
                      <a:pt x="856" y="620"/>
                    </a:lnTo>
                    <a:lnTo>
                      <a:pt x="859" y="613"/>
                    </a:lnTo>
                    <a:lnTo>
                      <a:pt x="852" y="609"/>
                    </a:lnTo>
                    <a:lnTo>
                      <a:pt x="856" y="616"/>
                    </a:lnTo>
                    <a:lnTo>
                      <a:pt x="863" y="613"/>
                    </a:lnTo>
                    <a:lnTo>
                      <a:pt x="863" y="613"/>
                    </a:lnTo>
                    <a:lnTo>
                      <a:pt x="863" y="609"/>
                    </a:lnTo>
                    <a:lnTo>
                      <a:pt x="867" y="605"/>
                    </a:lnTo>
                    <a:lnTo>
                      <a:pt x="863" y="602"/>
                    </a:lnTo>
                    <a:lnTo>
                      <a:pt x="867" y="609"/>
                    </a:lnTo>
                    <a:lnTo>
                      <a:pt x="874" y="605"/>
                    </a:lnTo>
                    <a:lnTo>
                      <a:pt x="870" y="598"/>
                    </a:lnTo>
                    <a:lnTo>
                      <a:pt x="870" y="605"/>
                    </a:lnTo>
                    <a:lnTo>
                      <a:pt x="877" y="605"/>
                    </a:lnTo>
                    <a:lnTo>
                      <a:pt x="885" y="605"/>
                    </a:lnTo>
                    <a:lnTo>
                      <a:pt x="892" y="605"/>
                    </a:lnTo>
                    <a:lnTo>
                      <a:pt x="892" y="598"/>
                    </a:lnTo>
                    <a:lnTo>
                      <a:pt x="892" y="605"/>
                    </a:lnTo>
                    <a:lnTo>
                      <a:pt x="903" y="609"/>
                    </a:lnTo>
                    <a:lnTo>
                      <a:pt x="910" y="613"/>
                    </a:lnTo>
                    <a:lnTo>
                      <a:pt x="917" y="616"/>
                    </a:lnTo>
                    <a:lnTo>
                      <a:pt x="925" y="620"/>
                    </a:lnTo>
                    <a:lnTo>
                      <a:pt x="932" y="624"/>
                    </a:lnTo>
                    <a:lnTo>
                      <a:pt x="943" y="631"/>
                    </a:lnTo>
                    <a:lnTo>
                      <a:pt x="943" y="624"/>
                    </a:lnTo>
                    <a:lnTo>
                      <a:pt x="939" y="627"/>
                    </a:lnTo>
                    <a:lnTo>
                      <a:pt x="943" y="634"/>
                    </a:lnTo>
                    <a:lnTo>
                      <a:pt x="943" y="634"/>
                    </a:lnTo>
                    <a:lnTo>
                      <a:pt x="943" y="634"/>
                    </a:lnTo>
                    <a:lnTo>
                      <a:pt x="950" y="642"/>
                    </a:lnTo>
                    <a:lnTo>
                      <a:pt x="954" y="645"/>
                    </a:lnTo>
                    <a:lnTo>
                      <a:pt x="954" y="645"/>
                    </a:lnTo>
                    <a:lnTo>
                      <a:pt x="961" y="649"/>
                    </a:lnTo>
                    <a:lnTo>
                      <a:pt x="972" y="653"/>
                    </a:lnTo>
                    <a:lnTo>
                      <a:pt x="983" y="656"/>
                    </a:lnTo>
                    <a:lnTo>
                      <a:pt x="983" y="656"/>
                    </a:lnTo>
                    <a:lnTo>
                      <a:pt x="983" y="656"/>
                    </a:lnTo>
                    <a:lnTo>
                      <a:pt x="990" y="656"/>
                    </a:lnTo>
                    <a:lnTo>
                      <a:pt x="990" y="649"/>
                    </a:lnTo>
                    <a:lnTo>
                      <a:pt x="990" y="656"/>
                    </a:lnTo>
                    <a:lnTo>
                      <a:pt x="1001" y="660"/>
                    </a:lnTo>
                    <a:lnTo>
                      <a:pt x="1001" y="660"/>
                    </a:lnTo>
                    <a:lnTo>
                      <a:pt x="1004" y="660"/>
                    </a:lnTo>
                    <a:lnTo>
                      <a:pt x="1015" y="656"/>
                    </a:lnTo>
                    <a:lnTo>
                      <a:pt x="1012" y="649"/>
                    </a:lnTo>
                    <a:lnTo>
                      <a:pt x="1012" y="656"/>
                    </a:lnTo>
                    <a:lnTo>
                      <a:pt x="1022" y="656"/>
                    </a:lnTo>
                    <a:lnTo>
                      <a:pt x="1022" y="656"/>
                    </a:lnTo>
                    <a:lnTo>
                      <a:pt x="1026" y="656"/>
                    </a:lnTo>
                    <a:lnTo>
                      <a:pt x="1033" y="653"/>
                    </a:lnTo>
                    <a:lnTo>
                      <a:pt x="1044" y="649"/>
                    </a:lnTo>
                    <a:lnTo>
                      <a:pt x="1044" y="649"/>
                    </a:lnTo>
                    <a:lnTo>
                      <a:pt x="1044" y="645"/>
                    </a:lnTo>
                    <a:lnTo>
                      <a:pt x="1051" y="638"/>
                    </a:lnTo>
                    <a:lnTo>
                      <a:pt x="1059" y="631"/>
                    </a:lnTo>
                    <a:lnTo>
                      <a:pt x="1066" y="624"/>
                    </a:lnTo>
                    <a:lnTo>
                      <a:pt x="1070" y="624"/>
                    </a:lnTo>
                    <a:lnTo>
                      <a:pt x="1070" y="624"/>
                    </a:lnTo>
                    <a:lnTo>
                      <a:pt x="1077" y="613"/>
                    </a:lnTo>
                    <a:lnTo>
                      <a:pt x="1080" y="602"/>
                    </a:lnTo>
                    <a:lnTo>
                      <a:pt x="1084" y="587"/>
                    </a:lnTo>
                    <a:lnTo>
                      <a:pt x="1084" y="587"/>
                    </a:lnTo>
                    <a:lnTo>
                      <a:pt x="1084" y="584"/>
                    </a:lnTo>
                    <a:lnTo>
                      <a:pt x="1084" y="576"/>
                    </a:lnTo>
                    <a:lnTo>
                      <a:pt x="1084" y="569"/>
                    </a:lnTo>
                    <a:lnTo>
                      <a:pt x="1084" y="562"/>
                    </a:lnTo>
                    <a:lnTo>
                      <a:pt x="1084" y="555"/>
                    </a:lnTo>
                    <a:lnTo>
                      <a:pt x="1084" y="555"/>
                    </a:lnTo>
                    <a:lnTo>
                      <a:pt x="1080" y="551"/>
                    </a:lnTo>
                    <a:lnTo>
                      <a:pt x="1077" y="547"/>
                    </a:lnTo>
                    <a:lnTo>
                      <a:pt x="1073" y="551"/>
                    </a:lnTo>
                    <a:lnTo>
                      <a:pt x="1080" y="551"/>
                    </a:lnTo>
                    <a:lnTo>
                      <a:pt x="1077" y="544"/>
                    </a:lnTo>
                    <a:lnTo>
                      <a:pt x="1070" y="544"/>
                    </a:lnTo>
                    <a:lnTo>
                      <a:pt x="1077" y="544"/>
                    </a:lnTo>
                    <a:lnTo>
                      <a:pt x="1077" y="537"/>
                    </a:lnTo>
                    <a:lnTo>
                      <a:pt x="1077" y="537"/>
                    </a:lnTo>
                    <a:lnTo>
                      <a:pt x="1073" y="533"/>
                    </a:lnTo>
                    <a:lnTo>
                      <a:pt x="1070" y="529"/>
                    </a:lnTo>
                    <a:lnTo>
                      <a:pt x="1066" y="533"/>
                    </a:lnTo>
                    <a:lnTo>
                      <a:pt x="1073" y="533"/>
                    </a:lnTo>
                    <a:lnTo>
                      <a:pt x="1066" y="522"/>
                    </a:lnTo>
                    <a:lnTo>
                      <a:pt x="1062" y="518"/>
                    </a:lnTo>
                    <a:lnTo>
                      <a:pt x="1062" y="518"/>
                    </a:lnTo>
                    <a:lnTo>
                      <a:pt x="1051" y="511"/>
                    </a:lnTo>
                    <a:lnTo>
                      <a:pt x="1041" y="504"/>
                    </a:lnTo>
                    <a:lnTo>
                      <a:pt x="1030" y="497"/>
                    </a:lnTo>
                    <a:lnTo>
                      <a:pt x="1019" y="493"/>
                    </a:lnTo>
                    <a:lnTo>
                      <a:pt x="1008" y="489"/>
                    </a:lnTo>
                    <a:lnTo>
                      <a:pt x="1008" y="489"/>
                    </a:lnTo>
                    <a:lnTo>
                      <a:pt x="1004" y="489"/>
                    </a:lnTo>
                    <a:lnTo>
                      <a:pt x="990" y="489"/>
                    </a:lnTo>
                    <a:lnTo>
                      <a:pt x="979" y="489"/>
                    </a:lnTo>
                    <a:lnTo>
                      <a:pt x="979" y="489"/>
                    </a:lnTo>
                    <a:lnTo>
                      <a:pt x="979" y="489"/>
                    </a:lnTo>
                    <a:lnTo>
                      <a:pt x="968" y="493"/>
                    </a:lnTo>
                    <a:lnTo>
                      <a:pt x="957" y="497"/>
                    </a:lnTo>
                    <a:lnTo>
                      <a:pt x="957" y="500"/>
                    </a:lnTo>
                    <a:lnTo>
                      <a:pt x="957" y="497"/>
                    </a:lnTo>
                    <a:lnTo>
                      <a:pt x="954" y="497"/>
                    </a:lnTo>
                    <a:lnTo>
                      <a:pt x="954" y="497"/>
                    </a:lnTo>
                    <a:lnTo>
                      <a:pt x="950" y="497"/>
                    </a:lnTo>
                    <a:lnTo>
                      <a:pt x="946" y="500"/>
                    </a:lnTo>
                    <a:lnTo>
                      <a:pt x="943" y="504"/>
                    </a:lnTo>
                    <a:lnTo>
                      <a:pt x="943" y="508"/>
                    </a:lnTo>
                    <a:lnTo>
                      <a:pt x="943" y="508"/>
                    </a:lnTo>
                    <a:lnTo>
                      <a:pt x="939" y="515"/>
                    </a:lnTo>
                    <a:lnTo>
                      <a:pt x="943" y="515"/>
                    </a:lnTo>
                    <a:lnTo>
                      <a:pt x="939" y="511"/>
                    </a:lnTo>
                    <a:lnTo>
                      <a:pt x="932" y="518"/>
                    </a:lnTo>
                    <a:lnTo>
                      <a:pt x="925" y="526"/>
                    </a:lnTo>
                    <a:lnTo>
                      <a:pt x="928" y="529"/>
                    </a:lnTo>
                    <a:lnTo>
                      <a:pt x="928" y="526"/>
                    </a:lnTo>
                    <a:lnTo>
                      <a:pt x="921" y="529"/>
                    </a:lnTo>
                    <a:lnTo>
                      <a:pt x="914" y="533"/>
                    </a:lnTo>
                    <a:lnTo>
                      <a:pt x="914" y="537"/>
                    </a:lnTo>
                    <a:lnTo>
                      <a:pt x="914" y="533"/>
                    </a:lnTo>
                    <a:lnTo>
                      <a:pt x="906" y="533"/>
                    </a:lnTo>
                    <a:lnTo>
                      <a:pt x="896" y="533"/>
                    </a:lnTo>
                    <a:lnTo>
                      <a:pt x="888" y="533"/>
                    </a:lnTo>
                    <a:lnTo>
                      <a:pt x="888" y="537"/>
                    </a:lnTo>
                    <a:lnTo>
                      <a:pt x="892" y="533"/>
                    </a:lnTo>
                    <a:lnTo>
                      <a:pt x="885" y="529"/>
                    </a:lnTo>
                    <a:lnTo>
                      <a:pt x="885" y="529"/>
                    </a:lnTo>
                    <a:lnTo>
                      <a:pt x="881" y="529"/>
                    </a:lnTo>
                    <a:lnTo>
                      <a:pt x="874" y="529"/>
                    </a:lnTo>
                    <a:lnTo>
                      <a:pt x="874" y="533"/>
                    </a:lnTo>
                    <a:lnTo>
                      <a:pt x="877" y="529"/>
                    </a:lnTo>
                    <a:lnTo>
                      <a:pt x="870" y="526"/>
                    </a:lnTo>
                    <a:lnTo>
                      <a:pt x="867" y="529"/>
                    </a:lnTo>
                    <a:lnTo>
                      <a:pt x="870" y="526"/>
                    </a:lnTo>
                    <a:lnTo>
                      <a:pt x="863" y="518"/>
                    </a:lnTo>
                    <a:lnTo>
                      <a:pt x="863" y="518"/>
                    </a:lnTo>
                    <a:lnTo>
                      <a:pt x="863" y="518"/>
                    </a:lnTo>
                    <a:lnTo>
                      <a:pt x="856" y="515"/>
                    </a:lnTo>
                    <a:lnTo>
                      <a:pt x="852" y="518"/>
                    </a:lnTo>
                    <a:lnTo>
                      <a:pt x="856" y="515"/>
                    </a:lnTo>
                    <a:lnTo>
                      <a:pt x="852" y="511"/>
                    </a:lnTo>
                    <a:lnTo>
                      <a:pt x="848" y="515"/>
                    </a:lnTo>
                    <a:lnTo>
                      <a:pt x="856" y="515"/>
                    </a:lnTo>
                    <a:lnTo>
                      <a:pt x="852" y="508"/>
                    </a:lnTo>
                    <a:lnTo>
                      <a:pt x="852" y="508"/>
                    </a:lnTo>
                    <a:lnTo>
                      <a:pt x="848" y="504"/>
                    </a:lnTo>
                    <a:lnTo>
                      <a:pt x="845" y="500"/>
                    </a:lnTo>
                    <a:lnTo>
                      <a:pt x="841" y="504"/>
                    </a:lnTo>
                    <a:lnTo>
                      <a:pt x="848" y="504"/>
                    </a:lnTo>
                    <a:lnTo>
                      <a:pt x="848" y="497"/>
                    </a:lnTo>
                    <a:lnTo>
                      <a:pt x="848" y="478"/>
                    </a:lnTo>
                    <a:lnTo>
                      <a:pt x="848" y="453"/>
                    </a:lnTo>
                    <a:lnTo>
                      <a:pt x="848" y="413"/>
                    </a:lnTo>
                    <a:lnTo>
                      <a:pt x="848" y="373"/>
                    </a:lnTo>
                    <a:lnTo>
                      <a:pt x="848" y="333"/>
                    </a:lnTo>
                    <a:lnTo>
                      <a:pt x="848" y="290"/>
                    </a:lnTo>
                    <a:lnTo>
                      <a:pt x="848" y="254"/>
                    </a:lnTo>
                    <a:lnTo>
                      <a:pt x="848" y="225"/>
                    </a:lnTo>
                    <a:lnTo>
                      <a:pt x="848" y="217"/>
                    </a:lnTo>
                    <a:lnTo>
                      <a:pt x="841" y="221"/>
                    </a:lnTo>
                    <a:lnTo>
                      <a:pt x="830" y="225"/>
                    </a:lnTo>
                    <a:lnTo>
                      <a:pt x="819" y="232"/>
                    </a:lnTo>
                    <a:lnTo>
                      <a:pt x="819" y="235"/>
                    </a:lnTo>
                    <a:lnTo>
                      <a:pt x="819" y="232"/>
                    </a:lnTo>
                    <a:lnTo>
                      <a:pt x="805" y="235"/>
                    </a:lnTo>
                    <a:lnTo>
                      <a:pt x="790" y="239"/>
                    </a:lnTo>
                    <a:lnTo>
                      <a:pt x="776" y="243"/>
                    </a:lnTo>
                    <a:lnTo>
                      <a:pt x="761" y="243"/>
                    </a:lnTo>
                    <a:lnTo>
                      <a:pt x="743" y="243"/>
                    </a:lnTo>
                    <a:lnTo>
                      <a:pt x="725" y="243"/>
                    </a:lnTo>
                    <a:lnTo>
                      <a:pt x="711" y="243"/>
                    </a:lnTo>
                    <a:lnTo>
                      <a:pt x="693" y="243"/>
                    </a:lnTo>
                    <a:lnTo>
                      <a:pt x="674" y="239"/>
                    </a:lnTo>
                    <a:lnTo>
                      <a:pt x="660" y="235"/>
                    </a:lnTo>
                    <a:lnTo>
                      <a:pt x="645" y="232"/>
                    </a:lnTo>
                    <a:lnTo>
                      <a:pt x="631" y="228"/>
                    </a:lnTo>
                    <a:lnTo>
                      <a:pt x="616" y="225"/>
                    </a:lnTo>
                    <a:lnTo>
                      <a:pt x="616" y="228"/>
                    </a:lnTo>
                    <a:lnTo>
                      <a:pt x="620" y="225"/>
                    </a:lnTo>
                    <a:lnTo>
                      <a:pt x="609" y="221"/>
                    </a:lnTo>
                    <a:lnTo>
                      <a:pt x="602" y="217"/>
                    </a:lnTo>
                    <a:lnTo>
                      <a:pt x="598" y="221"/>
                    </a:lnTo>
                    <a:lnTo>
                      <a:pt x="602" y="217"/>
                    </a:lnTo>
                    <a:lnTo>
                      <a:pt x="595" y="210"/>
                    </a:lnTo>
                    <a:lnTo>
                      <a:pt x="595" y="210"/>
                    </a:lnTo>
                    <a:lnTo>
                      <a:pt x="595" y="210"/>
                    </a:lnTo>
                    <a:lnTo>
                      <a:pt x="587" y="206"/>
                    </a:lnTo>
                    <a:lnTo>
                      <a:pt x="580" y="203"/>
                    </a:lnTo>
                    <a:lnTo>
                      <a:pt x="577" y="206"/>
                    </a:lnTo>
                    <a:lnTo>
                      <a:pt x="580" y="203"/>
                    </a:lnTo>
                    <a:lnTo>
                      <a:pt x="577" y="199"/>
                    </a:lnTo>
                    <a:lnTo>
                      <a:pt x="573" y="196"/>
                    </a:lnTo>
                    <a:lnTo>
                      <a:pt x="569" y="199"/>
                    </a:lnTo>
                    <a:lnTo>
                      <a:pt x="577" y="199"/>
                    </a:lnTo>
                    <a:lnTo>
                      <a:pt x="577" y="192"/>
                    </a:lnTo>
                    <a:lnTo>
                      <a:pt x="577" y="188"/>
                    </a:lnTo>
                    <a:lnTo>
                      <a:pt x="577" y="185"/>
                    </a:lnTo>
                    <a:lnTo>
                      <a:pt x="577" y="177"/>
                    </a:lnTo>
                    <a:lnTo>
                      <a:pt x="569" y="177"/>
                    </a:lnTo>
                    <a:lnTo>
                      <a:pt x="573" y="181"/>
                    </a:lnTo>
                    <a:lnTo>
                      <a:pt x="577" y="177"/>
                    </a:lnTo>
                    <a:lnTo>
                      <a:pt x="580" y="177"/>
                    </a:lnTo>
                    <a:lnTo>
                      <a:pt x="580" y="177"/>
                    </a:lnTo>
                    <a:lnTo>
                      <a:pt x="584" y="170"/>
                    </a:lnTo>
                    <a:lnTo>
                      <a:pt x="591" y="156"/>
                    </a:lnTo>
                    <a:lnTo>
                      <a:pt x="584" y="152"/>
                    </a:lnTo>
                    <a:lnTo>
                      <a:pt x="587" y="156"/>
                    </a:lnTo>
                    <a:lnTo>
                      <a:pt x="602" y="141"/>
                    </a:lnTo>
                    <a:lnTo>
                      <a:pt x="609" y="134"/>
                    </a:lnTo>
                    <a:lnTo>
                      <a:pt x="613" y="134"/>
                    </a:lnTo>
                    <a:lnTo>
                      <a:pt x="613" y="134"/>
                    </a:lnTo>
                    <a:lnTo>
                      <a:pt x="620" y="123"/>
                    </a:lnTo>
                    <a:lnTo>
                      <a:pt x="624" y="112"/>
                    </a:lnTo>
                    <a:lnTo>
                      <a:pt x="627" y="101"/>
                    </a:lnTo>
                    <a:lnTo>
                      <a:pt x="627" y="101"/>
                    </a:lnTo>
                    <a:lnTo>
                      <a:pt x="627" y="98"/>
                    </a:lnTo>
                    <a:lnTo>
                      <a:pt x="627" y="87"/>
                    </a:lnTo>
                    <a:lnTo>
                      <a:pt x="627" y="76"/>
                    </a:lnTo>
                    <a:lnTo>
                      <a:pt x="627" y="65"/>
                    </a:lnTo>
                    <a:lnTo>
                      <a:pt x="627" y="65"/>
                    </a:lnTo>
                    <a:lnTo>
                      <a:pt x="627" y="65"/>
                    </a:lnTo>
                    <a:lnTo>
                      <a:pt x="624" y="54"/>
                    </a:lnTo>
                    <a:lnTo>
                      <a:pt x="620" y="43"/>
                    </a:lnTo>
                    <a:lnTo>
                      <a:pt x="613" y="32"/>
                    </a:lnTo>
                    <a:lnTo>
                      <a:pt x="613" y="32"/>
                    </a:lnTo>
                    <a:lnTo>
                      <a:pt x="609" y="29"/>
                    </a:lnTo>
                    <a:lnTo>
                      <a:pt x="606" y="25"/>
                    </a:lnTo>
                    <a:lnTo>
                      <a:pt x="606" y="25"/>
                    </a:lnTo>
                    <a:lnTo>
                      <a:pt x="606" y="25"/>
                    </a:lnTo>
                    <a:lnTo>
                      <a:pt x="598" y="21"/>
                    </a:lnTo>
                    <a:lnTo>
                      <a:pt x="595" y="25"/>
                    </a:lnTo>
                    <a:lnTo>
                      <a:pt x="598" y="21"/>
                    </a:lnTo>
                    <a:lnTo>
                      <a:pt x="595" y="18"/>
                    </a:lnTo>
                    <a:lnTo>
                      <a:pt x="595" y="18"/>
                    </a:lnTo>
                    <a:lnTo>
                      <a:pt x="595" y="18"/>
                    </a:lnTo>
                    <a:lnTo>
                      <a:pt x="587" y="14"/>
                    </a:lnTo>
                    <a:lnTo>
                      <a:pt x="584" y="18"/>
                    </a:lnTo>
                    <a:lnTo>
                      <a:pt x="587" y="14"/>
                    </a:lnTo>
                    <a:lnTo>
                      <a:pt x="584" y="11"/>
                    </a:lnTo>
                    <a:lnTo>
                      <a:pt x="584" y="11"/>
                    </a:lnTo>
                    <a:lnTo>
                      <a:pt x="584" y="11"/>
                    </a:lnTo>
                    <a:lnTo>
                      <a:pt x="577" y="7"/>
                    </a:lnTo>
                    <a:lnTo>
                      <a:pt x="577" y="7"/>
                    </a:lnTo>
                    <a:lnTo>
                      <a:pt x="573" y="7"/>
                    </a:lnTo>
                    <a:lnTo>
                      <a:pt x="566" y="7"/>
                    </a:lnTo>
                    <a:lnTo>
                      <a:pt x="566" y="11"/>
                    </a:lnTo>
                    <a:lnTo>
                      <a:pt x="569" y="7"/>
                    </a:lnTo>
                    <a:lnTo>
                      <a:pt x="562" y="3"/>
                    </a:lnTo>
                    <a:lnTo>
                      <a:pt x="562" y="3"/>
                    </a:lnTo>
                    <a:lnTo>
                      <a:pt x="558" y="3"/>
                    </a:lnTo>
                    <a:lnTo>
                      <a:pt x="548" y="3"/>
                    </a:lnTo>
                    <a:lnTo>
                      <a:pt x="548" y="7"/>
                    </a:lnTo>
                    <a:lnTo>
                      <a:pt x="551" y="3"/>
                    </a:lnTo>
                    <a:lnTo>
                      <a:pt x="544" y="0"/>
                    </a:lnTo>
                    <a:lnTo>
                      <a:pt x="544" y="0"/>
                    </a:lnTo>
                    <a:lnTo>
                      <a:pt x="540" y="0"/>
                    </a:lnTo>
                    <a:lnTo>
                      <a:pt x="533" y="0"/>
                    </a:lnTo>
                    <a:lnTo>
                      <a:pt x="522" y="0"/>
                    </a:lnTo>
                    <a:lnTo>
                      <a:pt x="515" y="0"/>
                    </a:lnTo>
                    <a:lnTo>
                      <a:pt x="515" y="0"/>
                    </a:lnTo>
                    <a:lnTo>
                      <a:pt x="515" y="0"/>
                    </a:lnTo>
                    <a:lnTo>
                      <a:pt x="504" y="3"/>
                    </a:lnTo>
                    <a:lnTo>
                      <a:pt x="504" y="7"/>
                    </a:lnTo>
                    <a:lnTo>
                      <a:pt x="504" y="3"/>
                    </a:lnTo>
                    <a:lnTo>
                      <a:pt x="497" y="3"/>
                    </a:lnTo>
                    <a:lnTo>
                      <a:pt x="489" y="3"/>
                    </a:lnTo>
                    <a:lnTo>
                      <a:pt x="489" y="3"/>
                    </a:lnTo>
                    <a:lnTo>
                      <a:pt x="486" y="3"/>
                    </a:lnTo>
                    <a:lnTo>
                      <a:pt x="482" y="7"/>
                    </a:lnTo>
                    <a:lnTo>
                      <a:pt x="486" y="11"/>
                    </a:lnTo>
                    <a:lnTo>
                      <a:pt x="486" y="7"/>
                    </a:lnTo>
                    <a:lnTo>
                      <a:pt x="479" y="11"/>
                    </a:lnTo>
                    <a:lnTo>
                      <a:pt x="479" y="11"/>
                    </a:lnTo>
                    <a:lnTo>
                      <a:pt x="475" y="11"/>
                    </a:lnTo>
                    <a:lnTo>
                      <a:pt x="471" y="14"/>
                    </a:lnTo>
                    <a:lnTo>
                      <a:pt x="475" y="18"/>
                    </a:lnTo>
                    <a:lnTo>
                      <a:pt x="475" y="14"/>
                    </a:lnTo>
                    <a:lnTo>
                      <a:pt x="468" y="18"/>
                    </a:lnTo>
                    <a:lnTo>
                      <a:pt x="468" y="18"/>
                    </a:lnTo>
                    <a:lnTo>
                      <a:pt x="464" y="18"/>
                    </a:lnTo>
                    <a:lnTo>
                      <a:pt x="460" y="21"/>
                    </a:lnTo>
                    <a:lnTo>
                      <a:pt x="457" y="25"/>
                    </a:lnTo>
                    <a:lnTo>
                      <a:pt x="453" y="29"/>
                    </a:lnTo>
                    <a:lnTo>
                      <a:pt x="453" y="32"/>
                    </a:lnTo>
                    <a:lnTo>
                      <a:pt x="453" y="32"/>
                    </a:lnTo>
                    <a:lnTo>
                      <a:pt x="450" y="40"/>
                    </a:lnTo>
                    <a:lnTo>
                      <a:pt x="446" y="50"/>
                    </a:lnTo>
                    <a:lnTo>
                      <a:pt x="442" y="61"/>
                    </a:lnTo>
                    <a:lnTo>
                      <a:pt x="442" y="61"/>
                    </a:lnTo>
                    <a:lnTo>
                      <a:pt x="442" y="61"/>
                    </a:lnTo>
                    <a:lnTo>
                      <a:pt x="442" y="72"/>
                    </a:lnTo>
                    <a:lnTo>
                      <a:pt x="442" y="83"/>
                    </a:lnTo>
                    <a:lnTo>
                      <a:pt x="442" y="98"/>
                    </a:lnTo>
                    <a:lnTo>
                      <a:pt x="442" y="101"/>
                    </a:lnTo>
                    <a:lnTo>
                      <a:pt x="442" y="101"/>
                    </a:lnTo>
                    <a:lnTo>
                      <a:pt x="446" y="112"/>
                    </a:lnTo>
                    <a:lnTo>
                      <a:pt x="450" y="127"/>
                    </a:lnTo>
                    <a:lnTo>
                      <a:pt x="457" y="138"/>
                    </a:lnTo>
                    <a:lnTo>
                      <a:pt x="460" y="148"/>
                    </a:lnTo>
                    <a:lnTo>
                      <a:pt x="460" y="148"/>
                    </a:lnTo>
                    <a:lnTo>
                      <a:pt x="464" y="152"/>
                    </a:lnTo>
                    <a:lnTo>
                      <a:pt x="475" y="159"/>
                    </a:lnTo>
                    <a:lnTo>
                      <a:pt x="475" y="152"/>
                    </a:lnTo>
                    <a:lnTo>
                      <a:pt x="471" y="156"/>
                    </a:lnTo>
                    <a:lnTo>
                      <a:pt x="475" y="163"/>
                    </a:lnTo>
                    <a:lnTo>
                      <a:pt x="475" y="163"/>
                    </a:lnTo>
                    <a:lnTo>
                      <a:pt x="475" y="163"/>
                    </a:lnTo>
                    <a:lnTo>
                      <a:pt x="482" y="170"/>
                    </a:lnTo>
                    <a:lnTo>
                      <a:pt x="486" y="167"/>
                    </a:lnTo>
                    <a:lnTo>
                      <a:pt x="482" y="167"/>
                    </a:lnTo>
                    <a:lnTo>
                      <a:pt x="482" y="174"/>
                    </a:lnTo>
                    <a:lnTo>
                      <a:pt x="482" y="177"/>
                    </a:lnTo>
                    <a:lnTo>
                      <a:pt x="482" y="177"/>
                    </a:lnTo>
                    <a:lnTo>
                      <a:pt x="486" y="185"/>
                    </a:lnTo>
                    <a:lnTo>
                      <a:pt x="489" y="181"/>
                    </a:lnTo>
                    <a:lnTo>
                      <a:pt x="486" y="181"/>
                    </a:lnTo>
                    <a:lnTo>
                      <a:pt x="486" y="188"/>
                    </a:lnTo>
                    <a:lnTo>
                      <a:pt x="486" y="196"/>
                    </a:lnTo>
                    <a:lnTo>
                      <a:pt x="489" y="196"/>
                    </a:lnTo>
                    <a:lnTo>
                      <a:pt x="486" y="196"/>
                    </a:lnTo>
                    <a:lnTo>
                      <a:pt x="482" y="203"/>
                    </a:lnTo>
                    <a:lnTo>
                      <a:pt x="479" y="210"/>
                    </a:lnTo>
                    <a:lnTo>
                      <a:pt x="482" y="210"/>
                    </a:lnTo>
                    <a:lnTo>
                      <a:pt x="479" y="206"/>
                    </a:lnTo>
                    <a:lnTo>
                      <a:pt x="475" y="210"/>
                    </a:lnTo>
                    <a:lnTo>
                      <a:pt x="468" y="217"/>
                    </a:lnTo>
                    <a:lnTo>
                      <a:pt x="471" y="221"/>
                    </a:lnTo>
                    <a:lnTo>
                      <a:pt x="471" y="217"/>
                    </a:lnTo>
                    <a:lnTo>
                      <a:pt x="460" y="221"/>
                    </a:lnTo>
                    <a:lnTo>
                      <a:pt x="460" y="225"/>
                    </a:lnTo>
                    <a:lnTo>
                      <a:pt x="460" y="221"/>
                    </a:lnTo>
                    <a:lnTo>
                      <a:pt x="453" y="221"/>
                    </a:lnTo>
                    <a:lnTo>
                      <a:pt x="442" y="221"/>
                    </a:lnTo>
                    <a:lnTo>
                      <a:pt x="431" y="221"/>
                    </a:lnTo>
                    <a:lnTo>
                      <a:pt x="417" y="217"/>
                    </a:lnTo>
                    <a:lnTo>
                      <a:pt x="417" y="221"/>
                    </a:lnTo>
                    <a:lnTo>
                      <a:pt x="421" y="217"/>
                    </a:lnTo>
                    <a:lnTo>
                      <a:pt x="406" y="210"/>
                    </a:lnTo>
                    <a:lnTo>
                      <a:pt x="406" y="210"/>
                    </a:lnTo>
                    <a:lnTo>
                      <a:pt x="402" y="210"/>
                    </a:lnTo>
                    <a:lnTo>
                      <a:pt x="392" y="210"/>
                    </a:lnTo>
                    <a:lnTo>
                      <a:pt x="392" y="214"/>
                    </a:lnTo>
                    <a:lnTo>
                      <a:pt x="395" y="210"/>
                    </a:lnTo>
                    <a:lnTo>
                      <a:pt x="388" y="206"/>
                    </a:lnTo>
                    <a:lnTo>
                      <a:pt x="377" y="203"/>
                    </a:lnTo>
                    <a:lnTo>
                      <a:pt x="377" y="203"/>
                    </a:lnTo>
                    <a:lnTo>
                      <a:pt x="373" y="203"/>
                    </a:lnTo>
                    <a:lnTo>
                      <a:pt x="363" y="203"/>
                    </a:lnTo>
                    <a:lnTo>
                      <a:pt x="341" y="203"/>
                    </a:lnTo>
                    <a:lnTo>
                      <a:pt x="315" y="203"/>
                    </a:lnTo>
                    <a:lnTo>
                      <a:pt x="290" y="206"/>
                    </a:lnTo>
                    <a:lnTo>
                      <a:pt x="265" y="210"/>
                    </a:lnTo>
                    <a:lnTo>
                      <a:pt x="239" y="214"/>
                    </a:lnTo>
                    <a:lnTo>
                      <a:pt x="236" y="214"/>
                    </a:lnTo>
                    <a:lnTo>
                      <a:pt x="239" y="214"/>
                    </a:lnTo>
                    <a:lnTo>
                      <a:pt x="214" y="221"/>
                    </a:lnTo>
                    <a:lnTo>
                      <a:pt x="210" y="221"/>
                    </a:lnTo>
                    <a:lnTo>
                      <a:pt x="210" y="225"/>
                    </a:lnTo>
                    <a:lnTo>
                      <a:pt x="210" y="228"/>
                    </a:lnTo>
                    <a:lnTo>
                      <a:pt x="210" y="243"/>
                    </a:lnTo>
                    <a:lnTo>
                      <a:pt x="210" y="254"/>
                    </a:lnTo>
                    <a:lnTo>
                      <a:pt x="210" y="272"/>
                    </a:lnTo>
                    <a:lnTo>
                      <a:pt x="214" y="308"/>
                    </a:lnTo>
                    <a:lnTo>
                      <a:pt x="218" y="352"/>
                    </a:lnTo>
                    <a:lnTo>
                      <a:pt x="221" y="370"/>
                    </a:lnTo>
                    <a:lnTo>
                      <a:pt x="221" y="391"/>
                    </a:lnTo>
                    <a:lnTo>
                      <a:pt x="221" y="413"/>
                    </a:lnTo>
                    <a:lnTo>
                      <a:pt x="221" y="413"/>
                    </a:lnTo>
                    <a:lnTo>
                      <a:pt x="221" y="417"/>
                    </a:lnTo>
                    <a:lnTo>
                      <a:pt x="225" y="431"/>
                    </a:lnTo>
                    <a:lnTo>
                      <a:pt x="228" y="428"/>
                    </a:lnTo>
                    <a:lnTo>
                      <a:pt x="225" y="428"/>
                    </a:lnTo>
                    <a:lnTo>
                      <a:pt x="221" y="446"/>
                    </a:lnTo>
                    <a:lnTo>
                      <a:pt x="221" y="460"/>
                    </a:lnTo>
                    <a:lnTo>
                      <a:pt x="225" y="460"/>
                    </a:lnTo>
                    <a:lnTo>
                      <a:pt x="221" y="460"/>
                    </a:lnTo>
                    <a:lnTo>
                      <a:pt x="218" y="468"/>
                    </a:lnTo>
                    <a:lnTo>
                      <a:pt x="218" y="468"/>
                    </a:lnTo>
                    <a:lnTo>
                      <a:pt x="218" y="468"/>
                    </a:lnTo>
                    <a:lnTo>
                      <a:pt x="218" y="471"/>
                    </a:lnTo>
                    <a:lnTo>
                      <a:pt x="221" y="471"/>
                    </a:lnTo>
                    <a:lnTo>
                      <a:pt x="218" y="468"/>
                    </a:lnTo>
                    <a:lnTo>
                      <a:pt x="214" y="471"/>
                    </a:lnTo>
                    <a:lnTo>
                      <a:pt x="210" y="475"/>
                    </a:lnTo>
                    <a:lnTo>
                      <a:pt x="207" y="478"/>
                    </a:lnTo>
                    <a:close/>
                    <a:moveTo>
                      <a:pt x="218" y="482"/>
                    </a:moveTo>
                    <a:lnTo>
                      <a:pt x="221" y="478"/>
                    </a:lnTo>
                    <a:lnTo>
                      <a:pt x="225" y="475"/>
                    </a:lnTo>
                    <a:lnTo>
                      <a:pt x="228" y="475"/>
                    </a:lnTo>
                    <a:lnTo>
                      <a:pt x="228" y="471"/>
                    </a:lnTo>
                    <a:lnTo>
                      <a:pt x="228" y="468"/>
                    </a:lnTo>
                    <a:lnTo>
                      <a:pt x="221" y="468"/>
                    </a:lnTo>
                    <a:lnTo>
                      <a:pt x="228" y="471"/>
                    </a:lnTo>
                    <a:lnTo>
                      <a:pt x="232" y="464"/>
                    </a:lnTo>
                    <a:lnTo>
                      <a:pt x="232" y="464"/>
                    </a:lnTo>
                    <a:lnTo>
                      <a:pt x="232" y="460"/>
                    </a:lnTo>
                    <a:lnTo>
                      <a:pt x="232" y="446"/>
                    </a:lnTo>
                    <a:lnTo>
                      <a:pt x="236" y="428"/>
                    </a:lnTo>
                    <a:lnTo>
                      <a:pt x="236" y="428"/>
                    </a:lnTo>
                    <a:lnTo>
                      <a:pt x="236" y="428"/>
                    </a:lnTo>
                    <a:lnTo>
                      <a:pt x="232" y="413"/>
                    </a:lnTo>
                    <a:lnTo>
                      <a:pt x="225" y="413"/>
                    </a:lnTo>
                    <a:lnTo>
                      <a:pt x="232" y="413"/>
                    </a:lnTo>
                    <a:lnTo>
                      <a:pt x="232" y="391"/>
                    </a:lnTo>
                    <a:lnTo>
                      <a:pt x="232" y="370"/>
                    </a:lnTo>
                    <a:lnTo>
                      <a:pt x="228" y="352"/>
                    </a:lnTo>
                    <a:lnTo>
                      <a:pt x="225" y="308"/>
                    </a:lnTo>
                    <a:lnTo>
                      <a:pt x="221" y="272"/>
                    </a:lnTo>
                    <a:lnTo>
                      <a:pt x="221" y="254"/>
                    </a:lnTo>
                    <a:lnTo>
                      <a:pt x="221" y="243"/>
                    </a:lnTo>
                    <a:lnTo>
                      <a:pt x="221" y="228"/>
                    </a:lnTo>
                    <a:lnTo>
                      <a:pt x="221" y="225"/>
                    </a:lnTo>
                    <a:lnTo>
                      <a:pt x="214" y="225"/>
                    </a:lnTo>
                    <a:lnTo>
                      <a:pt x="218" y="232"/>
                    </a:lnTo>
                    <a:lnTo>
                      <a:pt x="243" y="225"/>
                    </a:lnTo>
                    <a:lnTo>
                      <a:pt x="239" y="217"/>
                    </a:lnTo>
                    <a:lnTo>
                      <a:pt x="239" y="225"/>
                    </a:lnTo>
                    <a:lnTo>
                      <a:pt x="265" y="221"/>
                    </a:lnTo>
                    <a:lnTo>
                      <a:pt x="290" y="217"/>
                    </a:lnTo>
                    <a:lnTo>
                      <a:pt x="315" y="214"/>
                    </a:lnTo>
                    <a:lnTo>
                      <a:pt x="341" y="214"/>
                    </a:lnTo>
                    <a:lnTo>
                      <a:pt x="363" y="214"/>
                    </a:lnTo>
                    <a:lnTo>
                      <a:pt x="373" y="214"/>
                    </a:lnTo>
                    <a:lnTo>
                      <a:pt x="373" y="206"/>
                    </a:lnTo>
                    <a:lnTo>
                      <a:pt x="373" y="214"/>
                    </a:lnTo>
                    <a:lnTo>
                      <a:pt x="384" y="217"/>
                    </a:lnTo>
                    <a:lnTo>
                      <a:pt x="392" y="221"/>
                    </a:lnTo>
                    <a:lnTo>
                      <a:pt x="392" y="221"/>
                    </a:lnTo>
                    <a:lnTo>
                      <a:pt x="392" y="221"/>
                    </a:lnTo>
                    <a:lnTo>
                      <a:pt x="402" y="221"/>
                    </a:lnTo>
                    <a:lnTo>
                      <a:pt x="402" y="214"/>
                    </a:lnTo>
                    <a:lnTo>
                      <a:pt x="402" y="221"/>
                    </a:lnTo>
                    <a:lnTo>
                      <a:pt x="417" y="228"/>
                    </a:lnTo>
                    <a:lnTo>
                      <a:pt x="413" y="225"/>
                    </a:lnTo>
                    <a:lnTo>
                      <a:pt x="417" y="228"/>
                    </a:lnTo>
                    <a:lnTo>
                      <a:pt x="431" y="232"/>
                    </a:lnTo>
                    <a:lnTo>
                      <a:pt x="442" y="232"/>
                    </a:lnTo>
                    <a:lnTo>
                      <a:pt x="453" y="232"/>
                    </a:lnTo>
                    <a:lnTo>
                      <a:pt x="460" y="232"/>
                    </a:lnTo>
                    <a:lnTo>
                      <a:pt x="464" y="232"/>
                    </a:lnTo>
                    <a:lnTo>
                      <a:pt x="464" y="232"/>
                    </a:lnTo>
                    <a:lnTo>
                      <a:pt x="475" y="228"/>
                    </a:lnTo>
                    <a:lnTo>
                      <a:pt x="475" y="228"/>
                    </a:lnTo>
                    <a:lnTo>
                      <a:pt x="475" y="225"/>
                    </a:lnTo>
                    <a:lnTo>
                      <a:pt x="482" y="217"/>
                    </a:lnTo>
                    <a:lnTo>
                      <a:pt x="486" y="214"/>
                    </a:lnTo>
                    <a:lnTo>
                      <a:pt x="489" y="214"/>
                    </a:lnTo>
                    <a:lnTo>
                      <a:pt x="489" y="214"/>
                    </a:lnTo>
                    <a:lnTo>
                      <a:pt x="493" y="206"/>
                    </a:lnTo>
                    <a:lnTo>
                      <a:pt x="497" y="199"/>
                    </a:lnTo>
                    <a:lnTo>
                      <a:pt x="497" y="199"/>
                    </a:lnTo>
                    <a:lnTo>
                      <a:pt x="497" y="196"/>
                    </a:lnTo>
                    <a:lnTo>
                      <a:pt x="497" y="188"/>
                    </a:lnTo>
                    <a:lnTo>
                      <a:pt x="497" y="181"/>
                    </a:lnTo>
                    <a:lnTo>
                      <a:pt x="497" y="181"/>
                    </a:lnTo>
                    <a:lnTo>
                      <a:pt x="497" y="181"/>
                    </a:lnTo>
                    <a:lnTo>
                      <a:pt x="493" y="174"/>
                    </a:lnTo>
                    <a:lnTo>
                      <a:pt x="486" y="174"/>
                    </a:lnTo>
                    <a:lnTo>
                      <a:pt x="493" y="174"/>
                    </a:lnTo>
                    <a:lnTo>
                      <a:pt x="493" y="167"/>
                    </a:lnTo>
                    <a:lnTo>
                      <a:pt x="493" y="167"/>
                    </a:lnTo>
                    <a:lnTo>
                      <a:pt x="489" y="163"/>
                    </a:lnTo>
                    <a:lnTo>
                      <a:pt x="482" y="156"/>
                    </a:lnTo>
                    <a:lnTo>
                      <a:pt x="479" y="159"/>
                    </a:lnTo>
                    <a:lnTo>
                      <a:pt x="486" y="159"/>
                    </a:lnTo>
                    <a:lnTo>
                      <a:pt x="482" y="152"/>
                    </a:lnTo>
                    <a:lnTo>
                      <a:pt x="479" y="148"/>
                    </a:lnTo>
                    <a:lnTo>
                      <a:pt x="479" y="148"/>
                    </a:lnTo>
                    <a:lnTo>
                      <a:pt x="468" y="141"/>
                    </a:lnTo>
                    <a:lnTo>
                      <a:pt x="464" y="145"/>
                    </a:lnTo>
                    <a:lnTo>
                      <a:pt x="471" y="145"/>
                    </a:lnTo>
                    <a:lnTo>
                      <a:pt x="468" y="134"/>
                    </a:lnTo>
                    <a:lnTo>
                      <a:pt x="460" y="123"/>
                    </a:lnTo>
                    <a:lnTo>
                      <a:pt x="457" y="109"/>
                    </a:lnTo>
                    <a:lnTo>
                      <a:pt x="453" y="98"/>
                    </a:lnTo>
                    <a:lnTo>
                      <a:pt x="446" y="98"/>
                    </a:lnTo>
                    <a:lnTo>
                      <a:pt x="453" y="98"/>
                    </a:lnTo>
                    <a:lnTo>
                      <a:pt x="453" y="83"/>
                    </a:lnTo>
                    <a:lnTo>
                      <a:pt x="453" y="72"/>
                    </a:lnTo>
                    <a:lnTo>
                      <a:pt x="453" y="61"/>
                    </a:lnTo>
                    <a:lnTo>
                      <a:pt x="446" y="61"/>
                    </a:lnTo>
                    <a:lnTo>
                      <a:pt x="453" y="65"/>
                    </a:lnTo>
                    <a:lnTo>
                      <a:pt x="457" y="54"/>
                    </a:lnTo>
                    <a:lnTo>
                      <a:pt x="460" y="43"/>
                    </a:lnTo>
                    <a:lnTo>
                      <a:pt x="464" y="36"/>
                    </a:lnTo>
                    <a:lnTo>
                      <a:pt x="457" y="32"/>
                    </a:lnTo>
                    <a:lnTo>
                      <a:pt x="460" y="36"/>
                    </a:lnTo>
                    <a:lnTo>
                      <a:pt x="464" y="32"/>
                    </a:lnTo>
                    <a:lnTo>
                      <a:pt x="468" y="29"/>
                    </a:lnTo>
                    <a:lnTo>
                      <a:pt x="471" y="25"/>
                    </a:lnTo>
                    <a:lnTo>
                      <a:pt x="468" y="21"/>
                    </a:lnTo>
                    <a:lnTo>
                      <a:pt x="471" y="29"/>
                    </a:lnTo>
                    <a:lnTo>
                      <a:pt x="479" y="25"/>
                    </a:lnTo>
                    <a:lnTo>
                      <a:pt x="479" y="25"/>
                    </a:lnTo>
                    <a:lnTo>
                      <a:pt x="479" y="21"/>
                    </a:lnTo>
                    <a:lnTo>
                      <a:pt x="482" y="18"/>
                    </a:lnTo>
                    <a:lnTo>
                      <a:pt x="479" y="14"/>
                    </a:lnTo>
                    <a:lnTo>
                      <a:pt x="482" y="21"/>
                    </a:lnTo>
                    <a:lnTo>
                      <a:pt x="489" y="18"/>
                    </a:lnTo>
                    <a:lnTo>
                      <a:pt x="489" y="18"/>
                    </a:lnTo>
                    <a:lnTo>
                      <a:pt x="489" y="14"/>
                    </a:lnTo>
                    <a:lnTo>
                      <a:pt x="493" y="11"/>
                    </a:lnTo>
                    <a:lnTo>
                      <a:pt x="489" y="7"/>
                    </a:lnTo>
                    <a:lnTo>
                      <a:pt x="489" y="14"/>
                    </a:lnTo>
                    <a:lnTo>
                      <a:pt x="497" y="14"/>
                    </a:lnTo>
                    <a:lnTo>
                      <a:pt x="504" y="14"/>
                    </a:lnTo>
                    <a:lnTo>
                      <a:pt x="508" y="14"/>
                    </a:lnTo>
                    <a:lnTo>
                      <a:pt x="508" y="14"/>
                    </a:lnTo>
                    <a:lnTo>
                      <a:pt x="518" y="11"/>
                    </a:lnTo>
                    <a:lnTo>
                      <a:pt x="515" y="3"/>
                    </a:lnTo>
                    <a:lnTo>
                      <a:pt x="515" y="11"/>
                    </a:lnTo>
                    <a:lnTo>
                      <a:pt x="522" y="11"/>
                    </a:lnTo>
                    <a:lnTo>
                      <a:pt x="533" y="11"/>
                    </a:lnTo>
                    <a:lnTo>
                      <a:pt x="540" y="11"/>
                    </a:lnTo>
                    <a:lnTo>
                      <a:pt x="540" y="3"/>
                    </a:lnTo>
                    <a:lnTo>
                      <a:pt x="540" y="11"/>
                    </a:lnTo>
                    <a:lnTo>
                      <a:pt x="548" y="14"/>
                    </a:lnTo>
                    <a:lnTo>
                      <a:pt x="548" y="14"/>
                    </a:lnTo>
                    <a:lnTo>
                      <a:pt x="548" y="14"/>
                    </a:lnTo>
                    <a:lnTo>
                      <a:pt x="558" y="14"/>
                    </a:lnTo>
                    <a:lnTo>
                      <a:pt x="558" y="7"/>
                    </a:lnTo>
                    <a:lnTo>
                      <a:pt x="558" y="14"/>
                    </a:lnTo>
                    <a:lnTo>
                      <a:pt x="566" y="18"/>
                    </a:lnTo>
                    <a:lnTo>
                      <a:pt x="566" y="18"/>
                    </a:lnTo>
                    <a:lnTo>
                      <a:pt x="566" y="18"/>
                    </a:lnTo>
                    <a:lnTo>
                      <a:pt x="573" y="18"/>
                    </a:lnTo>
                    <a:lnTo>
                      <a:pt x="573" y="11"/>
                    </a:lnTo>
                    <a:lnTo>
                      <a:pt x="573" y="18"/>
                    </a:lnTo>
                    <a:lnTo>
                      <a:pt x="580" y="21"/>
                    </a:lnTo>
                    <a:lnTo>
                      <a:pt x="580" y="14"/>
                    </a:lnTo>
                    <a:lnTo>
                      <a:pt x="577" y="18"/>
                    </a:lnTo>
                    <a:lnTo>
                      <a:pt x="580" y="21"/>
                    </a:lnTo>
                    <a:lnTo>
                      <a:pt x="584" y="25"/>
                    </a:lnTo>
                    <a:lnTo>
                      <a:pt x="584" y="25"/>
                    </a:lnTo>
                    <a:lnTo>
                      <a:pt x="591" y="29"/>
                    </a:lnTo>
                    <a:lnTo>
                      <a:pt x="591" y="21"/>
                    </a:lnTo>
                    <a:lnTo>
                      <a:pt x="587" y="25"/>
                    </a:lnTo>
                    <a:lnTo>
                      <a:pt x="591" y="29"/>
                    </a:lnTo>
                    <a:lnTo>
                      <a:pt x="595" y="32"/>
                    </a:lnTo>
                    <a:lnTo>
                      <a:pt x="595" y="32"/>
                    </a:lnTo>
                    <a:lnTo>
                      <a:pt x="602" y="36"/>
                    </a:lnTo>
                    <a:lnTo>
                      <a:pt x="602" y="29"/>
                    </a:lnTo>
                    <a:lnTo>
                      <a:pt x="598" y="32"/>
                    </a:lnTo>
                    <a:lnTo>
                      <a:pt x="602" y="36"/>
                    </a:lnTo>
                    <a:lnTo>
                      <a:pt x="606" y="32"/>
                    </a:lnTo>
                    <a:lnTo>
                      <a:pt x="602" y="36"/>
                    </a:lnTo>
                    <a:lnTo>
                      <a:pt x="609" y="47"/>
                    </a:lnTo>
                    <a:lnTo>
                      <a:pt x="613" y="58"/>
                    </a:lnTo>
                    <a:lnTo>
                      <a:pt x="616" y="69"/>
                    </a:lnTo>
                    <a:lnTo>
                      <a:pt x="620" y="65"/>
                    </a:lnTo>
                    <a:lnTo>
                      <a:pt x="616" y="65"/>
                    </a:lnTo>
                    <a:lnTo>
                      <a:pt x="616" y="76"/>
                    </a:lnTo>
                    <a:lnTo>
                      <a:pt x="616" y="87"/>
                    </a:lnTo>
                    <a:lnTo>
                      <a:pt x="616" y="98"/>
                    </a:lnTo>
                    <a:lnTo>
                      <a:pt x="620" y="98"/>
                    </a:lnTo>
                    <a:lnTo>
                      <a:pt x="616" y="98"/>
                    </a:lnTo>
                    <a:lnTo>
                      <a:pt x="613" y="109"/>
                    </a:lnTo>
                    <a:lnTo>
                      <a:pt x="609" y="119"/>
                    </a:lnTo>
                    <a:lnTo>
                      <a:pt x="602" y="130"/>
                    </a:lnTo>
                    <a:lnTo>
                      <a:pt x="606" y="130"/>
                    </a:lnTo>
                    <a:lnTo>
                      <a:pt x="602" y="127"/>
                    </a:lnTo>
                    <a:lnTo>
                      <a:pt x="595" y="134"/>
                    </a:lnTo>
                    <a:lnTo>
                      <a:pt x="580" y="148"/>
                    </a:lnTo>
                    <a:lnTo>
                      <a:pt x="580" y="152"/>
                    </a:lnTo>
                    <a:lnTo>
                      <a:pt x="580" y="152"/>
                    </a:lnTo>
                    <a:lnTo>
                      <a:pt x="573" y="167"/>
                    </a:lnTo>
                    <a:lnTo>
                      <a:pt x="569" y="174"/>
                    </a:lnTo>
                    <a:lnTo>
                      <a:pt x="573" y="174"/>
                    </a:lnTo>
                    <a:lnTo>
                      <a:pt x="569" y="170"/>
                    </a:lnTo>
                    <a:lnTo>
                      <a:pt x="566" y="174"/>
                    </a:lnTo>
                    <a:lnTo>
                      <a:pt x="566" y="177"/>
                    </a:lnTo>
                    <a:lnTo>
                      <a:pt x="566" y="177"/>
                    </a:lnTo>
                    <a:lnTo>
                      <a:pt x="566" y="185"/>
                    </a:lnTo>
                    <a:lnTo>
                      <a:pt x="566" y="188"/>
                    </a:lnTo>
                    <a:lnTo>
                      <a:pt x="566" y="192"/>
                    </a:lnTo>
                    <a:lnTo>
                      <a:pt x="566" y="199"/>
                    </a:lnTo>
                    <a:lnTo>
                      <a:pt x="566" y="203"/>
                    </a:lnTo>
                    <a:lnTo>
                      <a:pt x="566" y="203"/>
                    </a:lnTo>
                    <a:lnTo>
                      <a:pt x="569" y="206"/>
                    </a:lnTo>
                    <a:lnTo>
                      <a:pt x="573" y="210"/>
                    </a:lnTo>
                    <a:lnTo>
                      <a:pt x="577" y="214"/>
                    </a:lnTo>
                    <a:lnTo>
                      <a:pt x="577" y="214"/>
                    </a:lnTo>
                    <a:lnTo>
                      <a:pt x="584" y="217"/>
                    </a:lnTo>
                    <a:lnTo>
                      <a:pt x="591" y="221"/>
                    </a:lnTo>
                    <a:lnTo>
                      <a:pt x="591" y="214"/>
                    </a:lnTo>
                    <a:lnTo>
                      <a:pt x="587" y="217"/>
                    </a:lnTo>
                    <a:lnTo>
                      <a:pt x="595" y="225"/>
                    </a:lnTo>
                    <a:lnTo>
                      <a:pt x="598" y="228"/>
                    </a:lnTo>
                    <a:lnTo>
                      <a:pt x="598" y="228"/>
                    </a:lnTo>
                    <a:lnTo>
                      <a:pt x="606" y="232"/>
                    </a:lnTo>
                    <a:lnTo>
                      <a:pt x="616" y="235"/>
                    </a:lnTo>
                    <a:lnTo>
                      <a:pt x="609" y="232"/>
                    </a:lnTo>
                    <a:lnTo>
                      <a:pt x="616" y="235"/>
                    </a:lnTo>
                    <a:lnTo>
                      <a:pt x="631" y="239"/>
                    </a:lnTo>
                    <a:lnTo>
                      <a:pt x="645" y="243"/>
                    </a:lnTo>
                    <a:lnTo>
                      <a:pt x="660" y="246"/>
                    </a:lnTo>
                    <a:lnTo>
                      <a:pt x="674" y="250"/>
                    </a:lnTo>
                    <a:lnTo>
                      <a:pt x="693" y="254"/>
                    </a:lnTo>
                    <a:lnTo>
                      <a:pt x="711" y="254"/>
                    </a:lnTo>
                    <a:lnTo>
                      <a:pt x="725" y="254"/>
                    </a:lnTo>
                    <a:lnTo>
                      <a:pt x="743" y="254"/>
                    </a:lnTo>
                    <a:lnTo>
                      <a:pt x="761" y="254"/>
                    </a:lnTo>
                    <a:lnTo>
                      <a:pt x="776" y="254"/>
                    </a:lnTo>
                    <a:lnTo>
                      <a:pt x="790" y="250"/>
                    </a:lnTo>
                    <a:lnTo>
                      <a:pt x="805" y="246"/>
                    </a:lnTo>
                    <a:lnTo>
                      <a:pt x="819" y="243"/>
                    </a:lnTo>
                    <a:lnTo>
                      <a:pt x="823" y="239"/>
                    </a:lnTo>
                    <a:lnTo>
                      <a:pt x="823" y="243"/>
                    </a:lnTo>
                    <a:lnTo>
                      <a:pt x="834" y="235"/>
                    </a:lnTo>
                    <a:lnTo>
                      <a:pt x="845" y="232"/>
                    </a:lnTo>
                    <a:lnTo>
                      <a:pt x="841" y="225"/>
                    </a:lnTo>
                    <a:lnTo>
                      <a:pt x="838" y="225"/>
                    </a:lnTo>
                    <a:lnTo>
                      <a:pt x="838" y="254"/>
                    </a:lnTo>
                    <a:lnTo>
                      <a:pt x="838" y="290"/>
                    </a:lnTo>
                    <a:lnTo>
                      <a:pt x="838" y="333"/>
                    </a:lnTo>
                    <a:lnTo>
                      <a:pt x="838" y="373"/>
                    </a:lnTo>
                    <a:lnTo>
                      <a:pt x="838" y="413"/>
                    </a:lnTo>
                    <a:lnTo>
                      <a:pt x="838" y="453"/>
                    </a:lnTo>
                    <a:lnTo>
                      <a:pt x="838" y="478"/>
                    </a:lnTo>
                    <a:lnTo>
                      <a:pt x="838" y="497"/>
                    </a:lnTo>
                    <a:lnTo>
                      <a:pt x="838" y="504"/>
                    </a:lnTo>
                    <a:lnTo>
                      <a:pt x="838" y="508"/>
                    </a:lnTo>
                    <a:lnTo>
                      <a:pt x="838" y="508"/>
                    </a:lnTo>
                    <a:lnTo>
                      <a:pt x="841" y="511"/>
                    </a:lnTo>
                    <a:lnTo>
                      <a:pt x="845" y="508"/>
                    </a:lnTo>
                    <a:lnTo>
                      <a:pt x="841" y="511"/>
                    </a:lnTo>
                    <a:lnTo>
                      <a:pt x="845" y="518"/>
                    </a:lnTo>
                    <a:lnTo>
                      <a:pt x="845" y="518"/>
                    </a:lnTo>
                    <a:lnTo>
                      <a:pt x="845" y="518"/>
                    </a:lnTo>
                    <a:lnTo>
                      <a:pt x="848" y="522"/>
                    </a:lnTo>
                    <a:lnTo>
                      <a:pt x="852" y="526"/>
                    </a:lnTo>
                    <a:lnTo>
                      <a:pt x="852" y="526"/>
                    </a:lnTo>
                    <a:lnTo>
                      <a:pt x="859" y="529"/>
                    </a:lnTo>
                    <a:lnTo>
                      <a:pt x="859" y="522"/>
                    </a:lnTo>
                    <a:lnTo>
                      <a:pt x="856" y="526"/>
                    </a:lnTo>
                    <a:lnTo>
                      <a:pt x="863" y="533"/>
                    </a:lnTo>
                    <a:lnTo>
                      <a:pt x="867" y="537"/>
                    </a:lnTo>
                    <a:lnTo>
                      <a:pt x="867" y="537"/>
                    </a:lnTo>
                    <a:lnTo>
                      <a:pt x="874" y="540"/>
                    </a:lnTo>
                    <a:lnTo>
                      <a:pt x="874" y="540"/>
                    </a:lnTo>
                    <a:lnTo>
                      <a:pt x="874" y="540"/>
                    </a:lnTo>
                    <a:lnTo>
                      <a:pt x="881" y="540"/>
                    </a:lnTo>
                    <a:lnTo>
                      <a:pt x="881" y="533"/>
                    </a:lnTo>
                    <a:lnTo>
                      <a:pt x="881" y="540"/>
                    </a:lnTo>
                    <a:lnTo>
                      <a:pt x="888" y="544"/>
                    </a:lnTo>
                    <a:lnTo>
                      <a:pt x="888" y="544"/>
                    </a:lnTo>
                    <a:lnTo>
                      <a:pt x="888" y="544"/>
                    </a:lnTo>
                    <a:lnTo>
                      <a:pt x="896" y="544"/>
                    </a:lnTo>
                    <a:lnTo>
                      <a:pt x="906" y="544"/>
                    </a:lnTo>
                    <a:lnTo>
                      <a:pt x="914" y="544"/>
                    </a:lnTo>
                    <a:lnTo>
                      <a:pt x="917" y="544"/>
                    </a:lnTo>
                    <a:lnTo>
                      <a:pt x="917" y="544"/>
                    </a:lnTo>
                    <a:lnTo>
                      <a:pt x="925" y="540"/>
                    </a:lnTo>
                    <a:lnTo>
                      <a:pt x="932" y="537"/>
                    </a:lnTo>
                    <a:lnTo>
                      <a:pt x="932" y="537"/>
                    </a:lnTo>
                    <a:lnTo>
                      <a:pt x="932" y="533"/>
                    </a:lnTo>
                    <a:lnTo>
                      <a:pt x="939" y="526"/>
                    </a:lnTo>
                    <a:lnTo>
                      <a:pt x="946" y="518"/>
                    </a:lnTo>
                    <a:lnTo>
                      <a:pt x="950" y="518"/>
                    </a:lnTo>
                    <a:lnTo>
                      <a:pt x="950" y="518"/>
                    </a:lnTo>
                    <a:lnTo>
                      <a:pt x="954" y="511"/>
                    </a:lnTo>
                    <a:lnTo>
                      <a:pt x="946" y="508"/>
                    </a:lnTo>
                    <a:lnTo>
                      <a:pt x="950" y="511"/>
                    </a:lnTo>
                    <a:lnTo>
                      <a:pt x="954" y="508"/>
                    </a:lnTo>
                    <a:lnTo>
                      <a:pt x="957" y="504"/>
                    </a:lnTo>
                    <a:lnTo>
                      <a:pt x="954" y="500"/>
                    </a:lnTo>
                    <a:lnTo>
                      <a:pt x="954" y="508"/>
                    </a:lnTo>
                    <a:lnTo>
                      <a:pt x="957" y="508"/>
                    </a:lnTo>
                    <a:lnTo>
                      <a:pt x="961" y="508"/>
                    </a:lnTo>
                    <a:lnTo>
                      <a:pt x="961" y="508"/>
                    </a:lnTo>
                    <a:lnTo>
                      <a:pt x="972" y="504"/>
                    </a:lnTo>
                    <a:lnTo>
                      <a:pt x="983" y="500"/>
                    </a:lnTo>
                    <a:lnTo>
                      <a:pt x="979" y="493"/>
                    </a:lnTo>
                    <a:lnTo>
                      <a:pt x="979" y="500"/>
                    </a:lnTo>
                    <a:lnTo>
                      <a:pt x="990" y="500"/>
                    </a:lnTo>
                    <a:lnTo>
                      <a:pt x="1004" y="500"/>
                    </a:lnTo>
                    <a:lnTo>
                      <a:pt x="1004" y="493"/>
                    </a:lnTo>
                    <a:lnTo>
                      <a:pt x="1004" y="500"/>
                    </a:lnTo>
                    <a:lnTo>
                      <a:pt x="1015" y="504"/>
                    </a:lnTo>
                    <a:lnTo>
                      <a:pt x="1026" y="508"/>
                    </a:lnTo>
                    <a:lnTo>
                      <a:pt x="1037" y="515"/>
                    </a:lnTo>
                    <a:lnTo>
                      <a:pt x="1048" y="522"/>
                    </a:lnTo>
                    <a:lnTo>
                      <a:pt x="1059" y="529"/>
                    </a:lnTo>
                    <a:lnTo>
                      <a:pt x="1059" y="522"/>
                    </a:lnTo>
                    <a:lnTo>
                      <a:pt x="1055" y="526"/>
                    </a:lnTo>
                    <a:lnTo>
                      <a:pt x="1062" y="537"/>
                    </a:lnTo>
                    <a:lnTo>
                      <a:pt x="1062" y="537"/>
                    </a:lnTo>
                    <a:lnTo>
                      <a:pt x="1062" y="537"/>
                    </a:lnTo>
                    <a:lnTo>
                      <a:pt x="1066" y="540"/>
                    </a:lnTo>
                    <a:lnTo>
                      <a:pt x="1070" y="537"/>
                    </a:lnTo>
                    <a:lnTo>
                      <a:pt x="1066" y="537"/>
                    </a:lnTo>
                    <a:lnTo>
                      <a:pt x="1066" y="544"/>
                    </a:lnTo>
                    <a:lnTo>
                      <a:pt x="1066" y="547"/>
                    </a:lnTo>
                    <a:lnTo>
                      <a:pt x="1066" y="547"/>
                    </a:lnTo>
                    <a:lnTo>
                      <a:pt x="1070" y="555"/>
                    </a:lnTo>
                    <a:lnTo>
                      <a:pt x="1070" y="555"/>
                    </a:lnTo>
                    <a:lnTo>
                      <a:pt x="1070" y="555"/>
                    </a:lnTo>
                    <a:lnTo>
                      <a:pt x="1073" y="558"/>
                    </a:lnTo>
                    <a:lnTo>
                      <a:pt x="1077" y="555"/>
                    </a:lnTo>
                    <a:lnTo>
                      <a:pt x="1073" y="555"/>
                    </a:lnTo>
                    <a:lnTo>
                      <a:pt x="1073" y="562"/>
                    </a:lnTo>
                    <a:lnTo>
                      <a:pt x="1073" y="569"/>
                    </a:lnTo>
                    <a:lnTo>
                      <a:pt x="1073" y="576"/>
                    </a:lnTo>
                    <a:lnTo>
                      <a:pt x="1073" y="584"/>
                    </a:lnTo>
                    <a:lnTo>
                      <a:pt x="1077" y="584"/>
                    </a:lnTo>
                    <a:lnTo>
                      <a:pt x="1073" y="584"/>
                    </a:lnTo>
                    <a:lnTo>
                      <a:pt x="1070" y="598"/>
                    </a:lnTo>
                    <a:lnTo>
                      <a:pt x="1066" y="609"/>
                    </a:lnTo>
                    <a:lnTo>
                      <a:pt x="1059" y="620"/>
                    </a:lnTo>
                    <a:lnTo>
                      <a:pt x="1062" y="620"/>
                    </a:lnTo>
                    <a:lnTo>
                      <a:pt x="1059" y="616"/>
                    </a:lnTo>
                    <a:lnTo>
                      <a:pt x="1051" y="624"/>
                    </a:lnTo>
                    <a:lnTo>
                      <a:pt x="1044" y="631"/>
                    </a:lnTo>
                    <a:lnTo>
                      <a:pt x="1037" y="638"/>
                    </a:lnTo>
                    <a:lnTo>
                      <a:pt x="1041" y="642"/>
                    </a:lnTo>
                    <a:lnTo>
                      <a:pt x="1041" y="638"/>
                    </a:lnTo>
                    <a:lnTo>
                      <a:pt x="1030" y="642"/>
                    </a:lnTo>
                    <a:lnTo>
                      <a:pt x="1022" y="645"/>
                    </a:lnTo>
                    <a:lnTo>
                      <a:pt x="1022" y="649"/>
                    </a:lnTo>
                    <a:lnTo>
                      <a:pt x="1022" y="645"/>
                    </a:lnTo>
                    <a:lnTo>
                      <a:pt x="1012" y="645"/>
                    </a:lnTo>
                    <a:lnTo>
                      <a:pt x="1012" y="645"/>
                    </a:lnTo>
                    <a:lnTo>
                      <a:pt x="1012" y="645"/>
                    </a:lnTo>
                    <a:lnTo>
                      <a:pt x="1001" y="649"/>
                    </a:lnTo>
                    <a:lnTo>
                      <a:pt x="1001" y="653"/>
                    </a:lnTo>
                    <a:lnTo>
                      <a:pt x="1004" y="649"/>
                    </a:lnTo>
                    <a:lnTo>
                      <a:pt x="993" y="645"/>
                    </a:lnTo>
                    <a:lnTo>
                      <a:pt x="993" y="645"/>
                    </a:lnTo>
                    <a:lnTo>
                      <a:pt x="990" y="645"/>
                    </a:lnTo>
                    <a:lnTo>
                      <a:pt x="983" y="645"/>
                    </a:lnTo>
                    <a:lnTo>
                      <a:pt x="983" y="649"/>
                    </a:lnTo>
                    <a:lnTo>
                      <a:pt x="986" y="645"/>
                    </a:lnTo>
                    <a:lnTo>
                      <a:pt x="975" y="642"/>
                    </a:lnTo>
                    <a:lnTo>
                      <a:pt x="964" y="638"/>
                    </a:lnTo>
                    <a:lnTo>
                      <a:pt x="957" y="634"/>
                    </a:lnTo>
                    <a:lnTo>
                      <a:pt x="954" y="638"/>
                    </a:lnTo>
                    <a:lnTo>
                      <a:pt x="957" y="634"/>
                    </a:lnTo>
                    <a:lnTo>
                      <a:pt x="950" y="627"/>
                    </a:lnTo>
                    <a:lnTo>
                      <a:pt x="946" y="631"/>
                    </a:lnTo>
                    <a:lnTo>
                      <a:pt x="954" y="631"/>
                    </a:lnTo>
                    <a:lnTo>
                      <a:pt x="950" y="624"/>
                    </a:lnTo>
                    <a:lnTo>
                      <a:pt x="946" y="620"/>
                    </a:lnTo>
                    <a:lnTo>
                      <a:pt x="946" y="620"/>
                    </a:lnTo>
                    <a:lnTo>
                      <a:pt x="935" y="613"/>
                    </a:lnTo>
                    <a:lnTo>
                      <a:pt x="928" y="609"/>
                    </a:lnTo>
                    <a:lnTo>
                      <a:pt x="921" y="605"/>
                    </a:lnTo>
                    <a:lnTo>
                      <a:pt x="914" y="602"/>
                    </a:lnTo>
                    <a:lnTo>
                      <a:pt x="906" y="598"/>
                    </a:lnTo>
                    <a:lnTo>
                      <a:pt x="896" y="595"/>
                    </a:lnTo>
                    <a:lnTo>
                      <a:pt x="896" y="595"/>
                    </a:lnTo>
                    <a:lnTo>
                      <a:pt x="892" y="595"/>
                    </a:lnTo>
                    <a:lnTo>
                      <a:pt x="885" y="595"/>
                    </a:lnTo>
                    <a:lnTo>
                      <a:pt x="877" y="595"/>
                    </a:lnTo>
                    <a:lnTo>
                      <a:pt x="870" y="595"/>
                    </a:lnTo>
                    <a:lnTo>
                      <a:pt x="870" y="595"/>
                    </a:lnTo>
                    <a:lnTo>
                      <a:pt x="870" y="595"/>
                    </a:lnTo>
                    <a:lnTo>
                      <a:pt x="863" y="598"/>
                    </a:lnTo>
                    <a:lnTo>
                      <a:pt x="863" y="598"/>
                    </a:lnTo>
                    <a:lnTo>
                      <a:pt x="859" y="598"/>
                    </a:lnTo>
                    <a:lnTo>
                      <a:pt x="856" y="602"/>
                    </a:lnTo>
                    <a:lnTo>
                      <a:pt x="859" y="605"/>
                    </a:lnTo>
                    <a:lnTo>
                      <a:pt x="859" y="602"/>
                    </a:lnTo>
                    <a:lnTo>
                      <a:pt x="852" y="605"/>
                    </a:lnTo>
                    <a:lnTo>
                      <a:pt x="848" y="605"/>
                    </a:lnTo>
                    <a:lnTo>
                      <a:pt x="848" y="609"/>
                    </a:lnTo>
                    <a:lnTo>
                      <a:pt x="845" y="616"/>
                    </a:lnTo>
                    <a:lnTo>
                      <a:pt x="841" y="624"/>
                    </a:lnTo>
                    <a:lnTo>
                      <a:pt x="838" y="634"/>
                    </a:lnTo>
                    <a:lnTo>
                      <a:pt x="838" y="634"/>
                    </a:lnTo>
                    <a:lnTo>
                      <a:pt x="838" y="634"/>
                    </a:lnTo>
                    <a:lnTo>
                      <a:pt x="838" y="656"/>
                    </a:lnTo>
                    <a:lnTo>
                      <a:pt x="834" y="682"/>
                    </a:lnTo>
                    <a:lnTo>
                      <a:pt x="830" y="707"/>
                    </a:lnTo>
                    <a:lnTo>
                      <a:pt x="830" y="736"/>
                    </a:lnTo>
                    <a:lnTo>
                      <a:pt x="830" y="761"/>
                    </a:lnTo>
                    <a:lnTo>
                      <a:pt x="830" y="787"/>
                    </a:lnTo>
                    <a:lnTo>
                      <a:pt x="830" y="798"/>
                    </a:lnTo>
                    <a:lnTo>
                      <a:pt x="830" y="801"/>
                    </a:lnTo>
                    <a:lnTo>
                      <a:pt x="830" y="801"/>
                    </a:lnTo>
                    <a:lnTo>
                      <a:pt x="834" y="812"/>
                    </a:lnTo>
                    <a:lnTo>
                      <a:pt x="838" y="823"/>
                    </a:lnTo>
                    <a:lnTo>
                      <a:pt x="841" y="819"/>
                    </a:lnTo>
                    <a:lnTo>
                      <a:pt x="838" y="819"/>
                    </a:lnTo>
                    <a:lnTo>
                      <a:pt x="838" y="827"/>
                    </a:lnTo>
                    <a:lnTo>
                      <a:pt x="841" y="827"/>
                    </a:lnTo>
                    <a:lnTo>
                      <a:pt x="841" y="823"/>
                    </a:lnTo>
                    <a:lnTo>
                      <a:pt x="823" y="827"/>
                    </a:lnTo>
                    <a:lnTo>
                      <a:pt x="809" y="830"/>
                    </a:lnTo>
                    <a:lnTo>
                      <a:pt x="787" y="830"/>
                    </a:lnTo>
                    <a:lnTo>
                      <a:pt x="769" y="830"/>
                    </a:lnTo>
                    <a:lnTo>
                      <a:pt x="751" y="830"/>
                    </a:lnTo>
                    <a:lnTo>
                      <a:pt x="732" y="830"/>
                    </a:lnTo>
                    <a:lnTo>
                      <a:pt x="714" y="827"/>
                    </a:lnTo>
                    <a:lnTo>
                      <a:pt x="696" y="827"/>
                    </a:lnTo>
                    <a:lnTo>
                      <a:pt x="667" y="823"/>
                    </a:lnTo>
                    <a:lnTo>
                      <a:pt x="642" y="819"/>
                    </a:lnTo>
                    <a:lnTo>
                      <a:pt x="627" y="816"/>
                    </a:lnTo>
                    <a:lnTo>
                      <a:pt x="627" y="819"/>
                    </a:lnTo>
                    <a:lnTo>
                      <a:pt x="631" y="816"/>
                    </a:lnTo>
                    <a:lnTo>
                      <a:pt x="624" y="812"/>
                    </a:lnTo>
                    <a:lnTo>
                      <a:pt x="624" y="812"/>
                    </a:lnTo>
                    <a:lnTo>
                      <a:pt x="620" y="812"/>
                    </a:lnTo>
                    <a:lnTo>
                      <a:pt x="606" y="809"/>
                    </a:lnTo>
                    <a:lnTo>
                      <a:pt x="606" y="812"/>
                    </a:lnTo>
                    <a:lnTo>
                      <a:pt x="609" y="809"/>
                    </a:lnTo>
                    <a:lnTo>
                      <a:pt x="598" y="801"/>
                    </a:lnTo>
                    <a:lnTo>
                      <a:pt x="587" y="794"/>
                    </a:lnTo>
                    <a:lnTo>
                      <a:pt x="584" y="798"/>
                    </a:lnTo>
                    <a:lnTo>
                      <a:pt x="591" y="798"/>
                    </a:lnTo>
                    <a:lnTo>
                      <a:pt x="584" y="787"/>
                    </a:lnTo>
                    <a:lnTo>
                      <a:pt x="584" y="787"/>
                    </a:lnTo>
                    <a:lnTo>
                      <a:pt x="580" y="783"/>
                    </a:lnTo>
                    <a:lnTo>
                      <a:pt x="573" y="776"/>
                    </a:lnTo>
                    <a:lnTo>
                      <a:pt x="569" y="780"/>
                    </a:lnTo>
                    <a:lnTo>
                      <a:pt x="577" y="780"/>
                    </a:lnTo>
                    <a:lnTo>
                      <a:pt x="573" y="769"/>
                    </a:lnTo>
                    <a:lnTo>
                      <a:pt x="569" y="758"/>
                    </a:lnTo>
                    <a:lnTo>
                      <a:pt x="566" y="751"/>
                    </a:lnTo>
                    <a:lnTo>
                      <a:pt x="558" y="751"/>
                    </a:lnTo>
                    <a:lnTo>
                      <a:pt x="566" y="751"/>
                    </a:lnTo>
                    <a:lnTo>
                      <a:pt x="566" y="740"/>
                    </a:lnTo>
                    <a:lnTo>
                      <a:pt x="558" y="740"/>
                    </a:lnTo>
                    <a:lnTo>
                      <a:pt x="566" y="743"/>
                    </a:lnTo>
                    <a:lnTo>
                      <a:pt x="569" y="732"/>
                    </a:lnTo>
                    <a:lnTo>
                      <a:pt x="569" y="732"/>
                    </a:lnTo>
                    <a:lnTo>
                      <a:pt x="569" y="729"/>
                    </a:lnTo>
                    <a:lnTo>
                      <a:pt x="569" y="722"/>
                    </a:lnTo>
                    <a:lnTo>
                      <a:pt x="562" y="722"/>
                    </a:lnTo>
                    <a:lnTo>
                      <a:pt x="569" y="725"/>
                    </a:lnTo>
                    <a:lnTo>
                      <a:pt x="573" y="718"/>
                    </a:lnTo>
                    <a:lnTo>
                      <a:pt x="577" y="707"/>
                    </a:lnTo>
                    <a:lnTo>
                      <a:pt x="580" y="700"/>
                    </a:lnTo>
                    <a:lnTo>
                      <a:pt x="573" y="696"/>
                    </a:lnTo>
                    <a:lnTo>
                      <a:pt x="577" y="700"/>
                    </a:lnTo>
                    <a:lnTo>
                      <a:pt x="584" y="692"/>
                    </a:lnTo>
                    <a:lnTo>
                      <a:pt x="580" y="689"/>
                    </a:lnTo>
                    <a:lnTo>
                      <a:pt x="584" y="696"/>
                    </a:lnTo>
                    <a:lnTo>
                      <a:pt x="591" y="692"/>
                    </a:lnTo>
                    <a:lnTo>
                      <a:pt x="591" y="692"/>
                    </a:lnTo>
                    <a:lnTo>
                      <a:pt x="591" y="689"/>
                    </a:lnTo>
                    <a:lnTo>
                      <a:pt x="598" y="682"/>
                    </a:lnTo>
                    <a:lnTo>
                      <a:pt x="606" y="674"/>
                    </a:lnTo>
                    <a:lnTo>
                      <a:pt x="609" y="674"/>
                    </a:lnTo>
                    <a:lnTo>
                      <a:pt x="609" y="674"/>
                    </a:lnTo>
                    <a:lnTo>
                      <a:pt x="613" y="663"/>
                    </a:lnTo>
                    <a:lnTo>
                      <a:pt x="616" y="653"/>
                    </a:lnTo>
                    <a:lnTo>
                      <a:pt x="620" y="642"/>
                    </a:lnTo>
                    <a:lnTo>
                      <a:pt x="620" y="642"/>
                    </a:lnTo>
                    <a:lnTo>
                      <a:pt x="620" y="638"/>
                    </a:lnTo>
                    <a:lnTo>
                      <a:pt x="620" y="624"/>
                    </a:lnTo>
                    <a:lnTo>
                      <a:pt x="620" y="613"/>
                    </a:lnTo>
                    <a:lnTo>
                      <a:pt x="620" y="598"/>
                    </a:lnTo>
                    <a:lnTo>
                      <a:pt x="620" y="598"/>
                    </a:lnTo>
                    <a:lnTo>
                      <a:pt x="620" y="598"/>
                    </a:lnTo>
                    <a:lnTo>
                      <a:pt x="616" y="587"/>
                    </a:lnTo>
                    <a:lnTo>
                      <a:pt x="613" y="576"/>
                    </a:lnTo>
                    <a:lnTo>
                      <a:pt x="609" y="569"/>
                    </a:lnTo>
                    <a:lnTo>
                      <a:pt x="609" y="569"/>
                    </a:lnTo>
                    <a:lnTo>
                      <a:pt x="606" y="566"/>
                    </a:lnTo>
                    <a:lnTo>
                      <a:pt x="602" y="562"/>
                    </a:lnTo>
                    <a:lnTo>
                      <a:pt x="598" y="566"/>
                    </a:lnTo>
                    <a:lnTo>
                      <a:pt x="606" y="566"/>
                    </a:lnTo>
                    <a:lnTo>
                      <a:pt x="602" y="558"/>
                    </a:lnTo>
                    <a:lnTo>
                      <a:pt x="598" y="555"/>
                    </a:lnTo>
                    <a:lnTo>
                      <a:pt x="598" y="555"/>
                    </a:lnTo>
                    <a:lnTo>
                      <a:pt x="591" y="551"/>
                    </a:lnTo>
                    <a:lnTo>
                      <a:pt x="584" y="547"/>
                    </a:lnTo>
                    <a:lnTo>
                      <a:pt x="580" y="551"/>
                    </a:lnTo>
                    <a:lnTo>
                      <a:pt x="584" y="547"/>
                    </a:lnTo>
                    <a:lnTo>
                      <a:pt x="580" y="544"/>
                    </a:lnTo>
                    <a:lnTo>
                      <a:pt x="580" y="544"/>
                    </a:lnTo>
                    <a:lnTo>
                      <a:pt x="580" y="544"/>
                    </a:lnTo>
                    <a:lnTo>
                      <a:pt x="573" y="540"/>
                    </a:lnTo>
                    <a:lnTo>
                      <a:pt x="573" y="540"/>
                    </a:lnTo>
                    <a:lnTo>
                      <a:pt x="569" y="540"/>
                    </a:lnTo>
                    <a:lnTo>
                      <a:pt x="562" y="540"/>
                    </a:lnTo>
                    <a:lnTo>
                      <a:pt x="562" y="544"/>
                    </a:lnTo>
                    <a:lnTo>
                      <a:pt x="566" y="540"/>
                    </a:lnTo>
                    <a:lnTo>
                      <a:pt x="555" y="537"/>
                    </a:lnTo>
                    <a:lnTo>
                      <a:pt x="548" y="533"/>
                    </a:lnTo>
                    <a:lnTo>
                      <a:pt x="548" y="533"/>
                    </a:lnTo>
                    <a:lnTo>
                      <a:pt x="544" y="533"/>
                    </a:lnTo>
                    <a:lnTo>
                      <a:pt x="533" y="533"/>
                    </a:lnTo>
                    <a:lnTo>
                      <a:pt x="522" y="533"/>
                    </a:lnTo>
                    <a:lnTo>
                      <a:pt x="515" y="533"/>
                    </a:lnTo>
                    <a:lnTo>
                      <a:pt x="504" y="533"/>
                    </a:lnTo>
                    <a:lnTo>
                      <a:pt x="504" y="533"/>
                    </a:lnTo>
                    <a:lnTo>
                      <a:pt x="504" y="533"/>
                    </a:lnTo>
                    <a:lnTo>
                      <a:pt x="493" y="537"/>
                    </a:lnTo>
                    <a:lnTo>
                      <a:pt x="493" y="540"/>
                    </a:lnTo>
                    <a:lnTo>
                      <a:pt x="493" y="537"/>
                    </a:lnTo>
                    <a:lnTo>
                      <a:pt x="486" y="537"/>
                    </a:lnTo>
                    <a:lnTo>
                      <a:pt x="486" y="537"/>
                    </a:lnTo>
                    <a:lnTo>
                      <a:pt x="486" y="537"/>
                    </a:lnTo>
                    <a:lnTo>
                      <a:pt x="479" y="540"/>
                    </a:lnTo>
                    <a:lnTo>
                      <a:pt x="471" y="544"/>
                    </a:lnTo>
                    <a:lnTo>
                      <a:pt x="464" y="547"/>
                    </a:lnTo>
                    <a:lnTo>
                      <a:pt x="464" y="547"/>
                    </a:lnTo>
                    <a:lnTo>
                      <a:pt x="460" y="547"/>
                    </a:lnTo>
                    <a:lnTo>
                      <a:pt x="457" y="551"/>
                    </a:lnTo>
                    <a:lnTo>
                      <a:pt x="460" y="555"/>
                    </a:lnTo>
                    <a:lnTo>
                      <a:pt x="460" y="551"/>
                    </a:lnTo>
                    <a:lnTo>
                      <a:pt x="453" y="551"/>
                    </a:lnTo>
                    <a:lnTo>
                      <a:pt x="453" y="551"/>
                    </a:lnTo>
                    <a:lnTo>
                      <a:pt x="450" y="551"/>
                    </a:lnTo>
                    <a:lnTo>
                      <a:pt x="446" y="555"/>
                    </a:lnTo>
                    <a:lnTo>
                      <a:pt x="446" y="558"/>
                    </a:lnTo>
                    <a:lnTo>
                      <a:pt x="446" y="558"/>
                    </a:lnTo>
                    <a:lnTo>
                      <a:pt x="442" y="566"/>
                    </a:lnTo>
                    <a:lnTo>
                      <a:pt x="446" y="566"/>
                    </a:lnTo>
                    <a:lnTo>
                      <a:pt x="446" y="562"/>
                    </a:lnTo>
                    <a:lnTo>
                      <a:pt x="439" y="566"/>
                    </a:lnTo>
                    <a:lnTo>
                      <a:pt x="435" y="566"/>
                    </a:lnTo>
                    <a:lnTo>
                      <a:pt x="435" y="569"/>
                    </a:lnTo>
                    <a:lnTo>
                      <a:pt x="428" y="580"/>
                    </a:lnTo>
                    <a:lnTo>
                      <a:pt x="424" y="591"/>
                    </a:lnTo>
                    <a:lnTo>
                      <a:pt x="421" y="602"/>
                    </a:lnTo>
                    <a:lnTo>
                      <a:pt x="421" y="602"/>
                    </a:lnTo>
                    <a:lnTo>
                      <a:pt x="421" y="602"/>
                    </a:lnTo>
                    <a:lnTo>
                      <a:pt x="421" y="613"/>
                    </a:lnTo>
                    <a:lnTo>
                      <a:pt x="421" y="624"/>
                    </a:lnTo>
                    <a:lnTo>
                      <a:pt x="421" y="638"/>
                    </a:lnTo>
                    <a:lnTo>
                      <a:pt x="421" y="642"/>
                    </a:lnTo>
                    <a:lnTo>
                      <a:pt x="421" y="642"/>
                    </a:lnTo>
                    <a:lnTo>
                      <a:pt x="424" y="653"/>
                    </a:lnTo>
                    <a:lnTo>
                      <a:pt x="428" y="663"/>
                    </a:lnTo>
                    <a:lnTo>
                      <a:pt x="428" y="663"/>
                    </a:lnTo>
                    <a:lnTo>
                      <a:pt x="428" y="663"/>
                    </a:lnTo>
                    <a:lnTo>
                      <a:pt x="435" y="671"/>
                    </a:lnTo>
                    <a:lnTo>
                      <a:pt x="439" y="667"/>
                    </a:lnTo>
                    <a:lnTo>
                      <a:pt x="435" y="671"/>
                    </a:lnTo>
                    <a:lnTo>
                      <a:pt x="442" y="682"/>
                    </a:lnTo>
                    <a:lnTo>
                      <a:pt x="442" y="682"/>
                    </a:lnTo>
                    <a:lnTo>
                      <a:pt x="446" y="685"/>
                    </a:lnTo>
                    <a:lnTo>
                      <a:pt x="457" y="692"/>
                    </a:lnTo>
                    <a:lnTo>
                      <a:pt x="457" y="685"/>
                    </a:lnTo>
                    <a:lnTo>
                      <a:pt x="453" y="689"/>
                    </a:lnTo>
                    <a:lnTo>
                      <a:pt x="457" y="700"/>
                    </a:lnTo>
                    <a:lnTo>
                      <a:pt x="457" y="700"/>
                    </a:lnTo>
                    <a:lnTo>
                      <a:pt x="457" y="700"/>
                    </a:lnTo>
                    <a:lnTo>
                      <a:pt x="464" y="707"/>
                    </a:lnTo>
                    <a:lnTo>
                      <a:pt x="468" y="703"/>
                    </a:lnTo>
                    <a:lnTo>
                      <a:pt x="464" y="707"/>
                    </a:lnTo>
                    <a:lnTo>
                      <a:pt x="468" y="718"/>
                    </a:lnTo>
                    <a:lnTo>
                      <a:pt x="471" y="714"/>
                    </a:lnTo>
                    <a:lnTo>
                      <a:pt x="468" y="714"/>
                    </a:lnTo>
                    <a:lnTo>
                      <a:pt x="468" y="725"/>
                    </a:lnTo>
                    <a:lnTo>
                      <a:pt x="468" y="736"/>
                    </a:lnTo>
                    <a:lnTo>
                      <a:pt x="468" y="743"/>
                    </a:lnTo>
                    <a:lnTo>
                      <a:pt x="471" y="743"/>
                    </a:lnTo>
                    <a:lnTo>
                      <a:pt x="468" y="743"/>
                    </a:lnTo>
                    <a:lnTo>
                      <a:pt x="464" y="754"/>
                    </a:lnTo>
                    <a:lnTo>
                      <a:pt x="460" y="765"/>
                    </a:lnTo>
                    <a:lnTo>
                      <a:pt x="453" y="776"/>
                    </a:lnTo>
                    <a:lnTo>
                      <a:pt x="457" y="776"/>
                    </a:lnTo>
                    <a:lnTo>
                      <a:pt x="453" y="772"/>
                    </a:lnTo>
                    <a:lnTo>
                      <a:pt x="446" y="780"/>
                    </a:lnTo>
                    <a:lnTo>
                      <a:pt x="439" y="787"/>
                    </a:lnTo>
                    <a:lnTo>
                      <a:pt x="442" y="790"/>
                    </a:lnTo>
                    <a:lnTo>
                      <a:pt x="442" y="787"/>
                    </a:lnTo>
                    <a:lnTo>
                      <a:pt x="428" y="794"/>
                    </a:lnTo>
                    <a:lnTo>
                      <a:pt x="428" y="794"/>
                    </a:lnTo>
                    <a:lnTo>
                      <a:pt x="424" y="794"/>
                    </a:lnTo>
                    <a:lnTo>
                      <a:pt x="413" y="805"/>
                    </a:lnTo>
                    <a:lnTo>
                      <a:pt x="417" y="809"/>
                    </a:lnTo>
                    <a:lnTo>
                      <a:pt x="417" y="805"/>
                    </a:lnTo>
                    <a:lnTo>
                      <a:pt x="402" y="809"/>
                    </a:lnTo>
                    <a:lnTo>
                      <a:pt x="384" y="812"/>
                    </a:lnTo>
                    <a:lnTo>
                      <a:pt x="373" y="812"/>
                    </a:lnTo>
                    <a:lnTo>
                      <a:pt x="355" y="812"/>
                    </a:lnTo>
                    <a:lnTo>
                      <a:pt x="334" y="812"/>
                    </a:lnTo>
                    <a:lnTo>
                      <a:pt x="312" y="812"/>
                    </a:lnTo>
                    <a:lnTo>
                      <a:pt x="290" y="812"/>
                    </a:lnTo>
                    <a:lnTo>
                      <a:pt x="265" y="812"/>
                    </a:lnTo>
                    <a:lnTo>
                      <a:pt x="239" y="812"/>
                    </a:lnTo>
                    <a:lnTo>
                      <a:pt x="214" y="812"/>
                    </a:lnTo>
                    <a:lnTo>
                      <a:pt x="214" y="816"/>
                    </a:lnTo>
                    <a:lnTo>
                      <a:pt x="221" y="819"/>
                    </a:lnTo>
                    <a:lnTo>
                      <a:pt x="225" y="809"/>
                    </a:lnTo>
                    <a:lnTo>
                      <a:pt x="228" y="794"/>
                    </a:lnTo>
                    <a:lnTo>
                      <a:pt x="232" y="780"/>
                    </a:lnTo>
                    <a:lnTo>
                      <a:pt x="236" y="765"/>
                    </a:lnTo>
                    <a:lnTo>
                      <a:pt x="236" y="765"/>
                    </a:lnTo>
                    <a:lnTo>
                      <a:pt x="236" y="761"/>
                    </a:lnTo>
                    <a:lnTo>
                      <a:pt x="236" y="747"/>
                    </a:lnTo>
                    <a:lnTo>
                      <a:pt x="228" y="747"/>
                    </a:lnTo>
                    <a:lnTo>
                      <a:pt x="236" y="751"/>
                    </a:lnTo>
                    <a:lnTo>
                      <a:pt x="239" y="736"/>
                    </a:lnTo>
                    <a:lnTo>
                      <a:pt x="239" y="736"/>
                    </a:lnTo>
                    <a:lnTo>
                      <a:pt x="239" y="732"/>
                    </a:lnTo>
                    <a:lnTo>
                      <a:pt x="239" y="718"/>
                    </a:lnTo>
                    <a:lnTo>
                      <a:pt x="239" y="703"/>
                    </a:lnTo>
                    <a:lnTo>
                      <a:pt x="239" y="689"/>
                    </a:lnTo>
                    <a:lnTo>
                      <a:pt x="239" y="674"/>
                    </a:lnTo>
                    <a:lnTo>
                      <a:pt x="239" y="674"/>
                    </a:lnTo>
                    <a:lnTo>
                      <a:pt x="239" y="674"/>
                    </a:lnTo>
                    <a:lnTo>
                      <a:pt x="236" y="660"/>
                    </a:lnTo>
                    <a:lnTo>
                      <a:pt x="228" y="660"/>
                    </a:lnTo>
                    <a:lnTo>
                      <a:pt x="236" y="660"/>
                    </a:lnTo>
                    <a:lnTo>
                      <a:pt x="236" y="645"/>
                    </a:lnTo>
                    <a:lnTo>
                      <a:pt x="236" y="645"/>
                    </a:lnTo>
                    <a:lnTo>
                      <a:pt x="236" y="645"/>
                    </a:lnTo>
                    <a:lnTo>
                      <a:pt x="232" y="634"/>
                    </a:lnTo>
                    <a:lnTo>
                      <a:pt x="228" y="624"/>
                    </a:lnTo>
                    <a:lnTo>
                      <a:pt x="225" y="613"/>
                    </a:lnTo>
                    <a:lnTo>
                      <a:pt x="221" y="605"/>
                    </a:lnTo>
                    <a:lnTo>
                      <a:pt x="218" y="595"/>
                    </a:lnTo>
                    <a:lnTo>
                      <a:pt x="218" y="595"/>
                    </a:lnTo>
                    <a:lnTo>
                      <a:pt x="214" y="591"/>
                    </a:lnTo>
                    <a:lnTo>
                      <a:pt x="210" y="587"/>
                    </a:lnTo>
                    <a:lnTo>
                      <a:pt x="207" y="591"/>
                    </a:lnTo>
                    <a:lnTo>
                      <a:pt x="214" y="591"/>
                    </a:lnTo>
                    <a:lnTo>
                      <a:pt x="210" y="584"/>
                    </a:lnTo>
                    <a:lnTo>
                      <a:pt x="210" y="584"/>
                    </a:lnTo>
                    <a:lnTo>
                      <a:pt x="207" y="580"/>
                    </a:lnTo>
                    <a:lnTo>
                      <a:pt x="203" y="576"/>
                    </a:lnTo>
                    <a:lnTo>
                      <a:pt x="203" y="576"/>
                    </a:lnTo>
                    <a:lnTo>
                      <a:pt x="203" y="576"/>
                    </a:lnTo>
                    <a:lnTo>
                      <a:pt x="196" y="573"/>
                    </a:lnTo>
                    <a:lnTo>
                      <a:pt x="196" y="573"/>
                    </a:lnTo>
                    <a:lnTo>
                      <a:pt x="192" y="573"/>
                    </a:lnTo>
                    <a:lnTo>
                      <a:pt x="189" y="573"/>
                    </a:lnTo>
                    <a:lnTo>
                      <a:pt x="189" y="576"/>
                    </a:lnTo>
                    <a:lnTo>
                      <a:pt x="192" y="573"/>
                    </a:lnTo>
                    <a:lnTo>
                      <a:pt x="189" y="569"/>
                    </a:lnTo>
                    <a:lnTo>
                      <a:pt x="189" y="569"/>
                    </a:lnTo>
                    <a:lnTo>
                      <a:pt x="185" y="569"/>
                    </a:lnTo>
                    <a:lnTo>
                      <a:pt x="178" y="569"/>
                    </a:lnTo>
                    <a:lnTo>
                      <a:pt x="167" y="569"/>
                    </a:lnTo>
                    <a:lnTo>
                      <a:pt x="152" y="573"/>
                    </a:lnTo>
                    <a:lnTo>
                      <a:pt x="145" y="573"/>
                    </a:lnTo>
                    <a:lnTo>
                      <a:pt x="152" y="573"/>
                    </a:lnTo>
                    <a:lnTo>
                      <a:pt x="141" y="576"/>
                    </a:lnTo>
                    <a:lnTo>
                      <a:pt x="123" y="584"/>
                    </a:lnTo>
                    <a:lnTo>
                      <a:pt x="112" y="587"/>
                    </a:lnTo>
                    <a:lnTo>
                      <a:pt x="112" y="591"/>
                    </a:lnTo>
                    <a:lnTo>
                      <a:pt x="112" y="587"/>
                    </a:lnTo>
                    <a:lnTo>
                      <a:pt x="105" y="587"/>
                    </a:lnTo>
                    <a:lnTo>
                      <a:pt x="105" y="587"/>
                    </a:lnTo>
                    <a:lnTo>
                      <a:pt x="105" y="587"/>
                    </a:lnTo>
                    <a:lnTo>
                      <a:pt x="98" y="591"/>
                    </a:lnTo>
                    <a:lnTo>
                      <a:pt x="98" y="595"/>
                    </a:lnTo>
                    <a:lnTo>
                      <a:pt x="98" y="591"/>
                    </a:lnTo>
                    <a:lnTo>
                      <a:pt x="87" y="591"/>
                    </a:lnTo>
                    <a:lnTo>
                      <a:pt x="80" y="591"/>
                    </a:lnTo>
                    <a:lnTo>
                      <a:pt x="73" y="591"/>
                    </a:lnTo>
                    <a:lnTo>
                      <a:pt x="65" y="591"/>
                    </a:lnTo>
                    <a:lnTo>
                      <a:pt x="65" y="595"/>
                    </a:lnTo>
                    <a:lnTo>
                      <a:pt x="69" y="591"/>
                    </a:lnTo>
                    <a:lnTo>
                      <a:pt x="62" y="587"/>
                    </a:lnTo>
                    <a:lnTo>
                      <a:pt x="62" y="587"/>
                    </a:lnTo>
                    <a:lnTo>
                      <a:pt x="58" y="587"/>
                    </a:lnTo>
                    <a:lnTo>
                      <a:pt x="51" y="587"/>
                    </a:lnTo>
                    <a:lnTo>
                      <a:pt x="51" y="591"/>
                    </a:lnTo>
                    <a:lnTo>
                      <a:pt x="54" y="587"/>
                    </a:lnTo>
                    <a:lnTo>
                      <a:pt x="47" y="584"/>
                    </a:lnTo>
                    <a:lnTo>
                      <a:pt x="44" y="587"/>
                    </a:lnTo>
                    <a:lnTo>
                      <a:pt x="47" y="584"/>
                    </a:lnTo>
                    <a:lnTo>
                      <a:pt x="44" y="580"/>
                    </a:lnTo>
                    <a:lnTo>
                      <a:pt x="44" y="580"/>
                    </a:lnTo>
                    <a:lnTo>
                      <a:pt x="40" y="580"/>
                    </a:lnTo>
                    <a:lnTo>
                      <a:pt x="36" y="580"/>
                    </a:lnTo>
                    <a:lnTo>
                      <a:pt x="36" y="584"/>
                    </a:lnTo>
                    <a:lnTo>
                      <a:pt x="40" y="580"/>
                    </a:lnTo>
                    <a:lnTo>
                      <a:pt x="29" y="573"/>
                    </a:lnTo>
                    <a:lnTo>
                      <a:pt x="25" y="576"/>
                    </a:lnTo>
                    <a:lnTo>
                      <a:pt x="33" y="576"/>
                    </a:lnTo>
                    <a:lnTo>
                      <a:pt x="25" y="566"/>
                    </a:lnTo>
                    <a:lnTo>
                      <a:pt x="22" y="558"/>
                    </a:lnTo>
                    <a:lnTo>
                      <a:pt x="15" y="547"/>
                    </a:lnTo>
                    <a:lnTo>
                      <a:pt x="11" y="537"/>
                    </a:lnTo>
                    <a:lnTo>
                      <a:pt x="4" y="537"/>
                    </a:lnTo>
                    <a:lnTo>
                      <a:pt x="11" y="537"/>
                    </a:lnTo>
                    <a:lnTo>
                      <a:pt x="11" y="529"/>
                    </a:lnTo>
                    <a:lnTo>
                      <a:pt x="11" y="518"/>
                    </a:lnTo>
                    <a:lnTo>
                      <a:pt x="11" y="508"/>
                    </a:lnTo>
                    <a:lnTo>
                      <a:pt x="4" y="508"/>
                    </a:lnTo>
                    <a:lnTo>
                      <a:pt x="11" y="511"/>
                    </a:lnTo>
                    <a:lnTo>
                      <a:pt x="15" y="504"/>
                    </a:lnTo>
                    <a:lnTo>
                      <a:pt x="7" y="500"/>
                    </a:lnTo>
                    <a:lnTo>
                      <a:pt x="11" y="504"/>
                    </a:lnTo>
                    <a:lnTo>
                      <a:pt x="15" y="500"/>
                    </a:lnTo>
                    <a:lnTo>
                      <a:pt x="18" y="500"/>
                    </a:lnTo>
                    <a:lnTo>
                      <a:pt x="18" y="500"/>
                    </a:lnTo>
                    <a:lnTo>
                      <a:pt x="25" y="489"/>
                    </a:lnTo>
                    <a:lnTo>
                      <a:pt x="33" y="478"/>
                    </a:lnTo>
                    <a:lnTo>
                      <a:pt x="25" y="475"/>
                    </a:lnTo>
                    <a:lnTo>
                      <a:pt x="29" y="478"/>
                    </a:lnTo>
                    <a:lnTo>
                      <a:pt x="36" y="471"/>
                    </a:lnTo>
                    <a:lnTo>
                      <a:pt x="33" y="468"/>
                    </a:lnTo>
                    <a:lnTo>
                      <a:pt x="36" y="475"/>
                    </a:lnTo>
                    <a:lnTo>
                      <a:pt x="44" y="471"/>
                    </a:lnTo>
                    <a:lnTo>
                      <a:pt x="44" y="468"/>
                    </a:lnTo>
                    <a:lnTo>
                      <a:pt x="47" y="468"/>
                    </a:lnTo>
                    <a:lnTo>
                      <a:pt x="51" y="460"/>
                    </a:lnTo>
                    <a:lnTo>
                      <a:pt x="44" y="457"/>
                    </a:lnTo>
                    <a:lnTo>
                      <a:pt x="47" y="464"/>
                    </a:lnTo>
                    <a:lnTo>
                      <a:pt x="54" y="460"/>
                    </a:lnTo>
                    <a:lnTo>
                      <a:pt x="51" y="453"/>
                    </a:lnTo>
                    <a:lnTo>
                      <a:pt x="51" y="460"/>
                    </a:lnTo>
                    <a:lnTo>
                      <a:pt x="58" y="460"/>
                    </a:lnTo>
                    <a:lnTo>
                      <a:pt x="62" y="460"/>
                    </a:lnTo>
                    <a:lnTo>
                      <a:pt x="62" y="460"/>
                    </a:lnTo>
                    <a:lnTo>
                      <a:pt x="69" y="457"/>
                    </a:lnTo>
                    <a:lnTo>
                      <a:pt x="65" y="449"/>
                    </a:lnTo>
                    <a:lnTo>
                      <a:pt x="65" y="457"/>
                    </a:lnTo>
                    <a:lnTo>
                      <a:pt x="73" y="457"/>
                    </a:lnTo>
                    <a:lnTo>
                      <a:pt x="80" y="457"/>
                    </a:lnTo>
                    <a:lnTo>
                      <a:pt x="80" y="449"/>
                    </a:lnTo>
                    <a:lnTo>
                      <a:pt x="76" y="453"/>
                    </a:lnTo>
                    <a:lnTo>
                      <a:pt x="80" y="457"/>
                    </a:lnTo>
                    <a:lnTo>
                      <a:pt x="83" y="460"/>
                    </a:lnTo>
                    <a:lnTo>
                      <a:pt x="83" y="460"/>
                    </a:lnTo>
                    <a:lnTo>
                      <a:pt x="91" y="460"/>
                    </a:lnTo>
                    <a:lnTo>
                      <a:pt x="105" y="464"/>
                    </a:lnTo>
                    <a:lnTo>
                      <a:pt x="105" y="457"/>
                    </a:lnTo>
                    <a:lnTo>
                      <a:pt x="105" y="464"/>
                    </a:lnTo>
                    <a:lnTo>
                      <a:pt x="116" y="471"/>
                    </a:lnTo>
                    <a:lnTo>
                      <a:pt x="131" y="478"/>
                    </a:lnTo>
                    <a:lnTo>
                      <a:pt x="141" y="486"/>
                    </a:lnTo>
                    <a:lnTo>
                      <a:pt x="152" y="489"/>
                    </a:lnTo>
                    <a:lnTo>
                      <a:pt x="167" y="497"/>
                    </a:lnTo>
                    <a:lnTo>
                      <a:pt x="167" y="497"/>
                    </a:lnTo>
                    <a:lnTo>
                      <a:pt x="167" y="497"/>
                    </a:lnTo>
                    <a:lnTo>
                      <a:pt x="174" y="497"/>
                    </a:lnTo>
                    <a:lnTo>
                      <a:pt x="174" y="489"/>
                    </a:lnTo>
                    <a:lnTo>
                      <a:pt x="170" y="493"/>
                    </a:lnTo>
                    <a:lnTo>
                      <a:pt x="174" y="497"/>
                    </a:lnTo>
                    <a:lnTo>
                      <a:pt x="178" y="500"/>
                    </a:lnTo>
                    <a:lnTo>
                      <a:pt x="178" y="500"/>
                    </a:lnTo>
                    <a:lnTo>
                      <a:pt x="185" y="500"/>
                    </a:lnTo>
                    <a:lnTo>
                      <a:pt x="192" y="500"/>
                    </a:lnTo>
                    <a:lnTo>
                      <a:pt x="196" y="500"/>
                    </a:lnTo>
                    <a:lnTo>
                      <a:pt x="196" y="497"/>
                    </a:lnTo>
                    <a:lnTo>
                      <a:pt x="199" y="493"/>
                    </a:lnTo>
                    <a:lnTo>
                      <a:pt x="196" y="489"/>
                    </a:lnTo>
                    <a:lnTo>
                      <a:pt x="199" y="497"/>
                    </a:lnTo>
                    <a:lnTo>
                      <a:pt x="207" y="493"/>
                    </a:lnTo>
                    <a:lnTo>
                      <a:pt x="214" y="489"/>
                    </a:lnTo>
                    <a:lnTo>
                      <a:pt x="214" y="489"/>
                    </a:lnTo>
                    <a:lnTo>
                      <a:pt x="214" y="486"/>
                    </a:lnTo>
                    <a:lnTo>
                      <a:pt x="218" y="482"/>
                    </a:lnTo>
                    <a:close/>
                  </a:path>
                </a:pathLst>
              </a:custGeom>
              <a:solidFill>
                <a:srgbClr val="ffff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" name=""/>
            <p:cNvSpPr/>
            <p:nvPr/>
          </p:nvSpPr>
          <p:spPr>
            <a:xfrm>
              <a:off x="4527720" y="3328920"/>
              <a:ext cx="157140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49440"/>
                  <a:tab algn="l" pos="1298520"/>
                  <a:tab algn="l" pos="1947960"/>
                  <a:tab algn="l" pos="2597040"/>
                  <a:tab algn="l" pos="3246480"/>
                  <a:tab algn="l" pos="3895560"/>
                  <a:tab algn="l" pos="4545000"/>
                  <a:tab algn="l" pos="5194440"/>
                  <a:tab algn="l" pos="5843520"/>
                  <a:tab algn="l" pos="6492960"/>
                  <a:tab algn="l" pos="7142040"/>
                  <a:tab algn="l" pos="7791480"/>
                  <a:tab algn="l" pos="8440560"/>
                  <a:tab algn="l" pos="9090000"/>
                  <a:tab algn="l" pos="9739440"/>
                  <a:tab algn="l" pos="10388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914400" y="1844640"/>
            <a:ext cx="4419720" cy="14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k at the big picture – macro strate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te id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ent pres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ily Derivatives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1040" y="233280"/>
            <a:ext cx="5880240" cy="324360"/>
          </a:xfrm>
          <a:prstGeom prst="rect">
            <a:avLst/>
          </a:prstGeom>
          <a:noFill/>
          <a:ln w="0">
            <a:noFill/>
          </a:ln>
        </p:spPr>
        <p:txBody>
          <a:bodyPr lIns="64800" rIns="64800" tIns="32400" bIns="32400" anchor="ctr">
            <a:noAutofit/>
          </a:bodyPr>
          <a:p>
            <a:pPr indent="0">
              <a:buNone/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endParaRPr b="1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233280"/>
            <a:ext cx="552312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581280" y="762120"/>
            <a:ext cx="2743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800" rIns="64800" tIns="32400" bIns="324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519200" y="673200"/>
            <a:ext cx="2168280" cy="1298160"/>
            <a:chOff x="1519200" y="673200"/>
            <a:chExt cx="2168280" cy="1298160"/>
          </a:xfrm>
        </p:grpSpPr>
        <p:sp>
          <p:nvSpPr>
            <p:cNvPr id="106" name=""/>
            <p:cNvSpPr/>
            <p:nvPr/>
          </p:nvSpPr>
          <p:spPr>
            <a:xfrm>
              <a:off x="1527120" y="680760"/>
              <a:ext cx="2146680" cy="1276560"/>
            </a:xfrm>
            <a:custGeom>
              <a:avLst/>
              <a:gdLst/>
              <a:ahLst/>
              <a:rect l="l" t="t" r="r" b="b"/>
              <a:pathLst>
                <a:path w="1091" h="638">
                  <a:moveTo>
                    <a:pt x="471" y="613"/>
                  </a:moveTo>
                  <a:lnTo>
                    <a:pt x="478" y="613"/>
                  </a:lnTo>
                  <a:lnTo>
                    <a:pt x="489" y="609"/>
                  </a:lnTo>
                  <a:lnTo>
                    <a:pt x="493" y="609"/>
                  </a:lnTo>
                  <a:lnTo>
                    <a:pt x="500" y="605"/>
                  </a:lnTo>
                  <a:lnTo>
                    <a:pt x="503" y="598"/>
                  </a:lnTo>
                  <a:lnTo>
                    <a:pt x="507" y="594"/>
                  </a:lnTo>
                  <a:lnTo>
                    <a:pt x="507" y="591"/>
                  </a:lnTo>
                  <a:lnTo>
                    <a:pt x="511" y="584"/>
                  </a:lnTo>
                  <a:lnTo>
                    <a:pt x="511" y="576"/>
                  </a:lnTo>
                  <a:lnTo>
                    <a:pt x="507" y="569"/>
                  </a:lnTo>
                  <a:lnTo>
                    <a:pt x="507" y="562"/>
                  </a:lnTo>
                  <a:lnTo>
                    <a:pt x="503" y="555"/>
                  </a:lnTo>
                  <a:lnTo>
                    <a:pt x="496" y="547"/>
                  </a:lnTo>
                  <a:lnTo>
                    <a:pt x="493" y="536"/>
                  </a:lnTo>
                  <a:lnTo>
                    <a:pt x="485" y="529"/>
                  </a:lnTo>
                  <a:lnTo>
                    <a:pt x="478" y="518"/>
                  </a:lnTo>
                  <a:lnTo>
                    <a:pt x="471" y="515"/>
                  </a:lnTo>
                  <a:lnTo>
                    <a:pt x="467" y="507"/>
                  </a:lnTo>
                  <a:lnTo>
                    <a:pt x="467" y="504"/>
                  </a:lnTo>
                  <a:lnTo>
                    <a:pt x="464" y="497"/>
                  </a:lnTo>
                  <a:lnTo>
                    <a:pt x="460" y="486"/>
                  </a:lnTo>
                  <a:lnTo>
                    <a:pt x="456" y="475"/>
                  </a:lnTo>
                  <a:lnTo>
                    <a:pt x="456" y="464"/>
                  </a:lnTo>
                  <a:lnTo>
                    <a:pt x="460" y="449"/>
                  </a:lnTo>
                  <a:lnTo>
                    <a:pt x="464" y="438"/>
                  </a:lnTo>
                  <a:lnTo>
                    <a:pt x="471" y="428"/>
                  </a:lnTo>
                  <a:lnTo>
                    <a:pt x="478" y="417"/>
                  </a:lnTo>
                  <a:lnTo>
                    <a:pt x="485" y="409"/>
                  </a:lnTo>
                  <a:lnTo>
                    <a:pt x="496" y="399"/>
                  </a:lnTo>
                  <a:lnTo>
                    <a:pt x="507" y="391"/>
                  </a:lnTo>
                  <a:lnTo>
                    <a:pt x="518" y="388"/>
                  </a:lnTo>
                  <a:lnTo>
                    <a:pt x="532" y="380"/>
                  </a:lnTo>
                  <a:lnTo>
                    <a:pt x="543" y="377"/>
                  </a:lnTo>
                  <a:lnTo>
                    <a:pt x="558" y="377"/>
                  </a:lnTo>
                  <a:lnTo>
                    <a:pt x="572" y="377"/>
                  </a:lnTo>
                  <a:lnTo>
                    <a:pt x="583" y="380"/>
                  </a:lnTo>
                  <a:lnTo>
                    <a:pt x="598" y="388"/>
                  </a:lnTo>
                  <a:lnTo>
                    <a:pt x="605" y="391"/>
                  </a:lnTo>
                  <a:lnTo>
                    <a:pt x="616" y="402"/>
                  </a:lnTo>
                  <a:lnTo>
                    <a:pt x="623" y="409"/>
                  </a:lnTo>
                  <a:lnTo>
                    <a:pt x="630" y="417"/>
                  </a:lnTo>
                  <a:lnTo>
                    <a:pt x="638" y="428"/>
                  </a:lnTo>
                  <a:lnTo>
                    <a:pt x="641" y="442"/>
                  </a:lnTo>
                  <a:lnTo>
                    <a:pt x="645" y="453"/>
                  </a:lnTo>
                  <a:lnTo>
                    <a:pt x="649" y="464"/>
                  </a:lnTo>
                  <a:lnTo>
                    <a:pt x="649" y="475"/>
                  </a:lnTo>
                  <a:lnTo>
                    <a:pt x="645" y="486"/>
                  </a:lnTo>
                  <a:lnTo>
                    <a:pt x="641" y="497"/>
                  </a:lnTo>
                  <a:lnTo>
                    <a:pt x="638" y="507"/>
                  </a:lnTo>
                  <a:lnTo>
                    <a:pt x="630" y="515"/>
                  </a:lnTo>
                  <a:lnTo>
                    <a:pt x="616" y="529"/>
                  </a:lnTo>
                  <a:lnTo>
                    <a:pt x="601" y="544"/>
                  </a:lnTo>
                  <a:lnTo>
                    <a:pt x="598" y="551"/>
                  </a:lnTo>
                  <a:lnTo>
                    <a:pt x="594" y="558"/>
                  </a:lnTo>
                  <a:lnTo>
                    <a:pt x="591" y="562"/>
                  </a:lnTo>
                  <a:lnTo>
                    <a:pt x="587" y="569"/>
                  </a:lnTo>
                  <a:lnTo>
                    <a:pt x="587" y="576"/>
                  </a:lnTo>
                  <a:lnTo>
                    <a:pt x="587" y="580"/>
                  </a:lnTo>
                  <a:lnTo>
                    <a:pt x="587" y="587"/>
                  </a:lnTo>
                  <a:lnTo>
                    <a:pt x="587" y="591"/>
                  </a:lnTo>
                  <a:lnTo>
                    <a:pt x="591" y="594"/>
                  </a:lnTo>
                  <a:lnTo>
                    <a:pt x="594" y="602"/>
                  </a:lnTo>
                  <a:lnTo>
                    <a:pt x="598" y="605"/>
                  </a:lnTo>
                  <a:lnTo>
                    <a:pt x="605" y="613"/>
                  </a:lnTo>
                  <a:lnTo>
                    <a:pt x="616" y="616"/>
                  </a:lnTo>
                  <a:lnTo>
                    <a:pt x="623" y="623"/>
                  </a:lnTo>
                  <a:lnTo>
                    <a:pt x="638" y="627"/>
                  </a:lnTo>
                  <a:lnTo>
                    <a:pt x="652" y="631"/>
                  </a:lnTo>
                  <a:lnTo>
                    <a:pt x="670" y="634"/>
                  </a:lnTo>
                  <a:lnTo>
                    <a:pt x="685" y="634"/>
                  </a:lnTo>
                  <a:lnTo>
                    <a:pt x="703" y="638"/>
                  </a:lnTo>
                  <a:lnTo>
                    <a:pt x="721" y="638"/>
                  </a:lnTo>
                  <a:lnTo>
                    <a:pt x="739" y="638"/>
                  </a:lnTo>
                  <a:lnTo>
                    <a:pt x="757" y="638"/>
                  </a:lnTo>
                  <a:lnTo>
                    <a:pt x="779" y="634"/>
                  </a:lnTo>
                  <a:lnTo>
                    <a:pt x="794" y="634"/>
                  </a:lnTo>
                  <a:lnTo>
                    <a:pt x="812" y="631"/>
                  </a:lnTo>
                  <a:lnTo>
                    <a:pt x="830" y="627"/>
                  </a:lnTo>
                  <a:lnTo>
                    <a:pt x="841" y="620"/>
                  </a:lnTo>
                  <a:lnTo>
                    <a:pt x="855" y="613"/>
                  </a:lnTo>
                  <a:lnTo>
                    <a:pt x="859" y="605"/>
                  </a:lnTo>
                  <a:lnTo>
                    <a:pt x="859" y="598"/>
                  </a:lnTo>
                  <a:lnTo>
                    <a:pt x="862" y="594"/>
                  </a:lnTo>
                  <a:lnTo>
                    <a:pt x="862" y="587"/>
                  </a:lnTo>
                  <a:lnTo>
                    <a:pt x="862" y="573"/>
                  </a:lnTo>
                  <a:lnTo>
                    <a:pt x="862" y="558"/>
                  </a:lnTo>
                  <a:lnTo>
                    <a:pt x="862" y="540"/>
                  </a:lnTo>
                  <a:lnTo>
                    <a:pt x="862" y="522"/>
                  </a:lnTo>
                  <a:lnTo>
                    <a:pt x="859" y="507"/>
                  </a:lnTo>
                  <a:lnTo>
                    <a:pt x="855" y="489"/>
                  </a:lnTo>
                  <a:lnTo>
                    <a:pt x="848" y="457"/>
                  </a:lnTo>
                  <a:lnTo>
                    <a:pt x="841" y="424"/>
                  </a:lnTo>
                  <a:lnTo>
                    <a:pt x="841" y="409"/>
                  </a:lnTo>
                  <a:lnTo>
                    <a:pt x="841" y="395"/>
                  </a:lnTo>
                  <a:lnTo>
                    <a:pt x="841" y="384"/>
                  </a:lnTo>
                  <a:lnTo>
                    <a:pt x="844" y="373"/>
                  </a:lnTo>
                  <a:lnTo>
                    <a:pt x="848" y="366"/>
                  </a:lnTo>
                  <a:lnTo>
                    <a:pt x="852" y="355"/>
                  </a:lnTo>
                  <a:lnTo>
                    <a:pt x="859" y="348"/>
                  </a:lnTo>
                  <a:lnTo>
                    <a:pt x="866" y="344"/>
                  </a:lnTo>
                  <a:lnTo>
                    <a:pt x="873" y="337"/>
                  </a:lnTo>
                  <a:lnTo>
                    <a:pt x="881" y="330"/>
                  </a:lnTo>
                  <a:lnTo>
                    <a:pt x="891" y="326"/>
                  </a:lnTo>
                  <a:lnTo>
                    <a:pt x="899" y="322"/>
                  </a:lnTo>
                  <a:lnTo>
                    <a:pt x="906" y="322"/>
                  </a:lnTo>
                  <a:lnTo>
                    <a:pt x="917" y="319"/>
                  </a:lnTo>
                  <a:lnTo>
                    <a:pt x="924" y="319"/>
                  </a:lnTo>
                  <a:lnTo>
                    <a:pt x="935" y="322"/>
                  </a:lnTo>
                  <a:lnTo>
                    <a:pt x="942" y="322"/>
                  </a:lnTo>
                  <a:lnTo>
                    <a:pt x="949" y="330"/>
                  </a:lnTo>
                  <a:lnTo>
                    <a:pt x="957" y="333"/>
                  </a:lnTo>
                  <a:lnTo>
                    <a:pt x="964" y="341"/>
                  </a:lnTo>
                  <a:lnTo>
                    <a:pt x="971" y="348"/>
                  </a:lnTo>
                  <a:lnTo>
                    <a:pt x="978" y="351"/>
                  </a:lnTo>
                  <a:lnTo>
                    <a:pt x="986" y="359"/>
                  </a:lnTo>
                  <a:lnTo>
                    <a:pt x="997" y="362"/>
                  </a:lnTo>
                  <a:lnTo>
                    <a:pt x="1007" y="362"/>
                  </a:lnTo>
                  <a:lnTo>
                    <a:pt x="1018" y="362"/>
                  </a:lnTo>
                  <a:lnTo>
                    <a:pt x="1029" y="359"/>
                  </a:lnTo>
                  <a:lnTo>
                    <a:pt x="1040" y="355"/>
                  </a:lnTo>
                  <a:lnTo>
                    <a:pt x="1051" y="351"/>
                  </a:lnTo>
                  <a:lnTo>
                    <a:pt x="1058" y="344"/>
                  </a:lnTo>
                  <a:lnTo>
                    <a:pt x="1069" y="341"/>
                  </a:lnTo>
                  <a:lnTo>
                    <a:pt x="1076" y="333"/>
                  </a:lnTo>
                  <a:lnTo>
                    <a:pt x="1080" y="326"/>
                  </a:lnTo>
                  <a:lnTo>
                    <a:pt x="1087" y="315"/>
                  </a:lnTo>
                  <a:lnTo>
                    <a:pt x="1087" y="304"/>
                  </a:lnTo>
                  <a:lnTo>
                    <a:pt x="1091" y="297"/>
                  </a:lnTo>
                  <a:lnTo>
                    <a:pt x="1087" y="282"/>
                  </a:lnTo>
                  <a:lnTo>
                    <a:pt x="1087" y="268"/>
                  </a:lnTo>
                  <a:lnTo>
                    <a:pt x="1080" y="257"/>
                  </a:lnTo>
                  <a:lnTo>
                    <a:pt x="1076" y="246"/>
                  </a:lnTo>
                  <a:lnTo>
                    <a:pt x="1069" y="235"/>
                  </a:lnTo>
                  <a:lnTo>
                    <a:pt x="1058" y="228"/>
                  </a:lnTo>
                  <a:lnTo>
                    <a:pt x="1051" y="224"/>
                  </a:lnTo>
                  <a:lnTo>
                    <a:pt x="1040" y="217"/>
                  </a:lnTo>
                  <a:lnTo>
                    <a:pt x="1029" y="214"/>
                  </a:lnTo>
                  <a:lnTo>
                    <a:pt x="1018" y="210"/>
                  </a:lnTo>
                  <a:lnTo>
                    <a:pt x="1007" y="210"/>
                  </a:lnTo>
                  <a:lnTo>
                    <a:pt x="997" y="210"/>
                  </a:lnTo>
                  <a:lnTo>
                    <a:pt x="986" y="214"/>
                  </a:lnTo>
                  <a:lnTo>
                    <a:pt x="978" y="217"/>
                  </a:lnTo>
                  <a:lnTo>
                    <a:pt x="971" y="221"/>
                  </a:lnTo>
                  <a:lnTo>
                    <a:pt x="964" y="224"/>
                  </a:lnTo>
                  <a:lnTo>
                    <a:pt x="957" y="232"/>
                  </a:lnTo>
                  <a:lnTo>
                    <a:pt x="949" y="235"/>
                  </a:lnTo>
                  <a:lnTo>
                    <a:pt x="939" y="239"/>
                  </a:lnTo>
                  <a:lnTo>
                    <a:pt x="931" y="243"/>
                  </a:lnTo>
                  <a:lnTo>
                    <a:pt x="920" y="243"/>
                  </a:lnTo>
                  <a:lnTo>
                    <a:pt x="910" y="243"/>
                  </a:lnTo>
                  <a:lnTo>
                    <a:pt x="899" y="243"/>
                  </a:lnTo>
                  <a:lnTo>
                    <a:pt x="891" y="243"/>
                  </a:lnTo>
                  <a:lnTo>
                    <a:pt x="881" y="239"/>
                  </a:lnTo>
                  <a:lnTo>
                    <a:pt x="870" y="235"/>
                  </a:lnTo>
                  <a:lnTo>
                    <a:pt x="862" y="235"/>
                  </a:lnTo>
                  <a:lnTo>
                    <a:pt x="855" y="228"/>
                  </a:lnTo>
                  <a:lnTo>
                    <a:pt x="848" y="224"/>
                  </a:lnTo>
                  <a:lnTo>
                    <a:pt x="841" y="217"/>
                  </a:lnTo>
                  <a:lnTo>
                    <a:pt x="841" y="210"/>
                  </a:lnTo>
                  <a:lnTo>
                    <a:pt x="837" y="203"/>
                  </a:lnTo>
                  <a:lnTo>
                    <a:pt x="837" y="192"/>
                  </a:lnTo>
                  <a:lnTo>
                    <a:pt x="837" y="170"/>
                  </a:lnTo>
                  <a:lnTo>
                    <a:pt x="837" y="145"/>
                  </a:lnTo>
                  <a:lnTo>
                    <a:pt x="841" y="116"/>
                  </a:lnTo>
                  <a:lnTo>
                    <a:pt x="844" y="87"/>
                  </a:lnTo>
                  <a:lnTo>
                    <a:pt x="848" y="58"/>
                  </a:lnTo>
                  <a:lnTo>
                    <a:pt x="852" y="36"/>
                  </a:lnTo>
                  <a:lnTo>
                    <a:pt x="855" y="14"/>
                  </a:lnTo>
                  <a:lnTo>
                    <a:pt x="852" y="14"/>
                  </a:lnTo>
                  <a:lnTo>
                    <a:pt x="852" y="14"/>
                  </a:lnTo>
                  <a:lnTo>
                    <a:pt x="819" y="14"/>
                  </a:lnTo>
                  <a:lnTo>
                    <a:pt x="786" y="10"/>
                  </a:lnTo>
                  <a:lnTo>
                    <a:pt x="757" y="10"/>
                  </a:lnTo>
                  <a:lnTo>
                    <a:pt x="732" y="7"/>
                  </a:lnTo>
                  <a:lnTo>
                    <a:pt x="707" y="3"/>
                  </a:lnTo>
                  <a:lnTo>
                    <a:pt x="685" y="3"/>
                  </a:lnTo>
                  <a:lnTo>
                    <a:pt x="670" y="0"/>
                  </a:lnTo>
                  <a:lnTo>
                    <a:pt x="659" y="0"/>
                  </a:lnTo>
                  <a:lnTo>
                    <a:pt x="652" y="0"/>
                  </a:lnTo>
                  <a:lnTo>
                    <a:pt x="649" y="3"/>
                  </a:lnTo>
                  <a:lnTo>
                    <a:pt x="641" y="7"/>
                  </a:lnTo>
                  <a:lnTo>
                    <a:pt x="634" y="14"/>
                  </a:lnTo>
                  <a:lnTo>
                    <a:pt x="630" y="18"/>
                  </a:lnTo>
                  <a:lnTo>
                    <a:pt x="623" y="25"/>
                  </a:lnTo>
                  <a:lnTo>
                    <a:pt x="623" y="36"/>
                  </a:lnTo>
                  <a:lnTo>
                    <a:pt x="620" y="43"/>
                  </a:lnTo>
                  <a:lnTo>
                    <a:pt x="616" y="54"/>
                  </a:lnTo>
                  <a:lnTo>
                    <a:pt x="616" y="65"/>
                  </a:lnTo>
                  <a:lnTo>
                    <a:pt x="616" y="76"/>
                  </a:lnTo>
                  <a:lnTo>
                    <a:pt x="620" y="83"/>
                  </a:lnTo>
                  <a:lnTo>
                    <a:pt x="623" y="94"/>
                  </a:lnTo>
                  <a:lnTo>
                    <a:pt x="627" y="105"/>
                  </a:lnTo>
                  <a:lnTo>
                    <a:pt x="634" y="116"/>
                  </a:lnTo>
                  <a:lnTo>
                    <a:pt x="641" y="123"/>
                  </a:lnTo>
                  <a:lnTo>
                    <a:pt x="652" y="130"/>
                  </a:lnTo>
                  <a:lnTo>
                    <a:pt x="656" y="141"/>
                  </a:lnTo>
                  <a:lnTo>
                    <a:pt x="663" y="156"/>
                  </a:lnTo>
                  <a:lnTo>
                    <a:pt x="667" y="163"/>
                  </a:lnTo>
                  <a:lnTo>
                    <a:pt x="667" y="177"/>
                  </a:lnTo>
                  <a:lnTo>
                    <a:pt x="667" y="188"/>
                  </a:lnTo>
                  <a:lnTo>
                    <a:pt x="667" y="199"/>
                  </a:lnTo>
                  <a:lnTo>
                    <a:pt x="659" y="206"/>
                  </a:lnTo>
                  <a:lnTo>
                    <a:pt x="656" y="217"/>
                  </a:lnTo>
                  <a:lnTo>
                    <a:pt x="649" y="228"/>
                  </a:lnTo>
                  <a:lnTo>
                    <a:pt x="641" y="235"/>
                  </a:lnTo>
                  <a:lnTo>
                    <a:pt x="630" y="243"/>
                  </a:lnTo>
                  <a:lnTo>
                    <a:pt x="620" y="250"/>
                  </a:lnTo>
                  <a:lnTo>
                    <a:pt x="605" y="253"/>
                  </a:lnTo>
                  <a:lnTo>
                    <a:pt x="591" y="257"/>
                  </a:lnTo>
                  <a:lnTo>
                    <a:pt x="576" y="261"/>
                  </a:lnTo>
                  <a:lnTo>
                    <a:pt x="569" y="261"/>
                  </a:lnTo>
                  <a:lnTo>
                    <a:pt x="562" y="261"/>
                  </a:lnTo>
                  <a:lnTo>
                    <a:pt x="554" y="257"/>
                  </a:lnTo>
                  <a:lnTo>
                    <a:pt x="547" y="257"/>
                  </a:lnTo>
                  <a:lnTo>
                    <a:pt x="540" y="253"/>
                  </a:lnTo>
                  <a:lnTo>
                    <a:pt x="532" y="250"/>
                  </a:lnTo>
                  <a:lnTo>
                    <a:pt x="529" y="246"/>
                  </a:lnTo>
                  <a:lnTo>
                    <a:pt x="522" y="243"/>
                  </a:lnTo>
                  <a:lnTo>
                    <a:pt x="511" y="235"/>
                  </a:lnTo>
                  <a:lnTo>
                    <a:pt x="503" y="228"/>
                  </a:lnTo>
                  <a:lnTo>
                    <a:pt x="496" y="217"/>
                  </a:lnTo>
                  <a:lnTo>
                    <a:pt x="493" y="206"/>
                  </a:lnTo>
                  <a:lnTo>
                    <a:pt x="489" y="195"/>
                  </a:lnTo>
                  <a:lnTo>
                    <a:pt x="489" y="181"/>
                  </a:lnTo>
                  <a:lnTo>
                    <a:pt x="485" y="170"/>
                  </a:lnTo>
                  <a:lnTo>
                    <a:pt x="489" y="159"/>
                  </a:lnTo>
                  <a:lnTo>
                    <a:pt x="489" y="145"/>
                  </a:lnTo>
                  <a:lnTo>
                    <a:pt x="496" y="137"/>
                  </a:lnTo>
                  <a:lnTo>
                    <a:pt x="500" y="127"/>
                  </a:lnTo>
                  <a:lnTo>
                    <a:pt x="507" y="119"/>
                  </a:lnTo>
                  <a:lnTo>
                    <a:pt x="514" y="112"/>
                  </a:lnTo>
                  <a:lnTo>
                    <a:pt x="518" y="105"/>
                  </a:lnTo>
                  <a:lnTo>
                    <a:pt x="522" y="98"/>
                  </a:lnTo>
                  <a:lnTo>
                    <a:pt x="525" y="90"/>
                  </a:lnTo>
                  <a:lnTo>
                    <a:pt x="529" y="83"/>
                  </a:lnTo>
                  <a:lnTo>
                    <a:pt x="529" y="76"/>
                  </a:lnTo>
                  <a:lnTo>
                    <a:pt x="529" y="68"/>
                  </a:lnTo>
                  <a:lnTo>
                    <a:pt x="525" y="61"/>
                  </a:lnTo>
                  <a:lnTo>
                    <a:pt x="522" y="54"/>
                  </a:lnTo>
                  <a:lnTo>
                    <a:pt x="518" y="47"/>
                  </a:lnTo>
                  <a:lnTo>
                    <a:pt x="511" y="39"/>
                  </a:lnTo>
                  <a:lnTo>
                    <a:pt x="500" y="36"/>
                  </a:lnTo>
                  <a:lnTo>
                    <a:pt x="489" y="29"/>
                  </a:lnTo>
                  <a:lnTo>
                    <a:pt x="478" y="25"/>
                  </a:lnTo>
                  <a:lnTo>
                    <a:pt x="464" y="18"/>
                  </a:lnTo>
                  <a:lnTo>
                    <a:pt x="445" y="14"/>
                  </a:lnTo>
                  <a:lnTo>
                    <a:pt x="427" y="14"/>
                  </a:lnTo>
                  <a:lnTo>
                    <a:pt x="402" y="10"/>
                  </a:lnTo>
                  <a:lnTo>
                    <a:pt x="373" y="10"/>
                  </a:lnTo>
                  <a:lnTo>
                    <a:pt x="344" y="14"/>
                  </a:lnTo>
                  <a:lnTo>
                    <a:pt x="311" y="14"/>
                  </a:lnTo>
                  <a:lnTo>
                    <a:pt x="282" y="18"/>
                  </a:lnTo>
                  <a:lnTo>
                    <a:pt x="257" y="21"/>
                  </a:lnTo>
                  <a:lnTo>
                    <a:pt x="239" y="25"/>
                  </a:lnTo>
                  <a:lnTo>
                    <a:pt x="242" y="47"/>
                  </a:lnTo>
                  <a:lnTo>
                    <a:pt x="253" y="72"/>
                  </a:lnTo>
                  <a:lnTo>
                    <a:pt x="261" y="105"/>
                  </a:lnTo>
                  <a:lnTo>
                    <a:pt x="268" y="137"/>
                  </a:lnTo>
                  <a:lnTo>
                    <a:pt x="268" y="152"/>
                  </a:lnTo>
                  <a:lnTo>
                    <a:pt x="271" y="170"/>
                  </a:lnTo>
                  <a:lnTo>
                    <a:pt x="271" y="185"/>
                  </a:lnTo>
                  <a:lnTo>
                    <a:pt x="271" y="199"/>
                  </a:lnTo>
                  <a:lnTo>
                    <a:pt x="271" y="210"/>
                  </a:lnTo>
                  <a:lnTo>
                    <a:pt x="268" y="221"/>
                  </a:lnTo>
                  <a:lnTo>
                    <a:pt x="264" y="224"/>
                  </a:lnTo>
                  <a:lnTo>
                    <a:pt x="264" y="232"/>
                  </a:lnTo>
                  <a:lnTo>
                    <a:pt x="261" y="235"/>
                  </a:lnTo>
                  <a:lnTo>
                    <a:pt x="257" y="235"/>
                  </a:lnTo>
                  <a:lnTo>
                    <a:pt x="253" y="243"/>
                  </a:lnTo>
                  <a:lnTo>
                    <a:pt x="242" y="246"/>
                  </a:lnTo>
                  <a:lnTo>
                    <a:pt x="239" y="250"/>
                  </a:lnTo>
                  <a:lnTo>
                    <a:pt x="228" y="253"/>
                  </a:lnTo>
                  <a:lnTo>
                    <a:pt x="221" y="257"/>
                  </a:lnTo>
                  <a:lnTo>
                    <a:pt x="213" y="257"/>
                  </a:lnTo>
                  <a:lnTo>
                    <a:pt x="206" y="257"/>
                  </a:lnTo>
                  <a:lnTo>
                    <a:pt x="199" y="257"/>
                  </a:lnTo>
                  <a:lnTo>
                    <a:pt x="192" y="257"/>
                  </a:lnTo>
                  <a:lnTo>
                    <a:pt x="184" y="257"/>
                  </a:lnTo>
                  <a:lnTo>
                    <a:pt x="177" y="253"/>
                  </a:lnTo>
                  <a:lnTo>
                    <a:pt x="170" y="253"/>
                  </a:lnTo>
                  <a:lnTo>
                    <a:pt x="163" y="250"/>
                  </a:lnTo>
                  <a:lnTo>
                    <a:pt x="155" y="246"/>
                  </a:lnTo>
                  <a:lnTo>
                    <a:pt x="152" y="243"/>
                  </a:lnTo>
                  <a:lnTo>
                    <a:pt x="148" y="235"/>
                  </a:lnTo>
                  <a:lnTo>
                    <a:pt x="141" y="232"/>
                  </a:lnTo>
                  <a:lnTo>
                    <a:pt x="130" y="224"/>
                  </a:lnTo>
                  <a:lnTo>
                    <a:pt x="119" y="221"/>
                  </a:lnTo>
                  <a:lnTo>
                    <a:pt x="108" y="217"/>
                  </a:lnTo>
                  <a:lnTo>
                    <a:pt x="97" y="217"/>
                  </a:lnTo>
                  <a:lnTo>
                    <a:pt x="87" y="217"/>
                  </a:lnTo>
                  <a:lnTo>
                    <a:pt x="72" y="217"/>
                  </a:lnTo>
                  <a:lnTo>
                    <a:pt x="61" y="221"/>
                  </a:lnTo>
                  <a:lnTo>
                    <a:pt x="50" y="224"/>
                  </a:lnTo>
                  <a:lnTo>
                    <a:pt x="39" y="232"/>
                  </a:lnTo>
                  <a:lnTo>
                    <a:pt x="29" y="243"/>
                  </a:lnTo>
                  <a:lnTo>
                    <a:pt x="18" y="250"/>
                  </a:lnTo>
                  <a:lnTo>
                    <a:pt x="14" y="257"/>
                  </a:lnTo>
                  <a:lnTo>
                    <a:pt x="10" y="261"/>
                  </a:lnTo>
                  <a:lnTo>
                    <a:pt x="10" y="268"/>
                  </a:lnTo>
                  <a:lnTo>
                    <a:pt x="7" y="275"/>
                  </a:lnTo>
                  <a:lnTo>
                    <a:pt x="3" y="282"/>
                  </a:lnTo>
                  <a:lnTo>
                    <a:pt x="3" y="290"/>
                  </a:lnTo>
                  <a:lnTo>
                    <a:pt x="0" y="301"/>
                  </a:lnTo>
                  <a:lnTo>
                    <a:pt x="0" y="308"/>
                  </a:lnTo>
                  <a:lnTo>
                    <a:pt x="0" y="315"/>
                  </a:lnTo>
                  <a:lnTo>
                    <a:pt x="3" y="322"/>
                  </a:lnTo>
                  <a:lnTo>
                    <a:pt x="3" y="330"/>
                  </a:lnTo>
                  <a:lnTo>
                    <a:pt x="7" y="333"/>
                  </a:lnTo>
                  <a:lnTo>
                    <a:pt x="7" y="341"/>
                  </a:lnTo>
                  <a:lnTo>
                    <a:pt x="10" y="344"/>
                  </a:lnTo>
                  <a:lnTo>
                    <a:pt x="14" y="351"/>
                  </a:lnTo>
                  <a:lnTo>
                    <a:pt x="18" y="355"/>
                  </a:lnTo>
                  <a:lnTo>
                    <a:pt x="25" y="366"/>
                  </a:lnTo>
                  <a:lnTo>
                    <a:pt x="36" y="373"/>
                  </a:lnTo>
                  <a:lnTo>
                    <a:pt x="47" y="377"/>
                  </a:lnTo>
                  <a:lnTo>
                    <a:pt x="58" y="380"/>
                  </a:lnTo>
                  <a:lnTo>
                    <a:pt x="68" y="384"/>
                  </a:lnTo>
                  <a:lnTo>
                    <a:pt x="79" y="388"/>
                  </a:lnTo>
                  <a:lnTo>
                    <a:pt x="94" y="388"/>
                  </a:lnTo>
                  <a:lnTo>
                    <a:pt x="105" y="388"/>
                  </a:lnTo>
                  <a:lnTo>
                    <a:pt x="112" y="384"/>
                  </a:lnTo>
                  <a:lnTo>
                    <a:pt x="123" y="380"/>
                  </a:lnTo>
                  <a:lnTo>
                    <a:pt x="130" y="377"/>
                  </a:lnTo>
                  <a:lnTo>
                    <a:pt x="134" y="370"/>
                  </a:lnTo>
                  <a:lnTo>
                    <a:pt x="141" y="366"/>
                  </a:lnTo>
                  <a:lnTo>
                    <a:pt x="148" y="362"/>
                  </a:lnTo>
                  <a:lnTo>
                    <a:pt x="155" y="359"/>
                  </a:lnTo>
                  <a:lnTo>
                    <a:pt x="163" y="355"/>
                  </a:lnTo>
                  <a:lnTo>
                    <a:pt x="170" y="355"/>
                  </a:lnTo>
                  <a:lnTo>
                    <a:pt x="181" y="355"/>
                  </a:lnTo>
                  <a:lnTo>
                    <a:pt x="188" y="359"/>
                  </a:lnTo>
                  <a:lnTo>
                    <a:pt x="195" y="359"/>
                  </a:lnTo>
                  <a:lnTo>
                    <a:pt x="206" y="362"/>
                  </a:lnTo>
                  <a:lnTo>
                    <a:pt x="213" y="366"/>
                  </a:lnTo>
                  <a:lnTo>
                    <a:pt x="217" y="370"/>
                  </a:lnTo>
                  <a:lnTo>
                    <a:pt x="224" y="377"/>
                  </a:lnTo>
                  <a:lnTo>
                    <a:pt x="228" y="384"/>
                  </a:lnTo>
                  <a:lnTo>
                    <a:pt x="235" y="388"/>
                  </a:lnTo>
                  <a:lnTo>
                    <a:pt x="235" y="395"/>
                  </a:lnTo>
                  <a:lnTo>
                    <a:pt x="239" y="402"/>
                  </a:lnTo>
                  <a:lnTo>
                    <a:pt x="235" y="420"/>
                  </a:lnTo>
                  <a:lnTo>
                    <a:pt x="235" y="442"/>
                  </a:lnTo>
                  <a:lnTo>
                    <a:pt x="232" y="467"/>
                  </a:lnTo>
                  <a:lnTo>
                    <a:pt x="232" y="497"/>
                  </a:lnTo>
                  <a:lnTo>
                    <a:pt x="228" y="529"/>
                  </a:lnTo>
                  <a:lnTo>
                    <a:pt x="228" y="558"/>
                  </a:lnTo>
                  <a:lnTo>
                    <a:pt x="232" y="573"/>
                  </a:lnTo>
                  <a:lnTo>
                    <a:pt x="232" y="587"/>
                  </a:lnTo>
                  <a:lnTo>
                    <a:pt x="235" y="598"/>
                  </a:lnTo>
                  <a:lnTo>
                    <a:pt x="239" y="613"/>
                  </a:lnTo>
                  <a:lnTo>
                    <a:pt x="242" y="616"/>
                  </a:lnTo>
                  <a:lnTo>
                    <a:pt x="253" y="616"/>
                  </a:lnTo>
                  <a:lnTo>
                    <a:pt x="264" y="620"/>
                  </a:lnTo>
                  <a:lnTo>
                    <a:pt x="275" y="620"/>
                  </a:lnTo>
                  <a:lnTo>
                    <a:pt x="304" y="620"/>
                  </a:lnTo>
                  <a:lnTo>
                    <a:pt x="333" y="620"/>
                  </a:lnTo>
                  <a:lnTo>
                    <a:pt x="369" y="616"/>
                  </a:lnTo>
                  <a:lnTo>
                    <a:pt x="402" y="616"/>
                  </a:lnTo>
                  <a:lnTo>
                    <a:pt x="438" y="613"/>
                  </a:lnTo>
                  <a:lnTo>
                    <a:pt x="471" y="613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19200" y="673200"/>
              <a:ext cx="2168280" cy="1298160"/>
            </a:xfrm>
            <a:custGeom>
              <a:avLst/>
              <a:gdLst/>
              <a:ahLst/>
              <a:rect l="l" t="t" r="r" b="b"/>
              <a:pathLst>
                <a:path w="1102" h="649">
                  <a:moveTo>
                    <a:pt x="482" y="624"/>
                  </a:moveTo>
                  <a:lnTo>
                    <a:pt x="486" y="624"/>
                  </a:lnTo>
                  <a:lnTo>
                    <a:pt x="486" y="624"/>
                  </a:lnTo>
                  <a:lnTo>
                    <a:pt x="497" y="620"/>
                  </a:lnTo>
                  <a:lnTo>
                    <a:pt x="493" y="613"/>
                  </a:lnTo>
                  <a:lnTo>
                    <a:pt x="493" y="620"/>
                  </a:lnTo>
                  <a:lnTo>
                    <a:pt x="497" y="620"/>
                  </a:lnTo>
                  <a:lnTo>
                    <a:pt x="500" y="620"/>
                  </a:lnTo>
                  <a:lnTo>
                    <a:pt x="500" y="620"/>
                  </a:lnTo>
                  <a:lnTo>
                    <a:pt x="507" y="617"/>
                  </a:lnTo>
                  <a:lnTo>
                    <a:pt x="507" y="613"/>
                  </a:lnTo>
                  <a:lnTo>
                    <a:pt x="511" y="613"/>
                  </a:lnTo>
                  <a:lnTo>
                    <a:pt x="515" y="606"/>
                  </a:lnTo>
                  <a:lnTo>
                    <a:pt x="507" y="602"/>
                  </a:lnTo>
                  <a:lnTo>
                    <a:pt x="511" y="606"/>
                  </a:lnTo>
                  <a:lnTo>
                    <a:pt x="515" y="602"/>
                  </a:lnTo>
                  <a:lnTo>
                    <a:pt x="518" y="602"/>
                  </a:lnTo>
                  <a:lnTo>
                    <a:pt x="518" y="598"/>
                  </a:lnTo>
                  <a:lnTo>
                    <a:pt x="518" y="595"/>
                  </a:lnTo>
                  <a:lnTo>
                    <a:pt x="511" y="595"/>
                  </a:lnTo>
                  <a:lnTo>
                    <a:pt x="518" y="598"/>
                  </a:lnTo>
                  <a:lnTo>
                    <a:pt x="522" y="591"/>
                  </a:lnTo>
                  <a:lnTo>
                    <a:pt x="522" y="591"/>
                  </a:lnTo>
                  <a:lnTo>
                    <a:pt x="522" y="588"/>
                  </a:lnTo>
                  <a:lnTo>
                    <a:pt x="522" y="580"/>
                  </a:lnTo>
                  <a:lnTo>
                    <a:pt x="522" y="580"/>
                  </a:lnTo>
                  <a:lnTo>
                    <a:pt x="522" y="580"/>
                  </a:lnTo>
                  <a:lnTo>
                    <a:pt x="518" y="573"/>
                  </a:lnTo>
                  <a:lnTo>
                    <a:pt x="511" y="573"/>
                  </a:lnTo>
                  <a:lnTo>
                    <a:pt x="518" y="573"/>
                  </a:lnTo>
                  <a:lnTo>
                    <a:pt x="518" y="566"/>
                  </a:lnTo>
                  <a:lnTo>
                    <a:pt x="518" y="566"/>
                  </a:lnTo>
                  <a:lnTo>
                    <a:pt x="518" y="566"/>
                  </a:lnTo>
                  <a:lnTo>
                    <a:pt x="515" y="559"/>
                  </a:lnTo>
                  <a:lnTo>
                    <a:pt x="515" y="559"/>
                  </a:lnTo>
                  <a:lnTo>
                    <a:pt x="511" y="555"/>
                  </a:lnTo>
                  <a:lnTo>
                    <a:pt x="504" y="548"/>
                  </a:lnTo>
                  <a:lnTo>
                    <a:pt x="500" y="551"/>
                  </a:lnTo>
                  <a:lnTo>
                    <a:pt x="507" y="551"/>
                  </a:lnTo>
                  <a:lnTo>
                    <a:pt x="504" y="540"/>
                  </a:lnTo>
                  <a:lnTo>
                    <a:pt x="504" y="540"/>
                  </a:lnTo>
                  <a:lnTo>
                    <a:pt x="500" y="537"/>
                  </a:lnTo>
                  <a:lnTo>
                    <a:pt x="493" y="530"/>
                  </a:lnTo>
                  <a:lnTo>
                    <a:pt x="489" y="533"/>
                  </a:lnTo>
                  <a:lnTo>
                    <a:pt x="497" y="533"/>
                  </a:lnTo>
                  <a:lnTo>
                    <a:pt x="489" y="522"/>
                  </a:lnTo>
                  <a:lnTo>
                    <a:pt x="486" y="519"/>
                  </a:lnTo>
                  <a:lnTo>
                    <a:pt x="486" y="519"/>
                  </a:lnTo>
                  <a:lnTo>
                    <a:pt x="478" y="515"/>
                  </a:lnTo>
                  <a:lnTo>
                    <a:pt x="475" y="519"/>
                  </a:lnTo>
                  <a:lnTo>
                    <a:pt x="482" y="519"/>
                  </a:lnTo>
                  <a:lnTo>
                    <a:pt x="478" y="511"/>
                  </a:lnTo>
                  <a:lnTo>
                    <a:pt x="471" y="511"/>
                  </a:lnTo>
                  <a:lnTo>
                    <a:pt x="478" y="511"/>
                  </a:lnTo>
                  <a:lnTo>
                    <a:pt x="478" y="508"/>
                  </a:lnTo>
                  <a:lnTo>
                    <a:pt x="478" y="508"/>
                  </a:lnTo>
                  <a:lnTo>
                    <a:pt x="478" y="508"/>
                  </a:lnTo>
                  <a:lnTo>
                    <a:pt x="475" y="501"/>
                  </a:lnTo>
                  <a:lnTo>
                    <a:pt x="471" y="490"/>
                  </a:lnTo>
                  <a:lnTo>
                    <a:pt x="468" y="479"/>
                  </a:lnTo>
                  <a:lnTo>
                    <a:pt x="460" y="479"/>
                  </a:lnTo>
                  <a:lnTo>
                    <a:pt x="468" y="479"/>
                  </a:lnTo>
                  <a:lnTo>
                    <a:pt x="468" y="468"/>
                  </a:lnTo>
                  <a:lnTo>
                    <a:pt x="460" y="468"/>
                  </a:lnTo>
                  <a:lnTo>
                    <a:pt x="468" y="471"/>
                  </a:lnTo>
                  <a:lnTo>
                    <a:pt x="471" y="457"/>
                  </a:lnTo>
                  <a:lnTo>
                    <a:pt x="475" y="446"/>
                  </a:lnTo>
                  <a:lnTo>
                    <a:pt x="482" y="435"/>
                  </a:lnTo>
                  <a:lnTo>
                    <a:pt x="489" y="424"/>
                  </a:lnTo>
                  <a:lnTo>
                    <a:pt x="482" y="421"/>
                  </a:lnTo>
                  <a:lnTo>
                    <a:pt x="486" y="424"/>
                  </a:lnTo>
                  <a:lnTo>
                    <a:pt x="493" y="417"/>
                  </a:lnTo>
                  <a:lnTo>
                    <a:pt x="504" y="406"/>
                  </a:lnTo>
                  <a:lnTo>
                    <a:pt x="500" y="403"/>
                  </a:lnTo>
                  <a:lnTo>
                    <a:pt x="504" y="410"/>
                  </a:lnTo>
                  <a:lnTo>
                    <a:pt x="515" y="403"/>
                  </a:lnTo>
                  <a:lnTo>
                    <a:pt x="526" y="399"/>
                  </a:lnTo>
                  <a:lnTo>
                    <a:pt x="540" y="392"/>
                  </a:lnTo>
                  <a:lnTo>
                    <a:pt x="551" y="388"/>
                  </a:lnTo>
                  <a:lnTo>
                    <a:pt x="547" y="381"/>
                  </a:lnTo>
                  <a:lnTo>
                    <a:pt x="547" y="388"/>
                  </a:lnTo>
                  <a:lnTo>
                    <a:pt x="562" y="388"/>
                  </a:lnTo>
                  <a:lnTo>
                    <a:pt x="576" y="388"/>
                  </a:lnTo>
                  <a:lnTo>
                    <a:pt x="576" y="381"/>
                  </a:lnTo>
                  <a:lnTo>
                    <a:pt x="576" y="388"/>
                  </a:lnTo>
                  <a:lnTo>
                    <a:pt x="587" y="392"/>
                  </a:lnTo>
                  <a:lnTo>
                    <a:pt x="602" y="399"/>
                  </a:lnTo>
                  <a:lnTo>
                    <a:pt x="609" y="403"/>
                  </a:lnTo>
                  <a:lnTo>
                    <a:pt x="609" y="395"/>
                  </a:lnTo>
                  <a:lnTo>
                    <a:pt x="605" y="399"/>
                  </a:lnTo>
                  <a:lnTo>
                    <a:pt x="616" y="410"/>
                  </a:lnTo>
                  <a:lnTo>
                    <a:pt x="624" y="417"/>
                  </a:lnTo>
                  <a:lnTo>
                    <a:pt x="631" y="424"/>
                  </a:lnTo>
                  <a:lnTo>
                    <a:pt x="634" y="421"/>
                  </a:lnTo>
                  <a:lnTo>
                    <a:pt x="631" y="424"/>
                  </a:lnTo>
                  <a:lnTo>
                    <a:pt x="638" y="435"/>
                  </a:lnTo>
                  <a:lnTo>
                    <a:pt x="642" y="450"/>
                  </a:lnTo>
                  <a:lnTo>
                    <a:pt x="645" y="461"/>
                  </a:lnTo>
                  <a:lnTo>
                    <a:pt x="649" y="471"/>
                  </a:lnTo>
                  <a:lnTo>
                    <a:pt x="653" y="468"/>
                  </a:lnTo>
                  <a:lnTo>
                    <a:pt x="649" y="468"/>
                  </a:lnTo>
                  <a:lnTo>
                    <a:pt x="649" y="479"/>
                  </a:lnTo>
                  <a:lnTo>
                    <a:pt x="653" y="479"/>
                  </a:lnTo>
                  <a:lnTo>
                    <a:pt x="649" y="479"/>
                  </a:lnTo>
                  <a:lnTo>
                    <a:pt x="645" y="490"/>
                  </a:lnTo>
                  <a:lnTo>
                    <a:pt x="642" y="501"/>
                  </a:lnTo>
                  <a:lnTo>
                    <a:pt x="638" y="511"/>
                  </a:lnTo>
                  <a:lnTo>
                    <a:pt x="642" y="511"/>
                  </a:lnTo>
                  <a:lnTo>
                    <a:pt x="638" y="508"/>
                  </a:lnTo>
                  <a:lnTo>
                    <a:pt x="631" y="515"/>
                  </a:lnTo>
                  <a:lnTo>
                    <a:pt x="616" y="530"/>
                  </a:lnTo>
                  <a:lnTo>
                    <a:pt x="602" y="544"/>
                  </a:lnTo>
                  <a:lnTo>
                    <a:pt x="602" y="548"/>
                  </a:lnTo>
                  <a:lnTo>
                    <a:pt x="602" y="548"/>
                  </a:lnTo>
                  <a:lnTo>
                    <a:pt x="598" y="555"/>
                  </a:lnTo>
                  <a:lnTo>
                    <a:pt x="595" y="562"/>
                  </a:lnTo>
                  <a:lnTo>
                    <a:pt x="598" y="562"/>
                  </a:lnTo>
                  <a:lnTo>
                    <a:pt x="595" y="559"/>
                  </a:lnTo>
                  <a:lnTo>
                    <a:pt x="591" y="562"/>
                  </a:lnTo>
                  <a:lnTo>
                    <a:pt x="591" y="566"/>
                  </a:lnTo>
                  <a:lnTo>
                    <a:pt x="591" y="566"/>
                  </a:lnTo>
                  <a:lnTo>
                    <a:pt x="587" y="573"/>
                  </a:lnTo>
                  <a:lnTo>
                    <a:pt x="587" y="573"/>
                  </a:lnTo>
                  <a:lnTo>
                    <a:pt x="587" y="573"/>
                  </a:lnTo>
                  <a:lnTo>
                    <a:pt x="587" y="580"/>
                  </a:lnTo>
                  <a:lnTo>
                    <a:pt x="587" y="584"/>
                  </a:lnTo>
                  <a:lnTo>
                    <a:pt x="587" y="591"/>
                  </a:lnTo>
                  <a:lnTo>
                    <a:pt x="587" y="595"/>
                  </a:lnTo>
                  <a:lnTo>
                    <a:pt x="587" y="598"/>
                  </a:lnTo>
                  <a:lnTo>
                    <a:pt x="587" y="598"/>
                  </a:lnTo>
                  <a:lnTo>
                    <a:pt x="591" y="602"/>
                  </a:lnTo>
                  <a:lnTo>
                    <a:pt x="595" y="598"/>
                  </a:lnTo>
                  <a:lnTo>
                    <a:pt x="591" y="602"/>
                  </a:lnTo>
                  <a:lnTo>
                    <a:pt x="595" y="609"/>
                  </a:lnTo>
                  <a:lnTo>
                    <a:pt x="595" y="609"/>
                  </a:lnTo>
                  <a:lnTo>
                    <a:pt x="595" y="609"/>
                  </a:lnTo>
                  <a:lnTo>
                    <a:pt x="598" y="613"/>
                  </a:lnTo>
                  <a:lnTo>
                    <a:pt x="605" y="620"/>
                  </a:lnTo>
                  <a:lnTo>
                    <a:pt x="609" y="624"/>
                  </a:lnTo>
                  <a:lnTo>
                    <a:pt x="609" y="624"/>
                  </a:lnTo>
                  <a:lnTo>
                    <a:pt x="620" y="627"/>
                  </a:lnTo>
                  <a:lnTo>
                    <a:pt x="620" y="620"/>
                  </a:lnTo>
                  <a:lnTo>
                    <a:pt x="616" y="624"/>
                  </a:lnTo>
                  <a:lnTo>
                    <a:pt x="624" y="631"/>
                  </a:lnTo>
                  <a:lnTo>
                    <a:pt x="624" y="631"/>
                  </a:lnTo>
                  <a:lnTo>
                    <a:pt x="627" y="635"/>
                  </a:lnTo>
                  <a:lnTo>
                    <a:pt x="642" y="638"/>
                  </a:lnTo>
                  <a:lnTo>
                    <a:pt x="656" y="642"/>
                  </a:lnTo>
                  <a:lnTo>
                    <a:pt x="674" y="646"/>
                  </a:lnTo>
                  <a:lnTo>
                    <a:pt x="689" y="646"/>
                  </a:lnTo>
                  <a:lnTo>
                    <a:pt x="707" y="649"/>
                  </a:lnTo>
                  <a:lnTo>
                    <a:pt x="725" y="649"/>
                  </a:lnTo>
                  <a:lnTo>
                    <a:pt x="743" y="649"/>
                  </a:lnTo>
                  <a:lnTo>
                    <a:pt x="761" y="649"/>
                  </a:lnTo>
                  <a:lnTo>
                    <a:pt x="783" y="646"/>
                  </a:lnTo>
                  <a:lnTo>
                    <a:pt x="798" y="646"/>
                  </a:lnTo>
                  <a:lnTo>
                    <a:pt x="816" y="642"/>
                  </a:lnTo>
                  <a:lnTo>
                    <a:pt x="834" y="638"/>
                  </a:lnTo>
                  <a:lnTo>
                    <a:pt x="837" y="635"/>
                  </a:lnTo>
                  <a:lnTo>
                    <a:pt x="837" y="638"/>
                  </a:lnTo>
                  <a:lnTo>
                    <a:pt x="848" y="631"/>
                  </a:lnTo>
                  <a:lnTo>
                    <a:pt x="863" y="624"/>
                  </a:lnTo>
                  <a:lnTo>
                    <a:pt x="863" y="620"/>
                  </a:lnTo>
                  <a:lnTo>
                    <a:pt x="866" y="620"/>
                  </a:lnTo>
                  <a:lnTo>
                    <a:pt x="870" y="613"/>
                  </a:lnTo>
                  <a:lnTo>
                    <a:pt x="870" y="613"/>
                  </a:lnTo>
                  <a:lnTo>
                    <a:pt x="870" y="609"/>
                  </a:lnTo>
                  <a:lnTo>
                    <a:pt x="870" y="602"/>
                  </a:lnTo>
                  <a:lnTo>
                    <a:pt x="863" y="602"/>
                  </a:lnTo>
                  <a:lnTo>
                    <a:pt x="866" y="606"/>
                  </a:lnTo>
                  <a:lnTo>
                    <a:pt x="870" y="602"/>
                  </a:lnTo>
                  <a:lnTo>
                    <a:pt x="874" y="602"/>
                  </a:lnTo>
                  <a:lnTo>
                    <a:pt x="874" y="598"/>
                  </a:lnTo>
                  <a:lnTo>
                    <a:pt x="874" y="591"/>
                  </a:lnTo>
                  <a:lnTo>
                    <a:pt x="874" y="577"/>
                  </a:lnTo>
                  <a:lnTo>
                    <a:pt x="874" y="562"/>
                  </a:lnTo>
                  <a:lnTo>
                    <a:pt x="874" y="544"/>
                  </a:lnTo>
                  <a:lnTo>
                    <a:pt x="874" y="526"/>
                  </a:lnTo>
                  <a:lnTo>
                    <a:pt x="874" y="526"/>
                  </a:lnTo>
                  <a:lnTo>
                    <a:pt x="874" y="526"/>
                  </a:lnTo>
                  <a:lnTo>
                    <a:pt x="870" y="511"/>
                  </a:lnTo>
                  <a:lnTo>
                    <a:pt x="863" y="511"/>
                  </a:lnTo>
                  <a:lnTo>
                    <a:pt x="870" y="511"/>
                  </a:lnTo>
                  <a:lnTo>
                    <a:pt x="866" y="493"/>
                  </a:lnTo>
                  <a:lnTo>
                    <a:pt x="863" y="475"/>
                  </a:lnTo>
                  <a:lnTo>
                    <a:pt x="866" y="493"/>
                  </a:lnTo>
                  <a:lnTo>
                    <a:pt x="859" y="461"/>
                  </a:lnTo>
                  <a:lnTo>
                    <a:pt x="852" y="428"/>
                  </a:lnTo>
                  <a:lnTo>
                    <a:pt x="845" y="428"/>
                  </a:lnTo>
                  <a:lnTo>
                    <a:pt x="852" y="428"/>
                  </a:lnTo>
                  <a:lnTo>
                    <a:pt x="852" y="413"/>
                  </a:lnTo>
                  <a:lnTo>
                    <a:pt x="852" y="399"/>
                  </a:lnTo>
                  <a:lnTo>
                    <a:pt x="852" y="388"/>
                  </a:lnTo>
                  <a:lnTo>
                    <a:pt x="845" y="388"/>
                  </a:lnTo>
                  <a:lnTo>
                    <a:pt x="852" y="392"/>
                  </a:lnTo>
                  <a:lnTo>
                    <a:pt x="856" y="381"/>
                  </a:lnTo>
                  <a:lnTo>
                    <a:pt x="859" y="374"/>
                  </a:lnTo>
                  <a:lnTo>
                    <a:pt x="863" y="363"/>
                  </a:lnTo>
                  <a:lnTo>
                    <a:pt x="856" y="359"/>
                  </a:lnTo>
                  <a:lnTo>
                    <a:pt x="859" y="363"/>
                  </a:lnTo>
                  <a:lnTo>
                    <a:pt x="866" y="355"/>
                  </a:lnTo>
                  <a:lnTo>
                    <a:pt x="863" y="352"/>
                  </a:lnTo>
                  <a:lnTo>
                    <a:pt x="866" y="359"/>
                  </a:lnTo>
                  <a:lnTo>
                    <a:pt x="874" y="355"/>
                  </a:lnTo>
                  <a:lnTo>
                    <a:pt x="874" y="355"/>
                  </a:lnTo>
                  <a:lnTo>
                    <a:pt x="874" y="352"/>
                  </a:lnTo>
                  <a:lnTo>
                    <a:pt x="881" y="345"/>
                  </a:lnTo>
                  <a:lnTo>
                    <a:pt x="888" y="337"/>
                  </a:lnTo>
                  <a:lnTo>
                    <a:pt x="885" y="334"/>
                  </a:lnTo>
                  <a:lnTo>
                    <a:pt x="888" y="341"/>
                  </a:lnTo>
                  <a:lnTo>
                    <a:pt x="899" y="337"/>
                  </a:lnTo>
                  <a:lnTo>
                    <a:pt x="906" y="334"/>
                  </a:lnTo>
                  <a:lnTo>
                    <a:pt x="903" y="326"/>
                  </a:lnTo>
                  <a:lnTo>
                    <a:pt x="903" y="334"/>
                  </a:lnTo>
                  <a:lnTo>
                    <a:pt x="910" y="334"/>
                  </a:lnTo>
                  <a:lnTo>
                    <a:pt x="914" y="334"/>
                  </a:lnTo>
                  <a:lnTo>
                    <a:pt x="914" y="334"/>
                  </a:lnTo>
                  <a:lnTo>
                    <a:pt x="924" y="330"/>
                  </a:lnTo>
                  <a:lnTo>
                    <a:pt x="921" y="323"/>
                  </a:lnTo>
                  <a:lnTo>
                    <a:pt x="921" y="330"/>
                  </a:lnTo>
                  <a:lnTo>
                    <a:pt x="928" y="330"/>
                  </a:lnTo>
                  <a:lnTo>
                    <a:pt x="928" y="323"/>
                  </a:lnTo>
                  <a:lnTo>
                    <a:pt x="928" y="330"/>
                  </a:lnTo>
                  <a:lnTo>
                    <a:pt x="939" y="334"/>
                  </a:lnTo>
                  <a:lnTo>
                    <a:pt x="939" y="334"/>
                  </a:lnTo>
                  <a:lnTo>
                    <a:pt x="939" y="334"/>
                  </a:lnTo>
                  <a:lnTo>
                    <a:pt x="946" y="334"/>
                  </a:lnTo>
                  <a:lnTo>
                    <a:pt x="946" y="326"/>
                  </a:lnTo>
                  <a:lnTo>
                    <a:pt x="943" y="330"/>
                  </a:lnTo>
                  <a:lnTo>
                    <a:pt x="950" y="337"/>
                  </a:lnTo>
                  <a:lnTo>
                    <a:pt x="953" y="341"/>
                  </a:lnTo>
                  <a:lnTo>
                    <a:pt x="953" y="341"/>
                  </a:lnTo>
                  <a:lnTo>
                    <a:pt x="961" y="345"/>
                  </a:lnTo>
                  <a:lnTo>
                    <a:pt x="961" y="337"/>
                  </a:lnTo>
                  <a:lnTo>
                    <a:pt x="957" y="341"/>
                  </a:lnTo>
                  <a:lnTo>
                    <a:pt x="964" y="348"/>
                  </a:lnTo>
                  <a:lnTo>
                    <a:pt x="972" y="355"/>
                  </a:lnTo>
                  <a:lnTo>
                    <a:pt x="975" y="359"/>
                  </a:lnTo>
                  <a:lnTo>
                    <a:pt x="975" y="359"/>
                  </a:lnTo>
                  <a:lnTo>
                    <a:pt x="982" y="363"/>
                  </a:lnTo>
                  <a:lnTo>
                    <a:pt x="982" y="355"/>
                  </a:lnTo>
                  <a:lnTo>
                    <a:pt x="979" y="359"/>
                  </a:lnTo>
                  <a:lnTo>
                    <a:pt x="986" y="366"/>
                  </a:lnTo>
                  <a:lnTo>
                    <a:pt x="990" y="370"/>
                  </a:lnTo>
                  <a:lnTo>
                    <a:pt x="990" y="370"/>
                  </a:lnTo>
                  <a:lnTo>
                    <a:pt x="1001" y="374"/>
                  </a:lnTo>
                  <a:lnTo>
                    <a:pt x="1001" y="374"/>
                  </a:lnTo>
                  <a:lnTo>
                    <a:pt x="1001" y="374"/>
                  </a:lnTo>
                  <a:lnTo>
                    <a:pt x="1011" y="374"/>
                  </a:lnTo>
                  <a:lnTo>
                    <a:pt x="1022" y="374"/>
                  </a:lnTo>
                  <a:lnTo>
                    <a:pt x="1022" y="374"/>
                  </a:lnTo>
                  <a:lnTo>
                    <a:pt x="1026" y="374"/>
                  </a:lnTo>
                  <a:lnTo>
                    <a:pt x="1037" y="370"/>
                  </a:lnTo>
                  <a:lnTo>
                    <a:pt x="1048" y="366"/>
                  </a:lnTo>
                  <a:lnTo>
                    <a:pt x="1059" y="363"/>
                  </a:lnTo>
                  <a:lnTo>
                    <a:pt x="1059" y="363"/>
                  </a:lnTo>
                  <a:lnTo>
                    <a:pt x="1059" y="359"/>
                  </a:lnTo>
                  <a:lnTo>
                    <a:pt x="1066" y="352"/>
                  </a:lnTo>
                  <a:lnTo>
                    <a:pt x="1062" y="348"/>
                  </a:lnTo>
                  <a:lnTo>
                    <a:pt x="1066" y="355"/>
                  </a:lnTo>
                  <a:lnTo>
                    <a:pt x="1077" y="352"/>
                  </a:lnTo>
                  <a:lnTo>
                    <a:pt x="1077" y="352"/>
                  </a:lnTo>
                  <a:lnTo>
                    <a:pt x="1077" y="348"/>
                  </a:lnTo>
                  <a:lnTo>
                    <a:pt x="1084" y="341"/>
                  </a:lnTo>
                  <a:lnTo>
                    <a:pt x="1088" y="341"/>
                  </a:lnTo>
                  <a:lnTo>
                    <a:pt x="1088" y="341"/>
                  </a:lnTo>
                  <a:lnTo>
                    <a:pt x="1091" y="334"/>
                  </a:lnTo>
                  <a:lnTo>
                    <a:pt x="1098" y="323"/>
                  </a:lnTo>
                  <a:lnTo>
                    <a:pt x="1098" y="323"/>
                  </a:lnTo>
                  <a:lnTo>
                    <a:pt x="1098" y="319"/>
                  </a:lnTo>
                  <a:lnTo>
                    <a:pt x="1098" y="308"/>
                  </a:lnTo>
                  <a:lnTo>
                    <a:pt x="1091" y="308"/>
                  </a:lnTo>
                  <a:lnTo>
                    <a:pt x="1098" y="312"/>
                  </a:lnTo>
                  <a:lnTo>
                    <a:pt x="1102" y="305"/>
                  </a:lnTo>
                  <a:lnTo>
                    <a:pt x="1102" y="301"/>
                  </a:lnTo>
                  <a:lnTo>
                    <a:pt x="1102" y="301"/>
                  </a:lnTo>
                  <a:lnTo>
                    <a:pt x="1098" y="286"/>
                  </a:lnTo>
                  <a:lnTo>
                    <a:pt x="1091" y="286"/>
                  </a:lnTo>
                  <a:lnTo>
                    <a:pt x="1098" y="286"/>
                  </a:lnTo>
                  <a:lnTo>
                    <a:pt x="1098" y="272"/>
                  </a:lnTo>
                  <a:lnTo>
                    <a:pt x="1098" y="272"/>
                  </a:lnTo>
                  <a:lnTo>
                    <a:pt x="1098" y="272"/>
                  </a:lnTo>
                  <a:lnTo>
                    <a:pt x="1091" y="261"/>
                  </a:lnTo>
                  <a:lnTo>
                    <a:pt x="1088" y="250"/>
                  </a:lnTo>
                  <a:lnTo>
                    <a:pt x="1080" y="239"/>
                  </a:lnTo>
                  <a:lnTo>
                    <a:pt x="1077" y="236"/>
                  </a:lnTo>
                  <a:lnTo>
                    <a:pt x="1077" y="236"/>
                  </a:lnTo>
                  <a:lnTo>
                    <a:pt x="1066" y="228"/>
                  </a:lnTo>
                  <a:lnTo>
                    <a:pt x="1059" y="225"/>
                  </a:lnTo>
                  <a:lnTo>
                    <a:pt x="1048" y="218"/>
                  </a:lnTo>
                  <a:lnTo>
                    <a:pt x="1037" y="214"/>
                  </a:lnTo>
                  <a:lnTo>
                    <a:pt x="1026" y="210"/>
                  </a:lnTo>
                  <a:lnTo>
                    <a:pt x="1026" y="210"/>
                  </a:lnTo>
                  <a:lnTo>
                    <a:pt x="1022" y="210"/>
                  </a:lnTo>
                  <a:lnTo>
                    <a:pt x="1011" y="210"/>
                  </a:lnTo>
                  <a:lnTo>
                    <a:pt x="1001" y="210"/>
                  </a:lnTo>
                  <a:lnTo>
                    <a:pt x="1001" y="210"/>
                  </a:lnTo>
                  <a:lnTo>
                    <a:pt x="1001" y="210"/>
                  </a:lnTo>
                  <a:lnTo>
                    <a:pt x="990" y="214"/>
                  </a:lnTo>
                  <a:lnTo>
                    <a:pt x="982" y="218"/>
                  </a:lnTo>
                  <a:lnTo>
                    <a:pt x="975" y="221"/>
                  </a:lnTo>
                  <a:lnTo>
                    <a:pt x="968" y="225"/>
                  </a:lnTo>
                  <a:lnTo>
                    <a:pt x="968" y="225"/>
                  </a:lnTo>
                  <a:lnTo>
                    <a:pt x="964" y="225"/>
                  </a:lnTo>
                  <a:lnTo>
                    <a:pt x="957" y="232"/>
                  </a:lnTo>
                  <a:lnTo>
                    <a:pt x="961" y="236"/>
                  </a:lnTo>
                  <a:lnTo>
                    <a:pt x="961" y="232"/>
                  </a:lnTo>
                  <a:lnTo>
                    <a:pt x="953" y="236"/>
                  </a:lnTo>
                  <a:lnTo>
                    <a:pt x="943" y="239"/>
                  </a:lnTo>
                  <a:lnTo>
                    <a:pt x="935" y="243"/>
                  </a:lnTo>
                  <a:lnTo>
                    <a:pt x="935" y="247"/>
                  </a:lnTo>
                  <a:lnTo>
                    <a:pt x="935" y="243"/>
                  </a:lnTo>
                  <a:lnTo>
                    <a:pt x="924" y="243"/>
                  </a:lnTo>
                  <a:lnTo>
                    <a:pt x="914" y="243"/>
                  </a:lnTo>
                  <a:lnTo>
                    <a:pt x="903" y="243"/>
                  </a:lnTo>
                  <a:lnTo>
                    <a:pt x="895" y="243"/>
                  </a:lnTo>
                  <a:lnTo>
                    <a:pt x="895" y="247"/>
                  </a:lnTo>
                  <a:lnTo>
                    <a:pt x="899" y="243"/>
                  </a:lnTo>
                  <a:lnTo>
                    <a:pt x="888" y="239"/>
                  </a:lnTo>
                  <a:lnTo>
                    <a:pt x="877" y="236"/>
                  </a:lnTo>
                  <a:lnTo>
                    <a:pt x="877" y="236"/>
                  </a:lnTo>
                  <a:lnTo>
                    <a:pt x="874" y="236"/>
                  </a:lnTo>
                  <a:lnTo>
                    <a:pt x="866" y="236"/>
                  </a:lnTo>
                  <a:lnTo>
                    <a:pt x="866" y="239"/>
                  </a:lnTo>
                  <a:lnTo>
                    <a:pt x="870" y="236"/>
                  </a:lnTo>
                  <a:lnTo>
                    <a:pt x="863" y="228"/>
                  </a:lnTo>
                  <a:lnTo>
                    <a:pt x="863" y="228"/>
                  </a:lnTo>
                  <a:lnTo>
                    <a:pt x="863" y="228"/>
                  </a:lnTo>
                  <a:lnTo>
                    <a:pt x="856" y="225"/>
                  </a:lnTo>
                  <a:lnTo>
                    <a:pt x="852" y="228"/>
                  </a:lnTo>
                  <a:lnTo>
                    <a:pt x="856" y="225"/>
                  </a:lnTo>
                  <a:lnTo>
                    <a:pt x="848" y="218"/>
                  </a:lnTo>
                  <a:lnTo>
                    <a:pt x="845" y="221"/>
                  </a:lnTo>
                  <a:lnTo>
                    <a:pt x="852" y="221"/>
                  </a:lnTo>
                  <a:lnTo>
                    <a:pt x="852" y="214"/>
                  </a:lnTo>
                  <a:lnTo>
                    <a:pt x="852" y="214"/>
                  </a:lnTo>
                  <a:lnTo>
                    <a:pt x="852" y="214"/>
                  </a:lnTo>
                  <a:lnTo>
                    <a:pt x="848" y="207"/>
                  </a:lnTo>
                  <a:lnTo>
                    <a:pt x="841" y="207"/>
                  </a:lnTo>
                  <a:lnTo>
                    <a:pt x="848" y="207"/>
                  </a:lnTo>
                  <a:lnTo>
                    <a:pt x="848" y="196"/>
                  </a:lnTo>
                  <a:lnTo>
                    <a:pt x="848" y="174"/>
                  </a:lnTo>
                  <a:lnTo>
                    <a:pt x="848" y="149"/>
                  </a:lnTo>
                  <a:lnTo>
                    <a:pt x="852" y="120"/>
                  </a:lnTo>
                  <a:lnTo>
                    <a:pt x="856" y="91"/>
                  </a:lnTo>
                  <a:lnTo>
                    <a:pt x="859" y="62"/>
                  </a:lnTo>
                  <a:lnTo>
                    <a:pt x="863" y="40"/>
                  </a:lnTo>
                  <a:lnTo>
                    <a:pt x="866" y="18"/>
                  </a:lnTo>
                  <a:lnTo>
                    <a:pt x="866" y="14"/>
                  </a:lnTo>
                  <a:lnTo>
                    <a:pt x="859" y="14"/>
                  </a:lnTo>
                  <a:lnTo>
                    <a:pt x="856" y="14"/>
                  </a:lnTo>
                  <a:lnTo>
                    <a:pt x="823" y="14"/>
                  </a:lnTo>
                  <a:lnTo>
                    <a:pt x="790" y="11"/>
                  </a:lnTo>
                  <a:lnTo>
                    <a:pt x="761" y="11"/>
                  </a:lnTo>
                  <a:lnTo>
                    <a:pt x="736" y="7"/>
                  </a:lnTo>
                  <a:lnTo>
                    <a:pt x="711" y="4"/>
                  </a:lnTo>
                  <a:lnTo>
                    <a:pt x="689" y="4"/>
                  </a:lnTo>
                  <a:lnTo>
                    <a:pt x="674" y="0"/>
                  </a:lnTo>
                  <a:lnTo>
                    <a:pt x="663" y="0"/>
                  </a:lnTo>
                  <a:lnTo>
                    <a:pt x="656" y="0"/>
                  </a:lnTo>
                  <a:lnTo>
                    <a:pt x="656" y="0"/>
                  </a:lnTo>
                  <a:lnTo>
                    <a:pt x="653" y="0"/>
                  </a:lnTo>
                  <a:lnTo>
                    <a:pt x="649" y="4"/>
                  </a:lnTo>
                  <a:lnTo>
                    <a:pt x="653" y="7"/>
                  </a:lnTo>
                  <a:lnTo>
                    <a:pt x="653" y="4"/>
                  </a:lnTo>
                  <a:lnTo>
                    <a:pt x="645" y="7"/>
                  </a:lnTo>
                  <a:lnTo>
                    <a:pt x="645" y="7"/>
                  </a:lnTo>
                  <a:lnTo>
                    <a:pt x="642" y="7"/>
                  </a:lnTo>
                  <a:lnTo>
                    <a:pt x="634" y="14"/>
                  </a:lnTo>
                  <a:lnTo>
                    <a:pt x="631" y="18"/>
                  </a:lnTo>
                  <a:lnTo>
                    <a:pt x="624" y="25"/>
                  </a:lnTo>
                  <a:lnTo>
                    <a:pt x="624" y="29"/>
                  </a:lnTo>
                  <a:lnTo>
                    <a:pt x="624" y="29"/>
                  </a:lnTo>
                  <a:lnTo>
                    <a:pt x="624" y="40"/>
                  </a:lnTo>
                  <a:lnTo>
                    <a:pt x="627" y="40"/>
                  </a:lnTo>
                  <a:lnTo>
                    <a:pt x="624" y="40"/>
                  </a:lnTo>
                  <a:lnTo>
                    <a:pt x="620" y="47"/>
                  </a:lnTo>
                  <a:lnTo>
                    <a:pt x="616" y="58"/>
                  </a:lnTo>
                  <a:lnTo>
                    <a:pt x="616" y="58"/>
                  </a:lnTo>
                  <a:lnTo>
                    <a:pt x="616" y="58"/>
                  </a:lnTo>
                  <a:lnTo>
                    <a:pt x="616" y="69"/>
                  </a:lnTo>
                  <a:lnTo>
                    <a:pt x="616" y="80"/>
                  </a:lnTo>
                  <a:lnTo>
                    <a:pt x="616" y="80"/>
                  </a:lnTo>
                  <a:lnTo>
                    <a:pt x="616" y="83"/>
                  </a:lnTo>
                  <a:lnTo>
                    <a:pt x="620" y="91"/>
                  </a:lnTo>
                  <a:lnTo>
                    <a:pt x="624" y="102"/>
                  </a:lnTo>
                  <a:lnTo>
                    <a:pt x="627" y="112"/>
                  </a:lnTo>
                  <a:lnTo>
                    <a:pt x="634" y="123"/>
                  </a:lnTo>
                  <a:lnTo>
                    <a:pt x="634" y="123"/>
                  </a:lnTo>
                  <a:lnTo>
                    <a:pt x="634" y="123"/>
                  </a:lnTo>
                  <a:lnTo>
                    <a:pt x="642" y="131"/>
                  </a:lnTo>
                  <a:lnTo>
                    <a:pt x="645" y="134"/>
                  </a:lnTo>
                  <a:lnTo>
                    <a:pt x="645" y="134"/>
                  </a:lnTo>
                  <a:lnTo>
                    <a:pt x="656" y="141"/>
                  </a:lnTo>
                  <a:lnTo>
                    <a:pt x="656" y="134"/>
                  </a:lnTo>
                  <a:lnTo>
                    <a:pt x="653" y="138"/>
                  </a:lnTo>
                  <a:lnTo>
                    <a:pt x="656" y="149"/>
                  </a:lnTo>
                  <a:lnTo>
                    <a:pt x="663" y="163"/>
                  </a:lnTo>
                  <a:lnTo>
                    <a:pt x="667" y="170"/>
                  </a:lnTo>
                  <a:lnTo>
                    <a:pt x="671" y="167"/>
                  </a:lnTo>
                  <a:lnTo>
                    <a:pt x="667" y="167"/>
                  </a:lnTo>
                  <a:lnTo>
                    <a:pt x="667" y="181"/>
                  </a:lnTo>
                  <a:lnTo>
                    <a:pt x="667" y="192"/>
                  </a:lnTo>
                  <a:lnTo>
                    <a:pt x="667" y="203"/>
                  </a:lnTo>
                  <a:lnTo>
                    <a:pt x="671" y="203"/>
                  </a:lnTo>
                  <a:lnTo>
                    <a:pt x="667" y="199"/>
                  </a:lnTo>
                  <a:lnTo>
                    <a:pt x="660" y="207"/>
                  </a:lnTo>
                  <a:lnTo>
                    <a:pt x="660" y="210"/>
                  </a:lnTo>
                  <a:lnTo>
                    <a:pt x="660" y="210"/>
                  </a:lnTo>
                  <a:lnTo>
                    <a:pt x="656" y="221"/>
                  </a:lnTo>
                  <a:lnTo>
                    <a:pt x="649" y="232"/>
                  </a:lnTo>
                  <a:lnTo>
                    <a:pt x="653" y="232"/>
                  </a:lnTo>
                  <a:lnTo>
                    <a:pt x="649" y="228"/>
                  </a:lnTo>
                  <a:lnTo>
                    <a:pt x="642" y="236"/>
                  </a:lnTo>
                  <a:lnTo>
                    <a:pt x="645" y="239"/>
                  </a:lnTo>
                  <a:lnTo>
                    <a:pt x="645" y="236"/>
                  </a:lnTo>
                  <a:lnTo>
                    <a:pt x="634" y="243"/>
                  </a:lnTo>
                  <a:lnTo>
                    <a:pt x="624" y="250"/>
                  </a:lnTo>
                  <a:lnTo>
                    <a:pt x="624" y="254"/>
                  </a:lnTo>
                  <a:lnTo>
                    <a:pt x="624" y="250"/>
                  </a:lnTo>
                  <a:lnTo>
                    <a:pt x="609" y="254"/>
                  </a:lnTo>
                  <a:lnTo>
                    <a:pt x="595" y="257"/>
                  </a:lnTo>
                  <a:lnTo>
                    <a:pt x="580" y="261"/>
                  </a:lnTo>
                  <a:lnTo>
                    <a:pt x="573" y="261"/>
                  </a:lnTo>
                  <a:lnTo>
                    <a:pt x="566" y="261"/>
                  </a:lnTo>
                  <a:lnTo>
                    <a:pt x="566" y="265"/>
                  </a:lnTo>
                  <a:lnTo>
                    <a:pt x="569" y="261"/>
                  </a:lnTo>
                  <a:lnTo>
                    <a:pt x="562" y="257"/>
                  </a:lnTo>
                  <a:lnTo>
                    <a:pt x="562" y="257"/>
                  </a:lnTo>
                  <a:lnTo>
                    <a:pt x="558" y="257"/>
                  </a:lnTo>
                  <a:lnTo>
                    <a:pt x="551" y="257"/>
                  </a:lnTo>
                  <a:lnTo>
                    <a:pt x="551" y="261"/>
                  </a:lnTo>
                  <a:lnTo>
                    <a:pt x="555" y="257"/>
                  </a:lnTo>
                  <a:lnTo>
                    <a:pt x="547" y="254"/>
                  </a:lnTo>
                  <a:lnTo>
                    <a:pt x="540" y="250"/>
                  </a:lnTo>
                  <a:lnTo>
                    <a:pt x="536" y="254"/>
                  </a:lnTo>
                  <a:lnTo>
                    <a:pt x="540" y="250"/>
                  </a:lnTo>
                  <a:lnTo>
                    <a:pt x="536" y="247"/>
                  </a:lnTo>
                  <a:lnTo>
                    <a:pt x="536" y="247"/>
                  </a:lnTo>
                  <a:lnTo>
                    <a:pt x="536" y="247"/>
                  </a:lnTo>
                  <a:lnTo>
                    <a:pt x="529" y="243"/>
                  </a:lnTo>
                  <a:lnTo>
                    <a:pt x="518" y="236"/>
                  </a:lnTo>
                  <a:lnTo>
                    <a:pt x="515" y="239"/>
                  </a:lnTo>
                  <a:lnTo>
                    <a:pt x="518" y="236"/>
                  </a:lnTo>
                  <a:lnTo>
                    <a:pt x="511" y="228"/>
                  </a:lnTo>
                  <a:lnTo>
                    <a:pt x="507" y="232"/>
                  </a:lnTo>
                  <a:lnTo>
                    <a:pt x="515" y="232"/>
                  </a:lnTo>
                  <a:lnTo>
                    <a:pt x="507" y="221"/>
                  </a:lnTo>
                  <a:lnTo>
                    <a:pt x="504" y="210"/>
                  </a:lnTo>
                  <a:lnTo>
                    <a:pt x="500" y="199"/>
                  </a:lnTo>
                  <a:lnTo>
                    <a:pt x="493" y="199"/>
                  </a:lnTo>
                  <a:lnTo>
                    <a:pt x="500" y="199"/>
                  </a:lnTo>
                  <a:lnTo>
                    <a:pt x="500" y="185"/>
                  </a:lnTo>
                  <a:lnTo>
                    <a:pt x="500" y="185"/>
                  </a:lnTo>
                  <a:lnTo>
                    <a:pt x="500" y="185"/>
                  </a:lnTo>
                  <a:lnTo>
                    <a:pt x="497" y="174"/>
                  </a:lnTo>
                  <a:lnTo>
                    <a:pt x="489" y="174"/>
                  </a:lnTo>
                  <a:lnTo>
                    <a:pt x="497" y="178"/>
                  </a:lnTo>
                  <a:lnTo>
                    <a:pt x="500" y="167"/>
                  </a:lnTo>
                  <a:lnTo>
                    <a:pt x="500" y="167"/>
                  </a:lnTo>
                  <a:lnTo>
                    <a:pt x="500" y="163"/>
                  </a:lnTo>
                  <a:lnTo>
                    <a:pt x="500" y="149"/>
                  </a:lnTo>
                  <a:lnTo>
                    <a:pt x="493" y="149"/>
                  </a:lnTo>
                  <a:lnTo>
                    <a:pt x="497" y="152"/>
                  </a:lnTo>
                  <a:lnTo>
                    <a:pt x="504" y="145"/>
                  </a:lnTo>
                  <a:lnTo>
                    <a:pt x="507" y="145"/>
                  </a:lnTo>
                  <a:lnTo>
                    <a:pt x="507" y="145"/>
                  </a:lnTo>
                  <a:lnTo>
                    <a:pt x="511" y="134"/>
                  </a:lnTo>
                  <a:lnTo>
                    <a:pt x="504" y="131"/>
                  </a:lnTo>
                  <a:lnTo>
                    <a:pt x="507" y="134"/>
                  </a:lnTo>
                  <a:lnTo>
                    <a:pt x="515" y="127"/>
                  </a:lnTo>
                  <a:lnTo>
                    <a:pt x="522" y="120"/>
                  </a:lnTo>
                  <a:lnTo>
                    <a:pt x="526" y="120"/>
                  </a:lnTo>
                  <a:lnTo>
                    <a:pt x="526" y="120"/>
                  </a:lnTo>
                  <a:lnTo>
                    <a:pt x="529" y="112"/>
                  </a:lnTo>
                  <a:lnTo>
                    <a:pt x="533" y="105"/>
                  </a:lnTo>
                  <a:lnTo>
                    <a:pt x="536" y="98"/>
                  </a:lnTo>
                  <a:lnTo>
                    <a:pt x="540" y="91"/>
                  </a:lnTo>
                  <a:lnTo>
                    <a:pt x="540" y="91"/>
                  </a:lnTo>
                  <a:lnTo>
                    <a:pt x="540" y="87"/>
                  </a:lnTo>
                  <a:lnTo>
                    <a:pt x="540" y="80"/>
                  </a:lnTo>
                  <a:lnTo>
                    <a:pt x="540" y="72"/>
                  </a:lnTo>
                  <a:lnTo>
                    <a:pt x="540" y="72"/>
                  </a:lnTo>
                  <a:lnTo>
                    <a:pt x="540" y="72"/>
                  </a:lnTo>
                  <a:lnTo>
                    <a:pt x="536" y="65"/>
                  </a:lnTo>
                  <a:lnTo>
                    <a:pt x="533" y="58"/>
                  </a:lnTo>
                  <a:lnTo>
                    <a:pt x="529" y="51"/>
                  </a:lnTo>
                  <a:lnTo>
                    <a:pt x="529" y="51"/>
                  </a:lnTo>
                  <a:lnTo>
                    <a:pt x="526" y="47"/>
                  </a:lnTo>
                  <a:lnTo>
                    <a:pt x="518" y="40"/>
                  </a:lnTo>
                  <a:lnTo>
                    <a:pt x="518" y="40"/>
                  </a:lnTo>
                  <a:lnTo>
                    <a:pt x="518" y="40"/>
                  </a:lnTo>
                  <a:lnTo>
                    <a:pt x="507" y="36"/>
                  </a:lnTo>
                  <a:lnTo>
                    <a:pt x="497" y="29"/>
                  </a:lnTo>
                  <a:lnTo>
                    <a:pt x="486" y="25"/>
                  </a:lnTo>
                  <a:lnTo>
                    <a:pt x="471" y="18"/>
                  </a:lnTo>
                  <a:lnTo>
                    <a:pt x="471" y="18"/>
                  </a:lnTo>
                  <a:lnTo>
                    <a:pt x="468" y="18"/>
                  </a:lnTo>
                  <a:lnTo>
                    <a:pt x="449" y="14"/>
                  </a:lnTo>
                  <a:lnTo>
                    <a:pt x="431" y="14"/>
                  </a:lnTo>
                  <a:lnTo>
                    <a:pt x="406" y="11"/>
                  </a:lnTo>
                  <a:lnTo>
                    <a:pt x="377" y="11"/>
                  </a:lnTo>
                  <a:lnTo>
                    <a:pt x="348" y="14"/>
                  </a:lnTo>
                  <a:lnTo>
                    <a:pt x="315" y="14"/>
                  </a:lnTo>
                  <a:lnTo>
                    <a:pt x="286" y="18"/>
                  </a:lnTo>
                  <a:lnTo>
                    <a:pt x="261" y="22"/>
                  </a:lnTo>
                  <a:lnTo>
                    <a:pt x="243" y="25"/>
                  </a:lnTo>
                  <a:lnTo>
                    <a:pt x="236" y="25"/>
                  </a:lnTo>
                  <a:lnTo>
                    <a:pt x="239" y="29"/>
                  </a:lnTo>
                  <a:lnTo>
                    <a:pt x="243" y="51"/>
                  </a:lnTo>
                  <a:lnTo>
                    <a:pt x="243" y="54"/>
                  </a:lnTo>
                  <a:lnTo>
                    <a:pt x="243" y="54"/>
                  </a:lnTo>
                  <a:lnTo>
                    <a:pt x="254" y="80"/>
                  </a:lnTo>
                  <a:lnTo>
                    <a:pt x="261" y="112"/>
                  </a:lnTo>
                  <a:lnTo>
                    <a:pt x="268" y="145"/>
                  </a:lnTo>
                  <a:lnTo>
                    <a:pt x="272" y="141"/>
                  </a:lnTo>
                  <a:lnTo>
                    <a:pt x="268" y="141"/>
                  </a:lnTo>
                  <a:lnTo>
                    <a:pt x="268" y="156"/>
                  </a:lnTo>
                  <a:lnTo>
                    <a:pt x="272" y="174"/>
                  </a:lnTo>
                  <a:lnTo>
                    <a:pt x="272" y="189"/>
                  </a:lnTo>
                  <a:lnTo>
                    <a:pt x="272" y="203"/>
                  </a:lnTo>
                  <a:lnTo>
                    <a:pt x="272" y="214"/>
                  </a:lnTo>
                  <a:lnTo>
                    <a:pt x="275" y="214"/>
                  </a:lnTo>
                  <a:lnTo>
                    <a:pt x="272" y="214"/>
                  </a:lnTo>
                  <a:lnTo>
                    <a:pt x="268" y="225"/>
                  </a:lnTo>
                  <a:lnTo>
                    <a:pt x="272" y="225"/>
                  </a:lnTo>
                  <a:lnTo>
                    <a:pt x="268" y="221"/>
                  </a:lnTo>
                  <a:lnTo>
                    <a:pt x="265" y="225"/>
                  </a:lnTo>
                  <a:lnTo>
                    <a:pt x="265" y="228"/>
                  </a:lnTo>
                  <a:lnTo>
                    <a:pt x="265" y="228"/>
                  </a:lnTo>
                  <a:lnTo>
                    <a:pt x="265" y="236"/>
                  </a:lnTo>
                  <a:lnTo>
                    <a:pt x="268" y="236"/>
                  </a:lnTo>
                  <a:lnTo>
                    <a:pt x="265" y="232"/>
                  </a:lnTo>
                  <a:lnTo>
                    <a:pt x="261" y="236"/>
                  </a:lnTo>
                  <a:lnTo>
                    <a:pt x="265" y="239"/>
                  </a:lnTo>
                  <a:lnTo>
                    <a:pt x="265" y="236"/>
                  </a:lnTo>
                  <a:lnTo>
                    <a:pt x="261" y="236"/>
                  </a:lnTo>
                  <a:lnTo>
                    <a:pt x="257" y="236"/>
                  </a:lnTo>
                  <a:lnTo>
                    <a:pt x="257" y="239"/>
                  </a:lnTo>
                  <a:lnTo>
                    <a:pt x="254" y="247"/>
                  </a:lnTo>
                  <a:lnTo>
                    <a:pt x="257" y="247"/>
                  </a:lnTo>
                  <a:lnTo>
                    <a:pt x="257" y="243"/>
                  </a:lnTo>
                  <a:lnTo>
                    <a:pt x="246" y="247"/>
                  </a:lnTo>
                  <a:lnTo>
                    <a:pt x="246" y="247"/>
                  </a:lnTo>
                  <a:lnTo>
                    <a:pt x="243" y="247"/>
                  </a:lnTo>
                  <a:lnTo>
                    <a:pt x="239" y="250"/>
                  </a:lnTo>
                  <a:lnTo>
                    <a:pt x="243" y="254"/>
                  </a:lnTo>
                  <a:lnTo>
                    <a:pt x="243" y="250"/>
                  </a:lnTo>
                  <a:lnTo>
                    <a:pt x="232" y="254"/>
                  </a:lnTo>
                  <a:lnTo>
                    <a:pt x="225" y="257"/>
                  </a:lnTo>
                  <a:lnTo>
                    <a:pt x="225" y="261"/>
                  </a:lnTo>
                  <a:lnTo>
                    <a:pt x="225" y="257"/>
                  </a:lnTo>
                  <a:lnTo>
                    <a:pt x="217" y="257"/>
                  </a:lnTo>
                  <a:lnTo>
                    <a:pt x="210" y="257"/>
                  </a:lnTo>
                  <a:lnTo>
                    <a:pt x="203" y="257"/>
                  </a:lnTo>
                  <a:lnTo>
                    <a:pt x="196" y="257"/>
                  </a:lnTo>
                  <a:lnTo>
                    <a:pt x="188" y="257"/>
                  </a:lnTo>
                  <a:lnTo>
                    <a:pt x="188" y="261"/>
                  </a:lnTo>
                  <a:lnTo>
                    <a:pt x="192" y="257"/>
                  </a:lnTo>
                  <a:lnTo>
                    <a:pt x="185" y="254"/>
                  </a:lnTo>
                  <a:lnTo>
                    <a:pt x="185" y="254"/>
                  </a:lnTo>
                  <a:lnTo>
                    <a:pt x="181" y="254"/>
                  </a:lnTo>
                  <a:lnTo>
                    <a:pt x="174" y="254"/>
                  </a:lnTo>
                  <a:lnTo>
                    <a:pt x="174" y="257"/>
                  </a:lnTo>
                  <a:lnTo>
                    <a:pt x="178" y="254"/>
                  </a:lnTo>
                  <a:lnTo>
                    <a:pt x="170" y="250"/>
                  </a:lnTo>
                  <a:lnTo>
                    <a:pt x="163" y="247"/>
                  </a:lnTo>
                  <a:lnTo>
                    <a:pt x="159" y="250"/>
                  </a:lnTo>
                  <a:lnTo>
                    <a:pt x="163" y="247"/>
                  </a:lnTo>
                  <a:lnTo>
                    <a:pt x="159" y="243"/>
                  </a:lnTo>
                  <a:lnTo>
                    <a:pt x="156" y="247"/>
                  </a:lnTo>
                  <a:lnTo>
                    <a:pt x="163" y="247"/>
                  </a:lnTo>
                  <a:lnTo>
                    <a:pt x="159" y="239"/>
                  </a:lnTo>
                  <a:lnTo>
                    <a:pt x="156" y="236"/>
                  </a:lnTo>
                  <a:lnTo>
                    <a:pt x="156" y="236"/>
                  </a:lnTo>
                  <a:lnTo>
                    <a:pt x="149" y="232"/>
                  </a:lnTo>
                  <a:lnTo>
                    <a:pt x="138" y="225"/>
                  </a:lnTo>
                  <a:lnTo>
                    <a:pt x="127" y="221"/>
                  </a:lnTo>
                  <a:lnTo>
                    <a:pt x="116" y="218"/>
                  </a:lnTo>
                  <a:lnTo>
                    <a:pt x="116" y="218"/>
                  </a:lnTo>
                  <a:lnTo>
                    <a:pt x="112" y="218"/>
                  </a:lnTo>
                  <a:lnTo>
                    <a:pt x="101" y="218"/>
                  </a:lnTo>
                  <a:lnTo>
                    <a:pt x="91" y="218"/>
                  </a:lnTo>
                  <a:lnTo>
                    <a:pt x="76" y="218"/>
                  </a:lnTo>
                  <a:lnTo>
                    <a:pt x="76" y="218"/>
                  </a:lnTo>
                  <a:lnTo>
                    <a:pt x="76" y="218"/>
                  </a:lnTo>
                  <a:lnTo>
                    <a:pt x="65" y="221"/>
                  </a:lnTo>
                  <a:lnTo>
                    <a:pt x="54" y="225"/>
                  </a:lnTo>
                  <a:lnTo>
                    <a:pt x="43" y="232"/>
                  </a:lnTo>
                  <a:lnTo>
                    <a:pt x="43" y="232"/>
                  </a:lnTo>
                  <a:lnTo>
                    <a:pt x="40" y="232"/>
                  </a:lnTo>
                  <a:lnTo>
                    <a:pt x="29" y="243"/>
                  </a:lnTo>
                  <a:lnTo>
                    <a:pt x="33" y="247"/>
                  </a:lnTo>
                  <a:lnTo>
                    <a:pt x="33" y="243"/>
                  </a:lnTo>
                  <a:lnTo>
                    <a:pt x="22" y="250"/>
                  </a:lnTo>
                  <a:lnTo>
                    <a:pt x="18" y="250"/>
                  </a:lnTo>
                  <a:lnTo>
                    <a:pt x="18" y="254"/>
                  </a:lnTo>
                  <a:lnTo>
                    <a:pt x="14" y="261"/>
                  </a:lnTo>
                  <a:lnTo>
                    <a:pt x="18" y="261"/>
                  </a:lnTo>
                  <a:lnTo>
                    <a:pt x="14" y="257"/>
                  </a:lnTo>
                  <a:lnTo>
                    <a:pt x="11" y="261"/>
                  </a:lnTo>
                  <a:lnTo>
                    <a:pt x="11" y="265"/>
                  </a:lnTo>
                  <a:lnTo>
                    <a:pt x="11" y="265"/>
                  </a:lnTo>
                  <a:lnTo>
                    <a:pt x="11" y="272"/>
                  </a:lnTo>
                  <a:lnTo>
                    <a:pt x="14" y="272"/>
                  </a:lnTo>
                  <a:lnTo>
                    <a:pt x="11" y="272"/>
                  </a:lnTo>
                  <a:lnTo>
                    <a:pt x="7" y="279"/>
                  </a:lnTo>
                  <a:lnTo>
                    <a:pt x="4" y="286"/>
                  </a:lnTo>
                  <a:lnTo>
                    <a:pt x="4" y="286"/>
                  </a:lnTo>
                  <a:lnTo>
                    <a:pt x="4" y="286"/>
                  </a:lnTo>
                  <a:lnTo>
                    <a:pt x="4" y="294"/>
                  </a:lnTo>
                  <a:lnTo>
                    <a:pt x="7" y="294"/>
                  </a:lnTo>
                  <a:lnTo>
                    <a:pt x="4" y="294"/>
                  </a:lnTo>
                  <a:lnTo>
                    <a:pt x="0" y="305"/>
                  </a:lnTo>
                  <a:lnTo>
                    <a:pt x="0" y="305"/>
                  </a:lnTo>
                  <a:lnTo>
                    <a:pt x="0" y="305"/>
                  </a:lnTo>
                  <a:lnTo>
                    <a:pt x="0" y="312"/>
                  </a:lnTo>
                  <a:lnTo>
                    <a:pt x="0" y="319"/>
                  </a:lnTo>
                  <a:lnTo>
                    <a:pt x="0" y="323"/>
                  </a:lnTo>
                  <a:lnTo>
                    <a:pt x="0" y="323"/>
                  </a:lnTo>
                  <a:lnTo>
                    <a:pt x="4" y="330"/>
                  </a:lnTo>
                  <a:lnTo>
                    <a:pt x="7" y="326"/>
                  </a:lnTo>
                  <a:lnTo>
                    <a:pt x="4" y="326"/>
                  </a:lnTo>
                  <a:lnTo>
                    <a:pt x="4" y="334"/>
                  </a:lnTo>
                  <a:lnTo>
                    <a:pt x="4" y="337"/>
                  </a:lnTo>
                  <a:lnTo>
                    <a:pt x="4" y="337"/>
                  </a:lnTo>
                  <a:lnTo>
                    <a:pt x="7" y="341"/>
                  </a:lnTo>
                  <a:lnTo>
                    <a:pt x="11" y="337"/>
                  </a:lnTo>
                  <a:lnTo>
                    <a:pt x="7" y="337"/>
                  </a:lnTo>
                  <a:lnTo>
                    <a:pt x="7" y="345"/>
                  </a:lnTo>
                  <a:lnTo>
                    <a:pt x="7" y="348"/>
                  </a:lnTo>
                  <a:lnTo>
                    <a:pt x="7" y="348"/>
                  </a:lnTo>
                  <a:lnTo>
                    <a:pt x="11" y="352"/>
                  </a:lnTo>
                  <a:lnTo>
                    <a:pt x="14" y="348"/>
                  </a:lnTo>
                  <a:lnTo>
                    <a:pt x="11" y="352"/>
                  </a:lnTo>
                  <a:lnTo>
                    <a:pt x="14" y="359"/>
                  </a:lnTo>
                  <a:lnTo>
                    <a:pt x="14" y="359"/>
                  </a:lnTo>
                  <a:lnTo>
                    <a:pt x="14" y="359"/>
                  </a:lnTo>
                  <a:lnTo>
                    <a:pt x="18" y="363"/>
                  </a:lnTo>
                  <a:lnTo>
                    <a:pt x="22" y="359"/>
                  </a:lnTo>
                  <a:lnTo>
                    <a:pt x="18" y="363"/>
                  </a:lnTo>
                  <a:lnTo>
                    <a:pt x="25" y="374"/>
                  </a:lnTo>
                  <a:lnTo>
                    <a:pt x="25" y="374"/>
                  </a:lnTo>
                  <a:lnTo>
                    <a:pt x="29" y="377"/>
                  </a:lnTo>
                  <a:lnTo>
                    <a:pt x="40" y="384"/>
                  </a:lnTo>
                  <a:lnTo>
                    <a:pt x="51" y="388"/>
                  </a:lnTo>
                  <a:lnTo>
                    <a:pt x="62" y="392"/>
                  </a:lnTo>
                  <a:lnTo>
                    <a:pt x="72" y="395"/>
                  </a:lnTo>
                  <a:lnTo>
                    <a:pt x="83" y="399"/>
                  </a:lnTo>
                  <a:lnTo>
                    <a:pt x="83" y="399"/>
                  </a:lnTo>
                  <a:lnTo>
                    <a:pt x="83" y="399"/>
                  </a:lnTo>
                  <a:lnTo>
                    <a:pt x="98" y="399"/>
                  </a:lnTo>
                  <a:lnTo>
                    <a:pt x="109" y="399"/>
                  </a:lnTo>
                  <a:lnTo>
                    <a:pt x="109" y="399"/>
                  </a:lnTo>
                  <a:lnTo>
                    <a:pt x="112" y="399"/>
                  </a:lnTo>
                  <a:lnTo>
                    <a:pt x="120" y="395"/>
                  </a:lnTo>
                  <a:lnTo>
                    <a:pt x="130" y="392"/>
                  </a:lnTo>
                  <a:lnTo>
                    <a:pt x="138" y="388"/>
                  </a:lnTo>
                  <a:lnTo>
                    <a:pt x="138" y="384"/>
                  </a:lnTo>
                  <a:lnTo>
                    <a:pt x="141" y="384"/>
                  </a:lnTo>
                  <a:lnTo>
                    <a:pt x="145" y="377"/>
                  </a:lnTo>
                  <a:lnTo>
                    <a:pt x="138" y="374"/>
                  </a:lnTo>
                  <a:lnTo>
                    <a:pt x="141" y="381"/>
                  </a:lnTo>
                  <a:lnTo>
                    <a:pt x="149" y="377"/>
                  </a:lnTo>
                  <a:lnTo>
                    <a:pt x="156" y="374"/>
                  </a:lnTo>
                  <a:lnTo>
                    <a:pt x="163" y="370"/>
                  </a:lnTo>
                  <a:lnTo>
                    <a:pt x="170" y="366"/>
                  </a:lnTo>
                  <a:lnTo>
                    <a:pt x="167" y="359"/>
                  </a:lnTo>
                  <a:lnTo>
                    <a:pt x="167" y="366"/>
                  </a:lnTo>
                  <a:lnTo>
                    <a:pt x="174" y="366"/>
                  </a:lnTo>
                  <a:lnTo>
                    <a:pt x="185" y="366"/>
                  </a:lnTo>
                  <a:lnTo>
                    <a:pt x="185" y="359"/>
                  </a:lnTo>
                  <a:lnTo>
                    <a:pt x="185" y="366"/>
                  </a:lnTo>
                  <a:lnTo>
                    <a:pt x="192" y="370"/>
                  </a:lnTo>
                  <a:lnTo>
                    <a:pt x="192" y="370"/>
                  </a:lnTo>
                  <a:lnTo>
                    <a:pt x="192" y="370"/>
                  </a:lnTo>
                  <a:lnTo>
                    <a:pt x="199" y="370"/>
                  </a:lnTo>
                  <a:lnTo>
                    <a:pt x="199" y="363"/>
                  </a:lnTo>
                  <a:lnTo>
                    <a:pt x="199" y="370"/>
                  </a:lnTo>
                  <a:lnTo>
                    <a:pt x="210" y="374"/>
                  </a:lnTo>
                  <a:lnTo>
                    <a:pt x="217" y="377"/>
                  </a:lnTo>
                  <a:lnTo>
                    <a:pt x="217" y="370"/>
                  </a:lnTo>
                  <a:lnTo>
                    <a:pt x="214" y="374"/>
                  </a:lnTo>
                  <a:lnTo>
                    <a:pt x="217" y="377"/>
                  </a:lnTo>
                  <a:lnTo>
                    <a:pt x="225" y="384"/>
                  </a:lnTo>
                  <a:lnTo>
                    <a:pt x="228" y="381"/>
                  </a:lnTo>
                  <a:lnTo>
                    <a:pt x="225" y="384"/>
                  </a:lnTo>
                  <a:lnTo>
                    <a:pt x="228" y="392"/>
                  </a:lnTo>
                  <a:lnTo>
                    <a:pt x="228" y="392"/>
                  </a:lnTo>
                  <a:lnTo>
                    <a:pt x="232" y="395"/>
                  </a:lnTo>
                  <a:lnTo>
                    <a:pt x="239" y="399"/>
                  </a:lnTo>
                  <a:lnTo>
                    <a:pt x="239" y="392"/>
                  </a:lnTo>
                  <a:lnTo>
                    <a:pt x="236" y="392"/>
                  </a:lnTo>
                  <a:lnTo>
                    <a:pt x="236" y="399"/>
                  </a:lnTo>
                  <a:lnTo>
                    <a:pt x="236" y="403"/>
                  </a:lnTo>
                  <a:lnTo>
                    <a:pt x="236" y="403"/>
                  </a:lnTo>
                  <a:lnTo>
                    <a:pt x="239" y="410"/>
                  </a:lnTo>
                  <a:lnTo>
                    <a:pt x="243" y="406"/>
                  </a:lnTo>
                  <a:lnTo>
                    <a:pt x="239" y="406"/>
                  </a:lnTo>
                  <a:lnTo>
                    <a:pt x="236" y="424"/>
                  </a:lnTo>
                  <a:lnTo>
                    <a:pt x="236" y="446"/>
                  </a:lnTo>
                  <a:lnTo>
                    <a:pt x="232" y="471"/>
                  </a:lnTo>
                  <a:lnTo>
                    <a:pt x="232" y="501"/>
                  </a:lnTo>
                  <a:lnTo>
                    <a:pt x="228" y="533"/>
                  </a:lnTo>
                  <a:lnTo>
                    <a:pt x="228" y="562"/>
                  </a:lnTo>
                  <a:lnTo>
                    <a:pt x="228" y="566"/>
                  </a:lnTo>
                  <a:lnTo>
                    <a:pt x="228" y="566"/>
                  </a:lnTo>
                  <a:lnTo>
                    <a:pt x="232" y="580"/>
                  </a:lnTo>
                  <a:lnTo>
                    <a:pt x="236" y="577"/>
                  </a:lnTo>
                  <a:lnTo>
                    <a:pt x="232" y="577"/>
                  </a:lnTo>
                  <a:lnTo>
                    <a:pt x="232" y="591"/>
                  </a:lnTo>
                  <a:lnTo>
                    <a:pt x="232" y="595"/>
                  </a:lnTo>
                  <a:lnTo>
                    <a:pt x="232" y="595"/>
                  </a:lnTo>
                  <a:lnTo>
                    <a:pt x="236" y="606"/>
                  </a:lnTo>
                  <a:lnTo>
                    <a:pt x="239" y="620"/>
                  </a:lnTo>
                  <a:lnTo>
                    <a:pt x="239" y="620"/>
                  </a:lnTo>
                  <a:lnTo>
                    <a:pt x="239" y="620"/>
                  </a:lnTo>
                  <a:lnTo>
                    <a:pt x="243" y="624"/>
                  </a:lnTo>
                  <a:lnTo>
                    <a:pt x="246" y="627"/>
                  </a:lnTo>
                  <a:lnTo>
                    <a:pt x="246" y="627"/>
                  </a:lnTo>
                  <a:lnTo>
                    <a:pt x="257" y="627"/>
                  </a:lnTo>
                  <a:lnTo>
                    <a:pt x="257" y="620"/>
                  </a:lnTo>
                  <a:lnTo>
                    <a:pt x="257" y="627"/>
                  </a:lnTo>
                  <a:lnTo>
                    <a:pt x="268" y="631"/>
                  </a:lnTo>
                  <a:lnTo>
                    <a:pt x="268" y="631"/>
                  </a:lnTo>
                  <a:lnTo>
                    <a:pt x="268" y="631"/>
                  </a:lnTo>
                  <a:lnTo>
                    <a:pt x="279" y="631"/>
                  </a:lnTo>
                  <a:lnTo>
                    <a:pt x="308" y="631"/>
                  </a:lnTo>
                  <a:lnTo>
                    <a:pt x="337" y="631"/>
                  </a:lnTo>
                  <a:lnTo>
                    <a:pt x="373" y="627"/>
                  </a:lnTo>
                  <a:lnTo>
                    <a:pt x="406" y="627"/>
                  </a:lnTo>
                  <a:lnTo>
                    <a:pt x="442" y="624"/>
                  </a:lnTo>
                  <a:lnTo>
                    <a:pt x="475" y="624"/>
                  </a:lnTo>
                  <a:lnTo>
                    <a:pt x="482" y="624"/>
                  </a:lnTo>
                  <a:close/>
                  <a:moveTo>
                    <a:pt x="475" y="613"/>
                  </a:moveTo>
                  <a:lnTo>
                    <a:pt x="442" y="613"/>
                  </a:lnTo>
                  <a:lnTo>
                    <a:pt x="406" y="617"/>
                  </a:lnTo>
                  <a:lnTo>
                    <a:pt x="373" y="617"/>
                  </a:lnTo>
                  <a:lnTo>
                    <a:pt x="337" y="620"/>
                  </a:lnTo>
                  <a:lnTo>
                    <a:pt x="308" y="620"/>
                  </a:lnTo>
                  <a:lnTo>
                    <a:pt x="279" y="620"/>
                  </a:lnTo>
                  <a:lnTo>
                    <a:pt x="268" y="620"/>
                  </a:lnTo>
                  <a:lnTo>
                    <a:pt x="268" y="624"/>
                  </a:lnTo>
                  <a:lnTo>
                    <a:pt x="272" y="620"/>
                  </a:lnTo>
                  <a:lnTo>
                    <a:pt x="261" y="617"/>
                  </a:lnTo>
                  <a:lnTo>
                    <a:pt x="261" y="617"/>
                  </a:lnTo>
                  <a:lnTo>
                    <a:pt x="257" y="617"/>
                  </a:lnTo>
                  <a:lnTo>
                    <a:pt x="246" y="617"/>
                  </a:lnTo>
                  <a:lnTo>
                    <a:pt x="246" y="620"/>
                  </a:lnTo>
                  <a:lnTo>
                    <a:pt x="250" y="617"/>
                  </a:lnTo>
                  <a:lnTo>
                    <a:pt x="246" y="613"/>
                  </a:lnTo>
                  <a:lnTo>
                    <a:pt x="243" y="617"/>
                  </a:lnTo>
                  <a:lnTo>
                    <a:pt x="250" y="617"/>
                  </a:lnTo>
                  <a:lnTo>
                    <a:pt x="246" y="602"/>
                  </a:lnTo>
                  <a:lnTo>
                    <a:pt x="243" y="591"/>
                  </a:lnTo>
                  <a:lnTo>
                    <a:pt x="236" y="591"/>
                  </a:lnTo>
                  <a:lnTo>
                    <a:pt x="243" y="591"/>
                  </a:lnTo>
                  <a:lnTo>
                    <a:pt x="243" y="577"/>
                  </a:lnTo>
                  <a:lnTo>
                    <a:pt x="243" y="577"/>
                  </a:lnTo>
                  <a:lnTo>
                    <a:pt x="243" y="577"/>
                  </a:lnTo>
                  <a:lnTo>
                    <a:pt x="239" y="562"/>
                  </a:lnTo>
                  <a:lnTo>
                    <a:pt x="232" y="562"/>
                  </a:lnTo>
                  <a:lnTo>
                    <a:pt x="239" y="562"/>
                  </a:lnTo>
                  <a:lnTo>
                    <a:pt x="239" y="533"/>
                  </a:lnTo>
                  <a:lnTo>
                    <a:pt x="243" y="501"/>
                  </a:lnTo>
                  <a:lnTo>
                    <a:pt x="243" y="471"/>
                  </a:lnTo>
                  <a:lnTo>
                    <a:pt x="246" y="446"/>
                  </a:lnTo>
                  <a:lnTo>
                    <a:pt x="246" y="424"/>
                  </a:lnTo>
                  <a:lnTo>
                    <a:pt x="250" y="406"/>
                  </a:lnTo>
                  <a:lnTo>
                    <a:pt x="250" y="406"/>
                  </a:lnTo>
                  <a:lnTo>
                    <a:pt x="250" y="406"/>
                  </a:lnTo>
                  <a:lnTo>
                    <a:pt x="246" y="399"/>
                  </a:lnTo>
                  <a:lnTo>
                    <a:pt x="239" y="399"/>
                  </a:lnTo>
                  <a:lnTo>
                    <a:pt x="246" y="399"/>
                  </a:lnTo>
                  <a:lnTo>
                    <a:pt x="246" y="392"/>
                  </a:lnTo>
                  <a:lnTo>
                    <a:pt x="246" y="388"/>
                  </a:lnTo>
                  <a:lnTo>
                    <a:pt x="243" y="388"/>
                  </a:lnTo>
                  <a:lnTo>
                    <a:pt x="236" y="384"/>
                  </a:lnTo>
                  <a:lnTo>
                    <a:pt x="232" y="388"/>
                  </a:lnTo>
                  <a:lnTo>
                    <a:pt x="239" y="388"/>
                  </a:lnTo>
                  <a:lnTo>
                    <a:pt x="236" y="381"/>
                  </a:lnTo>
                  <a:lnTo>
                    <a:pt x="236" y="381"/>
                  </a:lnTo>
                  <a:lnTo>
                    <a:pt x="232" y="377"/>
                  </a:lnTo>
                  <a:lnTo>
                    <a:pt x="225" y="370"/>
                  </a:lnTo>
                  <a:lnTo>
                    <a:pt x="221" y="366"/>
                  </a:lnTo>
                  <a:lnTo>
                    <a:pt x="221" y="366"/>
                  </a:lnTo>
                  <a:lnTo>
                    <a:pt x="221" y="366"/>
                  </a:lnTo>
                  <a:lnTo>
                    <a:pt x="214" y="363"/>
                  </a:lnTo>
                  <a:lnTo>
                    <a:pt x="203" y="359"/>
                  </a:lnTo>
                  <a:lnTo>
                    <a:pt x="203" y="359"/>
                  </a:lnTo>
                  <a:lnTo>
                    <a:pt x="199" y="359"/>
                  </a:lnTo>
                  <a:lnTo>
                    <a:pt x="192" y="359"/>
                  </a:lnTo>
                  <a:lnTo>
                    <a:pt x="192" y="363"/>
                  </a:lnTo>
                  <a:lnTo>
                    <a:pt x="196" y="359"/>
                  </a:lnTo>
                  <a:lnTo>
                    <a:pt x="188" y="355"/>
                  </a:lnTo>
                  <a:lnTo>
                    <a:pt x="188" y="355"/>
                  </a:lnTo>
                  <a:lnTo>
                    <a:pt x="185" y="355"/>
                  </a:lnTo>
                  <a:lnTo>
                    <a:pt x="174" y="355"/>
                  </a:lnTo>
                  <a:lnTo>
                    <a:pt x="167" y="355"/>
                  </a:lnTo>
                  <a:lnTo>
                    <a:pt x="167" y="355"/>
                  </a:lnTo>
                  <a:lnTo>
                    <a:pt x="167" y="355"/>
                  </a:lnTo>
                  <a:lnTo>
                    <a:pt x="159" y="359"/>
                  </a:lnTo>
                  <a:lnTo>
                    <a:pt x="152" y="363"/>
                  </a:lnTo>
                  <a:lnTo>
                    <a:pt x="145" y="366"/>
                  </a:lnTo>
                  <a:lnTo>
                    <a:pt x="138" y="370"/>
                  </a:lnTo>
                  <a:lnTo>
                    <a:pt x="134" y="370"/>
                  </a:lnTo>
                  <a:lnTo>
                    <a:pt x="134" y="374"/>
                  </a:lnTo>
                  <a:lnTo>
                    <a:pt x="130" y="381"/>
                  </a:lnTo>
                  <a:lnTo>
                    <a:pt x="134" y="381"/>
                  </a:lnTo>
                  <a:lnTo>
                    <a:pt x="134" y="377"/>
                  </a:lnTo>
                  <a:lnTo>
                    <a:pt x="127" y="381"/>
                  </a:lnTo>
                  <a:lnTo>
                    <a:pt x="116" y="384"/>
                  </a:lnTo>
                  <a:lnTo>
                    <a:pt x="109" y="388"/>
                  </a:lnTo>
                  <a:lnTo>
                    <a:pt x="109" y="392"/>
                  </a:lnTo>
                  <a:lnTo>
                    <a:pt x="109" y="388"/>
                  </a:lnTo>
                  <a:lnTo>
                    <a:pt x="98" y="388"/>
                  </a:lnTo>
                  <a:lnTo>
                    <a:pt x="83" y="388"/>
                  </a:lnTo>
                  <a:lnTo>
                    <a:pt x="83" y="392"/>
                  </a:lnTo>
                  <a:lnTo>
                    <a:pt x="87" y="388"/>
                  </a:lnTo>
                  <a:lnTo>
                    <a:pt x="76" y="384"/>
                  </a:lnTo>
                  <a:lnTo>
                    <a:pt x="65" y="381"/>
                  </a:lnTo>
                  <a:lnTo>
                    <a:pt x="54" y="377"/>
                  </a:lnTo>
                  <a:lnTo>
                    <a:pt x="43" y="374"/>
                  </a:lnTo>
                  <a:lnTo>
                    <a:pt x="33" y="366"/>
                  </a:lnTo>
                  <a:lnTo>
                    <a:pt x="29" y="370"/>
                  </a:lnTo>
                  <a:lnTo>
                    <a:pt x="36" y="370"/>
                  </a:lnTo>
                  <a:lnTo>
                    <a:pt x="29" y="359"/>
                  </a:lnTo>
                  <a:lnTo>
                    <a:pt x="29" y="359"/>
                  </a:lnTo>
                  <a:lnTo>
                    <a:pt x="25" y="355"/>
                  </a:lnTo>
                  <a:lnTo>
                    <a:pt x="22" y="352"/>
                  </a:lnTo>
                  <a:lnTo>
                    <a:pt x="18" y="355"/>
                  </a:lnTo>
                  <a:lnTo>
                    <a:pt x="25" y="355"/>
                  </a:lnTo>
                  <a:lnTo>
                    <a:pt x="22" y="348"/>
                  </a:lnTo>
                  <a:lnTo>
                    <a:pt x="22" y="348"/>
                  </a:lnTo>
                  <a:lnTo>
                    <a:pt x="18" y="345"/>
                  </a:lnTo>
                  <a:lnTo>
                    <a:pt x="14" y="341"/>
                  </a:lnTo>
                  <a:lnTo>
                    <a:pt x="11" y="345"/>
                  </a:lnTo>
                  <a:lnTo>
                    <a:pt x="18" y="345"/>
                  </a:lnTo>
                  <a:lnTo>
                    <a:pt x="18" y="337"/>
                  </a:lnTo>
                  <a:lnTo>
                    <a:pt x="18" y="337"/>
                  </a:lnTo>
                  <a:lnTo>
                    <a:pt x="14" y="334"/>
                  </a:lnTo>
                  <a:lnTo>
                    <a:pt x="11" y="330"/>
                  </a:lnTo>
                  <a:lnTo>
                    <a:pt x="7" y="334"/>
                  </a:lnTo>
                  <a:lnTo>
                    <a:pt x="14" y="334"/>
                  </a:lnTo>
                  <a:lnTo>
                    <a:pt x="14" y="326"/>
                  </a:lnTo>
                  <a:lnTo>
                    <a:pt x="14" y="326"/>
                  </a:lnTo>
                  <a:lnTo>
                    <a:pt x="14" y="326"/>
                  </a:lnTo>
                  <a:lnTo>
                    <a:pt x="11" y="319"/>
                  </a:lnTo>
                  <a:lnTo>
                    <a:pt x="4" y="319"/>
                  </a:lnTo>
                  <a:lnTo>
                    <a:pt x="11" y="319"/>
                  </a:lnTo>
                  <a:lnTo>
                    <a:pt x="11" y="312"/>
                  </a:lnTo>
                  <a:lnTo>
                    <a:pt x="11" y="305"/>
                  </a:lnTo>
                  <a:lnTo>
                    <a:pt x="4" y="305"/>
                  </a:lnTo>
                  <a:lnTo>
                    <a:pt x="11" y="308"/>
                  </a:lnTo>
                  <a:lnTo>
                    <a:pt x="14" y="297"/>
                  </a:lnTo>
                  <a:lnTo>
                    <a:pt x="14" y="297"/>
                  </a:lnTo>
                  <a:lnTo>
                    <a:pt x="14" y="294"/>
                  </a:lnTo>
                  <a:lnTo>
                    <a:pt x="14" y="286"/>
                  </a:lnTo>
                  <a:lnTo>
                    <a:pt x="7" y="286"/>
                  </a:lnTo>
                  <a:lnTo>
                    <a:pt x="14" y="290"/>
                  </a:lnTo>
                  <a:lnTo>
                    <a:pt x="18" y="283"/>
                  </a:lnTo>
                  <a:lnTo>
                    <a:pt x="22" y="276"/>
                  </a:lnTo>
                  <a:lnTo>
                    <a:pt x="22" y="276"/>
                  </a:lnTo>
                  <a:lnTo>
                    <a:pt x="22" y="272"/>
                  </a:lnTo>
                  <a:lnTo>
                    <a:pt x="22" y="265"/>
                  </a:lnTo>
                  <a:lnTo>
                    <a:pt x="14" y="265"/>
                  </a:lnTo>
                  <a:lnTo>
                    <a:pt x="18" y="268"/>
                  </a:lnTo>
                  <a:lnTo>
                    <a:pt x="22" y="265"/>
                  </a:lnTo>
                  <a:lnTo>
                    <a:pt x="25" y="265"/>
                  </a:lnTo>
                  <a:lnTo>
                    <a:pt x="25" y="265"/>
                  </a:lnTo>
                  <a:lnTo>
                    <a:pt x="29" y="257"/>
                  </a:lnTo>
                  <a:lnTo>
                    <a:pt x="22" y="254"/>
                  </a:lnTo>
                  <a:lnTo>
                    <a:pt x="25" y="261"/>
                  </a:lnTo>
                  <a:lnTo>
                    <a:pt x="36" y="254"/>
                  </a:lnTo>
                  <a:lnTo>
                    <a:pt x="36" y="254"/>
                  </a:lnTo>
                  <a:lnTo>
                    <a:pt x="36" y="250"/>
                  </a:lnTo>
                  <a:lnTo>
                    <a:pt x="47" y="239"/>
                  </a:lnTo>
                  <a:lnTo>
                    <a:pt x="43" y="236"/>
                  </a:lnTo>
                  <a:lnTo>
                    <a:pt x="47" y="243"/>
                  </a:lnTo>
                  <a:lnTo>
                    <a:pt x="58" y="236"/>
                  </a:lnTo>
                  <a:lnTo>
                    <a:pt x="69" y="232"/>
                  </a:lnTo>
                  <a:lnTo>
                    <a:pt x="80" y="228"/>
                  </a:lnTo>
                  <a:lnTo>
                    <a:pt x="76" y="221"/>
                  </a:lnTo>
                  <a:lnTo>
                    <a:pt x="76" y="228"/>
                  </a:lnTo>
                  <a:lnTo>
                    <a:pt x="91" y="228"/>
                  </a:lnTo>
                  <a:lnTo>
                    <a:pt x="101" y="228"/>
                  </a:lnTo>
                  <a:lnTo>
                    <a:pt x="112" y="228"/>
                  </a:lnTo>
                  <a:lnTo>
                    <a:pt x="112" y="221"/>
                  </a:lnTo>
                  <a:lnTo>
                    <a:pt x="112" y="228"/>
                  </a:lnTo>
                  <a:lnTo>
                    <a:pt x="123" y="232"/>
                  </a:lnTo>
                  <a:lnTo>
                    <a:pt x="134" y="236"/>
                  </a:lnTo>
                  <a:lnTo>
                    <a:pt x="145" y="243"/>
                  </a:lnTo>
                  <a:lnTo>
                    <a:pt x="152" y="247"/>
                  </a:lnTo>
                  <a:lnTo>
                    <a:pt x="152" y="239"/>
                  </a:lnTo>
                  <a:lnTo>
                    <a:pt x="149" y="243"/>
                  </a:lnTo>
                  <a:lnTo>
                    <a:pt x="152" y="250"/>
                  </a:lnTo>
                  <a:lnTo>
                    <a:pt x="152" y="250"/>
                  </a:lnTo>
                  <a:lnTo>
                    <a:pt x="152" y="250"/>
                  </a:lnTo>
                  <a:lnTo>
                    <a:pt x="156" y="254"/>
                  </a:lnTo>
                  <a:lnTo>
                    <a:pt x="159" y="257"/>
                  </a:lnTo>
                  <a:lnTo>
                    <a:pt x="159" y="257"/>
                  </a:lnTo>
                  <a:lnTo>
                    <a:pt x="167" y="261"/>
                  </a:lnTo>
                  <a:lnTo>
                    <a:pt x="174" y="265"/>
                  </a:lnTo>
                  <a:lnTo>
                    <a:pt x="174" y="265"/>
                  </a:lnTo>
                  <a:lnTo>
                    <a:pt x="174" y="265"/>
                  </a:lnTo>
                  <a:lnTo>
                    <a:pt x="181" y="265"/>
                  </a:lnTo>
                  <a:lnTo>
                    <a:pt x="181" y="257"/>
                  </a:lnTo>
                  <a:lnTo>
                    <a:pt x="181" y="265"/>
                  </a:lnTo>
                  <a:lnTo>
                    <a:pt x="188" y="268"/>
                  </a:lnTo>
                  <a:lnTo>
                    <a:pt x="188" y="268"/>
                  </a:lnTo>
                  <a:lnTo>
                    <a:pt x="188" y="268"/>
                  </a:lnTo>
                  <a:lnTo>
                    <a:pt x="196" y="268"/>
                  </a:lnTo>
                  <a:lnTo>
                    <a:pt x="203" y="268"/>
                  </a:lnTo>
                  <a:lnTo>
                    <a:pt x="210" y="268"/>
                  </a:lnTo>
                  <a:lnTo>
                    <a:pt x="217" y="268"/>
                  </a:lnTo>
                  <a:lnTo>
                    <a:pt x="225" y="268"/>
                  </a:lnTo>
                  <a:lnTo>
                    <a:pt x="228" y="268"/>
                  </a:lnTo>
                  <a:lnTo>
                    <a:pt x="228" y="268"/>
                  </a:lnTo>
                  <a:lnTo>
                    <a:pt x="236" y="265"/>
                  </a:lnTo>
                  <a:lnTo>
                    <a:pt x="246" y="261"/>
                  </a:lnTo>
                  <a:lnTo>
                    <a:pt x="246" y="261"/>
                  </a:lnTo>
                  <a:lnTo>
                    <a:pt x="246" y="257"/>
                  </a:lnTo>
                  <a:lnTo>
                    <a:pt x="250" y="254"/>
                  </a:lnTo>
                  <a:lnTo>
                    <a:pt x="246" y="250"/>
                  </a:lnTo>
                  <a:lnTo>
                    <a:pt x="250" y="257"/>
                  </a:lnTo>
                  <a:lnTo>
                    <a:pt x="261" y="254"/>
                  </a:lnTo>
                  <a:lnTo>
                    <a:pt x="261" y="250"/>
                  </a:lnTo>
                  <a:lnTo>
                    <a:pt x="265" y="250"/>
                  </a:lnTo>
                  <a:lnTo>
                    <a:pt x="268" y="243"/>
                  </a:lnTo>
                  <a:lnTo>
                    <a:pt x="261" y="239"/>
                  </a:lnTo>
                  <a:lnTo>
                    <a:pt x="261" y="247"/>
                  </a:lnTo>
                  <a:lnTo>
                    <a:pt x="265" y="247"/>
                  </a:lnTo>
                  <a:lnTo>
                    <a:pt x="268" y="247"/>
                  </a:lnTo>
                  <a:lnTo>
                    <a:pt x="268" y="243"/>
                  </a:lnTo>
                  <a:lnTo>
                    <a:pt x="272" y="239"/>
                  </a:lnTo>
                  <a:lnTo>
                    <a:pt x="275" y="239"/>
                  </a:lnTo>
                  <a:lnTo>
                    <a:pt x="275" y="236"/>
                  </a:lnTo>
                  <a:lnTo>
                    <a:pt x="275" y="228"/>
                  </a:lnTo>
                  <a:lnTo>
                    <a:pt x="268" y="228"/>
                  </a:lnTo>
                  <a:lnTo>
                    <a:pt x="272" y="232"/>
                  </a:lnTo>
                  <a:lnTo>
                    <a:pt x="275" y="228"/>
                  </a:lnTo>
                  <a:lnTo>
                    <a:pt x="279" y="228"/>
                  </a:lnTo>
                  <a:lnTo>
                    <a:pt x="279" y="228"/>
                  </a:lnTo>
                  <a:lnTo>
                    <a:pt x="283" y="218"/>
                  </a:lnTo>
                  <a:lnTo>
                    <a:pt x="283" y="218"/>
                  </a:lnTo>
                  <a:lnTo>
                    <a:pt x="283" y="214"/>
                  </a:lnTo>
                  <a:lnTo>
                    <a:pt x="283" y="203"/>
                  </a:lnTo>
                  <a:lnTo>
                    <a:pt x="283" y="189"/>
                  </a:lnTo>
                  <a:lnTo>
                    <a:pt x="283" y="174"/>
                  </a:lnTo>
                  <a:lnTo>
                    <a:pt x="279" y="156"/>
                  </a:lnTo>
                  <a:lnTo>
                    <a:pt x="279" y="141"/>
                  </a:lnTo>
                  <a:lnTo>
                    <a:pt x="279" y="141"/>
                  </a:lnTo>
                  <a:lnTo>
                    <a:pt x="279" y="141"/>
                  </a:lnTo>
                  <a:lnTo>
                    <a:pt x="272" y="109"/>
                  </a:lnTo>
                  <a:lnTo>
                    <a:pt x="265" y="76"/>
                  </a:lnTo>
                  <a:lnTo>
                    <a:pt x="254" y="51"/>
                  </a:lnTo>
                  <a:lnTo>
                    <a:pt x="246" y="51"/>
                  </a:lnTo>
                  <a:lnTo>
                    <a:pt x="254" y="51"/>
                  </a:lnTo>
                  <a:lnTo>
                    <a:pt x="250" y="29"/>
                  </a:lnTo>
                  <a:lnTo>
                    <a:pt x="243" y="29"/>
                  </a:lnTo>
                  <a:lnTo>
                    <a:pt x="243" y="36"/>
                  </a:lnTo>
                  <a:lnTo>
                    <a:pt x="261" y="33"/>
                  </a:lnTo>
                  <a:lnTo>
                    <a:pt x="286" y="29"/>
                  </a:lnTo>
                  <a:lnTo>
                    <a:pt x="315" y="25"/>
                  </a:lnTo>
                  <a:lnTo>
                    <a:pt x="348" y="25"/>
                  </a:lnTo>
                  <a:lnTo>
                    <a:pt x="377" y="22"/>
                  </a:lnTo>
                  <a:lnTo>
                    <a:pt x="406" y="22"/>
                  </a:lnTo>
                  <a:lnTo>
                    <a:pt x="431" y="25"/>
                  </a:lnTo>
                  <a:lnTo>
                    <a:pt x="449" y="25"/>
                  </a:lnTo>
                  <a:lnTo>
                    <a:pt x="468" y="29"/>
                  </a:lnTo>
                  <a:lnTo>
                    <a:pt x="468" y="22"/>
                  </a:lnTo>
                  <a:lnTo>
                    <a:pt x="468" y="29"/>
                  </a:lnTo>
                  <a:lnTo>
                    <a:pt x="482" y="36"/>
                  </a:lnTo>
                  <a:lnTo>
                    <a:pt x="493" y="40"/>
                  </a:lnTo>
                  <a:lnTo>
                    <a:pt x="504" y="47"/>
                  </a:lnTo>
                  <a:lnTo>
                    <a:pt x="515" y="51"/>
                  </a:lnTo>
                  <a:lnTo>
                    <a:pt x="515" y="43"/>
                  </a:lnTo>
                  <a:lnTo>
                    <a:pt x="511" y="47"/>
                  </a:lnTo>
                  <a:lnTo>
                    <a:pt x="518" y="54"/>
                  </a:lnTo>
                  <a:lnTo>
                    <a:pt x="522" y="51"/>
                  </a:lnTo>
                  <a:lnTo>
                    <a:pt x="518" y="54"/>
                  </a:lnTo>
                  <a:lnTo>
                    <a:pt x="522" y="62"/>
                  </a:lnTo>
                  <a:lnTo>
                    <a:pt x="526" y="69"/>
                  </a:lnTo>
                  <a:lnTo>
                    <a:pt x="529" y="76"/>
                  </a:lnTo>
                  <a:lnTo>
                    <a:pt x="533" y="72"/>
                  </a:lnTo>
                  <a:lnTo>
                    <a:pt x="529" y="72"/>
                  </a:lnTo>
                  <a:lnTo>
                    <a:pt x="529" y="80"/>
                  </a:lnTo>
                  <a:lnTo>
                    <a:pt x="529" y="87"/>
                  </a:lnTo>
                  <a:lnTo>
                    <a:pt x="533" y="87"/>
                  </a:lnTo>
                  <a:lnTo>
                    <a:pt x="529" y="87"/>
                  </a:lnTo>
                  <a:lnTo>
                    <a:pt x="526" y="94"/>
                  </a:lnTo>
                  <a:lnTo>
                    <a:pt x="522" y="102"/>
                  </a:lnTo>
                  <a:lnTo>
                    <a:pt x="518" y="109"/>
                  </a:lnTo>
                  <a:lnTo>
                    <a:pt x="515" y="116"/>
                  </a:lnTo>
                  <a:lnTo>
                    <a:pt x="518" y="116"/>
                  </a:lnTo>
                  <a:lnTo>
                    <a:pt x="515" y="112"/>
                  </a:lnTo>
                  <a:lnTo>
                    <a:pt x="507" y="120"/>
                  </a:lnTo>
                  <a:lnTo>
                    <a:pt x="500" y="127"/>
                  </a:lnTo>
                  <a:lnTo>
                    <a:pt x="500" y="131"/>
                  </a:lnTo>
                  <a:lnTo>
                    <a:pt x="500" y="131"/>
                  </a:lnTo>
                  <a:lnTo>
                    <a:pt x="497" y="141"/>
                  </a:lnTo>
                  <a:lnTo>
                    <a:pt x="500" y="141"/>
                  </a:lnTo>
                  <a:lnTo>
                    <a:pt x="497" y="138"/>
                  </a:lnTo>
                  <a:lnTo>
                    <a:pt x="489" y="145"/>
                  </a:lnTo>
                  <a:lnTo>
                    <a:pt x="489" y="149"/>
                  </a:lnTo>
                  <a:lnTo>
                    <a:pt x="489" y="149"/>
                  </a:lnTo>
                  <a:lnTo>
                    <a:pt x="489" y="163"/>
                  </a:lnTo>
                  <a:lnTo>
                    <a:pt x="493" y="163"/>
                  </a:lnTo>
                  <a:lnTo>
                    <a:pt x="489" y="163"/>
                  </a:lnTo>
                  <a:lnTo>
                    <a:pt x="486" y="174"/>
                  </a:lnTo>
                  <a:lnTo>
                    <a:pt x="482" y="174"/>
                  </a:lnTo>
                  <a:lnTo>
                    <a:pt x="486" y="178"/>
                  </a:lnTo>
                  <a:lnTo>
                    <a:pt x="489" y="189"/>
                  </a:lnTo>
                  <a:lnTo>
                    <a:pt x="493" y="185"/>
                  </a:lnTo>
                  <a:lnTo>
                    <a:pt x="489" y="185"/>
                  </a:lnTo>
                  <a:lnTo>
                    <a:pt x="489" y="199"/>
                  </a:lnTo>
                  <a:lnTo>
                    <a:pt x="489" y="203"/>
                  </a:lnTo>
                  <a:lnTo>
                    <a:pt x="489" y="203"/>
                  </a:lnTo>
                  <a:lnTo>
                    <a:pt x="493" y="214"/>
                  </a:lnTo>
                  <a:lnTo>
                    <a:pt x="497" y="225"/>
                  </a:lnTo>
                  <a:lnTo>
                    <a:pt x="504" y="236"/>
                  </a:lnTo>
                  <a:lnTo>
                    <a:pt x="504" y="236"/>
                  </a:lnTo>
                  <a:lnTo>
                    <a:pt x="504" y="236"/>
                  </a:lnTo>
                  <a:lnTo>
                    <a:pt x="511" y="243"/>
                  </a:lnTo>
                  <a:lnTo>
                    <a:pt x="515" y="247"/>
                  </a:lnTo>
                  <a:lnTo>
                    <a:pt x="515" y="247"/>
                  </a:lnTo>
                  <a:lnTo>
                    <a:pt x="526" y="254"/>
                  </a:lnTo>
                  <a:lnTo>
                    <a:pt x="533" y="257"/>
                  </a:lnTo>
                  <a:lnTo>
                    <a:pt x="533" y="250"/>
                  </a:lnTo>
                  <a:lnTo>
                    <a:pt x="529" y="254"/>
                  </a:lnTo>
                  <a:lnTo>
                    <a:pt x="533" y="257"/>
                  </a:lnTo>
                  <a:lnTo>
                    <a:pt x="536" y="261"/>
                  </a:lnTo>
                  <a:lnTo>
                    <a:pt x="536" y="261"/>
                  </a:lnTo>
                  <a:lnTo>
                    <a:pt x="544" y="265"/>
                  </a:lnTo>
                  <a:lnTo>
                    <a:pt x="551" y="268"/>
                  </a:lnTo>
                  <a:lnTo>
                    <a:pt x="551" y="268"/>
                  </a:lnTo>
                  <a:lnTo>
                    <a:pt x="551" y="268"/>
                  </a:lnTo>
                  <a:lnTo>
                    <a:pt x="558" y="268"/>
                  </a:lnTo>
                  <a:lnTo>
                    <a:pt x="558" y="261"/>
                  </a:lnTo>
                  <a:lnTo>
                    <a:pt x="558" y="268"/>
                  </a:lnTo>
                  <a:lnTo>
                    <a:pt x="566" y="272"/>
                  </a:lnTo>
                  <a:lnTo>
                    <a:pt x="566" y="272"/>
                  </a:lnTo>
                  <a:lnTo>
                    <a:pt x="566" y="272"/>
                  </a:lnTo>
                  <a:lnTo>
                    <a:pt x="573" y="272"/>
                  </a:lnTo>
                  <a:lnTo>
                    <a:pt x="580" y="272"/>
                  </a:lnTo>
                  <a:lnTo>
                    <a:pt x="595" y="268"/>
                  </a:lnTo>
                  <a:lnTo>
                    <a:pt x="609" y="265"/>
                  </a:lnTo>
                  <a:lnTo>
                    <a:pt x="624" y="261"/>
                  </a:lnTo>
                  <a:lnTo>
                    <a:pt x="627" y="257"/>
                  </a:lnTo>
                  <a:lnTo>
                    <a:pt x="627" y="261"/>
                  </a:lnTo>
                  <a:lnTo>
                    <a:pt x="638" y="254"/>
                  </a:lnTo>
                  <a:lnTo>
                    <a:pt x="649" y="247"/>
                  </a:lnTo>
                  <a:lnTo>
                    <a:pt x="649" y="247"/>
                  </a:lnTo>
                  <a:lnTo>
                    <a:pt x="649" y="243"/>
                  </a:lnTo>
                  <a:lnTo>
                    <a:pt x="656" y="236"/>
                  </a:lnTo>
                  <a:lnTo>
                    <a:pt x="660" y="236"/>
                  </a:lnTo>
                  <a:lnTo>
                    <a:pt x="660" y="236"/>
                  </a:lnTo>
                  <a:lnTo>
                    <a:pt x="667" y="225"/>
                  </a:lnTo>
                  <a:lnTo>
                    <a:pt x="671" y="214"/>
                  </a:lnTo>
                  <a:lnTo>
                    <a:pt x="663" y="210"/>
                  </a:lnTo>
                  <a:lnTo>
                    <a:pt x="667" y="214"/>
                  </a:lnTo>
                  <a:lnTo>
                    <a:pt x="674" y="207"/>
                  </a:lnTo>
                  <a:lnTo>
                    <a:pt x="678" y="207"/>
                  </a:lnTo>
                  <a:lnTo>
                    <a:pt x="678" y="203"/>
                  </a:lnTo>
                  <a:lnTo>
                    <a:pt x="678" y="192"/>
                  </a:lnTo>
                  <a:lnTo>
                    <a:pt x="678" y="181"/>
                  </a:lnTo>
                  <a:lnTo>
                    <a:pt x="678" y="167"/>
                  </a:lnTo>
                  <a:lnTo>
                    <a:pt x="678" y="167"/>
                  </a:lnTo>
                  <a:lnTo>
                    <a:pt x="678" y="167"/>
                  </a:lnTo>
                  <a:lnTo>
                    <a:pt x="674" y="160"/>
                  </a:lnTo>
                  <a:lnTo>
                    <a:pt x="667" y="145"/>
                  </a:lnTo>
                  <a:lnTo>
                    <a:pt x="663" y="134"/>
                  </a:lnTo>
                  <a:lnTo>
                    <a:pt x="660" y="131"/>
                  </a:lnTo>
                  <a:lnTo>
                    <a:pt x="660" y="131"/>
                  </a:lnTo>
                  <a:lnTo>
                    <a:pt x="649" y="123"/>
                  </a:lnTo>
                  <a:lnTo>
                    <a:pt x="645" y="127"/>
                  </a:lnTo>
                  <a:lnTo>
                    <a:pt x="649" y="123"/>
                  </a:lnTo>
                  <a:lnTo>
                    <a:pt x="642" y="116"/>
                  </a:lnTo>
                  <a:lnTo>
                    <a:pt x="638" y="120"/>
                  </a:lnTo>
                  <a:lnTo>
                    <a:pt x="645" y="120"/>
                  </a:lnTo>
                  <a:lnTo>
                    <a:pt x="638" y="109"/>
                  </a:lnTo>
                  <a:lnTo>
                    <a:pt x="634" y="98"/>
                  </a:lnTo>
                  <a:lnTo>
                    <a:pt x="631" y="87"/>
                  </a:lnTo>
                  <a:lnTo>
                    <a:pt x="627" y="80"/>
                  </a:lnTo>
                  <a:lnTo>
                    <a:pt x="620" y="80"/>
                  </a:lnTo>
                  <a:lnTo>
                    <a:pt x="627" y="80"/>
                  </a:lnTo>
                  <a:lnTo>
                    <a:pt x="627" y="69"/>
                  </a:lnTo>
                  <a:lnTo>
                    <a:pt x="627" y="58"/>
                  </a:lnTo>
                  <a:lnTo>
                    <a:pt x="620" y="58"/>
                  </a:lnTo>
                  <a:lnTo>
                    <a:pt x="627" y="62"/>
                  </a:lnTo>
                  <a:lnTo>
                    <a:pt x="631" y="51"/>
                  </a:lnTo>
                  <a:lnTo>
                    <a:pt x="634" y="43"/>
                  </a:lnTo>
                  <a:lnTo>
                    <a:pt x="634" y="43"/>
                  </a:lnTo>
                  <a:lnTo>
                    <a:pt x="634" y="40"/>
                  </a:lnTo>
                  <a:lnTo>
                    <a:pt x="634" y="29"/>
                  </a:lnTo>
                  <a:lnTo>
                    <a:pt x="627" y="29"/>
                  </a:lnTo>
                  <a:lnTo>
                    <a:pt x="631" y="33"/>
                  </a:lnTo>
                  <a:lnTo>
                    <a:pt x="638" y="25"/>
                  </a:lnTo>
                  <a:lnTo>
                    <a:pt x="642" y="22"/>
                  </a:lnTo>
                  <a:lnTo>
                    <a:pt x="649" y="14"/>
                  </a:lnTo>
                  <a:lnTo>
                    <a:pt x="645" y="11"/>
                  </a:lnTo>
                  <a:lnTo>
                    <a:pt x="649" y="18"/>
                  </a:lnTo>
                  <a:lnTo>
                    <a:pt x="656" y="14"/>
                  </a:lnTo>
                  <a:lnTo>
                    <a:pt x="656" y="14"/>
                  </a:lnTo>
                  <a:lnTo>
                    <a:pt x="656" y="11"/>
                  </a:lnTo>
                  <a:lnTo>
                    <a:pt x="660" y="7"/>
                  </a:lnTo>
                  <a:lnTo>
                    <a:pt x="656" y="4"/>
                  </a:lnTo>
                  <a:lnTo>
                    <a:pt x="656" y="11"/>
                  </a:lnTo>
                  <a:lnTo>
                    <a:pt x="663" y="11"/>
                  </a:lnTo>
                  <a:lnTo>
                    <a:pt x="674" y="11"/>
                  </a:lnTo>
                  <a:lnTo>
                    <a:pt x="689" y="14"/>
                  </a:lnTo>
                  <a:lnTo>
                    <a:pt x="711" y="14"/>
                  </a:lnTo>
                  <a:lnTo>
                    <a:pt x="736" y="18"/>
                  </a:lnTo>
                  <a:lnTo>
                    <a:pt x="761" y="22"/>
                  </a:lnTo>
                  <a:lnTo>
                    <a:pt x="790" y="22"/>
                  </a:lnTo>
                  <a:lnTo>
                    <a:pt x="823" y="25"/>
                  </a:lnTo>
                  <a:lnTo>
                    <a:pt x="856" y="25"/>
                  </a:lnTo>
                  <a:lnTo>
                    <a:pt x="859" y="25"/>
                  </a:lnTo>
                  <a:lnTo>
                    <a:pt x="859" y="18"/>
                  </a:lnTo>
                  <a:lnTo>
                    <a:pt x="856" y="18"/>
                  </a:lnTo>
                  <a:lnTo>
                    <a:pt x="852" y="40"/>
                  </a:lnTo>
                  <a:lnTo>
                    <a:pt x="848" y="62"/>
                  </a:lnTo>
                  <a:lnTo>
                    <a:pt x="845" y="91"/>
                  </a:lnTo>
                  <a:lnTo>
                    <a:pt x="841" y="120"/>
                  </a:lnTo>
                  <a:lnTo>
                    <a:pt x="837" y="149"/>
                  </a:lnTo>
                  <a:lnTo>
                    <a:pt x="837" y="174"/>
                  </a:lnTo>
                  <a:lnTo>
                    <a:pt x="837" y="196"/>
                  </a:lnTo>
                  <a:lnTo>
                    <a:pt x="837" y="207"/>
                  </a:lnTo>
                  <a:lnTo>
                    <a:pt x="837" y="210"/>
                  </a:lnTo>
                  <a:lnTo>
                    <a:pt x="837" y="210"/>
                  </a:lnTo>
                  <a:lnTo>
                    <a:pt x="841" y="218"/>
                  </a:lnTo>
                  <a:lnTo>
                    <a:pt x="845" y="214"/>
                  </a:lnTo>
                  <a:lnTo>
                    <a:pt x="841" y="214"/>
                  </a:lnTo>
                  <a:lnTo>
                    <a:pt x="841" y="221"/>
                  </a:lnTo>
                  <a:lnTo>
                    <a:pt x="841" y="225"/>
                  </a:lnTo>
                  <a:lnTo>
                    <a:pt x="841" y="225"/>
                  </a:lnTo>
                  <a:lnTo>
                    <a:pt x="848" y="232"/>
                  </a:lnTo>
                  <a:lnTo>
                    <a:pt x="852" y="236"/>
                  </a:lnTo>
                  <a:lnTo>
                    <a:pt x="852" y="236"/>
                  </a:lnTo>
                  <a:lnTo>
                    <a:pt x="859" y="239"/>
                  </a:lnTo>
                  <a:lnTo>
                    <a:pt x="859" y="232"/>
                  </a:lnTo>
                  <a:lnTo>
                    <a:pt x="856" y="236"/>
                  </a:lnTo>
                  <a:lnTo>
                    <a:pt x="863" y="243"/>
                  </a:lnTo>
                  <a:lnTo>
                    <a:pt x="866" y="247"/>
                  </a:lnTo>
                  <a:lnTo>
                    <a:pt x="866" y="247"/>
                  </a:lnTo>
                  <a:lnTo>
                    <a:pt x="874" y="247"/>
                  </a:lnTo>
                  <a:lnTo>
                    <a:pt x="874" y="239"/>
                  </a:lnTo>
                  <a:lnTo>
                    <a:pt x="874" y="247"/>
                  </a:lnTo>
                  <a:lnTo>
                    <a:pt x="885" y="250"/>
                  </a:lnTo>
                  <a:lnTo>
                    <a:pt x="895" y="254"/>
                  </a:lnTo>
                  <a:lnTo>
                    <a:pt x="895" y="254"/>
                  </a:lnTo>
                  <a:lnTo>
                    <a:pt x="895" y="254"/>
                  </a:lnTo>
                  <a:lnTo>
                    <a:pt x="903" y="254"/>
                  </a:lnTo>
                  <a:lnTo>
                    <a:pt x="914" y="254"/>
                  </a:lnTo>
                  <a:lnTo>
                    <a:pt x="924" y="254"/>
                  </a:lnTo>
                  <a:lnTo>
                    <a:pt x="935" y="254"/>
                  </a:lnTo>
                  <a:lnTo>
                    <a:pt x="939" y="254"/>
                  </a:lnTo>
                  <a:lnTo>
                    <a:pt x="939" y="254"/>
                  </a:lnTo>
                  <a:lnTo>
                    <a:pt x="946" y="250"/>
                  </a:lnTo>
                  <a:lnTo>
                    <a:pt x="957" y="247"/>
                  </a:lnTo>
                  <a:lnTo>
                    <a:pt x="964" y="243"/>
                  </a:lnTo>
                  <a:lnTo>
                    <a:pt x="964" y="243"/>
                  </a:lnTo>
                  <a:lnTo>
                    <a:pt x="964" y="239"/>
                  </a:lnTo>
                  <a:lnTo>
                    <a:pt x="972" y="232"/>
                  </a:lnTo>
                  <a:lnTo>
                    <a:pt x="968" y="228"/>
                  </a:lnTo>
                  <a:lnTo>
                    <a:pt x="972" y="236"/>
                  </a:lnTo>
                  <a:lnTo>
                    <a:pt x="979" y="232"/>
                  </a:lnTo>
                  <a:lnTo>
                    <a:pt x="986" y="228"/>
                  </a:lnTo>
                  <a:lnTo>
                    <a:pt x="993" y="225"/>
                  </a:lnTo>
                  <a:lnTo>
                    <a:pt x="1004" y="221"/>
                  </a:lnTo>
                  <a:lnTo>
                    <a:pt x="1001" y="214"/>
                  </a:lnTo>
                  <a:lnTo>
                    <a:pt x="1001" y="221"/>
                  </a:lnTo>
                  <a:lnTo>
                    <a:pt x="1011" y="221"/>
                  </a:lnTo>
                  <a:lnTo>
                    <a:pt x="1022" y="221"/>
                  </a:lnTo>
                  <a:lnTo>
                    <a:pt x="1022" y="214"/>
                  </a:lnTo>
                  <a:lnTo>
                    <a:pt x="1022" y="221"/>
                  </a:lnTo>
                  <a:lnTo>
                    <a:pt x="1033" y="225"/>
                  </a:lnTo>
                  <a:lnTo>
                    <a:pt x="1044" y="228"/>
                  </a:lnTo>
                  <a:lnTo>
                    <a:pt x="1055" y="236"/>
                  </a:lnTo>
                  <a:lnTo>
                    <a:pt x="1062" y="239"/>
                  </a:lnTo>
                  <a:lnTo>
                    <a:pt x="1073" y="247"/>
                  </a:lnTo>
                  <a:lnTo>
                    <a:pt x="1073" y="239"/>
                  </a:lnTo>
                  <a:lnTo>
                    <a:pt x="1069" y="243"/>
                  </a:lnTo>
                  <a:lnTo>
                    <a:pt x="1077" y="254"/>
                  </a:lnTo>
                  <a:lnTo>
                    <a:pt x="1080" y="265"/>
                  </a:lnTo>
                  <a:lnTo>
                    <a:pt x="1088" y="276"/>
                  </a:lnTo>
                  <a:lnTo>
                    <a:pt x="1091" y="272"/>
                  </a:lnTo>
                  <a:lnTo>
                    <a:pt x="1088" y="272"/>
                  </a:lnTo>
                  <a:lnTo>
                    <a:pt x="1088" y="286"/>
                  </a:lnTo>
                  <a:lnTo>
                    <a:pt x="1088" y="290"/>
                  </a:lnTo>
                  <a:lnTo>
                    <a:pt x="1088" y="290"/>
                  </a:lnTo>
                  <a:lnTo>
                    <a:pt x="1091" y="305"/>
                  </a:lnTo>
                  <a:lnTo>
                    <a:pt x="1095" y="301"/>
                  </a:lnTo>
                  <a:lnTo>
                    <a:pt x="1091" y="301"/>
                  </a:lnTo>
                  <a:lnTo>
                    <a:pt x="1088" y="308"/>
                  </a:lnTo>
                  <a:lnTo>
                    <a:pt x="1088" y="308"/>
                  </a:lnTo>
                  <a:lnTo>
                    <a:pt x="1088" y="308"/>
                  </a:lnTo>
                  <a:lnTo>
                    <a:pt x="1088" y="319"/>
                  </a:lnTo>
                  <a:lnTo>
                    <a:pt x="1091" y="319"/>
                  </a:lnTo>
                  <a:lnTo>
                    <a:pt x="1088" y="319"/>
                  </a:lnTo>
                  <a:lnTo>
                    <a:pt x="1080" y="330"/>
                  </a:lnTo>
                  <a:lnTo>
                    <a:pt x="1077" y="337"/>
                  </a:lnTo>
                  <a:lnTo>
                    <a:pt x="1080" y="337"/>
                  </a:lnTo>
                  <a:lnTo>
                    <a:pt x="1077" y="334"/>
                  </a:lnTo>
                  <a:lnTo>
                    <a:pt x="1069" y="341"/>
                  </a:lnTo>
                  <a:lnTo>
                    <a:pt x="1073" y="345"/>
                  </a:lnTo>
                  <a:lnTo>
                    <a:pt x="1073" y="341"/>
                  </a:lnTo>
                  <a:lnTo>
                    <a:pt x="1062" y="345"/>
                  </a:lnTo>
                  <a:lnTo>
                    <a:pt x="1062" y="345"/>
                  </a:lnTo>
                  <a:lnTo>
                    <a:pt x="1059" y="345"/>
                  </a:lnTo>
                  <a:lnTo>
                    <a:pt x="1051" y="352"/>
                  </a:lnTo>
                  <a:lnTo>
                    <a:pt x="1055" y="355"/>
                  </a:lnTo>
                  <a:lnTo>
                    <a:pt x="1055" y="352"/>
                  </a:lnTo>
                  <a:lnTo>
                    <a:pt x="1044" y="355"/>
                  </a:lnTo>
                  <a:lnTo>
                    <a:pt x="1033" y="359"/>
                  </a:lnTo>
                  <a:lnTo>
                    <a:pt x="1022" y="363"/>
                  </a:lnTo>
                  <a:lnTo>
                    <a:pt x="1022" y="366"/>
                  </a:lnTo>
                  <a:lnTo>
                    <a:pt x="1022" y="363"/>
                  </a:lnTo>
                  <a:lnTo>
                    <a:pt x="1011" y="363"/>
                  </a:lnTo>
                  <a:lnTo>
                    <a:pt x="1001" y="363"/>
                  </a:lnTo>
                  <a:lnTo>
                    <a:pt x="1001" y="366"/>
                  </a:lnTo>
                  <a:lnTo>
                    <a:pt x="1004" y="363"/>
                  </a:lnTo>
                  <a:lnTo>
                    <a:pt x="993" y="359"/>
                  </a:lnTo>
                  <a:lnTo>
                    <a:pt x="990" y="363"/>
                  </a:lnTo>
                  <a:lnTo>
                    <a:pt x="993" y="359"/>
                  </a:lnTo>
                  <a:lnTo>
                    <a:pt x="986" y="352"/>
                  </a:lnTo>
                  <a:lnTo>
                    <a:pt x="986" y="352"/>
                  </a:lnTo>
                  <a:lnTo>
                    <a:pt x="986" y="352"/>
                  </a:lnTo>
                  <a:lnTo>
                    <a:pt x="979" y="348"/>
                  </a:lnTo>
                  <a:lnTo>
                    <a:pt x="975" y="352"/>
                  </a:lnTo>
                  <a:lnTo>
                    <a:pt x="979" y="348"/>
                  </a:lnTo>
                  <a:lnTo>
                    <a:pt x="972" y="341"/>
                  </a:lnTo>
                  <a:lnTo>
                    <a:pt x="964" y="334"/>
                  </a:lnTo>
                  <a:lnTo>
                    <a:pt x="964" y="334"/>
                  </a:lnTo>
                  <a:lnTo>
                    <a:pt x="964" y="334"/>
                  </a:lnTo>
                  <a:lnTo>
                    <a:pt x="957" y="330"/>
                  </a:lnTo>
                  <a:lnTo>
                    <a:pt x="953" y="334"/>
                  </a:lnTo>
                  <a:lnTo>
                    <a:pt x="957" y="330"/>
                  </a:lnTo>
                  <a:lnTo>
                    <a:pt x="950" y="323"/>
                  </a:lnTo>
                  <a:lnTo>
                    <a:pt x="950" y="323"/>
                  </a:lnTo>
                  <a:lnTo>
                    <a:pt x="946" y="323"/>
                  </a:lnTo>
                  <a:lnTo>
                    <a:pt x="939" y="323"/>
                  </a:lnTo>
                  <a:lnTo>
                    <a:pt x="939" y="326"/>
                  </a:lnTo>
                  <a:lnTo>
                    <a:pt x="943" y="323"/>
                  </a:lnTo>
                  <a:lnTo>
                    <a:pt x="932" y="319"/>
                  </a:lnTo>
                  <a:lnTo>
                    <a:pt x="932" y="319"/>
                  </a:lnTo>
                  <a:lnTo>
                    <a:pt x="928" y="319"/>
                  </a:lnTo>
                  <a:lnTo>
                    <a:pt x="921" y="319"/>
                  </a:lnTo>
                  <a:lnTo>
                    <a:pt x="921" y="319"/>
                  </a:lnTo>
                  <a:lnTo>
                    <a:pt x="921" y="319"/>
                  </a:lnTo>
                  <a:lnTo>
                    <a:pt x="910" y="323"/>
                  </a:lnTo>
                  <a:lnTo>
                    <a:pt x="910" y="326"/>
                  </a:lnTo>
                  <a:lnTo>
                    <a:pt x="910" y="323"/>
                  </a:lnTo>
                  <a:lnTo>
                    <a:pt x="903" y="323"/>
                  </a:lnTo>
                  <a:lnTo>
                    <a:pt x="903" y="323"/>
                  </a:lnTo>
                  <a:lnTo>
                    <a:pt x="903" y="323"/>
                  </a:lnTo>
                  <a:lnTo>
                    <a:pt x="895" y="326"/>
                  </a:lnTo>
                  <a:lnTo>
                    <a:pt x="885" y="330"/>
                  </a:lnTo>
                  <a:lnTo>
                    <a:pt x="885" y="330"/>
                  </a:lnTo>
                  <a:lnTo>
                    <a:pt x="881" y="330"/>
                  </a:lnTo>
                  <a:lnTo>
                    <a:pt x="874" y="337"/>
                  </a:lnTo>
                  <a:lnTo>
                    <a:pt x="866" y="345"/>
                  </a:lnTo>
                  <a:lnTo>
                    <a:pt x="870" y="348"/>
                  </a:lnTo>
                  <a:lnTo>
                    <a:pt x="870" y="345"/>
                  </a:lnTo>
                  <a:lnTo>
                    <a:pt x="863" y="348"/>
                  </a:lnTo>
                  <a:lnTo>
                    <a:pt x="863" y="348"/>
                  </a:lnTo>
                  <a:lnTo>
                    <a:pt x="859" y="348"/>
                  </a:lnTo>
                  <a:lnTo>
                    <a:pt x="852" y="355"/>
                  </a:lnTo>
                  <a:lnTo>
                    <a:pt x="852" y="359"/>
                  </a:lnTo>
                  <a:lnTo>
                    <a:pt x="852" y="359"/>
                  </a:lnTo>
                  <a:lnTo>
                    <a:pt x="848" y="370"/>
                  </a:lnTo>
                  <a:lnTo>
                    <a:pt x="845" y="377"/>
                  </a:lnTo>
                  <a:lnTo>
                    <a:pt x="841" y="388"/>
                  </a:lnTo>
                  <a:lnTo>
                    <a:pt x="841" y="388"/>
                  </a:lnTo>
                  <a:lnTo>
                    <a:pt x="841" y="388"/>
                  </a:lnTo>
                  <a:lnTo>
                    <a:pt x="841" y="399"/>
                  </a:lnTo>
                  <a:lnTo>
                    <a:pt x="841" y="413"/>
                  </a:lnTo>
                  <a:lnTo>
                    <a:pt x="841" y="428"/>
                  </a:lnTo>
                  <a:lnTo>
                    <a:pt x="841" y="432"/>
                  </a:lnTo>
                  <a:lnTo>
                    <a:pt x="841" y="432"/>
                  </a:lnTo>
                  <a:lnTo>
                    <a:pt x="848" y="464"/>
                  </a:lnTo>
                  <a:lnTo>
                    <a:pt x="856" y="497"/>
                  </a:lnTo>
                  <a:lnTo>
                    <a:pt x="859" y="493"/>
                  </a:lnTo>
                  <a:lnTo>
                    <a:pt x="856" y="493"/>
                  </a:lnTo>
                  <a:lnTo>
                    <a:pt x="859" y="511"/>
                  </a:lnTo>
                  <a:lnTo>
                    <a:pt x="859" y="522"/>
                  </a:lnTo>
                  <a:lnTo>
                    <a:pt x="859" y="515"/>
                  </a:lnTo>
                  <a:lnTo>
                    <a:pt x="863" y="530"/>
                  </a:lnTo>
                  <a:lnTo>
                    <a:pt x="866" y="526"/>
                  </a:lnTo>
                  <a:lnTo>
                    <a:pt x="863" y="526"/>
                  </a:lnTo>
                  <a:lnTo>
                    <a:pt x="863" y="544"/>
                  </a:lnTo>
                  <a:lnTo>
                    <a:pt x="863" y="562"/>
                  </a:lnTo>
                  <a:lnTo>
                    <a:pt x="863" y="577"/>
                  </a:lnTo>
                  <a:lnTo>
                    <a:pt x="863" y="591"/>
                  </a:lnTo>
                  <a:lnTo>
                    <a:pt x="863" y="598"/>
                  </a:lnTo>
                  <a:lnTo>
                    <a:pt x="866" y="598"/>
                  </a:lnTo>
                  <a:lnTo>
                    <a:pt x="863" y="595"/>
                  </a:lnTo>
                  <a:lnTo>
                    <a:pt x="859" y="598"/>
                  </a:lnTo>
                  <a:lnTo>
                    <a:pt x="859" y="602"/>
                  </a:lnTo>
                  <a:lnTo>
                    <a:pt x="859" y="602"/>
                  </a:lnTo>
                  <a:lnTo>
                    <a:pt x="859" y="609"/>
                  </a:lnTo>
                  <a:lnTo>
                    <a:pt x="863" y="609"/>
                  </a:lnTo>
                  <a:lnTo>
                    <a:pt x="859" y="609"/>
                  </a:lnTo>
                  <a:lnTo>
                    <a:pt x="856" y="617"/>
                  </a:lnTo>
                  <a:lnTo>
                    <a:pt x="859" y="617"/>
                  </a:lnTo>
                  <a:lnTo>
                    <a:pt x="859" y="613"/>
                  </a:lnTo>
                  <a:lnTo>
                    <a:pt x="845" y="620"/>
                  </a:lnTo>
                  <a:lnTo>
                    <a:pt x="834" y="627"/>
                  </a:lnTo>
                  <a:lnTo>
                    <a:pt x="834" y="631"/>
                  </a:lnTo>
                  <a:lnTo>
                    <a:pt x="834" y="627"/>
                  </a:lnTo>
                  <a:lnTo>
                    <a:pt x="816" y="631"/>
                  </a:lnTo>
                  <a:lnTo>
                    <a:pt x="798" y="635"/>
                  </a:lnTo>
                  <a:lnTo>
                    <a:pt x="783" y="635"/>
                  </a:lnTo>
                  <a:lnTo>
                    <a:pt x="761" y="638"/>
                  </a:lnTo>
                  <a:lnTo>
                    <a:pt x="743" y="638"/>
                  </a:lnTo>
                  <a:lnTo>
                    <a:pt x="725" y="638"/>
                  </a:lnTo>
                  <a:lnTo>
                    <a:pt x="707" y="638"/>
                  </a:lnTo>
                  <a:lnTo>
                    <a:pt x="689" y="635"/>
                  </a:lnTo>
                  <a:lnTo>
                    <a:pt x="674" y="635"/>
                  </a:lnTo>
                  <a:lnTo>
                    <a:pt x="656" y="631"/>
                  </a:lnTo>
                  <a:lnTo>
                    <a:pt x="642" y="627"/>
                  </a:lnTo>
                  <a:lnTo>
                    <a:pt x="627" y="624"/>
                  </a:lnTo>
                  <a:lnTo>
                    <a:pt x="627" y="627"/>
                  </a:lnTo>
                  <a:lnTo>
                    <a:pt x="631" y="624"/>
                  </a:lnTo>
                  <a:lnTo>
                    <a:pt x="624" y="617"/>
                  </a:lnTo>
                  <a:lnTo>
                    <a:pt x="624" y="617"/>
                  </a:lnTo>
                  <a:lnTo>
                    <a:pt x="624" y="617"/>
                  </a:lnTo>
                  <a:lnTo>
                    <a:pt x="613" y="613"/>
                  </a:lnTo>
                  <a:lnTo>
                    <a:pt x="609" y="617"/>
                  </a:lnTo>
                  <a:lnTo>
                    <a:pt x="613" y="613"/>
                  </a:lnTo>
                  <a:lnTo>
                    <a:pt x="605" y="606"/>
                  </a:lnTo>
                  <a:lnTo>
                    <a:pt x="602" y="602"/>
                  </a:lnTo>
                  <a:lnTo>
                    <a:pt x="598" y="606"/>
                  </a:lnTo>
                  <a:lnTo>
                    <a:pt x="605" y="606"/>
                  </a:lnTo>
                  <a:lnTo>
                    <a:pt x="602" y="598"/>
                  </a:lnTo>
                  <a:lnTo>
                    <a:pt x="602" y="598"/>
                  </a:lnTo>
                  <a:lnTo>
                    <a:pt x="598" y="595"/>
                  </a:lnTo>
                  <a:lnTo>
                    <a:pt x="595" y="591"/>
                  </a:lnTo>
                  <a:lnTo>
                    <a:pt x="591" y="595"/>
                  </a:lnTo>
                  <a:lnTo>
                    <a:pt x="598" y="595"/>
                  </a:lnTo>
                  <a:lnTo>
                    <a:pt x="598" y="591"/>
                  </a:lnTo>
                  <a:lnTo>
                    <a:pt x="598" y="584"/>
                  </a:lnTo>
                  <a:lnTo>
                    <a:pt x="598" y="580"/>
                  </a:lnTo>
                  <a:lnTo>
                    <a:pt x="598" y="573"/>
                  </a:lnTo>
                  <a:lnTo>
                    <a:pt x="591" y="573"/>
                  </a:lnTo>
                  <a:lnTo>
                    <a:pt x="598" y="577"/>
                  </a:lnTo>
                  <a:lnTo>
                    <a:pt x="602" y="569"/>
                  </a:lnTo>
                  <a:lnTo>
                    <a:pt x="595" y="566"/>
                  </a:lnTo>
                  <a:lnTo>
                    <a:pt x="598" y="569"/>
                  </a:lnTo>
                  <a:lnTo>
                    <a:pt x="602" y="566"/>
                  </a:lnTo>
                  <a:lnTo>
                    <a:pt x="605" y="566"/>
                  </a:lnTo>
                  <a:lnTo>
                    <a:pt x="605" y="566"/>
                  </a:lnTo>
                  <a:lnTo>
                    <a:pt x="609" y="559"/>
                  </a:lnTo>
                  <a:lnTo>
                    <a:pt x="613" y="551"/>
                  </a:lnTo>
                  <a:lnTo>
                    <a:pt x="605" y="548"/>
                  </a:lnTo>
                  <a:lnTo>
                    <a:pt x="609" y="551"/>
                  </a:lnTo>
                  <a:lnTo>
                    <a:pt x="624" y="537"/>
                  </a:lnTo>
                  <a:lnTo>
                    <a:pt x="638" y="522"/>
                  </a:lnTo>
                  <a:lnTo>
                    <a:pt x="645" y="515"/>
                  </a:lnTo>
                  <a:lnTo>
                    <a:pt x="649" y="515"/>
                  </a:lnTo>
                  <a:lnTo>
                    <a:pt x="649" y="515"/>
                  </a:lnTo>
                  <a:lnTo>
                    <a:pt x="653" y="504"/>
                  </a:lnTo>
                  <a:lnTo>
                    <a:pt x="656" y="493"/>
                  </a:lnTo>
                  <a:lnTo>
                    <a:pt x="660" y="482"/>
                  </a:lnTo>
                  <a:lnTo>
                    <a:pt x="660" y="482"/>
                  </a:lnTo>
                  <a:lnTo>
                    <a:pt x="660" y="479"/>
                  </a:lnTo>
                  <a:lnTo>
                    <a:pt x="660" y="468"/>
                  </a:lnTo>
                  <a:lnTo>
                    <a:pt x="660" y="468"/>
                  </a:lnTo>
                  <a:lnTo>
                    <a:pt x="660" y="468"/>
                  </a:lnTo>
                  <a:lnTo>
                    <a:pt x="656" y="457"/>
                  </a:lnTo>
                  <a:lnTo>
                    <a:pt x="653" y="446"/>
                  </a:lnTo>
                  <a:lnTo>
                    <a:pt x="649" y="432"/>
                  </a:lnTo>
                  <a:lnTo>
                    <a:pt x="642" y="421"/>
                  </a:lnTo>
                  <a:lnTo>
                    <a:pt x="642" y="421"/>
                  </a:lnTo>
                  <a:lnTo>
                    <a:pt x="638" y="417"/>
                  </a:lnTo>
                  <a:lnTo>
                    <a:pt x="631" y="410"/>
                  </a:lnTo>
                  <a:lnTo>
                    <a:pt x="624" y="403"/>
                  </a:lnTo>
                  <a:lnTo>
                    <a:pt x="613" y="392"/>
                  </a:lnTo>
                  <a:lnTo>
                    <a:pt x="613" y="392"/>
                  </a:lnTo>
                  <a:lnTo>
                    <a:pt x="613" y="392"/>
                  </a:lnTo>
                  <a:lnTo>
                    <a:pt x="605" y="388"/>
                  </a:lnTo>
                  <a:lnTo>
                    <a:pt x="591" y="381"/>
                  </a:lnTo>
                  <a:lnTo>
                    <a:pt x="580" y="377"/>
                  </a:lnTo>
                  <a:lnTo>
                    <a:pt x="580" y="377"/>
                  </a:lnTo>
                  <a:lnTo>
                    <a:pt x="576" y="377"/>
                  </a:lnTo>
                  <a:lnTo>
                    <a:pt x="562" y="377"/>
                  </a:lnTo>
                  <a:lnTo>
                    <a:pt x="547" y="377"/>
                  </a:lnTo>
                  <a:lnTo>
                    <a:pt x="547" y="377"/>
                  </a:lnTo>
                  <a:lnTo>
                    <a:pt x="547" y="377"/>
                  </a:lnTo>
                  <a:lnTo>
                    <a:pt x="536" y="381"/>
                  </a:lnTo>
                  <a:lnTo>
                    <a:pt x="522" y="388"/>
                  </a:lnTo>
                  <a:lnTo>
                    <a:pt x="511" y="392"/>
                  </a:lnTo>
                  <a:lnTo>
                    <a:pt x="500" y="399"/>
                  </a:lnTo>
                  <a:lnTo>
                    <a:pt x="500" y="399"/>
                  </a:lnTo>
                  <a:lnTo>
                    <a:pt x="497" y="399"/>
                  </a:lnTo>
                  <a:lnTo>
                    <a:pt x="486" y="410"/>
                  </a:lnTo>
                  <a:lnTo>
                    <a:pt x="478" y="417"/>
                  </a:lnTo>
                  <a:lnTo>
                    <a:pt x="478" y="421"/>
                  </a:lnTo>
                  <a:lnTo>
                    <a:pt x="478" y="421"/>
                  </a:lnTo>
                  <a:lnTo>
                    <a:pt x="471" y="432"/>
                  </a:lnTo>
                  <a:lnTo>
                    <a:pt x="464" y="442"/>
                  </a:lnTo>
                  <a:lnTo>
                    <a:pt x="460" y="453"/>
                  </a:lnTo>
                  <a:lnTo>
                    <a:pt x="457" y="468"/>
                  </a:lnTo>
                  <a:lnTo>
                    <a:pt x="457" y="468"/>
                  </a:lnTo>
                  <a:lnTo>
                    <a:pt x="457" y="468"/>
                  </a:lnTo>
                  <a:lnTo>
                    <a:pt x="457" y="479"/>
                  </a:lnTo>
                  <a:lnTo>
                    <a:pt x="457" y="482"/>
                  </a:lnTo>
                  <a:lnTo>
                    <a:pt x="457" y="482"/>
                  </a:lnTo>
                  <a:lnTo>
                    <a:pt x="460" y="493"/>
                  </a:lnTo>
                  <a:lnTo>
                    <a:pt x="464" y="504"/>
                  </a:lnTo>
                  <a:lnTo>
                    <a:pt x="468" y="511"/>
                  </a:lnTo>
                  <a:lnTo>
                    <a:pt x="471" y="508"/>
                  </a:lnTo>
                  <a:lnTo>
                    <a:pt x="468" y="508"/>
                  </a:lnTo>
                  <a:lnTo>
                    <a:pt x="468" y="511"/>
                  </a:lnTo>
                  <a:lnTo>
                    <a:pt x="468" y="515"/>
                  </a:lnTo>
                  <a:lnTo>
                    <a:pt x="468" y="515"/>
                  </a:lnTo>
                  <a:lnTo>
                    <a:pt x="471" y="522"/>
                  </a:lnTo>
                  <a:lnTo>
                    <a:pt x="471" y="522"/>
                  </a:lnTo>
                  <a:lnTo>
                    <a:pt x="475" y="526"/>
                  </a:lnTo>
                  <a:lnTo>
                    <a:pt x="482" y="530"/>
                  </a:lnTo>
                  <a:lnTo>
                    <a:pt x="482" y="522"/>
                  </a:lnTo>
                  <a:lnTo>
                    <a:pt x="478" y="526"/>
                  </a:lnTo>
                  <a:lnTo>
                    <a:pt x="486" y="537"/>
                  </a:lnTo>
                  <a:lnTo>
                    <a:pt x="486" y="537"/>
                  </a:lnTo>
                  <a:lnTo>
                    <a:pt x="486" y="537"/>
                  </a:lnTo>
                  <a:lnTo>
                    <a:pt x="493" y="544"/>
                  </a:lnTo>
                  <a:lnTo>
                    <a:pt x="497" y="540"/>
                  </a:lnTo>
                  <a:lnTo>
                    <a:pt x="493" y="544"/>
                  </a:lnTo>
                  <a:lnTo>
                    <a:pt x="497" y="555"/>
                  </a:lnTo>
                  <a:lnTo>
                    <a:pt x="497" y="555"/>
                  </a:lnTo>
                  <a:lnTo>
                    <a:pt x="497" y="555"/>
                  </a:lnTo>
                  <a:lnTo>
                    <a:pt x="504" y="562"/>
                  </a:lnTo>
                  <a:lnTo>
                    <a:pt x="507" y="559"/>
                  </a:lnTo>
                  <a:lnTo>
                    <a:pt x="504" y="562"/>
                  </a:lnTo>
                  <a:lnTo>
                    <a:pt x="507" y="569"/>
                  </a:lnTo>
                  <a:lnTo>
                    <a:pt x="511" y="566"/>
                  </a:lnTo>
                  <a:lnTo>
                    <a:pt x="507" y="566"/>
                  </a:lnTo>
                  <a:lnTo>
                    <a:pt x="507" y="573"/>
                  </a:lnTo>
                  <a:lnTo>
                    <a:pt x="507" y="577"/>
                  </a:lnTo>
                  <a:lnTo>
                    <a:pt x="507" y="577"/>
                  </a:lnTo>
                  <a:lnTo>
                    <a:pt x="511" y="584"/>
                  </a:lnTo>
                  <a:lnTo>
                    <a:pt x="515" y="580"/>
                  </a:lnTo>
                  <a:lnTo>
                    <a:pt x="511" y="580"/>
                  </a:lnTo>
                  <a:lnTo>
                    <a:pt x="511" y="588"/>
                  </a:lnTo>
                  <a:lnTo>
                    <a:pt x="515" y="588"/>
                  </a:lnTo>
                  <a:lnTo>
                    <a:pt x="511" y="588"/>
                  </a:lnTo>
                  <a:lnTo>
                    <a:pt x="507" y="595"/>
                  </a:lnTo>
                  <a:lnTo>
                    <a:pt x="507" y="595"/>
                  </a:lnTo>
                  <a:lnTo>
                    <a:pt x="507" y="595"/>
                  </a:lnTo>
                  <a:lnTo>
                    <a:pt x="507" y="598"/>
                  </a:lnTo>
                  <a:lnTo>
                    <a:pt x="511" y="598"/>
                  </a:lnTo>
                  <a:lnTo>
                    <a:pt x="507" y="595"/>
                  </a:lnTo>
                  <a:lnTo>
                    <a:pt x="504" y="598"/>
                  </a:lnTo>
                  <a:lnTo>
                    <a:pt x="504" y="602"/>
                  </a:lnTo>
                  <a:lnTo>
                    <a:pt x="504" y="602"/>
                  </a:lnTo>
                  <a:lnTo>
                    <a:pt x="500" y="609"/>
                  </a:lnTo>
                  <a:lnTo>
                    <a:pt x="504" y="609"/>
                  </a:lnTo>
                  <a:lnTo>
                    <a:pt x="504" y="606"/>
                  </a:lnTo>
                  <a:lnTo>
                    <a:pt x="497" y="609"/>
                  </a:lnTo>
                  <a:lnTo>
                    <a:pt x="497" y="613"/>
                  </a:lnTo>
                  <a:lnTo>
                    <a:pt x="497" y="609"/>
                  </a:lnTo>
                  <a:lnTo>
                    <a:pt x="493" y="609"/>
                  </a:lnTo>
                  <a:lnTo>
                    <a:pt x="493" y="609"/>
                  </a:lnTo>
                  <a:lnTo>
                    <a:pt x="493" y="609"/>
                  </a:lnTo>
                  <a:lnTo>
                    <a:pt x="482" y="613"/>
                  </a:lnTo>
                  <a:lnTo>
                    <a:pt x="482" y="617"/>
                  </a:lnTo>
                  <a:lnTo>
                    <a:pt x="482" y="613"/>
                  </a:lnTo>
                  <a:lnTo>
                    <a:pt x="475" y="613"/>
                  </a:lnTo>
                  <a:close/>
                </a:path>
              </a:pathLst>
            </a:custGeom>
            <a:solidFill>
              <a:srgbClr val="99cc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1886040" y="1189080"/>
            <a:ext cx="141912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800" rIns="64800" tIns="32400" bIns="324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49440"/>
                <a:tab algn="l" pos="1298520"/>
                <a:tab algn="l" pos="1947960"/>
                <a:tab algn="l" pos="2597040"/>
                <a:tab algn="l" pos="3246480"/>
                <a:tab algn="l" pos="3895560"/>
                <a:tab algn="l" pos="4545000"/>
                <a:tab algn="l" pos="5194440"/>
                <a:tab algn="l" pos="5843520"/>
                <a:tab algn="l" pos="6492960"/>
                <a:tab algn="l" pos="7142040"/>
                <a:tab algn="l" pos="7791480"/>
                <a:tab algn="l" pos="8440560"/>
                <a:tab algn="l" pos="9090000"/>
                <a:tab algn="l" pos="9739440"/>
                <a:tab algn="l" pos="103885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-TRA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4253040" y="2725560"/>
            <a:ext cx="2133000" cy="1680840"/>
            <a:chOff x="4253040" y="2725560"/>
            <a:chExt cx="2133000" cy="1680840"/>
          </a:xfrm>
        </p:grpSpPr>
        <p:grpSp>
          <p:nvGrpSpPr>
            <p:cNvPr id="110" name=""/>
            <p:cNvGrpSpPr/>
            <p:nvPr/>
          </p:nvGrpSpPr>
          <p:grpSpPr>
            <a:xfrm>
              <a:off x="4253040" y="2725560"/>
              <a:ext cx="2133000" cy="1680840"/>
              <a:chOff x="4253040" y="2725560"/>
              <a:chExt cx="2133000" cy="1680840"/>
            </a:xfrm>
          </p:grpSpPr>
          <p:sp>
            <p:nvSpPr>
              <p:cNvPr id="111" name=""/>
              <p:cNvSpPr/>
              <p:nvPr/>
            </p:nvSpPr>
            <p:spPr>
              <a:xfrm>
                <a:off x="4260960" y="2731680"/>
                <a:ext cx="2111400" cy="1660680"/>
              </a:xfrm>
              <a:custGeom>
                <a:avLst/>
                <a:gdLst/>
                <a:ahLst/>
                <a:rect l="l" t="t" r="r" b="b"/>
                <a:pathLst>
                  <a:path w="1073" h="831">
                    <a:moveTo>
                      <a:pt x="210" y="475"/>
                    </a:moveTo>
                    <a:lnTo>
                      <a:pt x="206" y="479"/>
                    </a:lnTo>
                    <a:lnTo>
                      <a:pt x="199" y="483"/>
                    </a:lnTo>
                    <a:lnTo>
                      <a:pt x="192" y="486"/>
                    </a:lnTo>
                    <a:lnTo>
                      <a:pt x="188" y="490"/>
                    </a:lnTo>
                    <a:lnTo>
                      <a:pt x="181" y="490"/>
                    </a:lnTo>
                    <a:lnTo>
                      <a:pt x="174" y="490"/>
                    </a:lnTo>
                    <a:lnTo>
                      <a:pt x="170" y="486"/>
                    </a:lnTo>
                    <a:lnTo>
                      <a:pt x="163" y="486"/>
                    </a:lnTo>
                    <a:lnTo>
                      <a:pt x="148" y="479"/>
                    </a:lnTo>
                    <a:lnTo>
                      <a:pt x="137" y="475"/>
                    </a:lnTo>
                    <a:lnTo>
                      <a:pt x="127" y="468"/>
                    </a:lnTo>
                    <a:lnTo>
                      <a:pt x="112" y="461"/>
                    </a:lnTo>
                    <a:lnTo>
                      <a:pt x="101" y="454"/>
                    </a:lnTo>
                    <a:lnTo>
                      <a:pt x="87" y="450"/>
                    </a:lnTo>
                    <a:lnTo>
                      <a:pt x="79" y="450"/>
                    </a:lnTo>
                    <a:lnTo>
                      <a:pt x="76" y="446"/>
                    </a:lnTo>
                    <a:lnTo>
                      <a:pt x="69" y="446"/>
                    </a:lnTo>
                    <a:lnTo>
                      <a:pt x="61" y="446"/>
                    </a:lnTo>
                    <a:lnTo>
                      <a:pt x="54" y="450"/>
                    </a:lnTo>
                    <a:lnTo>
                      <a:pt x="47" y="450"/>
                    </a:lnTo>
                    <a:lnTo>
                      <a:pt x="40" y="454"/>
                    </a:lnTo>
                    <a:lnTo>
                      <a:pt x="36" y="461"/>
                    </a:lnTo>
                    <a:lnTo>
                      <a:pt x="29" y="465"/>
                    </a:lnTo>
                    <a:lnTo>
                      <a:pt x="21" y="472"/>
                    </a:lnTo>
                    <a:lnTo>
                      <a:pt x="14" y="483"/>
                    </a:lnTo>
                    <a:lnTo>
                      <a:pt x="7" y="494"/>
                    </a:lnTo>
                    <a:lnTo>
                      <a:pt x="3" y="497"/>
                    </a:lnTo>
                    <a:lnTo>
                      <a:pt x="0" y="505"/>
                    </a:lnTo>
                    <a:lnTo>
                      <a:pt x="0" y="515"/>
                    </a:lnTo>
                    <a:lnTo>
                      <a:pt x="0" y="526"/>
                    </a:lnTo>
                    <a:lnTo>
                      <a:pt x="0" y="534"/>
                    </a:lnTo>
                    <a:lnTo>
                      <a:pt x="3" y="544"/>
                    </a:lnTo>
                    <a:lnTo>
                      <a:pt x="11" y="555"/>
                    </a:lnTo>
                    <a:lnTo>
                      <a:pt x="14" y="563"/>
                    </a:lnTo>
                    <a:lnTo>
                      <a:pt x="21" y="573"/>
                    </a:lnTo>
                    <a:lnTo>
                      <a:pt x="32" y="581"/>
                    </a:lnTo>
                    <a:lnTo>
                      <a:pt x="36" y="581"/>
                    </a:lnTo>
                    <a:lnTo>
                      <a:pt x="40" y="584"/>
                    </a:lnTo>
                    <a:lnTo>
                      <a:pt x="47" y="588"/>
                    </a:lnTo>
                    <a:lnTo>
                      <a:pt x="54" y="588"/>
                    </a:lnTo>
                    <a:lnTo>
                      <a:pt x="61" y="592"/>
                    </a:lnTo>
                    <a:lnTo>
                      <a:pt x="69" y="592"/>
                    </a:lnTo>
                    <a:lnTo>
                      <a:pt x="76" y="592"/>
                    </a:lnTo>
                    <a:lnTo>
                      <a:pt x="83" y="592"/>
                    </a:lnTo>
                    <a:lnTo>
                      <a:pt x="94" y="592"/>
                    </a:lnTo>
                    <a:lnTo>
                      <a:pt x="101" y="588"/>
                    </a:lnTo>
                    <a:lnTo>
                      <a:pt x="108" y="588"/>
                    </a:lnTo>
                    <a:lnTo>
                      <a:pt x="119" y="584"/>
                    </a:lnTo>
                    <a:lnTo>
                      <a:pt x="137" y="577"/>
                    </a:lnTo>
                    <a:lnTo>
                      <a:pt x="148" y="573"/>
                    </a:lnTo>
                    <a:lnTo>
                      <a:pt x="163" y="570"/>
                    </a:lnTo>
                    <a:lnTo>
                      <a:pt x="174" y="570"/>
                    </a:lnTo>
                    <a:lnTo>
                      <a:pt x="181" y="570"/>
                    </a:lnTo>
                    <a:lnTo>
                      <a:pt x="185" y="573"/>
                    </a:lnTo>
                    <a:lnTo>
                      <a:pt x="188" y="573"/>
                    </a:lnTo>
                    <a:lnTo>
                      <a:pt x="195" y="577"/>
                    </a:lnTo>
                    <a:lnTo>
                      <a:pt x="199" y="581"/>
                    </a:lnTo>
                    <a:lnTo>
                      <a:pt x="203" y="588"/>
                    </a:lnTo>
                    <a:lnTo>
                      <a:pt x="206" y="592"/>
                    </a:lnTo>
                    <a:lnTo>
                      <a:pt x="210" y="602"/>
                    </a:lnTo>
                    <a:lnTo>
                      <a:pt x="214" y="610"/>
                    </a:lnTo>
                    <a:lnTo>
                      <a:pt x="217" y="621"/>
                    </a:lnTo>
                    <a:lnTo>
                      <a:pt x="221" y="631"/>
                    </a:lnTo>
                    <a:lnTo>
                      <a:pt x="224" y="642"/>
                    </a:lnTo>
                    <a:lnTo>
                      <a:pt x="224" y="657"/>
                    </a:lnTo>
                    <a:lnTo>
                      <a:pt x="228" y="671"/>
                    </a:lnTo>
                    <a:lnTo>
                      <a:pt x="228" y="686"/>
                    </a:lnTo>
                    <a:lnTo>
                      <a:pt x="228" y="700"/>
                    </a:lnTo>
                    <a:lnTo>
                      <a:pt x="228" y="715"/>
                    </a:lnTo>
                    <a:lnTo>
                      <a:pt x="228" y="729"/>
                    </a:lnTo>
                    <a:lnTo>
                      <a:pt x="224" y="744"/>
                    </a:lnTo>
                    <a:lnTo>
                      <a:pt x="224" y="758"/>
                    </a:lnTo>
                    <a:lnTo>
                      <a:pt x="221" y="773"/>
                    </a:lnTo>
                    <a:lnTo>
                      <a:pt x="217" y="787"/>
                    </a:lnTo>
                    <a:lnTo>
                      <a:pt x="214" y="802"/>
                    </a:lnTo>
                    <a:lnTo>
                      <a:pt x="210" y="813"/>
                    </a:lnTo>
                    <a:lnTo>
                      <a:pt x="235" y="813"/>
                    </a:lnTo>
                    <a:lnTo>
                      <a:pt x="261" y="813"/>
                    </a:lnTo>
                    <a:lnTo>
                      <a:pt x="286" y="813"/>
                    </a:lnTo>
                    <a:lnTo>
                      <a:pt x="308" y="813"/>
                    </a:lnTo>
                    <a:lnTo>
                      <a:pt x="330" y="813"/>
                    </a:lnTo>
                    <a:lnTo>
                      <a:pt x="351" y="813"/>
                    </a:lnTo>
                    <a:lnTo>
                      <a:pt x="369" y="813"/>
                    </a:lnTo>
                    <a:lnTo>
                      <a:pt x="380" y="813"/>
                    </a:lnTo>
                    <a:lnTo>
                      <a:pt x="398" y="809"/>
                    </a:lnTo>
                    <a:lnTo>
                      <a:pt x="413" y="806"/>
                    </a:lnTo>
                    <a:lnTo>
                      <a:pt x="424" y="795"/>
                    </a:lnTo>
                    <a:lnTo>
                      <a:pt x="438" y="787"/>
                    </a:lnTo>
                    <a:lnTo>
                      <a:pt x="446" y="780"/>
                    </a:lnTo>
                    <a:lnTo>
                      <a:pt x="453" y="773"/>
                    </a:lnTo>
                    <a:lnTo>
                      <a:pt x="460" y="762"/>
                    </a:lnTo>
                    <a:lnTo>
                      <a:pt x="464" y="751"/>
                    </a:lnTo>
                    <a:lnTo>
                      <a:pt x="467" y="740"/>
                    </a:lnTo>
                    <a:lnTo>
                      <a:pt x="467" y="733"/>
                    </a:lnTo>
                    <a:lnTo>
                      <a:pt x="467" y="722"/>
                    </a:lnTo>
                    <a:lnTo>
                      <a:pt x="467" y="711"/>
                    </a:lnTo>
                    <a:lnTo>
                      <a:pt x="464" y="700"/>
                    </a:lnTo>
                    <a:lnTo>
                      <a:pt x="456" y="693"/>
                    </a:lnTo>
                    <a:lnTo>
                      <a:pt x="453" y="682"/>
                    </a:lnTo>
                    <a:lnTo>
                      <a:pt x="442" y="675"/>
                    </a:lnTo>
                    <a:lnTo>
                      <a:pt x="435" y="664"/>
                    </a:lnTo>
                    <a:lnTo>
                      <a:pt x="427" y="657"/>
                    </a:lnTo>
                    <a:lnTo>
                      <a:pt x="424" y="646"/>
                    </a:lnTo>
                    <a:lnTo>
                      <a:pt x="420" y="635"/>
                    </a:lnTo>
                    <a:lnTo>
                      <a:pt x="420" y="621"/>
                    </a:lnTo>
                    <a:lnTo>
                      <a:pt x="420" y="610"/>
                    </a:lnTo>
                    <a:lnTo>
                      <a:pt x="420" y="599"/>
                    </a:lnTo>
                    <a:lnTo>
                      <a:pt x="424" y="588"/>
                    </a:lnTo>
                    <a:lnTo>
                      <a:pt x="427" y="577"/>
                    </a:lnTo>
                    <a:lnTo>
                      <a:pt x="435" y="566"/>
                    </a:lnTo>
                    <a:lnTo>
                      <a:pt x="442" y="563"/>
                    </a:lnTo>
                    <a:lnTo>
                      <a:pt x="446" y="555"/>
                    </a:lnTo>
                    <a:lnTo>
                      <a:pt x="449" y="552"/>
                    </a:lnTo>
                    <a:lnTo>
                      <a:pt x="456" y="552"/>
                    </a:lnTo>
                    <a:lnTo>
                      <a:pt x="460" y="548"/>
                    </a:lnTo>
                    <a:lnTo>
                      <a:pt x="467" y="544"/>
                    </a:lnTo>
                    <a:lnTo>
                      <a:pt x="475" y="541"/>
                    </a:lnTo>
                    <a:lnTo>
                      <a:pt x="482" y="537"/>
                    </a:lnTo>
                    <a:lnTo>
                      <a:pt x="489" y="537"/>
                    </a:lnTo>
                    <a:lnTo>
                      <a:pt x="500" y="534"/>
                    </a:lnTo>
                    <a:lnTo>
                      <a:pt x="511" y="534"/>
                    </a:lnTo>
                    <a:lnTo>
                      <a:pt x="518" y="534"/>
                    </a:lnTo>
                    <a:lnTo>
                      <a:pt x="529" y="534"/>
                    </a:lnTo>
                    <a:lnTo>
                      <a:pt x="540" y="534"/>
                    </a:lnTo>
                    <a:lnTo>
                      <a:pt x="547" y="537"/>
                    </a:lnTo>
                    <a:lnTo>
                      <a:pt x="558" y="541"/>
                    </a:lnTo>
                    <a:lnTo>
                      <a:pt x="565" y="541"/>
                    </a:lnTo>
                    <a:lnTo>
                      <a:pt x="573" y="544"/>
                    </a:lnTo>
                    <a:lnTo>
                      <a:pt x="576" y="548"/>
                    </a:lnTo>
                    <a:lnTo>
                      <a:pt x="583" y="552"/>
                    </a:lnTo>
                    <a:lnTo>
                      <a:pt x="591" y="555"/>
                    </a:lnTo>
                    <a:lnTo>
                      <a:pt x="594" y="563"/>
                    </a:lnTo>
                    <a:lnTo>
                      <a:pt x="598" y="566"/>
                    </a:lnTo>
                    <a:lnTo>
                      <a:pt x="602" y="573"/>
                    </a:lnTo>
                    <a:lnTo>
                      <a:pt x="605" y="584"/>
                    </a:lnTo>
                    <a:lnTo>
                      <a:pt x="609" y="595"/>
                    </a:lnTo>
                    <a:lnTo>
                      <a:pt x="609" y="610"/>
                    </a:lnTo>
                    <a:lnTo>
                      <a:pt x="609" y="621"/>
                    </a:lnTo>
                    <a:lnTo>
                      <a:pt x="609" y="635"/>
                    </a:lnTo>
                    <a:lnTo>
                      <a:pt x="605" y="646"/>
                    </a:lnTo>
                    <a:lnTo>
                      <a:pt x="602" y="657"/>
                    </a:lnTo>
                    <a:lnTo>
                      <a:pt x="598" y="668"/>
                    </a:lnTo>
                    <a:lnTo>
                      <a:pt x="591" y="675"/>
                    </a:lnTo>
                    <a:lnTo>
                      <a:pt x="583" y="682"/>
                    </a:lnTo>
                    <a:lnTo>
                      <a:pt x="576" y="686"/>
                    </a:lnTo>
                    <a:lnTo>
                      <a:pt x="569" y="693"/>
                    </a:lnTo>
                    <a:lnTo>
                      <a:pt x="565" y="700"/>
                    </a:lnTo>
                    <a:lnTo>
                      <a:pt x="562" y="711"/>
                    </a:lnTo>
                    <a:lnTo>
                      <a:pt x="558" y="719"/>
                    </a:lnTo>
                    <a:lnTo>
                      <a:pt x="558" y="726"/>
                    </a:lnTo>
                    <a:lnTo>
                      <a:pt x="554" y="737"/>
                    </a:lnTo>
                    <a:lnTo>
                      <a:pt x="554" y="748"/>
                    </a:lnTo>
                    <a:lnTo>
                      <a:pt x="558" y="755"/>
                    </a:lnTo>
                    <a:lnTo>
                      <a:pt x="562" y="766"/>
                    </a:lnTo>
                    <a:lnTo>
                      <a:pt x="565" y="777"/>
                    </a:lnTo>
                    <a:lnTo>
                      <a:pt x="573" y="784"/>
                    </a:lnTo>
                    <a:lnTo>
                      <a:pt x="580" y="795"/>
                    </a:lnTo>
                    <a:lnTo>
                      <a:pt x="591" y="802"/>
                    </a:lnTo>
                    <a:lnTo>
                      <a:pt x="602" y="809"/>
                    </a:lnTo>
                    <a:lnTo>
                      <a:pt x="616" y="813"/>
                    </a:lnTo>
                    <a:lnTo>
                      <a:pt x="623" y="816"/>
                    </a:lnTo>
                    <a:lnTo>
                      <a:pt x="638" y="820"/>
                    </a:lnTo>
                    <a:lnTo>
                      <a:pt x="663" y="824"/>
                    </a:lnTo>
                    <a:lnTo>
                      <a:pt x="692" y="827"/>
                    </a:lnTo>
                    <a:lnTo>
                      <a:pt x="710" y="827"/>
                    </a:lnTo>
                    <a:lnTo>
                      <a:pt x="728" y="831"/>
                    </a:lnTo>
                    <a:lnTo>
                      <a:pt x="747" y="831"/>
                    </a:lnTo>
                    <a:lnTo>
                      <a:pt x="765" y="831"/>
                    </a:lnTo>
                    <a:lnTo>
                      <a:pt x="783" y="831"/>
                    </a:lnTo>
                    <a:lnTo>
                      <a:pt x="805" y="831"/>
                    </a:lnTo>
                    <a:lnTo>
                      <a:pt x="819" y="827"/>
                    </a:lnTo>
                    <a:lnTo>
                      <a:pt x="837" y="824"/>
                    </a:lnTo>
                    <a:lnTo>
                      <a:pt x="837" y="816"/>
                    </a:lnTo>
                    <a:lnTo>
                      <a:pt x="834" y="806"/>
                    </a:lnTo>
                    <a:lnTo>
                      <a:pt x="830" y="795"/>
                    </a:lnTo>
                    <a:lnTo>
                      <a:pt x="830" y="784"/>
                    </a:lnTo>
                    <a:lnTo>
                      <a:pt x="830" y="758"/>
                    </a:lnTo>
                    <a:lnTo>
                      <a:pt x="830" y="733"/>
                    </a:lnTo>
                    <a:lnTo>
                      <a:pt x="830" y="704"/>
                    </a:lnTo>
                    <a:lnTo>
                      <a:pt x="834" y="679"/>
                    </a:lnTo>
                    <a:lnTo>
                      <a:pt x="837" y="653"/>
                    </a:lnTo>
                    <a:lnTo>
                      <a:pt x="837" y="631"/>
                    </a:lnTo>
                    <a:lnTo>
                      <a:pt x="841" y="621"/>
                    </a:lnTo>
                    <a:lnTo>
                      <a:pt x="844" y="613"/>
                    </a:lnTo>
                    <a:lnTo>
                      <a:pt x="848" y="606"/>
                    </a:lnTo>
                    <a:lnTo>
                      <a:pt x="855" y="602"/>
                    </a:lnTo>
                    <a:lnTo>
                      <a:pt x="859" y="599"/>
                    </a:lnTo>
                    <a:lnTo>
                      <a:pt x="866" y="595"/>
                    </a:lnTo>
                    <a:lnTo>
                      <a:pt x="873" y="595"/>
                    </a:lnTo>
                    <a:lnTo>
                      <a:pt x="881" y="595"/>
                    </a:lnTo>
                    <a:lnTo>
                      <a:pt x="888" y="595"/>
                    </a:lnTo>
                    <a:lnTo>
                      <a:pt x="899" y="599"/>
                    </a:lnTo>
                    <a:lnTo>
                      <a:pt x="906" y="602"/>
                    </a:lnTo>
                    <a:lnTo>
                      <a:pt x="913" y="606"/>
                    </a:lnTo>
                    <a:lnTo>
                      <a:pt x="921" y="610"/>
                    </a:lnTo>
                    <a:lnTo>
                      <a:pt x="928" y="613"/>
                    </a:lnTo>
                    <a:lnTo>
                      <a:pt x="939" y="621"/>
                    </a:lnTo>
                    <a:lnTo>
                      <a:pt x="942" y="628"/>
                    </a:lnTo>
                    <a:lnTo>
                      <a:pt x="950" y="635"/>
                    </a:lnTo>
                    <a:lnTo>
                      <a:pt x="957" y="639"/>
                    </a:lnTo>
                    <a:lnTo>
                      <a:pt x="968" y="642"/>
                    </a:lnTo>
                    <a:lnTo>
                      <a:pt x="979" y="646"/>
                    </a:lnTo>
                    <a:lnTo>
                      <a:pt x="986" y="646"/>
                    </a:lnTo>
                    <a:lnTo>
                      <a:pt x="997" y="650"/>
                    </a:lnTo>
                    <a:lnTo>
                      <a:pt x="1008" y="646"/>
                    </a:lnTo>
                    <a:lnTo>
                      <a:pt x="1018" y="646"/>
                    </a:lnTo>
                    <a:lnTo>
                      <a:pt x="1026" y="642"/>
                    </a:lnTo>
                    <a:lnTo>
                      <a:pt x="1037" y="639"/>
                    </a:lnTo>
                    <a:lnTo>
                      <a:pt x="1044" y="631"/>
                    </a:lnTo>
                    <a:lnTo>
                      <a:pt x="1051" y="624"/>
                    </a:lnTo>
                    <a:lnTo>
                      <a:pt x="1058" y="617"/>
                    </a:lnTo>
                    <a:lnTo>
                      <a:pt x="1066" y="606"/>
                    </a:lnTo>
                    <a:lnTo>
                      <a:pt x="1069" y="595"/>
                    </a:lnTo>
                    <a:lnTo>
                      <a:pt x="1073" y="581"/>
                    </a:lnTo>
                    <a:lnTo>
                      <a:pt x="1073" y="573"/>
                    </a:lnTo>
                    <a:lnTo>
                      <a:pt x="1073" y="566"/>
                    </a:lnTo>
                    <a:lnTo>
                      <a:pt x="1073" y="559"/>
                    </a:lnTo>
                    <a:lnTo>
                      <a:pt x="1073" y="552"/>
                    </a:lnTo>
                    <a:lnTo>
                      <a:pt x="1069" y="548"/>
                    </a:lnTo>
                    <a:lnTo>
                      <a:pt x="1066" y="541"/>
                    </a:lnTo>
                    <a:lnTo>
                      <a:pt x="1066" y="534"/>
                    </a:lnTo>
                    <a:lnTo>
                      <a:pt x="1062" y="530"/>
                    </a:lnTo>
                    <a:lnTo>
                      <a:pt x="1055" y="519"/>
                    </a:lnTo>
                    <a:lnTo>
                      <a:pt x="1044" y="512"/>
                    </a:lnTo>
                    <a:lnTo>
                      <a:pt x="1033" y="505"/>
                    </a:lnTo>
                    <a:lnTo>
                      <a:pt x="1022" y="497"/>
                    </a:lnTo>
                    <a:lnTo>
                      <a:pt x="1011" y="494"/>
                    </a:lnTo>
                    <a:lnTo>
                      <a:pt x="1000" y="490"/>
                    </a:lnTo>
                    <a:lnTo>
                      <a:pt x="986" y="490"/>
                    </a:lnTo>
                    <a:lnTo>
                      <a:pt x="975" y="490"/>
                    </a:lnTo>
                    <a:lnTo>
                      <a:pt x="964" y="494"/>
                    </a:lnTo>
                    <a:lnTo>
                      <a:pt x="953" y="497"/>
                    </a:lnTo>
                    <a:lnTo>
                      <a:pt x="950" y="497"/>
                    </a:lnTo>
                    <a:lnTo>
                      <a:pt x="946" y="501"/>
                    </a:lnTo>
                    <a:lnTo>
                      <a:pt x="942" y="505"/>
                    </a:lnTo>
                    <a:lnTo>
                      <a:pt x="939" y="512"/>
                    </a:lnTo>
                    <a:lnTo>
                      <a:pt x="931" y="519"/>
                    </a:lnTo>
                    <a:lnTo>
                      <a:pt x="924" y="526"/>
                    </a:lnTo>
                    <a:lnTo>
                      <a:pt x="917" y="530"/>
                    </a:lnTo>
                    <a:lnTo>
                      <a:pt x="910" y="534"/>
                    </a:lnTo>
                    <a:lnTo>
                      <a:pt x="902" y="534"/>
                    </a:lnTo>
                    <a:lnTo>
                      <a:pt x="892" y="534"/>
                    </a:lnTo>
                    <a:lnTo>
                      <a:pt x="884" y="534"/>
                    </a:lnTo>
                    <a:lnTo>
                      <a:pt x="877" y="530"/>
                    </a:lnTo>
                    <a:lnTo>
                      <a:pt x="870" y="530"/>
                    </a:lnTo>
                    <a:lnTo>
                      <a:pt x="863" y="526"/>
                    </a:lnTo>
                    <a:lnTo>
                      <a:pt x="855" y="519"/>
                    </a:lnTo>
                    <a:lnTo>
                      <a:pt x="848" y="515"/>
                    </a:lnTo>
                    <a:lnTo>
                      <a:pt x="844" y="512"/>
                    </a:lnTo>
                    <a:lnTo>
                      <a:pt x="841" y="505"/>
                    </a:lnTo>
                    <a:lnTo>
                      <a:pt x="837" y="501"/>
                    </a:lnTo>
                    <a:lnTo>
                      <a:pt x="837" y="494"/>
                    </a:lnTo>
                    <a:lnTo>
                      <a:pt x="837" y="475"/>
                    </a:lnTo>
                    <a:lnTo>
                      <a:pt x="837" y="450"/>
                    </a:lnTo>
                    <a:lnTo>
                      <a:pt x="837" y="410"/>
                    </a:lnTo>
                    <a:lnTo>
                      <a:pt x="837" y="370"/>
                    </a:lnTo>
                    <a:lnTo>
                      <a:pt x="837" y="330"/>
                    </a:lnTo>
                    <a:lnTo>
                      <a:pt x="837" y="287"/>
                    </a:lnTo>
                    <a:lnTo>
                      <a:pt x="837" y="251"/>
                    </a:lnTo>
                    <a:lnTo>
                      <a:pt x="837" y="222"/>
                    </a:lnTo>
                    <a:lnTo>
                      <a:pt x="826" y="225"/>
                    </a:lnTo>
                    <a:lnTo>
                      <a:pt x="815" y="232"/>
                    </a:lnTo>
                    <a:lnTo>
                      <a:pt x="801" y="236"/>
                    </a:lnTo>
                    <a:lnTo>
                      <a:pt x="786" y="240"/>
                    </a:lnTo>
                    <a:lnTo>
                      <a:pt x="772" y="243"/>
                    </a:lnTo>
                    <a:lnTo>
                      <a:pt x="757" y="243"/>
                    </a:lnTo>
                    <a:lnTo>
                      <a:pt x="739" y="243"/>
                    </a:lnTo>
                    <a:lnTo>
                      <a:pt x="721" y="243"/>
                    </a:lnTo>
                    <a:lnTo>
                      <a:pt x="707" y="243"/>
                    </a:lnTo>
                    <a:lnTo>
                      <a:pt x="689" y="243"/>
                    </a:lnTo>
                    <a:lnTo>
                      <a:pt x="670" y="240"/>
                    </a:lnTo>
                    <a:lnTo>
                      <a:pt x="656" y="236"/>
                    </a:lnTo>
                    <a:lnTo>
                      <a:pt x="641" y="232"/>
                    </a:lnTo>
                    <a:lnTo>
                      <a:pt x="627" y="229"/>
                    </a:lnTo>
                    <a:lnTo>
                      <a:pt x="612" y="225"/>
                    </a:lnTo>
                    <a:lnTo>
                      <a:pt x="602" y="222"/>
                    </a:lnTo>
                    <a:lnTo>
                      <a:pt x="594" y="218"/>
                    </a:lnTo>
                    <a:lnTo>
                      <a:pt x="587" y="211"/>
                    </a:lnTo>
                    <a:lnTo>
                      <a:pt x="580" y="207"/>
                    </a:lnTo>
                    <a:lnTo>
                      <a:pt x="573" y="203"/>
                    </a:lnTo>
                    <a:lnTo>
                      <a:pt x="569" y="200"/>
                    </a:lnTo>
                    <a:lnTo>
                      <a:pt x="565" y="196"/>
                    </a:lnTo>
                    <a:lnTo>
                      <a:pt x="565" y="189"/>
                    </a:lnTo>
                    <a:lnTo>
                      <a:pt x="565" y="185"/>
                    </a:lnTo>
                    <a:lnTo>
                      <a:pt x="565" y="182"/>
                    </a:lnTo>
                    <a:lnTo>
                      <a:pt x="565" y="174"/>
                    </a:lnTo>
                    <a:lnTo>
                      <a:pt x="569" y="171"/>
                    </a:lnTo>
                    <a:lnTo>
                      <a:pt x="573" y="164"/>
                    </a:lnTo>
                    <a:lnTo>
                      <a:pt x="580" y="149"/>
                    </a:lnTo>
                    <a:lnTo>
                      <a:pt x="594" y="135"/>
                    </a:lnTo>
                    <a:lnTo>
                      <a:pt x="602" y="127"/>
                    </a:lnTo>
                    <a:lnTo>
                      <a:pt x="609" y="116"/>
                    </a:lnTo>
                    <a:lnTo>
                      <a:pt x="612" y="106"/>
                    </a:lnTo>
                    <a:lnTo>
                      <a:pt x="616" y="95"/>
                    </a:lnTo>
                    <a:lnTo>
                      <a:pt x="616" y="84"/>
                    </a:lnTo>
                    <a:lnTo>
                      <a:pt x="616" y="73"/>
                    </a:lnTo>
                    <a:lnTo>
                      <a:pt x="616" y="62"/>
                    </a:lnTo>
                    <a:lnTo>
                      <a:pt x="612" y="51"/>
                    </a:lnTo>
                    <a:lnTo>
                      <a:pt x="609" y="40"/>
                    </a:lnTo>
                    <a:lnTo>
                      <a:pt x="602" y="29"/>
                    </a:lnTo>
                    <a:lnTo>
                      <a:pt x="598" y="26"/>
                    </a:lnTo>
                    <a:lnTo>
                      <a:pt x="591" y="22"/>
                    </a:lnTo>
                    <a:lnTo>
                      <a:pt x="587" y="18"/>
                    </a:lnTo>
                    <a:lnTo>
                      <a:pt x="580" y="15"/>
                    </a:lnTo>
                    <a:lnTo>
                      <a:pt x="576" y="11"/>
                    </a:lnTo>
                    <a:lnTo>
                      <a:pt x="569" y="8"/>
                    </a:lnTo>
                    <a:lnTo>
                      <a:pt x="562" y="8"/>
                    </a:lnTo>
                    <a:lnTo>
                      <a:pt x="554" y="4"/>
                    </a:lnTo>
                    <a:lnTo>
                      <a:pt x="544" y="4"/>
                    </a:lnTo>
                    <a:lnTo>
                      <a:pt x="536" y="0"/>
                    </a:lnTo>
                    <a:lnTo>
                      <a:pt x="529" y="0"/>
                    </a:lnTo>
                    <a:lnTo>
                      <a:pt x="518" y="0"/>
                    </a:lnTo>
                    <a:lnTo>
                      <a:pt x="511" y="0"/>
                    </a:lnTo>
                    <a:lnTo>
                      <a:pt x="500" y="4"/>
                    </a:lnTo>
                    <a:lnTo>
                      <a:pt x="493" y="4"/>
                    </a:lnTo>
                    <a:lnTo>
                      <a:pt x="485" y="4"/>
                    </a:lnTo>
                    <a:lnTo>
                      <a:pt x="482" y="8"/>
                    </a:lnTo>
                    <a:lnTo>
                      <a:pt x="475" y="11"/>
                    </a:lnTo>
                    <a:lnTo>
                      <a:pt x="471" y="15"/>
                    </a:lnTo>
                    <a:lnTo>
                      <a:pt x="464" y="18"/>
                    </a:lnTo>
                    <a:lnTo>
                      <a:pt x="460" y="22"/>
                    </a:lnTo>
                    <a:lnTo>
                      <a:pt x="456" y="26"/>
                    </a:lnTo>
                    <a:lnTo>
                      <a:pt x="453" y="29"/>
                    </a:lnTo>
                    <a:lnTo>
                      <a:pt x="449" y="37"/>
                    </a:lnTo>
                    <a:lnTo>
                      <a:pt x="446" y="47"/>
                    </a:lnTo>
                    <a:lnTo>
                      <a:pt x="442" y="58"/>
                    </a:lnTo>
                    <a:lnTo>
                      <a:pt x="442" y="69"/>
                    </a:lnTo>
                    <a:lnTo>
                      <a:pt x="442" y="80"/>
                    </a:lnTo>
                    <a:lnTo>
                      <a:pt x="442" y="95"/>
                    </a:lnTo>
                    <a:lnTo>
                      <a:pt x="446" y="106"/>
                    </a:lnTo>
                    <a:lnTo>
                      <a:pt x="449" y="120"/>
                    </a:lnTo>
                    <a:lnTo>
                      <a:pt x="456" y="131"/>
                    </a:lnTo>
                    <a:lnTo>
                      <a:pt x="460" y="142"/>
                    </a:lnTo>
                    <a:lnTo>
                      <a:pt x="471" y="149"/>
                    </a:lnTo>
                    <a:lnTo>
                      <a:pt x="475" y="156"/>
                    </a:lnTo>
                    <a:lnTo>
                      <a:pt x="482" y="164"/>
                    </a:lnTo>
                    <a:lnTo>
                      <a:pt x="482" y="171"/>
                    </a:lnTo>
                    <a:lnTo>
                      <a:pt x="485" y="178"/>
                    </a:lnTo>
                    <a:lnTo>
                      <a:pt x="485" y="185"/>
                    </a:lnTo>
                    <a:lnTo>
                      <a:pt x="485" y="193"/>
                    </a:lnTo>
                    <a:lnTo>
                      <a:pt x="482" y="200"/>
                    </a:lnTo>
                    <a:lnTo>
                      <a:pt x="478" y="207"/>
                    </a:lnTo>
                    <a:lnTo>
                      <a:pt x="475" y="211"/>
                    </a:lnTo>
                    <a:lnTo>
                      <a:pt x="467" y="218"/>
                    </a:lnTo>
                    <a:lnTo>
                      <a:pt x="456" y="222"/>
                    </a:lnTo>
                    <a:lnTo>
                      <a:pt x="449" y="222"/>
                    </a:lnTo>
                    <a:lnTo>
                      <a:pt x="438" y="222"/>
                    </a:lnTo>
                    <a:lnTo>
                      <a:pt x="427" y="222"/>
                    </a:lnTo>
                    <a:lnTo>
                      <a:pt x="413" y="218"/>
                    </a:lnTo>
                    <a:lnTo>
                      <a:pt x="398" y="211"/>
                    </a:lnTo>
                    <a:lnTo>
                      <a:pt x="388" y="211"/>
                    </a:lnTo>
                    <a:lnTo>
                      <a:pt x="380" y="207"/>
                    </a:lnTo>
                    <a:lnTo>
                      <a:pt x="369" y="203"/>
                    </a:lnTo>
                    <a:lnTo>
                      <a:pt x="359" y="203"/>
                    </a:lnTo>
                    <a:lnTo>
                      <a:pt x="337" y="203"/>
                    </a:lnTo>
                    <a:lnTo>
                      <a:pt x="311" y="203"/>
                    </a:lnTo>
                    <a:lnTo>
                      <a:pt x="286" y="207"/>
                    </a:lnTo>
                    <a:lnTo>
                      <a:pt x="261" y="211"/>
                    </a:lnTo>
                    <a:lnTo>
                      <a:pt x="235" y="214"/>
                    </a:lnTo>
                    <a:lnTo>
                      <a:pt x="210" y="222"/>
                    </a:lnTo>
                    <a:lnTo>
                      <a:pt x="210" y="225"/>
                    </a:lnTo>
                    <a:lnTo>
                      <a:pt x="210" y="240"/>
                    </a:lnTo>
                    <a:lnTo>
                      <a:pt x="210" y="251"/>
                    </a:lnTo>
                    <a:lnTo>
                      <a:pt x="210" y="269"/>
                    </a:lnTo>
                    <a:lnTo>
                      <a:pt x="214" y="305"/>
                    </a:lnTo>
                    <a:lnTo>
                      <a:pt x="217" y="349"/>
                    </a:lnTo>
                    <a:lnTo>
                      <a:pt x="221" y="367"/>
                    </a:lnTo>
                    <a:lnTo>
                      <a:pt x="221" y="388"/>
                    </a:lnTo>
                    <a:lnTo>
                      <a:pt x="221" y="410"/>
                    </a:lnTo>
                    <a:lnTo>
                      <a:pt x="224" y="425"/>
                    </a:lnTo>
                    <a:lnTo>
                      <a:pt x="221" y="443"/>
                    </a:lnTo>
                    <a:lnTo>
                      <a:pt x="221" y="457"/>
                    </a:lnTo>
                    <a:lnTo>
                      <a:pt x="217" y="465"/>
                    </a:lnTo>
                    <a:lnTo>
                      <a:pt x="217" y="468"/>
                    </a:lnTo>
                    <a:lnTo>
                      <a:pt x="214" y="472"/>
                    </a:lnTo>
                    <a:lnTo>
                      <a:pt x="210" y="475"/>
                    </a:lnTo>
                    <a:close/>
                  </a:path>
                </a:pathLst>
              </a:custGeom>
              <a:solidFill>
                <a:srgbClr val="ffff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253040" y="2725560"/>
                <a:ext cx="2133000" cy="1680840"/>
              </a:xfrm>
              <a:custGeom>
                <a:avLst/>
                <a:gdLst/>
                <a:ahLst/>
                <a:rect l="l" t="t" r="r" b="b"/>
                <a:pathLst>
                  <a:path w="1084" h="841">
                    <a:moveTo>
                      <a:pt x="207" y="478"/>
                    </a:moveTo>
                    <a:lnTo>
                      <a:pt x="210" y="482"/>
                    </a:lnTo>
                    <a:lnTo>
                      <a:pt x="210" y="478"/>
                    </a:lnTo>
                    <a:lnTo>
                      <a:pt x="203" y="482"/>
                    </a:lnTo>
                    <a:lnTo>
                      <a:pt x="196" y="486"/>
                    </a:lnTo>
                    <a:lnTo>
                      <a:pt x="196" y="486"/>
                    </a:lnTo>
                    <a:lnTo>
                      <a:pt x="192" y="486"/>
                    </a:lnTo>
                    <a:lnTo>
                      <a:pt x="189" y="489"/>
                    </a:lnTo>
                    <a:lnTo>
                      <a:pt x="192" y="493"/>
                    </a:lnTo>
                    <a:lnTo>
                      <a:pt x="192" y="489"/>
                    </a:lnTo>
                    <a:lnTo>
                      <a:pt x="185" y="489"/>
                    </a:lnTo>
                    <a:lnTo>
                      <a:pt x="178" y="489"/>
                    </a:lnTo>
                    <a:lnTo>
                      <a:pt x="178" y="493"/>
                    </a:lnTo>
                    <a:lnTo>
                      <a:pt x="181" y="489"/>
                    </a:lnTo>
                    <a:lnTo>
                      <a:pt x="178" y="486"/>
                    </a:lnTo>
                    <a:lnTo>
                      <a:pt x="178" y="486"/>
                    </a:lnTo>
                    <a:lnTo>
                      <a:pt x="174" y="486"/>
                    </a:lnTo>
                    <a:lnTo>
                      <a:pt x="167" y="486"/>
                    </a:lnTo>
                    <a:lnTo>
                      <a:pt x="167" y="489"/>
                    </a:lnTo>
                    <a:lnTo>
                      <a:pt x="170" y="486"/>
                    </a:lnTo>
                    <a:lnTo>
                      <a:pt x="156" y="478"/>
                    </a:lnTo>
                    <a:lnTo>
                      <a:pt x="145" y="475"/>
                    </a:lnTo>
                    <a:lnTo>
                      <a:pt x="134" y="468"/>
                    </a:lnTo>
                    <a:lnTo>
                      <a:pt x="120" y="460"/>
                    </a:lnTo>
                    <a:lnTo>
                      <a:pt x="109" y="453"/>
                    </a:lnTo>
                    <a:lnTo>
                      <a:pt x="109" y="453"/>
                    </a:lnTo>
                    <a:lnTo>
                      <a:pt x="105" y="453"/>
                    </a:lnTo>
                    <a:lnTo>
                      <a:pt x="91" y="449"/>
                    </a:lnTo>
                    <a:lnTo>
                      <a:pt x="83" y="449"/>
                    </a:lnTo>
                    <a:lnTo>
                      <a:pt x="83" y="453"/>
                    </a:lnTo>
                    <a:lnTo>
                      <a:pt x="87" y="449"/>
                    </a:lnTo>
                    <a:lnTo>
                      <a:pt x="83" y="446"/>
                    </a:lnTo>
                    <a:lnTo>
                      <a:pt x="83" y="446"/>
                    </a:lnTo>
                    <a:lnTo>
                      <a:pt x="80" y="446"/>
                    </a:lnTo>
                    <a:lnTo>
                      <a:pt x="73" y="446"/>
                    </a:lnTo>
                    <a:lnTo>
                      <a:pt x="65" y="446"/>
                    </a:lnTo>
                    <a:lnTo>
                      <a:pt x="65" y="446"/>
                    </a:lnTo>
                    <a:lnTo>
                      <a:pt x="65" y="446"/>
                    </a:lnTo>
                    <a:lnTo>
                      <a:pt x="58" y="449"/>
                    </a:lnTo>
                    <a:lnTo>
                      <a:pt x="58" y="453"/>
                    </a:lnTo>
                    <a:lnTo>
                      <a:pt x="58" y="449"/>
                    </a:lnTo>
                    <a:lnTo>
                      <a:pt x="51" y="449"/>
                    </a:lnTo>
                    <a:lnTo>
                      <a:pt x="51" y="449"/>
                    </a:lnTo>
                    <a:lnTo>
                      <a:pt x="51" y="449"/>
                    </a:lnTo>
                    <a:lnTo>
                      <a:pt x="44" y="453"/>
                    </a:lnTo>
                    <a:lnTo>
                      <a:pt x="40" y="453"/>
                    </a:lnTo>
                    <a:lnTo>
                      <a:pt x="40" y="457"/>
                    </a:lnTo>
                    <a:lnTo>
                      <a:pt x="36" y="464"/>
                    </a:lnTo>
                    <a:lnTo>
                      <a:pt x="40" y="464"/>
                    </a:lnTo>
                    <a:lnTo>
                      <a:pt x="40" y="460"/>
                    </a:lnTo>
                    <a:lnTo>
                      <a:pt x="33" y="464"/>
                    </a:lnTo>
                    <a:lnTo>
                      <a:pt x="33" y="464"/>
                    </a:lnTo>
                    <a:lnTo>
                      <a:pt x="29" y="464"/>
                    </a:lnTo>
                    <a:lnTo>
                      <a:pt x="22" y="471"/>
                    </a:lnTo>
                    <a:lnTo>
                      <a:pt x="22" y="475"/>
                    </a:lnTo>
                    <a:lnTo>
                      <a:pt x="22" y="475"/>
                    </a:lnTo>
                    <a:lnTo>
                      <a:pt x="15" y="486"/>
                    </a:lnTo>
                    <a:lnTo>
                      <a:pt x="7" y="497"/>
                    </a:lnTo>
                    <a:lnTo>
                      <a:pt x="11" y="497"/>
                    </a:lnTo>
                    <a:lnTo>
                      <a:pt x="7" y="493"/>
                    </a:lnTo>
                    <a:lnTo>
                      <a:pt x="4" y="497"/>
                    </a:lnTo>
                    <a:lnTo>
                      <a:pt x="4" y="500"/>
                    </a:lnTo>
                    <a:lnTo>
                      <a:pt x="4" y="500"/>
                    </a:lnTo>
                    <a:lnTo>
                      <a:pt x="0" y="508"/>
                    </a:lnTo>
                    <a:lnTo>
                      <a:pt x="0" y="508"/>
                    </a:lnTo>
                    <a:lnTo>
                      <a:pt x="0" y="508"/>
                    </a:lnTo>
                    <a:lnTo>
                      <a:pt x="0" y="518"/>
                    </a:lnTo>
                    <a:lnTo>
                      <a:pt x="0" y="529"/>
                    </a:lnTo>
                    <a:lnTo>
                      <a:pt x="0" y="537"/>
                    </a:lnTo>
                    <a:lnTo>
                      <a:pt x="0" y="540"/>
                    </a:lnTo>
                    <a:lnTo>
                      <a:pt x="0" y="540"/>
                    </a:lnTo>
                    <a:lnTo>
                      <a:pt x="4" y="551"/>
                    </a:lnTo>
                    <a:lnTo>
                      <a:pt x="11" y="562"/>
                    </a:lnTo>
                    <a:lnTo>
                      <a:pt x="15" y="569"/>
                    </a:lnTo>
                    <a:lnTo>
                      <a:pt x="22" y="580"/>
                    </a:lnTo>
                    <a:lnTo>
                      <a:pt x="22" y="580"/>
                    </a:lnTo>
                    <a:lnTo>
                      <a:pt x="25" y="584"/>
                    </a:lnTo>
                    <a:lnTo>
                      <a:pt x="36" y="591"/>
                    </a:lnTo>
                    <a:lnTo>
                      <a:pt x="36" y="591"/>
                    </a:lnTo>
                    <a:lnTo>
                      <a:pt x="36" y="591"/>
                    </a:lnTo>
                    <a:lnTo>
                      <a:pt x="40" y="591"/>
                    </a:lnTo>
                    <a:lnTo>
                      <a:pt x="40" y="584"/>
                    </a:lnTo>
                    <a:lnTo>
                      <a:pt x="36" y="587"/>
                    </a:lnTo>
                    <a:lnTo>
                      <a:pt x="40" y="591"/>
                    </a:lnTo>
                    <a:lnTo>
                      <a:pt x="44" y="595"/>
                    </a:lnTo>
                    <a:lnTo>
                      <a:pt x="44" y="595"/>
                    </a:lnTo>
                    <a:lnTo>
                      <a:pt x="51" y="598"/>
                    </a:lnTo>
                    <a:lnTo>
                      <a:pt x="51" y="598"/>
                    </a:lnTo>
                    <a:lnTo>
                      <a:pt x="51" y="598"/>
                    </a:lnTo>
                    <a:lnTo>
                      <a:pt x="58" y="598"/>
                    </a:lnTo>
                    <a:lnTo>
                      <a:pt x="58" y="591"/>
                    </a:lnTo>
                    <a:lnTo>
                      <a:pt x="58" y="598"/>
                    </a:lnTo>
                    <a:lnTo>
                      <a:pt x="65" y="602"/>
                    </a:lnTo>
                    <a:lnTo>
                      <a:pt x="65" y="602"/>
                    </a:lnTo>
                    <a:lnTo>
                      <a:pt x="65" y="602"/>
                    </a:lnTo>
                    <a:lnTo>
                      <a:pt x="73" y="602"/>
                    </a:lnTo>
                    <a:lnTo>
                      <a:pt x="80" y="602"/>
                    </a:lnTo>
                    <a:lnTo>
                      <a:pt x="87" y="602"/>
                    </a:lnTo>
                    <a:lnTo>
                      <a:pt x="98" y="602"/>
                    </a:lnTo>
                    <a:lnTo>
                      <a:pt x="98" y="602"/>
                    </a:lnTo>
                    <a:lnTo>
                      <a:pt x="102" y="602"/>
                    </a:lnTo>
                    <a:lnTo>
                      <a:pt x="109" y="598"/>
                    </a:lnTo>
                    <a:lnTo>
                      <a:pt x="105" y="591"/>
                    </a:lnTo>
                    <a:lnTo>
                      <a:pt x="105" y="598"/>
                    </a:lnTo>
                    <a:lnTo>
                      <a:pt x="112" y="598"/>
                    </a:lnTo>
                    <a:lnTo>
                      <a:pt x="116" y="598"/>
                    </a:lnTo>
                    <a:lnTo>
                      <a:pt x="116" y="598"/>
                    </a:lnTo>
                    <a:lnTo>
                      <a:pt x="127" y="595"/>
                    </a:lnTo>
                    <a:lnTo>
                      <a:pt x="145" y="587"/>
                    </a:lnTo>
                    <a:lnTo>
                      <a:pt x="156" y="584"/>
                    </a:lnTo>
                    <a:lnTo>
                      <a:pt x="152" y="576"/>
                    </a:lnTo>
                    <a:lnTo>
                      <a:pt x="152" y="584"/>
                    </a:lnTo>
                    <a:lnTo>
                      <a:pt x="167" y="580"/>
                    </a:lnTo>
                    <a:lnTo>
                      <a:pt x="178" y="580"/>
                    </a:lnTo>
                    <a:lnTo>
                      <a:pt x="185" y="580"/>
                    </a:lnTo>
                    <a:lnTo>
                      <a:pt x="185" y="573"/>
                    </a:lnTo>
                    <a:lnTo>
                      <a:pt x="181" y="576"/>
                    </a:lnTo>
                    <a:lnTo>
                      <a:pt x="185" y="580"/>
                    </a:lnTo>
                    <a:lnTo>
                      <a:pt x="189" y="584"/>
                    </a:lnTo>
                    <a:lnTo>
                      <a:pt x="189" y="584"/>
                    </a:lnTo>
                    <a:lnTo>
                      <a:pt x="192" y="584"/>
                    </a:lnTo>
                    <a:lnTo>
                      <a:pt x="192" y="576"/>
                    </a:lnTo>
                    <a:lnTo>
                      <a:pt x="192" y="584"/>
                    </a:lnTo>
                    <a:lnTo>
                      <a:pt x="199" y="587"/>
                    </a:lnTo>
                    <a:lnTo>
                      <a:pt x="199" y="580"/>
                    </a:lnTo>
                    <a:lnTo>
                      <a:pt x="196" y="584"/>
                    </a:lnTo>
                    <a:lnTo>
                      <a:pt x="199" y="587"/>
                    </a:lnTo>
                    <a:lnTo>
                      <a:pt x="203" y="584"/>
                    </a:lnTo>
                    <a:lnTo>
                      <a:pt x="199" y="587"/>
                    </a:lnTo>
                    <a:lnTo>
                      <a:pt x="203" y="595"/>
                    </a:lnTo>
                    <a:lnTo>
                      <a:pt x="203" y="595"/>
                    </a:lnTo>
                    <a:lnTo>
                      <a:pt x="203" y="595"/>
                    </a:lnTo>
                    <a:lnTo>
                      <a:pt x="207" y="598"/>
                    </a:lnTo>
                    <a:lnTo>
                      <a:pt x="210" y="595"/>
                    </a:lnTo>
                    <a:lnTo>
                      <a:pt x="207" y="598"/>
                    </a:lnTo>
                    <a:lnTo>
                      <a:pt x="210" y="609"/>
                    </a:lnTo>
                    <a:lnTo>
                      <a:pt x="214" y="616"/>
                    </a:lnTo>
                    <a:lnTo>
                      <a:pt x="218" y="627"/>
                    </a:lnTo>
                    <a:lnTo>
                      <a:pt x="221" y="638"/>
                    </a:lnTo>
                    <a:lnTo>
                      <a:pt x="225" y="649"/>
                    </a:lnTo>
                    <a:lnTo>
                      <a:pt x="228" y="645"/>
                    </a:lnTo>
                    <a:lnTo>
                      <a:pt x="225" y="645"/>
                    </a:lnTo>
                    <a:lnTo>
                      <a:pt x="225" y="660"/>
                    </a:lnTo>
                    <a:lnTo>
                      <a:pt x="225" y="663"/>
                    </a:lnTo>
                    <a:lnTo>
                      <a:pt x="225" y="663"/>
                    </a:lnTo>
                    <a:lnTo>
                      <a:pt x="228" y="678"/>
                    </a:lnTo>
                    <a:lnTo>
                      <a:pt x="232" y="674"/>
                    </a:lnTo>
                    <a:lnTo>
                      <a:pt x="228" y="674"/>
                    </a:lnTo>
                    <a:lnTo>
                      <a:pt x="228" y="689"/>
                    </a:lnTo>
                    <a:lnTo>
                      <a:pt x="228" y="703"/>
                    </a:lnTo>
                    <a:lnTo>
                      <a:pt x="228" y="718"/>
                    </a:lnTo>
                    <a:lnTo>
                      <a:pt x="228" y="732"/>
                    </a:lnTo>
                    <a:lnTo>
                      <a:pt x="232" y="732"/>
                    </a:lnTo>
                    <a:lnTo>
                      <a:pt x="228" y="732"/>
                    </a:lnTo>
                    <a:lnTo>
                      <a:pt x="225" y="747"/>
                    </a:lnTo>
                    <a:lnTo>
                      <a:pt x="225" y="747"/>
                    </a:lnTo>
                    <a:lnTo>
                      <a:pt x="225" y="747"/>
                    </a:lnTo>
                    <a:lnTo>
                      <a:pt x="225" y="761"/>
                    </a:lnTo>
                    <a:lnTo>
                      <a:pt x="228" y="761"/>
                    </a:lnTo>
                    <a:lnTo>
                      <a:pt x="225" y="761"/>
                    </a:lnTo>
                    <a:lnTo>
                      <a:pt x="221" y="776"/>
                    </a:lnTo>
                    <a:lnTo>
                      <a:pt x="218" y="790"/>
                    </a:lnTo>
                    <a:lnTo>
                      <a:pt x="214" y="805"/>
                    </a:lnTo>
                    <a:lnTo>
                      <a:pt x="210" y="816"/>
                    </a:lnTo>
                    <a:lnTo>
                      <a:pt x="207" y="819"/>
                    </a:lnTo>
                    <a:lnTo>
                      <a:pt x="214" y="823"/>
                    </a:lnTo>
                    <a:lnTo>
                      <a:pt x="239" y="823"/>
                    </a:lnTo>
                    <a:lnTo>
                      <a:pt x="265" y="823"/>
                    </a:lnTo>
                    <a:lnTo>
                      <a:pt x="290" y="823"/>
                    </a:lnTo>
                    <a:lnTo>
                      <a:pt x="312" y="823"/>
                    </a:lnTo>
                    <a:lnTo>
                      <a:pt x="334" y="823"/>
                    </a:lnTo>
                    <a:lnTo>
                      <a:pt x="355" y="823"/>
                    </a:lnTo>
                    <a:lnTo>
                      <a:pt x="373" y="823"/>
                    </a:lnTo>
                    <a:lnTo>
                      <a:pt x="384" y="823"/>
                    </a:lnTo>
                    <a:lnTo>
                      <a:pt x="402" y="819"/>
                    </a:lnTo>
                    <a:lnTo>
                      <a:pt x="417" y="816"/>
                    </a:lnTo>
                    <a:lnTo>
                      <a:pt x="421" y="812"/>
                    </a:lnTo>
                    <a:lnTo>
                      <a:pt x="421" y="812"/>
                    </a:lnTo>
                    <a:lnTo>
                      <a:pt x="431" y="801"/>
                    </a:lnTo>
                    <a:lnTo>
                      <a:pt x="428" y="798"/>
                    </a:lnTo>
                    <a:lnTo>
                      <a:pt x="431" y="805"/>
                    </a:lnTo>
                    <a:lnTo>
                      <a:pt x="446" y="798"/>
                    </a:lnTo>
                    <a:lnTo>
                      <a:pt x="446" y="798"/>
                    </a:lnTo>
                    <a:lnTo>
                      <a:pt x="446" y="794"/>
                    </a:lnTo>
                    <a:lnTo>
                      <a:pt x="453" y="787"/>
                    </a:lnTo>
                    <a:lnTo>
                      <a:pt x="460" y="780"/>
                    </a:lnTo>
                    <a:lnTo>
                      <a:pt x="464" y="780"/>
                    </a:lnTo>
                    <a:lnTo>
                      <a:pt x="464" y="780"/>
                    </a:lnTo>
                    <a:lnTo>
                      <a:pt x="471" y="769"/>
                    </a:lnTo>
                    <a:lnTo>
                      <a:pt x="475" y="758"/>
                    </a:lnTo>
                    <a:lnTo>
                      <a:pt x="479" y="747"/>
                    </a:lnTo>
                    <a:lnTo>
                      <a:pt x="479" y="747"/>
                    </a:lnTo>
                    <a:lnTo>
                      <a:pt x="479" y="743"/>
                    </a:lnTo>
                    <a:lnTo>
                      <a:pt x="479" y="736"/>
                    </a:lnTo>
                    <a:lnTo>
                      <a:pt x="479" y="725"/>
                    </a:lnTo>
                    <a:lnTo>
                      <a:pt x="479" y="714"/>
                    </a:lnTo>
                    <a:lnTo>
                      <a:pt x="479" y="714"/>
                    </a:lnTo>
                    <a:lnTo>
                      <a:pt x="479" y="714"/>
                    </a:lnTo>
                    <a:lnTo>
                      <a:pt x="475" y="703"/>
                    </a:lnTo>
                    <a:lnTo>
                      <a:pt x="475" y="703"/>
                    </a:lnTo>
                    <a:lnTo>
                      <a:pt x="471" y="700"/>
                    </a:lnTo>
                    <a:lnTo>
                      <a:pt x="464" y="692"/>
                    </a:lnTo>
                    <a:lnTo>
                      <a:pt x="460" y="696"/>
                    </a:lnTo>
                    <a:lnTo>
                      <a:pt x="468" y="696"/>
                    </a:lnTo>
                    <a:lnTo>
                      <a:pt x="464" y="685"/>
                    </a:lnTo>
                    <a:lnTo>
                      <a:pt x="460" y="682"/>
                    </a:lnTo>
                    <a:lnTo>
                      <a:pt x="460" y="682"/>
                    </a:lnTo>
                    <a:lnTo>
                      <a:pt x="450" y="674"/>
                    </a:lnTo>
                    <a:lnTo>
                      <a:pt x="446" y="678"/>
                    </a:lnTo>
                    <a:lnTo>
                      <a:pt x="453" y="678"/>
                    </a:lnTo>
                    <a:lnTo>
                      <a:pt x="446" y="667"/>
                    </a:lnTo>
                    <a:lnTo>
                      <a:pt x="446" y="667"/>
                    </a:lnTo>
                    <a:lnTo>
                      <a:pt x="442" y="663"/>
                    </a:lnTo>
                    <a:lnTo>
                      <a:pt x="435" y="656"/>
                    </a:lnTo>
                    <a:lnTo>
                      <a:pt x="431" y="660"/>
                    </a:lnTo>
                    <a:lnTo>
                      <a:pt x="439" y="660"/>
                    </a:lnTo>
                    <a:lnTo>
                      <a:pt x="435" y="649"/>
                    </a:lnTo>
                    <a:lnTo>
                      <a:pt x="431" y="638"/>
                    </a:lnTo>
                    <a:lnTo>
                      <a:pt x="424" y="638"/>
                    </a:lnTo>
                    <a:lnTo>
                      <a:pt x="431" y="638"/>
                    </a:lnTo>
                    <a:lnTo>
                      <a:pt x="431" y="624"/>
                    </a:lnTo>
                    <a:lnTo>
                      <a:pt x="431" y="613"/>
                    </a:lnTo>
                    <a:lnTo>
                      <a:pt x="431" y="602"/>
                    </a:lnTo>
                    <a:lnTo>
                      <a:pt x="424" y="602"/>
                    </a:lnTo>
                    <a:lnTo>
                      <a:pt x="431" y="605"/>
                    </a:lnTo>
                    <a:lnTo>
                      <a:pt x="435" y="595"/>
                    </a:lnTo>
                    <a:lnTo>
                      <a:pt x="439" y="584"/>
                    </a:lnTo>
                    <a:lnTo>
                      <a:pt x="446" y="573"/>
                    </a:lnTo>
                    <a:lnTo>
                      <a:pt x="439" y="569"/>
                    </a:lnTo>
                    <a:lnTo>
                      <a:pt x="442" y="576"/>
                    </a:lnTo>
                    <a:lnTo>
                      <a:pt x="450" y="573"/>
                    </a:lnTo>
                    <a:lnTo>
                      <a:pt x="450" y="569"/>
                    </a:lnTo>
                    <a:lnTo>
                      <a:pt x="453" y="569"/>
                    </a:lnTo>
                    <a:lnTo>
                      <a:pt x="457" y="562"/>
                    </a:lnTo>
                    <a:lnTo>
                      <a:pt x="450" y="558"/>
                    </a:lnTo>
                    <a:lnTo>
                      <a:pt x="453" y="562"/>
                    </a:lnTo>
                    <a:lnTo>
                      <a:pt x="457" y="558"/>
                    </a:lnTo>
                    <a:lnTo>
                      <a:pt x="453" y="555"/>
                    </a:lnTo>
                    <a:lnTo>
                      <a:pt x="453" y="562"/>
                    </a:lnTo>
                    <a:lnTo>
                      <a:pt x="460" y="562"/>
                    </a:lnTo>
                    <a:lnTo>
                      <a:pt x="464" y="562"/>
                    </a:lnTo>
                    <a:lnTo>
                      <a:pt x="464" y="558"/>
                    </a:lnTo>
                    <a:lnTo>
                      <a:pt x="468" y="555"/>
                    </a:lnTo>
                    <a:lnTo>
                      <a:pt x="464" y="551"/>
                    </a:lnTo>
                    <a:lnTo>
                      <a:pt x="468" y="558"/>
                    </a:lnTo>
                    <a:lnTo>
                      <a:pt x="475" y="555"/>
                    </a:lnTo>
                    <a:lnTo>
                      <a:pt x="482" y="551"/>
                    </a:lnTo>
                    <a:lnTo>
                      <a:pt x="489" y="547"/>
                    </a:lnTo>
                    <a:lnTo>
                      <a:pt x="486" y="540"/>
                    </a:lnTo>
                    <a:lnTo>
                      <a:pt x="486" y="547"/>
                    </a:lnTo>
                    <a:lnTo>
                      <a:pt x="493" y="547"/>
                    </a:lnTo>
                    <a:lnTo>
                      <a:pt x="497" y="547"/>
                    </a:lnTo>
                    <a:lnTo>
                      <a:pt x="497" y="547"/>
                    </a:lnTo>
                    <a:lnTo>
                      <a:pt x="508" y="544"/>
                    </a:lnTo>
                    <a:lnTo>
                      <a:pt x="504" y="537"/>
                    </a:lnTo>
                    <a:lnTo>
                      <a:pt x="504" y="544"/>
                    </a:lnTo>
                    <a:lnTo>
                      <a:pt x="515" y="544"/>
                    </a:lnTo>
                    <a:lnTo>
                      <a:pt x="522" y="544"/>
                    </a:lnTo>
                    <a:lnTo>
                      <a:pt x="533" y="544"/>
                    </a:lnTo>
                    <a:lnTo>
                      <a:pt x="544" y="544"/>
                    </a:lnTo>
                    <a:lnTo>
                      <a:pt x="544" y="537"/>
                    </a:lnTo>
                    <a:lnTo>
                      <a:pt x="544" y="544"/>
                    </a:lnTo>
                    <a:lnTo>
                      <a:pt x="551" y="547"/>
                    </a:lnTo>
                    <a:lnTo>
                      <a:pt x="562" y="551"/>
                    </a:lnTo>
                    <a:lnTo>
                      <a:pt x="562" y="551"/>
                    </a:lnTo>
                    <a:lnTo>
                      <a:pt x="562" y="551"/>
                    </a:lnTo>
                    <a:lnTo>
                      <a:pt x="569" y="551"/>
                    </a:lnTo>
                    <a:lnTo>
                      <a:pt x="569" y="544"/>
                    </a:lnTo>
                    <a:lnTo>
                      <a:pt x="569" y="551"/>
                    </a:lnTo>
                    <a:lnTo>
                      <a:pt x="577" y="555"/>
                    </a:lnTo>
                    <a:lnTo>
                      <a:pt x="577" y="547"/>
                    </a:lnTo>
                    <a:lnTo>
                      <a:pt x="573" y="551"/>
                    </a:lnTo>
                    <a:lnTo>
                      <a:pt x="577" y="555"/>
                    </a:lnTo>
                    <a:lnTo>
                      <a:pt x="580" y="558"/>
                    </a:lnTo>
                    <a:lnTo>
                      <a:pt x="580" y="558"/>
                    </a:lnTo>
                    <a:lnTo>
                      <a:pt x="587" y="562"/>
                    </a:lnTo>
                    <a:lnTo>
                      <a:pt x="595" y="566"/>
                    </a:lnTo>
                    <a:lnTo>
                      <a:pt x="595" y="558"/>
                    </a:lnTo>
                    <a:lnTo>
                      <a:pt x="591" y="562"/>
                    </a:lnTo>
                    <a:lnTo>
                      <a:pt x="595" y="569"/>
                    </a:lnTo>
                    <a:lnTo>
                      <a:pt x="595" y="569"/>
                    </a:lnTo>
                    <a:lnTo>
                      <a:pt x="595" y="569"/>
                    </a:lnTo>
                    <a:lnTo>
                      <a:pt x="598" y="573"/>
                    </a:lnTo>
                    <a:lnTo>
                      <a:pt x="602" y="569"/>
                    </a:lnTo>
                    <a:lnTo>
                      <a:pt x="598" y="573"/>
                    </a:lnTo>
                    <a:lnTo>
                      <a:pt x="602" y="580"/>
                    </a:lnTo>
                    <a:lnTo>
                      <a:pt x="606" y="591"/>
                    </a:lnTo>
                    <a:lnTo>
                      <a:pt x="609" y="602"/>
                    </a:lnTo>
                    <a:lnTo>
                      <a:pt x="613" y="598"/>
                    </a:lnTo>
                    <a:lnTo>
                      <a:pt x="609" y="598"/>
                    </a:lnTo>
                    <a:lnTo>
                      <a:pt x="609" y="613"/>
                    </a:lnTo>
                    <a:lnTo>
                      <a:pt x="609" y="624"/>
                    </a:lnTo>
                    <a:lnTo>
                      <a:pt x="609" y="638"/>
                    </a:lnTo>
                    <a:lnTo>
                      <a:pt x="613" y="638"/>
                    </a:lnTo>
                    <a:lnTo>
                      <a:pt x="609" y="638"/>
                    </a:lnTo>
                    <a:lnTo>
                      <a:pt x="606" y="649"/>
                    </a:lnTo>
                    <a:lnTo>
                      <a:pt x="602" y="660"/>
                    </a:lnTo>
                    <a:lnTo>
                      <a:pt x="598" y="671"/>
                    </a:lnTo>
                    <a:lnTo>
                      <a:pt x="602" y="671"/>
                    </a:lnTo>
                    <a:lnTo>
                      <a:pt x="598" y="667"/>
                    </a:lnTo>
                    <a:lnTo>
                      <a:pt x="591" y="674"/>
                    </a:lnTo>
                    <a:lnTo>
                      <a:pt x="584" y="682"/>
                    </a:lnTo>
                    <a:lnTo>
                      <a:pt x="587" y="685"/>
                    </a:lnTo>
                    <a:lnTo>
                      <a:pt x="587" y="682"/>
                    </a:lnTo>
                    <a:lnTo>
                      <a:pt x="580" y="685"/>
                    </a:lnTo>
                    <a:lnTo>
                      <a:pt x="580" y="685"/>
                    </a:lnTo>
                    <a:lnTo>
                      <a:pt x="577" y="685"/>
                    </a:lnTo>
                    <a:lnTo>
                      <a:pt x="569" y="692"/>
                    </a:lnTo>
                    <a:lnTo>
                      <a:pt x="569" y="696"/>
                    </a:lnTo>
                    <a:lnTo>
                      <a:pt x="569" y="696"/>
                    </a:lnTo>
                    <a:lnTo>
                      <a:pt x="566" y="703"/>
                    </a:lnTo>
                    <a:lnTo>
                      <a:pt x="562" y="714"/>
                    </a:lnTo>
                    <a:lnTo>
                      <a:pt x="558" y="722"/>
                    </a:lnTo>
                    <a:lnTo>
                      <a:pt x="558" y="722"/>
                    </a:lnTo>
                    <a:lnTo>
                      <a:pt x="558" y="722"/>
                    </a:lnTo>
                    <a:lnTo>
                      <a:pt x="558" y="729"/>
                    </a:lnTo>
                    <a:lnTo>
                      <a:pt x="562" y="729"/>
                    </a:lnTo>
                    <a:lnTo>
                      <a:pt x="558" y="729"/>
                    </a:lnTo>
                    <a:lnTo>
                      <a:pt x="555" y="740"/>
                    </a:lnTo>
                    <a:lnTo>
                      <a:pt x="555" y="740"/>
                    </a:lnTo>
                    <a:lnTo>
                      <a:pt x="555" y="740"/>
                    </a:lnTo>
                    <a:lnTo>
                      <a:pt x="555" y="751"/>
                    </a:lnTo>
                    <a:lnTo>
                      <a:pt x="555" y="751"/>
                    </a:lnTo>
                    <a:lnTo>
                      <a:pt x="555" y="754"/>
                    </a:lnTo>
                    <a:lnTo>
                      <a:pt x="558" y="761"/>
                    </a:lnTo>
                    <a:lnTo>
                      <a:pt x="562" y="772"/>
                    </a:lnTo>
                    <a:lnTo>
                      <a:pt x="566" y="783"/>
                    </a:lnTo>
                    <a:lnTo>
                      <a:pt x="566" y="783"/>
                    </a:lnTo>
                    <a:lnTo>
                      <a:pt x="566" y="783"/>
                    </a:lnTo>
                    <a:lnTo>
                      <a:pt x="573" y="790"/>
                    </a:lnTo>
                    <a:lnTo>
                      <a:pt x="577" y="787"/>
                    </a:lnTo>
                    <a:lnTo>
                      <a:pt x="573" y="790"/>
                    </a:lnTo>
                    <a:lnTo>
                      <a:pt x="580" y="801"/>
                    </a:lnTo>
                    <a:lnTo>
                      <a:pt x="580" y="801"/>
                    </a:lnTo>
                    <a:lnTo>
                      <a:pt x="584" y="805"/>
                    </a:lnTo>
                    <a:lnTo>
                      <a:pt x="595" y="812"/>
                    </a:lnTo>
                    <a:lnTo>
                      <a:pt x="606" y="819"/>
                    </a:lnTo>
                    <a:lnTo>
                      <a:pt x="602" y="816"/>
                    </a:lnTo>
                    <a:lnTo>
                      <a:pt x="606" y="819"/>
                    </a:lnTo>
                    <a:lnTo>
                      <a:pt x="620" y="823"/>
                    </a:lnTo>
                    <a:lnTo>
                      <a:pt x="620" y="816"/>
                    </a:lnTo>
                    <a:lnTo>
                      <a:pt x="620" y="823"/>
                    </a:lnTo>
                    <a:lnTo>
                      <a:pt x="627" y="827"/>
                    </a:lnTo>
                    <a:lnTo>
                      <a:pt x="624" y="823"/>
                    </a:lnTo>
                    <a:lnTo>
                      <a:pt x="627" y="827"/>
                    </a:lnTo>
                    <a:lnTo>
                      <a:pt x="642" y="830"/>
                    </a:lnTo>
                    <a:lnTo>
                      <a:pt x="667" y="834"/>
                    </a:lnTo>
                    <a:lnTo>
                      <a:pt x="696" y="838"/>
                    </a:lnTo>
                    <a:lnTo>
                      <a:pt x="714" y="838"/>
                    </a:lnTo>
                    <a:lnTo>
                      <a:pt x="732" y="841"/>
                    </a:lnTo>
                    <a:lnTo>
                      <a:pt x="751" y="841"/>
                    </a:lnTo>
                    <a:lnTo>
                      <a:pt x="769" y="841"/>
                    </a:lnTo>
                    <a:lnTo>
                      <a:pt x="787" y="841"/>
                    </a:lnTo>
                    <a:lnTo>
                      <a:pt x="809" y="841"/>
                    </a:lnTo>
                    <a:lnTo>
                      <a:pt x="823" y="838"/>
                    </a:lnTo>
                    <a:lnTo>
                      <a:pt x="841" y="834"/>
                    </a:lnTo>
                    <a:lnTo>
                      <a:pt x="845" y="830"/>
                    </a:lnTo>
                    <a:lnTo>
                      <a:pt x="848" y="827"/>
                    </a:lnTo>
                    <a:lnTo>
                      <a:pt x="848" y="819"/>
                    </a:lnTo>
                    <a:lnTo>
                      <a:pt x="848" y="819"/>
                    </a:lnTo>
                    <a:lnTo>
                      <a:pt x="848" y="819"/>
                    </a:lnTo>
                    <a:lnTo>
                      <a:pt x="845" y="809"/>
                    </a:lnTo>
                    <a:lnTo>
                      <a:pt x="841" y="798"/>
                    </a:lnTo>
                    <a:lnTo>
                      <a:pt x="834" y="798"/>
                    </a:lnTo>
                    <a:lnTo>
                      <a:pt x="841" y="798"/>
                    </a:lnTo>
                    <a:lnTo>
                      <a:pt x="841" y="787"/>
                    </a:lnTo>
                    <a:lnTo>
                      <a:pt x="841" y="761"/>
                    </a:lnTo>
                    <a:lnTo>
                      <a:pt x="841" y="736"/>
                    </a:lnTo>
                    <a:lnTo>
                      <a:pt x="841" y="707"/>
                    </a:lnTo>
                    <a:lnTo>
                      <a:pt x="845" y="682"/>
                    </a:lnTo>
                    <a:lnTo>
                      <a:pt x="848" y="656"/>
                    </a:lnTo>
                    <a:lnTo>
                      <a:pt x="848" y="634"/>
                    </a:lnTo>
                    <a:lnTo>
                      <a:pt x="841" y="634"/>
                    </a:lnTo>
                    <a:lnTo>
                      <a:pt x="848" y="638"/>
                    </a:lnTo>
                    <a:lnTo>
                      <a:pt x="852" y="627"/>
                    </a:lnTo>
                    <a:lnTo>
                      <a:pt x="856" y="620"/>
                    </a:lnTo>
                    <a:lnTo>
                      <a:pt x="859" y="613"/>
                    </a:lnTo>
                    <a:lnTo>
                      <a:pt x="852" y="609"/>
                    </a:lnTo>
                    <a:lnTo>
                      <a:pt x="856" y="616"/>
                    </a:lnTo>
                    <a:lnTo>
                      <a:pt x="863" y="613"/>
                    </a:lnTo>
                    <a:lnTo>
                      <a:pt x="863" y="613"/>
                    </a:lnTo>
                    <a:lnTo>
                      <a:pt x="863" y="609"/>
                    </a:lnTo>
                    <a:lnTo>
                      <a:pt x="867" y="605"/>
                    </a:lnTo>
                    <a:lnTo>
                      <a:pt x="863" y="602"/>
                    </a:lnTo>
                    <a:lnTo>
                      <a:pt x="867" y="609"/>
                    </a:lnTo>
                    <a:lnTo>
                      <a:pt x="874" y="605"/>
                    </a:lnTo>
                    <a:lnTo>
                      <a:pt x="870" y="598"/>
                    </a:lnTo>
                    <a:lnTo>
                      <a:pt x="870" y="605"/>
                    </a:lnTo>
                    <a:lnTo>
                      <a:pt x="877" y="605"/>
                    </a:lnTo>
                    <a:lnTo>
                      <a:pt x="885" y="605"/>
                    </a:lnTo>
                    <a:lnTo>
                      <a:pt x="892" y="605"/>
                    </a:lnTo>
                    <a:lnTo>
                      <a:pt x="892" y="598"/>
                    </a:lnTo>
                    <a:lnTo>
                      <a:pt x="892" y="605"/>
                    </a:lnTo>
                    <a:lnTo>
                      <a:pt x="903" y="609"/>
                    </a:lnTo>
                    <a:lnTo>
                      <a:pt x="910" y="613"/>
                    </a:lnTo>
                    <a:lnTo>
                      <a:pt x="917" y="616"/>
                    </a:lnTo>
                    <a:lnTo>
                      <a:pt x="925" y="620"/>
                    </a:lnTo>
                    <a:lnTo>
                      <a:pt x="932" y="624"/>
                    </a:lnTo>
                    <a:lnTo>
                      <a:pt x="943" y="631"/>
                    </a:lnTo>
                    <a:lnTo>
                      <a:pt x="943" y="624"/>
                    </a:lnTo>
                    <a:lnTo>
                      <a:pt x="939" y="627"/>
                    </a:lnTo>
                    <a:lnTo>
                      <a:pt x="943" y="634"/>
                    </a:lnTo>
                    <a:lnTo>
                      <a:pt x="943" y="634"/>
                    </a:lnTo>
                    <a:lnTo>
                      <a:pt x="943" y="634"/>
                    </a:lnTo>
                    <a:lnTo>
                      <a:pt x="950" y="642"/>
                    </a:lnTo>
                    <a:lnTo>
                      <a:pt x="954" y="645"/>
                    </a:lnTo>
                    <a:lnTo>
                      <a:pt x="954" y="645"/>
                    </a:lnTo>
                    <a:lnTo>
                      <a:pt x="961" y="649"/>
                    </a:lnTo>
                    <a:lnTo>
                      <a:pt x="972" y="653"/>
                    </a:lnTo>
                    <a:lnTo>
                      <a:pt x="983" y="656"/>
                    </a:lnTo>
                    <a:lnTo>
                      <a:pt x="983" y="656"/>
                    </a:lnTo>
                    <a:lnTo>
                      <a:pt x="983" y="656"/>
                    </a:lnTo>
                    <a:lnTo>
                      <a:pt x="990" y="656"/>
                    </a:lnTo>
                    <a:lnTo>
                      <a:pt x="990" y="649"/>
                    </a:lnTo>
                    <a:lnTo>
                      <a:pt x="990" y="656"/>
                    </a:lnTo>
                    <a:lnTo>
                      <a:pt x="1001" y="660"/>
                    </a:lnTo>
                    <a:lnTo>
                      <a:pt x="1001" y="660"/>
                    </a:lnTo>
                    <a:lnTo>
                      <a:pt x="1004" y="660"/>
                    </a:lnTo>
                    <a:lnTo>
                      <a:pt x="1015" y="656"/>
                    </a:lnTo>
                    <a:lnTo>
                      <a:pt x="1012" y="649"/>
                    </a:lnTo>
                    <a:lnTo>
                      <a:pt x="1012" y="656"/>
                    </a:lnTo>
                    <a:lnTo>
                      <a:pt x="1022" y="656"/>
                    </a:lnTo>
                    <a:lnTo>
                      <a:pt x="1022" y="656"/>
                    </a:lnTo>
                    <a:lnTo>
                      <a:pt x="1026" y="656"/>
                    </a:lnTo>
                    <a:lnTo>
                      <a:pt x="1033" y="653"/>
                    </a:lnTo>
                    <a:lnTo>
                      <a:pt x="1044" y="649"/>
                    </a:lnTo>
                    <a:lnTo>
                      <a:pt x="1044" y="649"/>
                    </a:lnTo>
                    <a:lnTo>
                      <a:pt x="1044" y="645"/>
                    </a:lnTo>
                    <a:lnTo>
                      <a:pt x="1051" y="638"/>
                    </a:lnTo>
                    <a:lnTo>
                      <a:pt x="1059" y="631"/>
                    </a:lnTo>
                    <a:lnTo>
                      <a:pt x="1066" y="624"/>
                    </a:lnTo>
                    <a:lnTo>
                      <a:pt x="1070" y="624"/>
                    </a:lnTo>
                    <a:lnTo>
                      <a:pt x="1070" y="624"/>
                    </a:lnTo>
                    <a:lnTo>
                      <a:pt x="1077" y="613"/>
                    </a:lnTo>
                    <a:lnTo>
                      <a:pt x="1080" y="602"/>
                    </a:lnTo>
                    <a:lnTo>
                      <a:pt x="1084" y="587"/>
                    </a:lnTo>
                    <a:lnTo>
                      <a:pt x="1084" y="587"/>
                    </a:lnTo>
                    <a:lnTo>
                      <a:pt x="1084" y="584"/>
                    </a:lnTo>
                    <a:lnTo>
                      <a:pt x="1084" y="576"/>
                    </a:lnTo>
                    <a:lnTo>
                      <a:pt x="1084" y="569"/>
                    </a:lnTo>
                    <a:lnTo>
                      <a:pt x="1084" y="562"/>
                    </a:lnTo>
                    <a:lnTo>
                      <a:pt x="1084" y="555"/>
                    </a:lnTo>
                    <a:lnTo>
                      <a:pt x="1084" y="555"/>
                    </a:lnTo>
                    <a:lnTo>
                      <a:pt x="1080" y="551"/>
                    </a:lnTo>
                    <a:lnTo>
                      <a:pt x="1077" y="547"/>
                    </a:lnTo>
                    <a:lnTo>
                      <a:pt x="1073" y="551"/>
                    </a:lnTo>
                    <a:lnTo>
                      <a:pt x="1080" y="551"/>
                    </a:lnTo>
                    <a:lnTo>
                      <a:pt x="1077" y="544"/>
                    </a:lnTo>
                    <a:lnTo>
                      <a:pt x="1070" y="544"/>
                    </a:lnTo>
                    <a:lnTo>
                      <a:pt x="1077" y="544"/>
                    </a:lnTo>
                    <a:lnTo>
                      <a:pt x="1077" y="537"/>
                    </a:lnTo>
                    <a:lnTo>
                      <a:pt x="1077" y="537"/>
                    </a:lnTo>
                    <a:lnTo>
                      <a:pt x="1073" y="533"/>
                    </a:lnTo>
                    <a:lnTo>
                      <a:pt x="1070" y="529"/>
                    </a:lnTo>
                    <a:lnTo>
                      <a:pt x="1066" y="533"/>
                    </a:lnTo>
                    <a:lnTo>
                      <a:pt x="1073" y="533"/>
                    </a:lnTo>
                    <a:lnTo>
                      <a:pt x="1066" y="522"/>
                    </a:lnTo>
                    <a:lnTo>
                      <a:pt x="1062" y="518"/>
                    </a:lnTo>
                    <a:lnTo>
                      <a:pt x="1062" y="518"/>
                    </a:lnTo>
                    <a:lnTo>
                      <a:pt x="1051" y="511"/>
                    </a:lnTo>
                    <a:lnTo>
                      <a:pt x="1041" y="504"/>
                    </a:lnTo>
                    <a:lnTo>
                      <a:pt x="1030" y="497"/>
                    </a:lnTo>
                    <a:lnTo>
                      <a:pt x="1019" y="493"/>
                    </a:lnTo>
                    <a:lnTo>
                      <a:pt x="1008" y="489"/>
                    </a:lnTo>
                    <a:lnTo>
                      <a:pt x="1008" y="489"/>
                    </a:lnTo>
                    <a:lnTo>
                      <a:pt x="1004" y="489"/>
                    </a:lnTo>
                    <a:lnTo>
                      <a:pt x="990" y="489"/>
                    </a:lnTo>
                    <a:lnTo>
                      <a:pt x="979" y="489"/>
                    </a:lnTo>
                    <a:lnTo>
                      <a:pt x="979" y="489"/>
                    </a:lnTo>
                    <a:lnTo>
                      <a:pt x="979" y="489"/>
                    </a:lnTo>
                    <a:lnTo>
                      <a:pt x="968" y="493"/>
                    </a:lnTo>
                    <a:lnTo>
                      <a:pt x="957" y="497"/>
                    </a:lnTo>
                    <a:lnTo>
                      <a:pt x="957" y="500"/>
                    </a:lnTo>
                    <a:lnTo>
                      <a:pt x="957" y="497"/>
                    </a:lnTo>
                    <a:lnTo>
                      <a:pt x="954" y="497"/>
                    </a:lnTo>
                    <a:lnTo>
                      <a:pt x="954" y="497"/>
                    </a:lnTo>
                    <a:lnTo>
                      <a:pt x="950" y="497"/>
                    </a:lnTo>
                    <a:lnTo>
                      <a:pt x="946" y="500"/>
                    </a:lnTo>
                    <a:lnTo>
                      <a:pt x="943" y="504"/>
                    </a:lnTo>
                    <a:lnTo>
                      <a:pt x="943" y="508"/>
                    </a:lnTo>
                    <a:lnTo>
                      <a:pt x="943" y="508"/>
                    </a:lnTo>
                    <a:lnTo>
                      <a:pt x="939" y="515"/>
                    </a:lnTo>
                    <a:lnTo>
                      <a:pt x="943" y="515"/>
                    </a:lnTo>
                    <a:lnTo>
                      <a:pt x="939" y="511"/>
                    </a:lnTo>
                    <a:lnTo>
                      <a:pt x="932" y="518"/>
                    </a:lnTo>
                    <a:lnTo>
                      <a:pt x="925" y="526"/>
                    </a:lnTo>
                    <a:lnTo>
                      <a:pt x="928" y="529"/>
                    </a:lnTo>
                    <a:lnTo>
                      <a:pt x="928" y="526"/>
                    </a:lnTo>
                    <a:lnTo>
                      <a:pt x="921" y="529"/>
                    </a:lnTo>
                    <a:lnTo>
                      <a:pt x="914" y="533"/>
                    </a:lnTo>
                    <a:lnTo>
                      <a:pt x="914" y="537"/>
                    </a:lnTo>
                    <a:lnTo>
                      <a:pt x="914" y="533"/>
                    </a:lnTo>
                    <a:lnTo>
                      <a:pt x="906" y="533"/>
                    </a:lnTo>
                    <a:lnTo>
                      <a:pt x="896" y="533"/>
                    </a:lnTo>
                    <a:lnTo>
                      <a:pt x="888" y="533"/>
                    </a:lnTo>
                    <a:lnTo>
                      <a:pt x="888" y="537"/>
                    </a:lnTo>
                    <a:lnTo>
                      <a:pt x="892" y="533"/>
                    </a:lnTo>
                    <a:lnTo>
                      <a:pt x="885" y="529"/>
                    </a:lnTo>
                    <a:lnTo>
                      <a:pt x="885" y="529"/>
                    </a:lnTo>
                    <a:lnTo>
                      <a:pt x="881" y="529"/>
                    </a:lnTo>
                    <a:lnTo>
                      <a:pt x="874" y="529"/>
                    </a:lnTo>
                    <a:lnTo>
                      <a:pt x="874" y="533"/>
                    </a:lnTo>
                    <a:lnTo>
                      <a:pt x="877" y="529"/>
                    </a:lnTo>
                    <a:lnTo>
                      <a:pt x="870" y="526"/>
                    </a:lnTo>
                    <a:lnTo>
                      <a:pt x="867" y="529"/>
                    </a:lnTo>
                    <a:lnTo>
                      <a:pt x="870" y="526"/>
                    </a:lnTo>
                    <a:lnTo>
                      <a:pt x="863" y="518"/>
                    </a:lnTo>
                    <a:lnTo>
                      <a:pt x="863" y="518"/>
                    </a:lnTo>
                    <a:lnTo>
                      <a:pt x="863" y="518"/>
                    </a:lnTo>
                    <a:lnTo>
                      <a:pt x="856" y="515"/>
                    </a:lnTo>
                    <a:lnTo>
                      <a:pt x="852" y="518"/>
                    </a:lnTo>
                    <a:lnTo>
                      <a:pt x="856" y="515"/>
                    </a:lnTo>
                    <a:lnTo>
                      <a:pt x="852" y="511"/>
                    </a:lnTo>
                    <a:lnTo>
                      <a:pt x="848" y="515"/>
                    </a:lnTo>
                    <a:lnTo>
                      <a:pt x="856" y="515"/>
                    </a:lnTo>
                    <a:lnTo>
                      <a:pt x="852" y="508"/>
                    </a:lnTo>
                    <a:lnTo>
                      <a:pt x="852" y="508"/>
                    </a:lnTo>
                    <a:lnTo>
                      <a:pt x="848" y="504"/>
                    </a:lnTo>
                    <a:lnTo>
                      <a:pt x="845" y="500"/>
                    </a:lnTo>
                    <a:lnTo>
                      <a:pt x="841" y="504"/>
                    </a:lnTo>
                    <a:lnTo>
                      <a:pt x="848" y="504"/>
                    </a:lnTo>
                    <a:lnTo>
                      <a:pt x="848" y="497"/>
                    </a:lnTo>
                    <a:lnTo>
                      <a:pt x="848" y="478"/>
                    </a:lnTo>
                    <a:lnTo>
                      <a:pt x="848" y="453"/>
                    </a:lnTo>
                    <a:lnTo>
                      <a:pt x="848" y="413"/>
                    </a:lnTo>
                    <a:lnTo>
                      <a:pt x="848" y="373"/>
                    </a:lnTo>
                    <a:lnTo>
                      <a:pt x="848" y="333"/>
                    </a:lnTo>
                    <a:lnTo>
                      <a:pt x="848" y="290"/>
                    </a:lnTo>
                    <a:lnTo>
                      <a:pt x="848" y="254"/>
                    </a:lnTo>
                    <a:lnTo>
                      <a:pt x="848" y="225"/>
                    </a:lnTo>
                    <a:lnTo>
                      <a:pt x="848" y="217"/>
                    </a:lnTo>
                    <a:lnTo>
                      <a:pt x="841" y="221"/>
                    </a:lnTo>
                    <a:lnTo>
                      <a:pt x="830" y="225"/>
                    </a:lnTo>
                    <a:lnTo>
                      <a:pt x="819" y="232"/>
                    </a:lnTo>
                    <a:lnTo>
                      <a:pt x="819" y="235"/>
                    </a:lnTo>
                    <a:lnTo>
                      <a:pt x="819" y="232"/>
                    </a:lnTo>
                    <a:lnTo>
                      <a:pt x="805" y="235"/>
                    </a:lnTo>
                    <a:lnTo>
                      <a:pt x="790" y="239"/>
                    </a:lnTo>
                    <a:lnTo>
                      <a:pt x="776" y="243"/>
                    </a:lnTo>
                    <a:lnTo>
                      <a:pt x="761" y="243"/>
                    </a:lnTo>
                    <a:lnTo>
                      <a:pt x="743" y="243"/>
                    </a:lnTo>
                    <a:lnTo>
                      <a:pt x="725" y="243"/>
                    </a:lnTo>
                    <a:lnTo>
                      <a:pt x="711" y="243"/>
                    </a:lnTo>
                    <a:lnTo>
                      <a:pt x="693" y="243"/>
                    </a:lnTo>
                    <a:lnTo>
                      <a:pt x="674" y="239"/>
                    </a:lnTo>
                    <a:lnTo>
                      <a:pt x="660" y="235"/>
                    </a:lnTo>
                    <a:lnTo>
                      <a:pt x="645" y="232"/>
                    </a:lnTo>
                    <a:lnTo>
                      <a:pt x="631" y="228"/>
                    </a:lnTo>
                    <a:lnTo>
                      <a:pt x="616" y="225"/>
                    </a:lnTo>
                    <a:lnTo>
                      <a:pt x="616" y="228"/>
                    </a:lnTo>
                    <a:lnTo>
                      <a:pt x="620" y="225"/>
                    </a:lnTo>
                    <a:lnTo>
                      <a:pt x="609" y="221"/>
                    </a:lnTo>
                    <a:lnTo>
                      <a:pt x="602" y="217"/>
                    </a:lnTo>
                    <a:lnTo>
                      <a:pt x="598" y="221"/>
                    </a:lnTo>
                    <a:lnTo>
                      <a:pt x="602" y="217"/>
                    </a:lnTo>
                    <a:lnTo>
                      <a:pt x="595" y="210"/>
                    </a:lnTo>
                    <a:lnTo>
                      <a:pt x="595" y="210"/>
                    </a:lnTo>
                    <a:lnTo>
                      <a:pt x="595" y="210"/>
                    </a:lnTo>
                    <a:lnTo>
                      <a:pt x="587" y="206"/>
                    </a:lnTo>
                    <a:lnTo>
                      <a:pt x="580" y="203"/>
                    </a:lnTo>
                    <a:lnTo>
                      <a:pt x="577" y="206"/>
                    </a:lnTo>
                    <a:lnTo>
                      <a:pt x="580" y="203"/>
                    </a:lnTo>
                    <a:lnTo>
                      <a:pt x="577" y="199"/>
                    </a:lnTo>
                    <a:lnTo>
                      <a:pt x="573" y="196"/>
                    </a:lnTo>
                    <a:lnTo>
                      <a:pt x="569" y="199"/>
                    </a:lnTo>
                    <a:lnTo>
                      <a:pt x="577" y="199"/>
                    </a:lnTo>
                    <a:lnTo>
                      <a:pt x="577" y="192"/>
                    </a:lnTo>
                    <a:lnTo>
                      <a:pt x="577" y="188"/>
                    </a:lnTo>
                    <a:lnTo>
                      <a:pt x="577" y="185"/>
                    </a:lnTo>
                    <a:lnTo>
                      <a:pt x="577" y="177"/>
                    </a:lnTo>
                    <a:lnTo>
                      <a:pt x="569" y="177"/>
                    </a:lnTo>
                    <a:lnTo>
                      <a:pt x="573" y="181"/>
                    </a:lnTo>
                    <a:lnTo>
                      <a:pt x="577" y="177"/>
                    </a:lnTo>
                    <a:lnTo>
                      <a:pt x="580" y="177"/>
                    </a:lnTo>
                    <a:lnTo>
                      <a:pt x="580" y="177"/>
                    </a:lnTo>
                    <a:lnTo>
                      <a:pt x="584" y="170"/>
                    </a:lnTo>
                    <a:lnTo>
                      <a:pt x="591" y="156"/>
                    </a:lnTo>
                    <a:lnTo>
                      <a:pt x="584" y="152"/>
                    </a:lnTo>
                    <a:lnTo>
                      <a:pt x="587" y="156"/>
                    </a:lnTo>
                    <a:lnTo>
                      <a:pt x="602" y="141"/>
                    </a:lnTo>
                    <a:lnTo>
                      <a:pt x="609" y="134"/>
                    </a:lnTo>
                    <a:lnTo>
                      <a:pt x="613" y="134"/>
                    </a:lnTo>
                    <a:lnTo>
                      <a:pt x="613" y="134"/>
                    </a:lnTo>
                    <a:lnTo>
                      <a:pt x="620" y="123"/>
                    </a:lnTo>
                    <a:lnTo>
                      <a:pt x="624" y="112"/>
                    </a:lnTo>
                    <a:lnTo>
                      <a:pt x="627" y="101"/>
                    </a:lnTo>
                    <a:lnTo>
                      <a:pt x="627" y="101"/>
                    </a:lnTo>
                    <a:lnTo>
                      <a:pt x="627" y="98"/>
                    </a:lnTo>
                    <a:lnTo>
                      <a:pt x="627" y="87"/>
                    </a:lnTo>
                    <a:lnTo>
                      <a:pt x="627" y="76"/>
                    </a:lnTo>
                    <a:lnTo>
                      <a:pt x="627" y="65"/>
                    </a:lnTo>
                    <a:lnTo>
                      <a:pt x="627" y="65"/>
                    </a:lnTo>
                    <a:lnTo>
                      <a:pt x="627" y="65"/>
                    </a:lnTo>
                    <a:lnTo>
                      <a:pt x="624" y="54"/>
                    </a:lnTo>
                    <a:lnTo>
                      <a:pt x="620" y="43"/>
                    </a:lnTo>
                    <a:lnTo>
                      <a:pt x="613" y="32"/>
                    </a:lnTo>
                    <a:lnTo>
                      <a:pt x="613" y="32"/>
                    </a:lnTo>
                    <a:lnTo>
                      <a:pt x="609" y="29"/>
                    </a:lnTo>
                    <a:lnTo>
                      <a:pt x="606" y="25"/>
                    </a:lnTo>
                    <a:lnTo>
                      <a:pt x="606" y="25"/>
                    </a:lnTo>
                    <a:lnTo>
                      <a:pt x="606" y="25"/>
                    </a:lnTo>
                    <a:lnTo>
                      <a:pt x="598" y="21"/>
                    </a:lnTo>
                    <a:lnTo>
                      <a:pt x="595" y="25"/>
                    </a:lnTo>
                    <a:lnTo>
                      <a:pt x="598" y="21"/>
                    </a:lnTo>
                    <a:lnTo>
                      <a:pt x="595" y="18"/>
                    </a:lnTo>
                    <a:lnTo>
                      <a:pt x="595" y="18"/>
                    </a:lnTo>
                    <a:lnTo>
                      <a:pt x="595" y="18"/>
                    </a:lnTo>
                    <a:lnTo>
                      <a:pt x="587" y="14"/>
                    </a:lnTo>
                    <a:lnTo>
                      <a:pt x="584" y="18"/>
                    </a:lnTo>
                    <a:lnTo>
                      <a:pt x="587" y="14"/>
                    </a:lnTo>
                    <a:lnTo>
                      <a:pt x="584" y="11"/>
                    </a:lnTo>
                    <a:lnTo>
                      <a:pt x="584" y="11"/>
                    </a:lnTo>
                    <a:lnTo>
                      <a:pt x="584" y="11"/>
                    </a:lnTo>
                    <a:lnTo>
                      <a:pt x="577" y="7"/>
                    </a:lnTo>
                    <a:lnTo>
                      <a:pt x="577" y="7"/>
                    </a:lnTo>
                    <a:lnTo>
                      <a:pt x="573" y="7"/>
                    </a:lnTo>
                    <a:lnTo>
                      <a:pt x="566" y="7"/>
                    </a:lnTo>
                    <a:lnTo>
                      <a:pt x="566" y="11"/>
                    </a:lnTo>
                    <a:lnTo>
                      <a:pt x="569" y="7"/>
                    </a:lnTo>
                    <a:lnTo>
                      <a:pt x="562" y="3"/>
                    </a:lnTo>
                    <a:lnTo>
                      <a:pt x="562" y="3"/>
                    </a:lnTo>
                    <a:lnTo>
                      <a:pt x="558" y="3"/>
                    </a:lnTo>
                    <a:lnTo>
                      <a:pt x="548" y="3"/>
                    </a:lnTo>
                    <a:lnTo>
                      <a:pt x="548" y="7"/>
                    </a:lnTo>
                    <a:lnTo>
                      <a:pt x="551" y="3"/>
                    </a:lnTo>
                    <a:lnTo>
                      <a:pt x="544" y="0"/>
                    </a:lnTo>
                    <a:lnTo>
                      <a:pt x="544" y="0"/>
                    </a:lnTo>
                    <a:lnTo>
                      <a:pt x="540" y="0"/>
                    </a:lnTo>
                    <a:lnTo>
                      <a:pt x="533" y="0"/>
                    </a:lnTo>
                    <a:lnTo>
                      <a:pt x="522" y="0"/>
                    </a:lnTo>
                    <a:lnTo>
                      <a:pt x="515" y="0"/>
                    </a:lnTo>
                    <a:lnTo>
                      <a:pt x="515" y="0"/>
                    </a:lnTo>
                    <a:lnTo>
                      <a:pt x="515" y="0"/>
                    </a:lnTo>
                    <a:lnTo>
                      <a:pt x="504" y="3"/>
                    </a:lnTo>
                    <a:lnTo>
                      <a:pt x="504" y="7"/>
                    </a:lnTo>
                    <a:lnTo>
                      <a:pt x="504" y="3"/>
                    </a:lnTo>
                    <a:lnTo>
                      <a:pt x="497" y="3"/>
                    </a:lnTo>
                    <a:lnTo>
                      <a:pt x="489" y="3"/>
                    </a:lnTo>
                    <a:lnTo>
                      <a:pt x="489" y="3"/>
                    </a:lnTo>
                    <a:lnTo>
                      <a:pt x="486" y="3"/>
                    </a:lnTo>
                    <a:lnTo>
                      <a:pt x="482" y="7"/>
                    </a:lnTo>
                    <a:lnTo>
                      <a:pt x="486" y="11"/>
                    </a:lnTo>
                    <a:lnTo>
                      <a:pt x="486" y="7"/>
                    </a:lnTo>
                    <a:lnTo>
                      <a:pt x="479" y="11"/>
                    </a:lnTo>
                    <a:lnTo>
                      <a:pt x="479" y="11"/>
                    </a:lnTo>
                    <a:lnTo>
                      <a:pt x="475" y="11"/>
                    </a:lnTo>
                    <a:lnTo>
                      <a:pt x="471" y="14"/>
                    </a:lnTo>
                    <a:lnTo>
                      <a:pt x="475" y="18"/>
                    </a:lnTo>
                    <a:lnTo>
                      <a:pt x="475" y="14"/>
                    </a:lnTo>
                    <a:lnTo>
                      <a:pt x="468" y="18"/>
                    </a:lnTo>
                    <a:lnTo>
                      <a:pt x="468" y="18"/>
                    </a:lnTo>
                    <a:lnTo>
                      <a:pt x="464" y="18"/>
                    </a:lnTo>
                    <a:lnTo>
                      <a:pt x="460" y="21"/>
                    </a:lnTo>
                    <a:lnTo>
                      <a:pt x="457" y="25"/>
                    </a:lnTo>
                    <a:lnTo>
                      <a:pt x="453" y="29"/>
                    </a:lnTo>
                    <a:lnTo>
                      <a:pt x="453" y="32"/>
                    </a:lnTo>
                    <a:lnTo>
                      <a:pt x="453" y="32"/>
                    </a:lnTo>
                    <a:lnTo>
                      <a:pt x="450" y="40"/>
                    </a:lnTo>
                    <a:lnTo>
                      <a:pt x="446" y="50"/>
                    </a:lnTo>
                    <a:lnTo>
                      <a:pt x="442" y="61"/>
                    </a:lnTo>
                    <a:lnTo>
                      <a:pt x="442" y="61"/>
                    </a:lnTo>
                    <a:lnTo>
                      <a:pt x="442" y="61"/>
                    </a:lnTo>
                    <a:lnTo>
                      <a:pt x="442" y="72"/>
                    </a:lnTo>
                    <a:lnTo>
                      <a:pt x="442" y="83"/>
                    </a:lnTo>
                    <a:lnTo>
                      <a:pt x="442" y="98"/>
                    </a:lnTo>
                    <a:lnTo>
                      <a:pt x="442" y="101"/>
                    </a:lnTo>
                    <a:lnTo>
                      <a:pt x="442" y="101"/>
                    </a:lnTo>
                    <a:lnTo>
                      <a:pt x="446" y="112"/>
                    </a:lnTo>
                    <a:lnTo>
                      <a:pt x="450" y="127"/>
                    </a:lnTo>
                    <a:lnTo>
                      <a:pt x="457" y="138"/>
                    </a:lnTo>
                    <a:lnTo>
                      <a:pt x="460" y="148"/>
                    </a:lnTo>
                    <a:lnTo>
                      <a:pt x="460" y="148"/>
                    </a:lnTo>
                    <a:lnTo>
                      <a:pt x="464" y="152"/>
                    </a:lnTo>
                    <a:lnTo>
                      <a:pt x="475" y="159"/>
                    </a:lnTo>
                    <a:lnTo>
                      <a:pt x="475" y="152"/>
                    </a:lnTo>
                    <a:lnTo>
                      <a:pt x="471" y="156"/>
                    </a:lnTo>
                    <a:lnTo>
                      <a:pt x="475" y="163"/>
                    </a:lnTo>
                    <a:lnTo>
                      <a:pt x="475" y="163"/>
                    </a:lnTo>
                    <a:lnTo>
                      <a:pt x="475" y="163"/>
                    </a:lnTo>
                    <a:lnTo>
                      <a:pt x="482" y="170"/>
                    </a:lnTo>
                    <a:lnTo>
                      <a:pt x="486" y="167"/>
                    </a:lnTo>
                    <a:lnTo>
                      <a:pt x="482" y="167"/>
                    </a:lnTo>
                    <a:lnTo>
                      <a:pt x="482" y="174"/>
                    </a:lnTo>
                    <a:lnTo>
                      <a:pt x="482" y="177"/>
                    </a:lnTo>
                    <a:lnTo>
                      <a:pt x="482" y="177"/>
                    </a:lnTo>
                    <a:lnTo>
                      <a:pt x="486" y="185"/>
                    </a:lnTo>
                    <a:lnTo>
                      <a:pt x="489" y="181"/>
                    </a:lnTo>
                    <a:lnTo>
                      <a:pt x="486" y="181"/>
                    </a:lnTo>
                    <a:lnTo>
                      <a:pt x="486" y="188"/>
                    </a:lnTo>
                    <a:lnTo>
                      <a:pt x="486" y="196"/>
                    </a:lnTo>
                    <a:lnTo>
                      <a:pt x="489" y="196"/>
                    </a:lnTo>
                    <a:lnTo>
                      <a:pt x="486" y="196"/>
                    </a:lnTo>
                    <a:lnTo>
                      <a:pt x="482" y="203"/>
                    </a:lnTo>
                    <a:lnTo>
                      <a:pt x="479" y="210"/>
                    </a:lnTo>
                    <a:lnTo>
                      <a:pt x="482" y="210"/>
                    </a:lnTo>
                    <a:lnTo>
                      <a:pt x="479" y="206"/>
                    </a:lnTo>
                    <a:lnTo>
                      <a:pt x="475" y="210"/>
                    </a:lnTo>
                    <a:lnTo>
                      <a:pt x="468" y="217"/>
                    </a:lnTo>
                    <a:lnTo>
                      <a:pt x="471" y="221"/>
                    </a:lnTo>
                    <a:lnTo>
                      <a:pt x="471" y="217"/>
                    </a:lnTo>
                    <a:lnTo>
                      <a:pt x="460" y="221"/>
                    </a:lnTo>
                    <a:lnTo>
                      <a:pt x="460" y="225"/>
                    </a:lnTo>
                    <a:lnTo>
                      <a:pt x="460" y="221"/>
                    </a:lnTo>
                    <a:lnTo>
                      <a:pt x="453" y="221"/>
                    </a:lnTo>
                    <a:lnTo>
                      <a:pt x="442" y="221"/>
                    </a:lnTo>
                    <a:lnTo>
                      <a:pt x="431" y="221"/>
                    </a:lnTo>
                    <a:lnTo>
                      <a:pt x="417" y="217"/>
                    </a:lnTo>
                    <a:lnTo>
                      <a:pt x="417" y="221"/>
                    </a:lnTo>
                    <a:lnTo>
                      <a:pt x="421" y="217"/>
                    </a:lnTo>
                    <a:lnTo>
                      <a:pt x="406" y="210"/>
                    </a:lnTo>
                    <a:lnTo>
                      <a:pt x="406" y="210"/>
                    </a:lnTo>
                    <a:lnTo>
                      <a:pt x="402" y="210"/>
                    </a:lnTo>
                    <a:lnTo>
                      <a:pt x="392" y="210"/>
                    </a:lnTo>
                    <a:lnTo>
                      <a:pt x="392" y="214"/>
                    </a:lnTo>
                    <a:lnTo>
                      <a:pt x="395" y="210"/>
                    </a:lnTo>
                    <a:lnTo>
                      <a:pt x="388" y="206"/>
                    </a:lnTo>
                    <a:lnTo>
                      <a:pt x="377" y="203"/>
                    </a:lnTo>
                    <a:lnTo>
                      <a:pt x="377" y="203"/>
                    </a:lnTo>
                    <a:lnTo>
                      <a:pt x="373" y="203"/>
                    </a:lnTo>
                    <a:lnTo>
                      <a:pt x="363" y="203"/>
                    </a:lnTo>
                    <a:lnTo>
                      <a:pt x="341" y="203"/>
                    </a:lnTo>
                    <a:lnTo>
                      <a:pt x="315" y="203"/>
                    </a:lnTo>
                    <a:lnTo>
                      <a:pt x="290" y="206"/>
                    </a:lnTo>
                    <a:lnTo>
                      <a:pt x="265" y="210"/>
                    </a:lnTo>
                    <a:lnTo>
                      <a:pt x="239" y="214"/>
                    </a:lnTo>
                    <a:lnTo>
                      <a:pt x="236" y="214"/>
                    </a:lnTo>
                    <a:lnTo>
                      <a:pt x="239" y="214"/>
                    </a:lnTo>
                    <a:lnTo>
                      <a:pt x="214" y="221"/>
                    </a:lnTo>
                    <a:lnTo>
                      <a:pt x="210" y="221"/>
                    </a:lnTo>
                    <a:lnTo>
                      <a:pt x="210" y="225"/>
                    </a:lnTo>
                    <a:lnTo>
                      <a:pt x="210" y="228"/>
                    </a:lnTo>
                    <a:lnTo>
                      <a:pt x="210" y="243"/>
                    </a:lnTo>
                    <a:lnTo>
                      <a:pt x="210" y="254"/>
                    </a:lnTo>
                    <a:lnTo>
                      <a:pt x="210" y="272"/>
                    </a:lnTo>
                    <a:lnTo>
                      <a:pt x="214" y="308"/>
                    </a:lnTo>
                    <a:lnTo>
                      <a:pt x="218" y="352"/>
                    </a:lnTo>
                    <a:lnTo>
                      <a:pt x="221" y="370"/>
                    </a:lnTo>
                    <a:lnTo>
                      <a:pt x="221" y="391"/>
                    </a:lnTo>
                    <a:lnTo>
                      <a:pt x="221" y="413"/>
                    </a:lnTo>
                    <a:lnTo>
                      <a:pt x="221" y="413"/>
                    </a:lnTo>
                    <a:lnTo>
                      <a:pt x="221" y="417"/>
                    </a:lnTo>
                    <a:lnTo>
                      <a:pt x="225" y="431"/>
                    </a:lnTo>
                    <a:lnTo>
                      <a:pt x="228" y="428"/>
                    </a:lnTo>
                    <a:lnTo>
                      <a:pt x="225" y="428"/>
                    </a:lnTo>
                    <a:lnTo>
                      <a:pt x="221" y="446"/>
                    </a:lnTo>
                    <a:lnTo>
                      <a:pt x="221" y="460"/>
                    </a:lnTo>
                    <a:lnTo>
                      <a:pt x="225" y="460"/>
                    </a:lnTo>
                    <a:lnTo>
                      <a:pt x="221" y="460"/>
                    </a:lnTo>
                    <a:lnTo>
                      <a:pt x="218" y="468"/>
                    </a:lnTo>
                    <a:lnTo>
                      <a:pt x="218" y="468"/>
                    </a:lnTo>
                    <a:lnTo>
                      <a:pt x="218" y="468"/>
                    </a:lnTo>
                    <a:lnTo>
                      <a:pt x="218" y="471"/>
                    </a:lnTo>
                    <a:lnTo>
                      <a:pt x="221" y="471"/>
                    </a:lnTo>
                    <a:lnTo>
                      <a:pt x="218" y="468"/>
                    </a:lnTo>
                    <a:lnTo>
                      <a:pt x="214" y="471"/>
                    </a:lnTo>
                    <a:lnTo>
                      <a:pt x="210" y="475"/>
                    </a:lnTo>
                    <a:lnTo>
                      <a:pt x="207" y="478"/>
                    </a:lnTo>
                    <a:close/>
                    <a:moveTo>
                      <a:pt x="218" y="482"/>
                    </a:moveTo>
                    <a:lnTo>
                      <a:pt x="221" y="478"/>
                    </a:lnTo>
                    <a:lnTo>
                      <a:pt x="225" y="475"/>
                    </a:lnTo>
                    <a:lnTo>
                      <a:pt x="228" y="475"/>
                    </a:lnTo>
                    <a:lnTo>
                      <a:pt x="228" y="471"/>
                    </a:lnTo>
                    <a:lnTo>
                      <a:pt x="228" y="468"/>
                    </a:lnTo>
                    <a:lnTo>
                      <a:pt x="221" y="468"/>
                    </a:lnTo>
                    <a:lnTo>
                      <a:pt x="228" y="471"/>
                    </a:lnTo>
                    <a:lnTo>
                      <a:pt x="232" y="464"/>
                    </a:lnTo>
                    <a:lnTo>
                      <a:pt x="232" y="464"/>
                    </a:lnTo>
                    <a:lnTo>
                      <a:pt x="232" y="460"/>
                    </a:lnTo>
                    <a:lnTo>
                      <a:pt x="232" y="446"/>
                    </a:lnTo>
                    <a:lnTo>
                      <a:pt x="236" y="428"/>
                    </a:lnTo>
                    <a:lnTo>
                      <a:pt x="236" y="428"/>
                    </a:lnTo>
                    <a:lnTo>
                      <a:pt x="236" y="428"/>
                    </a:lnTo>
                    <a:lnTo>
                      <a:pt x="232" y="413"/>
                    </a:lnTo>
                    <a:lnTo>
                      <a:pt x="225" y="413"/>
                    </a:lnTo>
                    <a:lnTo>
                      <a:pt x="232" y="413"/>
                    </a:lnTo>
                    <a:lnTo>
                      <a:pt x="232" y="391"/>
                    </a:lnTo>
                    <a:lnTo>
                      <a:pt x="232" y="370"/>
                    </a:lnTo>
                    <a:lnTo>
                      <a:pt x="228" y="352"/>
                    </a:lnTo>
                    <a:lnTo>
                      <a:pt x="225" y="308"/>
                    </a:lnTo>
                    <a:lnTo>
                      <a:pt x="221" y="272"/>
                    </a:lnTo>
                    <a:lnTo>
                      <a:pt x="221" y="254"/>
                    </a:lnTo>
                    <a:lnTo>
                      <a:pt x="221" y="243"/>
                    </a:lnTo>
                    <a:lnTo>
                      <a:pt x="221" y="228"/>
                    </a:lnTo>
                    <a:lnTo>
                      <a:pt x="221" y="225"/>
                    </a:lnTo>
                    <a:lnTo>
                      <a:pt x="214" y="225"/>
                    </a:lnTo>
                    <a:lnTo>
                      <a:pt x="218" y="232"/>
                    </a:lnTo>
                    <a:lnTo>
                      <a:pt x="243" y="225"/>
                    </a:lnTo>
                    <a:lnTo>
                      <a:pt x="239" y="217"/>
                    </a:lnTo>
                    <a:lnTo>
                      <a:pt x="239" y="225"/>
                    </a:lnTo>
                    <a:lnTo>
                      <a:pt x="265" y="221"/>
                    </a:lnTo>
                    <a:lnTo>
                      <a:pt x="290" y="217"/>
                    </a:lnTo>
                    <a:lnTo>
                      <a:pt x="315" y="214"/>
                    </a:lnTo>
                    <a:lnTo>
                      <a:pt x="341" y="214"/>
                    </a:lnTo>
                    <a:lnTo>
                      <a:pt x="363" y="214"/>
                    </a:lnTo>
                    <a:lnTo>
                      <a:pt x="373" y="214"/>
                    </a:lnTo>
                    <a:lnTo>
                      <a:pt x="373" y="206"/>
                    </a:lnTo>
                    <a:lnTo>
                      <a:pt x="373" y="214"/>
                    </a:lnTo>
                    <a:lnTo>
                      <a:pt x="384" y="217"/>
                    </a:lnTo>
                    <a:lnTo>
                      <a:pt x="392" y="221"/>
                    </a:lnTo>
                    <a:lnTo>
                      <a:pt x="392" y="221"/>
                    </a:lnTo>
                    <a:lnTo>
                      <a:pt x="392" y="221"/>
                    </a:lnTo>
                    <a:lnTo>
                      <a:pt x="402" y="221"/>
                    </a:lnTo>
                    <a:lnTo>
                      <a:pt x="402" y="214"/>
                    </a:lnTo>
                    <a:lnTo>
                      <a:pt x="402" y="221"/>
                    </a:lnTo>
                    <a:lnTo>
                      <a:pt x="417" y="228"/>
                    </a:lnTo>
                    <a:lnTo>
                      <a:pt x="413" y="225"/>
                    </a:lnTo>
                    <a:lnTo>
                      <a:pt x="417" y="228"/>
                    </a:lnTo>
                    <a:lnTo>
                      <a:pt x="431" y="232"/>
                    </a:lnTo>
                    <a:lnTo>
                      <a:pt x="442" y="232"/>
                    </a:lnTo>
                    <a:lnTo>
                      <a:pt x="453" y="232"/>
                    </a:lnTo>
                    <a:lnTo>
                      <a:pt x="460" y="232"/>
                    </a:lnTo>
                    <a:lnTo>
                      <a:pt x="464" y="232"/>
                    </a:lnTo>
                    <a:lnTo>
                      <a:pt x="464" y="232"/>
                    </a:lnTo>
                    <a:lnTo>
                      <a:pt x="475" y="228"/>
                    </a:lnTo>
                    <a:lnTo>
                      <a:pt x="475" y="228"/>
                    </a:lnTo>
                    <a:lnTo>
                      <a:pt x="475" y="225"/>
                    </a:lnTo>
                    <a:lnTo>
                      <a:pt x="482" y="217"/>
                    </a:lnTo>
                    <a:lnTo>
                      <a:pt x="486" y="214"/>
                    </a:lnTo>
                    <a:lnTo>
                      <a:pt x="489" y="214"/>
                    </a:lnTo>
                    <a:lnTo>
                      <a:pt x="489" y="214"/>
                    </a:lnTo>
                    <a:lnTo>
                      <a:pt x="493" y="206"/>
                    </a:lnTo>
                    <a:lnTo>
                      <a:pt x="497" y="199"/>
                    </a:lnTo>
                    <a:lnTo>
                      <a:pt x="497" y="199"/>
                    </a:lnTo>
                    <a:lnTo>
                      <a:pt x="497" y="196"/>
                    </a:lnTo>
                    <a:lnTo>
                      <a:pt x="497" y="188"/>
                    </a:lnTo>
                    <a:lnTo>
                      <a:pt x="497" y="181"/>
                    </a:lnTo>
                    <a:lnTo>
                      <a:pt x="497" y="181"/>
                    </a:lnTo>
                    <a:lnTo>
                      <a:pt x="497" y="181"/>
                    </a:lnTo>
                    <a:lnTo>
                      <a:pt x="493" y="174"/>
                    </a:lnTo>
                    <a:lnTo>
                      <a:pt x="486" y="174"/>
                    </a:lnTo>
                    <a:lnTo>
                      <a:pt x="493" y="174"/>
                    </a:lnTo>
                    <a:lnTo>
                      <a:pt x="493" y="167"/>
                    </a:lnTo>
                    <a:lnTo>
                      <a:pt x="493" y="167"/>
                    </a:lnTo>
                    <a:lnTo>
                      <a:pt x="489" y="163"/>
                    </a:lnTo>
                    <a:lnTo>
                      <a:pt x="482" y="156"/>
                    </a:lnTo>
                    <a:lnTo>
                      <a:pt x="479" y="159"/>
                    </a:lnTo>
                    <a:lnTo>
                      <a:pt x="486" y="159"/>
                    </a:lnTo>
                    <a:lnTo>
                      <a:pt x="482" y="152"/>
                    </a:lnTo>
                    <a:lnTo>
                      <a:pt x="479" y="148"/>
                    </a:lnTo>
                    <a:lnTo>
                      <a:pt x="479" y="148"/>
                    </a:lnTo>
                    <a:lnTo>
                      <a:pt x="468" y="141"/>
                    </a:lnTo>
                    <a:lnTo>
                      <a:pt x="464" y="145"/>
                    </a:lnTo>
                    <a:lnTo>
                      <a:pt x="471" y="145"/>
                    </a:lnTo>
                    <a:lnTo>
                      <a:pt x="468" y="134"/>
                    </a:lnTo>
                    <a:lnTo>
                      <a:pt x="460" y="123"/>
                    </a:lnTo>
                    <a:lnTo>
                      <a:pt x="457" y="109"/>
                    </a:lnTo>
                    <a:lnTo>
                      <a:pt x="453" y="98"/>
                    </a:lnTo>
                    <a:lnTo>
                      <a:pt x="446" y="98"/>
                    </a:lnTo>
                    <a:lnTo>
                      <a:pt x="453" y="98"/>
                    </a:lnTo>
                    <a:lnTo>
                      <a:pt x="453" y="83"/>
                    </a:lnTo>
                    <a:lnTo>
                      <a:pt x="453" y="72"/>
                    </a:lnTo>
                    <a:lnTo>
                      <a:pt x="453" y="61"/>
                    </a:lnTo>
                    <a:lnTo>
                      <a:pt x="446" y="61"/>
                    </a:lnTo>
                    <a:lnTo>
                      <a:pt x="453" y="65"/>
                    </a:lnTo>
                    <a:lnTo>
                      <a:pt x="457" y="54"/>
                    </a:lnTo>
                    <a:lnTo>
                      <a:pt x="460" y="43"/>
                    </a:lnTo>
                    <a:lnTo>
                      <a:pt x="464" y="36"/>
                    </a:lnTo>
                    <a:lnTo>
                      <a:pt x="457" y="32"/>
                    </a:lnTo>
                    <a:lnTo>
                      <a:pt x="460" y="36"/>
                    </a:lnTo>
                    <a:lnTo>
                      <a:pt x="464" y="32"/>
                    </a:lnTo>
                    <a:lnTo>
                      <a:pt x="468" y="29"/>
                    </a:lnTo>
                    <a:lnTo>
                      <a:pt x="471" y="25"/>
                    </a:lnTo>
                    <a:lnTo>
                      <a:pt x="468" y="21"/>
                    </a:lnTo>
                    <a:lnTo>
                      <a:pt x="471" y="29"/>
                    </a:lnTo>
                    <a:lnTo>
                      <a:pt x="479" y="25"/>
                    </a:lnTo>
                    <a:lnTo>
                      <a:pt x="479" y="25"/>
                    </a:lnTo>
                    <a:lnTo>
                      <a:pt x="479" y="21"/>
                    </a:lnTo>
                    <a:lnTo>
                      <a:pt x="482" y="18"/>
                    </a:lnTo>
                    <a:lnTo>
                      <a:pt x="479" y="14"/>
                    </a:lnTo>
                    <a:lnTo>
                      <a:pt x="482" y="21"/>
                    </a:lnTo>
                    <a:lnTo>
                      <a:pt x="489" y="18"/>
                    </a:lnTo>
                    <a:lnTo>
                      <a:pt x="489" y="18"/>
                    </a:lnTo>
                    <a:lnTo>
                      <a:pt x="489" y="14"/>
                    </a:lnTo>
                    <a:lnTo>
                      <a:pt x="493" y="11"/>
                    </a:lnTo>
                    <a:lnTo>
                      <a:pt x="489" y="7"/>
                    </a:lnTo>
                    <a:lnTo>
                      <a:pt x="489" y="14"/>
                    </a:lnTo>
                    <a:lnTo>
                      <a:pt x="497" y="14"/>
                    </a:lnTo>
                    <a:lnTo>
                      <a:pt x="504" y="14"/>
                    </a:lnTo>
                    <a:lnTo>
                      <a:pt x="508" y="14"/>
                    </a:lnTo>
                    <a:lnTo>
                      <a:pt x="508" y="14"/>
                    </a:lnTo>
                    <a:lnTo>
                      <a:pt x="518" y="11"/>
                    </a:lnTo>
                    <a:lnTo>
                      <a:pt x="515" y="3"/>
                    </a:lnTo>
                    <a:lnTo>
                      <a:pt x="515" y="11"/>
                    </a:lnTo>
                    <a:lnTo>
                      <a:pt x="522" y="11"/>
                    </a:lnTo>
                    <a:lnTo>
                      <a:pt x="533" y="11"/>
                    </a:lnTo>
                    <a:lnTo>
                      <a:pt x="540" y="11"/>
                    </a:lnTo>
                    <a:lnTo>
                      <a:pt x="540" y="3"/>
                    </a:lnTo>
                    <a:lnTo>
                      <a:pt x="540" y="11"/>
                    </a:lnTo>
                    <a:lnTo>
                      <a:pt x="548" y="14"/>
                    </a:lnTo>
                    <a:lnTo>
                      <a:pt x="548" y="14"/>
                    </a:lnTo>
                    <a:lnTo>
                      <a:pt x="548" y="14"/>
                    </a:lnTo>
                    <a:lnTo>
                      <a:pt x="558" y="14"/>
                    </a:lnTo>
                    <a:lnTo>
                      <a:pt x="558" y="7"/>
                    </a:lnTo>
                    <a:lnTo>
                      <a:pt x="558" y="14"/>
                    </a:lnTo>
                    <a:lnTo>
                      <a:pt x="566" y="18"/>
                    </a:lnTo>
                    <a:lnTo>
                      <a:pt x="566" y="18"/>
                    </a:lnTo>
                    <a:lnTo>
                      <a:pt x="566" y="18"/>
                    </a:lnTo>
                    <a:lnTo>
                      <a:pt x="573" y="18"/>
                    </a:lnTo>
                    <a:lnTo>
                      <a:pt x="573" y="11"/>
                    </a:lnTo>
                    <a:lnTo>
                      <a:pt x="573" y="18"/>
                    </a:lnTo>
                    <a:lnTo>
                      <a:pt x="580" y="21"/>
                    </a:lnTo>
                    <a:lnTo>
                      <a:pt x="580" y="14"/>
                    </a:lnTo>
                    <a:lnTo>
                      <a:pt x="577" y="18"/>
                    </a:lnTo>
                    <a:lnTo>
                      <a:pt x="580" y="21"/>
                    </a:lnTo>
                    <a:lnTo>
                      <a:pt x="584" y="25"/>
                    </a:lnTo>
                    <a:lnTo>
                      <a:pt x="584" y="25"/>
                    </a:lnTo>
                    <a:lnTo>
                      <a:pt x="591" y="29"/>
                    </a:lnTo>
                    <a:lnTo>
                      <a:pt x="591" y="21"/>
                    </a:lnTo>
                    <a:lnTo>
                      <a:pt x="587" y="25"/>
                    </a:lnTo>
                    <a:lnTo>
                      <a:pt x="591" y="29"/>
                    </a:lnTo>
                    <a:lnTo>
                      <a:pt x="595" y="32"/>
                    </a:lnTo>
                    <a:lnTo>
                      <a:pt x="595" y="32"/>
                    </a:lnTo>
                    <a:lnTo>
                      <a:pt x="602" y="36"/>
                    </a:lnTo>
                    <a:lnTo>
                      <a:pt x="602" y="29"/>
                    </a:lnTo>
                    <a:lnTo>
                      <a:pt x="598" y="32"/>
                    </a:lnTo>
                    <a:lnTo>
                      <a:pt x="602" y="36"/>
                    </a:lnTo>
                    <a:lnTo>
                      <a:pt x="606" y="32"/>
                    </a:lnTo>
                    <a:lnTo>
                      <a:pt x="602" y="36"/>
                    </a:lnTo>
                    <a:lnTo>
                      <a:pt x="609" y="47"/>
                    </a:lnTo>
                    <a:lnTo>
                      <a:pt x="613" y="58"/>
                    </a:lnTo>
                    <a:lnTo>
                      <a:pt x="616" y="69"/>
                    </a:lnTo>
                    <a:lnTo>
                      <a:pt x="620" y="65"/>
                    </a:lnTo>
                    <a:lnTo>
                      <a:pt x="616" y="65"/>
                    </a:lnTo>
                    <a:lnTo>
                      <a:pt x="616" y="76"/>
                    </a:lnTo>
                    <a:lnTo>
                      <a:pt x="616" y="87"/>
                    </a:lnTo>
                    <a:lnTo>
                      <a:pt x="616" y="98"/>
                    </a:lnTo>
                    <a:lnTo>
                      <a:pt x="620" y="98"/>
                    </a:lnTo>
                    <a:lnTo>
                      <a:pt x="616" y="98"/>
                    </a:lnTo>
                    <a:lnTo>
                      <a:pt x="613" y="109"/>
                    </a:lnTo>
                    <a:lnTo>
                      <a:pt x="609" y="119"/>
                    </a:lnTo>
                    <a:lnTo>
                      <a:pt x="602" y="130"/>
                    </a:lnTo>
                    <a:lnTo>
                      <a:pt x="606" y="130"/>
                    </a:lnTo>
                    <a:lnTo>
                      <a:pt x="602" y="127"/>
                    </a:lnTo>
                    <a:lnTo>
                      <a:pt x="595" y="134"/>
                    </a:lnTo>
                    <a:lnTo>
                      <a:pt x="580" y="148"/>
                    </a:lnTo>
                    <a:lnTo>
                      <a:pt x="580" y="152"/>
                    </a:lnTo>
                    <a:lnTo>
                      <a:pt x="580" y="152"/>
                    </a:lnTo>
                    <a:lnTo>
                      <a:pt x="573" y="167"/>
                    </a:lnTo>
                    <a:lnTo>
                      <a:pt x="569" y="174"/>
                    </a:lnTo>
                    <a:lnTo>
                      <a:pt x="573" y="174"/>
                    </a:lnTo>
                    <a:lnTo>
                      <a:pt x="569" y="170"/>
                    </a:lnTo>
                    <a:lnTo>
                      <a:pt x="566" y="174"/>
                    </a:lnTo>
                    <a:lnTo>
                      <a:pt x="566" y="177"/>
                    </a:lnTo>
                    <a:lnTo>
                      <a:pt x="566" y="177"/>
                    </a:lnTo>
                    <a:lnTo>
                      <a:pt x="566" y="185"/>
                    </a:lnTo>
                    <a:lnTo>
                      <a:pt x="566" y="188"/>
                    </a:lnTo>
                    <a:lnTo>
                      <a:pt x="566" y="192"/>
                    </a:lnTo>
                    <a:lnTo>
                      <a:pt x="566" y="199"/>
                    </a:lnTo>
                    <a:lnTo>
                      <a:pt x="566" y="203"/>
                    </a:lnTo>
                    <a:lnTo>
                      <a:pt x="566" y="203"/>
                    </a:lnTo>
                    <a:lnTo>
                      <a:pt x="569" y="206"/>
                    </a:lnTo>
                    <a:lnTo>
                      <a:pt x="573" y="210"/>
                    </a:lnTo>
                    <a:lnTo>
                      <a:pt x="577" y="214"/>
                    </a:lnTo>
                    <a:lnTo>
                      <a:pt x="577" y="214"/>
                    </a:lnTo>
                    <a:lnTo>
                      <a:pt x="584" y="217"/>
                    </a:lnTo>
                    <a:lnTo>
                      <a:pt x="591" y="221"/>
                    </a:lnTo>
                    <a:lnTo>
                      <a:pt x="591" y="214"/>
                    </a:lnTo>
                    <a:lnTo>
                      <a:pt x="587" y="217"/>
                    </a:lnTo>
                    <a:lnTo>
                      <a:pt x="595" y="225"/>
                    </a:lnTo>
                    <a:lnTo>
                      <a:pt x="598" y="228"/>
                    </a:lnTo>
                    <a:lnTo>
                      <a:pt x="598" y="228"/>
                    </a:lnTo>
                    <a:lnTo>
                      <a:pt x="606" y="232"/>
                    </a:lnTo>
                    <a:lnTo>
                      <a:pt x="616" y="235"/>
                    </a:lnTo>
                    <a:lnTo>
                      <a:pt x="609" y="232"/>
                    </a:lnTo>
                    <a:lnTo>
                      <a:pt x="616" y="235"/>
                    </a:lnTo>
                    <a:lnTo>
                      <a:pt x="631" y="239"/>
                    </a:lnTo>
                    <a:lnTo>
                      <a:pt x="645" y="243"/>
                    </a:lnTo>
                    <a:lnTo>
                      <a:pt x="660" y="246"/>
                    </a:lnTo>
                    <a:lnTo>
                      <a:pt x="674" y="250"/>
                    </a:lnTo>
                    <a:lnTo>
                      <a:pt x="693" y="254"/>
                    </a:lnTo>
                    <a:lnTo>
                      <a:pt x="711" y="254"/>
                    </a:lnTo>
                    <a:lnTo>
                      <a:pt x="725" y="254"/>
                    </a:lnTo>
                    <a:lnTo>
                      <a:pt x="743" y="254"/>
                    </a:lnTo>
                    <a:lnTo>
                      <a:pt x="761" y="254"/>
                    </a:lnTo>
                    <a:lnTo>
                      <a:pt x="776" y="254"/>
                    </a:lnTo>
                    <a:lnTo>
                      <a:pt x="790" y="250"/>
                    </a:lnTo>
                    <a:lnTo>
                      <a:pt x="805" y="246"/>
                    </a:lnTo>
                    <a:lnTo>
                      <a:pt x="819" y="243"/>
                    </a:lnTo>
                    <a:lnTo>
                      <a:pt x="823" y="239"/>
                    </a:lnTo>
                    <a:lnTo>
                      <a:pt x="823" y="243"/>
                    </a:lnTo>
                    <a:lnTo>
                      <a:pt x="834" y="235"/>
                    </a:lnTo>
                    <a:lnTo>
                      <a:pt x="845" y="232"/>
                    </a:lnTo>
                    <a:lnTo>
                      <a:pt x="841" y="225"/>
                    </a:lnTo>
                    <a:lnTo>
                      <a:pt x="838" y="225"/>
                    </a:lnTo>
                    <a:lnTo>
                      <a:pt x="838" y="254"/>
                    </a:lnTo>
                    <a:lnTo>
                      <a:pt x="838" y="290"/>
                    </a:lnTo>
                    <a:lnTo>
                      <a:pt x="838" y="333"/>
                    </a:lnTo>
                    <a:lnTo>
                      <a:pt x="838" y="373"/>
                    </a:lnTo>
                    <a:lnTo>
                      <a:pt x="838" y="413"/>
                    </a:lnTo>
                    <a:lnTo>
                      <a:pt x="838" y="453"/>
                    </a:lnTo>
                    <a:lnTo>
                      <a:pt x="838" y="478"/>
                    </a:lnTo>
                    <a:lnTo>
                      <a:pt x="838" y="497"/>
                    </a:lnTo>
                    <a:lnTo>
                      <a:pt x="838" y="504"/>
                    </a:lnTo>
                    <a:lnTo>
                      <a:pt x="838" y="508"/>
                    </a:lnTo>
                    <a:lnTo>
                      <a:pt x="838" y="508"/>
                    </a:lnTo>
                    <a:lnTo>
                      <a:pt x="841" y="511"/>
                    </a:lnTo>
                    <a:lnTo>
                      <a:pt x="845" y="508"/>
                    </a:lnTo>
                    <a:lnTo>
                      <a:pt x="841" y="511"/>
                    </a:lnTo>
                    <a:lnTo>
                      <a:pt x="845" y="518"/>
                    </a:lnTo>
                    <a:lnTo>
                      <a:pt x="845" y="518"/>
                    </a:lnTo>
                    <a:lnTo>
                      <a:pt x="845" y="518"/>
                    </a:lnTo>
                    <a:lnTo>
                      <a:pt x="848" y="522"/>
                    </a:lnTo>
                    <a:lnTo>
                      <a:pt x="852" y="526"/>
                    </a:lnTo>
                    <a:lnTo>
                      <a:pt x="852" y="526"/>
                    </a:lnTo>
                    <a:lnTo>
                      <a:pt x="859" y="529"/>
                    </a:lnTo>
                    <a:lnTo>
                      <a:pt x="859" y="522"/>
                    </a:lnTo>
                    <a:lnTo>
                      <a:pt x="856" y="526"/>
                    </a:lnTo>
                    <a:lnTo>
                      <a:pt x="863" y="533"/>
                    </a:lnTo>
                    <a:lnTo>
                      <a:pt x="867" y="537"/>
                    </a:lnTo>
                    <a:lnTo>
                      <a:pt x="867" y="537"/>
                    </a:lnTo>
                    <a:lnTo>
                      <a:pt x="874" y="540"/>
                    </a:lnTo>
                    <a:lnTo>
                      <a:pt x="874" y="540"/>
                    </a:lnTo>
                    <a:lnTo>
                      <a:pt x="874" y="540"/>
                    </a:lnTo>
                    <a:lnTo>
                      <a:pt x="881" y="540"/>
                    </a:lnTo>
                    <a:lnTo>
                      <a:pt x="881" y="533"/>
                    </a:lnTo>
                    <a:lnTo>
                      <a:pt x="881" y="540"/>
                    </a:lnTo>
                    <a:lnTo>
                      <a:pt x="888" y="544"/>
                    </a:lnTo>
                    <a:lnTo>
                      <a:pt x="888" y="544"/>
                    </a:lnTo>
                    <a:lnTo>
                      <a:pt x="888" y="544"/>
                    </a:lnTo>
                    <a:lnTo>
                      <a:pt x="896" y="544"/>
                    </a:lnTo>
                    <a:lnTo>
                      <a:pt x="906" y="544"/>
                    </a:lnTo>
                    <a:lnTo>
                      <a:pt x="914" y="544"/>
                    </a:lnTo>
                    <a:lnTo>
                      <a:pt x="917" y="544"/>
                    </a:lnTo>
                    <a:lnTo>
                      <a:pt x="917" y="544"/>
                    </a:lnTo>
                    <a:lnTo>
                      <a:pt x="925" y="540"/>
                    </a:lnTo>
                    <a:lnTo>
                      <a:pt x="932" y="537"/>
                    </a:lnTo>
                    <a:lnTo>
                      <a:pt x="932" y="537"/>
                    </a:lnTo>
                    <a:lnTo>
                      <a:pt x="932" y="533"/>
                    </a:lnTo>
                    <a:lnTo>
                      <a:pt x="939" y="526"/>
                    </a:lnTo>
                    <a:lnTo>
                      <a:pt x="946" y="518"/>
                    </a:lnTo>
                    <a:lnTo>
                      <a:pt x="950" y="518"/>
                    </a:lnTo>
                    <a:lnTo>
                      <a:pt x="950" y="518"/>
                    </a:lnTo>
                    <a:lnTo>
                      <a:pt x="954" y="511"/>
                    </a:lnTo>
                    <a:lnTo>
                      <a:pt x="946" y="508"/>
                    </a:lnTo>
                    <a:lnTo>
                      <a:pt x="950" y="511"/>
                    </a:lnTo>
                    <a:lnTo>
                      <a:pt x="954" y="508"/>
                    </a:lnTo>
                    <a:lnTo>
                      <a:pt x="957" y="504"/>
                    </a:lnTo>
                    <a:lnTo>
                      <a:pt x="954" y="500"/>
                    </a:lnTo>
                    <a:lnTo>
                      <a:pt x="954" y="508"/>
                    </a:lnTo>
                    <a:lnTo>
                      <a:pt x="957" y="508"/>
                    </a:lnTo>
                    <a:lnTo>
                      <a:pt x="961" y="508"/>
                    </a:lnTo>
                    <a:lnTo>
                      <a:pt x="961" y="508"/>
                    </a:lnTo>
                    <a:lnTo>
                      <a:pt x="972" y="504"/>
                    </a:lnTo>
                    <a:lnTo>
                      <a:pt x="983" y="500"/>
                    </a:lnTo>
                    <a:lnTo>
                      <a:pt x="979" y="493"/>
                    </a:lnTo>
                    <a:lnTo>
                      <a:pt x="979" y="500"/>
                    </a:lnTo>
                    <a:lnTo>
                      <a:pt x="990" y="500"/>
                    </a:lnTo>
                    <a:lnTo>
                      <a:pt x="1004" y="500"/>
                    </a:lnTo>
                    <a:lnTo>
                      <a:pt x="1004" y="493"/>
                    </a:lnTo>
                    <a:lnTo>
                      <a:pt x="1004" y="500"/>
                    </a:lnTo>
                    <a:lnTo>
                      <a:pt x="1015" y="504"/>
                    </a:lnTo>
                    <a:lnTo>
                      <a:pt x="1026" y="508"/>
                    </a:lnTo>
                    <a:lnTo>
                      <a:pt x="1037" y="515"/>
                    </a:lnTo>
                    <a:lnTo>
                      <a:pt x="1048" y="522"/>
                    </a:lnTo>
                    <a:lnTo>
                      <a:pt x="1059" y="529"/>
                    </a:lnTo>
                    <a:lnTo>
                      <a:pt x="1059" y="522"/>
                    </a:lnTo>
                    <a:lnTo>
                      <a:pt x="1055" y="526"/>
                    </a:lnTo>
                    <a:lnTo>
                      <a:pt x="1062" y="537"/>
                    </a:lnTo>
                    <a:lnTo>
                      <a:pt x="1062" y="537"/>
                    </a:lnTo>
                    <a:lnTo>
                      <a:pt x="1062" y="537"/>
                    </a:lnTo>
                    <a:lnTo>
                      <a:pt x="1066" y="540"/>
                    </a:lnTo>
                    <a:lnTo>
                      <a:pt x="1070" y="537"/>
                    </a:lnTo>
                    <a:lnTo>
                      <a:pt x="1066" y="537"/>
                    </a:lnTo>
                    <a:lnTo>
                      <a:pt x="1066" y="544"/>
                    </a:lnTo>
                    <a:lnTo>
                      <a:pt x="1066" y="547"/>
                    </a:lnTo>
                    <a:lnTo>
                      <a:pt x="1066" y="547"/>
                    </a:lnTo>
                    <a:lnTo>
                      <a:pt x="1070" y="555"/>
                    </a:lnTo>
                    <a:lnTo>
                      <a:pt x="1070" y="555"/>
                    </a:lnTo>
                    <a:lnTo>
                      <a:pt x="1070" y="555"/>
                    </a:lnTo>
                    <a:lnTo>
                      <a:pt x="1073" y="558"/>
                    </a:lnTo>
                    <a:lnTo>
                      <a:pt x="1077" y="555"/>
                    </a:lnTo>
                    <a:lnTo>
                      <a:pt x="1073" y="555"/>
                    </a:lnTo>
                    <a:lnTo>
                      <a:pt x="1073" y="562"/>
                    </a:lnTo>
                    <a:lnTo>
                      <a:pt x="1073" y="569"/>
                    </a:lnTo>
                    <a:lnTo>
                      <a:pt x="1073" y="576"/>
                    </a:lnTo>
                    <a:lnTo>
                      <a:pt x="1073" y="584"/>
                    </a:lnTo>
                    <a:lnTo>
                      <a:pt x="1077" y="584"/>
                    </a:lnTo>
                    <a:lnTo>
                      <a:pt x="1073" y="584"/>
                    </a:lnTo>
                    <a:lnTo>
                      <a:pt x="1070" y="598"/>
                    </a:lnTo>
                    <a:lnTo>
                      <a:pt x="1066" y="609"/>
                    </a:lnTo>
                    <a:lnTo>
                      <a:pt x="1059" y="620"/>
                    </a:lnTo>
                    <a:lnTo>
                      <a:pt x="1062" y="620"/>
                    </a:lnTo>
                    <a:lnTo>
                      <a:pt x="1059" y="616"/>
                    </a:lnTo>
                    <a:lnTo>
                      <a:pt x="1051" y="624"/>
                    </a:lnTo>
                    <a:lnTo>
                      <a:pt x="1044" y="631"/>
                    </a:lnTo>
                    <a:lnTo>
                      <a:pt x="1037" y="638"/>
                    </a:lnTo>
                    <a:lnTo>
                      <a:pt x="1041" y="642"/>
                    </a:lnTo>
                    <a:lnTo>
                      <a:pt x="1041" y="638"/>
                    </a:lnTo>
                    <a:lnTo>
                      <a:pt x="1030" y="642"/>
                    </a:lnTo>
                    <a:lnTo>
                      <a:pt x="1022" y="645"/>
                    </a:lnTo>
                    <a:lnTo>
                      <a:pt x="1022" y="649"/>
                    </a:lnTo>
                    <a:lnTo>
                      <a:pt x="1022" y="645"/>
                    </a:lnTo>
                    <a:lnTo>
                      <a:pt x="1012" y="645"/>
                    </a:lnTo>
                    <a:lnTo>
                      <a:pt x="1012" y="645"/>
                    </a:lnTo>
                    <a:lnTo>
                      <a:pt x="1012" y="645"/>
                    </a:lnTo>
                    <a:lnTo>
                      <a:pt x="1001" y="649"/>
                    </a:lnTo>
                    <a:lnTo>
                      <a:pt x="1001" y="653"/>
                    </a:lnTo>
                    <a:lnTo>
                      <a:pt x="1004" y="649"/>
                    </a:lnTo>
                    <a:lnTo>
                      <a:pt x="993" y="645"/>
                    </a:lnTo>
                    <a:lnTo>
                      <a:pt x="993" y="645"/>
                    </a:lnTo>
                    <a:lnTo>
                      <a:pt x="990" y="645"/>
                    </a:lnTo>
                    <a:lnTo>
                      <a:pt x="983" y="645"/>
                    </a:lnTo>
                    <a:lnTo>
                      <a:pt x="983" y="649"/>
                    </a:lnTo>
                    <a:lnTo>
                      <a:pt x="986" y="645"/>
                    </a:lnTo>
                    <a:lnTo>
                      <a:pt x="975" y="642"/>
                    </a:lnTo>
                    <a:lnTo>
                      <a:pt x="964" y="638"/>
                    </a:lnTo>
                    <a:lnTo>
                      <a:pt x="957" y="634"/>
                    </a:lnTo>
                    <a:lnTo>
                      <a:pt x="954" y="638"/>
                    </a:lnTo>
                    <a:lnTo>
                      <a:pt x="957" y="634"/>
                    </a:lnTo>
                    <a:lnTo>
                      <a:pt x="950" y="627"/>
                    </a:lnTo>
                    <a:lnTo>
                      <a:pt x="946" y="631"/>
                    </a:lnTo>
                    <a:lnTo>
                      <a:pt x="954" y="631"/>
                    </a:lnTo>
                    <a:lnTo>
                      <a:pt x="950" y="624"/>
                    </a:lnTo>
                    <a:lnTo>
                      <a:pt x="946" y="620"/>
                    </a:lnTo>
                    <a:lnTo>
                      <a:pt x="946" y="620"/>
                    </a:lnTo>
                    <a:lnTo>
                      <a:pt x="935" y="613"/>
                    </a:lnTo>
                    <a:lnTo>
                      <a:pt x="928" y="609"/>
                    </a:lnTo>
                    <a:lnTo>
                      <a:pt x="921" y="605"/>
                    </a:lnTo>
                    <a:lnTo>
                      <a:pt x="914" y="602"/>
                    </a:lnTo>
                    <a:lnTo>
                      <a:pt x="906" y="598"/>
                    </a:lnTo>
                    <a:lnTo>
                      <a:pt x="896" y="595"/>
                    </a:lnTo>
                    <a:lnTo>
                      <a:pt x="896" y="595"/>
                    </a:lnTo>
                    <a:lnTo>
                      <a:pt x="892" y="595"/>
                    </a:lnTo>
                    <a:lnTo>
                      <a:pt x="885" y="595"/>
                    </a:lnTo>
                    <a:lnTo>
                      <a:pt x="877" y="595"/>
                    </a:lnTo>
                    <a:lnTo>
                      <a:pt x="870" y="595"/>
                    </a:lnTo>
                    <a:lnTo>
                      <a:pt x="870" y="595"/>
                    </a:lnTo>
                    <a:lnTo>
                      <a:pt x="870" y="595"/>
                    </a:lnTo>
                    <a:lnTo>
                      <a:pt x="863" y="598"/>
                    </a:lnTo>
                    <a:lnTo>
                      <a:pt x="863" y="598"/>
                    </a:lnTo>
                    <a:lnTo>
                      <a:pt x="859" y="598"/>
                    </a:lnTo>
                    <a:lnTo>
                      <a:pt x="856" y="602"/>
                    </a:lnTo>
                    <a:lnTo>
                      <a:pt x="859" y="605"/>
                    </a:lnTo>
                    <a:lnTo>
                      <a:pt x="859" y="602"/>
                    </a:lnTo>
                    <a:lnTo>
                      <a:pt x="852" y="605"/>
                    </a:lnTo>
                    <a:lnTo>
                      <a:pt x="848" y="605"/>
                    </a:lnTo>
                    <a:lnTo>
                      <a:pt x="848" y="609"/>
                    </a:lnTo>
                    <a:lnTo>
                      <a:pt x="845" y="616"/>
                    </a:lnTo>
                    <a:lnTo>
                      <a:pt x="841" y="624"/>
                    </a:lnTo>
                    <a:lnTo>
                      <a:pt x="838" y="634"/>
                    </a:lnTo>
                    <a:lnTo>
                      <a:pt x="838" y="634"/>
                    </a:lnTo>
                    <a:lnTo>
                      <a:pt x="838" y="634"/>
                    </a:lnTo>
                    <a:lnTo>
                      <a:pt x="838" y="656"/>
                    </a:lnTo>
                    <a:lnTo>
                      <a:pt x="834" y="682"/>
                    </a:lnTo>
                    <a:lnTo>
                      <a:pt x="830" y="707"/>
                    </a:lnTo>
                    <a:lnTo>
                      <a:pt x="830" y="736"/>
                    </a:lnTo>
                    <a:lnTo>
                      <a:pt x="830" y="761"/>
                    </a:lnTo>
                    <a:lnTo>
                      <a:pt x="830" y="787"/>
                    </a:lnTo>
                    <a:lnTo>
                      <a:pt x="830" y="798"/>
                    </a:lnTo>
                    <a:lnTo>
                      <a:pt x="830" y="801"/>
                    </a:lnTo>
                    <a:lnTo>
                      <a:pt x="830" y="801"/>
                    </a:lnTo>
                    <a:lnTo>
                      <a:pt x="834" y="812"/>
                    </a:lnTo>
                    <a:lnTo>
                      <a:pt x="838" y="823"/>
                    </a:lnTo>
                    <a:lnTo>
                      <a:pt x="841" y="819"/>
                    </a:lnTo>
                    <a:lnTo>
                      <a:pt x="838" y="819"/>
                    </a:lnTo>
                    <a:lnTo>
                      <a:pt x="838" y="827"/>
                    </a:lnTo>
                    <a:lnTo>
                      <a:pt x="841" y="827"/>
                    </a:lnTo>
                    <a:lnTo>
                      <a:pt x="841" y="823"/>
                    </a:lnTo>
                    <a:lnTo>
                      <a:pt x="823" y="827"/>
                    </a:lnTo>
                    <a:lnTo>
                      <a:pt x="809" y="830"/>
                    </a:lnTo>
                    <a:lnTo>
                      <a:pt x="787" y="830"/>
                    </a:lnTo>
                    <a:lnTo>
                      <a:pt x="769" y="830"/>
                    </a:lnTo>
                    <a:lnTo>
                      <a:pt x="751" y="830"/>
                    </a:lnTo>
                    <a:lnTo>
                      <a:pt x="732" y="830"/>
                    </a:lnTo>
                    <a:lnTo>
                      <a:pt x="714" y="827"/>
                    </a:lnTo>
                    <a:lnTo>
                      <a:pt x="696" y="827"/>
                    </a:lnTo>
                    <a:lnTo>
                      <a:pt x="667" y="823"/>
                    </a:lnTo>
                    <a:lnTo>
                      <a:pt x="642" y="819"/>
                    </a:lnTo>
                    <a:lnTo>
                      <a:pt x="627" y="816"/>
                    </a:lnTo>
                    <a:lnTo>
                      <a:pt x="627" y="819"/>
                    </a:lnTo>
                    <a:lnTo>
                      <a:pt x="631" y="816"/>
                    </a:lnTo>
                    <a:lnTo>
                      <a:pt x="624" y="812"/>
                    </a:lnTo>
                    <a:lnTo>
                      <a:pt x="624" y="812"/>
                    </a:lnTo>
                    <a:lnTo>
                      <a:pt x="620" y="812"/>
                    </a:lnTo>
                    <a:lnTo>
                      <a:pt x="606" y="809"/>
                    </a:lnTo>
                    <a:lnTo>
                      <a:pt x="606" y="812"/>
                    </a:lnTo>
                    <a:lnTo>
                      <a:pt x="609" y="809"/>
                    </a:lnTo>
                    <a:lnTo>
                      <a:pt x="598" y="801"/>
                    </a:lnTo>
                    <a:lnTo>
                      <a:pt x="587" y="794"/>
                    </a:lnTo>
                    <a:lnTo>
                      <a:pt x="584" y="798"/>
                    </a:lnTo>
                    <a:lnTo>
                      <a:pt x="591" y="798"/>
                    </a:lnTo>
                    <a:lnTo>
                      <a:pt x="584" y="787"/>
                    </a:lnTo>
                    <a:lnTo>
                      <a:pt x="584" y="787"/>
                    </a:lnTo>
                    <a:lnTo>
                      <a:pt x="580" y="783"/>
                    </a:lnTo>
                    <a:lnTo>
                      <a:pt x="573" y="776"/>
                    </a:lnTo>
                    <a:lnTo>
                      <a:pt x="569" y="780"/>
                    </a:lnTo>
                    <a:lnTo>
                      <a:pt x="577" y="780"/>
                    </a:lnTo>
                    <a:lnTo>
                      <a:pt x="573" y="769"/>
                    </a:lnTo>
                    <a:lnTo>
                      <a:pt x="569" y="758"/>
                    </a:lnTo>
                    <a:lnTo>
                      <a:pt x="566" y="751"/>
                    </a:lnTo>
                    <a:lnTo>
                      <a:pt x="558" y="751"/>
                    </a:lnTo>
                    <a:lnTo>
                      <a:pt x="566" y="751"/>
                    </a:lnTo>
                    <a:lnTo>
                      <a:pt x="566" y="740"/>
                    </a:lnTo>
                    <a:lnTo>
                      <a:pt x="558" y="740"/>
                    </a:lnTo>
                    <a:lnTo>
                      <a:pt x="566" y="743"/>
                    </a:lnTo>
                    <a:lnTo>
                      <a:pt x="569" y="732"/>
                    </a:lnTo>
                    <a:lnTo>
                      <a:pt x="569" y="732"/>
                    </a:lnTo>
                    <a:lnTo>
                      <a:pt x="569" y="729"/>
                    </a:lnTo>
                    <a:lnTo>
                      <a:pt x="569" y="722"/>
                    </a:lnTo>
                    <a:lnTo>
                      <a:pt x="562" y="722"/>
                    </a:lnTo>
                    <a:lnTo>
                      <a:pt x="569" y="725"/>
                    </a:lnTo>
                    <a:lnTo>
                      <a:pt x="573" y="718"/>
                    </a:lnTo>
                    <a:lnTo>
                      <a:pt x="577" y="707"/>
                    </a:lnTo>
                    <a:lnTo>
                      <a:pt x="580" y="700"/>
                    </a:lnTo>
                    <a:lnTo>
                      <a:pt x="573" y="696"/>
                    </a:lnTo>
                    <a:lnTo>
                      <a:pt x="577" y="700"/>
                    </a:lnTo>
                    <a:lnTo>
                      <a:pt x="584" y="692"/>
                    </a:lnTo>
                    <a:lnTo>
                      <a:pt x="580" y="689"/>
                    </a:lnTo>
                    <a:lnTo>
                      <a:pt x="584" y="696"/>
                    </a:lnTo>
                    <a:lnTo>
                      <a:pt x="591" y="692"/>
                    </a:lnTo>
                    <a:lnTo>
                      <a:pt x="591" y="692"/>
                    </a:lnTo>
                    <a:lnTo>
                      <a:pt x="591" y="689"/>
                    </a:lnTo>
                    <a:lnTo>
                      <a:pt x="598" y="682"/>
                    </a:lnTo>
                    <a:lnTo>
                      <a:pt x="606" y="674"/>
                    </a:lnTo>
                    <a:lnTo>
                      <a:pt x="609" y="674"/>
                    </a:lnTo>
                    <a:lnTo>
                      <a:pt x="609" y="674"/>
                    </a:lnTo>
                    <a:lnTo>
                      <a:pt x="613" y="663"/>
                    </a:lnTo>
                    <a:lnTo>
                      <a:pt x="616" y="653"/>
                    </a:lnTo>
                    <a:lnTo>
                      <a:pt x="620" y="642"/>
                    </a:lnTo>
                    <a:lnTo>
                      <a:pt x="620" y="642"/>
                    </a:lnTo>
                    <a:lnTo>
                      <a:pt x="620" y="638"/>
                    </a:lnTo>
                    <a:lnTo>
                      <a:pt x="620" y="624"/>
                    </a:lnTo>
                    <a:lnTo>
                      <a:pt x="620" y="613"/>
                    </a:lnTo>
                    <a:lnTo>
                      <a:pt x="620" y="598"/>
                    </a:lnTo>
                    <a:lnTo>
                      <a:pt x="620" y="598"/>
                    </a:lnTo>
                    <a:lnTo>
                      <a:pt x="620" y="598"/>
                    </a:lnTo>
                    <a:lnTo>
                      <a:pt x="616" y="587"/>
                    </a:lnTo>
                    <a:lnTo>
                      <a:pt x="613" y="576"/>
                    </a:lnTo>
                    <a:lnTo>
                      <a:pt x="609" y="569"/>
                    </a:lnTo>
                    <a:lnTo>
                      <a:pt x="609" y="569"/>
                    </a:lnTo>
                    <a:lnTo>
                      <a:pt x="606" y="566"/>
                    </a:lnTo>
                    <a:lnTo>
                      <a:pt x="602" y="562"/>
                    </a:lnTo>
                    <a:lnTo>
                      <a:pt x="598" y="566"/>
                    </a:lnTo>
                    <a:lnTo>
                      <a:pt x="606" y="566"/>
                    </a:lnTo>
                    <a:lnTo>
                      <a:pt x="602" y="558"/>
                    </a:lnTo>
                    <a:lnTo>
                      <a:pt x="598" y="555"/>
                    </a:lnTo>
                    <a:lnTo>
                      <a:pt x="598" y="555"/>
                    </a:lnTo>
                    <a:lnTo>
                      <a:pt x="591" y="551"/>
                    </a:lnTo>
                    <a:lnTo>
                      <a:pt x="584" y="547"/>
                    </a:lnTo>
                    <a:lnTo>
                      <a:pt x="580" y="551"/>
                    </a:lnTo>
                    <a:lnTo>
                      <a:pt x="584" y="547"/>
                    </a:lnTo>
                    <a:lnTo>
                      <a:pt x="580" y="544"/>
                    </a:lnTo>
                    <a:lnTo>
                      <a:pt x="580" y="544"/>
                    </a:lnTo>
                    <a:lnTo>
                      <a:pt x="580" y="544"/>
                    </a:lnTo>
                    <a:lnTo>
                      <a:pt x="573" y="540"/>
                    </a:lnTo>
                    <a:lnTo>
                      <a:pt x="573" y="540"/>
                    </a:lnTo>
                    <a:lnTo>
                      <a:pt x="569" y="540"/>
                    </a:lnTo>
                    <a:lnTo>
                      <a:pt x="562" y="540"/>
                    </a:lnTo>
                    <a:lnTo>
                      <a:pt x="562" y="544"/>
                    </a:lnTo>
                    <a:lnTo>
                      <a:pt x="566" y="540"/>
                    </a:lnTo>
                    <a:lnTo>
                      <a:pt x="555" y="537"/>
                    </a:lnTo>
                    <a:lnTo>
                      <a:pt x="548" y="533"/>
                    </a:lnTo>
                    <a:lnTo>
                      <a:pt x="548" y="533"/>
                    </a:lnTo>
                    <a:lnTo>
                      <a:pt x="544" y="533"/>
                    </a:lnTo>
                    <a:lnTo>
                      <a:pt x="533" y="533"/>
                    </a:lnTo>
                    <a:lnTo>
                      <a:pt x="522" y="533"/>
                    </a:lnTo>
                    <a:lnTo>
                      <a:pt x="515" y="533"/>
                    </a:lnTo>
                    <a:lnTo>
                      <a:pt x="504" y="533"/>
                    </a:lnTo>
                    <a:lnTo>
                      <a:pt x="504" y="533"/>
                    </a:lnTo>
                    <a:lnTo>
                      <a:pt x="504" y="533"/>
                    </a:lnTo>
                    <a:lnTo>
                      <a:pt x="493" y="537"/>
                    </a:lnTo>
                    <a:lnTo>
                      <a:pt x="493" y="540"/>
                    </a:lnTo>
                    <a:lnTo>
                      <a:pt x="493" y="537"/>
                    </a:lnTo>
                    <a:lnTo>
                      <a:pt x="486" y="537"/>
                    </a:lnTo>
                    <a:lnTo>
                      <a:pt x="486" y="537"/>
                    </a:lnTo>
                    <a:lnTo>
                      <a:pt x="486" y="537"/>
                    </a:lnTo>
                    <a:lnTo>
                      <a:pt x="479" y="540"/>
                    </a:lnTo>
                    <a:lnTo>
                      <a:pt x="471" y="544"/>
                    </a:lnTo>
                    <a:lnTo>
                      <a:pt x="464" y="547"/>
                    </a:lnTo>
                    <a:lnTo>
                      <a:pt x="464" y="547"/>
                    </a:lnTo>
                    <a:lnTo>
                      <a:pt x="460" y="547"/>
                    </a:lnTo>
                    <a:lnTo>
                      <a:pt x="457" y="551"/>
                    </a:lnTo>
                    <a:lnTo>
                      <a:pt x="460" y="555"/>
                    </a:lnTo>
                    <a:lnTo>
                      <a:pt x="460" y="551"/>
                    </a:lnTo>
                    <a:lnTo>
                      <a:pt x="453" y="551"/>
                    </a:lnTo>
                    <a:lnTo>
                      <a:pt x="453" y="551"/>
                    </a:lnTo>
                    <a:lnTo>
                      <a:pt x="450" y="551"/>
                    </a:lnTo>
                    <a:lnTo>
                      <a:pt x="446" y="555"/>
                    </a:lnTo>
                    <a:lnTo>
                      <a:pt x="446" y="558"/>
                    </a:lnTo>
                    <a:lnTo>
                      <a:pt x="446" y="558"/>
                    </a:lnTo>
                    <a:lnTo>
                      <a:pt x="442" y="566"/>
                    </a:lnTo>
                    <a:lnTo>
                      <a:pt x="446" y="566"/>
                    </a:lnTo>
                    <a:lnTo>
                      <a:pt x="446" y="562"/>
                    </a:lnTo>
                    <a:lnTo>
                      <a:pt x="439" y="566"/>
                    </a:lnTo>
                    <a:lnTo>
                      <a:pt x="435" y="566"/>
                    </a:lnTo>
                    <a:lnTo>
                      <a:pt x="435" y="569"/>
                    </a:lnTo>
                    <a:lnTo>
                      <a:pt x="428" y="580"/>
                    </a:lnTo>
                    <a:lnTo>
                      <a:pt x="424" y="591"/>
                    </a:lnTo>
                    <a:lnTo>
                      <a:pt x="421" y="602"/>
                    </a:lnTo>
                    <a:lnTo>
                      <a:pt x="421" y="602"/>
                    </a:lnTo>
                    <a:lnTo>
                      <a:pt x="421" y="602"/>
                    </a:lnTo>
                    <a:lnTo>
                      <a:pt x="421" y="613"/>
                    </a:lnTo>
                    <a:lnTo>
                      <a:pt x="421" y="624"/>
                    </a:lnTo>
                    <a:lnTo>
                      <a:pt x="421" y="638"/>
                    </a:lnTo>
                    <a:lnTo>
                      <a:pt x="421" y="642"/>
                    </a:lnTo>
                    <a:lnTo>
                      <a:pt x="421" y="642"/>
                    </a:lnTo>
                    <a:lnTo>
                      <a:pt x="424" y="653"/>
                    </a:lnTo>
                    <a:lnTo>
                      <a:pt x="428" y="663"/>
                    </a:lnTo>
                    <a:lnTo>
                      <a:pt x="428" y="663"/>
                    </a:lnTo>
                    <a:lnTo>
                      <a:pt x="428" y="663"/>
                    </a:lnTo>
                    <a:lnTo>
                      <a:pt x="435" y="671"/>
                    </a:lnTo>
                    <a:lnTo>
                      <a:pt x="439" y="667"/>
                    </a:lnTo>
                    <a:lnTo>
                      <a:pt x="435" y="671"/>
                    </a:lnTo>
                    <a:lnTo>
                      <a:pt x="442" y="682"/>
                    </a:lnTo>
                    <a:lnTo>
                      <a:pt x="442" y="682"/>
                    </a:lnTo>
                    <a:lnTo>
                      <a:pt x="446" y="685"/>
                    </a:lnTo>
                    <a:lnTo>
                      <a:pt x="457" y="692"/>
                    </a:lnTo>
                    <a:lnTo>
                      <a:pt x="457" y="685"/>
                    </a:lnTo>
                    <a:lnTo>
                      <a:pt x="453" y="689"/>
                    </a:lnTo>
                    <a:lnTo>
                      <a:pt x="457" y="700"/>
                    </a:lnTo>
                    <a:lnTo>
                      <a:pt x="457" y="700"/>
                    </a:lnTo>
                    <a:lnTo>
                      <a:pt x="457" y="700"/>
                    </a:lnTo>
                    <a:lnTo>
                      <a:pt x="464" y="707"/>
                    </a:lnTo>
                    <a:lnTo>
                      <a:pt x="468" y="703"/>
                    </a:lnTo>
                    <a:lnTo>
                      <a:pt x="464" y="707"/>
                    </a:lnTo>
                    <a:lnTo>
                      <a:pt x="468" y="718"/>
                    </a:lnTo>
                    <a:lnTo>
                      <a:pt x="471" y="714"/>
                    </a:lnTo>
                    <a:lnTo>
                      <a:pt x="468" y="714"/>
                    </a:lnTo>
                    <a:lnTo>
                      <a:pt x="468" y="725"/>
                    </a:lnTo>
                    <a:lnTo>
                      <a:pt x="468" y="736"/>
                    </a:lnTo>
                    <a:lnTo>
                      <a:pt x="468" y="743"/>
                    </a:lnTo>
                    <a:lnTo>
                      <a:pt x="471" y="743"/>
                    </a:lnTo>
                    <a:lnTo>
                      <a:pt x="468" y="743"/>
                    </a:lnTo>
                    <a:lnTo>
                      <a:pt x="464" y="754"/>
                    </a:lnTo>
                    <a:lnTo>
                      <a:pt x="460" y="765"/>
                    </a:lnTo>
                    <a:lnTo>
                      <a:pt x="453" y="776"/>
                    </a:lnTo>
                    <a:lnTo>
                      <a:pt x="457" y="776"/>
                    </a:lnTo>
                    <a:lnTo>
                      <a:pt x="453" y="772"/>
                    </a:lnTo>
                    <a:lnTo>
                      <a:pt x="446" y="780"/>
                    </a:lnTo>
                    <a:lnTo>
                      <a:pt x="439" y="787"/>
                    </a:lnTo>
                    <a:lnTo>
                      <a:pt x="442" y="790"/>
                    </a:lnTo>
                    <a:lnTo>
                      <a:pt x="442" y="787"/>
                    </a:lnTo>
                    <a:lnTo>
                      <a:pt x="428" y="794"/>
                    </a:lnTo>
                    <a:lnTo>
                      <a:pt x="428" y="794"/>
                    </a:lnTo>
                    <a:lnTo>
                      <a:pt x="424" y="794"/>
                    </a:lnTo>
                    <a:lnTo>
                      <a:pt x="413" y="805"/>
                    </a:lnTo>
                    <a:lnTo>
                      <a:pt x="417" y="809"/>
                    </a:lnTo>
                    <a:lnTo>
                      <a:pt x="417" y="805"/>
                    </a:lnTo>
                    <a:lnTo>
                      <a:pt x="402" y="809"/>
                    </a:lnTo>
                    <a:lnTo>
                      <a:pt x="384" y="812"/>
                    </a:lnTo>
                    <a:lnTo>
                      <a:pt x="373" y="812"/>
                    </a:lnTo>
                    <a:lnTo>
                      <a:pt x="355" y="812"/>
                    </a:lnTo>
                    <a:lnTo>
                      <a:pt x="334" y="812"/>
                    </a:lnTo>
                    <a:lnTo>
                      <a:pt x="312" y="812"/>
                    </a:lnTo>
                    <a:lnTo>
                      <a:pt x="290" y="812"/>
                    </a:lnTo>
                    <a:lnTo>
                      <a:pt x="265" y="812"/>
                    </a:lnTo>
                    <a:lnTo>
                      <a:pt x="239" y="812"/>
                    </a:lnTo>
                    <a:lnTo>
                      <a:pt x="214" y="812"/>
                    </a:lnTo>
                    <a:lnTo>
                      <a:pt x="214" y="816"/>
                    </a:lnTo>
                    <a:lnTo>
                      <a:pt x="221" y="819"/>
                    </a:lnTo>
                    <a:lnTo>
                      <a:pt x="225" y="809"/>
                    </a:lnTo>
                    <a:lnTo>
                      <a:pt x="228" y="794"/>
                    </a:lnTo>
                    <a:lnTo>
                      <a:pt x="232" y="780"/>
                    </a:lnTo>
                    <a:lnTo>
                      <a:pt x="236" y="765"/>
                    </a:lnTo>
                    <a:lnTo>
                      <a:pt x="236" y="765"/>
                    </a:lnTo>
                    <a:lnTo>
                      <a:pt x="236" y="761"/>
                    </a:lnTo>
                    <a:lnTo>
                      <a:pt x="236" y="747"/>
                    </a:lnTo>
                    <a:lnTo>
                      <a:pt x="228" y="747"/>
                    </a:lnTo>
                    <a:lnTo>
                      <a:pt x="236" y="751"/>
                    </a:lnTo>
                    <a:lnTo>
                      <a:pt x="239" y="736"/>
                    </a:lnTo>
                    <a:lnTo>
                      <a:pt x="239" y="736"/>
                    </a:lnTo>
                    <a:lnTo>
                      <a:pt x="239" y="732"/>
                    </a:lnTo>
                    <a:lnTo>
                      <a:pt x="239" y="718"/>
                    </a:lnTo>
                    <a:lnTo>
                      <a:pt x="239" y="703"/>
                    </a:lnTo>
                    <a:lnTo>
                      <a:pt x="239" y="689"/>
                    </a:lnTo>
                    <a:lnTo>
                      <a:pt x="239" y="674"/>
                    </a:lnTo>
                    <a:lnTo>
                      <a:pt x="239" y="674"/>
                    </a:lnTo>
                    <a:lnTo>
                      <a:pt x="239" y="674"/>
                    </a:lnTo>
                    <a:lnTo>
                      <a:pt x="236" y="660"/>
                    </a:lnTo>
                    <a:lnTo>
                      <a:pt x="228" y="660"/>
                    </a:lnTo>
                    <a:lnTo>
                      <a:pt x="236" y="660"/>
                    </a:lnTo>
                    <a:lnTo>
                      <a:pt x="236" y="645"/>
                    </a:lnTo>
                    <a:lnTo>
                      <a:pt x="236" y="645"/>
                    </a:lnTo>
                    <a:lnTo>
                      <a:pt x="236" y="645"/>
                    </a:lnTo>
                    <a:lnTo>
                      <a:pt x="232" y="634"/>
                    </a:lnTo>
                    <a:lnTo>
                      <a:pt x="228" y="624"/>
                    </a:lnTo>
                    <a:lnTo>
                      <a:pt x="225" y="613"/>
                    </a:lnTo>
                    <a:lnTo>
                      <a:pt x="221" y="605"/>
                    </a:lnTo>
                    <a:lnTo>
                      <a:pt x="218" y="595"/>
                    </a:lnTo>
                    <a:lnTo>
                      <a:pt x="218" y="595"/>
                    </a:lnTo>
                    <a:lnTo>
                      <a:pt x="214" y="591"/>
                    </a:lnTo>
                    <a:lnTo>
                      <a:pt x="210" y="587"/>
                    </a:lnTo>
                    <a:lnTo>
                      <a:pt x="207" y="591"/>
                    </a:lnTo>
                    <a:lnTo>
                      <a:pt x="214" y="591"/>
                    </a:lnTo>
                    <a:lnTo>
                      <a:pt x="210" y="584"/>
                    </a:lnTo>
                    <a:lnTo>
                      <a:pt x="210" y="584"/>
                    </a:lnTo>
                    <a:lnTo>
                      <a:pt x="207" y="580"/>
                    </a:lnTo>
                    <a:lnTo>
                      <a:pt x="203" y="576"/>
                    </a:lnTo>
                    <a:lnTo>
                      <a:pt x="203" y="576"/>
                    </a:lnTo>
                    <a:lnTo>
                      <a:pt x="203" y="576"/>
                    </a:lnTo>
                    <a:lnTo>
                      <a:pt x="196" y="573"/>
                    </a:lnTo>
                    <a:lnTo>
                      <a:pt x="196" y="573"/>
                    </a:lnTo>
                    <a:lnTo>
                      <a:pt x="192" y="573"/>
                    </a:lnTo>
                    <a:lnTo>
                      <a:pt x="189" y="573"/>
                    </a:lnTo>
                    <a:lnTo>
                      <a:pt x="189" y="576"/>
                    </a:lnTo>
                    <a:lnTo>
                      <a:pt x="192" y="573"/>
                    </a:lnTo>
                    <a:lnTo>
                      <a:pt x="189" y="569"/>
                    </a:lnTo>
                    <a:lnTo>
                      <a:pt x="189" y="569"/>
                    </a:lnTo>
                    <a:lnTo>
                      <a:pt x="185" y="569"/>
                    </a:lnTo>
                    <a:lnTo>
                      <a:pt x="178" y="569"/>
                    </a:lnTo>
                    <a:lnTo>
                      <a:pt x="167" y="569"/>
                    </a:lnTo>
                    <a:lnTo>
                      <a:pt x="152" y="573"/>
                    </a:lnTo>
                    <a:lnTo>
                      <a:pt x="145" y="573"/>
                    </a:lnTo>
                    <a:lnTo>
                      <a:pt x="152" y="573"/>
                    </a:lnTo>
                    <a:lnTo>
                      <a:pt x="141" y="576"/>
                    </a:lnTo>
                    <a:lnTo>
                      <a:pt x="123" y="584"/>
                    </a:lnTo>
                    <a:lnTo>
                      <a:pt x="112" y="587"/>
                    </a:lnTo>
                    <a:lnTo>
                      <a:pt x="112" y="591"/>
                    </a:lnTo>
                    <a:lnTo>
                      <a:pt x="112" y="587"/>
                    </a:lnTo>
                    <a:lnTo>
                      <a:pt x="105" y="587"/>
                    </a:lnTo>
                    <a:lnTo>
                      <a:pt x="105" y="587"/>
                    </a:lnTo>
                    <a:lnTo>
                      <a:pt x="105" y="587"/>
                    </a:lnTo>
                    <a:lnTo>
                      <a:pt x="98" y="591"/>
                    </a:lnTo>
                    <a:lnTo>
                      <a:pt x="98" y="595"/>
                    </a:lnTo>
                    <a:lnTo>
                      <a:pt x="98" y="591"/>
                    </a:lnTo>
                    <a:lnTo>
                      <a:pt x="87" y="591"/>
                    </a:lnTo>
                    <a:lnTo>
                      <a:pt x="80" y="591"/>
                    </a:lnTo>
                    <a:lnTo>
                      <a:pt x="73" y="591"/>
                    </a:lnTo>
                    <a:lnTo>
                      <a:pt x="65" y="591"/>
                    </a:lnTo>
                    <a:lnTo>
                      <a:pt x="65" y="595"/>
                    </a:lnTo>
                    <a:lnTo>
                      <a:pt x="69" y="591"/>
                    </a:lnTo>
                    <a:lnTo>
                      <a:pt x="62" y="587"/>
                    </a:lnTo>
                    <a:lnTo>
                      <a:pt x="62" y="587"/>
                    </a:lnTo>
                    <a:lnTo>
                      <a:pt x="58" y="587"/>
                    </a:lnTo>
                    <a:lnTo>
                      <a:pt x="51" y="587"/>
                    </a:lnTo>
                    <a:lnTo>
                      <a:pt x="51" y="591"/>
                    </a:lnTo>
                    <a:lnTo>
                      <a:pt x="54" y="587"/>
                    </a:lnTo>
                    <a:lnTo>
                      <a:pt x="47" y="584"/>
                    </a:lnTo>
                    <a:lnTo>
                      <a:pt x="44" y="587"/>
                    </a:lnTo>
                    <a:lnTo>
                      <a:pt x="47" y="584"/>
                    </a:lnTo>
                    <a:lnTo>
                      <a:pt x="44" y="580"/>
                    </a:lnTo>
                    <a:lnTo>
                      <a:pt x="44" y="580"/>
                    </a:lnTo>
                    <a:lnTo>
                      <a:pt x="40" y="580"/>
                    </a:lnTo>
                    <a:lnTo>
                      <a:pt x="36" y="580"/>
                    </a:lnTo>
                    <a:lnTo>
                      <a:pt x="36" y="584"/>
                    </a:lnTo>
                    <a:lnTo>
                      <a:pt x="40" y="580"/>
                    </a:lnTo>
                    <a:lnTo>
                      <a:pt x="29" y="573"/>
                    </a:lnTo>
                    <a:lnTo>
                      <a:pt x="25" y="576"/>
                    </a:lnTo>
                    <a:lnTo>
                      <a:pt x="33" y="576"/>
                    </a:lnTo>
                    <a:lnTo>
                      <a:pt x="25" y="566"/>
                    </a:lnTo>
                    <a:lnTo>
                      <a:pt x="22" y="558"/>
                    </a:lnTo>
                    <a:lnTo>
                      <a:pt x="15" y="547"/>
                    </a:lnTo>
                    <a:lnTo>
                      <a:pt x="11" y="537"/>
                    </a:lnTo>
                    <a:lnTo>
                      <a:pt x="4" y="537"/>
                    </a:lnTo>
                    <a:lnTo>
                      <a:pt x="11" y="537"/>
                    </a:lnTo>
                    <a:lnTo>
                      <a:pt x="11" y="529"/>
                    </a:lnTo>
                    <a:lnTo>
                      <a:pt x="11" y="518"/>
                    </a:lnTo>
                    <a:lnTo>
                      <a:pt x="11" y="508"/>
                    </a:lnTo>
                    <a:lnTo>
                      <a:pt x="4" y="508"/>
                    </a:lnTo>
                    <a:lnTo>
                      <a:pt x="11" y="511"/>
                    </a:lnTo>
                    <a:lnTo>
                      <a:pt x="15" y="504"/>
                    </a:lnTo>
                    <a:lnTo>
                      <a:pt x="7" y="500"/>
                    </a:lnTo>
                    <a:lnTo>
                      <a:pt x="11" y="504"/>
                    </a:lnTo>
                    <a:lnTo>
                      <a:pt x="15" y="500"/>
                    </a:lnTo>
                    <a:lnTo>
                      <a:pt x="18" y="500"/>
                    </a:lnTo>
                    <a:lnTo>
                      <a:pt x="18" y="500"/>
                    </a:lnTo>
                    <a:lnTo>
                      <a:pt x="25" y="489"/>
                    </a:lnTo>
                    <a:lnTo>
                      <a:pt x="33" y="478"/>
                    </a:lnTo>
                    <a:lnTo>
                      <a:pt x="25" y="475"/>
                    </a:lnTo>
                    <a:lnTo>
                      <a:pt x="29" y="478"/>
                    </a:lnTo>
                    <a:lnTo>
                      <a:pt x="36" y="471"/>
                    </a:lnTo>
                    <a:lnTo>
                      <a:pt x="33" y="468"/>
                    </a:lnTo>
                    <a:lnTo>
                      <a:pt x="36" y="475"/>
                    </a:lnTo>
                    <a:lnTo>
                      <a:pt x="44" y="471"/>
                    </a:lnTo>
                    <a:lnTo>
                      <a:pt x="44" y="468"/>
                    </a:lnTo>
                    <a:lnTo>
                      <a:pt x="47" y="468"/>
                    </a:lnTo>
                    <a:lnTo>
                      <a:pt x="51" y="460"/>
                    </a:lnTo>
                    <a:lnTo>
                      <a:pt x="44" y="457"/>
                    </a:lnTo>
                    <a:lnTo>
                      <a:pt x="47" y="464"/>
                    </a:lnTo>
                    <a:lnTo>
                      <a:pt x="54" y="460"/>
                    </a:lnTo>
                    <a:lnTo>
                      <a:pt x="51" y="453"/>
                    </a:lnTo>
                    <a:lnTo>
                      <a:pt x="51" y="460"/>
                    </a:lnTo>
                    <a:lnTo>
                      <a:pt x="58" y="460"/>
                    </a:lnTo>
                    <a:lnTo>
                      <a:pt x="62" y="460"/>
                    </a:lnTo>
                    <a:lnTo>
                      <a:pt x="62" y="460"/>
                    </a:lnTo>
                    <a:lnTo>
                      <a:pt x="69" y="457"/>
                    </a:lnTo>
                    <a:lnTo>
                      <a:pt x="65" y="449"/>
                    </a:lnTo>
                    <a:lnTo>
                      <a:pt x="65" y="457"/>
                    </a:lnTo>
                    <a:lnTo>
                      <a:pt x="73" y="457"/>
                    </a:lnTo>
                    <a:lnTo>
                      <a:pt x="80" y="457"/>
                    </a:lnTo>
                    <a:lnTo>
                      <a:pt x="80" y="449"/>
                    </a:lnTo>
                    <a:lnTo>
                      <a:pt x="76" y="453"/>
                    </a:lnTo>
                    <a:lnTo>
                      <a:pt x="80" y="457"/>
                    </a:lnTo>
                    <a:lnTo>
                      <a:pt x="83" y="460"/>
                    </a:lnTo>
                    <a:lnTo>
                      <a:pt x="83" y="460"/>
                    </a:lnTo>
                    <a:lnTo>
                      <a:pt x="91" y="460"/>
                    </a:lnTo>
                    <a:lnTo>
                      <a:pt x="105" y="464"/>
                    </a:lnTo>
                    <a:lnTo>
                      <a:pt x="105" y="457"/>
                    </a:lnTo>
                    <a:lnTo>
                      <a:pt x="105" y="464"/>
                    </a:lnTo>
                    <a:lnTo>
                      <a:pt x="116" y="471"/>
                    </a:lnTo>
                    <a:lnTo>
                      <a:pt x="131" y="478"/>
                    </a:lnTo>
                    <a:lnTo>
                      <a:pt x="141" y="486"/>
                    </a:lnTo>
                    <a:lnTo>
                      <a:pt x="152" y="489"/>
                    </a:lnTo>
                    <a:lnTo>
                      <a:pt x="167" y="497"/>
                    </a:lnTo>
                    <a:lnTo>
                      <a:pt x="167" y="497"/>
                    </a:lnTo>
                    <a:lnTo>
                      <a:pt x="167" y="497"/>
                    </a:lnTo>
                    <a:lnTo>
                      <a:pt x="174" y="497"/>
                    </a:lnTo>
                    <a:lnTo>
                      <a:pt x="174" y="489"/>
                    </a:lnTo>
                    <a:lnTo>
                      <a:pt x="170" y="493"/>
                    </a:lnTo>
                    <a:lnTo>
                      <a:pt x="174" y="497"/>
                    </a:lnTo>
                    <a:lnTo>
                      <a:pt x="178" y="500"/>
                    </a:lnTo>
                    <a:lnTo>
                      <a:pt x="178" y="500"/>
                    </a:lnTo>
                    <a:lnTo>
                      <a:pt x="185" y="500"/>
                    </a:lnTo>
                    <a:lnTo>
                      <a:pt x="192" y="500"/>
                    </a:lnTo>
                    <a:lnTo>
                      <a:pt x="196" y="500"/>
                    </a:lnTo>
                    <a:lnTo>
                      <a:pt x="196" y="497"/>
                    </a:lnTo>
                    <a:lnTo>
                      <a:pt x="199" y="493"/>
                    </a:lnTo>
                    <a:lnTo>
                      <a:pt x="196" y="489"/>
                    </a:lnTo>
                    <a:lnTo>
                      <a:pt x="199" y="497"/>
                    </a:lnTo>
                    <a:lnTo>
                      <a:pt x="207" y="493"/>
                    </a:lnTo>
                    <a:lnTo>
                      <a:pt x="214" y="489"/>
                    </a:lnTo>
                    <a:lnTo>
                      <a:pt x="214" y="489"/>
                    </a:lnTo>
                    <a:lnTo>
                      <a:pt x="214" y="486"/>
                    </a:lnTo>
                    <a:lnTo>
                      <a:pt x="218" y="482"/>
                    </a:lnTo>
                    <a:close/>
                  </a:path>
                </a:pathLst>
              </a:custGeom>
              <a:solidFill>
                <a:srgbClr val="ffff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4527720" y="3328920"/>
              <a:ext cx="157140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49440"/>
                  <a:tab algn="l" pos="1298520"/>
                  <a:tab algn="l" pos="1947960"/>
                  <a:tab algn="l" pos="2597040"/>
                  <a:tab algn="l" pos="3246480"/>
                  <a:tab algn="l" pos="3895560"/>
                  <a:tab algn="l" pos="4545000"/>
                  <a:tab algn="l" pos="5194440"/>
                  <a:tab algn="l" pos="5843520"/>
                  <a:tab algn="l" pos="6492960"/>
                  <a:tab algn="l" pos="7142040"/>
                  <a:tab algn="l" pos="7791480"/>
                  <a:tab algn="l" pos="8440560"/>
                  <a:tab algn="l" pos="9090000"/>
                  <a:tab algn="l" pos="9739440"/>
                  <a:tab algn="l" pos="10388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RATEG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597040" y="2684520"/>
            <a:ext cx="1290240" cy="2153880"/>
            <a:chOff x="2597040" y="2684520"/>
            <a:chExt cx="1290240" cy="2153880"/>
          </a:xfrm>
        </p:grpSpPr>
        <p:grpSp>
          <p:nvGrpSpPr>
            <p:cNvPr id="115" name=""/>
            <p:cNvGrpSpPr/>
            <p:nvPr/>
          </p:nvGrpSpPr>
          <p:grpSpPr>
            <a:xfrm>
              <a:off x="2597040" y="2684520"/>
              <a:ext cx="1290240" cy="2153880"/>
              <a:chOff x="2597040" y="2684520"/>
              <a:chExt cx="1290240" cy="2153880"/>
            </a:xfrm>
          </p:grpSpPr>
          <p:sp>
            <p:nvSpPr>
              <p:cNvPr id="116" name=""/>
              <p:cNvSpPr/>
              <p:nvPr/>
            </p:nvSpPr>
            <p:spPr>
              <a:xfrm>
                <a:off x="2602800" y="2690280"/>
                <a:ext cx="1270800" cy="2134080"/>
              </a:xfrm>
              <a:custGeom>
                <a:avLst/>
                <a:gdLst/>
                <a:ahLst/>
                <a:rect l="l" t="t" r="r" b="b"/>
                <a:pathLst>
                  <a:path w="646" h="1067">
                    <a:moveTo>
                      <a:pt x="113" y="523"/>
                    </a:moveTo>
                    <a:lnTo>
                      <a:pt x="116" y="519"/>
                    </a:lnTo>
                    <a:lnTo>
                      <a:pt x="120" y="512"/>
                    </a:lnTo>
                    <a:lnTo>
                      <a:pt x="124" y="512"/>
                    </a:lnTo>
                    <a:lnTo>
                      <a:pt x="127" y="508"/>
                    </a:lnTo>
                    <a:lnTo>
                      <a:pt x="138" y="505"/>
                    </a:lnTo>
                    <a:lnTo>
                      <a:pt x="149" y="501"/>
                    </a:lnTo>
                    <a:lnTo>
                      <a:pt x="160" y="501"/>
                    </a:lnTo>
                    <a:lnTo>
                      <a:pt x="174" y="501"/>
                    </a:lnTo>
                    <a:lnTo>
                      <a:pt x="185" y="505"/>
                    </a:lnTo>
                    <a:lnTo>
                      <a:pt x="196" y="508"/>
                    </a:lnTo>
                    <a:lnTo>
                      <a:pt x="207" y="516"/>
                    </a:lnTo>
                    <a:lnTo>
                      <a:pt x="218" y="523"/>
                    </a:lnTo>
                    <a:lnTo>
                      <a:pt x="229" y="530"/>
                    </a:lnTo>
                    <a:lnTo>
                      <a:pt x="236" y="541"/>
                    </a:lnTo>
                    <a:lnTo>
                      <a:pt x="236" y="548"/>
                    </a:lnTo>
                    <a:lnTo>
                      <a:pt x="240" y="552"/>
                    </a:lnTo>
                    <a:lnTo>
                      <a:pt x="243" y="559"/>
                    </a:lnTo>
                    <a:lnTo>
                      <a:pt x="247" y="563"/>
                    </a:lnTo>
                    <a:lnTo>
                      <a:pt x="247" y="570"/>
                    </a:lnTo>
                    <a:lnTo>
                      <a:pt x="247" y="577"/>
                    </a:lnTo>
                    <a:lnTo>
                      <a:pt x="247" y="584"/>
                    </a:lnTo>
                    <a:lnTo>
                      <a:pt x="247" y="592"/>
                    </a:lnTo>
                    <a:lnTo>
                      <a:pt x="243" y="603"/>
                    </a:lnTo>
                    <a:lnTo>
                      <a:pt x="240" y="617"/>
                    </a:lnTo>
                    <a:lnTo>
                      <a:pt x="232" y="624"/>
                    </a:lnTo>
                    <a:lnTo>
                      <a:pt x="225" y="635"/>
                    </a:lnTo>
                    <a:lnTo>
                      <a:pt x="218" y="642"/>
                    </a:lnTo>
                    <a:lnTo>
                      <a:pt x="211" y="650"/>
                    </a:lnTo>
                    <a:lnTo>
                      <a:pt x="200" y="653"/>
                    </a:lnTo>
                    <a:lnTo>
                      <a:pt x="189" y="657"/>
                    </a:lnTo>
                    <a:lnTo>
                      <a:pt x="182" y="661"/>
                    </a:lnTo>
                    <a:lnTo>
                      <a:pt x="171" y="661"/>
                    </a:lnTo>
                    <a:lnTo>
                      <a:pt x="160" y="661"/>
                    </a:lnTo>
                    <a:lnTo>
                      <a:pt x="149" y="657"/>
                    </a:lnTo>
                    <a:lnTo>
                      <a:pt x="138" y="653"/>
                    </a:lnTo>
                    <a:lnTo>
                      <a:pt x="131" y="650"/>
                    </a:lnTo>
                    <a:lnTo>
                      <a:pt x="124" y="646"/>
                    </a:lnTo>
                    <a:lnTo>
                      <a:pt x="116" y="639"/>
                    </a:lnTo>
                    <a:lnTo>
                      <a:pt x="109" y="632"/>
                    </a:lnTo>
                    <a:lnTo>
                      <a:pt x="102" y="624"/>
                    </a:lnTo>
                    <a:lnTo>
                      <a:pt x="95" y="621"/>
                    </a:lnTo>
                    <a:lnTo>
                      <a:pt x="84" y="617"/>
                    </a:lnTo>
                    <a:lnTo>
                      <a:pt x="76" y="613"/>
                    </a:lnTo>
                    <a:lnTo>
                      <a:pt x="69" y="610"/>
                    </a:lnTo>
                    <a:lnTo>
                      <a:pt x="62" y="606"/>
                    </a:lnTo>
                    <a:lnTo>
                      <a:pt x="55" y="606"/>
                    </a:lnTo>
                    <a:lnTo>
                      <a:pt x="47" y="606"/>
                    </a:lnTo>
                    <a:lnTo>
                      <a:pt x="40" y="606"/>
                    </a:lnTo>
                    <a:lnTo>
                      <a:pt x="33" y="610"/>
                    </a:lnTo>
                    <a:lnTo>
                      <a:pt x="26" y="613"/>
                    </a:lnTo>
                    <a:lnTo>
                      <a:pt x="18" y="617"/>
                    </a:lnTo>
                    <a:lnTo>
                      <a:pt x="15" y="624"/>
                    </a:lnTo>
                    <a:lnTo>
                      <a:pt x="11" y="632"/>
                    </a:lnTo>
                    <a:lnTo>
                      <a:pt x="11" y="642"/>
                    </a:lnTo>
                    <a:lnTo>
                      <a:pt x="8" y="664"/>
                    </a:lnTo>
                    <a:lnTo>
                      <a:pt x="4" y="690"/>
                    </a:lnTo>
                    <a:lnTo>
                      <a:pt x="0" y="715"/>
                    </a:lnTo>
                    <a:lnTo>
                      <a:pt x="0" y="740"/>
                    </a:lnTo>
                    <a:lnTo>
                      <a:pt x="0" y="769"/>
                    </a:lnTo>
                    <a:lnTo>
                      <a:pt x="0" y="795"/>
                    </a:lnTo>
                    <a:lnTo>
                      <a:pt x="4" y="806"/>
                    </a:lnTo>
                    <a:lnTo>
                      <a:pt x="4" y="817"/>
                    </a:lnTo>
                    <a:lnTo>
                      <a:pt x="8" y="827"/>
                    </a:lnTo>
                    <a:lnTo>
                      <a:pt x="11" y="835"/>
                    </a:lnTo>
                    <a:lnTo>
                      <a:pt x="29" y="831"/>
                    </a:lnTo>
                    <a:lnTo>
                      <a:pt x="55" y="827"/>
                    </a:lnTo>
                    <a:lnTo>
                      <a:pt x="84" y="824"/>
                    </a:lnTo>
                    <a:lnTo>
                      <a:pt x="116" y="824"/>
                    </a:lnTo>
                    <a:lnTo>
                      <a:pt x="149" y="820"/>
                    </a:lnTo>
                    <a:lnTo>
                      <a:pt x="174" y="820"/>
                    </a:lnTo>
                    <a:lnTo>
                      <a:pt x="200" y="824"/>
                    </a:lnTo>
                    <a:lnTo>
                      <a:pt x="218" y="824"/>
                    </a:lnTo>
                    <a:lnTo>
                      <a:pt x="236" y="827"/>
                    </a:lnTo>
                    <a:lnTo>
                      <a:pt x="250" y="831"/>
                    </a:lnTo>
                    <a:lnTo>
                      <a:pt x="265" y="838"/>
                    </a:lnTo>
                    <a:lnTo>
                      <a:pt x="276" y="846"/>
                    </a:lnTo>
                    <a:lnTo>
                      <a:pt x="283" y="849"/>
                    </a:lnTo>
                    <a:lnTo>
                      <a:pt x="290" y="856"/>
                    </a:lnTo>
                    <a:lnTo>
                      <a:pt x="298" y="864"/>
                    </a:lnTo>
                    <a:lnTo>
                      <a:pt x="301" y="871"/>
                    </a:lnTo>
                    <a:lnTo>
                      <a:pt x="301" y="878"/>
                    </a:lnTo>
                    <a:lnTo>
                      <a:pt x="301" y="885"/>
                    </a:lnTo>
                    <a:lnTo>
                      <a:pt x="301" y="893"/>
                    </a:lnTo>
                    <a:lnTo>
                      <a:pt x="301" y="900"/>
                    </a:lnTo>
                    <a:lnTo>
                      <a:pt x="298" y="907"/>
                    </a:lnTo>
                    <a:lnTo>
                      <a:pt x="294" y="915"/>
                    </a:lnTo>
                    <a:lnTo>
                      <a:pt x="287" y="922"/>
                    </a:lnTo>
                    <a:lnTo>
                      <a:pt x="279" y="925"/>
                    </a:lnTo>
                    <a:lnTo>
                      <a:pt x="272" y="936"/>
                    </a:lnTo>
                    <a:lnTo>
                      <a:pt x="269" y="944"/>
                    </a:lnTo>
                    <a:lnTo>
                      <a:pt x="265" y="954"/>
                    </a:lnTo>
                    <a:lnTo>
                      <a:pt x="261" y="965"/>
                    </a:lnTo>
                    <a:lnTo>
                      <a:pt x="261" y="976"/>
                    </a:lnTo>
                    <a:lnTo>
                      <a:pt x="261" y="991"/>
                    </a:lnTo>
                    <a:lnTo>
                      <a:pt x="261" y="1002"/>
                    </a:lnTo>
                    <a:lnTo>
                      <a:pt x="265" y="1012"/>
                    </a:lnTo>
                    <a:lnTo>
                      <a:pt x="272" y="1023"/>
                    </a:lnTo>
                    <a:lnTo>
                      <a:pt x="279" y="1034"/>
                    </a:lnTo>
                    <a:lnTo>
                      <a:pt x="287" y="1041"/>
                    </a:lnTo>
                    <a:lnTo>
                      <a:pt x="294" y="1052"/>
                    </a:lnTo>
                    <a:lnTo>
                      <a:pt x="301" y="1056"/>
                    </a:lnTo>
                    <a:lnTo>
                      <a:pt x="308" y="1060"/>
                    </a:lnTo>
                    <a:lnTo>
                      <a:pt x="312" y="1060"/>
                    </a:lnTo>
                    <a:lnTo>
                      <a:pt x="319" y="1063"/>
                    </a:lnTo>
                    <a:lnTo>
                      <a:pt x="327" y="1067"/>
                    </a:lnTo>
                    <a:lnTo>
                      <a:pt x="334" y="1067"/>
                    </a:lnTo>
                    <a:lnTo>
                      <a:pt x="341" y="1067"/>
                    </a:lnTo>
                    <a:lnTo>
                      <a:pt x="348" y="1067"/>
                    </a:lnTo>
                    <a:lnTo>
                      <a:pt x="367" y="1067"/>
                    </a:lnTo>
                    <a:lnTo>
                      <a:pt x="381" y="1063"/>
                    </a:lnTo>
                    <a:lnTo>
                      <a:pt x="392" y="1056"/>
                    </a:lnTo>
                    <a:lnTo>
                      <a:pt x="403" y="1052"/>
                    </a:lnTo>
                    <a:lnTo>
                      <a:pt x="414" y="1041"/>
                    </a:lnTo>
                    <a:lnTo>
                      <a:pt x="425" y="1034"/>
                    </a:lnTo>
                    <a:lnTo>
                      <a:pt x="432" y="1027"/>
                    </a:lnTo>
                    <a:lnTo>
                      <a:pt x="435" y="1016"/>
                    </a:lnTo>
                    <a:lnTo>
                      <a:pt x="439" y="1005"/>
                    </a:lnTo>
                    <a:lnTo>
                      <a:pt x="439" y="994"/>
                    </a:lnTo>
                    <a:lnTo>
                      <a:pt x="443" y="983"/>
                    </a:lnTo>
                    <a:lnTo>
                      <a:pt x="439" y="973"/>
                    </a:lnTo>
                    <a:lnTo>
                      <a:pt x="435" y="962"/>
                    </a:lnTo>
                    <a:lnTo>
                      <a:pt x="432" y="951"/>
                    </a:lnTo>
                    <a:lnTo>
                      <a:pt x="425" y="940"/>
                    </a:lnTo>
                    <a:lnTo>
                      <a:pt x="414" y="933"/>
                    </a:lnTo>
                    <a:lnTo>
                      <a:pt x="406" y="922"/>
                    </a:lnTo>
                    <a:lnTo>
                      <a:pt x="403" y="915"/>
                    </a:lnTo>
                    <a:lnTo>
                      <a:pt x="396" y="904"/>
                    </a:lnTo>
                    <a:lnTo>
                      <a:pt x="392" y="893"/>
                    </a:lnTo>
                    <a:lnTo>
                      <a:pt x="392" y="882"/>
                    </a:lnTo>
                    <a:lnTo>
                      <a:pt x="392" y="871"/>
                    </a:lnTo>
                    <a:lnTo>
                      <a:pt x="392" y="864"/>
                    </a:lnTo>
                    <a:lnTo>
                      <a:pt x="392" y="853"/>
                    </a:lnTo>
                    <a:lnTo>
                      <a:pt x="396" y="846"/>
                    </a:lnTo>
                    <a:lnTo>
                      <a:pt x="399" y="835"/>
                    </a:lnTo>
                    <a:lnTo>
                      <a:pt x="403" y="827"/>
                    </a:lnTo>
                    <a:lnTo>
                      <a:pt x="410" y="824"/>
                    </a:lnTo>
                    <a:lnTo>
                      <a:pt x="414" y="817"/>
                    </a:lnTo>
                    <a:lnTo>
                      <a:pt x="421" y="813"/>
                    </a:lnTo>
                    <a:lnTo>
                      <a:pt x="428" y="809"/>
                    </a:lnTo>
                    <a:lnTo>
                      <a:pt x="432" y="809"/>
                    </a:lnTo>
                    <a:lnTo>
                      <a:pt x="443" y="809"/>
                    </a:lnTo>
                    <a:lnTo>
                      <a:pt x="461" y="813"/>
                    </a:lnTo>
                    <a:lnTo>
                      <a:pt x="479" y="813"/>
                    </a:lnTo>
                    <a:lnTo>
                      <a:pt x="504" y="817"/>
                    </a:lnTo>
                    <a:lnTo>
                      <a:pt x="533" y="820"/>
                    </a:lnTo>
                    <a:lnTo>
                      <a:pt x="562" y="820"/>
                    </a:lnTo>
                    <a:lnTo>
                      <a:pt x="591" y="824"/>
                    </a:lnTo>
                    <a:lnTo>
                      <a:pt x="624" y="824"/>
                    </a:lnTo>
                    <a:lnTo>
                      <a:pt x="631" y="813"/>
                    </a:lnTo>
                    <a:lnTo>
                      <a:pt x="635" y="798"/>
                    </a:lnTo>
                    <a:lnTo>
                      <a:pt x="638" y="784"/>
                    </a:lnTo>
                    <a:lnTo>
                      <a:pt x="642" y="769"/>
                    </a:lnTo>
                    <a:lnTo>
                      <a:pt x="646" y="755"/>
                    </a:lnTo>
                    <a:lnTo>
                      <a:pt x="646" y="740"/>
                    </a:lnTo>
                    <a:lnTo>
                      <a:pt x="646" y="726"/>
                    </a:lnTo>
                    <a:lnTo>
                      <a:pt x="646" y="711"/>
                    </a:lnTo>
                    <a:lnTo>
                      <a:pt x="646" y="697"/>
                    </a:lnTo>
                    <a:lnTo>
                      <a:pt x="646" y="682"/>
                    </a:lnTo>
                    <a:lnTo>
                      <a:pt x="642" y="668"/>
                    </a:lnTo>
                    <a:lnTo>
                      <a:pt x="642" y="653"/>
                    </a:lnTo>
                    <a:lnTo>
                      <a:pt x="638" y="642"/>
                    </a:lnTo>
                    <a:lnTo>
                      <a:pt x="635" y="632"/>
                    </a:lnTo>
                    <a:lnTo>
                      <a:pt x="631" y="621"/>
                    </a:lnTo>
                    <a:lnTo>
                      <a:pt x="628" y="613"/>
                    </a:lnTo>
                    <a:lnTo>
                      <a:pt x="624" y="603"/>
                    </a:lnTo>
                    <a:lnTo>
                      <a:pt x="620" y="599"/>
                    </a:lnTo>
                    <a:lnTo>
                      <a:pt x="617" y="592"/>
                    </a:lnTo>
                    <a:lnTo>
                      <a:pt x="613" y="588"/>
                    </a:lnTo>
                    <a:lnTo>
                      <a:pt x="606" y="584"/>
                    </a:lnTo>
                    <a:lnTo>
                      <a:pt x="602" y="584"/>
                    </a:lnTo>
                    <a:lnTo>
                      <a:pt x="599" y="581"/>
                    </a:lnTo>
                    <a:lnTo>
                      <a:pt x="591" y="581"/>
                    </a:lnTo>
                    <a:lnTo>
                      <a:pt x="580" y="581"/>
                    </a:lnTo>
                    <a:lnTo>
                      <a:pt x="566" y="584"/>
                    </a:lnTo>
                    <a:lnTo>
                      <a:pt x="551" y="588"/>
                    </a:lnTo>
                    <a:lnTo>
                      <a:pt x="537" y="595"/>
                    </a:lnTo>
                    <a:lnTo>
                      <a:pt x="526" y="599"/>
                    </a:lnTo>
                    <a:lnTo>
                      <a:pt x="519" y="599"/>
                    </a:lnTo>
                    <a:lnTo>
                      <a:pt x="508" y="603"/>
                    </a:lnTo>
                    <a:lnTo>
                      <a:pt x="501" y="603"/>
                    </a:lnTo>
                    <a:lnTo>
                      <a:pt x="490" y="603"/>
                    </a:lnTo>
                    <a:lnTo>
                      <a:pt x="483" y="603"/>
                    </a:lnTo>
                    <a:lnTo>
                      <a:pt x="479" y="603"/>
                    </a:lnTo>
                    <a:lnTo>
                      <a:pt x="468" y="599"/>
                    </a:lnTo>
                    <a:lnTo>
                      <a:pt x="464" y="599"/>
                    </a:lnTo>
                    <a:lnTo>
                      <a:pt x="457" y="595"/>
                    </a:lnTo>
                    <a:lnTo>
                      <a:pt x="454" y="595"/>
                    </a:lnTo>
                    <a:lnTo>
                      <a:pt x="446" y="592"/>
                    </a:lnTo>
                    <a:lnTo>
                      <a:pt x="439" y="584"/>
                    </a:lnTo>
                    <a:lnTo>
                      <a:pt x="432" y="574"/>
                    </a:lnTo>
                    <a:lnTo>
                      <a:pt x="425" y="566"/>
                    </a:lnTo>
                    <a:lnTo>
                      <a:pt x="421" y="555"/>
                    </a:lnTo>
                    <a:lnTo>
                      <a:pt x="417" y="545"/>
                    </a:lnTo>
                    <a:lnTo>
                      <a:pt x="417" y="537"/>
                    </a:lnTo>
                    <a:lnTo>
                      <a:pt x="417" y="526"/>
                    </a:lnTo>
                    <a:lnTo>
                      <a:pt x="417" y="519"/>
                    </a:lnTo>
                    <a:lnTo>
                      <a:pt x="421" y="512"/>
                    </a:lnTo>
                    <a:lnTo>
                      <a:pt x="425" y="505"/>
                    </a:lnTo>
                    <a:lnTo>
                      <a:pt x="428" y="494"/>
                    </a:lnTo>
                    <a:lnTo>
                      <a:pt x="435" y="483"/>
                    </a:lnTo>
                    <a:lnTo>
                      <a:pt x="443" y="476"/>
                    </a:lnTo>
                    <a:lnTo>
                      <a:pt x="450" y="472"/>
                    </a:lnTo>
                    <a:lnTo>
                      <a:pt x="457" y="468"/>
                    </a:lnTo>
                    <a:lnTo>
                      <a:pt x="464" y="465"/>
                    </a:lnTo>
                    <a:lnTo>
                      <a:pt x="472" y="461"/>
                    </a:lnTo>
                    <a:lnTo>
                      <a:pt x="479" y="457"/>
                    </a:lnTo>
                    <a:lnTo>
                      <a:pt x="486" y="457"/>
                    </a:lnTo>
                    <a:lnTo>
                      <a:pt x="490" y="457"/>
                    </a:lnTo>
                    <a:lnTo>
                      <a:pt x="497" y="461"/>
                    </a:lnTo>
                    <a:lnTo>
                      <a:pt x="504" y="461"/>
                    </a:lnTo>
                    <a:lnTo>
                      <a:pt x="519" y="468"/>
                    </a:lnTo>
                    <a:lnTo>
                      <a:pt x="530" y="472"/>
                    </a:lnTo>
                    <a:lnTo>
                      <a:pt x="544" y="479"/>
                    </a:lnTo>
                    <a:lnTo>
                      <a:pt x="555" y="486"/>
                    </a:lnTo>
                    <a:lnTo>
                      <a:pt x="566" y="494"/>
                    </a:lnTo>
                    <a:lnTo>
                      <a:pt x="580" y="497"/>
                    </a:lnTo>
                    <a:lnTo>
                      <a:pt x="588" y="497"/>
                    </a:lnTo>
                    <a:lnTo>
                      <a:pt x="591" y="501"/>
                    </a:lnTo>
                    <a:lnTo>
                      <a:pt x="599" y="501"/>
                    </a:lnTo>
                    <a:lnTo>
                      <a:pt x="606" y="497"/>
                    </a:lnTo>
                    <a:lnTo>
                      <a:pt x="609" y="497"/>
                    </a:lnTo>
                    <a:lnTo>
                      <a:pt x="617" y="494"/>
                    </a:lnTo>
                    <a:lnTo>
                      <a:pt x="624" y="490"/>
                    </a:lnTo>
                    <a:lnTo>
                      <a:pt x="628" y="486"/>
                    </a:lnTo>
                    <a:lnTo>
                      <a:pt x="631" y="483"/>
                    </a:lnTo>
                    <a:lnTo>
                      <a:pt x="635" y="479"/>
                    </a:lnTo>
                    <a:lnTo>
                      <a:pt x="635" y="476"/>
                    </a:lnTo>
                    <a:lnTo>
                      <a:pt x="638" y="468"/>
                    </a:lnTo>
                    <a:lnTo>
                      <a:pt x="642" y="454"/>
                    </a:lnTo>
                    <a:lnTo>
                      <a:pt x="642" y="439"/>
                    </a:lnTo>
                    <a:lnTo>
                      <a:pt x="642" y="421"/>
                    </a:lnTo>
                    <a:lnTo>
                      <a:pt x="638" y="399"/>
                    </a:lnTo>
                    <a:lnTo>
                      <a:pt x="638" y="381"/>
                    </a:lnTo>
                    <a:lnTo>
                      <a:pt x="635" y="360"/>
                    </a:lnTo>
                    <a:lnTo>
                      <a:pt x="631" y="316"/>
                    </a:lnTo>
                    <a:lnTo>
                      <a:pt x="628" y="280"/>
                    </a:lnTo>
                    <a:lnTo>
                      <a:pt x="628" y="265"/>
                    </a:lnTo>
                    <a:lnTo>
                      <a:pt x="628" y="251"/>
                    </a:lnTo>
                    <a:lnTo>
                      <a:pt x="628" y="240"/>
                    </a:lnTo>
                    <a:lnTo>
                      <a:pt x="628" y="233"/>
                    </a:lnTo>
                    <a:lnTo>
                      <a:pt x="617" y="240"/>
                    </a:lnTo>
                    <a:lnTo>
                      <a:pt x="602" y="247"/>
                    </a:lnTo>
                    <a:lnTo>
                      <a:pt x="588" y="251"/>
                    </a:lnTo>
                    <a:lnTo>
                      <a:pt x="570" y="254"/>
                    </a:lnTo>
                    <a:lnTo>
                      <a:pt x="551" y="258"/>
                    </a:lnTo>
                    <a:lnTo>
                      <a:pt x="533" y="258"/>
                    </a:lnTo>
                    <a:lnTo>
                      <a:pt x="515" y="258"/>
                    </a:lnTo>
                    <a:lnTo>
                      <a:pt x="497" y="258"/>
                    </a:lnTo>
                    <a:lnTo>
                      <a:pt x="479" y="258"/>
                    </a:lnTo>
                    <a:lnTo>
                      <a:pt x="457" y="258"/>
                    </a:lnTo>
                    <a:lnTo>
                      <a:pt x="443" y="254"/>
                    </a:lnTo>
                    <a:lnTo>
                      <a:pt x="425" y="251"/>
                    </a:lnTo>
                    <a:lnTo>
                      <a:pt x="410" y="247"/>
                    </a:lnTo>
                    <a:lnTo>
                      <a:pt x="399" y="243"/>
                    </a:lnTo>
                    <a:lnTo>
                      <a:pt x="388" y="236"/>
                    </a:lnTo>
                    <a:lnTo>
                      <a:pt x="377" y="233"/>
                    </a:lnTo>
                    <a:lnTo>
                      <a:pt x="370" y="225"/>
                    </a:lnTo>
                    <a:lnTo>
                      <a:pt x="367" y="222"/>
                    </a:lnTo>
                    <a:lnTo>
                      <a:pt x="363" y="218"/>
                    </a:lnTo>
                    <a:lnTo>
                      <a:pt x="359" y="211"/>
                    </a:lnTo>
                    <a:lnTo>
                      <a:pt x="359" y="207"/>
                    </a:lnTo>
                    <a:lnTo>
                      <a:pt x="359" y="200"/>
                    </a:lnTo>
                    <a:lnTo>
                      <a:pt x="359" y="196"/>
                    </a:lnTo>
                    <a:lnTo>
                      <a:pt x="359" y="189"/>
                    </a:lnTo>
                    <a:lnTo>
                      <a:pt x="363" y="185"/>
                    </a:lnTo>
                    <a:lnTo>
                      <a:pt x="367" y="178"/>
                    </a:lnTo>
                    <a:lnTo>
                      <a:pt x="370" y="171"/>
                    </a:lnTo>
                    <a:lnTo>
                      <a:pt x="377" y="167"/>
                    </a:lnTo>
                    <a:lnTo>
                      <a:pt x="388" y="153"/>
                    </a:lnTo>
                    <a:lnTo>
                      <a:pt x="403" y="138"/>
                    </a:lnTo>
                    <a:lnTo>
                      <a:pt x="410" y="127"/>
                    </a:lnTo>
                    <a:lnTo>
                      <a:pt x="414" y="117"/>
                    </a:lnTo>
                    <a:lnTo>
                      <a:pt x="417" y="106"/>
                    </a:lnTo>
                    <a:lnTo>
                      <a:pt x="421" y="98"/>
                    </a:lnTo>
                    <a:lnTo>
                      <a:pt x="421" y="84"/>
                    </a:lnTo>
                    <a:lnTo>
                      <a:pt x="421" y="73"/>
                    </a:lnTo>
                    <a:lnTo>
                      <a:pt x="417" y="62"/>
                    </a:lnTo>
                    <a:lnTo>
                      <a:pt x="414" y="51"/>
                    </a:lnTo>
                    <a:lnTo>
                      <a:pt x="406" y="40"/>
                    </a:lnTo>
                    <a:lnTo>
                      <a:pt x="399" y="33"/>
                    </a:lnTo>
                    <a:lnTo>
                      <a:pt x="392" y="22"/>
                    </a:lnTo>
                    <a:lnTo>
                      <a:pt x="381" y="15"/>
                    </a:lnTo>
                    <a:lnTo>
                      <a:pt x="370" y="11"/>
                    </a:lnTo>
                    <a:lnTo>
                      <a:pt x="359" y="4"/>
                    </a:lnTo>
                    <a:lnTo>
                      <a:pt x="345" y="0"/>
                    </a:lnTo>
                    <a:lnTo>
                      <a:pt x="330" y="0"/>
                    </a:lnTo>
                    <a:lnTo>
                      <a:pt x="316" y="0"/>
                    </a:lnTo>
                    <a:lnTo>
                      <a:pt x="305" y="4"/>
                    </a:lnTo>
                    <a:lnTo>
                      <a:pt x="294" y="11"/>
                    </a:lnTo>
                    <a:lnTo>
                      <a:pt x="279" y="15"/>
                    </a:lnTo>
                    <a:lnTo>
                      <a:pt x="269" y="22"/>
                    </a:lnTo>
                    <a:lnTo>
                      <a:pt x="258" y="33"/>
                    </a:lnTo>
                    <a:lnTo>
                      <a:pt x="250" y="40"/>
                    </a:lnTo>
                    <a:lnTo>
                      <a:pt x="243" y="51"/>
                    </a:lnTo>
                    <a:lnTo>
                      <a:pt x="240" y="62"/>
                    </a:lnTo>
                    <a:lnTo>
                      <a:pt x="236" y="73"/>
                    </a:lnTo>
                    <a:lnTo>
                      <a:pt x="232" y="84"/>
                    </a:lnTo>
                    <a:lnTo>
                      <a:pt x="232" y="98"/>
                    </a:lnTo>
                    <a:lnTo>
                      <a:pt x="232" y="109"/>
                    </a:lnTo>
                    <a:lnTo>
                      <a:pt x="236" y="120"/>
                    </a:lnTo>
                    <a:lnTo>
                      <a:pt x="240" y="124"/>
                    </a:lnTo>
                    <a:lnTo>
                      <a:pt x="243" y="131"/>
                    </a:lnTo>
                    <a:lnTo>
                      <a:pt x="247" y="135"/>
                    </a:lnTo>
                    <a:lnTo>
                      <a:pt x="250" y="138"/>
                    </a:lnTo>
                    <a:lnTo>
                      <a:pt x="258" y="149"/>
                    </a:lnTo>
                    <a:lnTo>
                      <a:pt x="265" y="156"/>
                    </a:lnTo>
                    <a:lnTo>
                      <a:pt x="272" y="167"/>
                    </a:lnTo>
                    <a:lnTo>
                      <a:pt x="276" y="175"/>
                    </a:lnTo>
                    <a:lnTo>
                      <a:pt x="279" y="185"/>
                    </a:lnTo>
                    <a:lnTo>
                      <a:pt x="283" y="193"/>
                    </a:lnTo>
                    <a:lnTo>
                      <a:pt x="283" y="200"/>
                    </a:lnTo>
                    <a:lnTo>
                      <a:pt x="283" y="204"/>
                    </a:lnTo>
                    <a:lnTo>
                      <a:pt x="283" y="211"/>
                    </a:lnTo>
                    <a:lnTo>
                      <a:pt x="279" y="218"/>
                    </a:lnTo>
                    <a:lnTo>
                      <a:pt x="276" y="222"/>
                    </a:lnTo>
                    <a:lnTo>
                      <a:pt x="272" y="225"/>
                    </a:lnTo>
                    <a:lnTo>
                      <a:pt x="269" y="229"/>
                    </a:lnTo>
                    <a:lnTo>
                      <a:pt x="261" y="233"/>
                    </a:lnTo>
                    <a:lnTo>
                      <a:pt x="254" y="233"/>
                    </a:lnTo>
                    <a:lnTo>
                      <a:pt x="243" y="233"/>
                    </a:lnTo>
                    <a:lnTo>
                      <a:pt x="211" y="233"/>
                    </a:lnTo>
                    <a:lnTo>
                      <a:pt x="174" y="236"/>
                    </a:lnTo>
                    <a:lnTo>
                      <a:pt x="142" y="236"/>
                    </a:lnTo>
                    <a:lnTo>
                      <a:pt x="109" y="240"/>
                    </a:lnTo>
                    <a:lnTo>
                      <a:pt x="76" y="240"/>
                    </a:lnTo>
                    <a:lnTo>
                      <a:pt x="51" y="240"/>
                    </a:lnTo>
                    <a:lnTo>
                      <a:pt x="37" y="240"/>
                    </a:lnTo>
                    <a:lnTo>
                      <a:pt x="26" y="240"/>
                    </a:lnTo>
                    <a:lnTo>
                      <a:pt x="18" y="236"/>
                    </a:lnTo>
                    <a:lnTo>
                      <a:pt x="11" y="233"/>
                    </a:lnTo>
                    <a:lnTo>
                      <a:pt x="11" y="262"/>
                    </a:lnTo>
                    <a:lnTo>
                      <a:pt x="11" y="301"/>
                    </a:lnTo>
                    <a:lnTo>
                      <a:pt x="11" y="341"/>
                    </a:lnTo>
                    <a:lnTo>
                      <a:pt x="11" y="385"/>
                    </a:lnTo>
                    <a:lnTo>
                      <a:pt x="11" y="425"/>
                    </a:lnTo>
                    <a:lnTo>
                      <a:pt x="11" y="461"/>
                    </a:lnTo>
                    <a:lnTo>
                      <a:pt x="11" y="490"/>
                    </a:lnTo>
                    <a:lnTo>
                      <a:pt x="11" y="505"/>
                    </a:lnTo>
                    <a:lnTo>
                      <a:pt x="11" y="512"/>
                    </a:lnTo>
                    <a:lnTo>
                      <a:pt x="15" y="516"/>
                    </a:lnTo>
                    <a:lnTo>
                      <a:pt x="15" y="523"/>
                    </a:lnTo>
                    <a:lnTo>
                      <a:pt x="22" y="526"/>
                    </a:lnTo>
                    <a:lnTo>
                      <a:pt x="26" y="534"/>
                    </a:lnTo>
                    <a:lnTo>
                      <a:pt x="33" y="537"/>
                    </a:lnTo>
                    <a:lnTo>
                      <a:pt x="40" y="541"/>
                    </a:lnTo>
                    <a:lnTo>
                      <a:pt x="47" y="541"/>
                    </a:lnTo>
                    <a:lnTo>
                      <a:pt x="55" y="545"/>
                    </a:lnTo>
                    <a:lnTo>
                      <a:pt x="66" y="545"/>
                    </a:lnTo>
                    <a:lnTo>
                      <a:pt x="73" y="545"/>
                    </a:lnTo>
                    <a:lnTo>
                      <a:pt x="80" y="545"/>
                    </a:lnTo>
                    <a:lnTo>
                      <a:pt x="91" y="541"/>
                    </a:lnTo>
                    <a:lnTo>
                      <a:pt x="98" y="537"/>
                    </a:lnTo>
                    <a:lnTo>
                      <a:pt x="105" y="530"/>
                    </a:lnTo>
                    <a:lnTo>
                      <a:pt x="113" y="523"/>
                    </a:lnTo>
                    <a:close/>
                  </a:path>
                </a:pathLst>
              </a:custGeom>
              <a:solidFill>
                <a:srgbClr val="ccffcc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597040" y="2684520"/>
                <a:ext cx="1290240" cy="2153880"/>
              </a:xfrm>
              <a:custGeom>
                <a:avLst/>
                <a:gdLst/>
                <a:ahLst/>
                <a:rect l="l" t="t" r="r" b="b"/>
                <a:pathLst>
                  <a:path w="656" h="1077">
                    <a:moveTo>
                      <a:pt x="123" y="526"/>
                    </a:moveTo>
                    <a:lnTo>
                      <a:pt x="127" y="526"/>
                    </a:lnTo>
                    <a:lnTo>
                      <a:pt x="127" y="526"/>
                    </a:lnTo>
                    <a:lnTo>
                      <a:pt x="130" y="519"/>
                    </a:lnTo>
                    <a:lnTo>
                      <a:pt x="123" y="515"/>
                    </a:lnTo>
                    <a:lnTo>
                      <a:pt x="123" y="522"/>
                    </a:lnTo>
                    <a:lnTo>
                      <a:pt x="127" y="522"/>
                    </a:lnTo>
                    <a:lnTo>
                      <a:pt x="130" y="522"/>
                    </a:lnTo>
                    <a:lnTo>
                      <a:pt x="130" y="519"/>
                    </a:lnTo>
                    <a:lnTo>
                      <a:pt x="134" y="515"/>
                    </a:lnTo>
                    <a:lnTo>
                      <a:pt x="130" y="511"/>
                    </a:lnTo>
                    <a:lnTo>
                      <a:pt x="134" y="519"/>
                    </a:lnTo>
                    <a:lnTo>
                      <a:pt x="145" y="515"/>
                    </a:lnTo>
                    <a:lnTo>
                      <a:pt x="156" y="511"/>
                    </a:lnTo>
                    <a:lnTo>
                      <a:pt x="152" y="504"/>
                    </a:lnTo>
                    <a:lnTo>
                      <a:pt x="152" y="511"/>
                    </a:lnTo>
                    <a:lnTo>
                      <a:pt x="163" y="511"/>
                    </a:lnTo>
                    <a:lnTo>
                      <a:pt x="177" y="511"/>
                    </a:lnTo>
                    <a:lnTo>
                      <a:pt x="177" y="504"/>
                    </a:lnTo>
                    <a:lnTo>
                      <a:pt x="177" y="511"/>
                    </a:lnTo>
                    <a:lnTo>
                      <a:pt x="188" y="515"/>
                    </a:lnTo>
                    <a:lnTo>
                      <a:pt x="199" y="519"/>
                    </a:lnTo>
                    <a:lnTo>
                      <a:pt x="210" y="526"/>
                    </a:lnTo>
                    <a:lnTo>
                      <a:pt x="221" y="533"/>
                    </a:lnTo>
                    <a:lnTo>
                      <a:pt x="232" y="540"/>
                    </a:lnTo>
                    <a:lnTo>
                      <a:pt x="232" y="533"/>
                    </a:lnTo>
                    <a:lnTo>
                      <a:pt x="228" y="537"/>
                    </a:lnTo>
                    <a:lnTo>
                      <a:pt x="235" y="548"/>
                    </a:lnTo>
                    <a:lnTo>
                      <a:pt x="239" y="544"/>
                    </a:lnTo>
                    <a:lnTo>
                      <a:pt x="235" y="544"/>
                    </a:lnTo>
                    <a:lnTo>
                      <a:pt x="235" y="551"/>
                    </a:lnTo>
                    <a:lnTo>
                      <a:pt x="235" y="555"/>
                    </a:lnTo>
                    <a:lnTo>
                      <a:pt x="235" y="555"/>
                    </a:lnTo>
                    <a:lnTo>
                      <a:pt x="239" y="558"/>
                    </a:lnTo>
                    <a:lnTo>
                      <a:pt x="243" y="555"/>
                    </a:lnTo>
                    <a:lnTo>
                      <a:pt x="239" y="558"/>
                    </a:lnTo>
                    <a:lnTo>
                      <a:pt x="243" y="566"/>
                    </a:lnTo>
                    <a:lnTo>
                      <a:pt x="243" y="566"/>
                    </a:lnTo>
                    <a:lnTo>
                      <a:pt x="243" y="566"/>
                    </a:lnTo>
                    <a:lnTo>
                      <a:pt x="246" y="569"/>
                    </a:lnTo>
                    <a:lnTo>
                      <a:pt x="250" y="566"/>
                    </a:lnTo>
                    <a:lnTo>
                      <a:pt x="246" y="566"/>
                    </a:lnTo>
                    <a:lnTo>
                      <a:pt x="246" y="573"/>
                    </a:lnTo>
                    <a:lnTo>
                      <a:pt x="246" y="580"/>
                    </a:lnTo>
                    <a:lnTo>
                      <a:pt x="246" y="587"/>
                    </a:lnTo>
                    <a:lnTo>
                      <a:pt x="246" y="595"/>
                    </a:lnTo>
                    <a:lnTo>
                      <a:pt x="250" y="595"/>
                    </a:lnTo>
                    <a:lnTo>
                      <a:pt x="246" y="595"/>
                    </a:lnTo>
                    <a:lnTo>
                      <a:pt x="243" y="606"/>
                    </a:lnTo>
                    <a:lnTo>
                      <a:pt x="239" y="620"/>
                    </a:lnTo>
                    <a:lnTo>
                      <a:pt x="243" y="620"/>
                    </a:lnTo>
                    <a:lnTo>
                      <a:pt x="239" y="616"/>
                    </a:lnTo>
                    <a:lnTo>
                      <a:pt x="232" y="624"/>
                    </a:lnTo>
                    <a:lnTo>
                      <a:pt x="232" y="627"/>
                    </a:lnTo>
                    <a:lnTo>
                      <a:pt x="232" y="627"/>
                    </a:lnTo>
                    <a:lnTo>
                      <a:pt x="224" y="638"/>
                    </a:lnTo>
                    <a:lnTo>
                      <a:pt x="228" y="638"/>
                    </a:lnTo>
                    <a:lnTo>
                      <a:pt x="224" y="635"/>
                    </a:lnTo>
                    <a:lnTo>
                      <a:pt x="217" y="642"/>
                    </a:lnTo>
                    <a:lnTo>
                      <a:pt x="210" y="649"/>
                    </a:lnTo>
                    <a:lnTo>
                      <a:pt x="214" y="653"/>
                    </a:lnTo>
                    <a:lnTo>
                      <a:pt x="214" y="649"/>
                    </a:lnTo>
                    <a:lnTo>
                      <a:pt x="203" y="653"/>
                    </a:lnTo>
                    <a:lnTo>
                      <a:pt x="192" y="656"/>
                    </a:lnTo>
                    <a:lnTo>
                      <a:pt x="185" y="660"/>
                    </a:lnTo>
                    <a:lnTo>
                      <a:pt x="185" y="664"/>
                    </a:lnTo>
                    <a:lnTo>
                      <a:pt x="185" y="660"/>
                    </a:lnTo>
                    <a:lnTo>
                      <a:pt x="174" y="660"/>
                    </a:lnTo>
                    <a:lnTo>
                      <a:pt x="163" y="660"/>
                    </a:lnTo>
                    <a:lnTo>
                      <a:pt x="163" y="664"/>
                    </a:lnTo>
                    <a:lnTo>
                      <a:pt x="166" y="660"/>
                    </a:lnTo>
                    <a:lnTo>
                      <a:pt x="156" y="656"/>
                    </a:lnTo>
                    <a:lnTo>
                      <a:pt x="145" y="653"/>
                    </a:lnTo>
                    <a:lnTo>
                      <a:pt x="137" y="649"/>
                    </a:lnTo>
                    <a:lnTo>
                      <a:pt x="130" y="645"/>
                    </a:lnTo>
                    <a:lnTo>
                      <a:pt x="127" y="649"/>
                    </a:lnTo>
                    <a:lnTo>
                      <a:pt x="130" y="645"/>
                    </a:lnTo>
                    <a:lnTo>
                      <a:pt x="123" y="638"/>
                    </a:lnTo>
                    <a:lnTo>
                      <a:pt x="116" y="631"/>
                    </a:lnTo>
                    <a:lnTo>
                      <a:pt x="108" y="624"/>
                    </a:lnTo>
                    <a:lnTo>
                      <a:pt x="108" y="624"/>
                    </a:lnTo>
                    <a:lnTo>
                      <a:pt x="108" y="624"/>
                    </a:lnTo>
                    <a:lnTo>
                      <a:pt x="101" y="620"/>
                    </a:lnTo>
                    <a:lnTo>
                      <a:pt x="90" y="616"/>
                    </a:lnTo>
                    <a:lnTo>
                      <a:pt x="83" y="613"/>
                    </a:lnTo>
                    <a:lnTo>
                      <a:pt x="76" y="609"/>
                    </a:lnTo>
                    <a:lnTo>
                      <a:pt x="69" y="606"/>
                    </a:lnTo>
                    <a:lnTo>
                      <a:pt x="69" y="606"/>
                    </a:lnTo>
                    <a:lnTo>
                      <a:pt x="65" y="606"/>
                    </a:lnTo>
                    <a:lnTo>
                      <a:pt x="58" y="606"/>
                    </a:lnTo>
                    <a:lnTo>
                      <a:pt x="50" y="606"/>
                    </a:lnTo>
                    <a:lnTo>
                      <a:pt x="43" y="606"/>
                    </a:lnTo>
                    <a:lnTo>
                      <a:pt x="43" y="606"/>
                    </a:lnTo>
                    <a:lnTo>
                      <a:pt x="43" y="606"/>
                    </a:lnTo>
                    <a:lnTo>
                      <a:pt x="36" y="609"/>
                    </a:lnTo>
                    <a:lnTo>
                      <a:pt x="29" y="613"/>
                    </a:lnTo>
                    <a:lnTo>
                      <a:pt x="21" y="616"/>
                    </a:lnTo>
                    <a:lnTo>
                      <a:pt x="18" y="616"/>
                    </a:lnTo>
                    <a:lnTo>
                      <a:pt x="18" y="620"/>
                    </a:lnTo>
                    <a:lnTo>
                      <a:pt x="14" y="627"/>
                    </a:lnTo>
                    <a:lnTo>
                      <a:pt x="11" y="635"/>
                    </a:lnTo>
                    <a:lnTo>
                      <a:pt x="11" y="635"/>
                    </a:lnTo>
                    <a:lnTo>
                      <a:pt x="11" y="635"/>
                    </a:lnTo>
                    <a:lnTo>
                      <a:pt x="11" y="645"/>
                    </a:lnTo>
                    <a:lnTo>
                      <a:pt x="7" y="667"/>
                    </a:lnTo>
                    <a:lnTo>
                      <a:pt x="3" y="693"/>
                    </a:lnTo>
                    <a:lnTo>
                      <a:pt x="0" y="718"/>
                    </a:lnTo>
                    <a:lnTo>
                      <a:pt x="0" y="743"/>
                    </a:lnTo>
                    <a:lnTo>
                      <a:pt x="0" y="772"/>
                    </a:lnTo>
                    <a:lnTo>
                      <a:pt x="0" y="798"/>
                    </a:lnTo>
                    <a:lnTo>
                      <a:pt x="0" y="798"/>
                    </a:lnTo>
                    <a:lnTo>
                      <a:pt x="0" y="801"/>
                    </a:lnTo>
                    <a:lnTo>
                      <a:pt x="3" y="812"/>
                    </a:lnTo>
                    <a:lnTo>
                      <a:pt x="7" y="809"/>
                    </a:lnTo>
                    <a:lnTo>
                      <a:pt x="3" y="809"/>
                    </a:lnTo>
                    <a:lnTo>
                      <a:pt x="3" y="820"/>
                    </a:lnTo>
                    <a:lnTo>
                      <a:pt x="3" y="820"/>
                    </a:lnTo>
                    <a:lnTo>
                      <a:pt x="3" y="823"/>
                    </a:lnTo>
                    <a:lnTo>
                      <a:pt x="7" y="834"/>
                    </a:lnTo>
                    <a:lnTo>
                      <a:pt x="11" y="841"/>
                    </a:lnTo>
                    <a:lnTo>
                      <a:pt x="11" y="845"/>
                    </a:lnTo>
                    <a:lnTo>
                      <a:pt x="14" y="845"/>
                    </a:lnTo>
                    <a:lnTo>
                      <a:pt x="32" y="841"/>
                    </a:lnTo>
                    <a:lnTo>
                      <a:pt x="58" y="838"/>
                    </a:lnTo>
                    <a:lnTo>
                      <a:pt x="87" y="834"/>
                    </a:lnTo>
                    <a:lnTo>
                      <a:pt x="119" y="834"/>
                    </a:lnTo>
                    <a:lnTo>
                      <a:pt x="152" y="830"/>
                    </a:lnTo>
                    <a:lnTo>
                      <a:pt x="177" y="830"/>
                    </a:lnTo>
                    <a:lnTo>
                      <a:pt x="203" y="834"/>
                    </a:lnTo>
                    <a:lnTo>
                      <a:pt x="221" y="834"/>
                    </a:lnTo>
                    <a:lnTo>
                      <a:pt x="239" y="838"/>
                    </a:lnTo>
                    <a:lnTo>
                      <a:pt x="253" y="841"/>
                    </a:lnTo>
                    <a:lnTo>
                      <a:pt x="253" y="834"/>
                    </a:lnTo>
                    <a:lnTo>
                      <a:pt x="253" y="841"/>
                    </a:lnTo>
                    <a:lnTo>
                      <a:pt x="268" y="849"/>
                    </a:lnTo>
                    <a:lnTo>
                      <a:pt x="279" y="856"/>
                    </a:lnTo>
                    <a:lnTo>
                      <a:pt x="286" y="859"/>
                    </a:lnTo>
                    <a:lnTo>
                      <a:pt x="286" y="852"/>
                    </a:lnTo>
                    <a:lnTo>
                      <a:pt x="282" y="856"/>
                    </a:lnTo>
                    <a:lnTo>
                      <a:pt x="290" y="863"/>
                    </a:lnTo>
                    <a:lnTo>
                      <a:pt x="297" y="870"/>
                    </a:lnTo>
                    <a:lnTo>
                      <a:pt x="301" y="867"/>
                    </a:lnTo>
                    <a:lnTo>
                      <a:pt x="297" y="870"/>
                    </a:lnTo>
                    <a:lnTo>
                      <a:pt x="301" y="878"/>
                    </a:lnTo>
                    <a:lnTo>
                      <a:pt x="304" y="874"/>
                    </a:lnTo>
                    <a:lnTo>
                      <a:pt x="301" y="874"/>
                    </a:lnTo>
                    <a:lnTo>
                      <a:pt x="301" y="881"/>
                    </a:lnTo>
                    <a:lnTo>
                      <a:pt x="301" y="888"/>
                    </a:lnTo>
                    <a:lnTo>
                      <a:pt x="301" y="896"/>
                    </a:lnTo>
                    <a:lnTo>
                      <a:pt x="301" y="903"/>
                    </a:lnTo>
                    <a:lnTo>
                      <a:pt x="304" y="903"/>
                    </a:lnTo>
                    <a:lnTo>
                      <a:pt x="301" y="903"/>
                    </a:lnTo>
                    <a:lnTo>
                      <a:pt x="297" y="910"/>
                    </a:lnTo>
                    <a:lnTo>
                      <a:pt x="293" y="918"/>
                    </a:lnTo>
                    <a:lnTo>
                      <a:pt x="297" y="918"/>
                    </a:lnTo>
                    <a:lnTo>
                      <a:pt x="293" y="914"/>
                    </a:lnTo>
                    <a:lnTo>
                      <a:pt x="286" y="921"/>
                    </a:lnTo>
                    <a:lnTo>
                      <a:pt x="290" y="925"/>
                    </a:lnTo>
                    <a:lnTo>
                      <a:pt x="290" y="921"/>
                    </a:lnTo>
                    <a:lnTo>
                      <a:pt x="282" y="925"/>
                    </a:lnTo>
                    <a:lnTo>
                      <a:pt x="279" y="925"/>
                    </a:lnTo>
                    <a:lnTo>
                      <a:pt x="279" y="928"/>
                    </a:lnTo>
                    <a:lnTo>
                      <a:pt x="272" y="939"/>
                    </a:lnTo>
                    <a:lnTo>
                      <a:pt x="268" y="947"/>
                    </a:lnTo>
                    <a:lnTo>
                      <a:pt x="264" y="957"/>
                    </a:lnTo>
                    <a:lnTo>
                      <a:pt x="261" y="968"/>
                    </a:lnTo>
                    <a:lnTo>
                      <a:pt x="261" y="968"/>
                    </a:lnTo>
                    <a:lnTo>
                      <a:pt x="261" y="968"/>
                    </a:lnTo>
                    <a:lnTo>
                      <a:pt x="261" y="979"/>
                    </a:lnTo>
                    <a:lnTo>
                      <a:pt x="261" y="994"/>
                    </a:lnTo>
                    <a:lnTo>
                      <a:pt x="261" y="1005"/>
                    </a:lnTo>
                    <a:lnTo>
                      <a:pt x="261" y="1005"/>
                    </a:lnTo>
                    <a:lnTo>
                      <a:pt x="261" y="1008"/>
                    </a:lnTo>
                    <a:lnTo>
                      <a:pt x="264" y="1019"/>
                    </a:lnTo>
                    <a:lnTo>
                      <a:pt x="272" y="1030"/>
                    </a:lnTo>
                    <a:lnTo>
                      <a:pt x="279" y="1041"/>
                    </a:lnTo>
                    <a:lnTo>
                      <a:pt x="279" y="1041"/>
                    </a:lnTo>
                    <a:lnTo>
                      <a:pt x="279" y="1041"/>
                    </a:lnTo>
                    <a:lnTo>
                      <a:pt x="286" y="1048"/>
                    </a:lnTo>
                    <a:lnTo>
                      <a:pt x="290" y="1044"/>
                    </a:lnTo>
                    <a:lnTo>
                      <a:pt x="286" y="1048"/>
                    </a:lnTo>
                    <a:lnTo>
                      <a:pt x="293" y="1059"/>
                    </a:lnTo>
                    <a:lnTo>
                      <a:pt x="293" y="1059"/>
                    </a:lnTo>
                    <a:lnTo>
                      <a:pt x="297" y="1063"/>
                    </a:lnTo>
                    <a:lnTo>
                      <a:pt x="304" y="1066"/>
                    </a:lnTo>
                    <a:lnTo>
                      <a:pt x="311" y="1070"/>
                    </a:lnTo>
                    <a:lnTo>
                      <a:pt x="311" y="1070"/>
                    </a:lnTo>
                    <a:lnTo>
                      <a:pt x="311" y="1070"/>
                    </a:lnTo>
                    <a:lnTo>
                      <a:pt x="315" y="1070"/>
                    </a:lnTo>
                    <a:lnTo>
                      <a:pt x="315" y="1063"/>
                    </a:lnTo>
                    <a:lnTo>
                      <a:pt x="315" y="1070"/>
                    </a:lnTo>
                    <a:lnTo>
                      <a:pt x="322" y="1073"/>
                    </a:lnTo>
                    <a:lnTo>
                      <a:pt x="330" y="1077"/>
                    </a:lnTo>
                    <a:lnTo>
                      <a:pt x="330" y="1077"/>
                    </a:lnTo>
                    <a:lnTo>
                      <a:pt x="330" y="1077"/>
                    </a:lnTo>
                    <a:lnTo>
                      <a:pt x="337" y="1077"/>
                    </a:lnTo>
                    <a:lnTo>
                      <a:pt x="344" y="1077"/>
                    </a:lnTo>
                    <a:lnTo>
                      <a:pt x="351" y="1077"/>
                    </a:lnTo>
                    <a:lnTo>
                      <a:pt x="370" y="1077"/>
                    </a:lnTo>
                    <a:lnTo>
                      <a:pt x="384" y="1073"/>
                    </a:lnTo>
                    <a:lnTo>
                      <a:pt x="388" y="1070"/>
                    </a:lnTo>
                    <a:lnTo>
                      <a:pt x="388" y="1073"/>
                    </a:lnTo>
                    <a:lnTo>
                      <a:pt x="399" y="1066"/>
                    </a:lnTo>
                    <a:lnTo>
                      <a:pt x="409" y="1063"/>
                    </a:lnTo>
                    <a:lnTo>
                      <a:pt x="409" y="1063"/>
                    </a:lnTo>
                    <a:lnTo>
                      <a:pt x="409" y="1059"/>
                    </a:lnTo>
                    <a:lnTo>
                      <a:pt x="420" y="1048"/>
                    </a:lnTo>
                    <a:lnTo>
                      <a:pt x="417" y="1044"/>
                    </a:lnTo>
                    <a:lnTo>
                      <a:pt x="420" y="1052"/>
                    </a:lnTo>
                    <a:lnTo>
                      <a:pt x="431" y="1044"/>
                    </a:lnTo>
                    <a:lnTo>
                      <a:pt x="431" y="1044"/>
                    </a:lnTo>
                    <a:lnTo>
                      <a:pt x="431" y="1041"/>
                    </a:lnTo>
                    <a:lnTo>
                      <a:pt x="438" y="1034"/>
                    </a:lnTo>
                    <a:lnTo>
                      <a:pt x="442" y="1034"/>
                    </a:lnTo>
                    <a:lnTo>
                      <a:pt x="442" y="1034"/>
                    </a:lnTo>
                    <a:lnTo>
                      <a:pt x="446" y="1023"/>
                    </a:lnTo>
                    <a:lnTo>
                      <a:pt x="449" y="1012"/>
                    </a:lnTo>
                    <a:lnTo>
                      <a:pt x="449" y="1012"/>
                    </a:lnTo>
                    <a:lnTo>
                      <a:pt x="449" y="1008"/>
                    </a:lnTo>
                    <a:lnTo>
                      <a:pt x="449" y="997"/>
                    </a:lnTo>
                    <a:lnTo>
                      <a:pt x="442" y="997"/>
                    </a:lnTo>
                    <a:lnTo>
                      <a:pt x="449" y="1001"/>
                    </a:lnTo>
                    <a:lnTo>
                      <a:pt x="453" y="990"/>
                    </a:lnTo>
                    <a:lnTo>
                      <a:pt x="453" y="986"/>
                    </a:lnTo>
                    <a:lnTo>
                      <a:pt x="453" y="986"/>
                    </a:lnTo>
                    <a:lnTo>
                      <a:pt x="449" y="976"/>
                    </a:lnTo>
                    <a:lnTo>
                      <a:pt x="446" y="965"/>
                    </a:lnTo>
                    <a:lnTo>
                      <a:pt x="442" y="954"/>
                    </a:lnTo>
                    <a:lnTo>
                      <a:pt x="435" y="943"/>
                    </a:lnTo>
                    <a:lnTo>
                      <a:pt x="431" y="939"/>
                    </a:lnTo>
                    <a:lnTo>
                      <a:pt x="431" y="939"/>
                    </a:lnTo>
                    <a:lnTo>
                      <a:pt x="420" y="932"/>
                    </a:lnTo>
                    <a:lnTo>
                      <a:pt x="417" y="936"/>
                    </a:lnTo>
                    <a:lnTo>
                      <a:pt x="424" y="936"/>
                    </a:lnTo>
                    <a:lnTo>
                      <a:pt x="417" y="925"/>
                    </a:lnTo>
                    <a:lnTo>
                      <a:pt x="413" y="918"/>
                    </a:lnTo>
                    <a:lnTo>
                      <a:pt x="406" y="907"/>
                    </a:lnTo>
                    <a:lnTo>
                      <a:pt x="402" y="896"/>
                    </a:lnTo>
                    <a:lnTo>
                      <a:pt x="395" y="896"/>
                    </a:lnTo>
                    <a:lnTo>
                      <a:pt x="402" y="896"/>
                    </a:lnTo>
                    <a:lnTo>
                      <a:pt x="402" y="885"/>
                    </a:lnTo>
                    <a:lnTo>
                      <a:pt x="402" y="874"/>
                    </a:lnTo>
                    <a:lnTo>
                      <a:pt x="402" y="867"/>
                    </a:lnTo>
                    <a:lnTo>
                      <a:pt x="402" y="856"/>
                    </a:lnTo>
                    <a:lnTo>
                      <a:pt x="395" y="856"/>
                    </a:lnTo>
                    <a:lnTo>
                      <a:pt x="402" y="859"/>
                    </a:lnTo>
                    <a:lnTo>
                      <a:pt x="406" y="852"/>
                    </a:lnTo>
                    <a:lnTo>
                      <a:pt x="409" y="841"/>
                    </a:lnTo>
                    <a:lnTo>
                      <a:pt x="413" y="834"/>
                    </a:lnTo>
                    <a:lnTo>
                      <a:pt x="406" y="830"/>
                    </a:lnTo>
                    <a:lnTo>
                      <a:pt x="409" y="838"/>
                    </a:lnTo>
                    <a:lnTo>
                      <a:pt x="417" y="834"/>
                    </a:lnTo>
                    <a:lnTo>
                      <a:pt x="417" y="830"/>
                    </a:lnTo>
                    <a:lnTo>
                      <a:pt x="420" y="830"/>
                    </a:lnTo>
                    <a:lnTo>
                      <a:pt x="424" y="823"/>
                    </a:lnTo>
                    <a:lnTo>
                      <a:pt x="417" y="820"/>
                    </a:lnTo>
                    <a:lnTo>
                      <a:pt x="420" y="827"/>
                    </a:lnTo>
                    <a:lnTo>
                      <a:pt x="428" y="823"/>
                    </a:lnTo>
                    <a:lnTo>
                      <a:pt x="435" y="820"/>
                    </a:lnTo>
                    <a:lnTo>
                      <a:pt x="431" y="812"/>
                    </a:lnTo>
                    <a:lnTo>
                      <a:pt x="431" y="820"/>
                    </a:lnTo>
                    <a:lnTo>
                      <a:pt x="435" y="820"/>
                    </a:lnTo>
                    <a:lnTo>
                      <a:pt x="446" y="820"/>
                    </a:lnTo>
                    <a:lnTo>
                      <a:pt x="464" y="823"/>
                    </a:lnTo>
                    <a:lnTo>
                      <a:pt x="482" y="823"/>
                    </a:lnTo>
                    <a:lnTo>
                      <a:pt x="507" y="827"/>
                    </a:lnTo>
                    <a:lnTo>
                      <a:pt x="536" y="830"/>
                    </a:lnTo>
                    <a:lnTo>
                      <a:pt x="565" y="830"/>
                    </a:lnTo>
                    <a:lnTo>
                      <a:pt x="594" y="834"/>
                    </a:lnTo>
                    <a:lnTo>
                      <a:pt x="627" y="834"/>
                    </a:lnTo>
                    <a:lnTo>
                      <a:pt x="631" y="834"/>
                    </a:lnTo>
                    <a:lnTo>
                      <a:pt x="634" y="830"/>
                    </a:lnTo>
                    <a:lnTo>
                      <a:pt x="641" y="820"/>
                    </a:lnTo>
                    <a:lnTo>
                      <a:pt x="645" y="805"/>
                    </a:lnTo>
                    <a:lnTo>
                      <a:pt x="649" y="791"/>
                    </a:lnTo>
                    <a:lnTo>
                      <a:pt x="652" y="776"/>
                    </a:lnTo>
                    <a:lnTo>
                      <a:pt x="656" y="762"/>
                    </a:lnTo>
                    <a:lnTo>
                      <a:pt x="656" y="762"/>
                    </a:lnTo>
                    <a:lnTo>
                      <a:pt x="656" y="758"/>
                    </a:lnTo>
                    <a:lnTo>
                      <a:pt x="656" y="743"/>
                    </a:lnTo>
                    <a:lnTo>
                      <a:pt x="656" y="729"/>
                    </a:lnTo>
                    <a:lnTo>
                      <a:pt x="656" y="714"/>
                    </a:lnTo>
                    <a:lnTo>
                      <a:pt x="656" y="700"/>
                    </a:lnTo>
                    <a:lnTo>
                      <a:pt x="656" y="685"/>
                    </a:lnTo>
                    <a:lnTo>
                      <a:pt x="656" y="685"/>
                    </a:lnTo>
                    <a:lnTo>
                      <a:pt x="656" y="685"/>
                    </a:lnTo>
                    <a:lnTo>
                      <a:pt x="652" y="671"/>
                    </a:lnTo>
                    <a:lnTo>
                      <a:pt x="645" y="671"/>
                    </a:lnTo>
                    <a:lnTo>
                      <a:pt x="652" y="671"/>
                    </a:lnTo>
                    <a:lnTo>
                      <a:pt x="652" y="656"/>
                    </a:lnTo>
                    <a:lnTo>
                      <a:pt x="652" y="656"/>
                    </a:lnTo>
                    <a:lnTo>
                      <a:pt x="652" y="656"/>
                    </a:lnTo>
                    <a:lnTo>
                      <a:pt x="649" y="645"/>
                    </a:lnTo>
                    <a:lnTo>
                      <a:pt x="645" y="635"/>
                    </a:lnTo>
                    <a:lnTo>
                      <a:pt x="641" y="624"/>
                    </a:lnTo>
                    <a:lnTo>
                      <a:pt x="638" y="616"/>
                    </a:lnTo>
                    <a:lnTo>
                      <a:pt x="634" y="606"/>
                    </a:lnTo>
                    <a:lnTo>
                      <a:pt x="634" y="606"/>
                    </a:lnTo>
                    <a:lnTo>
                      <a:pt x="631" y="602"/>
                    </a:lnTo>
                    <a:lnTo>
                      <a:pt x="627" y="598"/>
                    </a:lnTo>
                    <a:lnTo>
                      <a:pt x="623" y="602"/>
                    </a:lnTo>
                    <a:lnTo>
                      <a:pt x="631" y="602"/>
                    </a:lnTo>
                    <a:lnTo>
                      <a:pt x="627" y="595"/>
                    </a:lnTo>
                    <a:lnTo>
                      <a:pt x="627" y="595"/>
                    </a:lnTo>
                    <a:lnTo>
                      <a:pt x="623" y="591"/>
                    </a:lnTo>
                    <a:lnTo>
                      <a:pt x="620" y="587"/>
                    </a:lnTo>
                    <a:lnTo>
                      <a:pt x="620" y="587"/>
                    </a:lnTo>
                    <a:lnTo>
                      <a:pt x="620" y="587"/>
                    </a:lnTo>
                    <a:lnTo>
                      <a:pt x="612" y="584"/>
                    </a:lnTo>
                    <a:lnTo>
                      <a:pt x="612" y="584"/>
                    </a:lnTo>
                    <a:lnTo>
                      <a:pt x="609" y="584"/>
                    </a:lnTo>
                    <a:lnTo>
                      <a:pt x="605" y="584"/>
                    </a:lnTo>
                    <a:lnTo>
                      <a:pt x="605" y="587"/>
                    </a:lnTo>
                    <a:lnTo>
                      <a:pt x="609" y="584"/>
                    </a:lnTo>
                    <a:lnTo>
                      <a:pt x="605" y="580"/>
                    </a:lnTo>
                    <a:lnTo>
                      <a:pt x="605" y="580"/>
                    </a:lnTo>
                    <a:lnTo>
                      <a:pt x="602" y="580"/>
                    </a:lnTo>
                    <a:lnTo>
                      <a:pt x="594" y="580"/>
                    </a:lnTo>
                    <a:lnTo>
                      <a:pt x="583" y="580"/>
                    </a:lnTo>
                    <a:lnTo>
                      <a:pt x="569" y="584"/>
                    </a:lnTo>
                    <a:lnTo>
                      <a:pt x="554" y="587"/>
                    </a:lnTo>
                    <a:lnTo>
                      <a:pt x="551" y="587"/>
                    </a:lnTo>
                    <a:lnTo>
                      <a:pt x="554" y="587"/>
                    </a:lnTo>
                    <a:lnTo>
                      <a:pt x="540" y="595"/>
                    </a:lnTo>
                    <a:lnTo>
                      <a:pt x="529" y="598"/>
                    </a:lnTo>
                    <a:lnTo>
                      <a:pt x="529" y="602"/>
                    </a:lnTo>
                    <a:lnTo>
                      <a:pt x="529" y="598"/>
                    </a:lnTo>
                    <a:lnTo>
                      <a:pt x="522" y="598"/>
                    </a:lnTo>
                    <a:lnTo>
                      <a:pt x="522" y="598"/>
                    </a:lnTo>
                    <a:lnTo>
                      <a:pt x="522" y="598"/>
                    </a:lnTo>
                    <a:lnTo>
                      <a:pt x="511" y="602"/>
                    </a:lnTo>
                    <a:lnTo>
                      <a:pt x="511" y="606"/>
                    </a:lnTo>
                    <a:lnTo>
                      <a:pt x="511" y="602"/>
                    </a:lnTo>
                    <a:lnTo>
                      <a:pt x="504" y="602"/>
                    </a:lnTo>
                    <a:lnTo>
                      <a:pt x="493" y="602"/>
                    </a:lnTo>
                    <a:lnTo>
                      <a:pt x="486" y="602"/>
                    </a:lnTo>
                    <a:lnTo>
                      <a:pt x="482" y="602"/>
                    </a:lnTo>
                    <a:lnTo>
                      <a:pt x="482" y="606"/>
                    </a:lnTo>
                    <a:lnTo>
                      <a:pt x="486" y="602"/>
                    </a:lnTo>
                    <a:lnTo>
                      <a:pt x="475" y="598"/>
                    </a:lnTo>
                    <a:lnTo>
                      <a:pt x="475" y="598"/>
                    </a:lnTo>
                    <a:lnTo>
                      <a:pt x="471" y="598"/>
                    </a:lnTo>
                    <a:lnTo>
                      <a:pt x="467" y="598"/>
                    </a:lnTo>
                    <a:lnTo>
                      <a:pt x="467" y="602"/>
                    </a:lnTo>
                    <a:lnTo>
                      <a:pt x="471" y="598"/>
                    </a:lnTo>
                    <a:lnTo>
                      <a:pt x="464" y="595"/>
                    </a:lnTo>
                    <a:lnTo>
                      <a:pt x="464" y="595"/>
                    </a:lnTo>
                    <a:lnTo>
                      <a:pt x="460" y="595"/>
                    </a:lnTo>
                    <a:lnTo>
                      <a:pt x="457" y="595"/>
                    </a:lnTo>
                    <a:lnTo>
                      <a:pt x="457" y="598"/>
                    </a:lnTo>
                    <a:lnTo>
                      <a:pt x="460" y="595"/>
                    </a:lnTo>
                    <a:lnTo>
                      <a:pt x="453" y="591"/>
                    </a:lnTo>
                    <a:lnTo>
                      <a:pt x="449" y="595"/>
                    </a:lnTo>
                    <a:lnTo>
                      <a:pt x="453" y="591"/>
                    </a:lnTo>
                    <a:lnTo>
                      <a:pt x="446" y="584"/>
                    </a:lnTo>
                    <a:lnTo>
                      <a:pt x="442" y="587"/>
                    </a:lnTo>
                    <a:lnTo>
                      <a:pt x="449" y="587"/>
                    </a:lnTo>
                    <a:lnTo>
                      <a:pt x="442" y="577"/>
                    </a:lnTo>
                    <a:lnTo>
                      <a:pt x="442" y="577"/>
                    </a:lnTo>
                    <a:lnTo>
                      <a:pt x="438" y="573"/>
                    </a:lnTo>
                    <a:lnTo>
                      <a:pt x="431" y="566"/>
                    </a:lnTo>
                    <a:lnTo>
                      <a:pt x="428" y="569"/>
                    </a:lnTo>
                    <a:lnTo>
                      <a:pt x="435" y="569"/>
                    </a:lnTo>
                    <a:lnTo>
                      <a:pt x="431" y="558"/>
                    </a:lnTo>
                    <a:lnTo>
                      <a:pt x="428" y="548"/>
                    </a:lnTo>
                    <a:lnTo>
                      <a:pt x="420" y="548"/>
                    </a:lnTo>
                    <a:lnTo>
                      <a:pt x="428" y="548"/>
                    </a:lnTo>
                    <a:lnTo>
                      <a:pt x="428" y="540"/>
                    </a:lnTo>
                    <a:lnTo>
                      <a:pt x="428" y="529"/>
                    </a:lnTo>
                    <a:lnTo>
                      <a:pt x="428" y="522"/>
                    </a:lnTo>
                    <a:lnTo>
                      <a:pt x="420" y="522"/>
                    </a:lnTo>
                    <a:lnTo>
                      <a:pt x="428" y="526"/>
                    </a:lnTo>
                    <a:lnTo>
                      <a:pt x="431" y="519"/>
                    </a:lnTo>
                    <a:lnTo>
                      <a:pt x="435" y="511"/>
                    </a:lnTo>
                    <a:lnTo>
                      <a:pt x="438" y="500"/>
                    </a:lnTo>
                    <a:lnTo>
                      <a:pt x="446" y="489"/>
                    </a:lnTo>
                    <a:lnTo>
                      <a:pt x="438" y="486"/>
                    </a:lnTo>
                    <a:lnTo>
                      <a:pt x="442" y="489"/>
                    </a:lnTo>
                    <a:lnTo>
                      <a:pt x="449" y="482"/>
                    </a:lnTo>
                    <a:lnTo>
                      <a:pt x="446" y="479"/>
                    </a:lnTo>
                    <a:lnTo>
                      <a:pt x="449" y="486"/>
                    </a:lnTo>
                    <a:lnTo>
                      <a:pt x="457" y="482"/>
                    </a:lnTo>
                    <a:lnTo>
                      <a:pt x="464" y="479"/>
                    </a:lnTo>
                    <a:lnTo>
                      <a:pt x="471" y="475"/>
                    </a:lnTo>
                    <a:lnTo>
                      <a:pt x="478" y="471"/>
                    </a:lnTo>
                    <a:lnTo>
                      <a:pt x="486" y="468"/>
                    </a:lnTo>
                    <a:lnTo>
                      <a:pt x="482" y="460"/>
                    </a:lnTo>
                    <a:lnTo>
                      <a:pt x="482" y="468"/>
                    </a:lnTo>
                    <a:lnTo>
                      <a:pt x="489" y="468"/>
                    </a:lnTo>
                    <a:lnTo>
                      <a:pt x="493" y="468"/>
                    </a:lnTo>
                    <a:lnTo>
                      <a:pt x="493" y="460"/>
                    </a:lnTo>
                    <a:lnTo>
                      <a:pt x="493" y="468"/>
                    </a:lnTo>
                    <a:lnTo>
                      <a:pt x="500" y="471"/>
                    </a:lnTo>
                    <a:lnTo>
                      <a:pt x="500" y="471"/>
                    </a:lnTo>
                    <a:lnTo>
                      <a:pt x="500" y="471"/>
                    </a:lnTo>
                    <a:lnTo>
                      <a:pt x="507" y="471"/>
                    </a:lnTo>
                    <a:lnTo>
                      <a:pt x="507" y="464"/>
                    </a:lnTo>
                    <a:lnTo>
                      <a:pt x="507" y="471"/>
                    </a:lnTo>
                    <a:lnTo>
                      <a:pt x="522" y="479"/>
                    </a:lnTo>
                    <a:lnTo>
                      <a:pt x="533" y="482"/>
                    </a:lnTo>
                    <a:lnTo>
                      <a:pt x="547" y="489"/>
                    </a:lnTo>
                    <a:lnTo>
                      <a:pt x="558" y="497"/>
                    </a:lnTo>
                    <a:lnTo>
                      <a:pt x="569" y="504"/>
                    </a:lnTo>
                    <a:lnTo>
                      <a:pt x="565" y="500"/>
                    </a:lnTo>
                    <a:lnTo>
                      <a:pt x="569" y="504"/>
                    </a:lnTo>
                    <a:lnTo>
                      <a:pt x="583" y="508"/>
                    </a:lnTo>
                    <a:lnTo>
                      <a:pt x="591" y="508"/>
                    </a:lnTo>
                    <a:lnTo>
                      <a:pt x="591" y="500"/>
                    </a:lnTo>
                    <a:lnTo>
                      <a:pt x="587" y="504"/>
                    </a:lnTo>
                    <a:lnTo>
                      <a:pt x="591" y="508"/>
                    </a:lnTo>
                    <a:lnTo>
                      <a:pt x="594" y="511"/>
                    </a:lnTo>
                    <a:lnTo>
                      <a:pt x="594" y="511"/>
                    </a:lnTo>
                    <a:lnTo>
                      <a:pt x="602" y="511"/>
                    </a:lnTo>
                    <a:lnTo>
                      <a:pt x="605" y="511"/>
                    </a:lnTo>
                    <a:lnTo>
                      <a:pt x="605" y="511"/>
                    </a:lnTo>
                    <a:lnTo>
                      <a:pt x="612" y="508"/>
                    </a:lnTo>
                    <a:lnTo>
                      <a:pt x="609" y="500"/>
                    </a:lnTo>
                    <a:lnTo>
                      <a:pt x="609" y="508"/>
                    </a:lnTo>
                    <a:lnTo>
                      <a:pt x="612" y="508"/>
                    </a:lnTo>
                    <a:lnTo>
                      <a:pt x="616" y="508"/>
                    </a:lnTo>
                    <a:lnTo>
                      <a:pt x="616" y="508"/>
                    </a:lnTo>
                    <a:lnTo>
                      <a:pt x="623" y="504"/>
                    </a:lnTo>
                    <a:lnTo>
                      <a:pt x="631" y="500"/>
                    </a:lnTo>
                    <a:lnTo>
                      <a:pt x="631" y="500"/>
                    </a:lnTo>
                    <a:lnTo>
                      <a:pt x="631" y="497"/>
                    </a:lnTo>
                    <a:lnTo>
                      <a:pt x="634" y="493"/>
                    </a:lnTo>
                    <a:lnTo>
                      <a:pt x="638" y="489"/>
                    </a:lnTo>
                    <a:lnTo>
                      <a:pt x="641" y="486"/>
                    </a:lnTo>
                    <a:lnTo>
                      <a:pt x="645" y="486"/>
                    </a:lnTo>
                    <a:lnTo>
                      <a:pt x="645" y="482"/>
                    </a:lnTo>
                    <a:lnTo>
                      <a:pt x="645" y="479"/>
                    </a:lnTo>
                    <a:lnTo>
                      <a:pt x="638" y="479"/>
                    </a:lnTo>
                    <a:lnTo>
                      <a:pt x="645" y="482"/>
                    </a:lnTo>
                    <a:lnTo>
                      <a:pt x="649" y="475"/>
                    </a:lnTo>
                    <a:lnTo>
                      <a:pt x="652" y="460"/>
                    </a:lnTo>
                    <a:lnTo>
                      <a:pt x="652" y="460"/>
                    </a:lnTo>
                    <a:lnTo>
                      <a:pt x="652" y="457"/>
                    </a:lnTo>
                    <a:lnTo>
                      <a:pt x="652" y="442"/>
                    </a:lnTo>
                    <a:lnTo>
                      <a:pt x="652" y="424"/>
                    </a:lnTo>
                    <a:lnTo>
                      <a:pt x="649" y="402"/>
                    </a:lnTo>
                    <a:lnTo>
                      <a:pt x="649" y="384"/>
                    </a:lnTo>
                    <a:lnTo>
                      <a:pt x="645" y="363"/>
                    </a:lnTo>
                    <a:lnTo>
                      <a:pt x="641" y="319"/>
                    </a:lnTo>
                    <a:lnTo>
                      <a:pt x="638" y="283"/>
                    </a:lnTo>
                    <a:lnTo>
                      <a:pt x="638" y="268"/>
                    </a:lnTo>
                    <a:lnTo>
                      <a:pt x="638" y="254"/>
                    </a:lnTo>
                    <a:lnTo>
                      <a:pt x="638" y="243"/>
                    </a:lnTo>
                    <a:lnTo>
                      <a:pt x="638" y="236"/>
                    </a:lnTo>
                    <a:lnTo>
                      <a:pt x="638" y="225"/>
                    </a:lnTo>
                    <a:lnTo>
                      <a:pt x="631" y="232"/>
                    </a:lnTo>
                    <a:lnTo>
                      <a:pt x="620" y="239"/>
                    </a:lnTo>
                    <a:lnTo>
                      <a:pt x="605" y="246"/>
                    </a:lnTo>
                    <a:lnTo>
                      <a:pt x="605" y="250"/>
                    </a:lnTo>
                    <a:lnTo>
                      <a:pt x="605" y="246"/>
                    </a:lnTo>
                    <a:lnTo>
                      <a:pt x="591" y="250"/>
                    </a:lnTo>
                    <a:lnTo>
                      <a:pt x="573" y="254"/>
                    </a:lnTo>
                    <a:lnTo>
                      <a:pt x="554" y="257"/>
                    </a:lnTo>
                    <a:lnTo>
                      <a:pt x="536" y="257"/>
                    </a:lnTo>
                    <a:lnTo>
                      <a:pt x="518" y="257"/>
                    </a:lnTo>
                    <a:lnTo>
                      <a:pt x="500" y="257"/>
                    </a:lnTo>
                    <a:lnTo>
                      <a:pt x="482" y="257"/>
                    </a:lnTo>
                    <a:lnTo>
                      <a:pt x="460" y="257"/>
                    </a:lnTo>
                    <a:lnTo>
                      <a:pt x="446" y="254"/>
                    </a:lnTo>
                    <a:lnTo>
                      <a:pt x="428" y="250"/>
                    </a:lnTo>
                    <a:lnTo>
                      <a:pt x="413" y="246"/>
                    </a:lnTo>
                    <a:lnTo>
                      <a:pt x="413" y="250"/>
                    </a:lnTo>
                    <a:lnTo>
                      <a:pt x="417" y="246"/>
                    </a:lnTo>
                    <a:lnTo>
                      <a:pt x="406" y="243"/>
                    </a:lnTo>
                    <a:lnTo>
                      <a:pt x="395" y="236"/>
                    </a:lnTo>
                    <a:lnTo>
                      <a:pt x="384" y="232"/>
                    </a:lnTo>
                    <a:lnTo>
                      <a:pt x="380" y="236"/>
                    </a:lnTo>
                    <a:lnTo>
                      <a:pt x="384" y="232"/>
                    </a:lnTo>
                    <a:lnTo>
                      <a:pt x="377" y="225"/>
                    </a:lnTo>
                    <a:lnTo>
                      <a:pt x="373" y="221"/>
                    </a:lnTo>
                    <a:lnTo>
                      <a:pt x="370" y="217"/>
                    </a:lnTo>
                    <a:lnTo>
                      <a:pt x="366" y="221"/>
                    </a:lnTo>
                    <a:lnTo>
                      <a:pt x="373" y="221"/>
                    </a:lnTo>
                    <a:lnTo>
                      <a:pt x="370" y="214"/>
                    </a:lnTo>
                    <a:lnTo>
                      <a:pt x="362" y="214"/>
                    </a:lnTo>
                    <a:lnTo>
                      <a:pt x="370" y="214"/>
                    </a:lnTo>
                    <a:lnTo>
                      <a:pt x="370" y="210"/>
                    </a:lnTo>
                    <a:lnTo>
                      <a:pt x="370" y="203"/>
                    </a:lnTo>
                    <a:lnTo>
                      <a:pt x="370" y="199"/>
                    </a:lnTo>
                    <a:lnTo>
                      <a:pt x="370" y="192"/>
                    </a:lnTo>
                    <a:lnTo>
                      <a:pt x="362" y="192"/>
                    </a:lnTo>
                    <a:lnTo>
                      <a:pt x="366" y="196"/>
                    </a:lnTo>
                    <a:lnTo>
                      <a:pt x="370" y="192"/>
                    </a:lnTo>
                    <a:lnTo>
                      <a:pt x="373" y="192"/>
                    </a:lnTo>
                    <a:lnTo>
                      <a:pt x="373" y="192"/>
                    </a:lnTo>
                    <a:lnTo>
                      <a:pt x="377" y="185"/>
                    </a:lnTo>
                    <a:lnTo>
                      <a:pt x="380" y="178"/>
                    </a:lnTo>
                    <a:lnTo>
                      <a:pt x="373" y="174"/>
                    </a:lnTo>
                    <a:lnTo>
                      <a:pt x="377" y="181"/>
                    </a:lnTo>
                    <a:lnTo>
                      <a:pt x="384" y="178"/>
                    </a:lnTo>
                    <a:lnTo>
                      <a:pt x="384" y="174"/>
                    </a:lnTo>
                    <a:lnTo>
                      <a:pt x="384" y="174"/>
                    </a:lnTo>
                    <a:lnTo>
                      <a:pt x="395" y="159"/>
                    </a:lnTo>
                    <a:lnTo>
                      <a:pt x="409" y="145"/>
                    </a:lnTo>
                    <a:lnTo>
                      <a:pt x="413" y="145"/>
                    </a:lnTo>
                    <a:lnTo>
                      <a:pt x="413" y="145"/>
                    </a:lnTo>
                    <a:lnTo>
                      <a:pt x="420" y="134"/>
                    </a:lnTo>
                    <a:lnTo>
                      <a:pt x="424" y="123"/>
                    </a:lnTo>
                    <a:lnTo>
                      <a:pt x="428" y="112"/>
                    </a:lnTo>
                    <a:lnTo>
                      <a:pt x="431" y="105"/>
                    </a:lnTo>
                    <a:lnTo>
                      <a:pt x="431" y="105"/>
                    </a:lnTo>
                    <a:lnTo>
                      <a:pt x="431" y="101"/>
                    </a:lnTo>
                    <a:lnTo>
                      <a:pt x="431" y="87"/>
                    </a:lnTo>
                    <a:lnTo>
                      <a:pt x="431" y="76"/>
                    </a:lnTo>
                    <a:lnTo>
                      <a:pt x="431" y="76"/>
                    </a:lnTo>
                    <a:lnTo>
                      <a:pt x="431" y="76"/>
                    </a:lnTo>
                    <a:lnTo>
                      <a:pt x="428" y="65"/>
                    </a:lnTo>
                    <a:lnTo>
                      <a:pt x="424" y="54"/>
                    </a:lnTo>
                    <a:lnTo>
                      <a:pt x="417" y="43"/>
                    </a:lnTo>
                    <a:lnTo>
                      <a:pt x="417" y="43"/>
                    </a:lnTo>
                    <a:lnTo>
                      <a:pt x="413" y="40"/>
                    </a:lnTo>
                    <a:lnTo>
                      <a:pt x="406" y="32"/>
                    </a:lnTo>
                    <a:lnTo>
                      <a:pt x="402" y="36"/>
                    </a:lnTo>
                    <a:lnTo>
                      <a:pt x="409" y="36"/>
                    </a:lnTo>
                    <a:lnTo>
                      <a:pt x="402" y="25"/>
                    </a:lnTo>
                    <a:lnTo>
                      <a:pt x="399" y="22"/>
                    </a:lnTo>
                    <a:lnTo>
                      <a:pt x="399" y="22"/>
                    </a:lnTo>
                    <a:lnTo>
                      <a:pt x="388" y="14"/>
                    </a:lnTo>
                    <a:lnTo>
                      <a:pt x="377" y="11"/>
                    </a:lnTo>
                    <a:lnTo>
                      <a:pt x="366" y="3"/>
                    </a:lnTo>
                    <a:lnTo>
                      <a:pt x="366" y="3"/>
                    </a:lnTo>
                    <a:lnTo>
                      <a:pt x="362" y="3"/>
                    </a:lnTo>
                    <a:lnTo>
                      <a:pt x="348" y="0"/>
                    </a:lnTo>
                    <a:lnTo>
                      <a:pt x="333" y="0"/>
                    </a:lnTo>
                    <a:lnTo>
                      <a:pt x="319" y="0"/>
                    </a:lnTo>
                    <a:lnTo>
                      <a:pt x="319" y="0"/>
                    </a:lnTo>
                    <a:lnTo>
                      <a:pt x="319" y="0"/>
                    </a:lnTo>
                    <a:lnTo>
                      <a:pt x="308" y="3"/>
                    </a:lnTo>
                    <a:lnTo>
                      <a:pt x="297" y="11"/>
                    </a:lnTo>
                    <a:lnTo>
                      <a:pt x="297" y="14"/>
                    </a:lnTo>
                    <a:lnTo>
                      <a:pt x="297" y="11"/>
                    </a:lnTo>
                    <a:lnTo>
                      <a:pt x="282" y="14"/>
                    </a:lnTo>
                    <a:lnTo>
                      <a:pt x="279" y="14"/>
                    </a:lnTo>
                    <a:lnTo>
                      <a:pt x="282" y="14"/>
                    </a:lnTo>
                    <a:lnTo>
                      <a:pt x="272" y="22"/>
                    </a:lnTo>
                    <a:lnTo>
                      <a:pt x="272" y="22"/>
                    </a:lnTo>
                    <a:lnTo>
                      <a:pt x="268" y="22"/>
                    </a:lnTo>
                    <a:lnTo>
                      <a:pt x="257" y="32"/>
                    </a:lnTo>
                    <a:lnTo>
                      <a:pt x="250" y="40"/>
                    </a:lnTo>
                    <a:lnTo>
                      <a:pt x="250" y="43"/>
                    </a:lnTo>
                    <a:lnTo>
                      <a:pt x="250" y="43"/>
                    </a:lnTo>
                    <a:lnTo>
                      <a:pt x="243" y="54"/>
                    </a:lnTo>
                    <a:lnTo>
                      <a:pt x="239" y="65"/>
                    </a:lnTo>
                    <a:lnTo>
                      <a:pt x="235" y="76"/>
                    </a:lnTo>
                    <a:lnTo>
                      <a:pt x="232" y="87"/>
                    </a:lnTo>
                    <a:lnTo>
                      <a:pt x="232" y="87"/>
                    </a:lnTo>
                    <a:lnTo>
                      <a:pt x="232" y="87"/>
                    </a:lnTo>
                    <a:lnTo>
                      <a:pt x="232" y="101"/>
                    </a:lnTo>
                    <a:lnTo>
                      <a:pt x="232" y="112"/>
                    </a:lnTo>
                    <a:lnTo>
                      <a:pt x="232" y="112"/>
                    </a:lnTo>
                    <a:lnTo>
                      <a:pt x="232" y="116"/>
                    </a:lnTo>
                    <a:lnTo>
                      <a:pt x="235" y="127"/>
                    </a:lnTo>
                    <a:lnTo>
                      <a:pt x="235" y="127"/>
                    </a:lnTo>
                    <a:lnTo>
                      <a:pt x="235" y="127"/>
                    </a:lnTo>
                    <a:lnTo>
                      <a:pt x="239" y="130"/>
                    </a:lnTo>
                    <a:lnTo>
                      <a:pt x="243" y="127"/>
                    </a:lnTo>
                    <a:lnTo>
                      <a:pt x="239" y="130"/>
                    </a:lnTo>
                    <a:lnTo>
                      <a:pt x="243" y="138"/>
                    </a:lnTo>
                    <a:lnTo>
                      <a:pt x="243" y="138"/>
                    </a:lnTo>
                    <a:lnTo>
                      <a:pt x="243" y="138"/>
                    </a:lnTo>
                    <a:lnTo>
                      <a:pt x="246" y="141"/>
                    </a:lnTo>
                    <a:lnTo>
                      <a:pt x="250" y="145"/>
                    </a:lnTo>
                    <a:lnTo>
                      <a:pt x="253" y="141"/>
                    </a:lnTo>
                    <a:lnTo>
                      <a:pt x="250" y="145"/>
                    </a:lnTo>
                    <a:lnTo>
                      <a:pt x="257" y="156"/>
                    </a:lnTo>
                    <a:lnTo>
                      <a:pt x="257" y="156"/>
                    </a:lnTo>
                    <a:lnTo>
                      <a:pt x="257" y="156"/>
                    </a:lnTo>
                    <a:lnTo>
                      <a:pt x="264" y="163"/>
                    </a:lnTo>
                    <a:lnTo>
                      <a:pt x="268" y="159"/>
                    </a:lnTo>
                    <a:lnTo>
                      <a:pt x="264" y="163"/>
                    </a:lnTo>
                    <a:lnTo>
                      <a:pt x="272" y="174"/>
                    </a:lnTo>
                    <a:lnTo>
                      <a:pt x="275" y="181"/>
                    </a:lnTo>
                    <a:lnTo>
                      <a:pt x="279" y="192"/>
                    </a:lnTo>
                    <a:lnTo>
                      <a:pt x="282" y="199"/>
                    </a:lnTo>
                    <a:lnTo>
                      <a:pt x="286" y="196"/>
                    </a:lnTo>
                    <a:lnTo>
                      <a:pt x="282" y="196"/>
                    </a:lnTo>
                    <a:lnTo>
                      <a:pt x="282" y="203"/>
                    </a:lnTo>
                    <a:lnTo>
                      <a:pt x="282" y="207"/>
                    </a:lnTo>
                    <a:lnTo>
                      <a:pt x="282" y="214"/>
                    </a:lnTo>
                    <a:lnTo>
                      <a:pt x="286" y="214"/>
                    </a:lnTo>
                    <a:lnTo>
                      <a:pt x="282" y="214"/>
                    </a:lnTo>
                    <a:lnTo>
                      <a:pt x="279" y="221"/>
                    </a:lnTo>
                    <a:lnTo>
                      <a:pt x="282" y="221"/>
                    </a:lnTo>
                    <a:lnTo>
                      <a:pt x="279" y="217"/>
                    </a:lnTo>
                    <a:lnTo>
                      <a:pt x="275" y="221"/>
                    </a:lnTo>
                    <a:lnTo>
                      <a:pt x="272" y="225"/>
                    </a:lnTo>
                    <a:lnTo>
                      <a:pt x="268" y="228"/>
                    </a:lnTo>
                    <a:lnTo>
                      <a:pt x="272" y="232"/>
                    </a:lnTo>
                    <a:lnTo>
                      <a:pt x="272" y="228"/>
                    </a:lnTo>
                    <a:lnTo>
                      <a:pt x="264" y="232"/>
                    </a:lnTo>
                    <a:lnTo>
                      <a:pt x="264" y="236"/>
                    </a:lnTo>
                    <a:lnTo>
                      <a:pt x="264" y="232"/>
                    </a:lnTo>
                    <a:lnTo>
                      <a:pt x="257" y="232"/>
                    </a:lnTo>
                    <a:lnTo>
                      <a:pt x="246" y="232"/>
                    </a:lnTo>
                    <a:lnTo>
                      <a:pt x="214" y="232"/>
                    </a:lnTo>
                    <a:lnTo>
                      <a:pt x="177" y="236"/>
                    </a:lnTo>
                    <a:lnTo>
                      <a:pt x="145" y="236"/>
                    </a:lnTo>
                    <a:lnTo>
                      <a:pt x="112" y="239"/>
                    </a:lnTo>
                    <a:lnTo>
                      <a:pt x="79" y="239"/>
                    </a:lnTo>
                    <a:lnTo>
                      <a:pt x="54" y="239"/>
                    </a:lnTo>
                    <a:lnTo>
                      <a:pt x="40" y="239"/>
                    </a:lnTo>
                    <a:lnTo>
                      <a:pt x="29" y="239"/>
                    </a:lnTo>
                    <a:lnTo>
                      <a:pt x="29" y="243"/>
                    </a:lnTo>
                    <a:lnTo>
                      <a:pt x="32" y="239"/>
                    </a:lnTo>
                    <a:lnTo>
                      <a:pt x="25" y="236"/>
                    </a:lnTo>
                    <a:lnTo>
                      <a:pt x="18" y="232"/>
                    </a:lnTo>
                    <a:lnTo>
                      <a:pt x="11" y="228"/>
                    </a:lnTo>
                    <a:lnTo>
                      <a:pt x="11" y="236"/>
                    </a:lnTo>
                    <a:lnTo>
                      <a:pt x="11" y="265"/>
                    </a:lnTo>
                    <a:lnTo>
                      <a:pt x="11" y="304"/>
                    </a:lnTo>
                    <a:lnTo>
                      <a:pt x="11" y="344"/>
                    </a:lnTo>
                    <a:lnTo>
                      <a:pt x="11" y="388"/>
                    </a:lnTo>
                    <a:lnTo>
                      <a:pt x="11" y="428"/>
                    </a:lnTo>
                    <a:lnTo>
                      <a:pt x="11" y="464"/>
                    </a:lnTo>
                    <a:lnTo>
                      <a:pt x="11" y="493"/>
                    </a:lnTo>
                    <a:lnTo>
                      <a:pt x="11" y="508"/>
                    </a:lnTo>
                    <a:lnTo>
                      <a:pt x="11" y="515"/>
                    </a:lnTo>
                    <a:lnTo>
                      <a:pt x="11" y="519"/>
                    </a:lnTo>
                    <a:lnTo>
                      <a:pt x="11" y="519"/>
                    </a:lnTo>
                    <a:lnTo>
                      <a:pt x="14" y="522"/>
                    </a:lnTo>
                    <a:lnTo>
                      <a:pt x="18" y="519"/>
                    </a:lnTo>
                    <a:lnTo>
                      <a:pt x="14" y="519"/>
                    </a:lnTo>
                    <a:lnTo>
                      <a:pt x="14" y="526"/>
                    </a:lnTo>
                    <a:lnTo>
                      <a:pt x="14" y="529"/>
                    </a:lnTo>
                    <a:lnTo>
                      <a:pt x="18" y="533"/>
                    </a:lnTo>
                    <a:lnTo>
                      <a:pt x="25" y="537"/>
                    </a:lnTo>
                    <a:lnTo>
                      <a:pt x="25" y="529"/>
                    </a:lnTo>
                    <a:lnTo>
                      <a:pt x="21" y="533"/>
                    </a:lnTo>
                    <a:lnTo>
                      <a:pt x="25" y="540"/>
                    </a:lnTo>
                    <a:lnTo>
                      <a:pt x="25" y="540"/>
                    </a:lnTo>
                    <a:lnTo>
                      <a:pt x="29" y="544"/>
                    </a:lnTo>
                    <a:lnTo>
                      <a:pt x="36" y="548"/>
                    </a:lnTo>
                    <a:lnTo>
                      <a:pt x="43" y="551"/>
                    </a:lnTo>
                    <a:lnTo>
                      <a:pt x="43" y="551"/>
                    </a:lnTo>
                    <a:lnTo>
                      <a:pt x="43" y="551"/>
                    </a:lnTo>
                    <a:lnTo>
                      <a:pt x="50" y="551"/>
                    </a:lnTo>
                    <a:lnTo>
                      <a:pt x="50" y="544"/>
                    </a:lnTo>
                    <a:lnTo>
                      <a:pt x="50" y="551"/>
                    </a:lnTo>
                    <a:lnTo>
                      <a:pt x="58" y="555"/>
                    </a:lnTo>
                    <a:lnTo>
                      <a:pt x="58" y="555"/>
                    </a:lnTo>
                    <a:lnTo>
                      <a:pt x="58" y="555"/>
                    </a:lnTo>
                    <a:lnTo>
                      <a:pt x="69" y="555"/>
                    </a:lnTo>
                    <a:lnTo>
                      <a:pt x="76" y="555"/>
                    </a:lnTo>
                    <a:lnTo>
                      <a:pt x="83" y="555"/>
                    </a:lnTo>
                    <a:lnTo>
                      <a:pt x="87" y="555"/>
                    </a:lnTo>
                    <a:lnTo>
                      <a:pt x="87" y="555"/>
                    </a:lnTo>
                    <a:lnTo>
                      <a:pt x="98" y="551"/>
                    </a:lnTo>
                    <a:lnTo>
                      <a:pt x="105" y="548"/>
                    </a:lnTo>
                    <a:lnTo>
                      <a:pt x="105" y="548"/>
                    </a:lnTo>
                    <a:lnTo>
                      <a:pt x="105" y="544"/>
                    </a:lnTo>
                    <a:lnTo>
                      <a:pt x="112" y="537"/>
                    </a:lnTo>
                    <a:lnTo>
                      <a:pt x="119" y="529"/>
                    </a:lnTo>
                    <a:lnTo>
                      <a:pt x="123" y="526"/>
                    </a:lnTo>
                    <a:close/>
                    <a:moveTo>
                      <a:pt x="112" y="522"/>
                    </a:moveTo>
                    <a:lnTo>
                      <a:pt x="105" y="529"/>
                    </a:lnTo>
                    <a:lnTo>
                      <a:pt x="98" y="537"/>
                    </a:lnTo>
                    <a:lnTo>
                      <a:pt x="101" y="540"/>
                    </a:lnTo>
                    <a:lnTo>
                      <a:pt x="101" y="537"/>
                    </a:lnTo>
                    <a:lnTo>
                      <a:pt x="94" y="540"/>
                    </a:lnTo>
                    <a:lnTo>
                      <a:pt x="83" y="544"/>
                    </a:lnTo>
                    <a:lnTo>
                      <a:pt x="83" y="548"/>
                    </a:lnTo>
                    <a:lnTo>
                      <a:pt x="83" y="544"/>
                    </a:lnTo>
                    <a:lnTo>
                      <a:pt x="76" y="544"/>
                    </a:lnTo>
                    <a:lnTo>
                      <a:pt x="69" y="544"/>
                    </a:lnTo>
                    <a:lnTo>
                      <a:pt x="58" y="544"/>
                    </a:lnTo>
                    <a:lnTo>
                      <a:pt x="58" y="548"/>
                    </a:lnTo>
                    <a:lnTo>
                      <a:pt x="61" y="544"/>
                    </a:lnTo>
                    <a:lnTo>
                      <a:pt x="54" y="540"/>
                    </a:lnTo>
                    <a:lnTo>
                      <a:pt x="54" y="540"/>
                    </a:lnTo>
                    <a:lnTo>
                      <a:pt x="50" y="540"/>
                    </a:lnTo>
                    <a:lnTo>
                      <a:pt x="43" y="540"/>
                    </a:lnTo>
                    <a:lnTo>
                      <a:pt x="43" y="544"/>
                    </a:lnTo>
                    <a:lnTo>
                      <a:pt x="47" y="540"/>
                    </a:lnTo>
                    <a:lnTo>
                      <a:pt x="40" y="537"/>
                    </a:lnTo>
                    <a:lnTo>
                      <a:pt x="32" y="533"/>
                    </a:lnTo>
                    <a:lnTo>
                      <a:pt x="29" y="537"/>
                    </a:lnTo>
                    <a:lnTo>
                      <a:pt x="36" y="537"/>
                    </a:lnTo>
                    <a:lnTo>
                      <a:pt x="32" y="529"/>
                    </a:lnTo>
                    <a:lnTo>
                      <a:pt x="29" y="526"/>
                    </a:lnTo>
                    <a:lnTo>
                      <a:pt x="29" y="526"/>
                    </a:lnTo>
                    <a:lnTo>
                      <a:pt x="21" y="522"/>
                    </a:lnTo>
                    <a:lnTo>
                      <a:pt x="18" y="526"/>
                    </a:lnTo>
                    <a:lnTo>
                      <a:pt x="25" y="526"/>
                    </a:lnTo>
                    <a:lnTo>
                      <a:pt x="25" y="519"/>
                    </a:lnTo>
                    <a:lnTo>
                      <a:pt x="25" y="519"/>
                    </a:lnTo>
                    <a:lnTo>
                      <a:pt x="21" y="515"/>
                    </a:lnTo>
                    <a:lnTo>
                      <a:pt x="18" y="511"/>
                    </a:lnTo>
                    <a:lnTo>
                      <a:pt x="14" y="515"/>
                    </a:lnTo>
                    <a:lnTo>
                      <a:pt x="21" y="515"/>
                    </a:lnTo>
                    <a:lnTo>
                      <a:pt x="21" y="508"/>
                    </a:lnTo>
                    <a:lnTo>
                      <a:pt x="21" y="493"/>
                    </a:lnTo>
                    <a:lnTo>
                      <a:pt x="21" y="464"/>
                    </a:lnTo>
                    <a:lnTo>
                      <a:pt x="21" y="428"/>
                    </a:lnTo>
                    <a:lnTo>
                      <a:pt x="21" y="388"/>
                    </a:lnTo>
                    <a:lnTo>
                      <a:pt x="21" y="344"/>
                    </a:lnTo>
                    <a:lnTo>
                      <a:pt x="21" y="304"/>
                    </a:lnTo>
                    <a:lnTo>
                      <a:pt x="21" y="265"/>
                    </a:lnTo>
                    <a:lnTo>
                      <a:pt x="21" y="236"/>
                    </a:lnTo>
                    <a:lnTo>
                      <a:pt x="14" y="236"/>
                    </a:lnTo>
                    <a:lnTo>
                      <a:pt x="14" y="243"/>
                    </a:lnTo>
                    <a:lnTo>
                      <a:pt x="21" y="246"/>
                    </a:lnTo>
                    <a:lnTo>
                      <a:pt x="29" y="250"/>
                    </a:lnTo>
                    <a:lnTo>
                      <a:pt x="29" y="250"/>
                    </a:lnTo>
                    <a:lnTo>
                      <a:pt x="29" y="250"/>
                    </a:lnTo>
                    <a:lnTo>
                      <a:pt x="40" y="250"/>
                    </a:lnTo>
                    <a:lnTo>
                      <a:pt x="54" y="250"/>
                    </a:lnTo>
                    <a:lnTo>
                      <a:pt x="79" y="250"/>
                    </a:lnTo>
                    <a:lnTo>
                      <a:pt x="112" y="250"/>
                    </a:lnTo>
                    <a:lnTo>
                      <a:pt x="145" y="246"/>
                    </a:lnTo>
                    <a:lnTo>
                      <a:pt x="177" y="246"/>
                    </a:lnTo>
                    <a:lnTo>
                      <a:pt x="214" y="243"/>
                    </a:lnTo>
                    <a:lnTo>
                      <a:pt x="246" y="243"/>
                    </a:lnTo>
                    <a:lnTo>
                      <a:pt x="257" y="243"/>
                    </a:lnTo>
                    <a:lnTo>
                      <a:pt x="264" y="243"/>
                    </a:lnTo>
                    <a:lnTo>
                      <a:pt x="268" y="243"/>
                    </a:lnTo>
                    <a:lnTo>
                      <a:pt x="268" y="243"/>
                    </a:lnTo>
                    <a:lnTo>
                      <a:pt x="275" y="239"/>
                    </a:lnTo>
                    <a:lnTo>
                      <a:pt x="275" y="239"/>
                    </a:lnTo>
                    <a:lnTo>
                      <a:pt x="275" y="236"/>
                    </a:lnTo>
                    <a:lnTo>
                      <a:pt x="279" y="232"/>
                    </a:lnTo>
                    <a:lnTo>
                      <a:pt x="282" y="228"/>
                    </a:lnTo>
                    <a:lnTo>
                      <a:pt x="286" y="225"/>
                    </a:lnTo>
                    <a:lnTo>
                      <a:pt x="290" y="225"/>
                    </a:lnTo>
                    <a:lnTo>
                      <a:pt x="290" y="225"/>
                    </a:lnTo>
                    <a:lnTo>
                      <a:pt x="293" y="217"/>
                    </a:lnTo>
                    <a:lnTo>
                      <a:pt x="293" y="217"/>
                    </a:lnTo>
                    <a:lnTo>
                      <a:pt x="293" y="214"/>
                    </a:lnTo>
                    <a:lnTo>
                      <a:pt x="293" y="207"/>
                    </a:lnTo>
                    <a:lnTo>
                      <a:pt x="293" y="203"/>
                    </a:lnTo>
                    <a:lnTo>
                      <a:pt x="293" y="196"/>
                    </a:lnTo>
                    <a:lnTo>
                      <a:pt x="293" y="196"/>
                    </a:lnTo>
                    <a:lnTo>
                      <a:pt x="293" y="196"/>
                    </a:lnTo>
                    <a:lnTo>
                      <a:pt x="290" y="188"/>
                    </a:lnTo>
                    <a:lnTo>
                      <a:pt x="286" y="178"/>
                    </a:lnTo>
                    <a:lnTo>
                      <a:pt x="282" y="170"/>
                    </a:lnTo>
                    <a:lnTo>
                      <a:pt x="275" y="159"/>
                    </a:lnTo>
                    <a:lnTo>
                      <a:pt x="275" y="159"/>
                    </a:lnTo>
                    <a:lnTo>
                      <a:pt x="272" y="156"/>
                    </a:lnTo>
                    <a:lnTo>
                      <a:pt x="264" y="149"/>
                    </a:lnTo>
                    <a:lnTo>
                      <a:pt x="261" y="152"/>
                    </a:lnTo>
                    <a:lnTo>
                      <a:pt x="268" y="152"/>
                    </a:lnTo>
                    <a:lnTo>
                      <a:pt x="261" y="141"/>
                    </a:lnTo>
                    <a:lnTo>
                      <a:pt x="261" y="141"/>
                    </a:lnTo>
                    <a:lnTo>
                      <a:pt x="257" y="138"/>
                    </a:lnTo>
                    <a:lnTo>
                      <a:pt x="253" y="134"/>
                    </a:lnTo>
                    <a:lnTo>
                      <a:pt x="250" y="130"/>
                    </a:lnTo>
                    <a:lnTo>
                      <a:pt x="246" y="134"/>
                    </a:lnTo>
                    <a:lnTo>
                      <a:pt x="253" y="134"/>
                    </a:lnTo>
                    <a:lnTo>
                      <a:pt x="250" y="127"/>
                    </a:lnTo>
                    <a:lnTo>
                      <a:pt x="250" y="127"/>
                    </a:lnTo>
                    <a:lnTo>
                      <a:pt x="246" y="123"/>
                    </a:lnTo>
                    <a:lnTo>
                      <a:pt x="243" y="120"/>
                    </a:lnTo>
                    <a:lnTo>
                      <a:pt x="239" y="123"/>
                    </a:lnTo>
                    <a:lnTo>
                      <a:pt x="246" y="123"/>
                    </a:lnTo>
                    <a:lnTo>
                      <a:pt x="243" y="112"/>
                    </a:lnTo>
                    <a:lnTo>
                      <a:pt x="235" y="112"/>
                    </a:lnTo>
                    <a:lnTo>
                      <a:pt x="243" y="112"/>
                    </a:lnTo>
                    <a:lnTo>
                      <a:pt x="243" y="101"/>
                    </a:lnTo>
                    <a:lnTo>
                      <a:pt x="243" y="87"/>
                    </a:lnTo>
                    <a:lnTo>
                      <a:pt x="235" y="87"/>
                    </a:lnTo>
                    <a:lnTo>
                      <a:pt x="243" y="90"/>
                    </a:lnTo>
                    <a:lnTo>
                      <a:pt x="246" y="80"/>
                    </a:lnTo>
                    <a:lnTo>
                      <a:pt x="250" y="69"/>
                    </a:lnTo>
                    <a:lnTo>
                      <a:pt x="253" y="58"/>
                    </a:lnTo>
                    <a:lnTo>
                      <a:pt x="261" y="47"/>
                    </a:lnTo>
                    <a:lnTo>
                      <a:pt x="253" y="43"/>
                    </a:lnTo>
                    <a:lnTo>
                      <a:pt x="257" y="47"/>
                    </a:lnTo>
                    <a:lnTo>
                      <a:pt x="264" y="40"/>
                    </a:lnTo>
                    <a:lnTo>
                      <a:pt x="275" y="29"/>
                    </a:lnTo>
                    <a:lnTo>
                      <a:pt x="272" y="25"/>
                    </a:lnTo>
                    <a:lnTo>
                      <a:pt x="275" y="32"/>
                    </a:lnTo>
                    <a:lnTo>
                      <a:pt x="286" y="25"/>
                    </a:lnTo>
                    <a:lnTo>
                      <a:pt x="282" y="18"/>
                    </a:lnTo>
                    <a:lnTo>
                      <a:pt x="282" y="25"/>
                    </a:lnTo>
                    <a:lnTo>
                      <a:pt x="297" y="22"/>
                    </a:lnTo>
                    <a:lnTo>
                      <a:pt x="301" y="18"/>
                    </a:lnTo>
                    <a:lnTo>
                      <a:pt x="301" y="22"/>
                    </a:lnTo>
                    <a:lnTo>
                      <a:pt x="311" y="14"/>
                    </a:lnTo>
                    <a:lnTo>
                      <a:pt x="322" y="11"/>
                    </a:lnTo>
                    <a:lnTo>
                      <a:pt x="319" y="3"/>
                    </a:lnTo>
                    <a:lnTo>
                      <a:pt x="319" y="11"/>
                    </a:lnTo>
                    <a:lnTo>
                      <a:pt x="333" y="11"/>
                    </a:lnTo>
                    <a:lnTo>
                      <a:pt x="348" y="11"/>
                    </a:lnTo>
                    <a:lnTo>
                      <a:pt x="362" y="14"/>
                    </a:lnTo>
                    <a:lnTo>
                      <a:pt x="362" y="7"/>
                    </a:lnTo>
                    <a:lnTo>
                      <a:pt x="362" y="14"/>
                    </a:lnTo>
                    <a:lnTo>
                      <a:pt x="373" y="22"/>
                    </a:lnTo>
                    <a:lnTo>
                      <a:pt x="384" y="25"/>
                    </a:lnTo>
                    <a:lnTo>
                      <a:pt x="395" y="32"/>
                    </a:lnTo>
                    <a:lnTo>
                      <a:pt x="395" y="25"/>
                    </a:lnTo>
                    <a:lnTo>
                      <a:pt x="391" y="29"/>
                    </a:lnTo>
                    <a:lnTo>
                      <a:pt x="399" y="40"/>
                    </a:lnTo>
                    <a:lnTo>
                      <a:pt x="399" y="40"/>
                    </a:lnTo>
                    <a:lnTo>
                      <a:pt x="399" y="40"/>
                    </a:lnTo>
                    <a:lnTo>
                      <a:pt x="406" y="47"/>
                    </a:lnTo>
                    <a:lnTo>
                      <a:pt x="409" y="43"/>
                    </a:lnTo>
                    <a:lnTo>
                      <a:pt x="406" y="47"/>
                    </a:lnTo>
                    <a:lnTo>
                      <a:pt x="413" y="58"/>
                    </a:lnTo>
                    <a:lnTo>
                      <a:pt x="417" y="69"/>
                    </a:lnTo>
                    <a:lnTo>
                      <a:pt x="420" y="80"/>
                    </a:lnTo>
                    <a:lnTo>
                      <a:pt x="424" y="76"/>
                    </a:lnTo>
                    <a:lnTo>
                      <a:pt x="420" y="76"/>
                    </a:lnTo>
                    <a:lnTo>
                      <a:pt x="420" y="87"/>
                    </a:lnTo>
                    <a:lnTo>
                      <a:pt x="420" y="101"/>
                    </a:lnTo>
                    <a:lnTo>
                      <a:pt x="424" y="101"/>
                    </a:lnTo>
                    <a:lnTo>
                      <a:pt x="420" y="101"/>
                    </a:lnTo>
                    <a:lnTo>
                      <a:pt x="417" y="109"/>
                    </a:lnTo>
                    <a:lnTo>
                      <a:pt x="413" y="120"/>
                    </a:lnTo>
                    <a:lnTo>
                      <a:pt x="409" y="130"/>
                    </a:lnTo>
                    <a:lnTo>
                      <a:pt x="402" y="141"/>
                    </a:lnTo>
                    <a:lnTo>
                      <a:pt x="406" y="141"/>
                    </a:lnTo>
                    <a:lnTo>
                      <a:pt x="402" y="138"/>
                    </a:lnTo>
                    <a:lnTo>
                      <a:pt x="388" y="152"/>
                    </a:lnTo>
                    <a:lnTo>
                      <a:pt x="377" y="167"/>
                    </a:lnTo>
                    <a:lnTo>
                      <a:pt x="380" y="170"/>
                    </a:lnTo>
                    <a:lnTo>
                      <a:pt x="380" y="167"/>
                    </a:lnTo>
                    <a:lnTo>
                      <a:pt x="373" y="170"/>
                    </a:lnTo>
                    <a:lnTo>
                      <a:pt x="370" y="170"/>
                    </a:lnTo>
                    <a:lnTo>
                      <a:pt x="370" y="174"/>
                    </a:lnTo>
                    <a:lnTo>
                      <a:pt x="366" y="181"/>
                    </a:lnTo>
                    <a:lnTo>
                      <a:pt x="362" y="188"/>
                    </a:lnTo>
                    <a:lnTo>
                      <a:pt x="366" y="188"/>
                    </a:lnTo>
                    <a:lnTo>
                      <a:pt x="362" y="185"/>
                    </a:lnTo>
                    <a:lnTo>
                      <a:pt x="359" y="188"/>
                    </a:lnTo>
                    <a:lnTo>
                      <a:pt x="359" y="192"/>
                    </a:lnTo>
                    <a:lnTo>
                      <a:pt x="359" y="192"/>
                    </a:lnTo>
                    <a:lnTo>
                      <a:pt x="359" y="199"/>
                    </a:lnTo>
                    <a:lnTo>
                      <a:pt x="359" y="203"/>
                    </a:lnTo>
                    <a:lnTo>
                      <a:pt x="359" y="210"/>
                    </a:lnTo>
                    <a:lnTo>
                      <a:pt x="359" y="214"/>
                    </a:lnTo>
                    <a:lnTo>
                      <a:pt x="359" y="217"/>
                    </a:lnTo>
                    <a:lnTo>
                      <a:pt x="359" y="217"/>
                    </a:lnTo>
                    <a:lnTo>
                      <a:pt x="362" y="225"/>
                    </a:lnTo>
                    <a:lnTo>
                      <a:pt x="362" y="225"/>
                    </a:lnTo>
                    <a:lnTo>
                      <a:pt x="362" y="225"/>
                    </a:lnTo>
                    <a:lnTo>
                      <a:pt x="366" y="228"/>
                    </a:lnTo>
                    <a:lnTo>
                      <a:pt x="370" y="232"/>
                    </a:lnTo>
                    <a:lnTo>
                      <a:pt x="377" y="239"/>
                    </a:lnTo>
                    <a:lnTo>
                      <a:pt x="380" y="243"/>
                    </a:lnTo>
                    <a:lnTo>
                      <a:pt x="380" y="243"/>
                    </a:lnTo>
                    <a:lnTo>
                      <a:pt x="391" y="246"/>
                    </a:lnTo>
                    <a:lnTo>
                      <a:pt x="402" y="254"/>
                    </a:lnTo>
                    <a:lnTo>
                      <a:pt x="413" y="257"/>
                    </a:lnTo>
                    <a:lnTo>
                      <a:pt x="406" y="254"/>
                    </a:lnTo>
                    <a:lnTo>
                      <a:pt x="413" y="257"/>
                    </a:lnTo>
                    <a:lnTo>
                      <a:pt x="428" y="261"/>
                    </a:lnTo>
                    <a:lnTo>
                      <a:pt x="446" y="265"/>
                    </a:lnTo>
                    <a:lnTo>
                      <a:pt x="460" y="268"/>
                    </a:lnTo>
                    <a:lnTo>
                      <a:pt x="482" y="268"/>
                    </a:lnTo>
                    <a:lnTo>
                      <a:pt x="500" y="268"/>
                    </a:lnTo>
                    <a:lnTo>
                      <a:pt x="518" y="268"/>
                    </a:lnTo>
                    <a:lnTo>
                      <a:pt x="536" y="268"/>
                    </a:lnTo>
                    <a:lnTo>
                      <a:pt x="554" y="268"/>
                    </a:lnTo>
                    <a:lnTo>
                      <a:pt x="573" y="265"/>
                    </a:lnTo>
                    <a:lnTo>
                      <a:pt x="591" y="261"/>
                    </a:lnTo>
                    <a:lnTo>
                      <a:pt x="605" y="257"/>
                    </a:lnTo>
                    <a:lnTo>
                      <a:pt x="609" y="254"/>
                    </a:lnTo>
                    <a:lnTo>
                      <a:pt x="609" y="257"/>
                    </a:lnTo>
                    <a:lnTo>
                      <a:pt x="623" y="250"/>
                    </a:lnTo>
                    <a:lnTo>
                      <a:pt x="634" y="243"/>
                    </a:lnTo>
                    <a:lnTo>
                      <a:pt x="631" y="236"/>
                    </a:lnTo>
                    <a:lnTo>
                      <a:pt x="627" y="236"/>
                    </a:lnTo>
                    <a:lnTo>
                      <a:pt x="627" y="243"/>
                    </a:lnTo>
                    <a:lnTo>
                      <a:pt x="627" y="254"/>
                    </a:lnTo>
                    <a:lnTo>
                      <a:pt x="627" y="268"/>
                    </a:lnTo>
                    <a:lnTo>
                      <a:pt x="627" y="283"/>
                    </a:lnTo>
                    <a:lnTo>
                      <a:pt x="631" y="319"/>
                    </a:lnTo>
                    <a:lnTo>
                      <a:pt x="634" y="363"/>
                    </a:lnTo>
                    <a:lnTo>
                      <a:pt x="638" y="384"/>
                    </a:lnTo>
                    <a:lnTo>
                      <a:pt x="638" y="402"/>
                    </a:lnTo>
                    <a:lnTo>
                      <a:pt x="641" y="424"/>
                    </a:lnTo>
                    <a:lnTo>
                      <a:pt x="641" y="442"/>
                    </a:lnTo>
                    <a:lnTo>
                      <a:pt x="641" y="457"/>
                    </a:lnTo>
                    <a:lnTo>
                      <a:pt x="645" y="457"/>
                    </a:lnTo>
                    <a:lnTo>
                      <a:pt x="641" y="457"/>
                    </a:lnTo>
                    <a:lnTo>
                      <a:pt x="638" y="471"/>
                    </a:lnTo>
                    <a:lnTo>
                      <a:pt x="634" y="479"/>
                    </a:lnTo>
                    <a:lnTo>
                      <a:pt x="634" y="479"/>
                    </a:lnTo>
                    <a:lnTo>
                      <a:pt x="634" y="479"/>
                    </a:lnTo>
                    <a:lnTo>
                      <a:pt x="634" y="482"/>
                    </a:lnTo>
                    <a:lnTo>
                      <a:pt x="638" y="482"/>
                    </a:lnTo>
                    <a:lnTo>
                      <a:pt x="634" y="479"/>
                    </a:lnTo>
                    <a:lnTo>
                      <a:pt x="631" y="482"/>
                    </a:lnTo>
                    <a:lnTo>
                      <a:pt x="627" y="486"/>
                    </a:lnTo>
                    <a:lnTo>
                      <a:pt x="623" y="489"/>
                    </a:lnTo>
                    <a:lnTo>
                      <a:pt x="627" y="493"/>
                    </a:lnTo>
                    <a:lnTo>
                      <a:pt x="627" y="489"/>
                    </a:lnTo>
                    <a:lnTo>
                      <a:pt x="620" y="493"/>
                    </a:lnTo>
                    <a:lnTo>
                      <a:pt x="612" y="497"/>
                    </a:lnTo>
                    <a:lnTo>
                      <a:pt x="612" y="500"/>
                    </a:lnTo>
                    <a:lnTo>
                      <a:pt x="612" y="497"/>
                    </a:lnTo>
                    <a:lnTo>
                      <a:pt x="609" y="497"/>
                    </a:lnTo>
                    <a:lnTo>
                      <a:pt x="609" y="497"/>
                    </a:lnTo>
                    <a:lnTo>
                      <a:pt x="609" y="497"/>
                    </a:lnTo>
                    <a:lnTo>
                      <a:pt x="602" y="500"/>
                    </a:lnTo>
                    <a:lnTo>
                      <a:pt x="602" y="504"/>
                    </a:lnTo>
                    <a:lnTo>
                      <a:pt x="602" y="500"/>
                    </a:lnTo>
                    <a:lnTo>
                      <a:pt x="594" y="500"/>
                    </a:lnTo>
                    <a:lnTo>
                      <a:pt x="594" y="504"/>
                    </a:lnTo>
                    <a:lnTo>
                      <a:pt x="598" y="500"/>
                    </a:lnTo>
                    <a:lnTo>
                      <a:pt x="594" y="497"/>
                    </a:lnTo>
                    <a:lnTo>
                      <a:pt x="594" y="497"/>
                    </a:lnTo>
                    <a:lnTo>
                      <a:pt x="591" y="497"/>
                    </a:lnTo>
                    <a:lnTo>
                      <a:pt x="583" y="497"/>
                    </a:lnTo>
                    <a:lnTo>
                      <a:pt x="569" y="493"/>
                    </a:lnTo>
                    <a:lnTo>
                      <a:pt x="569" y="497"/>
                    </a:lnTo>
                    <a:lnTo>
                      <a:pt x="573" y="493"/>
                    </a:lnTo>
                    <a:lnTo>
                      <a:pt x="562" y="486"/>
                    </a:lnTo>
                    <a:lnTo>
                      <a:pt x="551" y="479"/>
                    </a:lnTo>
                    <a:lnTo>
                      <a:pt x="536" y="471"/>
                    </a:lnTo>
                    <a:lnTo>
                      <a:pt x="525" y="468"/>
                    </a:lnTo>
                    <a:lnTo>
                      <a:pt x="511" y="460"/>
                    </a:lnTo>
                    <a:lnTo>
                      <a:pt x="511" y="460"/>
                    </a:lnTo>
                    <a:lnTo>
                      <a:pt x="507" y="460"/>
                    </a:lnTo>
                    <a:lnTo>
                      <a:pt x="500" y="460"/>
                    </a:lnTo>
                    <a:lnTo>
                      <a:pt x="500" y="464"/>
                    </a:lnTo>
                    <a:lnTo>
                      <a:pt x="504" y="460"/>
                    </a:lnTo>
                    <a:lnTo>
                      <a:pt x="496" y="457"/>
                    </a:lnTo>
                    <a:lnTo>
                      <a:pt x="496" y="457"/>
                    </a:lnTo>
                    <a:lnTo>
                      <a:pt x="493" y="457"/>
                    </a:lnTo>
                    <a:lnTo>
                      <a:pt x="489" y="457"/>
                    </a:lnTo>
                    <a:lnTo>
                      <a:pt x="482" y="457"/>
                    </a:lnTo>
                    <a:lnTo>
                      <a:pt x="482" y="457"/>
                    </a:lnTo>
                    <a:lnTo>
                      <a:pt x="482" y="457"/>
                    </a:lnTo>
                    <a:lnTo>
                      <a:pt x="475" y="460"/>
                    </a:lnTo>
                    <a:lnTo>
                      <a:pt x="467" y="464"/>
                    </a:lnTo>
                    <a:lnTo>
                      <a:pt x="460" y="468"/>
                    </a:lnTo>
                    <a:lnTo>
                      <a:pt x="453" y="471"/>
                    </a:lnTo>
                    <a:lnTo>
                      <a:pt x="446" y="475"/>
                    </a:lnTo>
                    <a:lnTo>
                      <a:pt x="446" y="475"/>
                    </a:lnTo>
                    <a:lnTo>
                      <a:pt x="442" y="475"/>
                    </a:lnTo>
                    <a:lnTo>
                      <a:pt x="435" y="482"/>
                    </a:lnTo>
                    <a:lnTo>
                      <a:pt x="435" y="486"/>
                    </a:lnTo>
                    <a:lnTo>
                      <a:pt x="435" y="486"/>
                    </a:lnTo>
                    <a:lnTo>
                      <a:pt x="428" y="497"/>
                    </a:lnTo>
                    <a:lnTo>
                      <a:pt x="424" y="508"/>
                    </a:lnTo>
                    <a:lnTo>
                      <a:pt x="420" y="515"/>
                    </a:lnTo>
                    <a:lnTo>
                      <a:pt x="417" y="522"/>
                    </a:lnTo>
                    <a:lnTo>
                      <a:pt x="417" y="522"/>
                    </a:lnTo>
                    <a:lnTo>
                      <a:pt x="417" y="522"/>
                    </a:lnTo>
                    <a:lnTo>
                      <a:pt x="417" y="529"/>
                    </a:lnTo>
                    <a:lnTo>
                      <a:pt x="417" y="540"/>
                    </a:lnTo>
                    <a:lnTo>
                      <a:pt x="417" y="548"/>
                    </a:lnTo>
                    <a:lnTo>
                      <a:pt x="417" y="551"/>
                    </a:lnTo>
                    <a:lnTo>
                      <a:pt x="417" y="551"/>
                    </a:lnTo>
                    <a:lnTo>
                      <a:pt x="420" y="562"/>
                    </a:lnTo>
                    <a:lnTo>
                      <a:pt x="424" y="573"/>
                    </a:lnTo>
                    <a:lnTo>
                      <a:pt x="424" y="573"/>
                    </a:lnTo>
                    <a:lnTo>
                      <a:pt x="424" y="573"/>
                    </a:lnTo>
                    <a:lnTo>
                      <a:pt x="431" y="580"/>
                    </a:lnTo>
                    <a:lnTo>
                      <a:pt x="435" y="577"/>
                    </a:lnTo>
                    <a:lnTo>
                      <a:pt x="431" y="580"/>
                    </a:lnTo>
                    <a:lnTo>
                      <a:pt x="438" y="591"/>
                    </a:lnTo>
                    <a:lnTo>
                      <a:pt x="438" y="591"/>
                    </a:lnTo>
                    <a:lnTo>
                      <a:pt x="438" y="591"/>
                    </a:lnTo>
                    <a:lnTo>
                      <a:pt x="446" y="598"/>
                    </a:lnTo>
                    <a:lnTo>
                      <a:pt x="449" y="602"/>
                    </a:lnTo>
                    <a:lnTo>
                      <a:pt x="449" y="602"/>
                    </a:lnTo>
                    <a:lnTo>
                      <a:pt x="457" y="606"/>
                    </a:lnTo>
                    <a:lnTo>
                      <a:pt x="457" y="606"/>
                    </a:lnTo>
                    <a:lnTo>
                      <a:pt x="457" y="606"/>
                    </a:lnTo>
                    <a:lnTo>
                      <a:pt x="460" y="606"/>
                    </a:lnTo>
                    <a:lnTo>
                      <a:pt x="460" y="598"/>
                    </a:lnTo>
                    <a:lnTo>
                      <a:pt x="460" y="606"/>
                    </a:lnTo>
                    <a:lnTo>
                      <a:pt x="467" y="609"/>
                    </a:lnTo>
                    <a:lnTo>
                      <a:pt x="467" y="609"/>
                    </a:lnTo>
                    <a:lnTo>
                      <a:pt x="467" y="609"/>
                    </a:lnTo>
                    <a:lnTo>
                      <a:pt x="471" y="609"/>
                    </a:lnTo>
                    <a:lnTo>
                      <a:pt x="471" y="602"/>
                    </a:lnTo>
                    <a:lnTo>
                      <a:pt x="471" y="609"/>
                    </a:lnTo>
                    <a:lnTo>
                      <a:pt x="482" y="613"/>
                    </a:lnTo>
                    <a:lnTo>
                      <a:pt x="482" y="613"/>
                    </a:lnTo>
                    <a:lnTo>
                      <a:pt x="482" y="613"/>
                    </a:lnTo>
                    <a:lnTo>
                      <a:pt x="486" y="613"/>
                    </a:lnTo>
                    <a:lnTo>
                      <a:pt x="493" y="613"/>
                    </a:lnTo>
                    <a:lnTo>
                      <a:pt x="504" y="613"/>
                    </a:lnTo>
                    <a:lnTo>
                      <a:pt x="511" y="613"/>
                    </a:lnTo>
                    <a:lnTo>
                      <a:pt x="515" y="613"/>
                    </a:lnTo>
                    <a:lnTo>
                      <a:pt x="515" y="613"/>
                    </a:lnTo>
                    <a:lnTo>
                      <a:pt x="525" y="609"/>
                    </a:lnTo>
                    <a:lnTo>
                      <a:pt x="522" y="602"/>
                    </a:lnTo>
                    <a:lnTo>
                      <a:pt x="522" y="609"/>
                    </a:lnTo>
                    <a:lnTo>
                      <a:pt x="529" y="609"/>
                    </a:lnTo>
                    <a:lnTo>
                      <a:pt x="533" y="609"/>
                    </a:lnTo>
                    <a:lnTo>
                      <a:pt x="533" y="609"/>
                    </a:lnTo>
                    <a:lnTo>
                      <a:pt x="544" y="606"/>
                    </a:lnTo>
                    <a:lnTo>
                      <a:pt x="558" y="598"/>
                    </a:lnTo>
                    <a:lnTo>
                      <a:pt x="554" y="591"/>
                    </a:lnTo>
                    <a:lnTo>
                      <a:pt x="554" y="598"/>
                    </a:lnTo>
                    <a:lnTo>
                      <a:pt x="569" y="595"/>
                    </a:lnTo>
                    <a:lnTo>
                      <a:pt x="583" y="591"/>
                    </a:lnTo>
                    <a:lnTo>
                      <a:pt x="594" y="591"/>
                    </a:lnTo>
                    <a:lnTo>
                      <a:pt x="602" y="591"/>
                    </a:lnTo>
                    <a:lnTo>
                      <a:pt x="602" y="584"/>
                    </a:lnTo>
                    <a:lnTo>
                      <a:pt x="598" y="587"/>
                    </a:lnTo>
                    <a:lnTo>
                      <a:pt x="602" y="591"/>
                    </a:lnTo>
                    <a:lnTo>
                      <a:pt x="605" y="595"/>
                    </a:lnTo>
                    <a:lnTo>
                      <a:pt x="605" y="595"/>
                    </a:lnTo>
                    <a:lnTo>
                      <a:pt x="609" y="595"/>
                    </a:lnTo>
                    <a:lnTo>
                      <a:pt x="609" y="587"/>
                    </a:lnTo>
                    <a:lnTo>
                      <a:pt x="609" y="595"/>
                    </a:lnTo>
                    <a:lnTo>
                      <a:pt x="616" y="598"/>
                    </a:lnTo>
                    <a:lnTo>
                      <a:pt x="616" y="591"/>
                    </a:lnTo>
                    <a:lnTo>
                      <a:pt x="612" y="595"/>
                    </a:lnTo>
                    <a:lnTo>
                      <a:pt x="616" y="598"/>
                    </a:lnTo>
                    <a:lnTo>
                      <a:pt x="620" y="595"/>
                    </a:lnTo>
                    <a:lnTo>
                      <a:pt x="616" y="598"/>
                    </a:lnTo>
                    <a:lnTo>
                      <a:pt x="620" y="606"/>
                    </a:lnTo>
                    <a:lnTo>
                      <a:pt x="620" y="606"/>
                    </a:lnTo>
                    <a:lnTo>
                      <a:pt x="620" y="606"/>
                    </a:lnTo>
                    <a:lnTo>
                      <a:pt x="623" y="609"/>
                    </a:lnTo>
                    <a:lnTo>
                      <a:pt x="627" y="606"/>
                    </a:lnTo>
                    <a:lnTo>
                      <a:pt x="623" y="609"/>
                    </a:lnTo>
                    <a:lnTo>
                      <a:pt x="627" y="620"/>
                    </a:lnTo>
                    <a:lnTo>
                      <a:pt x="631" y="627"/>
                    </a:lnTo>
                    <a:lnTo>
                      <a:pt x="634" y="638"/>
                    </a:lnTo>
                    <a:lnTo>
                      <a:pt x="638" y="649"/>
                    </a:lnTo>
                    <a:lnTo>
                      <a:pt x="641" y="660"/>
                    </a:lnTo>
                    <a:lnTo>
                      <a:pt x="645" y="656"/>
                    </a:lnTo>
                    <a:lnTo>
                      <a:pt x="641" y="656"/>
                    </a:lnTo>
                    <a:lnTo>
                      <a:pt x="641" y="671"/>
                    </a:lnTo>
                    <a:lnTo>
                      <a:pt x="641" y="674"/>
                    </a:lnTo>
                    <a:lnTo>
                      <a:pt x="641" y="674"/>
                    </a:lnTo>
                    <a:lnTo>
                      <a:pt x="645" y="689"/>
                    </a:lnTo>
                    <a:lnTo>
                      <a:pt x="649" y="685"/>
                    </a:lnTo>
                    <a:lnTo>
                      <a:pt x="645" y="685"/>
                    </a:lnTo>
                    <a:lnTo>
                      <a:pt x="645" y="700"/>
                    </a:lnTo>
                    <a:lnTo>
                      <a:pt x="645" y="714"/>
                    </a:lnTo>
                    <a:lnTo>
                      <a:pt x="645" y="729"/>
                    </a:lnTo>
                    <a:lnTo>
                      <a:pt x="645" y="743"/>
                    </a:lnTo>
                    <a:lnTo>
                      <a:pt x="645" y="758"/>
                    </a:lnTo>
                    <a:lnTo>
                      <a:pt x="649" y="758"/>
                    </a:lnTo>
                    <a:lnTo>
                      <a:pt x="645" y="758"/>
                    </a:lnTo>
                    <a:lnTo>
                      <a:pt x="641" y="772"/>
                    </a:lnTo>
                    <a:lnTo>
                      <a:pt x="638" y="787"/>
                    </a:lnTo>
                    <a:lnTo>
                      <a:pt x="634" y="801"/>
                    </a:lnTo>
                    <a:lnTo>
                      <a:pt x="631" y="816"/>
                    </a:lnTo>
                    <a:lnTo>
                      <a:pt x="623" y="827"/>
                    </a:lnTo>
                    <a:lnTo>
                      <a:pt x="627" y="827"/>
                    </a:lnTo>
                    <a:lnTo>
                      <a:pt x="627" y="823"/>
                    </a:lnTo>
                    <a:lnTo>
                      <a:pt x="594" y="823"/>
                    </a:lnTo>
                    <a:lnTo>
                      <a:pt x="565" y="820"/>
                    </a:lnTo>
                    <a:lnTo>
                      <a:pt x="536" y="820"/>
                    </a:lnTo>
                    <a:lnTo>
                      <a:pt x="507" y="816"/>
                    </a:lnTo>
                    <a:lnTo>
                      <a:pt x="482" y="812"/>
                    </a:lnTo>
                    <a:lnTo>
                      <a:pt x="464" y="812"/>
                    </a:lnTo>
                    <a:lnTo>
                      <a:pt x="446" y="809"/>
                    </a:lnTo>
                    <a:lnTo>
                      <a:pt x="435" y="809"/>
                    </a:lnTo>
                    <a:lnTo>
                      <a:pt x="431" y="809"/>
                    </a:lnTo>
                    <a:lnTo>
                      <a:pt x="431" y="809"/>
                    </a:lnTo>
                    <a:lnTo>
                      <a:pt x="431" y="809"/>
                    </a:lnTo>
                    <a:lnTo>
                      <a:pt x="424" y="812"/>
                    </a:lnTo>
                    <a:lnTo>
                      <a:pt x="417" y="816"/>
                    </a:lnTo>
                    <a:lnTo>
                      <a:pt x="413" y="816"/>
                    </a:lnTo>
                    <a:lnTo>
                      <a:pt x="413" y="820"/>
                    </a:lnTo>
                    <a:lnTo>
                      <a:pt x="409" y="827"/>
                    </a:lnTo>
                    <a:lnTo>
                      <a:pt x="413" y="827"/>
                    </a:lnTo>
                    <a:lnTo>
                      <a:pt x="413" y="823"/>
                    </a:lnTo>
                    <a:lnTo>
                      <a:pt x="406" y="827"/>
                    </a:lnTo>
                    <a:lnTo>
                      <a:pt x="402" y="827"/>
                    </a:lnTo>
                    <a:lnTo>
                      <a:pt x="402" y="830"/>
                    </a:lnTo>
                    <a:lnTo>
                      <a:pt x="399" y="838"/>
                    </a:lnTo>
                    <a:lnTo>
                      <a:pt x="395" y="849"/>
                    </a:lnTo>
                    <a:lnTo>
                      <a:pt x="391" y="856"/>
                    </a:lnTo>
                    <a:lnTo>
                      <a:pt x="391" y="856"/>
                    </a:lnTo>
                    <a:lnTo>
                      <a:pt x="391" y="856"/>
                    </a:lnTo>
                    <a:lnTo>
                      <a:pt x="391" y="867"/>
                    </a:lnTo>
                    <a:lnTo>
                      <a:pt x="391" y="874"/>
                    </a:lnTo>
                    <a:lnTo>
                      <a:pt x="391" y="885"/>
                    </a:lnTo>
                    <a:lnTo>
                      <a:pt x="391" y="896"/>
                    </a:lnTo>
                    <a:lnTo>
                      <a:pt x="391" y="899"/>
                    </a:lnTo>
                    <a:lnTo>
                      <a:pt x="391" y="899"/>
                    </a:lnTo>
                    <a:lnTo>
                      <a:pt x="395" y="910"/>
                    </a:lnTo>
                    <a:lnTo>
                      <a:pt x="402" y="921"/>
                    </a:lnTo>
                    <a:lnTo>
                      <a:pt x="406" y="928"/>
                    </a:lnTo>
                    <a:lnTo>
                      <a:pt x="413" y="939"/>
                    </a:lnTo>
                    <a:lnTo>
                      <a:pt x="413" y="939"/>
                    </a:lnTo>
                    <a:lnTo>
                      <a:pt x="417" y="943"/>
                    </a:lnTo>
                    <a:lnTo>
                      <a:pt x="428" y="950"/>
                    </a:lnTo>
                    <a:lnTo>
                      <a:pt x="428" y="943"/>
                    </a:lnTo>
                    <a:lnTo>
                      <a:pt x="424" y="947"/>
                    </a:lnTo>
                    <a:lnTo>
                      <a:pt x="431" y="957"/>
                    </a:lnTo>
                    <a:lnTo>
                      <a:pt x="435" y="968"/>
                    </a:lnTo>
                    <a:lnTo>
                      <a:pt x="438" y="979"/>
                    </a:lnTo>
                    <a:lnTo>
                      <a:pt x="442" y="990"/>
                    </a:lnTo>
                    <a:lnTo>
                      <a:pt x="446" y="986"/>
                    </a:lnTo>
                    <a:lnTo>
                      <a:pt x="442" y="986"/>
                    </a:lnTo>
                    <a:lnTo>
                      <a:pt x="438" y="997"/>
                    </a:lnTo>
                    <a:lnTo>
                      <a:pt x="438" y="997"/>
                    </a:lnTo>
                    <a:lnTo>
                      <a:pt x="438" y="997"/>
                    </a:lnTo>
                    <a:lnTo>
                      <a:pt x="438" y="1008"/>
                    </a:lnTo>
                    <a:lnTo>
                      <a:pt x="442" y="1008"/>
                    </a:lnTo>
                    <a:lnTo>
                      <a:pt x="438" y="1008"/>
                    </a:lnTo>
                    <a:lnTo>
                      <a:pt x="435" y="1019"/>
                    </a:lnTo>
                    <a:lnTo>
                      <a:pt x="431" y="1030"/>
                    </a:lnTo>
                    <a:lnTo>
                      <a:pt x="435" y="1030"/>
                    </a:lnTo>
                    <a:lnTo>
                      <a:pt x="431" y="1026"/>
                    </a:lnTo>
                    <a:lnTo>
                      <a:pt x="424" y="1034"/>
                    </a:lnTo>
                    <a:lnTo>
                      <a:pt x="428" y="1037"/>
                    </a:lnTo>
                    <a:lnTo>
                      <a:pt x="428" y="1034"/>
                    </a:lnTo>
                    <a:lnTo>
                      <a:pt x="417" y="1041"/>
                    </a:lnTo>
                    <a:lnTo>
                      <a:pt x="417" y="1041"/>
                    </a:lnTo>
                    <a:lnTo>
                      <a:pt x="413" y="1041"/>
                    </a:lnTo>
                    <a:lnTo>
                      <a:pt x="402" y="1052"/>
                    </a:lnTo>
                    <a:lnTo>
                      <a:pt x="406" y="1055"/>
                    </a:lnTo>
                    <a:lnTo>
                      <a:pt x="406" y="1052"/>
                    </a:lnTo>
                    <a:lnTo>
                      <a:pt x="395" y="1055"/>
                    </a:lnTo>
                    <a:lnTo>
                      <a:pt x="384" y="1063"/>
                    </a:lnTo>
                    <a:lnTo>
                      <a:pt x="384" y="1066"/>
                    </a:lnTo>
                    <a:lnTo>
                      <a:pt x="384" y="1063"/>
                    </a:lnTo>
                    <a:lnTo>
                      <a:pt x="370" y="1066"/>
                    </a:lnTo>
                    <a:lnTo>
                      <a:pt x="351" y="1066"/>
                    </a:lnTo>
                    <a:lnTo>
                      <a:pt x="344" y="1066"/>
                    </a:lnTo>
                    <a:lnTo>
                      <a:pt x="337" y="1066"/>
                    </a:lnTo>
                    <a:lnTo>
                      <a:pt x="330" y="1066"/>
                    </a:lnTo>
                    <a:lnTo>
                      <a:pt x="330" y="1070"/>
                    </a:lnTo>
                    <a:lnTo>
                      <a:pt x="333" y="1066"/>
                    </a:lnTo>
                    <a:lnTo>
                      <a:pt x="326" y="1063"/>
                    </a:lnTo>
                    <a:lnTo>
                      <a:pt x="319" y="1059"/>
                    </a:lnTo>
                    <a:lnTo>
                      <a:pt x="319" y="1059"/>
                    </a:lnTo>
                    <a:lnTo>
                      <a:pt x="315" y="1059"/>
                    </a:lnTo>
                    <a:lnTo>
                      <a:pt x="311" y="1059"/>
                    </a:lnTo>
                    <a:lnTo>
                      <a:pt x="311" y="1063"/>
                    </a:lnTo>
                    <a:lnTo>
                      <a:pt x="315" y="1059"/>
                    </a:lnTo>
                    <a:lnTo>
                      <a:pt x="308" y="1055"/>
                    </a:lnTo>
                    <a:lnTo>
                      <a:pt x="301" y="1052"/>
                    </a:lnTo>
                    <a:lnTo>
                      <a:pt x="297" y="1055"/>
                    </a:lnTo>
                    <a:lnTo>
                      <a:pt x="304" y="1055"/>
                    </a:lnTo>
                    <a:lnTo>
                      <a:pt x="297" y="1044"/>
                    </a:lnTo>
                    <a:lnTo>
                      <a:pt x="297" y="1044"/>
                    </a:lnTo>
                    <a:lnTo>
                      <a:pt x="293" y="1041"/>
                    </a:lnTo>
                    <a:lnTo>
                      <a:pt x="286" y="1034"/>
                    </a:lnTo>
                    <a:lnTo>
                      <a:pt x="282" y="1037"/>
                    </a:lnTo>
                    <a:lnTo>
                      <a:pt x="290" y="1037"/>
                    </a:lnTo>
                    <a:lnTo>
                      <a:pt x="282" y="1026"/>
                    </a:lnTo>
                    <a:lnTo>
                      <a:pt x="275" y="1015"/>
                    </a:lnTo>
                    <a:lnTo>
                      <a:pt x="272" y="1005"/>
                    </a:lnTo>
                    <a:lnTo>
                      <a:pt x="264" y="1005"/>
                    </a:lnTo>
                    <a:lnTo>
                      <a:pt x="272" y="1005"/>
                    </a:lnTo>
                    <a:lnTo>
                      <a:pt x="272" y="994"/>
                    </a:lnTo>
                    <a:lnTo>
                      <a:pt x="272" y="979"/>
                    </a:lnTo>
                    <a:lnTo>
                      <a:pt x="272" y="968"/>
                    </a:lnTo>
                    <a:lnTo>
                      <a:pt x="264" y="968"/>
                    </a:lnTo>
                    <a:lnTo>
                      <a:pt x="272" y="972"/>
                    </a:lnTo>
                    <a:lnTo>
                      <a:pt x="275" y="961"/>
                    </a:lnTo>
                    <a:lnTo>
                      <a:pt x="279" y="950"/>
                    </a:lnTo>
                    <a:lnTo>
                      <a:pt x="282" y="943"/>
                    </a:lnTo>
                    <a:lnTo>
                      <a:pt x="290" y="932"/>
                    </a:lnTo>
                    <a:lnTo>
                      <a:pt x="282" y="928"/>
                    </a:lnTo>
                    <a:lnTo>
                      <a:pt x="286" y="936"/>
                    </a:lnTo>
                    <a:lnTo>
                      <a:pt x="293" y="932"/>
                    </a:lnTo>
                    <a:lnTo>
                      <a:pt x="293" y="932"/>
                    </a:lnTo>
                    <a:lnTo>
                      <a:pt x="293" y="928"/>
                    </a:lnTo>
                    <a:lnTo>
                      <a:pt x="301" y="921"/>
                    </a:lnTo>
                    <a:lnTo>
                      <a:pt x="304" y="921"/>
                    </a:lnTo>
                    <a:lnTo>
                      <a:pt x="304" y="921"/>
                    </a:lnTo>
                    <a:lnTo>
                      <a:pt x="308" y="914"/>
                    </a:lnTo>
                    <a:lnTo>
                      <a:pt x="311" y="907"/>
                    </a:lnTo>
                    <a:lnTo>
                      <a:pt x="311" y="907"/>
                    </a:lnTo>
                    <a:lnTo>
                      <a:pt x="311" y="903"/>
                    </a:lnTo>
                    <a:lnTo>
                      <a:pt x="311" y="896"/>
                    </a:lnTo>
                    <a:lnTo>
                      <a:pt x="311" y="888"/>
                    </a:lnTo>
                    <a:lnTo>
                      <a:pt x="311" y="881"/>
                    </a:lnTo>
                    <a:lnTo>
                      <a:pt x="311" y="874"/>
                    </a:lnTo>
                    <a:lnTo>
                      <a:pt x="311" y="874"/>
                    </a:lnTo>
                    <a:lnTo>
                      <a:pt x="311" y="874"/>
                    </a:lnTo>
                    <a:lnTo>
                      <a:pt x="308" y="867"/>
                    </a:lnTo>
                    <a:lnTo>
                      <a:pt x="308" y="867"/>
                    </a:lnTo>
                    <a:lnTo>
                      <a:pt x="304" y="863"/>
                    </a:lnTo>
                    <a:lnTo>
                      <a:pt x="297" y="856"/>
                    </a:lnTo>
                    <a:lnTo>
                      <a:pt x="290" y="849"/>
                    </a:lnTo>
                    <a:lnTo>
                      <a:pt x="290" y="849"/>
                    </a:lnTo>
                    <a:lnTo>
                      <a:pt x="290" y="849"/>
                    </a:lnTo>
                    <a:lnTo>
                      <a:pt x="282" y="845"/>
                    </a:lnTo>
                    <a:lnTo>
                      <a:pt x="272" y="838"/>
                    </a:lnTo>
                    <a:lnTo>
                      <a:pt x="257" y="830"/>
                    </a:lnTo>
                    <a:lnTo>
                      <a:pt x="257" y="830"/>
                    </a:lnTo>
                    <a:lnTo>
                      <a:pt x="253" y="830"/>
                    </a:lnTo>
                    <a:lnTo>
                      <a:pt x="239" y="827"/>
                    </a:lnTo>
                    <a:lnTo>
                      <a:pt x="221" y="823"/>
                    </a:lnTo>
                    <a:lnTo>
                      <a:pt x="203" y="823"/>
                    </a:lnTo>
                    <a:lnTo>
                      <a:pt x="177" y="820"/>
                    </a:lnTo>
                    <a:lnTo>
                      <a:pt x="152" y="820"/>
                    </a:lnTo>
                    <a:lnTo>
                      <a:pt x="119" y="823"/>
                    </a:lnTo>
                    <a:lnTo>
                      <a:pt x="87" y="823"/>
                    </a:lnTo>
                    <a:lnTo>
                      <a:pt x="58" y="827"/>
                    </a:lnTo>
                    <a:lnTo>
                      <a:pt x="32" y="830"/>
                    </a:lnTo>
                    <a:lnTo>
                      <a:pt x="14" y="834"/>
                    </a:lnTo>
                    <a:lnTo>
                      <a:pt x="14" y="838"/>
                    </a:lnTo>
                    <a:lnTo>
                      <a:pt x="21" y="838"/>
                    </a:lnTo>
                    <a:lnTo>
                      <a:pt x="18" y="830"/>
                    </a:lnTo>
                    <a:lnTo>
                      <a:pt x="14" y="820"/>
                    </a:lnTo>
                    <a:lnTo>
                      <a:pt x="7" y="820"/>
                    </a:lnTo>
                    <a:lnTo>
                      <a:pt x="14" y="820"/>
                    </a:lnTo>
                    <a:lnTo>
                      <a:pt x="14" y="809"/>
                    </a:lnTo>
                    <a:lnTo>
                      <a:pt x="14" y="809"/>
                    </a:lnTo>
                    <a:lnTo>
                      <a:pt x="14" y="809"/>
                    </a:lnTo>
                    <a:lnTo>
                      <a:pt x="11" y="798"/>
                    </a:lnTo>
                    <a:lnTo>
                      <a:pt x="3" y="798"/>
                    </a:lnTo>
                    <a:lnTo>
                      <a:pt x="11" y="798"/>
                    </a:lnTo>
                    <a:lnTo>
                      <a:pt x="11" y="772"/>
                    </a:lnTo>
                    <a:lnTo>
                      <a:pt x="11" y="743"/>
                    </a:lnTo>
                    <a:lnTo>
                      <a:pt x="11" y="718"/>
                    </a:lnTo>
                    <a:lnTo>
                      <a:pt x="14" y="693"/>
                    </a:lnTo>
                    <a:lnTo>
                      <a:pt x="18" y="667"/>
                    </a:lnTo>
                    <a:lnTo>
                      <a:pt x="21" y="645"/>
                    </a:lnTo>
                    <a:lnTo>
                      <a:pt x="21" y="635"/>
                    </a:lnTo>
                    <a:lnTo>
                      <a:pt x="14" y="635"/>
                    </a:lnTo>
                    <a:lnTo>
                      <a:pt x="21" y="638"/>
                    </a:lnTo>
                    <a:lnTo>
                      <a:pt x="25" y="631"/>
                    </a:lnTo>
                    <a:lnTo>
                      <a:pt x="29" y="624"/>
                    </a:lnTo>
                    <a:lnTo>
                      <a:pt x="21" y="620"/>
                    </a:lnTo>
                    <a:lnTo>
                      <a:pt x="25" y="627"/>
                    </a:lnTo>
                    <a:lnTo>
                      <a:pt x="32" y="624"/>
                    </a:lnTo>
                    <a:lnTo>
                      <a:pt x="40" y="620"/>
                    </a:lnTo>
                    <a:lnTo>
                      <a:pt x="47" y="616"/>
                    </a:lnTo>
                    <a:lnTo>
                      <a:pt x="43" y="609"/>
                    </a:lnTo>
                    <a:lnTo>
                      <a:pt x="43" y="616"/>
                    </a:lnTo>
                    <a:lnTo>
                      <a:pt x="50" y="616"/>
                    </a:lnTo>
                    <a:lnTo>
                      <a:pt x="58" y="616"/>
                    </a:lnTo>
                    <a:lnTo>
                      <a:pt x="65" y="616"/>
                    </a:lnTo>
                    <a:lnTo>
                      <a:pt x="65" y="609"/>
                    </a:lnTo>
                    <a:lnTo>
                      <a:pt x="65" y="616"/>
                    </a:lnTo>
                    <a:lnTo>
                      <a:pt x="72" y="620"/>
                    </a:lnTo>
                    <a:lnTo>
                      <a:pt x="79" y="624"/>
                    </a:lnTo>
                    <a:lnTo>
                      <a:pt x="87" y="627"/>
                    </a:lnTo>
                    <a:lnTo>
                      <a:pt x="98" y="631"/>
                    </a:lnTo>
                    <a:lnTo>
                      <a:pt x="105" y="635"/>
                    </a:lnTo>
                    <a:lnTo>
                      <a:pt x="105" y="627"/>
                    </a:lnTo>
                    <a:lnTo>
                      <a:pt x="101" y="631"/>
                    </a:lnTo>
                    <a:lnTo>
                      <a:pt x="108" y="638"/>
                    </a:lnTo>
                    <a:lnTo>
                      <a:pt x="116" y="645"/>
                    </a:lnTo>
                    <a:lnTo>
                      <a:pt x="123" y="653"/>
                    </a:lnTo>
                    <a:lnTo>
                      <a:pt x="127" y="656"/>
                    </a:lnTo>
                    <a:lnTo>
                      <a:pt x="127" y="656"/>
                    </a:lnTo>
                    <a:lnTo>
                      <a:pt x="134" y="660"/>
                    </a:lnTo>
                    <a:lnTo>
                      <a:pt x="141" y="664"/>
                    </a:lnTo>
                    <a:lnTo>
                      <a:pt x="152" y="667"/>
                    </a:lnTo>
                    <a:lnTo>
                      <a:pt x="163" y="671"/>
                    </a:lnTo>
                    <a:lnTo>
                      <a:pt x="163" y="671"/>
                    </a:lnTo>
                    <a:lnTo>
                      <a:pt x="163" y="671"/>
                    </a:lnTo>
                    <a:lnTo>
                      <a:pt x="174" y="671"/>
                    </a:lnTo>
                    <a:lnTo>
                      <a:pt x="185" y="671"/>
                    </a:lnTo>
                    <a:lnTo>
                      <a:pt x="188" y="671"/>
                    </a:lnTo>
                    <a:lnTo>
                      <a:pt x="188" y="671"/>
                    </a:lnTo>
                    <a:lnTo>
                      <a:pt x="195" y="667"/>
                    </a:lnTo>
                    <a:lnTo>
                      <a:pt x="206" y="664"/>
                    </a:lnTo>
                    <a:lnTo>
                      <a:pt x="217" y="660"/>
                    </a:lnTo>
                    <a:lnTo>
                      <a:pt x="217" y="660"/>
                    </a:lnTo>
                    <a:lnTo>
                      <a:pt x="217" y="656"/>
                    </a:lnTo>
                    <a:lnTo>
                      <a:pt x="224" y="649"/>
                    </a:lnTo>
                    <a:lnTo>
                      <a:pt x="232" y="642"/>
                    </a:lnTo>
                    <a:lnTo>
                      <a:pt x="235" y="642"/>
                    </a:lnTo>
                    <a:lnTo>
                      <a:pt x="235" y="642"/>
                    </a:lnTo>
                    <a:lnTo>
                      <a:pt x="243" y="631"/>
                    </a:lnTo>
                    <a:lnTo>
                      <a:pt x="235" y="627"/>
                    </a:lnTo>
                    <a:lnTo>
                      <a:pt x="239" y="631"/>
                    </a:lnTo>
                    <a:lnTo>
                      <a:pt x="246" y="624"/>
                    </a:lnTo>
                    <a:lnTo>
                      <a:pt x="250" y="624"/>
                    </a:lnTo>
                    <a:lnTo>
                      <a:pt x="250" y="624"/>
                    </a:lnTo>
                    <a:lnTo>
                      <a:pt x="253" y="609"/>
                    </a:lnTo>
                    <a:lnTo>
                      <a:pt x="257" y="598"/>
                    </a:lnTo>
                    <a:lnTo>
                      <a:pt x="257" y="598"/>
                    </a:lnTo>
                    <a:lnTo>
                      <a:pt x="257" y="595"/>
                    </a:lnTo>
                    <a:lnTo>
                      <a:pt x="257" y="587"/>
                    </a:lnTo>
                    <a:lnTo>
                      <a:pt x="257" y="580"/>
                    </a:lnTo>
                    <a:lnTo>
                      <a:pt x="257" y="573"/>
                    </a:lnTo>
                    <a:lnTo>
                      <a:pt x="257" y="566"/>
                    </a:lnTo>
                    <a:lnTo>
                      <a:pt x="257" y="566"/>
                    </a:lnTo>
                    <a:lnTo>
                      <a:pt x="253" y="562"/>
                    </a:lnTo>
                    <a:lnTo>
                      <a:pt x="250" y="558"/>
                    </a:lnTo>
                    <a:lnTo>
                      <a:pt x="246" y="562"/>
                    </a:lnTo>
                    <a:lnTo>
                      <a:pt x="253" y="562"/>
                    </a:lnTo>
                    <a:lnTo>
                      <a:pt x="250" y="555"/>
                    </a:lnTo>
                    <a:lnTo>
                      <a:pt x="250" y="555"/>
                    </a:lnTo>
                    <a:lnTo>
                      <a:pt x="246" y="551"/>
                    </a:lnTo>
                    <a:lnTo>
                      <a:pt x="243" y="548"/>
                    </a:lnTo>
                    <a:lnTo>
                      <a:pt x="239" y="551"/>
                    </a:lnTo>
                    <a:lnTo>
                      <a:pt x="246" y="551"/>
                    </a:lnTo>
                    <a:lnTo>
                      <a:pt x="246" y="544"/>
                    </a:lnTo>
                    <a:lnTo>
                      <a:pt x="246" y="544"/>
                    </a:lnTo>
                    <a:lnTo>
                      <a:pt x="246" y="544"/>
                    </a:lnTo>
                    <a:lnTo>
                      <a:pt x="239" y="533"/>
                    </a:lnTo>
                    <a:lnTo>
                      <a:pt x="235" y="529"/>
                    </a:lnTo>
                    <a:lnTo>
                      <a:pt x="235" y="529"/>
                    </a:lnTo>
                    <a:lnTo>
                      <a:pt x="224" y="522"/>
                    </a:lnTo>
                    <a:lnTo>
                      <a:pt x="214" y="515"/>
                    </a:lnTo>
                    <a:lnTo>
                      <a:pt x="203" y="508"/>
                    </a:lnTo>
                    <a:lnTo>
                      <a:pt x="192" y="504"/>
                    </a:lnTo>
                    <a:lnTo>
                      <a:pt x="181" y="500"/>
                    </a:lnTo>
                    <a:lnTo>
                      <a:pt x="181" y="500"/>
                    </a:lnTo>
                    <a:lnTo>
                      <a:pt x="177" y="500"/>
                    </a:lnTo>
                    <a:lnTo>
                      <a:pt x="163" y="500"/>
                    </a:lnTo>
                    <a:lnTo>
                      <a:pt x="152" y="500"/>
                    </a:lnTo>
                    <a:lnTo>
                      <a:pt x="152" y="500"/>
                    </a:lnTo>
                    <a:lnTo>
                      <a:pt x="152" y="500"/>
                    </a:lnTo>
                    <a:lnTo>
                      <a:pt x="141" y="504"/>
                    </a:lnTo>
                    <a:lnTo>
                      <a:pt x="130" y="508"/>
                    </a:lnTo>
                    <a:lnTo>
                      <a:pt x="130" y="508"/>
                    </a:lnTo>
                    <a:lnTo>
                      <a:pt x="127" y="508"/>
                    </a:lnTo>
                    <a:lnTo>
                      <a:pt x="123" y="511"/>
                    </a:lnTo>
                    <a:lnTo>
                      <a:pt x="127" y="515"/>
                    </a:lnTo>
                    <a:lnTo>
                      <a:pt x="127" y="511"/>
                    </a:lnTo>
                    <a:lnTo>
                      <a:pt x="123" y="511"/>
                    </a:lnTo>
                    <a:lnTo>
                      <a:pt x="119" y="511"/>
                    </a:lnTo>
                    <a:lnTo>
                      <a:pt x="119" y="515"/>
                    </a:lnTo>
                    <a:lnTo>
                      <a:pt x="116" y="522"/>
                    </a:lnTo>
                    <a:lnTo>
                      <a:pt x="119" y="522"/>
                    </a:lnTo>
                    <a:lnTo>
                      <a:pt x="116" y="519"/>
                    </a:lnTo>
                    <a:lnTo>
                      <a:pt x="112" y="522"/>
                    </a:lnTo>
                    <a:close/>
                  </a:path>
                </a:pathLst>
              </a:custGeom>
              <a:solidFill>
                <a:srgbClr val="ccffcc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716200" y="3276720"/>
              <a:ext cx="108108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49440"/>
                  <a:tab algn="l" pos="1298520"/>
                  <a:tab algn="l" pos="1947960"/>
                  <a:tab algn="l" pos="2597040"/>
                  <a:tab algn="l" pos="3246480"/>
                  <a:tab algn="l" pos="3895560"/>
                  <a:tab algn="l" pos="4545000"/>
                  <a:tab algn="l" pos="5194440"/>
                  <a:tab algn="l" pos="5843520"/>
                  <a:tab algn="l" pos="6492960"/>
                  <a:tab algn="l" pos="7142040"/>
                  <a:tab algn="l" pos="7791480"/>
                  <a:tab algn="l" pos="8440560"/>
                  <a:tab algn="l" pos="9090000"/>
                  <a:tab algn="l" pos="9739440"/>
                  <a:tab algn="l" pos="10388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2920" y="2732040"/>
            <a:ext cx="2133360" cy="1682280"/>
            <a:chOff x="142920" y="2732040"/>
            <a:chExt cx="2133360" cy="1682280"/>
          </a:xfrm>
        </p:grpSpPr>
        <p:grpSp>
          <p:nvGrpSpPr>
            <p:cNvPr id="120" name=""/>
            <p:cNvGrpSpPr/>
            <p:nvPr/>
          </p:nvGrpSpPr>
          <p:grpSpPr>
            <a:xfrm>
              <a:off x="142920" y="2732040"/>
              <a:ext cx="2133360" cy="1682280"/>
              <a:chOff x="142920" y="2732040"/>
              <a:chExt cx="2133360" cy="1682280"/>
            </a:xfrm>
          </p:grpSpPr>
          <p:sp>
            <p:nvSpPr>
              <p:cNvPr id="121" name=""/>
              <p:cNvSpPr/>
              <p:nvPr/>
            </p:nvSpPr>
            <p:spPr>
              <a:xfrm>
                <a:off x="150840" y="2738160"/>
                <a:ext cx="2111760" cy="1662120"/>
              </a:xfrm>
              <a:custGeom>
                <a:avLst/>
                <a:gdLst/>
                <a:ahLst/>
                <a:rect l="l" t="t" r="r" b="b"/>
                <a:pathLst>
                  <a:path w="1073" h="831">
                    <a:moveTo>
                      <a:pt x="210" y="475"/>
                    </a:moveTo>
                    <a:lnTo>
                      <a:pt x="206" y="479"/>
                    </a:lnTo>
                    <a:lnTo>
                      <a:pt x="199" y="483"/>
                    </a:lnTo>
                    <a:lnTo>
                      <a:pt x="192" y="486"/>
                    </a:lnTo>
                    <a:lnTo>
                      <a:pt x="188" y="490"/>
                    </a:lnTo>
                    <a:lnTo>
                      <a:pt x="181" y="490"/>
                    </a:lnTo>
                    <a:lnTo>
                      <a:pt x="174" y="490"/>
                    </a:lnTo>
                    <a:lnTo>
                      <a:pt x="170" y="486"/>
                    </a:lnTo>
                    <a:lnTo>
                      <a:pt x="163" y="486"/>
                    </a:lnTo>
                    <a:lnTo>
                      <a:pt x="148" y="479"/>
                    </a:lnTo>
                    <a:lnTo>
                      <a:pt x="137" y="475"/>
                    </a:lnTo>
                    <a:lnTo>
                      <a:pt x="127" y="468"/>
                    </a:lnTo>
                    <a:lnTo>
                      <a:pt x="112" y="461"/>
                    </a:lnTo>
                    <a:lnTo>
                      <a:pt x="101" y="454"/>
                    </a:lnTo>
                    <a:lnTo>
                      <a:pt x="87" y="450"/>
                    </a:lnTo>
                    <a:lnTo>
                      <a:pt x="79" y="450"/>
                    </a:lnTo>
                    <a:lnTo>
                      <a:pt x="76" y="446"/>
                    </a:lnTo>
                    <a:lnTo>
                      <a:pt x="69" y="446"/>
                    </a:lnTo>
                    <a:lnTo>
                      <a:pt x="61" y="446"/>
                    </a:lnTo>
                    <a:lnTo>
                      <a:pt x="54" y="450"/>
                    </a:lnTo>
                    <a:lnTo>
                      <a:pt x="47" y="450"/>
                    </a:lnTo>
                    <a:lnTo>
                      <a:pt x="40" y="454"/>
                    </a:lnTo>
                    <a:lnTo>
                      <a:pt x="36" y="461"/>
                    </a:lnTo>
                    <a:lnTo>
                      <a:pt x="29" y="465"/>
                    </a:lnTo>
                    <a:lnTo>
                      <a:pt x="21" y="472"/>
                    </a:lnTo>
                    <a:lnTo>
                      <a:pt x="14" y="483"/>
                    </a:lnTo>
                    <a:lnTo>
                      <a:pt x="7" y="494"/>
                    </a:lnTo>
                    <a:lnTo>
                      <a:pt x="3" y="497"/>
                    </a:lnTo>
                    <a:lnTo>
                      <a:pt x="0" y="505"/>
                    </a:lnTo>
                    <a:lnTo>
                      <a:pt x="0" y="515"/>
                    </a:lnTo>
                    <a:lnTo>
                      <a:pt x="0" y="526"/>
                    </a:lnTo>
                    <a:lnTo>
                      <a:pt x="0" y="534"/>
                    </a:lnTo>
                    <a:lnTo>
                      <a:pt x="3" y="544"/>
                    </a:lnTo>
                    <a:lnTo>
                      <a:pt x="11" y="555"/>
                    </a:lnTo>
                    <a:lnTo>
                      <a:pt x="14" y="563"/>
                    </a:lnTo>
                    <a:lnTo>
                      <a:pt x="21" y="573"/>
                    </a:lnTo>
                    <a:lnTo>
                      <a:pt x="32" y="581"/>
                    </a:lnTo>
                    <a:lnTo>
                      <a:pt x="36" y="581"/>
                    </a:lnTo>
                    <a:lnTo>
                      <a:pt x="40" y="584"/>
                    </a:lnTo>
                    <a:lnTo>
                      <a:pt x="47" y="588"/>
                    </a:lnTo>
                    <a:lnTo>
                      <a:pt x="54" y="588"/>
                    </a:lnTo>
                    <a:lnTo>
                      <a:pt x="61" y="592"/>
                    </a:lnTo>
                    <a:lnTo>
                      <a:pt x="69" y="592"/>
                    </a:lnTo>
                    <a:lnTo>
                      <a:pt x="76" y="592"/>
                    </a:lnTo>
                    <a:lnTo>
                      <a:pt x="83" y="592"/>
                    </a:lnTo>
                    <a:lnTo>
                      <a:pt x="94" y="592"/>
                    </a:lnTo>
                    <a:lnTo>
                      <a:pt x="101" y="588"/>
                    </a:lnTo>
                    <a:lnTo>
                      <a:pt x="108" y="588"/>
                    </a:lnTo>
                    <a:lnTo>
                      <a:pt x="119" y="584"/>
                    </a:lnTo>
                    <a:lnTo>
                      <a:pt x="137" y="577"/>
                    </a:lnTo>
                    <a:lnTo>
                      <a:pt x="148" y="573"/>
                    </a:lnTo>
                    <a:lnTo>
                      <a:pt x="163" y="570"/>
                    </a:lnTo>
                    <a:lnTo>
                      <a:pt x="174" y="570"/>
                    </a:lnTo>
                    <a:lnTo>
                      <a:pt x="181" y="570"/>
                    </a:lnTo>
                    <a:lnTo>
                      <a:pt x="185" y="573"/>
                    </a:lnTo>
                    <a:lnTo>
                      <a:pt x="188" y="573"/>
                    </a:lnTo>
                    <a:lnTo>
                      <a:pt x="195" y="577"/>
                    </a:lnTo>
                    <a:lnTo>
                      <a:pt x="199" y="581"/>
                    </a:lnTo>
                    <a:lnTo>
                      <a:pt x="203" y="588"/>
                    </a:lnTo>
                    <a:lnTo>
                      <a:pt x="206" y="592"/>
                    </a:lnTo>
                    <a:lnTo>
                      <a:pt x="210" y="602"/>
                    </a:lnTo>
                    <a:lnTo>
                      <a:pt x="214" y="610"/>
                    </a:lnTo>
                    <a:lnTo>
                      <a:pt x="217" y="621"/>
                    </a:lnTo>
                    <a:lnTo>
                      <a:pt x="221" y="631"/>
                    </a:lnTo>
                    <a:lnTo>
                      <a:pt x="224" y="642"/>
                    </a:lnTo>
                    <a:lnTo>
                      <a:pt x="224" y="657"/>
                    </a:lnTo>
                    <a:lnTo>
                      <a:pt x="228" y="671"/>
                    </a:lnTo>
                    <a:lnTo>
                      <a:pt x="228" y="686"/>
                    </a:lnTo>
                    <a:lnTo>
                      <a:pt x="228" y="700"/>
                    </a:lnTo>
                    <a:lnTo>
                      <a:pt x="228" y="715"/>
                    </a:lnTo>
                    <a:lnTo>
                      <a:pt x="228" y="729"/>
                    </a:lnTo>
                    <a:lnTo>
                      <a:pt x="224" y="744"/>
                    </a:lnTo>
                    <a:lnTo>
                      <a:pt x="224" y="758"/>
                    </a:lnTo>
                    <a:lnTo>
                      <a:pt x="221" y="773"/>
                    </a:lnTo>
                    <a:lnTo>
                      <a:pt x="217" y="787"/>
                    </a:lnTo>
                    <a:lnTo>
                      <a:pt x="214" y="802"/>
                    </a:lnTo>
                    <a:lnTo>
                      <a:pt x="210" y="813"/>
                    </a:lnTo>
                    <a:lnTo>
                      <a:pt x="235" y="813"/>
                    </a:lnTo>
                    <a:lnTo>
                      <a:pt x="261" y="813"/>
                    </a:lnTo>
                    <a:lnTo>
                      <a:pt x="286" y="813"/>
                    </a:lnTo>
                    <a:lnTo>
                      <a:pt x="308" y="813"/>
                    </a:lnTo>
                    <a:lnTo>
                      <a:pt x="330" y="813"/>
                    </a:lnTo>
                    <a:lnTo>
                      <a:pt x="351" y="813"/>
                    </a:lnTo>
                    <a:lnTo>
                      <a:pt x="369" y="813"/>
                    </a:lnTo>
                    <a:lnTo>
                      <a:pt x="380" y="813"/>
                    </a:lnTo>
                    <a:lnTo>
                      <a:pt x="398" y="809"/>
                    </a:lnTo>
                    <a:lnTo>
                      <a:pt x="413" y="806"/>
                    </a:lnTo>
                    <a:lnTo>
                      <a:pt x="424" y="795"/>
                    </a:lnTo>
                    <a:lnTo>
                      <a:pt x="438" y="787"/>
                    </a:lnTo>
                    <a:lnTo>
                      <a:pt x="446" y="780"/>
                    </a:lnTo>
                    <a:lnTo>
                      <a:pt x="453" y="773"/>
                    </a:lnTo>
                    <a:lnTo>
                      <a:pt x="460" y="762"/>
                    </a:lnTo>
                    <a:lnTo>
                      <a:pt x="464" y="751"/>
                    </a:lnTo>
                    <a:lnTo>
                      <a:pt x="467" y="740"/>
                    </a:lnTo>
                    <a:lnTo>
                      <a:pt x="467" y="733"/>
                    </a:lnTo>
                    <a:lnTo>
                      <a:pt x="467" y="722"/>
                    </a:lnTo>
                    <a:lnTo>
                      <a:pt x="467" y="711"/>
                    </a:lnTo>
                    <a:lnTo>
                      <a:pt x="464" y="700"/>
                    </a:lnTo>
                    <a:lnTo>
                      <a:pt x="456" y="693"/>
                    </a:lnTo>
                    <a:lnTo>
                      <a:pt x="453" y="682"/>
                    </a:lnTo>
                    <a:lnTo>
                      <a:pt x="442" y="675"/>
                    </a:lnTo>
                    <a:lnTo>
                      <a:pt x="435" y="664"/>
                    </a:lnTo>
                    <a:lnTo>
                      <a:pt x="427" y="657"/>
                    </a:lnTo>
                    <a:lnTo>
                      <a:pt x="424" y="646"/>
                    </a:lnTo>
                    <a:lnTo>
                      <a:pt x="420" y="635"/>
                    </a:lnTo>
                    <a:lnTo>
                      <a:pt x="420" y="621"/>
                    </a:lnTo>
                    <a:lnTo>
                      <a:pt x="420" y="610"/>
                    </a:lnTo>
                    <a:lnTo>
                      <a:pt x="420" y="599"/>
                    </a:lnTo>
                    <a:lnTo>
                      <a:pt x="424" y="588"/>
                    </a:lnTo>
                    <a:lnTo>
                      <a:pt x="427" y="577"/>
                    </a:lnTo>
                    <a:lnTo>
                      <a:pt x="435" y="566"/>
                    </a:lnTo>
                    <a:lnTo>
                      <a:pt x="442" y="563"/>
                    </a:lnTo>
                    <a:lnTo>
                      <a:pt x="446" y="555"/>
                    </a:lnTo>
                    <a:lnTo>
                      <a:pt x="449" y="552"/>
                    </a:lnTo>
                    <a:lnTo>
                      <a:pt x="456" y="552"/>
                    </a:lnTo>
                    <a:lnTo>
                      <a:pt x="460" y="548"/>
                    </a:lnTo>
                    <a:lnTo>
                      <a:pt x="467" y="544"/>
                    </a:lnTo>
                    <a:lnTo>
                      <a:pt x="475" y="541"/>
                    </a:lnTo>
                    <a:lnTo>
                      <a:pt x="482" y="537"/>
                    </a:lnTo>
                    <a:lnTo>
                      <a:pt x="489" y="537"/>
                    </a:lnTo>
                    <a:lnTo>
                      <a:pt x="500" y="534"/>
                    </a:lnTo>
                    <a:lnTo>
                      <a:pt x="511" y="534"/>
                    </a:lnTo>
                    <a:lnTo>
                      <a:pt x="518" y="534"/>
                    </a:lnTo>
                    <a:lnTo>
                      <a:pt x="529" y="534"/>
                    </a:lnTo>
                    <a:lnTo>
                      <a:pt x="540" y="534"/>
                    </a:lnTo>
                    <a:lnTo>
                      <a:pt x="547" y="537"/>
                    </a:lnTo>
                    <a:lnTo>
                      <a:pt x="558" y="541"/>
                    </a:lnTo>
                    <a:lnTo>
                      <a:pt x="565" y="541"/>
                    </a:lnTo>
                    <a:lnTo>
                      <a:pt x="573" y="544"/>
                    </a:lnTo>
                    <a:lnTo>
                      <a:pt x="576" y="548"/>
                    </a:lnTo>
                    <a:lnTo>
                      <a:pt x="583" y="552"/>
                    </a:lnTo>
                    <a:lnTo>
                      <a:pt x="591" y="555"/>
                    </a:lnTo>
                    <a:lnTo>
                      <a:pt x="594" y="563"/>
                    </a:lnTo>
                    <a:lnTo>
                      <a:pt x="598" y="566"/>
                    </a:lnTo>
                    <a:lnTo>
                      <a:pt x="602" y="573"/>
                    </a:lnTo>
                    <a:lnTo>
                      <a:pt x="605" y="584"/>
                    </a:lnTo>
                    <a:lnTo>
                      <a:pt x="609" y="595"/>
                    </a:lnTo>
                    <a:lnTo>
                      <a:pt x="609" y="610"/>
                    </a:lnTo>
                    <a:lnTo>
                      <a:pt x="609" y="621"/>
                    </a:lnTo>
                    <a:lnTo>
                      <a:pt x="609" y="635"/>
                    </a:lnTo>
                    <a:lnTo>
                      <a:pt x="605" y="646"/>
                    </a:lnTo>
                    <a:lnTo>
                      <a:pt x="602" y="657"/>
                    </a:lnTo>
                    <a:lnTo>
                      <a:pt x="598" y="668"/>
                    </a:lnTo>
                    <a:lnTo>
                      <a:pt x="591" y="675"/>
                    </a:lnTo>
                    <a:lnTo>
                      <a:pt x="583" y="682"/>
                    </a:lnTo>
                    <a:lnTo>
                      <a:pt x="576" y="686"/>
                    </a:lnTo>
                    <a:lnTo>
                      <a:pt x="569" y="693"/>
                    </a:lnTo>
                    <a:lnTo>
                      <a:pt x="565" y="700"/>
                    </a:lnTo>
                    <a:lnTo>
                      <a:pt x="562" y="711"/>
                    </a:lnTo>
                    <a:lnTo>
                      <a:pt x="558" y="719"/>
                    </a:lnTo>
                    <a:lnTo>
                      <a:pt x="558" y="726"/>
                    </a:lnTo>
                    <a:lnTo>
                      <a:pt x="554" y="737"/>
                    </a:lnTo>
                    <a:lnTo>
                      <a:pt x="554" y="748"/>
                    </a:lnTo>
                    <a:lnTo>
                      <a:pt x="558" y="755"/>
                    </a:lnTo>
                    <a:lnTo>
                      <a:pt x="562" y="766"/>
                    </a:lnTo>
                    <a:lnTo>
                      <a:pt x="565" y="777"/>
                    </a:lnTo>
                    <a:lnTo>
                      <a:pt x="573" y="784"/>
                    </a:lnTo>
                    <a:lnTo>
                      <a:pt x="580" y="795"/>
                    </a:lnTo>
                    <a:lnTo>
                      <a:pt x="591" y="802"/>
                    </a:lnTo>
                    <a:lnTo>
                      <a:pt x="602" y="809"/>
                    </a:lnTo>
                    <a:lnTo>
                      <a:pt x="616" y="813"/>
                    </a:lnTo>
                    <a:lnTo>
                      <a:pt x="623" y="816"/>
                    </a:lnTo>
                    <a:lnTo>
                      <a:pt x="638" y="820"/>
                    </a:lnTo>
                    <a:lnTo>
                      <a:pt x="663" y="824"/>
                    </a:lnTo>
                    <a:lnTo>
                      <a:pt x="692" y="827"/>
                    </a:lnTo>
                    <a:lnTo>
                      <a:pt x="710" y="827"/>
                    </a:lnTo>
                    <a:lnTo>
                      <a:pt x="728" y="831"/>
                    </a:lnTo>
                    <a:lnTo>
                      <a:pt x="747" y="831"/>
                    </a:lnTo>
                    <a:lnTo>
                      <a:pt x="765" y="831"/>
                    </a:lnTo>
                    <a:lnTo>
                      <a:pt x="783" y="831"/>
                    </a:lnTo>
                    <a:lnTo>
                      <a:pt x="805" y="831"/>
                    </a:lnTo>
                    <a:lnTo>
                      <a:pt x="819" y="827"/>
                    </a:lnTo>
                    <a:lnTo>
                      <a:pt x="837" y="824"/>
                    </a:lnTo>
                    <a:lnTo>
                      <a:pt x="837" y="816"/>
                    </a:lnTo>
                    <a:lnTo>
                      <a:pt x="834" y="806"/>
                    </a:lnTo>
                    <a:lnTo>
                      <a:pt x="830" y="795"/>
                    </a:lnTo>
                    <a:lnTo>
                      <a:pt x="830" y="784"/>
                    </a:lnTo>
                    <a:lnTo>
                      <a:pt x="830" y="758"/>
                    </a:lnTo>
                    <a:lnTo>
                      <a:pt x="830" y="733"/>
                    </a:lnTo>
                    <a:lnTo>
                      <a:pt x="830" y="704"/>
                    </a:lnTo>
                    <a:lnTo>
                      <a:pt x="834" y="679"/>
                    </a:lnTo>
                    <a:lnTo>
                      <a:pt x="837" y="653"/>
                    </a:lnTo>
                    <a:lnTo>
                      <a:pt x="837" y="631"/>
                    </a:lnTo>
                    <a:lnTo>
                      <a:pt x="841" y="621"/>
                    </a:lnTo>
                    <a:lnTo>
                      <a:pt x="844" y="613"/>
                    </a:lnTo>
                    <a:lnTo>
                      <a:pt x="848" y="606"/>
                    </a:lnTo>
                    <a:lnTo>
                      <a:pt x="855" y="602"/>
                    </a:lnTo>
                    <a:lnTo>
                      <a:pt x="859" y="599"/>
                    </a:lnTo>
                    <a:lnTo>
                      <a:pt x="866" y="595"/>
                    </a:lnTo>
                    <a:lnTo>
                      <a:pt x="873" y="595"/>
                    </a:lnTo>
                    <a:lnTo>
                      <a:pt x="881" y="595"/>
                    </a:lnTo>
                    <a:lnTo>
                      <a:pt x="888" y="595"/>
                    </a:lnTo>
                    <a:lnTo>
                      <a:pt x="899" y="599"/>
                    </a:lnTo>
                    <a:lnTo>
                      <a:pt x="906" y="602"/>
                    </a:lnTo>
                    <a:lnTo>
                      <a:pt x="913" y="606"/>
                    </a:lnTo>
                    <a:lnTo>
                      <a:pt x="921" y="610"/>
                    </a:lnTo>
                    <a:lnTo>
                      <a:pt x="928" y="613"/>
                    </a:lnTo>
                    <a:lnTo>
                      <a:pt x="939" y="621"/>
                    </a:lnTo>
                    <a:lnTo>
                      <a:pt x="942" y="628"/>
                    </a:lnTo>
                    <a:lnTo>
                      <a:pt x="950" y="635"/>
                    </a:lnTo>
                    <a:lnTo>
                      <a:pt x="957" y="639"/>
                    </a:lnTo>
                    <a:lnTo>
                      <a:pt x="968" y="642"/>
                    </a:lnTo>
                    <a:lnTo>
                      <a:pt x="979" y="646"/>
                    </a:lnTo>
                    <a:lnTo>
                      <a:pt x="986" y="646"/>
                    </a:lnTo>
                    <a:lnTo>
                      <a:pt x="997" y="650"/>
                    </a:lnTo>
                    <a:lnTo>
                      <a:pt x="1008" y="646"/>
                    </a:lnTo>
                    <a:lnTo>
                      <a:pt x="1018" y="646"/>
                    </a:lnTo>
                    <a:lnTo>
                      <a:pt x="1026" y="642"/>
                    </a:lnTo>
                    <a:lnTo>
                      <a:pt x="1037" y="639"/>
                    </a:lnTo>
                    <a:lnTo>
                      <a:pt x="1044" y="631"/>
                    </a:lnTo>
                    <a:lnTo>
                      <a:pt x="1051" y="624"/>
                    </a:lnTo>
                    <a:lnTo>
                      <a:pt x="1058" y="617"/>
                    </a:lnTo>
                    <a:lnTo>
                      <a:pt x="1066" y="606"/>
                    </a:lnTo>
                    <a:lnTo>
                      <a:pt x="1069" y="595"/>
                    </a:lnTo>
                    <a:lnTo>
                      <a:pt x="1073" y="581"/>
                    </a:lnTo>
                    <a:lnTo>
                      <a:pt x="1073" y="573"/>
                    </a:lnTo>
                    <a:lnTo>
                      <a:pt x="1073" y="566"/>
                    </a:lnTo>
                    <a:lnTo>
                      <a:pt x="1073" y="559"/>
                    </a:lnTo>
                    <a:lnTo>
                      <a:pt x="1073" y="552"/>
                    </a:lnTo>
                    <a:lnTo>
                      <a:pt x="1069" y="548"/>
                    </a:lnTo>
                    <a:lnTo>
                      <a:pt x="1066" y="541"/>
                    </a:lnTo>
                    <a:lnTo>
                      <a:pt x="1066" y="534"/>
                    </a:lnTo>
                    <a:lnTo>
                      <a:pt x="1062" y="530"/>
                    </a:lnTo>
                    <a:lnTo>
                      <a:pt x="1055" y="519"/>
                    </a:lnTo>
                    <a:lnTo>
                      <a:pt x="1044" y="512"/>
                    </a:lnTo>
                    <a:lnTo>
                      <a:pt x="1033" y="505"/>
                    </a:lnTo>
                    <a:lnTo>
                      <a:pt x="1022" y="497"/>
                    </a:lnTo>
                    <a:lnTo>
                      <a:pt x="1011" y="494"/>
                    </a:lnTo>
                    <a:lnTo>
                      <a:pt x="1000" y="490"/>
                    </a:lnTo>
                    <a:lnTo>
                      <a:pt x="986" y="490"/>
                    </a:lnTo>
                    <a:lnTo>
                      <a:pt x="975" y="490"/>
                    </a:lnTo>
                    <a:lnTo>
                      <a:pt x="964" y="494"/>
                    </a:lnTo>
                    <a:lnTo>
                      <a:pt x="953" y="497"/>
                    </a:lnTo>
                    <a:lnTo>
                      <a:pt x="950" y="497"/>
                    </a:lnTo>
                    <a:lnTo>
                      <a:pt x="946" y="501"/>
                    </a:lnTo>
                    <a:lnTo>
                      <a:pt x="942" y="505"/>
                    </a:lnTo>
                    <a:lnTo>
                      <a:pt x="939" y="512"/>
                    </a:lnTo>
                    <a:lnTo>
                      <a:pt x="931" y="519"/>
                    </a:lnTo>
                    <a:lnTo>
                      <a:pt x="924" y="526"/>
                    </a:lnTo>
                    <a:lnTo>
                      <a:pt x="917" y="530"/>
                    </a:lnTo>
                    <a:lnTo>
                      <a:pt x="910" y="534"/>
                    </a:lnTo>
                    <a:lnTo>
                      <a:pt x="902" y="534"/>
                    </a:lnTo>
                    <a:lnTo>
                      <a:pt x="892" y="534"/>
                    </a:lnTo>
                    <a:lnTo>
                      <a:pt x="884" y="534"/>
                    </a:lnTo>
                    <a:lnTo>
                      <a:pt x="877" y="530"/>
                    </a:lnTo>
                    <a:lnTo>
                      <a:pt x="870" y="530"/>
                    </a:lnTo>
                    <a:lnTo>
                      <a:pt x="863" y="526"/>
                    </a:lnTo>
                    <a:lnTo>
                      <a:pt x="855" y="519"/>
                    </a:lnTo>
                    <a:lnTo>
                      <a:pt x="848" y="515"/>
                    </a:lnTo>
                    <a:lnTo>
                      <a:pt x="844" y="512"/>
                    </a:lnTo>
                    <a:lnTo>
                      <a:pt x="841" y="505"/>
                    </a:lnTo>
                    <a:lnTo>
                      <a:pt x="837" y="501"/>
                    </a:lnTo>
                    <a:lnTo>
                      <a:pt x="837" y="494"/>
                    </a:lnTo>
                    <a:lnTo>
                      <a:pt x="837" y="475"/>
                    </a:lnTo>
                    <a:lnTo>
                      <a:pt x="837" y="450"/>
                    </a:lnTo>
                    <a:lnTo>
                      <a:pt x="837" y="410"/>
                    </a:lnTo>
                    <a:lnTo>
                      <a:pt x="837" y="370"/>
                    </a:lnTo>
                    <a:lnTo>
                      <a:pt x="837" y="330"/>
                    </a:lnTo>
                    <a:lnTo>
                      <a:pt x="837" y="287"/>
                    </a:lnTo>
                    <a:lnTo>
                      <a:pt x="837" y="251"/>
                    </a:lnTo>
                    <a:lnTo>
                      <a:pt x="837" y="222"/>
                    </a:lnTo>
                    <a:lnTo>
                      <a:pt x="826" y="225"/>
                    </a:lnTo>
                    <a:lnTo>
                      <a:pt x="815" y="232"/>
                    </a:lnTo>
                    <a:lnTo>
                      <a:pt x="801" y="236"/>
                    </a:lnTo>
                    <a:lnTo>
                      <a:pt x="786" y="240"/>
                    </a:lnTo>
                    <a:lnTo>
                      <a:pt x="772" y="243"/>
                    </a:lnTo>
                    <a:lnTo>
                      <a:pt x="757" y="243"/>
                    </a:lnTo>
                    <a:lnTo>
                      <a:pt x="739" y="243"/>
                    </a:lnTo>
                    <a:lnTo>
                      <a:pt x="721" y="243"/>
                    </a:lnTo>
                    <a:lnTo>
                      <a:pt x="707" y="243"/>
                    </a:lnTo>
                    <a:lnTo>
                      <a:pt x="689" y="243"/>
                    </a:lnTo>
                    <a:lnTo>
                      <a:pt x="670" y="240"/>
                    </a:lnTo>
                    <a:lnTo>
                      <a:pt x="656" y="236"/>
                    </a:lnTo>
                    <a:lnTo>
                      <a:pt x="641" y="232"/>
                    </a:lnTo>
                    <a:lnTo>
                      <a:pt x="627" y="229"/>
                    </a:lnTo>
                    <a:lnTo>
                      <a:pt x="612" y="225"/>
                    </a:lnTo>
                    <a:lnTo>
                      <a:pt x="602" y="222"/>
                    </a:lnTo>
                    <a:lnTo>
                      <a:pt x="594" y="218"/>
                    </a:lnTo>
                    <a:lnTo>
                      <a:pt x="587" y="211"/>
                    </a:lnTo>
                    <a:lnTo>
                      <a:pt x="580" y="207"/>
                    </a:lnTo>
                    <a:lnTo>
                      <a:pt x="573" y="203"/>
                    </a:lnTo>
                    <a:lnTo>
                      <a:pt x="569" y="200"/>
                    </a:lnTo>
                    <a:lnTo>
                      <a:pt x="565" y="196"/>
                    </a:lnTo>
                    <a:lnTo>
                      <a:pt x="565" y="189"/>
                    </a:lnTo>
                    <a:lnTo>
                      <a:pt x="565" y="185"/>
                    </a:lnTo>
                    <a:lnTo>
                      <a:pt x="565" y="182"/>
                    </a:lnTo>
                    <a:lnTo>
                      <a:pt x="565" y="174"/>
                    </a:lnTo>
                    <a:lnTo>
                      <a:pt x="569" y="171"/>
                    </a:lnTo>
                    <a:lnTo>
                      <a:pt x="573" y="164"/>
                    </a:lnTo>
                    <a:lnTo>
                      <a:pt x="580" y="149"/>
                    </a:lnTo>
                    <a:lnTo>
                      <a:pt x="594" y="135"/>
                    </a:lnTo>
                    <a:lnTo>
                      <a:pt x="602" y="127"/>
                    </a:lnTo>
                    <a:lnTo>
                      <a:pt x="609" y="116"/>
                    </a:lnTo>
                    <a:lnTo>
                      <a:pt x="612" y="106"/>
                    </a:lnTo>
                    <a:lnTo>
                      <a:pt x="616" y="95"/>
                    </a:lnTo>
                    <a:lnTo>
                      <a:pt x="616" y="84"/>
                    </a:lnTo>
                    <a:lnTo>
                      <a:pt x="616" y="73"/>
                    </a:lnTo>
                    <a:lnTo>
                      <a:pt x="616" y="62"/>
                    </a:lnTo>
                    <a:lnTo>
                      <a:pt x="612" y="51"/>
                    </a:lnTo>
                    <a:lnTo>
                      <a:pt x="609" y="40"/>
                    </a:lnTo>
                    <a:lnTo>
                      <a:pt x="602" y="29"/>
                    </a:lnTo>
                    <a:lnTo>
                      <a:pt x="598" y="26"/>
                    </a:lnTo>
                    <a:lnTo>
                      <a:pt x="591" y="22"/>
                    </a:lnTo>
                    <a:lnTo>
                      <a:pt x="587" y="18"/>
                    </a:lnTo>
                    <a:lnTo>
                      <a:pt x="580" y="15"/>
                    </a:lnTo>
                    <a:lnTo>
                      <a:pt x="576" y="11"/>
                    </a:lnTo>
                    <a:lnTo>
                      <a:pt x="569" y="8"/>
                    </a:lnTo>
                    <a:lnTo>
                      <a:pt x="562" y="8"/>
                    </a:lnTo>
                    <a:lnTo>
                      <a:pt x="554" y="4"/>
                    </a:lnTo>
                    <a:lnTo>
                      <a:pt x="544" y="4"/>
                    </a:lnTo>
                    <a:lnTo>
                      <a:pt x="536" y="0"/>
                    </a:lnTo>
                    <a:lnTo>
                      <a:pt x="529" y="0"/>
                    </a:lnTo>
                    <a:lnTo>
                      <a:pt x="518" y="0"/>
                    </a:lnTo>
                    <a:lnTo>
                      <a:pt x="511" y="0"/>
                    </a:lnTo>
                    <a:lnTo>
                      <a:pt x="500" y="4"/>
                    </a:lnTo>
                    <a:lnTo>
                      <a:pt x="493" y="4"/>
                    </a:lnTo>
                    <a:lnTo>
                      <a:pt x="485" y="4"/>
                    </a:lnTo>
                    <a:lnTo>
                      <a:pt x="482" y="8"/>
                    </a:lnTo>
                    <a:lnTo>
                      <a:pt x="475" y="11"/>
                    </a:lnTo>
                    <a:lnTo>
                      <a:pt x="471" y="15"/>
                    </a:lnTo>
                    <a:lnTo>
                      <a:pt x="464" y="18"/>
                    </a:lnTo>
                    <a:lnTo>
                      <a:pt x="460" y="22"/>
                    </a:lnTo>
                    <a:lnTo>
                      <a:pt x="456" y="26"/>
                    </a:lnTo>
                    <a:lnTo>
                      <a:pt x="453" y="29"/>
                    </a:lnTo>
                    <a:lnTo>
                      <a:pt x="449" y="37"/>
                    </a:lnTo>
                    <a:lnTo>
                      <a:pt x="446" y="47"/>
                    </a:lnTo>
                    <a:lnTo>
                      <a:pt x="442" y="58"/>
                    </a:lnTo>
                    <a:lnTo>
                      <a:pt x="442" y="69"/>
                    </a:lnTo>
                    <a:lnTo>
                      <a:pt x="442" y="80"/>
                    </a:lnTo>
                    <a:lnTo>
                      <a:pt x="442" y="95"/>
                    </a:lnTo>
                    <a:lnTo>
                      <a:pt x="446" y="106"/>
                    </a:lnTo>
                    <a:lnTo>
                      <a:pt x="449" y="120"/>
                    </a:lnTo>
                    <a:lnTo>
                      <a:pt x="456" y="131"/>
                    </a:lnTo>
                    <a:lnTo>
                      <a:pt x="460" y="142"/>
                    </a:lnTo>
                    <a:lnTo>
                      <a:pt x="471" y="149"/>
                    </a:lnTo>
                    <a:lnTo>
                      <a:pt x="475" y="156"/>
                    </a:lnTo>
                    <a:lnTo>
                      <a:pt x="482" y="164"/>
                    </a:lnTo>
                    <a:lnTo>
                      <a:pt x="482" y="171"/>
                    </a:lnTo>
                    <a:lnTo>
                      <a:pt x="485" y="178"/>
                    </a:lnTo>
                    <a:lnTo>
                      <a:pt x="485" y="185"/>
                    </a:lnTo>
                    <a:lnTo>
                      <a:pt x="485" y="193"/>
                    </a:lnTo>
                    <a:lnTo>
                      <a:pt x="482" y="200"/>
                    </a:lnTo>
                    <a:lnTo>
                      <a:pt x="478" y="207"/>
                    </a:lnTo>
                    <a:lnTo>
                      <a:pt x="475" y="211"/>
                    </a:lnTo>
                    <a:lnTo>
                      <a:pt x="467" y="218"/>
                    </a:lnTo>
                    <a:lnTo>
                      <a:pt x="456" y="222"/>
                    </a:lnTo>
                    <a:lnTo>
                      <a:pt x="449" y="222"/>
                    </a:lnTo>
                    <a:lnTo>
                      <a:pt x="438" y="222"/>
                    </a:lnTo>
                    <a:lnTo>
                      <a:pt x="427" y="222"/>
                    </a:lnTo>
                    <a:lnTo>
                      <a:pt x="413" y="218"/>
                    </a:lnTo>
                    <a:lnTo>
                      <a:pt x="398" y="211"/>
                    </a:lnTo>
                    <a:lnTo>
                      <a:pt x="388" y="211"/>
                    </a:lnTo>
                    <a:lnTo>
                      <a:pt x="380" y="207"/>
                    </a:lnTo>
                    <a:lnTo>
                      <a:pt x="369" y="203"/>
                    </a:lnTo>
                    <a:lnTo>
                      <a:pt x="359" y="203"/>
                    </a:lnTo>
                    <a:lnTo>
                      <a:pt x="337" y="203"/>
                    </a:lnTo>
                    <a:lnTo>
                      <a:pt x="311" y="203"/>
                    </a:lnTo>
                    <a:lnTo>
                      <a:pt x="286" y="207"/>
                    </a:lnTo>
                    <a:lnTo>
                      <a:pt x="261" y="211"/>
                    </a:lnTo>
                    <a:lnTo>
                      <a:pt x="235" y="214"/>
                    </a:lnTo>
                    <a:lnTo>
                      <a:pt x="210" y="222"/>
                    </a:lnTo>
                    <a:lnTo>
                      <a:pt x="210" y="225"/>
                    </a:lnTo>
                    <a:lnTo>
                      <a:pt x="210" y="240"/>
                    </a:lnTo>
                    <a:lnTo>
                      <a:pt x="210" y="251"/>
                    </a:lnTo>
                    <a:lnTo>
                      <a:pt x="210" y="269"/>
                    </a:lnTo>
                    <a:lnTo>
                      <a:pt x="214" y="305"/>
                    </a:lnTo>
                    <a:lnTo>
                      <a:pt x="217" y="349"/>
                    </a:lnTo>
                    <a:lnTo>
                      <a:pt x="221" y="367"/>
                    </a:lnTo>
                    <a:lnTo>
                      <a:pt x="221" y="388"/>
                    </a:lnTo>
                    <a:lnTo>
                      <a:pt x="221" y="410"/>
                    </a:lnTo>
                    <a:lnTo>
                      <a:pt x="224" y="425"/>
                    </a:lnTo>
                    <a:lnTo>
                      <a:pt x="221" y="443"/>
                    </a:lnTo>
                    <a:lnTo>
                      <a:pt x="221" y="457"/>
                    </a:lnTo>
                    <a:lnTo>
                      <a:pt x="217" y="465"/>
                    </a:lnTo>
                    <a:lnTo>
                      <a:pt x="217" y="468"/>
                    </a:lnTo>
                    <a:lnTo>
                      <a:pt x="214" y="472"/>
                    </a:lnTo>
                    <a:lnTo>
                      <a:pt x="210" y="475"/>
                    </a:lnTo>
                    <a:close/>
                  </a:path>
                </a:pathLst>
              </a:custGeom>
              <a:solidFill>
                <a:srgbClr val="ffcc99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42920" y="2732040"/>
                <a:ext cx="2133360" cy="1682280"/>
              </a:xfrm>
              <a:custGeom>
                <a:avLst/>
                <a:gdLst/>
                <a:ahLst/>
                <a:rect l="l" t="t" r="r" b="b"/>
                <a:pathLst>
                  <a:path w="1084" h="841">
                    <a:moveTo>
                      <a:pt x="207" y="478"/>
                    </a:moveTo>
                    <a:lnTo>
                      <a:pt x="210" y="482"/>
                    </a:lnTo>
                    <a:lnTo>
                      <a:pt x="210" y="478"/>
                    </a:lnTo>
                    <a:lnTo>
                      <a:pt x="203" y="482"/>
                    </a:lnTo>
                    <a:lnTo>
                      <a:pt x="196" y="486"/>
                    </a:lnTo>
                    <a:lnTo>
                      <a:pt x="196" y="486"/>
                    </a:lnTo>
                    <a:lnTo>
                      <a:pt x="192" y="486"/>
                    </a:lnTo>
                    <a:lnTo>
                      <a:pt x="189" y="489"/>
                    </a:lnTo>
                    <a:lnTo>
                      <a:pt x="192" y="493"/>
                    </a:lnTo>
                    <a:lnTo>
                      <a:pt x="192" y="489"/>
                    </a:lnTo>
                    <a:lnTo>
                      <a:pt x="185" y="489"/>
                    </a:lnTo>
                    <a:lnTo>
                      <a:pt x="178" y="489"/>
                    </a:lnTo>
                    <a:lnTo>
                      <a:pt x="178" y="493"/>
                    </a:lnTo>
                    <a:lnTo>
                      <a:pt x="181" y="489"/>
                    </a:lnTo>
                    <a:lnTo>
                      <a:pt x="178" y="486"/>
                    </a:lnTo>
                    <a:lnTo>
                      <a:pt x="178" y="486"/>
                    </a:lnTo>
                    <a:lnTo>
                      <a:pt x="174" y="486"/>
                    </a:lnTo>
                    <a:lnTo>
                      <a:pt x="167" y="486"/>
                    </a:lnTo>
                    <a:lnTo>
                      <a:pt x="167" y="489"/>
                    </a:lnTo>
                    <a:lnTo>
                      <a:pt x="170" y="486"/>
                    </a:lnTo>
                    <a:lnTo>
                      <a:pt x="156" y="478"/>
                    </a:lnTo>
                    <a:lnTo>
                      <a:pt x="145" y="475"/>
                    </a:lnTo>
                    <a:lnTo>
                      <a:pt x="134" y="468"/>
                    </a:lnTo>
                    <a:lnTo>
                      <a:pt x="120" y="460"/>
                    </a:lnTo>
                    <a:lnTo>
                      <a:pt x="109" y="453"/>
                    </a:lnTo>
                    <a:lnTo>
                      <a:pt x="109" y="453"/>
                    </a:lnTo>
                    <a:lnTo>
                      <a:pt x="105" y="453"/>
                    </a:lnTo>
                    <a:lnTo>
                      <a:pt x="91" y="449"/>
                    </a:lnTo>
                    <a:lnTo>
                      <a:pt x="83" y="449"/>
                    </a:lnTo>
                    <a:lnTo>
                      <a:pt x="83" y="453"/>
                    </a:lnTo>
                    <a:lnTo>
                      <a:pt x="87" y="449"/>
                    </a:lnTo>
                    <a:lnTo>
                      <a:pt x="83" y="446"/>
                    </a:lnTo>
                    <a:lnTo>
                      <a:pt x="83" y="446"/>
                    </a:lnTo>
                    <a:lnTo>
                      <a:pt x="80" y="446"/>
                    </a:lnTo>
                    <a:lnTo>
                      <a:pt x="73" y="446"/>
                    </a:lnTo>
                    <a:lnTo>
                      <a:pt x="65" y="446"/>
                    </a:lnTo>
                    <a:lnTo>
                      <a:pt x="65" y="446"/>
                    </a:lnTo>
                    <a:lnTo>
                      <a:pt x="65" y="446"/>
                    </a:lnTo>
                    <a:lnTo>
                      <a:pt x="58" y="449"/>
                    </a:lnTo>
                    <a:lnTo>
                      <a:pt x="58" y="453"/>
                    </a:lnTo>
                    <a:lnTo>
                      <a:pt x="58" y="449"/>
                    </a:lnTo>
                    <a:lnTo>
                      <a:pt x="51" y="449"/>
                    </a:lnTo>
                    <a:lnTo>
                      <a:pt x="51" y="449"/>
                    </a:lnTo>
                    <a:lnTo>
                      <a:pt x="51" y="449"/>
                    </a:lnTo>
                    <a:lnTo>
                      <a:pt x="44" y="453"/>
                    </a:lnTo>
                    <a:lnTo>
                      <a:pt x="40" y="453"/>
                    </a:lnTo>
                    <a:lnTo>
                      <a:pt x="40" y="457"/>
                    </a:lnTo>
                    <a:lnTo>
                      <a:pt x="36" y="464"/>
                    </a:lnTo>
                    <a:lnTo>
                      <a:pt x="40" y="464"/>
                    </a:lnTo>
                    <a:lnTo>
                      <a:pt x="40" y="460"/>
                    </a:lnTo>
                    <a:lnTo>
                      <a:pt x="33" y="464"/>
                    </a:lnTo>
                    <a:lnTo>
                      <a:pt x="33" y="464"/>
                    </a:lnTo>
                    <a:lnTo>
                      <a:pt x="29" y="464"/>
                    </a:lnTo>
                    <a:lnTo>
                      <a:pt x="22" y="471"/>
                    </a:lnTo>
                    <a:lnTo>
                      <a:pt x="22" y="475"/>
                    </a:lnTo>
                    <a:lnTo>
                      <a:pt x="22" y="475"/>
                    </a:lnTo>
                    <a:lnTo>
                      <a:pt x="15" y="486"/>
                    </a:lnTo>
                    <a:lnTo>
                      <a:pt x="7" y="497"/>
                    </a:lnTo>
                    <a:lnTo>
                      <a:pt x="11" y="497"/>
                    </a:lnTo>
                    <a:lnTo>
                      <a:pt x="7" y="493"/>
                    </a:lnTo>
                    <a:lnTo>
                      <a:pt x="4" y="497"/>
                    </a:lnTo>
                    <a:lnTo>
                      <a:pt x="4" y="500"/>
                    </a:lnTo>
                    <a:lnTo>
                      <a:pt x="4" y="500"/>
                    </a:lnTo>
                    <a:lnTo>
                      <a:pt x="0" y="508"/>
                    </a:lnTo>
                    <a:lnTo>
                      <a:pt x="0" y="508"/>
                    </a:lnTo>
                    <a:lnTo>
                      <a:pt x="0" y="508"/>
                    </a:lnTo>
                    <a:lnTo>
                      <a:pt x="0" y="518"/>
                    </a:lnTo>
                    <a:lnTo>
                      <a:pt x="0" y="529"/>
                    </a:lnTo>
                    <a:lnTo>
                      <a:pt x="0" y="537"/>
                    </a:lnTo>
                    <a:lnTo>
                      <a:pt x="0" y="540"/>
                    </a:lnTo>
                    <a:lnTo>
                      <a:pt x="0" y="540"/>
                    </a:lnTo>
                    <a:lnTo>
                      <a:pt x="4" y="551"/>
                    </a:lnTo>
                    <a:lnTo>
                      <a:pt x="11" y="562"/>
                    </a:lnTo>
                    <a:lnTo>
                      <a:pt x="15" y="569"/>
                    </a:lnTo>
                    <a:lnTo>
                      <a:pt x="22" y="580"/>
                    </a:lnTo>
                    <a:lnTo>
                      <a:pt x="22" y="580"/>
                    </a:lnTo>
                    <a:lnTo>
                      <a:pt x="25" y="584"/>
                    </a:lnTo>
                    <a:lnTo>
                      <a:pt x="36" y="591"/>
                    </a:lnTo>
                    <a:lnTo>
                      <a:pt x="36" y="591"/>
                    </a:lnTo>
                    <a:lnTo>
                      <a:pt x="36" y="591"/>
                    </a:lnTo>
                    <a:lnTo>
                      <a:pt x="40" y="591"/>
                    </a:lnTo>
                    <a:lnTo>
                      <a:pt x="40" y="584"/>
                    </a:lnTo>
                    <a:lnTo>
                      <a:pt x="36" y="587"/>
                    </a:lnTo>
                    <a:lnTo>
                      <a:pt x="40" y="591"/>
                    </a:lnTo>
                    <a:lnTo>
                      <a:pt x="44" y="595"/>
                    </a:lnTo>
                    <a:lnTo>
                      <a:pt x="44" y="595"/>
                    </a:lnTo>
                    <a:lnTo>
                      <a:pt x="51" y="598"/>
                    </a:lnTo>
                    <a:lnTo>
                      <a:pt x="51" y="598"/>
                    </a:lnTo>
                    <a:lnTo>
                      <a:pt x="51" y="598"/>
                    </a:lnTo>
                    <a:lnTo>
                      <a:pt x="58" y="598"/>
                    </a:lnTo>
                    <a:lnTo>
                      <a:pt x="58" y="591"/>
                    </a:lnTo>
                    <a:lnTo>
                      <a:pt x="58" y="598"/>
                    </a:lnTo>
                    <a:lnTo>
                      <a:pt x="65" y="602"/>
                    </a:lnTo>
                    <a:lnTo>
                      <a:pt x="65" y="602"/>
                    </a:lnTo>
                    <a:lnTo>
                      <a:pt x="65" y="602"/>
                    </a:lnTo>
                    <a:lnTo>
                      <a:pt x="73" y="602"/>
                    </a:lnTo>
                    <a:lnTo>
                      <a:pt x="80" y="602"/>
                    </a:lnTo>
                    <a:lnTo>
                      <a:pt x="87" y="602"/>
                    </a:lnTo>
                    <a:lnTo>
                      <a:pt x="98" y="602"/>
                    </a:lnTo>
                    <a:lnTo>
                      <a:pt x="98" y="602"/>
                    </a:lnTo>
                    <a:lnTo>
                      <a:pt x="102" y="602"/>
                    </a:lnTo>
                    <a:lnTo>
                      <a:pt x="109" y="598"/>
                    </a:lnTo>
                    <a:lnTo>
                      <a:pt x="105" y="591"/>
                    </a:lnTo>
                    <a:lnTo>
                      <a:pt x="105" y="598"/>
                    </a:lnTo>
                    <a:lnTo>
                      <a:pt x="112" y="598"/>
                    </a:lnTo>
                    <a:lnTo>
                      <a:pt x="116" y="598"/>
                    </a:lnTo>
                    <a:lnTo>
                      <a:pt x="116" y="598"/>
                    </a:lnTo>
                    <a:lnTo>
                      <a:pt x="127" y="595"/>
                    </a:lnTo>
                    <a:lnTo>
                      <a:pt x="145" y="587"/>
                    </a:lnTo>
                    <a:lnTo>
                      <a:pt x="156" y="584"/>
                    </a:lnTo>
                    <a:lnTo>
                      <a:pt x="152" y="576"/>
                    </a:lnTo>
                    <a:lnTo>
                      <a:pt x="152" y="584"/>
                    </a:lnTo>
                    <a:lnTo>
                      <a:pt x="167" y="580"/>
                    </a:lnTo>
                    <a:lnTo>
                      <a:pt x="178" y="580"/>
                    </a:lnTo>
                    <a:lnTo>
                      <a:pt x="185" y="580"/>
                    </a:lnTo>
                    <a:lnTo>
                      <a:pt x="185" y="573"/>
                    </a:lnTo>
                    <a:lnTo>
                      <a:pt x="181" y="576"/>
                    </a:lnTo>
                    <a:lnTo>
                      <a:pt x="185" y="580"/>
                    </a:lnTo>
                    <a:lnTo>
                      <a:pt x="189" y="584"/>
                    </a:lnTo>
                    <a:lnTo>
                      <a:pt x="189" y="584"/>
                    </a:lnTo>
                    <a:lnTo>
                      <a:pt x="192" y="584"/>
                    </a:lnTo>
                    <a:lnTo>
                      <a:pt x="192" y="576"/>
                    </a:lnTo>
                    <a:lnTo>
                      <a:pt x="192" y="584"/>
                    </a:lnTo>
                    <a:lnTo>
                      <a:pt x="199" y="587"/>
                    </a:lnTo>
                    <a:lnTo>
                      <a:pt x="199" y="580"/>
                    </a:lnTo>
                    <a:lnTo>
                      <a:pt x="196" y="584"/>
                    </a:lnTo>
                    <a:lnTo>
                      <a:pt x="199" y="587"/>
                    </a:lnTo>
                    <a:lnTo>
                      <a:pt x="203" y="584"/>
                    </a:lnTo>
                    <a:lnTo>
                      <a:pt x="199" y="587"/>
                    </a:lnTo>
                    <a:lnTo>
                      <a:pt x="203" y="595"/>
                    </a:lnTo>
                    <a:lnTo>
                      <a:pt x="203" y="595"/>
                    </a:lnTo>
                    <a:lnTo>
                      <a:pt x="203" y="595"/>
                    </a:lnTo>
                    <a:lnTo>
                      <a:pt x="207" y="598"/>
                    </a:lnTo>
                    <a:lnTo>
                      <a:pt x="210" y="595"/>
                    </a:lnTo>
                    <a:lnTo>
                      <a:pt x="207" y="598"/>
                    </a:lnTo>
                    <a:lnTo>
                      <a:pt x="210" y="609"/>
                    </a:lnTo>
                    <a:lnTo>
                      <a:pt x="214" y="616"/>
                    </a:lnTo>
                    <a:lnTo>
                      <a:pt x="218" y="627"/>
                    </a:lnTo>
                    <a:lnTo>
                      <a:pt x="221" y="638"/>
                    </a:lnTo>
                    <a:lnTo>
                      <a:pt x="225" y="649"/>
                    </a:lnTo>
                    <a:lnTo>
                      <a:pt x="228" y="645"/>
                    </a:lnTo>
                    <a:lnTo>
                      <a:pt x="225" y="645"/>
                    </a:lnTo>
                    <a:lnTo>
                      <a:pt x="225" y="660"/>
                    </a:lnTo>
                    <a:lnTo>
                      <a:pt x="225" y="663"/>
                    </a:lnTo>
                    <a:lnTo>
                      <a:pt x="225" y="663"/>
                    </a:lnTo>
                    <a:lnTo>
                      <a:pt x="228" y="678"/>
                    </a:lnTo>
                    <a:lnTo>
                      <a:pt x="232" y="674"/>
                    </a:lnTo>
                    <a:lnTo>
                      <a:pt x="228" y="674"/>
                    </a:lnTo>
                    <a:lnTo>
                      <a:pt x="228" y="689"/>
                    </a:lnTo>
                    <a:lnTo>
                      <a:pt x="228" y="703"/>
                    </a:lnTo>
                    <a:lnTo>
                      <a:pt x="228" y="718"/>
                    </a:lnTo>
                    <a:lnTo>
                      <a:pt x="228" y="732"/>
                    </a:lnTo>
                    <a:lnTo>
                      <a:pt x="232" y="732"/>
                    </a:lnTo>
                    <a:lnTo>
                      <a:pt x="228" y="732"/>
                    </a:lnTo>
                    <a:lnTo>
                      <a:pt x="225" y="747"/>
                    </a:lnTo>
                    <a:lnTo>
                      <a:pt x="225" y="747"/>
                    </a:lnTo>
                    <a:lnTo>
                      <a:pt x="225" y="747"/>
                    </a:lnTo>
                    <a:lnTo>
                      <a:pt x="225" y="761"/>
                    </a:lnTo>
                    <a:lnTo>
                      <a:pt x="228" y="761"/>
                    </a:lnTo>
                    <a:lnTo>
                      <a:pt x="225" y="761"/>
                    </a:lnTo>
                    <a:lnTo>
                      <a:pt x="221" y="776"/>
                    </a:lnTo>
                    <a:lnTo>
                      <a:pt x="218" y="790"/>
                    </a:lnTo>
                    <a:lnTo>
                      <a:pt x="214" y="805"/>
                    </a:lnTo>
                    <a:lnTo>
                      <a:pt x="210" y="816"/>
                    </a:lnTo>
                    <a:lnTo>
                      <a:pt x="207" y="819"/>
                    </a:lnTo>
                    <a:lnTo>
                      <a:pt x="214" y="823"/>
                    </a:lnTo>
                    <a:lnTo>
                      <a:pt x="239" y="823"/>
                    </a:lnTo>
                    <a:lnTo>
                      <a:pt x="265" y="823"/>
                    </a:lnTo>
                    <a:lnTo>
                      <a:pt x="290" y="823"/>
                    </a:lnTo>
                    <a:lnTo>
                      <a:pt x="312" y="823"/>
                    </a:lnTo>
                    <a:lnTo>
                      <a:pt x="334" y="823"/>
                    </a:lnTo>
                    <a:lnTo>
                      <a:pt x="355" y="823"/>
                    </a:lnTo>
                    <a:lnTo>
                      <a:pt x="373" y="823"/>
                    </a:lnTo>
                    <a:lnTo>
                      <a:pt x="384" y="823"/>
                    </a:lnTo>
                    <a:lnTo>
                      <a:pt x="402" y="819"/>
                    </a:lnTo>
                    <a:lnTo>
                      <a:pt x="417" y="816"/>
                    </a:lnTo>
                    <a:lnTo>
                      <a:pt x="421" y="812"/>
                    </a:lnTo>
                    <a:lnTo>
                      <a:pt x="421" y="812"/>
                    </a:lnTo>
                    <a:lnTo>
                      <a:pt x="431" y="801"/>
                    </a:lnTo>
                    <a:lnTo>
                      <a:pt x="428" y="798"/>
                    </a:lnTo>
                    <a:lnTo>
                      <a:pt x="431" y="805"/>
                    </a:lnTo>
                    <a:lnTo>
                      <a:pt x="446" y="798"/>
                    </a:lnTo>
                    <a:lnTo>
                      <a:pt x="446" y="798"/>
                    </a:lnTo>
                    <a:lnTo>
                      <a:pt x="446" y="794"/>
                    </a:lnTo>
                    <a:lnTo>
                      <a:pt x="453" y="787"/>
                    </a:lnTo>
                    <a:lnTo>
                      <a:pt x="460" y="780"/>
                    </a:lnTo>
                    <a:lnTo>
                      <a:pt x="464" y="780"/>
                    </a:lnTo>
                    <a:lnTo>
                      <a:pt x="464" y="780"/>
                    </a:lnTo>
                    <a:lnTo>
                      <a:pt x="471" y="769"/>
                    </a:lnTo>
                    <a:lnTo>
                      <a:pt x="475" y="758"/>
                    </a:lnTo>
                    <a:lnTo>
                      <a:pt x="479" y="747"/>
                    </a:lnTo>
                    <a:lnTo>
                      <a:pt x="479" y="747"/>
                    </a:lnTo>
                    <a:lnTo>
                      <a:pt x="479" y="743"/>
                    </a:lnTo>
                    <a:lnTo>
                      <a:pt x="479" y="736"/>
                    </a:lnTo>
                    <a:lnTo>
                      <a:pt x="479" y="725"/>
                    </a:lnTo>
                    <a:lnTo>
                      <a:pt x="479" y="714"/>
                    </a:lnTo>
                    <a:lnTo>
                      <a:pt x="479" y="714"/>
                    </a:lnTo>
                    <a:lnTo>
                      <a:pt x="479" y="714"/>
                    </a:lnTo>
                    <a:lnTo>
                      <a:pt x="475" y="703"/>
                    </a:lnTo>
                    <a:lnTo>
                      <a:pt x="475" y="703"/>
                    </a:lnTo>
                    <a:lnTo>
                      <a:pt x="471" y="700"/>
                    </a:lnTo>
                    <a:lnTo>
                      <a:pt x="464" y="692"/>
                    </a:lnTo>
                    <a:lnTo>
                      <a:pt x="460" y="696"/>
                    </a:lnTo>
                    <a:lnTo>
                      <a:pt x="468" y="696"/>
                    </a:lnTo>
                    <a:lnTo>
                      <a:pt x="464" y="685"/>
                    </a:lnTo>
                    <a:lnTo>
                      <a:pt x="460" y="682"/>
                    </a:lnTo>
                    <a:lnTo>
                      <a:pt x="460" y="682"/>
                    </a:lnTo>
                    <a:lnTo>
                      <a:pt x="450" y="674"/>
                    </a:lnTo>
                    <a:lnTo>
                      <a:pt x="446" y="678"/>
                    </a:lnTo>
                    <a:lnTo>
                      <a:pt x="453" y="678"/>
                    </a:lnTo>
                    <a:lnTo>
                      <a:pt x="446" y="667"/>
                    </a:lnTo>
                    <a:lnTo>
                      <a:pt x="446" y="667"/>
                    </a:lnTo>
                    <a:lnTo>
                      <a:pt x="442" y="663"/>
                    </a:lnTo>
                    <a:lnTo>
                      <a:pt x="435" y="656"/>
                    </a:lnTo>
                    <a:lnTo>
                      <a:pt x="431" y="660"/>
                    </a:lnTo>
                    <a:lnTo>
                      <a:pt x="439" y="660"/>
                    </a:lnTo>
                    <a:lnTo>
                      <a:pt x="435" y="649"/>
                    </a:lnTo>
                    <a:lnTo>
                      <a:pt x="431" y="638"/>
                    </a:lnTo>
                    <a:lnTo>
                      <a:pt x="424" y="638"/>
                    </a:lnTo>
                    <a:lnTo>
                      <a:pt x="431" y="638"/>
                    </a:lnTo>
                    <a:lnTo>
                      <a:pt x="431" y="624"/>
                    </a:lnTo>
                    <a:lnTo>
                      <a:pt x="431" y="613"/>
                    </a:lnTo>
                    <a:lnTo>
                      <a:pt x="431" y="602"/>
                    </a:lnTo>
                    <a:lnTo>
                      <a:pt x="424" y="602"/>
                    </a:lnTo>
                    <a:lnTo>
                      <a:pt x="431" y="605"/>
                    </a:lnTo>
                    <a:lnTo>
                      <a:pt x="435" y="595"/>
                    </a:lnTo>
                    <a:lnTo>
                      <a:pt x="439" y="584"/>
                    </a:lnTo>
                    <a:lnTo>
                      <a:pt x="446" y="573"/>
                    </a:lnTo>
                    <a:lnTo>
                      <a:pt x="439" y="569"/>
                    </a:lnTo>
                    <a:lnTo>
                      <a:pt x="442" y="576"/>
                    </a:lnTo>
                    <a:lnTo>
                      <a:pt x="450" y="573"/>
                    </a:lnTo>
                    <a:lnTo>
                      <a:pt x="450" y="569"/>
                    </a:lnTo>
                    <a:lnTo>
                      <a:pt x="453" y="569"/>
                    </a:lnTo>
                    <a:lnTo>
                      <a:pt x="457" y="562"/>
                    </a:lnTo>
                    <a:lnTo>
                      <a:pt x="450" y="558"/>
                    </a:lnTo>
                    <a:lnTo>
                      <a:pt x="453" y="562"/>
                    </a:lnTo>
                    <a:lnTo>
                      <a:pt x="457" y="558"/>
                    </a:lnTo>
                    <a:lnTo>
                      <a:pt x="453" y="555"/>
                    </a:lnTo>
                    <a:lnTo>
                      <a:pt x="453" y="562"/>
                    </a:lnTo>
                    <a:lnTo>
                      <a:pt x="460" y="562"/>
                    </a:lnTo>
                    <a:lnTo>
                      <a:pt x="464" y="562"/>
                    </a:lnTo>
                    <a:lnTo>
                      <a:pt x="464" y="558"/>
                    </a:lnTo>
                    <a:lnTo>
                      <a:pt x="468" y="555"/>
                    </a:lnTo>
                    <a:lnTo>
                      <a:pt x="464" y="551"/>
                    </a:lnTo>
                    <a:lnTo>
                      <a:pt x="468" y="558"/>
                    </a:lnTo>
                    <a:lnTo>
                      <a:pt x="475" y="555"/>
                    </a:lnTo>
                    <a:lnTo>
                      <a:pt x="482" y="551"/>
                    </a:lnTo>
                    <a:lnTo>
                      <a:pt x="489" y="547"/>
                    </a:lnTo>
                    <a:lnTo>
                      <a:pt x="486" y="540"/>
                    </a:lnTo>
                    <a:lnTo>
                      <a:pt x="486" y="547"/>
                    </a:lnTo>
                    <a:lnTo>
                      <a:pt x="493" y="547"/>
                    </a:lnTo>
                    <a:lnTo>
                      <a:pt x="497" y="547"/>
                    </a:lnTo>
                    <a:lnTo>
                      <a:pt x="497" y="547"/>
                    </a:lnTo>
                    <a:lnTo>
                      <a:pt x="508" y="544"/>
                    </a:lnTo>
                    <a:lnTo>
                      <a:pt x="504" y="537"/>
                    </a:lnTo>
                    <a:lnTo>
                      <a:pt x="504" y="544"/>
                    </a:lnTo>
                    <a:lnTo>
                      <a:pt x="515" y="544"/>
                    </a:lnTo>
                    <a:lnTo>
                      <a:pt x="522" y="544"/>
                    </a:lnTo>
                    <a:lnTo>
                      <a:pt x="533" y="544"/>
                    </a:lnTo>
                    <a:lnTo>
                      <a:pt x="544" y="544"/>
                    </a:lnTo>
                    <a:lnTo>
                      <a:pt x="544" y="537"/>
                    </a:lnTo>
                    <a:lnTo>
                      <a:pt x="544" y="544"/>
                    </a:lnTo>
                    <a:lnTo>
                      <a:pt x="551" y="547"/>
                    </a:lnTo>
                    <a:lnTo>
                      <a:pt x="562" y="551"/>
                    </a:lnTo>
                    <a:lnTo>
                      <a:pt x="562" y="551"/>
                    </a:lnTo>
                    <a:lnTo>
                      <a:pt x="562" y="551"/>
                    </a:lnTo>
                    <a:lnTo>
                      <a:pt x="569" y="551"/>
                    </a:lnTo>
                    <a:lnTo>
                      <a:pt x="569" y="544"/>
                    </a:lnTo>
                    <a:lnTo>
                      <a:pt x="569" y="551"/>
                    </a:lnTo>
                    <a:lnTo>
                      <a:pt x="577" y="555"/>
                    </a:lnTo>
                    <a:lnTo>
                      <a:pt x="577" y="547"/>
                    </a:lnTo>
                    <a:lnTo>
                      <a:pt x="573" y="551"/>
                    </a:lnTo>
                    <a:lnTo>
                      <a:pt x="577" y="555"/>
                    </a:lnTo>
                    <a:lnTo>
                      <a:pt x="580" y="558"/>
                    </a:lnTo>
                    <a:lnTo>
                      <a:pt x="580" y="558"/>
                    </a:lnTo>
                    <a:lnTo>
                      <a:pt x="587" y="562"/>
                    </a:lnTo>
                    <a:lnTo>
                      <a:pt x="595" y="566"/>
                    </a:lnTo>
                    <a:lnTo>
                      <a:pt x="595" y="558"/>
                    </a:lnTo>
                    <a:lnTo>
                      <a:pt x="591" y="562"/>
                    </a:lnTo>
                    <a:lnTo>
                      <a:pt x="595" y="569"/>
                    </a:lnTo>
                    <a:lnTo>
                      <a:pt x="595" y="569"/>
                    </a:lnTo>
                    <a:lnTo>
                      <a:pt x="595" y="569"/>
                    </a:lnTo>
                    <a:lnTo>
                      <a:pt x="598" y="573"/>
                    </a:lnTo>
                    <a:lnTo>
                      <a:pt x="602" y="569"/>
                    </a:lnTo>
                    <a:lnTo>
                      <a:pt x="598" y="573"/>
                    </a:lnTo>
                    <a:lnTo>
                      <a:pt x="602" y="580"/>
                    </a:lnTo>
                    <a:lnTo>
                      <a:pt x="606" y="591"/>
                    </a:lnTo>
                    <a:lnTo>
                      <a:pt x="609" y="602"/>
                    </a:lnTo>
                    <a:lnTo>
                      <a:pt x="613" y="598"/>
                    </a:lnTo>
                    <a:lnTo>
                      <a:pt x="609" y="598"/>
                    </a:lnTo>
                    <a:lnTo>
                      <a:pt x="609" y="613"/>
                    </a:lnTo>
                    <a:lnTo>
                      <a:pt x="609" y="624"/>
                    </a:lnTo>
                    <a:lnTo>
                      <a:pt x="609" y="638"/>
                    </a:lnTo>
                    <a:lnTo>
                      <a:pt x="613" y="638"/>
                    </a:lnTo>
                    <a:lnTo>
                      <a:pt x="609" y="638"/>
                    </a:lnTo>
                    <a:lnTo>
                      <a:pt x="606" y="649"/>
                    </a:lnTo>
                    <a:lnTo>
                      <a:pt x="602" y="660"/>
                    </a:lnTo>
                    <a:lnTo>
                      <a:pt x="598" y="671"/>
                    </a:lnTo>
                    <a:lnTo>
                      <a:pt x="602" y="671"/>
                    </a:lnTo>
                    <a:lnTo>
                      <a:pt x="598" y="667"/>
                    </a:lnTo>
                    <a:lnTo>
                      <a:pt x="591" y="674"/>
                    </a:lnTo>
                    <a:lnTo>
                      <a:pt x="584" y="682"/>
                    </a:lnTo>
                    <a:lnTo>
                      <a:pt x="587" y="685"/>
                    </a:lnTo>
                    <a:lnTo>
                      <a:pt x="587" y="682"/>
                    </a:lnTo>
                    <a:lnTo>
                      <a:pt x="580" y="685"/>
                    </a:lnTo>
                    <a:lnTo>
                      <a:pt x="580" y="685"/>
                    </a:lnTo>
                    <a:lnTo>
                      <a:pt x="577" y="685"/>
                    </a:lnTo>
                    <a:lnTo>
                      <a:pt x="569" y="692"/>
                    </a:lnTo>
                    <a:lnTo>
                      <a:pt x="569" y="696"/>
                    </a:lnTo>
                    <a:lnTo>
                      <a:pt x="569" y="696"/>
                    </a:lnTo>
                    <a:lnTo>
                      <a:pt x="566" y="703"/>
                    </a:lnTo>
                    <a:lnTo>
                      <a:pt x="562" y="714"/>
                    </a:lnTo>
                    <a:lnTo>
                      <a:pt x="558" y="722"/>
                    </a:lnTo>
                    <a:lnTo>
                      <a:pt x="558" y="722"/>
                    </a:lnTo>
                    <a:lnTo>
                      <a:pt x="558" y="722"/>
                    </a:lnTo>
                    <a:lnTo>
                      <a:pt x="558" y="729"/>
                    </a:lnTo>
                    <a:lnTo>
                      <a:pt x="562" y="729"/>
                    </a:lnTo>
                    <a:lnTo>
                      <a:pt x="558" y="729"/>
                    </a:lnTo>
                    <a:lnTo>
                      <a:pt x="555" y="740"/>
                    </a:lnTo>
                    <a:lnTo>
                      <a:pt x="555" y="740"/>
                    </a:lnTo>
                    <a:lnTo>
                      <a:pt x="555" y="740"/>
                    </a:lnTo>
                    <a:lnTo>
                      <a:pt x="555" y="751"/>
                    </a:lnTo>
                    <a:lnTo>
                      <a:pt x="555" y="751"/>
                    </a:lnTo>
                    <a:lnTo>
                      <a:pt x="555" y="754"/>
                    </a:lnTo>
                    <a:lnTo>
                      <a:pt x="558" y="761"/>
                    </a:lnTo>
                    <a:lnTo>
                      <a:pt x="562" y="772"/>
                    </a:lnTo>
                    <a:lnTo>
                      <a:pt x="566" y="783"/>
                    </a:lnTo>
                    <a:lnTo>
                      <a:pt x="566" y="783"/>
                    </a:lnTo>
                    <a:lnTo>
                      <a:pt x="566" y="783"/>
                    </a:lnTo>
                    <a:lnTo>
                      <a:pt x="573" y="790"/>
                    </a:lnTo>
                    <a:lnTo>
                      <a:pt x="577" y="787"/>
                    </a:lnTo>
                    <a:lnTo>
                      <a:pt x="573" y="790"/>
                    </a:lnTo>
                    <a:lnTo>
                      <a:pt x="580" y="801"/>
                    </a:lnTo>
                    <a:lnTo>
                      <a:pt x="580" y="801"/>
                    </a:lnTo>
                    <a:lnTo>
                      <a:pt x="584" y="805"/>
                    </a:lnTo>
                    <a:lnTo>
                      <a:pt x="595" y="812"/>
                    </a:lnTo>
                    <a:lnTo>
                      <a:pt x="606" y="819"/>
                    </a:lnTo>
                    <a:lnTo>
                      <a:pt x="602" y="816"/>
                    </a:lnTo>
                    <a:lnTo>
                      <a:pt x="606" y="819"/>
                    </a:lnTo>
                    <a:lnTo>
                      <a:pt x="620" y="823"/>
                    </a:lnTo>
                    <a:lnTo>
                      <a:pt x="620" y="816"/>
                    </a:lnTo>
                    <a:lnTo>
                      <a:pt x="620" y="823"/>
                    </a:lnTo>
                    <a:lnTo>
                      <a:pt x="627" y="827"/>
                    </a:lnTo>
                    <a:lnTo>
                      <a:pt x="624" y="823"/>
                    </a:lnTo>
                    <a:lnTo>
                      <a:pt x="627" y="827"/>
                    </a:lnTo>
                    <a:lnTo>
                      <a:pt x="642" y="830"/>
                    </a:lnTo>
                    <a:lnTo>
                      <a:pt x="667" y="834"/>
                    </a:lnTo>
                    <a:lnTo>
                      <a:pt x="696" y="838"/>
                    </a:lnTo>
                    <a:lnTo>
                      <a:pt x="714" y="838"/>
                    </a:lnTo>
                    <a:lnTo>
                      <a:pt x="732" y="841"/>
                    </a:lnTo>
                    <a:lnTo>
                      <a:pt x="751" y="841"/>
                    </a:lnTo>
                    <a:lnTo>
                      <a:pt x="769" y="841"/>
                    </a:lnTo>
                    <a:lnTo>
                      <a:pt x="787" y="841"/>
                    </a:lnTo>
                    <a:lnTo>
                      <a:pt x="809" y="841"/>
                    </a:lnTo>
                    <a:lnTo>
                      <a:pt x="823" y="838"/>
                    </a:lnTo>
                    <a:lnTo>
                      <a:pt x="841" y="834"/>
                    </a:lnTo>
                    <a:lnTo>
                      <a:pt x="845" y="830"/>
                    </a:lnTo>
                    <a:lnTo>
                      <a:pt x="848" y="827"/>
                    </a:lnTo>
                    <a:lnTo>
                      <a:pt x="848" y="819"/>
                    </a:lnTo>
                    <a:lnTo>
                      <a:pt x="848" y="819"/>
                    </a:lnTo>
                    <a:lnTo>
                      <a:pt x="848" y="819"/>
                    </a:lnTo>
                    <a:lnTo>
                      <a:pt x="845" y="809"/>
                    </a:lnTo>
                    <a:lnTo>
                      <a:pt x="841" y="798"/>
                    </a:lnTo>
                    <a:lnTo>
                      <a:pt x="834" y="798"/>
                    </a:lnTo>
                    <a:lnTo>
                      <a:pt x="841" y="798"/>
                    </a:lnTo>
                    <a:lnTo>
                      <a:pt x="841" y="787"/>
                    </a:lnTo>
                    <a:lnTo>
                      <a:pt x="841" y="761"/>
                    </a:lnTo>
                    <a:lnTo>
                      <a:pt x="841" y="736"/>
                    </a:lnTo>
                    <a:lnTo>
                      <a:pt x="841" y="707"/>
                    </a:lnTo>
                    <a:lnTo>
                      <a:pt x="845" y="682"/>
                    </a:lnTo>
                    <a:lnTo>
                      <a:pt x="848" y="656"/>
                    </a:lnTo>
                    <a:lnTo>
                      <a:pt x="848" y="634"/>
                    </a:lnTo>
                    <a:lnTo>
                      <a:pt x="841" y="634"/>
                    </a:lnTo>
                    <a:lnTo>
                      <a:pt x="848" y="638"/>
                    </a:lnTo>
                    <a:lnTo>
                      <a:pt x="852" y="627"/>
                    </a:lnTo>
                    <a:lnTo>
                      <a:pt x="856" y="620"/>
                    </a:lnTo>
                    <a:lnTo>
                      <a:pt x="859" y="613"/>
                    </a:lnTo>
                    <a:lnTo>
                      <a:pt x="852" y="609"/>
                    </a:lnTo>
                    <a:lnTo>
                      <a:pt x="856" y="616"/>
                    </a:lnTo>
                    <a:lnTo>
                      <a:pt x="863" y="613"/>
                    </a:lnTo>
                    <a:lnTo>
                      <a:pt x="863" y="613"/>
                    </a:lnTo>
                    <a:lnTo>
                      <a:pt x="863" y="609"/>
                    </a:lnTo>
                    <a:lnTo>
                      <a:pt x="867" y="605"/>
                    </a:lnTo>
                    <a:lnTo>
                      <a:pt x="863" y="602"/>
                    </a:lnTo>
                    <a:lnTo>
                      <a:pt x="867" y="609"/>
                    </a:lnTo>
                    <a:lnTo>
                      <a:pt x="874" y="605"/>
                    </a:lnTo>
                    <a:lnTo>
                      <a:pt x="870" y="598"/>
                    </a:lnTo>
                    <a:lnTo>
                      <a:pt x="870" y="605"/>
                    </a:lnTo>
                    <a:lnTo>
                      <a:pt x="877" y="605"/>
                    </a:lnTo>
                    <a:lnTo>
                      <a:pt x="885" y="605"/>
                    </a:lnTo>
                    <a:lnTo>
                      <a:pt x="892" y="605"/>
                    </a:lnTo>
                    <a:lnTo>
                      <a:pt x="892" y="598"/>
                    </a:lnTo>
                    <a:lnTo>
                      <a:pt x="892" y="605"/>
                    </a:lnTo>
                    <a:lnTo>
                      <a:pt x="903" y="609"/>
                    </a:lnTo>
                    <a:lnTo>
                      <a:pt x="910" y="613"/>
                    </a:lnTo>
                    <a:lnTo>
                      <a:pt x="917" y="616"/>
                    </a:lnTo>
                    <a:lnTo>
                      <a:pt x="925" y="620"/>
                    </a:lnTo>
                    <a:lnTo>
                      <a:pt x="932" y="624"/>
                    </a:lnTo>
                    <a:lnTo>
                      <a:pt x="943" y="631"/>
                    </a:lnTo>
                    <a:lnTo>
                      <a:pt x="943" y="624"/>
                    </a:lnTo>
                    <a:lnTo>
                      <a:pt x="939" y="627"/>
                    </a:lnTo>
                    <a:lnTo>
                      <a:pt x="943" y="634"/>
                    </a:lnTo>
                    <a:lnTo>
                      <a:pt x="943" y="634"/>
                    </a:lnTo>
                    <a:lnTo>
                      <a:pt x="943" y="634"/>
                    </a:lnTo>
                    <a:lnTo>
                      <a:pt x="950" y="642"/>
                    </a:lnTo>
                    <a:lnTo>
                      <a:pt x="954" y="645"/>
                    </a:lnTo>
                    <a:lnTo>
                      <a:pt x="954" y="645"/>
                    </a:lnTo>
                    <a:lnTo>
                      <a:pt x="961" y="649"/>
                    </a:lnTo>
                    <a:lnTo>
                      <a:pt x="972" y="653"/>
                    </a:lnTo>
                    <a:lnTo>
                      <a:pt x="983" y="656"/>
                    </a:lnTo>
                    <a:lnTo>
                      <a:pt x="983" y="656"/>
                    </a:lnTo>
                    <a:lnTo>
                      <a:pt x="983" y="656"/>
                    </a:lnTo>
                    <a:lnTo>
                      <a:pt x="990" y="656"/>
                    </a:lnTo>
                    <a:lnTo>
                      <a:pt x="990" y="649"/>
                    </a:lnTo>
                    <a:lnTo>
                      <a:pt x="990" y="656"/>
                    </a:lnTo>
                    <a:lnTo>
                      <a:pt x="1001" y="660"/>
                    </a:lnTo>
                    <a:lnTo>
                      <a:pt x="1001" y="660"/>
                    </a:lnTo>
                    <a:lnTo>
                      <a:pt x="1004" y="660"/>
                    </a:lnTo>
                    <a:lnTo>
                      <a:pt x="1015" y="656"/>
                    </a:lnTo>
                    <a:lnTo>
                      <a:pt x="1012" y="649"/>
                    </a:lnTo>
                    <a:lnTo>
                      <a:pt x="1012" y="656"/>
                    </a:lnTo>
                    <a:lnTo>
                      <a:pt x="1022" y="656"/>
                    </a:lnTo>
                    <a:lnTo>
                      <a:pt x="1022" y="656"/>
                    </a:lnTo>
                    <a:lnTo>
                      <a:pt x="1026" y="656"/>
                    </a:lnTo>
                    <a:lnTo>
                      <a:pt x="1033" y="653"/>
                    </a:lnTo>
                    <a:lnTo>
                      <a:pt x="1044" y="649"/>
                    </a:lnTo>
                    <a:lnTo>
                      <a:pt x="1044" y="649"/>
                    </a:lnTo>
                    <a:lnTo>
                      <a:pt x="1044" y="645"/>
                    </a:lnTo>
                    <a:lnTo>
                      <a:pt x="1051" y="638"/>
                    </a:lnTo>
                    <a:lnTo>
                      <a:pt x="1059" y="631"/>
                    </a:lnTo>
                    <a:lnTo>
                      <a:pt x="1066" y="624"/>
                    </a:lnTo>
                    <a:lnTo>
                      <a:pt x="1070" y="624"/>
                    </a:lnTo>
                    <a:lnTo>
                      <a:pt x="1070" y="624"/>
                    </a:lnTo>
                    <a:lnTo>
                      <a:pt x="1077" y="613"/>
                    </a:lnTo>
                    <a:lnTo>
                      <a:pt x="1080" y="602"/>
                    </a:lnTo>
                    <a:lnTo>
                      <a:pt x="1084" y="587"/>
                    </a:lnTo>
                    <a:lnTo>
                      <a:pt x="1084" y="587"/>
                    </a:lnTo>
                    <a:lnTo>
                      <a:pt x="1084" y="584"/>
                    </a:lnTo>
                    <a:lnTo>
                      <a:pt x="1084" y="576"/>
                    </a:lnTo>
                    <a:lnTo>
                      <a:pt x="1084" y="569"/>
                    </a:lnTo>
                    <a:lnTo>
                      <a:pt x="1084" y="562"/>
                    </a:lnTo>
                    <a:lnTo>
                      <a:pt x="1084" y="555"/>
                    </a:lnTo>
                    <a:lnTo>
                      <a:pt x="1084" y="555"/>
                    </a:lnTo>
                    <a:lnTo>
                      <a:pt x="1080" y="551"/>
                    </a:lnTo>
                    <a:lnTo>
                      <a:pt x="1077" y="547"/>
                    </a:lnTo>
                    <a:lnTo>
                      <a:pt x="1073" y="551"/>
                    </a:lnTo>
                    <a:lnTo>
                      <a:pt x="1080" y="551"/>
                    </a:lnTo>
                    <a:lnTo>
                      <a:pt x="1077" y="544"/>
                    </a:lnTo>
                    <a:lnTo>
                      <a:pt x="1070" y="544"/>
                    </a:lnTo>
                    <a:lnTo>
                      <a:pt x="1077" y="544"/>
                    </a:lnTo>
                    <a:lnTo>
                      <a:pt x="1077" y="537"/>
                    </a:lnTo>
                    <a:lnTo>
                      <a:pt x="1077" y="537"/>
                    </a:lnTo>
                    <a:lnTo>
                      <a:pt x="1073" y="533"/>
                    </a:lnTo>
                    <a:lnTo>
                      <a:pt x="1070" y="529"/>
                    </a:lnTo>
                    <a:lnTo>
                      <a:pt x="1066" y="533"/>
                    </a:lnTo>
                    <a:lnTo>
                      <a:pt x="1073" y="533"/>
                    </a:lnTo>
                    <a:lnTo>
                      <a:pt x="1066" y="522"/>
                    </a:lnTo>
                    <a:lnTo>
                      <a:pt x="1062" y="518"/>
                    </a:lnTo>
                    <a:lnTo>
                      <a:pt x="1062" y="518"/>
                    </a:lnTo>
                    <a:lnTo>
                      <a:pt x="1051" y="511"/>
                    </a:lnTo>
                    <a:lnTo>
                      <a:pt x="1041" y="504"/>
                    </a:lnTo>
                    <a:lnTo>
                      <a:pt x="1030" y="497"/>
                    </a:lnTo>
                    <a:lnTo>
                      <a:pt x="1019" y="493"/>
                    </a:lnTo>
                    <a:lnTo>
                      <a:pt x="1008" y="489"/>
                    </a:lnTo>
                    <a:lnTo>
                      <a:pt x="1008" y="489"/>
                    </a:lnTo>
                    <a:lnTo>
                      <a:pt x="1004" y="489"/>
                    </a:lnTo>
                    <a:lnTo>
                      <a:pt x="990" y="489"/>
                    </a:lnTo>
                    <a:lnTo>
                      <a:pt x="979" y="489"/>
                    </a:lnTo>
                    <a:lnTo>
                      <a:pt x="979" y="489"/>
                    </a:lnTo>
                    <a:lnTo>
                      <a:pt x="979" y="489"/>
                    </a:lnTo>
                    <a:lnTo>
                      <a:pt x="968" y="493"/>
                    </a:lnTo>
                    <a:lnTo>
                      <a:pt x="957" y="497"/>
                    </a:lnTo>
                    <a:lnTo>
                      <a:pt x="957" y="500"/>
                    </a:lnTo>
                    <a:lnTo>
                      <a:pt x="957" y="497"/>
                    </a:lnTo>
                    <a:lnTo>
                      <a:pt x="954" y="497"/>
                    </a:lnTo>
                    <a:lnTo>
                      <a:pt x="954" y="497"/>
                    </a:lnTo>
                    <a:lnTo>
                      <a:pt x="950" y="497"/>
                    </a:lnTo>
                    <a:lnTo>
                      <a:pt x="946" y="500"/>
                    </a:lnTo>
                    <a:lnTo>
                      <a:pt x="943" y="504"/>
                    </a:lnTo>
                    <a:lnTo>
                      <a:pt x="943" y="508"/>
                    </a:lnTo>
                    <a:lnTo>
                      <a:pt x="943" y="508"/>
                    </a:lnTo>
                    <a:lnTo>
                      <a:pt x="939" y="515"/>
                    </a:lnTo>
                    <a:lnTo>
                      <a:pt x="943" y="515"/>
                    </a:lnTo>
                    <a:lnTo>
                      <a:pt x="939" y="511"/>
                    </a:lnTo>
                    <a:lnTo>
                      <a:pt x="932" y="518"/>
                    </a:lnTo>
                    <a:lnTo>
                      <a:pt x="925" y="526"/>
                    </a:lnTo>
                    <a:lnTo>
                      <a:pt x="928" y="529"/>
                    </a:lnTo>
                    <a:lnTo>
                      <a:pt x="928" y="526"/>
                    </a:lnTo>
                    <a:lnTo>
                      <a:pt x="921" y="529"/>
                    </a:lnTo>
                    <a:lnTo>
                      <a:pt x="914" y="533"/>
                    </a:lnTo>
                    <a:lnTo>
                      <a:pt x="914" y="537"/>
                    </a:lnTo>
                    <a:lnTo>
                      <a:pt x="914" y="533"/>
                    </a:lnTo>
                    <a:lnTo>
                      <a:pt x="906" y="533"/>
                    </a:lnTo>
                    <a:lnTo>
                      <a:pt x="896" y="533"/>
                    </a:lnTo>
                    <a:lnTo>
                      <a:pt x="888" y="533"/>
                    </a:lnTo>
                    <a:lnTo>
                      <a:pt x="888" y="537"/>
                    </a:lnTo>
                    <a:lnTo>
                      <a:pt x="892" y="533"/>
                    </a:lnTo>
                    <a:lnTo>
                      <a:pt x="885" y="529"/>
                    </a:lnTo>
                    <a:lnTo>
                      <a:pt x="885" y="529"/>
                    </a:lnTo>
                    <a:lnTo>
                      <a:pt x="881" y="529"/>
                    </a:lnTo>
                    <a:lnTo>
                      <a:pt x="874" y="529"/>
                    </a:lnTo>
                    <a:lnTo>
                      <a:pt x="874" y="533"/>
                    </a:lnTo>
                    <a:lnTo>
                      <a:pt x="877" y="529"/>
                    </a:lnTo>
                    <a:lnTo>
                      <a:pt x="870" y="526"/>
                    </a:lnTo>
                    <a:lnTo>
                      <a:pt x="867" y="529"/>
                    </a:lnTo>
                    <a:lnTo>
                      <a:pt x="870" y="526"/>
                    </a:lnTo>
                    <a:lnTo>
                      <a:pt x="863" y="518"/>
                    </a:lnTo>
                    <a:lnTo>
                      <a:pt x="863" y="518"/>
                    </a:lnTo>
                    <a:lnTo>
                      <a:pt x="863" y="518"/>
                    </a:lnTo>
                    <a:lnTo>
                      <a:pt x="856" y="515"/>
                    </a:lnTo>
                    <a:lnTo>
                      <a:pt x="852" y="518"/>
                    </a:lnTo>
                    <a:lnTo>
                      <a:pt x="856" y="515"/>
                    </a:lnTo>
                    <a:lnTo>
                      <a:pt x="852" y="511"/>
                    </a:lnTo>
                    <a:lnTo>
                      <a:pt x="848" y="515"/>
                    </a:lnTo>
                    <a:lnTo>
                      <a:pt x="856" y="515"/>
                    </a:lnTo>
                    <a:lnTo>
                      <a:pt x="852" y="508"/>
                    </a:lnTo>
                    <a:lnTo>
                      <a:pt x="852" y="508"/>
                    </a:lnTo>
                    <a:lnTo>
                      <a:pt x="848" y="504"/>
                    </a:lnTo>
                    <a:lnTo>
                      <a:pt x="845" y="500"/>
                    </a:lnTo>
                    <a:lnTo>
                      <a:pt x="841" y="504"/>
                    </a:lnTo>
                    <a:lnTo>
                      <a:pt x="848" y="504"/>
                    </a:lnTo>
                    <a:lnTo>
                      <a:pt x="848" y="497"/>
                    </a:lnTo>
                    <a:lnTo>
                      <a:pt x="848" y="478"/>
                    </a:lnTo>
                    <a:lnTo>
                      <a:pt x="848" y="453"/>
                    </a:lnTo>
                    <a:lnTo>
                      <a:pt x="848" y="413"/>
                    </a:lnTo>
                    <a:lnTo>
                      <a:pt x="848" y="373"/>
                    </a:lnTo>
                    <a:lnTo>
                      <a:pt x="848" y="333"/>
                    </a:lnTo>
                    <a:lnTo>
                      <a:pt x="848" y="290"/>
                    </a:lnTo>
                    <a:lnTo>
                      <a:pt x="848" y="254"/>
                    </a:lnTo>
                    <a:lnTo>
                      <a:pt x="848" y="225"/>
                    </a:lnTo>
                    <a:lnTo>
                      <a:pt x="848" y="217"/>
                    </a:lnTo>
                    <a:lnTo>
                      <a:pt x="841" y="221"/>
                    </a:lnTo>
                    <a:lnTo>
                      <a:pt x="830" y="225"/>
                    </a:lnTo>
                    <a:lnTo>
                      <a:pt x="819" y="232"/>
                    </a:lnTo>
                    <a:lnTo>
                      <a:pt x="819" y="235"/>
                    </a:lnTo>
                    <a:lnTo>
                      <a:pt x="819" y="232"/>
                    </a:lnTo>
                    <a:lnTo>
                      <a:pt x="805" y="235"/>
                    </a:lnTo>
                    <a:lnTo>
                      <a:pt x="790" y="239"/>
                    </a:lnTo>
                    <a:lnTo>
                      <a:pt x="776" y="243"/>
                    </a:lnTo>
                    <a:lnTo>
                      <a:pt x="761" y="243"/>
                    </a:lnTo>
                    <a:lnTo>
                      <a:pt x="743" y="243"/>
                    </a:lnTo>
                    <a:lnTo>
                      <a:pt x="725" y="243"/>
                    </a:lnTo>
                    <a:lnTo>
                      <a:pt x="711" y="243"/>
                    </a:lnTo>
                    <a:lnTo>
                      <a:pt x="693" y="243"/>
                    </a:lnTo>
                    <a:lnTo>
                      <a:pt x="674" y="239"/>
                    </a:lnTo>
                    <a:lnTo>
                      <a:pt x="660" y="235"/>
                    </a:lnTo>
                    <a:lnTo>
                      <a:pt x="645" y="232"/>
                    </a:lnTo>
                    <a:lnTo>
                      <a:pt x="631" y="228"/>
                    </a:lnTo>
                    <a:lnTo>
                      <a:pt x="616" y="225"/>
                    </a:lnTo>
                    <a:lnTo>
                      <a:pt x="616" y="228"/>
                    </a:lnTo>
                    <a:lnTo>
                      <a:pt x="620" y="225"/>
                    </a:lnTo>
                    <a:lnTo>
                      <a:pt x="609" y="221"/>
                    </a:lnTo>
                    <a:lnTo>
                      <a:pt x="602" y="217"/>
                    </a:lnTo>
                    <a:lnTo>
                      <a:pt x="598" y="221"/>
                    </a:lnTo>
                    <a:lnTo>
                      <a:pt x="602" y="217"/>
                    </a:lnTo>
                    <a:lnTo>
                      <a:pt x="595" y="210"/>
                    </a:lnTo>
                    <a:lnTo>
                      <a:pt x="595" y="210"/>
                    </a:lnTo>
                    <a:lnTo>
                      <a:pt x="595" y="210"/>
                    </a:lnTo>
                    <a:lnTo>
                      <a:pt x="587" y="206"/>
                    </a:lnTo>
                    <a:lnTo>
                      <a:pt x="580" y="203"/>
                    </a:lnTo>
                    <a:lnTo>
                      <a:pt x="577" y="206"/>
                    </a:lnTo>
                    <a:lnTo>
                      <a:pt x="580" y="203"/>
                    </a:lnTo>
                    <a:lnTo>
                      <a:pt x="577" y="199"/>
                    </a:lnTo>
                    <a:lnTo>
                      <a:pt x="573" y="196"/>
                    </a:lnTo>
                    <a:lnTo>
                      <a:pt x="569" y="199"/>
                    </a:lnTo>
                    <a:lnTo>
                      <a:pt x="577" y="199"/>
                    </a:lnTo>
                    <a:lnTo>
                      <a:pt x="577" y="192"/>
                    </a:lnTo>
                    <a:lnTo>
                      <a:pt x="577" y="188"/>
                    </a:lnTo>
                    <a:lnTo>
                      <a:pt x="577" y="185"/>
                    </a:lnTo>
                    <a:lnTo>
                      <a:pt x="577" y="177"/>
                    </a:lnTo>
                    <a:lnTo>
                      <a:pt x="569" y="177"/>
                    </a:lnTo>
                    <a:lnTo>
                      <a:pt x="573" y="181"/>
                    </a:lnTo>
                    <a:lnTo>
                      <a:pt x="577" y="177"/>
                    </a:lnTo>
                    <a:lnTo>
                      <a:pt x="580" y="177"/>
                    </a:lnTo>
                    <a:lnTo>
                      <a:pt x="580" y="177"/>
                    </a:lnTo>
                    <a:lnTo>
                      <a:pt x="584" y="170"/>
                    </a:lnTo>
                    <a:lnTo>
                      <a:pt x="591" y="156"/>
                    </a:lnTo>
                    <a:lnTo>
                      <a:pt x="584" y="152"/>
                    </a:lnTo>
                    <a:lnTo>
                      <a:pt x="587" y="156"/>
                    </a:lnTo>
                    <a:lnTo>
                      <a:pt x="602" y="141"/>
                    </a:lnTo>
                    <a:lnTo>
                      <a:pt x="609" y="134"/>
                    </a:lnTo>
                    <a:lnTo>
                      <a:pt x="613" y="134"/>
                    </a:lnTo>
                    <a:lnTo>
                      <a:pt x="613" y="134"/>
                    </a:lnTo>
                    <a:lnTo>
                      <a:pt x="620" y="123"/>
                    </a:lnTo>
                    <a:lnTo>
                      <a:pt x="624" y="112"/>
                    </a:lnTo>
                    <a:lnTo>
                      <a:pt x="627" y="101"/>
                    </a:lnTo>
                    <a:lnTo>
                      <a:pt x="627" y="101"/>
                    </a:lnTo>
                    <a:lnTo>
                      <a:pt x="627" y="98"/>
                    </a:lnTo>
                    <a:lnTo>
                      <a:pt x="627" y="87"/>
                    </a:lnTo>
                    <a:lnTo>
                      <a:pt x="627" y="76"/>
                    </a:lnTo>
                    <a:lnTo>
                      <a:pt x="627" y="65"/>
                    </a:lnTo>
                    <a:lnTo>
                      <a:pt x="627" y="65"/>
                    </a:lnTo>
                    <a:lnTo>
                      <a:pt x="627" y="65"/>
                    </a:lnTo>
                    <a:lnTo>
                      <a:pt x="624" y="54"/>
                    </a:lnTo>
                    <a:lnTo>
                      <a:pt x="620" y="43"/>
                    </a:lnTo>
                    <a:lnTo>
                      <a:pt x="613" y="32"/>
                    </a:lnTo>
                    <a:lnTo>
                      <a:pt x="613" y="32"/>
                    </a:lnTo>
                    <a:lnTo>
                      <a:pt x="609" y="29"/>
                    </a:lnTo>
                    <a:lnTo>
                      <a:pt x="606" y="25"/>
                    </a:lnTo>
                    <a:lnTo>
                      <a:pt x="606" y="25"/>
                    </a:lnTo>
                    <a:lnTo>
                      <a:pt x="606" y="25"/>
                    </a:lnTo>
                    <a:lnTo>
                      <a:pt x="598" y="21"/>
                    </a:lnTo>
                    <a:lnTo>
                      <a:pt x="595" y="25"/>
                    </a:lnTo>
                    <a:lnTo>
                      <a:pt x="598" y="21"/>
                    </a:lnTo>
                    <a:lnTo>
                      <a:pt x="595" y="18"/>
                    </a:lnTo>
                    <a:lnTo>
                      <a:pt x="595" y="18"/>
                    </a:lnTo>
                    <a:lnTo>
                      <a:pt x="595" y="18"/>
                    </a:lnTo>
                    <a:lnTo>
                      <a:pt x="587" y="14"/>
                    </a:lnTo>
                    <a:lnTo>
                      <a:pt x="584" y="18"/>
                    </a:lnTo>
                    <a:lnTo>
                      <a:pt x="587" y="14"/>
                    </a:lnTo>
                    <a:lnTo>
                      <a:pt x="584" y="11"/>
                    </a:lnTo>
                    <a:lnTo>
                      <a:pt x="584" y="11"/>
                    </a:lnTo>
                    <a:lnTo>
                      <a:pt x="584" y="11"/>
                    </a:lnTo>
                    <a:lnTo>
                      <a:pt x="577" y="7"/>
                    </a:lnTo>
                    <a:lnTo>
                      <a:pt x="577" y="7"/>
                    </a:lnTo>
                    <a:lnTo>
                      <a:pt x="573" y="7"/>
                    </a:lnTo>
                    <a:lnTo>
                      <a:pt x="566" y="7"/>
                    </a:lnTo>
                    <a:lnTo>
                      <a:pt x="566" y="11"/>
                    </a:lnTo>
                    <a:lnTo>
                      <a:pt x="569" y="7"/>
                    </a:lnTo>
                    <a:lnTo>
                      <a:pt x="562" y="3"/>
                    </a:lnTo>
                    <a:lnTo>
                      <a:pt x="562" y="3"/>
                    </a:lnTo>
                    <a:lnTo>
                      <a:pt x="558" y="3"/>
                    </a:lnTo>
                    <a:lnTo>
                      <a:pt x="548" y="3"/>
                    </a:lnTo>
                    <a:lnTo>
                      <a:pt x="548" y="7"/>
                    </a:lnTo>
                    <a:lnTo>
                      <a:pt x="551" y="3"/>
                    </a:lnTo>
                    <a:lnTo>
                      <a:pt x="544" y="0"/>
                    </a:lnTo>
                    <a:lnTo>
                      <a:pt x="544" y="0"/>
                    </a:lnTo>
                    <a:lnTo>
                      <a:pt x="540" y="0"/>
                    </a:lnTo>
                    <a:lnTo>
                      <a:pt x="533" y="0"/>
                    </a:lnTo>
                    <a:lnTo>
                      <a:pt x="522" y="0"/>
                    </a:lnTo>
                    <a:lnTo>
                      <a:pt x="515" y="0"/>
                    </a:lnTo>
                    <a:lnTo>
                      <a:pt x="515" y="0"/>
                    </a:lnTo>
                    <a:lnTo>
                      <a:pt x="515" y="0"/>
                    </a:lnTo>
                    <a:lnTo>
                      <a:pt x="504" y="3"/>
                    </a:lnTo>
                    <a:lnTo>
                      <a:pt x="504" y="7"/>
                    </a:lnTo>
                    <a:lnTo>
                      <a:pt x="504" y="3"/>
                    </a:lnTo>
                    <a:lnTo>
                      <a:pt x="497" y="3"/>
                    </a:lnTo>
                    <a:lnTo>
                      <a:pt x="489" y="3"/>
                    </a:lnTo>
                    <a:lnTo>
                      <a:pt x="489" y="3"/>
                    </a:lnTo>
                    <a:lnTo>
                      <a:pt x="486" y="3"/>
                    </a:lnTo>
                    <a:lnTo>
                      <a:pt x="482" y="7"/>
                    </a:lnTo>
                    <a:lnTo>
                      <a:pt x="486" y="11"/>
                    </a:lnTo>
                    <a:lnTo>
                      <a:pt x="486" y="7"/>
                    </a:lnTo>
                    <a:lnTo>
                      <a:pt x="479" y="11"/>
                    </a:lnTo>
                    <a:lnTo>
                      <a:pt x="479" y="11"/>
                    </a:lnTo>
                    <a:lnTo>
                      <a:pt x="475" y="11"/>
                    </a:lnTo>
                    <a:lnTo>
                      <a:pt x="471" y="14"/>
                    </a:lnTo>
                    <a:lnTo>
                      <a:pt x="475" y="18"/>
                    </a:lnTo>
                    <a:lnTo>
                      <a:pt x="475" y="14"/>
                    </a:lnTo>
                    <a:lnTo>
                      <a:pt x="468" y="18"/>
                    </a:lnTo>
                    <a:lnTo>
                      <a:pt x="468" y="18"/>
                    </a:lnTo>
                    <a:lnTo>
                      <a:pt x="464" y="18"/>
                    </a:lnTo>
                    <a:lnTo>
                      <a:pt x="460" y="21"/>
                    </a:lnTo>
                    <a:lnTo>
                      <a:pt x="457" y="25"/>
                    </a:lnTo>
                    <a:lnTo>
                      <a:pt x="453" y="29"/>
                    </a:lnTo>
                    <a:lnTo>
                      <a:pt x="453" y="32"/>
                    </a:lnTo>
                    <a:lnTo>
                      <a:pt x="453" y="32"/>
                    </a:lnTo>
                    <a:lnTo>
                      <a:pt x="450" y="40"/>
                    </a:lnTo>
                    <a:lnTo>
                      <a:pt x="446" y="50"/>
                    </a:lnTo>
                    <a:lnTo>
                      <a:pt x="442" y="61"/>
                    </a:lnTo>
                    <a:lnTo>
                      <a:pt x="442" y="61"/>
                    </a:lnTo>
                    <a:lnTo>
                      <a:pt x="442" y="61"/>
                    </a:lnTo>
                    <a:lnTo>
                      <a:pt x="442" y="72"/>
                    </a:lnTo>
                    <a:lnTo>
                      <a:pt x="442" y="83"/>
                    </a:lnTo>
                    <a:lnTo>
                      <a:pt x="442" y="98"/>
                    </a:lnTo>
                    <a:lnTo>
                      <a:pt x="442" y="101"/>
                    </a:lnTo>
                    <a:lnTo>
                      <a:pt x="442" y="101"/>
                    </a:lnTo>
                    <a:lnTo>
                      <a:pt x="446" y="112"/>
                    </a:lnTo>
                    <a:lnTo>
                      <a:pt x="450" y="127"/>
                    </a:lnTo>
                    <a:lnTo>
                      <a:pt x="457" y="138"/>
                    </a:lnTo>
                    <a:lnTo>
                      <a:pt x="460" y="148"/>
                    </a:lnTo>
                    <a:lnTo>
                      <a:pt x="460" y="148"/>
                    </a:lnTo>
                    <a:lnTo>
                      <a:pt x="464" y="152"/>
                    </a:lnTo>
                    <a:lnTo>
                      <a:pt x="475" y="159"/>
                    </a:lnTo>
                    <a:lnTo>
                      <a:pt x="475" y="152"/>
                    </a:lnTo>
                    <a:lnTo>
                      <a:pt x="471" y="156"/>
                    </a:lnTo>
                    <a:lnTo>
                      <a:pt x="475" y="163"/>
                    </a:lnTo>
                    <a:lnTo>
                      <a:pt x="475" y="163"/>
                    </a:lnTo>
                    <a:lnTo>
                      <a:pt x="475" y="163"/>
                    </a:lnTo>
                    <a:lnTo>
                      <a:pt x="482" y="170"/>
                    </a:lnTo>
                    <a:lnTo>
                      <a:pt x="486" y="167"/>
                    </a:lnTo>
                    <a:lnTo>
                      <a:pt x="482" y="167"/>
                    </a:lnTo>
                    <a:lnTo>
                      <a:pt x="482" y="174"/>
                    </a:lnTo>
                    <a:lnTo>
                      <a:pt x="482" y="177"/>
                    </a:lnTo>
                    <a:lnTo>
                      <a:pt x="482" y="177"/>
                    </a:lnTo>
                    <a:lnTo>
                      <a:pt x="486" y="185"/>
                    </a:lnTo>
                    <a:lnTo>
                      <a:pt x="489" y="181"/>
                    </a:lnTo>
                    <a:lnTo>
                      <a:pt x="486" y="181"/>
                    </a:lnTo>
                    <a:lnTo>
                      <a:pt x="486" y="188"/>
                    </a:lnTo>
                    <a:lnTo>
                      <a:pt x="486" y="196"/>
                    </a:lnTo>
                    <a:lnTo>
                      <a:pt x="489" y="196"/>
                    </a:lnTo>
                    <a:lnTo>
                      <a:pt x="486" y="196"/>
                    </a:lnTo>
                    <a:lnTo>
                      <a:pt x="482" y="203"/>
                    </a:lnTo>
                    <a:lnTo>
                      <a:pt x="479" y="210"/>
                    </a:lnTo>
                    <a:lnTo>
                      <a:pt x="482" y="210"/>
                    </a:lnTo>
                    <a:lnTo>
                      <a:pt x="479" y="206"/>
                    </a:lnTo>
                    <a:lnTo>
                      <a:pt x="475" y="210"/>
                    </a:lnTo>
                    <a:lnTo>
                      <a:pt x="468" y="217"/>
                    </a:lnTo>
                    <a:lnTo>
                      <a:pt x="471" y="221"/>
                    </a:lnTo>
                    <a:lnTo>
                      <a:pt x="471" y="217"/>
                    </a:lnTo>
                    <a:lnTo>
                      <a:pt x="460" y="221"/>
                    </a:lnTo>
                    <a:lnTo>
                      <a:pt x="460" y="225"/>
                    </a:lnTo>
                    <a:lnTo>
                      <a:pt x="460" y="221"/>
                    </a:lnTo>
                    <a:lnTo>
                      <a:pt x="453" y="221"/>
                    </a:lnTo>
                    <a:lnTo>
                      <a:pt x="442" y="221"/>
                    </a:lnTo>
                    <a:lnTo>
                      <a:pt x="431" y="221"/>
                    </a:lnTo>
                    <a:lnTo>
                      <a:pt x="417" y="217"/>
                    </a:lnTo>
                    <a:lnTo>
                      <a:pt x="417" y="221"/>
                    </a:lnTo>
                    <a:lnTo>
                      <a:pt x="421" y="217"/>
                    </a:lnTo>
                    <a:lnTo>
                      <a:pt x="406" y="210"/>
                    </a:lnTo>
                    <a:lnTo>
                      <a:pt x="406" y="210"/>
                    </a:lnTo>
                    <a:lnTo>
                      <a:pt x="402" y="210"/>
                    </a:lnTo>
                    <a:lnTo>
                      <a:pt x="392" y="210"/>
                    </a:lnTo>
                    <a:lnTo>
                      <a:pt x="392" y="214"/>
                    </a:lnTo>
                    <a:lnTo>
                      <a:pt x="395" y="210"/>
                    </a:lnTo>
                    <a:lnTo>
                      <a:pt x="388" y="206"/>
                    </a:lnTo>
                    <a:lnTo>
                      <a:pt x="377" y="203"/>
                    </a:lnTo>
                    <a:lnTo>
                      <a:pt x="377" y="203"/>
                    </a:lnTo>
                    <a:lnTo>
                      <a:pt x="373" y="203"/>
                    </a:lnTo>
                    <a:lnTo>
                      <a:pt x="363" y="203"/>
                    </a:lnTo>
                    <a:lnTo>
                      <a:pt x="341" y="203"/>
                    </a:lnTo>
                    <a:lnTo>
                      <a:pt x="315" y="203"/>
                    </a:lnTo>
                    <a:lnTo>
                      <a:pt x="290" y="206"/>
                    </a:lnTo>
                    <a:lnTo>
                      <a:pt x="265" y="210"/>
                    </a:lnTo>
                    <a:lnTo>
                      <a:pt x="239" y="214"/>
                    </a:lnTo>
                    <a:lnTo>
                      <a:pt x="236" y="214"/>
                    </a:lnTo>
                    <a:lnTo>
                      <a:pt x="239" y="214"/>
                    </a:lnTo>
                    <a:lnTo>
                      <a:pt x="214" y="221"/>
                    </a:lnTo>
                    <a:lnTo>
                      <a:pt x="210" y="221"/>
                    </a:lnTo>
                    <a:lnTo>
                      <a:pt x="210" y="225"/>
                    </a:lnTo>
                    <a:lnTo>
                      <a:pt x="210" y="228"/>
                    </a:lnTo>
                    <a:lnTo>
                      <a:pt x="210" y="243"/>
                    </a:lnTo>
                    <a:lnTo>
                      <a:pt x="210" y="254"/>
                    </a:lnTo>
                    <a:lnTo>
                      <a:pt x="210" y="272"/>
                    </a:lnTo>
                    <a:lnTo>
                      <a:pt x="214" y="308"/>
                    </a:lnTo>
                    <a:lnTo>
                      <a:pt x="218" y="352"/>
                    </a:lnTo>
                    <a:lnTo>
                      <a:pt x="221" y="370"/>
                    </a:lnTo>
                    <a:lnTo>
                      <a:pt x="221" y="391"/>
                    </a:lnTo>
                    <a:lnTo>
                      <a:pt x="221" y="413"/>
                    </a:lnTo>
                    <a:lnTo>
                      <a:pt x="221" y="413"/>
                    </a:lnTo>
                    <a:lnTo>
                      <a:pt x="221" y="417"/>
                    </a:lnTo>
                    <a:lnTo>
                      <a:pt x="225" y="431"/>
                    </a:lnTo>
                    <a:lnTo>
                      <a:pt x="228" y="428"/>
                    </a:lnTo>
                    <a:lnTo>
                      <a:pt x="225" y="428"/>
                    </a:lnTo>
                    <a:lnTo>
                      <a:pt x="221" y="446"/>
                    </a:lnTo>
                    <a:lnTo>
                      <a:pt x="221" y="460"/>
                    </a:lnTo>
                    <a:lnTo>
                      <a:pt x="225" y="460"/>
                    </a:lnTo>
                    <a:lnTo>
                      <a:pt x="221" y="460"/>
                    </a:lnTo>
                    <a:lnTo>
                      <a:pt x="218" y="468"/>
                    </a:lnTo>
                    <a:lnTo>
                      <a:pt x="218" y="468"/>
                    </a:lnTo>
                    <a:lnTo>
                      <a:pt x="218" y="468"/>
                    </a:lnTo>
                    <a:lnTo>
                      <a:pt x="218" y="471"/>
                    </a:lnTo>
                    <a:lnTo>
                      <a:pt x="221" y="471"/>
                    </a:lnTo>
                    <a:lnTo>
                      <a:pt x="218" y="468"/>
                    </a:lnTo>
                    <a:lnTo>
                      <a:pt x="214" y="471"/>
                    </a:lnTo>
                    <a:lnTo>
                      <a:pt x="210" y="475"/>
                    </a:lnTo>
                    <a:lnTo>
                      <a:pt x="207" y="478"/>
                    </a:lnTo>
                    <a:close/>
                    <a:moveTo>
                      <a:pt x="218" y="482"/>
                    </a:moveTo>
                    <a:lnTo>
                      <a:pt x="221" y="478"/>
                    </a:lnTo>
                    <a:lnTo>
                      <a:pt x="225" y="475"/>
                    </a:lnTo>
                    <a:lnTo>
                      <a:pt x="228" y="475"/>
                    </a:lnTo>
                    <a:lnTo>
                      <a:pt x="228" y="471"/>
                    </a:lnTo>
                    <a:lnTo>
                      <a:pt x="228" y="468"/>
                    </a:lnTo>
                    <a:lnTo>
                      <a:pt x="221" y="468"/>
                    </a:lnTo>
                    <a:lnTo>
                      <a:pt x="228" y="471"/>
                    </a:lnTo>
                    <a:lnTo>
                      <a:pt x="232" y="464"/>
                    </a:lnTo>
                    <a:lnTo>
                      <a:pt x="232" y="464"/>
                    </a:lnTo>
                    <a:lnTo>
                      <a:pt x="232" y="460"/>
                    </a:lnTo>
                    <a:lnTo>
                      <a:pt x="232" y="446"/>
                    </a:lnTo>
                    <a:lnTo>
                      <a:pt x="236" y="428"/>
                    </a:lnTo>
                    <a:lnTo>
                      <a:pt x="236" y="428"/>
                    </a:lnTo>
                    <a:lnTo>
                      <a:pt x="236" y="428"/>
                    </a:lnTo>
                    <a:lnTo>
                      <a:pt x="232" y="413"/>
                    </a:lnTo>
                    <a:lnTo>
                      <a:pt x="225" y="413"/>
                    </a:lnTo>
                    <a:lnTo>
                      <a:pt x="232" y="413"/>
                    </a:lnTo>
                    <a:lnTo>
                      <a:pt x="232" y="391"/>
                    </a:lnTo>
                    <a:lnTo>
                      <a:pt x="232" y="370"/>
                    </a:lnTo>
                    <a:lnTo>
                      <a:pt x="228" y="352"/>
                    </a:lnTo>
                    <a:lnTo>
                      <a:pt x="225" y="308"/>
                    </a:lnTo>
                    <a:lnTo>
                      <a:pt x="221" y="272"/>
                    </a:lnTo>
                    <a:lnTo>
                      <a:pt x="221" y="254"/>
                    </a:lnTo>
                    <a:lnTo>
                      <a:pt x="221" y="243"/>
                    </a:lnTo>
                    <a:lnTo>
                      <a:pt x="221" y="228"/>
                    </a:lnTo>
                    <a:lnTo>
                      <a:pt x="221" y="225"/>
                    </a:lnTo>
                    <a:lnTo>
                      <a:pt x="214" y="225"/>
                    </a:lnTo>
                    <a:lnTo>
                      <a:pt x="218" y="232"/>
                    </a:lnTo>
                    <a:lnTo>
                      <a:pt x="243" y="225"/>
                    </a:lnTo>
                    <a:lnTo>
                      <a:pt x="239" y="217"/>
                    </a:lnTo>
                    <a:lnTo>
                      <a:pt x="239" y="225"/>
                    </a:lnTo>
                    <a:lnTo>
                      <a:pt x="265" y="221"/>
                    </a:lnTo>
                    <a:lnTo>
                      <a:pt x="290" y="217"/>
                    </a:lnTo>
                    <a:lnTo>
                      <a:pt x="315" y="214"/>
                    </a:lnTo>
                    <a:lnTo>
                      <a:pt x="341" y="214"/>
                    </a:lnTo>
                    <a:lnTo>
                      <a:pt x="363" y="214"/>
                    </a:lnTo>
                    <a:lnTo>
                      <a:pt x="373" y="214"/>
                    </a:lnTo>
                    <a:lnTo>
                      <a:pt x="373" y="206"/>
                    </a:lnTo>
                    <a:lnTo>
                      <a:pt x="373" y="214"/>
                    </a:lnTo>
                    <a:lnTo>
                      <a:pt x="384" y="217"/>
                    </a:lnTo>
                    <a:lnTo>
                      <a:pt x="392" y="221"/>
                    </a:lnTo>
                    <a:lnTo>
                      <a:pt x="392" y="221"/>
                    </a:lnTo>
                    <a:lnTo>
                      <a:pt x="392" y="221"/>
                    </a:lnTo>
                    <a:lnTo>
                      <a:pt x="402" y="221"/>
                    </a:lnTo>
                    <a:lnTo>
                      <a:pt x="402" y="214"/>
                    </a:lnTo>
                    <a:lnTo>
                      <a:pt x="402" y="221"/>
                    </a:lnTo>
                    <a:lnTo>
                      <a:pt x="417" y="228"/>
                    </a:lnTo>
                    <a:lnTo>
                      <a:pt x="413" y="225"/>
                    </a:lnTo>
                    <a:lnTo>
                      <a:pt x="417" y="228"/>
                    </a:lnTo>
                    <a:lnTo>
                      <a:pt x="431" y="232"/>
                    </a:lnTo>
                    <a:lnTo>
                      <a:pt x="442" y="232"/>
                    </a:lnTo>
                    <a:lnTo>
                      <a:pt x="453" y="232"/>
                    </a:lnTo>
                    <a:lnTo>
                      <a:pt x="460" y="232"/>
                    </a:lnTo>
                    <a:lnTo>
                      <a:pt x="464" y="232"/>
                    </a:lnTo>
                    <a:lnTo>
                      <a:pt x="464" y="232"/>
                    </a:lnTo>
                    <a:lnTo>
                      <a:pt x="475" y="228"/>
                    </a:lnTo>
                    <a:lnTo>
                      <a:pt x="475" y="228"/>
                    </a:lnTo>
                    <a:lnTo>
                      <a:pt x="475" y="225"/>
                    </a:lnTo>
                    <a:lnTo>
                      <a:pt x="482" y="217"/>
                    </a:lnTo>
                    <a:lnTo>
                      <a:pt x="486" y="214"/>
                    </a:lnTo>
                    <a:lnTo>
                      <a:pt x="489" y="214"/>
                    </a:lnTo>
                    <a:lnTo>
                      <a:pt x="489" y="214"/>
                    </a:lnTo>
                    <a:lnTo>
                      <a:pt x="493" y="206"/>
                    </a:lnTo>
                    <a:lnTo>
                      <a:pt x="497" y="199"/>
                    </a:lnTo>
                    <a:lnTo>
                      <a:pt x="497" y="199"/>
                    </a:lnTo>
                    <a:lnTo>
                      <a:pt x="497" y="196"/>
                    </a:lnTo>
                    <a:lnTo>
                      <a:pt x="497" y="188"/>
                    </a:lnTo>
                    <a:lnTo>
                      <a:pt x="497" y="181"/>
                    </a:lnTo>
                    <a:lnTo>
                      <a:pt x="497" y="181"/>
                    </a:lnTo>
                    <a:lnTo>
                      <a:pt x="497" y="181"/>
                    </a:lnTo>
                    <a:lnTo>
                      <a:pt x="493" y="174"/>
                    </a:lnTo>
                    <a:lnTo>
                      <a:pt x="486" y="174"/>
                    </a:lnTo>
                    <a:lnTo>
                      <a:pt x="493" y="174"/>
                    </a:lnTo>
                    <a:lnTo>
                      <a:pt x="493" y="167"/>
                    </a:lnTo>
                    <a:lnTo>
                      <a:pt x="493" y="167"/>
                    </a:lnTo>
                    <a:lnTo>
                      <a:pt x="489" y="163"/>
                    </a:lnTo>
                    <a:lnTo>
                      <a:pt x="482" y="156"/>
                    </a:lnTo>
                    <a:lnTo>
                      <a:pt x="479" y="159"/>
                    </a:lnTo>
                    <a:lnTo>
                      <a:pt x="486" y="159"/>
                    </a:lnTo>
                    <a:lnTo>
                      <a:pt x="482" y="152"/>
                    </a:lnTo>
                    <a:lnTo>
                      <a:pt x="479" y="148"/>
                    </a:lnTo>
                    <a:lnTo>
                      <a:pt x="479" y="148"/>
                    </a:lnTo>
                    <a:lnTo>
                      <a:pt x="468" y="141"/>
                    </a:lnTo>
                    <a:lnTo>
                      <a:pt x="464" y="145"/>
                    </a:lnTo>
                    <a:lnTo>
                      <a:pt x="471" y="145"/>
                    </a:lnTo>
                    <a:lnTo>
                      <a:pt x="468" y="134"/>
                    </a:lnTo>
                    <a:lnTo>
                      <a:pt x="460" y="123"/>
                    </a:lnTo>
                    <a:lnTo>
                      <a:pt x="457" y="109"/>
                    </a:lnTo>
                    <a:lnTo>
                      <a:pt x="453" y="98"/>
                    </a:lnTo>
                    <a:lnTo>
                      <a:pt x="446" y="98"/>
                    </a:lnTo>
                    <a:lnTo>
                      <a:pt x="453" y="98"/>
                    </a:lnTo>
                    <a:lnTo>
                      <a:pt x="453" y="83"/>
                    </a:lnTo>
                    <a:lnTo>
                      <a:pt x="453" y="72"/>
                    </a:lnTo>
                    <a:lnTo>
                      <a:pt x="453" y="61"/>
                    </a:lnTo>
                    <a:lnTo>
                      <a:pt x="446" y="61"/>
                    </a:lnTo>
                    <a:lnTo>
                      <a:pt x="453" y="65"/>
                    </a:lnTo>
                    <a:lnTo>
                      <a:pt x="457" y="54"/>
                    </a:lnTo>
                    <a:lnTo>
                      <a:pt x="460" y="43"/>
                    </a:lnTo>
                    <a:lnTo>
                      <a:pt x="464" y="36"/>
                    </a:lnTo>
                    <a:lnTo>
                      <a:pt x="457" y="32"/>
                    </a:lnTo>
                    <a:lnTo>
                      <a:pt x="460" y="36"/>
                    </a:lnTo>
                    <a:lnTo>
                      <a:pt x="464" y="32"/>
                    </a:lnTo>
                    <a:lnTo>
                      <a:pt x="468" y="29"/>
                    </a:lnTo>
                    <a:lnTo>
                      <a:pt x="471" y="25"/>
                    </a:lnTo>
                    <a:lnTo>
                      <a:pt x="468" y="21"/>
                    </a:lnTo>
                    <a:lnTo>
                      <a:pt x="471" y="29"/>
                    </a:lnTo>
                    <a:lnTo>
                      <a:pt x="479" y="25"/>
                    </a:lnTo>
                    <a:lnTo>
                      <a:pt x="479" y="25"/>
                    </a:lnTo>
                    <a:lnTo>
                      <a:pt x="479" y="21"/>
                    </a:lnTo>
                    <a:lnTo>
                      <a:pt x="482" y="18"/>
                    </a:lnTo>
                    <a:lnTo>
                      <a:pt x="479" y="14"/>
                    </a:lnTo>
                    <a:lnTo>
                      <a:pt x="482" y="21"/>
                    </a:lnTo>
                    <a:lnTo>
                      <a:pt x="489" y="18"/>
                    </a:lnTo>
                    <a:lnTo>
                      <a:pt x="489" y="18"/>
                    </a:lnTo>
                    <a:lnTo>
                      <a:pt x="489" y="14"/>
                    </a:lnTo>
                    <a:lnTo>
                      <a:pt x="493" y="11"/>
                    </a:lnTo>
                    <a:lnTo>
                      <a:pt x="489" y="7"/>
                    </a:lnTo>
                    <a:lnTo>
                      <a:pt x="489" y="14"/>
                    </a:lnTo>
                    <a:lnTo>
                      <a:pt x="497" y="14"/>
                    </a:lnTo>
                    <a:lnTo>
                      <a:pt x="504" y="14"/>
                    </a:lnTo>
                    <a:lnTo>
                      <a:pt x="508" y="14"/>
                    </a:lnTo>
                    <a:lnTo>
                      <a:pt x="508" y="14"/>
                    </a:lnTo>
                    <a:lnTo>
                      <a:pt x="518" y="11"/>
                    </a:lnTo>
                    <a:lnTo>
                      <a:pt x="515" y="3"/>
                    </a:lnTo>
                    <a:lnTo>
                      <a:pt x="515" y="11"/>
                    </a:lnTo>
                    <a:lnTo>
                      <a:pt x="522" y="11"/>
                    </a:lnTo>
                    <a:lnTo>
                      <a:pt x="533" y="11"/>
                    </a:lnTo>
                    <a:lnTo>
                      <a:pt x="540" y="11"/>
                    </a:lnTo>
                    <a:lnTo>
                      <a:pt x="540" y="3"/>
                    </a:lnTo>
                    <a:lnTo>
                      <a:pt x="540" y="11"/>
                    </a:lnTo>
                    <a:lnTo>
                      <a:pt x="548" y="14"/>
                    </a:lnTo>
                    <a:lnTo>
                      <a:pt x="548" y="14"/>
                    </a:lnTo>
                    <a:lnTo>
                      <a:pt x="548" y="14"/>
                    </a:lnTo>
                    <a:lnTo>
                      <a:pt x="558" y="14"/>
                    </a:lnTo>
                    <a:lnTo>
                      <a:pt x="558" y="7"/>
                    </a:lnTo>
                    <a:lnTo>
                      <a:pt x="558" y="14"/>
                    </a:lnTo>
                    <a:lnTo>
                      <a:pt x="566" y="18"/>
                    </a:lnTo>
                    <a:lnTo>
                      <a:pt x="566" y="18"/>
                    </a:lnTo>
                    <a:lnTo>
                      <a:pt x="566" y="18"/>
                    </a:lnTo>
                    <a:lnTo>
                      <a:pt x="573" y="18"/>
                    </a:lnTo>
                    <a:lnTo>
                      <a:pt x="573" y="11"/>
                    </a:lnTo>
                    <a:lnTo>
                      <a:pt x="573" y="18"/>
                    </a:lnTo>
                    <a:lnTo>
                      <a:pt x="580" y="21"/>
                    </a:lnTo>
                    <a:lnTo>
                      <a:pt x="580" y="14"/>
                    </a:lnTo>
                    <a:lnTo>
                      <a:pt x="577" y="18"/>
                    </a:lnTo>
                    <a:lnTo>
                      <a:pt x="580" y="21"/>
                    </a:lnTo>
                    <a:lnTo>
                      <a:pt x="584" y="25"/>
                    </a:lnTo>
                    <a:lnTo>
                      <a:pt x="584" y="25"/>
                    </a:lnTo>
                    <a:lnTo>
                      <a:pt x="591" y="29"/>
                    </a:lnTo>
                    <a:lnTo>
                      <a:pt x="591" y="21"/>
                    </a:lnTo>
                    <a:lnTo>
                      <a:pt x="587" y="25"/>
                    </a:lnTo>
                    <a:lnTo>
                      <a:pt x="591" y="29"/>
                    </a:lnTo>
                    <a:lnTo>
                      <a:pt x="595" y="32"/>
                    </a:lnTo>
                    <a:lnTo>
                      <a:pt x="595" y="32"/>
                    </a:lnTo>
                    <a:lnTo>
                      <a:pt x="602" y="36"/>
                    </a:lnTo>
                    <a:lnTo>
                      <a:pt x="602" y="29"/>
                    </a:lnTo>
                    <a:lnTo>
                      <a:pt x="598" y="32"/>
                    </a:lnTo>
                    <a:lnTo>
                      <a:pt x="602" y="36"/>
                    </a:lnTo>
                    <a:lnTo>
                      <a:pt x="606" y="32"/>
                    </a:lnTo>
                    <a:lnTo>
                      <a:pt x="602" y="36"/>
                    </a:lnTo>
                    <a:lnTo>
                      <a:pt x="609" y="47"/>
                    </a:lnTo>
                    <a:lnTo>
                      <a:pt x="613" y="58"/>
                    </a:lnTo>
                    <a:lnTo>
                      <a:pt x="616" y="69"/>
                    </a:lnTo>
                    <a:lnTo>
                      <a:pt x="620" y="65"/>
                    </a:lnTo>
                    <a:lnTo>
                      <a:pt x="616" y="65"/>
                    </a:lnTo>
                    <a:lnTo>
                      <a:pt x="616" y="76"/>
                    </a:lnTo>
                    <a:lnTo>
                      <a:pt x="616" y="87"/>
                    </a:lnTo>
                    <a:lnTo>
                      <a:pt x="616" y="98"/>
                    </a:lnTo>
                    <a:lnTo>
                      <a:pt x="620" y="98"/>
                    </a:lnTo>
                    <a:lnTo>
                      <a:pt x="616" y="98"/>
                    </a:lnTo>
                    <a:lnTo>
                      <a:pt x="613" y="109"/>
                    </a:lnTo>
                    <a:lnTo>
                      <a:pt x="609" y="119"/>
                    </a:lnTo>
                    <a:lnTo>
                      <a:pt x="602" y="130"/>
                    </a:lnTo>
                    <a:lnTo>
                      <a:pt x="606" y="130"/>
                    </a:lnTo>
                    <a:lnTo>
                      <a:pt x="602" y="127"/>
                    </a:lnTo>
                    <a:lnTo>
                      <a:pt x="595" y="134"/>
                    </a:lnTo>
                    <a:lnTo>
                      <a:pt x="580" y="148"/>
                    </a:lnTo>
                    <a:lnTo>
                      <a:pt x="580" y="152"/>
                    </a:lnTo>
                    <a:lnTo>
                      <a:pt x="580" y="152"/>
                    </a:lnTo>
                    <a:lnTo>
                      <a:pt x="573" y="167"/>
                    </a:lnTo>
                    <a:lnTo>
                      <a:pt x="569" y="174"/>
                    </a:lnTo>
                    <a:lnTo>
                      <a:pt x="573" y="174"/>
                    </a:lnTo>
                    <a:lnTo>
                      <a:pt x="569" y="170"/>
                    </a:lnTo>
                    <a:lnTo>
                      <a:pt x="566" y="174"/>
                    </a:lnTo>
                    <a:lnTo>
                      <a:pt x="566" y="177"/>
                    </a:lnTo>
                    <a:lnTo>
                      <a:pt x="566" y="177"/>
                    </a:lnTo>
                    <a:lnTo>
                      <a:pt x="566" y="185"/>
                    </a:lnTo>
                    <a:lnTo>
                      <a:pt x="566" y="188"/>
                    </a:lnTo>
                    <a:lnTo>
                      <a:pt x="566" y="192"/>
                    </a:lnTo>
                    <a:lnTo>
                      <a:pt x="566" y="199"/>
                    </a:lnTo>
                    <a:lnTo>
                      <a:pt x="566" y="203"/>
                    </a:lnTo>
                    <a:lnTo>
                      <a:pt x="566" y="203"/>
                    </a:lnTo>
                    <a:lnTo>
                      <a:pt x="569" y="206"/>
                    </a:lnTo>
                    <a:lnTo>
                      <a:pt x="573" y="210"/>
                    </a:lnTo>
                    <a:lnTo>
                      <a:pt x="577" y="214"/>
                    </a:lnTo>
                    <a:lnTo>
                      <a:pt x="577" y="214"/>
                    </a:lnTo>
                    <a:lnTo>
                      <a:pt x="584" y="217"/>
                    </a:lnTo>
                    <a:lnTo>
                      <a:pt x="591" y="221"/>
                    </a:lnTo>
                    <a:lnTo>
                      <a:pt x="591" y="214"/>
                    </a:lnTo>
                    <a:lnTo>
                      <a:pt x="587" y="217"/>
                    </a:lnTo>
                    <a:lnTo>
                      <a:pt x="595" y="225"/>
                    </a:lnTo>
                    <a:lnTo>
                      <a:pt x="598" y="228"/>
                    </a:lnTo>
                    <a:lnTo>
                      <a:pt x="598" y="228"/>
                    </a:lnTo>
                    <a:lnTo>
                      <a:pt x="606" y="232"/>
                    </a:lnTo>
                    <a:lnTo>
                      <a:pt x="616" y="235"/>
                    </a:lnTo>
                    <a:lnTo>
                      <a:pt x="609" y="232"/>
                    </a:lnTo>
                    <a:lnTo>
                      <a:pt x="616" y="235"/>
                    </a:lnTo>
                    <a:lnTo>
                      <a:pt x="631" y="239"/>
                    </a:lnTo>
                    <a:lnTo>
                      <a:pt x="645" y="243"/>
                    </a:lnTo>
                    <a:lnTo>
                      <a:pt x="660" y="246"/>
                    </a:lnTo>
                    <a:lnTo>
                      <a:pt x="674" y="250"/>
                    </a:lnTo>
                    <a:lnTo>
                      <a:pt x="693" y="254"/>
                    </a:lnTo>
                    <a:lnTo>
                      <a:pt x="711" y="254"/>
                    </a:lnTo>
                    <a:lnTo>
                      <a:pt x="725" y="254"/>
                    </a:lnTo>
                    <a:lnTo>
                      <a:pt x="743" y="254"/>
                    </a:lnTo>
                    <a:lnTo>
                      <a:pt x="761" y="254"/>
                    </a:lnTo>
                    <a:lnTo>
                      <a:pt x="776" y="254"/>
                    </a:lnTo>
                    <a:lnTo>
                      <a:pt x="790" y="250"/>
                    </a:lnTo>
                    <a:lnTo>
                      <a:pt x="805" y="246"/>
                    </a:lnTo>
                    <a:lnTo>
                      <a:pt x="819" y="243"/>
                    </a:lnTo>
                    <a:lnTo>
                      <a:pt x="823" y="239"/>
                    </a:lnTo>
                    <a:lnTo>
                      <a:pt x="823" y="243"/>
                    </a:lnTo>
                    <a:lnTo>
                      <a:pt x="834" y="235"/>
                    </a:lnTo>
                    <a:lnTo>
                      <a:pt x="845" y="232"/>
                    </a:lnTo>
                    <a:lnTo>
                      <a:pt x="841" y="225"/>
                    </a:lnTo>
                    <a:lnTo>
                      <a:pt x="838" y="225"/>
                    </a:lnTo>
                    <a:lnTo>
                      <a:pt x="838" y="254"/>
                    </a:lnTo>
                    <a:lnTo>
                      <a:pt x="838" y="290"/>
                    </a:lnTo>
                    <a:lnTo>
                      <a:pt x="838" y="333"/>
                    </a:lnTo>
                    <a:lnTo>
                      <a:pt x="838" y="373"/>
                    </a:lnTo>
                    <a:lnTo>
                      <a:pt x="838" y="413"/>
                    </a:lnTo>
                    <a:lnTo>
                      <a:pt x="838" y="453"/>
                    </a:lnTo>
                    <a:lnTo>
                      <a:pt x="838" y="478"/>
                    </a:lnTo>
                    <a:lnTo>
                      <a:pt x="838" y="497"/>
                    </a:lnTo>
                    <a:lnTo>
                      <a:pt x="838" y="504"/>
                    </a:lnTo>
                    <a:lnTo>
                      <a:pt x="838" y="508"/>
                    </a:lnTo>
                    <a:lnTo>
                      <a:pt x="838" y="508"/>
                    </a:lnTo>
                    <a:lnTo>
                      <a:pt x="841" y="511"/>
                    </a:lnTo>
                    <a:lnTo>
                      <a:pt x="845" y="508"/>
                    </a:lnTo>
                    <a:lnTo>
                      <a:pt x="841" y="511"/>
                    </a:lnTo>
                    <a:lnTo>
                      <a:pt x="845" y="518"/>
                    </a:lnTo>
                    <a:lnTo>
                      <a:pt x="845" y="518"/>
                    </a:lnTo>
                    <a:lnTo>
                      <a:pt x="845" y="518"/>
                    </a:lnTo>
                    <a:lnTo>
                      <a:pt x="848" y="522"/>
                    </a:lnTo>
                    <a:lnTo>
                      <a:pt x="852" y="526"/>
                    </a:lnTo>
                    <a:lnTo>
                      <a:pt x="852" y="526"/>
                    </a:lnTo>
                    <a:lnTo>
                      <a:pt x="859" y="529"/>
                    </a:lnTo>
                    <a:lnTo>
                      <a:pt x="859" y="522"/>
                    </a:lnTo>
                    <a:lnTo>
                      <a:pt x="856" y="526"/>
                    </a:lnTo>
                    <a:lnTo>
                      <a:pt x="863" y="533"/>
                    </a:lnTo>
                    <a:lnTo>
                      <a:pt x="867" y="537"/>
                    </a:lnTo>
                    <a:lnTo>
                      <a:pt x="867" y="537"/>
                    </a:lnTo>
                    <a:lnTo>
                      <a:pt x="874" y="540"/>
                    </a:lnTo>
                    <a:lnTo>
                      <a:pt x="874" y="540"/>
                    </a:lnTo>
                    <a:lnTo>
                      <a:pt x="874" y="540"/>
                    </a:lnTo>
                    <a:lnTo>
                      <a:pt x="881" y="540"/>
                    </a:lnTo>
                    <a:lnTo>
                      <a:pt x="881" y="533"/>
                    </a:lnTo>
                    <a:lnTo>
                      <a:pt x="881" y="540"/>
                    </a:lnTo>
                    <a:lnTo>
                      <a:pt x="888" y="544"/>
                    </a:lnTo>
                    <a:lnTo>
                      <a:pt x="888" y="544"/>
                    </a:lnTo>
                    <a:lnTo>
                      <a:pt x="888" y="544"/>
                    </a:lnTo>
                    <a:lnTo>
                      <a:pt x="896" y="544"/>
                    </a:lnTo>
                    <a:lnTo>
                      <a:pt x="906" y="544"/>
                    </a:lnTo>
                    <a:lnTo>
                      <a:pt x="914" y="544"/>
                    </a:lnTo>
                    <a:lnTo>
                      <a:pt x="917" y="544"/>
                    </a:lnTo>
                    <a:lnTo>
                      <a:pt x="917" y="544"/>
                    </a:lnTo>
                    <a:lnTo>
                      <a:pt x="925" y="540"/>
                    </a:lnTo>
                    <a:lnTo>
                      <a:pt x="932" y="537"/>
                    </a:lnTo>
                    <a:lnTo>
                      <a:pt x="932" y="537"/>
                    </a:lnTo>
                    <a:lnTo>
                      <a:pt x="932" y="533"/>
                    </a:lnTo>
                    <a:lnTo>
                      <a:pt x="939" y="526"/>
                    </a:lnTo>
                    <a:lnTo>
                      <a:pt x="946" y="518"/>
                    </a:lnTo>
                    <a:lnTo>
                      <a:pt x="950" y="518"/>
                    </a:lnTo>
                    <a:lnTo>
                      <a:pt x="950" y="518"/>
                    </a:lnTo>
                    <a:lnTo>
                      <a:pt x="954" y="511"/>
                    </a:lnTo>
                    <a:lnTo>
                      <a:pt x="946" y="508"/>
                    </a:lnTo>
                    <a:lnTo>
                      <a:pt x="950" y="511"/>
                    </a:lnTo>
                    <a:lnTo>
                      <a:pt x="954" y="508"/>
                    </a:lnTo>
                    <a:lnTo>
                      <a:pt x="957" y="504"/>
                    </a:lnTo>
                    <a:lnTo>
                      <a:pt x="954" y="500"/>
                    </a:lnTo>
                    <a:lnTo>
                      <a:pt x="954" y="508"/>
                    </a:lnTo>
                    <a:lnTo>
                      <a:pt x="957" y="508"/>
                    </a:lnTo>
                    <a:lnTo>
                      <a:pt x="961" y="508"/>
                    </a:lnTo>
                    <a:lnTo>
                      <a:pt x="961" y="508"/>
                    </a:lnTo>
                    <a:lnTo>
                      <a:pt x="972" y="504"/>
                    </a:lnTo>
                    <a:lnTo>
                      <a:pt x="983" y="500"/>
                    </a:lnTo>
                    <a:lnTo>
                      <a:pt x="979" y="493"/>
                    </a:lnTo>
                    <a:lnTo>
                      <a:pt x="979" y="500"/>
                    </a:lnTo>
                    <a:lnTo>
                      <a:pt x="990" y="500"/>
                    </a:lnTo>
                    <a:lnTo>
                      <a:pt x="1004" y="500"/>
                    </a:lnTo>
                    <a:lnTo>
                      <a:pt x="1004" y="493"/>
                    </a:lnTo>
                    <a:lnTo>
                      <a:pt x="1004" y="500"/>
                    </a:lnTo>
                    <a:lnTo>
                      <a:pt x="1015" y="504"/>
                    </a:lnTo>
                    <a:lnTo>
                      <a:pt x="1026" y="508"/>
                    </a:lnTo>
                    <a:lnTo>
                      <a:pt x="1037" y="515"/>
                    </a:lnTo>
                    <a:lnTo>
                      <a:pt x="1048" y="522"/>
                    </a:lnTo>
                    <a:lnTo>
                      <a:pt x="1059" y="529"/>
                    </a:lnTo>
                    <a:lnTo>
                      <a:pt x="1059" y="522"/>
                    </a:lnTo>
                    <a:lnTo>
                      <a:pt x="1055" y="526"/>
                    </a:lnTo>
                    <a:lnTo>
                      <a:pt x="1062" y="537"/>
                    </a:lnTo>
                    <a:lnTo>
                      <a:pt x="1062" y="537"/>
                    </a:lnTo>
                    <a:lnTo>
                      <a:pt x="1062" y="537"/>
                    </a:lnTo>
                    <a:lnTo>
                      <a:pt x="1066" y="540"/>
                    </a:lnTo>
                    <a:lnTo>
                      <a:pt x="1070" y="537"/>
                    </a:lnTo>
                    <a:lnTo>
                      <a:pt x="1066" y="537"/>
                    </a:lnTo>
                    <a:lnTo>
                      <a:pt x="1066" y="544"/>
                    </a:lnTo>
                    <a:lnTo>
                      <a:pt x="1066" y="547"/>
                    </a:lnTo>
                    <a:lnTo>
                      <a:pt x="1066" y="547"/>
                    </a:lnTo>
                    <a:lnTo>
                      <a:pt x="1070" y="555"/>
                    </a:lnTo>
                    <a:lnTo>
                      <a:pt x="1070" y="555"/>
                    </a:lnTo>
                    <a:lnTo>
                      <a:pt x="1070" y="555"/>
                    </a:lnTo>
                    <a:lnTo>
                      <a:pt x="1073" y="558"/>
                    </a:lnTo>
                    <a:lnTo>
                      <a:pt x="1077" y="555"/>
                    </a:lnTo>
                    <a:lnTo>
                      <a:pt x="1073" y="555"/>
                    </a:lnTo>
                    <a:lnTo>
                      <a:pt x="1073" y="562"/>
                    </a:lnTo>
                    <a:lnTo>
                      <a:pt x="1073" y="569"/>
                    </a:lnTo>
                    <a:lnTo>
                      <a:pt x="1073" y="576"/>
                    </a:lnTo>
                    <a:lnTo>
                      <a:pt x="1073" y="584"/>
                    </a:lnTo>
                    <a:lnTo>
                      <a:pt x="1077" y="584"/>
                    </a:lnTo>
                    <a:lnTo>
                      <a:pt x="1073" y="584"/>
                    </a:lnTo>
                    <a:lnTo>
                      <a:pt x="1070" y="598"/>
                    </a:lnTo>
                    <a:lnTo>
                      <a:pt x="1066" y="609"/>
                    </a:lnTo>
                    <a:lnTo>
                      <a:pt x="1059" y="620"/>
                    </a:lnTo>
                    <a:lnTo>
                      <a:pt x="1062" y="620"/>
                    </a:lnTo>
                    <a:lnTo>
                      <a:pt x="1059" y="616"/>
                    </a:lnTo>
                    <a:lnTo>
                      <a:pt x="1051" y="624"/>
                    </a:lnTo>
                    <a:lnTo>
                      <a:pt x="1044" y="631"/>
                    </a:lnTo>
                    <a:lnTo>
                      <a:pt x="1037" y="638"/>
                    </a:lnTo>
                    <a:lnTo>
                      <a:pt x="1041" y="642"/>
                    </a:lnTo>
                    <a:lnTo>
                      <a:pt x="1041" y="638"/>
                    </a:lnTo>
                    <a:lnTo>
                      <a:pt x="1030" y="642"/>
                    </a:lnTo>
                    <a:lnTo>
                      <a:pt x="1022" y="645"/>
                    </a:lnTo>
                    <a:lnTo>
                      <a:pt x="1022" y="649"/>
                    </a:lnTo>
                    <a:lnTo>
                      <a:pt x="1022" y="645"/>
                    </a:lnTo>
                    <a:lnTo>
                      <a:pt x="1012" y="645"/>
                    </a:lnTo>
                    <a:lnTo>
                      <a:pt x="1012" y="645"/>
                    </a:lnTo>
                    <a:lnTo>
                      <a:pt x="1012" y="645"/>
                    </a:lnTo>
                    <a:lnTo>
                      <a:pt x="1001" y="649"/>
                    </a:lnTo>
                    <a:lnTo>
                      <a:pt x="1001" y="653"/>
                    </a:lnTo>
                    <a:lnTo>
                      <a:pt x="1004" y="649"/>
                    </a:lnTo>
                    <a:lnTo>
                      <a:pt x="993" y="645"/>
                    </a:lnTo>
                    <a:lnTo>
                      <a:pt x="993" y="645"/>
                    </a:lnTo>
                    <a:lnTo>
                      <a:pt x="990" y="645"/>
                    </a:lnTo>
                    <a:lnTo>
                      <a:pt x="983" y="645"/>
                    </a:lnTo>
                    <a:lnTo>
                      <a:pt x="983" y="649"/>
                    </a:lnTo>
                    <a:lnTo>
                      <a:pt x="986" y="645"/>
                    </a:lnTo>
                    <a:lnTo>
                      <a:pt x="975" y="642"/>
                    </a:lnTo>
                    <a:lnTo>
                      <a:pt x="964" y="638"/>
                    </a:lnTo>
                    <a:lnTo>
                      <a:pt x="957" y="634"/>
                    </a:lnTo>
                    <a:lnTo>
                      <a:pt x="954" y="638"/>
                    </a:lnTo>
                    <a:lnTo>
                      <a:pt x="957" y="634"/>
                    </a:lnTo>
                    <a:lnTo>
                      <a:pt x="950" y="627"/>
                    </a:lnTo>
                    <a:lnTo>
                      <a:pt x="946" y="631"/>
                    </a:lnTo>
                    <a:lnTo>
                      <a:pt x="954" y="631"/>
                    </a:lnTo>
                    <a:lnTo>
                      <a:pt x="950" y="624"/>
                    </a:lnTo>
                    <a:lnTo>
                      <a:pt x="946" y="620"/>
                    </a:lnTo>
                    <a:lnTo>
                      <a:pt x="946" y="620"/>
                    </a:lnTo>
                    <a:lnTo>
                      <a:pt x="935" y="613"/>
                    </a:lnTo>
                    <a:lnTo>
                      <a:pt x="928" y="609"/>
                    </a:lnTo>
                    <a:lnTo>
                      <a:pt x="921" y="605"/>
                    </a:lnTo>
                    <a:lnTo>
                      <a:pt x="914" y="602"/>
                    </a:lnTo>
                    <a:lnTo>
                      <a:pt x="906" y="598"/>
                    </a:lnTo>
                    <a:lnTo>
                      <a:pt x="896" y="595"/>
                    </a:lnTo>
                    <a:lnTo>
                      <a:pt x="896" y="595"/>
                    </a:lnTo>
                    <a:lnTo>
                      <a:pt x="892" y="595"/>
                    </a:lnTo>
                    <a:lnTo>
                      <a:pt x="885" y="595"/>
                    </a:lnTo>
                    <a:lnTo>
                      <a:pt x="877" y="595"/>
                    </a:lnTo>
                    <a:lnTo>
                      <a:pt x="870" y="595"/>
                    </a:lnTo>
                    <a:lnTo>
                      <a:pt x="870" y="595"/>
                    </a:lnTo>
                    <a:lnTo>
                      <a:pt x="870" y="595"/>
                    </a:lnTo>
                    <a:lnTo>
                      <a:pt x="863" y="598"/>
                    </a:lnTo>
                    <a:lnTo>
                      <a:pt x="863" y="598"/>
                    </a:lnTo>
                    <a:lnTo>
                      <a:pt x="859" y="598"/>
                    </a:lnTo>
                    <a:lnTo>
                      <a:pt x="856" y="602"/>
                    </a:lnTo>
                    <a:lnTo>
                      <a:pt x="859" y="605"/>
                    </a:lnTo>
                    <a:lnTo>
                      <a:pt x="859" y="602"/>
                    </a:lnTo>
                    <a:lnTo>
                      <a:pt x="852" y="605"/>
                    </a:lnTo>
                    <a:lnTo>
                      <a:pt x="848" y="605"/>
                    </a:lnTo>
                    <a:lnTo>
                      <a:pt x="848" y="609"/>
                    </a:lnTo>
                    <a:lnTo>
                      <a:pt x="845" y="616"/>
                    </a:lnTo>
                    <a:lnTo>
                      <a:pt x="841" y="624"/>
                    </a:lnTo>
                    <a:lnTo>
                      <a:pt x="838" y="634"/>
                    </a:lnTo>
                    <a:lnTo>
                      <a:pt x="838" y="634"/>
                    </a:lnTo>
                    <a:lnTo>
                      <a:pt x="838" y="634"/>
                    </a:lnTo>
                    <a:lnTo>
                      <a:pt x="838" y="656"/>
                    </a:lnTo>
                    <a:lnTo>
                      <a:pt x="834" y="682"/>
                    </a:lnTo>
                    <a:lnTo>
                      <a:pt x="830" y="707"/>
                    </a:lnTo>
                    <a:lnTo>
                      <a:pt x="830" y="736"/>
                    </a:lnTo>
                    <a:lnTo>
                      <a:pt x="830" y="761"/>
                    </a:lnTo>
                    <a:lnTo>
                      <a:pt x="830" y="787"/>
                    </a:lnTo>
                    <a:lnTo>
                      <a:pt x="830" y="798"/>
                    </a:lnTo>
                    <a:lnTo>
                      <a:pt x="830" y="801"/>
                    </a:lnTo>
                    <a:lnTo>
                      <a:pt x="830" y="801"/>
                    </a:lnTo>
                    <a:lnTo>
                      <a:pt x="834" y="812"/>
                    </a:lnTo>
                    <a:lnTo>
                      <a:pt x="838" y="823"/>
                    </a:lnTo>
                    <a:lnTo>
                      <a:pt x="841" y="819"/>
                    </a:lnTo>
                    <a:lnTo>
                      <a:pt x="838" y="819"/>
                    </a:lnTo>
                    <a:lnTo>
                      <a:pt x="838" y="827"/>
                    </a:lnTo>
                    <a:lnTo>
                      <a:pt x="841" y="827"/>
                    </a:lnTo>
                    <a:lnTo>
                      <a:pt x="841" y="823"/>
                    </a:lnTo>
                    <a:lnTo>
                      <a:pt x="823" y="827"/>
                    </a:lnTo>
                    <a:lnTo>
                      <a:pt x="809" y="830"/>
                    </a:lnTo>
                    <a:lnTo>
                      <a:pt x="787" y="830"/>
                    </a:lnTo>
                    <a:lnTo>
                      <a:pt x="769" y="830"/>
                    </a:lnTo>
                    <a:lnTo>
                      <a:pt x="751" y="830"/>
                    </a:lnTo>
                    <a:lnTo>
                      <a:pt x="732" y="830"/>
                    </a:lnTo>
                    <a:lnTo>
                      <a:pt x="714" y="827"/>
                    </a:lnTo>
                    <a:lnTo>
                      <a:pt x="696" y="827"/>
                    </a:lnTo>
                    <a:lnTo>
                      <a:pt x="667" y="823"/>
                    </a:lnTo>
                    <a:lnTo>
                      <a:pt x="642" y="819"/>
                    </a:lnTo>
                    <a:lnTo>
                      <a:pt x="627" y="816"/>
                    </a:lnTo>
                    <a:lnTo>
                      <a:pt x="627" y="819"/>
                    </a:lnTo>
                    <a:lnTo>
                      <a:pt x="631" y="816"/>
                    </a:lnTo>
                    <a:lnTo>
                      <a:pt x="624" y="812"/>
                    </a:lnTo>
                    <a:lnTo>
                      <a:pt x="624" y="812"/>
                    </a:lnTo>
                    <a:lnTo>
                      <a:pt x="620" y="812"/>
                    </a:lnTo>
                    <a:lnTo>
                      <a:pt x="606" y="809"/>
                    </a:lnTo>
                    <a:lnTo>
                      <a:pt x="606" y="812"/>
                    </a:lnTo>
                    <a:lnTo>
                      <a:pt x="609" y="809"/>
                    </a:lnTo>
                    <a:lnTo>
                      <a:pt x="598" y="801"/>
                    </a:lnTo>
                    <a:lnTo>
                      <a:pt x="587" y="794"/>
                    </a:lnTo>
                    <a:lnTo>
                      <a:pt x="584" y="798"/>
                    </a:lnTo>
                    <a:lnTo>
                      <a:pt x="591" y="798"/>
                    </a:lnTo>
                    <a:lnTo>
                      <a:pt x="584" y="787"/>
                    </a:lnTo>
                    <a:lnTo>
                      <a:pt x="584" y="787"/>
                    </a:lnTo>
                    <a:lnTo>
                      <a:pt x="580" y="783"/>
                    </a:lnTo>
                    <a:lnTo>
                      <a:pt x="573" y="776"/>
                    </a:lnTo>
                    <a:lnTo>
                      <a:pt x="569" y="780"/>
                    </a:lnTo>
                    <a:lnTo>
                      <a:pt x="577" y="780"/>
                    </a:lnTo>
                    <a:lnTo>
                      <a:pt x="573" y="769"/>
                    </a:lnTo>
                    <a:lnTo>
                      <a:pt x="569" y="758"/>
                    </a:lnTo>
                    <a:lnTo>
                      <a:pt x="566" y="751"/>
                    </a:lnTo>
                    <a:lnTo>
                      <a:pt x="558" y="751"/>
                    </a:lnTo>
                    <a:lnTo>
                      <a:pt x="566" y="751"/>
                    </a:lnTo>
                    <a:lnTo>
                      <a:pt x="566" y="740"/>
                    </a:lnTo>
                    <a:lnTo>
                      <a:pt x="558" y="740"/>
                    </a:lnTo>
                    <a:lnTo>
                      <a:pt x="566" y="743"/>
                    </a:lnTo>
                    <a:lnTo>
                      <a:pt x="569" y="732"/>
                    </a:lnTo>
                    <a:lnTo>
                      <a:pt x="569" y="732"/>
                    </a:lnTo>
                    <a:lnTo>
                      <a:pt x="569" y="729"/>
                    </a:lnTo>
                    <a:lnTo>
                      <a:pt x="569" y="722"/>
                    </a:lnTo>
                    <a:lnTo>
                      <a:pt x="562" y="722"/>
                    </a:lnTo>
                    <a:lnTo>
                      <a:pt x="569" y="725"/>
                    </a:lnTo>
                    <a:lnTo>
                      <a:pt x="573" y="718"/>
                    </a:lnTo>
                    <a:lnTo>
                      <a:pt x="577" y="707"/>
                    </a:lnTo>
                    <a:lnTo>
                      <a:pt x="580" y="700"/>
                    </a:lnTo>
                    <a:lnTo>
                      <a:pt x="573" y="696"/>
                    </a:lnTo>
                    <a:lnTo>
                      <a:pt x="577" y="700"/>
                    </a:lnTo>
                    <a:lnTo>
                      <a:pt x="584" y="692"/>
                    </a:lnTo>
                    <a:lnTo>
                      <a:pt x="580" y="689"/>
                    </a:lnTo>
                    <a:lnTo>
                      <a:pt x="584" y="696"/>
                    </a:lnTo>
                    <a:lnTo>
                      <a:pt x="591" y="692"/>
                    </a:lnTo>
                    <a:lnTo>
                      <a:pt x="591" y="692"/>
                    </a:lnTo>
                    <a:lnTo>
                      <a:pt x="591" y="689"/>
                    </a:lnTo>
                    <a:lnTo>
                      <a:pt x="598" y="682"/>
                    </a:lnTo>
                    <a:lnTo>
                      <a:pt x="606" y="674"/>
                    </a:lnTo>
                    <a:lnTo>
                      <a:pt x="609" y="674"/>
                    </a:lnTo>
                    <a:lnTo>
                      <a:pt x="609" y="674"/>
                    </a:lnTo>
                    <a:lnTo>
                      <a:pt x="613" y="663"/>
                    </a:lnTo>
                    <a:lnTo>
                      <a:pt x="616" y="653"/>
                    </a:lnTo>
                    <a:lnTo>
                      <a:pt x="620" y="642"/>
                    </a:lnTo>
                    <a:lnTo>
                      <a:pt x="620" y="642"/>
                    </a:lnTo>
                    <a:lnTo>
                      <a:pt x="620" y="638"/>
                    </a:lnTo>
                    <a:lnTo>
                      <a:pt x="620" y="624"/>
                    </a:lnTo>
                    <a:lnTo>
                      <a:pt x="620" y="613"/>
                    </a:lnTo>
                    <a:lnTo>
                      <a:pt x="620" y="598"/>
                    </a:lnTo>
                    <a:lnTo>
                      <a:pt x="620" y="598"/>
                    </a:lnTo>
                    <a:lnTo>
                      <a:pt x="620" y="598"/>
                    </a:lnTo>
                    <a:lnTo>
                      <a:pt x="616" y="587"/>
                    </a:lnTo>
                    <a:lnTo>
                      <a:pt x="613" y="576"/>
                    </a:lnTo>
                    <a:lnTo>
                      <a:pt x="609" y="569"/>
                    </a:lnTo>
                    <a:lnTo>
                      <a:pt x="609" y="569"/>
                    </a:lnTo>
                    <a:lnTo>
                      <a:pt x="606" y="566"/>
                    </a:lnTo>
                    <a:lnTo>
                      <a:pt x="602" y="562"/>
                    </a:lnTo>
                    <a:lnTo>
                      <a:pt x="598" y="566"/>
                    </a:lnTo>
                    <a:lnTo>
                      <a:pt x="606" y="566"/>
                    </a:lnTo>
                    <a:lnTo>
                      <a:pt x="602" y="558"/>
                    </a:lnTo>
                    <a:lnTo>
                      <a:pt x="598" y="555"/>
                    </a:lnTo>
                    <a:lnTo>
                      <a:pt x="598" y="555"/>
                    </a:lnTo>
                    <a:lnTo>
                      <a:pt x="591" y="551"/>
                    </a:lnTo>
                    <a:lnTo>
                      <a:pt x="584" y="547"/>
                    </a:lnTo>
                    <a:lnTo>
                      <a:pt x="580" y="551"/>
                    </a:lnTo>
                    <a:lnTo>
                      <a:pt x="584" y="547"/>
                    </a:lnTo>
                    <a:lnTo>
                      <a:pt x="580" y="544"/>
                    </a:lnTo>
                    <a:lnTo>
                      <a:pt x="580" y="544"/>
                    </a:lnTo>
                    <a:lnTo>
                      <a:pt x="580" y="544"/>
                    </a:lnTo>
                    <a:lnTo>
                      <a:pt x="573" y="540"/>
                    </a:lnTo>
                    <a:lnTo>
                      <a:pt x="573" y="540"/>
                    </a:lnTo>
                    <a:lnTo>
                      <a:pt x="569" y="540"/>
                    </a:lnTo>
                    <a:lnTo>
                      <a:pt x="562" y="540"/>
                    </a:lnTo>
                    <a:lnTo>
                      <a:pt x="562" y="544"/>
                    </a:lnTo>
                    <a:lnTo>
                      <a:pt x="566" y="540"/>
                    </a:lnTo>
                    <a:lnTo>
                      <a:pt x="555" y="537"/>
                    </a:lnTo>
                    <a:lnTo>
                      <a:pt x="548" y="533"/>
                    </a:lnTo>
                    <a:lnTo>
                      <a:pt x="548" y="533"/>
                    </a:lnTo>
                    <a:lnTo>
                      <a:pt x="544" y="533"/>
                    </a:lnTo>
                    <a:lnTo>
                      <a:pt x="533" y="533"/>
                    </a:lnTo>
                    <a:lnTo>
                      <a:pt x="522" y="533"/>
                    </a:lnTo>
                    <a:lnTo>
                      <a:pt x="515" y="533"/>
                    </a:lnTo>
                    <a:lnTo>
                      <a:pt x="504" y="533"/>
                    </a:lnTo>
                    <a:lnTo>
                      <a:pt x="504" y="533"/>
                    </a:lnTo>
                    <a:lnTo>
                      <a:pt x="504" y="533"/>
                    </a:lnTo>
                    <a:lnTo>
                      <a:pt x="493" y="537"/>
                    </a:lnTo>
                    <a:lnTo>
                      <a:pt x="493" y="540"/>
                    </a:lnTo>
                    <a:lnTo>
                      <a:pt x="493" y="537"/>
                    </a:lnTo>
                    <a:lnTo>
                      <a:pt x="486" y="537"/>
                    </a:lnTo>
                    <a:lnTo>
                      <a:pt x="486" y="537"/>
                    </a:lnTo>
                    <a:lnTo>
                      <a:pt x="486" y="537"/>
                    </a:lnTo>
                    <a:lnTo>
                      <a:pt x="479" y="540"/>
                    </a:lnTo>
                    <a:lnTo>
                      <a:pt x="471" y="544"/>
                    </a:lnTo>
                    <a:lnTo>
                      <a:pt x="464" y="547"/>
                    </a:lnTo>
                    <a:lnTo>
                      <a:pt x="464" y="547"/>
                    </a:lnTo>
                    <a:lnTo>
                      <a:pt x="460" y="547"/>
                    </a:lnTo>
                    <a:lnTo>
                      <a:pt x="457" y="551"/>
                    </a:lnTo>
                    <a:lnTo>
                      <a:pt x="460" y="555"/>
                    </a:lnTo>
                    <a:lnTo>
                      <a:pt x="460" y="551"/>
                    </a:lnTo>
                    <a:lnTo>
                      <a:pt x="453" y="551"/>
                    </a:lnTo>
                    <a:lnTo>
                      <a:pt x="453" y="551"/>
                    </a:lnTo>
                    <a:lnTo>
                      <a:pt x="450" y="551"/>
                    </a:lnTo>
                    <a:lnTo>
                      <a:pt x="446" y="555"/>
                    </a:lnTo>
                    <a:lnTo>
                      <a:pt x="446" y="558"/>
                    </a:lnTo>
                    <a:lnTo>
                      <a:pt x="446" y="558"/>
                    </a:lnTo>
                    <a:lnTo>
                      <a:pt x="442" y="566"/>
                    </a:lnTo>
                    <a:lnTo>
                      <a:pt x="446" y="566"/>
                    </a:lnTo>
                    <a:lnTo>
                      <a:pt x="446" y="562"/>
                    </a:lnTo>
                    <a:lnTo>
                      <a:pt x="439" y="566"/>
                    </a:lnTo>
                    <a:lnTo>
                      <a:pt x="435" y="566"/>
                    </a:lnTo>
                    <a:lnTo>
                      <a:pt x="435" y="569"/>
                    </a:lnTo>
                    <a:lnTo>
                      <a:pt x="428" y="580"/>
                    </a:lnTo>
                    <a:lnTo>
                      <a:pt x="424" y="591"/>
                    </a:lnTo>
                    <a:lnTo>
                      <a:pt x="421" y="602"/>
                    </a:lnTo>
                    <a:lnTo>
                      <a:pt x="421" y="602"/>
                    </a:lnTo>
                    <a:lnTo>
                      <a:pt x="421" y="602"/>
                    </a:lnTo>
                    <a:lnTo>
                      <a:pt x="421" y="613"/>
                    </a:lnTo>
                    <a:lnTo>
                      <a:pt x="421" y="624"/>
                    </a:lnTo>
                    <a:lnTo>
                      <a:pt x="421" y="638"/>
                    </a:lnTo>
                    <a:lnTo>
                      <a:pt x="421" y="642"/>
                    </a:lnTo>
                    <a:lnTo>
                      <a:pt x="421" y="642"/>
                    </a:lnTo>
                    <a:lnTo>
                      <a:pt x="424" y="653"/>
                    </a:lnTo>
                    <a:lnTo>
                      <a:pt x="428" y="663"/>
                    </a:lnTo>
                    <a:lnTo>
                      <a:pt x="428" y="663"/>
                    </a:lnTo>
                    <a:lnTo>
                      <a:pt x="428" y="663"/>
                    </a:lnTo>
                    <a:lnTo>
                      <a:pt x="435" y="671"/>
                    </a:lnTo>
                    <a:lnTo>
                      <a:pt x="439" y="667"/>
                    </a:lnTo>
                    <a:lnTo>
                      <a:pt x="435" y="671"/>
                    </a:lnTo>
                    <a:lnTo>
                      <a:pt x="442" y="682"/>
                    </a:lnTo>
                    <a:lnTo>
                      <a:pt x="442" y="682"/>
                    </a:lnTo>
                    <a:lnTo>
                      <a:pt x="446" y="685"/>
                    </a:lnTo>
                    <a:lnTo>
                      <a:pt x="457" y="692"/>
                    </a:lnTo>
                    <a:lnTo>
                      <a:pt x="457" y="685"/>
                    </a:lnTo>
                    <a:lnTo>
                      <a:pt x="453" y="689"/>
                    </a:lnTo>
                    <a:lnTo>
                      <a:pt x="457" y="700"/>
                    </a:lnTo>
                    <a:lnTo>
                      <a:pt x="457" y="700"/>
                    </a:lnTo>
                    <a:lnTo>
                      <a:pt x="457" y="700"/>
                    </a:lnTo>
                    <a:lnTo>
                      <a:pt x="464" y="707"/>
                    </a:lnTo>
                    <a:lnTo>
                      <a:pt x="468" y="703"/>
                    </a:lnTo>
                    <a:lnTo>
                      <a:pt x="464" y="707"/>
                    </a:lnTo>
                    <a:lnTo>
                      <a:pt x="468" y="718"/>
                    </a:lnTo>
                    <a:lnTo>
                      <a:pt x="471" y="714"/>
                    </a:lnTo>
                    <a:lnTo>
                      <a:pt x="468" y="714"/>
                    </a:lnTo>
                    <a:lnTo>
                      <a:pt x="468" y="725"/>
                    </a:lnTo>
                    <a:lnTo>
                      <a:pt x="468" y="736"/>
                    </a:lnTo>
                    <a:lnTo>
                      <a:pt x="468" y="743"/>
                    </a:lnTo>
                    <a:lnTo>
                      <a:pt x="471" y="743"/>
                    </a:lnTo>
                    <a:lnTo>
                      <a:pt x="468" y="743"/>
                    </a:lnTo>
                    <a:lnTo>
                      <a:pt x="464" y="754"/>
                    </a:lnTo>
                    <a:lnTo>
                      <a:pt x="460" y="765"/>
                    </a:lnTo>
                    <a:lnTo>
                      <a:pt x="453" y="776"/>
                    </a:lnTo>
                    <a:lnTo>
                      <a:pt x="457" y="776"/>
                    </a:lnTo>
                    <a:lnTo>
                      <a:pt x="453" y="772"/>
                    </a:lnTo>
                    <a:lnTo>
                      <a:pt x="446" y="780"/>
                    </a:lnTo>
                    <a:lnTo>
                      <a:pt x="439" y="787"/>
                    </a:lnTo>
                    <a:lnTo>
                      <a:pt x="442" y="790"/>
                    </a:lnTo>
                    <a:lnTo>
                      <a:pt x="442" y="787"/>
                    </a:lnTo>
                    <a:lnTo>
                      <a:pt x="428" y="794"/>
                    </a:lnTo>
                    <a:lnTo>
                      <a:pt x="428" y="794"/>
                    </a:lnTo>
                    <a:lnTo>
                      <a:pt x="424" y="794"/>
                    </a:lnTo>
                    <a:lnTo>
                      <a:pt x="413" y="805"/>
                    </a:lnTo>
                    <a:lnTo>
                      <a:pt x="417" y="809"/>
                    </a:lnTo>
                    <a:lnTo>
                      <a:pt x="417" y="805"/>
                    </a:lnTo>
                    <a:lnTo>
                      <a:pt x="402" y="809"/>
                    </a:lnTo>
                    <a:lnTo>
                      <a:pt x="384" y="812"/>
                    </a:lnTo>
                    <a:lnTo>
                      <a:pt x="373" y="812"/>
                    </a:lnTo>
                    <a:lnTo>
                      <a:pt x="355" y="812"/>
                    </a:lnTo>
                    <a:lnTo>
                      <a:pt x="334" y="812"/>
                    </a:lnTo>
                    <a:lnTo>
                      <a:pt x="312" y="812"/>
                    </a:lnTo>
                    <a:lnTo>
                      <a:pt x="290" y="812"/>
                    </a:lnTo>
                    <a:lnTo>
                      <a:pt x="265" y="812"/>
                    </a:lnTo>
                    <a:lnTo>
                      <a:pt x="239" y="812"/>
                    </a:lnTo>
                    <a:lnTo>
                      <a:pt x="214" y="812"/>
                    </a:lnTo>
                    <a:lnTo>
                      <a:pt x="214" y="816"/>
                    </a:lnTo>
                    <a:lnTo>
                      <a:pt x="221" y="819"/>
                    </a:lnTo>
                    <a:lnTo>
                      <a:pt x="225" y="809"/>
                    </a:lnTo>
                    <a:lnTo>
                      <a:pt x="228" y="794"/>
                    </a:lnTo>
                    <a:lnTo>
                      <a:pt x="232" y="780"/>
                    </a:lnTo>
                    <a:lnTo>
                      <a:pt x="236" y="765"/>
                    </a:lnTo>
                    <a:lnTo>
                      <a:pt x="236" y="765"/>
                    </a:lnTo>
                    <a:lnTo>
                      <a:pt x="236" y="761"/>
                    </a:lnTo>
                    <a:lnTo>
                      <a:pt x="236" y="747"/>
                    </a:lnTo>
                    <a:lnTo>
                      <a:pt x="228" y="747"/>
                    </a:lnTo>
                    <a:lnTo>
                      <a:pt x="236" y="751"/>
                    </a:lnTo>
                    <a:lnTo>
                      <a:pt x="239" y="736"/>
                    </a:lnTo>
                    <a:lnTo>
                      <a:pt x="239" y="736"/>
                    </a:lnTo>
                    <a:lnTo>
                      <a:pt x="239" y="732"/>
                    </a:lnTo>
                    <a:lnTo>
                      <a:pt x="239" y="718"/>
                    </a:lnTo>
                    <a:lnTo>
                      <a:pt x="239" y="703"/>
                    </a:lnTo>
                    <a:lnTo>
                      <a:pt x="239" y="689"/>
                    </a:lnTo>
                    <a:lnTo>
                      <a:pt x="239" y="674"/>
                    </a:lnTo>
                    <a:lnTo>
                      <a:pt x="239" y="674"/>
                    </a:lnTo>
                    <a:lnTo>
                      <a:pt x="239" y="674"/>
                    </a:lnTo>
                    <a:lnTo>
                      <a:pt x="236" y="660"/>
                    </a:lnTo>
                    <a:lnTo>
                      <a:pt x="228" y="660"/>
                    </a:lnTo>
                    <a:lnTo>
                      <a:pt x="236" y="660"/>
                    </a:lnTo>
                    <a:lnTo>
                      <a:pt x="236" y="645"/>
                    </a:lnTo>
                    <a:lnTo>
                      <a:pt x="236" y="645"/>
                    </a:lnTo>
                    <a:lnTo>
                      <a:pt x="236" y="645"/>
                    </a:lnTo>
                    <a:lnTo>
                      <a:pt x="232" y="634"/>
                    </a:lnTo>
                    <a:lnTo>
                      <a:pt x="228" y="624"/>
                    </a:lnTo>
                    <a:lnTo>
                      <a:pt x="225" y="613"/>
                    </a:lnTo>
                    <a:lnTo>
                      <a:pt x="221" y="605"/>
                    </a:lnTo>
                    <a:lnTo>
                      <a:pt x="218" y="595"/>
                    </a:lnTo>
                    <a:lnTo>
                      <a:pt x="218" y="595"/>
                    </a:lnTo>
                    <a:lnTo>
                      <a:pt x="214" y="591"/>
                    </a:lnTo>
                    <a:lnTo>
                      <a:pt x="210" y="587"/>
                    </a:lnTo>
                    <a:lnTo>
                      <a:pt x="207" y="591"/>
                    </a:lnTo>
                    <a:lnTo>
                      <a:pt x="214" y="591"/>
                    </a:lnTo>
                    <a:lnTo>
                      <a:pt x="210" y="584"/>
                    </a:lnTo>
                    <a:lnTo>
                      <a:pt x="210" y="584"/>
                    </a:lnTo>
                    <a:lnTo>
                      <a:pt x="207" y="580"/>
                    </a:lnTo>
                    <a:lnTo>
                      <a:pt x="203" y="576"/>
                    </a:lnTo>
                    <a:lnTo>
                      <a:pt x="203" y="576"/>
                    </a:lnTo>
                    <a:lnTo>
                      <a:pt x="203" y="576"/>
                    </a:lnTo>
                    <a:lnTo>
                      <a:pt x="196" y="573"/>
                    </a:lnTo>
                    <a:lnTo>
                      <a:pt x="196" y="573"/>
                    </a:lnTo>
                    <a:lnTo>
                      <a:pt x="192" y="573"/>
                    </a:lnTo>
                    <a:lnTo>
                      <a:pt x="189" y="573"/>
                    </a:lnTo>
                    <a:lnTo>
                      <a:pt x="189" y="576"/>
                    </a:lnTo>
                    <a:lnTo>
                      <a:pt x="192" y="573"/>
                    </a:lnTo>
                    <a:lnTo>
                      <a:pt x="189" y="569"/>
                    </a:lnTo>
                    <a:lnTo>
                      <a:pt x="189" y="569"/>
                    </a:lnTo>
                    <a:lnTo>
                      <a:pt x="185" y="569"/>
                    </a:lnTo>
                    <a:lnTo>
                      <a:pt x="178" y="569"/>
                    </a:lnTo>
                    <a:lnTo>
                      <a:pt x="167" y="569"/>
                    </a:lnTo>
                    <a:lnTo>
                      <a:pt x="152" y="573"/>
                    </a:lnTo>
                    <a:lnTo>
                      <a:pt x="145" y="573"/>
                    </a:lnTo>
                    <a:lnTo>
                      <a:pt x="152" y="573"/>
                    </a:lnTo>
                    <a:lnTo>
                      <a:pt x="141" y="576"/>
                    </a:lnTo>
                    <a:lnTo>
                      <a:pt x="123" y="584"/>
                    </a:lnTo>
                    <a:lnTo>
                      <a:pt x="112" y="587"/>
                    </a:lnTo>
                    <a:lnTo>
                      <a:pt x="112" y="591"/>
                    </a:lnTo>
                    <a:lnTo>
                      <a:pt x="112" y="587"/>
                    </a:lnTo>
                    <a:lnTo>
                      <a:pt x="105" y="587"/>
                    </a:lnTo>
                    <a:lnTo>
                      <a:pt x="105" y="587"/>
                    </a:lnTo>
                    <a:lnTo>
                      <a:pt x="105" y="587"/>
                    </a:lnTo>
                    <a:lnTo>
                      <a:pt x="98" y="591"/>
                    </a:lnTo>
                    <a:lnTo>
                      <a:pt x="98" y="595"/>
                    </a:lnTo>
                    <a:lnTo>
                      <a:pt x="98" y="591"/>
                    </a:lnTo>
                    <a:lnTo>
                      <a:pt x="87" y="591"/>
                    </a:lnTo>
                    <a:lnTo>
                      <a:pt x="80" y="591"/>
                    </a:lnTo>
                    <a:lnTo>
                      <a:pt x="73" y="591"/>
                    </a:lnTo>
                    <a:lnTo>
                      <a:pt x="65" y="591"/>
                    </a:lnTo>
                    <a:lnTo>
                      <a:pt x="65" y="595"/>
                    </a:lnTo>
                    <a:lnTo>
                      <a:pt x="69" y="591"/>
                    </a:lnTo>
                    <a:lnTo>
                      <a:pt x="62" y="587"/>
                    </a:lnTo>
                    <a:lnTo>
                      <a:pt x="62" y="587"/>
                    </a:lnTo>
                    <a:lnTo>
                      <a:pt x="58" y="587"/>
                    </a:lnTo>
                    <a:lnTo>
                      <a:pt x="51" y="587"/>
                    </a:lnTo>
                    <a:lnTo>
                      <a:pt x="51" y="591"/>
                    </a:lnTo>
                    <a:lnTo>
                      <a:pt x="54" y="587"/>
                    </a:lnTo>
                    <a:lnTo>
                      <a:pt x="47" y="584"/>
                    </a:lnTo>
                    <a:lnTo>
                      <a:pt x="44" y="587"/>
                    </a:lnTo>
                    <a:lnTo>
                      <a:pt x="47" y="584"/>
                    </a:lnTo>
                    <a:lnTo>
                      <a:pt x="44" y="580"/>
                    </a:lnTo>
                    <a:lnTo>
                      <a:pt x="44" y="580"/>
                    </a:lnTo>
                    <a:lnTo>
                      <a:pt x="40" y="580"/>
                    </a:lnTo>
                    <a:lnTo>
                      <a:pt x="36" y="580"/>
                    </a:lnTo>
                    <a:lnTo>
                      <a:pt x="36" y="584"/>
                    </a:lnTo>
                    <a:lnTo>
                      <a:pt x="40" y="580"/>
                    </a:lnTo>
                    <a:lnTo>
                      <a:pt x="29" y="573"/>
                    </a:lnTo>
                    <a:lnTo>
                      <a:pt x="25" y="576"/>
                    </a:lnTo>
                    <a:lnTo>
                      <a:pt x="33" y="576"/>
                    </a:lnTo>
                    <a:lnTo>
                      <a:pt x="25" y="566"/>
                    </a:lnTo>
                    <a:lnTo>
                      <a:pt x="22" y="558"/>
                    </a:lnTo>
                    <a:lnTo>
                      <a:pt x="15" y="547"/>
                    </a:lnTo>
                    <a:lnTo>
                      <a:pt x="11" y="537"/>
                    </a:lnTo>
                    <a:lnTo>
                      <a:pt x="4" y="537"/>
                    </a:lnTo>
                    <a:lnTo>
                      <a:pt x="11" y="537"/>
                    </a:lnTo>
                    <a:lnTo>
                      <a:pt x="11" y="529"/>
                    </a:lnTo>
                    <a:lnTo>
                      <a:pt x="11" y="518"/>
                    </a:lnTo>
                    <a:lnTo>
                      <a:pt x="11" y="508"/>
                    </a:lnTo>
                    <a:lnTo>
                      <a:pt x="4" y="508"/>
                    </a:lnTo>
                    <a:lnTo>
                      <a:pt x="11" y="511"/>
                    </a:lnTo>
                    <a:lnTo>
                      <a:pt x="15" y="504"/>
                    </a:lnTo>
                    <a:lnTo>
                      <a:pt x="7" y="500"/>
                    </a:lnTo>
                    <a:lnTo>
                      <a:pt x="11" y="504"/>
                    </a:lnTo>
                    <a:lnTo>
                      <a:pt x="15" y="500"/>
                    </a:lnTo>
                    <a:lnTo>
                      <a:pt x="18" y="500"/>
                    </a:lnTo>
                    <a:lnTo>
                      <a:pt x="18" y="500"/>
                    </a:lnTo>
                    <a:lnTo>
                      <a:pt x="25" y="489"/>
                    </a:lnTo>
                    <a:lnTo>
                      <a:pt x="33" y="478"/>
                    </a:lnTo>
                    <a:lnTo>
                      <a:pt x="25" y="475"/>
                    </a:lnTo>
                    <a:lnTo>
                      <a:pt x="29" y="478"/>
                    </a:lnTo>
                    <a:lnTo>
                      <a:pt x="36" y="471"/>
                    </a:lnTo>
                    <a:lnTo>
                      <a:pt x="33" y="468"/>
                    </a:lnTo>
                    <a:lnTo>
                      <a:pt x="36" y="475"/>
                    </a:lnTo>
                    <a:lnTo>
                      <a:pt x="44" y="471"/>
                    </a:lnTo>
                    <a:lnTo>
                      <a:pt x="44" y="468"/>
                    </a:lnTo>
                    <a:lnTo>
                      <a:pt x="47" y="468"/>
                    </a:lnTo>
                    <a:lnTo>
                      <a:pt x="51" y="460"/>
                    </a:lnTo>
                    <a:lnTo>
                      <a:pt x="44" y="457"/>
                    </a:lnTo>
                    <a:lnTo>
                      <a:pt x="47" y="464"/>
                    </a:lnTo>
                    <a:lnTo>
                      <a:pt x="54" y="460"/>
                    </a:lnTo>
                    <a:lnTo>
                      <a:pt x="51" y="453"/>
                    </a:lnTo>
                    <a:lnTo>
                      <a:pt x="51" y="460"/>
                    </a:lnTo>
                    <a:lnTo>
                      <a:pt x="58" y="460"/>
                    </a:lnTo>
                    <a:lnTo>
                      <a:pt x="62" y="460"/>
                    </a:lnTo>
                    <a:lnTo>
                      <a:pt x="62" y="460"/>
                    </a:lnTo>
                    <a:lnTo>
                      <a:pt x="69" y="457"/>
                    </a:lnTo>
                    <a:lnTo>
                      <a:pt x="65" y="449"/>
                    </a:lnTo>
                    <a:lnTo>
                      <a:pt x="65" y="457"/>
                    </a:lnTo>
                    <a:lnTo>
                      <a:pt x="73" y="457"/>
                    </a:lnTo>
                    <a:lnTo>
                      <a:pt x="80" y="457"/>
                    </a:lnTo>
                    <a:lnTo>
                      <a:pt x="80" y="449"/>
                    </a:lnTo>
                    <a:lnTo>
                      <a:pt x="76" y="453"/>
                    </a:lnTo>
                    <a:lnTo>
                      <a:pt x="80" y="457"/>
                    </a:lnTo>
                    <a:lnTo>
                      <a:pt x="83" y="460"/>
                    </a:lnTo>
                    <a:lnTo>
                      <a:pt x="83" y="460"/>
                    </a:lnTo>
                    <a:lnTo>
                      <a:pt x="91" y="460"/>
                    </a:lnTo>
                    <a:lnTo>
                      <a:pt x="105" y="464"/>
                    </a:lnTo>
                    <a:lnTo>
                      <a:pt x="105" y="457"/>
                    </a:lnTo>
                    <a:lnTo>
                      <a:pt x="105" y="464"/>
                    </a:lnTo>
                    <a:lnTo>
                      <a:pt x="116" y="471"/>
                    </a:lnTo>
                    <a:lnTo>
                      <a:pt x="131" y="478"/>
                    </a:lnTo>
                    <a:lnTo>
                      <a:pt x="141" y="486"/>
                    </a:lnTo>
                    <a:lnTo>
                      <a:pt x="152" y="489"/>
                    </a:lnTo>
                    <a:lnTo>
                      <a:pt x="167" y="497"/>
                    </a:lnTo>
                    <a:lnTo>
                      <a:pt x="167" y="497"/>
                    </a:lnTo>
                    <a:lnTo>
                      <a:pt x="167" y="497"/>
                    </a:lnTo>
                    <a:lnTo>
                      <a:pt x="174" y="497"/>
                    </a:lnTo>
                    <a:lnTo>
                      <a:pt x="174" y="489"/>
                    </a:lnTo>
                    <a:lnTo>
                      <a:pt x="170" y="493"/>
                    </a:lnTo>
                    <a:lnTo>
                      <a:pt x="174" y="497"/>
                    </a:lnTo>
                    <a:lnTo>
                      <a:pt x="178" y="500"/>
                    </a:lnTo>
                    <a:lnTo>
                      <a:pt x="178" y="500"/>
                    </a:lnTo>
                    <a:lnTo>
                      <a:pt x="185" y="500"/>
                    </a:lnTo>
                    <a:lnTo>
                      <a:pt x="192" y="500"/>
                    </a:lnTo>
                    <a:lnTo>
                      <a:pt x="196" y="500"/>
                    </a:lnTo>
                    <a:lnTo>
                      <a:pt x="196" y="497"/>
                    </a:lnTo>
                    <a:lnTo>
                      <a:pt x="199" y="493"/>
                    </a:lnTo>
                    <a:lnTo>
                      <a:pt x="196" y="489"/>
                    </a:lnTo>
                    <a:lnTo>
                      <a:pt x="199" y="497"/>
                    </a:lnTo>
                    <a:lnTo>
                      <a:pt x="207" y="493"/>
                    </a:lnTo>
                    <a:lnTo>
                      <a:pt x="214" y="489"/>
                    </a:lnTo>
                    <a:lnTo>
                      <a:pt x="214" y="489"/>
                    </a:lnTo>
                    <a:lnTo>
                      <a:pt x="214" y="486"/>
                    </a:lnTo>
                    <a:lnTo>
                      <a:pt x="218" y="482"/>
                    </a:lnTo>
                    <a:close/>
                  </a:path>
                </a:pathLst>
              </a:custGeom>
              <a:solidFill>
                <a:srgbClr val="00ff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380880" y="3328920"/>
              <a:ext cx="161604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649440"/>
                  <a:tab algn="l" pos="1298520"/>
                  <a:tab algn="l" pos="1947960"/>
                  <a:tab algn="l" pos="2597040"/>
                  <a:tab algn="l" pos="3246480"/>
                  <a:tab algn="l" pos="3895560"/>
                  <a:tab algn="l" pos="4545000"/>
                  <a:tab algn="l" pos="5194440"/>
                  <a:tab algn="l" pos="5843520"/>
                  <a:tab algn="l" pos="6492960"/>
                  <a:tab algn="l" pos="7142040"/>
                  <a:tab algn="l" pos="7791480"/>
                  <a:tab algn="l" pos="8440560"/>
                  <a:tab algn="l" pos="9090000"/>
                  <a:tab algn="l" pos="9739440"/>
                  <a:tab algn="l" pos="103885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RUCTU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751280" y="658800"/>
            <a:ext cx="1333080" cy="1850760"/>
            <a:chOff x="4751280" y="658800"/>
            <a:chExt cx="1333080" cy="1850760"/>
          </a:xfrm>
        </p:grpSpPr>
        <p:grpSp>
          <p:nvGrpSpPr>
            <p:cNvPr id="125" name=""/>
            <p:cNvGrpSpPr/>
            <p:nvPr/>
          </p:nvGrpSpPr>
          <p:grpSpPr>
            <a:xfrm>
              <a:off x="4751280" y="658800"/>
              <a:ext cx="1333080" cy="1850760"/>
              <a:chOff x="4751280" y="658800"/>
              <a:chExt cx="1333080" cy="1850760"/>
            </a:xfrm>
          </p:grpSpPr>
          <p:sp>
            <p:nvSpPr>
              <p:cNvPr id="126" name=""/>
              <p:cNvSpPr/>
              <p:nvPr/>
            </p:nvSpPr>
            <p:spPr>
              <a:xfrm>
                <a:off x="4759200" y="666720"/>
                <a:ext cx="1311480" cy="1829160"/>
              </a:xfrm>
              <a:custGeom>
                <a:avLst/>
                <a:gdLst/>
                <a:ahLst/>
                <a:rect l="l" t="t" r="r" b="b"/>
                <a:pathLst>
                  <a:path w="667" h="914">
                    <a:moveTo>
                      <a:pt x="203" y="881"/>
                    </a:moveTo>
                    <a:lnTo>
                      <a:pt x="218" y="885"/>
                    </a:lnTo>
                    <a:lnTo>
                      <a:pt x="228" y="888"/>
                    </a:lnTo>
                    <a:lnTo>
                      <a:pt x="243" y="888"/>
                    </a:lnTo>
                    <a:lnTo>
                      <a:pt x="254" y="888"/>
                    </a:lnTo>
                    <a:lnTo>
                      <a:pt x="261" y="888"/>
                    </a:lnTo>
                    <a:lnTo>
                      <a:pt x="268" y="885"/>
                    </a:lnTo>
                    <a:lnTo>
                      <a:pt x="276" y="881"/>
                    </a:lnTo>
                    <a:lnTo>
                      <a:pt x="279" y="874"/>
                    </a:lnTo>
                    <a:lnTo>
                      <a:pt x="286" y="870"/>
                    </a:lnTo>
                    <a:lnTo>
                      <a:pt x="286" y="863"/>
                    </a:lnTo>
                    <a:lnTo>
                      <a:pt x="286" y="856"/>
                    </a:lnTo>
                    <a:lnTo>
                      <a:pt x="286" y="845"/>
                    </a:lnTo>
                    <a:lnTo>
                      <a:pt x="286" y="837"/>
                    </a:lnTo>
                    <a:lnTo>
                      <a:pt x="283" y="830"/>
                    </a:lnTo>
                    <a:lnTo>
                      <a:pt x="279" y="823"/>
                    </a:lnTo>
                    <a:lnTo>
                      <a:pt x="272" y="816"/>
                    </a:lnTo>
                    <a:lnTo>
                      <a:pt x="265" y="808"/>
                    </a:lnTo>
                    <a:lnTo>
                      <a:pt x="257" y="794"/>
                    </a:lnTo>
                    <a:lnTo>
                      <a:pt x="254" y="783"/>
                    </a:lnTo>
                    <a:lnTo>
                      <a:pt x="250" y="772"/>
                    </a:lnTo>
                    <a:lnTo>
                      <a:pt x="247" y="761"/>
                    </a:lnTo>
                    <a:lnTo>
                      <a:pt x="243" y="747"/>
                    </a:lnTo>
                    <a:lnTo>
                      <a:pt x="243" y="736"/>
                    </a:lnTo>
                    <a:lnTo>
                      <a:pt x="247" y="721"/>
                    </a:lnTo>
                    <a:lnTo>
                      <a:pt x="250" y="710"/>
                    </a:lnTo>
                    <a:lnTo>
                      <a:pt x="254" y="700"/>
                    </a:lnTo>
                    <a:lnTo>
                      <a:pt x="257" y="696"/>
                    </a:lnTo>
                    <a:lnTo>
                      <a:pt x="261" y="689"/>
                    </a:lnTo>
                    <a:lnTo>
                      <a:pt x="265" y="685"/>
                    </a:lnTo>
                    <a:lnTo>
                      <a:pt x="268" y="681"/>
                    </a:lnTo>
                    <a:lnTo>
                      <a:pt x="272" y="678"/>
                    </a:lnTo>
                    <a:lnTo>
                      <a:pt x="279" y="674"/>
                    </a:lnTo>
                    <a:lnTo>
                      <a:pt x="283" y="674"/>
                    </a:lnTo>
                    <a:lnTo>
                      <a:pt x="290" y="671"/>
                    </a:lnTo>
                    <a:lnTo>
                      <a:pt x="297" y="667"/>
                    </a:lnTo>
                    <a:lnTo>
                      <a:pt x="305" y="667"/>
                    </a:lnTo>
                    <a:lnTo>
                      <a:pt x="312" y="663"/>
                    </a:lnTo>
                    <a:lnTo>
                      <a:pt x="319" y="663"/>
                    </a:lnTo>
                    <a:lnTo>
                      <a:pt x="330" y="663"/>
                    </a:lnTo>
                    <a:lnTo>
                      <a:pt x="337" y="663"/>
                    </a:lnTo>
                    <a:lnTo>
                      <a:pt x="348" y="667"/>
                    </a:lnTo>
                    <a:lnTo>
                      <a:pt x="355" y="667"/>
                    </a:lnTo>
                    <a:lnTo>
                      <a:pt x="363" y="671"/>
                    </a:lnTo>
                    <a:lnTo>
                      <a:pt x="370" y="674"/>
                    </a:lnTo>
                    <a:lnTo>
                      <a:pt x="377" y="674"/>
                    </a:lnTo>
                    <a:lnTo>
                      <a:pt x="381" y="678"/>
                    </a:lnTo>
                    <a:lnTo>
                      <a:pt x="388" y="681"/>
                    </a:lnTo>
                    <a:lnTo>
                      <a:pt x="392" y="685"/>
                    </a:lnTo>
                    <a:lnTo>
                      <a:pt x="399" y="689"/>
                    </a:lnTo>
                    <a:lnTo>
                      <a:pt x="403" y="696"/>
                    </a:lnTo>
                    <a:lnTo>
                      <a:pt x="406" y="703"/>
                    </a:lnTo>
                    <a:lnTo>
                      <a:pt x="413" y="714"/>
                    </a:lnTo>
                    <a:lnTo>
                      <a:pt x="417" y="725"/>
                    </a:lnTo>
                    <a:lnTo>
                      <a:pt x="417" y="736"/>
                    </a:lnTo>
                    <a:lnTo>
                      <a:pt x="417" y="750"/>
                    </a:lnTo>
                    <a:lnTo>
                      <a:pt x="417" y="761"/>
                    </a:lnTo>
                    <a:lnTo>
                      <a:pt x="413" y="772"/>
                    </a:lnTo>
                    <a:lnTo>
                      <a:pt x="410" y="783"/>
                    </a:lnTo>
                    <a:lnTo>
                      <a:pt x="403" y="790"/>
                    </a:lnTo>
                    <a:lnTo>
                      <a:pt x="395" y="801"/>
                    </a:lnTo>
                    <a:lnTo>
                      <a:pt x="381" y="816"/>
                    </a:lnTo>
                    <a:lnTo>
                      <a:pt x="374" y="830"/>
                    </a:lnTo>
                    <a:lnTo>
                      <a:pt x="370" y="837"/>
                    </a:lnTo>
                    <a:lnTo>
                      <a:pt x="366" y="841"/>
                    </a:lnTo>
                    <a:lnTo>
                      <a:pt x="366" y="848"/>
                    </a:lnTo>
                    <a:lnTo>
                      <a:pt x="366" y="852"/>
                    </a:lnTo>
                    <a:lnTo>
                      <a:pt x="366" y="859"/>
                    </a:lnTo>
                    <a:lnTo>
                      <a:pt x="366" y="863"/>
                    </a:lnTo>
                    <a:lnTo>
                      <a:pt x="370" y="866"/>
                    </a:lnTo>
                    <a:lnTo>
                      <a:pt x="374" y="870"/>
                    </a:lnTo>
                    <a:lnTo>
                      <a:pt x="381" y="877"/>
                    </a:lnTo>
                    <a:lnTo>
                      <a:pt x="384" y="881"/>
                    </a:lnTo>
                    <a:lnTo>
                      <a:pt x="392" y="885"/>
                    </a:lnTo>
                    <a:lnTo>
                      <a:pt x="403" y="888"/>
                    </a:lnTo>
                    <a:lnTo>
                      <a:pt x="413" y="892"/>
                    </a:lnTo>
                    <a:lnTo>
                      <a:pt x="428" y="895"/>
                    </a:lnTo>
                    <a:lnTo>
                      <a:pt x="442" y="903"/>
                    </a:lnTo>
                    <a:lnTo>
                      <a:pt x="457" y="903"/>
                    </a:lnTo>
                    <a:lnTo>
                      <a:pt x="471" y="906"/>
                    </a:lnTo>
                    <a:lnTo>
                      <a:pt x="486" y="910"/>
                    </a:lnTo>
                    <a:lnTo>
                      <a:pt x="504" y="914"/>
                    </a:lnTo>
                    <a:lnTo>
                      <a:pt x="522" y="914"/>
                    </a:lnTo>
                    <a:lnTo>
                      <a:pt x="537" y="914"/>
                    </a:lnTo>
                    <a:lnTo>
                      <a:pt x="555" y="914"/>
                    </a:lnTo>
                    <a:lnTo>
                      <a:pt x="569" y="914"/>
                    </a:lnTo>
                    <a:lnTo>
                      <a:pt x="584" y="910"/>
                    </a:lnTo>
                    <a:lnTo>
                      <a:pt x="598" y="906"/>
                    </a:lnTo>
                    <a:lnTo>
                      <a:pt x="613" y="903"/>
                    </a:lnTo>
                    <a:lnTo>
                      <a:pt x="624" y="895"/>
                    </a:lnTo>
                    <a:lnTo>
                      <a:pt x="635" y="888"/>
                    </a:lnTo>
                    <a:lnTo>
                      <a:pt x="631" y="877"/>
                    </a:lnTo>
                    <a:lnTo>
                      <a:pt x="631" y="863"/>
                    </a:lnTo>
                    <a:lnTo>
                      <a:pt x="627" y="848"/>
                    </a:lnTo>
                    <a:lnTo>
                      <a:pt x="627" y="834"/>
                    </a:lnTo>
                    <a:lnTo>
                      <a:pt x="627" y="805"/>
                    </a:lnTo>
                    <a:lnTo>
                      <a:pt x="627" y="772"/>
                    </a:lnTo>
                    <a:lnTo>
                      <a:pt x="631" y="743"/>
                    </a:lnTo>
                    <a:lnTo>
                      <a:pt x="631" y="714"/>
                    </a:lnTo>
                    <a:lnTo>
                      <a:pt x="635" y="692"/>
                    </a:lnTo>
                    <a:lnTo>
                      <a:pt x="635" y="674"/>
                    </a:lnTo>
                    <a:lnTo>
                      <a:pt x="635" y="671"/>
                    </a:lnTo>
                    <a:lnTo>
                      <a:pt x="631" y="663"/>
                    </a:lnTo>
                    <a:lnTo>
                      <a:pt x="627" y="656"/>
                    </a:lnTo>
                    <a:lnTo>
                      <a:pt x="624" y="649"/>
                    </a:lnTo>
                    <a:lnTo>
                      <a:pt x="616" y="645"/>
                    </a:lnTo>
                    <a:lnTo>
                      <a:pt x="609" y="642"/>
                    </a:lnTo>
                    <a:lnTo>
                      <a:pt x="602" y="634"/>
                    </a:lnTo>
                    <a:lnTo>
                      <a:pt x="595" y="634"/>
                    </a:lnTo>
                    <a:lnTo>
                      <a:pt x="587" y="631"/>
                    </a:lnTo>
                    <a:lnTo>
                      <a:pt x="580" y="627"/>
                    </a:lnTo>
                    <a:lnTo>
                      <a:pt x="573" y="627"/>
                    </a:lnTo>
                    <a:lnTo>
                      <a:pt x="562" y="627"/>
                    </a:lnTo>
                    <a:lnTo>
                      <a:pt x="555" y="631"/>
                    </a:lnTo>
                    <a:lnTo>
                      <a:pt x="548" y="634"/>
                    </a:lnTo>
                    <a:lnTo>
                      <a:pt x="540" y="638"/>
                    </a:lnTo>
                    <a:lnTo>
                      <a:pt x="537" y="645"/>
                    </a:lnTo>
                    <a:lnTo>
                      <a:pt x="529" y="649"/>
                    </a:lnTo>
                    <a:lnTo>
                      <a:pt x="522" y="652"/>
                    </a:lnTo>
                    <a:lnTo>
                      <a:pt x="515" y="656"/>
                    </a:lnTo>
                    <a:lnTo>
                      <a:pt x="504" y="660"/>
                    </a:lnTo>
                    <a:lnTo>
                      <a:pt x="493" y="660"/>
                    </a:lnTo>
                    <a:lnTo>
                      <a:pt x="482" y="660"/>
                    </a:lnTo>
                    <a:lnTo>
                      <a:pt x="471" y="660"/>
                    </a:lnTo>
                    <a:lnTo>
                      <a:pt x="461" y="656"/>
                    </a:lnTo>
                    <a:lnTo>
                      <a:pt x="450" y="652"/>
                    </a:lnTo>
                    <a:lnTo>
                      <a:pt x="439" y="645"/>
                    </a:lnTo>
                    <a:lnTo>
                      <a:pt x="432" y="638"/>
                    </a:lnTo>
                    <a:lnTo>
                      <a:pt x="421" y="631"/>
                    </a:lnTo>
                    <a:lnTo>
                      <a:pt x="417" y="623"/>
                    </a:lnTo>
                    <a:lnTo>
                      <a:pt x="413" y="620"/>
                    </a:lnTo>
                    <a:lnTo>
                      <a:pt x="413" y="613"/>
                    </a:lnTo>
                    <a:lnTo>
                      <a:pt x="410" y="609"/>
                    </a:lnTo>
                    <a:lnTo>
                      <a:pt x="406" y="602"/>
                    </a:lnTo>
                    <a:lnTo>
                      <a:pt x="406" y="594"/>
                    </a:lnTo>
                    <a:lnTo>
                      <a:pt x="406" y="587"/>
                    </a:lnTo>
                    <a:lnTo>
                      <a:pt x="406" y="580"/>
                    </a:lnTo>
                    <a:lnTo>
                      <a:pt x="406" y="573"/>
                    </a:lnTo>
                    <a:lnTo>
                      <a:pt x="406" y="562"/>
                    </a:lnTo>
                    <a:lnTo>
                      <a:pt x="406" y="554"/>
                    </a:lnTo>
                    <a:lnTo>
                      <a:pt x="410" y="547"/>
                    </a:lnTo>
                    <a:lnTo>
                      <a:pt x="413" y="540"/>
                    </a:lnTo>
                    <a:lnTo>
                      <a:pt x="413" y="533"/>
                    </a:lnTo>
                    <a:lnTo>
                      <a:pt x="417" y="529"/>
                    </a:lnTo>
                    <a:lnTo>
                      <a:pt x="424" y="522"/>
                    </a:lnTo>
                    <a:lnTo>
                      <a:pt x="432" y="515"/>
                    </a:lnTo>
                    <a:lnTo>
                      <a:pt x="442" y="504"/>
                    </a:lnTo>
                    <a:lnTo>
                      <a:pt x="453" y="496"/>
                    </a:lnTo>
                    <a:lnTo>
                      <a:pt x="464" y="493"/>
                    </a:lnTo>
                    <a:lnTo>
                      <a:pt x="475" y="489"/>
                    </a:lnTo>
                    <a:lnTo>
                      <a:pt x="486" y="489"/>
                    </a:lnTo>
                    <a:lnTo>
                      <a:pt x="500" y="489"/>
                    </a:lnTo>
                    <a:lnTo>
                      <a:pt x="511" y="489"/>
                    </a:lnTo>
                    <a:lnTo>
                      <a:pt x="522" y="493"/>
                    </a:lnTo>
                    <a:lnTo>
                      <a:pt x="533" y="496"/>
                    </a:lnTo>
                    <a:lnTo>
                      <a:pt x="540" y="504"/>
                    </a:lnTo>
                    <a:lnTo>
                      <a:pt x="548" y="507"/>
                    </a:lnTo>
                    <a:lnTo>
                      <a:pt x="551" y="515"/>
                    </a:lnTo>
                    <a:lnTo>
                      <a:pt x="558" y="518"/>
                    </a:lnTo>
                    <a:lnTo>
                      <a:pt x="562" y="522"/>
                    </a:lnTo>
                    <a:lnTo>
                      <a:pt x="569" y="522"/>
                    </a:lnTo>
                    <a:lnTo>
                      <a:pt x="577" y="525"/>
                    </a:lnTo>
                    <a:lnTo>
                      <a:pt x="584" y="529"/>
                    </a:lnTo>
                    <a:lnTo>
                      <a:pt x="591" y="529"/>
                    </a:lnTo>
                    <a:lnTo>
                      <a:pt x="598" y="529"/>
                    </a:lnTo>
                    <a:lnTo>
                      <a:pt x="606" y="529"/>
                    </a:lnTo>
                    <a:lnTo>
                      <a:pt x="613" y="529"/>
                    </a:lnTo>
                    <a:lnTo>
                      <a:pt x="620" y="525"/>
                    </a:lnTo>
                    <a:lnTo>
                      <a:pt x="627" y="525"/>
                    </a:lnTo>
                    <a:lnTo>
                      <a:pt x="635" y="522"/>
                    </a:lnTo>
                    <a:lnTo>
                      <a:pt x="642" y="518"/>
                    </a:lnTo>
                    <a:lnTo>
                      <a:pt x="649" y="515"/>
                    </a:lnTo>
                    <a:lnTo>
                      <a:pt x="656" y="507"/>
                    </a:lnTo>
                    <a:lnTo>
                      <a:pt x="656" y="504"/>
                    </a:lnTo>
                    <a:lnTo>
                      <a:pt x="660" y="504"/>
                    </a:lnTo>
                    <a:lnTo>
                      <a:pt x="664" y="496"/>
                    </a:lnTo>
                    <a:lnTo>
                      <a:pt x="664" y="493"/>
                    </a:lnTo>
                    <a:lnTo>
                      <a:pt x="667" y="482"/>
                    </a:lnTo>
                    <a:lnTo>
                      <a:pt x="667" y="467"/>
                    </a:lnTo>
                    <a:lnTo>
                      <a:pt x="667" y="453"/>
                    </a:lnTo>
                    <a:lnTo>
                      <a:pt x="667" y="438"/>
                    </a:lnTo>
                    <a:lnTo>
                      <a:pt x="667" y="424"/>
                    </a:lnTo>
                    <a:lnTo>
                      <a:pt x="664" y="406"/>
                    </a:lnTo>
                    <a:lnTo>
                      <a:pt x="656" y="373"/>
                    </a:lnTo>
                    <a:lnTo>
                      <a:pt x="649" y="344"/>
                    </a:lnTo>
                    <a:lnTo>
                      <a:pt x="642" y="315"/>
                    </a:lnTo>
                    <a:lnTo>
                      <a:pt x="635" y="293"/>
                    </a:lnTo>
                    <a:lnTo>
                      <a:pt x="616" y="297"/>
                    </a:lnTo>
                    <a:lnTo>
                      <a:pt x="598" y="297"/>
                    </a:lnTo>
                    <a:lnTo>
                      <a:pt x="580" y="301"/>
                    </a:lnTo>
                    <a:lnTo>
                      <a:pt x="562" y="301"/>
                    </a:lnTo>
                    <a:lnTo>
                      <a:pt x="544" y="301"/>
                    </a:lnTo>
                    <a:lnTo>
                      <a:pt x="526" y="301"/>
                    </a:lnTo>
                    <a:lnTo>
                      <a:pt x="508" y="297"/>
                    </a:lnTo>
                    <a:lnTo>
                      <a:pt x="493" y="297"/>
                    </a:lnTo>
                    <a:lnTo>
                      <a:pt x="461" y="293"/>
                    </a:lnTo>
                    <a:lnTo>
                      <a:pt x="439" y="290"/>
                    </a:lnTo>
                    <a:lnTo>
                      <a:pt x="421" y="286"/>
                    </a:lnTo>
                    <a:lnTo>
                      <a:pt x="417" y="282"/>
                    </a:lnTo>
                    <a:lnTo>
                      <a:pt x="403" y="279"/>
                    </a:lnTo>
                    <a:lnTo>
                      <a:pt x="392" y="272"/>
                    </a:lnTo>
                    <a:lnTo>
                      <a:pt x="381" y="264"/>
                    </a:lnTo>
                    <a:lnTo>
                      <a:pt x="374" y="253"/>
                    </a:lnTo>
                    <a:lnTo>
                      <a:pt x="366" y="243"/>
                    </a:lnTo>
                    <a:lnTo>
                      <a:pt x="363" y="235"/>
                    </a:lnTo>
                    <a:lnTo>
                      <a:pt x="359" y="224"/>
                    </a:lnTo>
                    <a:lnTo>
                      <a:pt x="355" y="217"/>
                    </a:lnTo>
                    <a:lnTo>
                      <a:pt x="355" y="206"/>
                    </a:lnTo>
                    <a:lnTo>
                      <a:pt x="359" y="195"/>
                    </a:lnTo>
                    <a:lnTo>
                      <a:pt x="359" y="185"/>
                    </a:lnTo>
                    <a:lnTo>
                      <a:pt x="363" y="177"/>
                    </a:lnTo>
                    <a:lnTo>
                      <a:pt x="366" y="170"/>
                    </a:lnTo>
                    <a:lnTo>
                      <a:pt x="374" y="163"/>
                    </a:lnTo>
                    <a:lnTo>
                      <a:pt x="377" y="155"/>
                    </a:lnTo>
                    <a:lnTo>
                      <a:pt x="384" y="148"/>
                    </a:lnTo>
                    <a:lnTo>
                      <a:pt x="392" y="141"/>
                    </a:lnTo>
                    <a:lnTo>
                      <a:pt x="395" y="134"/>
                    </a:lnTo>
                    <a:lnTo>
                      <a:pt x="403" y="123"/>
                    </a:lnTo>
                    <a:lnTo>
                      <a:pt x="406" y="112"/>
                    </a:lnTo>
                    <a:lnTo>
                      <a:pt x="410" y="101"/>
                    </a:lnTo>
                    <a:lnTo>
                      <a:pt x="410" y="87"/>
                    </a:lnTo>
                    <a:lnTo>
                      <a:pt x="410" y="76"/>
                    </a:lnTo>
                    <a:lnTo>
                      <a:pt x="410" y="61"/>
                    </a:lnTo>
                    <a:lnTo>
                      <a:pt x="406" y="50"/>
                    </a:lnTo>
                    <a:lnTo>
                      <a:pt x="403" y="36"/>
                    </a:lnTo>
                    <a:lnTo>
                      <a:pt x="399" y="32"/>
                    </a:lnTo>
                    <a:lnTo>
                      <a:pt x="395" y="29"/>
                    </a:lnTo>
                    <a:lnTo>
                      <a:pt x="388" y="21"/>
                    </a:lnTo>
                    <a:lnTo>
                      <a:pt x="384" y="18"/>
                    </a:lnTo>
                    <a:lnTo>
                      <a:pt x="381" y="14"/>
                    </a:lnTo>
                    <a:lnTo>
                      <a:pt x="374" y="10"/>
                    </a:lnTo>
                    <a:lnTo>
                      <a:pt x="366" y="7"/>
                    </a:lnTo>
                    <a:lnTo>
                      <a:pt x="359" y="3"/>
                    </a:lnTo>
                    <a:lnTo>
                      <a:pt x="348" y="0"/>
                    </a:lnTo>
                    <a:lnTo>
                      <a:pt x="341" y="0"/>
                    </a:lnTo>
                    <a:lnTo>
                      <a:pt x="330" y="0"/>
                    </a:lnTo>
                    <a:lnTo>
                      <a:pt x="319" y="0"/>
                    </a:lnTo>
                    <a:lnTo>
                      <a:pt x="312" y="0"/>
                    </a:lnTo>
                    <a:lnTo>
                      <a:pt x="301" y="0"/>
                    </a:lnTo>
                    <a:lnTo>
                      <a:pt x="294" y="0"/>
                    </a:lnTo>
                    <a:lnTo>
                      <a:pt x="286" y="3"/>
                    </a:lnTo>
                    <a:lnTo>
                      <a:pt x="279" y="3"/>
                    </a:lnTo>
                    <a:lnTo>
                      <a:pt x="272" y="7"/>
                    </a:lnTo>
                    <a:lnTo>
                      <a:pt x="265" y="10"/>
                    </a:lnTo>
                    <a:lnTo>
                      <a:pt x="257" y="14"/>
                    </a:lnTo>
                    <a:lnTo>
                      <a:pt x="254" y="18"/>
                    </a:lnTo>
                    <a:lnTo>
                      <a:pt x="247" y="21"/>
                    </a:lnTo>
                    <a:lnTo>
                      <a:pt x="243" y="25"/>
                    </a:lnTo>
                    <a:lnTo>
                      <a:pt x="239" y="32"/>
                    </a:lnTo>
                    <a:lnTo>
                      <a:pt x="232" y="39"/>
                    </a:lnTo>
                    <a:lnTo>
                      <a:pt x="228" y="54"/>
                    </a:lnTo>
                    <a:lnTo>
                      <a:pt x="225" y="65"/>
                    </a:lnTo>
                    <a:lnTo>
                      <a:pt x="225" y="76"/>
                    </a:lnTo>
                    <a:lnTo>
                      <a:pt x="225" y="87"/>
                    </a:lnTo>
                    <a:lnTo>
                      <a:pt x="225" y="101"/>
                    </a:lnTo>
                    <a:lnTo>
                      <a:pt x="228" y="112"/>
                    </a:lnTo>
                    <a:lnTo>
                      <a:pt x="232" y="123"/>
                    </a:lnTo>
                    <a:lnTo>
                      <a:pt x="239" y="130"/>
                    </a:lnTo>
                    <a:lnTo>
                      <a:pt x="247" y="141"/>
                    </a:lnTo>
                    <a:lnTo>
                      <a:pt x="254" y="148"/>
                    </a:lnTo>
                    <a:lnTo>
                      <a:pt x="261" y="159"/>
                    </a:lnTo>
                    <a:lnTo>
                      <a:pt x="265" y="170"/>
                    </a:lnTo>
                    <a:lnTo>
                      <a:pt x="268" y="177"/>
                    </a:lnTo>
                    <a:lnTo>
                      <a:pt x="272" y="188"/>
                    </a:lnTo>
                    <a:lnTo>
                      <a:pt x="272" y="199"/>
                    </a:lnTo>
                    <a:lnTo>
                      <a:pt x="268" y="210"/>
                    </a:lnTo>
                    <a:lnTo>
                      <a:pt x="268" y="221"/>
                    </a:lnTo>
                    <a:lnTo>
                      <a:pt x="261" y="232"/>
                    </a:lnTo>
                    <a:lnTo>
                      <a:pt x="257" y="239"/>
                    </a:lnTo>
                    <a:lnTo>
                      <a:pt x="250" y="250"/>
                    </a:lnTo>
                    <a:lnTo>
                      <a:pt x="239" y="257"/>
                    </a:lnTo>
                    <a:lnTo>
                      <a:pt x="228" y="264"/>
                    </a:lnTo>
                    <a:lnTo>
                      <a:pt x="218" y="272"/>
                    </a:lnTo>
                    <a:lnTo>
                      <a:pt x="199" y="279"/>
                    </a:lnTo>
                    <a:lnTo>
                      <a:pt x="185" y="282"/>
                    </a:lnTo>
                    <a:lnTo>
                      <a:pt x="174" y="282"/>
                    </a:lnTo>
                    <a:lnTo>
                      <a:pt x="156" y="282"/>
                    </a:lnTo>
                    <a:lnTo>
                      <a:pt x="138" y="282"/>
                    </a:lnTo>
                    <a:lnTo>
                      <a:pt x="116" y="282"/>
                    </a:lnTo>
                    <a:lnTo>
                      <a:pt x="94" y="282"/>
                    </a:lnTo>
                    <a:lnTo>
                      <a:pt x="69" y="282"/>
                    </a:lnTo>
                    <a:lnTo>
                      <a:pt x="44" y="282"/>
                    </a:lnTo>
                    <a:lnTo>
                      <a:pt x="18" y="282"/>
                    </a:lnTo>
                    <a:lnTo>
                      <a:pt x="15" y="301"/>
                    </a:lnTo>
                    <a:lnTo>
                      <a:pt x="11" y="326"/>
                    </a:lnTo>
                    <a:lnTo>
                      <a:pt x="7" y="355"/>
                    </a:lnTo>
                    <a:lnTo>
                      <a:pt x="4" y="384"/>
                    </a:lnTo>
                    <a:lnTo>
                      <a:pt x="0" y="413"/>
                    </a:lnTo>
                    <a:lnTo>
                      <a:pt x="0" y="438"/>
                    </a:lnTo>
                    <a:lnTo>
                      <a:pt x="0" y="460"/>
                    </a:lnTo>
                    <a:lnTo>
                      <a:pt x="0" y="475"/>
                    </a:lnTo>
                    <a:lnTo>
                      <a:pt x="4" y="482"/>
                    </a:lnTo>
                    <a:lnTo>
                      <a:pt x="7" y="489"/>
                    </a:lnTo>
                    <a:lnTo>
                      <a:pt x="11" y="493"/>
                    </a:lnTo>
                    <a:lnTo>
                      <a:pt x="18" y="500"/>
                    </a:lnTo>
                    <a:lnTo>
                      <a:pt x="25" y="504"/>
                    </a:lnTo>
                    <a:lnTo>
                      <a:pt x="33" y="507"/>
                    </a:lnTo>
                    <a:lnTo>
                      <a:pt x="44" y="511"/>
                    </a:lnTo>
                    <a:lnTo>
                      <a:pt x="51" y="515"/>
                    </a:lnTo>
                    <a:lnTo>
                      <a:pt x="62" y="515"/>
                    </a:lnTo>
                    <a:lnTo>
                      <a:pt x="73" y="515"/>
                    </a:lnTo>
                    <a:lnTo>
                      <a:pt x="80" y="515"/>
                    </a:lnTo>
                    <a:lnTo>
                      <a:pt x="91" y="515"/>
                    </a:lnTo>
                    <a:lnTo>
                      <a:pt x="102" y="511"/>
                    </a:lnTo>
                    <a:lnTo>
                      <a:pt x="109" y="507"/>
                    </a:lnTo>
                    <a:lnTo>
                      <a:pt x="116" y="504"/>
                    </a:lnTo>
                    <a:lnTo>
                      <a:pt x="123" y="496"/>
                    </a:lnTo>
                    <a:lnTo>
                      <a:pt x="131" y="493"/>
                    </a:lnTo>
                    <a:lnTo>
                      <a:pt x="138" y="486"/>
                    </a:lnTo>
                    <a:lnTo>
                      <a:pt x="149" y="486"/>
                    </a:lnTo>
                    <a:lnTo>
                      <a:pt x="156" y="482"/>
                    </a:lnTo>
                    <a:lnTo>
                      <a:pt x="167" y="482"/>
                    </a:lnTo>
                    <a:lnTo>
                      <a:pt x="178" y="482"/>
                    </a:lnTo>
                    <a:lnTo>
                      <a:pt x="189" y="486"/>
                    </a:lnTo>
                    <a:lnTo>
                      <a:pt x="199" y="489"/>
                    </a:lnTo>
                    <a:lnTo>
                      <a:pt x="207" y="493"/>
                    </a:lnTo>
                    <a:lnTo>
                      <a:pt x="218" y="500"/>
                    </a:lnTo>
                    <a:lnTo>
                      <a:pt x="225" y="507"/>
                    </a:lnTo>
                    <a:lnTo>
                      <a:pt x="232" y="518"/>
                    </a:lnTo>
                    <a:lnTo>
                      <a:pt x="239" y="529"/>
                    </a:lnTo>
                    <a:lnTo>
                      <a:pt x="243" y="540"/>
                    </a:lnTo>
                    <a:lnTo>
                      <a:pt x="247" y="554"/>
                    </a:lnTo>
                    <a:lnTo>
                      <a:pt x="247" y="569"/>
                    </a:lnTo>
                    <a:lnTo>
                      <a:pt x="247" y="580"/>
                    </a:lnTo>
                    <a:lnTo>
                      <a:pt x="243" y="587"/>
                    </a:lnTo>
                    <a:lnTo>
                      <a:pt x="239" y="598"/>
                    </a:lnTo>
                    <a:lnTo>
                      <a:pt x="232" y="605"/>
                    </a:lnTo>
                    <a:lnTo>
                      <a:pt x="225" y="613"/>
                    </a:lnTo>
                    <a:lnTo>
                      <a:pt x="218" y="620"/>
                    </a:lnTo>
                    <a:lnTo>
                      <a:pt x="207" y="623"/>
                    </a:lnTo>
                    <a:lnTo>
                      <a:pt x="199" y="627"/>
                    </a:lnTo>
                    <a:lnTo>
                      <a:pt x="189" y="631"/>
                    </a:lnTo>
                    <a:lnTo>
                      <a:pt x="178" y="634"/>
                    </a:lnTo>
                    <a:lnTo>
                      <a:pt x="167" y="634"/>
                    </a:lnTo>
                    <a:lnTo>
                      <a:pt x="156" y="634"/>
                    </a:lnTo>
                    <a:lnTo>
                      <a:pt x="149" y="631"/>
                    </a:lnTo>
                    <a:lnTo>
                      <a:pt x="138" y="627"/>
                    </a:lnTo>
                    <a:lnTo>
                      <a:pt x="131" y="620"/>
                    </a:lnTo>
                    <a:lnTo>
                      <a:pt x="123" y="613"/>
                    </a:lnTo>
                    <a:lnTo>
                      <a:pt x="116" y="605"/>
                    </a:lnTo>
                    <a:lnTo>
                      <a:pt x="109" y="602"/>
                    </a:lnTo>
                    <a:lnTo>
                      <a:pt x="102" y="598"/>
                    </a:lnTo>
                    <a:lnTo>
                      <a:pt x="94" y="594"/>
                    </a:lnTo>
                    <a:lnTo>
                      <a:pt x="87" y="594"/>
                    </a:lnTo>
                    <a:lnTo>
                      <a:pt x="80" y="594"/>
                    </a:lnTo>
                    <a:lnTo>
                      <a:pt x="69" y="594"/>
                    </a:lnTo>
                    <a:lnTo>
                      <a:pt x="62" y="594"/>
                    </a:lnTo>
                    <a:lnTo>
                      <a:pt x="54" y="602"/>
                    </a:lnTo>
                    <a:lnTo>
                      <a:pt x="44" y="605"/>
                    </a:lnTo>
                    <a:lnTo>
                      <a:pt x="36" y="609"/>
                    </a:lnTo>
                    <a:lnTo>
                      <a:pt x="29" y="616"/>
                    </a:lnTo>
                    <a:lnTo>
                      <a:pt x="22" y="623"/>
                    </a:lnTo>
                    <a:lnTo>
                      <a:pt x="18" y="631"/>
                    </a:lnTo>
                    <a:lnTo>
                      <a:pt x="11" y="638"/>
                    </a:lnTo>
                    <a:lnTo>
                      <a:pt x="7" y="649"/>
                    </a:lnTo>
                    <a:lnTo>
                      <a:pt x="4" y="656"/>
                    </a:lnTo>
                    <a:lnTo>
                      <a:pt x="4" y="671"/>
                    </a:lnTo>
                    <a:lnTo>
                      <a:pt x="4" y="681"/>
                    </a:lnTo>
                    <a:lnTo>
                      <a:pt x="7" y="696"/>
                    </a:lnTo>
                    <a:lnTo>
                      <a:pt x="11" y="729"/>
                    </a:lnTo>
                    <a:lnTo>
                      <a:pt x="18" y="765"/>
                    </a:lnTo>
                    <a:lnTo>
                      <a:pt x="22" y="783"/>
                    </a:lnTo>
                    <a:lnTo>
                      <a:pt x="25" y="798"/>
                    </a:lnTo>
                    <a:lnTo>
                      <a:pt x="25" y="816"/>
                    </a:lnTo>
                    <a:lnTo>
                      <a:pt x="29" y="834"/>
                    </a:lnTo>
                    <a:lnTo>
                      <a:pt x="29" y="848"/>
                    </a:lnTo>
                    <a:lnTo>
                      <a:pt x="25" y="863"/>
                    </a:lnTo>
                    <a:lnTo>
                      <a:pt x="25" y="870"/>
                    </a:lnTo>
                    <a:lnTo>
                      <a:pt x="22" y="877"/>
                    </a:lnTo>
                    <a:lnTo>
                      <a:pt x="22" y="885"/>
                    </a:lnTo>
                    <a:lnTo>
                      <a:pt x="18" y="888"/>
                    </a:lnTo>
                    <a:lnTo>
                      <a:pt x="44" y="885"/>
                    </a:lnTo>
                    <a:lnTo>
                      <a:pt x="69" y="877"/>
                    </a:lnTo>
                    <a:lnTo>
                      <a:pt x="94" y="877"/>
                    </a:lnTo>
                    <a:lnTo>
                      <a:pt x="116" y="874"/>
                    </a:lnTo>
                    <a:lnTo>
                      <a:pt x="141" y="870"/>
                    </a:lnTo>
                    <a:lnTo>
                      <a:pt x="163" y="870"/>
                    </a:lnTo>
                    <a:lnTo>
                      <a:pt x="174" y="874"/>
                    </a:lnTo>
                    <a:lnTo>
                      <a:pt x="185" y="874"/>
                    </a:lnTo>
                    <a:lnTo>
                      <a:pt x="192" y="877"/>
                    </a:lnTo>
                    <a:lnTo>
                      <a:pt x="203" y="881"/>
                    </a:lnTo>
                    <a:close/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51280" y="658800"/>
                <a:ext cx="1333080" cy="1850760"/>
              </a:xfrm>
              <a:custGeom>
                <a:avLst/>
                <a:gdLst/>
                <a:ahLst/>
                <a:rect l="l" t="t" r="r" b="b"/>
                <a:pathLst>
                  <a:path w="678" h="925">
                    <a:moveTo>
                      <a:pt x="222" y="896"/>
                    </a:moveTo>
                    <a:lnTo>
                      <a:pt x="222" y="889"/>
                    </a:lnTo>
                    <a:lnTo>
                      <a:pt x="222" y="896"/>
                    </a:lnTo>
                    <a:lnTo>
                      <a:pt x="232" y="899"/>
                    </a:lnTo>
                    <a:lnTo>
                      <a:pt x="232" y="899"/>
                    </a:lnTo>
                    <a:lnTo>
                      <a:pt x="232" y="899"/>
                    </a:lnTo>
                    <a:lnTo>
                      <a:pt x="247" y="899"/>
                    </a:lnTo>
                    <a:lnTo>
                      <a:pt x="258" y="899"/>
                    </a:lnTo>
                    <a:lnTo>
                      <a:pt x="265" y="899"/>
                    </a:lnTo>
                    <a:lnTo>
                      <a:pt x="269" y="899"/>
                    </a:lnTo>
                    <a:lnTo>
                      <a:pt x="269" y="899"/>
                    </a:lnTo>
                    <a:lnTo>
                      <a:pt x="276" y="896"/>
                    </a:lnTo>
                    <a:lnTo>
                      <a:pt x="283" y="892"/>
                    </a:lnTo>
                    <a:lnTo>
                      <a:pt x="283" y="889"/>
                    </a:lnTo>
                    <a:lnTo>
                      <a:pt x="287" y="889"/>
                    </a:lnTo>
                    <a:lnTo>
                      <a:pt x="290" y="881"/>
                    </a:lnTo>
                    <a:lnTo>
                      <a:pt x="283" y="878"/>
                    </a:lnTo>
                    <a:lnTo>
                      <a:pt x="287" y="885"/>
                    </a:lnTo>
                    <a:lnTo>
                      <a:pt x="294" y="881"/>
                    </a:lnTo>
                    <a:lnTo>
                      <a:pt x="298" y="878"/>
                    </a:lnTo>
                    <a:lnTo>
                      <a:pt x="298" y="874"/>
                    </a:lnTo>
                    <a:lnTo>
                      <a:pt x="298" y="867"/>
                    </a:lnTo>
                    <a:lnTo>
                      <a:pt x="298" y="860"/>
                    </a:lnTo>
                    <a:lnTo>
                      <a:pt x="298" y="849"/>
                    </a:lnTo>
                    <a:lnTo>
                      <a:pt x="298" y="841"/>
                    </a:lnTo>
                    <a:lnTo>
                      <a:pt x="298" y="841"/>
                    </a:lnTo>
                    <a:lnTo>
                      <a:pt x="298" y="841"/>
                    </a:lnTo>
                    <a:lnTo>
                      <a:pt x="294" y="834"/>
                    </a:lnTo>
                    <a:lnTo>
                      <a:pt x="290" y="827"/>
                    </a:lnTo>
                    <a:lnTo>
                      <a:pt x="290" y="827"/>
                    </a:lnTo>
                    <a:lnTo>
                      <a:pt x="287" y="823"/>
                    </a:lnTo>
                    <a:lnTo>
                      <a:pt x="280" y="816"/>
                    </a:lnTo>
                    <a:lnTo>
                      <a:pt x="272" y="809"/>
                    </a:lnTo>
                    <a:lnTo>
                      <a:pt x="269" y="812"/>
                    </a:lnTo>
                    <a:lnTo>
                      <a:pt x="276" y="812"/>
                    </a:lnTo>
                    <a:lnTo>
                      <a:pt x="269" y="798"/>
                    </a:lnTo>
                    <a:lnTo>
                      <a:pt x="265" y="787"/>
                    </a:lnTo>
                    <a:lnTo>
                      <a:pt x="261" y="776"/>
                    </a:lnTo>
                    <a:lnTo>
                      <a:pt x="258" y="765"/>
                    </a:lnTo>
                    <a:lnTo>
                      <a:pt x="254" y="751"/>
                    </a:lnTo>
                    <a:lnTo>
                      <a:pt x="247" y="751"/>
                    </a:lnTo>
                    <a:lnTo>
                      <a:pt x="254" y="751"/>
                    </a:lnTo>
                    <a:lnTo>
                      <a:pt x="254" y="740"/>
                    </a:lnTo>
                    <a:lnTo>
                      <a:pt x="247" y="740"/>
                    </a:lnTo>
                    <a:lnTo>
                      <a:pt x="254" y="743"/>
                    </a:lnTo>
                    <a:lnTo>
                      <a:pt x="258" y="729"/>
                    </a:lnTo>
                    <a:lnTo>
                      <a:pt x="261" y="718"/>
                    </a:lnTo>
                    <a:lnTo>
                      <a:pt x="265" y="707"/>
                    </a:lnTo>
                    <a:lnTo>
                      <a:pt x="258" y="704"/>
                    </a:lnTo>
                    <a:lnTo>
                      <a:pt x="261" y="707"/>
                    </a:lnTo>
                    <a:lnTo>
                      <a:pt x="265" y="704"/>
                    </a:lnTo>
                    <a:lnTo>
                      <a:pt x="269" y="704"/>
                    </a:lnTo>
                    <a:lnTo>
                      <a:pt x="269" y="704"/>
                    </a:lnTo>
                    <a:lnTo>
                      <a:pt x="272" y="696"/>
                    </a:lnTo>
                    <a:lnTo>
                      <a:pt x="265" y="693"/>
                    </a:lnTo>
                    <a:lnTo>
                      <a:pt x="269" y="696"/>
                    </a:lnTo>
                    <a:lnTo>
                      <a:pt x="272" y="693"/>
                    </a:lnTo>
                    <a:lnTo>
                      <a:pt x="276" y="689"/>
                    </a:lnTo>
                    <a:lnTo>
                      <a:pt x="280" y="685"/>
                    </a:lnTo>
                    <a:lnTo>
                      <a:pt x="276" y="682"/>
                    </a:lnTo>
                    <a:lnTo>
                      <a:pt x="280" y="689"/>
                    </a:lnTo>
                    <a:lnTo>
                      <a:pt x="287" y="685"/>
                    </a:lnTo>
                    <a:lnTo>
                      <a:pt x="283" y="678"/>
                    </a:lnTo>
                    <a:lnTo>
                      <a:pt x="283" y="685"/>
                    </a:lnTo>
                    <a:lnTo>
                      <a:pt x="287" y="685"/>
                    </a:lnTo>
                    <a:lnTo>
                      <a:pt x="290" y="685"/>
                    </a:lnTo>
                    <a:lnTo>
                      <a:pt x="290" y="685"/>
                    </a:lnTo>
                    <a:lnTo>
                      <a:pt x="298" y="682"/>
                    </a:lnTo>
                    <a:lnTo>
                      <a:pt x="305" y="678"/>
                    </a:lnTo>
                    <a:lnTo>
                      <a:pt x="301" y="671"/>
                    </a:lnTo>
                    <a:lnTo>
                      <a:pt x="301" y="678"/>
                    </a:lnTo>
                    <a:lnTo>
                      <a:pt x="309" y="678"/>
                    </a:lnTo>
                    <a:lnTo>
                      <a:pt x="312" y="678"/>
                    </a:lnTo>
                    <a:lnTo>
                      <a:pt x="312" y="678"/>
                    </a:lnTo>
                    <a:lnTo>
                      <a:pt x="319" y="675"/>
                    </a:lnTo>
                    <a:lnTo>
                      <a:pt x="316" y="667"/>
                    </a:lnTo>
                    <a:lnTo>
                      <a:pt x="316" y="675"/>
                    </a:lnTo>
                    <a:lnTo>
                      <a:pt x="323" y="675"/>
                    </a:lnTo>
                    <a:lnTo>
                      <a:pt x="334" y="675"/>
                    </a:lnTo>
                    <a:lnTo>
                      <a:pt x="341" y="675"/>
                    </a:lnTo>
                    <a:lnTo>
                      <a:pt x="341" y="667"/>
                    </a:lnTo>
                    <a:lnTo>
                      <a:pt x="341" y="675"/>
                    </a:lnTo>
                    <a:lnTo>
                      <a:pt x="352" y="678"/>
                    </a:lnTo>
                    <a:lnTo>
                      <a:pt x="352" y="678"/>
                    </a:lnTo>
                    <a:lnTo>
                      <a:pt x="352" y="678"/>
                    </a:lnTo>
                    <a:lnTo>
                      <a:pt x="359" y="678"/>
                    </a:lnTo>
                    <a:lnTo>
                      <a:pt x="359" y="671"/>
                    </a:lnTo>
                    <a:lnTo>
                      <a:pt x="359" y="678"/>
                    </a:lnTo>
                    <a:lnTo>
                      <a:pt x="367" y="682"/>
                    </a:lnTo>
                    <a:lnTo>
                      <a:pt x="374" y="685"/>
                    </a:lnTo>
                    <a:lnTo>
                      <a:pt x="374" y="685"/>
                    </a:lnTo>
                    <a:lnTo>
                      <a:pt x="374" y="685"/>
                    </a:lnTo>
                    <a:lnTo>
                      <a:pt x="381" y="685"/>
                    </a:lnTo>
                    <a:lnTo>
                      <a:pt x="381" y="678"/>
                    </a:lnTo>
                    <a:lnTo>
                      <a:pt x="378" y="682"/>
                    </a:lnTo>
                    <a:lnTo>
                      <a:pt x="381" y="685"/>
                    </a:lnTo>
                    <a:lnTo>
                      <a:pt x="385" y="689"/>
                    </a:lnTo>
                    <a:lnTo>
                      <a:pt x="385" y="689"/>
                    </a:lnTo>
                    <a:lnTo>
                      <a:pt x="392" y="693"/>
                    </a:lnTo>
                    <a:lnTo>
                      <a:pt x="392" y="685"/>
                    </a:lnTo>
                    <a:lnTo>
                      <a:pt x="388" y="689"/>
                    </a:lnTo>
                    <a:lnTo>
                      <a:pt x="392" y="693"/>
                    </a:lnTo>
                    <a:lnTo>
                      <a:pt x="396" y="696"/>
                    </a:lnTo>
                    <a:lnTo>
                      <a:pt x="396" y="696"/>
                    </a:lnTo>
                    <a:lnTo>
                      <a:pt x="403" y="700"/>
                    </a:lnTo>
                    <a:lnTo>
                      <a:pt x="403" y="693"/>
                    </a:lnTo>
                    <a:lnTo>
                      <a:pt x="399" y="696"/>
                    </a:lnTo>
                    <a:lnTo>
                      <a:pt x="403" y="704"/>
                    </a:lnTo>
                    <a:lnTo>
                      <a:pt x="407" y="711"/>
                    </a:lnTo>
                    <a:lnTo>
                      <a:pt x="414" y="722"/>
                    </a:lnTo>
                    <a:lnTo>
                      <a:pt x="417" y="733"/>
                    </a:lnTo>
                    <a:lnTo>
                      <a:pt x="421" y="729"/>
                    </a:lnTo>
                    <a:lnTo>
                      <a:pt x="417" y="729"/>
                    </a:lnTo>
                    <a:lnTo>
                      <a:pt x="417" y="740"/>
                    </a:lnTo>
                    <a:lnTo>
                      <a:pt x="417" y="754"/>
                    </a:lnTo>
                    <a:lnTo>
                      <a:pt x="417" y="765"/>
                    </a:lnTo>
                    <a:lnTo>
                      <a:pt x="421" y="765"/>
                    </a:lnTo>
                    <a:lnTo>
                      <a:pt x="417" y="765"/>
                    </a:lnTo>
                    <a:lnTo>
                      <a:pt x="414" y="776"/>
                    </a:lnTo>
                    <a:lnTo>
                      <a:pt x="410" y="787"/>
                    </a:lnTo>
                    <a:lnTo>
                      <a:pt x="414" y="787"/>
                    </a:lnTo>
                    <a:lnTo>
                      <a:pt x="410" y="783"/>
                    </a:lnTo>
                    <a:lnTo>
                      <a:pt x="403" y="791"/>
                    </a:lnTo>
                    <a:lnTo>
                      <a:pt x="403" y="794"/>
                    </a:lnTo>
                    <a:lnTo>
                      <a:pt x="403" y="794"/>
                    </a:lnTo>
                    <a:lnTo>
                      <a:pt x="396" y="805"/>
                    </a:lnTo>
                    <a:lnTo>
                      <a:pt x="399" y="805"/>
                    </a:lnTo>
                    <a:lnTo>
                      <a:pt x="396" y="802"/>
                    </a:lnTo>
                    <a:lnTo>
                      <a:pt x="381" y="816"/>
                    </a:lnTo>
                    <a:lnTo>
                      <a:pt x="381" y="820"/>
                    </a:lnTo>
                    <a:lnTo>
                      <a:pt x="381" y="820"/>
                    </a:lnTo>
                    <a:lnTo>
                      <a:pt x="374" y="834"/>
                    </a:lnTo>
                    <a:lnTo>
                      <a:pt x="370" y="841"/>
                    </a:lnTo>
                    <a:lnTo>
                      <a:pt x="374" y="841"/>
                    </a:lnTo>
                    <a:lnTo>
                      <a:pt x="370" y="838"/>
                    </a:lnTo>
                    <a:lnTo>
                      <a:pt x="367" y="841"/>
                    </a:lnTo>
                    <a:lnTo>
                      <a:pt x="367" y="845"/>
                    </a:lnTo>
                    <a:lnTo>
                      <a:pt x="367" y="845"/>
                    </a:lnTo>
                    <a:lnTo>
                      <a:pt x="367" y="852"/>
                    </a:lnTo>
                    <a:lnTo>
                      <a:pt x="367" y="856"/>
                    </a:lnTo>
                    <a:lnTo>
                      <a:pt x="367" y="863"/>
                    </a:lnTo>
                    <a:lnTo>
                      <a:pt x="367" y="867"/>
                    </a:lnTo>
                    <a:lnTo>
                      <a:pt x="367" y="870"/>
                    </a:lnTo>
                    <a:lnTo>
                      <a:pt x="367" y="870"/>
                    </a:lnTo>
                    <a:lnTo>
                      <a:pt x="370" y="874"/>
                    </a:lnTo>
                    <a:lnTo>
                      <a:pt x="374" y="878"/>
                    </a:lnTo>
                    <a:lnTo>
                      <a:pt x="381" y="885"/>
                    </a:lnTo>
                    <a:lnTo>
                      <a:pt x="385" y="889"/>
                    </a:lnTo>
                    <a:lnTo>
                      <a:pt x="388" y="892"/>
                    </a:lnTo>
                    <a:lnTo>
                      <a:pt x="388" y="892"/>
                    </a:lnTo>
                    <a:lnTo>
                      <a:pt x="396" y="896"/>
                    </a:lnTo>
                    <a:lnTo>
                      <a:pt x="407" y="899"/>
                    </a:lnTo>
                    <a:lnTo>
                      <a:pt x="417" y="903"/>
                    </a:lnTo>
                    <a:lnTo>
                      <a:pt x="410" y="899"/>
                    </a:lnTo>
                    <a:lnTo>
                      <a:pt x="417" y="903"/>
                    </a:lnTo>
                    <a:lnTo>
                      <a:pt x="432" y="907"/>
                    </a:lnTo>
                    <a:lnTo>
                      <a:pt x="432" y="899"/>
                    </a:lnTo>
                    <a:lnTo>
                      <a:pt x="432" y="907"/>
                    </a:lnTo>
                    <a:lnTo>
                      <a:pt x="446" y="914"/>
                    </a:lnTo>
                    <a:lnTo>
                      <a:pt x="446" y="914"/>
                    </a:lnTo>
                    <a:lnTo>
                      <a:pt x="446" y="914"/>
                    </a:lnTo>
                    <a:lnTo>
                      <a:pt x="461" y="914"/>
                    </a:lnTo>
                    <a:lnTo>
                      <a:pt x="475" y="918"/>
                    </a:lnTo>
                    <a:lnTo>
                      <a:pt x="490" y="921"/>
                    </a:lnTo>
                    <a:lnTo>
                      <a:pt x="508" y="925"/>
                    </a:lnTo>
                    <a:lnTo>
                      <a:pt x="526" y="925"/>
                    </a:lnTo>
                    <a:lnTo>
                      <a:pt x="541" y="925"/>
                    </a:lnTo>
                    <a:lnTo>
                      <a:pt x="559" y="925"/>
                    </a:lnTo>
                    <a:lnTo>
                      <a:pt x="573" y="925"/>
                    </a:lnTo>
                    <a:lnTo>
                      <a:pt x="588" y="921"/>
                    </a:lnTo>
                    <a:lnTo>
                      <a:pt x="602" y="918"/>
                    </a:lnTo>
                    <a:lnTo>
                      <a:pt x="617" y="914"/>
                    </a:lnTo>
                    <a:lnTo>
                      <a:pt x="620" y="910"/>
                    </a:lnTo>
                    <a:lnTo>
                      <a:pt x="620" y="914"/>
                    </a:lnTo>
                    <a:lnTo>
                      <a:pt x="631" y="907"/>
                    </a:lnTo>
                    <a:lnTo>
                      <a:pt x="642" y="899"/>
                    </a:lnTo>
                    <a:lnTo>
                      <a:pt x="646" y="896"/>
                    </a:lnTo>
                    <a:lnTo>
                      <a:pt x="646" y="892"/>
                    </a:lnTo>
                    <a:lnTo>
                      <a:pt x="642" y="881"/>
                    </a:lnTo>
                    <a:lnTo>
                      <a:pt x="635" y="881"/>
                    </a:lnTo>
                    <a:lnTo>
                      <a:pt x="642" y="881"/>
                    </a:lnTo>
                    <a:lnTo>
                      <a:pt x="642" y="867"/>
                    </a:lnTo>
                    <a:lnTo>
                      <a:pt x="642" y="867"/>
                    </a:lnTo>
                    <a:lnTo>
                      <a:pt x="642" y="867"/>
                    </a:lnTo>
                    <a:lnTo>
                      <a:pt x="639" y="852"/>
                    </a:lnTo>
                    <a:lnTo>
                      <a:pt x="631" y="852"/>
                    </a:lnTo>
                    <a:lnTo>
                      <a:pt x="639" y="852"/>
                    </a:lnTo>
                    <a:lnTo>
                      <a:pt x="639" y="838"/>
                    </a:lnTo>
                    <a:lnTo>
                      <a:pt x="639" y="809"/>
                    </a:lnTo>
                    <a:lnTo>
                      <a:pt x="639" y="776"/>
                    </a:lnTo>
                    <a:lnTo>
                      <a:pt x="642" y="747"/>
                    </a:lnTo>
                    <a:lnTo>
                      <a:pt x="642" y="718"/>
                    </a:lnTo>
                    <a:lnTo>
                      <a:pt x="646" y="696"/>
                    </a:lnTo>
                    <a:lnTo>
                      <a:pt x="646" y="678"/>
                    </a:lnTo>
                    <a:lnTo>
                      <a:pt x="646" y="675"/>
                    </a:lnTo>
                    <a:lnTo>
                      <a:pt x="646" y="675"/>
                    </a:lnTo>
                    <a:lnTo>
                      <a:pt x="646" y="675"/>
                    </a:lnTo>
                    <a:lnTo>
                      <a:pt x="642" y="667"/>
                    </a:lnTo>
                    <a:lnTo>
                      <a:pt x="639" y="660"/>
                    </a:lnTo>
                    <a:lnTo>
                      <a:pt x="635" y="653"/>
                    </a:lnTo>
                    <a:lnTo>
                      <a:pt x="631" y="649"/>
                    </a:lnTo>
                    <a:lnTo>
                      <a:pt x="631" y="649"/>
                    </a:lnTo>
                    <a:lnTo>
                      <a:pt x="624" y="646"/>
                    </a:lnTo>
                    <a:lnTo>
                      <a:pt x="617" y="642"/>
                    </a:lnTo>
                    <a:lnTo>
                      <a:pt x="613" y="646"/>
                    </a:lnTo>
                    <a:lnTo>
                      <a:pt x="617" y="642"/>
                    </a:lnTo>
                    <a:lnTo>
                      <a:pt x="610" y="635"/>
                    </a:lnTo>
                    <a:lnTo>
                      <a:pt x="610" y="635"/>
                    </a:lnTo>
                    <a:lnTo>
                      <a:pt x="606" y="635"/>
                    </a:lnTo>
                    <a:lnTo>
                      <a:pt x="599" y="635"/>
                    </a:lnTo>
                    <a:lnTo>
                      <a:pt x="599" y="638"/>
                    </a:lnTo>
                    <a:lnTo>
                      <a:pt x="602" y="635"/>
                    </a:lnTo>
                    <a:lnTo>
                      <a:pt x="595" y="631"/>
                    </a:lnTo>
                    <a:lnTo>
                      <a:pt x="588" y="627"/>
                    </a:lnTo>
                    <a:lnTo>
                      <a:pt x="588" y="627"/>
                    </a:lnTo>
                    <a:lnTo>
                      <a:pt x="584" y="627"/>
                    </a:lnTo>
                    <a:lnTo>
                      <a:pt x="577" y="627"/>
                    </a:lnTo>
                    <a:lnTo>
                      <a:pt x="566" y="627"/>
                    </a:lnTo>
                    <a:lnTo>
                      <a:pt x="566" y="627"/>
                    </a:lnTo>
                    <a:lnTo>
                      <a:pt x="566" y="627"/>
                    </a:lnTo>
                    <a:lnTo>
                      <a:pt x="559" y="631"/>
                    </a:lnTo>
                    <a:lnTo>
                      <a:pt x="552" y="635"/>
                    </a:lnTo>
                    <a:lnTo>
                      <a:pt x="544" y="638"/>
                    </a:lnTo>
                    <a:lnTo>
                      <a:pt x="541" y="638"/>
                    </a:lnTo>
                    <a:lnTo>
                      <a:pt x="541" y="642"/>
                    </a:lnTo>
                    <a:lnTo>
                      <a:pt x="537" y="649"/>
                    </a:lnTo>
                    <a:lnTo>
                      <a:pt x="541" y="649"/>
                    </a:lnTo>
                    <a:lnTo>
                      <a:pt x="541" y="646"/>
                    </a:lnTo>
                    <a:lnTo>
                      <a:pt x="533" y="649"/>
                    </a:lnTo>
                    <a:lnTo>
                      <a:pt x="526" y="653"/>
                    </a:lnTo>
                    <a:lnTo>
                      <a:pt x="519" y="656"/>
                    </a:lnTo>
                    <a:lnTo>
                      <a:pt x="508" y="660"/>
                    </a:lnTo>
                    <a:lnTo>
                      <a:pt x="508" y="664"/>
                    </a:lnTo>
                    <a:lnTo>
                      <a:pt x="508" y="660"/>
                    </a:lnTo>
                    <a:lnTo>
                      <a:pt x="497" y="660"/>
                    </a:lnTo>
                    <a:lnTo>
                      <a:pt x="486" y="660"/>
                    </a:lnTo>
                    <a:lnTo>
                      <a:pt x="475" y="660"/>
                    </a:lnTo>
                    <a:lnTo>
                      <a:pt x="475" y="664"/>
                    </a:lnTo>
                    <a:lnTo>
                      <a:pt x="479" y="660"/>
                    </a:lnTo>
                    <a:lnTo>
                      <a:pt x="468" y="656"/>
                    </a:lnTo>
                    <a:lnTo>
                      <a:pt x="457" y="653"/>
                    </a:lnTo>
                    <a:lnTo>
                      <a:pt x="446" y="646"/>
                    </a:lnTo>
                    <a:lnTo>
                      <a:pt x="443" y="649"/>
                    </a:lnTo>
                    <a:lnTo>
                      <a:pt x="446" y="646"/>
                    </a:lnTo>
                    <a:lnTo>
                      <a:pt x="439" y="638"/>
                    </a:lnTo>
                    <a:lnTo>
                      <a:pt x="439" y="638"/>
                    </a:lnTo>
                    <a:lnTo>
                      <a:pt x="439" y="638"/>
                    </a:lnTo>
                    <a:lnTo>
                      <a:pt x="428" y="631"/>
                    </a:lnTo>
                    <a:lnTo>
                      <a:pt x="425" y="635"/>
                    </a:lnTo>
                    <a:lnTo>
                      <a:pt x="432" y="635"/>
                    </a:lnTo>
                    <a:lnTo>
                      <a:pt x="428" y="627"/>
                    </a:lnTo>
                    <a:lnTo>
                      <a:pt x="428" y="627"/>
                    </a:lnTo>
                    <a:lnTo>
                      <a:pt x="425" y="624"/>
                    </a:lnTo>
                    <a:lnTo>
                      <a:pt x="421" y="620"/>
                    </a:lnTo>
                    <a:lnTo>
                      <a:pt x="417" y="624"/>
                    </a:lnTo>
                    <a:lnTo>
                      <a:pt x="425" y="624"/>
                    </a:lnTo>
                    <a:lnTo>
                      <a:pt x="425" y="617"/>
                    </a:lnTo>
                    <a:lnTo>
                      <a:pt x="425" y="617"/>
                    </a:lnTo>
                    <a:lnTo>
                      <a:pt x="421" y="613"/>
                    </a:lnTo>
                    <a:lnTo>
                      <a:pt x="417" y="609"/>
                    </a:lnTo>
                    <a:lnTo>
                      <a:pt x="414" y="613"/>
                    </a:lnTo>
                    <a:lnTo>
                      <a:pt x="421" y="613"/>
                    </a:lnTo>
                    <a:lnTo>
                      <a:pt x="417" y="606"/>
                    </a:lnTo>
                    <a:lnTo>
                      <a:pt x="410" y="606"/>
                    </a:lnTo>
                    <a:lnTo>
                      <a:pt x="417" y="606"/>
                    </a:lnTo>
                    <a:lnTo>
                      <a:pt x="417" y="598"/>
                    </a:lnTo>
                    <a:lnTo>
                      <a:pt x="417" y="591"/>
                    </a:lnTo>
                    <a:lnTo>
                      <a:pt x="417" y="584"/>
                    </a:lnTo>
                    <a:lnTo>
                      <a:pt x="417" y="577"/>
                    </a:lnTo>
                    <a:lnTo>
                      <a:pt x="417" y="566"/>
                    </a:lnTo>
                    <a:lnTo>
                      <a:pt x="417" y="558"/>
                    </a:lnTo>
                    <a:lnTo>
                      <a:pt x="410" y="558"/>
                    </a:lnTo>
                    <a:lnTo>
                      <a:pt x="417" y="562"/>
                    </a:lnTo>
                    <a:lnTo>
                      <a:pt x="421" y="555"/>
                    </a:lnTo>
                    <a:lnTo>
                      <a:pt x="425" y="548"/>
                    </a:lnTo>
                    <a:lnTo>
                      <a:pt x="425" y="548"/>
                    </a:lnTo>
                    <a:lnTo>
                      <a:pt x="425" y="544"/>
                    </a:lnTo>
                    <a:lnTo>
                      <a:pt x="425" y="537"/>
                    </a:lnTo>
                    <a:lnTo>
                      <a:pt x="417" y="537"/>
                    </a:lnTo>
                    <a:lnTo>
                      <a:pt x="421" y="540"/>
                    </a:lnTo>
                    <a:lnTo>
                      <a:pt x="425" y="537"/>
                    </a:lnTo>
                    <a:lnTo>
                      <a:pt x="432" y="529"/>
                    </a:lnTo>
                    <a:lnTo>
                      <a:pt x="439" y="522"/>
                    </a:lnTo>
                    <a:lnTo>
                      <a:pt x="450" y="511"/>
                    </a:lnTo>
                    <a:lnTo>
                      <a:pt x="446" y="508"/>
                    </a:lnTo>
                    <a:lnTo>
                      <a:pt x="450" y="515"/>
                    </a:lnTo>
                    <a:lnTo>
                      <a:pt x="461" y="508"/>
                    </a:lnTo>
                    <a:lnTo>
                      <a:pt x="472" y="504"/>
                    </a:lnTo>
                    <a:lnTo>
                      <a:pt x="483" y="500"/>
                    </a:lnTo>
                    <a:lnTo>
                      <a:pt x="479" y="493"/>
                    </a:lnTo>
                    <a:lnTo>
                      <a:pt x="479" y="500"/>
                    </a:lnTo>
                    <a:lnTo>
                      <a:pt x="490" y="500"/>
                    </a:lnTo>
                    <a:lnTo>
                      <a:pt x="504" y="500"/>
                    </a:lnTo>
                    <a:lnTo>
                      <a:pt x="515" y="500"/>
                    </a:lnTo>
                    <a:lnTo>
                      <a:pt x="515" y="493"/>
                    </a:lnTo>
                    <a:lnTo>
                      <a:pt x="515" y="500"/>
                    </a:lnTo>
                    <a:lnTo>
                      <a:pt x="526" y="504"/>
                    </a:lnTo>
                    <a:lnTo>
                      <a:pt x="537" y="508"/>
                    </a:lnTo>
                    <a:lnTo>
                      <a:pt x="537" y="500"/>
                    </a:lnTo>
                    <a:lnTo>
                      <a:pt x="533" y="504"/>
                    </a:lnTo>
                    <a:lnTo>
                      <a:pt x="541" y="511"/>
                    </a:lnTo>
                    <a:lnTo>
                      <a:pt x="544" y="515"/>
                    </a:lnTo>
                    <a:lnTo>
                      <a:pt x="544" y="515"/>
                    </a:lnTo>
                    <a:lnTo>
                      <a:pt x="552" y="519"/>
                    </a:lnTo>
                    <a:lnTo>
                      <a:pt x="552" y="511"/>
                    </a:lnTo>
                    <a:lnTo>
                      <a:pt x="548" y="515"/>
                    </a:lnTo>
                    <a:lnTo>
                      <a:pt x="552" y="522"/>
                    </a:lnTo>
                    <a:lnTo>
                      <a:pt x="552" y="522"/>
                    </a:lnTo>
                    <a:lnTo>
                      <a:pt x="555" y="526"/>
                    </a:lnTo>
                    <a:lnTo>
                      <a:pt x="562" y="529"/>
                    </a:lnTo>
                    <a:lnTo>
                      <a:pt x="562" y="522"/>
                    </a:lnTo>
                    <a:lnTo>
                      <a:pt x="559" y="526"/>
                    </a:lnTo>
                    <a:lnTo>
                      <a:pt x="562" y="529"/>
                    </a:lnTo>
                    <a:lnTo>
                      <a:pt x="566" y="533"/>
                    </a:lnTo>
                    <a:lnTo>
                      <a:pt x="566" y="533"/>
                    </a:lnTo>
                    <a:lnTo>
                      <a:pt x="573" y="533"/>
                    </a:lnTo>
                    <a:lnTo>
                      <a:pt x="573" y="526"/>
                    </a:lnTo>
                    <a:lnTo>
                      <a:pt x="573" y="533"/>
                    </a:lnTo>
                    <a:lnTo>
                      <a:pt x="581" y="537"/>
                    </a:lnTo>
                    <a:lnTo>
                      <a:pt x="588" y="540"/>
                    </a:lnTo>
                    <a:lnTo>
                      <a:pt x="588" y="540"/>
                    </a:lnTo>
                    <a:lnTo>
                      <a:pt x="588" y="540"/>
                    </a:lnTo>
                    <a:lnTo>
                      <a:pt x="595" y="540"/>
                    </a:lnTo>
                    <a:lnTo>
                      <a:pt x="602" y="540"/>
                    </a:lnTo>
                    <a:lnTo>
                      <a:pt x="610" y="540"/>
                    </a:lnTo>
                    <a:lnTo>
                      <a:pt x="617" y="540"/>
                    </a:lnTo>
                    <a:lnTo>
                      <a:pt x="620" y="540"/>
                    </a:lnTo>
                    <a:lnTo>
                      <a:pt x="620" y="540"/>
                    </a:lnTo>
                    <a:lnTo>
                      <a:pt x="628" y="537"/>
                    </a:lnTo>
                    <a:lnTo>
                      <a:pt x="624" y="529"/>
                    </a:lnTo>
                    <a:lnTo>
                      <a:pt x="624" y="537"/>
                    </a:lnTo>
                    <a:lnTo>
                      <a:pt x="631" y="537"/>
                    </a:lnTo>
                    <a:lnTo>
                      <a:pt x="635" y="537"/>
                    </a:lnTo>
                    <a:lnTo>
                      <a:pt x="635" y="537"/>
                    </a:lnTo>
                    <a:lnTo>
                      <a:pt x="642" y="533"/>
                    </a:lnTo>
                    <a:lnTo>
                      <a:pt x="649" y="529"/>
                    </a:lnTo>
                    <a:lnTo>
                      <a:pt x="657" y="526"/>
                    </a:lnTo>
                    <a:lnTo>
                      <a:pt x="657" y="526"/>
                    </a:lnTo>
                    <a:lnTo>
                      <a:pt x="657" y="522"/>
                    </a:lnTo>
                    <a:lnTo>
                      <a:pt x="664" y="515"/>
                    </a:lnTo>
                    <a:lnTo>
                      <a:pt x="668" y="515"/>
                    </a:lnTo>
                    <a:lnTo>
                      <a:pt x="668" y="511"/>
                    </a:lnTo>
                    <a:lnTo>
                      <a:pt x="668" y="508"/>
                    </a:lnTo>
                    <a:lnTo>
                      <a:pt x="660" y="508"/>
                    </a:lnTo>
                    <a:lnTo>
                      <a:pt x="660" y="515"/>
                    </a:lnTo>
                    <a:lnTo>
                      <a:pt x="664" y="515"/>
                    </a:lnTo>
                    <a:lnTo>
                      <a:pt x="668" y="515"/>
                    </a:lnTo>
                    <a:lnTo>
                      <a:pt x="671" y="511"/>
                    </a:lnTo>
                    <a:lnTo>
                      <a:pt x="675" y="504"/>
                    </a:lnTo>
                    <a:lnTo>
                      <a:pt x="675" y="504"/>
                    </a:lnTo>
                    <a:lnTo>
                      <a:pt x="675" y="500"/>
                    </a:lnTo>
                    <a:lnTo>
                      <a:pt x="675" y="497"/>
                    </a:lnTo>
                    <a:lnTo>
                      <a:pt x="668" y="497"/>
                    </a:lnTo>
                    <a:lnTo>
                      <a:pt x="675" y="500"/>
                    </a:lnTo>
                    <a:lnTo>
                      <a:pt x="678" y="490"/>
                    </a:lnTo>
                    <a:lnTo>
                      <a:pt x="678" y="490"/>
                    </a:lnTo>
                    <a:lnTo>
                      <a:pt x="678" y="486"/>
                    </a:lnTo>
                    <a:lnTo>
                      <a:pt x="678" y="471"/>
                    </a:lnTo>
                    <a:lnTo>
                      <a:pt x="678" y="457"/>
                    </a:lnTo>
                    <a:lnTo>
                      <a:pt x="678" y="442"/>
                    </a:lnTo>
                    <a:lnTo>
                      <a:pt x="678" y="428"/>
                    </a:lnTo>
                    <a:lnTo>
                      <a:pt x="675" y="410"/>
                    </a:lnTo>
                    <a:lnTo>
                      <a:pt x="671" y="392"/>
                    </a:lnTo>
                    <a:lnTo>
                      <a:pt x="675" y="410"/>
                    </a:lnTo>
                    <a:lnTo>
                      <a:pt x="668" y="377"/>
                    </a:lnTo>
                    <a:lnTo>
                      <a:pt x="660" y="348"/>
                    </a:lnTo>
                    <a:lnTo>
                      <a:pt x="653" y="319"/>
                    </a:lnTo>
                    <a:lnTo>
                      <a:pt x="646" y="297"/>
                    </a:lnTo>
                    <a:lnTo>
                      <a:pt x="642" y="290"/>
                    </a:lnTo>
                    <a:lnTo>
                      <a:pt x="639" y="294"/>
                    </a:lnTo>
                    <a:lnTo>
                      <a:pt x="620" y="297"/>
                    </a:lnTo>
                    <a:lnTo>
                      <a:pt x="602" y="297"/>
                    </a:lnTo>
                    <a:lnTo>
                      <a:pt x="584" y="301"/>
                    </a:lnTo>
                    <a:lnTo>
                      <a:pt x="566" y="301"/>
                    </a:lnTo>
                    <a:lnTo>
                      <a:pt x="548" y="301"/>
                    </a:lnTo>
                    <a:lnTo>
                      <a:pt x="530" y="301"/>
                    </a:lnTo>
                    <a:lnTo>
                      <a:pt x="512" y="297"/>
                    </a:lnTo>
                    <a:lnTo>
                      <a:pt x="497" y="297"/>
                    </a:lnTo>
                    <a:lnTo>
                      <a:pt x="465" y="294"/>
                    </a:lnTo>
                    <a:lnTo>
                      <a:pt x="443" y="290"/>
                    </a:lnTo>
                    <a:lnTo>
                      <a:pt x="425" y="286"/>
                    </a:lnTo>
                    <a:lnTo>
                      <a:pt x="425" y="290"/>
                    </a:lnTo>
                    <a:lnTo>
                      <a:pt x="428" y="286"/>
                    </a:lnTo>
                    <a:lnTo>
                      <a:pt x="425" y="283"/>
                    </a:lnTo>
                    <a:lnTo>
                      <a:pt x="425" y="283"/>
                    </a:lnTo>
                    <a:lnTo>
                      <a:pt x="421" y="283"/>
                    </a:lnTo>
                    <a:lnTo>
                      <a:pt x="407" y="279"/>
                    </a:lnTo>
                    <a:lnTo>
                      <a:pt x="407" y="283"/>
                    </a:lnTo>
                    <a:lnTo>
                      <a:pt x="410" y="279"/>
                    </a:lnTo>
                    <a:lnTo>
                      <a:pt x="399" y="272"/>
                    </a:lnTo>
                    <a:lnTo>
                      <a:pt x="388" y="265"/>
                    </a:lnTo>
                    <a:lnTo>
                      <a:pt x="385" y="268"/>
                    </a:lnTo>
                    <a:lnTo>
                      <a:pt x="392" y="268"/>
                    </a:lnTo>
                    <a:lnTo>
                      <a:pt x="385" y="257"/>
                    </a:lnTo>
                    <a:lnTo>
                      <a:pt x="378" y="247"/>
                    </a:lnTo>
                    <a:lnTo>
                      <a:pt x="374" y="239"/>
                    </a:lnTo>
                    <a:lnTo>
                      <a:pt x="370" y="228"/>
                    </a:lnTo>
                    <a:lnTo>
                      <a:pt x="367" y="221"/>
                    </a:lnTo>
                    <a:lnTo>
                      <a:pt x="359" y="221"/>
                    </a:lnTo>
                    <a:lnTo>
                      <a:pt x="367" y="221"/>
                    </a:lnTo>
                    <a:lnTo>
                      <a:pt x="367" y="210"/>
                    </a:lnTo>
                    <a:lnTo>
                      <a:pt x="359" y="210"/>
                    </a:lnTo>
                    <a:lnTo>
                      <a:pt x="367" y="214"/>
                    </a:lnTo>
                    <a:lnTo>
                      <a:pt x="370" y="203"/>
                    </a:lnTo>
                    <a:lnTo>
                      <a:pt x="370" y="203"/>
                    </a:lnTo>
                    <a:lnTo>
                      <a:pt x="370" y="199"/>
                    </a:lnTo>
                    <a:lnTo>
                      <a:pt x="370" y="189"/>
                    </a:lnTo>
                    <a:lnTo>
                      <a:pt x="363" y="189"/>
                    </a:lnTo>
                    <a:lnTo>
                      <a:pt x="370" y="192"/>
                    </a:lnTo>
                    <a:lnTo>
                      <a:pt x="374" y="185"/>
                    </a:lnTo>
                    <a:lnTo>
                      <a:pt x="378" y="178"/>
                    </a:lnTo>
                    <a:lnTo>
                      <a:pt x="370" y="174"/>
                    </a:lnTo>
                    <a:lnTo>
                      <a:pt x="374" y="178"/>
                    </a:lnTo>
                    <a:lnTo>
                      <a:pt x="381" y="170"/>
                    </a:lnTo>
                    <a:lnTo>
                      <a:pt x="385" y="170"/>
                    </a:lnTo>
                    <a:lnTo>
                      <a:pt x="385" y="170"/>
                    </a:lnTo>
                    <a:lnTo>
                      <a:pt x="388" y="163"/>
                    </a:lnTo>
                    <a:lnTo>
                      <a:pt x="381" y="159"/>
                    </a:lnTo>
                    <a:lnTo>
                      <a:pt x="385" y="163"/>
                    </a:lnTo>
                    <a:lnTo>
                      <a:pt x="392" y="156"/>
                    </a:lnTo>
                    <a:lnTo>
                      <a:pt x="399" y="149"/>
                    </a:lnTo>
                    <a:lnTo>
                      <a:pt x="403" y="149"/>
                    </a:lnTo>
                    <a:lnTo>
                      <a:pt x="403" y="149"/>
                    </a:lnTo>
                    <a:lnTo>
                      <a:pt x="407" y="141"/>
                    </a:lnTo>
                    <a:lnTo>
                      <a:pt x="414" y="130"/>
                    </a:lnTo>
                    <a:lnTo>
                      <a:pt x="417" y="120"/>
                    </a:lnTo>
                    <a:lnTo>
                      <a:pt x="421" y="109"/>
                    </a:lnTo>
                    <a:lnTo>
                      <a:pt x="421" y="109"/>
                    </a:lnTo>
                    <a:lnTo>
                      <a:pt x="421" y="105"/>
                    </a:lnTo>
                    <a:lnTo>
                      <a:pt x="421" y="91"/>
                    </a:lnTo>
                    <a:lnTo>
                      <a:pt x="421" y="80"/>
                    </a:lnTo>
                    <a:lnTo>
                      <a:pt x="421" y="65"/>
                    </a:lnTo>
                    <a:lnTo>
                      <a:pt x="421" y="65"/>
                    </a:lnTo>
                    <a:lnTo>
                      <a:pt x="421" y="65"/>
                    </a:lnTo>
                    <a:lnTo>
                      <a:pt x="417" y="54"/>
                    </a:lnTo>
                    <a:lnTo>
                      <a:pt x="414" y="40"/>
                    </a:lnTo>
                    <a:lnTo>
                      <a:pt x="414" y="40"/>
                    </a:lnTo>
                    <a:lnTo>
                      <a:pt x="410" y="36"/>
                    </a:lnTo>
                    <a:lnTo>
                      <a:pt x="407" y="33"/>
                    </a:lnTo>
                    <a:lnTo>
                      <a:pt x="403" y="29"/>
                    </a:lnTo>
                    <a:lnTo>
                      <a:pt x="396" y="22"/>
                    </a:lnTo>
                    <a:lnTo>
                      <a:pt x="392" y="18"/>
                    </a:lnTo>
                    <a:lnTo>
                      <a:pt x="388" y="14"/>
                    </a:lnTo>
                    <a:lnTo>
                      <a:pt x="388" y="14"/>
                    </a:lnTo>
                    <a:lnTo>
                      <a:pt x="388" y="14"/>
                    </a:lnTo>
                    <a:lnTo>
                      <a:pt x="381" y="11"/>
                    </a:lnTo>
                    <a:lnTo>
                      <a:pt x="374" y="7"/>
                    </a:lnTo>
                    <a:lnTo>
                      <a:pt x="367" y="4"/>
                    </a:lnTo>
                    <a:lnTo>
                      <a:pt x="356" y="0"/>
                    </a:lnTo>
                    <a:lnTo>
                      <a:pt x="356" y="0"/>
                    </a:lnTo>
                    <a:lnTo>
                      <a:pt x="352" y="0"/>
                    </a:lnTo>
                    <a:lnTo>
                      <a:pt x="345" y="0"/>
                    </a:lnTo>
                    <a:lnTo>
                      <a:pt x="334" y="0"/>
                    </a:lnTo>
                    <a:lnTo>
                      <a:pt x="323" y="0"/>
                    </a:lnTo>
                    <a:lnTo>
                      <a:pt x="316" y="0"/>
                    </a:lnTo>
                    <a:lnTo>
                      <a:pt x="305" y="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298" y="0"/>
                    </a:lnTo>
                    <a:lnTo>
                      <a:pt x="290" y="4"/>
                    </a:lnTo>
                    <a:lnTo>
                      <a:pt x="290" y="7"/>
                    </a:lnTo>
                    <a:lnTo>
                      <a:pt x="290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83" y="4"/>
                    </a:lnTo>
                    <a:lnTo>
                      <a:pt x="276" y="7"/>
                    </a:lnTo>
                    <a:lnTo>
                      <a:pt x="269" y="11"/>
                    </a:lnTo>
                    <a:lnTo>
                      <a:pt x="261" y="14"/>
                    </a:lnTo>
                    <a:lnTo>
                      <a:pt x="261" y="14"/>
                    </a:lnTo>
                    <a:lnTo>
                      <a:pt x="258" y="14"/>
                    </a:lnTo>
                    <a:lnTo>
                      <a:pt x="254" y="18"/>
                    </a:lnTo>
                    <a:lnTo>
                      <a:pt x="258" y="22"/>
                    </a:lnTo>
                    <a:lnTo>
                      <a:pt x="258" y="18"/>
                    </a:lnTo>
                    <a:lnTo>
                      <a:pt x="251" y="22"/>
                    </a:lnTo>
                    <a:lnTo>
                      <a:pt x="251" y="22"/>
                    </a:lnTo>
                    <a:lnTo>
                      <a:pt x="247" y="22"/>
                    </a:lnTo>
                    <a:lnTo>
                      <a:pt x="243" y="25"/>
                    </a:lnTo>
                    <a:lnTo>
                      <a:pt x="243" y="29"/>
                    </a:lnTo>
                    <a:lnTo>
                      <a:pt x="243" y="29"/>
                    </a:lnTo>
                    <a:lnTo>
                      <a:pt x="240" y="36"/>
                    </a:lnTo>
                    <a:lnTo>
                      <a:pt x="243" y="36"/>
                    </a:lnTo>
                    <a:lnTo>
                      <a:pt x="240" y="33"/>
                    </a:lnTo>
                    <a:lnTo>
                      <a:pt x="232" y="40"/>
                    </a:lnTo>
                    <a:lnTo>
                      <a:pt x="232" y="43"/>
                    </a:lnTo>
                    <a:lnTo>
                      <a:pt x="232" y="43"/>
                    </a:lnTo>
                    <a:lnTo>
                      <a:pt x="229" y="58"/>
                    </a:lnTo>
                    <a:lnTo>
                      <a:pt x="225" y="69"/>
                    </a:lnTo>
                    <a:lnTo>
                      <a:pt x="225" y="69"/>
                    </a:lnTo>
                    <a:lnTo>
                      <a:pt x="225" y="69"/>
                    </a:lnTo>
                    <a:lnTo>
                      <a:pt x="225" y="80"/>
                    </a:lnTo>
                    <a:lnTo>
                      <a:pt x="225" y="91"/>
                    </a:lnTo>
                    <a:lnTo>
                      <a:pt x="225" y="105"/>
                    </a:lnTo>
                    <a:lnTo>
                      <a:pt x="225" y="109"/>
                    </a:lnTo>
                    <a:lnTo>
                      <a:pt x="225" y="109"/>
                    </a:lnTo>
                    <a:lnTo>
                      <a:pt x="229" y="120"/>
                    </a:lnTo>
                    <a:lnTo>
                      <a:pt x="232" y="130"/>
                    </a:lnTo>
                    <a:lnTo>
                      <a:pt x="232" y="130"/>
                    </a:lnTo>
                    <a:lnTo>
                      <a:pt x="232" y="130"/>
                    </a:lnTo>
                    <a:lnTo>
                      <a:pt x="240" y="138"/>
                    </a:lnTo>
                    <a:lnTo>
                      <a:pt x="243" y="134"/>
                    </a:lnTo>
                    <a:lnTo>
                      <a:pt x="240" y="138"/>
                    </a:lnTo>
                    <a:lnTo>
                      <a:pt x="247" y="149"/>
                    </a:lnTo>
                    <a:lnTo>
                      <a:pt x="247" y="149"/>
                    </a:lnTo>
                    <a:lnTo>
                      <a:pt x="247" y="149"/>
                    </a:lnTo>
                    <a:lnTo>
                      <a:pt x="254" y="156"/>
                    </a:lnTo>
                    <a:lnTo>
                      <a:pt x="258" y="152"/>
                    </a:lnTo>
                    <a:lnTo>
                      <a:pt x="254" y="156"/>
                    </a:lnTo>
                    <a:lnTo>
                      <a:pt x="261" y="167"/>
                    </a:lnTo>
                    <a:lnTo>
                      <a:pt x="265" y="178"/>
                    </a:lnTo>
                    <a:lnTo>
                      <a:pt x="269" y="185"/>
                    </a:lnTo>
                    <a:lnTo>
                      <a:pt x="272" y="196"/>
                    </a:lnTo>
                    <a:lnTo>
                      <a:pt x="276" y="192"/>
                    </a:lnTo>
                    <a:lnTo>
                      <a:pt x="272" y="192"/>
                    </a:lnTo>
                    <a:lnTo>
                      <a:pt x="272" y="203"/>
                    </a:lnTo>
                    <a:lnTo>
                      <a:pt x="276" y="203"/>
                    </a:lnTo>
                    <a:lnTo>
                      <a:pt x="272" y="203"/>
                    </a:lnTo>
                    <a:lnTo>
                      <a:pt x="269" y="214"/>
                    </a:lnTo>
                    <a:lnTo>
                      <a:pt x="269" y="214"/>
                    </a:lnTo>
                    <a:lnTo>
                      <a:pt x="269" y="214"/>
                    </a:lnTo>
                    <a:lnTo>
                      <a:pt x="269" y="225"/>
                    </a:lnTo>
                    <a:lnTo>
                      <a:pt x="272" y="225"/>
                    </a:lnTo>
                    <a:lnTo>
                      <a:pt x="269" y="225"/>
                    </a:lnTo>
                    <a:lnTo>
                      <a:pt x="261" y="236"/>
                    </a:lnTo>
                    <a:lnTo>
                      <a:pt x="258" y="243"/>
                    </a:lnTo>
                    <a:lnTo>
                      <a:pt x="251" y="254"/>
                    </a:lnTo>
                    <a:lnTo>
                      <a:pt x="254" y="254"/>
                    </a:lnTo>
                    <a:lnTo>
                      <a:pt x="254" y="250"/>
                    </a:lnTo>
                    <a:lnTo>
                      <a:pt x="243" y="257"/>
                    </a:lnTo>
                    <a:lnTo>
                      <a:pt x="232" y="265"/>
                    </a:lnTo>
                    <a:lnTo>
                      <a:pt x="222" y="272"/>
                    </a:lnTo>
                    <a:lnTo>
                      <a:pt x="203" y="279"/>
                    </a:lnTo>
                    <a:lnTo>
                      <a:pt x="203" y="283"/>
                    </a:lnTo>
                    <a:lnTo>
                      <a:pt x="203" y="279"/>
                    </a:lnTo>
                    <a:lnTo>
                      <a:pt x="189" y="283"/>
                    </a:lnTo>
                    <a:lnTo>
                      <a:pt x="178" y="283"/>
                    </a:lnTo>
                    <a:lnTo>
                      <a:pt x="160" y="283"/>
                    </a:lnTo>
                    <a:lnTo>
                      <a:pt x="142" y="283"/>
                    </a:lnTo>
                    <a:lnTo>
                      <a:pt x="120" y="283"/>
                    </a:lnTo>
                    <a:lnTo>
                      <a:pt x="98" y="283"/>
                    </a:lnTo>
                    <a:lnTo>
                      <a:pt x="73" y="283"/>
                    </a:lnTo>
                    <a:lnTo>
                      <a:pt x="48" y="283"/>
                    </a:lnTo>
                    <a:lnTo>
                      <a:pt x="22" y="283"/>
                    </a:lnTo>
                    <a:lnTo>
                      <a:pt x="19" y="283"/>
                    </a:lnTo>
                    <a:lnTo>
                      <a:pt x="19" y="286"/>
                    </a:lnTo>
                    <a:lnTo>
                      <a:pt x="15" y="305"/>
                    </a:lnTo>
                    <a:lnTo>
                      <a:pt x="11" y="330"/>
                    </a:lnTo>
                    <a:lnTo>
                      <a:pt x="8" y="359"/>
                    </a:lnTo>
                    <a:lnTo>
                      <a:pt x="4" y="388"/>
                    </a:lnTo>
                    <a:lnTo>
                      <a:pt x="0" y="417"/>
                    </a:lnTo>
                    <a:lnTo>
                      <a:pt x="0" y="442"/>
                    </a:lnTo>
                    <a:lnTo>
                      <a:pt x="0" y="464"/>
                    </a:lnTo>
                    <a:lnTo>
                      <a:pt x="0" y="479"/>
                    </a:lnTo>
                    <a:lnTo>
                      <a:pt x="0" y="482"/>
                    </a:lnTo>
                    <a:lnTo>
                      <a:pt x="0" y="482"/>
                    </a:lnTo>
                    <a:lnTo>
                      <a:pt x="4" y="490"/>
                    </a:lnTo>
                    <a:lnTo>
                      <a:pt x="8" y="497"/>
                    </a:lnTo>
                    <a:lnTo>
                      <a:pt x="8" y="497"/>
                    </a:lnTo>
                    <a:lnTo>
                      <a:pt x="8" y="497"/>
                    </a:lnTo>
                    <a:lnTo>
                      <a:pt x="11" y="500"/>
                    </a:lnTo>
                    <a:lnTo>
                      <a:pt x="19" y="508"/>
                    </a:lnTo>
                    <a:lnTo>
                      <a:pt x="22" y="511"/>
                    </a:lnTo>
                    <a:lnTo>
                      <a:pt x="22" y="511"/>
                    </a:lnTo>
                    <a:lnTo>
                      <a:pt x="29" y="515"/>
                    </a:lnTo>
                    <a:lnTo>
                      <a:pt x="37" y="519"/>
                    </a:lnTo>
                    <a:lnTo>
                      <a:pt x="48" y="522"/>
                    </a:lnTo>
                    <a:lnTo>
                      <a:pt x="55" y="526"/>
                    </a:lnTo>
                    <a:lnTo>
                      <a:pt x="55" y="526"/>
                    </a:lnTo>
                    <a:lnTo>
                      <a:pt x="55" y="526"/>
                    </a:lnTo>
                    <a:lnTo>
                      <a:pt x="66" y="526"/>
                    </a:lnTo>
                    <a:lnTo>
                      <a:pt x="77" y="526"/>
                    </a:lnTo>
                    <a:lnTo>
                      <a:pt x="84" y="526"/>
                    </a:lnTo>
                    <a:lnTo>
                      <a:pt x="95" y="526"/>
                    </a:lnTo>
                    <a:lnTo>
                      <a:pt x="95" y="526"/>
                    </a:lnTo>
                    <a:lnTo>
                      <a:pt x="98" y="526"/>
                    </a:lnTo>
                    <a:lnTo>
                      <a:pt x="109" y="522"/>
                    </a:lnTo>
                    <a:lnTo>
                      <a:pt x="116" y="519"/>
                    </a:lnTo>
                    <a:lnTo>
                      <a:pt x="124" y="515"/>
                    </a:lnTo>
                    <a:lnTo>
                      <a:pt x="124" y="515"/>
                    </a:lnTo>
                    <a:lnTo>
                      <a:pt x="124" y="511"/>
                    </a:lnTo>
                    <a:lnTo>
                      <a:pt x="131" y="504"/>
                    </a:lnTo>
                    <a:lnTo>
                      <a:pt x="127" y="500"/>
                    </a:lnTo>
                    <a:lnTo>
                      <a:pt x="131" y="508"/>
                    </a:lnTo>
                    <a:lnTo>
                      <a:pt x="138" y="504"/>
                    </a:lnTo>
                    <a:lnTo>
                      <a:pt x="138" y="504"/>
                    </a:lnTo>
                    <a:lnTo>
                      <a:pt x="138" y="500"/>
                    </a:lnTo>
                    <a:lnTo>
                      <a:pt x="145" y="493"/>
                    </a:lnTo>
                    <a:lnTo>
                      <a:pt x="142" y="490"/>
                    </a:lnTo>
                    <a:lnTo>
                      <a:pt x="142" y="497"/>
                    </a:lnTo>
                    <a:lnTo>
                      <a:pt x="153" y="497"/>
                    </a:lnTo>
                    <a:lnTo>
                      <a:pt x="153" y="497"/>
                    </a:lnTo>
                    <a:lnTo>
                      <a:pt x="156" y="497"/>
                    </a:lnTo>
                    <a:lnTo>
                      <a:pt x="164" y="493"/>
                    </a:lnTo>
                    <a:lnTo>
                      <a:pt x="160" y="486"/>
                    </a:lnTo>
                    <a:lnTo>
                      <a:pt x="160" y="493"/>
                    </a:lnTo>
                    <a:lnTo>
                      <a:pt x="171" y="493"/>
                    </a:lnTo>
                    <a:lnTo>
                      <a:pt x="182" y="493"/>
                    </a:lnTo>
                    <a:lnTo>
                      <a:pt x="182" y="486"/>
                    </a:lnTo>
                    <a:lnTo>
                      <a:pt x="182" y="493"/>
                    </a:lnTo>
                    <a:lnTo>
                      <a:pt x="193" y="497"/>
                    </a:lnTo>
                    <a:lnTo>
                      <a:pt x="203" y="500"/>
                    </a:lnTo>
                    <a:lnTo>
                      <a:pt x="211" y="504"/>
                    </a:lnTo>
                    <a:lnTo>
                      <a:pt x="222" y="511"/>
                    </a:lnTo>
                    <a:lnTo>
                      <a:pt x="222" y="504"/>
                    </a:lnTo>
                    <a:lnTo>
                      <a:pt x="218" y="508"/>
                    </a:lnTo>
                    <a:lnTo>
                      <a:pt x="225" y="515"/>
                    </a:lnTo>
                    <a:lnTo>
                      <a:pt x="229" y="511"/>
                    </a:lnTo>
                    <a:lnTo>
                      <a:pt x="225" y="515"/>
                    </a:lnTo>
                    <a:lnTo>
                      <a:pt x="232" y="526"/>
                    </a:lnTo>
                    <a:lnTo>
                      <a:pt x="240" y="537"/>
                    </a:lnTo>
                    <a:lnTo>
                      <a:pt x="243" y="548"/>
                    </a:lnTo>
                    <a:lnTo>
                      <a:pt x="247" y="562"/>
                    </a:lnTo>
                    <a:lnTo>
                      <a:pt x="251" y="558"/>
                    </a:lnTo>
                    <a:lnTo>
                      <a:pt x="247" y="558"/>
                    </a:lnTo>
                    <a:lnTo>
                      <a:pt x="247" y="573"/>
                    </a:lnTo>
                    <a:lnTo>
                      <a:pt x="247" y="584"/>
                    </a:lnTo>
                    <a:lnTo>
                      <a:pt x="251" y="584"/>
                    </a:lnTo>
                    <a:lnTo>
                      <a:pt x="247" y="584"/>
                    </a:lnTo>
                    <a:lnTo>
                      <a:pt x="243" y="591"/>
                    </a:lnTo>
                    <a:lnTo>
                      <a:pt x="240" y="602"/>
                    </a:lnTo>
                    <a:lnTo>
                      <a:pt x="243" y="602"/>
                    </a:lnTo>
                    <a:lnTo>
                      <a:pt x="240" y="598"/>
                    </a:lnTo>
                    <a:lnTo>
                      <a:pt x="232" y="606"/>
                    </a:lnTo>
                    <a:lnTo>
                      <a:pt x="225" y="613"/>
                    </a:lnTo>
                    <a:lnTo>
                      <a:pt x="218" y="620"/>
                    </a:lnTo>
                    <a:lnTo>
                      <a:pt x="222" y="624"/>
                    </a:lnTo>
                    <a:lnTo>
                      <a:pt x="222" y="620"/>
                    </a:lnTo>
                    <a:lnTo>
                      <a:pt x="211" y="624"/>
                    </a:lnTo>
                    <a:lnTo>
                      <a:pt x="203" y="627"/>
                    </a:lnTo>
                    <a:lnTo>
                      <a:pt x="193" y="631"/>
                    </a:lnTo>
                    <a:lnTo>
                      <a:pt x="182" y="635"/>
                    </a:lnTo>
                    <a:lnTo>
                      <a:pt x="182" y="638"/>
                    </a:lnTo>
                    <a:lnTo>
                      <a:pt x="182" y="635"/>
                    </a:lnTo>
                    <a:lnTo>
                      <a:pt x="171" y="635"/>
                    </a:lnTo>
                    <a:lnTo>
                      <a:pt x="160" y="635"/>
                    </a:lnTo>
                    <a:lnTo>
                      <a:pt x="160" y="638"/>
                    </a:lnTo>
                    <a:lnTo>
                      <a:pt x="164" y="635"/>
                    </a:lnTo>
                    <a:lnTo>
                      <a:pt x="156" y="631"/>
                    </a:lnTo>
                    <a:lnTo>
                      <a:pt x="145" y="627"/>
                    </a:lnTo>
                    <a:lnTo>
                      <a:pt x="142" y="631"/>
                    </a:lnTo>
                    <a:lnTo>
                      <a:pt x="145" y="627"/>
                    </a:lnTo>
                    <a:lnTo>
                      <a:pt x="138" y="620"/>
                    </a:lnTo>
                    <a:lnTo>
                      <a:pt x="131" y="613"/>
                    </a:lnTo>
                    <a:lnTo>
                      <a:pt x="124" y="606"/>
                    </a:lnTo>
                    <a:lnTo>
                      <a:pt x="124" y="606"/>
                    </a:lnTo>
                    <a:lnTo>
                      <a:pt x="124" y="606"/>
                    </a:lnTo>
                    <a:lnTo>
                      <a:pt x="116" y="602"/>
                    </a:lnTo>
                    <a:lnTo>
                      <a:pt x="109" y="598"/>
                    </a:lnTo>
                    <a:lnTo>
                      <a:pt x="102" y="595"/>
                    </a:lnTo>
                    <a:lnTo>
                      <a:pt x="102" y="595"/>
                    </a:lnTo>
                    <a:lnTo>
                      <a:pt x="98" y="595"/>
                    </a:lnTo>
                    <a:lnTo>
                      <a:pt x="91" y="595"/>
                    </a:lnTo>
                    <a:lnTo>
                      <a:pt x="84" y="595"/>
                    </a:lnTo>
                    <a:lnTo>
                      <a:pt x="73" y="595"/>
                    </a:lnTo>
                    <a:lnTo>
                      <a:pt x="66" y="595"/>
                    </a:lnTo>
                    <a:lnTo>
                      <a:pt x="66" y="595"/>
                    </a:lnTo>
                    <a:lnTo>
                      <a:pt x="62" y="595"/>
                    </a:lnTo>
                    <a:lnTo>
                      <a:pt x="55" y="602"/>
                    </a:lnTo>
                    <a:lnTo>
                      <a:pt x="58" y="606"/>
                    </a:lnTo>
                    <a:lnTo>
                      <a:pt x="58" y="602"/>
                    </a:lnTo>
                    <a:lnTo>
                      <a:pt x="48" y="606"/>
                    </a:lnTo>
                    <a:lnTo>
                      <a:pt x="40" y="609"/>
                    </a:lnTo>
                    <a:lnTo>
                      <a:pt x="40" y="609"/>
                    </a:lnTo>
                    <a:lnTo>
                      <a:pt x="37" y="609"/>
                    </a:lnTo>
                    <a:lnTo>
                      <a:pt x="29" y="617"/>
                    </a:lnTo>
                    <a:lnTo>
                      <a:pt x="22" y="624"/>
                    </a:lnTo>
                    <a:lnTo>
                      <a:pt x="22" y="627"/>
                    </a:lnTo>
                    <a:lnTo>
                      <a:pt x="22" y="627"/>
                    </a:lnTo>
                    <a:lnTo>
                      <a:pt x="19" y="635"/>
                    </a:lnTo>
                    <a:lnTo>
                      <a:pt x="22" y="635"/>
                    </a:lnTo>
                    <a:lnTo>
                      <a:pt x="19" y="631"/>
                    </a:lnTo>
                    <a:lnTo>
                      <a:pt x="11" y="638"/>
                    </a:lnTo>
                    <a:lnTo>
                      <a:pt x="11" y="642"/>
                    </a:lnTo>
                    <a:lnTo>
                      <a:pt x="11" y="642"/>
                    </a:lnTo>
                    <a:lnTo>
                      <a:pt x="8" y="653"/>
                    </a:lnTo>
                    <a:lnTo>
                      <a:pt x="4" y="660"/>
                    </a:lnTo>
                    <a:lnTo>
                      <a:pt x="4" y="660"/>
                    </a:lnTo>
                    <a:lnTo>
                      <a:pt x="4" y="660"/>
                    </a:lnTo>
                    <a:lnTo>
                      <a:pt x="4" y="675"/>
                    </a:lnTo>
                    <a:lnTo>
                      <a:pt x="4" y="685"/>
                    </a:lnTo>
                    <a:lnTo>
                      <a:pt x="4" y="685"/>
                    </a:lnTo>
                    <a:lnTo>
                      <a:pt x="4" y="689"/>
                    </a:lnTo>
                    <a:lnTo>
                      <a:pt x="8" y="704"/>
                    </a:lnTo>
                    <a:lnTo>
                      <a:pt x="11" y="700"/>
                    </a:lnTo>
                    <a:lnTo>
                      <a:pt x="8" y="700"/>
                    </a:lnTo>
                    <a:lnTo>
                      <a:pt x="11" y="733"/>
                    </a:lnTo>
                    <a:lnTo>
                      <a:pt x="19" y="769"/>
                    </a:lnTo>
                    <a:lnTo>
                      <a:pt x="22" y="787"/>
                    </a:lnTo>
                    <a:lnTo>
                      <a:pt x="22" y="798"/>
                    </a:lnTo>
                    <a:lnTo>
                      <a:pt x="22" y="791"/>
                    </a:lnTo>
                    <a:lnTo>
                      <a:pt x="26" y="805"/>
                    </a:lnTo>
                    <a:lnTo>
                      <a:pt x="29" y="802"/>
                    </a:lnTo>
                    <a:lnTo>
                      <a:pt x="26" y="802"/>
                    </a:lnTo>
                    <a:lnTo>
                      <a:pt x="26" y="820"/>
                    </a:lnTo>
                    <a:lnTo>
                      <a:pt x="29" y="838"/>
                    </a:lnTo>
                    <a:lnTo>
                      <a:pt x="29" y="852"/>
                    </a:lnTo>
                    <a:lnTo>
                      <a:pt x="33" y="852"/>
                    </a:lnTo>
                    <a:lnTo>
                      <a:pt x="29" y="852"/>
                    </a:lnTo>
                    <a:lnTo>
                      <a:pt x="26" y="867"/>
                    </a:lnTo>
                    <a:lnTo>
                      <a:pt x="26" y="867"/>
                    </a:lnTo>
                    <a:lnTo>
                      <a:pt x="26" y="867"/>
                    </a:lnTo>
                    <a:lnTo>
                      <a:pt x="26" y="874"/>
                    </a:lnTo>
                    <a:lnTo>
                      <a:pt x="29" y="874"/>
                    </a:lnTo>
                    <a:lnTo>
                      <a:pt x="26" y="874"/>
                    </a:lnTo>
                    <a:lnTo>
                      <a:pt x="22" y="881"/>
                    </a:lnTo>
                    <a:lnTo>
                      <a:pt x="22" y="881"/>
                    </a:lnTo>
                    <a:lnTo>
                      <a:pt x="22" y="881"/>
                    </a:lnTo>
                    <a:lnTo>
                      <a:pt x="22" y="889"/>
                    </a:lnTo>
                    <a:lnTo>
                      <a:pt x="26" y="889"/>
                    </a:lnTo>
                    <a:lnTo>
                      <a:pt x="22" y="885"/>
                    </a:lnTo>
                    <a:lnTo>
                      <a:pt x="19" y="889"/>
                    </a:lnTo>
                    <a:lnTo>
                      <a:pt x="8" y="899"/>
                    </a:lnTo>
                    <a:lnTo>
                      <a:pt x="22" y="899"/>
                    </a:lnTo>
                    <a:lnTo>
                      <a:pt x="48" y="896"/>
                    </a:lnTo>
                    <a:lnTo>
                      <a:pt x="51" y="892"/>
                    </a:lnTo>
                    <a:lnTo>
                      <a:pt x="51" y="896"/>
                    </a:lnTo>
                    <a:lnTo>
                      <a:pt x="77" y="889"/>
                    </a:lnTo>
                    <a:lnTo>
                      <a:pt x="73" y="881"/>
                    </a:lnTo>
                    <a:lnTo>
                      <a:pt x="73" y="889"/>
                    </a:lnTo>
                    <a:lnTo>
                      <a:pt x="98" y="889"/>
                    </a:lnTo>
                    <a:lnTo>
                      <a:pt x="120" y="885"/>
                    </a:lnTo>
                    <a:lnTo>
                      <a:pt x="145" y="881"/>
                    </a:lnTo>
                    <a:lnTo>
                      <a:pt x="167" y="881"/>
                    </a:lnTo>
                    <a:lnTo>
                      <a:pt x="167" y="874"/>
                    </a:lnTo>
                    <a:lnTo>
                      <a:pt x="167" y="881"/>
                    </a:lnTo>
                    <a:lnTo>
                      <a:pt x="178" y="885"/>
                    </a:lnTo>
                    <a:lnTo>
                      <a:pt x="178" y="885"/>
                    </a:lnTo>
                    <a:lnTo>
                      <a:pt x="178" y="885"/>
                    </a:lnTo>
                    <a:lnTo>
                      <a:pt x="189" y="885"/>
                    </a:lnTo>
                    <a:lnTo>
                      <a:pt x="189" y="878"/>
                    </a:lnTo>
                    <a:lnTo>
                      <a:pt x="189" y="885"/>
                    </a:lnTo>
                    <a:lnTo>
                      <a:pt x="196" y="889"/>
                    </a:lnTo>
                    <a:lnTo>
                      <a:pt x="207" y="892"/>
                    </a:lnTo>
                    <a:lnTo>
                      <a:pt x="200" y="889"/>
                    </a:lnTo>
                    <a:lnTo>
                      <a:pt x="207" y="892"/>
                    </a:lnTo>
                    <a:lnTo>
                      <a:pt x="222" y="896"/>
                    </a:lnTo>
                    <a:close/>
                    <a:moveTo>
                      <a:pt x="207" y="881"/>
                    </a:moveTo>
                    <a:lnTo>
                      <a:pt x="207" y="885"/>
                    </a:lnTo>
                    <a:lnTo>
                      <a:pt x="211" y="881"/>
                    </a:lnTo>
                    <a:lnTo>
                      <a:pt x="200" y="878"/>
                    </a:lnTo>
                    <a:lnTo>
                      <a:pt x="193" y="874"/>
                    </a:lnTo>
                    <a:lnTo>
                      <a:pt x="193" y="874"/>
                    </a:lnTo>
                    <a:lnTo>
                      <a:pt x="189" y="874"/>
                    </a:lnTo>
                    <a:lnTo>
                      <a:pt x="178" y="874"/>
                    </a:lnTo>
                    <a:lnTo>
                      <a:pt x="178" y="878"/>
                    </a:lnTo>
                    <a:lnTo>
                      <a:pt x="182" y="874"/>
                    </a:lnTo>
                    <a:lnTo>
                      <a:pt x="171" y="870"/>
                    </a:lnTo>
                    <a:lnTo>
                      <a:pt x="171" y="870"/>
                    </a:lnTo>
                    <a:lnTo>
                      <a:pt x="167" y="870"/>
                    </a:lnTo>
                    <a:lnTo>
                      <a:pt x="145" y="870"/>
                    </a:lnTo>
                    <a:lnTo>
                      <a:pt x="120" y="874"/>
                    </a:lnTo>
                    <a:lnTo>
                      <a:pt x="98" y="878"/>
                    </a:lnTo>
                    <a:lnTo>
                      <a:pt x="73" y="878"/>
                    </a:lnTo>
                    <a:lnTo>
                      <a:pt x="73" y="878"/>
                    </a:lnTo>
                    <a:lnTo>
                      <a:pt x="73" y="878"/>
                    </a:lnTo>
                    <a:lnTo>
                      <a:pt x="48" y="885"/>
                    </a:lnTo>
                    <a:lnTo>
                      <a:pt x="48" y="889"/>
                    </a:lnTo>
                    <a:lnTo>
                      <a:pt x="48" y="885"/>
                    </a:lnTo>
                    <a:lnTo>
                      <a:pt x="22" y="889"/>
                    </a:lnTo>
                    <a:lnTo>
                      <a:pt x="22" y="892"/>
                    </a:lnTo>
                    <a:lnTo>
                      <a:pt x="26" y="896"/>
                    </a:lnTo>
                    <a:lnTo>
                      <a:pt x="29" y="892"/>
                    </a:lnTo>
                    <a:lnTo>
                      <a:pt x="33" y="892"/>
                    </a:lnTo>
                    <a:lnTo>
                      <a:pt x="33" y="889"/>
                    </a:lnTo>
                    <a:lnTo>
                      <a:pt x="33" y="881"/>
                    </a:lnTo>
                    <a:lnTo>
                      <a:pt x="26" y="881"/>
                    </a:lnTo>
                    <a:lnTo>
                      <a:pt x="33" y="885"/>
                    </a:lnTo>
                    <a:lnTo>
                      <a:pt x="37" y="878"/>
                    </a:lnTo>
                    <a:lnTo>
                      <a:pt x="37" y="878"/>
                    </a:lnTo>
                    <a:lnTo>
                      <a:pt x="37" y="874"/>
                    </a:lnTo>
                    <a:lnTo>
                      <a:pt x="37" y="867"/>
                    </a:lnTo>
                    <a:lnTo>
                      <a:pt x="29" y="867"/>
                    </a:lnTo>
                    <a:lnTo>
                      <a:pt x="37" y="870"/>
                    </a:lnTo>
                    <a:lnTo>
                      <a:pt x="40" y="856"/>
                    </a:lnTo>
                    <a:lnTo>
                      <a:pt x="40" y="856"/>
                    </a:lnTo>
                    <a:lnTo>
                      <a:pt x="40" y="852"/>
                    </a:lnTo>
                    <a:lnTo>
                      <a:pt x="40" y="838"/>
                    </a:lnTo>
                    <a:lnTo>
                      <a:pt x="37" y="820"/>
                    </a:lnTo>
                    <a:lnTo>
                      <a:pt x="37" y="802"/>
                    </a:lnTo>
                    <a:lnTo>
                      <a:pt x="37" y="802"/>
                    </a:lnTo>
                    <a:lnTo>
                      <a:pt x="37" y="802"/>
                    </a:lnTo>
                    <a:lnTo>
                      <a:pt x="33" y="787"/>
                    </a:lnTo>
                    <a:lnTo>
                      <a:pt x="26" y="787"/>
                    </a:lnTo>
                    <a:lnTo>
                      <a:pt x="33" y="787"/>
                    </a:lnTo>
                    <a:lnTo>
                      <a:pt x="29" y="769"/>
                    </a:lnTo>
                    <a:lnTo>
                      <a:pt x="22" y="733"/>
                    </a:lnTo>
                    <a:lnTo>
                      <a:pt x="19" y="700"/>
                    </a:lnTo>
                    <a:lnTo>
                      <a:pt x="15" y="696"/>
                    </a:lnTo>
                    <a:lnTo>
                      <a:pt x="19" y="700"/>
                    </a:lnTo>
                    <a:lnTo>
                      <a:pt x="15" y="685"/>
                    </a:lnTo>
                    <a:lnTo>
                      <a:pt x="8" y="685"/>
                    </a:lnTo>
                    <a:lnTo>
                      <a:pt x="15" y="685"/>
                    </a:lnTo>
                    <a:lnTo>
                      <a:pt x="15" y="675"/>
                    </a:lnTo>
                    <a:lnTo>
                      <a:pt x="15" y="660"/>
                    </a:lnTo>
                    <a:lnTo>
                      <a:pt x="8" y="660"/>
                    </a:lnTo>
                    <a:lnTo>
                      <a:pt x="15" y="664"/>
                    </a:lnTo>
                    <a:lnTo>
                      <a:pt x="19" y="656"/>
                    </a:lnTo>
                    <a:lnTo>
                      <a:pt x="22" y="646"/>
                    </a:lnTo>
                    <a:lnTo>
                      <a:pt x="15" y="642"/>
                    </a:lnTo>
                    <a:lnTo>
                      <a:pt x="19" y="646"/>
                    </a:lnTo>
                    <a:lnTo>
                      <a:pt x="26" y="638"/>
                    </a:lnTo>
                    <a:lnTo>
                      <a:pt x="29" y="638"/>
                    </a:lnTo>
                    <a:lnTo>
                      <a:pt x="29" y="638"/>
                    </a:lnTo>
                    <a:lnTo>
                      <a:pt x="33" y="631"/>
                    </a:lnTo>
                    <a:lnTo>
                      <a:pt x="26" y="627"/>
                    </a:lnTo>
                    <a:lnTo>
                      <a:pt x="29" y="631"/>
                    </a:lnTo>
                    <a:lnTo>
                      <a:pt x="37" y="624"/>
                    </a:lnTo>
                    <a:lnTo>
                      <a:pt x="44" y="617"/>
                    </a:lnTo>
                    <a:lnTo>
                      <a:pt x="40" y="613"/>
                    </a:lnTo>
                    <a:lnTo>
                      <a:pt x="44" y="620"/>
                    </a:lnTo>
                    <a:lnTo>
                      <a:pt x="51" y="617"/>
                    </a:lnTo>
                    <a:lnTo>
                      <a:pt x="62" y="613"/>
                    </a:lnTo>
                    <a:lnTo>
                      <a:pt x="62" y="613"/>
                    </a:lnTo>
                    <a:lnTo>
                      <a:pt x="62" y="609"/>
                    </a:lnTo>
                    <a:lnTo>
                      <a:pt x="69" y="602"/>
                    </a:lnTo>
                    <a:lnTo>
                      <a:pt x="66" y="598"/>
                    </a:lnTo>
                    <a:lnTo>
                      <a:pt x="66" y="606"/>
                    </a:lnTo>
                    <a:lnTo>
                      <a:pt x="73" y="606"/>
                    </a:lnTo>
                    <a:lnTo>
                      <a:pt x="84" y="606"/>
                    </a:lnTo>
                    <a:lnTo>
                      <a:pt x="91" y="606"/>
                    </a:lnTo>
                    <a:lnTo>
                      <a:pt x="98" y="606"/>
                    </a:lnTo>
                    <a:lnTo>
                      <a:pt x="98" y="598"/>
                    </a:lnTo>
                    <a:lnTo>
                      <a:pt x="98" y="606"/>
                    </a:lnTo>
                    <a:lnTo>
                      <a:pt x="106" y="609"/>
                    </a:lnTo>
                    <a:lnTo>
                      <a:pt x="113" y="613"/>
                    </a:lnTo>
                    <a:lnTo>
                      <a:pt x="120" y="617"/>
                    </a:lnTo>
                    <a:lnTo>
                      <a:pt x="120" y="609"/>
                    </a:lnTo>
                    <a:lnTo>
                      <a:pt x="116" y="613"/>
                    </a:lnTo>
                    <a:lnTo>
                      <a:pt x="124" y="620"/>
                    </a:lnTo>
                    <a:lnTo>
                      <a:pt x="131" y="627"/>
                    </a:lnTo>
                    <a:lnTo>
                      <a:pt x="138" y="635"/>
                    </a:lnTo>
                    <a:lnTo>
                      <a:pt x="142" y="638"/>
                    </a:lnTo>
                    <a:lnTo>
                      <a:pt x="142" y="638"/>
                    </a:lnTo>
                    <a:lnTo>
                      <a:pt x="153" y="642"/>
                    </a:lnTo>
                    <a:lnTo>
                      <a:pt x="160" y="646"/>
                    </a:lnTo>
                    <a:lnTo>
                      <a:pt x="160" y="646"/>
                    </a:lnTo>
                    <a:lnTo>
                      <a:pt x="160" y="646"/>
                    </a:lnTo>
                    <a:lnTo>
                      <a:pt x="171" y="646"/>
                    </a:lnTo>
                    <a:lnTo>
                      <a:pt x="182" y="646"/>
                    </a:lnTo>
                    <a:lnTo>
                      <a:pt x="185" y="646"/>
                    </a:lnTo>
                    <a:lnTo>
                      <a:pt x="185" y="646"/>
                    </a:lnTo>
                    <a:lnTo>
                      <a:pt x="196" y="642"/>
                    </a:lnTo>
                    <a:lnTo>
                      <a:pt x="207" y="638"/>
                    </a:lnTo>
                    <a:lnTo>
                      <a:pt x="214" y="635"/>
                    </a:lnTo>
                    <a:lnTo>
                      <a:pt x="225" y="631"/>
                    </a:lnTo>
                    <a:lnTo>
                      <a:pt x="225" y="631"/>
                    </a:lnTo>
                    <a:lnTo>
                      <a:pt x="225" y="627"/>
                    </a:lnTo>
                    <a:lnTo>
                      <a:pt x="232" y="620"/>
                    </a:lnTo>
                    <a:lnTo>
                      <a:pt x="240" y="613"/>
                    </a:lnTo>
                    <a:lnTo>
                      <a:pt x="247" y="606"/>
                    </a:lnTo>
                    <a:lnTo>
                      <a:pt x="251" y="606"/>
                    </a:lnTo>
                    <a:lnTo>
                      <a:pt x="251" y="606"/>
                    </a:lnTo>
                    <a:lnTo>
                      <a:pt x="254" y="595"/>
                    </a:lnTo>
                    <a:lnTo>
                      <a:pt x="258" y="588"/>
                    </a:lnTo>
                    <a:lnTo>
                      <a:pt x="258" y="588"/>
                    </a:lnTo>
                    <a:lnTo>
                      <a:pt x="258" y="584"/>
                    </a:lnTo>
                    <a:lnTo>
                      <a:pt x="258" y="573"/>
                    </a:lnTo>
                    <a:lnTo>
                      <a:pt x="258" y="558"/>
                    </a:lnTo>
                    <a:lnTo>
                      <a:pt x="258" y="558"/>
                    </a:lnTo>
                    <a:lnTo>
                      <a:pt x="258" y="558"/>
                    </a:lnTo>
                    <a:lnTo>
                      <a:pt x="254" y="544"/>
                    </a:lnTo>
                    <a:lnTo>
                      <a:pt x="251" y="533"/>
                    </a:lnTo>
                    <a:lnTo>
                      <a:pt x="243" y="522"/>
                    </a:lnTo>
                    <a:lnTo>
                      <a:pt x="236" y="511"/>
                    </a:lnTo>
                    <a:lnTo>
                      <a:pt x="236" y="511"/>
                    </a:lnTo>
                    <a:lnTo>
                      <a:pt x="232" y="508"/>
                    </a:lnTo>
                    <a:lnTo>
                      <a:pt x="225" y="500"/>
                    </a:lnTo>
                    <a:lnTo>
                      <a:pt x="225" y="500"/>
                    </a:lnTo>
                    <a:lnTo>
                      <a:pt x="225" y="500"/>
                    </a:lnTo>
                    <a:lnTo>
                      <a:pt x="214" y="493"/>
                    </a:lnTo>
                    <a:lnTo>
                      <a:pt x="207" y="490"/>
                    </a:lnTo>
                    <a:lnTo>
                      <a:pt x="196" y="486"/>
                    </a:lnTo>
                    <a:lnTo>
                      <a:pt x="185" y="482"/>
                    </a:lnTo>
                    <a:lnTo>
                      <a:pt x="185" y="482"/>
                    </a:lnTo>
                    <a:lnTo>
                      <a:pt x="182" y="482"/>
                    </a:lnTo>
                    <a:lnTo>
                      <a:pt x="171" y="482"/>
                    </a:lnTo>
                    <a:lnTo>
                      <a:pt x="160" y="482"/>
                    </a:lnTo>
                    <a:lnTo>
                      <a:pt x="160" y="482"/>
                    </a:lnTo>
                    <a:lnTo>
                      <a:pt x="160" y="482"/>
                    </a:lnTo>
                    <a:lnTo>
                      <a:pt x="153" y="486"/>
                    </a:lnTo>
                    <a:lnTo>
                      <a:pt x="153" y="490"/>
                    </a:lnTo>
                    <a:lnTo>
                      <a:pt x="153" y="486"/>
                    </a:lnTo>
                    <a:lnTo>
                      <a:pt x="142" y="486"/>
                    </a:lnTo>
                    <a:lnTo>
                      <a:pt x="142" y="486"/>
                    </a:lnTo>
                    <a:lnTo>
                      <a:pt x="138" y="486"/>
                    </a:lnTo>
                    <a:lnTo>
                      <a:pt x="131" y="493"/>
                    </a:lnTo>
                    <a:lnTo>
                      <a:pt x="135" y="497"/>
                    </a:lnTo>
                    <a:lnTo>
                      <a:pt x="135" y="493"/>
                    </a:lnTo>
                    <a:lnTo>
                      <a:pt x="127" y="497"/>
                    </a:lnTo>
                    <a:lnTo>
                      <a:pt x="127" y="497"/>
                    </a:lnTo>
                    <a:lnTo>
                      <a:pt x="124" y="497"/>
                    </a:lnTo>
                    <a:lnTo>
                      <a:pt x="116" y="504"/>
                    </a:lnTo>
                    <a:lnTo>
                      <a:pt x="120" y="508"/>
                    </a:lnTo>
                    <a:lnTo>
                      <a:pt x="120" y="504"/>
                    </a:lnTo>
                    <a:lnTo>
                      <a:pt x="113" y="508"/>
                    </a:lnTo>
                    <a:lnTo>
                      <a:pt x="106" y="511"/>
                    </a:lnTo>
                    <a:lnTo>
                      <a:pt x="95" y="515"/>
                    </a:lnTo>
                    <a:lnTo>
                      <a:pt x="95" y="519"/>
                    </a:lnTo>
                    <a:lnTo>
                      <a:pt x="95" y="515"/>
                    </a:lnTo>
                    <a:lnTo>
                      <a:pt x="84" y="515"/>
                    </a:lnTo>
                    <a:lnTo>
                      <a:pt x="77" y="515"/>
                    </a:lnTo>
                    <a:lnTo>
                      <a:pt x="66" y="515"/>
                    </a:lnTo>
                    <a:lnTo>
                      <a:pt x="55" y="515"/>
                    </a:lnTo>
                    <a:lnTo>
                      <a:pt x="55" y="519"/>
                    </a:lnTo>
                    <a:lnTo>
                      <a:pt x="58" y="515"/>
                    </a:lnTo>
                    <a:lnTo>
                      <a:pt x="51" y="511"/>
                    </a:lnTo>
                    <a:lnTo>
                      <a:pt x="40" y="508"/>
                    </a:lnTo>
                    <a:lnTo>
                      <a:pt x="33" y="504"/>
                    </a:lnTo>
                    <a:lnTo>
                      <a:pt x="26" y="500"/>
                    </a:lnTo>
                    <a:lnTo>
                      <a:pt x="22" y="504"/>
                    </a:lnTo>
                    <a:lnTo>
                      <a:pt x="26" y="500"/>
                    </a:lnTo>
                    <a:lnTo>
                      <a:pt x="19" y="493"/>
                    </a:lnTo>
                    <a:lnTo>
                      <a:pt x="15" y="490"/>
                    </a:lnTo>
                    <a:lnTo>
                      <a:pt x="11" y="493"/>
                    </a:lnTo>
                    <a:lnTo>
                      <a:pt x="19" y="493"/>
                    </a:lnTo>
                    <a:lnTo>
                      <a:pt x="15" y="486"/>
                    </a:lnTo>
                    <a:lnTo>
                      <a:pt x="11" y="479"/>
                    </a:lnTo>
                    <a:lnTo>
                      <a:pt x="4" y="479"/>
                    </a:lnTo>
                    <a:lnTo>
                      <a:pt x="11" y="479"/>
                    </a:lnTo>
                    <a:lnTo>
                      <a:pt x="11" y="464"/>
                    </a:lnTo>
                    <a:lnTo>
                      <a:pt x="11" y="442"/>
                    </a:lnTo>
                    <a:lnTo>
                      <a:pt x="11" y="417"/>
                    </a:lnTo>
                    <a:lnTo>
                      <a:pt x="15" y="388"/>
                    </a:lnTo>
                    <a:lnTo>
                      <a:pt x="19" y="359"/>
                    </a:lnTo>
                    <a:lnTo>
                      <a:pt x="22" y="330"/>
                    </a:lnTo>
                    <a:lnTo>
                      <a:pt x="26" y="305"/>
                    </a:lnTo>
                    <a:lnTo>
                      <a:pt x="29" y="286"/>
                    </a:lnTo>
                    <a:lnTo>
                      <a:pt x="22" y="286"/>
                    </a:lnTo>
                    <a:lnTo>
                      <a:pt x="22" y="294"/>
                    </a:lnTo>
                    <a:lnTo>
                      <a:pt x="48" y="294"/>
                    </a:lnTo>
                    <a:lnTo>
                      <a:pt x="73" y="294"/>
                    </a:lnTo>
                    <a:lnTo>
                      <a:pt x="98" y="294"/>
                    </a:lnTo>
                    <a:lnTo>
                      <a:pt x="120" y="294"/>
                    </a:lnTo>
                    <a:lnTo>
                      <a:pt x="142" y="294"/>
                    </a:lnTo>
                    <a:lnTo>
                      <a:pt x="160" y="294"/>
                    </a:lnTo>
                    <a:lnTo>
                      <a:pt x="178" y="294"/>
                    </a:lnTo>
                    <a:lnTo>
                      <a:pt x="189" y="294"/>
                    </a:lnTo>
                    <a:lnTo>
                      <a:pt x="203" y="290"/>
                    </a:lnTo>
                    <a:lnTo>
                      <a:pt x="207" y="286"/>
                    </a:lnTo>
                    <a:lnTo>
                      <a:pt x="207" y="290"/>
                    </a:lnTo>
                    <a:lnTo>
                      <a:pt x="225" y="283"/>
                    </a:lnTo>
                    <a:lnTo>
                      <a:pt x="236" y="276"/>
                    </a:lnTo>
                    <a:lnTo>
                      <a:pt x="247" y="268"/>
                    </a:lnTo>
                    <a:lnTo>
                      <a:pt x="258" y="261"/>
                    </a:lnTo>
                    <a:lnTo>
                      <a:pt x="258" y="257"/>
                    </a:lnTo>
                    <a:lnTo>
                      <a:pt x="261" y="257"/>
                    </a:lnTo>
                    <a:lnTo>
                      <a:pt x="269" y="247"/>
                    </a:lnTo>
                    <a:lnTo>
                      <a:pt x="272" y="239"/>
                    </a:lnTo>
                    <a:lnTo>
                      <a:pt x="280" y="228"/>
                    </a:lnTo>
                    <a:lnTo>
                      <a:pt x="280" y="228"/>
                    </a:lnTo>
                    <a:lnTo>
                      <a:pt x="280" y="225"/>
                    </a:lnTo>
                    <a:lnTo>
                      <a:pt x="280" y="214"/>
                    </a:lnTo>
                    <a:lnTo>
                      <a:pt x="272" y="214"/>
                    </a:lnTo>
                    <a:lnTo>
                      <a:pt x="280" y="218"/>
                    </a:lnTo>
                    <a:lnTo>
                      <a:pt x="283" y="207"/>
                    </a:lnTo>
                    <a:lnTo>
                      <a:pt x="283" y="207"/>
                    </a:lnTo>
                    <a:lnTo>
                      <a:pt x="283" y="203"/>
                    </a:lnTo>
                    <a:lnTo>
                      <a:pt x="283" y="192"/>
                    </a:lnTo>
                    <a:lnTo>
                      <a:pt x="283" y="192"/>
                    </a:lnTo>
                    <a:lnTo>
                      <a:pt x="283" y="192"/>
                    </a:lnTo>
                    <a:lnTo>
                      <a:pt x="280" y="181"/>
                    </a:lnTo>
                    <a:lnTo>
                      <a:pt x="276" y="174"/>
                    </a:lnTo>
                    <a:lnTo>
                      <a:pt x="272" y="163"/>
                    </a:lnTo>
                    <a:lnTo>
                      <a:pt x="265" y="152"/>
                    </a:lnTo>
                    <a:lnTo>
                      <a:pt x="265" y="152"/>
                    </a:lnTo>
                    <a:lnTo>
                      <a:pt x="261" y="149"/>
                    </a:lnTo>
                    <a:lnTo>
                      <a:pt x="254" y="141"/>
                    </a:lnTo>
                    <a:lnTo>
                      <a:pt x="251" y="145"/>
                    </a:lnTo>
                    <a:lnTo>
                      <a:pt x="258" y="145"/>
                    </a:lnTo>
                    <a:lnTo>
                      <a:pt x="251" y="134"/>
                    </a:lnTo>
                    <a:lnTo>
                      <a:pt x="251" y="134"/>
                    </a:lnTo>
                    <a:lnTo>
                      <a:pt x="247" y="130"/>
                    </a:lnTo>
                    <a:lnTo>
                      <a:pt x="240" y="123"/>
                    </a:lnTo>
                    <a:lnTo>
                      <a:pt x="236" y="127"/>
                    </a:lnTo>
                    <a:lnTo>
                      <a:pt x="243" y="127"/>
                    </a:lnTo>
                    <a:lnTo>
                      <a:pt x="240" y="116"/>
                    </a:lnTo>
                    <a:lnTo>
                      <a:pt x="236" y="105"/>
                    </a:lnTo>
                    <a:lnTo>
                      <a:pt x="229" y="105"/>
                    </a:lnTo>
                    <a:lnTo>
                      <a:pt x="236" y="105"/>
                    </a:lnTo>
                    <a:lnTo>
                      <a:pt x="236" y="91"/>
                    </a:lnTo>
                    <a:lnTo>
                      <a:pt x="236" y="80"/>
                    </a:lnTo>
                    <a:lnTo>
                      <a:pt x="236" y="69"/>
                    </a:lnTo>
                    <a:lnTo>
                      <a:pt x="229" y="69"/>
                    </a:lnTo>
                    <a:lnTo>
                      <a:pt x="236" y="72"/>
                    </a:lnTo>
                    <a:lnTo>
                      <a:pt x="240" y="62"/>
                    </a:lnTo>
                    <a:lnTo>
                      <a:pt x="243" y="47"/>
                    </a:lnTo>
                    <a:lnTo>
                      <a:pt x="236" y="43"/>
                    </a:lnTo>
                    <a:lnTo>
                      <a:pt x="240" y="47"/>
                    </a:lnTo>
                    <a:lnTo>
                      <a:pt x="247" y="40"/>
                    </a:lnTo>
                    <a:lnTo>
                      <a:pt x="251" y="40"/>
                    </a:lnTo>
                    <a:lnTo>
                      <a:pt x="251" y="40"/>
                    </a:lnTo>
                    <a:lnTo>
                      <a:pt x="254" y="33"/>
                    </a:lnTo>
                    <a:lnTo>
                      <a:pt x="247" y="29"/>
                    </a:lnTo>
                    <a:lnTo>
                      <a:pt x="251" y="33"/>
                    </a:lnTo>
                    <a:lnTo>
                      <a:pt x="254" y="29"/>
                    </a:lnTo>
                    <a:lnTo>
                      <a:pt x="251" y="25"/>
                    </a:lnTo>
                    <a:lnTo>
                      <a:pt x="254" y="33"/>
                    </a:lnTo>
                    <a:lnTo>
                      <a:pt x="261" y="29"/>
                    </a:lnTo>
                    <a:lnTo>
                      <a:pt x="261" y="29"/>
                    </a:lnTo>
                    <a:lnTo>
                      <a:pt x="261" y="25"/>
                    </a:lnTo>
                    <a:lnTo>
                      <a:pt x="265" y="22"/>
                    </a:lnTo>
                    <a:lnTo>
                      <a:pt x="261" y="18"/>
                    </a:lnTo>
                    <a:lnTo>
                      <a:pt x="265" y="25"/>
                    </a:lnTo>
                    <a:lnTo>
                      <a:pt x="272" y="22"/>
                    </a:lnTo>
                    <a:lnTo>
                      <a:pt x="280" y="18"/>
                    </a:lnTo>
                    <a:lnTo>
                      <a:pt x="287" y="14"/>
                    </a:lnTo>
                    <a:lnTo>
                      <a:pt x="283" y="7"/>
                    </a:lnTo>
                    <a:lnTo>
                      <a:pt x="283" y="14"/>
                    </a:lnTo>
                    <a:lnTo>
                      <a:pt x="290" y="14"/>
                    </a:lnTo>
                    <a:lnTo>
                      <a:pt x="294" y="14"/>
                    </a:lnTo>
                    <a:lnTo>
                      <a:pt x="294" y="14"/>
                    </a:lnTo>
                    <a:lnTo>
                      <a:pt x="301" y="11"/>
                    </a:lnTo>
                    <a:lnTo>
                      <a:pt x="298" y="4"/>
                    </a:lnTo>
                    <a:lnTo>
                      <a:pt x="298" y="11"/>
                    </a:lnTo>
                    <a:lnTo>
                      <a:pt x="305" y="11"/>
                    </a:lnTo>
                    <a:lnTo>
                      <a:pt x="316" y="11"/>
                    </a:lnTo>
                    <a:lnTo>
                      <a:pt x="323" y="11"/>
                    </a:lnTo>
                    <a:lnTo>
                      <a:pt x="334" y="11"/>
                    </a:lnTo>
                    <a:lnTo>
                      <a:pt x="345" y="11"/>
                    </a:lnTo>
                    <a:lnTo>
                      <a:pt x="352" y="11"/>
                    </a:lnTo>
                    <a:lnTo>
                      <a:pt x="352" y="4"/>
                    </a:lnTo>
                    <a:lnTo>
                      <a:pt x="352" y="11"/>
                    </a:lnTo>
                    <a:lnTo>
                      <a:pt x="363" y="14"/>
                    </a:lnTo>
                    <a:lnTo>
                      <a:pt x="370" y="18"/>
                    </a:lnTo>
                    <a:lnTo>
                      <a:pt x="378" y="22"/>
                    </a:lnTo>
                    <a:lnTo>
                      <a:pt x="385" y="25"/>
                    </a:lnTo>
                    <a:lnTo>
                      <a:pt x="385" y="18"/>
                    </a:lnTo>
                    <a:lnTo>
                      <a:pt x="381" y="22"/>
                    </a:lnTo>
                    <a:lnTo>
                      <a:pt x="385" y="25"/>
                    </a:lnTo>
                    <a:lnTo>
                      <a:pt x="388" y="29"/>
                    </a:lnTo>
                    <a:lnTo>
                      <a:pt x="396" y="36"/>
                    </a:lnTo>
                    <a:lnTo>
                      <a:pt x="399" y="40"/>
                    </a:lnTo>
                    <a:lnTo>
                      <a:pt x="403" y="43"/>
                    </a:lnTo>
                    <a:lnTo>
                      <a:pt x="407" y="40"/>
                    </a:lnTo>
                    <a:lnTo>
                      <a:pt x="403" y="43"/>
                    </a:lnTo>
                    <a:lnTo>
                      <a:pt x="407" y="58"/>
                    </a:lnTo>
                    <a:lnTo>
                      <a:pt x="410" y="69"/>
                    </a:lnTo>
                    <a:lnTo>
                      <a:pt x="414" y="65"/>
                    </a:lnTo>
                    <a:lnTo>
                      <a:pt x="410" y="65"/>
                    </a:lnTo>
                    <a:lnTo>
                      <a:pt x="410" y="80"/>
                    </a:lnTo>
                    <a:lnTo>
                      <a:pt x="410" y="91"/>
                    </a:lnTo>
                    <a:lnTo>
                      <a:pt x="410" y="105"/>
                    </a:lnTo>
                    <a:lnTo>
                      <a:pt x="414" y="105"/>
                    </a:lnTo>
                    <a:lnTo>
                      <a:pt x="410" y="105"/>
                    </a:lnTo>
                    <a:lnTo>
                      <a:pt x="407" y="116"/>
                    </a:lnTo>
                    <a:lnTo>
                      <a:pt x="403" y="127"/>
                    </a:lnTo>
                    <a:lnTo>
                      <a:pt x="396" y="138"/>
                    </a:lnTo>
                    <a:lnTo>
                      <a:pt x="392" y="145"/>
                    </a:lnTo>
                    <a:lnTo>
                      <a:pt x="396" y="145"/>
                    </a:lnTo>
                    <a:lnTo>
                      <a:pt x="392" y="141"/>
                    </a:lnTo>
                    <a:lnTo>
                      <a:pt x="385" y="149"/>
                    </a:lnTo>
                    <a:lnTo>
                      <a:pt x="378" y="156"/>
                    </a:lnTo>
                    <a:lnTo>
                      <a:pt x="378" y="159"/>
                    </a:lnTo>
                    <a:lnTo>
                      <a:pt x="378" y="159"/>
                    </a:lnTo>
                    <a:lnTo>
                      <a:pt x="374" y="167"/>
                    </a:lnTo>
                    <a:lnTo>
                      <a:pt x="378" y="167"/>
                    </a:lnTo>
                    <a:lnTo>
                      <a:pt x="374" y="163"/>
                    </a:lnTo>
                    <a:lnTo>
                      <a:pt x="367" y="170"/>
                    </a:lnTo>
                    <a:lnTo>
                      <a:pt x="367" y="174"/>
                    </a:lnTo>
                    <a:lnTo>
                      <a:pt x="367" y="174"/>
                    </a:lnTo>
                    <a:lnTo>
                      <a:pt x="363" y="181"/>
                    </a:lnTo>
                    <a:lnTo>
                      <a:pt x="359" y="189"/>
                    </a:lnTo>
                    <a:lnTo>
                      <a:pt x="359" y="189"/>
                    </a:lnTo>
                    <a:lnTo>
                      <a:pt x="359" y="189"/>
                    </a:lnTo>
                    <a:lnTo>
                      <a:pt x="359" y="199"/>
                    </a:lnTo>
                    <a:lnTo>
                      <a:pt x="363" y="199"/>
                    </a:lnTo>
                    <a:lnTo>
                      <a:pt x="359" y="199"/>
                    </a:lnTo>
                    <a:lnTo>
                      <a:pt x="356" y="210"/>
                    </a:lnTo>
                    <a:lnTo>
                      <a:pt x="356" y="210"/>
                    </a:lnTo>
                    <a:lnTo>
                      <a:pt x="356" y="210"/>
                    </a:lnTo>
                    <a:lnTo>
                      <a:pt x="356" y="221"/>
                    </a:lnTo>
                    <a:lnTo>
                      <a:pt x="356" y="225"/>
                    </a:lnTo>
                    <a:lnTo>
                      <a:pt x="356" y="225"/>
                    </a:lnTo>
                    <a:lnTo>
                      <a:pt x="359" y="232"/>
                    </a:lnTo>
                    <a:lnTo>
                      <a:pt x="363" y="243"/>
                    </a:lnTo>
                    <a:lnTo>
                      <a:pt x="367" y="250"/>
                    </a:lnTo>
                    <a:lnTo>
                      <a:pt x="374" y="261"/>
                    </a:lnTo>
                    <a:lnTo>
                      <a:pt x="381" y="272"/>
                    </a:lnTo>
                    <a:lnTo>
                      <a:pt x="381" y="272"/>
                    </a:lnTo>
                    <a:lnTo>
                      <a:pt x="385" y="276"/>
                    </a:lnTo>
                    <a:lnTo>
                      <a:pt x="396" y="283"/>
                    </a:lnTo>
                    <a:lnTo>
                      <a:pt x="407" y="290"/>
                    </a:lnTo>
                    <a:lnTo>
                      <a:pt x="403" y="286"/>
                    </a:lnTo>
                    <a:lnTo>
                      <a:pt x="407" y="290"/>
                    </a:lnTo>
                    <a:lnTo>
                      <a:pt x="421" y="294"/>
                    </a:lnTo>
                    <a:lnTo>
                      <a:pt x="421" y="286"/>
                    </a:lnTo>
                    <a:lnTo>
                      <a:pt x="417" y="290"/>
                    </a:lnTo>
                    <a:lnTo>
                      <a:pt x="421" y="294"/>
                    </a:lnTo>
                    <a:lnTo>
                      <a:pt x="421" y="294"/>
                    </a:lnTo>
                    <a:lnTo>
                      <a:pt x="425" y="297"/>
                    </a:lnTo>
                    <a:lnTo>
                      <a:pt x="443" y="301"/>
                    </a:lnTo>
                    <a:lnTo>
                      <a:pt x="465" y="305"/>
                    </a:lnTo>
                    <a:lnTo>
                      <a:pt x="497" y="308"/>
                    </a:lnTo>
                    <a:lnTo>
                      <a:pt x="512" y="308"/>
                    </a:lnTo>
                    <a:lnTo>
                      <a:pt x="530" y="312"/>
                    </a:lnTo>
                    <a:lnTo>
                      <a:pt x="548" y="312"/>
                    </a:lnTo>
                    <a:lnTo>
                      <a:pt x="566" y="312"/>
                    </a:lnTo>
                    <a:lnTo>
                      <a:pt x="584" y="312"/>
                    </a:lnTo>
                    <a:lnTo>
                      <a:pt x="602" y="308"/>
                    </a:lnTo>
                    <a:lnTo>
                      <a:pt x="620" y="308"/>
                    </a:lnTo>
                    <a:lnTo>
                      <a:pt x="639" y="305"/>
                    </a:lnTo>
                    <a:lnTo>
                      <a:pt x="639" y="297"/>
                    </a:lnTo>
                    <a:lnTo>
                      <a:pt x="635" y="301"/>
                    </a:lnTo>
                    <a:lnTo>
                      <a:pt x="642" y="323"/>
                    </a:lnTo>
                    <a:lnTo>
                      <a:pt x="649" y="352"/>
                    </a:lnTo>
                    <a:lnTo>
                      <a:pt x="657" y="381"/>
                    </a:lnTo>
                    <a:lnTo>
                      <a:pt x="664" y="413"/>
                    </a:lnTo>
                    <a:lnTo>
                      <a:pt x="668" y="410"/>
                    </a:lnTo>
                    <a:lnTo>
                      <a:pt x="664" y="410"/>
                    </a:lnTo>
                    <a:lnTo>
                      <a:pt x="668" y="428"/>
                    </a:lnTo>
                    <a:lnTo>
                      <a:pt x="668" y="442"/>
                    </a:lnTo>
                    <a:lnTo>
                      <a:pt x="668" y="457"/>
                    </a:lnTo>
                    <a:lnTo>
                      <a:pt x="668" y="471"/>
                    </a:lnTo>
                    <a:lnTo>
                      <a:pt x="668" y="486"/>
                    </a:lnTo>
                    <a:lnTo>
                      <a:pt x="671" y="486"/>
                    </a:lnTo>
                    <a:lnTo>
                      <a:pt x="668" y="486"/>
                    </a:lnTo>
                    <a:lnTo>
                      <a:pt x="664" y="497"/>
                    </a:lnTo>
                    <a:lnTo>
                      <a:pt x="664" y="497"/>
                    </a:lnTo>
                    <a:lnTo>
                      <a:pt x="664" y="497"/>
                    </a:lnTo>
                    <a:lnTo>
                      <a:pt x="664" y="500"/>
                    </a:lnTo>
                    <a:lnTo>
                      <a:pt x="668" y="500"/>
                    </a:lnTo>
                    <a:lnTo>
                      <a:pt x="664" y="500"/>
                    </a:lnTo>
                    <a:lnTo>
                      <a:pt x="660" y="508"/>
                    </a:lnTo>
                    <a:lnTo>
                      <a:pt x="664" y="508"/>
                    </a:lnTo>
                    <a:lnTo>
                      <a:pt x="664" y="504"/>
                    </a:lnTo>
                    <a:lnTo>
                      <a:pt x="660" y="504"/>
                    </a:lnTo>
                    <a:lnTo>
                      <a:pt x="657" y="504"/>
                    </a:lnTo>
                    <a:lnTo>
                      <a:pt x="657" y="508"/>
                    </a:lnTo>
                    <a:lnTo>
                      <a:pt x="657" y="511"/>
                    </a:lnTo>
                    <a:lnTo>
                      <a:pt x="660" y="511"/>
                    </a:lnTo>
                    <a:lnTo>
                      <a:pt x="657" y="508"/>
                    </a:lnTo>
                    <a:lnTo>
                      <a:pt x="649" y="515"/>
                    </a:lnTo>
                    <a:lnTo>
                      <a:pt x="653" y="519"/>
                    </a:lnTo>
                    <a:lnTo>
                      <a:pt x="653" y="515"/>
                    </a:lnTo>
                    <a:lnTo>
                      <a:pt x="646" y="519"/>
                    </a:lnTo>
                    <a:lnTo>
                      <a:pt x="639" y="522"/>
                    </a:lnTo>
                    <a:lnTo>
                      <a:pt x="631" y="526"/>
                    </a:lnTo>
                    <a:lnTo>
                      <a:pt x="631" y="529"/>
                    </a:lnTo>
                    <a:lnTo>
                      <a:pt x="631" y="526"/>
                    </a:lnTo>
                    <a:lnTo>
                      <a:pt x="624" y="526"/>
                    </a:lnTo>
                    <a:lnTo>
                      <a:pt x="624" y="526"/>
                    </a:lnTo>
                    <a:lnTo>
                      <a:pt x="624" y="526"/>
                    </a:lnTo>
                    <a:lnTo>
                      <a:pt x="617" y="529"/>
                    </a:lnTo>
                    <a:lnTo>
                      <a:pt x="617" y="533"/>
                    </a:lnTo>
                    <a:lnTo>
                      <a:pt x="617" y="529"/>
                    </a:lnTo>
                    <a:lnTo>
                      <a:pt x="610" y="529"/>
                    </a:lnTo>
                    <a:lnTo>
                      <a:pt x="602" y="529"/>
                    </a:lnTo>
                    <a:lnTo>
                      <a:pt x="595" y="529"/>
                    </a:lnTo>
                    <a:lnTo>
                      <a:pt x="588" y="529"/>
                    </a:lnTo>
                    <a:lnTo>
                      <a:pt x="588" y="533"/>
                    </a:lnTo>
                    <a:lnTo>
                      <a:pt x="591" y="529"/>
                    </a:lnTo>
                    <a:lnTo>
                      <a:pt x="584" y="526"/>
                    </a:lnTo>
                    <a:lnTo>
                      <a:pt x="577" y="522"/>
                    </a:lnTo>
                    <a:lnTo>
                      <a:pt x="577" y="522"/>
                    </a:lnTo>
                    <a:lnTo>
                      <a:pt x="573" y="522"/>
                    </a:lnTo>
                    <a:lnTo>
                      <a:pt x="566" y="522"/>
                    </a:lnTo>
                    <a:lnTo>
                      <a:pt x="566" y="526"/>
                    </a:lnTo>
                    <a:lnTo>
                      <a:pt x="570" y="522"/>
                    </a:lnTo>
                    <a:lnTo>
                      <a:pt x="566" y="519"/>
                    </a:lnTo>
                    <a:lnTo>
                      <a:pt x="566" y="519"/>
                    </a:lnTo>
                    <a:lnTo>
                      <a:pt x="566" y="519"/>
                    </a:lnTo>
                    <a:lnTo>
                      <a:pt x="559" y="515"/>
                    </a:lnTo>
                    <a:lnTo>
                      <a:pt x="555" y="519"/>
                    </a:lnTo>
                    <a:lnTo>
                      <a:pt x="562" y="519"/>
                    </a:lnTo>
                    <a:lnTo>
                      <a:pt x="559" y="511"/>
                    </a:lnTo>
                    <a:lnTo>
                      <a:pt x="555" y="508"/>
                    </a:lnTo>
                    <a:lnTo>
                      <a:pt x="555" y="508"/>
                    </a:lnTo>
                    <a:lnTo>
                      <a:pt x="548" y="504"/>
                    </a:lnTo>
                    <a:lnTo>
                      <a:pt x="544" y="508"/>
                    </a:lnTo>
                    <a:lnTo>
                      <a:pt x="548" y="504"/>
                    </a:lnTo>
                    <a:lnTo>
                      <a:pt x="541" y="497"/>
                    </a:lnTo>
                    <a:lnTo>
                      <a:pt x="541" y="497"/>
                    </a:lnTo>
                    <a:lnTo>
                      <a:pt x="541" y="497"/>
                    </a:lnTo>
                    <a:lnTo>
                      <a:pt x="530" y="493"/>
                    </a:lnTo>
                    <a:lnTo>
                      <a:pt x="519" y="490"/>
                    </a:lnTo>
                    <a:lnTo>
                      <a:pt x="519" y="490"/>
                    </a:lnTo>
                    <a:lnTo>
                      <a:pt x="515" y="490"/>
                    </a:lnTo>
                    <a:lnTo>
                      <a:pt x="504" y="490"/>
                    </a:lnTo>
                    <a:lnTo>
                      <a:pt x="490" y="490"/>
                    </a:lnTo>
                    <a:lnTo>
                      <a:pt x="479" y="490"/>
                    </a:lnTo>
                    <a:lnTo>
                      <a:pt x="479" y="490"/>
                    </a:lnTo>
                    <a:lnTo>
                      <a:pt x="479" y="490"/>
                    </a:lnTo>
                    <a:lnTo>
                      <a:pt x="468" y="493"/>
                    </a:lnTo>
                    <a:lnTo>
                      <a:pt x="457" y="497"/>
                    </a:lnTo>
                    <a:lnTo>
                      <a:pt x="446" y="504"/>
                    </a:lnTo>
                    <a:lnTo>
                      <a:pt x="446" y="504"/>
                    </a:lnTo>
                    <a:lnTo>
                      <a:pt x="443" y="504"/>
                    </a:lnTo>
                    <a:lnTo>
                      <a:pt x="432" y="515"/>
                    </a:lnTo>
                    <a:lnTo>
                      <a:pt x="425" y="522"/>
                    </a:lnTo>
                    <a:lnTo>
                      <a:pt x="417" y="529"/>
                    </a:lnTo>
                    <a:lnTo>
                      <a:pt x="414" y="533"/>
                    </a:lnTo>
                    <a:lnTo>
                      <a:pt x="414" y="537"/>
                    </a:lnTo>
                    <a:lnTo>
                      <a:pt x="414" y="537"/>
                    </a:lnTo>
                    <a:lnTo>
                      <a:pt x="414" y="544"/>
                    </a:lnTo>
                    <a:lnTo>
                      <a:pt x="417" y="544"/>
                    </a:lnTo>
                    <a:lnTo>
                      <a:pt x="414" y="544"/>
                    </a:lnTo>
                    <a:lnTo>
                      <a:pt x="410" y="551"/>
                    </a:lnTo>
                    <a:lnTo>
                      <a:pt x="407" y="558"/>
                    </a:lnTo>
                    <a:lnTo>
                      <a:pt x="407" y="558"/>
                    </a:lnTo>
                    <a:lnTo>
                      <a:pt x="407" y="558"/>
                    </a:lnTo>
                    <a:lnTo>
                      <a:pt x="407" y="566"/>
                    </a:lnTo>
                    <a:lnTo>
                      <a:pt x="407" y="577"/>
                    </a:lnTo>
                    <a:lnTo>
                      <a:pt x="407" y="584"/>
                    </a:lnTo>
                    <a:lnTo>
                      <a:pt x="407" y="591"/>
                    </a:lnTo>
                    <a:lnTo>
                      <a:pt x="407" y="598"/>
                    </a:lnTo>
                    <a:lnTo>
                      <a:pt x="407" y="606"/>
                    </a:lnTo>
                    <a:lnTo>
                      <a:pt x="407" y="609"/>
                    </a:lnTo>
                    <a:lnTo>
                      <a:pt x="407" y="609"/>
                    </a:lnTo>
                    <a:lnTo>
                      <a:pt x="410" y="617"/>
                    </a:lnTo>
                    <a:lnTo>
                      <a:pt x="410" y="617"/>
                    </a:lnTo>
                    <a:lnTo>
                      <a:pt x="410" y="617"/>
                    </a:lnTo>
                    <a:lnTo>
                      <a:pt x="414" y="620"/>
                    </a:lnTo>
                    <a:lnTo>
                      <a:pt x="417" y="617"/>
                    </a:lnTo>
                    <a:lnTo>
                      <a:pt x="414" y="617"/>
                    </a:lnTo>
                    <a:lnTo>
                      <a:pt x="414" y="624"/>
                    </a:lnTo>
                    <a:lnTo>
                      <a:pt x="414" y="627"/>
                    </a:lnTo>
                    <a:lnTo>
                      <a:pt x="414" y="627"/>
                    </a:lnTo>
                    <a:lnTo>
                      <a:pt x="417" y="631"/>
                    </a:lnTo>
                    <a:lnTo>
                      <a:pt x="421" y="627"/>
                    </a:lnTo>
                    <a:lnTo>
                      <a:pt x="417" y="631"/>
                    </a:lnTo>
                    <a:lnTo>
                      <a:pt x="421" y="638"/>
                    </a:lnTo>
                    <a:lnTo>
                      <a:pt x="421" y="638"/>
                    </a:lnTo>
                    <a:lnTo>
                      <a:pt x="425" y="642"/>
                    </a:lnTo>
                    <a:lnTo>
                      <a:pt x="436" y="649"/>
                    </a:lnTo>
                    <a:lnTo>
                      <a:pt x="436" y="642"/>
                    </a:lnTo>
                    <a:lnTo>
                      <a:pt x="432" y="646"/>
                    </a:lnTo>
                    <a:lnTo>
                      <a:pt x="439" y="653"/>
                    </a:lnTo>
                    <a:lnTo>
                      <a:pt x="443" y="656"/>
                    </a:lnTo>
                    <a:lnTo>
                      <a:pt x="443" y="656"/>
                    </a:lnTo>
                    <a:lnTo>
                      <a:pt x="454" y="664"/>
                    </a:lnTo>
                    <a:lnTo>
                      <a:pt x="465" y="667"/>
                    </a:lnTo>
                    <a:lnTo>
                      <a:pt x="475" y="671"/>
                    </a:lnTo>
                    <a:lnTo>
                      <a:pt x="475" y="671"/>
                    </a:lnTo>
                    <a:lnTo>
                      <a:pt x="475" y="671"/>
                    </a:lnTo>
                    <a:lnTo>
                      <a:pt x="486" y="671"/>
                    </a:lnTo>
                    <a:lnTo>
                      <a:pt x="497" y="671"/>
                    </a:lnTo>
                    <a:lnTo>
                      <a:pt x="508" y="671"/>
                    </a:lnTo>
                    <a:lnTo>
                      <a:pt x="512" y="671"/>
                    </a:lnTo>
                    <a:lnTo>
                      <a:pt x="512" y="671"/>
                    </a:lnTo>
                    <a:lnTo>
                      <a:pt x="523" y="667"/>
                    </a:lnTo>
                    <a:lnTo>
                      <a:pt x="530" y="664"/>
                    </a:lnTo>
                    <a:lnTo>
                      <a:pt x="537" y="660"/>
                    </a:lnTo>
                    <a:lnTo>
                      <a:pt x="544" y="656"/>
                    </a:lnTo>
                    <a:lnTo>
                      <a:pt x="544" y="653"/>
                    </a:lnTo>
                    <a:lnTo>
                      <a:pt x="548" y="653"/>
                    </a:lnTo>
                    <a:lnTo>
                      <a:pt x="552" y="646"/>
                    </a:lnTo>
                    <a:lnTo>
                      <a:pt x="544" y="642"/>
                    </a:lnTo>
                    <a:lnTo>
                      <a:pt x="548" y="649"/>
                    </a:lnTo>
                    <a:lnTo>
                      <a:pt x="555" y="646"/>
                    </a:lnTo>
                    <a:lnTo>
                      <a:pt x="562" y="642"/>
                    </a:lnTo>
                    <a:lnTo>
                      <a:pt x="570" y="638"/>
                    </a:lnTo>
                    <a:lnTo>
                      <a:pt x="566" y="631"/>
                    </a:lnTo>
                    <a:lnTo>
                      <a:pt x="566" y="638"/>
                    </a:lnTo>
                    <a:lnTo>
                      <a:pt x="577" y="638"/>
                    </a:lnTo>
                    <a:lnTo>
                      <a:pt x="584" y="638"/>
                    </a:lnTo>
                    <a:lnTo>
                      <a:pt x="584" y="631"/>
                    </a:lnTo>
                    <a:lnTo>
                      <a:pt x="584" y="638"/>
                    </a:lnTo>
                    <a:lnTo>
                      <a:pt x="591" y="642"/>
                    </a:lnTo>
                    <a:lnTo>
                      <a:pt x="599" y="646"/>
                    </a:lnTo>
                    <a:lnTo>
                      <a:pt x="599" y="646"/>
                    </a:lnTo>
                    <a:lnTo>
                      <a:pt x="599" y="646"/>
                    </a:lnTo>
                    <a:lnTo>
                      <a:pt x="606" y="646"/>
                    </a:lnTo>
                    <a:lnTo>
                      <a:pt x="606" y="638"/>
                    </a:lnTo>
                    <a:lnTo>
                      <a:pt x="602" y="642"/>
                    </a:lnTo>
                    <a:lnTo>
                      <a:pt x="610" y="649"/>
                    </a:lnTo>
                    <a:lnTo>
                      <a:pt x="613" y="653"/>
                    </a:lnTo>
                    <a:lnTo>
                      <a:pt x="613" y="653"/>
                    </a:lnTo>
                    <a:lnTo>
                      <a:pt x="620" y="656"/>
                    </a:lnTo>
                    <a:lnTo>
                      <a:pt x="628" y="660"/>
                    </a:lnTo>
                    <a:lnTo>
                      <a:pt x="628" y="653"/>
                    </a:lnTo>
                    <a:lnTo>
                      <a:pt x="624" y="656"/>
                    </a:lnTo>
                    <a:lnTo>
                      <a:pt x="628" y="664"/>
                    </a:lnTo>
                    <a:lnTo>
                      <a:pt x="631" y="671"/>
                    </a:lnTo>
                    <a:lnTo>
                      <a:pt x="635" y="678"/>
                    </a:lnTo>
                    <a:lnTo>
                      <a:pt x="639" y="675"/>
                    </a:lnTo>
                    <a:lnTo>
                      <a:pt x="635" y="675"/>
                    </a:lnTo>
                    <a:lnTo>
                      <a:pt x="635" y="678"/>
                    </a:lnTo>
                    <a:lnTo>
                      <a:pt x="635" y="696"/>
                    </a:lnTo>
                    <a:lnTo>
                      <a:pt x="631" y="718"/>
                    </a:lnTo>
                    <a:lnTo>
                      <a:pt x="631" y="747"/>
                    </a:lnTo>
                    <a:lnTo>
                      <a:pt x="628" y="776"/>
                    </a:lnTo>
                    <a:lnTo>
                      <a:pt x="628" y="809"/>
                    </a:lnTo>
                    <a:lnTo>
                      <a:pt x="628" y="838"/>
                    </a:lnTo>
                    <a:lnTo>
                      <a:pt x="628" y="852"/>
                    </a:lnTo>
                    <a:lnTo>
                      <a:pt x="628" y="856"/>
                    </a:lnTo>
                    <a:lnTo>
                      <a:pt x="628" y="856"/>
                    </a:lnTo>
                    <a:lnTo>
                      <a:pt x="631" y="870"/>
                    </a:lnTo>
                    <a:lnTo>
                      <a:pt x="635" y="867"/>
                    </a:lnTo>
                    <a:lnTo>
                      <a:pt x="631" y="867"/>
                    </a:lnTo>
                    <a:lnTo>
                      <a:pt x="631" y="881"/>
                    </a:lnTo>
                    <a:lnTo>
                      <a:pt x="631" y="885"/>
                    </a:lnTo>
                    <a:lnTo>
                      <a:pt x="631" y="885"/>
                    </a:lnTo>
                    <a:lnTo>
                      <a:pt x="635" y="896"/>
                    </a:lnTo>
                    <a:lnTo>
                      <a:pt x="639" y="892"/>
                    </a:lnTo>
                    <a:lnTo>
                      <a:pt x="639" y="889"/>
                    </a:lnTo>
                    <a:lnTo>
                      <a:pt x="628" y="896"/>
                    </a:lnTo>
                    <a:lnTo>
                      <a:pt x="617" y="903"/>
                    </a:lnTo>
                    <a:lnTo>
                      <a:pt x="617" y="907"/>
                    </a:lnTo>
                    <a:lnTo>
                      <a:pt x="617" y="903"/>
                    </a:lnTo>
                    <a:lnTo>
                      <a:pt x="602" y="907"/>
                    </a:lnTo>
                    <a:lnTo>
                      <a:pt x="588" y="910"/>
                    </a:lnTo>
                    <a:lnTo>
                      <a:pt x="573" y="914"/>
                    </a:lnTo>
                    <a:lnTo>
                      <a:pt x="559" y="914"/>
                    </a:lnTo>
                    <a:lnTo>
                      <a:pt x="541" y="914"/>
                    </a:lnTo>
                    <a:lnTo>
                      <a:pt x="526" y="914"/>
                    </a:lnTo>
                    <a:lnTo>
                      <a:pt x="508" y="914"/>
                    </a:lnTo>
                    <a:lnTo>
                      <a:pt x="490" y="910"/>
                    </a:lnTo>
                    <a:lnTo>
                      <a:pt x="475" y="907"/>
                    </a:lnTo>
                    <a:lnTo>
                      <a:pt x="461" y="903"/>
                    </a:lnTo>
                    <a:lnTo>
                      <a:pt x="446" y="903"/>
                    </a:lnTo>
                    <a:lnTo>
                      <a:pt x="446" y="907"/>
                    </a:lnTo>
                    <a:lnTo>
                      <a:pt x="450" y="903"/>
                    </a:lnTo>
                    <a:lnTo>
                      <a:pt x="436" y="896"/>
                    </a:lnTo>
                    <a:lnTo>
                      <a:pt x="436" y="896"/>
                    </a:lnTo>
                    <a:lnTo>
                      <a:pt x="432" y="896"/>
                    </a:lnTo>
                    <a:lnTo>
                      <a:pt x="417" y="892"/>
                    </a:lnTo>
                    <a:lnTo>
                      <a:pt x="417" y="896"/>
                    </a:lnTo>
                    <a:lnTo>
                      <a:pt x="421" y="892"/>
                    </a:lnTo>
                    <a:lnTo>
                      <a:pt x="410" y="889"/>
                    </a:lnTo>
                    <a:lnTo>
                      <a:pt x="399" y="885"/>
                    </a:lnTo>
                    <a:lnTo>
                      <a:pt x="392" y="881"/>
                    </a:lnTo>
                    <a:lnTo>
                      <a:pt x="388" y="885"/>
                    </a:lnTo>
                    <a:lnTo>
                      <a:pt x="392" y="881"/>
                    </a:lnTo>
                    <a:lnTo>
                      <a:pt x="388" y="878"/>
                    </a:lnTo>
                    <a:lnTo>
                      <a:pt x="381" y="870"/>
                    </a:lnTo>
                    <a:lnTo>
                      <a:pt x="378" y="867"/>
                    </a:lnTo>
                    <a:lnTo>
                      <a:pt x="374" y="863"/>
                    </a:lnTo>
                    <a:lnTo>
                      <a:pt x="370" y="867"/>
                    </a:lnTo>
                    <a:lnTo>
                      <a:pt x="378" y="867"/>
                    </a:lnTo>
                    <a:lnTo>
                      <a:pt x="378" y="863"/>
                    </a:lnTo>
                    <a:lnTo>
                      <a:pt x="378" y="856"/>
                    </a:lnTo>
                    <a:lnTo>
                      <a:pt x="378" y="852"/>
                    </a:lnTo>
                    <a:lnTo>
                      <a:pt x="378" y="845"/>
                    </a:lnTo>
                    <a:lnTo>
                      <a:pt x="370" y="845"/>
                    </a:lnTo>
                    <a:lnTo>
                      <a:pt x="374" y="849"/>
                    </a:lnTo>
                    <a:lnTo>
                      <a:pt x="378" y="845"/>
                    </a:lnTo>
                    <a:lnTo>
                      <a:pt x="381" y="845"/>
                    </a:lnTo>
                    <a:lnTo>
                      <a:pt x="381" y="845"/>
                    </a:lnTo>
                    <a:lnTo>
                      <a:pt x="385" y="838"/>
                    </a:lnTo>
                    <a:lnTo>
                      <a:pt x="392" y="823"/>
                    </a:lnTo>
                    <a:lnTo>
                      <a:pt x="385" y="820"/>
                    </a:lnTo>
                    <a:lnTo>
                      <a:pt x="388" y="823"/>
                    </a:lnTo>
                    <a:lnTo>
                      <a:pt x="403" y="809"/>
                    </a:lnTo>
                    <a:lnTo>
                      <a:pt x="407" y="809"/>
                    </a:lnTo>
                    <a:lnTo>
                      <a:pt x="407" y="809"/>
                    </a:lnTo>
                    <a:lnTo>
                      <a:pt x="414" y="798"/>
                    </a:lnTo>
                    <a:lnTo>
                      <a:pt x="407" y="794"/>
                    </a:lnTo>
                    <a:lnTo>
                      <a:pt x="410" y="798"/>
                    </a:lnTo>
                    <a:lnTo>
                      <a:pt x="417" y="791"/>
                    </a:lnTo>
                    <a:lnTo>
                      <a:pt x="421" y="791"/>
                    </a:lnTo>
                    <a:lnTo>
                      <a:pt x="421" y="791"/>
                    </a:lnTo>
                    <a:lnTo>
                      <a:pt x="425" y="780"/>
                    </a:lnTo>
                    <a:lnTo>
                      <a:pt x="428" y="769"/>
                    </a:lnTo>
                    <a:lnTo>
                      <a:pt x="428" y="769"/>
                    </a:lnTo>
                    <a:lnTo>
                      <a:pt x="428" y="765"/>
                    </a:lnTo>
                    <a:lnTo>
                      <a:pt x="428" y="754"/>
                    </a:lnTo>
                    <a:lnTo>
                      <a:pt x="428" y="740"/>
                    </a:lnTo>
                    <a:lnTo>
                      <a:pt x="428" y="729"/>
                    </a:lnTo>
                    <a:lnTo>
                      <a:pt x="428" y="729"/>
                    </a:lnTo>
                    <a:lnTo>
                      <a:pt x="428" y="729"/>
                    </a:lnTo>
                    <a:lnTo>
                      <a:pt x="425" y="718"/>
                    </a:lnTo>
                    <a:lnTo>
                      <a:pt x="417" y="707"/>
                    </a:lnTo>
                    <a:lnTo>
                      <a:pt x="414" y="700"/>
                    </a:lnTo>
                    <a:lnTo>
                      <a:pt x="410" y="693"/>
                    </a:lnTo>
                    <a:lnTo>
                      <a:pt x="407" y="689"/>
                    </a:lnTo>
                    <a:lnTo>
                      <a:pt x="407" y="689"/>
                    </a:lnTo>
                    <a:lnTo>
                      <a:pt x="399" y="685"/>
                    </a:lnTo>
                    <a:lnTo>
                      <a:pt x="396" y="689"/>
                    </a:lnTo>
                    <a:lnTo>
                      <a:pt x="399" y="685"/>
                    </a:lnTo>
                    <a:lnTo>
                      <a:pt x="396" y="682"/>
                    </a:lnTo>
                    <a:lnTo>
                      <a:pt x="396" y="682"/>
                    </a:lnTo>
                    <a:lnTo>
                      <a:pt x="396" y="682"/>
                    </a:lnTo>
                    <a:lnTo>
                      <a:pt x="388" y="678"/>
                    </a:lnTo>
                    <a:lnTo>
                      <a:pt x="385" y="682"/>
                    </a:lnTo>
                    <a:lnTo>
                      <a:pt x="388" y="678"/>
                    </a:lnTo>
                    <a:lnTo>
                      <a:pt x="385" y="675"/>
                    </a:lnTo>
                    <a:lnTo>
                      <a:pt x="385" y="675"/>
                    </a:lnTo>
                    <a:lnTo>
                      <a:pt x="381" y="675"/>
                    </a:lnTo>
                    <a:lnTo>
                      <a:pt x="374" y="675"/>
                    </a:lnTo>
                    <a:lnTo>
                      <a:pt x="374" y="678"/>
                    </a:lnTo>
                    <a:lnTo>
                      <a:pt x="378" y="675"/>
                    </a:lnTo>
                    <a:lnTo>
                      <a:pt x="370" y="671"/>
                    </a:lnTo>
                    <a:lnTo>
                      <a:pt x="363" y="667"/>
                    </a:lnTo>
                    <a:lnTo>
                      <a:pt x="363" y="667"/>
                    </a:lnTo>
                    <a:lnTo>
                      <a:pt x="359" y="667"/>
                    </a:lnTo>
                    <a:lnTo>
                      <a:pt x="352" y="667"/>
                    </a:lnTo>
                    <a:lnTo>
                      <a:pt x="352" y="671"/>
                    </a:lnTo>
                    <a:lnTo>
                      <a:pt x="356" y="667"/>
                    </a:lnTo>
                    <a:lnTo>
                      <a:pt x="345" y="664"/>
                    </a:lnTo>
                    <a:lnTo>
                      <a:pt x="345" y="664"/>
                    </a:lnTo>
                    <a:lnTo>
                      <a:pt x="341" y="664"/>
                    </a:lnTo>
                    <a:lnTo>
                      <a:pt x="334" y="664"/>
                    </a:lnTo>
                    <a:lnTo>
                      <a:pt x="323" y="664"/>
                    </a:lnTo>
                    <a:lnTo>
                      <a:pt x="316" y="664"/>
                    </a:lnTo>
                    <a:lnTo>
                      <a:pt x="316" y="664"/>
                    </a:lnTo>
                    <a:lnTo>
                      <a:pt x="316" y="664"/>
                    </a:lnTo>
                    <a:lnTo>
                      <a:pt x="309" y="667"/>
                    </a:lnTo>
                    <a:lnTo>
                      <a:pt x="309" y="671"/>
                    </a:lnTo>
                    <a:lnTo>
                      <a:pt x="309" y="667"/>
                    </a:lnTo>
                    <a:lnTo>
                      <a:pt x="301" y="667"/>
                    </a:lnTo>
                    <a:lnTo>
                      <a:pt x="301" y="667"/>
                    </a:lnTo>
                    <a:lnTo>
                      <a:pt x="301" y="667"/>
                    </a:lnTo>
                    <a:lnTo>
                      <a:pt x="294" y="671"/>
                    </a:lnTo>
                    <a:lnTo>
                      <a:pt x="287" y="675"/>
                    </a:lnTo>
                    <a:lnTo>
                      <a:pt x="287" y="678"/>
                    </a:lnTo>
                    <a:lnTo>
                      <a:pt x="287" y="675"/>
                    </a:lnTo>
                    <a:lnTo>
                      <a:pt x="283" y="675"/>
                    </a:lnTo>
                    <a:lnTo>
                      <a:pt x="283" y="675"/>
                    </a:lnTo>
                    <a:lnTo>
                      <a:pt x="283" y="675"/>
                    </a:lnTo>
                    <a:lnTo>
                      <a:pt x="276" y="678"/>
                    </a:lnTo>
                    <a:lnTo>
                      <a:pt x="276" y="678"/>
                    </a:lnTo>
                    <a:lnTo>
                      <a:pt x="272" y="678"/>
                    </a:lnTo>
                    <a:lnTo>
                      <a:pt x="269" y="682"/>
                    </a:lnTo>
                    <a:lnTo>
                      <a:pt x="265" y="685"/>
                    </a:lnTo>
                    <a:lnTo>
                      <a:pt x="261" y="689"/>
                    </a:lnTo>
                    <a:lnTo>
                      <a:pt x="261" y="693"/>
                    </a:lnTo>
                    <a:lnTo>
                      <a:pt x="261" y="693"/>
                    </a:lnTo>
                    <a:lnTo>
                      <a:pt x="258" y="700"/>
                    </a:lnTo>
                    <a:lnTo>
                      <a:pt x="261" y="700"/>
                    </a:lnTo>
                    <a:lnTo>
                      <a:pt x="258" y="696"/>
                    </a:lnTo>
                    <a:lnTo>
                      <a:pt x="254" y="700"/>
                    </a:lnTo>
                    <a:lnTo>
                      <a:pt x="254" y="704"/>
                    </a:lnTo>
                    <a:lnTo>
                      <a:pt x="254" y="704"/>
                    </a:lnTo>
                    <a:lnTo>
                      <a:pt x="251" y="714"/>
                    </a:lnTo>
                    <a:lnTo>
                      <a:pt x="247" y="725"/>
                    </a:lnTo>
                    <a:lnTo>
                      <a:pt x="243" y="740"/>
                    </a:lnTo>
                    <a:lnTo>
                      <a:pt x="243" y="740"/>
                    </a:lnTo>
                    <a:lnTo>
                      <a:pt x="243" y="740"/>
                    </a:lnTo>
                    <a:lnTo>
                      <a:pt x="243" y="751"/>
                    </a:lnTo>
                    <a:lnTo>
                      <a:pt x="243" y="754"/>
                    </a:lnTo>
                    <a:lnTo>
                      <a:pt x="243" y="754"/>
                    </a:lnTo>
                    <a:lnTo>
                      <a:pt x="247" y="769"/>
                    </a:lnTo>
                    <a:lnTo>
                      <a:pt x="251" y="780"/>
                    </a:lnTo>
                    <a:lnTo>
                      <a:pt x="254" y="791"/>
                    </a:lnTo>
                    <a:lnTo>
                      <a:pt x="258" y="802"/>
                    </a:lnTo>
                    <a:lnTo>
                      <a:pt x="265" y="816"/>
                    </a:lnTo>
                    <a:lnTo>
                      <a:pt x="265" y="816"/>
                    </a:lnTo>
                    <a:lnTo>
                      <a:pt x="265" y="816"/>
                    </a:lnTo>
                    <a:lnTo>
                      <a:pt x="272" y="823"/>
                    </a:lnTo>
                    <a:lnTo>
                      <a:pt x="280" y="831"/>
                    </a:lnTo>
                    <a:lnTo>
                      <a:pt x="283" y="827"/>
                    </a:lnTo>
                    <a:lnTo>
                      <a:pt x="280" y="831"/>
                    </a:lnTo>
                    <a:lnTo>
                      <a:pt x="283" y="838"/>
                    </a:lnTo>
                    <a:lnTo>
                      <a:pt x="287" y="845"/>
                    </a:lnTo>
                    <a:lnTo>
                      <a:pt x="290" y="841"/>
                    </a:lnTo>
                    <a:lnTo>
                      <a:pt x="287" y="841"/>
                    </a:lnTo>
                    <a:lnTo>
                      <a:pt x="287" y="849"/>
                    </a:lnTo>
                    <a:lnTo>
                      <a:pt x="287" y="860"/>
                    </a:lnTo>
                    <a:lnTo>
                      <a:pt x="287" y="867"/>
                    </a:lnTo>
                    <a:lnTo>
                      <a:pt x="287" y="874"/>
                    </a:lnTo>
                    <a:lnTo>
                      <a:pt x="290" y="874"/>
                    </a:lnTo>
                    <a:lnTo>
                      <a:pt x="290" y="870"/>
                    </a:lnTo>
                    <a:lnTo>
                      <a:pt x="283" y="874"/>
                    </a:lnTo>
                    <a:lnTo>
                      <a:pt x="280" y="874"/>
                    </a:lnTo>
                    <a:lnTo>
                      <a:pt x="280" y="878"/>
                    </a:lnTo>
                    <a:lnTo>
                      <a:pt x="276" y="885"/>
                    </a:lnTo>
                    <a:lnTo>
                      <a:pt x="280" y="885"/>
                    </a:lnTo>
                    <a:lnTo>
                      <a:pt x="280" y="881"/>
                    </a:lnTo>
                    <a:lnTo>
                      <a:pt x="272" y="885"/>
                    </a:lnTo>
                    <a:lnTo>
                      <a:pt x="265" y="889"/>
                    </a:lnTo>
                    <a:lnTo>
                      <a:pt x="265" y="892"/>
                    </a:lnTo>
                    <a:lnTo>
                      <a:pt x="265" y="889"/>
                    </a:lnTo>
                    <a:lnTo>
                      <a:pt x="258" y="889"/>
                    </a:lnTo>
                    <a:lnTo>
                      <a:pt x="247" y="889"/>
                    </a:lnTo>
                    <a:lnTo>
                      <a:pt x="232" y="889"/>
                    </a:lnTo>
                    <a:lnTo>
                      <a:pt x="232" y="892"/>
                    </a:lnTo>
                    <a:lnTo>
                      <a:pt x="236" y="889"/>
                    </a:lnTo>
                    <a:lnTo>
                      <a:pt x="225" y="885"/>
                    </a:lnTo>
                    <a:lnTo>
                      <a:pt x="229" y="885"/>
                    </a:lnTo>
                    <a:lnTo>
                      <a:pt x="222" y="885"/>
                    </a:lnTo>
                    <a:lnTo>
                      <a:pt x="207" y="881"/>
                    </a:lnTo>
                    <a:close/>
                  </a:path>
                </a:pathLst>
              </a:custGeom>
              <a:solidFill>
                <a:srgbClr val="ff6600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4851360" y="1300320"/>
              <a:ext cx="1081080" cy="30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649440"/>
                  <a:tab algn="l" pos="1298520"/>
                  <a:tab algn="l" pos="1947960"/>
                  <a:tab algn="l" pos="2597040"/>
                  <a:tab algn="l" pos="3246480"/>
                  <a:tab algn="l" pos="3895560"/>
                  <a:tab algn="l" pos="4545000"/>
                  <a:tab algn="l" pos="5194440"/>
                  <a:tab algn="l" pos="5843520"/>
                  <a:tab algn="l" pos="6492960"/>
                  <a:tab algn="l" pos="7142040"/>
                  <a:tab algn="l" pos="7791480"/>
                  <a:tab algn="l" pos="8440560"/>
                  <a:tab algn="l" pos="9090000"/>
                  <a:tab algn="l" pos="9739440"/>
                  <a:tab algn="l" pos="1038852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RA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221840" y="1422360"/>
            <a:ext cx="3629520" cy="1854360"/>
            <a:chOff x="1221840" y="1422360"/>
            <a:chExt cx="3629520" cy="1854360"/>
          </a:xfrm>
        </p:grpSpPr>
        <p:sp>
          <p:nvSpPr>
            <p:cNvPr id="130" name=""/>
            <p:cNvSpPr/>
            <p:nvPr/>
          </p:nvSpPr>
          <p:spPr>
            <a:xfrm>
              <a:off x="3022560" y="1422360"/>
              <a:ext cx="1828800" cy="123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22560" y="1700280"/>
              <a:ext cx="1728720" cy="1576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221840" y="1833480"/>
              <a:ext cx="868680" cy="1036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1222200" y="2019240"/>
            <a:ext cx="4154760" cy="1067040"/>
            <a:chOff x="1222200" y="2019240"/>
            <a:chExt cx="4154760" cy="1067040"/>
          </a:xfrm>
        </p:grpSpPr>
        <p:sp>
          <p:nvSpPr>
            <p:cNvPr id="134" name=""/>
            <p:cNvSpPr/>
            <p:nvPr/>
          </p:nvSpPr>
          <p:spPr>
            <a:xfrm>
              <a:off x="5110200" y="2222640"/>
              <a:ext cx="266760" cy="647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171960" y="2095560"/>
              <a:ext cx="1869840" cy="774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1222200" y="2019240"/>
              <a:ext cx="362916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4800" rIns="648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1592280" y="3276360"/>
            <a:ext cx="1123920" cy="52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4800" rIns="648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14:23:13Z</dcterms:created>
  <dc:creator>ke38202</dc:creator>
  <dc:description/>
  <dc:language>en-US</dc:language>
  <cp:lastModifiedBy>ke91431</cp:lastModifiedBy>
  <dcterms:modified xsi:type="dcterms:W3CDTF">2006-08-15T11:54:46Z</dcterms:modified>
  <cp:revision>515</cp:revision>
  <dc:subject/>
  <dc:title>PowerPoint Presentation</dc:title>
</cp:coreProperties>
</file>