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0D2-F210-4B76-8163-DC431D36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CDF-6F2A-46CB-9A5F-CAA70F82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3E2-C3AB-4AA3-A5DA-4C3A1B8E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541-219D-4E86-B586-2F1C54E0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8F11-93F8-4E3D-B721-C33D2D40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88AC-7E29-4250-ABD5-1C708EDE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AE19-309E-4A43-9266-58AF916C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0EE2-E597-4BBD-92F4-B0B79117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DAE3-7FD6-4EB2-BBA6-6CCB6E09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040F-236A-4789-90AA-E0D3EFEC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F1D7-BE6E-4573-9DF0-E76D3DE3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343-1D83-4CF4-920E-C4EE595B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B1A2-8092-48E5-9997-A677748F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2FE5-2761-4B24-B2F2-A03272A4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2A7D-C411-4A92-BFC9-17070FB9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F0B2-AE0D-40BD-AF06-E8C906D1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ABD8-3E0D-4F42-9B9C-0D3C925C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F80-C2A4-4137-ADD0-FAC3173D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F2D-5C68-4AED-B980-49787A23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BDB-E96E-43CB-AEF6-8CBE1E59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1AE-9723-414F-BBAF-B2325D1C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EB3-9ACE-45B5-8CB6-08747876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219-04E6-4982-B8CE-8F348C23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7B6-64EF-4048-B8EC-E055E1C3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371A-77CA-41F3-B959-ECB393CB8C8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C140-4DC4-4B22-92D2-161811C9A60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596880"/>
            <a:ext cx="7964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 u="sng">
                <a:solidFill>
                  <a:srgbClr val="006666"/>
                </a:solidFill>
                <a:uFillTx/>
                <a:latin typeface="Verdana"/>
              </a:rPr>
              <a:t>CUPS</a:t>
            </a:r>
            <a:r>
              <a:rPr b="1" lang="en-US" sz="5900" spc="-1" strike="noStrike">
                <a:solidFill>
                  <a:srgbClr val="006666"/>
                </a:solidFill>
                <a:latin typeface="Verdana"/>
              </a:rPr>
              <a:t>: </a:t>
            </a:r>
            <a:r>
              <a:rPr b="1" lang="en-US" sz="5400" spc="-1" strike="noStrike">
                <a:solidFill>
                  <a:srgbClr val="006666"/>
                </a:solidFill>
                <a:latin typeface="Verdana"/>
                <a:ea typeface="宋体"/>
              </a:rPr>
              <a:t>Consortium for Upper Level Physics Software</a:t>
            </a:r>
            <a:r>
              <a:rPr b="1" lang="en-US" sz="5200" spc="-1" strike="noStrike">
                <a:solidFill>
                  <a:srgbClr val="006666"/>
                </a:solidFill>
                <a:latin typeface="Verdana"/>
                <a:ea typeface="宋体"/>
              </a:rPr>
              <a:t>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042920" y="5013360"/>
            <a:ext cx="75931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MARIA DWORZECKA, George Mason University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ROBERT EHRLICH ,  George Mason University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WILLIAM  MACDONALD, University of Maryland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653A-9968-419B-BEDA-93870A91090E}" type="slidenum">
              <a:t>1</a:t>
            </a:fld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964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Verdana"/>
              </a:rPr>
              <a:t>Programs:</a:t>
            </a:r>
            <a:endParaRPr b="1" lang="en-US" sz="8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0920" y="2060280"/>
            <a:ext cx="80247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COLISON</a:t>
            </a: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(collisions): simulates two-body collisions under any of a number of force laws: coulomb with and without shielding and truncation, hard sphere, soft sphere (harmonic). Yukawa and Woods-Saxon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E2FC-C38B-448C-B731-2D41452D50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64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Verdana"/>
              </a:rPr>
              <a:t>Programs:</a:t>
            </a:r>
            <a:endParaRPr b="1" lang="en-US" sz="8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826920" y="1916280"/>
            <a:ext cx="7809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  <a:ea typeface="宋体"/>
              </a:rPr>
              <a:t>ANHARM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( Anharmonic Oscillators): simulates oscillations of various types: pendulum, simple harmonic oscillator, asymmetric, cubic , Vanderpol, and the mass in the center of a spring with fixed ends. Nonlinear behavior is emphasized. The user may choose to view one to four graphs of the motion simultaneously, along with the potential diagram and a picture of  the moving object.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9B6D-2A53-4258-B913-C4E540DADE9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964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Verdana"/>
              </a:rPr>
              <a:t>Programs:</a:t>
            </a:r>
            <a:endParaRPr b="1" lang="en-US" sz="8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80912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Graphs that may be viewed are x vs. t, v vs. t, v vs. x, the Pioncare diagram and the return map. Tools are provided to explore parameter space for regions of interest, Fourier analysis is available,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resonance diagrams can be plotted, and the period can be plotted as a function of energy. Includes a tutorial demonstrating the usefulness of phase plots and Pioncare plots.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C3DF-80DC-479F-9558-F1FCDF7F336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1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6666"/>
                </a:solidFill>
                <a:latin typeface="Verdana"/>
              </a:rPr>
              <a:t>The Anharmonic Oscillator.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  <a:ea typeface="宋体"/>
              </a:rPr>
              <a:t>simulates oscillations of various types: pendulum, simple harmonic oscillator, asymmetric, cubic , Vanderpol, and the mass in the center of a spring with fixed ends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250-6581-4538-81F9-24CD3DCB8A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The Anharmonic Oscillator… </a:t>
            </a:r>
            <a:br>
              <a:rPr sz="3200"/>
            </a:br>
            <a:r>
              <a:rPr b="1" i="1" lang="en-US" sz="2400" spc="-1" strike="noStrike" u="sng">
                <a:solidFill>
                  <a:srgbClr val="cc99ff"/>
                </a:solidFill>
                <a:uFillTx/>
                <a:latin typeface="Verdana"/>
              </a:rPr>
              <a:t>The Pendulum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F=-g/L Sin(theta) – D v +Fo Sin(w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This Familiar system is capable of bizarre behavior when it is driven hard enough to swing over the top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g: The acceleration of gravit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L: The length of the pendulu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This force can be approximated by a linear force law: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E24-6444-459E-A649-F3D6FD6BE1F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The Anharmonic Oscillator… </a:t>
            </a:r>
            <a:br>
              <a:rPr sz="3200"/>
            </a:br>
            <a:r>
              <a:rPr b="1" i="1" lang="en-US" sz="2400" spc="-1" strike="noStrike" u="sng">
                <a:solidFill>
                  <a:srgbClr val="cc99ff"/>
                </a:solidFill>
                <a:uFillTx/>
                <a:latin typeface="Verdana"/>
              </a:rPr>
              <a:t>The Pendulum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F=-g/L x – D v +Fo Sin(w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Non zero D: represents th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presence of fric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Fo: Is the strength of the driv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force if one is present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0C9-D51A-48B1-836C-9470E243964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The Anharmonic Oscillator… </a:t>
            </a:r>
            <a:br>
              <a:rPr sz="3200"/>
            </a:br>
            <a:r>
              <a:rPr b="1" i="1" lang="en-US" sz="2400" spc="-1" strike="noStrike" u="sng">
                <a:solidFill>
                  <a:srgbClr val="cc99ff"/>
                </a:solidFill>
                <a:uFillTx/>
                <a:latin typeface="Verdana"/>
              </a:rPr>
              <a:t>Simple Harmonic Oscillator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F=-k x – D v +Fo Sin(w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This linear systems is included for the sake of comparison, as well as to include something familia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Non zero D: represents the presence of fric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Fo: Is the strength of the driving force if one is present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AB9-6352-4BD7-8813-60C0226CD21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The Anharmonic Oscillator… </a:t>
            </a:r>
            <a:br>
              <a:rPr sz="3200"/>
            </a:br>
            <a:r>
              <a:rPr b="1" i="1" lang="en-US" sz="2400" spc="-1" strike="noStrike" u="sng">
                <a:solidFill>
                  <a:srgbClr val="cc99ff"/>
                </a:solidFill>
                <a:uFillTx/>
                <a:latin typeface="Verdana"/>
              </a:rPr>
              <a:t>Asymmetric Force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This is meant to illustrate 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common situation in atomic &amp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nuclear physics where the two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sides of the potential well hav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different shap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83A-4346-4EB7-B1E6-42980A076AD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The Anharmonic Oscillator… </a:t>
            </a:r>
            <a:br>
              <a:rPr sz="3200"/>
            </a:br>
            <a:r>
              <a:rPr b="1" i="1" lang="en-US" sz="2400" spc="-1" strike="noStrike" u="sng">
                <a:solidFill>
                  <a:srgbClr val="cc99ff"/>
                </a:solidFill>
                <a:uFillTx/>
                <a:latin typeface="Verdana"/>
              </a:rPr>
              <a:t>Cubic Force: Duffing’s equation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F=-k x –c3 x^3- D v +Fo Sin(w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K &amp; c3 can have either sign, or be zero. Positive c3 represents a spring that gets stiffer as it is stretched; negative c3 represents a spring that gets weaker as it is stretched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CC9-4ADD-404D-9E3B-2A0B50F5E36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The Anharmonic Oscillator… </a:t>
            </a:r>
            <a:br>
              <a:rPr sz="3200"/>
            </a:br>
            <a:r>
              <a:rPr b="1" i="1" lang="en-US" sz="2400" spc="-1" strike="noStrike" u="sng">
                <a:solidFill>
                  <a:srgbClr val="cc99ff"/>
                </a:solidFill>
                <a:uFillTx/>
                <a:latin typeface="Verdana"/>
              </a:rPr>
              <a:t>Cubic Force: Duffing’s equation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Negative k &amp; positive c3 result in a double potential well like the spring stretched between two wall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Non zero D: represents the presence of fric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Fo: Is the strength of the driving force if one is present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B41-B48C-4774-94BE-AAE5DD94969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9642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66"/>
                </a:solidFill>
                <a:uFillTx/>
                <a:latin typeface="Verdana"/>
              </a:rPr>
              <a:t>CUPS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: 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  <a:ea typeface="宋体"/>
              </a:rPr>
              <a:t>Consortium for Upper Level Physics Software</a:t>
            </a:r>
            <a:r>
              <a:rPr b="1" lang="en-US" sz="5200" spc="-1" strike="noStrike">
                <a:solidFill>
                  <a:srgbClr val="006666"/>
                </a:solidFill>
                <a:latin typeface="Verdana"/>
                <a:ea typeface="宋体"/>
              </a:rPr>
              <a:t>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he Cups collaboration is an international group of 27- physicists who have produced computer software &amp; accompanying textbooks for use in nine junior/senior level physics courses.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his work published by John Wiley &amp; sons, was supported by the National science Foundation, George Mason University, the IBM corporation, &amp;  Apple computer, Inc.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5176-4195-4610-8F5C-D67435A3E79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The Anharmonic Oscillator… </a:t>
            </a:r>
            <a:br>
              <a:rPr sz="3200"/>
            </a:br>
            <a:r>
              <a:rPr b="1" i="1" lang="en-US" sz="2400" spc="-1" strike="noStrike" u="sng">
                <a:solidFill>
                  <a:srgbClr val="cc99ff"/>
                </a:solidFill>
                <a:uFillTx/>
                <a:latin typeface="Verdana"/>
              </a:rPr>
              <a:t>The Van Der Pol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F=-k x – D(xo^2-x^2) v +Fo Sin(w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Hence we have friction when x&gt;xo &amp; energy gain when x&lt;xo, this can actually be achieved in the design of an electrical circui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78B-CFCB-49A2-BEF7-1F5D86EA041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The Anharmonic Oscillator… </a:t>
            </a:r>
            <a:br>
              <a:rPr sz="3200"/>
            </a:br>
            <a:r>
              <a:rPr b="1" i="1" lang="en-US" sz="2400" spc="-1" strike="noStrike" u="sng">
                <a:solidFill>
                  <a:srgbClr val="cc99ff"/>
                </a:solidFill>
                <a:uFillTx/>
                <a:latin typeface="Verdana"/>
              </a:rPr>
              <a:t>The Van Der Pol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Non zero D: represents the presence of fric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Fo: Is the strength of the driving force if one is present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9F6-55B6-4860-9C14-D053DDE7D28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The Anharmonic Oscillator… </a:t>
            </a:r>
            <a:br>
              <a:rPr sz="3200"/>
            </a:br>
            <a:r>
              <a:rPr b="1" i="1" lang="en-US" sz="2400" spc="-1" strike="noStrike" u="sng">
                <a:solidFill>
                  <a:srgbClr val="cc99ff"/>
                </a:solidFill>
                <a:uFillTx/>
                <a:latin typeface="Verdana"/>
              </a:rPr>
              <a:t>Spring Stretched Between Two Walls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A ball is held by two springs stretched between two walls, the upper wall is moveab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宋体"/>
              </a:rPr>
              <a:t>When the walls are far apart, the springs are relaxed, when the walls are still closer, the springs would be compressed, notice that the potential graph has two minima. “ Both are stable, symmetry has been broken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221-B068-4D8B-A80D-80AEDC67152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The Anharmonic Oscillator… </a:t>
            </a:r>
            <a:br>
              <a:rPr sz="3200"/>
            </a:br>
            <a:r>
              <a:rPr b="1" i="1" lang="en-US" sz="2800" spc="-1" strike="noStrike" u="sng">
                <a:solidFill>
                  <a:srgbClr val="cc99ff"/>
                </a:solidFill>
                <a:uFillTx/>
                <a:latin typeface="Verdana"/>
              </a:rPr>
              <a:t>Spring Stretched Between Two Walls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F=-2k(L-Lo) x/L – D v +Fo Sin(w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Where: L^2=x^2+(W/2)^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K: Spring Constan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Lo: The Unstretched length of the spring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L: The stretched length of the spring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W: The distance between wall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Non zero D: represents the presence of fri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宋体"/>
              </a:rPr>
              <a:t>Fo: The strength of the driving force if one is presen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4E0-C84F-436E-B05B-1C04D7319514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9642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66"/>
                </a:solidFill>
                <a:uFillTx/>
                <a:latin typeface="Verdana"/>
              </a:rPr>
              <a:t>CUPS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: 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  <a:ea typeface="宋体"/>
              </a:rPr>
              <a:t>Consortium for Upper Level Physics Software</a:t>
            </a:r>
            <a:r>
              <a:rPr b="1" lang="en-US" sz="5200" spc="-1" strike="noStrike">
                <a:solidFill>
                  <a:srgbClr val="006666"/>
                </a:solidFill>
                <a:latin typeface="Verdana"/>
                <a:ea typeface="宋体"/>
              </a:rPr>
              <a:t>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he simulations are programs that include complex. Often realistic. Calculations of models of various physical systems and the output is usually presented in the form of graphical (often animated) displays.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B542-3B08-4004-A5EF-1E0553A68DA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147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All CUPS programs were written in Borland Pascal using CUPS utilities. The utilities include: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*Graphical user interface (JT)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*2-D and 3-D graphics packages (JT)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*Library of mathematical functions (WM)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*Library of numerical procedures (WM)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*String to function parser (JT)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*Dynamical arrays (1-D and 2-D) (WM)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7FD-F4E0-48A9-B472-2D90DA0778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964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66"/>
                </a:solidFill>
                <a:latin typeface="Verdana"/>
                <a:ea typeface="宋体"/>
              </a:rPr>
              <a:t>Classical Mechanics Simulations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  <a:ea typeface="宋体"/>
              </a:rPr>
              <a:t> 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78804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Authors: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Bruce Hawkins, smith college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Randall Jones Loyola college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Classical Mechanics Simulations cover: The Motion Generator, Gravitational Orbits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Oscillators, Collisions (Coulomb, Nuclear, Hard Sphere, Soft Sphere), Coupled Oscillators 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(One and Two Dimensional), and Dynamics of Rigid Bodies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98FD-D64F-4A98-83EE-874449E80C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037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Verdana"/>
              </a:rPr>
              <a:t>Programs:</a:t>
            </a:r>
            <a:endParaRPr b="1" lang="en-US" sz="8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80912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GENMONT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(the motion Generator) allows you to numerically solve any differential equation of motion for a system with up to three degrees of freedom 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23CE-98C9-415F-83D2-FA833430CE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64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Verdana"/>
              </a:rPr>
              <a:t>Programs:</a:t>
            </a:r>
            <a:endParaRPr b="1" lang="en-US" sz="8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26920" y="1915920"/>
            <a:ext cx="780912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ROTATE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(rotation of 3-D objects): is designed to aid in the visualization of the dynamical variables of rotational motion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C9EA-F7F1-4EE1-8C1F-484A0DF38F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964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Verdana"/>
              </a:rPr>
              <a:t>Programs:</a:t>
            </a:r>
            <a:endParaRPr b="1" lang="en-US" sz="8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755640" y="2133360"/>
            <a:ext cx="7880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COUPOSC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(coupled oscillators) is designed to investigate a wide range of harmonic systems given a set of objects and springs connected in one or two Dimension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D39D-A746-41B7-9DF4-B390F1EC9D2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037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Verdana"/>
              </a:rPr>
              <a:t>Programs:</a:t>
            </a:r>
            <a:endParaRPr b="1" lang="en-US" sz="8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802476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ORBITER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( Gravitational Orbits): simulates the motion of up to five objects with mutual gravitational attraction, and any reasonable number of additional objects moving in the gravitational field of the first five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4B76-49E8-4E68-AE1A-C6D84C1E88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14:12:49Z</dcterms:created>
  <dc:creator>xp</dc:creator>
  <dc:description/>
  <dc:language>en-US</dc:language>
  <cp:lastModifiedBy>xp</cp:lastModifiedBy>
  <dcterms:modified xsi:type="dcterms:W3CDTF">2005-05-28T21:07:44Z</dcterms:modified>
  <cp:revision>47</cp:revision>
  <dc:subject/>
  <dc:title>CUPS: consortium for upper level physics software </dc:title>
</cp:coreProperties>
</file>