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C18-550A-485F-8D25-931BDBF8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A5F-2070-45E1-94BF-2AE12D9D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21C5-6BA3-46E8-A69C-6793688F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1E9-4CCC-4DDA-A445-A4DDF28F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E096-AFCB-42E5-A844-56515CD8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0EA0-D2CE-4D15-9C11-2F9356E4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956E-66C8-40B9-9319-34BD58A1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D7EA-496F-48DE-9886-C98462F0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847D-0419-40BD-94A2-914698DB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A772-C36A-4AB5-9824-FA774D3F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5840-61D5-4586-AE41-E1C49D2F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85E-0D95-4783-B737-0AFBF83F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2ED5-D9A6-423F-A815-45A2D05B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C675-DB40-4CB0-A926-F997027C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238D-4F2C-45B1-81D7-8784089F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EFC3-B4AA-422F-B214-4F5D2720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BE1B-C8C6-4434-B6CB-9838218C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55E-C292-4E32-9473-22FEC4BB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859-F95E-4F4E-AA19-5ABB30FC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5D6-1A88-46FE-AD07-A7EE7315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C85-E38A-471C-BEFB-E410A59A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04E-E262-464C-A17F-82B99EC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06A-D56A-4BD5-8429-42C043D2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197-D2F3-43CD-9E94-4DC86D0D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DF35-0C22-4581-8380-8C229CF69234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644B-FE13-427B-8433-C252EC7290D8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3657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ine einfache Möglichkeit zum interaktiven Ler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9320" y="1143000"/>
            <a:ext cx="7162560" cy="16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93939"/>
                    </a:gs>
                    <a:gs pos="100000">
                      <a:srgbClr val="96969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IZ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93939"/>
                  </a:gs>
                  <a:gs pos="100000">
                    <a:srgbClr val="96969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563868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it PowerPoint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1828800" y="4765680"/>
            <a:ext cx="1447920" cy="533520"/>
          </a:xfrm>
          <a:custGeom>
            <a:avLst/>
            <a:gdLst>
              <a:gd name="textAreaLeft" fmla="*/ 34560 w 1447920"/>
              <a:gd name="textAreaRight" fmla="*/ 1413360 w 1447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8595" h="21600">
                <a:moveTo>
                  <a:pt x="0" y="0"/>
                </a:moveTo>
                <a:lnTo>
                  <a:pt x="58595" y="0"/>
                </a:lnTo>
                <a:lnTo>
                  <a:pt x="58595" y="21600"/>
                </a:lnTo>
                <a:lnTo>
                  <a:pt x="0" y="21600"/>
                </a:lnTo>
                <a:close/>
              </a:path>
              <a:path fill="lightenLess" w="58595" h="21600">
                <a:moveTo>
                  <a:pt x="0" y="0"/>
                </a:moveTo>
                <a:lnTo>
                  <a:pt x="58595" y="0"/>
                </a:lnTo>
                <a:lnTo>
                  <a:pt x="57195" y="1400"/>
                </a:lnTo>
                <a:lnTo>
                  <a:pt x="1400" y="1400"/>
                </a:lnTo>
                <a:close/>
              </a:path>
              <a:path fill="darken" w="58595" h="21600">
                <a:moveTo>
                  <a:pt x="58595" y="0"/>
                </a:moveTo>
                <a:lnTo>
                  <a:pt x="58595" y="21600"/>
                </a:lnTo>
                <a:lnTo>
                  <a:pt x="57195" y="20200"/>
                </a:lnTo>
                <a:lnTo>
                  <a:pt x="57195" y="1400"/>
                </a:lnTo>
                <a:close/>
              </a:path>
              <a:path fill="darkenLess" w="58595" h="21600">
                <a:moveTo>
                  <a:pt x="58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195" y="20200"/>
                </a:lnTo>
                <a:close/>
              </a:path>
              <a:path fill="lighten" w="58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49006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31f0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2001 K. Unger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lastslide"/>
          </p:cNvPr>
          <p:cNvSpPr/>
          <p:nvPr/>
        </p:nvSpPr>
        <p:spPr>
          <a:xfrm>
            <a:off x="71629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1295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00" h="21600">
                <a:moveTo>
                  <a:pt x="14055" y="14281"/>
                </a:moveTo>
                <a:lnTo>
                  <a:pt x="14055" y="12323"/>
                </a:lnTo>
                <a:cubicBezTo>
                  <a:pt x="14055" y="11496"/>
                  <a:pt x="14386" y="10800"/>
                  <a:pt x="14986" y="10800"/>
                </a:cubicBezTo>
                <a:cubicBezTo>
                  <a:pt x="16118" y="10800"/>
                  <a:pt x="17014" y="9434"/>
                  <a:pt x="17014" y="7849"/>
                </a:cubicBezTo>
                <a:cubicBezTo>
                  <a:pt x="17014" y="5534"/>
                  <a:pt x="15161" y="3794"/>
                  <a:pt x="12950" y="3794"/>
                </a:cubicBezTo>
                <a:cubicBezTo>
                  <a:pt x="10739" y="3794"/>
                  <a:pt x="9068" y="5534"/>
                  <a:pt x="9068" y="7849"/>
                </a:cubicBezTo>
                <a:lnTo>
                  <a:pt x="10922" y="7849"/>
                </a:lnTo>
                <a:cubicBezTo>
                  <a:pt x="10922" y="6709"/>
                  <a:pt x="11844" y="5821"/>
                  <a:pt x="12950" y="5821"/>
                </a:cubicBezTo>
                <a:cubicBezTo>
                  <a:pt x="14055" y="5821"/>
                  <a:pt x="14986" y="6709"/>
                  <a:pt x="14986" y="7849"/>
                </a:cubicBezTo>
                <a:cubicBezTo>
                  <a:pt x="14986" y="8589"/>
                  <a:pt x="14516" y="9320"/>
                  <a:pt x="14055" y="9320"/>
                </a:cubicBezTo>
                <a:cubicBezTo>
                  <a:pt x="12950" y="9320"/>
                  <a:pt x="11844" y="10800"/>
                  <a:pt x="11844" y="12323"/>
                </a:cubicBezTo>
                <a:lnTo>
                  <a:pt x="11844" y="14281"/>
                </a:ln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lastslide"/>
          </p:cNvPr>
          <p:cNvSpPr/>
          <p:nvPr/>
        </p:nvSpPr>
        <p:spPr>
          <a:xfrm>
            <a:off x="71629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4" h="21600">
                <a:moveTo>
                  <a:pt x="14067" y="14281"/>
                </a:moveTo>
                <a:lnTo>
                  <a:pt x="14067" y="12323"/>
                </a:lnTo>
                <a:cubicBezTo>
                  <a:pt x="14067" y="11496"/>
                  <a:pt x="14398" y="10800"/>
                  <a:pt x="14999" y="10800"/>
                </a:cubicBezTo>
                <a:cubicBezTo>
                  <a:pt x="16130" y="10800"/>
                  <a:pt x="17027" y="9434"/>
                  <a:pt x="17027" y="7849"/>
                </a:cubicBezTo>
                <a:cubicBezTo>
                  <a:pt x="17027" y="5534"/>
                  <a:pt x="15173" y="3794"/>
                  <a:pt x="12962" y="3794"/>
                </a:cubicBezTo>
                <a:cubicBezTo>
                  <a:pt x="10751" y="3794"/>
                  <a:pt x="9080" y="5534"/>
                  <a:pt x="9080" y="7849"/>
                </a:cubicBezTo>
                <a:lnTo>
                  <a:pt x="10934" y="7849"/>
                </a:lnTo>
                <a:cubicBezTo>
                  <a:pt x="10934" y="6709"/>
                  <a:pt x="11857" y="5821"/>
                  <a:pt x="12962" y="5821"/>
                </a:cubicBezTo>
                <a:cubicBezTo>
                  <a:pt x="14067" y="5821"/>
                  <a:pt x="14999" y="6709"/>
                  <a:pt x="14999" y="7849"/>
                </a:cubicBezTo>
                <a:cubicBezTo>
                  <a:pt x="14999" y="8589"/>
                  <a:pt x="14529" y="9320"/>
                  <a:pt x="14067" y="9320"/>
                </a:cubicBezTo>
                <a:cubicBezTo>
                  <a:pt x="12962" y="9320"/>
                  <a:pt x="11857" y="10800"/>
                  <a:pt x="11857" y="12323"/>
                </a:cubicBezTo>
                <a:lnTo>
                  <a:pt x="11857" y="14281"/>
                </a:ln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229600" y="2819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4" h="21600">
                <a:moveTo>
                  <a:pt x="14067" y="14281"/>
                </a:moveTo>
                <a:lnTo>
                  <a:pt x="14067" y="12323"/>
                </a:lnTo>
                <a:cubicBezTo>
                  <a:pt x="14067" y="11496"/>
                  <a:pt x="14398" y="10800"/>
                  <a:pt x="14999" y="10800"/>
                </a:cubicBezTo>
                <a:cubicBezTo>
                  <a:pt x="16130" y="10800"/>
                  <a:pt x="17027" y="9434"/>
                  <a:pt x="17027" y="7849"/>
                </a:cubicBezTo>
                <a:cubicBezTo>
                  <a:pt x="17027" y="5534"/>
                  <a:pt x="15173" y="3794"/>
                  <a:pt x="12962" y="3794"/>
                </a:cubicBezTo>
                <a:cubicBezTo>
                  <a:pt x="10751" y="3794"/>
                  <a:pt x="9080" y="5534"/>
                  <a:pt x="9080" y="7849"/>
                </a:cubicBezTo>
                <a:lnTo>
                  <a:pt x="10934" y="7849"/>
                </a:lnTo>
                <a:cubicBezTo>
                  <a:pt x="10934" y="6709"/>
                  <a:pt x="11857" y="5821"/>
                  <a:pt x="12962" y="5821"/>
                </a:cubicBezTo>
                <a:cubicBezTo>
                  <a:pt x="14067" y="5821"/>
                  <a:pt x="14999" y="6709"/>
                  <a:pt x="14999" y="7849"/>
                </a:cubicBezTo>
                <a:cubicBezTo>
                  <a:pt x="14999" y="8589"/>
                  <a:pt x="14529" y="9320"/>
                  <a:pt x="14067" y="9320"/>
                </a:cubicBezTo>
                <a:cubicBezTo>
                  <a:pt x="12962" y="9320"/>
                  <a:pt x="11857" y="10800"/>
                  <a:pt x="11857" y="12323"/>
                </a:cubicBezTo>
                <a:lnTo>
                  <a:pt x="11857" y="14281"/>
                </a:ln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715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K. Unger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per – Richtig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47242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ine Antwort war richti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3794"/>
                </a:moveTo>
                <a:lnTo>
                  <a:pt x="37234" y="10800"/>
                </a:lnTo>
                <a:lnTo>
                  <a:pt x="23221" y="17806"/>
                </a:ln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K. Unger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ider nicht richtig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4572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such es noch einmal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el Glüc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7772400" y="60199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3794"/>
                </a:moveTo>
                <a:lnTo>
                  <a:pt x="35082" y="10800"/>
                </a:lnTo>
                <a:lnTo>
                  <a:pt x="21069" y="17806"/>
                </a:ln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1 K. Unger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7:46:33Z</dcterms:created>
  <dc:creator>USER4</dc:creator>
  <dc:description/>
  <dc:language>en-US</dc:language>
  <cp:lastModifiedBy>USER4</cp:lastModifiedBy>
  <dcterms:modified xsi:type="dcterms:W3CDTF">2002-03-17T14:26:39Z</dcterms:modified>
  <cp:revision>4</cp:revision>
  <dc:subject/>
  <dc:title>QUIZ</dc:title>
</cp:coreProperties>
</file>