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EB62-00EF-48ED-9689-480B3FB0E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AF82-299C-41E3-903F-7A27AC1E0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832A-3824-4029-95FB-E53676246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E395-1E9C-4349-8767-8AE8949DD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B919-2F5E-4319-A259-67464BD74B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04CF-BAF4-4329-92B2-577F2CE1E0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15D2-E7CA-4B28-88A8-EB22280CD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EB29-D520-4EF1-A6A5-1783C9DC72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FF40-A064-4626-9BC5-31AE64074F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EC72-6A13-427C-AED7-03C5F4325A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D7FC-D172-4DDC-8F31-5E7A816D5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E86C-2896-434E-89BF-AC9BC698B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9CCE-AD0E-4A3B-9A6E-668B616A2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04B4-B63D-4DEE-BF66-C8C679F354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5F95-0DA2-4CA4-AEE1-092D0C0FBE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4579-B47E-442E-9FC8-8EDAE31F1E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B870-FEFF-4055-B4F6-B24E447FB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8903-09DA-46EB-8CB0-9EE12659F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A113-2751-4863-93C5-7FCCF6EF1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5ADA-9D4D-4BB1-AAB4-B96AED7EC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F7CF-18FD-452D-BEA8-920F9C341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9844-756A-43C8-8B08-956633428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27A5-446B-48B2-AD53-567F6099F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E474-2D0A-4B55-86DE-DD1D084F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911-C28B-40FA-9CF3-1E59A04AF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BFD-A581-4117-BEF2-CFFBA9379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- Pointer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772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s t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produce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a constant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changed, but no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64600"/>
              <a:chOff x="0" y="0"/>
              <a:chExt cx="6780960" cy="264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3: fig07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64600"/>
              <a:ext cx="6780960" cy="264600"/>
              <a:chOff x="0" y="264600"/>
              <a:chExt cx="6780960" cy="264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529200"/>
              <a:ext cx="6780960" cy="264600"/>
              <a:chOff x="0" y="529200"/>
              <a:chExt cx="6780960" cy="264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non-constant dat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794160"/>
              <a:ext cx="6780960" cy="264600"/>
              <a:chOff x="0" y="794160"/>
              <a:chExt cx="6780960" cy="264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058760"/>
              <a:ext cx="6780960" cy="264600"/>
              <a:chOff x="0" y="1058760"/>
              <a:chExt cx="6780960" cy="264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323360"/>
              <a:ext cx="6780960" cy="264600"/>
              <a:chOff x="0" y="1323360"/>
              <a:chExt cx="6780960" cy="264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587960"/>
              <a:ext cx="6780960" cy="264600"/>
              <a:chOff x="0" y="1587960"/>
              <a:chExt cx="6780960" cy="264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852920"/>
              <a:ext cx="6780960" cy="264600"/>
              <a:chOff x="0" y="1852920"/>
              <a:chExt cx="6780960" cy="264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2117520"/>
              <a:ext cx="6780960" cy="264600"/>
              <a:chOff x="0" y="2117520"/>
              <a:chExt cx="6780960" cy="264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382120"/>
              <a:ext cx="6780960" cy="264600"/>
              <a:chOff x="0" y="2382120"/>
              <a:chExt cx="6780960" cy="264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646720"/>
              <a:ext cx="6780960" cy="264600"/>
              <a:chOff x="0" y="2646720"/>
              <a:chExt cx="6780960" cy="264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tr is a constant pointer to a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911680"/>
              <a:ext cx="6780960" cy="264600"/>
              <a:chOff x="0" y="2911680"/>
              <a:chExt cx="6780960" cy="264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176280"/>
              <a:ext cx="6780960" cy="264600"/>
              <a:chOff x="0" y="3176280"/>
              <a:chExt cx="6780960" cy="264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440880"/>
              <a:ext cx="6780960" cy="264600"/>
              <a:chOff x="0" y="3440880"/>
              <a:chExt cx="6780960" cy="264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o the same memory location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705840"/>
              <a:ext cx="6780960" cy="264600"/>
              <a:chOff x="0" y="3705840"/>
              <a:chExt cx="6780960" cy="264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970440"/>
              <a:ext cx="6780960" cy="264600"/>
              <a:chOff x="0" y="3970440"/>
              <a:chExt cx="6780960" cy="264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235040"/>
              <a:ext cx="6780960" cy="264600"/>
              <a:chOff x="0" y="4235040"/>
              <a:chExt cx="6780960" cy="264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4500000"/>
              <a:ext cx="6780960" cy="264600"/>
              <a:chOff x="0" y="4500000"/>
              <a:chExt cx="6780960" cy="264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764600"/>
              <a:ext cx="6780960" cy="264600"/>
              <a:chOff x="0" y="4764600"/>
              <a:chExt cx="6780960" cy="264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53341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13.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7_13.c 16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1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47920" y="1924200"/>
            <a:ext cx="4724280" cy="1809720"/>
            <a:chOff x="1447920" y="1924200"/>
            <a:chExt cx="4724280" cy="1809720"/>
          </a:xfrm>
        </p:grpSpPr>
        <p:sp>
          <p:nvSpPr>
            <p:cNvPr id="380" name=""/>
            <p:cNvSpPr/>
            <p:nvPr/>
          </p:nvSpPr>
          <p:spPr>
            <a:xfrm flipH="1">
              <a:off x="1447920" y="228636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400" y="1924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599840" y="3809880"/>
            <a:ext cx="5029560" cy="1676520"/>
            <a:chOff x="1599840" y="3809880"/>
            <a:chExt cx="5029560" cy="1676520"/>
          </a:xfrm>
        </p:grpSpPr>
        <p:grpSp>
          <p:nvGrpSpPr>
            <p:cNvPr id="383" name=""/>
            <p:cNvGrpSpPr/>
            <p:nvPr/>
          </p:nvGrpSpPr>
          <p:grpSpPr>
            <a:xfrm>
              <a:off x="1599840" y="3809880"/>
              <a:ext cx="5029560" cy="580680"/>
              <a:chOff x="1599840" y="3809880"/>
              <a:chExt cx="5029560" cy="580680"/>
            </a:xfrm>
          </p:grpSpPr>
          <p:sp>
            <p:nvSpPr>
              <p:cNvPr id="384" name=""/>
              <p:cNvSpPr/>
              <p:nvPr/>
            </p:nvSpPr>
            <p:spPr>
              <a:xfrm flipH="1">
                <a:off x="1599840" y="403848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200" y="380988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–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H="1">
              <a:off x="4419720" y="441936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ap two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switch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:  size of 1 element *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tes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", sizeof( myArray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5: fig07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scending order, and prints the resulting array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ort the arra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828800" y="2362320"/>
            <a:ext cx="4419720" cy="1523880"/>
            <a:chOff x="1828800" y="2362320"/>
            <a:chExt cx="4419720" cy="1523880"/>
          </a:xfrm>
        </p:grpSpPr>
        <p:sp>
          <p:nvSpPr>
            <p:cNvPr id="490" name=""/>
            <p:cNvSpPr/>
            <p:nvPr/>
          </p:nvSpPr>
          <p:spPr>
            <a:xfrm flipH="1">
              <a:off x="1828800" y="2895840"/>
              <a:ext cx="1752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3623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0"/>
            <a:ext cx="6780960" cy="4114800"/>
            <a:chOff x="0" y="0"/>
            <a:chExt cx="6780960" cy="4114800"/>
          </a:xfrm>
        </p:grpSpPr>
        <p:grpSp>
          <p:nvGrpSpPr>
            <p:cNvPr id="49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j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"/>
          <p:cNvSpPr/>
          <p:nvPr/>
        </p:nvSpPr>
        <p:spPr>
          <a:xfrm>
            <a:off x="0" y="434340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ions can be performed 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an integer to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machine with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remented by 2), but the machine has 4 by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so it points to addr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76520" y="3581280"/>
            <a:ext cx="5485680" cy="2056680"/>
            <a:chOff x="1676520" y="3581280"/>
            <a:chExt cx="5485680" cy="2056680"/>
          </a:xfrm>
        </p:grpSpPr>
        <p:sp>
          <p:nvSpPr>
            <p:cNvPr id="547" name=""/>
            <p:cNvSpPr/>
            <p:nvPr/>
          </p:nvSpPr>
          <p:spPr>
            <a:xfrm>
              <a:off x="1676520" y="5346000"/>
              <a:ext cx="289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7480" y="4973400"/>
              <a:ext cx="495720" cy="403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73080" y="5107680"/>
              <a:ext cx="164520" cy="13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29760" y="4339080"/>
              <a:ext cx="826920" cy="403920"/>
              <a:chOff x="3029760" y="4339080"/>
              <a:chExt cx="826920" cy="4039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2976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652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3856680" y="4339080"/>
              <a:ext cx="826200" cy="403920"/>
              <a:chOff x="3856680" y="4339080"/>
              <a:chExt cx="826200" cy="403920"/>
            </a:xfrm>
          </p:grpSpPr>
          <p:sp>
            <p:nvSpPr>
              <p:cNvPr id="554" name=""/>
              <p:cNvSpPr/>
              <p:nvPr/>
            </p:nvSpPr>
            <p:spPr>
              <a:xfrm>
                <a:off x="38566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434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682880" y="4339080"/>
              <a:ext cx="826200" cy="403920"/>
              <a:chOff x="4682880" y="4339080"/>
              <a:chExt cx="826200" cy="403920"/>
            </a:xfrm>
          </p:grpSpPr>
          <p:sp>
            <p:nvSpPr>
              <p:cNvPr id="557" name=""/>
              <p:cNvSpPr/>
              <p:nvPr/>
            </p:nvSpPr>
            <p:spPr>
              <a:xfrm>
                <a:off x="46828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96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336000" y="4339080"/>
              <a:ext cx="826200" cy="403920"/>
              <a:chOff x="6336000" y="4339080"/>
              <a:chExt cx="826200" cy="403920"/>
            </a:xfrm>
          </p:grpSpPr>
          <p:sp>
            <p:nvSpPr>
              <p:cNvPr id="560" name=""/>
              <p:cNvSpPr/>
              <p:nvPr/>
            </p:nvSpPr>
            <p:spPr>
              <a:xfrm>
                <a:off x="633600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42276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509080" y="4339080"/>
              <a:ext cx="826920" cy="403920"/>
              <a:chOff x="5509080" y="4339080"/>
              <a:chExt cx="826920" cy="403920"/>
            </a:xfrm>
          </p:grpSpPr>
          <p:sp>
            <p:nvSpPr>
              <p:cNvPr id="563" name=""/>
              <p:cNvSpPr/>
              <p:nvPr/>
            </p:nvSpPr>
            <p:spPr>
              <a:xfrm>
                <a:off x="550908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9584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302976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566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28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090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600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3744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400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0200" y="3817080"/>
              <a:ext cx="6512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71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33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47800" y="3581280"/>
              <a:ext cx="11156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49040" y="4515840"/>
              <a:ext cx="1084680" cy="59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from one to the other.  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2 - 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produc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see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of the same type can be assigned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a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an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them equal to one another 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actually the address of first element of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&amp;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ass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ddress of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offset. 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subscrip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performing pointer arithmetic on the array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an array of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 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pointers to the first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ach elem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actually stored in the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nly pointers to the strings ar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grpSp>
          <p:nvGrpSpPr>
            <p:cNvPr id="591" name=""/>
            <p:cNvGrpSpPr/>
            <p:nvPr/>
          </p:nvGrpSpPr>
          <p:grpSpPr>
            <a:xfrm>
              <a:off x="838080" y="5276880"/>
              <a:ext cx="2190960" cy="361800"/>
              <a:chOff x="838080" y="5276880"/>
              <a:chExt cx="2190960" cy="3618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838080" y="5276880"/>
                <a:ext cx="1565280" cy="361800"/>
                <a:chOff x="838080" y="5276880"/>
                <a:chExt cx="1565280" cy="36180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1934280" y="5276880"/>
                  <a:ext cx="469080" cy="361800"/>
                  <a:chOff x="1934280" y="5276880"/>
                  <a:chExt cx="469080" cy="36180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1934280" y="52768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89080" y="53974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838080" y="53370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246760" y="545760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838080" y="4914720"/>
              <a:ext cx="2190960" cy="361800"/>
              <a:chOff x="838080" y="4914720"/>
              <a:chExt cx="2190960" cy="3618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838080" y="4914720"/>
                <a:ext cx="1565280" cy="361800"/>
                <a:chOff x="838080" y="4914720"/>
                <a:chExt cx="1565280" cy="3618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1934280" y="4914720"/>
                  <a:ext cx="469080" cy="361800"/>
                  <a:chOff x="1934280" y="4914720"/>
                  <a:chExt cx="469080" cy="361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1934280" y="49147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89440" y="50353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838080" y="49748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2247120" y="50954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838080" y="4552920"/>
              <a:ext cx="2190960" cy="361800"/>
              <a:chOff x="838080" y="4552920"/>
              <a:chExt cx="2190960" cy="361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838080" y="4552920"/>
                <a:ext cx="1565280" cy="361800"/>
                <a:chOff x="838080" y="4552920"/>
                <a:chExt cx="1565280" cy="36180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1934280" y="4552920"/>
                  <a:ext cx="469080" cy="361800"/>
                  <a:chOff x="1934280" y="4552920"/>
                  <a:chExt cx="469080" cy="36180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1934280" y="45529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89440" y="46735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838080" y="46130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247120" y="47336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8080" y="4191120"/>
              <a:ext cx="2190960" cy="361800"/>
              <a:chOff x="838080" y="4191120"/>
              <a:chExt cx="2190960" cy="361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838080" y="4191120"/>
                <a:ext cx="1565280" cy="361800"/>
                <a:chOff x="838080" y="4191120"/>
                <a:chExt cx="1565280" cy="361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1934280" y="4191120"/>
                  <a:ext cx="469080" cy="361800"/>
                  <a:chOff x="1934280" y="4191120"/>
                  <a:chExt cx="469080" cy="3618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934280" y="41911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89440" y="43117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838080" y="42512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2247120" y="43718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029040" y="4251240"/>
              <a:ext cx="625680" cy="282240"/>
              <a:chOff x="3029040" y="4251240"/>
              <a:chExt cx="625680" cy="282240"/>
            </a:xfrm>
          </p:grpSpPr>
          <p:sp>
            <p:nvSpPr>
              <p:cNvPr id="620" name=""/>
              <p:cNvSpPr/>
              <p:nvPr/>
            </p:nvSpPr>
            <p:spPr>
              <a:xfrm>
                <a:off x="30290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655080" y="4251240"/>
              <a:ext cx="625680" cy="282240"/>
              <a:chOff x="3655080" y="4251240"/>
              <a:chExt cx="625680" cy="282240"/>
            </a:xfrm>
          </p:grpSpPr>
          <p:sp>
            <p:nvSpPr>
              <p:cNvPr id="623" name=""/>
              <p:cNvSpPr/>
              <p:nvPr/>
            </p:nvSpPr>
            <p:spPr>
              <a:xfrm>
                <a:off x="36550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7058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280760" y="4251240"/>
              <a:ext cx="625680" cy="282240"/>
              <a:chOff x="4280760" y="4251240"/>
              <a:chExt cx="625680" cy="282240"/>
            </a:xfrm>
          </p:grpSpPr>
          <p:sp>
            <p:nvSpPr>
              <p:cNvPr id="626" name=""/>
              <p:cNvSpPr/>
              <p:nvPr/>
            </p:nvSpPr>
            <p:spPr>
              <a:xfrm>
                <a:off x="42807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3315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906800" y="4251240"/>
              <a:ext cx="625680" cy="282240"/>
              <a:chOff x="4906800" y="4251240"/>
              <a:chExt cx="625680" cy="282240"/>
            </a:xfrm>
          </p:grpSpPr>
          <p:sp>
            <p:nvSpPr>
              <p:cNvPr id="629" name=""/>
              <p:cNvSpPr/>
              <p:nvPr/>
            </p:nvSpPr>
            <p:spPr>
              <a:xfrm>
                <a:off x="490680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95756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532480" y="4251240"/>
              <a:ext cx="625680" cy="282240"/>
              <a:chOff x="5532480" y="4251240"/>
              <a:chExt cx="625680" cy="282240"/>
            </a:xfrm>
          </p:grpSpPr>
          <p:sp>
            <p:nvSpPr>
              <p:cNvPr id="632" name=""/>
              <p:cNvSpPr/>
              <p:nvPr/>
            </p:nvSpPr>
            <p:spPr>
              <a:xfrm>
                <a:off x="55324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832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6158160" y="4251240"/>
              <a:ext cx="625680" cy="282240"/>
              <a:chOff x="6158160" y="4251240"/>
              <a:chExt cx="625680" cy="282240"/>
            </a:xfrm>
          </p:grpSpPr>
          <p:sp>
            <p:nvSpPr>
              <p:cNvPr id="635" name=""/>
              <p:cNvSpPr/>
              <p:nvPr/>
            </p:nvSpPr>
            <p:spPr>
              <a:xfrm>
                <a:off x="61581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089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756480" y="4251240"/>
              <a:ext cx="678960" cy="282240"/>
              <a:chOff x="6756480" y="4251240"/>
              <a:chExt cx="678960" cy="282240"/>
            </a:xfrm>
          </p:grpSpPr>
          <p:sp>
            <p:nvSpPr>
              <p:cNvPr id="638" name=""/>
              <p:cNvSpPr/>
              <p:nvPr/>
            </p:nvSpPr>
            <p:spPr>
              <a:xfrm>
                <a:off x="67838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756480" y="425124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029040" y="4603320"/>
              <a:ext cx="625680" cy="282240"/>
              <a:chOff x="3029040" y="4603320"/>
              <a:chExt cx="625680" cy="282240"/>
            </a:xfrm>
          </p:grpSpPr>
          <p:sp>
            <p:nvSpPr>
              <p:cNvPr id="641" name=""/>
              <p:cNvSpPr/>
              <p:nvPr/>
            </p:nvSpPr>
            <p:spPr>
              <a:xfrm>
                <a:off x="30290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7980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655080" y="4603320"/>
              <a:ext cx="625680" cy="282240"/>
              <a:chOff x="3655080" y="4603320"/>
              <a:chExt cx="625680" cy="282240"/>
            </a:xfrm>
          </p:grpSpPr>
          <p:sp>
            <p:nvSpPr>
              <p:cNvPr id="644" name=""/>
              <p:cNvSpPr/>
              <p:nvPr/>
            </p:nvSpPr>
            <p:spPr>
              <a:xfrm>
                <a:off x="36550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584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280760" y="4603320"/>
              <a:ext cx="625680" cy="282240"/>
              <a:chOff x="4280760" y="4603320"/>
              <a:chExt cx="625680" cy="282240"/>
            </a:xfrm>
          </p:grpSpPr>
          <p:sp>
            <p:nvSpPr>
              <p:cNvPr id="647" name=""/>
              <p:cNvSpPr/>
              <p:nvPr/>
            </p:nvSpPr>
            <p:spPr>
              <a:xfrm>
                <a:off x="42807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3152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906800" y="4603320"/>
              <a:ext cx="625680" cy="282240"/>
              <a:chOff x="4906800" y="4603320"/>
              <a:chExt cx="625680" cy="282240"/>
            </a:xfrm>
          </p:grpSpPr>
          <p:sp>
            <p:nvSpPr>
              <p:cNvPr id="650" name=""/>
              <p:cNvSpPr/>
              <p:nvPr/>
            </p:nvSpPr>
            <p:spPr>
              <a:xfrm>
                <a:off x="49068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5756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532480" y="4603320"/>
              <a:ext cx="625680" cy="282240"/>
              <a:chOff x="5532480" y="4603320"/>
              <a:chExt cx="625680" cy="282240"/>
            </a:xfrm>
          </p:grpSpPr>
          <p:sp>
            <p:nvSpPr>
              <p:cNvPr id="653" name=""/>
              <p:cNvSpPr/>
              <p:nvPr/>
            </p:nvSpPr>
            <p:spPr>
              <a:xfrm>
                <a:off x="55324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8288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158160" y="4603320"/>
              <a:ext cx="625680" cy="282240"/>
              <a:chOff x="6158160" y="4603320"/>
              <a:chExt cx="625680" cy="282240"/>
            </a:xfrm>
          </p:grpSpPr>
          <p:sp>
            <p:nvSpPr>
              <p:cNvPr id="656" name=""/>
              <p:cNvSpPr/>
              <p:nvPr/>
            </p:nvSpPr>
            <p:spPr>
              <a:xfrm>
                <a:off x="61581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0856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783840" y="4603320"/>
              <a:ext cx="625680" cy="282240"/>
              <a:chOff x="6783840" y="4603320"/>
              <a:chExt cx="625680" cy="282240"/>
            </a:xfrm>
          </p:grpSpPr>
          <p:sp>
            <p:nvSpPr>
              <p:cNvPr id="659" name=""/>
              <p:cNvSpPr/>
              <p:nvPr/>
            </p:nvSpPr>
            <p:spPr>
              <a:xfrm>
                <a:off x="67838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3424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409520" y="4603320"/>
              <a:ext cx="625680" cy="282240"/>
              <a:chOff x="7409520" y="4603320"/>
              <a:chExt cx="625680" cy="282240"/>
            </a:xfrm>
          </p:grpSpPr>
          <p:sp>
            <p:nvSpPr>
              <p:cNvPr id="662" name=""/>
              <p:cNvSpPr/>
              <p:nvPr/>
            </p:nvSpPr>
            <p:spPr>
              <a:xfrm>
                <a:off x="740952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46028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8007840" y="4603320"/>
              <a:ext cx="678960" cy="282240"/>
              <a:chOff x="8007840" y="4603320"/>
              <a:chExt cx="678960" cy="282240"/>
            </a:xfrm>
          </p:grpSpPr>
          <p:sp>
            <p:nvSpPr>
              <p:cNvPr id="665" name=""/>
              <p:cNvSpPr/>
              <p:nvPr/>
            </p:nvSpPr>
            <p:spPr>
              <a:xfrm>
                <a:off x="80352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7840" y="46033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029040" y="4965120"/>
              <a:ext cx="625680" cy="282240"/>
              <a:chOff x="3029040" y="4965120"/>
              <a:chExt cx="625680" cy="282240"/>
            </a:xfrm>
          </p:grpSpPr>
          <p:sp>
            <p:nvSpPr>
              <p:cNvPr id="668" name=""/>
              <p:cNvSpPr/>
              <p:nvPr/>
            </p:nvSpPr>
            <p:spPr>
              <a:xfrm>
                <a:off x="302904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7980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655080" y="4965120"/>
              <a:ext cx="625680" cy="282240"/>
              <a:chOff x="3655080" y="4965120"/>
              <a:chExt cx="625680" cy="282240"/>
            </a:xfrm>
          </p:grpSpPr>
          <p:sp>
            <p:nvSpPr>
              <p:cNvPr id="671" name=""/>
              <p:cNvSpPr/>
              <p:nvPr/>
            </p:nvSpPr>
            <p:spPr>
              <a:xfrm>
                <a:off x="365508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0584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280760" y="4965120"/>
              <a:ext cx="625680" cy="282240"/>
              <a:chOff x="4280760" y="4965120"/>
              <a:chExt cx="625680" cy="282240"/>
            </a:xfrm>
          </p:grpSpPr>
          <p:sp>
            <p:nvSpPr>
              <p:cNvPr id="674" name=""/>
              <p:cNvSpPr/>
              <p:nvPr/>
            </p:nvSpPr>
            <p:spPr>
              <a:xfrm>
                <a:off x="428076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33116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906800" y="4965120"/>
              <a:ext cx="625320" cy="282240"/>
              <a:chOff x="4906800" y="4965120"/>
              <a:chExt cx="625320" cy="282240"/>
            </a:xfrm>
          </p:grpSpPr>
          <p:sp>
            <p:nvSpPr>
              <p:cNvPr id="677" name=""/>
              <p:cNvSpPr/>
              <p:nvPr/>
            </p:nvSpPr>
            <p:spPr>
              <a:xfrm>
                <a:off x="4906800" y="496512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5720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532120" y="4965120"/>
              <a:ext cx="625680" cy="282240"/>
              <a:chOff x="5532120" y="4965120"/>
              <a:chExt cx="625680" cy="282240"/>
            </a:xfrm>
          </p:grpSpPr>
          <p:sp>
            <p:nvSpPr>
              <p:cNvPr id="680" name=""/>
              <p:cNvSpPr/>
              <p:nvPr/>
            </p:nvSpPr>
            <p:spPr>
              <a:xfrm>
                <a:off x="553212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8288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130800" y="4965120"/>
              <a:ext cx="678960" cy="282240"/>
              <a:chOff x="6130800" y="4965120"/>
              <a:chExt cx="678960" cy="282240"/>
            </a:xfrm>
          </p:grpSpPr>
          <p:sp>
            <p:nvSpPr>
              <p:cNvPr id="683" name=""/>
              <p:cNvSpPr/>
              <p:nvPr/>
            </p:nvSpPr>
            <p:spPr>
              <a:xfrm>
                <a:off x="615780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130800" y="49651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029040" y="5327280"/>
              <a:ext cx="625680" cy="282240"/>
              <a:chOff x="3029040" y="5327280"/>
              <a:chExt cx="625680" cy="282240"/>
            </a:xfrm>
          </p:grpSpPr>
          <p:sp>
            <p:nvSpPr>
              <p:cNvPr id="686" name=""/>
              <p:cNvSpPr/>
              <p:nvPr/>
            </p:nvSpPr>
            <p:spPr>
              <a:xfrm>
                <a:off x="302904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980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655080" y="5327280"/>
              <a:ext cx="625680" cy="282240"/>
              <a:chOff x="3655080" y="5327280"/>
              <a:chExt cx="625680" cy="282240"/>
            </a:xfrm>
          </p:grpSpPr>
          <p:sp>
            <p:nvSpPr>
              <p:cNvPr id="689" name=""/>
              <p:cNvSpPr/>
              <p:nvPr/>
            </p:nvSpPr>
            <p:spPr>
              <a:xfrm>
                <a:off x="36550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70584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4280760" y="5327280"/>
              <a:ext cx="625680" cy="282240"/>
              <a:chOff x="4280760" y="5327280"/>
              <a:chExt cx="625680" cy="282240"/>
            </a:xfrm>
          </p:grpSpPr>
          <p:sp>
            <p:nvSpPr>
              <p:cNvPr id="692" name=""/>
              <p:cNvSpPr/>
              <p:nvPr/>
            </p:nvSpPr>
            <p:spPr>
              <a:xfrm>
                <a:off x="428076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33116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906800" y="5327280"/>
              <a:ext cx="625320" cy="282240"/>
              <a:chOff x="4906800" y="5327280"/>
              <a:chExt cx="625320" cy="282240"/>
            </a:xfrm>
          </p:grpSpPr>
          <p:sp>
            <p:nvSpPr>
              <p:cNvPr id="695" name=""/>
              <p:cNvSpPr/>
              <p:nvPr/>
            </p:nvSpPr>
            <p:spPr>
              <a:xfrm>
                <a:off x="4906800" y="532728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95720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5532120" y="5327280"/>
              <a:ext cx="625680" cy="282240"/>
              <a:chOff x="5532120" y="5327280"/>
              <a:chExt cx="625680" cy="282240"/>
            </a:xfrm>
          </p:grpSpPr>
          <p:sp>
            <p:nvSpPr>
              <p:cNvPr id="698" name=""/>
              <p:cNvSpPr/>
              <p:nvPr/>
            </p:nvSpPr>
            <p:spPr>
              <a:xfrm>
                <a:off x="553212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8288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157800" y="5327280"/>
              <a:ext cx="625680" cy="282240"/>
              <a:chOff x="6157800" y="5327280"/>
              <a:chExt cx="625680" cy="282240"/>
            </a:xfrm>
          </p:grpSpPr>
          <p:sp>
            <p:nvSpPr>
              <p:cNvPr id="701" name=""/>
              <p:cNvSpPr/>
              <p:nvPr/>
            </p:nvSpPr>
            <p:spPr>
              <a:xfrm>
                <a:off x="615780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0856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6120" y="5327280"/>
              <a:ext cx="678960" cy="282240"/>
              <a:chOff x="6756120" y="5327280"/>
              <a:chExt cx="678960" cy="28224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6120" y="532728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ray of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ouble scripted array (suit, 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umbers 1-52 go into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ing the order in which the cards are de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6320" y="2666880"/>
            <a:ext cx="9983520" cy="2355840"/>
            <a:chOff x="76320" y="2666880"/>
            <a:chExt cx="9983520" cy="2355840"/>
          </a:xfrm>
        </p:grpSpPr>
        <p:sp>
          <p:nvSpPr>
            <p:cNvPr id="712" name=""/>
            <p:cNvSpPr/>
            <p:nvPr/>
          </p:nvSpPr>
          <p:spPr>
            <a:xfrm>
              <a:off x="4114800" y="4343400"/>
              <a:ext cx="5945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k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 represents the King of 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6320" y="2666880"/>
              <a:ext cx="9178920" cy="2355840"/>
              <a:chOff x="76320" y="2666880"/>
              <a:chExt cx="9178920" cy="2355840"/>
            </a:xfrm>
          </p:grpSpPr>
          <p:sp>
            <p:nvSpPr>
              <p:cNvPr id="714" name=""/>
              <p:cNvSpPr/>
              <p:nvPr/>
            </p:nvSpPr>
            <p:spPr>
              <a:xfrm>
                <a:off x="76320" y="318096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Hear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6320" y="3425400"/>
                <a:ext cx="120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Diamo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320" y="3671640"/>
                <a:ext cx="77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320" y="391788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p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734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401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071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4736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38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5403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073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405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740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075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4069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07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2742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734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401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0071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4736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0738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403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73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405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6740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075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4069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407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742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8734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401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071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4736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738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403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073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405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6740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075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4069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7407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734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401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0071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736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0738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403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073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405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740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075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069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407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2742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35400" y="3126960"/>
                <a:ext cx="2379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535400" y="337176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535400" y="361764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35400" y="3863880"/>
                <a:ext cx="23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2742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244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75760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w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2911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h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246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578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9132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2484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e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5800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9152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N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250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582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J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0917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Que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252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210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545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877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6212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547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6879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214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549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881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8216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6624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99760" y="2825640"/>
                <a:ext cx="41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3292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755760" y="3774960"/>
                <a:ext cx="1600200" cy="533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8" y="199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556080" y="4460760"/>
                <a:ext cx="990720" cy="30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16" y="199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73760" y="4776480"/>
                <a:ext cx="76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84880" y="4765320"/>
                <a:ext cx="62892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5004000" y="453672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2"/>
                    </a:moveTo>
                    <a:lnTo>
                      <a:pt x="199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413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 lev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and 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1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4: fig07_2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ard shuffling deal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w, column,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913" name=""/>
            <p:cNvGrpSpPr/>
            <p:nvPr/>
          </p:nvGrpSpPr>
          <p:grpSpPr>
            <a:xfrm>
              <a:off x="0" y="0"/>
              <a:ext cx="6780960" cy="262080"/>
              <a:chOff x="0" y="0"/>
              <a:chExt cx="6780960" cy="26208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262080"/>
              <a:ext cx="6780960" cy="262080"/>
              <a:chOff x="0" y="262080"/>
              <a:chExt cx="6780960" cy="26208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524160"/>
              <a:ext cx="6780960" cy="262080"/>
              <a:chOff x="0" y="524160"/>
              <a:chExt cx="6780960" cy="26208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786240"/>
              <a:ext cx="6780960" cy="262080"/>
              <a:chOff x="0" y="786240"/>
              <a:chExt cx="6780960" cy="26208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048320"/>
              <a:ext cx="6780960" cy="262080"/>
              <a:chOff x="0" y="1048320"/>
              <a:chExt cx="6780960" cy="26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310400"/>
              <a:ext cx="6780960" cy="262080"/>
              <a:chOff x="0" y="1310400"/>
              <a:chExt cx="6780960" cy="26208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572480"/>
              <a:ext cx="6780960" cy="262080"/>
              <a:chOff x="0" y="1572480"/>
              <a:chExt cx="6780960" cy="26208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1834920"/>
              <a:ext cx="6780960" cy="262080"/>
              <a:chOff x="0" y="1834920"/>
              <a:chExt cx="6780960" cy="26208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097000"/>
              <a:ext cx="6780960" cy="262080"/>
              <a:chOff x="0" y="2097000"/>
              <a:chExt cx="6780960" cy="26208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359080"/>
              <a:ext cx="6780960" cy="262080"/>
              <a:chOff x="0" y="2359080"/>
              <a:chExt cx="6780960" cy="26208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21160"/>
              <a:ext cx="6780960" cy="262080"/>
              <a:chOff x="0" y="2621160"/>
              <a:chExt cx="6780960" cy="26208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83240"/>
              <a:ext cx="6780960" cy="262080"/>
              <a:chOff x="0" y="2883240"/>
              <a:chExt cx="6780960" cy="26208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45320"/>
              <a:ext cx="6780960" cy="262080"/>
              <a:chOff x="0" y="3145320"/>
              <a:chExt cx="6780960" cy="26208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,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407400"/>
              <a:ext cx="6780960" cy="262080"/>
              <a:chOff x="0" y="3407400"/>
              <a:chExt cx="6780960" cy="26208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669480"/>
              <a:ext cx="6780960" cy="262080"/>
              <a:chOff x="0" y="3669480"/>
              <a:chExt cx="6780960" cy="26208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931920"/>
              <a:ext cx="6780960" cy="262080"/>
              <a:chOff x="0" y="3931920"/>
              <a:chExt cx="6780960" cy="26208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4194000"/>
              <a:ext cx="6780960" cy="262080"/>
              <a:chOff x="0" y="4194000"/>
              <a:chExt cx="6780960" cy="26208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456080"/>
              <a:ext cx="6780960" cy="262080"/>
              <a:chOff x="0" y="4456080"/>
              <a:chExt cx="6780960" cy="26208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718160"/>
              <a:ext cx="6780960" cy="262080"/>
              <a:chOff x="0" y="4718160"/>
              <a:chExt cx="6780960" cy="26208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980240"/>
              <a:ext cx="6780960" cy="262080"/>
              <a:chOff x="0" y="4980240"/>
              <a:chExt cx="6780960" cy="26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5242320"/>
              <a:ext cx="6780960" cy="262080"/>
              <a:chOff x="0" y="5242320"/>
              <a:chExt cx="6780960" cy="26208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5504400"/>
              <a:ext cx="6780960" cy="262080"/>
              <a:chOff x="0" y="5504400"/>
              <a:chExt cx="6780960" cy="26208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%5s of %-8s%c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5766840"/>
              <a:ext cx="6780960" cy="262080"/>
              <a:chOff x="0" y="5766840"/>
              <a:chExt cx="6780960" cy="26208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wFace[ column ], wSuit[ row 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6028920"/>
              <a:ext cx="6780960" cy="262080"/>
              <a:chOff x="0" y="6028920"/>
              <a:chExt cx="6780960" cy="26208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6291000"/>
              <a:ext cx="6780960" cy="262080"/>
              <a:chOff x="0" y="6291000"/>
              <a:chExt cx="6780960" cy="2620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6291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0" y="6291000"/>
                <a:ext cx="6780600" cy="262080"/>
                <a:chOff x="0" y="6291000"/>
                <a:chExt cx="6780600" cy="26208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3733920" y="228600"/>
            <a:ext cx="4343400" cy="1218960"/>
            <a:chOff x="3733920" y="228600"/>
            <a:chExt cx="4343400" cy="1218960"/>
          </a:xfrm>
        </p:grpSpPr>
        <p:sp>
          <p:nvSpPr>
            <p:cNvPr id="991" name=""/>
            <p:cNvSpPr/>
            <p:nvPr/>
          </p:nvSpPr>
          <p:spPr>
            <a:xfrm>
              <a:off x="54100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3733920" y="7617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657240" y="4038480"/>
            <a:ext cx="4343760" cy="1371600"/>
            <a:chOff x="3657240" y="4038480"/>
            <a:chExt cx="4343760" cy="1371600"/>
          </a:xfrm>
        </p:grpSpPr>
        <p:sp>
          <p:nvSpPr>
            <p:cNvPr id="994" name=""/>
            <p:cNvSpPr/>
            <p:nvPr/>
          </p:nvSpPr>
          <p:spPr>
            <a:xfrm>
              <a:off x="563868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65724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6781680" cy="538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62520" y="2378160"/>
            <a:ext cx="847440" cy="745920"/>
            <a:chOff x="3962520" y="2378160"/>
            <a:chExt cx="847440" cy="745920"/>
          </a:xfrm>
        </p:grpSpPr>
        <p:sp>
          <p:nvSpPr>
            <p:cNvPr id="104" name=""/>
            <p:cNvSpPr/>
            <p:nvPr/>
          </p:nvSpPr>
          <p:spPr>
            <a:xfrm>
              <a:off x="3962520" y="2378160"/>
              <a:ext cx="847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38480" y="2654280"/>
              <a:ext cx="560520" cy="469800"/>
              <a:chOff x="4038480" y="2654280"/>
              <a:chExt cx="560520" cy="469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038480" y="2654280"/>
                <a:ext cx="56052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8720" y="280440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819520" y="4419720"/>
            <a:ext cx="2361960" cy="685800"/>
            <a:chOff x="2819520" y="4419720"/>
            <a:chExt cx="2361960" cy="685800"/>
          </a:xfrm>
        </p:grpSpPr>
        <p:sp>
          <p:nvSpPr>
            <p:cNvPr id="109" name=""/>
            <p:cNvSpPr/>
            <p:nvPr/>
          </p:nvSpPr>
          <p:spPr>
            <a:xfrm>
              <a:off x="4343400" y="4419720"/>
              <a:ext cx="838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664160"/>
              <a:ext cx="50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99000" y="4740120"/>
              <a:ext cx="125280" cy="19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19520" y="4419720"/>
              <a:ext cx="1296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4648320"/>
              <a:ext cx="6098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4800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this help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etermines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bubblesort to expect a pointer to a function that takes 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function that receives two integers and returns a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0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6: fig07_2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Multipurpose sorting program using function point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nter 2 to sort in descending order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 &amp;ord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de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3886200" y="1142640"/>
            <a:ext cx="3657600" cy="885960"/>
            <a:chOff x="3886200" y="1142640"/>
            <a:chExt cx="3657600" cy="885960"/>
          </a:xfrm>
        </p:grpSpPr>
        <p:sp>
          <p:nvSpPr>
            <p:cNvPr id="1101" name=""/>
            <p:cNvSpPr/>
            <p:nvPr/>
          </p:nvSpPr>
          <p:spPr>
            <a:xfrm flipH="1" flipV="1">
              <a:off x="3886200" y="11426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05520" y="1447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2133360" y="1600200"/>
            <a:ext cx="6476760" cy="2514600"/>
            <a:chOff x="2133360" y="1600200"/>
            <a:chExt cx="6476760" cy="2514600"/>
          </a:xfrm>
        </p:grpSpPr>
        <p:sp>
          <p:nvSpPr>
            <p:cNvPr id="1202" name=""/>
            <p:cNvSpPr/>
            <p:nvPr/>
          </p:nvSpPr>
          <p:spPr>
            <a:xfrm>
              <a:off x="5714640" y="16002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2133360" y="1981080"/>
              <a:ext cx="358092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438280" y="4343400"/>
            <a:ext cx="6400800" cy="1813320"/>
            <a:chOff x="2438280" y="4343400"/>
            <a:chExt cx="6400800" cy="1813320"/>
          </a:xfrm>
        </p:grpSpPr>
        <p:sp>
          <p:nvSpPr>
            <p:cNvPr id="1205" name=""/>
            <p:cNvSpPr/>
            <p:nvPr/>
          </p:nvSpPr>
          <p:spPr>
            <a:xfrm>
              <a:off x="6095880" y="435924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2438280" y="4343400"/>
              <a:ext cx="36576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0" y="0"/>
            <a:ext cx="6780960" cy="2895120"/>
            <a:chOff x="0" y="0"/>
            <a:chExt cx="6780960" cy="2895120"/>
          </a:xfrm>
        </p:grpSpPr>
        <p:grpSp>
          <p:nvGrpSpPr>
            <p:cNvPr id="1209" name=""/>
            <p:cNvGrpSpPr/>
            <p:nvPr/>
          </p:nvGrpSpPr>
          <p:grpSpPr>
            <a:xfrm>
              <a:off x="0" y="0"/>
              <a:ext cx="6780960" cy="321480"/>
              <a:chOff x="0" y="0"/>
              <a:chExt cx="6780960" cy="32148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321480"/>
              <a:ext cx="6780960" cy="321480"/>
              <a:chOff x="0" y="321480"/>
              <a:chExt cx="6780960" cy="32148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643320"/>
              <a:ext cx="6780960" cy="321840"/>
              <a:chOff x="0" y="643320"/>
              <a:chExt cx="6780960" cy="3218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less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965160"/>
              <a:ext cx="6780960" cy="321480"/>
              <a:chOff x="0" y="965160"/>
              <a:chExt cx="6780960" cy="32148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1286640"/>
              <a:ext cx="6780960" cy="321480"/>
              <a:chOff x="0" y="1286640"/>
              <a:chExt cx="6780960" cy="32148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1608480"/>
              <a:ext cx="6780960" cy="321480"/>
              <a:chOff x="0" y="1608480"/>
              <a:chExt cx="6780960" cy="32148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1930320"/>
              <a:ext cx="6780960" cy="321840"/>
              <a:chOff x="0" y="1930320"/>
              <a:chExt cx="6780960" cy="3218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2252160"/>
              <a:ext cx="6780960" cy="321480"/>
              <a:chOff x="0" y="2252160"/>
              <a:chExt cx="6780960" cy="32148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greater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2573640"/>
              <a:ext cx="6780960" cy="321480"/>
              <a:chOff x="0" y="2573640"/>
              <a:chExt cx="6780960" cy="32148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2573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0" y="2573640"/>
                <a:ext cx="6780600" cy="321480"/>
                <a:chOff x="0" y="2573640"/>
                <a:chExt cx="6780600" cy="3214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8" name=""/>
          <p:cNvSpPr/>
          <p:nvPr/>
        </p:nvSpPr>
        <p:spPr>
          <a:xfrm>
            <a:off x="0" y="30481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472428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ith point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using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ach variabl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pointer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ddress of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“points to”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3556080"/>
            <a:ext cx="7696080" cy="2532600"/>
            <a:chOff x="685800" y="3556080"/>
            <a:chExt cx="7696080" cy="2532600"/>
          </a:xfrm>
        </p:grpSpPr>
        <p:sp>
          <p:nvSpPr>
            <p:cNvPr id="123" name=""/>
            <p:cNvSpPr/>
            <p:nvPr/>
          </p:nvSpPr>
          <p:spPr>
            <a:xfrm>
              <a:off x="700200" y="4520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22440" y="4132080"/>
              <a:ext cx="549360" cy="32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6320" y="4316400"/>
              <a:ext cx="1446120" cy="369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325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080" y="4652640"/>
              <a:ext cx="11124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4960" y="3936960"/>
              <a:ext cx="1825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42177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505320" y="3860640"/>
              <a:ext cx="4876560" cy="685440"/>
              <a:chOff x="3505320" y="3860640"/>
              <a:chExt cx="4876560" cy="68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505320" y="3860640"/>
                <a:ext cx="2059920" cy="685440"/>
                <a:chOff x="3505320" y="3860640"/>
                <a:chExt cx="2059920" cy="685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17160" y="3860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3505320" y="4166280"/>
                  <a:ext cx="2059920" cy="379800"/>
                  <a:chOff x="3505320" y="4166280"/>
                  <a:chExt cx="2059920" cy="379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50532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58440" y="4166280"/>
                    <a:ext cx="1306800" cy="379800"/>
                    <a:chOff x="4258440" y="4166280"/>
                    <a:chExt cx="1306800" cy="37980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34560" y="422928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5844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6321960" y="3860640"/>
                <a:ext cx="2059920" cy="685440"/>
                <a:chOff x="6321960" y="3860640"/>
                <a:chExt cx="2059920" cy="685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48560" y="3860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6321960" y="4166280"/>
                  <a:ext cx="2059920" cy="379800"/>
                  <a:chOff x="6321960" y="4166280"/>
                  <a:chExt cx="2059920" cy="379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32196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7075080" y="4166280"/>
                    <a:ext cx="1306800" cy="379800"/>
                    <a:chOff x="7075080" y="4166280"/>
                    <a:chExt cx="1306800" cy="3798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648200" y="422928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07508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"/>
            <p:cNvSpPr/>
            <p:nvPr/>
          </p:nvSpPr>
          <p:spPr>
            <a:xfrm>
              <a:off x="3429000" y="35560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5079960"/>
              <a:ext cx="167652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value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p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00800" y="4469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028840" y="4394160"/>
              <a:ext cx="6094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synonym/alias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for assig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lias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153" name=""/>
            <p:cNvGrpSpPr/>
            <p:nvPr/>
          </p:nvGrpSpPr>
          <p:grpSpPr>
            <a:xfrm>
              <a:off x="0" y="0"/>
              <a:ext cx="6780960" cy="225000"/>
              <a:chOff x="0" y="0"/>
              <a:chExt cx="6780960" cy="22500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4: fig07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25000"/>
              <a:ext cx="6780960" cy="208800"/>
              <a:chOff x="0" y="225000"/>
              <a:chExt cx="6780960" cy="20880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the &amp; and *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33800"/>
              <a:ext cx="6780960" cy="208800"/>
              <a:chOff x="0" y="433800"/>
              <a:chExt cx="6780960" cy="2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642600"/>
              <a:ext cx="6780960" cy="208800"/>
              <a:chOff x="0" y="642600"/>
              <a:chExt cx="6780960" cy="20880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851400"/>
              <a:ext cx="6780960" cy="208800"/>
              <a:chOff x="0" y="851400"/>
              <a:chExt cx="6780960" cy="2088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1060560"/>
              <a:ext cx="6780960" cy="208800"/>
              <a:chOff x="0" y="1060560"/>
              <a:chExt cx="6780960" cy="2088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1269360"/>
              <a:ext cx="6780960" cy="208800"/>
              <a:chOff x="0" y="1269360"/>
              <a:chExt cx="6780960" cy="20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is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1478160"/>
              <a:ext cx="6780960" cy="208800"/>
              <a:chOff x="0" y="1478160"/>
              <a:chExt cx="6780960" cy="2088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is a pointer to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686960"/>
              <a:ext cx="6780960" cy="208800"/>
              <a:chOff x="0" y="1686960"/>
              <a:chExt cx="6780960" cy="20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896120"/>
              <a:ext cx="6780960" cy="208800"/>
              <a:chOff x="0" y="1896120"/>
              <a:chExt cx="6780960" cy="2088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2104920"/>
              <a:ext cx="6780960" cy="208800"/>
              <a:chOff x="0" y="2104920"/>
              <a:chExt cx="6780960" cy="2088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set to address of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2313720"/>
              <a:ext cx="6780960" cy="208800"/>
              <a:chOff x="0" y="2313720"/>
              <a:chExt cx="6780960" cy="2088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2522520"/>
              <a:ext cx="6780960" cy="208800"/>
              <a:chOff x="0" y="2522520"/>
              <a:chExt cx="6780960" cy="2088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address of a is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731320"/>
              <a:ext cx="6780960" cy="208800"/>
              <a:chOff x="0" y="2731320"/>
              <a:chExt cx="6780960" cy="2088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aPtr is %p", &amp;a, 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940480"/>
              <a:ext cx="6780960" cy="208800"/>
              <a:chOff x="0" y="2940480"/>
              <a:chExt cx="6780960" cy="2088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3149280"/>
              <a:ext cx="6780960" cy="208800"/>
              <a:chOff x="0" y="3149280"/>
              <a:chExt cx="6780960" cy="2088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value of a is %d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3358080"/>
              <a:ext cx="6780960" cy="208800"/>
              <a:chOff x="0" y="3358080"/>
              <a:chExt cx="6780960" cy="2088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*aPtr is %d", a, *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3566880"/>
              <a:ext cx="6780960" cy="208800"/>
              <a:chOff x="0" y="3566880"/>
              <a:chExt cx="6780960" cy="2088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776040"/>
              <a:ext cx="6780960" cy="208800"/>
              <a:chOff x="0" y="3776040"/>
              <a:chExt cx="6780960" cy="2088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984840"/>
              <a:ext cx="6780960" cy="208800"/>
              <a:chOff x="0" y="3984840"/>
              <a:chExt cx="6780960" cy="2088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ach other.\n&amp;*aPtr =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193640"/>
              <a:ext cx="6780960" cy="208800"/>
              <a:chOff x="0" y="4193640"/>
              <a:chExt cx="6780960" cy="2088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*&amp;aPtr = %p\n", &amp;*aPtr, *&amp;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02440"/>
              <a:ext cx="6780960" cy="208800"/>
              <a:chOff x="0" y="4402440"/>
              <a:chExt cx="6780960" cy="2088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4611600"/>
              <a:ext cx="6780960" cy="208800"/>
              <a:chOff x="0" y="4611600"/>
              <a:chExt cx="6780960" cy="2088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820400"/>
              <a:ext cx="6780960" cy="208800"/>
              <a:chOff x="0" y="4820400"/>
              <a:chExt cx="6780960" cy="2088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ddress of a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Ptr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ving that * and &amp; are complement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*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&amp;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90560" y="990720"/>
            <a:ext cx="4572360" cy="1523880"/>
            <a:chOff x="2590560" y="99072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44956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90560" y="129528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876560" y="1828800"/>
            <a:ext cx="3124440" cy="1476360"/>
            <a:chOff x="4876560" y="182880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5410080" y="18288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76560" y="246708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240" y="3753000"/>
            <a:ext cx="3657960" cy="580680"/>
            <a:chOff x="480024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78168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80024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number = 2 * ( *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6780960" cy="5486400"/>
            <a:chOff x="0" y="0"/>
            <a:chExt cx="6780960" cy="5486400"/>
          </a:xfrm>
        </p:grpSpPr>
        <p:grpSp>
          <p:nvGrpSpPr>
            <p:cNvPr id="239" name=""/>
            <p:cNvGrpSpPr/>
            <p:nvPr/>
          </p:nvGrpSpPr>
          <p:grpSpPr>
            <a:xfrm>
              <a:off x="0" y="0"/>
              <a:ext cx="6780960" cy="238320"/>
              <a:chOff x="0" y="0"/>
              <a:chExt cx="6780960" cy="2383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7: fig07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38320"/>
              <a:ext cx="6780960" cy="238320"/>
              <a:chOff x="0" y="238320"/>
              <a:chExt cx="6780960" cy="23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ube a variable using call-by-referenc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477000"/>
              <a:ext cx="6780960" cy="238320"/>
              <a:chOff x="0" y="477000"/>
              <a:chExt cx="6780960" cy="2383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with a pointer argume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715680"/>
              <a:ext cx="6780960" cy="238320"/>
              <a:chOff x="0" y="715680"/>
              <a:chExt cx="6780960" cy="2383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954000"/>
              <a:ext cx="6780960" cy="238320"/>
              <a:chOff x="0" y="954000"/>
              <a:chExt cx="6780960" cy="23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1192680"/>
              <a:ext cx="6780960" cy="238320"/>
              <a:chOff x="0" y="1192680"/>
              <a:chExt cx="6780960" cy="23832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1431000"/>
              <a:ext cx="6780960" cy="238320"/>
              <a:chOff x="0" y="1431000"/>
              <a:chExt cx="6780960" cy="2383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1669680"/>
              <a:ext cx="6780960" cy="238320"/>
              <a:chOff x="0" y="1669680"/>
              <a:chExt cx="6780960" cy="2383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908360"/>
              <a:ext cx="6780960" cy="238320"/>
              <a:chOff x="0" y="1908360"/>
              <a:chExt cx="6780960" cy="2383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2146680"/>
              <a:ext cx="6780960" cy="238320"/>
              <a:chOff x="0" y="2146680"/>
              <a:chExt cx="6780960" cy="2383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2385360"/>
              <a:ext cx="6780960" cy="238320"/>
              <a:chOff x="0" y="2385360"/>
              <a:chExt cx="6780960" cy="23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2624040"/>
              <a:ext cx="6780960" cy="238320"/>
              <a:chOff x="0" y="2624040"/>
              <a:chExt cx="6780960" cy="2383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2862360"/>
              <a:ext cx="6780960" cy="238320"/>
              <a:chOff x="0" y="2862360"/>
              <a:chExt cx="6780960" cy="2383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original value of number is %d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3101040"/>
              <a:ext cx="6780960" cy="238320"/>
              <a:chOff x="0" y="3101040"/>
              <a:chExt cx="6780960" cy="2383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3339360"/>
              <a:ext cx="6780960" cy="238320"/>
              <a:chOff x="0" y="3339360"/>
              <a:chExt cx="6780960" cy="23832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new value of number is %d\n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3578040"/>
              <a:ext cx="6780960" cy="238320"/>
              <a:chOff x="0" y="3578040"/>
              <a:chExt cx="6780960" cy="2383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816720"/>
              <a:ext cx="6780960" cy="238320"/>
              <a:chOff x="0" y="3816720"/>
              <a:chExt cx="6780960" cy="2383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4055040"/>
              <a:ext cx="6780960" cy="238320"/>
              <a:chOff x="0" y="4055040"/>
              <a:chExt cx="6780960" cy="23832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4293720"/>
              <a:ext cx="6780960" cy="238320"/>
              <a:chOff x="0" y="4293720"/>
              <a:chExt cx="6780960" cy="23832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532400"/>
              <a:ext cx="6780960" cy="238320"/>
              <a:chOff x="0" y="4532400"/>
              <a:chExt cx="6780960" cy="23832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770720"/>
              <a:ext cx="6780960" cy="238320"/>
              <a:chOff x="0" y="4770720"/>
              <a:chExt cx="6780960" cy="2383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5009400"/>
              <a:ext cx="6780960" cy="238320"/>
              <a:chOff x="0" y="5009400"/>
              <a:chExt cx="6780960" cy="23832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ube number in mai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5248080"/>
              <a:ext cx="6780960" cy="238320"/>
              <a:chOff x="0" y="5248080"/>
              <a:chExt cx="6780960" cy="23832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0" y="56386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66520" y="1143000"/>
            <a:ext cx="4038840" cy="1981080"/>
            <a:chOff x="2666520" y="1143000"/>
            <a:chExt cx="4038840" cy="1981080"/>
          </a:xfrm>
        </p:grpSpPr>
        <p:sp>
          <p:nvSpPr>
            <p:cNvPr id="310" name=""/>
            <p:cNvSpPr/>
            <p:nvPr/>
          </p:nvSpPr>
          <p:spPr>
            <a:xfrm flipH="1">
              <a:off x="2666520" y="22096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3560" y="11430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048120" y="3505320"/>
            <a:ext cx="4647600" cy="990000"/>
            <a:chOff x="3048120" y="3505320"/>
            <a:chExt cx="4647600" cy="990000"/>
          </a:xfrm>
        </p:grpSpPr>
        <p:sp>
          <p:nvSpPr>
            <p:cNvPr id="313" name=""/>
            <p:cNvSpPr/>
            <p:nvPr/>
          </p:nvSpPr>
          <p:spPr>
            <a:xfrm>
              <a:off x="4410360" y="3505320"/>
              <a:ext cx="3285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048120" y="3809880"/>
              <a:ext cx="13622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048120" y="152280"/>
            <a:ext cx="3352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function prototype takes a pointer to an integer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19160" y="7621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Matty</cp:lastModifiedBy>
  <dcterms:modified xsi:type="dcterms:W3CDTF">2000-12-22T19:16:24Z</dcterms:modified>
  <cp:revision>429</cp:revision>
  <dc:subject/>
  <dc:title>PowerPoint Presentation</dc:title>
</cp:coreProperties>
</file>