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73D0-11D4-4CA4-A1A3-F02C13BFB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26B1-01B1-4A25-BBD7-7627041F1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8042-0699-477E-8F48-71900F79A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CC71-5471-46D1-80AA-4CA2185B0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444E-378F-492E-8D9E-3E47BAB37A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E64D-6ADA-415E-8619-B2BF2A490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05AF-C911-4788-A631-B561E8880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6A41-E6F8-47A6-87A2-6F2FADFE0A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D3C4-200D-4534-890D-1DA296865B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553D-883F-4EB6-86CA-3061DFE4E1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DCA6-5F53-49DF-AA7B-098657B49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58AD-C40C-489E-B55D-189E350E2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55B6-79C5-46DC-A9E2-D9FDF0AE3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73BF-DF90-4A1A-BF09-367F6337B8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78F2-A737-411A-9131-6A6F44E216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DA9E-B45A-4D91-B8A9-FCED057B38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F9B5-1FAC-4080-9B8D-EBE30A6DC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440A-B578-42E9-BD23-F0EBD8725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CF7-DF7A-46BD-9652-702F83E1B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D0BE-BA5D-46B4-B0DF-B847E4472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2769-899B-45AE-80D5-9F1C0C365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4E3D-470E-4504-A516-48B08D198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CC03-19CA-4410-9EBB-6DFC6B9E8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3E0A-9E47-4D54-8252-414CB06F0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9409-6D7D-4ABA-BBCB-9B1BA28EC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2D74-998F-4A3B-A2B7-26253ADED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0 - Structures, Unions, Bit Manipulations, and Enumera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High-Performance Card Shuffling and Dealing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umeration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0E82-E9FA-47FC-8AAA-7AF67D5436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Example: High-Performance Card-shuffling and Dealing Simu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 array of card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7257-D6F2-4503-9478-40753A21A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ck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it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116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3: fig10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The card shuffling and dealing program using structure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ype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deck[ 52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] = { "Ace", "Deuce", "Three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Four", "Fiv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Six", "Seven", "Eigh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Nine", "Te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Jack", "Queen", "King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] = { "Hearts", "Diamonds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Clubs", "Spades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NULL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87CF-010D-480F-ABF4-20186FEA4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De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lDeck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Face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face = wFace[ i %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suit = wSuit[ i /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j = rand() % 5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emp = wDeck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 = wDeck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j ]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657240" y="1908000"/>
            <a:ext cx="4038840" cy="911520"/>
            <a:chOff x="3657240" y="1908000"/>
            <a:chExt cx="4038840" cy="911520"/>
          </a:xfrm>
        </p:grpSpPr>
        <p:sp>
          <p:nvSpPr>
            <p:cNvPr id="299" name=""/>
            <p:cNvSpPr/>
            <p:nvPr/>
          </p:nvSpPr>
          <p:spPr>
            <a:xfrm>
              <a:off x="4800600" y="19080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all 52 cards in the deck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ermined by remainder (modulu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240" y="2362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90920" y="5333760"/>
            <a:ext cx="5104800" cy="676440"/>
            <a:chOff x="2590920" y="5333760"/>
            <a:chExt cx="5104800" cy="676440"/>
          </a:xfrm>
        </p:grpSpPr>
        <p:sp>
          <p:nvSpPr>
            <p:cNvPr id="302" name=""/>
            <p:cNvSpPr/>
            <p:nvPr/>
          </p:nvSpPr>
          <p:spPr>
            <a:xfrm>
              <a:off x="3809880" y="5429520"/>
              <a:ext cx="388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random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Swap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a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90920" y="533376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B9F5-7A18-46BA-9EB9-28F44E240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306" name=""/>
            <p:cNvGrpSpPr/>
            <p:nvPr/>
          </p:nvGrpSpPr>
          <p:grpSpPr>
            <a:xfrm>
              <a:off x="0" y="0"/>
              <a:ext cx="6780960" cy="258840"/>
              <a:chOff x="0" y="0"/>
              <a:chExt cx="6780960" cy="25884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258840"/>
              <a:ext cx="6780960" cy="258840"/>
              <a:chOff x="0" y="258840"/>
              <a:chExt cx="6780960" cy="25884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518040"/>
              <a:ext cx="6780960" cy="259200"/>
              <a:chOff x="0" y="518040"/>
              <a:chExt cx="6780960" cy="2592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777240"/>
              <a:ext cx="6780960" cy="258840"/>
              <a:chOff x="0" y="777240"/>
              <a:chExt cx="6780960" cy="2588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1036440"/>
              <a:ext cx="6780960" cy="258840"/>
              <a:chOff x="0" y="1036440"/>
              <a:chExt cx="6780960" cy="25884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1295280"/>
              <a:ext cx="6780960" cy="258840"/>
              <a:chOff x="0" y="1295280"/>
              <a:chExt cx="6780960" cy="25884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1554480"/>
              <a:ext cx="6780960" cy="259200"/>
              <a:chOff x="0" y="1554480"/>
              <a:chExt cx="6780960" cy="2592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s of %-8s%c", wDeck[ i ].fac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813680"/>
              <a:ext cx="6780960" cy="258840"/>
              <a:chOff x="0" y="1813680"/>
              <a:chExt cx="6780960" cy="2588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wDeck[ i ].sui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2072880"/>
              <a:ext cx="6780960" cy="258840"/>
              <a:chOff x="0" y="2072880"/>
              <a:chExt cx="6780960" cy="25884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( i + 1 ) % 2 ? '\t' :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2331720"/>
              <a:ext cx="6780960" cy="258840"/>
              <a:chOff x="0" y="2331720"/>
              <a:chExt cx="6780960" cy="25884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724280" y="781200"/>
            <a:ext cx="4114440" cy="1428120"/>
            <a:chOff x="4724280" y="781200"/>
            <a:chExt cx="4114440" cy="1428120"/>
          </a:xfrm>
        </p:grpSpPr>
        <p:sp>
          <p:nvSpPr>
            <p:cNvPr id="337" name=""/>
            <p:cNvSpPr/>
            <p:nvPr/>
          </p:nvSpPr>
          <p:spPr>
            <a:xfrm>
              <a:off x="6049080" y="781200"/>
              <a:ext cx="2789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cle through array and print ou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12440" y="1142640"/>
              <a:ext cx="836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724280" y="1142640"/>
              <a:ext cx="1324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91B4-11DB-436F-AA4F-1453B5693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6781680" cy="502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 A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Clubs           Fiv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Hearts         Deu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 T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Spade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  T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Hearts          Jack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Nin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Heart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Diamonds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Spades          Fiv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Spades          Four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Spades  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Diamonds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Nin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Clubs           Fiv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Spades          Four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Hearts         Eight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Que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12FA-C57B-469F-A3F5-043B715A8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contains one data member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ar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F957-17CB-4697-9478-2CB1C36E7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ame typ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323F-7F9E-43A7-93EA-DD92FC36D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un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80960" cy="234000"/>
              <a:chOff x="0" y="0"/>
              <a:chExt cx="6780960" cy="2340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5: fig10_0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34000"/>
              <a:ext cx="6780960" cy="234000"/>
              <a:chOff x="0" y="234000"/>
              <a:chExt cx="6780960" cy="2340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An example of a un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68000"/>
              <a:ext cx="6780960" cy="234000"/>
              <a:chOff x="0" y="468000"/>
              <a:chExt cx="6780960" cy="2340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702000"/>
              <a:ext cx="6780960" cy="234000"/>
              <a:chOff x="0" y="702000"/>
              <a:chExt cx="6780960" cy="2340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936000"/>
              <a:ext cx="6780960" cy="234000"/>
              <a:chOff x="0" y="936000"/>
              <a:chExt cx="6780960" cy="23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170000"/>
              <a:ext cx="6780960" cy="234000"/>
              <a:chOff x="0" y="1170000"/>
              <a:chExt cx="6780960" cy="2340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404000"/>
              <a:ext cx="6780960" cy="234000"/>
              <a:chOff x="0" y="1404000"/>
              <a:chExt cx="6780960" cy="2340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638360"/>
              <a:ext cx="6780960" cy="234000"/>
              <a:chOff x="0" y="1638360"/>
              <a:chExt cx="6780960" cy="2340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872360"/>
              <a:ext cx="6780960" cy="234000"/>
              <a:chOff x="0" y="1872360"/>
              <a:chExt cx="6780960" cy="2340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106360"/>
              <a:ext cx="6780960" cy="234000"/>
              <a:chOff x="0" y="2106360"/>
              <a:chExt cx="6780960" cy="2340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340360"/>
              <a:ext cx="6780960" cy="234000"/>
              <a:chOff x="0" y="2340360"/>
              <a:chExt cx="6780960" cy="2340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574360"/>
              <a:ext cx="6780960" cy="234000"/>
              <a:chOff x="0" y="2574360"/>
              <a:chExt cx="6780960" cy="2340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808360"/>
              <a:ext cx="6780960" cy="234000"/>
              <a:chOff x="0" y="2808360"/>
              <a:chExt cx="6780960" cy="2340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3042360"/>
              <a:ext cx="6780960" cy="234000"/>
              <a:chOff x="0" y="3042360"/>
              <a:chExt cx="6780960" cy="2340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x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276360"/>
              <a:ext cx="6780960" cy="234000"/>
              <a:chOff x="0" y="3276360"/>
              <a:chExt cx="6780960" cy="2340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510720"/>
              <a:ext cx="6780960" cy="234000"/>
              <a:chOff x="0" y="3510720"/>
              <a:chExt cx="6780960" cy="2340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integer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744720"/>
              <a:ext cx="6780960" cy="234000"/>
              <a:chOff x="0" y="3744720"/>
              <a:chExt cx="6780960" cy="2340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978720"/>
              <a:ext cx="6780960" cy="234000"/>
              <a:chOff x="0" y="3978720"/>
              <a:chExt cx="6780960" cy="2340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4212720"/>
              <a:ext cx="6780960" cy="234000"/>
              <a:chOff x="0" y="4212720"/>
              <a:chExt cx="6780960" cy="2340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446720"/>
              <a:ext cx="6780960" cy="234000"/>
              <a:chOff x="0" y="4446720"/>
              <a:chExt cx="6780960" cy="2340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680720"/>
              <a:ext cx="6780960" cy="234000"/>
              <a:chOff x="0" y="4680720"/>
              <a:chExt cx="6780960" cy="2340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y = 100.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914720"/>
              <a:ext cx="6780960" cy="234000"/>
              <a:chOff x="0" y="4914720"/>
              <a:chExt cx="6780960" cy="234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5148720"/>
              <a:ext cx="6780960" cy="234000"/>
              <a:chOff x="0" y="5148720"/>
              <a:chExt cx="6780960" cy="2340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floating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5382720"/>
              <a:ext cx="6780960" cy="234000"/>
              <a:chOff x="0" y="5382720"/>
              <a:chExt cx="6780960" cy="2340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617080"/>
              <a:ext cx="6780960" cy="234000"/>
              <a:chOff x="0" y="5617080"/>
              <a:chExt cx="6780960" cy="2340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851080"/>
              <a:ext cx="6780960" cy="234000"/>
              <a:chOff x="0" y="5851080"/>
              <a:chExt cx="6780960" cy="2340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6085080"/>
              <a:ext cx="6780960" cy="234000"/>
              <a:chOff x="0" y="6085080"/>
              <a:chExt cx="6780960" cy="2340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6319080"/>
              <a:ext cx="6780960" cy="234000"/>
              <a:chOff x="0" y="6319080"/>
              <a:chExt cx="6780960" cy="2340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91E2-7710-449F-995F-9DD74BC82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2559592117433136000000000000000000000000000000000000000000000.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4BBF-4DAE-4410-9105-294C1A60A6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 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of 8 bits forms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09480" y="2514600"/>
          <a:ext cx="7848720" cy="3500280"/>
        </p:xfrm>
        <a:graphic>
          <a:graphicData uri="http://schemas.openxmlformats.org/drawingml/2006/table">
            <a:tbl>
              <a:tblPr/>
              <a:tblGrid>
                <a:gridCol w="1295640"/>
                <a:gridCol w="2133360"/>
                <a:gridCol w="441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the corresponding bits in the two operands are bo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at least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exactly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left by the number of bits specified by the second operand; fill from right wi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right by the number of bits specified by the second operand; the method of filling from the left is machine depend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C7D0-9509-4B12-8150-424BE169D3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s of related variables (aggregates) under on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in variables of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define records to be stored in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d with pointers, can create linked lists, stacks, queues,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E0E1-1AAB-4896-9594-87B0027A2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9: fig10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the bitwise AND, bitwise inclusive OR, bit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exclusive OR and bitwise complement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1, number2, mask, setBi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6553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ask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AND operator &amp;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&amp;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Bits = 24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inclusive OR operator |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|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3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2 = 1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4834-E52C-49BA-BDF5-E47F13B118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0" y="0"/>
            <a:ext cx="6780960" cy="6476760"/>
            <a:chOff x="0" y="0"/>
            <a:chExt cx="6780960" cy="6476760"/>
          </a:xfrm>
        </p:grpSpPr>
        <p:grpSp>
          <p:nvGrpSpPr>
            <p:cNvPr id="531" name=""/>
            <p:cNvGrpSpPr/>
            <p:nvPr/>
          </p:nvGrpSpPr>
          <p:grpSpPr>
            <a:xfrm>
              <a:off x="0" y="0"/>
              <a:ext cx="6780960" cy="215640"/>
              <a:chOff x="0" y="0"/>
              <a:chExt cx="6780960" cy="21564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215640"/>
              <a:ext cx="6780960" cy="215640"/>
              <a:chOff x="0" y="215640"/>
              <a:chExt cx="6780960" cy="21564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31640"/>
              <a:ext cx="6780960" cy="216000"/>
              <a:chOff x="0" y="431640"/>
              <a:chExt cx="6780960" cy="2160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exclusive OR operator ^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647640"/>
              <a:ext cx="6780960" cy="215640"/>
              <a:chOff x="0" y="647640"/>
              <a:chExt cx="6780960" cy="21564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^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863640"/>
              <a:ext cx="6780960" cy="215640"/>
              <a:chOff x="0" y="863640"/>
              <a:chExt cx="6780960" cy="21564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1079280"/>
              <a:ext cx="6780960" cy="215640"/>
              <a:chOff x="0" y="1079280"/>
              <a:chExt cx="6780960" cy="21564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218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1295280"/>
              <a:ext cx="6780960" cy="216000"/>
              <a:chOff x="0" y="1295280"/>
              <a:chExt cx="6780960" cy="21600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one's complement of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1511280"/>
              <a:ext cx="6780960" cy="215640"/>
              <a:chOff x="0" y="1511280"/>
              <a:chExt cx="6780960" cy="21564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727280"/>
              <a:ext cx="6780960" cy="215640"/>
              <a:chOff x="0" y="1727280"/>
              <a:chExt cx="6780960" cy="21564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942920"/>
              <a:ext cx="6780960" cy="215640"/>
              <a:chOff x="0" y="1942920"/>
              <a:chExt cx="6780960" cy="21564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~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2158920"/>
              <a:ext cx="6780960" cy="216000"/>
              <a:chOff x="0" y="2158920"/>
              <a:chExt cx="6780960" cy="2160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2374920"/>
              <a:ext cx="6780960" cy="215640"/>
              <a:chOff x="0" y="2374920"/>
              <a:chExt cx="6780960" cy="21564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590920"/>
              <a:ext cx="6780960" cy="215640"/>
              <a:chOff x="0" y="2590920"/>
              <a:chExt cx="6780960" cy="21564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806560"/>
              <a:ext cx="6780960" cy="215640"/>
              <a:chOff x="0" y="2806560"/>
              <a:chExt cx="6780960" cy="21564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3022560"/>
              <a:ext cx="6780960" cy="216000"/>
              <a:chOff x="0" y="3022560"/>
              <a:chExt cx="6780960" cy="2160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3238560"/>
              <a:ext cx="6780960" cy="215640"/>
              <a:chOff x="0" y="3238560"/>
              <a:chExt cx="6780960" cy="21564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454560"/>
              <a:ext cx="6780960" cy="215640"/>
              <a:chOff x="0" y="3454560"/>
              <a:chExt cx="6780960" cy="21564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displayMask = 1 &lt;&lt; 3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3670200"/>
              <a:ext cx="6780960" cy="215640"/>
              <a:chOff x="0" y="3670200"/>
              <a:chExt cx="6780960" cy="21564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3886200"/>
              <a:ext cx="6780960" cy="215640"/>
              <a:chOff x="0" y="3886200"/>
              <a:chExt cx="6780960" cy="2156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7u = ", valu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4102200"/>
              <a:ext cx="6780960" cy="216000"/>
              <a:chOff x="0" y="4102200"/>
              <a:chExt cx="6780960" cy="21600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4318200"/>
              <a:ext cx="6780960" cy="215640"/>
              <a:chOff x="0" y="4318200"/>
              <a:chExt cx="6780960" cy="21564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= 1; c &lt;= 32; c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4533840"/>
              <a:ext cx="6780960" cy="215640"/>
              <a:chOff x="0" y="4533840"/>
              <a:chExt cx="6780960" cy="2156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value &amp; displayMask ? '1' : '0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4749840"/>
              <a:ext cx="6780960" cy="215640"/>
              <a:chOff x="0" y="4749840"/>
              <a:chExt cx="6780960" cy="21564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 &lt;&lt;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4965840"/>
              <a:ext cx="6780960" cy="216000"/>
              <a:chOff x="0" y="4965840"/>
              <a:chExt cx="6780960" cy="2160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5181840"/>
              <a:ext cx="6780960" cy="215640"/>
              <a:chOff x="0" y="5181840"/>
              <a:chExt cx="678096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% 8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5397480"/>
              <a:ext cx="6780960" cy="215640"/>
              <a:chOff x="0" y="5397480"/>
              <a:chExt cx="6780960" cy="21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utchar( ' 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5613480"/>
              <a:ext cx="6780960" cy="215640"/>
              <a:chOff x="0" y="5613480"/>
              <a:chExt cx="6780960" cy="21564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5829480"/>
              <a:ext cx="6780960" cy="216000"/>
              <a:chOff x="0" y="5829480"/>
              <a:chExt cx="6780960" cy="2160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6045480"/>
              <a:ext cx="6780960" cy="215640"/>
              <a:chOff x="0" y="6045480"/>
              <a:chExt cx="6780960" cy="21564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tchar(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6261120"/>
              <a:ext cx="6780960" cy="215640"/>
              <a:chOff x="0" y="6261120"/>
              <a:chExt cx="6780960" cy="21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3885840" y="3352680"/>
            <a:ext cx="5029560" cy="707760"/>
            <a:chOff x="3885840" y="3352680"/>
            <a:chExt cx="5029560" cy="707760"/>
          </a:xfrm>
        </p:grpSpPr>
        <p:sp>
          <p:nvSpPr>
            <p:cNvPr id="622" name=""/>
            <p:cNvSpPr/>
            <p:nvPr/>
          </p:nvSpPr>
          <p:spPr>
            <a:xfrm>
              <a:off x="4876560" y="3352680"/>
              <a:ext cx="4038840" cy="707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d with only one set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.e.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0000000 00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885840" y="3581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819520" y="4800600"/>
            <a:ext cx="6095520" cy="1564920"/>
            <a:chOff x="2819520" y="4800600"/>
            <a:chExt cx="6095520" cy="1564920"/>
          </a:xfrm>
        </p:grpSpPr>
        <p:sp>
          <p:nvSpPr>
            <p:cNvPr id="625" name=""/>
            <p:cNvSpPr/>
            <p:nvPr/>
          </p:nvSpPr>
          <p:spPr>
            <a:xfrm>
              <a:off x="4876560" y="4800600"/>
              <a:ext cx="403848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onstant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ly contains one bit, so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rue it mea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have that bi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n shifted to test the next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819520" y="4876560"/>
              <a:ext cx="205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59D3-02BD-4A23-8300-8D74FF040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535 = 00000000 00000000 11111111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A284-19A1-4D07-9A33-3577498536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a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better memory util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ccess individual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bit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an integer constant representing the width of the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Bit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face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suit :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color :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F4E1-6628-4856-8388-39A272C050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amed bi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used as padding in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hing may be stored in the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bit field with zero width aligns next bit field to a new storage unit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697E-941F-4893-A9B4-1C699B40F1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1   Enumeration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 constants represented by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constants are like symbolic constants whose values are automatically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start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increment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can be set explicitly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unique constant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new type enum Months in which the identifiers are set to the integ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variables can only assume their enumeration constant values (not the integer represent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46F6-DC44-4FF3-8416-56243C8DEB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enume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637" name=""/>
            <p:cNvGrpSpPr/>
            <p:nvPr/>
          </p:nvGrpSpPr>
          <p:grpSpPr>
            <a:xfrm>
              <a:off x="0" y="0"/>
              <a:ext cx="6780960" cy="243000"/>
              <a:chOff x="0" y="0"/>
              <a:chExt cx="6780960" cy="24300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18: fig10_1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43000"/>
              <a:ext cx="6780960" cy="243000"/>
              <a:chOff x="0" y="243000"/>
              <a:chExt cx="6780960" cy="24300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an enumeration 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486000"/>
              <a:ext cx="6780960" cy="243000"/>
              <a:chOff x="0" y="486000"/>
              <a:chExt cx="6780960" cy="24300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729360"/>
              <a:ext cx="6780960" cy="243000"/>
              <a:chOff x="0" y="729360"/>
              <a:chExt cx="6780960" cy="24300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972360"/>
              <a:ext cx="6780960" cy="243000"/>
              <a:chOff x="0" y="972360"/>
              <a:chExt cx="6780960" cy="24300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{ JAN = 1, FEB, MAR, APR, MAY, JUN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1215360"/>
              <a:ext cx="6780960" cy="243000"/>
              <a:chOff x="0" y="1215360"/>
              <a:chExt cx="6780960" cy="24300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JUL, AUG, SEP, OCT, NOV, DEC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1458360"/>
              <a:ext cx="6780960" cy="243000"/>
              <a:chOff x="0" y="1458360"/>
              <a:chExt cx="6780960" cy="24300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1701720"/>
              <a:ext cx="6780960" cy="243000"/>
              <a:chOff x="0" y="1701720"/>
              <a:chExt cx="6780960" cy="24300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1944720"/>
              <a:ext cx="6780960" cy="243000"/>
              <a:chOff x="0" y="1944720"/>
              <a:chExt cx="6780960" cy="24300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2188080"/>
              <a:ext cx="6780960" cy="243000"/>
              <a:chOff x="0" y="2188080"/>
              <a:chExt cx="6780960" cy="24300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2431080"/>
              <a:ext cx="6780960" cy="243000"/>
              <a:chOff x="0" y="2431080"/>
              <a:chExt cx="6780960" cy="24300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monthName[] = { "", "January", "Febr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2674440"/>
              <a:ext cx="6780960" cy="243000"/>
              <a:chOff x="0" y="2674440"/>
              <a:chExt cx="6780960" cy="24300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March", "April", "May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2917440"/>
              <a:ext cx="6780960" cy="243000"/>
              <a:chOff x="0" y="2917440"/>
              <a:chExt cx="6780960" cy="24300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June", "July", "Augus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3160440"/>
              <a:ext cx="6780960" cy="243000"/>
              <a:chOff x="0" y="3160440"/>
              <a:chExt cx="6780960" cy="24300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September", "October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0" y="3403440"/>
              <a:ext cx="6780960" cy="243000"/>
              <a:chOff x="0" y="3403440"/>
              <a:chExt cx="6780960" cy="243000"/>
            </a:xfrm>
          </p:grpSpPr>
          <p:sp>
            <p:nvSpPr>
              <p:cNvPr id="680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0" y="3646800"/>
              <a:ext cx="6780960" cy="243000"/>
              <a:chOff x="0" y="3646800"/>
              <a:chExt cx="6780960" cy="24300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3889800"/>
              <a:ext cx="6780960" cy="243000"/>
              <a:chOff x="0" y="3889800"/>
              <a:chExt cx="6780960" cy="24300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 JAN; month &lt;= DEC; mont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4133160"/>
              <a:ext cx="6780960" cy="243000"/>
              <a:chOff x="0" y="4133160"/>
              <a:chExt cx="6780960" cy="24300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2d%11s\n", month, monthName[ month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4376160"/>
              <a:ext cx="6780960" cy="243000"/>
              <a:chOff x="0" y="4376160"/>
              <a:chExt cx="6780960" cy="2430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4619160"/>
              <a:ext cx="6780960" cy="243000"/>
              <a:chOff x="0" y="4619160"/>
              <a:chExt cx="6780960" cy="2430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862520"/>
              <a:ext cx="6780960" cy="243000"/>
              <a:chOff x="0" y="4862520"/>
              <a:chExt cx="6780960" cy="243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9FED-9C55-4B3F-9595-FF91793BD3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Febr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Ap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Octo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Nov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Dec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3B53-DE01-4C1B-8F94-294E4E45D4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roduces the definition for structure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tructure name and is used to declare variables of the structur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two members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mbers 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957B-78C4-418F-8B94-B3BE279BF9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contain an instance of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ntain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ructure definition does not reserve space in memo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creates a new data type used to declare structu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a comma separated li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E423-C7B7-478D-B61B-3FADB2003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ing a structure to a structure of the sam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the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the members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to determine the size of 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15BC-8C5B-4F79-ABE7-250A61C951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 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 = { "Three", "Heart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 = one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also declare and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eeHear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51B8-C88A-4BBD-9F8B-F2239CB87D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Accessing Members of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.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pointers to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myCardPtr = &amp;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Ptr-&gt;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Ptr-&gt;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myCardPtr ).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9F67-9B9A-4702-BD74-80A284E10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pass individu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 b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t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structure with the array as a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666C-0A2A-4FEC-BEEE-52D6C1482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reate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Card *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a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a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 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create a new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reates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D589-C9EE-4710-A380-C007E58498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7:58:37Z</dcterms:created>
  <dc:creator>kalid</dc:creator>
  <dc:description/>
  <dc:language>en-US</dc:language>
  <cp:lastModifiedBy>jason</cp:lastModifiedBy>
  <dcterms:modified xsi:type="dcterms:W3CDTF">2000-12-12T15:08:46Z</dcterms:modified>
  <cp:revision>131</cp:revision>
  <dc:subject/>
  <dc:title>Chapter 10 - Structures, Unions, Bit Manipulations, and Enumerations</dc:title>
</cp:coreProperties>
</file>